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494-6D82-47BD-8F54-370570E7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7FA-2432-4BE1-9F14-638092D7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164-45B5-49D9-A0B6-8AAA5C4A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82E-E431-418D-9B67-D1011D2C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64B-1EB8-4CC0-B623-590B03BB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2C5-676A-4844-9B7F-88C17CA9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8AA-C5C4-43CC-813C-553C990B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BD9-0640-43DD-8CC3-7003E5F6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5BA-7F30-4A80-861B-09DDF273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7D6-F35A-48EA-BF6D-A8E0C1A9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527-5103-4923-92E0-EBD8B93C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641-B6A3-48D4-AAF2-B1D15D20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7F2B-C0C8-489E-AD5B-68C7F253A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179280" y="530064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30064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9" name=""/>
          <p:cNvGrpSpPr/>
          <p:nvPr/>
        </p:nvGrpSpPr>
        <p:grpSpPr>
          <a:xfrm>
            <a:off x="2130480" y="851040"/>
            <a:ext cx="4878720" cy="443160"/>
            <a:chOff x="2130480" y="851040"/>
            <a:chExt cx="4878720" cy="443160"/>
          </a:xfrm>
        </p:grpSpPr>
        <p:sp>
          <p:nvSpPr>
            <p:cNvPr id="1650" name=""/>
            <p:cNvSpPr/>
            <p:nvPr/>
          </p:nvSpPr>
          <p:spPr>
            <a:xfrm>
              <a:off x="2130480" y="862200"/>
              <a:ext cx="414000" cy="424440"/>
            </a:xfrm>
            <a:custGeom>
              <a:avLst/>
              <a:gdLst/>
              <a:ahLst/>
              <a:rect l="l" t="t" r="r" b="b"/>
              <a:pathLst>
                <a:path w="537" h="550">
                  <a:moveTo>
                    <a:pt x="210" y="351"/>
                  </a:moveTo>
                  <a:lnTo>
                    <a:pt x="324" y="351"/>
                  </a:lnTo>
                  <a:lnTo>
                    <a:pt x="266" y="165"/>
                  </a:lnTo>
                  <a:lnTo>
                    <a:pt x="210" y="351"/>
                  </a:lnTo>
                  <a:close/>
                  <a:moveTo>
                    <a:pt x="0" y="550"/>
                  </a:moveTo>
                  <a:lnTo>
                    <a:pt x="193" y="0"/>
                  </a:lnTo>
                  <a:lnTo>
                    <a:pt x="354" y="0"/>
                  </a:lnTo>
                  <a:lnTo>
                    <a:pt x="537" y="550"/>
                  </a:lnTo>
                  <a:lnTo>
                    <a:pt x="385" y="550"/>
                  </a:lnTo>
                  <a:lnTo>
                    <a:pt x="365" y="488"/>
                  </a:lnTo>
                  <a:lnTo>
                    <a:pt x="170" y="488"/>
                  </a:lnTo>
                  <a:lnTo>
                    <a:pt x="149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714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18" h="400">
                  <a:moveTo>
                    <a:pt x="0" y="400"/>
                  </a:moveTo>
                  <a:lnTo>
                    <a:pt x="0" y="4"/>
                  </a:lnTo>
                  <a:lnTo>
                    <a:pt x="130" y="4"/>
                  </a:lnTo>
                  <a:lnTo>
                    <a:pt x="130" y="46"/>
                  </a:lnTo>
                  <a:lnTo>
                    <a:pt x="135" y="40"/>
                  </a:lnTo>
                  <a:lnTo>
                    <a:pt x="138" y="35"/>
                  </a:lnTo>
                  <a:lnTo>
                    <a:pt x="142" y="30"/>
                  </a:lnTo>
                  <a:lnTo>
                    <a:pt x="146" y="26"/>
                  </a:lnTo>
                  <a:lnTo>
                    <a:pt x="151" y="23"/>
                  </a:lnTo>
                  <a:lnTo>
                    <a:pt x="155" y="19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71" y="10"/>
                  </a:lnTo>
                  <a:lnTo>
                    <a:pt x="177" y="8"/>
                  </a:lnTo>
                  <a:lnTo>
                    <a:pt x="182" y="6"/>
                  </a:lnTo>
                  <a:lnTo>
                    <a:pt x="189" y="4"/>
                  </a:lnTo>
                  <a:lnTo>
                    <a:pt x="195" y="2"/>
                  </a:lnTo>
                  <a:lnTo>
                    <a:pt x="203" y="2"/>
                  </a:lnTo>
                  <a:lnTo>
                    <a:pt x="210" y="1"/>
                  </a:lnTo>
                  <a:lnTo>
                    <a:pt x="218" y="0"/>
                  </a:lnTo>
                  <a:lnTo>
                    <a:pt x="218" y="137"/>
                  </a:lnTo>
                  <a:lnTo>
                    <a:pt x="203" y="137"/>
                  </a:lnTo>
                  <a:lnTo>
                    <a:pt x="194" y="137"/>
                  </a:lnTo>
                  <a:lnTo>
                    <a:pt x="185" y="138"/>
                  </a:lnTo>
                  <a:lnTo>
                    <a:pt x="179" y="139"/>
                  </a:lnTo>
                  <a:lnTo>
                    <a:pt x="171" y="142"/>
                  </a:lnTo>
                  <a:lnTo>
                    <a:pt x="165" y="145"/>
                  </a:lnTo>
                  <a:lnTo>
                    <a:pt x="159" y="148"/>
                  </a:lnTo>
                  <a:lnTo>
                    <a:pt x="154" y="151"/>
                  </a:lnTo>
                  <a:lnTo>
                    <a:pt x="149" y="156"/>
                  </a:lnTo>
                  <a:lnTo>
                    <a:pt x="144" y="161"/>
                  </a:lnTo>
                  <a:lnTo>
                    <a:pt x="141" y="166"/>
                  </a:lnTo>
                  <a:lnTo>
                    <a:pt x="138" y="173"/>
                  </a:lnTo>
                  <a:lnTo>
                    <a:pt x="135" y="179"/>
                  </a:lnTo>
                  <a:lnTo>
                    <a:pt x="133" y="187"/>
                  </a:lnTo>
                  <a:lnTo>
                    <a:pt x="131" y="195"/>
                  </a:lnTo>
                  <a:lnTo>
                    <a:pt x="130" y="202"/>
                  </a:lnTo>
                  <a:lnTo>
                    <a:pt x="130" y="211"/>
                  </a:lnTo>
                  <a:lnTo>
                    <a:pt x="13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66960" y="978480"/>
              <a:ext cx="291240" cy="31212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121" y="206"/>
                  </a:moveTo>
                  <a:lnTo>
                    <a:pt x="242" y="120"/>
                  </a:lnTo>
                  <a:lnTo>
                    <a:pt x="239" y="118"/>
                  </a:lnTo>
                  <a:lnTo>
                    <a:pt x="237" y="116"/>
                  </a:lnTo>
                  <a:lnTo>
                    <a:pt x="235" y="115"/>
                  </a:lnTo>
                  <a:lnTo>
                    <a:pt x="233" y="113"/>
                  </a:lnTo>
                  <a:lnTo>
                    <a:pt x="231" y="111"/>
                  </a:lnTo>
                  <a:lnTo>
                    <a:pt x="228" y="110"/>
                  </a:lnTo>
                  <a:lnTo>
                    <a:pt x="225" y="109"/>
                  </a:lnTo>
                  <a:lnTo>
                    <a:pt x="223" y="108"/>
                  </a:lnTo>
                  <a:lnTo>
                    <a:pt x="220" y="108"/>
                  </a:lnTo>
                  <a:lnTo>
                    <a:pt x="218" y="107"/>
                  </a:lnTo>
                  <a:lnTo>
                    <a:pt x="215" y="106"/>
                  </a:lnTo>
                  <a:lnTo>
                    <a:pt x="212" y="106"/>
                  </a:lnTo>
                  <a:lnTo>
                    <a:pt x="209" y="105"/>
                  </a:lnTo>
                  <a:lnTo>
                    <a:pt x="206" y="105"/>
                  </a:lnTo>
                  <a:lnTo>
                    <a:pt x="203" y="105"/>
                  </a:lnTo>
                  <a:lnTo>
                    <a:pt x="199" y="105"/>
                  </a:lnTo>
                  <a:lnTo>
                    <a:pt x="192" y="105"/>
                  </a:lnTo>
                  <a:lnTo>
                    <a:pt x="184" y="106"/>
                  </a:lnTo>
                  <a:lnTo>
                    <a:pt x="177" y="108"/>
                  </a:lnTo>
                  <a:lnTo>
                    <a:pt x="169" y="111"/>
                  </a:lnTo>
                  <a:lnTo>
                    <a:pt x="163" y="115"/>
                  </a:lnTo>
                  <a:lnTo>
                    <a:pt x="155" y="119"/>
                  </a:lnTo>
                  <a:lnTo>
                    <a:pt x="149" y="124"/>
                  </a:lnTo>
                  <a:lnTo>
                    <a:pt x="143" y="130"/>
                  </a:lnTo>
                  <a:lnTo>
                    <a:pt x="137" y="136"/>
                  </a:lnTo>
                  <a:lnTo>
                    <a:pt x="132" y="143"/>
                  </a:lnTo>
                  <a:lnTo>
                    <a:pt x="128" y="149"/>
                  </a:lnTo>
                  <a:lnTo>
                    <a:pt x="125" y="157"/>
                  </a:lnTo>
                  <a:lnTo>
                    <a:pt x="122" y="164"/>
                  </a:lnTo>
                  <a:lnTo>
                    <a:pt x="121" y="172"/>
                  </a:lnTo>
                  <a:lnTo>
                    <a:pt x="119" y="179"/>
                  </a:lnTo>
                  <a:lnTo>
                    <a:pt x="118" y="187"/>
                  </a:lnTo>
                  <a:lnTo>
                    <a:pt x="118" y="188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8" y="192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9" y="196"/>
                  </a:lnTo>
                  <a:lnTo>
                    <a:pt x="119" y="197"/>
                  </a:lnTo>
                  <a:lnTo>
                    <a:pt x="119" y="198"/>
                  </a:lnTo>
                  <a:lnTo>
                    <a:pt x="119" y="199"/>
                  </a:lnTo>
                  <a:lnTo>
                    <a:pt x="119" y="200"/>
                  </a:lnTo>
                  <a:lnTo>
                    <a:pt x="119" y="202"/>
                  </a:lnTo>
                  <a:lnTo>
                    <a:pt x="121" y="203"/>
                  </a:lnTo>
                  <a:lnTo>
                    <a:pt x="121" y="204"/>
                  </a:lnTo>
                  <a:lnTo>
                    <a:pt x="121" y="205"/>
                  </a:lnTo>
                  <a:lnTo>
                    <a:pt x="121" y="206"/>
                  </a:lnTo>
                  <a:close/>
                  <a:moveTo>
                    <a:pt x="361" y="363"/>
                  </a:moveTo>
                  <a:lnTo>
                    <a:pt x="352" y="368"/>
                  </a:lnTo>
                  <a:lnTo>
                    <a:pt x="343" y="374"/>
                  </a:lnTo>
                  <a:lnTo>
                    <a:pt x="334" y="378"/>
                  </a:lnTo>
                  <a:lnTo>
                    <a:pt x="325" y="382"/>
                  </a:lnTo>
                  <a:lnTo>
                    <a:pt x="315" y="387"/>
                  </a:lnTo>
                  <a:lnTo>
                    <a:pt x="305" y="390"/>
                  </a:lnTo>
                  <a:lnTo>
                    <a:pt x="296" y="393"/>
                  </a:lnTo>
                  <a:lnTo>
                    <a:pt x="286" y="396"/>
                  </a:lnTo>
                  <a:lnTo>
                    <a:pt x="276" y="399"/>
                  </a:lnTo>
                  <a:lnTo>
                    <a:pt x="267" y="402"/>
                  </a:lnTo>
                  <a:lnTo>
                    <a:pt x="256" y="403"/>
                  </a:lnTo>
                  <a:lnTo>
                    <a:pt x="246" y="405"/>
                  </a:lnTo>
                  <a:lnTo>
                    <a:pt x="235" y="406"/>
                  </a:lnTo>
                  <a:lnTo>
                    <a:pt x="225" y="407"/>
                  </a:lnTo>
                  <a:lnTo>
                    <a:pt x="215" y="407"/>
                  </a:lnTo>
                  <a:lnTo>
                    <a:pt x="204" y="407"/>
                  </a:lnTo>
                  <a:lnTo>
                    <a:pt x="181" y="407"/>
                  </a:lnTo>
                  <a:lnTo>
                    <a:pt x="161" y="404"/>
                  </a:lnTo>
                  <a:lnTo>
                    <a:pt x="140" y="400"/>
                  </a:lnTo>
                  <a:lnTo>
                    <a:pt x="122" y="394"/>
                  </a:lnTo>
                  <a:lnTo>
                    <a:pt x="103" y="386"/>
                  </a:lnTo>
                  <a:lnTo>
                    <a:pt x="87" y="376"/>
                  </a:lnTo>
                  <a:lnTo>
                    <a:pt x="72" y="365"/>
                  </a:lnTo>
                  <a:lnTo>
                    <a:pt x="57" y="352"/>
                  </a:lnTo>
                  <a:lnTo>
                    <a:pt x="44" y="338"/>
                  </a:lnTo>
                  <a:lnTo>
                    <a:pt x="32" y="322"/>
                  </a:lnTo>
                  <a:lnTo>
                    <a:pt x="23" y="306"/>
                  </a:lnTo>
                  <a:lnTo>
                    <a:pt x="15" y="288"/>
                  </a:lnTo>
                  <a:lnTo>
                    <a:pt x="9" y="270"/>
                  </a:lnTo>
                  <a:lnTo>
                    <a:pt x="5" y="251"/>
                  </a:lnTo>
                  <a:lnTo>
                    <a:pt x="2" y="229"/>
                  </a:lnTo>
                  <a:lnTo>
                    <a:pt x="0" y="207"/>
                  </a:lnTo>
                  <a:lnTo>
                    <a:pt x="2" y="187"/>
                  </a:lnTo>
                  <a:lnTo>
                    <a:pt x="5" y="165"/>
                  </a:lnTo>
                  <a:lnTo>
                    <a:pt x="9" y="146"/>
                  </a:lnTo>
                  <a:lnTo>
                    <a:pt x="16" y="128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1"/>
                  </a:lnTo>
                  <a:lnTo>
                    <a:pt x="75" y="47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3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35" y="2"/>
                  </a:lnTo>
                  <a:lnTo>
                    <a:pt x="249" y="5"/>
                  </a:lnTo>
                  <a:lnTo>
                    <a:pt x="263" y="9"/>
                  </a:lnTo>
                  <a:lnTo>
                    <a:pt x="277" y="14"/>
                  </a:lnTo>
                  <a:lnTo>
                    <a:pt x="290" y="21"/>
                  </a:lnTo>
                  <a:lnTo>
                    <a:pt x="303" y="27"/>
                  </a:lnTo>
                  <a:lnTo>
                    <a:pt x="315" y="36"/>
                  </a:lnTo>
                  <a:lnTo>
                    <a:pt x="326" y="45"/>
                  </a:lnTo>
                  <a:lnTo>
                    <a:pt x="337" y="55"/>
                  </a:lnTo>
                  <a:lnTo>
                    <a:pt x="347" y="66"/>
                  </a:lnTo>
                  <a:lnTo>
                    <a:pt x="356" y="79"/>
                  </a:lnTo>
                  <a:lnTo>
                    <a:pt x="364" y="92"/>
                  </a:lnTo>
                  <a:lnTo>
                    <a:pt x="371" y="105"/>
                  </a:lnTo>
                  <a:lnTo>
                    <a:pt x="378" y="120"/>
                  </a:lnTo>
                  <a:lnTo>
                    <a:pt x="383" y="135"/>
                  </a:lnTo>
                  <a:lnTo>
                    <a:pt x="172" y="284"/>
                  </a:lnTo>
                  <a:lnTo>
                    <a:pt x="175" y="285"/>
                  </a:lnTo>
                  <a:lnTo>
                    <a:pt x="177" y="286"/>
                  </a:lnTo>
                  <a:lnTo>
                    <a:pt x="180" y="287"/>
                  </a:lnTo>
                  <a:lnTo>
                    <a:pt x="182" y="287"/>
                  </a:lnTo>
                  <a:lnTo>
                    <a:pt x="185" y="288"/>
                  </a:lnTo>
                  <a:lnTo>
                    <a:pt x="188" y="290"/>
                  </a:lnTo>
                  <a:lnTo>
                    <a:pt x="191" y="290"/>
                  </a:lnTo>
                  <a:lnTo>
                    <a:pt x="193" y="291"/>
                  </a:lnTo>
                  <a:lnTo>
                    <a:pt x="196" y="291"/>
                  </a:lnTo>
                  <a:lnTo>
                    <a:pt x="198" y="292"/>
                  </a:lnTo>
                  <a:lnTo>
                    <a:pt x="202" y="292"/>
                  </a:lnTo>
                  <a:lnTo>
                    <a:pt x="205" y="292"/>
                  </a:lnTo>
                  <a:lnTo>
                    <a:pt x="208" y="292"/>
                  </a:lnTo>
                  <a:lnTo>
                    <a:pt x="211" y="293"/>
                  </a:lnTo>
                  <a:lnTo>
                    <a:pt x="215" y="293"/>
                  </a:lnTo>
                  <a:lnTo>
                    <a:pt x="218" y="293"/>
                  </a:lnTo>
                  <a:lnTo>
                    <a:pt x="225" y="292"/>
                  </a:lnTo>
                  <a:lnTo>
                    <a:pt x="234" y="292"/>
                  </a:lnTo>
                  <a:lnTo>
                    <a:pt x="242" y="291"/>
                  </a:lnTo>
                  <a:lnTo>
                    <a:pt x="250" y="288"/>
                  </a:lnTo>
                  <a:lnTo>
                    <a:pt x="258" y="286"/>
                  </a:lnTo>
                  <a:lnTo>
                    <a:pt x="267" y="284"/>
                  </a:lnTo>
                  <a:lnTo>
                    <a:pt x="275" y="281"/>
                  </a:lnTo>
                  <a:lnTo>
                    <a:pt x="284" y="278"/>
                  </a:lnTo>
                  <a:lnTo>
                    <a:pt x="292" y="273"/>
                  </a:lnTo>
                  <a:lnTo>
                    <a:pt x="300" y="269"/>
                  </a:lnTo>
                  <a:lnTo>
                    <a:pt x="309" y="265"/>
                  </a:lnTo>
                  <a:lnTo>
                    <a:pt x="317" y="259"/>
                  </a:lnTo>
                  <a:lnTo>
                    <a:pt x="326" y="253"/>
                  </a:lnTo>
                  <a:lnTo>
                    <a:pt x="334" y="247"/>
                  </a:lnTo>
                  <a:lnTo>
                    <a:pt x="342" y="241"/>
                  </a:lnTo>
                  <a:lnTo>
                    <a:pt x="351" y="233"/>
                  </a:lnTo>
                  <a:lnTo>
                    <a:pt x="361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54040" y="854280"/>
              <a:ext cx="287640" cy="439920"/>
            </a:xfrm>
            <a:custGeom>
              <a:avLst/>
              <a:gdLst/>
              <a:ahLst/>
              <a:rect l="l" t="t" r="r" b="b"/>
              <a:pathLst>
                <a:path w="376" h="569">
                  <a:moveTo>
                    <a:pt x="365" y="560"/>
                  </a:moveTo>
                  <a:lnTo>
                    <a:pt x="361" y="561"/>
                  </a:lnTo>
                  <a:lnTo>
                    <a:pt x="356" y="562"/>
                  </a:lnTo>
                  <a:lnTo>
                    <a:pt x="352" y="563"/>
                  </a:lnTo>
                  <a:lnTo>
                    <a:pt x="349" y="564"/>
                  </a:lnTo>
                  <a:lnTo>
                    <a:pt x="344" y="565"/>
                  </a:lnTo>
                  <a:lnTo>
                    <a:pt x="340" y="566"/>
                  </a:lnTo>
                  <a:lnTo>
                    <a:pt x="336" y="566"/>
                  </a:lnTo>
                  <a:lnTo>
                    <a:pt x="330" y="567"/>
                  </a:lnTo>
                  <a:lnTo>
                    <a:pt x="326" y="567"/>
                  </a:lnTo>
                  <a:lnTo>
                    <a:pt x="322" y="568"/>
                  </a:lnTo>
                  <a:lnTo>
                    <a:pt x="317" y="568"/>
                  </a:lnTo>
                  <a:lnTo>
                    <a:pt x="312" y="568"/>
                  </a:lnTo>
                  <a:lnTo>
                    <a:pt x="306" y="569"/>
                  </a:lnTo>
                  <a:lnTo>
                    <a:pt x="302" y="569"/>
                  </a:lnTo>
                  <a:lnTo>
                    <a:pt x="297" y="569"/>
                  </a:lnTo>
                  <a:lnTo>
                    <a:pt x="291" y="569"/>
                  </a:lnTo>
                  <a:lnTo>
                    <a:pt x="275" y="569"/>
                  </a:lnTo>
                  <a:lnTo>
                    <a:pt x="260" y="568"/>
                  </a:lnTo>
                  <a:lnTo>
                    <a:pt x="244" y="566"/>
                  </a:lnTo>
                  <a:lnTo>
                    <a:pt x="230" y="564"/>
                  </a:lnTo>
                  <a:lnTo>
                    <a:pt x="215" y="562"/>
                  </a:lnTo>
                  <a:lnTo>
                    <a:pt x="201" y="559"/>
                  </a:lnTo>
                  <a:lnTo>
                    <a:pt x="186" y="554"/>
                  </a:lnTo>
                  <a:lnTo>
                    <a:pt x="173" y="550"/>
                  </a:lnTo>
                  <a:lnTo>
                    <a:pt x="160" y="545"/>
                  </a:lnTo>
                  <a:lnTo>
                    <a:pt x="148" y="539"/>
                  </a:lnTo>
                  <a:lnTo>
                    <a:pt x="136" y="533"/>
                  </a:lnTo>
                  <a:lnTo>
                    <a:pt x="124" y="525"/>
                  </a:lnTo>
                  <a:lnTo>
                    <a:pt x="113" y="518"/>
                  </a:lnTo>
                  <a:lnTo>
                    <a:pt x="102" y="510"/>
                  </a:lnTo>
                  <a:lnTo>
                    <a:pt x="91" y="501"/>
                  </a:lnTo>
                  <a:lnTo>
                    <a:pt x="80" y="492"/>
                  </a:lnTo>
                  <a:lnTo>
                    <a:pt x="71" y="482"/>
                  </a:lnTo>
                  <a:lnTo>
                    <a:pt x="62" y="471"/>
                  </a:lnTo>
                  <a:lnTo>
                    <a:pt x="53" y="460"/>
                  </a:lnTo>
                  <a:lnTo>
                    <a:pt x="46" y="450"/>
                  </a:lnTo>
                  <a:lnTo>
                    <a:pt x="38" y="439"/>
                  </a:lnTo>
                  <a:lnTo>
                    <a:pt x="32" y="427"/>
                  </a:lnTo>
                  <a:lnTo>
                    <a:pt x="25" y="415"/>
                  </a:lnTo>
                  <a:lnTo>
                    <a:pt x="20" y="402"/>
                  </a:lnTo>
                  <a:lnTo>
                    <a:pt x="16" y="389"/>
                  </a:lnTo>
                  <a:lnTo>
                    <a:pt x="11" y="376"/>
                  </a:lnTo>
                  <a:lnTo>
                    <a:pt x="8" y="362"/>
                  </a:lnTo>
                  <a:lnTo>
                    <a:pt x="5" y="348"/>
                  </a:lnTo>
                  <a:lnTo>
                    <a:pt x="3" y="334"/>
                  </a:lnTo>
                  <a:lnTo>
                    <a:pt x="2" y="320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0" y="274"/>
                  </a:lnTo>
                  <a:lnTo>
                    <a:pt x="2" y="258"/>
                  </a:lnTo>
                  <a:lnTo>
                    <a:pt x="3" y="243"/>
                  </a:lnTo>
                  <a:lnTo>
                    <a:pt x="6" y="229"/>
                  </a:lnTo>
                  <a:lnTo>
                    <a:pt x="8" y="215"/>
                  </a:lnTo>
                  <a:lnTo>
                    <a:pt x="12" y="201"/>
                  </a:lnTo>
                  <a:lnTo>
                    <a:pt x="17" y="188"/>
                  </a:lnTo>
                  <a:lnTo>
                    <a:pt x="21" y="175"/>
                  </a:lnTo>
                  <a:lnTo>
                    <a:pt x="26" y="162"/>
                  </a:lnTo>
                  <a:lnTo>
                    <a:pt x="33" y="149"/>
                  </a:lnTo>
                  <a:lnTo>
                    <a:pt x="39" y="137"/>
                  </a:lnTo>
                  <a:lnTo>
                    <a:pt x="47" y="126"/>
                  </a:lnTo>
                  <a:lnTo>
                    <a:pt x="56" y="115"/>
                  </a:lnTo>
                  <a:lnTo>
                    <a:pt x="64" y="103"/>
                  </a:lnTo>
                  <a:lnTo>
                    <a:pt x="74" y="92"/>
                  </a:lnTo>
                  <a:lnTo>
                    <a:pt x="84" y="82"/>
                  </a:lnTo>
                  <a:lnTo>
                    <a:pt x="95" y="73"/>
                  </a:lnTo>
                  <a:lnTo>
                    <a:pt x="105" y="63"/>
                  </a:lnTo>
                  <a:lnTo>
                    <a:pt x="116" y="54"/>
                  </a:lnTo>
                  <a:lnTo>
                    <a:pt x="128" y="47"/>
                  </a:lnTo>
                  <a:lnTo>
                    <a:pt x="140" y="39"/>
                  </a:lnTo>
                  <a:lnTo>
                    <a:pt x="153" y="33"/>
                  </a:lnTo>
                  <a:lnTo>
                    <a:pt x="166" y="26"/>
                  </a:lnTo>
                  <a:lnTo>
                    <a:pt x="179" y="21"/>
                  </a:lnTo>
                  <a:lnTo>
                    <a:pt x="192" y="17"/>
                  </a:lnTo>
                  <a:lnTo>
                    <a:pt x="206" y="12"/>
                  </a:lnTo>
                  <a:lnTo>
                    <a:pt x="220" y="9"/>
                  </a:lnTo>
                  <a:lnTo>
                    <a:pt x="235" y="6"/>
                  </a:lnTo>
                  <a:lnTo>
                    <a:pt x="249" y="4"/>
                  </a:lnTo>
                  <a:lnTo>
                    <a:pt x="264" y="1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1"/>
                  </a:lnTo>
                  <a:lnTo>
                    <a:pt x="315" y="1"/>
                  </a:lnTo>
                  <a:lnTo>
                    <a:pt x="319" y="1"/>
                  </a:lnTo>
                  <a:lnTo>
                    <a:pt x="324" y="2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7" y="4"/>
                  </a:lnTo>
                  <a:lnTo>
                    <a:pt x="340" y="5"/>
                  </a:lnTo>
                  <a:lnTo>
                    <a:pt x="344" y="5"/>
                  </a:lnTo>
                  <a:lnTo>
                    <a:pt x="349" y="6"/>
                  </a:lnTo>
                  <a:lnTo>
                    <a:pt x="354" y="7"/>
                  </a:lnTo>
                  <a:lnTo>
                    <a:pt x="358" y="8"/>
                  </a:lnTo>
                  <a:lnTo>
                    <a:pt x="363" y="9"/>
                  </a:lnTo>
                  <a:lnTo>
                    <a:pt x="370" y="171"/>
                  </a:lnTo>
                  <a:lnTo>
                    <a:pt x="365" y="170"/>
                  </a:lnTo>
                  <a:lnTo>
                    <a:pt x="361" y="168"/>
                  </a:lnTo>
                  <a:lnTo>
                    <a:pt x="355" y="166"/>
                  </a:lnTo>
                  <a:lnTo>
                    <a:pt x="351" y="164"/>
                  </a:lnTo>
                  <a:lnTo>
                    <a:pt x="345" y="162"/>
                  </a:lnTo>
                  <a:lnTo>
                    <a:pt x="341" y="161"/>
                  </a:lnTo>
                  <a:lnTo>
                    <a:pt x="337" y="160"/>
                  </a:lnTo>
                  <a:lnTo>
                    <a:pt x="331" y="159"/>
                  </a:lnTo>
                  <a:lnTo>
                    <a:pt x="327" y="158"/>
                  </a:lnTo>
                  <a:lnTo>
                    <a:pt x="322" y="157"/>
                  </a:lnTo>
                  <a:lnTo>
                    <a:pt x="317" y="156"/>
                  </a:lnTo>
                  <a:lnTo>
                    <a:pt x="313" y="156"/>
                  </a:lnTo>
                  <a:lnTo>
                    <a:pt x="309" y="155"/>
                  </a:lnTo>
                  <a:lnTo>
                    <a:pt x="303" y="155"/>
                  </a:lnTo>
                  <a:lnTo>
                    <a:pt x="299" y="155"/>
                  </a:lnTo>
                  <a:lnTo>
                    <a:pt x="295" y="155"/>
                  </a:lnTo>
                  <a:lnTo>
                    <a:pt x="279" y="155"/>
                  </a:lnTo>
                  <a:lnTo>
                    <a:pt x="264" y="157"/>
                  </a:lnTo>
                  <a:lnTo>
                    <a:pt x="249" y="160"/>
                  </a:lnTo>
                  <a:lnTo>
                    <a:pt x="236" y="163"/>
                  </a:lnTo>
                  <a:lnTo>
                    <a:pt x="223" y="169"/>
                  </a:lnTo>
                  <a:lnTo>
                    <a:pt x="211" y="175"/>
                  </a:lnTo>
                  <a:lnTo>
                    <a:pt x="199" y="183"/>
                  </a:lnTo>
                  <a:lnTo>
                    <a:pt x="190" y="190"/>
                  </a:lnTo>
                  <a:lnTo>
                    <a:pt x="180" y="200"/>
                  </a:lnTo>
                  <a:lnTo>
                    <a:pt x="171" y="211"/>
                  </a:lnTo>
                  <a:lnTo>
                    <a:pt x="164" y="221"/>
                  </a:lnTo>
                  <a:lnTo>
                    <a:pt x="158" y="233"/>
                  </a:lnTo>
                  <a:lnTo>
                    <a:pt x="154" y="244"/>
                  </a:lnTo>
                  <a:lnTo>
                    <a:pt x="151" y="257"/>
                  </a:lnTo>
                  <a:lnTo>
                    <a:pt x="149" y="270"/>
                  </a:lnTo>
                  <a:lnTo>
                    <a:pt x="149" y="283"/>
                  </a:lnTo>
                  <a:lnTo>
                    <a:pt x="149" y="297"/>
                  </a:lnTo>
                  <a:lnTo>
                    <a:pt x="151" y="310"/>
                  </a:lnTo>
                  <a:lnTo>
                    <a:pt x="154" y="323"/>
                  </a:lnTo>
                  <a:lnTo>
                    <a:pt x="158" y="335"/>
                  </a:lnTo>
                  <a:lnTo>
                    <a:pt x="164" y="347"/>
                  </a:lnTo>
                  <a:lnTo>
                    <a:pt x="171" y="358"/>
                  </a:lnTo>
                  <a:lnTo>
                    <a:pt x="179" y="368"/>
                  </a:lnTo>
                  <a:lnTo>
                    <a:pt x="189" y="377"/>
                  </a:lnTo>
                  <a:lnTo>
                    <a:pt x="199" y="387"/>
                  </a:lnTo>
                  <a:lnTo>
                    <a:pt x="210" y="395"/>
                  </a:lnTo>
                  <a:lnTo>
                    <a:pt x="222" y="401"/>
                  </a:lnTo>
                  <a:lnTo>
                    <a:pt x="234" y="405"/>
                  </a:lnTo>
                  <a:lnTo>
                    <a:pt x="247" y="410"/>
                  </a:lnTo>
                  <a:lnTo>
                    <a:pt x="261" y="413"/>
                  </a:lnTo>
                  <a:lnTo>
                    <a:pt x="275" y="415"/>
                  </a:lnTo>
                  <a:lnTo>
                    <a:pt x="290" y="415"/>
                  </a:lnTo>
                  <a:lnTo>
                    <a:pt x="296" y="415"/>
                  </a:lnTo>
                  <a:lnTo>
                    <a:pt x="301" y="415"/>
                  </a:lnTo>
                  <a:lnTo>
                    <a:pt x="306" y="414"/>
                  </a:lnTo>
                  <a:lnTo>
                    <a:pt x="312" y="414"/>
                  </a:lnTo>
                  <a:lnTo>
                    <a:pt x="317" y="413"/>
                  </a:lnTo>
                  <a:lnTo>
                    <a:pt x="323" y="412"/>
                  </a:lnTo>
                  <a:lnTo>
                    <a:pt x="328" y="411"/>
                  </a:lnTo>
                  <a:lnTo>
                    <a:pt x="334" y="410"/>
                  </a:lnTo>
                  <a:lnTo>
                    <a:pt x="339" y="409"/>
                  </a:lnTo>
                  <a:lnTo>
                    <a:pt x="344" y="406"/>
                  </a:lnTo>
                  <a:lnTo>
                    <a:pt x="349" y="404"/>
                  </a:lnTo>
                  <a:lnTo>
                    <a:pt x="354" y="403"/>
                  </a:lnTo>
                  <a:lnTo>
                    <a:pt x="359" y="401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6" y="393"/>
                  </a:lnTo>
                  <a:lnTo>
                    <a:pt x="365" y="5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58056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5" h="409">
                  <a:moveTo>
                    <a:pt x="203" y="132"/>
                  </a:moveTo>
                  <a:lnTo>
                    <a:pt x="196" y="133"/>
                  </a:lnTo>
                  <a:lnTo>
                    <a:pt x="190" y="134"/>
                  </a:lnTo>
                  <a:lnTo>
                    <a:pt x="183" y="135"/>
                  </a:lnTo>
                  <a:lnTo>
                    <a:pt x="177" y="137"/>
                  </a:lnTo>
                  <a:lnTo>
                    <a:pt x="171" y="140"/>
                  </a:lnTo>
                  <a:lnTo>
                    <a:pt x="165" y="144"/>
                  </a:lnTo>
                  <a:lnTo>
                    <a:pt x="159" y="148"/>
                  </a:lnTo>
                  <a:lnTo>
                    <a:pt x="155" y="153"/>
                  </a:lnTo>
                  <a:lnTo>
                    <a:pt x="150" y="159"/>
                  </a:lnTo>
                  <a:lnTo>
                    <a:pt x="146" y="164"/>
                  </a:lnTo>
                  <a:lnTo>
                    <a:pt x="142" y="171"/>
                  </a:lnTo>
                  <a:lnTo>
                    <a:pt x="140" y="177"/>
                  </a:lnTo>
                  <a:lnTo>
                    <a:pt x="138" y="184"/>
                  </a:lnTo>
                  <a:lnTo>
                    <a:pt x="136" y="190"/>
                  </a:lnTo>
                  <a:lnTo>
                    <a:pt x="136" y="198"/>
                  </a:lnTo>
                  <a:lnTo>
                    <a:pt x="134" y="205"/>
                  </a:lnTo>
                  <a:lnTo>
                    <a:pt x="136" y="213"/>
                  </a:lnTo>
                  <a:lnTo>
                    <a:pt x="136" y="220"/>
                  </a:lnTo>
                  <a:lnTo>
                    <a:pt x="138" y="227"/>
                  </a:lnTo>
                  <a:lnTo>
                    <a:pt x="140" y="233"/>
                  </a:lnTo>
                  <a:lnTo>
                    <a:pt x="142" y="240"/>
                  </a:lnTo>
                  <a:lnTo>
                    <a:pt x="146" y="246"/>
                  </a:lnTo>
                  <a:lnTo>
                    <a:pt x="150" y="252"/>
                  </a:lnTo>
                  <a:lnTo>
                    <a:pt x="155" y="257"/>
                  </a:lnTo>
                  <a:lnTo>
                    <a:pt x="159" y="261"/>
                  </a:lnTo>
                  <a:lnTo>
                    <a:pt x="165" y="266"/>
                  </a:lnTo>
                  <a:lnTo>
                    <a:pt x="170" y="269"/>
                  </a:lnTo>
                  <a:lnTo>
                    <a:pt x="177" y="272"/>
                  </a:lnTo>
                  <a:lnTo>
                    <a:pt x="183" y="274"/>
                  </a:lnTo>
                  <a:lnTo>
                    <a:pt x="190" y="276"/>
                  </a:lnTo>
                  <a:lnTo>
                    <a:pt x="196" y="277"/>
                  </a:lnTo>
                  <a:lnTo>
                    <a:pt x="203" y="277"/>
                  </a:lnTo>
                  <a:lnTo>
                    <a:pt x="210" y="277"/>
                  </a:lnTo>
                  <a:lnTo>
                    <a:pt x="217" y="276"/>
                  </a:lnTo>
                  <a:lnTo>
                    <a:pt x="223" y="274"/>
                  </a:lnTo>
                  <a:lnTo>
                    <a:pt x="229" y="272"/>
                  </a:lnTo>
                  <a:lnTo>
                    <a:pt x="235" y="269"/>
                  </a:lnTo>
                  <a:lnTo>
                    <a:pt x="240" y="266"/>
                  </a:lnTo>
                  <a:lnTo>
                    <a:pt x="246" y="261"/>
                  </a:lnTo>
                  <a:lnTo>
                    <a:pt x="251" y="256"/>
                  </a:lnTo>
                  <a:lnTo>
                    <a:pt x="256" y="250"/>
                  </a:lnTo>
                  <a:lnTo>
                    <a:pt x="260" y="245"/>
                  </a:lnTo>
                  <a:lnTo>
                    <a:pt x="263" y="240"/>
                  </a:lnTo>
                  <a:lnTo>
                    <a:pt x="265" y="233"/>
                  </a:lnTo>
                  <a:lnTo>
                    <a:pt x="267" y="227"/>
                  </a:lnTo>
                  <a:lnTo>
                    <a:pt x="270" y="219"/>
                  </a:lnTo>
                  <a:lnTo>
                    <a:pt x="271" y="213"/>
                  </a:lnTo>
                  <a:lnTo>
                    <a:pt x="271" y="205"/>
                  </a:lnTo>
                  <a:lnTo>
                    <a:pt x="271" y="198"/>
                  </a:lnTo>
                  <a:lnTo>
                    <a:pt x="270" y="191"/>
                  </a:lnTo>
                  <a:lnTo>
                    <a:pt x="267" y="184"/>
                  </a:lnTo>
                  <a:lnTo>
                    <a:pt x="265" y="177"/>
                  </a:lnTo>
                  <a:lnTo>
                    <a:pt x="263" y="171"/>
                  </a:lnTo>
                  <a:lnTo>
                    <a:pt x="260" y="165"/>
                  </a:lnTo>
                  <a:lnTo>
                    <a:pt x="256" y="159"/>
                  </a:lnTo>
                  <a:lnTo>
                    <a:pt x="251" y="153"/>
                  </a:lnTo>
                  <a:lnTo>
                    <a:pt x="246" y="149"/>
                  </a:lnTo>
                  <a:lnTo>
                    <a:pt x="240" y="145"/>
                  </a:lnTo>
                  <a:lnTo>
                    <a:pt x="235" y="140"/>
                  </a:lnTo>
                  <a:lnTo>
                    <a:pt x="229" y="137"/>
                  </a:lnTo>
                  <a:lnTo>
                    <a:pt x="223" y="135"/>
                  </a:lnTo>
                  <a:lnTo>
                    <a:pt x="217" y="134"/>
                  </a:lnTo>
                  <a:lnTo>
                    <a:pt x="210" y="133"/>
                  </a:lnTo>
                  <a:lnTo>
                    <a:pt x="203" y="132"/>
                  </a:lnTo>
                  <a:close/>
                  <a:moveTo>
                    <a:pt x="203" y="0"/>
                  </a:moveTo>
                  <a:lnTo>
                    <a:pt x="223" y="1"/>
                  </a:lnTo>
                  <a:lnTo>
                    <a:pt x="243" y="4"/>
                  </a:lnTo>
                  <a:lnTo>
                    <a:pt x="262" y="9"/>
                  </a:lnTo>
                  <a:lnTo>
                    <a:pt x="280" y="15"/>
                  </a:lnTo>
                  <a:lnTo>
                    <a:pt x="298" y="24"/>
                  </a:lnTo>
                  <a:lnTo>
                    <a:pt x="314" y="34"/>
                  </a:lnTo>
                  <a:lnTo>
                    <a:pt x="330" y="46"/>
                  </a:lnTo>
                  <a:lnTo>
                    <a:pt x="345" y="60"/>
                  </a:lnTo>
                  <a:lnTo>
                    <a:pt x="359" y="76"/>
                  </a:lnTo>
                  <a:lnTo>
                    <a:pt x="371" y="92"/>
                  </a:lnTo>
                  <a:lnTo>
                    <a:pt x="381" y="109"/>
                  </a:lnTo>
                  <a:lnTo>
                    <a:pt x="390" y="127"/>
                  </a:lnTo>
                  <a:lnTo>
                    <a:pt x="396" y="146"/>
                  </a:lnTo>
                  <a:lnTo>
                    <a:pt x="401" y="164"/>
                  </a:lnTo>
                  <a:lnTo>
                    <a:pt x="404" y="185"/>
                  </a:lnTo>
                  <a:lnTo>
                    <a:pt x="405" y="205"/>
                  </a:lnTo>
                  <a:lnTo>
                    <a:pt x="404" y="226"/>
                  </a:lnTo>
                  <a:lnTo>
                    <a:pt x="401" y="246"/>
                  </a:lnTo>
                  <a:lnTo>
                    <a:pt x="396" y="266"/>
                  </a:lnTo>
                  <a:lnTo>
                    <a:pt x="390" y="284"/>
                  </a:lnTo>
                  <a:lnTo>
                    <a:pt x="382" y="301"/>
                  </a:lnTo>
                  <a:lnTo>
                    <a:pt x="371" y="319"/>
                  </a:lnTo>
                  <a:lnTo>
                    <a:pt x="359" y="335"/>
                  </a:lnTo>
                  <a:lnTo>
                    <a:pt x="346" y="350"/>
                  </a:lnTo>
                  <a:lnTo>
                    <a:pt x="331" y="364"/>
                  </a:lnTo>
                  <a:lnTo>
                    <a:pt x="315" y="376"/>
                  </a:lnTo>
                  <a:lnTo>
                    <a:pt x="298" y="387"/>
                  </a:lnTo>
                  <a:lnTo>
                    <a:pt x="280" y="395"/>
                  </a:lnTo>
                  <a:lnTo>
                    <a:pt x="262" y="402"/>
                  </a:lnTo>
                  <a:lnTo>
                    <a:pt x="244" y="406"/>
                  </a:lnTo>
                  <a:lnTo>
                    <a:pt x="223" y="409"/>
                  </a:lnTo>
                  <a:lnTo>
                    <a:pt x="203" y="409"/>
                  </a:lnTo>
                  <a:lnTo>
                    <a:pt x="182" y="409"/>
                  </a:lnTo>
                  <a:lnTo>
                    <a:pt x="163" y="406"/>
                  </a:lnTo>
                  <a:lnTo>
                    <a:pt x="143" y="402"/>
                  </a:lnTo>
                  <a:lnTo>
                    <a:pt x="125" y="395"/>
                  </a:lnTo>
                  <a:lnTo>
                    <a:pt x="107" y="387"/>
                  </a:lnTo>
                  <a:lnTo>
                    <a:pt x="91" y="376"/>
                  </a:lnTo>
                  <a:lnTo>
                    <a:pt x="75" y="364"/>
                  </a:lnTo>
                  <a:lnTo>
                    <a:pt x="60" y="350"/>
                  </a:lnTo>
                  <a:lnTo>
                    <a:pt x="46" y="335"/>
                  </a:lnTo>
                  <a:lnTo>
                    <a:pt x="34" y="319"/>
                  </a:lnTo>
                  <a:lnTo>
                    <a:pt x="24" y="301"/>
                  </a:lnTo>
                  <a:lnTo>
                    <a:pt x="16" y="284"/>
                  </a:lnTo>
                  <a:lnTo>
                    <a:pt x="9" y="266"/>
                  </a:lnTo>
                  <a:lnTo>
                    <a:pt x="5" y="246"/>
                  </a:lnTo>
                  <a:lnTo>
                    <a:pt x="1" y="226"/>
                  </a:lnTo>
                  <a:lnTo>
                    <a:pt x="0" y="205"/>
                  </a:lnTo>
                  <a:lnTo>
                    <a:pt x="1" y="185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16" y="126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7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4"/>
                  </a:lnTo>
                  <a:lnTo>
                    <a:pt x="182" y="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933720" y="974160"/>
              <a:ext cx="259920" cy="312120"/>
            </a:xfrm>
            <a:custGeom>
              <a:avLst/>
              <a:gdLst/>
              <a:ahLst/>
              <a:rect l="l" t="t" r="r" b="b"/>
              <a:pathLst>
                <a:path w="341" h="402">
                  <a:moveTo>
                    <a:pt x="0" y="402"/>
                  </a:moveTo>
                  <a:lnTo>
                    <a:pt x="0" y="6"/>
                  </a:lnTo>
                  <a:lnTo>
                    <a:pt x="129" y="6"/>
                  </a:lnTo>
                  <a:lnTo>
                    <a:pt x="129" y="44"/>
                  </a:lnTo>
                  <a:lnTo>
                    <a:pt x="133" y="39"/>
                  </a:lnTo>
                  <a:lnTo>
                    <a:pt x="137" y="33"/>
                  </a:lnTo>
                  <a:lnTo>
                    <a:pt x="143" y="29"/>
                  </a:lnTo>
                  <a:lnTo>
                    <a:pt x="148" y="25"/>
                  </a:lnTo>
                  <a:lnTo>
                    <a:pt x="153" y="22"/>
                  </a:lnTo>
                  <a:lnTo>
                    <a:pt x="159" y="17"/>
                  </a:lnTo>
                  <a:lnTo>
                    <a:pt x="164" y="14"/>
                  </a:lnTo>
                  <a:lnTo>
                    <a:pt x="171" y="11"/>
                  </a:lnTo>
                  <a:lnTo>
                    <a:pt x="177" y="9"/>
                  </a:lnTo>
                  <a:lnTo>
                    <a:pt x="184" y="6"/>
                  </a:lnTo>
                  <a:lnTo>
                    <a:pt x="190" y="4"/>
                  </a:lnTo>
                  <a:lnTo>
                    <a:pt x="197" y="3"/>
                  </a:lnTo>
                  <a:lnTo>
                    <a:pt x="203" y="2"/>
                  </a:lnTo>
                  <a:lnTo>
                    <a:pt x="211" y="1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40" y="1"/>
                  </a:lnTo>
                  <a:lnTo>
                    <a:pt x="253" y="2"/>
                  </a:lnTo>
                  <a:lnTo>
                    <a:pt x="265" y="5"/>
                  </a:lnTo>
                  <a:lnTo>
                    <a:pt x="276" y="9"/>
                  </a:lnTo>
                  <a:lnTo>
                    <a:pt x="285" y="14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4" y="54"/>
                  </a:lnTo>
                  <a:lnTo>
                    <a:pt x="330" y="65"/>
                  </a:lnTo>
                  <a:lnTo>
                    <a:pt x="333" y="77"/>
                  </a:lnTo>
                  <a:lnTo>
                    <a:pt x="336" y="90"/>
                  </a:lnTo>
                  <a:lnTo>
                    <a:pt x="338" y="104"/>
                  </a:lnTo>
                  <a:lnTo>
                    <a:pt x="341" y="119"/>
                  </a:lnTo>
                  <a:lnTo>
                    <a:pt x="341" y="135"/>
                  </a:lnTo>
                  <a:lnTo>
                    <a:pt x="341" y="402"/>
                  </a:lnTo>
                  <a:lnTo>
                    <a:pt x="211" y="402"/>
                  </a:lnTo>
                  <a:lnTo>
                    <a:pt x="211" y="192"/>
                  </a:lnTo>
                  <a:lnTo>
                    <a:pt x="211" y="184"/>
                  </a:lnTo>
                  <a:lnTo>
                    <a:pt x="210" y="176"/>
                  </a:lnTo>
                  <a:lnTo>
                    <a:pt x="210" y="170"/>
                  </a:lnTo>
                  <a:lnTo>
                    <a:pt x="209" y="163"/>
                  </a:lnTo>
                  <a:lnTo>
                    <a:pt x="208" y="158"/>
                  </a:lnTo>
                  <a:lnTo>
                    <a:pt x="205" y="152"/>
                  </a:lnTo>
                  <a:lnTo>
                    <a:pt x="204" y="148"/>
                  </a:lnTo>
                  <a:lnTo>
                    <a:pt x="202" y="145"/>
                  </a:lnTo>
                  <a:lnTo>
                    <a:pt x="200" y="141"/>
                  </a:lnTo>
                  <a:lnTo>
                    <a:pt x="197" y="139"/>
                  </a:lnTo>
                  <a:lnTo>
                    <a:pt x="193" y="137"/>
                  </a:lnTo>
                  <a:lnTo>
                    <a:pt x="190" y="135"/>
                  </a:lnTo>
                  <a:lnTo>
                    <a:pt x="187" y="134"/>
                  </a:lnTo>
                  <a:lnTo>
                    <a:pt x="183" y="133"/>
                  </a:lnTo>
                  <a:lnTo>
                    <a:pt x="178" y="132"/>
                  </a:lnTo>
                  <a:lnTo>
                    <a:pt x="173" y="132"/>
                  </a:lnTo>
                  <a:lnTo>
                    <a:pt x="168" y="132"/>
                  </a:lnTo>
                  <a:lnTo>
                    <a:pt x="163" y="133"/>
                  </a:lnTo>
                  <a:lnTo>
                    <a:pt x="159" y="134"/>
                  </a:lnTo>
                  <a:lnTo>
                    <a:pt x="155" y="136"/>
                  </a:lnTo>
                  <a:lnTo>
                    <a:pt x="151" y="138"/>
                  </a:lnTo>
                  <a:lnTo>
                    <a:pt x="147" y="140"/>
                  </a:lnTo>
                  <a:lnTo>
                    <a:pt x="144" y="144"/>
                  </a:lnTo>
                  <a:lnTo>
                    <a:pt x="142" y="147"/>
                  </a:lnTo>
                  <a:lnTo>
                    <a:pt x="138" y="151"/>
                  </a:lnTo>
                  <a:lnTo>
                    <a:pt x="136" y="157"/>
                  </a:lnTo>
                  <a:lnTo>
                    <a:pt x="135" y="161"/>
                  </a:lnTo>
                  <a:lnTo>
                    <a:pt x="133" y="166"/>
                  </a:lnTo>
                  <a:lnTo>
                    <a:pt x="132" y="173"/>
                  </a:lnTo>
                  <a:lnTo>
                    <a:pt x="131" y="178"/>
                  </a:lnTo>
                  <a:lnTo>
                    <a:pt x="131" y="186"/>
                  </a:lnTo>
                  <a:lnTo>
                    <a:pt x="131" y="192"/>
                  </a:lnTo>
                  <a:lnTo>
                    <a:pt x="131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232880" y="862200"/>
              <a:ext cx="318240" cy="428760"/>
            </a:xfrm>
            <a:custGeom>
              <a:avLst/>
              <a:gdLst/>
              <a:ahLst/>
              <a:rect l="l" t="t" r="r" b="b"/>
              <a:pathLst>
                <a:path w="415" h="555">
                  <a:moveTo>
                    <a:pt x="207" y="282"/>
                  </a:moveTo>
                  <a:lnTo>
                    <a:pt x="199" y="282"/>
                  </a:lnTo>
                  <a:lnTo>
                    <a:pt x="192" y="283"/>
                  </a:lnTo>
                  <a:lnTo>
                    <a:pt x="185" y="285"/>
                  </a:lnTo>
                  <a:lnTo>
                    <a:pt x="179" y="287"/>
                  </a:lnTo>
                  <a:lnTo>
                    <a:pt x="172" y="291"/>
                  </a:lnTo>
                  <a:lnTo>
                    <a:pt x="167" y="294"/>
                  </a:lnTo>
                  <a:lnTo>
                    <a:pt x="162" y="298"/>
                  </a:lnTo>
                  <a:lnTo>
                    <a:pt x="156" y="302"/>
                  </a:lnTo>
                  <a:lnTo>
                    <a:pt x="151" y="308"/>
                  </a:lnTo>
                  <a:lnTo>
                    <a:pt x="146" y="313"/>
                  </a:lnTo>
                  <a:lnTo>
                    <a:pt x="143" y="319"/>
                  </a:lnTo>
                  <a:lnTo>
                    <a:pt x="140" y="325"/>
                  </a:lnTo>
                  <a:lnTo>
                    <a:pt x="138" y="332"/>
                  </a:lnTo>
                  <a:lnTo>
                    <a:pt x="136" y="338"/>
                  </a:lnTo>
                  <a:lnTo>
                    <a:pt x="136" y="346"/>
                  </a:lnTo>
                  <a:lnTo>
                    <a:pt x="134" y="352"/>
                  </a:lnTo>
                  <a:lnTo>
                    <a:pt x="136" y="360"/>
                  </a:lnTo>
                  <a:lnTo>
                    <a:pt x="136" y="366"/>
                  </a:lnTo>
                  <a:lnTo>
                    <a:pt x="138" y="373"/>
                  </a:lnTo>
                  <a:lnTo>
                    <a:pt x="140" y="379"/>
                  </a:lnTo>
                  <a:lnTo>
                    <a:pt x="143" y="386"/>
                  </a:lnTo>
                  <a:lnTo>
                    <a:pt x="146" y="391"/>
                  </a:lnTo>
                  <a:lnTo>
                    <a:pt x="151" y="397"/>
                  </a:lnTo>
                  <a:lnTo>
                    <a:pt x="156" y="402"/>
                  </a:lnTo>
                  <a:lnTo>
                    <a:pt x="162" y="407"/>
                  </a:lnTo>
                  <a:lnTo>
                    <a:pt x="167" y="412"/>
                  </a:lnTo>
                  <a:lnTo>
                    <a:pt x="172" y="415"/>
                  </a:lnTo>
                  <a:lnTo>
                    <a:pt x="179" y="418"/>
                  </a:lnTo>
                  <a:lnTo>
                    <a:pt x="185" y="420"/>
                  </a:lnTo>
                  <a:lnTo>
                    <a:pt x="192" y="421"/>
                  </a:lnTo>
                  <a:lnTo>
                    <a:pt x="199" y="422"/>
                  </a:lnTo>
                  <a:lnTo>
                    <a:pt x="207" y="423"/>
                  </a:lnTo>
                  <a:lnTo>
                    <a:pt x="213" y="422"/>
                  </a:lnTo>
                  <a:lnTo>
                    <a:pt x="221" y="421"/>
                  </a:lnTo>
                  <a:lnTo>
                    <a:pt x="227" y="420"/>
                  </a:lnTo>
                  <a:lnTo>
                    <a:pt x="234" y="418"/>
                  </a:lnTo>
                  <a:lnTo>
                    <a:pt x="240" y="415"/>
                  </a:lnTo>
                  <a:lnTo>
                    <a:pt x="246" y="412"/>
                  </a:lnTo>
                  <a:lnTo>
                    <a:pt x="251" y="407"/>
                  </a:lnTo>
                  <a:lnTo>
                    <a:pt x="258" y="403"/>
                  </a:lnTo>
                  <a:lnTo>
                    <a:pt x="262" y="397"/>
                  </a:lnTo>
                  <a:lnTo>
                    <a:pt x="266" y="392"/>
                  </a:lnTo>
                  <a:lnTo>
                    <a:pt x="270" y="386"/>
                  </a:lnTo>
                  <a:lnTo>
                    <a:pt x="273" y="380"/>
                  </a:lnTo>
                  <a:lnTo>
                    <a:pt x="275" y="374"/>
                  </a:lnTo>
                  <a:lnTo>
                    <a:pt x="277" y="366"/>
                  </a:lnTo>
                  <a:lnTo>
                    <a:pt x="277" y="360"/>
                  </a:lnTo>
                  <a:lnTo>
                    <a:pt x="278" y="352"/>
                  </a:lnTo>
                  <a:lnTo>
                    <a:pt x="277" y="345"/>
                  </a:lnTo>
                  <a:lnTo>
                    <a:pt x="277" y="338"/>
                  </a:lnTo>
                  <a:lnTo>
                    <a:pt x="275" y="332"/>
                  </a:lnTo>
                  <a:lnTo>
                    <a:pt x="273" y="325"/>
                  </a:lnTo>
                  <a:lnTo>
                    <a:pt x="270" y="319"/>
                  </a:lnTo>
                  <a:lnTo>
                    <a:pt x="266" y="313"/>
                  </a:lnTo>
                  <a:lnTo>
                    <a:pt x="262" y="308"/>
                  </a:lnTo>
                  <a:lnTo>
                    <a:pt x="258" y="302"/>
                  </a:lnTo>
                  <a:lnTo>
                    <a:pt x="252" y="298"/>
                  </a:lnTo>
                  <a:lnTo>
                    <a:pt x="246" y="294"/>
                  </a:lnTo>
                  <a:lnTo>
                    <a:pt x="240" y="289"/>
                  </a:lnTo>
                  <a:lnTo>
                    <a:pt x="234" y="287"/>
                  </a:lnTo>
                  <a:lnTo>
                    <a:pt x="227" y="285"/>
                  </a:lnTo>
                  <a:lnTo>
                    <a:pt x="221" y="283"/>
                  </a:lnTo>
                  <a:lnTo>
                    <a:pt x="213" y="282"/>
                  </a:lnTo>
                  <a:lnTo>
                    <a:pt x="207" y="282"/>
                  </a:lnTo>
                  <a:close/>
                  <a:moveTo>
                    <a:pt x="287" y="514"/>
                  </a:moveTo>
                  <a:lnTo>
                    <a:pt x="280" y="520"/>
                  </a:lnTo>
                  <a:lnTo>
                    <a:pt x="275" y="524"/>
                  </a:lnTo>
                  <a:lnTo>
                    <a:pt x="269" y="528"/>
                  </a:lnTo>
                  <a:lnTo>
                    <a:pt x="263" y="532"/>
                  </a:lnTo>
                  <a:lnTo>
                    <a:pt x="257" y="536"/>
                  </a:lnTo>
                  <a:lnTo>
                    <a:pt x="250" y="540"/>
                  </a:lnTo>
                  <a:lnTo>
                    <a:pt x="245" y="542"/>
                  </a:lnTo>
                  <a:lnTo>
                    <a:pt x="238" y="545"/>
                  </a:lnTo>
                  <a:lnTo>
                    <a:pt x="232" y="548"/>
                  </a:lnTo>
                  <a:lnTo>
                    <a:pt x="225" y="550"/>
                  </a:lnTo>
                  <a:lnTo>
                    <a:pt x="218" y="551"/>
                  </a:lnTo>
                  <a:lnTo>
                    <a:pt x="211" y="553"/>
                  </a:lnTo>
                  <a:lnTo>
                    <a:pt x="204" y="554"/>
                  </a:lnTo>
                  <a:lnTo>
                    <a:pt x="197" y="554"/>
                  </a:lnTo>
                  <a:lnTo>
                    <a:pt x="190" y="555"/>
                  </a:lnTo>
                  <a:lnTo>
                    <a:pt x="182" y="555"/>
                  </a:lnTo>
                  <a:lnTo>
                    <a:pt x="164" y="554"/>
                  </a:lnTo>
                  <a:lnTo>
                    <a:pt x="145" y="552"/>
                  </a:lnTo>
                  <a:lnTo>
                    <a:pt x="128" y="547"/>
                  </a:lnTo>
                  <a:lnTo>
                    <a:pt x="112" y="541"/>
                  </a:lnTo>
                  <a:lnTo>
                    <a:pt x="97" y="532"/>
                  </a:lnTo>
                  <a:lnTo>
                    <a:pt x="81" y="523"/>
                  </a:lnTo>
                  <a:lnTo>
                    <a:pt x="67" y="511"/>
                  </a:lnTo>
                  <a:lnTo>
                    <a:pt x="53" y="497"/>
                  </a:lnTo>
                  <a:lnTo>
                    <a:pt x="41" y="482"/>
                  </a:lnTo>
                  <a:lnTo>
                    <a:pt x="31" y="466"/>
                  </a:lnTo>
                  <a:lnTo>
                    <a:pt x="21" y="449"/>
                  </a:lnTo>
                  <a:lnTo>
                    <a:pt x="14" y="432"/>
                  </a:lnTo>
                  <a:lnTo>
                    <a:pt x="8" y="414"/>
                  </a:lnTo>
                  <a:lnTo>
                    <a:pt x="4" y="394"/>
                  </a:lnTo>
                  <a:lnTo>
                    <a:pt x="1" y="375"/>
                  </a:lnTo>
                  <a:lnTo>
                    <a:pt x="0" y="354"/>
                  </a:lnTo>
                  <a:lnTo>
                    <a:pt x="1" y="332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4" y="272"/>
                  </a:lnTo>
                  <a:lnTo>
                    <a:pt x="22" y="255"/>
                  </a:lnTo>
                  <a:lnTo>
                    <a:pt x="32" y="238"/>
                  </a:lnTo>
                  <a:lnTo>
                    <a:pt x="43" y="221"/>
                  </a:lnTo>
                  <a:lnTo>
                    <a:pt x="56" y="206"/>
                  </a:lnTo>
                  <a:lnTo>
                    <a:pt x="70" y="193"/>
                  </a:lnTo>
                  <a:lnTo>
                    <a:pt x="85" y="181"/>
                  </a:lnTo>
                  <a:lnTo>
                    <a:pt x="101" y="172"/>
                  </a:lnTo>
                  <a:lnTo>
                    <a:pt x="118" y="163"/>
                  </a:lnTo>
                  <a:lnTo>
                    <a:pt x="136" y="158"/>
                  </a:lnTo>
                  <a:lnTo>
                    <a:pt x="154" y="152"/>
                  </a:lnTo>
                  <a:lnTo>
                    <a:pt x="173" y="150"/>
                  </a:lnTo>
                  <a:lnTo>
                    <a:pt x="194" y="149"/>
                  </a:lnTo>
                  <a:lnTo>
                    <a:pt x="200" y="149"/>
                  </a:lnTo>
                  <a:lnTo>
                    <a:pt x="208" y="149"/>
                  </a:lnTo>
                  <a:lnTo>
                    <a:pt x="213" y="150"/>
                  </a:lnTo>
                  <a:lnTo>
                    <a:pt x="220" y="150"/>
                  </a:lnTo>
                  <a:lnTo>
                    <a:pt x="226" y="151"/>
                  </a:lnTo>
                  <a:lnTo>
                    <a:pt x="232" y="152"/>
                  </a:lnTo>
                  <a:lnTo>
                    <a:pt x="238" y="153"/>
                  </a:lnTo>
                  <a:lnTo>
                    <a:pt x="244" y="156"/>
                  </a:lnTo>
                  <a:lnTo>
                    <a:pt x="249" y="157"/>
                  </a:lnTo>
                  <a:lnTo>
                    <a:pt x="255" y="159"/>
                  </a:lnTo>
                  <a:lnTo>
                    <a:pt x="260" y="161"/>
                  </a:lnTo>
                  <a:lnTo>
                    <a:pt x="264" y="163"/>
                  </a:lnTo>
                  <a:lnTo>
                    <a:pt x="270" y="165"/>
                  </a:lnTo>
                  <a:lnTo>
                    <a:pt x="275" y="169"/>
                  </a:lnTo>
                  <a:lnTo>
                    <a:pt x="279" y="172"/>
                  </a:lnTo>
                  <a:lnTo>
                    <a:pt x="285" y="175"/>
                  </a:lnTo>
                  <a:lnTo>
                    <a:pt x="285" y="0"/>
                  </a:lnTo>
                  <a:lnTo>
                    <a:pt x="415" y="0"/>
                  </a:lnTo>
                  <a:lnTo>
                    <a:pt x="415" y="550"/>
                  </a:lnTo>
                  <a:lnTo>
                    <a:pt x="287" y="550"/>
                  </a:lnTo>
                  <a:lnTo>
                    <a:pt x="287" y="51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59288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3" h="409">
                  <a:moveTo>
                    <a:pt x="201" y="132"/>
                  </a:moveTo>
                  <a:lnTo>
                    <a:pt x="194" y="133"/>
                  </a:lnTo>
                  <a:lnTo>
                    <a:pt x="188" y="134"/>
                  </a:lnTo>
                  <a:lnTo>
                    <a:pt x="181" y="135"/>
                  </a:lnTo>
                  <a:lnTo>
                    <a:pt x="175" y="137"/>
                  </a:lnTo>
                  <a:lnTo>
                    <a:pt x="170" y="140"/>
                  </a:lnTo>
                  <a:lnTo>
                    <a:pt x="164" y="144"/>
                  </a:lnTo>
                  <a:lnTo>
                    <a:pt x="159" y="148"/>
                  </a:lnTo>
                  <a:lnTo>
                    <a:pt x="153" y="153"/>
                  </a:lnTo>
                  <a:lnTo>
                    <a:pt x="148" y="159"/>
                  </a:lnTo>
                  <a:lnTo>
                    <a:pt x="145" y="164"/>
                  </a:lnTo>
                  <a:lnTo>
                    <a:pt x="141" y="171"/>
                  </a:lnTo>
                  <a:lnTo>
                    <a:pt x="138" y="177"/>
                  </a:lnTo>
                  <a:lnTo>
                    <a:pt x="136" y="184"/>
                  </a:lnTo>
                  <a:lnTo>
                    <a:pt x="135" y="190"/>
                  </a:lnTo>
                  <a:lnTo>
                    <a:pt x="134" y="198"/>
                  </a:lnTo>
                  <a:lnTo>
                    <a:pt x="133" y="205"/>
                  </a:lnTo>
                  <a:lnTo>
                    <a:pt x="134" y="213"/>
                  </a:lnTo>
                  <a:lnTo>
                    <a:pt x="135" y="220"/>
                  </a:lnTo>
                  <a:lnTo>
                    <a:pt x="136" y="227"/>
                  </a:lnTo>
                  <a:lnTo>
                    <a:pt x="138" y="233"/>
                  </a:lnTo>
                  <a:lnTo>
                    <a:pt x="140" y="240"/>
                  </a:lnTo>
                  <a:lnTo>
                    <a:pt x="145" y="246"/>
                  </a:lnTo>
                  <a:lnTo>
                    <a:pt x="148" y="252"/>
                  </a:lnTo>
                  <a:lnTo>
                    <a:pt x="153" y="257"/>
                  </a:lnTo>
                  <a:lnTo>
                    <a:pt x="158" y="261"/>
                  </a:lnTo>
                  <a:lnTo>
                    <a:pt x="163" y="266"/>
                  </a:lnTo>
                  <a:lnTo>
                    <a:pt x="168" y="269"/>
                  </a:lnTo>
                  <a:lnTo>
                    <a:pt x="175" y="272"/>
                  </a:lnTo>
                  <a:lnTo>
                    <a:pt x="181" y="274"/>
                  </a:lnTo>
                  <a:lnTo>
                    <a:pt x="188" y="276"/>
                  </a:lnTo>
                  <a:lnTo>
                    <a:pt x="194" y="277"/>
                  </a:lnTo>
                  <a:lnTo>
                    <a:pt x="201" y="277"/>
                  </a:lnTo>
                  <a:lnTo>
                    <a:pt x="208" y="277"/>
                  </a:lnTo>
                  <a:lnTo>
                    <a:pt x="215" y="276"/>
                  </a:lnTo>
                  <a:lnTo>
                    <a:pt x="221" y="274"/>
                  </a:lnTo>
                  <a:lnTo>
                    <a:pt x="227" y="272"/>
                  </a:lnTo>
                  <a:lnTo>
                    <a:pt x="233" y="269"/>
                  </a:lnTo>
                  <a:lnTo>
                    <a:pt x="239" y="266"/>
                  </a:lnTo>
                  <a:lnTo>
                    <a:pt x="244" y="261"/>
                  </a:lnTo>
                  <a:lnTo>
                    <a:pt x="250" y="256"/>
                  </a:lnTo>
                  <a:lnTo>
                    <a:pt x="254" y="250"/>
                  </a:lnTo>
                  <a:lnTo>
                    <a:pt x="258" y="245"/>
                  </a:lnTo>
                  <a:lnTo>
                    <a:pt x="261" y="240"/>
                  </a:lnTo>
                  <a:lnTo>
                    <a:pt x="264" y="233"/>
                  </a:lnTo>
                  <a:lnTo>
                    <a:pt x="266" y="227"/>
                  </a:lnTo>
                  <a:lnTo>
                    <a:pt x="268" y="219"/>
                  </a:lnTo>
                  <a:lnTo>
                    <a:pt x="269" y="213"/>
                  </a:lnTo>
                  <a:lnTo>
                    <a:pt x="269" y="205"/>
                  </a:lnTo>
                  <a:lnTo>
                    <a:pt x="269" y="198"/>
                  </a:lnTo>
                  <a:lnTo>
                    <a:pt x="268" y="191"/>
                  </a:lnTo>
                  <a:lnTo>
                    <a:pt x="266" y="184"/>
                  </a:lnTo>
                  <a:lnTo>
                    <a:pt x="264" y="177"/>
                  </a:lnTo>
                  <a:lnTo>
                    <a:pt x="261" y="171"/>
                  </a:lnTo>
                  <a:lnTo>
                    <a:pt x="258" y="165"/>
                  </a:lnTo>
                  <a:lnTo>
                    <a:pt x="254" y="159"/>
                  </a:lnTo>
                  <a:lnTo>
                    <a:pt x="250" y="153"/>
                  </a:lnTo>
                  <a:lnTo>
                    <a:pt x="244" y="149"/>
                  </a:lnTo>
                  <a:lnTo>
                    <a:pt x="239" y="145"/>
                  </a:lnTo>
                  <a:lnTo>
                    <a:pt x="233" y="140"/>
                  </a:lnTo>
                  <a:lnTo>
                    <a:pt x="227" y="137"/>
                  </a:lnTo>
                  <a:lnTo>
                    <a:pt x="221" y="135"/>
                  </a:lnTo>
                  <a:lnTo>
                    <a:pt x="215" y="134"/>
                  </a:lnTo>
                  <a:lnTo>
                    <a:pt x="208" y="133"/>
                  </a:lnTo>
                  <a:lnTo>
                    <a:pt x="201" y="132"/>
                  </a:lnTo>
                  <a:close/>
                  <a:moveTo>
                    <a:pt x="201" y="0"/>
                  </a:moveTo>
                  <a:lnTo>
                    <a:pt x="221" y="1"/>
                  </a:lnTo>
                  <a:lnTo>
                    <a:pt x="242" y="4"/>
                  </a:lnTo>
                  <a:lnTo>
                    <a:pt x="260" y="9"/>
                  </a:lnTo>
                  <a:lnTo>
                    <a:pt x="279" y="15"/>
                  </a:lnTo>
                  <a:lnTo>
                    <a:pt x="296" y="24"/>
                  </a:lnTo>
                  <a:lnTo>
                    <a:pt x="312" y="34"/>
                  </a:lnTo>
                  <a:lnTo>
                    <a:pt x="329" y="46"/>
                  </a:lnTo>
                  <a:lnTo>
                    <a:pt x="344" y="60"/>
                  </a:lnTo>
                  <a:lnTo>
                    <a:pt x="358" y="76"/>
                  </a:lnTo>
                  <a:lnTo>
                    <a:pt x="370" y="92"/>
                  </a:lnTo>
                  <a:lnTo>
                    <a:pt x="380" y="109"/>
                  </a:lnTo>
                  <a:lnTo>
                    <a:pt x="388" y="127"/>
                  </a:lnTo>
                  <a:lnTo>
                    <a:pt x="394" y="146"/>
                  </a:lnTo>
                  <a:lnTo>
                    <a:pt x="399" y="164"/>
                  </a:lnTo>
                  <a:lnTo>
                    <a:pt x="402" y="185"/>
                  </a:lnTo>
                  <a:lnTo>
                    <a:pt x="403" y="205"/>
                  </a:lnTo>
                  <a:lnTo>
                    <a:pt x="402" y="226"/>
                  </a:lnTo>
                  <a:lnTo>
                    <a:pt x="400" y="246"/>
                  </a:lnTo>
                  <a:lnTo>
                    <a:pt x="394" y="266"/>
                  </a:lnTo>
                  <a:lnTo>
                    <a:pt x="388" y="284"/>
                  </a:lnTo>
                  <a:lnTo>
                    <a:pt x="380" y="301"/>
                  </a:lnTo>
                  <a:lnTo>
                    <a:pt x="370" y="319"/>
                  </a:lnTo>
                  <a:lnTo>
                    <a:pt x="358" y="335"/>
                  </a:lnTo>
                  <a:lnTo>
                    <a:pt x="345" y="350"/>
                  </a:lnTo>
                  <a:lnTo>
                    <a:pt x="330" y="364"/>
                  </a:lnTo>
                  <a:lnTo>
                    <a:pt x="313" y="376"/>
                  </a:lnTo>
                  <a:lnTo>
                    <a:pt x="297" y="387"/>
                  </a:lnTo>
                  <a:lnTo>
                    <a:pt x="279" y="395"/>
                  </a:lnTo>
                  <a:lnTo>
                    <a:pt x="261" y="402"/>
                  </a:lnTo>
                  <a:lnTo>
                    <a:pt x="242" y="406"/>
                  </a:lnTo>
                  <a:lnTo>
                    <a:pt x="221" y="409"/>
                  </a:lnTo>
                  <a:lnTo>
                    <a:pt x="201" y="409"/>
                  </a:lnTo>
                  <a:lnTo>
                    <a:pt x="180" y="409"/>
                  </a:lnTo>
                  <a:lnTo>
                    <a:pt x="161" y="406"/>
                  </a:lnTo>
                  <a:lnTo>
                    <a:pt x="141" y="402"/>
                  </a:lnTo>
                  <a:lnTo>
                    <a:pt x="123" y="395"/>
                  </a:lnTo>
                  <a:lnTo>
                    <a:pt x="106" y="387"/>
                  </a:lnTo>
                  <a:lnTo>
                    <a:pt x="90" y="376"/>
                  </a:lnTo>
                  <a:lnTo>
                    <a:pt x="73" y="364"/>
                  </a:lnTo>
                  <a:lnTo>
                    <a:pt x="58" y="350"/>
                  </a:lnTo>
                  <a:lnTo>
                    <a:pt x="44" y="335"/>
                  </a:lnTo>
                  <a:lnTo>
                    <a:pt x="32" y="319"/>
                  </a:lnTo>
                  <a:lnTo>
                    <a:pt x="22" y="301"/>
                  </a:lnTo>
                  <a:lnTo>
                    <a:pt x="14" y="284"/>
                  </a:lnTo>
                  <a:lnTo>
                    <a:pt x="7" y="266"/>
                  </a:lnTo>
                  <a:lnTo>
                    <a:pt x="3" y="246"/>
                  </a:lnTo>
                  <a:lnTo>
                    <a:pt x="0" y="226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3" y="164"/>
                  </a:lnTo>
                  <a:lnTo>
                    <a:pt x="7" y="145"/>
                  </a:lnTo>
                  <a:lnTo>
                    <a:pt x="14" y="126"/>
                  </a:lnTo>
                  <a:lnTo>
                    <a:pt x="22" y="109"/>
                  </a:lnTo>
                  <a:lnTo>
                    <a:pt x="32" y="92"/>
                  </a:lnTo>
                  <a:lnTo>
                    <a:pt x="44" y="76"/>
                  </a:lnTo>
                  <a:lnTo>
                    <a:pt x="58" y="60"/>
                  </a:lnTo>
                  <a:lnTo>
                    <a:pt x="73" y="46"/>
                  </a:lnTo>
                  <a:lnTo>
                    <a:pt x="90" y="34"/>
                  </a:lnTo>
                  <a:lnTo>
                    <a:pt x="106" y="24"/>
                  </a:lnTo>
                  <a:lnTo>
                    <a:pt x="124" y="15"/>
                  </a:lnTo>
                  <a:lnTo>
                    <a:pt x="141" y="9"/>
                  </a:lnTo>
                  <a:lnTo>
                    <a:pt x="161" y="4"/>
                  </a:lnTo>
                  <a:lnTo>
                    <a:pt x="180" y="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41720" y="974160"/>
              <a:ext cx="418320" cy="312120"/>
            </a:xfrm>
            <a:custGeom>
              <a:avLst/>
              <a:gdLst/>
              <a:ahLst/>
              <a:rect l="l" t="t" r="r" b="b"/>
              <a:pathLst>
                <a:path w="544" h="402">
                  <a:moveTo>
                    <a:pt x="0" y="402"/>
                  </a:moveTo>
                  <a:lnTo>
                    <a:pt x="0" y="6"/>
                  </a:lnTo>
                  <a:lnTo>
                    <a:pt x="127" y="6"/>
                  </a:lnTo>
                  <a:lnTo>
                    <a:pt x="127" y="49"/>
                  </a:lnTo>
                  <a:lnTo>
                    <a:pt x="131" y="43"/>
                  </a:lnTo>
                  <a:lnTo>
                    <a:pt x="136" y="38"/>
                  </a:lnTo>
                  <a:lnTo>
                    <a:pt x="142" y="32"/>
                  </a:lnTo>
                  <a:lnTo>
                    <a:pt x="147" y="28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6"/>
                  </a:lnTo>
                  <a:lnTo>
                    <a:pt x="171" y="13"/>
                  </a:lnTo>
                  <a:lnTo>
                    <a:pt x="178" y="10"/>
                  </a:lnTo>
                  <a:lnTo>
                    <a:pt x="184" y="8"/>
                  </a:lnTo>
                  <a:lnTo>
                    <a:pt x="191" y="5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0" y="1"/>
                  </a:lnTo>
                  <a:lnTo>
                    <a:pt x="248" y="2"/>
                  </a:lnTo>
                  <a:lnTo>
                    <a:pt x="254" y="3"/>
                  </a:lnTo>
                  <a:lnTo>
                    <a:pt x="261" y="5"/>
                  </a:lnTo>
                  <a:lnTo>
                    <a:pt x="267" y="8"/>
                  </a:lnTo>
                  <a:lnTo>
                    <a:pt x="274" y="10"/>
                  </a:lnTo>
                  <a:lnTo>
                    <a:pt x="280" y="13"/>
                  </a:lnTo>
                  <a:lnTo>
                    <a:pt x="286" y="16"/>
                  </a:lnTo>
                  <a:lnTo>
                    <a:pt x="291" y="21"/>
                  </a:lnTo>
                  <a:lnTo>
                    <a:pt x="297" y="25"/>
                  </a:lnTo>
                  <a:lnTo>
                    <a:pt x="301" y="29"/>
                  </a:lnTo>
                  <a:lnTo>
                    <a:pt x="306" y="35"/>
                  </a:lnTo>
                  <a:lnTo>
                    <a:pt x="311" y="40"/>
                  </a:lnTo>
                  <a:lnTo>
                    <a:pt x="315" y="46"/>
                  </a:lnTo>
                  <a:lnTo>
                    <a:pt x="319" y="53"/>
                  </a:lnTo>
                  <a:lnTo>
                    <a:pt x="326" y="46"/>
                  </a:lnTo>
                  <a:lnTo>
                    <a:pt x="331" y="40"/>
                  </a:lnTo>
                  <a:lnTo>
                    <a:pt x="338" y="35"/>
                  </a:lnTo>
                  <a:lnTo>
                    <a:pt x="343" y="30"/>
                  </a:lnTo>
                  <a:lnTo>
                    <a:pt x="350" y="25"/>
                  </a:lnTo>
                  <a:lnTo>
                    <a:pt x="356" y="21"/>
                  </a:lnTo>
                  <a:lnTo>
                    <a:pt x="364" y="17"/>
                  </a:lnTo>
                  <a:lnTo>
                    <a:pt x="370" y="14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392" y="5"/>
                  </a:lnTo>
                  <a:lnTo>
                    <a:pt x="399" y="3"/>
                  </a:lnTo>
                  <a:lnTo>
                    <a:pt x="407" y="2"/>
                  </a:lnTo>
                  <a:lnTo>
                    <a:pt x="414" y="1"/>
                  </a:lnTo>
                  <a:lnTo>
                    <a:pt x="423" y="0"/>
                  </a:lnTo>
                  <a:lnTo>
                    <a:pt x="431" y="0"/>
                  </a:lnTo>
                  <a:lnTo>
                    <a:pt x="444" y="1"/>
                  </a:lnTo>
                  <a:lnTo>
                    <a:pt x="457" y="2"/>
                  </a:lnTo>
                  <a:lnTo>
                    <a:pt x="468" y="5"/>
                  </a:lnTo>
                  <a:lnTo>
                    <a:pt x="479" y="9"/>
                  </a:lnTo>
                  <a:lnTo>
                    <a:pt x="489" y="14"/>
                  </a:lnTo>
                  <a:lnTo>
                    <a:pt x="499" y="19"/>
                  </a:lnTo>
                  <a:lnTo>
                    <a:pt x="507" y="27"/>
                  </a:lnTo>
                  <a:lnTo>
                    <a:pt x="515" y="35"/>
                  </a:lnTo>
                  <a:lnTo>
                    <a:pt x="521" y="43"/>
                  </a:lnTo>
                  <a:lnTo>
                    <a:pt x="528" y="54"/>
                  </a:lnTo>
                  <a:lnTo>
                    <a:pt x="532" y="65"/>
                  </a:lnTo>
                  <a:lnTo>
                    <a:pt x="537" y="77"/>
                  </a:lnTo>
                  <a:lnTo>
                    <a:pt x="540" y="90"/>
                  </a:lnTo>
                  <a:lnTo>
                    <a:pt x="542" y="104"/>
                  </a:lnTo>
                  <a:lnTo>
                    <a:pt x="543" y="119"/>
                  </a:lnTo>
                  <a:lnTo>
                    <a:pt x="544" y="135"/>
                  </a:lnTo>
                  <a:lnTo>
                    <a:pt x="544" y="402"/>
                  </a:lnTo>
                  <a:lnTo>
                    <a:pt x="415" y="402"/>
                  </a:lnTo>
                  <a:lnTo>
                    <a:pt x="415" y="192"/>
                  </a:lnTo>
                  <a:lnTo>
                    <a:pt x="415" y="184"/>
                  </a:lnTo>
                  <a:lnTo>
                    <a:pt x="414" y="176"/>
                  </a:lnTo>
                  <a:lnTo>
                    <a:pt x="414" y="170"/>
                  </a:lnTo>
                  <a:lnTo>
                    <a:pt x="413" y="163"/>
                  </a:lnTo>
                  <a:lnTo>
                    <a:pt x="412" y="158"/>
                  </a:lnTo>
                  <a:lnTo>
                    <a:pt x="410" y="152"/>
                  </a:lnTo>
                  <a:lnTo>
                    <a:pt x="409" y="148"/>
                  </a:lnTo>
                  <a:lnTo>
                    <a:pt x="407" y="145"/>
                  </a:lnTo>
                  <a:lnTo>
                    <a:pt x="405" y="141"/>
                  </a:lnTo>
                  <a:lnTo>
                    <a:pt x="402" y="139"/>
                  </a:lnTo>
                  <a:lnTo>
                    <a:pt x="399" y="137"/>
                  </a:lnTo>
                  <a:lnTo>
                    <a:pt x="396" y="135"/>
                  </a:lnTo>
                  <a:lnTo>
                    <a:pt x="392" y="134"/>
                  </a:lnTo>
                  <a:lnTo>
                    <a:pt x="387" y="133"/>
                  </a:lnTo>
                  <a:lnTo>
                    <a:pt x="383" y="132"/>
                  </a:lnTo>
                  <a:lnTo>
                    <a:pt x="379" y="132"/>
                  </a:lnTo>
                  <a:lnTo>
                    <a:pt x="373" y="132"/>
                  </a:lnTo>
                  <a:lnTo>
                    <a:pt x="369" y="133"/>
                  </a:lnTo>
                  <a:lnTo>
                    <a:pt x="365" y="134"/>
                  </a:lnTo>
                  <a:lnTo>
                    <a:pt x="360" y="136"/>
                  </a:lnTo>
                  <a:lnTo>
                    <a:pt x="357" y="138"/>
                  </a:lnTo>
                  <a:lnTo>
                    <a:pt x="353" y="140"/>
                  </a:lnTo>
                  <a:lnTo>
                    <a:pt x="351" y="144"/>
                  </a:lnTo>
                  <a:lnTo>
                    <a:pt x="347" y="147"/>
                  </a:lnTo>
                  <a:lnTo>
                    <a:pt x="345" y="151"/>
                  </a:lnTo>
                  <a:lnTo>
                    <a:pt x="343" y="157"/>
                  </a:lnTo>
                  <a:lnTo>
                    <a:pt x="341" y="161"/>
                  </a:lnTo>
                  <a:lnTo>
                    <a:pt x="340" y="166"/>
                  </a:lnTo>
                  <a:lnTo>
                    <a:pt x="338" y="173"/>
                  </a:lnTo>
                  <a:lnTo>
                    <a:pt x="338" y="178"/>
                  </a:lnTo>
                  <a:lnTo>
                    <a:pt x="337" y="186"/>
                  </a:lnTo>
                  <a:lnTo>
                    <a:pt x="337" y="192"/>
                  </a:lnTo>
                  <a:lnTo>
                    <a:pt x="337" y="402"/>
                  </a:lnTo>
                  <a:lnTo>
                    <a:pt x="208" y="402"/>
                  </a:lnTo>
                  <a:lnTo>
                    <a:pt x="208" y="192"/>
                  </a:lnTo>
                  <a:lnTo>
                    <a:pt x="208" y="184"/>
                  </a:lnTo>
                  <a:lnTo>
                    <a:pt x="208" y="176"/>
                  </a:lnTo>
                  <a:lnTo>
                    <a:pt x="207" y="170"/>
                  </a:lnTo>
                  <a:lnTo>
                    <a:pt x="206" y="163"/>
                  </a:lnTo>
                  <a:lnTo>
                    <a:pt x="205" y="158"/>
                  </a:lnTo>
                  <a:lnTo>
                    <a:pt x="204" y="152"/>
                  </a:lnTo>
                  <a:lnTo>
                    <a:pt x="201" y="148"/>
                  </a:lnTo>
                  <a:lnTo>
                    <a:pt x="199" y="145"/>
                  </a:lnTo>
                  <a:lnTo>
                    <a:pt x="197" y="141"/>
                  </a:lnTo>
                  <a:lnTo>
                    <a:pt x="195" y="139"/>
                  </a:lnTo>
                  <a:lnTo>
                    <a:pt x="192" y="137"/>
                  </a:lnTo>
                  <a:lnTo>
                    <a:pt x="188" y="135"/>
                  </a:lnTo>
                  <a:lnTo>
                    <a:pt x="184" y="134"/>
                  </a:lnTo>
                  <a:lnTo>
                    <a:pt x="181" y="133"/>
                  </a:lnTo>
                  <a:lnTo>
                    <a:pt x="175" y="132"/>
                  </a:lnTo>
                  <a:lnTo>
                    <a:pt x="171" y="132"/>
                  </a:lnTo>
                  <a:lnTo>
                    <a:pt x="166" y="132"/>
                  </a:lnTo>
                  <a:lnTo>
                    <a:pt x="161" y="133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38"/>
                  </a:lnTo>
                  <a:lnTo>
                    <a:pt x="146" y="140"/>
                  </a:lnTo>
                  <a:lnTo>
                    <a:pt x="143" y="144"/>
                  </a:lnTo>
                  <a:lnTo>
                    <a:pt x="140" y="147"/>
                  </a:lnTo>
                  <a:lnTo>
                    <a:pt x="138" y="151"/>
                  </a:lnTo>
                  <a:lnTo>
                    <a:pt x="135" y="157"/>
                  </a:lnTo>
                  <a:lnTo>
                    <a:pt x="133" y="161"/>
                  </a:lnTo>
                  <a:lnTo>
                    <a:pt x="132" y="166"/>
                  </a:lnTo>
                  <a:lnTo>
                    <a:pt x="131" y="173"/>
                  </a:lnTo>
                  <a:lnTo>
                    <a:pt x="130" y="178"/>
                  </a:lnTo>
                  <a:lnTo>
                    <a:pt x="130" y="186"/>
                  </a:lnTo>
                  <a:lnTo>
                    <a:pt x="129" y="192"/>
                  </a:lnTo>
                  <a:lnTo>
                    <a:pt x="129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4028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23" h="403">
                  <a:moveTo>
                    <a:pt x="10" y="397"/>
                  </a:moveTo>
                  <a:lnTo>
                    <a:pt x="10" y="272"/>
                  </a:lnTo>
                  <a:lnTo>
                    <a:pt x="12" y="273"/>
                  </a:lnTo>
                  <a:lnTo>
                    <a:pt x="15" y="274"/>
                  </a:lnTo>
                  <a:lnTo>
                    <a:pt x="17" y="276"/>
                  </a:lnTo>
                  <a:lnTo>
                    <a:pt x="21" y="277"/>
                  </a:lnTo>
                  <a:lnTo>
                    <a:pt x="23" y="278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0" y="280"/>
                  </a:lnTo>
                  <a:lnTo>
                    <a:pt x="33" y="281"/>
                  </a:lnTo>
                  <a:lnTo>
                    <a:pt x="35" y="281"/>
                  </a:lnTo>
                  <a:lnTo>
                    <a:pt x="37" y="281"/>
                  </a:lnTo>
                  <a:lnTo>
                    <a:pt x="39" y="282"/>
                  </a:lnTo>
                  <a:lnTo>
                    <a:pt x="41" y="282"/>
                  </a:lnTo>
                  <a:lnTo>
                    <a:pt x="43" y="282"/>
                  </a:lnTo>
                  <a:lnTo>
                    <a:pt x="46" y="282"/>
                  </a:lnTo>
                  <a:lnTo>
                    <a:pt x="48" y="282"/>
                  </a:lnTo>
                  <a:lnTo>
                    <a:pt x="51" y="282"/>
                  </a:lnTo>
                  <a:lnTo>
                    <a:pt x="55" y="282"/>
                  </a:lnTo>
                  <a:lnTo>
                    <a:pt x="59" y="281"/>
                  </a:lnTo>
                  <a:lnTo>
                    <a:pt x="62" y="281"/>
                  </a:lnTo>
                  <a:lnTo>
                    <a:pt x="64" y="280"/>
                  </a:lnTo>
                  <a:lnTo>
                    <a:pt x="67" y="278"/>
                  </a:lnTo>
                  <a:lnTo>
                    <a:pt x="69" y="277"/>
                  </a:lnTo>
                  <a:lnTo>
                    <a:pt x="72" y="276"/>
                  </a:lnTo>
                  <a:lnTo>
                    <a:pt x="74" y="273"/>
                  </a:lnTo>
                  <a:lnTo>
                    <a:pt x="76" y="271"/>
                  </a:lnTo>
                  <a:lnTo>
                    <a:pt x="77" y="269"/>
                  </a:lnTo>
                  <a:lnTo>
                    <a:pt x="79" y="267"/>
                  </a:lnTo>
                  <a:lnTo>
                    <a:pt x="79" y="264"/>
                  </a:lnTo>
                  <a:lnTo>
                    <a:pt x="80" y="262"/>
                  </a:lnTo>
                  <a:lnTo>
                    <a:pt x="80" y="259"/>
                  </a:lnTo>
                  <a:lnTo>
                    <a:pt x="81" y="256"/>
                  </a:lnTo>
                  <a:lnTo>
                    <a:pt x="80" y="252"/>
                  </a:lnTo>
                  <a:lnTo>
                    <a:pt x="79" y="247"/>
                  </a:lnTo>
                  <a:lnTo>
                    <a:pt x="76" y="242"/>
                  </a:lnTo>
                  <a:lnTo>
                    <a:pt x="73" y="237"/>
                  </a:lnTo>
                  <a:lnTo>
                    <a:pt x="68" y="231"/>
                  </a:lnTo>
                  <a:lnTo>
                    <a:pt x="63" y="225"/>
                  </a:lnTo>
                  <a:lnTo>
                    <a:pt x="55" y="218"/>
                  </a:lnTo>
                  <a:lnTo>
                    <a:pt x="48" y="211"/>
                  </a:lnTo>
                  <a:lnTo>
                    <a:pt x="47" y="209"/>
                  </a:lnTo>
                  <a:lnTo>
                    <a:pt x="44" y="208"/>
                  </a:lnTo>
                  <a:lnTo>
                    <a:pt x="42" y="205"/>
                  </a:lnTo>
                  <a:lnTo>
                    <a:pt x="41" y="204"/>
                  </a:lnTo>
                  <a:lnTo>
                    <a:pt x="39" y="203"/>
                  </a:lnTo>
                  <a:lnTo>
                    <a:pt x="38" y="201"/>
                  </a:lnTo>
                  <a:lnTo>
                    <a:pt x="37" y="200"/>
                  </a:lnTo>
                  <a:lnTo>
                    <a:pt x="36" y="199"/>
                  </a:lnTo>
                  <a:lnTo>
                    <a:pt x="32" y="195"/>
                  </a:lnTo>
                  <a:lnTo>
                    <a:pt x="27" y="190"/>
                  </a:lnTo>
                  <a:lnTo>
                    <a:pt x="23" y="186"/>
                  </a:lnTo>
                  <a:lnTo>
                    <a:pt x="20" y="182"/>
                  </a:lnTo>
                  <a:lnTo>
                    <a:pt x="16" y="177"/>
                  </a:lnTo>
                  <a:lnTo>
                    <a:pt x="14" y="172"/>
                  </a:lnTo>
                  <a:lnTo>
                    <a:pt x="11" y="168"/>
                  </a:lnTo>
                  <a:lnTo>
                    <a:pt x="9" y="162"/>
                  </a:lnTo>
                  <a:lnTo>
                    <a:pt x="7" y="158"/>
                  </a:lnTo>
                  <a:lnTo>
                    <a:pt x="4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1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6" y="81"/>
                  </a:lnTo>
                  <a:lnTo>
                    <a:pt x="10" y="70"/>
                  </a:lnTo>
                  <a:lnTo>
                    <a:pt x="15" y="60"/>
                  </a:lnTo>
                  <a:lnTo>
                    <a:pt x="23" y="50"/>
                  </a:lnTo>
                  <a:lnTo>
                    <a:pt x="30" y="41"/>
                  </a:lnTo>
                  <a:lnTo>
                    <a:pt x="40" y="33"/>
                  </a:lnTo>
                  <a:lnTo>
                    <a:pt x="51" y="25"/>
                  </a:lnTo>
                  <a:lnTo>
                    <a:pt x="63" y="19"/>
                  </a:lnTo>
                  <a:lnTo>
                    <a:pt x="75" y="13"/>
                  </a:lnTo>
                  <a:lnTo>
                    <a:pt x="89" y="9"/>
                  </a:lnTo>
                  <a:lnTo>
                    <a:pt x="103" y="6"/>
                  </a:lnTo>
                  <a:lnTo>
                    <a:pt x="119" y="2"/>
                  </a:lnTo>
                  <a:lnTo>
                    <a:pt x="135" y="1"/>
                  </a:lnTo>
                  <a:lnTo>
                    <a:pt x="153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8" y="1"/>
                  </a:lnTo>
                  <a:lnTo>
                    <a:pt x="181" y="2"/>
                  </a:lnTo>
                  <a:lnTo>
                    <a:pt x="185" y="2"/>
                  </a:lnTo>
                  <a:lnTo>
                    <a:pt x="188" y="3"/>
                  </a:lnTo>
                  <a:lnTo>
                    <a:pt x="193" y="3"/>
                  </a:lnTo>
                  <a:lnTo>
                    <a:pt x="197" y="4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09" y="6"/>
                  </a:lnTo>
                  <a:lnTo>
                    <a:pt x="213" y="7"/>
                  </a:lnTo>
                  <a:lnTo>
                    <a:pt x="213" y="123"/>
                  </a:lnTo>
                  <a:lnTo>
                    <a:pt x="210" y="122"/>
                  </a:lnTo>
                  <a:lnTo>
                    <a:pt x="208" y="120"/>
                  </a:lnTo>
                  <a:lnTo>
                    <a:pt x="205" y="119"/>
                  </a:lnTo>
                  <a:lnTo>
                    <a:pt x="201" y="118"/>
                  </a:lnTo>
                  <a:lnTo>
                    <a:pt x="199" y="117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5" y="114"/>
                  </a:lnTo>
                  <a:lnTo>
                    <a:pt x="183" y="114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4" y="112"/>
                  </a:lnTo>
                  <a:lnTo>
                    <a:pt x="172" y="112"/>
                  </a:lnTo>
                  <a:lnTo>
                    <a:pt x="170" y="112"/>
                  </a:lnTo>
                  <a:lnTo>
                    <a:pt x="166" y="112"/>
                  </a:lnTo>
                  <a:lnTo>
                    <a:pt x="162" y="112"/>
                  </a:lnTo>
                  <a:lnTo>
                    <a:pt x="159" y="114"/>
                  </a:lnTo>
                  <a:lnTo>
                    <a:pt x="157" y="114"/>
                  </a:lnTo>
                  <a:lnTo>
                    <a:pt x="154" y="115"/>
                  </a:lnTo>
                  <a:lnTo>
                    <a:pt x="152" y="116"/>
                  </a:lnTo>
                  <a:lnTo>
                    <a:pt x="148" y="117"/>
                  </a:lnTo>
                  <a:lnTo>
                    <a:pt x="146" y="118"/>
                  </a:lnTo>
                  <a:lnTo>
                    <a:pt x="144" y="120"/>
                  </a:lnTo>
                  <a:lnTo>
                    <a:pt x="143" y="122"/>
                  </a:lnTo>
                  <a:lnTo>
                    <a:pt x="142" y="123"/>
                  </a:lnTo>
                  <a:lnTo>
                    <a:pt x="140" y="125"/>
                  </a:lnTo>
                  <a:lnTo>
                    <a:pt x="140" y="128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9" y="135"/>
                  </a:lnTo>
                  <a:lnTo>
                    <a:pt x="139" y="137"/>
                  </a:lnTo>
                  <a:lnTo>
                    <a:pt x="139" y="138"/>
                  </a:lnTo>
                  <a:lnTo>
                    <a:pt x="139" y="141"/>
                  </a:lnTo>
                  <a:lnTo>
                    <a:pt x="140" y="142"/>
                  </a:lnTo>
                  <a:lnTo>
                    <a:pt x="140" y="144"/>
                  </a:lnTo>
                  <a:lnTo>
                    <a:pt x="141" y="146"/>
                  </a:lnTo>
                  <a:lnTo>
                    <a:pt x="142" y="147"/>
                  </a:lnTo>
                  <a:lnTo>
                    <a:pt x="143" y="149"/>
                  </a:lnTo>
                  <a:lnTo>
                    <a:pt x="144" y="151"/>
                  </a:lnTo>
                  <a:lnTo>
                    <a:pt x="145" y="154"/>
                  </a:lnTo>
                  <a:lnTo>
                    <a:pt x="147" y="156"/>
                  </a:lnTo>
                  <a:lnTo>
                    <a:pt x="149" y="158"/>
                  </a:lnTo>
                  <a:lnTo>
                    <a:pt x="152" y="161"/>
                  </a:lnTo>
                  <a:lnTo>
                    <a:pt x="155" y="164"/>
                  </a:lnTo>
                  <a:lnTo>
                    <a:pt x="158" y="168"/>
                  </a:lnTo>
                  <a:lnTo>
                    <a:pt x="161" y="171"/>
                  </a:lnTo>
                  <a:lnTo>
                    <a:pt x="170" y="179"/>
                  </a:lnTo>
                  <a:lnTo>
                    <a:pt x="178" y="188"/>
                  </a:lnTo>
                  <a:lnTo>
                    <a:pt x="185" y="197"/>
                  </a:lnTo>
                  <a:lnTo>
                    <a:pt x="192" y="204"/>
                  </a:lnTo>
                  <a:lnTo>
                    <a:pt x="198" y="212"/>
                  </a:lnTo>
                  <a:lnTo>
                    <a:pt x="202" y="219"/>
                  </a:lnTo>
                  <a:lnTo>
                    <a:pt x="207" y="226"/>
                  </a:lnTo>
                  <a:lnTo>
                    <a:pt x="211" y="232"/>
                  </a:lnTo>
                  <a:lnTo>
                    <a:pt x="213" y="239"/>
                  </a:lnTo>
                  <a:lnTo>
                    <a:pt x="215" y="245"/>
                  </a:lnTo>
                  <a:lnTo>
                    <a:pt x="218" y="252"/>
                  </a:lnTo>
                  <a:lnTo>
                    <a:pt x="220" y="258"/>
                  </a:lnTo>
                  <a:lnTo>
                    <a:pt x="221" y="266"/>
                  </a:lnTo>
                  <a:lnTo>
                    <a:pt x="222" y="272"/>
                  </a:lnTo>
                  <a:lnTo>
                    <a:pt x="223" y="280"/>
                  </a:lnTo>
                  <a:lnTo>
                    <a:pt x="223" y="287"/>
                  </a:lnTo>
                  <a:lnTo>
                    <a:pt x="222" y="301"/>
                  </a:lnTo>
                  <a:lnTo>
                    <a:pt x="221" y="313"/>
                  </a:lnTo>
                  <a:lnTo>
                    <a:pt x="218" y="325"/>
                  </a:lnTo>
                  <a:lnTo>
                    <a:pt x="213" y="336"/>
                  </a:lnTo>
                  <a:lnTo>
                    <a:pt x="209" y="347"/>
                  </a:lnTo>
                  <a:lnTo>
                    <a:pt x="202" y="357"/>
                  </a:lnTo>
                  <a:lnTo>
                    <a:pt x="195" y="365"/>
                  </a:lnTo>
                  <a:lnTo>
                    <a:pt x="186" y="373"/>
                  </a:lnTo>
                  <a:lnTo>
                    <a:pt x="176" y="379"/>
                  </a:lnTo>
                  <a:lnTo>
                    <a:pt x="167" y="386"/>
                  </a:lnTo>
                  <a:lnTo>
                    <a:pt x="155" y="391"/>
                  </a:lnTo>
                  <a:lnTo>
                    <a:pt x="143" y="395"/>
                  </a:lnTo>
                  <a:lnTo>
                    <a:pt x="130" y="399"/>
                  </a:lnTo>
                  <a:lnTo>
                    <a:pt x="115" y="401"/>
                  </a:lnTo>
                  <a:lnTo>
                    <a:pt x="101" y="402"/>
                  </a:lnTo>
                  <a:lnTo>
                    <a:pt x="85" y="403"/>
                  </a:lnTo>
                  <a:lnTo>
                    <a:pt x="81" y="403"/>
                  </a:lnTo>
                  <a:lnTo>
                    <a:pt x="78" y="403"/>
                  </a:lnTo>
                  <a:lnTo>
                    <a:pt x="74" y="403"/>
                  </a:lnTo>
                  <a:lnTo>
                    <a:pt x="70" y="403"/>
                  </a:lnTo>
                  <a:lnTo>
                    <a:pt x="67" y="402"/>
                  </a:lnTo>
                  <a:lnTo>
                    <a:pt x="63" y="402"/>
                  </a:lnTo>
                  <a:lnTo>
                    <a:pt x="60" y="402"/>
                  </a:lnTo>
                  <a:lnTo>
                    <a:pt x="55" y="402"/>
                  </a:lnTo>
                  <a:lnTo>
                    <a:pt x="51" y="401"/>
                  </a:lnTo>
                  <a:lnTo>
                    <a:pt x="47" y="401"/>
                  </a:lnTo>
                  <a:lnTo>
                    <a:pt x="41" y="400"/>
                  </a:lnTo>
                  <a:lnTo>
                    <a:pt x="36" y="400"/>
                  </a:lnTo>
                  <a:lnTo>
                    <a:pt x="30" y="399"/>
                  </a:lnTo>
                  <a:lnTo>
                    <a:pt x="24" y="398"/>
                  </a:lnTo>
                  <a:lnTo>
                    <a:pt x="16" y="398"/>
                  </a:lnTo>
                  <a:lnTo>
                    <a:pt x="10" y="39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770800" y="854280"/>
              <a:ext cx="222480" cy="436680"/>
            </a:xfrm>
            <a:custGeom>
              <a:avLst/>
              <a:gdLst/>
              <a:ahLst/>
              <a:rect l="l" t="t" r="r" b="b"/>
              <a:pathLst>
                <a:path w="291" h="567">
                  <a:moveTo>
                    <a:pt x="10" y="561"/>
                  </a:moveTo>
                  <a:lnTo>
                    <a:pt x="7" y="409"/>
                  </a:lnTo>
                  <a:lnTo>
                    <a:pt x="11" y="411"/>
                  </a:lnTo>
                  <a:lnTo>
                    <a:pt x="14" y="412"/>
                  </a:lnTo>
                  <a:lnTo>
                    <a:pt x="19" y="414"/>
                  </a:lnTo>
                  <a:lnTo>
                    <a:pt x="23" y="415"/>
                  </a:lnTo>
                  <a:lnTo>
                    <a:pt x="26" y="416"/>
                  </a:lnTo>
                  <a:lnTo>
                    <a:pt x="31" y="417"/>
                  </a:lnTo>
                  <a:lnTo>
                    <a:pt x="34" y="418"/>
                  </a:lnTo>
                  <a:lnTo>
                    <a:pt x="37" y="419"/>
                  </a:lnTo>
                  <a:lnTo>
                    <a:pt x="41" y="421"/>
                  </a:lnTo>
                  <a:lnTo>
                    <a:pt x="45" y="421"/>
                  </a:lnTo>
                  <a:lnTo>
                    <a:pt x="48" y="422"/>
                  </a:lnTo>
                  <a:lnTo>
                    <a:pt x="52" y="422"/>
                  </a:lnTo>
                  <a:lnTo>
                    <a:pt x="56" y="423"/>
                  </a:lnTo>
                  <a:lnTo>
                    <a:pt x="59" y="423"/>
                  </a:lnTo>
                  <a:lnTo>
                    <a:pt x="62" y="423"/>
                  </a:lnTo>
                  <a:lnTo>
                    <a:pt x="65" y="423"/>
                  </a:lnTo>
                  <a:lnTo>
                    <a:pt x="72" y="423"/>
                  </a:lnTo>
                  <a:lnTo>
                    <a:pt x="77" y="422"/>
                  </a:lnTo>
                  <a:lnTo>
                    <a:pt x="83" y="422"/>
                  </a:lnTo>
                  <a:lnTo>
                    <a:pt x="87" y="419"/>
                  </a:lnTo>
                  <a:lnTo>
                    <a:pt x="91" y="418"/>
                  </a:lnTo>
                  <a:lnTo>
                    <a:pt x="97" y="416"/>
                  </a:lnTo>
                  <a:lnTo>
                    <a:pt x="100" y="413"/>
                  </a:lnTo>
                  <a:lnTo>
                    <a:pt x="104" y="411"/>
                  </a:lnTo>
                  <a:lnTo>
                    <a:pt x="107" y="408"/>
                  </a:lnTo>
                  <a:lnTo>
                    <a:pt x="111" y="404"/>
                  </a:lnTo>
                  <a:lnTo>
                    <a:pt x="114" y="400"/>
                  </a:lnTo>
                  <a:lnTo>
                    <a:pt x="115" y="397"/>
                  </a:lnTo>
                  <a:lnTo>
                    <a:pt x="117" y="392"/>
                  </a:lnTo>
                  <a:lnTo>
                    <a:pt x="118" y="388"/>
                  </a:lnTo>
                  <a:lnTo>
                    <a:pt x="119" y="384"/>
                  </a:lnTo>
                  <a:lnTo>
                    <a:pt x="119" y="379"/>
                  </a:lnTo>
                  <a:lnTo>
                    <a:pt x="118" y="373"/>
                  </a:lnTo>
                  <a:lnTo>
                    <a:pt x="117" y="367"/>
                  </a:lnTo>
                  <a:lnTo>
                    <a:pt x="114" y="360"/>
                  </a:lnTo>
                  <a:lnTo>
                    <a:pt x="110" y="352"/>
                  </a:lnTo>
                  <a:lnTo>
                    <a:pt x="103" y="344"/>
                  </a:lnTo>
                  <a:lnTo>
                    <a:pt x="97" y="335"/>
                  </a:lnTo>
                  <a:lnTo>
                    <a:pt x="88" y="327"/>
                  </a:lnTo>
                  <a:lnTo>
                    <a:pt x="78" y="318"/>
                  </a:lnTo>
                  <a:lnTo>
                    <a:pt x="75" y="315"/>
                  </a:lnTo>
                  <a:lnTo>
                    <a:pt x="72" y="311"/>
                  </a:lnTo>
                  <a:lnTo>
                    <a:pt x="69" y="309"/>
                  </a:lnTo>
                  <a:lnTo>
                    <a:pt x="66" y="306"/>
                  </a:lnTo>
                  <a:lnTo>
                    <a:pt x="63" y="304"/>
                  </a:lnTo>
                  <a:lnTo>
                    <a:pt x="61" y="302"/>
                  </a:lnTo>
                  <a:lnTo>
                    <a:pt x="59" y="300"/>
                  </a:lnTo>
                  <a:lnTo>
                    <a:pt x="57" y="297"/>
                  </a:lnTo>
                  <a:lnTo>
                    <a:pt x="50" y="290"/>
                  </a:lnTo>
                  <a:lnTo>
                    <a:pt x="44" y="282"/>
                  </a:lnTo>
                  <a:lnTo>
                    <a:pt x="37" y="275"/>
                  </a:lnTo>
                  <a:lnTo>
                    <a:pt x="32" y="267"/>
                  </a:lnTo>
                  <a:lnTo>
                    <a:pt x="26" y="260"/>
                  </a:lnTo>
                  <a:lnTo>
                    <a:pt x="22" y="252"/>
                  </a:lnTo>
                  <a:lnTo>
                    <a:pt x="18" y="244"/>
                  </a:lnTo>
                  <a:lnTo>
                    <a:pt x="13" y="237"/>
                  </a:lnTo>
                  <a:lnTo>
                    <a:pt x="10" y="229"/>
                  </a:lnTo>
                  <a:lnTo>
                    <a:pt x="8" y="221"/>
                  </a:lnTo>
                  <a:lnTo>
                    <a:pt x="6" y="213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0"/>
                  </a:lnTo>
                  <a:lnTo>
                    <a:pt x="0" y="152"/>
                  </a:lnTo>
                  <a:lnTo>
                    <a:pt x="4" y="134"/>
                  </a:lnTo>
                  <a:lnTo>
                    <a:pt x="7" y="118"/>
                  </a:lnTo>
                  <a:lnTo>
                    <a:pt x="13" y="102"/>
                  </a:lnTo>
                  <a:lnTo>
                    <a:pt x="20" y="88"/>
                  </a:lnTo>
                  <a:lnTo>
                    <a:pt x="30" y="74"/>
                  </a:lnTo>
                  <a:lnTo>
                    <a:pt x="39" y="61"/>
                  </a:lnTo>
                  <a:lnTo>
                    <a:pt x="52" y="48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6" y="19"/>
                  </a:lnTo>
                  <a:lnTo>
                    <a:pt x="112" y="12"/>
                  </a:lnTo>
                  <a:lnTo>
                    <a:pt x="129" y="7"/>
                  </a:lnTo>
                  <a:lnTo>
                    <a:pt x="147" y="4"/>
                  </a:lnTo>
                  <a:lnTo>
                    <a:pt x="166" y="1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3" y="3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40" y="5"/>
                  </a:lnTo>
                  <a:lnTo>
                    <a:pt x="246" y="6"/>
                  </a:lnTo>
                  <a:lnTo>
                    <a:pt x="252" y="7"/>
                  </a:lnTo>
                  <a:lnTo>
                    <a:pt x="258" y="8"/>
                  </a:lnTo>
                  <a:lnTo>
                    <a:pt x="263" y="9"/>
                  </a:lnTo>
                  <a:lnTo>
                    <a:pt x="269" y="11"/>
                  </a:lnTo>
                  <a:lnTo>
                    <a:pt x="274" y="12"/>
                  </a:lnTo>
                  <a:lnTo>
                    <a:pt x="279" y="14"/>
                  </a:lnTo>
                  <a:lnTo>
                    <a:pt x="279" y="151"/>
                  </a:lnTo>
                  <a:lnTo>
                    <a:pt x="274" y="148"/>
                  </a:lnTo>
                  <a:lnTo>
                    <a:pt x="270" y="146"/>
                  </a:lnTo>
                  <a:lnTo>
                    <a:pt x="265" y="144"/>
                  </a:lnTo>
                  <a:lnTo>
                    <a:pt x="261" y="143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9" y="139"/>
                  </a:lnTo>
                  <a:lnTo>
                    <a:pt x="246" y="136"/>
                  </a:lnTo>
                  <a:lnTo>
                    <a:pt x="242" y="136"/>
                  </a:lnTo>
                  <a:lnTo>
                    <a:pt x="238" y="135"/>
                  </a:lnTo>
                  <a:lnTo>
                    <a:pt x="234" y="134"/>
                  </a:lnTo>
                  <a:lnTo>
                    <a:pt x="231" y="133"/>
                  </a:lnTo>
                  <a:lnTo>
                    <a:pt x="228" y="133"/>
                  </a:lnTo>
                  <a:lnTo>
                    <a:pt x="224" y="133"/>
                  </a:lnTo>
                  <a:lnTo>
                    <a:pt x="221" y="132"/>
                  </a:lnTo>
                  <a:lnTo>
                    <a:pt x="218" y="132"/>
                  </a:lnTo>
                  <a:lnTo>
                    <a:pt x="211" y="132"/>
                  </a:lnTo>
                  <a:lnTo>
                    <a:pt x="205" y="133"/>
                  </a:lnTo>
                  <a:lnTo>
                    <a:pt x="199" y="134"/>
                  </a:lnTo>
                  <a:lnTo>
                    <a:pt x="194" y="135"/>
                  </a:lnTo>
                  <a:lnTo>
                    <a:pt x="189" y="136"/>
                  </a:lnTo>
                  <a:lnTo>
                    <a:pt x="184" y="139"/>
                  </a:lnTo>
                  <a:lnTo>
                    <a:pt x="180" y="141"/>
                  </a:lnTo>
                  <a:lnTo>
                    <a:pt x="177" y="144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68" y="154"/>
                  </a:lnTo>
                  <a:lnTo>
                    <a:pt x="166" y="157"/>
                  </a:lnTo>
                  <a:lnTo>
                    <a:pt x="164" y="161"/>
                  </a:lnTo>
                  <a:lnTo>
                    <a:pt x="163" y="166"/>
                  </a:lnTo>
                  <a:lnTo>
                    <a:pt x="163" y="171"/>
                  </a:lnTo>
                  <a:lnTo>
                    <a:pt x="162" y="175"/>
                  </a:lnTo>
                  <a:lnTo>
                    <a:pt x="163" y="182"/>
                  </a:lnTo>
                  <a:lnTo>
                    <a:pt x="165" y="188"/>
                  </a:lnTo>
                  <a:lnTo>
                    <a:pt x="167" y="195"/>
                  </a:lnTo>
                  <a:lnTo>
                    <a:pt x="171" y="201"/>
                  </a:lnTo>
                  <a:lnTo>
                    <a:pt x="178" y="208"/>
                  </a:lnTo>
                  <a:lnTo>
                    <a:pt x="184" y="215"/>
                  </a:lnTo>
                  <a:lnTo>
                    <a:pt x="192" y="223"/>
                  </a:lnTo>
                  <a:lnTo>
                    <a:pt x="202" y="230"/>
                  </a:lnTo>
                  <a:lnTo>
                    <a:pt x="205" y="234"/>
                  </a:lnTo>
                  <a:lnTo>
                    <a:pt x="209" y="236"/>
                  </a:lnTo>
                  <a:lnTo>
                    <a:pt x="212" y="239"/>
                  </a:lnTo>
                  <a:lnTo>
                    <a:pt x="216" y="241"/>
                  </a:lnTo>
                  <a:lnTo>
                    <a:pt x="218" y="244"/>
                  </a:lnTo>
                  <a:lnTo>
                    <a:pt x="221" y="247"/>
                  </a:lnTo>
                  <a:lnTo>
                    <a:pt x="223" y="249"/>
                  </a:lnTo>
                  <a:lnTo>
                    <a:pt x="225" y="251"/>
                  </a:lnTo>
                  <a:lnTo>
                    <a:pt x="234" y="257"/>
                  </a:lnTo>
                  <a:lnTo>
                    <a:pt x="240" y="265"/>
                  </a:lnTo>
                  <a:lnTo>
                    <a:pt x="248" y="273"/>
                  </a:lnTo>
                  <a:lnTo>
                    <a:pt x="253" y="280"/>
                  </a:lnTo>
                  <a:lnTo>
                    <a:pt x="260" y="289"/>
                  </a:lnTo>
                  <a:lnTo>
                    <a:pt x="265" y="296"/>
                  </a:lnTo>
                  <a:lnTo>
                    <a:pt x="270" y="305"/>
                  </a:lnTo>
                  <a:lnTo>
                    <a:pt x="275" y="315"/>
                  </a:lnTo>
                  <a:lnTo>
                    <a:pt x="278" y="323"/>
                  </a:lnTo>
                  <a:lnTo>
                    <a:pt x="282" y="333"/>
                  </a:lnTo>
                  <a:lnTo>
                    <a:pt x="285" y="342"/>
                  </a:lnTo>
                  <a:lnTo>
                    <a:pt x="287" y="351"/>
                  </a:lnTo>
                  <a:lnTo>
                    <a:pt x="289" y="361"/>
                  </a:lnTo>
                  <a:lnTo>
                    <a:pt x="290" y="371"/>
                  </a:lnTo>
                  <a:lnTo>
                    <a:pt x="291" y="382"/>
                  </a:lnTo>
                  <a:lnTo>
                    <a:pt x="291" y="391"/>
                  </a:lnTo>
                  <a:lnTo>
                    <a:pt x="290" y="412"/>
                  </a:lnTo>
                  <a:lnTo>
                    <a:pt x="288" y="430"/>
                  </a:lnTo>
                  <a:lnTo>
                    <a:pt x="284" y="449"/>
                  </a:lnTo>
                  <a:lnTo>
                    <a:pt x="277" y="465"/>
                  </a:lnTo>
                  <a:lnTo>
                    <a:pt x="270" y="480"/>
                  </a:lnTo>
                  <a:lnTo>
                    <a:pt x="260" y="495"/>
                  </a:lnTo>
                  <a:lnTo>
                    <a:pt x="249" y="508"/>
                  </a:lnTo>
                  <a:lnTo>
                    <a:pt x="236" y="521"/>
                  </a:lnTo>
                  <a:lnTo>
                    <a:pt x="222" y="532"/>
                  </a:lnTo>
                  <a:lnTo>
                    <a:pt x="207" y="541"/>
                  </a:lnTo>
                  <a:lnTo>
                    <a:pt x="190" y="549"/>
                  </a:lnTo>
                  <a:lnTo>
                    <a:pt x="171" y="556"/>
                  </a:lnTo>
                  <a:lnTo>
                    <a:pt x="152" y="561"/>
                  </a:lnTo>
                  <a:lnTo>
                    <a:pt x="130" y="564"/>
                  </a:lnTo>
                  <a:lnTo>
                    <a:pt x="109" y="566"/>
                  </a:lnTo>
                  <a:lnTo>
                    <a:pt x="85" y="567"/>
                  </a:lnTo>
                  <a:lnTo>
                    <a:pt x="79" y="567"/>
                  </a:lnTo>
                  <a:lnTo>
                    <a:pt x="75" y="567"/>
                  </a:lnTo>
                  <a:lnTo>
                    <a:pt x="70" y="567"/>
                  </a:lnTo>
                  <a:lnTo>
                    <a:pt x="65" y="567"/>
                  </a:lnTo>
                  <a:lnTo>
                    <a:pt x="60" y="566"/>
                  </a:lnTo>
                  <a:lnTo>
                    <a:pt x="56" y="566"/>
                  </a:lnTo>
                  <a:lnTo>
                    <a:pt x="51" y="566"/>
                  </a:lnTo>
                  <a:lnTo>
                    <a:pt x="46" y="565"/>
                  </a:lnTo>
                  <a:lnTo>
                    <a:pt x="41" y="565"/>
                  </a:lnTo>
                  <a:lnTo>
                    <a:pt x="37" y="564"/>
                  </a:lnTo>
                  <a:lnTo>
                    <a:pt x="33" y="564"/>
                  </a:lnTo>
                  <a:lnTo>
                    <a:pt x="29" y="563"/>
                  </a:lnTo>
                  <a:lnTo>
                    <a:pt x="24" y="563"/>
                  </a:lnTo>
                  <a:lnTo>
                    <a:pt x="19" y="562"/>
                  </a:lnTo>
                  <a:lnTo>
                    <a:pt x="14" y="561"/>
                  </a:lnTo>
                  <a:lnTo>
                    <a:pt x="10" y="5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027480" y="978480"/>
              <a:ext cx="245880" cy="312120"/>
            </a:xfrm>
            <a:custGeom>
              <a:avLst/>
              <a:gdLst/>
              <a:ahLst/>
              <a:rect l="l" t="t" r="r" b="b"/>
              <a:pathLst>
                <a:path w="322" h="404">
                  <a:moveTo>
                    <a:pt x="166" y="303"/>
                  </a:moveTo>
                  <a:lnTo>
                    <a:pt x="170" y="303"/>
                  </a:lnTo>
                  <a:lnTo>
                    <a:pt x="175" y="302"/>
                  </a:lnTo>
                  <a:lnTo>
                    <a:pt x="178" y="301"/>
                  </a:lnTo>
                  <a:lnTo>
                    <a:pt x="182" y="299"/>
                  </a:lnTo>
                  <a:lnTo>
                    <a:pt x="185" y="297"/>
                  </a:lnTo>
                  <a:lnTo>
                    <a:pt x="189" y="295"/>
                  </a:lnTo>
                  <a:lnTo>
                    <a:pt x="192" y="293"/>
                  </a:lnTo>
                  <a:lnTo>
                    <a:pt x="195" y="291"/>
                  </a:lnTo>
                  <a:lnTo>
                    <a:pt x="198" y="288"/>
                  </a:lnTo>
                  <a:lnTo>
                    <a:pt x="201" y="284"/>
                  </a:lnTo>
                  <a:lnTo>
                    <a:pt x="203" y="280"/>
                  </a:lnTo>
                  <a:lnTo>
                    <a:pt x="205" y="277"/>
                  </a:lnTo>
                  <a:lnTo>
                    <a:pt x="206" y="274"/>
                  </a:lnTo>
                  <a:lnTo>
                    <a:pt x="207" y="269"/>
                  </a:lnTo>
                  <a:lnTo>
                    <a:pt x="207" y="265"/>
                  </a:lnTo>
                  <a:lnTo>
                    <a:pt x="208" y="261"/>
                  </a:lnTo>
                  <a:lnTo>
                    <a:pt x="207" y="256"/>
                  </a:lnTo>
                  <a:lnTo>
                    <a:pt x="207" y="253"/>
                  </a:lnTo>
                  <a:lnTo>
                    <a:pt x="206" y="249"/>
                  </a:lnTo>
                  <a:lnTo>
                    <a:pt x="205" y="245"/>
                  </a:lnTo>
                  <a:lnTo>
                    <a:pt x="203" y="241"/>
                  </a:lnTo>
                  <a:lnTo>
                    <a:pt x="201" y="238"/>
                  </a:lnTo>
                  <a:lnTo>
                    <a:pt x="198" y="235"/>
                  </a:lnTo>
                  <a:lnTo>
                    <a:pt x="195" y="231"/>
                  </a:lnTo>
                  <a:lnTo>
                    <a:pt x="192" y="228"/>
                  </a:lnTo>
                  <a:lnTo>
                    <a:pt x="189" y="226"/>
                  </a:lnTo>
                  <a:lnTo>
                    <a:pt x="185" y="224"/>
                  </a:lnTo>
                  <a:lnTo>
                    <a:pt x="182" y="222"/>
                  </a:lnTo>
                  <a:lnTo>
                    <a:pt x="178" y="221"/>
                  </a:lnTo>
                  <a:lnTo>
                    <a:pt x="175" y="220"/>
                  </a:lnTo>
                  <a:lnTo>
                    <a:pt x="170" y="218"/>
                  </a:lnTo>
                  <a:lnTo>
                    <a:pt x="166" y="218"/>
                  </a:lnTo>
                  <a:lnTo>
                    <a:pt x="162" y="218"/>
                  </a:lnTo>
                  <a:lnTo>
                    <a:pt x="158" y="220"/>
                  </a:lnTo>
                  <a:lnTo>
                    <a:pt x="154" y="221"/>
                  </a:lnTo>
                  <a:lnTo>
                    <a:pt x="151" y="222"/>
                  </a:lnTo>
                  <a:lnTo>
                    <a:pt x="148" y="224"/>
                  </a:lnTo>
                  <a:lnTo>
                    <a:pt x="144" y="226"/>
                  </a:lnTo>
                  <a:lnTo>
                    <a:pt x="141" y="228"/>
                  </a:lnTo>
                  <a:lnTo>
                    <a:pt x="138" y="231"/>
                  </a:lnTo>
                  <a:lnTo>
                    <a:pt x="135" y="235"/>
                  </a:lnTo>
                  <a:lnTo>
                    <a:pt x="132" y="238"/>
                  </a:lnTo>
                  <a:lnTo>
                    <a:pt x="130" y="241"/>
                  </a:lnTo>
                  <a:lnTo>
                    <a:pt x="128" y="244"/>
                  </a:lnTo>
                  <a:lnTo>
                    <a:pt x="127" y="249"/>
                  </a:lnTo>
                  <a:lnTo>
                    <a:pt x="126" y="253"/>
                  </a:lnTo>
                  <a:lnTo>
                    <a:pt x="126" y="256"/>
                  </a:lnTo>
                  <a:lnTo>
                    <a:pt x="125" y="261"/>
                  </a:lnTo>
                  <a:lnTo>
                    <a:pt x="126" y="265"/>
                  </a:lnTo>
                  <a:lnTo>
                    <a:pt x="126" y="269"/>
                  </a:lnTo>
                  <a:lnTo>
                    <a:pt x="127" y="274"/>
                  </a:lnTo>
                  <a:lnTo>
                    <a:pt x="128" y="277"/>
                  </a:lnTo>
                  <a:lnTo>
                    <a:pt x="130" y="281"/>
                  </a:lnTo>
                  <a:lnTo>
                    <a:pt x="131" y="284"/>
                  </a:lnTo>
                  <a:lnTo>
                    <a:pt x="135" y="288"/>
                  </a:lnTo>
                  <a:lnTo>
                    <a:pt x="137" y="291"/>
                  </a:lnTo>
                  <a:lnTo>
                    <a:pt x="140" y="293"/>
                  </a:lnTo>
                  <a:lnTo>
                    <a:pt x="143" y="296"/>
                  </a:lnTo>
                  <a:lnTo>
                    <a:pt x="146" y="298"/>
                  </a:lnTo>
                  <a:lnTo>
                    <a:pt x="151" y="299"/>
                  </a:lnTo>
                  <a:lnTo>
                    <a:pt x="154" y="301"/>
                  </a:lnTo>
                  <a:lnTo>
                    <a:pt x="158" y="302"/>
                  </a:lnTo>
                  <a:lnTo>
                    <a:pt x="162" y="303"/>
                  </a:lnTo>
                  <a:lnTo>
                    <a:pt x="166" y="303"/>
                  </a:lnTo>
                  <a:close/>
                  <a:moveTo>
                    <a:pt x="211" y="398"/>
                  </a:moveTo>
                  <a:lnTo>
                    <a:pt x="211" y="371"/>
                  </a:lnTo>
                  <a:lnTo>
                    <a:pt x="207" y="375"/>
                  </a:lnTo>
                  <a:lnTo>
                    <a:pt x="203" y="378"/>
                  </a:lnTo>
                  <a:lnTo>
                    <a:pt x="197" y="383"/>
                  </a:lnTo>
                  <a:lnTo>
                    <a:pt x="193" y="386"/>
                  </a:lnTo>
                  <a:lnTo>
                    <a:pt x="188" y="389"/>
                  </a:lnTo>
                  <a:lnTo>
                    <a:pt x="183" y="391"/>
                  </a:lnTo>
                  <a:lnTo>
                    <a:pt x="178" y="395"/>
                  </a:lnTo>
                  <a:lnTo>
                    <a:pt x="172" y="397"/>
                  </a:lnTo>
                  <a:lnTo>
                    <a:pt x="167" y="398"/>
                  </a:lnTo>
                  <a:lnTo>
                    <a:pt x="162" y="400"/>
                  </a:lnTo>
                  <a:lnTo>
                    <a:pt x="156" y="401"/>
                  </a:lnTo>
                  <a:lnTo>
                    <a:pt x="151" y="403"/>
                  </a:lnTo>
                  <a:lnTo>
                    <a:pt x="144" y="403"/>
                  </a:lnTo>
                  <a:lnTo>
                    <a:pt x="139" y="404"/>
                  </a:lnTo>
                  <a:lnTo>
                    <a:pt x="132" y="404"/>
                  </a:lnTo>
                  <a:lnTo>
                    <a:pt x="127" y="404"/>
                  </a:lnTo>
                  <a:lnTo>
                    <a:pt x="113" y="404"/>
                  </a:lnTo>
                  <a:lnTo>
                    <a:pt x="100" y="402"/>
                  </a:lnTo>
                  <a:lnTo>
                    <a:pt x="88" y="400"/>
                  </a:lnTo>
                  <a:lnTo>
                    <a:pt x="76" y="396"/>
                  </a:lnTo>
                  <a:lnTo>
                    <a:pt x="65" y="390"/>
                  </a:lnTo>
                  <a:lnTo>
                    <a:pt x="55" y="384"/>
                  </a:lnTo>
                  <a:lnTo>
                    <a:pt x="45" y="376"/>
                  </a:lnTo>
                  <a:lnTo>
                    <a:pt x="36" y="368"/>
                  </a:lnTo>
                  <a:lnTo>
                    <a:pt x="28" y="358"/>
                  </a:lnTo>
                  <a:lnTo>
                    <a:pt x="20" y="347"/>
                  </a:lnTo>
                  <a:lnTo>
                    <a:pt x="15" y="336"/>
                  </a:lnTo>
                  <a:lnTo>
                    <a:pt x="9" y="324"/>
                  </a:lnTo>
                  <a:lnTo>
                    <a:pt x="6" y="311"/>
                  </a:lnTo>
                  <a:lnTo>
                    <a:pt x="3" y="298"/>
                  </a:lnTo>
                  <a:lnTo>
                    <a:pt x="2" y="284"/>
                  </a:lnTo>
                  <a:lnTo>
                    <a:pt x="0" y="269"/>
                  </a:lnTo>
                  <a:lnTo>
                    <a:pt x="2" y="254"/>
                  </a:lnTo>
                  <a:lnTo>
                    <a:pt x="3" y="240"/>
                  </a:lnTo>
                  <a:lnTo>
                    <a:pt x="6" y="227"/>
                  </a:lnTo>
                  <a:lnTo>
                    <a:pt x="10" y="214"/>
                  </a:lnTo>
                  <a:lnTo>
                    <a:pt x="16" y="202"/>
                  </a:lnTo>
                  <a:lnTo>
                    <a:pt x="22" y="190"/>
                  </a:lnTo>
                  <a:lnTo>
                    <a:pt x="30" y="181"/>
                  </a:lnTo>
                  <a:lnTo>
                    <a:pt x="39" y="170"/>
                  </a:lnTo>
                  <a:lnTo>
                    <a:pt x="49" y="161"/>
                  </a:lnTo>
                  <a:lnTo>
                    <a:pt x="60" y="154"/>
                  </a:lnTo>
                  <a:lnTo>
                    <a:pt x="72" y="147"/>
                  </a:lnTo>
                  <a:lnTo>
                    <a:pt x="84" y="143"/>
                  </a:lnTo>
                  <a:lnTo>
                    <a:pt x="97" y="139"/>
                  </a:lnTo>
                  <a:lnTo>
                    <a:pt x="111" y="135"/>
                  </a:lnTo>
                  <a:lnTo>
                    <a:pt x="126" y="133"/>
                  </a:lnTo>
                  <a:lnTo>
                    <a:pt x="141" y="133"/>
                  </a:lnTo>
                  <a:lnTo>
                    <a:pt x="145" y="133"/>
                  </a:lnTo>
                  <a:lnTo>
                    <a:pt x="149" y="133"/>
                  </a:lnTo>
                  <a:lnTo>
                    <a:pt x="152" y="134"/>
                  </a:lnTo>
                  <a:lnTo>
                    <a:pt x="156" y="134"/>
                  </a:lnTo>
                  <a:lnTo>
                    <a:pt x="159" y="134"/>
                  </a:lnTo>
                  <a:lnTo>
                    <a:pt x="163" y="135"/>
                  </a:lnTo>
                  <a:lnTo>
                    <a:pt x="167" y="136"/>
                  </a:lnTo>
                  <a:lnTo>
                    <a:pt x="170" y="137"/>
                  </a:lnTo>
                  <a:lnTo>
                    <a:pt x="175" y="139"/>
                  </a:lnTo>
                  <a:lnTo>
                    <a:pt x="178" y="140"/>
                  </a:lnTo>
                  <a:lnTo>
                    <a:pt x="181" y="141"/>
                  </a:lnTo>
                  <a:lnTo>
                    <a:pt x="185" y="142"/>
                  </a:lnTo>
                  <a:lnTo>
                    <a:pt x="189" y="144"/>
                  </a:lnTo>
                  <a:lnTo>
                    <a:pt x="193" y="146"/>
                  </a:lnTo>
                  <a:lnTo>
                    <a:pt x="196" y="147"/>
                  </a:lnTo>
                  <a:lnTo>
                    <a:pt x="201" y="149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7"/>
                  </a:lnTo>
                  <a:lnTo>
                    <a:pt x="201" y="147"/>
                  </a:lnTo>
                  <a:lnTo>
                    <a:pt x="201" y="146"/>
                  </a:lnTo>
                  <a:lnTo>
                    <a:pt x="201" y="145"/>
                  </a:lnTo>
                  <a:lnTo>
                    <a:pt x="201" y="145"/>
                  </a:lnTo>
                  <a:lnTo>
                    <a:pt x="201" y="144"/>
                  </a:lnTo>
                  <a:lnTo>
                    <a:pt x="201" y="144"/>
                  </a:lnTo>
                  <a:lnTo>
                    <a:pt x="201" y="143"/>
                  </a:lnTo>
                  <a:lnTo>
                    <a:pt x="201" y="142"/>
                  </a:lnTo>
                  <a:lnTo>
                    <a:pt x="201" y="141"/>
                  </a:lnTo>
                  <a:lnTo>
                    <a:pt x="201" y="140"/>
                  </a:lnTo>
                  <a:lnTo>
                    <a:pt x="201" y="139"/>
                  </a:lnTo>
                  <a:lnTo>
                    <a:pt x="201" y="137"/>
                  </a:lnTo>
                  <a:lnTo>
                    <a:pt x="201" y="132"/>
                  </a:lnTo>
                  <a:lnTo>
                    <a:pt x="199" y="127"/>
                  </a:lnTo>
                  <a:lnTo>
                    <a:pt x="198" y="121"/>
                  </a:lnTo>
                  <a:lnTo>
                    <a:pt x="197" y="117"/>
                  </a:lnTo>
                  <a:lnTo>
                    <a:pt x="194" y="113"/>
                  </a:lnTo>
                  <a:lnTo>
                    <a:pt x="192" y="109"/>
                  </a:lnTo>
                  <a:lnTo>
                    <a:pt x="189" y="106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76" y="100"/>
                  </a:lnTo>
                  <a:lnTo>
                    <a:pt x="169" y="98"/>
                  </a:lnTo>
                  <a:lnTo>
                    <a:pt x="163" y="96"/>
                  </a:lnTo>
                  <a:lnTo>
                    <a:pt x="155" y="95"/>
                  </a:lnTo>
                  <a:lnTo>
                    <a:pt x="146" y="94"/>
                  </a:lnTo>
                  <a:lnTo>
                    <a:pt x="137" y="94"/>
                  </a:lnTo>
                  <a:lnTo>
                    <a:pt x="127" y="94"/>
                  </a:lnTo>
                  <a:lnTo>
                    <a:pt x="121" y="94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94"/>
                  </a:lnTo>
                  <a:lnTo>
                    <a:pt x="97" y="94"/>
                  </a:lnTo>
                  <a:lnTo>
                    <a:pt x="91" y="95"/>
                  </a:lnTo>
                  <a:lnTo>
                    <a:pt x="85" y="95"/>
                  </a:lnTo>
                  <a:lnTo>
                    <a:pt x="79" y="95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64" y="96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9" y="99"/>
                  </a:lnTo>
                  <a:lnTo>
                    <a:pt x="44" y="100"/>
                  </a:lnTo>
                  <a:lnTo>
                    <a:pt x="39" y="100"/>
                  </a:lnTo>
                  <a:lnTo>
                    <a:pt x="55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7" y="4"/>
                  </a:lnTo>
                  <a:lnTo>
                    <a:pt x="103" y="4"/>
                  </a:lnTo>
                  <a:lnTo>
                    <a:pt x="110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8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80" y="1"/>
                  </a:lnTo>
                  <a:lnTo>
                    <a:pt x="202" y="2"/>
                  </a:lnTo>
                  <a:lnTo>
                    <a:pt x="220" y="5"/>
                  </a:lnTo>
                  <a:lnTo>
                    <a:pt x="237" y="8"/>
                  </a:lnTo>
                  <a:lnTo>
                    <a:pt x="252" y="12"/>
                  </a:lnTo>
                  <a:lnTo>
                    <a:pt x="265" y="18"/>
                  </a:lnTo>
                  <a:lnTo>
                    <a:pt x="277" y="24"/>
                  </a:lnTo>
                  <a:lnTo>
                    <a:pt x="287" y="31"/>
                  </a:lnTo>
                  <a:lnTo>
                    <a:pt x="296" y="39"/>
                  </a:lnTo>
                  <a:lnTo>
                    <a:pt x="302" y="49"/>
                  </a:lnTo>
                  <a:lnTo>
                    <a:pt x="309" y="60"/>
                  </a:lnTo>
                  <a:lnTo>
                    <a:pt x="313" y="74"/>
                  </a:lnTo>
                  <a:lnTo>
                    <a:pt x="317" y="88"/>
                  </a:lnTo>
                  <a:lnTo>
                    <a:pt x="320" y="105"/>
                  </a:lnTo>
                  <a:lnTo>
                    <a:pt x="322" y="122"/>
                  </a:lnTo>
                  <a:lnTo>
                    <a:pt x="322" y="143"/>
                  </a:lnTo>
                  <a:lnTo>
                    <a:pt x="322" y="398"/>
                  </a:lnTo>
                  <a:lnTo>
                    <a:pt x="211" y="3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315480" y="858600"/>
              <a:ext cx="165240" cy="427680"/>
            </a:xfrm>
            <a:custGeom>
              <a:avLst/>
              <a:gdLst/>
              <a:ahLst/>
              <a:rect l="l" t="t" r="r" b="b"/>
              <a:pathLst>
                <a:path w="218" h="554">
                  <a:moveTo>
                    <a:pt x="218" y="2"/>
                  </a:moveTo>
                  <a:lnTo>
                    <a:pt x="218" y="125"/>
                  </a:lnTo>
                  <a:lnTo>
                    <a:pt x="217" y="125"/>
                  </a:lnTo>
                  <a:lnTo>
                    <a:pt x="216" y="125"/>
                  </a:lnTo>
                  <a:lnTo>
                    <a:pt x="215" y="125"/>
                  </a:lnTo>
                  <a:lnTo>
                    <a:pt x="214" y="125"/>
                  </a:lnTo>
                  <a:lnTo>
                    <a:pt x="213" y="125"/>
                  </a:lnTo>
                  <a:lnTo>
                    <a:pt x="211" y="125"/>
                  </a:lnTo>
                  <a:lnTo>
                    <a:pt x="209" y="125"/>
                  </a:lnTo>
                  <a:lnTo>
                    <a:pt x="208" y="125"/>
                  </a:lnTo>
                  <a:lnTo>
                    <a:pt x="207" y="125"/>
                  </a:lnTo>
                  <a:lnTo>
                    <a:pt x="206" y="125"/>
                  </a:lnTo>
                  <a:lnTo>
                    <a:pt x="205" y="125"/>
                  </a:lnTo>
                  <a:lnTo>
                    <a:pt x="204" y="125"/>
                  </a:lnTo>
                  <a:lnTo>
                    <a:pt x="203" y="125"/>
                  </a:lnTo>
                  <a:lnTo>
                    <a:pt x="202" y="125"/>
                  </a:lnTo>
                  <a:lnTo>
                    <a:pt x="202" y="125"/>
                  </a:lnTo>
                  <a:lnTo>
                    <a:pt x="201" y="125"/>
                  </a:lnTo>
                  <a:lnTo>
                    <a:pt x="196" y="125"/>
                  </a:lnTo>
                  <a:lnTo>
                    <a:pt x="191" y="125"/>
                  </a:lnTo>
                  <a:lnTo>
                    <a:pt x="187" y="126"/>
                  </a:lnTo>
                  <a:lnTo>
                    <a:pt x="182" y="126"/>
                  </a:lnTo>
                  <a:lnTo>
                    <a:pt x="179" y="127"/>
                  </a:lnTo>
                  <a:lnTo>
                    <a:pt x="176" y="128"/>
                  </a:lnTo>
                  <a:lnTo>
                    <a:pt x="173" y="130"/>
                  </a:lnTo>
                  <a:lnTo>
                    <a:pt x="171" y="131"/>
                  </a:lnTo>
                  <a:lnTo>
                    <a:pt x="168" y="134"/>
                  </a:lnTo>
                  <a:lnTo>
                    <a:pt x="166" y="136"/>
                  </a:lnTo>
                  <a:lnTo>
                    <a:pt x="165" y="139"/>
                  </a:lnTo>
                  <a:lnTo>
                    <a:pt x="163" y="141"/>
                  </a:lnTo>
                  <a:lnTo>
                    <a:pt x="162" y="144"/>
                  </a:lnTo>
                  <a:lnTo>
                    <a:pt x="162" y="148"/>
                  </a:lnTo>
                  <a:lnTo>
                    <a:pt x="161" y="152"/>
                  </a:lnTo>
                  <a:lnTo>
                    <a:pt x="161" y="156"/>
                  </a:lnTo>
                  <a:lnTo>
                    <a:pt x="161" y="158"/>
                  </a:lnTo>
                  <a:lnTo>
                    <a:pt x="218" y="158"/>
                  </a:lnTo>
                  <a:lnTo>
                    <a:pt x="218" y="276"/>
                  </a:lnTo>
                  <a:lnTo>
                    <a:pt x="161" y="276"/>
                  </a:lnTo>
                  <a:lnTo>
                    <a:pt x="161" y="554"/>
                  </a:lnTo>
                  <a:lnTo>
                    <a:pt x="31" y="554"/>
                  </a:lnTo>
                  <a:lnTo>
                    <a:pt x="31" y="276"/>
                  </a:lnTo>
                  <a:lnTo>
                    <a:pt x="0" y="276"/>
                  </a:lnTo>
                  <a:lnTo>
                    <a:pt x="0" y="158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1" y="130"/>
                  </a:lnTo>
                  <a:lnTo>
                    <a:pt x="33" y="113"/>
                  </a:lnTo>
                  <a:lnTo>
                    <a:pt x="36" y="98"/>
                  </a:lnTo>
                  <a:lnTo>
                    <a:pt x="41" y="83"/>
                  </a:lnTo>
                  <a:lnTo>
                    <a:pt x="46" y="70"/>
                  </a:lnTo>
                  <a:lnTo>
                    <a:pt x="53" y="58"/>
                  </a:lnTo>
                  <a:lnTo>
                    <a:pt x="60" y="47"/>
                  </a:lnTo>
                  <a:lnTo>
                    <a:pt x="70" y="36"/>
                  </a:lnTo>
                  <a:lnTo>
                    <a:pt x="80" y="28"/>
                  </a:lnTo>
                  <a:lnTo>
                    <a:pt x="92" y="20"/>
                  </a:lnTo>
                  <a:lnTo>
                    <a:pt x="103" y="15"/>
                  </a:lnTo>
                  <a:lnTo>
                    <a:pt x="118" y="9"/>
                  </a:lnTo>
                  <a:lnTo>
                    <a:pt x="133" y="5"/>
                  </a:lnTo>
                  <a:lnTo>
                    <a:pt x="149" y="2"/>
                  </a:lnTo>
                  <a:lnTo>
                    <a:pt x="166" y="1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9" y="1"/>
                  </a:lnTo>
                  <a:lnTo>
                    <a:pt x="203" y="1"/>
                  </a:lnTo>
                  <a:lnTo>
                    <a:pt x="207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7" y="2"/>
                  </a:lnTo>
                  <a:lnTo>
                    <a:pt x="218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495480" y="978480"/>
              <a:ext cx="295560" cy="312120"/>
            </a:xfrm>
            <a:custGeom>
              <a:avLst/>
              <a:gdLst/>
              <a:ahLst/>
              <a:rect l="l" t="t" r="r" b="b"/>
              <a:pathLst>
                <a:path w="382" h="407">
                  <a:moveTo>
                    <a:pt x="120" y="206"/>
                  </a:moveTo>
                  <a:lnTo>
                    <a:pt x="241" y="120"/>
                  </a:lnTo>
                  <a:lnTo>
                    <a:pt x="239" y="118"/>
                  </a:lnTo>
                  <a:lnTo>
                    <a:pt x="237" y="116"/>
                  </a:lnTo>
                  <a:lnTo>
                    <a:pt x="234" y="115"/>
                  </a:lnTo>
                  <a:lnTo>
                    <a:pt x="232" y="113"/>
                  </a:lnTo>
                  <a:lnTo>
                    <a:pt x="230" y="111"/>
                  </a:lnTo>
                  <a:lnTo>
                    <a:pt x="227" y="110"/>
                  </a:lnTo>
                  <a:lnTo>
                    <a:pt x="225" y="109"/>
                  </a:lnTo>
                  <a:lnTo>
                    <a:pt x="222" y="108"/>
                  </a:lnTo>
                  <a:lnTo>
                    <a:pt x="219" y="108"/>
                  </a:lnTo>
                  <a:lnTo>
                    <a:pt x="217" y="107"/>
                  </a:lnTo>
                  <a:lnTo>
                    <a:pt x="214" y="106"/>
                  </a:lnTo>
                  <a:lnTo>
                    <a:pt x="212" y="106"/>
                  </a:lnTo>
                  <a:lnTo>
                    <a:pt x="208" y="105"/>
                  </a:lnTo>
                  <a:lnTo>
                    <a:pt x="205" y="105"/>
                  </a:lnTo>
                  <a:lnTo>
                    <a:pt x="202" y="105"/>
                  </a:lnTo>
                  <a:lnTo>
                    <a:pt x="199" y="105"/>
                  </a:lnTo>
                  <a:lnTo>
                    <a:pt x="191" y="105"/>
                  </a:lnTo>
                  <a:lnTo>
                    <a:pt x="182" y="106"/>
                  </a:lnTo>
                  <a:lnTo>
                    <a:pt x="176" y="108"/>
                  </a:lnTo>
                  <a:lnTo>
                    <a:pt x="168" y="111"/>
                  </a:lnTo>
                  <a:lnTo>
                    <a:pt x="161" y="115"/>
                  </a:lnTo>
                  <a:lnTo>
                    <a:pt x="154" y="119"/>
                  </a:lnTo>
                  <a:lnTo>
                    <a:pt x="148" y="124"/>
                  </a:lnTo>
                  <a:lnTo>
                    <a:pt x="142" y="130"/>
                  </a:lnTo>
                  <a:lnTo>
                    <a:pt x="136" y="136"/>
                  </a:lnTo>
                  <a:lnTo>
                    <a:pt x="132" y="143"/>
                  </a:lnTo>
                  <a:lnTo>
                    <a:pt x="127" y="149"/>
                  </a:lnTo>
                  <a:lnTo>
                    <a:pt x="124" y="157"/>
                  </a:lnTo>
                  <a:lnTo>
                    <a:pt x="121" y="164"/>
                  </a:lnTo>
                  <a:lnTo>
                    <a:pt x="120" y="172"/>
                  </a:lnTo>
                  <a:lnTo>
                    <a:pt x="118" y="179"/>
                  </a:lnTo>
                  <a:lnTo>
                    <a:pt x="118" y="187"/>
                  </a:lnTo>
                  <a:lnTo>
                    <a:pt x="118" y="188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8" y="192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8" y="196"/>
                  </a:lnTo>
                  <a:lnTo>
                    <a:pt x="119" y="197"/>
                  </a:lnTo>
                  <a:lnTo>
                    <a:pt x="119" y="198"/>
                  </a:lnTo>
                  <a:lnTo>
                    <a:pt x="119" y="199"/>
                  </a:lnTo>
                  <a:lnTo>
                    <a:pt x="119" y="200"/>
                  </a:lnTo>
                  <a:lnTo>
                    <a:pt x="119" y="202"/>
                  </a:lnTo>
                  <a:lnTo>
                    <a:pt x="120" y="203"/>
                  </a:lnTo>
                  <a:lnTo>
                    <a:pt x="120" y="204"/>
                  </a:lnTo>
                  <a:lnTo>
                    <a:pt x="120" y="205"/>
                  </a:lnTo>
                  <a:lnTo>
                    <a:pt x="120" y="206"/>
                  </a:lnTo>
                  <a:close/>
                  <a:moveTo>
                    <a:pt x="360" y="363"/>
                  </a:moveTo>
                  <a:lnTo>
                    <a:pt x="351" y="368"/>
                  </a:lnTo>
                  <a:lnTo>
                    <a:pt x="342" y="374"/>
                  </a:lnTo>
                  <a:lnTo>
                    <a:pt x="333" y="378"/>
                  </a:lnTo>
                  <a:lnTo>
                    <a:pt x="324" y="382"/>
                  </a:lnTo>
                  <a:lnTo>
                    <a:pt x="314" y="387"/>
                  </a:lnTo>
                  <a:lnTo>
                    <a:pt x="305" y="390"/>
                  </a:lnTo>
                  <a:lnTo>
                    <a:pt x="295" y="393"/>
                  </a:lnTo>
                  <a:lnTo>
                    <a:pt x="285" y="396"/>
                  </a:lnTo>
                  <a:lnTo>
                    <a:pt x="275" y="399"/>
                  </a:lnTo>
                  <a:lnTo>
                    <a:pt x="266" y="402"/>
                  </a:lnTo>
                  <a:lnTo>
                    <a:pt x="255" y="403"/>
                  </a:lnTo>
                  <a:lnTo>
                    <a:pt x="245" y="405"/>
                  </a:lnTo>
                  <a:lnTo>
                    <a:pt x="234" y="406"/>
                  </a:lnTo>
                  <a:lnTo>
                    <a:pt x="224" y="407"/>
                  </a:lnTo>
                  <a:lnTo>
                    <a:pt x="214" y="407"/>
                  </a:lnTo>
                  <a:lnTo>
                    <a:pt x="203" y="407"/>
                  </a:lnTo>
                  <a:lnTo>
                    <a:pt x="180" y="407"/>
                  </a:lnTo>
                  <a:lnTo>
                    <a:pt x="160" y="404"/>
                  </a:lnTo>
                  <a:lnTo>
                    <a:pt x="139" y="400"/>
                  </a:lnTo>
                  <a:lnTo>
                    <a:pt x="121" y="394"/>
                  </a:lnTo>
                  <a:lnTo>
                    <a:pt x="102" y="386"/>
                  </a:lnTo>
                  <a:lnTo>
                    <a:pt x="86" y="376"/>
                  </a:lnTo>
                  <a:lnTo>
                    <a:pt x="70" y="365"/>
                  </a:lnTo>
                  <a:lnTo>
                    <a:pt x="56" y="352"/>
                  </a:lnTo>
                  <a:lnTo>
                    <a:pt x="43" y="338"/>
                  </a:lnTo>
                  <a:lnTo>
                    <a:pt x="31" y="322"/>
                  </a:lnTo>
                  <a:lnTo>
                    <a:pt x="21" y="306"/>
                  </a:lnTo>
                  <a:lnTo>
                    <a:pt x="14" y="288"/>
                  </a:lnTo>
                  <a:lnTo>
                    <a:pt x="8" y="270"/>
                  </a:lnTo>
                  <a:lnTo>
                    <a:pt x="3" y="251"/>
                  </a:lnTo>
                  <a:lnTo>
                    <a:pt x="1" y="229"/>
                  </a:lnTo>
                  <a:lnTo>
                    <a:pt x="0" y="207"/>
                  </a:lnTo>
                  <a:lnTo>
                    <a:pt x="1" y="187"/>
                  </a:lnTo>
                  <a:lnTo>
                    <a:pt x="4" y="165"/>
                  </a:lnTo>
                  <a:lnTo>
                    <a:pt x="8" y="146"/>
                  </a:lnTo>
                  <a:lnTo>
                    <a:pt x="15" y="128"/>
                  </a:lnTo>
                  <a:lnTo>
                    <a:pt x="22" y="109"/>
                  </a:lnTo>
                  <a:lnTo>
                    <a:pt x="33" y="92"/>
                  </a:lnTo>
                  <a:lnTo>
                    <a:pt x="45" y="76"/>
                  </a:lnTo>
                  <a:lnTo>
                    <a:pt x="59" y="61"/>
                  </a:lnTo>
                  <a:lnTo>
                    <a:pt x="74" y="47"/>
                  </a:lnTo>
                  <a:lnTo>
                    <a:pt x="89" y="34"/>
                  </a:lnTo>
                  <a:lnTo>
                    <a:pt x="107" y="24"/>
                  </a:lnTo>
                  <a:lnTo>
                    <a:pt x="124" y="15"/>
                  </a:lnTo>
                  <a:lnTo>
                    <a:pt x="142" y="9"/>
                  </a:lnTo>
                  <a:lnTo>
                    <a:pt x="162" y="3"/>
                  </a:lnTo>
                  <a:lnTo>
                    <a:pt x="182" y="1"/>
                  </a:lnTo>
                  <a:lnTo>
                    <a:pt x="203" y="0"/>
                  </a:lnTo>
                  <a:lnTo>
                    <a:pt x="219" y="0"/>
                  </a:lnTo>
                  <a:lnTo>
                    <a:pt x="234" y="2"/>
                  </a:lnTo>
                  <a:lnTo>
                    <a:pt x="248" y="5"/>
                  </a:lnTo>
                  <a:lnTo>
                    <a:pt x="262" y="9"/>
                  </a:lnTo>
                  <a:lnTo>
                    <a:pt x="277" y="14"/>
                  </a:lnTo>
                  <a:lnTo>
                    <a:pt x="289" y="21"/>
                  </a:lnTo>
                  <a:lnTo>
                    <a:pt x="302" y="27"/>
                  </a:lnTo>
                  <a:lnTo>
                    <a:pt x="314" y="36"/>
                  </a:lnTo>
                  <a:lnTo>
                    <a:pt x="325" y="45"/>
                  </a:lnTo>
                  <a:lnTo>
                    <a:pt x="336" y="55"/>
                  </a:lnTo>
                  <a:lnTo>
                    <a:pt x="346" y="66"/>
                  </a:lnTo>
                  <a:lnTo>
                    <a:pt x="355" y="79"/>
                  </a:lnTo>
                  <a:lnTo>
                    <a:pt x="363" y="92"/>
                  </a:lnTo>
                  <a:lnTo>
                    <a:pt x="371" y="105"/>
                  </a:lnTo>
                  <a:lnTo>
                    <a:pt x="377" y="120"/>
                  </a:lnTo>
                  <a:lnTo>
                    <a:pt x="382" y="135"/>
                  </a:lnTo>
                  <a:lnTo>
                    <a:pt x="172" y="284"/>
                  </a:lnTo>
                  <a:lnTo>
                    <a:pt x="174" y="285"/>
                  </a:lnTo>
                  <a:lnTo>
                    <a:pt x="176" y="286"/>
                  </a:lnTo>
                  <a:lnTo>
                    <a:pt x="179" y="287"/>
                  </a:lnTo>
                  <a:lnTo>
                    <a:pt x="181" y="287"/>
                  </a:lnTo>
                  <a:lnTo>
                    <a:pt x="185" y="288"/>
                  </a:lnTo>
                  <a:lnTo>
                    <a:pt x="187" y="290"/>
                  </a:lnTo>
                  <a:lnTo>
                    <a:pt x="189" y="290"/>
                  </a:lnTo>
                  <a:lnTo>
                    <a:pt x="192" y="291"/>
                  </a:lnTo>
                  <a:lnTo>
                    <a:pt x="195" y="291"/>
                  </a:lnTo>
                  <a:lnTo>
                    <a:pt x="198" y="292"/>
                  </a:lnTo>
                  <a:lnTo>
                    <a:pt x="201" y="292"/>
                  </a:lnTo>
                  <a:lnTo>
                    <a:pt x="204" y="292"/>
                  </a:lnTo>
                  <a:lnTo>
                    <a:pt x="207" y="292"/>
                  </a:lnTo>
                  <a:lnTo>
                    <a:pt x="209" y="293"/>
                  </a:lnTo>
                  <a:lnTo>
                    <a:pt x="213" y="293"/>
                  </a:lnTo>
                  <a:lnTo>
                    <a:pt x="217" y="293"/>
                  </a:lnTo>
                  <a:lnTo>
                    <a:pt x="225" y="292"/>
                  </a:lnTo>
                  <a:lnTo>
                    <a:pt x="232" y="292"/>
                  </a:lnTo>
                  <a:lnTo>
                    <a:pt x="241" y="291"/>
                  </a:lnTo>
                  <a:lnTo>
                    <a:pt x="249" y="288"/>
                  </a:lnTo>
                  <a:lnTo>
                    <a:pt x="257" y="286"/>
                  </a:lnTo>
                  <a:lnTo>
                    <a:pt x="266" y="284"/>
                  </a:lnTo>
                  <a:lnTo>
                    <a:pt x="274" y="281"/>
                  </a:lnTo>
                  <a:lnTo>
                    <a:pt x="283" y="278"/>
                  </a:lnTo>
                  <a:lnTo>
                    <a:pt x="291" y="273"/>
                  </a:lnTo>
                  <a:lnTo>
                    <a:pt x="299" y="269"/>
                  </a:lnTo>
                  <a:lnTo>
                    <a:pt x="308" y="265"/>
                  </a:lnTo>
                  <a:lnTo>
                    <a:pt x="317" y="259"/>
                  </a:lnTo>
                  <a:lnTo>
                    <a:pt x="325" y="253"/>
                  </a:lnTo>
                  <a:lnTo>
                    <a:pt x="333" y="247"/>
                  </a:lnTo>
                  <a:lnTo>
                    <a:pt x="341" y="241"/>
                  </a:lnTo>
                  <a:lnTo>
                    <a:pt x="350" y="233"/>
                  </a:lnTo>
                  <a:lnTo>
                    <a:pt x="360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794640" y="851040"/>
              <a:ext cx="214560" cy="435600"/>
            </a:xfrm>
            <a:custGeom>
              <a:avLst/>
              <a:gdLst/>
              <a:ahLst/>
              <a:rect l="l" t="t" r="r" b="b"/>
              <a:pathLst>
                <a:path w="279" h="564">
                  <a:moveTo>
                    <a:pt x="80" y="391"/>
                  </a:moveTo>
                  <a:lnTo>
                    <a:pt x="80" y="311"/>
                  </a:lnTo>
                  <a:lnTo>
                    <a:pt x="80" y="306"/>
                  </a:lnTo>
                  <a:lnTo>
                    <a:pt x="80" y="300"/>
                  </a:lnTo>
                  <a:lnTo>
                    <a:pt x="80" y="295"/>
                  </a:lnTo>
                  <a:lnTo>
                    <a:pt x="81" y="289"/>
                  </a:lnTo>
                  <a:lnTo>
                    <a:pt x="81" y="285"/>
                  </a:lnTo>
                  <a:lnTo>
                    <a:pt x="82" y="280"/>
                  </a:lnTo>
                  <a:lnTo>
                    <a:pt x="83" y="275"/>
                  </a:lnTo>
                  <a:lnTo>
                    <a:pt x="83" y="271"/>
                  </a:lnTo>
                  <a:lnTo>
                    <a:pt x="84" y="267"/>
                  </a:lnTo>
                  <a:lnTo>
                    <a:pt x="87" y="262"/>
                  </a:lnTo>
                  <a:lnTo>
                    <a:pt x="88" y="258"/>
                  </a:lnTo>
                  <a:lnTo>
                    <a:pt x="90" y="254"/>
                  </a:lnTo>
                  <a:lnTo>
                    <a:pt x="91" y="249"/>
                  </a:lnTo>
                  <a:lnTo>
                    <a:pt x="93" y="245"/>
                  </a:lnTo>
                  <a:lnTo>
                    <a:pt x="95" y="241"/>
                  </a:lnTo>
                  <a:lnTo>
                    <a:pt x="97" y="237"/>
                  </a:lnTo>
                  <a:lnTo>
                    <a:pt x="98" y="235"/>
                  </a:lnTo>
                  <a:lnTo>
                    <a:pt x="99" y="232"/>
                  </a:lnTo>
                  <a:lnTo>
                    <a:pt x="102" y="230"/>
                  </a:lnTo>
                  <a:lnTo>
                    <a:pt x="103" y="228"/>
                  </a:lnTo>
                  <a:lnTo>
                    <a:pt x="105" y="225"/>
                  </a:lnTo>
                  <a:lnTo>
                    <a:pt x="106" y="221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6" y="207"/>
                  </a:lnTo>
                  <a:lnTo>
                    <a:pt x="119" y="201"/>
                  </a:lnTo>
                  <a:lnTo>
                    <a:pt x="123" y="195"/>
                  </a:lnTo>
                  <a:lnTo>
                    <a:pt x="125" y="189"/>
                  </a:lnTo>
                  <a:lnTo>
                    <a:pt x="128" y="184"/>
                  </a:lnTo>
                  <a:lnTo>
                    <a:pt x="129" y="179"/>
                  </a:lnTo>
                  <a:lnTo>
                    <a:pt x="130" y="175"/>
                  </a:lnTo>
                  <a:lnTo>
                    <a:pt x="131" y="171"/>
                  </a:lnTo>
                  <a:lnTo>
                    <a:pt x="131" y="167"/>
                  </a:lnTo>
                  <a:lnTo>
                    <a:pt x="130" y="164"/>
                  </a:lnTo>
                  <a:lnTo>
                    <a:pt x="130" y="162"/>
                  </a:lnTo>
                  <a:lnTo>
                    <a:pt x="129" y="159"/>
                  </a:lnTo>
                  <a:lnTo>
                    <a:pt x="128" y="157"/>
                  </a:lnTo>
                  <a:lnTo>
                    <a:pt x="127" y="154"/>
                  </a:lnTo>
                  <a:lnTo>
                    <a:pt x="125" y="152"/>
                  </a:lnTo>
                  <a:lnTo>
                    <a:pt x="123" y="150"/>
                  </a:lnTo>
                  <a:lnTo>
                    <a:pt x="121" y="149"/>
                  </a:lnTo>
                  <a:lnTo>
                    <a:pt x="120" y="147"/>
                  </a:lnTo>
                  <a:lnTo>
                    <a:pt x="118" y="146"/>
                  </a:lnTo>
                  <a:lnTo>
                    <a:pt x="115" y="145"/>
                  </a:lnTo>
                  <a:lnTo>
                    <a:pt x="112" y="145"/>
                  </a:lnTo>
                  <a:lnTo>
                    <a:pt x="110" y="144"/>
                  </a:lnTo>
                  <a:lnTo>
                    <a:pt x="107" y="144"/>
                  </a:lnTo>
                  <a:lnTo>
                    <a:pt x="104" y="144"/>
                  </a:lnTo>
                  <a:lnTo>
                    <a:pt x="101" y="144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2" y="145"/>
                  </a:lnTo>
                  <a:lnTo>
                    <a:pt x="90" y="146"/>
                  </a:lnTo>
                  <a:lnTo>
                    <a:pt x="87" y="148"/>
                  </a:lnTo>
                  <a:lnTo>
                    <a:pt x="83" y="149"/>
                  </a:lnTo>
                  <a:lnTo>
                    <a:pt x="81" y="151"/>
                  </a:lnTo>
                  <a:lnTo>
                    <a:pt x="78" y="152"/>
                  </a:lnTo>
                  <a:lnTo>
                    <a:pt x="75" y="154"/>
                  </a:lnTo>
                  <a:lnTo>
                    <a:pt x="72" y="157"/>
                  </a:lnTo>
                  <a:lnTo>
                    <a:pt x="70" y="160"/>
                  </a:lnTo>
                  <a:lnTo>
                    <a:pt x="68" y="162"/>
                  </a:lnTo>
                  <a:lnTo>
                    <a:pt x="66" y="164"/>
                  </a:lnTo>
                  <a:lnTo>
                    <a:pt x="64" y="167"/>
                  </a:lnTo>
                  <a:lnTo>
                    <a:pt x="62" y="171"/>
                  </a:lnTo>
                  <a:lnTo>
                    <a:pt x="0" y="86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2" y="57"/>
                  </a:lnTo>
                  <a:lnTo>
                    <a:pt x="29" y="49"/>
                  </a:lnTo>
                  <a:lnTo>
                    <a:pt x="37" y="41"/>
                  </a:lnTo>
                  <a:lnTo>
                    <a:pt x="45" y="33"/>
                  </a:lnTo>
                  <a:lnTo>
                    <a:pt x="54" y="27"/>
                  </a:lnTo>
                  <a:lnTo>
                    <a:pt x="63" y="22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9"/>
                  </a:lnTo>
                  <a:lnTo>
                    <a:pt x="99" y="5"/>
                  </a:lnTo>
                  <a:lnTo>
                    <a:pt x="109" y="3"/>
                  </a:lnTo>
                  <a:lnTo>
                    <a:pt x="119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5" y="1"/>
                  </a:lnTo>
                  <a:lnTo>
                    <a:pt x="169" y="2"/>
                  </a:lnTo>
                  <a:lnTo>
                    <a:pt x="182" y="5"/>
                  </a:lnTo>
                  <a:lnTo>
                    <a:pt x="195" y="10"/>
                  </a:lnTo>
                  <a:lnTo>
                    <a:pt x="207" y="16"/>
                  </a:lnTo>
                  <a:lnTo>
                    <a:pt x="218" y="23"/>
                  </a:lnTo>
                  <a:lnTo>
                    <a:pt x="229" y="30"/>
                  </a:lnTo>
                  <a:lnTo>
                    <a:pt x="239" y="40"/>
                  </a:lnTo>
                  <a:lnTo>
                    <a:pt x="249" y="51"/>
                  </a:lnTo>
                  <a:lnTo>
                    <a:pt x="256" y="62"/>
                  </a:lnTo>
                  <a:lnTo>
                    <a:pt x="264" y="72"/>
                  </a:lnTo>
                  <a:lnTo>
                    <a:pt x="269" y="85"/>
                  </a:lnTo>
                  <a:lnTo>
                    <a:pt x="274" y="98"/>
                  </a:lnTo>
                  <a:lnTo>
                    <a:pt x="277" y="111"/>
                  </a:lnTo>
                  <a:lnTo>
                    <a:pt x="278" y="125"/>
                  </a:lnTo>
                  <a:lnTo>
                    <a:pt x="279" y="140"/>
                  </a:lnTo>
                  <a:lnTo>
                    <a:pt x="278" y="151"/>
                  </a:lnTo>
                  <a:lnTo>
                    <a:pt x="277" y="163"/>
                  </a:lnTo>
                  <a:lnTo>
                    <a:pt x="274" y="175"/>
                  </a:lnTo>
                  <a:lnTo>
                    <a:pt x="270" y="188"/>
                  </a:lnTo>
                  <a:lnTo>
                    <a:pt x="265" y="200"/>
                  </a:lnTo>
                  <a:lnTo>
                    <a:pt x="258" y="214"/>
                  </a:lnTo>
                  <a:lnTo>
                    <a:pt x="251" y="227"/>
                  </a:lnTo>
                  <a:lnTo>
                    <a:pt x="242" y="241"/>
                  </a:lnTo>
                  <a:lnTo>
                    <a:pt x="240" y="245"/>
                  </a:lnTo>
                  <a:lnTo>
                    <a:pt x="238" y="248"/>
                  </a:lnTo>
                  <a:lnTo>
                    <a:pt x="236" y="251"/>
                  </a:lnTo>
                  <a:lnTo>
                    <a:pt x="235" y="254"/>
                  </a:lnTo>
                  <a:lnTo>
                    <a:pt x="232" y="257"/>
                  </a:lnTo>
                  <a:lnTo>
                    <a:pt x="231" y="259"/>
                  </a:lnTo>
                  <a:lnTo>
                    <a:pt x="230" y="261"/>
                  </a:lnTo>
                  <a:lnTo>
                    <a:pt x="229" y="262"/>
                  </a:lnTo>
                  <a:lnTo>
                    <a:pt x="227" y="267"/>
                  </a:lnTo>
                  <a:lnTo>
                    <a:pt x="225" y="271"/>
                  </a:lnTo>
                  <a:lnTo>
                    <a:pt x="223" y="274"/>
                  </a:lnTo>
                  <a:lnTo>
                    <a:pt x="222" y="279"/>
                  </a:lnTo>
                  <a:lnTo>
                    <a:pt x="220" y="284"/>
                  </a:lnTo>
                  <a:lnTo>
                    <a:pt x="218" y="288"/>
                  </a:lnTo>
                  <a:lnTo>
                    <a:pt x="217" y="294"/>
                  </a:lnTo>
                  <a:lnTo>
                    <a:pt x="216" y="298"/>
                  </a:lnTo>
                  <a:lnTo>
                    <a:pt x="215" y="303"/>
                  </a:lnTo>
                  <a:lnTo>
                    <a:pt x="214" y="310"/>
                  </a:lnTo>
                  <a:lnTo>
                    <a:pt x="214" y="315"/>
                  </a:lnTo>
                  <a:lnTo>
                    <a:pt x="213" y="322"/>
                  </a:lnTo>
                  <a:lnTo>
                    <a:pt x="213" y="328"/>
                  </a:lnTo>
                  <a:lnTo>
                    <a:pt x="212" y="335"/>
                  </a:lnTo>
                  <a:lnTo>
                    <a:pt x="212" y="341"/>
                  </a:lnTo>
                  <a:lnTo>
                    <a:pt x="212" y="349"/>
                  </a:lnTo>
                  <a:lnTo>
                    <a:pt x="212" y="391"/>
                  </a:lnTo>
                  <a:lnTo>
                    <a:pt x="80" y="391"/>
                  </a:lnTo>
                  <a:close/>
                  <a:moveTo>
                    <a:pt x="80" y="564"/>
                  </a:moveTo>
                  <a:lnTo>
                    <a:pt x="80" y="423"/>
                  </a:lnTo>
                  <a:lnTo>
                    <a:pt x="212" y="423"/>
                  </a:lnTo>
                  <a:lnTo>
                    <a:pt x="212" y="564"/>
                  </a:lnTo>
                  <a:lnTo>
                    <a:pt x="80" y="5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91400" y="990000"/>
              <a:ext cx="88560" cy="142560"/>
            </a:xfrm>
            <a:custGeom>
              <a:avLst/>
              <a:gdLst/>
              <a:ahLst/>
              <a:rect l="l" t="t" r="r" b="b"/>
              <a:pathLst>
                <a:path w="114" h="186">
                  <a:moveTo>
                    <a:pt x="0" y="186"/>
                  </a:moveTo>
                  <a:lnTo>
                    <a:pt x="114" y="186"/>
                  </a:lnTo>
                  <a:lnTo>
                    <a:pt x="56" y="0"/>
                  </a:lnTo>
                  <a:lnTo>
                    <a:pt x="0" y="1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130480" y="862200"/>
              <a:ext cx="414000" cy="424440"/>
            </a:xfrm>
            <a:custGeom>
              <a:avLst/>
              <a:gdLst/>
              <a:ahLst/>
              <a:rect l="l" t="t" r="r" b="b"/>
              <a:pathLst>
                <a:path w="537" h="550">
                  <a:moveTo>
                    <a:pt x="0" y="550"/>
                  </a:moveTo>
                  <a:lnTo>
                    <a:pt x="193" y="0"/>
                  </a:lnTo>
                  <a:lnTo>
                    <a:pt x="354" y="0"/>
                  </a:lnTo>
                  <a:lnTo>
                    <a:pt x="537" y="550"/>
                  </a:lnTo>
                  <a:lnTo>
                    <a:pt x="385" y="550"/>
                  </a:lnTo>
                  <a:lnTo>
                    <a:pt x="365" y="488"/>
                  </a:lnTo>
                  <a:lnTo>
                    <a:pt x="170" y="488"/>
                  </a:lnTo>
                  <a:lnTo>
                    <a:pt x="149" y="550"/>
                  </a:lnTo>
                  <a:lnTo>
                    <a:pt x="0" y="5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714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18" h="400">
                  <a:moveTo>
                    <a:pt x="0" y="400"/>
                  </a:moveTo>
                  <a:lnTo>
                    <a:pt x="0" y="4"/>
                  </a:lnTo>
                  <a:lnTo>
                    <a:pt x="130" y="4"/>
                  </a:lnTo>
                  <a:lnTo>
                    <a:pt x="130" y="46"/>
                  </a:lnTo>
                  <a:lnTo>
                    <a:pt x="135" y="40"/>
                  </a:lnTo>
                  <a:lnTo>
                    <a:pt x="138" y="35"/>
                  </a:lnTo>
                  <a:lnTo>
                    <a:pt x="142" y="30"/>
                  </a:lnTo>
                  <a:lnTo>
                    <a:pt x="146" y="26"/>
                  </a:lnTo>
                  <a:lnTo>
                    <a:pt x="151" y="23"/>
                  </a:lnTo>
                  <a:lnTo>
                    <a:pt x="155" y="19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71" y="10"/>
                  </a:lnTo>
                  <a:lnTo>
                    <a:pt x="177" y="8"/>
                  </a:lnTo>
                  <a:lnTo>
                    <a:pt x="182" y="6"/>
                  </a:lnTo>
                  <a:lnTo>
                    <a:pt x="189" y="4"/>
                  </a:lnTo>
                  <a:lnTo>
                    <a:pt x="195" y="2"/>
                  </a:lnTo>
                  <a:lnTo>
                    <a:pt x="203" y="2"/>
                  </a:lnTo>
                  <a:lnTo>
                    <a:pt x="210" y="1"/>
                  </a:lnTo>
                  <a:lnTo>
                    <a:pt x="218" y="0"/>
                  </a:lnTo>
                  <a:lnTo>
                    <a:pt x="218" y="137"/>
                  </a:lnTo>
                  <a:lnTo>
                    <a:pt x="203" y="137"/>
                  </a:lnTo>
                  <a:lnTo>
                    <a:pt x="194" y="137"/>
                  </a:lnTo>
                  <a:lnTo>
                    <a:pt x="185" y="138"/>
                  </a:lnTo>
                  <a:lnTo>
                    <a:pt x="179" y="139"/>
                  </a:lnTo>
                  <a:lnTo>
                    <a:pt x="171" y="142"/>
                  </a:lnTo>
                  <a:lnTo>
                    <a:pt x="165" y="145"/>
                  </a:lnTo>
                  <a:lnTo>
                    <a:pt x="159" y="148"/>
                  </a:lnTo>
                  <a:lnTo>
                    <a:pt x="154" y="151"/>
                  </a:lnTo>
                  <a:lnTo>
                    <a:pt x="149" y="156"/>
                  </a:lnTo>
                  <a:lnTo>
                    <a:pt x="144" y="161"/>
                  </a:lnTo>
                  <a:lnTo>
                    <a:pt x="141" y="166"/>
                  </a:lnTo>
                  <a:lnTo>
                    <a:pt x="138" y="173"/>
                  </a:lnTo>
                  <a:lnTo>
                    <a:pt x="135" y="179"/>
                  </a:lnTo>
                  <a:lnTo>
                    <a:pt x="133" y="187"/>
                  </a:lnTo>
                  <a:lnTo>
                    <a:pt x="131" y="195"/>
                  </a:lnTo>
                  <a:lnTo>
                    <a:pt x="130" y="202"/>
                  </a:lnTo>
                  <a:lnTo>
                    <a:pt x="130" y="211"/>
                  </a:lnTo>
                  <a:lnTo>
                    <a:pt x="130" y="400"/>
                  </a:lnTo>
                  <a:lnTo>
                    <a:pt x="0" y="40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854800" y="1059120"/>
              <a:ext cx="96480" cy="76680"/>
            </a:xfrm>
            <a:custGeom>
              <a:avLst/>
              <a:gdLst/>
              <a:ahLst/>
              <a:rect l="l" t="t" r="r" b="b"/>
              <a:pathLst>
                <a:path w="124" h="101">
                  <a:moveTo>
                    <a:pt x="3" y="101"/>
                  </a:moveTo>
                  <a:lnTo>
                    <a:pt x="124" y="15"/>
                  </a:lnTo>
                  <a:lnTo>
                    <a:pt x="121" y="13"/>
                  </a:lnTo>
                  <a:lnTo>
                    <a:pt x="119" y="11"/>
                  </a:lnTo>
                  <a:lnTo>
                    <a:pt x="117" y="10"/>
                  </a:lnTo>
                  <a:lnTo>
                    <a:pt x="115" y="8"/>
                  </a:lnTo>
                  <a:lnTo>
                    <a:pt x="113" y="6"/>
                  </a:lnTo>
                  <a:lnTo>
                    <a:pt x="110" y="5"/>
                  </a:lnTo>
                  <a:lnTo>
                    <a:pt x="107" y="4"/>
                  </a:lnTo>
                  <a:lnTo>
                    <a:pt x="105" y="3"/>
                  </a:lnTo>
                  <a:lnTo>
                    <a:pt x="102" y="3"/>
                  </a:lnTo>
                  <a:lnTo>
                    <a:pt x="100" y="2"/>
                  </a:lnTo>
                  <a:lnTo>
                    <a:pt x="97" y="1"/>
                  </a:lnTo>
                  <a:lnTo>
                    <a:pt x="94" y="1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59" y="3"/>
                  </a:lnTo>
                  <a:lnTo>
                    <a:pt x="51" y="6"/>
                  </a:lnTo>
                  <a:lnTo>
                    <a:pt x="45" y="10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14" y="38"/>
                  </a:lnTo>
                  <a:lnTo>
                    <a:pt x="10" y="44"/>
                  </a:lnTo>
                  <a:lnTo>
                    <a:pt x="7" y="52"/>
                  </a:lnTo>
                  <a:lnTo>
                    <a:pt x="4" y="59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66960" y="978480"/>
              <a:ext cx="291240" cy="31212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1" y="363"/>
                  </a:moveTo>
                  <a:lnTo>
                    <a:pt x="352" y="368"/>
                  </a:lnTo>
                  <a:lnTo>
                    <a:pt x="343" y="374"/>
                  </a:lnTo>
                  <a:lnTo>
                    <a:pt x="334" y="378"/>
                  </a:lnTo>
                  <a:lnTo>
                    <a:pt x="325" y="382"/>
                  </a:lnTo>
                  <a:lnTo>
                    <a:pt x="315" y="387"/>
                  </a:lnTo>
                  <a:lnTo>
                    <a:pt x="305" y="390"/>
                  </a:lnTo>
                  <a:lnTo>
                    <a:pt x="296" y="393"/>
                  </a:lnTo>
                  <a:lnTo>
                    <a:pt x="286" y="396"/>
                  </a:lnTo>
                  <a:lnTo>
                    <a:pt x="276" y="399"/>
                  </a:lnTo>
                  <a:lnTo>
                    <a:pt x="267" y="402"/>
                  </a:lnTo>
                  <a:lnTo>
                    <a:pt x="256" y="403"/>
                  </a:lnTo>
                  <a:lnTo>
                    <a:pt x="246" y="405"/>
                  </a:lnTo>
                  <a:lnTo>
                    <a:pt x="235" y="406"/>
                  </a:lnTo>
                  <a:lnTo>
                    <a:pt x="225" y="407"/>
                  </a:lnTo>
                  <a:lnTo>
                    <a:pt x="215" y="407"/>
                  </a:lnTo>
                  <a:lnTo>
                    <a:pt x="204" y="407"/>
                  </a:lnTo>
                  <a:lnTo>
                    <a:pt x="181" y="407"/>
                  </a:lnTo>
                  <a:lnTo>
                    <a:pt x="161" y="404"/>
                  </a:lnTo>
                  <a:lnTo>
                    <a:pt x="140" y="400"/>
                  </a:lnTo>
                  <a:lnTo>
                    <a:pt x="122" y="394"/>
                  </a:lnTo>
                  <a:lnTo>
                    <a:pt x="103" y="386"/>
                  </a:lnTo>
                  <a:lnTo>
                    <a:pt x="87" y="376"/>
                  </a:lnTo>
                  <a:lnTo>
                    <a:pt x="72" y="365"/>
                  </a:lnTo>
                  <a:lnTo>
                    <a:pt x="57" y="352"/>
                  </a:lnTo>
                  <a:lnTo>
                    <a:pt x="44" y="338"/>
                  </a:lnTo>
                  <a:lnTo>
                    <a:pt x="32" y="322"/>
                  </a:lnTo>
                  <a:lnTo>
                    <a:pt x="23" y="306"/>
                  </a:lnTo>
                  <a:lnTo>
                    <a:pt x="15" y="288"/>
                  </a:lnTo>
                  <a:lnTo>
                    <a:pt x="9" y="270"/>
                  </a:lnTo>
                  <a:lnTo>
                    <a:pt x="5" y="251"/>
                  </a:lnTo>
                  <a:lnTo>
                    <a:pt x="2" y="229"/>
                  </a:lnTo>
                  <a:lnTo>
                    <a:pt x="0" y="207"/>
                  </a:lnTo>
                  <a:lnTo>
                    <a:pt x="2" y="187"/>
                  </a:lnTo>
                  <a:lnTo>
                    <a:pt x="5" y="165"/>
                  </a:lnTo>
                  <a:lnTo>
                    <a:pt x="9" y="146"/>
                  </a:lnTo>
                  <a:lnTo>
                    <a:pt x="16" y="128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1"/>
                  </a:lnTo>
                  <a:lnTo>
                    <a:pt x="75" y="47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3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35" y="2"/>
                  </a:lnTo>
                  <a:lnTo>
                    <a:pt x="249" y="5"/>
                  </a:lnTo>
                  <a:lnTo>
                    <a:pt x="263" y="9"/>
                  </a:lnTo>
                  <a:lnTo>
                    <a:pt x="277" y="14"/>
                  </a:lnTo>
                  <a:lnTo>
                    <a:pt x="290" y="21"/>
                  </a:lnTo>
                  <a:lnTo>
                    <a:pt x="303" y="27"/>
                  </a:lnTo>
                  <a:lnTo>
                    <a:pt x="315" y="36"/>
                  </a:lnTo>
                  <a:lnTo>
                    <a:pt x="326" y="45"/>
                  </a:lnTo>
                  <a:lnTo>
                    <a:pt x="337" y="55"/>
                  </a:lnTo>
                  <a:lnTo>
                    <a:pt x="347" y="66"/>
                  </a:lnTo>
                  <a:lnTo>
                    <a:pt x="356" y="79"/>
                  </a:lnTo>
                  <a:lnTo>
                    <a:pt x="364" y="92"/>
                  </a:lnTo>
                  <a:lnTo>
                    <a:pt x="371" y="105"/>
                  </a:lnTo>
                  <a:lnTo>
                    <a:pt x="378" y="120"/>
                  </a:lnTo>
                  <a:lnTo>
                    <a:pt x="383" y="135"/>
                  </a:lnTo>
                  <a:lnTo>
                    <a:pt x="172" y="284"/>
                  </a:lnTo>
                  <a:lnTo>
                    <a:pt x="175" y="285"/>
                  </a:lnTo>
                  <a:lnTo>
                    <a:pt x="177" y="286"/>
                  </a:lnTo>
                  <a:lnTo>
                    <a:pt x="180" y="287"/>
                  </a:lnTo>
                  <a:lnTo>
                    <a:pt x="182" y="287"/>
                  </a:lnTo>
                  <a:lnTo>
                    <a:pt x="185" y="288"/>
                  </a:lnTo>
                  <a:lnTo>
                    <a:pt x="188" y="290"/>
                  </a:lnTo>
                  <a:lnTo>
                    <a:pt x="191" y="290"/>
                  </a:lnTo>
                  <a:lnTo>
                    <a:pt x="193" y="291"/>
                  </a:lnTo>
                  <a:lnTo>
                    <a:pt x="196" y="291"/>
                  </a:lnTo>
                  <a:lnTo>
                    <a:pt x="198" y="292"/>
                  </a:lnTo>
                  <a:lnTo>
                    <a:pt x="202" y="292"/>
                  </a:lnTo>
                  <a:lnTo>
                    <a:pt x="205" y="292"/>
                  </a:lnTo>
                  <a:lnTo>
                    <a:pt x="208" y="292"/>
                  </a:lnTo>
                  <a:lnTo>
                    <a:pt x="211" y="293"/>
                  </a:lnTo>
                  <a:lnTo>
                    <a:pt x="215" y="293"/>
                  </a:lnTo>
                  <a:lnTo>
                    <a:pt x="218" y="293"/>
                  </a:lnTo>
                  <a:lnTo>
                    <a:pt x="225" y="292"/>
                  </a:lnTo>
                  <a:lnTo>
                    <a:pt x="234" y="292"/>
                  </a:lnTo>
                  <a:lnTo>
                    <a:pt x="242" y="291"/>
                  </a:lnTo>
                  <a:lnTo>
                    <a:pt x="250" y="288"/>
                  </a:lnTo>
                  <a:lnTo>
                    <a:pt x="258" y="286"/>
                  </a:lnTo>
                  <a:lnTo>
                    <a:pt x="267" y="284"/>
                  </a:lnTo>
                  <a:lnTo>
                    <a:pt x="275" y="281"/>
                  </a:lnTo>
                  <a:lnTo>
                    <a:pt x="284" y="278"/>
                  </a:lnTo>
                  <a:lnTo>
                    <a:pt x="292" y="273"/>
                  </a:lnTo>
                  <a:lnTo>
                    <a:pt x="300" y="269"/>
                  </a:lnTo>
                  <a:lnTo>
                    <a:pt x="309" y="265"/>
                  </a:lnTo>
                  <a:lnTo>
                    <a:pt x="317" y="259"/>
                  </a:lnTo>
                  <a:lnTo>
                    <a:pt x="326" y="253"/>
                  </a:lnTo>
                  <a:lnTo>
                    <a:pt x="334" y="247"/>
                  </a:lnTo>
                  <a:lnTo>
                    <a:pt x="342" y="241"/>
                  </a:lnTo>
                  <a:lnTo>
                    <a:pt x="351" y="233"/>
                  </a:lnTo>
                  <a:lnTo>
                    <a:pt x="361" y="3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254040" y="854280"/>
              <a:ext cx="287640" cy="439920"/>
            </a:xfrm>
            <a:custGeom>
              <a:avLst/>
              <a:gdLst/>
              <a:ahLst/>
              <a:rect l="l" t="t" r="r" b="b"/>
              <a:pathLst>
                <a:path w="376" h="569">
                  <a:moveTo>
                    <a:pt x="365" y="560"/>
                  </a:moveTo>
                  <a:lnTo>
                    <a:pt x="361" y="561"/>
                  </a:lnTo>
                  <a:lnTo>
                    <a:pt x="356" y="562"/>
                  </a:lnTo>
                  <a:lnTo>
                    <a:pt x="352" y="563"/>
                  </a:lnTo>
                  <a:lnTo>
                    <a:pt x="349" y="564"/>
                  </a:lnTo>
                  <a:lnTo>
                    <a:pt x="344" y="565"/>
                  </a:lnTo>
                  <a:lnTo>
                    <a:pt x="340" y="566"/>
                  </a:lnTo>
                  <a:lnTo>
                    <a:pt x="336" y="566"/>
                  </a:lnTo>
                  <a:lnTo>
                    <a:pt x="330" y="567"/>
                  </a:lnTo>
                  <a:lnTo>
                    <a:pt x="326" y="567"/>
                  </a:lnTo>
                  <a:lnTo>
                    <a:pt x="322" y="568"/>
                  </a:lnTo>
                  <a:lnTo>
                    <a:pt x="317" y="568"/>
                  </a:lnTo>
                  <a:lnTo>
                    <a:pt x="312" y="568"/>
                  </a:lnTo>
                  <a:lnTo>
                    <a:pt x="306" y="569"/>
                  </a:lnTo>
                  <a:lnTo>
                    <a:pt x="302" y="569"/>
                  </a:lnTo>
                  <a:lnTo>
                    <a:pt x="297" y="569"/>
                  </a:lnTo>
                  <a:lnTo>
                    <a:pt x="291" y="569"/>
                  </a:lnTo>
                  <a:lnTo>
                    <a:pt x="275" y="569"/>
                  </a:lnTo>
                  <a:lnTo>
                    <a:pt x="260" y="568"/>
                  </a:lnTo>
                  <a:lnTo>
                    <a:pt x="244" y="566"/>
                  </a:lnTo>
                  <a:lnTo>
                    <a:pt x="230" y="564"/>
                  </a:lnTo>
                  <a:lnTo>
                    <a:pt x="215" y="562"/>
                  </a:lnTo>
                  <a:lnTo>
                    <a:pt x="201" y="559"/>
                  </a:lnTo>
                  <a:lnTo>
                    <a:pt x="186" y="554"/>
                  </a:lnTo>
                  <a:lnTo>
                    <a:pt x="173" y="550"/>
                  </a:lnTo>
                  <a:lnTo>
                    <a:pt x="160" y="545"/>
                  </a:lnTo>
                  <a:lnTo>
                    <a:pt x="148" y="539"/>
                  </a:lnTo>
                  <a:lnTo>
                    <a:pt x="136" y="533"/>
                  </a:lnTo>
                  <a:lnTo>
                    <a:pt x="124" y="525"/>
                  </a:lnTo>
                  <a:lnTo>
                    <a:pt x="113" y="518"/>
                  </a:lnTo>
                  <a:lnTo>
                    <a:pt x="102" y="510"/>
                  </a:lnTo>
                  <a:lnTo>
                    <a:pt x="91" y="501"/>
                  </a:lnTo>
                  <a:lnTo>
                    <a:pt x="80" y="492"/>
                  </a:lnTo>
                  <a:lnTo>
                    <a:pt x="71" y="482"/>
                  </a:lnTo>
                  <a:lnTo>
                    <a:pt x="62" y="471"/>
                  </a:lnTo>
                  <a:lnTo>
                    <a:pt x="53" y="460"/>
                  </a:lnTo>
                  <a:lnTo>
                    <a:pt x="46" y="450"/>
                  </a:lnTo>
                  <a:lnTo>
                    <a:pt x="38" y="439"/>
                  </a:lnTo>
                  <a:lnTo>
                    <a:pt x="32" y="427"/>
                  </a:lnTo>
                  <a:lnTo>
                    <a:pt x="25" y="415"/>
                  </a:lnTo>
                  <a:lnTo>
                    <a:pt x="20" y="402"/>
                  </a:lnTo>
                  <a:lnTo>
                    <a:pt x="16" y="389"/>
                  </a:lnTo>
                  <a:lnTo>
                    <a:pt x="11" y="376"/>
                  </a:lnTo>
                  <a:lnTo>
                    <a:pt x="8" y="362"/>
                  </a:lnTo>
                  <a:lnTo>
                    <a:pt x="5" y="348"/>
                  </a:lnTo>
                  <a:lnTo>
                    <a:pt x="3" y="334"/>
                  </a:lnTo>
                  <a:lnTo>
                    <a:pt x="2" y="320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0" y="274"/>
                  </a:lnTo>
                  <a:lnTo>
                    <a:pt x="2" y="258"/>
                  </a:lnTo>
                  <a:lnTo>
                    <a:pt x="3" y="243"/>
                  </a:lnTo>
                  <a:lnTo>
                    <a:pt x="6" y="229"/>
                  </a:lnTo>
                  <a:lnTo>
                    <a:pt x="8" y="215"/>
                  </a:lnTo>
                  <a:lnTo>
                    <a:pt x="12" y="201"/>
                  </a:lnTo>
                  <a:lnTo>
                    <a:pt x="17" y="188"/>
                  </a:lnTo>
                  <a:lnTo>
                    <a:pt x="21" y="175"/>
                  </a:lnTo>
                  <a:lnTo>
                    <a:pt x="26" y="162"/>
                  </a:lnTo>
                  <a:lnTo>
                    <a:pt x="33" y="149"/>
                  </a:lnTo>
                  <a:lnTo>
                    <a:pt x="39" y="137"/>
                  </a:lnTo>
                  <a:lnTo>
                    <a:pt x="47" y="126"/>
                  </a:lnTo>
                  <a:lnTo>
                    <a:pt x="56" y="115"/>
                  </a:lnTo>
                  <a:lnTo>
                    <a:pt x="64" y="103"/>
                  </a:lnTo>
                  <a:lnTo>
                    <a:pt x="74" y="92"/>
                  </a:lnTo>
                  <a:lnTo>
                    <a:pt x="84" y="82"/>
                  </a:lnTo>
                  <a:lnTo>
                    <a:pt x="95" y="73"/>
                  </a:lnTo>
                  <a:lnTo>
                    <a:pt x="105" y="63"/>
                  </a:lnTo>
                  <a:lnTo>
                    <a:pt x="116" y="54"/>
                  </a:lnTo>
                  <a:lnTo>
                    <a:pt x="128" y="47"/>
                  </a:lnTo>
                  <a:lnTo>
                    <a:pt x="140" y="39"/>
                  </a:lnTo>
                  <a:lnTo>
                    <a:pt x="153" y="33"/>
                  </a:lnTo>
                  <a:lnTo>
                    <a:pt x="166" y="26"/>
                  </a:lnTo>
                  <a:lnTo>
                    <a:pt x="179" y="21"/>
                  </a:lnTo>
                  <a:lnTo>
                    <a:pt x="192" y="17"/>
                  </a:lnTo>
                  <a:lnTo>
                    <a:pt x="206" y="12"/>
                  </a:lnTo>
                  <a:lnTo>
                    <a:pt x="220" y="9"/>
                  </a:lnTo>
                  <a:lnTo>
                    <a:pt x="235" y="6"/>
                  </a:lnTo>
                  <a:lnTo>
                    <a:pt x="249" y="4"/>
                  </a:lnTo>
                  <a:lnTo>
                    <a:pt x="264" y="1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1"/>
                  </a:lnTo>
                  <a:lnTo>
                    <a:pt x="315" y="1"/>
                  </a:lnTo>
                  <a:lnTo>
                    <a:pt x="319" y="1"/>
                  </a:lnTo>
                  <a:lnTo>
                    <a:pt x="324" y="2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7" y="4"/>
                  </a:lnTo>
                  <a:lnTo>
                    <a:pt x="340" y="5"/>
                  </a:lnTo>
                  <a:lnTo>
                    <a:pt x="344" y="5"/>
                  </a:lnTo>
                  <a:lnTo>
                    <a:pt x="349" y="6"/>
                  </a:lnTo>
                  <a:lnTo>
                    <a:pt x="354" y="7"/>
                  </a:lnTo>
                  <a:lnTo>
                    <a:pt x="358" y="8"/>
                  </a:lnTo>
                  <a:lnTo>
                    <a:pt x="363" y="9"/>
                  </a:lnTo>
                  <a:lnTo>
                    <a:pt x="370" y="171"/>
                  </a:lnTo>
                  <a:lnTo>
                    <a:pt x="365" y="170"/>
                  </a:lnTo>
                  <a:lnTo>
                    <a:pt x="361" y="168"/>
                  </a:lnTo>
                  <a:lnTo>
                    <a:pt x="355" y="166"/>
                  </a:lnTo>
                  <a:lnTo>
                    <a:pt x="351" y="164"/>
                  </a:lnTo>
                  <a:lnTo>
                    <a:pt x="345" y="162"/>
                  </a:lnTo>
                  <a:lnTo>
                    <a:pt x="341" y="161"/>
                  </a:lnTo>
                  <a:lnTo>
                    <a:pt x="337" y="160"/>
                  </a:lnTo>
                  <a:lnTo>
                    <a:pt x="331" y="159"/>
                  </a:lnTo>
                  <a:lnTo>
                    <a:pt x="327" y="158"/>
                  </a:lnTo>
                  <a:lnTo>
                    <a:pt x="322" y="157"/>
                  </a:lnTo>
                  <a:lnTo>
                    <a:pt x="317" y="156"/>
                  </a:lnTo>
                  <a:lnTo>
                    <a:pt x="313" y="156"/>
                  </a:lnTo>
                  <a:lnTo>
                    <a:pt x="309" y="155"/>
                  </a:lnTo>
                  <a:lnTo>
                    <a:pt x="303" y="155"/>
                  </a:lnTo>
                  <a:lnTo>
                    <a:pt x="299" y="155"/>
                  </a:lnTo>
                  <a:lnTo>
                    <a:pt x="295" y="155"/>
                  </a:lnTo>
                  <a:lnTo>
                    <a:pt x="279" y="155"/>
                  </a:lnTo>
                  <a:lnTo>
                    <a:pt x="264" y="157"/>
                  </a:lnTo>
                  <a:lnTo>
                    <a:pt x="249" y="160"/>
                  </a:lnTo>
                  <a:lnTo>
                    <a:pt x="236" y="163"/>
                  </a:lnTo>
                  <a:lnTo>
                    <a:pt x="223" y="169"/>
                  </a:lnTo>
                  <a:lnTo>
                    <a:pt x="211" y="175"/>
                  </a:lnTo>
                  <a:lnTo>
                    <a:pt x="199" y="183"/>
                  </a:lnTo>
                  <a:lnTo>
                    <a:pt x="190" y="190"/>
                  </a:lnTo>
                  <a:lnTo>
                    <a:pt x="180" y="200"/>
                  </a:lnTo>
                  <a:lnTo>
                    <a:pt x="171" y="211"/>
                  </a:lnTo>
                  <a:lnTo>
                    <a:pt x="164" y="221"/>
                  </a:lnTo>
                  <a:lnTo>
                    <a:pt x="158" y="233"/>
                  </a:lnTo>
                  <a:lnTo>
                    <a:pt x="154" y="244"/>
                  </a:lnTo>
                  <a:lnTo>
                    <a:pt x="151" y="257"/>
                  </a:lnTo>
                  <a:lnTo>
                    <a:pt x="149" y="270"/>
                  </a:lnTo>
                  <a:lnTo>
                    <a:pt x="149" y="283"/>
                  </a:lnTo>
                  <a:lnTo>
                    <a:pt x="149" y="297"/>
                  </a:lnTo>
                  <a:lnTo>
                    <a:pt x="151" y="310"/>
                  </a:lnTo>
                  <a:lnTo>
                    <a:pt x="154" y="323"/>
                  </a:lnTo>
                  <a:lnTo>
                    <a:pt x="158" y="335"/>
                  </a:lnTo>
                  <a:lnTo>
                    <a:pt x="164" y="347"/>
                  </a:lnTo>
                  <a:lnTo>
                    <a:pt x="171" y="358"/>
                  </a:lnTo>
                  <a:lnTo>
                    <a:pt x="179" y="368"/>
                  </a:lnTo>
                  <a:lnTo>
                    <a:pt x="189" y="377"/>
                  </a:lnTo>
                  <a:lnTo>
                    <a:pt x="199" y="387"/>
                  </a:lnTo>
                  <a:lnTo>
                    <a:pt x="210" y="395"/>
                  </a:lnTo>
                  <a:lnTo>
                    <a:pt x="222" y="401"/>
                  </a:lnTo>
                  <a:lnTo>
                    <a:pt x="234" y="405"/>
                  </a:lnTo>
                  <a:lnTo>
                    <a:pt x="247" y="410"/>
                  </a:lnTo>
                  <a:lnTo>
                    <a:pt x="261" y="413"/>
                  </a:lnTo>
                  <a:lnTo>
                    <a:pt x="275" y="415"/>
                  </a:lnTo>
                  <a:lnTo>
                    <a:pt x="290" y="415"/>
                  </a:lnTo>
                  <a:lnTo>
                    <a:pt x="296" y="415"/>
                  </a:lnTo>
                  <a:lnTo>
                    <a:pt x="301" y="415"/>
                  </a:lnTo>
                  <a:lnTo>
                    <a:pt x="306" y="414"/>
                  </a:lnTo>
                  <a:lnTo>
                    <a:pt x="312" y="414"/>
                  </a:lnTo>
                  <a:lnTo>
                    <a:pt x="317" y="413"/>
                  </a:lnTo>
                  <a:lnTo>
                    <a:pt x="323" y="412"/>
                  </a:lnTo>
                  <a:lnTo>
                    <a:pt x="328" y="411"/>
                  </a:lnTo>
                  <a:lnTo>
                    <a:pt x="334" y="410"/>
                  </a:lnTo>
                  <a:lnTo>
                    <a:pt x="339" y="409"/>
                  </a:lnTo>
                  <a:lnTo>
                    <a:pt x="344" y="406"/>
                  </a:lnTo>
                  <a:lnTo>
                    <a:pt x="349" y="404"/>
                  </a:lnTo>
                  <a:lnTo>
                    <a:pt x="354" y="403"/>
                  </a:lnTo>
                  <a:lnTo>
                    <a:pt x="359" y="401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6" y="393"/>
                  </a:lnTo>
                  <a:lnTo>
                    <a:pt x="365" y="56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83880" y="1078560"/>
              <a:ext cx="103320" cy="1119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69" y="0"/>
                  </a:moveTo>
                  <a:lnTo>
                    <a:pt x="62" y="1"/>
                  </a:lnTo>
                  <a:lnTo>
                    <a:pt x="56" y="2"/>
                  </a:lnTo>
                  <a:lnTo>
                    <a:pt x="49" y="3"/>
                  </a:lnTo>
                  <a:lnTo>
                    <a:pt x="43" y="5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7"/>
                  </a:lnTo>
                  <a:lnTo>
                    <a:pt x="12" y="32"/>
                  </a:lnTo>
                  <a:lnTo>
                    <a:pt x="8" y="39"/>
                  </a:lnTo>
                  <a:lnTo>
                    <a:pt x="6" y="45"/>
                  </a:lnTo>
                  <a:lnTo>
                    <a:pt x="4" y="52"/>
                  </a:lnTo>
                  <a:lnTo>
                    <a:pt x="2" y="58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2" y="81"/>
                  </a:lnTo>
                  <a:lnTo>
                    <a:pt x="2" y="88"/>
                  </a:lnTo>
                  <a:lnTo>
                    <a:pt x="4" y="95"/>
                  </a:lnTo>
                  <a:lnTo>
                    <a:pt x="6" y="101"/>
                  </a:lnTo>
                  <a:lnTo>
                    <a:pt x="8" y="108"/>
                  </a:lnTo>
                  <a:lnTo>
                    <a:pt x="12" y="114"/>
                  </a:lnTo>
                  <a:lnTo>
                    <a:pt x="16" y="120"/>
                  </a:lnTo>
                  <a:lnTo>
                    <a:pt x="21" y="125"/>
                  </a:lnTo>
                  <a:lnTo>
                    <a:pt x="25" y="129"/>
                  </a:lnTo>
                  <a:lnTo>
                    <a:pt x="31" y="134"/>
                  </a:lnTo>
                  <a:lnTo>
                    <a:pt x="36" y="137"/>
                  </a:lnTo>
                  <a:lnTo>
                    <a:pt x="43" y="140"/>
                  </a:lnTo>
                  <a:lnTo>
                    <a:pt x="49" y="142"/>
                  </a:lnTo>
                  <a:lnTo>
                    <a:pt x="56" y="144"/>
                  </a:lnTo>
                  <a:lnTo>
                    <a:pt x="62" y="145"/>
                  </a:lnTo>
                  <a:lnTo>
                    <a:pt x="69" y="145"/>
                  </a:lnTo>
                  <a:lnTo>
                    <a:pt x="76" y="145"/>
                  </a:lnTo>
                  <a:lnTo>
                    <a:pt x="83" y="144"/>
                  </a:lnTo>
                  <a:lnTo>
                    <a:pt x="89" y="142"/>
                  </a:lnTo>
                  <a:lnTo>
                    <a:pt x="95" y="140"/>
                  </a:lnTo>
                  <a:lnTo>
                    <a:pt x="101" y="137"/>
                  </a:lnTo>
                  <a:lnTo>
                    <a:pt x="106" y="134"/>
                  </a:lnTo>
                  <a:lnTo>
                    <a:pt x="112" y="129"/>
                  </a:lnTo>
                  <a:lnTo>
                    <a:pt x="117" y="124"/>
                  </a:lnTo>
                  <a:lnTo>
                    <a:pt x="122" y="118"/>
                  </a:lnTo>
                  <a:lnTo>
                    <a:pt x="126" y="113"/>
                  </a:lnTo>
                  <a:lnTo>
                    <a:pt x="129" y="108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6" y="87"/>
                  </a:lnTo>
                  <a:lnTo>
                    <a:pt x="137" y="81"/>
                  </a:lnTo>
                  <a:lnTo>
                    <a:pt x="137" y="73"/>
                  </a:lnTo>
                  <a:lnTo>
                    <a:pt x="137" y="66"/>
                  </a:lnTo>
                  <a:lnTo>
                    <a:pt x="136" y="59"/>
                  </a:lnTo>
                  <a:lnTo>
                    <a:pt x="133" y="52"/>
                  </a:lnTo>
                  <a:lnTo>
                    <a:pt x="131" y="45"/>
                  </a:lnTo>
                  <a:lnTo>
                    <a:pt x="129" y="39"/>
                  </a:lnTo>
                  <a:lnTo>
                    <a:pt x="126" y="33"/>
                  </a:lnTo>
                  <a:lnTo>
                    <a:pt x="122" y="27"/>
                  </a:lnTo>
                  <a:lnTo>
                    <a:pt x="117" y="21"/>
                  </a:lnTo>
                  <a:lnTo>
                    <a:pt x="112" y="17"/>
                  </a:lnTo>
                  <a:lnTo>
                    <a:pt x="106" y="13"/>
                  </a:lnTo>
                  <a:lnTo>
                    <a:pt x="101" y="8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58056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5" h="409">
                  <a:moveTo>
                    <a:pt x="203" y="0"/>
                  </a:moveTo>
                  <a:lnTo>
                    <a:pt x="223" y="1"/>
                  </a:lnTo>
                  <a:lnTo>
                    <a:pt x="243" y="4"/>
                  </a:lnTo>
                  <a:lnTo>
                    <a:pt x="262" y="9"/>
                  </a:lnTo>
                  <a:lnTo>
                    <a:pt x="280" y="15"/>
                  </a:lnTo>
                  <a:lnTo>
                    <a:pt x="298" y="24"/>
                  </a:lnTo>
                  <a:lnTo>
                    <a:pt x="314" y="34"/>
                  </a:lnTo>
                  <a:lnTo>
                    <a:pt x="330" y="46"/>
                  </a:lnTo>
                  <a:lnTo>
                    <a:pt x="345" y="60"/>
                  </a:lnTo>
                  <a:lnTo>
                    <a:pt x="359" y="76"/>
                  </a:lnTo>
                  <a:lnTo>
                    <a:pt x="371" y="92"/>
                  </a:lnTo>
                  <a:lnTo>
                    <a:pt x="381" y="109"/>
                  </a:lnTo>
                  <a:lnTo>
                    <a:pt x="390" y="127"/>
                  </a:lnTo>
                  <a:lnTo>
                    <a:pt x="396" y="146"/>
                  </a:lnTo>
                  <a:lnTo>
                    <a:pt x="401" y="164"/>
                  </a:lnTo>
                  <a:lnTo>
                    <a:pt x="404" y="185"/>
                  </a:lnTo>
                  <a:lnTo>
                    <a:pt x="405" y="205"/>
                  </a:lnTo>
                  <a:lnTo>
                    <a:pt x="404" y="226"/>
                  </a:lnTo>
                  <a:lnTo>
                    <a:pt x="401" y="246"/>
                  </a:lnTo>
                  <a:lnTo>
                    <a:pt x="396" y="266"/>
                  </a:lnTo>
                  <a:lnTo>
                    <a:pt x="390" y="284"/>
                  </a:lnTo>
                  <a:lnTo>
                    <a:pt x="382" y="301"/>
                  </a:lnTo>
                  <a:lnTo>
                    <a:pt x="371" y="319"/>
                  </a:lnTo>
                  <a:lnTo>
                    <a:pt x="359" y="335"/>
                  </a:lnTo>
                  <a:lnTo>
                    <a:pt x="346" y="350"/>
                  </a:lnTo>
                  <a:lnTo>
                    <a:pt x="331" y="364"/>
                  </a:lnTo>
                  <a:lnTo>
                    <a:pt x="315" y="376"/>
                  </a:lnTo>
                  <a:lnTo>
                    <a:pt x="298" y="387"/>
                  </a:lnTo>
                  <a:lnTo>
                    <a:pt x="280" y="395"/>
                  </a:lnTo>
                  <a:lnTo>
                    <a:pt x="262" y="402"/>
                  </a:lnTo>
                  <a:lnTo>
                    <a:pt x="244" y="406"/>
                  </a:lnTo>
                  <a:lnTo>
                    <a:pt x="223" y="409"/>
                  </a:lnTo>
                  <a:lnTo>
                    <a:pt x="203" y="409"/>
                  </a:lnTo>
                  <a:lnTo>
                    <a:pt x="182" y="409"/>
                  </a:lnTo>
                  <a:lnTo>
                    <a:pt x="163" y="406"/>
                  </a:lnTo>
                  <a:lnTo>
                    <a:pt x="143" y="402"/>
                  </a:lnTo>
                  <a:lnTo>
                    <a:pt x="125" y="395"/>
                  </a:lnTo>
                  <a:lnTo>
                    <a:pt x="107" y="387"/>
                  </a:lnTo>
                  <a:lnTo>
                    <a:pt x="91" y="376"/>
                  </a:lnTo>
                  <a:lnTo>
                    <a:pt x="75" y="364"/>
                  </a:lnTo>
                  <a:lnTo>
                    <a:pt x="60" y="350"/>
                  </a:lnTo>
                  <a:lnTo>
                    <a:pt x="46" y="335"/>
                  </a:lnTo>
                  <a:lnTo>
                    <a:pt x="34" y="319"/>
                  </a:lnTo>
                  <a:lnTo>
                    <a:pt x="24" y="301"/>
                  </a:lnTo>
                  <a:lnTo>
                    <a:pt x="16" y="284"/>
                  </a:lnTo>
                  <a:lnTo>
                    <a:pt x="9" y="266"/>
                  </a:lnTo>
                  <a:lnTo>
                    <a:pt x="5" y="246"/>
                  </a:lnTo>
                  <a:lnTo>
                    <a:pt x="1" y="226"/>
                  </a:lnTo>
                  <a:lnTo>
                    <a:pt x="0" y="205"/>
                  </a:lnTo>
                  <a:lnTo>
                    <a:pt x="1" y="185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16" y="126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7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4"/>
                  </a:lnTo>
                  <a:lnTo>
                    <a:pt x="182" y="1"/>
                  </a:lnTo>
                  <a:lnTo>
                    <a:pt x="20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33720" y="974160"/>
              <a:ext cx="259920" cy="312120"/>
            </a:xfrm>
            <a:custGeom>
              <a:avLst/>
              <a:gdLst/>
              <a:ahLst/>
              <a:rect l="l" t="t" r="r" b="b"/>
              <a:pathLst>
                <a:path w="341" h="402">
                  <a:moveTo>
                    <a:pt x="0" y="402"/>
                  </a:moveTo>
                  <a:lnTo>
                    <a:pt x="0" y="6"/>
                  </a:lnTo>
                  <a:lnTo>
                    <a:pt x="129" y="6"/>
                  </a:lnTo>
                  <a:lnTo>
                    <a:pt x="129" y="44"/>
                  </a:lnTo>
                  <a:lnTo>
                    <a:pt x="133" y="39"/>
                  </a:lnTo>
                  <a:lnTo>
                    <a:pt x="137" y="33"/>
                  </a:lnTo>
                  <a:lnTo>
                    <a:pt x="143" y="29"/>
                  </a:lnTo>
                  <a:lnTo>
                    <a:pt x="148" y="25"/>
                  </a:lnTo>
                  <a:lnTo>
                    <a:pt x="153" y="22"/>
                  </a:lnTo>
                  <a:lnTo>
                    <a:pt x="159" y="17"/>
                  </a:lnTo>
                  <a:lnTo>
                    <a:pt x="164" y="14"/>
                  </a:lnTo>
                  <a:lnTo>
                    <a:pt x="171" y="11"/>
                  </a:lnTo>
                  <a:lnTo>
                    <a:pt x="177" y="9"/>
                  </a:lnTo>
                  <a:lnTo>
                    <a:pt x="184" y="6"/>
                  </a:lnTo>
                  <a:lnTo>
                    <a:pt x="190" y="4"/>
                  </a:lnTo>
                  <a:lnTo>
                    <a:pt x="197" y="3"/>
                  </a:lnTo>
                  <a:lnTo>
                    <a:pt x="203" y="2"/>
                  </a:lnTo>
                  <a:lnTo>
                    <a:pt x="211" y="1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40" y="1"/>
                  </a:lnTo>
                  <a:lnTo>
                    <a:pt x="253" y="2"/>
                  </a:lnTo>
                  <a:lnTo>
                    <a:pt x="265" y="5"/>
                  </a:lnTo>
                  <a:lnTo>
                    <a:pt x="276" y="9"/>
                  </a:lnTo>
                  <a:lnTo>
                    <a:pt x="285" y="14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4" y="54"/>
                  </a:lnTo>
                  <a:lnTo>
                    <a:pt x="330" y="65"/>
                  </a:lnTo>
                  <a:lnTo>
                    <a:pt x="333" y="77"/>
                  </a:lnTo>
                  <a:lnTo>
                    <a:pt x="336" y="90"/>
                  </a:lnTo>
                  <a:lnTo>
                    <a:pt x="338" y="104"/>
                  </a:lnTo>
                  <a:lnTo>
                    <a:pt x="341" y="119"/>
                  </a:lnTo>
                  <a:lnTo>
                    <a:pt x="341" y="135"/>
                  </a:lnTo>
                  <a:lnTo>
                    <a:pt x="341" y="402"/>
                  </a:lnTo>
                  <a:lnTo>
                    <a:pt x="211" y="402"/>
                  </a:lnTo>
                  <a:lnTo>
                    <a:pt x="211" y="192"/>
                  </a:lnTo>
                  <a:lnTo>
                    <a:pt x="211" y="184"/>
                  </a:lnTo>
                  <a:lnTo>
                    <a:pt x="210" y="176"/>
                  </a:lnTo>
                  <a:lnTo>
                    <a:pt x="210" y="170"/>
                  </a:lnTo>
                  <a:lnTo>
                    <a:pt x="209" y="163"/>
                  </a:lnTo>
                  <a:lnTo>
                    <a:pt x="208" y="158"/>
                  </a:lnTo>
                  <a:lnTo>
                    <a:pt x="205" y="152"/>
                  </a:lnTo>
                  <a:lnTo>
                    <a:pt x="204" y="148"/>
                  </a:lnTo>
                  <a:lnTo>
                    <a:pt x="202" y="145"/>
                  </a:lnTo>
                  <a:lnTo>
                    <a:pt x="200" y="141"/>
                  </a:lnTo>
                  <a:lnTo>
                    <a:pt x="197" y="139"/>
                  </a:lnTo>
                  <a:lnTo>
                    <a:pt x="193" y="137"/>
                  </a:lnTo>
                  <a:lnTo>
                    <a:pt x="190" y="135"/>
                  </a:lnTo>
                  <a:lnTo>
                    <a:pt x="187" y="134"/>
                  </a:lnTo>
                  <a:lnTo>
                    <a:pt x="183" y="133"/>
                  </a:lnTo>
                  <a:lnTo>
                    <a:pt x="178" y="132"/>
                  </a:lnTo>
                  <a:lnTo>
                    <a:pt x="173" y="132"/>
                  </a:lnTo>
                  <a:lnTo>
                    <a:pt x="168" y="132"/>
                  </a:lnTo>
                  <a:lnTo>
                    <a:pt x="163" y="133"/>
                  </a:lnTo>
                  <a:lnTo>
                    <a:pt x="159" y="134"/>
                  </a:lnTo>
                  <a:lnTo>
                    <a:pt x="155" y="136"/>
                  </a:lnTo>
                  <a:lnTo>
                    <a:pt x="151" y="138"/>
                  </a:lnTo>
                  <a:lnTo>
                    <a:pt x="147" y="140"/>
                  </a:lnTo>
                  <a:lnTo>
                    <a:pt x="144" y="144"/>
                  </a:lnTo>
                  <a:lnTo>
                    <a:pt x="142" y="147"/>
                  </a:lnTo>
                  <a:lnTo>
                    <a:pt x="138" y="151"/>
                  </a:lnTo>
                  <a:lnTo>
                    <a:pt x="136" y="157"/>
                  </a:lnTo>
                  <a:lnTo>
                    <a:pt x="135" y="161"/>
                  </a:lnTo>
                  <a:lnTo>
                    <a:pt x="133" y="166"/>
                  </a:lnTo>
                  <a:lnTo>
                    <a:pt x="132" y="173"/>
                  </a:lnTo>
                  <a:lnTo>
                    <a:pt x="131" y="178"/>
                  </a:lnTo>
                  <a:lnTo>
                    <a:pt x="131" y="186"/>
                  </a:lnTo>
                  <a:lnTo>
                    <a:pt x="131" y="192"/>
                  </a:lnTo>
                  <a:lnTo>
                    <a:pt x="131" y="402"/>
                  </a:lnTo>
                  <a:lnTo>
                    <a:pt x="0" y="40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336200" y="1078560"/>
              <a:ext cx="110160" cy="108360"/>
            </a:xfrm>
            <a:custGeom>
              <a:avLst/>
              <a:gdLst/>
              <a:ahLst/>
              <a:rect l="l" t="t" r="r" b="b"/>
              <a:pathLst>
                <a:path w="144" h="141">
                  <a:moveTo>
                    <a:pt x="73" y="0"/>
                  </a:move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38" y="9"/>
                  </a:lnTo>
                  <a:lnTo>
                    <a:pt x="33" y="12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17" y="26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2" y="84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9" y="104"/>
                  </a:lnTo>
                  <a:lnTo>
                    <a:pt x="12" y="109"/>
                  </a:lnTo>
                  <a:lnTo>
                    <a:pt x="17" y="115"/>
                  </a:lnTo>
                  <a:lnTo>
                    <a:pt x="22" y="120"/>
                  </a:lnTo>
                  <a:lnTo>
                    <a:pt x="28" y="125"/>
                  </a:lnTo>
                  <a:lnTo>
                    <a:pt x="33" y="130"/>
                  </a:lnTo>
                  <a:lnTo>
                    <a:pt x="38" y="133"/>
                  </a:lnTo>
                  <a:lnTo>
                    <a:pt x="45" y="136"/>
                  </a:lnTo>
                  <a:lnTo>
                    <a:pt x="51" y="138"/>
                  </a:lnTo>
                  <a:lnTo>
                    <a:pt x="58" y="139"/>
                  </a:lnTo>
                  <a:lnTo>
                    <a:pt x="65" y="140"/>
                  </a:lnTo>
                  <a:lnTo>
                    <a:pt x="73" y="141"/>
                  </a:lnTo>
                  <a:lnTo>
                    <a:pt x="79" y="140"/>
                  </a:lnTo>
                  <a:lnTo>
                    <a:pt x="87" y="139"/>
                  </a:lnTo>
                  <a:lnTo>
                    <a:pt x="93" y="138"/>
                  </a:lnTo>
                  <a:lnTo>
                    <a:pt x="100" y="136"/>
                  </a:lnTo>
                  <a:lnTo>
                    <a:pt x="106" y="133"/>
                  </a:lnTo>
                  <a:lnTo>
                    <a:pt x="112" y="130"/>
                  </a:lnTo>
                  <a:lnTo>
                    <a:pt x="117" y="125"/>
                  </a:lnTo>
                  <a:lnTo>
                    <a:pt x="124" y="121"/>
                  </a:lnTo>
                  <a:lnTo>
                    <a:pt x="128" y="115"/>
                  </a:lnTo>
                  <a:lnTo>
                    <a:pt x="132" y="110"/>
                  </a:lnTo>
                  <a:lnTo>
                    <a:pt x="136" y="104"/>
                  </a:lnTo>
                  <a:lnTo>
                    <a:pt x="139" y="98"/>
                  </a:lnTo>
                  <a:lnTo>
                    <a:pt x="141" y="92"/>
                  </a:lnTo>
                  <a:lnTo>
                    <a:pt x="143" y="84"/>
                  </a:lnTo>
                  <a:lnTo>
                    <a:pt x="143" y="78"/>
                  </a:lnTo>
                  <a:lnTo>
                    <a:pt x="144" y="70"/>
                  </a:lnTo>
                  <a:lnTo>
                    <a:pt x="143" y="63"/>
                  </a:lnTo>
                  <a:lnTo>
                    <a:pt x="143" y="56"/>
                  </a:lnTo>
                  <a:lnTo>
                    <a:pt x="141" y="50"/>
                  </a:lnTo>
                  <a:lnTo>
                    <a:pt x="139" y="43"/>
                  </a:lnTo>
                  <a:lnTo>
                    <a:pt x="136" y="37"/>
                  </a:lnTo>
                  <a:lnTo>
                    <a:pt x="132" y="31"/>
                  </a:lnTo>
                  <a:lnTo>
                    <a:pt x="128" y="26"/>
                  </a:lnTo>
                  <a:lnTo>
                    <a:pt x="124" y="20"/>
                  </a:lnTo>
                  <a:lnTo>
                    <a:pt x="118" y="16"/>
                  </a:lnTo>
                  <a:lnTo>
                    <a:pt x="112" y="12"/>
                  </a:lnTo>
                  <a:lnTo>
                    <a:pt x="106" y="7"/>
                  </a:lnTo>
                  <a:lnTo>
                    <a:pt x="100" y="5"/>
                  </a:lnTo>
                  <a:lnTo>
                    <a:pt x="93" y="3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232880" y="862200"/>
              <a:ext cx="318240" cy="428760"/>
            </a:xfrm>
            <a:custGeom>
              <a:avLst/>
              <a:gdLst/>
              <a:ahLst/>
              <a:rect l="l" t="t" r="r" b="b"/>
              <a:pathLst>
                <a:path w="415" h="555">
                  <a:moveTo>
                    <a:pt x="287" y="514"/>
                  </a:moveTo>
                  <a:lnTo>
                    <a:pt x="280" y="520"/>
                  </a:lnTo>
                  <a:lnTo>
                    <a:pt x="275" y="524"/>
                  </a:lnTo>
                  <a:lnTo>
                    <a:pt x="269" y="528"/>
                  </a:lnTo>
                  <a:lnTo>
                    <a:pt x="263" y="532"/>
                  </a:lnTo>
                  <a:lnTo>
                    <a:pt x="257" y="536"/>
                  </a:lnTo>
                  <a:lnTo>
                    <a:pt x="250" y="540"/>
                  </a:lnTo>
                  <a:lnTo>
                    <a:pt x="245" y="542"/>
                  </a:lnTo>
                  <a:lnTo>
                    <a:pt x="238" y="545"/>
                  </a:lnTo>
                  <a:lnTo>
                    <a:pt x="232" y="548"/>
                  </a:lnTo>
                  <a:lnTo>
                    <a:pt x="225" y="550"/>
                  </a:lnTo>
                  <a:lnTo>
                    <a:pt x="218" y="551"/>
                  </a:lnTo>
                  <a:lnTo>
                    <a:pt x="211" y="553"/>
                  </a:lnTo>
                  <a:lnTo>
                    <a:pt x="204" y="554"/>
                  </a:lnTo>
                  <a:lnTo>
                    <a:pt x="197" y="554"/>
                  </a:lnTo>
                  <a:lnTo>
                    <a:pt x="190" y="555"/>
                  </a:lnTo>
                  <a:lnTo>
                    <a:pt x="182" y="555"/>
                  </a:lnTo>
                  <a:lnTo>
                    <a:pt x="164" y="554"/>
                  </a:lnTo>
                  <a:lnTo>
                    <a:pt x="145" y="552"/>
                  </a:lnTo>
                  <a:lnTo>
                    <a:pt x="128" y="547"/>
                  </a:lnTo>
                  <a:lnTo>
                    <a:pt x="112" y="541"/>
                  </a:lnTo>
                  <a:lnTo>
                    <a:pt x="97" y="532"/>
                  </a:lnTo>
                  <a:lnTo>
                    <a:pt x="81" y="523"/>
                  </a:lnTo>
                  <a:lnTo>
                    <a:pt x="67" y="511"/>
                  </a:lnTo>
                  <a:lnTo>
                    <a:pt x="53" y="497"/>
                  </a:lnTo>
                  <a:lnTo>
                    <a:pt x="41" y="482"/>
                  </a:lnTo>
                  <a:lnTo>
                    <a:pt x="31" y="466"/>
                  </a:lnTo>
                  <a:lnTo>
                    <a:pt x="21" y="449"/>
                  </a:lnTo>
                  <a:lnTo>
                    <a:pt x="14" y="432"/>
                  </a:lnTo>
                  <a:lnTo>
                    <a:pt x="8" y="414"/>
                  </a:lnTo>
                  <a:lnTo>
                    <a:pt x="4" y="394"/>
                  </a:lnTo>
                  <a:lnTo>
                    <a:pt x="1" y="375"/>
                  </a:lnTo>
                  <a:lnTo>
                    <a:pt x="0" y="354"/>
                  </a:lnTo>
                  <a:lnTo>
                    <a:pt x="1" y="332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4" y="272"/>
                  </a:lnTo>
                  <a:lnTo>
                    <a:pt x="22" y="255"/>
                  </a:lnTo>
                  <a:lnTo>
                    <a:pt x="32" y="238"/>
                  </a:lnTo>
                  <a:lnTo>
                    <a:pt x="43" y="221"/>
                  </a:lnTo>
                  <a:lnTo>
                    <a:pt x="56" y="206"/>
                  </a:lnTo>
                  <a:lnTo>
                    <a:pt x="70" y="193"/>
                  </a:lnTo>
                  <a:lnTo>
                    <a:pt x="85" y="181"/>
                  </a:lnTo>
                  <a:lnTo>
                    <a:pt x="101" y="172"/>
                  </a:lnTo>
                  <a:lnTo>
                    <a:pt x="118" y="163"/>
                  </a:lnTo>
                  <a:lnTo>
                    <a:pt x="136" y="158"/>
                  </a:lnTo>
                  <a:lnTo>
                    <a:pt x="154" y="152"/>
                  </a:lnTo>
                  <a:lnTo>
                    <a:pt x="173" y="150"/>
                  </a:lnTo>
                  <a:lnTo>
                    <a:pt x="194" y="149"/>
                  </a:lnTo>
                  <a:lnTo>
                    <a:pt x="200" y="149"/>
                  </a:lnTo>
                  <a:lnTo>
                    <a:pt x="208" y="149"/>
                  </a:lnTo>
                  <a:lnTo>
                    <a:pt x="213" y="150"/>
                  </a:lnTo>
                  <a:lnTo>
                    <a:pt x="220" y="150"/>
                  </a:lnTo>
                  <a:lnTo>
                    <a:pt x="226" y="151"/>
                  </a:lnTo>
                  <a:lnTo>
                    <a:pt x="232" y="152"/>
                  </a:lnTo>
                  <a:lnTo>
                    <a:pt x="238" y="153"/>
                  </a:lnTo>
                  <a:lnTo>
                    <a:pt x="244" y="156"/>
                  </a:lnTo>
                  <a:lnTo>
                    <a:pt x="249" y="157"/>
                  </a:lnTo>
                  <a:lnTo>
                    <a:pt x="255" y="159"/>
                  </a:lnTo>
                  <a:lnTo>
                    <a:pt x="260" y="161"/>
                  </a:lnTo>
                  <a:lnTo>
                    <a:pt x="264" y="163"/>
                  </a:lnTo>
                  <a:lnTo>
                    <a:pt x="270" y="165"/>
                  </a:lnTo>
                  <a:lnTo>
                    <a:pt x="275" y="169"/>
                  </a:lnTo>
                  <a:lnTo>
                    <a:pt x="279" y="172"/>
                  </a:lnTo>
                  <a:lnTo>
                    <a:pt x="285" y="175"/>
                  </a:lnTo>
                  <a:lnTo>
                    <a:pt x="285" y="0"/>
                  </a:lnTo>
                  <a:lnTo>
                    <a:pt x="415" y="0"/>
                  </a:lnTo>
                  <a:lnTo>
                    <a:pt x="415" y="550"/>
                  </a:lnTo>
                  <a:lnTo>
                    <a:pt x="287" y="550"/>
                  </a:lnTo>
                  <a:lnTo>
                    <a:pt x="287" y="51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696560" y="1078560"/>
              <a:ext cx="103320" cy="11196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68" y="0"/>
                  </a:moveTo>
                  <a:lnTo>
                    <a:pt x="61" y="1"/>
                  </a:lnTo>
                  <a:lnTo>
                    <a:pt x="55" y="2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0" y="21"/>
                  </a:lnTo>
                  <a:lnTo>
                    <a:pt x="15" y="27"/>
                  </a:lnTo>
                  <a:lnTo>
                    <a:pt x="12" y="32"/>
                  </a:lnTo>
                  <a:lnTo>
                    <a:pt x="8" y="39"/>
                  </a:lnTo>
                  <a:lnTo>
                    <a:pt x="5" y="45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3" y="95"/>
                  </a:lnTo>
                  <a:lnTo>
                    <a:pt x="5" y="101"/>
                  </a:lnTo>
                  <a:lnTo>
                    <a:pt x="7" y="108"/>
                  </a:lnTo>
                  <a:lnTo>
                    <a:pt x="12" y="114"/>
                  </a:lnTo>
                  <a:lnTo>
                    <a:pt x="15" y="120"/>
                  </a:lnTo>
                  <a:lnTo>
                    <a:pt x="20" y="125"/>
                  </a:lnTo>
                  <a:lnTo>
                    <a:pt x="25" y="129"/>
                  </a:lnTo>
                  <a:lnTo>
                    <a:pt x="30" y="134"/>
                  </a:lnTo>
                  <a:lnTo>
                    <a:pt x="35" y="137"/>
                  </a:lnTo>
                  <a:lnTo>
                    <a:pt x="42" y="140"/>
                  </a:lnTo>
                  <a:lnTo>
                    <a:pt x="48" y="142"/>
                  </a:lnTo>
                  <a:lnTo>
                    <a:pt x="55" y="144"/>
                  </a:lnTo>
                  <a:lnTo>
                    <a:pt x="61" y="145"/>
                  </a:lnTo>
                  <a:lnTo>
                    <a:pt x="68" y="145"/>
                  </a:lnTo>
                  <a:lnTo>
                    <a:pt x="75" y="145"/>
                  </a:lnTo>
                  <a:lnTo>
                    <a:pt x="82" y="144"/>
                  </a:lnTo>
                  <a:lnTo>
                    <a:pt x="88" y="142"/>
                  </a:lnTo>
                  <a:lnTo>
                    <a:pt x="94" y="140"/>
                  </a:lnTo>
                  <a:lnTo>
                    <a:pt x="100" y="137"/>
                  </a:lnTo>
                  <a:lnTo>
                    <a:pt x="106" y="134"/>
                  </a:lnTo>
                  <a:lnTo>
                    <a:pt x="111" y="129"/>
                  </a:lnTo>
                  <a:lnTo>
                    <a:pt x="117" y="124"/>
                  </a:lnTo>
                  <a:lnTo>
                    <a:pt x="121" y="118"/>
                  </a:lnTo>
                  <a:lnTo>
                    <a:pt x="125" y="113"/>
                  </a:lnTo>
                  <a:lnTo>
                    <a:pt x="128" y="108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5" y="87"/>
                  </a:lnTo>
                  <a:lnTo>
                    <a:pt x="136" y="81"/>
                  </a:lnTo>
                  <a:lnTo>
                    <a:pt x="136" y="73"/>
                  </a:lnTo>
                  <a:lnTo>
                    <a:pt x="136" y="66"/>
                  </a:lnTo>
                  <a:lnTo>
                    <a:pt x="135" y="59"/>
                  </a:lnTo>
                  <a:lnTo>
                    <a:pt x="133" y="52"/>
                  </a:lnTo>
                  <a:lnTo>
                    <a:pt x="131" y="45"/>
                  </a:lnTo>
                  <a:lnTo>
                    <a:pt x="128" y="39"/>
                  </a:lnTo>
                  <a:lnTo>
                    <a:pt x="125" y="33"/>
                  </a:lnTo>
                  <a:lnTo>
                    <a:pt x="121" y="27"/>
                  </a:lnTo>
                  <a:lnTo>
                    <a:pt x="117" y="21"/>
                  </a:lnTo>
                  <a:lnTo>
                    <a:pt x="111" y="17"/>
                  </a:lnTo>
                  <a:lnTo>
                    <a:pt x="106" y="13"/>
                  </a:lnTo>
                  <a:lnTo>
                    <a:pt x="100" y="8"/>
                  </a:lnTo>
                  <a:lnTo>
                    <a:pt x="94" y="5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59288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3" h="409">
                  <a:moveTo>
                    <a:pt x="201" y="0"/>
                  </a:moveTo>
                  <a:lnTo>
                    <a:pt x="221" y="1"/>
                  </a:lnTo>
                  <a:lnTo>
                    <a:pt x="242" y="4"/>
                  </a:lnTo>
                  <a:lnTo>
                    <a:pt x="260" y="9"/>
                  </a:lnTo>
                  <a:lnTo>
                    <a:pt x="279" y="15"/>
                  </a:lnTo>
                  <a:lnTo>
                    <a:pt x="296" y="24"/>
                  </a:lnTo>
                  <a:lnTo>
                    <a:pt x="312" y="34"/>
                  </a:lnTo>
                  <a:lnTo>
                    <a:pt x="329" y="46"/>
                  </a:lnTo>
                  <a:lnTo>
                    <a:pt x="344" y="60"/>
                  </a:lnTo>
                  <a:lnTo>
                    <a:pt x="358" y="76"/>
                  </a:lnTo>
                  <a:lnTo>
                    <a:pt x="370" y="92"/>
                  </a:lnTo>
                  <a:lnTo>
                    <a:pt x="380" y="109"/>
                  </a:lnTo>
                  <a:lnTo>
                    <a:pt x="388" y="127"/>
                  </a:lnTo>
                  <a:lnTo>
                    <a:pt x="394" y="146"/>
                  </a:lnTo>
                  <a:lnTo>
                    <a:pt x="399" y="164"/>
                  </a:lnTo>
                  <a:lnTo>
                    <a:pt x="402" y="185"/>
                  </a:lnTo>
                  <a:lnTo>
                    <a:pt x="403" y="205"/>
                  </a:lnTo>
                  <a:lnTo>
                    <a:pt x="402" y="226"/>
                  </a:lnTo>
                  <a:lnTo>
                    <a:pt x="400" y="246"/>
                  </a:lnTo>
                  <a:lnTo>
                    <a:pt x="394" y="266"/>
                  </a:lnTo>
                  <a:lnTo>
                    <a:pt x="388" y="284"/>
                  </a:lnTo>
                  <a:lnTo>
                    <a:pt x="380" y="301"/>
                  </a:lnTo>
                  <a:lnTo>
                    <a:pt x="370" y="319"/>
                  </a:lnTo>
                  <a:lnTo>
                    <a:pt x="358" y="335"/>
                  </a:lnTo>
                  <a:lnTo>
                    <a:pt x="345" y="350"/>
                  </a:lnTo>
                  <a:lnTo>
                    <a:pt x="330" y="364"/>
                  </a:lnTo>
                  <a:lnTo>
                    <a:pt x="313" y="376"/>
                  </a:lnTo>
                  <a:lnTo>
                    <a:pt x="297" y="387"/>
                  </a:lnTo>
                  <a:lnTo>
                    <a:pt x="279" y="395"/>
                  </a:lnTo>
                  <a:lnTo>
                    <a:pt x="261" y="402"/>
                  </a:lnTo>
                  <a:lnTo>
                    <a:pt x="242" y="406"/>
                  </a:lnTo>
                  <a:lnTo>
                    <a:pt x="221" y="409"/>
                  </a:lnTo>
                  <a:lnTo>
                    <a:pt x="201" y="409"/>
                  </a:lnTo>
                  <a:lnTo>
                    <a:pt x="180" y="409"/>
                  </a:lnTo>
                  <a:lnTo>
                    <a:pt x="161" y="406"/>
                  </a:lnTo>
                  <a:lnTo>
                    <a:pt x="141" y="402"/>
                  </a:lnTo>
                  <a:lnTo>
                    <a:pt x="123" y="395"/>
                  </a:lnTo>
                  <a:lnTo>
                    <a:pt x="106" y="387"/>
                  </a:lnTo>
                  <a:lnTo>
                    <a:pt x="90" y="376"/>
                  </a:lnTo>
                  <a:lnTo>
                    <a:pt x="73" y="364"/>
                  </a:lnTo>
                  <a:lnTo>
                    <a:pt x="58" y="350"/>
                  </a:lnTo>
                  <a:lnTo>
                    <a:pt x="44" y="335"/>
                  </a:lnTo>
                  <a:lnTo>
                    <a:pt x="32" y="319"/>
                  </a:lnTo>
                  <a:lnTo>
                    <a:pt x="22" y="301"/>
                  </a:lnTo>
                  <a:lnTo>
                    <a:pt x="14" y="284"/>
                  </a:lnTo>
                  <a:lnTo>
                    <a:pt x="7" y="266"/>
                  </a:lnTo>
                  <a:lnTo>
                    <a:pt x="3" y="246"/>
                  </a:lnTo>
                  <a:lnTo>
                    <a:pt x="0" y="226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3" y="164"/>
                  </a:lnTo>
                  <a:lnTo>
                    <a:pt x="7" y="145"/>
                  </a:lnTo>
                  <a:lnTo>
                    <a:pt x="14" y="126"/>
                  </a:lnTo>
                  <a:lnTo>
                    <a:pt x="22" y="109"/>
                  </a:lnTo>
                  <a:lnTo>
                    <a:pt x="32" y="92"/>
                  </a:lnTo>
                  <a:lnTo>
                    <a:pt x="44" y="76"/>
                  </a:lnTo>
                  <a:lnTo>
                    <a:pt x="58" y="60"/>
                  </a:lnTo>
                  <a:lnTo>
                    <a:pt x="73" y="46"/>
                  </a:lnTo>
                  <a:lnTo>
                    <a:pt x="90" y="34"/>
                  </a:lnTo>
                  <a:lnTo>
                    <a:pt x="106" y="24"/>
                  </a:lnTo>
                  <a:lnTo>
                    <a:pt x="124" y="15"/>
                  </a:lnTo>
                  <a:lnTo>
                    <a:pt x="141" y="9"/>
                  </a:lnTo>
                  <a:lnTo>
                    <a:pt x="161" y="4"/>
                  </a:lnTo>
                  <a:lnTo>
                    <a:pt x="180" y="1"/>
                  </a:lnTo>
                  <a:lnTo>
                    <a:pt x="201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41720" y="974160"/>
              <a:ext cx="418320" cy="312120"/>
            </a:xfrm>
            <a:custGeom>
              <a:avLst/>
              <a:gdLst/>
              <a:ahLst/>
              <a:rect l="l" t="t" r="r" b="b"/>
              <a:pathLst>
                <a:path w="544" h="402">
                  <a:moveTo>
                    <a:pt x="0" y="402"/>
                  </a:moveTo>
                  <a:lnTo>
                    <a:pt x="0" y="6"/>
                  </a:lnTo>
                  <a:lnTo>
                    <a:pt x="127" y="6"/>
                  </a:lnTo>
                  <a:lnTo>
                    <a:pt x="127" y="49"/>
                  </a:lnTo>
                  <a:lnTo>
                    <a:pt x="131" y="43"/>
                  </a:lnTo>
                  <a:lnTo>
                    <a:pt x="136" y="38"/>
                  </a:lnTo>
                  <a:lnTo>
                    <a:pt x="142" y="32"/>
                  </a:lnTo>
                  <a:lnTo>
                    <a:pt x="147" y="28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6"/>
                  </a:lnTo>
                  <a:lnTo>
                    <a:pt x="171" y="13"/>
                  </a:lnTo>
                  <a:lnTo>
                    <a:pt x="178" y="10"/>
                  </a:lnTo>
                  <a:lnTo>
                    <a:pt x="184" y="8"/>
                  </a:lnTo>
                  <a:lnTo>
                    <a:pt x="191" y="5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0" y="1"/>
                  </a:lnTo>
                  <a:lnTo>
                    <a:pt x="248" y="2"/>
                  </a:lnTo>
                  <a:lnTo>
                    <a:pt x="254" y="3"/>
                  </a:lnTo>
                  <a:lnTo>
                    <a:pt x="261" y="5"/>
                  </a:lnTo>
                  <a:lnTo>
                    <a:pt x="267" y="8"/>
                  </a:lnTo>
                  <a:lnTo>
                    <a:pt x="274" y="10"/>
                  </a:lnTo>
                  <a:lnTo>
                    <a:pt x="280" y="13"/>
                  </a:lnTo>
                  <a:lnTo>
                    <a:pt x="286" y="16"/>
                  </a:lnTo>
                  <a:lnTo>
                    <a:pt x="291" y="21"/>
                  </a:lnTo>
                  <a:lnTo>
                    <a:pt x="297" y="25"/>
                  </a:lnTo>
                  <a:lnTo>
                    <a:pt x="301" y="29"/>
                  </a:lnTo>
                  <a:lnTo>
                    <a:pt x="306" y="35"/>
                  </a:lnTo>
                  <a:lnTo>
                    <a:pt x="311" y="40"/>
                  </a:lnTo>
                  <a:lnTo>
                    <a:pt x="315" y="46"/>
                  </a:lnTo>
                  <a:lnTo>
                    <a:pt x="319" y="53"/>
                  </a:lnTo>
                  <a:lnTo>
                    <a:pt x="326" y="46"/>
                  </a:lnTo>
                  <a:lnTo>
                    <a:pt x="331" y="40"/>
                  </a:lnTo>
                  <a:lnTo>
                    <a:pt x="338" y="35"/>
                  </a:lnTo>
                  <a:lnTo>
                    <a:pt x="343" y="30"/>
                  </a:lnTo>
                  <a:lnTo>
                    <a:pt x="350" y="25"/>
                  </a:lnTo>
                  <a:lnTo>
                    <a:pt x="356" y="21"/>
                  </a:lnTo>
                  <a:lnTo>
                    <a:pt x="364" y="17"/>
                  </a:lnTo>
                  <a:lnTo>
                    <a:pt x="370" y="14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392" y="5"/>
                  </a:lnTo>
                  <a:lnTo>
                    <a:pt x="399" y="3"/>
                  </a:lnTo>
                  <a:lnTo>
                    <a:pt x="407" y="2"/>
                  </a:lnTo>
                  <a:lnTo>
                    <a:pt x="414" y="1"/>
                  </a:lnTo>
                  <a:lnTo>
                    <a:pt x="423" y="0"/>
                  </a:lnTo>
                  <a:lnTo>
                    <a:pt x="431" y="0"/>
                  </a:lnTo>
                  <a:lnTo>
                    <a:pt x="444" y="1"/>
                  </a:lnTo>
                  <a:lnTo>
                    <a:pt x="457" y="2"/>
                  </a:lnTo>
                  <a:lnTo>
                    <a:pt x="468" y="5"/>
                  </a:lnTo>
                  <a:lnTo>
                    <a:pt x="479" y="9"/>
                  </a:lnTo>
                  <a:lnTo>
                    <a:pt x="489" y="14"/>
                  </a:lnTo>
                  <a:lnTo>
                    <a:pt x="499" y="19"/>
                  </a:lnTo>
                  <a:lnTo>
                    <a:pt x="507" y="27"/>
                  </a:lnTo>
                  <a:lnTo>
                    <a:pt x="515" y="35"/>
                  </a:lnTo>
                  <a:lnTo>
                    <a:pt x="521" y="43"/>
                  </a:lnTo>
                  <a:lnTo>
                    <a:pt x="528" y="54"/>
                  </a:lnTo>
                  <a:lnTo>
                    <a:pt x="532" y="65"/>
                  </a:lnTo>
                  <a:lnTo>
                    <a:pt x="537" y="77"/>
                  </a:lnTo>
                  <a:lnTo>
                    <a:pt x="540" y="90"/>
                  </a:lnTo>
                  <a:lnTo>
                    <a:pt x="542" y="104"/>
                  </a:lnTo>
                  <a:lnTo>
                    <a:pt x="543" y="119"/>
                  </a:lnTo>
                  <a:lnTo>
                    <a:pt x="544" y="135"/>
                  </a:lnTo>
                  <a:lnTo>
                    <a:pt x="544" y="402"/>
                  </a:lnTo>
                  <a:lnTo>
                    <a:pt x="415" y="402"/>
                  </a:lnTo>
                  <a:lnTo>
                    <a:pt x="415" y="192"/>
                  </a:lnTo>
                  <a:lnTo>
                    <a:pt x="415" y="184"/>
                  </a:lnTo>
                  <a:lnTo>
                    <a:pt x="414" y="176"/>
                  </a:lnTo>
                  <a:lnTo>
                    <a:pt x="414" y="170"/>
                  </a:lnTo>
                  <a:lnTo>
                    <a:pt x="413" y="163"/>
                  </a:lnTo>
                  <a:lnTo>
                    <a:pt x="412" y="158"/>
                  </a:lnTo>
                  <a:lnTo>
                    <a:pt x="410" y="152"/>
                  </a:lnTo>
                  <a:lnTo>
                    <a:pt x="409" y="148"/>
                  </a:lnTo>
                  <a:lnTo>
                    <a:pt x="407" y="145"/>
                  </a:lnTo>
                  <a:lnTo>
                    <a:pt x="405" y="141"/>
                  </a:lnTo>
                  <a:lnTo>
                    <a:pt x="402" y="139"/>
                  </a:lnTo>
                  <a:lnTo>
                    <a:pt x="399" y="137"/>
                  </a:lnTo>
                  <a:lnTo>
                    <a:pt x="396" y="135"/>
                  </a:lnTo>
                  <a:lnTo>
                    <a:pt x="392" y="134"/>
                  </a:lnTo>
                  <a:lnTo>
                    <a:pt x="387" y="133"/>
                  </a:lnTo>
                  <a:lnTo>
                    <a:pt x="383" y="132"/>
                  </a:lnTo>
                  <a:lnTo>
                    <a:pt x="379" y="132"/>
                  </a:lnTo>
                  <a:lnTo>
                    <a:pt x="373" y="132"/>
                  </a:lnTo>
                  <a:lnTo>
                    <a:pt x="369" y="133"/>
                  </a:lnTo>
                  <a:lnTo>
                    <a:pt x="365" y="134"/>
                  </a:lnTo>
                  <a:lnTo>
                    <a:pt x="360" y="136"/>
                  </a:lnTo>
                  <a:lnTo>
                    <a:pt x="357" y="138"/>
                  </a:lnTo>
                  <a:lnTo>
                    <a:pt x="353" y="140"/>
                  </a:lnTo>
                  <a:lnTo>
                    <a:pt x="351" y="144"/>
                  </a:lnTo>
                  <a:lnTo>
                    <a:pt x="347" y="147"/>
                  </a:lnTo>
                  <a:lnTo>
                    <a:pt x="345" y="151"/>
                  </a:lnTo>
                  <a:lnTo>
                    <a:pt x="343" y="157"/>
                  </a:lnTo>
                  <a:lnTo>
                    <a:pt x="341" y="161"/>
                  </a:lnTo>
                  <a:lnTo>
                    <a:pt x="340" y="166"/>
                  </a:lnTo>
                  <a:lnTo>
                    <a:pt x="338" y="173"/>
                  </a:lnTo>
                  <a:lnTo>
                    <a:pt x="338" y="178"/>
                  </a:lnTo>
                  <a:lnTo>
                    <a:pt x="337" y="186"/>
                  </a:lnTo>
                  <a:lnTo>
                    <a:pt x="337" y="192"/>
                  </a:lnTo>
                  <a:lnTo>
                    <a:pt x="337" y="402"/>
                  </a:lnTo>
                  <a:lnTo>
                    <a:pt x="208" y="402"/>
                  </a:lnTo>
                  <a:lnTo>
                    <a:pt x="208" y="192"/>
                  </a:lnTo>
                  <a:lnTo>
                    <a:pt x="208" y="184"/>
                  </a:lnTo>
                  <a:lnTo>
                    <a:pt x="208" y="176"/>
                  </a:lnTo>
                  <a:lnTo>
                    <a:pt x="207" y="170"/>
                  </a:lnTo>
                  <a:lnTo>
                    <a:pt x="206" y="163"/>
                  </a:lnTo>
                  <a:lnTo>
                    <a:pt x="205" y="158"/>
                  </a:lnTo>
                  <a:lnTo>
                    <a:pt x="204" y="152"/>
                  </a:lnTo>
                  <a:lnTo>
                    <a:pt x="201" y="148"/>
                  </a:lnTo>
                  <a:lnTo>
                    <a:pt x="199" y="145"/>
                  </a:lnTo>
                  <a:lnTo>
                    <a:pt x="197" y="141"/>
                  </a:lnTo>
                  <a:lnTo>
                    <a:pt x="195" y="139"/>
                  </a:lnTo>
                  <a:lnTo>
                    <a:pt x="192" y="137"/>
                  </a:lnTo>
                  <a:lnTo>
                    <a:pt x="188" y="135"/>
                  </a:lnTo>
                  <a:lnTo>
                    <a:pt x="184" y="134"/>
                  </a:lnTo>
                  <a:lnTo>
                    <a:pt x="181" y="133"/>
                  </a:lnTo>
                  <a:lnTo>
                    <a:pt x="175" y="132"/>
                  </a:lnTo>
                  <a:lnTo>
                    <a:pt x="171" y="132"/>
                  </a:lnTo>
                  <a:lnTo>
                    <a:pt x="166" y="132"/>
                  </a:lnTo>
                  <a:lnTo>
                    <a:pt x="161" y="133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38"/>
                  </a:lnTo>
                  <a:lnTo>
                    <a:pt x="146" y="140"/>
                  </a:lnTo>
                  <a:lnTo>
                    <a:pt x="143" y="144"/>
                  </a:lnTo>
                  <a:lnTo>
                    <a:pt x="140" y="147"/>
                  </a:lnTo>
                  <a:lnTo>
                    <a:pt x="138" y="151"/>
                  </a:lnTo>
                  <a:lnTo>
                    <a:pt x="135" y="157"/>
                  </a:lnTo>
                  <a:lnTo>
                    <a:pt x="133" y="161"/>
                  </a:lnTo>
                  <a:lnTo>
                    <a:pt x="132" y="166"/>
                  </a:lnTo>
                  <a:lnTo>
                    <a:pt x="131" y="173"/>
                  </a:lnTo>
                  <a:lnTo>
                    <a:pt x="130" y="178"/>
                  </a:lnTo>
                  <a:lnTo>
                    <a:pt x="130" y="186"/>
                  </a:lnTo>
                  <a:lnTo>
                    <a:pt x="129" y="192"/>
                  </a:lnTo>
                  <a:lnTo>
                    <a:pt x="129" y="402"/>
                  </a:lnTo>
                  <a:lnTo>
                    <a:pt x="0" y="40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4028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23" h="403">
                  <a:moveTo>
                    <a:pt x="10" y="397"/>
                  </a:moveTo>
                  <a:lnTo>
                    <a:pt x="10" y="272"/>
                  </a:lnTo>
                  <a:lnTo>
                    <a:pt x="12" y="273"/>
                  </a:lnTo>
                  <a:lnTo>
                    <a:pt x="15" y="274"/>
                  </a:lnTo>
                  <a:lnTo>
                    <a:pt x="17" y="276"/>
                  </a:lnTo>
                  <a:lnTo>
                    <a:pt x="21" y="277"/>
                  </a:lnTo>
                  <a:lnTo>
                    <a:pt x="23" y="278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0" y="280"/>
                  </a:lnTo>
                  <a:lnTo>
                    <a:pt x="33" y="281"/>
                  </a:lnTo>
                  <a:lnTo>
                    <a:pt x="35" y="281"/>
                  </a:lnTo>
                  <a:lnTo>
                    <a:pt x="37" y="281"/>
                  </a:lnTo>
                  <a:lnTo>
                    <a:pt x="39" y="282"/>
                  </a:lnTo>
                  <a:lnTo>
                    <a:pt x="41" y="282"/>
                  </a:lnTo>
                  <a:lnTo>
                    <a:pt x="43" y="282"/>
                  </a:lnTo>
                  <a:lnTo>
                    <a:pt x="46" y="282"/>
                  </a:lnTo>
                  <a:lnTo>
                    <a:pt x="48" y="282"/>
                  </a:lnTo>
                  <a:lnTo>
                    <a:pt x="51" y="282"/>
                  </a:lnTo>
                  <a:lnTo>
                    <a:pt x="55" y="282"/>
                  </a:lnTo>
                  <a:lnTo>
                    <a:pt x="59" y="281"/>
                  </a:lnTo>
                  <a:lnTo>
                    <a:pt x="62" y="281"/>
                  </a:lnTo>
                  <a:lnTo>
                    <a:pt x="64" y="280"/>
                  </a:lnTo>
                  <a:lnTo>
                    <a:pt x="67" y="278"/>
                  </a:lnTo>
                  <a:lnTo>
                    <a:pt x="69" y="277"/>
                  </a:lnTo>
                  <a:lnTo>
                    <a:pt x="72" y="276"/>
                  </a:lnTo>
                  <a:lnTo>
                    <a:pt x="74" y="273"/>
                  </a:lnTo>
                  <a:lnTo>
                    <a:pt x="76" y="271"/>
                  </a:lnTo>
                  <a:lnTo>
                    <a:pt x="77" y="269"/>
                  </a:lnTo>
                  <a:lnTo>
                    <a:pt x="79" y="267"/>
                  </a:lnTo>
                  <a:lnTo>
                    <a:pt x="79" y="264"/>
                  </a:lnTo>
                  <a:lnTo>
                    <a:pt x="80" y="262"/>
                  </a:lnTo>
                  <a:lnTo>
                    <a:pt x="80" y="259"/>
                  </a:lnTo>
                  <a:lnTo>
                    <a:pt x="81" y="256"/>
                  </a:lnTo>
                  <a:lnTo>
                    <a:pt x="80" y="252"/>
                  </a:lnTo>
                  <a:lnTo>
                    <a:pt x="79" y="247"/>
                  </a:lnTo>
                  <a:lnTo>
                    <a:pt x="76" y="242"/>
                  </a:lnTo>
                  <a:lnTo>
                    <a:pt x="73" y="237"/>
                  </a:lnTo>
                  <a:lnTo>
                    <a:pt x="68" y="231"/>
                  </a:lnTo>
                  <a:lnTo>
                    <a:pt x="63" y="225"/>
                  </a:lnTo>
                  <a:lnTo>
                    <a:pt x="55" y="218"/>
                  </a:lnTo>
                  <a:lnTo>
                    <a:pt x="48" y="211"/>
                  </a:lnTo>
                  <a:lnTo>
                    <a:pt x="47" y="209"/>
                  </a:lnTo>
                  <a:lnTo>
                    <a:pt x="44" y="208"/>
                  </a:lnTo>
                  <a:lnTo>
                    <a:pt x="42" y="205"/>
                  </a:lnTo>
                  <a:lnTo>
                    <a:pt x="41" y="204"/>
                  </a:lnTo>
                  <a:lnTo>
                    <a:pt x="39" y="203"/>
                  </a:lnTo>
                  <a:lnTo>
                    <a:pt x="38" y="201"/>
                  </a:lnTo>
                  <a:lnTo>
                    <a:pt x="37" y="200"/>
                  </a:lnTo>
                  <a:lnTo>
                    <a:pt x="36" y="199"/>
                  </a:lnTo>
                  <a:lnTo>
                    <a:pt x="32" y="195"/>
                  </a:lnTo>
                  <a:lnTo>
                    <a:pt x="27" y="190"/>
                  </a:lnTo>
                  <a:lnTo>
                    <a:pt x="23" y="186"/>
                  </a:lnTo>
                  <a:lnTo>
                    <a:pt x="20" y="182"/>
                  </a:lnTo>
                  <a:lnTo>
                    <a:pt x="16" y="177"/>
                  </a:lnTo>
                  <a:lnTo>
                    <a:pt x="14" y="172"/>
                  </a:lnTo>
                  <a:lnTo>
                    <a:pt x="11" y="168"/>
                  </a:lnTo>
                  <a:lnTo>
                    <a:pt x="9" y="162"/>
                  </a:lnTo>
                  <a:lnTo>
                    <a:pt x="7" y="158"/>
                  </a:lnTo>
                  <a:lnTo>
                    <a:pt x="4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1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6" y="81"/>
                  </a:lnTo>
                  <a:lnTo>
                    <a:pt x="10" y="70"/>
                  </a:lnTo>
                  <a:lnTo>
                    <a:pt x="15" y="60"/>
                  </a:lnTo>
                  <a:lnTo>
                    <a:pt x="23" y="50"/>
                  </a:lnTo>
                  <a:lnTo>
                    <a:pt x="30" y="41"/>
                  </a:lnTo>
                  <a:lnTo>
                    <a:pt x="40" y="33"/>
                  </a:lnTo>
                  <a:lnTo>
                    <a:pt x="51" y="25"/>
                  </a:lnTo>
                  <a:lnTo>
                    <a:pt x="63" y="19"/>
                  </a:lnTo>
                  <a:lnTo>
                    <a:pt x="75" y="13"/>
                  </a:lnTo>
                  <a:lnTo>
                    <a:pt x="89" y="9"/>
                  </a:lnTo>
                  <a:lnTo>
                    <a:pt x="103" y="6"/>
                  </a:lnTo>
                  <a:lnTo>
                    <a:pt x="119" y="2"/>
                  </a:lnTo>
                  <a:lnTo>
                    <a:pt x="135" y="1"/>
                  </a:lnTo>
                  <a:lnTo>
                    <a:pt x="153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8" y="1"/>
                  </a:lnTo>
                  <a:lnTo>
                    <a:pt x="181" y="2"/>
                  </a:lnTo>
                  <a:lnTo>
                    <a:pt x="185" y="2"/>
                  </a:lnTo>
                  <a:lnTo>
                    <a:pt x="188" y="3"/>
                  </a:lnTo>
                  <a:lnTo>
                    <a:pt x="193" y="3"/>
                  </a:lnTo>
                  <a:lnTo>
                    <a:pt x="197" y="4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09" y="6"/>
                  </a:lnTo>
                  <a:lnTo>
                    <a:pt x="213" y="7"/>
                  </a:lnTo>
                  <a:lnTo>
                    <a:pt x="213" y="123"/>
                  </a:lnTo>
                  <a:lnTo>
                    <a:pt x="210" y="122"/>
                  </a:lnTo>
                  <a:lnTo>
                    <a:pt x="208" y="120"/>
                  </a:lnTo>
                  <a:lnTo>
                    <a:pt x="205" y="119"/>
                  </a:lnTo>
                  <a:lnTo>
                    <a:pt x="201" y="118"/>
                  </a:lnTo>
                  <a:lnTo>
                    <a:pt x="199" y="117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5" y="114"/>
                  </a:lnTo>
                  <a:lnTo>
                    <a:pt x="183" y="114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4" y="112"/>
                  </a:lnTo>
                  <a:lnTo>
                    <a:pt x="172" y="112"/>
                  </a:lnTo>
                  <a:lnTo>
                    <a:pt x="170" y="112"/>
                  </a:lnTo>
                  <a:lnTo>
                    <a:pt x="166" y="112"/>
                  </a:lnTo>
                  <a:lnTo>
                    <a:pt x="162" y="112"/>
                  </a:lnTo>
                  <a:lnTo>
                    <a:pt x="159" y="114"/>
                  </a:lnTo>
                  <a:lnTo>
                    <a:pt x="157" y="114"/>
                  </a:lnTo>
                  <a:lnTo>
                    <a:pt x="154" y="115"/>
                  </a:lnTo>
                  <a:lnTo>
                    <a:pt x="152" y="116"/>
                  </a:lnTo>
                  <a:lnTo>
                    <a:pt x="148" y="117"/>
                  </a:lnTo>
                  <a:lnTo>
                    <a:pt x="146" y="118"/>
                  </a:lnTo>
                  <a:lnTo>
                    <a:pt x="144" y="120"/>
                  </a:lnTo>
                  <a:lnTo>
                    <a:pt x="143" y="122"/>
                  </a:lnTo>
                  <a:lnTo>
                    <a:pt x="142" y="123"/>
                  </a:lnTo>
                  <a:lnTo>
                    <a:pt x="140" y="125"/>
                  </a:lnTo>
                  <a:lnTo>
                    <a:pt x="140" y="128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9" y="135"/>
                  </a:lnTo>
                  <a:lnTo>
                    <a:pt x="139" y="137"/>
                  </a:lnTo>
                  <a:lnTo>
                    <a:pt x="139" y="138"/>
                  </a:lnTo>
                  <a:lnTo>
                    <a:pt x="139" y="141"/>
                  </a:lnTo>
                  <a:lnTo>
                    <a:pt x="140" y="142"/>
                  </a:lnTo>
                  <a:lnTo>
                    <a:pt x="140" y="144"/>
                  </a:lnTo>
                  <a:lnTo>
                    <a:pt x="141" y="146"/>
                  </a:lnTo>
                  <a:lnTo>
                    <a:pt x="142" y="147"/>
                  </a:lnTo>
                  <a:lnTo>
                    <a:pt x="143" y="149"/>
                  </a:lnTo>
                  <a:lnTo>
                    <a:pt x="144" y="151"/>
                  </a:lnTo>
                  <a:lnTo>
                    <a:pt x="145" y="154"/>
                  </a:lnTo>
                  <a:lnTo>
                    <a:pt x="147" y="156"/>
                  </a:lnTo>
                  <a:lnTo>
                    <a:pt x="149" y="158"/>
                  </a:lnTo>
                  <a:lnTo>
                    <a:pt x="152" y="161"/>
                  </a:lnTo>
                  <a:lnTo>
                    <a:pt x="155" y="164"/>
                  </a:lnTo>
                  <a:lnTo>
                    <a:pt x="158" y="168"/>
                  </a:lnTo>
                  <a:lnTo>
                    <a:pt x="161" y="171"/>
                  </a:lnTo>
                  <a:lnTo>
                    <a:pt x="170" y="179"/>
                  </a:lnTo>
                  <a:lnTo>
                    <a:pt x="178" y="188"/>
                  </a:lnTo>
                  <a:lnTo>
                    <a:pt x="185" y="197"/>
                  </a:lnTo>
                  <a:lnTo>
                    <a:pt x="192" y="204"/>
                  </a:lnTo>
                  <a:lnTo>
                    <a:pt x="198" y="212"/>
                  </a:lnTo>
                  <a:lnTo>
                    <a:pt x="202" y="219"/>
                  </a:lnTo>
                  <a:lnTo>
                    <a:pt x="207" y="226"/>
                  </a:lnTo>
                  <a:lnTo>
                    <a:pt x="211" y="232"/>
                  </a:lnTo>
                  <a:lnTo>
                    <a:pt x="213" y="239"/>
                  </a:lnTo>
                  <a:lnTo>
                    <a:pt x="215" y="245"/>
                  </a:lnTo>
                  <a:lnTo>
                    <a:pt x="218" y="252"/>
                  </a:lnTo>
                  <a:lnTo>
                    <a:pt x="220" y="258"/>
                  </a:lnTo>
                  <a:lnTo>
                    <a:pt x="221" y="266"/>
                  </a:lnTo>
                  <a:lnTo>
                    <a:pt x="222" y="272"/>
                  </a:lnTo>
                  <a:lnTo>
                    <a:pt x="223" y="280"/>
                  </a:lnTo>
                  <a:lnTo>
                    <a:pt x="223" y="287"/>
                  </a:lnTo>
                  <a:lnTo>
                    <a:pt x="222" y="301"/>
                  </a:lnTo>
                  <a:lnTo>
                    <a:pt x="221" y="313"/>
                  </a:lnTo>
                  <a:lnTo>
                    <a:pt x="218" y="325"/>
                  </a:lnTo>
                  <a:lnTo>
                    <a:pt x="213" y="336"/>
                  </a:lnTo>
                  <a:lnTo>
                    <a:pt x="209" y="347"/>
                  </a:lnTo>
                  <a:lnTo>
                    <a:pt x="202" y="357"/>
                  </a:lnTo>
                  <a:lnTo>
                    <a:pt x="195" y="365"/>
                  </a:lnTo>
                  <a:lnTo>
                    <a:pt x="186" y="373"/>
                  </a:lnTo>
                  <a:lnTo>
                    <a:pt x="176" y="379"/>
                  </a:lnTo>
                  <a:lnTo>
                    <a:pt x="167" y="386"/>
                  </a:lnTo>
                  <a:lnTo>
                    <a:pt x="155" y="391"/>
                  </a:lnTo>
                  <a:lnTo>
                    <a:pt x="143" y="395"/>
                  </a:lnTo>
                  <a:lnTo>
                    <a:pt x="130" y="399"/>
                  </a:lnTo>
                  <a:lnTo>
                    <a:pt x="115" y="401"/>
                  </a:lnTo>
                  <a:lnTo>
                    <a:pt x="101" y="402"/>
                  </a:lnTo>
                  <a:lnTo>
                    <a:pt x="85" y="403"/>
                  </a:lnTo>
                  <a:lnTo>
                    <a:pt x="81" y="403"/>
                  </a:lnTo>
                  <a:lnTo>
                    <a:pt x="78" y="403"/>
                  </a:lnTo>
                  <a:lnTo>
                    <a:pt x="74" y="403"/>
                  </a:lnTo>
                  <a:lnTo>
                    <a:pt x="70" y="403"/>
                  </a:lnTo>
                  <a:lnTo>
                    <a:pt x="67" y="402"/>
                  </a:lnTo>
                  <a:lnTo>
                    <a:pt x="63" y="402"/>
                  </a:lnTo>
                  <a:lnTo>
                    <a:pt x="60" y="402"/>
                  </a:lnTo>
                  <a:lnTo>
                    <a:pt x="55" y="402"/>
                  </a:lnTo>
                  <a:lnTo>
                    <a:pt x="51" y="401"/>
                  </a:lnTo>
                  <a:lnTo>
                    <a:pt x="47" y="401"/>
                  </a:lnTo>
                  <a:lnTo>
                    <a:pt x="41" y="400"/>
                  </a:lnTo>
                  <a:lnTo>
                    <a:pt x="36" y="400"/>
                  </a:lnTo>
                  <a:lnTo>
                    <a:pt x="30" y="399"/>
                  </a:lnTo>
                  <a:lnTo>
                    <a:pt x="24" y="398"/>
                  </a:lnTo>
                  <a:lnTo>
                    <a:pt x="16" y="398"/>
                  </a:lnTo>
                  <a:lnTo>
                    <a:pt x="10" y="39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770800" y="854280"/>
              <a:ext cx="222480" cy="436680"/>
            </a:xfrm>
            <a:custGeom>
              <a:avLst/>
              <a:gdLst/>
              <a:ahLst/>
              <a:rect l="l" t="t" r="r" b="b"/>
              <a:pathLst>
                <a:path w="291" h="567">
                  <a:moveTo>
                    <a:pt x="10" y="561"/>
                  </a:moveTo>
                  <a:lnTo>
                    <a:pt x="7" y="409"/>
                  </a:lnTo>
                  <a:lnTo>
                    <a:pt x="11" y="411"/>
                  </a:lnTo>
                  <a:lnTo>
                    <a:pt x="14" y="412"/>
                  </a:lnTo>
                  <a:lnTo>
                    <a:pt x="19" y="414"/>
                  </a:lnTo>
                  <a:lnTo>
                    <a:pt x="23" y="415"/>
                  </a:lnTo>
                  <a:lnTo>
                    <a:pt x="26" y="416"/>
                  </a:lnTo>
                  <a:lnTo>
                    <a:pt x="31" y="417"/>
                  </a:lnTo>
                  <a:lnTo>
                    <a:pt x="34" y="418"/>
                  </a:lnTo>
                  <a:lnTo>
                    <a:pt x="37" y="419"/>
                  </a:lnTo>
                  <a:lnTo>
                    <a:pt x="41" y="421"/>
                  </a:lnTo>
                  <a:lnTo>
                    <a:pt x="45" y="421"/>
                  </a:lnTo>
                  <a:lnTo>
                    <a:pt x="48" y="422"/>
                  </a:lnTo>
                  <a:lnTo>
                    <a:pt x="52" y="422"/>
                  </a:lnTo>
                  <a:lnTo>
                    <a:pt x="56" y="423"/>
                  </a:lnTo>
                  <a:lnTo>
                    <a:pt x="59" y="423"/>
                  </a:lnTo>
                  <a:lnTo>
                    <a:pt x="62" y="423"/>
                  </a:lnTo>
                  <a:lnTo>
                    <a:pt x="65" y="423"/>
                  </a:lnTo>
                  <a:lnTo>
                    <a:pt x="72" y="423"/>
                  </a:lnTo>
                  <a:lnTo>
                    <a:pt x="77" y="422"/>
                  </a:lnTo>
                  <a:lnTo>
                    <a:pt x="83" y="422"/>
                  </a:lnTo>
                  <a:lnTo>
                    <a:pt x="87" y="419"/>
                  </a:lnTo>
                  <a:lnTo>
                    <a:pt x="91" y="418"/>
                  </a:lnTo>
                  <a:lnTo>
                    <a:pt x="97" y="416"/>
                  </a:lnTo>
                  <a:lnTo>
                    <a:pt x="100" y="413"/>
                  </a:lnTo>
                  <a:lnTo>
                    <a:pt x="104" y="411"/>
                  </a:lnTo>
                  <a:lnTo>
                    <a:pt x="107" y="408"/>
                  </a:lnTo>
                  <a:lnTo>
                    <a:pt x="111" y="404"/>
                  </a:lnTo>
                  <a:lnTo>
                    <a:pt x="114" y="400"/>
                  </a:lnTo>
                  <a:lnTo>
                    <a:pt x="115" y="397"/>
                  </a:lnTo>
                  <a:lnTo>
                    <a:pt x="117" y="392"/>
                  </a:lnTo>
                  <a:lnTo>
                    <a:pt x="118" y="388"/>
                  </a:lnTo>
                  <a:lnTo>
                    <a:pt x="119" y="384"/>
                  </a:lnTo>
                  <a:lnTo>
                    <a:pt x="119" y="379"/>
                  </a:lnTo>
                  <a:lnTo>
                    <a:pt x="118" y="373"/>
                  </a:lnTo>
                  <a:lnTo>
                    <a:pt x="117" y="367"/>
                  </a:lnTo>
                  <a:lnTo>
                    <a:pt x="114" y="360"/>
                  </a:lnTo>
                  <a:lnTo>
                    <a:pt x="110" y="352"/>
                  </a:lnTo>
                  <a:lnTo>
                    <a:pt x="103" y="344"/>
                  </a:lnTo>
                  <a:lnTo>
                    <a:pt x="97" y="335"/>
                  </a:lnTo>
                  <a:lnTo>
                    <a:pt x="88" y="327"/>
                  </a:lnTo>
                  <a:lnTo>
                    <a:pt x="78" y="318"/>
                  </a:lnTo>
                  <a:lnTo>
                    <a:pt x="75" y="315"/>
                  </a:lnTo>
                  <a:lnTo>
                    <a:pt x="72" y="311"/>
                  </a:lnTo>
                  <a:lnTo>
                    <a:pt x="69" y="309"/>
                  </a:lnTo>
                  <a:lnTo>
                    <a:pt x="66" y="306"/>
                  </a:lnTo>
                  <a:lnTo>
                    <a:pt x="63" y="304"/>
                  </a:lnTo>
                  <a:lnTo>
                    <a:pt x="61" y="302"/>
                  </a:lnTo>
                  <a:lnTo>
                    <a:pt x="59" y="300"/>
                  </a:lnTo>
                  <a:lnTo>
                    <a:pt x="57" y="297"/>
                  </a:lnTo>
                  <a:lnTo>
                    <a:pt x="50" y="290"/>
                  </a:lnTo>
                  <a:lnTo>
                    <a:pt x="44" y="282"/>
                  </a:lnTo>
                  <a:lnTo>
                    <a:pt x="37" y="275"/>
                  </a:lnTo>
                  <a:lnTo>
                    <a:pt x="32" y="267"/>
                  </a:lnTo>
                  <a:lnTo>
                    <a:pt x="26" y="260"/>
                  </a:lnTo>
                  <a:lnTo>
                    <a:pt x="22" y="252"/>
                  </a:lnTo>
                  <a:lnTo>
                    <a:pt x="18" y="244"/>
                  </a:lnTo>
                  <a:lnTo>
                    <a:pt x="13" y="237"/>
                  </a:lnTo>
                  <a:lnTo>
                    <a:pt x="10" y="229"/>
                  </a:lnTo>
                  <a:lnTo>
                    <a:pt x="8" y="221"/>
                  </a:lnTo>
                  <a:lnTo>
                    <a:pt x="6" y="213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0"/>
                  </a:lnTo>
                  <a:lnTo>
                    <a:pt x="0" y="152"/>
                  </a:lnTo>
                  <a:lnTo>
                    <a:pt x="4" y="134"/>
                  </a:lnTo>
                  <a:lnTo>
                    <a:pt x="7" y="118"/>
                  </a:lnTo>
                  <a:lnTo>
                    <a:pt x="13" y="102"/>
                  </a:lnTo>
                  <a:lnTo>
                    <a:pt x="20" y="88"/>
                  </a:lnTo>
                  <a:lnTo>
                    <a:pt x="30" y="74"/>
                  </a:lnTo>
                  <a:lnTo>
                    <a:pt x="39" y="61"/>
                  </a:lnTo>
                  <a:lnTo>
                    <a:pt x="52" y="48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6" y="19"/>
                  </a:lnTo>
                  <a:lnTo>
                    <a:pt x="112" y="12"/>
                  </a:lnTo>
                  <a:lnTo>
                    <a:pt x="129" y="7"/>
                  </a:lnTo>
                  <a:lnTo>
                    <a:pt x="147" y="4"/>
                  </a:lnTo>
                  <a:lnTo>
                    <a:pt x="166" y="1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3" y="3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40" y="5"/>
                  </a:lnTo>
                  <a:lnTo>
                    <a:pt x="246" y="6"/>
                  </a:lnTo>
                  <a:lnTo>
                    <a:pt x="252" y="7"/>
                  </a:lnTo>
                  <a:lnTo>
                    <a:pt x="258" y="8"/>
                  </a:lnTo>
                  <a:lnTo>
                    <a:pt x="263" y="9"/>
                  </a:lnTo>
                  <a:lnTo>
                    <a:pt x="269" y="11"/>
                  </a:lnTo>
                  <a:lnTo>
                    <a:pt x="274" y="12"/>
                  </a:lnTo>
                  <a:lnTo>
                    <a:pt x="279" y="14"/>
                  </a:lnTo>
                  <a:lnTo>
                    <a:pt x="279" y="151"/>
                  </a:lnTo>
                  <a:lnTo>
                    <a:pt x="274" y="148"/>
                  </a:lnTo>
                  <a:lnTo>
                    <a:pt x="270" y="146"/>
                  </a:lnTo>
                  <a:lnTo>
                    <a:pt x="265" y="144"/>
                  </a:lnTo>
                  <a:lnTo>
                    <a:pt x="261" y="143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9" y="139"/>
                  </a:lnTo>
                  <a:lnTo>
                    <a:pt x="246" y="136"/>
                  </a:lnTo>
                  <a:lnTo>
                    <a:pt x="242" y="136"/>
                  </a:lnTo>
                  <a:lnTo>
                    <a:pt x="238" y="135"/>
                  </a:lnTo>
                  <a:lnTo>
                    <a:pt x="234" y="134"/>
                  </a:lnTo>
                  <a:lnTo>
                    <a:pt x="231" y="133"/>
                  </a:lnTo>
                  <a:lnTo>
                    <a:pt x="228" y="133"/>
                  </a:lnTo>
                  <a:lnTo>
                    <a:pt x="224" y="133"/>
                  </a:lnTo>
                  <a:lnTo>
                    <a:pt x="221" y="132"/>
                  </a:lnTo>
                  <a:lnTo>
                    <a:pt x="218" y="132"/>
                  </a:lnTo>
                  <a:lnTo>
                    <a:pt x="211" y="132"/>
                  </a:lnTo>
                  <a:lnTo>
                    <a:pt x="205" y="133"/>
                  </a:lnTo>
                  <a:lnTo>
                    <a:pt x="199" y="134"/>
                  </a:lnTo>
                  <a:lnTo>
                    <a:pt x="194" y="135"/>
                  </a:lnTo>
                  <a:lnTo>
                    <a:pt x="189" y="136"/>
                  </a:lnTo>
                  <a:lnTo>
                    <a:pt x="184" y="139"/>
                  </a:lnTo>
                  <a:lnTo>
                    <a:pt x="180" y="141"/>
                  </a:lnTo>
                  <a:lnTo>
                    <a:pt x="177" y="144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68" y="154"/>
                  </a:lnTo>
                  <a:lnTo>
                    <a:pt x="166" y="157"/>
                  </a:lnTo>
                  <a:lnTo>
                    <a:pt x="164" y="161"/>
                  </a:lnTo>
                  <a:lnTo>
                    <a:pt x="163" y="166"/>
                  </a:lnTo>
                  <a:lnTo>
                    <a:pt x="163" y="171"/>
                  </a:lnTo>
                  <a:lnTo>
                    <a:pt x="162" y="175"/>
                  </a:lnTo>
                  <a:lnTo>
                    <a:pt x="163" y="182"/>
                  </a:lnTo>
                  <a:lnTo>
                    <a:pt x="165" y="188"/>
                  </a:lnTo>
                  <a:lnTo>
                    <a:pt x="167" y="195"/>
                  </a:lnTo>
                  <a:lnTo>
                    <a:pt x="171" y="201"/>
                  </a:lnTo>
                  <a:lnTo>
                    <a:pt x="178" y="208"/>
                  </a:lnTo>
                  <a:lnTo>
                    <a:pt x="184" y="215"/>
                  </a:lnTo>
                  <a:lnTo>
                    <a:pt x="192" y="223"/>
                  </a:lnTo>
                  <a:lnTo>
                    <a:pt x="202" y="230"/>
                  </a:lnTo>
                  <a:lnTo>
                    <a:pt x="205" y="234"/>
                  </a:lnTo>
                  <a:lnTo>
                    <a:pt x="209" y="236"/>
                  </a:lnTo>
                  <a:lnTo>
                    <a:pt x="212" y="239"/>
                  </a:lnTo>
                  <a:lnTo>
                    <a:pt x="216" y="241"/>
                  </a:lnTo>
                  <a:lnTo>
                    <a:pt x="218" y="244"/>
                  </a:lnTo>
                  <a:lnTo>
                    <a:pt x="221" y="247"/>
                  </a:lnTo>
                  <a:lnTo>
                    <a:pt x="223" y="249"/>
                  </a:lnTo>
                  <a:lnTo>
                    <a:pt x="225" y="251"/>
                  </a:lnTo>
                  <a:lnTo>
                    <a:pt x="234" y="257"/>
                  </a:lnTo>
                  <a:lnTo>
                    <a:pt x="240" y="265"/>
                  </a:lnTo>
                  <a:lnTo>
                    <a:pt x="248" y="273"/>
                  </a:lnTo>
                  <a:lnTo>
                    <a:pt x="253" y="280"/>
                  </a:lnTo>
                  <a:lnTo>
                    <a:pt x="260" y="289"/>
                  </a:lnTo>
                  <a:lnTo>
                    <a:pt x="265" y="296"/>
                  </a:lnTo>
                  <a:lnTo>
                    <a:pt x="270" y="305"/>
                  </a:lnTo>
                  <a:lnTo>
                    <a:pt x="275" y="315"/>
                  </a:lnTo>
                  <a:lnTo>
                    <a:pt x="278" y="323"/>
                  </a:lnTo>
                  <a:lnTo>
                    <a:pt x="282" y="333"/>
                  </a:lnTo>
                  <a:lnTo>
                    <a:pt x="285" y="342"/>
                  </a:lnTo>
                  <a:lnTo>
                    <a:pt x="287" y="351"/>
                  </a:lnTo>
                  <a:lnTo>
                    <a:pt x="289" y="361"/>
                  </a:lnTo>
                  <a:lnTo>
                    <a:pt x="290" y="371"/>
                  </a:lnTo>
                  <a:lnTo>
                    <a:pt x="291" y="382"/>
                  </a:lnTo>
                  <a:lnTo>
                    <a:pt x="291" y="391"/>
                  </a:lnTo>
                  <a:lnTo>
                    <a:pt x="290" y="412"/>
                  </a:lnTo>
                  <a:lnTo>
                    <a:pt x="288" y="430"/>
                  </a:lnTo>
                  <a:lnTo>
                    <a:pt x="284" y="449"/>
                  </a:lnTo>
                  <a:lnTo>
                    <a:pt x="277" y="465"/>
                  </a:lnTo>
                  <a:lnTo>
                    <a:pt x="270" y="480"/>
                  </a:lnTo>
                  <a:lnTo>
                    <a:pt x="260" y="495"/>
                  </a:lnTo>
                  <a:lnTo>
                    <a:pt x="249" y="508"/>
                  </a:lnTo>
                  <a:lnTo>
                    <a:pt x="236" y="521"/>
                  </a:lnTo>
                  <a:lnTo>
                    <a:pt x="222" y="532"/>
                  </a:lnTo>
                  <a:lnTo>
                    <a:pt x="207" y="541"/>
                  </a:lnTo>
                  <a:lnTo>
                    <a:pt x="190" y="549"/>
                  </a:lnTo>
                  <a:lnTo>
                    <a:pt x="171" y="556"/>
                  </a:lnTo>
                  <a:lnTo>
                    <a:pt x="152" y="561"/>
                  </a:lnTo>
                  <a:lnTo>
                    <a:pt x="130" y="564"/>
                  </a:lnTo>
                  <a:lnTo>
                    <a:pt x="109" y="566"/>
                  </a:lnTo>
                  <a:lnTo>
                    <a:pt x="85" y="567"/>
                  </a:lnTo>
                  <a:lnTo>
                    <a:pt x="79" y="567"/>
                  </a:lnTo>
                  <a:lnTo>
                    <a:pt x="75" y="567"/>
                  </a:lnTo>
                  <a:lnTo>
                    <a:pt x="70" y="567"/>
                  </a:lnTo>
                  <a:lnTo>
                    <a:pt x="65" y="567"/>
                  </a:lnTo>
                  <a:lnTo>
                    <a:pt x="60" y="566"/>
                  </a:lnTo>
                  <a:lnTo>
                    <a:pt x="56" y="566"/>
                  </a:lnTo>
                  <a:lnTo>
                    <a:pt x="51" y="566"/>
                  </a:lnTo>
                  <a:lnTo>
                    <a:pt x="46" y="565"/>
                  </a:lnTo>
                  <a:lnTo>
                    <a:pt x="41" y="565"/>
                  </a:lnTo>
                  <a:lnTo>
                    <a:pt x="37" y="564"/>
                  </a:lnTo>
                  <a:lnTo>
                    <a:pt x="33" y="564"/>
                  </a:lnTo>
                  <a:lnTo>
                    <a:pt x="29" y="563"/>
                  </a:lnTo>
                  <a:lnTo>
                    <a:pt x="24" y="563"/>
                  </a:lnTo>
                  <a:lnTo>
                    <a:pt x="19" y="562"/>
                  </a:lnTo>
                  <a:lnTo>
                    <a:pt x="14" y="561"/>
                  </a:lnTo>
                  <a:lnTo>
                    <a:pt x="10" y="5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123960" y="1148400"/>
              <a:ext cx="60840" cy="6552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41" y="85"/>
                  </a:moveTo>
                  <a:lnTo>
                    <a:pt x="45" y="85"/>
                  </a:lnTo>
                  <a:lnTo>
                    <a:pt x="50" y="84"/>
                  </a:lnTo>
                  <a:lnTo>
                    <a:pt x="53" y="83"/>
                  </a:lnTo>
                  <a:lnTo>
                    <a:pt x="57" y="81"/>
                  </a:lnTo>
                  <a:lnTo>
                    <a:pt x="60" y="79"/>
                  </a:lnTo>
                  <a:lnTo>
                    <a:pt x="64" y="77"/>
                  </a:lnTo>
                  <a:lnTo>
                    <a:pt x="67" y="75"/>
                  </a:lnTo>
                  <a:lnTo>
                    <a:pt x="70" y="73"/>
                  </a:lnTo>
                  <a:lnTo>
                    <a:pt x="73" y="70"/>
                  </a:lnTo>
                  <a:lnTo>
                    <a:pt x="76" y="66"/>
                  </a:lnTo>
                  <a:lnTo>
                    <a:pt x="78" y="62"/>
                  </a:lnTo>
                  <a:lnTo>
                    <a:pt x="80" y="59"/>
                  </a:lnTo>
                  <a:lnTo>
                    <a:pt x="81" y="56"/>
                  </a:lnTo>
                  <a:lnTo>
                    <a:pt x="82" y="51"/>
                  </a:lnTo>
                  <a:lnTo>
                    <a:pt x="82" y="47"/>
                  </a:lnTo>
                  <a:lnTo>
                    <a:pt x="83" y="43"/>
                  </a:lnTo>
                  <a:lnTo>
                    <a:pt x="82" y="38"/>
                  </a:lnTo>
                  <a:lnTo>
                    <a:pt x="82" y="35"/>
                  </a:lnTo>
                  <a:lnTo>
                    <a:pt x="81" y="31"/>
                  </a:lnTo>
                  <a:lnTo>
                    <a:pt x="80" y="27"/>
                  </a:lnTo>
                  <a:lnTo>
                    <a:pt x="78" y="23"/>
                  </a:lnTo>
                  <a:lnTo>
                    <a:pt x="76" y="20"/>
                  </a:lnTo>
                  <a:lnTo>
                    <a:pt x="73" y="17"/>
                  </a:lnTo>
                  <a:lnTo>
                    <a:pt x="70" y="13"/>
                  </a:lnTo>
                  <a:lnTo>
                    <a:pt x="67" y="10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3" y="59"/>
                  </a:lnTo>
                  <a:lnTo>
                    <a:pt x="5" y="63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2" y="73"/>
                  </a:lnTo>
                  <a:lnTo>
                    <a:pt x="15" y="75"/>
                  </a:lnTo>
                  <a:lnTo>
                    <a:pt x="18" y="78"/>
                  </a:lnTo>
                  <a:lnTo>
                    <a:pt x="21" y="80"/>
                  </a:lnTo>
                  <a:lnTo>
                    <a:pt x="26" y="81"/>
                  </a:lnTo>
                  <a:lnTo>
                    <a:pt x="29" y="83"/>
                  </a:lnTo>
                  <a:lnTo>
                    <a:pt x="33" y="84"/>
                  </a:lnTo>
                  <a:lnTo>
                    <a:pt x="37" y="85"/>
                  </a:lnTo>
                  <a:lnTo>
                    <a:pt x="41" y="8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27480" y="978480"/>
              <a:ext cx="245880" cy="312120"/>
            </a:xfrm>
            <a:custGeom>
              <a:avLst/>
              <a:gdLst/>
              <a:ahLst/>
              <a:rect l="l" t="t" r="r" b="b"/>
              <a:pathLst>
                <a:path w="322" h="404">
                  <a:moveTo>
                    <a:pt x="211" y="398"/>
                  </a:moveTo>
                  <a:lnTo>
                    <a:pt x="211" y="371"/>
                  </a:lnTo>
                  <a:lnTo>
                    <a:pt x="207" y="375"/>
                  </a:lnTo>
                  <a:lnTo>
                    <a:pt x="203" y="378"/>
                  </a:lnTo>
                  <a:lnTo>
                    <a:pt x="197" y="383"/>
                  </a:lnTo>
                  <a:lnTo>
                    <a:pt x="193" y="386"/>
                  </a:lnTo>
                  <a:lnTo>
                    <a:pt x="188" y="389"/>
                  </a:lnTo>
                  <a:lnTo>
                    <a:pt x="183" y="391"/>
                  </a:lnTo>
                  <a:lnTo>
                    <a:pt x="178" y="395"/>
                  </a:lnTo>
                  <a:lnTo>
                    <a:pt x="172" y="397"/>
                  </a:lnTo>
                  <a:lnTo>
                    <a:pt x="167" y="398"/>
                  </a:lnTo>
                  <a:lnTo>
                    <a:pt x="162" y="400"/>
                  </a:lnTo>
                  <a:lnTo>
                    <a:pt x="156" y="401"/>
                  </a:lnTo>
                  <a:lnTo>
                    <a:pt x="151" y="403"/>
                  </a:lnTo>
                  <a:lnTo>
                    <a:pt x="144" y="403"/>
                  </a:lnTo>
                  <a:lnTo>
                    <a:pt x="139" y="404"/>
                  </a:lnTo>
                  <a:lnTo>
                    <a:pt x="132" y="404"/>
                  </a:lnTo>
                  <a:lnTo>
                    <a:pt x="127" y="404"/>
                  </a:lnTo>
                  <a:lnTo>
                    <a:pt x="113" y="404"/>
                  </a:lnTo>
                  <a:lnTo>
                    <a:pt x="100" y="402"/>
                  </a:lnTo>
                  <a:lnTo>
                    <a:pt x="88" y="400"/>
                  </a:lnTo>
                  <a:lnTo>
                    <a:pt x="76" y="396"/>
                  </a:lnTo>
                  <a:lnTo>
                    <a:pt x="65" y="390"/>
                  </a:lnTo>
                  <a:lnTo>
                    <a:pt x="55" y="384"/>
                  </a:lnTo>
                  <a:lnTo>
                    <a:pt x="45" y="376"/>
                  </a:lnTo>
                  <a:lnTo>
                    <a:pt x="36" y="368"/>
                  </a:lnTo>
                  <a:lnTo>
                    <a:pt x="28" y="358"/>
                  </a:lnTo>
                  <a:lnTo>
                    <a:pt x="20" y="347"/>
                  </a:lnTo>
                  <a:lnTo>
                    <a:pt x="15" y="336"/>
                  </a:lnTo>
                  <a:lnTo>
                    <a:pt x="9" y="324"/>
                  </a:lnTo>
                  <a:lnTo>
                    <a:pt x="6" y="311"/>
                  </a:lnTo>
                  <a:lnTo>
                    <a:pt x="3" y="298"/>
                  </a:lnTo>
                  <a:lnTo>
                    <a:pt x="2" y="284"/>
                  </a:lnTo>
                  <a:lnTo>
                    <a:pt x="0" y="269"/>
                  </a:lnTo>
                  <a:lnTo>
                    <a:pt x="2" y="254"/>
                  </a:lnTo>
                  <a:lnTo>
                    <a:pt x="3" y="240"/>
                  </a:lnTo>
                  <a:lnTo>
                    <a:pt x="6" y="227"/>
                  </a:lnTo>
                  <a:lnTo>
                    <a:pt x="10" y="214"/>
                  </a:lnTo>
                  <a:lnTo>
                    <a:pt x="16" y="202"/>
                  </a:lnTo>
                  <a:lnTo>
                    <a:pt x="22" y="190"/>
                  </a:lnTo>
                  <a:lnTo>
                    <a:pt x="30" y="181"/>
                  </a:lnTo>
                  <a:lnTo>
                    <a:pt x="39" y="170"/>
                  </a:lnTo>
                  <a:lnTo>
                    <a:pt x="49" y="161"/>
                  </a:lnTo>
                  <a:lnTo>
                    <a:pt x="60" y="154"/>
                  </a:lnTo>
                  <a:lnTo>
                    <a:pt x="72" y="147"/>
                  </a:lnTo>
                  <a:lnTo>
                    <a:pt x="84" y="143"/>
                  </a:lnTo>
                  <a:lnTo>
                    <a:pt x="97" y="139"/>
                  </a:lnTo>
                  <a:lnTo>
                    <a:pt x="111" y="135"/>
                  </a:lnTo>
                  <a:lnTo>
                    <a:pt x="126" y="133"/>
                  </a:lnTo>
                  <a:lnTo>
                    <a:pt x="141" y="133"/>
                  </a:lnTo>
                  <a:lnTo>
                    <a:pt x="145" y="133"/>
                  </a:lnTo>
                  <a:lnTo>
                    <a:pt x="149" y="133"/>
                  </a:lnTo>
                  <a:lnTo>
                    <a:pt x="152" y="134"/>
                  </a:lnTo>
                  <a:lnTo>
                    <a:pt x="156" y="134"/>
                  </a:lnTo>
                  <a:lnTo>
                    <a:pt x="159" y="134"/>
                  </a:lnTo>
                  <a:lnTo>
                    <a:pt x="163" y="135"/>
                  </a:lnTo>
                  <a:lnTo>
                    <a:pt x="167" y="136"/>
                  </a:lnTo>
                  <a:lnTo>
                    <a:pt x="170" y="137"/>
                  </a:lnTo>
                  <a:lnTo>
                    <a:pt x="175" y="139"/>
                  </a:lnTo>
                  <a:lnTo>
                    <a:pt x="178" y="140"/>
                  </a:lnTo>
                  <a:lnTo>
                    <a:pt x="181" y="141"/>
                  </a:lnTo>
                  <a:lnTo>
                    <a:pt x="185" y="142"/>
                  </a:lnTo>
                  <a:lnTo>
                    <a:pt x="189" y="144"/>
                  </a:lnTo>
                  <a:lnTo>
                    <a:pt x="193" y="146"/>
                  </a:lnTo>
                  <a:lnTo>
                    <a:pt x="196" y="147"/>
                  </a:lnTo>
                  <a:lnTo>
                    <a:pt x="201" y="149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7"/>
                  </a:lnTo>
                  <a:lnTo>
                    <a:pt x="201" y="147"/>
                  </a:lnTo>
                  <a:lnTo>
                    <a:pt x="201" y="146"/>
                  </a:lnTo>
                  <a:lnTo>
                    <a:pt x="201" y="145"/>
                  </a:lnTo>
                  <a:lnTo>
                    <a:pt x="201" y="145"/>
                  </a:lnTo>
                  <a:lnTo>
                    <a:pt x="201" y="144"/>
                  </a:lnTo>
                  <a:lnTo>
                    <a:pt x="201" y="144"/>
                  </a:lnTo>
                  <a:lnTo>
                    <a:pt x="201" y="143"/>
                  </a:lnTo>
                  <a:lnTo>
                    <a:pt x="201" y="142"/>
                  </a:lnTo>
                  <a:lnTo>
                    <a:pt x="201" y="141"/>
                  </a:lnTo>
                  <a:lnTo>
                    <a:pt x="201" y="140"/>
                  </a:lnTo>
                  <a:lnTo>
                    <a:pt x="201" y="139"/>
                  </a:lnTo>
                  <a:lnTo>
                    <a:pt x="201" y="137"/>
                  </a:lnTo>
                  <a:lnTo>
                    <a:pt x="201" y="132"/>
                  </a:lnTo>
                  <a:lnTo>
                    <a:pt x="199" y="127"/>
                  </a:lnTo>
                  <a:lnTo>
                    <a:pt x="198" y="121"/>
                  </a:lnTo>
                  <a:lnTo>
                    <a:pt x="197" y="117"/>
                  </a:lnTo>
                  <a:lnTo>
                    <a:pt x="194" y="113"/>
                  </a:lnTo>
                  <a:lnTo>
                    <a:pt x="192" y="109"/>
                  </a:lnTo>
                  <a:lnTo>
                    <a:pt x="189" y="106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76" y="100"/>
                  </a:lnTo>
                  <a:lnTo>
                    <a:pt x="169" y="98"/>
                  </a:lnTo>
                  <a:lnTo>
                    <a:pt x="163" y="96"/>
                  </a:lnTo>
                  <a:lnTo>
                    <a:pt x="155" y="95"/>
                  </a:lnTo>
                  <a:lnTo>
                    <a:pt x="146" y="94"/>
                  </a:lnTo>
                  <a:lnTo>
                    <a:pt x="137" y="94"/>
                  </a:lnTo>
                  <a:lnTo>
                    <a:pt x="127" y="94"/>
                  </a:lnTo>
                  <a:lnTo>
                    <a:pt x="121" y="94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94"/>
                  </a:lnTo>
                  <a:lnTo>
                    <a:pt x="97" y="94"/>
                  </a:lnTo>
                  <a:lnTo>
                    <a:pt x="91" y="95"/>
                  </a:lnTo>
                  <a:lnTo>
                    <a:pt x="85" y="95"/>
                  </a:lnTo>
                  <a:lnTo>
                    <a:pt x="79" y="95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64" y="96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9" y="99"/>
                  </a:lnTo>
                  <a:lnTo>
                    <a:pt x="44" y="100"/>
                  </a:lnTo>
                  <a:lnTo>
                    <a:pt x="39" y="100"/>
                  </a:lnTo>
                  <a:lnTo>
                    <a:pt x="55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7" y="4"/>
                  </a:lnTo>
                  <a:lnTo>
                    <a:pt x="103" y="4"/>
                  </a:lnTo>
                  <a:lnTo>
                    <a:pt x="110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8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80" y="1"/>
                  </a:lnTo>
                  <a:lnTo>
                    <a:pt x="202" y="2"/>
                  </a:lnTo>
                  <a:lnTo>
                    <a:pt x="220" y="5"/>
                  </a:lnTo>
                  <a:lnTo>
                    <a:pt x="237" y="8"/>
                  </a:lnTo>
                  <a:lnTo>
                    <a:pt x="252" y="12"/>
                  </a:lnTo>
                  <a:lnTo>
                    <a:pt x="265" y="18"/>
                  </a:lnTo>
                  <a:lnTo>
                    <a:pt x="277" y="24"/>
                  </a:lnTo>
                  <a:lnTo>
                    <a:pt x="287" y="31"/>
                  </a:lnTo>
                  <a:lnTo>
                    <a:pt x="296" y="39"/>
                  </a:lnTo>
                  <a:lnTo>
                    <a:pt x="302" y="49"/>
                  </a:lnTo>
                  <a:lnTo>
                    <a:pt x="309" y="60"/>
                  </a:lnTo>
                  <a:lnTo>
                    <a:pt x="313" y="74"/>
                  </a:lnTo>
                  <a:lnTo>
                    <a:pt x="317" y="88"/>
                  </a:lnTo>
                  <a:lnTo>
                    <a:pt x="320" y="105"/>
                  </a:lnTo>
                  <a:lnTo>
                    <a:pt x="322" y="122"/>
                  </a:lnTo>
                  <a:lnTo>
                    <a:pt x="322" y="143"/>
                  </a:lnTo>
                  <a:lnTo>
                    <a:pt x="322" y="398"/>
                  </a:lnTo>
                  <a:lnTo>
                    <a:pt x="211" y="3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315480" y="858600"/>
              <a:ext cx="165240" cy="427680"/>
            </a:xfrm>
            <a:custGeom>
              <a:avLst/>
              <a:gdLst/>
              <a:ahLst/>
              <a:rect l="l" t="t" r="r" b="b"/>
              <a:pathLst>
                <a:path w="218" h="554">
                  <a:moveTo>
                    <a:pt x="218" y="2"/>
                  </a:moveTo>
                  <a:lnTo>
                    <a:pt x="218" y="125"/>
                  </a:lnTo>
                  <a:lnTo>
                    <a:pt x="217" y="125"/>
                  </a:lnTo>
                  <a:lnTo>
                    <a:pt x="216" y="125"/>
                  </a:lnTo>
                  <a:lnTo>
                    <a:pt x="215" y="125"/>
                  </a:lnTo>
                  <a:lnTo>
                    <a:pt x="214" y="125"/>
                  </a:lnTo>
                  <a:lnTo>
                    <a:pt x="213" y="125"/>
                  </a:lnTo>
                  <a:lnTo>
                    <a:pt x="211" y="125"/>
                  </a:lnTo>
                  <a:lnTo>
                    <a:pt x="209" y="125"/>
                  </a:lnTo>
                  <a:lnTo>
                    <a:pt x="208" y="125"/>
                  </a:lnTo>
                  <a:lnTo>
                    <a:pt x="207" y="125"/>
                  </a:lnTo>
                  <a:lnTo>
                    <a:pt x="206" y="125"/>
                  </a:lnTo>
                  <a:lnTo>
                    <a:pt x="205" y="125"/>
                  </a:lnTo>
                  <a:lnTo>
                    <a:pt x="204" y="125"/>
                  </a:lnTo>
                  <a:lnTo>
                    <a:pt x="203" y="125"/>
                  </a:lnTo>
                  <a:lnTo>
                    <a:pt x="202" y="125"/>
                  </a:lnTo>
                  <a:lnTo>
                    <a:pt x="202" y="125"/>
                  </a:lnTo>
                  <a:lnTo>
                    <a:pt x="201" y="125"/>
                  </a:lnTo>
                  <a:lnTo>
                    <a:pt x="196" y="125"/>
                  </a:lnTo>
                  <a:lnTo>
                    <a:pt x="191" y="125"/>
                  </a:lnTo>
                  <a:lnTo>
                    <a:pt x="187" y="126"/>
                  </a:lnTo>
                  <a:lnTo>
                    <a:pt x="182" y="126"/>
                  </a:lnTo>
                  <a:lnTo>
                    <a:pt x="179" y="127"/>
                  </a:lnTo>
                  <a:lnTo>
                    <a:pt x="176" y="128"/>
                  </a:lnTo>
                  <a:lnTo>
                    <a:pt x="173" y="130"/>
                  </a:lnTo>
                  <a:lnTo>
                    <a:pt x="171" y="131"/>
                  </a:lnTo>
                  <a:lnTo>
                    <a:pt x="168" y="134"/>
                  </a:lnTo>
                  <a:lnTo>
                    <a:pt x="166" y="136"/>
                  </a:lnTo>
                  <a:lnTo>
                    <a:pt x="165" y="139"/>
                  </a:lnTo>
                  <a:lnTo>
                    <a:pt x="163" y="141"/>
                  </a:lnTo>
                  <a:lnTo>
                    <a:pt x="162" y="144"/>
                  </a:lnTo>
                  <a:lnTo>
                    <a:pt x="162" y="148"/>
                  </a:lnTo>
                  <a:lnTo>
                    <a:pt x="161" y="152"/>
                  </a:lnTo>
                  <a:lnTo>
                    <a:pt x="161" y="156"/>
                  </a:lnTo>
                  <a:lnTo>
                    <a:pt x="161" y="158"/>
                  </a:lnTo>
                  <a:lnTo>
                    <a:pt x="218" y="158"/>
                  </a:lnTo>
                  <a:lnTo>
                    <a:pt x="218" y="276"/>
                  </a:lnTo>
                  <a:lnTo>
                    <a:pt x="161" y="276"/>
                  </a:lnTo>
                  <a:lnTo>
                    <a:pt x="161" y="554"/>
                  </a:lnTo>
                  <a:lnTo>
                    <a:pt x="31" y="554"/>
                  </a:lnTo>
                  <a:lnTo>
                    <a:pt x="31" y="276"/>
                  </a:lnTo>
                  <a:lnTo>
                    <a:pt x="0" y="276"/>
                  </a:lnTo>
                  <a:lnTo>
                    <a:pt x="0" y="158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1" y="130"/>
                  </a:lnTo>
                  <a:lnTo>
                    <a:pt x="33" y="113"/>
                  </a:lnTo>
                  <a:lnTo>
                    <a:pt x="36" y="98"/>
                  </a:lnTo>
                  <a:lnTo>
                    <a:pt x="41" y="83"/>
                  </a:lnTo>
                  <a:lnTo>
                    <a:pt x="46" y="70"/>
                  </a:lnTo>
                  <a:lnTo>
                    <a:pt x="53" y="58"/>
                  </a:lnTo>
                  <a:lnTo>
                    <a:pt x="60" y="47"/>
                  </a:lnTo>
                  <a:lnTo>
                    <a:pt x="70" y="36"/>
                  </a:lnTo>
                  <a:lnTo>
                    <a:pt x="80" y="28"/>
                  </a:lnTo>
                  <a:lnTo>
                    <a:pt x="92" y="20"/>
                  </a:lnTo>
                  <a:lnTo>
                    <a:pt x="103" y="15"/>
                  </a:lnTo>
                  <a:lnTo>
                    <a:pt x="118" y="9"/>
                  </a:lnTo>
                  <a:lnTo>
                    <a:pt x="133" y="5"/>
                  </a:lnTo>
                  <a:lnTo>
                    <a:pt x="149" y="2"/>
                  </a:lnTo>
                  <a:lnTo>
                    <a:pt x="166" y="1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9" y="1"/>
                  </a:lnTo>
                  <a:lnTo>
                    <a:pt x="203" y="1"/>
                  </a:lnTo>
                  <a:lnTo>
                    <a:pt x="207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7" y="2"/>
                  </a:lnTo>
                  <a:lnTo>
                    <a:pt x="218" y="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587640" y="1059120"/>
              <a:ext cx="95400" cy="76680"/>
            </a:xfrm>
            <a:custGeom>
              <a:avLst/>
              <a:gdLst/>
              <a:ahLst/>
              <a:rect l="l" t="t" r="r" b="b"/>
              <a:pathLst>
                <a:path w="123" h="101">
                  <a:moveTo>
                    <a:pt x="2" y="101"/>
                  </a:moveTo>
                  <a:lnTo>
                    <a:pt x="123" y="15"/>
                  </a:lnTo>
                  <a:lnTo>
                    <a:pt x="121" y="13"/>
                  </a:lnTo>
                  <a:lnTo>
                    <a:pt x="119" y="11"/>
                  </a:lnTo>
                  <a:lnTo>
                    <a:pt x="116" y="10"/>
                  </a:lnTo>
                  <a:lnTo>
                    <a:pt x="114" y="8"/>
                  </a:lnTo>
                  <a:lnTo>
                    <a:pt x="112" y="6"/>
                  </a:lnTo>
                  <a:lnTo>
                    <a:pt x="109" y="5"/>
                  </a:lnTo>
                  <a:lnTo>
                    <a:pt x="107" y="4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8" y="3"/>
                  </a:lnTo>
                  <a:lnTo>
                    <a:pt x="50" y="6"/>
                  </a:lnTo>
                  <a:lnTo>
                    <a:pt x="43" y="10"/>
                  </a:lnTo>
                  <a:lnTo>
                    <a:pt x="36" y="14"/>
                  </a:lnTo>
                  <a:lnTo>
                    <a:pt x="30" y="19"/>
                  </a:lnTo>
                  <a:lnTo>
                    <a:pt x="24" y="25"/>
                  </a:lnTo>
                  <a:lnTo>
                    <a:pt x="18" y="31"/>
                  </a:lnTo>
                  <a:lnTo>
                    <a:pt x="14" y="38"/>
                  </a:lnTo>
                  <a:lnTo>
                    <a:pt x="9" y="44"/>
                  </a:lnTo>
                  <a:lnTo>
                    <a:pt x="6" y="52"/>
                  </a:lnTo>
                  <a:lnTo>
                    <a:pt x="3" y="59"/>
                  </a:lnTo>
                  <a:lnTo>
                    <a:pt x="2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2" y="98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2" y="10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495480" y="978480"/>
              <a:ext cx="295560" cy="312120"/>
            </a:xfrm>
            <a:custGeom>
              <a:avLst/>
              <a:gdLst/>
              <a:ahLst/>
              <a:rect l="l" t="t" r="r" b="b"/>
              <a:pathLst>
                <a:path w="382" h="407">
                  <a:moveTo>
                    <a:pt x="360" y="363"/>
                  </a:moveTo>
                  <a:lnTo>
                    <a:pt x="351" y="368"/>
                  </a:lnTo>
                  <a:lnTo>
                    <a:pt x="342" y="374"/>
                  </a:lnTo>
                  <a:lnTo>
                    <a:pt x="333" y="378"/>
                  </a:lnTo>
                  <a:lnTo>
                    <a:pt x="324" y="382"/>
                  </a:lnTo>
                  <a:lnTo>
                    <a:pt x="314" y="387"/>
                  </a:lnTo>
                  <a:lnTo>
                    <a:pt x="305" y="390"/>
                  </a:lnTo>
                  <a:lnTo>
                    <a:pt x="295" y="393"/>
                  </a:lnTo>
                  <a:lnTo>
                    <a:pt x="285" y="396"/>
                  </a:lnTo>
                  <a:lnTo>
                    <a:pt x="275" y="399"/>
                  </a:lnTo>
                  <a:lnTo>
                    <a:pt x="266" y="402"/>
                  </a:lnTo>
                  <a:lnTo>
                    <a:pt x="255" y="403"/>
                  </a:lnTo>
                  <a:lnTo>
                    <a:pt x="245" y="405"/>
                  </a:lnTo>
                  <a:lnTo>
                    <a:pt x="234" y="406"/>
                  </a:lnTo>
                  <a:lnTo>
                    <a:pt x="224" y="407"/>
                  </a:lnTo>
                  <a:lnTo>
                    <a:pt x="214" y="407"/>
                  </a:lnTo>
                  <a:lnTo>
                    <a:pt x="203" y="407"/>
                  </a:lnTo>
                  <a:lnTo>
                    <a:pt x="180" y="407"/>
                  </a:lnTo>
                  <a:lnTo>
                    <a:pt x="160" y="404"/>
                  </a:lnTo>
                  <a:lnTo>
                    <a:pt x="139" y="400"/>
                  </a:lnTo>
                  <a:lnTo>
                    <a:pt x="121" y="394"/>
                  </a:lnTo>
                  <a:lnTo>
                    <a:pt x="102" y="386"/>
                  </a:lnTo>
                  <a:lnTo>
                    <a:pt x="86" y="376"/>
                  </a:lnTo>
                  <a:lnTo>
                    <a:pt x="70" y="365"/>
                  </a:lnTo>
                  <a:lnTo>
                    <a:pt x="56" y="352"/>
                  </a:lnTo>
                  <a:lnTo>
                    <a:pt x="43" y="338"/>
                  </a:lnTo>
                  <a:lnTo>
                    <a:pt x="31" y="322"/>
                  </a:lnTo>
                  <a:lnTo>
                    <a:pt x="21" y="306"/>
                  </a:lnTo>
                  <a:lnTo>
                    <a:pt x="14" y="288"/>
                  </a:lnTo>
                  <a:lnTo>
                    <a:pt x="8" y="270"/>
                  </a:lnTo>
                  <a:lnTo>
                    <a:pt x="3" y="251"/>
                  </a:lnTo>
                  <a:lnTo>
                    <a:pt x="1" y="229"/>
                  </a:lnTo>
                  <a:lnTo>
                    <a:pt x="0" y="207"/>
                  </a:lnTo>
                  <a:lnTo>
                    <a:pt x="1" y="187"/>
                  </a:lnTo>
                  <a:lnTo>
                    <a:pt x="4" y="165"/>
                  </a:lnTo>
                  <a:lnTo>
                    <a:pt x="8" y="146"/>
                  </a:lnTo>
                  <a:lnTo>
                    <a:pt x="15" y="128"/>
                  </a:lnTo>
                  <a:lnTo>
                    <a:pt x="22" y="109"/>
                  </a:lnTo>
                  <a:lnTo>
                    <a:pt x="33" y="92"/>
                  </a:lnTo>
                  <a:lnTo>
                    <a:pt x="45" y="76"/>
                  </a:lnTo>
                  <a:lnTo>
                    <a:pt x="59" y="61"/>
                  </a:lnTo>
                  <a:lnTo>
                    <a:pt x="74" y="47"/>
                  </a:lnTo>
                  <a:lnTo>
                    <a:pt x="89" y="34"/>
                  </a:lnTo>
                  <a:lnTo>
                    <a:pt x="107" y="24"/>
                  </a:lnTo>
                  <a:lnTo>
                    <a:pt x="124" y="15"/>
                  </a:lnTo>
                  <a:lnTo>
                    <a:pt x="142" y="9"/>
                  </a:lnTo>
                  <a:lnTo>
                    <a:pt x="162" y="3"/>
                  </a:lnTo>
                  <a:lnTo>
                    <a:pt x="182" y="1"/>
                  </a:lnTo>
                  <a:lnTo>
                    <a:pt x="203" y="0"/>
                  </a:lnTo>
                  <a:lnTo>
                    <a:pt x="219" y="0"/>
                  </a:lnTo>
                  <a:lnTo>
                    <a:pt x="234" y="2"/>
                  </a:lnTo>
                  <a:lnTo>
                    <a:pt x="248" y="5"/>
                  </a:lnTo>
                  <a:lnTo>
                    <a:pt x="262" y="9"/>
                  </a:lnTo>
                  <a:lnTo>
                    <a:pt x="277" y="14"/>
                  </a:lnTo>
                  <a:lnTo>
                    <a:pt x="289" y="21"/>
                  </a:lnTo>
                  <a:lnTo>
                    <a:pt x="302" y="27"/>
                  </a:lnTo>
                  <a:lnTo>
                    <a:pt x="314" y="36"/>
                  </a:lnTo>
                  <a:lnTo>
                    <a:pt x="325" y="45"/>
                  </a:lnTo>
                  <a:lnTo>
                    <a:pt x="336" y="55"/>
                  </a:lnTo>
                  <a:lnTo>
                    <a:pt x="346" y="66"/>
                  </a:lnTo>
                  <a:lnTo>
                    <a:pt x="355" y="79"/>
                  </a:lnTo>
                  <a:lnTo>
                    <a:pt x="363" y="92"/>
                  </a:lnTo>
                  <a:lnTo>
                    <a:pt x="371" y="105"/>
                  </a:lnTo>
                  <a:lnTo>
                    <a:pt x="377" y="120"/>
                  </a:lnTo>
                  <a:lnTo>
                    <a:pt x="382" y="135"/>
                  </a:lnTo>
                  <a:lnTo>
                    <a:pt x="172" y="284"/>
                  </a:lnTo>
                  <a:lnTo>
                    <a:pt x="174" y="285"/>
                  </a:lnTo>
                  <a:lnTo>
                    <a:pt x="176" y="286"/>
                  </a:lnTo>
                  <a:lnTo>
                    <a:pt x="179" y="287"/>
                  </a:lnTo>
                  <a:lnTo>
                    <a:pt x="181" y="287"/>
                  </a:lnTo>
                  <a:lnTo>
                    <a:pt x="185" y="288"/>
                  </a:lnTo>
                  <a:lnTo>
                    <a:pt x="187" y="290"/>
                  </a:lnTo>
                  <a:lnTo>
                    <a:pt x="189" y="290"/>
                  </a:lnTo>
                  <a:lnTo>
                    <a:pt x="192" y="291"/>
                  </a:lnTo>
                  <a:lnTo>
                    <a:pt x="195" y="291"/>
                  </a:lnTo>
                  <a:lnTo>
                    <a:pt x="198" y="292"/>
                  </a:lnTo>
                  <a:lnTo>
                    <a:pt x="201" y="292"/>
                  </a:lnTo>
                  <a:lnTo>
                    <a:pt x="204" y="292"/>
                  </a:lnTo>
                  <a:lnTo>
                    <a:pt x="207" y="292"/>
                  </a:lnTo>
                  <a:lnTo>
                    <a:pt x="209" y="293"/>
                  </a:lnTo>
                  <a:lnTo>
                    <a:pt x="213" y="293"/>
                  </a:lnTo>
                  <a:lnTo>
                    <a:pt x="217" y="293"/>
                  </a:lnTo>
                  <a:lnTo>
                    <a:pt x="225" y="292"/>
                  </a:lnTo>
                  <a:lnTo>
                    <a:pt x="232" y="292"/>
                  </a:lnTo>
                  <a:lnTo>
                    <a:pt x="241" y="291"/>
                  </a:lnTo>
                  <a:lnTo>
                    <a:pt x="249" y="288"/>
                  </a:lnTo>
                  <a:lnTo>
                    <a:pt x="257" y="286"/>
                  </a:lnTo>
                  <a:lnTo>
                    <a:pt x="266" y="284"/>
                  </a:lnTo>
                  <a:lnTo>
                    <a:pt x="274" y="281"/>
                  </a:lnTo>
                  <a:lnTo>
                    <a:pt x="283" y="278"/>
                  </a:lnTo>
                  <a:lnTo>
                    <a:pt x="291" y="273"/>
                  </a:lnTo>
                  <a:lnTo>
                    <a:pt x="299" y="269"/>
                  </a:lnTo>
                  <a:lnTo>
                    <a:pt x="308" y="265"/>
                  </a:lnTo>
                  <a:lnTo>
                    <a:pt x="317" y="259"/>
                  </a:lnTo>
                  <a:lnTo>
                    <a:pt x="325" y="253"/>
                  </a:lnTo>
                  <a:lnTo>
                    <a:pt x="333" y="247"/>
                  </a:lnTo>
                  <a:lnTo>
                    <a:pt x="341" y="241"/>
                  </a:lnTo>
                  <a:lnTo>
                    <a:pt x="350" y="233"/>
                  </a:lnTo>
                  <a:lnTo>
                    <a:pt x="360" y="3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94640" y="851040"/>
              <a:ext cx="214560" cy="300960"/>
            </a:xfrm>
            <a:custGeom>
              <a:avLst/>
              <a:gdLst/>
              <a:ahLst/>
              <a:rect l="l" t="t" r="r" b="b"/>
              <a:pathLst>
                <a:path w="279" h="391">
                  <a:moveTo>
                    <a:pt x="80" y="391"/>
                  </a:moveTo>
                  <a:lnTo>
                    <a:pt x="80" y="311"/>
                  </a:lnTo>
                  <a:lnTo>
                    <a:pt x="80" y="306"/>
                  </a:lnTo>
                  <a:lnTo>
                    <a:pt x="80" y="300"/>
                  </a:lnTo>
                  <a:lnTo>
                    <a:pt x="80" y="295"/>
                  </a:lnTo>
                  <a:lnTo>
                    <a:pt x="81" y="289"/>
                  </a:lnTo>
                  <a:lnTo>
                    <a:pt x="81" y="285"/>
                  </a:lnTo>
                  <a:lnTo>
                    <a:pt x="82" y="280"/>
                  </a:lnTo>
                  <a:lnTo>
                    <a:pt x="83" y="275"/>
                  </a:lnTo>
                  <a:lnTo>
                    <a:pt x="83" y="271"/>
                  </a:lnTo>
                  <a:lnTo>
                    <a:pt x="84" y="267"/>
                  </a:lnTo>
                  <a:lnTo>
                    <a:pt x="87" y="262"/>
                  </a:lnTo>
                  <a:lnTo>
                    <a:pt x="88" y="258"/>
                  </a:lnTo>
                  <a:lnTo>
                    <a:pt x="90" y="254"/>
                  </a:lnTo>
                  <a:lnTo>
                    <a:pt x="91" y="249"/>
                  </a:lnTo>
                  <a:lnTo>
                    <a:pt x="93" y="245"/>
                  </a:lnTo>
                  <a:lnTo>
                    <a:pt x="95" y="241"/>
                  </a:lnTo>
                  <a:lnTo>
                    <a:pt x="97" y="237"/>
                  </a:lnTo>
                  <a:lnTo>
                    <a:pt x="98" y="235"/>
                  </a:lnTo>
                  <a:lnTo>
                    <a:pt x="99" y="232"/>
                  </a:lnTo>
                  <a:lnTo>
                    <a:pt x="102" y="230"/>
                  </a:lnTo>
                  <a:lnTo>
                    <a:pt x="103" y="228"/>
                  </a:lnTo>
                  <a:lnTo>
                    <a:pt x="105" y="225"/>
                  </a:lnTo>
                  <a:lnTo>
                    <a:pt x="106" y="221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6" y="207"/>
                  </a:lnTo>
                  <a:lnTo>
                    <a:pt x="119" y="201"/>
                  </a:lnTo>
                  <a:lnTo>
                    <a:pt x="123" y="195"/>
                  </a:lnTo>
                  <a:lnTo>
                    <a:pt x="125" y="189"/>
                  </a:lnTo>
                  <a:lnTo>
                    <a:pt x="128" y="184"/>
                  </a:lnTo>
                  <a:lnTo>
                    <a:pt x="129" y="179"/>
                  </a:lnTo>
                  <a:lnTo>
                    <a:pt x="130" y="175"/>
                  </a:lnTo>
                  <a:lnTo>
                    <a:pt x="131" y="171"/>
                  </a:lnTo>
                  <a:lnTo>
                    <a:pt x="131" y="167"/>
                  </a:lnTo>
                  <a:lnTo>
                    <a:pt x="130" y="164"/>
                  </a:lnTo>
                  <a:lnTo>
                    <a:pt x="130" y="162"/>
                  </a:lnTo>
                  <a:lnTo>
                    <a:pt x="129" y="159"/>
                  </a:lnTo>
                  <a:lnTo>
                    <a:pt x="128" y="157"/>
                  </a:lnTo>
                  <a:lnTo>
                    <a:pt x="127" y="154"/>
                  </a:lnTo>
                  <a:lnTo>
                    <a:pt x="125" y="152"/>
                  </a:lnTo>
                  <a:lnTo>
                    <a:pt x="123" y="150"/>
                  </a:lnTo>
                  <a:lnTo>
                    <a:pt x="121" y="149"/>
                  </a:lnTo>
                  <a:lnTo>
                    <a:pt x="120" y="147"/>
                  </a:lnTo>
                  <a:lnTo>
                    <a:pt x="118" y="146"/>
                  </a:lnTo>
                  <a:lnTo>
                    <a:pt x="115" y="145"/>
                  </a:lnTo>
                  <a:lnTo>
                    <a:pt x="112" y="145"/>
                  </a:lnTo>
                  <a:lnTo>
                    <a:pt x="110" y="144"/>
                  </a:lnTo>
                  <a:lnTo>
                    <a:pt x="107" y="144"/>
                  </a:lnTo>
                  <a:lnTo>
                    <a:pt x="104" y="144"/>
                  </a:lnTo>
                  <a:lnTo>
                    <a:pt x="101" y="144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2" y="145"/>
                  </a:lnTo>
                  <a:lnTo>
                    <a:pt x="90" y="146"/>
                  </a:lnTo>
                  <a:lnTo>
                    <a:pt x="87" y="148"/>
                  </a:lnTo>
                  <a:lnTo>
                    <a:pt x="83" y="149"/>
                  </a:lnTo>
                  <a:lnTo>
                    <a:pt x="81" y="151"/>
                  </a:lnTo>
                  <a:lnTo>
                    <a:pt x="78" y="152"/>
                  </a:lnTo>
                  <a:lnTo>
                    <a:pt x="75" y="154"/>
                  </a:lnTo>
                  <a:lnTo>
                    <a:pt x="72" y="157"/>
                  </a:lnTo>
                  <a:lnTo>
                    <a:pt x="70" y="160"/>
                  </a:lnTo>
                  <a:lnTo>
                    <a:pt x="68" y="162"/>
                  </a:lnTo>
                  <a:lnTo>
                    <a:pt x="66" y="164"/>
                  </a:lnTo>
                  <a:lnTo>
                    <a:pt x="64" y="167"/>
                  </a:lnTo>
                  <a:lnTo>
                    <a:pt x="62" y="171"/>
                  </a:lnTo>
                  <a:lnTo>
                    <a:pt x="0" y="86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2" y="57"/>
                  </a:lnTo>
                  <a:lnTo>
                    <a:pt x="29" y="49"/>
                  </a:lnTo>
                  <a:lnTo>
                    <a:pt x="37" y="41"/>
                  </a:lnTo>
                  <a:lnTo>
                    <a:pt x="45" y="33"/>
                  </a:lnTo>
                  <a:lnTo>
                    <a:pt x="54" y="27"/>
                  </a:lnTo>
                  <a:lnTo>
                    <a:pt x="63" y="22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9"/>
                  </a:lnTo>
                  <a:lnTo>
                    <a:pt x="99" y="5"/>
                  </a:lnTo>
                  <a:lnTo>
                    <a:pt x="109" y="3"/>
                  </a:lnTo>
                  <a:lnTo>
                    <a:pt x="119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5" y="1"/>
                  </a:lnTo>
                  <a:lnTo>
                    <a:pt x="169" y="2"/>
                  </a:lnTo>
                  <a:lnTo>
                    <a:pt x="182" y="5"/>
                  </a:lnTo>
                  <a:lnTo>
                    <a:pt x="195" y="10"/>
                  </a:lnTo>
                  <a:lnTo>
                    <a:pt x="207" y="16"/>
                  </a:lnTo>
                  <a:lnTo>
                    <a:pt x="218" y="23"/>
                  </a:lnTo>
                  <a:lnTo>
                    <a:pt x="229" y="30"/>
                  </a:lnTo>
                  <a:lnTo>
                    <a:pt x="239" y="40"/>
                  </a:lnTo>
                  <a:lnTo>
                    <a:pt x="249" y="51"/>
                  </a:lnTo>
                  <a:lnTo>
                    <a:pt x="256" y="62"/>
                  </a:lnTo>
                  <a:lnTo>
                    <a:pt x="264" y="72"/>
                  </a:lnTo>
                  <a:lnTo>
                    <a:pt x="269" y="85"/>
                  </a:lnTo>
                  <a:lnTo>
                    <a:pt x="274" y="98"/>
                  </a:lnTo>
                  <a:lnTo>
                    <a:pt x="277" y="111"/>
                  </a:lnTo>
                  <a:lnTo>
                    <a:pt x="278" y="125"/>
                  </a:lnTo>
                  <a:lnTo>
                    <a:pt x="279" y="140"/>
                  </a:lnTo>
                  <a:lnTo>
                    <a:pt x="278" y="151"/>
                  </a:lnTo>
                  <a:lnTo>
                    <a:pt x="277" y="163"/>
                  </a:lnTo>
                  <a:lnTo>
                    <a:pt x="274" y="175"/>
                  </a:lnTo>
                  <a:lnTo>
                    <a:pt x="270" y="188"/>
                  </a:lnTo>
                  <a:lnTo>
                    <a:pt x="265" y="200"/>
                  </a:lnTo>
                  <a:lnTo>
                    <a:pt x="258" y="214"/>
                  </a:lnTo>
                  <a:lnTo>
                    <a:pt x="251" y="227"/>
                  </a:lnTo>
                  <a:lnTo>
                    <a:pt x="242" y="241"/>
                  </a:lnTo>
                  <a:lnTo>
                    <a:pt x="240" y="245"/>
                  </a:lnTo>
                  <a:lnTo>
                    <a:pt x="238" y="248"/>
                  </a:lnTo>
                  <a:lnTo>
                    <a:pt x="236" y="251"/>
                  </a:lnTo>
                  <a:lnTo>
                    <a:pt x="235" y="254"/>
                  </a:lnTo>
                  <a:lnTo>
                    <a:pt x="232" y="257"/>
                  </a:lnTo>
                  <a:lnTo>
                    <a:pt x="231" y="259"/>
                  </a:lnTo>
                  <a:lnTo>
                    <a:pt x="230" y="261"/>
                  </a:lnTo>
                  <a:lnTo>
                    <a:pt x="229" y="262"/>
                  </a:lnTo>
                  <a:lnTo>
                    <a:pt x="227" y="267"/>
                  </a:lnTo>
                  <a:lnTo>
                    <a:pt x="225" y="271"/>
                  </a:lnTo>
                  <a:lnTo>
                    <a:pt x="223" y="274"/>
                  </a:lnTo>
                  <a:lnTo>
                    <a:pt x="222" y="279"/>
                  </a:lnTo>
                  <a:lnTo>
                    <a:pt x="220" y="284"/>
                  </a:lnTo>
                  <a:lnTo>
                    <a:pt x="218" y="288"/>
                  </a:lnTo>
                  <a:lnTo>
                    <a:pt x="217" y="294"/>
                  </a:lnTo>
                  <a:lnTo>
                    <a:pt x="216" y="298"/>
                  </a:lnTo>
                  <a:lnTo>
                    <a:pt x="215" y="303"/>
                  </a:lnTo>
                  <a:lnTo>
                    <a:pt x="214" y="310"/>
                  </a:lnTo>
                  <a:lnTo>
                    <a:pt x="214" y="315"/>
                  </a:lnTo>
                  <a:lnTo>
                    <a:pt x="213" y="322"/>
                  </a:lnTo>
                  <a:lnTo>
                    <a:pt x="213" y="328"/>
                  </a:lnTo>
                  <a:lnTo>
                    <a:pt x="212" y="335"/>
                  </a:lnTo>
                  <a:lnTo>
                    <a:pt x="212" y="341"/>
                  </a:lnTo>
                  <a:lnTo>
                    <a:pt x="212" y="349"/>
                  </a:lnTo>
                  <a:lnTo>
                    <a:pt x="212" y="391"/>
                  </a:lnTo>
                  <a:lnTo>
                    <a:pt x="80" y="39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6560" y="1179000"/>
              <a:ext cx="103320" cy="10764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891720" y="2666880"/>
            <a:ext cx="1709280" cy="1582560"/>
            <a:chOff x="891720" y="2666880"/>
            <a:chExt cx="1709280" cy="1582560"/>
          </a:xfrm>
        </p:grpSpPr>
        <p:sp>
          <p:nvSpPr>
            <p:cNvPr id="1689" name=""/>
            <p:cNvSpPr/>
            <p:nvPr/>
          </p:nvSpPr>
          <p:spPr>
            <a:xfrm>
              <a:off x="891720" y="3762360"/>
              <a:ext cx="1709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perm - About 5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Microns in siz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70080" y="2666880"/>
              <a:ext cx="1011240" cy="1009800"/>
            </a:xfrm>
            <a:custGeom>
              <a:avLst/>
              <a:gdLst/>
              <a:ahLst/>
              <a:rect l="l" t="t" r="r" b="b"/>
              <a:pathLst>
                <a:path w="3183" h="3180">
                  <a:moveTo>
                    <a:pt x="1592" y="0"/>
                  </a:moveTo>
                  <a:lnTo>
                    <a:pt x="1673" y="2"/>
                  </a:lnTo>
                  <a:lnTo>
                    <a:pt x="1754" y="9"/>
                  </a:lnTo>
                  <a:lnTo>
                    <a:pt x="1833" y="19"/>
                  </a:lnTo>
                  <a:lnTo>
                    <a:pt x="1912" y="33"/>
                  </a:lnTo>
                  <a:lnTo>
                    <a:pt x="1988" y="51"/>
                  </a:lnTo>
                  <a:lnTo>
                    <a:pt x="2064" y="73"/>
                  </a:lnTo>
                  <a:lnTo>
                    <a:pt x="2138" y="98"/>
                  </a:lnTo>
                  <a:lnTo>
                    <a:pt x="2210" y="126"/>
                  </a:lnTo>
                  <a:lnTo>
                    <a:pt x="2280" y="158"/>
                  </a:lnTo>
                  <a:lnTo>
                    <a:pt x="2349" y="193"/>
                  </a:lnTo>
                  <a:lnTo>
                    <a:pt x="2416" y="231"/>
                  </a:lnTo>
                  <a:lnTo>
                    <a:pt x="2480" y="272"/>
                  </a:lnTo>
                  <a:lnTo>
                    <a:pt x="2542" y="317"/>
                  </a:lnTo>
                  <a:lnTo>
                    <a:pt x="2603" y="364"/>
                  </a:lnTo>
                  <a:lnTo>
                    <a:pt x="2661" y="415"/>
                  </a:lnTo>
                  <a:lnTo>
                    <a:pt x="2716" y="467"/>
                  </a:lnTo>
                  <a:lnTo>
                    <a:pt x="2769" y="522"/>
                  </a:lnTo>
                  <a:lnTo>
                    <a:pt x="2819" y="580"/>
                  </a:lnTo>
                  <a:lnTo>
                    <a:pt x="2867" y="641"/>
                  </a:lnTo>
                  <a:lnTo>
                    <a:pt x="2911" y="702"/>
                  </a:lnTo>
                  <a:lnTo>
                    <a:pt x="2952" y="767"/>
                  </a:lnTo>
                  <a:lnTo>
                    <a:pt x="2991" y="834"/>
                  </a:lnTo>
                  <a:lnTo>
                    <a:pt x="3026" y="902"/>
                  </a:lnTo>
                  <a:lnTo>
                    <a:pt x="3058" y="972"/>
                  </a:lnTo>
                  <a:lnTo>
                    <a:pt x="3086" y="1045"/>
                  </a:lnTo>
                  <a:lnTo>
                    <a:pt x="3111" y="1118"/>
                  </a:lnTo>
                  <a:lnTo>
                    <a:pt x="3133" y="1194"/>
                  </a:lnTo>
                  <a:lnTo>
                    <a:pt x="3151" y="1270"/>
                  </a:lnTo>
                  <a:lnTo>
                    <a:pt x="3165" y="1349"/>
                  </a:lnTo>
                  <a:lnTo>
                    <a:pt x="3175" y="1428"/>
                  </a:lnTo>
                  <a:lnTo>
                    <a:pt x="3181" y="1509"/>
                  </a:lnTo>
                  <a:lnTo>
                    <a:pt x="3183" y="1590"/>
                  </a:lnTo>
                  <a:lnTo>
                    <a:pt x="3181" y="1672"/>
                  </a:lnTo>
                  <a:lnTo>
                    <a:pt x="3175" y="1752"/>
                  </a:lnTo>
                  <a:lnTo>
                    <a:pt x="3165" y="1832"/>
                  </a:lnTo>
                  <a:lnTo>
                    <a:pt x="3151" y="1910"/>
                  </a:lnTo>
                  <a:lnTo>
                    <a:pt x="3133" y="1986"/>
                  </a:lnTo>
                  <a:lnTo>
                    <a:pt x="3111" y="2062"/>
                  </a:lnTo>
                  <a:lnTo>
                    <a:pt x="3086" y="2137"/>
                  </a:lnTo>
                  <a:lnTo>
                    <a:pt x="3058" y="2208"/>
                  </a:lnTo>
                  <a:lnTo>
                    <a:pt x="3026" y="2279"/>
                  </a:lnTo>
                  <a:lnTo>
                    <a:pt x="2991" y="2347"/>
                  </a:lnTo>
                  <a:lnTo>
                    <a:pt x="2952" y="2414"/>
                  </a:lnTo>
                  <a:lnTo>
                    <a:pt x="2911" y="2478"/>
                  </a:lnTo>
                  <a:lnTo>
                    <a:pt x="2867" y="2540"/>
                  </a:lnTo>
                  <a:lnTo>
                    <a:pt x="2819" y="2601"/>
                  </a:lnTo>
                  <a:lnTo>
                    <a:pt x="2769" y="2658"/>
                  </a:lnTo>
                  <a:lnTo>
                    <a:pt x="2716" y="2713"/>
                  </a:lnTo>
                  <a:lnTo>
                    <a:pt x="2661" y="2766"/>
                  </a:lnTo>
                  <a:lnTo>
                    <a:pt x="2603" y="2816"/>
                  </a:lnTo>
                  <a:lnTo>
                    <a:pt x="2542" y="2863"/>
                  </a:lnTo>
                  <a:lnTo>
                    <a:pt x="2480" y="2908"/>
                  </a:lnTo>
                  <a:lnTo>
                    <a:pt x="2416" y="2950"/>
                  </a:lnTo>
                  <a:lnTo>
                    <a:pt x="2349" y="2988"/>
                  </a:lnTo>
                  <a:lnTo>
                    <a:pt x="2280" y="3023"/>
                  </a:lnTo>
                  <a:lnTo>
                    <a:pt x="2210" y="3055"/>
                  </a:lnTo>
                  <a:lnTo>
                    <a:pt x="2138" y="3084"/>
                  </a:lnTo>
                  <a:lnTo>
                    <a:pt x="2064" y="3109"/>
                  </a:lnTo>
                  <a:lnTo>
                    <a:pt x="1988" y="3130"/>
                  </a:lnTo>
                  <a:lnTo>
                    <a:pt x="1912" y="3147"/>
                  </a:lnTo>
                  <a:lnTo>
                    <a:pt x="1833" y="3161"/>
                  </a:lnTo>
                  <a:lnTo>
                    <a:pt x="1754" y="3172"/>
                  </a:lnTo>
                  <a:lnTo>
                    <a:pt x="1673" y="3178"/>
                  </a:lnTo>
                  <a:lnTo>
                    <a:pt x="1592" y="3180"/>
                  </a:lnTo>
                  <a:lnTo>
                    <a:pt x="1509" y="3178"/>
                  </a:lnTo>
                  <a:lnTo>
                    <a:pt x="1429" y="3172"/>
                  </a:lnTo>
                  <a:lnTo>
                    <a:pt x="1349" y="3161"/>
                  </a:lnTo>
                  <a:lnTo>
                    <a:pt x="1271" y="3147"/>
                  </a:lnTo>
                  <a:lnTo>
                    <a:pt x="1195" y="3130"/>
                  </a:lnTo>
                  <a:lnTo>
                    <a:pt x="1119" y="3109"/>
                  </a:lnTo>
                  <a:lnTo>
                    <a:pt x="1045" y="3084"/>
                  </a:lnTo>
                  <a:lnTo>
                    <a:pt x="973" y="3055"/>
                  </a:lnTo>
                  <a:lnTo>
                    <a:pt x="903" y="3023"/>
                  </a:lnTo>
                  <a:lnTo>
                    <a:pt x="833" y="2988"/>
                  </a:lnTo>
                  <a:lnTo>
                    <a:pt x="767" y="2950"/>
                  </a:lnTo>
                  <a:lnTo>
                    <a:pt x="703" y="2908"/>
                  </a:lnTo>
                  <a:lnTo>
                    <a:pt x="640" y="2863"/>
                  </a:lnTo>
                  <a:lnTo>
                    <a:pt x="579" y="2816"/>
                  </a:lnTo>
                  <a:lnTo>
                    <a:pt x="522" y="2766"/>
                  </a:lnTo>
                  <a:lnTo>
                    <a:pt x="467" y="2713"/>
                  </a:lnTo>
                  <a:lnTo>
                    <a:pt x="414" y="2658"/>
                  </a:lnTo>
                  <a:lnTo>
                    <a:pt x="364" y="2601"/>
                  </a:lnTo>
                  <a:lnTo>
                    <a:pt x="316" y="2540"/>
                  </a:lnTo>
                  <a:lnTo>
                    <a:pt x="272" y="2478"/>
                  </a:lnTo>
                  <a:lnTo>
                    <a:pt x="231" y="2414"/>
                  </a:lnTo>
                  <a:lnTo>
                    <a:pt x="192" y="2347"/>
                  </a:lnTo>
                  <a:lnTo>
                    <a:pt x="156" y="2279"/>
                  </a:lnTo>
                  <a:lnTo>
                    <a:pt x="125" y="2208"/>
                  </a:lnTo>
                  <a:lnTo>
                    <a:pt x="96" y="2137"/>
                  </a:lnTo>
                  <a:lnTo>
                    <a:pt x="71" y="2062"/>
                  </a:lnTo>
                  <a:lnTo>
                    <a:pt x="49" y="1986"/>
                  </a:lnTo>
                  <a:lnTo>
                    <a:pt x="32" y="1910"/>
                  </a:lnTo>
                  <a:lnTo>
                    <a:pt x="18" y="1832"/>
                  </a:lnTo>
                  <a:lnTo>
                    <a:pt x="8" y="1752"/>
                  </a:lnTo>
                  <a:lnTo>
                    <a:pt x="2" y="1672"/>
                  </a:lnTo>
                  <a:lnTo>
                    <a:pt x="0" y="1590"/>
                  </a:lnTo>
                  <a:lnTo>
                    <a:pt x="2" y="1509"/>
                  </a:lnTo>
                  <a:lnTo>
                    <a:pt x="8" y="1428"/>
                  </a:lnTo>
                  <a:lnTo>
                    <a:pt x="18" y="1349"/>
                  </a:lnTo>
                  <a:lnTo>
                    <a:pt x="32" y="1270"/>
                  </a:lnTo>
                  <a:lnTo>
                    <a:pt x="49" y="1194"/>
                  </a:lnTo>
                  <a:lnTo>
                    <a:pt x="71" y="1118"/>
                  </a:lnTo>
                  <a:lnTo>
                    <a:pt x="96" y="1045"/>
                  </a:lnTo>
                  <a:lnTo>
                    <a:pt x="125" y="972"/>
                  </a:lnTo>
                  <a:lnTo>
                    <a:pt x="156" y="902"/>
                  </a:lnTo>
                  <a:lnTo>
                    <a:pt x="192" y="834"/>
                  </a:lnTo>
                  <a:lnTo>
                    <a:pt x="231" y="767"/>
                  </a:lnTo>
                  <a:lnTo>
                    <a:pt x="272" y="702"/>
                  </a:lnTo>
                  <a:lnTo>
                    <a:pt x="316" y="641"/>
                  </a:lnTo>
                  <a:lnTo>
                    <a:pt x="364" y="580"/>
                  </a:lnTo>
                  <a:lnTo>
                    <a:pt x="414" y="522"/>
                  </a:lnTo>
                  <a:lnTo>
                    <a:pt x="467" y="467"/>
                  </a:lnTo>
                  <a:lnTo>
                    <a:pt x="522" y="415"/>
                  </a:lnTo>
                  <a:lnTo>
                    <a:pt x="579" y="364"/>
                  </a:lnTo>
                  <a:lnTo>
                    <a:pt x="640" y="317"/>
                  </a:lnTo>
                  <a:lnTo>
                    <a:pt x="703" y="272"/>
                  </a:lnTo>
                  <a:lnTo>
                    <a:pt x="767" y="231"/>
                  </a:lnTo>
                  <a:lnTo>
                    <a:pt x="833" y="193"/>
                  </a:lnTo>
                  <a:lnTo>
                    <a:pt x="903" y="158"/>
                  </a:lnTo>
                  <a:lnTo>
                    <a:pt x="973" y="126"/>
                  </a:lnTo>
                  <a:lnTo>
                    <a:pt x="1045" y="98"/>
                  </a:lnTo>
                  <a:lnTo>
                    <a:pt x="1119" y="73"/>
                  </a:lnTo>
                  <a:lnTo>
                    <a:pt x="1195" y="51"/>
                  </a:lnTo>
                  <a:lnTo>
                    <a:pt x="1271" y="33"/>
                  </a:lnTo>
                  <a:lnTo>
                    <a:pt x="1349" y="19"/>
                  </a:lnTo>
                  <a:lnTo>
                    <a:pt x="1429" y="9"/>
                  </a:lnTo>
                  <a:lnTo>
                    <a:pt x="1509" y="2"/>
                  </a:lnTo>
                  <a:lnTo>
                    <a:pt x="15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270080" y="2666880"/>
              <a:ext cx="1011240" cy="1009800"/>
            </a:xfrm>
            <a:custGeom>
              <a:avLst/>
              <a:gdLst/>
              <a:ahLst/>
              <a:rect l="l" t="t" r="r" b="b"/>
              <a:pathLst>
                <a:path w="3183" h="3180">
                  <a:moveTo>
                    <a:pt x="1592" y="0"/>
                  </a:moveTo>
                  <a:lnTo>
                    <a:pt x="1673" y="2"/>
                  </a:lnTo>
                  <a:lnTo>
                    <a:pt x="1754" y="9"/>
                  </a:lnTo>
                  <a:lnTo>
                    <a:pt x="1833" y="19"/>
                  </a:lnTo>
                  <a:lnTo>
                    <a:pt x="1912" y="33"/>
                  </a:lnTo>
                  <a:lnTo>
                    <a:pt x="1988" y="51"/>
                  </a:lnTo>
                  <a:lnTo>
                    <a:pt x="2064" y="73"/>
                  </a:lnTo>
                  <a:lnTo>
                    <a:pt x="2138" y="98"/>
                  </a:lnTo>
                  <a:lnTo>
                    <a:pt x="2210" y="126"/>
                  </a:lnTo>
                  <a:lnTo>
                    <a:pt x="2280" y="158"/>
                  </a:lnTo>
                  <a:lnTo>
                    <a:pt x="2349" y="193"/>
                  </a:lnTo>
                  <a:lnTo>
                    <a:pt x="2416" y="231"/>
                  </a:lnTo>
                  <a:lnTo>
                    <a:pt x="2480" y="272"/>
                  </a:lnTo>
                  <a:lnTo>
                    <a:pt x="2542" y="317"/>
                  </a:lnTo>
                  <a:lnTo>
                    <a:pt x="2603" y="364"/>
                  </a:lnTo>
                  <a:lnTo>
                    <a:pt x="2661" y="415"/>
                  </a:lnTo>
                  <a:lnTo>
                    <a:pt x="2716" y="467"/>
                  </a:lnTo>
                  <a:lnTo>
                    <a:pt x="2769" y="522"/>
                  </a:lnTo>
                  <a:lnTo>
                    <a:pt x="2819" y="580"/>
                  </a:lnTo>
                  <a:lnTo>
                    <a:pt x="2867" y="641"/>
                  </a:lnTo>
                  <a:lnTo>
                    <a:pt x="2911" y="702"/>
                  </a:lnTo>
                  <a:lnTo>
                    <a:pt x="2952" y="767"/>
                  </a:lnTo>
                  <a:lnTo>
                    <a:pt x="2991" y="834"/>
                  </a:lnTo>
                  <a:lnTo>
                    <a:pt x="3026" y="902"/>
                  </a:lnTo>
                  <a:lnTo>
                    <a:pt x="3058" y="972"/>
                  </a:lnTo>
                  <a:lnTo>
                    <a:pt x="3086" y="1045"/>
                  </a:lnTo>
                  <a:lnTo>
                    <a:pt x="3111" y="1118"/>
                  </a:lnTo>
                  <a:lnTo>
                    <a:pt x="3133" y="1194"/>
                  </a:lnTo>
                  <a:lnTo>
                    <a:pt x="3151" y="1270"/>
                  </a:lnTo>
                  <a:lnTo>
                    <a:pt x="3165" y="1349"/>
                  </a:lnTo>
                  <a:lnTo>
                    <a:pt x="3175" y="1428"/>
                  </a:lnTo>
                  <a:lnTo>
                    <a:pt x="3181" y="1509"/>
                  </a:lnTo>
                  <a:lnTo>
                    <a:pt x="3183" y="1590"/>
                  </a:lnTo>
                  <a:lnTo>
                    <a:pt x="3181" y="1672"/>
                  </a:lnTo>
                  <a:lnTo>
                    <a:pt x="3175" y="1752"/>
                  </a:lnTo>
                  <a:lnTo>
                    <a:pt x="3165" y="1832"/>
                  </a:lnTo>
                  <a:lnTo>
                    <a:pt x="3151" y="1910"/>
                  </a:lnTo>
                  <a:lnTo>
                    <a:pt x="3133" y="1986"/>
                  </a:lnTo>
                  <a:lnTo>
                    <a:pt x="3111" y="2062"/>
                  </a:lnTo>
                  <a:lnTo>
                    <a:pt x="3086" y="2137"/>
                  </a:lnTo>
                  <a:lnTo>
                    <a:pt x="3058" y="2208"/>
                  </a:lnTo>
                  <a:lnTo>
                    <a:pt x="3026" y="2279"/>
                  </a:lnTo>
                  <a:lnTo>
                    <a:pt x="2991" y="2347"/>
                  </a:lnTo>
                  <a:lnTo>
                    <a:pt x="2952" y="2414"/>
                  </a:lnTo>
                  <a:lnTo>
                    <a:pt x="2911" y="2478"/>
                  </a:lnTo>
                  <a:lnTo>
                    <a:pt x="2867" y="2540"/>
                  </a:lnTo>
                  <a:lnTo>
                    <a:pt x="2819" y="2601"/>
                  </a:lnTo>
                  <a:lnTo>
                    <a:pt x="2769" y="2658"/>
                  </a:lnTo>
                  <a:lnTo>
                    <a:pt x="2716" y="2713"/>
                  </a:lnTo>
                  <a:lnTo>
                    <a:pt x="2661" y="2766"/>
                  </a:lnTo>
                  <a:lnTo>
                    <a:pt x="2603" y="2816"/>
                  </a:lnTo>
                  <a:lnTo>
                    <a:pt x="2542" y="2863"/>
                  </a:lnTo>
                  <a:lnTo>
                    <a:pt x="2480" y="2908"/>
                  </a:lnTo>
                  <a:lnTo>
                    <a:pt x="2416" y="2950"/>
                  </a:lnTo>
                  <a:lnTo>
                    <a:pt x="2349" y="2988"/>
                  </a:lnTo>
                  <a:lnTo>
                    <a:pt x="2280" y="3023"/>
                  </a:lnTo>
                  <a:lnTo>
                    <a:pt x="2210" y="3055"/>
                  </a:lnTo>
                  <a:lnTo>
                    <a:pt x="2138" y="3084"/>
                  </a:lnTo>
                  <a:lnTo>
                    <a:pt x="2064" y="3109"/>
                  </a:lnTo>
                  <a:lnTo>
                    <a:pt x="1988" y="3130"/>
                  </a:lnTo>
                  <a:lnTo>
                    <a:pt x="1912" y="3147"/>
                  </a:lnTo>
                  <a:lnTo>
                    <a:pt x="1833" y="3161"/>
                  </a:lnTo>
                  <a:lnTo>
                    <a:pt x="1754" y="3172"/>
                  </a:lnTo>
                  <a:lnTo>
                    <a:pt x="1673" y="3178"/>
                  </a:lnTo>
                  <a:lnTo>
                    <a:pt x="1592" y="3180"/>
                  </a:lnTo>
                  <a:lnTo>
                    <a:pt x="1509" y="3178"/>
                  </a:lnTo>
                  <a:lnTo>
                    <a:pt x="1429" y="3172"/>
                  </a:lnTo>
                  <a:lnTo>
                    <a:pt x="1349" y="3161"/>
                  </a:lnTo>
                  <a:lnTo>
                    <a:pt x="1271" y="3147"/>
                  </a:lnTo>
                  <a:lnTo>
                    <a:pt x="1195" y="3130"/>
                  </a:lnTo>
                  <a:lnTo>
                    <a:pt x="1119" y="3109"/>
                  </a:lnTo>
                  <a:lnTo>
                    <a:pt x="1045" y="3084"/>
                  </a:lnTo>
                  <a:lnTo>
                    <a:pt x="973" y="3055"/>
                  </a:lnTo>
                  <a:lnTo>
                    <a:pt x="903" y="3023"/>
                  </a:lnTo>
                  <a:lnTo>
                    <a:pt x="833" y="2988"/>
                  </a:lnTo>
                  <a:lnTo>
                    <a:pt x="767" y="2950"/>
                  </a:lnTo>
                  <a:lnTo>
                    <a:pt x="703" y="2908"/>
                  </a:lnTo>
                  <a:lnTo>
                    <a:pt x="640" y="2863"/>
                  </a:lnTo>
                  <a:lnTo>
                    <a:pt x="579" y="2816"/>
                  </a:lnTo>
                  <a:lnTo>
                    <a:pt x="522" y="2766"/>
                  </a:lnTo>
                  <a:lnTo>
                    <a:pt x="467" y="2713"/>
                  </a:lnTo>
                  <a:lnTo>
                    <a:pt x="414" y="2658"/>
                  </a:lnTo>
                  <a:lnTo>
                    <a:pt x="364" y="2601"/>
                  </a:lnTo>
                  <a:lnTo>
                    <a:pt x="316" y="2540"/>
                  </a:lnTo>
                  <a:lnTo>
                    <a:pt x="272" y="2478"/>
                  </a:lnTo>
                  <a:lnTo>
                    <a:pt x="231" y="2414"/>
                  </a:lnTo>
                  <a:lnTo>
                    <a:pt x="192" y="2347"/>
                  </a:lnTo>
                  <a:lnTo>
                    <a:pt x="156" y="2279"/>
                  </a:lnTo>
                  <a:lnTo>
                    <a:pt x="125" y="2208"/>
                  </a:lnTo>
                  <a:lnTo>
                    <a:pt x="96" y="2137"/>
                  </a:lnTo>
                  <a:lnTo>
                    <a:pt x="71" y="2062"/>
                  </a:lnTo>
                  <a:lnTo>
                    <a:pt x="49" y="1986"/>
                  </a:lnTo>
                  <a:lnTo>
                    <a:pt x="32" y="1910"/>
                  </a:lnTo>
                  <a:lnTo>
                    <a:pt x="18" y="1832"/>
                  </a:lnTo>
                  <a:lnTo>
                    <a:pt x="8" y="1752"/>
                  </a:lnTo>
                  <a:lnTo>
                    <a:pt x="2" y="1672"/>
                  </a:lnTo>
                  <a:lnTo>
                    <a:pt x="0" y="1590"/>
                  </a:lnTo>
                  <a:lnTo>
                    <a:pt x="2" y="1509"/>
                  </a:lnTo>
                  <a:lnTo>
                    <a:pt x="8" y="1428"/>
                  </a:lnTo>
                  <a:lnTo>
                    <a:pt x="18" y="1349"/>
                  </a:lnTo>
                  <a:lnTo>
                    <a:pt x="32" y="1270"/>
                  </a:lnTo>
                  <a:lnTo>
                    <a:pt x="49" y="1194"/>
                  </a:lnTo>
                  <a:lnTo>
                    <a:pt x="71" y="1118"/>
                  </a:lnTo>
                  <a:lnTo>
                    <a:pt x="96" y="1045"/>
                  </a:lnTo>
                  <a:lnTo>
                    <a:pt x="125" y="972"/>
                  </a:lnTo>
                  <a:lnTo>
                    <a:pt x="156" y="902"/>
                  </a:lnTo>
                  <a:lnTo>
                    <a:pt x="192" y="834"/>
                  </a:lnTo>
                  <a:lnTo>
                    <a:pt x="231" y="767"/>
                  </a:lnTo>
                  <a:lnTo>
                    <a:pt x="272" y="702"/>
                  </a:lnTo>
                  <a:lnTo>
                    <a:pt x="316" y="641"/>
                  </a:lnTo>
                  <a:lnTo>
                    <a:pt x="364" y="580"/>
                  </a:lnTo>
                  <a:lnTo>
                    <a:pt x="414" y="522"/>
                  </a:lnTo>
                  <a:lnTo>
                    <a:pt x="467" y="467"/>
                  </a:lnTo>
                  <a:lnTo>
                    <a:pt x="522" y="415"/>
                  </a:lnTo>
                  <a:lnTo>
                    <a:pt x="579" y="364"/>
                  </a:lnTo>
                  <a:lnTo>
                    <a:pt x="640" y="317"/>
                  </a:lnTo>
                  <a:lnTo>
                    <a:pt x="703" y="272"/>
                  </a:lnTo>
                  <a:lnTo>
                    <a:pt x="767" y="231"/>
                  </a:lnTo>
                  <a:lnTo>
                    <a:pt x="833" y="193"/>
                  </a:lnTo>
                  <a:lnTo>
                    <a:pt x="903" y="158"/>
                  </a:lnTo>
                  <a:lnTo>
                    <a:pt x="973" y="126"/>
                  </a:lnTo>
                  <a:lnTo>
                    <a:pt x="1045" y="98"/>
                  </a:lnTo>
                  <a:lnTo>
                    <a:pt x="1119" y="73"/>
                  </a:lnTo>
                  <a:lnTo>
                    <a:pt x="1195" y="51"/>
                  </a:lnTo>
                  <a:lnTo>
                    <a:pt x="1271" y="33"/>
                  </a:lnTo>
                  <a:lnTo>
                    <a:pt x="1349" y="19"/>
                  </a:lnTo>
                  <a:lnTo>
                    <a:pt x="1429" y="9"/>
                  </a:lnTo>
                  <a:lnTo>
                    <a:pt x="1509" y="2"/>
                  </a:lnTo>
                  <a:lnTo>
                    <a:pt x="1592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049200" y="2971800"/>
            <a:ext cx="3033360" cy="1339920"/>
            <a:chOff x="3049200" y="2971800"/>
            <a:chExt cx="3033360" cy="1339920"/>
          </a:xfrm>
        </p:grpSpPr>
        <p:sp>
          <p:nvSpPr>
            <p:cNvPr id="1693" name=""/>
            <p:cNvSpPr/>
            <p:nvPr/>
          </p:nvSpPr>
          <p:spPr>
            <a:xfrm>
              <a:off x="3049200" y="3581280"/>
              <a:ext cx="30333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tandard Latex ho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(voids) - 5 Microns in siz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or 10 times smaller than sper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493160" y="3719520"/>
              <a:ext cx="342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1f1a17"/>
                  </a:solidFill>
                  <a:latin typeface="Swis721 Md BT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394160" y="2971800"/>
              <a:ext cx="303120" cy="30312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478" y="0"/>
                  </a:moveTo>
                  <a:lnTo>
                    <a:pt x="501" y="0"/>
                  </a:lnTo>
                  <a:lnTo>
                    <a:pt x="526" y="2"/>
                  </a:lnTo>
                  <a:lnTo>
                    <a:pt x="550" y="5"/>
                  </a:lnTo>
                  <a:lnTo>
                    <a:pt x="574" y="10"/>
                  </a:lnTo>
                  <a:lnTo>
                    <a:pt x="596" y="15"/>
                  </a:lnTo>
                  <a:lnTo>
                    <a:pt x="619" y="22"/>
                  </a:lnTo>
                  <a:lnTo>
                    <a:pt x="641" y="29"/>
                  </a:lnTo>
                  <a:lnTo>
                    <a:pt x="662" y="38"/>
                  </a:lnTo>
                  <a:lnTo>
                    <a:pt x="684" y="48"/>
                  </a:lnTo>
                  <a:lnTo>
                    <a:pt x="705" y="57"/>
                  </a:lnTo>
                  <a:lnTo>
                    <a:pt x="724" y="69"/>
                  </a:lnTo>
                  <a:lnTo>
                    <a:pt x="744" y="81"/>
                  </a:lnTo>
                  <a:lnTo>
                    <a:pt x="763" y="95"/>
                  </a:lnTo>
                  <a:lnTo>
                    <a:pt x="780" y="109"/>
                  </a:lnTo>
                  <a:lnTo>
                    <a:pt x="798" y="124"/>
                  </a:lnTo>
                  <a:lnTo>
                    <a:pt x="815" y="139"/>
                  </a:lnTo>
                  <a:lnTo>
                    <a:pt x="830" y="157"/>
                  </a:lnTo>
                  <a:lnTo>
                    <a:pt x="845" y="174"/>
                  </a:lnTo>
                  <a:lnTo>
                    <a:pt x="859" y="192"/>
                  </a:lnTo>
                  <a:lnTo>
                    <a:pt x="873" y="211"/>
                  </a:lnTo>
                  <a:lnTo>
                    <a:pt x="885" y="230"/>
                  </a:lnTo>
                  <a:lnTo>
                    <a:pt x="897" y="250"/>
                  </a:lnTo>
                  <a:lnTo>
                    <a:pt x="908" y="270"/>
                  </a:lnTo>
                  <a:lnTo>
                    <a:pt x="918" y="292"/>
                  </a:lnTo>
                  <a:lnTo>
                    <a:pt x="926" y="313"/>
                  </a:lnTo>
                  <a:lnTo>
                    <a:pt x="934" y="335"/>
                  </a:lnTo>
                  <a:lnTo>
                    <a:pt x="939" y="358"/>
                  </a:lnTo>
                  <a:lnTo>
                    <a:pt x="945" y="381"/>
                  </a:lnTo>
                  <a:lnTo>
                    <a:pt x="949" y="404"/>
                  </a:lnTo>
                  <a:lnTo>
                    <a:pt x="952" y="428"/>
                  </a:lnTo>
                  <a:lnTo>
                    <a:pt x="954" y="453"/>
                  </a:lnTo>
                  <a:lnTo>
                    <a:pt x="954" y="476"/>
                  </a:lnTo>
                  <a:lnTo>
                    <a:pt x="954" y="501"/>
                  </a:lnTo>
                  <a:lnTo>
                    <a:pt x="952" y="525"/>
                  </a:lnTo>
                  <a:lnTo>
                    <a:pt x="949" y="550"/>
                  </a:lnTo>
                  <a:lnTo>
                    <a:pt x="945" y="572"/>
                  </a:lnTo>
                  <a:lnTo>
                    <a:pt x="939" y="596"/>
                  </a:lnTo>
                  <a:lnTo>
                    <a:pt x="934" y="618"/>
                  </a:lnTo>
                  <a:lnTo>
                    <a:pt x="926" y="640"/>
                  </a:lnTo>
                  <a:lnTo>
                    <a:pt x="918" y="662"/>
                  </a:lnTo>
                  <a:lnTo>
                    <a:pt x="908" y="684"/>
                  </a:lnTo>
                  <a:lnTo>
                    <a:pt x="897" y="704"/>
                  </a:lnTo>
                  <a:lnTo>
                    <a:pt x="885" y="724"/>
                  </a:lnTo>
                  <a:lnTo>
                    <a:pt x="873" y="743"/>
                  </a:lnTo>
                  <a:lnTo>
                    <a:pt x="859" y="761"/>
                  </a:lnTo>
                  <a:lnTo>
                    <a:pt x="845" y="780"/>
                  </a:lnTo>
                  <a:lnTo>
                    <a:pt x="830" y="797"/>
                  </a:lnTo>
                  <a:lnTo>
                    <a:pt x="815" y="813"/>
                  </a:lnTo>
                  <a:lnTo>
                    <a:pt x="798" y="829"/>
                  </a:lnTo>
                  <a:lnTo>
                    <a:pt x="780" y="845"/>
                  </a:lnTo>
                  <a:lnTo>
                    <a:pt x="763" y="859"/>
                  </a:lnTo>
                  <a:lnTo>
                    <a:pt x="744" y="872"/>
                  </a:lnTo>
                  <a:lnTo>
                    <a:pt x="724" y="885"/>
                  </a:lnTo>
                  <a:lnTo>
                    <a:pt x="705" y="896"/>
                  </a:lnTo>
                  <a:lnTo>
                    <a:pt x="684" y="906"/>
                  </a:lnTo>
                  <a:lnTo>
                    <a:pt x="662" y="916"/>
                  </a:lnTo>
                  <a:lnTo>
                    <a:pt x="641" y="925"/>
                  </a:lnTo>
                  <a:lnTo>
                    <a:pt x="619" y="932"/>
                  </a:lnTo>
                  <a:lnTo>
                    <a:pt x="596" y="939"/>
                  </a:lnTo>
                  <a:lnTo>
                    <a:pt x="574" y="944"/>
                  </a:lnTo>
                  <a:lnTo>
                    <a:pt x="550" y="948"/>
                  </a:lnTo>
                  <a:lnTo>
                    <a:pt x="526" y="952"/>
                  </a:lnTo>
                  <a:lnTo>
                    <a:pt x="501" y="953"/>
                  </a:lnTo>
                  <a:lnTo>
                    <a:pt x="478" y="954"/>
                  </a:lnTo>
                  <a:lnTo>
                    <a:pt x="453" y="953"/>
                  </a:lnTo>
                  <a:lnTo>
                    <a:pt x="429" y="952"/>
                  </a:lnTo>
                  <a:lnTo>
                    <a:pt x="405" y="948"/>
                  </a:lnTo>
                  <a:lnTo>
                    <a:pt x="381" y="944"/>
                  </a:lnTo>
                  <a:lnTo>
                    <a:pt x="359" y="939"/>
                  </a:lnTo>
                  <a:lnTo>
                    <a:pt x="336" y="932"/>
                  </a:lnTo>
                  <a:lnTo>
                    <a:pt x="313" y="925"/>
                  </a:lnTo>
                  <a:lnTo>
                    <a:pt x="292" y="916"/>
                  </a:lnTo>
                  <a:lnTo>
                    <a:pt x="271" y="906"/>
                  </a:lnTo>
                  <a:lnTo>
                    <a:pt x="250" y="896"/>
                  </a:lnTo>
                  <a:lnTo>
                    <a:pt x="230" y="885"/>
                  </a:lnTo>
                  <a:lnTo>
                    <a:pt x="210" y="872"/>
                  </a:lnTo>
                  <a:lnTo>
                    <a:pt x="192" y="859"/>
                  </a:lnTo>
                  <a:lnTo>
                    <a:pt x="174" y="845"/>
                  </a:lnTo>
                  <a:lnTo>
                    <a:pt x="156" y="829"/>
                  </a:lnTo>
                  <a:lnTo>
                    <a:pt x="140" y="813"/>
                  </a:lnTo>
                  <a:lnTo>
                    <a:pt x="124" y="797"/>
                  </a:lnTo>
                  <a:lnTo>
                    <a:pt x="109" y="780"/>
                  </a:lnTo>
                  <a:lnTo>
                    <a:pt x="95" y="761"/>
                  </a:lnTo>
                  <a:lnTo>
                    <a:pt x="82" y="743"/>
                  </a:lnTo>
                  <a:lnTo>
                    <a:pt x="69" y="724"/>
                  </a:lnTo>
                  <a:lnTo>
                    <a:pt x="58" y="704"/>
                  </a:lnTo>
                  <a:lnTo>
                    <a:pt x="47" y="684"/>
                  </a:lnTo>
                  <a:lnTo>
                    <a:pt x="37" y="662"/>
                  </a:lnTo>
                  <a:lnTo>
                    <a:pt x="29" y="640"/>
                  </a:lnTo>
                  <a:lnTo>
                    <a:pt x="21" y="618"/>
                  </a:lnTo>
                  <a:lnTo>
                    <a:pt x="15" y="596"/>
                  </a:lnTo>
                  <a:lnTo>
                    <a:pt x="9" y="572"/>
                  </a:lnTo>
                  <a:lnTo>
                    <a:pt x="5" y="550"/>
                  </a:lnTo>
                  <a:lnTo>
                    <a:pt x="3" y="525"/>
                  </a:lnTo>
                  <a:lnTo>
                    <a:pt x="1" y="501"/>
                  </a:lnTo>
                  <a:lnTo>
                    <a:pt x="0" y="476"/>
                  </a:lnTo>
                  <a:lnTo>
                    <a:pt x="1" y="453"/>
                  </a:lnTo>
                  <a:lnTo>
                    <a:pt x="3" y="428"/>
                  </a:lnTo>
                  <a:lnTo>
                    <a:pt x="5" y="404"/>
                  </a:lnTo>
                  <a:lnTo>
                    <a:pt x="9" y="381"/>
                  </a:lnTo>
                  <a:lnTo>
                    <a:pt x="15" y="358"/>
                  </a:lnTo>
                  <a:lnTo>
                    <a:pt x="21" y="335"/>
                  </a:lnTo>
                  <a:lnTo>
                    <a:pt x="29" y="313"/>
                  </a:lnTo>
                  <a:lnTo>
                    <a:pt x="37" y="292"/>
                  </a:lnTo>
                  <a:lnTo>
                    <a:pt x="47" y="270"/>
                  </a:lnTo>
                  <a:lnTo>
                    <a:pt x="58" y="250"/>
                  </a:lnTo>
                  <a:lnTo>
                    <a:pt x="69" y="230"/>
                  </a:lnTo>
                  <a:lnTo>
                    <a:pt x="82" y="211"/>
                  </a:lnTo>
                  <a:lnTo>
                    <a:pt x="95" y="192"/>
                  </a:lnTo>
                  <a:lnTo>
                    <a:pt x="109" y="174"/>
                  </a:lnTo>
                  <a:lnTo>
                    <a:pt x="124" y="157"/>
                  </a:lnTo>
                  <a:lnTo>
                    <a:pt x="140" y="139"/>
                  </a:lnTo>
                  <a:lnTo>
                    <a:pt x="156" y="124"/>
                  </a:lnTo>
                  <a:lnTo>
                    <a:pt x="174" y="109"/>
                  </a:lnTo>
                  <a:lnTo>
                    <a:pt x="192" y="95"/>
                  </a:lnTo>
                  <a:lnTo>
                    <a:pt x="210" y="81"/>
                  </a:lnTo>
                  <a:lnTo>
                    <a:pt x="230" y="69"/>
                  </a:lnTo>
                  <a:lnTo>
                    <a:pt x="250" y="57"/>
                  </a:lnTo>
                  <a:lnTo>
                    <a:pt x="271" y="48"/>
                  </a:lnTo>
                  <a:lnTo>
                    <a:pt x="292" y="38"/>
                  </a:lnTo>
                  <a:lnTo>
                    <a:pt x="313" y="29"/>
                  </a:lnTo>
                  <a:lnTo>
                    <a:pt x="336" y="22"/>
                  </a:lnTo>
                  <a:lnTo>
                    <a:pt x="359" y="15"/>
                  </a:lnTo>
                  <a:lnTo>
                    <a:pt x="381" y="10"/>
                  </a:lnTo>
                  <a:lnTo>
                    <a:pt x="405" y="5"/>
                  </a:lnTo>
                  <a:lnTo>
                    <a:pt x="429" y="2"/>
                  </a:lnTo>
                  <a:lnTo>
                    <a:pt x="453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94160" y="2971800"/>
              <a:ext cx="303120" cy="30312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478" y="0"/>
                  </a:moveTo>
                  <a:lnTo>
                    <a:pt x="501" y="0"/>
                  </a:lnTo>
                  <a:lnTo>
                    <a:pt x="526" y="2"/>
                  </a:lnTo>
                  <a:lnTo>
                    <a:pt x="550" y="5"/>
                  </a:lnTo>
                  <a:lnTo>
                    <a:pt x="574" y="10"/>
                  </a:lnTo>
                  <a:lnTo>
                    <a:pt x="596" y="15"/>
                  </a:lnTo>
                  <a:lnTo>
                    <a:pt x="619" y="22"/>
                  </a:lnTo>
                  <a:lnTo>
                    <a:pt x="641" y="29"/>
                  </a:lnTo>
                  <a:lnTo>
                    <a:pt x="662" y="38"/>
                  </a:lnTo>
                  <a:lnTo>
                    <a:pt x="684" y="48"/>
                  </a:lnTo>
                  <a:lnTo>
                    <a:pt x="705" y="57"/>
                  </a:lnTo>
                  <a:lnTo>
                    <a:pt x="724" y="69"/>
                  </a:lnTo>
                  <a:lnTo>
                    <a:pt x="744" y="81"/>
                  </a:lnTo>
                  <a:lnTo>
                    <a:pt x="763" y="95"/>
                  </a:lnTo>
                  <a:lnTo>
                    <a:pt x="780" y="109"/>
                  </a:lnTo>
                  <a:lnTo>
                    <a:pt x="798" y="124"/>
                  </a:lnTo>
                  <a:lnTo>
                    <a:pt x="815" y="139"/>
                  </a:lnTo>
                  <a:lnTo>
                    <a:pt x="830" y="157"/>
                  </a:lnTo>
                  <a:lnTo>
                    <a:pt x="845" y="174"/>
                  </a:lnTo>
                  <a:lnTo>
                    <a:pt x="859" y="192"/>
                  </a:lnTo>
                  <a:lnTo>
                    <a:pt x="873" y="211"/>
                  </a:lnTo>
                  <a:lnTo>
                    <a:pt x="885" y="230"/>
                  </a:lnTo>
                  <a:lnTo>
                    <a:pt x="897" y="250"/>
                  </a:lnTo>
                  <a:lnTo>
                    <a:pt x="908" y="270"/>
                  </a:lnTo>
                  <a:lnTo>
                    <a:pt x="918" y="292"/>
                  </a:lnTo>
                  <a:lnTo>
                    <a:pt x="926" y="313"/>
                  </a:lnTo>
                  <a:lnTo>
                    <a:pt x="934" y="335"/>
                  </a:lnTo>
                  <a:lnTo>
                    <a:pt x="939" y="358"/>
                  </a:lnTo>
                  <a:lnTo>
                    <a:pt x="945" y="381"/>
                  </a:lnTo>
                  <a:lnTo>
                    <a:pt x="949" y="404"/>
                  </a:lnTo>
                  <a:lnTo>
                    <a:pt x="952" y="428"/>
                  </a:lnTo>
                  <a:lnTo>
                    <a:pt x="954" y="453"/>
                  </a:lnTo>
                  <a:lnTo>
                    <a:pt x="954" y="476"/>
                  </a:lnTo>
                  <a:lnTo>
                    <a:pt x="954" y="501"/>
                  </a:lnTo>
                  <a:lnTo>
                    <a:pt x="952" y="525"/>
                  </a:lnTo>
                  <a:lnTo>
                    <a:pt x="949" y="550"/>
                  </a:lnTo>
                  <a:lnTo>
                    <a:pt x="945" y="572"/>
                  </a:lnTo>
                  <a:lnTo>
                    <a:pt x="939" y="596"/>
                  </a:lnTo>
                  <a:lnTo>
                    <a:pt x="934" y="618"/>
                  </a:lnTo>
                  <a:lnTo>
                    <a:pt x="926" y="640"/>
                  </a:lnTo>
                  <a:lnTo>
                    <a:pt x="918" y="662"/>
                  </a:lnTo>
                  <a:lnTo>
                    <a:pt x="908" y="684"/>
                  </a:lnTo>
                  <a:lnTo>
                    <a:pt x="897" y="704"/>
                  </a:lnTo>
                  <a:lnTo>
                    <a:pt x="885" y="724"/>
                  </a:lnTo>
                  <a:lnTo>
                    <a:pt x="873" y="743"/>
                  </a:lnTo>
                  <a:lnTo>
                    <a:pt x="859" y="761"/>
                  </a:lnTo>
                  <a:lnTo>
                    <a:pt x="845" y="780"/>
                  </a:lnTo>
                  <a:lnTo>
                    <a:pt x="830" y="797"/>
                  </a:lnTo>
                  <a:lnTo>
                    <a:pt x="815" y="813"/>
                  </a:lnTo>
                  <a:lnTo>
                    <a:pt x="798" y="829"/>
                  </a:lnTo>
                  <a:lnTo>
                    <a:pt x="780" y="845"/>
                  </a:lnTo>
                  <a:lnTo>
                    <a:pt x="763" y="859"/>
                  </a:lnTo>
                  <a:lnTo>
                    <a:pt x="744" y="872"/>
                  </a:lnTo>
                  <a:lnTo>
                    <a:pt x="724" y="885"/>
                  </a:lnTo>
                  <a:lnTo>
                    <a:pt x="705" y="896"/>
                  </a:lnTo>
                  <a:lnTo>
                    <a:pt x="684" y="906"/>
                  </a:lnTo>
                  <a:lnTo>
                    <a:pt x="662" y="916"/>
                  </a:lnTo>
                  <a:lnTo>
                    <a:pt x="641" y="925"/>
                  </a:lnTo>
                  <a:lnTo>
                    <a:pt x="619" y="932"/>
                  </a:lnTo>
                  <a:lnTo>
                    <a:pt x="596" y="939"/>
                  </a:lnTo>
                  <a:lnTo>
                    <a:pt x="574" y="944"/>
                  </a:lnTo>
                  <a:lnTo>
                    <a:pt x="550" y="948"/>
                  </a:lnTo>
                  <a:lnTo>
                    <a:pt x="526" y="952"/>
                  </a:lnTo>
                  <a:lnTo>
                    <a:pt x="501" y="953"/>
                  </a:lnTo>
                  <a:lnTo>
                    <a:pt x="478" y="954"/>
                  </a:lnTo>
                  <a:lnTo>
                    <a:pt x="453" y="953"/>
                  </a:lnTo>
                  <a:lnTo>
                    <a:pt x="429" y="952"/>
                  </a:lnTo>
                  <a:lnTo>
                    <a:pt x="405" y="948"/>
                  </a:lnTo>
                  <a:lnTo>
                    <a:pt x="381" y="944"/>
                  </a:lnTo>
                  <a:lnTo>
                    <a:pt x="359" y="939"/>
                  </a:lnTo>
                  <a:lnTo>
                    <a:pt x="336" y="932"/>
                  </a:lnTo>
                  <a:lnTo>
                    <a:pt x="313" y="925"/>
                  </a:lnTo>
                  <a:lnTo>
                    <a:pt x="292" y="916"/>
                  </a:lnTo>
                  <a:lnTo>
                    <a:pt x="271" y="906"/>
                  </a:lnTo>
                  <a:lnTo>
                    <a:pt x="250" y="896"/>
                  </a:lnTo>
                  <a:lnTo>
                    <a:pt x="230" y="885"/>
                  </a:lnTo>
                  <a:lnTo>
                    <a:pt x="210" y="872"/>
                  </a:lnTo>
                  <a:lnTo>
                    <a:pt x="192" y="859"/>
                  </a:lnTo>
                  <a:lnTo>
                    <a:pt x="174" y="845"/>
                  </a:lnTo>
                  <a:lnTo>
                    <a:pt x="156" y="829"/>
                  </a:lnTo>
                  <a:lnTo>
                    <a:pt x="140" y="813"/>
                  </a:lnTo>
                  <a:lnTo>
                    <a:pt x="124" y="797"/>
                  </a:lnTo>
                  <a:lnTo>
                    <a:pt x="109" y="780"/>
                  </a:lnTo>
                  <a:lnTo>
                    <a:pt x="95" y="761"/>
                  </a:lnTo>
                  <a:lnTo>
                    <a:pt x="82" y="743"/>
                  </a:lnTo>
                  <a:lnTo>
                    <a:pt x="69" y="724"/>
                  </a:lnTo>
                  <a:lnTo>
                    <a:pt x="58" y="704"/>
                  </a:lnTo>
                  <a:lnTo>
                    <a:pt x="47" y="684"/>
                  </a:lnTo>
                  <a:lnTo>
                    <a:pt x="37" y="662"/>
                  </a:lnTo>
                  <a:lnTo>
                    <a:pt x="29" y="640"/>
                  </a:lnTo>
                  <a:lnTo>
                    <a:pt x="21" y="618"/>
                  </a:lnTo>
                  <a:lnTo>
                    <a:pt x="15" y="596"/>
                  </a:lnTo>
                  <a:lnTo>
                    <a:pt x="9" y="572"/>
                  </a:lnTo>
                  <a:lnTo>
                    <a:pt x="5" y="550"/>
                  </a:lnTo>
                  <a:lnTo>
                    <a:pt x="3" y="525"/>
                  </a:lnTo>
                  <a:lnTo>
                    <a:pt x="1" y="501"/>
                  </a:lnTo>
                  <a:lnTo>
                    <a:pt x="0" y="476"/>
                  </a:lnTo>
                  <a:lnTo>
                    <a:pt x="1" y="453"/>
                  </a:lnTo>
                  <a:lnTo>
                    <a:pt x="3" y="428"/>
                  </a:lnTo>
                  <a:lnTo>
                    <a:pt x="5" y="404"/>
                  </a:lnTo>
                  <a:lnTo>
                    <a:pt x="9" y="381"/>
                  </a:lnTo>
                  <a:lnTo>
                    <a:pt x="15" y="358"/>
                  </a:lnTo>
                  <a:lnTo>
                    <a:pt x="21" y="335"/>
                  </a:lnTo>
                  <a:lnTo>
                    <a:pt x="29" y="313"/>
                  </a:lnTo>
                  <a:lnTo>
                    <a:pt x="37" y="292"/>
                  </a:lnTo>
                  <a:lnTo>
                    <a:pt x="47" y="270"/>
                  </a:lnTo>
                  <a:lnTo>
                    <a:pt x="58" y="250"/>
                  </a:lnTo>
                  <a:lnTo>
                    <a:pt x="69" y="230"/>
                  </a:lnTo>
                  <a:lnTo>
                    <a:pt x="82" y="211"/>
                  </a:lnTo>
                  <a:lnTo>
                    <a:pt x="95" y="192"/>
                  </a:lnTo>
                  <a:lnTo>
                    <a:pt x="109" y="174"/>
                  </a:lnTo>
                  <a:lnTo>
                    <a:pt x="124" y="157"/>
                  </a:lnTo>
                  <a:lnTo>
                    <a:pt x="140" y="139"/>
                  </a:lnTo>
                  <a:lnTo>
                    <a:pt x="156" y="124"/>
                  </a:lnTo>
                  <a:lnTo>
                    <a:pt x="174" y="109"/>
                  </a:lnTo>
                  <a:lnTo>
                    <a:pt x="192" y="95"/>
                  </a:lnTo>
                  <a:lnTo>
                    <a:pt x="210" y="81"/>
                  </a:lnTo>
                  <a:lnTo>
                    <a:pt x="230" y="69"/>
                  </a:lnTo>
                  <a:lnTo>
                    <a:pt x="250" y="57"/>
                  </a:lnTo>
                  <a:lnTo>
                    <a:pt x="271" y="48"/>
                  </a:lnTo>
                  <a:lnTo>
                    <a:pt x="292" y="38"/>
                  </a:lnTo>
                  <a:lnTo>
                    <a:pt x="313" y="29"/>
                  </a:lnTo>
                  <a:lnTo>
                    <a:pt x="336" y="22"/>
                  </a:lnTo>
                  <a:lnTo>
                    <a:pt x="359" y="15"/>
                  </a:lnTo>
                  <a:lnTo>
                    <a:pt x="381" y="10"/>
                  </a:lnTo>
                  <a:lnTo>
                    <a:pt x="405" y="5"/>
                  </a:lnTo>
                  <a:lnTo>
                    <a:pt x="429" y="2"/>
                  </a:lnTo>
                  <a:lnTo>
                    <a:pt x="453" y="0"/>
                  </a:lnTo>
                  <a:lnTo>
                    <a:pt x="47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6215040" y="3048120"/>
            <a:ext cx="2327760" cy="1477440"/>
            <a:chOff x="6215040" y="3048120"/>
            <a:chExt cx="2327760" cy="1477440"/>
          </a:xfrm>
        </p:grpSpPr>
        <p:sp>
          <p:nvSpPr>
            <p:cNvPr id="1698" name=""/>
            <p:cNvSpPr/>
            <p:nvPr/>
          </p:nvSpPr>
          <p:spPr>
            <a:xfrm>
              <a:off x="6215040" y="3308400"/>
              <a:ext cx="232776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AIDS Virus - 0.1 Micr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in size. Smaller by 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factor of 50 than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tandard holes (voids)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latex rub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45440" y="3048120"/>
              <a:ext cx="54000" cy="522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3" y="0"/>
                  </a:moveTo>
                  <a:lnTo>
                    <a:pt x="92" y="1"/>
                  </a:lnTo>
                  <a:lnTo>
                    <a:pt x="99" y="2"/>
                  </a:lnTo>
                  <a:lnTo>
                    <a:pt x="108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1" y="24"/>
                  </a:lnTo>
                  <a:lnTo>
                    <a:pt x="147" y="30"/>
                  </a:lnTo>
                  <a:lnTo>
                    <a:pt x="152" y="36"/>
                  </a:lnTo>
                  <a:lnTo>
                    <a:pt x="156" y="44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66" y="91"/>
                  </a:lnTo>
                  <a:lnTo>
                    <a:pt x="164" y="100"/>
                  </a:lnTo>
                  <a:lnTo>
                    <a:pt x="162" y="108"/>
                  </a:lnTo>
                  <a:lnTo>
                    <a:pt x="160" y="115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7" y="136"/>
                  </a:lnTo>
                  <a:lnTo>
                    <a:pt x="141" y="142"/>
                  </a:lnTo>
                  <a:lnTo>
                    <a:pt x="136" y="148"/>
                  </a:lnTo>
                  <a:lnTo>
                    <a:pt x="129" y="152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8" y="163"/>
                  </a:lnTo>
                  <a:lnTo>
                    <a:pt x="99" y="165"/>
                  </a:lnTo>
                  <a:lnTo>
                    <a:pt x="92" y="166"/>
                  </a:lnTo>
                  <a:lnTo>
                    <a:pt x="83" y="166"/>
                  </a:lnTo>
                  <a:lnTo>
                    <a:pt x="74" y="166"/>
                  </a:lnTo>
                  <a:lnTo>
                    <a:pt x="66" y="165"/>
                  </a:lnTo>
                  <a:lnTo>
                    <a:pt x="58" y="163"/>
                  </a:lnTo>
                  <a:lnTo>
                    <a:pt x="50" y="159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30" y="148"/>
                  </a:lnTo>
                  <a:lnTo>
                    <a:pt x="24" y="142"/>
                  </a:lnTo>
                  <a:lnTo>
                    <a:pt x="19" y="136"/>
                  </a:lnTo>
                  <a:lnTo>
                    <a:pt x="14" y="129"/>
                  </a:lnTo>
                  <a:lnTo>
                    <a:pt x="9" y="123"/>
                  </a:lnTo>
                  <a:lnTo>
                    <a:pt x="6" y="115"/>
                  </a:lnTo>
                  <a:lnTo>
                    <a:pt x="3" y="108"/>
                  </a:lnTo>
                  <a:lnTo>
                    <a:pt x="2" y="100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3" y="58"/>
                  </a:lnTo>
                  <a:lnTo>
                    <a:pt x="6" y="50"/>
                  </a:lnTo>
                  <a:lnTo>
                    <a:pt x="9" y="44"/>
                  </a:lnTo>
                  <a:lnTo>
                    <a:pt x="14" y="36"/>
                  </a:lnTo>
                  <a:lnTo>
                    <a:pt x="19" y="30"/>
                  </a:lnTo>
                  <a:lnTo>
                    <a:pt x="24" y="24"/>
                  </a:lnTo>
                  <a:lnTo>
                    <a:pt x="30" y="19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45440" y="3048120"/>
              <a:ext cx="54000" cy="522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3" y="0"/>
                  </a:moveTo>
                  <a:lnTo>
                    <a:pt x="92" y="1"/>
                  </a:lnTo>
                  <a:lnTo>
                    <a:pt x="99" y="2"/>
                  </a:lnTo>
                  <a:lnTo>
                    <a:pt x="108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1" y="24"/>
                  </a:lnTo>
                  <a:lnTo>
                    <a:pt x="147" y="30"/>
                  </a:lnTo>
                  <a:lnTo>
                    <a:pt x="152" y="36"/>
                  </a:lnTo>
                  <a:lnTo>
                    <a:pt x="156" y="44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66" y="91"/>
                  </a:lnTo>
                  <a:lnTo>
                    <a:pt x="164" y="100"/>
                  </a:lnTo>
                  <a:lnTo>
                    <a:pt x="162" y="108"/>
                  </a:lnTo>
                  <a:lnTo>
                    <a:pt x="160" y="115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7" y="136"/>
                  </a:lnTo>
                  <a:lnTo>
                    <a:pt x="141" y="142"/>
                  </a:lnTo>
                  <a:lnTo>
                    <a:pt x="136" y="148"/>
                  </a:lnTo>
                  <a:lnTo>
                    <a:pt x="129" y="152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8" y="163"/>
                  </a:lnTo>
                  <a:lnTo>
                    <a:pt x="99" y="165"/>
                  </a:lnTo>
                  <a:lnTo>
                    <a:pt x="92" y="166"/>
                  </a:lnTo>
                  <a:lnTo>
                    <a:pt x="83" y="166"/>
                  </a:lnTo>
                  <a:lnTo>
                    <a:pt x="74" y="166"/>
                  </a:lnTo>
                  <a:lnTo>
                    <a:pt x="66" y="165"/>
                  </a:lnTo>
                  <a:lnTo>
                    <a:pt x="58" y="163"/>
                  </a:lnTo>
                  <a:lnTo>
                    <a:pt x="50" y="159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30" y="148"/>
                  </a:lnTo>
                  <a:lnTo>
                    <a:pt x="24" y="142"/>
                  </a:lnTo>
                  <a:lnTo>
                    <a:pt x="19" y="136"/>
                  </a:lnTo>
                  <a:lnTo>
                    <a:pt x="14" y="129"/>
                  </a:lnTo>
                  <a:lnTo>
                    <a:pt x="9" y="123"/>
                  </a:lnTo>
                  <a:lnTo>
                    <a:pt x="6" y="115"/>
                  </a:lnTo>
                  <a:lnTo>
                    <a:pt x="3" y="108"/>
                  </a:lnTo>
                  <a:lnTo>
                    <a:pt x="2" y="100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3" y="58"/>
                  </a:lnTo>
                  <a:lnTo>
                    <a:pt x="6" y="50"/>
                  </a:lnTo>
                  <a:lnTo>
                    <a:pt x="9" y="44"/>
                  </a:lnTo>
                  <a:lnTo>
                    <a:pt x="14" y="36"/>
                  </a:lnTo>
                  <a:lnTo>
                    <a:pt x="19" y="30"/>
                  </a:lnTo>
                  <a:lnTo>
                    <a:pt x="24" y="24"/>
                  </a:lnTo>
                  <a:lnTo>
                    <a:pt x="30" y="19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1" name=""/>
          <p:cNvGrpSpPr/>
          <p:nvPr/>
        </p:nvGrpSpPr>
        <p:grpSpPr>
          <a:xfrm>
            <a:off x="920880" y="723960"/>
            <a:ext cx="7308000" cy="646920"/>
            <a:chOff x="920880" y="723960"/>
            <a:chExt cx="7308000" cy="646920"/>
          </a:xfrm>
        </p:grpSpPr>
        <p:sp>
          <p:nvSpPr>
            <p:cNvPr id="1702" name=""/>
            <p:cNvSpPr/>
            <p:nvPr/>
          </p:nvSpPr>
          <p:spPr>
            <a:xfrm>
              <a:off x="1395360" y="740160"/>
              <a:ext cx="91080" cy="22212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59" y="337"/>
                  </a:moveTo>
                  <a:lnTo>
                    <a:pt x="59" y="110"/>
                  </a:lnTo>
                  <a:lnTo>
                    <a:pt x="55" y="112"/>
                  </a:lnTo>
                  <a:lnTo>
                    <a:pt x="51" y="113"/>
                  </a:lnTo>
                  <a:lnTo>
                    <a:pt x="47" y="115"/>
                  </a:lnTo>
                  <a:lnTo>
                    <a:pt x="44" y="116"/>
                  </a:lnTo>
                  <a:lnTo>
                    <a:pt x="40" y="117"/>
                  </a:lnTo>
                  <a:lnTo>
                    <a:pt x="37" y="118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2" y="122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0" y="124"/>
                  </a:lnTo>
                  <a:lnTo>
                    <a:pt x="7" y="124"/>
                  </a:lnTo>
                  <a:lnTo>
                    <a:pt x="3" y="124"/>
                  </a:lnTo>
                  <a:lnTo>
                    <a:pt x="0" y="124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0" y="10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142" y="0"/>
                  </a:lnTo>
                  <a:lnTo>
                    <a:pt x="142" y="337"/>
                  </a:lnTo>
                  <a:lnTo>
                    <a:pt x="59" y="3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5880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0" y="89"/>
                  </a:moveTo>
                  <a:lnTo>
                    <a:pt x="117" y="89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7" y="91"/>
                  </a:lnTo>
                  <a:lnTo>
                    <a:pt x="105" y="93"/>
                  </a:lnTo>
                  <a:lnTo>
                    <a:pt x="102" y="96"/>
                  </a:lnTo>
                  <a:lnTo>
                    <a:pt x="98" y="98"/>
                  </a:lnTo>
                  <a:lnTo>
                    <a:pt x="96" y="100"/>
                  </a:lnTo>
                  <a:lnTo>
                    <a:pt x="94" y="103"/>
                  </a:lnTo>
                  <a:lnTo>
                    <a:pt x="92" y="105"/>
                  </a:lnTo>
                  <a:lnTo>
                    <a:pt x="90" y="108"/>
                  </a:lnTo>
                  <a:lnTo>
                    <a:pt x="89" y="111"/>
                  </a:lnTo>
                  <a:lnTo>
                    <a:pt x="88" y="114"/>
                  </a:lnTo>
                  <a:lnTo>
                    <a:pt x="87" y="119"/>
                  </a:lnTo>
                  <a:lnTo>
                    <a:pt x="86" y="122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7" y="133"/>
                  </a:lnTo>
                  <a:lnTo>
                    <a:pt x="88" y="137"/>
                  </a:lnTo>
                  <a:lnTo>
                    <a:pt x="89" y="140"/>
                  </a:lnTo>
                  <a:lnTo>
                    <a:pt x="90" y="143"/>
                  </a:lnTo>
                  <a:lnTo>
                    <a:pt x="92" y="146"/>
                  </a:lnTo>
                  <a:lnTo>
                    <a:pt x="94" y="149"/>
                  </a:lnTo>
                  <a:lnTo>
                    <a:pt x="96" y="151"/>
                  </a:lnTo>
                  <a:lnTo>
                    <a:pt x="98" y="154"/>
                  </a:lnTo>
                  <a:lnTo>
                    <a:pt x="102" y="156"/>
                  </a:lnTo>
                  <a:lnTo>
                    <a:pt x="105" y="159"/>
                  </a:lnTo>
                  <a:lnTo>
                    <a:pt x="107" y="160"/>
                  </a:lnTo>
                  <a:lnTo>
                    <a:pt x="110" y="161"/>
                  </a:lnTo>
                  <a:lnTo>
                    <a:pt x="113" y="162"/>
                  </a:lnTo>
                  <a:lnTo>
                    <a:pt x="117" y="163"/>
                  </a:lnTo>
                  <a:lnTo>
                    <a:pt x="120" y="163"/>
                  </a:lnTo>
                  <a:lnTo>
                    <a:pt x="124" y="163"/>
                  </a:lnTo>
                  <a:lnTo>
                    <a:pt x="127" y="162"/>
                  </a:lnTo>
                  <a:lnTo>
                    <a:pt x="130" y="162"/>
                  </a:lnTo>
                  <a:lnTo>
                    <a:pt x="133" y="160"/>
                  </a:lnTo>
                  <a:lnTo>
                    <a:pt x="136" y="159"/>
                  </a:lnTo>
                  <a:lnTo>
                    <a:pt x="139" y="156"/>
                  </a:lnTo>
                  <a:lnTo>
                    <a:pt x="142" y="154"/>
                  </a:lnTo>
                  <a:lnTo>
                    <a:pt x="145" y="152"/>
                  </a:lnTo>
                  <a:lnTo>
                    <a:pt x="147" y="149"/>
                  </a:lnTo>
                  <a:lnTo>
                    <a:pt x="149" y="146"/>
                  </a:lnTo>
                  <a:lnTo>
                    <a:pt x="151" y="143"/>
                  </a:lnTo>
                  <a:lnTo>
                    <a:pt x="152" y="140"/>
                  </a:lnTo>
                  <a:lnTo>
                    <a:pt x="153" y="137"/>
                  </a:lnTo>
                  <a:lnTo>
                    <a:pt x="154" y="133"/>
                  </a:lnTo>
                  <a:lnTo>
                    <a:pt x="155" y="129"/>
                  </a:lnTo>
                  <a:lnTo>
                    <a:pt x="155" y="126"/>
                  </a:lnTo>
                  <a:lnTo>
                    <a:pt x="155" y="122"/>
                  </a:lnTo>
                  <a:lnTo>
                    <a:pt x="154" y="119"/>
                  </a:lnTo>
                  <a:lnTo>
                    <a:pt x="153" y="114"/>
                  </a:lnTo>
                  <a:lnTo>
                    <a:pt x="152" y="111"/>
                  </a:lnTo>
                  <a:lnTo>
                    <a:pt x="151" y="108"/>
                  </a:lnTo>
                  <a:lnTo>
                    <a:pt x="149" y="105"/>
                  </a:lnTo>
                  <a:lnTo>
                    <a:pt x="147" y="103"/>
                  </a:lnTo>
                  <a:lnTo>
                    <a:pt x="145" y="100"/>
                  </a:lnTo>
                  <a:lnTo>
                    <a:pt x="142" y="98"/>
                  </a:lnTo>
                  <a:lnTo>
                    <a:pt x="139" y="96"/>
                  </a:lnTo>
                  <a:lnTo>
                    <a:pt x="136" y="93"/>
                  </a:lnTo>
                  <a:lnTo>
                    <a:pt x="133" y="91"/>
                  </a:lnTo>
                  <a:lnTo>
                    <a:pt x="130" y="90"/>
                  </a:lnTo>
                  <a:lnTo>
                    <a:pt x="127" y="89"/>
                  </a:lnTo>
                  <a:lnTo>
                    <a:pt x="124" y="89"/>
                  </a:lnTo>
                  <a:lnTo>
                    <a:pt x="120" y="89"/>
                  </a:lnTo>
                  <a:close/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2" y="308"/>
                  </a:lnTo>
                  <a:lnTo>
                    <a:pt x="56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4" y="279"/>
                  </a:lnTo>
                  <a:lnTo>
                    <a:pt x="78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6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1" y="225"/>
                  </a:lnTo>
                  <a:lnTo>
                    <a:pt x="43" y="218"/>
                  </a:lnTo>
                  <a:lnTo>
                    <a:pt x="34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5" y="189"/>
                  </a:lnTo>
                  <a:lnTo>
                    <a:pt x="10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8" y="79"/>
                  </a:lnTo>
                  <a:lnTo>
                    <a:pt x="13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5" y="38"/>
                  </a:lnTo>
                  <a:lnTo>
                    <a:pt x="44" y="28"/>
                  </a:lnTo>
                  <a:lnTo>
                    <a:pt x="53" y="21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86" y="5"/>
                  </a:lnTo>
                  <a:lnTo>
                    <a:pt x="97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9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1" y="51"/>
                  </a:lnTo>
                  <a:lnTo>
                    <a:pt x="227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3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2" y="238"/>
                  </a:lnTo>
                  <a:lnTo>
                    <a:pt x="194" y="254"/>
                  </a:lnTo>
                  <a:lnTo>
                    <a:pt x="184" y="269"/>
                  </a:lnTo>
                  <a:lnTo>
                    <a:pt x="174" y="285"/>
                  </a:lnTo>
                  <a:lnTo>
                    <a:pt x="162" y="301"/>
                  </a:lnTo>
                  <a:lnTo>
                    <a:pt x="150" y="317"/>
                  </a:lnTo>
                  <a:lnTo>
                    <a:pt x="136" y="334"/>
                  </a:lnTo>
                  <a:lnTo>
                    <a:pt x="123" y="35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74492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1" y="89"/>
                  </a:moveTo>
                  <a:lnTo>
                    <a:pt x="118" y="89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7" y="91"/>
                  </a:lnTo>
                  <a:lnTo>
                    <a:pt x="105" y="93"/>
                  </a:lnTo>
                  <a:lnTo>
                    <a:pt x="102" y="96"/>
                  </a:lnTo>
                  <a:lnTo>
                    <a:pt x="99" y="98"/>
                  </a:lnTo>
                  <a:lnTo>
                    <a:pt x="97" y="100"/>
                  </a:lnTo>
                  <a:lnTo>
                    <a:pt x="95" y="103"/>
                  </a:lnTo>
                  <a:lnTo>
                    <a:pt x="92" y="105"/>
                  </a:lnTo>
                  <a:lnTo>
                    <a:pt x="90" y="108"/>
                  </a:lnTo>
                  <a:lnTo>
                    <a:pt x="89" y="111"/>
                  </a:lnTo>
                  <a:lnTo>
                    <a:pt x="88" y="114"/>
                  </a:lnTo>
                  <a:lnTo>
                    <a:pt x="87" y="119"/>
                  </a:lnTo>
                  <a:lnTo>
                    <a:pt x="86" y="122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7" y="133"/>
                  </a:lnTo>
                  <a:lnTo>
                    <a:pt x="88" y="137"/>
                  </a:lnTo>
                  <a:lnTo>
                    <a:pt x="89" y="140"/>
                  </a:lnTo>
                  <a:lnTo>
                    <a:pt x="90" y="143"/>
                  </a:lnTo>
                  <a:lnTo>
                    <a:pt x="92" y="146"/>
                  </a:lnTo>
                  <a:lnTo>
                    <a:pt x="95" y="149"/>
                  </a:lnTo>
                  <a:lnTo>
                    <a:pt x="97" y="151"/>
                  </a:lnTo>
                  <a:lnTo>
                    <a:pt x="99" y="154"/>
                  </a:lnTo>
                  <a:lnTo>
                    <a:pt x="102" y="156"/>
                  </a:lnTo>
                  <a:lnTo>
                    <a:pt x="105" y="159"/>
                  </a:lnTo>
                  <a:lnTo>
                    <a:pt x="107" y="160"/>
                  </a:lnTo>
                  <a:lnTo>
                    <a:pt x="110" y="161"/>
                  </a:lnTo>
                  <a:lnTo>
                    <a:pt x="113" y="162"/>
                  </a:lnTo>
                  <a:lnTo>
                    <a:pt x="118" y="163"/>
                  </a:lnTo>
                  <a:lnTo>
                    <a:pt x="121" y="163"/>
                  </a:lnTo>
                  <a:lnTo>
                    <a:pt x="124" y="163"/>
                  </a:lnTo>
                  <a:lnTo>
                    <a:pt x="127" y="162"/>
                  </a:lnTo>
                  <a:lnTo>
                    <a:pt x="130" y="162"/>
                  </a:lnTo>
                  <a:lnTo>
                    <a:pt x="133" y="160"/>
                  </a:lnTo>
                  <a:lnTo>
                    <a:pt x="137" y="159"/>
                  </a:lnTo>
                  <a:lnTo>
                    <a:pt x="140" y="156"/>
                  </a:lnTo>
                  <a:lnTo>
                    <a:pt x="143" y="154"/>
                  </a:lnTo>
                  <a:lnTo>
                    <a:pt x="145" y="152"/>
                  </a:lnTo>
                  <a:lnTo>
                    <a:pt x="147" y="149"/>
                  </a:lnTo>
                  <a:lnTo>
                    <a:pt x="149" y="146"/>
                  </a:lnTo>
                  <a:lnTo>
                    <a:pt x="151" y="143"/>
                  </a:lnTo>
                  <a:lnTo>
                    <a:pt x="152" y="140"/>
                  </a:lnTo>
                  <a:lnTo>
                    <a:pt x="153" y="137"/>
                  </a:lnTo>
                  <a:lnTo>
                    <a:pt x="154" y="133"/>
                  </a:lnTo>
                  <a:lnTo>
                    <a:pt x="155" y="129"/>
                  </a:lnTo>
                  <a:lnTo>
                    <a:pt x="155" y="126"/>
                  </a:lnTo>
                  <a:lnTo>
                    <a:pt x="155" y="122"/>
                  </a:lnTo>
                  <a:lnTo>
                    <a:pt x="154" y="119"/>
                  </a:lnTo>
                  <a:lnTo>
                    <a:pt x="153" y="114"/>
                  </a:lnTo>
                  <a:lnTo>
                    <a:pt x="152" y="111"/>
                  </a:lnTo>
                  <a:lnTo>
                    <a:pt x="151" y="108"/>
                  </a:lnTo>
                  <a:lnTo>
                    <a:pt x="149" y="105"/>
                  </a:lnTo>
                  <a:lnTo>
                    <a:pt x="147" y="103"/>
                  </a:lnTo>
                  <a:lnTo>
                    <a:pt x="145" y="100"/>
                  </a:lnTo>
                  <a:lnTo>
                    <a:pt x="143" y="98"/>
                  </a:lnTo>
                  <a:lnTo>
                    <a:pt x="140" y="96"/>
                  </a:lnTo>
                  <a:lnTo>
                    <a:pt x="137" y="93"/>
                  </a:lnTo>
                  <a:lnTo>
                    <a:pt x="133" y="91"/>
                  </a:lnTo>
                  <a:lnTo>
                    <a:pt x="130" y="90"/>
                  </a:lnTo>
                  <a:lnTo>
                    <a:pt x="127" y="89"/>
                  </a:lnTo>
                  <a:lnTo>
                    <a:pt x="124" y="89"/>
                  </a:lnTo>
                  <a:lnTo>
                    <a:pt x="121" y="89"/>
                  </a:lnTo>
                  <a:close/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3" y="308"/>
                  </a:lnTo>
                  <a:lnTo>
                    <a:pt x="57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5" y="279"/>
                  </a:lnTo>
                  <a:lnTo>
                    <a:pt x="79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7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2" y="225"/>
                  </a:lnTo>
                  <a:lnTo>
                    <a:pt x="43" y="218"/>
                  </a:lnTo>
                  <a:lnTo>
                    <a:pt x="35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6" y="189"/>
                  </a:lnTo>
                  <a:lnTo>
                    <a:pt x="11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9" y="79"/>
                  </a:lnTo>
                  <a:lnTo>
                    <a:pt x="14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6" y="38"/>
                  </a:lnTo>
                  <a:lnTo>
                    <a:pt x="44" y="28"/>
                  </a:lnTo>
                  <a:lnTo>
                    <a:pt x="54" y="21"/>
                  </a:lnTo>
                  <a:lnTo>
                    <a:pt x="64" y="15"/>
                  </a:lnTo>
                  <a:lnTo>
                    <a:pt x="75" y="9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9" y="5"/>
                  </a:lnTo>
                  <a:lnTo>
                    <a:pt x="170" y="8"/>
                  </a:lnTo>
                  <a:lnTo>
                    <a:pt x="180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2" y="51"/>
                  </a:lnTo>
                  <a:lnTo>
                    <a:pt x="228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4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3" y="238"/>
                  </a:lnTo>
                  <a:lnTo>
                    <a:pt x="194" y="254"/>
                  </a:lnTo>
                  <a:lnTo>
                    <a:pt x="185" y="269"/>
                  </a:lnTo>
                  <a:lnTo>
                    <a:pt x="174" y="285"/>
                  </a:lnTo>
                  <a:lnTo>
                    <a:pt x="163" y="301"/>
                  </a:lnTo>
                  <a:lnTo>
                    <a:pt x="150" y="317"/>
                  </a:lnTo>
                  <a:lnTo>
                    <a:pt x="137" y="334"/>
                  </a:lnTo>
                  <a:lnTo>
                    <a:pt x="123" y="35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931760" y="736560"/>
              <a:ext cx="137160" cy="228960"/>
            </a:xfrm>
            <a:custGeom>
              <a:avLst/>
              <a:gdLst/>
              <a:ahLst/>
              <a:rect l="l" t="t" r="r" b="b"/>
              <a:pathLst>
                <a:path w="208" h="349">
                  <a:moveTo>
                    <a:pt x="0" y="290"/>
                  </a:moveTo>
                  <a:lnTo>
                    <a:pt x="54" y="236"/>
                  </a:lnTo>
                  <a:lnTo>
                    <a:pt x="55" y="239"/>
                  </a:lnTo>
                  <a:lnTo>
                    <a:pt x="57" y="242"/>
                  </a:lnTo>
                  <a:lnTo>
                    <a:pt x="58" y="244"/>
                  </a:lnTo>
                  <a:lnTo>
                    <a:pt x="61" y="246"/>
                  </a:lnTo>
                  <a:lnTo>
                    <a:pt x="63" y="248"/>
                  </a:lnTo>
                  <a:lnTo>
                    <a:pt x="65" y="250"/>
                  </a:lnTo>
                  <a:lnTo>
                    <a:pt x="67" y="252"/>
                  </a:lnTo>
                  <a:lnTo>
                    <a:pt x="70" y="254"/>
                  </a:lnTo>
                  <a:lnTo>
                    <a:pt x="72" y="255"/>
                  </a:lnTo>
                  <a:lnTo>
                    <a:pt x="74" y="256"/>
                  </a:lnTo>
                  <a:lnTo>
                    <a:pt x="77" y="257"/>
                  </a:lnTo>
                  <a:lnTo>
                    <a:pt x="79" y="258"/>
                  </a:lnTo>
                  <a:lnTo>
                    <a:pt x="83" y="259"/>
                  </a:lnTo>
                  <a:lnTo>
                    <a:pt x="86" y="259"/>
                  </a:lnTo>
                  <a:lnTo>
                    <a:pt x="88" y="259"/>
                  </a:lnTo>
                  <a:lnTo>
                    <a:pt x="91" y="260"/>
                  </a:lnTo>
                  <a:lnTo>
                    <a:pt x="94" y="259"/>
                  </a:lnTo>
                  <a:lnTo>
                    <a:pt x="97" y="259"/>
                  </a:lnTo>
                  <a:lnTo>
                    <a:pt x="100" y="259"/>
                  </a:lnTo>
                  <a:lnTo>
                    <a:pt x="102" y="258"/>
                  </a:lnTo>
                  <a:lnTo>
                    <a:pt x="106" y="257"/>
                  </a:lnTo>
                  <a:lnTo>
                    <a:pt x="108" y="256"/>
                  </a:lnTo>
                  <a:lnTo>
                    <a:pt x="110" y="254"/>
                  </a:lnTo>
                  <a:lnTo>
                    <a:pt x="112" y="253"/>
                  </a:lnTo>
                  <a:lnTo>
                    <a:pt x="114" y="251"/>
                  </a:lnTo>
                  <a:lnTo>
                    <a:pt x="116" y="249"/>
                  </a:lnTo>
                  <a:lnTo>
                    <a:pt x="117" y="247"/>
                  </a:lnTo>
                  <a:lnTo>
                    <a:pt x="119" y="245"/>
                  </a:lnTo>
                  <a:lnTo>
                    <a:pt x="119" y="243"/>
                  </a:lnTo>
                  <a:lnTo>
                    <a:pt x="120" y="239"/>
                  </a:lnTo>
                  <a:lnTo>
                    <a:pt x="120" y="237"/>
                  </a:lnTo>
                  <a:lnTo>
                    <a:pt x="121" y="234"/>
                  </a:lnTo>
                  <a:lnTo>
                    <a:pt x="120" y="232"/>
                  </a:lnTo>
                  <a:lnTo>
                    <a:pt x="120" y="229"/>
                  </a:lnTo>
                  <a:lnTo>
                    <a:pt x="119" y="226"/>
                  </a:lnTo>
                  <a:lnTo>
                    <a:pt x="118" y="224"/>
                  </a:lnTo>
                  <a:lnTo>
                    <a:pt x="117" y="222"/>
                  </a:lnTo>
                  <a:lnTo>
                    <a:pt x="115" y="220"/>
                  </a:lnTo>
                  <a:lnTo>
                    <a:pt x="113" y="217"/>
                  </a:lnTo>
                  <a:lnTo>
                    <a:pt x="111" y="215"/>
                  </a:lnTo>
                  <a:lnTo>
                    <a:pt x="108" y="213"/>
                  </a:lnTo>
                  <a:lnTo>
                    <a:pt x="105" y="211"/>
                  </a:lnTo>
                  <a:lnTo>
                    <a:pt x="101" y="210"/>
                  </a:lnTo>
                  <a:lnTo>
                    <a:pt x="98" y="209"/>
                  </a:lnTo>
                  <a:lnTo>
                    <a:pt x="95" y="208"/>
                  </a:lnTo>
                  <a:lnTo>
                    <a:pt x="92" y="208"/>
                  </a:lnTo>
                  <a:lnTo>
                    <a:pt x="88" y="207"/>
                  </a:lnTo>
                  <a:lnTo>
                    <a:pt x="85" y="207"/>
                  </a:lnTo>
                  <a:lnTo>
                    <a:pt x="68" y="207"/>
                  </a:lnTo>
                  <a:lnTo>
                    <a:pt x="68" y="141"/>
                  </a:lnTo>
                  <a:lnTo>
                    <a:pt x="83" y="141"/>
                  </a:lnTo>
                  <a:lnTo>
                    <a:pt x="87" y="141"/>
                  </a:lnTo>
                  <a:lnTo>
                    <a:pt x="91" y="140"/>
                  </a:lnTo>
                  <a:lnTo>
                    <a:pt x="95" y="140"/>
                  </a:lnTo>
                  <a:lnTo>
                    <a:pt x="98" y="139"/>
                  </a:lnTo>
                  <a:lnTo>
                    <a:pt x="101" y="138"/>
                  </a:lnTo>
                  <a:lnTo>
                    <a:pt x="105" y="137"/>
                  </a:lnTo>
                  <a:lnTo>
                    <a:pt x="108" y="134"/>
                  </a:lnTo>
                  <a:lnTo>
                    <a:pt x="111" y="132"/>
                  </a:lnTo>
                  <a:lnTo>
                    <a:pt x="113" y="130"/>
                  </a:lnTo>
                  <a:lnTo>
                    <a:pt x="115" y="128"/>
                  </a:lnTo>
                  <a:lnTo>
                    <a:pt x="117" y="126"/>
                  </a:lnTo>
                  <a:lnTo>
                    <a:pt x="118" y="123"/>
                  </a:lnTo>
                  <a:lnTo>
                    <a:pt x="119" y="121"/>
                  </a:lnTo>
                  <a:lnTo>
                    <a:pt x="120" y="118"/>
                  </a:lnTo>
                  <a:lnTo>
                    <a:pt x="120" y="115"/>
                  </a:lnTo>
                  <a:lnTo>
                    <a:pt x="121" y="111"/>
                  </a:lnTo>
                  <a:lnTo>
                    <a:pt x="120" y="108"/>
                  </a:lnTo>
                  <a:lnTo>
                    <a:pt x="120" y="106"/>
                  </a:lnTo>
                  <a:lnTo>
                    <a:pt x="120" y="103"/>
                  </a:lnTo>
                  <a:lnTo>
                    <a:pt x="119" y="101"/>
                  </a:lnTo>
                  <a:lnTo>
                    <a:pt x="118" y="99"/>
                  </a:lnTo>
                  <a:lnTo>
                    <a:pt x="117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12" y="91"/>
                  </a:lnTo>
                  <a:lnTo>
                    <a:pt x="110" y="90"/>
                  </a:lnTo>
                  <a:lnTo>
                    <a:pt x="108" y="89"/>
                  </a:lnTo>
                  <a:lnTo>
                    <a:pt x="106" y="88"/>
                  </a:lnTo>
                  <a:lnTo>
                    <a:pt x="102" y="87"/>
                  </a:lnTo>
                  <a:lnTo>
                    <a:pt x="100" y="87"/>
                  </a:lnTo>
                  <a:lnTo>
                    <a:pt x="97" y="86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9" y="87"/>
                  </a:lnTo>
                  <a:lnTo>
                    <a:pt x="87" y="87"/>
                  </a:lnTo>
                  <a:lnTo>
                    <a:pt x="84" y="87"/>
                  </a:lnTo>
                  <a:lnTo>
                    <a:pt x="81" y="88"/>
                  </a:lnTo>
                  <a:lnTo>
                    <a:pt x="78" y="89"/>
                  </a:lnTo>
                  <a:lnTo>
                    <a:pt x="76" y="90"/>
                  </a:lnTo>
                  <a:lnTo>
                    <a:pt x="73" y="91"/>
                  </a:lnTo>
                  <a:lnTo>
                    <a:pt x="71" y="94"/>
                  </a:lnTo>
                  <a:lnTo>
                    <a:pt x="69" y="95"/>
                  </a:lnTo>
                  <a:lnTo>
                    <a:pt x="66" y="97"/>
                  </a:lnTo>
                  <a:lnTo>
                    <a:pt x="64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7" y="104"/>
                  </a:lnTo>
                  <a:lnTo>
                    <a:pt x="55" y="106"/>
                  </a:lnTo>
                  <a:lnTo>
                    <a:pt x="4" y="54"/>
                  </a:lnTo>
                  <a:lnTo>
                    <a:pt x="9" y="47"/>
                  </a:lnTo>
                  <a:lnTo>
                    <a:pt x="14" y="42"/>
                  </a:lnTo>
                  <a:lnTo>
                    <a:pt x="20" y="37"/>
                  </a:lnTo>
                  <a:lnTo>
                    <a:pt x="25" y="32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7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5" y="12"/>
                  </a:lnTo>
                  <a:lnTo>
                    <a:pt x="163" y="16"/>
                  </a:lnTo>
                  <a:lnTo>
                    <a:pt x="172" y="22"/>
                  </a:lnTo>
                  <a:lnTo>
                    <a:pt x="179" y="28"/>
                  </a:lnTo>
                  <a:lnTo>
                    <a:pt x="186" y="36"/>
                  </a:lnTo>
                  <a:lnTo>
                    <a:pt x="192" y="43"/>
                  </a:lnTo>
                  <a:lnTo>
                    <a:pt x="197" y="52"/>
                  </a:lnTo>
                  <a:lnTo>
                    <a:pt x="201" y="60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8"/>
                  </a:lnTo>
                  <a:lnTo>
                    <a:pt x="208" y="98"/>
                  </a:lnTo>
                  <a:lnTo>
                    <a:pt x="208" y="104"/>
                  </a:lnTo>
                  <a:lnTo>
                    <a:pt x="207" y="110"/>
                  </a:lnTo>
                  <a:lnTo>
                    <a:pt x="206" y="116"/>
                  </a:lnTo>
                  <a:lnTo>
                    <a:pt x="205" y="121"/>
                  </a:lnTo>
                  <a:lnTo>
                    <a:pt x="204" y="126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7" y="142"/>
                  </a:lnTo>
                  <a:lnTo>
                    <a:pt x="194" y="147"/>
                  </a:lnTo>
                  <a:lnTo>
                    <a:pt x="191" y="151"/>
                  </a:lnTo>
                  <a:lnTo>
                    <a:pt x="187" y="155"/>
                  </a:lnTo>
                  <a:lnTo>
                    <a:pt x="183" y="160"/>
                  </a:lnTo>
                  <a:lnTo>
                    <a:pt x="180" y="163"/>
                  </a:lnTo>
                  <a:lnTo>
                    <a:pt x="176" y="166"/>
                  </a:lnTo>
                  <a:lnTo>
                    <a:pt x="171" y="169"/>
                  </a:lnTo>
                  <a:lnTo>
                    <a:pt x="166" y="172"/>
                  </a:lnTo>
                  <a:lnTo>
                    <a:pt x="171" y="175"/>
                  </a:lnTo>
                  <a:lnTo>
                    <a:pt x="176" y="179"/>
                  </a:lnTo>
                  <a:lnTo>
                    <a:pt x="179" y="182"/>
                  </a:lnTo>
                  <a:lnTo>
                    <a:pt x="183" y="185"/>
                  </a:lnTo>
                  <a:lnTo>
                    <a:pt x="187" y="189"/>
                  </a:lnTo>
                  <a:lnTo>
                    <a:pt x="191" y="193"/>
                  </a:lnTo>
                  <a:lnTo>
                    <a:pt x="194" y="199"/>
                  </a:lnTo>
                  <a:lnTo>
                    <a:pt x="197" y="203"/>
                  </a:lnTo>
                  <a:lnTo>
                    <a:pt x="200" y="208"/>
                  </a:lnTo>
                  <a:lnTo>
                    <a:pt x="202" y="213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29"/>
                  </a:lnTo>
                  <a:lnTo>
                    <a:pt x="207" y="235"/>
                  </a:lnTo>
                  <a:lnTo>
                    <a:pt x="208" y="241"/>
                  </a:lnTo>
                  <a:lnTo>
                    <a:pt x="208" y="246"/>
                  </a:lnTo>
                  <a:lnTo>
                    <a:pt x="207" y="257"/>
                  </a:lnTo>
                  <a:lnTo>
                    <a:pt x="206" y="267"/>
                  </a:lnTo>
                  <a:lnTo>
                    <a:pt x="204" y="277"/>
                  </a:lnTo>
                  <a:lnTo>
                    <a:pt x="201" y="287"/>
                  </a:lnTo>
                  <a:lnTo>
                    <a:pt x="196" y="295"/>
                  </a:lnTo>
                  <a:lnTo>
                    <a:pt x="191" y="304"/>
                  </a:lnTo>
                  <a:lnTo>
                    <a:pt x="184" y="312"/>
                  </a:lnTo>
                  <a:lnTo>
                    <a:pt x="178" y="319"/>
                  </a:lnTo>
                  <a:lnTo>
                    <a:pt x="170" y="326"/>
                  </a:lnTo>
                  <a:lnTo>
                    <a:pt x="161" y="332"/>
                  </a:lnTo>
                  <a:lnTo>
                    <a:pt x="153" y="337"/>
                  </a:lnTo>
                  <a:lnTo>
                    <a:pt x="143" y="341"/>
                  </a:lnTo>
                  <a:lnTo>
                    <a:pt x="133" y="344"/>
                  </a:lnTo>
                  <a:lnTo>
                    <a:pt x="122" y="347"/>
                  </a:lnTo>
                  <a:lnTo>
                    <a:pt x="112" y="348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4" y="348"/>
                  </a:lnTo>
                  <a:lnTo>
                    <a:pt x="76" y="347"/>
                  </a:lnTo>
                  <a:lnTo>
                    <a:pt x="69" y="344"/>
                  </a:lnTo>
                  <a:lnTo>
                    <a:pt x="62" y="342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1" y="333"/>
                  </a:lnTo>
                  <a:lnTo>
                    <a:pt x="34" y="330"/>
                  </a:lnTo>
                  <a:lnTo>
                    <a:pt x="29" y="325"/>
                  </a:lnTo>
                  <a:lnTo>
                    <a:pt x="23" y="320"/>
                  </a:lnTo>
                  <a:lnTo>
                    <a:pt x="17" y="315"/>
                  </a:lnTo>
                  <a:lnTo>
                    <a:pt x="12" y="310"/>
                  </a:lnTo>
                  <a:lnTo>
                    <a:pt x="8" y="304"/>
                  </a:lnTo>
                  <a:lnTo>
                    <a:pt x="4" y="297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203560" y="726840"/>
              <a:ext cx="238680" cy="235440"/>
            </a:xfrm>
            <a:custGeom>
              <a:avLst/>
              <a:gdLst/>
              <a:ahLst/>
              <a:rect l="l" t="t" r="r" b="b"/>
              <a:pathLst>
                <a:path w="367" h="360">
                  <a:moveTo>
                    <a:pt x="49" y="360"/>
                  </a:moveTo>
                  <a:lnTo>
                    <a:pt x="0" y="3"/>
                  </a:lnTo>
                  <a:lnTo>
                    <a:pt x="92" y="3"/>
                  </a:lnTo>
                  <a:lnTo>
                    <a:pt x="111" y="169"/>
                  </a:lnTo>
                  <a:lnTo>
                    <a:pt x="184" y="0"/>
                  </a:lnTo>
                  <a:lnTo>
                    <a:pt x="255" y="169"/>
                  </a:lnTo>
                  <a:lnTo>
                    <a:pt x="277" y="3"/>
                  </a:lnTo>
                  <a:lnTo>
                    <a:pt x="367" y="3"/>
                  </a:lnTo>
                  <a:lnTo>
                    <a:pt x="321" y="360"/>
                  </a:lnTo>
                  <a:lnTo>
                    <a:pt x="248" y="360"/>
                  </a:lnTo>
                  <a:lnTo>
                    <a:pt x="184" y="200"/>
                  </a:lnTo>
                  <a:lnTo>
                    <a:pt x="120" y="360"/>
                  </a:lnTo>
                  <a:lnTo>
                    <a:pt x="49" y="3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451960" y="792000"/>
              <a:ext cx="13428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5" y="195"/>
                  </a:lnTo>
                  <a:lnTo>
                    <a:pt x="117" y="194"/>
                  </a:lnTo>
                  <a:lnTo>
                    <a:pt x="119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3" y="175"/>
                  </a:lnTo>
                  <a:lnTo>
                    <a:pt x="134" y="172"/>
                  </a:lnTo>
                  <a:lnTo>
                    <a:pt x="134" y="169"/>
                  </a:lnTo>
                  <a:lnTo>
                    <a:pt x="134" y="167"/>
                  </a:lnTo>
                  <a:lnTo>
                    <a:pt x="133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7" y="144"/>
                  </a:lnTo>
                  <a:lnTo>
                    <a:pt x="94" y="145"/>
                  </a:lnTo>
                  <a:lnTo>
                    <a:pt x="92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4" y="193"/>
                  </a:lnTo>
                  <a:lnTo>
                    <a:pt x="96" y="194"/>
                  </a:lnTo>
                  <a:lnTo>
                    <a:pt x="100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2" y="253"/>
                  </a:lnTo>
                  <a:lnTo>
                    <a:pt x="34" y="249"/>
                  </a:lnTo>
                  <a:lnTo>
                    <a:pt x="28" y="245"/>
                  </a:lnTo>
                  <a:lnTo>
                    <a:pt x="23" y="238"/>
                  </a:lnTo>
                  <a:lnTo>
                    <a:pt x="17" y="232"/>
                  </a:lnTo>
                  <a:lnTo>
                    <a:pt x="12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9" y="131"/>
                  </a:lnTo>
                  <a:lnTo>
                    <a:pt x="13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3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5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2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3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4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4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09280" y="792000"/>
              <a:ext cx="9396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7" y="257"/>
                  </a:moveTo>
                  <a:lnTo>
                    <a:pt x="7" y="176"/>
                  </a:lnTo>
                  <a:lnTo>
                    <a:pt x="9" y="177"/>
                  </a:lnTo>
                  <a:lnTo>
                    <a:pt x="10" y="179"/>
                  </a:lnTo>
                  <a:lnTo>
                    <a:pt x="12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9" y="177"/>
                  </a:lnTo>
                  <a:lnTo>
                    <a:pt x="50" y="175"/>
                  </a:lnTo>
                  <a:lnTo>
                    <a:pt x="51" y="174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53" y="170"/>
                  </a:lnTo>
                  <a:lnTo>
                    <a:pt x="53" y="168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2" y="161"/>
                  </a:lnTo>
                  <a:lnTo>
                    <a:pt x="50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0" y="134"/>
                  </a:lnTo>
                  <a:lnTo>
                    <a:pt x="29" y="133"/>
                  </a:lnTo>
                  <a:lnTo>
                    <a:pt x="27" y="132"/>
                  </a:lnTo>
                  <a:lnTo>
                    <a:pt x="27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1" y="114"/>
                  </a:lnTo>
                  <a:lnTo>
                    <a:pt x="10" y="111"/>
                  </a:lnTo>
                  <a:lnTo>
                    <a:pt x="8" y="108"/>
                  </a:lnTo>
                  <a:lnTo>
                    <a:pt x="7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7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9" y="4"/>
                  </a:lnTo>
                  <a:lnTo>
                    <a:pt x="139" y="80"/>
                  </a:lnTo>
                  <a:lnTo>
                    <a:pt x="137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7" y="74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7" y="76"/>
                  </a:lnTo>
                  <a:lnTo>
                    <a:pt x="96" y="77"/>
                  </a:lnTo>
                  <a:lnTo>
                    <a:pt x="94" y="78"/>
                  </a:lnTo>
                  <a:lnTo>
                    <a:pt x="93" y="79"/>
                  </a:lnTo>
                  <a:lnTo>
                    <a:pt x="92" y="80"/>
                  </a:lnTo>
                  <a:lnTo>
                    <a:pt x="92" y="81"/>
                  </a:lnTo>
                  <a:lnTo>
                    <a:pt x="91" y="83"/>
                  </a:lnTo>
                  <a:lnTo>
                    <a:pt x="91" y="84"/>
                  </a:lnTo>
                  <a:lnTo>
                    <a:pt x="91" y="86"/>
                  </a:lnTo>
                  <a:lnTo>
                    <a:pt x="91" y="87"/>
                  </a:lnTo>
                  <a:lnTo>
                    <a:pt x="91" y="88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3" y="97"/>
                  </a:lnTo>
                  <a:lnTo>
                    <a:pt x="94" y="98"/>
                  </a:lnTo>
                  <a:lnTo>
                    <a:pt x="95" y="100"/>
                  </a:lnTo>
                  <a:lnTo>
                    <a:pt x="96" y="101"/>
                  </a:lnTo>
                  <a:lnTo>
                    <a:pt x="98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6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5" y="146"/>
                  </a:lnTo>
                  <a:lnTo>
                    <a:pt x="137" y="150"/>
                  </a:lnTo>
                  <a:lnTo>
                    <a:pt x="139" y="154"/>
                  </a:lnTo>
                  <a:lnTo>
                    <a:pt x="141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6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5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3" y="256"/>
                  </a:lnTo>
                  <a:lnTo>
                    <a:pt x="84" y="258"/>
                  </a:lnTo>
                  <a:lnTo>
                    <a:pt x="75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3" y="261"/>
                  </a:lnTo>
                  <a:lnTo>
                    <a:pt x="51" y="261"/>
                  </a:lnTo>
                  <a:lnTo>
                    <a:pt x="49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1" y="260"/>
                  </a:lnTo>
                  <a:lnTo>
                    <a:pt x="28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1" y="257"/>
                  </a:lnTo>
                  <a:lnTo>
                    <a:pt x="7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2628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3" y="107"/>
                  </a:lnTo>
                  <a:lnTo>
                    <a:pt x="108" y="105"/>
                  </a:lnTo>
                  <a:lnTo>
                    <a:pt x="111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8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6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0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5" y="185"/>
                  </a:lnTo>
                  <a:lnTo>
                    <a:pt x="123" y="184"/>
                  </a:lnTo>
                  <a:lnTo>
                    <a:pt x="120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90016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9854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6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6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9" y="58"/>
                  </a:lnTo>
                  <a:lnTo>
                    <a:pt x="220" y="67"/>
                  </a:lnTo>
                  <a:lnTo>
                    <a:pt x="221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6" y="114"/>
                  </a:lnTo>
                  <a:lnTo>
                    <a:pt x="136" y="109"/>
                  </a:lnTo>
                  <a:lnTo>
                    <a:pt x="135" y="105"/>
                  </a:lnTo>
                  <a:lnTo>
                    <a:pt x="135" y="102"/>
                  </a:lnTo>
                  <a:lnTo>
                    <a:pt x="134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7" y="90"/>
                  </a:lnTo>
                  <a:lnTo>
                    <a:pt x="126" y="88"/>
                  </a:lnTo>
                  <a:lnTo>
                    <a:pt x="123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3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48560" y="792000"/>
              <a:ext cx="156960" cy="22896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119" y="147"/>
                  </a:moveTo>
                  <a:lnTo>
                    <a:pt x="122" y="147"/>
                  </a:lnTo>
                  <a:lnTo>
                    <a:pt x="125" y="146"/>
                  </a:lnTo>
                  <a:lnTo>
                    <a:pt x="128" y="146"/>
                  </a:lnTo>
                  <a:lnTo>
                    <a:pt x="131" y="145"/>
                  </a:lnTo>
                  <a:lnTo>
                    <a:pt x="134" y="144"/>
                  </a:lnTo>
                  <a:lnTo>
                    <a:pt x="136" y="142"/>
                  </a:lnTo>
                  <a:lnTo>
                    <a:pt x="139" y="140"/>
                  </a:lnTo>
                  <a:lnTo>
                    <a:pt x="142" y="138"/>
                  </a:lnTo>
                  <a:lnTo>
                    <a:pt x="144" y="135"/>
                  </a:lnTo>
                  <a:lnTo>
                    <a:pt x="146" y="132"/>
                  </a:lnTo>
                  <a:lnTo>
                    <a:pt x="147" y="130"/>
                  </a:lnTo>
                  <a:lnTo>
                    <a:pt x="149" y="127"/>
                  </a:lnTo>
                  <a:lnTo>
                    <a:pt x="150" y="124"/>
                  </a:lnTo>
                  <a:lnTo>
                    <a:pt x="150" y="122"/>
                  </a:lnTo>
                  <a:lnTo>
                    <a:pt x="151" y="119"/>
                  </a:lnTo>
                  <a:lnTo>
                    <a:pt x="151" y="115"/>
                  </a:lnTo>
                  <a:lnTo>
                    <a:pt x="151" y="112"/>
                  </a:lnTo>
                  <a:lnTo>
                    <a:pt x="150" y="109"/>
                  </a:lnTo>
                  <a:lnTo>
                    <a:pt x="150" y="106"/>
                  </a:lnTo>
                  <a:lnTo>
                    <a:pt x="149" y="103"/>
                  </a:lnTo>
                  <a:lnTo>
                    <a:pt x="147" y="101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2" y="93"/>
                  </a:lnTo>
                  <a:lnTo>
                    <a:pt x="139" y="91"/>
                  </a:lnTo>
                  <a:lnTo>
                    <a:pt x="136" y="89"/>
                  </a:lnTo>
                  <a:lnTo>
                    <a:pt x="134" y="87"/>
                  </a:lnTo>
                  <a:lnTo>
                    <a:pt x="131" y="86"/>
                  </a:lnTo>
                  <a:lnTo>
                    <a:pt x="128" y="85"/>
                  </a:lnTo>
                  <a:lnTo>
                    <a:pt x="125" y="84"/>
                  </a:lnTo>
                  <a:lnTo>
                    <a:pt x="122" y="84"/>
                  </a:lnTo>
                  <a:lnTo>
                    <a:pt x="119" y="84"/>
                  </a:lnTo>
                  <a:lnTo>
                    <a:pt x="115" y="84"/>
                  </a:lnTo>
                  <a:lnTo>
                    <a:pt x="112" y="84"/>
                  </a:lnTo>
                  <a:lnTo>
                    <a:pt x="110" y="85"/>
                  </a:lnTo>
                  <a:lnTo>
                    <a:pt x="107" y="86"/>
                  </a:lnTo>
                  <a:lnTo>
                    <a:pt x="104" y="87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7" y="92"/>
                  </a:lnTo>
                  <a:lnTo>
                    <a:pt x="94" y="96"/>
                  </a:lnTo>
                  <a:lnTo>
                    <a:pt x="92" y="98"/>
                  </a:lnTo>
                  <a:lnTo>
                    <a:pt x="91" y="100"/>
                  </a:lnTo>
                  <a:lnTo>
                    <a:pt x="90" y="103"/>
                  </a:lnTo>
                  <a:lnTo>
                    <a:pt x="89" y="106"/>
                  </a:lnTo>
                  <a:lnTo>
                    <a:pt x="88" y="109"/>
                  </a:lnTo>
                  <a:lnTo>
                    <a:pt x="88" y="112"/>
                  </a:lnTo>
                  <a:lnTo>
                    <a:pt x="87" y="115"/>
                  </a:lnTo>
                  <a:lnTo>
                    <a:pt x="88" y="119"/>
                  </a:lnTo>
                  <a:lnTo>
                    <a:pt x="88" y="122"/>
                  </a:lnTo>
                  <a:lnTo>
                    <a:pt x="89" y="125"/>
                  </a:lnTo>
                  <a:lnTo>
                    <a:pt x="90" y="127"/>
                  </a:lnTo>
                  <a:lnTo>
                    <a:pt x="91" y="130"/>
                  </a:lnTo>
                  <a:lnTo>
                    <a:pt x="92" y="133"/>
                  </a:lnTo>
                  <a:lnTo>
                    <a:pt x="94" y="135"/>
                  </a:lnTo>
                  <a:lnTo>
                    <a:pt x="97" y="138"/>
                  </a:lnTo>
                  <a:lnTo>
                    <a:pt x="99" y="140"/>
                  </a:lnTo>
                  <a:lnTo>
                    <a:pt x="102" y="142"/>
                  </a:lnTo>
                  <a:lnTo>
                    <a:pt x="104" y="144"/>
                  </a:lnTo>
                  <a:lnTo>
                    <a:pt x="107" y="145"/>
                  </a:lnTo>
                  <a:lnTo>
                    <a:pt x="109" y="146"/>
                  </a:lnTo>
                  <a:lnTo>
                    <a:pt x="112" y="147"/>
                  </a:lnTo>
                  <a:lnTo>
                    <a:pt x="115" y="147"/>
                  </a:lnTo>
                  <a:lnTo>
                    <a:pt x="119" y="147"/>
                  </a:lnTo>
                  <a:close/>
                  <a:moveTo>
                    <a:pt x="146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38" y="226"/>
                  </a:lnTo>
                  <a:lnTo>
                    <a:pt x="135" y="226"/>
                  </a:lnTo>
                  <a:lnTo>
                    <a:pt x="133" y="227"/>
                  </a:lnTo>
                  <a:lnTo>
                    <a:pt x="132" y="227"/>
                  </a:lnTo>
                  <a:lnTo>
                    <a:pt x="130" y="227"/>
                  </a:lnTo>
                  <a:lnTo>
                    <a:pt x="128" y="227"/>
                  </a:lnTo>
                  <a:lnTo>
                    <a:pt x="126" y="227"/>
                  </a:lnTo>
                  <a:lnTo>
                    <a:pt x="124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7" y="228"/>
                  </a:lnTo>
                  <a:lnTo>
                    <a:pt x="115" y="228"/>
                  </a:lnTo>
                  <a:lnTo>
                    <a:pt x="104" y="227"/>
                  </a:lnTo>
                  <a:lnTo>
                    <a:pt x="92" y="226"/>
                  </a:lnTo>
                  <a:lnTo>
                    <a:pt x="82" y="224"/>
                  </a:lnTo>
                  <a:lnTo>
                    <a:pt x="71" y="219"/>
                  </a:lnTo>
                  <a:lnTo>
                    <a:pt x="62" y="215"/>
                  </a:lnTo>
                  <a:lnTo>
                    <a:pt x="54" y="210"/>
                  </a:lnTo>
                  <a:lnTo>
                    <a:pt x="44" y="204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6" y="127"/>
                  </a:lnTo>
                  <a:lnTo>
                    <a:pt x="6" y="114"/>
                  </a:lnTo>
                  <a:lnTo>
                    <a:pt x="6" y="103"/>
                  </a:lnTo>
                  <a:lnTo>
                    <a:pt x="8" y="90"/>
                  </a:lnTo>
                  <a:lnTo>
                    <a:pt x="11" y="80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4" y="49"/>
                  </a:lnTo>
                  <a:lnTo>
                    <a:pt x="30" y="41"/>
                  </a:lnTo>
                  <a:lnTo>
                    <a:pt x="38" y="33"/>
                  </a:lnTo>
                  <a:lnTo>
                    <a:pt x="46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5" y="8"/>
                  </a:lnTo>
                  <a:lnTo>
                    <a:pt x="85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2" y="4"/>
                  </a:lnTo>
                  <a:lnTo>
                    <a:pt x="154" y="5"/>
                  </a:lnTo>
                  <a:lnTo>
                    <a:pt x="238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7" y="52"/>
                  </a:lnTo>
                  <a:lnTo>
                    <a:pt x="220" y="57"/>
                  </a:lnTo>
                  <a:lnTo>
                    <a:pt x="223" y="61"/>
                  </a:lnTo>
                  <a:lnTo>
                    <a:pt x="225" y="66"/>
                  </a:lnTo>
                  <a:lnTo>
                    <a:pt x="227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6" y="113"/>
                  </a:lnTo>
                  <a:lnTo>
                    <a:pt x="236" y="119"/>
                  </a:lnTo>
                  <a:lnTo>
                    <a:pt x="236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0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19" y="172"/>
                  </a:lnTo>
                  <a:lnTo>
                    <a:pt x="217" y="176"/>
                  </a:lnTo>
                  <a:lnTo>
                    <a:pt x="214" y="180"/>
                  </a:lnTo>
                  <a:lnTo>
                    <a:pt x="211" y="184"/>
                  </a:lnTo>
                  <a:lnTo>
                    <a:pt x="214" y="188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20" y="199"/>
                  </a:lnTo>
                  <a:lnTo>
                    <a:pt x="223" y="203"/>
                  </a:lnTo>
                  <a:lnTo>
                    <a:pt x="224" y="207"/>
                  </a:lnTo>
                  <a:lnTo>
                    <a:pt x="226" y="211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29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1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1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4" y="287"/>
                  </a:lnTo>
                  <a:lnTo>
                    <a:pt x="219" y="296"/>
                  </a:lnTo>
                  <a:lnTo>
                    <a:pt x="214" y="304"/>
                  </a:lnTo>
                  <a:lnTo>
                    <a:pt x="207" y="313"/>
                  </a:lnTo>
                  <a:lnTo>
                    <a:pt x="199" y="320"/>
                  </a:lnTo>
                  <a:lnTo>
                    <a:pt x="191" y="328"/>
                  </a:lnTo>
                  <a:lnTo>
                    <a:pt x="183" y="334"/>
                  </a:lnTo>
                  <a:lnTo>
                    <a:pt x="173" y="339"/>
                  </a:lnTo>
                  <a:lnTo>
                    <a:pt x="163" y="343"/>
                  </a:lnTo>
                  <a:lnTo>
                    <a:pt x="152" y="346"/>
                  </a:lnTo>
                  <a:lnTo>
                    <a:pt x="141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99" y="350"/>
                  </a:lnTo>
                  <a:lnTo>
                    <a:pt x="90" y="349"/>
                  </a:lnTo>
                  <a:lnTo>
                    <a:pt x="82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0" y="338"/>
                  </a:lnTo>
                  <a:lnTo>
                    <a:pt x="43" y="335"/>
                  </a:lnTo>
                  <a:lnTo>
                    <a:pt x="36" y="331"/>
                  </a:lnTo>
                  <a:lnTo>
                    <a:pt x="29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5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7" y="244"/>
                  </a:lnTo>
                  <a:lnTo>
                    <a:pt x="51" y="248"/>
                  </a:lnTo>
                  <a:lnTo>
                    <a:pt x="56" y="251"/>
                  </a:lnTo>
                  <a:lnTo>
                    <a:pt x="60" y="254"/>
                  </a:lnTo>
                  <a:lnTo>
                    <a:pt x="64" y="257"/>
                  </a:lnTo>
                  <a:lnTo>
                    <a:pt x="68" y="259"/>
                  </a:lnTo>
                  <a:lnTo>
                    <a:pt x="73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0" y="269"/>
                  </a:lnTo>
                  <a:lnTo>
                    <a:pt x="94" y="270"/>
                  </a:lnTo>
                  <a:lnTo>
                    <a:pt x="99" y="271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11" y="272"/>
                  </a:lnTo>
                  <a:lnTo>
                    <a:pt x="115" y="272"/>
                  </a:lnTo>
                  <a:lnTo>
                    <a:pt x="120" y="272"/>
                  </a:lnTo>
                  <a:lnTo>
                    <a:pt x="123" y="271"/>
                  </a:lnTo>
                  <a:lnTo>
                    <a:pt x="127" y="270"/>
                  </a:lnTo>
                  <a:lnTo>
                    <a:pt x="130" y="269"/>
                  </a:lnTo>
                  <a:lnTo>
                    <a:pt x="132" y="268"/>
                  </a:lnTo>
                  <a:lnTo>
                    <a:pt x="135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8" y="245"/>
                  </a:lnTo>
                  <a:lnTo>
                    <a:pt x="148" y="241"/>
                  </a:lnTo>
                  <a:lnTo>
                    <a:pt x="148" y="240"/>
                  </a:lnTo>
                  <a:lnTo>
                    <a:pt x="148" y="239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48" y="237"/>
                  </a:lnTo>
                  <a:lnTo>
                    <a:pt x="148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7" y="231"/>
                  </a:lnTo>
                  <a:lnTo>
                    <a:pt x="147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6" y="226"/>
                  </a:lnTo>
                  <a:lnTo>
                    <a:pt x="146" y="2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325320" y="743040"/>
              <a:ext cx="91800" cy="22212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23" y="332"/>
                  </a:moveTo>
                  <a:lnTo>
                    <a:pt x="121" y="333"/>
                  </a:lnTo>
                  <a:lnTo>
                    <a:pt x="118" y="333"/>
                  </a:lnTo>
                  <a:lnTo>
                    <a:pt x="116" y="333"/>
                  </a:lnTo>
                  <a:lnTo>
                    <a:pt x="114" y="333"/>
                  </a:lnTo>
                  <a:lnTo>
                    <a:pt x="112" y="334"/>
                  </a:lnTo>
                  <a:lnTo>
                    <a:pt x="110" y="334"/>
                  </a:lnTo>
                  <a:lnTo>
                    <a:pt x="108" y="334"/>
                  </a:lnTo>
                  <a:lnTo>
                    <a:pt x="106" y="334"/>
                  </a:lnTo>
                  <a:lnTo>
                    <a:pt x="104" y="334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7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6"/>
                  </a:lnTo>
                  <a:lnTo>
                    <a:pt x="89" y="336"/>
                  </a:lnTo>
                  <a:lnTo>
                    <a:pt x="78" y="336"/>
                  </a:lnTo>
                  <a:lnTo>
                    <a:pt x="70" y="334"/>
                  </a:lnTo>
                  <a:lnTo>
                    <a:pt x="62" y="333"/>
                  </a:lnTo>
                  <a:lnTo>
                    <a:pt x="53" y="331"/>
                  </a:lnTo>
                  <a:lnTo>
                    <a:pt x="47" y="329"/>
                  </a:lnTo>
                  <a:lnTo>
                    <a:pt x="41" y="326"/>
                  </a:lnTo>
                  <a:lnTo>
                    <a:pt x="35" y="322"/>
                  </a:lnTo>
                  <a:lnTo>
                    <a:pt x="31" y="318"/>
                  </a:lnTo>
                  <a:lnTo>
                    <a:pt x="28" y="313"/>
                  </a:lnTo>
                  <a:lnTo>
                    <a:pt x="25" y="307"/>
                  </a:lnTo>
                  <a:lnTo>
                    <a:pt x="22" y="300"/>
                  </a:lnTo>
                  <a:lnTo>
                    <a:pt x="20" y="291"/>
                  </a:lnTo>
                  <a:lnTo>
                    <a:pt x="17" y="281"/>
                  </a:lnTo>
                  <a:lnTo>
                    <a:pt x="16" y="270"/>
                  </a:lnTo>
                  <a:lnTo>
                    <a:pt x="15" y="259"/>
                  </a:lnTo>
                  <a:lnTo>
                    <a:pt x="15" y="245"/>
                  </a:lnTo>
                  <a:lnTo>
                    <a:pt x="15" y="152"/>
                  </a:lnTo>
                  <a:lnTo>
                    <a:pt x="0" y="152"/>
                  </a:lnTo>
                  <a:lnTo>
                    <a:pt x="0" y="75"/>
                  </a:lnTo>
                  <a:lnTo>
                    <a:pt x="15" y="75"/>
                  </a:lnTo>
                  <a:lnTo>
                    <a:pt x="15" y="48"/>
                  </a:lnTo>
                  <a:lnTo>
                    <a:pt x="100" y="0"/>
                  </a:lnTo>
                  <a:lnTo>
                    <a:pt x="100" y="75"/>
                  </a:lnTo>
                  <a:lnTo>
                    <a:pt x="132" y="75"/>
                  </a:lnTo>
                  <a:lnTo>
                    <a:pt x="132" y="152"/>
                  </a:lnTo>
                  <a:lnTo>
                    <a:pt x="100" y="152"/>
                  </a:lnTo>
                  <a:lnTo>
                    <a:pt x="100" y="210"/>
                  </a:lnTo>
                  <a:lnTo>
                    <a:pt x="100" y="215"/>
                  </a:lnTo>
                  <a:lnTo>
                    <a:pt x="100" y="220"/>
                  </a:lnTo>
                  <a:lnTo>
                    <a:pt x="100" y="224"/>
                  </a:lnTo>
                  <a:lnTo>
                    <a:pt x="101" y="227"/>
                  </a:lnTo>
                  <a:lnTo>
                    <a:pt x="101" y="231"/>
                  </a:lnTo>
                  <a:lnTo>
                    <a:pt x="102" y="234"/>
                  </a:lnTo>
                  <a:lnTo>
                    <a:pt x="104" y="236"/>
                  </a:lnTo>
                  <a:lnTo>
                    <a:pt x="105" y="238"/>
                  </a:lnTo>
                  <a:lnTo>
                    <a:pt x="107" y="240"/>
                  </a:lnTo>
                  <a:lnTo>
                    <a:pt x="108" y="241"/>
                  </a:lnTo>
                  <a:lnTo>
                    <a:pt x="110" y="242"/>
                  </a:lnTo>
                  <a:lnTo>
                    <a:pt x="112" y="243"/>
                  </a:lnTo>
                  <a:lnTo>
                    <a:pt x="115" y="244"/>
                  </a:lnTo>
                  <a:lnTo>
                    <a:pt x="117" y="244"/>
                  </a:lnTo>
                  <a:lnTo>
                    <a:pt x="120" y="244"/>
                  </a:lnTo>
                  <a:lnTo>
                    <a:pt x="123" y="244"/>
                  </a:lnTo>
                  <a:lnTo>
                    <a:pt x="126" y="244"/>
                  </a:lnTo>
                  <a:lnTo>
                    <a:pt x="127" y="244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130" y="244"/>
                  </a:lnTo>
                  <a:lnTo>
                    <a:pt x="131" y="244"/>
                  </a:lnTo>
                  <a:lnTo>
                    <a:pt x="132" y="244"/>
                  </a:lnTo>
                  <a:lnTo>
                    <a:pt x="133" y="244"/>
                  </a:lnTo>
                  <a:lnTo>
                    <a:pt x="133" y="244"/>
                  </a:lnTo>
                  <a:lnTo>
                    <a:pt x="134" y="244"/>
                  </a:lnTo>
                  <a:lnTo>
                    <a:pt x="135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37" y="244"/>
                  </a:lnTo>
                  <a:lnTo>
                    <a:pt x="138" y="243"/>
                  </a:lnTo>
                  <a:lnTo>
                    <a:pt x="139" y="243"/>
                  </a:lnTo>
                  <a:lnTo>
                    <a:pt x="123" y="3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429720" y="792000"/>
              <a:ext cx="17028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1" y="85"/>
                  </a:moveTo>
                  <a:lnTo>
                    <a:pt x="126" y="86"/>
                  </a:lnTo>
                  <a:lnTo>
                    <a:pt x="122" y="86"/>
                  </a:lnTo>
                  <a:lnTo>
                    <a:pt x="118" y="87"/>
                  </a:lnTo>
                  <a:lnTo>
                    <a:pt x="113" y="89"/>
                  </a:lnTo>
                  <a:lnTo>
                    <a:pt x="110" y="91"/>
                  </a:lnTo>
                  <a:lnTo>
                    <a:pt x="106" y="93"/>
                  </a:lnTo>
                  <a:lnTo>
                    <a:pt x="103" y="97"/>
                  </a:lnTo>
                  <a:lnTo>
                    <a:pt x="100" y="100"/>
                  </a:lnTo>
                  <a:lnTo>
                    <a:pt x="97" y="103"/>
                  </a:lnTo>
                  <a:lnTo>
                    <a:pt x="94" y="107"/>
                  </a:lnTo>
                  <a:lnTo>
                    <a:pt x="91" y="110"/>
                  </a:lnTo>
                  <a:lnTo>
                    <a:pt x="90" y="114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8"/>
                  </a:lnTo>
                  <a:lnTo>
                    <a:pt x="87" y="133"/>
                  </a:lnTo>
                  <a:lnTo>
                    <a:pt x="87" y="139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90" y="151"/>
                  </a:lnTo>
                  <a:lnTo>
                    <a:pt x="91" y="155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7"/>
                  </a:lnTo>
                  <a:lnTo>
                    <a:pt x="103" y="170"/>
                  </a:lnTo>
                  <a:lnTo>
                    <a:pt x="106" y="172"/>
                  </a:lnTo>
                  <a:lnTo>
                    <a:pt x="110" y="175"/>
                  </a:lnTo>
                  <a:lnTo>
                    <a:pt x="113" y="176"/>
                  </a:lnTo>
                  <a:lnTo>
                    <a:pt x="118" y="178"/>
                  </a:lnTo>
                  <a:lnTo>
                    <a:pt x="122" y="179"/>
                  </a:lnTo>
                  <a:lnTo>
                    <a:pt x="126" y="179"/>
                  </a:lnTo>
                  <a:lnTo>
                    <a:pt x="131" y="181"/>
                  </a:lnTo>
                  <a:lnTo>
                    <a:pt x="136" y="179"/>
                  </a:lnTo>
                  <a:lnTo>
                    <a:pt x="140" y="179"/>
                  </a:lnTo>
                  <a:lnTo>
                    <a:pt x="144" y="178"/>
                  </a:lnTo>
                  <a:lnTo>
                    <a:pt x="148" y="176"/>
                  </a:lnTo>
                  <a:lnTo>
                    <a:pt x="151" y="174"/>
                  </a:lnTo>
                  <a:lnTo>
                    <a:pt x="155" y="172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60"/>
                  </a:lnTo>
                  <a:lnTo>
                    <a:pt x="170" y="155"/>
                  </a:lnTo>
                  <a:lnTo>
                    <a:pt x="171" y="151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4" y="137"/>
                  </a:lnTo>
                  <a:lnTo>
                    <a:pt x="174" y="133"/>
                  </a:lnTo>
                  <a:lnTo>
                    <a:pt x="174" y="128"/>
                  </a:lnTo>
                  <a:lnTo>
                    <a:pt x="174" y="124"/>
                  </a:lnTo>
                  <a:lnTo>
                    <a:pt x="173" y="120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7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5" y="93"/>
                  </a:lnTo>
                  <a:lnTo>
                    <a:pt x="151" y="91"/>
                  </a:lnTo>
                  <a:lnTo>
                    <a:pt x="148" y="89"/>
                  </a:lnTo>
                  <a:lnTo>
                    <a:pt x="144" y="87"/>
                  </a:lnTo>
                  <a:lnTo>
                    <a:pt x="140" y="86"/>
                  </a:lnTo>
                  <a:lnTo>
                    <a:pt x="136" y="86"/>
                  </a:lnTo>
                  <a:lnTo>
                    <a:pt x="131" y="85"/>
                  </a:lnTo>
                  <a:close/>
                  <a:moveTo>
                    <a:pt x="131" y="0"/>
                  </a:moveTo>
                  <a:lnTo>
                    <a:pt x="144" y="1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1" y="9"/>
                  </a:lnTo>
                  <a:lnTo>
                    <a:pt x="192" y="16"/>
                  </a:lnTo>
                  <a:lnTo>
                    <a:pt x="204" y="22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49"/>
                  </a:lnTo>
                  <a:lnTo>
                    <a:pt x="240" y="60"/>
                  </a:lnTo>
                  <a:lnTo>
                    <a:pt x="247" y="70"/>
                  </a:lnTo>
                  <a:lnTo>
                    <a:pt x="252" y="82"/>
                  </a:lnTo>
                  <a:lnTo>
                    <a:pt x="256" y="94"/>
                  </a:lnTo>
                  <a:lnTo>
                    <a:pt x="259" y="107"/>
                  </a:lnTo>
                  <a:lnTo>
                    <a:pt x="261" y="120"/>
                  </a:lnTo>
                  <a:lnTo>
                    <a:pt x="261" y="133"/>
                  </a:lnTo>
                  <a:lnTo>
                    <a:pt x="261" y="147"/>
                  </a:lnTo>
                  <a:lnTo>
                    <a:pt x="259" y="160"/>
                  </a:lnTo>
                  <a:lnTo>
                    <a:pt x="256" y="172"/>
                  </a:lnTo>
                  <a:lnTo>
                    <a:pt x="252" y="185"/>
                  </a:lnTo>
                  <a:lnTo>
                    <a:pt x="247" y="196"/>
                  </a:lnTo>
                  <a:lnTo>
                    <a:pt x="240" y="207"/>
                  </a:lnTo>
                  <a:lnTo>
                    <a:pt x="232" y="217"/>
                  </a:lnTo>
                  <a:lnTo>
                    <a:pt x="224" y="227"/>
                  </a:lnTo>
                  <a:lnTo>
                    <a:pt x="214" y="236"/>
                  </a:lnTo>
                  <a:lnTo>
                    <a:pt x="204" y="245"/>
                  </a:lnTo>
                  <a:lnTo>
                    <a:pt x="193" y="251"/>
                  </a:lnTo>
                  <a:lnTo>
                    <a:pt x="182" y="256"/>
                  </a:lnTo>
                  <a:lnTo>
                    <a:pt x="169" y="260"/>
                  </a:lnTo>
                  <a:lnTo>
                    <a:pt x="158" y="263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3"/>
                  </a:lnTo>
                  <a:lnTo>
                    <a:pt x="93" y="260"/>
                  </a:lnTo>
                  <a:lnTo>
                    <a:pt x="80" y="256"/>
                  </a:lnTo>
                  <a:lnTo>
                    <a:pt x="69" y="251"/>
                  </a:lnTo>
                  <a:lnTo>
                    <a:pt x="58" y="245"/>
                  </a:lnTo>
                  <a:lnTo>
                    <a:pt x="47" y="236"/>
                  </a:lnTo>
                  <a:lnTo>
                    <a:pt x="38" y="227"/>
                  </a:lnTo>
                  <a:lnTo>
                    <a:pt x="30" y="217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5"/>
                  </a:lnTo>
                  <a:lnTo>
                    <a:pt x="5" y="172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10" y="82"/>
                  </a:lnTo>
                  <a:lnTo>
                    <a:pt x="15" y="70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8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62340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6" y="16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6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7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7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5040" y="726840"/>
              <a:ext cx="156960" cy="235440"/>
            </a:xfrm>
            <a:custGeom>
              <a:avLst/>
              <a:gdLst/>
              <a:ahLst/>
              <a:rect l="l" t="t" r="r" b="b"/>
              <a:pathLst>
                <a:path w="238" h="357">
                  <a:moveTo>
                    <a:pt x="166" y="91"/>
                  </a:moveTo>
                  <a:lnTo>
                    <a:pt x="166" y="357"/>
                  </a:lnTo>
                  <a:lnTo>
                    <a:pt x="73" y="357"/>
                  </a:lnTo>
                  <a:lnTo>
                    <a:pt x="73" y="91"/>
                  </a:lnTo>
                  <a:lnTo>
                    <a:pt x="0" y="91"/>
                  </a:lnTo>
                  <a:lnTo>
                    <a:pt x="10" y="0"/>
                  </a:lnTo>
                  <a:lnTo>
                    <a:pt x="228" y="0"/>
                  </a:lnTo>
                  <a:lnTo>
                    <a:pt x="238" y="91"/>
                  </a:lnTo>
                  <a:lnTo>
                    <a:pt x="166" y="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5504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5" h="357">
                  <a:moveTo>
                    <a:pt x="0" y="357"/>
                  </a:moveTo>
                  <a:lnTo>
                    <a:pt x="0" y="100"/>
                  </a:lnTo>
                  <a:lnTo>
                    <a:pt x="85" y="100"/>
                  </a:lnTo>
                  <a:lnTo>
                    <a:pt x="85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139640" y="792000"/>
              <a:ext cx="228960" cy="17028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4"/>
                  </a:lnTo>
                  <a:lnTo>
                    <a:pt x="91" y="21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0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0"/>
                  </a:lnTo>
                  <a:lnTo>
                    <a:pt x="189" y="13"/>
                  </a:lnTo>
                  <a:lnTo>
                    <a:pt x="192" y="16"/>
                  </a:lnTo>
                  <a:lnTo>
                    <a:pt x="195" y="19"/>
                  </a:lnTo>
                  <a:lnTo>
                    <a:pt x="198" y="22"/>
                  </a:lnTo>
                  <a:lnTo>
                    <a:pt x="202" y="25"/>
                  </a:lnTo>
                  <a:lnTo>
                    <a:pt x="205" y="29"/>
                  </a:lnTo>
                  <a:lnTo>
                    <a:pt x="207" y="34"/>
                  </a:lnTo>
                  <a:lnTo>
                    <a:pt x="211" y="29"/>
                  </a:lnTo>
                  <a:lnTo>
                    <a:pt x="215" y="26"/>
                  </a:lnTo>
                  <a:lnTo>
                    <a:pt x="218" y="22"/>
                  </a:lnTo>
                  <a:lnTo>
                    <a:pt x="223" y="19"/>
                  </a:lnTo>
                  <a:lnTo>
                    <a:pt x="227" y="16"/>
                  </a:lnTo>
                  <a:lnTo>
                    <a:pt x="231" y="13"/>
                  </a:lnTo>
                  <a:lnTo>
                    <a:pt x="235" y="10"/>
                  </a:lnTo>
                  <a:lnTo>
                    <a:pt x="240" y="8"/>
                  </a:lnTo>
                  <a:lnTo>
                    <a:pt x="245" y="6"/>
                  </a:lnTo>
                  <a:lnTo>
                    <a:pt x="250" y="4"/>
                  </a:lnTo>
                  <a:lnTo>
                    <a:pt x="254" y="3"/>
                  </a:lnTo>
                  <a:lnTo>
                    <a:pt x="259" y="2"/>
                  </a:lnTo>
                  <a:lnTo>
                    <a:pt x="264" y="1"/>
                  </a:lnTo>
                  <a:lnTo>
                    <a:pt x="269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8" y="0"/>
                  </a:lnTo>
                  <a:lnTo>
                    <a:pt x="296" y="1"/>
                  </a:lnTo>
                  <a:lnTo>
                    <a:pt x="303" y="3"/>
                  </a:lnTo>
                  <a:lnTo>
                    <a:pt x="311" y="5"/>
                  </a:lnTo>
                  <a:lnTo>
                    <a:pt x="317" y="8"/>
                  </a:lnTo>
                  <a:lnTo>
                    <a:pt x="323" y="13"/>
                  </a:lnTo>
                  <a:lnTo>
                    <a:pt x="329" y="17"/>
                  </a:lnTo>
                  <a:lnTo>
                    <a:pt x="334" y="22"/>
                  </a:lnTo>
                  <a:lnTo>
                    <a:pt x="338" y="28"/>
                  </a:lnTo>
                  <a:lnTo>
                    <a:pt x="342" y="35"/>
                  </a:lnTo>
                  <a:lnTo>
                    <a:pt x="345" y="42"/>
                  </a:lnTo>
                  <a:lnTo>
                    <a:pt x="349" y="49"/>
                  </a:lnTo>
                  <a:lnTo>
                    <a:pt x="350" y="58"/>
                  </a:lnTo>
                  <a:lnTo>
                    <a:pt x="352" y="67"/>
                  </a:lnTo>
                  <a:lnTo>
                    <a:pt x="353" y="77"/>
                  </a:lnTo>
                  <a:lnTo>
                    <a:pt x="353" y="87"/>
                  </a:lnTo>
                  <a:lnTo>
                    <a:pt x="353" y="260"/>
                  </a:lnTo>
                  <a:lnTo>
                    <a:pt x="270" y="260"/>
                  </a:lnTo>
                  <a:lnTo>
                    <a:pt x="270" y="124"/>
                  </a:lnTo>
                  <a:lnTo>
                    <a:pt x="269" y="119"/>
                  </a:lnTo>
                  <a:lnTo>
                    <a:pt x="269" y="113"/>
                  </a:lnTo>
                  <a:lnTo>
                    <a:pt x="269" y="109"/>
                  </a:lnTo>
                  <a:lnTo>
                    <a:pt x="268" y="105"/>
                  </a:lnTo>
                  <a:lnTo>
                    <a:pt x="267" y="102"/>
                  </a:lnTo>
                  <a:lnTo>
                    <a:pt x="267" y="99"/>
                  </a:lnTo>
                  <a:lnTo>
                    <a:pt x="266" y="96"/>
                  </a:lnTo>
                  <a:lnTo>
                    <a:pt x="264" y="93"/>
                  </a:lnTo>
                  <a:lnTo>
                    <a:pt x="263" y="91"/>
                  </a:lnTo>
                  <a:lnTo>
                    <a:pt x="260" y="90"/>
                  </a:lnTo>
                  <a:lnTo>
                    <a:pt x="258" y="88"/>
                  </a:lnTo>
                  <a:lnTo>
                    <a:pt x="256" y="87"/>
                  </a:lnTo>
                  <a:lnTo>
                    <a:pt x="254" y="86"/>
                  </a:lnTo>
                  <a:lnTo>
                    <a:pt x="252" y="85"/>
                  </a:lnTo>
                  <a:lnTo>
                    <a:pt x="249" y="85"/>
                  </a:lnTo>
                  <a:lnTo>
                    <a:pt x="246" y="85"/>
                  </a:lnTo>
                  <a:lnTo>
                    <a:pt x="243" y="85"/>
                  </a:lnTo>
                  <a:lnTo>
                    <a:pt x="239" y="86"/>
                  </a:lnTo>
                  <a:lnTo>
                    <a:pt x="236" y="86"/>
                  </a:lnTo>
                  <a:lnTo>
                    <a:pt x="234" y="87"/>
                  </a:lnTo>
                  <a:lnTo>
                    <a:pt x="231" y="89"/>
                  </a:lnTo>
                  <a:lnTo>
                    <a:pt x="229" y="90"/>
                  </a:lnTo>
                  <a:lnTo>
                    <a:pt x="227" y="92"/>
                  </a:lnTo>
                  <a:lnTo>
                    <a:pt x="226" y="96"/>
                  </a:lnTo>
                  <a:lnTo>
                    <a:pt x="224" y="98"/>
                  </a:lnTo>
                  <a:lnTo>
                    <a:pt x="223" y="101"/>
                  </a:lnTo>
                  <a:lnTo>
                    <a:pt x="222" y="104"/>
                  </a:lnTo>
                  <a:lnTo>
                    <a:pt x="221" y="107"/>
                  </a:lnTo>
                  <a:lnTo>
                    <a:pt x="219" y="111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5"/>
                  </a:lnTo>
                  <a:lnTo>
                    <a:pt x="218" y="260"/>
                  </a:lnTo>
                  <a:lnTo>
                    <a:pt x="134" y="260"/>
                  </a:lnTo>
                  <a:lnTo>
                    <a:pt x="134" y="124"/>
                  </a:lnTo>
                  <a:lnTo>
                    <a:pt x="134" y="119"/>
                  </a:lnTo>
                  <a:lnTo>
                    <a:pt x="134" y="113"/>
                  </a:lnTo>
                  <a:lnTo>
                    <a:pt x="134" y="109"/>
                  </a:lnTo>
                  <a:lnTo>
                    <a:pt x="133" y="105"/>
                  </a:lnTo>
                  <a:lnTo>
                    <a:pt x="132" y="102"/>
                  </a:lnTo>
                  <a:lnTo>
                    <a:pt x="132" y="99"/>
                  </a:lnTo>
                  <a:lnTo>
                    <a:pt x="131" y="96"/>
                  </a:lnTo>
                  <a:lnTo>
                    <a:pt x="129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8"/>
                  </a:lnTo>
                  <a:lnTo>
                    <a:pt x="122" y="87"/>
                  </a:lnTo>
                  <a:lnTo>
                    <a:pt x="120" y="86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1" y="85"/>
                  </a:lnTo>
                  <a:lnTo>
                    <a:pt x="108" y="85"/>
                  </a:lnTo>
                  <a:lnTo>
                    <a:pt x="105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6"/>
                  </a:lnTo>
                  <a:lnTo>
                    <a:pt x="89" y="98"/>
                  </a:lnTo>
                  <a:lnTo>
                    <a:pt x="88" y="101"/>
                  </a:lnTo>
                  <a:lnTo>
                    <a:pt x="86" y="104"/>
                  </a:lnTo>
                  <a:lnTo>
                    <a:pt x="85" y="107"/>
                  </a:lnTo>
                  <a:lnTo>
                    <a:pt x="85" y="111"/>
                  </a:lnTo>
                  <a:lnTo>
                    <a:pt x="84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92000" y="79200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78" y="134"/>
                  </a:moveTo>
                  <a:lnTo>
                    <a:pt x="157" y="78"/>
                  </a:lnTo>
                  <a:lnTo>
                    <a:pt x="155" y="77"/>
                  </a:lnTo>
                  <a:lnTo>
                    <a:pt x="153" y="76"/>
                  </a:lnTo>
                  <a:lnTo>
                    <a:pt x="152" y="75"/>
                  </a:lnTo>
                  <a:lnTo>
                    <a:pt x="150" y="73"/>
                  </a:lnTo>
                  <a:lnTo>
                    <a:pt x="149" y="72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4" y="70"/>
                  </a:lnTo>
                  <a:lnTo>
                    <a:pt x="143" y="70"/>
                  </a:lnTo>
                  <a:lnTo>
                    <a:pt x="141" y="69"/>
                  </a:lnTo>
                  <a:lnTo>
                    <a:pt x="139" y="69"/>
                  </a:lnTo>
                  <a:lnTo>
                    <a:pt x="138" y="68"/>
                  </a:lnTo>
                  <a:lnTo>
                    <a:pt x="136" y="68"/>
                  </a:lnTo>
                  <a:lnTo>
                    <a:pt x="134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9" y="69"/>
                  </a:lnTo>
                  <a:lnTo>
                    <a:pt x="114" y="70"/>
                  </a:lnTo>
                  <a:lnTo>
                    <a:pt x="109" y="72"/>
                  </a:lnTo>
                  <a:lnTo>
                    <a:pt x="105" y="75"/>
                  </a:lnTo>
                  <a:lnTo>
                    <a:pt x="101" y="78"/>
                  </a:lnTo>
                  <a:lnTo>
                    <a:pt x="97" y="81"/>
                  </a:lnTo>
                  <a:lnTo>
                    <a:pt x="93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3" y="98"/>
                  </a:lnTo>
                  <a:lnTo>
                    <a:pt x="81" y="102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7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5"/>
                  </a:lnTo>
                  <a:lnTo>
                    <a:pt x="77" y="126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7" y="129"/>
                  </a:lnTo>
                  <a:lnTo>
                    <a:pt x="77" y="129"/>
                  </a:lnTo>
                  <a:lnTo>
                    <a:pt x="77" y="130"/>
                  </a:lnTo>
                  <a:lnTo>
                    <a:pt x="78" y="131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8" y="134"/>
                  </a:lnTo>
                  <a:close/>
                  <a:moveTo>
                    <a:pt x="234" y="236"/>
                  </a:moveTo>
                  <a:lnTo>
                    <a:pt x="228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10" y="249"/>
                  </a:lnTo>
                  <a:lnTo>
                    <a:pt x="204" y="251"/>
                  </a:lnTo>
                  <a:lnTo>
                    <a:pt x="198" y="254"/>
                  </a:lnTo>
                  <a:lnTo>
                    <a:pt x="191" y="256"/>
                  </a:lnTo>
                  <a:lnTo>
                    <a:pt x="185" y="257"/>
                  </a:lnTo>
                  <a:lnTo>
                    <a:pt x="179" y="259"/>
                  </a:lnTo>
                  <a:lnTo>
                    <a:pt x="172" y="261"/>
                  </a:lnTo>
                  <a:lnTo>
                    <a:pt x="166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6" y="265"/>
                  </a:lnTo>
                  <a:lnTo>
                    <a:pt x="139" y="265"/>
                  </a:lnTo>
                  <a:lnTo>
                    <a:pt x="131" y="265"/>
                  </a:lnTo>
                  <a:lnTo>
                    <a:pt x="118" y="265"/>
                  </a:lnTo>
                  <a:lnTo>
                    <a:pt x="104" y="262"/>
                  </a:lnTo>
                  <a:lnTo>
                    <a:pt x="91" y="260"/>
                  </a:lnTo>
                  <a:lnTo>
                    <a:pt x="79" y="256"/>
                  </a:lnTo>
                  <a:lnTo>
                    <a:pt x="67" y="251"/>
                  </a:lnTo>
                  <a:lnTo>
                    <a:pt x="56" y="245"/>
                  </a:lnTo>
                  <a:lnTo>
                    <a:pt x="46" y="237"/>
                  </a:lnTo>
                  <a:lnTo>
                    <a:pt x="37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10" y="187"/>
                  </a:lnTo>
                  <a:lnTo>
                    <a:pt x="6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6" y="94"/>
                  </a:lnTo>
                  <a:lnTo>
                    <a:pt x="10" y="83"/>
                  </a:lnTo>
                  <a:lnTo>
                    <a:pt x="15" y="71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2"/>
                  </a:lnTo>
                  <a:lnTo>
                    <a:pt x="70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6"/>
                  </a:lnTo>
                  <a:lnTo>
                    <a:pt x="180" y="9"/>
                  </a:lnTo>
                  <a:lnTo>
                    <a:pt x="188" y="14"/>
                  </a:lnTo>
                  <a:lnTo>
                    <a:pt x="196" y="18"/>
                  </a:lnTo>
                  <a:lnTo>
                    <a:pt x="204" y="23"/>
                  </a:lnTo>
                  <a:lnTo>
                    <a:pt x="211" y="29"/>
                  </a:lnTo>
                  <a:lnTo>
                    <a:pt x="219" y="36"/>
                  </a:lnTo>
                  <a:lnTo>
                    <a:pt x="225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1" y="68"/>
                  </a:lnTo>
                  <a:lnTo>
                    <a:pt x="245" y="78"/>
                  </a:lnTo>
                  <a:lnTo>
                    <a:pt x="249" y="88"/>
                  </a:lnTo>
                  <a:lnTo>
                    <a:pt x="112" y="185"/>
                  </a:lnTo>
                  <a:lnTo>
                    <a:pt x="113" y="186"/>
                  </a:lnTo>
                  <a:lnTo>
                    <a:pt x="115" y="186"/>
                  </a:lnTo>
                  <a:lnTo>
                    <a:pt x="117" y="187"/>
                  </a:lnTo>
                  <a:lnTo>
                    <a:pt x="118" y="187"/>
                  </a:lnTo>
                  <a:lnTo>
                    <a:pt x="120" y="188"/>
                  </a:lnTo>
                  <a:lnTo>
                    <a:pt x="122" y="188"/>
                  </a:lnTo>
                  <a:lnTo>
                    <a:pt x="123" y="188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88"/>
                  </a:lnTo>
                  <a:lnTo>
                    <a:pt x="167" y="186"/>
                  </a:lnTo>
                  <a:lnTo>
                    <a:pt x="172" y="185"/>
                  </a:lnTo>
                  <a:lnTo>
                    <a:pt x="179" y="183"/>
                  </a:lnTo>
                  <a:lnTo>
                    <a:pt x="184" y="181"/>
                  </a:lnTo>
                  <a:lnTo>
                    <a:pt x="189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6" y="168"/>
                  </a:lnTo>
                  <a:lnTo>
                    <a:pt x="211" y="165"/>
                  </a:lnTo>
                  <a:lnTo>
                    <a:pt x="216" y="161"/>
                  </a:lnTo>
                  <a:lnTo>
                    <a:pt x="222" y="156"/>
                  </a:lnTo>
                  <a:lnTo>
                    <a:pt x="227" y="152"/>
                  </a:lnTo>
                  <a:lnTo>
                    <a:pt x="234" y="2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56840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6" y="257"/>
                  </a:moveTo>
                  <a:lnTo>
                    <a:pt x="6" y="176"/>
                  </a:lnTo>
                  <a:lnTo>
                    <a:pt x="8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1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8" y="177"/>
                  </a:lnTo>
                  <a:lnTo>
                    <a:pt x="49" y="175"/>
                  </a:lnTo>
                  <a:lnTo>
                    <a:pt x="50" y="174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52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2" y="164"/>
                  </a:lnTo>
                  <a:lnTo>
                    <a:pt x="51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1" y="137"/>
                  </a:lnTo>
                  <a:lnTo>
                    <a:pt x="30" y="135"/>
                  </a:lnTo>
                  <a:lnTo>
                    <a:pt x="29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0" y="114"/>
                  </a:lnTo>
                  <a:lnTo>
                    <a:pt x="9" y="111"/>
                  </a:lnTo>
                  <a:lnTo>
                    <a:pt x="7" y="108"/>
                  </a:lnTo>
                  <a:lnTo>
                    <a:pt x="6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8" y="4"/>
                  </a:lnTo>
                  <a:lnTo>
                    <a:pt x="138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6" y="74"/>
                  </a:lnTo>
                  <a:lnTo>
                    <a:pt x="115" y="72"/>
                  </a:lnTo>
                  <a:lnTo>
                    <a:pt x="113" y="72"/>
                  </a:lnTo>
                  <a:lnTo>
                    <a:pt x="112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90" y="89"/>
                  </a:lnTo>
                  <a:lnTo>
                    <a:pt x="90" y="91"/>
                  </a:lnTo>
                  <a:lnTo>
                    <a:pt x="90" y="92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2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40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0" y="260"/>
                  </a:lnTo>
                  <a:lnTo>
                    <a:pt x="27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0" y="257"/>
                  </a:lnTo>
                  <a:lnTo>
                    <a:pt x="6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771080" y="723960"/>
              <a:ext cx="199440" cy="241560"/>
            </a:xfrm>
            <a:custGeom>
              <a:avLst/>
              <a:gdLst/>
              <a:ahLst/>
              <a:rect l="l" t="t" r="r" b="b"/>
              <a:pathLst>
                <a:path w="306" h="370">
                  <a:moveTo>
                    <a:pt x="132" y="124"/>
                  </a:moveTo>
                  <a:lnTo>
                    <a:pt x="135" y="122"/>
                  </a:lnTo>
                  <a:lnTo>
                    <a:pt x="138" y="120"/>
                  </a:lnTo>
                  <a:lnTo>
                    <a:pt x="140" y="118"/>
                  </a:lnTo>
                  <a:lnTo>
                    <a:pt x="143" y="114"/>
                  </a:lnTo>
                  <a:lnTo>
                    <a:pt x="145" y="112"/>
                  </a:lnTo>
                  <a:lnTo>
                    <a:pt x="147" y="110"/>
                  </a:lnTo>
                  <a:lnTo>
                    <a:pt x="149" y="108"/>
                  </a:lnTo>
                  <a:lnTo>
                    <a:pt x="151" y="106"/>
                  </a:lnTo>
                  <a:lnTo>
                    <a:pt x="152" y="104"/>
                  </a:lnTo>
                  <a:lnTo>
                    <a:pt x="154" y="102"/>
                  </a:lnTo>
                  <a:lnTo>
                    <a:pt x="155" y="99"/>
                  </a:lnTo>
                  <a:lnTo>
                    <a:pt x="155" y="97"/>
                  </a:lnTo>
                  <a:lnTo>
                    <a:pt x="156" y="95"/>
                  </a:lnTo>
                  <a:lnTo>
                    <a:pt x="157" y="92"/>
                  </a:lnTo>
                  <a:lnTo>
                    <a:pt x="157" y="90"/>
                  </a:lnTo>
                  <a:lnTo>
                    <a:pt x="157" y="87"/>
                  </a:lnTo>
                  <a:lnTo>
                    <a:pt x="157" y="85"/>
                  </a:lnTo>
                  <a:lnTo>
                    <a:pt x="156" y="82"/>
                  </a:lnTo>
                  <a:lnTo>
                    <a:pt x="156" y="80"/>
                  </a:lnTo>
                  <a:lnTo>
                    <a:pt x="155" y="78"/>
                  </a:lnTo>
                  <a:lnTo>
                    <a:pt x="154" y="76"/>
                  </a:lnTo>
                  <a:lnTo>
                    <a:pt x="153" y="74"/>
                  </a:lnTo>
                  <a:lnTo>
                    <a:pt x="152" y="71"/>
                  </a:lnTo>
                  <a:lnTo>
                    <a:pt x="151" y="69"/>
                  </a:lnTo>
                  <a:lnTo>
                    <a:pt x="149" y="68"/>
                  </a:lnTo>
                  <a:lnTo>
                    <a:pt x="146" y="67"/>
                  </a:lnTo>
                  <a:lnTo>
                    <a:pt x="144" y="66"/>
                  </a:lnTo>
                  <a:lnTo>
                    <a:pt x="142" y="65"/>
                  </a:lnTo>
                  <a:lnTo>
                    <a:pt x="140" y="64"/>
                  </a:lnTo>
                  <a:lnTo>
                    <a:pt x="138" y="63"/>
                  </a:lnTo>
                  <a:lnTo>
                    <a:pt x="135" y="63"/>
                  </a:lnTo>
                  <a:lnTo>
                    <a:pt x="133" y="63"/>
                  </a:lnTo>
                  <a:lnTo>
                    <a:pt x="130" y="63"/>
                  </a:lnTo>
                  <a:lnTo>
                    <a:pt x="128" y="63"/>
                  </a:lnTo>
                  <a:lnTo>
                    <a:pt x="124" y="64"/>
                  </a:lnTo>
                  <a:lnTo>
                    <a:pt x="122" y="65"/>
                  </a:lnTo>
                  <a:lnTo>
                    <a:pt x="120" y="65"/>
                  </a:lnTo>
                  <a:lnTo>
                    <a:pt x="118" y="66"/>
                  </a:lnTo>
                  <a:lnTo>
                    <a:pt x="116" y="68"/>
                  </a:lnTo>
                  <a:lnTo>
                    <a:pt x="115" y="69"/>
                  </a:lnTo>
                  <a:lnTo>
                    <a:pt x="113" y="71"/>
                  </a:lnTo>
                  <a:lnTo>
                    <a:pt x="112" y="72"/>
                  </a:lnTo>
                  <a:lnTo>
                    <a:pt x="111" y="75"/>
                  </a:lnTo>
                  <a:lnTo>
                    <a:pt x="110" y="77"/>
                  </a:lnTo>
                  <a:lnTo>
                    <a:pt x="109" y="79"/>
                  </a:lnTo>
                  <a:lnTo>
                    <a:pt x="109" y="81"/>
                  </a:lnTo>
                  <a:lnTo>
                    <a:pt x="109" y="84"/>
                  </a:lnTo>
                  <a:lnTo>
                    <a:pt x="108" y="86"/>
                  </a:lnTo>
                  <a:lnTo>
                    <a:pt x="108" y="88"/>
                  </a:lnTo>
                  <a:lnTo>
                    <a:pt x="109" y="90"/>
                  </a:lnTo>
                  <a:lnTo>
                    <a:pt x="109" y="91"/>
                  </a:lnTo>
                  <a:lnTo>
                    <a:pt x="110" y="93"/>
                  </a:lnTo>
                  <a:lnTo>
                    <a:pt x="111" y="96"/>
                  </a:lnTo>
                  <a:lnTo>
                    <a:pt x="111" y="99"/>
                  </a:lnTo>
                  <a:lnTo>
                    <a:pt x="113" y="101"/>
                  </a:lnTo>
                  <a:lnTo>
                    <a:pt x="114" y="103"/>
                  </a:lnTo>
                  <a:lnTo>
                    <a:pt x="115" y="105"/>
                  </a:lnTo>
                  <a:lnTo>
                    <a:pt x="117" y="107"/>
                  </a:lnTo>
                  <a:lnTo>
                    <a:pt x="119" y="110"/>
                  </a:lnTo>
                  <a:lnTo>
                    <a:pt x="121" y="112"/>
                  </a:lnTo>
                  <a:lnTo>
                    <a:pt x="123" y="116"/>
                  </a:lnTo>
                  <a:lnTo>
                    <a:pt x="125" y="119"/>
                  </a:lnTo>
                  <a:lnTo>
                    <a:pt x="129" y="121"/>
                  </a:lnTo>
                  <a:lnTo>
                    <a:pt x="132" y="124"/>
                  </a:lnTo>
                  <a:close/>
                  <a:moveTo>
                    <a:pt x="139" y="254"/>
                  </a:moveTo>
                  <a:lnTo>
                    <a:pt x="114" y="225"/>
                  </a:lnTo>
                  <a:lnTo>
                    <a:pt x="109" y="229"/>
                  </a:lnTo>
                  <a:lnTo>
                    <a:pt x="104" y="233"/>
                  </a:lnTo>
                  <a:lnTo>
                    <a:pt x="100" y="236"/>
                  </a:lnTo>
                  <a:lnTo>
                    <a:pt x="97" y="239"/>
                  </a:lnTo>
                  <a:lnTo>
                    <a:pt x="94" y="243"/>
                  </a:lnTo>
                  <a:lnTo>
                    <a:pt x="91" y="246"/>
                  </a:lnTo>
                  <a:lnTo>
                    <a:pt x="88" y="248"/>
                  </a:lnTo>
                  <a:lnTo>
                    <a:pt x="86" y="251"/>
                  </a:lnTo>
                  <a:lnTo>
                    <a:pt x="84" y="253"/>
                  </a:lnTo>
                  <a:lnTo>
                    <a:pt x="82" y="255"/>
                  </a:lnTo>
                  <a:lnTo>
                    <a:pt x="81" y="257"/>
                  </a:lnTo>
                  <a:lnTo>
                    <a:pt x="80" y="259"/>
                  </a:lnTo>
                  <a:lnTo>
                    <a:pt x="79" y="261"/>
                  </a:lnTo>
                  <a:lnTo>
                    <a:pt x="79" y="264"/>
                  </a:lnTo>
                  <a:lnTo>
                    <a:pt x="78" y="266"/>
                  </a:lnTo>
                  <a:lnTo>
                    <a:pt x="78" y="267"/>
                  </a:lnTo>
                  <a:lnTo>
                    <a:pt x="78" y="269"/>
                  </a:lnTo>
                  <a:lnTo>
                    <a:pt x="79" y="271"/>
                  </a:lnTo>
                  <a:lnTo>
                    <a:pt x="79" y="273"/>
                  </a:lnTo>
                  <a:lnTo>
                    <a:pt x="79" y="274"/>
                  </a:lnTo>
                  <a:lnTo>
                    <a:pt x="80" y="276"/>
                  </a:lnTo>
                  <a:lnTo>
                    <a:pt x="81" y="277"/>
                  </a:lnTo>
                  <a:lnTo>
                    <a:pt x="82" y="279"/>
                  </a:lnTo>
                  <a:lnTo>
                    <a:pt x="83" y="280"/>
                  </a:lnTo>
                  <a:lnTo>
                    <a:pt x="86" y="281"/>
                  </a:lnTo>
                  <a:lnTo>
                    <a:pt x="87" y="282"/>
                  </a:lnTo>
                  <a:lnTo>
                    <a:pt x="88" y="284"/>
                  </a:lnTo>
                  <a:lnTo>
                    <a:pt x="90" y="285"/>
                  </a:lnTo>
                  <a:lnTo>
                    <a:pt x="91" y="285"/>
                  </a:lnTo>
                  <a:lnTo>
                    <a:pt x="93" y="286"/>
                  </a:lnTo>
                  <a:lnTo>
                    <a:pt x="95" y="286"/>
                  </a:lnTo>
                  <a:lnTo>
                    <a:pt x="96" y="286"/>
                  </a:lnTo>
                  <a:lnTo>
                    <a:pt x="99" y="285"/>
                  </a:lnTo>
                  <a:lnTo>
                    <a:pt x="102" y="284"/>
                  </a:lnTo>
                  <a:lnTo>
                    <a:pt x="107" y="281"/>
                  </a:lnTo>
                  <a:lnTo>
                    <a:pt x="111" y="279"/>
                  </a:lnTo>
                  <a:lnTo>
                    <a:pt x="116" y="275"/>
                  </a:lnTo>
                  <a:lnTo>
                    <a:pt x="121" y="271"/>
                  </a:lnTo>
                  <a:lnTo>
                    <a:pt x="128" y="266"/>
                  </a:lnTo>
                  <a:lnTo>
                    <a:pt x="135" y="259"/>
                  </a:lnTo>
                  <a:lnTo>
                    <a:pt x="139" y="254"/>
                  </a:lnTo>
                  <a:close/>
                  <a:moveTo>
                    <a:pt x="239" y="369"/>
                  </a:moveTo>
                  <a:lnTo>
                    <a:pt x="190" y="315"/>
                  </a:lnTo>
                  <a:lnTo>
                    <a:pt x="182" y="322"/>
                  </a:lnTo>
                  <a:lnTo>
                    <a:pt x="174" y="330"/>
                  </a:lnTo>
                  <a:lnTo>
                    <a:pt x="166" y="337"/>
                  </a:lnTo>
                  <a:lnTo>
                    <a:pt x="159" y="342"/>
                  </a:lnTo>
                  <a:lnTo>
                    <a:pt x="152" y="348"/>
                  </a:lnTo>
                  <a:lnTo>
                    <a:pt x="146" y="353"/>
                  </a:lnTo>
                  <a:lnTo>
                    <a:pt x="140" y="356"/>
                  </a:lnTo>
                  <a:lnTo>
                    <a:pt x="135" y="359"/>
                  </a:lnTo>
                  <a:lnTo>
                    <a:pt x="130" y="361"/>
                  </a:lnTo>
                  <a:lnTo>
                    <a:pt x="125" y="363"/>
                  </a:lnTo>
                  <a:lnTo>
                    <a:pt x="120" y="365"/>
                  </a:lnTo>
                  <a:lnTo>
                    <a:pt x="115" y="366"/>
                  </a:lnTo>
                  <a:lnTo>
                    <a:pt x="110" y="369"/>
                  </a:lnTo>
                  <a:lnTo>
                    <a:pt x="104" y="369"/>
                  </a:lnTo>
                  <a:lnTo>
                    <a:pt x="99" y="370"/>
                  </a:lnTo>
                  <a:lnTo>
                    <a:pt x="93" y="370"/>
                  </a:lnTo>
                  <a:lnTo>
                    <a:pt x="83" y="370"/>
                  </a:lnTo>
                  <a:lnTo>
                    <a:pt x="75" y="368"/>
                  </a:lnTo>
                  <a:lnTo>
                    <a:pt x="66" y="365"/>
                  </a:lnTo>
                  <a:lnTo>
                    <a:pt x="57" y="362"/>
                  </a:lnTo>
                  <a:lnTo>
                    <a:pt x="50" y="359"/>
                  </a:lnTo>
                  <a:lnTo>
                    <a:pt x="41" y="354"/>
                  </a:lnTo>
                  <a:lnTo>
                    <a:pt x="34" y="349"/>
                  </a:lnTo>
                  <a:lnTo>
                    <a:pt x="28" y="342"/>
                  </a:lnTo>
                  <a:lnTo>
                    <a:pt x="20" y="335"/>
                  </a:lnTo>
                  <a:lnTo>
                    <a:pt x="15" y="328"/>
                  </a:lnTo>
                  <a:lnTo>
                    <a:pt x="11" y="319"/>
                  </a:lnTo>
                  <a:lnTo>
                    <a:pt x="7" y="312"/>
                  </a:lnTo>
                  <a:lnTo>
                    <a:pt x="4" y="303"/>
                  </a:lnTo>
                  <a:lnTo>
                    <a:pt x="2" y="294"/>
                  </a:lnTo>
                  <a:lnTo>
                    <a:pt x="1" y="285"/>
                  </a:lnTo>
                  <a:lnTo>
                    <a:pt x="0" y="275"/>
                  </a:lnTo>
                  <a:lnTo>
                    <a:pt x="1" y="270"/>
                  </a:lnTo>
                  <a:lnTo>
                    <a:pt x="1" y="264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6" y="246"/>
                  </a:lnTo>
                  <a:lnTo>
                    <a:pt x="9" y="239"/>
                  </a:lnTo>
                  <a:lnTo>
                    <a:pt x="11" y="234"/>
                  </a:lnTo>
                  <a:lnTo>
                    <a:pt x="15" y="229"/>
                  </a:lnTo>
                  <a:lnTo>
                    <a:pt x="19" y="223"/>
                  </a:lnTo>
                  <a:lnTo>
                    <a:pt x="25" y="216"/>
                  </a:lnTo>
                  <a:lnTo>
                    <a:pt x="30" y="210"/>
                  </a:lnTo>
                  <a:lnTo>
                    <a:pt x="36" y="204"/>
                  </a:lnTo>
                  <a:lnTo>
                    <a:pt x="44" y="196"/>
                  </a:lnTo>
                  <a:lnTo>
                    <a:pt x="52" y="189"/>
                  </a:lnTo>
                  <a:lnTo>
                    <a:pt x="60" y="182"/>
                  </a:lnTo>
                  <a:lnTo>
                    <a:pt x="71" y="173"/>
                  </a:lnTo>
                  <a:lnTo>
                    <a:pt x="65" y="167"/>
                  </a:lnTo>
                  <a:lnTo>
                    <a:pt x="60" y="161"/>
                  </a:lnTo>
                  <a:lnTo>
                    <a:pt x="55" y="154"/>
                  </a:lnTo>
                  <a:lnTo>
                    <a:pt x="51" y="148"/>
                  </a:lnTo>
                  <a:lnTo>
                    <a:pt x="48" y="143"/>
                  </a:lnTo>
                  <a:lnTo>
                    <a:pt x="45" y="138"/>
                  </a:lnTo>
                  <a:lnTo>
                    <a:pt x="41" y="132"/>
                  </a:lnTo>
                  <a:lnTo>
                    <a:pt x="39" y="128"/>
                  </a:lnTo>
                  <a:lnTo>
                    <a:pt x="37" y="123"/>
                  </a:lnTo>
                  <a:lnTo>
                    <a:pt x="36" y="119"/>
                  </a:lnTo>
                  <a:lnTo>
                    <a:pt x="34" y="114"/>
                  </a:lnTo>
                  <a:lnTo>
                    <a:pt x="33" y="109"/>
                  </a:lnTo>
                  <a:lnTo>
                    <a:pt x="32" y="105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1" y="90"/>
                  </a:lnTo>
                  <a:lnTo>
                    <a:pt x="32" y="81"/>
                  </a:lnTo>
                  <a:lnTo>
                    <a:pt x="33" y="71"/>
                  </a:lnTo>
                  <a:lnTo>
                    <a:pt x="35" y="63"/>
                  </a:lnTo>
                  <a:lnTo>
                    <a:pt x="38" y="55"/>
                  </a:lnTo>
                  <a:lnTo>
                    <a:pt x="43" y="46"/>
                  </a:lnTo>
                  <a:lnTo>
                    <a:pt x="48" y="39"/>
                  </a:lnTo>
                  <a:lnTo>
                    <a:pt x="53" y="32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5" y="15"/>
                  </a:lnTo>
                  <a:lnTo>
                    <a:pt x="83" y="9"/>
                  </a:lnTo>
                  <a:lnTo>
                    <a:pt x="93" y="6"/>
                  </a:lnTo>
                  <a:lnTo>
                    <a:pt x="102" y="3"/>
                  </a:lnTo>
                  <a:lnTo>
                    <a:pt x="113" y="2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1"/>
                  </a:lnTo>
                  <a:lnTo>
                    <a:pt x="163" y="3"/>
                  </a:lnTo>
                  <a:lnTo>
                    <a:pt x="172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5" y="18"/>
                  </a:lnTo>
                  <a:lnTo>
                    <a:pt x="201" y="23"/>
                  </a:lnTo>
                  <a:lnTo>
                    <a:pt x="207" y="29"/>
                  </a:lnTo>
                  <a:lnTo>
                    <a:pt x="213" y="36"/>
                  </a:lnTo>
                  <a:lnTo>
                    <a:pt x="217" y="43"/>
                  </a:lnTo>
                  <a:lnTo>
                    <a:pt x="221" y="49"/>
                  </a:lnTo>
                  <a:lnTo>
                    <a:pt x="224" y="58"/>
                  </a:lnTo>
                  <a:lnTo>
                    <a:pt x="226" y="65"/>
                  </a:lnTo>
                  <a:lnTo>
                    <a:pt x="227" y="74"/>
                  </a:lnTo>
                  <a:lnTo>
                    <a:pt x="227" y="82"/>
                  </a:lnTo>
                  <a:lnTo>
                    <a:pt x="227" y="88"/>
                  </a:lnTo>
                  <a:lnTo>
                    <a:pt x="226" y="93"/>
                  </a:lnTo>
                  <a:lnTo>
                    <a:pt x="225" y="99"/>
                  </a:lnTo>
                  <a:lnTo>
                    <a:pt x="224" y="104"/>
                  </a:lnTo>
                  <a:lnTo>
                    <a:pt x="222" y="110"/>
                  </a:lnTo>
                  <a:lnTo>
                    <a:pt x="220" y="116"/>
                  </a:lnTo>
                  <a:lnTo>
                    <a:pt x="218" y="121"/>
                  </a:lnTo>
                  <a:lnTo>
                    <a:pt x="215" y="125"/>
                  </a:lnTo>
                  <a:lnTo>
                    <a:pt x="211" y="130"/>
                  </a:lnTo>
                  <a:lnTo>
                    <a:pt x="207" y="135"/>
                  </a:lnTo>
                  <a:lnTo>
                    <a:pt x="203" y="141"/>
                  </a:lnTo>
                  <a:lnTo>
                    <a:pt x="198" y="147"/>
                  </a:lnTo>
                  <a:lnTo>
                    <a:pt x="193" y="152"/>
                  </a:lnTo>
                  <a:lnTo>
                    <a:pt x="186" y="159"/>
                  </a:lnTo>
                  <a:lnTo>
                    <a:pt x="179" y="165"/>
                  </a:lnTo>
                  <a:lnTo>
                    <a:pt x="172" y="171"/>
                  </a:lnTo>
                  <a:lnTo>
                    <a:pt x="196" y="200"/>
                  </a:lnTo>
                  <a:lnTo>
                    <a:pt x="253" y="145"/>
                  </a:lnTo>
                  <a:lnTo>
                    <a:pt x="306" y="201"/>
                  </a:lnTo>
                  <a:lnTo>
                    <a:pt x="249" y="256"/>
                  </a:lnTo>
                  <a:lnTo>
                    <a:pt x="296" y="308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085720" y="726840"/>
              <a:ext cx="160200" cy="235440"/>
            </a:xfrm>
            <a:custGeom>
              <a:avLst/>
              <a:gdLst/>
              <a:ahLst/>
              <a:rect l="l" t="t" r="r" b="b"/>
              <a:pathLst>
                <a:path w="244" h="357">
                  <a:moveTo>
                    <a:pt x="93" y="173"/>
                  </a:moveTo>
                  <a:lnTo>
                    <a:pt x="104" y="173"/>
                  </a:lnTo>
                  <a:lnTo>
                    <a:pt x="109" y="172"/>
                  </a:lnTo>
                  <a:lnTo>
                    <a:pt x="115" y="172"/>
                  </a:lnTo>
                  <a:lnTo>
                    <a:pt x="120" y="170"/>
                  </a:lnTo>
                  <a:lnTo>
                    <a:pt x="124" y="169"/>
                  </a:lnTo>
                  <a:lnTo>
                    <a:pt x="128" y="167"/>
                  </a:lnTo>
                  <a:lnTo>
                    <a:pt x="132" y="166"/>
                  </a:lnTo>
                  <a:lnTo>
                    <a:pt x="136" y="163"/>
                  </a:lnTo>
                  <a:lnTo>
                    <a:pt x="139" y="161"/>
                  </a:lnTo>
                  <a:lnTo>
                    <a:pt x="142" y="158"/>
                  </a:lnTo>
                  <a:lnTo>
                    <a:pt x="144" y="155"/>
                  </a:lnTo>
                  <a:lnTo>
                    <a:pt x="147" y="152"/>
                  </a:lnTo>
                  <a:lnTo>
                    <a:pt x="148" y="147"/>
                  </a:lnTo>
                  <a:lnTo>
                    <a:pt x="150" y="143"/>
                  </a:lnTo>
                  <a:lnTo>
                    <a:pt x="150" y="139"/>
                  </a:lnTo>
                  <a:lnTo>
                    <a:pt x="151" y="135"/>
                  </a:lnTo>
                  <a:lnTo>
                    <a:pt x="151" y="130"/>
                  </a:lnTo>
                  <a:lnTo>
                    <a:pt x="151" y="124"/>
                  </a:lnTo>
                  <a:lnTo>
                    <a:pt x="150" y="120"/>
                  </a:lnTo>
                  <a:lnTo>
                    <a:pt x="150" y="115"/>
                  </a:lnTo>
                  <a:lnTo>
                    <a:pt x="148" y="111"/>
                  </a:lnTo>
                  <a:lnTo>
                    <a:pt x="147" y="106"/>
                  </a:lnTo>
                  <a:lnTo>
                    <a:pt x="145" y="103"/>
                  </a:lnTo>
                  <a:lnTo>
                    <a:pt x="142" y="100"/>
                  </a:lnTo>
                  <a:lnTo>
                    <a:pt x="139" y="97"/>
                  </a:lnTo>
                  <a:lnTo>
                    <a:pt x="136" y="94"/>
                  </a:lnTo>
                  <a:lnTo>
                    <a:pt x="132" y="92"/>
                  </a:lnTo>
                  <a:lnTo>
                    <a:pt x="128" y="90"/>
                  </a:lnTo>
                  <a:lnTo>
                    <a:pt x="124" y="89"/>
                  </a:lnTo>
                  <a:lnTo>
                    <a:pt x="119" y="88"/>
                  </a:lnTo>
                  <a:lnTo>
                    <a:pt x="115" y="86"/>
                  </a:lnTo>
                  <a:lnTo>
                    <a:pt x="109" y="85"/>
                  </a:lnTo>
                  <a:lnTo>
                    <a:pt x="103" y="85"/>
                  </a:lnTo>
                  <a:lnTo>
                    <a:pt x="93" y="85"/>
                  </a:lnTo>
                  <a:lnTo>
                    <a:pt x="93" y="173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9" y="2"/>
                  </a:lnTo>
                  <a:lnTo>
                    <a:pt x="145" y="5"/>
                  </a:lnTo>
                  <a:lnTo>
                    <a:pt x="160" y="8"/>
                  </a:lnTo>
                  <a:lnTo>
                    <a:pt x="173" y="13"/>
                  </a:lnTo>
                  <a:lnTo>
                    <a:pt x="186" y="18"/>
                  </a:lnTo>
                  <a:lnTo>
                    <a:pt x="196" y="25"/>
                  </a:lnTo>
                  <a:lnTo>
                    <a:pt x="207" y="32"/>
                  </a:lnTo>
                  <a:lnTo>
                    <a:pt x="215" y="40"/>
                  </a:lnTo>
                  <a:lnTo>
                    <a:pt x="223" y="50"/>
                  </a:lnTo>
                  <a:lnTo>
                    <a:pt x="230" y="60"/>
                  </a:lnTo>
                  <a:lnTo>
                    <a:pt x="234" y="72"/>
                  </a:lnTo>
                  <a:lnTo>
                    <a:pt x="238" y="84"/>
                  </a:lnTo>
                  <a:lnTo>
                    <a:pt x="242" y="98"/>
                  </a:lnTo>
                  <a:lnTo>
                    <a:pt x="244" y="113"/>
                  </a:lnTo>
                  <a:lnTo>
                    <a:pt x="244" y="128"/>
                  </a:lnTo>
                  <a:lnTo>
                    <a:pt x="244" y="144"/>
                  </a:lnTo>
                  <a:lnTo>
                    <a:pt x="242" y="158"/>
                  </a:lnTo>
                  <a:lnTo>
                    <a:pt x="239" y="172"/>
                  </a:lnTo>
                  <a:lnTo>
                    <a:pt x="235" y="184"/>
                  </a:lnTo>
                  <a:lnTo>
                    <a:pt x="230" y="197"/>
                  </a:lnTo>
                  <a:lnTo>
                    <a:pt x="224" y="207"/>
                  </a:lnTo>
                  <a:lnTo>
                    <a:pt x="216" y="218"/>
                  </a:lnTo>
                  <a:lnTo>
                    <a:pt x="208" y="226"/>
                  </a:lnTo>
                  <a:lnTo>
                    <a:pt x="199" y="235"/>
                  </a:lnTo>
                  <a:lnTo>
                    <a:pt x="188" y="242"/>
                  </a:lnTo>
                  <a:lnTo>
                    <a:pt x="176" y="248"/>
                  </a:lnTo>
                  <a:lnTo>
                    <a:pt x="165" y="253"/>
                  </a:lnTo>
                  <a:lnTo>
                    <a:pt x="151" y="257"/>
                  </a:lnTo>
                  <a:lnTo>
                    <a:pt x="138" y="260"/>
                  </a:lnTo>
                  <a:lnTo>
                    <a:pt x="123" y="261"/>
                  </a:lnTo>
                  <a:lnTo>
                    <a:pt x="106" y="262"/>
                  </a:lnTo>
                  <a:lnTo>
                    <a:pt x="93" y="262"/>
                  </a:lnTo>
                  <a:lnTo>
                    <a:pt x="93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27544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4" y="107"/>
                  </a:lnTo>
                  <a:lnTo>
                    <a:pt x="108" y="105"/>
                  </a:lnTo>
                  <a:lnTo>
                    <a:pt x="112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9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1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6" y="185"/>
                  </a:lnTo>
                  <a:lnTo>
                    <a:pt x="123" y="184"/>
                  </a:lnTo>
                  <a:lnTo>
                    <a:pt x="121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32040" y="792000"/>
              <a:ext cx="166680" cy="226080"/>
            </a:xfrm>
            <a:custGeom>
              <a:avLst/>
              <a:gdLst/>
              <a:ahLst/>
              <a:rect l="l" t="t" r="r" b="b"/>
              <a:pathLst>
                <a:path w="254" h="342">
                  <a:moveTo>
                    <a:pt x="58" y="342"/>
                  </a:moveTo>
                  <a:lnTo>
                    <a:pt x="92" y="24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2"/>
                  </a:lnTo>
                  <a:lnTo>
                    <a:pt x="58" y="34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60556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6" y="257"/>
                  </a:moveTo>
                  <a:lnTo>
                    <a:pt x="6" y="176"/>
                  </a:lnTo>
                  <a:lnTo>
                    <a:pt x="7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2" y="180"/>
                  </a:lnTo>
                  <a:lnTo>
                    <a:pt x="14" y="181"/>
                  </a:lnTo>
                  <a:lnTo>
                    <a:pt x="16" y="181"/>
                  </a:lnTo>
                  <a:lnTo>
                    <a:pt x="17" y="182"/>
                  </a:lnTo>
                  <a:lnTo>
                    <a:pt x="18" y="182"/>
                  </a:lnTo>
                  <a:lnTo>
                    <a:pt x="21" y="182"/>
                  </a:lnTo>
                  <a:lnTo>
                    <a:pt x="22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6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5" y="183"/>
                  </a:lnTo>
                  <a:lnTo>
                    <a:pt x="37" y="183"/>
                  </a:lnTo>
                  <a:lnTo>
                    <a:pt x="39" y="182"/>
                  </a:lnTo>
                  <a:lnTo>
                    <a:pt x="41" y="182"/>
                  </a:lnTo>
                  <a:lnTo>
                    <a:pt x="43" y="181"/>
                  </a:lnTo>
                  <a:lnTo>
                    <a:pt x="45" y="180"/>
                  </a:lnTo>
                  <a:lnTo>
                    <a:pt x="46" y="179"/>
                  </a:lnTo>
                  <a:lnTo>
                    <a:pt x="47" y="177"/>
                  </a:lnTo>
                  <a:lnTo>
                    <a:pt x="49" y="175"/>
                  </a:lnTo>
                  <a:lnTo>
                    <a:pt x="49" y="174"/>
                  </a:lnTo>
                  <a:lnTo>
                    <a:pt x="50" y="173"/>
                  </a:lnTo>
                  <a:lnTo>
                    <a:pt x="51" y="171"/>
                  </a:lnTo>
                  <a:lnTo>
                    <a:pt x="51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1" y="164"/>
                  </a:lnTo>
                  <a:lnTo>
                    <a:pt x="50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39" y="146"/>
                  </a:lnTo>
                  <a:lnTo>
                    <a:pt x="35" y="142"/>
                  </a:lnTo>
                  <a:lnTo>
                    <a:pt x="30" y="137"/>
                  </a:lnTo>
                  <a:lnTo>
                    <a:pt x="29" y="135"/>
                  </a:lnTo>
                  <a:lnTo>
                    <a:pt x="28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4" y="130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6" y="123"/>
                  </a:lnTo>
                  <a:lnTo>
                    <a:pt x="14" y="121"/>
                  </a:lnTo>
                  <a:lnTo>
                    <a:pt x="12" y="118"/>
                  </a:lnTo>
                  <a:lnTo>
                    <a:pt x="10" y="114"/>
                  </a:lnTo>
                  <a:lnTo>
                    <a:pt x="8" y="111"/>
                  </a:lnTo>
                  <a:lnTo>
                    <a:pt x="7" y="108"/>
                  </a:lnTo>
                  <a:lnTo>
                    <a:pt x="5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4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39" y="12"/>
                  </a:lnTo>
                  <a:lnTo>
                    <a:pt x="48" y="8"/>
                  </a:lnTo>
                  <a:lnTo>
                    <a:pt x="57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1" y="2"/>
                  </a:lnTo>
                  <a:lnTo>
                    <a:pt x="124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5" y="3"/>
                  </a:lnTo>
                  <a:lnTo>
                    <a:pt x="137" y="4"/>
                  </a:lnTo>
                  <a:lnTo>
                    <a:pt x="137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0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8" y="74"/>
                  </a:lnTo>
                  <a:lnTo>
                    <a:pt x="116" y="74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1" y="72"/>
                  </a:lnTo>
                  <a:lnTo>
                    <a:pt x="110" y="72"/>
                  </a:lnTo>
                  <a:lnTo>
                    <a:pt x="107" y="72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4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6" y="76"/>
                  </a:lnTo>
                  <a:lnTo>
                    <a:pt x="94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89"/>
                  </a:lnTo>
                  <a:lnTo>
                    <a:pt x="89" y="91"/>
                  </a:lnTo>
                  <a:lnTo>
                    <a:pt x="90" y="92"/>
                  </a:lnTo>
                  <a:lnTo>
                    <a:pt x="90" y="93"/>
                  </a:lnTo>
                  <a:lnTo>
                    <a:pt x="91" y="95"/>
                  </a:lnTo>
                  <a:lnTo>
                    <a:pt x="91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8" y="104"/>
                  </a:lnTo>
                  <a:lnTo>
                    <a:pt x="99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19" y="127"/>
                  </a:lnTo>
                  <a:lnTo>
                    <a:pt x="123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39" y="159"/>
                  </a:lnTo>
                  <a:lnTo>
                    <a:pt x="140" y="164"/>
                  </a:lnTo>
                  <a:lnTo>
                    <a:pt x="141" y="168"/>
                  </a:lnTo>
                  <a:lnTo>
                    <a:pt x="142" y="172"/>
                  </a:lnTo>
                  <a:lnTo>
                    <a:pt x="143" y="177"/>
                  </a:lnTo>
                  <a:lnTo>
                    <a:pt x="143" y="182"/>
                  </a:lnTo>
                  <a:lnTo>
                    <a:pt x="143" y="187"/>
                  </a:lnTo>
                  <a:lnTo>
                    <a:pt x="143" y="195"/>
                  </a:lnTo>
                  <a:lnTo>
                    <a:pt x="142" y="204"/>
                  </a:lnTo>
                  <a:lnTo>
                    <a:pt x="140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5" y="236"/>
                  </a:lnTo>
                  <a:lnTo>
                    <a:pt x="120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99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4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5" y="261"/>
                  </a:lnTo>
                  <a:lnTo>
                    <a:pt x="43" y="261"/>
                  </a:lnTo>
                  <a:lnTo>
                    <a:pt x="41" y="261"/>
                  </a:lnTo>
                  <a:lnTo>
                    <a:pt x="37" y="260"/>
                  </a:lnTo>
                  <a:lnTo>
                    <a:pt x="35" y="260"/>
                  </a:lnTo>
                  <a:lnTo>
                    <a:pt x="32" y="260"/>
                  </a:lnTo>
                  <a:lnTo>
                    <a:pt x="29" y="260"/>
                  </a:lnTo>
                  <a:lnTo>
                    <a:pt x="26" y="259"/>
                  </a:lnTo>
                  <a:lnTo>
                    <a:pt x="23" y="259"/>
                  </a:lnTo>
                  <a:lnTo>
                    <a:pt x="18" y="259"/>
                  </a:lnTo>
                  <a:lnTo>
                    <a:pt x="14" y="258"/>
                  </a:lnTo>
                  <a:lnTo>
                    <a:pt x="10" y="257"/>
                  </a:lnTo>
                  <a:lnTo>
                    <a:pt x="6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3640" y="726840"/>
              <a:ext cx="518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801760" y="792000"/>
              <a:ext cx="114840" cy="17316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75" y="257"/>
                  </a:moveTo>
                  <a:lnTo>
                    <a:pt x="173" y="258"/>
                  </a:lnTo>
                  <a:lnTo>
                    <a:pt x="170" y="259"/>
                  </a:lnTo>
                  <a:lnTo>
                    <a:pt x="167" y="259"/>
                  </a:lnTo>
                  <a:lnTo>
                    <a:pt x="163" y="260"/>
                  </a:lnTo>
                  <a:lnTo>
                    <a:pt x="160" y="260"/>
                  </a:lnTo>
                  <a:lnTo>
                    <a:pt x="157" y="261"/>
                  </a:lnTo>
                  <a:lnTo>
                    <a:pt x="155" y="261"/>
                  </a:lnTo>
                  <a:lnTo>
                    <a:pt x="152" y="261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9" y="264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8"/>
                  </a:lnTo>
                  <a:lnTo>
                    <a:pt x="76" y="254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5"/>
                  </a:lnTo>
                  <a:lnTo>
                    <a:pt x="35" y="226"/>
                  </a:lnTo>
                  <a:lnTo>
                    <a:pt x="27" y="216"/>
                  </a:lnTo>
                  <a:lnTo>
                    <a:pt x="20" y="206"/>
                  </a:lnTo>
                  <a:lnTo>
                    <a:pt x="13" y="195"/>
                  </a:lnTo>
                  <a:lnTo>
                    <a:pt x="9" y="183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1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1" y="55"/>
                  </a:lnTo>
                  <a:lnTo>
                    <a:pt x="28" y="44"/>
                  </a:lnTo>
                  <a:lnTo>
                    <a:pt x="37" y="36"/>
                  </a:lnTo>
                  <a:lnTo>
                    <a:pt x="47" y="27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3" y="4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5" y="3"/>
                  </a:lnTo>
                  <a:lnTo>
                    <a:pt x="168" y="3"/>
                  </a:lnTo>
                  <a:lnTo>
                    <a:pt x="171" y="4"/>
                  </a:lnTo>
                  <a:lnTo>
                    <a:pt x="173" y="5"/>
                  </a:lnTo>
                  <a:lnTo>
                    <a:pt x="175" y="5"/>
                  </a:lnTo>
                  <a:lnTo>
                    <a:pt x="175" y="89"/>
                  </a:lnTo>
                  <a:lnTo>
                    <a:pt x="173" y="89"/>
                  </a:lnTo>
                  <a:lnTo>
                    <a:pt x="170" y="88"/>
                  </a:lnTo>
                  <a:lnTo>
                    <a:pt x="167" y="87"/>
                  </a:lnTo>
                  <a:lnTo>
                    <a:pt x="164" y="87"/>
                  </a:lnTo>
                  <a:lnTo>
                    <a:pt x="161" y="86"/>
                  </a:lnTo>
                  <a:lnTo>
                    <a:pt x="159" y="86"/>
                  </a:lnTo>
                  <a:lnTo>
                    <a:pt x="157" y="85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1" y="84"/>
                  </a:lnTo>
                  <a:lnTo>
                    <a:pt x="149" y="84"/>
                  </a:lnTo>
                  <a:lnTo>
                    <a:pt x="147" y="84"/>
                  </a:lnTo>
                  <a:lnTo>
                    <a:pt x="144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8" y="84"/>
                  </a:lnTo>
                  <a:lnTo>
                    <a:pt x="122" y="85"/>
                  </a:lnTo>
                  <a:lnTo>
                    <a:pt x="117" y="87"/>
                  </a:lnTo>
                  <a:lnTo>
                    <a:pt x="112" y="88"/>
                  </a:lnTo>
                  <a:lnTo>
                    <a:pt x="108" y="90"/>
                  </a:lnTo>
                  <a:lnTo>
                    <a:pt x="104" y="93"/>
                  </a:lnTo>
                  <a:lnTo>
                    <a:pt x="100" y="96"/>
                  </a:lnTo>
                  <a:lnTo>
                    <a:pt x="97" y="100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8" y="116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86" y="130"/>
                  </a:lnTo>
                  <a:lnTo>
                    <a:pt x="87" y="135"/>
                  </a:lnTo>
                  <a:lnTo>
                    <a:pt x="87" y="141"/>
                  </a:lnTo>
                  <a:lnTo>
                    <a:pt x="88" y="146"/>
                  </a:lnTo>
                  <a:lnTo>
                    <a:pt x="90" y="150"/>
                  </a:lnTo>
                  <a:lnTo>
                    <a:pt x="92" y="154"/>
                  </a:lnTo>
                  <a:lnTo>
                    <a:pt x="94" y="159"/>
                  </a:lnTo>
                  <a:lnTo>
                    <a:pt x="97" y="162"/>
                  </a:lnTo>
                  <a:lnTo>
                    <a:pt x="100" y="165"/>
                  </a:lnTo>
                  <a:lnTo>
                    <a:pt x="105" y="168"/>
                  </a:lnTo>
                  <a:lnTo>
                    <a:pt x="109" y="171"/>
                  </a:lnTo>
                  <a:lnTo>
                    <a:pt x="113" y="173"/>
                  </a:lnTo>
                  <a:lnTo>
                    <a:pt x="118" y="175"/>
                  </a:lnTo>
                  <a:lnTo>
                    <a:pt x="124" y="176"/>
                  </a:lnTo>
                  <a:lnTo>
                    <a:pt x="129" y="177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1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9"/>
                  </a:lnTo>
                  <a:lnTo>
                    <a:pt x="149" y="179"/>
                  </a:lnTo>
                  <a:lnTo>
                    <a:pt x="151" y="177"/>
                  </a:lnTo>
                  <a:lnTo>
                    <a:pt x="153" y="177"/>
                  </a:lnTo>
                  <a:lnTo>
                    <a:pt x="155" y="177"/>
                  </a:lnTo>
                  <a:lnTo>
                    <a:pt x="157" y="177"/>
                  </a:lnTo>
                  <a:lnTo>
                    <a:pt x="159" y="177"/>
                  </a:lnTo>
                  <a:lnTo>
                    <a:pt x="162" y="176"/>
                  </a:lnTo>
                  <a:lnTo>
                    <a:pt x="164" y="176"/>
                  </a:lnTo>
                  <a:lnTo>
                    <a:pt x="168" y="176"/>
                  </a:lnTo>
                  <a:lnTo>
                    <a:pt x="170" y="175"/>
                  </a:lnTo>
                  <a:lnTo>
                    <a:pt x="173" y="175"/>
                  </a:lnTo>
                  <a:lnTo>
                    <a:pt x="175" y="174"/>
                  </a:lnTo>
                  <a:lnTo>
                    <a:pt x="175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94540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02784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08" y="196"/>
                  </a:moveTo>
                  <a:lnTo>
                    <a:pt x="110" y="196"/>
                  </a:lnTo>
                  <a:lnTo>
                    <a:pt x="113" y="196"/>
                  </a:lnTo>
                  <a:lnTo>
                    <a:pt x="115" y="195"/>
                  </a:lnTo>
                  <a:lnTo>
                    <a:pt x="117" y="194"/>
                  </a:lnTo>
                  <a:lnTo>
                    <a:pt x="119" y="193"/>
                  </a:lnTo>
                  <a:lnTo>
                    <a:pt x="123" y="192"/>
                  </a:lnTo>
                  <a:lnTo>
                    <a:pt x="125" y="190"/>
                  </a:lnTo>
                  <a:lnTo>
                    <a:pt x="127" y="189"/>
                  </a:lnTo>
                  <a:lnTo>
                    <a:pt x="128" y="187"/>
                  </a:lnTo>
                  <a:lnTo>
                    <a:pt x="130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4" y="175"/>
                  </a:lnTo>
                  <a:lnTo>
                    <a:pt x="134" y="172"/>
                  </a:lnTo>
                  <a:lnTo>
                    <a:pt x="134" y="169"/>
                  </a:lnTo>
                  <a:lnTo>
                    <a:pt x="134" y="167"/>
                  </a:lnTo>
                  <a:lnTo>
                    <a:pt x="134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30" y="154"/>
                  </a:lnTo>
                  <a:lnTo>
                    <a:pt x="128" y="152"/>
                  </a:lnTo>
                  <a:lnTo>
                    <a:pt x="127" y="150"/>
                  </a:lnTo>
                  <a:lnTo>
                    <a:pt x="125" y="148"/>
                  </a:lnTo>
                  <a:lnTo>
                    <a:pt x="123" y="147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3"/>
                  </a:lnTo>
                  <a:lnTo>
                    <a:pt x="113" y="143"/>
                  </a:lnTo>
                  <a:lnTo>
                    <a:pt x="110" y="142"/>
                  </a:lnTo>
                  <a:lnTo>
                    <a:pt x="108" y="142"/>
                  </a:lnTo>
                  <a:lnTo>
                    <a:pt x="105" y="142"/>
                  </a:lnTo>
                  <a:lnTo>
                    <a:pt x="103" y="143"/>
                  </a:lnTo>
                  <a:lnTo>
                    <a:pt x="99" y="143"/>
                  </a:lnTo>
                  <a:lnTo>
                    <a:pt x="97" y="144"/>
                  </a:lnTo>
                  <a:lnTo>
                    <a:pt x="95" y="145"/>
                  </a:lnTo>
                  <a:lnTo>
                    <a:pt x="93" y="147"/>
                  </a:lnTo>
                  <a:lnTo>
                    <a:pt x="91" y="148"/>
                  </a:lnTo>
                  <a:lnTo>
                    <a:pt x="89" y="150"/>
                  </a:lnTo>
                  <a:lnTo>
                    <a:pt x="87" y="152"/>
                  </a:lnTo>
                  <a:lnTo>
                    <a:pt x="86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2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2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7" y="187"/>
                  </a:lnTo>
                  <a:lnTo>
                    <a:pt x="89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99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8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4" y="244"/>
                  </a:lnTo>
                  <a:lnTo>
                    <a:pt x="131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1" y="253"/>
                  </a:lnTo>
                  <a:lnTo>
                    <a:pt x="118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90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5" y="262"/>
                  </a:lnTo>
                  <a:lnTo>
                    <a:pt x="56" y="259"/>
                  </a:lnTo>
                  <a:lnTo>
                    <a:pt x="49" y="257"/>
                  </a:lnTo>
                  <a:lnTo>
                    <a:pt x="42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2" y="226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3"/>
                  </a:lnTo>
                  <a:lnTo>
                    <a:pt x="2" y="193"/>
                  </a:lnTo>
                  <a:lnTo>
                    <a:pt x="1" y="185"/>
                  </a:lnTo>
                  <a:lnTo>
                    <a:pt x="0" y="175"/>
                  </a:lnTo>
                  <a:lnTo>
                    <a:pt x="1" y="165"/>
                  </a:lnTo>
                  <a:lnTo>
                    <a:pt x="2" y="157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20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2" y="88"/>
                  </a:lnTo>
                  <a:lnTo>
                    <a:pt x="82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3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6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8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1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99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5" y="20"/>
                  </a:lnTo>
                  <a:lnTo>
                    <a:pt x="191" y="25"/>
                  </a:lnTo>
                  <a:lnTo>
                    <a:pt x="196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5" y="58"/>
                  </a:lnTo>
                  <a:lnTo>
                    <a:pt x="208" y="68"/>
                  </a:lnTo>
                  <a:lnTo>
                    <a:pt x="209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1948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1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453000" y="726840"/>
              <a:ext cx="245520" cy="235440"/>
            </a:xfrm>
            <a:custGeom>
              <a:avLst/>
              <a:gdLst/>
              <a:ahLst/>
              <a:rect l="l" t="t" r="r" b="b"/>
              <a:pathLst>
                <a:path w="373" h="359">
                  <a:moveTo>
                    <a:pt x="0" y="357"/>
                  </a:moveTo>
                  <a:lnTo>
                    <a:pt x="46" y="0"/>
                  </a:lnTo>
                  <a:lnTo>
                    <a:pt x="121" y="0"/>
                  </a:lnTo>
                  <a:lnTo>
                    <a:pt x="184" y="159"/>
                  </a:lnTo>
                  <a:lnTo>
                    <a:pt x="248" y="0"/>
                  </a:lnTo>
                  <a:lnTo>
                    <a:pt x="321" y="0"/>
                  </a:lnTo>
                  <a:lnTo>
                    <a:pt x="373" y="357"/>
                  </a:lnTo>
                  <a:lnTo>
                    <a:pt x="277" y="357"/>
                  </a:lnTo>
                  <a:lnTo>
                    <a:pt x="257" y="194"/>
                  </a:lnTo>
                  <a:lnTo>
                    <a:pt x="188" y="359"/>
                  </a:lnTo>
                  <a:lnTo>
                    <a:pt x="113" y="194"/>
                  </a:lnTo>
                  <a:lnTo>
                    <a:pt x="96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71472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3" y="175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3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20" y="145"/>
                  </a:lnTo>
                  <a:lnTo>
                    <a:pt x="118" y="144"/>
                  </a:lnTo>
                  <a:lnTo>
                    <a:pt x="116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3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100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8" y="262"/>
                  </a:lnTo>
                  <a:lnTo>
                    <a:pt x="94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4" y="262"/>
                  </a:lnTo>
                  <a:lnTo>
                    <a:pt x="57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9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2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80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200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71320" y="792000"/>
              <a:ext cx="154080" cy="228960"/>
            </a:xfrm>
            <a:custGeom>
              <a:avLst/>
              <a:gdLst/>
              <a:ahLst/>
              <a:rect l="l" t="t" r="r" b="b"/>
              <a:pathLst>
                <a:path w="239" h="351">
                  <a:moveTo>
                    <a:pt x="120" y="147"/>
                  </a:moveTo>
                  <a:lnTo>
                    <a:pt x="123" y="147"/>
                  </a:lnTo>
                  <a:lnTo>
                    <a:pt x="126" y="146"/>
                  </a:lnTo>
                  <a:lnTo>
                    <a:pt x="129" y="146"/>
                  </a:lnTo>
                  <a:lnTo>
                    <a:pt x="132" y="145"/>
                  </a:lnTo>
                  <a:lnTo>
                    <a:pt x="135" y="144"/>
                  </a:lnTo>
                  <a:lnTo>
                    <a:pt x="137" y="142"/>
                  </a:lnTo>
                  <a:lnTo>
                    <a:pt x="140" y="140"/>
                  </a:lnTo>
                  <a:lnTo>
                    <a:pt x="142" y="138"/>
                  </a:lnTo>
                  <a:lnTo>
                    <a:pt x="144" y="135"/>
                  </a:lnTo>
                  <a:lnTo>
                    <a:pt x="146" y="132"/>
                  </a:lnTo>
                  <a:lnTo>
                    <a:pt x="148" y="130"/>
                  </a:lnTo>
                  <a:lnTo>
                    <a:pt x="149" y="127"/>
                  </a:lnTo>
                  <a:lnTo>
                    <a:pt x="150" y="124"/>
                  </a:lnTo>
                  <a:lnTo>
                    <a:pt x="151" y="122"/>
                  </a:lnTo>
                  <a:lnTo>
                    <a:pt x="151" y="119"/>
                  </a:lnTo>
                  <a:lnTo>
                    <a:pt x="151" y="115"/>
                  </a:lnTo>
                  <a:lnTo>
                    <a:pt x="151" y="112"/>
                  </a:lnTo>
                  <a:lnTo>
                    <a:pt x="151" y="109"/>
                  </a:lnTo>
                  <a:lnTo>
                    <a:pt x="150" y="106"/>
                  </a:lnTo>
                  <a:lnTo>
                    <a:pt x="149" y="103"/>
                  </a:lnTo>
                  <a:lnTo>
                    <a:pt x="148" y="101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2" y="93"/>
                  </a:lnTo>
                  <a:lnTo>
                    <a:pt x="140" y="91"/>
                  </a:lnTo>
                  <a:lnTo>
                    <a:pt x="137" y="89"/>
                  </a:lnTo>
                  <a:lnTo>
                    <a:pt x="135" y="87"/>
                  </a:lnTo>
                  <a:lnTo>
                    <a:pt x="132" y="86"/>
                  </a:lnTo>
                  <a:lnTo>
                    <a:pt x="129" y="85"/>
                  </a:lnTo>
                  <a:lnTo>
                    <a:pt x="126" y="84"/>
                  </a:lnTo>
                  <a:lnTo>
                    <a:pt x="123" y="84"/>
                  </a:lnTo>
                  <a:lnTo>
                    <a:pt x="120" y="84"/>
                  </a:lnTo>
                  <a:lnTo>
                    <a:pt x="117" y="84"/>
                  </a:lnTo>
                  <a:lnTo>
                    <a:pt x="114" y="84"/>
                  </a:lnTo>
                  <a:lnTo>
                    <a:pt x="111" y="85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2" y="89"/>
                  </a:lnTo>
                  <a:lnTo>
                    <a:pt x="100" y="90"/>
                  </a:lnTo>
                  <a:lnTo>
                    <a:pt x="98" y="92"/>
                  </a:lnTo>
                  <a:lnTo>
                    <a:pt x="95" y="96"/>
                  </a:lnTo>
                  <a:lnTo>
                    <a:pt x="94" y="98"/>
                  </a:lnTo>
                  <a:lnTo>
                    <a:pt x="92" y="100"/>
                  </a:lnTo>
                  <a:lnTo>
                    <a:pt x="91" y="103"/>
                  </a:lnTo>
                  <a:lnTo>
                    <a:pt x="90" y="106"/>
                  </a:lnTo>
                  <a:lnTo>
                    <a:pt x="89" y="109"/>
                  </a:lnTo>
                  <a:lnTo>
                    <a:pt x="89" y="112"/>
                  </a:lnTo>
                  <a:lnTo>
                    <a:pt x="89" y="115"/>
                  </a:lnTo>
                  <a:lnTo>
                    <a:pt x="89" y="119"/>
                  </a:lnTo>
                  <a:lnTo>
                    <a:pt x="89" y="122"/>
                  </a:lnTo>
                  <a:lnTo>
                    <a:pt x="90" y="125"/>
                  </a:lnTo>
                  <a:lnTo>
                    <a:pt x="91" y="127"/>
                  </a:lnTo>
                  <a:lnTo>
                    <a:pt x="92" y="130"/>
                  </a:lnTo>
                  <a:lnTo>
                    <a:pt x="94" y="133"/>
                  </a:lnTo>
                  <a:lnTo>
                    <a:pt x="95" y="135"/>
                  </a:lnTo>
                  <a:lnTo>
                    <a:pt x="97" y="138"/>
                  </a:lnTo>
                  <a:lnTo>
                    <a:pt x="100" y="140"/>
                  </a:lnTo>
                  <a:lnTo>
                    <a:pt x="102" y="142"/>
                  </a:lnTo>
                  <a:lnTo>
                    <a:pt x="104" y="144"/>
                  </a:lnTo>
                  <a:lnTo>
                    <a:pt x="107" y="145"/>
                  </a:lnTo>
                  <a:lnTo>
                    <a:pt x="111" y="146"/>
                  </a:lnTo>
                  <a:lnTo>
                    <a:pt x="114" y="147"/>
                  </a:lnTo>
                  <a:lnTo>
                    <a:pt x="117" y="147"/>
                  </a:lnTo>
                  <a:lnTo>
                    <a:pt x="120" y="147"/>
                  </a:lnTo>
                  <a:close/>
                  <a:moveTo>
                    <a:pt x="147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1" y="226"/>
                  </a:lnTo>
                  <a:lnTo>
                    <a:pt x="139" y="226"/>
                  </a:lnTo>
                  <a:lnTo>
                    <a:pt x="137" y="226"/>
                  </a:lnTo>
                  <a:lnTo>
                    <a:pt x="135" y="227"/>
                  </a:lnTo>
                  <a:lnTo>
                    <a:pt x="133" y="227"/>
                  </a:lnTo>
                  <a:lnTo>
                    <a:pt x="131" y="227"/>
                  </a:lnTo>
                  <a:lnTo>
                    <a:pt x="128" y="227"/>
                  </a:lnTo>
                  <a:lnTo>
                    <a:pt x="127" y="227"/>
                  </a:lnTo>
                  <a:lnTo>
                    <a:pt x="125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8" y="228"/>
                  </a:lnTo>
                  <a:lnTo>
                    <a:pt x="116" y="228"/>
                  </a:lnTo>
                  <a:lnTo>
                    <a:pt x="104" y="227"/>
                  </a:lnTo>
                  <a:lnTo>
                    <a:pt x="93" y="226"/>
                  </a:lnTo>
                  <a:lnTo>
                    <a:pt x="82" y="224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6" y="204"/>
                  </a:lnTo>
                  <a:lnTo>
                    <a:pt x="37" y="195"/>
                  </a:lnTo>
                  <a:lnTo>
                    <a:pt x="30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9" y="139"/>
                  </a:lnTo>
                  <a:lnTo>
                    <a:pt x="7" y="127"/>
                  </a:lnTo>
                  <a:lnTo>
                    <a:pt x="7" y="114"/>
                  </a:lnTo>
                  <a:lnTo>
                    <a:pt x="8" y="103"/>
                  </a:lnTo>
                  <a:lnTo>
                    <a:pt x="9" y="90"/>
                  </a:lnTo>
                  <a:lnTo>
                    <a:pt x="11" y="80"/>
                  </a:lnTo>
                  <a:lnTo>
                    <a:pt x="15" y="69"/>
                  </a:lnTo>
                  <a:lnTo>
                    <a:pt x="19" y="59"/>
                  </a:lnTo>
                  <a:lnTo>
                    <a:pt x="25" y="49"/>
                  </a:lnTo>
                  <a:lnTo>
                    <a:pt x="32" y="41"/>
                  </a:lnTo>
                  <a:lnTo>
                    <a:pt x="39" y="33"/>
                  </a:lnTo>
                  <a:lnTo>
                    <a:pt x="48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3" y="4"/>
                  </a:lnTo>
                  <a:lnTo>
                    <a:pt x="155" y="5"/>
                  </a:lnTo>
                  <a:lnTo>
                    <a:pt x="239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9" y="52"/>
                  </a:lnTo>
                  <a:lnTo>
                    <a:pt x="221" y="57"/>
                  </a:lnTo>
                  <a:lnTo>
                    <a:pt x="224" y="61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8" y="113"/>
                  </a:lnTo>
                  <a:lnTo>
                    <a:pt x="238" y="119"/>
                  </a:lnTo>
                  <a:lnTo>
                    <a:pt x="238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80"/>
                  </a:lnTo>
                  <a:lnTo>
                    <a:pt x="212" y="184"/>
                  </a:lnTo>
                  <a:lnTo>
                    <a:pt x="214" y="188"/>
                  </a:lnTo>
                  <a:lnTo>
                    <a:pt x="217" y="191"/>
                  </a:lnTo>
                  <a:lnTo>
                    <a:pt x="219" y="195"/>
                  </a:lnTo>
                  <a:lnTo>
                    <a:pt x="221" y="199"/>
                  </a:lnTo>
                  <a:lnTo>
                    <a:pt x="223" y="203"/>
                  </a:lnTo>
                  <a:lnTo>
                    <a:pt x="225" y="207"/>
                  </a:lnTo>
                  <a:lnTo>
                    <a:pt x="226" y="211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2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5" y="287"/>
                  </a:lnTo>
                  <a:lnTo>
                    <a:pt x="220" y="296"/>
                  </a:lnTo>
                  <a:lnTo>
                    <a:pt x="214" y="304"/>
                  </a:lnTo>
                  <a:lnTo>
                    <a:pt x="208" y="313"/>
                  </a:lnTo>
                  <a:lnTo>
                    <a:pt x="201" y="320"/>
                  </a:lnTo>
                  <a:lnTo>
                    <a:pt x="192" y="328"/>
                  </a:lnTo>
                  <a:lnTo>
                    <a:pt x="183" y="334"/>
                  </a:lnTo>
                  <a:lnTo>
                    <a:pt x="174" y="339"/>
                  </a:lnTo>
                  <a:lnTo>
                    <a:pt x="164" y="343"/>
                  </a:lnTo>
                  <a:lnTo>
                    <a:pt x="153" y="346"/>
                  </a:lnTo>
                  <a:lnTo>
                    <a:pt x="142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100" y="350"/>
                  </a:lnTo>
                  <a:lnTo>
                    <a:pt x="92" y="349"/>
                  </a:lnTo>
                  <a:lnTo>
                    <a:pt x="83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3" y="335"/>
                  </a:lnTo>
                  <a:lnTo>
                    <a:pt x="37" y="331"/>
                  </a:lnTo>
                  <a:lnTo>
                    <a:pt x="30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3" y="248"/>
                  </a:lnTo>
                  <a:lnTo>
                    <a:pt x="57" y="251"/>
                  </a:lnTo>
                  <a:lnTo>
                    <a:pt x="61" y="254"/>
                  </a:lnTo>
                  <a:lnTo>
                    <a:pt x="65" y="257"/>
                  </a:lnTo>
                  <a:lnTo>
                    <a:pt x="70" y="259"/>
                  </a:lnTo>
                  <a:lnTo>
                    <a:pt x="74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1" y="269"/>
                  </a:lnTo>
                  <a:lnTo>
                    <a:pt x="95" y="270"/>
                  </a:lnTo>
                  <a:lnTo>
                    <a:pt x="99" y="271"/>
                  </a:lnTo>
                  <a:lnTo>
                    <a:pt x="104" y="272"/>
                  </a:lnTo>
                  <a:lnTo>
                    <a:pt x="108" y="272"/>
                  </a:lnTo>
                  <a:lnTo>
                    <a:pt x="113" y="272"/>
                  </a:lnTo>
                  <a:lnTo>
                    <a:pt x="117" y="272"/>
                  </a:lnTo>
                  <a:lnTo>
                    <a:pt x="120" y="272"/>
                  </a:lnTo>
                  <a:lnTo>
                    <a:pt x="124" y="271"/>
                  </a:lnTo>
                  <a:lnTo>
                    <a:pt x="127" y="270"/>
                  </a:lnTo>
                  <a:lnTo>
                    <a:pt x="131" y="269"/>
                  </a:lnTo>
                  <a:lnTo>
                    <a:pt x="134" y="268"/>
                  </a:lnTo>
                  <a:lnTo>
                    <a:pt x="137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9" y="245"/>
                  </a:lnTo>
                  <a:lnTo>
                    <a:pt x="149" y="241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048800" y="792000"/>
              <a:ext cx="13320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4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2" y="178"/>
                  </a:lnTo>
                  <a:lnTo>
                    <a:pt x="133" y="175"/>
                  </a:lnTo>
                  <a:lnTo>
                    <a:pt x="133" y="172"/>
                  </a:lnTo>
                  <a:lnTo>
                    <a:pt x="134" y="169"/>
                  </a:lnTo>
                  <a:lnTo>
                    <a:pt x="133" y="167"/>
                  </a:lnTo>
                  <a:lnTo>
                    <a:pt x="133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20" y="145"/>
                  </a:lnTo>
                  <a:lnTo>
                    <a:pt x="118" y="144"/>
                  </a:lnTo>
                  <a:lnTo>
                    <a:pt x="114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4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7" y="144"/>
                  </a:lnTo>
                  <a:lnTo>
                    <a:pt x="95" y="145"/>
                  </a:lnTo>
                  <a:lnTo>
                    <a:pt x="92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6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99" y="195"/>
                  </a:lnTo>
                  <a:lnTo>
                    <a:pt x="102" y="196"/>
                  </a:lnTo>
                  <a:lnTo>
                    <a:pt x="104" y="196"/>
                  </a:lnTo>
                  <a:lnTo>
                    <a:pt x="107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7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8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9" y="92"/>
                  </a:lnTo>
                  <a:lnTo>
                    <a:pt x="129" y="91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8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0" y="64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02160" y="792000"/>
              <a:ext cx="137160" cy="1702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0" y="257"/>
                  </a:moveTo>
                  <a:lnTo>
                    <a:pt x="78" y="85"/>
                  </a:lnTo>
                  <a:lnTo>
                    <a:pt x="4" y="85"/>
                  </a:lnTo>
                  <a:lnTo>
                    <a:pt x="4" y="0"/>
                  </a:lnTo>
                  <a:lnTo>
                    <a:pt x="204" y="0"/>
                  </a:lnTo>
                  <a:lnTo>
                    <a:pt x="127" y="172"/>
                  </a:lnTo>
                  <a:lnTo>
                    <a:pt x="210" y="172"/>
                  </a:lnTo>
                  <a:lnTo>
                    <a:pt x="191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58760" y="726840"/>
              <a:ext cx="5256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4440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2" y="10"/>
                  </a:lnTo>
                  <a:lnTo>
                    <a:pt x="107" y="8"/>
                  </a:lnTo>
                  <a:lnTo>
                    <a:pt x="111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2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09" y="35"/>
                  </a:lnTo>
                  <a:lnTo>
                    <a:pt x="214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5" y="88"/>
                  </a:lnTo>
                  <a:lnTo>
                    <a:pt x="123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6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11120" y="792000"/>
              <a:ext cx="160200" cy="173160"/>
            </a:xfrm>
            <a:custGeom>
              <a:avLst/>
              <a:gdLst/>
              <a:ahLst/>
              <a:rect l="l" t="t" r="r" b="b"/>
              <a:pathLst>
                <a:path w="248" h="265">
                  <a:moveTo>
                    <a:pt x="77" y="134"/>
                  </a:moveTo>
                  <a:lnTo>
                    <a:pt x="156" y="78"/>
                  </a:lnTo>
                  <a:lnTo>
                    <a:pt x="155" y="77"/>
                  </a:lnTo>
                  <a:lnTo>
                    <a:pt x="153" y="76"/>
                  </a:lnTo>
                  <a:lnTo>
                    <a:pt x="152" y="75"/>
                  </a:lnTo>
                  <a:lnTo>
                    <a:pt x="151" y="73"/>
                  </a:lnTo>
                  <a:lnTo>
                    <a:pt x="149" y="72"/>
                  </a:lnTo>
                  <a:lnTo>
                    <a:pt x="147" y="71"/>
                  </a:lnTo>
                  <a:lnTo>
                    <a:pt x="145" y="71"/>
                  </a:lnTo>
                  <a:lnTo>
                    <a:pt x="144" y="70"/>
                  </a:lnTo>
                  <a:lnTo>
                    <a:pt x="142" y="70"/>
                  </a:lnTo>
                  <a:lnTo>
                    <a:pt x="140" y="69"/>
                  </a:lnTo>
                  <a:lnTo>
                    <a:pt x="139" y="69"/>
                  </a:lnTo>
                  <a:lnTo>
                    <a:pt x="137" y="68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3" y="68"/>
                  </a:lnTo>
                  <a:lnTo>
                    <a:pt x="118" y="69"/>
                  </a:lnTo>
                  <a:lnTo>
                    <a:pt x="114" y="70"/>
                  </a:lnTo>
                  <a:lnTo>
                    <a:pt x="109" y="72"/>
                  </a:lnTo>
                  <a:lnTo>
                    <a:pt x="104" y="75"/>
                  </a:lnTo>
                  <a:lnTo>
                    <a:pt x="100" y="78"/>
                  </a:lnTo>
                  <a:lnTo>
                    <a:pt x="96" y="81"/>
                  </a:lnTo>
                  <a:lnTo>
                    <a:pt x="92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2" y="98"/>
                  </a:lnTo>
                  <a:lnTo>
                    <a:pt x="80" y="102"/>
                  </a:lnTo>
                  <a:lnTo>
                    <a:pt x="78" y="106"/>
                  </a:lnTo>
                  <a:lnTo>
                    <a:pt x="77" y="111"/>
                  </a:lnTo>
                  <a:lnTo>
                    <a:pt x="76" y="117"/>
                  </a:lnTo>
                  <a:lnTo>
                    <a:pt x="76" y="122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6" y="124"/>
                  </a:lnTo>
                  <a:lnTo>
                    <a:pt x="76" y="125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6" y="127"/>
                  </a:lnTo>
                  <a:lnTo>
                    <a:pt x="76" y="128"/>
                  </a:lnTo>
                  <a:lnTo>
                    <a:pt x="76" y="129"/>
                  </a:lnTo>
                  <a:lnTo>
                    <a:pt x="76" y="129"/>
                  </a:lnTo>
                  <a:lnTo>
                    <a:pt x="77" y="130"/>
                  </a:lnTo>
                  <a:lnTo>
                    <a:pt x="77" y="131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3"/>
                  </a:lnTo>
                  <a:lnTo>
                    <a:pt x="77" y="134"/>
                  </a:lnTo>
                  <a:close/>
                  <a:moveTo>
                    <a:pt x="234" y="236"/>
                  </a:moveTo>
                  <a:lnTo>
                    <a:pt x="227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09" y="249"/>
                  </a:lnTo>
                  <a:lnTo>
                    <a:pt x="203" y="251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1"/>
                  </a:lnTo>
                  <a:lnTo>
                    <a:pt x="165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5" y="265"/>
                  </a:lnTo>
                  <a:lnTo>
                    <a:pt x="138" y="265"/>
                  </a:lnTo>
                  <a:lnTo>
                    <a:pt x="132" y="265"/>
                  </a:lnTo>
                  <a:lnTo>
                    <a:pt x="117" y="265"/>
                  </a:lnTo>
                  <a:lnTo>
                    <a:pt x="103" y="262"/>
                  </a:lnTo>
                  <a:lnTo>
                    <a:pt x="90" y="260"/>
                  </a:lnTo>
                  <a:lnTo>
                    <a:pt x="78" y="256"/>
                  </a:lnTo>
                  <a:lnTo>
                    <a:pt x="67" y="251"/>
                  </a:lnTo>
                  <a:lnTo>
                    <a:pt x="55" y="245"/>
                  </a:lnTo>
                  <a:lnTo>
                    <a:pt x="46" y="237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9" y="187"/>
                  </a:lnTo>
                  <a:lnTo>
                    <a:pt x="5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5" y="94"/>
                  </a:lnTo>
                  <a:lnTo>
                    <a:pt x="9" y="83"/>
                  </a:lnTo>
                  <a:lnTo>
                    <a:pt x="14" y="71"/>
                  </a:lnTo>
                  <a:lnTo>
                    <a:pt x="22" y="60"/>
                  </a:lnTo>
                  <a:lnTo>
                    <a:pt x="29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4" y="2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71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6" y="18"/>
                  </a:lnTo>
                  <a:lnTo>
                    <a:pt x="203" y="23"/>
                  </a:lnTo>
                  <a:lnTo>
                    <a:pt x="210" y="29"/>
                  </a:lnTo>
                  <a:lnTo>
                    <a:pt x="218" y="36"/>
                  </a:lnTo>
                  <a:lnTo>
                    <a:pt x="224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0" y="68"/>
                  </a:lnTo>
                  <a:lnTo>
                    <a:pt x="244" y="78"/>
                  </a:lnTo>
                  <a:lnTo>
                    <a:pt x="248" y="88"/>
                  </a:lnTo>
                  <a:lnTo>
                    <a:pt x="111" y="185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6" y="187"/>
                  </a:lnTo>
                  <a:lnTo>
                    <a:pt x="117" y="187"/>
                  </a:lnTo>
                  <a:lnTo>
                    <a:pt x="119" y="188"/>
                  </a:lnTo>
                  <a:lnTo>
                    <a:pt x="121" y="188"/>
                  </a:lnTo>
                  <a:lnTo>
                    <a:pt x="122" y="188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0" y="190"/>
                  </a:lnTo>
                  <a:lnTo>
                    <a:pt x="145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1" y="188"/>
                  </a:lnTo>
                  <a:lnTo>
                    <a:pt x="166" y="186"/>
                  </a:lnTo>
                  <a:lnTo>
                    <a:pt x="172" y="185"/>
                  </a:lnTo>
                  <a:lnTo>
                    <a:pt x="178" y="183"/>
                  </a:lnTo>
                  <a:lnTo>
                    <a:pt x="183" y="181"/>
                  </a:lnTo>
                  <a:lnTo>
                    <a:pt x="188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5" y="168"/>
                  </a:lnTo>
                  <a:lnTo>
                    <a:pt x="210" y="165"/>
                  </a:lnTo>
                  <a:lnTo>
                    <a:pt x="216" y="161"/>
                  </a:lnTo>
                  <a:lnTo>
                    <a:pt x="221" y="156"/>
                  </a:lnTo>
                  <a:lnTo>
                    <a:pt x="226" y="152"/>
                  </a:lnTo>
                  <a:lnTo>
                    <a:pt x="234" y="2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92088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3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4" y="268"/>
                  </a:lnTo>
                  <a:lnTo>
                    <a:pt x="157" y="265"/>
                  </a:lnTo>
                  <a:lnTo>
                    <a:pt x="161" y="261"/>
                  </a:lnTo>
                  <a:lnTo>
                    <a:pt x="164" y="258"/>
                  </a:lnTo>
                  <a:lnTo>
                    <a:pt x="167" y="254"/>
                  </a:lnTo>
                  <a:lnTo>
                    <a:pt x="169" y="251"/>
                  </a:lnTo>
                  <a:lnTo>
                    <a:pt x="171" y="247"/>
                  </a:lnTo>
                  <a:lnTo>
                    <a:pt x="172" y="242"/>
                  </a:lnTo>
                  <a:lnTo>
                    <a:pt x="173" y="237"/>
                  </a:lnTo>
                  <a:lnTo>
                    <a:pt x="173" y="233"/>
                  </a:lnTo>
                  <a:lnTo>
                    <a:pt x="174" y="229"/>
                  </a:lnTo>
                  <a:lnTo>
                    <a:pt x="173" y="224"/>
                  </a:lnTo>
                  <a:lnTo>
                    <a:pt x="173" y="219"/>
                  </a:lnTo>
                  <a:lnTo>
                    <a:pt x="172" y="215"/>
                  </a:lnTo>
                  <a:lnTo>
                    <a:pt x="171" y="211"/>
                  </a:lnTo>
                  <a:lnTo>
                    <a:pt x="169" y="207"/>
                  </a:lnTo>
                  <a:lnTo>
                    <a:pt x="167" y="203"/>
                  </a:lnTo>
                  <a:lnTo>
                    <a:pt x="164" y="198"/>
                  </a:lnTo>
                  <a:lnTo>
                    <a:pt x="161" y="195"/>
                  </a:lnTo>
                  <a:lnTo>
                    <a:pt x="157" y="192"/>
                  </a:lnTo>
                  <a:lnTo>
                    <a:pt x="154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3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1" y="182"/>
                  </a:lnTo>
                  <a:lnTo>
                    <a:pt x="116" y="183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5" y="189"/>
                  </a:lnTo>
                  <a:lnTo>
                    <a:pt x="102" y="191"/>
                  </a:lnTo>
                  <a:lnTo>
                    <a:pt x="99" y="194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6" y="224"/>
                  </a:lnTo>
                  <a:lnTo>
                    <a:pt x="85" y="229"/>
                  </a:lnTo>
                  <a:lnTo>
                    <a:pt x="86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5" y="258"/>
                  </a:lnTo>
                  <a:lnTo>
                    <a:pt x="99" y="261"/>
                  </a:lnTo>
                  <a:lnTo>
                    <a:pt x="102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6" y="274"/>
                  </a:lnTo>
                  <a:lnTo>
                    <a:pt x="121" y="275"/>
                  </a:lnTo>
                  <a:lnTo>
                    <a:pt x="125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1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2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7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100880" y="1145520"/>
              <a:ext cx="16668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8" y="341"/>
                  </a:moveTo>
                  <a:lnTo>
                    <a:pt x="92" y="246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1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8" y="3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87360" y="1145520"/>
              <a:ext cx="52560" cy="165960"/>
            </a:xfrm>
            <a:custGeom>
              <a:avLst/>
              <a:gdLst/>
              <a:ahLst/>
              <a:rect l="l" t="t" r="r" b="b"/>
              <a:pathLst>
                <a:path w="84" h="257">
                  <a:moveTo>
                    <a:pt x="0" y="93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93"/>
                  </a:lnTo>
                  <a:lnTo>
                    <a:pt x="0" y="93"/>
                  </a:lnTo>
                  <a:close/>
                  <a:moveTo>
                    <a:pt x="0" y="257"/>
                  </a:moveTo>
                  <a:lnTo>
                    <a:pt x="0" y="163"/>
                  </a:lnTo>
                  <a:lnTo>
                    <a:pt x="84" y="163"/>
                  </a:lnTo>
                  <a:lnTo>
                    <a:pt x="84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63760" y="1076760"/>
              <a:ext cx="156960" cy="238680"/>
            </a:xfrm>
            <a:custGeom>
              <a:avLst/>
              <a:gdLst/>
              <a:ahLst/>
              <a:rect l="l" t="t" r="r" b="b"/>
              <a:pathLst>
                <a:path w="243" h="369">
                  <a:moveTo>
                    <a:pt x="236" y="363"/>
                  </a:moveTo>
                  <a:lnTo>
                    <a:pt x="233" y="364"/>
                  </a:lnTo>
                  <a:lnTo>
                    <a:pt x="231" y="364"/>
                  </a:lnTo>
                  <a:lnTo>
                    <a:pt x="228" y="365"/>
                  </a:lnTo>
                  <a:lnTo>
                    <a:pt x="225" y="366"/>
                  </a:lnTo>
                  <a:lnTo>
                    <a:pt x="222" y="366"/>
                  </a:lnTo>
                  <a:lnTo>
                    <a:pt x="219" y="367"/>
                  </a:lnTo>
                  <a:lnTo>
                    <a:pt x="217" y="367"/>
                  </a:lnTo>
                  <a:lnTo>
                    <a:pt x="214" y="367"/>
                  </a:lnTo>
                  <a:lnTo>
                    <a:pt x="211" y="368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201" y="368"/>
                  </a:lnTo>
                  <a:lnTo>
                    <a:pt x="198" y="369"/>
                  </a:lnTo>
                  <a:lnTo>
                    <a:pt x="195" y="369"/>
                  </a:lnTo>
                  <a:lnTo>
                    <a:pt x="192" y="369"/>
                  </a:lnTo>
                  <a:lnTo>
                    <a:pt x="189" y="369"/>
                  </a:lnTo>
                  <a:lnTo>
                    <a:pt x="168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7"/>
                  </a:lnTo>
                  <a:lnTo>
                    <a:pt x="95" y="349"/>
                  </a:lnTo>
                  <a:lnTo>
                    <a:pt x="80" y="341"/>
                  </a:lnTo>
                  <a:lnTo>
                    <a:pt x="65" y="330"/>
                  </a:lnTo>
                  <a:lnTo>
                    <a:pt x="51" y="319"/>
                  </a:lnTo>
                  <a:lnTo>
                    <a:pt x="40" y="305"/>
                  </a:lnTo>
                  <a:lnTo>
                    <a:pt x="29" y="292"/>
                  </a:lnTo>
                  <a:lnTo>
                    <a:pt x="20" y="276"/>
                  </a:lnTo>
                  <a:lnTo>
                    <a:pt x="12" y="260"/>
                  </a:lnTo>
                  <a:lnTo>
                    <a:pt x="7" y="243"/>
                  </a:lnTo>
                  <a:lnTo>
                    <a:pt x="3" y="225"/>
                  </a:lnTo>
                  <a:lnTo>
                    <a:pt x="0" y="206"/>
                  </a:lnTo>
                  <a:lnTo>
                    <a:pt x="0" y="187"/>
                  </a:lnTo>
                  <a:lnTo>
                    <a:pt x="0" y="167"/>
                  </a:lnTo>
                  <a:lnTo>
                    <a:pt x="3" y="148"/>
                  </a:lnTo>
                  <a:lnTo>
                    <a:pt x="7" y="130"/>
                  </a:lnTo>
                  <a:lnTo>
                    <a:pt x="13" y="113"/>
                  </a:lnTo>
                  <a:lnTo>
                    <a:pt x="21" y="96"/>
                  </a:lnTo>
                  <a:lnTo>
                    <a:pt x="30" y="80"/>
                  </a:lnTo>
                  <a:lnTo>
                    <a:pt x="41" y="66"/>
                  </a:lnTo>
                  <a:lnTo>
                    <a:pt x="53" y="52"/>
                  </a:lnTo>
                  <a:lnTo>
                    <a:pt x="68" y="40"/>
                  </a:lnTo>
                  <a:lnTo>
                    <a:pt x="83" y="29"/>
                  </a:lnTo>
                  <a:lnTo>
                    <a:pt x="98" y="20"/>
                  </a:lnTo>
                  <a:lnTo>
                    <a:pt x="115" y="12"/>
                  </a:lnTo>
                  <a:lnTo>
                    <a:pt x="133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7" y="0"/>
                  </a:lnTo>
                  <a:lnTo>
                    <a:pt x="210" y="1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7" y="2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5" y="3"/>
                  </a:lnTo>
                  <a:lnTo>
                    <a:pt x="229" y="3"/>
                  </a:lnTo>
                  <a:lnTo>
                    <a:pt x="232" y="4"/>
                  </a:lnTo>
                  <a:lnTo>
                    <a:pt x="235" y="5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3" y="108"/>
                  </a:lnTo>
                  <a:lnTo>
                    <a:pt x="230" y="107"/>
                  </a:lnTo>
                  <a:lnTo>
                    <a:pt x="227" y="106"/>
                  </a:lnTo>
                  <a:lnTo>
                    <a:pt x="223" y="105"/>
                  </a:lnTo>
                  <a:lnTo>
                    <a:pt x="220" y="104"/>
                  </a:lnTo>
                  <a:lnTo>
                    <a:pt x="217" y="103"/>
                  </a:lnTo>
                  <a:lnTo>
                    <a:pt x="214" y="103"/>
                  </a:lnTo>
                  <a:lnTo>
                    <a:pt x="211" y="101"/>
                  </a:lnTo>
                  <a:lnTo>
                    <a:pt x="209" y="101"/>
                  </a:lnTo>
                  <a:lnTo>
                    <a:pt x="206" y="100"/>
                  </a:lnTo>
                  <a:lnTo>
                    <a:pt x="202" y="100"/>
                  </a:lnTo>
                  <a:lnTo>
                    <a:pt x="199" y="99"/>
                  </a:lnTo>
                  <a:lnTo>
                    <a:pt x="196" y="99"/>
                  </a:lnTo>
                  <a:lnTo>
                    <a:pt x="193" y="99"/>
                  </a:lnTo>
                  <a:lnTo>
                    <a:pt x="191" y="99"/>
                  </a:lnTo>
                  <a:lnTo>
                    <a:pt x="180" y="99"/>
                  </a:lnTo>
                  <a:lnTo>
                    <a:pt x="171" y="101"/>
                  </a:lnTo>
                  <a:lnTo>
                    <a:pt x="161" y="103"/>
                  </a:lnTo>
                  <a:lnTo>
                    <a:pt x="152" y="106"/>
                  </a:lnTo>
                  <a:lnTo>
                    <a:pt x="144" y="109"/>
                  </a:lnTo>
                  <a:lnTo>
                    <a:pt x="136" y="113"/>
                  </a:lnTo>
                  <a:lnTo>
                    <a:pt x="129" y="117"/>
                  </a:lnTo>
                  <a:lnTo>
                    <a:pt x="122" y="124"/>
                  </a:lnTo>
                  <a:lnTo>
                    <a:pt x="116" y="130"/>
                  </a:lnTo>
                  <a:lnTo>
                    <a:pt x="110" y="136"/>
                  </a:lnTo>
                  <a:lnTo>
                    <a:pt x="106" y="142"/>
                  </a:lnTo>
                  <a:lnTo>
                    <a:pt x="103" y="150"/>
                  </a:lnTo>
                  <a:lnTo>
                    <a:pt x="100" y="158"/>
                  </a:lnTo>
                  <a:lnTo>
                    <a:pt x="97" y="166"/>
                  </a:lnTo>
                  <a:lnTo>
                    <a:pt x="96" y="175"/>
                  </a:lnTo>
                  <a:lnTo>
                    <a:pt x="95" y="183"/>
                  </a:lnTo>
                  <a:lnTo>
                    <a:pt x="96" y="193"/>
                  </a:lnTo>
                  <a:lnTo>
                    <a:pt x="97" y="201"/>
                  </a:lnTo>
                  <a:lnTo>
                    <a:pt x="100" y="210"/>
                  </a:lnTo>
                  <a:lnTo>
                    <a:pt x="102" y="217"/>
                  </a:lnTo>
                  <a:lnTo>
                    <a:pt x="106" y="224"/>
                  </a:lnTo>
                  <a:lnTo>
                    <a:pt x="110" y="232"/>
                  </a:lnTo>
                  <a:lnTo>
                    <a:pt x="115" y="238"/>
                  </a:lnTo>
                  <a:lnTo>
                    <a:pt x="122" y="244"/>
                  </a:lnTo>
                  <a:lnTo>
                    <a:pt x="129" y="251"/>
                  </a:lnTo>
                  <a:lnTo>
                    <a:pt x="135" y="255"/>
                  </a:lnTo>
                  <a:lnTo>
                    <a:pt x="144" y="259"/>
                  </a:lnTo>
                  <a:lnTo>
                    <a:pt x="151" y="263"/>
                  </a:lnTo>
                  <a:lnTo>
                    <a:pt x="159" y="265"/>
                  </a:lnTo>
                  <a:lnTo>
                    <a:pt x="169" y="267"/>
                  </a:lnTo>
                  <a:lnTo>
                    <a:pt x="177" y="268"/>
                  </a:lnTo>
                  <a:lnTo>
                    <a:pt x="188" y="268"/>
                  </a:lnTo>
                  <a:lnTo>
                    <a:pt x="191" y="268"/>
                  </a:lnTo>
                  <a:lnTo>
                    <a:pt x="194" y="268"/>
                  </a:lnTo>
                  <a:lnTo>
                    <a:pt x="198" y="268"/>
                  </a:lnTo>
                  <a:lnTo>
                    <a:pt x="201" y="268"/>
                  </a:lnTo>
                  <a:lnTo>
                    <a:pt x="204" y="267"/>
                  </a:lnTo>
                  <a:lnTo>
                    <a:pt x="209" y="267"/>
                  </a:lnTo>
                  <a:lnTo>
                    <a:pt x="212" y="266"/>
                  </a:lnTo>
                  <a:lnTo>
                    <a:pt x="215" y="265"/>
                  </a:lnTo>
                  <a:lnTo>
                    <a:pt x="219" y="264"/>
                  </a:lnTo>
                  <a:lnTo>
                    <a:pt x="222" y="263"/>
                  </a:lnTo>
                  <a:lnTo>
                    <a:pt x="225" y="262"/>
                  </a:lnTo>
                  <a:lnTo>
                    <a:pt x="230" y="261"/>
                  </a:lnTo>
                  <a:lnTo>
                    <a:pt x="233" y="259"/>
                  </a:lnTo>
                  <a:lnTo>
                    <a:pt x="236" y="258"/>
                  </a:lnTo>
                  <a:lnTo>
                    <a:pt x="239" y="256"/>
                  </a:lnTo>
                  <a:lnTo>
                    <a:pt x="243" y="255"/>
                  </a:lnTo>
                  <a:lnTo>
                    <a:pt x="236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653840" y="1250280"/>
              <a:ext cx="55440" cy="612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735200" y="1079640"/>
              <a:ext cx="245520" cy="23184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0" y="357"/>
                  </a:moveTo>
                  <a:lnTo>
                    <a:pt x="45" y="0"/>
                  </a:lnTo>
                  <a:lnTo>
                    <a:pt x="120" y="0"/>
                  </a:lnTo>
                  <a:lnTo>
                    <a:pt x="183" y="158"/>
                  </a:lnTo>
                  <a:lnTo>
                    <a:pt x="247" y="0"/>
                  </a:lnTo>
                  <a:lnTo>
                    <a:pt x="321" y="0"/>
                  </a:lnTo>
                  <a:lnTo>
                    <a:pt x="372" y="357"/>
                  </a:lnTo>
                  <a:lnTo>
                    <a:pt x="277" y="357"/>
                  </a:lnTo>
                  <a:lnTo>
                    <a:pt x="257" y="193"/>
                  </a:lnTo>
                  <a:lnTo>
                    <a:pt x="187" y="358"/>
                  </a:lnTo>
                  <a:lnTo>
                    <a:pt x="112" y="193"/>
                  </a:lnTo>
                  <a:lnTo>
                    <a:pt x="9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007000" y="1250280"/>
              <a:ext cx="55440" cy="612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93840" y="1079640"/>
              <a:ext cx="17640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93" y="167"/>
                  </a:moveTo>
                  <a:lnTo>
                    <a:pt x="101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18" y="166"/>
                  </a:lnTo>
                  <a:lnTo>
                    <a:pt x="123" y="165"/>
                  </a:lnTo>
                  <a:lnTo>
                    <a:pt x="128" y="163"/>
                  </a:lnTo>
                  <a:lnTo>
                    <a:pt x="133" y="161"/>
                  </a:lnTo>
                  <a:lnTo>
                    <a:pt x="136" y="158"/>
                  </a:lnTo>
                  <a:lnTo>
                    <a:pt x="139" y="156"/>
                  </a:lnTo>
                  <a:lnTo>
                    <a:pt x="142" y="153"/>
                  </a:lnTo>
                  <a:lnTo>
                    <a:pt x="145" y="150"/>
                  </a:lnTo>
                  <a:lnTo>
                    <a:pt x="147" y="146"/>
                  </a:lnTo>
                  <a:lnTo>
                    <a:pt x="149" y="142"/>
                  </a:lnTo>
                  <a:lnTo>
                    <a:pt x="150" y="137"/>
                  </a:lnTo>
                  <a:lnTo>
                    <a:pt x="151" y="133"/>
                  </a:lnTo>
                  <a:lnTo>
                    <a:pt x="153" y="128"/>
                  </a:lnTo>
                  <a:lnTo>
                    <a:pt x="153" y="123"/>
                  </a:lnTo>
                  <a:lnTo>
                    <a:pt x="153" y="118"/>
                  </a:lnTo>
                  <a:lnTo>
                    <a:pt x="151" y="112"/>
                  </a:lnTo>
                  <a:lnTo>
                    <a:pt x="150" y="108"/>
                  </a:lnTo>
                  <a:lnTo>
                    <a:pt x="149" y="104"/>
                  </a:lnTo>
                  <a:lnTo>
                    <a:pt x="147" y="100"/>
                  </a:lnTo>
                  <a:lnTo>
                    <a:pt x="145" y="95"/>
                  </a:lnTo>
                  <a:lnTo>
                    <a:pt x="143" y="92"/>
                  </a:lnTo>
                  <a:lnTo>
                    <a:pt x="140" y="89"/>
                  </a:lnTo>
                  <a:lnTo>
                    <a:pt x="137" y="87"/>
                  </a:lnTo>
                  <a:lnTo>
                    <a:pt x="133" y="84"/>
                  </a:lnTo>
                  <a:lnTo>
                    <a:pt x="128" y="82"/>
                  </a:lnTo>
                  <a:lnTo>
                    <a:pt x="124" y="81"/>
                  </a:lnTo>
                  <a:lnTo>
                    <a:pt x="120" y="80"/>
                  </a:lnTo>
                  <a:lnTo>
                    <a:pt x="115" y="79"/>
                  </a:lnTo>
                  <a:lnTo>
                    <a:pt x="110" y="78"/>
                  </a:lnTo>
                  <a:lnTo>
                    <a:pt x="104" y="78"/>
                  </a:lnTo>
                  <a:lnTo>
                    <a:pt x="93" y="78"/>
                  </a:lnTo>
                  <a:lnTo>
                    <a:pt x="93" y="167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8"/>
                  </a:lnTo>
                  <a:lnTo>
                    <a:pt x="218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1" y="74"/>
                  </a:lnTo>
                  <a:lnTo>
                    <a:pt x="244" y="87"/>
                  </a:lnTo>
                  <a:lnTo>
                    <a:pt x="245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5" y="128"/>
                  </a:lnTo>
                  <a:lnTo>
                    <a:pt x="244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8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3" y="178"/>
                  </a:lnTo>
                  <a:lnTo>
                    <a:pt x="218" y="183"/>
                  </a:lnTo>
                  <a:lnTo>
                    <a:pt x="212" y="187"/>
                  </a:lnTo>
                  <a:lnTo>
                    <a:pt x="207" y="191"/>
                  </a:lnTo>
                  <a:lnTo>
                    <a:pt x="202" y="194"/>
                  </a:lnTo>
                  <a:lnTo>
                    <a:pt x="196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3" y="204"/>
                  </a:lnTo>
                  <a:lnTo>
                    <a:pt x="93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376360" y="1141920"/>
              <a:ext cx="17028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2" y="86"/>
                  </a:moveTo>
                  <a:lnTo>
                    <a:pt x="126" y="86"/>
                  </a:lnTo>
                  <a:lnTo>
                    <a:pt x="122" y="87"/>
                  </a:lnTo>
                  <a:lnTo>
                    <a:pt x="118" y="88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100" y="99"/>
                  </a:lnTo>
                  <a:lnTo>
                    <a:pt x="97" y="103"/>
                  </a:lnTo>
                  <a:lnTo>
                    <a:pt x="95" y="107"/>
                  </a:lnTo>
                  <a:lnTo>
                    <a:pt x="92" y="111"/>
                  </a:lnTo>
                  <a:lnTo>
                    <a:pt x="91" y="115"/>
                  </a:lnTo>
                  <a:lnTo>
                    <a:pt x="89" y="119"/>
                  </a:lnTo>
                  <a:lnTo>
                    <a:pt x="88" y="124"/>
                  </a:lnTo>
                  <a:lnTo>
                    <a:pt x="88" y="129"/>
                  </a:lnTo>
                  <a:lnTo>
                    <a:pt x="88" y="134"/>
                  </a:lnTo>
                  <a:lnTo>
                    <a:pt x="88" y="138"/>
                  </a:lnTo>
                  <a:lnTo>
                    <a:pt x="88" y="143"/>
                  </a:lnTo>
                  <a:lnTo>
                    <a:pt x="89" y="147"/>
                  </a:lnTo>
                  <a:lnTo>
                    <a:pt x="91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11" y="175"/>
                  </a:lnTo>
                  <a:lnTo>
                    <a:pt x="114" y="177"/>
                  </a:lnTo>
                  <a:lnTo>
                    <a:pt x="118" y="179"/>
                  </a:lnTo>
                  <a:lnTo>
                    <a:pt x="122" y="180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1" y="152"/>
                  </a:lnTo>
                  <a:lnTo>
                    <a:pt x="174" y="147"/>
                  </a:lnTo>
                  <a:lnTo>
                    <a:pt x="175" y="143"/>
                  </a:lnTo>
                  <a:lnTo>
                    <a:pt x="175" y="138"/>
                  </a:lnTo>
                  <a:lnTo>
                    <a:pt x="176" y="134"/>
                  </a:lnTo>
                  <a:lnTo>
                    <a:pt x="175" y="129"/>
                  </a:lnTo>
                  <a:lnTo>
                    <a:pt x="175" y="124"/>
                  </a:lnTo>
                  <a:lnTo>
                    <a:pt x="174" y="119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6" y="94"/>
                  </a:lnTo>
                  <a:lnTo>
                    <a:pt x="152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2" y="86"/>
                  </a:lnTo>
                  <a:close/>
                  <a:moveTo>
                    <a:pt x="132" y="0"/>
                  </a:moveTo>
                  <a:lnTo>
                    <a:pt x="144" y="0"/>
                  </a:lnTo>
                  <a:lnTo>
                    <a:pt x="158" y="3"/>
                  </a:lnTo>
                  <a:lnTo>
                    <a:pt x="169" y="6"/>
                  </a:lnTo>
                  <a:lnTo>
                    <a:pt x="182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60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60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5" y="237"/>
                  </a:lnTo>
                  <a:lnTo>
                    <a:pt x="204" y="244"/>
                  </a:lnTo>
                  <a:lnTo>
                    <a:pt x="194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9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570040" y="1079640"/>
              <a:ext cx="55440" cy="2318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14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107" y="196"/>
                  </a:moveTo>
                  <a:lnTo>
                    <a:pt x="110" y="196"/>
                  </a:lnTo>
                  <a:lnTo>
                    <a:pt x="113" y="195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8"/>
                  </a:lnTo>
                  <a:lnTo>
                    <a:pt x="128" y="185"/>
                  </a:lnTo>
                  <a:lnTo>
                    <a:pt x="129" y="183"/>
                  </a:lnTo>
                  <a:lnTo>
                    <a:pt x="131" y="181"/>
                  </a:lnTo>
                  <a:lnTo>
                    <a:pt x="133" y="179"/>
                  </a:lnTo>
                  <a:lnTo>
                    <a:pt x="134" y="177"/>
                  </a:lnTo>
                  <a:lnTo>
                    <a:pt x="134" y="174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4" y="163"/>
                  </a:lnTo>
                  <a:lnTo>
                    <a:pt x="134" y="161"/>
                  </a:lnTo>
                  <a:lnTo>
                    <a:pt x="133" y="158"/>
                  </a:lnTo>
                  <a:lnTo>
                    <a:pt x="131" y="156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6"/>
                  </a:lnTo>
                  <a:lnTo>
                    <a:pt x="120" y="145"/>
                  </a:lnTo>
                  <a:lnTo>
                    <a:pt x="118" y="143"/>
                  </a:lnTo>
                  <a:lnTo>
                    <a:pt x="116" y="142"/>
                  </a:lnTo>
                  <a:lnTo>
                    <a:pt x="113" y="142"/>
                  </a:lnTo>
                  <a:lnTo>
                    <a:pt x="110" y="141"/>
                  </a:lnTo>
                  <a:lnTo>
                    <a:pt x="107" y="141"/>
                  </a:lnTo>
                  <a:lnTo>
                    <a:pt x="105" y="141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8" y="143"/>
                  </a:lnTo>
                  <a:lnTo>
                    <a:pt x="95" y="145"/>
                  </a:lnTo>
                  <a:lnTo>
                    <a:pt x="93" y="146"/>
                  </a:lnTo>
                  <a:lnTo>
                    <a:pt x="91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6"/>
                  </a:lnTo>
                  <a:lnTo>
                    <a:pt x="83" y="158"/>
                  </a:lnTo>
                  <a:lnTo>
                    <a:pt x="82" y="161"/>
                  </a:lnTo>
                  <a:lnTo>
                    <a:pt x="81" y="163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4"/>
                  </a:lnTo>
                  <a:lnTo>
                    <a:pt x="82" y="177"/>
                  </a:lnTo>
                  <a:lnTo>
                    <a:pt x="83" y="179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6" y="187"/>
                  </a:lnTo>
                  <a:lnTo>
                    <a:pt x="88" y="188"/>
                  </a:lnTo>
                  <a:lnTo>
                    <a:pt x="91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100" y="195"/>
                  </a:lnTo>
                  <a:lnTo>
                    <a:pt x="102" y="195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0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89" y="262"/>
                  </a:lnTo>
                  <a:lnTo>
                    <a:pt x="85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49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1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6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4" y="92"/>
                  </a:lnTo>
                  <a:lnTo>
                    <a:pt x="62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5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8184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8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7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6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3" y="103"/>
                  </a:lnTo>
                  <a:lnTo>
                    <a:pt x="133" y="100"/>
                  </a:lnTo>
                  <a:lnTo>
                    <a:pt x="132" y="97"/>
                  </a:lnTo>
                  <a:lnTo>
                    <a:pt x="130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5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5" y="87"/>
                  </a:lnTo>
                  <a:lnTo>
                    <a:pt x="111" y="87"/>
                  </a:lnTo>
                  <a:lnTo>
                    <a:pt x="108" y="87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985480" y="1079640"/>
              <a:ext cx="172800" cy="235440"/>
            </a:xfrm>
            <a:custGeom>
              <a:avLst/>
              <a:gdLst/>
              <a:ahLst/>
              <a:rect l="l" t="t" r="r" b="b"/>
              <a:pathLst>
                <a:path w="268" h="360">
                  <a:moveTo>
                    <a:pt x="133" y="183"/>
                  </a:moveTo>
                  <a:lnTo>
                    <a:pt x="128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0" y="196"/>
                  </a:lnTo>
                  <a:lnTo>
                    <a:pt x="97" y="199"/>
                  </a:lnTo>
                  <a:lnTo>
                    <a:pt x="95" y="204"/>
                  </a:lnTo>
                  <a:lnTo>
                    <a:pt x="92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6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2" y="250"/>
                  </a:lnTo>
                  <a:lnTo>
                    <a:pt x="95" y="254"/>
                  </a:lnTo>
                  <a:lnTo>
                    <a:pt x="97" y="257"/>
                  </a:lnTo>
                  <a:lnTo>
                    <a:pt x="100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8" y="274"/>
                  </a:lnTo>
                  <a:lnTo>
                    <a:pt x="133" y="274"/>
                  </a:lnTo>
                  <a:lnTo>
                    <a:pt x="138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59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7" y="242"/>
                  </a:lnTo>
                  <a:lnTo>
                    <a:pt x="179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9" y="219"/>
                  </a:lnTo>
                  <a:lnTo>
                    <a:pt x="177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8" y="183"/>
                  </a:lnTo>
                  <a:lnTo>
                    <a:pt x="133" y="183"/>
                  </a:lnTo>
                  <a:close/>
                  <a:moveTo>
                    <a:pt x="185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3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3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2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4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3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8" y="0"/>
                  </a:lnTo>
                  <a:lnTo>
                    <a:pt x="268" y="357"/>
                  </a:lnTo>
                  <a:lnTo>
                    <a:pt x="185" y="357"/>
                  </a:lnTo>
                  <a:lnTo>
                    <a:pt x="185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74480" y="1250280"/>
              <a:ext cx="75600" cy="114120"/>
            </a:xfrm>
            <a:custGeom>
              <a:avLst/>
              <a:gdLst/>
              <a:ahLst/>
              <a:rect l="l" t="t" r="r" b="b"/>
              <a:pathLst>
                <a:path w="118" h="174">
                  <a:moveTo>
                    <a:pt x="0" y="174"/>
                  </a:moveTo>
                  <a:lnTo>
                    <a:pt x="40" y="0"/>
                  </a:lnTo>
                  <a:lnTo>
                    <a:pt x="118" y="0"/>
                  </a:lnTo>
                  <a:lnTo>
                    <a:pt x="76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380760" y="1079640"/>
              <a:ext cx="147600" cy="231840"/>
            </a:xfrm>
            <a:custGeom>
              <a:avLst/>
              <a:gdLst/>
              <a:ahLst/>
              <a:rect l="l" t="t" r="r" b="b"/>
              <a:pathLst>
                <a:path w="223" h="357">
                  <a:moveTo>
                    <a:pt x="223" y="258"/>
                  </a:moveTo>
                  <a:lnTo>
                    <a:pt x="198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213" y="94"/>
                  </a:lnTo>
                  <a:lnTo>
                    <a:pt x="92" y="94"/>
                  </a:lnTo>
                  <a:lnTo>
                    <a:pt x="92" y="131"/>
                  </a:lnTo>
                  <a:lnTo>
                    <a:pt x="173" y="131"/>
                  </a:lnTo>
                  <a:lnTo>
                    <a:pt x="173" y="226"/>
                  </a:lnTo>
                  <a:lnTo>
                    <a:pt x="92" y="226"/>
                  </a:lnTo>
                  <a:lnTo>
                    <a:pt x="92" y="258"/>
                  </a:lnTo>
                  <a:lnTo>
                    <a:pt x="223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54096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33" y="183"/>
                  </a:moveTo>
                  <a:lnTo>
                    <a:pt x="128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6"/>
                  </a:lnTo>
                  <a:lnTo>
                    <a:pt x="97" y="199"/>
                  </a:lnTo>
                  <a:lnTo>
                    <a:pt x="95" y="204"/>
                  </a:lnTo>
                  <a:lnTo>
                    <a:pt x="92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7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2" y="250"/>
                  </a:lnTo>
                  <a:lnTo>
                    <a:pt x="95" y="254"/>
                  </a:lnTo>
                  <a:lnTo>
                    <a:pt x="97" y="257"/>
                  </a:lnTo>
                  <a:lnTo>
                    <a:pt x="101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8" y="274"/>
                  </a:lnTo>
                  <a:lnTo>
                    <a:pt x="133" y="274"/>
                  </a:lnTo>
                  <a:lnTo>
                    <a:pt x="138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59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7" y="242"/>
                  </a:lnTo>
                  <a:lnTo>
                    <a:pt x="178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8" y="219"/>
                  </a:lnTo>
                  <a:lnTo>
                    <a:pt x="177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9" y="183"/>
                  </a:lnTo>
                  <a:lnTo>
                    <a:pt x="133" y="183"/>
                  </a:lnTo>
                  <a:close/>
                  <a:moveTo>
                    <a:pt x="186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4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4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747240" y="1079640"/>
              <a:ext cx="55440" cy="231840"/>
            </a:xfrm>
            <a:custGeom>
              <a:avLst/>
              <a:gdLst/>
              <a:ahLst/>
              <a:rect l="l" t="t" r="r" b="b"/>
              <a:pathLst>
                <a:path w="84" h="358">
                  <a:moveTo>
                    <a:pt x="0" y="358"/>
                  </a:moveTo>
                  <a:lnTo>
                    <a:pt x="0" y="101"/>
                  </a:lnTo>
                  <a:lnTo>
                    <a:pt x="84" y="101"/>
                  </a:lnTo>
                  <a:lnTo>
                    <a:pt x="84" y="358"/>
                  </a:lnTo>
                  <a:lnTo>
                    <a:pt x="0" y="358"/>
                  </a:lnTo>
                  <a:close/>
                  <a:moveTo>
                    <a:pt x="0" y="79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826080" y="1092960"/>
              <a:ext cx="91080" cy="2221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24" y="334"/>
                  </a:moveTo>
                  <a:lnTo>
                    <a:pt x="121" y="334"/>
                  </a:lnTo>
                  <a:lnTo>
                    <a:pt x="118" y="335"/>
                  </a:lnTo>
                  <a:lnTo>
                    <a:pt x="116" y="335"/>
                  </a:lnTo>
                  <a:lnTo>
                    <a:pt x="114" y="335"/>
                  </a:lnTo>
                  <a:lnTo>
                    <a:pt x="112" y="335"/>
                  </a:lnTo>
                  <a:lnTo>
                    <a:pt x="110" y="336"/>
                  </a:lnTo>
                  <a:lnTo>
                    <a:pt x="108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7" y="337"/>
                  </a:lnTo>
                  <a:lnTo>
                    <a:pt x="95" y="337"/>
                  </a:lnTo>
                  <a:lnTo>
                    <a:pt x="93" y="337"/>
                  </a:lnTo>
                  <a:lnTo>
                    <a:pt x="91" y="337"/>
                  </a:lnTo>
                  <a:lnTo>
                    <a:pt x="89" y="337"/>
                  </a:lnTo>
                  <a:lnTo>
                    <a:pt x="79" y="337"/>
                  </a:lnTo>
                  <a:lnTo>
                    <a:pt x="70" y="336"/>
                  </a:lnTo>
                  <a:lnTo>
                    <a:pt x="62" y="334"/>
                  </a:lnTo>
                  <a:lnTo>
                    <a:pt x="53" y="333"/>
                  </a:lnTo>
                  <a:lnTo>
                    <a:pt x="47" y="330"/>
                  </a:lnTo>
                  <a:lnTo>
                    <a:pt x="41" y="327"/>
                  </a:lnTo>
                  <a:lnTo>
                    <a:pt x="35" y="323"/>
                  </a:lnTo>
                  <a:lnTo>
                    <a:pt x="31" y="319"/>
                  </a:lnTo>
                  <a:lnTo>
                    <a:pt x="28" y="314"/>
                  </a:lnTo>
                  <a:lnTo>
                    <a:pt x="25" y="309"/>
                  </a:lnTo>
                  <a:lnTo>
                    <a:pt x="22" y="301"/>
                  </a:lnTo>
                  <a:lnTo>
                    <a:pt x="20" y="292"/>
                  </a:lnTo>
                  <a:lnTo>
                    <a:pt x="18" y="282"/>
                  </a:lnTo>
                  <a:lnTo>
                    <a:pt x="17" y="272"/>
                  </a:lnTo>
                  <a:lnTo>
                    <a:pt x="15" y="259"/>
                  </a:lnTo>
                  <a:lnTo>
                    <a:pt x="15" y="247"/>
                  </a:lnTo>
                  <a:lnTo>
                    <a:pt x="15" y="153"/>
                  </a:lnTo>
                  <a:lnTo>
                    <a:pt x="0" y="153"/>
                  </a:lnTo>
                  <a:lnTo>
                    <a:pt x="0" y="77"/>
                  </a:lnTo>
                  <a:lnTo>
                    <a:pt x="15" y="77"/>
                  </a:lnTo>
                  <a:lnTo>
                    <a:pt x="15" y="49"/>
                  </a:lnTo>
                  <a:lnTo>
                    <a:pt x="100" y="0"/>
                  </a:lnTo>
                  <a:lnTo>
                    <a:pt x="100" y="77"/>
                  </a:lnTo>
                  <a:lnTo>
                    <a:pt x="132" y="77"/>
                  </a:lnTo>
                  <a:lnTo>
                    <a:pt x="132" y="153"/>
                  </a:lnTo>
                  <a:lnTo>
                    <a:pt x="100" y="153"/>
                  </a:lnTo>
                  <a:lnTo>
                    <a:pt x="100" y="211"/>
                  </a:lnTo>
                  <a:lnTo>
                    <a:pt x="100" y="216"/>
                  </a:lnTo>
                  <a:lnTo>
                    <a:pt x="100" y="221"/>
                  </a:lnTo>
                  <a:lnTo>
                    <a:pt x="100" y="225"/>
                  </a:lnTo>
                  <a:lnTo>
                    <a:pt x="102" y="229"/>
                  </a:lnTo>
                  <a:lnTo>
                    <a:pt x="102" y="232"/>
                  </a:lnTo>
                  <a:lnTo>
                    <a:pt x="103" y="235"/>
                  </a:lnTo>
                  <a:lnTo>
                    <a:pt x="104" y="237"/>
                  </a:lnTo>
                  <a:lnTo>
                    <a:pt x="105" y="239"/>
                  </a:lnTo>
                  <a:lnTo>
                    <a:pt x="107" y="240"/>
                  </a:lnTo>
                  <a:lnTo>
                    <a:pt x="108" y="243"/>
                  </a:lnTo>
                  <a:lnTo>
                    <a:pt x="110" y="244"/>
                  </a:lnTo>
                  <a:lnTo>
                    <a:pt x="112" y="245"/>
                  </a:lnTo>
                  <a:lnTo>
                    <a:pt x="115" y="245"/>
                  </a:lnTo>
                  <a:lnTo>
                    <a:pt x="117" y="246"/>
                  </a:lnTo>
                  <a:lnTo>
                    <a:pt x="120" y="246"/>
                  </a:lnTo>
                  <a:lnTo>
                    <a:pt x="124" y="246"/>
                  </a:lnTo>
                  <a:lnTo>
                    <a:pt x="126" y="246"/>
                  </a:lnTo>
                  <a:lnTo>
                    <a:pt x="127" y="246"/>
                  </a:lnTo>
                  <a:lnTo>
                    <a:pt x="128" y="246"/>
                  </a:lnTo>
                  <a:lnTo>
                    <a:pt x="129" y="246"/>
                  </a:lnTo>
                  <a:lnTo>
                    <a:pt x="130" y="246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6" y="246"/>
                  </a:lnTo>
                  <a:lnTo>
                    <a:pt x="137" y="246"/>
                  </a:lnTo>
                  <a:lnTo>
                    <a:pt x="137" y="245"/>
                  </a:lnTo>
                  <a:lnTo>
                    <a:pt x="138" y="245"/>
                  </a:lnTo>
                  <a:lnTo>
                    <a:pt x="139" y="245"/>
                  </a:lnTo>
                  <a:lnTo>
                    <a:pt x="124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930480" y="1141920"/>
              <a:ext cx="17352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86"/>
                  </a:moveTo>
                  <a:lnTo>
                    <a:pt x="126" y="86"/>
                  </a:lnTo>
                  <a:lnTo>
                    <a:pt x="122" y="87"/>
                  </a:lnTo>
                  <a:lnTo>
                    <a:pt x="118" y="88"/>
                  </a:lnTo>
                  <a:lnTo>
                    <a:pt x="114" y="90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100" y="99"/>
                  </a:lnTo>
                  <a:lnTo>
                    <a:pt x="97" y="103"/>
                  </a:lnTo>
                  <a:lnTo>
                    <a:pt x="94" y="107"/>
                  </a:lnTo>
                  <a:lnTo>
                    <a:pt x="92" y="111"/>
                  </a:lnTo>
                  <a:lnTo>
                    <a:pt x="91" y="115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91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10" y="175"/>
                  </a:lnTo>
                  <a:lnTo>
                    <a:pt x="114" y="177"/>
                  </a:lnTo>
                  <a:lnTo>
                    <a:pt x="118" y="179"/>
                  </a:lnTo>
                  <a:lnTo>
                    <a:pt x="122" y="180"/>
                  </a:lnTo>
                  <a:lnTo>
                    <a:pt x="126" y="180"/>
                  </a:lnTo>
                  <a:lnTo>
                    <a:pt x="131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1" y="175"/>
                  </a:lnTo>
                  <a:lnTo>
                    <a:pt x="156" y="173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1" y="152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4" y="138"/>
                  </a:lnTo>
                  <a:lnTo>
                    <a:pt x="176" y="134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3" y="119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6" y="94"/>
                  </a:lnTo>
                  <a:lnTo>
                    <a:pt x="151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1" y="86"/>
                  </a:lnTo>
                  <a:close/>
                  <a:moveTo>
                    <a:pt x="131" y="0"/>
                  </a:moveTo>
                  <a:lnTo>
                    <a:pt x="144" y="0"/>
                  </a:lnTo>
                  <a:lnTo>
                    <a:pt x="157" y="3"/>
                  </a:lnTo>
                  <a:lnTo>
                    <a:pt x="169" y="6"/>
                  </a:lnTo>
                  <a:lnTo>
                    <a:pt x="181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69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0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7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8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127040" y="1141920"/>
              <a:ext cx="91080" cy="16956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0" y="259"/>
                  </a:moveTo>
                  <a:lnTo>
                    <a:pt x="0" y="2"/>
                  </a:lnTo>
                  <a:lnTo>
                    <a:pt x="85" y="2"/>
                  </a:lnTo>
                  <a:lnTo>
                    <a:pt x="85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8" y="13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1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1" y="89"/>
                  </a:lnTo>
                  <a:lnTo>
                    <a:pt x="116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3" y="95"/>
                  </a:lnTo>
                  <a:lnTo>
                    <a:pt x="100" y="97"/>
                  </a:lnTo>
                  <a:lnTo>
                    <a:pt x="97" y="100"/>
                  </a:lnTo>
                  <a:lnTo>
                    <a:pt x="94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5" y="136"/>
                  </a:lnTo>
                  <a:lnTo>
                    <a:pt x="85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268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0" y="86"/>
                  </a:moveTo>
                  <a:lnTo>
                    <a:pt x="126" y="86"/>
                  </a:lnTo>
                  <a:lnTo>
                    <a:pt x="121" y="87"/>
                  </a:lnTo>
                  <a:lnTo>
                    <a:pt x="117" y="88"/>
                  </a:lnTo>
                  <a:lnTo>
                    <a:pt x="113" y="90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99" y="99"/>
                  </a:lnTo>
                  <a:lnTo>
                    <a:pt x="96" y="103"/>
                  </a:lnTo>
                  <a:lnTo>
                    <a:pt x="93" y="107"/>
                  </a:lnTo>
                  <a:lnTo>
                    <a:pt x="91" y="111"/>
                  </a:lnTo>
                  <a:lnTo>
                    <a:pt x="89" y="115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9"/>
                  </a:lnTo>
                  <a:lnTo>
                    <a:pt x="86" y="134"/>
                  </a:lnTo>
                  <a:lnTo>
                    <a:pt x="87" y="138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89" y="152"/>
                  </a:lnTo>
                  <a:lnTo>
                    <a:pt x="91" y="156"/>
                  </a:lnTo>
                  <a:lnTo>
                    <a:pt x="93" y="160"/>
                  </a:lnTo>
                  <a:lnTo>
                    <a:pt x="96" y="163"/>
                  </a:lnTo>
                  <a:lnTo>
                    <a:pt x="99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09" y="175"/>
                  </a:lnTo>
                  <a:lnTo>
                    <a:pt x="113" y="177"/>
                  </a:lnTo>
                  <a:lnTo>
                    <a:pt x="117" y="179"/>
                  </a:lnTo>
                  <a:lnTo>
                    <a:pt x="121" y="180"/>
                  </a:lnTo>
                  <a:lnTo>
                    <a:pt x="126" y="180"/>
                  </a:lnTo>
                  <a:lnTo>
                    <a:pt x="130" y="180"/>
                  </a:lnTo>
                  <a:lnTo>
                    <a:pt x="135" y="180"/>
                  </a:lnTo>
                  <a:lnTo>
                    <a:pt x="139" y="180"/>
                  </a:lnTo>
                  <a:lnTo>
                    <a:pt x="143" y="179"/>
                  </a:lnTo>
                  <a:lnTo>
                    <a:pt x="147" y="177"/>
                  </a:lnTo>
                  <a:lnTo>
                    <a:pt x="151" y="175"/>
                  </a:lnTo>
                  <a:lnTo>
                    <a:pt x="154" y="173"/>
                  </a:lnTo>
                  <a:lnTo>
                    <a:pt x="158" y="170"/>
                  </a:lnTo>
                  <a:lnTo>
                    <a:pt x="161" y="166"/>
                  </a:lnTo>
                  <a:lnTo>
                    <a:pt x="164" y="163"/>
                  </a:lnTo>
                  <a:lnTo>
                    <a:pt x="167" y="159"/>
                  </a:lnTo>
                  <a:lnTo>
                    <a:pt x="169" y="156"/>
                  </a:lnTo>
                  <a:lnTo>
                    <a:pt x="171" y="152"/>
                  </a:lnTo>
                  <a:lnTo>
                    <a:pt x="172" y="147"/>
                  </a:lnTo>
                  <a:lnTo>
                    <a:pt x="174" y="143"/>
                  </a:lnTo>
                  <a:lnTo>
                    <a:pt x="174" y="138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2" y="119"/>
                  </a:lnTo>
                  <a:lnTo>
                    <a:pt x="171" y="115"/>
                  </a:lnTo>
                  <a:lnTo>
                    <a:pt x="169" y="111"/>
                  </a:lnTo>
                  <a:lnTo>
                    <a:pt x="167" y="108"/>
                  </a:lnTo>
                  <a:lnTo>
                    <a:pt x="164" y="103"/>
                  </a:lnTo>
                  <a:lnTo>
                    <a:pt x="161" y="100"/>
                  </a:lnTo>
                  <a:lnTo>
                    <a:pt x="158" y="97"/>
                  </a:lnTo>
                  <a:lnTo>
                    <a:pt x="154" y="94"/>
                  </a:lnTo>
                  <a:lnTo>
                    <a:pt x="151" y="92"/>
                  </a:lnTo>
                  <a:lnTo>
                    <a:pt x="147" y="90"/>
                  </a:lnTo>
                  <a:lnTo>
                    <a:pt x="143" y="88"/>
                  </a:lnTo>
                  <a:lnTo>
                    <a:pt x="139" y="87"/>
                  </a:lnTo>
                  <a:lnTo>
                    <a:pt x="135" y="86"/>
                  </a:lnTo>
                  <a:lnTo>
                    <a:pt x="130" y="86"/>
                  </a:lnTo>
                  <a:close/>
                  <a:moveTo>
                    <a:pt x="130" y="0"/>
                  </a:moveTo>
                  <a:lnTo>
                    <a:pt x="143" y="0"/>
                  </a:lnTo>
                  <a:lnTo>
                    <a:pt x="156" y="3"/>
                  </a:lnTo>
                  <a:lnTo>
                    <a:pt x="169" y="6"/>
                  </a:lnTo>
                  <a:lnTo>
                    <a:pt x="180" y="10"/>
                  </a:lnTo>
                  <a:lnTo>
                    <a:pt x="192" y="15"/>
                  </a:lnTo>
                  <a:lnTo>
                    <a:pt x="202" y="23"/>
                  </a:lnTo>
                  <a:lnTo>
                    <a:pt x="213" y="30"/>
                  </a:lnTo>
                  <a:lnTo>
                    <a:pt x="223" y="39"/>
                  </a:lnTo>
                  <a:lnTo>
                    <a:pt x="232" y="50"/>
                  </a:lnTo>
                  <a:lnTo>
                    <a:pt x="240" y="60"/>
                  </a:lnTo>
                  <a:lnTo>
                    <a:pt x="246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0" y="120"/>
                  </a:lnTo>
                  <a:lnTo>
                    <a:pt x="261" y="134"/>
                  </a:lnTo>
                  <a:lnTo>
                    <a:pt x="260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6" y="196"/>
                  </a:lnTo>
                  <a:lnTo>
                    <a:pt x="240" y="207"/>
                  </a:lnTo>
                  <a:lnTo>
                    <a:pt x="232" y="218"/>
                  </a:lnTo>
                  <a:lnTo>
                    <a:pt x="223" y="227"/>
                  </a:lnTo>
                  <a:lnTo>
                    <a:pt x="213" y="237"/>
                  </a:lnTo>
                  <a:lnTo>
                    <a:pt x="203" y="244"/>
                  </a:lnTo>
                  <a:lnTo>
                    <a:pt x="192" y="251"/>
                  </a:lnTo>
                  <a:lnTo>
                    <a:pt x="181" y="257"/>
                  </a:lnTo>
                  <a:lnTo>
                    <a:pt x="169" y="261"/>
                  </a:lnTo>
                  <a:lnTo>
                    <a:pt x="156" y="264"/>
                  </a:lnTo>
                  <a:lnTo>
                    <a:pt x="143" y="266"/>
                  </a:lnTo>
                  <a:lnTo>
                    <a:pt x="130" y="266"/>
                  </a:lnTo>
                  <a:lnTo>
                    <a:pt x="117" y="266"/>
                  </a:lnTo>
                  <a:lnTo>
                    <a:pt x="104" y="264"/>
                  </a:lnTo>
                  <a:lnTo>
                    <a:pt x="92" y="261"/>
                  </a:lnTo>
                  <a:lnTo>
                    <a:pt x="79" y="257"/>
                  </a:lnTo>
                  <a:lnTo>
                    <a:pt x="68" y="251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7"/>
                  </a:lnTo>
                  <a:lnTo>
                    <a:pt x="28" y="218"/>
                  </a:lnTo>
                  <a:lnTo>
                    <a:pt x="21" y="207"/>
                  </a:lnTo>
                  <a:lnTo>
                    <a:pt x="14" y="196"/>
                  </a:lnTo>
                  <a:lnTo>
                    <a:pt x="9" y="184"/>
                  </a:lnTo>
                  <a:lnTo>
                    <a:pt x="5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4" y="71"/>
                  </a:lnTo>
                  <a:lnTo>
                    <a:pt x="21" y="59"/>
                  </a:lnTo>
                  <a:lnTo>
                    <a:pt x="28" y="49"/>
                  </a:lnTo>
                  <a:lnTo>
                    <a:pt x="37" y="39"/>
                  </a:lnTo>
                  <a:lnTo>
                    <a:pt x="47" y="30"/>
                  </a:lnTo>
                  <a:lnTo>
                    <a:pt x="57" y="23"/>
                  </a:lnTo>
                  <a:lnTo>
                    <a:pt x="69" y="15"/>
                  </a:lnTo>
                  <a:lnTo>
                    <a:pt x="79" y="10"/>
                  </a:lnTo>
                  <a:lnTo>
                    <a:pt x="92" y="6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512960" y="1076760"/>
              <a:ext cx="94680" cy="234720"/>
            </a:xfrm>
            <a:custGeom>
              <a:avLst/>
              <a:gdLst/>
              <a:ahLst/>
              <a:rect l="l" t="t" r="r" b="b"/>
              <a:pathLst>
                <a:path w="142" h="360">
                  <a:moveTo>
                    <a:pt x="142" y="1"/>
                  </a:moveTo>
                  <a:lnTo>
                    <a:pt x="142" y="82"/>
                  </a:lnTo>
                  <a:lnTo>
                    <a:pt x="142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9" y="82"/>
                  </a:lnTo>
                  <a:lnTo>
                    <a:pt x="138" y="82"/>
                  </a:lnTo>
                  <a:lnTo>
                    <a:pt x="137" y="82"/>
                  </a:lnTo>
                  <a:lnTo>
                    <a:pt x="135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28" y="81"/>
                  </a:lnTo>
                  <a:lnTo>
                    <a:pt x="125" y="82"/>
                  </a:lnTo>
                  <a:lnTo>
                    <a:pt x="122" y="82"/>
                  </a:lnTo>
                  <a:lnTo>
                    <a:pt x="119" y="82"/>
                  </a:lnTo>
                  <a:lnTo>
                    <a:pt x="117" y="83"/>
                  </a:lnTo>
                  <a:lnTo>
                    <a:pt x="114" y="84"/>
                  </a:lnTo>
                  <a:lnTo>
                    <a:pt x="112" y="85"/>
                  </a:lnTo>
                  <a:lnTo>
                    <a:pt x="111" y="86"/>
                  </a:lnTo>
                  <a:lnTo>
                    <a:pt x="109" y="87"/>
                  </a:lnTo>
                  <a:lnTo>
                    <a:pt x="108" y="88"/>
                  </a:lnTo>
                  <a:lnTo>
                    <a:pt x="107" y="90"/>
                  </a:lnTo>
                  <a:lnTo>
                    <a:pt x="106" y="92"/>
                  </a:lnTo>
                  <a:lnTo>
                    <a:pt x="106" y="94"/>
                  </a:lnTo>
                  <a:lnTo>
                    <a:pt x="105" y="96"/>
                  </a:lnTo>
                  <a:lnTo>
                    <a:pt x="105" y="98"/>
                  </a:lnTo>
                  <a:lnTo>
                    <a:pt x="105" y="102"/>
                  </a:lnTo>
                  <a:lnTo>
                    <a:pt x="105" y="103"/>
                  </a:lnTo>
                  <a:lnTo>
                    <a:pt x="142" y="103"/>
                  </a:lnTo>
                  <a:lnTo>
                    <a:pt x="142" y="179"/>
                  </a:lnTo>
                  <a:lnTo>
                    <a:pt x="105" y="179"/>
                  </a:lnTo>
                  <a:lnTo>
                    <a:pt x="105" y="360"/>
                  </a:lnTo>
                  <a:lnTo>
                    <a:pt x="21" y="360"/>
                  </a:lnTo>
                  <a:lnTo>
                    <a:pt x="21" y="179"/>
                  </a:lnTo>
                  <a:lnTo>
                    <a:pt x="0" y="179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21" y="96"/>
                  </a:lnTo>
                  <a:lnTo>
                    <a:pt x="21" y="85"/>
                  </a:lnTo>
                  <a:lnTo>
                    <a:pt x="22" y="73"/>
                  </a:lnTo>
                  <a:lnTo>
                    <a:pt x="24" y="64"/>
                  </a:lnTo>
                  <a:lnTo>
                    <a:pt x="26" y="54"/>
                  </a:lnTo>
                  <a:lnTo>
                    <a:pt x="31" y="45"/>
                  </a:lnTo>
                  <a:lnTo>
                    <a:pt x="35" y="38"/>
                  </a:lnTo>
                  <a:lnTo>
                    <a:pt x="40" y="30"/>
                  </a:lnTo>
                  <a:lnTo>
                    <a:pt x="45" y="24"/>
                  </a:lnTo>
                  <a:lnTo>
                    <a:pt x="53" y="19"/>
                  </a:lnTo>
                  <a:lnTo>
                    <a:pt x="60" y="13"/>
                  </a:lnTo>
                  <a:lnTo>
                    <a:pt x="68" y="9"/>
                  </a:lnTo>
                  <a:lnTo>
                    <a:pt x="77" y="6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22120" y="1079640"/>
              <a:ext cx="17352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92" y="167"/>
                  </a:moveTo>
                  <a:lnTo>
                    <a:pt x="102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19" y="166"/>
                  </a:lnTo>
                  <a:lnTo>
                    <a:pt x="124" y="165"/>
                  </a:lnTo>
                  <a:lnTo>
                    <a:pt x="128" y="163"/>
                  </a:lnTo>
                  <a:lnTo>
                    <a:pt x="132" y="161"/>
                  </a:lnTo>
                  <a:lnTo>
                    <a:pt x="135" y="158"/>
                  </a:lnTo>
                  <a:lnTo>
                    <a:pt x="140" y="156"/>
                  </a:lnTo>
                  <a:lnTo>
                    <a:pt x="143" y="153"/>
                  </a:lnTo>
                  <a:lnTo>
                    <a:pt x="145" y="150"/>
                  </a:lnTo>
                  <a:lnTo>
                    <a:pt x="147" y="146"/>
                  </a:lnTo>
                  <a:lnTo>
                    <a:pt x="149" y="142"/>
                  </a:lnTo>
                  <a:lnTo>
                    <a:pt x="150" y="137"/>
                  </a:lnTo>
                  <a:lnTo>
                    <a:pt x="151" y="133"/>
                  </a:lnTo>
                  <a:lnTo>
                    <a:pt x="152" y="128"/>
                  </a:lnTo>
                  <a:lnTo>
                    <a:pt x="152" y="123"/>
                  </a:lnTo>
                  <a:lnTo>
                    <a:pt x="152" y="118"/>
                  </a:lnTo>
                  <a:lnTo>
                    <a:pt x="151" y="112"/>
                  </a:lnTo>
                  <a:lnTo>
                    <a:pt x="151" y="108"/>
                  </a:lnTo>
                  <a:lnTo>
                    <a:pt x="149" y="104"/>
                  </a:lnTo>
                  <a:lnTo>
                    <a:pt x="147" y="100"/>
                  </a:lnTo>
                  <a:lnTo>
                    <a:pt x="145" y="95"/>
                  </a:lnTo>
                  <a:lnTo>
                    <a:pt x="143" y="92"/>
                  </a:lnTo>
                  <a:lnTo>
                    <a:pt x="140" y="89"/>
                  </a:lnTo>
                  <a:lnTo>
                    <a:pt x="136" y="87"/>
                  </a:lnTo>
                  <a:lnTo>
                    <a:pt x="133" y="84"/>
                  </a:lnTo>
                  <a:lnTo>
                    <a:pt x="129" y="82"/>
                  </a:lnTo>
                  <a:lnTo>
                    <a:pt x="125" y="81"/>
                  </a:lnTo>
                  <a:lnTo>
                    <a:pt x="120" y="80"/>
                  </a:lnTo>
                  <a:lnTo>
                    <a:pt x="114" y="79"/>
                  </a:lnTo>
                  <a:lnTo>
                    <a:pt x="109" y="78"/>
                  </a:lnTo>
                  <a:lnTo>
                    <a:pt x="104" y="78"/>
                  </a:lnTo>
                  <a:lnTo>
                    <a:pt x="92" y="78"/>
                  </a:lnTo>
                  <a:lnTo>
                    <a:pt x="92" y="167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8" y="22"/>
                  </a:lnTo>
                  <a:lnTo>
                    <a:pt x="209" y="28"/>
                  </a:lnTo>
                  <a:lnTo>
                    <a:pt x="217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0" y="74"/>
                  </a:lnTo>
                  <a:lnTo>
                    <a:pt x="243" y="87"/>
                  </a:lnTo>
                  <a:lnTo>
                    <a:pt x="246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4" y="128"/>
                  </a:lnTo>
                  <a:lnTo>
                    <a:pt x="243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7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2" y="178"/>
                  </a:lnTo>
                  <a:lnTo>
                    <a:pt x="218" y="183"/>
                  </a:lnTo>
                  <a:lnTo>
                    <a:pt x="213" y="187"/>
                  </a:lnTo>
                  <a:lnTo>
                    <a:pt x="208" y="191"/>
                  </a:lnTo>
                  <a:lnTo>
                    <a:pt x="201" y="194"/>
                  </a:lnTo>
                  <a:lnTo>
                    <a:pt x="195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2" y="204"/>
                  </a:lnTo>
                  <a:lnTo>
                    <a:pt x="92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12200" y="1145520"/>
              <a:ext cx="143640" cy="169560"/>
            </a:xfrm>
            <a:custGeom>
              <a:avLst/>
              <a:gdLst/>
              <a:ahLst/>
              <a:rect l="l" t="t" r="r" b="b"/>
              <a:pathLst>
                <a:path w="220" h="261">
                  <a:moveTo>
                    <a:pt x="220" y="0"/>
                  </a:moveTo>
                  <a:lnTo>
                    <a:pt x="220" y="257"/>
                  </a:lnTo>
                  <a:lnTo>
                    <a:pt x="137" y="257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31" y="239"/>
                  </a:lnTo>
                  <a:lnTo>
                    <a:pt x="128" y="242"/>
                  </a:lnTo>
                  <a:lnTo>
                    <a:pt x="124" y="245"/>
                  </a:lnTo>
                  <a:lnTo>
                    <a:pt x="120" y="247"/>
                  </a:lnTo>
                  <a:lnTo>
                    <a:pt x="117" y="250"/>
                  </a:lnTo>
                  <a:lnTo>
                    <a:pt x="113" y="252"/>
                  </a:lnTo>
                  <a:lnTo>
                    <a:pt x="110" y="254"/>
                  </a:lnTo>
                  <a:lnTo>
                    <a:pt x="106" y="256"/>
                  </a:lnTo>
                  <a:lnTo>
                    <a:pt x="101" y="257"/>
                  </a:lnTo>
                  <a:lnTo>
                    <a:pt x="97" y="258"/>
                  </a:lnTo>
                  <a:lnTo>
                    <a:pt x="92" y="259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78" y="261"/>
                  </a:lnTo>
                  <a:lnTo>
                    <a:pt x="74" y="261"/>
                  </a:lnTo>
                  <a:lnTo>
                    <a:pt x="65" y="260"/>
                  </a:lnTo>
                  <a:lnTo>
                    <a:pt x="56" y="259"/>
                  </a:lnTo>
                  <a:lnTo>
                    <a:pt x="49" y="258"/>
                  </a:lnTo>
                  <a:lnTo>
                    <a:pt x="42" y="255"/>
                  </a:lnTo>
                  <a:lnTo>
                    <a:pt x="35" y="253"/>
                  </a:lnTo>
                  <a:lnTo>
                    <a:pt x="29" y="249"/>
                  </a:lnTo>
                  <a:lnTo>
                    <a:pt x="23" y="244"/>
                  </a:lnTo>
                  <a:lnTo>
                    <a:pt x="18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36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5" y="151"/>
                  </a:lnTo>
                  <a:lnTo>
                    <a:pt x="85" y="155"/>
                  </a:lnTo>
                  <a:lnTo>
                    <a:pt x="86" y="158"/>
                  </a:lnTo>
                  <a:lnTo>
                    <a:pt x="87" y="161"/>
                  </a:lnTo>
                  <a:lnTo>
                    <a:pt x="88" y="165"/>
                  </a:lnTo>
                  <a:lnTo>
                    <a:pt x="89" y="167"/>
                  </a:lnTo>
                  <a:lnTo>
                    <a:pt x="91" y="169"/>
                  </a:lnTo>
                  <a:lnTo>
                    <a:pt x="92" y="171"/>
                  </a:lnTo>
                  <a:lnTo>
                    <a:pt x="94" y="172"/>
                  </a:lnTo>
                  <a:lnTo>
                    <a:pt x="96" y="173"/>
                  </a:lnTo>
                  <a:lnTo>
                    <a:pt x="99" y="174"/>
                  </a:lnTo>
                  <a:lnTo>
                    <a:pt x="101" y="175"/>
                  </a:lnTo>
                  <a:lnTo>
                    <a:pt x="104" y="175"/>
                  </a:lnTo>
                  <a:lnTo>
                    <a:pt x="108" y="175"/>
                  </a:lnTo>
                  <a:lnTo>
                    <a:pt x="111" y="175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3"/>
                  </a:lnTo>
                  <a:lnTo>
                    <a:pt x="122" y="172"/>
                  </a:lnTo>
                  <a:lnTo>
                    <a:pt x="124" y="170"/>
                  </a:lnTo>
                  <a:lnTo>
                    <a:pt x="127" y="168"/>
                  </a:lnTo>
                  <a:lnTo>
                    <a:pt x="129" y="166"/>
                  </a:lnTo>
                  <a:lnTo>
                    <a:pt x="131" y="163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4" y="153"/>
                  </a:lnTo>
                  <a:lnTo>
                    <a:pt x="135" y="150"/>
                  </a:lnTo>
                  <a:lnTo>
                    <a:pt x="135" y="146"/>
                  </a:lnTo>
                  <a:lnTo>
                    <a:pt x="135" y="140"/>
                  </a:lnTo>
                  <a:lnTo>
                    <a:pt x="136" y="136"/>
                  </a:lnTo>
                  <a:lnTo>
                    <a:pt x="136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08572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2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3" y="268"/>
                  </a:lnTo>
                  <a:lnTo>
                    <a:pt x="157" y="265"/>
                  </a:lnTo>
                  <a:lnTo>
                    <a:pt x="161" y="261"/>
                  </a:lnTo>
                  <a:lnTo>
                    <a:pt x="164" y="258"/>
                  </a:lnTo>
                  <a:lnTo>
                    <a:pt x="166" y="254"/>
                  </a:lnTo>
                  <a:lnTo>
                    <a:pt x="168" y="251"/>
                  </a:lnTo>
                  <a:lnTo>
                    <a:pt x="170" y="247"/>
                  </a:lnTo>
                  <a:lnTo>
                    <a:pt x="171" y="242"/>
                  </a:lnTo>
                  <a:lnTo>
                    <a:pt x="172" y="237"/>
                  </a:lnTo>
                  <a:lnTo>
                    <a:pt x="173" y="233"/>
                  </a:lnTo>
                  <a:lnTo>
                    <a:pt x="173" y="229"/>
                  </a:lnTo>
                  <a:lnTo>
                    <a:pt x="173" y="224"/>
                  </a:lnTo>
                  <a:lnTo>
                    <a:pt x="172" y="219"/>
                  </a:lnTo>
                  <a:lnTo>
                    <a:pt x="171" y="215"/>
                  </a:lnTo>
                  <a:lnTo>
                    <a:pt x="170" y="211"/>
                  </a:lnTo>
                  <a:lnTo>
                    <a:pt x="168" y="207"/>
                  </a:lnTo>
                  <a:lnTo>
                    <a:pt x="166" y="203"/>
                  </a:lnTo>
                  <a:lnTo>
                    <a:pt x="164" y="198"/>
                  </a:lnTo>
                  <a:lnTo>
                    <a:pt x="161" y="195"/>
                  </a:lnTo>
                  <a:lnTo>
                    <a:pt x="157" y="192"/>
                  </a:lnTo>
                  <a:lnTo>
                    <a:pt x="153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2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0" y="182"/>
                  </a:lnTo>
                  <a:lnTo>
                    <a:pt x="117" y="183"/>
                  </a:lnTo>
                  <a:lnTo>
                    <a:pt x="112" y="185"/>
                  </a:lnTo>
                  <a:lnTo>
                    <a:pt x="108" y="187"/>
                  </a:lnTo>
                  <a:lnTo>
                    <a:pt x="105" y="189"/>
                  </a:lnTo>
                  <a:lnTo>
                    <a:pt x="101" y="191"/>
                  </a:lnTo>
                  <a:lnTo>
                    <a:pt x="98" y="194"/>
                  </a:lnTo>
                  <a:lnTo>
                    <a:pt x="94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5" y="224"/>
                  </a:lnTo>
                  <a:lnTo>
                    <a:pt x="85" y="229"/>
                  </a:lnTo>
                  <a:lnTo>
                    <a:pt x="85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4" y="258"/>
                  </a:lnTo>
                  <a:lnTo>
                    <a:pt x="98" y="261"/>
                  </a:lnTo>
                  <a:lnTo>
                    <a:pt x="101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5" y="274"/>
                  </a:lnTo>
                  <a:lnTo>
                    <a:pt x="120" y="275"/>
                  </a:lnTo>
                  <a:lnTo>
                    <a:pt x="124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0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1" y="101"/>
                  </a:lnTo>
                  <a:lnTo>
                    <a:pt x="115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1" y="97"/>
                  </a:lnTo>
                  <a:lnTo>
                    <a:pt x="135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1" y="101"/>
                  </a:lnTo>
                  <a:lnTo>
                    <a:pt x="191" y="105"/>
                  </a:lnTo>
                  <a:lnTo>
                    <a:pt x="202" y="110"/>
                  </a:lnTo>
                  <a:lnTo>
                    <a:pt x="211" y="116"/>
                  </a:lnTo>
                  <a:lnTo>
                    <a:pt x="220" y="124"/>
                  </a:lnTo>
                  <a:lnTo>
                    <a:pt x="229" y="132"/>
                  </a:lnTo>
                  <a:lnTo>
                    <a:pt x="236" y="141"/>
                  </a:lnTo>
                  <a:lnTo>
                    <a:pt x="243" y="151"/>
                  </a:lnTo>
                  <a:lnTo>
                    <a:pt x="249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59" y="254"/>
                  </a:lnTo>
                  <a:lnTo>
                    <a:pt x="256" y="268"/>
                  </a:lnTo>
                  <a:lnTo>
                    <a:pt x="253" y="280"/>
                  </a:lnTo>
                  <a:lnTo>
                    <a:pt x="247" y="292"/>
                  </a:lnTo>
                  <a:lnTo>
                    <a:pt x="240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4" y="332"/>
                  </a:lnTo>
                  <a:lnTo>
                    <a:pt x="204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19" y="361"/>
                  </a:lnTo>
                  <a:lnTo>
                    <a:pt x="111" y="361"/>
                  </a:lnTo>
                  <a:lnTo>
                    <a:pt x="103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8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6" y="330"/>
                  </a:lnTo>
                  <a:lnTo>
                    <a:pt x="32" y="325"/>
                  </a:lnTo>
                  <a:lnTo>
                    <a:pt x="27" y="320"/>
                  </a:lnTo>
                  <a:lnTo>
                    <a:pt x="23" y="316"/>
                  </a:lnTo>
                  <a:lnTo>
                    <a:pt x="20" y="311"/>
                  </a:lnTo>
                  <a:lnTo>
                    <a:pt x="17" y="307"/>
                  </a:lnTo>
                  <a:lnTo>
                    <a:pt x="15" y="301"/>
                  </a:lnTo>
                  <a:lnTo>
                    <a:pt x="12" y="296"/>
                  </a:lnTo>
                  <a:lnTo>
                    <a:pt x="9" y="291"/>
                  </a:lnTo>
                  <a:lnTo>
                    <a:pt x="7" y="284"/>
                  </a:lnTo>
                  <a:lnTo>
                    <a:pt x="6" y="279"/>
                  </a:lnTo>
                  <a:lnTo>
                    <a:pt x="4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27868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3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4" y="268"/>
                  </a:lnTo>
                  <a:lnTo>
                    <a:pt x="157" y="265"/>
                  </a:lnTo>
                  <a:lnTo>
                    <a:pt x="160" y="261"/>
                  </a:lnTo>
                  <a:lnTo>
                    <a:pt x="164" y="258"/>
                  </a:lnTo>
                  <a:lnTo>
                    <a:pt x="167" y="254"/>
                  </a:lnTo>
                  <a:lnTo>
                    <a:pt x="169" y="251"/>
                  </a:lnTo>
                  <a:lnTo>
                    <a:pt x="171" y="247"/>
                  </a:lnTo>
                  <a:lnTo>
                    <a:pt x="172" y="242"/>
                  </a:lnTo>
                  <a:lnTo>
                    <a:pt x="173" y="237"/>
                  </a:lnTo>
                  <a:lnTo>
                    <a:pt x="173" y="233"/>
                  </a:lnTo>
                  <a:lnTo>
                    <a:pt x="174" y="229"/>
                  </a:lnTo>
                  <a:lnTo>
                    <a:pt x="173" y="224"/>
                  </a:lnTo>
                  <a:lnTo>
                    <a:pt x="173" y="219"/>
                  </a:lnTo>
                  <a:lnTo>
                    <a:pt x="172" y="215"/>
                  </a:lnTo>
                  <a:lnTo>
                    <a:pt x="171" y="211"/>
                  </a:lnTo>
                  <a:lnTo>
                    <a:pt x="169" y="207"/>
                  </a:lnTo>
                  <a:lnTo>
                    <a:pt x="167" y="203"/>
                  </a:lnTo>
                  <a:lnTo>
                    <a:pt x="164" y="198"/>
                  </a:lnTo>
                  <a:lnTo>
                    <a:pt x="160" y="195"/>
                  </a:lnTo>
                  <a:lnTo>
                    <a:pt x="157" y="192"/>
                  </a:lnTo>
                  <a:lnTo>
                    <a:pt x="154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3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1" y="182"/>
                  </a:lnTo>
                  <a:lnTo>
                    <a:pt x="116" y="183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5" y="189"/>
                  </a:lnTo>
                  <a:lnTo>
                    <a:pt x="102" y="191"/>
                  </a:lnTo>
                  <a:lnTo>
                    <a:pt x="99" y="194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6" y="224"/>
                  </a:lnTo>
                  <a:lnTo>
                    <a:pt x="85" y="229"/>
                  </a:lnTo>
                  <a:lnTo>
                    <a:pt x="86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5" y="258"/>
                  </a:lnTo>
                  <a:lnTo>
                    <a:pt x="99" y="261"/>
                  </a:lnTo>
                  <a:lnTo>
                    <a:pt x="102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6" y="274"/>
                  </a:lnTo>
                  <a:lnTo>
                    <a:pt x="121" y="275"/>
                  </a:lnTo>
                  <a:lnTo>
                    <a:pt x="125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6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2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464800" y="1141920"/>
              <a:ext cx="16380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79" y="134"/>
                  </a:moveTo>
                  <a:lnTo>
                    <a:pt x="157" y="77"/>
                  </a:lnTo>
                  <a:lnTo>
                    <a:pt x="156" y="76"/>
                  </a:lnTo>
                  <a:lnTo>
                    <a:pt x="154" y="75"/>
                  </a:lnTo>
                  <a:lnTo>
                    <a:pt x="153" y="74"/>
                  </a:lnTo>
                  <a:lnTo>
                    <a:pt x="152" y="73"/>
                  </a:lnTo>
                  <a:lnTo>
                    <a:pt x="149" y="72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5" y="70"/>
                  </a:lnTo>
                  <a:lnTo>
                    <a:pt x="143" y="69"/>
                  </a:lnTo>
                  <a:lnTo>
                    <a:pt x="142" y="69"/>
                  </a:lnTo>
                  <a:lnTo>
                    <a:pt x="140" y="69"/>
                  </a:lnTo>
                  <a:lnTo>
                    <a:pt x="138" y="68"/>
                  </a:lnTo>
                  <a:lnTo>
                    <a:pt x="136" y="68"/>
                  </a:lnTo>
                  <a:lnTo>
                    <a:pt x="134" y="68"/>
                  </a:lnTo>
                  <a:lnTo>
                    <a:pt x="132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9" y="69"/>
                  </a:lnTo>
                  <a:lnTo>
                    <a:pt x="115" y="70"/>
                  </a:lnTo>
                  <a:lnTo>
                    <a:pt x="110" y="72"/>
                  </a:lnTo>
                  <a:lnTo>
                    <a:pt x="105" y="74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3" y="84"/>
                  </a:lnTo>
                  <a:lnTo>
                    <a:pt x="90" y="88"/>
                  </a:lnTo>
                  <a:lnTo>
                    <a:pt x="86" y="92"/>
                  </a:lnTo>
                  <a:lnTo>
                    <a:pt x="83" y="96"/>
                  </a:lnTo>
                  <a:lnTo>
                    <a:pt x="81" y="101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7" y="121"/>
                  </a:lnTo>
                  <a:lnTo>
                    <a:pt x="77" y="121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4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8" y="128"/>
                  </a:lnTo>
                  <a:lnTo>
                    <a:pt x="78" y="129"/>
                  </a:lnTo>
                  <a:lnTo>
                    <a:pt x="78" y="130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9" y="134"/>
                  </a:lnTo>
                  <a:close/>
                  <a:moveTo>
                    <a:pt x="234" y="235"/>
                  </a:moveTo>
                  <a:lnTo>
                    <a:pt x="228" y="239"/>
                  </a:lnTo>
                  <a:lnTo>
                    <a:pt x="223" y="242"/>
                  </a:lnTo>
                  <a:lnTo>
                    <a:pt x="217" y="245"/>
                  </a:lnTo>
                  <a:lnTo>
                    <a:pt x="210" y="248"/>
                  </a:lnTo>
                  <a:lnTo>
                    <a:pt x="205" y="250"/>
                  </a:lnTo>
                  <a:lnTo>
                    <a:pt x="199" y="253"/>
                  </a:lnTo>
                  <a:lnTo>
                    <a:pt x="192" y="255"/>
                  </a:lnTo>
                  <a:lnTo>
                    <a:pt x="186" y="257"/>
                  </a:lnTo>
                  <a:lnTo>
                    <a:pt x="180" y="259"/>
                  </a:lnTo>
                  <a:lnTo>
                    <a:pt x="173" y="260"/>
                  </a:lnTo>
                  <a:lnTo>
                    <a:pt x="166" y="262"/>
                  </a:lnTo>
                  <a:lnTo>
                    <a:pt x="160" y="262"/>
                  </a:lnTo>
                  <a:lnTo>
                    <a:pt x="153" y="263"/>
                  </a:lnTo>
                  <a:lnTo>
                    <a:pt x="146" y="264"/>
                  </a:lnTo>
                  <a:lnTo>
                    <a:pt x="139" y="264"/>
                  </a:lnTo>
                  <a:lnTo>
                    <a:pt x="133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9"/>
                  </a:lnTo>
                  <a:lnTo>
                    <a:pt x="79" y="256"/>
                  </a:lnTo>
                  <a:lnTo>
                    <a:pt x="68" y="250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8"/>
                  </a:lnTo>
                  <a:lnTo>
                    <a:pt x="29" y="219"/>
                  </a:lnTo>
                  <a:lnTo>
                    <a:pt x="21" y="208"/>
                  </a:lnTo>
                  <a:lnTo>
                    <a:pt x="15" y="198"/>
                  </a:lnTo>
                  <a:lnTo>
                    <a:pt x="10" y="186"/>
                  </a:lnTo>
                  <a:lnTo>
                    <a:pt x="6" y="175"/>
                  </a:lnTo>
                  <a:lnTo>
                    <a:pt x="3" y="162"/>
                  </a:lnTo>
                  <a:lnTo>
                    <a:pt x="1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0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8"/>
                  </a:lnTo>
                  <a:lnTo>
                    <a:pt x="49" y="29"/>
                  </a:lnTo>
                  <a:lnTo>
                    <a:pt x="59" y="22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4" y="5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1" y="5"/>
                  </a:lnTo>
                  <a:lnTo>
                    <a:pt x="180" y="8"/>
                  </a:lnTo>
                  <a:lnTo>
                    <a:pt x="188" y="12"/>
                  </a:lnTo>
                  <a:lnTo>
                    <a:pt x="197" y="17"/>
                  </a:lnTo>
                  <a:lnTo>
                    <a:pt x="205" y="23"/>
                  </a:lnTo>
                  <a:lnTo>
                    <a:pt x="212" y="29"/>
                  </a:lnTo>
                  <a:lnTo>
                    <a:pt x="219" y="35"/>
                  </a:lnTo>
                  <a:lnTo>
                    <a:pt x="225" y="43"/>
                  </a:lnTo>
                  <a:lnTo>
                    <a:pt x="231" y="50"/>
                  </a:lnTo>
                  <a:lnTo>
                    <a:pt x="237" y="58"/>
                  </a:lnTo>
                  <a:lnTo>
                    <a:pt x="241" y="68"/>
                  </a:lnTo>
                  <a:lnTo>
                    <a:pt x="245" y="77"/>
                  </a:lnTo>
                  <a:lnTo>
                    <a:pt x="249" y="88"/>
                  </a:lnTo>
                  <a:lnTo>
                    <a:pt x="112" y="184"/>
                  </a:lnTo>
                  <a:lnTo>
                    <a:pt x="114" y="184"/>
                  </a:lnTo>
                  <a:lnTo>
                    <a:pt x="115" y="185"/>
                  </a:lnTo>
                  <a:lnTo>
                    <a:pt x="117" y="185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2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9" y="189"/>
                  </a:lnTo>
                  <a:lnTo>
                    <a:pt x="131" y="189"/>
                  </a:lnTo>
                  <a:lnTo>
                    <a:pt x="133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4" y="184"/>
                  </a:lnTo>
                  <a:lnTo>
                    <a:pt x="179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6" y="174"/>
                  </a:lnTo>
                  <a:lnTo>
                    <a:pt x="201" y="171"/>
                  </a:lnTo>
                  <a:lnTo>
                    <a:pt x="206" y="168"/>
                  </a:lnTo>
                  <a:lnTo>
                    <a:pt x="211" y="164"/>
                  </a:lnTo>
                  <a:lnTo>
                    <a:pt x="217" y="160"/>
                  </a:lnTo>
                  <a:lnTo>
                    <a:pt x="222" y="156"/>
                  </a:lnTo>
                  <a:lnTo>
                    <a:pt x="228" y="151"/>
                  </a:lnTo>
                  <a:lnTo>
                    <a:pt x="234" y="2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648040" y="1141920"/>
              <a:ext cx="91800" cy="16956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259"/>
                  </a:moveTo>
                  <a:lnTo>
                    <a:pt x="0" y="2"/>
                  </a:lnTo>
                  <a:lnTo>
                    <a:pt x="84" y="2"/>
                  </a:lnTo>
                  <a:lnTo>
                    <a:pt x="84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1" y="18"/>
                  </a:lnTo>
                  <a:lnTo>
                    <a:pt x="94" y="16"/>
                  </a:lnTo>
                  <a:lnTo>
                    <a:pt x="97" y="13"/>
                  </a:lnTo>
                  <a:lnTo>
                    <a:pt x="100" y="11"/>
                  </a:lnTo>
                  <a:lnTo>
                    <a:pt x="103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4" y="4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0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0" y="89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2" y="95"/>
                  </a:lnTo>
                  <a:lnTo>
                    <a:pt x="99" y="97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4" y="136"/>
                  </a:lnTo>
                  <a:lnTo>
                    <a:pt x="84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860800" y="1079640"/>
              <a:ext cx="146880" cy="231840"/>
            </a:xfrm>
            <a:custGeom>
              <a:avLst/>
              <a:gdLst/>
              <a:ahLst/>
              <a:rect l="l" t="t" r="r" b="b"/>
              <a:pathLst>
                <a:path w="224" h="357">
                  <a:moveTo>
                    <a:pt x="224" y="258"/>
                  </a:moveTo>
                  <a:lnTo>
                    <a:pt x="195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92" y="0"/>
                  </a:lnTo>
                  <a:lnTo>
                    <a:pt x="92" y="258"/>
                  </a:lnTo>
                  <a:lnTo>
                    <a:pt x="224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0210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9" h="262">
                  <a:moveTo>
                    <a:pt x="107" y="196"/>
                  </a:moveTo>
                  <a:lnTo>
                    <a:pt x="111" y="196"/>
                  </a:lnTo>
                  <a:lnTo>
                    <a:pt x="113" y="195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8"/>
                  </a:lnTo>
                  <a:lnTo>
                    <a:pt x="128" y="185"/>
                  </a:lnTo>
                  <a:lnTo>
                    <a:pt x="130" y="183"/>
                  </a:lnTo>
                  <a:lnTo>
                    <a:pt x="131" y="181"/>
                  </a:lnTo>
                  <a:lnTo>
                    <a:pt x="133" y="179"/>
                  </a:lnTo>
                  <a:lnTo>
                    <a:pt x="134" y="177"/>
                  </a:lnTo>
                  <a:lnTo>
                    <a:pt x="134" y="174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4" y="163"/>
                  </a:lnTo>
                  <a:lnTo>
                    <a:pt x="134" y="161"/>
                  </a:lnTo>
                  <a:lnTo>
                    <a:pt x="133" y="158"/>
                  </a:lnTo>
                  <a:lnTo>
                    <a:pt x="131" y="156"/>
                  </a:lnTo>
                  <a:lnTo>
                    <a:pt x="130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6"/>
                  </a:lnTo>
                  <a:lnTo>
                    <a:pt x="120" y="145"/>
                  </a:lnTo>
                  <a:lnTo>
                    <a:pt x="118" y="143"/>
                  </a:lnTo>
                  <a:lnTo>
                    <a:pt x="116" y="142"/>
                  </a:lnTo>
                  <a:lnTo>
                    <a:pt x="113" y="142"/>
                  </a:lnTo>
                  <a:lnTo>
                    <a:pt x="111" y="141"/>
                  </a:lnTo>
                  <a:lnTo>
                    <a:pt x="107" y="141"/>
                  </a:lnTo>
                  <a:lnTo>
                    <a:pt x="105" y="141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8" y="143"/>
                  </a:lnTo>
                  <a:lnTo>
                    <a:pt x="96" y="145"/>
                  </a:lnTo>
                  <a:lnTo>
                    <a:pt x="94" y="146"/>
                  </a:lnTo>
                  <a:lnTo>
                    <a:pt x="92" y="148"/>
                  </a:lnTo>
                  <a:lnTo>
                    <a:pt x="90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6"/>
                  </a:lnTo>
                  <a:lnTo>
                    <a:pt x="83" y="158"/>
                  </a:lnTo>
                  <a:lnTo>
                    <a:pt x="82" y="161"/>
                  </a:lnTo>
                  <a:lnTo>
                    <a:pt x="82" y="163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2" y="174"/>
                  </a:lnTo>
                  <a:lnTo>
                    <a:pt x="82" y="177"/>
                  </a:lnTo>
                  <a:lnTo>
                    <a:pt x="83" y="179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7" y="187"/>
                  </a:lnTo>
                  <a:lnTo>
                    <a:pt x="88" y="188"/>
                  </a:lnTo>
                  <a:lnTo>
                    <a:pt x="91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8" y="194"/>
                  </a:lnTo>
                  <a:lnTo>
                    <a:pt x="100" y="195"/>
                  </a:lnTo>
                  <a:lnTo>
                    <a:pt x="102" y="195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1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6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50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7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2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5" y="124"/>
                  </a:lnTo>
                  <a:lnTo>
                    <a:pt x="19" y="116"/>
                  </a:lnTo>
                  <a:lnTo>
                    <a:pt x="26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5" y="92"/>
                  </a:lnTo>
                  <a:lnTo>
                    <a:pt x="63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7" y="86"/>
                  </a:lnTo>
                  <a:lnTo>
                    <a:pt x="99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1" y="89"/>
                  </a:lnTo>
                  <a:lnTo>
                    <a:pt x="113" y="89"/>
                  </a:lnTo>
                  <a:lnTo>
                    <a:pt x="116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6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7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6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1880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2" y="2"/>
                  </a:lnTo>
                  <a:lnTo>
                    <a:pt x="137" y="2"/>
                  </a:lnTo>
                  <a:lnTo>
                    <a:pt x="142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9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2" y="97"/>
                  </a:lnTo>
                  <a:lnTo>
                    <a:pt x="131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6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51480" y="1079640"/>
              <a:ext cx="17640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33" y="183"/>
                  </a:moveTo>
                  <a:lnTo>
                    <a:pt x="129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6"/>
                  </a:lnTo>
                  <a:lnTo>
                    <a:pt x="98" y="199"/>
                  </a:lnTo>
                  <a:lnTo>
                    <a:pt x="95" y="204"/>
                  </a:lnTo>
                  <a:lnTo>
                    <a:pt x="93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7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3" y="250"/>
                  </a:lnTo>
                  <a:lnTo>
                    <a:pt x="95" y="254"/>
                  </a:lnTo>
                  <a:lnTo>
                    <a:pt x="98" y="257"/>
                  </a:lnTo>
                  <a:lnTo>
                    <a:pt x="101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9" y="274"/>
                  </a:lnTo>
                  <a:lnTo>
                    <a:pt x="133" y="274"/>
                  </a:lnTo>
                  <a:lnTo>
                    <a:pt x="139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60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8" y="242"/>
                  </a:lnTo>
                  <a:lnTo>
                    <a:pt x="179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9" y="219"/>
                  </a:lnTo>
                  <a:lnTo>
                    <a:pt x="178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9" y="183"/>
                  </a:lnTo>
                  <a:lnTo>
                    <a:pt x="133" y="183"/>
                  </a:lnTo>
                  <a:close/>
                  <a:moveTo>
                    <a:pt x="186" y="334"/>
                  </a:moveTo>
                  <a:lnTo>
                    <a:pt x="182" y="337"/>
                  </a:lnTo>
                  <a:lnTo>
                    <a:pt x="178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9" y="352"/>
                  </a:lnTo>
                  <a:lnTo>
                    <a:pt x="154" y="354"/>
                  </a:lnTo>
                  <a:lnTo>
                    <a:pt x="150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2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5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4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5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30" y="97"/>
                  </a:lnTo>
                  <a:lnTo>
                    <a:pt x="135" y="97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4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5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8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639120" y="1079640"/>
              <a:ext cx="154080" cy="231840"/>
            </a:xfrm>
            <a:custGeom>
              <a:avLst/>
              <a:gdLst/>
              <a:ahLst/>
              <a:rect l="l" t="t" r="r" b="b"/>
              <a:pathLst>
                <a:path w="237" h="357">
                  <a:moveTo>
                    <a:pt x="164" y="90"/>
                  </a:moveTo>
                  <a:lnTo>
                    <a:pt x="164" y="357"/>
                  </a:lnTo>
                  <a:lnTo>
                    <a:pt x="72" y="357"/>
                  </a:lnTo>
                  <a:lnTo>
                    <a:pt x="72" y="90"/>
                  </a:lnTo>
                  <a:lnTo>
                    <a:pt x="0" y="90"/>
                  </a:lnTo>
                  <a:lnTo>
                    <a:pt x="9" y="0"/>
                  </a:lnTo>
                  <a:lnTo>
                    <a:pt x="227" y="0"/>
                  </a:lnTo>
                  <a:lnTo>
                    <a:pt x="237" y="90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780240" y="114192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78" y="134"/>
                  </a:moveTo>
                  <a:lnTo>
                    <a:pt x="155" y="77"/>
                  </a:lnTo>
                  <a:lnTo>
                    <a:pt x="154" y="76"/>
                  </a:lnTo>
                  <a:lnTo>
                    <a:pt x="153" y="75"/>
                  </a:lnTo>
                  <a:lnTo>
                    <a:pt x="152" y="74"/>
                  </a:lnTo>
                  <a:lnTo>
                    <a:pt x="150" y="73"/>
                  </a:lnTo>
                  <a:lnTo>
                    <a:pt x="149" y="72"/>
                  </a:lnTo>
                  <a:lnTo>
                    <a:pt x="147" y="71"/>
                  </a:lnTo>
                  <a:lnTo>
                    <a:pt x="146" y="71"/>
                  </a:lnTo>
                  <a:lnTo>
                    <a:pt x="144" y="70"/>
                  </a:lnTo>
                  <a:lnTo>
                    <a:pt x="143" y="69"/>
                  </a:lnTo>
                  <a:lnTo>
                    <a:pt x="141" y="69"/>
                  </a:lnTo>
                  <a:lnTo>
                    <a:pt x="138" y="69"/>
                  </a:lnTo>
                  <a:lnTo>
                    <a:pt x="136" y="68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8" y="69"/>
                  </a:lnTo>
                  <a:lnTo>
                    <a:pt x="113" y="70"/>
                  </a:lnTo>
                  <a:lnTo>
                    <a:pt x="109" y="72"/>
                  </a:lnTo>
                  <a:lnTo>
                    <a:pt x="105" y="74"/>
                  </a:lnTo>
                  <a:lnTo>
                    <a:pt x="100" y="76"/>
                  </a:lnTo>
                  <a:lnTo>
                    <a:pt x="95" y="80"/>
                  </a:lnTo>
                  <a:lnTo>
                    <a:pt x="92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2" y="96"/>
                  </a:lnTo>
                  <a:lnTo>
                    <a:pt x="80" y="101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7" y="121"/>
                  </a:lnTo>
                  <a:lnTo>
                    <a:pt x="77" y="121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4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7" y="128"/>
                  </a:lnTo>
                  <a:lnTo>
                    <a:pt x="77" y="129"/>
                  </a:lnTo>
                  <a:lnTo>
                    <a:pt x="77" y="130"/>
                  </a:lnTo>
                  <a:lnTo>
                    <a:pt x="77" y="131"/>
                  </a:lnTo>
                  <a:lnTo>
                    <a:pt x="77" y="131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8" y="134"/>
                  </a:lnTo>
                  <a:close/>
                  <a:moveTo>
                    <a:pt x="233" y="235"/>
                  </a:moveTo>
                  <a:lnTo>
                    <a:pt x="228" y="239"/>
                  </a:lnTo>
                  <a:lnTo>
                    <a:pt x="221" y="242"/>
                  </a:lnTo>
                  <a:lnTo>
                    <a:pt x="216" y="245"/>
                  </a:lnTo>
                  <a:lnTo>
                    <a:pt x="210" y="248"/>
                  </a:lnTo>
                  <a:lnTo>
                    <a:pt x="203" y="250"/>
                  </a:lnTo>
                  <a:lnTo>
                    <a:pt x="197" y="253"/>
                  </a:lnTo>
                  <a:lnTo>
                    <a:pt x="191" y="255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0"/>
                  </a:lnTo>
                  <a:lnTo>
                    <a:pt x="166" y="262"/>
                  </a:lnTo>
                  <a:lnTo>
                    <a:pt x="158" y="262"/>
                  </a:lnTo>
                  <a:lnTo>
                    <a:pt x="152" y="263"/>
                  </a:lnTo>
                  <a:lnTo>
                    <a:pt x="145" y="264"/>
                  </a:lnTo>
                  <a:lnTo>
                    <a:pt x="138" y="264"/>
                  </a:lnTo>
                  <a:lnTo>
                    <a:pt x="131" y="264"/>
                  </a:lnTo>
                  <a:lnTo>
                    <a:pt x="116" y="264"/>
                  </a:lnTo>
                  <a:lnTo>
                    <a:pt x="103" y="262"/>
                  </a:lnTo>
                  <a:lnTo>
                    <a:pt x="90" y="259"/>
                  </a:lnTo>
                  <a:lnTo>
                    <a:pt x="78" y="256"/>
                  </a:lnTo>
                  <a:lnTo>
                    <a:pt x="66" y="250"/>
                  </a:lnTo>
                  <a:lnTo>
                    <a:pt x="56" y="244"/>
                  </a:lnTo>
                  <a:lnTo>
                    <a:pt x="45" y="237"/>
                  </a:lnTo>
                  <a:lnTo>
                    <a:pt x="36" y="228"/>
                  </a:lnTo>
                  <a:lnTo>
                    <a:pt x="27" y="219"/>
                  </a:lnTo>
                  <a:lnTo>
                    <a:pt x="20" y="208"/>
                  </a:lnTo>
                  <a:lnTo>
                    <a:pt x="14" y="198"/>
                  </a:lnTo>
                  <a:lnTo>
                    <a:pt x="8" y="186"/>
                  </a:lnTo>
                  <a:lnTo>
                    <a:pt x="5" y="175"/>
                  </a:lnTo>
                  <a:lnTo>
                    <a:pt x="2" y="162"/>
                  </a:lnTo>
                  <a:lnTo>
                    <a:pt x="0" y="149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8" y="38"/>
                  </a:lnTo>
                  <a:lnTo>
                    <a:pt x="47" y="29"/>
                  </a:lnTo>
                  <a:lnTo>
                    <a:pt x="58" y="22"/>
                  </a:lnTo>
                  <a:lnTo>
                    <a:pt x="69" y="14"/>
                  </a:lnTo>
                  <a:lnTo>
                    <a:pt x="81" y="9"/>
                  </a:lnTo>
                  <a:lnTo>
                    <a:pt x="92" y="5"/>
                  </a:lnTo>
                  <a:lnTo>
                    <a:pt x="105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5"/>
                  </a:lnTo>
                  <a:lnTo>
                    <a:pt x="179" y="8"/>
                  </a:lnTo>
                  <a:lnTo>
                    <a:pt x="188" y="12"/>
                  </a:lnTo>
                  <a:lnTo>
                    <a:pt x="195" y="17"/>
                  </a:lnTo>
                  <a:lnTo>
                    <a:pt x="203" y="23"/>
                  </a:lnTo>
                  <a:lnTo>
                    <a:pt x="211" y="29"/>
                  </a:lnTo>
                  <a:lnTo>
                    <a:pt x="218" y="35"/>
                  </a:lnTo>
                  <a:lnTo>
                    <a:pt x="224" y="43"/>
                  </a:lnTo>
                  <a:lnTo>
                    <a:pt x="230" y="50"/>
                  </a:lnTo>
                  <a:lnTo>
                    <a:pt x="235" y="58"/>
                  </a:lnTo>
                  <a:lnTo>
                    <a:pt x="240" y="68"/>
                  </a:lnTo>
                  <a:lnTo>
                    <a:pt x="244" y="77"/>
                  </a:lnTo>
                  <a:lnTo>
                    <a:pt x="249" y="88"/>
                  </a:lnTo>
                  <a:lnTo>
                    <a:pt x="111" y="184"/>
                  </a:lnTo>
                  <a:lnTo>
                    <a:pt x="112" y="184"/>
                  </a:lnTo>
                  <a:lnTo>
                    <a:pt x="114" y="185"/>
                  </a:lnTo>
                  <a:lnTo>
                    <a:pt x="115" y="185"/>
                  </a:lnTo>
                  <a:lnTo>
                    <a:pt x="117" y="186"/>
                  </a:lnTo>
                  <a:lnTo>
                    <a:pt x="120" y="186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89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2" y="184"/>
                  </a:lnTo>
                  <a:lnTo>
                    <a:pt x="177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4" y="174"/>
                  </a:lnTo>
                  <a:lnTo>
                    <a:pt x="199" y="171"/>
                  </a:lnTo>
                  <a:lnTo>
                    <a:pt x="205" y="168"/>
                  </a:lnTo>
                  <a:lnTo>
                    <a:pt x="211" y="164"/>
                  </a:lnTo>
                  <a:lnTo>
                    <a:pt x="216" y="160"/>
                  </a:lnTo>
                  <a:lnTo>
                    <a:pt x="221" y="156"/>
                  </a:lnTo>
                  <a:lnTo>
                    <a:pt x="227" y="151"/>
                  </a:lnTo>
                  <a:lnTo>
                    <a:pt x="233" y="2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960240" y="1141920"/>
              <a:ext cx="114120" cy="173160"/>
            </a:xfrm>
            <a:custGeom>
              <a:avLst/>
              <a:gdLst/>
              <a:ahLst/>
              <a:rect l="l" t="t" r="r" b="b"/>
              <a:pathLst>
                <a:path w="176" h="264">
                  <a:moveTo>
                    <a:pt x="176" y="258"/>
                  </a:moveTo>
                  <a:lnTo>
                    <a:pt x="173" y="259"/>
                  </a:lnTo>
                  <a:lnTo>
                    <a:pt x="170" y="259"/>
                  </a:lnTo>
                  <a:lnTo>
                    <a:pt x="167" y="260"/>
                  </a:lnTo>
                  <a:lnTo>
                    <a:pt x="163" y="261"/>
                  </a:lnTo>
                  <a:lnTo>
                    <a:pt x="161" y="261"/>
                  </a:lnTo>
                  <a:lnTo>
                    <a:pt x="158" y="262"/>
                  </a:lnTo>
                  <a:lnTo>
                    <a:pt x="155" y="262"/>
                  </a:lnTo>
                  <a:lnTo>
                    <a:pt x="152" y="262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3" y="263"/>
                  </a:lnTo>
                  <a:lnTo>
                    <a:pt x="140" y="263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9"/>
                  </a:lnTo>
                  <a:lnTo>
                    <a:pt x="76" y="255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6"/>
                  </a:lnTo>
                  <a:lnTo>
                    <a:pt x="35" y="226"/>
                  </a:lnTo>
                  <a:lnTo>
                    <a:pt x="27" y="217"/>
                  </a:lnTo>
                  <a:lnTo>
                    <a:pt x="20" y="206"/>
                  </a:lnTo>
                  <a:lnTo>
                    <a:pt x="14" y="195"/>
                  </a:lnTo>
                  <a:lnTo>
                    <a:pt x="9" y="183"/>
                  </a:lnTo>
                  <a:lnTo>
                    <a:pt x="5" y="171"/>
                  </a:lnTo>
                  <a:lnTo>
                    <a:pt x="2" y="157"/>
                  </a:lnTo>
                  <a:lnTo>
                    <a:pt x="1" y="143"/>
                  </a:lnTo>
                  <a:lnTo>
                    <a:pt x="0" y="129"/>
                  </a:lnTo>
                  <a:lnTo>
                    <a:pt x="1" y="115"/>
                  </a:lnTo>
                  <a:lnTo>
                    <a:pt x="3" y="101"/>
                  </a:lnTo>
                  <a:lnTo>
                    <a:pt x="5" y="89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21" y="55"/>
                  </a:lnTo>
                  <a:lnTo>
                    <a:pt x="29" y="45"/>
                  </a:lnTo>
                  <a:lnTo>
                    <a:pt x="37" y="35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9" y="14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7" y="2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3"/>
                  </a:lnTo>
                  <a:lnTo>
                    <a:pt x="163" y="3"/>
                  </a:lnTo>
                  <a:lnTo>
                    <a:pt x="165" y="4"/>
                  </a:lnTo>
                  <a:lnTo>
                    <a:pt x="169" y="4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76" y="90"/>
                  </a:lnTo>
                  <a:lnTo>
                    <a:pt x="173" y="89"/>
                  </a:lnTo>
                  <a:lnTo>
                    <a:pt x="170" y="89"/>
                  </a:lnTo>
                  <a:lnTo>
                    <a:pt x="168" y="88"/>
                  </a:lnTo>
                  <a:lnTo>
                    <a:pt x="164" y="88"/>
                  </a:lnTo>
                  <a:lnTo>
                    <a:pt x="162" y="87"/>
                  </a:lnTo>
                  <a:lnTo>
                    <a:pt x="159" y="87"/>
                  </a:lnTo>
                  <a:lnTo>
                    <a:pt x="157" y="86"/>
                  </a:lnTo>
                  <a:lnTo>
                    <a:pt x="155" y="86"/>
                  </a:lnTo>
                  <a:lnTo>
                    <a:pt x="153" y="85"/>
                  </a:lnTo>
                  <a:lnTo>
                    <a:pt x="151" y="85"/>
                  </a:lnTo>
                  <a:lnTo>
                    <a:pt x="149" y="85"/>
                  </a:lnTo>
                  <a:lnTo>
                    <a:pt x="147" y="85"/>
                  </a:lnTo>
                  <a:lnTo>
                    <a:pt x="146" y="85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40" y="84"/>
                  </a:lnTo>
                  <a:lnTo>
                    <a:pt x="134" y="85"/>
                  </a:lnTo>
                  <a:lnTo>
                    <a:pt x="128" y="85"/>
                  </a:lnTo>
                  <a:lnTo>
                    <a:pt x="122" y="86"/>
                  </a:lnTo>
                  <a:lnTo>
                    <a:pt x="117" y="87"/>
                  </a:lnTo>
                  <a:lnTo>
                    <a:pt x="113" y="89"/>
                  </a:lnTo>
                  <a:lnTo>
                    <a:pt x="108" y="91"/>
                  </a:lnTo>
                  <a:lnTo>
                    <a:pt x="105" y="93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9" y="116"/>
                  </a:lnTo>
                  <a:lnTo>
                    <a:pt x="88" y="120"/>
                  </a:lnTo>
                  <a:lnTo>
                    <a:pt x="87" y="126"/>
                  </a:lnTo>
                  <a:lnTo>
                    <a:pt x="87" y="131"/>
                  </a:lnTo>
                  <a:lnTo>
                    <a:pt x="87" y="136"/>
                  </a:lnTo>
                  <a:lnTo>
                    <a:pt x="88" y="141"/>
                  </a:lnTo>
                  <a:lnTo>
                    <a:pt x="89" y="145"/>
                  </a:lnTo>
                  <a:lnTo>
                    <a:pt x="90" y="151"/>
                  </a:lnTo>
                  <a:lnTo>
                    <a:pt x="92" y="155"/>
                  </a:lnTo>
                  <a:lnTo>
                    <a:pt x="95" y="158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9"/>
                  </a:lnTo>
                  <a:lnTo>
                    <a:pt x="109" y="172"/>
                  </a:lnTo>
                  <a:lnTo>
                    <a:pt x="114" y="174"/>
                  </a:lnTo>
                  <a:lnTo>
                    <a:pt x="118" y="176"/>
                  </a:lnTo>
                  <a:lnTo>
                    <a:pt x="124" y="177"/>
                  </a:lnTo>
                  <a:lnTo>
                    <a:pt x="129" y="178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8"/>
                  </a:lnTo>
                  <a:lnTo>
                    <a:pt x="150" y="178"/>
                  </a:lnTo>
                  <a:lnTo>
                    <a:pt x="152" y="178"/>
                  </a:lnTo>
                  <a:lnTo>
                    <a:pt x="154" y="178"/>
                  </a:lnTo>
                  <a:lnTo>
                    <a:pt x="156" y="178"/>
                  </a:lnTo>
                  <a:lnTo>
                    <a:pt x="158" y="178"/>
                  </a:lnTo>
                  <a:lnTo>
                    <a:pt x="160" y="177"/>
                  </a:lnTo>
                  <a:lnTo>
                    <a:pt x="162" y="177"/>
                  </a:lnTo>
                  <a:lnTo>
                    <a:pt x="164" y="177"/>
                  </a:lnTo>
                  <a:lnTo>
                    <a:pt x="168" y="176"/>
                  </a:lnTo>
                  <a:lnTo>
                    <a:pt x="170" y="176"/>
                  </a:lnTo>
                  <a:lnTo>
                    <a:pt x="173" y="175"/>
                  </a:lnTo>
                  <a:lnTo>
                    <a:pt x="176" y="175"/>
                  </a:lnTo>
                  <a:lnTo>
                    <a:pt x="17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100640" y="1079640"/>
              <a:ext cx="143640" cy="231840"/>
            </a:xfrm>
            <a:custGeom>
              <a:avLst/>
              <a:gdLst/>
              <a:ahLst/>
              <a:rect l="l" t="t" r="r" b="b"/>
              <a:pathLst>
                <a:path w="220" h="357">
                  <a:moveTo>
                    <a:pt x="0" y="357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3" y="114"/>
                  </a:lnTo>
                  <a:lnTo>
                    <a:pt x="96" y="111"/>
                  </a:lnTo>
                  <a:lnTo>
                    <a:pt x="100" y="109"/>
                  </a:lnTo>
                  <a:lnTo>
                    <a:pt x="104" y="107"/>
                  </a:lnTo>
                  <a:lnTo>
                    <a:pt x="107" y="105"/>
                  </a:lnTo>
                  <a:lnTo>
                    <a:pt x="111" y="103"/>
                  </a:lnTo>
                  <a:lnTo>
                    <a:pt x="115" y="101"/>
                  </a:lnTo>
                  <a:lnTo>
                    <a:pt x="120" y="100"/>
                  </a:lnTo>
                  <a:lnTo>
                    <a:pt x="124" y="99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5"/>
                  </a:lnTo>
                  <a:lnTo>
                    <a:pt x="155" y="97"/>
                  </a:lnTo>
                  <a:lnTo>
                    <a:pt x="164" y="98"/>
                  </a:lnTo>
                  <a:lnTo>
                    <a:pt x="172" y="99"/>
                  </a:lnTo>
                  <a:lnTo>
                    <a:pt x="178" y="102"/>
                  </a:lnTo>
                  <a:lnTo>
                    <a:pt x="186" y="105"/>
                  </a:lnTo>
                  <a:lnTo>
                    <a:pt x="191" y="108"/>
                  </a:lnTo>
                  <a:lnTo>
                    <a:pt x="197" y="113"/>
                  </a:lnTo>
                  <a:lnTo>
                    <a:pt x="201" y="118"/>
                  </a:lnTo>
                  <a:lnTo>
                    <a:pt x="207" y="124"/>
                  </a:lnTo>
                  <a:lnTo>
                    <a:pt x="210" y="130"/>
                  </a:lnTo>
                  <a:lnTo>
                    <a:pt x="213" y="137"/>
                  </a:lnTo>
                  <a:lnTo>
                    <a:pt x="216" y="146"/>
                  </a:lnTo>
                  <a:lnTo>
                    <a:pt x="218" y="154"/>
                  </a:lnTo>
                  <a:lnTo>
                    <a:pt x="219" y="163"/>
                  </a:lnTo>
                  <a:lnTo>
                    <a:pt x="220" y="173"/>
                  </a:lnTo>
                  <a:lnTo>
                    <a:pt x="220" y="184"/>
                  </a:lnTo>
                  <a:lnTo>
                    <a:pt x="220" y="357"/>
                  </a:lnTo>
                  <a:lnTo>
                    <a:pt x="136" y="357"/>
                  </a:lnTo>
                  <a:lnTo>
                    <a:pt x="136" y="220"/>
                  </a:lnTo>
                  <a:lnTo>
                    <a:pt x="136" y="215"/>
                  </a:lnTo>
                  <a:lnTo>
                    <a:pt x="135" y="210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8"/>
                  </a:lnTo>
                  <a:lnTo>
                    <a:pt x="133" y="195"/>
                  </a:lnTo>
                  <a:lnTo>
                    <a:pt x="132" y="192"/>
                  </a:lnTo>
                  <a:lnTo>
                    <a:pt x="131" y="190"/>
                  </a:lnTo>
                  <a:lnTo>
                    <a:pt x="129" y="188"/>
                  </a:lnTo>
                  <a:lnTo>
                    <a:pt x="127" y="186"/>
                  </a:lnTo>
                  <a:lnTo>
                    <a:pt x="126" y="185"/>
                  </a:lnTo>
                  <a:lnTo>
                    <a:pt x="124" y="184"/>
                  </a:lnTo>
                  <a:lnTo>
                    <a:pt x="121" y="183"/>
                  </a:lnTo>
                  <a:lnTo>
                    <a:pt x="119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2"/>
                  </a:lnTo>
                  <a:lnTo>
                    <a:pt x="103" y="183"/>
                  </a:lnTo>
                  <a:lnTo>
                    <a:pt x="100" y="184"/>
                  </a:lnTo>
                  <a:lnTo>
                    <a:pt x="98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1" y="191"/>
                  </a:lnTo>
                  <a:lnTo>
                    <a:pt x="90" y="194"/>
                  </a:lnTo>
                  <a:lnTo>
                    <a:pt x="88" y="197"/>
                  </a:lnTo>
                  <a:lnTo>
                    <a:pt x="87" y="200"/>
                  </a:lnTo>
                  <a:lnTo>
                    <a:pt x="86" y="204"/>
                  </a:lnTo>
                  <a:lnTo>
                    <a:pt x="85" y="208"/>
                  </a:lnTo>
                  <a:lnTo>
                    <a:pt x="85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4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274160" y="1141920"/>
              <a:ext cx="146880" cy="169560"/>
            </a:xfrm>
            <a:custGeom>
              <a:avLst/>
              <a:gdLst/>
              <a:ahLst/>
              <a:rect l="l" t="t" r="r" b="b"/>
              <a:pathLst>
                <a:path w="222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90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100" y="14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3"/>
                  </a:lnTo>
                  <a:lnTo>
                    <a:pt x="198" y="18"/>
                  </a:lnTo>
                  <a:lnTo>
                    <a:pt x="203" y="23"/>
                  </a:lnTo>
                  <a:lnTo>
                    <a:pt x="207" y="29"/>
                  </a:lnTo>
                  <a:lnTo>
                    <a:pt x="211" y="35"/>
                  </a:lnTo>
                  <a:lnTo>
                    <a:pt x="215" y="42"/>
                  </a:lnTo>
                  <a:lnTo>
                    <a:pt x="217" y="51"/>
                  </a:lnTo>
                  <a:lnTo>
                    <a:pt x="219" y="59"/>
                  </a:lnTo>
                  <a:lnTo>
                    <a:pt x="221" y="68"/>
                  </a:lnTo>
                  <a:lnTo>
                    <a:pt x="221" y="78"/>
                  </a:lnTo>
                  <a:lnTo>
                    <a:pt x="222" y="89"/>
                  </a:lnTo>
                  <a:lnTo>
                    <a:pt x="222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7" y="115"/>
                  </a:lnTo>
                  <a:lnTo>
                    <a:pt x="136" y="111"/>
                  </a:lnTo>
                  <a:lnTo>
                    <a:pt x="136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3" y="97"/>
                  </a:lnTo>
                  <a:lnTo>
                    <a:pt x="132" y="95"/>
                  </a:lnTo>
                  <a:lnTo>
                    <a:pt x="131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9"/>
                  </a:lnTo>
                  <a:lnTo>
                    <a:pt x="121" y="88"/>
                  </a:lnTo>
                  <a:lnTo>
                    <a:pt x="119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10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1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3" y="96"/>
                  </a:lnTo>
                  <a:lnTo>
                    <a:pt x="91" y="99"/>
                  </a:lnTo>
                  <a:lnTo>
                    <a:pt x="90" y="102"/>
                  </a:lnTo>
                  <a:lnTo>
                    <a:pt x="88" y="105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5" y="117"/>
                  </a:lnTo>
                  <a:lnTo>
                    <a:pt x="85" y="121"/>
                  </a:lnTo>
                  <a:lnTo>
                    <a:pt x="85" y="125"/>
                  </a:lnTo>
                  <a:lnTo>
                    <a:pt x="85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44120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3" h="266">
                  <a:moveTo>
                    <a:pt x="132" y="86"/>
                  </a:moveTo>
                  <a:lnTo>
                    <a:pt x="127" y="86"/>
                  </a:lnTo>
                  <a:lnTo>
                    <a:pt x="123" y="87"/>
                  </a:lnTo>
                  <a:lnTo>
                    <a:pt x="119" y="88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4"/>
                  </a:lnTo>
                  <a:lnTo>
                    <a:pt x="104" y="96"/>
                  </a:lnTo>
                  <a:lnTo>
                    <a:pt x="100" y="99"/>
                  </a:lnTo>
                  <a:lnTo>
                    <a:pt x="98" y="103"/>
                  </a:lnTo>
                  <a:lnTo>
                    <a:pt x="95" y="107"/>
                  </a:lnTo>
                  <a:lnTo>
                    <a:pt x="93" y="111"/>
                  </a:lnTo>
                  <a:lnTo>
                    <a:pt x="91" y="115"/>
                  </a:lnTo>
                  <a:lnTo>
                    <a:pt x="90" y="119"/>
                  </a:lnTo>
                  <a:lnTo>
                    <a:pt x="89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9" y="143"/>
                  </a:lnTo>
                  <a:lnTo>
                    <a:pt x="90" y="147"/>
                  </a:lnTo>
                  <a:lnTo>
                    <a:pt x="91" y="152"/>
                  </a:lnTo>
                  <a:lnTo>
                    <a:pt x="93" y="156"/>
                  </a:lnTo>
                  <a:lnTo>
                    <a:pt x="95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7" y="173"/>
                  </a:lnTo>
                  <a:lnTo>
                    <a:pt x="111" y="175"/>
                  </a:lnTo>
                  <a:lnTo>
                    <a:pt x="115" y="177"/>
                  </a:lnTo>
                  <a:lnTo>
                    <a:pt x="119" y="179"/>
                  </a:lnTo>
                  <a:lnTo>
                    <a:pt x="123" y="180"/>
                  </a:lnTo>
                  <a:lnTo>
                    <a:pt x="127" y="180"/>
                  </a:lnTo>
                  <a:lnTo>
                    <a:pt x="132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3" y="175"/>
                  </a:lnTo>
                  <a:lnTo>
                    <a:pt x="156" y="173"/>
                  </a:lnTo>
                  <a:lnTo>
                    <a:pt x="160" y="170"/>
                  </a:lnTo>
                  <a:lnTo>
                    <a:pt x="163" y="166"/>
                  </a:lnTo>
                  <a:lnTo>
                    <a:pt x="166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2" y="152"/>
                  </a:lnTo>
                  <a:lnTo>
                    <a:pt x="174" y="147"/>
                  </a:lnTo>
                  <a:lnTo>
                    <a:pt x="175" y="143"/>
                  </a:lnTo>
                  <a:lnTo>
                    <a:pt x="176" y="138"/>
                  </a:lnTo>
                  <a:lnTo>
                    <a:pt x="176" y="134"/>
                  </a:lnTo>
                  <a:lnTo>
                    <a:pt x="176" y="129"/>
                  </a:lnTo>
                  <a:lnTo>
                    <a:pt x="175" y="124"/>
                  </a:lnTo>
                  <a:lnTo>
                    <a:pt x="174" y="119"/>
                  </a:lnTo>
                  <a:lnTo>
                    <a:pt x="172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6" y="103"/>
                  </a:lnTo>
                  <a:lnTo>
                    <a:pt x="163" y="100"/>
                  </a:lnTo>
                  <a:lnTo>
                    <a:pt x="160" y="97"/>
                  </a:lnTo>
                  <a:lnTo>
                    <a:pt x="156" y="94"/>
                  </a:lnTo>
                  <a:lnTo>
                    <a:pt x="153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2" y="86"/>
                  </a:lnTo>
                  <a:close/>
                  <a:moveTo>
                    <a:pt x="132" y="0"/>
                  </a:moveTo>
                  <a:lnTo>
                    <a:pt x="145" y="0"/>
                  </a:lnTo>
                  <a:lnTo>
                    <a:pt x="158" y="3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4" y="39"/>
                  </a:lnTo>
                  <a:lnTo>
                    <a:pt x="233" y="50"/>
                  </a:lnTo>
                  <a:lnTo>
                    <a:pt x="241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1" y="107"/>
                  </a:lnTo>
                  <a:lnTo>
                    <a:pt x="262" y="120"/>
                  </a:lnTo>
                  <a:lnTo>
                    <a:pt x="263" y="134"/>
                  </a:lnTo>
                  <a:lnTo>
                    <a:pt x="262" y="147"/>
                  </a:lnTo>
                  <a:lnTo>
                    <a:pt x="261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5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9" y="244"/>
                  </a:lnTo>
                  <a:lnTo>
                    <a:pt x="49" y="237"/>
                  </a:lnTo>
                  <a:lnTo>
                    <a:pt x="39" y="227"/>
                  </a:lnTo>
                  <a:lnTo>
                    <a:pt x="30" y="218"/>
                  </a:lnTo>
                  <a:lnTo>
                    <a:pt x="22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4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37040" y="1079640"/>
              <a:ext cx="52560" cy="2318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7126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86"/>
                  </a:moveTo>
                  <a:lnTo>
                    <a:pt x="127" y="86"/>
                  </a:lnTo>
                  <a:lnTo>
                    <a:pt x="123" y="87"/>
                  </a:lnTo>
                  <a:lnTo>
                    <a:pt x="119" y="88"/>
                  </a:lnTo>
                  <a:lnTo>
                    <a:pt x="114" y="90"/>
                  </a:lnTo>
                  <a:lnTo>
                    <a:pt x="111" y="91"/>
                  </a:lnTo>
                  <a:lnTo>
                    <a:pt x="107" y="94"/>
                  </a:lnTo>
                  <a:lnTo>
                    <a:pt x="104" y="96"/>
                  </a:lnTo>
                  <a:lnTo>
                    <a:pt x="101" y="99"/>
                  </a:lnTo>
                  <a:lnTo>
                    <a:pt x="98" y="103"/>
                  </a:lnTo>
                  <a:lnTo>
                    <a:pt x="94" y="107"/>
                  </a:lnTo>
                  <a:lnTo>
                    <a:pt x="92" y="111"/>
                  </a:lnTo>
                  <a:lnTo>
                    <a:pt x="90" y="115"/>
                  </a:lnTo>
                  <a:lnTo>
                    <a:pt x="89" y="119"/>
                  </a:lnTo>
                  <a:lnTo>
                    <a:pt x="88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8" y="143"/>
                  </a:lnTo>
                  <a:lnTo>
                    <a:pt x="89" y="147"/>
                  </a:lnTo>
                  <a:lnTo>
                    <a:pt x="90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8" y="163"/>
                  </a:lnTo>
                  <a:lnTo>
                    <a:pt x="100" y="166"/>
                  </a:lnTo>
                  <a:lnTo>
                    <a:pt x="104" y="170"/>
                  </a:lnTo>
                  <a:lnTo>
                    <a:pt x="107" y="173"/>
                  </a:lnTo>
                  <a:lnTo>
                    <a:pt x="110" y="175"/>
                  </a:lnTo>
                  <a:lnTo>
                    <a:pt x="114" y="177"/>
                  </a:lnTo>
                  <a:lnTo>
                    <a:pt x="119" y="179"/>
                  </a:lnTo>
                  <a:lnTo>
                    <a:pt x="123" y="180"/>
                  </a:lnTo>
                  <a:lnTo>
                    <a:pt x="127" y="180"/>
                  </a:lnTo>
                  <a:lnTo>
                    <a:pt x="131" y="180"/>
                  </a:lnTo>
                  <a:lnTo>
                    <a:pt x="136" y="180"/>
                  </a:lnTo>
                  <a:lnTo>
                    <a:pt x="141" y="180"/>
                  </a:lnTo>
                  <a:lnTo>
                    <a:pt x="145" y="179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5" y="173"/>
                  </a:lnTo>
                  <a:lnTo>
                    <a:pt x="159" y="170"/>
                  </a:lnTo>
                  <a:lnTo>
                    <a:pt x="163" y="166"/>
                  </a:lnTo>
                  <a:lnTo>
                    <a:pt x="166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2" y="152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5" y="138"/>
                  </a:lnTo>
                  <a:lnTo>
                    <a:pt x="175" y="134"/>
                  </a:lnTo>
                  <a:lnTo>
                    <a:pt x="175" y="129"/>
                  </a:lnTo>
                  <a:lnTo>
                    <a:pt x="174" y="124"/>
                  </a:lnTo>
                  <a:lnTo>
                    <a:pt x="173" y="119"/>
                  </a:lnTo>
                  <a:lnTo>
                    <a:pt x="172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6" y="103"/>
                  </a:lnTo>
                  <a:lnTo>
                    <a:pt x="163" y="100"/>
                  </a:lnTo>
                  <a:lnTo>
                    <a:pt x="159" y="97"/>
                  </a:lnTo>
                  <a:lnTo>
                    <a:pt x="155" y="94"/>
                  </a:lnTo>
                  <a:lnTo>
                    <a:pt x="152" y="92"/>
                  </a:lnTo>
                  <a:lnTo>
                    <a:pt x="148" y="90"/>
                  </a:lnTo>
                  <a:lnTo>
                    <a:pt x="145" y="88"/>
                  </a:lnTo>
                  <a:lnTo>
                    <a:pt x="141" y="87"/>
                  </a:lnTo>
                  <a:lnTo>
                    <a:pt x="136" y="86"/>
                  </a:lnTo>
                  <a:lnTo>
                    <a:pt x="131" y="86"/>
                  </a:lnTo>
                  <a:close/>
                  <a:moveTo>
                    <a:pt x="131" y="0"/>
                  </a:moveTo>
                  <a:lnTo>
                    <a:pt x="145" y="0"/>
                  </a:lnTo>
                  <a:lnTo>
                    <a:pt x="157" y="3"/>
                  </a:lnTo>
                  <a:lnTo>
                    <a:pt x="170" y="6"/>
                  </a:lnTo>
                  <a:lnTo>
                    <a:pt x="181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5" y="39"/>
                  </a:lnTo>
                  <a:lnTo>
                    <a:pt x="233" y="50"/>
                  </a:lnTo>
                  <a:lnTo>
                    <a:pt x="240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0" y="107"/>
                  </a:lnTo>
                  <a:lnTo>
                    <a:pt x="261" y="120"/>
                  </a:lnTo>
                  <a:lnTo>
                    <a:pt x="262" y="134"/>
                  </a:lnTo>
                  <a:lnTo>
                    <a:pt x="261" y="147"/>
                  </a:lnTo>
                  <a:lnTo>
                    <a:pt x="260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5" y="244"/>
                  </a:lnTo>
                  <a:lnTo>
                    <a:pt x="193" y="251"/>
                  </a:lnTo>
                  <a:lnTo>
                    <a:pt x="183" y="257"/>
                  </a:lnTo>
                  <a:lnTo>
                    <a:pt x="170" y="261"/>
                  </a:lnTo>
                  <a:lnTo>
                    <a:pt x="157" y="264"/>
                  </a:lnTo>
                  <a:lnTo>
                    <a:pt x="145" y="266"/>
                  </a:lnTo>
                  <a:lnTo>
                    <a:pt x="131" y="266"/>
                  </a:lnTo>
                  <a:lnTo>
                    <a:pt x="119" y="266"/>
                  </a:lnTo>
                  <a:lnTo>
                    <a:pt x="105" y="264"/>
                  </a:lnTo>
                  <a:lnTo>
                    <a:pt x="92" y="261"/>
                  </a:lnTo>
                  <a:lnTo>
                    <a:pt x="81" y="257"/>
                  </a:lnTo>
                  <a:lnTo>
                    <a:pt x="69" y="251"/>
                  </a:lnTo>
                  <a:lnTo>
                    <a:pt x="59" y="244"/>
                  </a:lnTo>
                  <a:lnTo>
                    <a:pt x="48" y="237"/>
                  </a:lnTo>
                  <a:lnTo>
                    <a:pt x="39" y="227"/>
                  </a:lnTo>
                  <a:lnTo>
                    <a:pt x="29" y="218"/>
                  </a:lnTo>
                  <a:lnTo>
                    <a:pt x="22" y="207"/>
                  </a:lnTo>
                  <a:lnTo>
                    <a:pt x="16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29" y="49"/>
                  </a:lnTo>
                  <a:lnTo>
                    <a:pt x="39" y="39"/>
                  </a:lnTo>
                  <a:lnTo>
                    <a:pt x="48" y="30"/>
                  </a:lnTo>
                  <a:lnTo>
                    <a:pt x="59" y="23"/>
                  </a:lnTo>
                  <a:lnTo>
                    <a:pt x="69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9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898760" y="1141920"/>
              <a:ext cx="153360" cy="228960"/>
            </a:xfrm>
            <a:custGeom>
              <a:avLst/>
              <a:gdLst/>
              <a:ahLst/>
              <a:rect l="l" t="t" r="r" b="b"/>
              <a:pathLst>
                <a:path w="238" h="350">
                  <a:moveTo>
                    <a:pt x="120" y="147"/>
                  </a:moveTo>
                  <a:lnTo>
                    <a:pt x="123" y="147"/>
                  </a:lnTo>
                  <a:lnTo>
                    <a:pt x="126" y="145"/>
                  </a:lnTo>
                  <a:lnTo>
                    <a:pt x="129" y="145"/>
                  </a:lnTo>
                  <a:lnTo>
                    <a:pt x="131" y="144"/>
                  </a:lnTo>
                  <a:lnTo>
                    <a:pt x="135" y="142"/>
                  </a:lnTo>
                  <a:lnTo>
                    <a:pt x="138" y="141"/>
                  </a:lnTo>
                  <a:lnTo>
                    <a:pt x="140" y="139"/>
                  </a:lnTo>
                  <a:lnTo>
                    <a:pt x="142" y="137"/>
                  </a:lnTo>
                  <a:lnTo>
                    <a:pt x="144" y="134"/>
                  </a:lnTo>
                  <a:lnTo>
                    <a:pt x="146" y="132"/>
                  </a:lnTo>
                  <a:lnTo>
                    <a:pt x="148" y="130"/>
                  </a:lnTo>
                  <a:lnTo>
                    <a:pt x="149" y="127"/>
                  </a:lnTo>
                  <a:lnTo>
                    <a:pt x="150" y="123"/>
                  </a:lnTo>
                  <a:lnTo>
                    <a:pt x="151" y="120"/>
                  </a:lnTo>
                  <a:lnTo>
                    <a:pt x="151" y="117"/>
                  </a:lnTo>
                  <a:lnTo>
                    <a:pt x="151" y="114"/>
                  </a:lnTo>
                  <a:lnTo>
                    <a:pt x="151" y="111"/>
                  </a:lnTo>
                  <a:lnTo>
                    <a:pt x="151" y="109"/>
                  </a:lnTo>
                  <a:lnTo>
                    <a:pt x="150" y="106"/>
                  </a:lnTo>
                  <a:lnTo>
                    <a:pt x="149" y="102"/>
                  </a:lnTo>
                  <a:lnTo>
                    <a:pt x="148" y="100"/>
                  </a:lnTo>
                  <a:lnTo>
                    <a:pt x="146" y="97"/>
                  </a:lnTo>
                  <a:lnTo>
                    <a:pt x="144" y="95"/>
                  </a:lnTo>
                  <a:lnTo>
                    <a:pt x="142" y="92"/>
                  </a:lnTo>
                  <a:lnTo>
                    <a:pt x="140" y="90"/>
                  </a:lnTo>
                  <a:lnTo>
                    <a:pt x="138" y="88"/>
                  </a:lnTo>
                  <a:lnTo>
                    <a:pt x="135" y="87"/>
                  </a:lnTo>
                  <a:lnTo>
                    <a:pt x="131" y="86"/>
                  </a:lnTo>
                  <a:lnTo>
                    <a:pt x="129" y="85"/>
                  </a:lnTo>
                  <a:lnTo>
                    <a:pt x="126" y="84"/>
                  </a:lnTo>
                  <a:lnTo>
                    <a:pt x="123" y="84"/>
                  </a:lnTo>
                  <a:lnTo>
                    <a:pt x="120" y="82"/>
                  </a:lnTo>
                  <a:lnTo>
                    <a:pt x="117" y="84"/>
                  </a:lnTo>
                  <a:lnTo>
                    <a:pt x="114" y="84"/>
                  </a:lnTo>
                  <a:lnTo>
                    <a:pt x="110" y="85"/>
                  </a:lnTo>
                  <a:lnTo>
                    <a:pt x="108" y="86"/>
                  </a:lnTo>
                  <a:lnTo>
                    <a:pt x="105" y="87"/>
                  </a:lnTo>
                  <a:lnTo>
                    <a:pt x="102" y="88"/>
                  </a:lnTo>
                  <a:lnTo>
                    <a:pt x="100" y="90"/>
                  </a:lnTo>
                  <a:lnTo>
                    <a:pt x="98" y="92"/>
                  </a:lnTo>
                  <a:lnTo>
                    <a:pt x="96" y="94"/>
                  </a:lnTo>
                  <a:lnTo>
                    <a:pt x="94" y="97"/>
                  </a:lnTo>
                  <a:lnTo>
                    <a:pt x="92" y="99"/>
                  </a:lnTo>
                  <a:lnTo>
                    <a:pt x="90" y="102"/>
                  </a:lnTo>
                  <a:lnTo>
                    <a:pt x="89" y="105"/>
                  </a:lnTo>
                  <a:lnTo>
                    <a:pt x="88" y="108"/>
                  </a:lnTo>
                  <a:lnTo>
                    <a:pt x="88" y="111"/>
                  </a:lnTo>
                  <a:lnTo>
                    <a:pt x="88" y="114"/>
                  </a:lnTo>
                  <a:lnTo>
                    <a:pt x="88" y="118"/>
                  </a:lnTo>
                  <a:lnTo>
                    <a:pt x="88" y="121"/>
                  </a:lnTo>
                  <a:lnTo>
                    <a:pt x="89" y="123"/>
                  </a:lnTo>
                  <a:lnTo>
                    <a:pt x="90" y="127"/>
                  </a:lnTo>
                  <a:lnTo>
                    <a:pt x="92" y="130"/>
                  </a:lnTo>
                  <a:lnTo>
                    <a:pt x="94" y="132"/>
                  </a:lnTo>
                  <a:lnTo>
                    <a:pt x="96" y="135"/>
                  </a:lnTo>
                  <a:lnTo>
                    <a:pt x="98" y="137"/>
                  </a:lnTo>
                  <a:lnTo>
                    <a:pt x="100" y="139"/>
                  </a:lnTo>
                  <a:lnTo>
                    <a:pt x="102" y="141"/>
                  </a:lnTo>
                  <a:lnTo>
                    <a:pt x="105" y="142"/>
                  </a:lnTo>
                  <a:lnTo>
                    <a:pt x="107" y="144"/>
                  </a:lnTo>
                  <a:lnTo>
                    <a:pt x="110" y="145"/>
                  </a:lnTo>
                  <a:lnTo>
                    <a:pt x="114" y="145"/>
                  </a:lnTo>
                  <a:lnTo>
                    <a:pt x="117" y="147"/>
                  </a:lnTo>
                  <a:lnTo>
                    <a:pt x="120" y="147"/>
                  </a:lnTo>
                  <a:close/>
                  <a:moveTo>
                    <a:pt x="147" y="224"/>
                  </a:moveTo>
                  <a:lnTo>
                    <a:pt x="145" y="224"/>
                  </a:lnTo>
                  <a:lnTo>
                    <a:pt x="143" y="224"/>
                  </a:lnTo>
                  <a:lnTo>
                    <a:pt x="141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5" y="225"/>
                  </a:lnTo>
                  <a:lnTo>
                    <a:pt x="132" y="226"/>
                  </a:lnTo>
                  <a:lnTo>
                    <a:pt x="130" y="226"/>
                  </a:lnTo>
                  <a:lnTo>
                    <a:pt x="128" y="226"/>
                  </a:lnTo>
                  <a:lnTo>
                    <a:pt x="127" y="226"/>
                  </a:lnTo>
                  <a:lnTo>
                    <a:pt x="125" y="226"/>
                  </a:lnTo>
                  <a:lnTo>
                    <a:pt x="123" y="226"/>
                  </a:lnTo>
                  <a:lnTo>
                    <a:pt x="121" y="226"/>
                  </a:lnTo>
                  <a:lnTo>
                    <a:pt x="120" y="227"/>
                  </a:lnTo>
                  <a:lnTo>
                    <a:pt x="118" y="227"/>
                  </a:lnTo>
                  <a:lnTo>
                    <a:pt x="116" y="227"/>
                  </a:lnTo>
                  <a:lnTo>
                    <a:pt x="104" y="226"/>
                  </a:lnTo>
                  <a:lnTo>
                    <a:pt x="93" y="225"/>
                  </a:lnTo>
                  <a:lnTo>
                    <a:pt x="82" y="222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5" y="202"/>
                  </a:lnTo>
                  <a:lnTo>
                    <a:pt x="38" y="195"/>
                  </a:lnTo>
                  <a:lnTo>
                    <a:pt x="31" y="186"/>
                  </a:lnTo>
                  <a:lnTo>
                    <a:pt x="24" y="178"/>
                  </a:lnTo>
                  <a:lnTo>
                    <a:pt x="19" y="169"/>
                  </a:lnTo>
                  <a:lnTo>
                    <a:pt x="15" y="159"/>
                  </a:lnTo>
                  <a:lnTo>
                    <a:pt x="11" y="149"/>
                  </a:lnTo>
                  <a:lnTo>
                    <a:pt x="9" y="137"/>
                  </a:lnTo>
                  <a:lnTo>
                    <a:pt x="8" y="126"/>
                  </a:lnTo>
                  <a:lnTo>
                    <a:pt x="7" y="114"/>
                  </a:lnTo>
                  <a:lnTo>
                    <a:pt x="8" y="101"/>
                  </a:lnTo>
                  <a:lnTo>
                    <a:pt x="9" y="90"/>
                  </a:lnTo>
                  <a:lnTo>
                    <a:pt x="12" y="79"/>
                  </a:lnTo>
                  <a:lnTo>
                    <a:pt x="15" y="69"/>
                  </a:lnTo>
                  <a:lnTo>
                    <a:pt x="19" y="58"/>
                  </a:lnTo>
                  <a:lnTo>
                    <a:pt x="24" y="49"/>
                  </a:lnTo>
                  <a:lnTo>
                    <a:pt x="32" y="40"/>
                  </a:lnTo>
                  <a:lnTo>
                    <a:pt x="39" y="32"/>
                  </a:lnTo>
                  <a:lnTo>
                    <a:pt x="47" y="24"/>
                  </a:lnTo>
                  <a:lnTo>
                    <a:pt x="56" y="17"/>
                  </a:lnTo>
                  <a:lnTo>
                    <a:pt x="65" y="12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50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238" y="4"/>
                  </a:lnTo>
                  <a:lnTo>
                    <a:pt x="213" y="43"/>
                  </a:lnTo>
                  <a:lnTo>
                    <a:pt x="215" y="47"/>
                  </a:lnTo>
                  <a:lnTo>
                    <a:pt x="218" y="51"/>
                  </a:lnTo>
                  <a:lnTo>
                    <a:pt x="221" y="56"/>
                  </a:lnTo>
                  <a:lnTo>
                    <a:pt x="224" y="60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4"/>
                  </a:lnTo>
                  <a:lnTo>
                    <a:pt x="231" y="79"/>
                  </a:lnTo>
                  <a:lnTo>
                    <a:pt x="232" y="85"/>
                  </a:lnTo>
                  <a:lnTo>
                    <a:pt x="234" y="89"/>
                  </a:lnTo>
                  <a:lnTo>
                    <a:pt x="235" y="94"/>
                  </a:lnTo>
                  <a:lnTo>
                    <a:pt x="235" y="98"/>
                  </a:lnTo>
                  <a:lnTo>
                    <a:pt x="236" y="103"/>
                  </a:lnTo>
                  <a:lnTo>
                    <a:pt x="237" y="108"/>
                  </a:lnTo>
                  <a:lnTo>
                    <a:pt x="237" y="113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7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5" y="139"/>
                  </a:lnTo>
                  <a:lnTo>
                    <a:pt x="234" y="143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0"/>
                  </a:lnTo>
                  <a:lnTo>
                    <a:pt x="225" y="163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79"/>
                  </a:lnTo>
                  <a:lnTo>
                    <a:pt x="212" y="183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20" y="195"/>
                  </a:lnTo>
                  <a:lnTo>
                    <a:pt x="222" y="199"/>
                  </a:lnTo>
                  <a:lnTo>
                    <a:pt x="223" y="202"/>
                  </a:lnTo>
                  <a:lnTo>
                    <a:pt x="225" y="206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1"/>
                  </a:lnTo>
                  <a:lnTo>
                    <a:pt x="231" y="225"/>
                  </a:lnTo>
                  <a:lnTo>
                    <a:pt x="231" y="228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39"/>
                  </a:lnTo>
                  <a:lnTo>
                    <a:pt x="233" y="243"/>
                  </a:lnTo>
                  <a:lnTo>
                    <a:pt x="232" y="255"/>
                  </a:lnTo>
                  <a:lnTo>
                    <a:pt x="231" y="265"/>
                  </a:lnTo>
                  <a:lnTo>
                    <a:pt x="228" y="276"/>
                  </a:lnTo>
                  <a:lnTo>
                    <a:pt x="225" y="285"/>
                  </a:lnTo>
                  <a:lnTo>
                    <a:pt x="221" y="295"/>
                  </a:lnTo>
                  <a:lnTo>
                    <a:pt x="214" y="304"/>
                  </a:lnTo>
                  <a:lnTo>
                    <a:pt x="208" y="312"/>
                  </a:lnTo>
                  <a:lnTo>
                    <a:pt x="201" y="320"/>
                  </a:lnTo>
                  <a:lnTo>
                    <a:pt x="192" y="327"/>
                  </a:lnTo>
                  <a:lnTo>
                    <a:pt x="183" y="333"/>
                  </a:lnTo>
                  <a:lnTo>
                    <a:pt x="173" y="339"/>
                  </a:lnTo>
                  <a:lnTo>
                    <a:pt x="164" y="343"/>
                  </a:lnTo>
                  <a:lnTo>
                    <a:pt x="152" y="346"/>
                  </a:lnTo>
                  <a:lnTo>
                    <a:pt x="142" y="348"/>
                  </a:lnTo>
                  <a:lnTo>
                    <a:pt x="129" y="349"/>
                  </a:lnTo>
                  <a:lnTo>
                    <a:pt x="118" y="350"/>
                  </a:lnTo>
                  <a:lnTo>
                    <a:pt x="108" y="350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3" y="347"/>
                  </a:lnTo>
                  <a:lnTo>
                    <a:pt x="75" y="345"/>
                  </a:lnTo>
                  <a:lnTo>
                    <a:pt x="67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4" y="334"/>
                  </a:lnTo>
                  <a:lnTo>
                    <a:pt x="37" y="330"/>
                  </a:lnTo>
                  <a:lnTo>
                    <a:pt x="30" y="326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2" y="312"/>
                  </a:lnTo>
                  <a:lnTo>
                    <a:pt x="5" y="307"/>
                  </a:lnTo>
                  <a:lnTo>
                    <a:pt x="0" y="301"/>
                  </a:lnTo>
                  <a:lnTo>
                    <a:pt x="44" y="239"/>
                  </a:lnTo>
                  <a:lnTo>
                    <a:pt x="48" y="243"/>
                  </a:lnTo>
                  <a:lnTo>
                    <a:pt x="53" y="247"/>
                  </a:lnTo>
                  <a:lnTo>
                    <a:pt x="57" y="250"/>
                  </a:lnTo>
                  <a:lnTo>
                    <a:pt x="61" y="254"/>
                  </a:lnTo>
                  <a:lnTo>
                    <a:pt x="65" y="256"/>
                  </a:lnTo>
                  <a:lnTo>
                    <a:pt x="69" y="259"/>
                  </a:lnTo>
                  <a:lnTo>
                    <a:pt x="74" y="261"/>
                  </a:lnTo>
                  <a:lnTo>
                    <a:pt x="78" y="263"/>
                  </a:lnTo>
                  <a:lnTo>
                    <a:pt x="82" y="265"/>
                  </a:lnTo>
                  <a:lnTo>
                    <a:pt x="86" y="267"/>
                  </a:lnTo>
                  <a:lnTo>
                    <a:pt x="90" y="268"/>
                  </a:lnTo>
                  <a:lnTo>
                    <a:pt x="96" y="269"/>
                  </a:lnTo>
                  <a:lnTo>
                    <a:pt x="100" y="270"/>
                  </a:lnTo>
                  <a:lnTo>
                    <a:pt x="104" y="270"/>
                  </a:lnTo>
                  <a:lnTo>
                    <a:pt x="108" y="271"/>
                  </a:lnTo>
                  <a:lnTo>
                    <a:pt x="113" y="271"/>
                  </a:lnTo>
                  <a:lnTo>
                    <a:pt x="117" y="271"/>
                  </a:lnTo>
                  <a:lnTo>
                    <a:pt x="120" y="270"/>
                  </a:lnTo>
                  <a:lnTo>
                    <a:pt x="124" y="270"/>
                  </a:lnTo>
                  <a:lnTo>
                    <a:pt x="127" y="269"/>
                  </a:lnTo>
                  <a:lnTo>
                    <a:pt x="130" y="268"/>
                  </a:lnTo>
                  <a:lnTo>
                    <a:pt x="133" y="266"/>
                  </a:lnTo>
                  <a:lnTo>
                    <a:pt x="137" y="265"/>
                  </a:lnTo>
                  <a:lnTo>
                    <a:pt x="139" y="263"/>
                  </a:lnTo>
                  <a:lnTo>
                    <a:pt x="142" y="261"/>
                  </a:lnTo>
                  <a:lnTo>
                    <a:pt x="144" y="258"/>
                  </a:lnTo>
                  <a:lnTo>
                    <a:pt x="145" y="256"/>
                  </a:lnTo>
                  <a:lnTo>
                    <a:pt x="147" y="253"/>
                  </a:lnTo>
                  <a:lnTo>
                    <a:pt x="148" y="250"/>
                  </a:lnTo>
                  <a:lnTo>
                    <a:pt x="148" y="247"/>
                  </a:lnTo>
                  <a:lnTo>
                    <a:pt x="149" y="244"/>
                  </a:lnTo>
                  <a:lnTo>
                    <a:pt x="149" y="240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9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lnTo>
                    <a:pt x="147" y="22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062920" y="1145520"/>
              <a:ext cx="16596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7" y="341"/>
                  </a:moveTo>
                  <a:lnTo>
                    <a:pt x="91" y="246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32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7" y="3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395360" y="740160"/>
              <a:ext cx="91080" cy="22212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59" y="337"/>
                  </a:moveTo>
                  <a:lnTo>
                    <a:pt x="59" y="110"/>
                  </a:lnTo>
                  <a:lnTo>
                    <a:pt x="55" y="112"/>
                  </a:lnTo>
                  <a:lnTo>
                    <a:pt x="51" y="113"/>
                  </a:lnTo>
                  <a:lnTo>
                    <a:pt x="47" y="115"/>
                  </a:lnTo>
                  <a:lnTo>
                    <a:pt x="44" y="116"/>
                  </a:lnTo>
                  <a:lnTo>
                    <a:pt x="40" y="117"/>
                  </a:lnTo>
                  <a:lnTo>
                    <a:pt x="37" y="118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2" y="122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0" y="124"/>
                  </a:lnTo>
                  <a:lnTo>
                    <a:pt x="7" y="124"/>
                  </a:lnTo>
                  <a:lnTo>
                    <a:pt x="3" y="124"/>
                  </a:lnTo>
                  <a:lnTo>
                    <a:pt x="0" y="124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0" y="10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142" y="0"/>
                  </a:lnTo>
                  <a:lnTo>
                    <a:pt x="142" y="337"/>
                  </a:lnTo>
                  <a:lnTo>
                    <a:pt x="59" y="33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614240" y="795600"/>
              <a:ext cx="45720" cy="4860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4" y="0"/>
                  </a:move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8" y="60"/>
                  </a:lnTo>
                  <a:lnTo>
                    <a:pt x="10" y="62"/>
                  </a:lnTo>
                  <a:lnTo>
                    <a:pt x="12" y="65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7" y="73"/>
                  </a:lnTo>
                  <a:lnTo>
                    <a:pt x="31" y="74"/>
                  </a:lnTo>
                  <a:lnTo>
                    <a:pt x="34" y="74"/>
                  </a:lnTo>
                  <a:lnTo>
                    <a:pt x="38" y="74"/>
                  </a:lnTo>
                  <a:lnTo>
                    <a:pt x="41" y="73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0" y="70"/>
                  </a:lnTo>
                  <a:lnTo>
                    <a:pt x="53" y="67"/>
                  </a:lnTo>
                  <a:lnTo>
                    <a:pt x="56" y="65"/>
                  </a:lnTo>
                  <a:lnTo>
                    <a:pt x="59" y="63"/>
                  </a:lnTo>
                  <a:lnTo>
                    <a:pt x="61" y="60"/>
                  </a:lnTo>
                  <a:lnTo>
                    <a:pt x="63" y="57"/>
                  </a:lnTo>
                  <a:lnTo>
                    <a:pt x="65" y="54"/>
                  </a:lnTo>
                  <a:lnTo>
                    <a:pt x="66" y="51"/>
                  </a:lnTo>
                  <a:lnTo>
                    <a:pt x="67" y="48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8" y="30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1"/>
                  </a:lnTo>
                  <a:lnTo>
                    <a:pt x="56" y="9"/>
                  </a:lnTo>
                  <a:lnTo>
                    <a:pt x="53" y="7"/>
                  </a:lnTo>
                  <a:lnTo>
                    <a:pt x="50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55880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2" y="308"/>
                  </a:lnTo>
                  <a:lnTo>
                    <a:pt x="56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4" y="279"/>
                  </a:lnTo>
                  <a:lnTo>
                    <a:pt x="78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6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1" y="225"/>
                  </a:lnTo>
                  <a:lnTo>
                    <a:pt x="43" y="218"/>
                  </a:lnTo>
                  <a:lnTo>
                    <a:pt x="34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5" y="189"/>
                  </a:lnTo>
                  <a:lnTo>
                    <a:pt x="10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8" y="79"/>
                  </a:lnTo>
                  <a:lnTo>
                    <a:pt x="13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5" y="38"/>
                  </a:lnTo>
                  <a:lnTo>
                    <a:pt x="44" y="28"/>
                  </a:lnTo>
                  <a:lnTo>
                    <a:pt x="53" y="21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86" y="5"/>
                  </a:lnTo>
                  <a:lnTo>
                    <a:pt x="97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9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1" y="51"/>
                  </a:lnTo>
                  <a:lnTo>
                    <a:pt x="227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3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2" y="238"/>
                  </a:lnTo>
                  <a:lnTo>
                    <a:pt x="194" y="254"/>
                  </a:lnTo>
                  <a:lnTo>
                    <a:pt x="184" y="269"/>
                  </a:lnTo>
                  <a:lnTo>
                    <a:pt x="174" y="285"/>
                  </a:lnTo>
                  <a:lnTo>
                    <a:pt x="162" y="301"/>
                  </a:lnTo>
                  <a:lnTo>
                    <a:pt x="150" y="317"/>
                  </a:lnTo>
                  <a:lnTo>
                    <a:pt x="136" y="334"/>
                  </a:lnTo>
                  <a:lnTo>
                    <a:pt x="123" y="35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00720" y="795600"/>
              <a:ext cx="45720" cy="4860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5" y="0"/>
                  </a:moveTo>
                  <a:lnTo>
                    <a:pt x="32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9" y="60"/>
                  </a:lnTo>
                  <a:lnTo>
                    <a:pt x="11" y="62"/>
                  </a:lnTo>
                  <a:lnTo>
                    <a:pt x="13" y="65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7" y="73"/>
                  </a:lnTo>
                  <a:lnTo>
                    <a:pt x="32" y="74"/>
                  </a:lnTo>
                  <a:lnTo>
                    <a:pt x="35" y="74"/>
                  </a:lnTo>
                  <a:lnTo>
                    <a:pt x="38" y="74"/>
                  </a:lnTo>
                  <a:lnTo>
                    <a:pt x="41" y="73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1" y="70"/>
                  </a:lnTo>
                  <a:lnTo>
                    <a:pt x="54" y="67"/>
                  </a:lnTo>
                  <a:lnTo>
                    <a:pt x="57" y="65"/>
                  </a:lnTo>
                  <a:lnTo>
                    <a:pt x="59" y="63"/>
                  </a:lnTo>
                  <a:lnTo>
                    <a:pt x="61" y="60"/>
                  </a:lnTo>
                  <a:lnTo>
                    <a:pt x="63" y="57"/>
                  </a:lnTo>
                  <a:lnTo>
                    <a:pt x="65" y="54"/>
                  </a:lnTo>
                  <a:lnTo>
                    <a:pt x="66" y="51"/>
                  </a:lnTo>
                  <a:lnTo>
                    <a:pt x="67" y="48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8" y="30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74492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3" y="308"/>
                  </a:lnTo>
                  <a:lnTo>
                    <a:pt x="57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5" y="279"/>
                  </a:lnTo>
                  <a:lnTo>
                    <a:pt x="79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7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2" y="225"/>
                  </a:lnTo>
                  <a:lnTo>
                    <a:pt x="43" y="218"/>
                  </a:lnTo>
                  <a:lnTo>
                    <a:pt x="35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6" y="189"/>
                  </a:lnTo>
                  <a:lnTo>
                    <a:pt x="11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9" y="79"/>
                  </a:lnTo>
                  <a:lnTo>
                    <a:pt x="14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6" y="38"/>
                  </a:lnTo>
                  <a:lnTo>
                    <a:pt x="44" y="28"/>
                  </a:lnTo>
                  <a:lnTo>
                    <a:pt x="54" y="21"/>
                  </a:lnTo>
                  <a:lnTo>
                    <a:pt x="64" y="15"/>
                  </a:lnTo>
                  <a:lnTo>
                    <a:pt x="75" y="9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9" y="5"/>
                  </a:lnTo>
                  <a:lnTo>
                    <a:pt x="170" y="8"/>
                  </a:lnTo>
                  <a:lnTo>
                    <a:pt x="180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2" y="51"/>
                  </a:lnTo>
                  <a:lnTo>
                    <a:pt x="228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4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3" y="238"/>
                  </a:lnTo>
                  <a:lnTo>
                    <a:pt x="194" y="254"/>
                  </a:lnTo>
                  <a:lnTo>
                    <a:pt x="185" y="269"/>
                  </a:lnTo>
                  <a:lnTo>
                    <a:pt x="174" y="285"/>
                  </a:lnTo>
                  <a:lnTo>
                    <a:pt x="163" y="301"/>
                  </a:lnTo>
                  <a:lnTo>
                    <a:pt x="150" y="317"/>
                  </a:lnTo>
                  <a:lnTo>
                    <a:pt x="137" y="334"/>
                  </a:lnTo>
                  <a:lnTo>
                    <a:pt x="123" y="35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931760" y="736560"/>
              <a:ext cx="137160" cy="228960"/>
            </a:xfrm>
            <a:custGeom>
              <a:avLst/>
              <a:gdLst/>
              <a:ahLst/>
              <a:rect l="l" t="t" r="r" b="b"/>
              <a:pathLst>
                <a:path w="208" h="349">
                  <a:moveTo>
                    <a:pt x="0" y="290"/>
                  </a:moveTo>
                  <a:lnTo>
                    <a:pt x="54" y="236"/>
                  </a:lnTo>
                  <a:lnTo>
                    <a:pt x="55" y="239"/>
                  </a:lnTo>
                  <a:lnTo>
                    <a:pt x="57" y="242"/>
                  </a:lnTo>
                  <a:lnTo>
                    <a:pt x="58" y="244"/>
                  </a:lnTo>
                  <a:lnTo>
                    <a:pt x="61" y="246"/>
                  </a:lnTo>
                  <a:lnTo>
                    <a:pt x="63" y="248"/>
                  </a:lnTo>
                  <a:lnTo>
                    <a:pt x="65" y="250"/>
                  </a:lnTo>
                  <a:lnTo>
                    <a:pt x="67" y="252"/>
                  </a:lnTo>
                  <a:lnTo>
                    <a:pt x="70" y="254"/>
                  </a:lnTo>
                  <a:lnTo>
                    <a:pt x="72" y="255"/>
                  </a:lnTo>
                  <a:lnTo>
                    <a:pt x="74" y="256"/>
                  </a:lnTo>
                  <a:lnTo>
                    <a:pt x="77" y="257"/>
                  </a:lnTo>
                  <a:lnTo>
                    <a:pt x="79" y="258"/>
                  </a:lnTo>
                  <a:lnTo>
                    <a:pt x="83" y="259"/>
                  </a:lnTo>
                  <a:lnTo>
                    <a:pt x="86" y="259"/>
                  </a:lnTo>
                  <a:lnTo>
                    <a:pt x="88" y="259"/>
                  </a:lnTo>
                  <a:lnTo>
                    <a:pt x="91" y="260"/>
                  </a:lnTo>
                  <a:lnTo>
                    <a:pt x="94" y="259"/>
                  </a:lnTo>
                  <a:lnTo>
                    <a:pt x="97" y="259"/>
                  </a:lnTo>
                  <a:lnTo>
                    <a:pt x="100" y="259"/>
                  </a:lnTo>
                  <a:lnTo>
                    <a:pt x="102" y="258"/>
                  </a:lnTo>
                  <a:lnTo>
                    <a:pt x="106" y="257"/>
                  </a:lnTo>
                  <a:lnTo>
                    <a:pt x="108" y="256"/>
                  </a:lnTo>
                  <a:lnTo>
                    <a:pt x="110" y="254"/>
                  </a:lnTo>
                  <a:lnTo>
                    <a:pt x="112" y="253"/>
                  </a:lnTo>
                  <a:lnTo>
                    <a:pt x="114" y="251"/>
                  </a:lnTo>
                  <a:lnTo>
                    <a:pt x="116" y="249"/>
                  </a:lnTo>
                  <a:lnTo>
                    <a:pt x="117" y="247"/>
                  </a:lnTo>
                  <a:lnTo>
                    <a:pt x="119" y="245"/>
                  </a:lnTo>
                  <a:lnTo>
                    <a:pt x="119" y="243"/>
                  </a:lnTo>
                  <a:lnTo>
                    <a:pt x="120" y="239"/>
                  </a:lnTo>
                  <a:lnTo>
                    <a:pt x="120" y="237"/>
                  </a:lnTo>
                  <a:lnTo>
                    <a:pt x="121" y="234"/>
                  </a:lnTo>
                  <a:lnTo>
                    <a:pt x="120" y="232"/>
                  </a:lnTo>
                  <a:lnTo>
                    <a:pt x="120" y="229"/>
                  </a:lnTo>
                  <a:lnTo>
                    <a:pt x="119" y="226"/>
                  </a:lnTo>
                  <a:lnTo>
                    <a:pt x="118" y="224"/>
                  </a:lnTo>
                  <a:lnTo>
                    <a:pt x="117" y="222"/>
                  </a:lnTo>
                  <a:lnTo>
                    <a:pt x="115" y="220"/>
                  </a:lnTo>
                  <a:lnTo>
                    <a:pt x="113" y="217"/>
                  </a:lnTo>
                  <a:lnTo>
                    <a:pt x="111" y="215"/>
                  </a:lnTo>
                  <a:lnTo>
                    <a:pt x="108" y="213"/>
                  </a:lnTo>
                  <a:lnTo>
                    <a:pt x="105" y="211"/>
                  </a:lnTo>
                  <a:lnTo>
                    <a:pt x="101" y="210"/>
                  </a:lnTo>
                  <a:lnTo>
                    <a:pt x="98" y="209"/>
                  </a:lnTo>
                  <a:lnTo>
                    <a:pt x="95" y="208"/>
                  </a:lnTo>
                  <a:lnTo>
                    <a:pt x="92" y="208"/>
                  </a:lnTo>
                  <a:lnTo>
                    <a:pt x="88" y="207"/>
                  </a:lnTo>
                  <a:lnTo>
                    <a:pt x="85" y="207"/>
                  </a:lnTo>
                  <a:lnTo>
                    <a:pt x="68" y="207"/>
                  </a:lnTo>
                  <a:lnTo>
                    <a:pt x="68" y="141"/>
                  </a:lnTo>
                  <a:lnTo>
                    <a:pt x="83" y="141"/>
                  </a:lnTo>
                  <a:lnTo>
                    <a:pt x="87" y="141"/>
                  </a:lnTo>
                  <a:lnTo>
                    <a:pt x="91" y="140"/>
                  </a:lnTo>
                  <a:lnTo>
                    <a:pt x="95" y="140"/>
                  </a:lnTo>
                  <a:lnTo>
                    <a:pt x="98" y="139"/>
                  </a:lnTo>
                  <a:lnTo>
                    <a:pt x="101" y="138"/>
                  </a:lnTo>
                  <a:lnTo>
                    <a:pt x="105" y="137"/>
                  </a:lnTo>
                  <a:lnTo>
                    <a:pt x="108" y="134"/>
                  </a:lnTo>
                  <a:lnTo>
                    <a:pt x="111" y="132"/>
                  </a:lnTo>
                  <a:lnTo>
                    <a:pt x="113" y="130"/>
                  </a:lnTo>
                  <a:lnTo>
                    <a:pt x="115" y="128"/>
                  </a:lnTo>
                  <a:lnTo>
                    <a:pt x="117" y="126"/>
                  </a:lnTo>
                  <a:lnTo>
                    <a:pt x="118" y="123"/>
                  </a:lnTo>
                  <a:lnTo>
                    <a:pt x="119" y="121"/>
                  </a:lnTo>
                  <a:lnTo>
                    <a:pt x="120" y="118"/>
                  </a:lnTo>
                  <a:lnTo>
                    <a:pt x="120" y="115"/>
                  </a:lnTo>
                  <a:lnTo>
                    <a:pt x="121" y="111"/>
                  </a:lnTo>
                  <a:lnTo>
                    <a:pt x="120" y="108"/>
                  </a:lnTo>
                  <a:lnTo>
                    <a:pt x="120" y="106"/>
                  </a:lnTo>
                  <a:lnTo>
                    <a:pt x="120" y="103"/>
                  </a:lnTo>
                  <a:lnTo>
                    <a:pt x="119" y="101"/>
                  </a:lnTo>
                  <a:lnTo>
                    <a:pt x="118" y="99"/>
                  </a:lnTo>
                  <a:lnTo>
                    <a:pt x="117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12" y="91"/>
                  </a:lnTo>
                  <a:lnTo>
                    <a:pt x="110" y="90"/>
                  </a:lnTo>
                  <a:lnTo>
                    <a:pt x="108" y="89"/>
                  </a:lnTo>
                  <a:lnTo>
                    <a:pt x="106" y="88"/>
                  </a:lnTo>
                  <a:lnTo>
                    <a:pt x="102" y="87"/>
                  </a:lnTo>
                  <a:lnTo>
                    <a:pt x="100" y="87"/>
                  </a:lnTo>
                  <a:lnTo>
                    <a:pt x="97" y="86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9" y="87"/>
                  </a:lnTo>
                  <a:lnTo>
                    <a:pt x="87" y="87"/>
                  </a:lnTo>
                  <a:lnTo>
                    <a:pt x="84" y="87"/>
                  </a:lnTo>
                  <a:lnTo>
                    <a:pt x="81" y="88"/>
                  </a:lnTo>
                  <a:lnTo>
                    <a:pt x="78" y="89"/>
                  </a:lnTo>
                  <a:lnTo>
                    <a:pt x="76" y="90"/>
                  </a:lnTo>
                  <a:lnTo>
                    <a:pt x="73" y="91"/>
                  </a:lnTo>
                  <a:lnTo>
                    <a:pt x="71" y="94"/>
                  </a:lnTo>
                  <a:lnTo>
                    <a:pt x="69" y="95"/>
                  </a:lnTo>
                  <a:lnTo>
                    <a:pt x="66" y="97"/>
                  </a:lnTo>
                  <a:lnTo>
                    <a:pt x="64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7" y="104"/>
                  </a:lnTo>
                  <a:lnTo>
                    <a:pt x="55" y="106"/>
                  </a:lnTo>
                  <a:lnTo>
                    <a:pt x="4" y="54"/>
                  </a:lnTo>
                  <a:lnTo>
                    <a:pt x="9" y="47"/>
                  </a:lnTo>
                  <a:lnTo>
                    <a:pt x="14" y="42"/>
                  </a:lnTo>
                  <a:lnTo>
                    <a:pt x="20" y="37"/>
                  </a:lnTo>
                  <a:lnTo>
                    <a:pt x="25" y="32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7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5" y="12"/>
                  </a:lnTo>
                  <a:lnTo>
                    <a:pt x="163" y="16"/>
                  </a:lnTo>
                  <a:lnTo>
                    <a:pt x="172" y="22"/>
                  </a:lnTo>
                  <a:lnTo>
                    <a:pt x="179" y="28"/>
                  </a:lnTo>
                  <a:lnTo>
                    <a:pt x="186" y="36"/>
                  </a:lnTo>
                  <a:lnTo>
                    <a:pt x="192" y="43"/>
                  </a:lnTo>
                  <a:lnTo>
                    <a:pt x="197" y="52"/>
                  </a:lnTo>
                  <a:lnTo>
                    <a:pt x="201" y="60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8"/>
                  </a:lnTo>
                  <a:lnTo>
                    <a:pt x="208" y="98"/>
                  </a:lnTo>
                  <a:lnTo>
                    <a:pt x="208" y="104"/>
                  </a:lnTo>
                  <a:lnTo>
                    <a:pt x="207" y="110"/>
                  </a:lnTo>
                  <a:lnTo>
                    <a:pt x="206" y="116"/>
                  </a:lnTo>
                  <a:lnTo>
                    <a:pt x="205" y="121"/>
                  </a:lnTo>
                  <a:lnTo>
                    <a:pt x="204" y="126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7" y="142"/>
                  </a:lnTo>
                  <a:lnTo>
                    <a:pt x="194" y="147"/>
                  </a:lnTo>
                  <a:lnTo>
                    <a:pt x="191" y="151"/>
                  </a:lnTo>
                  <a:lnTo>
                    <a:pt x="187" y="155"/>
                  </a:lnTo>
                  <a:lnTo>
                    <a:pt x="183" y="160"/>
                  </a:lnTo>
                  <a:lnTo>
                    <a:pt x="180" y="163"/>
                  </a:lnTo>
                  <a:lnTo>
                    <a:pt x="176" y="166"/>
                  </a:lnTo>
                  <a:lnTo>
                    <a:pt x="171" y="169"/>
                  </a:lnTo>
                  <a:lnTo>
                    <a:pt x="166" y="172"/>
                  </a:lnTo>
                  <a:lnTo>
                    <a:pt x="171" y="175"/>
                  </a:lnTo>
                  <a:lnTo>
                    <a:pt x="176" y="179"/>
                  </a:lnTo>
                  <a:lnTo>
                    <a:pt x="179" y="182"/>
                  </a:lnTo>
                  <a:lnTo>
                    <a:pt x="183" y="185"/>
                  </a:lnTo>
                  <a:lnTo>
                    <a:pt x="187" y="189"/>
                  </a:lnTo>
                  <a:lnTo>
                    <a:pt x="191" y="193"/>
                  </a:lnTo>
                  <a:lnTo>
                    <a:pt x="194" y="199"/>
                  </a:lnTo>
                  <a:lnTo>
                    <a:pt x="197" y="203"/>
                  </a:lnTo>
                  <a:lnTo>
                    <a:pt x="200" y="208"/>
                  </a:lnTo>
                  <a:lnTo>
                    <a:pt x="202" y="213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29"/>
                  </a:lnTo>
                  <a:lnTo>
                    <a:pt x="207" y="235"/>
                  </a:lnTo>
                  <a:lnTo>
                    <a:pt x="208" y="241"/>
                  </a:lnTo>
                  <a:lnTo>
                    <a:pt x="208" y="246"/>
                  </a:lnTo>
                  <a:lnTo>
                    <a:pt x="207" y="257"/>
                  </a:lnTo>
                  <a:lnTo>
                    <a:pt x="206" y="267"/>
                  </a:lnTo>
                  <a:lnTo>
                    <a:pt x="204" y="277"/>
                  </a:lnTo>
                  <a:lnTo>
                    <a:pt x="201" y="287"/>
                  </a:lnTo>
                  <a:lnTo>
                    <a:pt x="196" y="295"/>
                  </a:lnTo>
                  <a:lnTo>
                    <a:pt x="191" y="304"/>
                  </a:lnTo>
                  <a:lnTo>
                    <a:pt x="184" y="312"/>
                  </a:lnTo>
                  <a:lnTo>
                    <a:pt x="178" y="319"/>
                  </a:lnTo>
                  <a:lnTo>
                    <a:pt x="170" y="326"/>
                  </a:lnTo>
                  <a:lnTo>
                    <a:pt x="161" y="332"/>
                  </a:lnTo>
                  <a:lnTo>
                    <a:pt x="153" y="337"/>
                  </a:lnTo>
                  <a:lnTo>
                    <a:pt x="143" y="341"/>
                  </a:lnTo>
                  <a:lnTo>
                    <a:pt x="133" y="344"/>
                  </a:lnTo>
                  <a:lnTo>
                    <a:pt x="122" y="347"/>
                  </a:lnTo>
                  <a:lnTo>
                    <a:pt x="112" y="348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4" y="348"/>
                  </a:lnTo>
                  <a:lnTo>
                    <a:pt x="76" y="347"/>
                  </a:lnTo>
                  <a:lnTo>
                    <a:pt x="69" y="344"/>
                  </a:lnTo>
                  <a:lnTo>
                    <a:pt x="62" y="342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1" y="333"/>
                  </a:lnTo>
                  <a:lnTo>
                    <a:pt x="34" y="330"/>
                  </a:lnTo>
                  <a:lnTo>
                    <a:pt x="29" y="325"/>
                  </a:lnTo>
                  <a:lnTo>
                    <a:pt x="23" y="320"/>
                  </a:lnTo>
                  <a:lnTo>
                    <a:pt x="17" y="315"/>
                  </a:lnTo>
                  <a:lnTo>
                    <a:pt x="12" y="310"/>
                  </a:lnTo>
                  <a:lnTo>
                    <a:pt x="8" y="304"/>
                  </a:lnTo>
                  <a:lnTo>
                    <a:pt x="4" y="297"/>
                  </a:lnTo>
                  <a:lnTo>
                    <a:pt x="0" y="29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203560" y="726840"/>
              <a:ext cx="238680" cy="235440"/>
            </a:xfrm>
            <a:custGeom>
              <a:avLst/>
              <a:gdLst/>
              <a:ahLst/>
              <a:rect l="l" t="t" r="r" b="b"/>
              <a:pathLst>
                <a:path w="367" h="360">
                  <a:moveTo>
                    <a:pt x="49" y="360"/>
                  </a:moveTo>
                  <a:lnTo>
                    <a:pt x="0" y="3"/>
                  </a:lnTo>
                  <a:lnTo>
                    <a:pt x="92" y="3"/>
                  </a:lnTo>
                  <a:lnTo>
                    <a:pt x="111" y="169"/>
                  </a:lnTo>
                  <a:lnTo>
                    <a:pt x="184" y="0"/>
                  </a:lnTo>
                  <a:lnTo>
                    <a:pt x="255" y="169"/>
                  </a:lnTo>
                  <a:lnTo>
                    <a:pt x="277" y="3"/>
                  </a:lnTo>
                  <a:lnTo>
                    <a:pt x="367" y="3"/>
                  </a:lnTo>
                  <a:lnTo>
                    <a:pt x="321" y="360"/>
                  </a:lnTo>
                  <a:lnTo>
                    <a:pt x="248" y="360"/>
                  </a:lnTo>
                  <a:lnTo>
                    <a:pt x="184" y="200"/>
                  </a:lnTo>
                  <a:lnTo>
                    <a:pt x="120" y="360"/>
                  </a:lnTo>
                  <a:lnTo>
                    <a:pt x="49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03800" y="887040"/>
              <a:ext cx="3312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4" y="53"/>
                  </a:lnTo>
                  <a:lnTo>
                    <a:pt x="36" y="52"/>
                  </a:lnTo>
                  <a:lnTo>
                    <a:pt x="38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3" y="51"/>
                  </a:lnTo>
                  <a:lnTo>
                    <a:pt x="15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451960" y="792000"/>
              <a:ext cx="13428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2" y="253"/>
                  </a:lnTo>
                  <a:lnTo>
                    <a:pt x="34" y="249"/>
                  </a:lnTo>
                  <a:lnTo>
                    <a:pt x="28" y="245"/>
                  </a:lnTo>
                  <a:lnTo>
                    <a:pt x="23" y="238"/>
                  </a:lnTo>
                  <a:lnTo>
                    <a:pt x="17" y="232"/>
                  </a:lnTo>
                  <a:lnTo>
                    <a:pt x="12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9" y="131"/>
                  </a:lnTo>
                  <a:lnTo>
                    <a:pt x="13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3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5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2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3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4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4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609280" y="792000"/>
              <a:ext cx="9396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7" y="257"/>
                  </a:moveTo>
                  <a:lnTo>
                    <a:pt x="7" y="176"/>
                  </a:lnTo>
                  <a:lnTo>
                    <a:pt x="9" y="177"/>
                  </a:lnTo>
                  <a:lnTo>
                    <a:pt x="10" y="179"/>
                  </a:lnTo>
                  <a:lnTo>
                    <a:pt x="12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9" y="177"/>
                  </a:lnTo>
                  <a:lnTo>
                    <a:pt x="50" y="175"/>
                  </a:lnTo>
                  <a:lnTo>
                    <a:pt x="51" y="174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53" y="170"/>
                  </a:lnTo>
                  <a:lnTo>
                    <a:pt x="53" y="168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2" y="161"/>
                  </a:lnTo>
                  <a:lnTo>
                    <a:pt x="50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0" y="134"/>
                  </a:lnTo>
                  <a:lnTo>
                    <a:pt x="29" y="133"/>
                  </a:lnTo>
                  <a:lnTo>
                    <a:pt x="27" y="132"/>
                  </a:lnTo>
                  <a:lnTo>
                    <a:pt x="27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1" y="114"/>
                  </a:lnTo>
                  <a:lnTo>
                    <a:pt x="10" y="111"/>
                  </a:lnTo>
                  <a:lnTo>
                    <a:pt x="8" y="108"/>
                  </a:lnTo>
                  <a:lnTo>
                    <a:pt x="7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7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9" y="4"/>
                  </a:lnTo>
                  <a:lnTo>
                    <a:pt x="139" y="80"/>
                  </a:lnTo>
                  <a:lnTo>
                    <a:pt x="137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7" y="74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7" y="76"/>
                  </a:lnTo>
                  <a:lnTo>
                    <a:pt x="96" y="77"/>
                  </a:lnTo>
                  <a:lnTo>
                    <a:pt x="94" y="78"/>
                  </a:lnTo>
                  <a:lnTo>
                    <a:pt x="93" y="79"/>
                  </a:lnTo>
                  <a:lnTo>
                    <a:pt x="92" y="80"/>
                  </a:lnTo>
                  <a:lnTo>
                    <a:pt x="92" y="81"/>
                  </a:lnTo>
                  <a:lnTo>
                    <a:pt x="91" y="83"/>
                  </a:lnTo>
                  <a:lnTo>
                    <a:pt x="91" y="84"/>
                  </a:lnTo>
                  <a:lnTo>
                    <a:pt x="91" y="86"/>
                  </a:lnTo>
                  <a:lnTo>
                    <a:pt x="91" y="87"/>
                  </a:lnTo>
                  <a:lnTo>
                    <a:pt x="91" y="88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3" y="97"/>
                  </a:lnTo>
                  <a:lnTo>
                    <a:pt x="94" y="98"/>
                  </a:lnTo>
                  <a:lnTo>
                    <a:pt x="95" y="100"/>
                  </a:lnTo>
                  <a:lnTo>
                    <a:pt x="96" y="101"/>
                  </a:lnTo>
                  <a:lnTo>
                    <a:pt x="98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6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5" y="146"/>
                  </a:lnTo>
                  <a:lnTo>
                    <a:pt x="137" y="150"/>
                  </a:lnTo>
                  <a:lnTo>
                    <a:pt x="139" y="154"/>
                  </a:lnTo>
                  <a:lnTo>
                    <a:pt x="141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6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5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3" y="256"/>
                  </a:lnTo>
                  <a:lnTo>
                    <a:pt x="84" y="258"/>
                  </a:lnTo>
                  <a:lnTo>
                    <a:pt x="75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3" y="261"/>
                  </a:lnTo>
                  <a:lnTo>
                    <a:pt x="51" y="261"/>
                  </a:lnTo>
                  <a:lnTo>
                    <a:pt x="49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1" y="260"/>
                  </a:lnTo>
                  <a:lnTo>
                    <a:pt x="28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1" y="257"/>
                  </a:lnTo>
                  <a:lnTo>
                    <a:pt x="7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72628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3" y="107"/>
                  </a:lnTo>
                  <a:lnTo>
                    <a:pt x="108" y="105"/>
                  </a:lnTo>
                  <a:lnTo>
                    <a:pt x="111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8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6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0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5" y="185"/>
                  </a:lnTo>
                  <a:lnTo>
                    <a:pt x="123" y="184"/>
                  </a:lnTo>
                  <a:lnTo>
                    <a:pt x="120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90016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90016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9854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6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6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9" y="58"/>
                  </a:lnTo>
                  <a:lnTo>
                    <a:pt x="220" y="67"/>
                  </a:lnTo>
                  <a:lnTo>
                    <a:pt x="221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6" y="114"/>
                  </a:lnTo>
                  <a:lnTo>
                    <a:pt x="136" y="109"/>
                  </a:lnTo>
                  <a:lnTo>
                    <a:pt x="135" y="105"/>
                  </a:lnTo>
                  <a:lnTo>
                    <a:pt x="135" y="102"/>
                  </a:lnTo>
                  <a:lnTo>
                    <a:pt x="134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7" y="90"/>
                  </a:lnTo>
                  <a:lnTo>
                    <a:pt x="126" y="88"/>
                  </a:lnTo>
                  <a:lnTo>
                    <a:pt x="123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3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07960" y="847440"/>
              <a:ext cx="38520" cy="3924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63"/>
                  </a:moveTo>
                  <a:lnTo>
                    <a:pt x="35" y="63"/>
                  </a:lnTo>
                  <a:lnTo>
                    <a:pt x="38" y="62"/>
                  </a:lnTo>
                  <a:lnTo>
                    <a:pt x="41" y="62"/>
                  </a:lnTo>
                  <a:lnTo>
                    <a:pt x="44" y="61"/>
                  </a:lnTo>
                  <a:lnTo>
                    <a:pt x="47" y="60"/>
                  </a:lnTo>
                  <a:lnTo>
                    <a:pt x="49" y="58"/>
                  </a:lnTo>
                  <a:lnTo>
                    <a:pt x="52" y="56"/>
                  </a:lnTo>
                  <a:lnTo>
                    <a:pt x="55" y="54"/>
                  </a:lnTo>
                  <a:lnTo>
                    <a:pt x="57" y="51"/>
                  </a:lnTo>
                  <a:lnTo>
                    <a:pt x="59" y="48"/>
                  </a:lnTo>
                  <a:lnTo>
                    <a:pt x="60" y="46"/>
                  </a:lnTo>
                  <a:lnTo>
                    <a:pt x="62" y="43"/>
                  </a:lnTo>
                  <a:lnTo>
                    <a:pt x="63" y="40"/>
                  </a:lnTo>
                  <a:lnTo>
                    <a:pt x="63" y="38"/>
                  </a:lnTo>
                  <a:lnTo>
                    <a:pt x="64" y="35"/>
                  </a:lnTo>
                  <a:lnTo>
                    <a:pt x="64" y="31"/>
                  </a:lnTo>
                  <a:lnTo>
                    <a:pt x="64" y="28"/>
                  </a:lnTo>
                  <a:lnTo>
                    <a:pt x="63" y="25"/>
                  </a:lnTo>
                  <a:lnTo>
                    <a:pt x="63" y="22"/>
                  </a:lnTo>
                  <a:lnTo>
                    <a:pt x="62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5" y="9"/>
                  </a:lnTo>
                  <a:lnTo>
                    <a:pt x="52" y="7"/>
                  </a:lnTo>
                  <a:lnTo>
                    <a:pt x="49" y="5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2" y="41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5" y="49"/>
                  </a:lnTo>
                  <a:lnTo>
                    <a:pt x="7" y="51"/>
                  </a:lnTo>
                  <a:lnTo>
                    <a:pt x="10" y="54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7" y="60"/>
                  </a:lnTo>
                  <a:lnTo>
                    <a:pt x="20" y="61"/>
                  </a:lnTo>
                  <a:lnTo>
                    <a:pt x="22" y="62"/>
                  </a:lnTo>
                  <a:lnTo>
                    <a:pt x="25" y="63"/>
                  </a:lnTo>
                  <a:lnTo>
                    <a:pt x="28" y="63"/>
                  </a:lnTo>
                  <a:lnTo>
                    <a:pt x="32" y="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148560" y="792000"/>
              <a:ext cx="156960" cy="22896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146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38" y="226"/>
                  </a:lnTo>
                  <a:lnTo>
                    <a:pt x="135" y="226"/>
                  </a:lnTo>
                  <a:lnTo>
                    <a:pt x="133" y="227"/>
                  </a:lnTo>
                  <a:lnTo>
                    <a:pt x="132" y="227"/>
                  </a:lnTo>
                  <a:lnTo>
                    <a:pt x="130" y="227"/>
                  </a:lnTo>
                  <a:lnTo>
                    <a:pt x="128" y="227"/>
                  </a:lnTo>
                  <a:lnTo>
                    <a:pt x="126" y="227"/>
                  </a:lnTo>
                  <a:lnTo>
                    <a:pt x="124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7" y="228"/>
                  </a:lnTo>
                  <a:lnTo>
                    <a:pt x="115" y="228"/>
                  </a:lnTo>
                  <a:lnTo>
                    <a:pt x="104" y="227"/>
                  </a:lnTo>
                  <a:lnTo>
                    <a:pt x="92" y="226"/>
                  </a:lnTo>
                  <a:lnTo>
                    <a:pt x="82" y="224"/>
                  </a:lnTo>
                  <a:lnTo>
                    <a:pt x="71" y="219"/>
                  </a:lnTo>
                  <a:lnTo>
                    <a:pt x="62" y="215"/>
                  </a:lnTo>
                  <a:lnTo>
                    <a:pt x="54" y="210"/>
                  </a:lnTo>
                  <a:lnTo>
                    <a:pt x="44" y="204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6" y="127"/>
                  </a:lnTo>
                  <a:lnTo>
                    <a:pt x="6" y="114"/>
                  </a:lnTo>
                  <a:lnTo>
                    <a:pt x="6" y="103"/>
                  </a:lnTo>
                  <a:lnTo>
                    <a:pt x="8" y="90"/>
                  </a:lnTo>
                  <a:lnTo>
                    <a:pt x="11" y="80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4" y="49"/>
                  </a:lnTo>
                  <a:lnTo>
                    <a:pt x="30" y="41"/>
                  </a:lnTo>
                  <a:lnTo>
                    <a:pt x="38" y="33"/>
                  </a:lnTo>
                  <a:lnTo>
                    <a:pt x="46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5" y="8"/>
                  </a:lnTo>
                  <a:lnTo>
                    <a:pt x="85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2" y="4"/>
                  </a:lnTo>
                  <a:lnTo>
                    <a:pt x="154" y="5"/>
                  </a:lnTo>
                  <a:lnTo>
                    <a:pt x="238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7" y="52"/>
                  </a:lnTo>
                  <a:lnTo>
                    <a:pt x="220" y="57"/>
                  </a:lnTo>
                  <a:lnTo>
                    <a:pt x="223" y="61"/>
                  </a:lnTo>
                  <a:lnTo>
                    <a:pt x="225" y="66"/>
                  </a:lnTo>
                  <a:lnTo>
                    <a:pt x="227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6" y="113"/>
                  </a:lnTo>
                  <a:lnTo>
                    <a:pt x="236" y="119"/>
                  </a:lnTo>
                  <a:lnTo>
                    <a:pt x="236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0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19" y="172"/>
                  </a:lnTo>
                  <a:lnTo>
                    <a:pt x="217" y="176"/>
                  </a:lnTo>
                  <a:lnTo>
                    <a:pt x="214" y="180"/>
                  </a:lnTo>
                  <a:lnTo>
                    <a:pt x="211" y="184"/>
                  </a:lnTo>
                  <a:lnTo>
                    <a:pt x="214" y="188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20" y="199"/>
                  </a:lnTo>
                  <a:lnTo>
                    <a:pt x="223" y="203"/>
                  </a:lnTo>
                  <a:lnTo>
                    <a:pt x="224" y="207"/>
                  </a:lnTo>
                  <a:lnTo>
                    <a:pt x="226" y="211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29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1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1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4" y="287"/>
                  </a:lnTo>
                  <a:lnTo>
                    <a:pt x="219" y="296"/>
                  </a:lnTo>
                  <a:lnTo>
                    <a:pt x="214" y="304"/>
                  </a:lnTo>
                  <a:lnTo>
                    <a:pt x="207" y="313"/>
                  </a:lnTo>
                  <a:lnTo>
                    <a:pt x="199" y="320"/>
                  </a:lnTo>
                  <a:lnTo>
                    <a:pt x="191" y="328"/>
                  </a:lnTo>
                  <a:lnTo>
                    <a:pt x="183" y="334"/>
                  </a:lnTo>
                  <a:lnTo>
                    <a:pt x="173" y="339"/>
                  </a:lnTo>
                  <a:lnTo>
                    <a:pt x="163" y="343"/>
                  </a:lnTo>
                  <a:lnTo>
                    <a:pt x="152" y="346"/>
                  </a:lnTo>
                  <a:lnTo>
                    <a:pt x="141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99" y="350"/>
                  </a:lnTo>
                  <a:lnTo>
                    <a:pt x="90" y="349"/>
                  </a:lnTo>
                  <a:lnTo>
                    <a:pt x="82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0" y="338"/>
                  </a:lnTo>
                  <a:lnTo>
                    <a:pt x="43" y="335"/>
                  </a:lnTo>
                  <a:lnTo>
                    <a:pt x="36" y="331"/>
                  </a:lnTo>
                  <a:lnTo>
                    <a:pt x="29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5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7" y="244"/>
                  </a:lnTo>
                  <a:lnTo>
                    <a:pt x="51" y="248"/>
                  </a:lnTo>
                  <a:lnTo>
                    <a:pt x="56" y="251"/>
                  </a:lnTo>
                  <a:lnTo>
                    <a:pt x="60" y="254"/>
                  </a:lnTo>
                  <a:lnTo>
                    <a:pt x="64" y="257"/>
                  </a:lnTo>
                  <a:lnTo>
                    <a:pt x="68" y="259"/>
                  </a:lnTo>
                  <a:lnTo>
                    <a:pt x="73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0" y="269"/>
                  </a:lnTo>
                  <a:lnTo>
                    <a:pt x="94" y="270"/>
                  </a:lnTo>
                  <a:lnTo>
                    <a:pt x="99" y="271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11" y="272"/>
                  </a:lnTo>
                  <a:lnTo>
                    <a:pt x="115" y="272"/>
                  </a:lnTo>
                  <a:lnTo>
                    <a:pt x="120" y="272"/>
                  </a:lnTo>
                  <a:lnTo>
                    <a:pt x="123" y="271"/>
                  </a:lnTo>
                  <a:lnTo>
                    <a:pt x="127" y="270"/>
                  </a:lnTo>
                  <a:lnTo>
                    <a:pt x="130" y="269"/>
                  </a:lnTo>
                  <a:lnTo>
                    <a:pt x="132" y="268"/>
                  </a:lnTo>
                  <a:lnTo>
                    <a:pt x="135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8" y="245"/>
                  </a:lnTo>
                  <a:lnTo>
                    <a:pt x="148" y="241"/>
                  </a:lnTo>
                  <a:lnTo>
                    <a:pt x="148" y="240"/>
                  </a:lnTo>
                  <a:lnTo>
                    <a:pt x="148" y="239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48" y="237"/>
                  </a:lnTo>
                  <a:lnTo>
                    <a:pt x="148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7" y="231"/>
                  </a:lnTo>
                  <a:lnTo>
                    <a:pt x="147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6" y="226"/>
                  </a:lnTo>
                  <a:lnTo>
                    <a:pt x="146" y="22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25320" y="743040"/>
              <a:ext cx="91800" cy="22212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23" y="332"/>
                  </a:moveTo>
                  <a:lnTo>
                    <a:pt x="121" y="333"/>
                  </a:lnTo>
                  <a:lnTo>
                    <a:pt x="118" y="333"/>
                  </a:lnTo>
                  <a:lnTo>
                    <a:pt x="116" y="333"/>
                  </a:lnTo>
                  <a:lnTo>
                    <a:pt x="114" y="333"/>
                  </a:lnTo>
                  <a:lnTo>
                    <a:pt x="112" y="334"/>
                  </a:lnTo>
                  <a:lnTo>
                    <a:pt x="110" y="334"/>
                  </a:lnTo>
                  <a:lnTo>
                    <a:pt x="108" y="334"/>
                  </a:lnTo>
                  <a:lnTo>
                    <a:pt x="106" y="334"/>
                  </a:lnTo>
                  <a:lnTo>
                    <a:pt x="104" y="334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7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6"/>
                  </a:lnTo>
                  <a:lnTo>
                    <a:pt x="89" y="336"/>
                  </a:lnTo>
                  <a:lnTo>
                    <a:pt x="78" y="336"/>
                  </a:lnTo>
                  <a:lnTo>
                    <a:pt x="70" y="334"/>
                  </a:lnTo>
                  <a:lnTo>
                    <a:pt x="62" y="333"/>
                  </a:lnTo>
                  <a:lnTo>
                    <a:pt x="53" y="331"/>
                  </a:lnTo>
                  <a:lnTo>
                    <a:pt x="47" y="329"/>
                  </a:lnTo>
                  <a:lnTo>
                    <a:pt x="41" y="326"/>
                  </a:lnTo>
                  <a:lnTo>
                    <a:pt x="35" y="322"/>
                  </a:lnTo>
                  <a:lnTo>
                    <a:pt x="31" y="318"/>
                  </a:lnTo>
                  <a:lnTo>
                    <a:pt x="28" y="313"/>
                  </a:lnTo>
                  <a:lnTo>
                    <a:pt x="25" y="307"/>
                  </a:lnTo>
                  <a:lnTo>
                    <a:pt x="22" y="300"/>
                  </a:lnTo>
                  <a:lnTo>
                    <a:pt x="20" y="291"/>
                  </a:lnTo>
                  <a:lnTo>
                    <a:pt x="17" y="281"/>
                  </a:lnTo>
                  <a:lnTo>
                    <a:pt x="16" y="270"/>
                  </a:lnTo>
                  <a:lnTo>
                    <a:pt x="15" y="259"/>
                  </a:lnTo>
                  <a:lnTo>
                    <a:pt x="15" y="245"/>
                  </a:lnTo>
                  <a:lnTo>
                    <a:pt x="15" y="152"/>
                  </a:lnTo>
                  <a:lnTo>
                    <a:pt x="0" y="152"/>
                  </a:lnTo>
                  <a:lnTo>
                    <a:pt x="0" y="75"/>
                  </a:lnTo>
                  <a:lnTo>
                    <a:pt x="15" y="75"/>
                  </a:lnTo>
                  <a:lnTo>
                    <a:pt x="15" y="48"/>
                  </a:lnTo>
                  <a:lnTo>
                    <a:pt x="100" y="0"/>
                  </a:lnTo>
                  <a:lnTo>
                    <a:pt x="100" y="75"/>
                  </a:lnTo>
                  <a:lnTo>
                    <a:pt x="132" y="75"/>
                  </a:lnTo>
                  <a:lnTo>
                    <a:pt x="132" y="152"/>
                  </a:lnTo>
                  <a:lnTo>
                    <a:pt x="100" y="152"/>
                  </a:lnTo>
                  <a:lnTo>
                    <a:pt x="100" y="210"/>
                  </a:lnTo>
                  <a:lnTo>
                    <a:pt x="100" y="215"/>
                  </a:lnTo>
                  <a:lnTo>
                    <a:pt x="100" y="220"/>
                  </a:lnTo>
                  <a:lnTo>
                    <a:pt x="100" y="224"/>
                  </a:lnTo>
                  <a:lnTo>
                    <a:pt x="101" y="227"/>
                  </a:lnTo>
                  <a:lnTo>
                    <a:pt x="101" y="231"/>
                  </a:lnTo>
                  <a:lnTo>
                    <a:pt x="102" y="234"/>
                  </a:lnTo>
                  <a:lnTo>
                    <a:pt x="104" y="236"/>
                  </a:lnTo>
                  <a:lnTo>
                    <a:pt x="105" y="238"/>
                  </a:lnTo>
                  <a:lnTo>
                    <a:pt x="107" y="240"/>
                  </a:lnTo>
                  <a:lnTo>
                    <a:pt x="108" y="241"/>
                  </a:lnTo>
                  <a:lnTo>
                    <a:pt x="110" y="242"/>
                  </a:lnTo>
                  <a:lnTo>
                    <a:pt x="112" y="243"/>
                  </a:lnTo>
                  <a:lnTo>
                    <a:pt x="115" y="244"/>
                  </a:lnTo>
                  <a:lnTo>
                    <a:pt x="117" y="244"/>
                  </a:lnTo>
                  <a:lnTo>
                    <a:pt x="120" y="244"/>
                  </a:lnTo>
                  <a:lnTo>
                    <a:pt x="123" y="244"/>
                  </a:lnTo>
                  <a:lnTo>
                    <a:pt x="126" y="244"/>
                  </a:lnTo>
                  <a:lnTo>
                    <a:pt x="127" y="244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130" y="244"/>
                  </a:lnTo>
                  <a:lnTo>
                    <a:pt x="131" y="244"/>
                  </a:lnTo>
                  <a:lnTo>
                    <a:pt x="132" y="244"/>
                  </a:lnTo>
                  <a:lnTo>
                    <a:pt x="133" y="244"/>
                  </a:lnTo>
                  <a:lnTo>
                    <a:pt x="133" y="244"/>
                  </a:lnTo>
                  <a:lnTo>
                    <a:pt x="134" y="244"/>
                  </a:lnTo>
                  <a:lnTo>
                    <a:pt x="135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37" y="244"/>
                  </a:lnTo>
                  <a:lnTo>
                    <a:pt x="138" y="243"/>
                  </a:lnTo>
                  <a:lnTo>
                    <a:pt x="139" y="243"/>
                  </a:lnTo>
                  <a:lnTo>
                    <a:pt x="123" y="33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85520" y="847440"/>
              <a:ext cx="59040" cy="6192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44" y="0"/>
                  </a:move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8"/>
                  </a:lnTo>
                  <a:lnTo>
                    <a:pt x="7" y="22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4" y="70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6" y="85"/>
                  </a:lnTo>
                  <a:lnTo>
                    <a:pt x="19" y="87"/>
                  </a:lnTo>
                  <a:lnTo>
                    <a:pt x="23" y="90"/>
                  </a:lnTo>
                  <a:lnTo>
                    <a:pt x="26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6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4" y="89"/>
                  </a:lnTo>
                  <a:lnTo>
                    <a:pt x="68" y="87"/>
                  </a:lnTo>
                  <a:lnTo>
                    <a:pt x="72" y="85"/>
                  </a:lnTo>
                  <a:lnTo>
                    <a:pt x="75" y="81"/>
                  </a:lnTo>
                  <a:lnTo>
                    <a:pt x="78" y="78"/>
                  </a:lnTo>
                  <a:lnTo>
                    <a:pt x="81" y="75"/>
                  </a:lnTo>
                  <a:lnTo>
                    <a:pt x="83" y="70"/>
                  </a:lnTo>
                  <a:lnTo>
                    <a:pt x="84" y="66"/>
                  </a:lnTo>
                  <a:lnTo>
                    <a:pt x="86" y="62"/>
                  </a:lnTo>
                  <a:lnTo>
                    <a:pt x="87" y="58"/>
                  </a:lnTo>
                  <a:lnTo>
                    <a:pt x="87" y="52"/>
                  </a:lnTo>
                  <a:lnTo>
                    <a:pt x="87" y="48"/>
                  </a:lnTo>
                  <a:lnTo>
                    <a:pt x="87" y="43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4" y="30"/>
                  </a:lnTo>
                  <a:lnTo>
                    <a:pt x="83" y="26"/>
                  </a:lnTo>
                  <a:lnTo>
                    <a:pt x="81" y="22"/>
                  </a:lnTo>
                  <a:lnTo>
                    <a:pt x="78" y="18"/>
                  </a:lnTo>
                  <a:lnTo>
                    <a:pt x="75" y="15"/>
                  </a:lnTo>
                  <a:lnTo>
                    <a:pt x="72" y="12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29720" y="792000"/>
              <a:ext cx="17028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1" y="0"/>
                  </a:moveTo>
                  <a:lnTo>
                    <a:pt x="144" y="1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1" y="9"/>
                  </a:lnTo>
                  <a:lnTo>
                    <a:pt x="192" y="16"/>
                  </a:lnTo>
                  <a:lnTo>
                    <a:pt x="204" y="22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49"/>
                  </a:lnTo>
                  <a:lnTo>
                    <a:pt x="240" y="60"/>
                  </a:lnTo>
                  <a:lnTo>
                    <a:pt x="247" y="70"/>
                  </a:lnTo>
                  <a:lnTo>
                    <a:pt x="252" y="82"/>
                  </a:lnTo>
                  <a:lnTo>
                    <a:pt x="256" y="94"/>
                  </a:lnTo>
                  <a:lnTo>
                    <a:pt x="259" y="107"/>
                  </a:lnTo>
                  <a:lnTo>
                    <a:pt x="261" y="120"/>
                  </a:lnTo>
                  <a:lnTo>
                    <a:pt x="261" y="133"/>
                  </a:lnTo>
                  <a:lnTo>
                    <a:pt x="261" y="147"/>
                  </a:lnTo>
                  <a:lnTo>
                    <a:pt x="259" y="160"/>
                  </a:lnTo>
                  <a:lnTo>
                    <a:pt x="256" y="172"/>
                  </a:lnTo>
                  <a:lnTo>
                    <a:pt x="252" y="185"/>
                  </a:lnTo>
                  <a:lnTo>
                    <a:pt x="247" y="196"/>
                  </a:lnTo>
                  <a:lnTo>
                    <a:pt x="240" y="207"/>
                  </a:lnTo>
                  <a:lnTo>
                    <a:pt x="232" y="217"/>
                  </a:lnTo>
                  <a:lnTo>
                    <a:pt x="224" y="227"/>
                  </a:lnTo>
                  <a:lnTo>
                    <a:pt x="214" y="236"/>
                  </a:lnTo>
                  <a:lnTo>
                    <a:pt x="204" y="245"/>
                  </a:lnTo>
                  <a:lnTo>
                    <a:pt x="193" y="251"/>
                  </a:lnTo>
                  <a:lnTo>
                    <a:pt x="182" y="256"/>
                  </a:lnTo>
                  <a:lnTo>
                    <a:pt x="169" y="260"/>
                  </a:lnTo>
                  <a:lnTo>
                    <a:pt x="158" y="263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3"/>
                  </a:lnTo>
                  <a:lnTo>
                    <a:pt x="93" y="260"/>
                  </a:lnTo>
                  <a:lnTo>
                    <a:pt x="80" y="256"/>
                  </a:lnTo>
                  <a:lnTo>
                    <a:pt x="69" y="251"/>
                  </a:lnTo>
                  <a:lnTo>
                    <a:pt x="58" y="245"/>
                  </a:lnTo>
                  <a:lnTo>
                    <a:pt x="47" y="236"/>
                  </a:lnTo>
                  <a:lnTo>
                    <a:pt x="38" y="227"/>
                  </a:lnTo>
                  <a:lnTo>
                    <a:pt x="30" y="217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5"/>
                  </a:lnTo>
                  <a:lnTo>
                    <a:pt x="5" y="172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10" y="82"/>
                  </a:lnTo>
                  <a:lnTo>
                    <a:pt x="15" y="70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8" y="1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62340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6" y="16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6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7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7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75040" y="726840"/>
              <a:ext cx="156960" cy="235440"/>
            </a:xfrm>
            <a:custGeom>
              <a:avLst/>
              <a:gdLst/>
              <a:ahLst/>
              <a:rect l="l" t="t" r="r" b="b"/>
              <a:pathLst>
                <a:path w="238" h="357">
                  <a:moveTo>
                    <a:pt x="166" y="91"/>
                  </a:moveTo>
                  <a:lnTo>
                    <a:pt x="166" y="357"/>
                  </a:lnTo>
                  <a:lnTo>
                    <a:pt x="73" y="357"/>
                  </a:lnTo>
                  <a:lnTo>
                    <a:pt x="73" y="91"/>
                  </a:lnTo>
                  <a:lnTo>
                    <a:pt x="0" y="91"/>
                  </a:lnTo>
                  <a:lnTo>
                    <a:pt x="10" y="0"/>
                  </a:lnTo>
                  <a:lnTo>
                    <a:pt x="228" y="0"/>
                  </a:lnTo>
                  <a:lnTo>
                    <a:pt x="238" y="91"/>
                  </a:lnTo>
                  <a:lnTo>
                    <a:pt x="166" y="9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05504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05504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39640" y="792000"/>
              <a:ext cx="228960" cy="17028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4"/>
                  </a:lnTo>
                  <a:lnTo>
                    <a:pt x="91" y="21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0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0"/>
                  </a:lnTo>
                  <a:lnTo>
                    <a:pt x="189" y="13"/>
                  </a:lnTo>
                  <a:lnTo>
                    <a:pt x="192" y="16"/>
                  </a:lnTo>
                  <a:lnTo>
                    <a:pt x="195" y="19"/>
                  </a:lnTo>
                  <a:lnTo>
                    <a:pt x="198" y="22"/>
                  </a:lnTo>
                  <a:lnTo>
                    <a:pt x="202" y="25"/>
                  </a:lnTo>
                  <a:lnTo>
                    <a:pt x="205" y="29"/>
                  </a:lnTo>
                  <a:lnTo>
                    <a:pt x="207" y="34"/>
                  </a:lnTo>
                  <a:lnTo>
                    <a:pt x="211" y="29"/>
                  </a:lnTo>
                  <a:lnTo>
                    <a:pt x="215" y="26"/>
                  </a:lnTo>
                  <a:lnTo>
                    <a:pt x="218" y="22"/>
                  </a:lnTo>
                  <a:lnTo>
                    <a:pt x="223" y="19"/>
                  </a:lnTo>
                  <a:lnTo>
                    <a:pt x="227" y="16"/>
                  </a:lnTo>
                  <a:lnTo>
                    <a:pt x="231" y="13"/>
                  </a:lnTo>
                  <a:lnTo>
                    <a:pt x="235" y="10"/>
                  </a:lnTo>
                  <a:lnTo>
                    <a:pt x="240" y="8"/>
                  </a:lnTo>
                  <a:lnTo>
                    <a:pt x="245" y="6"/>
                  </a:lnTo>
                  <a:lnTo>
                    <a:pt x="250" y="4"/>
                  </a:lnTo>
                  <a:lnTo>
                    <a:pt x="254" y="3"/>
                  </a:lnTo>
                  <a:lnTo>
                    <a:pt x="259" y="2"/>
                  </a:lnTo>
                  <a:lnTo>
                    <a:pt x="264" y="1"/>
                  </a:lnTo>
                  <a:lnTo>
                    <a:pt x="269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8" y="0"/>
                  </a:lnTo>
                  <a:lnTo>
                    <a:pt x="296" y="1"/>
                  </a:lnTo>
                  <a:lnTo>
                    <a:pt x="303" y="3"/>
                  </a:lnTo>
                  <a:lnTo>
                    <a:pt x="311" y="5"/>
                  </a:lnTo>
                  <a:lnTo>
                    <a:pt x="317" y="8"/>
                  </a:lnTo>
                  <a:lnTo>
                    <a:pt x="323" y="13"/>
                  </a:lnTo>
                  <a:lnTo>
                    <a:pt x="329" y="17"/>
                  </a:lnTo>
                  <a:lnTo>
                    <a:pt x="334" y="22"/>
                  </a:lnTo>
                  <a:lnTo>
                    <a:pt x="338" y="28"/>
                  </a:lnTo>
                  <a:lnTo>
                    <a:pt x="342" y="35"/>
                  </a:lnTo>
                  <a:lnTo>
                    <a:pt x="345" y="42"/>
                  </a:lnTo>
                  <a:lnTo>
                    <a:pt x="349" y="49"/>
                  </a:lnTo>
                  <a:lnTo>
                    <a:pt x="350" y="58"/>
                  </a:lnTo>
                  <a:lnTo>
                    <a:pt x="352" y="67"/>
                  </a:lnTo>
                  <a:lnTo>
                    <a:pt x="353" y="77"/>
                  </a:lnTo>
                  <a:lnTo>
                    <a:pt x="353" y="87"/>
                  </a:lnTo>
                  <a:lnTo>
                    <a:pt x="353" y="260"/>
                  </a:lnTo>
                  <a:lnTo>
                    <a:pt x="270" y="260"/>
                  </a:lnTo>
                  <a:lnTo>
                    <a:pt x="270" y="124"/>
                  </a:lnTo>
                  <a:lnTo>
                    <a:pt x="269" y="119"/>
                  </a:lnTo>
                  <a:lnTo>
                    <a:pt x="269" y="113"/>
                  </a:lnTo>
                  <a:lnTo>
                    <a:pt x="269" y="109"/>
                  </a:lnTo>
                  <a:lnTo>
                    <a:pt x="268" y="105"/>
                  </a:lnTo>
                  <a:lnTo>
                    <a:pt x="267" y="102"/>
                  </a:lnTo>
                  <a:lnTo>
                    <a:pt x="267" y="99"/>
                  </a:lnTo>
                  <a:lnTo>
                    <a:pt x="266" y="96"/>
                  </a:lnTo>
                  <a:lnTo>
                    <a:pt x="264" y="93"/>
                  </a:lnTo>
                  <a:lnTo>
                    <a:pt x="263" y="91"/>
                  </a:lnTo>
                  <a:lnTo>
                    <a:pt x="260" y="90"/>
                  </a:lnTo>
                  <a:lnTo>
                    <a:pt x="258" y="88"/>
                  </a:lnTo>
                  <a:lnTo>
                    <a:pt x="256" y="87"/>
                  </a:lnTo>
                  <a:lnTo>
                    <a:pt x="254" y="86"/>
                  </a:lnTo>
                  <a:lnTo>
                    <a:pt x="252" y="85"/>
                  </a:lnTo>
                  <a:lnTo>
                    <a:pt x="249" y="85"/>
                  </a:lnTo>
                  <a:lnTo>
                    <a:pt x="246" y="85"/>
                  </a:lnTo>
                  <a:lnTo>
                    <a:pt x="243" y="85"/>
                  </a:lnTo>
                  <a:lnTo>
                    <a:pt x="239" y="86"/>
                  </a:lnTo>
                  <a:lnTo>
                    <a:pt x="236" y="86"/>
                  </a:lnTo>
                  <a:lnTo>
                    <a:pt x="234" y="87"/>
                  </a:lnTo>
                  <a:lnTo>
                    <a:pt x="231" y="89"/>
                  </a:lnTo>
                  <a:lnTo>
                    <a:pt x="229" y="90"/>
                  </a:lnTo>
                  <a:lnTo>
                    <a:pt x="227" y="92"/>
                  </a:lnTo>
                  <a:lnTo>
                    <a:pt x="226" y="96"/>
                  </a:lnTo>
                  <a:lnTo>
                    <a:pt x="224" y="98"/>
                  </a:lnTo>
                  <a:lnTo>
                    <a:pt x="223" y="101"/>
                  </a:lnTo>
                  <a:lnTo>
                    <a:pt x="222" y="104"/>
                  </a:lnTo>
                  <a:lnTo>
                    <a:pt x="221" y="107"/>
                  </a:lnTo>
                  <a:lnTo>
                    <a:pt x="219" y="111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5"/>
                  </a:lnTo>
                  <a:lnTo>
                    <a:pt x="218" y="260"/>
                  </a:lnTo>
                  <a:lnTo>
                    <a:pt x="134" y="260"/>
                  </a:lnTo>
                  <a:lnTo>
                    <a:pt x="134" y="124"/>
                  </a:lnTo>
                  <a:lnTo>
                    <a:pt x="134" y="119"/>
                  </a:lnTo>
                  <a:lnTo>
                    <a:pt x="134" y="113"/>
                  </a:lnTo>
                  <a:lnTo>
                    <a:pt x="134" y="109"/>
                  </a:lnTo>
                  <a:lnTo>
                    <a:pt x="133" y="105"/>
                  </a:lnTo>
                  <a:lnTo>
                    <a:pt x="132" y="102"/>
                  </a:lnTo>
                  <a:lnTo>
                    <a:pt x="132" y="99"/>
                  </a:lnTo>
                  <a:lnTo>
                    <a:pt x="131" y="96"/>
                  </a:lnTo>
                  <a:lnTo>
                    <a:pt x="129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8"/>
                  </a:lnTo>
                  <a:lnTo>
                    <a:pt x="122" y="87"/>
                  </a:lnTo>
                  <a:lnTo>
                    <a:pt x="120" y="86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1" y="85"/>
                  </a:lnTo>
                  <a:lnTo>
                    <a:pt x="108" y="85"/>
                  </a:lnTo>
                  <a:lnTo>
                    <a:pt x="105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6"/>
                  </a:lnTo>
                  <a:lnTo>
                    <a:pt x="89" y="98"/>
                  </a:lnTo>
                  <a:lnTo>
                    <a:pt x="88" y="101"/>
                  </a:lnTo>
                  <a:lnTo>
                    <a:pt x="86" y="104"/>
                  </a:lnTo>
                  <a:lnTo>
                    <a:pt x="85" y="107"/>
                  </a:lnTo>
                  <a:lnTo>
                    <a:pt x="85" y="111"/>
                  </a:lnTo>
                  <a:lnTo>
                    <a:pt x="84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440960" y="834840"/>
              <a:ext cx="52560" cy="450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1" y="66"/>
                  </a:moveTo>
                  <a:lnTo>
                    <a:pt x="80" y="10"/>
                  </a:lnTo>
                  <a:lnTo>
                    <a:pt x="78" y="9"/>
                  </a:lnTo>
                  <a:lnTo>
                    <a:pt x="76" y="8"/>
                  </a:lnTo>
                  <a:lnTo>
                    <a:pt x="75" y="7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392000" y="79200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234" y="236"/>
                  </a:moveTo>
                  <a:lnTo>
                    <a:pt x="228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10" y="249"/>
                  </a:lnTo>
                  <a:lnTo>
                    <a:pt x="204" y="251"/>
                  </a:lnTo>
                  <a:lnTo>
                    <a:pt x="198" y="254"/>
                  </a:lnTo>
                  <a:lnTo>
                    <a:pt x="191" y="256"/>
                  </a:lnTo>
                  <a:lnTo>
                    <a:pt x="185" y="257"/>
                  </a:lnTo>
                  <a:lnTo>
                    <a:pt x="179" y="259"/>
                  </a:lnTo>
                  <a:lnTo>
                    <a:pt x="172" y="261"/>
                  </a:lnTo>
                  <a:lnTo>
                    <a:pt x="166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6" y="265"/>
                  </a:lnTo>
                  <a:lnTo>
                    <a:pt x="139" y="265"/>
                  </a:lnTo>
                  <a:lnTo>
                    <a:pt x="131" y="265"/>
                  </a:lnTo>
                  <a:lnTo>
                    <a:pt x="118" y="265"/>
                  </a:lnTo>
                  <a:lnTo>
                    <a:pt x="104" y="262"/>
                  </a:lnTo>
                  <a:lnTo>
                    <a:pt x="91" y="260"/>
                  </a:lnTo>
                  <a:lnTo>
                    <a:pt x="79" y="256"/>
                  </a:lnTo>
                  <a:lnTo>
                    <a:pt x="67" y="251"/>
                  </a:lnTo>
                  <a:lnTo>
                    <a:pt x="56" y="245"/>
                  </a:lnTo>
                  <a:lnTo>
                    <a:pt x="46" y="237"/>
                  </a:lnTo>
                  <a:lnTo>
                    <a:pt x="37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10" y="187"/>
                  </a:lnTo>
                  <a:lnTo>
                    <a:pt x="6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6" y="94"/>
                  </a:lnTo>
                  <a:lnTo>
                    <a:pt x="10" y="83"/>
                  </a:lnTo>
                  <a:lnTo>
                    <a:pt x="15" y="71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2"/>
                  </a:lnTo>
                  <a:lnTo>
                    <a:pt x="70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6"/>
                  </a:lnTo>
                  <a:lnTo>
                    <a:pt x="180" y="9"/>
                  </a:lnTo>
                  <a:lnTo>
                    <a:pt x="188" y="14"/>
                  </a:lnTo>
                  <a:lnTo>
                    <a:pt x="196" y="18"/>
                  </a:lnTo>
                  <a:lnTo>
                    <a:pt x="204" y="23"/>
                  </a:lnTo>
                  <a:lnTo>
                    <a:pt x="211" y="29"/>
                  </a:lnTo>
                  <a:lnTo>
                    <a:pt x="219" y="36"/>
                  </a:lnTo>
                  <a:lnTo>
                    <a:pt x="225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1" y="68"/>
                  </a:lnTo>
                  <a:lnTo>
                    <a:pt x="245" y="78"/>
                  </a:lnTo>
                  <a:lnTo>
                    <a:pt x="249" y="88"/>
                  </a:lnTo>
                  <a:lnTo>
                    <a:pt x="112" y="185"/>
                  </a:lnTo>
                  <a:lnTo>
                    <a:pt x="113" y="186"/>
                  </a:lnTo>
                  <a:lnTo>
                    <a:pt x="115" y="186"/>
                  </a:lnTo>
                  <a:lnTo>
                    <a:pt x="117" y="187"/>
                  </a:lnTo>
                  <a:lnTo>
                    <a:pt x="118" y="187"/>
                  </a:lnTo>
                  <a:lnTo>
                    <a:pt x="120" y="188"/>
                  </a:lnTo>
                  <a:lnTo>
                    <a:pt x="122" y="188"/>
                  </a:lnTo>
                  <a:lnTo>
                    <a:pt x="123" y="188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88"/>
                  </a:lnTo>
                  <a:lnTo>
                    <a:pt x="167" y="186"/>
                  </a:lnTo>
                  <a:lnTo>
                    <a:pt x="172" y="185"/>
                  </a:lnTo>
                  <a:lnTo>
                    <a:pt x="179" y="183"/>
                  </a:lnTo>
                  <a:lnTo>
                    <a:pt x="184" y="181"/>
                  </a:lnTo>
                  <a:lnTo>
                    <a:pt x="189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6" y="168"/>
                  </a:lnTo>
                  <a:lnTo>
                    <a:pt x="211" y="165"/>
                  </a:lnTo>
                  <a:lnTo>
                    <a:pt x="216" y="161"/>
                  </a:lnTo>
                  <a:lnTo>
                    <a:pt x="222" y="156"/>
                  </a:lnTo>
                  <a:lnTo>
                    <a:pt x="227" y="152"/>
                  </a:lnTo>
                  <a:lnTo>
                    <a:pt x="234" y="23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56840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6" y="257"/>
                  </a:moveTo>
                  <a:lnTo>
                    <a:pt x="6" y="176"/>
                  </a:lnTo>
                  <a:lnTo>
                    <a:pt x="8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1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8" y="177"/>
                  </a:lnTo>
                  <a:lnTo>
                    <a:pt x="49" y="175"/>
                  </a:lnTo>
                  <a:lnTo>
                    <a:pt x="50" y="174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52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2" y="164"/>
                  </a:lnTo>
                  <a:lnTo>
                    <a:pt x="51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1" y="137"/>
                  </a:lnTo>
                  <a:lnTo>
                    <a:pt x="30" y="135"/>
                  </a:lnTo>
                  <a:lnTo>
                    <a:pt x="29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0" y="114"/>
                  </a:lnTo>
                  <a:lnTo>
                    <a:pt x="9" y="111"/>
                  </a:lnTo>
                  <a:lnTo>
                    <a:pt x="7" y="108"/>
                  </a:lnTo>
                  <a:lnTo>
                    <a:pt x="6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8" y="4"/>
                  </a:lnTo>
                  <a:lnTo>
                    <a:pt x="138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6" y="74"/>
                  </a:lnTo>
                  <a:lnTo>
                    <a:pt x="115" y="72"/>
                  </a:lnTo>
                  <a:lnTo>
                    <a:pt x="113" y="72"/>
                  </a:lnTo>
                  <a:lnTo>
                    <a:pt x="112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90" y="89"/>
                  </a:lnTo>
                  <a:lnTo>
                    <a:pt x="90" y="91"/>
                  </a:lnTo>
                  <a:lnTo>
                    <a:pt x="90" y="92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2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40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0" y="260"/>
                  </a:lnTo>
                  <a:lnTo>
                    <a:pt x="27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0" y="257"/>
                  </a:lnTo>
                  <a:lnTo>
                    <a:pt x="6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840200" y="766080"/>
              <a:ext cx="32400" cy="392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4" y="61"/>
                  </a:moveTo>
                  <a:lnTo>
                    <a:pt x="27" y="59"/>
                  </a:lnTo>
                  <a:lnTo>
                    <a:pt x="30" y="57"/>
                  </a:lnTo>
                  <a:lnTo>
                    <a:pt x="32" y="55"/>
                  </a:lnTo>
                  <a:lnTo>
                    <a:pt x="35" y="51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6" y="39"/>
                  </a:lnTo>
                  <a:lnTo>
                    <a:pt x="47" y="36"/>
                  </a:lnTo>
                  <a:lnTo>
                    <a:pt x="47" y="34"/>
                  </a:lnTo>
                  <a:lnTo>
                    <a:pt x="48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9" y="22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7" y="15"/>
                  </a:lnTo>
                  <a:lnTo>
                    <a:pt x="46" y="13"/>
                  </a:lnTo>
                  <a:lnTo>
                    <a:pt x="45" y="11"/>
                  </a:lnTo>
                  <a:lnTo>
                    <a:pt x="44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11" y="47"/>
                  </a:lnTo>
                  <a:lnTo>
                    <a:pt x="13" y="49"/>
                  </a:lnTo>
                  <a:lnTo>
                    <a:pt x="15" y="53"/>
                  </a:lnTo>
                  <a:lnTo>
                    <a:pt x="17" y="56"/>
                  </a:lnTo>
                  <a:lnTo>
                    <a:pt x="21" y="58"/>
                  </a:lnTo>
                  <a:lnTo>
                    <a:pt x="24" y="6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820760" y="870480"/>
              <a:ext cx="42120" cy="392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29"/>
                  </a:moveTo>
                  <a:lnTo>
                    <a:pt x="36" y="0"/>
                  </a:lnTo>
                  <a:lnTo>
                    <a:pt x="31" y="4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0" y="23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8" y="56"/>
                  </a:lnTo>
                  <a:lnTo>
                    <a:pt x="9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5" y="61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9" y="56"/>
                  </a:lnTo>
                  <a:lnTo>
                    <a:pt x="33" y="54"/>
                  </a:lnTo>
                  <a:lnTo>
                    <a:pt x="38" y="50"/>
                  </a:lnTo>
                  <a:lnTo>
                    <a:pt x="43" y="46"/>
                  </a:lnTo>
                  <a:lnTo>
                    <a:pt x="50" y="41"/>
                  </a:lnTo>
                  <a:lnTo>
                    <a:pt x="57" y="34"/>
                  </a:lnTo>
                  <a:lnTo>
                    <a:pt x="61" y="2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771080" y="723960"/>
              <a:ext cx="199440" cy="241560"/>
            </a:xfrm>
            <a:custGeom>
              <a:avLst/>
              <a:gdLst/>
              <a:ahLst/>
              <a:rect l="l" t="t" r="r" b="b"/>
              <a:pathLst>
                <a:path w="306" h="370">
                  <a:moveTo>
                    <a:pt x="239" y="369"/>
                  </a:moveTo>
                  <a:lnTo>
                    <a:pt x="190" y="315"/>
                  </a:lnTo>
                  <a:lnTo>
                    <a:pt x="182" y="322"/>
                  </a:lnTo>
                  <a:lnTo>
                    <a:pt x="174" y="330"/>
                  </a:lnTo>
                  <a:lnTo>
                    <a:pt x="166" y="337"/>
                  </a:lnTo>
                  <a:lnTo>
                    <a:pt x="159" y="342"/>
                  </a:lnTo>
                  <a:lnTo>
                    <a:pt x="152" y="348"/>
                  </a:lnTo>
                  <a:lnTo>
                    <a:pt x="146" y="353"/>
                  </a:lnTo>
                  <a:lnTo>
                    <a:pt x="140" y="356"/>
                  </a:lnTo>
                  <a:lnTo>
                    <a:pt x="135" y="359"/>
                  </a:lnTo>
                  <a:lnTo>
                    <a:pt x="130" y="361"/>
                  </a:lnTo>
                  <a:lnTo>
                    <a:pt x="125" y="363"/>
                  </a:lnTo>
                  <a:lnTo>
                    <a:pt x="120" y="365"/>
                  </a:lnTo>
                  <a:lnTo>
                    <a:pt x="115" y="366"/>
                  </a:lnTo>
                  <a:lnTo>
                    <a:pt x="110" y="369"/>
                  </a:lnTo>
                  <a:lnTo>
                    <a:pt x="104" y="369"/>
                  </a:lnTo>
                  <a:lnTo>
                    <a:pt x="99" y="370"/>
                  </a:lnTo>
                  <a:lnTo>
                    <a:pt x="93" y="370"/>
                  </a:lnTo>
                  <a:lnTo>
                    <a:pt x="83" y="370"/>
                  </a:lnTo>
                  <a:lnTo>
                    <a:pt x="75" y="368"/>
                  </a:lnTo>
                  <a:lnTo>
                    <a:pt x="66" y="365"/>
                  </a:lnTo>
                  <a:lnTo>
                    <a:pt x="57" y="362"/>
                  </a:lnTo>
                  <a:lnTo>
                    <a:pt x="50" y="359"/>
                  </a:lnTo>
                  <a:lnTo>
                    <a:pt x="41" y="354"/>
                  </a:lnTo>
                  <a:lnTo>
                    <a:pt x="34" y="349"/>
                  </a:lnTo>
                  <a:lnTo>
                    <a:pt x="28" y="342"/>
                  </a:lnTo>
                  <a:lnTo>
                    <a:pt x="20" y="335"/>
                  </a:lnTo>
                  <a:lnTo>
                    <a:pt x="15" y="328"/>
                  </a:lnTo>
                  <a:lnTo>
                    <a:pt x="11" y="319"/>
                  </a:lnTo>
                  <a:lnTo>
                    <a:pt x="7" y="312"/>
                  </a:lnTo>
                  <a:lnTo>
                    <a:pt x="4" y="303"/>
                  </a:lnTo>
                  <a:lnTo>
                    <a:pt x="2" y="294"/>
                  </a:lnTo>
                  <a:lnTo>
                    <a:pt x="1" y="285"/>
                  </a:lnTo>
                  <a:lnTo>
                    <a:pt x="0" y="275"/>
                  </a:lnTo>
                  <a:lnTo>
                    <a:pt x="1" y="270"/>
                  </a:lnTo>
                  <a:lnTo>
                    <a:pt x="1" y="264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6" y="246"/>
                  </a:lnTo>
                  <a:lnTo>
                    <a:pt x="9" y="239"/>
                  </a:lnTo>
                  <a:lnTo>
                    <a:pt x="11" y="234"/>
                  </a:lnTo>
                  <a:lnTo>
                    <a:pt x="15" y="229"/>
                  </a:lnTo>
                  <a:lnTo>
                    <a:pt x="19" y="223"/>
                  </a:lnTo>
                  <a:lnTo>
                    <a:pt x="25" y="216"/>
                  </a:lnTo>
                  <a:lnTo>
                    <a:pt x="30" y="210"/>
                  </a:lnTo>
                  <a:lnTo>
                    <a:pt x="36" y="204"/>
                  </a:lnTo>
                  <a:lnTo>
                    <a:pt x="44" y="196"/>
                  </a:lnTo>
                  <a:lnTo>
                    <a:pt x="52" y="189"/>
                  </a:lnTo>
                  <a:lnTo>
                    <a:pt x="60" y="182"/>
                  </a:lnTo>
                  <a:lnTo>
                    <a:pt x="71" y="173"/>
                  </a:lnTo>
                  <a:lnTo>
                    <a:pt x="65" y="167"/>
                  </a:lnTo>
                  <a:lnTo>
                    <a:pt x="60" y="161"/>
                  </a:lnTo>
                  <a:lnTo>
                    <a:pt x="55" y="154"/>
                  </a:lnTo>
                  <a:lnTo>
                    <a:pt x="51" y="148"/>
                  </a:lnTo>
                  <a:lnTo>
                    <a:pt x="48" y="143"/>
                  </a:lnTo>
                  <a:lnTo>
                    <a:pt x="45" y="138"/>
                  </a:lnTo>
                  <a:lnTo>
                    <a:pt x="41" y="132"/>
                  </a:lnTo>
                  <a:lnTo>
                    <a:pt x="39" y="128"/>
                  </a:lnTo>
                  <a:lnTo>
                    <a:pt x="37" y="123"/>
                  </a:lnTo>
                  <a:lnTo>
                    <a:pt x="36" y="119"/>
                  </a:lnTo>
                  <a:lnTo>
                    <a:pt x="34" y="114"/>
                  </a:lnTo>
                  <a:lnTo>
                    <a:pt x="33" y="109"/>
                  </a:lnTo>
                  <a:lnTo>
                    <a:pt x="32" y="105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1" y="90"/>
                  </a:lnTo>
                  <a:lnTo>
                    <a:pt x="32" y="81"/>
                  </a:lnTo>
                  <a:lnTo>
                    <a:pt x="33" y="71"/>
                  </a:lnTo>
                  <a:lnTo>
                    <a:pt x="35" y="63"/>
                  </a:lnTo>
                  <a:lnTo>
                    <a:pt x="38" y="55"/>
                  </a:lnTo>
                  <a:lnTo>
                    <a:pt x="43" y="46"/>
                  </a:lnTo>
                  <a:lnTo>
                    <a:pt x="48" y="39"/>
                  </a:lnTo>
                  <a:lnTo>
                    <a:pt x="53" y="32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5" y="15"/>
                  </a:lnTo>
                  <a:lnTo>
                    <a:pt x="83" y="9"/>
                  </a:lnTo>
                  <a:lnTo>
                    <a:pt x="93" y="6"/>
                  </a:lnTo>
                  <a:lnTo>
                    <a:pt x="102" y="3"/>
                  </a:lnTo>
                  <a:lnTo>
                    <a:pt x="113" y="2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1"/>
                  </a:lnTo>
                  <a:lnTo>
                    <a:pt x="163" y="3"/>
                  </a:lnTo>
                  <a:lnTo>
                    <a:pt x="172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5" y="18"/>
                  </a:lnTo>
                  <a:lnTo>
                    <a:pt x="201" y="23"/>
                  </a:lnTo>
                  <a:lnTo>
                    <a:pt x="207" y="29"/>
                  </a:lnTo>
                  <a:lnTo>
                    <a:pt x="213" y="36"/>
                  </a:lnTo>
                  <a:lnTo>
                    <a:pt x="217" y="43"/>
                  </a:lnTo>
                  <a:lnTo>
                    <a:pt x="221" y="49"/>
                  </a:lnTo>
                  <a:lnTo>
                    <a:pt x="224" y="58"/>
                  </a:lnTo>
                  <a:lnTo>
                    <a:pt x="226" y="65"/>
                  </a:lnTo>
                  <a:lnTo>
                    <a:pt x="227" y="74"/>
                  </a:lnTo>
                  <a:lnTo>
                    <a:pt x="227" y="82"/>
                  </a:lnTo>
                  <a:lnTo>
                    <a:pt x="227" y="88"/>
                  </a:lnTo>
                  <a:lnTo>
                    <a:pt x="226" y="93"/>
                  </a:lnTo>
                  <a:lnTo>
                    <a:pt x="225" y="99"/>
                  </a:lnTo>
                  <a:lnTo>
                    <a:pt x="224" y="104"/>
                  </a:lnTo>
                  <a:lnTo>
                    <a:pt x="222" y="110"/>
                  </a:lnTo>
                  <a:lnTo>
                    <a:pt x="220" y="116"/>
                  </a:lnTo>
                  <a:lnTo>
                    <a:pt x="218" y="121"/>
                  </a:lnTo>
                  <a:lnTo>
                    <a:pt x="215" y="125"/>
                  </a:lnTo>
                  <a:lnTo>
                    <a:pt x="211" y="130"/>
                  </a:lnTo>
                  <a:lnTo>
                    <a:pt x="207" y="135"/>
                  </a:lnTo>
                  <a:lnTo>
                    <a:pt x="203" y="141"/>
                  </a:lnTo>
                  <a:lnTo>
                    <a:pt x="198" y="147"/>
                  </a:lnTo>
                  <a:lnTo>
                    <a:pt x="193" y="152"/>
                  </a:lnTo>
                  <a:lnTo>
                    <a:pt x="186" y="159"/>
                  </a:lnTo>
                  <a:lnTo>
                    <a:pt x="179" y="165"/>
                  </a:lnTo>
                  <a:lnTo>
                    <a:pt x="172" y="171"/>
                  </a:lnTo>
                  <a:lnTo>
                    <a:pt x="196" y="200"/>
                  </a:lnTo>
                  <a:lnTo>
                    <a:pt x="253" y="145"/>
                  </a:lnTo>
                  <a:lnTo>
                    <a:pt x="306" y="201"/>
                  </a:lnTo>
                  <a:lnTo>
                    <a:pt x="249" y="256"/>
                  </a:lnTo>
                  <a:lnTo>
                    <a:pt x="296" y="308"/>
                  </a:lnTo>
                  <a:lnTo>
                    <a:pt x="239" y="36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48000" y="782280"/>
              <a:ext cx="35280" cy="5832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0" y="88"/>
                  </a:moveTo>
                  <a:lnTo>
                    <a:pt x="11" y="88"/>
                  </a:lnTo>
                  <a:lnTo>
                    <a:pt x="16" y="87"/>
                  </a:lnTo>
                  <a:lnTo>
                    <a:pt x="22" y="87"/>
                  </a:lnTo>
                  <a:lnTo>
                    <a:pt x="27" y="85"/>
                  </a:lnTo>
                  <a:lnTo>
                    <a:pt x="31" y="84"/>
                  </a:lnTo>
                  <a:lnTo>
                    <a:pt x="35" y="82"/>
                  </a:lnTo>
                  <a:lnTo>
                    <a:pt x="39" y="81"/>
                  </a:lnTo>
                  <a:lnTo>
                    <a:pt x="43" y="78"/>
                  </a:lnTo>
                  <a:lnTo>
                    <a:pt x="46" y="76"/>
                  </a:lnTo>
                  <a:lnTo>
                    <a:pt x="49" y="73"/>
                  </a:lnTo>
                  <a:lnTo>
                    <a:pt x="51" y="70"/>
                  </a:lnTo>
                  <a:lnTo>
                    <a:pt x="54" y="67"/>
                  </a:lnTo>
                  <a:lnTo>
                    <a:pt x="55" y="62"/>
                  </a:lnTo>
                  <a:lnTo>
                    <a:pt x="57" y="58"/>
                  </a:lnTo>
                  <a:lnTo>
                    <a:pt x="57" y="54"/>
                  </a:lnTo>
                  <a:lnTo>
                    <a:pt x="58" y="50"/>
                  </a:lnTo>
                  <a:lnTo>
                    <a:pt x="58" y="45"/>
                  </a:lnTo>
                  <a:lnTo>
                    <a:pt x="58" y="39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5" y="26"/>
                  </a:lnTo>
                  <a:lnTo>
                    <a:pt x="54" y="21"/>
                  </a:lnTo>
                  <a:lnTo>
                    <a:pt x="52" y="18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5" y="5"/>
                  </a:lnTo>
                  <a:lnTo>
                    <a:pt x="31" y="4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8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85720" y="726840"/>
              <a:ext cx="160200" cy="235440"/>
            </a:xfrm>
            <a:custGeom>
              <a:avLst/>
              <a:gdLst/>
              <a:ahLst/>
              <a:rect l="l" t="t" r="r" b="b"/>
              <a:pathLst>
                <a:path w="244" h="357">
                  <a:moveTo>
                    <a:pt x="0" y="357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9" y="2"/>
                  </a:lnTo>
                  <a:lnTo>
                    <a:pt x="145" y="5"/>
                  </a:lnTo>
                  <a:lnTo>
                    <a:pt x="160" y="8"/>
                  </a:lnTo>
                  <a:lnTo>
                    <a:pt x="173" y="13"/>
                  </a:lnTo>
                  <a:lnTo>
                    <a:pt x="186" y="18"/>
                  </a:lnTo>
                  <a:lnTo>
                    <a:pt x="196" y="25"/>
                  </a:lnTo>
                  <a:lnTo>
                    <a:pt x="207" y="32"/>
                  </a:lnTo>
                  <a:lnTo>
                    <a:pt x="215" y="40"/>
                  </a:lnTo>
                  <a:lnTo>
                    <a:pt x="223" y="50"/>
                  </a:lnTo>
                  <a:lnTo>
                    <a:pt x="230" y="60"/>
                  </a:lnTo>
                  <a:lnTo>
                    <a:pt x="234" y="72"/>
                  </a:lnTo>
                  <a:lnTo>
                    <a:pt x="238" y="84"/>
                  </a:lnTo>
                  <a:lnTo>
                    <a:pt x="242" y="98"/>
                  </a:lnTo>
                  <a:lnTo>
                    <a:pt x="244" y="113"/>
                  </a:lnTo>
                  <a:lnTo>
                    <a:pt x="244" y="128"/>
                  </a:lnTo>
                  <a:lnTo>
                    <a:pt x="244" y="144"/>
                  </a:lnTo>
                  <a:lnTo>
                    <a:pt x="242" y="158"/>
                  </a:lnTo>
                  <a:lnTo>
                    <a:pt x="239" y="172"/>
                  </a:lnTo>
                  <a:lnTo>
                    <a:pt x="235" y="184"/>
                  </a:lnTo>
                  <a:lnTo>
                    <a:pt x="230" y="197"/>
                  </a:lnTo>
                  <a:lnTo>
                    <a:pt x="224" y="207"/>
                  </a:lnTo>
                  <a:lnTo>
                    <a:pt x="216" y="218"/>
                  </a:lnTo>
                  <a:lnTo>
                    <a:pt x="208" y="226"/>
                  </a:lnTo>
                  <a:lnTo>
                    <a:pt x="199" y="235"/>
                  </a:lnTo>
                  <a:lnTo>
                    <a:pt x="188" y="242"/>
                  </a:lnTo>
                  <a:lnTo>
                    <a:pt x="176" y="248"/>
                  </a:lnTo>
                  <a:lnTo>
                    <a:pt x="165" y="253"/>
                  </a:lnTo>
                  <a:lnTo>
                    <a:pt x="151" y="257"/>
                  </a:lnTo>
                  <a:lnTo>
                    <a:pt x="138" y="260"/>
                  </a:lnTo>
                  <a:lnTo>
                    <a:pt x="123" y="261"/>
                  </a:lnTo>
                  <a:lnTo>
                    <a:pt x="106" y="262"/>
                  </a:lnTo>
                  <a:lnTo>
                    <a:pt x="93" y="262"/>
                  </a:lnTo>
                  <a:lnTo>
                    <a:pt x="93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27544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4" y="107"/>
                  </a:lnTo>
                  <a:lnTo>
                    <a:pt x="108" y="105"/>
                  </a:lnTo>
                  <a:lnTo>
                    <a:pt x="112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9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1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6" y="185"/>
                  </a:lnTo>
                  <a:lnTo>
                    <a:pt x="123" y="184"/>
                  </a:lnTo>
                  <a:lnTo>
                    <a:pt x="121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32040" y="792000"/>
              <a:ext cx="166680" cy="226080"/>
            </a:xfrm>
            <a:custGeom>
              <a:avLst/>
              <a:gdLst/>
              <a:ahLst/>
              <a:rect l="l" t="t" r="r" b="b"/>
              <a:pathLst>
                <a:path w="254" h="342">
                  <a:moveTo>
                    <a:pt x="58" y="342"/>
                  </a:moveTo>
                  <a:lnTo>
                    <a:pt x="92" y="24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2"/>
                  </a:lnTo>
                  <a:lnTo>
                    <a:pt x="58" y="34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60556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6" y="257"/>
                  </a:moveTo>
                  <a:lnTo>
                    <a:pt x="6" y="176"/>
                  </a:lnTo>
                  <a:lnTo>
                    <a:pt x="7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2" y="180"/>
                  </a:lnTo>
                  <a:lnTo>
                    <a:pt x="14" y="181"/>
                  </a:lnTo>
                  <a:lnTo>
                    <a:pt x="16" y="181"/>
                  </a:lnTo>
                  <a:lnTo>
                    <a:pt x="17" y="182"/>
                  </a:lnTo>
                  <a:lnTo>
                    <a:pt x="18" y="182"/>
                  </a:lnTo>
                  <a:lnTo>
                    <a:pt x="21" y="182"/>
                  </a:lnTo>
                  <a:lnTo>
                    <a:pt x="22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6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5" y="183"/>
                  </a:lnTo>
                  <a:lnTo>
                    <a:pt x="37" y="183"/>
                  </a:lnTo>
                  <a:lnTo>
                    <a:pt x="39" y="182"/>
                  </a:lnTo>
                  <a:lnTo>
                    <a:pt x="41" y="182"/>
                  </a:lnTo>
                  <a:lnTo>
                    <a:pt x="43" y="181"/>
                  </a:lnTo>
                  <a:lnTo>
                    <a:pt x="45" y="180"/>
                  </a:lnTo>
                  <a:lnTo>
                    <a:pt x="46" y="179"/>
                  </a:lnTo>
                  <a:lnTo>
                    <a:pt x="47" y="177"/>
                  </a:lnTo>
                  <a:lnTo>
                    <a:pt x="49" y="175"/>
                  </a:lnTo>
                  <a:lnTo>
                    <a:pt x="49" y="174"/>
                  </a:lnTo>
                  <a:lnTo>
                    <a:pt x="50" y="173"/>
                  </a:lnTo>
                  <a:lnTo>
                    <a:pt x="51" y="171"/>
                  </a:lnTo>
                  <a:lnTo>
                    <a:pt x="51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1" y="164"/>
                  </a:lnTo>
                  <a:lnTo>
                    <a:pt x="50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39" y="146"/>
                  </a:lnTo>
                  <a:lnTo>
                    <a:pt x="35" y="142"/>
                  </a:lnTo>
                  <a:lnTo>
                    <a:pt x="30" y="137"/>
                  </a:lnTo>
                  <a:lnTo>
                    <a:pt x="29" y="135"/>
                  </a:lnTo>
                  <a:lnTo>
                    <a:pt x="28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4" y="130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6" y="123"/>
                  </a:lnTo>
                  <a:lnTo>
                    <a:pt x="14" y="121"/>
                  </a:lnTo>
                  <a:lnTo>
                    <a:pt x="12" y="118"/>
                  </a:lnTo>
                  <a:lnTo>
                    <a:pt x="10" y="114"/>
                  </a:lnTo>
                  <a:lnTo>
                    <a:pt x="8" y="111"/>
                  </a:lnTo>
                  <a:lnTo>
                    <a:pt x="7" y="108"/>
                  </a:lnTo>
                  <a:lnTo>
                    <a:pt x="5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4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39" y="12"/>
                  </a:lnTo>
                  <a:lnTo>
                    <a:pt x="48" y="8"/>
                  </a:lnTo>
                  <a:lnTo>
                    <a:pt x="57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1" y="2"/>
                  </a:lnTo>
                  <a:lnTo>
                    <a:pt x="124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5" y="3"/>
                  </a:lnTo>
                  <a:lnTo>
                    <a:pt x="137" y="4"/>
                  </a:lnTo>
                  <a:lnTo>
                    <a:pt x="137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0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8" y="74"/>
                  </a:lnTo>
                  <a:lnTo>
                    <a:pt x="116" y="74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1" y="72"/>
                  </a:lnTo>
                  <a:lnTo>
                    <a:pt x="110" y="72"/>
                  </a:lnTo>
                  <a:lnTo>
                    <a:pt x="107" y="72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4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6" y="76"/>
                  </a:lnTo>
                  <a:lnTo>
                    <a:pt x="94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89"/>
                  </a:lnTo>
                  <a:lnTo>
                    <a:pt x="89" y="91"/>
                  </a:lnTo>
                  <a:lnTo>
                    <a:pt x="90" y="92"/>
                  </a:lnTo>
                  <a:lnTo>
                    <a:pt x="90" y="93"/>
                  </a:lnTo>
                  <a:lnTo>
                    <a:pt x="91" y="95"/>
                  </a:lnTo>
                  <a:lnTo>
                    <a:pt x="91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8" y="104"/>
                  </a:lnTo>
                  <a:lnTo>
                    <a:pt x="99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19" y="127"/>
                  </a:lnTo>
                  <a:lnTo>
                    <a:pt x="123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39" y="159"/>
                  </a:lnTo>
                  <a:lnTo>
                    <a:pt x="140" y="164"/>
                  </a:lnTo>
                  <a:lnTo>
                    <a:pt x="141" y="168"/>
                  </a:lnTo>
                  <a:lnTo>
                    <a:pt x="142" y="172"/>
                  </a:lnTo>
                  <a:lnTo>
                    <a:pt x="143" y="177"/>
                  </a:lnTo>
                  <a:lnTo>
                    <a:pt x="143" y="182"/>
                  </a:lnTo>
                  <a:lnTo>
                    <a:pt x="143" y="187"/>
                  </a:lnTo>
                  <a:lnTo>
                    <a:pt x="143" y="195"/>
                  </a:lnTo>
                  <a:lnTo>
                    <a:pt x="142" y="204"/>
                  </a:lnTo>
                  <a:lnTo>
                    <a:pt x="140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5" y="236"/>
                  </a:lnTo>
                  <a:lnTo>
                    <a:pt x="120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99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4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5" y="261"/>
                  </a:lnTo>
                  <a:lnTo>
                    <a:pt x="43" y="261"/>
                  </a:lnTo>
                  <a:lnTo>
                    <a:pt x="41" y="261"/>
                  </a:lnTo>
                  <a:lnTo>
                    <a:pt x="37" y="260"/>
                  </a:lnTo>
                  <a:lnTo>
                    <a:pt x="35" y="260"/>
                  </a:lnTo>
                  <a:lnTo>
                    <a:pt x="32" y="260"/>
                  </a:lnTo>
                  <a:lnTo>
                    <a:pt x="29" y="260"/>
                  </a:lnTo>
                  <a:lnTo>
                    <a:pt x="26" y="259"/>
                  </a:lnTo>
                  <a:lnTo>
                    <a:pt x="23" y="259"/>
                  </a:lnTo>
                  <a:lnTo>
                    <a:pt x="18" y="259"/>
                  </a:lnTo>
                  <a:lnTo>
                    <a:pt x="14" y="258"/>
                  </a:lnTo>
                  <a:lnTo>
                    <a:pt x="10" y="257"/>
                  </a:lnTo>
                  <a:lnTo>
                    <a:pt x="6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23640" y="792000"/>
              <a:ext cx="518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723640" y="726840"/>
              <a:ext cx="518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801760" y="792000"/>
              <a:ext cx="114840" cy="17316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75" y="257"/>
                  </a:moveTo>
                  <a:lnTo>
                    <a:pt x="173" y="258"/>
                  </a:lnTo>
                  <a:lnTo>
                    <a:pt x="170" y="259"/>
                  </a:lnTo>
                  <a:lnTo>
                    <a:pt x="167" y="259"/>
                  </a:lnTo>
                  <a:lnTo>
                    <a:pt x="163" y="260"/>
                  </a:lnTo>
                  <a:lnTo>
                    <a:pt x="160" y="260"/>
                  </a:lnTo>
                  <a:lnTo>
                    <a:pt x="157" y="261"/>
                  </a:lnTo>
                  <a:lnTo>
                    <a:pt x="155" y="261"/>
                  </a:lnTo>
                  <a:lnTo>
                    <a:pt x="152" y="261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9" y="264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8"/>
                  </a:lnTo>
                  <a:lnTo>
                    <a:pt x="76" y="254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5"/>
                  </a:lnTo>
                  <a:lnTo>
                    <a:pt x="35" y="226"/>
                  </a:lnTo>
                  <a:lnTo>
                    <a:pt x="27" y="216"/>
                  </a:lnTo>
                  <a:lnTo>
                    <a:pt x="20" y="206"/>
                  </a:lnTo>
                  <a:lnTo>
                    <a:pt x="13" y="195"/>
                  </a:lnTo>
                  <a:lnTo>
                    <a:pt x="9" y="183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1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1" y="55"/>
                  </a:lnTo>
                  <a:lnTo>
                    <a:pt x="28" y="44"/>
                  </a:lnTo>
                  <a:lnTo>
                    <a:pt x="37" y="36"/>
                  </a:lnTo>
                  <a:lnTo>
                    <a:pt x="47" y="27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3" y="4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5" y="3"/>
                  </a:lnTo>
                  <a:lnTo>
                    <a:pt x="168" y="3"/>
                  </a:lnTo>
                  <a:lnTo>
                    <a:pt x="171" y="4"/>
                  </a:lnTo>
                  <a:lnTo>
                    <a:pt x="173" y="5"/>
                  </a:lnTo>
                  <a:lnTo>
                    <a:pt x="175" y="5"/>
                  </a:lnTo>
                  <a:lnTo>
                    <a:pt x="175" y="89"/>
                  </a:lnTo>
                  <a:lnTo>
                    <a:pt x="173" y="89"/>
                  </a:lnTo>
                  <a:lnTo>
                    <a:pt x="170" y="88"/>
                  </a:lnTo>
                  <a:lnTo>
                    <a:pt x="167" y="87"/>
                  </a:lnTo>
                  <a:lnTo>
                    <a:pt x="164" y="87"/>
                  </a:lnTo>
                  <a:lnTo>
                    <a:pt x="161" y="86"/>
                  </a:lnTo>
                  <a:lnTo>
                    <a:pt x="159" y="86"/>
                  </a:lnTo>
                  <a:lnTo>
                    <a:pt x="157" y="85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1" y="84"/>
                  </a:lnTo>
                  <a:lnTo>
                    <a:pt x="149" y="84"/>
                  </a:lnTo>
                  <a:lnTo>
                    <a:pt x="147" y="84"/>
                  </a:lnTo>
                  <a:lnTo>
                    <a:pt x="144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8" y="84"/>
                  </a:lnTo>
                  <a:lnTo>
                    <a:pt x="122" y="85"/>
                  </a:lnTo>
                  <a:lnTo>
                    <a:pt x="117" y="87"/>
                  </a:lnTo>
                  <a:lnTo>
                    <a:pt x="112" y="88"/>
                  </a:lnTo>
                  <a:lnTo>
                    <a:pt x="108" y="90"/>
                  </a:lnTo>
                  <a:lnTo>
                    <a:pt x="104" y="93"/>
                  </a:lnTo>
                  <a:lnTo>
                    <a:pt x="100" y="96"/>
                  </a:lnTo>
                  <a:lnTo>
                    <a:pt x="97" y="100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8" y="116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86" y="130"/>
                  </a:lnTo>
                  <a:lnTo>
                    <a:pt x="87" y="135"/>
                  </a:lnTo>
                  <a:lnTo>
                    <a:pt x="87" y="141"/>
                  </a:lnTo>
                  <a:lnTo>
                    <a:pt x="88" y="146"/>
                  </a:lnTo>
                  <a:lnTo>
                    <a:pt x="90" y="150"/>
                  </a:lnTo>
                  <a:lnTo>
                    <a:pt x="92" y="154"/>
                  </a:lnTo>
                  <a:lnTo>
                    <a:pt x="94" y="159"/>
                  </a:lnTo>
                  <a:lnTo>
                    <a:pt x="97" y="162"/>
                  </a:lnTo>
                  <a:lnTo>
                    <a:pt x="100" y="165"/>
                  </a:lnTo>
                  <a:lnTo>
                    <a:pt x="105" y="168"/>
                  </a:lnTo>
                  <a:lnTo>
                    <a:pt x="109" y="171"/>
                  </a:lnTo>
                  <a:lnTo>
                    <a:pt x="113" y="173"/>
                  </a:lnTo>
                  <a:lnTo>
                    <a:pt x="118" y="175"/>
                  </a:lnTo>
                  <a:lnTo>
                    <a:pt x="124" y="176"/>
                  </a:lnTo>
                  <a:lnTo>
                    <a:pt x="129" y="177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1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9"/>
                  </a:lnTo>
                  <a:lnTo>
                    <a:pt x="149" y="179"/>
                  </a:lnTo>
                  <a:lnTo>
                    <a:pt x="151" y="177"/>
                  </a:lnTo>
                  <a:lnTo>
                    <a:pt x="153" y="177"/>
                  </a:lnTo>
                  <a:lnTo>
                    <a:pt x="155" y="177"/>
                  </a:lnTo>
                  <a:lnTo>
                    <a:pt x="157" y="177"/>
                  </a:lnTo>
                  <a:lnTo>
                    <a:pt x="159" y="177"/>
                  </a:lnTo>
                  <a:lnTo>
                    <a:pt x="162" y="176"/>
                  </a:lnTo>
                  <a:lnTo>
                    <a:pt x="164" y="176"/>
                  </a:lnTo>
                  <a:lnTo>
                    <a:pt x="168" y="176"/>
                  </a:lnTo>
                  <a:lnTo>
                    <a:pt x="170" y="175"/>
                  </a:lnTo>
                  <a:lnTo>
                    <a:pt x="173" y="175"/>
                  </a:lnTo>
                  <a:lnTo>
                    <a:pt x="175" y="174"/>
                  </a:lnTo>
                  <a:lnTo>
                    <a:pt x="175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4540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4540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79680" y="887040"/>
              <a:ext cx="3600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7" y="54"/>
                  </a:moveTo>
                  <a:lnTo>
                    <a:pt x="29" y="54"/>
                  </a:lnTo>
                  <a:lnTo>
                    <a:pt x="32" y="54"/>
                  </a:lnTo>
                  <a:lnTo>
                    <a:pt x="34" y="53"/>
                  </a:lnTo>
                  <a:lnTo>
                    <a:pt x="36" y="52"/>
                  </a:lnTo>
                  <a:lnTo>
                    <a:pt x="38" y="51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7"/>
                  </a:lnTo>
                  <a:lnTo>
                    <a:pt x="47" y="45"/>
                  </a:lnTo>
                  <a:lnTo>
                    <a:pt x="49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2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7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2784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36" y="258"/>
                  </a:moveTo>
                  <a:lnTo>
                    <a:pt x="136" y="241"/>
                  </a:lnTo>
                  <a:lnTo>
                    <a:pt x="134" y="244"/>
                  </a:lnTo>
                  <a:lnTo>
                    <a:pt x="131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1" y="253"/>
                  </a:lnTo>
                  <a:lnTo>
                    <a:pt x="118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90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5" y="262"/>
                  </a:lnTo>
                  <a:lnTo>
                    <a:pt x="56" y="259"/>
                  </a:lnTo>
                  <a:lnTo>
                    <a:pt x="49" y="257"/>
                  </a:lnTo>
                  <a:lnTo>
                    <a:pt x="42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2" y="226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3"/>
                  </a:lnTo>
                  <a:lnTo>
                    <a:pt x="2" y="193"/>
                  </a:lnTo>
                  <a:lnTo>
                    <a:pt x="1" y="185"/>
                  </a:lnTo>
                  <a:lnTo>
                    <a:pt x="0" y="175"/>
                  </a:lnTo>
                  <a:lnTo>
                    <a:pt x="1" y="165"/>
                  </a:lnTo>
                  <a:lnTo>
                    <a:pt x="2" y="157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20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2" y="88"/>
                  </a:lnTo>
                  <a:lnTo>
                    <a:pt x="82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3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6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8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1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99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5" y="20"/>
                  </a:lnTo>
                  <a:lnTo>
                    <a:pt x="191" y="25"/>
                  </a:lnTo>
                  <a:lnTo>
                    <a:pt x="196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5" y="58"/>
                  </a:lnTo>
                  <a:lnTo>
                    <a:pt x="208" y="68"/>
                  </a:lnTo>
                  <a:lnTo>
                    <a:pt x="209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948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1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453000" y="726840"/>
              <a:ext cx="245520" cy="235440"/>
            </a:xfrm>
            <a:custGeom>
              <a:avLst/>
              <a:gdLst/>
              <a:ahLst/>
              <a:rect l="l" t="t" r="r" b="b"/>
              <a:pathLst>
                <a:path w="373" h="359">
                  <a:moveTo>
                    <a:pt x="0" y="357"/>
                  </a:moveTo>
                  <a:lnTo>
                    <a:pt x="46" y="0"/>
                  </a:lnTo>
                  <a:lnTo>
                    <a:pt x="121" y="0"/>
                  </a:lnTo>
                  <a:lnTo>
                    <a:pt x="184" y="159"/>
                  </a:lnTo>
                  <a:lnTo>
                    <a:pt x="248" y="0"/>
                  </a:lnTo>
                  <a:lnTo>
                    <a:pt x="321" y="0"/>
                  </a:lnTo>
                  <a:lnTo>
                    <a:pt x="373" y="357"/>
                  </a:lnTo>
                  <a:lnTo>
                    <a:pt x="277" y="357"/>
                  </a:lnTo>
                  <a:lnTo>
                    <a:pt x="257" y="194"/>
                  </a:lnTo>
                  <a:lnTo>
                    <a:pt x="188" y="359"/>
                  </a:lnTo>
                  <a:lnTo>
                    <a:pt x="113" y="194"/>
                  </a:lnTo>
                  <a:lnTo>
                    <a:pt x="96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66920" y="887040"/>
              <a:ext cx="36000" cy="324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71472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37" y="258"/>
                  </a:moveTo>
                  <a:lnTo>
                    <a:pt x="137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8" y="262"/>
                  </a:lnTo>
                  <a:lnTo>
                    <a:pt x="94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4" y="262"/>
                  </a:lnTo>
                  <a:lnTo>
                    <a:pt x="57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9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2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80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200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27120" y="847440"/>
              <a:ext cx="42840" cy="392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63"/>
                  </a:moveTo>
                  <a:lnTo>
                    <a:pt x="34" y="63"/>
                  </a:lnTo>
                  <a:lnTo>
                    <a:pt x="37" y="62"/>
                  </a:lnTo>
                  <a:lnTo>
                    <a:pt x="40" y="62"/>
                  </a:lnTo>
                  <a:lnTo>
                    <a:pt x="43" y="61"/>
                  </a:lnTo>
                  <a:lnTo>
                    <a:pt x="46" y="60"/>
                  </a:lnTo>
                  <a:lnTo>
                    <a:pt x="48" y="58"/>
                  </a:lnTo>
                  <a:lnTo>
                    <a:pt x="51" y="56"/>
                  </a:lnTo>
                  <a:lnTo>
                    <a:pt x="53" y="54"/>
                  </a:lnTo>
                  <a:lnTo>
                    <a:pt x="55" y="51"/>
                  </a:lnTo>
                  <a:lnTo>
                    <a:pt x="57" y="48"/>
                  </a:lnTo>
                  <a:lnTo>
                    <a:pt x="59" y="46"/>
                  </a:lnTo>
                  <a:lnTo>
                    <a:pt x="60" y="43"/>
                  </a:lnTo>
                  <a:lnTo>
                    <a:pt x="61" y="40"/>
                  </a:lnTo>
                  <a:lnTo>
                    <a:pt x="62" y="38"/>
                  </a:lnTo>
                  <a:lnTo>
                    <a:pt x="62" y="35"/>
                  </a:lnTo>
                  <a:lnTo>
                    <a:pt x="62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2"/>
                  </a:lnTo>
                  <a:lnTo>
                    <a:pt x="60" y="19"/>
                  </a:lnTo>
                  <a:lnTo>
                    <a:pt x="59" y="17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48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5" y="49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3" y="58"/>
                  </a:lnTo>
                  <a:lnTo>
                    <a:pt x="15" y="60"/>
                  </a:lnTo>
                  <a:lnTo>
                    <a:pt x="18" y="61"/>
                  </a:lnTo>
                  <a:lnTo>
                    <a:pt x="22" y="62"/>
                  </a:lnTo>
                  <a:lnTo>
                    <a:pt x="25" y="63"/>
                  </a:lnTo>
                  <a:lnTo>
                    <a:pt x="28" y="63"/>
                  </a:lnTo>
                  <a:lnTo>
                    <a:pt x="31" y="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871320" y="792000"/>
              <a:ext cx="154080" cy="228960"/>
            </a:xfrm>
            <a:custGeom>
              <a:avLst/>
              <a:gdLst/>
              <a:ahLst/>
              <a:rect l="l" t="t" r="r" b="b"/>
              <a:pathLst>
                <a:path w="239" h="351">
                  <a:moveTo>
                    <a:pt x="147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1" y="226"/>
                  </a:lnTo>
                  <a:lnTo>
                    <a:pt x="139" y="226"/>
                  </a:lnTo>
                  <a:lnTo>
                    <a:pt x="137" y="226"/>
                  </a:lnTo>
                  <a:lnTo>
                    <a:pt x="135" y="227"/>
                  </a:lnTo>
                  <a:lnTo>
                    <a:pt x="133" y="227"/>
                  </a:lnTo>
                  <a:lnTo>
                    <a:pt x="131" y="227"/>
                  </a:lnTo>
                  <a:lnTo>
                    <a:pt x="128" y="227"/>
                  </a:lnTo>
                  <a:lnTo>
                    <a:pt x="127" y="227"/>
                  </a:lnTo>
                  <a:lnTo>
                    <a:pt x="125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8" y="228"/>
                  </a:lnTo>
                  <a:lnTo>
                    <a:pt x="116" y="228"/>
                  </a:lnTo>
                  <a:lnTo>
                    <a:pt x="104" y="227"/>
                  </a:lnTo>
                  <a:lnTo>
                    <a:pt x="93" y="226"/>
                  </a:lnTo>
                  <a:lnTo>
                    <a:pt x="82" y="224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6" y="204"/>
                  </a:lnTo>
                  <a:lnTo>
                    <a:pt x="37" y="195"/>
                  </a:lnTo>
                  <a:lnTo>
                    <a:pt x="30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9" y="139"/>
                  </a:lnTo>
                  <a:lnTo>
                    <a:pt x="7" y="127"/>
                  </a:lnTo>
                  <a:lnTo>
                    <a:pt x="7" y="114"/>
                  </a:lnTo>
                  <a:lnTo>
                    <a:pt x="8" y="103"/>
                  </a:lnTo>
                  <a:lnTo>
                    <a:pt x="9" y="90"/>
                  </a:lnTo>
                  <a:lnTo>
                    <a:pt x="11" y="80"/>
                  </a:lnTo>
                  <a:lnTo>
                    <a:pt x="15" y="69"/>
                  </a:lnTo>
                  <a:lnTo>
                    <a:pt x="19" y="59"/>
                  </a:lnTo>
                  <a:lnTo>
                    <a:pt x="25" y="49"/>
                  </a:lnTo>
                  <a:lnTo>
                    <a:pt x="32" y="41"/>
                  </a:lnTo>
                  <a:lnTo>
                    <a:pt x="39" y="33"/>
                  </a:lnTo>
                  <a:lnTo>
                    <a:pt x="48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3" y="4"/>
                  </a:lnTo>
                  <a:lnTo>
                    <a:pt x="155" y="5"/>
                  </a:lnTo>
                  <a:lnTo>
                    <a:pt x="239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9" y="52"/>
                  </a:lnTo>
                  <a:lnTo>
                    <a:pt x="221" y="57"/>
                  </a:lnTo>
                  <a:lnTo>
                    <a:pt x="224" y="61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8" y="113"/>
                  </a:lnTo>
                  <a:lnTo>
                    <a:pt x="238" y="119"/>
                  </a:lnTo>
                  <a:lnTo>
                    <a:pt x="238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80"/>
                  </a:lnTo>
                  <a:lnTo>
                    <a:pt x="212" y="184"/>
                  </a:lnTo>
                  <a:lnTo>
                    <a:pt x="214" y="188"/>
                  </a:lnTo>
                  <a:lnTo>
                    <a:pt x="217" y="191"/>
                  </a:lnTo>
                  <a:lnTo>
                    <a:pt x="219" y="195"/>
                  </a:lnTo>
                  <a:lnTo>
                    <a:pt x="221" y="199"/>
                  </a:lnTo>
                  <a:lnTo>
                    <a:pt x="223" y="203"/>
                  </a:lnTo>
                  <a:lnTo>
                    <a:pt x="225" y="207"/>
                  </a:lnTo>
                  <a:lnTo>
                    <a:pt x="226" y="211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2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5" y="287"/>
                  </a:lnTo>
                  <a:lnTo>
                    <a:pt x="220" y="296"/>
                  </a:lnTo>
                  <a:lnTo>
                    <a:pt x="214" y="304"/>
                  </a:lnTo>
                  <a:lnTo>
                    <a:pt x="208" y="313"/>
                  </a:lnTo>
                  <a:lnTo>
                    <a:pt x="201" y="320"/>
                  </a:lnTo>
                  <a:lnTo>
                    <a:pt x="192" y="328"/>
                  </a:lnTo>
                  <a:lnTo>
                    <a:pt x="183" y="334"/>
                  </a:lnTo>
                  <a:lnTo>
                    <a:pt x="174" y="339"/>
                  </a:lnTo>
                  <a:lnTo>
                    <a:pt x="164" y="343"/>
                  </a:lnTo>
                  <a:lnTo>
                    <a:pt x="153" y="346"/>
                  </a:lnTo>
                  <a:lnTo>
                    <a:pt x="142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100" y="350"/>
                  </a:lnTo>
                  <a:lnTo>
                    <a:pt x="92" y="349"/>
                  </a:lnTo>
                  <a:lnTo>
                    <a:pt x="83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3" y="335"/>
                  </a:lnTo>
                  <a:lnTo>
                    <a:pt x="37" y="331"/>
                  </a:lnTo>
                  <a:lnTo>
                    <a:pt x="30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3" y="248"/>
                  </a:lnTo>
                  <a:lnTo>
                    <a:pt x="57" y="251"/>
                  </a:lnTo>
                  <a:lnTo>
                    <a:pt x="61" y="254"/>
                  </a:lnTo>
                  <a:lnTo>
                    <a:pt x="65" y="257"/>
                  </a:lnTo>
                  <a:lnTo>
                    <a:pt x="70" y="259"/>
                  </a:lnTo>
                  <a:lnTo>
                    <a:pt x="74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1" y="269"/>
                  </a:lnTo>
                  <a:lnTo>
                    <a:pt x="95" y="270"/>
                  </a:lnTo>
                  <a:lnTo>
                    <a:pt x="99" y="271"/>
                  </a:lnTo>
                  <a:lnTo>
                    <a:pt x="104" y="272"/>
                  </a:lnTo>
                  <a:lnTo>
                    <a:pt x="108" y="272"/>
                  </a:lnTo>
                  <a:lnTo>
                    <a:pt x="113" y="272"/>
                  </a:lnTo>
                  <a:lnTo>
                    <a:pt x="117" y="272"/>
                  </a:lnTo>
                  <a:lnTo>
                    <a:pt x="120" y="272"/>
                  </a:lnTo>
                  <a:lnTo>
                    <a:pt x="124" y="271"/>
                  </a:lnTo>
                  <a:lnTo>
                    <a:pt x="127" y="270"/>
                  </a:lnTo>
                  <a:lnTo>
                    <a:pt x="131" y="269"/>
                  </a:lnTo>
                  <a:lnTo>
                    <a:pt x="134" y="268"/>
                  </a:lnTo>
                  <a:lnTo>
                    <a:pt x="137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9" y="245"/>
                  </a:lnTo>
                  <a:lnTo>
                    <a:pt x="149" y="241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100640" y="887040"/>
              <a:ext cx="3240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3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1" y="36"/>
                  </a:lnTo>
                  <a:lnTo>
                    <a:pt x="52" y="33"/>
                  </a:lnTo>
                  <a:lnTo>
                    <a:pt x="52" y="30"/>
                  </a:lnTo>
                  <a:lnTo>
                    <a:pt x="53" y="27"/>
                  </a:lnTo>
                  <a:lnTo>
                    <a:pt x="52" y="25"/>
                  </a:lnTo>
                  <a:lnTo>
                    <a:pt x="52" y="22"/>
                  </a:lnTo>
                  <a:lnTo>
                    <a:pt x="51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048800" y="792000"/>
              <a:ext cx="13320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7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8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9" y="92"/>
                  </a:lnTo>
                  <a:lnTo>
                    <a:pt x="129" y="91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8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0" y="64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202160" y="792000"/>
              <a:ext cx="137160" cy="1702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0" y="257"/>
                  </a:moveTo>
                  <a:lnTo>
                    <a:pt x="78" y="85"/>
                  </a:lnTo>
                  <a:lnTo>
                    <a:pt x="4" y="85"/>
                  </a:lnTo>
                  <a:lnTo>
                    <a:pt x="4" y="0"/>
                  </a:lnTo>
                  <a:lnTo>
                    <a:pt x="204" y="0"/>
                  </a:lnTo>
                  <a:lnTo>
                    <a:pt x="127" y="172"/>
                  </a:lnTo>
                  <a:lnTo>
                    <a:pt x="210" y="172"/>
                  </a:lnTo>
                  <a:lnTo>
                    <a:pt x="191" y="257"/>
                  </a:lnTo>
                  <a:lnTo>
                    <a:pt x="0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358760" y="792000"/>
              <a:ext cx="5256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358760" y="726840"/>
              <a:ext cx="5256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4440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2" y="10"/>
                  </a:lnTo>
                  <a:lnTo>
                    <a:pt x="107" y="8"/>
                  </a:lnTo>
                  <a:lnTo>
                    <a:pt x="111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2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09" y="35"/>
                  </a:lnTo>
                  <a:lnTo>
                    <a:pt x="214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5" y="88"/>
                  </a:lnTo>
                  <a:lnTo>
                    <a:pt x="123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6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660080" y="834840"/>
              <a:ext cx="52560" cy="450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1" y="66"/>
                  </a:moveTo>
                  <a:lnTo>
                    <a:pt x="80" y="10"/>
                  </a:lnTo>
                  <a:lnTo>
                    <a:pt x="79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3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3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11120" y="792000"/>
              <a:ext cx="160200" cy="173160"/>
            </a:xfrm>
            <a:custGeom>
              <a:avLst/>
              <a:gdLst/>
              <a:ahLst/>
              <a:rect l="l" t="t" r="r" b="b"/>
              <a:pathLst>
                <a:path w="248" h="265">
                  <a:moveTo>
                    <a:pt x="234" y="236"/>
                  </a:moveTo>
                  <a:lnTo>
                    <a:pt x="227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09" y="249"/>
                  </a:lnTo>
                  <a:lnTo>
                    <a:pt x="203" y="251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1"/>
                  </a:lnTo>
                  <a:lnTo>
                    <a:pt x="165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5" y="265"/>
                  </a:lnTo>
                  <a:lnTo>
                    <a:pt x="138" y="265"/>
                  </a:lnTo>
                  <a:lnTo>
                    <a:pt x="132" y="265"/>
                  </a:lnTo>
                  <a:lnTo>
                    <a:pt x="117" y="265"/>
                  </a:lnTo>
                  <a:lnTo>
                    <a:pt x="103" y="262"/>
                  </a:lnTo>
                  <a:lnTo>
                    <a:pt x="90" y="260"/>
                  </a:lnTo>
                  <a:lnTo>
                    <a:pt x="78" y="256"/>
                  </a:lnTo>
                  <a:lnTo>
                    <a:pt x="67" y="251"/>
                  </a:lnTo>
                  <a:lnTo>
                    <a:pt x="55" y="245"/>
                  </a:lnTo>
                  <a:lnTo>
                    <a:pt x="46" y="237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9" y="187"/>
                  </a:lnTo>
                  <a:lnTo>
                    <a:pt x="5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5" y="94"/>
                  </a:lnTo>
                  <a:lnTo>
                    <a:pt x="9" y="83"/>
                  </a:lnTo>
                  <a:lnTo>
                    <a:pt x="14" y="71"/>
                  </a:lnTo>
                  <a:lnTo>
                    <a:pt x="22" y="60"/>
                  </a:lnTo>
                  <a:lnTo>
                    <a:pt x="29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4" y="2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71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6" y="18"/>
                  </a:lnTo>
                  <a:lnTo>
                    <a:pt x="203" y="23"/>
                  </a:lnTo>
                  <a:lnTo>
                    <a:pt x="210" y="29"/>
                  </a:lnTo>
                  <a:lnTo>
                    <a:pt x="218" y="36"/>
                  </a:lnTo>
                  <a:lnTo>
                    <a:pt x="224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0" y="68"/>
                  </a:lnTo>
                  <a:lnTo>
                    <a:pt x="244" y="78"/>
                  </a:lnTo>
                  <a:lnTo>
                    <a:pt x="248" y="88"/>
                  </a:lnTo>
                  <a:lnTo>
                    <a:pt x="111" y="185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6" y="187"/>
                  </a:lnTo>
                  <a:lnTo>
                    <a:pt x="117" y="187"/>
                  </a:lnTo>
                  <a:lnTo>
                    <a:pt x="119" y="188"/>
                  </a:lnTo>
                  <a:lnTo>
                    <a:pt x="121" y="188"/>
                  </a:lnTo>
                  <a:lnTo>
                    <a:pt x="122" y="188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0" y="190"/>
                  </a:lnTo>
                  <a:lnTo>
                    <a:pt x="145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1" y="188"/>
                  </a:lnTo>
                  <a:lnTo>
                    <a:pt x="166" y="186"/>
                  </a:lnTo>
                  <a:lnTo>
                    <a:pt x="172" y="185"/>
                  </a:lnTo>
                  <a:lnTo>
                    <a:pt x="178" y="183"/>
                  </a:lnTo>
                  <a:lnTo>
                    <a:pt x="183" y="181"/>
                  </a:lnTo>
                  <a:lnTo>
                    <a:pt x="188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5" y="168"/>
                  </a:lnTo>
                  <a:lnTo>
                    <a:pt x="210" y="165"/>
                  </a:lnTo>
                  <a:lnTo>
                    <a:pt x="216" y="161"/>
                  </a:lnTo>
                  <a:lnTo>
                    <a:pt x="221" y="156"/>
                  </a:lnTo>
                  <a:lnTo>
                    <a:pt x="226" y="152"/>
                  </a:lnTo>
                  <a:lnTo>
                    <a:pt x="234" y="23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97632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8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2" y="73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1"/>
                  </a:lnTo>
                  <a:lnTo>
                    <a:pt x="88" y="56"/>
                  </a:lnTo>
                  <a:lnTo>
                    <a:pt x="88" y="52"/>
                  </a:lnTo>
                  <a:lnTo>
                    <a:pt x="89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7" y="34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92088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1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2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7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00880" y="1145520"/>
              <a:ext cx="16668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8" y="341"/>
                  </a:moveTo>
                  <a:lnTo>
                    <a:pt x="92" y="246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1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8" y="3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287360" y="1145520"/>
              <a:ext cx="52560" cy="583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287360" y="1250280"/>
              <a:ext cx="5256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463760" y="1076760"/>
              <a:ext cx="156960" cy="238680"/>
            </a:xfrm>
            <a:custGeom>
              <a:avLst/>
              <a:gdLst/>
              <a:ahLst/>
              <a:rect l="l" t="t" r="r" b="b"/>
              <a:pathLst>
                <a:path w="243" h="369">
                  <a:moveTo>
                    <a:pt x="236" y="363"/>
                  </a:moveTo>
                  <a:lnTo>
                    <a:pt x="233" y="364"/>
                  </a:lnTo>
                  <a:lnTo>
                    <a:pt x="231" y="364"/>
                  </a:lnTo>
                  <a:lnTo>
                    <a:pt x="228" y="365"/>
                  </a:lnTo>
                  <a:lnTo>
                    <a:pt x="225" y="366"/>
                  </a:lnTo>
                  <a:lnTo>
                    <a:pt x="222" y="366"/>
                  </a:lnTo>
                  <a:lnTo>
                    <a:pt x="219" y="367"/>
                  </a:lnTo>
                  <a:lnTo>
                    <a:pt x="217" y="367"/>
                  </a:lnTo>
                  <a:lnTo>
                    <a:pt x="214" y="367"/>
                  </a:lnTo>
                  <a:lnTo>
                    <a:pt x="211" y="368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201" y="368"/>
                  </a:lnTo>
                  <a:lnTo>
                    <a:pt x="198" y="369"/>
                  </a:lnTo>
                  <a:lnTo>
                    <a:pt x="195" y="369"/>
                  </a:lnTo>
                  <a:lnTo>
                    <a:pt x="192" y="369"/>
                  </a:lnTo>
                  <a:lnTo>
                    <a:pt x="189" y="369"/>
                  </a:lnTo>
                  <a:lnTo>
                    <a:pt x="168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7"/>
                  </a:lnTo>
                  <a:lnTo>
                    <a:pt x="95" y="349"/>
                  </a:lnTo>
                  <a:lnTo>
                    <a:pt x="80" y="341"/>
                  </a:lnTo>
                  <a:lnTo>
                    <a:pt x="65" y="330"/>
                  </a:lnTo>
                  <a:lnTo>
                    <a:pt x="51" y="319"/>
                  </a:lnTo>
                  <a:lnTo>
                    <a:pt x="40" y="305"/>
                  </a:lnTo>
                  <a:lnTo>
                    <a:pt x="29" y="292"/>
                  </a:lnTo>
                  <a:lnTo>
                    <a:pt x="20" y="276"/>
                  </a:lnTo>
                  <a:lnTo>
                    <a:pt x="12" y="260"/>
                  </a:lnTo>
                  <a:lnTo>
                    <a:pt x="7" y="243"/>
                  </a:lnTo>
                  <a:lnTo>
                    <a:pt x="3" y="225"/>
                  </a:lnTo>
                  <a:lnTo>
                    <a:pt x="0" y="206"/>
                  </a:lnTo>
                  <a:lnTo>
                    <a:pt x="0" y="187"/>
                  </a:lnTo>
                  <a:lnTo>
                    <a:pt x="0" y="167"/>
                  </a:lnTo>
                  <a:lnTo>
                    <a:pt x="3" y="148"/>
                  </a:lnTo>
                  <a:lnTo>
                    <a:pt x="7" y="130"/>
                  </a:lnTo>
                  <a:lnTo>
                    <a:pt x="13" y="113"/>
                  </a:lnTo>
                  <a:lnTo>
                    <a:pt x="21" y="96"/>
                  </a:lnTo>
                  <a:lnTo>
                    <a:pt x="30" y="80"/>
                  </a:lnTo>
                  <a:lnTo>
                    <a:pt x="41" y="66"/>
                  </a:lnTo>
                  <a:lnTo>
                    <a:pt x="53" y="52"/>
                  </a:lnTo>
                  <a:lnTo>
                    <a:pt x="68" y="40"/>
                  </a:lnTo>
                  <a:lnTo>
                    <a:pt x="83" y="29"/>
                  </a:lnTo>
                  <a:lnTo>
                    <a:pt x="98" y="20"/>
                  </a:lnTo>
                  <a:lnTo>
                    <a:pt x="115" y="12"/>
                  </a:lnTo>
                  <a:lnTo>
                    <a:pt x="133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7" y="0"/>
                  </a:lnTo>
                  <a:lnTo>
                    <a:pt x="210" y="1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7" y="2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5" y="3"/>
                  </a:lnTo>
                  <a:lnTo>
                    <a:pt x="229" y="3"/>
                  </a:lnTo>
                  <a:lnTo>
                    <a:pt x="232" y="4"/>
                  </a:lnTo>
                  <a:lnTo>
                    <a:pt x="235" y="5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3" y="108"/>
                  </a:lnTo>
                  <a:lnTo>
                    <a:pt x="230" y="107"/>
                  </a:lnTo>
                  <a:lnTo>
                    <a:pt x="227" y="106"/>
                  </a:lnTo>
                  <a:lnTo>
                    <a:pt x="223" y="105"/>
                  </a:lnTo>
                  <a:lnTo>
                    <a:pt x="220" y="104"/>
                  </a:lnTo>
                  <a:lnTo>
                    <a:pt x="217" y="103"/>
                  </a:lnTo>
                  <a:lnTo>
                    <a:pt x="214" y="103"/>
                  </a:lnTo>
                  <a:lnTo>
                    <a:pt x="211" y="101"/>
                  </a:lnTo>
                  <a:lnTo>
                    <a:pt x="209" y="101"/>
                  </a:lnTo>
                  <a:lnTo>
                    <a:pt x="206" y="100"/>
                  </a:lnTo>
                  <a:lnTo>
                    <a:pt x="202" y="100"/>
                  </a:lnTo>
                  <a:lnTo>
                    <a:pt x="199" y="99"/>
                  </a:lnTo>
                  <a:lnTo>
                    <a:pt x="196" y="99"/>
                  </a:lnTo>
                  <a:lnTo>
                    <a:pt x="193" y="99"/>
                  </a:lnTo>
                  <a:lnTo>
                    <a:pt x="191" y="99"/>
                  </a:lnTo>
                  <a:lnTo>
                    <a:pt x="180" y="99"/>
                  </a:lnTo>
                  <a:lnTo>
                    <a:pt x="171" y="101"/>
                  </a:lnTo>
                  <a:lnTo>
                    <a:pt x="161" y="103"/>
                  </a:lnTo>
                  <a:lnTo>
                    <a:pt x="152" y="106"/>
                  </a:lnTo>
                  <a:lnTo>
                    <a:pt x="144" y="109"/>
                  </a:lnTo>
                  <a:lnTo>
                    <a:pt x="136" y="113"/>
                  </a:lnTo>
                  <a:lnTo>
                    <a:pt x="129" y="117"/>
                  </a:lnTo>
                  <a:lnTo>
                    <a:pt x="122" y="124"/>
                  </a:lnTo>
                  <a:lnTo>
                    <a:pt x="116" y="130"/>
                  </a:lnTo>
                  <a:lnTo>
                    <a:pt x="110" y="136"/>
                  </a:lnTo>
                  <a:lnTo>
                    <a:pt x="106" y="142"/>
                  </a:lnTo>
                  <a:lnTo>
                    <a:pt x="103" y="150"/>
                  </a:lnTo>
                  <a:lnTo>
                    <a:pt x="100" y="158"/>
                  </a:lnTo>
                  <a:lnTo>
                    <a:pt x="97" y="166"/>
                  </a:lnTo>
                  <a:lnTo>
                    <a:pt x="96" y="175"/>
                  </a:lnTo>
                  <a:lnTo>
                    <a:pt x="95" y="183"/>
                  </a:lnTo>
                  <a:lnTo>
                    <a:pt x="96" y="193"/>
                  </a:lnTo>
                  <a:lnTo>
                    <a:pt x="97" y="201"/>
                  </a:lnTo>
                  <a:lnTo>
                    <a:pt x="100" y="210"/>
                  </a:lnTo>
                  <a:lnTo>
                    <a:pt x="102" y="217"/>
                  </a:lnTo>
                  <a:lnTo>
                    <a:pt x="106" y="224"/>
                  </a:lnTo>
                  <a:lnTo>
                    <a:pt x="110" y="232"/>
                  </a:lnTo>
                  <a:lnTo>
                    <a:pt x="115" y="238"/>
                  </a:lnTo>
                  <a:lnTo>
                    <a:pt x="122" y="244"/>
                  </a:lnTo>
                  <a:lnTo>
                    <a:pt x="129" y="251"/>
                  </a:lnTo>
                  <a:lnTo>
                    <a:pt x="135" y="255"/>
                  </a:lnTo>
                  <a:lnTo>
                    <a:pt x="144" y="259"/>
                  </a:lnTo>
                  <a:lnTo>
                    <a:pt x="151" y="263"/>
                  </a:lnTo>
                  <a:lnTo>
                    <a:pt x="159" y="265"/>
                  </a:lnTo>
                  <a:lnTo>
                    <a:pt x="169" y="267"/>
                  </a:lnTo>
                  <a:lnTo>
                    <a:pt x="177" y="268"/>
                  </a:lnTo>
                  <a:lnTo>
                    <a:pt x="188" y="268"/>
                  </a:lnTo>
                  <a:lnTo>
                    <a:pt x="191" y="268"/>
                  </a:lnTo>
                  <a:lnTo>
                    <a:pt x="194" y="268"/>
                  </a:lnTo>
                  <a:lnTo>
                    <a:pt x="198" y="268"/>
                  </a:lnTo>
                  <a:lnTo>
                    <a:pt x="201" y="268"/>
                  </a:lnTo>
                  <a:lnTo>
                    <a:pt x="204" y="267"/>
                  </a:lnTo>
                  <a:lnTo>
                    <a:pt x="209" y="267"/>
                  </a:lnTo>
                  <a:lnTo>
                    <a:pt x="212" y="266"/>
                  </a:lnTo>
                  <a:lnTo>
                    <a:pt x="215" y="265"/>
                  </a:lnTo>
                  <a:lnTo>
                    <a:pt x="219" y="264"/>
                  </a:lnTo>
                  <a:lnTo>
                    <a:pt x="222" y="263"/>
                  </a:lnTo>
                  <a:lnTo>
                    <a:pt x="225" y="262"/>
                  </a:lnTo>
                  <a:lnTo>
                    <a:pt x="230" y="261"/>
                  </a:lnTo>
                  <a:lnTo>
                    <a:pt x="233" y="259"/>
                  </a:lnTo>
                  <a:lnTo>
                    <a:pt x="236" y="258"/>
                  </a:lnTo>
                  <a:lnTo>
                    <a:pt x="239" y="256"/>
                  </a:lnTo>
                  <a:lnTo>
                    <a:pt x="243" y="255"/>
                  </a:lnTo>
                  <a:lnTo>
                    <a:pt x="236" y="3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653840" y="1250280"/>
              <a:ext cx="5544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35200" y="1079640"/>
              <a:ext cx="245520" cy="23184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0" y="357"/>
                  </a:moveTo>
                  <a:lnTo>
                    <a:pt x="45" y="0"/>
                  </a:lnTo>
                  <a:lnTo>
                    <a:pt x="120" y="0"/>
                  </a:lnTo>
                  <a:lnTo>
                    <a:pt x="183" y="158"/>
                  </a:lnTo>
                  <a:lnTo>
                    <a:pt x="247" y="0"/>
                  </a:lnTo>
                  <a:lnTo>
                    <a:pt x="321" y="0"/>
                  </a:lnTo>
                  <a:lnTo>
                    <a:pt x="372" y="357"/>
                  </a:lnTo>
                  <a:lnTo>
                    <a:pt x="277" y="357"/>
                  </a:lnTo>
                  <a:lnTo>
                    <a:pt x="257" y="193"/>
                  </a:lnTo>
                  <a:lnTo>
                    <a:pt x="187" y="358"/>
                  </a:lnTo>
                  <a:lnTo>
                    <a:pt x="112" y="193"/>
                  </a:lnTo>
                  <a:lnTo>
                    <a:pt x="9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007000" y="1250280"/>
              <a:ext cx="5544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255400" y="1128600"/>
              <a:ext cx="39240" cy="5904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8" y="89"/>
                  </a:lnTo>
                  <a:lnTo>
                    <a:pt x="14" y="89"/>
                  </a:lnTo>
                  <a:lnTo>
                    <a:pt x="20" y="89"/>
                  </a:lnTo>
                  <a:lnTo>
                    <a:pt x="25" y="88"/>
                  </a:lnTo>
                  <a:lnTo>
                    <a:pt x="30" y="87"/>
                  </a:lnTo>
                  <a:lnTo>
                    <a:pt x="35" y="85"/>
                  </a:lnTo>
                  <a:lnTo>
                    <a:pt x="40" y="83"/>
                  </a:lnTo>
                  <a:lnTo>
                    <a:pt x="43" y="80"/>
                  </a:lnTo>
                  <a:lnTo>
                    <a:pt x="46" y="78"/>
                  </a:lnTo>
                  <a:lnTo>
                    <a:pt x="49" y="75"/>
                  </a:lnTo>
                  <a:lnTo>
                    <a:pt x="52" y="72"/>
                  </a:lnTo>
                  <a:lnTo>
                    <a:pt x="54" y="68"/>
                  </a:lnTo>
                  <a:lnTo>
                    <a:pt x="56" y="64"/>
                  </a:lnTo>
                  <a:lnTo>
                    <a:pt x="57" y="59"/>
                  </a:lnTo>
                  <a:lnTo>
                    <a:pt x="58" y="55"/>
                  </a:lnTo>
                  <a:lnTo>
                    <a:pt x="60" y="50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58" y="34"/>
                  </a:lnTo>
                  <a:lnTo>
                    <a:pt x="57" y="30"/>
                  </a:lnTo>
                  <a:lnTo>
                    <a:pt x="56" y="26"/>
                  </a:lnTo>
                  <a:lnTo>
                    <a:pt x="54" y="22"/>
                  </a:lnTo>
                  <a:lnTo>
                    <a:pt x="52" y="17"/>
                  </a:lnTo>
                  <a:lnTo>
                    <a:pt x="50" y="14"/>
                  </a:lnTo>
                  <a:lnTo>
                    <a:pt x="47" y="11"/>
                  </a:lnTo>
                  <a:lnTo>
                    <a:pt x="44" y="9"/>
                  </a:lnTo>
                  <a:lnTo>
                    <a:pt x="40" y="6"/>
                  </a:lnTo>
                  <a:lnTo>
                    <a:pt x="35" y="4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93840" y="1079640"/>
              <a:ext cx="17640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8"/>
                  </a:lnTo>
                  <a:lnTo>
                    <a:pt x="218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1" y="74"/>
                  </a:lnTo>
                  <a:lnTo>
                    <a:pt x="244" y="87"/>
                  </a:lnTo>
                  <a:lnTo>
                    <a:pt x="245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5" y="128"/>
                  </a:lnTo>
                  <a:lnTo>
                    <a:pt x="244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8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3" y="178"/>
                  </a:lnTo>
                  <a:lnTo>
                    <a:pt x="218" y="183"/>
                  </a:lnTo>
                  <a:lnTo>
                    <a:pt x="212" y="187"/>
                  </a:lnTo>
                  <a:lnTo>
                    <a:pt x="207" y="191"/>
                  </a:lnTo>
                  <a:lnTo>
                    <a:pt x="202" y="194"/>
                  </a:lnTo>
                  <a:lnTo>
                    <a:pt x="196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3" y="204"/>
                  </a:lnTo>
                  <a:lnTo>
                    <a:pt x="93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43180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9" y="77"/>
                  </a:lnTo>
                  <a:lnTo>
                    <a:pt x="12" y="80"/>
                  </a:lnTo>
                  <a:lnTo>
                    <a:pt x="15" y="84"/>
                  </a:lnTo>
                  <a:lnTo>
                    <a:pt x="18" y="87"/>
                  </a:lnTo>
                  <a:lnTo>
                    <a:pt x="23" y="89"/>
                  </a:lnTo>
                  <a:lnTo>
                    <a:pt x="26" y="91"/>
                  </a:lnTo>
                  <a:lnTo>
                    <a:pt x="30" y="93"/>
                  </a:lnTo>
                  <a:lnTo>
                    <a:pt x="34" y="94"/>
                  </a:lnTo>
                  <a:lnTo>
                    <a:pt x="38" y="94"/>
                  </a:lnTo>
                  <a:lnTo>
                    <a:pt x="44" y="94"/>
                  </a:lnTo>
                  <a:lnTo>
                    <a:pt x="48" y="94"/>
                  </a:lnTo>
                  <a:lnTo>
                    <a:pt x="52" y="94"/>
                  </a:lnTo>
                  <a:lnTo>
                    <a:pt x="56" y="93"/>
                  </a:lnTo>
                  <a:lnTo>
                    <a:pt x="60" y="91"/>
                  </a:lnTo>
                  <a:lnTo>
                    <a:pt x="64" y="89"/>
                  </a:lnTo>
                  <a:lnTo>
                    <a:pt x="68" y="87"/>
                  </a:lnTo>
                  <a:lnTo>
                    <a:pt x="71" y="84"/>
                  </a:lnTo>
                  <a:lnTo>
                    <a:pt x="74" y="80"/>
                  </a:lnTo>
                  <a:lnTo>
                    <a:pt x="77" y="77"/>
                  </a:lnTo>
                  <a:lnTo>
                    <a:pt x="80" y="73"/>
                  </a:lnTo>
                  <a:lnTo>
                    <a:pt x="82" y="70"/>
                  </a:lnTo>
                  <a:lnTo>
                    <a:pt x="83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7" y="52"/>
                  </a:lnTo>
                  <a:lnTo>
                    <a:pt x="88" y="48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3" y="29"/>
                  </a:lnTo>
                  <a:lnTo>
                    <a:pt x="82" y="25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4" y="14"/>
                  </a:lnTo>
                  <a:lnTo>
                    <a:pt x="71" y="11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376360" y="1141920"/>
              <a:ext cx="17028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2" y="0"/>
                  </a:moveTo>
                  <a:lnTo>
                    <a:pt x="144" y="0"/>
                  </a:lnTo>
                  <a:lnTo>
                    <a:pt x="158" y="3"/>
                  </a:lnTo>
                  <a:lnTo>
                    <a:pt x="169" y="6"/>
                  </a:lnTo>
                  <a:lnTo>
                    <a:pt x="182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60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60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5" y="237"/>
                  </a:lnTo>
                  <a:lnTo>
                    <a:pt x="204" y="244"/>
                  </a:lnTo>
                  <a:lnTo>
                    <a:pt x="194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9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570040" y="1079640"/>
              <a:ext cx="55440" cy="231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703600" y="1236960"/>
              <a:ext cx="3600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55"/>
                  </a:moveTo>
                  <a:lnTo>
                    <a:pt x="29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49"/>
                  </a:lnTo>
                  <a:lnTo>
                    <a:pt x="45" y="47"/>
                  </a:lnTo>
                  <a:lnTo>
                    <a:pt x="47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2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5" y="46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2" y="51"/>
                  </a:lnTo>
                  <a:lnTo>
                    <a:pt x="14" y="52"/>
                  </a:lnTo>
                  <a:lnTo>
                    <a:pt x="16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6" y="5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514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0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89" y="262"/>
                  </a:lnTo>
                  <a:lnTo>
                    <a:pt x="85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49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1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6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4" y="92"/>
                  </a:lnTo>
                  <a:lnTo>
                    <a:pt x="62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5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8184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8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7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6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3" y="103"/>
                  </a:lnTo>
                  <a:lnTo>
                    <a:pt x="133" y="100"/>
                  </a:lnTo>
                  <a:lnTo>
                    <a:pt x="132" y="97"/>
                  </a:lnTo>
                  <a:lnTo>
                    <a:pt x="130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5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5" y="87"/>
                  </a:lnTo>
                  <a:lnTo>
                    <a:pt x="111" y="87"/>
                  </a:lnTo>
                  <a:lnTo>
                    <a:pt x="108" y="87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040920" y="1197720"/>
              <a:ext cx="61560" cy="6192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47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4" y="63"/>
                  </a:lnTo>
                  <a:lnTo>
                    <a:pt x="6" y="67"/>
                  </a:lnTo>
                  <a:lnTo>
                    <a:pt x="9" y="71"/>
                  </a:lnTo>
                  <a:lnTo>
                    <a:pt x="11" y="74"/>
                  </a:lnTo>
                  <a:lnTo>
                    <a:pt x="14" y="78"/>
                  </a:lnTo>
                  <a:lnTo>
                    <a:pt x="18" y="82"/>
                  </a:lnTo>
                  <a:lnTo>
                    <a:pt x="21" y="84"/>
                  </a:lnTo>
                  <a:lnTo>
                    <a:pt x="25" y="86"/>
                  </a:lnTo>
                  <a:lnTo>
                    <a:pt x="30" y="88"/>
                  </a:lnTo>
                  <a:lnTo>
                    <a:pt x="34" y="90"/>
                  </a:lnTo>
                  <a:lnTo>
                    <a:pt x="38" y="91"/>
                  </a:lnTo>
                  <a:lnTo>
                    <a:pt x="42" y="91"/>
                  </a:lnTo>
                  <a:lnTo>
                    <a:pt x="47" y="91"/>
                  </a:lnTo>
                  <a:lnTo>
                    <a:pt x="52" y="91"/>
                  </a:lnTo>
                  <a:lnTo>
                    <a:pt x="57" y="91"/>
                  </a:lnTo>
                  <a:lnTo>
                    <a:pt x="61" y="90"/>
                  </a:lnTo>
                  <a:lnTo>
                    <a:pt x="65" y="88"/>
                  </a:lnTo>
                  <a:lnTo>
                    <a:pt x="69" y="86"/>
                  </a:lnTo>
                  <a:lnTo>
                    <a:pt x="73" y="84"/>
                  </a:lnTo>
                  <a:lnTo>
                    <a:pt x="77" y="82"/>
                  </a:lnTo>
                  <a:lnTo>
                    <a:pt x="80" y="78"/>
                  </a:lnTo>
                  <a:lnTo>
                    <a:pt x="83" y="74"/>
                  </a:lnTo>
                  <a:lnTo>
                    <a:pt x="86" y="71"/>
                  </a:lnTo>
                  <a:lnTo>
                    <a:pt x="88" y="67"/>
                  </a:lnTo>
                  <a:lnTo>
                    <a:pt x="90" y="64"/>
                  </a:lnTo>
                  <a:lnTo>
                    <a:pt x="91" y="59"/>
                  </a:lnTo>
                  <a:lnTo>
                    <a:pt x="93" y="55"/>
                  </a:lnTo>
                  <a:lnTo>
                    <a:pt x="94" y="50"/>
                  </a:lnTo>
                  <a:lnTo>
                    <a:pt x="94" y="46"/>
                  </a:lnTo>
                  <a:lnTo>
                    <a:pt x="94" y="41"/>
                  </a:lnTo>
                  <a:lnTo>
                    <a:pt x="93" y="36"/>
                  </a:lnTo>
                  <a:lnTo>
                    <a:pt x="91" y="32"/>
                  </a:lnTo>
                  <a:lnTo>
                    <a:pt x="90" y="28"/>
                  </a:lnTo>
                  <a:lnTo>
                    <a:pt x="88" y="24"/>
                  </a:lnTo>
                  <a:lnTo>
                    <a:pt x="86" y="20"/>
                  </a:lnTo>
                  <a:lnTo>
                    <a:pt x="83" y="16"/>
                  </a:lnTo>
                  <a:lnTo>
                    <a:pt x="80" y="13"/>
                  </a:lnTo>
                  <a:lnTo>
                    <a:pt x="77" y="10"/>
                  </a:lnTo>
                  <a:lnTo>
                    <a:pt x="74" y="7"/>
                  </a:lnTo>
                  <a:lnTo>
                    <a:pt x="69" y="5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985480" y="1079640"/>
              <a:ext cx="172800" cy="235440"/>
            </a:xfrm>
            <a:custGeom>
              <a:avLst/>
              <a:gdLst/>
              <a:ahLst/>
              <a:rect l="l" t="t" r="r" b="b"/>
              <a:pathLst>
                <a:path w="268" h="360">
                  <a:moveTo>
                    <a:pt x="185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3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3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2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4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3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8" y="0"/>
                  </a:lnTo>
                  <a:lnTo>
                    <a:pt x="268" y="357"/>
                  </a:lnTo>
                  <a:lnTo>
                    <a:pt x="185" y="357"/>
                  </a:lnTo>
                  <a:lnTo>
                    <a:pt x="185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74480" y="1250280"/>
              <a:ext cx="75600" cy="114120"/>
            </a:xfrm>
            <a:custGeom>
              <a:avLst/>
              <a:gdLst/>
              <a:ahLst/>
              <a:rect l="l" t="t" r="r" b="b"/>
              <a:pathLst>
                <a:path w="118" h="174">
                  <a:moveTo>
                    <a:pt x="0" y="174"/>
                  </a:moveTo>
                  <a:lnTo>
                    <a:pt x="40" y="0"/>
                  </a:lnTo>
                  <a:lnTo>
                    <a:pt x="118" y="0"/>
                  </a:lnTo>
                  <a:lnTo>
                    <a:pt x="76" y="174"/>
                  </a:lnTo>
                  <a:lnTo>
                    <a:pt x="0" y="17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380760" y="1079640"/>
              <a:ext cx="147600" cy="231840"/>
            </a:xfrm>
            <a:custGeom>
              <a:avLst/>
              <a:gdLst/>
              <a:ahLst/>
              <a:rect l="l" t="t" r="r" b="b"/>
              <a:pathLst>
                <a:path w="223" h="357">
                  <a:moveTo>
                    <a:pt x="223" y="258"/>
                  </a:moveTo>
                  <a:lnTo>
                    <a:pt x="198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213" y="94"/>
                  </a:lnTo>
                  <a:lnTo>
                    <a:pt x="92" y="94"/>
                  </a:lnTo>
                  <a:lnTo>
                    <a:pt x="92" y="131"/>
                  </a:lnTo>
                  <a:lnTo>
                    <a:pt x="173" y="131"/>
                  </a:lnTo>
                  <a:lnTo>
                    <a:pt x="173" y="226"/>
                  </a:lnTo>
                  <a:lnTo>
                    <a:pt x="92" y="226"/>
                  </a:lnTo>
                  <a:lnTo>
                    <a:pt x="92" y="258"/>
                  </a:lnTo>
                  <a:lnTo>
                    <a:pt x="223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96760" y="1197720"/>
              <a:ext cx="62280" cy="619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6" y="0"/>
                  </a:move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5" y="67"/>
                  </a:lnTo>
                  <a:lnTo>
                    <a:pt x="8" y="71"/>
                  </a:lnTo>
                  <a:lnTo>
                    <a:pt x="10" y="74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6" y="91"/>
                  </a:lnTo>
                  <a:lnTo>
                    <a:pt x="51" y="91"/>
                  </a:lnTo>
                  <a:lnTo>
                    <a:pt x="56" y="91"/>
                  </a:lnTo>
                  <a:lnTo>
                    <a:pt x="60" y="90"/>
                  </a:lnTo>
                  <a:lnTo>
                    <a:pt x="64" y="88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6" y="82"/>
                  </a:lnTo>
                  <a:lnTo>
                    <a:pt x="79" y="78"/>
                  </a:lnTo>
                  <a:lnTo>
                    <a:pt x="82" y="74"/>
                  </a:lnTo>
                  <a:lnTo>
                    <a:pt x="85" y="71"/>
                  </a:lnTo>
                  <a:lnTo>
                    <a:pt x="87" y="67"/>
                  </a:lnTo>
                  <a:lnTo>
                    <a:pt x="89" y="64"/>
                  </a:lnTo>
                  <a:lnTo>
                    <a:pt x="90" y="59"/>
                  </a:lnTo>
                  <a:lnTo>
                    <a:pt x="91" y="55"/>
                  </a:lnTo>
                  <a:lnTo>
                    <a:pt x="93" y="50"/>
                  </a:lnTo>
                  <a:lnTo>
                    <a:pt x="93" y="46"/>
                  </a:lnTo>
                  <a:lnTo>
                    <a:pt x="93" y="41"/>
                  </a:lnTo>
                  <a:lnTo>
                    <a:pt x="91" y="36"/>
                  </a:lnTo>
                  <a:lnTo>
                    <a:pt x="90" y="32"/>
                  </a:lnTo>
                  <a:lnTo>
                    <a:pt x="89" y="28"/>
                  </a:lnTo>
                  <a:lnTo>
                    <a:pt x="87" y="24"/>
                  </a:lnTo>
                  <a:lnTo>
                    <a:pt x="85" y="20"/>
                  </a:lnTo>
                  <a:lnTo>
                    <a:pt x="82" y="16"/>
                  </a:lnTo>
                  <a:lnTo>
                    <a:pt x="79" y="13"/>
                  </a:lnTo>
                  <a:lnTo>
                    <a:pt x="76" y="10"/>
                  </a:lnTo>
                  <a:lnTo>
                    <a:pt x="73" y="7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54096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86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4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4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747240" y="1145520"/>
              <a:ext cx="55440" cy="1659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747240" y="1079640"/>
              <a:ext cx="55440" cy="486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826080" y="1092960"/>
              <a:ext cx="91080" cy="2221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24" y="334"/>
                  </a:moveTo>
                  <a:lnTo>
                    <a:pt x="121" y="334"/>
                  </a:lnTo>
                  <a:lnTo>
                    <a:pt x="118" y="335"/>
                  </a:lnTo>
                  <a:lnTo>
                    <a:pt x="116" y="335"/>
                  </a:lnTo>
                  <a:lnTo>
                    <a:pt x="114" y="335"/>
                  </a:lnTo>
                  <a:lnTo>
                    <a:pt x="112" y="335"/>
                  </a:lnTo>
                  <a:lnTo>
                    <a:pt x="110" y="336"/>
                  </a:lnTo>
                  <a:lnTo>
                    <a:pt x="108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7" y="337"/>
                  </a:lnTo>
                  <a:lnTo>
                    <a:pt x="95" y="337"/>
                  </a:lnTo>
                  <a:lnTo>
                    <a:pt x="93" y="337"/>
                  </a:lnTo>
                  <a:lnTo>
                    <a:pt x="91" y="337"/>
                  </a:lnTo>
                  <a:lnTo>
                    <a:pt x="89" y="337"/>
                  </a:lnTo>
                  <a:lnTo>
                    <a:pt x="79" y="337"/>
                  </a:lnTo>
                  <a:lnTo>
                    <a:pt x="70" y="336"/>
                  </a:lnTo>
                  <a:lnTo>
                    <a:pt x="62" y="334"/>
                  </a:lnTo>
                  <a:lnTo>
                    <a:pt x="53" y="333"/>
                  </a:lnTo>
                  <a:lnTo>
                    <a:pt x="47" y="330"/>
                  </a:lnTo>
                  <a:lnTo>
                    <a:pt x="41" y="327"/>
                  </a:lnTo>
                  <a:lnTo>
                    <a:pt x="35" y="323"/>
                  </a:lnTo>
                  <a:lnTo>
                    <a:pt x="31" y="319"/>
                  </a:lnTo>
                  <a:lnTo>
                    <a:pt x="28" y="314"/>
                  </a:lnTo>
                  <a:lnTo>
                    <a:pt x="25" y="309"/>
                  </a:lnTo>
                  <a:lnTo>
                    <a:pt x="22" y="301"/>
                  </a:lnTo>
                  <a:lnTo>
                    <a:pt x="20" y="292"/>
                  </a:lnTo>
                  <a:lnTo>
                    <a:pt x="18" y="282"/>
                  </a:lnTo>
                  <a:lnTo>
                    <a:pt x="17" y="272"/>
                  </a:lnTo>
                  <a:lnTo>
                    <a:pt x="15" y="259"/>
                  </a:lnTo>
                  <a:lnTo>
                    <a:pt x="15" y="247"/>
                  </a:lnTo>
                  <a:lnTo>
                    <a:pt x="15" y="153"/>
                  </a:lnTo>
                  <a:lnTo>
                    <a:pt x="0" y="153"/>
                  </a:lnTo>
                  <a:lnTo>
                    <a:pt x="0" y="77"/>
                  </a:lnTo>
                  <a:lnTo>
                    <a:pt x="15" y="77"/>
                  </a:lnTo>
                  <a:lnTo>
                    <a:pt x="15" y="49"/>
                  </a:lnTo>
                  <a:lnTo>
                    <a:pt x="100" y="0"/>
                  </a:lnTo>
                  <a:lnTo>
                    <a:pt x="100" y="77"/>
                  </a:lnTo>
                  <a:lnTo>
                    <a:pt x="132" y="77"/>
                  </a:lnTo>
                  <a:lnTo>
                    <a:pt x="132" y="153"/>
                  </a:lnTo>
                  <a:lnTo>
                    <a:pt x="100" y="153"/>
                  </a:lnTo>
                  <a:lnTo>
                    <a:pt x="100" y="211"/>
                  </a:lnTo>
                  <a:lnTo>
                    <a:pt x="100" y="216"/>
                  </a:lnTo>
                  <a:lnTo>
                    <a:pt x="100" y="221"/>
                  </a:lnTo>
                  <a:lnTo>
                    <a:pt x="100" y="225"/>
                  </a:lnTo>
                  <a:lnTo>
                    <a:pt x="102" y="229"/>
                  </a:lnTo>
                  <a:lnTo>
                    <a:pt x="102" y="232"/>
                  </a:lnTo>
                  <a:lnTo>
                    <a:pt x="103" y="235"/>
                  </a:lnTo>
                  <a:lnTo>
                    <a:pt x="104" y="237"/>
                  </a:lnTo>
                  <a:lnTo>
                    <a:pt x="105" y="239"/>
                  </a:lnTo>
                  <a:lnTo>
                    <a:pt x="107" y="240"/>
                  </a:lnTo>
                  <a:lnTo>
                    <a:pt x="108" y="243"/>
                  </a:lnTo>
                  <a:lnTo>
                    <a:pt x="110" y="244"/>
                  </a:lnTo>
                  <a:lnTo>
                    <a:pt x="112" y="245"/>
                  </a:lnTo>
                  <a:lnTo>
                    <a:pt x="115" y="245"/>
                  </a:lnTo>
                  <a:lnTo>
                    <a:pt x="117" y="246"/>
                  </a:lnTo>
                  <a:lnTo>
                    <a:pt x="120" y="246"/>
                  </a:lnTo>
                  <a:lnTo>
                    <a:pt x="124" y="246"/>
                  </a:lnTo>
                  <a:lnTo>
                    <a:pt x="126" y="246"/>
                  </a:lnTo>
                  <a:lnTo>
                    <a:pt x="127" y="246"/>
                  </a:lnTo>
                  <a:lnTo>
                    <a:pt x="128" y="246"/>
                  </a:lnTo>
                  <a:lnTo>
                    <a:pt x="129" y="246"/>
                  </a:lnTo>
                  <a:lnTo>
                    <a:pt x="130" y="246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6" y="246"/>
                  </a:lnTo>
                  <a:lnTo>
                    <a:pt x="137" y="246"/>
                  </a:lnTo>
                  <a:lnTo>
                    <a:pt x="137" y="245"/>
                  </a:lnTo>
                  <a:lnTo>
                    <a:pt x="138" y="245"/>
                  </a:lnTo>
                  <a:lnTo>
                    <a:pt x="139" y="245"/>
                  </a:lnTo>
                  <a:lnTo>
                    <a:pt x="124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916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0"/>
                  </a:move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19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4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8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4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4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8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30480" y="1141920"/>
              <a:ext cx="17352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0"/>
                  </a:moveTo>
                  <a:lnTo>
                    <a:pt x="144" y="0"/>
                  </a:lnTo>
                  <a:lnTo>
                    <a:pt x="157" y="3"/>
                  </a:lnTo>
                  <a:lnTo>
                    <a:pt x="169" y="6"/>
                  </a:lnTo>
                  <a:lnTo>
                    <a:pt x="181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69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0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7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8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27040" y="1141920"/>
              <a:ext cx="91080" cy="16956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0" y="259"/>
                  </a:moveTo>
                  <a:lnTo>
                    <a:pt x="0" y="2"/>
                  </a:lnTo>
                  <a:lnTo>
                    <a:pt x="85" y="2"/>
                  </a:lnTo>
                  <a:lnTo>
                    <a:pt x="85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8" y="13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1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1" y="89"/>
                  </a:lnTo>
                  <a:lnTo>
                    <a:pt x="116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3" y="95"/>
                  </a:lnTo>
                  <a:lnTo>
                    <a:pt x="100" y="97"/>
                  </a:lnTo>
                  <a:lnTo>
                    <a:pt x="97" y="100"/>
                  </a:lnTo>
                  <a:lnTo>
                    <a:pt x="94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5" y="136"/>
                  </a:lnTo>
                  <a:lnTo>
                    <a:pt x="85" y="259"/>
                  </a:lnTo>
                  <a:lnTo>
                    <a:pt x="0" y="25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38516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40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40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8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8" y="57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8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3268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0" y="0"/>
                  </a:moveTo>
                  <a:lnTo>
                    <a:pt x="143" y="0"/>
                  </a:lnTo>
                  <a:lnTo>
                    <a:pt x="156" y="3"/>
                  </a:lnTo>
                  <a:lnTo>
                    <a:pt x="169" y="6"/>
                  </a:lnTo>
                  <a:lnTo>
                    <a:pt x="180" y="10"/>
                  </a:lnTo>
                  <a:lnTo>
                    <a:pt x="192" y="15"/>
                  </a:lnTo>
                  <a:lnTo>
                    <a:pt x="202" y="23"/>
                  </a:lnTo>
                  <a:lnTo>
                    <a:pt x="213" y="30"/>
                  </a:lnTo>
                  <a:lnTo>
                    <a:pt x="223" y="39"/>
                  </a:lnTo>
                  <a:lnTo>
                    <a:pt x="232" y="50"/>
                  </a:lnTo>
                  <a:lnTo>
                    <a:pt x="240" y="60"/>
                  </a:lnTo>
                  <a:lnTo>
                    <a:pt x="246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0" y="120"/>
                  </a:lnTo>
                  <a:lnTo>
                    <a:pt x="261" y="134"/>
                  </a:lnTo>
                  <a:lnTo>
                    <a:pt x="260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6" y="196"/>
                  </a:lnTo>
                  <a:lnTo>
                    <a:pt x="240" y="207"/>
                  </a:lnTo>
                  <a:lnTo>
                    <a:pt x="232" y="218"/>
                  </a:lnTo>
                  <a:lnTo>
                    <a:pt x="223" y="227"/>
                  </a:lnTo>
                  <a:lnTo>
                    <a:pt x="213" y="237"/>
                  </a:lnTo>
                  <a:lnTo>
                    <a:pt x="203" y="244"/>
                  </a:lnTo>
                  <a:lnTo>
                    <a:pt x="192" y="251"/>
                  </a:lnTo>
                  <a:lnTo>
                    <a:pt x="181" y="257"/>
                  </a:lnTo>
                  <a:lnTo>
                    <a:pt x="169" y="261"/>
                  </a:lnTo>
                  <a:lnTo>
                    <a:pt x="156" y="264"/>
                  </a:lnTo>
                  <a:lnTo>
                    <a:pt x="143" y="266"/>
                  </a:lnTo>
                  <a:lnTo>
                    <a:pt x="130" y="266"/>
                  </a:lnTo>
                  <a:lnTo>
                    <a:pt x="117" y="266"/>
                  </a:lnTo>
                  <a:lnTo>
                    <a:pt x="104" y="264"/>
                  </a:lnTo>
                  <a:lnTo>
                    <a:pt x="92" y="261"/>
                  </a:lnTo>
                  <a:lnTo>
                    <a:pt x="79" y="257"/>
                  </a:lnTo>
                  <a:lnTo>
                    <a:pt x="68" y="251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7"/>
                  </a:lnTo>
                  <a:lnTo>
                    <a:pt x="28" y="218"/>
                  </a:lnTo>
                  <a:lnTo>
                    <a:pt x="21" y="207"/>
                  </a:lnTo>
                  <a:lnTo>
                    <a:pt x="14" y="196"/>
                  </a:lnTo>
                  <a:lnTo>
                    <a:pt x="9" y="184"/>
                  </a:lnTo>
                  <a:lnTo>
                    <a:pt x="5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4" y="71"/>
                  </a:lnTo>
                  <a:lnTo>
                    <a:pt x="21" y="59"/>
                  </a:lnTo>
                  <a:lnTo>
                    <a:pt x="28" y="49"/>
                  </a:lnTo>
                  <a:lnTo>
                    <a:pt x="37" y="39"/>
                  </a:lnTo>
                  <a:lnTo>
                    <a:pt x="47" y="30"/>
                  </a:lnTo>
                  <a:lnTo>
                    <a:pt x="57" y="23"/>
                  </a:lnTo>
                  <a:lnTo>
                    <a:pt x="69" y="15"/>
                  </a:lnTo>
                  <a:lnTo>
                    <a:pt x="79" y="10"/>
                  </a:lnTo>
                  <a:lnTo>
                    <a:pt x="92" y="6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3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12960" y="1076760"/>
              <a:ext cx="94680" cy="234720"/>
            </a:xfrm>
            <a:custGeom>
              <a:avLst/>
              <a:gdLst/>
              <a:ahLst/>
              <a:rect l="l" t="t" r="r" b="b"/>
              <a:pathLst>
                <a:path w="142" h="360">
                  <a:moveTo>
                    <a:pt x="142" y="1"/>
                  </a:moveTo>
                  <a:lnTo>
                    <a:pt x="142" y="82"/>
                  </a:lnTo>
                  <a:lnTo>
                    <a:pt x="142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9" y="82"/>
                  </a:lnTo>
                  <a:lnTo>
                    <a:pt x="138" y="82"/>
                  </a:lnTo>
                  <a:lnTo>
                    <a:pt x="137" y="82"/>
                  </a:lnTo>
                  <a:lnTo>
                    <a:pt x="135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28" y="81"/>
                  </a:lnTo>
                  <a:lnTo>
                    <a:pt x="125" y="82"/>
                  </a:lnTo>
                  <a:lnTo>
                    <a:pt x="122" y="82"/>
                  </a:lnTo>
                  <a:lnTo>
                    <a:pt x="119" y="82"/>
                  </a:lnTo>
                  <a:lnTo>
                    <a:pt x="117" y="83"/>
                  </a:lnTo>
                  <a:lnTo>
                    <a:pt x="114" y="84"/>
                  </a:lnTo>
                  <a:lnTo>
                    <a:pt x="112" y="85"/>
                  </a:lnTo>
                  <a:lnTo>
                    <a:pt x="111" y="86"/>
                  </a:lnTo>
                  <a:lnTo>
                    <a:pt x="109" y="87"/>
                  </a:lnTo>
                  <a:lnTo>
                    <a:pt x="108" y="88"/>
                  </a:lnTo>
                  <a:lnTo>
                    <a:pt x="107" y="90"/>
                  </a:lnTo>
                  <a:lnTo>
                    <a:pt x="106" y="92"/>
                  </a:lnTo>
                  <a:lnTo>
                    <a:pt x="106" y="94"/>
                  </a:lnTo>
                  <a:lnTo>
                    <a:pt x="105" y="96"/>
                  </a:lnTo>
                  <a:lnTo>
                    <a:pt x="105" y="98"/>
                  </a:lnTo>
                  <a:lnTo>
                    <a:pt x="105" y="102"/>
                  </a:lnTo>
                  <a:lnTo>
                    <a:pt x="105" y="103"/>
                  </a:lnTo>
                  <a:lnTo>
                    <a:pt x="142" y="103"/>
                  </a:lnTo>
                  <a:lnTo>
                    <a:pt x="142" y="179"/>
                  </a:lnTo>
                  <a:lnTo>
                    <a:pt x="105" y="179"/>
                  </a:lnTo>
                  <a:lnTo>
                    <a:pt x="105" y="360"/>
                  </a:lnTo>
                  <a:lnTo>
                    <a:pt x="21" y="360"/>
                  </a:lnTo>
                  <a:lnTo>
                    <a:pt x="21" y="179"/>
                  </a:lnTo>
                  <a:lnTo>
                    <a:pt x="0" y="179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21" y="96"/>
                  </a:lnTo>
                  <a:lnTo>
                    <a:pt x="21" y="85"/>
                  </a:lnTo>
                  <a:lnTo>
                    <a:pt x="22" y="73"/>
                  </a:lnTo>
                  <a:lnTo>
                    <a:pt x="24" y="64"/>
                  </a:lnTo>
                  <a:lnTo>
                    <a:pt x="26" y="54"/>
                  </a:lnTo>
                  <a:lnTo>
                    <a:pt x="31" y="45"/>
                  </a:lnTo>
                  <a:lnTo>
                    <a:pt x="35" y="38"/>
                  </a:lnTo>
                  <a:lnTo>
                    <a:pt x="40" y="30"/>
                  </a:lnTo>
                  <a:lnTo>
                    <a:pt x="45" y="24"/>
                  </a:lnTo>
                  <a:lnTo>
                    <a:pt x="53" y="19"/>
                  </a:lnTo>
                  <a:lnTo>
                    <a:pt x="60" y="13"/>
                  </a:lnTo>
                  <a:lnTo>
                    <a:pt x="68" y="9"/>
                  </a:lnTo>
                  <a:lnTo>
                    <a:pt x="77" y="6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781520" y="1128600"/>
              <a:ext cx="39240" cy="5904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10" y="89"/>
                  </a:lnTo>
                  <a:lnTo>
                    <a:pt x="15" y="89"/>
                  </a:lnTo>
                  <a:lnTo>
                    <a:pt x="21" y="89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6" y="85"/>
                  </a:lnTo>
                  <a:lnTo>
                    <a:pt x="40" y="83"/>
                  </a:lnTo>
                  <a:lnTo>
                    <a:pt x="43" y="80"/>
                  </a:lnTo>
                  <a:lnTo>
                    <a:pt x="48" y="78"/>
                  </a:lnTo>
                  <a:lnTo>
                    <a:pt x="51" y="75"/>
                  </a:lnTo>
                  <a:lnTo>
                    <a:pt x="53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58" y="59"/>
                  </a:lnTo>
                  <a:lnTo>
                    <a:pt x="59" y="55"/>
                  </a:lnTo>
                  <a:lnTo>
                    <a:pt x="60" y="50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59" y="34"/>
                  </a:lnTo>
                  <a:lnTo>
                    <a:pt x="59" y="30"/>
                  </a:lnTo>
                  <a:lnTo>
                    <a:pt x="57" y="26"/>
                  </a:lnTo>
                  <a:lnTo>
                    <a:pt x="55" y="22"/>
                  </a:lnTo>
                  <a:lnTo>
                    <a:pt x="53" y="17"/>
                  </a:lnTo>
                  <a:lnTo>
                    <a:pt x="51" y="14"/>
                  </a:lnTo>
                  <a:lnTo>
                    <a:pt x="48" y="11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722120" y="1079640"/>
              <a:ext cx="17352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8" y="22"/>
                  </a:lnTo>
                  <a:lnTo>
                    <a:pt x="209" y="28"/>
                  </a:lnTo>
                  <a:lnTo>
                    <a:pt x="217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0" y="74"/>
                  </a:lnTo>
                  <a:lnTo>
                    <a:pt x="243" y="87"/>
                  </a:lnTo>
                  <a:lnTo>
                    <a:pt x="246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4" y="128"/>
                  </a:lnTo>
                  <a:lnTo>
                    <a:pt x="243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7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2" y="178"/>
                  </a:lnTo>
                  <a:lnTo>
                    <a:pt x="218" y="183"/>
                  </a:lnTo>
                  <a:lnTo>
                    <a:pt x="213" y="187"/>
                  </a:lnTo>
                  <a:lnTo>
                    <a:pt x="208" y="191"/>
                  </a:lnTo>
                  <a:lnTo>
                    <a:pt x="201" y="194"/>
                  </a:lnTo>
                  <a:lnTo>
                    <a:pt x="195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2" y="204"/>
                  </a:lnTo>
                  <a:lnTo>
                    <a:pt x="92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912200" y="1145520"/>
              <a:ext cx="143640" cy="169560"/>
            </a:xfrm>
            <a:custGeom>
              <a:avLst/>
              <a:gdLst/>
              <a:ahLst/>
              <a:rect l="l" t="t" r="r" b="b"/>
              <a:pathLst>
                <a:path w="220" h="261">
                  <a:moveTo>
                    <a:pt x="220" y="0"/>
                  </a:moveTo>
                  <a:lnTo>
                    <a:pt x="220" y="257"/>
                  </a:lnTo>
                  <a:lnTo>
                    <a:pt x="137" y="257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31" y="239"/>
                  </a:lnTo>
                  <a:lnTo>
                    <a:pt x="128" y="242"/>
                  </a:lnTo>
                  <a:lnTo>
                    <a:pt x="124" y="245"/>
                  </a:lnTo>
                  <a:lnTo>
                    <a:pt x="120" y="247"/>
                  </a:lnTo>
                  <a:lnTo>
                    <a:pt x="117" y="250"/>
                  </a:lnTo>
                  <a:lnTo>
                    <a:pt x="113" y="252"/>
                  </a:lnTo>
                  <a:lnTo>
                    <a:pt x="110" y="254"/>
                  </a:lnTo>
                  <a:lnTo>
                    <a:pt x="106" y="256"/>
                  </a:lnTo>
                  <a:lnTo>
                    <a:pt x="101" y="257"/>
                  </a:lnTo>
                  <a:lnTo>
                    <a:pt x="97" y="258"/>
                  </a:lnTo>
                  <a:lnTo>
                    <a:pt x="92" y="259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78" y="261"/>
                  </a:lnTo>
                  <a:lnTo>
                    <a:pt x="74" y="261"/>
                  </a:lnTo>
                  <a:lnTo>
                    <a:pt x="65" y="260"/>
                  </a:lnTo>
                  <a:lnTo>
                    <a:pt x="56" y="259"/>
                  </a:lnTo>
                  <a:lnTo>
                    <a:pt x="49" y="258"/>
                  </a:lnTo>
                  <a:lnTo>
                    <a:pt x="42" y="255"/>
                  </a:lnTo>
                  <a:lnTo>
                    <a:pt x="35" y="253"/>
                  </a:lnTo>
                  <a:lnTo>
                    <a:pt x="29" y="249"/>
                  </a:lnTo>
                  <a:lnTo>
                    <a:pt x="23" y="244"/>
                  </a:lnTo>
                  <a:lnTo>
                    <a:pt x="18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36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5" y="151"/>
                  </a:lnTo>
                  <a:lnTo>
                    <a:pt x="85" y="155"/>
                  </a:lnTo>
                  <a:lnTo>
                    <a:pt x="86" y="158"/>
                  </a:lnTo>
                  <a:lnTo>
                    <a:pt x="87" y="161"/>
                  </a:lnTo>
                  <a:lnTo>
                    <a:pt x="88" y="165"/>
                  </a:lnTo>
                  <a:lnTo>
                    <a:pt x="89" y="167"/>
                  </a:lnTo>
                  <a:lnTo>
                    <a:pt x="91" y="169"/>
                  </a:lnTo>
                  <a:lnTo>
                    <a:pt x="92" y="171"/>
                  </a:lnTo>
                  <a:lnTo>
                    <a:pt x="94" y="172"/>
                  </a:lnTo>
                  <a:lnTo>
                    <a:pt x="96" y="173"/>
                  </a:lnTo>
                  <a:lnTo>
                    <a:pt x="99" y="174"/>
                  </a:lnTo>
                  <a:lnTo>
                    <a:pt x="101" y="175"/>
                  </a:lnTo>
                  <a:lnTo>
                    <a:pt x="104" y="175"/>
                  </a:lnTo>
                  <a:lnTo>
                    <a:pt x="108" y="175"/>
                  </a:lnTo>
                  <a:lnTo>
                    <a:pt x="111" y="175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3"/>
                  </a:lnTo>
                  <a:lnTo>
                    <a:pt x="122" y="172"/>
                  </a:lnTo>
                  <a:lnTo>
                    <a:pt x="124" y="170"/>
                  </a:lnTo>
                  <a:lnTo>
                    <a:pt x="127" y="168"/>
                  </a:lnTo>
                  <a:lnTo>
                    <a:pt x="129" y="166"/>
                  </a:lnTo>
                  <a:lnTo>
                    <a:pt x="131" y="163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4" y="153"/>
                  </a:lnTo>
                  <a:lnTo>
                    <a:pt x="135" y="150"/>
                  </a:lnTo>
                  <a:lnTo>
                    <a:pt x="135" y="146"/>
                  </a:lnTo>
                  <a:lnTo>
                    <a:pt x="135" y="140"/>
                  </a:lnTo>
                  <a:lnTo>
                    <a:pt x="136" y="136"/>
                  </a:lnTo>
                  <a:lnTo>
                    <a:pt x="136" y="0"/>
                  </a:lnTo>
                  <a:lnTo>
                    <a:pt x="22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14116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7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7" y="56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6" y="34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9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0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08572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0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1" y="101"/>
                  </a:lnTo>
                  <a:lnTo>
                    <a:pt x="115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1" y="97"/>
                  </a:lnTo>
                  <a:lnTo>
                    <a:pt x="135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1" y="101"/>
                  </a:lnTo>
                  <a:lnTo>
                    <a:pt x="191" y="105"/>
                  </a:lnTo>
                  <a:lnTo>
                    <a:pt x="202" y="110"/>
                  </a:lnTo>
                  <a:lnTo>
                    <a:pt x="211" y="116"/>
                  </a:lnTo>
                  <a:lnTo>
                    <a:pt x="220" y="124"/>
                  </a:lnTo>
                  <a:lnTo>
                    <a:pt x="229" y="132"/>
                  </a:lnTo>
                  <a:lnTo>
                    <a:pt x="236" y="141"/>
                  </a:lnTo>
                  <a:lnTo>
                    <a:pt x="243" y="151"/>
                  </a:lnTo>
                  <a:lnTo>
                    <a:pt x="249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59" y="254"/>
                  </a:lnTo>
                  <a:lnTo>
                    <a:pt x="256" y="268"/>
                  </a:lnTo>
                  <a:lnTo>
                    <a:pt x="253" y="280"/>
                  </a:lnTo>
                  <a:lnTo>
                    <a:pt x="247" y="292"/>
                  </a:lnTo>
                  <a:lnTo>
                    <a:pt x="240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4" y="332"/>
                  </a:lnTo>
                  <a:lnTo>
                    <a:pt x="204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19" y="361"/>
                  </a:lnTo>
                  <a:lnTo>
                    <a:pt x="111" y="361"/>
                  </a:lnTo>
                  <a:lnTo>
                    <a:pt x="103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8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6" y="330"/>
                  </a:lnTo>
                  <a:lnTo>
                    <a:pt x="32" y="325"/>
                  </a:lnTo>
                  <a:lnTo>
                    <a:pt x="27" y="320"/>
                  </a:lnTo>
                  <a:lnTo>
                    <a:pt x="23" y="316"/>
                  </a:lnTo>
                  <a:lnTo>
                    <a:pt x="20" y="311"/>
                  </a:lnTo>
                  <a:lnTo>
                    <a:pt x="17" y="307"/>
                  </a:lnTo>
                  <a:lnTo>
                    <a:pt x="15" y="301"/>
                  </a:lnTo>
                  <a:lnTo>
                    <a:pt x="12" y="296"/>
                  </a:lnTo>
                  <a:lnTo>
                    <a:pt x="9" y="291"/>
                  </a:lnTo>
                  <a:lnTo>
                    <a:pt x="7" y="284"/>
                  </a:lnTo>
                  <a:lnTo>
                    <a:pt x="6" y="279"/>
                  </a:lnTo>
                  <a:lnTo>
                    <a:pt x="4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33412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8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9" y="77"/>
                  </a:lnTo>
                  <a:lnTo>
                    <a:pt x="82" y="73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1"/>
                  </a:lnTo>
                  <a:lnTo>
                    <a:pt x="88" y="56"/>
                  </a:lnTo>
                  <a:lnTo>
                    <a:pt x="88" y="52"/>
                  </a:lnTo>
                  <a:lnTo>
                    <a:pt x="89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7" y="34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7868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6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2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513760" y="1188000"/>
              <a:ext cx="52560" cy="4212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2" y="66"/>
                  </a:moveTo>
                  <a:lnTo>
                    <a:pt x="80" y="9"/>
                  </a:lnTo>
                  <a:lnTo>
                    <a:pt x="79" y="8"/>
                  </a:lnTo>
                  <a:lnTo>
                    <a:pt x="77" y="7"/>
                  </a:lnTo>
                  <a:lnTo>
                    <a:pt x="76" y="6"/>
                  </a:lnTo>
                  <a:lnTo>
                    <a:pt x="75" y="5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20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2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464800" y="1141920"/>
              <a:ext cx="16380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234" y="235"/>
                  </a:moveTo>
                  <a:lnTo>
                    <a:pt x="228" y="239"/>
                  </a:lnTo>
                  <a:lnTo>
                    <a:pt x="223" y="242"/>
                  </a:lnTo>
                  <a:lnTo>
                    <a:pt x="217" y="245"/>
                  </a:lnTo>
                  <a:lnTo>
                    <a:pt x="210" y="248"/>
                  </a:lnTo>
                  <a:lnTo>
                    <a:pt x="205" y="250"/>
                  </a:lnTo>
                  <a:lnTo>
                    <a:pt x="199" y="253"/>
                  </a:lnTo>
                  <a:lnTo>
                    <a:pt x="192" y="255"/>
                  </a:lnTo>
                  <a:lnTo>
                    <a:pt x="186" y="257"/>
                  </a:lnTo>
                  <a:lnTo>
                    <a:pt x="180" y="259"/>
                  </a:lnTo>
                  <a:lnTo>
                    <a:pt x="173" y="260"/>
                  </a:lnTo>
                  <a:lnTo>
                    <a:pt x="166" y="262"/>
                  </a:lnTo>
                  <a:lnTo>
                    <a:pt x="160" y="262"/>
                  </a:lnTo>
                  <a:lnTo>
                    <a:pt x="153" y="263"/>
                  </a:lnTo>
                  <a:lnTo>
                    <a:pt x="146" y="264"/>
                  </a:lnTo>
                  <a:lnTo>
                    <a:pt x="139" y="264"/>
                  </a:lnTo>
                  <a:lnTo>
                    <a:pt x="133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9"/>
                  </a:lnTo>
                  <a:lnTo>
                    <a:pt x="79" y="256"/>
                  </a:lnTo>
                  <a:lnTo>
                    <a:pt x="68" y="250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8"/>
                  </a:lnTo>
                  <a:lnTo>
                    <a:pt x="29" y="219"/>
                  </a:lnTo>
                  <a:lnTo>
                    <a:pt x="21" y="208"/>
                  </a:lnTo>
                  <a:lnTo>
                    <a:pt x="15" y="198"/>
                  </a:lnTo>
                  <a:lnTo>
                    <a:pt x="10" y="186"/>
                  </a:lnTo>
                  <a:lnTo>
                    <a:pt x="6" y="175"/>
                  </a:lnTo>
                  <a:lnTo>
                    <a:pt x="3" y="162"/>
                  </a:lnTo>
                  <a:lnTo>
                    <a:pt x="1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0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8"/>
                  </a:lnTo>
                  <a:lnTo>
                    <a:pt x="49" y="29"/>
                  </a:lnTo>
                  <a:lnTo>
                    <a:pt x="59" y="22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4" y="5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1" y="5"/>
                  </a:lnTo>
                  <a:lnTo>
                    <a:pt x="180" y="8"/>
                  </a:lnTo>
                  <a:lnTo>
                    <a:pt x="188" y="12"/>
                  </a:lnTo>
                  <a:lnTo>
                    <a:pt x="197" y="17"/>
                  </a:lnTo>
                  <a:lnTo>
                    <a:pt x="205" y="23"/>
                  </a:lnTo>
                  <a:lnTo>
                    <a:pt x="212" y="29"/>
                  </a:lnTo>
                  <a:lnTo>
                    <a:pt x="219" y="35"/>
                  </a:lnTo>
                  <a:lnTo>
                    <a:pt x="225" y="43"/>
                  </a:lnTo>
                  <a:lnTo>
                    <a:pt x="231" y="50"/>
                  </a:lnTo>
                  <a:lnTo>
                    <a:pt x="237" y="58"/>
                  </a:lnTo>
                  <a:lnTo>
                    <a:pt x="241" y="68"/>
                  </a:lnTo>
                  <a:lnTo>
                    <a:pt x="245" y="77"/>
                  </a:lnTo>
                  <a:lnTo>
                    <a:pt x="249" y="88"/>
                  </a:lnTo>
                  <a:lnTo>
                    <a:pt x="112" y="184"/>
                  </a:lnTo>
                  <a:lnTo>
                    <a:pt x="114" y="184"/>
                  </a:lnTo>
                  <a:lnTo>
                    <a:pt x="115" y="185"/>
                  </a:lnTo>
                  <a:lnTo>
                    <a:pt x="117" y="185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2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9" y="189"/>
                  </a:lnTo>
                  <a:lnTo>
                    <a:pt x="131" y="189"/>
                  </a:lnTo>
                  <a:lnTo>
                    <a:pt x="133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4" y="184"/>
                  </a:lnTo>
                  <a:lnTo>
                    <a:pt x="179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6" y="174"/>
                  </a:lnTo>
                  <a:lnTo>
                    <a:pt x="201" y="171"/>
                  </a:lnTo>
                  <a:lnTo>
                    <a:pt x="206" y="168"/>
                  </a:lnTo>
                  <a:lnTo>
                    <a:pt x="211" y="164"/>
                  </a:lnTo>
                  <a:lnTo>
                    <a:pt x="217" y="160"/>
                  </a:lnTo>
                  <a:lnTo>
                    <a:pt x="222" y="156"/>
                  </a:lnTo>
                  <a:lnTo>
                    <a:pt x="228" y="151"/>
                  </a:lnTo>
                  <a:lnTo>
                    <a:pt x="234" y="2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648040" y="1141920"/>
              <a:ext cx="91800" cy="16956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259"/>
                  </a:moveTo>
                  <a:lnTo>
                    <a:pt x="0" y="2"/>
                  </a:lnTo>
                  <a:lnTo>
                    <a:pt x="84" y="2"/>
                  </a:lnTo>
                  <a:lnTo>
                    <a:pt x="84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1" y="18"/>
                  </a:lnTo>
                  <a:lnTo>
                    <a:pt x="94" y="16"/>
                  </a:lnTo>
                  <a:lnTo>
                    <a:pt x="97" y="13"/>
                  </a:lnTo>
                  <a:lnTo>
                    <a:pt x="100" y="11"/>
                  </a:lnTo>
                  <a:lnTo>
                    <a:pt x="103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4" y="4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0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0" y="89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2" y="95"/>
                  </a:lnTo>
                  <a:lnTo>
                    <a:pt x="99" y="97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4" y="136"/>
                  </a:lnTo>
                  <a:lnTo>
                    <a:pt x="84" y="259"/>
                  </a:lnTo>
                  <a:lnTo>
                    <a:pt x="0" y="25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860800" y="1079640"/>
              <a:ext cx="146880" cy="231840"/>
            </a:xfrm>
            <a:custGeom>
              <a:avLst/>
              <a:gdLst/>
              <a:ahLst/>
              <a:rect l="l" t="t" r="r" b="b"/>
              <a:pathLst>
                <a:path w="224" h="357">
                  <a:moveTo>
                    <a:pt x="224" y="258"/>
                  </a:moveTo>
                  <a:lnTo>
                    <a:pt x="195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92" y="0"/>
                  </a:lnTo>
                  <a:lnTo>
                    <a:pt x="92" y="258"/>
                  </a:lnTo>
                  <a:lnTo>
                    <a:pt x="224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073200" y="1236960"/>
              <a:ext cx="3600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55"/>
                  </a:moveTo>
                  <a:lnTo>
                    <a:pt x="30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49"/>
                  </a:lnTo>
                  <a:lnTo>
                    <a:pt x="45" y="47"/>
                  </a:lnTo>
                  <a:lnTo>
                    <a:pt x="47" y="44"/>
                  </a:lnTo>
                  <a:lnTo>
                    <a:pt x="49" y="42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2" y="17"/>
                  </a:lnTo>
                  <a:lnTo>
                    <a:pt x="50" y="15"/>
                  </a:lnTo>
                  <a:lnTo>
                    <a:pt x="49" y="13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2" y="51"/>
                  </a:lnTo>
                  <a:lnTo>
                    <a:pt x="14" y="52"/>
                  </a:lnTo>
                  <a:lnTo>
                    <a:pt x="17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6" y="5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0210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9" h="262"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1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6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50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7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2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5" y="124"/>
                  </a:lnTo>
                  <a:lnTo>
                    <a:pt x="19" y="116"/>
                  </a:lnTo>
                  <a:lnTo>
                    <a:pt x="26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5" y="92"/>
                  </a:lnTo>
                  <a:lnTo>
                    <a:pt x="63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7" y="86"/>
                  </a:lnTo>
                  <a:lnTo>
                    <a:pt x="99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1" y="89"/>
                  </a:lnTo>
                  <a:lnTo>
                    <a:pt x="113" y="89"/>
                  </a:lnTo>
                  <a:lnTo>
                    <a:pt x="116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6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7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6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1880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2" y="2"/>
                  </a:lnTo>
                  <a:lnTo>
                    <a:pt x="137" y="2"/>
                  </a:lnTo>
                  <a:lnTo>
                    <a:pt x="142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9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2" y="97"/>
                  </a:lnTo>
                  <a:lnTo>
                    <a:pt x="131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6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1052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6" y="0"/>
                  </a:moveTo>
                  <a:lnTo>
                    <a:pt x="42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6" y="67"/>
                  </a:lnTo>
                  <a:lnTo>
                    <a:pt x="8" y="71"/>
                  </a:lnTo>
                  <a:lnTo>
                    <a:pt x="11" y="74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2" y="91"/>
                  </a:lnTo>
                  <a:lnTo>
                    <a:pt x="46" y="91"/>
                  </a:lnTo>
                  <a:lnTo>
                    <a:pt x="52" y="91"/>
                  </a:lnTo>
                  <a:lnTo>
                    <a:pt x="56" y="91"/>
                  </a:lnTo>
                  <a:lnTo>
                    <a:pt x="60" y="90"/>
                  </a:lnTo>
                  <a:lnTo>
                    <a:pt x="64" y="88"/>
                  </a:lnTo>
                  <a:lnTo>
                    <a:pt x="68" y="86"/>
                  </a:lnTo>
                  <a:lnTo>
                    <a:pt x="73" y="84"/>
                  </a:lnTo>
                  <a:lnTo>
                    <a:pt x="76" y="82"/>
                  </a:lnTo>
                  <a:lnTo>
                    <a:pt x="79" y="78"/>
                  </a:lnTo>
                  <a:lnTo>
                    <a:pt x="82" y="74"/>
                  </a:lnTo>
                  <a:lnTo>
                    <a:pt x="85" y="71"/>
                  </a:lnTo>
                  <a:lnTo>
                    <a:pt x="87" y="67"/>
                  </a:lnTo>
                  <a:lnTo>
                    <a:pt x="89" y="64"/>
                  </a:lnTo>
                  <a:lnTo>
                    <a:pt x="91" y="59"/>
                  </a:lnTo>
                  <a:lnTo>
                    <a:pt x="92" y="55"/>
                  </a:lnTo>
                  <a:lnTo>
                    <a:pt x="93" y="50"/>
                  </a:lnTo>
                  <a:lnTo>
                    <a:pt x="93" y="46"/>
                  </a:lnTo>
                  <a:lnTo>
                    <a:pt x="93" y="41"/>
                  </a:lnTo>
                  <a:lnTo>
                    <a:pt x="92" y="36"/>
                  </a:lnTo>
                  <a:lnTo>
                    <a:pt x="91" y="32"/>
                  </a:lnTo>
                  <a:lnTo>
                    <a:pt x="89" y="28"/>
                  </a:lnTo>
                  <a:lnTo>
                    <a:pt x="87" y="24"/>
                  </a:lnTo>
                  <a:lnTo>
                    <a:pt x="85" y="20"/>
                  </a:lnTo>
                  <a:lnTo>
                    <a:pt x="82" y="16"/>
                  </a:lnTo>
                  <a:lnTo>
                    <a:pt x="79" y="13"/>
                  </a:lnTo>
                  <a:lnTo>
                    <a:pt x="76" y="10"/>
                  </a:lnTo>
                  <a:lnTo>
                    <a:pt x="73" y="7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351480" y="1079640"/>
              <a:ext cx="17640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86" y="334"/>
                  </a:moveTo>
                  <a:lnTo>
                    <a:pt x="182" y="337"/>
                  </a:lnTo>
                  <a:lnTo>
                    <a:pt x="178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9" y="352"/>
                  </a:lnTo>
                  <a:lnTo>
                    <a:pt x="154" y="354"/>
                  </a:lnTo>
                  <a:lnTo>
                    <a:pt x="150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2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5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4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5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30" y="97"/>
                  </a:lnTo>
                  <a:lnTo>
                    <a:pt x="135" y="97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4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5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8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639120" y="1079640"/>
              <a:ext cx="154080" cy="231840"/>
            </a:xfrm>
            <a:custGeom>
              <a:avLst/>
              <a:gdLst/>
              <a:ahLst/>
              <a:rect l="l" t="t" r="r" b="b"/>
              <a:pathLst>
                <a:path w="237" h="357">
                  <a:moveTo>
                    <a:pt x="164" y="90"/>
                  </a:moveTo>
                  <a:lnTo>
                    <a:pt x="164" y="357"/>
                  </a:lnTo>
                  <a:lnTo>
                    <a:pt x="72" y="357"/>
                  </a:lnTo>
                  <a:lnTo>
                    <a:pt x="72" y="90"/>
                  </a:lnTo>
                  <a:lnTo>
                    <a:pt x="0" y="90"/>
                  </a:lnTo>
                  <a:lnTo>
                    <a:pt x="9" y="0"/>
                  </a:lnTo>
                  <a:lnTo>
                    <a:pt x="227" y="0"/>
                  </a:lnTo>
                  <a:lnTo>
                    <a:pt x="237" y="90"/>
                  </a:lnTo>
                  <a:lnTo>
                    <a:pt x="164" y="9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832800" y="1188000"/>
              <a:ext cx="48960" cy="4212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1" y="66"/>
                  </a:moveTo>
                  <a:lnTo>
                    <a:pt x="78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5" y="6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80240" y="114192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233" y="235"/>
                  </a:moveTo>
                  <a:lnTo>
                    <a:pt x="228" y="239"/>
                  </a:lnTo>
                  <a:lnTo>
                    <a:pt x="221" y="242"/>
                  </a:lnTo>
                  <a:lnTo>
                    <a:pt x="216" y="245"/>
                  </a:lnTo>
                  <a:lnTo>
                    <a:pt x="210" y="248"/>
                  </a:lnTo>
                  <a:lnTo>
                    <a:pt x="203" y="250"/>
                  </a:lnTo>
                  <a:lnTo>
                    <a:pt x="197" y="253"/>
                  </a:lnTo>
                  <a:lnTo>
                    <a:pt x="191" y="255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0"/>
                  </a:lnTo>
                  <a:lnTo>
                    <a:pt x="166" y="262"/>
                  </a:lnTo>
                  <a:lnTo>
                    <a:pt x="158" y="262"/>
                  </a:lnTo>
                  <a:lnTo>
                    <a:pt x="152" y="263"/>
                  </a:lnTo>
                  <a:lnTo>
                    <a:pt x="145" y="264"/>
                  </a:lnTo>
                  <a:lnTo>
                    <a:pt x="138" y="264"/>
                  </a:lnTo>
                  <a:lnTo>
                    <a:pt x="131" y="264"/>
                  </a:lnTo>
                  <a:lnTo>
                    <a:pt x="116" y="264"/>
                  </a:lnTo>
                  <a:lnTo>
                    <a:pt x="103" y="262"/>
                  </a:lnTo>
                  <a:lnTo>
                    <a:pt x="90" y="259"/>
                  </a:lnTo>
                  <a:lnTo>
                    <a:pt x="78" y="256"/>
                  </a:lnTo>
                  <a:lnTo>
                    <a:pt x="66" y="250"/>
                  </a:lnTo>
                  <a:lnTo>
                    <a:pt x="56" y="244"/>
                  </a:lnTo>
                  <a:lnTo>
                    <a:pt x="45" y="237"/>
                  </a:lnTo>
                  <a:lnTo>
                    <a:pt x="36" y="228"/>
                  </a:lnTo>
                  <a:lnTo>
                    <a:pt x="27" y="219"/>
                  </a:lnTo>
                  <a:lnTo>
                    <a:pt x="20" y="208"/>
                  </a:lnTo>
                  <a:lnTo>
                    <a:pt x="14" y="198"/>
                  </a:lnTo>
                  <a:lnTo>
                    <a:pt x="8" y="186"/>
                  </a:lnTo>
                  <a:lnTo>
                    <a:pt x="5" y="175"/>
                  </a:lnTo>
                  <a:lnTo>
                    <a:pt x="2" y="162"/>
                  </a:lnTo>
                  <a:lnTo>
                    <a:pt x="0" y="149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8" y="38"/>
                  </a:lnTo>
                  <a:lnTo>
                    <a:pt x="47" y="29"/>
                  </a:lnTo>
                  <a:lnTo>
                    <a:pt x="58" y="22"/>
                  </a:lnTo>
                  <a:lnTo>
                    <a:pt x="69" y="14"/>
                  </a:lnTo>
                  <a:lnTo>
                    <a:pt x="81" y="9"/>
                  </a:lnTo>
                  <a:lnTo>
                    <a:pt x="92" y="5"/>
                  </a:lnTo>
                  <a:lnTo>
                    <a:pt x="105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5"/>
                  </a:lnTo>
                  <a:lnTo>
                    <a:pt x="179" y="8"/>
                  </a:lnTo>
                  <a:lnTo>
                    <a:pt x="188" y="12"/>
                  </a:lnTo>
                  <a:lnTo>
                    <a:pt x="195" y="17"/>
                  </a:lnTo>
                  <a:lnTo>
                    <a:pt x="203" y="23"/>
                  </a:lnTo>
                  <a:lnTo>
                    <a:pt x="211" y="29"/>
                  </a:lnTo>
                  <a:lnTo>
                    <a:pt x="218" y="35"/>
                  </a:lnTo>
                  <a:lnTo>
                    <a:pt x="224" y="43"/>
                  </a:lnTo>
                  <a:lnTo>
                    <a:pt x="230" y="50"/>
                  </a:lnTo>
                  <a:lnTo>
                    <a:pt x="235" y="58"/>
                  </a:lnTo>
                  <a:lnTo>
                    <a:pt x="240" y="68"/>
                  </a:lnTo>
                  <a:lnTo>
                    <a:pt x="244" y="77"/>
                  </a:lnTo>
                  <a:lnTo>
                    <a:pt x="249" y="88"/>
                  </a:lnTo>
                  <a:lnTo>
                    <a:pt x="111" y="184"/>
                  </a:lnTo>
                  <a:lnTo>
                    <a:pt x="112" y="184"/>
                  </a:lnTo>
                  <a:lnTo>
                    <a:pt x="114" y="185"/>
                  </a:lnTo>
                  <a:lnTo>
                    <a:pt x="115" y="185"/>
                  </a:lnTo>
                  <a:lnTo>
                    <a:pt x="117" y="186"/>
                  </a:lnTo>
                  <a:lnTo>
                    <a:pt x="120" y="186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89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2" y="184"/>
                  </a:lnTo>
                  <a:lnTo>
                    <a:pt x="177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4" y="174"/>
                  </a:lnTo>
                  <a:lnTo>
                    <a:pt x="199" y="171"/>
                  </a:lnTo>
                  <a:lnTo>
                    <a:pt x="205" y="168"/>
                  </a:lnTo>
                  <a:lnTo>
                    <a:pt x="211" y="164"/>
                  </a:lnTo>
                  <a:lnTo>
                    <a:pt x="216" y="160"/>
                  </a:lnTo>
                  <a:lnTo>
                    <a:pt x="221" y="156"/>
                  </a:lnTo>
                  <a:lnTo>
                    <a:pt x="227" y="151"/>
                  </a:lnTo>
                  <a:lnTo>
                    <a:pt x="233" y="2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960240" y="1141920"/>
              <a:ext cx="114120" cy="173160"/>
            </a:xfrm>
            <a:custGeom>
              <a:avLst/>
              <a:gdLst/>
              <a:ahLst/>
              <a:rect l="l" t="t" r="r" b="b"/>
              <a:pathLst>
                <a:path w="176" h="264">
                  <a:moveTo>
                    <a:pt x="176" y="258"/>
                  </a:moveTo>
                  <a:lnTo>
                    <a:pt x="173" y="259"/>
                  </a:lnTo>
                  <a:lnTo>
                    <a:pt x="170" y="259"/>
                  </a:lnTo>
                  <a:lnTo>
                    <a:pt x="167" y="260"/>
                  </a:lnTo>
                  <a:lnTo>
                    <a:pt x="163" y="261"/>
                  </a:lnTo>
                  <a:lnTo>
                    <a:pt x="161" y="261"/>
                  </a:lnTo>
                  <a:lnTo>
                    <a:pt x="158" y="262"/>
                  </a:lnTo>
                  <a:lnTo>
                    <a:pt x="155" y="262"/>
                  </a:lnTo>
                  <a:lnTo>
                    <a:pt x="152" y="262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3" y="263"/>
                  </a:lnTo>
                  <a:lnTo>
                    <a:pt x="140" y="263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9"/>
                  </a:lnTo>
                  <a:lnTo>
                    <a:pt x="76" y="255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6"/>
                  </a:lnTo>
                  <a:lnTo>
                    <a:pt x="35" y="226"/>
                  </a:lnTo>
                  <a:lnTo>
                    <a:pt x="27" y="217"/>
                  </a:lnTo>
                  <a:lnTo>
                    <a:pt x="20" y="206"/>
                  </a:lnTo>
                  <a:lnTo>
                    <a:pt x="14" y="195"/>
                  </a:lnTo>
                  <a:lnTo>
                    <a:pt x="9" y="183"/>
                  </a:lnTo>
                  <a:lnTo>
                    <a:pt x="5" y="171"/>
                  </a:lnTo>
                  <a:lnTo>
                    <a:pt x="2" y="157"/>
                  </a:lnTo>
                  <a:lnTo>
                    <a:pt x="1" y="143"/>
                  </a:lnTo>
                  <a:lnTo>
                    <a:pt x="0" y="129"/>
                  </a:lnTo>
                  <a:lnTo>
                    <a:pt x="1" y="115"/>
                  </a:lnTo>
                  <a:lnTo>
                    <a:pt x="3" y="101"/>
                  </a:lnTo>
                  <a:lnTo>
                    <a:pt x="5" y="89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21" y="55"/>
                  </a:lnTo>
                  <a:lnTo>
                    <a:pt x="29" y="45"/>
                  </a:lnTo>
                  <a:lnTo>
                    <a:pt x="37" y="35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9" y="14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7" y="2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3"/>
                  </a:lnTo>
                  <a:lnTo>
                    <a:pt x="163" y="3"/>
                  </a:lnTo>
                  <a:lnTo>
                    <a:pt x="165" y="4"/>
                  </a:lnTo>
                  <a:lnTo>
                    <a:pt x="169" y="4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76" y="90"/>
                  </a:lnTo>
                  <a:lnTo>
                    <a:pt x="173" y="89"/>
                  </a:lnTo>
                  <a:lnTo>
                    <a:pt x="170" y="89"/>
                  </a:lnTo>
                  <a:lnTo>
                    <a:pt x="168" y="88"/>
                  </a:lnTo>
                  <a:lnTo>
                    <a:pt x="164" y="88"/>
                  </a:lnTo>
                  <a:lnTo>
                    <a:pt x="162" y="87"/>
                  </a:lnTo>
                  <a:lnTo>
                    <a:pt x="159" y="87"/>
                  </a:lnTo>
                  <a:lnTo>
                    <a:pt x="157" y="86"/>
                  </a:lnTo>
                  <a:lnTo>
                    <a:pt x="155" y="86"/>
                  </a:lnTo>
                  <a:lnTo>
                    <a:pt x="153" y="85"/>
                  </a:lnTo>
                  <a:lnTo>
                    <a:pt x="151" y="85"/>
                  </a:lnTo>
                  <a:lnTo>
                    <a:pt x="149" y="85"/>
                  </a:lnTo>
                  <a:lnTo>
                    <a:pt x="147" y="85"/>
                  </a:lnTo>
                  <a:lnTo>
                    <a:pt x="146" y="85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40" y="84"/>
                  </a:lnTo>
                  <a:lnTo>
                    <a:pt x="134" y="85"/>
                  </a:lnTo>
                  <a:lnTo>
                    <a:pt x="128" y="85"/>
                  </a:lnTo>
                  <a:lnTo>
                    <a:pt x="122" y="86"/>
                  </a:lnTo>
                  <a:lnTo>
                    <a:pt x="117" y="87"/>
                  </a:lnTo>
                  <a:lnTo>
                    <a:pt x="113" y="89"/>
                  </a:lnTo>
                  <a:lnTo>
                    <a:pt x="108" y="91"/>
                  </a:lnTo>
                  <a:lnTo>
                    <a:pt x="105" y="93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9" y="116"/>
                  </a:lnTo>
                  <a:lnTo>
                    <a:pt x="88" y="120"/>
                  </a:lnTo>
                  <a:lnTo>
                    <a:pt x="87" y="126"/>
                  </a:lnTo>
                  <a:lnTo>
                    <a:pt x="87" y="131"/>
                  </a:lnTo>
                  <a:lnTo>
                    <a:pt x="87" y="136"/>
                  </a:lnTo>
                  <a:lnTo>
                    <a:pt x="88" y="141"/>
                  </a:lnTo>
                  <a:lnTo>
                    <a:pt x="89" y="145"/>
                  </a:lnTo>
                  <a:lnTo>
                    <a:pt x="90" y="151"/>
                  </a:lnTo>
                  <a:lnTo>
                    <a:pt x="92" y="155"/>
                  </a:lnTo>
                  <a:lnTo>
                    <a:pt x="95" y="158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9"/>
                  </a:lnTo>
                  <a:lnTo>
                    <a:pt x="109" y="172"/>
                  </a:lnTo>
                  <a:lnTo>
                    <a:pt x="114" y="174"/>
                  </a:lnTo>
                  <a:lnTo>
                    <a:pt x="118" y="176"/>
                  </a:lnTo>
                  <a:lnTo>
                    <a:pt x="124" y="177"/>
                  </a:lnTo>
                  <a:lnTo>
                    <a:pt x="129" y="178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8"/>
                  </a:lnTo>
                  <a:lnTo>
                    <a:pt x="150" y="178"/>
                  </a:lnTo>
                  <a:lnTo>
                    <a:pt x="152" y="178"/>
                  </a:lnTo>
                  <a:lnTo>
                    <a:pt x="154" y="178"/>
                  </a:lnTo>
                  <a:lnTo>
                    <a:pt x="156" y="178"/>
                  </a:lnTo>
                  <a:lnTo>
                    <a:pt x="158" y="178"/>
                  </a:lnTo>
                  <a:lnTo>
                    <a:pt x="160" y="177"/>
                  </a:lnTo>
                  <a:lnTo>
                    <a:pt x="162" y="177"/>
                  </a:lnTo>
                  <a:lnTo>
                    <a:pt x="164" y="177"/>
                  </a:lnTo>
                  <a:lnTo>
                    <a:pt x="168" y="176"/>
                  </a:lnTo>
                  <a:lnTo>
                    <a:pt x="170" y="176"/>
                  </a:lnTo>
                  <a:lnTo>
                    <a:pt x="173" y="175"/>
                  </a:lnTo>
                  <a:lnTo>
                    <a:pt x="176" y="175"/>
                  </a:lnTo>
                  <a:lnTo>
                    <a:pt x="17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100640" y="1079640"/>
              <a:ext cx="143640" cy="231840"/>
            </a:xfrm>
            <a:custGeom>
              <a:avLst/>
              <a:gdLst/>
              <a:ahLst/>
              <a:rect l="l" t="t" r="r" b="b"/>
              <a:pathLst>
                <a:path w="220" h="357">
                  <a:moveTo>
                    <a:pt x="0" y="357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3" y="114"/>
                  </a:lnTo>
                  <a:lnTo>
                    <a:pt x="96" y="111"/>
                  </a:lnTo>
                  <a:lnTo>
                    <a:pt x="100" y="109"/>
                  </a:lnTo>
                  <a:lnTo>
                    <a:pt x="104" y="107"/>
                  </a:lnTo>
                  <a:lnTo>
                    <a:pt x="107" y="105"/>
                  </a:lnTo>
                  <a:lnTo>
                    <a:pt x="111" y="103"/>
                  </a:lnTo>
                  <a:lnTo>
                    <a:pt x="115" y="101"/>
                  </a:lnTo>
                  <a:lnTo>
                    <a:pt x="120" y="100"/>
                  </a:lnTo>
                  <a:lnTo>
                    <a:pt x="124" y="99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5"/>
                  </a:lnTo>
                  <a:lnTo>
                    <a:pt x="155" y="97"/>
                  </a:lnTo>
                  <a:lnTo>
                    <a:pt x="164" y="98"/>
                  </a:lnTo>
                  <a:lnTo>
                    <a:pt x="172" y="99"/>
                  </a:lnTo>
                  <a:lnTo>
                    <a:pt x="178" y="102"/>
                  </a:lnTo>
                  <a:lnTo>
                    <a:pt x="186" y="105"/>
                  </a:lnTo>
                  <a:lnTo>
                    <a:pt x="191" y="108"/>
                  </a:lnTo>
                  <a:lnTo>
                    <a:pt x="197" y="113"/>
                  </a:lnTo>
                  <a:lnTo>
                    <a:pt x="201" y="118"/>
                  </a:lnTo>
                  <a:lnTo>
                    <a:pt x="207" y="124"/>
                  </a:lnTo>
                  <a:lnTo>
                    <a:pt x="210" y="130"/>
                  </a:lnTo>
                  <a:lnTo>
                    <a:pt x="213" y="137"/>
                  </a:lnTo>
                  <a:lnTo>
                    <a:pt x="216" y="146"/>
                  </a:lnTo>
                  <a:lnTo>
                    <a:pt x="218" y="154"/>
                  </a:lnTo>
                  <a:lnTo>
                    <a:pt x="219" y="163"/>
                  </a:lnTo>
                  <a:lnTo>
                    <a:pt x="220" y="173"/>
                  </a:lnTo>
                  <a:lnTo>
                    <a:pt x="220" y="184"/>
                  </a:lnTo>
                  <a:lnTo>
                    <a:pt x="220" y="357"/>
                  </a:lnTo>
                  <a:lnTo>
                    <a:pt x="136" y="357"/>
                  </a:lnTo>
                  <a:lnTo>
                    <a:pt x="136" y="220"/>
                  </a:lnTo>
                  <a:lnTo>
                    <a:pt x="136" y="215"/>
                  </a:lnTo>
                  <a:lnTo>
                    <a:pt x="135" y="210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8"/>
                  </a:lnTo>
                  <a:lnTo>
                    <a:pt x="133" y="195"/>
                  </a:lnTo>
                  <a:lnTo>
                    <a:pt x="132" y="192"/>
                  </a:lnTo>
                  <a:lnTo>
                    <a:pt x="131" y="190"/>
                  </a:lnTo>
                  <a:lnTo>
                    <a:pt x="129" y="188"/>
                  </a:lnTo>
                  <a:lnTo>
                    <a:pt x="127" y="186"/>
                  </a:lnTo>
                  <a:lnTo>
                    <a:pt x="126" y="185"/>
                  </a:lnTo>
                  <a:lnTo>
                    <a:pt x="124" y="184"/>
                  </a:lnTo>
                  <a:lnTo>
                    <a:pt x="121" y="183"/>
                  </a:lnTo>
                  <a:lnTo>
                    <a:pt x="119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2"/>
                  </a:lnTo>
                  <a:lnTo>
                    <a:pt x="103" y="183"/>
                  </a:lnTo>
                  <a:lnTo>
                    <a:pt x="100" y="184"/>
                  </a:lnTo>
                  <a:lnTo>
                    <a:pt x="98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1" y="191"/>
                  </a:lnTo>
                  <a:lnTo>
                    <a:pt x="90" y="194"/>
                  </a:lnTo>
                  <a:lnTo>
                    <a:pt x="88" y="197"/>
                  </a:lnTo>
                  <a:lnTo>
                    <a:pt x="87" y="200"/>
                  </a:lnTo>
                  <a:lnTo>
                    <a:pt x="86" y="204"/>
                  </a:lnTo>
                  <a:lnTo>
                    <a:pt x="85" y="208"/>
                  </a:lnTo>
                  <a:lnTo>
                    <a:pt x="85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4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4160" y="1141920"/>
              <a:ext cx="146880" cy="169560"/>
            </a:xfrm>
            <a:custGeom>
              <a:avLst/>
              <a:gdLst/>
              <a:ahLst/>
              <a:rect l="l" t="t" r="r" b="b"/>
              <a:pathLst>
                <a:path w="222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90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100" y="14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3"/>
                  </a:lnTo>
                  <a:lnTo>
                    <a:pt x="198" y="18"/>
                  </a:lnTo>
                  <a:lnTo>
                    <a:pt x="203" y="23"/>
                  </a:lnTo>
                  <a:lnTo>
                    <a:pt x="207" y="29"/>
                  </a:lnTo>
                  <a:lnTo>
                    <a:pt x="211" y="35"/>
                  </a:lnTo>
                  <a:lnTo>
                    <a:pt x="215" y="42"/>
                  </a:lnTo>
                  <a:lnTo>
                    <a:pt x="217" y="51"/>
                  </a:lnTo>
                  <a:lnTo>
                    <a:pt x="219" y="59"/>
                  </a:lnTo>
                  <a:lnTo>
                    <a:pt x="221" y="68"/>
                  </a:lnTo>
                  <a:lnTo>
                    <a:pt x="221" y="78"/>
                  </a:lnTo>
                  <a:lnTo>
                    <a:pt x="222" y="89"/>
                  </a:lnTo>
                  <a:lnTo>
                    <a:pt x="222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7" y="115"/>
                  </a:lnTo>
                  <a:lnTo>
                    <a:pt x="136" y="111"/>
                  </a:lnTo>
                  <a:lnTo>
                    <a:pt x="136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3" y="97"/>
                  </a:lnTo>
                  <a:lnTo>
                    <a:pt x="132" y="95"/>
                  </a:lnTo>
                  <a:lnTo>
                    <a:pt x="131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9"/>
                  </a:lnTo>
                  <a:lnTo>
                    <a:pt x="121" y="88"/>
                  </a:lnTo>
                  <a:lnTo>
                    <a:pt x="119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10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1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3" y="96"/>
                  </a:lnTo>
                  <a:lnTo>
                    <a:pt x="91" y="99"/>
                  </a:lnTo>
                  <a:lnTo>
                    <a:pt x="90" y="102"/>
                  </a:lnTo>
                  <a:lnTo>
                    <a:pt x="88" y="105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5" y="117"/>
                  </a:lnTo>
                  <a:lnTo>
                    <a:pt x="85" y="121"/>
                  </a:lnTo>
                  <a:lnTo>
                    <a:pt x="85" y="125"/>
                  </a:lnTo>
                  <a:lnTo>
                    <a:pt x="85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9664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5" y="0"/>
                  </a:moveTo>
                  <a:lnTo>
                    <a:pt x="40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28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5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6" y="89"/>
                  </a:lnTo>
                  <a:lnTo>
                    <a:pt x="69" y="87"/>
                  </a:lnTo>
                  <a:lnTo>
                    <a:pt x="73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7" y="61"/>
                  </a:lnTo>
                  <a:lnTo>
                    <a:pt x="88" y="57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89" y="43"/>
                  </a:lnTo>
                  <a:lnTo>
                    <a:pt x="88" y="38"/>
                  </a:lnTo>
                  <a:lnTo>
                    <a:pt x="87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3" y="11"/>
                  </a:lnTo>
                  <a:lnTo>
                    <a:pt x="69" y="8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4120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3" h="266">
                  <a:moveTo>
                    <a:pt x="132" y="0"/>
                  </a:moveTo>
                  <a:lnTo>
                    <a:pt x="145" y="0"/>
                  </a:lnTo>
                  <a:lnTo>
                    <a:pt x="158" y="3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4" y="39"/>
                  </a:lnTo>
                  <a:lnTo>
                    <a:pt x="233" y="50"/>
                  </a:lnTo>
                  <a:lnTo>
                    <a:pt x="241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1" y="107"/>
                  </a:lnTo>
                  <a:lnTo>
                    <a:pt x="262" y="120"/>
                  </a:lnTo>
                  <a:lnTo>
                    <a:pt x="263" y="134"/>
                  </a:lnTo>
                  <a:lnTo>
                    <a:pt x="262" y="147"/>
                  </a:lnTo>
                  <a:lnTo>
                    <a:pt x="261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5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9" y="244"/>
                  </a:lnTo>
                  <a:lnTo>
                    <a:pt x="49" y="237"/>
                  </a:lnTo>
                  <a:lnTo>
                    <a:pt x="39" y="227"/>
                  </a:lnTo>
                  <a:lnTo>
                    <a:pt x="30" y="218"/>
                  </a:lnTo>
                  <a:lnTo>
                    <a:pt x="22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4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637040" y="1079640"/>
              <a:ext cx="52560" cy="231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77132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40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1" y="77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4" y="94"/>
                  </a:lnTo>
                  <a:lnTo>
                    <a:pt x="58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7126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0"/>
                  </a:moveTo>
                  <a:lnTo>
                    <a:pt x="145" y="0"/>
                  </a:lnTo>
                  <a:lnTo>
                    <a:pt x="157" y="3"/>
                  </a:lnTo>
                  <a:lnTo>
                    <a:pt x="170" y="6"/>
                  </a:lnTo>
                  <a:lnTo>
                    <a:pt x="181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5" y="39"/>
                  </a:lnTo>
                  <a:lnTo>
                    <a:pt x="233" y="50"/>
                  </a:lnTo>
                  <a:lnTo>
                    <a:pt x="240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0" y="107"/>
                  </a:lnTo>
                  <a:lnTo>
                    <a:pt x="261" y="120"/>
                  </a:lnTo>
                  <a:lnTo>
                    <a:pt x="262" y="134"/>
                  </a:lnTo>
                  <a:lnTo>
                    <a:pt x="261" y="147"/>
                  </a:lnTo>
                  <a:lnTo>
                    <a:pt x="260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5" y="244"/>
                  </a:lnTo>
                  <a:lnTo>
                    <a:pt x="193" y="251"/>
                  </a:lnTo>
                  <a:lnTo>
                    <a:pt x="183" y="257"/>
                  </a:lnTo>
                  <a:lnTo>
                    <a:pt x="170" y="261"/>
                  </a:lnTo>
                  <a:lnTo>
                    <a:pt x="157" y="264"/>
                  </a:lnTo>
                  <a:lnTo>
                    <a:pt x="145" y="266"/>
                  </a:lnTo>
                  <a:lnTo>
                    <a:pt x="131" y="266"/>
                  </a:lnTo>
                  <a:lnTo>
                    <a:pt x="119" y="266"/>
                  </a:lnTo>
                  <a:lnTo>
                    <a:pt x="105" y="264"/>
                  </a:lnTo>
                  <a:lnTo>
                    <a:pt x="92" y="261"/>
                  </a:lnTo>
                  <a:lnTo>
                    <a:pt x="81" y="257"/>
                  </a:lnTo>
                  <a:lnTo>
                    <a:pt x="69" y="251"/>
                  </a:lnTo>
                  <a:lnTo>
                    <a:pt x="59" y="244"/>
                  </a:lnTo>
                  <a:lnTo>
                    <a:pt x="48" y="237"/>
                  </a:lnTo>
                  <a:lnTo>
                    <a:pt x="39" y="227"/>
                  </a:lnTo>
                  <a:lnTo>
                    <a:pt x="29" y="218"/>
                  </a:lnTo>
                  <a:lnTo>
                    <a:pt x="22" y="207"/>
                  </a:lnTo>
                  <a:lnTo>
                    <a:pt x="16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29" y="49"/>
                  </a:lnTo>
                  <a:lnTo>
                    <a:pt x="39" y="39"/>
                  </a:lnTo>
                  <a:lnTo>
                    <a:pt x="48" y="30"/>
                  </a:lnTo>
                  <a:lnTo>
                    <a:pt x="59" y="23"/>
                  </a:lnTo>
                  <a:lnTo>
                    <a:pt x="69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9" y="0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954560" y="1197720"/>
              <a:ext cx="42120" cy="421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32" y="65"/>
                  </a:moveTo>
                  <a:lnTo>
                    <a:pt x="35" y="65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3" y="62"/>
                  </a:lnTo>
                  <a:lnTo>
                    <a:pt x="47" y="60"/>
                  </a:lnTo>
                  <a:lnTo>
                    <a:pt x="50" y="59"/>
                  </a:lnTo>
                  <a:lnTo>
                    <a:pt x="52" y="57"/>
                  </a:lnTo>
                  <a:lnTo>
                    <a:pt x="54" y="55"/>
                  </a:lnTo>
                  <a:lnTo>
                    <a:pt x="56" y="52"/>
                  </a:lnTo>
                  <a:lnTo>
                    <a:pt x="58" y="50"/>
                  </a:lnTo>
                  <a:lnTo>
                    <a:pt x="60" y="48"/>
                  </a:lnTo>
                  <a:lnTo>
                    <a:pt x="61" y="45"/>
                  </a:lnTo>
                  <a:lnTo>
                    <a:pt x="62" y="41"/>
                  </a:lnTo>
                  <a:lnTo>
                    <a:pt x="63" y="38"/>
                  </a:lnTo>
                  <a:lnTo>
                    <a:pt x="63" y="35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20"/>
                  </a:lnTo>
                  <a:lnTo>
                    <a:pt x="60" y="18"/>
                  </a:lnTo>
                  <a:lnTo>
                    <a:pt x="58" y="15"/>
                  </a:lnTo>
                  <a:lnTo>
                    <a:pt x="56" y="13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7" y="5"/>
                  </a:lnTo>
                  <a:lnTo>
                    <a:pt x="43" y="4"/>
                  </a:lnTo>
                  <a:lnTo>
                    <a:pt x="41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4" y="59"/>
                  </a:lnTo>
                  <a:lnTo>
                    <a:pt x="17" y="60"/>
                  </a:lnTo>
                  <a:lnTo>
                    <a:pt x="19" y="62"/>
                  </a:lnTo>
                  <a:lnTo>
                    <a:pt x="22" y="63"/>
                  </a:lnTo>
                  <a:lnTo>
                    <a:pt x="26" y="63"/>
                  </a:lnTo>
                  <a:lnTo>
                    <a:pt x="29" y="65"/>
                  </a:lnTo>
                  <a:lnTo>
                    <a:pt x="32" y="6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898760" y="1141920"/>
              <a:ext cx="153360" cy="228960"/>
            </a:xfrm>
            <a:custGeom>
              <a:avLst/>
              <a:gdLst/>
              <a:ahLst/>
              <a:rect l="l" t="t" r="r" b="b"/>
              <a:pathLst>
                <a:path w="238" h="350">
                  <a:moveTo>
                    <a:pt x="147" y="224"/>
                  </a:moveTo>
                  <a:lnTo>
                    <a:pt x="145" y="224"/>
                  </a:lnTo>
                  <a:lnTo>
                    <a:pt x="143" y="224"/>
                  </a:lnTo>
                  <a:lnTo>
                    <a:pt x="141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5" y="225"/>
                  </a:lnTo>
                  <a:lnTo>
                    <a:pt x="132" y="226"/>
                  </a:lnTo>
                  <a:lnTo>
                    <a:pt x="130" y="226"/>
                  </a:lnTo>
                  <a:lnTo>
                    <a:pt x="128" y="226"/>
                  </a:lnTo>
                  <a:lnTo>
                    <a:pt x="127" y="226"/>
                  </a:lnTo>
                  <a:lnTo>
                    <a:pt x="125" y="226"/>
                  </a:lnTo>
                  <a:lnTo>
                    <a:pt x="123" y="226"/>
                  </a:lnTo>
                  <a:lnTo>
                    <a:pt x="121" y="226"/>
                  </a:lnTo>
                  <a:lnTo>
                    <a:pt x="120" y="227"/>
                  </a:lnTo>
                  <a:lnTo>
                    <a:pt x="118" y="227"/>
                  </a:lnTo>
                  <a:lnTo>
                    <a:pt x="116" y="227"/>
                  </a:lnTo>
                  <a:lnTo>
                    <a:pt x="104" y="226"/>
                  </a:lnTo>
                  <a:lnTo>
                    <a:pt x="93" y="225"/>
                  </a:lnTo>
                  <a:lnTo>
                    <a:pt x="82" y="222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5" y="202"/>
                  </a:lnTo>
                  <a:lnTo>
                    <a:pt x="38" y="195"/>
                  </a:lnTo>
                  <a:lnTo>
                    <a:pt x="31" y="186"/>
                  </a:lnTo>
                  <a:lnTo>
                    <a:pt x="24" y="178"/>
                  </a:lnTo>
                  <a:lnTo>
                    <a:pt x="19" y="169"/>
                  </a:lnTo>
                  <a:lnTo>
                    <a:pt x="15" y="159"/>
                  </a:lnTo>
                  <a:lnTo>
                    <a:pt x="11" y="149"/>
                  </a:lnTo>
                  <a:lnTo>
                    <a:pt x="9" y="137"/>
                  </a:lnTo>
                  <a:lnTo>
                    <a:pt x="8" y="126"/>
                  </a:lnTo>
                  <a:lnTo>
                    <a:pt x="7" y="114"/>
                  </a:lnTo>
                  <a:lnTo>
                    <a:pt x="8" y="101"/>
                  </a:lnTo>
                  <a:lnTo>
                    <a:pt x="9" y="90"/>
                  </a:lnTo>
                  <a:lnTo>
                    <a:pt x="12" y="79"/>
                  </a:lnTo>
                  <a:lnTo>
                    <a:pt x="15" y="69"/>
                  </a:lnTo>
                  <a:lnTo>
                    <a:pt x="19" y="58"/>
                  </a:lnTo>
                  <a:lnTo>
                    <a:pt x="24" y="49"/>
                  </a:lnTo>
                  <a:lnTo>
                    <a:pt x="32" y="40"/>
                  </a:lnTo>
                  <a:lnTo>
                    <a:pt x="39" y="32"/>
                  </a:lnTo>
                  <a:lnTo>
                    <a:pt x="47" y="24"/>
                  </a:lnTo>
                  <a:lnTo>
                    <a:pt x="56" y="17"/>
                  </a:lnTo>
                  <a:lnTo>
                    <a:pt x="65" y="12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50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238" y="4"/>
                  </a:lnTo>
                  <a:lnTo>
                    <a:pt x="213" y="43"/>
                  </a:lnTo>
                  <a:lnTo>
                    <a:pt x="215" y="47"/>
                  </a:lnTo>
                  <a:lnTo>
                    <a:pt x="218" y="51"/>
                  </a:lnTo>
                  <a:lnTo>
                    <a:pt x="221" y="56"/>
                  </a:lnTo>
                  <a:lnTo>
                    <a:pt x="224" y="60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4"/>
                  </a:lnTo>
                  <a:lnTo>
                    <a:pt x="231" y="79"/>
                  </a:lnTo>
                  <a:lnTo>
                    <a:pt x="232" y="85"/>
                  </a:lnTo>
                  <a:lnTo>
                    <a:pt x="234" y="89"/>
                  </a:lnTo>
                  <a:lnTo>
                    <a:pt x="235" y="94"/>
                  </a:lnTo>
                  <a:lnTo>
                    <a:pt x="235" y="98"/>
                  </a:lnTo>
                  <a:lnTo>
                    <a:pt x="236" y="103"/>
                  </a:lnTo>
                  <a:lnTo>
                    <a:pt x="237" y="108"/>
                  </a:lnTo>
                  <a:lnTo>
                    <a:pt x="237" y="113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7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5" y="139"/>
                  </a:lnTo>
                  <a:lnTo>
                    <a:pt x="234" y="143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0"/>
                  </a:lnTo>
                  <a:lnTo>
                    <a:pt x="225" y="163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79"/>
                  </a:lnTo>
                  <a:lnTo>
                    <a:pt x="212" y="183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20" y="195"/>
                  </a:lnTo>
                  <a:lnTo>
                    <a:pt x="222" y="199"/>
                  </a:lnTo>
                  <a:lnTo>
                    <a:pt x="223" y="202"/>
                  </a:lnTo>
                  <a:lnTo>
                    <a:pt x="225" y="206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1"/>
                  </a:lnTo>
                  <a:lnTo>
                    <a:pt x="231" y="225"/>
                  </a:lnTo>
                  <a:lnTo>
                    <a:pt x="231" y="228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39"/>
                  </a:lnTo>
                  <a:lnTo>
                    <a:pt x="233" y="243"/>
                  </a:lnTo>
                  <a:lnTo>
                    <a:pt x="232" y="255"/>
                  </a:lnTo>
                  <a:lnTo>
                    <a:pt x="231" y="265"/>
                  </a:lnTo>
                  <a:lnTo>
                    <a:pt x="228" y="276"/>
                  </a:lnTo>
                  <a:lnTo>
                    <a:pt x="225" y="285"/>
                  </a:lnTo>
                  <a:lnTo>
                    <a:pt x="221" y="295"/>
                  </a:lnTo>
                  <a:lnTo>
                    <a:pt x="214" y="304"/>
                  </a:lnTo>
                  <a:lnTo>
                    <a:pt x="208" y="312"/>
                  </a:lnTo>
                  <a:lnTo>
                    <a:pt x="201" y="320"/>
                  </a:lnTo>
                  <a:lnTo>
                    <a:pt x="192" y="327"/>
                  </a:lnTo>
                  <a:lnTo>
                    <a:pt x="183" y="333"/>
                  </a:lnTo>
                  <a:lnTo>
                    <a:pt x="173" y="339"/>
                  </a:lnTo>
                  <a:lnTo>
                    <a:pt x="164" y="343"/>
                  </a:lnTo>
                  <a:lnTo>
                    <a:pt x="152" y="346"/>
                  </a:lnTo>
                  <a:lnTo>
                    <a:pt x="142" y="348"/>
                  </a:lnTo>
                  <a:lnTo>
                    <a:pt x="129" y="349"/>
                  </a:lnTo>
                  <a:lnTo>
                    <a:pt x="118" y="350"/>
                  </a:lnTo>
                  <a:lnTo>
                    <a:pt x="108" y="350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3" y="347"/>
                  </a:lnTo>
                  <a:lnTo>
                    <a:pt x="75" y="345"/>
                  </a:lnTo>
                  <a:lnTo>
                    <a:pt x="67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4" y="334"/>
                  </a:lnTo>
                  <a:lnTo>
                    <a:pt x="37" y="330"/>
                  </a:lnTo>
                  <a:lnTo>
                    <a:pt x="30" y="326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2" y="312"/>
                  </a:lnTo>
                  <a:lnTo>
                    <a:pt x="5" y="307"/>
                  </a:lnTo>
                  <a:lnTo>
                    <a:pt x="0" y="301"/>
                  </a:lnTo>
                  <a:lnTo>
                    <a:pt x="44" y="239"/>
                  </a:lnTo>
                  <a:lnTo>
                    <a:pt x="48" y="243"/>
                  </a:lnTo>
                  <a:lnTo>
                    <a:pt x="53" y="247"/>
                  </a:lnTo>
                  <a:lnTo>
                    <a:pt x="57" y="250"/>
                  </a:lnTo>
                  <a:lnTo>
                    <a:pt x="61" y="254"/>
                  </a:lnTo>
                  <a:lnTo>
                    <a:pt x="65" y="256"/>
                  </a:lnTo>
                  <a:lnTo>
                    <a:pt x="69" y="259"/>
                  </a:lnTo>
                  <a:lnTo>
                    <a:pt x="74" y="261"/>
                  </a:lnTo>
                  <a:lnTo>
                    <a:pt x="78" y="263"/>
                  </a:lnTo>
                  <a:lnTo>
                    <a:pt x="82" y="265"/>
                  </a:lnTo>
                  <a:lnTo>
                    <a:pt x="86" y="267"/>
                  </a:lnTo>
                  <a:lnTo>
                    <a:pt x="90" y="268"/>
                  </a:lnTo>
                  <a:lnTo>
                    <a:pt x="96" y="269"/>
                  </a:lnTo>
                  <a:lnTo>
                    <a:pt x="100" y="270"/>
                  </a:lnTo>
                  <a:lnTo>
                    <a:pt x="104" y="270"/>
                  </a:lnTo>
                  <a:lnTo>
                    <a:pt x="108" y="271"/>
                  </a:lnTo>
                  <a:lnTo>
                    <a:pt x="113" y="271"/>
                  </a:lnTo>
                  <a:lnTo>
                    <a:pt x="117" y="271"/>
                  </a:lnTo>
                  <a:lnTo>
                    <a:pt x="120" y="270"/>
                  </a:lnTo>
                  <a:lnTo>
                    <a:pt x="124" y="270"/>
                  </a:lnTo>
                  <a:lnTo>
                    <a:pt x="127" y="269"/>
                  </a:lnTo>
                  <a:lnTo>
                    <a:pt x="130" y="268"/>
                  </a:lnTo>
                  <a:lnTo>
                    <a:pt x="133" y="266"/>
                  </a:lnTo>
                  <a:lnTo>
                    <a:pt x="137" y="265"/>
                  </a:lnTo>
                  <a:lnTo>
                    <a:pt x="139" y="263"/>
                  </a:lnTo>
                  <a:lnTo>
                    <a:pt x="142" y="261"/>
                  </a:lnTo>
                  <a:lnTo>
                    <a:pt x="144" y="258"/>
                  </a:lnTo>
                  <a:lnTo>
                    <a:pt x="145" y="256"/>
                  </a:lnTo>
                  <a:lnTo>
                    <a:pt x="147" y="253"/>
                  </a:lnTo>
                  <a:lnTo>
                    <a:pt x="148" y="250"/>
                  </a:lnTo>
                  <a:lnTo>
                    <a:pt x="148" y="247"/>
                  </a:lnTo>
                  <a:lnTo>
                    <a:pt x="149" y="244"/>
                  </a:lnTo>
                  <a:lnTo>
                    <a:pt x="149" y="240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9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lnTo>
                    <a:pt x="147" y="22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062920" y="1145520"/>
              <a:ext cx="16596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7" y="341"/>
                  </a:moveTo>
                  <a:lnTo>
                    <a:pt x="91" y="246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32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7" y="3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9" name=""/>
          <p:cNvSpPr/>
          <p:nvPr/>
        </p:nvSpPr>
        <p:spPr>
          <a:xfrm>
            <a:off x="990720" y="1623960"/>
            <a:ext cx="7162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1a17"/>
                </a:solidFill>
                <a:latin typeface="Swis721 Md BT"/>
              </a:rPr>
              <a:t>Holes in latex rubber condoms = voids (holes under microscope) 2/10,000" in size or 5 microns.  This equals 10 times smaller than male sperm. Therefore, the condom can, in ideal circumstances, block the sperm and thus avoid pregnancy except between 10-25% of the time for various reasons. AIDS virus is 4/millionths" in size or a factor of 50 times smaller than the voids inherent in rubber. Therefore, the virus can readily pass through the condom and does so in about 1 out of 4 or 5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722600" y="5402160"/>
            <a:ext cx="5695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Between 1995 &amp; 1996 cond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sales to developing countries increased by 71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3494160" y="3048120"/>
            <a:ext cx="2076120" cy="2195280"/>
            <a:chOff x="3494160" y="3048120"/>
            <a:chExt cx="2076120" cy="2195280"/>
          </a:xfrm>
        </p:grpSpPr>
        <p:sp>
          <p:nvSpPr>
            <p:cNvPr id="1902" name=""/>
            <p:cNvSpPr/>
            <p:nvPr/>
          </p:nvSpPr>
          <p:spPr>
            <a:xfrm>
              <a:off x="3494160" y="3516480"/>
              <a:ext cx="2026080" cy="13683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3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494160" y="3516480"/>
              <a:ext cx="2026080" cy="13683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3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3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542400" y="3466440"/>
              <a:ext cx="2027880" cy="13701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2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2" y="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542400" y="3466440"/>
              <a:ext cx="2027880" cy="13701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2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181040" y="3048120"/>
              <a:ext cx="671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996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181040" y="4892760"/>
              <a:ext cx="671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995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259160" y="3891960"/>
              <a:ext cx="162360" cy="243360"/>
            </a:xfrm>
            <a:custGeom>
              <a:avLst/>
              <a:gdLst/>
              <a:ahLst/>
              <a:rect l="l" t="t" r="r" b="b"/>
              <a:pathLst>
                <a:path w="419" h="629">
                  <a:moveTo>
                    <a:pt x="0" y="629"/>
                  </a:moveTo>
                  <a:lnTo>
                    <a:pt x="211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419" y="0"/>
                  </a:lnTo>
                  <a:lnTo>
                    <a:pt x="419" y="84"/>
                  </a:lnTo>
                  <a:lnTo>
                    <a:pt x="177" y="629"/>
                  </a:lnTo>
                  <a:lnTo>
                    <a:pt x="0" y="6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480200" y="3891960"/>
              <a:ext cx="102240" cy="243360"/>
            </a:xfrm>
            <a:custGeom>
              <a:avLst/>
              <a:gdLst/>
              <a:ahLst/>
              <a:rect l="l" t="t" r="r" b="b"/>
              <a:pathLst>
                <a:path w="264" h="629">
                  <a:moveTo>
                    <a:pt x="109" y="629"/>
                  </a:moveTo>
                  <a:lnTo>
                    <a:pt x="109" y="203"/>
                  </a:lnTo>
                  <a:lnTo>
                    <a:pt x="103" y="206"/>
                  </a:lnTo>
                  <a:lnTo>
                    <a:pt x="95" y="209"/>
                  </a:lnTo>
                  <a:lnTo>
                    <a:pt x="89" y="212"/>
                  </a:lnTo>
                  <a:lnTo>
                    <a:pt x="82" y="215"/>
                  </a:lnTo>
                  <a:lnTo>
                    <a:pt x="75" y="217"/>
                  </a:lnTo>
                  <a:lnTo>
                    <a:pt x="68" y="220"/>
                  </a:lnTo>
                  <a:lnTo>
                    <a:pt x="62" y="222"/>
                  </a:lnTo>
                  <a:lnTo>
                    <a:pt x="54" y="224"/>
                  </a:lnTo>
                  <a:lnTo>
                    <a:pt x="48" y="225"/>
                  </a:lnTo>
                  <a:lnTo>
                    <a:pt x="41" y="227"/>
                  </a:lnTo>
                  <a:lnTo>
                    <a:pt x="34" y="228"/>
                  </a:lnTo>
                  <a:lnTo>
                    <a:pt x="27" y="229"/>
                  </a:lnTo>
                  <a:lnTo>
                    <a:pt x="21" y="230"/>
                  </a:lnTo>
                  <a:lnTo>
                    <a:pt x="13" y="230"/>
                  </a:lnTo>
                  <a:lnTo>
                    <a:pt x="6" y="231"/>
                  </a:lnTo>
                  <a:lnTo>
                    <a:pt x="0" y="231"/>
                  </a:lnTo>
                  <a:lnTo>
                    <a:pt x="0" y="68"/>
                  </a:lnTo>
                  <a:lnTo>
                    <a:pt x="8" y="66"/>
                  </a:lnTo>
                  <a:lnTo>
                    <a:pt x="18" y="63"/>
                  </a:lnTo>
                  <a:lnTo>
                    <a:pt x="26" y="60"/>
                  </a:lnTo>
                  <a:lnTo>
                    <a:pt x="33" y="57"/>
                  </a:lnTo>
                  <a:lnTo>
                    <a:pt x="42" y="54"/>
                  </a:lnTo>
                  <a:lnTo>
                    <a:pt x="49" y="49"/>
                  </a:lnTo>
                  <a:lnTo>
                    <a:pt x="56" y="46"/>
                  </a:lnTo>
                  <a:lnTo>
                    <a:pt x="64" y="41"/>
                  </a:lnTo>
                  <a:lnTo>
                    <a:pt x="71" y="37"/>
                  </a:lnTo>
                  <a:lnTo>
                    <a:pt x="77" y="32"/>
                  </a:lnTo>
                  <a:lnTo>
                    <a:pt x="84" y="27"/>
                  </a:lnTo>
                  <a:lnTo>
                    <a:pt x="90" y="22"/>
                  </a:lnTo>
                  <a:lnTo>
                    <a:pt x="95" y="17"/>
                  </a:lnTo>
                  <a:lnTo>
                    <a:pt x="100" y="12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264" y="0"/>
                  </a:lnTo>
                  <a:lnTo>
                    <a:pt x="264" y="629"/>
                  </a:lnTo>
                  <a:lnTo>
                    <a:pt x="109" y="6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650480" y="3888000"/>
              <a:ext cx="302040" cy="251280"/>
            </a:xfrm>
            <a:custGeom>
              <a:avLst/>
              <a:gdLst/>
              <a:ahLst/>
              <a:rect l="l" t="t" r="r" b="b"/>
              <a:pathLst>
                <a:path w="782" h="650">
                  <a:moveTo>
                    <a:pt x="609" y="550"/>
                  </a:moveTo>
                  <a:lnTo>
                    <a:pt x="616" y="550"/>
                  </a:lnTo>
                  <a:lnTo>
                    <a:pt x="624" y="549"/>
                  </a:lnTo>
                  <a:lnTo>
                    <a:pt x="630" y="547"/>
                  </a:lnTo>
                  <a:lnTo>
                    <a:pt x="636" y="545"/>
                  </a:lnTo>
                  <a:lnTo>
                    <a:pt x="643" y="541"/>
                  </a:lnTo>
                  <a:lnTo>
                    <a:pt x="649" y="537"/>
                  </a:lnTo>
                  <a:lnTo>
                    <a:pt x="655" y="533"/>
                  </a:lnTo>
                  <a:lnTo>
                    <a:pt x="661" y="528"/>
                  </a:lnTo>
                  <a:lnTo>
                    <a:pt x="666" y="522"/>
                  </a:lnTo>
                  <a:lnTo>
                    <a:pt x="670" y="516"/>
                  </a:lnTo>
                  <a:lnTo>
                    <a:pt x="673" y="511"/>
                  </a:lnTo>
                  <a:lnTo>
                    <a:pt x="676" y="504"/>
                  </a:lnTo>
                  <a:lnTo>
                    <a:pt x="678" y="497"/>
                  </a:lnTo>
                  <a:lnTo>
                    <a:pt x="680" y="490"/>
                  </a:lnTo>
                  <a:lnTo>
                    <a:pt x="681" y="484"/>
                  </a:lnTo>
                  <a:lnTo>
                    <a:pt x="681" y="475"/>
                  </a:lnTo>
                  <a:lnTo>
                    <a:pt x="681" y="468"/>
                  </a:lnTo>
                  <a:lnTo>
                    <a:pt x="680" y="461"/>
                  </a:lnTo>
                  <a:lnTo>
                    <a:pt x="678" y="454"/>
                  </a:lnTo>
                  <a:lnTo>
                    <a:pt x="676" y="447"/>
                  </a:lnTo>
                  <a:lnTo>
                    <a:pt x="673" y="441"/>
                  </a:lnTo>
                  <a:lnTo>
                    <a:pt x="670" y="434"/>
                  </a:lnTo>
                  <a:lnTo>
                    <a:pt x="666" y="428"/>
                  </a:lnTo>
                  <a:lnTo>
                    <a:pt x="661" y="423"/>
                  </a:lnTo>
                  <a:lnTo>
                    <a:pt x="655" y="417"/>
                  </a:lnTo>
                  <a:lnTo>
                    <a:pt x="649" y="413"/>
                  </a:lnTo>
                  <a:lnTo>
                    <a:pt x="643" y="409"/>
                  </a:lnTo>
                  <a:lnTo>
                    <a:pt x="636" y="406"/>
                  </a:lnTo>
                  <a:lnTo>
                    <a:pt x="630" y="404"/>
                  </a:lnTo>
                  <a:lnTo>
                    <a:pt x="624" y="402"/>
                  </a:lnTo>
                  <a:lnTo>
                    <a:pt x="616" y="401"/>
                  </a:lnTo>
                  <a:lnTo>
                    <a:pt x="609" y="401"/>
                  </a:lnTo>
                  <a:lnTo>
                    <a:pt x="602" y="401"/>
                  </a:lnTo>
                  <a:lnTo>
                    <a:pt x="594" y="402"/>
                  </a:lnTo>
                  <a:lnTo>
                    <a:pt x="587" y="404"/>
                  </a:lnTo>
                  <a:lnTo>
                    <a:pt x="581" y="406"/>
                  </a:lnTo>
                  <a:lnTo>
                    <a:pt x="574" y="409"/>
                  </a:lnTo>
                  <a:lnTo>
                    <a:pt x="568" y="413"/>
                  </a:lnTo>
                  <a:lnTo>
                    <a:pt x="563" y="417"/>
                  </a:lnTo>
                  <a:lnTo>
                    <a:pt x="558" y="423"/>
                  </a:lnTo>
                  <a:lnTo>
                    <a:pt x="552" y="428"/>
                  </a:lnTo>
                  <a:lnTo>
                    <a:pt x="548" y="434"/>
                  </a:lnTo>
                  <a:lnTo>
                    <a:pt x="544" y="441"/>
                  </a:lnTo>
                  <a:lnTo>
                    <a:pt x="541" y="447"/>
                  </a:lnTo>
                  <a:lnTo>
                    <a:pt x="539" y="454"/>
                  </a:lnTo>
                  <a:lnTo>
                    <a:pt x="537" y="461"/>
                  </a:lnTo>
                  <a:lnTo>
                    <a:pt x="537" y="468"/>
                  </a:lnTo>
                  <a:lnTo>
                    <a:pt x="536" y="475"/>
                  </a:lnTo>
                  <a:lnTo>
                    <a:pt x="537" y="484"/>
                  </a:lnTo>
                  <a:lnTo>
                    <a:pt x="537" y="490"/>
                  </a:lnTo>
                  <a:lnTo>
                    <a:pt x="539" y="497"/>
                  </a:lnTo>
                  <a:lnTo>
                    <a:pt x="541" y="504"/>
                  </a:lnTo>
                  <a:lnTo>
                    <a:pt x="544" y="511"/>
                  </a:lnTo>
                  <a:lnTo>
                    <a:pt x="548" y="516"/>
                  </a:lnTo>
                  <a:lnTo>
                    <a:pt x="552" y="522"/>
                  </a:lnTo>
                  <a:lnTo>
                    <a:pt x="557" y="528"/>
                  </a:lnTo>
                  <a:lnTo>
                    <a:pt x="563" y="533"/>
                  </a:lnTo>
                  <a:lnTo>
                    <a:pt x="568" y="537"/>
                  </a:lnTo>
                  <a:lnTo>
                    <a:pt x="574" y="541"/>
                  </a:lnTo>
                  <a:lnTo>
                    <a:pt x="581" y="545"/>
                  </a:lnTo>
                  <a:lnTo>
                    <a:pt x="587" y="547"/>
                  </a:lnTo>
                  <a:lnTo>
                    <a:pt x="594" y="549"/>
                  </a:lnTo>
                  <a:lnTo>
                    <a:pt x="602" y="550"/>
                  </a:lnTo>
                  <a:lnTo>
                    <a:pt x="609" y="550"/>
                  </a:lnTo>
                  <a:close/>
                  <a:moveTo>
                    <a:pt x="608" y="650"/>
                  </a:moveTo>
                  <a:lnTo>
                    <a:pt x="590" y="650"/>
                  </a:lnTo>
                  <a:lnTo>
                    <a:pt x="573" y="646"/>
                  </a:lnTo>
                  <a:lnTo>
                    <a:pt x="557" y="643"/>
                  </a:lnTo>
                  <a:lnTo>
                    <a:pt x="541" y="637"/>
                  </a:lnTo>
                  <a:lnTo>
                    <a:pt x="526" y="630"/>
                  </a:lnTo>
                  <a:lnTo>
                    <a:pt x="513" y="621"/>
                  </a:lnTo>
                  <a:lnTo>
                    <a:pt x="499" y="611"/>
                  </a:lnTo>
                  <a:lnTo>
                    <a:pt x="486" y="599"/>
                  </a:lnTo>
                  <a:lnTo>
                    <a:pt x="474" y="587"/>
                  </a:lnTo>
                  <a:lnTo>
                    <a:pt x="464" y="573"/>
                  </a:lnTo>
                  <a:lnTo>
                    <a:pt x="456" y="558"/>
                  </a:lnTo>
                  <a:lnTo>
                    <a:pt x="449" y="542"/>
                  </a:lnTo>
                  <a:lnTo>
                    <a:pt x="443" y="527"/>
                  </a:lnTo>
                  <a:lnTo>
                    <a:pt x="439" y="511"/>
                  </a:lnTo>
                  <a:lnTo>
                    <a:pt x="437" y="493"/>
                  </a:lnTo>
                  <a:lnTo>
                    <a:pt x="436" y="475"/>
                  </a:lnTo>
                  <a:lnTo>
                    <a:pt x="437" y="457"/>
                  </a:lnTo>
                  <a:lnTo>
                    <a:pt x="439" y="441"/>
                  </a:lnTo>
                  <a:lnTo>
                    <a:pt x="443" y="424"/>
                  </a:lnTo>
                  <a:lnTo>
                    <a:pt x="449" y="408"/>
                  </a:lnTo>
                  <a:lnTo>
                    <a:pt x="456" y="392"/>
                  </a:lnTo>
                  <a:lnTo>
                    <a:pt x="464" y="379"/>
                  </a:lnTo>
                  <a:lnTo>
                    <a:pt x="475" y="365"/>
                  </a:lnTo>
                  <a:lnTo>
                    <a:pt x="486" y="351"/>
                  </a:lnTo>
                  <a:lnTo>
                    <a:pt x="499" y="340"/>
                  </a:lnTo>
                  <a:lnTo>
                    <a:pt x="513" y="329"/>
                  </a:lnTo>
                  <a:lnTo>
                    <a:pt x="526" y="320"/>
                  </a:lnTo>
                  <a:lnTo>
                    <a:pt x="542" y="314"/>
                  </a:lnTo>
                  <a:lnTo>
                    <a:pt x="558" y="307"/>
                  </a:lnTo>
                  <a:lnTo>
                    <a:pt x="573" y="303"/>
                  </a:lnTo>
                  <a:lnTo>
                    <a:pt x="590" y="301"/>
                  </a:lnTo>
                  <a:lnTo>
                    <a:pt x="608" y="300"/>
                  </a:lnTo>
                  <a:lnTo>
                    <a:pt x="626" y="301"/>
                  </a:lnTo>
                  <a:lnTo>
                    <a:pt x="643" y="304"/>
                  </a:lnTo>
                  <a:lnTo>
                    <a:pt x="658" y="307"/>
                  </a:lnTo>
                  <a:lnTo>
                    <a:pt x="674" y="314"/>
                  </a:lnTo>
                  <a:lnTo>
                    <a:pt x="690" y="321"/>
                  </a:lnTo>
                  <a:lnTo>
                    <a:pt x="704" y="329"/>
                  </a:lnTo>
                  <a:lnTo>
                    <a:pt x="717" y="340"/>
                  </a:lnTo>
                  <a:lnTo>
                    <a:pt x="731" y="351"/>
                  </a:lnTo>
                  <a:lnTo>
                    <a:pt x="742" y="365"/>
                  </a:lnTo>
                  <a:lnTo>
                    <a:pt x="753" y="379"/>
                  </a:lnTo>
                  <a:lnTo>
                    <a:pt x="761" y="393"/>
                  </a:lnTo>
                  <a:lnTo>
                    <a:pt x="769" y="409"/>
                  </a:lnTo>
                  <a:lnTo>
                    <a:pt x="775" y="425"/>
                  </a:lnTo>
                  <a:lnTo>
                    <a:pt x="778" y="441"/>
                  </a:lnTo>
                  <a:lnTo>
                    <a:pt x="781" y="458"/>
                  </a:lnTo>
                  <a:lnTo>
                    <a:pt x="782" y="475"/>
                  </a:lnTo>
                  <a:lnTo>
                    <a:pt x="781" y="493"/>
                  </a:lnTo>
                  <a:lnTo>
                    <a:pt x="778" y="510"/>
                  </a:lnTo>
                  <a:lnTo>
                    <a:pt x="775" y="527"/>
                  </a:lnTo>
                  <a:lnTo>
                    <a:pt x="769" y="542"/>
                  </a:lnTo>
                  <a:lnTo>
                    <a:pt x="762" y="557"/>
                  </a:lnTo>
                  <a:lnTo>
                    <a:pt x="753" y="572"/>
                  </a:lnTo>
                  <a:lnTo>
                    <a:pt x="743" y="585"/>
                  </a:lnTo>
                  <a:lnTo>
                    <a:pt x="731" y="599"/>
                  </a:lnTo>
                  <a:lnTo>
                    <a:pt x="718" y="611"/>
                  </a:lnTo>
                  <a:lnTo>
                    <a:pt x="705" y="621"/>
                  </a:lnTo>
                  <a:lnTo>
                    <a:pt x="690" y="630"/>
                  </a:lnTo>
                  <a:lnTo>
                    <a:pt x="675" y="637"/>
                  </a:lnTo>
                  <a:lnTo>
                    <a:pt x="659" y="643"/>
                  </a:lnTo>
                  <a:lnTo>
                    <a:pt x="643" y="646"/>
                  </a:lnTo>
                  <a:lnTo>
                    <a:pt x="626" y="650"/>
                  </a:lnTo>
                  <a:lnTo>
                    <a:pt x="608" y="650"/>
                  </a:lnTo>
                  <a:close/>
                  <a:moveTo>
                    <a:pt x="174" y="248"/>
                  </a:moveTo>
                  <a:lnTo>
                    <a:pt x="181" y="248"/>
                  </a:lnTo>
                  <a:lnTo>
                    <a:pt x="188" y="247"/>
                  </a:lnTo>
                  <a:lnTo>
                    <a:pt x="195" y="245"/>
                  </a:lnTo>
                  <a:lnTo>
                    <a:pt x="202" y="243"/>
                  </a:lnTo>
                  <a:lnTo>
                    <a:pt x="208" y="240"/>
                  </a:lnTo>
                  <a:lnTo>
                    <a:pt x="213" y="236"/>
                  </a:lnTo>
                  <a:lnTo>
                    <a:pt x="220" y="232"/>
                  </a:lnTo>
                  <a:lnTo>
                    <a:pt x="225" y="226"/>
                  </a:lnTo>
                  <a:lnTo>
                    <a:pt x="230" y="221"/>
                  </a:lnTo>
                  <a:lnTo>
                    <a:pt x="234" y="215"/>
                  </a:lnTo>
                  <a:lnTo>
                    <a:pt x="239" y="209"/>
                  </a:lnTo>
                  <a:lnTo>
                    <a:pt x="241" y="202"/>
                  </a:lnTo>
                  <a:lnTo>
                    <a:pt x="244" y="195"/>
                  </a:lnTo>
                  <a:lnTo>
                    <a:pt x="245" y="189"/>
                  </a:lnTo>
                  <a:lnTo>
                    <a:pt x="246" y="181"/>
                  </a:lnTo>
                  <a:lnTo>
                    <a:pt x="247" y="174"/>
                  </a:lnTo>
                  <a:lnTo>
                    <a:pt x="246" y="167"/>
                  </a:lnTo>
                  <a:lnTo>
                    <a:pt x="245" y="159"/>
                  </a:lnTo>
                  <a:lnTo>
                    <a:pt x="244" y="152"/>
                  </a:lnTo>
                  <a:lnTo>
                    <a:pt x="241" y="146"/>
                  </a:lnTo>
                  <a:lnTo>
                    <a:pt x="239" y="139"/>
                  </a:lnTo>
                  <a:lnTo>
                    <a:pt x="234" y="133"/>
                  </a:lnTo>
                  <a:lnTo>
                    <a:pt x="230" y="127"/>
                  </a:lnTo>
                  <a:lnTo>
                    <a:pt x="225" y="121"/>
                  </a:lnTo>
                  <a:lnTo>
                    <a:pt x="220" y="116"/>
                  </a:lnTo>
                  <a:lnTo>
                    <a:pt x="215" y="112"/>
                  </a:lnTo>
                  <a:lnTo>
                    <a:pt x="208" y="108"/>
                  </a:lnTo>
                  <a:lnTo>
                    <a:pt x="202" y="105"/>
                  </a:lnTo>
                  <a:lnTo>
                    <a:pt x="196" y="102"/>
                  </a:lnTo>
                  <a:lnTo>
                    <a:pt x="188" y="100"/>
                  </a:lnTo>
                  <a:lnTo>
                    <a:pt x="181" y="99"/>
                  </a:lnTo>
                  <a:lnTo>
                    <a:pt x="174" y="99"/>
                  </a:lnTo>
                  <a:lnTo>
                    <a:pt x="166" y="99"/>
                  </a:lnTo>
                  <a:lnTo>
                    <a:pt x="159" y="100"/>
                  </a:lnTo>
                  <a:lnTo>
                    <a:pt x="153" y="102"/>
                  </a:lnTo>
                  <a:lnTo>
                    <a:pt x="145" y="105"/>
                  </a:lnTo>
                  <a:lnTo>
                    <a:pt x="139" y="108"/>
                  </a:lnTo>
                  <a:lnTo>
                    <a:pt x="134" y="112"/>
                  </a:lnTo>
                  <a:lnTo>
                    <a:pt x="127" y="116"/>
                  </a:lnTo>
                  <a:lnTo>
                    <a:pt x="122" y="121"/>
                  </a:lnTo>
                  <a:lnTo>
                    <a:pt x="117" y="127"/>
                  </a:lnTo>
                  <a:lnTo>
                    <a:pt x="113" y="133"/>
                  </a:lnTo>
                  <a:lnTo>
                    <a:pt x="109" y="139"/>
                  </a:lnTo>
                  <a:lnTo>
                    <a:pt x="106" y="146"/>
                  </a:lnTo>
                  <a:lnTo>
                    <a:pt x="103" y="152"/>
                  </a:lnTo>
                  <a:lnTo>
                    <a:pt x="102" y="159"/>
                  </a:lnTo>
                  <a:lnTo>
                    <a:pt x="101" y="167"/>
                  </a:lnTo>
                  <a:lnTo>
                    <a:pt x="101" y="174"/>
                  </a:lnTo>
                  <a:lnTo>
                    <a:pt x="101" y="181"/>
                  </a:lnTo>
                  <a:lnTo>
                    <a:pt x="102" y="189"/>
                  </a:lnTo>
                  <a:lnTo>
                    <a:pt x="103" y="196"/>
                  </a:lnTo>
                  <a:lnTo>
                    <a:pt x="106" y="202"/>
                  </a:lnTo>
                  <a:lnTo>
                    <a:pt x="109" y="209"/>
                  </a:lnTo>
                  <a:lnTo>
                    <a:pt x="113" y="215"/>
                  </a:lnTo>
                  <a:lnTo>
                    <a:pt x="117" y="221"/>
                  </a:lnTo>
                  <a:lnTo>
                    <a:pt x="122" y="226"/>
                  </a:lnTo>
                  <a:lnTo>
                    <a:pt x="127" y="232"/>
                  </a:lnTo>
                  <a:lnTo>
                    <a:pt x="134" y="236"/>
                  </a:lnTo>
                  <a:lnTo>
                    <a:pt x="139" y="240"/>
                  </a:lnTo>
                  <a:lnTo>
                    <a:pt x="145" y="243"/>
                  </a:lnTo>
                  <a:lnTo>
                    <a:pt x="153" y="245"/>
                  </a:lnTo>
                  <a:lnTo>
                    <a:pt x="159" y="247"/>
                  </a:lnTo>
                  <a:lnTo>
                    <a:pt x="166" y="248"/>
                  </a:lnTo>
                  <a:lnTo>
                    <a:pt x="174" y="248"/>
                  </a:lnTo>
                  <a:close/>
                  <a:moveTo>
                    <a:pt x="174" y="349"/>
                  </a:moveTo>
                  <a:lnTo>
                    <a:pt x="156" y="348"/>
                  </a:lnTo>
                  <a:lnTo>
                    <a:pt x="139" y="346"/>
                  </a:lnTo>
                  <a:lnTo>
                    <a:pt x="123" y="342"/>
                  </a:lnTo>
                  <a:lnTo>
                    <a:pt x="108" y="336"/>
                  </a:lnTo>
                  <a:lnTo>
                    <a:pt x="92" y="329"/>
                  </a:lnTo>
                  <a:lnTo>
                    <a:pt x="78" y="320"/>
                  </a:lnTo>
                  <a:lnTo>
                    <a:pt x="64" y="309"/>
                  </a:lnTo>
                  <a:lnTo>
                    <a:pt x="51" y="298"/>
                  </a:lnTo>
                  <a:lnTo>
                    <a:pt x="39" y="284"/>
                  </a:lnTo>
                  <a:lnTo>
                    <a:pt x="29" y="270"/>
                  </a:lnTo>
                  <a:lnTo>
                    <a:pt x="20" y="257"/>
                  </a:lnTo>
                  <a:lnTo>
                    <a:pt x="13" y="241"/>
                  </a:lnTo>
                  <a:lnTo>
                    <a:pt x="8" y="225"/>
                  </a:lnTo>
                  <a:lnTo>
                    <a:pt x="4" y="209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9"/>
                  </a:lnTo>
                  <a:lnTo>
                    <a:pt x="8" y="122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29" y="77"/>
                  </a:lnTo>
                  <a:lnTo>
                    <a:pt x="39" y="64"/>
                  </a:lnTo>
                  <a:lnTo>
                    <a:pt x="51" y="50"/>
                  </a:lnTo>
                  <a:lnTo>
                    <a:pt x="64" y="3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3" y="7"/>
                  </a:lnTo>
                  <a:lnTo>
                    <a:pt x="139" y="3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1" y="0"/>
                  </a:lnTo>
                  <a:lnTo>
                    <a:pt x="208" y="3"/>
                  </a:lnTo>
                  <a:lnTo>
                    <a:pt x="225" y="7"/>
                  </a:lnTo>
                  <a:lnTo>
                    <a:pt x="241" y="12"/>
                  </a:lnTo>
                  <a:lnTo>
                    <a:pt x="255" y="20"/>
                  </a:lnTo>
                  <a:lnTo>
                    <a:pt x="269" y="28"/>
                  </a:lnTo>
                  <a:lnTo>
                    <a:pt x="283" y="38"/>
                  </a:lnTo>
                  <a:lnTo>
                    <a:pt x="296" y="51"/>
                  </a:lnTo>
                  <a:lnTo>
                    <a:pt x="308" y="64"/>
                  </a:lnTo>
                  <a:lnTo>
                    <a:pt x="318" y="77"/>
                  </a:lnTo>
                  <a:lnTo>
                    <a:pt x="327" y="92"/>
                  </a:lnTo>
                  <a:lnTo>
                    <a:pt x="334" y="107"/>
                  </a:lnTo>
                  <a:lnTo>
                    <a:pt x="339" y="122"/>
                  </a:lnTo>
                  <a:lnTo>
                    <a:pt x="344" y="139"/>
                  </a:lnTo>
                  <a:lnTo>
                    <a:pt x="346" y="156"/>
                  </a:lnTo>
                  <a:lnTo>
                    <a:pt x="347" y="174"/>
                  </a:lnTo>
                  <a:lnTo>
                    <a:pt x="346" y="192"/>
                  </a:lnTo>
                  <a:lnTo>
                    <a:pt x="344" y="209"/>
                  </a:lnTo>
                  <a:lnTo>
                    <a:pt x="339" y="225"/>
                  </a:lnTo>
                  <a:lnTo>
                    <a:pt x="334" y="241"/>
                  </a:lnTo>
                  <a:lnTo>
                    <a:pt x="327" y="256"/>
                  </a:lnTo>
                  <a:lnTo>
                    <a:pt x="318" y="270"/>
                  </a:lnTo>
                  <a:lnTo>
                    <a:pt x="308" y="284"/>
                  </a:lnTo>
                  <a:lnTo>
                    <a:pt x="296" y="298"/>
                  </a:lnTo>
                  <a:lnTo>
                    <a:pt x="284" y="309"/>
                  </a:lnTo>
                  <a:lnTo>
                    <a:pt x="270" y="320"/>
                  </a:lnTo>
                  <a:lnTo>
                    <a:pt x="255" y="328"/>
                  </a:lnTo>
                  <a:lnTo>
                    <a:pt x="241" y="336"/>
                  </a:lnTo>
                  <a:lnTo>
                    <a:pt x="225" y="342"/>
                  </a:lnTo>
                  <a:lnTo>
                    <a:pt x="208" y="346"/>
                  </a:lnTo>
                  <a:lnTo>
                    <a:pt x="191" y="348"/>
                  </a:lnTo>
                  <a:lnTo>
                    <a:pt x="174" y="349"/>
                  </a:lnTo>
                  <a:close/>
                  <a:moveTo>
                    <a:pt x="172" y="639"/>
                  </a:moveTo>
                  <a:lnTo>
                    <a:pt x="517" y="10"/>
                  </a:lnTo>
                  <a:lnTo>
                    <a:pt x="610" y="10"/>
                  </a:lnTo>
                  <a:lnTo>
                    <a:pt x="265" y="639"/>
                  </a:lnTo>
                  <a:lnTo>
                    <a:pt x="172" y="6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259160" y="3891960"/>
              <a:ext cx="162360" cy="243360"/>
            </a:xfrm>
            <a:custGeom>
              <a:avLst/>
              <a:gdLst/>
              <a:ahLst/>
              <a:rect l="l" t="t" r="r" b="b"/>
              <a:pathLst>
                <a:path w="419" h="629">
                  <a:moveTo>
                    <a:pt x="0" y="629"/>
                  </a:moveTo>
                  <a:lnTo>
                    <a:pt x="211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419" y="0"/>
                  </a:lnTo>
                  <a:lnTo>
                    <a:pt x="419" y="84"/>
                  </a:lnTo>
                  <a:lnTo>
                    <a:pt x="177" y="629"/>
                  </a:lnTo>
                  <a:lnTo>
                    <a:pt x="0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480200" y="3891960"/>
              <a:ext cx="102240" cy="243360"/>
            </a:xfrm>
            <a:custGeom>
              <a:avLst/>
              <a:gdLst/>
              <a:ahLst/>
              <a:rect l="l" t="t" r="r" b="b"/>
              <a:pathLst>
                <a:path w="264" h="629">
                  <a:moveTo>
                    <a:pt x="109" y="629"/>
                  </a:moveTo>
                  <a:lnTo>
                    <a:pt x="109" y="203"/>
                  </a:lnTo>
                  <a:lnTo>
                    <a:pt x="103" y="206"/>
                  </a:lnTo>
                  <a:lnTo>
                    <a:pt x="95" y="209"/>
                  </a:lnTo>
                  <a:lnTo>
                    <a:pt x="89" y="212"/>
                  </a:lnTo>
                  <a:lnTo>
                    <a:pt x="82" y="215"/>
                  </a:lnTo>
                  <a:lnTo>
                    <a:pt x="75" y="217"/>
                  </a:lnTo>
                  <a:lnTo>
                    <a:pt x="68" y="220"/>
                  </a:lnTo>
                  <a:lnTo>
                    <a:pt x="62" y="222"/>
                  </a:lnTo>
                  <a:lnTo>
                    <a:pt x="54" y="224"/>
                  </a:lnTo>
                  <a:lnTo>
                    <a:pt x="48" y="225"/>
                  </a:lnTo>
                  <a:lnTo>
                    <a:pt x="41" y="227"/>
                  </a:lnTo>
                  <a:lnTo>
                    <a:pt x="34" y="228"/>
                  </a:lnTo>
                  <a:lnTo>
                    <a:pt x="27" y="229"/>
                  </a:lnTo>
                  <a:lnTo>
                    <a:pt x="21" y="230"/>
                  </a:lnTo>
                  <a:lnTo>
                    <a:pt x="13" y="230"/>
                  </a:lnTo>
                  <a:lnTo>
                    <a:pt x="6" y="231"/>
                  </a:lnTo>
                  <a:lnTo>
                    <a:pt x="0" y="231"/>
                  </a:lnTo>
                  <a:lnTo>
                    <a:pt x="0" y="68"/>
                  </a:lnTo>
                  <a:lnTo>
                    <a:pt x="8" y="66"/>
                  </a:lnTo>
                  <a:lnTo>
                    <a:pt x="18" y="63"/>
                  </a:lnTo>
                  <a:lnTo>
                    <a:pt x="26" y="60"/>
                  </a:lnTo>
                  <a:lnTo>
                    <a:pt x="33" y="57"/>
                  </a:lnTo>
                  <a:lnTo>
                    <a:pt x="42" y="54"/>
                  </a:lnTo>
                  <a:lnTo>
                    <a:pt x="49" y="49"/>
                  </a:lnTo>
                  <a:lnTo>
                    <a:pt x="56" y="46"/>
                  </a:lnTo>
                  <a:lnTo>
                    <a:pt x="64" y="41"/>
                  </a:lnTo>
                  <a:lnTo>
                    <a:pt x="71" y="37"/>
                  </a:lnTo>
                  <a:lnTo>
                    <a:pt x="77" y="32"/>
                  </a:lnTo>
                  <a:lnTo>
                    <a:pt x="84" y="27"/>
                  </a:lnTo>
                  <a:lnTo>
                    <a:pt x="90" y="22"/>
                  </a:lnTo>
                  <a:lnTo>
                    <a:pt x="95" y="17"/>
                  </a:lnTo>
                  <a:lnTo>
                    <a:pt x="100" y="12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264" y="0"/>
                  </a:lnTo>
                  <a:lnTo>
                    <a:pt x="264" y="629"/>
                  </a:lnTo>
                  <a:lnTo>
                    <a:pt x="109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857840" y="4044960"/>
              <a:ext cx="55440" cy="56160"/>
            </a:xfrm>
            <a:custGeom>
              <a:avLst/>
              <a:gdLst/>
              <a:ahLst/>
              <a:rect l="l" t="t" r="r" b="b"/>
              <a:pathLst>
                <a:path w="145" h="149">
                  <a:moveTo>
                    <a:pt x="73" y="149"/>
                  </a:moveTo>
                  <a:lnTo>
                    <a:pt x="80" y="149"/>
                  </a:lnTo>
                  <a:lnTo>
                    <a:pt x="88" y="148"/>
                  </a:lnTo>
                  <a:lnTo>
                    <a:pt x="94" y="146"/>
                  </a:lnTo>
                  <a:lnTo>
                    <a:pt x="100" y="144"/>
                  </a:lnTo>
                  <a:lnTo>
                    <a:pt x="107" y="140"/>
                  </a:lnTo>
                  <a:lnTo>
                    <a:pt x="113" y="136"/>
                  </a:lnTo>
                  <a:lnTo>
                    <a:pt x="119" y="132"/>
                  </a:lnTo>
                  <a:lnTo>
                    <a:pt x="125" y="127"/>
                  </a:lnTo>
                  <a:lnTo>
                    <a:pt x="130" y="121"/>
                  </a:lnTo>
                  <a:lnTo>
                    <a:pt x="134" y="115"/>
                  </a:lnTo>
                  <a:lnTo>
                    <a:pt x="137" y="110"/>
                  </a:lnTo>
                  <a:lnTo>
                    <a:pt x="140" y="103"/>
                  </a:lnTo>
                  <a:lnTo>
                    <a:pt x="142" y="96"/>
                  </a:lnTo>
                  <a:lnTo>
                    <a:pt x="144" y="89"/>
                  </a:lnTo>
                  <a:lnTo>
                    <a:pt x="145" y="83"/>
                  </a:lnTo>
                  <a:lnTo>
                    <a:pt x="145" y="74"/>
                  </a:lnTo>
                  <a:lnTo>
                    <a:pt x="145" y="67"/>
                  </a:lnTo>
                  <a:lnTo>
                    <a:pt x="144" y="60"/>
                  </a:lnTo>
                  <a:lnTo>
                    <a:pt x="142" y="53"/>
                  </a:lnTo>
                  <a:lnTo>
                    <a:pt x="140" y="46"/>
                  </a:lnTo>
                  <a:lnTo>
                    <a:pt x="137" y="40"/>
                  </a:lnTo>
                  <a:lnTo>
                    <a:pt x="134" y="33"/>
                  </a:lnTo>
                  <a:lnTo>
                    <a:pt x="130" y="27"/>
                  </a:lnTo>
                  <a:lnTo>
                    <a:pt x="125" y="22"/>
                  </a:lnTo>
                  <a:lnTo>
                    <a:pt x="119" y="16"/>
                  </a:lnTo>
                  <a:lnTo>
                    <a:pt x="113" y="12"/>
                  </a:lnTo>
                  <a:lnTo>
                    <a:pt x="107" y="8"/>
                  </a:lnTo>
                  <a:lnTo>
                    <a:pt x="100" y="5"/>
                  </a:lnTo>
                  <a:lnTo>
                    <a:pt x="94" y="3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2" y="12"/>
                  </a:lnTo>
                  <a:lnTo>
                    <a:pt x="27" y="16"/>
                  </a:lnTo>
                  <a:lnTo>
                    <a:pt x="22" y="22"/>
                  </a:lnTo>
                  <a:lnTo>
                    <a:pt x="16" y="27"/>
                  </a:lnTo>
                  <a:lnTo>
                    <a:pt x="12" y="33"/>
                  </a:lnTo>
                  <a:lnTo>
                    <a:pt x="8" y="40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5" y="103"/>
                  </a:lnTo>
                  <a:lnTo>
                    <a:pt x="8" y="110"/>
                  </a:lnTo>
                  <a:lnTo>
                    <a:pt x="12" y="115"/>
                  </a:lnTo>
                  <a:lnTo>
                    <a:pt x="16" y="121"/>
                  </a:lnTo>
                  <a:lnTo>
                    <a:pt x="21" y="127"/>
                  </a:lnTo>
                  <a:lnTo>
                    <a:pt x="27" y="132"/>
                  </a:lnTo>
                  <a:lnTo>
                    <a:pt x="32" y="136"/>
                  </a:lnTo>
                  <a:lnTo>
                    <a:pt x="38" y="140"/>
                  </a:lnTo>
                  <a:lnTo>
                    <a:pt x="45" y="144"/>
                  </a:lnTo>
                  <a:lnTo>
                    <a:pt x="51" y="146"/>
                  </a:lnTo>
                  <a:lnTo>
                    <a:pt x="58" y="148"/>
                  </a:lnTo>
                  <a:lnTo>
                    <a:pt x="66" y="149"/>
                  </a:lnTo>
                  <a:lnTo>
                    <a:pt x="73" y="1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818960" y="4003920"/>
              <a:ext cx="133920" cy="135360"/>
            </a:xfrm>
            <a:custGeom>
              <a:avLst/>
              <a:gdLst/>
              <a:ahLst/>
              <a:rect l="l" t="t" r="r" b="b"/>
              <a:pathLst>
                <a:path w="346" h="350">
                  <a:moveTo>
                    <a:pt x="172" y="350"/>
                  </a:moveTo>
                  <a:lnTo>
                    <a:pt x="154" y="350"/>
                  </a:lnTo>
                  <a:lnTo>
                    <a:pt x="137" y="346"/>
                  </a:lnTo>
                  <a:lnTo>
                    <a:pt x="121" y="343"/>
                  </a:lnTo>
                  <a:lnTo>
                    <a:pt x="105" y="337"/>
                  </a:lnTo>
                  <a:lnTo>
                    <a:pt x="90" y="330"/>
                  </a:lnTo>
                  <a:lnTo>
                    <a:pt x="77" y="321"/>
                  </a:lnTo>
                  <a:lnTo>
                    <a:pt x="63" y="311"/>
                  </a:lnTo>
                  <a:lnTo>
                    <a:pt x="50" y="299"/>
                  </a:lnTo>
                  <a:lnTo>
                    <a:pt x="38" y="287"/>
                  </a:lnTo>
                  <a:lnTo>
                    <a:pt x="28" y="273"/>
                  </a:lnTo>
                  <a:lnTo>
                    <a:pt x="20" y="258"/>
                  </a:lnTo>
                  <a:lnTo>
                    <a:pt x="13" y="242"/>
                  </a:lnTo>
                  <a:lnTo>
                    <a:pt x="7" y="227"/>
                  </a:lnTo>
                  <a:lnTo>
                    <a:pt x="3" y="211"/>
                  </a:lnTo>
                  <a:lnTo>
                    <a:pt x="1" y="193"/>
                  </a:lnTo>
                  <a:lnTo>
                    <a:pt x="0" y="175"/>
                  </a:lnTo>
                  <a:lnTo>
                    <a:pt x="1" y="157"/>
                  </a:lnTo>
                  <a:lnTo>
                    <a:pt x="3" y="141"/>
                  </a:lnTo>
                  <a:lnTo>
                    <a:pt x="7" y="124"/>
                  </a:lnTo>
                  <a:lnTo>
                    <a:pt x="13" y="108"/>
                  </a:lnTo>
                  <a:lnTo>
                    <a:pt x="20" y="92"/>
                  </a:lnTo>
                  <a:lnTo>
                    <a:pt x="28" y="79"/>
                  </a:lnTo>
                  <a:lnTo>
                    <a:pt x="39" y="65"/>
                  </a:lnTo>
                  <a:lnTo>
                    <a:pt x="50" y="51"/>
                  </a:lnTo>
                  <a:lnTo>
                    <a:pt x="63" y="40"/>
                  </a:lnTo>
                  <a:lnTo>
                    <a:pt x="77" y="29"/>
                  </a:lnTo>
                  <a:lnTo>
                    <a:pt x="90" y="20"/>
                  </a:lnTo>
                  <a:lnTo>
                    <a:pt x="106" y="14"/>
                  </a:lnTo>
                  <a:lnTo>
                    <a:pt x="122" y="7"/>
                  </a:lnTo>
                  <a:lnTo>
                    <a:pt x="137" y="3"/>
                  </a:lnTo>
                  <a:lnTo>
                    <a:pt x="154" y="1"/>
                  </a:lnTo>
                  <a:lnTo>
                    <a:pt x="172" y="0"/>
                  </a:lnTo>
                  <a:lnTo>
                    <a:pt x="190" y="1"/>
                  </a:lnTo>
                  <a:lnTo>
                    <a:pt x="207" y="4"/>
                  </a:lnTo>
                  <a:lnTo>
                    <a:pt x="222" y="7"/>
                  </a:lnTo>
                  <a:lnTo>
                    <a:pt x="238" y="14"/>
                  </a:lnTo>
                  <a:lnTo>
                    <a:pt x="254" y="21"/>
                  </a:lnTo>
                  <a:lnTo>
                    <a:pt x="268" y="29"/>
                  </a:lnTo>
                  <a:lnTo>
                    <a:pt x="281" y="40"/>
                  </a:lnTo>
                  <a:lnTo>
                    <a:pt x="295" y="51"/>
                  </a:lnTo>
                  <a:lnTo>
                    <a:pt x="306" y="65"/>
                  </a:lnTo>
                  <a:lnTo>
                    <a:pt x="317" y="79"/>
                  </a:lnTo>
                  <a:lnTo>
                    <a:pt x="325" y="93"/>
                  </a:lnTo>
                  <a:lnTo>
                    <a:pt x="333" y="109"/>
                  </a:lnTo>
                  <a:lnTo>
                    <a:pt x="339" y="125"/>
                  </a:lnTo>
                  <a:lnTo>
                    <a:pt x="342" y="141"/>
                  </a:lnTo>
                  <a:lnTo>
                    <a:pt x="345" y="158"/>
                  </a:lnTo>
                  <a:lnTo>
                    <a:pt x="346" y="175"/>
                  </a:lnTo>
                  <a:lnTo>
                    <a:pt x="345" y="193"/>
                  </a:lnTo>
                  <a:lnTo>
                    <a:pt x="342" y="210"/>
                  </a:lnTo>
                  <a:lnTo>
                    <a:pt x="339" y="227"/>
                  </a:lnTo>
                  <a:lnTo>
                    <a:pt x="333" y="242"/>
                  </a:lnTo>
                  <a:lnTo>
                    <a:pt x="326" y="257"/>
                  </a:lnTo>
                  <a:lnTo>
                    <a:pt x="317" y="272"/>
                  </a:lnTo>
                  <a:lnTo>
                    <a:pt x="307" y="285"/>
                  </a:lnTo>
                  <a:lnTo>
                    <a:pt x="295" y="299"/>
                  </a:lnTo>
                  <a:lnTo>
                    <a:pt x="282" y="311"/>
                  </a:lnTo>
                  <a:lnTo>
                    <a:pt x="269" y="321"/>
                  </a:lnTo>
                  <a:lnTo>
                    <a:pt x="254" y="330"/>
                  </a:lnTo>
                  <a:lnTo>
                    <a:pt x="239" y="337"/>
                  </a:lnTo>
                  <a:lnTo>
                    <a:pt x="223" y="343"/>
                  </a:lnTo>
                  <a:lnTo>
                    <a:pt x="207" y="346"/>
                  </a:lnTo>
                  <a:lnTo>
                    <a:pt x="190" y="350"/>
                  </a:lnTo>
                  <a:lnTo>
                    <a:pt x="172" y="350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689360" y="3926880"/>
              <a:ext cx="56160" cy="57600"/>
            </a:xfrm>
            <a:custGeom>
              <a:avLst/>
              <a:gdLst/>
              <a:ahLst/>
              <a:rect l="l" t="t" r="r" b="b"/>
              <a:pathLst>
                <a:path w="146" h="149">
                  <a:moveTo>
                    <a:pt x="73" y="149"/>
                  </a:moveTo>
                  <a:lnTo>
                    <a:pt x="80" y="149"/>
                  </a:lnTo>
                  <a:lnTo>
                    <a:pt x="87" y="148"/>
                  </a:lnTo>
                  <a:lnTo>
                    <a:pt x="94" y="146"/>
                  </a:lnTo>
                  <a:lnTo>
                    <a:pt x="101" y="144"/>
                  </a:lnTo>
                  <a:lnTo>
                    <a:pt x="107" y="141"/>
                  </a:lnTo>
                  <a:lnTo>
                    <a:pt x="112" y="137"/>
                  </a:lnTo>
                  <a:lnTo>
                    <a:pt x="119" y="133"/>
                  </a:lnTo>
                  <a:lnTo>
                    <a:pt x="124" y="127"/>
                  </a:lnTo>
                  <a:lnTo>
                    <a:pt x="129" y="122"/>
                  </a:lnTo>
                  <a:lnTo>
                    <a:pt x="133" y="116"/>
                  </a:lnTo>
                  <a:lnTo>
                    <a:pt x="138" y="110"/>
                  </a:lnTo>
                  <a:lnTo>
                    <a:pt x="140" y="103"/>
                  </a:lnTo>
                  <a:lnTo>
                    <a:pt x="143" y="96"/>
                  </a:lnTo>
                  <a:lnTo>
                    <a:pt x="144" y="90"/>
                  </a:lnTo>
                  <a:lnTo>
                    <a:pt x="145" y="82"/>
                  </a:lnTo>
                  <a:lnTo>
                    <a:pt x="146" y="75"/>
                  </a:lnTo>
                  <a:lnTo>
                    <a:pt x="145" y="68"/>
                  </a:lnTo>
                  <a:lnTo>
                    <a:pt x="144" y="60"/>
                  </a:lnTo>
                  <a:lnTo>
                    <a:pt x="143" y="53"/>
                  </a:lnTo>
                  <a:lnTo>
                    <a:pt x="140" y="47"/>
                  </a:lnTo>
                  <a:lnTo>
                    <a:pt x="138" y="40"/>
                  </a:lnTo>
                  <a:lnTo>
                    <a:pt x="133" y="34"/>
                  </a:lnTo>
                  <a:lnTo>
                    <a:pt x="129" y="28"/>
                  </a:lnTo>
                  <a:lnTo>
                    <a:pt x="124" y="22"/>
                  </a:lnTo>
                  <a:lnTo>
                    <a:pt x="119" y="17"/>
                  </a:lnTo>
                  <a:lnTo>
                    <a:pt x="114" y="13"/>
                  </a:lnTo>
                  <a:lnTo>
                    <a:pt x="107" y="9"/>
                  </a:lnTo>
                  <a:lnTo>
                    <a:pt x="101" y="6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3" y="13"/>
                  </a:lnTo>
                  <a:lnTo>
                    <a:pt x="26" y="17"/>
                  </a:lnTo>
                  <a:lnTo>
                    <a:pt x="21" y="22"/>
                  </a:lnTo>
                  <a:lnTo>
                    <a:pt x="16" y="28"/>
                  </a:lnTo>
                  <a:lnTo>
                    <a:pt x="12" y="34"/>
                  </a:lnTo>
                  <a:lnTo>
                    <a:pt x="8" y="40"/>
                  </a:lnTo>
                  <a:lnTo>
                    <a:pt x="5" y="47"/>
                  </a:lnTo>
                  <a:lnTo>
                    <a:pt x="2" y="53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2" y="97"/>
                  </a:lnTo>
                  <a:lnTo>
                    <a:pt x="5" y="103"/>
                  </a:lnTo>
                  <a:lnTo>
                    <a:pt x="8" y="110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21" y="127"/>
                  </a:lnTo>
                  <a:lnTo>
                    <a:pt x="26" y="133"/>
                  </a:lnTo>
                  <a:lnTo>
                    <a:pt x="33" y="137"/>
                  </a:lnTo>
                  <a:lnTo>
                    <a:pt x="38" y="141"/>
                  </a:lnTo>
                  <a:lnTo>
                    <a:pt x="44" y="144"/>
                  </a:lnTo>
                  <a:lnTo>
                    <a:pt x="52" y="146"/>
                  </a:lnTo>
                  <a:lnTo>
                    <a:pt x="58" y="148"/>
                  </a:lnTo>
                  <a:lnTo>
                    <a:pt x="65" y="149"/>
                  </a:lnTo>
                  <a:lnTo>
                    <a:pt x="73" y="1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650480" y="3888000"/>
              <a:ext cx="133200" cy="135360"/>
            </a:xfrm>
            <a:custGeom>
              <a:avLst/>
              <a:gdLst/>
              <a:ahLst/>
              <a:rect l="l" t="t" r="r" b="b"/>
              <a:pathLst>
                <a:path w="347" h="349">
                  <a:moveTo>
                    <a:pt x="174" y="349"/>
                  </a:moveTo>
                  <a:lnTo>
                    <a:pt x="156" y="348"/>
                  </a:lnTo>
                  <a:lnTo>
                    <a:pt x="139" y="346"/>
                  </a:lnTo>
                  <a:lnTo>
                    <a:pt x="123" y="342"/>
                  </a:lnTo>
                  <a:lnTo>
                    <a:pt x="108" y="336"/>
                  </a:lnTo>
                  <a:lnTo>
                    <a:pt x="92" y="329"/>
                  </a:lnTo>
                  <a:lnTo>
                    <a:pt x="78" y="320"/>
                  </a:lnTo>
                  <a:lnTo>
                    <a:pt x="64" y="309"/>
                  </a:lnTo>
                  <a:lnTo>
                    <a:pt x="51" y="298"/>
                  </a:lnTo>
                  <a:lnTo>
                    <a:pt x="39" y="284"/>
                  </a:lnTo>
                  <a:lnTo>
                    <a:pt x="29" y="270"/>
                  </a:lnTo>
                  <a:lnTo>
                    <a:pt x="20" y="257"/>
                  </a:lnTo>
                  <a:lnTo>
                    <a:pt x="13" y="241"/>
                  </a:lnTo>
                  <a:lnTo>
                    <a:pt x="8" y="225"/>
                  </a:lnTo>
                  <a:lnTo>
                    <a:pt x="4" y="209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9"/>
                  </a:lnTo>
                  <a:lnTo>
                    <a:pt x="8" y="122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29" y="77"/>
                  </a:lnTo>
                  <a:lnTo>
                    <a:pt x="39" y="64"/>
                  </a:lnTo>
                  <a:lnTo>
                    <a:pt x="51" y="50"/>
                  </a:lnTo>
                  <a:lnTo>
                    <a:pt x="64" y="3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3" y="7"/>
                  </a:lnTo>
                  <a:lnTo>
                    <a:pt x="139" y="3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1" y="0"/>
                  </a:lnTo>
                  <a:lnTo>
                    <a:pt x="208" y="3"/>
                  </a:lnTo>
                  <a:lnTo>
                    <a:pt x="225" y="7"/>
                  </a:lnTo>
                  <a:lnTo>
                    <a:pt x="241" y="12"/>
                  </a:lnTo>
                  <a:lnTo>
                    <a:pt x="255" y="20"/>
                  </a:lnTo>
                  <a:lnTo>
                    <a:pt x="269" y="28"/>
                  </a:lnTo>
                  <a:lnTo>
                    <a:pt x="283" y="38"/>
                  </a:lnTo>
                  <a:lnTo>
                    <a:pt x="296" y="51"/>
                  </a:lnTo>
                  <a:lnTo>
                    <a:pt x="308" y="64"/>
                  </a:lnTo>
                  <a:lnTo>
                    <a:pt x="318" y="77"/>
                  </a:lnTo>
                  <a:lnTo>
                    <a:pt x="327" y="92"/>
                  </a:lnTo>
                  <a:lnTo>
                    <a:pt x="334" y="107"/>
                  </a:lnTo>
                  <a:lnTo>
                    <a:pt x="339" y="122"/>
                  </a:lnTo>
                  <a:lnTo>
                    <a:pt x="344" y="139"/>
                  </a:lnTo>
                  <a:lnTo>
                    <a:pt x="346" y="156"/>
                  </a:lnTo>
                  <a:lnTo>
                    <a:pt x="347" y="174"/>
                  </a:lnTo>
                  <a:lnTo>
                    <a:pt x="346" y="192"/>
                  </a:lnTo>
                  <a:lnTo>
                    <a:pt x="344" y="209"/>
                  </a:lnTo>
                  <a:lnTo>
                    <a:pt x="339" y="225"/>
                  </a:lnTo>
                  <a:lnTo>
                    <a:pt x="334" y="241"/>
                  </a:lnTo>
                  <a:lnTo>
                    <a:pt x="327" y="256"/>
                  </a:lnTo>
                  <a:lnTo>
                    <a:pt x="318" y="270"/>
                  </a:lnTo>
                  <a:lnTo>
                    <a:pt x="308" y="284"/>
                  </a:lnTo>
                  <a:lnTo>
                    <a:pt x="296" y="298"/>
                  </a:lnTo>
                  <a:lnTo>
                    <a:pt x="284" y="309"/>
                  </a:lnTo>
                  <a:lnTo>
                    <a:pt x="270" y="320"/>
                  </a:lnTo>
                  <a:lnTo>
                    <a:pt x="255" y="328"/>
                  </a:lnTo>
                  <a:lnTo>
                    <a:pt x="241" y="336"/>
                  </a:lnTo>
                  <a:lnTo>
                    <a:pt x="225" y="342"/>
                  </a:lnTo>
                  <a:lnTo>
                    <a:pt x="208" y="346"/>
                  </a:lnTo>
                  <a:lnTo>
                    <a:pt x="191" y="348"/>
                  </a:lnTo>
                  <a:lnTo>
                    <a:pt x="174" y="3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716360" y="3891960"/>
              <a:ext cx="170280" cy="243360"/>
            </a:xfrm>
            <a:custGeom>
              <a:avLst/>
              <a:gdLst/>
              <a:ahLst/>
              <a:rect l="l" t="t" r="r" b="b"/>
              <a:pathLst>
                <a:path w="438" h="629">
                  <a:moveTo>
                    <a:pt x="0" y="629"/>
                  </a:moveTo>
                  <a:lnTo>
                    <a:pt x="345" y="0"/>
                  </a:lnTo>
                  <a:lnTo>
                    <a:pt x="438" y="0"/>
                  </a:lnTo>
                  <a:lnTo>
                    <a:pt x="93" y="629"/>
                  </a:lnTo>
                  <a:lnTo>
                    <a:pt x="0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"/>
          <p:cNvGrpSpPr/>
          <p:nvPr/>
        </p:nvGrpSpPr>
        <p:grpSpPr>
          <a:xfrm>
            <a:off x="2635200" y="990720"/>
            <a:ext cx="3902040" cy="836640"/>
            <a:chOff x="2635200" y="990720"/>
            <a:chExt cx="3902040" cy="836640"/>
          </a:xfrm>
        </p:grpSpPr>
        <p:sp>
          <p:nvSpPr>
            <p:cNvPr id="1919" name=""/>
            <p:cNvSpPr/>
            <p:nvPr/>
          </p:nvSpPr>
          <p:spPr>
            <a:xfrm>
              <a:off x="2925720" y="998640"/>
              <a:ext cx="246240" cy="328680"/>
            </a:xfrm>
            <a:custGeom>
              <a:avLst/>
              <a:gdLst/>
              <a:ahLst/>
              <a:rect l="l" t="t" r="r" b="b"/>
              <a:pathLst>
                <a:path w="773" h="1031">
                  <a:moveTo>
                    <a:pt x="266" y="756"/>
                  </a:moveTo>
                  <a:lnTo>
                    <a:pt x="292" y="753"/>
                  </a:lnTo>
                  <a:lnTo>
                    <a:pt x="316" y="748"/>
                  </a:lnTo>
                  <a:lnTo>
                    <a:pt x="339" y="741"/>
                  </a:lnTo>
                  <a:lnTo>
                    <a:pt x="360" y="732"/>
                  </a:lnTo>
                  <a:lnTo>
                    <a:pt x="370" y="727"/>
                  </a:lnTo>
                  <a:lnTo>
                    <a:pt x="380" y="722"/>
                  </a:lnTo>
                  <a:lnTo>
                    <a:pt x="389" y="715"/>
                  </a:lnTo>
                  <a:lnTo>
                    <a:pt x="399" y="709"/>
                  </a:lnTo>
                  <a:lnTo>
                    <a:pt x="407" y="703"/>
                  </a:lnTo>
                  <a:lnTo>
                    <a:pt x="415" y="695"/>
                  </a:lnTo>
                  <a:lnTo>
                    <a:pt x="424" y="688"/>
                  </a:lnTo>
                  <a:lnTo>
                    <a:pt x="432" y="680"/>
                  </a:lnTo>
                  <a:lnTo>
                    <a:pt x="440" y="671"/>
                  </a:lnTo>
                  <a:lnTo>
                    <a:pt x="447" y="663"/>
                  </a:lnTo>
                  <a:lnTo>
                    <a:pt x="453" y="653"/>
                  </a:lnTo>
                  <a:lnTo>
                    <a:pt x="459" y="644"/>
                  </a:lnTo>
                  <a:lnTo>
                    <a:pt x="465" y="635"/>
                  </a:lnTo>
                  <a:lnTo>
                    <a:pt x="470" y="625"/>
                  </a:lnTo>
                  <a:lnTo>
                    <a:pt x="474" y="616"/>
                  </a:lnTo>
                  <a:lnTo>
                    <a:pt x="478" y="605"/>
                  </a:lnTo>
                  <a:lnTo>
                    <a:pt x="486" y="584"/>
                  </a:lnTo>
                  <a:lnTo>
                    <a:pt x="490" y="562"/>
                  </a:lnTo>
                  <a:lnTo>
                    <a:pt x="493" y="538"/>
                  </a:lnTo>
                  <a:lnTo>
                    <a:pt x="494" y="514"/>
                  </a:lnTo>
                  <a:lnTo>
                    <a:pt x="493" y="488"/>
                  </a:lnTo>
                  <a:lnTo>
                    <a:pt x="490" y="462"/>
                  </a:lnTo>
                  <a:lnTo>
                    <a:pt x="488" y="451"/>
                  </a:lnTo>
                  <a:lnTo>
                    <a:pt x="486" y="439"/>
                  </a:lnTo>
                  <a:lnTo>
                    <a:pt x="483" y="428"/>
                  </a:lnTo>
                  <a:lnTo>
                    <a:pt x="478" y="416"/>
                  </a:lnTo>
                  <a:lnTo>
                    <a:pt x="474" y="406"/>
                  </a:lnTo>
                  <a:lnTo>
                    <a:pt x="470" y="395"/>
                  </a:lnTo>
                  <a:lnTo>
                    <a:pt x="465" y="385"/>
                  </a:lnTo>
                  <a:lnTo>
                    <a:pt x="458" y="375"/>
                  </a:lnTo>
                  <a:lnTo>
                    <a:pt x="452" y="366"/>
                  </a:lnTo>
                  <a:lnTo>
                    <a:pt x="446" y="356"/>
                  </a:lnTo>
                  <a:lnTo>
                    <a:pt x="438" y="347"/>
                  </a:lnTo>
                  <a:lnTo>
                    <a:pt x="431" y="338"/>
                  </a:lnTo>
                  <a:lnTo>
                    <a:pt x="423" y="330"/>
                  </a:lnTo>
                  <a:lnTo>
                    <a:pt x="414" y="322"/>
                  </a:lnTo>
                  <a:lnTo>
                    <a:pt x="406" y="315"/>
                  </a:lnTo>
                  <a:lnTo>
                    <a:pt x="398" y="308"/>
                  </a:lnTo>
                  <a:lnTo>
                    <a:pt x="388" y="302"/>
                  </a:lnTo>
                  <a:lnTo>
                    <a:pt x="379" y="296"/>
                  </a:lnTo>
                  <a:lnTo>
                    <a:pt x="368" y="291"/>
                  </a:lnTo>
                  <a:lnTo>
                    <a:pt x="359" y="286"/>
                  </a:lnTo>
                  <a:lnTo>
                    <a:pt x="348" y="282"/>
                  </a:lnTo>
                  <a:lnTo>
                    <a:pt x="337" y="279"/>
                  </a:lnTo>
                  <a:lnTo>
                    <a:pt x="326" y="275"/>
                  </a:lnTo>
                  <a:lnTo>
                    <a:pt x="315" y="272"/>
                  </a:lnTo>
                  <a:lnTo>
                    <a:pt x="292" y="269"/>
                  </a:lnTo>
                  <a:lnTo>
                    <a:pt x="266" y="267"/>
                  </a:lnTo>
                  <a:lnTo>
                    <a:pt x="266" y="756"/>
                  </a:lnTo>
                  <a:close/>
                  <a:moveTo>
                    <a:pt x="155" y="0"/>
                  </a:moveTo>
                  <a:lnTo>
                    <a:pt x="191" y="0"/>
                  </a:lnTo>
                  <a:lnTo>
                    <a:pt x="226" y="1"/>
                  </a:lnTo>
                  <a:lnTo>
                    <a:pt x="257" y="3"/>
                  </a:lnTo>
                  <a:lnTo>
                    <a:pt x="287" y="6"/>
                  </a:lnTo>
                  <a:lnTo>
                    <a:pt x="316" y="8"/>
                  </a:lnTo>
                  <a:lnTo>
                    <a:pt x="343" y="11"/>
                  </a:lnTo>
                  <a:lnTo>
                    <a:pt x="367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30"/>
                  </a:lnTo>
                  <a:lnTo>
                    <a:pt x="453" y="37"/>
                  </a:lnTo>
                  <a:lnTo>
                    <a:pt x="473" y="43"/>
                  </a:lnTo>
                  <a:lnTo>
                    <a:pt x="493" y="52"/>
                  </a:lnTo>
                  <a:lnTo>
                    <a:pt x="512" y="61"/>
                  </a:lnTo>
                  <a:lnTo>
                    <a:pt x="530" y="71"/>
                  </a:lnTo>
                  <a:lnTo>
                    <a:pt x="548" y="81"/>
                  </a:lnTo>
                  <a:lnTo>
                    <a:pt x="574" y="99"/>
                  </a:lnTo>
                  <a:lnTo>
                    <a:pt x="599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3" y="208"/>
                  </a:lnTo>
                  <a:lnTo>
                    <a:pt x="700" y="234"/>
                  </a:lnTo>
                  <a:lnTo>
                    <a:pt x="715" y="262"/>
                  </a:lnTo>
                  <a:lnTo>
                    <a:pt x="729" y="291"/>
                  </a:lnTo>
                  <a:lnTo>
                    <a:pt x="741" y="321"/>
                  </a:lnTo>
                  <a:lnTo>
                    <a:pt x="750" y="351"/>
                  </a:lnTo>
                  <a:lnTo>
                    <a:pt x="758" y="384"/>
                  </a:lnTo>
                  <a:lnTo>
                    <a:pt x="765" y="417"/>
                  </a:lnTo>
                  <a:lnTo>
                    <a:pt x="769" y="451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6"/>
                  </a:lnTo>
                  <a:lnTo>
                    <a:pt x="769" y="587"/>
                  </a:lnTo>
                  <a:lnTo>
                    <a:pt x="764" y="620"/>
                  </a:lnTo>
                  <a:lnTo>
                    <a:pt x="757" y="650"/>
                  </a:lnTo>
                  <a:lnTo>
                    <a:pt x="748" y="681"/>
                  </a:lnTo>
                  <a:lnTo>
                    <a:pt x="737" y="710"/>
                  </a:lnTo>
                  <a:lnTo>
                    <a:pt x="724" y="738"/>
                  </a:lnTo>
                  <a:lnTo>
                    <a:pt x="709" y="767"/>
                  </a:lnTo>
                  <a:lnTo>
                    <a:pt x="692" y="794"/>
                  </a:lnTo>
                  <a:lnTo>
                    <a:pt x="675" y="819"/>
                  </a:lnTo>
                  <a:lnTo>
                    <a:pt x="655" y="845"/>
                  </a:lnTo>
                  <a:lnTo>
                    <a:pt x="633" y="868"/>
                  </a:lnTo>
                  <a:lnTo>
                    <a:pt x="609" y="890"/>
                  </a:lnTo>
                  <a:lnTo>
                    <a:pt x="585" y="911"/>
                  </a:lnTo>
                  <a:lnTo>
                    <a:pt x="559" y="930"/>
                  </a:lnTo>
                  <a:lnTo>
                    <a:pt x="531" y="948"/>
                  </a:lnTo>
                  <a:lnTo>
                    <a:pt x="512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3" y="994"/>
                  </a:lnTo>
                  <a:lnTo>
                    <a:pt x="412" y="1000"/>
                  </a:lnTo>
                  <a:lnTo>
                    <a:pt x="391" y="1006"/>
                  </a:lnTo>
                  <a:lnTo>
                    <a:pt x="368" y="1011"/>
                  </a:lnTo>
                  <a:lnTo>
                    <a:pt x="345" y="1017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19716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2" y="287"/>
                  </a:moveTo>
                  <a:lnTo>
                    <a:pt x="509" y="287"/>
                  </a:lnTo>
                  <a:lnTo>
                    <a:pt x="496" y="288"/>
                  </a:lnTo>
                  <a:lnTo>
                    <a:pt x="484" y="290"/>
                  </a:lnTo>
                  <a:lnTo>
                    <a:pt x="472" y="291"/>
                  </a:lnTo>
                  <a:lnTo>
                    <a:pt x="460" y="294"/>
                  </a:lnTo>
                  <a:lnTo>
                    <a:pt x="449" y="297"/>
                  </a:lnTo>
                  <a:lnTo>
                    <a:pt x="437" y="300"/>
                  </a:lnTo>
                  <a:lnTo>
                    <a:pt x="426" y="306"/>
                  </a:lnTo>
                  <a:lnTo>
                    <a:pt x="415" y="310"/>
                  </a:lnTo>
                  <a:lnTo>
                    <a:pt x="405" y="315"/>
                  </a:lnTo>
                  <a:lnTo>
                    <a:pt x="394" y="321"/>
                  </a:lnTo>
                  <a:lnTo>
                    <a:pt x="385" y="328"/>
                  </a:lnTo>
                  <a:lnTo>
                    <a:pt x="375" y="335"/>
                  </a:lnTo>
                  <a:lnTo>
                    <a:pt x="366" y="343"/>
                  </a:lnTo>
                  <a:lnTo>
                    <a:pt x="356" y="352"/>
                  </a:lnTo>
                  <a:lnTo>
                    <a:pt x="347" y="360"/>
                  </a:lnTo>
                  <a:lnTo>
                    <a:pt x="339" y="370"/>
                  </a:lnTo>
                  <a:lnTo>
                    <a:pt x="330" y="379"/>
                  </a:lnTo>
                  <a:lnTo>
                    <a:pt x="323" y="390"/>
                  </a:lnTo>
                  <a:lnTo>
                    <a:pt x="317" y="399"/>
                  </a:lnTo>
                  <a:lnTo>
                    <a:pt x="310" y="410"/>
                  </a:lnTo>
                  <a:lnTo>
                    <a:pt x="304" y="420"/>
                  </a:lnTo>
                  <a:lnTo>
                    <a:pt x="299" y="432"/>
                  </a:lnTo>
                  <a:lnTo>
                    <a:pt x="295" y="443"/>
                  </a:lnTo>
                  <a:lnTo>
                    <a:pt x="290" y="455"/>
                  </a:lnTo>
                  <a:lnTo>
                    <a:pt x="287" y="466"/>
                  </a:lnTo>
                  <a:lnTo>
                    <a:pt x="284" y="478"/>
                  </a:lnTo>
                  <a:lnTo>
                    <a:pt x="281" y="490"/>
                  </a:lnTo>
                  <a:lnTo>
                    <a:pt x="279" y="503"/>
                  </a:lnTo>
                  <a:lnTo>
                    <a:pt x="278" y="516"/>
                  </a:lnTo>
                  <a:lnTo>
                    <a:pt x="277" y="529"/>
                  </a:lnTo>
                  <a:lnTo>
                    <a:pt x="277" y="542"/>
                  </a:lnTo>
                  <a:lnTo>
                    <a:pt x="277" y="555"/>
                  </a:lnTo>
                  <a:lnTo>
                    <a:pt x="278" y="569"/>
                  </a:lnTo>
                  <a:lnTo>
                    <a:pt x="279" y="582"/>
                  </a:lnTo>
                  <a:lnTo>
                    <a:pt x="281" y="594"/>
                  </a:lnTo>
                  <a:lnTo>
                    <a:pt x="284" y="607"/>
                  </a:lnTo>
                  <a:lnTo>
                    <a:pt x="286" y="618"/>
                  </a:lnTo>
                  <a:lnTo>
                    <a:pt x="290" y="631"/>
                  </a:lnTo>
                  <a:lnTo>
                    <a:pt x="295" y="643"/>
                  </a:lnTo>
                  <a:lnTo>
                    <a:pt x="299" y="653"/>
                  </a:lnTo>
                  <a:lnTo>
                    <a:pt x="304" y="665"/>
                  </a:lnTo>
                  <a:lnTo>
                    <a:pt x="310" y="675"/>
                  </a:lnTo>
                  <a:lnTo>
                    <a:pt x="317" y="686"/>
                  </a:lnTo>
                  <a:lnTo>
                    <a:pt x="323" y="695"/>
                  </a:lnTo>
                  <a:lnTo>
                    <a:pt x="330" y="706"/>
                  </a:lnTo>
                  <a:lnTo>
                    <a:pt x="339" y="715"/>
                  </a:lnTo>
                  <a:lnTo>
                    <a:pt x="347" y="725"/>
                  </a:lnTo>
                  <a:lnTo>
                    <a:pt x="355" y="733"/>
                  </a:lnTo>
                  <a:lnTo>
                    <a:pt x="365" y="741"/>
                  </a:lnTo>
                  <a:lnTo>
                    <a:pt x="374" y="749"/>
                  </a:lnTo>
                  <a:lnTo>
                    <a:pt x="384" y="756"/>
                  </a:lnTo>
                  <a:lnTo>
                    <a:pt x="394" y="763"/>
                  </a:lnTo>
                  <a:lnTo>
                    <a:pt x="405" y="769"/>
                  </a:lnTo>
                  <a:lnTo>
                    <a:pt x="415" y="774"/>
                  </a:lnTo>
                  <a:lnTo>
                    <a:pt x="426" y="779"/>
                  </a:lnTo>
                  <a:lnTo>
                    <a:pt x="437" y="783"/>
                  </a:lnTo>
                  <a:lnTo>
                    <a:pt x="448" y="788"/>
                  </a:lnTo>
                  <a:lnTo>
                    <a:pt x="459" y="791"/>
                  </a:lnTo>
                  <a:lnTo>
                    <a:pt x="472" y="793"/>
                  </a:lnTo>
                  <a:lnTo>
                    <a:pt x="483" y="795"/>
                  </a:lnTo>
                  <a:lnTo>
                    <a:pt x="496" y="796"/>
                  </a:lnTo>
                  <a:lnTo>
                    <a:pt x="509" y="797"/>
                  </a:lnTo>
                  <a:lnTo>
                    <a:pt x="522" y="797"/>
                  </a:lnTo>
                  <a:lnTo>
                    <a:pt x="535" y="797"/>
                  </a:lnTo>
                  <a:lnTo>
                    <a:pt x="547" y="796"/>
                  </a:lnTo>
                  <a:lnTo>
                    <a:pt x="560" y="795"/>
                  </a:lnTo>
                  <a:lnTo>
                    <a:pt x="571" y="793"/>
                  </a:lnTo>
                  <a:lnTo>
                    <a:pt x="584" y="791"/>
                  </a:lnTo>
                  <a:lnTo>
                    <a:pt x="596" y="788"/>
                  </a:lnTo>
                  <a:lnTo>
                    <a:pt x="606" y="783"/>
                  </a:lnTo>
                  <a:lnTo>
                    <a:pt x="618" y="779"/>
                  </a:lnTo>
                  <a:lnTo>
                    <a:pt x="628" y="774"/>
                  </a:lnTo>
                  <a:lnTo>
                    <a:pt x="639" y="769"/>
                  </a:lnTo>
                  <a:lnTo>
                    <a:pt x="649" y="762"/>
                  </a:lnTo>
                  <a:lnTo>
                    <a:pt x="660" y="756"/>
                  </a:lnTo>
                  <a:lnTo>
                    <a:pt x="669" y="749"/>
                  </a:lnTo>
                  <a:lnTo>
                    <a:pt x="678" y="741"/>
                  </a:lnTo>
                  <a:lnTo>
                    <a:pt x="688" y="733"/>
                  </a:lnTo>
                  <a:lnTo>
                    <a:pt x="696" y="723"/>
                  </a:lnTo>
                  <a:lnTo>
                    <a:pt x="705" y="715"/>
                  </a:lnTo>
                  <a:lnTo>
                    <a:pt x="713" y="705"/>
                  </a:lnTo>
                  <a:lnTo>
                    <a:pt x="720" y="695"/>
                  </a:lnTo>
                  <a:lnTo>
                    <a:pt x="728" y="685"/>
                  </a:lnTo>
                  <a:lnTo>
                    <a:pt x="734" y="674"/>
                  </a:lnTo>
                  <a:lnTo>
                    <a:pt x="739" y="664"/>
                  </a:lnTo>
                  <a:lnTo>
                    <a:pt x="745" y="653"/>
                  </a:lnTo>
                  <a:lnTo>
                    <a:pt x="750" y="642"/>
                  </a:lnTo>
                  <a:lnTo>
                    <a:pt x="753" y="630"/>
                  </a:lnTo>
                  <a:lnTo>
                    <a:pt x="757" y="618"/>
                  </a:lnTo>
                  <a:lnTo>
                    <a:pt x="760" y="607"/>
                  </a:lnTo>
                  <a:lnTo>
                    <a:pt x="762" y="594"/>
                  </a:lnTo>
                  <a:lnTo>
                    <a:pt x="764" y="582"/>
                  </a:lnTo>
                  <a:lnTo>
                    <a:pt x="766" y="569"/>
                  </a:lnTo>
                  <a:lnTo>
                    <a:pt x="767" y="555"/>
                  </a:lnTo>
                  <a:lnTo>
                    <a:pt x="767" y="542"/>
                  </a:lnTo>
                  <a:lnTo>
                    <a:pt x="767" y="529"/>
                  </a:lnTo>
                  <a:lnTo>
                    <a:pt x="766" y="516"/>
                  </a:lnTo>
                  <a:lnTo>
                    <a:pt x="764" y="503"/>
                  </a:lnTo>
                  <a:lnTo>
                    <a:pt x="762" y="490"/>
                  </a:lnTo>
                  <a:lnTo>
                    <a:pt x="760" y="479"/>
                  </a:lnTo>
                  <a:lnTo>
                    <a:pt x="757" y="466"/>
                  </a:lnTo>
                  <a:lnTo>
                    <a:pt x="753" y="455"/>
                  </a:lnTo>
                  <a:lnTo>
                    <a:pt x="750" y="443"/>
                  </a:lnTo>
                  <a:lnTo>
                    <a:pt x="745" y="432"/>
                  </a:lnTo>
                  <a:lnTo>
                    <a:pt x="739" y="421"/>
                  </a:lnTo>
                  <a:lnTo>
                    <a:pt x="734" y="411"/>
                  </a:lnTo>
                  <a:lnTo>
                    <a:pt x="728" y="400"/>
                  </a:lnTo>
                  <a:lnTo>
                    <a:pt x="720" y="390"/>
                  </a:lnTo>
                  <a:lnTo>
                    <a:pt x="713" y="380"/>
                  </a:lnTo>
                  <a:lnTo>
                    <a:pt x="705" y="371"/>
                  </a:lnTo>
                  <a:lnTo>
                    <a:pt x="696" y="361"/>
                  </a:lnTo>
                  <a:lnTo>
                    <a:pt x="688" y="352"/>
                  </a:lnTo>
                  <a:lnTo>
                    <a:pt x="678" y="343"/>
                  </a:lnTo>
                  <a:lnTo>
                    <a:pt x="669" y="336"/>
                  </a:lnTo>
                  <a:lnTo>
                    <a:pt x="660" y="329"/>
                  </a:lnTo>
                  <a:lnTo>
                    <a:pt x="649" y="321"/>
                  </a:lnTo>
                  <a:lnTo>
                    <a:pt x="639" y="316"/>
                  </a:lnTo>
                  <a:lnTo>
                    <a:pt x="628" y="310"/>
                  </a:lnTo>
                  <a:lnTo>
                    <a:pt x="618" y="306"/>
                  </a:lnTo>
                  <a:lnTo>
                    <a:pt x="606" y="301"/>
                  </a:lnTo>
                  <a:lnTo>
                    <a:pt x="596" y="297"/>
                  </a:lnTo>
                  <a:lnTo>
                    <a:pt x="584" y="294"/>
                  </a:lnTo>
                  <a:lnTo>
                    <a:pt x="571" y="291"/>
                  </a:lnTo>
                  <a:lnTo>
                    <a:pt x="560" y="290"/>
                  </a:lnTo>
                  <a:lnTo>
                    <a:pt x="547" y="288"/>
                  </a:lnTo>
                  <a:lnTo>
                    <a:pt x="535" y="287"/>
                  </a:lnTo>
                  <a:lnTo>
                    <a:pt x="522" y="287"/>
                  </a:lnTo>
                  <a:close/>
                  <a:moveTo>
                    <a:pt x="520" y="0"/>
                  </a:moveTo>
                  <a:lnTo>
                    <a:pt x="545" y="1"/>
                  </a:lnTo>
                  <a:lnTo>
                    <a:pt x="568" y="2"/>
                  </a:lnTo>
                  <a:lnTo>
                    <a:pt x="592" y="5"/>
                  </a:lnTo>
                  <a:lnTo>
                    <a:pt x="616" y="8"/>
                  </a:lnTo>
                  <a:lnTo>
                    <a:pt x="639" y="13"/>
                  </a:lnTo>
                  <a:lnTo>
                    <a:pt x="662" y="19"/>
                  </a:lnTo>
                  <a:lnTo>
                    <a:pt x="684" y="25"/>
                  </a:lnTo>
                  <a:lnTo>
                    <a:pt x="707" y="34"/>
                  </a:lnTo>
                  <a:lnTo>
                    <a:pt x="728" y="42"/>
                  </a:lnTo>
                  <a:lnTo>
                    <a:pt x="749" y="51"/>
                  </a:lnTo>
                  <a:lnTo>
                    <a:pt x="770" y="62"/>
                  </a:lnTo>
                  <a:lnTo>
                    <a:pt x="789" y="74"/>
                  </a:lnTo>
                  <a:lnTo>
                    <a:pt x="807" y="86"/>
                  </a:lnTo>
                  <a:lnTo>
                    <a:pt x="826" y="99"/>
                  </a:lnTo>
                  <a:lnTo>
                    <a:pt x="843" y="113"/>
                  </a:lnTo>
                  <a:lnTo>
                    <a:pt x="860" y="128"/>
                  </a:lnTo>
                  <a:lnTo>
                    <a:pt x="882" y="149"/>
                  </a:lnTo>
                  <a:lnTo>
                    <a:pt x="902" y="170"/>
                  </a:lnTo>
                  <a:lnTo>
                    <a:pt x="921" y="193"/>
                  </a:lnTo>
                  <a:lnTo>
                    <a:pt x="939" y="215"/>
                  </a:lnTo>
                  <a:lnTo>
                    <a:pt x="955" y="239"/>
                  </a:lnTo>
                  <a:lnTo>
                    <a:pt x="970" y="265"/>
                  </a:lnTo>
                  <a:lnTo>
                    <a:pt x="984" y="290"/>
                  </a:lnTo>
                  <a:lnTo>
                    <a:pt x="996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5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0" y="484"/>
                  </a:lnTo>
                  <a:lnTo>
                    <a:pt x="1042" y="513"/>
                  </a:lnTo>
                  <a:lnTo>
                    <a:pt x="1044" y="543"/>
                  </a:lnTo>
                  <a:lnTo>
                    <a:pt x="1042" y="572"/>
                  </a:lnTo>
                  <a:lnTo>
                    <a:pt x="1040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5" y="687"/>
                  </a:lnTo>
                  <a:lnTo>
                    <a:pt x="1016" y="715"/>
                  </a:lnTo>
                  <a:lnTo>
                    <a:pt x="1007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4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2" y="938"/>
                  </a:lnTo>
                  <a:lnTo>
                    <a:pt x="860" y="958"/>
                  </a:lnTo>
                  <a:lnTo>
                    <a:pt x="843" y="973"/>
                  </a:lnTo>
                  <a:lnTo>
                    <a:pt x="825" y="987"/>
                  </a:lnTo>
                  <a:lnTo>
                    <a:pt x="806" y="1001"/>
                  </a:lnTo>
                  <a:lnTo>
                    <a:pt x="788" y="1013"/>
                  </a:lnTo>
                  <a:lnTo>
                    <a:pt x="768" y="1025"/>
                  </a:lnTo>
                  <a:lnTo>
                    <a:pt x="748" y="1035"/>
                  </a:lnTo>
                  <a:lnTo>
                    <a:pt x="727" y="1045"/>
                  </a:lnTo>
                  <a:lnTo>
                    <a:pt x="706" y="1053"/>
                  </a:lnTo>
                  <a:lnTo>
                    <a:pt x="683" y="1061"/>
                  </a:lnTo>
                  <a:lnTo>
                    <a:pt x="661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2" y="1082"/>
                  </a:lnTo>
                  <a:lnTo>
                    <a:pt x="568" y="1085"/>
                  </a:lnTo>
                  <a:lnTo>
                    <a:pt x="544" y="1086"/>
                  </a:lnTo>
                  <a:lnTo>
                    <a:pt x="520" y="1087"/>
                  </a:lnTo>
                  <a:lnTo>
                    <a:pt x="496" y="1086"/>
                  </a:lnTo>
                  <a:lnTo>
                    <a:pt x="473" y="1085"/>
                  </a:lnTo>
                  <a:lnTo>
                    <a:pt x="449" y="1082"/>
                  </a:lnTo>
                  <a:lnTo>
                    <a:pt x="426" y="1078"/>
                  </a:lnTo>
                  <a:lnTo>
                    <a:pt x="403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4" y="1045"/>
                  </a:lnTo>
                  <a:lnTo>
                    <a:pt x="295" y="1035"/>
                  </a:lnTo>
                  <a:lnTo>
                    <a:pt x="274" y="1025"/>
                  </a:lnTo>
                  <a:lnTo>
                    <a:pt x="254" y="1013"/>
                  </a:lnTo>
                  <a:lnTo>
                    <a:pt x="235" y="1001"/>
                  </a:lnTo>
                  <a:lnTo>
                    <a:pt x="217" y="987"/>
                  </a:lnTo>
                  <a:lnTo>
                    <a:pt x="198" y="973"/>
                  </a:lnTo>
                  <a:lnTo>
                    <a:pt x="181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4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60" y="797"/>
                  </a:lnTo>
                  <a:lnTo>
                    <a:pt x="47" y="770"/>
                  </a:lnTo>
                  <a:lnTo>
                    <a:pt x="35" y="743"/>
                  </a:lnTo>
                  <a:lnTo>
                    <a:pt x="26" y="715"/>
                  </a:lnTo>
                  <a:lnTo>
                    <a:pt x="18" y="688"/>
                  </a:lnTo>
                  <a:lnTo>
                    <a:pt x="11" y="659"/>
                  </a:lnTo>
                  <a:lnTo>
                    <a:pt x="6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6" y="455"/>
                  </a:lnTo>
                  <a:lnTo>
                    <a:pt x="11" y="426"/>
                  </a:lnTo>
                  <a:lnTo>
                    <a:pt x="18" y="398"/>
                  </a:lnTo>
                  <a:lnTo>
                    <a:pt x="26" y="370"/>
                  </a:lnTo>
                  <a:lnTo>
                    <a:pt x="35" y="342"/>
                  </a:lnTo>
                  <a:lnTo>
                    <a:pt x="46" y="315"/>
                  </a:lnTo>
                  <a:lnTo>
                    <a:pt x="59" y="289"/>
                  </a:lnTo>
                  <a:lnTo>
                    <a:pt x="72" y="264"/>
                  </a:lnTo>
                  <a:lnTo>
                    <a:pt x="87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39" y="170"/>
                  </a:lnTo>
                  <a:lnTo>
                    <a:pt x="160" y="149"/>
                  </a:lnTo>
                  <a:lnTo>
                    <a:pt x="181" y="128"/>
                  </a:lnTo>
                  <a:lnTo>
                    <a:pt x="198" y="113"/>
                  </a:lnTo>
                  <a:lnTo>
                    <a:pt x="217" y="99"/>
                  </a:lnTo>
                  <a:lnTo>
                    <a:pt x="235" y="85"/>
                  </a:lnTo>
                  <a:lnTo>
                    <a:pt x="254" y="74"/>
                  </a:lnTo>
                  <a:lnTo>
                    <a:pt x="274" y="62"/>
                  </a:lnTo>
                  <a:lnTo>
                    <a:pt x="295" y="51"/>
                  </a:lnTo>
                  <a:lnTo>
                    <a:pt x="314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3" y="13"/>
                  </a:lnTo>
                  <a:lnTo>
                    <a:pt x="426" y="8"/>
                  </a:lnTo>
                  <a:lnTo>
                    <a:pt x="449" y="4"/>
                  </a:lnTo>
                  <a:lnTo>
                    <a:pt x="473" y="2"/>
                  </a:lnTo>
                  <a:lnTo>
                    <a:pt x="496" y="1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99000" y="998640"/>
              <a:ext cx="242640" cy="328680"/>
            </a:xfrm>
            <a:custGeom>
              <a:avLst/>
              <a:gdLst/>
              <a:ahLst/>
              <a:rect l="l" t="t" r="r" b="b"/>
              <a:pathLst>
                <a:path w="765" h="1031">
                  <a:moveTo>
                    <a:pt x="0" y="103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500" y="452"/>
                  </a:lnTo>
                  <a:lnTo>
                    <a:pt x="500" y="0"/>
                  </a:lnTo>
                  <a:lnTo>
                    <a:pt x="765" y="0"/>
                  </a:lnTo>
                  <a:lnTo>
                    <a:pt x="765" y="1031"/>
                  </a:lnTo>
                  <a:lnTo>
                    <a:pt x="645" y="1031"/>
                  </a:lnTo>
                  <a:lnTo>
                    <a:pt x="266" y="584"/>
                  </a:lnTo>
                  <a:lnTo>
                    <a:pt x="266" y="1031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8304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5" h="1087">
                  <a:moveTo>
                    <a:pt x="523" y="287"/>
                  </a:moveTo>
                  <a:lnTo>
                    <a:pt x="510" y="287"/>
                  </a:lnTo>
                  <a:lnTo>
                    <a:pt x="498" y="288"/>
                  </a:lnTo>
                  <a:lnTo>
                    <a:pt x="485" y="290"/>
                  </a:lnTo>
                  <a:lnTo>
                    <a:pt x="473" y="291"/>
                  </a:lnTo>
                  <a:lnTo>
                    <a:pt x="461" y="294"/>
                  </a:lnTo>
                  <a:lnTo>
                    <a:pt x="449" y="297"/>
                  </a:lnTo>
                  <a:lnTo>
                    <a:pt x="438" y="300"/>
                  </a:lnTo>
                  <a:lnTo>
                    <a:pt x="427" y="306"/>
                  </a:lnTo>
                  <a:lnTo>
                    <a:pt x="417" y="310"/>
                  </a:lnTo>
                  <a:lnTo>
                    <a:pt x="406" y="315"/>
                  </a:lnTo>
                  <a:lnTo>
                    <a:pt x="396" y="321"/>
                  </a:lnTo>
                  <a:lnTo>
                    <a:pt x="385" y="328"/>
                  </a:lnTo>
                  <a:lnTo>
                    <a:pt x="376" y="335"/>
                  </a:lnTo>
                  <a:lnTo>
                    <a:pt x="366" y="343"/>
                  </a:lnTo>
                  <a:lnTo>
                    <a:pt x="357" y="352"/>
                  </a:lnTo>
                  <a:lnTo>
                    <a:pt x="349" y="360"/>
                  </a:lnTo>
                  <a:lnTo>
                    <a:pt x="340" y="370"/>
                  </a:lnTo>
                  <a:lnTo>
                    <a:pt x="332" y="379"/>
                  </a:lnTo>
                  <a:lnTo>
                    <a:pt x="324" y="390"/>
                  </a:lnTo>
                  <a:lnTo>
                    <a:pt x="317" y="399"/>
                  </a:lnTo>
                  <a:lnTo>
                    <a:pt x="311" y="410"/>
                  </a:lnTo>
                  <a:lnTo>
                    <a:pt x="306" y="420"/>
                  </a:lnTo>
                  <a:lnTo>
                    <a:pt x="300" y="432"/>
                  </a:lnTo>
                  <a:lnTo>
                    <a:pt x="295" y="443"/>
                  </a:lnTo>
                  <a:lnTo>
                    <a:pt x="291" y="455"/>
                  </a:lnTo>
                  <a:lnTo>
                    <a:pt x="288" y="466"/>
                  </a:lnTo>
                  <a:lnTo>
                    <a:pt x="285" y="478"/>
                  </a:lnTo>
                  <a:lnTo>
                    <a:pt x="282" y="490"/>
                  </a:lnTo>
                  <a:lnTo>
                    <a:pt x="280" y="503"/>
                  </a:lnTo>
                  <a:lnTo>
                    <a:pt x="279" y="516"/>
                  </a:lnTo>
                  <a:lnTo>
                    <a:pt x="278" y="529"/>
                  </a:lnTo>
                  <a:lnTo>
                    <a:pt x="278" y="542"/>
                  </a:lnTo>
                  <a:lnTo>
                    <a:pt x="278" y="555"/>
                  </a:lnTo>
                  <a:lnTo>
                    <a:pt x="279" y="569"/>
                  </a:lnTo>
                  <a:lnTo>
                    <a:pt x="280" y="582"/>
                  </a:lnTo>
                  <a:lnTo>
                    <a:pt x="282" y="594"/>
                  </a:lnTo>
                  <a:lnTo>
                    <a:pt x="285" y="607"/>
                  </a:lnTo>
                  <a:lnTo>
                    <a:pt x="288" y="618"/>
                  </a:lnTo>
                  <a:lnTo>
                    <a:pt x="291" y="631"/>
                  </a:lnTo>
                  <a:lnTo>
                    <a:pt x="295" y="643"/>
                  </a:lnTo>
                  <a:lnTo>
                    <a:pt x="300" y="653"/>
                  </a:lnTo>
                  <a:lnTo>
                    <a:pt x="306" y="665"/>
                  </a:lnTo>
                  <a:lnTo>
                    <a:pt x="311" y="675"/>
                  </a:lnTo>
                  <a:lnTo>
                    <a:pt x="317" y="686"/>
                  </a:lnTo>
                  <a:lnTo>
                    <a:pt x="324" y="695"/>
                  </a:lnTo>
                  <a:lnTo>
                    <a:pt x="332" y="706"/>
                  </a:lnTo>
                  <a:lnTo>
                    <a:pt x="339" y="715"/>
                  </a:lnTo>
                  <a:lnTo>
                    <a:pt x="349" y="725"/>
                  </a:lnTo>
                  <a:lnTo>
                    <a:pt x="357" y="733"/>
                  </a:lnTo>
                  <a:lnTo>
                    <a:pt x="366" y="741"/>
                  </a:lnTo>
                  <a:lnTo>
                    <a:pt x="376" y="749"/>
                  </a:lnTo>
                  <a:lnTo>
                    <a:pt x="385" y="756"/>
                  </a:lnTo>
                  <a:lnTo>
                    <a:pt x="395" y="763"/>
                  </a:lnTo>
                  <a:lnTo>
                    <a:pt x="405" y="769"/>
                  </a:lnTo>
                  <a:lnTo>
                    <a:pt x="416" y="774"/>
                  </a:lnTo>
                  <a:lnTo>
                    <a:pt x="427" y="779"/>
                  </a:lnTo>
                  <a:lnTo>
                    <a:pt x="438" y="783"/>
                  </a:lnTo>
                  <a:lnTo>
                    <a:pt x="449" y="788"/>
                  </a:lnTo>
                  <a:lnTo>
                    <a:pt x="461" y="791"/>
                  </a:lnTo>
                  <a:lnTo>
                    <a:pt x="472" y="793"/>
                  </a:lnTo>
                  <a:lnTo>
                    <a:pt x="485" y="795"/>
                  </a:lnTo>
                  <a:lnTo>
                    <a:pt x="498" y="796"/>
                  </a:lnTo>
                  <a:lnTo>
                    <a:pt x="510" y="797"/>
                  </a:lnTo>
                  <a:lnTo>
                    <a:pt x="523" y="797"/>
                  </a:lnTo>
                  <a:lnTo>
                    <a:pt x="535" y="797"/>
                  </a:lnTo>
                  <a:lnTo>
                    <a:pt x="549" y="796"/>
                  </a:lnTo>
                  <a:lnTo>
                    <a:pt x="560" y="795"/>
                  </a:lnTo>
                  <a:lnTo>
                    <a:pt x="573" y="793"/>
                  </a:lnTo>
                  <a:lnTo>
                    <a:pt x="585" y="791"/>
                  </a:lnTo>
                  <a:lnTo>
                    <a:pt x="596" y="788"/>
                  </a:lnTo>
                  <a:lnTo>
                    <a:pt x="608" y="783"/>
                  </a:lnTo>
                  <a:lnTo>
                    <a:pt x="618" y="779"/>
                  </a:lnTo>
                  <a:lnTo>
                    <a:pt x="630" y="774"/>
                  </a:lnTo>
                  <a:lnTo>
                    <a:pt x="640" y="769"/>
                  </a:lnTo>
                  <a:lnTo>
                    <a:pt x="651" y="762"/>
                  </a:lnTo>
                  <a:lnTo>
                    <a:pt x="660" y="756"/>
                  </a:lnTo>
                  <a:lnTo>
                    <a:pt x="670" y="749"/>
                  </a:lnTo>
                  <a:lnTo>
                    <a:pt x="679" y="741"/>
                  </a:lnTo>
                  <a:lnTo>
                    <a:pt x="688" y="733"/>
                  </a:lnTo>
                  <a:lnTo>
                    <a:pt x="698" y="723"/>
                  </a:lnTo>
                  <a:lnTo>
                    <a:pt x="706" y="715"/>
                  </a:lnTo>
                  <a:lnTo>
                    <a:pt x="714" y="705"/>
                  </a:lnTo>
                  <a:lnTo>
                    <a:pt x="721" y="695"/>
                  </a:lnTo>
                  <a:lnTo>
                    <a:pt x="728" y="685"/>
                  </a:lnTo>
                  <a:lnTo>
                    <a:pt x="735" y="674"/>
                  </a:lnTo>
                  <a:lnTo>
                    <a:pt x="741" y="664"/>
                  </a:lnTo>
                  <a:lnTo>
                    <a:pt x="746" y="653"/>
                  </a:lnTo>
                  <a:lnTo>
                    <a:pt x="750" y="642"/>
                  </a:lnTo>
                  <a:lnTo>
                    <a:pt x="755" y="630"/>
                  </a:lnTo>
                  <a:lnTo>
                    <a:pt x="758" y="618"/>
                  </a:lnTo>
                  <a:lnTo>
                    <a:pt x="761" y="607"/>
                  </a:lnTo>
                  <a:lnTo>
                    <a:pt x="764" y="594"/>
                  </a:lnTo>
                  <a:lnTo>
                    <a:pt x="765" y="582"/>
                  </a:lnTo>
                  <a:lnTo>
                    <a:pt x="767" y="569"/>
                  </a:lnTo>
                  <a:lnTo>
                    <a:pt x="768" y="555"/>
                  </a:lnTo>
                  <a:lnTo>
                    <a:pt x="768" y="542"/>
                  </a:lnTo>
                  <a:lnTo>
                    <a:pt x="768" y="529"/>
                  </a:lnTo>
                  <a:lnTo>
                    <a:pt x="767" y="516"/>
                  </a:lnTo>
                  <a:lnTo>
                    <a:pt x="765" y="503"/>
                  </a:lnTo>
                  <a:lnTo>
                    <a:pt x="764" y="490"/>
                  </a:lnTo>
                  <a:lnTo>
                    <a:pt x="761" y="479"/>
                  </a:lnTo>
                  <a:lnTo>
                    <a:pt x="758" y="466"/>
                  </a:lnTo>
                  <a:lnTo>
                    <a:pt x="755" y="455"/>
                  </a:lnTo>
                  <a:lnTo>
                    <a:pt x="750" y="443"/>
                  </a:lnTo>
                  <a:lnTo>
                    <a:pt x="746" y="432"/>
                  </a:lnTo>
                  <a:lnTo>
                    <a:pt x="741" y="421"/>
                  </a:lnTo>
                  <a:lnTo>
                    <a:pt x="735" y="411"/>
                  </a:lnTo>
                  <a:lnTo>
                    <a:pt x="728" y="400"/>
                  </a:lnTo>
                  <a:lnTo>
                    <a:pt x="721" y="390"/>
                  </a:lnTo>
                  <a:lnTo>
                    <a:pt x="714" y="380"/>
                  </a:lnTo>
                  <a:lnTo>
                    <a:pt x="706" y="371"/>
                  </a:lnTo>
                  <a:lnTo>
                    <a:pt x="698" y="361"/>
                  </a:lnTo>
                  <a:lnTo>
                    <a:pt x="688" y="352"/>
                  </a:lnTo>
                  <a:lnTo>
                    <a:pt x="679" y="343"/>
                  </a:lnTo>
                  <a:lnTo>
                    <a:pt x="670" y="336"/>
                  </a:lnTo>
                  <a:lnTo>
                    <a:pt x="660" y="329"/>
                  </a:lnTo>
                  <a:lnTo>
                    <a:pt x="651" y="321"/>
                  </a:lnTo>
                  <a:lnTo>
                    <a:pt x="640" y="316"/>
                  </a:lnTo>
                  <a:lnTo>
                    <a:pt x="630" y="310"/>
                  </a:lnTo>
                  <a:lnTo>
                    <a:pt x="618" y="306"/>
                  </a:lnTo>
                  <a:lnTo>
                    <a:pt x="608" y="301"/>
                  </a:lnTo>
                  <a:lnTo>
                    <a:pt x="596" y="297"/>
                  </a:lnTo>
                  <a:lnTo>
                    <a:pt x="585" y="294"/>
                  </a:lnTo>
                  <a:lnTo>
                    <a:pt x="573" y="291"/>
                  </a:lnTo>
                  <a:lnTo>
                    <a:pt x="560" y="290"/>
                  </a:lnTo>
                  <a:lnTo>
                    <a:pt x="549" y="288"/>
                  </a:lnTo>
                  <a:lnTo>
                    <a:pt x="535" y="287"/>
                  </a:lnTo>
                  <a:lnTo>
                    <a:pt x="523" y="287"/>
                  </a:lnTo>
                  <a:close/>
                  <a:moveTo>
                    <a:pt x="522" y="0"/>
                  </a:moveTo>
                  <a:lnTo>
                    <a:pt x="546" y="1"/>
                  </a:lnTo>
                  <a:lnTo>
                    <a:pt x="570" y="2"/>
                  </a:lnTo>
                  <a:lnTo>
                    <a:pt x="594" y="5"/>
                  </a:lnTo>
                  <a:lnTo>
                    <a:pt x="617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9" y="86"/>
                  </a:lnTo>
                  <a:lnTo>
                    <a:pt x="827" y="99"/>
                  </a:lnTo>
                  <a:lnTo>
                    <a:pt x="845" y="113"/>
                  </a:lnTo>
                  <a:lnTo>
                    <a:pt x="862" y="128"/>
                  </a:lnTo>
                  <a:lnTo>
                    <a:pt x="883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6" y="239"/>
                  </a:lnTo>
                  <a:lnTo>
                    <a:pt x="972" y="265"/>
                  </a:lnTo>
                  <a:lnTo>
                    <a:pt x="985" y="290"/>
                  </a:lnTo>
                  <a:lnTo>
                    <a:pt x="998" y="316"/>
                  </a:lnTo>
                  <a:lnTo>
                    <a:pt x="1008" y="343"/>
                  </a:lnTo>
                  <a:lnTo>
                    <a:pt x="1018" y="371"/>
                  </a:lnTo>
                  <a:lnTo>
                    <a:pt x="1026" y="398"/>
                  </a:lnTo>
                  <a:lnTo>
                    <a:pt x="1033" y="426"/>
                  </a:lnTo>
                  <a:lnTo>
                    <a:pt x="1038" y="455"/>
                  </a:lnTo>
                  <a:lnTo>
                    <a:pt x="1042" y="484"/>
                  </a:lnTo>
                  <a:lnTo>
                    <a:pt x="1044" y="513"/>
                  </a:lnTo>
                  <a:lnTo>
                    <a:pt x="1045" y="543"/>
                  </a:lnTo>
                  <a:lnTo>
                    <a:pt x="1044" y="572"/>
                  </a:lnTo>
                  <a:lnTo>
                    <a:pt x="1042" y="602"/>
                  </a:lnTo>
                  <a:lnTo>
                    <a:pt x="1038" y="630"/>
                  </a:lnTo>
                  <a:lnTo>
                    <a:pt x="1033" y="658"/>
                  </a:lnTo>
                  <a:lnTo>
                    <a:pt x="1026" y="687"/>
                  </a:lnTo>
                  <a:lnTo>
                    <a:pt x="1018" y="715"/>
                  </a:lnTo>
                  <a:lnTo>
                    <a:pt x="1008" y="742"/>
                  </a:lnTo>
                  <a:lnTo>
                    <a:pt x="997" y="770"/>
                  </a:lnTo>
                  <a:lnTo>
                    <a:pt x="984" y="796"/>
                  </a:lnTo>
                  <a:lnTo>
                    <a:pt x="971" y="821"/>
                  </a:lnTo>
                  <a:lnTo>
                    <a:pt x="956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3" y="938"/>
                  </a:lnTo>
                  <a:lnTo>
                    <a:pt x="862" y="958"/>
                  </a:lnTo>
                  <a:lnTo>
                    <a:pt x="845" y="973"/>
                  </a:lnTo>
                  <a:lnTo>
                    <a:pt x="827" y="987"/>
                  </a:lnTo>
                  <a:lnTo>
                    <a:pt x="808" y="1001"/>
                  </a:lnTo>
                  <a:lnTo>
                    <a:pt x="789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3" y="1082"/>
                  </a:lnTo>
                  <a:lnTo>
                    <a:pt x="570" y="1085"/>
                  </a:lnTo>
                  <a:lnTo>
                    <a:pt x="546" y="1086"/>
                  </a:lnTo>
                  <a:lnTo>
                    <a:pt x="522" y="1087"/>
                  </a:lnTo>
                  <a:lnTo>
                    <a:pt x="498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6" y="1045"/>
                  </a:lnTo>
                  <a:lnTo>
                    <a:pt x="295" y="1035"/>
                  </a:lnTo>
                  <a:lnTo>
                    <a:pt x="275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200" y="973"/>
                  </a:lnTo>
                  <a:lnTo>
                    <a:pt x="183" y="958"/>
                  </a:lnTo>
                  <a:lnTo>
                    <a:pt x="161" y="938"/>
                  </a:lnTo>
                  <a:lnTo>
                    <a:pt x="141" y="917"/>
                  </a:lnTo>
                  <a:lnTo>
                    <a:pt x="122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4" y="822"/>
                  </a:lnTo>
                  <a:lnTo>
                    <a:pt x="60" y="797"/>
                  </a:lnTo>
                  <a:lnTo>
                    <a:pt x="48" y="770"/>
                  </a:lnTo>
                  <a:lnTo>
                    <a:pt x="37" y="743"/>
                  </a:lnTo>
                  <a:lnTo>
                    <a:pt x="28" y="715"/>
                  </a:lnTo>
                  <a:lnTo>
                    <a:pt x="19" y="688"/>
                  </a:lnTo>
                  <a:lnTo>
                    <a:pt x="13" y="659"/>
                  </a:lnTo>
                  <a:lnTo>
                    <a:pt x="8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8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7" y="370"/>
                  </a:lnTo>
                  <a:lnTo>
                    <a:pt x="37" y="342"/>
                  </a:lnTo>
                  <a:lnTo>
                    <a:pt x="48" y="315"/>
                  </a:lnTo>
                  <a:lnTo>
                    <a:pt x="60" y="289"/>
                  </a:lnTo>
                  <a:lnTo>
                    <a:pt x="74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2" y="192"/>
                  </a:lnTo>
                  <a:lnTo>
                    <a:pt x="141" y="170"/>
                  </a:lnTo>
                  <a:lnTo>
                    <a:pt x="161" y="149"/>
                  </a:lnTo>
                  <a:lnTo>
                    <a:pt x="183" y="128"/>
                  </a:lnTo>
                  <a:lnTo>
                    <a:pt x="200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5" y="62"/>
                  </a:lnTo>
                  <a:lnTo>
                    <a:pt x="295" y="51"/>
                  </a:lnTo>
                  <a:lnTo>
                    <a:pt x="316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8" y="1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27560" y="998640"/>
              <a:ext cx="217440" cy="328680"/>
            </a:xfrm>
            <a:custGeom>
              <a:avLst/>
              <a:gdLst/>
              <a:ahLst/>
              <a:rect l="l" t="t" r="r" b="b"/>
              <a:pathLst>
                <a:path w="686" h="1031">
                  <a:moveTo>
                    <a:pt x="477" y="261"/>
                  </a:moveTo>
                  <a:lnTo>
                    <a:pt x="477" y="1031"/>
                  </a:lnTo>
                  <a:lnTo>
                    <a:pt x="209" y="1031"/>
                  </a:lnTo>
                  <a:lnTo>
                    <a:pt x="209" y="261"/>
                  </a:lnTo>
                  <a:lnTo>
                    <a:pt x="0" y="261"/>
                  </a:lnTo>
                  <a:lnTo>
                    <a:pt x="27" y="0"/>
                  </a:lnTo>
                  <a:lnTo>
                    <a:pt x="657" y="0"/>
                  </a:lnTo>
                  <a:lnTo>
                    <a:pt x="686" y="261"/>
                  </a:lnTo>
                  <a:lnTo>
                    <a:pt x="477" y="2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702320" y="998640"/>
              <a:ext cx="218880" cy="336600"/>
            </a:xfrm>
            <a:custGeom>
              <a:avLst/>
              <a:gdLst/>
              <a:ahLst/>
              <a:rect l="l" t="t" r="r" b="b"/>
              <a:pathLst>
                <a:path w="693" h="1060">
                  <a:moveTo>
                    <a:pt x="426" y="625"/>
                  </a:moveTo>
                  <a:lnTo>
                    <a:pt x="426" y="0"/>
                  </a:lnTo>
                  <a:lnTo>
                    <a:pt x="693" y="0"/>
                  </a:lnTo>
                  <a:lnTo>
                    <a:pt x="693" y="625"/>
                  </a:lnTo>
                  <a:lnTo>
                    <a:pt x="692" y="660"/>
                  </a:lnTo>
                  <a:lnTo>
                    <a:pt x="691" y="692"/>
                  </a:lnTo>
                  <a:lnTo>
                    <a:pt x="690" y="724"/>
                  </a:lnTo>
                  <a:lnTo>
                    <a:pt x="688" y="751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2" y="842"/>
                  </a:lnTo>
                  <a:lnTo>
                    <a:pt x="667" y="859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9"/>
                  </a:lnTo>
                  <a:lnTo>
                    <a:pt x="636" y="924"/>
                  </a:lnTo>
                  <a:lnTo>
                    <a:pt x="626" y="939"/>
                  </a:lnTo>
                  <a:lnTo>
                    <a:pt x="616" y="953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6"/>
                  </a:lnTo>
                  <a:lnTo>
                    <a:pt x="555" y="1005"/>
                  </a:lnTo>
                  <a:lnTo>
                    <a:pt x="541" y="1014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5"/>
                  </a:lnTo>
                  <a:lnTo>
                    <a:pt x="476" y="1041"/>
                  </a:lnTo>
                  <a:lnTo>
                    <a:pt x="460" y="1045"/>
                  </a:lnTo>
                  <a:lnTo>
                    <a:pt x="442" y="1049"/>
                  </a:lnTo>
                  <a:lnTo>
                    <a:pt x="423" y="1053"/>
                  </a:lnTo>
                  <a:lnTo>
                    <a:pt x="405" y="1056"/>
                  </a:lnTo>
                  <a:lnTo>
                    <a:pt x="386" y="1058"/>
                  </a:lnTo>
                  <a:lnTo>
                    <a:pt x="366" y="1059"/>
                  </a:lnTo>
                  <a:lnTo>
                    <a:pt x="346" y="1060"/>
                  </a:lnTo>
                  <a:lnTo>
                    <a:pt x="327" y="1059"/>
                  </a:lnTo>
                  <a:lnTo>
                    <a:pt x="307" y="1058"/>
                  </a:lnTo>
                  <a:lnTo>
                    <a:pt x="289" y="1056"/>
                  </a:lnTo>
                  <a:lnTo>
                    <a:pt x="271" y="1053"/>
                  </a:lnTo>
                  <a:lnTo>
                    <a:pt x="252" y="1049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199" y="1035"/>
                  </a:lnTo>
                  <a:lnTo>
                    <a:pt x="184" y="1028"/>
                  </a:lnTo>
                  <a:lnTo>
                    <a:pt x="168" y="1021"/>
                  </a:lnTo>
                  <a:lnTo>
                    <a:pt x="152" y="1014"/>
                  </a:lnTo>
                  <a:lnTo>
                    <a:pt x="139" y="1005"/>
                  </a:lnTo>
                  <a:lnTo>
                    <a:pt x="125" y="996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0" y="965"/>
                  </a:lnTo>
                  <a:lnTo>
                    <a:pt x="79" y="953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8" y="909"/>
                  </a:lnTo>
                  <a:lnTo>
                    <a:pt x="40" y="892"/>
                  </a:lnTo>
                  <a:lnTo>
                    <a:pt x="33" y="876"/>
                  </a:lnTo>
                  <a:lnTo>
                    <a:pt x="26" y="858"/>
                  </a:lnTo>
                  <a:lnTo>
                    <a:pt x="20" y="840"/>
                  </a:lnTo>
                  <a:lnTo>
                    <a:pt x="16" y="820"/>
                  </a:lnTo>
                  <a:lnTo>
                    <a:pt x="12" y="799"/>
                  </a:lnTo>
                  <a:lnTo>
                    <a:pt x="7" y="775"/>
                  </a:lnTo>
                  <a:lnTo>
                    <a:pt x="5" y="750"/>
                  </a:lnTo>
                  <a:lnTo>
                    <a:pt x="2" y="722"/>
                  </a:lnTo>
                  <a:lnTo>
                    <a:pt x="1" y="691"/>
                  </a:lnTo>
                  <a:lnTo>
                    <a:pt x="0" y="66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9" y="646"/>
                  </a:lnTo>
                  <a:lnTo>
                    <a:pt x="269" y="665"/>
                  </a:lnTo>
                  <a:lnTo>
                    <a:pt x="271" y="683"/>
                  </a:lnTo>
                  <a:lnTo>
                    <a:pt x="273" y="699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5" y="747"/>
                  </a:lnTo>
                  <a:lnTo>
                    <a:pt x="291" y="754"/>
                  </a:lnTo>
                  <a:lnTo>
                    <a:pt x="297" y="762"/>
                  </a:lnTo>
                  <a:lnTo>
                    <a:pt x="303" y="768"/>
                  </a:lnTo>
                  <a:lnTo>
                    <a:pt x="311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7" y="782"/>
                  </a:lnTo>
                  <a:lnTo>
                    <a:pt x="357" y="780"/>
                  </a:lnTo>
                  <a:lnTo>
                    <a:pt x="367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2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2" y="736"/>
                  </a:lnTo>
                  <a:lnTo>
                    <a:pt x="417" y="725"/>
                  </a:lnTo>
                  <a:lnTo>
                    <a:pt x="420" y="712"/>
                  </a:lnTo>
                  <a:lnTo>
                    <a:pt x="422" y="698"/>
                  </a:lnTo>
                  <a:lnTo>
                    <a:pt x="424" y="682"/>
                  </a:lnTo>
                  <a:lnTo>
                    <a:pt x="425" y="665"/>
                  </a:lnTo>
                  <a:lnTo>
                    <a:pt x="426" y="645"/>
                  </a:lnTo>
                  <a:lnTo>
                    <a:pt x="426" y="6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64040" y="993600"/>
              <a:ext cx="173160" cy="338400"/>
            </a:xfrm>
            <a:custGeom>
              <a:avLst/>
              <a:gdLst/>
              <a:ahLst/>
              <a:rect l="l" t="t" r="r" b="b"/>
              <a:pathLst>
                <a:path w="544" h="1063">
                  <a:moveTo>
                    <a:pt x="20" y="1050"/>
                  </a:moveTo>
                  <a:lnTo>
                    <a:pt x="12" y="766"/>
                  </a:lnTo>
                  <a:lnTo>
                    <a:pt x="20" y="769"/>
                  </a:lnTo>
                  <a:lnTo>
                    <a:pt x="27" y="771"/>
                  </a:lnTo>
                  <a:lnTo>
                    <a:pt x="34" y="774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2"/>
                  </a:lnTo>
                  <a:lnTo>
                    <a:pt x="63" y="783"/>
                  </a:lnTo>
                  <a:lnTo>
                    <a:pt x="70" y="785"/>
                  </a:lnTo>
                  <a:lnTo>
                    <a:pt x="76" y="787"/>
                  </a:lnTo>
                  <a:lnTo>
                    <a:pt x="84" y="788"/>
                  </a:lnTo>
                  <a:lnTo>
                    <a:pt x="90" y="789"/>
                  </a:lnTo>
                  <a:lnTo>
                    <a:pt x="96" y="790"/>
                  </a:lnTo>
                  <a:lnTo>
                    <a:pt x="103" y="791"/>
                  </a:lnTo>
                  <a:lnTo>
                    <a:pt x="110" y="791"/>
                  </a:lnTo>
                  <a:lnTo>
                    <a:pt x="116" y="791"/>
                  </a:lnTo>
                  <a:lnTo>
                    <a:pt x="122" y="791"/>
                  </a:lnTo>
                  <a:lnTo>
                    <a:pt x="133" y="791"/>
                  </a:lnTo>
                  <a:lnTo>
                    <a:pt x="143" y="790"/>
                  </a:lnTo>
                  <a:lnTo>
                    <a:pt x="153" y="788"/>
                  </a:lnTo>
                  <a:lnTo>
                    <a:pt x="162" y="786"/>
                  </a:lnTo>
                  <a:lnTo>
                    <a:pt x="171" y="783"/>
                  </a:lnTo>
                  <a:lnTo>
                    <a:pt x="179" y="779"/>
                  </a:lnTo>
                  <a:lnTo>
                    <a:pt x="187" y="774"/>
                  </a:lnTo>
                  <a:lnTo>
                    <a:pt x="195" y="768"/>
                  </a:lnTo>
                  <a:lnTo>
                    <a:pt x="201" y="763"/>
                  </a:lnTo>
                  <a:lnTo>
                    <a:pt x="206" y="757"/>
                  </a:lnTo>
                  <a:lnTo>
                    <a:pt x="211" y="749"/>
                  </a:lnTo>
                  <a:lnTo>
                    <a:pt x="216" y="742"/>
                  </a:lnTo>
                  <a:lnTo>
                    <a:pt x="219" y="735"/>
                  </a:lnTo>
                  <a:lnTo>
                    <a:pt x="221" y="727"/>
                  </a:lnTo>
                  <a:lnTo>
                    <a:pt x="222" y="719"/>
                  </a:lnTo>
                  <a:lnTo>
                    <a:pt x="223" y="710"/>
                  </a:lnTo>
                  <a:lnTo>
                    <a:pt x="221" y="699"/>
                  </a:lnTo>
                  <a:lnTo>
                    <a:pt x="218" y="686"/>
                  </a:lnTo>
                  <a:lnTo>
                    <a:pt x="211" y="673"/>
                  </a:lnTo>
                  <a:lnTo>
                    <a:pt x="203" y="659"/>
                  </a:lnTo>
                  <a:lnTo>
                    <a:pt x="193" y="644"/>
                  </a:lnTo>
                  <a:lnTo>
                    <a:pt x="179" y="629"/>
                  </a:lnTo>
                  <a:lnTo>
                    <a:pt x="164" y="612"/>
                  </a:lnTo>
                  <a:lnTo>
                    <a:pt x="145" y="595"/>
                  </a:lnTo>
                  <a:lnTo>
                    <a:pt x="139" y="589"/>
                  </a:lnTo>
                  <a:lnTo>
                    <a:pt x="134" y="583"/>
                  </a:lnTo>
                  <a:lnTo>
                    <a:pt x="128" y="578"/>
                  </a:lnTo>
                  <a:lnTo>
                    <a:pt x="122" y="573"/>
                  </a:lnTo>
                  <a:lnTo>
                    <a:pt x="118" y="569"/>
                  </a:lnTo>
                  <a:lnTo>
                    <a:pt x="114" y="564"/>
                  </a:lnTo>
                  <a:lnTo>
                    <a:pt x="110" y="560"/>
                  </a:lnTo>
                  <a:lnTo>
                    <a:pt x="106" y="556"/>
                  </a:lnTo>
                  <a:lnTo>
                    <a:pt x="93" y="542"/>
                  </a:lnTo>
                  <a:lnTo>
                    <a:pt x="80" y="529"/>
                  </a:lnTo>
                  <a:lnTo>
                    <a:pt x="69" y="515"/>
                  </a:lnTo>
                  <a:lnTo>
                    <a:pt x="58" y="500"/>
                  </a:lnTo>
                  <a:lnTo>
                    <a:pt x="49" y="487"/>
                  </a:lnTo>
                  <a:lnTo>
                    <a:pt x="41" y="472"/>
                  </a:lnTo>
                  <a:lnTo>
                    <a:pt x="32" y="457"/>
                  </a:lnTo>
                  <a:lnTo>
                    <a:pt x="26" y="443"/>
                  </a:lnTo>
                  <a:lnTo>
                    <a:pt x="20" y="428"/>
                  </a:lnTo>
                  <a:lnTo>
                    <a:pt x="14" y="413"/>
                  </a:lnTo>
                  <a:lnTo>
                    <a:pt x="9" y="398"/>
                  </a:lnTo>
                  <a:lnTo>
                    <a:pt x="6" y="382"/>
                  </a:lnTo>
                  <a:lnTo>
                    <a:pt x="3" y="366"/>
                  </a:lnTo>
                  <a:lnTo>
                    <a:pt x="1" y="350"/>
                  </a:lnTo>
                  <a:lnTo>
                    <a:pt x="0" y="333"/>
                  </a:lnTo>
                  <a:lnTo>
                    <a:pt x="0" y="317"/>
                  </a:lnTo>
                  <a:lnTo>
                    <a:pt x="0" y="300"/>
                  </a:lnTo>
                  <a:lnTo>
                    <a:pt x="1" y="283"/>
                  </a:lnTo>
                  <a:lnTo>
                    <a:pt x="3" y="266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0"/>
                  </a:lnTo>
                  <a:lnTo>
                    <a:pt x="17" y="205"/>
                  </a:lnTo>
                  <a:lnTo>
                    <a:pt x="24" y="191"/>
                  </a:lnTo>
                  <a:lnTo>
                    <a:pt x="30" y="177"/>
                  </a:lnTo>
                  <a:lnTo>
                    <a:pt x="37" y="162"/>
                  </a:lnTo>
                  <a:lnTo>
                    <a:pt x="45" y="150"/>
                  </a:lnTo>
                  <a:lnTo>
                    <a:pt x="54" y="137"/>
                  </a:lnTo>
                  <a:lnTo>
                    <a:pt x="64" y="125"/>
                  </a:lnTo>
                  <a:lnTo>
                    <a:pt x="74" y="112"/>
                  </a:lnTo>
                  <a:lnTo>
                    <a:pt x="85" y="100"/>
                  </a:lnTo>
                  <a:lnTo>
                    <a:pt x="96" y="89"/>
                  </a:lnTo>
                  <a:lnTo>
                    <a:pt x="109" y="78"/>
                  </a:lnTo>
                  <a:lnTo>
                    <a:pt x="121" y="68"/>
                  </a:lnTo>
                  <a:lnTo>
                    <a:pt x="135" y="58"/>
                  </a:lnTo>
                  <a:lnTo>
                    <a:pt x="149" y="50"/>
                  </a:lnTo>
                  <a:lnTo>
                    <a:pt x="162" y="42"/>
                  </a:lnTo>
                  <a:lnTo>
                    <a:pt x="177" y="34"/>
                  </a:lnTo>
                  <a:lnTo>
                    <a:pt x="193" y="28"/>
                  </a:lnTo>
                  <a:lnTo>
                    <a:pt x="208" y="22"/>
                  </a:lnTo>
                  <a:lnTo>
                    <a:pt x="224" y="16"/>
                  </a:lnTo>
                  <a:lnTo>
                    <a:pt x="240" y="12"/>
                  </a:lnTo>
                  <a:lnTo>
                    <a:pt x="257" y="8"/>
                  </a:lnTo>
                  <a:lnTo>
                    <a:pt x="274" y="5"/>
                  </a:lnTo>
                  <a:lnTo>
                    <a:pt x="292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6"/>
                  </a:lnTo>
                  <a:lnTo>
                    <a:pt x="450" y="7"/>
                  </a:lnTo>
                  <a:lnTo>
                    <a:pt x="460" y="9"/>
                  </a:lnTo>
                  <a:lnTo>
                    <a:pt x="471" y="11"/>
                  </a:lnTo>
                  <a:lnTo>
                    <a:pt x="481" y="13"/>
                  </a:lnTo>
                  <a:lnTo>
                    <a:pt x="491" y="16"/>
                  </a:lnTo>
                  <a:lnTo>
                    <a:pt x="501" y="20"/>
                  </a:lnTo>
                  <a:lnTo>
                    <a:pt x="511" y="22"/>
                  </a:lnTo>
                  <a:lnTo>
                    <a:pt x="521" y="25"/>
                  </a:lnTo>
                  <a:lnTo>
                    <a:pt x="521" y="281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7" y="269"/>
                  </a:lnTo>
                  <a:lnTo>
                    <a:pt x="488" y="266"/>
                  </a:lnTo>
                  <a:lnTo>
                    <a:pt x="481" y="263"/>
                  </a:lnTo>
                  <a:lnTo>
                    <a:pt x="473" y="261"/>
                  </a:lnTo>
                  <a:lnTo>
                    <a:pt x="465" y="258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4" y="252"/>
                  </a:lnTo>
                  <a:lnTo>
                    <a:pt x="437" y="251"/>
                  </a:lnTo>
                  <a:lnTo>
                    <a:pt x="431" y="249"/>
                  </a:lnTo>
                  <a:lnTo>
                    <a:pt x="424" y="248"/>
                  </a:lnTo>
                  <a:lnTo>
                    <a:pt x="418" y="247"/>
                  </a:lnTo>
                  <a:lnTo>
                    <a:pt x="413" y="247"/>
                  </a:lnTo>
                  <a:lnTo>
                    <a:pt x="407" y="247"/>
                  </a:lnTo>
                  <a:lnTo>
                    <a:pt x="395" y="247"/>
                  </a:lnTo>
                  <a:lnTo>
                    <a:pt x="384" y="248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59"/>
                  </a:lnTo>
                  <a:lnTo>
                    <a:pt x="336" y="263"/>
                  </a:lnTo>
                  <a:lnTo>
                    <a:pt x="329" y="268"/>
                  </a:lnTo>
                  <a:lnTo>
                    <a:pt x="323" y="274"/>
                  </a:lnTo>
                  <a:lnTo>
                    <a:pt x="317" y="280"/>
                  </a:lnTo>
                  <a:lnTo>
                    <a:pt x="312" y="286"/>
                  </a:lnTo>
                  <a:lnTo>
                    <a:pt x="309" y="294"/>
                  </a:lnTo>
                  <a:lnTo>
                    <a:pt x="306" y="302"/>
                  </a:lnTo>
                  <a:lnTo>
                    <a:pt x="304" y="310"/>
                  </a:lnTo>
                  <a:lnTo>
                    <a:pt x="303" y="319"/>
                  </a:lnTo>
                  <a:lnTo>
                    <a:pt x="302" y="328"/>
                  </a:lnTo>
                  <a:lnTo>
                    <a:pt x="303" y="333"/>
                  </a:lnTo>
                  <a:lnTo>
                    <a:pt x="303" y="340"/>
                  </a:lnTo>
                  <a:lnTo>
                    <a:pt x="305" y="345"/>
                  </a:lnTo>
                  <a:lnTo>
                    <a:pt x="307" y="351"/>
                  </a:lnTo>
                  <a:lnTo>
                    <a:pt x="312" y="363"/>
                  </a:lnTo>
                  <a:lnTo>
                    <a:pt x="321" y="375"/>
                  </a:lnTo>
                  <a:lnTo>
                    <a:pt x="331" y="389"/>
                  </a:lnTo>
                  <a:lnTo>
                    <a:pt x="344" y="402"/>
                  </a:lnTo>
                  <a:lnTo>
                    <a:pt x="358" y="416"/>
                  </a:lnTo>
                  <a:lnTo>
                    <a:pt x="376" y="430"/>
                  </a:lnTo>
                  <a:lnTo>
                    <a:pt x="384" y="436"/>
                  </a:lnTo>
                  <a:lnTo>
                    <a:pt x="390" y="442"/>
                  </a:lnTo>
                  <a:lnTo>
                    <a:pt x="396" y="447"/>
                  </a:lnTo>
                  <a:lnTo>
                    <a:pt x="402" y="452"/>
                  </a:lnTo>
                  <a:lnTo>
                    <a:pt x="408" y="456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69"/>
                  </a:lnTo>
                  <a:lnTo>
                    <a:pt x="436" y="482"/>
                  </a:lnTo>
                  <a:lnTo>
                    <a:pt x="450" y="495"/>
                  </a:lnTo>
                  <a:lnTo>
                    <a:pt x="462" y="510"/>
                  </a:lnTo>
                  <a:lnTo>
                    <a:pt x="475" y="525"/>
                  </a:lnTo>
                  <a:lnTo>
                    <a:pt x="485" y="539"/>
                  </a:lnTo>
                  <a:lnTo>
                    <a:pt x="496" y="555"/>
                  </a:lnTo>
                  <a:lnTo>
                    <a:pt x="505" y="572"/>
                  </a:lnTo>
                  <a:lnTo>
                    <a:pt x="513" y="589"/>
                  </a:lnTo>
                  <a:lnTo>
                    <a:pt x="520" y="605"/>
                  </a:lnTo>
                  <a:lnTo>
                    <a:pt x="526" y="622"/>
                  </a:lnTo>
                  <a:lnTo>
                    <a:pt x="532" y="640"/>
                  </a:lnTo>
                  <a:lnTo>
                    <a:pt x="537" y="658"/>
                  </a:lnTo>
                  <a:lnTo>
                    <a:pt x="540" y="677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2"/>
                  </a:lnTo>
                  <a:lnTo>
                    <a:pt x="544" y="751"/>
                  </a:lnTo>
                  <a:lnTo>
                    <a:pt x="543" y="770"/>
                  </a:lnTo>
                  <a:lnTo>
                    <a:pt x="541" y="788"/>
                  </a:lnTo>
                  <a:lnTo>
                    <a:pt x="538" y="806"/>
                  </a:lnTo>
                  <a:lnTo>
                    <a:pt x="535" y="823"/>
                  </a:lnTo>
                  <a:lnTo>
                    <a:pt x="529" y="840"/>
                  </a:lnTo>
                  <a:lnTo>
                    <a:pt x="524" y="855"/>
                  </a:lnTo>
                  <a:lnTo>
                    <a:pt x="519" y="870"/>
                  </a:lnTo>
                  <a:lnTo>
                    <a:pt x="511" y="886"/>
                  </a:lnTo>
                  <a:lnTo>
                    <a:pt x="504" y="899"/>
                  </a:lnTo>
                  <a:lnTo>
                    <a:pt x="496" y="913"/>
                  </a:lnTo>
                  <a:lnTo>
                    <a:pt x="486" y="927"/>
                  </a:lnTo>
                  <a:lnTo>
                    <a:pt x="477" y="939"/>
                  </a:lnTo>
                  <a:lnTo>
                    <a:pt x="465" y="952"/>
                  </a:lnTo>
                  <a:lnTo>
                    <a:pt x="454" y="963"/>
                  </a:lnTo>
                  <a:lnTo>
                    <a:pt x="442" y="975"/>
                  </a:lnTo>
                  <a:lnTo>
                    <a:pt x="429" y="986"/>
                  </a:lnTo>
                  <a:lnTo>
                    <a:pt x="415" y="996"/>
                  </a:lnTo>
                  <a:lnTo>
                    <a:pt x="400" y="1005"/>
                  </a:lnTo>
                  <a:lnTo>
                    <a:pt x="386" y="1014"/>
                  </a:lnTo>
                  <a:lnTo>
                    <a:pt x="370" y="1021"/>
                  </a:lnTo>
                  <a:lnTo>
                    <a:pt x="354" y="1029"/>
                  </a:lnTo>
                  <a:lnTo>
                    <a:pt x="337" y="1035"/>
                  </a:lnTo>
                  <a:lnTo>
                    <a:pt x="320" y="1041"/>
                  </a:lnTo>
                  <a:lnTo>
                    <a:pt x="302" y="1046"/>
                  </a:lnTo>
                  <a:lnTo>
                    <a:pt x="283" y="1051"/>
                  </a:lnTo>
                  <a:lnTo>
                    <a:pt x="263" y="1055"/>
                  </a:lnTo>
                  <a:lnTo>
                    <a:pt x="243" y="1058"/>
                  </a:lnTo>
                  <a:lnTo>
                    <a:pt x="223" y="1060"/>
                  </a:lnTo>
                  <a:lnTo>
                    <a:pt x="202" y="1062"/>
                  </a:lnTo>
                  <a:lnTo>
                    <a:pt x="180" y="1063"/>
                  </a:lnTo>
                  <a:lnTo>
                    <a:pt x="158" y="1063"/>
                  </a:lnTo>
                  <a:lnTo>
                    <a:pt x="149" y="1063"/>
                  </a:lnTo>
                  <a:lnTo>
                    <a:pt x="139" y="1062"/>
                  </a:lnTo>
                  <a:lnTo>
                    <a:pt x="130" y="1062"/>
                  </a:lnTo>
                  <a:lnTo>
                    <a:pt x="121" y="1062"/>
                  </a:lnTo>
                  <a:lnTo>
                    <a:pt x="112" y="1061"/>
                  </a:lnTo>
                  <a:lnTo>
                    <a:pt x="103" y="1061"/>
                  </a:lnTo>
                  <a:lnTo>
                    <a:pt x="94" y="1060"/>
                  </a:lnTo>
                  <a:lnTo>
                    <a:pt x="86" y="1059"/>
                  </a:lnTo>
                  <a:lnTo>
                    <a:pt x="77" y="1058"/>
                  </a:lnTo>
                  <a:lnTo>
                    <a:pt x="69" y="1057"/>
                  </a:lnTo>
                  <a:lnTo>
                    <a:pt x="60" y="1056"/>
                  </a:lnTo>
                  <a:lnTo>
                    <a:pt x="52" y="1055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20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175360" y="998640"/>
              <a:ext cx="203040" cy="328680"/>
            </a:xfrm>
            <a:custGeom>
              <a:avLst/>
              <a:gdLst/>
              <a:ahLst/>
              <a:rect l="l" t="t" r="r" b="b"/>
              <a:pathLst>
                <a:path w="644" h="1031">
                  <a:moveTo>
                    <a:pt x="644" y="748"/>
                  </a:moveTo>
                  <a:lnTo>
                    <a:pt x="572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29240" y="990720"/>
              <a:ext cx="3301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2" y="287"/>
                  </a:moveTo>
                  <a:lnTo>
                    <a:pt x="509" y="287"/>
                  </a:lnTo>
                  <a:lnTo>
                    <a:pt x="497" y="288"/>
                  </a:lnTo>
                  <a:lnTo>
                    <a:pt x="484" y="290"/>
                  </a:lnTo>
                  <a:lnTo>
                    <a:pt x="473" y="291"/>
                  </a:lnTo>
                  <a:lnTo>
                    <a:pt x="460" y="294"/>
                  </a:lnTo>
                  <a:lnTo>
                    <a:pt x="449" y="297"/>
                  </a:lnTo>
                  <a:lnTo>
                    <a:pt x="438" y="300"/>
                  </a:lnTo>
                  <a:lnTo>
                    <a:pt x="427" y="306"/>
                  </a:lnTo>
                  <a:lnTo>
                    <a:pt x="416" y="310"/>
                  </a:lnTo>
                  <a:lnTo>
                    <a:pt x="406" y="315"/>
                  </a:lnTo>
                  <a:lnTo>
                    <a:pt x="395" y="321"/>
                  </a:lnTo>
                  <a:lnTo>
                    <a:pt x="385" y="328"/>
                  </a:lnTo>
                  <a:lnTo>
                    <a:pt x="375" y="335"/>
                  </a:lnTo>
                  <a:lnTo>
                    <a:pt x="366" y="343"/>
                  </a:lnTo>
                  <a:lnTo>
                    <a:pt x="356" y="352"/>
                  </a:lnTo>
                  <a:lnTo>
                    <a:pt x="348" y="360"/>
                  </a:lnTo>
                  <a:lnTo>
                    <a:pt x="340" y="370"/>
                  </a:lnTo>
                  <a:lnTo>
                    <a:pt x="331" y="379"/>
                  </a:lnTo>
                  <a:lnTo>
                    <a:pt x="324" y="390"/>
                  </a:lnTo>
                  <a:lnTo>
                    <a:pt x="316" y="399"/>
                  </a:lnTo>
                  <a:lnTo>
                    <a:pt x="310" y="410"/>
                  </a:lnTo>
                  <a:lnTo>
                    <a:pt x="305" y="420"/>
                  </a:lnTo>
                  <a:lnTo>
                    <a:pt x="300" y="432"/>
                  </a:lnTo>
                  <a:lnTo>
                    <a:pt x="295" y="443"/>
                  </a:lnTo>
                  <a:lnTo>
                    <a:pt x="291" y="455"/>
                  </a:lnTo>
                  <a:lnTo>
                    <a:pt x="287" y="466"/>
                  </a:lnTo>
                  <a:lnTo>
                    <a:pt x="284" y="478"/>
                  </a:lnTo>
                  <a:lnTo>
                    <a:pt x="282" y="490"/>
                  </a:lnTo>
                  <a:lnTo>
                    <a:pt x="280" y="503"/>
                  </a:lnTo>
                  <a:lnTo>
                    <a:pt x="279" y="516"/>
                  </a:lnTo>
                  <a:lnTo>
                    <a:pt x="278" y="529"/>
                  </a:lnTo>
                  <a:lnTo>
                    <a:pt x="278" y="542"/>
                  </a:lnTo>
                  <a:lnTo>
                    <a:pt x="278" y="555"/>
                  </a:lnTo>
                  <a:lnTo>
                    <a:pt x="279" y="569"/>
                  </a:lnTo>
                  <a:lnTo>
                    <a:pt x="280" y="582"/>
                  </a:lnTo>
                  <a:lnTo>
                    <a:pt x="282" y="594"/>
                  </a:lnTo>
                  <a:lnTo>
                    <a:pt x="284" y="607"/>
                  </a:lnTo>
                  <a:lnTo>
                    <a:pt x="287" y="618"/>
                  </a:lnTo>
                  <a:lnTo>
                    <a:pt x="290" y="631"/>
                  </a:lnTo>
                  <a:lnTo>
                    <a:pt x="294" y="643"/>
                  </a:lnTo>
                  <a:lnTo>
                    <a:pt x="300" y="653"/>
                  </a:lnTo>
                  <a:lnTo>
                    <a:pt x="305" y="665"/>
                  </a:lnTo>
                  <a:lnTo>
                    <a:pt x="310" y="675"/>
                  </a:lnTo>
                  <a:lnTo>
                    <a:pt x="316" y="686"/>
                  </a:lnTo>
                  <a:lnTo>
                    <a:pt x="324" y="695"/>
                  </a:lnTo>
                  <a:lnTo>
                    <a:pt x="331" y="706"/>
                  </a:lnTo>
                  <a:lnTo>
                    <a:pt x="338" y="715"/>
                  </a:lnTo>
                  <a:lnTo>
                    <a:pt x="348" y="725"/>
                  </a:lnTo>
                  <a:lnTo>
                    <a:pt x="356" y="733"/>
                  </a:lnTo>
                  <a:lnTo>
                    <a:pt x="366" y="741"/>
                  </a:lnTo>
                  <a:lnTo>
                    <a:pt x="375" y="749"/>
                  </a:lnTo>
                  <a:lnTo>
                    <a:pt x="385" y="756"/>
                  </a:lnTo>
                  <a:lnTo>
                    <a:pt x="394" y="763"/>
                  </a:lnTo>
                  <a:lnTo>
                    <a:pt x="405" y="769"/>
                  </a:lnTo>
                  <a:lnTo>
                    <a:pt x="415" y="774"/>
                  </a:lnTo>
                  <a:lnTo>
                    <a:pt x="427" y="779"/>
                  </a:lnTo>
                  <a:lnTo>
                    <a:pt x="437" y="783"/>
                  </a:lnTo>
                  <a:lnTo>
                    <a:pt x="449" y="788"/>
                  </a:lnTo>
                  <a:lnTo>
                    <a:pt x="460" y="791"/>
                  </a:lnTo>
                  <a:lnTo>
                    <a:pt x="472" y="793"/>
                  </a:lnTo>
                  <a:lnTo>
                    <a:pt x="484" y="795"/>
                  </a:lnTo>
                  <a:lnTo>
                    <a:pt x="497" y="796"/>
                  </a:lnTo>
                  <a:lnTo>
                    <a:pt x="509" y="797"/>
                  </a:lnTo>
                  <a:lnTo>
                    <a:pt x="522" y="797"/>
                  </a:lnTo>
                  <a:lnTo>
                    <a:pt x="536" y="797"/>
                  </a:lnTo>
                  <a:lnTo>
                    <a:pt x="548" y="796"/>
                  </a:lnTo>
                  <a:lnTo>
                    <a:pt x="560" y="795"/>
                  </a:lnTo>
                  <a:lnTo>
                    <a:pt x="572" y="793"/>
                  </a:lnTo>
                  <a:lnTo>
                    <a:pt x="584" y="791"/>
                  </a:lnTo>
                  <a:lnTo>
                    <a:pt x="595" y="788"/>
                  </a:lnTo>
                  <a:lnTo>
                    <a:pt x="607" y="783"/>
                  </a:lnTo>
                  <a:lnTo>
                    <a:pt x="619" y="779"/>
                  </a:lnTo>
                  <a:lnTo>
                    <a:pt x="629" y="774"/>
                  </a:lnTo>
                  <a:lnTo>
                    <a:pt x="640" y="769"/>
                  </a:lnTo>
                  <a:lnTo>
                    <a:pt x="650" y="762"/>
                  </a:lnTo>
                  <a:lnTo>
                    <a:pt x="659" y="756"/>
                  </a:lnTo>
                  <a:lnTo>
                    <a:pt x="669" y="749"/>
                  </a:lnTo>
                  <a:lnTo>
                    <a:pt x="678" y="741"/>
                  </a:lnTo>
                  <a:lnTo>
                    <a:pt x="688" y="733"/>
                  </a:lnTo>
                  <a:lnTo>
                    <a:pt x="697" y="723"/>
                  </a:lnTo>
                  <a:lnTo>
                    <a:pt x="706" y="715"/>
                  </a:lnTo>
                  <a:lnTo>
                    <a:pt x="713" y="705"/>
                  </a:lnTo>
                  <a:lnTo>
                    <a:pt x="721" y="695"/>
                  </a:lnTo>
                  <a:lnTo>
                    <a:pt x="728" y="685"/>
                  </a:lnTo>
                  <a:lnTo>
                    <a:pt x="734" y="674"/>
                  </a:lnTo>
                  <a:lnTo>
                    <a:pt x="740" y="664"/>
                  </a:lnTo>
                  <a:lnTo>
                    <a:pt x="745" y="653"/>
                  </a:lnTo>
                  <a:lnTo>
                    <a:pt x="750" y="642"/>
                  </a:lnTo>
                  <a:lnTo>
                    <a:pt x="754" y="630"/>
                  </a:lnTo>
                  <a:lnTo>
                    <a:pt x="757" y="618"/>
                  </a:lnTo>
                  <a:lnTo>
                    <a:pt x="760" y="607"/>
                  </a:lnTo>
                  <a:lnTo>
                    <a:pt x="763" y="594"/>
                  </a:lnTo>
                  <a:lnTo>
                    <a:pt x="765" y="582"/>
                  </a:lnTo>
                  <a:lnTo>
                    <a:pt x="766" y="569"/>
                  </a:lnTo>
                  <a:lnTo>
                    <a:pt x="768" y="555"/>
                  </a:lnTo>
                  <a:lnTo>
                    <a:pt x="768" y="542"/>
                  </a:lnTo>
                  <a:lnTo>
                    <a:pt x="768" y="529"/>
                  </a:lnTo>
                  <a:lnTo>
                    <a:pt x="766" y="516"/>
                  </a:lnTo>
                  <a:lnTo>
                    <a:pt x="765" y="503"/>
                  </a:lnTo>
                  <a:lnTo>
                    <a:pt x="763" y="490"/>
                  </a:lnTo>
                  <a:lnTo>
                    <a:pt x="760" y="479"/>
                  </a:lnTo>
                  <a:lnTo>
                    <a:pt x="757" y="466"/>
                  </a:lnTo>
                  <a:lnTo>
                    <a:pt x="754" y="455"/>
                  </a:lnTo>
                  <a:lnTo>
                    <a:pt x="750" y="443"/>
                  </a:lnTo>
                  <a:lnTo>
                    <a:pt x="745" y="432"/>
                  </a:lnTo>
                  <a:lnTo>
                    <a:pt x="740" y="421"/>
                  </a:lnTo>
                  <a:lnTo>
                    <a:pt x="734" y="411"/>
                  </a:lnTo>
                  <a:lnTo>
                    <a:pt x="728" y="400"/>
                  </a:lnTo>
                  <a:lnTo>
                    <a:pt x="721" y="390"/>
                  </a:lnTo>
                  <a:lnTo>
                    <a:pt x="713" y="380"/>
                  </a:lnTo>
                  <a:lnTo>
                    <a:pt x="706" y="371"/>
                  </a:lnTo>
                  <a:lnTo>
                    <a:pt x="697" y="361"/>
                  </a:lnTo>
                  <a:lnTo>
                    <a:pt x="688" y="352"/>
                  </a:lnTo>
                  <a:lnTo>
                    <a:pt x="678" y="343"/>
                  </a:lnTo>
                  <a:lnTo>
                    <a:pt x="669" y="336"/>
                  </a:lnTo>
                  <a:lnTo>
                    <a:pt x="659" y="329"/>
                  </a:lnTo>
                  <a:lnTo>
                    <a:pt x="650" y="321"/>
                  </a:lnTo>
                  <a:lnTo>
                    <a:pt x="640" y="316"/>
                  </a:lnTo>
                  <a:lnTo>
                    <a:pt x="629" y="310"/>
                  </a:lnTo>
                  <a:lnTo>
                    <a:pt x="619" y="306"/>
                  </a:lnTo>
                  <a:lnTo>
                    <a:pt x="607" y="301"/>
                  </a:lnTo>
                  <a:lnTo>
                    <a:pt x="595" y="297"/>
                  </a:lnTo>
                  <a:lnTo>
                    <a:pt x="584" y="294"/>
                  </a:lnTo>
                  <a:lnTo>
                    <a:pt x="572" y="291"/>
                  </a:lnTo>
                  <a:lnTo>
                    <a:pt x="560" y="290"/>
                  </a:lnTo>
                  <a:lnTo>
                    <a:pt x="548" y="288"/>
                  </a:lnTo>
                  <a:lnTo>
                    <a:pt x="536" y="287"/>
                  </a:lnTo>
                  <a:lnTo>
                    <a:pt x="522" y="287"/>
                  </a:lnTo>
                  <a:close/>
                  <a:moveTo>
                    <a:pt x="521" y="0"/>
                  </a:moveTo>
                  <a:lnTo>
                    <a:pt x="545" y="1"/>
                  </a:lnTo>
                  <a:lnTo>
                    <a:pt x="569" y="2"/>
                  </a:lnTo>
                  <a:lnTo>
                    <a:pt x="593" y="5"/>
                  </a:lnTo>
                  <a:lnTo>
                    <a:pt x="616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8" y="86"/>
                  </a:lnTo>
                  <a:lnTo>
                    <a:pt x="826" y="99"/>
                  </a:lnTo>
                  <a:lnTo>
                    <a:pt x="844" y="113"/>
                  </a:lnTo>
                  <a:lnTo>
                    <a:pt x="861" y="128"/>
                  </a:lnTo>
                  <a:lnTo>
                    <a:pt x="882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5" y="239"/>
                  </a:lnTo>
                  <a:lnTo>
                    <a:pt x="971" y="265"/>
                  </a:lnTo>
                  <a:lnTo>
                    <a:pt x="985" y="290"/>
                  </a:lnTo>
                  <a:lnTo>
                    <a:pt x="997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6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1" y="484"/>
                  </a:lnTo>
                  <a:lnTo>
                    <a:pt x="1043" y="513"/>
                  </a:lnTo>
                  <a:lnTo>
                    <a:pt x="1044" y="543"/>
                  </a:lnTo>
                  <a:lnTo>
                    <a:pt x="1043" y="572"/>
                  </a:lnTo>
                  <a:lnTo>
                    <a:pt x="1041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6" y="687"/>
                  </a:lnTo>
                  <a:lnTo>
                    <a:pt x="1017" y="715"/>
                  </a:lnTo>
                  <a:lnTo>
                    <a:pt x="1008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5" y="846"/>
                  </a:lnTo>
                  <a:lnTo>
                    <a:pt x="938" y="870"/>
                  </a:lnTo>
                  <a:lnTo>
                    <a:pt x="921" y="894"/>
                  </a:lnTo>
                  <a:lnTo>
                    <a:pt x="903" y="916"/>
                  </a:lnTo>
                  <a:lnTo>
                    <a:pt x="882" y="938"/>
                  </a:lnTo>
                  <a:lnTo>
                    <a:pt x="861" y="958"/>
                  </a:lnTo>
                  <a:lnTo>
                    <a:pt x="844" y="973"/>
                  </a:lnTo>
                  <a:lnTo>
                    <a:pt x="826" y="987"/>
                  </a:lnTo>
                  <a:lnTo>
                    <a:pt x="807" y="1001"/>
                  </a:lnTo>
                  <a:lnTo>
                    <a:pt x="788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8" y="1073"/>
                  </a:lnTo>
                  <a:lnTo>
                    <a:pt x="615" y="1078"/>
                  </a:lnTo>
                  <a:lnTo>
                    <a:pt x="592" y="1082"/>
                  </a:lnTo>
                  <a:lnTo>
                    <a:pt x="569" y="1085"/>
                  </a:lnTo>
                  <a:lnTo>
                    <a:pt x="545" y="1086"/>
                  </a:lnTo>
                  <a:lnTo>
                    <a:pt x="521" y="1087"/>
                  </a:lnTo>
                  <a:lnTo>
                    <a:pt x="497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0" y="1068"/>
                  </a:lnTo>
                  <a:lnTo>
                    <a:pt x="358" y="1061"/>
                  </a:lnTo>
                  <a:lnTo>
                    <a:pt x="337" y="1053"/>
                  </a:lnTo>
                  <a:lnTo>
                    <a:pt x="315" y="1045"/>
                  </a:lnTo>
                  <a:lnTo>
                    <a:pt x="294" y="1035"/>
                  </a:lnTo>
                  <a:lnTo>
                    <a:pt x="274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199" y="973"/>
                  </a:lnTo>
                  <a:lnTo>
                    <a:pt x="182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59" y="797"/>
                  </a:lnTo>
                  <a:lnTo>
                    <a:pt x="47" y="770"/>
                  </a:lnTo>
                  <a:lnTo>
                    <a:pt x="36" y="743"/>
                  </a:lnTo>
                  <a:lnTo>
                    <a:pt x="27" y="715"/>
                  </a:lnTo>
                  <a:lnTo>
                    <a:pt x="19" y="688"/>
                  </a:lnTo>
                  <a:lnTo>
                    <a:pt x="12" y="659"/>
                  </a:lnTo>
                  <a:lnTo>
                    <a:pt x="7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7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6" y="370"/>
                  </a:lnTo>
                  <a:lnTo>
                    <a:pt x="36" y="342"/>
                  </a:lnTo>
                  <a:lnTo>
                    <a:pt x="47" y="315"/>
                  </a:lnTo>
                  <a:lnTo>
                    <a:pt x="59" y="289"/>
                  </a:lnTo>
                  <a:lnTo>
                    <a:pt x="73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40" y="170"/>
                  </a:lnTo>
                  <a:lnTo>
                    <a:pt x="160" y="149"/>
                  </a:lnTo>
                  <a:lnTo>
                    <a:pt x="182" y="128"/>
                  </a:lnTo>
                  <a:lnTo>
                    <a:pt x="199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4" y="62"/>
                  </a:lnTo>
                  <a:lnTo>
                    <a:pt x="294" y="51"/>
                  </a:lnTo>
                  <a:lnTo>
                    <a:pt x="315" y="41"/>
                  </a:lnTo>
                  <a:lnTo>
                    <a:pt x="337" y="33"/>
                  </a:lnTo>
                  <a:lnTo>
                    <a:pt x="358" y="25"/>
                  </a:lnTo>
                  <a:lnTo>
                    <a:pt x="380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7" y="1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04000" y="998640"/>
              <a:ext cx="83880" cy="3286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048360" y="998640"/>
              <a:ext cx="204840" cy="328680"/>
            </a:xfrm>
            <a:custGeom>
              <a:avLst/>
              <a:gdLst/>
              <a:ahLst/>
              <a:rect l="l" t="t" r="r" b="b"/>
              <a:pathLst>
                <a:path w="649" h="1031">
                  <a:moveTo>
                    <a:pt x="649" y="748"/>
                  </a:moveTo>
                  <a:lnTo>
                    <a:pt x="56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266" y="0"/>
                  </a:lnTo>
                  <a:lnTo>
                    <a:pt x="266" y="748"/>
                  </a:lnTo>
                  <a:lnTo>
                    <a:pt x="649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635200" y="1490760"/>
              <a:ext cx="22248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267" y="402"/>
                  </a:moveTo>
                  <a:lnTo>
                    <a:pt x="314" y="402"/>
                  </a:lnTo>
                  <a:lnTo>
                    <a:pt x="328" y="402"/>
                  </a:lnTo>
                  <a:lnTo>
                    <a:pt x="342" y="401"/>
                  </a:lnTo>
                  <a:lnTo>
                    <a:pt x="355" y="399"/>
                  </a:lnTo>
                  <a:lnTo>
                    <a:pt x="366" y="397"/>
                  </a:lnTo>
                  <a:lnTo>
                    <a:pt x="378" y="395"/>
                  </a:lnTo>
                  <a:lnTo>
                    <a:pt x="387" y="391"/>
                  </a:lnTo>
                  <a:lnTo>
                    <a:pt x="397" y="386"/>
                  </a:lnTo>
                  <a:lnTo>
                    <a:pt x="404" y="382"/>
                  </a:lnTo>
                  <a:lnTo>
                    <a:pt x="411" y="377"/>
                  </a:lnTo>
                  <a:lnTo>
                    <a:pt x="417" y="371"/>
                  </a:lnTo>
                  <a:lnTo>
                    <a:pt x="422" y="363"/>
                  </a:lnTo>
                  <a:lnTo>
                    <a:pt x="426" y="356"/>
                  </a:lnTo>
                  <a:lnTo>
                    <a:pt x="429" y="349"/>
                  </a:lnTo>
                  <a:lnTo>
                    <a:pt x="431" y="339"/>
                  </a:lnTo>
                  <a:lnTo>
                    <a:pt x="433" y="330"/>
                  </a:lnTo>
                  <a:lnTo>
                    <a:pt x="433" y="320"/>
                  </a:lnTo>
                  <a:lnTo>
                    <a:pt x="433" y="309"/>
                  </a:lnTo>
                  <a:lnTo>
                    <a:pt x="432" y="297"/>
                  </a:lnTo>
                  <a:lnTo>
                    <a:pt x="430" y="288"/>
                  </a:lnTo>
                  <a:lnTo>
                    <a:pt x="427" y="278"/>
                  </a:lnTo>
                  <a:lnTo>
                    <a:pt x="423" y="270"/>
                  </a:lnTo>
                  <a:lnTo>
                    <a:pt x="419" y="263"/>
                  </a:lnTo>
                  <a:lnTo>
                    <a:pt x="412" y="256"/>
                  </a:lnTo>
                  <a:lnTo>
                    <a:pt x="406" y="250"/>
                  </a:lnTo>
                  <a:lnTo>
                    <a:pt x="399" y="246"/>
                  </a:lnTo>
                  <a:lnTo>
                    <a:pt x="390" y="242"/>
                  </a:lnTo>
                  <a:lnTo>
                    <a:pt x="380" y="237"/>
                  </a:lnTo>
                  <a:lnTo>
                    <a:pt x="369" y="234"/>
                  </a:lnTo>
                  <a:lnTo>
                    <a:pt x="357" y="232"/>
                  </a:lnTo>
                  <a:lnTo>
                    <a:pt x="344" y="231"/>
                  </a:lnTo>
                  <a:lnTo>
                    <a:pt x="329" y="230"/>
                  </a:lnTo>
                  <a:lnTo>
                    <a:pt x="314" y="229"/>
                  </a:lnTo>
                  <a:lnTo>
                    <a:pt x="267" y="229"/>
                  </a:lnTo>
                  <a:lnTo>
                    <a:pt x="267" y="402"/>
                  </a:lnTo>
                  <a:close/>
                  <a:moveTo>
                    <a:pt x="267" y="795"/>
                  </a:moveTo>
                  <a:lnTo>
                    <a:pt x="322" y="795"/>
                  </a:lnTo>
                  <a:lnTo>
                    <a:pt x="336" y="795"/>
                  </a:lnTo>
                  <a:lnTo>
                    <a:pt x="348" y="794"/>
                  </a:lnTo>
                  <a:lnTo>
                    <a:pt x="361" y="792"/>
                  </a:lnTo>
                  <a:lnTo>
                    <a:pt x="372" y="790"/>
                  </a:lnTo>
                  <a:lnTo>
                    <a:pt x="382" y="786"/>
                  </a:lnTo>
                  <a:lnTo>
                    <a:pt x="391" y="783"/>
                  </a:lnTo>
                  <a:lnTo>
                    <a:pt x="401" y="778"/>
                  </a:lnTo>
                  <a:lnTo>
                    <a:pt x="408" y="773"/>
                  </a:lnTo>
                  <a:lnTo>
                    <a:pt x="414" y="768"/>
                  </a:lnTo>
                  <a:lnTo>
                    <a:pt x="421" y="761"/>
                  </a:lnTo>
                  <a:lnTo>
                    <a:pt x="425" y="754"/>
                  </a:lnTo>
                  <a:lnTo>
                    <a:pt x="429" y="746"/>
                  </a:lnTo>
                  <a:lnTo>
                    <a:pt x="432" y="737"/>
                  </a:lnTo>
                  <a:lnTo>
                    <a:pt x="434" y="728"/>
                  </a:lnTo>
                  <a:lnTo>
                    <a:pt x="436" y="717"/>
                  </a:lnTo>
                  <a:lnTo>
                    <a:pt x="436" y="707"/>
                  </a:lnTo>
                  <a:lnTo>
                    <a:pt x="436" y="695"/>
                  </a:lnTo>
                  <a:lnTo>
                    <a:pt x="434" y="684"/>
                  </a:lnTo>
                  <a:lnTo>
                    <a:pt x="432" y="673"/>
                  </a:lnTo>
                  <a:lnTo>
                    <a:pt x="429" y="663"/>
                  </a:lnTo>
                  <a:lnTo>
                    <a:pt x="425" y="654"/>
                  </a:lnTo>
                  <a:lnTo>
                    <a:pt x="420" y="646"/>
                  </a:lnTo>
                  <a:lnTo>
                    <a:pt x="413" y="638"/>
                  </a:lnTo>
                  <a:lnTo>
                    <a:pt x="407" y="632"/>
                  </a:lnTo>
                  <a:lnTo>
                    <a:pt x="399" y="626"/>
                  </a:lnTo>
                  <a:lnTo>
                    <a:pt x="390" y="622"/>
                  </a:lnTo>
                  <a:lnTo>
                    <a:pt x="380" y="617"/>
                  </a:lnTo>
                  <a:lnTo>
                    <a:pt x="369" y="613"/>
                  </a:lnTo>
                  <a:lnTo>
                    <a:pt x="357" y="611"/>
                  </a:lnTo>
                  <a:lnTo>
                    <a:pt x="344" y="609"/>
                  </a:lnTo>
                  <a:lnTo>
                    <a:pt x="331" y="608"/>
                  </a:lnTo>
                  <a:lnTo>
                    <a:pt x="315" y="608"/>
                  </a:lnTo>
                  <a:lnTo>
                    <a:pt x="267" y="608"/>
                  </a:lnTo>
                  <a:lnTo>
                    <a:pt x="267" y="79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5" y="7"/>
                  </a:lnTo>
                  <a:lnTo>
                    <a:pt x="463" y="11"/>
                  </a:lnTo>
                  <a:lnTo>
                    <a:pt x="481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30" y="28"/>
                  </a:lnTo>
                  <a:lnTo>
                    <a:pt x="545" y="35"/>
                  </a:lnTo>
                  <a:lnTo>
                    <a:pt x="559" y="41"/>
                  </a:lnTo>
                  <a:lnTo>
                    <a:pt x="573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10" y="72"/>
                  </a:lnTo>
                  <a:lnTo>
                    <a:pt x="620" y="82"/>
                  </a:lnTo>
                  <a:lnTo>
                    <a:pt x="631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8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8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5" y="218"/>
                  </a:lnTo>
                  <a:lnTo>
                    <a:pt x="697" y="234"/>
                  </a:lnTo>
                  <a:lnTo>
                    <a:pt x="699" y="250"/>
                  </a:lnTo>
                  <a:lnTo>
                    <a:pt x="700" y="267"/>
                  </a:lnTo>
                  <a:lnTo>
                    <a:pt x="700" y="284"/>
                  </a:lnTo>
                  <a:lnTo>
                    <a:pt x="700" y="305"/>
                  </a:lnTo>
                  <a:lnTo>
                    <a:pt x="698" y="323"/>
                  </a:lnTo>
                  <a:lnTo>
                    <a:pt x="696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5" y="406"/>
                  </a:lnTo>
                  <a:lnTo>
                    <a:pt x="667" y="421"/>
                  </a:lnTo>
                  <a:lnTo>
                    <a:pt x="658" y="435"/>
                  </a:lnTo>
                  <a:lnTo>
                    <a:pt x="647" y="447"/>
                  </a:lnTo>
                  <a:lnTo>
                    <a:pt x="637" y="460"/>
                  </a:lnTo>
                  <a:lnTo>
                    <a:pt x="624" y="471"/>
                  </a:lnTo>
                  <a:lnTo>
                    <a:pt x="611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5" y="527"/>
                  </a:lnTo>
                  <a:lnTo>
                    <a:pt x="610" y="536"/>
                  </a:lnTo>
                  <a:lnTo>
                    <a:pt x="623" y="545"/>
                  </a:lnTo>
                  <a:lnTo>
                    <a:pt x="636" y="557"/>
                  </a:lnTo>
                  <a:lnTo>
                    <a:pt x="647" y="568"/>
                  </a:lnTo>
                  <a:lnTo>
                    <a:pt x="658" y="581"/>
                  </a:lnTo>
                  <a:lnTo>
                    <a:pt x="667" y="595"/>
                  </a:lnTo>
                  <a:lnTo>
                    <a:pt x="676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5" y="662"/>
                  </a:lnTo>
                  <a:lnTo>
                    <a:pt x="698" y="680"/>
                  </a:lnTo>
                  <a:lnTo>
                    <a:pt x="701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2" y="778"/>
                  </a:lnTo>
                  <a:lnTo>
                    <a:pt x="700" y="794"/>
                  </a:lnTo>
                  <a:lnTo>
                    <a:pt x="698" y="811"/>
                  </a:lnTo>
                  <a:lnTo>
                    <a:pt x="695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1" y="868"/>
                  </a:lnTo>
                  <a:lnTo>
                    <a:pt x="675" y="882"/>
                  </a:lnTo>
                  <a:lnTo>
                    <a:pt x="667" y="895"/>
                  </a:lnTo>
                  <a:lnTo>
                    <a:pt x="660" y="907"/>
                  </a:lnTo>
                  <a:lnTo>
                    <a:pt x="653" y="919"/>
                  </a:lnTo>
                  <a:lnTo>
                    <a:pt x="643" y="929"/>
                  </a:lnTo>
                  <a:lnTo>
                    <a:pt x="634" y="940"/>
                  </a:lnTo>
                  <a:lnTo>
                    <a:pt x="623" y="950"/>
                  </a:lnTo>
                  <a:lnTo>
                    <a:pt x="613" y="959"/>
                  </a:lnTo>
                  <a:lnTo>
                    <a:pt x="600" y="968"/>
                  </a:lnTo>
                  <a:lnTo>
                    <a:pt x="589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7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2" y="1017"/>
                  </a:lnTo>
                  <a:lnTo>
                    <a:pt x="464" y="1022"/>
                  </a:lnTo>
                  <a:lnTo>
                    <a:pt x="445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88144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392" y="658"/>
                  </a:moveTo>
                  <a:lnTo>
                    <a:pt x="604" y="658"/>
                  </a:lnTo>
                  <a:lnTo>
                    <a:pt x="498" y="310"/>
                  </a:lnTo>
                  <a:lnTo>
                    <a:pt x="392" y="658"/>
                  </a:lnTo>
                  <a:close/>
                  <a:moveTo>
                    <a:pt x="0" y="1032"/>
                  </a:moveTo>
                  <a:lnTo>
                    <a:pt x="360" y="0"/>
                  </a:lnTo>
                  <a:lnTo>
                    <a:pt x="661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224160" y="1486080"/>
              <a:ext cx="17316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9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4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3" y="792"/>
                  </a:lnTo>
                  <a:lnTo>
                    <a:pt x="110" y="792"/>
                  </a:lnTo>
                  <a:lnTo>
                    <a:pt x="116" y="792"/>
                  </a:lnTo>
                  <a:lnTo>
                    <a:pt x="123" y="793"/>
                  </a:lnTo>
                  <a:lnTo>
                    <a:pt x="133" y="792"/>
                  </a:lnTo>
                  <a:lnTo>
                    <a:pt x="144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8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2" y="750"/>
                  </a:lnTo>
                  <a:lnTo>
                    <a:pt x="216" y="744"/>
                  </a:lnTo>
                  <a:lnTo>
                    <a:pt x="219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2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5" y="612"/>
                  </a:lnTo>
                  <a:lnTo>
                    <a:pt x="146" y="596"/>
                  </a:lnTo>
                  <a:lnTo>
                    <a:pt x="139" y="589"/>
                  </a:lnTo>
                  <a:lnTo>
                    <a:pt x="134" y="584"/>
                  </a:lnTo>
                  <a:lnTo>
                    <a:pt x="128" y="579"/>
                  </a:lnTo>
                  <a:lnTo>
                    <a:pt x="123" y="574"/>
                  </a:lnTo>
                  <a:lnTo>
                    <a:pt x="118" y="569"/>
                  </a:lnTo>
                  <a:lnTo>
                    <a:pt x="114" y="565"/>
                  </a:lnTo>
                  <a:lnTo>
                    <a:pt x="110" y="561"/>
                  </a:lnTo>
                  <a:lnTo>
                    <a:pt x="106" y="558"/>
                  </a:lnTo>
                  <a:lnTo>
                    <a:pt x="93" y="543"/>
                  </a:lnTo>
                  <a:lnTo>
                    <a:pt x="81" y="529"/>
                  </a:lnTo>
                  <a:lnTo>
                    <a:pt x="69" y="516"/>
                  </a:lnTo>
                  <a:lnTo>
                    <a:pt x="59" y="501"/>
                  </a:lnTo>
                  <a:lnTo>
                    <a:pt x="49" y="487"/>
                  </a:lnTo>
                  <a:lnTo>
                    <a:pt x="41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20" y="429"/>
                  </a:lnTo>
                  <a:lnTo>
                    <a:pt x="15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1"/>
                  </a:lnTo>
                  <a:lnTo>
                    <a:pt x="18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8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4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2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9" y="22"/>
                  </a:lnTo>
                  <a:lnTo>
                    <a:pt x="224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5" y="6"/>
                  </a:lnTo>
                  <a:lnTo>
                    <a:pt x="293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1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1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9" y="267"/>
                  </a:lnTo>
                  <a:lnTo>
                    <a:pt x="481" y="264"/>
                  </a:lnTo>
                  <a:lnTo>
                    <a:pt x="473" y="262"/>
                  </a:lnTo>
                  <a:lnTo>
                    <a:pt x="466" y="259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5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5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5" y="248"/>
                  </a:lnTo>
                  <a:lnTo>
                    <a:pt x="384" y="249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60"/>
                  </a:lnTo>
                  <a:lnTo>
                    <a:pt x="337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8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3" y="319"/>
                  </a:lnTo>
                  <a:lnTo>
                    <a:pt x="302" y="329"/>
                  </a:lnTo>
                  <a:lnTo>
                    <a:pt x="303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9" y="417"/>
                  </a:lnTo>
                  <a:lnTo>
                    <a:pt x="376" y="431"/>
                  </a:lnTo>
                  <a:lnTo>
                    <a:pt x="384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3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2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5" y="525"/>
                  </a:lnTo>
                  <a:lnTo>
                    <a:pt x="486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3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3" y="771"/>
                  </a:lnTo>
                  <a:lnTo>
                    <a:pt x="541" y="789"/>
                  </a:lnTo>
                  <a:lnTo>
                    <a:pt x="538" y="807"/>
                  </a:lnTo>
                  <a:lnTo>
                    <a:pt x="535" y="823"/>
                  </a:lnTo>
                  <a:lnTo>
                    <a:pt x="530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2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7" y="927"/>
                  </a:lnTo>
                  <a:lnTo>
                    <a:pt x="477" y="940"/>
                  </a:lnTo>
                  <a:lnTo>
                    <a:pt x="466" y="953"/>
                  </a:lnTo>
                  <a:lnTo>
                    <a:pt x="454" y="964"/>
                  </a:lnTo>
                  <a:lnTo>
                    <a:pt x="443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1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4" y="1029"/>
                  </a:lnTo>
                  <a:lnTo>
                    <a:pt x="337" y="1036"/>
                  </a:lnTo>
                  <a:lnTo>
                    <a:pt x="320" y="1042"/>
                  </a:lnTo>
                  <a:lnTo>
                    <a:pt x="302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8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2" y="1063"/>
                  </a:lnTo>
                  <a:lnTo>
                    <a:pt x="112" y="1062"/>
                  </a:lnTo>
                  <a:lnTo>
                    <a:pt x="104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1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6" y="1053"/>
                  </a:lnTo>
                  <a:lnTo>
                    <a:pt x="27" y="1052"/>
                  </a:lnTo>
                  <a:lnTo>
                    <a:pt x="19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35480" y="1490760"/>
              <a:ext cx="204480" cy="326880"/>
            </a:xfrm>
            <a:custGeom>
              <a:avLst/>
              <a:gdLst/>
              <a:ahLst/>
              <a:rect l="l" t="t" r="r" b="b"/>
              <a:pathLst>
                <a:path w="644" h="1032">
                  <a:moveTo>
                    <a:pt x="644" y="748"/>
                  </a:moveTo>
                  <a:lnTo>
                    <a:pt x="573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673440" y="1490760"/>
              <a:ext cx="2462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267" y="756"/>
                  </a:moveTo>
                  <a:lnTo>
                    <a:pt x="293" y="753"/>
                  </a:lnTo>
                  <a:lnTo>
                    <a:pt x="316" y="748"/>
                  </a:lnTo>
                  <a:lnTo>
                    <a:pt x="339" y="740"/>
                  </a:lnTo>
                  <a:lnTo>
                    <a:pt x="360" y="732"/>
                  </a:lnTo>
                  <a:lnTo>
                    <a:pt x="370" y="727"/>
                  </a:lnTo>
                  <a:lnTo>
                    <a:pt x="380" y="721"/>
                  </a:lnTo>
                  <a:lnTo>
                    <a:pt x="389" y="715"/>
                  </a:lnTo>
                  <a:lnTo>
                    <a:pt x="399" y="709"/>
                  </a:lnTo>
                  <a:lnTo>
                    <a:pt x="408" y="702"/>
                  </a:lnTo>
                  <a:lnTo>
                    <a:pt x="416" y="695"/>
                  </a:lnTo>
                  <a:lnTo>
                    <a:pt x="425" y="688"/>
                  </a:lnTo>
                  <a:lnTo>
                    <a:pt x="432" y="679"/>
                  </a:lnTo>
                  <a:lnTo>
                    <a:pt x="439" y="671"/>
                  </a:lnTo>
                  <a:lnTo>
                    <a:pt x="447" y="663"/>
                  </a:lnTo>
                  <a:lnTo>
                    <a:pt x="453" y="653"/>
                  </a:lnTo>
                  <a:lnTo>
                    <a:pt x="459" y="644"/>
                  </a:lnTo>
                  <a:lnTo>
                    <a:pt x="465" y="634"/>
                  </a:lnTo>
                  <a:lnTo>
                    <a:pt x="470" y="625"/>
                  </a:lnTo>
                  <a:lnTo>
                    <a:pt x="475" y="615"/>
                  </a:lnTo>
                  <a:lnTo>
                    <a:pt x="479" y="605"/>
                  </a:lnTo>
                  <a:lnTo>
                    <a:pt x="486" y="584"/>
                  </a:lnTo>
                  <a:lnTo>
                    <a:pt x="491" y="562"/>
                  </a:lnTo>
                  <a:lnTo>
                    <a:pt x="494" y="538"/>
                  </a:lnTo>
                  <a:lnTo>
                    <a:pt x="495" y="513"/>
                  </a:lnTo>
                  <a:lnTo>
                    <a:pt x="494" y="487"/>
                  </a:lnTo>
                  <a:lnTo>
                    <a:pt x="491" y="463"/>
                  </a:lnTo>
                  <a:lnTo>
                    <a:pt x="489" y="450"/>
                  </a:lnTo>
                  <a:lnTo>
                    <a:pt x="486" y="439"/>
                  </a:lnTo>
                  <a:lnTo>
                    <a:pt x="482" y="427"/>
                  </a:lnTo>
                  <a:lnTo>
                    <a:pt x="478" y="416"/>
                  </a:lnTo>
                  <a:lnTo>
                    <a:pt x="474" y="405"/>
                  </a:lnTo>
                  <a:lnTo>
                    <a:pt x="470" y="395"/>
                  </a:lnTo>
                  <a:lnTo>
                    <a:pt x="465" y="384"/>
                  </a:lnTo>
                  <a:lnTo>
                    <a:pt x="459" y="375"/>
                  </a:lnTo>
                  <a:lnTo>
                    <a:pt x="453" y="365"/>
                  </a:lnTo>
                  <a:lnTo>
                    <a:pt x="447" y="356"/>
                  </a:lnTo>
                  <a:lnTo>
                    <a:pt x="439" y="347"/>
                  </a:lnTo>
                  <a:lnTo>
                    <a:pt x="431" y="338"/>
                  </a:lnTo>
                  <a:lnTo>
                    <a:pt x="424" y="330"/>
                  </a:lnTo>
                  <a:lnTo>
                    <a:pt x="415" y="321"/>
                  </a:lnTo>
                  <a:lnTo>
                    <a:pt x="407" y="315"/>
                  </a:lnTo>
                  <a:lnTo>
                    <a:pt x="398" y="308"/>
                  </a:lnTo>
                  <a:lnTo>
                    <a:pt x="388" y="301"/>
                  </a:lnTo>
                  <a:lnTo>
                    <a:pt x="379" y="296"/>
                  </a:lnTo>
                  <a:lnTo>
                    <a:pt x="369" y="291"/>
                  </a:lnTo>
                  <a:lnTo>
                    <a:pt x="359" y="286"/>
                  </a:lnTo>
                  <a:lnTo>
                    <a:pt x="348" y="281"/>
                  </a:lnTo>
                  <a:lnTo>
                    <a:pt x="338" y="278"/>
                  </a:lnTo>
                  <a:lnTo>
                    <a:pt x="326" y="275"/>
                  </a:lnTo>
                  <a:lnTo>
                    <a:pt x="316" y="272"/>
                  </a:lnTo>
                  <a:lnTo>
                    <a:pt x="292" y="269"/>
                  </a:lnTo>
                  <a:lnTo>
                    <a:pt x="267" y="267"/>
                  </a:lnTo>
                  <a:lnTo>
                    <a:pt x="267" y="756"/>
                  </a:lnTo>
                  <a:close/>
                  <a:moveTo>
                    <a:pt x="156" y="0"/>
                  </a:moveTo>
                  <a:lnTo>
                    <a:pt x="192" y="0"/>
                  </a:lnTo>
                  <a:lnTo>
                    <a:pt x="225" y="1"/>
                  </a:lnTo>
                  <a:lnTo>
                    <a:pt x="258" y="3"/>
                  </a:lnTo>
                  <a:lnTo>
                    <a:pt x="288" y="5"/>
                  </a:lnTo>
                  <a:lnTo>
                    <a:pt x="317" y="7"/>
                  </a:lnTo>
                  <a:lnTo>
                    <a:pt x="343" y="11"/>
                  </a:lnTo>
                  <a:lnTo>
                    <a:pt x="368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29"/>
                  </a:lnTo>
                  <a:lnTo>
                    <a:pt x="454" y="37"/>
                  </a:lnTo>
                  <a:lnTo>
                    <a:pt x="474" y="44"/>
                  </a:lnTo>
                  <a:lnTo>
                    <a:pt x="493" y="51"/>
                  </a:lnTo>
                  <a:lnTo>
                    <a:pt x="512" y="61"/>
                  </a:lnTo>
                  <a:lnTo>
                    <a:pt x="530" y="70"/>
                  </a:lnTo>
                  <a:lnTo>
                    <a:pt x="548" y="81"/>
                  </a:lnTo>
                  <a:lnTo>
                    <a:pt x="575" y="99"/>
                  </a:lnTo>
                  <a:lnTo>
                    <a:pt x="600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4" y="209"/>
                  </a:lnTo>
                  <a:lnTo>
                    <a:pt x="701" y="234"/>
                  </a:lnTo>
                  <a:lnTo>
                    <a:pt x="715" y="261"/>
                  </a:lnTo>
                  <a:lnTo>
                    <a:pt x="729" y="291"/>
                  </a:lnTo>
                  <a:lnTo>
                    <a:pt x="741" y="320"/>
                  </a:lnTo>
                  <a:lnTo>
                    <a:pt x="751" y="352"/>
                  </a:lnTo>
                  <a:lnTo>
                    <a:pt x="758" y="383"/>
                  </a:lnTo>
                  <a:lnTo>
                    <a:pt x="765" y="417"/>
                  </a:lnTo>
                  <a:lnTo>
                    <a:pt x="770" y="450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5"/>
                  </a:lnTo>
                  <a:lnTo>
                    <a:pt x="769" y="588"/>
                  </a:lnTo>
                  <a:lnTo>
                    <a:pt x="765" y="620"/>
                  </a:lnTo>
                  <a:lnTo>
                    <a:pt x="757" y="650"/>
                  </a:lnTo>
                  <a:lnTo>
                    <a:pt x="748" y="680"/>
                  </a:lnTo>
                  <a:lnTo>
                    <a:pt x="737" y="710"/>
                  </a:lnTo>
                  <a:lnTo>
                    <a:pt x="725" y="738"/>
                  </a:lnTo>
                  <a:lnTo>
                    <a:pt x="710" y="767"/>
                  </a:lnTo>
                  <a:lnTo>
                    <a:pt x="693" y="794"/>
                  </a:lnTo>
                  <a:lnTo>
                    <a:pt x="674" y="819"/>
                  </a:lnTo>
                  <a:lnTo>
                    <a:pt x="655" y="844"/>
                  </a:lnTo>
                  <a:lnTo>
                    <a:pt x="634" y="867"/>
                  </a:lnTo>
                  <a:lnTo>
                    <a:pt x="610" y="889"/>
                  </a:lnTo>
                  <a:lnTo>
                    <a:pt x="585" y="910"/>
                  </a:lnTo>
                  <a:lnTo>
                    <a:pt x="559" y="929"/>
                  </a:lnTo>
                  <a:lnTo>
                    <a:pt x="531" y="948"/>
                  </a:lnTo>
                  <a:lnTo>
                    <a:pt x="513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4" y="993"/>
                  </a:lnTo>
                  <a:lnTo>
                    <a:pt x="413" y="1001"/>
                  </a:lnTo>
                  <a:lnTo>
                    <a:pt x="391" y="1006"/>
                  </a:lnTo>
                  <a:lnTo>
                    <a:pt x="369" y="1012"/>
                  </a:lnTo>
                  <a:lnTo>
                    <a:pt x="346" y="1016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091040" y="1490760"/>
              <a:ext cx="206280" cy="326880"/>
            </a:xfrm>
            <a:custGeom>
              <a:avLst/>
              <a:gdLst/>
              <a:ahLst/>
              <a:rect l="l" t="t" r="r" b="b"/>
              <a:pathLst>
                <a:path w="650" h="1032">
                  <a:moveTo>
                    <a:pt x="650" y="748"/>
                  </a:moveTo>
                  <a:lnTo>
                    <a:pt x="56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267" y="0"/>
                  </a:lnTo>
                  <a:lnTo>
                    <a:pt x="267" y="748"/>
                  </a:lnTo>
                  <a:lnTo>
                    <a:pt x="650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316400" y="1490760"/>
              <a:ext cx="219240" cy="336600"/>
            </a:xfrm>
            <a:custGeom>
              <a:avLst/>
              <a:gdLst/>
              <a:ahLst/>
              <a:rect l="l" t="t" r="r" b="b"/>
              <a:pathLst>
                <a:path w="694" h="1059">
                  <a:moveTo>
                    <a:pt x="426" y="625"/>
                  </a:moveTo>
                  <a:lnTo>
                    <a:pt x="426" y="0"/>
                  </a:lnTo>
                  <a:lnTo>
                    <a:pt x="694" y="0"/>
                  </a:lnTo>
                  <a:lnTo>
                    <a:pt x="694" y="625"/>
                  </a:lnTo>
                  <a:lnTo>
                    <a:pt x="693" y="659"/>
                  </a:lnTo>
                  <a:lnTo>
                    <a:pt x="692" y="693"/>
                  </a:lnTo>
                  <a:lnTo>
                    <a:pt x="691" y="723"/>
                  </a:lnTo>
                  <a:lnTo>
                    <a:pt x="688" y="752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3" y="842"/>
                  </a:lnTo>
                  <a:lnTo>
                    <a:pt x="667" y="860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8"/>
                  </a:lnTo>
                  <a:lnTo>
                    <a:pt x="636" y="924"/>
                  </a:lnTo>
                  <a:lnTo>
                    <a:pt x="627" y="939"/>
                  </a:lnTo>
                  <a:lnTo>
                    <a:pt x="615" y="952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5"/>
                  </a:lnTo>
                  <a:lnTo>
                    <a:pt x="555" y="1005"/>
                  </a:lnTo>
                  <a:lnTo>
                    <a:pt x="541" y="1013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4"/>
                  </a:lnTo>
                  <a:lnTo>
                    <a:pt x="477" y="1041"/>
                  </a:lnTo>
                  <a:lnTo>
                    <a:pt x="460" y="1045"/>
                  </a:lnTo>
                  <a:lnTo>
                    <a:pt x="442" y="1050"/>
                  </a:lnTo>
                  <a:lnTo>
                    <a:pt x="423" y="1053"/>
                  </a:lnTo>
                  <a:lnTo>
                    <a:pt x="405" y="1055"/>
                  </a:lnTo>
                  <a:lnTo>
                    <a:pt x="385" y="1057"/>
                  </a:lnTo>
                  <a:lnTo>
                    <a:pt x="366" y="1058"/>
                  </a:lnTo>
                  <a:lnTo>
                    <a:pt x="347" y="1059"/>
                  </a:lnTo>
                  <a:lnTo>
                    <a:pt x="327" y="1058"/>
                  </a:lnTo>
                  <a:lnTo>
                    <a:pt x="308" y="1057"/>
                  </a:lnTo>
                  <a:lnTo>
                    <a:pt x="289" y="1055"/>
                  </a:lnTo>
                  <a:lnTo>
                    <a:pt x="270" y="1053"/>
                  </a:lnTo>
                  <a:lnTo>
                    <a:pt x="252" y="1050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200" y="1034"/>
                  </a:lnTo>
                  <a:lnTo>
                    <a:pt x="183" y="1028"/>
                  </a:lnTo>
                  <a:lnTo>
                    <a:pt x="167" y="1021"/>
                  </a:lnTo>
                  <a:lnTo>
                    <a:pt x="152" y="1013"/>
                  </a:lnTo>
                  <a:lnTo>
                    <a:pt x="139" y="1005"/>
                  </a:lnTo>
                  <a:lnTo>
                    <a:pt x="125" y="995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1" y="965"/>
                  </a:lnTo>
                  <a:lnTo>
                    <a:pt x="79" y="952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9" y="908"/>
                  </a:lnTo>
                  <a:lnTo>
                    <a:pt x="40" y="893"/>
                  </a:lnTo>
                  <a:lnTo>
                    <a:pt x="33" y="876"/>
                  </a:lnTo>
                  <a:lnTo>
                    <a:pt x="27" y="858"/>
                  </a:lnTo>
                  <a:lnTo>
                    <a:pt x="20" y="840"/>
                  </a:lnTo>
                  <a:lnTo>
                    <a:pt x="16" y="821"/>
                  </a:lnTo>
                  <a:lnTo>
                    <a:pt x="12" y="799"/>
                  </a:lnTo>
                  <a:lnTo>
                    <a:pt x="8" y="775"/>
                  </a:lnTo>
                  <a:lnTo>
                    <a:pt x="5" y="750"/>
                  </a:lnTo>
                  <a:lnTo>
                    <a:pt x="2" y="721"/>
                  </a:lnTo>
                  <a:lnTo>
                    <a:pt x="1" y="691"/>
                  </a:lnTo>
                  <a:lnTo>
                    <a:pt x="0" y="659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8" y="646"/>
                  </a:lnTo>
                  <a:lnTo>
                    <a:pt x="269" y="665"/>
                  </a:lnTo>
                  <a:lnTo>
                    <a:pt x="270" y="683"/>
                  </a:lnTo>
                  <a:lnTo>
                    <a:pt x="272" y="698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6" y="747"/>
                  </a:lnTo>
                  <a:lnTo>
                    <a:pt x="291" y="754"/>
                  </a:lnTo>
                  <a:lnTo>
                    <a:pt x="296" y="761"/>
                  </a:lnTo>
                  <a:lnTo>
                    <a:pt x="302" y="768"/>
                  </a:lnTo>
                  <a:lnTo>
                    <a:pt x="310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8" y="781"/>
                  </a:lnTo>
                  <a:lnTo>
                    <a:pt x="357" y="780"/>
                  </a:lnTo>
                  <a:lnTo>
                    <a:pt x="366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1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3" y="736"/>
                  </a:lnTo>
                  <a:lnTo>
                    <a:pt x="417" y="725"/>
                  </a:lnTo>
                  <a:lnTo>
                    <a:pt x="419" y="712"/>
                  </a:lnTo>
                  <a:lnTo>
                    <a:pt x="422" y="698"/>
                  </a:lnTo>
                  <a:lnTo>
                    <a:pt x="424" y="681"/>
                  </a:lnTo>
                  <a:lnTo>
                    <a:pt x="425" y="665"/>
                  </a:lnTo>
                  <a:lnTo>
                    <a:pt x="426" y="646"/>
                  </a:lnTo>
                  <a:lnTo>
                    <a:pt x="426" y="6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591080" y="1490760"/>
              <a:ext cx="22212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266" y="402"/>
                  </a:moveTo>
                  <a:lnTo>
                    <a:pt x="313" y="402"/>
                  </a:lnTo>
                  <a:lnTo>
                    <a:pt x="328" y="402"/>
                  </a:lnTo>
                  <a:lnTo>
                    <a:pt x="342" y="401"/>
                  </a:lnTo>
                  <a:lnTo>
                    <a:pt x="354" y="399"/>
                  </a:lnTo>
                  <a:lnTo>
                    <a:pt x="366" y="397"/>
                  </a:lnTo>
                  <a:lnTo>
                    <a:pt x="377" y="395"/>
                  </a:lnTo>
                  <a:lnTo>
                    <a:pt x="387" y="391"/>
                  </a:lnTo>
                  <a:lnTo>
                    <a:pt x="396" y="386"/>
                  </a:lnTo>
                  <a:lnTo>
                    <a:pt x="404" y="382"/>
                  </a:lnTo>
                  <a:lnTo>
                    <a:pt x="411" y="377"/>
                  </a:lnTo>
                  <a:lnTo>
                    <a:pt x="416" y="371"/>
                  </a:lnTo>
                  <a:lnTo>
                    <a:pt x="421" y="363"/>
                  </a:lnTo>
                  <a:lnTo>
                    <a:pt x="426" y="356"/>
                  </a:lnTo>
                  <a:lnTo>
                    <a:pt x="429" y="349"/>
                  </a:lnTo>
                  <a:lnTo>
                    <a:pt x="431" y="339"/>
                  </a:lnTo>
                  <a:lnTo>
                    <a:pt x="433" y="330"/>
                  </a:lnTo>
                  <a:lnTo>
                    <a:pt x="433" y="320"/>
                  </a:lnTo>
                  <a:lnTo>
                    <a:pt x="433" y="309"/>
                  </a:lnTo>
                  <a:lnTo>
                    <a:pt x="432" y="297"/>
                  </a:lnTo>
                  <a:lnTo>
                    <a:pt x="430" y="288"/>
                  </a:lnTo>
                  <a:lnTo>
                    <a:pt x="427" y="278"/>
                  </a:lnTo>
                  <a:lnTo>
                    <a:pt x="422" y="270"/>
                  </a:lnTo>
                  <a:lnTo>
                    <a:pt x="418" y="263"/>
                  </a:lnTo>
                  <a:lnTo>
                    <a:pt x="412" y="256"/>
                  </a:lnTo>
                  <a:lnTo>
                    <a:pt x="406" y="250"/>
                  </a:lnTo>
                  <a:lnTo>
                    <a:pt x="398" y="246"/>
                  </a:lnTo>
                  <a:lnTo>
                    <a:pt x="390" y="242"/>
                  </a:lnTo>
                  <a:lnTo>
                    <a:pt x="379" y="237"/>
                  </a:lnTo>
                  <a:lnTo>
                    <a:pt x="369" y="234"/>
                  </a:lnTo>
                  <a:lnTo>
                    <a:pt x="356" y="232"/>
                  </a:lnTo>
                  <a:lnTo>
                    <a:pt x="344" y="231"/>
                  </a:lnTo>
                  <a:lnTo>
                    <a:pt x="329" y="230"/>
                  </a:lnTo>
                  <a:lnTo>
                    <a:pt x="313" y="229"/>
                  </a:lnTo>
                  <a:lnTo>
                    <a:pt x="266" y="229"/>
                  </a:lnTo>
                  <a:lnTo>
                    <a:pt x="266" y="402"/>
                  </a:lnTo>
                  <a:close/>
                  <a:moveTo>
                    <a:pt x="266" y="795"/>
                  </a:moveTo>
                  <a:lnTo>
                    <a:pt x="322" y="795"/>
                  </a:lnTo>
                  <a:lnTo>
                    <a:pt x="335" y="795"/>
                  </a:lnTo>
                  <a:lnTo>
                    <a:pt x="348" y="794"/>
                  </a:lnTo>
                  <a:lnTo>
                    <a:pt x="361" y="792"/>
                  </a:lnTo>
                  <a:lnTo>
                    <a:pt x="372" y="790"/>
                  </a:lnTo>
                  <a:lnTo>
                    <a:pt x="382" y="786"/>
                  </a:lnTo>
                  <a:lnTo>
                    <a:pt x="391" y="783"/>
                  </a:lnTo>
                  <a:lnTo>
                    <a:pt x="400" y="778"/>
                  </a:lnTo>
                  <a:lnTo>
                    <a:pt x="408" y="773"/>
                  </a:lnTo>
                  <a:lnTo>
                    <a:pt x="414" y="768"/>
                  </a:lnTo>
                  <a:lnTo>
                    <a:pt x="420" y="761"/>
                  </a:lnTo>
                  <a:lnTo>
                    <a:pt x="425" y="754"/>
                  </a:lnTo>
                  <a:lnTo>
                    <a:pt x="429" y="746"/>
                  </a:lnTo>
                  <a:lnTo>
                    <a:pt x="432" y="737"/>
                  </a:lnTo>
                  <a:lnTo>
                    <a:pt x="434" y="728"/>
                  </a:lnTo>
                  <a:lnTo>
                    <a:pt x="436" y="717"/>
                  </a:lnTo>
                  <a:lnTo>
                    <a:pt x="436" y="707"/>
                  </a:lnTo>
                  <a:lnTo>
                    <a:pt x="436" y="695"/>
                  </a:lnTo>
                  <a:lnTo>
                    <a:pt x="434" y="684"/>
                  </a:lnTo>
                  <a:lnTo>
                    <a:pt x="432" y="673"/>
                  </a:lnTo>
                  <a:lnTo>
                    <a:pt x="429" y="663"/>
                  </a:lnTo>
                  <a:lnTo>
                    <a:pt x="425" y="654"/>
                  </a:lnTo>
                  <a:lnTo>
                    <a:pt x="419" y="646"/>
                  </a:lnTo>
                  <a:lnTo>
                    <a:pt x="413" y="638"/>
                  </a:lnTo>
                  <a:lnTo>
                    <a:pt x="407" y="632"/>
                  </a:lnTo>
                  <a:lnTo>
                    <a:pt x="398" y="626"/>
                  </a:lnTo>
                  <a:lnTo>
                    <a:pt x="390" y="622"/>
                  </a:lnTo>
                  <a:lnTo>
                    <a:pt x="379" y="617"/>
                  </a:lnTo>
                  <a:lnTo>
                    <a:pt x="369" y="613"/>
                  </a:lnTo>
                  <a:lnTo>
                    <a:pt x="356" y="611"/>
                  </a:lnTo>
                  <a:lnTo>
                    <a:pt x="344" y="609"/>
                  </a:lnTo>
                  <a:lnTo>
                    <a:pt x="330" y="608"/>
                  </a:lnTo>
                  <a:lnTo>
                    <a:pt x="314" y="608"/>
                  </a:lnTo>
                  <a:lnTo>
                    <a:pt x="266" y="608"/>
                  </a:lnTo>
                  <a:lnTo>
                    <a:pt x="266" y="79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4" y="7"/>
                  </a:lnTo>
                  <a:lnTo>
                    <a:pt x="462" y="11"/>
                  </a:lnTo>
                  <a:lnTo>
                    <a:pt x="480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29" y="28"/>
                  </a:lnTo>
                  <a:lnTo>
                    <a:pt x="544" y="35"/>
                  </a:lnTo>
                  <a:lnTo>
                    <a:pt x="559" y="41"/>
                  </a:lnTo>
                  <a:lnTo>
                    <a:pt x="572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09" y="72"/>
                  </a:lnTo>
                  <a:lnTo>
                    <a:pt x="620" y="82"/>
                  </a:lnTo>
                  <a:lnTo>
                    <a:pt x="630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7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7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4" y="218"/>
                  </a:lnTo>
                  <a:lnTo>
                    <a:pt x="696" y="234"/>
                  </a:lnTo>
                  <a:lnTo>
                    <a:pt x="698" y="250"/>
                  </a:lnTo>
                  <a:lnTo>
                    <a:pt x="699" y="267"/>
                  </a:lnTo>
                  <a:lnTo>
                    <a:pt x="699" y="284"/>
                  </a:lnTo>
                  <a:lnTo>
                    <a:pt x="699" y="305"/>
                  </a:lnTo>
                  <a:lnTo>
                    <a:pt x="697" y="323"/>
                  </a:lnTo>
                  <a:lnTo>
                    <a:pt x="695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4" y="406"/>
                  </a:lnTo>
                  <a:lnTo>
                    <a:pt x="667" y="421"/>
                  </a:lnTo>
                  <a:lnTo>
                    <a:pt x="657" y="435"/>
                  </a:lnTo>
                  <a:lnTo>
                    <a:pt x="647" y="447"/>
                  </a:lnTo>
                  <a:lnTo>
                    <a:pt x="636" y="460"/>
                  </a:lnTo>
                  <a:lnTo>
                    <a:pt x="624" y="471"/>
                  </a:lnTo>
                  <a:lnTo>
                    <a:pt x="610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4" y="527"/>
                  </a:lnTo>
                  <a:lnTo>
                    <a:pt x="609" y="536"/>
                  </a:lnTo>
                  <a:lnTo>
                    <a:pt x="623" y="545"/>
                  </a:lnTo>
                  <a:lnTo>
                    <a:pt x="635" y="557"/>
                  </a:lnTo>
                  <a:lnTo>
                    <a:pt x="647" y="568"/>
                  </a:lnTo>
                  <a:lnTo>
                    <a:pt x="657" y="581"/>
                  </a:lnTo>
                  <a:lnTo>
                    <a:pt x="667" y="595"/>
                  </a:lnTo>
                  <a:lnTo>
                    <a:pt x="675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4" y="662"/>
                  </a:lnTo>
                  <a:lnTo>
                    <a:pt x="697" y="680"/>
                  </a:lnTo>
                  <a:lnTo>
                    <a:pt x="700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1" y="778"/>
                  </a:lnTo>
                  <a:lnTo>
                    <a:pt x="699" y="794"/>
                  </a:lnTo>
                  <a:lnTo>
                    <a:pt x="697" y="811"/>
                  </a:lnTo>
                  <a:lnTo>
                    <a:pt x="694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0" y="868"/>
                  </a:lnTo>
                  <a:lnTo>
                    <a:pt x="674" y="882"/>
                  </a:lnTo>
                  <a:lnTo>
                    <a:pt x="667" y="895"/>
                  </a:lnTo>
                  <a:lnTo>
                    <a:pt x="659" y="907"/>
                  </a:lnTo>
                  <a:lnTo>
                    <a:pt x="652" y="919"/>
                  </a:lnTo>
                  <a:lnTo>
                    <a:pt x="643" y="929"/>
                  </a:lnTo>
                  <a:lnTo>
                    <a:pt x="633" y="940"/>
                  </a:lnTo>
                  <a:lnTo>
                    <a:pt x="623" y="950"/>
                  </a:lnTo>
                  <a:lnTo>
                    <a:pt x="612" y="959"/>
                  </a:lnTo>
                  <a:lnTo>
                    <a:pt x="600" y="968"/>
                  </a:lnTo>
                  <a:lnTo>
                    <a:pt x="588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6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1" y="1017"/>
                  </a:lnTo>
                  <a:lnTo>
                    <a:pt x="463" y="1022"/>
                  </a:lnTo>
                  <a:lnTo>
                    <a:pt x="444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86396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266" y="485"/>
                  </a:moveTo>
                  <a:lnTo>
                    <a:pt x="293" y="485"/>
                  </a:lnTo>
                  <a:lnTo>
                    <a:pt x="310" y="484"/>
                  </a:lnTo>
                  <a:lnTo>
                    <a:pt x="326" y="483"/>
                  </a:lnTo>
                  <a:lnTo>
                    <a:pt x="342" y="480"/>
                  </a:lnTo>
                  <a:lnTo>
                    <a:pt x="357" y="477"/>
                  </a:lnTo>
                  <a:lnTo>
                    <a:pt x="369" y="473"/>
                  </a:lnTo>
                  <a:lnTo>
                    <a:pt x="382" y="466"/>
                  </a:lnTo>
                  <a:lnTo>
                    <a:pt x="392" y="460"/>
                  </a:lnTo>
                  <a:lnTo>
                    <a:pt x="403" y="453"/>
                  </a:lnTo>
                  <a:lnTo>
                    <a:pt x="411" y="443"/>
                  </a:lnTo>
                  <a:lnTo>
                    <a:pt x="418" y="434"/>
                  </a:lnTo>
                  <a:lnTo>
                    <a:pt x="426" y="423"/>
                  </a:lnTo>
                  <a:lnTo>
                    <a:pt x="431" y="412"/>
                  </a:lnTo>
                  <a:lnTo>
                    <a:pt x="435" y="400"/>
                  </a:lnTo>
                  <a:lnTo>
                    <a:pt x="437" y="386"/>
                  </a:lnTo>
                  <a:lnTo>
                    <a:pt x="439" y="372"/>
                  </a:lnTo>
                  <a:lnTo>
                    <a:pt x="440" y="357"/>
                  </a:lnTo>
                  <a:lnTo>
                    <a:pt x="439" y="341"/>
                  </a:lnTo>
                  <a:lnTo>
                    <a:pt x="437" y="327"/>
                  </a:lnTo>
                  <a:lnTo>
                    <a:pt x="435" y="313"/>
                  </a:lnTo>
                  <a:lnTo>
                    <a:pt x="431" y="300"/>
                  </a:lnTo>
                  <a:lnTo>
                    <a:pt x="426" y="289"/>
                  </a:lnTo>
                  <a:lnTo>
                    <a:pt x="419" y="278"/>
                  </a:lnTo>
                  <a:lnTo>
                    <a:pt x="412" y="269"/>
                  </a:lnTo>
                  <a:lnTo>
                    <a:pt x="404" y="259"/>
                  </a:lnTo>
                  <a:lnTo>
                    <a:pt x="394" y="252"/>
                  </a:lnTo>
                  <a:lnTo>
                    <a:pt x="384" y="245"/>
                  </a:lnTo>
                  <a:lnTo>
                    <a:pt x="372" y="239"/>
                  </a:lnTo>
                  <a:lnTo>
                    <a:pt x="360" y="234"/>
                  </a:lnTo>
                  <a:lnTo>
                    <a:pt x="346" y="231"/>
                  </a:lnTo>
                  <a:lnTo>
                    <a:pt x="331" y="228"/>
                  </a:lnTo>
                  <a:lnTo>
                    <a:pt x="317" y="227"/>
                  </a:lnTo>
                  <a:lnTo>
                    <a:pt x="300" y="226"/>
                  </a:lnTo>
                  <a:lnTo>
                    <a:pt x="266" y="226"/>
                  </a:lnTo>
                  <a:lnTo>
                    <a:pt x="266" y="48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291" y="0"/>
                  </a:lnTo>
                  <a:lnTo>
                    <a:pt x="317" y="1"/>
                  </a:lnTo>
                  <a:lnTo>
                    <a:pt x="341" y="1"/>
                  </a:lnTo>
                  <a:lnTo>
                    <a:pt x="364" y="3"/>
                  </a:lnTo>
                  <a:lnTo>
                    <a:pt x="387" y="5"/>
                  </a:lnTo>
                  <a:lnTo>
                    <a:pt x="409" y="8"/>
                  </a:lnTo>
                  <a:lnTo>
                    <a:pt x="431" y="12"/>
                  </a:lnTo>
                  <a:lnTo>
                    <a:pt x="451" y="16"/>
                  </a:lnTo>
                  <a:lnTo>
                    <a:pt x="471" y="21"/>
                  </a:lnTo>
                  <a:lnTo>
                    <a:pt x="490" y="26"/>
                  </a:lnTo>
                  <a:lnTo>
                    <a:pt x="509" y="33"/>
                  </a:lnTo>
                  <a:lnTo>
                    <a:pt x="525" y="40"/>
                  </a:lnTo>
                  <a:lnTo>
                    <a:pt x="542" y="47"/>
                  </a:lnTo>
                  <a:lnTo>
                    <a:pt x="559" y="56"/>
                  </a:lnTo>
                  <a:lnTo>
                    <a:pt x="574" y="64"/>
                  </a:lnTo>
                  <a:lnTo>
                    <a:pt x="588" y="74"/>
                  </a:lnTo>
                  <a:lnTo>
                    <a:pt x="602" y="84"/>
                  </a:lnTo>
                  <a:lnTo>
                    <a:pt x="616" y="95"/>
                  </a:lnTo>
                  <a:lnTo>
                    <a:pt x="627" y="106"/>
                  </a:lnTo>
                  <a:lnTo>
                    <a:pt x="639" y="118"/>
                  </a:lnTo>
                  <a:lnTo>
                    <a:pt x="649" y="130"/>
                  </a:lnTo>
                  <a:lnTo>
                    <a:pt x="659" y="144"/>
                  </a:lnTo>
                  <a:lnTo>
                    <a:pt x="668" y="158"/>
                  </a:lnTo>
                  <a:lnTo>
                    <a:pt x="675" y="171"/>
                  </a:lnTo>
                  <a:lnTo>
                    <a:pt x="683" y="186"/>
                  </a:lnTo>
                  <a:lnTo>
                    <a:pt x="689" y="202"/>
                  </a:lnTo>
                  <a:lnTo>
                    <a:pt x="694" y="217"/>
                  </a:lnTo>
                  <a:lnTo>
                    <a:pt x="700" y="234"/>
                  </a:lnTo>
                  <a:lnTo>
                    <a:pt x="703" y="252"/>
                  </a:lnTo>
                  <a:lnTo>
                    <a:pt x="706" y="269"/>
                  </a:lnTo>
                  <a:lnTo>
                    <a:pt x="708" y="288"/>
                  </a:lnTo>
                  <a:lnTo>
                    <a:pt x="709" y="307"/>
                  </a:lnTo>
                  <a:lnTo>
                    <a:pt x="710" y="327"/>
                  </a:lnTo>
                  <a:lnTo>
                    <a:pt x="709" y="349"/>
                  </a:lnTo>
                  <a:lnTo>
                    <a:pt x="707" y="371"/>
                  </a:lnTo>
                  <a:lnTo>
                    <a:pt x="704" y="392"/>
                  </a:lnTo>
                  <a:lnTo>
                    <a:pt x="698" y="412"/>
                  </a:lnTo>
                  <a:lnTo>
                    <a:pt x="692" y="432"/>
                  </a:lnTo>
                  <a:lnTo>
                    <a:pt x="685" y="450"/>
                  </a:lnTo>
                  <a:lnTo>
                    <a:pt x="676" y="468"/>
                  </a:lnTo>
                  <a:lnTo>
                    <a:pt x="666" y="485"/>
                  </a:lnTo>
                  <a:lnTo>
                    <a:pt x="654" y="502"/>
                  </a:lnTo>
                  <a:lnTo>
                    <a:pt x="642" y="517"/>
                  </a:lnTo>
                  <a:lnTo>
                    <a:pt x="628" y="530"/>
                  </a:lnTo>
                  <a:lnTo>
                    <a:pt x="615" y="542"/>
                  </a:lnTo>
                  <a:lnTo>
                    <a:pt x="599" y="553"/>
                  </a:lnTo>
                  <a:lnTo>
                    <a:pt x="582" y="563"/>
                  </a:lnTo>
                  <a:lnTo>
                    <a:pt x="564" y="571"/>
                  </a:lnTo>
                  <a:lnTo>
                    <a:pt x="546" y="579"/>
                  </a:lnTo>
                  <a:lnTo>
                    <a:pt x="773" y="1032"/>
                  </a:lnTo>
                  <a:lnTo>
                    <a:pt x="480" y="1032"/>
                  </a:lnTo>
                  <a:lnTo>
                    <a:pt x="266" y="590"/>
                  </a:lnTo>
                  <a:lnTo>
                    <a:pt x="266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138640" y="1490760"/>
              <a:ext cx="85680" cy="326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267160" y="1484280"/>
              <a:ext cx="223920" cy="339840"/>
            </a:xfrm>
            <a:custGeom>
              <a:avLst/>
              <a:gdLst/>
              <a:ahLst/>
              <a:rect l="l" t="t" r="r" b="b"/>
              <a:pathLst>
                <a:path w="703" h="1067">
                  <a:moveTo>
                    <a:pt x="682" y="1050"/>
                  </a:moveTo>
                  <a:lnTo>
                    <a:pt x="675" y="1052"/>
                  </a:lnTo>
                  <a:lnTo>
                    <a:pt x="666" y="1054"/>
                  </a:lnTo>
                  <a:lnTo>
                    <a:pt x="659" y="1055"/>
                  </a:lnTo>
                  <a:lnTo>
                    <a:pt x="651" y="1058"/>
                  </a:lnTo>
                  <a:lnTo>
                    <a:pt x="643" y="1060"/>
                  </a:lnTo>
                  <a:lnTo>
                    <a:pt x="635" y="1061"/>
                  </a:lnTo>
                  <a:lnTo>
                    <a:pt x="627" y="1062"/>
                  </a:lnTo>
                  <a:lnTo>
                    <a:pt x="618" y="1063"/>
                  </a:lnTo>
                  <a:lnTo>
                    <a:pt x="610" y="1064"/>
                  </a:lnTo>
                  <a:lnTo>
                    <a:pt x="601" y="1065"/>
                  </a:lnTo>
                  <a:lnTo>
                    <a:pt x="592" y="1066"/>
                  </a:lnTo>
                  <a:lnTo>
                    <a:pt x="584" y="1066"/>
                  </a:lnTo>
                  <a:lnTo>
                    <a:pt x="574" y="1067"/>
                  </a:lnTo>
                  <a:lnTo>
                    <a:pt x="565" y="1067"/>
                  </a:lnTo>
                  <a:lnTo>
                    <a:pt x="555" y="1067"/>
                  </a:lnTo>
                  <a:lnTo>
                    <a:pt x="545" y="1067"/>
                  </a:lnTo>
                  <a:lnTo>
                    <a:pt x="515" y="1067"/>
                  </a:lnTo>
                  <a:lnTo>
                    <a:pt x="486" y="1065"/>
                  </a:lnTo>
                  <a:lnTo>
                    <a:pt x="457" y="1062"/>
                  </a:lnTo>
                  <a:lnTo>
                    <a:pt x="429" y="1059"/>
                  </a:lnTo>
                  <a:lnTo>
                    <a:pt x="402" y="1053"/>
                  </a:lnTo>
                  <a:lnTo>
                    <a:pt x="375" y="1047"/>
                  </a:lnTo>
                  <a:lnTo>
                    <a:pt x="350" y="1040"/>
                  </a:lnTo>
                  <a:lnTo>
                    <a:pt x="324" y="1031"/>
                  </a:lnTo>
                  <a:lnTo>
                    <a:pt x="300" y="1021"/>
                  </a:lnTo>
                  <a:lnTo>
                    <a:pt x="277" y="1010"/>
                  </a:lnTo>
                  <a:lnTo>
                    <a:pt x="254" y="999"/>
                  </a:lnTo>
                  <a:lnTo>
                    <a:pt x="232" y="985"/>
                  </a:lnTo>
                  <a:lnTo>
                    <a:pt x="210" y="971"/>
                  </a:lnTo>
                  <a:lnTo>
                    <a:pt x="190" y="956"/>
                  </a:lnTo>
                  <a:lnTo>
                    <a:pt x="170" y="939"/>
                  </a:lnTo>
                  <a:lnTo>
                    <a:pt x="150" y="921"/>
                  </a:lnTo>
                  <a:lnTo>
                    <a:pt x="133" y="903"/>
                  </a:lnTo>
                  <a:lnTo>
                    <a:pt x="116" y="883"/>
                  </a:lnTo>
                  <a:lnTo>
                    <a:pt x="100" y="863"/>
                  </a:lnTo>
                  <a:lnTo>
                    <a:pt x="85" y="843"/>
                  </a:lnTo>
                  <a:lnTo>
                    <a:pt x="72" y="821"/>
                  </a:lnTo>
                  <a:lnTo>
                    <a:pt x="59" y="799"/>
                  </a:lnTo>
                  <a:lnTo>
                    <a:pt x="48" y="777"/>
                  </a:lnTo>
                  <a:lnTo>
                    <a:pt x="38" y="754"/>
                  </a:lnTo>
                  <a:lnTo>
                    <a:pt x="29" y="730"/>
                  </a:lnTo>
                  <a:lnTo>
                    <a:pt x="21" y="705"/>
                  </a:lnTo>
                  <a:lnTo>
                    <a:pt x="15" y="680"/>
                  </a:lnTo>
                  <a:lnTo>
                    <a:pt x="10" y="653"/>
                  </a:lnTo>
                  <a:lnTo>
                    <a:pt x="6" y="626"/>
                  </a:lnTo>
                  <a:lnTo>
                    <a:pt x="2" y="599"/>
                  </a:lnTo>
                  <a:lnTo>
                    <a:pt x="0" y="570"/>
                  </a:lnTo>
                  <a:lnTo>
                    <a:pt x="0" y="542"/>
                  </a:lnTo>
                  <a:lnTo>
                    <a:pt x="0" y="513"/>
                  </a:lnTo>
                  <a:lnTo>
                    <a:pt x="2" y="484"/>
                  </a:lnTo>
                  <a:lnTo>
                    <a:pt x="6" y="457"/>
                  </a:lnTo>
                  <a:lnTo>
                    <a:pt x="10" y="430"/>
                  </a:lnTo>
                  <a:lnTo>
                    <a:pt x="15" y="403"/>
                  </a:lnTo>
                  <a:lnTo>
                    <a:pt x="22" y="377"/>
                  </a:lnTo>
                  <a:lnTo>
                    <a:pt x="30" y="352"/>
                  </a:lnTo>
                  <a:lnTo>
                    <a:pt x="39" y="328"/>
                  </a:lnTo>
                  <a:lnTo>
                    <a:pt x="50" y="304"/>
                  </a:lnTo>
                  <a:lnTo>
                    <a:pt x="61" y="281"/>
                  </a:lnTo>
                  <a:lnTo>
                    <a:pt x="74" y="257"/>
                  </a:lnTo>
                  <a:lnTo>
                    <a:pt x="88" y="235"/>
                  </a:lnTo>
                  <a:lnTo>
                    <a:pt x="103" y="214"/>
                  </a:lnTo>
                  <a:lnTo>
                    <a:pt x="120" y="193"/>
                  </a:lnTo>
                  <a:lnTo>
                    <a:pt x="138" y="173"/>
                  </a:lnTo>
                  <a:lnTo>
                    <a:pt x="157" y="153"/>
                  </a:lnTo>
                  <a:lnTo>
                    <a:pt x="177" y="136"/>
                  </a:lnTo>
                  <a:lnTo>
                    <a:pt x="197" y="118"/>
                  </a:lnTo>
                  <a:lnTo>
                    <a:pt x="217" y="102"/>
                  </a:lnTo>
                  <a:lnTo>
                    <a:pt x="240" y="87"/>
                  </a:lnTo>
                  <a:lnTo>
                    <a:pt x="263" y="73"/>
                  </a:lnTo>
                  <a:lnTo>
                    <a:pt x="286" y="61"/>
                  </a:lnTo>
                  <a:lnTo>
                    <a:pt x="310" y="50"/>
                  </a:lnTo>
                  <a:lnTo>
                    <a:pt x="334" y="39"/>
                  </a:lnTo>
                  <a:lnTo>
                    <a:pt x="359" y="30"/>
                  </a:lnTo>
                  <a:lnTo>
                    <a:pt x="385" y="22"/>
                  </a:lnTo>
                  <a:lnTo>
                    <a:pt x="412" y="16"/>
                  </a:lnTo>
                  <a:lnTo>
                    <a:pt x="439" y="11"/>
                  </a:lnTo>
                  <a:lnTo>
                    <a:pt x="466" y="6"/>
                  </a:lnTo>
                  <a:lnTo>
                    <a:pt x="495" y="3"/>
                  </a:lnTo>
                  <a:lnTo>
                    <a:pt x="524" y="1"/>
                  </a:lnTo>
                  <a:lnTo>
                    <a:pt x="554" y="0"/>
                  </a:lnTo>
                  <a:lnTo>
                    <a:pt x="562" y="1"/>
                  </a:lnTo>
                  <a:lnTo>
                    <a:pt x="569" y="1"/>
                  </a:lnTo>
                  <a:lnTo>
                    <a:pt x="575" y="1"/>
                  </a:lnTo>
                  <a:lnTo>
                    <a:pt x="583" y="1"/>
                  </a:lnTo>
                  <a:lnTo>
                    <a:pt x="591" y="2"/>
                  </a:lnTo>
                  <a:lnTo>
                    <a:pt x="598" y="2"/>
                  </a:lnTo>
                  <a:lnTo>
                    <a:pt x="606" y="3"/>
                  </a:lnTo>
                  <a:lnTo>
                    <a:pt x="613" y="4"/>
                  </a:lnTo>
                  <a:lnTo>
                    <a:pt x="621" y="5"/>
                  </a:lnTo>
                  <a:lnTo>
                    <a:pt x="629" y="6"/>
                  </a:lnTo>
                  <a:lnTo>
                    <a:pt x="637" y="8"/>
                  </a:lnTo>
                  <a:lnTo>
                    <a:pt x="644" y="9"/>
                  </a:lnTo>
                  <a:lnTo>
                    <a:pt x="653" y="11"/>
                  </a:lnTo>
                  <a:lnTo>
                    <a:pt x="661" y="12"/>
                  </a:lnTo>
                  <a:lnTo>
                    <a:pt x="670" y="14"/>
                  </a:lnTo>
                  <a:lnTo>
                    <a:pt x="678" y="16"/>
                  </a:lnTo>
                  <a:lnTo>
                    <a:pt x="692" y="321"/>
                  </a:lnTo>
                  <a:lnTo>
                    <a:pt x="683" y="317"/>
                  </a:lnTo>
                  <a:lnTo>
                    <a:pt x="674" y="314"/>
                  </a:lnTo>
                  <a:lnTo>
                    <a:pt x="664" y="310"/>
                  </a:lnTo>
                  <a:lnTo>
                    <a:pt x="656" y="307"/>
                  </a:lnTo>
                  <a:lnTo>
                    <a:pt x="647" y="305"/>
                  </a:lnTo>
                  <a:lnTo>
                    <a:pt x="638" y="302"/>
                  </a:lnTo>
                  <a:lnTo>
                    <a:pt x="629" y="299"/>
                  </a:lnTo>
                  <a:lnTo>
                    <a:pt x="620" y="297"/>
                  </a:lnTo>
                  <a:lnTo>
                    <a:pt x="611" y="295"/>
                  </a:lnTo>
                  <a:lnTo>
                    <a:pt x="602" y="294"/>
                  </a:lnTo>
                  <a:lnTo>
                    <a:pt x="594" y="292"/>
                  </a:lnTo>
                  <a:lnTo>
                    <a:pt x="585" y="291"/>
                  </a:lnTo>
                  <a:lnTo>
                    <a:pt x="576" y="291"/>
                  </a:lnTo>
                  <a:lnTo>
                    <a:pt x="568" y="290"/>
                  </a:lnTo>
                  <a:lnTo>
                    <a:pt x="559" y="290"/>
                  </a:lnTo>
                  <a:lnTo>
                    <a:pt x="551" y="290"/>
                  </a:lnTo>
                  <a:lnTo>
                    <a:pt x="536" y="290"/>
                  </a:lnTo>
                  <a:lnTo>
                    <a:pt x="522" y="291"/>
                  </a:lnTo>
                  <a:lnTo>
                    <a:pt x="507" y="292"/>
                  </a:lnTo>
                  <a:lnTo>
                    <a:pt x="493" y="294"/>
                  </a:lnTo>
                  <a:lnTo>
                    <a:pt x="480" y="296"/>
                  </a:lnTo>
                  <a:lnTo>
                    <a:pt x="467" y="299"/>
                  </a:lnTo>
                  <a:lnTo>
                    <a:pt x="454" y="303"/>
                  </a:lnTo>
                  <a:lnTo>
                    <a:pt x="441" y="307"/>
                  </a:lnTo>
                  <a:lnTo>
                    <a:pt x="429" y="311"/>
                  </a:lnTo>
                  <a:lnTo>
                    <a:pt x="417" y="316"/>
                  </a:lnTo>
                  <a:lnTo>
                    <a:pt x="406" y="321"/>
                  </a:lnTo>
                  <a:lnTo>
                    <a:pt x="395" y="328"/>
                  </a:lnTo>
                  <a:lnTo>
                    <a:pt x="384" y="335"/>
                  </a:lnTo>
                  <a:lnTo>
                    <a:pt x="374" y="341"/>
                  </a:lnTo>
                  <a:lnTo>
                    <a:pt x="363" y="350"/>
                  </a:lnTo>
                  <a:lnTo>
                    <a:pt x="354" y="358"/>
                  </a:lnTo>
                  <a:lnTo>
                    <a:pt x="344" y="367"/>
                  </a:lnTo>
                  <a:lnTo>
                    <a:pt x="336" y="375"/>
                  </a:lnTo>
                  <a:lnTo>
                    <a:pt x="328" y="384"/>
                  </a:lnTo>
                  <a:lnTo>
                    <a:pt x="320" y="394"/>
                  </a:lnTo>
                  <a:lnTo>
                    <a:pt x="313" y="404"/>
                  </a:lnTo>
                  <a:lnTo>
                    <a:pt x="308" y="415"/>
                  </a:lnTo>
                  <a:lnTo>
                    <a:pt x="301" y="424"/>
                  </a:lnTo>
                  <a:lnTo>
                    <a:pt x="296" y="436"/>
                  </a:lnTo>
                  <a:lnTo>
                    <a:pt x="292" y="446"/>
                  </a:lnTo>
                  <a:lnTo>
                    <a:pt x="288" y="458"/>
                  </a:lnTo>
                  <a:lnTo>
                    <a:pt x="285" y="470"/>
                  </a:lnTo>
                  <a:lnTo>
                    <a:pt x="283" y="481"/>
                  </a:lnTo>
                  <a:lnTo>
                    <a:pt x="280" y="494"/>
                  </a:lnTo>
                  <a:lnTo>
                    <a:pt x="278" y="506"/>
                  </a:lnTo>
                  <a:lnTo>
                    <a:pt x="277" y="519"/>
                  </a:lnTo>
                  <a:lnTo>
                    <a:pt x="277" y="531"/>
                  </a:lnTo>
                  <a:lnTo>
                    <a:pt x="277" y="545"/>
                  </a:lnTo>
                  <a:lnTo>
                    <a:pt x="278" y="558"/>
                  </a:lnTo>
                  <a:lnTo>
                    <a:pt x="280" y="570"/>
                  </a:lnTo>
                  <a:lnTo>
                    <a:pt x="283" y="582"/>
                  </a:lnTo>
                  <a:lnTo>
                    <a:pt x="285" y="594"/>
                  </a:lnTo>
                  <a:lnTo>
                    <a:pt x="288" y="606"/>
                  </a:lnTo>
                  <a:lnTo>
                    <a:pt x="292" y="618"/>
                  </a:lnTo>
                  <a:lnTo>
                    <a:pt x="296" y="628"/>
                  </a:lnTo>
                  <a:lnTo>
                    <a:pt x="301" y="640"/>
                  </a:lnTo>
                  <a:lnTo>
                    <a:pt x="307" y="650"/>
                  </a:lnTo>
                  <a:lnTo>
                    <a:pt x="313" y="660"/>
                  </a:lnTo>
                  <a:lnTo>
                    <a:pt x="320" y="670"/>
                  </a:lnTo>
                  <a:lnTo>
                    <a:pt x="328" y="680"/>
                  </a:lnTo>
                  <a:lnTo>
                    <a:pt x="335" y="689"/>
                  </a:lnTo>
                  <a:lnTo>
                    <a:pt x="343" y="698"/>
                  </a:lnTo>
                  <a:lnTo>
                    <a:pt x="353" y="708"/>
                  </a:lnTo>
                  <a:lnTo>
                    <a:pt x="362" y="716"/>
                  </a:lnTo>
                  <a:lnTo>
                    <a:pt x="373" y="725"/>
                  </a:lnTo>
                  <a:lnTo>
                    <a:pt x="382" y="732"/>
                  </a:lnTo>
                  <a:lnTo>
                    <a:pt x="394" y="738"/>
                  </a:lnTo>
                  <a:lnTo>
                    <a:pt x="404" y="745"/>
                  </a:lnTo>
                  <a:lnTo>
                    <a:pt x="415" y="751"/>
                  </a:lnTo>
                  <a:lnTo>
                    <a:pt x="426" y="756"/>
                  </a:lnTo>
                  <a:lnTo>
                    <a:pt x="438" y="760"/>
                  </a:lnTo>
                  <a:lnTo>
                    <a:pt x="450" y="765"/>
                  </a:lnTo>
                  <a:lnTo>
                    <a:pt x="462" y="769"/>
                  </a:lnTo>
                  <a:lnTo>
                    <a:pt x="474" y="772"/>
                  </a:lnTo>
                  <a:lnTo>
                    <a:pt x="488" y="774"/>
                  </a:lnTo>
                  <a:lnTo>
                    <a:pt x="501" y="776"/>
                  </a:lnTo>
                  <a:lnTo>
                    <a:pt x="514" y="777"/>
                  </a:lnTo>
                  <a:lnTo>
                    <a:pt x="528" y="778"/>
                  </a:lnTo>
                  <a:lnTo>
                    <a:pt x="543" y="778"/>
                  </a:lnTo>
                  <a:lnTo>
                    <a:pt x="552" y="778"/>
                  </a:lnTo>
                  <a:lnTo>
                    <a:pt x="563" y="778"/>
                  </a:lnTo>
                  <a:lnTo>
                    <a:pt x="573" y="777"/>
                  </a:lnTo>
                  <a:lnTo>
                    <a:pt x="583" y="776"/>
                  </a:lnTo>
                  <a:lnTo>
                    <a:pt x="593" y="774"/>
                  </a:lnTo>
                  <a:lnTo>
                    <a:pt x="604" y="773"/>
                  </a:lnTo>
                  <a:lnTo>
                    <a:pt x="613" y="770"/>
                  </a:lnTo>
                  <a:lnTo>
                    <a:pt x="623" y="768"/>
                  </a:lnTo>
                  <a:lnTo>
                    <a:pt x="633" y="765"/>
                  </a:lnTo>
                  <a:lnTo>
                    <a:pt x="643" y="762"/>
                  </a:lnTo>
                  <a:lnTo>
                    <a:pt x="653" y="758"/>
                  </a:lnTo>
                  <a:lnTo>
                    <a:pt x="663" y="755"/>
                  </a:lnTo>
                  <a:lnTo>
                    <a:pt x="673" y="751"/>
                  </a:lnTo>
                  <a:lnTo>
                    <a:pt x="683" y="747"/>
                  </a:lnTo>
                  <a:lnTo>
                    <a:pt x="693" y="741"/>
                  </a:lnTo>
                  <a:lnTo>
                    <a:pt x="703" y="737"/>
                  </a:lnTo>
                  <a:lnTo>
                    <a:pt x="682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1196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392" y="658"/>
                  </a:moveTo>
                  <a:lnTo>
                    <a:pt x="604" y="658"/>
                  </a:lnTo>
                  <a:lnTo>
                    <a:pt x="497" y="310"/>
                  </a:lnTo>
                  <a:lnTo>
                    <a:pt x="392" y="658"/>
                  </a:lnTo>
                  <a:close/>
                  <a:moveTo>
                    <a:pt x="0" y="1032"/>
                  </a:moveTo>
                  <a:lnTo>
                    <a:pt x="360" y="0"/>
                  </a:lnTo>
                  <a:lnTo>
                    <a:pt x="662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85792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66" h="1032">
                  <a:moveTo>
                    <a:pt x="0" y="1032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501" y="452"/>
                  </a:lnTo>
                  <a:lnTo>
                    <a:pt x="501" y="0"/>
                  </a:lnTo>
                  <a:lnTo>
                    <a:pt x="766" y="0"/>
                  </a:lnTo>
                  <a:lnTo>
                    <a:pt x="766" y="1032"/>
                  </a:lnTo>
                  <a:lnTo>
                    <a:pt x="645" y="1032"/>
                  </a:lnTo>
                  <a:lnTo>
                    <a:pt x="267" y="584"/>
                  </a:lnTo>
                  <a:lnTo>
                    <a:pt x="267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30800" y="1490760"/>
              <a:ext cx="217440" cy="326880"/>
            </a:xfrm>
            <a:custGeom>
              <a:avLst/>
              <a:gdLst/>
              <a:ahLst/>
              <a:rect l="l" t="t" r="r" b="b"/>
              <a:pathLst>
                <a:path w="686" h="1032">
                  <a:moveTo>
                    <a:pt x="478" y="260"/>
                  </a:moveTo>
                  <a:lnTo>
                    <a:pt x="478" y="1032"/>
                  </a:lnTo>
                  <a:lnTo>
                    <a:pt x="209" y="1032"/>
                  </a:lnTo>
                  <a:lnTo>
                    <a:pt x="209" y="260"/>
                  </a:lnTo>
                  <a:lnTo>
                    <a:pt x="0" y="260"/>
                  </a:lnTo>
                  <a:lnTo>
                    <a:pt x="28" y="0"/>
                  </a:lnTo>
                  <a:lnTo>
                    <a:pt x="657" y="0"/>
                  </a:lnTo>
                  <a:lnTo>
                    <a:pt x="686" y="260"/>
                  </a:lnTo>
                  <a:lnTo>
                    <a:pt x="478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64440" y="1486080"/>
              <a:ext cx="17280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8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5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2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2" y="792"/>
                  </a:lnTo>
                  <a:lnTo>
                    <a:pt x="109" y="792"/>
                  </a:lnTo>
                  <a:lnTo>
                    <a:pt x="115" y="792"/>
                  </a:lnTo>
                  <a:lnTo>
                    <a:pt x="121" y="793"/>
                  </a:lnTo>
                  <a:lnTo>
                    <a:pt x="133" y="792"/>
                  </a:lnTo>
                  <a:lnTo>
                    <a:pt x="142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7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1" y="750"/>
                  </a:lnTo>
                  <a:lnTo>
                    <a:pt x="216" y="744"/>
                  </a:lnTo>
                  <a:lnTo>
                    <a:pt x="218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1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3" y="612"/>
                  </a:lnTo>
                  <a:lnTo>
                    <a:pt x="145" y="596"/>
                  </a:lnTo>
                  <a:lnTo>
                    <a:pt x="139" y="589"/>
                  </a:lnTo>
                  <a:lnTo>
                    <a:pt x="133" y="584"/>
                  </a:lnTo>
                  <a:lnTo>
                    <a:pt x="128" y="579"/>
                  </a:lnTo>
                  <a:lnTo>
                    <a:pt x="122" y="574"/>
                  </a:lnTo>
                  <a:lnTo>
                    <a:pt x="118" y="569"/>
                  </a:lnTo>
                  <a:lnTo>
                    <a:pt x="113" y="565"/>
                  </a:lnTo>
                  <a:lnTo>
                    <a:pt x="109" y="561"/>
                  </a:lnTo>
                  <a:lnTo>
                    <a:pt x="106" y="558"/>
                  </a:lnTo>
                  <a:lnTo>
                    <a:pt x="92" y="543"/>
                  </a:lnTo>
                  <a:lnTo>
                    <a:pt x="80" y="529"/>
                  </a:lnTo>
                  <a:lnTo>
                    <a:pt x="69" y="516"/>
                  </a:lnTo>
                  <a:lnTo>
                    <a:pt x="58" y="501"/>
                  </a:lnTo>
                  <a:lnTo>
                    <a:pt x="49" y="487"/>
                  </a:lnTo>
                  <a:lnTo>
                    <a:pt x="39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18" y="429"/>
                  </a:lnTo>
                  <a:lnTo>
                    <a:pt x="13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2" y="221"/>
                  </a:lnTo>
                  <a:lnTo>
                    <a:pt x="17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7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3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1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7" y="22"/>
                  </a:lnTo>
                  <a:lnTo>
                    <a:pt x="223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4" y="6"/>
                  </a:lnTo>
                  <a:lnTo>
                    <a:pt x="291" y="3"/>
                  </a:lnTo>
                  <a:lnTo>
                    <a:pt x="310" y="1"/>
                  </a:lnTo>
                  <a:lnTo>
                    <a:pt x="328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1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6" y="2"/>
                  </a:lnTo>
                  <a:lnTo>
                    <a:pt x="417" y="3"/>
                  </a:lnTo>
                  <a:lnTo>
                    <a:pt x="428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0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0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8" y="267"/>
                  </a:lnTo>
                  <a:lnTo>
                    <a:pt x="480" y="264"/>
                  </a:lnTo>
                  <a:lnTo>
                    <a:pt x="473" y="262"/>
                  </a:lnTo>
                  <a:lnTo>
                    <a:pt x="465" y="259"/>
                  </a:lnTo>
                  <a:lnTo>
                    <a:pt x="458" y="256"/>
                  </a:lnTo>
                  <a:lnTo>
                    <a:pt x="451" y="254"/>
                  </a:lnTo>
                  <a:lnTo>
                    <a:pt x="444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4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4" y="248"/>
                  </a:lnTo>
                  <a:lnTo>
                    <a:pt x="382" y="249"/>
                  </a:lnTo>
                  <a:lnTo>
                    <a:pt x="372" y="251"/>
                  </a:lnTo>
                  <a:lnTo>
                    <a:pt x="361" y="253"/>
                  </a:lnTo>
                  <a:lnTo>
                    <a:pt x="352" y="256"/>
                  </a:lnTo>
                  <a:lnTo>
                    <a:pt x="344" y="260"/>
                  </a:lnTo>
                  <a:lnTo>
                    <a:pt x="336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7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2" y="319"/>
                  </a:lnTo>
                  <a:lnTo>
                    <a:pt x="302" y="329"/>
                  </a:lnTo>
                  <a:lnTo>
                    <a:pt x="302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8" y="417"/>
                  </a:lnTo>
                  <a:lnTo>
                    <a:pt x="376" y="431"/>
                  </a:lnTo>
                  <a:lnTo>
                    <a:pt x="382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2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4" y="525"/>
                  </a:lnTo>
                  <a:lnTo>
                    <a:pt x="485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1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3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2" y="771"/>
                  </a:lnTo>
                  <a:lnTo>
                    <a:pt x="540" y="789"/>
                  </a:lnTo>
                  <a:lnTo>
                    <a:pt x="538" y="807"/>
                  </a:lnTo>
                  <a:lnTo>
                    <a:pt x="534" y="823"/>
                  </a:lnTo>
                  <a:lnTo>
                    <a:pt x="529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1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6" y="927"/>
                  </a:lnTo>
                  <a:lnTo>
                    <a:pt x="477" y="940"/>
                  </a:lnTo>
                  <a:lnTo>
                    <a:pt x="465" y="953"/>
                  </a:lnTo>
                  <a:lnTo>
                    <a:pt x="454" y="964"/>
                  </a:lnTo>
                  <a:lnTo>
                    <a:pt x="441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0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3" y="1029"/>
                  </a:lnTo>
                  <a:lnTo>
                    <a:pt x="336" y="1036"/>
                  </a:lnTo>
                  <a:lnTo>
                    <a:pt x="320" y="1042"/>
                  </a:lnTo>
                  <a:lnTo>
                    <a:pt x="301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7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1" y="1063"/>
                  </a:lnTo>
                  <a:lnTo>
                    <a:pt x="112" y="1062"/>
                  </a:lnTo>
                  <a:lnTo>
                    <a:pt x="103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0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18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011400" y="1084320"/>
              <a:ext cx="71640" cy="155520"/>
            </a:xfrm>
            <a:custGeom>
              <a:avLst/>
              <a:gdLst/>
              <a:ahLst/>
              <a:rect l="l" t="t" r="r" b="b"/>
              <a:pathLst>
                <a:path w="228" h="489">
                  <a:moveTo>
                    <a:pt x="0" y="489"/>
                  </a:moveTo>
                  <a:lnTo>
                    <a:pt x="26" y="486"/>
                  </a:lnTo>
                  <a:lnTo>
                    <a:pt x="50" y="481"/>
                  </a:lnTo>
                  <a:lnTo>
                    <a:pt x="73" y="474"/>
                  </a:lnTo>
                  <a:lnTo>
                    <a:pt x="94" y="465"/>
                  </a:lnTo>
                  <a:lnTo>
                    <a:pt x="104" y="460"/>
                  </a:lnTo>
                  <a:lnTo>
                    <a:pt x="114" y="455"/>
                  </a:lnTo>
                  <a:lnTo>
                    <a:pt x="123" y="448"/>
                  </a:lnTo>
                  <a:lnTo>
                    <a:pt x="133" y="442"/>
                  </a:lnTo>
                  <a:lnTo>
                    <a:pt x="141" y="436"/>
                  </a:lnTo>
                  <a:lnTo>
                    <a:pt x="149" y="428"/>
                  </a:lnTo>
                  <a:lnTo>
                    <a:pt x="158" y="421"/>
                  </a:lnTo>
                  <a:lnTo>
                    <a:pt x="166" y="413"/>
                  </a:lnTo>
                  <a:lnTo>
                    <a:pt x="174" y="404"/>
                  </a:lnTo>
                  <a:lnTo>
                    <a:pt x="181" y="396"/>
                  </a:lnTo>
                  <a:lnTo>
                    <a:pt x="187" y="386"/>
                  </a:lnTo>
                  <a:lnTo>
                    <a:pt x="193" y="377"/>
                  </a:lnTo>
                  <a:lnTo>
                    <a:pt x="199" y="368"/>
                  </a:lnTo>
                  <a:lnTo>
                    <a:pt x="204" y="358"/>
                  </a:lnTo>
                  <a:lnTo>
                    <a:pt x="208" y="349"/>
                  </a:lnTo>
                  <a:lnTo>
                    <a:pt x="212" y="338"/>
                  </a:lnTo>
                  <a:lnTo>
                    <a:pt x="220" y="317"/>
                  </a:lnTo>
                  <a:lnTo>
                    <a:pt x="224" y="295"/>
                  </a:lnTo>
                  <a:lnTo>
                    <a:pt x="227" y="271"/>
                  </a:lnTo>
                  <a:lnTo>
                    <a:pt x="228" y="247"/>
                  </a:lnTo>
                  <a:lnTo>
                    <a:pt x="227" y="221"/>
                  </a:lnTo>
                  <a:lnTo>
                    <a:pt x="224" y="195"/>
                  </a:lnTo>
                  <a:lnTo>
                    <a:pt x="222" y="184"/>
                  </a:lnTo>
                  <a:lnTo>
                    <a:pt x="220" y="172"/>
                  </a:lnTo>
                  <a:lnTo>
                    <a:pt x="217" y="161"/>
                  </a:lnTo>
                  <a:lnTo>
                    <a:pt x="212" y="149"/>
                  </a:lnTo>
                  <a:lnTo>
                    <a:pt x="208" y="139"/>
                  </a:lnTo>
                  <a:lnTo>
                    <a:pt x="204" y="128"/>
                  </a:lnTo>
                  <a:lnTo>
                    <a:pt x="199" y="118"/>
                  </a:lnTo>
                  <a:lnTo>
                    <a:pt x="192" y="108"/>
                  </a:lnTo>
                  <a:lnTo>
                    <a:pt x="186" y="99"/>
                  </a:lnTo>
                  <a:lnTo>
                    <a:pt x="180" y="89"/>
                  </a:lnTo>
                  <a:lnTo>
                    <a:pt x="172" y="80"/>
                  </a:lnTo>
                  <a:lnTo>
                    <a:pt x="165" y="71"/>
                  </a:lnTo>
                  <a:lnTo>
                    <a:pt x="157" y="63"/>
                  </a:lnTo>
                  <a:lnTo>
                    <a:pt x="148" y="55"/>
                  </a:lnTo>
                  <a:lnTo>
                    <a:pt x="140" y="48"/>
                  </a:lnTo>
                  <a:lnTo>
                    <a:pt x="132" y="41"/>
                  </a:lnTo>
                  <a:lnTo>
                    <a:pt x="122" y="35"/>
                  </a:lnTo>
                  <a:lnTo>
                    <a:pt x="113" y="29"/>
                  </a:lnTo>
                  <a:lnTo>
                    <a:pt x="102" y="24"/>
                  </a:lnTo>
                  <a:lnTo>
                    <a:pt x="93" y="19"/>
                  </a:lnTo>
                  <a:lnTo>
                    <a:pt x="82" y="15"/>
                  </a:lnTo>
                  <a:lnTo>
                    <a:pt x="71" y="12"/>
                  </a:lnTo>
                  <a:lnTo>
                    <a:pt x="60" y="8"/>
                  </a:lnTo>
                  <a:lnTo>
                    <a:pt x="49" y="5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48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925720" y="998640"/>
              <a:ext cx="246240" cy="328680"/>
            </a:xfrm>
            <a:custGeom>
              <a:avLst/>
              <a:gdLst/>
              <a:ahLst/>
              <a:rect l="l" t="t" r="r" b="b"/>
              <a:pathLst>
                <a:path w="773" h="1031">
                  <a:moveTo>
                    <a:pt x="155" y="0"/>
                  </a:moveTo>
                  <a:lnTo>
                    <a:pt x="191" y="0"/>
                  </a:lnTo>
                  <a:lnTo>
                    <a:pt x="226" y="1"/>
                  </a:lnTo>
                  <a:lnTo>
                    <a:pt x="257" y="3"/>
                  </a:lnTo>
                  <a:lnTo>
                    <a:pt x="287" y="6"/>
                  </a:lnTo>
                  <a:lnTo>
                    <a:pt x="316" y="8"/>
                  </a:lnTo>
                  <a:lnTo>
                    <a:pt x="343" y="11"/>
                  </a:lnTo>
                  <a:lnTo>
                    <a:pt x="367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30"/>
                  </a:lnTo>
                  <a:lnTo>
                    <a:pt x="453" y="37"/>
                  </a:lnTo>
                  <a:lnTo>
                    <a:pt x="473" y="43"/>
                  </a:lnTo>
                  <a:lnTo>
                    <a:pt x="493" y="52"/>
                  </a:lnTo>
                  <a:lnTo>
                    <a:pt x="512" y="61"/>
                  </a:lnTo>
                  <a:lnTo>
                    <a:pt x="530" y="71"/>
                  </a:lnTo>
                  <a:lnTo>
                    <a:pt x="548" y="81"/>
                  </a:lnTo>
                  <a:lnTo>
                    <a:pt x="574" y="99"/>
                  </a:lnTo>
                  <a:lnTo>
                    <a:pt x="599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3" y="208"/>
                  </a:lnTo>
                  <a:lnTo>
                    <a:pt x="700" y="234"/>
                  </a:lnTo>
                  <a:lnTo>
                    <a:pt x="715" y="262"/>
                  </a:lnTo>
                  <a:lnTo>
                    <a:pt x="729" y="291"/>
                  </a:lnTo>
                  <a:lnTo>
                    <a:pt x="741" y="321"/>
                  </a:lnTo>
                  <a:lnTo>
                    <a:pt x="750" y="351"/>
                  </a:lnTo>
                  <a:lnTo>
                    <a:pt x="758" y="384"/>
                  </a:lnTo>
                  <a:lnTo>
                    <a:pt x="765" y="417"/>
                  </a:lnTo>
                  <a:lnTo>
                    <a:pt x="769" y="451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6"/>
                  </a:lnTo>
                  <a:lnTo>
                    <a:pt x="769" y="587"/>
                  </a:lnTo>
                  <a:lnTo>
                    <a:pt x="764" y="620"/>
                  </a:lnTo>
                  <a:lnTo>
                    <a:pt x="757" y="650"/>
                  </a:lnTo>
                  <a:lnTo>
                    <a:pt x="748" y="681"/>
                  </a:lnTo>
                  <a:lnTo>
                    <a:pt x="737" y="710"/>
                  </a:lnTo>
                  <a:lnTo>
                    <a:pt x="724" y="738"/>
                  </a:lnTo>
                  <a:lnTo>
                    <a:pt x="709" y="767"/>
                  </a:lnTo>
                  <a:lnTo>
                    <a:pt x="692" y="794"/>
                  </a:lnTo>
                  <a:lnTo>
                    <a:pt x="675" y="819"/>
                  </a:lnTo>
                  <a:lnTo>
                    <a:pt x="655" y="845"/>
                  </a:lnTo>
                  <a:lnTo>
                    <a:pt x="633" y="868"/>
                  </a:lnTo>
                  <a:lnTo>
                    <a:pt x="609" y="890"/>
                  </a:lnTo>
                  <a:lnTo>
                    <a:pt x="585" y="911"/>
                  </a:lnTo>
                  <a:lnTo>
                    <a:pt x="559" y="930"/>
                  </a:lnTo>
                  <a:lnTo>
                    <a:pt x="531" y="948"/>
                  </a:lnTo>
                  <a:lnTo>
                    <a:pt x="512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3" y="994"/>
                  </a:lnTo>
                  <a:lnTo>
                    <a:pt x="412" y="1000"/>
                  </a:lnTo>
                  <a:lnTo>
                    <a:pt x="391" y="1006"/>
                  </a:lnTo>
                  <a:lnTo>
                    <a:pt x="368" y="1011"/>
                  </a:lnTo>
                  <a:lnTo>
                    <a:pt x="345" y="1017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15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28464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5" y="0"/>
                  </a:moveTo>
                  <a:lnTo>
                    <a:pt x="232" y="0"/>
                  </a:lnTo>
                  <a:lnTo>
                    <a:pt x="219" y="1"/>
                  </a:lnTo>
                  <a:lnTo>
                    <a:pt x="207" y="3"/>
                  </a:lnTo>
                  <a:lnTo>
                    <a:pt x="195" y="4"/>
                  </a:lnTo>
                  <a:lnTo>
                    <a:pt x="183" y="7"/>
                  </a:lnTo>
                  <a:lnTo>
                    <a:pt x="172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8" y="23"/>
                  </a:lnTo>
                  <a:lnTo>
                    <a:pt x="128" y="28"/>
                  </a:lnTo>
                  <a:lnTo>
                    <a:pt x="117" y="34"/>
                  </a:lnTo>
                  <a:lnTo>
                    <a:pt x="108" y="41"/>
                  </a:lnTo>
                  <a:lnTo>
                    <a:pt x="98" y="48"/>
                  </a:lnTo>
                  <a:lnTo>
                    <a:pt x="89" y="56"/>
                  </a:lnTo>
                  <a:lnTo>
                    <a:pt x="79" y="65"/>
                  </a:lnTo>
                  <a:lnTo>
                    <a:pt x="70" y="73"/>
                  </a:lnTo>
                  <a:lnTo>
                    <a:pt x="62" y="83"/>
                  </a:lnTo>
                  <a:lnTo>
                    <a:pt x="53" y="92"/>
                  </a:lnTo>
                  <a:lnTo>
                    <a:pt x="46" y="103"/>
                  </a:lnTo>
                  <a:lnTo>
                    <a:pt x="40" y="112"/>
                  </a:lnTo>
                  <a:lnTo>
                    <a:pt x="33" y="123"/>
                  </a:lnTo>
                  <a:lnTo>
                    <a:pt x="27" y="133"/>
                  </a:lnTo>
                  <a:lnTo>
                    <a:pt x="22" y="145"/>
                  </a:lnTo>
                  <a:lnTo>
                    <a:pt x="18" y="156"/>
                  </a:lnTo>
                  <a:lnTo>
                    <a:pt x="13" y="168"/>
                  </a:lnTo>
                  <a:lnTo>
                    <a:pt x="10" y="179"/>
                  </a:lnTo>
                  <a:lnTo>
                    <a:pt x="7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7" y="320"/>
                  </a:lnTo>
                  <a:lnTo>
                    <a:pt x="9" y="331"/>
                  </a:lnTo>
                  <a:lnTo>
                    <a:pt x="13" y="344"/>
                  </a:lnTo>
                  <a:lnTo>
                    <a:pt x="18" y="356"/>
                  </a:lnTo>
                  <a:lnTo>
                    <a:pt x="22" y="366"/>
                  </a:lnTo>
                  <a:lnTo>
                    <a:pt x="27" y="378"/>
                  </a:lnTo>
                  <a:lnTo>
                    <a:pt x="33" y="388"/>
                  </a:lnTo>
                  <a:lnTo>
                    <a:pt x="40" y="399"/>
                  </a:lnTo>
                  <a:lnTo>
                    <a:pt x="46" y="408"/>
                  </a:lnTo>
                  <a:lnTo>
                    <a:pt x="53" y="419"/>
                  </a:lnTo>
                  <a:lnTo>
                    <a:pt x="62" y="428"/>
                  </a:lnTo>
                  <a:lnTo>
                    <a:pt x="70" y="438"/>
                  </a:lnTo>
                  <a:lnTo>
                    <a:pt x="78" y="446"/>
                  </a:lnTo>
                  <a:lnTo>
                    <a:pt x="88" y="454"/>
                  </a:lnTo>
                  <a:lnTo>
                    <a:pt x="97" y="462"/>
                  </a:lnTo>
                  <a:lnTo>
                    <a:pt x="107" y="469"/>
                  </a:lnTo>
                  <a:lnTo>
                    <a:pt x="117" y="476"/>
                  </a:lnTo>
                  <a:lnTo>
                    <a:pt x="128" y="482"/>
                  </a:lnTo>
                  <a:lnTo>
                    <a:pt x="138" y="487"/>
                  </a:lnTo>
                  <a:lnTo>
                    <a:pt x="149" y="492"/>
                  </a:lnTo>
                  <a:lnTo>
                    <a:pt x="160" y="496"/>
                  </a:lnTo>
                  <a:lnTo>
                    <a:pt x="171" y="501"/>
                  </a:lnTo>
                  <a:lnTo>
                    <a:pt x="182" y="504"/>
                  </a:lnTo>
                  <a:lnTo>
                    <a:pt x="195" y="506"/>
                  </a:lnTo>
                  <a:lnTo>
                    <a:pt x="206" y="508"/>
                  </a:lnTo>
                  <a:lnTo>
                    <a:pt x="219" y="509"/>
                  </a:lnTo>
                  <a:lnTo>
                    <a:pt x="232" y="510"/>
                  </a:lnTo>
                  <a:lnTo>
                    <a:pt x="245" y="510"/>
                  </a:lnTo>
                  <a:lnTo>
                    <a:pt x="258" y="510"/>
                  </a:lnTo>
                  <a:lnTo>
                    <a:pt x="270" y="509"/>
                  </a:lnTo>
                  <a:lnTo>
                    <a:pt x="283" y="508"/>
                  </a:lnTo>
                  <a:lnTo>
                    <a:pt x="294" y="506"/>
                  </a:lnTo>
                  <a:lnTo>
                    <a:pt x="307" y="504"/>
                  </a:lnTo>
                  <a:lnTo>
                    <a:pt x="319" y="501"/>
                  </a:lnTo>
                  <a:lnTo>
                    <a:pt x="329" y="496"/>
                  </a:lnTo>
                  <a:lnTo>
                    <a:pt x="341" y="492"/>
                  </a:lnTo>
                  <a:lnTo>
                    <a:pt x="351" y="487"/>
                  </a:lnTo>
                  <a:lnTo>
                    <a:pt x="362" y="482"/>
                  </a:lnTo>
                  <a:lnTo>
                    <a:pt x="372" y="475"/>
                  </a:lnTo>
                  <a:lnTo>
                    <a:pt x="383" y="469"/>
                  </a:lnTo>
                  <a:lnTo>
                    <a:pt x="392" y="462"/>
                  </a:lnTo>
                  <a:lnTo>
                    <a:pt x="401" y="454"/>
                  </a:lnTo>
                  <a:lnTo>
                    <a:pt x="411" y="446"/>
                  </a:lnTo>
                  <a:lnTo>
                    <a:pt x="419" y="436"/>
                  </a:lnTo>
                  <a:lnTo>
                    <a:pt x="428" y="428"/>
                  </a:lnTo>
                  <a:lnTo>
                    <a:pt x="436" y="418"/>
                  </a:lnTo>
                  <a:lnTo>
                    <a:pt x="443" y="408"/>
                  </a:lnTo>
                  <a:lnTo>
                    <a:pt x="451" y="398"/>
                  </a:lnTo>
                  <a:lnTo>
                    <a:pt x="457" y="387"/>
                  </a:lnTo>
                  <a:lnTo>
                    <a:pt x="462" y="377"/>
                  </a:lnTo>
                  <a:lnTo>
                    <a:pt x="468" y="366"/>
                  </a:lnTo>
                  <a:lnTo>
                    <a:pt x="473" y="355"/>
                  </a:lnTo>
                  <a:lnTo>
                    <a:pt x="476" y="343"/>
                  </a:lnTo>
                  <a:lnTo>
                    <a:pt x="480" y="331"/>
                  </a:lnTo>
                  <a:lnTo>
                    <a:pt x="483" y="320"/>
                  </a:lnTo>
                  <a:lnTo>
                    <a:pt x="485" y="307"/>
                  </a:lnTo>
                  <a:lnTo>
                    <a:pt x="487" y="295"/>
                  </a:lnTo>
                  <a:lnTo>
                    <a:pt x="489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9" y="229"/>
                  </a:lnTo>
                  <a:lnTo>
                    <a:pt x="487" y="216"/>
                  </a:lnTo>
                  <a:lnTo>
                    <a:pt x="485" y="203"/>
                  </a:lnTo>
                  <a:lnTo>
                    <a:pt x="483" y="192"/>
                  </a:lnTo>
                  <a:lnTo>
                    <a:pt x="480" y="179"/>
                  </a:lnTo>
                  <a:lnTo>
                    <a:pt x="476" y="168"/>
                  </a:lnTo>
                  <a:lnTo>
                    <a:pt x="473" y="156"/>
                  </a:lnTo>
                  <a:lnTo>
                    <a:pt x="468" y="145"/>
                  </a:lnTo>
                  <a:lnTo>
                    <a:pt x="462" y="134"/>
                  </a:lnTo>
                  <a:lnTo>
                    <a:pt x="457" y="124"/>
                  </a:lnTo>
                  <a:lnTo>
                    <a:pt x="451" y="113"/>
                  </a:lnTo>
                  <a:lnTo>
                    <a:pt x="443" y="103"/>
                  </a:lnTo>
                  <a:lnTo>
                    <a:pt x="436" y="93"/>
                  </a:lnTo>
                  <a:lnTo>
                    <a:pt x="428" y="84"/>
                  </a:lnTo>
                  <a:lnTo>
                    <a:pt x="419" y="74"/>
                  </a:lnTo>
                  <a:lnTo>
                    <a:pt x="411" y="65"/>
                  </a:lnTo>
                  <a:lnTo>
                    <a:pt x="401" y="56"/>
                  </a:lnTo>
                  <a:lnTo>
                    <a:pt x="392" y="49"/>
                  </a:lnTo>
                  <a:lnTo>
                    <a:pt x="383" y="42"/>
                  </a:lnTo>
                  <a:lnTo>
                    <a:pt x="372" y="34"/>
                  </a:lnTo>
                  <a:lnTo>
                    <a:pt x="362" y="29"/>
                  </a:lnTo>
                  <a:lnTo>
                    <a:pt x="351" y="23"/>
                  </a:lnTo>
                  <a:lnTo>
                    <a:pt x="341" y="19"/>
                  </a:lnTo>
                  <a:lnTo>
                    <a:pt x="329" y="14"/>
                  </a:lnTo>
                  <a:lnTo>
                    <a:pt x="319" y="10"/>
                  </a:lnTo>
                  <a:lnTo>
                    <a:pt x="307" y="7"/>
                  </a:lnTo>
                  <a:lnTo>
                    <a:pt x="294" y="4"/>
                  </a:lnTo>
                  <a:lnTo>
                    <a:pt x="283" y="3"/>
                  </a:lnTo>
                  <a:lnTo>
                    <a:pt x="270" y="1"/>
                  </a:lnTo>
                  <a:lnTo>
                    <a:pt x="258" y="0"/>
                  </a:lnTo>
                  <a:lnTo>
                    <a:pt x="24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19716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0" y="0"/>
                  </a:moveTo>
                  <a:lnTo>
                    <a:pt x="545" y="1"/>
                  </a:lnTo>
                  <a:lnTo>
                    <a:pt x="568" y="2"/>
                  </a:lnTo>
                  <a:lnTo>
                    <a:pt x="592" y="5"/>
                  </a:lnTo>
                  <a:lnTo>
                    <a:pt x="616" y="8"/>
                  </a:lnTo>
                  <a:lnTo>
                    <a:pt x="639" y="13"/>
                  </a:lnTo>
                  <a:lnTo>
                    <a:pt x="662" y="19"/>
                  </a:lnTo>
                  <a:lnTo>
                    <a:pt x="684" y="25"/>
                  </a:lnTo>
                  <a:lnTo>
                    <a:pt x="707" y="34"/>
                  </a:lnTo>
                  <a:lnTo>
                    <a:pt x="728" y="42"/>
                  </a:lnTo>
                  <a:lnTo>
                    <a:pt x="749" y="51"/>
                  </a:lnTo>
                  <a:lnTo>
                    <a:pt x="770" y="62"/>
                  </a:lnTo>
                  <a:lnTo>
                    <a:pt x="789" y="74"/>
                  </a:lnTo>
                  <a:lnTo>
                    <a:pt x="807" y="86"/>
                  </a:lnTo>
                  <a:lnTo>
                    <a:pt x="826" y="99"/>
                  </a:lnTo>
                  <a:lnTo>
                    <a:pt x="843" y="113"/>
                  </a:lnTo>
                  <a:lnTo>
                    <a:pt x="860" y="128"/>
                  </a:lnTo>
                  <a:lnTo>
                    <a:pt x="882" y="149"/>
                  </a:lnTo>
                  <a:lnTo>
                    <a:pt x="902" y="170"/>
                  </a:lnTo>
                  <a:lnTo>
                    <a:pt x="921" y="193"/>
                  </a:lnTo>
                  <a:lnTo>
                    <a:pt x="939" y="215"/>
                  </a:lnTo>
                  <a:lnTo>
                    <a:pt x="955" y="239"/>
                  </a:lnTo>
                  <a:lnTo>
                    <a:pt x="970" y="265"/>
                  </a:lnTo>
                  <a:lnTo>
                    <a:pt x="984" y="290"/>
                  </a:lnTo>
                  <a:lnTo>
                    <a:pt x="996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5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0" y="484"/>
                  </a:lnTo>
                  <a:lnTo>
                    <a:pt x="1042" y="513"/>
                  </a:lnTo>
                  <a:lnTo>
                    <a:pt x="1044" y="543"/>
                  </a:lnTo>
                  <a:lnTo>
                    <a:pt x="1042" y="572"/>
                  </a:lnTo>
                  <a:lnTo>
                    <a:pt x="1040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5" y="687"/>
                  </a:lnTo>
                  <a:lnTo>
                    <a:pt x="1016" y="715"/>
                  </a:lnTo>
                  <a:lnTo>
                    <a:pt x="1007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4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2" y="938"/>
                  </a:lnTo>
                  <a:lnTo>
                    <a:pt x="860" y="958"/>
                  </a:lnTo>
                  <a:lnTo>
                    <a:pt x="843" y="973"/>
                  </a:lnTo>
                  <a:lnTo>
                    <a:pt x="825" y="987"/>
                  </a:lnTo>
                  <a:lnTo>
                    <a:pt x="806" y="1001"/>
                  </a:lnTo>
                  <a:lnTo>
                    <a:pt x="788" y="1013"/>
                  </a:lnTo>
                  <a:lnTo>
                    <a:pt x="768" y="1025"/>
                  </a:lnTo>
                  <a:lnTo>
                    <a:pt x="748" y="1035"/>
                  </a:lnTo>
                  <a:lnTo>
                    <a:pt x="727" y="1045"/>
                  </a:lnTo>
                  <a:lnTo>
                    <a:pt x="706" y="1053"/>
                  </a:lnTo>
                  <a:lnTo>
                    <a:pt x="683" y="1061"/>
                  </a:lnTo>
                  <a:lnTo>
                    <a:pt x="661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2" y="1082"/>
                  </a:lnTo>
                  <a:lnTo>
                    <a:pt x="568" y="1085"/>
                  </a:lnTo>
                  <a:lnTo>
                    <a:pt x="544" y="1086"/>
                  </a:lnTo>
                  <a:lnTo>
                    <a:pt x="520" y="1087"/>
                  </a:lnTo>
                  <a:lnTo>
                    <a:pt x="496" y="1086"/>
                  </a:lnTo>
                  <a:lnTo>
                    <a:pt x="473" y="1085"/>
                  </a:lnTo>
                  <a:lnTo>
                    <a:pt x="449" y="1082"/>
                  </a:lnTo>
                  <a:lnTo>
                    <a:pt x="426" y="1078"/>
                  </a:lnTo>
                  <a:lnTo>
                    <a:pt x="403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4" y="1045"/>
                  </a:lnTo>
                  <a:lnTo>
                    <a:pt x="295" y="1035"/>
                  </a:lnTo>
                  <a:lnTo>
                    <a:pt x="274" y="1025"/>
                  </a:lnTo>
                  <a:lnTo>
                    <a:pt x="254" y="1013"/>
                  </a:lnTo>
                  <a:lnTo>
                    <a:pt x="235" y="1001"/>
                  </a:lnTo>
                  <a:lnTo>
                    <a:pt x="217" y="987"/>
                  </a:lnTo>
                  <a:lnTo>
                    <a:pt x="198" y="973"/>
                  </a:lnTo>
                  <a:lnTo>
                    <a:pt x="181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4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60" y="797"/>
                  </a:lnTo>
                  <a:lnTo>
                    <a:pt x="47" y="770"/>
                  </a:lnTo>
                  <a:lnTo>
                    <a:pt x="35" y="743"/>
                  </a:lnTo>
                  <a:lnTo>
                    <a:pt x="26" y="715"/>
                  </a:lnTo>
                  <a:lnTo>
                    <a:pt x="18" y="688"/>
                  </a:lnTo>
                  <a:lnTo>
                    <a:pt x="11" y="659"/>
                  </a:lnTo>
                  <a:lnTo>
                    <a:pt x="6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6" y="455"/>
                  </a:lnTo>
                  <a:lnTo>
                    <a:pt x="11" y="426"/>
                  </a:lnTo>
                  <a:lnTo>
                    <a:pt x="18" y="398"/>
                  </a:lnTo>
                  <a:lnTo>
                    <a:pt x="26" y="370"/>
                  </a:lnTo>
                  <a:lnTo>
                    <a:pt x="35" y="342"/>
                  </a:lnTo>
                  <a:lnTo>
                    <a:pt x="46" y="315"/>
                  </a:lnTo>
                  <a:lnTo>
                    <a:pt x="59" y="289"/>
                  </a:lnTo>
                  <a:lnTo>
                    <a:pt x="72" y="264"/>
                  </a:lnTo>
                  <a:lnTo>
                    <a:pt x="87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39" y="170"/>
                  </a:lnTo>
                  <a:lnTo>
                    <a:pt x="160" y="149"/>
                  </a:lnTo>
                  <a:lnTo>
                    <a:pt x="181" y="128"/>
                  </a:lnTo>
                  <a:lnTo>
                    <a:pt x="198" y="113"/>
                  </a:lnTo>
                  <a:lnTo>
                    <a:pt x="217" y="99"/>
                  </a:lnTo>
                  <a:lnTo>
                    <a:pt x="235" y="85"/>
                  </a:lnTo>
                  <a:lnTo>
                    <a:pt x="254" y="74"/>
                  </a:lnTo>
                  <a:lnTo>
                    <a:pt x="274" y="62"/>
                  </a:lnTo>
                  <a:lnTo>
                    <a:pt x="295" y="51"/>
                  </a:lnTo>
                  <a:lnTo>
                    <a:pt x="314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3" y="13"/>
                  </a:lnTo>
                  <a:lnTo>
                    <a:pt x="426" y="8"/>
                  </a:lnTo>
                  <a:lnTo>
                    <a:pt x="449" y="4"/>
                  </a:lnTo>
                  <a:lnTo>
                    <a:pt x="473" y="2"/>
                  </a:lnTo>
                  <a:lnTo>
                    <a:pt x="496" y="1"/>
                  </a:lnTo>
                  <a:lnTo>
                    <a:pt x="5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699000" y="998640"/>
              <a:ext cx="242640" cy="328680"/>
            </a:xfrm>
            <a:custGeom>
              <a:avLst/>
              <a:gdLst/>
              <a:ahLst/>
              <a:rect l="l" t="t" r="r" b="b"/>
              <a:pathLst>
                <a:path w="765" h="1031">
                  <a:moveTo>
                    <a:pt x="0" y="103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500" y="452"/>
                  </a:lnTo>
                  <a:lnTo>
                    <a:pt x="500" y="0"/>
                  </a:lnTo>
                  <a:lnTo>
                    <a:pt x="765" y="0"/>
                  </a:lnTo>
                  <a:lnTo>
                    <a:pt x="765" y="1031"/>
                  </a:lnTo>
                  <a:lnTo>
                    <a:pt x="645" y="1031"/>
                  </a:lnTo>
                  <a:lnTo>
                    <a:pt x="266" y="584"/>
                  </a:lnTo>
                  <a:lnTo>
                    <a:pt x="266" y="1031"/>
                  </a:lnTo>
                  <a:lnTo>
                    <a:pt x="0" y="103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07052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5" y="0"/>
                  </a:moveTo>
                  <a:lnTo>
                    <a:pt x="232" y="0"/>
                  </a:lnTo>
                  <a:lnTo>
                    <a:pt x="220" y="1"/>
                  </a:lnTo>
                  <a:lnTo>
                    <a:pt x="207" y="3"/>
                  </a:lnTo>
                  <a:lnTo>
                    <a:pt x="195" y="4"/>
                  </a:lnTo>
                  <a:lnTo>
                    <a:pt x="183" y="7"/>
                  </a:lnTo>
                  <a:lnTo>
                    <a:pt x="171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9" y="23"/>
                  </a:lnTo>
                  <a:lnTo>
                    <a:pt x="128" y="28"/>
                  </a:lnTo>
                  <a:lnTo>
                    <a:pt x="118" y="34"/>
                  </a:lnTo>
                  <a:lnTo>
                    <a:pt x="107" y="41"/>
                  </a:lnTo>
                  <a:lnTo>
                    <a:pt x="98" y="48"/>
                  </a:lnTo>
                  <a:lnTo>
                    <a:pt x="88" y="56"/>
                  </a:lnTo>
                  <a:lnTo>
                    <a:pt x="79" y="65"/>
                  </a:lnTo>
                  <a:lnTo>
                    <a:pt x="71" y="73"/>
                  </a:lnTo>
                  <a:lnTo>
                    <a:pt x="62" y="83"/>
                  </a:lnTo>
                  <a:lnTo>
                    <a:pt x="54" y="92"/>
                  </a:lnTo>
                  <a:lnTo>
                    <a:pt x="46" y="103"/>
                  </a:lnTo>
                  <a:lnTo>
                    <a:pt x="39" y="112"/>
                  </a:lnTo>
                  <a:lnTo>
                    <a:pt x="33" y="123"/>
                  </a:lnTo>
                  <a:lnTo>
                    <a:pt x="28" y="133"/>
                  </a:lnTo>
                  <a:lnTo>
                    <a:pt x="22" y="145"/>
                  </a:lnTo>
                  <a:lnTo>
                    <a:pt x="17" y="156"/>
                  </a:lnTo>
                  <a:lnTo>
                    <a:pt x="13" y="168"/>
                  </a:lnTo>
                  <a:lnTo>
                    <a:pt x="10" y="179"/>
                  </a:lnTo>
                  <a:lnTo>
                    <a:pt x="7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7" y="320"/>
                  </a:lnTo>
                  <a:lnTo>
                    <a:pt x="10" y="331"/>
                  </a:lnTo>
                  <a:lnTo>
                    <a:pt x="13" y="344"/>
                  </a:lnTo>
                  <a:lnTo>
                    <a:pt x="17" y="356"/>
                  </a:lnTo>
                  <a:lnTo>
                    <a:pt x="22" y="366"/>
                  </a:lnTo>
                  <a:lnTo>
                    <a:pt x="28" y="378"/>
                  </a:lnTo>
                  <a:lnTo>
                    <a:pt x="33" y="388"/>
                  </a:lnTo>
                  <a:lnTo>
                    <a:pt x="39" y="399"/>
                  </a:lnTo>
                  <a:lnTo>
                    <a:pt x="46" y="408"/>
                  </a:lnTo>
                  <a:lnTo>
                    <a:pt x="54" y="419"/>
                  </a:lnTo>
                  <a:lnTo>
                    <a:pt x="61" y="428"/>
                  </a:lnTo>
                  <a:lnTo>
                    <a:pt x="71" y="438"/>
                  </a:lnTo>
                  <a:lnTo>
                    <a:pt x="79" y="446"/>
                  </a:lnTo>
                  <a:lnTo>
                    <a:pt x="88" y="454"/>
                  </a:lnTo>
                  <a:lnTo>
                    <a:pt x="98" y="462"/>
                  </a:lnTo>
                  <a:lnTo>
                    <a:pt x="107" y="469"/>
                  </a:lnTo>
                  <a:lnTo>
                    <a:pt x="117" y="476"/>
                  </a:lnTo>
                  <a:lnTo>
                    <a:pt x="127" y="482"/>
                  </a:lnTo>
                  <a:lnTo>
                    <a:pt x="138" y="487"/>
                  </a:lnTo>
                  <a:lnTo>
                    <a:pt x="149" y="492"/>
                  </a:lnTo>
                  <a:lnTo>
                    <a:pt x="160" y="496"/>
                  </a:lnTo>
                  <a:lnTo>
                    <a:pt x="171" y="501"/>
                  </a:lnTo>
                  <a:lnTo>
                    <a:pt x="183" y="504"/>
                  </a:lnTo>
                  <a:lnTo>
                    <a:pt x="194" y="506"/>
                  </a:lnTo>
                  <a:lnTo>
                    <a:pt x="207" y="508"/>
                  </a:lnTo>
                  <a:lnTo>
                    <a:pt x="220" y="509"/>
                  </a:lnTo>
                  <a:lnTo>
                    <a:pt x="232" y="510"/>
                  </a:lnTo>
                  <a:lnTo>
                    <a:pt x="245" y="510"/>
                  </a:lnTo>
                  <a:lnTo>
                    <a:pt x="257" y="510"/>
                  </a:lnTo>
                  <a:lnTo>
                    <a:pt x="271" y="509"/>
                  </a:lnTo>
                  <a:lnTo>
                    <a:pt x="282" y="508"/>
                  </a:lnTo>
                  <a:lnTo>
                    <a:pt x="295" y="506"/>
                  </a:lnTo>
                  <a:lnTo>
                    <a:pt x="307" y="504"/>
                  </a:lnTo>
                  <a:lnTo>
                    <a:pt x="318" y="501"/>
                  </a:lnTo>
                  <a:lnTo>
                    <a:pt x="330" y="496"/>
                  </a:lnTo>
                  <a:lnTo>
                    <a:pt x="340" y="492"/>
                  </a:lnTo>
                  <a:lnTo>
                    <a:pt x="352" y="487"/>
                  </a:lnTo>
                  <a:lnTo>
                    <a:pt x="362" y="482"/>
                  </a:lnTo>
                  <a:lnTo>
                    <a:pt x="373" y="475"/>
                  </a:lnTo>
                  <a:lnTo>
                    <a:pt x="382" y="469"/>
                  </a:lnTo>
                  <a:lnTo>
                    <a:pt x="392" y="462"/>
                  </a:lnTo>
                  <a:lnTo>
                    <a:pt x="401" y="454"/>
                  </a:lnTo>
                  <a:lnTo>
                    <a:pt x="410" y="446"/>
                  </a:lnTo>
                  <a:lnTo>
                    <a:pt x="420" y="436"/>
                  </a:lnTo>
                  <a:lnTo>
                    <a:pt x="428" y="428"/>
                  </a:lnTo>
                  <a:lnTo>
                    <a:pt x="436" y="418"/>
                  </a:lnTo>
                  <a:lnTo>
                    <a:pt x="443" y="408"/>
                  </a:lnTo>
                  <a:lnTo>
                    <a:pt x="450" y="398"/>
                  </a:lnTo>
                  <a:lnTo>
                    <a:pt x="457" y="387"/>
                  </a:lnTo>
                  <a:lnTo>
                    <a:pt x="463" y="377"/>
                  </a:lnTo>
                  <a:lnTo>
                    <a:pt x="468" y="366"/>
                  </a:lnTo>
                  <a:lnTo>
                    <a:pt x="472" y="355"/>
                  </a:lnTo>
                  <a:lnTo>
                    <a:pt x="477" y="343"/>
                  </a:lnTo>
                  <a:lnTo>
                    <a:pt x="480" y="331"/>
                  </a:lnTo>
                  <a:lnTo>
                    <a:pt x="483" y="320"/>
                  </a:lnTo>
                  <a:lnTo>
                    <a:pt x="486" y="307"/>
                  </a:lnTo>
                  <a:lnTo>
                    <a:pt x="487" y="295"/>
                  </a:lnTo>
                  <a:lnTo>
                    <a:pt x="489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9" y="229"/>
                  </a:lnTo>
                  <a:lnTo>
                    <a:pt x="487" y="216"/>
                  </a:lnTo>
                  <a:lnTo>
                    <a:pt x="486" y="203"/>
                  </a:lnTo>
                  <a:lnTo>
                    <a:pt x="483" y="192"/>
                  </a:lnTo>
                  <a:lnTo>
                    <a:pt x="480" y="179"/>
                  </a:lnTo>
                  <a:lnTo>
                    <a:pt x="477" y="168"/>
                  </a:lnTo>
                  <a:lnTo>
                    <a:pt x="472" y="156"/>
                  </a:lnTo>
                  <a:lnTo>
                    <a:pt x="468" y="145"/>
                  </a:lnTo>
                  <a:lnTo>
                    <a:pt x="463" y="134"/>
                  </a:lnTo>
                  <a:lnTo>
                    <a:pt x="457" y="124"/>
                  </a:lnTo>
                  <a:lnTo>
                    <a:pt x="450" y="113"/>
                  </a:lnTo>
                  <a:lnTo>
                    <a:pt x="443" y="103"/>
                  </a:lnTo>
                  <a:lnTo>
                    <a:pt x="436" y="93"/>
                  </a:lnTo>
                  <a:lnTo>
                    <a:pt x="428" y="84"/>
                  </a:lnTo>
                  <a:lnTo>
                    <a:pt x="420" y="74"/>
                  </a:lnTo>
                  <a:lnTo>
                    <a:pt x="410" y="65"/>
                  </a:lnTo>
                  <a:lnTo>
                    <a:pt x="401" y="56"/>
                  </a:lnTo>
                  <a:lnTo>
                    <a:pt x="392" y="49"/>
                  </a:lnTo>
                  <a:lnTo>
                    <a:pt x="382" y="42"/>
                  </a:lnTo>
                  <a:lnTo>
                    <a:pt x="373" y="34"/>
                  </a:lnTo>
                  <a:lnTo>
                    <a:pt x="362" y="29"/>
                  </a:lnTo>
                  <a:lnTo>
                    <a:pt x="352" y="23"/>
                  </a:lnTo>
                  <a:lnTo>
                    <a:pt x="340" y="19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07" y="7"/>
                  </a:lnTo>
                  <a:lnTo>
                    <a:pt x="295" y="4"/>
                  </a:lnTo>
                  <a:lnTo>
                    <a:pt x="282" y="3"/>
                  </a:lnTo>
                  <a:lnTo>
                    <a:pt x="271" y="1"/>
                  </a:lnTo>
                  <a:lnTo>
                    <a:pt x="257" y="0"/>
                  </a:lnTo>
                  <a:lnTo>
                    <a:pt x="24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98304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5" h="1087">
                  <a:moveTo>
                    <a:pt x="522" y="0"/>
                  </a:moveTo>
                  <a:lnTo>
                    <a:pt x="546" y="1"/>
                  </a:lnTo>
                  <a:lnTo>
                    <a:pt x="570" y="2"/>
                  </a:lnTo>
                  <a:lnTo>
                    <a:pt x="594" y="5"/>
                  </a:lnTo>
                  <a:lnTo>
                    <a:pt x="617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9" y="86"/>
                  </a:lnTo>
                  <a:lnTo>
                    <a:pt x="827" y="99"/>
                  </a:lnTo>
                  <a:lnTo>
                    <a:pt x="845" y="113"/>
                  </a:lnTo>
                  <a:lnTo>
                    <a:pt x="862" y="128"/>
                  </a:lnTo>
                  <a:lnTo>
                    <a:pt x="883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6" y="239"/>
                  </a:lnTo>
                  <a:lnTo>
                    <a:pt x="972" y="265"/>
                  </a:lnTo>
                  <a:lnTo>
                    <a:pt x="985" y="290"/>
                  </a:lnTo>
                  <a:lnTo>
                    <a:pt x="998" y="316"/>
                  </a:lnTo>
                  <a:lnTo>
                    <a:pt x="1008" y="343"/>
                  </a:lnTo>
                  <a:lnTo>
                    <a:pt x="1018" y="371"/>
                  </a:lnTo>
                  <a:lnTo>
                    <a:pt x="1026" y="398"/>
                  </a:lnTo>
                  <a:lnTo>
                    <a:pt x="1033" y="426"/>
                  </a:lnTo>
                  <a:lnTo>
                    <a:pt x="1038" y="455"/>
                  </a:lnTo>
                  <a:lnTo>
                    <a:pt x="1042" y="484"/>
                  </a:lnTo>
                  <a:lnTo>
                    <a:pt x="1044" y="513"/>
                  </a:lnTo>
                  <a:lnTo>
                    <a:pt x="1045" y="543"/>
                  </a:lnTo>
                  <a:lnTo>
                    <a:pt x="1044" y="572"/>
                  </a:lnTo>
                  <a:lnTo>
                    <a:pt x="1042" y="602"/>
                  </a:lnTo>
                  <a:lnTo>
                    <a:pt x="1038" y="630"/>
                  </a:lnTo>
                  <a:lnTo>
                    <a:pt x="1033" y="658"/>
                  </a:lnTo>
                  <a:lnTo>
                    <a:pt x="1026" y="687"/>
                  </a:lnTo>
                  <a:lnTo>
                    <a:pt x="1018" y="715"/>
                  </a:lnTo>
                  <a:lnTo>
                    <a:pt x="1008" y="742"/>
                  </a:lnTo>
                  <a:lnTo>
                    <a:pt x="997" y="770"/>
                  </a:lnTo>
                  <a:lnTo>
                    <a:pt x="984" y="796"/>
                  </a:lnTo>
                  <a:lnTo>
                    <a:pt x="971" y="821"/>
                  </a:lnTo>
                  <a:lnTo>
                    <a:pt x="956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3" y="938"/>
                  </a:lnTo>
                  <a:lnTo>
                    <a:pt x="862" y="958"/>
                  </a:lnTo>
                  <a:lnTo>
                    <a:pt x="845" y="973"/>
                  </a:lnTo>
                  <a:lnTo>
                    <a:pt x="827" y="987"/>
                  </a:lnTo>
                  <a:lnTo>
                    <a:pt x="808" y="1001"/>
                  </a:lnTo>
                  <a:lnTo>
                    <a:pt x="789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3" y="1082"/>
                  </a:lnTo>
                  <a:lnTo>
                    <a:pt x="570" y="1085"/>
                  </a:lnTo>
                  <a:lnTo>
                    <a:pt x="546" y="1086"/>
                  </a:lnTo>
                  <a:lnTo>
                    <a:pt x="522" y="1087"/>
                  </a:lnTo>
                  <a:lnTo>
                    <a:pt x="498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6" y="1045"/>
                  </a:lnTo>
                  <a:lnTo>
                    <a:pt x="295" y="1035"/>
                  </a:lnTo>
                  <a:lnTo>
                    <a:pt x="275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200" y="973"/>
                  </a:lnTo>
                  <a:lnTo>
                    <a:pt x="183" y="958"/>
                  </a:lnTo>
                  <a:lnTo>
                    <a:pt x="161" y="938"/>
                  </a:lnTo>
                  <a:lnTo>
                    <a:pt x="141" y="917"/>
                  </a:lnTo>
                  <a:lnTo>
                    <a:pt x="122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4" y="822"/>
                  </a:lnTo>
                  <a:lnTo>
                    <a:pt x="60" y="797"/>
                  </a:lnTo>
                  <a:lnTo>
                    <a:pt x="48" y="770"/>
                  </a:lnTo>
                  <a:lnTo>
                    <a:pt x="37" y="743"/>
                  </a:lnTo>
                  <a:lnTo>
                    <a:pt x="28" y="715"/>
                  </a:lnTo>
                  <a:lnTo>
                    <a:pt x="19" y="688"/>
                  </a:lnTo>
                  <a:lnTo>
                    <a:pt x="13" y="659"/>
                  </a:lnTo>
                  <a:lnTo>
                    <a:pt x="8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8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7" y="370"/>
                  </a:lnTo>
                  <a:lnTo>
                    <a:pt x="37" y="342"/>
                  </a:lnTo>
                  <a:lnTo>
                    <a:pt x="48" y="315"/>
                  </a:lnTo>
                  <a:lnTo>
                    <a:pt x="60" y="289"/>
                  </a:lnTo>
                  <a:lnTo>
                    <a:pt x="74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2" y="192"/>
                  </a:lnTo>
                  <a:lnTo>
                    <a:pt x="141" y="170"/>
                  </a:lnTo>
                  <a:lnTo>
                    <a:pt x="161" y="149"/>
                  </a:lnTo>
                  <a:lnTo>
                    <a:pt x="183" y="128"/>
                  </a:lnTo>
                  <a:lnTo>
                    <a:pt x="200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5" y="62"/>
                  </a:lnTo>
                  <a:lnTo>
                    <a:pt x="295" y="51"/>
                  </a:lnTo>
                  <a:lnTo>
                    <a:pt x="316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8" y="1"/>
                  </a:lnTo>
                  <a:lnTo>
                    <a:pt x="522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327560" y="998640"/>
              <a:ext cx="217440" cy="328680"/>
            </a:xfrm>
            <a:custGeom>
              <a:avLst/>
              <a:gdLst/>
              <a:ahLst/>
              <a:rect l="l" t="t" r="r" b="b"/>
              <a:pathLst>
                <a:path w="686" h="1031">
                  <a:moveTo>
                    <a:pt x="477" y="261"/>
                  </a:moveTo>
                  <a:lnTo>
                    <a:pt x="477" y="1031"/>
                  </a:lnTo>
                  <a:lnTo>
                    <a:pt x="209" y="1031"/>
                  </a:lnTo>
                  <a:lnTo>
                    <a:pt x="209" y="261"/>
                  </a:lnTo>
                  <a:lnTo>
                    <a:pt x="0" y="261"/>
                  </a:lnTo>
                  <a:lnTo>
                    <a:pt x="27" y="0"/>
                  </a:lnTo>
                  <a:lnTo>
                    <a:pt x="657" y="0"/>
                  </a:lnTo>
                  <a:lnTo>
                    <a:pt x="686" y="261"/>
                  </a:lnTo>
                  <a:lnTo>
                    <a:pt x="477" y="2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702320" y="998640"/>
              <a:ext cx="218880" cy="336600"/>
            </a:xfrm>
            <a:custGeom>
              <a:avLst/>
              <a:gdLst/>
              <a:ahLst/>
              <a:rect l="l" t="t" r="r" b="b"/>
              <a:pathLst>
                <a:path w="693" h="1060">
                  <a:moveTo>
                    <a:pt x="426" y="625"/>
                  </a:moveTo>
                  <a:lnTo>
                    <a:pt x="426" y="0"/>
                  </a:lnTo>
                  <a:lnTo>
                    <a:pt x="693" y="0"/>
                  </a:lnTo>
                  <a:lnTo>
                    <a:pt x="693" y="625"/>
                  </a:lnTo>
                  <a:lnTo>
                    <a:pt x="692" y="660"/>
                  </a:lnTo>
                  <a:lnTo>
                    <a:pt x="691" y="692"/>
                  </a:lnTo>
                  <a:lnTo>
                    <a:pt x="690" y="724"/>
                  </a:lnTo>
                  <a:lnTo>
                    <a:pt x="688" y="751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2" y="842"/>
                  </a:lnTo>
                  <a:lnTo>
                    <a:pt x="667" y="859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9"/>
                  </a:lnTo>
                  <a:lnTo>
                    <a:pt x="636" y="924"/>
                  </a:lnTo>
                  <a:lnTo>
                    <a:pt x="626" y="939"/>
                  </a:lnTo>
                  <a:lnTo>
                    <a:pt x="616" y="953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6"/>
                  </a:lnTo>
                  <a:lnTo>
                    <a:pt x="555" y="1005"/>
                  </a:lnTo>
                  <a:lnTo>
                    <a:pt x="541" y="1014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5"/>
                  </a:lnTo>
                  <a:lnTo>
                    <a:pt x="476" y="1041"/>
                  </a:lnTo>
                  <a:lnTo>
                    <a:pt x="460" y="1045"/>
                  </a:lnTo>
                  <a:lnTo>
                    <a:pt x="442" y="1049"/>
                  </a:lnTo>
                  <a:lnTo>
                    <a:pt x="423" y="1053"/>
                  </a:lnTo>
                  <a:lnTo>
                    <a:pt x="405" y="1056"/>
                  </a:lnTo>
                  <a:lnTo>
                    <a:pt x="386" y="1058"/>
                  </a:lnTo>
                  <a:lnTo>
                    <a:pt x="366" y="1059"/>
                  </a:lnTo>
                  <a:lnTo>
                    <a:pt x="346" y="1060"/>
                  </a:lnTo>
                  <a:lnTo>
                    <a:pt x="327" y="1059"/>
                  </a:lnTo>
                  <a:lnTo>
                    <a:pt x="307" y="1058"/>
                  </a:lnTo>
                  <a:lnTo>
                    <a:pt x="289" y="1056"/>
                  </a:lnTo>
                  <a:lnTo>
                    <a:pt x="271" y="1053"/>
                  </a:lnTo>
                  <a:lnTo>
                    <a:pt x="252" y="1049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199" y="1035"/>
                  </a:lnTo>
                  <a:lnTo>
                    <a:pt x="184" y="1028"/>
                  </a:lnTo>
                  <a:lnTo>
                    <a:pt x="168" y="1021"/>
                  </a:lnTo>
                  <a:lnTo>
                    <a:pt x="152" y="1014"/>
                  </a:lnTo>
                  <a:lnTo>
                    <a:pt x="139" y="1005"/>
                  </a:lnTo>
                  <a:lnTo>
                    <a:pt x="125" y="996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0" y="965"/>
                  </a:lnTo>
                  <a:lnTo>
                    <a:pt x="79" y="953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8" y="909"/>
                  </a:lnTo>
                  <a:lnTo>
                    <a:pt x="40" y="892"/>
                  </a:lnTo>
                  <a:lnTo>
                    <a:pt x="33" y="876"/>
                  </a:lnTo>
                  <a:lnTo>
                    <a:pt x="26" y="858"/>
                  </a:lnTo>
                  <a:lnTo>
                    <a:pt x="20" y="840"/>
                  </a:lnTo>
                  <a:lnTo>
                    <a:pt x="16" y="820"/>
                  </a:lnTo>
                  <a:lnTo>
                    <a:pt x="12" y="799"/>
                  </a:lnTo>
                  <a:lnTo>
                    <a:pt x="7" y="775"/>
                  </a:lnTo>
                  <a:lnTo>
                    <a:pt x="5" y="750"/>
                  </a:lnTo>
                  <a:lnTo>
                    <a:pt x="2" y="722"/>
                  </a:lnTo>
                  <a:lnTo>
                    <a:pt x="1" y="691"/>
                  </a:lnTo>
                  <a:lnTo>
                    <a:pt x="0" y="66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9" y="646"/>
                  </a:lnTo>
                  <a:lnTo>
                    <a:pt x="269" y="665"/>
                  </a:lnTo>
                  <a:lnTo>
                    <a:pt x="271" y="683"/>
                  </a:lnTo>
                  <a:lnTo>
                    <a:pt x="273" y="699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5" y="747"/>
                  </a:lnTo>
                  <a:lnTo>
                    <a:pt x="291" y="754"/>
                  </a:lnTo>
                  <a:lnTo>
                    <a:pt x="297" y="762"/>
                  </a:lnTo>
                  <a:lnTo>
                    <a:pt x="303" y="768"/>
                  </a:lnTo>
                  <a:lnTo>
                    <a:pt x="311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7" y="782"/>
                  </a:lnTo>
                  <a:lnTo>
                    <a:pt x="357" y="780"/>
                  </a:lnTo>
                  <a:lnTo>
                    <a:pt x="367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2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2" y="736"/>
                  </a:lnTo>
                  <a:lnTo>
                    <a:pt x="417" y="725"/>
                  </a:lnTo>
                  <a:lnTo>
                    <a:pt x="420" y="712"/>
                  </a:lnTo>
                  <a:lnTo>
                    <a:pt x="422" y="698"/>
                  </a:lnTo>
                  <a:lnTo>
                    <a:pt x="424" y="682"/>
                  </a:lnTo>
                  <a:lnTo>
                    <a:pt x="425" y="665"/>
                  </a:lnTo>
                  <a:lnTo>
                    <a:pt x="426" y="645"/>
                  </a:lnTo>
                  <a:lnTo>
                    <a:pt x="426" y="6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964040" y="993600"/>
              <a:ext cx="173160" cy="338400"/>
            </a:xfrm>
            <a:custGeom>
              <a:avLst/>
              <a:gdLst/>
              <a:ahLst/>
              <a:rect l="l" t="t" r="r" b="b"/>
              <a:pathLst>
                <a:path w="544" h="1063">
                  <a:moveTo>
                    <a:pt x="20" y="1050"/>
                  </a:moveTo>
                  <a:lnTo>
                    <a:pt x="12" y="766"/>
                  </a:lnTo>
                  <a:lnTo>
                    <a:pt x="20" y="769"/>
                  </a:lnTo>
                  <a:lnTo>
                    <a:pt x="27" y="771"/>
                  </a:lnTo>
                  <a:lnTo>
                    <a:pt x="34" y="774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2"/>
                  </a:lnTo>
                  <a:lnTo>
                    <a:pt x="63" y="783"/>
                  </a:lnTo>
                  <a:lnTo>
                    <a:pt x="70" y="785"/>
                  </a:lnTo>
                  <a:lnTo>
                    <a:pt x="76" y="787"/>
                  </a:lnTo>
                  <a:lnTo>
                    <a:pt x="84" y="788"/>
                  </a:lnTo>
                  <a:lnTo>
                    <a:pt x="90" y="789"/>
                  </a:lnTo>
                  <a:lnTo>
                    <a:pt x="96" y="790"/>
                  </a:lnTo>
                  <a:lnTo>
                    <a:pt x="103" y="791"/>
                  </a:lnTo>
                  <a:lnTo>
                    <a:pt x="110" y="791"/>
                  </a:lnTo>
                  <a:lnTo>
                    <a:pt x="116" y="791"/>
                  </a:lnTo>
                  <a:lnTo>
                    <a:pt x="122" y="791"/>
                  </a:lnTo>
                  <a:lnTo>
                    <a:pt x="133" y="791"/>
                  </a:lnTo>
                  <a:lnTo>
                    <a:pt x="143" y="790"/>
                  </a:lnTo>
                  <a:lnTo>
                    <a:pt x="153" y="788"/>
                  </a:lnTo>
                  <a:lnTo>
                    <a:pt x="162" y="786"/>
                  </a:lnTo>
                  <a:lnTo>
                    <a:pt x="171" y="783"/>
                  </a:lnTo>
                  <a:lnTo>
                    <a:pt x="179" y="779"/>
                  </a:lnTo>
                  <a:lnTo>
                    <a:pt x="187" y="774"/>
                  </a:lnTo>
                  <a:lnTo>
                    <a:pt x="195" y="768"/>
                  </a:lnTo>
                  <a:lnTo>
                    <a:pt x="201" y="763"/>
                  </a:lnTo>
                  <a:lnTo>
                    <a:pt x="206" y="757"/>
                  </a:lnTo>
                  <a:lnTo>
                    <a:pt x="211" y="749"/>
                  </a:lnTo>
                  <a:lnTo>
                    <a:pt x="216" y="742"/>
                  </a:lnTo>
                  <a:lnTo>
                    <a:pt x="219" y="735"/>
                  </a:lnTo>
                  <a:lnTo>
                    <a:pt x="221" y="727"/>
                  </a:lnTo>
                  <a:lnTo>
                    <a:pt x="222" y="719"/>
                  </a:lnTo>
                  <a:lnTo>
                    <a:pt x="223" y="710"/>
                  </a:lnTo>
                  <a:lnTo>
                    <a:pt x="221" y="699"/>
                  </a:lnTo>
                  <a:lnTo>
                    <a:pt x="218" y="686"/>
                  </a:lnTo>
                  <a:lnTo>
                    <a:pt x="211" y="673"/>
                  </a:lnTo>
                  <a:lnTo>
                    <a:pt x="203" y="659"/>
                  </a:lnTo>
                  <a:lnTo>
                    <a:pt x="193" y="644"/>
                  </a:lnTo>
                  <a:lnTo>
                    <a:pt x="179" y="629"/>
                  </a:lnTo>
                  <a:lnTo>
                    <a:pt x="164" y="612"/>
                  </a:lnTo>
                  <a:lnTo>
                    <a:pt x="145" y="595"/>
                  </a:lnTo>
                  <a:lnTo>
                    <a:pt x="139" y="589"/>
                  </a:lnTo>
                  <a:lnTo>
                    <a:pt x="134" y="583"/>
                  </a:lnTo>
                  <a:lnTo>
                    <a:pt x="128" y="578"/>
                  </a:lnTo>
                  <a:lnTo>
                    <a:pt x="122" y="573"/>
                  </a:lnTo>
                  <a:lnTo>
                    <a:pt x="118" y="569"/>
                  </a:lnTo>
                  <a:lnTo>
                    <a:pt x="114" y="564"/>
                  </a:lnTo>
                  <a:lnTo>
                    <a:pt x="110" y="560"/>
                  </a:lnTo>
                  <a:lnTo>
                    <a:pt x="106" y="556"/>
                  </a:lnTo>
                  <a:lnTo>
                    <a:pt x="93" y="542"/>
                  </a:lnTo>
                  <a:lnTo>
                    <a:pt x="80" y="529"/>
                  </a:lnTo>
                  <a:lnTo>
                    <a:pt x="69" y="515"/>
                  </a:lnTo>
                  <a:lnTo>
                    <a:pt x="58" y="500"/>
                  </a:lnTo>
                  <a:lnTo>
                    <a:pt x="49" y="487"/>
                  </a:lnTo>
                  <a:lnTo>
                    <a:pt x="41" y="472"/>
                  </a:lnTo>
                  <a:lnTo>
                    <a:pt x="32" y="457"/>
                  </a:lnTo>
                  <a:lnTo>
                    <a:pt x="26" y="443"/>
                  </a:lnTo>
                  <a:lnTo>
                    <a:pt x="20" y="428"/>
                  </a:lnTo>
                  <a:lnTo>
                    <a:pt x="14" y="413"/>
                  </a:lnTo>
                  <a:lnTo>
                    <a:pt x="9" y="398"/>
                  </a:lnTo>
                  <a:lnTo>
                    <a:pt x="6" y="382"/>
                  </a:lnTo>
                  <a:lnTo>
                    <a:pt x="3" y="366"/>
                  </a:lnTo>
                  <a:lnTo>
                    <a:pt x="1" y="350"/>
                  </a:lnTo>
                  <a:lnTo>
                    <a:pt x="0" y="333"/>
                  </a:lnTo>
                  <a:lnTo>
                    <a:pt x="0" y="317"/>
                  </a:lnTo>
                  <a:lnTo>
                    <a:pt x="0" y="300"/>
                  </a:lnTo>
                  <a:lnTo>
                    <a:pt x="1" y="283"/>
                  </a:lnTo>
                  <a:lnTo>
                    <a:pt x="3" y="266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0"/>
                  </a:lnTo>
                  <a:lnTo>
                    <a:pt x="17" y="205"/>
                  </a:lnTo>
                  <a:lnTo>
                    <a:pt x="24" y="191"/>
                  </a:lnTo>
                  <a:lnTo>
                    <a:pt x="30" y="177"/>
                  </a:lnTo>
                  <a:lnTo>
                    <a:pt x="37" y="162"/>
                  </a:lnTo>
                  <a:lnTo>
                    <a:pt x="45" y="150"/>
                  </a:lnTo>
                  <a:lnTo>
                    <a:pt x="54" y="137"/>
                  </a:lnTo>
                  <a:lnTo>
                    <a:pt x="64" y="125"/>
                  </a:lnTo>
                  <a:lnTo>
                    <a:pt x="74" y="112"/>
                  </a:lnTo>
                  <a:lnTo>
                    <a:pt x="85" y="100"/>
                  </a:lnTo>
                  <a:lnTo>
                    <a:pt x="96" y="89"/>
                  </a:lnTo>
                  <a:lnTo>
                    <a:pt x="109" y="78"/>
                  </a:lnTo>
                  <a:lnTo>
                    <a:pt x="121" y="68"/>
                  </a:lnTo>
                  <a:lnTo>
                    <a:pt x="135" y="58"/>
                  </a:lnTo>
                  <a:lnTo>
                    <a:pt x="149" y="50"/>
                  </a:lnTo>
                  <a:lnTo>
                    <a:pt x="162" y="42"/>
                  </a:lnTo>
                  <a:lnTo>
                    <a:pt x="177" y="34"/>
                  </a:lnTo>
                  <a:lnTo>
                    <a:pt x="193" y="28"/>
                  </a:lnTo>
                  <a:lnTo>
                    <a:pt x="208" y="22"/>
                  </a:lnTo>
                  <a:lnTo>
                    <a:pt x="224" y="16"/>
                  </a:lnTo>
                  <a:lnTo>
                    <a:pt x="240" y="12"/>
                  </a:lnTo>
                  <a:lnTo>
                    <a:pt x="257" y="8"/>
                  </a:lnTo>
                  <a:lnTo>
                    <a:pt x="274" y="5"/>
                  </a:lnTo>
                  <a:lnTo>
                    <a:pt x="292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6"/>
                  </a:lnTo>
                  <a:lnTo>
                    <a:pt x="450" y="7"/>
                  </a:lnTo>
                  <a:lnTo>
                    <a:pt x="460" y="9"/>
                  </a:lnTo>
                  <a:lnTo>
                    <a:pt x="471" y="11"/>
                  </a:lnTo>
                  <a:lnTo>
                    <a:pt x="481" y="13"/>
                  </a:lnTo>
                  <a:lnTo>
                    <a:pt x="491" y="16"/>
                  </a:lnTo>
                  <a:lnTo>
                    <a:pt x="501" y="20"/>
                  </a:lnTo>
                  <a:lnTo>
                    <a:pt x="511" y="22"/>
                  </a:lnTo>
                  <a:lnTo>
                    <a:pt x="521" y="25"/>
                  </a:lnTo>
                  <a:lnTo>
                    <a:pt x="521" y="281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7" y="269"/>
                  </a:lnTo>
                  <a:lnTo>
                    <a:pt x="488" y="266"/>
                  </a:lnTo>
                  <a:lnTo>
                    <a:pt x="481" y="263"/>
                  </a:lnTo>
                  <a:lnTo>
                    <a:pt x="473" y="261"/>
                  </a:lnTo>
                  <a:lnTo>
                    <a:pt x="465" y="258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4" y="252"/>
                  </a:lnTo>
                  <a:lnTo>
                    <a:pt x="437" y="251"/>
                  </a:lnTo>
                  <a:lnTo>
                    <a:pt x="431" y="249"/>
                  </a:lnTo>
                  <a:lnTo>
                    <a:pt x="424" y="248"/>
                  </a:lnTo>
                  <a:lnTo>
                    <a:pt x="418" y="247"/>
                  </a:lnTo>
                  <a:lnTo>
                    <a:pt x="413" y="247"/>
                  </a:lnTo>
                  <a:lnTo>
                    <a:pt x="407" y="247"/>
                  </a:lnTo>
                  <a:lnTo>
                    <a:pt x="395" y="247"/>
                  </a:lnTo>
                  <a:lnTo>
                    <a:pt x="384" y="248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59"/>
                  </a:lnTo>
                  <a:lnTo>
                    <a:pt x="336" y="263"/>
                  </a:lnTo>
                  <a:lnTo>
                    <a:pt x="329" y="268"/>
                  </a:lnTo>
                  <a:lnTo>
                    <a:pt x="323" y="274"/>
                  </a:lnTo>
                  <a:lnTo>
                    <a:pt x="317" y="280"/>
                  </a:lnTo>
                  <a:lnTo>
                    <a:pt x="312" y="286"/>
                  </a:lnTo>
                  <a:lnTo>
                    <a:pt x="309" y="294"/>
                  </a:lnTo>
                  <a:lnTo>
                    <a:pt x="306" y="302"/>
                  </a:lnTo>
                  <a:lnTo>
                    <a:pt x="304" y="310"/>
                  </a:lnTo>
                  <a:lnTo>
                    <a:pt x="303" y="319"/>
                  </a:lnTo>
                  <a:lnTo>
                    <a:pt x="302" y="328"/>
                  </a:lnTo>
                  <a:lnTo>
                    <a:pt x="303" y="333"/>
                  </a:lnTo>
                  <a:lnTo>
                    <a:pt x="303" y="340"/>
                  </a:lnTo>
                  <a:lnTo>
                    <a:pt x="305" y="345"/>
                  </a:lnTo>
                  <a:lnTo>
                    <a:pt x="307" y="351"/>
                  </a:lnTo>
                  <a:lnTo>
                    <a:pt x="312" y="363"/>
                  </a:lnTo>
                  <a:lnTo>
                    <a:pt x="321" y="375"/>
                  </a:lnTo>
                  <a:lnTo>
                    <a:pt x="331" y="389"/>
                  </a:lnTo>
                  <a:lnTo>
                    <a:pt x="344" y="402"/>
                  </a:lnTo>
                  <a:lnTo>
                    <a:pt x="358" y="416"/>
                  </a:lnTo>
                  <a:lnTo>
                    <a:pt x="376" y="430"/>
                  </a:lnTo>
                  <a:lnTo>
                    <a:pt x="384" y="436"/>
                  </a:lnTo>
                  <a:lnTo>
                    <a:pt x="390" y="442"/>
                  </a:lnTo>
                  <a:lnTo>
                    <a:pt x="396" y="447"/>
                  </a:lnTo>
                  <a:lnTo>
                    <a:pt x="402" y="452"/>
                  </a:lnTo>
                  <a:lnTo>
                    <a:pt x="408" y="456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69"/>
                  </a:lnTo>
                  <a:lnTo>
                    <a:pt x="436" y="482"/>
                  </a:lnTo>
                  <a:lnTo>
                    <a:pt x="450" y="495"/>
                  </a:lnTo>
                  <a:lnTo>
                    <a:pt x="462" y="510"/>
                  </a:lnTo>
                  <a:lnTo>
                    <a:pt x="475" y="525"/>
                  </a:lnTo>
                  <a:lnTo>
                    <a:pt x="485" y="539"/>
                  </a:lnTo>
                  <a:lnTo>
                    <a:pt x="496" y="555"/>
                  </a:lnTo>
                  <a:lnTo>
                    <a:pt x="505" y="572"/>
                  </a:lnTo>
                  <a:lnTo>
                    <a:pt x="513" y="589"/>
                  </a:lnTo>
                  <a:lnTo>
                    <a:pt x="520" y="605"/>
                  </a:lnTo>
                  <a:lnTo>
                    <a:pt x="526" y="622"/>
                  </a:lnTo>
                  <a:lnTo>
                    <a:pt x="532" y="640"/>
                  </a:lnTo>
                  <a:lnTo>
                    <a:pt x="537" y="658"/>
                  </a:lnTo>
                  <a:lnTo>
                    <a:pt x="540" y="677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2"/>
                  </a:lnTo>
                  <a:lnTo>
                    <a:pt x="544" y="751"/>
                  </a:lnTo>
                  <a:lnTo>
                    <a:pt x="543" y="770"/>
                  </a:lnTo>
                  <a:lnTo>
                    <a:pt x="541" y="788"/>
                  </a:lnTo>
                  <a:lnTo>
                    <a:pt x="538" y="806"/>
                  </a:lnTo>
                  <a:lnTo>
                    <a:pt x="535" y="823"/>
                  </a:lnTo>
                  <a:lnTo>
                    <a:pt x="529" y="840"/>
                  </a:lnTo>
                  <a:lnTo>
                    <a:pt x="524" y="855"/>
                  </a:lnTo>
                  <a:lnTo>
                    <a:pt x="519" y="870"/>
                  </a:lnTo>
                  <a:lnTo>
                    <a:pt x="511" y="886"/>
                  </a:lnTo>
                  <a:lnTo>
                    <a:pt x="504" y="899"/>
                  </a:lnTo>
                  <a:lnTo>
                    <a:pt x="496" y="913"/>
                  </a:lnTo>
                  <a:lnTo>
                    <a:pt x="486" y="927"/>
                  </a:lnTo>
                  <a:lnTo>
                    <a:pt x="477" y="939"/>
                  </a:lnTo>
                  <a:lnTo>
                    <a:pt x="465" y="952"/>
                  </a:lnTo>
                  <a:lnTo>
                    <a:pt x="454" y="963"/>
                  </a:lnTo>
                  <a:lnTo>
                    <a:pt x="442" y="975"/>
                  </a:lnTo>
                  <a:lnTo>
                    <a:pt x="429" y="986"/>
                  </a:lnTo>
                  <a:lnTo>
                    <a:pt x="415" y="996"/>
                  </a:lnTo>
                  <a:lnTo>
                    <a:pt x="400" y="1005"/>
                  </a:lnTo>
                  <a:lnTo>
                    <a:pt x="386" y="1014"/>
                  </a:lnTo>
                  <a:lnTo>
                    <a:pt x="370" y="1021"/>
                  </a:lnTo>
                  <a:lnTo>
                    <a:pt x="354" y="1029"/>
                  </a:lnTo>
                  <a:lnTo>
                    <a:pt x="337" y="1035"/>
                  </a:lnTo>
                  <a:lnTo>
                    <a:pt x="320" y="1041"/>
                  </a:lnTo>
                  <a:lnTo>
                    <a:pt x="302" y="1046"/>
                  </a:lnTo>
                  <a:lnTo>
                    <a:pt x="283" y="1051"/>
                  </a:lnTo>
                  <a:lnTo>
                    <a:pt x="263" y="1055"/>
                  </a:lnTo>
                  <a:lnTo>
                    <a:pt x="243" y="1058"/>
                  </a:lnTo>
                  <a:lnTo>
                    <a:pt x="223" y="1060"/>
                  </a:lnTo>
                  <a:lnTo>
                    <a:pt x="202" y="1062"/>
                  </a:lnTo>
                  <a:lnTo>
                    <a:pt x="180" y="1063"/>
                  </a:lnTo>
                  <a:lnTo>
                    <a:pt x="158" y="1063"/>
                  </a:lnTo>
                  <a:lnTo>
                    <a:pt x="149" y="1063"/>
                  </a:lnTo>
                  <a:lnTo>
                    <a:pt x="139" y="1062"/>
                  </a:lnTo>
                  <a:lnTo>
                    <a:pt x="130" y="1062"/>
                  </a:lnTo>
                  <a:lnTo>
                    <a:pt x="121" y="1062"/>
                  </a:lnTo>
                  <a:lnTo>
                    <a:pt x="112" y="1061"/>
                  </a:lnTo>
                  <a:lnTo>
                    <a:pt x="103" y="1061"/>
                  </a:lnTo>
                  <a:lnTo>
                    <a:pt x="94" y="1060"/>
                  </a:lnTo>
                  <a:lnTo>
                    <a:pt x="86" y="1059"/>
                  </a:lnTo>
                  <a:lnTo>
                    <a:pt x="77" y="1058"/>
                  </a:lnTo>
                  <a:lnTo>
                    <a:pt x="69" y="1057"/>
                  </a:lnTo>
                  <a:lnTo>
                    <a:pt x="60" y="1056"/>
                  </a:lnTo>
                  <a:lnTo>
                    <a:pt x="52" y="1055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20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75360" y="998640"/>
              <a:ext cx="203040" cy="328680"/>
            </a:xfrm>
            <a:custGeom>
              <a:avLst/>
              <a:gdLst/>
              <a:ahLst/>
              <a:rect l="l" t="t" r="r" b="b"/>
              <a:pathLst>
                <a:path w="644" h="1031">
                  <a:moveTo>
                    <a:pt x="644" y="748"/>
                  </a:moveTo>
                  <a:lnTo>
                    <a:pt x="572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61672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4" y="0"/>
                  </a:moveTo>
                  <a:lnTo>
                    <a:pt x="231" y="0"/>
                  </a:lnTo>
                  <a:lnTo>
                    <a:pt x="219" y="1"/>
                  </a:lnTo>
                  <a:lnTo>
                    <a:pt x="206" y="3"/>
                  </a:lnTo>
                  <a:lnTo>
                    <a:pt x="195" y="4"/>
                  </a:lnTo>
                  <a:lnTo>
                    <a:pt x="182" y="7"/>
                  </a:lnTo>
                  <a:lnTo>
                    <a:pt x="171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8" y="23"/>
                  </a:lnTo>
                  <a:lnTo>
                    <a:pt x="128" y="28"/>
                  </a:lnTo>
                  <a:lnTo>
                    <a:pt x="117" y="34"/>
                  </a:lnTo>
                  <a:lnTo>
                    <a:pt x="107" y="41"/>
                  </a:lnTo>
                  <a:lnTo>
                    <a:pt x="97" y="48"/>
                  </a:lnTo>
                  <a:lnTo>
                    <a:pt x="88" y="56"/>
                  </a:lnTo>
                  <a:lnTo>
                    <a:pt x="78" y="65"/>
                  </a:lnTo>
                  <a:lnTo>
                    <a:pt x="70" y="73"/>
                  </a:lnTo>
                  <a:lnTo>
                    <a:pt x="62" y="83"/>
                  </a:lnTo>
                  <a:lnTo>
                    <a:pt x="53" y="92"/>
                  </a:lnTo>
                  <a:lnTo>
                    <a:pt x="46" y="103"/>
                  </a:lnTo>
                  <a:lnTo>
                    <a:pt x="38" y="112"/>
                  </a:lnTo>
                  <a:lnTo>
                    <a:pt x="32" y="123"/>
                  </a:lnTo>
                  <a:lnTo>
                    <a:pt x="27" y="133"/>
                  </a:lnTo>
                  <a:lnTo>
                    <a:pt x="22" y="145"/>
                  </a:lnTo>
                  <a:lnTo>
                    <a:pt x="17" y="156"/>
                  </a:lnTo>
                  <a:lnTo>
                    <a:pt x="13" y="168"/>
                  </a:lnTo>
                  <a:lnTo>
                    <a:pt x="9" y="179"/>
                  </a:lnTo>
                  <a:lnTo>
                    <a:pt x="6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6" y="320"/>
                  </a:lnTo>
                  <a:lnTo>
                    <a:pt x="9" y="331"/>
                  </a:lnTo>
                  <a:lnTo>
                    <a:pt x="12" y="344"/>
                  </a:lnTo>
                  <a:lnTo>
                    <a:pt x="16" y="356"/>
                  </a:lnTo>
                  <a:lnTo>
                    <a:pt x="22" y="366"/>
                  </a:lnTo>
                  <a:lnTo>
                    <a:pt x="27" y="378"/>
                  </a:lnTo>
                  <a:lnTo>
                    <a:pt x="32" y="388"/>
                  </a:lnTo>
                  <a:lnTo>
                    <a:pt x="38" y="399"/>
                  </a:lnTo>
                  <a:lnTo>
                    <a:pt x="46" y="408"/>
                  </a:lnTo>
                  <a:lnTo>
                    <a:pt x="53" y="419"/>
                  </a:lnTo>
                  <a:lnTo>
                    <a:pt x="60" y="428"/>
                  </a:lnTo>
                  <a:lnTo>
                    <a:pt x="70" y="438"/>
                  </a:lnTo>
                  <a:lnTo>
                    <a:pt x="78" y="446"/>
                  </a:lnTo>
                  <a:lnTo>
                    <a:pt x="88" y="454"/>
                  </a:lnTo>
                  <a:lnTo>
                    <a:pt x="97" y="462"/>
                  </a:lnTo>
                  <a:lnTo>
                    <a:pt x="107" y="469"/>
                  </a:lnTo>
                  <a:lnTo>
                    <a:pt x="116" y="476"/>
                  </a:lnTo>
                  <a:lnTo>
                    <a:pt x="127" y="482"/>
                  </a:lnTo>
                  <a:lnTo>
                    <a:pt x="137" y="487"/>
                  </a:lnTo>
                  <a:lnTo>
                    <a:pt x="149" y="492"/>
                  </a:lnTo>
                  <a:lnTo>
                    <a:pt x="159" y="496"/>
                  </a:lnTo>
                  <a:lnTo>
                    <a:pt x="171" y="501"/>
                  </a:lnTo>
                  <a:lnTo>
                    <a:pt x="182" y="504"/>
                  </a:lnTo>
                  <a:lnTo>
                    <a:pt x="194" y="506"/>
                  </a:lnTo>
                  <a:lnTo>
                    <a:pt x="206" y="508"/>
                  </a:lnTo>
                  <a:lnTo>
                    <a:pt x="219" y="509"/>
                  </a:lnTo>
                  <a:lnTo>
                    <a:pt x="231" y="510"/>
                  </a:lnTo>
                  <a:lnTo>
                    <a:pt x="244" y="510"/>
                  </a:lnTo>
                  <a:lnTo>
                    <a:pt x="258" y="510"/>
                  </a:lnTo>
                  <a:lnTo>
                    <a:pt x="270" y="509"/>
                  </a:lnTo>
                  <a:lnTo>
                    <a:pt x="282" y="508"/>
                  </a:lnTo>
                  <a:lnTo>
                    <a:pt x="294" y="506"/>
                  </a:lnTo>
                  <a:lnTo>
                    <a:pt x="306" y="504"/>
                  </a:lnTo>
                  <a:lnTo>
                    <a:pt x="317" y="501"/>
                  </a:lnTo>
                  <a:lnTo>
                    <a:pt x="329" y="496"/>
                  </a:lnTo>
                  <a:lnTo>
                    <a:pt x="341" y="492"/>
                  </a:lnTo>
                  <a:lnTo>
                    <a:pt x="351" y="487"/>
                  </a:lnTo>
                  <a:lnTo>
                    <a:pt x="362" y="482"/>
                  </a:lnTo>
                  <a:lnTo>
                    <a:pt x="372" y="475"/>
                  </a:lnTo>
                  <a:lnTo>
                    <a:pt x="381" y="469"/>
                  </a:lnTo>
                  <a:lnTo>
                    <a:pt x="391" y="462"/>
                  </a:lnTo>
                  <a:lnTo>
                    <a:pt x="400" y="454"/>
                  </a:lnTo>
                  <a:lnTo>
                    <a:pt x="410" y="446"/>
                  </a:lnTo>
                  <a:lnTo>
                    <a:pt x="419" y="436"/>
                  </a:lnTo>
                  <a:lnTo>
                    <a:pt x="428" y="428"/>
                  </a:lnTo>
                  <a:lnTo>
                    <a:pt x="435" y="418"/>
                  </a:lnTo>
                  <a:lnTo>
                    <a:pt x="443" y="408"/>
                  </a:lnTo>
                  <a:lnTo>
                    <a:pt x="450" y="398"/>
                  </a:lnTo>
                  <a:lnTo>
                    <a:pt x="456" y="387"/>
                  </a:lnTo>
                  <a:lnTo>
                    <a:pt x="462" y="377"/>
                  </a:lnTo>
                  <a:lnTo>
                    <a:pt x="467" y="366"/>
                  </a:lnTo>
                  <a:lnTo>
                    <a:pt x="472" y="355"/>
                  </a:lnTo>
                  <a:lnTo>
                    <a:pt x="476" y="343"/>
                  </a:lnTo>
                  <a:lnTo>
                    <a:pt x="479" y="331"/>
                  </a:lnTo>
                  <a:lnTo>
                    <a:pt x="482" y="320"/>
                  </a:lnTo>
                  <a:lnTo>
                    <a:pt x="485" y="307"/>
                  </a:lnTo>
                  <a:lnTo>
                    <a:pt x="487" y="295"/>
                  </a:lnTo>
                  <a:lnTo>
                    <a:pt x="488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8" y="229"/>
                  </a:lnTo>
                  <a:lnTo>
                    <a:pt x="487" y="216"/>
                  </a:lnTo>
                  <a:lnTo>
                    <a:pt x="485" y="203"/>
                  </a:lnTo>
                  <a:lnTo>
                    <a:pt x="482" y="192"/>
                  </a:lnTo>
                  <a:lnTo>
                    <a:pt x="479" y="179"/>
                  </a:lnTo>
                  <a:lnTo>
                    <a:pt x="476" y="168"/>
                  </a:lnTo>
                  <a:lnTo>
                    <a:pt x="472" y="156"/>
                  </a:lnTo>
                  <a:lnTo>
                    <a:pt x="467" y="145"/>
                  </a:lnTo>
                  <a:lnTo>
                    <a:pt x="462" y="134"/>
                  </a:lnTo>
                  <a:lnTo>
                    <a:pt x="456" y="124"/>
                  </a:lnTo>
                  <a:lnTo>
                    <a:pt x="450" y="113"/>
                  </a:lnTo>
                  <a:lnTo>
                    <a:pt x="443" y="103"/>
                  </a:lnTo>
                  <a:lnTo>
                    <a:pt x="435" y="93"/>
                  </a:lnTo>
                  <a:lnTo>
                    <a:pt x="428" y="84"/>
                  </a:lnTo>
                  <a:lnTo>
                    <a:pt x="419" y="74"/>
                  </a:lnTo>
                  <a:lnTo>
                    <a:pt x="410" y="65"/>
                  </a:lnTo>
                  <a:lnTo>
                    <a:pt x="400" y="56"/>
                  </a:lnTo>
                  <a:lnTo>
                    <a:pt x="391" y="49"/>
                  </a:lnTo>
                  <a:lnTo>
                    <a:pt x="381" y="42"/>
                  </a:lnTo>
                  <a:lnTo>
                    <a:pt x="372" y="34"/>
                  </a:lnTo>
                  <a:lnTo>
                    <a:pt x="362" y="29"/>
                  </a:lnTo>
                  <a:lnTo>
                    <a:pt x="351" y="23"/>
                  </a:lnTo>
                  <a:lnTo>
                    <a:pt x="341" y="19"/>
                  </a:lnTo>
                  <a:lnTo>
                    <a:pt x="329" y="14"/>
                  </a:lnTo>
                  <a:lnTo>
                    <a:pt x="317" y="10"/>
                  </a:lnTo>
                  <a:lnTo>
                    <a:pt x="306" y="7"/>
                  </a:lnTo>
                  <a:lnTo>
                    <a:pt x="294" y="4"/>
                  </a:lnTo>
                  <a:lnTo>
                    <a:pt x="282" y="3"/>
                  </a:lnTo>
                  <a:lnTo>
                    <a:pt x="270" y="1"/>
                  </a:lnTo>
                  <a:lnTo>
                    <a:pt x="258" y="0"/>
                  </a:lnTo>
                  <a:lnTo>
                    <a:pt x="244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529240" y="990720"/>
              <a:ext cx="3301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1" y="0"/>
                  </a:moveTo>
                  <a:lnTo>
                    <a:pt x="545" y="1"/>
                  </a:lnTo>
                  <a:lnTo>
                    <a:pt x="569" y="2"/>
                  </a:lnTo>
                  <a:lnTo>
                    <a:pt x="593" y="5"/>
                  </a:lnTo>
                  <a:lnTo>
                    <a:pt x="616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8" y="86"/>
                  </a:lnTo>
                  <a:lnTo>
                    <a:pt x="826" y="99"/>
                  </a:lnTo>
                  <a:lnTo>
                    <a:pt x="844" y="113"/>
                  </a:lnTo>
                  <a:lnTo>
                    <a:pt x="861" y="128"/>
                  </a:lnTo>
                  <a:lnTo>
                    <a:pt x="882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5" y="239"/>
                  </a:lnTo>
                  <a:lnTo>
                    <a:pt x="971" y="265"/>
                  </a:lnTo>
                  <a:lnTo>
                    <a:pt x="985" y="290"/>
                  </a:lnTo>
                  <a:lnTo>
                    <a:pt x="997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6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1" y="484"/>
                  </a:lnTo>
                  <a:lnTo>
                    <a:pt x="1043" y="513"/>
                  </a:lnTo>
                  <a:lnTo>
                    <a:pt x="1044" y="543"/>
                  </a:lnTo>
                  <a:lnTo>
                    <a:pt x="1043" y="572"/>
                  </a:lnTo>
                  <a:lnTo>
                    <a:pt x="1041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6" y="687"/>
                  </a:lnTo>
                  <a:lnTo>
                    <a:pt x="1017" y="715"/>
                  </a:lnTo>
                  <a:lnTo>
                    <a:pt x="1008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5" y="846"/>
                  </a:lnTo>
                  <a:lnTo>
                    <a:pt x="938" y="870"/>
                  </a:lnTo>
                  <a:lnTo>
                    <a:pt x="921" y="894"/>
                  </a:lnTo>
                  <a:lnTo>
                    <a:pt x="903" y="916"/>
                  </a:lnTo>
                  <a:lnTo>
                    <a:pt x="882" y="938"/>
                  </a:lnTo>
                  <a:lnTo>
                    <a:pt x="861" y="958"/>
                  </a:lnTo>
                  <a:lnTo>
                    <a:pt x="844" y="973"/>
                  </a:lnTo>
                  <a:lnTo>
                    <a:pt x="826" y="987"/>
                  </a:lnTo>
                  <a:lnTo>
                    <a:pt x="807" y="1001"/>
                  </a:lnTo>
                  <a:lnTo>
                    <a:pt x="788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8" y="1073"/>
                  </a:lnTo>
                  <a:lnTo>
                    <a:pt x="615" y="1078"/>
                  </a:lnTo>
                  <a:lnTo>
                    <a:pt x="592" y="1082"/>
                  </a:lnTo>
                  <a:lnTo>
                    <a:pt x="569" y="1085"/>
                  </a:lnTo>
                  <a:lnTo>
                    <a:pt x="545" y="1086"/>
                  </a:lnTo>
                  <a:lnTo>
                    <a:pt x="521" y="1087"/>
                  </a:lnTo>
                  <a:lnTo>
                    <a:pt x="497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0" y="1068"/>
                  </a:lnTo>
                  <a:lnTo>
                    <a:pt x="358" y="1061"/>
                  </a:lnTo>
                  <a:lnTo>
                    <a:pt x="337" y="1053"/>
                  </a:lnTo>
                  <a:lnTo>
                    <a:pt x="315" y="1045"/>
                  </a:lnTo>
                  <a:lnTo>
                    <a:pt x="294" y="1035"/>
                  </a:lnTo>
                  <a:lnTo>
                    <a:pt x="274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199" y="973"/>
                  </a:lnTo>
                  <a:lnTo>
                    <a:pt x="182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59" y="797"/>
                  </a:lnTo>
                  <a:lnTo>
                    <a:pt x="47" y="770"/>
                  </a:lnTo>
                  <a:lnTo>
                    <a:pt x="36" y="743"/>
                  </a:lnTo>
                  <a:lnTo>
                    <a:pt x="27" y="715"/>
                  </a:lnTo>
                  <a:lnTo>
                    <a:pt x="19" y="688"/>
                  </a:lnTo>
                  <a:lnTo>
                    <a:pt x="12" y="659"/>
                  </a:lnTo>
                  <a:lnTo>
                    <a:pt x="7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7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6" y="370"/>
                  </a:lnTo>
                  <a:lnTo>
                    <a:pt x="36" y="342"/>
                  </a:lnTo>
                  <a:lnTo>
                    <a:pt x="47" y="315"/>
                  </a:lnTo>
                  <a:lnTo>
                    <a:pt x="59" y="289"/>
                  </a:lnTo>
                  <a:lnTo>
                    <a:pt x="73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40" y="170"/>
                  </a:lnTo>
                  <a:lnTo>
                    <a:pt x="160" y="149"/>
                  </a:lnTo>
                  <a:lnTo>
                    <a:pt x="182" y="128"/>
                  </a:lnTo>
                  <a:lnTo>
                    <a:pt x="199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4" y="62"/>
                  </a:lnTo>
                  <a:lnTo>
                    <a:pt x="294" y="51"/>
                  </a:lnTo>
                  <a:lnTo>
                    <a:pt x="315" y="41"/>
                  </a:lnTo>
                  <a:lnTo>
                    <a:pt x="337" y="33"/>
                  </a:lnTo>
                  <a:lnTo>
                    <a:pt x="358" y="25"/>
                  </a:lnTo>
                  <a:lnTo>
                    <a:pt x="380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7" y="1"/>
                  </a:lnTo>
                  <a:lnTo>
                    <a:pt x="521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904000" y="998640"/>
              <a:ext cx="83880" cy="328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048360" y="998640"/>
              <a:ext cx="204840" cy="328680"/>
            </a:xfrm>
            <a:custGeom>
              <a:avLst/>
              <a:gdLst/>
              <a:ahLst/>
              <a:rect l="l" t="t" r="r" b="b"/>
              <a:pathLst>
                <a:path w="649" h="1031">
                  <a:moveTo>
                    <a:pt x="649" y="748"/>
                  </a:moveTo>
                  <a:lnTo>
                    <a:pt x="56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266" y="0"/>
                  </a:lnTo>
                  <a:lnTo>
                    <a:pt x="266" y="748"/>
                  </a:lnTo>
                  <a:lnTo>
                    <a:pt x="649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719440" y="1563840"/>
              <a:ext cx="52200" cy="54000"/>
            </a:xfrm>
            <a:custGeom>
              <a:avLst/>
              <a:gdLst/>
              <a:ahLst/>
              <a:rect l="l" t="t" r="r" b="b"/>
              <a:pathLst>
                <a:path w="166" h="173">
                  <a:moveTo>
                    <a:pt x="0" y="173"/>
                  </a:moveTo>
                  <a:lnTo>
                    <a:pt x="47" y="173"/>
                  </a:lnTo>
                  <a:lnTo>
                    <a:pt x="61" y="173"/>
                  </a:lnTo>
                  <a:lnTo>
                    <a:pt x="75" y="172"/>
                  </a:lnTo>
                  <a:lnTo>
                    <a:pt x="88" y="170"/>
                  </a:lnTo>
                  <a:lnTo>
                    <a:pt x="99" y="168"/>
                  </a:lnTo>
                  <a:lnTo>
                    <a:pt x="111" y="166"/>
                  </a:lnTo>
                  <a:lnTo>
                    <a:pt x="120" y="162"/>
                  </a:lnTo>
                  <a:lnTo>
                    <a:pt x="130" y="157"/>
                  </a:lnTo>
                  <a:lnTo>
                    <a:pt x="137" y="153"/>
                  </a:lnTo>
                  <a:lnTo>
                    <a:pt x="144" y="148"/>
                  </a:lnTo>
                  <a:lnTo>
                    <a:pt x="150" y="142"/>
                  </a:lnTo>
                  <a:lnTo>
                    <a:pt x="155" y="134"/>
                  </a:lnTo>
                  <a:lnTo>
                    <a:pt x="159" y="127"/>
                  </a:lnTo>
                  <a:lnTo>
                    <a:pt x="162" y="120"/>
                  </a:lnTo>
                  <a:lnTo>
                    <a:pt x="164" y="110"/>
                  </a:lnTo>
                  <a:lnTo>
                    <a:pt x="166" y="101"/>
                  </a:lnTo>
                  <a:lnTo>
                    <a:pt x="166" y="91"/>
                  </a:lnTo>
                  <a:lnTo>
                    <a:pt x="166" y="80"/>
                  </a:lnTo>
                  <a:lnTo>
                    <a:pt x="165" y="68"/>
                  </a:lnTo>
                  <a:lnTo>
                    <a:pt x="163" y="59"/>
                  </a:lnTo>
                  <a:lnTo>
                    <a:pt x="160" y="49"/>
                  </a:lnTo>
                  <a:lnTo>
                    <a:pt x="156" y="41"/>
                  </a:lnTo>
                  <a:lnTo>
                    <a:pt x="152" y="34"/>
                  </a:lnTo>
                  <a:lnTo>
                    <a:pt x="145" y="27"/>
                  </a:lnTo>
                  <a:lnTo>
                    <a:pt x="139" y="21"/>
                  </a:lnTo>
                  <a:lnTo>
                    <a:pt x="132" y="17"/>
                  </a:lnTo>
                  <a:lnTo>
                    <a:pt x="123" y="13"/>
                  </a:lnTo>
                  <a:lnTo>
                    <a:pt x="113" y="8"/>
                  </a:lnTo>
                  <a:lnTo>
                    <a:pt x="102" y="5"/>
                  </a:lnTo>
                  <a:lnTo>
                    <a:pt x="90" y="3"/>
                  </a:lnTo>
                  <a:lnTo>
                    <a:pt x="77" y="2"/>
                  </a:lnTo>
                  <a:lnTo>
                    <a:pt x="62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7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719440" y="1684440"/>
              <a:ext cx="54000" cy="5868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0" y="187"/>
                  </a:moveTo>
                  <a:lnTo>
                    <a:pt x="55" y="187"/>
                  </a:lnTo>
                  <a:lnTo>
                    <a:pt x="69" y="187"/>
                  </a:lnTo>
                  <a:lnTo>
                    <a:pt x="81" y="186"/>
                  </a:lnTo>
                  <a:lnTo>
                    <a:pt x="94" y="184"/>
                  </a:lnTo>
                  <a:lnTo>
                    <a:pt x="105" y="182"/>
                  </a:lnTo>
                  <a:lnTo>
                    <a:pt x="115" y="178"/>
                  </a:lnTo>
                  <a:lnTo>
                    <a:pt x="124" y="175"/>
                  </a:lnTo>
                  <a:lnTo>
                    <a:pt x="134" y="170"/>
                  </a:lnTo>
                  <a:lnTo>
                    <a:pt x="141" y="165"/>
                  </a:lnTo>
                  <a:lnTo>
                    <a:pt x="147" y="160"/>
                  </a:lnTo>
                  <a:lnTo>
                    <a:pt x="154" y="153"/>
                  </a:lnTo>
                  <a:lnTo>
                    <a:pt x="158" y="146"/>
                  </a:lnTo>
                  <a:lnTo>
                    <a:pt x="162" y="138"/>
                  </a:lnTo>
                  <a:lnTo>
                    <a:pt x="165" y="129"/>
                  </a:lnTo>
                  <a:lnTo>
                    <a:pt x="167" y="120"/>
                  </a:lnTo>
                  <a:lnTo>
                    <a:pt x="169" y="109"/>
                  </a:lnTo>
                  <a:lnTo>
                    <a:pt x="169" y="99"/>
                  </a:lnTo>
                  <a:lnTo>
                    <a:pt x="169" y="87"/>
                  </a:lnTo>
                  <a:lnTo>
                    <a:pt x="167" y="76"/>
                  </a:lnTo>
                  <a:lnTo>
                    <a:pt x="165" y="65"/>
                  </a:lnTo>
                  <a:lnTo>
                    <a:pt x="162" y="55"/>
                  </a:lnTo>
                  <a:lnTo>
                    <a:pt x="158" y="46"/>
                  </a:lnTo>
                  <a:lnTo>
                    <a:pt x="153" y="38"/>
                  </a:lnTo>
                  <a:lnTo>
                    <a:pt x="146" y="30"/>
                  </a:lnTo>
                  <a:lnTo>
                    <a:pt x="140" y="24"/>
                  </a:lnTo>
                  <a:lnTo>
                    <a:pt x="132" y="18"/>
                  </a:lnTo>
                  <a:lnTo>
                    <a:pt x="123" y="14"/>
                  </a:lnTo>
                  <a:lnTo>
                    <a:pt x="113" y="9"/>
                  </a:lnTo>
                  <a:lnTo>
                    <a:pt x="102" y="5"/>
                  </a:lnTo>
                  <a:lnTo>
                    <a:pt x="90" y="3"/>
                  </a:lnTo>
                  <a:lnTo>
                    <a:pt x="77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635200" y="1490760"/>
              <a:ext cx="22248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5" y="7"/>
                  </a:lnTo>
                  <a:lnTo>
                    <a:pt x="463" y="11"/>
                  </a:lnTo>
                  <a:lnTo>
                    <a:pt x="481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30" y="28"/>
                  </a:lnTo>
                  <a:lnTo>
                    <a:pt x="545" y="35"/>
                  </a:lnTo>
                  <a:lnTo>
                    <a:pt x="559" y="41"/>
                  </a:lnTo>
                  <a:lnTo>
                    <a:pt x="573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10" y="72"/>
                  </a:lnTo>
                  <a:lnTo>
                    <a:pt x="620" y="82"/>
                  </a:lnTo>
                  <a:lnTo>
                    <a:pt x="631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8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8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5" y="218"/>
                  </a:lnTo>
                  <a:lnTo>
                    <a:pt x="697" y="234"/>
                  </a:lnTo>
                  <a:lnTo>
                    <a:pt x="699" y="250"/>
                  </a:lnTo>
                  <a:lnTo>
                    <a:pt x="700" y="267"/>
                  </a:lnTo>
                  <a:lnTo>
                    <a:pt x="700" y="284"/>
                  </a:lnTo>
                  <a:lnTo>
                    <a:pt x="700" y="305"/>
                  </a:lnTo>
                  <a:lnTo>
                    <a:pt x="698" y="323"/>
                  </a:lnTo>
                  <a:lnTo>
                    <a:pt x="696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5" y="406"/>
                  </a:lnTo>
                  <a:lnTo>
                    <a:pt x="667" y="421"/>
                  </a:lnTo>
                  <a:lnTo>
                    <a:pt x="658" y="435"/>
                  </a:lnTo>
                  <a:lnTo>
                    <a:pt x="647" y="447"/>
                  </a:lnTo>
                  <a:lnTo>
                    <a:pt x="637" y="460"/>
                  </a:lnTo>
                  <a:lnTo>
                    <a:pt x="624" y="471"/>
                  </a:lnTo>
                  <a:lnTo>
                    <a:pt x="611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5" y="527"/>
                  </a:lnTo>
                  <a:lnTo>
                    <a:pt x="610" y="536"/>
                  </a:lnTo>
                  <a:lnTo>
                    <a:pt x="623" y="545"/>
                  </a:lnTo>
                  <a:lnTo>
                    <a:pt x="636" y="557"/>
                  </a:lnTo>
                  <a:lnTo>
                    <a:pt x="647" y="568"/>
                  </a:lnTo>
                  <a:lnTo>
                    <a:pt x="658" y="581"/>
                  </a:lnTo>
                  <a:lnTo>
                    <a:pt x="667" y="595"/>
                  </a:lnTo>
                  <a:lnTo>
                    <a:pt x="676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5" y="662"/>
                  </a:lnTo>
                  <a:lnTo>
                    <a:pt x="698" y="680"/>
                  </a:lnTo>
                  <a:lnTo>
                    <a:pt x="701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2" y="778"/>
                  </a:lnTo>
                  <a:lnTo>
                    <a:pt x="700" y="794"/>
                  </a:lnTo>
                  <a:lnTo>
                    <a:pt x="698" y="811"/>
                  </a:lnTo>
                  <a:lnTo>
                    <a:pt x="695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1" y="868"/>
                  </a:lnTo>
                  <a:lnTo>
                    <a:pt x="675" y="882"/>
                  </a:lnTo>
                  <a:lnTo>
                    <a:pt x="667" y="895"/>
                  </a:lnTo>
                  <a:lnTo>
                    <a:pt x="660" y="907"/>
                  </a:lnTo>
                  <a:lnTo>
                    <a:pt x="653" y="919"/>
                  </a:lnTo>
                  <a:lnTo>
                    <a:pt x="643" y="929"/>
                  </a:lnTo>
                  <a:lnTo>
                    <a:pt x="634" y="940"/>
                  </a:lnTo>
                  <a:lnTo>
                    <a:pt x="623" y="950"/>
                  </a:lnTo>
                  <a:lnTo>
                    <a:pt x="613" y="959"/>
                  </a:lnTo>
                  <a:lnTo>
                    <a:pt x="600" y="968"/>
                  </a:lnTo>
                  <a:lnTo>
                    <a:pt x="589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7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2" y="1017"/>
                  </a:lnTo>
                  <a:lnTo>
                    <a:pt x="464" y="1022"/>
                  </a:lnTo>
                  <a:lnTo>
                    <a:pt x="445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005280" y="1589040"/>
              <a:ext cx="68040" cy="111240"/>
            </a:xfrm>
            <a:custGeom>
              <a:avLst/>
              <a:gdLst/>
              <a:ahLst/>
              <a:rect l="l" t="t" r="r" b="b"/>
              <a:pathLst>
                <a:path w="212" h="348">
                  <a:moveTo>
                    <a:pt x="0" y="348"/>
                  </a:moveTo>
                  <a:lnTo>
                    <a:pt x="212" y="348"/>
                  </a:lnTo>
                  <a:lnTo>
                    <a:pt x="106" y="0"/>
                  </a:lnTo>
                  <a:lnTo>
                    <a:pt x="0" y="3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88144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0" y="1032"/>
                  </a:moveTo>
                  <a:lnTo>
                    <a:pt x="360" y="0"/>
                  </a:lnTo>
                  <a:lnTo>
                    <a:pt x="661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24160" y="1486080"/>
              <a:ext cx="17316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9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4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3" y="792"/>
                  </a:lnTo>
                  <a:lnTo>
                    <a:pt x="110" y="792"/>
                  </a:lnTo>
                  <a:lnTo>
                    <a:pt x="116" y="792"/>
                  </a:lnTo>
                  <a:lnTo>
                    <a:pt x="123" y="793"/>
                  </a:lnTo>
                  <a:lnTo>
                    <a:pt x="133" y="792"/>
                  </a:lnTo>
                  <a:lnTo>
                    <a:pt x="144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8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2" y="750"/>
                  </a:lnTo>
                  <a:lnTo>
                    <a:pt x="216" y="744"/>
                  </a:lnTo>
                  <a:lnTo>
                    <a:pt x="219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2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5" y="612"/>
                  </a:lnTo>
                  <a:lnTo>
                    <a:pt x="146" y="596"/>
                  </a:lnTo>
                  <a:lnTo>
                    <a:pt x="139" y="589"/>
                  </a:lnTo>
                  <a:lnTo>
                    <a:pt x="134" y="584"/>
                  </a:lnTo>
                  <a:lnTo>
                    <a:pt x="128" y="579"/>
                  </a:lnTo>
                  <a:lnTo>
                    <a:pt x="123" y="574"/>
                  </a:lnTo>
                  <a:lnTo>
                    <a:pt x="118" y="569"/>
                  </a:lnTo>
                  <a:lnTo>
                    <a:pt x="114" y="565"/>
                  </a:lnTo>
                  <a:lnTo>
                    <a:pt x="110" y="561"/>
                  </a:lnTo>
                  <a:lnTo>
                    <a:pt x="106" y="558"/>
                  </a:lnTo>
                  <a:lnTo>
                    <a:pt x="93" y="543"/>
                  </a:lnTo>
                  <a:lnTo>
                    <a:pt x="81" y="529"/>
                  </a:lnTo>
                  <a:lnTo>
                    <a:pt x="69" y="516"/>
                  </a:lnTo>
                  <a:lnTo>
                    <a:pt x="59" y="501"/>
                  </a:lnTo>
                  <a:lnTo>
                    <a:pt x="49" y="487"/>
                  </a:lnTo>
                  <a:lnTo>
                    <a:pt x="41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20" y="429"/>
                  </a:lnTo>
                  <a:lnTo>
                    <a:pt x="15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1"/>
                  </a:lnTo>
                  <a:lnTo>
                    <a:pt x="18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8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4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2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9" y="22"/>
                  </a:lnTo>
                  <a:lnTo>
                    <a:pt x="224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5" y="6"/>
                  </a:lnTo>
                  <a:lnTo>
                    <a:pt x="293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1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1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9" y="267"/>
                  </a:lnTo>
                  <a:lnTo>
                    <a:pt x="481" y="264"/>
                  </a:lnTo>
                  <a:lnTo>
                    <a:pt x="473" y="262"/>
                  </a:lnTo>
                  <a:lnTo>
                    <a:pt x="466" y="259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5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5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5" y="248"/>
                  </a:lnTo>
                  <a:lnTo>
                    <a:pt x="384" y="249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60"/>
                  </a:lnTo>
                  <a:lnTo>
                    <a:pt x="337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8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3" y="319"/>
                  </a:lnTo>
                  <a:lnTo>
                    <a:pt x="302" y="329"/>
                  </a:lnTo>
                  <a:lnTo>
                    <a:pt x="303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9" y="417"/>
                  </a:lnTo>
                  <a:lnTo>
                    <a:pt x="376" y="431"/>
                  </a:lnTo>
                  <a:lnTo>
                    <a:pt x="384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3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2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5" y="525"/>
                  </a:lnTo>
                  <a:lnTo>
                    <a:pt x="486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3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3" y="771"/>
                  </a:lnTo>
                  <a:lnTo>
                    <a:pt x="541" y="789"/>
                  </a:lnTo>
                  <a:lnTo>
                    <a:pt x="538" y="807"/>
                  </a:lnTo>
                  <a:lnTo>
                    <a:pt x="535" y="823"/>
                  </a:lnTo>
                  <a:lnTo>
                    <a:pt x="530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2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7" y="927"/>
                  </a:lnTo>
                  <a:lnTo>
                    <a:pt x="477" y="940"/>
                  </a:lnTo>
                  <a:lnTo>
                    <a:pt x="466" y="953"/>
                  </a:lnTo>
                  <a:lnTo>
                    <a:pt x="454" y="964"/>
                  </a:lnTo>
                  <a:lnTo>
                    <a:pt x="443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1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4" y="1029"/>
                  </a:lnTo>
                  <a:lnTo>
                    <a:pt x="337" y="1036"/>
                  </a:lnTo>
                  <a:lnTo>
                    <a:pt x="320" y="1042"/>
                  </a:lnTo>
                  <a:lnTo>
                    <a:pt x="302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8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2" y="1063"/>
                  </a:lnTo>
                  <a:lnTo>
                    <a:pt x="112" y="1062"/>
                  </a:lnTo>
                  <a:lnTo>
                    <a:pt x="104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1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6" y="1053"/>
                  </a:lnTo>
                  <a:lnTo>
                    <a:pt x="27" y="1052"/>
                  </a:lnTo>
                  <a:lnTo>
                    <a:pt x="19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435480" y="1490760"/>
              <a:ext cx="204480" cy="326880"/>
            </a:xfrm>
            <a:custGeom>
              <a:avLst/>
              <a:gdLst/>
              <a:ahLst/>
              <a:rect l="l" t="t" r="r" b="b"/>
              <a:pathLst>
                <a:path w="644" h="1032">
                  <a:moveTo>
                    <a:pt x="644" y="748"/>
                  </a:moveTo>
                  <a:lnTo>
                    <a:pt x="573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59120" y="1574640"/>
              <a:ext cx="71640" cy="155880"/>
            </a:xfrm>
            <a:custGeom>
              <a:avLst/>
              <a:gdLst/>
              <a:ahLst/>
              <a:rect l="l" t="t" r="r" b="b"/>
              <a:pathLst>
                <a:path w="228" h="489">
                  <a:moveTo>
                    <a:pt x="0" y="489"/>
                  </a:moveTo>
                  <a:lnTo>
                    <a:pt x="26" y="486"/>
                  </a:lnTo>
                  <a:lnTo>
                    <a:pt x="49" y="481"/>
                  </a:lnTo>
                  <a:lnTo>
                    <a:pt x="72" y="473"/>
                  </a:lnTo>
                  <a:lnTo>
                    <a:pt x="93" y="465"/>
                  </a:lnTo>
                  <a:lnTo>
                    <a:pt x="103" y="460"/>
                  </a:lnTo>
                  <a:lnTo>
                    <a:pt x="113" y="454"/>
                  </a:lnTo>
                  <a:lnTo>
                    <a:pt x="122" y="448"/>
                  </a:lnTo>
                  <a:lnTo>
                    <a:pt x="132" y="442"/>
                  </a:lnTo>
                  <a:lnTo>
                    <a:pt x="141" y="435"/>
                  </a:lnTo>
                  <a:lnTo>
                    <a:pt x="149" y="428"/>
                  </a:lnTo>
                  <a:lnTo>
                    <a:pt x="158" y="421"/>
                  </a:lnTo>
                  <a:lnTo>
                    <a:pt x="165" y="412"/>
                  </a:lnTo>
                  <a:lnTo>
                    <a:pt x="172" y="404"/>
                  </a:lnTo>
                  <a:lnTo>
                    <a:pt x="180" y="396"/>
                  </a:lnTo>
                  <a:lnTo>
                    <a:pt x="186" y="386"/>
                  </a:lnTo>
                  <a:lnTo>
                    <a:pt x="192" y="377"/>
                  </a:lnTo>
                  <a:lnTo>
                    <a:pt x="198" y="367"/>
                  </a:lnTo>
                  <a:lnTo>
                    <a:pt x="203" y="358"/>
                  </a:lnTo>
                  <a:lnTo>
                    <a:pt x="208" y="348"/>
                  </a:lnTo>
                  <a:lnTo>
                    <a:pt x="212" y="338"/>
                  </a:lnTo>
                  <a:lnTo>
                    <a:pt x="219" y="317"/>
                  </a:lnTo>
                  <a:lnTo>
                    <a:pt x="224" y="295"/>
                  </a:lnTo>
                  <a:lnTo>
                    <a:pt x="227" y="271"/>
                  </a:lnTo>
                  <a:lnTo>
                    <a:pt x="228" y="246"/>
                  </a:lnTo>
                  <a:lnTo>
                    <a:pt x="227" y="220"/>
                  </a:lnTo>
                  <a:lnTo>
                    <a:pt x="224" y="196"/>
                  </a:lnTo>
                  <a:lnTo>
                    <a:pt x="222" y="183"/>
                  </a:lnTo>
                  <a:lnTo>
                    <a:pt x="219" y="172"/>
                  </a:lnTo>
                  <a:lnTo>
                    <a:pt x="215" y="160"/>
                  </a:lnTo>
                  <a:lnTo>
                    <a:pt x="211" y="149"/>
                  </a:lnTo>
                  <a:lnTo>
                    <a:pt x="207" y="138"/>
                  </a:lnTo>
                  <a:lnTo>
                    <a:pt x="203" y="128"/>
                  </a:lnTo>
                  <a:lnTo>
                    <a:pt x="198" y="117"/>
                  </a:lnTo>
                  <a:lnTo>
                    <a:pt x="192" y="108"/>
                  </a:lnTo>
                  <a:lnTo>
                    <a:pt x="186" y="98"/>
                  </a:lnTo>
                  <a:lnTo>
                    <a:pt x="180" y="89"/>
                  </a:lnTo>
                  <a:lnTo>
                    <a:pt x="172" y="80"/>
                  </a:lnTo>
                  <a:lnTo>
                    <a:pt x="164" y="71"/>
                  </a:lnTo>
                  <a:lnTo>
                    <a:pt x="157" y="63"/>
                  </a:lnTo>
                  <a:lnTo>
                    <a:pt x="148" y="54"/>
                  </a:lnTo>
                  <a:lnTo>
                    <a:pt x="140" y="48"/>
                  </a:lnTo>
                  <a:lnTo>
                    <a:pt x="131" y="41"/>
                  </a:lnTo>
                  <a:lnTo>
                    <a:pt x="121" y="34"/>
                  </a:lnTo>
                  <a:lnTo>
                    <a:pt x="112" y="29"/>
                  </a:lnTo>
                  <a:lnTo>
                    <a:pt x="102" y="24"/>
                  </a:lnTo>
                  <a:lnTo>
                    <a:pt x="92" y="19"/>
                  </a:lnTo>
                  <a:lnTo>
                    <a:pt x="81" y="14"/>
                  </a:lnTo>
                  <a:lnTo>
                    <a:pt x="71" y="11"/>
                  </a:lnTo>
                  <a:lnTo>
                    <a:pt x="59" y="8"/>
                  </a:lnTo>
                  <a:lnTo>
                    <a:pt x="49" y="5"/>
                  </a:lnTo>
                  <a:lnTo>
                    <a:pt x="25" y="2"/>
                  </a:lnTo>
                  <a:lnTo>
                    <a:pt x="0" y="0"/>
                  </a:lnTo>
                  <a:lnTo>
                    <a:pt x="0" y="48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673440" y="1490760"/>
              <a:ext cx="2462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156" y="0"/>
                  </a:moveTo>
                  <a:lnTo>
                    <a:pt x="192" y="0"/>
                  </a:lnTo>
                  <a:lnTo>
                    <a:pt x="225" y="1"/>
                  </a:lnTo>
                  <a:lnTo>
                    <a:pt x="258" y="3"/>
                  </a:lnTo>
                  <a:lnTo>
                    <a:pt x="288" y="5"/>
                  </a:lnTo>
                  <a:lnTo>
                    <a:pt x="317" y="7"/>
                  </a:lnTo>
                  <a:lnTo>
                    <a:pt x="343" y="11"/>
                  </a:lnTo>
                  <a:lnTo>
                    <a:pt x="368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29"/>
                  </a:lnTo>
                  <a:lnTo>
                    <a:pt x="454" y="37"/>
                  </a:lnTo>
                  <a:lnTo>
                    <a:pt x="474" y="44"/>
                  </a:lnTo>
                  <a:lnTo>
                    <a:pt x="493" y="51"/>
                  </a:lnTo>
                  <a:lnTo>
                    <a:pt x="512" y="61"/>
                  </a:lnTo>
                  <a:lnTo>
                    <a:pt x="530" y="70"/>
                  </a:lnTo>
                  <a:lnTo>
                    <a:pt x="548" y="81"/>
                  </a:lnTo>
                  <a:lnTo>
                    <a:pt x="575" y="99"/>
                  </a:lnTo>
                  <a:lnTo>
                    <a:pt x="600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4" y="209"/>
                  </a:lnTo>
                  <a:lnTo>
                    <a:pt x="701" y="234"/>
                  </a:lnTo>
                  <a:lnTo>
                    <a:pt x="715" y="261"/>
                  </a:lnTo>
                  <a:lnTo>
                    <a:pt x="729" y="291"/>
                  </a:lnTo>
                  <a:lnTo>
                    <a:pt x="741" y="320"/>
                  </a:lnTo>
                  <a:lnTo>
                    <a:pt x="751" y="352"/>
                  </a:lnTo>
                  <a:lnTo>
                    <a:pt x="758" y="383"/>
                  </a:lnTo>
                  <a:lnTo>
                    <a:pt x="765" y="417"/>
                  </a:lnTo>
                  <a:lnTo>
                    <a:pt x="770" y="450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5"/>
                  </a:lnTo>
                  <a:lnTo>
                    <a:pt x="769" y="588"/>
                  </a:lnTo>
                  <a:lnTo>
                    <a:pt x="765" y="620"/>
                  </a:lnTo>
                  <a:lnTo>
                    <a:pt x="757" y="650"/>
                  </a:lnTo>
                  <a:lnTo>
                    <a:pt x="748" y="680"/>
                  </a:lnTo>
                  <a:lnTo>
                    <a:pt x="737" y="710"/>
                  </a:lnTo>
                  <a:lnTo>
                    <a:pt x="725" y="738"/>
                  </a:lnTo>
                  <a:lnTo>
                    <a:pt x="710" y="767"/>
                  </a:lnTo>
                  <a:lnTo>
                    <a:pt x="693" y="794"/>
                  </a:lnTo>
                  <a:lnTo>
                    <a:pt x="674" y="819"/>
                  </a:lnTo>
                  <a:lnTo>
                    <a:pt x="655" y="844"/>
                  </a:lnTo>
                  <a:lnTo>
                    <a:pt x="634" y="867"/>
                  </a:lnTo>
                  <a:lnTo>
                    <a:pt x="610" y="889"/>
                  </a:lnTo>
                  <a:lnTo>
                    <a:pt x="585" y="910"/>
                  </a:lnTo>
                  <a:lnTo>
                    <a:pt x="559" y="929"/>
                  </a:lnTo>
                  <a:lnTo>
                    <a:pt x="531" y="948"/>
                  </a:lnTo>
                  <a:lnTo>
                    <a:pt x="513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4" y="993"/>
                  </a:lnTo>
                  <a:lnTo>
                    <a:pt x="413" y="1001"/>
                  </a:lnTo>
                  <a:lnTo>
                    <a:pt x="391" y="1006"/>
                  </a:lnTo>
                  <a:lnTo>
                    <a:pt x="369" y="1012"/>
                  </a:lnTo>
                  <a:lnTo>
                    <a:pt x="346" y="1016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15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091040" y="1490760"/>
              <a:ext cx="206280" cy="326880"/>
            </a:xfrm>
            <a:custGeom>
              <a:avLst/>
              <a:gdLst/>
              <a:ahLst/>
              <a:rect l="l" t="t" r="r" b="b"/>
              <a:pathLst>
                <a:path w="650" h="1032">
                  <a:moveTo>
                    <a:pt x="650" y="748"/>
                  </a:moveTo>
                  <a:lnTo>
                    <a:pt x="56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267" y="0"/>
                  </a:lnTo>
                  <a:lnTo>
                    <a:pt x="267" y="748"/>
                  </a:lnTo>
                  <a:lnTo>
                    <a:pt x="650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316400" y="1490760"/>
              <a:ext cx="219240" cy="336600"/>
            </a:xfrm>
            <a:custGeom>
              <a:avLst/>
              <a:gdLst/>
              <a:ahLst/>
              <a:rect l="l" t="t" r="r" b="b"/>
              <a:pathLst>
                <a:path w="694" h="1059">
                  <a:moveTo>
                    <a:pt x="426" y="625"/>
                  </a:moveTo>
                  <a:lnTo>
                    <a:pt x="426" y="0"/>
                  </a:lnTo>
                  <a:lnTo>
                    <a:pt x="694" y="0"/>
                  </a:lnTo>
                  <a:lnTo>
                    <a:pt x="694" y="625"/>
                  </a:lnTo>
                  <a:lnTo>
                    <a:pt x="693" y="659"/>
                  </a:lnTo>
                  <a:lnTo>
                    <a:pt x="692" y="693"/>
                  </a:lnTo>
                  <a:lnTo>
                    <a:pt x="691" y="723"/>
                  </a:lnTo>
                  <a:lnTo>
                    <a:pt x="688" y="752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3" y="842"/>
                  </a:lnTo>
                  <a:lnTo>
                    <a:pt x="667" y="860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8"/>
                  </a:lnTo>
                  <a:lnTo>
                    <a:pt x="636" y="924"/>
                  </a:lnTo>
                  <a:lnTo>
                    <a:pt x="627" y="939"/>
                  </a:lnTo>
                  <a:lnTo>
                    <a:pt x="615" y="952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5"/>
                  </a:lnTo>
                  <a:lnTo>
                    <a:pt x="555" y="1005"/>
                  </a:lnTo>
                  <a:lnTo>
                    <a:pt x="541" y="1013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4"/>
                  </a:lnTo>
                  <a:lnTo>
                    <a:pt x="477" y="1041"/>
                  </a:lnTo>
                  <a:lnTo>
                    <a:pt x="460" y="1045"/>
                  </a:lnTo>
                  <a:lnTo>
                    <a:pt x="442" y="1050"/>
                  </a:lnTo>
                  <a:lnTo>
                    <a:pt x="423" y="1053"/>
                  </a:lnTo>
                  <a:lnTo>
                    <a:pt x="405" y="1055"/>
                  </a:lnTo>
                  <a:lnTo>
                    <a:pt x="385" y="1057"/>
                  </a:lnTo>
                  <a:lnTo>
                    <a:pt x="366" y="1058"/>
                  </a:lnTo>
                  <a:lnTo>
                    <a:pt x="347" y="1059"/>
                  </a:lnTo>
                  <a:lnTo>
                    <a:pt x="327" y="1058"/>
                  </a:lnTo>
                  <a:lnTo>
                    <a:pt x="308" y="1057"/>
                  </a:lnTo>
                  <a:lnTo>
                    <a:pt x="289" y="1055"/>
                  </a:lnTo>
                  <a:lnTo>
                    <a:pt x="270" y="1053"/>
                  </a:lnTo>
                  <a:lnTo>
                    <a:pt x="252" y="1050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200" y="1034"/>
                  </a:lnTo>
                  <a:lnTo>
                    <a:pt x="183" y="1028"/>
                  </a:lnTo>
                  <a:lnTo>
                    <a:pt x="167" y="1021"/>
                  </a:lnTo>
                  <a:lnTo>
                    <a:pt x="152" y="1013"/>
                  </a:lnTo>
                  <a:lnTo>
                    <a:pt x="139" y="1005"/>
                  </a:lnTo>
                  <a:lnTo>
                    <a:pt x="125" y="995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1" y="965"/>
                  </a:lnTo>
                  <a:lnTo>
                    <a:pt x="79" y="952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9" y="908"/>
                  </a:lnTo>
                  <a:lnTo>
                    <a:pt x="40" y="893"/>
                  </a:lnTo>
                  <a:lnTo>
                    <a:pt x="33" y="876"/>
                  </a:lnTo>
                  <a:lnTo>
                    <a:pt x="27" y="858"/>
                  </a:lnTo>
                  <a:lnTo>
                    <a:pt x="20" y="840"/>
                  </a:lnTo>
                  <a:lnTo>
                    <a:pt x="16" y="821"/>
                  </a:lnTo>
                  <a:lnTo>
                    <a:pt x="12" y="799"/>
                  </a:lnTo>
                  <a:lnTo>
                    <a:pt x="8" y="775"/>
                  </a:lnTo>
                  <a:lnTo>
                    <a:pt x="5" y="750"/>
                  </a:lnTo>
                  <a:lnTo>
                    <a:pt x="2" y="721"/>
                  </a:lnTo>
                  <a:lnTo>
                    <a:pt x="1" y="691"/>
                  </a:lnTo>
                  <a:lnTo>
                    <a:pt x="0" y="659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8" y="646"/>
                  </a:lnTo>
                  <a:lnTo>
                    <a:pt x="269" y="665"/>
                  </a:lnTo>
                  <a:lnTo>
                    <a:pt x="270" y="683"/>
                  </a:lnTo>
                  <a:lnTo>
                    <a:pt x="272" y="698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6" y="747"/>
                  </a:lnTo>
                  <a:lnTo>
                    <a:pt x="291" y="754"/>
                  </a:lnTo>
                  <a:lnTo>
                    <a:pt x="296" y="761"/>
                  </a:lnTo>
                  <a:lnTo>
                    <a:pt x="302" y="768"/>
                  </a:lnTo>
                  <a:lnTo>
                    <a:pt x="310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8" y="781"/>
                  </a:lnTo>
                  <a:lnTo>
                    <a:pt x="357" y="780"/>
                  </a:lnTo>
                  <a:lnTo>
                    <a:pt x="366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1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3" y="736"/>
                  </a:lnTo>
                  <a:lnTo>
                    <a:pt x="417" y="725"/>
                  </a:lnTo>
                  <a:lnTo>
                    <a:pt x="419" y="712"/>
                  </a:lnTo>
                  <a:lnTo>
                    <a:pt x="422" y="698"/>
                  </a:lnTo>
                  <a:lnTo>
                    <a:pt x="424" y="681"/>
                  </a:lnTo>
                  <a:lnTo>
                    <a:pt x="425" y="665"/>
                  </a:lnTo>
                  <a:lnTo>
                    <a:pt x="426" y="646"/>
                  </a:lnTo>
                  <a:lnTo>
                    <a:pt x="426" y="6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675320" y="1563840"/>
              <a:ext cx="52200" cy="54000"/>
            </a:xfrm>
            <a:custGeom>
              <a:avLst/>
              <a:gdLst/>
              <a:ahLst/>
              <a:rect l="l" t="t" r="r" b="b"/>
              <a:pathLst>
                <a:path w="167" h="173">
                  <a:moveTo>
                    <a:pt x="0" y="173"/>
                  </a:moveTo>
                  <a:lnTo>
                    <a:pt x="47" y="173"/>
                  </a:lnTo>
                  <a:lnTo>
                    <a:pt x="62" y="173"/>
                  </a:lnTo>
                  <a:lnTo>
                    <a:pt x="76" y="172"/>
                  </a:lnTo>
                  <a:lnTo>
                    <a:pt x="88" y="170"/>
                  </a:lnTo>
                  <a:lnTo>
                    <a:pt x="100" y="168"/>
                  </a:lnTo>
                  <a:lnTo>
                    <a:pt x="111" y="166"/>
                  </a:lnTo>
                  <a:lnTo>
                    <a:pt x="121" y="162"/>
                  </a:lnTo>
                  <a:lnTo>
                    <a:pt x="130" y="157"/>
                  </a:lnTo>
                  <a:lnTo>
                    <a:pt x="138" y="153"/>
                  </a:lnTo>
                  <a:lnTo>
                    <a:pt x="145" y="148"/>
                  </a:lnTo>
                  <a:lnTo>
                    <a:pt x="150" y="142"/>
                  </a:lnTo>
                  <a:lnTo>
                    <a:pt x="155" y="134"/>
                  </a:lnTo>
                  <a:lnTo>
                    <a:pt x="160" y="127"/>
                  </a:lnTo>
                  <a:lnTo>
                    <a:pt x="163" y="120"/>
                  </a:lnTo>
                  <a:lnTo>
                    <a:pt x="165" y="110"/>
                  </a:lnTo>
                  <a:lnTo>
                    <a:pt x="167" y="101"/>
                  </a:lnTo>
                  <a:lnTo>
                    <a:pt x="167" y="91"/>
                  </a:lnTo>
                  <a:lnTo>
                    <a:pt x="167" y="80"/>
                  </a:lnTo>
                  <a:lnTo>
                    <a:pt x="166" y="68"/>
                  </a:lnTo>
                  <a:lnTo>
                    <a:pt x="164" y="59"/>
                  </a:lnTo>
                  <a:lnTo>
                    <a:pt x="161" y="49"/>
                  </a:lnTo>
                  <a:lnTo>
                    <a:pt x="156" y="41"/>
                  </a:lnTo>
                  <a:lnTo>
                    <a:pt x="152" y="34"/>
                  </a:lnTo>
                  <a:lnTo>
                    <a:pt x="146" y="27"/>
                  </a:lnTo>
                  <a:lnTo>
                    <a:pt x="140" y="21"/>
                  </a:lnTo>
                  <a:lnTo>
                    <a:pt x="132" y="17"/>
                  </a:lnTo>
                  <a:lnTo>
                    <a:pt x="124" y="13"/>
                  </a:lnTo>
                  <a:lnTo>
                    <a:pt x="113" y="8"/>
                  </a:lnTo>
                  <a:lnTo>
                    <a:pt x="103" y="5"/>
                  </a:lnTo>
                  <a:lnTo>
                    <a:pt x="90" y="3"/>
                  </a:lnTo>
                  <a:lnTo>
                    <a:pt x="78" y="2"/>
                  </a:lnTo>
                  <a:lnTo>
                    <a:pt x="63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7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675320" y="1684440"/>
              <a:ext cx="54000" cy="58680"/>
            </a:xfrm>
            <a:custGeom>
              <a:avLst/>
              <a:gdLst/>
              <a:ahLst/>
              <a:rect l="l" t="t" r="r" b="b"/>
              <a:pathLst>
                <a:path w="170" h="187">
                  <a:moveTo>
                    <a:pt x="0" y="187"/>
                  </a:moveTo>
                  <a:lnTo>
                    <a:pt x="56" y="187"/>
                  </a:lnTo>
                  <a:lnTo>
                    <a:pt x="69" y="187"/>
                  </a:lnTo>
                  <a:lnTo>
                    <a:pt x="82" y="186"/>
                  </a:lnTo>
                  <a:lnTo>
                    <a:pt x="95" y="184"/>
                  </a:lnTo>
                  <a:lnTo>
                    <a:pt x="106" y="182"/>
                  </a:lnTo>
                  <a:lnTo>
                    <a:pt x="116" y="178"/>
                  </a:lnTo>
                  <a:lnTo>
                    <a:pt x="125" y="175"/>
                  </a:lnTo>
                  <a:lnTo>
                    <a:pt x="134" y="170"/>
                  </a:lnTo>
                  <a:lnTo>
                    <a:pt x="142" y="165"/>
                  </a:lnTo>
                  <a:lnTo>
                    <a:pt x="148" y="160"/>
                  </a:lnTo>
                  <a:lnTo>
                    <a:pt x="154" y="153"/>
                  </a:lnTo>
                  <a:lnTo>
                    <a:pt x="159" y="146"/>
                  </a:lnTo>
                  <a:lnTo>
                    <a:pt x="163" y="138"/>
                  </a:lnTo>
                  <a:lnTo>
                    <a:pt x="166" y="129"/>
                  </a:lnTo>
                  <a:lnTo>
                    <a:pt x="168" y="120"/>
                  </a:lnTo>
                  <a:lnTo>
                    <a:pt x="170" y="109"/>
                  </a:lnTo>
                  <a:lnTo>
                    <a:pt x="170" y="99"/>
                  </a:lnTo>
                  <a:lnTo>
                    <a:pt x="170" y="87"/>
                  </a:lnTo>
                  <a:lnTo>
                    <a:pt x="168" y="76"/>
                  </a:lnTo>
                  <a:lnTo>
                    <a:pt x="166" y="65"/>
                  </a:lnTo>
                  <a:lnTo>
                    <a:pt x="163" y="55"/>
                  </a:lnTo>
                  <a:lnTo>
                    <a:pt x="159" y="46"/>
                  </a:lnTo>
                  <a:lnTo>
                    <a:pt x="153" y="38"/>
                  </a:lnTo>
                  <a:lnTo>
                    <a:pt x="147" y="30"/>
                  </a:lnTo>
                  <a:lnTo>
                    <a:pt x="141" y="24"/>
                  </a:lnTo>
                  <a:lnTo>
                    <a:pt x="132" y="18"/>
                  </a:lnTo>
                  <a:lnTo>
                    <a:pt x="124" y="14"/>
                  </a:lnTo>
                  <a:lnTo>
                    <a:pt x="113" y="9"/>
                  </a:lnTo>
                  <a:lnTo>
                    <a:pt x="103" y="5"/>
                  </a:lnTo>
                  <a:lnTo>
                    <a:pt x="90" y="3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591080" y="1490760"/>
              <a:ext cx="22212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4" y="7"/>
                  </a:lnTo>
                  <a:lnTo>
                    <a:pt x="462" y="11"/>
                  </a:lnTo>
                  <a:lnTo>
                    <a:pt x="480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29" y="28"/>
                  </a:lnTo>
                  <a:lnTo>
                    <a:pt x="544" y="35"/>
                  </a:lnTo>
                  <a:lnTo>
                    <a:pt x="559" y="41"/>
                  </a:lnTo>
                  <a:lnTo>
                    <a:pt x="572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09" y="72"/>
                  </a:lnTo>
                  <a:lnTo>
                    <a:pt x="620" y="82"/>
                  </a:lnTo>
                  <a:lnTo>
                    <a:pt x="630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7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7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4" y="218"/>
                  </a:lnTo>
                  <a:lnTo>
                    <a:pt x="696" y="234"/>
                  </a:lnTo>
                  <a:lnTo>
                    <a:pt x="698" y="250"/>
                  </a:lnTo>
                  <a:lnTo>
                    <a:pt x="699" y="267"/>
                  </a:lnTo>
                  <a:lnTo>
                    <a:pt x="699" y="284"/>
                  </a:lnTo>
                  <a:lnTo>
                    <a:pt x="699" y="305"/>
                  </a:lnTo>
                  <a:lnTo>
                    <a:pt x="697" y="323"/>
                  </a:lnTo>
                  <a:lnTo>
                    <a:pt x="695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4" y="406"/>
                  </a:lnTo>
                  <a:lnTo>
                    <a:pt x="667" y="421"/>
                  </a:lnTo>
                  <a:lnTo>
                    <a:pt x="657" y="435"/>
                  </a:lnTo>
                  <a:lnTo>
                    <a:pt x="647" y="447"/>
                  </a:lnTo>
                  <a:lnTo>
                    <a:pt x="636" y="460"/>
                  </a:lnTo>
                  <a:lnTo>
                    <a:pt x="624" y="471"/>
                  </a:lnTo>
                  <a:lnTo>
                    <a:pt x="610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4" y="527"/>
                  </a:lnTo>
                  <a:lnTo>
                    <a:pt x="609" y="536"/>
                  </a:lnTo>
                  <a:lnTo>
                    <a:pt x="623" y="545"/>
                  </a:lnTo>
                  <a:lnTo>
                    <a:pt x="635" y="557"/>
                  </a:lnTo>
                  <a:lnTo>
                    <a:pt x="647" y="568"/>
                  </a:lnTo>
                  <a:lnTo>
                    <a:pt x="657" y="581"/>
                  </a:lnTo>
                  <a:lnTo>
                    <a:pt x="667" y="595"/>
                  </a:lnTo>
                  <a:lnTo>
                    <a:pt x="675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4" y="662"/>
                  </a:lnTo>
                  <a:lnTo>
                    <a:pt x="697" y="680"/>
                  </a:lnTo>
                  <a:lnTo>
                    <a:pt x="700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1" y="778"/>
                  </a:lnTo>
                  <a:lnTo>
                    <a:pt x="699" y="794"/>
                  </a:lnTo>
                  <a:lnTo>
                    <a:pt x="697" y="811"/>
                  </a:lnTo>
                  <a:lnTo>
                    <a:pt x="694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0" y="868"/>
                  </a:lnTo>
                  <a:lnTo>
                    <a:pt x="674" y="882"/>
                  </a:lnTo>
                  <a:lnTo>
                    <a:pt x="667" y="895"/>
                  </a:lnTo>
                  <a:lnTo>
                    <a:pt x="659" y="907"/>
                  </a:lnTo>
                  <a:lnTo>
                    <a:pt x="652" y="919"/>
                  </a:lnTo>
                  <a:lnTo>
                    <a:pt x="643" y="929"/>
                  </a:lnTo>
                  <a:lnTo>
                    <a:pt x="633" y="940"/>
                  </a:lnTo>
                  <a:lnTo>
                    <a:pt x="623" y="950"/>
                  </a:lnTo>
                  <a:lnTo>
                    <a:pt x="612" y="959"/>
                  </a:lnTo>
                  <a:lnTo>
                    <a:pt x="600" y="968"/>
                  </a:lnTo>
                  <a:lnTo>
                    <a:pt x="588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6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1" y="1017"/>
                  </a:lnTo>
                  <a:lnTo>
                    <a:pt x="463" y="1022"/>
                  </a:lnTo>
                  <a:lnTo>
                    <a:pt x="444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948200" y="1562040"/>
              <a:ext cx="55440" cy="82440"/>
            </a:xfrm>
            <a:custGeom>
              <a:avLst/>
              <a:gdLst/>
              <a:ahLst/>
              <a:rect l="l" t="t" r="r" b="b"/>
              <a:pathLst>
                <a:path w="174" h="259">
                  <a:moveTo>
                    <a:pt x="0" y="259"/>
                  </a:moveTo>
                  <a:lnTo>
                    <a:pt x="27" y="259"/>
                  </a:lnTo>
                  <a:lnTo>
                    <a:pt x="44" y="258"/>
                  </a:lnTo>
                  <a:lnTo>
                    <a:pt x="60" y="257"/>
                  </a:lnTo>
                  <a:lnTo>
                    <a:pt x="76" y="254"/>
                  </a:lnTo>
                  <a:lnTo>
                    <a:pt x="91" y="251"/>
                  </a:lnTo>
                  <a:lnTo>
                    <a:pt x="103" y="247"/>
                  </a:lnTo>
                  <a:lnTo>
                    <a:pt x="116" y="240"/>
                  </a:lnTo>
                  <a:lnTo>
                    <a:pt x="126" y="234"/>
                  </a:lnTo>
                  <a:lnTo>
                    <a:pt x="137" y="227"/>
                  </a:lnTo>
                  <a:lnTo>
                    <a:pt x="145" y="217"/>
                  </a:lnTo>
                  <a:lnTo>
                    <a:pt x="152" y="208"/>
                  </a:lnTo>
                  <a:lnTo>
                    <a:pt x="160" y="197"/>
                  </a:lnTo>
                  <a:lnTo>
                    <a:pt x="165" y="186"/>
                  </a:lnTo>
                  <a:lnTo>
                    <a:pt x="169" y="174"/>
                  </a:lnTo>
                  <a:lnTo>
                    <a:pt x="171" y="160"/>
                  </a:lnTo>
                  <a:lnTo>
                    <a:pt x="173" y="146"/>
                  </a:lnTo>
                  <a:lnTo>
                    <a:pt x="174" y="131"/>
                  </a:lnTo>
                  <a:lnTo>
                    <a:pt x="173" y="115"/>
                  </a:lnTo>
                  <a:lnTo>
                    <a:pt x="171" y="101"/>
                  </a:lnTo>
                  <a:lnTo>
                    <a:pt x="169" y="87"/>
                  </a:lnTo>
                  <a:lnTo>
                    <a:pt x="165" y="74"/>
                  </a:lnTo>
                  <a:lnTo>
                    <a:pt x="160" y="63"/>
                  </a:lnTo>
                  <a:lnTo>
                    <a:pt x="153" y="52"/>
                  </a:lnTo>
                  <a:lnTo>
                    <a:pt x="146" y="43"/>
                  </a:lnTo>
                  <a:lnTo>
                    <a:pt x="138" y="33"/>
                  </a:lnTo>
                  <a:lnTo>
                    <a:pt x="128" y="26"/>
                  </a:lnTo>
                  <a:lnTo>
                    <a:pt x="118" y="19"/>
                  </a:lnTo>
                  <a:lnTo>
                    <a:pt x="106" y="13"/>
                  </a:lnTo>
                  <a:lnTo>
                    <a:pt x="94" y="8"/>
                  </a:lnTo>
                  <a:lnTo>
                    <a:pt x="80" y="5"/>
                  </a:lnTo>
                  <a:lnTo>
                    <a:pt x="65" y="2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86396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0" y="1032"/>
                  </a:moveTo>
                  <a:lnTo>
                    <a:pt x="0" y="0"/>
                  </a:lnTo>
                  <a:lnTo>
                    <a:pt x="291" y="0"/>
                  </a:lnTo>
                  <a:lnTo>
                    <a:pt x="317" y="1"/>
                  </a:lnTo>
                  <a:lnTo>
                    <a:pt x="341" y="1"/>
                  </a:lnTo>
                  <a:lnTo>
                    <a:pt x="364" y="3"/>
                  </a:lnTo>
                  <a:lnTo>
                    <a:pt x="387" y="5"/>
                  </a:lnTo>
                  <a:lnTo>
                    <a:pt x="409" y="8"/>
                  </a:lnTo>
                  <a:lnTo>
                    <a:pt x="431" y="12"/>
                  </a:lnTo>
                  <a:lnTo>
                    <a:pt x="451" y="16"/>
                  </a:lnTo>
                  <a:lnTo>
                    <a:pt x="471" y="21"/>
                  </a:lnTo>
                  <a:lnTo>
                    <a:pt x="490" y="26"/>
                  </a:lnTo>
                  <a:lnTo>
                    <a:pt x="509" y="33"/>
                  </a:lnTo>
                  <a:lnTo>
                    <a:pt x="525" y="40"/>
                  </a:lnTo>
                  <a:lnTo>
                    <a:pt x="542" y="47"/>
                  </a:lnTo>
                  <a:lnTo>
                    <a:pt x="559" y="56"/>
                  </a:lnTo>
                  <a:lnTo>
                    <a:pt x="574" y="64"/>
                  </a:lnTo>
                  <a:lnTo>
                    <a:pt x="588" y="74"/>
                  </a:lnTo>
                  <a:lnTo>
                    <a:pt x="602" y="84"/>
                  </a:lnTo>
                  <a:lnTo>
                    <a:pt x="616" y="95"/>
                  </a:lnTo>
                  <a:lnTo>
                    <a:pt x="627" y="106"/>
                  </a:lnTo>
                  <a:lnTo>
                    <a:pt x="639" y="118"/>
                  </a:lnTo>
                  <a:lnTo>
                    <a:pt x="649" y="130"/>
                  </a:lnTo>
                  <a:lnTo>
                    <a:pt x="659" y="144"/>
                  </a:lnTo>
                  <a:lnTo>
                    <a:pt x="668" y="158"/>
                  </a:lnTo>
                  <a:lnTo>
                    <a:pt x="675" y="171"/>
                  </a:lnTo>
                  <a:lnTo>
                    <a:pt x="683" y="186"/>
                  </a:lnTo>
                  <a:lnTo>
                    <a:pt x="689" y="202"/>
                  </a:lnTo>
                  <a:lnTo>
                    <a:pt x="694" y="217"/>
                  </a:lnTo>
                  <a:lnTo>
                    <a:pt x="700" y="234"/>
                  </a:lnTo>
                  <a:lnTo>
                    <a:pt x="703" y="252"/>
                  </a:lnTo>
                  <a:lnTo>
                    <a:pt x="706" y="269"/>
                  </a:lnTo>
                  <a:lnTo>
                    <a:pt x="708" y="288"/>
                  </a:lnTo>
                  <a:lnTo>
                    <a:pt x="709" y="307"/>
                  </a:lnTo>
                  <a:lnTo>
                    <a:pt x="710" y="327"/>
                  </a:lnTo>
                  <a:lnTo>
                    <a:pt x="709" y="349"/>
                  </a:lnTo>
                  <a:lnTo>
                    <a:pt x="707" y="371"/>
                  </a:lnTo>
                  <a:lnTo>
                    <a:pt x="704" y="392"/>
                  </a:lnTo>
                  <a:lnTo>
                    <a:pt x="698" y="412"/>
                  </a:lnTo>
                  <a:lnTo>
                    <a:pt x="692" y="432"/>
                  </a:lnTo>
                  <a:lnTo>
                    <a:pt x="685" y="450"/>
                  </a:lnTo>
                  <a:lnTo>
                    <a:pt x="676" y="468"/>
                  </a:lnTo>
                  <a:lnTo>
                    <a:pt x="666" y="485"/>
                  </a:lnTo>
                  <a:lnTo>
                    <a:pt x="654" y="502"/>
                  </a:lnTo>
                  <a:lnTo>
                    <a:pt x="642" y="517"/>
                  </a:lnTo>
                  <a:lnTo>
                    <a:pt x="628" y="530"/>
                  </a:lnTo>
                  <a:lnTo>
                    <a:pt x="615" y="542"/>
                  </a:lnTo>
                  <a:lnTo>
                    <a:pt x="599" y="553"/>
                  </a:lnTo>
                  <a:lnTo>
                    <a:pt x="582" y="563"/>
                  </a:lnTo>
                  <a:lnTo>
                    <a:pt x="564" y="571"/>
                  </a:lnTo>
                  <a:lnTo>
                    <a:pt x="546" y="579"/>
                  </a:lnTo>
                  <a:lnTo>
                    <a:pt x="773" y="1032"/>
                  </a:lnTo>
                  <a:lnTo>
                    <a:pt x="480" y="1032"/>
                  </a:lnTo>
                  <a:lnTo>
                    <a:pt x="266" y="590"/>
                  </a:lnTo>
                  <a:lnTo>
                    <a:pt x="266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138640" y="1490760"/>
              <a:ext cx="85680" cy="326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267160" y="1484280"/>
              <a:ext cx="223920" cy="339840"/>
            </a:xfrm>
            <a:custGeom>
              <a:avLst/>
              <a:gdLst/>
              <a:ahLst/>
              <a:rect l="l" t="t" r="r" b="b"/>
              <a:pathLst>
                <a:path w="703" h="1067">
                  <a:moveTo>
                    <a:pt x="682" y="1050"/>
                  </a:moveTo>
                  <a:lnTo>
                    <a:pt x="675" y="1052"/>
                  </a:lnTo>
                  <a:lnTo>
                    <a:pt x="666" y="1054"/>
                  </a:lnTo>
                  <a:lnTo>
                    <a:pt x="659" y="1055"/>
                  </a:lnTo>
                  <a:lnTo>
                    <a:pt x="651" y="1058"/>
                  </a:lnTo>
                  <a:lnTo>
                    <a:pt x="643" y="1060"/>
                  </a:lnTo>
                  <a:lnTo>
                    <a:pt x="635" y="1061"/>
                  </a:lnTo>
                  <a:lnTo>
                    <a:pt x="627" y="1062"/>
                  </a:lnTo>
                  <a:lnTo>
                    <a:pt x="618" y="1063"/>
                  </a:lnTo>
                  <a:lnTo>
                    <a:pt x="610" y="1064"/>
                  </a:lnTo>
                  <a:lnTo>
                    <a:pt x="601" y="1065"/>
                  </a:lnTo>
                  <a:lnTo>
                    <a:pt x="592" y="1066"/>
                  </a:lnTo>
                  <a:lnTo>
                    <a:pt x="584" y="1066"/>
                  </a:lnTo>
                  <a:lnTo>
                    <a:pt x="574" y="1067"/>
                  </a:lnTo>
                  <a:lnTo>
                    <a:pt x="565" y="1067"/>
                  </a:lnTo>
                  <a:lnTo>
                    <a:pt x="555" y="1067"/>
                  </a:lnTo>
                  <a:lnTo>
                    <a:pt x="545" y="1067"/>
                  </a:lnTo>
                  <a:lnTo>
                    <a:pt x="515" y="1067"/>
                  </a:lnTo>
                  <a:lnTo>
                    <a:pt x="486" y="1065"/>
                  </a:lnTo>
                  <a:lnTo>
                    <a:pt x="457" y="1062"/>
                  </a:lnTo>
                  <a:lnTo>
                    <a:pt x="429" y="1059"/>
                  </a:lnTo>
                  <a:lnTo>
                    <a:pt x="402" y="1053"/>
                  </a:lnTo>
                  <a:lnTo>
                    <a:pt x="375" y="1047"/>
                  </a:lnTo>
                  <a:lnTo>
                    <a:pt x="350" y="1040"/>
                  </a:lnTo>
                  <a:lnTo>
                    <a:pt x="324" y="1031"/>
                  </a:lnTo>
                  <a:lnTo>
                    <a:pt x="300" y="1021"/>
                  </a:lnTo>
                  <a:lnTo>
                    <a:pt x="277" y="1010"/>
                  </a:lnTo>
                  <a:lnTo>
                    <a:pt x="254" y="999"/>
                  </a:lnTo>
                  <a:lnTo>
                    <a:pt x="232" y="985"/>
                  </a:lnTo>
                  <a:lnTo>
                    <a:pt x="210" y="971"/>
                  </a:lnTo>
                  <a:lnTo>
                    <a:pt x="190" y="956"/>
                  </a:lnTo>
                  <a:lnTo>
                    <a:pt x="170" y="939"/>
                  </a:lnTo>
                  <a:lnTo>
                    <a:pt x="150" y="921"/>
                  </a:lnTo>
                  <a:lnTo>
                    <a:pt x="133" y="903"/>
                  </a:lnTo>
                  <a:lnTo>
                    <a:pt x="116" y="883"/>
                  </a:lnTo>
                  <a:lnTo>
                    <a:pt x="100" y="863"/>
                  </a:lnTo>
                  <a:lnTo>
                    <a:pt x="85" y="843"/>
                  </a:lnTo>
                  <a:lnTo>
                    <a:pt x="72" y="821"/>
                  </a:lnTo>
                  <a:lnTo>
                    <a:pt x="59" y="799"/>
                  </a:lnTo>
                  <a:lnTo>
                    <a:pt x="48" y="777"/>
                  </a:lnTo>
                  <a:lnTo>
                    <a:pt x="38" y="754"/>
                  </a:lnTo>
                  <a:lnTo>
                    <a:pt x="29" y="730"/>
                  </a:lnTo>
                  <a:lnTo>
                    <a:pt x="21" y="705"/>
                  </a:lnTo>
                  <a:lnTo>
                    <a:pt x="15" y="680"/>
                  </a:lnTo>
                  <a:lnTo>
                    <a:pt x="10" y="653"/>
                  </a:lnTo>
                  <a:lnTo>
                    <a:pt x="6" y="626"/>
                  </a:lnTo>
                  <a:lnTo>
                    <a:pt x="2" y="599"/>
                  </a:lnTo>
                  <a:lnTo>
                    <a:pt x="0" y="570"/>
                  </a:lnTo>
                  <a:lnTo>
                    <a:pt x="0" y="542"/>
                  </a:lnTo>
                  <a:lnTo>
                    <a:pt x="0" y="513"/>
                  </a:lnTo>
                  <a:lnTo>
                    <a:pt x="2" y="484"/>
                  </a:lnTo>
                  <a:lnTo>
                    <a:pt x="6" y="457"/>
                  </a:lnTo>
                  <a:lnTo>
                    <a:pt x="10" y="430"/>
                  </a:lnTo>
                  <a:lnTo>
                    <a:pt x="15" y="403"/>
                  </a:lnTo>
                  <a:lnTo>
                    <a:pt x="22" y="377"/>
                  </a:lnTo>
                  <a:lnTo>
                    <a:pt x="30" y="352"/>
                  </a:lnTo>
                  <a:lnTo>
                    <a:pt x="39" y="328"/>
                  </a:lnTo>
                  <a:lnTo>
                    <a:pt x="50" y="304"/>
                  </a:lnTo>
                  <a:lnTo>
                    <a:pt x="61" y="281"/>
                  </a:lnTo>
                  <a:lnTo>
                    <a:pt x="74" y="257"/>
                  </a:lnTo>
                  <a:lnTo>
                    <a:pt x="88" y="235"/>
                  </a:lnTo>
                  <a:lnTo>
                    <a:pt x="103" y="214"/>
                  </a:lnTo>
                  <a:lnTo>
                    <a:pt x="120" y="193"/>
                  </a:lnTo>
                  <a:lnTo>
                    <a:pt x="138" y="173"/>
                  </a:lnTo>
                  <a:lnTo>
                    <a:pt x="157" y="153"/>
                  </a:lnTo>
                  <a:lnTo>
                    <a:pt x="177" y="136"/>
                  </a:lnTo>
                  <a:lnTo>
                    <a:pt x="197" y="118"/>
                  </a:lnTo>
                  <a:lnTo>
                    <a:pt x="217" y="102"/>
                  </a:lnTo>
                  <a:lnTo>
                    <a:pt x="240" y="87"/>
                  </a:lnTo>
                  <a:lnTo>
                    <a:pt x="263" y="73"/>
                  </a:lnTo>
                  <a:lnTo>
                    <a:pt x="286" y="61"/>
                  </a:lnTo>
                  <a:lnTo>
                    <a:pt x="310" y="50"/>
                  </a:lnTo>
                  <a:lnTo>
                    <a:pt x="334" y="39"/>
                  </a:lnTo>
                  <a:lnTo>
                    <a:pt x="359" y="30"/>
                  </a:lnTo>
                  <a:lnTo>
                    <a:pt x="385" y="22"/>
                  </a:lnTo>
                  <a:lnTo>
                    <a:pt x="412" y="16"/>
                  </a:lnTo>
                  <a:lnTo>
                    <a:pt x="439" y="11"/>
                  </a:lnTo>
                  <a:lnTo>
                    <a:pt x="466" y="6"/>
                  </a:lnTo>
                  <a:lnTo>
                    <a:pt x="495" y="3"/>
                  </a:lnTo>
                  <a:lnTo>
                    <a:pt x="524" y="1"/>
                  </a:lnTo>
                  <a:lnTo>
                    <a:pt x="554" y="0"/>
                  </a:lnTo>
                  <a:lnTo>
                    <a:pt x="562" y="1"/>
                  </a:lnTo>
                  <a:lnTo>
                    <a:pt x="569" y="1"/>
                  </a:lnTo>
                  <a:lnTo>
                    <a:pt x="575" y="1"/>
                  </a:lnTo>
                  <a:lnTo>
                    <a:pt x="583" y="1"/>
                  </a:lnTo>
                  <a:lnTo>
                    <a:pt x="591" y="2"/>
                  </a:lnTo>
                  <a:lnTo>
                    <a:pt x="598" y="2"/>
                  </a:lnTo>
                  <a:lnTo>
                    <a:pt x="606" y="3"/>
                  </a:lnTo>
                  <a:lnTo>
                    <a:pt x="613" y="4"/>
                  </a:lnTo>
                  <a:lnTo>
                    <a:pt x="621" y="5"/>
                  </a:lnTo>
                  <a:lnTo>
                    <a:pt x="629" y="6"/>
                  </a:lnTo>
                  <a:lnTo>
                    <a:pt x="637" y="8"/>
                  </a:lnTo>
                  <a:lnTo>
                    <a:pt x="644" y="9"/>
                  </a:lnTo>
                  <a:lnTo>
                    <a:pt x="653" y="11"/>
                  </a:lnTo>
                  <a:lnTo>
                    <a:pt x="661" y="12"/>
                  </a:lnTo>
                  <a:lnTo>
                    <a:pt x="670" y="14"/>
                  </a:lnTo>
                  <a:lnTo>
                    <a:pt x="678" y="16"/>
                  </a:lnTo>
                  <a:lnTo>
                    <a:pt x="692" y="321"/>
                  </a:lnTo>
                  <a:lnTo>
                    <a:pt x="683" y="317"/>
                  </a:lnTo>
                  <a:lnTo>
                    <a:pt x="674" y="314"/>
                  </a:lnTo>
                  <a:lnTo>
                    <a:pt x="664" y="310"/>
                  </a:lnTo>
                  <a:lnTo>
                    <a:pt x="656" y="307"/>
                  </a:lnTo>
                  <a:lnTo>
                    <a:pt x="647" y="305"/>
                  </a:lnTo>
                  <a:lnTo>
                    <a:pt x="638" y="302"/>
                  </a:lnTo>
                  <a:lnTo>
                    <a:pt x="629" y="299"/>
                  </a:lnTo>
                  <a:lnTo>
                    <a:pt x="620" y="297"/>
                  </a:lnTo>
                  <a:lnTo>
                    <a:pt x="611" y="295"/>
                  </a:lnTo>
                  <a:lnTo>
                    <a:pt x="602" y="294"/>
                  </a:lnTo>
                  <a:lnTo>
                    <a:pt x="594" y="292"/>
                  </a:lnTo>
                  <a:lnTo>
                    <a:pt x="585" y="291"/>
                  </a:lnTo>
                  <a:lnTo>
                    <a:pt x="576" y="291"/>
                  </a:lnTo>
                  <a:lnTo>
                    <a:pt x="568" y="290"/>
                  </a:lnTo>
                  <a:lnTo>
                    <a:pt x="559" y="290"/>
                  </a:lnTo>
                  <a:lnTo>
                    <a:pt x="551" y="290"/>
                  </a:lnTo>
                  <a:lnTo>
                    <a:pt x="536" y="290"/>
                  </a:lnTo>
                  <a:lnTo>
                    <a:pt x="522" y="291"/>
                  </a:lnTo>
                  <a:lnTo>
                    <a:pt x="507" y="292"/>
                  </a:lnTo>
                  <a:lnTo>
                    <a:pt x="493" y="294"/>
                  </a:lnTo>
                  <a:lnTo>
                    <a:pt x="480" y="296"/>
                  </a:lnTo>
                  <a:lnTo>
                    <a:pt x="467" y="299"/>
                  </a:lnTo>
                  <a:lnTo>
                    <a:pt x="454" y="303"/>
                  </a:lnTo>
                  <a:lnTo>
                    <a:pt x="441" y="307"/>
                  </a:lnTo>
                  <a:lnTo>
                    <a:pt x="429" y="311"/>
                  </a:lnTo>
                  <a:lnTo>
                    <a:pt x="417" y="316"/>
                  </a:lnTo>
                  <a:lnTo>
                    <a:pt x="406" y="321"/>
                  </a:lnTo>
                  <a:lnTo>
                    <a:pt x="395" y="328"/>
                  </a:lnTo>
                  <a:lnTo>
                    <a:pt x="384" y="335"/>
                  </a:lnTo>
                  <a:lnTo>
                    <a:pt x="374" y="341"/>
                  </a:lnTo>
                  <a:lnTo>
                    <a:pt x="363" y="350"/>
                  </a:lnTo>
                  <a:lnTo>
                    <a:pt x="354" y="358"/>
                  </a:lnTo>
                  <a:lnTo>
                    <a:pt x="344" y="367"/>
                  </a:lnTo>
                  <a:lnTo>
                    <a:pt x="336" y="375"/>
                  </a:lnTo>
                  <a:lnTo>
                    <a:pt x="328" y="384"/>
                  </a:lnTo>
                  <a:lnTo>
                    <a:pt x="320" y="394"/>
                  </a:lnTo>
                  <a:lnTo>
                    <a:pt x="313" y="404"/>
                  </a:lnTo>
                  <a:lnTo>
                    <a:pt x="308" y="415"/>
                  </a:lnTo>
                  <a:lnTo>
                    <a:pt x="301" y="424"/>
                  </a:lnTo>
                  <a:lnTo>
                    <a:pt x="296" y="436"/>
                  </a:lnTo>
                  <a:lnTo>
                    <a:pt x="292" y="446"/>
                  </a:lnTo>
                  <a:lnTo>
                    <a:pt x="288" y="458"/>
                  </a:lnTo>
                  <a:lnTo>
                    <a:pt x="285" y="470"/>
                  </a:lnTo>
                  <a:lnTo>
                    <a:pt x="283" y="481"/>
                  </a:lnTo>
                  <a:lnTo>
                    <a:pt x="280" y="494"/>
                  </a:lnTo>
                  <a:lnTo>
                    <a:pt x="278" y="506"/>
                  </a:lnTo>
                  <a:lnTo>
                    <a:pt x="277" y="519"/>
                  </a:lnTo>
                  <a:lnTo>
                    <a:pt x="277" y="531"/>
                  </a:lnTo>
                  <a:lnTo>
                    <a:pt x="277" y="545"/>
                  </a:lnTo>
                  <a:lnTo>
                    <a:pt x="278" y="558"/>
                  </a:lnTo>
                  <a:lnTo>
                    <a:pt x="280" y="570"/>
                  </a:lnTo>
                  <a:lnTo>
                    <a:pt x="283" y="582"/>
                  </a:lnTo>
                  <a:lnTo>
                    <a:pt x="285" y="594"/>
                  </a:lnTo>
                  <a:lnTo>
                    <a:pt x="288" y="606"/>
                  </a:lnTo>
                  <a:lnTo>
                    <a:pt x="292" y="618"/>
                  </a:lnTo>
                  <a:lnTo>
                    <a:pt x="296" y="628"/>
                  </a:lnTo>
                  <a:lnTo>
                    <a:pt x="301" y="640"/>
                  </a:lnTo>
                  <a:lnTo>
                    <a:pt x="307" y="650"/>
                  </a:lnTo>
                  <a:lnTo>
                    <a:pt x="313" y="660"/>
                  </a:lnTo>
                  <a:lnTo>
                    <a:pt x="320" y="670"/>
                  </a:lnTo>
                  <a:lnTo>
                    <a:pt x="328" y="680"/>
                  </a:lnTo>
                  <a:lnTo>
                    <a:pt x="335" y="689"/>
                  </a:lnTo>
                  <a:lnTo>
                    <a:pt x="343" y="698"/>
                  </a:lnTo>
                  <a:lnTo>
                    <a:pt x="353" y="708"/>
                  </a:lnTo>
                  <a:lnTo>
                    <a:pt x="362" y="716"/>
                  </a:lnTo>
                  <a:lnTo>
                    <a:pt x="373" y="725"/>
                  </a:lnTo>
                  <a:lnTo>
                    <a:pt x="382" y="732"/>
                  </a:lnTo>
                  <a:lnTo>
                    <a:pt x="394" y="738"/>
                  </a:lnTo>
                  <a:lnTo>
                    <a:pt x="404" y="745"/>
                  </a:lnTo>
                  <a:lnTo>
                    <a:pt x="415" y="751"/>
                  </a:lnTo>
                  <a:lnTo>
                    <a:pt x="426" y="756"/>
                  </a:lnTo>
                  <a:lnTo>
                    <a:pt x="438" y="760"/>
                  </a:lnTo>
                  <a:lnTo>
                    <a:pt x="450" y="765"/>
                  </a:lnTo>
                  <a:lnTo>
                    <a:pt x="462" y="769"/>
                  </a:lnTo>
                  <a:lnTo>
                    <a:pt x="474" y="772"/>
                  </a:lnTo>
                  <a:lnTo>
                    <a:pt x="488" y="774"/>
                  </a:lnTo>
                  <a:lnTo>
                    <a:pt x="501" y="776"/>
                  </a:lnTo>
                  <a:lnTo>
                    <a:pt x="514" y="777"/>
                  </a:lnTo>
                  <a:lnTo>
                    <a:pt x="528" y="778"/>
                  </a:lnTo>
                  <a:lnTo>
                    <a:pt x="543" y="778"/>
                  </a:lnTo>
                  <a:lnTo>
                    <a:pt x="552" y="778"/>
                  </a:lnTo>
                  <a:lnTo>
                    <a:pt x="563" y="778"/>
                  </a:lnTo>
                  <a:lnTo>
                    <a:pt x="573" y="777"/>
                  </a:lnTo>
                  <a:lnTo>
                    <a:pt x="583" y="776"/>
                  </a:lnTo>
                  <a:lnTo>
                    <a:pt x="593" y="774"/>
                  </a:lnTo>
                  <a:lnTo>
                    <a:pt x="604" y="773"/>
                  </a:lnTo>
                  <a:lnTo>
                    <a:pt x="613" y="770"/>
                  </a:lnTo>
                  <a:lnTo>
                    <a:pt x="623" y="768"/>
                  </a:lnTo>
                  <a:lnTo>
                    <a:pt x="633" y="765"/>
                  </a:lnTo>
                  <a:lnTo>
                    <a:pt x="643" y="762"/>
                  </a:lnTo>
                  <a:lnTo>
                    <a:pt x="653" y="758"/>
                  </a:lnTo>
                  <a:lnTo>
                    <a:pt x="663" y="755"/>
                  </a:lnTo>
                  <a:lnTo>
                    <a:pt x="673" y="751"/>
                  </a:lnTo>
                  <a:lnTo>
                    <a:pt x="683" y="747"/>
                  </a:lnTo>
                  <a:lnTo>
                    <a:pt x="693" y="741"/>
                  </a:lnTo>
                  <a:lnTo>
                    <a:pt x="703" y="737"/>
                  </a:lnTo>
                  <a:lnTo>
                    <a:pt x="682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35800" y="1589040"/>
              <a:ext cx="66600" cy="111240"/>
            </a:xfrm>
            <a:custGeom>
              <a:avLst/>
              <a:gdLst/>
              <a:ahLst/>
              <a:rect l="l" t="t" r="r" b="b"/>
              <a:pathLst>
                <a:path w="212" h="348">
                  <a:moveTo>
                    <a:pt x="0" y="348"/>
                  </a:moveTo>
                  <a:lnTo>
                    <a:pt x="212" y="348"/>
                  </a:lnTo>
                  <a:lnTo>
                    <a:pt x="105" y="0"/>
                  </a:lnTo>
                  <a:lnTo>
                    <a:pt x="0" y="3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51196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0" y="1032"/>
                  </a:moveTo>
                  <a:lnTo>
                    <a:pt x="360" y="0"/>
                  </a:lnTo>
                  <a:lnTo>
                    <a:pt x="662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85792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66" h="1032">
                  <a:moveTo>
                    <a:pt x="0" y="1032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501" y="452"/>
                  </a:lnTo>
                  <a:lnTo>
                    <a:pt x="501" y="0"/>
                  </a:lnTo>
                  <a:lnTo>
                    <a:pt x="766" y="0"/>
                  </a:lnTo>
                  <a:lnTo>
                    <a:pt x="766" y="1032"/>
                  </a:lnTo>
                  <a:lnTo>
                    <a:pt x="645" y="1032"/>
                  </a:lnTo>
                  <a:lnTo>
                    <a:pt x="267" y="584"/>
                  </a:lnTo>
                  <a:lnTo>
                    <a:pt x="267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30800" y="1490760"/>
              <a:ext cx="217440" cy="326880"/>
            </a:xfrm>
            <a:custGeom>
              <a:avLst/>
              <a:gdLst/>
              <a:ahLst/>
              <a:rect l="l" t="t" r="r" b="b"/>
              <a:pathLst>
                <a:path w="686" h="1032">
                  <a:moveTo>
                    <a:pt x="478" y="260"/>
                  </a:moveTo>
                  <a:lnTo>
                    <a:pt x="478" y="1032"/>
                  </a:lnTo>
                  <a:lnTo>
                    <a:pt x="209" y="1032"/>
                  </a:lnTo>
                  <a:lnTo>
                    <a:pt x="209" y="260"/>
                  </a:lnTo>
                  <a:lnTo>
                    <a:pt x="0" y="260"/>
                  </a:lnTo>
                  <a:lnTo>
                    <a:pt x="28" y="0"/>
                  </a:lnTo>
                  <a:lnTo>
                    <a:pt x="657" y="0"/>
                  </a:lnTo>
                  <a:lnTo>
                    <a:pt x="686" y="260"/>
                  </a:lnTo>
                  <a:lnTo>
                    <a:pt x="478" y="26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364440" y="1486080"/>
              <a:ext cx="17280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8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5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2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2" y="792"/>
                  </a:lnTo>
                  <a:lnTo>
                    <a:pt x="109" y="792"/>
                  </a:lnTo>
                  <a:lnTo>
                    <a:pt x="115" y="792"/>
                  </a:lnTo>
                  <a:lnTo>
                    <a:pt x="121" y="793"/>
                  </a:lnTo>
                  <a:lnTo>
                    <a:pt x="133" y="792"/>
                  </a:lnTo>
                  <a:lnTo>
                    <a:pt x="142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7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1" y="750"/>
                  </a:lnTo>
                  <a:lnTo>
                    <a:pt x="216" y="744"/>
                  </a:lnTo>
                  <a:lnTo>
                    <a:pt x="218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1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3" y="612"/>
                  </a:lnTo>
                  <a:lnTo>
                    <a:pt x="145" y="596"/>
                  </a:lnTo>
                  <a:lnTo>
                    <a:pt x="139" y="589"/>
                  </a:lnTo>
                  <a:lnTo>
                    <a:pt x="133" y="584"/>
                  </a:lnTo>
                  <a:lnTo>
                    <a:pt x="128" y="579"/>
                  </a:lnTo>
                  <a:lnTo>
                    <a:pt x="122" y="574"/>
                  </a:lnTo>
                  <a:lnTo>
                    <a:pt x="118" y="569"/>
                  </a:lnTo>
                  <a:lnTo>
                    <a:pt x="113" y="565"/>
                  </a:lnTo>
                  <a:lnTo>
                    <a:pt x="109" y="561"/>
                  </a:lnTo>
                  <a:lnTo>
                    <a:pt x="106" y="558"/>
                  </a:lnTo>
                  <a:lnTo>
                    <a:pt x="92" y="543"/>
                  </a:lnTo>
                  <a:lnTo>
                    <a:pt x="80" y="529"/>
                  </a:lnTo>
                  <a:lnTo>
                    <a:pt x="69" y="516"/>
                  </a:lnTo>
                  <a:lnTo>
                    <a:pt x="58" y="501"/>
                  </a:lnTo>
                  <a:lnTo>
                    <a:pt x="49" y="487"/>
                  </a:lnTo>
                  <a:lnTo>
                    <a:pt x="39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18" y="429"/>
                  </a:lnTo>
                  <a:lnTo>
                    <a:pt x="13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2" y="221"/>
                  </a:lnTo>
                  <a:lnTo>
                    <a:pt x="17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7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3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1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7" y="22"/>
                  </a:lnTo>
                  <a:lnTo>
                    <a:pt x="223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4" y="6"/>
                  </a:lnTo>
                  <a:lnTo>
                    <a:pt x="291" y="3"/>
                  </a:lnTo>
                  <a:lnTo>
                    <a:pt x="310" y="1"/>
                  </a:lnTo>
                  <a:lnTo>
                    <a:pt x="328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1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6" y="2"/>
                  </a:lnTo>
                  <a:lnTo>
                    <a:pt x="417" y="3"/>
                  </a:lnTo>
                  <a:lnTo>
                    <a:pt x="428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0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0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8" y="267"/>
                  </a:lnTo>
                  <a:lnTo>
                    <a:pt x="480" y="264"/>
                  </a:lnTo>
                  <a:lnTo>
                    <a:pt x="473" y="262"/>
                  </a:lnTo>
                  <a:lnTo>
                    <a:pt x="465" y="259"/>
                  </a:lnTo>
                  <a:lnTo>
                    <a:pt x="458" y="256"/>
                  </a:lnTo>
                  <a:lnTo>
                    <a:pt x="451" y="254"/>
                  </a:lnTo>
                  <a:lnTo>
                    <a:pt x="444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4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4" y="248"/>
                  </a:lnTo>
                  <a:lnTo>
                    <a:pt x="382" y="249"/>
                  </a:lnTo>
                  <a:lnTo>
                    <a:pt x="372" y="251"/>
                  </a:lnTo>
                  <a:lnTo>
                    <a:pt x="361" y="253"/>
                  </a:lnTo>
                  <a:lnTo>
                    <a:pt x="352" y="256"/>
                  </a:lnTo>
                  <a:lnTo>
                    <a:pt x="344" y="260"/>
                  </a:lnTo>
                  <a:lnTo>
                    <a:pt x="336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7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2" y="319"/>
                  </a:lnTo>
                  <a:lnTo>
                    <a:pt x="302" y="329"/>
                  </a:lnTo>
                  <a:lnTo>
                    <a:pt x="302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8" y="417"/>
                  </a:lnTo>
                  <a:lnTo>
                    <a:pt x="376" y="431"/>
                  </a:lnTo>
                  <a:lnTo>
                    <a:pt x="382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2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4" y="525"/>
                  </a:lnTo>
                  <a:lnTo>
                    <a:pt x="485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1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3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2" y="771"/>
                  </a:lnTo>
                  <a:lnTo>
                    <a:pt x="540" y="789"/>
                  </a:lnTo>
                  <a:lnTo>
                    <a:pt x="538" y="807"/>
                  </a:lnTo>
                  <a:lnTo>
                    <a:pt x="534" y="823"/>
                  </a:lnTo>
                  <a:lnTo>
                    <a:pt x="529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1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6" y="927"/>
                  </a:lnTo>
                  <a:lnTo>
                    <a:pt x="477" y="940"/>
                  </a:lnTo>
                  <a:lnTo>
                    <a:pt x="465" y="953"/>
                  </a:lnTo>
                  <a:lnTo>
                    <a:pt x="454" y="964"/>
                  </a:lnTo>
                  <a:lnTo>
                    <a:pt x="441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0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3" y="1029"/>
                  </a:lnTo>
                  <a:lnTo>
                    <a:pt x="336" y="1036"/>
                  </a:lnTo>
                  <a:lnTo>
                    <a:pt x="320" y="1042"/>
                  </a:lnTo>
                  <a:lnTo>
                    <a:pt x="301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7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1" y="1063"/>
                  </a:lnTo>
                  <a:lnTo>
                    <a:pt x="112" y="1062"/>
                  </a:lnTo>
                  <a:lnTo>
                    <a:pt x="103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0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18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765520" y="2286000"/>
            <a:ext cx="3546360" cy="3549600"/>
            <a:chOff x="2765520" y="2286000"/>
            <a:chExt cx="3546360" cy="3549600"/>
          </a:xfrm>
        </p:grpSpPr>
        <p:sp>
          <p:nvSpPr>
            <p:cNvPr id="1984" name=""/>
            <p:cNvSpPr/>
            <p:nvPr/>
          </p:nvSpPr>
          <p:spPr>
            <a:xfrm>
              <a:off x="3745080" y="2868840"/>
              <a:ext cx="1587240" cy="2384280"/>
            </a:xfrm>
            <a:custGeom>
              <a:avLst/>
              <a:gdLst/>
              <a:ahLst/>
              <a:rect l="l" t="t" r="r" b="b"/>
              <a:pathLst>
                <a:path w="5002" h="7507">
                  <a:moveTo>
                    <a:pt x="2499" y="0"/>
                  </a:moveTo>
                  <a:lnTo>
                    <a:pt x="2529" y="127"/>
                  </a:lnTo>
                  <a:lnTo>
                    <a:pt x="2561" y="252"/>
                  </a:lnTo>
                  <a:lnTo>
                    <a:pt x="2592" y="373"/>
                  </a:lnTo>
                  <a:lnTo>
                    <a:pt x="2625" y="490"/>
                  </a:lnTo>
                  <a:lnTo>
                    <a:pt x="2657" y="605"/>
                  </a:lnTo>
                  <a:lnTo>
                    <a:pt x="2690" y="716"/>
                  </a:lnTo>
                  <a:lnTo>
                    <a:pt x="2725" y="824"/>
                  </a:lnTo>
                  <a:lnTo>
                    <a:pt x="2758" y="929"/>
                  </a:lnTo>
                  <a:lnTo>
                    <a:pt x="2793" y="1030"/>
                  </a:lnTo>
                  <a:lnTo>
                    <a:pt x="2828" y="1129"/>
                  </a:lnTo>
                  <a:lnTo>
                    <a:pt x="2864" y="1223"/>
                  </a:lnTo>
                  <a:lnTo>
                    <a:pt x="2900" y="1315"/>
                  </a:lnTo>
                  <a:lnTo>
                    <a:pt x="2936" y="1403"/>
                  </a:lnTo>
                  <a:lnTo>
                    <a:pt x="2974" y="1488"/>
                  </a:lnTo>
                  <a:lnTo>
                    <a:pt x="3012" y="1570"/>
                  </a:lnTo>
                  <a:lnTo>
                    <a:pt x="3051" y="1648"/>
                  </a:lnTo>
                  <a:lnTo>
                    <a:pt x="3091" y="1725"/>
                  </a:lnTo>
                  <a:lnTo>
                    <a:pt x="3133" y="1803"/>
                  </a:lnTo>
                  <a:lnTo>
                    <a:pt x="3178" y="1882"/>
                  </a:lnTo>
                  <a:lnTo>
                    <a:pt x="3225" y="1961"/>
                  </a:lnTo>
                  <a:lnTo>
                    <a:pt x="3275" y="2042"/>
                  </a:lnTo>
                  <a:lnTo>
                    <a:pt x="3328" y="2123"/>
                  </a:lnTo>
                  <a:lnTo>
                    <a:pt x="3383" y="2205"/>
                  </a:lnTo>
                  <a:lnTo>
                    <a:pt x="3441" y="2288"/>
                  </a:lnTo>
                  <a:lnTo>
                    <a:pt x="3501" y="2371"/>
                  </a:lnTo>
                  <a:lnTo>
                    <a:pt x="3564" y="2456"/>
                  </a:lnTo>
                  <a:lnTo>
                    <a:pt x="3629" y="2541"/>
                  </a:lnTo>
                  <a:lnTo>
                    <a:pt x="3697" y="2626"/>
                  </a:lnTo>
                  <a:lnTo>
                    <a:pt x="3767" y="2713"/>
                  </a:lnTo>
                  <a:lnTo>
                    <a:pt x="3840" y="2800"/>
                  </a:lnTo>
                  <a:lnTo>
                    <a:pt x="3915" y="2889"/>
                  </a:lnTo>
                  <a:lnTo>
                    <a:pt x="3994" y="2978"/>
                  </a:lnTo>
                  <a:lnTo>
                    <a:pt x="4175" y="3181"/>
                  </a:lnTo>
                  <a:lnTo>
                    <a:pt x="4226" y="3238"/>
                  </a:lnTo>
                  <a:lnTo>
                    <a:pt x="4275" y="3296"/>
                  </a:lnTo>
                  <a:lnTo>
                    <a:pt x="4323" y="3354"/>
                  </a:lnTo>
                  <a:lnTo>
                    <a:pt x="4369" y="3410"/>
                  </a:lnTo>
                  <a:lnTo>
                    <a:pt x="4413" y="3468"/>
                  </a:lnTo>
                  <a:lnTo>
                    <a:pt x="4456" y="3526"/>
                  </a:lnTo>
                  <a:lnTo>
                    <a:pt x="4497" y="3584"/>
                  </a:lnTo>
                  <a:lnTo>
                    <a:pt x="4537" y="3641"/>
                  </a:lnTo>
                  <a:lnTo>
                    <a:pt x="4575" y="3699"/>
                  </a:lnTo>
                  <a:lnTo>
                    <a:pt x="4612" y="3757"/>
                  </a:lnTo>
                  <a:lnTo>
                    <a:pt x="4646" y="3815"/>
                  </a:lnTo>
                  <a:lnTo>
                    <a:pt x="4679" y="3872"/>
                  </a:lnTo>
                  <a:lnTo>
                    <a:pt x="4710" y="3930"/>
                  </a:lnTo>
                  <a:lnTo>
                    <a:pt x="4741" y="3988"/>
                  </a:lnTo>
                  <a:lnTo>
                    <a:pt x="4769" y="4046"/>
                  </a:lnTo>
                  <a:lnTo>
                    <a:pt x="4795" y="4103"/>
                  </a:lnTo>
                  <a:lnTo>
                    <a:pt x="4820" y="4161"/>
                  </a:lnTo>
                  <a:lnTo>
                    <a:pt x="4844" y="4219"/>
                  </a:lnTo>
                  <a:lnTo>
                    <a:pt x="4866" y="4277"/>
                  </a:lnTo>
                  <a:lnTo>
                    <a:pt x="4885" y="4334"/>
                  </a:lnTo>
                  <a:lnTo>
                    <a:pt x="4904" y="4392"/>
                  </a:lnTo>
                  <a:lnTo>
                    <a:pt x="4921" y="4450"/>
                  </a:lnTo>
                  <a:lnTo>
                    <a:pt x="4936" y="4508"/>
                  </a:lnTo>
                  <a:lnTo>
                    <a:pt x="4951" y="4565"/>
                  </a:lnTo>
                  <a:lnTo>
                    <a:pt x="4962" y="4623"/>
                  </a:lnTo>
                  <a:lnTo>
                    <a:pt x="4973" y="4681"/>
                  </a:lnTo>
                  <a:lnTo>
                    <a:pt x="4981" y="4739"/>
                  </a:lnTo>
                  <a:lnTo>
                    <a:pt x="4988" y="4795"/>
                  </a:lnTo>
                  <a:lnTo>
                    <a:pt x="4995" y="4853"/>
                  </a:lnTo>
                  <a:lnTo>
                    <a:pt x="4999" y="4911"/>
                  </a:lnTo>
                  <a:lnTo>
                    <a:pt x="5001" y="4969"/>
                  </a:lnTo>
                  <a:lnTo>
                    <a:pt x="5002" y="5026"/>
                  </a:lnTo>
                  <a:lnTo>
                    <a:pt x="5001" y="5090"/>
                  </a:lnTo>
                  <a:lnTo>
                    <a:pt x="4999" y="5152"/>
                  </a:lnTo>
                  <a:lnTo>
                    <a:pt x="4995" y="5215"/>
                  </a:lnTo>
                  <a:lnTo>
                    <a:pt x="4990" y="5277"/>
                  </a:lnTo>
                  <a:lnTo>
                    <a:pt x="4984" y="5338"/>
                  </a:lnTo>
                  <a:lnTo>
                    <a:pt x="4976" y="5399"/>
                  </a:lnTo>
                  <a:lnTo>
                    <a:pt x="4966" y="5459"/>
                  </a:lnTo>
                  <a:lnTo>
                    <a:pt x="4956" y="5518"/>
                  </a:lnTo>
                  <a:lnTo>
                    <a:pt x="4943" y="5578"/>
                  </a:lnTo>
                  <a:lnTo>
                    <a:pt x="4930" y="5635"/>
                  </a:lnTo>
                  <a:lnTo>
                    <a:pt x="4915" y="5693"/>
                  </a:lnTo>
                  <a:lnTo>
                    <a:pt x="4898" y="5751"/>
                  </a:lnTo>
                  <a:lnTo>
                    <a:pt x="4880" y="5808"/>
                  </a:lnTo>
                  <a:lnTo>
                    <a:pt x="4860" y="5863"/>
                  </a:lnTo>
                  <a:lnTo>
                    <a:pt x="4839" y="5919"/>
                  </a:lnTo>
                  <a:lnTo>
                    <a:pt x="4817" y="5974"/>
                  </a:lnTo>
                  <a:lnTo>
                    <a:pt x="4794" y="6028"/>
                  </a:lnTo>
                  <a:lnTo>
                    <a:pt x="4769" y="6083"/>
                  </a:lnTo>
                  <a:lnTo>
                    <a:pt x="4742" y="6135"/>
                  </a:lnTo>
                  <a:lnTo>
                    <a:pt x="4714" y="6189"/>
                  </a:lnTo>
                  <a:lnTo>
                    <a:pt x="4684" y="6240"/>
                  </a:lnTo>
                  <a:lnTo>
                    <a:pt x="4654" y="6293"/>
                  </a:lnTo>
                  <a:lnTo>
                    <a:pt x="4621" y="6343"/>
                  </a:lnTo>
                  <a:lnTo>
                    <a:pt x="4588" y="6394"/>
                  </a:lnTo>
                  <a:lnTo>
                    <a:pt x="4552" y="6444"/>
                  </a:lnTo>
                  <a:lnTo>
                    <a:pt x="4515" y="6493"/>
                  </a:lnTo>
                  <a:lnTo>
                    <a:pt x="4477" y="6542"/>
                  </a:lnTo>
                  <a:lnTo>
                    <a:pt x="4438" y="6590"/>
                  </a:lnTo>
                  <a:lnTo>
                    <a:pt x="4397" y="6638"/>
                  </a:lnTo>
                  <a:lnTo>
                    <a:pt x="4354" y="6684"/>
                  </a:lnTo>
                  <a:lnTo>
                    <a:pt x="4310" y="6732"/>
                  </a:lnTo>
                  <a:lnTo>
                    <a:pt x="4264" y="6777"/>
                  </a:lnTo>
                  <a:lnTo>
                    <a:pt x="4218" y="6822"/>
                  </a:lnTo>
                  <a:lnTo>
                    <a:pt x="4171" y="6866"/>
                  </a:lnTo>
                  <a:lnTo>
                    <a:pt x="4124" y="6908"/>
                  </a:lnTo>
                  <a:lnTo>
                    <a:pt x="4076" y="6948"/>
                  </a:lnTo>
                  <a:lnTo>
                    <a:pt x="4027" y="6988"/>
                  </a:lnTo>
                  <a:lnTo>
                    <a:pt x="3978" y="7026"/>
                  </a:lnTo>
                  <a:lnTo>
                    <a:pt x="3928" y="7061"/>
                  </a:lnTo>
                  <a:lnTo>
                    <a:pt x="3877" y="7097"/>
                  </a:lnTo>
                  <a:lnTo>
                    <a:pt x="3827" y="7131"/>
                  </a:lnTo>
                  <a:lnTo>
                    <a:pt x="3776" y="7162"/>
                  </a:lnTo>
                  <a:lnTo>
                    <a:pt x="3723" y="7193"/>
                  </a:lnTo>
                  <a:lnTo>
                    <a:pt x="3671" y="7222"/>
                  </a:lnTo>
                  <a:lnTo>
                    <a:pt x="3617" y="7250"/>
                  </a:lnTo>
                  <a:lnTo>
                    <a:pt x="3564" y="7277"/>
                  </a:lnTo>
                  <a:lnTo>
                    <a:pt x="3509" y="7302"/>
                  </a:lnTo>
                  <a:lnTo>
                    <a:pt x="3455" y="7325"/>
                  </a:lnTo>
                  <a:lnTo>
                    <a:pt x="3399" y="7347"/>
                  </a:lnTo>
                  <a:lnTo>
                    <a:pt x="3342" y="7368"/>
                  </a:lnTo>
                  <a:lnTo>
                    <a:pt x="3286" y="7387"/>
                  </a:lnTo>
                  <a:lnTo>
                    <a:pt x="3229" y="7405"/>
                  </a:lnTo>
                  <a:lnTo>
                    <a:pt x="3171" y="7421"/>
                  </a:lnTo>
                  <a:lnTo>
                    <a:pt x="3113" y="7436"/>
                  </a:lnTo>
                  <a:lnTo>
                    <a:pt x="3054" y="7450"/>
                  </a:lnTo>
                  <a:lnTo>
                    <a:pt x="2995" y="7461"/>
                  </a:lnTo>
                  <a:lnTo>
                    <a:pt x="2934" y="7472"/>
                  </a:lnTo>
                  <a:lnTo>
                    <a:pt x="2875" y="7481"/>
                  </a:lnTo>
                  <a:lnTo>
                    <a:pt x="2813" y="7490"/>
                  </a:lnTo>
                  <a:lnTo>
                    <a:pt x="2752" y="7496"/>
                  </a:lnTo>
                  <a:lnTo>
                    <a:pt x="2689" y="7500"/>
                  </a:lnTo>
                  <a:lnTo>
                    <a:pt x="2626" y="7504"/>
                  </a:lnTo>
                  <a:lnTo>
                    <a:pt x="2563" y="7507"/>
                  </a:lnTo>
                  <a:lnTo>
                    <a:pt x="2499" y="7507"/>
                  </a:lnTo>
                  <a:lnTo>
                    <a:pt x="2435" y="7507"/>
                  </a:lnTo>
                  <a:lnTo>
                    <a:pt x="2372" y="7504"/>
                  </a:lnTo>
                  <a:lnTo>
                    <a:pt x="2309" y="7500"/>
                  </a:lnTo>
                  <a:lnTo>
                    <a:pt x="2247" y="7496"/>
                  </a:lnTo>
                  <a:lnTo>
                    <a:pt x="2186" y="7490"/>
                  </a:lnTo>
                  <a:lnTo>
                    <a:pt x="2126" y="7481"/>
                  </a:lnTo>
                  <a:lnTo>
                    <a:pt x="2065" y="7472"/>
                  </a:lnTo>
                  <a:lnTo>
                    <a:pt x="2005" y="7461"/>
                  </a:lnTo>
                  <a:lnTo>
                    <a:pt x="1946" y="7450"/>
                  </a:lnTo>
                  <a:lnTo>
                    <a:pt x="1888" y="7436"/>
                  </a:lnTo>
                  <a:lnTo>
                    <a:pt x="1829" y="7421"/>
                  </a:lnTo>
                  <a:lnTo>
                    <a:pt x="1771" y="7405"/>
                  </a:lnTo>
                  <a:lnTo>
                    <a:pt x="1714" y="7387"/>
                  </a:lnTo>
                  <a:lnTo>
                    <a:pt x="1658" y="7368"/>
                  </a:lnTo>
                  <a:lnTo>
                    <a:pt x="1602" y="7347"/>
                  </a:lnTo>
                  <a:lnTo>
                    <a:pt x="1547" y="7325"/>
                  </a:lnTo>
                  <a:lnTo>
                    <a:pt x="1492" y="7302"/>
                  </a:lnTo>
                  <a:lnTo>
                    <a:pt x="1437" y="7277"/>
                  </a:lnTo>
                  <a:lnTo>
                    <a:pt x="1384" y="7250"/>
                  </a:lnTo>
                  <a:lnTo>
                    <a:pt x="1330" y="7222"/>
                  </a:lnTo>
                  <a:lnTo>
                    <a:pt x="1278" y="7193"/>
                  </a:lnTo>
                  <a:lnTo>
                    <a:pt x="1227" y="7162"/>
                  </a:lnTo>
                  <a:lnTo>
                    <a:pt x="1175" y="7131"/>
                  </a:lnTo>
                  <a:lnTo>
                    <a:pt x="1124" y="7097"/>
                  </a:lnTo>
                  <a:lnTo>
                    <a:pt x="1073" y="7061"/>
                  </a:lnTo>
                  <a:lnTo>
                    <a:pt x="1024" y="7026"/>
                  </a:lnTo>
                  <a:lnTo>
                    <a:pt x="975" y="6988"/>
                  </a:lnTo>
                  <a:lnTo>
                    <a:pt x="927" y="6948"/>
                  </a:lnTo>
                  <a:lnTo>
                    <a:pt x="878" y="6908"/>
                  </a:lnTo>
                  <a:lnTo>
                    <a:pt x="831" y="6866"/>
                  </a:lnTo>
                  <a:lnTo>
                    <a:pt x="784" y="6822"/>
                  </a:lnTo>
                  <a:lnTo>
                    <a:pt x="738" y="6777"/>
                  </a:lnTo>
                  <a:lnTo>
                    <a:pt x="692" y="6732"/>
                  </a:lnTo>
                  <a:lnTo>
                    <a:pt x="648" y="6684"/>
                  </a:lnTo>
                  <a:lnTo>
                    <a:pt x="606" y="6638"/>
                  </a:lnTo>
                  <a:lnTo>
                    <a:pt x="565" y="6590"/>
                  </a:lnTo>
                  <a:lnTo>
                    <a:pt x="525" y="6542"/>
                  </a:lnTo>
                  <a:lnTo>
                    <a:pt x="487" y="6493"/>
                  </a:lnTo>
                  <a:lnTo>
                    <a:pt x="450" y="6444"/>
                  </a:lnTo>
                  <a:lnTo>
                    <a:pt x="415" y="6394"/>
                  </a:lnTo>
                  <a:lnTo>
                    <a:pt x="381" y="6343"/>
                  </a:lnTo>
                  <a:lnTo>
                    <a:pt x="349" y="6293"/>
                  </a:lnTo>
                  <a:lnTo>
                    <a:pt x="317" y="6240"/>
                  </a:lnTo>
                  <a:lnTo>
                    <a:pt x="288" y="6189"/>
                  </a:lnTo>
                  <a:lnTo>
                    <a:pt x="261" y="6135"/>
                  </a:lnTo>
                  <a:lnTo>
                    <a:pt x="233" y="6083"/>
                  </a:lnTo>
                  <a:lnTo>
                    <a:pt x="208" y="6028"/>
                  </a:lnTo>
                  <a:lnTo>
                    <a:pt x="185" y="5974"/>
                  </a:lnTo>
                  <a:lnTo>
                    <a:pt x="162" y="5919"/>
                  </a:lnTo>
                  <a:lnTo>
                    <a:pt x="141" y="5863"/>
                  </a:lnTo>
                  <a:lnTo>
                    <a:pt x="122" y="5808"/>
                  </a:lnTo>
                  <a:lnTo>
                    <a:pt x="104" y="5751"/>
                  </a:lnTo>
                  <a:lnTo>
                    <a:pt x="87" y="5693"/>
                  </a:lnTo>
                  <a:lnTo>
                    <a:pt x="73" y="5635"/>
                  </a:lnTo>
                  <a:lnTo>
                    <a:pt x="59" y="5578"/>
                  </a:lnTo>
                  <a:lnTo>
                    <a:pt x="47" y="5518"/>
                  </a:lnTo>
                  <a:lnTo>
                    <a:pt x="36" y="5459"/>
                  </a:lnTo>
                  <a:lnTo>
                    <a:pt x="27" y="5399"/>
                  </a:lnTo>
                  <a:lnTo>
                    <a:pt x="18" y="5338"/>
                  </a:lnTo>
                  <a:lnTo>
                    <a:pt x="12" y="5277"/>
                  </a:lnTo>
                  <a:lnTo>
                    <a:pt x="7" y="5215"/>
                  </a:lnTo>
                  <a:lnTo>
                    <a:pt x="4" y="5152"/>
                  </a:lnTo>
                  <a:lnTo>
                    <a:pt x="1" y="5090"/>
                  </a:lnTo>
                  <a:lnTo>
                    <a:pt x="0" y="5026"/>
                  </a:lnTo>
                  <a:lnTo>
                    <a:pt x="1" y="4969"/>
                  </a:lnTo>
                  <a:lnTo>
                    <a:pt x="4" y="4911"/>
                  </a:lnTo>
                  <a:lnTo>
                    <a:pt x="8" y="4853"/>
                  </a:lnTo>
                  <a:lnTo>
                    <a:pt x="13" y="4795"/>
                  </a:lnTo>
                  <a:lnTo>
                    <a:pt x="20" y="4739"/>
                  </a:lnTo>
                  <a:lnTo>
                    <a:pt x="30" y="4681"/>
                  </a:lnTo>
                  <a:lnTo>
                    <a:pt x="40" y="4623"/>
                  </a:lnTo>
                  <a:lnTo>
                    <a:pt x="52" y="4565"/>
                  </a:lnTo>
                  <a:lnTo>
                    <a:pt x="65" y="4508"/>
                  </a:lnTo>
                  <a:lnTo>
                    <a:pt x="81" y="4450"/>
                  </a:lnTo>
                  <a:lnTo>
                    <a:pt x="98" y="4392"/>
                  </a:lnTo>
                  <a:lnTo>
                    <a:pt x="117" y="4334"/>
                  </a:lnTo>
                  <a:lnTo>
                    <a:pt x="137" y="4277"/>
                  </a:lnTo>
                  <a:lnTo>
                    <a:pt x="159" y="4219"/>
                  </a:lnTo>
                  <a:lnTo>
                    <a:pt x="182" y="4161"/>
                  </a:lnTo>
                  <a:lnTo>
                    <a:pt x="207" y="4103"/>
                  </a:lnTo>
                  <a:lnTo>
                    <a:pt x="233" y="4046"/>
                  </a:lnTo>
                  <a:lnTo>
                    <a:pt x="262" y="3988"/>
                  </a:lnTo>
                  <a:lnTo>
                    <a:pt x="292" y="3930"/>
                  </a:lnTo>
                  <a:lnTo>
                    <a:pt x="323" y="3872"/>
                  </a:lnTo>
                  <a:lnTo>
                    <a:pt x="356" y="3815"/>
                  </a:lnTo>
                  <a:lnTo>
                    <a:pt x="391" y="3757"/>
                  </a:lnTo>
                  <a:lnTo>
                    <a:pt x="427" y="3699"/>
                  </a:lnTo>
                  <a:lnTo>
                    <a:pt x="465" y="3641"/>
                  </a:lnTo>
                  <a:lnTo>
                    <a:pt x="505" y="3584"/>
                  </a:lnTo>
                  <a:lnTo>
                    <a:pt x="546" y="3526"/>
                  </a:lnTo>
                  <a:lnTo>
                    <a:pt x="589" y="3468"/>
                  </a:lnTo>
                  <a:lnTo>
                    <a:pt x="633" y="3410"/>
                  </a:lnTo>
                  <a:lnTo>
                    <a:pt x="679" y="3354"/>
                  </a:lnTo>
                  <a:lnTo>
                    <a:pt x="726" y="3296"/>
                  </a:lnTo>
                  <a:lnTo>
                    <a:pt x="776" y="3238"/>
                  </a:lnTo>
                  <a:lnTo>
                    <a:pt x="827" y="3181"/>
                  </a:lnTo>
                  <a:lnTo>
                    <a:pt x="1008" y="2978"/>
                  </a:lnTo>
                  <a:lnTo>
                    <a:pt x="1086" y="2889"/>
                  </a:lnTo>
                  <a:lnTo>
                    <a:pt x="1162" y="2800"/>
                  </a:lnTo>
                  <a:lnTo>
                    <a:pt x="1235" y="2713"/>
                  </a:lnTo>
                  <a:lnTo>
                    <a:pt x="1305" y="2626"/>
                  </a:lnTo>
                  <a:lnTo>
                    <a:pt x="1374" y="2541"/>
                  </a:lnTo>
                  <a:lnTo>
                    <a:pt x="1439" y="2456"/>
                  </a:lnTo>
                  <a:lnTo>
                    <a:pt x="1501" y="2371"/>
                  </a:lnTo>
                  <a:lnTo>
                    <a:pt x="1561" y="2288"/>
                  </a:lnTo>
                  <a:lnTo>
                    <a:pt x="1619" y="2205"/>
                  </a:lnTo>
                  <a:lnTo>
                    <a:pt x="1675" y="2123"/>
                  </a:lnTo>
                  <a:lnTo>
                    <a:pt x="1727" y="2042"/>
                  </a:lnTo>
                  <a:lnTo>
                    <a:pt x="1776" y="1961"/>
                  </a:lnTo>
                  <a:lnTo>
                    <a:pt x="1825" y="1882"/>
                  </a:lnTo>
                  <a:lnTo>
                    <a:pt x="1870" y="1803"/>
                  </a:lnTo>
                  <a:lnTo>
                    <a:pt x="1912" y="1725"/>
                  </a:lnTo>
                  <a:lnTo>
                    <a:pt x="1951" y="1648"/>
                  </a:lnTo>
                  <a:lnTo>
                    <a:pt x="1990" y="1570"/>
                  </a:lnTo>
                  <a:lnTo>
                    <a:pt x="2028" y="1488"/>
                  </a:lnTo>
                  <a:lnTo>
                    <a:pt x="2065" y="1403"/>
                  </a:lnTo>
                  <a:lnTo>
                    <a:pt x="2101" y="1315"/>
                  </a:lnTo>
                  <a:lnTo>
                    <a:pt x="2138" y="1223"/>
                  </a:lnTo>
                  <a:lnTo>
                    <a:pt x="2174" y="1129"/>
                  </a:lnTo>
                  <a:lnTo>
                    <a:pt x="2208" y="1030"/>
                  </a:lnTo>
                  <a:lnTo>
                    <a:pt x="2243" y="929"/>
                  </a:lnTo>
                  <a:lnTo>
                    <a:pt x="2277" y="824"/>
                  </a:lnTo>
                  <a:lnTo>
                    <a:pt x="2310" y="716"/>
                  </a:lnTo>
                  <a:lnTo>
                    <a:pt x="2343" y="605"/>
                  </a:lnTo>
                  <a:lnTo>
                    <a:pt x="2375" y="490"/>
                  </a:lnTo>
                  <a:lnTo>
                    <a:pt x="2407" y="373"/>
                  </a:lnTo>
                  <a:lnTo>
                    <a:pt x="2438" y="252"/>
                  </a:lnTo>
                  <a:lnTo>
                    <a:pt x="2469" y="127"/>
                  </a:lnTo>
                  <a:lnTo>
                    <a:pt x="24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745080" y="2868840"/>
              <a:ext cx="1587240" cy="2384280"/>
            </a:xfrm>
            <a:custGeom>
              <a:avLst/>
              <a:gdLst/>
              <a:ahLst/>
              <a:rect l="l" t="t" r="r" b="b"/>
              <a:pathLst>
                <a:path w="5002" h="7507">
                  <a:moveTo>
                    <a:pt x="2499" y="0"/>
                  </a:moveTo>
                  <a:lnTo>
                    <a:pt x="2529" y="127"/>
                  </a:lnTo>
                  <a:lnTo>
                    <a:pt x="2561" y="252"/>
                  </a:lnTo>
                  <a:lnTo>
                    <a:pt x="2592" y="373"/>
                  </a:lnTo>
                  <a:lnTo>
                    <a:pt x="2625" y="490"/>
                  </a:lnTo>
                  <a:lnTo>
                    <a:pt x="2657" y="605"/>
                  </a:lnTo>
                  <a:lnTo>
                    <a:pt x="2690" y="716"/>
                  </a:lnTo>
                  <a:lnTo>
                    <a:pt x="2725" y="824"/>
                  </a:lnTo>
                  <a:lnTo>
                    <a:pt x="2758" y="929"/>
                  </a:lnTo>
                  <a:lnTo>
                    <a:pt x="2793" y="1030"/>
                  </a:lnTo>
                  <a:lnTo>
                    <a:pt x="2828" y="1129"/>
                  </a:lnTo>
                  <a:lnTo>
                    <a:pt x="2864" y="1223"/>
                  </a:lnTo>
                  <a:lnTo>
                    <a:pt x="2900" y="1315"/>
                  </a:lnTo>
                  <a:lnTo>
                    <a:pt x="2936" y="1403"/>
                  </a:lnTo>
                  <a:lnTo>
                    <a:pt x="2974" y="1488"/>
                  </a:lnTo>
                  <a:lnTo>
                    <a:pt x="3012" y="1570"/>
                  </a:lnTo>
                  <a:lnTo>
                    <a:pt x="3051" y="1648"/>
                  </a:lnTo>
                  <a:lnTo>
                    <a:pt x="3091" y="1725"/>
                  </a:lnTo>
                  <a:lnTo>
                    <a:pt x="3133" y="1803"/>
                  </a:lnTo>
                  <a:lnTo>
                    <a:pt x="3178" y="1882"/>
                  </a:lnTo>
                  <a:lnTo>
                    <a:pt x="3225" y="1961"/>
                  </a:lnTo>
                  <a:lnTo>
                    <a:pt x="3275" y="2042"/>
                  </a:lnTo>
                  <a:lnTo>
                    <a:pt x="3328" y="2123"/>
                  </a:lnTo>
                  <a:lnTo>
                    <a:pt x="3383" y="2205"/>
                  </a:lnTo>
                  <a:lnTo>
                    <a:pt x="3441" y="2288"/>
                  </a:lnTo>
                  <a:lnTo>
                    <a:pt x="3501" y="2371"/>
                  </a:lnTo>
                  <a:lnTo>
                    <a:pt x="3564" y="2456"/>
                  </a:lnTo>
                  <a:lnTo>
                    <a:pt x="3629" y="2541"/>
                  </a:lnTo>
                  <a:lnTo>
                    <a:pt x="3697" y="2626"/>
                  </a:lnTo>
                  <a:lnTo>
                    <a:pt x="3767" y="2713"/>
                  </a:lnTo>
                  <a:lnTo>
                    <a:pt x="3840" y="2800"/>
                  </a:lnTo>
                  <a:lnTo>
                    <a:pt x="3915" y="2889"/>
                  </a:lnTo>
                  <a:lnTo>
                    <a:pt x="3994" y="2978"/>
                  </a:lnTo>
                  <a:lnTo>
                    <a:pt x="4175" y="3181"/>
                  </a:lnTo>
                  <a:lnTo>
                    <a:pt x="4226" y="3238"/>
                  </a:lnTo>
                  <a:lnTo>
                    <a:pt x="4275" y="3296"/>
                  </a:lnTo>
                  <a:lnTo>
                    <a:pt x="4323" y="3354"/>
                  </a:lnTo>
                  <a:lnTo>
                    <a:pt x="4369" y="3410"/>
                  </a:lnTo>
                  <a:lnTo>
                    <a:pt x="4413" y="3468"/>
                  </a:lnTo>
                  <a:lnTo>
                    <a:pt x="4456" y="3526"/>
                  </a:lnTo>
                  <a:lnTo>
                    <a:pt x="4497" y="3584"/>
                  </a:lnTo>
                  <a:lnTo>
                    <a:pt x="4537" y="3641"/>
                  </a:lnTo>
                  <a:lnTo>
                    <a:pt x="4575" y="3699"/>
                  </a:lnTo>
                  <a:lnTo>
                    <a:pt x="4612" y="3757"/>
                  </a:lnTo>
                  <a:lnTo>
                    <a:pt x="4646" y="3815"/>
                  </a:lnTo>
                  <a:lnTo>
                    <a:pt x="4679" y="3872"/>
                  </a:lnTo>
                  <a:lnTo>
                    <a:pt x="4710" y="3930"/>
                  </a:lnTo>
                  <a:lnTo>
                    <a:pt x="4741" y="3988"/>
                  </a:lnTo>
                  <a:lnTo>
                    <a:pt x="4769" y="4046"/>
                  </a:lnTo>
                  <a:lnTo>
                    <a:pt x="4795" y="4103"/>
                  </a:lnTo>
                  <a:lnTo>
                    <a:pt x="4820" y="4161"/>
                  </a:lnTo>
                  <a:lnTo>
                    <a:pt x="4844" y="4219"/>
                  </a:lnTo>
                  <a:lnTo>
                    <a:pt x="4866" y="4277"/>
                  </a:lnTo>
                  <a:lnTo>
                    <a:pt x="4885" y="4334"/>
                  </a:lnTo>
                  <a:lnTo>
                    <a:pt x="4904" y="4392"/>
                  </a:lnTo>
                  <a:lnTo>
                    <a:pt x="4921" y="4450"/>
                  </a:lnTo>
                  <a:lnTo>
                    <a:pt x="4936" y="4508"/>
                  </a:lnTo>
                  <a:lnTo>
                    <a:pt x="4951" y="4565"/>
                  </a:lnTo>
                  <a:lnTo>
                    <a:pt x="4962" y="4623"/>
                  </a:lnTo>
                  <a:lnTo>
                    <a:pt x="4973" y="4681"/>
                  </a:lnTo>
                  <a:lnTo>
                    <a:pt x="4981" y="4739"/>
                  </a:lnTo>
                  <a:lnTo>
                    <a:pt x="4988" y="4795"/>
                  </a:lnTo>
                  <a:lnTo>
                    <a:pt x="4995" y="4853"/>
                  </a:lnTo>
                  <a:lnTo>
                    <a:pt x="4999" y="4911"/>
                  </a:lnTo>
                  <a:lnTo>
                    <a:pt x="5001" y="4969"/>
                  </a:lnTo>
                  <a:lnTo>
                    <a:pt x="5002" y="5026"/>
                  </a:lnTo>
                  <a:lnTo>
                    <a:pt x="5001" y="5090"/>
                  </a:lnTo>
                  <a:lnTo>
                    <a:pt x="4999" y="5152"/>
                  </a:lnTo>
                  <a:lnTo>
                    <a:pt x="4995" y="5215"/>
                  </a:lnTo>
                  <a:lnTo>
                    <a:pt x="4990" y="5277"/>
                  </a:lnTo>
                  <a:lnTo>
                    <a:pt x="4984" y="5338"/>
                  </a:lnTo>
                  <a:lnTo>
                    <a:pt x="4976" y="5399"/>
                  </a:lnTo>
                  <a:lnTo>
                    <a:pt x="4966" y="5459"/>
                  </a:lnTo>
                  <a:lnTo>
                    <a:pt x="4956" y="5518"/>
                  </a:lnTo>
                  <a:lnTo>
                    <a:pt x="4943" y="5578"/>
                  </a:lnTo>
                  <a:lnTo>
                    <a:pt x="4930" y="5635"/>
                  </a:lnTo>
                  <a:lnTo>
                    <a:pt x="4915" y="5693"/>
                  </a:lnTo>
                  <a:lnTo>
                    <a:pt x="4898" y="5751"/>
                  </a:lnTo>
                  <a:lnTo>
                    <a:pt x="4880" y="5808"/>
                  </a:lnTo>
                  <a:lnTo>
                    <a:pt x="4860" y="5863"/>
                  </a:lnTo>
                  <a:lnTo>
                    <a:pt x="4839" y="5919"/>
                  </a:lnTo>
                  <a:lnTo>
                    <a:pt x="4817" y="5974"/>
                  </a:lnTo>
                  <a:lnTo>
                    <a:pt x="4794" y="6028"/>
                  </a:lnTo>
                  <a:lnTo>
                    <a:pt x="4769" y="6083"/>
                  </a:lnTo>
                  <a:lnTo>
                    <a:pt x="4742" y="6135"/>
                  </a:lnTo>
                  <a:lnTo>
                    <a:pt x="4714" y="6189"/>
                  </a:lnTo>
                  <a:lnTo>
                    <a:pt x="4684" y="6240"/>
                  </a:lnTo>
                  <a:lnTo>
                    <a:pt x="4654" y="6293"/>
                  </a:lnTo>
                  <a:lnTo>
                    <a:pt x="4621" y="6343"/>
                  </a:lnTo>
                  <a:lnTo>
                    <a:pt x="4588" y="6394"/>
                  </a:lnTo>
                  <a:lnTo>
                    <a:pt x="4552" y="6444"/>
                  </a:lnTo>
                  <a:lnTo>
                    <a:pt x="4515" y="6493"/>
                  </a:lnTo>
                  <a:lnTo>
                    <a:pt x="4477" y="6542"/>
                  </a:lnTo>
                  <a:lnTo>
                    <a:pt x="4438" y="6590"/>
                  </a:lnTo>
                  <a:lnTo>
                    <a:pt x="4397" y="6638"/>
                  </a:lnTo>
                  <a:lnTo>
                    <a:pt x="4354" y="6684"/>
                  </a:lnTo>
                  <a:lnTo>
                    <a:pt x="4310" y="6732"/>
                  </a:lnTo>
                  <a:lnTo>
                    <a:pt x="4264" y="6777"/>
                  </a:lnTo>
                  <a:lnTo>
                    <a:pt x="4218" y="6822"/>
                  </a:lnTo>
                  <a:lnTo>
                    <a:pt x="4171" y="6866"/>
                  </a:lnTo>
                  <a:lnTo>
                    <a:pt x="4124" y="6908"/>
                  </a:lnTo>
                  <a:lnTo>
                    <a:pt x="4076" y="6948"/>
                  </a:lnTo>
                  <a:lnTo>
                    <a:pt x="4027" y="6988"/>
                  </a:lnTo>
                  <a:lnTo>
                    <a:pt x="3978" y="7026"/>
                  </a:lnTo>
                  <a:lnTo>
                    <a:pt x="3928" y="7061"/>
                  </a:lnTo>
                  <a:lnTo>
                    <a:pt x="3877" y="7097"/>
                  </a:lnTo>
                  <a:lnTo>
                    <a:pt x="3827" y="7131"/>
                  </a:lnTo>
                  <a:lnTo>
                    <a:pt x="3776" y="7162"/>
                  </a:lnTo>
                  <a:lnTo>
                    <a:pt x="3723" y="7193"/>
                  </a:lnTo>
                  <a:lnTo>
                    <a:pt x="3671" y="7222"/>
                  </a:lnTo>
                  <a:lnTo>
                    <a:pt x="3617" y="7250"/>
                  </a:lnTo>
                  <a:lnTo>
                    <a:pt x="3564" y="7277"/>
                  </a:lnTo>
                  <a:lnTo>
                    <a:pt x="3509" y="7302"/>
                  </a:lnTo>
                  <a:lnTo>
                    <a:pt x="3455" y="7325"/>
                  </a:lnTo>
                  <a:lnTo>
                    <a:pt x="3399" y="7347"/>
                  </a:lnTo>
                  <a:lnTo>
                    <a:pt x="3342" y="7368"/>
                  </a:lnTo>
                  <a:lnTo>
                    <a:pt x="3286" y="7387"/>
                  </a:lnTo>
                  <a:lnTo>
                    <a:pt x="3229" y="7405"/>
                  </a:lnTo>
                  <a:lnTo>
                    <a:pt x="3171" y="7421"/>
                  </a:lnTo>
                  <a:lnTo>
                    <a:pt x="3113" y="7436"/>
                  </a:lnTo>
                  <a:lnTo>
                    <a:pt x="3054" y="7450"/>
                  </a:lnTo>
                  <a:lnTo>
                    <a:pt x="2995" y="7461"/>
                  </a:lnTo>
                  <a:lnTo>
                    <a:pt x="2934" y="7472"/>
                  </a:lnTo>
                  <a:lnTo>
                    <a:pt x="2875" y="7481"/>
                  </a:lnTo>
                  <a:lnTo>
                    <a:pt x="2813" y="7490"/>
                  </a:lnTo>
                  <a:lnTo>
                    <a:pt x="2752" y="7496"/>
                  </a:lnTo>
                  <a:lnTo>
                    <a:pt x="2689" y="7500"/>
                  </a:lnTo>
                  <a:lnTo>
                    <a:pt x="2626" y="7504"/>
                  </a:lnTo>
                  <a:lnTo>
                    <a:pt x="2563" y="7507"/>
                  </a:lnTo>
                  <a:lnTo>
                    <a:pt x="2499" y="7507"/>
                  </a:lnTo>
                  <a:lnTo>
                    <a:pt x="2435" y="7507"/>
                  </a:lnTo>
                  <a:lnTo>
                    <a:pt x="2372" y="7504"/>
                  </a:lnTo>
                  <a:lnTo>
                    <a:pt x="2309" y="7500"/>
                  </a:lnTo>
                  <a:lnTo>
                    <a:pt x="2247" y="7496"/>
                  </a:lnTo>
                  <a:lnTo>
                    <a:pt x="2186" y="7490"/>
                  </a:lnTo>
                  <a:lnTo>
                    <a:pt x="2126" y="7481"/>
                  </a:lnTo>
                  <a:lnTo>
                    <a:pt x="2065" y="7472"/>
                  </a:lnTo>
                  <a:lnTo>
                    <a:pt x="2005" y="7461"/>
                  </a:lnTo>
                  <a:lnTo>
                    <a:pt x="1946" y="7450"/>
                  </a:lnTo>
                  <a:lnTo>
                    <a:pt x="1888" y="7436"/>
                  </a:lnTo>
                  <a:lnTo>
                    <a:pt x="1829" y="7421"/>
                  </a:lnTo>
                  <a:lnTo>
                    <a:pt x="1771" y="7405"/>
                  </a:lnTo>
                  <a:lnTo>
                    <a:pt x="1714" y="7387"/>
                  </a:lnTo>
                  <a:lnTo>
                    <a:pt x="1658" y="7368"/>
                  </a:lnTo>
                  <a:lnTo>
                    <a:pt x="1602" y="7347"/>
                  </a:lnTo>
                  <a:lnTo>
                    <a:pt x="1547" y="7325"/>
                  </a:lnTo>
                  <a:lnTo>
                    <a:pt x="1492" y="7302"/>
                  </a:lnTo>
                  <a:lnTo>
                    <a:pt x="1437" y="7277"/>
                  </a:lnTo>
                  <a:lnTo>
                    <a:pt x="1384" y="7250"/>
                  </a:lnTo>
                  <a:lnTo>
                    <a:pt x="1330" y="7222"/>
                  </a:lnTo>
                  <a:lnTo>
                    <a:pt x="1278" y="7193"/>
                  </a:lnTo>
                  <a:lnTo>
                    <a:pt x="1227" y="7162"/>
                  </a:lnTo>
                  <a:lnTo>
                    <a:pt x="1175" y="7131"/>
                  </a:lnTo>
                  <a:lnTo>
                    <a:pt x="1124" y="7097"/>
                  </a:lnTo>
                  <a:lnTo>
                    <a:pt x="1073" y="7061"/>
                  </a:lnTo>
                  <a:lnTo>
                    <a:pt x="1024" y="7026"/>
                  </a:lnTo>
                  <a:lnTo>
                    <a:pt x="975" y="6988"/>
                  </a:lnTo>
                  <a:lnTo>
                    <a:pt x="927" y="6948"/>
                  </a:lnTo>
                  <a:lnTo>
                    <a:pt x="878" y="6908"/>
                  </a:lnTo>
                  <a:lnTo>
                    <a:pt x="831" y="6866"/>
                  </a:lnTo>
                  <a:lnTo>
                    <a:pt x="784" y="6822"/>
                  </a:lnTo>
                  <a:lnTo>
                    <a:pt x="738" y="6777"/>
                  </a:lnTo>
                  <a:lnTo>
                    <a:pt x="692" y="6732"/>
                  </a:lnTo>
                  <a:lnTo>
                    <a:pt x="648" y="6684"/>
                  </a:lnTo>
                  <a:lnTo>
                    <a:pt x="606" y="6638"/>
                  </a:lnTo>
                  <a:lnTo>
                    <a:pt x="565" y="6590"/>
                  </a:lnTo>
                  <a:lnTo>
                    <a:pt x="525" y="6542"/>
                  </a:lnTo>
                  <a:lnTo>
                    <a:pt x="487" y="6493"/>
                  </a:lnTo>
                  <a:lnTo>
                    <a:pt x="450" y="6444"/>
                  </a:lnTo>
                  <a:lnTo>
                    <a:pt x="415" y="6394"/>
                  </a:lnTo>
                  <a:lnTo>
                    <a:pt x="381" y="6343"/>
                  </a:lnTo>
                  <a:lnTo>
                    <a:pt x="349" y="6293"/>
                  </a:lnTo>
                  <a:lnTo>
                    <a:pt x="317" y="6240"/>
                  </a:lnTo>
                  <a:lnTo>
                    <a:pt x="288" y="6189"/>
                  </a:lnTo>
                  <a:lnTo>
                    <a:pt x="261" y="6135"/>
                  </a:lnTo>
                  <a:lnTo>
                    <a:pt x="233" y="6083"/>
                  </a:lnTo>
                  <a:lnTo>
                    <a:pt x="208" y="6028"/>
                  </a:lnTo>
                  <a:lnTo>
                    <a:pt x="185" y="5974"/>
                  </a:lnTo>
                  <a:lnTo>
                    <a:pt x="162" y="5919"/>
                  </a:lnTo>
                  <a:lnTo>
                    <a:pt x="141" y="5863"/>
                  </a:lnTo>
                  <a:lnTo>
                    <a:pt x="122" y="5808"/>
                  </a:lnTo>
                  <a:lnTo>
                    <a:pt x="104" y="5751"/>
                  </a:lnTo>
                  <a:lnTo>
                    <a:pt x="87" y="5693"/>
                  </a:lnTo>
                  <a:lnTo>
                    <a:pt x="73" y="5635"/>
                  </a:lnTo>
                  <a:lnTo>
                    <a:pt x="59" y="5578"/>
                  </a:lnTo>
                  <a:lnTo>
                    <a:pt x="47" y="5518"/>
                  </a:lnTo>
                  <a:lnTo>
                    <a:pt x="36" y="5459"/>
                  </a:lnTo>
                  <a:lnTo>
                    <a:pt x="27" y="5399"/>
                  </a:lnTo>
                  <a:lnTo>
                    <a:pt x="18" y="5338"/>
                  </a:lnTo>
                  <a:lnTo>
                    <a:pt x="12" y="5277"/>
                  </a:lnTo>
                  <a:lnTo>
                    <a:pt x="7" y="5215"/>
                  </a:lnTo>
                  <a:lnTo>
                    <a:pt x="4" y="5152"/>
                  </a:lnTo>
                  <a:lnTo>
                    <a:pt x="1" y="5090"/>
                  </a:lnTo>
                  <a:lnTo>
                    <a:pt x="0" y="5026"/>
                  </a:lnTo>
                  <a:lnTo>
                    <a:pt x="1" y="4969"/>
                  </a:lnTo>
                  <a:lnTo>
                    <a:pt x="4" y="4911"/>
                  </a:lnTo>
                  <a:lnTo>
                    <a:pt x="8" y="4853"/>
                  </a:lnTo>
                  <a:lnTo>
                    <a:pt x="13" y="4795"/>
                  </a:lnTo>
                  <a:lnTo>
                    <a:pt x="20" y="4739"/>
                  </a:lnTo>
                  <a:lnTo>
                    <a:pt x="30" y="4681"/>
                  </a:lnTo>
                  <a:lnTo>
                    <a:pt x="40" y="4623"/>
                  </a:lnTo>
                  <a:lnTo>
                    <a:pt x="52" y="4565"/>
                  </a:lnTo>
                  <a:lnTo>
                    <a:pt x="65" y="4508"/>
                  </a:lnTo>
                  <a:lnTo>
                    <a:pt x="81" y="4450"/>
                  </a:lnTo>
                  <a:lnTo>
                    <a:pt x="98" y="4392"/>
                  </a:lnTo>
                  <a:lnTo>
                    <a:pt x="117" y="4334"/>
                  </a:lnTo>
                  <a:lnTo>
                    <a:pt x="137" y="4277"/>
                  </a:lnTo>
                  <a:lnTo>
                    <a:pt x="159" y="4219"/>
                  </a:lnTo>
                  <a:lnTo>
                    <a:pt x="182" y="4161"/>
                  </a:lnTo>
                  <a:lnTo>
                    <a:pt x="207" y="4103"/>
                  </a:lnTo>
                  <a:lnTo>
                    <a:pt x="233" y="4046"/>
                  </a:lnTo>
                  <a:lnTo>
                    <a:pt x="262" y="3988"/>
                  </a:lnTo>
                  <a:lnTo>
                    <a:pt x="292" y="3930"/>
                  </a:lnTo>
                  <a:lnTo>
                    <a:pt x="323" y="3872"/>
                  </a:lnTo>
                  <a:lnTo>
                    <a:pt x="356" y="3815"/>
                  </a:lnTo>
                  <a:lnTo>
                    <a:pt x="391" y="3757"/>
                  </a:lnTo>
                  <a:lnTo>
                    <a:pt x="427" y="3699"/>
                  </a:lnTo>
                  <a:lnTo>
                    <a:pt x="465" y="3641"/>
                  </a:lnTo>
                  <a:lnTo>
                    <a:pt x="505" y="3584"/>
                  </a:lnTo>
                  <a:lnTo>
                    <a:pt x="546" y="3526"/>
                  </a:lnTo>
                  <a:lnTo>
                    <a:pt x="589" y="3468"/>
                  </a:lnTo>
                  <a:lnTo>
                    <a:pt x="633" y="3410"/>
                  </a:lnTo>
                  <a:lnTo>
                    <a:pt x="679" y="3354"/>
                  </a:lnTo>
                  <a:lnTo>
                    <a:pt x="726" y="3296"/>
                  </a:lnTo>
                  <a:lnTo>
                    <a:pt x="776" y="3238"/>
                  </a:lnTo>
                  <a:lnTo>
                    <a:pt x="827" y="3181"/>
                  </a:lnTo>
                  <a:lnTo>
                    <a:pt x="1008" y="2978"/>
                  </a:lnTo>
                  <a:lnTo>
                    <a:pt x="1086" y="2889"/>
                  </a:lnTo>
                  <a:lnTo>
                    <a:pt x="1162" y="2800"/>
                  </a:lnTo>
                  <a:lnTo>
                    <a:pt x="1235" y="2713"/>
                  </a:lnTo>
                  <a:lnTo>
                    <a:pt x="1305" y="2626"/>
                  </a:lnTo>
                  <a:lnTo>
                    <a:pt x="1374" y="2541"/>
                  </a:lnTo>
                  <a:lnTo>
                    <a:pt x="1439" y="2456"/>
                  </a:lnTo>
                  <a:lnTo>
                    <a:pt x="1501" y="2371"/>
                  </a:lnTo>
                  <a:lnTo>
                    <a:pt x="1561" y="2288"/>
                  </a:lnTo>
                  <a:lnTo>
                    <a:pt x="1619" y="2205"/>
                  </a:lnTo>
                  <a:lnTo>
                    <a:pt x="1675" y="2123"/>
                  </a:lnTo>
                  <a:lnTo>
                    <a:pt x="1727" y="2042"/>
                  </a:lnTo>
                  <a:lnTo>
                    <a:pt x="1776" y="1961"/>
                  </a:lnTo>
                  <a:lnTo>
                    <a:pt x="1825" y="1882"/>
                  </a:lnTo>
                  <a:lnTo>
                    <a:pt x="1870" y="1803"/>
                  </a:lnTo>
                  <a:lnTo>
                    <a:pt x="1912" y="1725"/>
                  </a:lnTo>
                  <a:lnTo>
                    <a:pt x="1951" y="1648"/>
                  </a:lnTo>
                  <a:lnTo>
                    <a:pt x="1990" y="1570"/>
                  </a:lnTo>
                  <a:lnTo>
                    <a:pt x="2028" y="1488"/>
                  </a:lnTo>
                  <a:lnTo>
                    <a:pt x="2065" y="1403"/>
                  </a:lnTo>
                  <a:lnTo>
                    <a:pt x="2101" y="1315"/>
                  </a:lnTo>
                  <a:lnTo>
                    <a:pt x="2138" y="1223"/>
                  </a:lnTo>
                  <a:lnTo>
                    <a:pt x="2174" y="1129"/>
                  </a:lnTo>
                  <a:lnTo>
                    <a:pt x="2208" y="1030"/>
                  </a:lnTo>
                  <a:lnTo>
                    <a:pt x="2243" y="929"/>
                  </a:lnTo>
                  <a:lnTo>
                    <a:pt x="2277" y="824"/>
                  </a:lnTo>
                  <a:lnTo>
                    <a:pt x="2310" y="716"/>
                  </a:lnTo>
                  <a:lnTo>
                    <a:pt x="2343" y="605"/>
                  </a:lnTo>
                  <a:lnTo>
                    <a:pt x="2375" y="490"/>
                  </a:lnTo>
                  <a:lnTo>
                    <a:pt x="2407" y="373"/>
                  </a:lnTo>
                  <a:lnTo>
                    <a:pt x="2438" y="252"/>
                  </a:lnTo>
                  <a:lnTo>
                    <a:pt x="2469" y="127"/>
                  </a:lnTo>
                  <a:lnTo>
                    <a:pt x="249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765520" y="2286000"/>
              <a:ext cx="3546360" cy="3549600"/>
            </a:xfrm>
            <a:custGeom>
              <a:avLst/>
              <a:gdLst/>
              <a:ahLst/>
              <a:rect l="l" t="t" r="r" b="b"/>
              <a:pathLst>
                <a:path w="11170" h="11181">
                  <a:moveTo>
                    <a:pt x="5585" y="0"/>
                  </a:moveTo>
                  <a:lnTo>
                    <a:pt x="5872" y="7"/>
                  </a:lnTo>
                  <a:lnTo>
                    <a:pt x="6155" y="29"/>
                  </a:lnTo>
                  <a:lnTo>
                    <a:pt x="6434" y="65"/>
                  </a:lnTo>
                  <a:lnTo>
                    <a:pt x="6709" y="114"/>
                  </a:lnTo>
                  <a:lnTo>
                    <a:pt x="6978" y="176"/>
                  </a:lnTo>
                  <a:lnTo>
                    <a:pt x="7243" y="252"/>
                  </a:lnTo>
                  <a:lnTo>
                    <a:pt x="7502" y="340"/>
                  </a:lnTo>
                  <a:lnTo>
                    <a:pt x="7755" y="441"/>
                  </a:lnTo>
                  <a:lnTo>
                    <a:pt x="8003" y="553"/>
                  </a:lnTo>
                  <a:lnTo>
                    <a:pt x="8243" y="676"/>
                  </a:lnTo>
                  <a:lnTo>
                    <a:pt x="8477" y="811"/>
                  </a:lnTo>
                  <a:lnTo>
                    <a:pt x="8704" y="957"/>
                  </a:lnTo>
                  <a:lnTo>
                    <a:pt x="8923" y="1113"/>
                  </a:lnTo>
                  <a:lnTo>
                    <a:pt x="9134" y="1280"/>
                  </a:lnTo>
                  <a:lnTo>
                    <a:pt x="9337" y="1455"/>
                  </a:lnTo>
                  <a:lnTo>
                    <a:pt x="9531" y="1641"/>
                  </a:lnTo>
                  <a:lnTo>
                    <a:pt x="9716" y="1835"/>
                  </a:lnTo>
                  <a:lnTo>
                    <a:pt x="9892" y="2038"/>
                  </a:lnTo>
                  <a:lnTo>
                    <a:pt x="10058" y="2249"/>
                  </a:lnTo>
                  <a:lnTo>
                    <a:pt x="10214" y="2468"/>
                  </a:lnTo>
                  <a:lnTo>
                    <a:pt x="10359" y="2695"/>
                  </a:lnTo>
                  <a:lnTo>
                    <a:pt x="10494" y="2929"/>
                  </a:lnTo>
                  <a:lnTo>
                    <a:pt x="10618" y="3171"/>
                  </a:lnTo>
                  <a:lnTo>
                    <a:pt x="10730" y="3417"/>
                  </a:lnTo>
                  <a:lnTo>
                    <a:pt x="10830" y="3671"/>
                  </a:lnTo>
                  <a:lnTo>
                    <a:pt x="10918" y="3931"/>
                  </a:lnTo>
                  <a:lnTo>
                    <a:pt x="10994" y="4196"/>
                  </a:lnTo>
                  <a:lnTo>
                    <a:pt x="11057" y="4466"/>
                  </a:lnTo>
                  <a:lnTo>
                    <a:pt x="11106" y="4741"/>
                  </a:lnTo>
                  <a:lnTo>
                    <a:pt x="11142" y="5021"/>
                  </a:lnTo>
                  <a:lnTo>
                    <a:pt x="11163" y="5303"/>
                  </a:lnTo>
                  <a:lnTo>
                    <a:pt x="11170" y="5591"/>
                  </a:lnTo>
                  <a:lnTo>
                    <a:pt x="11163" y="5877"/>
                  </a:lnTo>
                  <a:lnTo>
                    <a:pt x="11142" y="6161"/>
                  </a:lnTo>
                  <a:lnTo>
                    <a:pt x="11106" y="6440"/>
                  </a:lnTo>
                  <a:lnTo>
                    <a:pt x="11057" y="6714"/>
                  </a:lnTo>
                  <a:lnTo>
                    <a:pt x="10994" y="6985"/>
                  </a:lnTo>
                  <a:lnTo>
                    <a:pt x="10918" y="7250"/>
                  </a:lnTo>
                  <a:lnTo>
                    <a:pt x="10830" y="7509"/>
                  </a:lnTo>
                  <a:lnTo>
                    <a:pt x="10730" y="7763"/>
                  </a:lnTo>
                  <a:lnTo>
                    <a:pt x="10618" y="8011"/>
                  </a:lnTo>
                  <a:lnTo>
                    <a:pt x="10494" y="8252"/>
                  </a:lnTo>
                  <a:lnTo>
                    <a:pt x="10359" y="8486"/>
                  </a:lnTo>
                  <a:lnTo>
                    <a:pt x="10214" y="8712"/>
                  </a:lnTo>
                  <a:lnTo>
                    <a:pt x="10058" y="8932"/>
                  </a:lnTo>
                  <a:lnTo>
                    <a:pt x="9892" y="9143"/>
                  </a:lnTo>
                  <a:lnTo>
                    <a:pt x="9716" y="9347"/>
                  </a:lnTo>
                  <a:lnTo>
                    <a:pt x="9531" y="9541"/>
                  </a:lnTo>
                  <a:lnTo>
                    <a:pt x="9337" y="9726"/>
                  </a:lnTo>
                  <a:lnTo>
                    <a:pt x="9134" y="9902"/>
                  </a:lnTo>
                  <a:lnTo>
                    <a:pt x="8923" y="10068"/>
                  </a:lnTo>
                  <a:lnTo>
                    <a:pt x="8704" y="10224"/>
                  </a:lnTo>
                  <a:lnTo>
                    <a:pt x="8477" y="10369"/>
                  </a:lnTo>
                  <a:lnTo>
                    <a:pt x="8243" y="10505"/>
                  </a:lnTo>
                  <a:lnTo>
                    <a:pt x="8003" y="10629"/>
                  </a:lnTo>
                  <a:lnTo>
                    <a:pt x="7755" y="10740"/>
                  </a:lnTo>
                  <a:lnTo>
                    <a:pt x="7502" y="10841"/>
                  </a:lnTo>
                  <a:lnTo>
                    <a:pt x="7243" y="10929"/>
                  </a:lnTo>
                  <a:lnTo>
                    <a:pt x="6978" y="11005"/>
                  </a:lnTo>
                  <a:lnTo>
                    <a:pt x="6709" y="11068"/>
                  </a:lnTo>
                  <a:lnTo>
                    <a:pt x="6434" y="11117"/>
                  </a:lnTo>
                  <a:lnTo>
                    <a:pt x="6155" y="11152"/>
                  </a:lnTo>
                  <a:lnTo>
                    <a:pt x="5872" y="11174"/>
                  </a:lnTo>
                  <a:lnTo>
                    <a:pt x="5585" y="11181"/>
                  </a:lnTo>
                  <a:lnTo>
                    <a:pt x="5299" y="11174"/>
                  </a:lnTo>
                  <a:lnTo>
                    <a:pt x="5016" y="11152"/>
                  </a:lnTo>
                  <a:lnTo>
                    <a:pt x="4737" y="11117"/>
                  </a:lnTo>
                  <a:lnTo>
                    <a:pt x="4462" y="11068"/>
                  </a:lnTo>
                  <a:lnTo>
                    <a:pt x="4192" y="11005"/>
                  </a:lnTo>
                  <a:lnTo>
                    <a:pt x="3928" y="10929"/>
                  </a:lnTo>
                  <a:lnTo>
                    <a:pt x="3668" y="10841"/>
                  </a:lnTo>
                  <a:lnTo>
                    <a:pt x="3415" y="10740"/>
                  </a:lnTo>
                  <a:lnTo>
                    <a:pt x="3167" y="10629"/>
                  </a:lnTo>
                  <a:lnTo>
                    <a:pt x="2927" y="10505"/>
                  </a:lnTo>
                  <a:lnTo>
                    <a:pt x="2693" y="10369"/>
                  </a:lnTo>
                  <a:lnTo>
                    <a:pt x="2467" y="10224"/>
                  </a:lnTo>
                  <a:lnTo>
                    <a:pt x="2247" y="10068"/>
                  </a:lnTo>
                  <a:lnTo>
                    <a:pt x="2036" y="9902"/>
                  </a:lnTo>
                  <a:lnTo>
                    <a:pt x="1833" y="9726"/>
                  </a:lnTo>
                  <a:lnTo>
                    <a:pt x="1639" y="9541"/>
                  </a:lnTo>
                  <a:lnTo>
                    <a:pt x="1454" y="9347"/>
                  </a:lnTo>
                  <a:lnTo>
                    <a:pt x="1278" y="9143"/>
                  </a:lnTo>
                  <a:lnTo>
                    <a:pt x="1112" y="8932"/>
                  </a:lnTo>
                  <a:lnTo>
                    <a:pt x="956" y="8712"/>
                  </a:lnTo>
                  <a:lnTo>
                    <a:pt x="810" y="8486"/>
                  </a:lnTo>
                  <a:lnTo>
                    <a:pt x="676" y="8252"/>
                  </a:lnTo>
                  <a:lnTo>
                    <a:pt x="552" y="8011"/>
                  </a:lnTo>
                  <a:lnTo>
                    <a:pt x="440" y="7763"/>
                  </a:lnTo>
                  <a:lnTo>
                    <a:pt x="340" y="7509"/>
                  </a:lnTo>
                  <a:lnTo>
                    <a:pt x="252" y="7250"/>
                  </a:lnTo>
                  <a:lnTo>
                    <a:pt x="177" y="6985"/>
                  </a:lnTo>
                  <a:lnTo>
                    <a:pt x="114" y="6714"/>
                  </a:lnTo>
                  <a:lnTo>
                    <a:pt x="64" y="6440"/>
                  </a:lnTo>
                  <a:lnTo>
                    <a:pt x="29" y="6161"/>
                  </a:lnTo>
                  <a:lnTo>
                    <a:pt x="8" y="5877"/>
                  </a:lnTo>
                  <a:lnTo>
                    <a:pt x="0" y="5591"/>
                  </a:lnTo>
                  <a:lnTo>
                    <a:pt x="8" y="5303"/>
                  </a:lnTo>
                  <a:lnTo>
                    <a:pt x="29" y="5021"/>
                  </a:lnTo>
                  <a:lnTo>
                    <a:pt x="64" y="4741"/>
                  </a:lnTo>
                  <a:lnTo>
                    <a:pt x="114" y="4466"/>
                  </a:lnTo>
                  <a:lnTo>
                    <a:pt x="177" y="4196"/>
                  </a:lnTo>
                  <a:lnTo>
                    <a:pt x="252" y="3931"/>
                  </a:lnTo>
                  <a:lnTo>
                    <a:pt x="340" y="3671"/>
                  </a:lnTo>
                  <a:lnTo>
                    <a:pt x="440" y="3417"/>
                  </a:lnTo>
                  <a:lnTo>
                    <a:pt x="552" y="3171"/>
                  </a:lnTo>
                  <a:lnTo>
                    <a:pt x="676" y="2929"/>
                  </a:lnTo>
                  <a:lnTo>
                    <a:pt x="810" y="2695"/>
                  </a:lnTo>
                  <a:lnTo>
                    <a:pt x="956" y="2468"/>
                  </a:lnTo>
                  <a:lnTo>
                    <a:pt x="1112" y="2249"/>
                  </a:lnTo>
                  <a:lnTo>
                    <a:pt x="1278" y="2038"/>
                  </a:lnTo>
                  <a:lnTo>
                    <a:pt x="1454" y="1835"/>
                  </a:lnTo>
                  <a:lnTo>
                    <a:pt x="1639" y="1641"/>
                  </a:lnTo>
                  <a:lnTo>
                    <a:pt x="1833" y="1455"/>
                  </a:lnTo>
                  <a:lnTo>
                    <a:pt x="2036" y="1280"/>
                  </a:lnTo>
                  <a:lnTo>
                    <a:pt x="2247" y="1113"/>
                  </a:lnTo>
                  <a:lnTo>
                    <a:pt x="2467" y="957"/>
                  </a:lnTo>
                  <a:lnTo>
                    <a:pt x="2693" y="811"/>
                  </a:lnTo>
                  <a:lnTo>
                    <a:pt x="2927" y="676"/>
                  </a:lnTo>
                  <a:lnTo>
                    <a:pt x="3167" y="553"/>
                  </a:lnTo>
                  <a:lnTo>
                    <a:pt x="3415" y="441"/>
                  </a:lnTo>
                  <a:lnTo>
                    <a:pt x="3668" y="340"/>
                  </a:lnTo>
                  <a:lnTo>
                    <a:pt x="3928" y="252"/>
                  </a:lnTo>
                  <a:lnTo>
                    <a:pt x="4192" y="176"/>
                  </a:lnTo>
                  <a:lnTo>
                    <a:pt x="4462" y="114"/>
                  </a:lnTo>
                  <a:lnTo>
                    <a:pt x="4737" y="65"/>
                  </a:lnTo>
                  <a:lnTo>
                    <a:pt x="5016" y="29"/>
                  </a:lnTo>
                  <a:lnTo>
                    <a:pt x="5299" y="7"/>
                  </a:lnTo>
                  <a:lnTo>
                    <a:pt x="5585" y="0"/>
                  </a:lnTo>
                  <a:close/>
                  <a:moveTo>
                    <a:pt x="1981" y="8796"/>
                  </a:moveTo>
                  <a:lnTo>
                    <a:pt x="8789" y="1983"/>
                  </a:lnTo>
                  <a:lnTo>
                    <a:pt x="8708" y="1913"/>
                  </a:lnTo>
                  <a:lnTo>
                    <a:pt x="8625" y="1843"/>
                  </a:lnTo>
                  <a:lnTo>
                    <a:pt x="8541" y="1777"/>
                  </a:lnTo>
                  <a:lnTo>
                    <a:pt x="8456" y="1712"/>
                  </a:lnTo>
                  <a:lnTo>
                    <a:pt x="8369" y="1649"/>
                  </a:lnTo>
                  <a:lnTo>
                    <a:pt x="8281" y="1588"/>
                  </a:lnTo>
                  <a:lnTo>
                    <a:pt x="8192" y="1528"/>
                  </a:lnTo>
                  <a:lnTo>
                    <a:pt x="8101" y="1471"/>
                  </a:lnTo>
                  <a:lnTo>
                    <a:pt x="8008" y="1416"/>
                  </a:lnTo>
                  <a:lnTo>
                    <a:pt x="7915" y="1362"/>
                  </a:lnTo>
                  <a:lnTo>
                    <a:pt x="7819" y="1311"/>
                  </a:lnTo>
                  <a:lnTo>
                    <a:pt x="7724" y="1262"/>
                  </a:lnTo>
                  <a:lnTo>
                    <a:pt x="7626" y="1214"/>
                  </a:lnTo>
                  <a:lnTo>
                    <a:pt x="7528" y="1169"/>
                  </a:lnTo>
                  <a:lnTo>
                    <a:pt x="7428" y="1127"/>
                  </a:lnTo>
                  <a:lnTo>
                    <a:pt x="7327" y="1086"/>
                  </a:lnTo>
                  <a:lnTo>
                    <a:pt x="7225" y="1047"/>
                  </a:lnTo>
                  <a:lnTo>
                    <a:pt x="7122" y="1012"/>
                  </a:lnTo>
                  <a:lnTo>
                    <a:pt x="7018" y="978"/>
                  </a:lnTo>
                  <a:lnTo>
                    <a:pt x="6913" y="947"/>
                  </a:lnTo>
                  <a:lnTo>
                    <a:pt x="6807" y="917"/>
                  </a:lnTo>
                  <a:lnTo>
                    <a:pt x="6700" y="890"/>
                  </a:lnTo>
                  <a:lnTo>
                    <a:pt x="6592" y="866"/>
                  </a:lnTo>
                  <a:lnTo>
                    <a:pt x="6483" y="844"/>
                  </a:lnTo>
                  <a:lnTo>
                    <a:pt x="6374" y="825"/>
                  </a:lnTo>
                  <a:lnTo>
                    <a:pt x="6264" y="807"/>
                  </a:lnTo>
                  <a:lnTo>
                    <a:pt x="6152" y="793"/>
                  </a:lnTo>
                  <a:lnTo>
                    <a:pt x="6040" y="781"/>
                  </a:lnTo>
                  <a:lnTo>
                    <a:pt x="5927" y="771"/>
                  </a:lnTo>
                  <a:lnTo>
                    <a:pt x="5814" y="765"/>
                  </a:lnTo>
                  <a:lnTo>
                    <a:pt x="5699" y="761"/>
                  </a:lnTo>
                  <a:lnTo>
                    <a:pt x="5585" y="760"/>
                  </a:lnTo>
                  <a:lnTo>
                    <a:pt x="5338" y="766"/>
                  </a:lnTo>
                  <a:lnTo>
                    <a:pt x="5093" y="785"/>
                  </a:lnTo>
                  <a:lnTo>
                    <a:pt x="4852" y="815"/>
                  </a:lnTo>
                  <a:lnTo>
                    <a:pt x="4615" y="858"/>
                  </a:lnTo>
                  <a:lnTo>
                    <a:pt x="4381" y="912"/>
                  </a:lnTo>
                  <a:lnTo>
                    <a:pt x="4152" y="977"/>
                  </a:lnTo>
                  <a:lnTo>
                    <a:pt x="3929" y="1054"/>
                  </a:lnTo>
                  <a:lnTo>
                    <a:pt x="3710" y="1140"/>
                  </a:lnTo>
                  <a:lnTo>
                    <a:pt x="3496" y="1238"/>
                  </a:lnTo>
                  <a:lnTo>
                    <a:pt x="3288" y="1345"/>
                  </a:lnTo>
                  <a:lnTo>
                    <a:pt x="3085" y="1461"/>
                  </a:lnTo>
                  <a:lnTo>
                    <a:pt x="2890" y="1586"/>
                  </a:lnTo>
                  <a:lnTo>
                    <a:pt x="2700" y="1722"/>
                  </a:lnTo>
                  <a:lnTo>
                    <a:pt x="2518" y="1865"/>
                  </a:lnTo>
                  <a:lnTo>
                    <a:pt x="2343" y="2018"/>
                  </a:lnTo>
                  <a:lnTo>
                    <a:pt x="2175" y="2177"/>
                  </a:lnTo>
                  <a:lnTo>
                    <a:pt x="2015" y="2345"/>
                  </a:lnTo>
                  <a:lnTo>
                    <a:pt x="1863" y="2521"/>
                  </a:lnTo>
                  <a:lnTo>
                    <a:pt x="1720" y="2703"/>
                  </a:lnTo>
                  <a:lnTo>
                    <a:pt x="1585" y="2892"/>
                  </a:lnTo>
                  <a:lnTo>
                    <a:pt x="1460" y="3089"/>
                  </a:lnTo>
                  <a:lnTo>
                    <a:pt x="1343" y="3291"/>
                  </a:lnTo>
                  <a:lnTo>
                    <a:pt x="1236" y="3499"/>
                  </a:lnTo>
                  <a:lnTo>
                    <a:pt x="1140" y="3713"/>
                  </a:lnTo>
                  <a:lnTo>
                    <a:pt x="1053" y="3933"/>
                  </a:lnTo>
                  <a:lnTo>
                    <a:pt x="977" y="4157"/>
                  </a:lnTo>
                  <a:lnTo>
                    <a:pt x="912" y="4385"/>
                  </a:lnTo>
                  <a:lnTo>
                    <a:pt x="857" y="4619"/>
                  </a:lnTo>
                  <a:lnTo>
                    <a:pt x="815" y="4857"/>
                  </a:lnTo>
                  <a:lnTo>
                    <a:pt x="784" y="5097"/>
                  </a:lnTo>
                  <a:lnTo>
                    <a:pt x="765" y="5343"/>
                  </a:lnTo>
                  <a:lnTo>
                    <a:pt x="759" y="5591"/>
                  </a:lnTo>
                  <a:lnTo>
                    <a:pt x="761" y="5705"/>
                  </a:lnTo>
                  <a:lnTo>
                    <a:pt x="764" y="5820"/>
                  </a:lnTo>
                  <a:lnTo>
                    <a:pt x="771" y="5933"/>
                  </a:lnTo>
                  <a:lnTo>
                    <a:pt x="781" y="6045"/>
                  </a:lnTo>
                  <a:lnTo>
                    <a:pt x="792" y="6158"/>
                  </a:lnTo>
                  <a:lnTo>
                    <a:pt x="807" y="6269"/>
                  </a:lnTo>
                  <a:lnTo>
                    <a:pt x="824" y="6380"/>
                  </a:lnTo>
                  <a:lnTo>
                    <a:pt x="844" y="6490"/>
                  </a:lnTo>
                  <a:lnTo>
                    <a:pt x="865" y="6599"/>
                  </a:lnTo>
                  <a:lnTo>
                    <a:pt x="890" y="6707"/>
                  </a:lnTo>
                  <a:lnTo>
                    <a:pt x="916" y="6814"/>
                  </a:lnTo>
                  <a:lnTo>
                    <a:pt x="946" y="6920"/>
                  </a:lnTo>
                  <a:lnTo>
                    <a:pt x="977" y="7025"/>
                  </a:lnTo>
                  <a:lnTo>
                    <a:pt x="1011" y="7129"/>
                  </a:lnTo>
                  <a:lnTo>
                    <a:pt x="1047" y="7232"/>
                  </a:lnTo>
                  <a:lnTo>
                    <a:pt x="1085" y="7334"/>
                  </a:lnTo>
                  <a:lnTo>
                    <a:pt x="1126" y="7436"/>
                  </a:lnTo>
                  <a:lnTo>
                    <a:pt x="1169" y="7535"/>
                  </a:lnTo>
                  <a:lnTo>
                    <a:pt x="1214" y="7634"/>
                  </a:lnTo>
                  <a:lnTo>
                    <a:pt x="1261" y="7731"/>
                  </a:lnTo>
                  <a:lnTo>
                    <a:pt x="1310" y="7827"/>
                  </a:lnTo>
                  <a:lnTo>
                    <a:pt x="1361" y="7922"/>
                  </a:lnTo>
                  <a:lnTo>
                    <a:pt x="1414" y="8016"/>
                  </a:lnTo>
                  <a:lnTo>
                    <a:pt x="1470" y="8109"/>
                  </a:lnTo>
                  <a:lnTo>
                    <a:pt x="1527" y="8200"/>
                  </a:lnTo>
                  <a:lnTo>
                    <a:pt x="1586" y="8289"/>
                  </a:lnTo>
                  <a:lnTo>
                    <a:pt x="1647" y="8378"/>
                  </a:lnTo>
                  <a:lnTo>
                    <a:pt x="1710" y="8465"/>
                  </a:lnTo>
                  <a:lnTo>
                    <a:pt x="1775" y="8550"/>
                  </a:lnTo>
                  <a:lnTo>
                    <a:pt x="1842" y="8634"/>
                  </a:lnTo>
                  <a:lnTo>
                    <a:pt x="1911" y="8716"/>
                  </a:lnTo>
                  <a:lnTo>
                    <a:pt x="1981" y="8796"/>
                  </a:lnTo>
                  <a:close/>
                  <a:moveTo>
                    <a:pt x="9304" y="2516"/>
                  </a:moveTo>
                  <a:lnTo>
                    <a:pt x="2515" y="9312"/>
                  </a:lnTo>
                  <a:lnTo>
                    <a:pt x="2593" y="9376"/>
                  </a:lnTo>
                  <a:lnTo>
                    <a:pt x="2674" y="9439"/>
                  </a:lnTo>
                  <a:lnTo>
                    <a:pt x="2756" y="9500"/>
                  </a:lnTo>
                  <a:lnTo>
                    <a:pt x="2839" y="9559"/>
                  </a:lnTo>
                  <a:lnTo>
                    <a:pt x="2923" y="9617"/>
                  </a:lnTo>
                  <a:lnTo>
                    <a:pt x="3008" y="9672"/>
                  </a:lnTo>
                  <a:lnTo>
                    <a:pt x="3095" y="9726"/>
                  </a:lnTo>
                  <a:lnTo>
                    <a:pt x="3183" y="9778"/>
                  </a:lnTo>
                  <a:lnTo>
                    <a:pt x="3272" y="9828"/>
                  </a:lnTo>
                  <a:lnTo>
                    <a:pt x="3362" y="9876"/>
                  </a:lnTo>
                  <a:lnTo>
                    <a:pt x="3454" y="9923"/>
                  </a:lnTo>
                  <a:lnTo>
                    <a:pt x="3546" y="9967"/>
                  </a:lnTo>
                  <a:lnTo>
                    <a:pt x="3639" y="10010"/>
                  </a:lnTo>
                  <a:lnTo>
                    <a:pt x="3734" y="10051"/>
                  </a:lnTo>
                  <a:lnTo>
                    <a:pt x="3830" y="10090"/>
                  </a:lnTo>
                  <a:lnTo>
                    <a:pt x="3927" y="10127"/>
                  </a:lnTo>
                  <a:lnTo>
                    <a:pt x="4024" y="10161"/>
                  </a:lnTo>
                  <a:lnTo>
                    <a:pt x="4122" y="10194"/>
                  </a:lnTo>
                  <a:lnTo>
                    <a:pt x="4221" y="10224"/>
                  </a:lnTo>
                  <a:lnTo>
                    <a:pt x="4322" y="10253"/>
                  </a:lnTo>
                  <a:lnTo>
                    <a:pt x="4423" y="10279"/>
                  </a:lnTo>
                  <a:lnTo>
                    <a:pt x="4525" y="10303"/>
                  </a:lnTo>
                  <a:lnTo>
                    <a:pt x="4627" y="10325"/>
                  </a:lnTo>
                  <a:lnTo>
                    <a:pt x="4731" y="10345"/>
                  </a:lnTo>
                  <a:lnTo>
                    <a:pt x="4836" y="10363"/>
                  </a:lnTo>
                  <a:lnTo>
                    <a:pt x="4941" y="10378"/>
                  </a:lnTo>
                  <a:lnTo>
                    <a:pt x="5047" y="10391"/>
                  </a:lnTo>
                  <a:lnTo>
                    <a:pt x="5153" y="10402"/>
                  </a:lnTo>
                  <a:lnTo>
                    <a:pt x="5260" y="10410"/>
                  </a:lnTo>
                  <a:lnTo>
                    <a:pt x="5368" y="10417"/>
                  </a:lnTo>
                  <a:lnTo>
                    <a:pt x="5476" y="10420"/>
                  </a:lnTo>
                  <a:lnTo>
                    <a:pt x="5585" y="10421"/>
                  </a:lnTo>
                  <a:lnTo>
                    <a:pt x="5833" y="10415"/>
                  </a:lnTo>
                  <a:lnTo>
                    <a:pt x="6077" y="10397"/>
                  </a:lnTo>
                  <a:lnTo>
                    <a:pt x="6318" y="10365"/>
                  </a:lnTo>
                  <a:lnTo>
                    <a:pt x="6555" y="10323"/>
                  </a:lnTo>
                  <a:lnTo>
                    <a:pt x="6788" y="10269"/>
                  </a:lnTo>
                  <a:lnTo>
                    <a:pt x="7017" y="10203"/>
                  </a:lnTo>
                  <a:lnTo>
                    <a:pt x="7241" y="10127"/>
                  </a:lnTo>
                  <a:lnTo>
                    <a:pt x="7461" y="10041"/>
                  </a:lnTo>
                  <a:lnTo>
                    <a:pt x="7674" y="9944"/>
                  </a:lnTo>
                  <a:lnTo>
                    <a:pt x="7882" y="9837"/>
                  </a:lnTo>
                  <a:lnTo>
                    <a:pt x="8084" y="9720"/>
                  </a:lnTo>
                  <a:lnTo>
                    <a:pt x="8280" y="9594"/>
                  </a:lnTo>
                  <a:lnTo>
                    <a:pt x="8469" y="9459"/>
                  </a:lnTo>
                  <a:lnTo>
                    <a:pt x="8651" y="9316"/>
                  </a:lnTo>
                  <a:lnTo>
                    <a:pt x="8826" y="9164"/>
                  </a:lnTo>
                  <a:lnTo>
                    <a:pt x="8994" y="9003"/>
                  </a:lnTo>
                  <a:lnTo>
                    <a:pt x="9155" y="8835"/>
                  </a:lnTo>
                  <a:lnTo>
                    <a:pt x="9307" y="8660"/>
                  </a:lnTo>
                  <a:lnTo>
                    <a:pt x="9450" y="8477"/>
                  </a:lnTo>
                  <a:lnTo>
                    <a:pt x="9585" y="8288"/>
                  </a:lnTo>
                  <a:lnTo>
                    <a:pt x="9711" y="8092"/>
                  </a:lnTo>
                  <a:lnTo>
                    <a:pt x="9827" y="7890"/>
                  </a:lnTo>
                  <a:lnTo>
                    <a:pt x="9934" y="7681"/>
                  </a:lnTo>
                  <a:lnTo>
                    <a:pt x="10031" y="7467"/>
                  </a:lnTo>
                  <a:lnTo>
                    <a:pt x="10118" y="7249"/>
                  </a:lnTo>
                  <a:lnTo>
                    <a:pt x="10193" y="7024"/>
                  </a:lnTo>
                  <a:lnTo>
                    <a:pt x="10258" y="6795"/>
                  </a:lnTo>
                  <a:lnTo>
                    <a:pt x="10313" y="6562"/>
                  </a:lnTo>
                  <a:lnTo>
                    <a:pt x="10355" y="6325"/>
                  </a:lnTo>
                  <a:lnTo>
                    <a:pt x="10386" y="6083"/>
                  </a:lnTo>
                  <a:lnTo>
                    <a:pt x="10404" y="5839"/>
                  </a:lnTo>
                  <a:lnTo>
                    <a:pt x="10411" y="5591"/>
                  </a:lnTo>
                  <a:lnTo>
                    <a:pt x="10409" y="5482"/>
                  </a:lnTo>
                  <a:lnTo>
                    <a:pt x="10406" y="5373"/>
                  </a:lnTo>
                  <a:lnTo>
                    <a:pt x="10400" y="5265"/>
                  </a:lnTo>
                  <a:lnTo>
                    <a:pt x="10392" y="5158"/>
                  </a:lnTo>
                  <a:lnTo>
                    <a:pt x="10381" y="5051"/>
                  </a:lnTo>
                  <a:lnTo>
                    <a:pt x="10367" y="4945"/>
                  </a:lnTo>
                  <a:lnTo>
                    <a:pt x="10353" y="4840"/>
                  </a:lnTo>
                  <a:lnTo>
                    <a:pt x="10335" y="4736"/>
                  </a:lnTo>
                  <a:lnTo>
                    <a:pt x="10315" y="4632"/>
                  </a:lnTo>
                  <a:lnTo>
                    <a:pt x="10293" y="4529"/>
                  </a:lnTo>
                  <a:lnTo>
                    <a:pt x="10269" y="4427"/>
                  </a:lnTo>
                  <a:lnTo>
                    <a:pt x="10243" y="4326"/>
                  </a:lnTo>
                  <a:lnTo>
                    <a:pt x="10214" y="4226"/>
                  </a:lnTo>
                  <a:lnTo>
                    <a:pt x="10184" y="4126"/>
                  </a:lnTo>
                  <a:lnTo>
                    <a:pt x="10151" y="4027"/>
                  </a:lnTo>
                  <a:lnTo>
                    <a:pt x="10117" y="3930"/>
                  </a:lnTo>
                  <a:lnTo>
                    <a:pt x="10080" y="3833"/>
                  </a:lnTo>
                  <a:lnTo>
                    <a:pt x="10041" y="3738"/>
                  </a:lnTo>
                  <a:lnTo>
                    <a:pt x="10000" y="3643"/>
                  </a:lnTo>
                  <a:lnTo>
                    <a:pt x="9957" y="3550"/>
                  </a:lnTo>
                  <a:lnTo>
                    <a:pt x="9913" y="3457"/>
                  </a:lnTo>
                  <a:lnTo>
                    <a:pt x="9867" y="3366"/>
                  </a:lnTo>
                  <a:lnTo>
                    <a:pt x="9818" y="3276"/>
                  </a:lnTo>
                  <a:lnTo>
                    <a:pt x="9768" y="3186"/>
                  </a:lnTo>
                  <a:lnTo>
                    <a:pt x="9716" y="3098"/>
                  </a:lnTo>
                  <a:lnTo>
                    <a:pt x="9663" y="3011"/>
                  </a:lnTo>
                  <a:lnTo>
                    <a:pt x="9607" y="2926"/>
                  </a:lnTo>
                  <a:lnTo>
                    <a:pt x="9549" y="2841"/>
                  </a:lnTo>
                  <a:lnTo>
                    <a:pt x="9490" y="2758"/>
                  </a:lnTo>
                  <a:lnTo>
                    <a:pt x="9430" y="2676"/>
                  </a:lnTo>
                  <a:lnTo>
                    <a:pt x="9368" y="2596"/>
                  </a:lnTo>
                  <a:lnTo>
                    <a:pt x="9304" y="2516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7" name=""/>
          <p:cNvGrpSpPr/>
          <p:nvPr/>
        </p:nvGrpSpPr>
        <p:grpSpPr>
          <a:xfrm>
            <a:off x="3086280" y="809640"/>
            <a:ext cx="2933280" cy="942480"/>
            <a:chOff x="3086280" y="809640"/>
            <a:chExt cx="2933280" cy="942480"/>
          </a:xfrm>
        </p:grpSpPr>
        <p:sp>
          <p:nvSpPr>
            <p:cNvPr id="1988" name=""/>
            <p:cNvSpPr/>
            <p:nvPr/>
          </p:nvSpPr>
          <p:spPr>
            <a:xfrm>
              <a:off x="3086280" y="809640"/>
              <a:ext cx="164520" cy="357120"/>
            </a:xfrm>
            <a:custGeom>
              <a:avLst/>
              <a:gdLst/>
              <a:ahLst/>
              <a:rect l="l" t="t" r="r" b="b"/>
              <a:pathLst>
                <a:path w="447" h="873">
                  <a:moveTo>
                    <a:pt x="16" y="862"/>
                  </a:moveTo>
                  <a:lnTo>
                    <a:pt x="11" y="629"/>
                  </a:lnTo>
                  <a:lnTo>
                    <a:pt x="17" y="632"/>
                  </a:lnTo>
                  <a:lnTo>
                    <a:pt x="22" y="634"/>
                  </a:lnTo>
                  <a:lnTo>
                    <a:pt x="29" y="636"/>
                  </a:lnTo>
                  <a:lnTo>
                    <a:pt x="34" y="638"/>
                  </a:lnTo>
                  <a:lnTo>
                    <a:pt x="41" y="640"/>
                  </a:lnTo>
                  <a:lnTo>
                    <a:pt x="46" y="642"/>
                  </a:lnTo>
                  <a:lnTo>
                    <a:pt x="53" y="644"/>
                  </a:lnTo>
                  <a:lnTo>
                    <a:pt x="58" y="645"/>
                  </a:lnTo>
                  <a:lnTo>
                    <a:pt x="63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9"/>
                  </a:lnTo>
                  <a:lnTo>
                    <a:pt x="85" y="650"/>
                  </a:lnTo>
                  <a:lnTo>
                    <a:pt x="90" y="650"/>
                  </a:lnTo>
                  <a:lnTo>
                    <a:pt x="96" y="650"/>
                  </a:lnTo>
                  <a:lnTo>
                    <a:pt x="100" y="650"/>
                  </a:lnTo>
                  <a:lnTo>
                    <a:pt x="110" y="650"/>
                  </a:lnTo>
                  <a:lnTo>
                    <a:pt x="117" y="649"/>
                  </a:lnTo>
                  <a:lnTo>
                    <a:pt x="126" y="648"/>
                  </a:lnTo>
                  <a:lnTo>
                    <a:pt x="134" y="646"/>
                  </a:lnTo>
                  <a:lnTo>
                    <a:pt x="141" y="643"/>
                  </a:lnTo>
                  <a:lnTo>
                    <a:pt x="148" y="639"/>
                  </a:lnTo>
                  <a:lnTo>
                    <a:pt x="154" y="636"/>
                  </a:lnTo>
                  <a:lnTo>
                    <a:pt x="160" y="631"/>
                  </a:lnTo>
                  <a:lnTo>
                    <a:pt x="166" y="626"/>
                  </a:lnTo>
                  <a:lnTo>
                    <a:pt x="170" y="621"/>
                  </a:lnTo>
                  <a:lnTo>
                    <a:pt x="174" y="616"/>
                  </a:lnTo>
                  <a:lnTo>
                    <a:pt x="178" y="610"/>
                  </a:lnTo>
                  <a:lnTo>
                    <a:pt x="180" y="604"/>
                  </a:lnTo>
                  <a:lnTo>
                    <a:pt x="182" y="597"/>
                  </a:lnTo>
                  <a:lnTo>
                    <a:pt x="183" y="591"/>
                  </a:lnTo>
                  <a:lnTo>
                    <a:pt x="183" y="584"/>
                  </a:lnTo>
                  <a:lnTo>
                    <a:pt x="182" y="575"/>
                  </a:lnTo>
                  <a:lnTo>
                    <a:pt x="179" y="564"/>
                  </a:lnTo>
                  <a:lnTo>
                    <a:pt x="174" y="553"/>
                  </a:lnTo>
                  <a:lnTo>
                    <a:pt x="167" y="541"/>
                  </a:lnTo>
                  <a:lnTo>
                    <a:pt x="158" y="529"/>
                  </a:lnTo>
                  <a:lnTo>
                    <a:pt x="148" y="516"/>
                  </a:lnTo>
                  <a:lnTo>
                    <a:pt x="135" y="502"/>
                  </a:lnTo>
                  <a:lnTo>
                    <a:pt x="121" y="488"/>
                  </a:lnTo>
                  <a:lnTo>
                    <a:pt x="115" y="484"/>
                  </a:lnTo>
                  <a:lnTo>
                    <a:pt x="110" y="480"/>
                  </a:lnTo>
                  <a:lnTo>
                    <a:pt x="105" y="475"/>
                  </a:lnTo>
                  <a:lnTo>
                    <a:pt x="101" y="471"/>
                  </a:lnTo>
                  <a:lnTo>
                    <a:pt x="97" y="468"/>
                  </a:lnTo>
                  <a:lnTo>
                    <a:pt x="94" y="463"/>
                  </a:lnTo>
                  <a:lnTo>
                    <a:pt x="90" y="460"/>
                  </a:lnTo>
                  <a:lnTo>
                    <a:pt x="87" y="457"/>
                  </a:lnTo>
                  <a:lnTo>
                    <a:pt x="76" y="446"/>
                  </a:lnTo>
                  <a:lnTo>
                    <a:pt x="67" y="434"/>
                  </a:lnTo>
                  <a:lnTo>
                    <a:pt x="57" y="423"/>
                  </a:lnTo>
                  <a:lnTo>
                    <a:pt x="48" y="411"/>
                  </a:lnTo>
                  <a:lnTo>
                    <a:pt x="41" y="400"/>
                  </a:lnTo>
                  <a:lnTo>
                    <a:pt x="33" y="388"/>
                  </a:lnTo>
                  <a:lnTo>
                    <a:pt x="27" y="376"/>
                  </a:lnTo>
                  <a:lnTo>
                    <a:pt x="21" y="364"/>
                  </a:lnTo>
                  <a:lnTo>
                    <a:pt x="16" y="352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5" y="314"/>
                  </a:lnTo>
                  <a:lnTo>
                    <a:pt x="3" y="301"/>
                  </a:lnTo>
                  <a:lnTo>
                    <a:pt x="1" y="288"/>
                  </a:lnTo>
                  <a:lnTo>
                    <a:pt x="1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3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2" y="181"/>
                  </a:lnTo>
                  <a:lnTo>
                    <a:pt x="15" y="168"/>
                  </a:lnTo>
                  <a:lnTo>
                    <a:pt x="20" y="157"/>
                  </a:lnTo>
                  <a:lnTo>
                    <a:pt x="26" y="146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5" y="112"/>
                  </a:lnTo>
                  <a:lnTo>
                    <a:pt x="53" y="103"/>
                  </a:lnTo>
                  <a:lnTo>
                    <a:pt x="61" y="93"/>
                  </a:lnTo>
                  <a:lnTo>
                    <a:pt x="70" y="83"/>
                  </a:lnTo>
                  <a:lnTo>
                    <a:pt x="80" y="73"/>
                  </a:lnTo>
                  <a:lnTo>
                    <a:pt x="89" y="65"/>
                  </a:lnTo>
                  <a:lnTo>
                    <a:pt x="100" y="56"/>
                  </a:lnTo>
                  <a:lnTo>
                    <a:pt x="111" y="49"/>
                  </a:lnTo>
                  <a:lnTo>
                    <a:pt x="123" y="41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8" y="24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11"/>
                  </a:lnTo>
                  <a:lnTo>
                    <a:pt x="211" y="8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5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1"/>
                  </a:lnTo>
                  <a:lnTo>
                    <a:pt x="324" y="1"/>
                  </a:lnTo>
                  <a:lnTo>
                    <a:pt x="334" y="2"/>
                  </a:lnTo>
                  <a:lnTo>
                    <a:pt x="343" y="3"/>
                  </a:lnTo>
                  <a:lnTo>
                    <a:pt x="351" y="4"/>
                  </a:lnTo>
                  <a:lnTo>
                    <a:pt x="361" y="5"/>
                  </a:lnTo>
                  <a:lnTo>
                    <a:pt x="370" y="6"/>
                  </a:lnTo>
                  <a:lnTo>
                    <a:pt x="378" y="9"/>
                  </a:lnTo>
                  <a:lnTo>
                    <a:pt x="387" y="10"/>
                  </a:lnTo>
                  <a:lnTo>
                    <a:pt x="395" y="12"/>
                  </a:lnTo>
                  <a:lnTo>
                    <a:pt x="403" y="14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2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5"/>
                  </a:lnTo>
                  <a:lnTo>
                    <a:pt x="407" y="221"/>
                  </a:lnTo>
                  <a:lnTo>
                    <a:pt x="401" y="219"/>
                  </a:lnTo>
                  <a:lnTo>
                    <a:pt x="395" y="217"/>
                  </a:lnTo>
                  <a:lnTo>
                    <a:pt x="389" y="215"/>
                  </a:lnTo>
                  <a:lnTo>
                    <a:pt x="383" y="213"/>
                  </a:lnTo>
                  <a:lnTo>
                    <a:pt x="376" y="211"/>
                  </a:lnTo>
                  <a:lnTo>
                    <a:pt x="371" y="208"/>
                  </a:lnTo>
                  <a:lnTo>
                    <a:pt x="365" y="207"/>
                  </a:lnTo>
                  <a:lnTo>
                    <a:pt x="360" y="206"/>
                  </a:lnTo>
                  <a:lnTo>
                    <a:pt x="355" y="205"/>
                  </a:lnTo>
                  <a:lnTo>
                    <a:pt x="349" y="204"/>
                  </a:lnTo>
                  <a:lnTo>
                    <a:pt x="344" y="204"/>
                  </a:lnTo>
                  <a:lnTo>
                    <a:pt x="340" y="204"/>
                  </a:lnTo>
                  <a:lnTo>
                    <a:pt x="334" y="203"/>
                  </a:lnTo>
                  <a:lnTo>
                    <a:pt x="324" y="204"/>
                  </a:lnTo>
                  <a:lnTo>
                    <a:pt x="315" y="204"/>
                  </a:lnTo>
                  <a:lnTo>
                    <a:pt x="306" y="206"/>
                  </a:lnTo>
                  <a:lnTo>
                    <a:pt x="297" y="207"/>
                  </a:lnTo>
                  <a:lnTo>
                    <a:pt x="290" y="211"/>
                  </a:lnTo>
                  <a:lnTo>
                    <a:pt x="283" y="213"/>
                  </a:lnTo>
                  <a:lnTo>
                    <a:pt x="277" y="217"/>
                  </a:lnTo>
                  <a:lnTo>
                    <a:pt x="270" y="221"/>
                  </a:lnTo>
                  <a:lnTo>
                    <a:pt x="265" y="226"/>
                  </a:lnTo>
                  <a:lnTo>
                    <a:pt x="261" y="230"/>
                  </a:lnTo>
                  <a:lnTo>
                    <a:pt x="258" y="235"/>
                  </a:lnTo>
                  <a:lnTo>
                    <a:pt x="254" y="242"/>
                  </a:lnTo>
                  <a:lnTo>
                    <a:pt x="251" y="248"/>
                  </a:lnTo>
                  <a:lnTo>
                    <a:pt x="250" y="255"/>
                  </a:lnTo>
                  <a:lnTo>
                    <a:pt x="249" y="262"/>
                  </a:lnTo>
                  <a:lnTo>
                    <a:pt x="248" y="270"/>
                  </a:lnTo>
                  <a:lnTo>
                    <a:pt x="249" y="280"/>
                  </a:lnTo>
                  <a:lnTo>
                    <a:pt x="252" y="288"/>
                  </a:lnTo>
                  <a:lnTo>
                    <a:pt x="256" y="298"/>
                  </a:lnTo>
                  <a:lnTo>
                    <a:pt x="264" y="309"/>
                  </a:lnTo>
                  <a:lnTo>
                    <a:pt x="272" y="320"/>
                  </a:lnTo>
                  <a:lnTo>
                    <a:pt x="282" y="330"/>
                  </a:lnTo>
                  <a:lnTo>
                    <a:pt x="295" y="342"/>
                  </a:lnTo>
                  <a:lnTo>
                    <a:pt x="309" y="354"/>
                  </a:lnTo>
                  <a:lnTo>
                    <a:pt x="315" y="359"/>
                  </a:lnTo>
                  <a:lnTo>
                    <a:pt x="320" y="363"/>
                  </a:lnTo>
                  <a:lnTo>
                    <a:pt x="325" y="367"/>
                  </a:lnTo>
                  <a:lnTo>
                    <a:pt x="331" y="372"/>
                  </a:lnTo>
                  <a:lnTo>
                    <a:pt x="335" y="375"/>
                  </a:lnTo>
                  <a:lnTo>
                    <a:pt x="340" y="379"/>
                  </a:lnTo>
                  <a:lnTo>
                    <a:pt x="343" y="382"/>
                  </a:lnTo>
                  <a:lnTo>
                    <a:pt x="347" y="386"/>
                  </a:lnTo>
                  <a:lnTo>
                    <a:pt x="359" y="396"/>
                  </a:lnTo>
                  <a:lnTo>
                    <a:pt x="370" y="407"/>
                  </a:lnTo>
                  <a:lnTo>
                    <a:pt x="380" y="419"/>
                  </a:lnTo>
                  <a:lnTo>
                    <a:pt x="390" y="431"/>
                  </a:lnTo>
                  <a:lnTo>
                    <a:pt x="399" y="444"/>
                  </a:lnTo>
                  <a:lnTo>
                    <a:pt x="407" y="457"/>
                  </a:lnTo>
                  <a:lnTo>
                    <a:pt x="415" y="470"/>
                  </a:lnTo>
                  <a:lnTo>
                    <a:pt x="421" y="484"/>
                  </a:lnTo>
                  <a:lnTo>
                    <a:pt x="428" y="498"/>
                  </a:lnTo>
                  <a:lnTo>
                    <a:pt x="432" y="512"/>
                  </a:lnTo>
                  <a:lnTo>
                    <a:pt x="437" y="526"/>
                  </a:lnTo>
                  <a:lnTo>
                    <a:pt x="441" y="541"/>
                  </a:lnTo>
                  <a:lnTo>
                    <a:pt x="443" y="555"/>
                  </a:lnTo>
                  <a:lnTo>
                    <a:pt x="445" y="571"/>
                  </a:lnTo>
                  <a:lnTo>
                    <a:pt x="446" y="586"/>
                  </a:lnTo>
                  <a:lnTo>
                    <a:pt x="447" y="602"/>
                  </a:lnTo>
                  <a:lnTo>
                    <a:pt x="446" y="618"/>
                  </a:lnTo>
                  <a:lnTo>
                    <a:pt x="445" y="633"/>
                  </a:lnTo>
                  <a:lnTo>
                    <a:pt x="444" y="648"/>
                  </a:lnTo>
                  <a:lnTo>
                    <a:pt x="442" y="662"/>
                  </a:lnTo>
                  <a:lnTo>
                    <a:pt x="439" y="676"/>
                  </a:lnTo>
                  <a:lnTo>
                    <a:pt x="436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0" y="727"/>
                  </a:lnTo>
                  <a:lnTo>
                    <a:pt x="414" y="739"/>
                  </a:lnTo>
                  <a:lnTo>
                    <a:pt x="407" y="751"/>
                  </a:lnTo>
                  <a:lnTo>
                    <a:pt x="400" y="761"/>
                  </a:lnTo>
                  <a:lnTo>
                    <a:pt x="391" y="772"/>
                  </a:lnTo>
                  <a:lnTo>
                    <a:pt x="383" y="782"/>
                  </a:lnTo>
                  <a:lnTo>
                    <a:pt x="373" y="792"/>
                  </a:lnTo>
                  <a:lnTo>
                    <a:pt x="363" y="800"/>
                  </a:lnTo>
                  <a:lnTo>
                    <a:pt x="352" y="810"/>
                  </a:lnTo>
                  <a:lnTo>
                    <a:pt x="341" y="818"/>
                  </a:lnTo>
                  <a:lnTo>
                    <a:pt x="329" y="825"/>
                  </a:lnTo>
                  <a:lnTo>
                    <a:pt x="317" y="833"/>
                  </a:lnTo>
                  <a:lnTo>
                    <a:pt x="304" y="839"/>
                  </a:lnTo>
                  <a:lnTo>
                    <a:pt x="291" y="845"/>
                  </a:lnTo>
                  <a:lnTo>
                    <a:pt x="277" y="850"/>
                  </a:lnTo>
                  <a:lnTo>
                    <a:pt x="263" y="855"/>
                  </a:lnTo>
                  <a:lnTo>
                    <a:pt x="248" y="860"/>
                  </a:lnTo>
                  <a:lnTo>
                    <a:pt x="233" y="863"/>
                  </a:lnTo>
                  <a:lnTo>
                    <a:pt x="217" y="866"/>
                  </a:lnTo>
                  <a:lnTo>
                    <a:pt x="200" y="868"/>
                  </a:lnTo>
                  <a:lnTo>
                    <a:pt x="183" y="870"/>
                  </a:lnTo>
                  <a:lnTo>
                    <a:pt x="166" y="872"/>
                  </a:lnTo>
                  <a:lnTo>
                    <a:pt x="149" y="873"/>
                  </a:lnTo>
                  <a:lnTo>
                    <a:pt x="130" y="873"/>
                  </a:lnTo>
                  <a:lnTo>
                    <a:pt x="123" y="873"/>
                  </a:lnTo>
                  <a:lnTo>
                    <a:pt x="115" y="873"/>
                  </a:lnTo>
                  <a:lnTo>
                    <a:pt x="108" y="873"/>
                  </a:lnTo>
                  <a:lnTo>
                    <a:pt x="100" y="872"/>
                  </a:lnTo>
                  <a:lnTo>
                    <a:pt x="93" y="872"/>
                  </a:lnTo>
                  <a:lnTo>
                    <a:pt x="85" y="872"/>
                  </a:lnTo>
                  <a:lnTo>
                    <a:pt x="79" y="870"/>
                  </a:lnTo>
                  <a:lnTo>
                    <a:pt x="71" y="869"/>
                  </a:lnTo>
                  <a:lnTo>
                    <a:pt x="64" y="869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6" y="866"/>
                  </a:lnTo>
                  <a:lnTo>
                    <a:pt x="30" y="865"/>
                  </a:lnTo>
                  <a:lnTo>
                    <a:pt x="22" y="863"/>
                  </a:lnTo>
                  <a:lnTo>
                    <a:pt x="16" y="8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287520" y="815400"/>
              <a:ext cx="191880" cy="344520"/>
            </a:xfrm>
            <a:custGeom>
              <a:avLst/>
              <a:gdLst/>
              <a:ahLst/>
              <a:rect l="l" t="t" r="r" b="b"/>
              <a:pathLst>
                <a:path w="528" h="847">
                  <a:moveTo>
                    <a:pt x="528" y="613"/>
                  </a:moveTo>
                  <a:lnTo>
                    <a:pt x="469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2" y="226"/>
                  </a:lnTo>
                  <a:lnTo>
                    <a:pt x="217" y="226"/>
                  </a:lnTo>
                  <a:lnTo>
                    <a:pt x="217" y="311"/>
                  </a:lnTo>
                  <a:lnTo>
                    <a:pt x="408" y="311"/>
                  </a:lnTo>
                  <a:lnTo>
                    <a:pt x="408" y="535"/>
                  </a:lnTo>
                  <a:lnTo>
                    <a:pt x="217" y="535"/>
                  </a:lnTo>
                  <a:lnTo>
                    <a:pt x="217" y="613"/>
                  </a:lnTo>
                  <a:lnTo>
                    <a:pt x="528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485160" y="815400"/>
              <a:ext cx="268560" cy="344520"/>
            </a:xfrm>
            <a:custGeom>
              <a:avLst/>
              <a:gdLst/>
              <a:ahLst/>
              <a:rect l="l" t="t" r="r" b="b"/>
              <a:pathLst>
                <a:path w="736" h="847">
                  <a:moveTo>
                    <a:pt x="0" y="847"/>
                  </a:moveTo>
                  <a:lnTo>
                    <a:pt x="243" y="419"/>
                  </a:lnTo>
                  <a:lnTo>
                    <a:pt x="14" y="0"/>
                  </a:lnTo>
                  <a:lnTo>
                    <a:pt x="259" y="0"/>
                  </a:lnTo>
                  <a:lnTo>
                    <a:pt x="370" y="236"/>
                  </a:lnTo>
                  <a:lnTo>
                    <a:pt x="482" y="0"/>
                  </a:lnTo>
                  <a:lnTo>
                    <a:pt x="732" y="0"/>
                  </a:lnTo>
                  <a:lnTo>
                    <a:pt x="495" y="422"/>
                  </a:lnTo>
                  <a:lnTo>
                    <a:pt x="736" y="847"/>
                  </a:lnTo>
                  <a:lnTo>
                    <a:pt x="487" y="847"/>
                  </a:lnTo>
                  <a:lnTo>
                    <a:pt x="371" y="608"/>
                  </a:lnTo>
                  <a:lnTo>
                    <a:pt x="256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779640" y="815400"/>
              <a:ext cx="208080" cy="352800"/>
            </a:xfrm>
            <a:custGeom>
              <a:avLst/>
              <a:gdLst/>
              <a:ahLst/>
              <a:rect l="l" t="t" r="r" b="b"/>
              <a:pathLst>
                <a:path w="568" h="869">
                  <a:moveTo>
                    <a:pt x="349" y="513"/>
                  </a:moveTo>
                  <a:lnTo>
                    <a:pt x="349" y="0"/>
                  </a:lnTo>
                  <a:lnTo>
                    <a:pt x="568" y="0"/>
                  </a:lnTo>
                  <a:lnTo>
                    <a:pt x="568" y="513"/>
                  </a:lnTo>
                  <a:lnTo>
                    <a:pt x="568" y="541"/>
                  </a:lnTo>
                  <a:lnTo>
                    <a:pt x="567" y="568"/>
                  </a:lnTo>
                  <a:lnTo>
                    <a:pt x="566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60" y="658"/>
                  </a:lnTo>
                  <a:lnTo>
                    <a:pt x="555" y="675"/>
                  </a:lnTo>
                  <a:lnTo>
                    <a:pt x="552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29" y="746"/>
                  </a:lnTo>
                  <a:lnTo>
                    <a:pt x="522" y="758"/>
                  </a:lnTo>
                  <a:lnTo>
                    <a:pt x="513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6" y="801"/>
                  </a:lnTo>
                  <a:lnTo>
                    <a:pt x="476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3" y="832"/>
                  </a:lnTo>
                  <a:lnTo>
                    <a:pt x="431" y="838"/>
                  </a:lnTo>
                  <a:lnTo>
                    <a:pt x="418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6" y="857"/>
                  </a:lnTo>
                  <a:lnTo>
                    <a:pt x="362" y="862"/>
                  </a:lnTo>
                  <a:lnTo>
                    <a:pt x="347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1" y="869"/>
                  </a:lnTo>
                  <a:lnTo>
                    <a:pt x="284" y="869"/>
                  </a:lnTo>
                  <a:lnTo>
                    <a:pt x="268" y="869"/>
                  </a:lnTo>
                  <a:lnTo>
                    <a:pt x="252" y="868"/>
                  </a:lnTo>
                  <a:lnTo>
                    <a:pt x="237" y="866"/>
                  </a:lnTo>
                  <a:lnTo>
                    <a:pt x="222" y="864"/>
                  </a:lnTo>
                  <a:lnTo>
                    <a:pt x="207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3" y="825"/>
                  </a:lnTo>
                  <a:lnTo>
                    <a:pt x="102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4" y="793"/>
                  </a:lnTo>
                  <a:lnTo>
                    <a:pt x="64" y="782"/>
                  </a:lnTo>
                  <a:lnTo>
                    <a:pt x="55" y="770"/>
                  </a:lnTo>
                  <a:lnTo>
                    <a:pt x="47" y="758"/>
                  </a:lnTo>
                  <a:lnTo>
                    <a:pt x="40" y="745"/>
                  </a:lnTo>
                  <a:lnTo>
                    <a:pt x="32" y="732"/>
                  </a:lnTo>
                  <a:lnTo>
                    <a:pt x="27" y="718"/>
                  </a:lnTo>
                  <a:lnTo>
                    <a:pt x="21" y="704"/>
                  </a:lnTo>
                  <a:lnTo>
                    <a:pt x="17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6" y="636"/>
                  </a:lnTo>
                  <a:lnTo>
                    <a:pt x="4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1" y="545"/>
                  </a:lnTo>
                  <a:lnTo>
                    <a:pt x="222" y="560"/>
                  </a:lnTo>
                  <a:lnTo>
                    <a:pt x="223" y="573"/>
                  </a:lnTo>
                  <a:lnTo>
                    <a:pt x="225" y="585"/>
                  </a:lnTo>
                  <a:lnTo>
                    <a:pt x="227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8" y="619"/>
                  </a:lnTo>
                  <a:lnTo>
                    <a:pt x="242" y="625"/>
                  </a:lnTo>
                  <a:lnTo>
                    <a:pt x="248" y="630"/>
                  </a:lnTo>
                  <a:lnTo>
                    <a:pt x="254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4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0" y="630"/>
                  </a:lnTo>
                  <a:lnTo>
                    <a:pt x="325" y="624"/>
                  </a:lnTo>
                  <a:lnTo>
                    <a:pt x="331" y="619"/>
                  </a:lnTo>
                  <a:lnTo>
                    <a:pt x="334" y="612"/>
                  </a:lnTo>
                  <a:lnTo>
                    <a:pt x="338" y="604"/>
                  </a:lnTo>
                  <a:lnTo>
                    <a:pt x="342" y="595"/>
                  </a:lnTo>
                  <a:lnTo>
                    <a:pt x="344" y="584"/>
                  </a:lnTo>
                  <a:lnTo>
                    <a:pt x="346" y="572"/>
                  </a:lnTo>
                  <a:lnTo>
                    <a:pt x="347" y="559"/>
                  </a:lnTo>
                  <a:lnTo>
                    <a:pt x="349" y="545"/>
                  </a:lnTo>
                  <a:lnTo>
                    <a:pt x="349" y="529"/>
                  </a:lnTo>
                  <a:lnTo>
                    <a:pt x="349" y="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006440" y="815400"/>
              <a:ext cx="301320" cy="344520"/>
            </a:xfrm>
            <a:custGeom>
              <a:avLst/>
              <a:gdLst/>
              <a:ahLst/>
              <a:rect l="l" t="t" r="r" b="b"/>
              <a:pathLst>
                <a:path w="822" h="847">
                  <a:moveTo>
                    <a:pt x="321" y="540"/>
                  </a:moveTo>
                  <a:lnTo>
                    <a:pt x="495" y="540"/>
                  </a:lnTo>
                  <a:lnTo>
                    <a:pt x="408" y="255"/>
                  </a:lnTo>
                  <a:lnTo>
                    <a:pt x="321" y="540"/>
                  </a:lnTo>
                  <a:close/>
                  <a:moveTo>
                    <a:pt x="0" y="847"/>
                  </a:moveTo>
                  <a:lnTo>
                    <a:pt x="295" y="0"/>
                  </a:lnTo>
                  <a:lnTo>
                    <a:pt x="542" y="0"/>
                  </a:lnTo>
                  <a:lnTo>
                    <a:pt x="822" y="847"/>
                  </a:lnTo>
                  <a:lnTo>
                    <a:pt x="590" y="847"/>
                  </a:lnTo>
                  <a:lnTo>
                    <a:pt x="560" y="752"/>
                  </a:lnTo>
                  <a:lnTo>
                    <a:pt x="260" y="752"/>
                  </a:lnTo>
                  <a:lnTo>
                    <a:pt x="227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335120" y="815400"/>
              <a:ext cx="194040" cy="344520"/>
            </a:xfrm>
            <a:custGeom>
              <a:avLst/>
              <a:gdLst/>
              <a:ahLst/>
              <a:rect l="l" t="t" r="r" b="b"/>
              <a:pathLst>
                <a:path w="533" h="847">
                  <a:moveTo>
                    <a:pt x="533" y="613"/>
                  </a:moveTo>
                  <a:lnTo>
                    <a:pt x="464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613"/>
                  </a:lnTo>
                  <a:lnTo>
                    <a:pt x="533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681080" y="815400"/>
              <a:ext cx="210240" cy="344520"/>
            </a:xfrm>
            <a:custGeom>
              <a:avLst/>
              <a:gdLst/>
              <a:ahLst/>
              <a:rect l="l" t="t" r="r" b="b"/>
              <a:pathLst>
                <a:path w="577" h="847">
                  <a:moveTo>
                    <a:pt x="219" y="407"/>
                  </a:moveTo>
                  <a:lnTo>
                    <a:pt x="245" y="407"/>
                  </a:lnTo>
                  <a:lnTo>
                    <a:pt x="258" y="407"/>
                  </a:lnTo>
                  <a:lnTo>
                    <a:pt x="271" y="406"/>
                  </a:lnTo>
                  <a:lnTo>
                    <a:pt x="282" y="404"/>
                  </a:lnTo>
                  <a:lnTo>
                    <a:pt x="292" y="401"/>
                  </a:lnTo>
                  <a:lnTo>
                    <a:pt x="303" y="397"/>
                  </a:lnTo>
                  <a:lnTo>
                    <a:pt x="312" y="392"/>
                  </a:lnTo>
                  <a:lnTo>
                    <a:pt x="320" y="387"/>
                  </a:lnTo>
                  <a:lnTo>
                    <a:pt x="329" y="381"/>
                  </a:lnTo>
                  <a:lnTo>
                    <a:pt x="335" y="374"/>
                  </a:lnTo>
                  <a:lnTo>
                    <a:pt x="342" y="366"/>
                  </a:lnTo>
                  <a:lnTo>
                    <a:pt x="346" y="357"/>
                  </a:lnTo>
                  <a:lnTo>
                    <a:pt x="351" y="349"/>
                  </a:lnTo>
                  <a:lnTo>
                    <a:pt x="354" y="339"/>
                  </a:lnTo>
                  <a:lnTo>
                    <a:pt x="356" y="329"/>
                  </a:lnTo>
                  <a:lnTo>
                    <a:pt x="358" y="319"/>
                  </a:lnTo>
                  <a:lnTo>
                    <a:pt x="358" y="307"/>
                  </a:lnTo>
                  <a:lnTo>
                    <a:pt x="358" y="295"/>
                  </a:lnTo>
                  <a:lnTo>
                    <a:pt x="356" y="283"/>
                  </a:lnTo>
                  <a:lnTo>
                    <a:pt x="354" y="272"/>
                  </a:lnTo>
                  <a:lnTo>
                    <a:pt x="351" y="262"/>
                  </a:lnTo>
                  <a:lnTo>
                    <a:pt x="346" y="253"/>
                  </a:lnTo>
                  <a:lnTo>
                    <a:pt x="342" y="244"/>
                  </a:lnTo>
                  <a:lnTo>
                    <a:pt x="335" y="236"/>
                  </a:lnTo>
                  <a:lnTo>
                    <a:pt x="329" y="229"/>
                  </a:lnTo>
                  <a:lnTo>
                    <a:pt x="321" y="224"/>
                  </a:lnTo>
                  <a:lnTo>
                    <a:pt x="313" y="218"/>
                  </a:lnTo>
                  <a:lnTo>
                    <a:pt x="303" y="213"/>
                  </a:lnTo>
                  <a:lnTo>
                    <a:pt x="292" y="209"/>
                  </a:lnTo>
                  <a:lnTo>
                    <a:pt x="282" y="206"/>
                  </a:lnTo>
                  <a:lnTo>
                    <a:pt x="270" y="204"/>
                  </a:lnTo>
                  <a:lnTo>
                    <a:pt x="257" y="203"/>
                  </a:lnTo>
                  <a:lnTo>
                    <a:pt x="244" y="203"/>
                  </a:lnTo>
                  <a:lnTo>
                    <a:pt x="219" y="203"/>
                  </a:lnTo>
                  <a:lnTo>
                    <a:pt x="219" y="407"/>
                  </a:lnTo>
                  <a:close/>
                  <a:moveTo>
                    <a:pt x="0" y="847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43" y="1"/>
                  </a:lnTo>
                  <a:lnTo>
                    <a:pt x="264" y="1"/>
                  </a:lnTo>
                  <a:lnTo>
                    <a:pt x="285" y="3"/>
                  </a:lnTo>
                  <a:lnTo>
                    <a:pt x="304" y="5"/>
                  </a:lnTo>
                  <a:lnTo>
                    <a:pt x="324" y="8"/>
                  </a:lnTo>
                  <a:lnTo>
                    <a:pt x="343" y="11"/>
                  </a:lnTo>
                  <a:lnTo>
                    <a:pt x="360" y="15"/>
                  </a:lnTo>
                  <a:lnTo>
                    <a:pt x="378" y="19"/>
                  </a:lnTo>
                  <a:lnTo>
                    <a:pt x="394" y="24"/>
                  </a:lnTo>
                  <a:lnTo>
                    <a:pt x="410" y="29"/>
                  </a:lnTo>
                  <a:lnTo>
                    <a:pt x="425" y="36"/>
                  </a:lnTo>
                  <a:lnTo>
                    <a:pt x="439" y="42"/>
                  </a:lnTo>
                  <a:lnTo>
                    <a:pt x="453" y="50"/>
                  </a:lnTo>
                  <a:lnTo>
                    <a:pt x="466" y="57"/>
                  </a:lnTo>
                  <a:lnTo>
                    <a:pt x="478" y="66"/>
                  </a:lnTo>
                  <a:lnTo>
                    <a:pt x="489" y="76"/>
                  </a:lnTo>
                  <a:lnTo>
                    <a:pt x="499" y="85"/>
                  </a:lnTo>
                  <a:lnTo>
                    <a:pt x="509" y="95"/>
                  </a:lnTo>
                  <a:lnTo>
                    <a:pt x="519" y="106"/>
                  </a:lnTo>
                  <a:lnTo>
                    <a:pt x="527" y="118"/>
                  </a:lnTo>
                  <a:lnTo>
                    <a:pt x="535" y="130"/>
                  </a:lnTo>
                  <a:lnTo>
                    <a:pt x="543" y="143"/>
                  </a:lnTo>
                  <a:lnTo>
                    <a:pt x="549" y="155"/>
                  </a:lnTo>
                  <a:lnTo>
                    <a:pt x="555" y="170"/>
                  </a:lnTo>
                  <a:lnTo>
                    <a:pt x="560" y="185"/>
                  </a:lnTo>
                  <a:lnTo>
                    <a:pt x="564" y="200"/>
                  </a:lnTo>
                  <a:lnTo>
                    <a:pt x="568" y="216"/>
                  </a:lnTo>
                  <a:lnTo>
                    <a:pt x="572" y="232"/>
                  </a:lnTo>
                  <a:lnTo>
                    <a:pt x="574" y="249"/>
                  </a:lnTo>
                  <a:lnTo>
                    <a:pt x="576" y="267"/>
                  </a:lnTo>
                  <a:lnTo>
                    <a:pt x="577" y="285"/>
                  </a:lnTo>
                  <a:lnTo>
                    <a:pt x="577" y="305"/>
                  </a:lnTo>
                  <a:lnTo>
                    <a:pt x="577" y="323"/>
                  </a:lnTo>
                  <a:lnTo>
                    <a:pt x="576" y="340"/>
                  </a:lnTo>
                  <a:lnTo>
                    <a:pt x="574" y="359"/>
                  </a:lnTo>
                  <a:lnTo>
                    <a:pt x="572" y="375"/>
                  </a:lnTo>
                  <a:lnTo>
                    <a:pt x="568" y="391"/>
                  </a:lnTo>
                  <a:lnTo>
                    <a:pt x="565" y="407"/>
                  </a:lnTo>
                  <a:lnTo>
                    <a:pt x="561" y="422"/>
                  </a:lnTo>
                  <a:lnTo>
                    <a:pt x="555" y="437"/>
                  </a:lnTo>
                  <a:lnTo>
                    <a:pt x="550" y="451"/>
                  </a:lnTo>
                  <a:lnTo>
                    <a:pt x="544" y="465"/>
                  </a:lnTo>
                  <a:lnTo>
                    <a:pt x="536" y="478"/>
                  </a:lnTo>
                  <a:lnTo>
                    <a:pt x="529" y="491"/>
                  </a:lnTo>
                  <a:lnTo>
                    <a:pt x="521" y="503"/>
                  </a:lnTo>
                  <a:lnTo>
                    <a:pt x="511" y="515"/>
                  </a:lnTo>
                  <a:lnTo>
                    <a:pt x="502" y="526"/>
                  </a:lnTo>
                  <a:lnTo>
                    <a:pt x="492" y="537"/>
                  </a:lnTo>
                  <a:lnTo>
                    <a:pt x="481" y="546"/>
                  </a:lnTo>
                  <a:lnTo>
                    <a:pt x="469" y="556"/>
                  </a:lnTo>
                  <a:lnTo>
                    <a:pt x="457" y="565"/>
                  </a:lnTo>
                  <a:lnTo>
                    <a:pt x="444" y="573"/>
                  </a:lnTo>
                  <a:lnTo>
                    <a:pt x="431" y="580"/>
                  </a:lnTo>
                  <a:lnTo>
                    <a:pt x="417" y="587"/>
                  </a:lnTo>
                  <a:lnTo>
                    <a:pt x="403" y="593"/>
                  </a:lnTo>
                  <a:lnTo>
                    <a:pt x="389" y="599"/>
                  </a:lnTo>
                  <a:lnTo>
                    <a:pt x="373" y="604"/>
                  </a:lnTo>
                  <a:lnTo>
                    <a:pt x="358" y="608"/>
                  </a:lnTo>
                  <a:lnTo>
                    <a:pt x="342" y="611"/>
                  </a:lnTo>
                  <a:lnTo>
                    <a:pt x="325" y="614"/>
                  </a:lnTo>
                  <a:lnTo>
                    <a:pt x="307" y="617"/>
                  </a:lnTo>
                  <a:lnTo>
                    <a:pt x="289" y="619"/>
                  </a:lnTo>
                  <a:lnTo>
                    <a:pt x="271" y="619"/>
                  </a:lnTo>
                  <a:lnTo>
                    <a:pt x="251" y="620"/>
                  </a:lnTo>
                  <a:lnTo>
                    <a:pt x="219" y="620"/>
                  </a:lnTo>
                  <a:lnTo>
                    <a:pt x="219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933080" y="815400"/>
              <a:ext cx="208440" cy="352800"/>
            </a:xfrm>
            <a:custGeom>
              <a:avLst/>
              <a:gdLst/>
              <a:ahLst/>
              <a:rect l="l" t="t" r="r" b="b"/>
              <a:pathLst>
                <a:path w="569" h="869">
                  <a:moveTo>
                    <a:pt x="350" y="513"/>
                  </a:moveTo>
                  <a:lnTo>
                    <a:pt x="350" y="0"/>
                  </a:lnTo>
                  <a:lnTo>
                    <a:pt x="569" y="0"/>
                  </a:lnTo>
                  <a:lnTo>
                    <a:pt x="569" y="513"/>
                  </a:lnTo>
                  <a:lnTo>
                    <a:pt x="569" y="541"/>
                  </a:lnTo>
                  <a:lnTo>
                    <a:pt x="568" y="568"/>
                  </a:lnTo>
                  <a:lnTo>
                    <a:pt x="567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59" y="658"/>
                  </a:lnTo>
                  <a:lnTo>
                    <a:pt x="556" y="675"/>
                  </a:lnTo>
                  <a:lnTo>
                    <a:pt x="551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30" y="746"/>
                  </a:lnTo>
                  <a:lnTo>
                    <a:pt x="522" y="758"/>
                  </a:lnTo>
                  <a:lnTo>
                    <a:pt x="514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7" y="801"/>
                  </a:lnTo>
                  <a:lnTo>
                    <a:pt x="477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4" y="832"/>
                  </a:lnTo>
                  <a:lnTo>
                    <a:pt x="432" y="838"/>
                  </a:lnTo>
                  <a:lnTo>
                    <a:pt x="419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7" y="857"/>
                  </a:lnTo>
                  <a:lnTo>
                    <a:pt x="363" y="862"/>
                  </a:lnTo>
                  <a:lnTo>
                    <a:pt x="348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0" y="869"/>
                  </a:lnTo>
                  <a:lnTo>
                    <a:pt x="284" y="869"/>
                  </a:lnTo>
                  <a:lnTo>
                    <a:pt x="269" y="869"/>
                  </a:lnTo>
                  <a:lnTo>
                    <a:pt x="253" y="868"/>
                  </a:lnTo>
                  <a:lnTo>
                    <a:pt x="237" y="866"/>
                  </a:lnTo>
                  <a:lnTo>
                    <a:pt x="221" y="864"/>
                  </a:lnTo>
                  <a:lnTo>
                    <a:pt x="206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4" y="825"/>
                  </a:lnTo>
                  <a:lnTo>
                    <a:pt x="103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5" y="793"/>
                  </a:lnTo>
                  <a:lnTo>
                    <a:pt x="65" y="782"/>
                  </a:lnTo>
                  <a:lnTo>
                    <a:pt x="55" y="770"/>
                  </a:lnTo>
                  <a:lnTo>
                    <a:pt x="48" y="758"/>
                  </a:lnTo>
                  <a:lnTo>
                    <a:pt x="40" y="745"/>
                  </a:lnTo>
                  <a:lnTo>
                    <a:pt x="33" y="732"/>
                  </a:lnTo>
                  <a:lnTo>
                    <a:pt x="27" y="718"/>
                  </a:lnTo>
                  <a:lnTo>
                    <a:pt x="22" y="704"/>
                  </a:lnTo>
                  <a:lnTo>
                    <a:pt x="16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7" y="636"/>
                  </a:lnTo>
                  <a:lnTo>
                    <a:pt x="5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0" y="545"/>
                  </a:lnTo>
                  <a:lnTo>
                    <a:pt x="221" y="560"/>
                  </a:lnTo>
                  <a:lnTo>
                    <a:pt x="224" y="573"/>
                  </a:lnTo>
                  <a:lnTo>
                    <a:pt x="226" y="585"/>
                  </a:lnTo>
                  <a:lnTo>
                    <a:pt x="228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9" y="619"/>
                  </a:lnTo>
                  <a:lnTo>
                    <a:pt x="243" y="625"/>
                  </a:lnTo>
                  <a:lnTo>
                    <a:pt x="248" y="630"/>
                  </a:lnTo>
                  <a:lnTo>
                    <a:pt x="255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5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1" y="630"/>
                  </a:lnTo>
                  <a:lnTo>
                    <a:pt x="326" y="624"/>
                  </a:lnTo>
                  <a:lnTo>
                    <a:pt x="330" y="619"/>
                  </a:lnTo>
                  <a:lnTo>
                    <a:pt x="335" y="612"/>
                  </a:lnTo>
                  <a:lnTo>
                    <a:pt x="338" y="604"/>
                  </a:lnTo>
                  <a:lnTo>
                    <a:pt x="341" y="595"/>
                  </a:lnTo>
                  <a:lnTo>
                    <a:pt x="344" y="584"/>
                  </a:lnTo>
                  <a:lnTo>
                    <a:pt x="347" y="572"/>
                  </a:lnTo>
                  <a:lnTo>
                    <a:pt x="348" y="559"/>
                  </a:lnTo>
                  <a:lnTo>
                    <a:pt x="349" y="545"/>
                  </a:lnTo>
                  <a:lnTo>
                    <a:pt x="350" y="529"/>
                  </a:lnTo>
                  <a:lnTo>
                    <a:pt x="350" y="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192640" y="815400"/>
              <a:ext cx="230400" cy="344520"/>
            </a:xfrm>
            <a:custGeom>
              <a:avLst/>
              <a:gdLst/>
              <a:ahLst/>
              <a:rect l="l" t="t" r="r" b="b"/>
              <a:pathLst>
                <a:path w="634" h="847">
                  <a:moveTo>
                    <a:pt x="219" y="397"/>
                  </a:moveTo>
                  <a:lnTo>
                    <a:pt x="240" y="397"/>
                  </a:lnTo>
                  <a:lnTo>
                    <a:pt x="254" y="397"/>
                  </a:lnTo>
                  <a:lnTo>
                    <a:pt x="268" y="396"/>
                  </a:lnTo>
                  <a:lnTo>
                    <a:pt x="280" y="394"/>
                  </a:lnTo>
                  <a:lnTo>
                    <a:pt x="292" y="391"/>
                  </a:lnTo>
                  <a:lnTo>
                    <a:pt x="303" y="388"/>
                  </a:lnTo>
                  <a:lnTo>
                    <a:pt x="313" y="383"/>
                  </a:lnTo>
                  <a:lnTo>
                    <a:pt x="322" y="378"/>
                  </a:lnTo>
                  <a:lnTo>
                    <a:pt x="330" y="371"/>
                  </a:lnTo>
                  <a:lnTo>
                    <a:pt x="337" y="364"/>
                  </a:lnTo>
                  <a:lnTo>
                    <a:pt x="344" y="356"/>
                  </a:lnTo>
                  <a:lnTo>
                    <a:pt x="349" y="348"/>
                  </a:lnTo>
                  <a:lnTo>
                    <a:pt x="354" y="338"/>
                  </a:lnTo>
                  <a:lnTo>
                    <a:pt x="357" y="328"/>
                  </a:lnTo>
                  <a:lnTo>
                    <a:pt x="359" y="317"/>
                  </a:lnTo>
                  <a:lnTo>
                    <a:pt x="360" y="306"/>
                  </a:lnTo>
                  <a:lnTo>
                    <a:pt x="361" y="293"/>
                  </a:lnTo>
                  <a:lnTo>
                    <a:pt x="360" y="280"/>
                  </a:lnTo>
                  <a:lnTo>
                    <a:pt x="359" y="268"/>
                  </a:lnTo>
                  <a:lnTo>
                    <a:pt x="357" y="257"/>
                  </a:lnTo>
                  <a:lnTo>
                    <a:pt x="354" y="247"/>
                  </a:lnTo>
                  <a:lnTo>
                    <a:pt x="349" y="238"/>
                  </a:lnTo>
                  <a:lnTo>
                    <a:pt x="344" y="229"/>
                  </a:lnTo>
                  <a:lnTo>
                    <a:pt x="339" y="220"/>
                  </a:lnTo>
                  <a:lnTo>
                    <a:pt x="331" y="213"/>
                  </a:lnTo>
                  <a:lnTo>
                    <a:pt x="323" y="207"/>
                  </a:lnTo>
                  <a:lnTo>
                    <a:pt x="315" y="201"/>
                  </a:lnTo>
                  <a:lnTo>
                    <a:pt x="305" y="197"/>
                  </a:lnTo>
                  <a:lnTo>
                    <a:pt x="295" y="192"/>
                  </a:lnTo>
                  <a:lnTo>
                    <a:pt x="284" y="190"/>
                  </a:lnTo>
                  <a:lnTo>
                    <a:pt x="272" y="188"/>
                  </a:lnTo>
                  <a:lnTo>
                    <a:pt x="260" y="186"/>
                  </a:lnTo>
                  <a:lnTo>
                    <a:pt x="246" y="186"/>
                  </a:lnTo>
                  <a:lnTo>
                    <a:pt x="219" y="186"/>
                  </a:lnTo>
                  <a:lnTo>
                    <a:pt x="219" y="397"/>
                  </a:lnTo>
                  <a:close/>
                  <a:moveTo>
                    <a:pt x="0" y="847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1"/>
                  </a:lnTo>
                  <a:lnTo>
                    <a:pt x="299" y="3"/>
                  </a:lnTo>
                  <a:lnTo>
                    <a:pt x="318" y="4"/>
                  </a:lnTo>
                  <a:lnTo>
                    <a:pt x="335" y="8"/>
                  </a:lnTo>
                  <a:lnTo>
                    <a:pt x="354" y="10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2" y="22"/>
                  </a:lnTo>
                  <a:lnTo>
                    <a:pt x="417" y="27"/>
                  </a:lnTo>
                  <a:lnTo>
                    <a:pt x="431" y="32"/>
                  </a:lnTo>
                  <a:lnTo>
                    <a:pt x="445" y="39"/>
                  </a:lnTo>
                  <a:lnTo>
                    <a:pt x="458" y="45"/>
                  </a:lnTo>
                  <a:lnTo>
                    <a:pt x="471" y="53"/>
                  </a:lnTo>
                  <a:lnTo>
                    <a:pt x="483" y="60"/>
                  </a:lnTo>
                  <a:lnTo>
                    <a:pt x="494" y="69"/>
                  </a:lnTo>
                  <a:lnTo>
                    <a:pt x="505" y="78"/>
                  </a:lnTo>
                  <a:lnTo>
                    <a:pt x="514" y="86"/>
                  </a:lnTo>
                  <a:lnTo>
                    <a:pt x="524" y="97"/>
                  </a:lnTo>
                  <a:lnTo>
                    <a:pt x="533" y="107"/>
                  </a:lnTo>
                  <a:lnTo>
                    <a:pt x="540" y="118"/>
                  </a:lnTo>
                  <a:lnTo>
                    <a:pt x="548" y="128"/>
                  </a:lnTo>
                  <a:lnTo>
                    <a:pt x="554" y="140"/>
                  </a:lnTo>
                  <a:lnTo>
                    <a:pt x="560" y="153"/>
                  </a:lnTo>
                  <a:lnTo>
                    <a:pt x="565" y="165"/>
                  </a:lnTo>
                  <a:lnTo>
                    <a:pt x="569" y="179"/>
                  </a:lnTo>
                  <a:lnTo>
                    <a:pt x="574" y="192"/>
                  </a:lnTo>
                  <a:lnTo>
                    <a:pt x="577" y="206"/>
                  </a:lnTo>
                  <a:lnTo>
                    <a:pt x="579" y="221"/>
                  </a:lnTo>
                  <a:lnTo>
                    <a:pt x="581" y="236"/>
                  </a:lnTo>
                  <a:lnTo>
                    <a:pt x="582" y="252"/>
                  </a:lnTo>
                  <a:lnTo>
                    <a:pt x="582" y="268"/>
                  </a:lnTo>
                  <a:lnTo>
                    <a:pt x="581" y="286"/>
                  </a:lnTo>
                  <a:lnTo>
                    <a:pt x="580" y="305"/>
                  </a:lnTo>
                  <a:lnTo>
                    <a:pt x="577" y="322"/>
                  </a:lnTo>
                  <a:lnTo>
                    <a:pt x="574" y="338"/>
                  </a:lnTo>
                  <a:lnTo>
                    <a:pt x="568" y="354"/>
                  </a:lnTo>
                  <a:lnTo>
                    <a:pt x="562" y="369"/>
                  </a:lnTo>
                  <a:lnTo>
                    <a:pt x="554" y="384"/>
                  </a:lnTo>
                  <a:lnTo>
                    <a:pt x="547" y="398"/>
                  </a:lnTo>
                  <a:lnTo>
                    <a:pt x="537" y="411"/>
                  </a:lnTo>
                  <a:lnTo>
                    <a:pt x="527" y="423"/>
                  </a:lnTo>
                  <a:lnTo>
                    <a:pt x="515" y="435"/>
                  </a:lnTo>
                  <a:lnTo>
                    <a:pt x="504" y="445"/>
                  </a:lnTo>
                  <a:lnTo>
                    <a:pt x="492" y="455"/>
                  </a:lnTo>
                  <a:lnTo>
                    <a:pt x="478" y="462"/>
                  </a:lnTo>
                  <a:lnTo>
                    <a:pt x="464" y="469"/>
                  </a:lnTo>
                  <a:lnTo>
                    <a:pt x="449" y="475"/>
                  </a:lnTo>
                  <a:lnTo>
                    <a:pt x="634" y="847"/>
                  </a:lnTo>
                  <a:lnTo>
                    <a:pt x="394" y="847"/>
                  </a:lnTo>
                  <a:lnTo>
                    <a:pt x="219" y="484"/>
                  </a:lnTo>
                  <a:lnTo>
                    <a:pt x="219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52920" y="81540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564520" y="815400"/>
              <a:ext cx="204840" cy="344520"/>
            </a:xfrm>
            <a:custGeom>
              <a:avLst/>
              <a:gdLst/>
              <a:ahLst/>
              <a:rect l="l" t="t" r="r" b="b"/>
              <a:pathLst>
                <a:path w="563" h="847">
                  <a:moveTo>
                    <a:pt x="391" y="214"/>
                  </a:moveTo>
                  <a:lnTo>
                    <a:pt x="391" y="847"/>
                  </a:lnTo>
                  <a:lnTo>
                    <a:pt x="171" y="847"/>
                  </a:lnTo>
                  <a:lnTo>
                    <a:pt x="171" y="214"/>
                  </a:lnTo>
                  <a:lnTo>
                    <a:pt x="0" y="214"/>
                  </a:lnTo>
                  <a:lnTo>
                    <a:pt x="23" y="0"/>
                  </a:lnTo>
                  <a:lnTo>
                    <a:pt x="539" y="0"/>
                  </a:lnTo>
                  <a:lnTo>
                    <a:pt x="563" y="214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765400" y="815400"/>
              <a:ext cx="254160" cy="344520"/>
            </a:xfrm>
            <a:custGeom>
              <a:avLst/>
              <a:gdLst/>
              <a:ahLst/>
              <a:rect l="l" t="t" r="r" b="b"/>
              <a:pathLst>
                <a:path w="696" h="847">
                  <a:moveTo>
                    <a:pt x="230" y="847"/>
                  </a:moveTo>
                  <a:lnTo>
                    <a:pt x="230" y="467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344" y="255"/>
                  </a:lnTo>
                  <a:lnTo>
                    <a:pt x="450" y="0"/>
                  </a:lnTo>
                  <a:lnTo>
                    <a:pt x="696" y="0"/>
                  </a:lnTo>
                  <a:lnTo>
                    <a:pt x="450" y="477"/>
                  </a:lnTo>
                  <a:lnTo>
                    <a:pt x="450" y="847"/>
                  </a:lnTo>
                  <a:lnTo>
                    <a:pt x="23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415320" y="139716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539880" y="1393200"/>
              <a:ext cx="162720" cy="354960"/>
            </a:xfrm>
            <a:custGeom>
              <a:avLst/>
              <a:gdLst/>
              <a:ahLst/>
              <a:rect l="l" t="t" r="r" b="b"/>
              <a:pathLst>
                <a:path w="446" h="872">
                  <a:moveTo>
                    <a:pt x="16" y="862"/>
                  </a:moveTo>
                  <a:lnTo>
                    <a:pt x="11" y="628"/>
                  </a:lnTo>
                  <a:lnTo>
                    <a:pt x="16" y="630"/>
                  </a:lnTo>
                  <a:lnTo>
                    <a:pt x="23" y="634"/>
                  </a:lnTo>
                  <a:lnTo>
                    <a:pt x="29" y="636"/>
                  </a:lnTo>
                  <a:lnTo>
                    <a:pt x="34" y="637"/>
                  </a:lnTo>
                  <a:lnTo>
                    <a:pt x="41" y="639"/>
                  </a:lnTo>
                  <a:lnTo>
                    <a:pt x="46" y="641"/>
                  </a:lnTo>
                  <a:lnTo>
                    <a:pt x="52" y="642"/>
                  </a:lnTo>
                  <a:lnTo>
                    <a:pt x="58" y="645"/>
                  </a:lnTo>
                  <a:lnTo>
                    <a:pt x="64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8"/>
                  </a:lnTo>
                  <a:lnTo>
                    <a:pt x="85" y="649"/>
                  </a:lnTo>
                  <a:lnTo>
                    <a:pt x="91" y="649"/>
                  </a:lnTo>
                  <a:lnTo>
                    <a:pt x="95" y="650"/>
                  </a:lnTo>
                  <a:lnTo>
                    <a:pt x="100" y="650"/>
                  </a:lnTo>
                  <a:lnTo>
                    <a:pt x="109" y="649"/>
                  </a:lnTo>
                  <a:lnTo>
                    <a:pt x="117" y="649"/>
                  </a:lnTo>
                  <a:lnTo>
                    <a:pt x="126" y="647"/>
                  </a:lnTo>
                  <a:lnTo>
                    <a:pt x="134" y="645"/>
                  </a:lnTo>
                  <a:lnTo>
                    <a:pt x="141" y="642"/>
                  </a:lnTo>
                  <a:lnTo>
                    <a:pt x="148" y="639"/>
                  </a:lnTo>
                  <a:lnTo>
                    <a:pt x="154" y="635"/>
                  </a:lnTo>
                  <a:lnTo>
                    <a:pt x="160" y="630"/>
                  </a:lnTo>
                  <a:lnTo>
                    <a:pt x="165" y="626"/>
                  </a:lnTo>
                  <a:lnTo>
                    <a:pt x="170" y="621"/>
                  </a:lnTo>
                  <a:lnTo>
                    <a:pt x="174" y="615"/>
                  </a:lnTo>
                  <a:lnTo>
                    <a:pt x="177" y="609"/>
                  </a:lnTo>
                  <a:lnTo>
                    <a:pt x="180" y="603"/>
                  </a:lnTo>
                  <a:lnTo>
                    <a:pt x="181" y="597"/>
                  </a:lnTo>
                  <a:lnTo>
                    <a:pt x="182" y="591"/>
                  </a:lnTo>
                  <a:lnTo>
                    <a:pt x="183" y="583"/>
                  </a:lnTo>
                  <a:lnTo>
                    <a:pt x="182" y="573"/>
                  </a:lnTo>
                  <a:lnTo>
                    <a:pt x="179" y="564"/>
                  </a:lnTo>
                  <a:lnTo>
                    <a:pt x="174" y="552"/>
                  </a:lnTo>
                  <a:lnTo>
                    <a:pt x="167" y="541"/>
                  </a:lnTo>
                  <a:lnTo>
                    <a:pt x="158" y="528"/>
                  </a:lnTo>
                  <a:lnTo>
                    <a:pt x="148" y="515"/>
                  </a:lnTo>
                  <a:lnTo>
                    <a:pt x="135" y="502"/>
                  </a:lnTo>
                  <a:lnTo>
                    <a:pt x="120" y="488"/>
                  </a:lnTo>
                  <a:lnTo>
                    <a:pt x="115" y="484"/>
                  </a:lnTo>
                  <a:lnTo>
                    <a:pt x="110" y="478"/>
                  </a:lnTo>
                  <a:lnTo>
                    <a:pt x="106" y="474"/>
                  </a:lnTo>
                  <a:lnTo>
                    <a:pt x="101" y="471"/>
                  </a:lnTo>
                  <a:lnTo>
                    <a:pt x="97" y="466"/>
                  </a:lnTo>
                  <a:lnTo>
                    <a:pt x="94" y="463"/>
                  </a:lnTo>
                  <a:lnTo>
                    <a:pt x="91" y="460"/>
                  </a:lnTo>
                  <a:lnTo>
                    <a:pt x="87" y="457"/>
                  </a:lnTo>
                  <a:lnTo>
                    <a:pt x="77" y="446"/>
                  </a:lnTo>
                  <a:lnTo>
                    <a:pt x="67" y="434"/>
                  </a:lnTo>
                  <a:lnTo>
                    <a:pt x="57" y="422"/>
                  </a:lnTo>
                  <a:lnTo>
                    <a:pt x="48" y="410"/>
                  </a:lnTo>
                  <a:lnTo>
                    <a:pt x="41" y="399"/>
                  </a:lnTo>
                  <a:lnTo>
                    <a:pt x="33" y="387"/>
                  </a:lnTo>
                  <a:lnTo>
                    <a:pt x="27" y="376"/>
                  </a:lnTo>
                  <a:lnTo>
                    <a:pt x="22" y="364"/>
                  </a:lnTo>
                  <a:lnTo>
                    <a:pt x="16" y="352"/>
                  </a:lnTo>
                  <a:lnTo>
                    <a:pt x="12" y="339"/>
                  </a:lnTo>
                  <a:lnTo>
                    <a:pt x="9" y="326"/>
                  </a:lnTo>
                  <a:lnTo>
                    <a:pt x="5" y="314"/>
                  </a:lnTo>
                  <a:lnTo>
                    <a:pt x="3" y="300"/>
                  </a:lnTo>
                  <a:lnTo>
                    <a:pt x="1" y="287"/>
                  </a:lnTo>
                  <a:lnTo>
                    <a:pt x="0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2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1" y="180"/>
                  </a:lnTo>
                  <a:lnTo>
                    <a:pt x="15" y="168"/>
                  </a:lnTo>
                  <a:lnTo>
                    <a:pt x="19" y="156"/>
                  </a:lnTo>
                  <a:lnTo>
                    <a:pt x="25" y="144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4" y="112"/>
                  </a:lnTo>
                  <a:lnTo>
                    <a:pt x="53" y="101"/>
                  </a:lnTo>
                  <a:lnTo>
                    <a:pt x="60" y="92"/>
                  </a:lnTo>
                  <a:lnTo>
                    <a:pt x="70" y="82"/>
                  </a:lnTo>
                  <a:lnTo>
                    <a:pt x="80" y="73"/>
                  </a:lnTo>
                  <a:lnTo>
                    <a:pt x="89" y="63"/>
                  </a:lnTo>
                  <a:lnTo>
                    <a:pt x="100" y="56"/>
                  </a:lnTo>
                  <a:lnTo>
                    <a:pt x="111" y="47"/>
                  </a:lnTo>
                  <a:lnTo>
                    <a:pt x="122" y="41"/>
                  </a:lnTo>
                  <a:lnTo>
                    <a:pt x="134" y="34"/>
                  </a:lnTo>
                  <a:lnTo>
                    <a:pt x="146" y="28"/>
                  </a:lnTo>
                  <a:lnTo>
                    <a:pt x="158" y="22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4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0"/>
                  </a:lnTo>
                  <a:lnTo>
                    <a:pt x="325" y="1"/>
                  </a:lnTo>
                  <a:lnTo>
                    <a:pt x="333" y="1"/>
                  </a:lnTo>
                  <a:lnTo>
                    <a:pt x="343" y="2"/>
                  </a:lnTo>
                  <a:lnTo>
                    <a:pt x="352" y="3"/>
                  </a:lnTo>
                  <a:lnTo>
                    <a:pt x="360" y="4"/>
                  </a:lnTo>
                  <a:lnTo>
                    <a:pt x="369" y="6"/>
                  </a:lnTo>
                  <a:lnTo>
                    <a:pt x="377" y="7"/>
                  </a:lnTo>
                  <a:lnTo>
                    <a:pt x="386" y="9"/>
                  </a:lnTo>
                  <a:lnTo>
                    <a:pt x="395" y="12"/>
                  </a:lnTo>
                  <a:lnTo>
                    <a:pt x="403" y="13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0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4"/>
                  </a:lnTo>
                  <a:lnTo>
                    <a:pt x="408" y="221"/>
                  </a:lnTo>
                  <a:lnTo>
                    <a:pt x="401" y="218"/>
                  </a:lnTo>
                  <a:lnTo>
                    <a:pt x="395" y="216"/>
                  </a:lnTo>
                  <a:lnTo>
                    <a:pt x="388" y="214"/>
                  </a:lnTo>
                  <a:lnTo>
                    <a:pt x="383" y="211"/>
                  </a:lnTo>
                  <a:lnTo>
                    <a:pt x="376" y="209"/>
                  </a:lnTo>
                  <a:lnTo>
                    <a:pt x="371" y="208"/>
                  </a:lnTo>
                  <a:lnTo>
                    <a:pt x="364" y="207"/>
                  </a:lnTo>
                  <a:lnTo>
                    <a:pt x="359" y="205"/>
                  </a:lnTo>
                  <a:lnTo>
                    <a:pt x="354" y="205"/>
                  </a:lnTo>
                  <a:lnTo>
                    <a:pt x="349" y="204"/>
                  </a:lnTo>
                  <a:lnTo>
                    <a:pt x="344" y="203"/>
                  </a:lnTo>
                  <a:lnTo>
                    <a:pt x="339" y="203"/>
                  </a:lnTo>
                  <a:lnTo>
                    <a:pt x="334" y="203"/>
                  </a:lnTo>
                  <a:lnTo>
                    <a:pt x="325" y="203"/>
                  </a:lnTo>
                  <a:lnTo>
                    <a:pt x="315" y="204"/>
                  </a:lnTo>
                  <a:lnTo>
                    <a:pt x="306" y="205"/>
                  </a:lnTo>
                  <a:lnTo>
                    <a:pt x="298" y="207"/>
                  </a:lnTo>
                  <a:lnTo>
                    <a:pt x="290" y="209"/>
                  </a:lnTo>
                  <a:lnTo>
                    <a:pt x="283" y="213"/>
                  </a:lnTo>
                  <a:lnTo>
                    <a:pt x="276" y="216"/>
                  </a:lnTo>
                  <a:lnTo>
                    <a:pt x="271" y="220"/>
                  </a:lnTo>
                  <a:lnTo>
                    <a:pt x="265" y="224"/>
                  </a:lnTo>
                  <a:lnTo>
                    <a:pt x="261" y="230"/>
                  </a:lnTo>
                  <a:lnTo>
                    <a:pt x="257" y="235"/>
                  </a:lnTo>
                  <a:lnTo>
                    <a:pt x="253" y="241"/>
                  </a:lnTo>
                  <a:lnTo>
                    <a:pt x="251" y="247"/>
                  </a:lnTo>
                  <a:lnTo>
                    <a:pt x="250" y="255"/>
                  </a:lnTo>
                  <a:lnTo>
                    <a:pt x="249" y="261"/>
                  </a:lnTo>
                  <a:lnTo>
                    <a:pt x="248" y="270"/>
                  </a:lnTo>
                  <a:lnTo>
                    <a:pt x="249" y="278"/>
                  </a:lnTo>
                  <a:lnTo>
                    <a:pt x="252" y="288"/>
                  </a:lnTo>
                  <a:lnTo>
                    <a:pt x="257" y="298"/>
                  </a:lnTo>
                  <a:lnTo>
                    <a:pt x="263" y="308"/>
                  </a:lnTo>
                  <a:lnTo>
                    <a:pt x="272" y="318"/>
                  </a:lnTo>
                  <a:lnTo>
                    <a:pt x="283" y="330"/>
                  </a:lnTo>
                  <a:lnTo>
                    <a:pt x="294" y="341"/>
                  </a:lnTo>
                  <a:lnTo>
                    <a:pt x="309" y="353"/>
                  </a:lnTo>
                  <a:lnTo>
                    <a:pt x="315" y="358"/>
                  </a:lnTo>
                  <a:lnTo>
                    <a:pt x="320" y="363"/>
                  </a:lnTo>
                  <a:lnTo>
                    <a:pt x="326" y="367"/>
                  </a:lnTo>
                  <a:lnTo>
                    <a:pt x="330" y="370"/>
                  </a:lnTo>
                  <a:lnTo>
                    <a:pt x="335" y="375"/>
                  </a:lnTo>
                  <a:lnTo>
                    <a:pt x="339" y="378"/>
                  </a:lnTo>
                  <a:lnTo>
                    <a:pt x="343" y="381"/>
                  </a:lnTo>
                  <a:lnTo>
                    <a:pt x="346" y="384"/>
                  </a:lnTo>
                  <a:lnTo>
                    <a:pt x="358" y="395"/>
                  </a:lnTo>
                  <a:lnTo>
                    <a:pt x="370" y="407"/>
                  </a:lnTo>
                  <a:lnTo>
                    <a:pt x="380" y="418"/>
                  </a:lnTo>
                  <a:lnTo>
                    <a:pt x="389" y="431"/>
                  </a:lnTo>
                  <a:lnTo>
                    <a:pt x="399" y="443"/>
                  </a:lnTo>
                  <a:lnTo>
                    <a:pt x="407" y="456"/>
                  </a:lnTo>
                  <a:lnTo>
                    <a:pt x="414" y="468"/>
                  </a:lnTo>
                  <a:lnTo>
                    <a:pt x="422" y="483"/>
                  </a:lnTo>
                  <a:lnTo>
                    <a:pt x="427" y="497"/>
                  </a:lnTo>
                  <a:lnTo>
                    <a:pt x="432" y="511"/>
                  </a:lnTo>
                  <a:lnTo>
                    <a:pt x="437" y="526"/>
                  </a:lnTo>
                  <a:lnTo>
                    <a:pt x="441" y="540"/>
                  </a:lnTo>
                  <a:lnTo>
                    <a:pt x="443" y="555"/>
                  </a:lnTo>
                  <a:lnTo>
                    <a:pt x="445" y="570"/>
                  </a:lnTo>
                  <a:lnTo>
                    <a:pt x="446" y="585"/>
                  </a:lnTo>
                  <a:lnTo>
                    <a:pt x="446" y="601"/>
                  </a:lnTo>
                  <a:lnTo>
                    <a:pt x="446" y="616"/>
                  </a:lnTo>
                  <a:lnTo>
                    <a:pt x="445" y="632"/>
                  </a:lnTo>
                  <a:lnTo>
                    <a:pt x="444" y="647"/>
                  </a:lnTo>
                  <a:lnTo>
                    <a:pt x="442" y="661"/>
                  </a:lnTo>
                  <a:lnTo>
                    <a:pt x="439" y="675"/>
                  </a:lnTo>
                  <a:lnTo>
                    <a:pt x="435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1" y="727"/>
                  </a:lnTo>
                  <a:lnTo>
                    <a:pt x="414" y="738"/>
                  </a:lnTo>
                  <a:lnTo>
                    <a:pt x="408" y="749"/>
                  </a:lnTo>
                  <a:lnTo>
                    <a:pt x="400" y="760"/>
                  </a:lnTo>
                  <a:lnTo>
                    <a:pt x="391" y="771"/>
                  </a:lnTo>
                  <a:lnTo>
                    <a:pt x="383" y="782"/>
                  </a:lnTo>
                  <a:lnTo>
                    <a:pt x="373" y="790"/>
                  </a:lnTo>
                  <a:lnTo>
                    <a:pt x="363" y="800"/>
                  </a:lnTo>
                  <a:lnTo>
                    <a:pt x="353" y="809"/>
                  </a:lnTo>
                  <a:lnTo>
                    <a:pt x="341" y="817"/>
                  </a:lnTo>
                  <a:lnTo>
                    <a:pt x="329" y="825"/>
                  </a:lnTo>
                  <a:lnTo>
                    <a:pt x="317" y="831"/>
                  </a:lnTo>
                  <a:lnTo>
                    <a:pt x="304" y="838"/>
                  </a:lnTo>
                  <a:lnTo>
                    <a:pt x="291" y="844"/>
                  </a:lnTo>
                  <a:lnTo>
                    <a:pt x="277" y="850"/>
                  </a:lnTo>
                  <a:lnTo>
                    <a:pt x="263" y="854"/>
                  </a:lnTo>
                  <a:lnTo>
                    <a:pt x="248" y="858"/>
                  </a:lnTo>
                  <a:lnTo>
                    <a:pt x="233" y="862"/>
                  </a:lnTo>
                  <a:lnTo>
                    <a:pt x="217" y="865"/>
                  </a:lnTo>
                  <a:lnTo>
                    <a:pt x="201" y="868"/>
                  </a:lnTo>
                  <a:lnTo>
                    <a:pt x="183" y="870"/>
                  </a:lnTo>
                  <a:lnTo>
                    <a:pt x="166" y="871"/>
                  </a:lnTo>
                  <a:lnTo>
                    <a:pt x="148" y="872"/>
                  </a:lnTo>
                  <a:lnTo>
                    <a:pt x="129" y="872"/>
                  </a:lnTo>
                  <a:lnTo>
                    <a:pt x="122" y="872"/>
                  </a:lnTo>
                  <a:lnTo>
                    <a:pt x="114" y="872"/>
                  </a:lnTo>
                  <a:lnTo>
                    <a:pt x="107" y="871"/>
                  </a:lnTo>
                  <a:lnTo>
                    <a:pt x="100" y="871"/>
                  </a:lnTo>
                  <a:lnTo>
                    <a:pt x="93" y="871"/>
                  </a:lnTo>
                  <a:lnTo>
                    <a:pt x="85" y="870"/>
                  </a:lnTo>
                  <a:lnTo>
                    <a:pt x="78" y="870"/>
                  </a:lnTo>
                  <a:lnTo>
                    <a:pt x="71" y="869"/>
                  </a:lnTo>
                  <a:lnTo>
                    <a:pt x="64" y="868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7" y="865"/>
                  </a:lnTo>
                  <a:lnTo>
                    <a:pt x="29" y="864"/>
                  </a:lnTo>
                  <a:lnTo>
                    <a:pt x="23" y="863"/>
                  </a:lnTo>
                  <a:lnTo>
                    <a:pt x="16" y="8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61720" y="1397160"/>
              <a:ext cx="182880" cy="344520"/>
            </a:xfrm>
            <a:custGeom>
              <a:avLst/>
              <a:gdLst/>
              <a:ahLst/>
              <a:rect l="l" t="t" r="r" b="b"/>
              <a:pathLst>
                <a:path w="497" h="846">
                  <a:moveTo>
                    <a:pt x="0" y="846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97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4" y="311"/>
                  </a:lnTo>
                  <a:lnTo>
                    <a:pt x="394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057200" y="1388880"/>
              <a:ext cx="312480" cy="363240"/>
            </a:xfrm>
            <a:custGeom>
              <a:avLst/>
              <a:gdLst/>
              <a:ahLst/>
              <a:rect l="l" t="t" r="r" b="b"/>
              <a:pathLst>
                <a:path w="856" h="891">
                  <a:moveTo>
                    <a:pt x="428" y="235"/>
                  </a:moveTo>
                  <a:lnTo>
                    <a:pt x="408" y="237"/>
                  </a:lnTo>
                  <a:lnTo>
                    <a:pt x="387" y="239"/>
                  </a:lnTo>
                  <a:lnTo>
                    <a:pt x="369" y="244"/>
                  </a:lnTo>
                  <a:lnTo>
                    <a:pt x="350" y="251"/>
                  </a:lnTo>
                  <a:lnTo>
                    <a:pt x="332" y="259"/>
                  </a:lnTo>
                  <a:lnTo>
                    <a:pt x="316" y="269"/>
                  </a:lnTo>
                  <a:lnTo>
                    <a:pt x="300" y="282"/>
                  </a:lnTo>
                  <a:lnTo>
                    <a:pt x="285" y="296"/>
                  </a:lnTo>
                  <a:lnTo>
                    <a:pt x="272" y="311"/>
                  </a:lnTo>
                  <a:lnTo>
                    <a:pt x="260" y="327"/>
                  </a:lnTo>
                  <a:lnTo>
                    <a:pt x="250" y="345"/>
                  </a:lnTo>
                  <a:lnTo>
                    <a:pt x="241" y="363"/>
                  </a:lnTo>
                  <a:lnTo>
                    <a:pt x="235" y="382"/>
                  </a:lnTo>
                  <a:lnTo>
                    <a:pt x="231" y="403"/>
                  </a:lnTo>
                  <a:lnTo>
                    <a:pt x="229" y="423"/>
                  </a:lnTo>
                  <a:lnTo>
                    <a:pt x="227" y="445"/>
                  </a:lnTo>
                  <a:lnTo>
                    <a:pt x="229" y="467"/>
                  </a:lnTo>
                  <a:lnTo>
                    <a:pt x="231" y="488"/>
                  </a:lnTo>
                  <a:lnTo>
                    <a:pt x="235" y="508"/>
                  </a:lnTo>
                  <a:lnTo>
                    <a:pt x="241" y="527"/>
                  </a:lnTo>
                  <a:lnTo>
                    <a:pt x="250" y="545"/>
                  </a:lnTo>
                  <a:lnTo>
                    <a:pt x="260" y="563"/>
                  </a:lnTo>
                  <a:lnTo>
                    <a:pt x="272" y="579"/>
                  </a:lnTo>
                  <a:lnTo>
                    <a:pt x="285" y="594"/>
                  </a:lnTo>
                  <a:lnTo>
                    <a:pt x="300" y="608"/>
                  </a:lnTo>
                  <a:lnTo>
                    <a:pt x="316" y="621"/>
                  </a:lnTo>
                  <a:lnTo>
                    <a:pt x="332" y="631"/>
                  </a:lnTo>
                  <a:lnTo>
                    <a:pt x="349" y="639"/>
                  </a:lnTo>
                  <a:lnTo>
                    <a:pt x="359" y="643"/>
                  </a:lnTo>
                  <a:lnTo>
                    <a:pt x="368" y="646"/>
                  </a:lnTo>
                  <a:lnTo>
                    <a:pt x="377" y="649"/>
                  </a:lnTo>
                  <a:lnTo>
                    <a:pt x="387" y="651"/>
                  </a:lnTo>
                  <a:lnTo>
                    <a:pt x="408" y="653"/>
                  </a:lnTo>
                  <a:lnTo>
                    <a:pt x="428" y="655"/>
                  </a:lnTo>
                  <a:lnTo>
                    <a:pt x="450" y="653"/>
                  </a:lnTo>
                  <a:lnTo>
                    <a:pt x="469" y="651"/>
                  </a:lnTo>
                  <a:lnTo>
                    <a:pt x="488" y="646"/>
                  </a:lnTo>
                  <a:lnTo>
                    <a:pt x="507" y="639"/>
                  </a:lnTo>
                  <a:lnTo>
                    <a:pt x="524" y="631"/>
                  </a:lnTo>
                  <a:lnTo>
                    <a:pt x="541" y="621"/>
                  </a:lnTo>
                  <a:lnTo>
                    <a:pt x="556" y="608"/>
                  </a:lnTo>
                  <a:lnTo>
                    <a:pt x="572" y="594"/>
                  </a:lnTo>
                  <a:lnTo>
                    <a:pt x="586" y="579"/>
                  </a:lnTo>
                  <a:lnTo>
                    <a:pt x="597" y="562"/>
                  </a:lnTo>
                  <a:lnTo>
                    <a:pt x="607" y="544"/>
                  </a:lnTo>
                  <a:lnTo>
                    <a:pt x="615" y="527"/>
                  </a:lnTo>
                  <a:lnTo>
                    <a:pt x="621" y="508"/>
                  </a:lnTo>
                  <a:lnTo>
                    <a:pt x="625" y="487"/>
                  </a:lnTo>
                  <a:lnTo>
                    <a:pt x="629" y="467"/>
                  </a:lnTo>
                  <a:lnTo>
                    <a:pt x="630" y="445"/>
                  </a:lnTo>
                  <a:lnTo>
                    <a:pt x="629" y="423"/>
                  </a:lnTo>
                  <a:lnTo>
                    <a:pt x="625" y="403"/>
                  </a:lnTo>
                  <a:lnTo>
                    <a:pt x="621" y="382"/>
                  </a:lnTo>
                  <a:lnTo>
                    <a:pt x="615" y="364"/>
                  </a:lnTo>
                  <a:lnTo>
                    <a:pt x="607" y="346"/>
                  </a:lnTo>
                  <a:lnTo>
                    <a:pt x="597" y="328"/>
                  </a:lnTo>
                  <a:lnTo>
                    <a:pt x="586" y="312"/>
                  </a:lnTo>
                  <a:lnTo>
                    <a:pt x="572" y="296"/>
                  </a:lnTo>
                  <a:lnTo>
                    <a:pt x="556" y="282"/>
                  </a:lnTo>
                  <a:lnTo>
                    <a:pt x="541" y="270"/>
                  </a:lnTo>
                  <a:lnTo>
                    <a:pt x="524" y="259"/>
                  </a:lnTo>
                  <a:lnTo>
                    <a:pt x="507" y="251"/>
                  </a:lnTo>
                  <a:lnTo>
                    <a:pt x="488" y="244"/>
                  </a:lnTo>
                  <a:lnTo>
                    <a:pt x="469" y="239"/>
                  </a:lnTo>
                  <a:lnTo>
                    <a:pt x="450" y="237"/>
                  </a:lnTo>
                  <a:lnTo>
                    <a:pt x="428" y="235"/>
                  </a:lnTo>
                  <a:close/>
                  <a:moveTo>
                    <a:pt x="427" y="0"/>
                  </a:moveTo>
                  <a:lnTo>
                    <a:pt x="447" y="0"/>
                  </a:lnTo>
                  <a:lnTo>
                    <a:pt x="467" y="2"/>
                  </a:lnTo>
                  <a:lnTo>
                    <a:pt x="486" y="4"/>
                  </a:lnTo>
                  <a:lnTo>
                    <a:pt x="506" y="7"/>
                  </a:lnTo>
                  <a:lnTo>
                    <a:pt x="524" y="11"/>
                  </a:lnTo>
                  <a:lnTo>
                    <a:pt x="543" y="15"/>
                  </a:lnTo>
                  <a:lnTo>
                    <a:pt x="562" y="21"/>
                  </a:lnTo>
                  <a:lnTo>
                    <a:pt x="580" y="27"/>
                  </a:lnTo>
                  <a:lnTo>
                    <a:pt x="597" y="35"/>
                  </a:lnTo>
                  <a:lnTo>
                    <a:pt x="615" y="42"/>
                  </a:lnTo>
                  <a:lnTo>
                    <a:pt x="632" y="51"/>
                  </a:lnTo>
                  <a:lnTo>
                    <a:pt x="647" y="61"/>
                  </a:lnTo>
                  <a:lnTo>
                    <a:pt x="663" y="70"/>
                  </a:lnTo>
                  <a:lnTo>
                    <a:pt x="678" y="81"/>
                  </a:lnTo>
                  <a:lnTo>
                    <a:pt x="692" y="93"/>
                  </a:lnTo>
                  <a:lnTo>
                    <a:pt x="706" y="105"/>
                  </a:lnTo>
                  <a:lnTo>
                    <a:pt x="724" y="122"/>
                  </a:lnTo>
                  <a:lnTo>
                    <a:pt x="741" y="139"/>
                  </a:lnTo>
                  <a:lnTo>
                    <a:pt x="756" y="158"/>
                  </a:lnTo>
                  <a:lnTo>
                    <a:pt x="770" y="177"/>
                  </a:lnTo>
                  <a:lnTo>
                    <a:pt x="784" y="197"/>
                  </a:lnTo>
                  <a:lnTo>
                    <a:pt x="796" y="217"/>
                  </a:lnTo>
                  <a:lnTo>
                    <a:pt x="808" y="238"/>
                  </a:lnTo>
                  <a:lnTo>
                    <a:pt x="817" y="259"/>
                  </a:lnTo>
                  <a:lnTo>
                    <a:pt x="827" y="282"/>
                  </a:lnTo>
                  <a:lnTo>
                    <a:pt x="835" y="305"/>
                  </a:lnTo>
                  <a:lnTo>
                    <a:pt x="841" y="327"/>
                  </a:lnTo>
                  <a:lnTo>
                    <a:pt x="847" y="350"/>
                  </a:lnTo>
                  <a:lnTo>
                    <a:pt x="851" y="374"/>
                  </a:lnTo>
                  <a:lnTo>
                    <a:pt x="854" y="397"/>
                  </a:lnTo>
                  <a:lnTo>
                    <a:pt x="856" y="421"/>
                  </a:lnTo>
                  <a:lnTo>
                    <a:pt x="856" y="445"/>
                  </a:lnTo>
                  <a:lnTo>
                    <a:pt x="856" y="470"/>
                  </a:lnTo>
                  <a:lnTo>
                    <a:pt x="854" y="494"/>
                  </a:lnTo>
                  <a:lnTo>
                    <a:pt x="851" y="517"/>
                  </a:lnTo>
                  <a:lnTo>
                    <a:pt x="847" y="541"/>
                  </a:lnTo>
                  <a:lnTo>
                    <a:pt x="841" y="564"/>
                  </a:lnTo>
                  <a:lnTo>
                    <a:pt x="835" y="586"/>
                  </a:lnTo>
                  <a:lnTo>
                    <a:pt x="826" y="609"/>
                  </a:lnTo>
                  <a:lnTo>
                    <a:pt x="817" y="632"/>
                  </a:lnTo>
                  <a:lnTo>
                    <a:pt x="807" y="653"/>
                  </a:lnTo>
                  <a:lnTo>
                    <a:pt x="796" y="674"/>
                  </a:lnTo>
                  <a:lnTo>
                    <a:pt x="783" y="694"/>
                  </a:lnTo>
                  <a:lnTo>
                    <a:pt x="770" y="714"/>
                  </a:lnTo>
                  <a:lnTo>
                    <a:pt x="756" y="733"/>
                  </a:lnTo>
                  <a:lnTo>
                    <a:pt x="740" y="752"/>
                  </a:lnTo>
                  <a:lnTo>
                    <a:pt x="724" y="769"/>
                  </a:lnTo>
                  <a:lnTo>
                    <a:pt x="706" y="786"/>
                  </a:lnTo>
                  <a:lnTo>
                    <a:pt x="692" y="799"/>
                  </a:lnTo>
                  <a:lnTo>
                    <a:pt x="677" y="810"/>
                  </a:lnTo>
                  <a:lnTo>
                    <a:pt x="662" y="821"/>
                  </a:lnTo>
                  <a:lnTo>
                    <a:pt x="647" y="832"/>
                  </a:lnTo>
                  <a:lnTo>
                    <a:pt x="631" y="840"/>
                  </a:lnTo>
                  <a:lnTo>
                    <a:pt x="614" y="849"/>
                  </a:lnTo>
                  <a:lnTo>
                    <a:pt x="596" y="858"/>
                  </a:lnTo>
                  <a:lnTo>
                    <a:pt x="579" y="864"/>
                  </a:lnTo>
                  <a:lnTo>
                    <a:pt x="561" y="871"/>
                  </a:lnTo>
                  <a:lnTo>
                    <a:pt x="542" y="876"/>
                  </a:lnTo>
                  <a:lnTo>
                    <a:pt x="524" y="881"/>
                  </a:lnTo>
                  <a:lnTo>
                    <a:pt x="505" y="885"/>
                  </a:lnTo>
                  <a:lnTo>
                    <a:pt x="486" y="888"/>
                  </a:lnTo>
                  <a:lnTo>
                    <a:pt x="467" y="890"/>
                  </a:lnTo>
                  <a:lnTo>
                    <a:pt x="447" y="891"/>
                  </a:lnTo>
                  <a:lnTo>
                    <a:pt x="427" y="891"/>
                  </a:lnTo>
                  <a:lnTo>
                    <a:pt x="408" y="891"/>
                  </a:lnTo>
                  <a:lnTo>
                    <a:pt x="388" y="890"/>
                  </a:lnTo>
                  <a:lnTo>
                    <a:pt x="369" y="888"/>
                  </a:lnTo>
                  <a:lnTo>
                    <a:pt x="349" y="885"/>
                  </a:lnTo>
                  <a:lnTo>
                    <a:pt x="331" y="881"/>
                  </a:lnTo>
                  <a:lnTo>
                    <a:pt x="313" y="876"/>
                  </a:lnTo>
                  <a:lnTo>
                    <a:pt x="294" y="871"/>
                  </a:lnTo>
                  <a:lnTo>
                    <a:pt x="276" y="864"/>
                  </a:lnTo>
                  <a:lnTo>
                    <a:pt x="259" y="858"/>
                  </a:lnTo>
                  <a:lnTo>
                    <a:pt x="241" y="849"/>
                  </a:lnTo>
                  <a:lnTo>
                    <a:pt x="225" y="840"/>
                  </a:lnTo>
                  <a:lnTo>
                    <a:pt x="209" y="832"/>
                  </a:lnTo>
                  <a:lnTo>
                    <a:pt x="193" y="821"/>
                  </a:lnTo>
                  <a:lnTo>
                    <a:pt x="178" y="810"/>
                  </a:lnTo>
                  <a:lnTo>
                    <a:pt x="163" y="799"/>
                  </a:lnTo>
                  <a:lnTo>
                    <a:pt x="149" y="786"/>
                  </a:lnTo>
                  <a:lnTo>
                    <a:pt x="131" y="769"/>
                  </a:lnTo>
                  <a:lnTo>
                    <a:pt x="115" y="752"/>
                  </a:lnTo>
                  <a:lnTo>
                    <a:pt x="100" y="733"/>
                  </a:lnTo>
                  <a:lnTo>
                    <a:pt x="85" y="715"/>
                  </a:lnTo>
                  <a:lnTo>
                    <a:pt x="72" y="696"/>
                  </a:lnTo>
                  <a:lnTo>
                    <a:pt x="60" y="675"/>
                  </a:lnTo>
                  <a:lnTo>
                    <a:pt x="48" y="653"/>
                  </a:lnTo>
                  <a:lnTo>
                    <a:pt x="39" y="632"/>
                  </a:lnTo>
                  <a:lnTo>
                    <a:pt x="29" y="610"/>
                  </a:lnTo>
                  <a:lnTo>
                    <a:pt x="21" y="588"/>
                  </a:lnTo>
                  <a:lnTo>
                    <a:pt x="15" y="564"/>
                  </a:lnTo>
                  <a:lnTo>
                    <a:pt x="10" y="541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1" y="470"/>
                  </a:lnTo>
                  <a:lnTo>
                    <a:pt x="0" y="445"/>
                  </a:lnTo>
                  <a:lnTo>
                    <a:pt x="1" y="421"/>
                  </a:lnTo>
                  <a:lnTo>
                    <a:pt x="2" y="396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5" y="326"/>
                  </a:lnTo>
                  <a:lnTo>
                    <a:pt x="21" y="304"/>
                  </a:lnTo>
                  <a:lnTo>
                    <a:pt x="29" y="281"/>
                  </a:lnTo>
                  <a:lnTo>
                    <a:pt x="39" y="259"/>
                  </a:lnTo>
                  <a:lnTo>
                    <a:pt x="48" y="238"/>
                  </a:lnTo>
                  <a:lnTo>
                    <a:pt x="59" y="216"/>
                  </a:lnTo>
                  <a:lnTo>
                    <a:pt x="72" y="197"/>
                  </a:lnTo>
                  <a:lnTo>
                    <a:pt x="85" y="176"/>
                  </a:lnTo>
                  <a:lnTo>
                    <a:pt x="99" y="158"/>
                  </a:lnTo>
                  <a:lnTo>
                    <a:pt x="115" y="139"/>
                  </a:lnTo>
                  <a:lnTo>
                    <a:pt x="131" y="122"/>
                  </a:lnTo>
                  <a:lnTo>
                    <a:pt x="149" y="105"/>
                  </a:lnTo>
                  <a:lnTo>
                    <a:pt x="163" y="93"/>
                  </a:lnTo>
                  <a:lnTo>
                    <a:pt x="178" y="81"/>
                  </a:lnTo>
                  <a:lnTo>
                    <a:pt x="193" y="70"/>
                  </a:lnTo>
                  <a:lnTo>
                    <a:pt x="209" y="59"/>
                  </a:lnTo>
                  <a:lnTo>
                    <a:pt x="225" y="51"/>
                  </a:lnTo>
                  <a:lnTo>
                    <a:pt x="241" y="42"/>
                  </a:lnTo>
                  <a:lnTo>
                    <a:pt x="259" y="34"/>
                  </a:lnTo>
                  <a:lnTo>
                    <a:pt x="276" y="27"/>
                  </a:lnTo>
                  <a:lnTo>
                    <a:pt x="294" y="21"/>
                  </a:lnTo>
                  <a:lnTo>
                    <a:pt x="313" y="15"/>
                  </a:lnTo>
                  <a:lnTo>
                    <a:pt x="331" y="11"/>
                  </a:lnTo>
                  <a:lnTo>
                    <a:pt x="349" y="7"/>
                  </a:lnTo>
                  <a:lnTo>
                    <a:pt x="369" y="3"/>
                  </a:lnTo>
                  <a:lnTo>
                    <a:pt x="388" y="2"/>
                  </a:lnTo>
                  <a:lnTo>
                    <a:pt x="408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408560" y="1397160"/>
              <a:ext cx="232200" cy="3445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218" y="397"/>
                  </a:moveTo>
                  <a:lnTo>
                    <a:pt x="239" y="397"/>
                  </a:lnTo>
                  <a:lnTo>
                    <a:pt x="253" y="397"/>
                  </a:lnTo>
                  <a:lnTo>
                    <a:pt x="267" y="396"/>
                  </a:lnTo>
                  <a:lnTo>
                    <a:pt x="280" y="394"/>
                  </a:lnTo>
                  <a:lnTo>
                    <a:pt x="291" y="391"/>
                  </a:lnTo>
                  <a:lnTo>
                    <a:pt x="302" y="386"/>
                  </a:lnTo>
                  <a:lnTo>
                    <a:pt x="313" y="382"/>
                  </a:lnTo>
                  <a:lnTo>
                    <a:pt x="321" y="377"/>
                  </a:lnTo>
                  <a:lnTo>
                    <a:pt x="330" y="370"/>
                  </a:lnTo>
                  <a:lnTo>
                    <a:pt x="336" y="364"/>
                  </a:lnTo>
                  <a:lnTo>
                    <a:pt x="343" y="355"/>
                  </a:lnTo>
                  <a:lnTo>
                    <a:pt x="348" y="346"/>
                  </a:lnTo>
                  <a:lnTo>
                    <a:pt x="353" y="338"/>
                  </a:lnTo>
                  <a:lnTo>
                    <a:pt x="356" y="327"/>
                  </a:lnTo>
                  <a:lnTo>
                    <a:pt x="358" y="316"/>
                  </a:lnTo>
                  <a:lnTo>
                    <a:pt x="360" y="304"/>
                  </a:lnTo>
                  <a:lnTo>
                    <a:pt x="360" y="292"/>
                  </a:lnTo>
                  <a:lnTo>
                    <a:pt x="360" y="279"/>
                  </a:lnTo>
                  <a:lnTo>
                    <a:pt x="358" y="268"/>
                  </a:lnTo>
                  <a:lnTo>
                    <a:pt x="356" y="257"/>
                  </a:lnTo>
                  <a:lnTo>
                    <a:pt x="353" y="246"/>
                  </a:lnTo>
                  <a:lnTo>
                    <a:pt x="348" y="236"/>
                  </a:lnTo>
                  <a:lnTo>
                    <a:pt x="344" y="228"/>
                  </a:lnTo>
                  <a:lnTo>
                    <a:pt x="337" y="220"/>
                  </a:lnTo>
                  <a:lnTo>
                    <a:pt x="331" y="212"/>
                  </a:lnTo>
                  <a:lnTo>
                    <a:pt x="322" y="206"/>
                  </a:lnTo>
                  <a:lnTo>
                    <a:pt x="314" y="201"/>
                  </a:lnTo>
                  <a:lnTo>
                    <a:pt x="304" y="196"/>
                  </a:lnTo>
                  <a:lnTo>
                    <a:pt x="294" y="192"/>
                  </a:lnTo>
                  <a:lnTo>
                    <a:pt x="284" y="189"/>
                  </a:lnTo>
                  <a:lnTo>
                    <a:pt x="272" y="187"/>
                  </a:lnTo>
                  <a:lnTo>
                    <a:pt x="259" y="185"/>
                  </a:lnTo>
                  <a:lnTo>
                    <a:pt x="246" y="185"/>
                  </a:lnTo>
                  <a:lnTo>
                    <a:pt x="218" y="185"/>
                  </a:lnTo>
                  <a:lnTo>
                    <a:pt x="218" y="397"/>
                  </a:lnTo>
                  <a:close/>
                  <a:moveTo>
                    <a:pt x="0" y="846"/>
                  </a:moveTo>
                  <a:lnTo>
                    <a:pt x="0" y="0"/>
                  </a:lnTo>
                  <a:lnTo>
                    <a:pt x="238" y="0"/>
                  </a:lnTo>
                  <a:lnTo>
                    <a:pt x="259" y="0"/>
                  </a:lnTo>
                  <a:lnTo>
                    <a:pt x="279" y="1"/>
                  </a:lnTo>
                  <a:lnTo>
                    <a:pt x="299" y="2"/>
                  </a:lnTo>
                  <a:lnTo>
                    <a:pt x="317" y="4"/>
                  </a:lnTo>
                  <a:lnTo>
                    <a:pt x="335" y="6"/>
                  </a:lnTo>
                  <a:lnTo>
                    <a:pt x="353" y="9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1" y="21"/>
                  </a:lnTo>
                  <a:lnTo>
                    <a:pt x="416" y="27"/>
                  </a:lnTo>
                  <a:lnTo>
                    <a:pt x="430" y="32"/>
                  </a:lnTo>
                  <a:lnTo>
                    <a:pt x="444" y="39"/>
                  </a:lnTo>
                  <a:lnTo>
                    <a:pt x="457" y="45"/>
                  </a:lnTo>
                  <a:lnTo>
                    <a:pt x="470" y="52"/>
                  </a:lnTo>
                  <a:lnTo>
                    <a:pt x="482" y="60"/>
                  </a:lnTo>
                  <a:lnTo>
                    <a:pt x="494" y="68"/>
                  </a:lnTo>
                  <a:lnTo>
                    <a:pt x="504" y="76"/>
                  </a:lnTo>
                  <a:lnTo>
                    <a:pt x="514" y="86"/>
                  </a:lnTo>
                  <a:lnTo>
                    <a:pt x="523" y="96"/>
                  </a:lnTo>
                  <a:lnTo>
                    <a:pt x="532" y="107"/>
                  </a:lnTo>
                  <a:lnTo>
                    <a:pt x="540" y="117"/>
                  </a:lnTo>
                  <a:lnTo>
                    <a:pt x="547" y="128"/>
                  </a:lnTo>
                  <a:lnTo>
                    <a:pt x="553" y="140"/>
                  </a:lnTo>
                  <a:lnTo>
                    <a:pt x="560" y="152"/>
                  </a:lnTo>
                  <a:lnTo>
                    <a:pt x="565" y="165"/>
                  </a:lnTo>
                  <a:lnTo>
                    <a:pt x="569" y="178"/>
                  </a:lnTo>
                  <a:lnTo>
                    <a:pt x="573" y="192"/>
                  </a:lnTo>
                  <a:lnTo>
                    <a:pt x="576" y="206"/>
                  </a:lnTo>
                  <a:lnTo>
                    <a:pt x="578" y="220"/>
                  </a:lnTo>
                  <a:lnTo>
                    <a:pt x="580" y="235"/>
                  </a:lnTo>
                  <a:lnTo>
                    <a:pt x="581" y="251"/>
                  </a:lnTo>
                  <a:lnTo>
                    <a:pt x="581" y="268"/>
                  </a:lnTo>
                  <a:lnTo>
                    <a:pt x="581" y="286"/>
                  </a:lnTo>
                  <a:lnTo>
                    <a:pt x="579" y="303"/>
                  </a:lnTo>
                  <a:lnTo>
                    <a:pt x="577" y="320"/>
                  </a:lnTo>
                  <a:lnTo>
                    <a:pt x="573" y="338"/>
                  </a:lnTo>
                  <a:lnTo>
                    <a:pt x="567" y="353"/>
                  </a:lnTo>
                  <a:lnTo>
                    <a:pt x="561" y="369"/>
                  </a:lnTo>
                  <a:lnTo>
                    <a:pt x="554" y="383"/>
                  </a:lnTo>
                  <a:lnTo>
                    <a:pt x="546" y="397"/>
                  </a:lnTo>
                  <a:lnTo>
                    <a:pt x="536" y="411"/>
                  </a:lnTo>
                  <a:lnTo>
                    <a:pt x="526" y="423"/>
                  </a:lnTo>
                  <a:lnTo>
                    <a:pt x="515" y="434"/>
                  </a:lnTo>
                  <a:lnTo>
                    <a:pt x="504" y="445"/>
                  </a:lnTo>
                  <a:lnTo>
                    <a:pt x="491" y="453"/>
                  </a:lnTo>
                  <a:lnTo>
                    <a:pt x="477" y="462"/>
                  </a:lnTo>
                  <a:lnTo>
                    <a:pt x="463" y="468"/>
                  </a:lnTo>
                  <a:lnTo>
                    <a:pt x="447" y="474"/>
                  </a:lnTo>
                  <a:lnTo>
                    <a:pt x="634" y="846"/>
                  </a:lnTo>
                  <a:lnTo>
                    <a:pt x="394" y="846"/>
                  </a:lnTo>
                  <a:lnTo>
                    <a:pt x="218" y="484"/>
                  </a:lnTo>
                  <a:lnTo>
                    <a:pt x="218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887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31" h="846">
                  <a:moveTo>
                    <a:pt x="531" y="613"/>
                  </a:moveTo>
                  <a:lnTo>
                    <a:pt x="462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218" y="0"/>
                  </a:lnTo>
                  <a:lnTo>
                    <a:pt x="218" y="613"/>
                  </a:lnTo>
                  <a:lnTo>
                    <a:pt x="531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013720" y="139716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150880" y="1397160"/>
              <a:ext cx="181080" cy="344520"/>
            </a:xfrm>
            <a:custGeom>
              <a:avLst/>
              <a:gdLst/>
              <a:ahLst/>
              <a:rect l="l" t="t" r="r" b="b"/>
              <a:pathLst>
                <a:path w="498" h="846">
                  <a:moveTo>
                    <a:pt x="0" y="846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98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3" y="311"/>
                  </a:lnTo>
                  <a:lnTo>
                    <a:pt x="393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3593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29" h="846">
                  <a:moveTo>
                    <a:pt x="529" y="613"/>
                  </a:moveTo>
                  <a:lnTo>
                    <a:pt x="469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4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409" y="311"/>
                  </a:lnTo>
                  <a:lnTo>
                    <a:pt x="409" y="534"/>
                  </a:lnTo>
                  <a:lnTo>
                    <a:pt x="219" y="534"/>
                  </a:lnTo>
                  <a:lnTo>
                    <a:pt x="219" y="613"/>
                  </a:lnTo>
                  <a:lnTo>
                    <a:pt x="529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591880" y="1397160"/>
              <a:ext cx="72720" cy="344520"/>
            </a:xfrm>
            <a:custGeom>
              <a:avLst/>
              <a:gdLst/>
              <a:ahLst/>
              <a:rect l="l" t="t" r="r" b="b"/>
              <a:pathLst>
                <a:path w="202" h="846">
                  <a:moveTo>
                    <a:pt x="0" y="846"/>
                  </a:moveTo>
                  <a:lnTo>
                    <a:pt x="0" y="629"/>
                  </a:lnTo>
                  <a:lnTo>
                    <a:pt x="202" y="629"/>
                  </a:lnTo>
                  <a:lnTo>
                    <a:pt x="202" y="846"/>
                  </a:lnTo>
                  <a:lnTo>
                    <a:pt x="0" y="846"/>
                  </a:lnTo>
                  <a:close/>
                  <a:moveTo>
                    <a:pt x="0" y="580"/>
                  </a:moveTo>
                  <a:lnTo>
                    <a:pt x="0" y="0"/>
                  </a:lnTo>
                  <a:lnTo>
                    <a:pt x="202" y="0"/>
                  </a:lnTo>
                  <a:lnTo>
                    <a:pt x="202" y="580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086280" y="809640"/>
              <a:ext cx="164520" cy="357120"/>
            </a:xfrm>
            <a:custGeom>
              <a:avLst/>
              <a:gdLst/>
              <a:ahLst/>
              <a:rect l="l" t="t" r="r" b="b"/>
              <a:pathLst>
                <a:path w="447" h="873">
                  <a:moveTo>
                    <a:pt x="16" y="862"/>
                  </a:moveTo>
                  <a:lnTo>
                    <a:pt x="11" y="629"/>
                  </a:lnTo>
                  <a:lnTo>
                    <a:pt x="17" y="632"/>
                  </a:lnTo>
                  <a:lnTo>
                    <a:pt x="22" y="634"/>
                  </a:lnTo>
                  <a:lnTo>
                    <a:pt x="29" y="636"/>
                  </a:lnTo>
                  <a:lnTo>
                    <a:pt x="34" y="638"/>
                  </a:lnTo>
                  <a:lnTo>
                    <a:pt x="41" y="640"/>
                  </a:lnTo>
                  <a:lnTo>
                    <a:pt x="46" y="642"/>
                  </a:lnTo>
                  <a:lnTo>
                    <a:pt x="53" y="644"/>
                  </a:lnTo>
                  <a:lnTo>
                    <a:pt x="58" y="645"/>
                  </a:lnTo>
                  <a:lnTo>
                    <a:pt x="63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9"/>
                  </a:lnTo>
                  <a:lnTo>
                    <a:pt x="85" y="650"/>
                  </a:lnTo>
                  <a:lnTo>
                    <a:pt x="90" y="650"/>
                  </a:lnTo>
                  <a:lnTo>
                    <a:pt x="96" y="650"/>
                  </a:lnTo>
                  <a:lnTo>
                    <a:pt x="100" y="650"/>
                  </a:lnTo>
                  <a:lnTo>
                    <a:pt x="110" y="650"/>
                  </a:lnTo>
                  <a:lnTo>
                    <a:pt x="117" y="649"/>
                  </a:lnTo>
                  <a:lnTo>
                    <a:pt x="126" y="648"/>
                  </a:lnTo>
                  <a:lnTo>
                    <a:pt x="134" y="646"/>
                  </a:lnTo>
                  <a:lnTo>
                    <a:pt x="141" y="643"/>
                  </a:lnTo>
                  <a:lnTo>
                    <a:pt x="148" y="639"/>
                  </a:lnTo>
                  <a:lnTo>
                    <a:pt x="154" y="636"/>
                  </a:lnTo>
                  <a:lnTo>
                    <a:pt x="160" y="631"/>
                  </a:lnTo>
                  <a:lnTo>
                    <a:pt x="166" y="626"/>
                  </a:lnTo>
                  <a:lnTo>
                    <a:pt x="170" y="621"/>
                  </a:lnTo>
                  <a:lnTo>
                    <a:pt x="174" y="616"/>
                  </a:lnTo>
                  <a:lnTo>
                    <a:pt x="178" y="610"/>
                  </a:lnTo>
                  <a:lnTo>
                    <a:pt x="180" y="604"/>
                  </a:lnTo>
                  <a:lnTo>
                    <a:pt x="182" y="597"/>
                  </a:lnTo>
                  <a:lnTo>
                    <a:pt x="183" y="591"/>
                  </a:lnTo>
                  <a:lnTo>
                    <a:pt x="183" y="584"/>
                  </a:lnTo>
                  <a:lnTo>
                    <a:pt x="182" y="575"/>
                  </a:lnTo>
                  <a:lnTo>
                    <a:pt x="179" y="564"/>
                  </a:lnTo>
                  <a:lnTo>
                    <a:pt x="174" y="553"/>
                  </a:lnTo>
                  <a:lnTo>
                    <a:pt x="167" y="541"/>
                  </a:lnTo>
                  <a:lnTo>
                    <a:pt x="158" y="529"/>
                  </a:lnTo>
                  <a:lnTo>
                    <a:pt x="148" y="516"/>
                  </a:lnTo>
                  <a:lnTo>
                    <a:pt x="135" y="502"/>
                  </a:lnTo>
                  <a:lnTo>
                    <a:pt x="121" y="488"/>
                  </a:lnTo>
                  <a:lnTo>
                    <a:pt x="115" y="484"/>
                  </a:lnTo>
                  <a:lnTo>
                    <a:pt x="110" y="480"/>
                  </a:lnTo>
                  <a:lnTo>
                    <a:pt x="105" y="475"/>
                  </a:lnTo>
                  <a:lnTo>
                    <a:pt x="101" y="471"/>
                  </a:lnTo>
                  <a:lnTo>
                    <a:pt x="97" y="468"/>
                  </a:lnTo>
                  <a:lnTo>
                    <a:pt x="94" y="463"/>
                  </a:lnTo>
                  <a:lnTo>
                    <a:pt x="90" y="460"/>
                  </a:lnTo>
                  <a:lnTo>
                    <a:pt x="87" y="457"/>
                  </a:lnTo>
                  <a:lnTo>
                    <a:pt x="76" y="446"/>
                  </a:lnTo>
                  <a:lnTo>
                    <a:pt x="67" y="434"/>
                  </a:lnTo>
                  <a:lnTo>
                    <a:pt x="57" y="423"/>
                  </a:lnTo>
                  <a:lnTo>
                    <a:pt x="48" y="411"/>
                  </a:lnTo>
                  <a:lnTo>
                    <a:pt x="41" y="400"/>
                  </a:lnTo>
                  <a:lnTo>
                    <a:pt x="33" y="388"/>
                  </a:lnTo>
                  <a:lnTo>
                    <a:pt x="27" y="376"/>
                  </a:lnTo>
                  <a:lnTo>
                    <a:pt x="21" y="364"/>
                  </a:lnTo>
                  <a:lnTo>
                    <a:pt x="16" y="352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5" y="314"/>
                  </a:lnTo>
                  <a:lnTo>
                    <a:pt x="3" y="301"/>
                  </a:lnTo>
                  <a:lnTo>
                    <a:pt x="1" y="288"/>
                  </a:lnTo>
                  <a:lnTo>
                    <a:pt x="1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3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2" y="181"/>
                  </a:lnTo>
                  <a:lnTo>
                    <a:pt x="15" y="168"/>
                  </a:lnTo>
                  <a:lnTo>
                    <a:pt x="20" y="157"/>
                  </a:lnTo>
                  <a:lnTo>
                    <a:pt x="26" y="146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5" y="112"/>
                  </a:lnTo>
                  <a:lnTo>
                    <a:pt x="53" y="103"/>
                  </a:lnTo>
                  <a:lnTo>
                    <a:pt x="61" y="93"/>
                  </a:lnTo>
                  <a:lnTo>
                    <a:pt x="70" y="83"/>
                  </a:lnTo>
                  <a:lnTo>
                    <a:pt x="80" y="73"/>
                  </a:lnTo>
                  <a:lnTo>
                    <a:pt x="89" y="65"/>
                  </a:lnTo>
                  <a:lnTo>
                    <a:pt x="100" y="56"/>
                  </a:lnTo>
                  <a:lnTo>
                    <a:pt x="111" y="49"/>
                  </a:lnTo>
                  <a:lnTo>
                    <a:pt x="123" y="41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8" y="24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11"/>
                  </a:lnTo>
                  <a:lnTo>
                    <a:pt x="211" y="8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5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1"/>
                  </a:lnTo>
                  <a:lnTo>
                    <a:pt x="324" y="1"/>
                  </a:lnTo>
                  <a:lnTo>
                    <a:pt x="334" y="2"/>
                  </a:lnTo>
                  <a:lnTo>
                    <a:pt x="343" y="3"/>
                  </a:lnTo>
                  <a:lnTo>
                    <a:pt x="351" y="4"/>
                  </a:lnTo>
                  <a:lnTo>
                    <a:pt x="361" y="5"/>
                  </a:lnTo>
                  <a:lnTo>
                    <a:pt x="370" y="6"/>
                  </a:lnTo>
                  <a:lnTo>
                    <a:pt x="378" y="9"/>
                  </a:lnTo>
                  <a:lnTo>
                    <a:pt x="387" y="10"/>
                  </a:lnTo>
                  <a:lnTo>
                    <a:pt x="395" y="12"/>
                  </a:lnTo>
                  <a:lnTo>
                    <a:pt x="403" y="14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2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5"/>
                  </a:lnTo>
                  <a:lnTo>
                    <a:pt x="407" y="221"/>
                  </a:lnTo>
                  <a:lnTo>
                    <a:pt x="401" y="219"/>
                  </a:lnTo>
                  <a:lnTo>
                    <a:pt x="395" y="217"/>
                  </a:lnTo>
                  <a:lnTo>
                    <a:pt x="389" y="215"/>
                  </a:lnTo>
                  <a:lnTo>
                    <a:pt x="383" y="213"/>
                  </a:lnTo>
                  <a:lnTo>
                    <a:pt x="376" y="211"/>
                  </a:lnTo>
                  <a:lnTo>
                    <a:pt x="371" y="208"/>
                  </a:lnTo>
                  <a:lnTo>
                    <a:pt x="365" y="207"/>
                  </a:lnTo>
                  <a:lnTo>
                    <a:pt x="360" y="206"/>
                  </a:lnTo>
                  <a:lnTo>
                    <a:pt x="355" y="205"/>
                  </a:lnTo>
                  <a:lnTo>
                    <a:pt x="349" y="204"/>
                  </a:lnTo>
                  <a:lnTo>
                    <a:pt x="344" y="204"/>
                  </a:lnTo>
                  <a:lnTo>
                    <a:pt x="340" y="204"/>
                  </a:lnTo>
                  <a:lnTo>
                    <a:pt x="334" y="203"/>
                  </a:lnTo>
                  <a:lnTo>
                    <a:pt x="324" y="204"/>
                  </a:lnTo>
                  <a:lnTo>
                    <a:pt x="315" y="204"/>
                  </a:lnTo>
                  <a:lnTo>
                    <a:pt x="306" y="206"/>
                  </a:lnTo>
                  <a:lnTo>
                    <a:pt x="297" y="207"/>
                  </a:lnTo>
                  <a:lnTo>
                    <a:pt x="290" y="211"/>
                  </a:lnTo>
                  <a:lnTo>
                    <a:pt x="283" y="213"/>
                  </a:lnTo>
                  <a:lnTo>
                    <a:pt x="277" y="217"/>
                  </a:lnTo>
                  <a:lnTo>
                    <a:pt x="270" y="221"/>
                  </a:lnTo>
                  <a:lnTo>
                    <a:pt x="265" y="226"/>
                  </a:lnTo>
                  <a:lnTo>
                    <a:pt x="261" y="230"/>
                  </a:lnTo>
                  <a:lnTo>
                    <a:pt x="258" y="235"/>
                  </a:lnTo>
                  <a:lnTo>
                    <a:pt x="254" y="242"/>
                  </a:lnTo>
                  <a:lnTo>
                    <a:pt x="251" y="248"/>
                  </a:lnTo>
                  <a:lnTo>
                    <a:pt x="250" y="255"/>
                  </a:lnTo>
                  <a:lnTo>
                    <a:pt x="249" y="262"/>
                  </a:lnTo>
                  <a:lnTo>
                    <a:pt x="248" y="270"/>
                  </a:lnTo>
                  <a:lnTo>
                    <a:pt x="249" y="280"/>
                  </a:lnTo>
                  <a:lnTo>
                    <a:pt x="252" y="288"/>
                  </a:lnTo>
                  <a:lnTo>
                    <a:pt x="256" y="298"/>
                  </a:lnTo>
                  <a:lnTo>
                    <a:pt x="264" y="309"/>
                  </a:lnTo>
                  <a:lnTo>
                    <a:pt x="272" y="320"/>
                  </a:lnTo>
                  <a:lnTo>
                    <a:pt x="282" y="330"/>
                  </a:lnTo>
                  <a:lnTo>
                    <a:pt x="295" y="342"/>
                  </a:lnTo>
                  <a:lnTo>
                    <a:pt x="309" y="354"/>
                  </a:lnTo>
                  <a:lnTo>
                    <a:pt x="315" y="359"/>
                  </a:lnTo>
                  <a:lnTo>
                    <a:pt x="320" y="363"/>
                  </a:lnTo>
                  <a:lnTo>
                    <a:pt x="325" y="367"/>
                  </a:lnTo>
                  <a:lnTo>
                    <a:pt x="331" y="372"/>
                  </a:lnTo>
                  <a:lnTo>
                    <a:pt x="335" y="375"/>
                  </a:lnTo>
                  <a:lnTo>
                    <a:pt x="340" y="379"/>
                  </a:lnTo>
                  <a:lnTo>
                    <a:pt x="343" y="382"/>
                  </a:lnTo>
                  <a:lnTo>
                    <a:pt x="347" y="386"/>
                  </a:lnTo>
                  <a:lnTo>
                    <a:pt x="359" y="396"/>
                  </a:lnTo>
                  <a:lnTo>
                    <a:pt x="370" y="407"/>
                  </a:lnTo>
                  <a:lnTo>
                    <a:pt x="380" y="419"/>
                  </a:lnTo>
                  <a:lnTo>
                    <a:pt x="390" y="431"/>
                  </a:lnTo>
                  <a:lnTo>
                    <a:pt x="399" y="444"/>
                  </a:lnTo>
                  <a:lnTo>
                    <a:pt x="407" y="457"/>
                  </a:lnTo>
                  <a:lnTo>
                    <a:pt x="415" y="470"/>
                  </a:lnTo>
                  <a:lnTo>
                    <a:pt x="421" y="484"/>
                  </a:lnTo>
                  <a:lnTo>
                    <a:pt x="428" y="498"/>
                  </a:lnTo>
                  <a:lnTo>
                    <a:pt x="432" y="512"/>
                  </a:lnTo>
                  <a:lnTo>
                    <a:pt x="437" y="526"/>
                  </a:lnTo>
                  <a:lnTo>
                    <a:pt x="441" y="541"/>
                  </a:lnTo>
                  <a:lnTo>
                    <a:pt x="443" y="555"/>
                  </a:lnTo>
                  <a:lnTo>
                    <a:pt x="445" y="571"/>
                  </a:lnTo>
                  <a:lnTo>
                    <a:pt x="446" y="586"/>
                  </a:lnTo>
                  <a:lnTo>
                    <a:pt x="447" y="602"/>
                  </a:lnTo>
                  <a:lnTo>
                    <a:pt x="446" y="618"/>
                  </a:lnTo>
                  <a:lnTo>
                    <a:pt x="445" y="633"/>
                  </a:lnTo>
                  <a:lnTo>
                    <a:pt x="444" y="648"/>
                  </a:lnTo>
                  <a:lnTo>
                    <a:pt x="442" y="662"/>
                  </a:lnTo>
                  <a:lnTo>
                    <a:pt x="439" y="676"/>
                  </a:lnTo>
                  <a:lnTo>
                    <a:pt x="436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0" y="727"/>
                  </a:lnTo>
                  <a:lnTo>
                    <a:pt x="414" y="739"/>
                  </a:lnTo>
                  <a:lnTo>
                    <a:pt x="407" y="751"/>
                  </a:lnTo>
                  <a:lnTo>
                    <a:pt x="400" y="761"/>
                  </a:lnTo>
                  <a:lnTo>
                    <a:pt x="391" y="772"/>
                  </a:lnTo>
                  <a:lnTo>
                    <a:pt x="383" y="782"/>
                  </a:lnTo>
                  <a:lnTo>
                    <a:pt x="373" y="792"/>
                  </a:lnTo>
                  <a:lnTo>
                    <a:pt x="363" y="800"/>
                  </a:lnTo>
                  <a:lnTo>
                    <a:pt x="352" y="810"/>
                  </a:lnTo>
                  <a:lnTo>
                    <a:pt x="341" y="818"/>
                  </a:lnTo>
                  <a:lnTo>
                    <a:pt x="329" y="825"/>
                  </a:lnTo>
                  <a:lnTo>
                    <a:pt x="317" y="833"/>
                  </a:lnTo>
                  <a:lnTo>
                    <a:pt x="304" y="839"/>
                  </a:lnTo>
                  <a:lnTo>
                    <a:pt x="291" y="845"/>
                  </a:lnTo>
                  <a:lnTo>
                    <a:pt x="277" y="850"/>
                  </a:lnTo>
                  <a:lnTo>
                    <a:pt x="263" y="855"/>
                  </a:lnTo>
                  <a:lnTo>
                    <a:pt x="248" y="860"/>
                  </a:lnTo>
                  <a:lnTo>
                    <a:pt x="233" y="863"/>
                  </a:lnTo>
                  <a:lnTo>
                    <a:pt x="217" y="866"/>
                  </a:lnTo>
                  <a:lnTo>
                    <a:pt x="200" y="868"/>
                  </a:lnTo>
                  <a:lnTo>
                    <a:pt x="183" y="870"/>
                  </a:lnTo>
                  <a:lnTo>
                    <a:pt x="166" y="872"/>
                  </a:lnTo>
                  <a:lnTo>
                    <a:pt x="149" y="873"/>
                  </a:lnTo>
                  <a:lnTo>
                    <a:pt x="130" y="873"/>
                  </a:lnTo>
                  <a:lnTo>
                    <a:pt x="123" y="873"/>
                  </a:lnTo>
                  <a:lnTo>
                    <a:pt x="115" y="873"/>
                  </a:lnTo>
                  <a:lnTo>
                    <a:pt x="108" y="873"/>
                  </a:lnTo>
                  <a:lnTo>
                    <a:pt x="100" y="872"/>
                  </a:lnTo>
                  <a:lnTo>
                    <a:pt x="93" y="872"/>
                  </a:lnTo>
                  <a:lnTo>
                    <a:pt x="85" y="872"/>
                  </a:lnTo>
                  <a:lnTo>
                    <a:pt x="79" y="870"/>
                  </a:lnTo>
                  <a:lnTo>
                    <a:pt x="71" y="869"/>
                  </a:lnTo>
                  <a:lnTo>
                    <a:pt x="64" y="869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6" y="866"/>
                  </a:lnTo>
                  <a:lnTo>
                    <a:pt x="30" y="865"/>
                  </a:lnTo>
                  <a:lnTo>
                    <a:pt x="22" y="863"/>
                  </a:lnTo>
                  <a:lnTo>
                    <a:pt x="16" y="8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287520" y="815400"/>
              <a:ext cx="191880" cy="344520"/>
            </a:xfrm>
            <a:custGeom>
              <a:avLst/>
              <a:gdLst/>
              <a:ahLst/>
              <a:rect l="l" t="t" r="r" b="b"/>
              <a:pathLst>
                <a:path w="528" h="847">
                  <a:moveTo>
                    <a:pt x="528" y="613"/>
                  </a:moveTo>
                  <a:lnTo>
                    <a:pt x="469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2" y="226"/>
                  </a:lnTo>
                  <a:lnTo>
                    <a:pt x="217" y="226"/>
                  </a:lnTo>
                  <a:lnTo>
                    <a:pt x="217" y="311"/>
                  </a:lnTo>
                  <a:lnTo>
                    <a:pt x="408" y="311"/>
                  </a:lnTo>
                  <a:lnTo>
                    <a:pt x="408" y="535"/>
                  </a:lnTo>
                  <a:lnTo>
                    <a:pt x="217" y="535"/>
                  </a:lnTo>
                  <a:lnTo>
                    <a:pt x="217" y="613"/>
                  </a:lnTo>
                  <a:lnTo>
                    <a:pt x="528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85160" y="815400"/>
              <a:ext cx="268560" cy="344520"/>
            </a:xfrm>
            <a:custGeom>
              <a:avLst/>
              <a:gdLst/>
              <a:ahLst/>
              <a:rect l="l" t="t" r="r" b="b"/>
              <a:pathLst>
                <a:path w="736" h="847">
                  <a:moveTo>
                    <a:pt x="0" y="847"/>
                  </a:moveTo>
                  <a:lnTo>
                    <a:pt x="243" y="419"/>
                  </a:lnTo>
                  <a:lnTo>
                    <a:pt x="14" y="0"/>
                  </a:lnTo>
                  <a:lnTo>
                    <a:pt x="259" y="0"/>
                  </a:lnTo>
                  <a:lnTo>
                    <a:pt x="370" y="236"/>
                  </a:lnTo>
                  <a:lnTo>
                    <a:pt x="482" y="0"/>
                  </a:lnTo>
                  <a:lnTo>
                    <a:pt x="732" y="0"/>
                  </a:lnTo>
                  <a:lnTo>
                    <a:pt x="495" y="422"/>
                  </a:lnTo>
                  <a:lnTo>
                    <a:pt x="736" y="847"/>
                  </a:lnTo>
                  <a:lnTo>
                    <a:pt x="487" y="847"/>
                  </a:lnTo>
                  <a:lnTo>
                    <a:pt x="371" y="608"/>
                  </a:lnTo>
                  <a:lnTo>
                    <a:pt x="256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779640" y="815400"/>
              <a:ext cx="208080" cy="352800"/>
            </a:xfrm>
            <a:custGeom>
              <a:avLst/>
              <a:gdLst/>
              <a:ahLst/>
              <a:rect l="l" t="t" r="r" b="b"/>
              <a:pathLst>
                <a:path w="568" h="869">
                  <a:moveTo>
                    <a:pt x="349" y="513"/>
                  </a:moveTo>
                  <a:lnTo>
                    <a:pt x="349" y="0"/>
                  </a:lnTo>
                  <a:lnTo>
                    <a:pt x="568" y="0"/>
                  </a:lnTo>
                  <a:lnTo>
                    <a:pt x="568" y="513"/>
                  </a:lnTo>
                  <a:lnTo>
                    <a:pt x="568" y="541"/>
                  </a:lnTo>
                  <a:lnTo>
                    <a:pt x="567" y="568"/>
                  </a:lnTo>
                  <a:lnTo>
                    <a:pt x="566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60" y="658"/>
                  </a:lnTo>
                  <a:lnTo>
                    <a:pt x="555" y="675"/>
                  </a:lnTo>
                  <a:lnTo>
                    <a:pt x="552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29" y="746"/>
                  </a:lnTo>
                  <a:lnTo>
                    <a:pt x="522" y="758"/>
                  </a:lnTo>
                  <a:lnTo>
                    <a:pt x="513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6" y="801"/>
                  </a:lnTo>
                  <a:lnTo>
                    <a:pt x="476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3" y="832"/>
                  </a:lnTo>
                  <a:lnTo>
                    <a:pt x="431" y="838"/>
                  </a:lnTo>
                  <a:lnTo>
                    <a:pt x="418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6" y="857"/>
                  </a:lnTo>
                  <a:lnTo>
                    <a:pt x="362" y="862"/>
                  </a:lnTo>
                  <a:lnTo>
                    <a:pt x="347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1" y="869"/>
                  </a:lnTo>
                  <a:lnTo>
                    <a:pt x="284" y="869"/>
                  </a:lnTo>
                  <a:lnTo>
                    <a:pt x="268" y="869"/>
                  </a:lnTo>
                  <a:lnTo>
                    <a:pt x="252" y="868"/>
                  </a:lnTo>
                  <a:lnTo>
                    <a:pt x="237" y="866"/>
                  </a:lnTo>
                  <a:lnTo>
                    <a:pt x="222" y="864"/>
                  </a:lnTo>
                  <a:lnTo>
                    <a:pt x="207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3" y="825"/>
                  </a:lnTo>
                  <a:lnTo>
                    <a:pt x="102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4" y="793"/>
                  </a:lnTo>
                  <a:lnTo>
                    <a:pt x="64" y="782"/>
                  </a:lnTo>
                  <a:lnTo>
                    <a:pt x="55" y="770"/>
                  </a:lnTo>
                  <a:lnTo>
                    <a:pt x="47" y="758"/>
                  </a:lnTo>
                  <a:lnTo>
                    <a:pt x="40" y="745"/>
                  </a:lnTo>
                  <a:lnTo>
                    <a:pt x="32" y="732"/>
                  </a:lnTo>
                  <a:lnTo>
                    <a:pt x="27" y="718"/>
                  </a:lnTo>
                  <a:lnTo>
                    <a:pt x="21" y="704"/>
                  </a:lnTo>
                  <a:lnTo>
                    <a:pt x="17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6" y="636"/>
                  </a:lnTo>
                  <a:lnTo>
                    <a:pt x="4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1" y="545"/>
                  </a:lnTo>
                  <a:lnTo>
                    <a:pt x="222" y="560"/>
                  </a:lnTo>
                  <a:lnTo>
                    <a:pt x="223" y="573"/>
                  </a:lnTo>
                  <a:lnTo>
                    <a:pt x="225" y="585"/>
                  </a:lnTo>
                  <a:lnTo>
                    <a:pt x="227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8" y="619"/>
                  </a:lnTo>
                  <a:lnTo>
                    <a:pt x="242" y="625"/>
                  </a:lnTo>
                  <a:lnTo>
                    <a:pt x="248" y="630"/>
                  </a:lnTo>
                  <a:lnTo>
                    <a:pt x="254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4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0" y="630"/>
                  </a:lnTo>
                  <a:lnTo>
                    <a:pt x="325" y="624"/>
                  </a:lnTo>
                  <a:lnTo>
                    <a:pt x="331" y="619"/>
                  </a:lnTo>
                  <a:lnTo>
                    <a:pt x="334" y="612"/>
                  </a:lnTo>
                  <a:lnTo>
                    <a:pt x="338" y="604"/>
                  </a:lnTo>
                  <a:lnTo>
                    <a:pt x="342" y="595"/>
                  </a:lnTo>
                  <a:lnTo>
                    <a:pt x="344" y="584"/>
                  </a:lnTo>
                  <a:lnTo>
                    <a:pt x="346" y="572"/>
                  </a:lnTo>
                  <a:lnTo>
                    <a:pt x="347" y="559"/>
                  </a:lnTo>
                  <a:lnTo>
                    <a:pt x="349" y="545"/>
                  </a:lnTo>
                  <a:lnTo>
                    <a:pt x="349" y="529"/>
                  </a:lnTo>
                  <a:lnTo>
                    <a:pt x="349" y="5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124880" y="919440"/>
              <a:ext cx="61920" cy="115920"/>
            </a:xfrm>
            <a:custGeom>
              <a:avLst/>
              <a:gdLst/>
              <a:ahLst/>
              <a:rect l="l" t="t" r="r" b="b"/>
              <a:pathLst>
                <a:path w="174" h="285">
                  <a:moveTo>
                    <a:pt x="0" y="285"/>
                  </a:moveTo>
                  <a:lnTo>
                    <a:pt x="174" y="285"/>
                  </a:lnTo>
                  <a:lnTo>
                    <a:pt x="87" y="0"/>
                  </a:lnTo>
                  <a:lnTo>
                    <a:pt x="0" y="2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06440" y="815400"/>
              <a:ext cx="301320" cy="344520"/>
            </a:xfrm>
            <a:custGeom>
              <a:avLst/>
              <a:gdLst/>
              <a:ahLst/>
              <a:rect l="l" t="t" r="r" b="b"/>
              <a:pathLst>
                <a:path w="822" h="847">
                  <a:moveTo>
                    <a:pt x="0" y="847"/>
                  </a:moveTo>
                  <a:lnTo>
                    <a:pt x="295" y="0"/>
                  </a:lnTo>
                  <a:lnTo>
                    <a:pt x="542" y="0"/>
                  </a:lnTo>
                  <a:lnTo>
                    <a:pt x="822" y="847"/>
                  </a:lnTo>
                  <a:lnTo>
                    <a:pt x="590" y="847"/>
                  </a:lnTo>
                  <a:lnTo>
                    <a:pt x="560" y="752"/>
                  </a:lnTo>
                  <a:lnTo>
                    <a:pt x="260" y="752"/>
                  </a:lnTo>
                  <a:lnTo>
                    <a:pt x="227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335120" y="815400"/>
              <a:ext cx="194040" cy="344520"/>
            </a:xfrm>
            <a:custGeom>
              <a:avLst/>
              <a:gdLst/>
              <a:ahLst/>
              <a:rect l="l" t="t" r="r" b="b"/>
              <a:pathLst>
                <a:path w="533" h="847">
                  <a:moveTo>
                    <a:pt x="533" y="613"/>
                  </a:moveTo>
                  <a:lnTo>
                    <a:pt x="464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613"/>
                  </a:lnTo>
                  <a:lnTo>
                    <a:pt x="533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761360" y="897480"/>
              <a:ext cx="49320" cy="83160"/>
            </a:xfrm>
            <a:custGeom>
              <a:avLst/>
              <a:gdLst/>
              <a:ahLst/>
              <a:rect l="l" t="t" r="r" b="b"/>
              <a:pathLst>
                <a:path w="139" h="204">
                  <a:moveTo>
                    <a:pt x="0" y="204"/>
                  </a:moveTo>
                  <a:lnTo>
                    <a:pt x="26" y="204"/>
                  </a:lnTo>
                  <a:lnTo>
                    <a:pt x="39" y="204"/>
                  </a:lnTo>
                  <a:lnTo>
                    <a:pt x="52" y="203"/>
                  </a:lnTo>
                  <a:lnTo>
                    <a:pt x="63" y="201"/>
                  </a:lnTo>
                  <a:lnTo>
                    <a:pt x="73" y="198"/>
                  </a:lnTo>
                  <a:lnTo>
                    <a:pt x="84" y="194"/>
                  </a:lnTo>
                  <a:lnTo>
                    <a:pt x="93" y="189"/>
                  </a:lnTo>
                  <a:lnTo>
                    <a:pt x="101" y="184"/>
                  </a:lnTo>
                  <a:lnTo>
                    <a:pt x="110" y="178"/>
                  </a:lnTo>
                  <a:lnTo>
                    <a:pt x="116" y="171"/>
                  </a:lnTo>
                  <a:lnTo>
                    <a:pt x="123" y="163"/>
                  </a:lnTo>
                  <a:lnTo>
                    <a:pt x="127" y="154"/>
                  </a:lnTo>
                  <a:lnTo>
                    <a:pt x="132" y="146"/>
                  </a:lnTo>
                  <a:lnTo>
                    <a:pt x="135" y="136"/>
                  </a:lnTo>
                  <a:lnTo>
                    <a:pt x="137" y="126"/>
                  </a:lnTo>
                  <a:lnTo>
                    <a:pt x="139" y="116"/>
                  </a:lnTo>
                  <a:lnTo>
                    <a:pt x="139" y="104"/>
                  </a:lnTo>
                  <a:lnTo>
                    <a:pt x="139" y="92"/>
                  </a:lnTo>
                  <a:lnTo>
                    <a:pt x="137" y="80"/>
                  </a:lnTo>
                  <a:lnTo>
                    <a:pt x="135" y="69"/>
                  </a:lnTo>
                  <a:lnTo>
                    <a:pt x="132" y="59"/>
                  </a:lnTo>
                  <a:lnTo>
                    <a:pt x="127" y="50"/>
                  </a:lnTo>
                  <a:lnTo>
                    <a:pt x="123" y="41"/>
                  </a:lnTo>
                  <a:lnTo>
                    <a:pt x="116" y="33"/>
                  </a:lnTo>
                  <a:lnTo>
                    <a:pt x="110" y="26"/>
                  </a:lnTo>
                  <a:lnTo>
                    <a:pt x="102" y="21"/>
                  </a:lnTo>
                  <a:lnTo>
                    <a:pt x="94" y="15"/>
                  </a:lnTo>
                  <a:lnTo>
                    <a:pt x="84" y="10"/>
                  </a:lnTo>
                  <a:lnTo>
                    <a:pt x="73" y="6"/>
                  </a:lnTo>
                  <a:lnTo>
                    <a:pt x="63" y="3"/>
                  </a:lnTo>
                  <a:lnTo>
                    <a:pt x="51" y="1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0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81080" y="815400"/>
              <a:ext cx="210240" cy="344520"/>
            </a:xfrm>
            <a:custGeom>
              <a:avLst/>
              <a:gdLst/>
              <a:ahLst/>
              <a:rect l="l" t="t" r="r" b="b"/>
              <a:pathLst>
                <a:path w="577" h="847">
                  <a:moveTo>
                    <a:pt x="0" y="847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43" y="1"/>
                  </a:lnTo>
                  <a:lnTo>
                    <a:pt x="264" y="1"/>
                  </a:lnTo>
                  <a:lnTo>
                    <a:pt x="285" y="3"/>
                  </a:lnTo>
                  <a:lnTo>
                    <a:pt x="304" y="5"/>
                  </a:lnTo>
                  <a:lnTo>
                    <a:pt x="324" y="8"/>
                  </a:lnTo>
                  <a:lnTo>
                    <a:pt x="343" y="11"/>
                  </a:lnTo>
                  <a:lnTo>
                    <a:pt x="360" y="15"/>
                  </a:lnTo>
                  <a:lnTo>
                    <a:pt x="378" y="19"/>
                  </a:lnTo>
                  <a:lnTo>
                    <a:pt x="394" y="24"/>
                  </a:lnTo>
                  <a:lnTo>
                    <a:pt x="410" y="29"/>
                  </a:lnTo>
                  <a:lnTo>
                    <a:pt x="425" y="36"/>
                  </a:lnTo>
                  <a:lnTo>
                    <a:pt x="439" y="42"/>
                  </a:lnTo>
                  <a:lnTo>
                    <a:pt x="453" y="50"/>
                  </a:lnTo>
                  <a:lnTo>
                    <a:pt x="466" y="57"/>
                  </a:lnTo>
                  <a:lnTo>
                    <a:pt x="478" y="66"/>
                  </a:lnTo>
                  <a:lnTo>
                    <a:pt x="489" y="76"/>
                  </a:lnTo>
                  <a:lnTo>
                    <a:pt x="499" y="85"/>
                  </a:lnTo>
                  <a:lnTo>
                    <a:pt x="509" y="95"/>
                  </a:lnTo>
                  <a:lnTo>
                    <a:pt x="519" y="106"/>
                  </a:lnTo>
                  <a:lnTo>
                    <a:pt x="527" y="118"/>
                  </a:lnTo>
                  <a:lnTo>
                    <a:pt x="535" y="130"/>
                  </a:lnTo>
                  <a:lnTo>
                    <a:pt x="543" y="143"/>
                  </a:lnTo>
                  <a:lnTo>
                    <a:pt x="549" y="155"/>
                  </a:lnTo>
                  <a:lnTo>
                    <a:pt x="555" y="170"/>
                  </a:lnTo>
                  <a:lnTo>
                    <a:pt x="560" y="185"/>
                  </a:lnTo>
                  <a:lnTo>
                    <a:pt x="564" y="200"/>
                  </a:lnTo>
                  <a:lnTo>
                    <a:pt x="568" y="216"/>
                  </a:lnTo>
                  <a:lnTo>
                    <a:pt x="572" y="232"/>
                  </a:lnTo>
                  <a:lnTo>
                    <a:pt x="574" y="249"/>
                  </a:lnTo>
                  <a:lnTo>
                    <a:pt x="576" y="267"/>
                  </a:lnTo>
                  <a:lnTo>
                    <a:pt x="577" y="285"/>
                  </a:lnTo>
                  <a:lnTo>
                    <a:pt x="577" y="305"/>
                  </a:lnTo>
                  <a:lnTo>
                    <a:pt x="577" y="323"/>
                  </a:lnTo>
                  <a:lnTo>
                    <a:pt x="576" y="340"/>
                  </a:lnTo>
                  <a:lnTo>
                    <a:pt x="574" y="359"/>
                  </a:lnTo>
                  <a:lnTo>
                    <a:pt x="572" y="375"/>
                  </a:lnTo>
                  <a:lnTo>
                    <a:pt x="568" y="391"/>
                  </a:lnTo>
                  <a:lnTo>
                    <a:pt x="565" y="407"/>
                  </a:lnTo>
                  <a:lnTo>
                    <a:pt x="561" y="422"/>
                  </a:lnTo>
                  <a:lnTo>
                    <a:pt x="555" y="437"/>
                  </a:lnTo>
                  <a:lnTo>
                    <a:pt x="550" y="451"/>
                  </a:lnTo>
                  <a:lnTo>
                    <a:pt x="544" y="465"/>
                  </a:lnTo>
                  <a:lnTo>
                    <a:pt x="536" y="478"/>
                  </a:lnTo>
                  <a:lnTo>
                    <a:pt x="529" y="491"/>
                  </a:lnTo>
                  <a:lnTo>
                    <a:pt x="521" y="503"/>
                  </a:lnTo>
                  <a:lnTo>
                    <a:pt x="511" y="515"/>
                  </a:lnTo>
                  <a:lnTo>
                    <a:pt x="502" y="526"/>
                  </a:lnTo>
                  <a:lnTo>
                    <a:pt x="492" y="537"/>
                  </a:lnTo>
                  <a:lnTo>
                    <a:pt x="481" y="546"/>
                  </a:lnTo>
                  <a:lnTo>
                    <a:pt x="469" y="556"/>
                  </a:lnTo>
                  <a:lnTo>
                    <a:pt x="457" y="565"/>
                  </a:lnTo>
                  <a:lnTo>
                    <a:pt x="444" y="573"/>
                  </a:lnTo>
                  <a:lnTo>
                    <a:pt x="431" y="580"/>
                  </a:lnTo>
                  <a:lnTo>
                    <a:pt x="417" y="587"/>
                  </a:lnTo>
                  <a:lnTo>
                    <a:pt x="403" y="593"/>
                  </a:lnTo>
                  <a:lnTo>
                    <a:pt x="389" y="599"/>
                  </a:lnTo>
                  <a:lnTo>
                    <a:pt x="373" y="604"/>
                  </a:lnTo>
                  <a:lnTo>
                    <a:pt x="358" y="608"/>
                  </a:lnTo>
                  <a:lnTo>
                    <a:pt x="342" y="611"/>
                  </a:lnTo>
                  <a:lnTo>
                    <a:pt x="325" y="614"/>
                  </a:lnTo>
                  <a:lnTo>
                    <a:pt x="307" y="617"/>
                  </a:lnTo>
                  <a:lnTo>
                    <a:pt x="289" y="619"/>
                  </a:lnTo>
                  <a:lnTo>
                    <a:pt x="271" y="619"/>
                  </a:lnTo>
                  <a:lnTo>
                    <a:pt x="251" y="620"/>
                  </a:lnTo>
                  <a:lnTo>
                    <a:pt x="219" y="620"/>
                  </a:lnTo>
                  <a:lnTo>
                    <a:pt x="219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933080" y="815400"/>
              <a:ext cx="208440" cy="352800"/>
            </a:xfrm>
            <a:custGeom>
              <a:avLst/>
              <a:gdLst/>
              <a:ahLst/>
              <a:rect l="l" t="t" r="r" b="b"/>
              <a:pathLst>
                <a:path w="569" h="869">
                  <a:moveTo>
                    <a:pt x="350" y="513"/>
                  </a:moveTo>
                  <a:lnTo>
                    <a:pt x="350" y="0"/>
                  </a:lnTo>
                  <a:lnTo>
                    <a:pt x="569" y="0"/>
                  </a:lnTo>
                  <a:lnTo>
                    <a:pt x="569" y="513"/>
                  </a:lnTo>
                  <a:lnTo>
                    <a:pt x="569" y="541"/>
                  </a:lnTo>
                  <a:lnTo>
                    <a:pt x="568" y="568"/>
                  </a:lnTo>
                  <a:lnTo>
                    <a:pt x="567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59" y="658"/>
                  </a:lnTo>
                  <a:lnTo>
                    <a:pt x="556" y="675"/>
                  </a:lnTo>
                  <a:lnTo>
                    <a:pt x="551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30" y="746"/>
                  </a:lnTo>
                  <a:lnTo>
                    <a:pt x="522" y="758"/>
                  </a:lnTo>
                  <a:lnTo>
                    <a:pt x="514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7" y="801"/>
                  </a:lnTo>
                  <a:lnTo>
                    <a:pt x="477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4" y="832"/>
                  </a:lnTo>
                  <a:lnTo>
                    <a:pt x="432" y="838"/>
                  </a:lnTo>
                  <a:lnTo>
                    <a:pt x="419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7" y="857"/>
                  </a:lnTo>
                  <a:lnTo>
                    <a:pt x="363" y="862"/>
                  </a:lnTo>
                  <a:lnTo>
                    <a:pt x="348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0" y="869"/>
                  </a:lnTo>
                  <a:lnTo>
                    <a:pt x="284" y="869"/>
                  </a:lnTo>
                  <a:lnTo>
                    <a:pt x="269" y="869"/>
                  </a:lnTo>
                  <a:lnTo>
                    <a:pt x="253" y="868"/>
                  </a:lnTo>
                  <a:lnTo>
                    <a:pt x="237" y="866"/>
                  </a:lnTo>
                  <a:lnTo>
                    <a:pt x="221" y="864"/>
                  </a:lnTo>
                  <a:lnTo>
                    <a:pt x="206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4" y="825"/>
                  </a:lnTo>
                  <a:lnTo>
                    <a:pt x="103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5" y="793"/>
                  </a:lnTo>
                  <a:lnTo>
                    <a:pt x="65" y="782"/>
                  </a:lnTo>
                  <a:lnTo>
                    <a:pt x="55" y="770"/>
                  </a:lnTo>
                  <a:lnTo>
                    <a:pt x="48" y="758"/>
                  </a:lnTo>
                  <a:lnTo>
                    <a:pt x="40" y="745"/>
                  </a:lnTo>
                  <a:lnTo>
                    <a:pt x="33" y="732"/>
                  </a:lnTo>
                  <a:lnTo>
                    <a:pt x="27" y="718"/>
                  </a:lnTo>
                  <a:lnTo>
                    <a:pt x="22" y="704"/>
                  </a:lnTo>
                  <a:lnTo>
                    <a:pt x="16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7" y="636"/>
                  </a:lnTo>
                  <a:lnTo>
                    <a:pt x="5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0" y="545"/>
                  </a:lnTo>
                  <a:lnTo>
                    <a:pt x="221" y="560"/>
                  </a:lnTo>
                  <a:lnTo>
                    <a:pt x="224" y="573"/>
                  </a:lnTo>
                  <a:lnTo>
                    <a:pt x="226" y="585"/>
                  </a:lnTo>
                  <a:lnTo>
                    <a:pt x="228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9" y="619"/>
                  </a:lnTo>
                  <a:lnTo>
                    <a:pt x="243" y="625"/>
                  </a:lnTo>
                  <a:lnTo>
                    <a:pt x="248" y="630"/>
                  </a:lnTo>
                  <a:lnTo>
                    <a:pt x="255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5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1" y="630"/>
                  </a:lnTo>
                  <a:lnTo>
                    <a:pt x="326" y="624"/>
                  </a:lnTo>
                  <a:lnTo>
                    <a:pt x="330" y="619"/>
                  </a:lnTo>
                  <a:lnTo>
                    <a:pt x="335" y="612"/>
                  </a:lnTo>
                  <a:lnTo>
                    <a:pt x="338" y="604"/>
                  </a:lnTo>
                  <a:lnTo>
                    <a:pt x="341" y="595"/>
                  </a:lnTo>
                  <a:lnTo>
                    <a:pt x="344" y="584"/>
                  </a:lnTo>
                  <a:lnTo>
                    <a:pt x="347" y="572"/>
                  </a:lnTo>
                  <a:lnTo>
                    <a:pt x="348" y="559"/>
                  </a:lnTo>
                  <a:lnTo>
                    <a:pt x="349" y="545"/>
                  </a:lnTo>
                  <a:lnTo>
                    <a:pt x="350" y="529"/>
                  </a:lnTo>
                  <a:lnTo>
                    <a:pt x="350" y="5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271480" y="891000"/>
              <a:ext cx="52920" cy="86040"/>
            </a:xfrm>
            <a:custGeom>
              <a:avLst/>
              <a:gdLst/>
              <a:ahLst/>
              <a:rect l="l" t="t" r="r" b="b"/>
              <a:pathLst>
                <a:path w="142" h="211">
                  <a:moveTo>
                    <a:pt x="0" y="211"/>
                  </a:moveTo>
                  <a:lnTo>
                    <a:pt x="21" y="211"/>
                  </a:lnTo>
                  <a:lnTo>
                    <a:pt x="35" y="211"/>
                  </a:lnTo>
                  <a:lnTo>
                    <a:pt x="49" y="210"/>
                  </a:lnTo>
                  <a:lnTo>
                    <a:pt x="61" y="208"/>
                  </a:lnTo>
                  <a:lnTo>
                    <a:pt x="73" y="205"/>
                  </a:lnTo>
                  <a:lnTo>
                    <a:pt x="84" y="202"/>
                  </a:lnTo>
                  <a:lnTo>
                    <a:pt x="94" y="197"/>
                  </a:lnTo>
                  <a:lnTo>
                    <a:pt x="103" y="192"/>
                  </a:lnTo>
                  <a:lnTo>
                    <a:pt x="111" y="185"/>
                  </a:lnTo>
                  <a:lnTo>
                    <a:pt x="118" y="178"/>
                  </a:lnTo>
                  <a:lnTo>
                    <a:pt x="125" y="170"/>
                  </a:lnTo>
                  <a:lnTo>
                    <a:pt x="130" y="162"/>
                  </a:lnTo>
                  <a:lnTo>
                    <a:pt x="135" y="152"/>
                  </a:lnTo>
                  <a:lnTo>
                    <a:pt x="138" y="142"/>
                  </a:lnTo>
                  <a:lnTo>
                    <a:pt x="140" y="131"/>
                  </a:lnTo>
                  <a:lnTo>
                    <a:pt x="141" y="120"/>
                  </a:lnTo>
                  <a:lnTo>
                    <a:pt x="142" y="107"/>
                  </a:lnTo>
                  <a:lnTo>
                    <a:pt x="141" y="94"/>
                  </a:lnTo>
                  <a:lnTo>
                    <a:pt x="140" y="82"/>
                  </a:lnTo>
                  <a:lnTo>
                    <a:pt x="138" y="71"/>
                  </a:lnTo>
                  <a:lnTo>
                    <a:pt x="135" y="61"/>
                  </a:lnTo>
                  <a:lnTo>
                    <a:pt x="130" y="52"/>
                  </a:lnTo>
                  <a:lnTo>
                    <a:pt x="125" y="43"/>
                  </a:lnTo>
                  <a:lnTo>
                    <a:pt x="120" y="34"/>
                  </a:lnTo>
                  <a:lnTo>
                    <a:pt x="112" y="27"/>
                  </a:lnTo>
                  <a:lnTo>
                    <a:pt x="104" y="21"/>
                  </a:lnTo>
                  <a:lnTo>
                    <a:pt x="96" y="15"/>
                  </a:lnTo>
                  <a:lnTo>
                    <a:pt x="86" y="11"/>
                  </a:lnTo>
                  <a:lnTo>
                    <a:pt x="76" y="6"/>
                  </a:lnTo>
                  <a:lnTo>
                    <a:pt x="65" y="4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1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192640" y="815400"/>
              <a:ext cx="230400" cy="344520"/>
            </a:xfrm>
            <a:custGeom>
              <a:avLst/>
              <a:gdLst/>
              <a:ahLst/>
              <a:rect l="l" t="t" r="r" b="b"/>
              <a:pathLst>
                <a:path w="634" h="847">
                  <a:moveTo>
                    <a:pt x="0" y="847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1"/>
                  </a:lnTo>
                  <a:lnTo>
                    <a:pt x="299" y="3"/>
                  </a:lnTo>
                  <a:lnTo>
                    <a:pt x="318" y="4"/>
                  </a:lnTo>
                  <a:lnTo>
                    <a:pt x="335" y="8"/>
                  </a:lnTo>
                  <a:lnTo>
                    <a:pt x="354" y="10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2" y="22"/>
                  </a:lnTo>
                  <a:lnTo>
                    <a:pt x="417" y="27"/>
                  </a:lnTo>
                  <a:lnTo>
                    <a:pt x="431" y="32"/>
                  </a:lnTo>
                  <a:lnTo>
                    <a:pt x="445" y="39"/>
                  </a:lnTo>
                  <a:lnTo>
                    <a:pt x="458" y="45"/>
                  </a:lnTo>
                  <a:lnTo>
                    <a:pt x="471" y="53"/>
                  </a:lnTo>
                  <a:lnTo>
                    <a:pt x="483" y="60"/>
                  </a:lnTo>
                  <a:lnTo>
                    <a:pt x="494" y="69"/>
                  </a:lnTo>
                  <a:lnTo>
                    <a:pt x="505" y="78"/>
                  </a:lnTo>
                  <a:lnTo>
                    <a:pt x="514" y="86"/>
                  </a:lnTo>
                  <a:lnTo>
                    <a:pt x="524" y="97"/>
                  </a:lnTo>
                  <a:lnTo>
                    <a:pt x="533" y="107"/>
                  </a:lnTo>
                  <a:lnTo>
                    <a:pt x="540" y="118"/>
                  </a:lnTo>
                  <a:lnTo>
                    <a:pt x="548" y="128"/>
                  </a:lnTo>
                  <a:lnTo>
                    <a:pt x="554" y="140"/>
                  </a:lnTo>
                  <a:lnTo>
                    <a:pt x="560" y="153"/>
                  </a:lnTo>
                  <a:lnTo>
                    <a:pt x="565" y="165"/>
                  </a:lnTo>
                  <a:lnTo>
                    <a:pt x="569" y="179"/>
                  </a:lnTo>
                  <a:lnTo>
                    <a:pt x="574" y="192"/>
                  </a:lnTo>
                  <a:lnTo>
                    <a:pt x="577" y="206"/>
                  </a:lnTo>
                  <a:lnTo>
                    <a:pt x="579" y="221"/>
                  </a:lnTo>
                  <a:lnTo>
                    <a:pt x="581" y="236"/>
                  </a:lnTo>
                  <a:lnTo>
                    <a:pt x="582" y="252"/>
                  </a:lnTo>
                  <a:lnTo>
                    <a:pt x="582" y="268"/>
                  </a:lnTo>
                  <a:lnTo>
                    <a:pt x="581" y="286"/>
                  </a:lnTo>
                  <a:lnTo>
                    <a:pt x="580" y="305"/>
                  </a:lnTo>
                  <a:lnTo>
                    <a:pt x="577" y="322"/>
                  </a:lnTo>
                  <a:lnTo>
                    <a:pt x="574" y="338"/>
                  </a:lnTo>
                  <a:lnTo>
                    <a:pt x="568" y="354"/>
                  </a:lnTo>
                  <a:lnTo>
                    <a:pt x="562" y="369"/>
                  </a:lnTo>
                  <a:lnTo>
                    <a:pt x="554" y="384"/>
                  </a:lnTo>
                  <a:lnTo>
                    <a:pt x="547" y="398"/>
                  </a:lnTo>
                  <a:lnTo>
                    <a:pt x="537" y="411"/>
                  </a:lnTo>
                  <a:lnTo>
                    <a:pt x="527" y="423"/>
                  </a:lnTo>
                  <a:lnTo>
                    <a:pt x="515" y="435"/>
                  </a:lnTo>
                  <a:lnTo>
                    <a:pt x="504" y="445"/>
                  </a:lnTo>
                  <a:lnTo>
                    <a:pt x="492" y="455"/>
                  </a:lnTo>
                  <a:lnTo>
                    <a:pt x="478" y="462"/>
                  </a:lnTo>
                  <a:lnTo>
                    <a:pt x="464" y="469"/>
                  </a:lnTo>
                  <a:lnTo>
                    <a:pt x="449" y="475"/>
                  </a:lnTo>
                  <a:lnTo>
                    <a:pt x="634" y="847"/>
                  </a:lnTo>
                  <a:lnTo>
                    <a:pt x="394" y="847"/>
                  </a:lnTo>
                  <a:lnTo>
                    <a:pt x="219" y="484"/>
                  </a:lnTo>
                  <a:lnTo>
                    <a:pt x="219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452920" y="81540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564520" y="815400"/>
              <a:ext cx="204840" cy="344520"/>
            </a:xfrm>
            <a:custGeom>
              <a:avLst/>
              <a:gdLst/>
              <a:ahLst/>
              <a:rect l="l" t="t" r="r" b="b"/>
              <a:pathLst>
                <a:path w="563" h="847">
                  <a:moveTo>
                    <a:pt x="391" y="214"/>
                  </a:moveTo>
                  <a:lnTo>
                    <a:pt x="391" y="847"/>
                  </a:lnTo>
                  <a:lnTo>
                    <a:pt x="171" y="847"/>
                  </a:lnTo>
                  <a:lnTo>
                    <a:pt x="171" y="214"/>
                  </a:lnTo>
                  <a:lnTo>
                    <a:pt x="0" y="214"/>
                  </a:lnTo>
                  <a:lnTo>
                    <a:pt x="23" y="0"/>
                  </a:lnTo>
                  <a:lnTo>
                    <a:pt x="539" y="0"/>
                  </a:lnTo>
                  <a:lnTo>
                    <a:pt x="563" y="214"/>
                  </a:lnTo>
                  <a:lnTo>
                    <a:pt x="391" y="21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765400" y="815400"/>
              <a:ext cx="254160" cy="344520"/>
            </a:xfrm>
            <a:custGeom>
              <a:avLst/>
              <a:gdLst/>
              <a:ahLst/>
              <a:rect l="l" t="t" r="r" b="b"/>
              <a:pathLst>
                <a:path w="696" h="847">
                  <a:moveTo>
                    <a:pt x="230" y="847"/>
                  </a:moveTo>
                  <a:lnTo>
                    <a:pt x="230" y="467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344" y="255"/>
                  </a:lnTo>
                  <a:lnTo>
                    <a:pt x="450" y="0"/>
                  </a:lnTo>
                  <a:lnTo>
                    <a:pt x="696" y="0"/>
                  </a:lnTo>
                  <a:lnTo>
                    <a:pt x="450" y="477"/>
                  </a:lnTo>
                  <a:lnTo>
                    <a:pt x="450" y="847"/>
                  </a:lnTo>
                  <a:lnTo>
                    <a:pt x="23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415320" y="139716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539880" y="1393200"/>
              <a:ext cx="162720" cy="354960"/>
            </a:xfrm>
            <a:custGeom>
              <a:avLst/>
              <a:gdLst/>
              <a:ahLst/>
              <a:rect l="l" t="t" r="r" b="b"/>
              <a:pathLst>
                <a:path w="446" h="872">
                  <a:moveTo>
                    <a:pt x="16" y="862"/>
                  </a:moveTo>
                  <a:lnTo>
                    <a:pt x="11" y="628"/>
                  </a:lnTo>
                  <a:lnTo>
                    <a:pt x="16" y="630"/>
                  </a:lnTo>
                  <a:lnTo>
                    <a:pt x="23" y="634"/>
                  </a:lnTo>
                  <a:lnTo>
                    <a:pt x="29" y="636"/>
                  </a:lnTo>
                  <a:lnTo>
                    <a:pt x="34" y="637"/>
                  </a:lnTo>
                  <a:lnTo>
                    <a:pt x="41" y="639"/>
                  </a:lnTo>
                  <a:lnTo>
                    <a:pt x="46" y="641"/>
                  </a:lnTo>
                  <a:lnTo>
                    <a:pt x="52" y="642"/>
                  </a:lnTo>
                  <a:lnTo>
                    <a:pt x="58" y="645"/>
                  </a:lnTo>
                  <a:lnTo>
                    <a:pt x="64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8"/>
                  </a:lnTo>
                  <a:lnTo>
                    <a:pt x="85" y="649"/>
                  </a:lnTo>
                  <a:lnTo>
                    <a:pt x="91" y="649"/>
                  </a:lnTo>
                  <a:lnTo>
                    <a:pt x="95" y="650"/>
                  </a:lnTo>
                  <a:lnTo>
                    <a:pt x="100" y="650"/>
                  </a:lnTo>
                  <a:lnTo>
                    <a:pt x="109" y="649"/>
                  </a:lnTo>
                  <a:lnTo>
                    <a:pt x="117" y="649"/>
                  </a:lnTo>
                  <a:lnTo>
                    <a:pt x="126" y="647"/>
                  </a:lnTo>
                  <a:lnTo>
                    <a:pt x="134" y="645"/>
                  </a:lnTo>
                  <a:lnTo>
                    <a:pt x="141" y="642"/>
                  </a:lnTo>
                  <a:lnTo>
                    <a:pt x="148" y="639"/>
                  </a:lnTo>
                  <a:lnTo>
                    <a:pt x="154" y="635"/>
                  </a:lnTo>
                  <a:lnTo>
                    <a:pt x="160" y="630"/>
                  </a:lnTo>
                  <a:lnTo>
                    <a:pt x="165" y="626"/>
                  </a:lnTo>
                  <a:lnTo>
                    <a:pt x="170" y="621"/>
                  </a:lnTo>
                  <a:lnTo>
                    <a:pt x="174" y="615"/>
                  </a:lnTo>
                  <a:lnTo>
                    <a:pt x="177" y="609"/>
                  </a:lnTo>
                  <a:lnTo>
                    <a:pt x="180" y="603"/>
                  </a:lnTo>
                  <a:lnTo>
                    <a:pt x="181" y="597"/>
                  </a:lnTo>
                  <a:lnTo>
                    <a:pt x="182" y="591"/>
                  </a:lnTo>
                  <a:lnTo>
                    <a:pt x="183" y="583"/>
                  </a:lnTo>
                  <a:lnTo>
                    <a:pt x="182" y="573"/>
                  </a:lnTo>
                  <a:lnTo>
                    <a:pt x="179" y="564"/>
                  </a:lnTo>
                  <a:lnTo>
                    <a:pt x="174" y="552"/>
                  </a:lnTo>
                  <a:lnTo>
                    <a:pt x="167" y="541"/>
                  </a:lnTo>
                  <a:lnTo>
                    <a:pt x="158" y="528"/>
                  </a:lnTo>
                  <a:lnTo>
                    <a:pt x="148" y="515"/>
                  </a:lnTo>
                  <a:lnTo>
                    <a:pt x="135" y="502"/>
                  </a:lnTo>
                  <a:lnTo>
                    <a:pt x="120" y="488"/>
                  </a:lnTo>
                  <a:lnTo>
                    <a:pt x="115" y="484"/>
                  </a:lnTo>
                  <a:lnTo>
                    <a:pt x="110" y="478"/>
                  </a:lnTo>
                  <a:lnTo>
                    <a:pt x="106" y="474"/>
                  </a:lnTo>
                  <a:lnTo>
                    <a:pt x="101" y="471"/>
                  </a:lnTo>
                  <a:lnTo>
                    <a:pt x="97" y="466"/>
                  </a:lnTo>
                  <a:lnTo>
                    <a:pt x="94" y="463"/>
                  </a:lnTo>
                  <a:lnTo>
                    <a:pt x="91" y="460"/>
                  </a:lnTo>
                  <a:lnTo>
                    <a:pt x="87" y="457"/>
                  </a:lnTo>
                  <a:lnTo>
                    <a:pt x="77" y="446"/>
                  </a:lnTo>
                  <a:lnTo>
                    <a:pt x="67" y="434"/>
                  </a:lnTo>
                  <a:lnTo>
                    <a:pt x="57" y="422"/>
                  </a:lnTo>
                  <a:lnTo>
                    <a:pt x="48" y="410"/>
                  </a:lnTo>
                  <a:lnTo>
                    <a:pt x="41" y="399"/>
                  </a:lnTo>
                  <a:lnTo>
                    <a:pt x="33" y="387"/>
                  </a:lnTo>
                  <a:lnTo>
                    <a:pt x="27" y="376"/>
                  </a:lnTo>
                  <a:lnTo>
                    <a:pt x="22" y="364"/>
                  </a:lnTo>
                  <a:lnTo>
                    <a:pt x="16" y="352"/>
                  </a:lnTo>
                  <a:lnTo>
                    <a:pt x="12" y="339"/>
                  </a:lnTo>
                  <a:lnTo>
                    <a:pt x="9" y="326"/>
                  </a:lnTo>
                  <a:lnTo>
                    <a:pt x="5" y="314"/>
                  </a:lnTo>
                  <a:lnTo>
                    <a:pt x="3" y="300"/>
                  </a:lnTo>
                  <a:lnTo>
                    <a:pt x="1" y="287"/>
                  </a:lnTo>
                  <a:lnTo>
                    <a:pt x="0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2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1" y="180"/>
                  </a:lnTo>
                  <a:lnTo>
                    <a:pt x="15" y="168"/>
                  </a:lnTo>
                  <a:lnTo>
                    <a:pt x="19" y="156"/>
                  </a:lnTo>
                  <a:lnTo>
                    <a:pt x="25" y="144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4" y="112"/>
                  </a:lnTo>
                  <a:lnTo>
                    <a:pt x="53" y="101"/>
                  </a:lnTo>
                  <a:lnTo>
                    <a:pt x="60" y="92"/>
                  </a:lnTo>
                  <a:lnTo>
                    <a:pt x="70" y="82"/>
                  </a:lnTo>
                  <a:lnTo>
                    <a:pt x="80" y="73"/>
                  </a:lnTo>
                  <a:lnTo>
                    <a:pt x="89" y="63"/>
                  </a:lnTo>
                  <a:lnTo>
                    <a:pt x="100" y="56"/>
                  </a:lnTo>
                  <a:lnTo>
                    <a:pt x="111" y="47"/>
                  </a:lnTo>
                  <a:lnTo>
                    <a:pt x="122" y="41"/>
                  </a:lnTo>
                  <a:lnTo>
                    <a:pt x="134" y="34"/>
                  </a:lnTo>
                  <a:lnTo>
                    <a:pt x="146" y="28"/>
                  </a:lnTo>
                  <a:lnTo>
                    <a:pt x="158" y="22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4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0"/>
                  </a:lnTo>
                  <a:lnTo>
                    <a:pt x="325" y="1"/>
                  </a:lnTo>
                  <a:lnTo>
                    <a:pt x="333" y="1"/>
                  </a:lnTo>
                  <a:lnTo>
                    <a:pt x="343" y="2"/>
                  </a:lnTo>
                  <a:lnTo>
                    <a:pt x="352" y="3"/>
                  </a:lnTo>
                  <a:lnTo>
                    <a:pt x="360" y="4"/>
                  </a:lnTo>
                  <a:lnTo>
                    <a:pt x="369" y="6"/>
                  </a:lnTo>
                  <a:lnTo>
                    <a:pt x="377" y="7"/>
                  </a:lnTo>
                  <a:lnTo>
                    <a:pt x="386" y="9"/>
                  </a:lnTo>
                  <a:lnTo>
                    <a:pt x="395" y="12"/>
                  </a:lnTo>
                  <a:lnTo>
                    <a:pt x="403" y="13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0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4"/>
                  </a:lnTo>
                  <a:lnTo>
                    <a:pt x="408" y="221"/>
                  </a:lnTo>
                  <a:lnTo>
                    <a:pt x="401" y="218"/>
                  </a:lnTo>
                  <a:lnTo>
                    <a:pt x="395" y="216"/>
                  </a:lnTo>
                  <a:lnTo>
                    <a:pt x="388" y="214"/>
                  </a:lnTo>
                  <a:lnTo>
                    <a:pt x="383" y="211"/>
                  </a:lnTo>
                  <a:lnTo>
                    <a:pt x="376" y="209"/>
                  </a:lnTo>
                  <a:lnTo>
                    <a:pt x="371" y="208"/>
                  </a:lnTo>
                  <a:lnTo>
                    <a:pt x="364" y="207"/>
                  </a:lnTo>
                  <a:lnTo>
                    <a:pt x="359" y="205"/>
                  </a:lnTo>
                  <a:lnTo>
                    <a:pt x="354" y="205"/>
                  </a:lnTo>
                  <a:lnTo>
                    <a:pt x="349" y="204"/>
                  </a:lnTo>
                  <a:lnTo>
                    <a:pt x="344" y="203"/>
                  </a:lnTo>
                  <a:lnTo>
                    <a:pt x="339" y="203"/>
                  </a:lnTo>
                  <a:lnTo>
                    <a:pt x="334" y="203"/>
                  </a:lnTo>
                  <a:lnTo>
                    <a:pt x="325" y="203"/>
                  </a:lnTo>
                  <a:lnTo>
                    <a:pt x="315" y="204"/>
                  </a:lnTo>
                  <a:lnTo>
                    <a:pt x="306" y="205"/>
                  </a:lnTo>
                  <a:lnTo>
                    <a:pt x="298" y="207"/>
                  </a:lnTo>
                  <a:lnTo>
                    <a:pt x="290" y="209"/>
                  </a:lnTo>
                  <a:lnTo>
                    <a:pt x="283" y="213"/>
                  </a:lnTo>
                  <a:lnTo>
                    <a:pt x="276" y="216"/>
                  </a:lnTo>
                  <a:lnTo>
                    <a:pt x="271" y="220"/>
                  </a:lnTo>
                  <a:lnTo>
                    <a:pt x="265" y="224"/>
                  </a:lnTo>
                  <a:lnTo>
                    <a:pt x="261" y="230"/>
                  </a:lnTo>
                  <a:lnTo>
                    <a:pt x="257" y="235"/>
                  </a:lnTo>
                  <a:lnTo>
                    <a:pt x="253" y="241"/>
                  </a:lnTo>
                  <a:lnTo>
                    <a:pt x="251" y="247"/>
                  </a:lnTo>
                  <a:lnTo>
                    <a:pt x="250" y="255"/>
                  </a:lnTo>
                  <a:lnTo>
                    <a:pt x="249" y="261"/>
                  </a:lnTo>
                  <a:lnTo>
                    <a:pt x="248" y="270"/>
                  </a:lnTo>
                  <a:lnTo>
                    <a:pt x="249" y="278"/>
                  </a:lnTo>
                  <a:lnTo>
                    <a:pt x="252" y="288"/>
                  </a:lnTo>
                  <a:lnTo>
                    <a:pt x="257" y="298"/>
                  </a:lnTo>
                  <a:lnTo>
                    <a:pt x="263" y="308"/>
                  </a:lnTo>
                  <a:lnTo>
                    <a:pt x="272" y="318"/>
                  </a:lnTo>
                  <a:lnTo>
                    <a:pt x="283" y="330"/>
                  </a:lnTo>
                  <a:lnTo>
                    <a:pt x="294" y="341"/>
                  </a:lnTo>
                  <a:lnTo>
                    <a:pt x="309" y="353"/>
                  </a:lnTo>
                  <a:lnTo>
                    <a:pt x="315" y="358"/>
                  </a:lnTo>
                  <a:lnTo>
                    <a:pt x="320" y="363"/>
                  </a:lnTo>
                  <a:lnTo>
                    <a:pt x="326" y="367"/>
                  </a:lnTo>
                  <a:lnTo>
                    <a:pt x="330" y="370"/>
                  </a:lnTo>
                  <a:lnTo>
                    <a:pt x="335" y="375"/>
                  </a:lnTo>
                  <a:lnTo>
                    <a:pt x="339" y="378"/>
                  </a:lnTo>
                  <a:lnTo>
                    <a:pt x="343" y="381"/>
                  </a:lnTo>
                  <a:lnTo>
                    <a:pt x="346" y="384"/>
                  </a:lnTo>
                  <a:lnTo>
                    <a:pt x="358" y="395"/>
                  </a:lnTo>
                  <a:lnTo>
                    <a:pt x="370" y="407"/>
                  </a:lnTo>
                  <a:lnTo>
                    <a:pt x="380" y="418"/>
                  </a:lnTo>
                  <a:lnTo>
                    <a:pt x="389" y="431"/>
                  </a:lnTo>
                  <a:lnTo>
                    <a:pt x="399" y="443"/>
                  </a:lnTo>
                  <a:lnTo>
                    <a:pt x="407" y="456"/>
                  </a:lnTo>
                  <a:lnTo>
                    <a:pt x="414" y="468"/>
                  </a:lnTo>
                  <a:lnTo>
                    <a:pt x="422" y="483"/>
                  </a:lnTo>
                  <a:lnTo>
                    <a:pt x="427" y="497"/>
                  </a:lnTo>
                  <a:lnTo>
                    <a:pt x="432" y="511"/>
                  </a:lnTo>
                  <a:lnTo>
                    <a:pt x="437" y="526"/>
                  </a:lnTo>
                  <a:lnTo>
                    <a:pt x="441" y="540"/>
                  </a:lnTo>
                  <a:lnTo>
                    <a:pt x="443" y="555"/>
                  </a:lnTo>
                  <a:lnTo>
                    <a:pt x="445" y="570"/>
                  </a:lnTo>
                  <a:lnTo>
                    <a:pt x="446" y="585"/>
                  </a:lnTo>
                  <a:lnTo>
                    <a:pt x="446" y="601"/>
                  </a:lnTo>
                  <a:lnTo>
                    <a:pt x="446" y="616"/>
                  </a:lnTo>
                  <a:lnTo>
                    <a:pt x="445" y="632"/>
                  </a:lnTo>
                  <a:lnTo>
                    <a:pt x="444" y="647"/>
                  </a:lnTo>
                  <a:lnTo>
                    <a:pt x="442" y="661"/>
                  </a:lnTo>
                  <a:lnTo>
                    <a:pt x="439" y="675"/>
                  </a:lnTo>
                  <a:lnTo>
                    <a:pt x="435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1" y="727"/>
                  </a:lnTo>
                  <a:lnTo>
                    <a:pt x="414" y="738"/>
                  </a:lnTo>
                  <a:lnTo>
                    <a:pt x="408" y="749"/>
                  </a:lnTo>
                  <a:lnTo>
                    <a:pt x="400" y="760"/>
                  </a:lnTo>
                  <a:lnTo>
                    <a:pt x="391" y="771"/>
                  </a:lnTo>
                  <a:lnTo>
                    <a:pt x="383" y="782"/>
                  </a:lnTo>
                  <a:lnTo>
                    <a:pt x="373" y="790"/>
                  </a:lnTo>
                  <a:lnTo>
                    <a:pt x="363" y="800"/>
                  </a:lnTo>
                  <a:lnTo>
                    <a:pt x="353" y="809"/>
                  </a:lnTo>
                  <a:lnTo>
                    <a:pt x="341" y="817"/>
                  </a:lnTo>
                  <a:lnTo>
                    <a:pt x="329" y="825"/>
                  </a:lnTo>
                  <a:lnTo>
                    <a:pt x="317" y="831"/>
                  </a:lnTo>
                  <a:lnTo>
                    <a:pt x="304" y="838"/>
                  </a:lnTo>
                  <a:lnTo>
                    <a:pt x="291" y="844"/>
                  </a:lnTo>
                  <a:lnTo>
                    <a:pt x="277" y="850"/>
                  </a:lnTo>
                  <a:lnTo>
                    <a:pt x="263" y="854"/>
                  </a:lnTo>
                  <a:lnTo>
                    <a:pt x="248" y="858"/>
                  </a:lnTo>
                  <a:lnTo>
                    <a:pt x="233" y="862"/>
                  </a:lnTo>
                  <a:lnTo>
                    <a:pt x="217" y="865"/>
                  </a:lnTo>
                  <a:lnTo>
                    <a:pt x="201" y="868"/>
                  </a:lnTo>
                  <a:lnTo>
                    <a:pt x="183" y="870"/>
                  </a:lnTo>
                  <a:lnTo>
                    <a:pt x="166" y="871"/>
                  </a:lnTo>
                  <a:lnTo>
                    <a:pt x="148" y="872"/>
                  </a:lnTo>
                  <a:lnTo>
                    <a:pt x="129" y="872"/>
                  </a:lnTo>
                  <a:lnTo>
                    <a:pt x="122" y="872"/>
                  </a:lnTo>
                  <a:lnTo>
                    <a:pt x="114" y="872"/>
                  </a:lnTo>
                  <a:lnTo>
                    <a:pt x="107" y="871"/>
                  </a:lnTo>
                  <a:lnTo>
                    <a:pt x="100" y="871"/>
                  </a:lnTo>
                  <a:lnTo>
                    <a:pt x="93" y="871"/>
                  </a:lnTo>
                  <a:lnTo>
                    <a:pt x="85" y="870"/>
                  </a:lnTo>
                  <a:lnTo>
                    <a:pt x="78" y="870"/>
                  </a:lnTo>
                  <a:lnTo>
                    <a:pt x="71" y="869"/>
                  </a:lnTo>
                  <a:lnTo>
                    <a:pt x="64" y="868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7" y="865"/>
                  </a:lnTo>
                  <a:lnTo>
                    <a:pt x="29" y="864"/>
                  </a:lnTo>
                  <a:lnTo>
                    <a:pt x="23" y="863"/>
                  </a:lnTo>
                  <a:lnTo>
                    <a:pt x="16" y="8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61720" y="1397160"/>
              <a:ext cx="182880" cy="344520"/>
            </a:xfrm>
            <a:custGeom>
              <a:avLst/>
              <a:gdLst/>
              <a:ahLst/>
              <a:rect l="l" t="t" r="r" b="b"/>
              <a:pathLst>
                <a:path w="497" h="846">
                  <a:moveTo>
                    <a:pt x="0" y="846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97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4" y="311"/>
                  </a:lnTo>
                  <a:lnTo>
                    <a:pt x="394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139280" y="1485000"/>
              <a:ext cx="148320" cy="171000"/>
            </a:xfrm>
            <a:custGeom>
              <a:avLst/>
              <a:gdLst/>
              <a:ahLst/>
              <a:rect l="l" t="t" r="r" b="b"/>
              <a:pathLst>
                <a:path w="403" h="420">
                  <a:moveTo>
                    <a:pt x="201" y="0"/>
                  </a:moveTo>
                  <a:lnTo>
                    <a:pt x="181" y="2"/>
                  </a:lnTo>
                  <a:lnTo>
                    <a:pt x="160" y="4"/>
                  </a:lnTo>
                  <a:lnTo>
                    <a:pt x="142" y="9"/>
                  </a:lnTo>
                  <a:lnTo>
                    <a:pt x="123" y="16"/>
                  </a:lnTo>
                  <a:lnTo>
                    <a:pt x="105" y="24"/>
                  </a:lnTo>
                  <a:lnTo>
                    <a:pt x="89" y="34"/>
                  </a:lnTo>
                  <a:lnTo>
                    <a:pt x="73" y="47"/>
                  </a:lnTo>
                  <a:lnTo>
                    <a:pt x="58" y="61"/>
                  </a:lnTo>
                  <a:lnTo>
                    <a:pt x="45" y="76"/>
                  </a:lnTo>
                  <a:lnTo>
                    <a:pt x="33" y="92"/>
                  </a:lnTo>
                  <a:lnTo>
                    <a:pt x="23" y="110"/>
                  </a:lnTo>
                  <a:lnTo>
                    <a:pt x="14" y="128"/>
                  </a:lnTo>
                  <a:lnTo>
                    <a:pt x="8" y="147"/>
                  </a:lnTo>
                  <a:lnTo>
                    <a:pt x="4" y="168"/>
                  </a:lnTo>
                  <a:lnTo>
                    <a:pt x="2" y="188"/>
                  </a:lnTo>
                  <a:lnTo>
                    <a:pt x="0" y="210"/>
                  </a:lnTo>
                  <a:lnTo>
                    <a:pt x="2" y="232"/>
                  </a:lnTo>
                  <a:lnTo>
                    <a:pt x="4" y="253"/>
                  </a:lnTo>
                  <a:lnTo>
                    <a:pt x="8" y="273"/>
                  </a:lnTo>
                  <a:lnTo>
                    <a:pt x="14" y="292"/>
                  </a:lnTo>
                  <a:lnTo>
                    <a:pt x="23" y="310"/>
                  </a:lnTo>
                  <a:lnTo>
                    <a:pt x="33" y="328"/>
                  </a:lnTo>
                  <a:lnTo>
                    <a:pt x="45" y="344"/>
                  </a:lnTo>
                  <a:lnTo>
                    <a:pt x="58" y="359"/>
                  </a:lnTo>
                  <a:lnTo>
                    <a:pt x="73" y="373"/>
                  </a:lnTo>
                  <a:lnTo>
                    <a:pt x="89" y="386"/>
                  </a:lnTo>
                  <a:lnTo>
                    <a:pt x="105" y="396"/>
                  </a:lnTo>
                  <a:lnTo>
                    <a:pt x="122" y="404"/>
                  </a:lnTo>
                  <a:lnTo>
                    <a:pt x="132" y="408"/>
                  </a:lnTo>
                  <a:lnTo>
                    <a:pt x="141" y="411"/>
                  </a:lnTo>
                  <a:lnTo>
                    <a:pt x="150" y="414"/>
                  </a:lnTo>
                  <a:lnTo>
                    <a:pt x="160" y="416"/>
                  </a:lnTo>
                  <a:lnTo>
                    <a:pt x="181" y="418"/>
                  </a:lnTo>
                  <a:lnTo>
                    <a:pt x="201" y="420"/>
                  </a:lnTo>
                  <a:lnTo>
                    <a:pt x="223" y="418"/>
                  </a:lnTo>
                  <a:lnTo>
                    <a:pt x="242" y="416"/>
                  </a:lnTo>
                  <a:lnTo>
                    <a:pt x="261" y="411"/>
                  </a:lnTo>
                  <a:lnTo>
                    <a:pt x="280" y="404"/>
                  </a:lnTo>
                  <a:lnTo>
                    <a:pt x="297" y="396"/>
                  </a:lnTo>
                  <a:lnTo>
                    <a:pt x="314" y="386"/>
                  </a:lnTo>
                  <a:lnTo>
                    <a:pt x="329" y="373"/>
                  </a:lnTo>
                  <a:lnTo>
                    <a:pt x="345" y="359"/>
                  </a:lnTo>
                  <a:lnTo>
                    <a:pt x="359" y="344"/>
                  </a:lnTo>
                  <a:lnTo>
                    <a:pt x="370" y="327"/>
                  </a:lnTo>
                  <a:lnTo>
                    <a:pt x="380" y="309"/>
                  </a:lnTo>
                  <a:lnTo>
                    <a:pt x="388" y="292"/>
                  </a:lnTo>
                  <a:lnTo>
                    <a:pt x="394" y="273"/>
                  </a:lnTo>
                  <a:lnTo>
                    <a:pt x="398" y="252"/>
                  </a:lnTo>
                  <a:lnTo>
                    <a:pt x="402" y="232"/>
                  </a:lnTo>
                  <a:lnTo>
                    <a:pt x="403" y="210"/>
                  </a:lnTo>
                  <a:lnTo>
                    <a:pt x="402" y="188"/>
                  </a:lnTo>
                  <a:lnTo>
                    <a:pt x="398" y="168"/>
                  </a:lnTo>
                  <a:lnTo>
                    <a:pt x="394" y="147"/>
                  </a:lnTo>
                  <a:lnTo>
                    <a:pt x="388" y="129"/>
                  </a:lnTo>
                  <a:lnTo>
                    <a:pt x="380" y="111"/>
                  </a:lnTo>
                  <a:lnTo>
                    <a:pt x="370" y="93"/>
                  </a:lnTo>
                  <a:lnTo>
                    <a:pt x="359" y="77"/>
                  </a:lnTo>
                  <a:lnTo>
                    <a:pt x="345" y="61"/>
                  </a:lnTo>
                  <a:lnTo>
                    <a:pt x="329" y="47"/>
                  </a:lnTo>
                  <a:lnTo>
                    <a:pt x="314" y="35"/>
                  </a:lnTo>
                  <a:lnTo>
                    <a:pt x="297" y="24"/>
                  </a:lnTo>
                  <a:lnTo>
                    <a:pt x="280" y="16"/>
                  </a:lnTo>
                  <a:lnTo>
                    <a:pt x="261" y="9"/>
                  </a:lnTo>
                  <a:lnTo>
                    <a:pt x="242" y="4"/>
                  </a:lnTo>
                  <a:lnTo>
                    <a:pt x="223" y="2"/>
                  </a:lnTo>
                  <a:lnTo>
                    <a:pt x="20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057200" y="1388880"/>
              <a:ext cx="312480" cy="363240"/>
            </a:xfrm>
            <a:custGeom>
              <a:avLst/>
              <a:gdLst/>
              <a:ahLst/>
              <a:rect l="l" t="t" r="r" b="b"/>
              <a:pathLst>
                <a:path w="856" h="891">
                  <a:moveTo>
                    <a:pt x="427" y="0"/>
                  </a:moveTo>
                  <a:lnTo>
                    <a:pt x="447" y="0"/>
                  </a:lnTo>
                  <a:lnTo>
                    <a:pt x="467" y="2"/>
                  </a:lnTo>
                  <a:lnTo>
                    <a:pt x="486" y="4"/>
                  </a:lnTo>
                  <a:lnTo>
                    <a:pt x="506" y="7"/>
                  </a:lnTo>
                  <a:lnTo>
                    <a:pt x="524" y="11"/>
                  </a:lnTo>
                  <a:lnTo>
                    <a:pt x="543" y="15"/>
                  </a:lnTo>
                  <a:lnTo>
                    <a:pt x="562" y="21"/>
                  </a:lnTo>
                  <a:lnTo>
                    <a:pt x="580" y="27"/>
                  </a:lnTo>
                  <a:lnTo>
                    <a:pt x="597" y="35"/>
                  </a:lnTo>
                  <a:lnTo>
                    <a:pt x="615" y="42"/>
                  </a:lnTo>
                  <a:lnTo>
                    <a:pt x="632" y="51"/>
                  </a:lnTo>
                  <a:lnTo>
                    <a:pt x="647" y="61"/>
                  </a:lnTo>
                  <a:lnTo>
                    <a:pt x="663" y="70"/>
                  </a:lnTo>
                  <a:lnTo>
                    <a:pt x="678" y="81"/>
                  </a:lnTo>
                  <a:lnTo>
                    <a:pt x="692" y="93"/>
                  </a:lnTo>
                  <a:lnTo>
                    <a:pt x="706" y="105"/>
                  </a:lnTo>
                  <a:lnTo>
                    <a:pt x="724" y="122"/>
                  </a:lnTo>
                  <a:lnTo>
                    <a:pt x="741" y="139"/>
                  </a:lnTo>
                  <a:lnTo>
                    <a:pt x="756" y="158"/>
                  </a:lnTo>
                  <a:lnTo>
                    <a:pt x="770" y="177"/>
                  </a:lnTo>
                  <a:lnTo>
                    <a:pt x="784" y="197"/>
                  </a:lnTo>
                  <a:lnTo>
                    <a:pt x="796" y="217"/>
                  </a:lnTo>
                  <a:lnTo>
                    <a:pt x="808" y="238"/>
                  </a:lnTo>
                  <a:lnTo>
                    <a:pt x="817" y="259"/>
                  </a:lnTo>
                  <a:lnTo>
                    <a:pt x="827" y="282"/>
                  </a:lnTo>
                  <a:lnTo>
                    <a:pt x="835" y="305"/>
                  </a:lnTo>
                  <a:lnTo>
                    <a:pt x="841" y="327"/>
                  </a:lnTo>
                  <a:lnTo>
                    <a:pt x="847" y="350"/>
                  </a:lnTo>
                  <a:lnTo>
                    <a:pt x="851" y="374"/>
                  </a:lnTo>
                  <a:lnTo>
                    <a:pt x="854" y="397"/>
                  </a:lnTo>
                  <a:lnTo>
                    <a:pt x="856" y="421"/>
                  </a:lnTo>
                  <a:lnTo>
                    <a:pt x="856" y="445"/>
                  </a:lnTo>
                  <a:lnTo>
                    <a:pt x="856" y="470"/>
                  </a:lnTo>
                  <a:lnTo>
                    <a:pt x="854" y="494"/>
                  </a:lnTo>
                  <a:lnTo>
                    <a:pt x="851" y="517"/>
                  </a:lnTo>
                  <a:lnTo>
                    <a:pt x="847" y="541"/>
                  </a:lnTo>
                  <a:lnTo>
                    <a:pt x="841" y="564"/>
                  </a:lnTo>
                  <a:lnTo>
                    <a:pt x="835" y="586"/>
                  </a:lnTo>
                  <a:lnTo>
                    <a:pt x="826" y="609"/>
                  </a:lnTo>
                  <a:lnTo>
                    <a:pt x="817" y="632"/>
                  </a:lnTo>
                  <a:lnTo>
                    <a:pt x="807" y="653"/>
                  </a:lnTo>
                  <a:lnTo>
                    <a:pt x="796" y="674"/>
                  </a:lnTo>
                  <a:lnTo>
                    <a:pt x="783" y="694"/>
                  </a:lnTo>
                  <a:lnTo>
                    <a:pt x="770" y="714"/>
                  </a:lnTo>
                  <a:lnTo>
                    <a:pt x="756" y="733"/>
                  </a:lnTo>
                  <a:lnTo>
                    <a:pt x="740" y="752"/>
                  </a:lnTo>
                  <a:lnTo>
                    <a:pt x="724" y="769"/>
                  </a:lnTo>
                  <a:lnTo>
                    <a:pt x="706" y="786"/>
                  </a:lnTo>
                  <a:lnTo>
                    <a:pt x="692" y="799"/>
                  </a:lnTo>
                  <a:lnTo>
                    <a:pt x="677" y="810"/>
                  </a:lnTo>
                  <a:lnTo>
                    <a:pt x="662" y="821"/>
                  </a:lnTo>
                  <a:lnTo>
                    <a:pt x="647" y="832"/>
                  </a:lnTo>
                  <a:lnTo>
                    <a:pt x="631" y="840"/>
                  </a:lnTo>
                  <a:lnTo>
                    <a:pt x="614" y="849"/>
                  </a:lnTo>
                  <a:lnTo>
                    <a:pt x="596" y="858"/>
                  </a:lnTo>
                  <a:lnTo>
                    <a:pt x="579" y="864"/>
                  </a:lnTo>
                  <a:lnTo>
                    <a:pt x="561" y="871"/>
                  </a:lnTo>
                  <a:lnTo>
                    <a:pt x="542" y="876"/>
                  </a:lnTo>
                  <a:lnTo>
                    <a:pt x="524" y="881"/>
                  </a:lnTo>
                  <a:lnTo>
                    <a:pt x="505" y="885"/>
                  </a:lnTo>
                  <a:lnTo>
                    <a:pt x="486" y="888"/>
                  </a:lnTo>
                  <a:lnTo>
                    <a:pt x="467" y="890"/>
                  </a:lnTo>
                  <a:lnTo>
                    <a:pt x="447" y="891"/>
                  </a:lnTo>
                  <a:lnTo>
                    <a:pt x="427" y="891"/>
                  </a:lnTo>
                  <a:lnTo>
                    <a:pt x="408" y="891"/>
                  </a:lnTo>
                  <a:lnTo>
                    <a:pt x="388" y="890"/>
                  </a:lnTo>
                  <a:lnTo>
                    <a:pt x="369" y="888"/>
                  </a:lnTo>
                  <a:lnTo>
                    <a:pt x="349" y="885"/>
                  </a:lnTo>
                  <a:lnTo>
                    <a:pt x="331" y="881"/>
                  </a:lnTo>
                  <a:lnTo>
                    <a:pt x="313" y="876"/>
                  </a:lnTo>
                  <a:lnTo>
                    <a:pt x="294" y="871"/>
                  </a:lnTo>
                  <a:lnTo>
                    <a:pt x="276" y="864"/>
                  </a:lnTo>
                  <a:lnTo>
                    <a:pt x="259" y="858"/>
                  </a:lnTo>
                  <a:lnTo>
                    <a:pt x="241" y="849"/>
                  </a:lnTo>
                  <a:lnTo>
                    <a:pt x="225" y="840"/>
                  </a:lnTo>
                  <a:lnTo>
                    <a:pt x="209" y="832"/>
                  </a:lnTo>
                  <a:lnTo>
                    <a:pt x="193" y="821"/>
                  </a:lnTo>
                  <a:lnTo>
                    <a:pt x="178" y="810"/>
                  </a:lnTo>
                  <a:lnTo>
                    <a:pt x="163" y="799"/>
                  </a:lnTo>
                  <a:lnTo>
                    <a:pt x="149" y="786"/>
                  </a:lnTo>
                  <a:lnTo>
                    <a:pt x="131" y="769"/>
                  </a:lnTo>
                  <a:lnTo>
                    <a:pt x="115" y="752"/>
                  </a:lnTo>
                  <a:lnTo>
                    <a:pt x="100" y="733"/>
                  </a:lnTo>
                  <a:lnTo>
                    <a:pt x="85" y="715"/>
                  </a:lnTo>
                  <a:lnTo>
                    <a:pt x="72" y="696"/>
                  </a:lnTo>
                  <a:lnTo>
                    <a:pt x="60" y="675"/>
                  </a:lnTo>
                  <a:lnTo>
                    <a:pt x="48" y="653"/>
                  </a:lnTo>
                  <a:lnTo>
                    <a:pt x="39" y="632"/>
                  </a:lnTo>
                  <a:lnTo>
                    <a:pt x="29" y="610"/>
                  </a:lnTo>
                  <a:lnTo>
                    <a:pt x="21" y="588"/>
                  </a:lnTo>
                  <a:lnTo>
                    <a:pt x="15" y="564"/>
                  </a:lnTo>
                  <a:lnTo>
                    <a:pt x="10" y="541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1" y="470"/>
                  </a:lnTo>
                  <a:lnTo>
                    <a:pt x="0" y="445"/>
                  </a:lnTo>
                  <a:lnTo>
                    <a:pt x="1" y="421"/>
                  </a:lnTo>
                  <a:lnTo>
                    <a:pt x="2" y="396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5" y="326"/>
                  </a:lnTo>
                  <a:lnTo>
                    <a:pt x="21" y="304"/>
                  </a:lnTo>
                  <a:lnTo>
                    <a:pt x="29" y="281"/>
                  </a:lnTo>
                  <a:lnTo>
                    <a:pt x="39" y="259"/>
                  </a:lnTo>
                  <a:lnTo>
                    <a:pt x="48" y="238"/>
                  </a:lnTo>
                  <a:lnTo>
                    <a:pt x="59" y="216"/>
                  </a:lnTo>
                  <a:lnTo>
                    <a:pt x="72" y="197"/>
                  </a:lnTo>
                  <a:lnTo>
                    <a:pt x="85" y="176"/>
                  </a:lnTo>
                  <a:lnTo>
                    <a:pt x="99" y="158"/>
                  </a:lnTo>
                  <a:lnTo>
                    <a:pt x="115" y="139"/>
                  </a:lnTo>
                  <a:lnTo>
                    <a:pt x="131" y="122"/>
                  </a:lnTo>
                  <a:lnTo>
                    <a:pt x="149" y="105"/>
                  </a:lnTo>
                  <a:lnTo>
                    <a:pt x="163" y="93"/>
                  </a:lnTo>
                  <a:lnTo>
                    <a:pt x="178" y="81"/>
                  </a:lnTo>
                  <a:lnTo>
                    <a:pt x="193" y="70"/>
                  </a:lnTo>
                  <a:lnTo>
                    <a:pt x="209" y="59"/>
                  </a:lnTo>
                  <a:lnTo>
                    <a:pt x="225" y="51"/>
                  </a:lnTo>
                  <a:lnTo>
                    <a:pt x="241" y="42"/>
                  </a:lnTo>
                  <a:lnTo>
                    <a:pt x="259" y="34"/>
                  </a:lnTo>
                  <a:lnTo>
                    <a:pt x="276" y="27"/>
                  </a:lnTo>
                  <a:lnTo>
                    <a:pt x="294" y="21"/>
                  </a:lnTo>
                  <a:lnTo>
                    <a:pt x="313" y="15"/>
                  </a:lnTo>
                  <a:lnTo>
                    <a:pt x="331" y="11"/>
                  </a:lnTo>
                  <a:lnTo>
                    <a:pt x="349" y="7"/>
                  </a:lnTo>
                  <a:lnTo>
                    <a:pt x="369" y="3"/>
                  </a:lnTo>
                  <a:lnTo>
                    <a:pt x="388" y="2"/>
                  </a:lnTo>
                  <a:lnTo>
                    <a:pt x="408" y="0"/>
                  </a:lnTo>
                  <a:lnTo>
                    <a:pt x="427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489200" y="1472760"/>
              <a:ext cx="50760" cy="87840"/>
            </a:xfrm>
            <a:custGeom>
              <a:avLst/>
              <a:gdLst/>
              <a:ahLst/>
              <a:rect l="l" t="t" r="r" b="b"/>
              <a:pathLst>
                <a:path w="142" h="212">
                  <a:moveTo>
                    <a:pt x="0" y="212"/>
                  </a:moveTo>
                  <a:lnTo>
                    <a:pt x="21" y="212"/>
                  </a:lnTo>
                  <a:lnTo>
                    <a:pt x="35" y="212"/>
                  </a:lnTo>
                  <a:lnTo>
                    <a:pt x="49" y="211"/>
                  </a:lnTo>
                  <a:lnTo>
                    <a:pt x="62" y="209"/>
                  </a:lnTo>
                  <a:lnTo>
                    <a:pt x="73" y="206"/>
                  </a:lnTo>
                  <a:lnTo>
                    <a:pt x="84" y="201"/>
                  </a:lnTo>
                  <a:lnTo>
                    <a:pt x="95" y="197"/>
                  </a:lnTo>
                  <a:lnTo>
                    <a:pt x="103" y="192"/>
                  </a:lnTo>
                  <a:lnTo>
                    <a:pt x="112" y="185"/>
                  </a:lnTo>
                  <a:lnTo>
                    <a:pt x="118" y="179"/>
                  </a:lnTo>
                  <a:lnTo>
                    <a:pt x="125" y="170"/>
                  </a:lnTo>
                  <a:lnTo>
                    <a:pt x="130" y="161"/>
                  </a:lnTo>
                  <a:lnTo>
                    <a:pt x="135" y="153"/>
                  </a:lnTo>
                  <a:lnTo>
                    <a:pt x="138" y="142"/>
                  </a:lnTo>
                  <a:lnTo>
                    <a:pt x="140" y="131"/>
                  </a:lnTo>
                  <a:lnTo>
                    <a:pt x="142" y="119"/>
                  </a:lnTo>
                  <a:lnTo>
                    <a:pt x="142" y="107"/>
                  </a:lnTo>
                  <a:lnTo>
                    <a:pt x="142" y="94"/>
                  </a:lnTo>
                  <a:lnTo>
                    <a:pt x="140" y="83"/>
                  </a:lnTo>
                  <a:lnTo>
                    <a:pt x="138" y="72"/>
                  </a:lnTo>
                  <a:lnTo>
                    <a:pt x="135" y="61"/>
                  </a:lnTo>
                  <a:lnTo>
                    <a:pt x="130" y="51"/>
                  </a:lnTo>
                  <a:lnTo>
                    <a:pt x="126" y="43"/>
                  </a:lnTo>
                  <a:lnTo>
                    <a:pt x="119" y="35"/>
                  </a:lnTo>
                  <a:lnTo>
                    <a:pt x="113" y="27"/>
                  </a:lnTo>
                  <a:lnTo>
                    <a:pt x="104" y="21"/>
                  </a:lnTo>
                  <a:lnTo>
                    <a:pt x="96" y="16"/>
                  </a:lnTo>
                  <a:lnTo>
                    <a:pt x="86" y="11"/>
                  </a:lnTo>
                  <a:lnTo>
                    <a:pt x="76" y="7"/>
                  </a:lnTo>
                  <a:lnTo>
                    <a:pt x="66" y="4"/>
                  </a:lnTo>
                  <a:lnTo>
                    <a:pt x="54" y="2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408560" y="1397160"/>
              <a:ext cx="232200" cy="3445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0" y="846"/>
                  </a:moveTo>
                  <a:lnTo>
                    <a:pt x="0" y="0"/>
                  </a:lnTo>
                  <a:lnTo>
                    <a:pt x="238" y="0"/>
                  </a:lnTo>
                  <a:lnTo>
                    <a:pt x="259" y="0"/>
                  </a:lnTo>
                  <a:lnTo>
                    <a:pt x="279" y="1"/>
                  </a:lnTo>
                  <a:lnTo>
                    <a:pt x="299" y="2"/>
                  </a:lnTo>
                  <a:lnTo>
                    <a:pt x="317" y="4"/>
                  </a:lnTo>
                  <a:lnTo>
                    <a:pt x="335" y="6"/>
                  </a:lnTo>
                  <a:lnTo>
                    <a:pt x="353" y="9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1" y="21"/>
                  </a:lnTo>
                  <a:lnTo>
                    <a:pt x="416" y="27"/>
                  </a:lnTo>
                  <a:lnTo>
                    <a:pt x="430" y="32"/>
                  </a:lnTo>
                  <a:lnTo>
                    <a:pt x="444" y="39"/>
                  </a:lnTo>
                  <a:lnTo>
                    <a:pt x="457" y="45"/>
                  </a:lnTo>
                  <a:lnTo>
                    <a:pt x="470" y="52"/>
                  </a:lnTo>
                  <a:lnTo>
                    <a:pt x="482" y="60"/>
                  </a:lnTo>
                  <a:lnTo>
                    <a:pt x="494" y="68"/>
                  </a:lnTo>
                  <a:lnTo>
                    <a:pt x="504" y="76"/>
                  </a:lnTo>
                  <a:lnTo>
                    <a:pt x="514" y="86"/>
                  </a:lnTo>
                  <a:lnTo>
                    <a:pt x="523" y="96"/>
                  </a:lnTo>
                  <a:lnTo>
                    <a:pt x="532" y="107"/>
                  </a:lnTo>
                  <a:lnTo>
                    <a:pt x="540" y="117"/>
                  </a:lnTo>
                  <a:lnTo>
                    <a:pt x="547" y="128"/>
                  </a:lnTo>
                  <a:lnTo>
                    <a:pt x="553" y="140"/>
                  </a:lnTo>
                  <a:lnTo>
                    <a:pt x="560" y="152"/>
                  </a:lnTo>
                  <a:lnTo>
                    <a:pt x="565" y="165"/>
                  </a:lnTo>
                  <a:lnTo>
                    <a:pt x="569" y="178"/>
                  </a:lnTo>
                  <a:lnTo>
                    <a:pt x="573" y="192"/>
                  </a:lnTo>
                  <a:lnTo>
                    <a:pt x="576" y="206"/>
                  </a:lnTo>
                  <a:lnTo>
                    <a:pt x="578" y="220"/>
                  </a:lnTo>
                  <a:lnTo>
                    <a:pt x="580" y="235"/>
                  </a:lnTo>
                  <a:lnTo>
                    <a:pt x="581" y="251"/>
                  </a:lnTo>
                  <a:lnTo>
                    <a:pt x="581" y="268"/>
                  </a:lnTo>
                  <a:lnTo>
                    <a:pt x="581" y="286"/>
                  </a:lnTo>
                  <a:lnTo>
                    <a:pt x="579" y="303"/>
                  </a:lnTo>
                  <a:lnTo>
                    <a:pt x="577" y="320"/>
                  </a:lnTo>
                  <a:lnTo>
                    <a:pt x="573" y="338"/>
                  </a:lnTo>
                  <a:lnTo>
                    <a:pt x="567" y="353"/>
                  </a:lnTo>
                  <a:lnTo>
                    <a:pt x="561" y="369"/>
                  </a:lnTo>
                  <a:lnTo>
                    <a:pt x="554" y="383"/>
                  </a:lnTo>
                  <a:lnTo>
                    <a:pt x="546" y="397"/>
                  </a:lnTo>
                  <a:lnTo>
                    <a:pt x="536" y="411"/>
                  </a:lnTo>
                  <a:lnTo>
                    <a:pt x="526" y="423"/>
                  </a:lnTo>
                  <a:lnTo>
                    <a:pt x="515" y="434"/>
                  </a:lnTo>
                  <a:lnTo>
                    <a:pt x="504" y="445"/>
                  </a:lnTo>
                  <a:lnTo>
                    <a:pt x="491" y="453"/>
                  </a:lnTo>
                  <a:lnTo>
                    <a:pt x="477" y="462"/>
                  </a:lnTo>
                  <a:lnTo>
                    <a:pt x="463" y="468"/>
                  </a:lnTo>
                  <a:lnTo>
                    <a:pt x="447" y="474"/>
                  </a:lnTo>
                  <a:lnTo>
                    <a:pt x="634" y="846"/>
                  </a:lnTo>
                  <a:lnTo>
                    <a:pt x="394" y="846"/>
                  </a:lnTo>
                  <a:lnTo>
                    <a:pt x="218" y="484"/>
                  </a:lnTo>
                  <a:lnTo>
                    <a:pt x="218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7887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31" h="846">
                  <a:moveTo>
                    <a:pt x="531" y="613"/>
                  </a:moveTo>
                  <a:lnTo>
                    <a:pt x="462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218" y="0"/>
                  </a:lnTo>
                  <a:lnTo>
                    <a:pt x="218" y="613"/>
                  </a:lnTo>
                  <a:lnTo>
                    <a:pt x="531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013720" y="139716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150880" y="1397160"/>
              <a:ext cx="181080" cy="344520"/>
            </a:xfrm>
            <a:custGeom>
              <a:avLst/>
              <a:gdLst/>
              <a:ahLst/>
              <a:rect l="l" t="t" r="r" b="b"/>
              <a:pathLst>
                <a:path w="498" h="846">
                  <a:moveTo>
                    <a:pt x="0" y="846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98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3" y="311"/>
                  </a:lnTo>
                  <a:lnTo>
                    <a:pt x="393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3593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29" h="846">
                  <a:moveTo>
                    <a:pt x="529" y="613"/>
                  </a:moveTo>
                  <a:lnTo>
                    <a:pt x="469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4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409" y="311"/>
                  </a:lnTo>
                  <a:lnTo>
                    <a:pt x="409" y="534"/>
                  </a:lnTo>
                  <a:lnTo>
                    <a:pt x="219" y="534"/>
                  </a:lnTo>
                  <a:lnTo>
                    <a:pt x="219" y="613"/>
                  </a:lnTo>
                  <a:lnTo>
                    <a:pt x="529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91880" y="1654560"/>
              <a:ext cx="72720" cy="871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591880" y="1397160"/>
              <a:ext cx="72720" cy="236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4397400" y="4551480"/>
            <a:ext cx="3240" cy="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405320" y="4551480"/>
            <a:ext cx="3240" cy="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1344600" y="2270160"/>
            <a:ext cx="6386400" cy="3650400"/>
            <a:chOff x="1344600" y="2270160"/>
            <a:chExt cx="6386400" cy="3650400"/>
          </a:xfrm>
        </p:grpSpPr>
        <p:sp>
          <p:nvSpPr>
            <p:cNvPr id="2041" name=""/>
            <p:cNvSpPr/>
            <p:nvPr/>
          </p:nvSpPr>
          <p:spPr>
            <a:xfrm>
              <a:off x="1344600" y="2270160"/>
              <a:ext cx="63864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1f1a17"/>
                  </a:solidFill>
                  <a:latin typeface="Geometr231 Hv BT"/>
                </a:rPr>
                <a:t>MARRIED OR UNMARRIED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2" name=""/>
            <p:cNvGrpSpPr/>
            <p:nvPr/>
          </p:nvGrpSpPr>
          <p:grpSpPr>
            <a:xfrm>
              <a:off x="2057400" y="3124080"/>
              <a:ext cx="5028840" cy="2796480"/>
              <a:chOff x="2057400" y="3124080"/>
              <a:chExt cx="5028840" cy="2796480"/>
            </a:xfrm>
          </p:grpSpPr>
          <p:sp>
            <p:nvSpPr>
              <p:cNvPr id="2043" name=""/>
              <p:cNvSpPr/>
              <p:nvPr/>
            </p:nvSpPr>
            <p:spPr>
              <a:xfrm>
                <a:off x="4593960" y="3128040"/>
                <a:ext cx="2492280" cy="2766960"/>
              </a:xfrm>
              <a:custGeom>
                <a:avLst/>
                <a:gdLst/>
                <a:ahLst/>
                <a:rect l="l" t="t" r="r" b="b"/>
                <a:pathLst>
                  <a:path w="6233" h="6927">
                    <a:moveTo>
                      <a:pt x="2599" y="82"/>
                    </a:moveTo>
                    <a:lnTo>
                      <a:pt x="2618" y="91"/>
                    </a:lnTo>
                    <a:lnTo>
                      <a:pt x="2646" y="109"/>
                    </a:lnTo>
                    <a:lnTo>
                      <a:pt x="2664" y="129"/>
                    </a:lnTo>
                    <a:lnTo>
                      <a:pt x="2691" y="137"/>
                    </a:lnTo>
                    <a:lnTo>
                      <a:pt x="2718" y="156"/>
                    </a:lnTo>
                    <a:lnTo>
                      <a:pt x="2745" y="164"/>
                    </a:lnTo>
                    <a:lnTo>
                      <a:pt x="2773" y="183"/>
                    </a:lnTo>
                    <a:lnTo>
                      <a:pt x="2791" y="192"/>
                    </a:lnTo>
                    <a:lnTo>
                      <a:pt x="2819" y="210"/>
                    </a:lnTo>
                    <a:lnTo>
                      <a:pt x="2838" y="228"/>
                    </a:lnTo>
                    <a:lnTo>
                      <a:pt x="2855" y="247"/>
                    </a:lnTo>
                    <a:lnTo>
                      <a:pt x="2865" y="266"/>
                    </a:lnTo>
                    <a:lnTo>
                      <a:pt x="2883" y="284"/>
                    </a:lnTo>
                    <a:lnTo>
                      <a:pt x="2883" y="311"/>
                    </a:lnTo>
                    <a:lnTo>
                      <a:pt x="2883" y="329"/>
                    </a:lnTo>
                    <a:lnTo>
                      <a:pt x="2883" y="356"/>
                    </a:lnTo>
                    <a:lnTo>
                      <a:pt x="2865" y="384"/>
                    </a:lnTo>
                    <a:lnTo>
                      <a:pt x="2855" y="403"/>
                    </a:lnTo>
                    <a:lnTo>
                      <a:pt x="2838" y="421"/>
                    </a:lnTo>
                    <a:lnTo>
                      <a:pt x="2810" y="440"/>
                    </a:lnTo>
                    <a:lnTo>
                      <a:pt x="2791" y="458"/>
                    </a:lnTo>
                    <a:lnTo>
                      <a:pt x="2764" y="467"/>
                    </a:lnTo>
                    <a:lnTo>
                      <a:pt x="2745" y="485"/>
                    </a:lnTo>
                    <a:lnTo>
                      <a:pt x="2718" y="494"/>
                    </a:lnTo>
                    <a:lnTo>
                      <a:pt x="2691" y="503"/>
                    </a:lnTo>
                    <a:lnTo>
                      <a:pt x="2673" y="522"/>
                    </a:lnTo>
                    <a:lnTo>
                      <a:pt x="2646" y="531"/>
                    </a:lnTo>
                    <a:lnTo>
                      <a:pt x="2618" y="550"/>
                    </a:lnTo>
                    <a:lnTo>
                      <a:pt x="2599" y="568"/>
                    </a:lnTo>
                    <a:lnTo>
                      <a:pt x="2571" y="585"/>
                    </a:lnTo>
                    <a:lnTo>
                      <a:pt x="2554" y="604"/>
                    </a:lnTo>
                    <a:lnTo>
                      <a:pt x="2536" y="622"/>
                    </a:lnTo>
                    <a:lnTo>
                      <a:pt x="2536" y="632"/>
                    </a:lnTo>
                    <a:lnTo>
                      <a:pt x="2526" y="640"/>
                    </a:lnTo>
                    <a:lnTo>
                      <a:pt x="2517" y="650"/>
                    </a:lnTo>
                    <a:lnTo>
                      <a:pt x="2508" y="660"/>
                    </a:lnTo>
                    <a:lnTo>
                      <a:pt x="2508" y="669"/>
                    </a:lnTo>
                    <a:lnTo>
                      <a:pt x="2498" y="669"/>
                    </a:lnTo>
                    <a:lnTo>
                      <a:pt x="2498" y="678"/>
                    </a:lnTo>
                    <a:lnTo>
                      <a:pt x="2489" y="678"/>
                    </a:lnTo>
                    <a:lnTo>
                      <a:pt x="2489" y="687"/>
                    </a:lnTo>
                    <a:lnTo>
                      <a:pt x="2480" y="705"/>
                    </a:lnTo>
                    <a:lnTo>
                      <a:pt x="2480" y="714"/>
                    </a:lnTo>
                    <a:lnTo>
                      <a:pt x="2480" y="724"/>
                    </a:lnTo>
                    <a:lnTo>
                      <a:pt x="2489" y="732"/>
                    </a:lnTo>
                    <a:lnTo>
                      <a:pt x="2498" y="741"/>
                    </a:lnTo>
                    <a:lnTo>
                      <a:pt x="2498" y="751"/>
                    </a:lnTo>
                    <a:lnTo>
                      <a:pt x="2508" y="759"/>
                    </a:lnTo>
                    <a:lnTo>
                      <a:pt x="2517" y="769"/>
                    </a:lnTo>
                    <a:lnTo>
                      <a:pt x="2526" y="779"/>
                    </a:lnTo>
                    <a:lnTo>
                      <a:pt x="2536" y="788"/>
                    </a:lnTo>
                    <a:lnTo>
                      <a:pt x="2544" y="797"/>
                    </a:lnTo>
                    <a:lnTo>
                      <a:pt x="2554" y="806"/>
                    </a:lnTo>
                    <a:lnTo>
                      <a:pt x="2554" y="815"/>
                    </a:lnTo>
                    <a:lnTo>
                      <a:pt x="2563" y="824"/>
                    </a:lnTo>
                    <a:lnTo>
                      <a:pt x="2563" y="834"/>
                    </a:lnTo>
                    <a:lnTo>
                      <a:pt x="2581" y="842"/>
                    </a:lnTo>
                    <a:lnTo>
                      <a:pt x="2590" y="861"/>
                    </a:lnTo>
                    <a:lnTo>
                      <a:pt x="2599" y="869"/>
                    </a:lnTo>
                    <a:lnTo>
                      <a:pt x="2608" y="879"/>
                    </a:lnTo>
                    <a:lnTo>
                      <a:pt x="2618" y="888"/>
                    </a:lnTo>
                    <a:lnTo>
                      <a:pt x="2626" y="907"/>
                    </a:lnTo>
                    <a:lnTo>
                      <a:pt x="2636" y="916"/>
                    </a:lnTo>
                    <a:lnTo>
                      <a:pt x="2636" y="926"/>
                    </a:lnTo>
                    <a:lnTo>
                      <a:pt x="2646" y="934"/>
                    </a:lnTo>
                    <a:lnTo>
                      <a:pt x="2654" y="953"/>
                    </a:lnTo>
                    <a:lnTo>
                      <a:pt x="2664" y="961"/>
                    </a:lnTo>
                    <a:lnTo>
                      <a:pt x="2673" y="971"/>
                    </a:lnTo>
                    <a:lnTo>
                      <a:pt x="2691" y="980"/>
                    </a:lnTo>
                    <a:lnTo>
                      <a:pt x="2700" y="989"/>
                    </a:lnTo>
                    <a:lnTo>
                      <a:pt x="2709" y="1007"/>
                    </a:lnTo>
                    <a:lnTo>
                      <a:pt x="2728" y="1016"/>
                    </a:lnTo>
                    <a:lnTo>
                      <a:pt x="2764" y="1025"/>
                    </a:lnTo>
                    <a:lnTo>
                      <a:pt x="2810" y="1044"/>
                    </a:lnTo>
                    <a:lnTo>
                      <a:pt x="2855" y="1063"/>
                    </a:lnTo>
                    <a:lnTo>
                      <a:pt x="2892" y="1071"/>
                    </a:lnTo>
                    <a:lnTo>
                      <a:pt x="2938" y="1090"/>
                    </a:lnTo>
                    <a:lnTo>
                      <a:pt x="2983" y="1099"/>
                    </a:lnTo>
                    <a:lnTo>
                      <a:pt x="3030" y="1117"/>
                    </a:lnTo>
                    <a:lnTo>
                      <a:pt x="3075" y="1126"/>
                    </a:lnTo>
                    <a:lnTo>
                      <a:pt x="3120" y="1135"/>
                    </a:lnTo>
                    <a:lnTo>
                      <a:pt x="3167" y="1153"/>
                    </a:lnTo>
                    <a:lnTo>
                      <a:pt x="3203" y="1163"/>
                    </a:lnTo>
                    <a:lnTo>
                      <a:pt x="3249" y="1173"/>
                    </a:lnTo>
                    <a:lnTo>
                      <a:pt x="3295" y="1191"/>
                    </a:lnTo>
                    <a:lnTo>
                      <a:pt x="3340" y="1200"/>
                    </a:lnTo>
                    <a:lnTo>
                      <a:pt x="3386" y="1218"/>
                    </a:lnTo>
                    <a:lnTo>
                      <a:pt x="3432" y="1227"/>
                    </a:lnTo>
                    <a:lnTo>
                      <a:pt x="3478" y="1237"/>
                    </a:lnTo>
                    <a:lnTo>
                      <a:pt x="3524" y="1245"/>
                    </a:lnTo>
                    <a:lnTo>
                      <a:pt x="3570" y="1264"/>
                    </a:lnTo>
                    <a:lnTo>
                      <a:pt x="3615" y="1273"/>
                    </a:lnTo>
                    <a:lnTo>
                      <a:pt x="3661" y="1282"/>
                    </a:lnTo>
                    <a:lnTo>
                      <a:pt x="3707" y="1292"/>
                    </a:lnTo>
                    <a:lnTo>
                      <a:pt x="3752" y="1300"/>
                    </a:lnTo>
                    <a:lnTo>
                      <a:pt x="3798" y="1310"/>
                    </a:lnTo>
                    <a:lnTo>
                      <a:pt x="3844" y="1320"/>
                    </a:lnTo>
                    <a:lnTo>
                      <a:pt x="3889" y="1337"/>
                    </a:lnTo>
                    <a:lnTo>
                      <a:pt x="3935" y="1347"/>
                    </a:lnTo>
                    <a:lnTo>
                      <a:pt x="3981" y="1347"/>
                    </a:lnTo>
                    <a:lnTo>
                      <a:pt x="4026" y="1355"/>
                    </a:lnTo>
                    <a:lnTo>
                      <a:pt x="4073" y="1365"/>
                    </a:lnTo>
                    <a:lnTo>
                      <a:pt x="4119" y="1374"/>
                    </a:lnTo>
                    <a:lnTo>
                      <a:pt x="4173" y="1374"/>
                    </a:lnTo>
                    <a:lnTo>
                      <a:pt x="4200" y="1383"/>
                    </a:lnTo>
                    <a:lnTo>
                      <a:pt x="4238" y="1392"/>
                    </a:lnTo>
                    <a:lnTo>
                      <a:pt x="4274" y="1401"/>
                    </a:lnTo>
                    <a:lnTo>
                      <a:pt x="4310" y="1401"/>
                    </a:lnTo>
                    <a:lnTo>
                      <a:pt x="4348" y="1410"/>
                    </a:lnTo>
                    <a:lnTo>
                      <a:pt x="4384" y="1419"/>
                    </a:lnTo>
                    <a:lnTo>
                      <a:pt x="4420" y="1419"/>
                    </a:lnTo>
                    <a:lnTo>
                      <a:pt x="4457" y="1429"/>
                    </a:lnTo>
                    <a:lnTo>
                      <a:pt x="4494" y="1429"/>
                    </a:lnTo>
                    <a:lnTo>
                      <a:pt x="4530" y="1439"/>
                    </a:lnTo>
                    <a:lnTo>
                      <a:pt x="4567" y="1447"/>
                    </a:lnTo>
                    <a:lnTo>
                      <a:pt x="4603" y="1447"/>
                    </a:lnTo>
                    <a:lnTo>
                      <a:pt x="4640" y="1457"/>
                    </a:lnTo>
                    <a:lnTo>
                      <a:pt x="4677" y="1466"/>
                    </a:lnTo>
                    <a:lnTo>
                      <a:pt x="4713" y="1475"/>
                    </a:lnTo>
                    <a:lnTo>
                      <a:pt x="4740" y="1484"/>
                    </a:lnTo>
                    <a:lnTo>
                      <a:pt x="4768" y="1484"/>
                    </a:lnTo>
                    <a:lnTo>
                      <a:pt x="4805" y="1484"/>
                    </a:lnTo>
                    <a:lnTo>
                      <a:pt x="4832" y="1493"/>
                    </a:lnTo>
                    <a:lnTo>
                      <a:pt x="4859" y="1493"/>
                    </a:lnTo>
                    <a:lnTo>
                      <a:pt x="4888" y="1493"/>
                    </a:lnTo>
                    <a:lnTo>
                      <a:pt x="4915" y="1493"/>
                    </a:lnTo>
                    <a:lnTo>
                      <a:pt x="4942" y="1493"/>
                    </a:lnTo>
                    <a:lnTo>
                      <a:pt x="4979" y="1502"/>
                    </a:lnTo>
                    <a:lnTo>
                      <a:pt x="5007" y="1502"/>
                    </a:lnTo>
                    <a:lnTo>
                      <a:pt x="5025" y="1511"/>
                    </a:lnTo>
                    <a:lnTo>
                      <a:pt x="5052" y="1521"/>
                    </a:lnTo>
                    <a:lnTo>
                      <a:pt x="5079" y="1529"/>
                    </a:lnTo>
                    <a:lnTo>
                      <a:pt x="5106" y="1539"/>
                    </a:lnTo>
                    <a:lnTo>
                      <a:pt x="5124" y="1557"/>
                    </a:lnTo>
                    <a:lnTo>
                      <a:pt x="5144" y="1576"/>
                    </a:lnTo>
                    <a:lnTo>
                      <a:pt x="5171" y="1594"/>
                    </a:lnTo>
                    <a:lnTo>
                      <a:pt x="5180" y="1603"/>
                    </a:lnTo>
                    <a:lnTo>
                      <a:pt x="5199" y="1603"/>
                    </a:lnTo>
                    <a:lnTo>
                      <a:pt x="5216" y="1603"/>
                    </a:lnTo>
                    <a:lnTo>
                      <a:pt x="5234" y="1603"/>
                    </a:lnTo>
                    <a:lnTo>
                      <a:pt x="5253" y="1603"/>
                    </a:lnTo>
                    <a:lnTo>
                      <a:pt x="5272" y="1603"/>
                    </a:lnTo>
                    <a:lnTo>
                      <a:pt x="5290" y="1612"/>
                    </a:lnTo>
                    <a:lnTo>
                      <a:pt x="5299" y="1612"/>
                    </a:lnTo>
                    <a:lnTo>
                      <a:pt x="5317" y="1612"/>
                    </a:lnTo>
                    <a:lnTo>
                      <a:pt x="5336" y="1612"/>
                    </a:lnTo>
                    <a:lnTo>
                      <a:pt x="5354" y="1612"/>
                    </a:lnTo>
                    <a:lnTo>
                      <a:pt x="5372" y="1612"/>
                    </a:lnTo>
                    <a:lnTo>
                      <a:pt x="5391" y="1612"/>
                    </a:lnTo>
                    <a:lnTo>
                      <a:pt x="5409" y="1612"/>
                    </a:lnTo>
                    <a:lnTo>
                      <a:pt x="5427" y="1612"/>
                    </a:lnTo>
                    <a:lnTo>
                      <a:pt x="5446" y="1612"/>
                    </a:lnTo>
                    <a:lnTo>
                      <a:pt x="5482" y="1621"/>
                    </a:lnTo>
                    <a:lnTo>
                      <a:pt x="5528" y="1621"/>
                    </a:lnTo>
                    <a:lnTo>
                      <a:pt x="5564" y="1621"/>
                    </a:lnTo>
                    <a:lnTo>
                      <a:pt x="5601" y="1631"/>
                    </a:lnTo>
                    <a:lnTo>
                      <a:pt x="5646" y="1631"/>
                    </a:lnTo>
                    <a:lnTo>
                      <a:pt x="5684" y="1639"/>
                    </a:lnTo>
                    <a:lnTo>
                      <a:pt x="5720" y="1649"/>
                    </a:lnTo>
                    <a:lnTo>
                      <a:pt x="5765" y="1658"/>
                    </a:lnTo>
                    <a:lnTo>
                      <a:pt x="5803" y="1666"/>
                    </a:lnTo>
                    <a:lnTo>
                      <a:pt x="5839" y="1676"/>
                    </a:lnTo>
                    <a:lnTo>
                      <a:pt x="5875" y="1685"/>
                    </a:lnTo>
                    <a:lnTo>
                      <a:pt x="5903" y="1704"/>
                    </a:lnTo>
                    <a:lnTo>
                      <a:pt x="5940" y="1723"/>
                    </a:lnTo>
                    <a:lnTo>
                      <a:pt x="5976" y="1741"/>
                    </a:lnTo>
                    <a:lnTo>
                      <a:pt x="6003" y="1759"/>
                    </a:lnTo>
                    <a:lnTo>
                      <a:pt x="6040" y="1777"/>
                    </a:lnTo>
                    <a:lnTo>
                      <a:pt x="6048" y="1795"/>
                    </a:lnTo>
                    <a:lnTo>
                      <a:pt x="6068" y="1805"/>
                    </a:lnTo>
                    <a:lnTo>
                      <a:pt x="6077" y="1813"/>
                    </a:lnTo>
                    <a:lnTo>
                      <a:pt x="6095" y="1823"/>
                    </a:lnTo>
                    <a:lnTo>
                      <a:pt x="6105" y="1833"/>
                    </a:lnTo>
                    <a:lnTo>
                      <a:pt x="6123" y="1841"/>
                    </a:lnTo>
                    <a:lnTo>
                      <a:pt x="6132" y="1860"/>
                    </a:lnTo>
                    <a:lnTo>
                      <a:pt x="6150" y="1869"/>
                    </a:lnTo>
                    <a:lnTo>
                      <a:pt x="6159" y="1878"/>
                    </a:lnTo>
                    <a:lnTo>
                      <a:pt x="6168" y="1887"/>
                    </a:lnTo>
                    <a:lnTo>
                      <a:pt x="6187" y="1905"/>
                    </a:lnTo>
                    <a:lnTo>
                      <a:pt x="6196" y="1915"/>
                    </a:lnTo>
                    <a:lnTo>
                      <a:pt x="6205" y="1932"/>
                    </a:lnTo>
                    <a:lnTo>
                      <a:pt x="6215" y="1942"/>
                    </a:lnTo>
                    <a:lnTo>
                      <a:pt x="6223" y="1960"/>
                    </a:lnTo>
                    <a:lnTo>
                      <a:pt x="6233" y="1970"/>
                    </a:lnTo>
                    <a:lnTo>
                      <a:pt x="6233" y="1980"/>
                    </a:lnTo>
                    <a:lnTo>
                      <a:pt x="6233" y="1988"/>
                    </a:lnTo>
                    <a:lnTo>
                      <a:pt x="6233" y="1997"/>
                    </a:lnTo>
                    <a:lnTo>
                      <a:pt x="6233" y="2007"/>
                    </a:lnTo>
                    <a:lnTo>
                      <a:pt x="6233" y="2015"/>
                    </a:lnTo>
                    <a:lnTo>
                      <a:pt x="6223" y="2025"/>
                    </a:lnTo>
                    <a:lnTo>
                      <a:pt x="6215" y="2034"/>
                    </a:lnTo>
                    <a:lnTo>
                      <a:pt x="6205" y="2034"/>
                    </a:lnTo>
                    <a:lnTo>
                      <a:pt x="6205" y="2042"/>
                    </a:lnTo>
                    <a:lnTo>
                      <a:pt x="6196" y="2042"/>
                    </a:lnTo>
                    <a:lnTo>
                      <a:pt x="6187" y="2042"/>
                    </a:lnTo>
                    <a:lnTo>
                      <a:pt x="6177" y="2042"/>
                    </a:lnTo>
                    <a:lnTo>
                      <a:pt x="6168" y="2042"/>
                    </a:lnTo>
                    <a:lnTo>
                      <a:pt x="6159" y="2042"/>
                    </a:lnTo>
                    <a:lnTo>
                      <a:pt x="6150" y="2042"/>
                    </a:lnTo>
                    <a:lnTo>
                      <a:pt x="6140" y="2042"/>
                    </a:lnTo>
                    <a:lnTo>
                      <a:pt x="6132" y="2042"/>
                    </a:lnTo>
                    <a:lnTo>
                      <a:pt x="6123" y="2042"/>
                    </a:lnTo>
                    <a:lnTo>
                      <a:pt x="6113" y="2034"/>
                    </a:lnTo>
                    <a:lnTo>
                      <a:pt x="6105" y="2034"/>
                    </a:lnTo>
                    <a:lnTo>
                      <a:pt x="6095" y="2034"/>
                    </a:lnTo>
                    <a:lnTo>
                      <a:pt x="6077" y="2025"/>
                    </a:lnTo>
                    <a:lnTo>
                      <a:pt x="6048" y="2025"/>
                    </a:lnTo>
                    <a:lnTo>
                      <a:pt x="6022" y="2015"/>
                    </a:lnTo>
                    <a:lnTo>
                      <a:pt x="6003" y="2007"/>
                    </a:lnTo>
                    <a:lnTo>
                      <a:pt x="5976" y="2007"/>
                    </a:lnTo>
                    <a:lnTo>
                      <a:pt x="5949" y="1997"/>
                    </a:lnTo>
                    <a:lnTo>
                      <a:pt x="5931" y="1988"/>
                    </a:lnTo>
                    <a:lnTo>
                      <a:pt x="5903" y="1988"/>
                    </a:lnTo>
                    <a:lnTo>
                      <a:pt x="5875" y="1980"/>
                    </a:lnTo>
                    <a:lnTo>
                      <a:pt x="5858" y="1980"/>
                    </a:lnTo>
                    <a:lnTo>
                      <a:pt x="5830" y="1970"/>
                    </a:lnTo>
                    <a:lnTo>
                      <a:pt x="5803" y="1960"/>
                    </a:lnTo>
                    <a:lnTo>
                      <a:pt x="5783" y="1952"/>
                    </a:lnTo>
                    <a:lnTo>
                      <a:pt x="5756" y="1952"/>
                    </a:lnTo>
                    <a:lnTo>
                      <a:pt x="5729" y="1942"/>
                    </a:lnTo>
                    <a:lnTo>
                      <a:pt x="5711" y="1932"/>
                    </a:lnTo>
                    <a:lnTo>
                      <a:pt x="5701" y="1923"/>
                    </a:lnTo>
                    <a:lnTo>
                      <a:pt x="5693" y="1915"/>
                    </a:lnTo>
                    <a:lnTo>
                      <a:pt x="5684" y="1905"/>
                    </a:lnTo>
                    <a:lnTo>
                      <a:pt x="5674" y="1896"/>
                    </a:lnTo>
                    <a:lnTo>
                      <a:pt x="5656" y="1896"/>
                    </a:lnTo>
                    <a:lnTo>
                      <a:pt x="5646" y="1887"/>
                    </a:lnTo>
                    <a:lnTo>
                      <a:pt x="5638" y="1887"/>
                    </a:lnTo>
                    <a:lnTo>
                      <a:pt x="5628" y="1878"/>
                    </a:lnTo>
                    <a:lnTo>
                      <a:pt x="5610" y="1878"/>
                    </a:lnTo>
                    <a:lnTo>
                      <a:pt x="5601" y="1869"/>
                    </a:lnTo>
                    <a:lnTo>
                      <a:pt x="5591" y="1869"/>
                    </a:lnTo>
                    <a:lnTo>
                      <a:pt x="5574" y="1860"/>
                    </a:lnTo>
                    <a:lnTo>
                      <a:pt x="5564" y="1860"/>
                    </a:lnTo>
                    <a:lnTo>
                      <a:pt x="5556" y="1851"/>
                    </a:lnTo>
                    <a:lnTo>
                      <a:pt x="5546" y="1841"/>
                    </a:lnTo>
                    <a:lnTo>
                      <a:pt x="5537" y="1841"/>
                    </a:lnTo>
                    <a:lnTo>
                      <a:pt x="5509" y="1833"/>
                    </a:lnTo>
                    <a:lnTo>
                      <a:pt x="5491" y="1833"/>
                    </a:lnTo>
                    <a:lnTo>
                      <a:pt x="5482" y="1813"/>
                    </a:lnTo>
                    <a:lnTo>
                      <a:pt x="5464" y="1805"/>
                    </a:lnTo>
                    <a:lnTo>
                      <a:pt x="5446" y="1795"/>
                    </a:lnTo>
                    <a:lnTo>
                      <a:pt x="5436" y="1795"/>
                    </a:lnTo>
                    <a:lnTo>
                      <a:pt x="5419" y="1795"/>
                    </a:lnTo>
                    <a:lnTo>
                      <a:pt x="5399" y="1795"/>
                    </a:lnTo>
                    <a:lnTo>
                      <a:pt x="5381" y="1795"/>
                    </a:lnTo>
                    <a:lnTo>
                      <a:pt x="5363" y="1786"/>
                    </a:lnTo>
                    <a:lnTo>
                      <a:pt x="5344" y="1786"/>
                    </a:lnTo>
                    <a:lnTo>
                      <a:pt x="5344" y="1777"/>
                    </a:lnTo>
                    <a:lnTo>
                      <a:pt x="5317" y="1786"/>
                    </a:lnTo>
                    <a:lnTo>
                      <a:pt x="5290" y="1777"/>
                    </a:lnTo>
                    <a:lnTo>
                      <a:pt x="5272" y="1777"/>
                    </a:lnTo>
                    <a:lnTo>
                      <a:pt x="5244" y="1768"/>
                    </a:lnTo>
                    <a:lnTo>
                      <a:pt x="5216" y="1768"/>
                    </a:lnTo>
                    <a:lnTo>
                      <a:pt x="5207" y="1777"/>
                    </a:lnTo>
                    <a:lnTo>
                      <a:pt x="5253" y="1851"/>
                    </a:lnTo>
                    <a:lnTo>
                      <a:pt x="5281" y="1923"/>
                    </a:lnTo>
                    <a:lnTo>
                      <a:pt x="5281" y="2007"/>
                    </a:lnTo>
                    <a:lnTo>
                      <a:pt x="5262" y="2089"/>
                    </a:lnTo>
                    <a:lnTo>
                      <a:pt x="5234" y="2171"/>
                    </a:lnTo>
                    <a:lnTo>
                      <a:pt x="5216" y="2189"/>
                    </a:lnTo>
                    <a:lnTo>
                      <a:pt x="5162" y="2227"/>
                    </a:lnTo>
                    <a:lnTo>
                      <a:pt x="5106" y="2254"/>
                    </a:lnTo>
                    <a:lnTo>
                      <a:pt x="5034" y="2263"/>
                    </a:lnTo>
                    <a:lnTo>
                      <a:pt x="4969" y="2272"/>
                    </a:lnTo>
                    <a:lnTo>
                      <a:pt x="4897" y="2263"/>
                    </a:lnTo>
                    <a:lnTo>
                      <a:pt x="4878" y="2263"/>
                    </a:lnTo>
                    <a:lnTo>
                      <a:pt x="4850" y="2254"/>
                    </a:lnTo>
                    <a:lnTo>
                      <a:pt x="4823" y="2254"/>
                    </a:lnTo>
                    <a:lnTo>
                      <a:pt x="4795" y="2254"/>
                    </a:lnTo>
                    <a:lnTo>
                      <a:pt x="4768" y="2263"/>
                    </a:lnTo>
                    <a:lnTo>
                      <a:pt x="4740" y="2263"/>
                    </a:lnTo>
                    <a:lnTo>
                      <a:pt x="4732" y="2263"/>
                    </a:lnTo>
                    <a:lnTo>
                      <a:pt x="4650" y="2272"/>
                    </a:lnTo>
                    <a:lnTo>
                      <a:pt x="4585" y="2272"/>
                    </a:lnTo>
                    <a:lnTo>
                      <a:pt x="4512" y="2281"/>
                    </a:lnTo>
                    <a:lnTo>
                      <a:pt x="4448" y="2299"/>
                    </a:lnTo>
                    <a:lnTo>
                      <a:pt x="4384" y="2326"/>
                    </a:lnTo>
                    <a:lnTo>
                      <a:pt x="4366" y="2345"/>
                    </a:lnTo>
                    <a:lnTo>
                      <a:pt x="4301" y="2345"/>
                    </a:lnTo>
                    <a:lnTo>
                      <a:pt x="4256" y="2364"/>
                    </a:lnTo>
                    <a:lnTo>
                      <a:pt x="4200" y="2382"/>
                    </a:lnTo>
                    <a:lnTo>
                      <a:pt x="4146" y="2401"/>
                    </a:lnTo>
                    <a:lnTo>
                      <a:pt x="4091" y="2418"/>
                    </a:lnTo>
                    <a:lnTo>
                      <a:pt x="4073" y="2418"/>
                    </a:lnTo>
                    <a:lnTo>
                      <a:pt x="4054" y="2428"/>
                    </a:lnTo>
                    <a:lnTo>
                      <a:pt x="4026" y="2436"/>
                    </a:lnTo>
                    <a:lnTo>
                      <a:pt x="4009" y="2455"/>
                    </a:lnTo>
                    <a:lnTo>
                      <a:pt x="3981" y="2473"/>
                    </a:lnTo>
                    <a:lnTo>
                      <a:pt x="3972" y="2493"/>
                    </a:lnTo>
                    <a:lnTo>
                      <a:pt x="3964" y="2501"/>
                    </a:lnTo>
                    <a:lnTo>
                      <a:pt x="3964" y="2556"/>
                    </a:lnTo>
                    <a:lnTo>
                      <a:pt x="3954" y="2611"/>
                    </a:lnTo>
                    <a:lnTo>
                      <a:pt x="3954" y="2667"/>
                    </a:lnTo>
                    <a:lnTo>
                      <a:pt x="3944" y="2721"/>
                    </a:lnTo>
                    <a:lnTo>
                      <a:pt x="3926" y="2767"/>
                    </a:lnTo>
                    <a:lnTo>
                      <a:pt x="3917" y="2785"/>
                    </a:lnTo>
                    <a:lnTo>
                      <a:pt x="3854" y="2867"/>
                    </a:lnTo>
                    <a:lnTo>
                      <a:pt x="3798" y="2959"/>
                    </a:lnTo>
                    <a:lnTo>
                      <a:pt x="3761" y="3042"/>
                    </a:lnTo>
                    <a:lnTo>
                      <a:pt x="3725" y="3143"/>
                    </a:lnTo>
                    <a:lnTo>
                      <a:pt x="3707" y="3243"/>
                    </a:lnTo>
                    <a:lnTo>
                      <a:pt x="3707" y="3271"/>
                    </a:lnTo>
                    <a:lnTo>
                      <a:pt x="3707" y="3399"/>
                    </a:lnTo>
                    <a:lnTo>
                      <a:pt x="3725" y="3518"/>
                    </a:lnTo>
                    <a:lnTo>
                      <a:pt x="3744" y="3637"/>
                    </a:lnTo>
                    <a:lnTo>
                      <a:pt x="3761" y="3756"/>
                    </a:lnTo>
                    <a:lnTo>
                      <a:pt x="3779" y="3885"/>
                    </a:lnTo>
                    <a:lnTo>
                      <a:pt x="3779" y="3921"/>
                    </a:lnTo>
                    <a:lnTo>
                      <a:pt x="3835" y="4105"/>
                    </a:lnTo>
                    <a:lnTo>
                      <a:pt x="3889" y="4288"/>
                    </a:lnTo>
                    <a:lnTo>
                      <a:pt x="3926" y="4471"/>
                    </a:lnTo>
                    <a:lnTo>
                      <a:pt x="3964" y="4663"/>
                    </a:lnTo>
                    <a:lnTo>
                      <a:pt x="3981" y="4857"/>
                    </a:lnTo>
                    <a:lnTo>
                      <a:pt x="3991" y="4920"/>
                    </a:lnTo>
                    <a:lnTo>
                      <a:pt x="4009" y="5039"/>
                    </a:lnTo>
                    <a:lnTo>
                      <a:pt x="4026" y="5168"/>
                    </a:lnTo>
                    <a:lnTo>
                      <a:pt x="4026" y="5296"/>
                    </a:lnTo>
                    <a:lnTo>
                      <a:pt x="4009" y="5425"/>
                    </a:lnTo>
                    <a:lnTo>
                      <a:pt x="3964" y="5544"/>
                    </a:lnTo>
                    <a:lnTo>
                      <a:pt x="3944" y="5580"/>
                    </a:lnTo>
                    <a:lnTo>
                      <a:pt x="3926" y="5589"/>
                    </a:lnTo>
                    <a:lnTo>
                      <a:pt x="3908" y="5598"/>
                    </a:lnTo>
                    <a:lnTo>
                      <a:pt x="3899" y="5616"/>
                    </a:lnTo>
                    <a:lnTo>
                      <a:pt x="3881" y="5626"/>
                    </a:lnTo>
                    <a:lnTo>
                      <a:pt x="3862" y="5635"/>
                    </a:lnTo>
                    <a:lnTo>
                      <a:pt x="3854" y="5635"/>
                    </a:lnTo>
                    <a:lnTo>
                      <a:pt x="3854" y="5654"/>
                    </a:lnTo>
                    <a:lnTo>
                      <a:pt x="3862" y="5662"/>
                    </a:lnTo>
                    <a:lnTo>
                      <a:pt x="3862" y="5681"/>
                    </a:lnTo>
                    <a:lnTo>
                      <a:pt x="3871" y="5691"/>
                    </a:lnTo>
                    <a:lnTo>
                      <a:pt x="3881" y="5699"/>
                    </a:lnTo>
                    <a:lnTo>
                      <a:pt x="3881" y="5708"/>
                    </a:lnTo>
                    <a:lnTo>
                      <a:pt x="3908" y="5809"/>
                    </a:lnTo>
                    <a:lnTo>
                      <a:pt x="3926" y="5911"/>
                    </a:lnTo>
                    <a:lnTo>
                      <a:pt x="3935" y="6010"/>
                    </a:lnTo>
                    <a:lnTo>
                      <a:pt x="3935" y="6120"/>
                    </a:lnTo>
                    <a:lnTo>
                      <a:pt x="3926" y="6222"/>
                    </a:lnTo>
                    <a:lnTo>
                      <a:pt x="3926" y="6258"/>
                    </a:lnTo>
                    <a:lnTo>
                      <a:pt x="3908" y="6332"/>
                    </a:lnTo>
                    <a:lnTo>
                      <a:pt x="3964" y="6386"/>
                    </a:lnTo>
                    <a:lnTo>
                      <a:pt x="4018" y="6451"/>
                    </a:lnTo>
                    <a:lnTo>
                      <a:pt x="4054" y="6515"/>
                    </a:lnTo>
                    <a:lnTo>
                      <a:pt x="4073" y="6588"/>
                    </a:lnTo>
                    <a:lnTo>
                      <a:pt x="4081" y="6661"/>
                    </a:lnTo>
                    <a:lnTo>
                      <a:pt x="4073" y="6690"/>
                    </a:lnTo>
                    <a:lnTo>
                      <a:pt x="4045" y="6735"/>
                    </a:lnTo>
                    <a:lnTo>
                      <a:pt x="4009" y="6772"/>
                    </a:lnTo>
                    <a:lnTo>
                      <a:pt x="3972" y="6799"/>
                    </a:lnTo>
                    <a:lnTo>
                      <a:pt x="3926" y="6836"/>
                    </a:lnTo>
                    <a:lnTo>
                      <a:pt x="3908" y="6882"/>
                    </a:lnTo>
                    <a:lnTo>
                      <a:pt x="3899" y="6890"/>
                    </a:lnTo>
                    <a:lnTo>
                      <a:pt x="3889" y="6899"/>
                    </a:lnTo>
                    <a:lnTo>
                      <a:pt x="3881" y="6899"/>
                    </a:lnTo>
                    <a:lnTo>
                      <a:pt x="3871" y="6899"/>
                    </a:lnTo>
                    <a:lnTo>
                      <a:pt x="3862" y="6899"/>
                    </a:lnTo>
                    <a:lnTo>
                      <a:pt x="3844" y="6872"/>
                    </a:lnTo>
                    <a:lnTo>
                      <a:pt x="3844" y="6854"/>
                    </a:lnTo>
                    <a:lnTo>
                      <a:pt x="3862" y="6836"/>
                    </a:lnTo>
                    <a:lnTo>
                      <a:pt x="3889" y="6817"/>
                    </a:lnTo>
                    <a:lnTo>
                      <a:pt x="3908" y="6799"/>
                    </a:lnTo>
                    <a:lnTo>
                      <a:pt x="3908" y="6789"/>
                    </a:lnTo>
                    <a:lnTo>
                      <a:pt x="3935" y="6762"/>
                    </a:lnTo>
                    <a:lnTo>
                      <a:pt x="3954" y="6726"/>
                    </a:lnTo>
                    <a:lnTo>
                      <a:pt x="3972" y="6698"/>
                    </a:lnTo>
                    <a:lnTo>
                      <a:pt x="3981" y="6661"/>
                    </a:lnTo>
                    <a:lnTo>
                      <a:pt x="3981" y="6625"/>
                    </a:lnTo>
                    <a:lnTo>
                      <a:pt x="3981" y="6606"/>
                    </a:lnTo>
                    <a:lnTo>
                      <a:pt x="3964" y="6561"/>
                    </a:lnTo>
                    <a:lnTo>
                      <a:pt x="3944" y="6515"/>
                    </a:lnTo>
                    <a:lnTo>
                      <a:pt x="3917" y="6469"/>
                    </a:lnTo>
                    <a:lnTo>
                      <a:pt x="3881" y="6432"/>
                    </a:lnTo>
                    <a:lnTo>
                      <a:pt x="3835" y="6404"/>
                    </a:lnTo>
                    <a:lnTo>
                      <a:pt x="3816" y="6396"/>
                    </a:lnTo>
                    <a:lnTo>
                      <a:pt x="3789" y="6404"/>
                    </a:lnTo>
                    <a:lnTo>
                      <a:pt x="3752" y="6423"/>
                    </a:lnTo>
                    <a:lnTo>
                      <a:pt x="3725" y="6442"/>
                    </a:lnTo>
                    <a:lnTo>
                      <a:pt x="3707" y="6461"/>
                    </a:lnTo>
                    <a:lnTo>
                      <a:pt x="3698" y="6488"/>
                    </a:lnTo>
                    <a:lnTo>
                      <a:pt x="3689" y="6496"/>
                    </a:lnTo>
                    <a:lnTo>
                      <a:pt x="3679" y="6570"/>
                    </a:lnTo>
                    <a:lnTo>
                      <a:pt x="3689" y="6652"/>
                    </a:lnTo>
                    <a:lnTo>
                      <a:pt x="3707" y="6726"/>
                    </a:lnTo>
                    <a:lnTo>
                      <a:pt x="3716" y="6799"/>
                    </a:lnTo>
                    <a:lnTo>
                      <a:pt x="3725" y="6872"/>
                    </a:lnTo>
                    <a:lnTo>
                      <a:pt x="3716" y="6890"/>
                    </a:lnTo>
                    <a:lnTo>
                      <a:pt x="3689" y="6917"/>
                    </a:lnTo>
                    <a:lnTo>
                      <a:pt x="3661" y="6927"/>
                    </a:lnTo>
                    <a:lnTo>
                      <a:pt x="3624" y="6917"/>
                    </a:lnTo>
                    <a:lnTo>
                      <a:pt x="3588" y="6917"/>
                    </a:lnTo>
                    <a:lnTo>
                      <a:pt x="3551" y="6909"/>
                    </a:lnTo>
                    <a:lnTo>
                      <a:pt x="3541" y="6909"/>
                    </a:lnTo>
                    <a:lnTo>
                      <a:pt x="3478" y="6909"/>
                    </a:lnTo>
                    <a:lnTo>
                      <a:pt x="3414" y="6899"/>
                    </a:lnTo>
                    <a:lnTo>
                      <a:pt x="3350" y="6899"/>
                    </a:lnTo>
                    <a:lnTo>
                      <a:pt x="3285" y="6899"/>
                    </a:lnTo>
                    <a:lnTo>
                      <a:pt x="3222" y="6899"/>
                    </a:lnTo>
                    <a:lnTo>
                      <a:pt x="3203" y="6899"/>
                    </a:lnTo>
                    <a:lnTo>
                      <a:pt x="3185" y="6899"/>
                    </a:lnTo>
                    <a:lnTo>
                      <a:pt x="3176" y="6909"/>
                    </a:lnTo>
                    <a:lnTo>
                      <a:pt x="3167" y="6909"/>
                    </a:lnTo>
                    <a:lnTo>
                      <a:pt x="3148" y="6909"/>
                    </a:lnTo>
                    <a:lnTo>
                      <a:pt x="3139" y="6909"/>
                    </a:lnTo>
                    <a:lnTo>
                      <a:pt x="3130" y="6909"/>
                    </a:lnTo>
                    <a:lnTo>
                      <a:pt x="3120" y="6899"/>
                    </a:lnTo>
                    <a:lnTo>
                      <a:pt x="3120" y="6890"/>
                    </a:lnTo>
                    <a:lnTo>
                      <a:pt x="3112" y="6882"/>
                    </a:lnTo>
                    <a:lnTo>
                      <a:pt x="3112" y="6872"/>
                    </a:lnTo>
                    <a:lnTo>
                      <a:pt x="3120" y="6863"/>
                    </a:lnTo>
                    <a:lnTo>
                      <a:pt x="3157" y="6836"/>
                    </a:lnTo>
                    <a:lnTo>
                      <a:pt x="3203" y="6836"/>
                    </a:lnTo>
                    <a:lnTo>
                      <a:pt x="3240" y="6836"/>
                    </a:lnTo>
                    <a:lnTo>
                      <a:pt x="3285" y="6836"/>
                    </a:lnTo>
                    <a:lnTo>
                      <a:pt x="3332" y="6836"/>
                    </a:lnTo>
                    <a:lnTo>
                      <a:pt x="3350" y="6836"/>
                    </a:lnTo>
                    <a:lnTo>
                      <a:pt x="3386" y="6836"/>
                    </a:lnTo>
                    <a:lnTo>
                      <a:pt x="3432" y="6827"/>
                    </a:lnTo>
                    <a:lnTo>
                      <a:pt x="3478" y="6827"/>
                    </a:lnTo>
                    <a:lnTo>
                      <a:pt x="3514" y="6827"/>
                    </a:lnTo>
                    <a:lnTo>
                      <a:pt x="3551" y="6817"/>
                    </a:lnTo>
                    <a:lnTo>
                      <a:pt x="3570" y="6808"/>
                    </a:lnTo>
                    <a:lnTo>
                      <a:pt x="3588" y="6789"/>
                    </a:lnTo>
                    <a:lnTo>
                      <a:pt x="3570" y="6698"/>
                    </a:lnTo>
                    <a:lnTo>
                      <a:pt x="3560" y="6598"/>
                    </a:lnTo>
                    <a:lnTo>
                      <a:pt x="3570" y="6506"/>
                    </a:lnTo>
                    <a:lnTo>
                      <a:pt x="3606" y="6423"/>
                    </a:lnTo>
                    <a:lnTo>
                      <a:pt x="3661" y="6350"/>
                    </a:lnTo>
                    <a:lnTo>
                      <a:pt x="3689" y="6332"/>
                    </a:lnTo>
                    <a:lnTo>
                      <a:pt x="3689" y="6258"/>
                    </a:lnTo>
                    <a:lnTo>
                      <a:pt x="3679" y="6194"/>
                    </a:lnTo>
                    <a:lnTo>
                      <a:pt x="3669" y="6130"/>
                    </a:lnTo>
                    <a:lnTo>
                      <a:pt x="3651" y="6075"/>
                    </a:lnTo>
                    <a:lnTo>
                      <a:pt x="3624" y="6020"/>
                    </a:lnTo>
                    <a:lnTo>
                      <a:pt x="3606" y="6002"/>
                    </a:lnTo>
                    <a:lnTo>
                      <a:pt x="3597" y="6002"/>
                    </a:lnTo>
                    <a:lnTo>
                      <a:pt x="3597" y="6010"/>
                    </a:lnTo>
                    <a:lnTo>
                      <a:pt x="3597" y="6020"/>
                    </a:lnTo>
                    <a:lnTo>
                      <a:pt x="3606" y="6066"/>
                    </a:lnTo>
                    <a:lnTo>
                      <a:pt x="3606" y="6112"/>
                    </a:lnTo>
                    <a:lnTo>
                      <a:pt x="3597" y="6147"/>
                    </a:lnTo>
                    <a:lnTo>
                      <a:pt x="3588" y="6194"/>
                    </a:lnTo>
                    <a:lnTo>
                      <a:pt x="3579" y="6240"/>
                    </a:lnTo>
                    <a:lnTo>
                      <a:pt x="3579" y="6249"/>
                    </a:lnTo>
                    <a:lnTo>
                      <a:pt x="3579" y="6258"/>
                    </a:lnTo>
                    <a:lnTo>
                      <a:pt x="3588" y="6258"/>
                    </a:lnTo>
                    <a:lnTo>
                      <a:pt x="3597" y="6267"/>
                    </a:lnTo>
                    <a:lnTo>
                      <a:pt x="3597" y="6276"/>
                    </a:lnTo>
                    <a:lnTo>
                      <a:pt x="3597" y="6286"/>
                    </a:lnTo>
                    <a:lnTo>
                      <a:pt x="3588" y="6286"/>
                    </a:lnTo>
                    <a:lnTo>
                      <a:pt x="3579" y="6295"/>
                    </a:lnTo>
                    <a:lnTo>
                      <a:pt x="3570" y="6286"/>
                    </a:lnTo>
                    <a:lnTo>
                      <a:pt x="3560" y="6286"/>
                    </a:lnTo>
                    <a:lnTo>
                      <a:pt x="3551" y="6286"/>
                    </a:lnTo>
                    <a:lnTo>
                      <a:pt x="3541" y="6295"/>
                    </a:lnTo>
                    <a:lnTo>
                      <a:pt x="3478" y="6368"/>
                    </a:lnTo>
                    <a:lnTo>
                      <a:pt x="3469" y="6451"/>
                    </a:lnTo>
                    <a:lnTo>
                      <a:pt x="3496" y="6542"/>
                    </a:lnTo>
                    <a:lnTo>
                      <a:pt x="3524" y="6625"/>
                    </a:lnTo>
                    <a:lnTo>
                      <a:pt x="3524" y="6717"/>
                    </a:lnTo>
                    <a:lnTo>
                      <a:pt x="3514" y="6753"/>
                    </a:lnTo>
                    <a:lnTo>
                      <a:pt x="3496" y="6762"/>
                    </a:lnTo>
                    <a:lnTo>
                      <a:pt x="3469" y="6762"/>
                    </a:lnTo>
                    <a:lnTo>
                      <a:pt x="3442" y="6762"/>
                    </a:lnTo>
                    <a:lnTo>
                      <a:pt x="3414" y="6753"/>
                    </a:lnTo>
                    <a:lnTo>
                      <a:pt x="3386" y="6753"/>
                    </a:lnTo>
                    <a:lnTo>
                      <a:pt x="3377" y="6762"/>
                    </a:lnTo>
                    <a:lnTo>
                      <a:pt x="3323" y="6762"/>
                    </a:lnTo>
                    <a:lnTo>
                      <a:pt x="3249" y="6762"/>
                    </a:lnTo>
                    <a:lnTo>
                      <a:pt x="3185" y="6762"/>
                    </a:lnTo>
                    <a:lnTo>
                      <a:pt x="3120" y="6762"/>
                    </a:lnTo>
                    <a:lnTo>
                      <a:pt x="3057" y="6762"/>
                    </a:lnTo>
                    <a:lnTo>
                      <a:pt x="3039" y="6772"/>
                    </a:lnTo>
                    <a:lnTo>
                      <a:pt x="3030" y="6772"/>
                    </a:lnTo>
                    <a:lnTo>
                      <a:pt x="3020" y="6762"/>
                    </a:lnTo>
                    <a:lnTo>
                      <a:pt x="3010" y="6753"/>
                    </a:lnTo>
                    <a:lnTo>
                      <a:pt x="3010" y="6744"/>
                    </a:lnTo>
                    <a:lnTo>
                      <a:pt x="3010" y="6735"/>
                    </a:lnTo>
                    <a:lnTo>
                      <a:pt x="3010" y="6726"/>
                    </a:lnTo>
                    <a:lnTo>
                      <a:pt x="3020" y="6717"/>
                    </a:lnTo>
                    <a:lnTo>
                      <a:pt x="3039" y="6717"/>
                    </a:lnTo>
                    <a:lnTo>
                      <a:pt x="3048" y="6717"/>
                    </a:lnTo>
                    <a:lnTo>
                      <a:pt x="3057" y="6717"/>
                    </a:lnTo>
                    <a:lnTo>
                      <a:pt x="3120" y="6717"/>
                    </a:lnTo>
                    <a:lnTo>
                      <a:pt x="3195" y="6708"/>
                    </a:lnTo>
                    <a:lnTo>
                      <a:pt x="3267" y="6708"/>
                    </a:lnTo>
                    <a:lnTo>
                      <a:pt x="3332" y="6698"/>
                    </a:lnTo>
                    <a:lnTo>
                      <a:pt x="3395" y="6680"/>
                    </a:lnTo>
                    <a:lnTo>
                      <a:pt x="3423" y="6670"/>
                    </a:lnTo>
                    <a:lnTo>
                      <a:pt x="3414" y="6606"/>
                    </a:lnTo>
                    <a:lnTo>
                      <a:pt x="3395" y="6542"/>
                    </a:lnTo>
                    <a:lnTo>
                      <a:pt x="3386" y="6469"/>
                    </a:lnTo>
                    <a:lnTo>
                      <a:pt x="3386" y="6404"/>
                    </a:lnTo>
                    <a:lnTo>
                      <a:pt x="3414" y="6341"/>
                    </a:lnTo>
                    <a:lnTo>
                      <a:pt x="3423" y="6322"/>
                    </a:lnTo>
                    <a:lnTo>
                      <a:pt x="3505" y="6258"/>
                    </a:lnTo>
                    <a:lnTo>
                      <a:pt x="3505" y="6212"/>
                    </a:lnTo>
                    <a:lnTo>
                      <a:pt x="3505" y="6167"/>
                    </a:lnTo>
                    <a:lnTo>
                      <a:pt x="3514" y="6130"/>
                    </a:lnTo>
                    <a:lnTo>
                      <a:pt x="3514" y="6084"/>
                    </a:lnTo>
                    <a:lnTo>
                      <a:pt x="3505" y="6038"/>
                    </a:lnTo>
                    <a:lnTo>
                      <a:pt x="3505" y="6030"/>
                    </a:lnTo>
                    <a:lnTo>
                      <a:pt x="3478" y="5938"/>
                    </a:lnTo>
                    <a:lnTo>
                      <a:pt x="3432" y="5846"/>
                    </a:lnTo>
                    <a:lnTo>
                      <a:pt x="3386" y="5763"/>
                    </a:lnTo>
                    <a:lnTo>
                      <a:pt x="3323" y="5681"/>
                    </a:lnTo>
                    <a:lnTo>
                      <a:pt x="3240" y="5616"/>
                    </a:lnTo>
                    <a:lnTo>
                      <a:pt x="3213" y="5589"/>
                    </a:lnTo>
                    <a:lnTo>
                      <a:pt x="3195" y="5580"/>
                    </a:lnTo>
                    <a:lnTo>
                      <a:pt x="3176" y="5580"/>
                    </a:lnTo>
                    <a:lnTo>
                      <a:pt x="3167" y="5589"/>
                    </a:lnTo>
                    <a:lnTo>
                      <a:pt x="3148" y="5589"/>
                    </a:lnTo>
                    <a:lnTo>
                      <a:pt x="3130" y="5598"/>
                    </a:lnTo>
                    <a:lnTo>
                      <a:pt x="3066" y="5616"/>
                    </a:lnTo>
                    <a:lnTo>
                      <a:pt x="3002" y="5644"/>
                    </a:lnTo>
                    <a:lnTo>
                      <a:pt x="2948" y="5662"/>
                    </a:lnTo>
                    <a:lnTo>
                      <a:pt x="2883" y="5672"/>
                    </a:lnTo>
                    <a:lnTo>
                      <a:pt x="2819" y="5662"/>
                    </a:lnTo>
                    <a:lnTo>
                      <a:pt x="2791" y="5654"/>
                    </a:lnTo>
                    <a:lnTo>
                      <a:pt x="2755" y="5635"/>
                    </a:lnTo>
                    <a:lnTo>
                      <a:pt x="2728" y="5607"/>
                    </a:lnTo>
                    <a:lnTo>
                      <a:pt x="2700" y="5580"/>
                    </a:lnTo>
                    <a:lnTo>
                      <a:pt x="2681" y="5544"/>
                    </a:lnTo>
                    <a:lnTo>
                      <a:pt x="2654" y="5517"/>
                    </a:lnTo>
                    <a:lnTo>
                      <a:pt x="2654" y="5507"/>
                    </a:lnTo>
                    <a:lnTo>
                      <a:pt x="2581" y="5479"/>
                    </a:lnTo>
                    <a:lnTo>
                      <a:pt x="2508" y="5442"/>
                    </a:lnTo>
                    <a:lnTo>
                      <a:pt x="2434" y="5406"/>
                    </a:lnTo>
                    <a:lnTo>
                      <a:pt x="2361" y="5378"/>
                    </a:lnTo>
                    <a:lnTo>
                      <a:pt x="2289" y="5350"/>
                    </a:lnTo>
                    <a:lnTo>
                      <a:pt x="2261" y="5342"/>
                    </a:lnTo>
                    <a:lnTo>
                      <a:pt x="1987" y="5176"/>
                    </a:lnTo>
                    <a:lnTo>
                      <a:pt x="1721" y="4985"/>
                    </a:lnTo>
                    <a:lnTo>
                      <a:pt x="1474" y="4774"/>
                    </a:lnTo>
                    <a:lnTo>
                      <a:pt x="1273" y="4545"/>
                    </a:lnTo>
                    <a:lnTo>
                      <a:pt x="1108" y="4297"/>
                    </a:lnTo>
                    <a:lnTo>
                      <a:pt x="1062" y="4215"/>
                    </a:lnTo>
                    <a:lnTo>
                      <a:pt x="1034" y="4150"/>
                    </a:lnTo>
                    <a:lnTo>
                      <a:pt x="1006" y="4095"/>
                    </a:lnTo>
                    <a:lnTo>
                      <a:pt x="989" y="4031"/>
                    </a:lnTo>
                    <a:lnTo>
                      <a:pt x="971" y="3968"/>
                    </a:lnTo>
                    <a:lnTo>
                      <a:pt x="971" y="3893"/>
                    </a:lnTo>
                    <a:lnTo>
                      <a:pt x="971" y="3875"/>
                    </a:lnTo>
                    <a:lnTo>
                      <a:pt x="971" y="3793"/>
                    </a:lnTo>
                    <a:lnTo>
                      <a:pt x="989" y="3711"/>
                    </a:lnTo>
                    <a:lnTo>
                      <a:pt x="998" y="3628"/>
                    </a:lnTo>
                    <a:lnTo>
                      <a:pt x="1016" y="3546"/>
                    </a:lnTo>
                    <a:lnTo>
                      <a:pt x="1016" y="3464"/>
                    </a:lnTo>
                    <a:lnTo>
                      <a:pt x="1025" y="3437"/>
                    </a:lnTo>
                    <a:lnTo>
                      <a:pt x="1034" y="3380"/>
                    </a:lnTo>
                    <a:lnTo>
                      <a:pt x="1062" y="3326"/>
                    </a:lnTo>
                    <a:lnTo>
                      <a:pt x="1081" y="3271"/>
                    </a:lnTo>
                    <a:lnTo>
                      <a:pt x="1099" y="3216"/>
                    </a:lnTo>
                    <a:lnTo>
                      <a:pt x="1108" y="3161"/>
                    </a:lnTo>
                    <a:lnTo>
                      <a:pt x="1116" y="3143"/>
                    </a:lnTo>
                    <a:lnTo>
                      <a:pt x="1163" y="3014"/>
                    </a:lnTo>
                    <a:lnTo>
                      <a:pt x="1218" y="2895"/>
                    </a:lnTo>
                    <a:lnTo>
                      <a:pt x="1273" y="2777"/>
                    </a:lnTo>
                    <a:lnTo>
                      <a:pt x="1336" y="2657"/>
                    </a:lnTo>
                    <a:lnTo>
                      <a:pt x="1391" y="2538"/>
                    </a:lnTo>
                    <a:lnTo>
                      <a:pt x="1410" y="2501"/>
                    </a:lnTo>
                    <a:lnTo>
                      <a:pt x="1446" y="2428"/>
                    </a:lnTo>
                    <a:lnTo>
                      <a:pt x="1474" y="2354"/>
                    </a:lnTo>
                    <a:lnTo>
                      <a:pt x="1510" y="2281"/>
                    </a:lnTo>
                    <a:lnTo>
                      <a:pt x="1528" y="2208"/>
                    </a:lnTo>
                    <a:lnTo>
                      <a:pt x="1538" y="2125"/>
                    </a:lnTo>
                    <a:lnTo>
                      <a:pt x="1538" y="2098"/>
                    </a:lnTo>
                    <a:lnTo>
                      <a:pt x="1520" y="2052"/>
                    </a:lnTo>
                    <a:lnTo>
                      <a:pt x="1492" y="2015"/>
                    </a:lnTo>
                    <a:lnTo>
                      <a:pt x="1446" y="1988"/>
                    </a:lnTo>
                    <a:lnTo>
                      <a:pt x="1391" y="1960"/>
                    </a:lnTo>
                    <a:lnTo>
                      <a:pt x="1346" y="1942"/>
                    </a:lnTo>
                    <a:lnTo>
                      <a:pt x="1336" y="1932"/>
                    </a:lnTo>
                    <a:lnTo>
                      <a:pt x="1281" y="1915"/>
                    </a:lnTo>
                    <a:lnTo>
                      <a:pt x="1236" y="1905"/>
                    </a:lnTo>
                    <a:lnTo>
                      <a:pt x="1181" y="1896"/>
                    </a:lnTo>
                    <a:lnTo>
                      <a:pt x="1126" y="1887"/>
                    </a:lnTo>
                    <a:lnTo>
                      <a:pt x="1071" y="1878"/>
                    </a:lnTo>
                    <a:lnTo>
                      <a:pt x="1062" y="1878"/>
                    </a:lnTo>
                    <a:lnTo>
                      <a:pt x="906" y="1887"/>
                    </a:lnTo>
                    <a:lnTo>
                      <a:pt x="861" y="1878"/>
                    </a:lnTo>
                    <a:lnTo>
                      <a:pt x="806" y="1887"/>
                    </a:lnTo>
                    <a:lnTo>
                      <a:pt x="751" y="1887"/>
                    </a:lnTo>
                    <a:lnTo>
                      <a:pt x="696" y="1869"/>
                    </a:lnTo>
                    <a:lnTo>
                      <a:pt x="669" y="1841"/>
                    </a:lnTo>
                    <a:lnTo>
                      <a:pt x="659" y="1823"/>
                    </a:lnTo>
                    <a:lnTo>
                      <a:pt x="622" y="1759"/>
                    </a:lnTo>
                    <a:lnTo>
                      <a:pt x="595" y="1685"/>
                    </a:lnTo>
                    <a:lnTo>
                      <a:pt x="586" y="1612"/>
                    </a:lnTo>
                    <a:lnTo>
                      <a:pt x="586" y="1539"/>
                    </a:lnTo>
                    <a:lnTo>
                      <a:pt x="604" y="1466"/>
                    </a:lnTo>
                    <a:lnTo>
                      <a:pt x="614" y="1447"/>
                    </a:lnTo>
                    <a:lnTo>
                      <a:pt x="586" y="1447"/>
                    </a:lnTo>
                    <a:lnTo>
                      <a:pt x="559" y="1447"/>
                    </a:lnTo>
                    <a:lnTo>
                      <a:pt x="532" y="1457"/>
                    </a:lnTo>
                    <a:lnTo>
                      <a:pt x="504" y="1457"/>
                    </a:lnTo>
                    <a:lnTo>
                      <a:pt x="476" y="1466"/>
                    </a:lnTo>
                    <a:lnTo>
                      <a:pt x="413" y="1539"/>
                    </a:lnTo>
                    <a:lnTo>
                      <a:pt x="348" y="1612"/>
                    </a:lnTo>
                    <a:lnTo>
                      <a:pt x="293" y="1685"/>
                    </a:lnTo>
                    <a:lnTo>
                      <a:pt x="238" y="1759"/>
                    </a:lnTo>
                    <a:lnTo>
                      <a:pt x="175" y="1833"/>
                    </a:lnTo>
                    <a:lnTo>
                      <a:pt x="147" y="1851"/>
                    </a:lnTo>
                    <a:lnTo>
                      <a:pt x="128" y="1860"/>
                    </a:lnTo>
                    <a:lnTo>
                      <a:pt x="119" y="1869"/>
                    </a:lnTo>
                    <a:lnTo>
                      <a:pt x="100" y="1878"/>
                    </a:lnTo>
                    <a:lnTo>
                      <a:pt x="83" y="1878"/>
                    </a:lnTo>
                    <a:lnTo>
                      <a:pt x="55" y="1878"/>
                    </a:lnTo>
                    <a:lnTo>
                      <a:pt x="19" y="1851"/>
                    </a:lnTo>
                    <a:lnTo>
                      <a:pt x="0" y="1813"/>
                    </a:lnTo>
                    <a:lnTo>
                      <a:pt x="0" y="1777"/>
                    </a:lnTo>
                    <a:lnTo>
                      <a:pt x="0" y="1731"/>
                    </a:lnTo>
                    <a:lnTo>
                      <a:pt x="0" y="1695"/>
                    </a:lnTo>
                    <a:lnTo>
                      <a:pt x="0" y="1685"/>
                    </a:lnTo>
                    <a:lnTo>
                      <a:pt x="37" y="1594"/>
                    </a:lnTo>
                    <a:lnTo>
                      <a:pt x="92" y="1521"/>
                    </a:lnTo>
                    <a:lnTo>
                      <a:pt x="175" y="1457"/>
                    </a:lnTo>
                    <a:lnTo>
                      <a:pt x="265" y="1392"/>
                    </a:lnTo>
                    <a:lnTo>
                      <a:pt x="357" y="1347"/>
                    </a:lnTo>
                    <a:lnTo>
                      <a:pt x="384" y="1328"/>
                    </a:lnTo>
                    <a:lnTo>
                      <a:pt x="467" y="1300"/>
                    </a:lnTo>
                    <a:lnTo>
                      <a:pt x="550" y="1273"/>
                    </a:lnTo>
                    <a:lnTo>
                      <a:pt x="641" y="1264"/>
                    </a:lnTo>
                    <a:lnTo>
                      <a:pt x="732" y="1245"/>
                    </a:lnTo>
                    <a:lnTo>
                      <a:pt x="824" y="1227"/>
                    </a:lnTo>
                    <a:lnTo>
                      <a:pt x="851" y="1218"/>
                    </a:lnTo>
                    <a:lnTo>
                      <a:pt x="944" y="1227"/>
                    </a:lnTo>
                    <a:lnTo>
                      <a:pt x="1034" y="1237"/>
                    </a:lnTo>
                    <a:lnTo>
                      <a:pt x="1126" y="1245"/>
                    </a:lnTo>
                    <a:lnTo>
                      <a:pt x="1226" y="1245"/>
                    </a:lnTo>
                    <a:lnTo>
                      <a:pt x="1318" y="1255"/>
                    </a:lnTo>
                    <a:lnTo>
                      <a:pt x="1346" y="1264"/>
                    </a:lnTo>
                    <a:lnTo>
                      <a:pt x="1391" y="1245"/>
                    </a:lnTo>
                    <a:lnTo>
                      <a:pt x="1428" y="1245"/>
                    </a:lnTo>
                    <a:lnTo>
                      <a:pt x="1474" y="1245"/>
                    </a:lnTo>
                    <a:lnTo>
                      <a:pt x="1520" y="1255"/>
                    </a:lnTo>
                    <a:lnTo>
                      <a:pt x="1565" y="1264"/>
                    </a:lnTo>
                    <a:lnTo>
                      <a:pt x="1574" y="1264"/>
                    </a:lnTo>
                    <a:lnTo>
                      <a:pt x="1630" y="1264"/>
                    </a:lnTo>
                    <a:lnTo>
                      <a:pt x="1675" y="1255"/>
                    </a:lnTo>
                    <a:lnTo>
                      <a:pt x="1721" y="1245"/>
                    </a:lnTo>
                    <a:lnTo>
                      <a:pt x="1767" y="1237"/>
                    </a:lnTo>
                    <a:lnTo>
                      <a:pt x="1812" y="1237"/>
                    </a:lnTo>
                    <a:lnTo>
                      <a:pt x="1830" y="1245"/>
                    </a:lnTo>
                    <a:lnTo>
                      <a:pt x="1849" y="1237"/>
                    </a:lnTo>
                    <a:lnTo>
                      <a:pt x="1877" y="1237"/>
                    </a:lnTo>
                    <a:lnTo>
                      <a:pt x="1895" y="1237"/>
                    </a:lnTo>
                    <a:lnTo>
                      <a:pt x="1922" y="1245"/>
                    </a:lnTo>
                    <a:lnTo>
                      <a:pt x="1940" y="1245"/>
                    </a:lnTo>
                    <a:lnTo>
                      <a:pt x="1949" y="1245"/>
                    </a:lnTo>
                    <a:lnTo>
                      <a:pt x="2050" y="1227"/>
                    </a:lnTo>
                    <a:lnTo>
                      <a:pt x="2151" y="1218"/>
                    </a:lnTo>
                    <a:lnTo>
                      <a:pt x="2242" y="1191"/>
                    </a:lnTo>
                    <a:lnTo>
                      <a:pt x="2334" y="1173"/>
                    </a:lnTo>
                    <a:lnTo>
                      <a:pt x="2426" y="1135"/>
                    </a:lnTo>
                    <a:lnTo>
                      <a:pt x="2453" y="1126"/>
                    </a:lnTo>
                    <a:lnTo>
                      <a:pt x="2489" y="1108"/>
                    </a:lnTo>
                    <a:lnTo>
                      <a:pt x="2517" y="1081"/>
                    </a:lnTo>
                    <a:lnTo>
                      <a:pt x="2536" y="1044"/>
                    </a:lnTo>
                    <a:lnTo>
                      <a:pt x="2544" y="1016"/>
                    </a:lnTo>
                    <a:lnTo>
                      <a:pt x="2554" y="980"/>
                    </a:lnTo>
                    <a:lnTo>
                      <a:pt x="2554" y="971"/>
                    </a:lnTo>
                    <a:lnTo>
                      <a:pt x="2517" y="926"/>
                    </a:lnTo>
                    <a:lnTo>
                      <a:pt x="2471" y="879"/>
                    </a:lnTo>
                    <a:lnTo>
                      <a:pt x="2416" y="851"/>
                    </a:lnTo>
                    <a:lnTo>
                      <a:pt x="2361" y="834"/>
                    </a:lnTo>
                    <a:lnTo>
                      <a:pt x="2297" y="815"/>
                    </a:lnTo>
                    <a:lnTo>
                      <a:pt x="2270" y="815"/>
                    </a:lnTo>
                    <a:lnTo>
                      <a:pt x="2206" y="806"/>
                    </a:lnTo>
                    <a:lnTo>
                      <a:pt x="2160" y="779"/>
                    </a:lnTo>
                    <a:lnTo>
                      <a:pt x="2124" y="741"/>
                    </a:lnTo>
                    <a:lnTo>
                      <a:pt x="2086" y="696"/>
                    </a:lnTo>
                    <a:lnTo>
                      <a:pt x="2059" y="650"/>
                    </a:lnTo>
                    <a:lnTo>
                      <a:pt x="2050" y="632"/>
                    </a:lnTo>
                    <a:lnTo>
                      <a:pt x="2032" y="595"/>
                    </a:lnTo>
                    <a:lnTo>
                      <a:pt x="2023" y="568"/>
                    </a:lnTo>
                    <a:lnTo>
                      <a:pt x="2014" y="531"/>
                    </a:lnTo>
                    <a:lnTo>
                      <a:pt x="2005" y="494"/>
                    </a:lnTo>
                    <a:lnTo>
                      <a:pt x="2005" y="458"/>
                    </a:lnTo>
                    <a:lnTo>
                      <a:pt x="2005" y="448"/>
                    </a:lnTo>
                    <a:lnTo>
                      <a:pt x="1995" y="421"/>
                    </a:lnTo>
                    <a:lnTo>
                      <a:pt x="1987" y="403"/>
                    </a:lnTo>
                    <a:lnTo>
                      <a:pt x="1987" y="375"/>
                    </a:lnTo>
                    <a:lnTo>
                      <a:pt x="1987" y="356"/>
                    </a:lnTo>
                    <a:lnTo>
                      <a:pt x="1987" y="329"/>
                    </a:lnTo>
                    <a:lnTo>
                      <a:pt x="1977" y="329"/>
                    </a:lnTo>
                    <a:lnTo>
                      <a:pt x="1987" y="302"/>
                    </a:lnTo>
                    <a:lnTo>
                      <a:pt x="1995" y="274"/>
                    </a:lnTo>
                    <a:lnTo>
                      <a:pt x="2005" y="256"/>
                    </a:lnTo>
                    <a:lnTo>
                      <a:pt x="2014" y="228"/>
                    </a:lnTo>
                    <a:lnTo>
                      <a:pt x="2023" y="210"/>
                    </a:lnTo>
                    <a:lnTo>
                      <a:pt x="2023" y="201"/>
                    </a:lnTo>
                    <a:lnTo>
                      <a:pt x="2086" y="156"/>
                    </a:lnTo>
                    <a:lnTo>
                      <a:pt x="2142" y="109"/>
                    </a:lnTo>
                    <a:lnTo>
                      <a:pt x="2196" y="72"/>
                    </a:lnTo>
                    <a:lnTo>
                      <a:pt x="2261" y="36"/>
                    </a:lnTo>
                    <a:lnTo>
                      <a:pt x="2324" y="0"/>
                    </a:lnTo>
                    <a:lnTo>
                      <a:pt x="2352" y="0"/>
                    </a:lnTo>
                    <a:lnTo>
                      <a:pt x="2407" y="0"/>
                    </a:lnTo>
                    <a:lnTo>
                      <a:pt x="2453" y="9"/>
                    </a:lnTo>
                    <a:lnTo>
                      <a:pt x="2498" y="27"/>
                    </a:lnTo>
                    <a:lnTo>
                      <a:pt x="2536" y="54"/>
                    </a:lnTo>
                    <a:lnTo>
                      <a:pt x="2581" y="72"/>
                    </a:lnTo>
                    <a:lnTo>
                      <a:pt x="2599" y="82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633280" y="3161880"/>
                <a:ext cx="113760" cy="109440"/>
              </a:xfrm>
              <a:custGeom>
                <a:avLst/>
                <a:gdLst/>
                <a:ahLst/>
                <a:rect l="l" t="t" r="r" b="b"/>
                <a:pathLst>
                  <a:path w="284" h="274">
                    <a:moveTo>
                      <a:pt x="0" y="0"/>
                    </a:moveTo>
                    <a:lnTo>
                      <a:pt x="19" y="9"/>
                    </a:lnTo>
                    <a:lnTo>
                      <a:pt x="47" y="27"/>
                    </a:lnTo>
                    <a:lnTo>
                      <a:pt x="65" y="47"/>
                    </a:lnTo>
                    <a:lnTo>
                      <a:pt x="92" y="55"/>
                    </a:lnTo>
                    <a:lnTo>
                      <a:pt x="119" y="74"/>
                    </a:lnTo>
                    <a:lnTo>
                      <a:pt x="146" y="82"/>
                    </a:lnTo>
                    <a:lnTo>
                      <a:pt x="174" y="101"/>
                    </a:lnTo>
                    <a:lnTo>
                      <a:pt x="192" y="110"/>
                    </a:lnTo>
                    <a:lnTo>
                      <a:pt x="220" y="128"/>
                    </a:lnTo>
                    <a:lnTo>
                      <a:pt x="239" y="146"/>
                    </a:lnTo>
                    <a:lnTo>
                      <a:pt x="256" y="165"/>
                    </a:lnTo>
                    <a:lnTo>
                      <a:pt x="266" y="184"/>
                    </a:lnTo>
                    <a:lnTo>
                      <a:pt x="284" y="202"/>
                    </a:lnTo>
                    <a:lnTo>
                      <a:pt x="284" y="229"/>
                    </a:lnTo>
                    <a:lnTo>
                      <a:pt x="284" y="247"/>
                    </a:lnTo>
                    <a:lnTo>
                      <a:pt x="284" y="27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607000" y="3271320"/>
                <a:ext cx="140040" cy="10584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47" y="0"/>
                    </a:moveTo>
                    <a:lnTo>
                      <a:pt x="329" y="28"/>
                    </a:lnTo>
                    <a:lnTo>
                      <a:pt x="319" y="47"/>
                    </a:lnTo>
                    <a:lnTo>
                      <a:pt x="302" y="65"/>
                    </a:lnTo>
                    <a:lnTo>
                      <a:pt x="274" y="84"/>
                    </a:lnTo>
                    <a:lnTo>
                      <a:pt x="255" y="102"/>
                    </a:lnTo>
                    <a:lnTo>
                      <a:pt x="228" y="111"/>
                    </a:lnTo>
                    <a:lnTo>
                      <a:pt x="209" y="129"/>
                    </a:lnTo>
                    <a:lnTo>
                      <a:pt x="182" y="138"/>
                    </a:lnTo>
                    <a:lnTo>
                      <a:pt x="155" y="147"/>
                    </a:lnTo>
                    <a:lnTo>
                      <a:pt x="137" y="166"/>
                    </a:lnTo>
                    <a:lnTo>
                      <a:pt x="110" y="175"/>
                    </a:lnTo>
                    <a:lnTo>
                      <a:pt x="82" y="194"/>
                    </a:lnTo>
                    <a:lnTo>
                      <a:pt x="63" y="212"/>
                    </a:lnTo>
                    <a:lnTo>
                      <a:pt x="35" y="229"/>
                    </a:lnTo>
                    <a:lnTo>
                      <a:pt x="18" y="248"/>
                    </a:lnTo>
                    <a:lnTo>
                      <a:pt x="0" y="26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85400" y="3399480"/>
                <a:ext cx="33840" cy="61560"/>
              </a:xfrm>
              <a:custGeom>
                <a:avLst/>
                <a:gdLst/>
                <a:ahLst/>
                <a:rect l="l" t="t" r="r" b="b"/>
                <a:pathLst>
                  <a:path w="83" h="156">
                    <a:moveTo>
                      <a:pt x="9" y="0"/>
                    </a:moveTo>
                    <a:lnTo>
                      <a:pt x="9" y="9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9" y="54"/>
                    </a:lnTo>
                    <a:lnTo>
                      <a:pt x="18" y="63"/>
                    </a:lnTo>
                    <a:lnTo>
                      <a:pt x="18" y="73"/>
                    </a:lnTo>
                    <a:lnTo>
                      <a:pt x="28" y="81"/>
                    </a:lnTo>
                    <a:lnTo>
                      <a:pt x="37" y="91"/>
                    </a:lnTo>
                    <a:lnTo>
                      <a:pt x="46" y="101"/>
                    </a:lnTo>
                    <a:lnTo>
                      <a:pt x="56" y="110"/>
                    </a:lnTo>
                    <a:lnTo>
                      <a:pt x="64" y="119"/>
                    </a:lnTo>
                    <a:lnTo>
                      <a:pt x="74" y="128"/>
                    </a:lnTo>
                    <a:lnTo>
                      <a:pt x="74" y="137"/>
                    </a:lnTo>
                    <a:lnTo>
                      <a:pt x="83" y="146"/>
                    </a:lnTo>
                    <a:lnTo>
                      <a:pt x="83" y="15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619240" y="3461040"/>
                <a:ext cx="65520" cy="73440"/>
              </a:xfrm>
              <a:custGeom>
                <a:avLst/>
                <a:gdLst/>
                <a:ahLst/>
                <a:rect l="l" t="t" r="r" b="b"/>
                <a:pathLst>
                  <a:path w="165" h="182">
                    <a:moveTo>
                      <a:pt x="0" y="0"/>
                    </a:moveTo>
                    <a:lnTo>
                      <a:pt x="18" y="8"/>
                    </a:lnTo>
                    <a:lnTo>
                      <a:pt x="27" y="27"/>
                    </a:lnTo>
                    <a:lnTo>
                      <a:pt x="36" y="35"/>
                    </a:lnTo>
                    <a:lnTo>
                      <a:pt x="45" y="45"/>
                    </a:lnTo>
                    <a:lnTo>
                      <a:pt x="55" y="54"/>
                    </a:lnTo>
                    <a:lnTo>
                      <a:pt x="63" y="73"/>
                    </a:lnTo>
                    <a:lnTo>
                      <a:pt x="73" y="82"/>
                    </a:lnTo>
                    <a:lnTo>
                      <a:pt x="73" y="92"/>
                    </a:lnTo>
                    <a:lnTo>
                      <a:pt x="83" y="100"/>
                    </a:lnTo>
                    <a:lnTo>
                      <a:pt x="91" y="119"/>
                    </a:lnTo>
                    <a:lnTo>
                      <a:pt x="101" y="127"/>
                    </a:lnTo>
                    <a:lnTo>
                      <a:pt x="110" y="137"/>
                    </a:lnTo>
                    <a:lnTo>
                      <a:pt x="128" y="146"/>
                    </a:lnTo>
                    <a:lnTo>
                      <a:pt x="137" y="155"/>
                    </a:lnTo>
                    <a:lnTo>
                      <a:pt x="146" y="173"/>
                    </a:lnTo>
                    <a:lnTo>
                      <a:pt x="165" y="182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685120" y="3534840"/>
                <a:ext cx="281880" cy="83880"/>
              </a:xfrm>
              <a:custGeom>
                <a:avLst/>
                <a:gdLst/>
                <a:ahLst/>
                <a:rect l="l" t="t" r="r" b="b"/>
                <a:pathLst>
                  <a:path w="704" h="211">
                    <a:moveTo>
                      <a:pt x="0" y="0"/>
                    </a:moveTo>
                    <a:lnTo>
                      <a:pt x="36" y="9"/>
                    </a:lnTo>
                    <a:lnTo>
                      <a:pt x="82" y="28"/>
                    </a:lnTo>
                    <a:lnTo>
                      <a:pt x="127" y="47"/>
                    </a:lnTo>
                    <a:lnTo>
                      <a:pt x="164" y="55"/>
                    </a:lnTo>
                    <a:lnTo>
                      <a:pt x="210" y="74"/>
                    </a:lnTo>
                    <a:lnTo>
                      <a:pt x="255" y="83"/>
                    </a:lnTo>
                    <a:lnTo>
                      <a:pt x="302" y="101"/>
                    </a:lnTo>
                    <a:lnTo>
                      <a:pt x="347" y="110"/>
                    </a:lnTo>
                    <a:lnTo>
                      <a:pt x="392" y="119"/>
                    </a:lnTo>
                    <a:lnTo>
                      <a:pt x="439" y="137"/>
                    </a:lnTo>
                    <a:lnTo>
                      <a:pt x="475" y="147"/>
                    </a:lnTo>
                    <a:lnTo>
                      <a:pt x="521" y="157"/>
                    </a:lnTo>
                    <a:lnTo>
                      <a:pt x="567" y="175"/>
                    </a:lnTo>
                    <a:lnTo>
                      <a:pt x="612" y="184"/>
                    </a:lnTo>
                    <a:lnTo>
                      <a:pt x="658" y="202"/>
                    </a:lnTo>
                    <a:lnTo>
                      <a:pt x="704" y="211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967000" y="3619080"/>
                <a:ext cx="295920" cy="57240"/>
              </a:xfrm>
              <a:custGeom>
                <a:avLst/>
                <a:gdLst/>
                <a:ahLst/>
                <a:rect l="l" t="t" r="r" b="b"/>
                <a:pathLst>
                  <a:path w="741" h="147">
                    <a:moveTo>
                      <a:pt x="0" y="0"/>
                    </a:moveTo>
                    <a:lnTo>
                      <a:pt x="46" y="10"/>
                    </a:lnTo>
                    <a:lnTo>
                      <a:pt x="92" y="18"/>
                    </a:lnTo>
                    <a:lnTo>
                      <a:pt x="138" y="37"/>
                    </a:lnTo>
                    <a:lnTo>
                      <a:pt x="183" y="46"/>
                    </a:lnTo>
                    <a:lnTo>
                      <a:pt x="229" y="55"/>
                    </a:lnTo>
                    <a:lnTo>
                      <a:pt x="275" y="65"/>
                    </a:lnTo>
                    <a:lnTo>
                      <a:pt x="320" y="73"/>
                    </a:lnTo>
                    <a:lnTo>
                      <a:pt x="366" y="83"/>
                    </a:lnTo>
                    <a:lnTo>
                      <a:pt x="412" y="93"/>
                    </a:lnTo>
                    <a:lnTo>
                      <a:pt x="457" y="110"/>
                    </a:lnTo>
                    <a:lnTo>
                      <a:pt x="503" y="120"/>
                    </a:lnTo>
                    <a:lnTo>
                      <a:pt x="549" y="120"/>
                    </a:lnTo>
                    <a:lnTo>
                      <a:pt x="594" y="128"/>
                    </a:lnTo>
                    <a:lnTo>
                      <a:pt x="641" y="138"/>
                    </a:lnTo>
                    <a:lnTo>
                      <a:pt x="687" y="147"/>
                    </a:lnTo>
                    <a:lnTo>
                      <a:pt x="741" y="147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770880" y="3772800"/>
                <a:ext cx="237240" cy="65880"/>
              </a:xfrm>
              <a:custGeom>
                <a:avLst/>
                <a:gdLst/>
                <a:ahLst/>
                <a:rect l="l" t="t" r="r" b="b"/>
                <a:pathLst>
                  <a:path w="594" h="165">
                    <a:moveTo>
                      <a:pt x="0" y="0"/>
                    </a:moveTo>
                    <a:lnTo>
                      <a:pt x="36" y="9"/>
                    </a:lnTo>
                    <a:lnTo>
                      <a:pt x="82" y="9"/>
                    </a:lnTo>
                    <a:lnTo>
                      <a:pt x="118" y="9"/>
                    </a:lnTo>
                    <a:lnTo>
                      <a:pt x="155" y="19"/>
                    </a:lnTo>
                    <a:lnTo>
                      <a:pt x="200" y="19"/>
                    </a:lnTo>
                    <a:lnTo>
                      <a:pt x="238" y="27"/>
                    </a:lnTo>
                    <a:lnTo>
                      <a:pt x="274" y="37"/>
                    </a:lnTo>
                    <a:lnTo>
                      <a:pt x="319" y="46"/>
                    </a:lnTo>
                    <a:lnTo>
                      <a:pt x="357" y="54"/>
                    </a:lnTo>
                    <a:lnTo>
                      <a:pt x="393" y="64"/>
                    </a:lnTo>
                    <a:lnTo>
                      <a:pt x="429" y="73"/>
                    </a:lnTo>
                    <a:lnTo>
                      <a:pt x="457" y="92"/>
                    </a:lnTo>
                    <a:lnTo>
                      <a:pt x="494" y="111"/>
                    </a:lnTo>
                    <a:lnTo>
                      <a:pt x="530" y="129"/>
                    </a:lnTo>
                    <a:lnTo>
                      <a:pt x="557" y="147"/>
                    </a:lnTo>
                    <a:lnTo>
                      <a:pt x="594" y="16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08480" y="3838680"/>
                <a:ext cx="77760" cy="7560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8" y="18"/>
                    </a:lnTo>
                    <a:lnTo>
                      <a:pt x="28" y="28"/>
                    </a:lnTo>
                    <a:lnTo>
                      <a:pt x="37" y="36"/>
                    </a:lnTo>
                    <a:lnTo>
                      <a:pt x="55" y="46"/>
                    </a:lnTo>
                    <a:lnTo>
                      <a:pt x="65" y="56"/>
                    </a:lnTo>
                    <a:lnTo>
                      <a:pt x="83" y="64"/>
                    </a:lnTo>
                    <a:lnTo>
                      <a:pt x="92" y="83"/>
                    </a:lnTo>
                    <a:lnTo>
                      <a:pt x="110" y="92"/>
                    </a:lnTo>
                    <a:lnTo>
                      <a:pt x="119" y="101"/>
                    </a:lnTo>
                    <a:lnTo>
                      <a:pt x="128" y="110"/>
                    </a:lnTo>
                    <a:lnTo>
                      <a:pt x="147" y="128"/>
                    </a:lnTo>
                    <a:lnTo>
                      <a:pt x="156" y="138"/>
                    </a:lnTo>
                    <a:lnTo>
                      <a:pt x="165" y="155"/>
                    </a:lnTo>
                    <a:lnTo>
                      <a:pt x="175" y="165"/>
                    </a:lnTo>
                    <a:lnTo>
                      <a:pt x="183" y="183"/>
                    </a:lnTo>
                    <a:lnTo>
                      <a:pt x="193" y="19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676560" y="3838680"/>
                <a:ext cx="28080" cy="163440"/>
              </a:xfrm>
              <a:custGeom>
                <a:avLst/>
                <a:gdLst/>
                <a:ahLst/>
                <a:rect l="l" t="t" r="r" b="b"/>
                <a:pathLst>
                  <a:path w="74" h="412">
                    <a:moveTo>
                      <a:pt x="0" y="0"/>
                    </a:moveTo>
                    <a:lnTo>
                      <a:pt x="19" y="18"/>
                    </a:lnTo>
                    <a:lnTo>
                      <a:pt x="37" y="46"/>
                    </a:lnTo>
                    <a:lnTo>
                      <a:pt x="46" y="74"/>
                    </a:lnTo>
                    <a:lnTo>
                      <a:pt x="55" y="101"/>
                    </a:lnTo>
                    <a:lnTo>
                      <a:pt x="65" y="119"/>
                    </a:lnTo>
                    <a:lnTo>
                      <a:pt x="74" y="146"/>
                    </a:lnTo>
                    <a:lnTo>
                      <a:pt x="74" y="175"/>
                    </a:lnTo>
                    <a:lnTo>
                      <a:pt x="74" y="203"/>
                    </a:lnTo>
                    <a:lnTo>
                      <a:pt x="74" y="230"/>
                    </a:lnTo>
                    <a:lnTo>
                      <a:pt x="74" y="257"/>
                    </a:lnTo>
                    <a:lnTo>
                      <a:pt x="65" y="284"/>
                    </a:lnTo>
                    <a:lnTo>
                      <a:pt x="55" y="312"/>
                    </a:lnTo>
                    <a:lnTo>
                      <a:pt x="55" y="340"/>
                    </a:lnTo>
                    <a:lnTo>
                      <a:pt x="37" y="367"/>
                    </a:lnTo>
                    <a:lnTo>
                      <a:pt x="27" y="394"/>
                    </a:lnTo>
                    <a:lnTo>
                      <a:pt x="9" y="412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6161040" y="412812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47" h="284">
                    <a:moveTo>
                      <a:pt x="47" y="0"/>
                    </a:moveTo>
                    <a:lnTo>
                      <a:pt x="47" y="19"/>
                    </a:lnTo>
                    <a:lnTo>
                      <a:pt x="47" y="37"/>
                    </a:lnTo>
                    <a:lnTo>
                      <a:pt x="47" y="55"/>
                    </a:lnTo>
                    <a:lnTo>
                      <a:pt x="47" y="73"/>
                    </a:lnTo>
                    <a:lnTo>
                      <a:pt x="37" y="91"/>
                    </a:lnTo>
                    <a:lnTo>
                      <a:pt x="37" y="110"/>
                    </a:lnTo>
                    <a:lnTo>
                      <a:pt x="37" y="129"/>
                    </a:lnTo>
                    <a:lnTo>
                      <a:pt x="37" y="147"/>
                    </a:lnTo>
                    <a:lnTo>
                      <a:pt x="37" y="166"/>
                    </a:lnTo>
                    <a:lnTo>
                      <a:pt x="27" y="183"/>
                    </a:lnTo>
                    <a:lnTo>
                      <a:pt x="27" y="201"/>
                    </a:lnTo>
                    <a:lnTo>
                      <a:pt x="27" y="220"/>
                    </a:lnTo>
                    <a:lnTo>
                      <a:pt x="18" y="238"/>
                    </a:lnTo>
                    <a:lnTo>
                      <a:pt x="9" y="248"/>
                    </a:lnTo>
                    <a:lnTo>
                      <a:pt x="9" y="266"/>
                    </a:lnTo>
                    <a:lnTo>
                      <a:pt x="0" y="28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077160" y="4240080"/>
                <a:ext cx="83520" cy="195480"/>
              </a:xfrm>
              <a:custGeom>
                <a:avLst/>
                <a:gdLst/>
                <a:ahLst/>
                <a:rect l="l" t="t" r="r" b="b"/>
                <a:pathLst>
                  <a:path w="210" h="486">
                    <a:moveTo>
                      <a:pt x="210" y="0"/>
                    </a:moveTo>
                    <a:lnTo>
                      <a:pt x="182" y="27"/>
                    </a:lnTo>
                    <a:lnTo>
                      <a:pt x="164" y="55"/>
                    </a:lnTo>
                    <a:lnTo>
                      <a:pt x="147" y="82"/>
                    </a:lnTo>
                    <a:lnTo>
                      <a:pt x="128" y="110"/>
                    </a:lnTo>
                    <a:lnTo>
                      <a:pt x="109" y="137"/>
                    </a:lnTo>
                    <a:lnTo>
                      <a:pt x="91" y="174"/>
                    </a:lnTo>
                    <a:lnTo>
                      <a:pt x="82" y="201"/>
                    </a:lnTo>
                    <a:lnTo>
                      <a:pt x="64" y="229"/>
                    </a:lnTo>
                    <a:lnTo>
                      <a:pt x="54" y="257"/>
                    </a:lnTo>
                    <a:lnTo>
                      <a:pt x="37" y="293"/>
                    </a:lnTo>
                    <a:lnTo>
                      <a:pt x="27" y="321"/>
                    </a:lnTo>
                    <a:lnTo>
                      <a:pt x="18" y="358"/>
                    </a:lnTo>
                    <a:lnTo>
                      <a:pt x="9" y="385"/>
                    </a:lnTo>
                    <a:lnTo>
                      <a:pt x="9" y="422"/>
                    </a:lnTo>
                    <a:lnTo>
                      <a:pt x="0" y="458"/>
                    </a:lnTo>
                    <a:lnTo>
                      <a:pt x="0" y="48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077160" y="4435560"/>
                <a:ext cx="27360" cy="259200"/>
              </a:xfrm>
              <a:custGeom>
                <a:avLst/>
                <a:gdLst/>
                <a:ahLst/>
                <a:rect l="l" t="t" r="r" b="b"/>
                <a:pathLst>
                  <a:path w="72" h="650">
                    <a:moveTo>
                      <a:pt x="0" y="0"/>
                    </a:moveTo>
                    <a:lnTo>
                      <a:pt x="0" y="46"/>
                    </a:lnTo>
                    <a:lnTo>
                      <a:pt x="0" y="82"/>
                    </a:lnTo>
                    <a:lnTo>
                      <a:pt x="0" y="128"/>
                    </a:lnTo>
                    <a:lnTo>
                      <a:pt x="9" y="166"/>
                    </a:lnTo>
                    <a:lnTo>
                      <a:pt x="9" y="211"/>
                    </a:lnTo>
                    <a:lnTo>
                      <a:pt x="18" y="247"/>
                    </a:lnTo>
                    <a:lnTo>
                      <a:pt x="18" y="293"/>
                    </a:lnTo>
                    <a:lnTo>
                      <a:pt x="27" y="330"/>
                    </a:lnTo>
                    <a:lnTo>
                      <a:pt x="37" y="366"/>
                    </a:lnTo>
                    <a:lnTo>
                      <a:pt x="45" y="413"/>
                    </a:lnTo>
                    <a:lnTo>
                      <a:pt x="45" y="449"/>
                    </a:lnTo>
                    <a:lnTo>
                      <a:pt x="54" y="485"/>
                    </a:lnTo>
                    <a:lnTo>
                      <a:pt x="64" y="532"/>
                    </a:lnTo>
                    <a:lnTo>
                      <a:pt x="64" y="568"/>
                    </a:lnTo>
                    <a:lnTo>
                      <a:pt x="72" y="614"/>
                    </a:lnTo>
                    <a:lnTo>
                      <a:pt x="72" y="65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6104880" y="4695120"/>
                <a:ext cx="83520" cy="397440"/>
              </a:xfrm>
              <a:custGeom>
                <a:avLst/>
                <a:gdLst/>
                <a:ahLst/>
                <a:rect l="l" t="t" r="r" b="b"/>
                <a:pathLst>
                  <a:path w="212" h="999">
                    <a:moveTo>
                      <a:pt x="0" y="0"/>
                    </a:moveTo>
                    <a:lnTo>
                      <a:pt x="19" y="64"/>
                    </a:lnTo>
                    <a:lnTo>
                      <a:pt x="37" y="119"/>
                    </a:lnTo>
                    <a:lnTo>
                      <a:pt x="56" y="184"/>
                    </a:lnTo>
                    <a:lnTo>
                      <a:pt x="75" y="238"/>
                    </a:lnTo>
                    <a:lnTo>
                      <a:pt x="92" y="303"/>
                    </a:lnTo>
                    <a:lnTo>
                      <a:pt x="110" y="367"/>
                    </a:lnTo>
                    <a:lnTo>
                      <a:pt x="120" y="431"/>
                    </a:lnTo>
                    <a:lnTo>
                      <a:pt x="138" y="486"/>
                    </a:lnTo>
                    <a:lnTo>
                      <a:pt x="147" y="550"/>
                    </a:lnTo>
                    <a:lnTo>
                      <a:pt x="165" y="614"/>
                    </a:lnTo>
                    <a:lnTo>
                      <a:pt x="175" y="679"/>
                    </a:lnTo>
                    <a:lnTo>
                      <a:pt x="185" y="742"/>
                    </a:lnTo>
                    <a:lnTo>
                      <a:pt x="193" y="807"/>
                    </a:lnTo>
                    <a:lnTo>
                      <a:pt x="202" y="871"/>
                    </a:lnTo>
                    <a:lnTo>
                      <a:pt x="202" y="936"/>
                    </a:lnTo>
                    <a:lnTo>
                      <a:pt x="212" y="99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6171120" y="5092560"/>
                <a:ext cx="31680" cy="263160"/>
              </a:xfrm>
              <a:custGeom>
                <a:avLst/>
                <a:gdLst/>
                <a:ahLst/>
                <a:rect l="l" t="t" r="r" b="b"/>
                <a:pathLst>
                  <a:path w="82" h="660">
                    <a:moveTo>
                      <a:pt x="47" y="0"/>
                    </a:moveTo>
                    <a:lnTo>
                      <a:pt x="55" y="36"/>
                    </a:lnTo>
                    <a:lnTo>
                      <a:pt x="55" y="83"/>
                    </a:lnTo>
                    <a:lnTo>
                      <a:pt x="65" y="119"/>
                    </a:lnTo>
                    <a:lnTo>
                      <a:pt x="74" y="165"/>
                    </a:lnTo>
                    <a:lnTo>
                      <a:pt x="82" y="211"/>
                    </a:lnTo>
                    <a:lnTo>
                      <a:pt x="82" y="248"/>
                    </a:lnTo>
                    <a:lnTo>
                      <a:pt x="82" y="293"/>
                    </a:lnTo>
                    <a:lnTo>
                      <a:pt x="82" y="340"/>
                    </a:lnTo>
                    <a:lnTo>
                      <a:pt x="82" y="376"/>
                    </a:lnTo>
                    <a:lnTo>
                      <a:pt x="82" y="422"/>
                    </a:lnTo>
                    <a:lnTo>
                      <a:pt x="74" y="468"/>
                    </a:lnTo>
                    <a:lnTo>
                      <a:pt x="65" y="505"/>
                    </a:lnTo>
                    <a:lnTo>
                      <a:pt x="55" y="540"/>
                    </a:lnTo>
                    <a:lnTo>
                      <a:pt x="37" y="587"/>
                    </a:lnTo>
                    <a:lnTo>
                      <a:pt x="20" y="624"/>
                    </a:lnTo>
                    <a:lnTo>
                      <a:pt x="0" y="66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6144840" y="5407920"/>
                <a:ext cx="21960" cy="219240"/>
              </a:xfrm>
              <a:custGeom>
                <a:avLst/>
                <a:gdLst/>
                <a:ahLst/>
                <a:rect l="l" t="t" r="r" b="b"/>
                <a:pathLst>
                  <a:path w="54" h="550">
                    <a:moveTo>
                      <a:pt x="0" y="0"/>
                    </a:moveTo>
                    <a:lnTo>
                      <a:pt x="8" y="28"/>
                    </a:lnTo>
                    <a:lnTo>
                      <a:pt x="18" y="65"/>
                    </a:lnTo>
                    <a:lnTo>
                      <a:pt x="27" y="101"/>
                    </a:lnTo>
                    <a:lnTo>
                      <a:pt x="36" y="138"/>
                    </a:lnTo>
                    <a:lnTo>
                      <a:pt x="36" y="165"/>
                    </a:lnTo>
                    <a:lnTo>
                      <a:pt x="45" y="203"/>
                    </a:lnTo>
                    <a:lnTo>
                      <a:pt x="45" y="238"/>
                    </a:lnTo>
                    <a:lnTo>
                      <a:pt x="45" y="275"/>
                    </a:lnTo>
                    <a:lnTo>
                      <a:pt x="54" y="302"/>
                    </a:lnTo>
                    <a:lnTo>
                      <a:pt x="54" y="340"/>
                    </a:lnTo>
                    <a:lnTo>
                      <a:pt x="54" y="376"/>
                    </a:lnTo>
                    <a:lnTo>
                      <a:pt x="54" y="412"/>
                    </a:lnTo>
                    <a:lnTo>
                      <a:pt x="54" y="449"/>
                    </a:lnTo>
                    <a:lnTo>
                      <a:pt x="54" y="477"/>
                    </a:lnTo>
                    <a:lnTo>
                      <a:pt x="45" y="514"/>
                    </a:lnTo>
                    <a:lnTo>
                      <a:pt x="45" y="55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157080" y="5657400"/>
                <a:ext cx="67680" cy="141480"/>
              </a:xfrm>
              <a:custGeom>
                <a:avLst/>
                <a:gdLst/>
                <a:ahLst/>
                <a:rect l="l" t="t" r="r" b="b"/>
                <a:pathLst>
                  <a:path w="173" h="358">
                    <a:moveTo>
                      <a:pt x="0" y="0"/>
                    </a:moveTo>
                    <a:lnTo>
                      <a:pt x="18" y="18"/>
                    </a:lnTo>
                    <a:lnTo>
                      <a:pt x="36" y="36"/>
                    </a:lnTo>
                    <a:lnTo>
                      <a:pt x="56" y="54"/>
                    </a:lnTo>
                    <a:lnTo>
                      <a:pt x="73" y="72"/>
                    </a:lnTo>
                    <a:lnTo>
                      <a:pt x="91" y="91"/>
                    </a:lnTo>
                    <a:lnTo>
                      <a:pt x="110" y="119"/>
                    </a:lnTo>
                    <a:lnTo>
                      <a:pt x="118" y="137"/>
                    </a:lnTo>
                    <a:lnTo>
                      <a:pt x="137" y="164"/>
                    </a:lnTo>
                    <a:lnTo>
                      <a:pt x="146" y="183"/>
                    </a:lnTo>
                    <a:lnTo>
                      <a:pt x="155" y="210"/>
                    </a:lnTo>
                    <a:lnTo>
                      <a:pt x="165" y="229"/>
                    </a:lnTo>
                    <a:lnTo>
                      <a:pt x="165" y="256"/>
                    </a:lnTo>
                    <a:lnTo>
                      <a:pt x="173" y="284"/>
                    </a:lnTo>
                    <a:lnTo>
                      <a:pt x="173" y="301"/>
                    </a:lnTo>
                    <a:lnTo>
                      <a:pt x="173" y="329"/>
                    </a:lnTo>
                    <a:lnTo>
                      <a:pt x="165" y="35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153120" y="5799240"/>
                <a:ext cx="69480" cy="79560"/>
              </a:xfrm>
              <a:custGeom>
                <a:avLst/>
                <a:gdLst/>
                <a:ahLst/>
                <a:rect l="l" t="t" r="r" b="b"/>
                <a:pathLst>
                  <a:path w="174" h="200">
                    <a:moveTo>
                      <a:pt x="174" y="0"/>
                    </a:moveTo>
                    <a:lnTo>
                      <a:pt x="164" y="18"/>
                    </a:lnTo>
                    <a:lnTo>
                      <a:pt x="164" y="27"/>
                    </a:lnTo>
                    <a:lnTo>
                      <a:pt x="146" y="45"/>
                    </a:lnTo>
                    <a:lnTo>
                      <a:pt x="137" y="54"/>
                    </a:lnTo>
                    <a:lnTo>
                      <a:pt x="127" y="63"/>
                    </a:lnTo>
                    <a:lnTo>
                      <a:pt x="110" y="82"/>
                    </a:lnTo>
                    <a:lnTo>
                      <a:pt x="100" y="90"/>
                    </a:lnTo>
                    <a:lnTo>
                      <a:pt x="82" y="99"/>
                    </a:lnTo>
                    <a:lnTo>
                      <a:pt x="73" y="109"/>
                    </a:lnTo>
                    <a:lnTo>
                      <a:pt x="55" y="127"/>
                    </a:lnTo>
                    <a:lnTo>
                      <a:pt x="45" y="137"/>
                    </a:lnTo>
                    <a:lnTo>
                      <a:pt x="27" y="146"/>
                    </a:lnTo>
                    <a:lnTo>
                      <a:pt x="18" y="155"/>
                    </a:lnTo>
                    <a:lnTo>
                      <a:pt x="9" y="173"/>
                    </a:lnTo>
                    <a:lnTo>
                      <a:pt x="9" y="192"/>
                    </a:lnTo>
                    <a:lnTo>
                      <a:pt x="0" y="20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157080" y="5767200"/>
                <a:ext cx="28080" cy="71640"/>
              </a:xfrm>
              <a:custGeom>
                <a:avLst/>
                <a:gdLst/>
                <a:ahLst/>
                <a:rect l="l" t="t" r="r" b="b"/>
                <a:pathLst>
                  <a:path w="73" h="183">
                    <a:moveTo>
                      <a:pt x="0" y="183"/>
                    </a:moveTo>
                    <a:lnTo>
                      <a:pt x="9" y="174"/>
                    </a:lnTo>
                    <a:lnTo>
                      <a:pt x="18" y="166"/>
                    </a:lnTo>
                    <a:lnTo>
                      <a:pt x="27" y="156"/>
                    </a:lnTo>
                    <a:lnTo>
                      <a:pt x="36" y="147"/>
                    </a:lnTo>
                    <a:lnTo>
                      <a:pt x="46" y="138"/>
                    </a:lnTo>
                    <a:lnTo>
                      <a:pt x="46" y="120"/>
                    </a:lnTo>
                    <a:lnTo>
                      <a:pt x="56" y="111"/>
                    </a:lnTo>
                    <a:lnTo>
                      <a:pt x="64" y="102"/>
                    </a:lnTo>
                    <a:lnTo>
                      <a:pt x="64" y="92"/>
                    </a:lnTo>
                    <a:lnTo>
                      <a:pt x="73" y="74"/>
                    </a:lnTo>
                    <a:lnTo>
                      <a:pt x="73" y="64"/>
                    </a:lnTo>
                    <a:lnTo>
                      <a:pt x="73" y="55"/>
                    </a:lnTo>
                    <a:lnTo>
                      <a:pt x="73" y="37"/>
                    </a:lnTo>
                    <a:lnTo>
                      <a:pt x="73" y="27"/>
                    </a:lnTo>
                    <a:lnTo>
                      <a:pt x="73" y="19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18920" y="5683320"/>
                <a:ext cx="65880" cy="83520"/>
              </a:xfrm>
              <a:custGeom>
                <a:avLst/>
                <a:gdLst/>
                <a:ahLst/>
                <a:rect l="l" t="t" r="r" b="b"/>
                <a:pathLst>
                  <a:path w="165" h="210">
                    <a:moveTo>
                      <a:pt x="165" y="210"/>
                    </a:moveTo>
                    <a:lnTo>
                      <a:pt x="165" y="192"/>
                    </a:lnTo>
                    <a:lnTo>
                      <a:pt x="156" y="183"/>
                    </a:lnTo>
                    <a:lnTo>
                      <a:pt x="148" y="165"/>
                    </a:lnTo>
                    <a:lnTo>
                      <a:pt x="148" y="146"/>
                    </a:lnTo>
                    <a:lnTo>
                      <a:pt x="138" y="137"/>
                    </a:lnTo>
                    <a:lnTo>
                      <a:pt x="128" y="119"/>
                    </a:lnTo>
                    <a:lnTo>
                      <a:pt x="119" y="100"/>
                    </a:lnTo>
                    <a:lnTo>
                      <a:pt x="110" y="92"/>
                    </a:lnTo>
                    <a:lnTo>
                      <a:pt x="101" y="73"/>
                    </a:lnTo>
                    <a:lnTo>
                      <a:pt x="92" y="65"/>
                    </a:lnTo>
                    <a:lnTo>
                      <a:pt x="73" y="46"/>
                    </a:lnTo>
                    <a:lnTo>
                      <a:pt x="65" y="36"/>
                    </a:lnTo>
                    <a:lnTo>
                      <a:pt x="55" y="27"/>
                    </a:lnTo>
                    <a:lnTo>
                      <a:pt x="38" y="18"/>
                    </a:lnTo>
                    <a:lnTo>
                      <a:pt x="19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064920" y="5723280"/>
                <a:ext cx="18000" cy="155520"/>
              </a:xfrm>
              <a:custGeom>
                <a:avLst/>
                <a:gdLst/>
                <a:ahLst/>
                <a:rect l="l" t="t" r="r" b="b"/>
                <a:pathLst>
                  <a:path w="46" h="394">
                    <a:moveTo>
                      <a:pt x="10" y="0"/>
                    </a:moveTo>
                    <a:lnTo>
                      <a:pt x="10" y="27"/>
                    </a:lnTo>
                    <a:lnTo>
                      <a:pt x="0" y="55"/>
                    </a:lnTo>
                    <a:lnTo>
                      <a:pt x="0" y="74"/>
                    </a:lnTo>
                    <a:lnTo>
                      <a:pt x="0" y="102"/>
                    </a:lnTo>
                    <a:lnTo>
                      <a:pt x="0" y="129"/>
                    </a:lnTo>
                    <a:lnTo>
                      <a:pt x="10" y="156"/>
                    </a:lnTo>
                    <a:lnTo>
                      <a:pt x="10" y="174"/>
                    </a:lnTo>
                    <a:lnTo>
                      <a:pt x="19" y="202"/>
                    </a:lnTo>
                    <a:lnTo>
                      <a:pt x="28" y="230"/>
                    </a:lnTo>
                    <a:lnTo>
                      <a:pt x="28" y="248"/>
                    </a:lnTo>
                    <a:lnTo>
                      <a:pt x="37" y="276"/>
                    </a:lnTo>
                    <a:lnTo>
                      <a:pt x="37" y="303"/>
                    </a:lnTo>
                    <a:lnTo>
                      <a:pt x="46" y="321"/>
                    </a:lnTo>
                    <a:lnTo>
                      <a:pt x="46" y="349"/>
                    </a:lnTo>
                    <a:lnTo>
                      <a:pt x="46" y="376"/>
                    </a:lnTo>
                    <a:lnTo>
                      <a:pt x="37" y="39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017040" y="5657400"/>
                <a:ext cx="51840" cy="181440"/>
              </a:xfrm>
              <a:custGeom>
                <a:avLst/>
                <a:gdLst/>
                <a:ahLst/>
                <a:rect l="l" t="t" r="r" b="b"/>
                <a:pathLst>
                  <a:path w="129" h="457">
                    <a:moveTo>
                      <a:pt x="28" y="457"/>
                    </a:moveTo>
                    <a:lnTo>
                      <a:pt x="19" y="421"/>
                    </a:lnTo>
                    <a:lnTo>
                      <a:pt x="10" y="394"/>
                    </a:lnTo>
                    <a:lnTo>
                      <a:pt x="10" y="366"/>
                    </a:lnTo>
                    <a:lnTo>
                      <a:pt x="10" y="329"/>
                    </a:lnTo>
                    <a:lnTo>
                      <a:pt x="0" y="301"/>
                    </a:lnTo>
                    <a:lnTo>
                      <a:pt x="0" y="266"/>
                    </a:lnTo>
                    <a:lnTo>
                      <a:pt x="0" y="238"/>
                    </a:lnTo>
                    <a:lnTo>
                      <a:pt x="10" y="210"/>
                    </a:lnTo>
                    <a:lnTo>
                      <a:pt x="10" y="174"/>
                    </a:lnTo>
                    <a:lnTo>
                      <a:pt x="19" y="146"/>
                    </a:lnTo>
                    <a:lnTo>
                      <a:pt x="28" y="119"/>
                    </a:lnTo>
                    <a:lnTo>
                      <a:pt x="46" y="91"/>
                    </a:lnTo>
                    <a:lnTo>
                      <a:pt x="55" y="64"/>
                    </a:lnTo>
                    <a:lnTo>
                      <a:pt x="82" y="45"/>
                    </a:lnTo>
                    <a:lnTo>
                      <a:pt x="101" y="18"/>
                    </a:lnTo>
                    <a:lnTo>
                      <a:pt x="12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035040" y="5525640"/>
                <a:ext cx="33840" cy="131400"/>
              </a:xfrm>
              <a:custGeom>
                <a:avLst/>
                <a:gdLst/>
                <a:ahLst/>
                <a:rect l="l" t="t" r="r" b="b"/>
                <a:pathLst>
                  <a:path w="83" h="330">
                    <a:moveTo>
                      <a:pt x="83" y="330"/>
                    </a:moveTo>
                    <a:lnTo>
                      <a:pt x="83" y="302"/>
                    </a:lnTo>
                    <a:lnTo>
                      <a:pt x="83" y="284"/>
                    </a:lnTo>
                    <a:lnTo>
                      <a:pt x="83" y="256"/>
                    </a:lnTo>
                    <a:lnTo>
                      <a:pt x="83" y="238"/>
                    </a:lnTo>
                    <a:lnTo>
                      <a:pt x="83" y="220"/>
                    </a:lnTo>
                    <a:lnTo>
                      <a:pt x="73" y="192"/>
                    </a:lnTo>
                    <a:lnTo>
                      <a:pt x="73" y="175"/>
                    </a:lnTo>
                    <a:lnTo>
                      <a:pt x="63" y="155"/>
                    </a:lnTo>
                    <a:lnTo>
                      <a:pt x="63" y="128"/>
                    </a:lnTo>
                    <a:lnTo>
                      <a:pt x="55" y="110"/>
                    </a:lnTo>
                    <a:lnTo>
                      <a:pt x="45" y="91"/>
                    </a:lnTo>
                    <a:lnTo>
                      <a:pt x="45" y="73"/>
                    </a:lnTo>
                    <a:lnTo>
                      <a:pt x="36" y="55"/>
                    </a:lnTo>
                    <a:lnTo>
                      <a:pt x="28" y="36"/>
                    </a:lnTo>
                    <a:lnTo>
                      <a:pt x="18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024960" y="5531760"/>
                <a:ext cx="9720" cy="91800"/>
              </a:xfrm>
              <a:custGeom>
                <a:avLst/>
                <a:gdLst/>
                <a:ahLst/>
                <a:rect l="l" t="t" r="r" b="b"/>
                <a:pathLst>
                  <a:path w="27" h="229">
                    <a:moveTo>
                      <a:pt x="18" y="0"/>
                    </a:moveTo>
                    <a:lnTo>
                      <a:pt x="27" y="18"/>
                    </a:lnTo>
                    <a:lnTo>
                      <a:pt x="27" y="28"/>
                    </a:lnTo>
                    <a:lnTo>
                      <a:pt x="27" y="46"/>
                    </a:lnTo>
                    <a:lnTo>
                      <a:pt x="27" y="55"/>
                    </a:lnTo>
                    <a:lnTo>
                      <a:pt x="27" y="73"/>
                    </a:lnTo>
                    <a:lnTo>
                      <a:pt x="27" y="92"/>
                    </a:lnTo>
                    <a:lnTo>
                      <a:pt x="18" y="100"/>
                    </a:lnTo>
                    <a:lnTo>
                      <a:pt x="18" y="119"/>
                    </a:lnTo>
                    <a:lnTo>
                      <a:pt x="18" y="127"/>
                    </a:lnTo>
                    <a:lnTo>
                      <a:pt x="18" y="147"/>
                    </a:lnTo>
                    <a:lnTo>
                      <a:pt x="9" y="157"/>
                    </a:lnTo>
                    <a:lnTo>
                      <a:pt x="9" y="174"/>
                    </a:lnTo>
                    <a:lnTo>
                      <a:pt x="9" y="184"/>
                    </a:lnTo>
                    <a:lnTo>
                      <a:pt x="0" y="202"/>
                    </a:lnTo>
                    <a:lnTo>
                      <a:pt x="0" y="220"/>
                    </a:lnTo>
                    <a:lnTo>
                      <a:pt x="0" y="22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981040" y="5641560"/>
                <a:ext cx="28080" cy="183240"/>
              </a:xfrm>
              <a:custGeom>
                <a:avLst/>
                <a:gdLst/>
                <a:ahLst/>
                <a:rect l="l" t="t" r="r" b="b"/>
                <a:pathLst>
                  <a:path w="72" h="458">
                    <a:moveTo>
                      <a:pt x="72" y="0"/>
                    </a:moveTo>
                    <a:lnTo>
                      <a:pt x="45" y="19"/>
                    </a:lnTo>
                    <a:lnTo>
                      <a:pt x="27" y="46"/>
                    </a:lnTo>
                    <a:lnTo>
                      <a:pt x="9" y="73"/>
                    </a:lnTo>
                    <a:lnTo>
                      <a:pt x="0" y="101"/>
                    </a:lnTo>
                    <a:lnTo>
                      <a:pt x="0" y="128"/>
                    </a:lnTo>
                    <a:lnTo>
                      <a:pt x="0" y="156"/>
                    </a:lnTo>
                    <a:lnTo>
                      <a:pt x="9" y="183"/>
                    </a:lnTo>
                    <a:lnTo>
                      <a:pt x="18" y="211"/>
                    </a:lnTo>
                    <a:lnTo>
                      <a:pt x="27" y="247"/>
                    </a:lnTo>
                    <a:lnTo>
                      <a:pt x="36" y="275"/>
                    </a:lnTo>
                    <a:lnTo>
                      <a:pt x="45" y="303"/>
                    </a:lnTo>
                    <a:lnTo>
                      <a:pt x="55" y="330"/>
                    </a:lnTo>
                    <a:lnTo>
                      <a:pt x="55" y="366"/>
                    </a:lnTo>
                    <a:lnTo>
                      <a:pt x="55" y="395"/>
                    </a:lnTo>
                    <a:lnTo>
                      <a:pt x="55" y="422"/>
                    </a:lnTo>
                    <a:lnTo>
                      <a:pt x="45" y="45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947200" y="5653440"/>
                <a:ext cx="15840" cy="137520"/>
              </a:xfrm>
              <a:custGeom>
                <a:avLst/>
                <a:gdLst/>
                <a:ahLst/>
                <a:rect l="l" t="t" r="r" b="b"/>
                <a:pathLst>
                  <a:path w="37" h="348">
                    <a:moveTo>
                      <a:pt x="37" y="348"/>
                    </a:moveTo>
                    <a:lnTo>
                      <a:pt x="28" y="330"/>
                    </a:lnTo>
                    <a:lnTo>
                      <a:pt x="28" y="303"/>
                    </a:lnTo>
                    <a:lnTo>
                      <a:pt x="28" y="284"/>
                    </a:lnTo>
                    <a:lnTo>
                      <a:pt x="18" y="266"/>
                    </a:lnTo>
                    <a:lnTo>
                      <a:pt x="18" y="239"/>
                    </a:lnTo>
                    <a:lnTo>
                      <a:pt x="9" y="220"/>
                    </a:lnTo>
                    <a:lnTo>
                      <a:pt x="9" y="193"/>
                    </a:lnTo>
                    <a:lnTo>
                      <a:pt x="0" y="174"/>
                    </a:lnTo>
                    <a:lnTo>
                      <a:pt x="0" y="147"/>
                    </a:lnTo>
                    <a:lnTo>
                      <a:pt x="0" y="129"/>
                    </a:lnTo>
                    <a:lnTo>
                      <a:pt x="0" y="110"/>
                    </a:lnTo>
                    <a:lnTo>
                      <a:pt x="0" y="82"/>
                    </a:lnTo>
                    <a:lnTo>
                      <a:pt x="9" y="64"/>
                    </a:lnTo>
                    <a:lnTo>
                      <a:pt x="9" y="46"/>
                    </a:lnTo>
                    <a:lnTo>
                      <a:pt x="28" y="19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95080" y="5535720"/>
                <a:ext cx="3960" cy="91800"/>
              </a:xfrm>
              <a:custGeom>
                <a:avLst/>
                <a:gdLst/>
                <a:ahLst/>
                <a:rect l="l" t="t" r="r" b="b"/>
                <a:pathLst>
                  <a:path w="9" h="228">
                    <a:moveTo>
                      <a:pt x="0" y="228"/>
                    </a:moveTo>
                    <a:lnTo>
                      <a:pt x="0" y="210"/>
                    </a:lnTo>
                    <a:lnTo>
                      <a:pt x="0" y="201"/>
                    </a:lnTo>
                    <a:lnTo>
                      <a:pt x="0" y="182"/>
                    </a:lnTo>
                    <a:lnTo>
                      <a:pt x="0" y="164"/>
                    </a:lnTo>
                    <a:lnTo>
                      <a:pt x="0" y="155"/>
                    </a:lnTo>
                    <a:lnTo>
                      <a:pt x="0" y="137"/>
                    </a:lnTo>
                    <a:lnTo>
                      <a:pt x="9" y="127"/>
                    </a:lnTo>
                    <a:lnTo>
                      <a:pt x="9" y="109"/>
                    </a:lnTo>
                    <a:lnTo>
                      <a:pt x="9" y="100"/>
                    </a:lnTo>
                    <a:lnTo>
                      <a:pt x="9" y="82"/>
                    </a:lnTo>
                    <a:lnTo>
                      <a:pt x="9" y="63"/>
                    </a:lnTo>
                    <a:lnTo>
                      <a:pt x="9" y="54"/>
                    </a:lnTo>
                    <a:lnTo>
                      <a:pt x="9" y="36"/>
                    </a:lnTo>
                    <a:lnTo>
                      <a:pt x="9" y="27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79160" y="5360040"/>
                <a:ext cx="115920" cy="175320"/>
              </a:xfrm>
              <a:custGeom>
                <a:avLst/>
                <a:gdLst/>
                <a:ahLst/>
                <a:rect l="l" t="t" r="r" b="b"/>
                <a:pathLst>
                  <a:path w="292" h="441">
                    <a:moveTo>
                      <a:pt x="292" y="441"/>
                    </a:moveTo>
                    <a:lnTo>
                      <a:pt x="283" y="403"/>
                    </a:lnTo>
                    <a:lnTo>
                      <a:pt x="274" y="376"/>
                    </a:lnTo>
                    <a:lnTo>
                      <a:pt x="265" y="349"/>
                    </a:lnTo>
                    <a:lnTo>
                      <a:pt x="247" y="312"/>
                    </a:lnTo>
                    <a:lnTo>
                      <a:pt x="237" y="284"/>
                    </a:lnTo>
                    <a:lnTo>
                      <a:pt x="219" y="257"/>
                    </a:lnTo>
                    <a:lnTo>
                      <a:pt x="210" y="229"/>
                    </a:lnTo>
                    <a:lnTo>
                      <a:pt x="191" y="202"/>
                    </a:lnTo>
                    <a:lnTo>
                      <a:pt x="173" y="174"/>
                    </a:lnTo>
                    <a:lnTo>
                      <a:pt x="155" y="147"/>
                    </a:lnTo>
                    <a:lnTo>
                      <a:pt x="137" y="119"/>
                    </a:lnTo>
                    <a:lnTo>
                      <a:pt x="110" y="92"/>
                    </a:lnTo>
                    <a:lnTo>
                      <a:pt x="82" y="73"/>
                    </a:lnTo>
                    <a:lnTo>
                      <a:pt x="63" y="46"/>
                    </a:lnTo>
                    <a:lnTo>
                      <a:pt x="27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655240" y="5328000"/>
                <a:ext cx="53640" cy="5760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37" y="147"/>
                    </a:moveTo>
                    <a:lnTo>
                      <a:pt x="129" y="137"/>
                    </a:lnTo>
                    <a:lnTo>
                      <a:pt x="110" y="137"/>
                    </a:lnTo>
                    <a:lnTo>
                      <a:pt x="101" y="128"/>
                    </a:lnTo>
                    <a:lnTo>
                      <a:pt x="91" y="119"/>
                    </a:lnTo>
                    <a:lnTo>
                      <a:pt x="82" y="109"/>
                    </a:lnTo>
                    <a:lnTo>
                      <a:pt x="74" y="100"/>
                    </a:lnTo>
                    <a:lnTo>
                      <a:pt x="64" y="91"/>
                    </a:lnTo>
                    <a:lnTo>
                      <a:pt x="55" y="82"/>
                    </a:lnTo>
                    <a:lnTo>
                      <a:pt x="46" y="73"/>
                    </a:lnTo>
                    <a:lnTo>
                      <a:pt x="37" y="64"/>
                    </a:lnTo>
                    <a:lnTo>
                      <a:pt x="37" y="45"/>
                    </a:lnTo>
                    <a:lnTo>
                      <a:pt x="27" y="37"/>
                    </a:lnTo>
                    <a:lnTo>
                      <a:pt x="19" y="28"/>
                    </a:lnTo>
                    <a:lnTo>
                      <a:pt x="10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497560" y="5262120"/>
                <a:ext cx="157680" cy="65520"/>
              </a:xfrm>
              <a:custGeom>
                <a:avLst/>
                <a:gdLst/>
                <a:ahLst/>
                <a:rect l="l" t="t" r="r" b="b"/>
                <a:pathLst>
                  <a:path w="393" h="165">
                    <a:moveTo>
                      <a:pt x="393" y="165"/>
                    </a:moveTo>
                    <a:lnTo>
                      <a:pt x="365" y="155"/>
                    </a:lnTo>
                    <a:lnTo>
                      <a:pt x="338" y="147"/>
                    </a:lnTo>
                    <a:lnTo>
                      <a:pt x="320" y="137"/>
                    </a:lnTo>
                    <a:lnTo>
                      <a:pt x="293" y="128"/>
                    </a:lnTo>
                    <a:lnTo>
                      <a:pt x="265" y="110"/>
                    </a:lnTo>
                    <a:lnTo>
                      <a:pt x="247" y="100"/>
                    </a:lnTo>
                    <a:lnTo>
                      <a:pt x="219" y="91"/>
                    </a:lnTo>
                    <a:lnTo>
                      <a:pt x="201" y="73"/>
                    </a:lnTo>
                    <a:lnTo>
                      <a:pt x="173" y="64"/>
                    </a:lnTo>
                    <a:lnTo>
                      <a:pt x="146" y="55"/>
                    </a:lnTo>
                    <a:lnTo>
                      <a:pt x="128" y="46"/>
                    </a:lnTo>
                    <a:lnTo>
                      <a:pt x="100" y="36"/>
                    </a:lnTo>
                    <a:lnTo>
                      <a:pt x="82" y="18"/>
                    </a:lnTo>
                    <a:lnTo>
                      <a:pt x="55" y="8"/>
                    </a:lnTo>
                    <a:lnTo>
                      <a:pt x="28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019480" y="4810680"/>
                <a:ext cx="477720" cy="451080"/>
              </a:xfrm>
              <a:custGeom>
                <a:avLst/>
                <a:gdLst/>
                <a:ahLst/>
                <a:rect l="l" t="t" r="r" b="b"/>
                <a:pathLst>
                  <a:path w="1199" h="1127">
                    <a:moveTo>
                      <a:pt x="1199" y="1127"/>
                    </a:moveTo>
                    <a:lnTo>
                      <a:pt x="1107" y="1072"/>
                    </a:lnTo>
                    <a:lnTo>
                      <a:pt x="1015" y="1017"/>
                    </a:lnTo>
                    <a:lnTo>
                      <a:pt x="925" y="961"/>
                    </a:lnTo>
                    <a:lnTo>
                      <a:pt x="833" y="898"/>
                    </a:lnTo>
                    <a:lnTo>
                      <a:pt x="750" y="834"/>
                    </a:lnTo>
                    <a:lnTo>
                      <a:pt x="659" y="770"/>
                    </a:lnTo>
                    <a:lnTo>
                      <a:pt x="576" y="705"/>
                    </a:lnTo>
                    <a:lnTo>
                      <a:pt x="493" y="632"/>
                    </a:lnTo>
                    <a:lnTo>
                      <a:pt x="412" y="559"/>
                    </a:lnTo>
                    <a:lnTo>
                      <a:pt x="338" y="485"/>
                    </a:lnTo>
                    <a:lnTo>
                      <a:pt x="274" y="412"/>
                    </a:lnTo>
                    <a:lnTo>
                      <a:pt x="211" y="330"/>
                    </a:lnTo>
                    <a:lnTo>
                      <a:pt x="147" y="248"/>
                    </a:lnTo>
                    <a:lnTo>
                      <a:pt x="91" y="164"/>
                    </a:lnTo>
                    <a:lnTo>
                      <a:pt x="46" y="8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981680" y="4674960"/>
                <a:ext cx="37800" cy="135720"/>
              </a:xfrm>
              <a:custGeom>
                <a:avLst/>
                <a:gdLst/>
                <a:ahLst/>
                <a:rect l="l" t="t" r="r" b="b"/>
                <a:pathLst>
                  <a:path w="91" h="340">
                    <a:moveTo>
                      <a:pt x="91" y="340"/>
                    </a:moveTo>
                    <a:lnTo>
                      <a:pt x="82" y="322"/>
                    </a:lnTo>
                    <a:lnTo>
                      <a:pt x="72" y="302"/>
                    </a:lnTo>
                    <a:lnTo>
                      <a:pt x="63" y="275"/>
                    </a:lnTo>
                    <a:lnTo>
                      <a:pt x="54" y="257"/>
                    </a:lnTo>
                    <a:lnTo>
                      <a:pt x="45" y="239"/>
                    </a:lnTo>
                    <a:lnTo>
                      <a:pt x="35" y="220"/>
                    </a:lnTo>
                    <a:lnTo>
                      <a:pt x="27" y="193"/>
                    </a:lnTo>
                    <a:lnTo>
                      <a:pt x="18" y="174"/>
                    </a:lnTo>
                    <a:lnTo>
                      <a:pt x="18" y="156"/>
                    </a:lnTo>
                    <a:lnTo>
                      <a:pt x="8" y="129"/>
                    </a:lnTo>
                    <a:lnTo>
                      <a:pt x="8" y="110"/>
                    </a:lnTo>
                    <a:lnTo>
                      <a:pt x="0" y="93"/>
                    </a:lnTo>
                    <a:lnTo>
                      <a:pt x="0" y="65"/>
                    </a:lnTo>
                    <a:lnTo>
                      <a:pt x="0" y="46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981680" y="4501800"/>
                <a:ext cx="21960" cy="173160"/>
              </a:xfrm>
              <a:custGeom>
                <a:avLst/>
                <a:gdLst/>
                <a:ahLst/>
                <a:rect l="l" t="t" r="r" b="b"/>
                <a:pathLst>
                  <a:path w="54" h="438">
                    <a:moveTo>
                      <a:pt x="0" y="438"/>
                    </a:moveTo>
                    <a:lnTo>
                      <a:pt x="0" y="411"/>
                    </a:lnTo>
                    <a:lnTo>
                      <a:pt x="0" y="384"/>
                    </a:lnTo>
                    <a:lnTo>
                      <a:pt x="0" y="356"/>
                    </a:lnTo>
                    <a:lnTo>
                      <a:pt x="8" y="328"/>
                    </a:lnTo>
                    <a:lnTo>
                      <a:pt x="8" y="301"/>
                    </a:lnTo>
                    <a:lnTo>
                      <a:pt x="18" y="274"/>
                    </a:lnTo>
                    <a:lnTo>
                      <a:pt x="18" y="247"/>
                    </a:lnTo>
                    <a:lnTo>
                      <a:pt x="27" y="219"/>
                    </a:lnTo>
                    <a:lnTo>
                      <a:pt x="27" y="191"/>
                    </a:lnTo>
                    <a:lnTo>
                      <a:pt x="35" y="164"/>
                    </a:lnTo>
                    <a:lnTo>
                      <a:pt x="35" y="137"/>
                    </a:lnTo>
                    <a:lnTo>
                      <a:pt x="45" y="109"/>
                    </a:lnTo>
                    <a:lnTo>
                      <a:pt x="45" y="81"/>
                    </a:lnTo>
                    <a:lnTo>
                      <a:pt x="45" y="54"/>
                    </a:lnTo>
                    <a:lnTo>
                      <a:pt x="45" y="27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003640" y="4384080"/>
                <a:ext cx="35640" cy="117360"/>
              </a:xfrm>
              <a:custGeom>
                <a:avLst/>
                <a:gdLst/>
                <a:ahLst/>
                <a:rect l="l" t="t" r="r" b="b"/>
                <a:pathLst>
                  <a:path w="91" h="294">
                    <a:moveTo>
                      <a:pt x="0" y="294"/>
                    </a:moveTo>
                    <a:lnTo>
                      <a:pt x="0" y="275"/>
                    </a:lnTo>
                    <a:lnTo>
                      <a:pt x="9" y="256"/>
                    </a:lnTo>
                    <a:lnTo>
                      <a:pt x="9" y="237"/>
                    </a:lnTo>
                    <a:lnTo>
                      <a:pt x="18" y="219"/>
                    </a:lnTo>
                    <a:lnTo>
                      <a:pt x="28" y="201"/>
                    </a:lnTo>
                    <a:lnTo>
                      <a:pt x="37" y="183"/>
                    </a:lnTo>
                    <a:lnTo>
                      <a:pt x="46" y="165"/>
                    </a:lnTo>
                    <a:lnTo>
                      <a:pt x="46" y="147"/>
                    </a:lnTo>
                    <a:lnTo>
                      <a:pt x="56" y="128"/>
                    </a:lnTo>
                    <a:lnTo>
                      <a:pt x="64" y="109"/>
                    </a:lnTo>
                    <a:lnTo>
                      <a:pt x="64" y="91"/>
                    </a:lnTo>
                    <a:lnTo>
                      <a:pt x="74" y="73"/>
                    </a:lnTo>
                    <a:lnTo>
                      <a:pt x="83" y="55"/>
                    </a:lnTo>
                    <a:lnTo>
                      <a:pt x="83" y="37"/>
                    </a:lnTo>
                    <a:lnTo>
                      <a:pt x="83" y="18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039640" y="4128120"/>
                <a:ext cx="117720" cy="255600"/>
              </a:xfrm>
              <a:custGeom>
                <a:avLst/>
                <a:gdLst/>
                <a:ahLst/>
                <a:rect l="l" t="t" r="r" b="b"/>
                <a:pathLst>
                  <a:path w="294" h="642">
                    <a:moveTo>
                      <a:pt x="0" y="642"/>
                    </a:moveTo>
                    <a:lnTo>
                      <a:pt x="10" y="595"/>
                    </a:lnTo>
                    <a:lnTo>
                      <a:pt x="28" y="559"/>
                    </a:lnTo>
                    <a:lnTo>
                      <a:pt x="47" y="513"/>
                    </a:lnTo>
                    <a:lnTo>
                      <a:pt x="55" y="477"/>
                    </a:lnTo>
                    <a:lnTo>
                      <a:pt x="75" y="440"/>
                    </a:lnTo>
                    <a:lnTo>
                      <a:pt x="102" y="394"/>
                    </a:lnTo>
                    <a:lnTo>
                      <a:pt x="120" y="357"/>
                    </a:lnTo>
                    <a:lnTo>
                      <a:pt x="138" y="321"/>
                    </a:lnTo>
                    <a:lnTo>
                      <a:pt x="157" y="276"/>
                    </a:lnTo>
                    <a:lnTo>
                      <a:pt x="174" y="238"/>
                    </a:lnTo>
                    <a:lnTo>
                      <a:pt x="202" y="201"/>
                    </a:lnTo>
                    <a:lnTo>
                      <a:pt x="220" y="156"/>
                    </a:lnTo>
                    <a:lnTo>
                      <a:pt x="239" y="119"/>
                    </a:lnTo>
                    <a:lnTo>
                      <a:pt x="257" y="82"/>
                    </a:lnTo>
                    <a:lnTo>
                      <a:pt x="275" y="37"/>
                    </a:lnTo>
                    <a:lnTo>
                      <a:pt x="29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157360" y="3966480"/>
                <a:ext cx="51840" cy="161280"/>
              </a:xfrm>
              <a:custGeom>
                <a:avLst/>
                <a:gdLst/>
                <a:ahLst/>
                <a:rect l="l" t="t" r="r" b="b"/>
                <a:pathLst>
                  <a:path w="128" h="403">
                    <a:moveTo>
                      <a:pt x="0" y="403"/>
                    </a:moveTo>
                    <a:lnTo>
                      <a:pt x="8" y="375"/>
                    </a:lnTo>
                    <a:lnTo>
                      <a:pt x="27" y="357"/>
                    </a:lnTo>
                    <a:lnTo>
                      <a:pt x="36" y="330"/>
                    </a:lnTo>
                    <a:lnTo>
                      <a:pt x="46" y="303"/>
                    </a:lnTo>
                    <a:lnTo>
                      <a:pt x="55" y="284"/>
                    </a:lnTo>
                    <a:lnTo>
                      <a:pt x="64" y="256"/>
                    </a:lnTo>
                    <a:lnTo>
                      <a:pt x="73" y="228"/>
                    </a:lnTo>
                    <a:lnTo>
                      <a:pt x="91" y="210"/>
                    </a:lnTo>
                    <a:lnTo>
                      <a:pt x="100" y="183"/>
                    </a:lnTo>
                    <a:lnTo>
                      <a:pt x="110" y="156"/>
                    </a:lnTo>
                    <a:lnTo>
                      <a:pt x="110" y="138"/>
                    </a:lnTo>
                    <a:lnTo>
                      <a:pt x="118" y="110"/>
                    </a:lnTo>
                    <a:lnTo>
                      <a:pt x="128" y="83"/>
                    </a:lnTo>
                    <a:lnTo>
                      <a:pt x="128" y="54"/>
                    </a:lnTo>
                    <a:lnTo>
                      <a:pt x="128" y="27"/>
                    </a:lnTo>
                    <a:lnTo>
                      <a:pt x="12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27480" y="3900240"/>
                <a:ext cx="81720" cy="65880"/>
              </a:xfrm>
              <a:custGeom>
                <a:avLst/>
                <a:gdLst/>
                <a:ahLst/>
                <a:rect l="l" t="t" r="r" b="b"/>
                <a:pathLst>
                  <a:path w="202" h="166">
                    <a:moveTo>
                      <a:pt x="202" y="166"/>
                    </a:moveTo>
                    <a:lnTo>
                      <a:pt x="202" y="147"/>
                    </a:lnTo>
                    <a:lnTo>
                      <a:pt x="192" y="138"/>
                    </a:lnTo>
                    <a:lnTo>
                      <a:pt x="184" y="120"/>
                    </a:lnTo>
                    <a:lnTo>
                      <a:pt x="174" y="110"/>
                    </a:lnTo>
                    <a:lnTo>
                      <a:pt x="165" y="102"/>
                    </a:lnTo>
                    <a:lnTo>
                      <a:pt x="156" y="83"/>
                    </a:lnTo>
                    <a:lnTo>
                      <a:pt x="138" y="75"/>
                    </a:lnTo>
                    <a:lnTo>
                      <a:pt x="120" y="65"/>
                    </a:lnTo>
                    <a:lnTo>
                      <a:pt x="110" y="56"/>
                    </a:lnTo>
                    <a:lnTo>
                      <a:pt x="92" y="48"/>
                    </a:lnTo>
                    <a:lnTo>
                      <a:pt x="74" y="38"/>
                    </a:lnTo>
                    <a:lnTo>
                      <a:pt x="55" y="28"/>
                    </a:lnTo>
                    <a:lnTo>
                      <a:pt x="47" y="28"/>
                    </a:lnTo>
                    <a:lnTo>
                      <a:pt x="28" y="20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827600" y="3706920"/>
                <a:ext cx="30240" cy="149400"/>
              </a:xfrm>
              <a:custGeom>
                <a:avLst/>
                <a:gdLst/>
                <a:ahLst/>
                <a:rect l="l" t="t" r="r" b="b"/>
                <a:pathLst>
                  <a:path w="73" h="376">
                    <a:moveTo>
                      <a:pt x="73" y="376"/>
                    </a:moveTo>
                    <a:lnTo>
                      <a:pt x="55" y="358"/>
                    </a:lnTo>
                    <a:lnTo>
                      <a:pt x="45" y="330"/>
                    </a:lnTo>
                    <a:lnTo>
                      <a:pt x="36" y="312"/>
                    </a:lnTo>
                    <a:lnTo>
                      <a:pt x="28" y="284"/>
                    </a:lnTo>
                    <a:lnTo>
                      <a:pt x="18" y="266"/>
                    </a:lnTo>
                    <a:lnTo>
                      <a:pt x="9" y="238"/>
                    </a:lnTo>
                    <a:lnTo>
                      <a:pt x="9" y="219"/>
                    </a:lnTo>
                    <a:lnTo>
                      <a:pt x="0" y="192"/>
                    </a:lnTo>
                    <a:lnTo>
                      <a:pt x="0" y="165"/>
                    </a:lnTo>
                    <a:lnTo>
                      <a:pt x="0" y="138"/>
                    </a:lnTo>
                    <a:lnTo>
                      <a:pt x="0" y="120"/>
                    </a:lnTo>
                    <a:lnTo>
                      <a:pt x="0" y="92"/>
                    </a:lnTo>
                    <a:lnTo>
                      <a:pt x="9" y="64"/>
                    </a:lnTo>
                    <a:lnTo>
                      <a:pt x="9" y="46"/>
                    </a:lnTo>
                    <a:lnTo>
                      <a:pt x="18" y="19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4653720" y="3714840"/>
                <a:ext cx="129600" cy="153720"/>
              </a:xfrm>
              <a:custGeom>
                <a:avLst/>
                <a:gdLst/>
                <a:ahLst/>
                <a:rect l="l" t="t" r="r" b="b"/>
                <a:pathLst>
                  <a:path w="329" h="385">
                    <a:moveTo>
                      <a:pt x="329" y="0"/>
                    </a:moveTo>
                    <a:lnTo>
                      <a:pt x="302" y="27"/>
                    </a:lnTo>
                    <a:lnTo>
                      <a:pt x="283" y="55"/>
                    </a:lnTo>
                    <a:lnTo>
                      <a:pt x="266" y="73"/>
                    </a:lnTo>
                    <a:lnTo>
                      <a:pt x="247" y="101"/>
                    </a:lnTo>
                    <a:lnTo>
                      <a:pt x="219" y="119"/>
                    </a:lnTo>
                    <a:lnTo>
                      <a:pt x="201" y="146"/>
                    </a:lnTo>
                    <a:lnTo>
                      <a:pt x="183" y="173"/>
                    </a:lnTo>
                    <a:lnTo>
                      <a:pt x="165" y="192"/>
                    </a:lnTo>
                    <a:lnTo>
                      <a:pt x="146" y="219"/>
                    </a:lnTo>
                    <a:lnTo>
                      <a:pt x="128" y="247"/>
                    </a:lnTo>
                    <a:lnTo>
                      <a:pt x="110" y="265"/>
                    </a:lnTo>
                    <a:lnTo>
                      <a:pt x="91" y="293"/>
                    </a:lnTo>
                    <a:lnTo>
                      <a:pt x="63" y="320"/>
                    </a:lnTo>
                    <a:lnTo>
                      <a:pt x="46" y="339"/>
                    </a:lnTo>
                    <a:lnTo>
                      <a:pt x="28" y="367"/>
                    </a:lnTo>
                    <a:lnTo>
                      <a:pt x="0" y="38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593960" y="3800880"/>
                <a:ext cx="21600" cy="77760"/>
              </a:xfrm>
              <a:custGeom>
                <a:avLst/>
                <a:gdLst/>
                <a:ahLst/>
                <a:rect l="l" t="t" r="r" b="b"/>
                <a:pathLst>
                  <a:path w="55" h="193">
                    <a:moveTo>
                      <a:pt x="55" y="193"/>
                    </a:moveTo>
                    <a:lnTo>
                      <a:pt x="37" y="184"/>
                    </a:lnTo>
                    <a:lnTo>
                      <a:pt x="28" y="175"/>
                    </a:lnTo>
                    <a:lnTo>
                      <a:pt x="19" y="166"/>
                    </a:lnTo>
                    <a:lnTo>
                      <a:pt x="19" y="156"/>
                    </a:lnTo>
                    <a:lnTo>
                      <a:pt x="10" y="148"/>
                    </a:lnTo>
                    <a:lnTo>
                      <a:pt x="0" y="128"/>
                    </a:lnTo>
                    <a:lnTo>
                      <a:pt x="0" y="120"/>
                    </a:lnTo>
                    <a:lnTo>
                      <a:pt x="0" y="101"/>
                    </a:lnTo>
                    <a:lnTo>
                      <a:pt x="0" y="92"/>
                    </a:lnTo>
                    <a:lnTo>
                      <a:pt x="0" y="74"/>
                    </a:lnTo>
                    <a:lnTo>
                      <a:pt x="0" y="65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593960" y="3659040"/>
                <a:ext cx="153360" cy="141480"/>
              </a:xfrm>
              <a:custGeom>
                <a:avLst/>
                <a:gdLst/>
                <a:ahLst/>
                <a:rect l="l" t="t" r="r" b="b"/>
                <a:pathLst>
                  <a:path w="384" h="357">
                    <a:moveTo>
                      <a:pt x="0" y="357"/>
                    </a:moveTo>
                    <a:lnTo>
                      <a:pt x="10" y="321"/>
                    </a:lnTo>
                    <a:lnTo>
                      <a:pt x="19" y="293"/>
                    </a:lnTo>
                    <a:lnTo>
                      <a:pt x="37" y="266"/>
                    </a:lnTo>
                    <a:lnTo>
                      <a:pt x="55" y="239"/>
                    </a:lnTo>
                    <a:lnTo>
                      <a:pt x="73" y="211"/>
                    </a:lnTo>
                    <a:lnTo>
                      <a:pt x="92" y="193"/>
                    </a:lnTo>
                    <a:lnTo>
                      <a:pt x="119" y="165"/>
                    </a:lnTo>
                    <a:lnTo>
                      <a:pt x="147" y="147"/>
                    </a:lnTo>
                    <a:lnTo>
                      <a:pt x="175" y="129"/>
                    </a:lnTo>
                    <a:lnTo>
                      <a:pt x="202" y="101"/>
                    </a:lnTo>
                    <a:lnTo>
                      <a:pt x="229" y="82"/>
                    </a:lnTo>
                    <a:lnTo>
                      <a:pt x="265" y="64"/>
                    </a:lnTo>
                    <a:lnTo>
                      <a:pt x="293" y="46"/>
                    </a:lnTo>
                    <a:lnTo>
                      <a:pt x="320" y="27"/>
                    </a:lnTo>
                    <a:lnTo>
                      <a:pt x="357" y="19"/>
                    </a:lnTo>
                    <a:lnTo>
                      <a:pt x="38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575320" y="3517200"/>
                <a:ext cx="39600" cy="61560"/>
              </a:xfrm>
              <a:custGeom>
                <a:avLst/>
                <a:gdLst/>
                <a:ahLst/>
                <a:rect l="l" t="t" r="r" b="b"/>
                <a:pathLst>
                  <a:path w="101" h="155">
                    <a:moveTo>
                      <a:pt x="0" y="155"/>
                    </a:moveTo>
                    <a:lnTo>
                      <a:pt x="18" y="146"/>
                    </a:lnTo>
                    <a:lnTo>
                      <a:pt x="27" y="137"/>
                    </a:lnTo>
                    <a:lnTo>
                      <a:pt x="36" y="137"/>
                    </a:lnTo>
                    <a:lnTo>
                      <a:pt x="45" y="128"/>
                    </a:lnTo>
                    <a:lnTo>
                      <a:pt x="55" y="119"/>
                    </a:lnTo>
                    <a:lnTo>
                      <a:pt x="64" y="110"/>
                    </a:lnTo>
                    <a:lnTo>
                      <a:pt x="73" y="100"/>
                    </a:lnTo>
                    <a:lnTo>
                      <a:pt x="83" y="92"/>
                    </a:lnTo>
                    <a:lnTo>
                      <a:pt x="83" y="73"/>
                    </a:lnTo>
                    <a:lnTo>
                      <a:pt x="91" y="64"/>
                    </a:lnTo>
                    <a:lnTo>
                      <a:pt x="91" y="54"/>
                    </a:lnTo>
                    <a:lnTo>
                      <a:pt x="91" y="45"/>
                    </a:lnTo>
                    <a:lnTo>
                      <a:pt x="91" y="36"/>
                    </a:lnTo>
                    <a:lnTo>
                      <a:pt x="101" y="18"/>
                    </a:lnTo>
                    <a:lnTo>
                      <a:pt x="101" y="9"/>
                    </a:lnTo>
                    <a:lnTo>
                      <a:pt x="10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501520" y="3453480"/>
                <a:ext cx="113760" cy="63720"/>
              </a:xfrm>
              <a:custGeom>
                <a:avLst/>
                <a:gdLst/>
                <a:ahLst/>
                <a:rect l="l" t="t" r="r" b="b"/>
                <a:pathLst>
                  <a:path w="284" h="156">
                    <a:moveTo>
                      <a:pt x="284" y="156"/>
                    </a:moveTo>
                    <a:lnTo>
                      <a:pt x="266" y="138"/>
                    </a:lnTo>
                    <a:lnTo>
                      <a:pt x="256" y="119"/>
                    </a:lnTo>
                    <a:lnTo>
                      <a:pt x="247" y="111"/>
                    </a:lnTo>
                    <a:lnTo>
                      <a:pt x="228" y="92"/>
                    </a:lnTo>
                    <a:lnTo>
                      <a:pt x="210" y="82"/>
                    </a:lnTo>
                    <a:lnTo>
                      <a:pt x="201" y="64"/>
                    </a:lnTo>
                    <a:lnTo>
                      <a:pt x="183" y="54"/>
                    </a:lnTo>
                    <a:lnTo>
                      <a:pt x="164" y="46"/>
                    </a:lnTo>
                    <a:lnTo>
                      <a:pt x="146" y="36"/>
                    </a:lnTo>
                    <a:lnTo>
                      <a:pt x="129" y="27"/>
                    </a:lnTo>
                    <a:lnTo>
                      <a:pt x="110" y="19"/>
                    </a:lnTo>
                    <a:lnTo>
                      <a:pt x="91" y="19"/>
                    </a:lnTo>
                    <a:lnTo>
                      <a:pt x="64" y="9"/>
                    </a:lnTo>
                    <a:lnTo>
                      <a:pt x="46" y="9"/>
                    </a:ln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412960" y="3381480"/>
                <a:ext cx="88200" cy="7164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220" y="183"/>
                    </a:moveTo>
                    <a:lnTo>
                      <a:pt x="202" y="183"/>
                    </a:lnTo>
                    <a:lnTo>
                      <a:pt x="174" y="183"/>
                    </a:lnTo>
                    <a:lnTo>
                      <a:pt x="156" y="174"/>
                    </a:lnTo>
                    <a:lnTo>
                      <a:pt x="137" y="165"/>
                    </a:lnTo>
                    <a:lnTo>
                      <a:pt x="129" y="156"/>
                    </a:lnTo>
                    <a:lnTo>
                      <a:pt x="110" y="147"/>
                    </a:lnTo>
                    <a:lnTo>
                      <a:pt x="101" y="137"/>
                    </a:lnTo>
                    <a:lnTo>
                      <a:pt x="83" y="119"/>
                    </a:lnTo>
                    <a:lnTo>
                      <a:pt x="74" y="109"/>
                    </a:lnTo>
                    <a:lnTo>
                      <a:pt x="64" y="92"/>
                    </a:lnTo>
                    <a:lnTo>
                      <a:pt x="46" y="73"/>
                    </a:lnTo>
                    <a:lnTo>
                      <a:pt x="36" y="64"/>
                    </a:lnTo>
                    <a:lnTo>
                      <a:pt x="27" y="46"/>
                    </a:lnTo>
                    <a:lnTo>
                      <a:pt x="19" y="28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395320" y="3307680"/>
                <a:ext cx="17640" cy="73440"/>
              </a:xfrm>
              <a:custGeom>
                <a:avLst/>
                <a:gdLst/>
                <a:ahLst/>
                <a:rect l="l" t="t" r="r" b="b"/>
                <a:pathLst>
                  <a:path w="45" h="184">
                    <a:moveTo>
                      <a:pt x="45" y="184"/>
                    </a:moveTo>
                    <a:lnTo>
                      <a:pt x="36" y="174"/>
                    </a:lnTo>
                    <a:lnTo>
                      <a:pt x="36" y="165"/>
                    </a:lnTo>
                    <a:lnTo>
                      <a:pt x="27" y="147"/>
                    </a:lnTo>
                    <a:lnTo>
                      <a:pt x="27" y="137"/>
                    </a:lnTo>
                    <a:lnTo>
                      <a:pt x="27" y="129"/>
                    </a:lnTo>
                    <a:lnTo>
                      <a:pt x="18" y="120"/>
                    </a:lnTo>
                    <a:lnTo>
                      <a:pt x="18" y="102"/>
                    </a:lnTo>
                    <a:lnTo>
                      <a:pt x="9" y="92"/>
                    </a:lnTo>
                    <a:lnTo>
                      <a:pt x="9" y="83"/>
                    </a:lnTo>
                    <a:lnTo>
                      <a:pt x="9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03240" y="3128040"/>
                <a:ext cx="131760" cy="81720"/>
              </a:xfrm>
              <a:custGeom>
                <a:avLst/>
                <a:gdLst/>
                <a:ahLst/>
                <a:rect l="l" t="t" r="r" b="b"/>
                <a:pathLst>
                  <a:path w="329" h="201">
                    <a:moveTo>
                      <a:pt x="0" y="201"/>
                    </a:moveTo>
                    <a:lnTo>
                      <a:pt x="27" y="192"/>
                    </a:lnTo>
                    <a:lnTo>
                      <a:pt x="46" y="174"/>
                    </a:lnTo>
                    <a:lnTo>
                      <a:pt x="63" y="156"/>
                    </a:lnTo>
                    <a:lnTo>
                      <a:pt x="82" y="146"/>
                    </a:lnTo>
                    <a:lnTo>
                      <a:pt x="101" y="129"/>
                    </a:lnTo>
                    <a:lnTo>
                      <a:pt x="119" y="109"/>
                    </a:lnTo>
                    <a:lnTo>
                      <a:pt x="137" y="99"/>
                    </a:lnTo>
                    <a:lnTo>
                      <a:pt x="156" y="82"/>
                    </a:lnTo>
                    <a:lnTo>
                      <a:pt x="173" y="72"/>
                    </a:lnTo>
                    <a:lnTo>
                      <a:pt x="191" y="54"/>
                    </a:lnTo>
                    <a:lnTo>
                      <a:pt x="219" y="45"/>
                    </a:lnTo>
                    <a:lnTo>
                      <a:pt x="238" y="36"/>
                    </a:lnTo>
                    <a:lnTo>
                      <a:pt x="256" y="18"/>
                    </a:lnTo>
                    <a:lnTo>
                      <a:pt x="283" y="9"/>
                    </a:lnTo>
                    <a:lnTo>
                      <a:pt x="301" y="0"/>
                    </a:lnTo>
                    <a:lnTo>
                      <a:pt x="32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403240" y="3149640"/>
                <a:ext cx="233640" cy="285480"/>
              </a:xfrm>
              <a:custGeom>
                <a:avLst/>
                <a:gdLst/>
                <a:ahLst/>
                <a:rect l="l" t="t" r="r" b="b"/>
                <a:pathLst>
                  <a:path w="585" h="715">
                    <a:moveTo>
                      <a:pt x="531" y="174"/>
                    </a:moveTo>
                    <a:lnTo>
                      <a:pt x="531" y="193"/>
                    </a:lnTo>
                    <a:lnTo>
                      <a:pt x="540" y="212"/>
                    </a:lnTo>
                    <a:lnTo>
                      <a:pt x="540" y="230"/>
                    </a:lnTo>
                    <a:lnTo>
                      <a:pt x="548" y="239"/>
                    </a:lnTo>
                    <a:lnTo>
                      <a:pt x="558" y="257"/>
                    </a:lnTo>
                    <a:lnTo>
                      <a:pt x="567" y="275"/>
                    </a:lnTo>
                    <a:lnTo>
                      <a:pt x="576" y="294"/>
                    </a:lnTo>
                    <a:lnTo>
                      <a:pt x="576" y="311"/>
                    </a:lnTo>
                    <a:lnTo>
                      <a:pt x="585" y="330"/>
                    </a:lnTo>
                    <a:lnTo>
                      <a:pt x="585" y="349"/>
                    </a:lnTo>
                    <a:lnTo>
                      <a:pt x="585" y="367"/>
                    </a:lnTo>
                    <a:lnTo>
                      <a:pt x="585" y="386"/>
                    </a:lnTo>
                    <a:lnTo>
                      <a:pt x="585" y="404"/>
                    </a:lnTo>
                    <a:lnTo>
                      <a:pt x="576" y="421"/>
                    </a:lnTo>
                    <a:lnTo>
                      <a:pt x="567" y="431"/>
                    </a:lnTo>
                    <a:lnTo>
                      <a:pt x="558" y="449"/>
                    </a:lnTo>
                    <a:lnTo>
                      <a:pt x="548" y="468"/>
                    </a:lnTo>
                    <a:lnTo>
                      <a:pt x="531" y="477"/>
                    </a:lnTo>
                    <a:lnTo>
                      <a:pt x="521" y="496"/>
                    </a:lnTo>
                    <a:lnTo>
                      <a:pt x="513" y="504"/>
                    </a:lnTo>
                    <a:lnTo>
                      <a:pt x="494" y="523"/>
                    </a:lnTo>
                    <a:lnTo>
                      <a:pt x="485" y="541"/>
                    </a:lnTo>
                    <a:lnTo>
                      <a:pt x="475" y="550"/>
                    </a:lnTo>
                    <a:lnTo>
                      <a:pt x="457" y="568"/>
                    </a:lnTo>
                    <a:lnTo>
                      <a:pt x="448" y="578"/>
                    </a:lnTo>
                    <a:lnTo>
                      <a:pt x="439" y="596"/>
                    </a:lnTo>
                    <a:lnTo>
                      <a:pt x="421" y="615"/>
                    </a:lnTo>
                    <a:lnTo>
                      <a:pt x="411" y="624"/>
                    </a:lnTo>
                    <a:lnTo>
                      <a:pt x="393" y="633"/>
                    </a:lnTo>
                    <a:lnTo>
                      <a:pt x="376" y="651"/>
                    </a:lnTo>
                    <a:lnTo>
                      <a:pt x="357" y="660"/>
                    </a:lnTo>
                    <a:lnTo>
                      <a:pt x="338" y="670"/>
                    </a:lnTo>
                    <a:lnTo>
                      <a:pt x="329" y="670"/>
                    </a:lnTo>
                    <a:lnTo>
                      <a:pt x="320" y="678"/>
                    </a:lnTo>
                    <a:lnTo>
                      <a:pt x="311" y="678"/>
                    </a:lnTo>
                    <a:lnTo>
                      <a:pt x="301" y="678"/>
                    </a:lnTo>
                    <a:lnTo>
                      <a:pt x="293" y="687"/>
                    </a:lnTo>
                    <a:lnTo>
                      <a:pt x="283" y="687"/>
                    </a:lnTo>
                    <a:lnTo>
                      <a:pt x="274" y="687"/>
                    </a:lnTo>
                    <a:lnTo>
                      <a:pt x="266" y="687"/>
                    </a:lnTo>
                    <a:lnTo>
                      <a:pt x="256" y="687"/>
                    </a:lnTo>
                    <a:lnTo>
                      <a:pt x="247" y="697"/>
                    </a:lnTo>
                    <a:lnTo>
                      <a:pt x="238" y="697"/>
                    </a:lnTo>
                    <a:lnTo>
                      <a:pt x="229" y="697"/>
                    </a:lnTo>
                    <a:lnTo>
                      <a:pt x="219" y="697"/>
                    </a:lnTo>
                    <a:lnTo>
                      <a:pt x="210" y="705"/>
                    </a:lnTo>
                    <a:lnTo>
                      <a:pt x="201" y="705"/>
                    </a:lnTo>
                    <a:lnTo>
                      <a:pt x="191" y="715"/>
                    </a:lnTo>
                    <a:lnTo>
                      <a:pt x="183" y="705"/>
                    </a:lnTo>
                    <a:lnTo>
                      <a:pt x="173" y="697"/>
                    </a:lnTo>
                    <a:lnTo>
                      <a:pt x="164" y="697"/>
                    </a:lnTo>
                    <a:lnTo>
                      <a:pt x="156" y="687"/>
                    </a:lnTo>
                    <a:lnTo>
                      <a:pt x="146" y="678"/>
                    </a:lnTo>
                    <a:lnTo>
                      <a:pt x="137" y="670"/>
                    </a:lnTo>
                    <a:lnTo>
                      <a:pt x="128" y="660"/>
                    </a:lnTo>
                    <a:lnTo>
                      <a:pt x="128" y="651"/>
                    </a:lnTo>
                    <a:lnTo>
                      <a:pt x="119" y="642"/>
                    </a:lnTo>
                    <a:lnTo>
                      <a:pt x="110" y="633"/>
                    </a:lnTo>
                    <a:lnTo>
                      <a:pt x="110" y="615"/>
                    </a:lnTo>
                    <a:lnTo>
                      <a:pt x="101" y="606"/>
                    </a:lnTo>
                    <a:lnTo>
                      <a:pt x="91" y="596"/>
                    </a:lnTo>
                    <a:lnTo>
                      <a:pt x="82" y="586"/>
                    </a:lnTo>
                    <a:lnTo>
                      <a:pt x="73" y="578"/>
                    </a:lnTo>
                    <a:lnTo>
                      <a:pt x="63" y="568"/>
                    </a:lnTo>
                    <a:lnTo>
                      <a:pt x="63" y="559"/>
                    </a:lnTo>
                    <a:lnTo>
                      <a:pt x="54" y="550"/>
                    </a:lnTo>
                    <a:lnTo>
                      <a:pt x="54" y="531"/>
                    </a:lnTo>
                    <a:lnTo>
                      <a:pt x="46" y="523"/>
                    </a:lnTo>
                    <a:lnTo>
                      <a:pt x="46" y="504"/>
                    </a:lnTo>
                    <a:lnTo>
                      <a:pt x="36" y="496"/>
                    </a:lnTo>
                    <a:lnTo>
                      <a:pt x="36" y="477"/>
                    </a:lnTo>
                    <a:lnTo>
                      <a:pt x="27" y="459"/>
                    </a:lnTo>
                    <a:lnTo>
                      <a:pt x="27" y="449"/>
                    </a:lnTo>
                    <a:lnTo>
                      <a:pt x="27" y="431"/>
                    </a:lnTo>
                    <a:lnTo>
                      <a:pt x="18" y="421"/>
                    </a:lnTo>
                    <a:lnTo>
                      <a:pt x="18" y="404"/>
                    </a:lnTo>
                    <a:lnTo>
                      <a:pt x="18" y="394"/>
                    </a:lnTo>
                    <a:lnTo>
                      <a:pt x="9" y="376"/>
                    </a:lnTo>
                    <a:lnTo>
                      <a:pt x="9" y="367"/>
                    </a:lnTo>
                    <a:lnTo>
                      <a:pt x="9" y="349"/>
                    </a:lnTo>
                    <a:lnTo>
                      <a:pt x="9" y="340"/>
                    </a:lnTo>
                    <a:lnTo>
                      <a:pt x="9" y="330"/>
                    </a:lnTo>
                    <a:lnTo>
                      <a:pt x="9" y="321"/>
                    </a:lnTo>
                    <a:lnTo>
                      <a:pt x="9" y="311"/>
                    </a:lnTo>
                    <a:lnTo>
                      <a:pt x="9" y="302"/>
                    </a:lnTo>
                    <a:lnTo>
                      <a:pt x="0" y="294"/>
                    </a:lnTo>
                    <a:lnTo>
                      <a:pt x="0" y="284"/>
                    </a:lnTo>
                    <a:lnTo>
                      <a:pt x="0" y="275"/>
                    </a:lnTo>
                    <a:lnTo>
                      <a:pt x="0" y="266"/>
                    </a:lnTo>
                    <a:lnTo>
                      <a:pt x="0" y="257"/>
                    </a:lnTo>
                    <a:lnTo>
                      <a:pt x="9" y="248"/>
                    </a:lnTo>
                    <a:lnTo>
                      <a:pt x="9" y="239"/>
                    </a:lnTo>
                    <a:lnTo>
                      <a:pt x="9" y="230"/>
                    </a:lnTo>
                    <a:lnTo>
                      <a:pt x="18" y="220"/>
                    </a:lnTo>
                    <a:lnTo>
                      <a:pt x="18" y="212"/>
                    </a:lnTo>
                    <a:lnTo>
                      <a:pt x="27" y="202"/>
                    </a:lnTo>
                    <a:lnTo>
                      <a:pt x="27" y="193"/>
                    </a:lnTo>
                    <a:lnTo>
                      <a:pt x="36" y="184"/>
                    </a:lnTo>
                    <a:lnTo>
                      <a:pt x="46" y="174"/>
                    </a:lnTo>
                    <a:lnTo>
                      <a:pt x="54" y="165"/>
                    </a:lnTo>
                    <a:lnTo>
                      <a:pt x="63" y="165"/>
                    </a:lnTo>
                    <a:lnTo>
                      <a:pt x="63" y="156"/>
                    </a:lnTo>
                    <a:lnTo>
                      <a:pt x="73" y="147"/>
                    </a:lnTo>
                    <a:lnTo>
                      <a:pt x="82" y="147"/>
                    </a:lnTo>
                    <a:lnTo>
                      <a:pt x="91" y="138"/>
                    </a:lnTo>
                    <a:lnTo>
                      <a:pt x="91" y="129"/>
                    </a:lnTo>
                    <a:lnTo>
                      <a:pt x="101" y="129"/>
                    </a:lnTo>
                    <a:lnTo>
                      <a:pt x="101" y="120"/>
                    </a:lnTo>
                    <a:lnTo>
                      <a:pt x="110" y="110"/>
                    </a:lnTo>
                    <a:lnTo>
                      <a:pt x="128" y="102"/>
                    </a:lnTo>
                    <a:lnTo>
                      <a:pt x="137" y="92"/>
                    </a:lnTo>
                    <a:lnTo>
                      <a:pt x="146" y="83"/>
                    </a:lnTo>
                    <a:lnTo>
                      <a:pt x="156" y="75"/>
                    </a:lnTo>
                    <a:lnTo>
                      <a:pt x="164" y="65"/>
                    </a:lnTo>
                    <a:lnTo>
                      <a:pt x="173" y="55"/>
                    </a:lnTo>
                    <a:lnTo>
                      <a:pt x="183" y="55"/>
                    </a:lnTo>
                    <a:lnTo>
                      <a:pt x="191" y="45"/>
                    </a:lnTo>
                    <a:lnTo>
                      <a:pt x="201" y="37"/>
                    </a:lnTo>
                    <a:lnTo>
                      <a:pt x="219" y="28"/>
                    </a:lnTo>
                    <a:lnTo>
                      <a:pt x="229" y="18"/>
                    </a:lnTo>
                    <a:lnTo>
                      <a:pt x="238" y="18"/>
                    </a:lnTo>
                    <a:lnTo>
                      <a:pt x="247" y="10"/>
                    </a:lnTo>
                    <a:lnTo>
                      <a:pt x="266" y="0"/>
                    </a:lnTo>
                    <a:lnTo>
                      <a:pt x="274" y="0"/>
                    </a:lnTo>
                    <a:lnTo>
                      <a:pt x="293" y="0"/>
                    </a:lnTo>
                    <a:lnTo>
                      <a:pt x="311" y="10"/>
                    </a:lnTo>
                    <a:lnTo>
                      <a:pt x="329" y="18"/>
                    </a:lnTo>
                    <a:lnTo>
                      <a:pt x="348" y="18"/>
                    </a:lnTo>
                    <a:lnTo>
                      <a:pt x="366" y="37"/>
                    </a:lnTo>
                    <a:lnTo>
                      <a:pt x="384" y="45"/>
                    </a:lnTo>
                    <a:lnTo>
                      <a:pt x="403" y="55"/>
                    </a:lnTo>
                    <a:lnTo>
                      <a:pt x="411" y="65"/>
                    </a:lnTo>
                    <a:lnTo>
                      <a:pt x="430" y="83"/>
                    </a:lnTo>
                    <a:lnTo>
                      <a:pt x="439" y="92"/>
                    </a:lnTo>
                    <a:lnTo>
                      <a:pt x="457" y="110"/>
                    </a:lnTo>
                    <a:lnTo>
                      <a:pt x="475" y="120"/>
                    </a:lnTo>
                    <a:lnTo>
                      <a:pt x="485" y="138"/>
                    </a:lnTo>
                    <a:lnTo>
                      <a:pt x="503" y="147"/>
                    </a:lnTo>
                    <a:lnTo>
                      <a:pt x="513" y="165"/>
                    </a:lnTo>
                    <a:lnTo>
                      <a:pt x="531" y="174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615280" y="3219840"/>
                <a:ext cx="21600" cy="109440"/>
              </a:xfrm>
              <a:custGeom>
                <a:avLst/>
                <a:gdLst/>
                <a:ahLst/>
                <a:rect l="l" t="t" r="r" b="b"/>
                <a:pathLst>
                  <a:path w="54" h="275">
                    <a:moveTo>
                      <a:pt x="0" y="0"/>
                    </a:moveTo>
                    <a:lnTo>
                      <a:pt x="0" y="19"/>
                    </a:lnTo>
                    <a:lnTo>
                      <a:pt x="9" y="38"/>
                    </a:lnTo>
                    <a:lnTo>
                      <a:pt x="9" y="56"/>
                    </a:lnTo>
                    <a:lnTo>
                      <a:pt x="17" y="65"/>
                    </a:lnTo>
                    <a:lnTo>
                      <a:pt x="27" y="83"/>
                    </a:lnTo>
                    <a:lnTo>
                      <a:pt x="36" y="101"/>
                    </a:lnTo>
                    <a:lnTo>
                      <a:pt x="45" y="120"/>
                    </a:lnTo>
                    <a:lnTo>
                      <a:pt x="45" y="137"/>
                    </a:lnTo>
                    <a:lnTo>
                      <a:pt x="54" y="156"/>
                    </a:lnTo>
                    <a:lnTo>
                      <a:pt x="54" y="175"/>
                    </a:lnTo>
                    <a:lnTo>
                      <a:pt x="54" y="193"/>
                    </a:lnTo>
                    <a:lnTo>
                      <a:pt x="54" y="212"/>
                    </a:lnTo>
                    <a:lnTo>
                      <a:pt x="54" y="230"/>
                    </a:lnTo>
                    <a:lnTo>
                      <a:pt x="45" y="247"/>
                    </a:lnTo>
                    <a:lnTo>
                      <a:pt x="36" y="257"/>
                    </a:lnTo>
                    <a:lnTo>
                      <a:pt x="27" y="27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537520" y="3329280"/>
                <a:ext cx="87840" cy="87480"/>
              </a:xfrm>
              <a:custGeom>
                <a:avLst/>
                <a:gdLst/>
                <a:ahLst/>
                <a:rect l="l" t="t" r="r" b="b"/>
                <a:pathLst>
                  <a:path w="220" h="221">
                    <a:moveTo>
                      <a:pt x="220" y="0"/>
                    </a:moveTo>
                    <a:lnTo>
                      <a:pt x="210" y="19"/>
                    </a:lnTo>
                    <a:lnTo>
                      <a:pt x="193" y="28"/>
                    </a:lnTo>
                    <a:lnTo>
                      <a:pt x="183" y="47"/>
                    </a:lnTo>
                    <a:lnTo>
                      <a:pt x="175" y="55"/>
                    </a:lnTo>
                    <a:lnTo>
                      <a:pt x="156" y="74"/>
                    </a:lnTo>
                    <a:lnTo>
                      <a:pt x="147" y="92"/>
                    </a:lnTo>
                    <a:lnTo>
                      <a:pt x="137" y="101"/>
                    </a:lnTo>
                    <a:lnTo>
                      <a:pt x="119" y="119"/>
                    </a:lnTo>
                    <a:lnTo>
                      <a:pt x="110" y="129"/>
                    </a:lnTo>
                    <a:lnTo>
                      <a:pt x="101" y="147"/>
                    </a:lnTo>
                    <a:lnTo>
                      <a:pt x="83" y="166"/>
                    </a:lnTo>
                    <a:lnTo>
                      <a:pt x="73" y="175"/>
                    </a:lnTo>
                    <a:lnTo>
                      <a:pt x="55" y="184"/>
                    </a:lnTo>
                    <a:lnTo>
                      <a:pt x="38" y="202"/>
                    </a:lnTo>
                    <a:lnTo>
                      <a:pt x="19" y="211"/>
                    </a:lnTo>
                    <a:lnTo>
                      <a:pt x="0" y="221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27360" y="3377520"/>
                <a:ext cx="51840" cy="57600"/>
              </a:xfrm>
              <a:custGeom>
                <a:avLst/>
                <a:gdLst/>
                <a:ahLst/>
                <a:rect l="l" t="t" r="r" b="b"/>
                <a:pathLst>
                  <a:path w="128" h="147">
                    <a:moveTo>
                      <a:pt x="128" y="147"/>
                    </a:moveTo>
                    <a:lnTo>
                      <a:pt x="120" y="137"/>
                    </a:lnTo>
                    <a:lnTo>
                      <a:pt x="110" y="129"/>
                    </a:lnTo>
                    <a:lnTo>
                      <a:pt x="101" y="129"/>
                    </a:lnTo>
                    <a:lnTo>
                      <a:pt x="93" y="119"/>
                    </a:lnTo>
                    <a:lnTo>
                      <a:pt x="83" y="110"/>
                    </a:lnTo>
                    <a:lnTo>
                      <a:pt x="74" y="102"/>
                    </a:lnTo>
                    <a:lnTo>
                      <a:pt x="65" y="92"/>
                    </a:lnTo>
                    <a:lnTo>
                      <a:pt x="65" y="83"/>
                    </a:lnTo>
                    <a:lnTo>
                      <a:pt x="56" y="74"/>
                    </a:lnTo>
                    <a:lnTo>
                      <a:pt x="47" y="65"/>
                    </a:lnTo>
                    <a:lnTo>
                      <a:pt x="47" y="47"/>
                    </a:lnTo>
                    <a:lnTo>
                      <a:pt x="38" y="38"/>
                    </a:lnTo>
                    <a:lnTo>
                      <a:pt x="28" y="28"/>
                    </a:lnTo>
                    <a:lnTo>
                      <a:pt x="19" y="18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407200" y="3289680"/>
                <a:ext cx="19800" cy="87480"/>
              </a:xfrm>
              <a:custGeom>
                <a:avLst/>
                <a:gdLst/>
                <a:ahLst/>
                <a:rect l="l" t="t" r="r" b="b"/>
                <a:pathLst>
                  <a:path w="54" h="219">
                    <a:moveTo>
                      <a:pt x="54" y="219"/>
                    </a:moveTo>
                    <a:lnTo>
                      <a:pt x="54" y="210"/>
                    </a:lnTo>
                    <a:lnTo>
                      <a:pt x="45" y="201"/>
                    </a:lnTo>
                    <a:lnTo>
                      <a:pt x="45" y="182"/>
                    </a:lnTo>
                    <a:lnTo>
                      <a:pt x="37" y="174"/>
                    </a:lnTo>
                    <a:lnTo>
                      <a:pt x="37" y="155"/>
                    </a:lnTo>
                    <a:lnTo>
                      <a:pt x="27" y="147"/>
                    </a:lnTo>
                    <a:lnTo>
                      <a:pt x="27" y="128"/>
                    </a:lnTo>
                    <a:lnTo>
                      <a:pt x="18" y="110"/>
                    </a:lnTo>
                    <a:lnTo>
                      <a:pt x="18" y="100"/>
                    </a:lnTo>
                    <a:lnTo>
                      <a:pt x="18" y="82"/>
                    </a:lnTo>
                    <a:lnTo>
                      <a:pt x="9" y="72"/>
                    </a:lnTo>
                    <a:lnTo>
                      <a:pt x="9" y="55"/>
                    </a:lnTo>
                    <a:lnTo>
                      <a:pt x="9" y="45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513400" y="3149640"/>
                <a:ext cx="101880" cy="69840"/>
              </a:xfrm>
              <a:custGeom>
                <a:avLst/>
                <a:gdLst/>
                <a:ahLst/>
                <a:rect l="l" t="t" r="r" b="b"/>
                <a:pathLst>
                  <a:path w="257" h="174">
                    <a:moveTo>
                      <a:pt x="0" y="0"/>
                    </a:moveTo>
                    <a:lnTo>
                      <a:pt x="19" y="0"/>
                    </a:lnTo>
                    <a:lnTo>
                      <a:pt x="37" y="10"/>
                    </a:lnTo>
                    <a:lnTo>
                      <a:pt x="55" y="18"/>
                    </a:lnTo>
                    <a:lnTo>
                      <a:pt x="74" y="18"/>
                    </a:lnTo>
                    <a:lnTo>
                      <a:pt x="92" y="37"/>
                    </a:lnTo>
                    <a:lnTo>
                      <a:pt x="110" y="45"/>
                    </a:lnTo>
                    <a:lnTo>
                      <a:pt x="129" y="55"/>
                    </a:lnTo>
                    <a:lnTo>
                      <a:pt x="137" y="65"/>
                    </a:lnTo>
                    <a:lnTo>
                      <a:pt x="156" y="83"/>
                    </a:lnTo>
                    <a:lnTo>
                      <a:pt x="165" y="92"/>
                    </a:lnTo>
                    <a:lnTo>
                      <a:pt x="183" y="110"/>
                    </a:lnTo>
                    <a:lnTo>
                      <a:pt x="201" y="120"/>
                    </a:lnTo>
                    <a:lnTo>
                      <a:pt x="211" y="138"/>
                    </a:lnTo>
                    <a:lnTo>
                      <a:pt x="229" y="147"/>
                    </a:lnTo>
                    <a:lnTo>
                      <a:pt x="239" y="165"/>
                    </a:lnTo>
                    <a:lnTo>
                      <a:pt x="257" y="17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559120" y="341316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45"/>
                    </a:moveTo>
                    <a:lnTo>
                      <a:pt x="18" y="45"/>
                    </a:lnTo>
                    <a:lnTo>
                      <a:pt x="18" y="37"/>
                    </a:lnTo>
                    <a:lnTo>
                      <a:pt x="10" y="37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28" y="0"/>
                    </a:lnTo>
                    <a:lnTo>
                      <a:pt x="28" y="45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025600" y="3571200"/>
                <a:ext cx="1599120" cy="1770480"/>
              </a:xfrm>
              <a:custGeom>
                <a:avLst/>
                <a:gdLst/>
                <a:ahLst/>
                <a:rect l="l" t="t" r="r" b="b"/>
                <a:pathLst>
                  <a:path w="3998" h="4436">
                    <a:moveTo>
                      <a:pt x="1967" y="110"/>
                    </a:moveTo>
                    <a:lnTo>
                      <a:pt x="1994" y="110"/>
                    </a:lnTo>
                    <a:lnTo>
                      <a:pt x="2012" y="119"/>
                    </a:lnTo>
                    <a:lnTo>
                      <a:pt x="2039" y="129"/>
                    </a:lnTo>
                    <a:lnTo>
                      <a:pt x="2067" y="129"/>
                    </a:lnTo>
                    <a:lnTo>
                      <a:pt x="2095" y="137"/>
                    </a:lnTo>
                    <a:lnTo>
                      <a:pt x="2114" y="147"/>
                    </a:lnTo>
                    <a:lnTo>
                      <a:pt x="2141" y="156"/>
                    </a:lnTo>
                    <a:lnTo>
                      <a:pt x="2168" y="165"/>
                    </a:lnTo>
                    <a:lnTo>
                      <a:pt x="2195" y="165"/>
                    </a:lnTo>
                    <a:lnTo>
                      <a:pt x="2214" y="174"/>
                    </a:lnTo>
                    <a:lnTo>
                      <a:pt x="2242" y="184"/>
                    </a:lnTo>
                    <a:lnTo>
                      <a:pt x="2269" y="192"/>
                    </a:lnTo>
                    <a:lnTo>
                      <a:pt x="2287" y="202"/>
                    </a:lnTo>
                    <a:lnTo>
                      <a:pt x="2314" y="212"/>
                    </a:lnTo>
                    <a:lnTo>
                      <a:pt x="2342" y="212"/>
                    </a:lnTo>
                    <a:lnTo>
                      <a:pt x="2369" y="220"/>
                    </a:lnTo>
                    <a:lnTo>
                      <a:pt x="2415" y="229"/>
                    </a:lnTo>
                    <a:lnTo>
                      <a:pt x="2460" y="239"/>
                    </a:lnTo>
                    <a:lnTo>
                      <a:pt x="2507" y="239"/>
                    </a:lnTo>
                    <a:lnTo>
                      <a:pt x="2553" y="247"/>
                    </a:lnTo>
                    <a:lnTo>
                      <a:pt x="2598" y="257"/>
                    </a:lnTo>
                    <a:lnTo>
                      <a:pt x="2644" y="275"/>
                    </a:lnTo>
                    <a:lnTo>
                      <a:pt x="2690" y="284"/>
                    </a:lnTo>
                    <a:lnTo>
                      <a:pt x="2735" y="293"/>
                    </a:lnTo>
                    <a:lnTo>
                      <a:pt x="2781" y="302"/>
                    </a:lnTo>
                    <a:lnTo>
                      <a:pt x="2827" y="311"/>
                    </a:lnTo>
                    <a:lnTo>
                      <a:pt x="2873" y="321"/>
                    </a:lnTo>
                    <a:lnTo>
                      <a:pt x="2918" y="321"/>
                    </a:lnTo>
                    <a:lnTo>
                      <a:pt x="2964" y="331"/>
                    </a:lnTo>
                    <a:lnTo>
                      <a:pt x="3010" y="339"/>
                    </a:lnTo>
                    <a:lnTo>
                      <a:pt x="3055" y="339"/>
                    </a:lnTo>
                    <a:lnTo>
                      <a:pt x="3102" y="349"/>
                    </a:lnTo>
                    <a:lnTo>
                      <a:pt x="3138" y="358"/>
                    </a:lnTo>
                    <a:lnTo>
                      <a:pt x="3175" y="358"/>
                    </a:lnTo>
                    <a:lnTo>
                      <a:pt x="3212" y="367"/>
                    </a:lnTo>
                    <a:lnTo>
                      <a:pt x="3239" y="376"/>
                    </a:lnTo>
                    <a:lnTo>
                      <a:pt x="3275" y="376"/>
                    </a:lnTo>
                    <a:lnTo>
                      <a:pt x="3312" y="385"/>
                    </a:lnTo>
                    <a:lnTo>
                      <a:pt x="3349" y="385"/>
                    </a:lnTo>
                    <a:lnTo>
                      <a:pt x="3384" y="394"/>
                    </a:lnTo>
                    <a:lnTo>
                      <a:pt x="3413" y="394"/>
                    </a:lnTo>
                    <a:lnTo>
                      <a:pt x="3449" y="403"/>
                    </a:lnTo>
                    <a:lnTo>
                      <a:pt x="3486" y="413"/>
                    </a:lnTo>
                    <a:lnTo>
                      <a:pt x="3522" y="413"/>
                    </a:lnTo>
                    <a:lnTo>
                      <a:pt x="3550" y="421"/>
                    </a:lnTo>
                    <a:lnTo>
                      <a:pt x="3587" y="431"/>
                    </a:lnTo>
                    <a:lnTo>
                      <a:pt x="3623" y="431"/>
                    </a:lnTo>
                    <a:lnTo>
                      <a:pt x="3651" y="440"/>
                    </a:lnTo>
                    <a:lnTo>
                      <a:pt x="3679" y="440"/>
                    </a:lnTo>
                    <a:lnTo>
                      <a:pt x="3706" y="440"/>
                    </a:lnTo>
                    <a:lnTo>
                      <a:pt x="3724" y="440"/>
                    </a:lnTo>
                    <a:lnTo>
                      <a:pt x="3751" y="440"/>
                    </a:lnTo>
                    <a:lnTo>
                      <a:pt x="3769" y="440"/>
                    </a:lnTo>
                    <a:lnTo>
                      <a:pt x="3797" y="449"/>
                    </a:lnTo>
                    <a:lnTo>
                      <a:pt x="3816" y="449"/>
                    </a:lnTo>
                    <a:lnTo>
                      <a:pt x="3843" y="449"/>
                    </a:lnTo>
                    <a:lnTo>
                      <a:pt x="3861" y="449"/>
                    </a:lnTo>
                    <a:lnTo>
                      <a:pt x="3888" y="459"/>
                    </a:lnTo>
                    <a:lnTo>
                      <a:pt x="3906" y="459"/>
                    </a:lnTo>
                    <a:lnTo>
                      <a:pt x="3926" y="468"/>
                    </a:lnTo>
                    <a:lnTo>
                      <a:pt x="3953" y="477"/>
                    </a:lnTo>
                    <a:lnTo>
                      <a:pt x="3971" y="486"/>
                    </a:lnTo>
                    <a:lnTo>
                      <a:pt x="3989" y="495"/>
                    </a:lnTo>
                    <a:lnTo>
                      <a:pt x="3998" y="513"/>
                    </a:lnTo>
                    <a:lnTo>
                      <a:pt x="3989" y="523"/>
                    </a:lnTo>
                    <a:lnTo>
                      <a:pt x="3980" y="523"/>
                    </a:lnTo>
                    <a:lnTo>
                      <a:pt x="3971" y="523"/>
                    </a:lnTo>
                    <a:lnTo>
                      <a:pt x="3962" y="523"/>
                    </a:lnTo>
                    <a:lnTo>
                      <a:pt x="3953" y="523"/>
                    </a:lnTo>
                    <a:lnTo>
                      <a:pt x="3944" y="523"/>
                    </a:lnTo>
                    <a:lnTo>
                      <a:pt x="3944" y="531"/>
                    </a:lnTo>
                    <a:lnTo>
                      <a:pt x="3906" y="541"/>
                    </a:lnTo>
                    <a:lnTo>
                      <a:pt x="3870" y="558"/>
                    </a:lnTo>
                    <a:lnTo>
                      <a:pt x="3843" y="577"/>
                    </a:lnTo>
                    <a:lnTo>
                      <a:pt x="3807" y="605"/>
                    </a:lnTo>
                    <a:lnTo>
                      <a:pt x="3778" y="623"/>
                    </a:lnTo>
                    <a:lnTo>
                      <a:pt x="3751" y="651"/>
                    </a:lnTo>
                    <a:lnTo>
                      <a:pt x="3724" y="678"/>
                    </a:lnTo>
                    <a:lnTo>
                      <a:pt x="3706" y="697"/>
                    </a:lnTo>
                    <a:lnTo>
                      <a:pt x="3679" y="725"/>
                    </a:lnTo>
                    <a:lnTo>
                      <a:pt x="3659" y="761"/>
                    </a:lnTo>
                    <a:lnTo>
                      <a:pt x="3641" y="788"/>
                    </a:lnTo>
                    <a:lnTo>
                      <a:pt x="3632" y="815"/>
                    </a:lnTo>
                    <a:lnTo>
                      <a:pt x="3614" y="852"/>
                    </a:lnTo>
                    <a:lnTo>
                      <a:pt x="3604" y="880"/>
                    </a:lnTo>
                    <a:lnTo>
                      <a:pt x="3596" y="917"/>
                    </a:lnTo>
                    <a:lnTo>
                      <a:pt x="3596" y="944"/>
                    </a:lnTo>
                    <a:lnTo>
                      <a:pt x="3596" y="962"/>
                    </a:lnTo>
                    <a:lnTo>
                      <a:pt x="3596" y="971"/>
                    </a:lnTo>
                    <a:lnTo>
                      <a:pt x="3604" y="981"/>
                    </a:lnTo>
                    <a:lnTo>
                      <a:pt x="3604" y="990"/>
                    </a:lnTo>
                    <a:lnTo>
                      <a:pt x="3614" y="1009"/>
                    </a:lnTo>
                    <a:lnTo>
                      <a:pt x="3614" y="1017"/>
                    </a:lnTo>
                    <a:lnTo>
                      <a:pt x="3623" y="1027"/>
                    </a:lnTo>
                    <a:lnTo>
                      <a:pt x="3632" y="1036"/>
                    </a:lnTo>
                    <a:lnTo>
                      <a:pt x="3632" y="1044"/>
                    </a:lnTo>
                    <a:lnTo>
                      <a:pt x="3641" y="1054"/>
                    </a:lnTo>
                    <a:lnTo>
                      <a:pt x="3651" y="1063"/>
                    </a:lnTo>
                    <a:lnTo>
                      <a:pt x="3659" y="1081"/>
                    </a:lnTo>
                    <a:lnTo>
                      <a:pt x="3669" y="1090"/>
                    </a:lnTo>
                    <a:lnTo>
                      <a:pt x="3679" y="1100"/>
                    </a:lnTo>
                    <a:lnTo>
                      <a:pt x="3687" y="1109"/>
                    </a:lnTo>
                    <a:lnTo>
                      <a:pt x="3697" y="1119"/>
                    </a:lnTo>
                    <a:lnTo>
                      <a:pt x="3679" y="1128"/>
                    </a:lnTo>
                    <a:lnTo>
                      <a:pt x="3623" y="1128"/>
                    </a:lnTo>
                    <a:lnTo>
                      <a:pt x="3569" y="1128"/>
                    </a:lnTo>
                    <a:lnTo>
                      <a:pt x="3513" y="1128"/>
                    </a:lnTo>
                    <a:lnTo>
                      <a:pt x="3459" y="1128"/>
                    </a:lnTo>
                    <a:lnTo>
                      <a:pt x="3413" y="1137"/>
                    </a:lnTo>
                    <a:lnTo>
                      <a:pt x="3357" y="1146"/>
                    </a:lnTo>
                    <a:lnTo>
                      <a:pt x="3312" y="1155"/>
                    </a:lnTo>
                    <a:lnTo>
                      <a:pt x="3257" y="1164"/>
                    </a:lnTo>
                    <a:lnTo>
                      <a:pt x="3212" y="1173"/>
                    </a:lnTo>
                    <a:lnTo>
                      <a:pt x="3165" y="1191"/>
                    </a:lnTo>
                    <a:lnTo>
                      <a:pt x="3110" y="1200"/>
                    </a:lnTo>
                    <a:lnTo>
                      <a:pt x="3065" y="1218"/>
                    </a:lnTo>
                    <a:lnTo>
                      <a:pt x="3020" y="1228"/>
                    </a:lnTo>
                    <a:lnTo>
                      <a:pt x="2973" y="1246"/>
                    </a:lnTo>
                    <a:lnTo>
                      <a:pt x="2918" y="1256"/>
                    </a:lnTo>
                    <a:lnTo>
                      <a:pt x="2873" y="1274"/>
                    </a:lnTo>
                    <a:lnTo>
                      <a:pt x="2845" y="1283"/>
                    </a:lnTo>
                    <a:lnTo>
                      <a:pt x="2818" y="1301"/>
                    </a:lnTo>
                    <a:lnTo>
                      <a:pt x="2790" y="1310"/>
                    </a:lnTo>
                    <a:lnTo>
                      <a:pt x="2763" y="1328"/>
                    </a:lnTo>
                    <a:lnTo>
                      <a:pt x="2735" y="1347"/>
                    </a:lnTo>
                    <a:lnTo>
                      <a:pt x="2708" y="1365"/>
                    </a:lnTo>
                    <a:lnTo>
                      <a:pt x="2690" y="1393"/>
                    </a:lnTo>
                    <a:lnTo>
                      <a:pt x="2663" y="1412"/>
                    </a:lnTo>
                    <a:lnTo>
                      <a:pt x="2644" y="1439"/>
                    </a:lnTo>
                    <a:lnTo>
                      <a:pt x="2626" y="1457"/>
                    </a:lnTo>
                    <a:lnTo>
                      <a:pt x="2608" y="1484"/>
                    </a:lnTo>
                    <a:lnTo>
                      <a:pt x="2588" y="1503"/>
                    </a:lnTo>
                    <a:lnTo>
                      <a:pt x="2570" y="1530"/>
                    </a:lnTo>
                    <a:lnTo>
                      <a:pt x="2553" y="1559"/>
                    </a:lnTo>
                    <a:lnTo>
                      <a:pt x="2534" y="1576"/>
                    </a:lnTo>
                    <a:lnTo>
                      <a:pt x="2525" y="1604"/>
                    </a:lnTo>
                    <a:lnTo>
                      <a:pt x="2507" y="1622"/>
                    </a:lnTo>
                    <a:lnTo>
                      <a:pt x="2489" y="1650"/>
                    </a:lnTo>
                    <a:lnTo>
                      <a:pt x="2479" y="1669"/>
                    </a:lnTo>
                    <a:lnTo>
                      <a:pt x="2470" y="1696"/>
                    </a:lnTo>
                    <a:lnTo>
                      <a:pt x="2460" y="1714"/>
                    </a:lnTo>
                    <a:lnTo>
                      <a:pt x="2451" y="1741"/>
                    </a:lnTo>
                    <a:lnTo>
                      <a:pt x="2451" y="1769"/>
                    </a:lnTo>
                    <a:lnTo>
                      <a:pt x="2443" y="1796"/>
                    </a:lnTo>
                    <a:lnTo>
                      <a:pt x="2433" y="1824"/>
                    </a:lnTo>
                    <a:lnTo>
                      <a:pt x="2433" y="1843"/>
                    </a:lnTo>
                    <a:lnTo>
                      <a:pt x="2433" y="1870"/>
                    </a:lnTo>
                    <a:lnTo>
                      <a:pt x="2424" y="1897"/>
                    </a:lnTo>
                    <a:lnTo>
                      <a:pt x="2424" y="1925"/>
                    </a:lnTo>
                    <a:lnTo>
                      <a:pt x="2424" y="1952"/>
                    </a:lnTo>
                    <a:lnTo>
                      <a:pt x="2415" y="1980"/>
                    </a:lnTo>
                    <a:lnTo>
                      <a:pt x="2415" y="2007"/>
                    </a:lnTo>
                    <a:lnTo>
                      <a:pt x="2424" y="2053"/>
                    </a:lnTo>
                    <a:lnTo>
                      <a:pt x="2433" y="2099"/>
                    </a:lnTo>
                    <a:lnTo>
                      <a:pt x="2433" y="2144"/>
                    </a:lnTo>
                    <a:lnTo>
                      <a:pt x="2443" y="2190"/>
                    </a:lnTo>
                    <a:lnTo>
                      <a:pt x="2451" y="2236"/>
                    </a:lnTo>
                    <a:lnTo>
                      <a:pt x="2460" y="2282"/>
                    </a:lnTo>
                    <a:lnTo>
                      <a:pt x="2470" y="2329"/>
                    </a:lnTo>
                    <a:lnTo>
                      <a:pt x="2479" y="2374"/>
                    </a:lnTo>
                    <a:lnTo>
                      <a:pt x="2489" y="2410"/>
                    </a:lnTo>
                    <a:lnTo>
                      <a:pt x="2498" y="2456"/>
                    </a:lnTo>
                    <a:lnTo>
                      <a:pt x="2507" y="2501"/>
                    </a:lnTo>
                    <a:lnTo>
                      <a:pt x="2516" y="2548"/>
                    </a:lnTo>
                    <a:lnTo>
                      <a:pt x="2525" y="2594"/>
                    </a:lnTo>
                    <a:lnTo>
                      <a:pt x="2534" y="2640"/>
                    </a:lnTo>
                    <a:lnTo>
                      <a:pt x="2543" y="2685"/>
                    </a:lnTo>
                    <a:lnTo>
                      <a:pt x="2553" y="2731"/>
                    </a:lnTo>
                    <a:lnTo>
                      <a:pt x="2570" y="2795"/>
                    </a:lnTo>
                    <a:lnTo>
                      <a:pt x="2588" y="2860"/>
                    </a:lnTo>
                    <a:lnTo>
                      <a:pt x="2608" y="2914"/>
                    </a:lnTo>
                    <a:lnTo>
                      <a:pt x="2626" y="2979"/>
                    </a:lnTo>
                    <a:lnTo>
                      <a:pt x="2644" y="3042"/>
                    </a:lnTo>
                    <a:lnTo>
                      <a:pt x="2663" y="3107"/>
                    </a:lnTo>
                    <a:lnTo>
                      <a:pt x="2680" y="3161"/>
                    </a:lnTo>
                    <a:lnTo>
                      <a:pt x="2698" y="3226"/>
                    </a:lnTo>
                    <a:lnTo>
                      <a:pt x="2708" y="3290"/>
                    </a:lnTo>
                    <a:lnTo>
                      <a:pt x="2726" y="3355"/>
                    </a:lnTo>
                    <a:lnTo>
                      <a:pt x="2735" y="3418"/>
                    </a:lnTo>
                    <a:lnTo>
                      <a:pt x="2754" y="3483"/>
                    </a:lnTo>
                    <a:lnTo>
                      <a:pt x="2763" y="3547"/>
                    </a:lnTo>
                    <a:lnTo>
                      <a:pt x="2773" y="3611"/>
                    </a:lnTo>
                    <a:lnTo>
                      <a:pt x="2781" y="3675"/>
                    </a:lnTo>
                    <a:lnTo>
                      <a:pt x="2790" y="3739"/>
                    </a:lnTo>
                    <a:lnTo>
                      <a:pt x="2790" y="3767"/>
                    </a:lnTo>
                    <a:lnTo>
                      <a:pt x="2800" y="3803"/>
                    </a:lnTo>
                    <a:lnTo>
                      <a:pt x="2808" y="3831"/>
                    </a:lnTo>
                    <a:lnTo>
                      <a:pt x="2808" y="3868"/>
                    </a:lnTo>
                    <a:lnTo>
                      <a:pt x="2818" y="3895"/>
                    </a:lnTo>
                    <a:lnTo>
                      <a:pt x="2818" y="3931"/>
                    </a:lnTo>
                    <a:lnTo>
                      <a:pt x="2827" y="3958"/>
                    </a:lnTo>
                    <a:lnTo>
                      <a:pt x="2827" y="3995"/>
                    </a:lnTo>
                    <a:lnTo>
                      <a:pt x="2827" y="4023"/>
                    </a:lnTo>
                    <a:lnTo>
                      <a:pt x="2836" y="4060"/>
                    </a:lnTo>
                    <a:lnTo>
                      <a:pt x="2836" y="4087"/>
                    </a:lnTo>
                    <a:lnTo>
                      <a:pt x="2836" y="4124"/>
                    </a:lnTo>
                    <a:lnTo>
                      <a:pt x="2836" y="4161"/>
                    </a:lnTo>
                    <a:lnTo>
                      <a:pt x="2836" y="4188"/>
                    </a:lnTo>
                    <a:lnTo>
                      <a:pt x="2836" y="4224"/>
                    </a:lnTo>
                    <a:lnTo>
                      <a:pt x="2836" y="4252"/>
                    </a:lnTo>
                    <a:lnTo>
                      <a:pt x="2827" y="4262"/>
                    </a:lnTo>
                    <a:lnTo>
                      <a:pt x="2827" y="4280"/>
                    </a:lnTo>
                    <a:lnTo>
                      <a:pt x="2827" y="4289"/>
                    </a:lnTo>
                    <a:lnTo>
                      <a:pt x="2818" y="4298"/>
                    </a:lnTo>
                    <a:lnTo>
                      <a:pt x="2818" y="4307"/>
                    </a:lnTo>
                    <a:lnTo>
                      <a:pt x="2818" y="4317"/>
                    </a:lnTo>
                    <a:lnTo>
                      <a:pt x="2808" y="4325"/>
                    </a:lnTo>
                    <a:lnTo>
                      <a:pt x="2808" y="4334"/>
                    </a:lnTo>
                    <a:lnTo>
                      <a:pt x="2800" y="4344"/>
                    </a:lnTo>
                    <a:lnTo>
                      <a:pt x="2800" y="4362"/>
                    </a:lnTo>
                    <a:lnTo>
                      <a:pt x="2800" y="4371"/>
                    </a:lnTo>
                    <a:lnTo>
                      <a:pt x="2790" y="4381"/>
                    </a:lnTo>
                    <a:lnTo>
                      <a:pt x="2790" y="4389"/>
                    </a:lnTo>
                    <a:lnTo>
                      <a:pt x="2781" y="4399"/>
                    </a:lnTo>
                    <a:lnTo>
                      <a:pt x="2781" y="4409"/>
                    </a:lnTo>
                    <a:lnTo>
                      <a:pt x="2781" y="4417"/>
                    </a:lnTo>
                    <a:lnTo>
                      <a:pt x="2763" y="4436"/>
                    </a:lnTo>
                    <a:lnTo>
                      <a:pt x="2726" y="4417"/>
                    </a:lnTo>
                    <a:lnTo>
                      <a:pt x="2698" y="4409"/>
                    </a:lnTo>
                    <a:lnTo>
                      <a:pt x="2671" y="4389"/>
                    </a:lnTo>
                    <a:lnTo>
                      <a:pt x="2644" y="4381"/>
                    </a:lnTo>
                    <a:lnTo>
                      <a:pt x="2608" y="4371"/>
                    </a:lnTo>
                    <a:lnTo>
                      <a:pt x="2580" y="4352"/>
                    </a:lnTo>
                    <a:lnTo>
                      <a:pt x="2543" y="4344"/>
                    </a:lnTo>
                    <a:lnTo>
                      <a:pt x="2516" y="4334"/>
                    </a:lnTo>
                    <a:lnTo>
                      <a:pt x="2479" y="4325"/>
                    </a:lnTo>
                    <a:lnTo>
                      <a:pt x="2451" y="4317"/>
                    </a:lnTo>
                    <a:lnTo>
                      <a:pt x="2415" y="4307"/>
                    </a:lnTo>
                    <a:lnTo>
                      <a:pt x="2388" y="4298"/>
                    </a:lnTo>
                    <a:lnTo>
                      <a:pt x="2351" y="4298"/>
                    </a:lnTo>
                    <a:lnTo>
                      <a:pt x="2323" y="4289"/>
                    </a:lnTo>
                    <a:lnTo>
                      <a:pt x="2287" y="4280"/>
                    </a:lnTo>
                    <a:lnTo>
                      <a:pt x="2251" y="4270"/>
                    </a:lnTo>
                    <a:lnTo>
                      <a:pt x="2168" y="4270"/>
                    </a:lnTo>
                    <a:lnTo>
                      <a:pt x="2086" y="4262"/>
                    </a:lnTo>
                    <a:lnTo>
                      <a:pt x="2004" y="4262"/>
                    </a:lnTo>
                    <a:lnTo>
                      <a:pt x="1921" y="4262"/>
                    </a:lnTo>
                    <a:lnTo>
                      <a:pt x="1839" y="4270"/>
                    </a:lnTo>
                    <a:lnTo>
                      <a:pt x="1811" y="4270"/>
                    </a:lnTo>
                    <a:lnTo>
                      <a:pt x="1765" y="4280"/>
                    </a:lnTo>
                    <a:lnTo>
                      <a:pt x="1729" y="4289"/>
                    </a:lnTo>
                    <a:lnTo>
                      <a:pt x="1683" y="4298"/>
                    </a:lnTo>
                    <a:lnTo>
                      <a:pt x="1647" y="4307"/>
                    </a:lnTo>
                    <a:lnTo>
                      <a:pt x="1600" y="4317"/>
                    </a:lnTo>
                    <a:lnTo>
                      <a:pt x="1583" y="4325"/>
                    </a:lnTo>
                    <a:lnTo>
                      <a:pt x="1445" y="4252"/>
                    </a:lnTo>
                    <a:lnTo>
                      <a:pt x="1318" y="4188"/>
                    </a:lnTo>
                    <a:lnTo>
                      <a:pt x="1180" y="4124"/>
                    </a:lnTo>
                    <a:lnTo>
                      <a:pt x="1043" y="4041"/>
                    </a:lnTo>
                    <a:lnTo>
                      <a:pt x="914" y="3958"/>
                    </a:lnTo>
                    <a:lnTo>
                      <a:pt x="878" y="3931"/>
                    </a:lnTo>
                    <a:lnTo>
                      <a:pt x="659" y="3776"/>
                    </a:lnTo>
                    <a:lnTo>
                      <a:pt x="466" y="3602"/>
                    </a:lnTo>
                    <a:lnTo>
                      <a:pt x="310" y="3418"/>
                    </a:lnTo>
                    <a:lnTo>
                      <a:pt x="173" y="3216"/>
                    </a:lnTo>
                    <a:lnTo>
                      <a:pt x="54" y="3015"/>
                    </a:lnTo>
                    <a:lnTo>
                      <a:pt x="18" y="2941"/>
                    </a:lnTo>
                    <a:lnTo>
                      <a:pt x="8" y="2896"/>
                    </a:lnTo>
                    <a:lnTo>
                      <a:pt x="0" y="2842"/>
                    </a:lnTo>
                    <a:lnTo>
                      <a:pt x="0" y="2785"/>
                    </a:lnTo>
                    <a:lnTo>
                      <a:pt x="8" y="2731"/>
                    </a:lnTo>
                    <a:lnTo>
                      <a:pt x="8" y="2675"/>
                    </a:lnTo>
                    <a:lnTo>
                      <a:pt x="8" y="2657"/>
                    </a:lnTo>
                    <a:lnTo>
                      <a:pt x="18" y="2585"/>
                    </a:lnTo>
                    <a:lnTo>
                      <a:pt x="27" y="2520"/>
                    </a:lnTo>
                    <a:lnTo>
                      <a:pt x="45" y="2447"/>
                    </a:lnTo>
                    <a:lnTo>
                      <a:pt x="63" y="2374"/>
                    </a:lnTo>
                    <a:lnTo>
                      <a:pt x="82" y="2310"/>
                    </a:lnTo>
                    <a:lnTo>
                      <a:pt x="90" y="2291"/>
                    </a:lnTo>
                    <a:lnTo>
                      <a:pt x="110" y="2209"/>
                    </a:lnTo>
                    <a:lnTo>
                      <a:pt x="128" y="2126"/>
                    </a:lnTo>
                    <a:lnTo>
                      <a:pt x="145" y="2045"/>
                    </a:lnTo>
                    <a:lnTo>
                      <a:pt x="173" y="1970"/>
                    </a:lnTo>
                    <a:lnTo>
                      <a:pt x="200" y="1888"/>
                    </a:lnTo>
                    <a:lnTo>
                      <a:pt x="209" y="1860"/>
                    </a:lnTo>
                    <a:lnTo>
                      <a:pt x="227" y="1843"/>
                    </a:lnTo>
                    <a:lnTo>
                      <a:pt x="237" y="1814"/>
                    </a:lnTo>
                    <a:lnTo>
                      <a:pt x="247" y="1787"/>
                    </a:lnTo>
                    <a:lnTo>
                      <a:pt x="255" y="1759"/>
                    </a:lnTo>
                    <a:lnTo>
                      <a:pt x="274" y="1732"/>
                    </a:lnTo>
                    <a:lnTo>
                      <a:pt x="283" y="1732"/>
                    </a:lnTo>
                    <a:lnTo>
                      <a:pt x="319" y="1677"/>
                    </a:lnTo>
                    <a:lnTo>
                      <a:pt x="356" y="1622"/>
                    </a:lnTo>
                    <a:lnTo>
                      <a:pt x="384" y="1567"/>
                    </a:lnTo>
                    <a:lnTo>
                      <a:pt x="420" y="1512"/>
                    </a:lnTo>
                    <a:lnTo>
                      <a:pt x="457" y="1466"/>
                    </a:lnTo>
                    <a:lnTo>
                      <a:pt x="466" y="1448"/>
                    </a:lnTo>
                    <a:lnTo>
                      <a:pt x="584" y="1301"/>
                    </a:lnTo>
                    <a:lnTo>
                      <a:pt x="686" y="1155"/>
                    </a:lnTo>
                    <a:lnTo>
                      <a:pt x="787" y="999"/>
                    </a:lnTo>
                    <a:lnTo>
                      <a:pt x="886" y="852"/>
                    </a:lnTo>
                    <a:lnTo>
                      <a:pt x="996" y="705"/>
                    </a:lnTo>
                    <a:lnTo>
                      <a:pt x="1043" y="660"/>
                    </a:lnTo>
                    <a:lnTo>
                      <a:pt x="1088" y="577"/>
                    </a:lnTo>
                    <a:lnTo>
                      <a:pt x="1143" y="495"/>
                    </a:lnTo>
                    <a:lnTo>
                      <a:pt x="1208" y="421"/>
                    </a:lnTo>
                    <a:lnTo>
                      <a:pt x="1271" y="339"/>
                    </a:lnTo>
                    <a:lnTo>
                      <a:pt x="1335" y="266"/>
                    </a:lnTo>
                    <a:lnTo>
                      <a:pt x="1353" y="239"/>
                    </a:lnTo>
                    <a:lnTo>
                      <a:pt x="1399" y="192"/>
                    </a:lnTo>
                    <a:lnTo>
                      <a:pt x="1436" y="147"/>
                    </a:lnTo>
                    <a:lnTo>
                      <a:pt x="1482" y="102"/>
                    </a:lnTo>
                    <a:lnTo>
                      <a:pt x="1527" y="55"/>
                    </a:lnTo>
                    <a:lnTo>
                      <a:pt x="1573" y="18"/>
                    </a:lnTo>
                    <a:lnTo>
                      <a:pt x="1592" y="0"/>
                    </a:lnTo>
                    <a:lnTo>
                      <a:pt x="1664" y="18"/>
                    </a:lnTo>
                    <a:lnTo>
                      <a:pt x="1738" y="37"/>
                    </a:lnTo>
                    <a:lnTo>
                      <a:pt x="1802" y="55"/>
                    </a:lnTo>
                    <a:lnTo>
                      <a:pt x="1875" y="83"/>
                    </a:lnTo>
                    <a:lnTo>
                      <a:pt x="1939" y="102"/>
                    </a:lnTo>
                    <a:lnTo>
                      <a:pt x="1967" y="110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464880" y="3782520"/>
                <a:ext cx="137520" cy="165600"/>
              </a:xfrm>
              <a:custGeom>
                <a:avLst/>
                <a:gdLst/>
                <a:ahLst/>
                <a:rect l="l" t="t" r="r" b="b"/>
                <a:pathLst>
                  <a:path w="348" h="413">
                    <a:moveTo>
                      <a:pt x="348" y="0"/>
                    </a:moveTo>
                    <a:lnTo>
                      <a:pt x="310" y="10"/>
                    </a:lnTo>
                    <a:lnTo>
                      <a:pt x="274" y="27"/>
                    </a:lnTo>
                    <a:lnTo>
                      <a:pt x="247" y="46"/>
                    </a:lnTo>
                    <a:lnTo>
                      <a:pt x="211" y="74"/>
                    </a:lnTo>
                    <a:lnTo>
                      <a:pt x="182" y="92"/>
                    </a:lnTo>
                    <a:lnTo>
                      <a:pt x="155" y="120"/>
                    </a:lnTo>
                    <a:lnTo>
                      <a:pt x="128" y="147"/>
                    </a:lnTo>
                    <a:lnTo>
                      <a:pt x="110" y="166"/>
                    </a:lnTo>
                    <a:lnTo>
                      <a:pt x="83" y="194"/>
                    </a:lnTo>
                    <a:lnTo>
                      <a:pt x="63" y="230"/>
                    </a:lnTo>
                    <a:lnTo>
                      <a:pt x="45" y="257"/>
                    </a:lnTo>
                    <a:lnTo>
                      <a:pt x="36" y="284"/>
                    </a:lnTo>
                    <a:lnTo>
                      <a:pt x="18" y="321"/>
                    </a:lnTo>
                    <a:lnTo>
                      <a:pt x="8" y="349"/>
                    </a:lnTo>
                    <a:lnTo>
                      <a:pt x="0" y="386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464880" y="394848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01" h="175">
                    <a:moveTo>
                      <a:pt x="0" y="0"/>
                    </a:moveTo>
                    <a:lnTo>
                      <a:pt x="0" y="18"/>
                    </a:lnTo>
                    <a:lnTo>
                      <a:pt x="0" y="27"/>
                    </a:lnTo>
                    <a:lnTo>
                      <a:pt x="8" y="37"/>
                    </a:lnTo>
                    <a:lnTo>
                      <a:pt x="8" y="46"/>
                    </a:lnTo>
                    <a:lnTo>
                      <a:pt x="18" y="65"/>
                    </a:lnTo>
                    <a:lnTo>
                      <a:pt x="18" y="73"/>
                    </a:lnTo>
                    <a:lnTo>
                      <a:pt x="27" y="83"/>
                    </a:lnTo>
                    <a:lnTo>
                      <a:pt x="36" y="92"/>
                    </a:lnTo>
                    <a:lnTo>
                      <a:pt x="36" y="100"/>
                    </a:lnTo>
                    <a:lnTo>
                      <a:pt x="45" y="110"/>
                    </a:lnTo>
                    <a:lnTo>
                      <a:pt x="55" y="119"/>
                    </a:lnTo>
                    <a:lnTo>
                      <a:pt x="63" y="137"/>
                    </a:lnTo>
                    <a:lnTo>
                      <a:pt x="73" y="146"/>
                    </a:lnTo>
                    <a:lnTo>
                      <a:pt x="83" y="156"/>
                    </a:lnTo>
                    <a:lnTo>
                      <a:pt x="91" y="165"/>
                    </a:lnTo>
                    <a:lnTo>
                      <a:pt x="101" y="17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75080" y="4022280"/>
                <a:ext cx="321840" cy="57600"/>
              </a:xfrm>
              <a:custGeom>
                <a:avLst/>
                <a:gdLst/>
                <a:ahLst/>
                <a:rect l="l" t="t" r="r" b="b"/>
                <a:pathLst>
                  <a:path w="806" h="146">
                    <a:moveTo>
                      <a:pt x="806" y="0"/>
                    </a:moveTo>
                    <a:lnTo>
                      <a:pt x="750" y="0"/>
                    </a:lnTo>
                    <a:lnTo>
                      <a:pt x="696" y="0"/>
                    </a:lnTo>
                    <a:lnTo>
                      <a:pt x="640" y="0"/>
                    </a:lnTo>
                    <a:lnTo>
                      <a:pt x="586" y="0"/>
                    </a:lnTo>
                    <a:lnTo>
                      <a:pt x="540" y="9"/>
                    </a:lnTo>
                    <a:lnTo>
                      <a:pt x="484" y="18"/>
                    </a:lnTo>
                    <a:lnTo>
                      <a:pt x="439" y="27"/>
                    </a:lnTo>
                    <a:lnTo>
                      <a:pt x="384" y="36"/>
                    </a:lnTo>
                    <a:lnTo>
                      <a:pt x="339" y="45"/>
                    </a:lnTo>
                    <a:lnTo>
                      <a:pt x="292" y="63"/>
                    </a:lnTo>
                    <a:lnTo>
                      <a:pt x="237" y="72"/>
                    </a:lnTo>
                    <a:lnTo>
                      <a:pt x="192" y="90"/>
                    </a:lnTo>
                    <a:lnTo>
                      <a:pt x="147" y="100"/>
                    </a:lnTo>
                    <a:lnTo>
                      <a:pt x="100" y="118"/>
                    </a:lnTo>
                    <a:lnTo>
                      <a:pt x="45" y="128"/>
                    </a:lnTo>
                    <a:lnTo>
                      <a:pt x="0" y="14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35040" y="4080240"/>
                <a:ext cx="140040" cy="131400"/>
              </a:xfrm>
              <a:custGeom>
                <a:avLst/>
                <a:gdLst/>
                <a:ahLst/>
                <a:rect l="l" t="t" r="r" b="b"/>
                <a:pathLst>
                  <a:path w="348" h="330">
                    <a:moveTo>
                      <a:pt x="348" y="0"/>
                    </a:moveTo>
                    <a:lnTo>
                      <a:pt x="320" y="9"/>
                    </a:lnTo>
                    <a:lnTo>
                      <a:pt x="293" y="27"/>
                    </a:lnTo>
                    <a:lnTo>
                      <a:pt x="265" y="36"/>
                    </a:lnTo>
                    <a:lnTo>
                      <a:pt x="238" y="54"/>
                    </a:lnTo>
                    <a:lnTo>
                      <a:pt x="210" y="73"/>
                    </a:lnTo>
                    <a:lnTo>
                      <a:pt x="183" y="91"/>
                    </a:lnTo>
                    <a:lnTo>
                      <a:pt x="165" y="119"/>
                    </a:lnTo>
                    <a:lnTo>
                      <a:pt x="138" y="138"/>
                    </a:lnTo>
                    <a:lnTo>
                      <a:pt x="119" y="165"/>
                    </a:lnTo>
                    <a:lnTo>
                      <a:pt x="101" y="183"/>
                    </a:lnTo>
                    <a:lnTo>
                      <a:pt x="83" y="210"/>
                    </a:lnTo>
                    <a:lnTo>
                      <a:pt x="63" y="229"/>
                    </a:lnTo>
                    <a:lnTo>
                      <a:pt x="45" y="256"/>
                    </a:lnTo>
                    <a:lnTo>
                      <a:pt x="28" y="285"/>
                    </a:lnTo>
                    <a:lnTo>
                      <a:pt x="9" y="302"/>
                    </a:lnTo>
                    <a:lnTo>
                      <a:pt x="0" y="33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991120" y="4212000"/>
                <a:ext cx="43920" cy="159480"/>
              </a:xfrm>
              <a:custGeom>
                <a:avLst/>
                <a:gdLst/>
                <a:ahLst/>
                <a:rect l="l" t="t" r="r" b="b"/>
                <a:pathLst>
                  <a:path w="110" h="403">
                    <a:moveTo>
                      <a:pt x="110" y="0"/>
                    </a:moveTo>
                    <a:lnTo>
                      <a:pt x="92" y="18"/>
                    </a:lnTo>
                    <a:lnTo>
                      <a:pt x="74" y="46"/>
                    </a:lnTo>
                    <a:lnTo>
                      <a:pt x="64" y="65"/>
                    </a:lnTo>
                    <a:lnTo>
                      <a:pt x="55" y="92"/>
                    </a:lnTo>
                    <a:lnTo>
                      <a:pt x="45" y="110"/>
                    </a:lnTo>
                    <a:lnTo>
                      <a:pt x="36" y="137"/>
                    </a:lnTo>
                    <a:lnTo>
                      <a:pt x="36" y="165"/>
                    </a:lnTo>
                    <a:lnTo>
                      <a:pt x="28" y="192"/>
                    </a:lnTo>
                    <a:lnTo>
                      <a:pt x="18" y="220"/>
                    </a:lnTo>
                    <a:lnTo>
                      <a:pt x="18" y="239"/>
                    </a:lnTo>
                    <a:lnTo>
                      <a:pt x="18" y="266"/>
                    </a:lnTo>
                    <a:lnTo>
                      <a:pt x="9" y="293"/>
                    </a:lnTo>
                    <a:lnTo>
                      <a:pt x="9" y="321"/>
                    </a:lnTo>
                    <a:lnTo>
                      <a:pt x="9" y="348"/>
                    </a:lnTo>
                    <a:lnTo>
                      <a:pt x="0" y="376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991120" y="4371840"/>
                <a:ext cx="55440" cy="289080"/>
              </a:xfrm>
              <a:custGeom>
                <a:avLst/>
                <a:gdLst/>
                <a:ahLst/>
                <a:rect l="l" t="t" r="r" b="b"/>
                <a:pathLst>
                  <a:path w="138" h="724">
                    <a:moveTo>
                      <a:pt x="0" y="0"/>
                    </a:moveTo>
                    <a:lnTo>
                      <a:pt x="9" y="46"/>
                    </a:lnTo>
                    <a:lnTo>
                      <a:pt x="18" y="92"/>
                    </a:lnTo>
                    <a:lnTo>
                      <a:pt x="18" y="137"/>
                    </a:lnTo>
                    <a:lnTo>
                      <a:pt x="28" y="183"/>
                    </a:lnTo>
                    <a:lnTo>
                      <a:pt x="36" y="229"/>
                    </a:lnTo>
                    <a:lnTo>
                      <a:pt x="45" y="275"/>
                    </a:lnTo>
                    <a:lnTo>
                      <a:pt x="55" y="322"/>
                    </a:lnTo>
                    <a:lnTo>
                      <a:pt x="64" y="367"/>
                    </a:lnTo>
                    <a:lnTo>
                      <a:pt x="74" y="403"/>
                    </a:lnTo>
                    <a:lnTo>
                      <a:pt x="83" y="449"/>
                    </a:lnTo>
                    <a:lnTo>
                      <a:pt x="92" y="494"/>
                    </a:lnTo>
                    <a:lnTo>
                      <a:pt x="101" y="541"/>
                    </a:lnTo>
                    <a:lnTo>
                      <a:pt x="110" y="587"/>
                    </a:lnTo>
                    <a:lnTo>
                      <a:pt x="119" y="633"/>
                    </a:lnTo>
                    <a:lnTo>
                      <a:pt x="128" y="678"/>
                    </a:lnTo>
                    <a:lnTo>
                      <a:pt x="138" y="72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046920" y="4660920"/>
                <a:ext cx="93960" cy="403200"/>
              </a:xfrm>
              <a:custGeom>
                <a:avLst/>
                <a:gdLst/>
                <a:ahLst/>
                <a:rect l="l" t="t" r="r" b="b"/>
                <a:pathLst>
                  <a:path w="237" h="1008">
                    <a:moveTo>
                      <a:pt x="0" y="0"/>
                    </a:moveTo>
                    <a:lnTo>
                      <a:pt x="17" y="64"/>
                    </a:lnTo>
                    <a:lnTo>
                      <a:pt x="35" y="129"/>
                    </a:lnTo>
                    <a:lnTo>
                      <a:pt x="55" y="183"/>
                    </a:lnTo>
                    <a:lnTo>
                      <a:pt x="73" y="248"/>
                    </a:lnTo>
                    <a:lnTo>
                      <a:pt x="91" y="311"/>
                    </a:lnTo>
                    <a:lnTo>
                      <a:pt x="110" y="376"/>
                    </a:lnTo>
                    <a:lnTo>
                      <a:pt x="127" y="430"/>
                    </a:lnTo>
                    <a:lnTo>
                      <a:pt x="145" y="495"/>
                    </a:lnTo>
                    <a:lnTo>
                      <a:pt x="155" y="559"/>
                    </a:lnTo>
                    <a:lnTo>
                      <a:pt x="173" y="624"/>
                    </a:lnTo>
                    <a:lnTo>
                      <a:pt x="182" y="687"/>
                    </a:lnTo>
                    <a:lnTo>
                      <a:pt x="201" y="752"/>
                    </a:lnTo>
                    <a:lnTo>
                      <a:pt x="210" y="816"/>
                    </a:lnTo>
                    <a:lnTo>
                      <a:pt x="220" y="880"/>
                    </a:lnTo>
                    <a:lnTo>
                      <a:pt x="228" y="944"/>
                    </a:lnTo>
                    <a:lnTo>
                      <a:pt x="237" y="100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41240" y="5064480"/>
                <a:ext cx="19800" cy="203400"/>
              </a:xfrm>
              <a:custGeom>
                <a:avLst/>
                <a:gdLst/>
                <a:ahLst/>
                <a:rect l="l" t="t" r="r" b="b"/>
                <a:pathLst>
                  <a:path w="46" h="513">
                    <a:moveTo>
                      <a:pt x="0" y="0"/>
                    </a:moveTo>
                    <a:lnTo>
                      <a:pt x="0" y="28"/>
                    </a:lnTo>
                    <a:lnTo>
                      <a:pt x="10" y="64"/>
                    </a:lnTo>
                    <a:lnTo>
                      <a:pt x="18" y="92"/>
                    </a:lnTo>
                    <a:lnTo>
                      <a:pt x="18" y="129"/>
                    </a:lnTo>
                    <a:lnTo>
                      <a:pt x="28" y="156"/>
                    </a:lnTo>
                    <a:lnTo>
                      <a:pt x="28" y="192"/>
                    </a:lnTo>
                    <a:lnTo>
                      <a:pt x="37" y="219"/>
                    </a:lnTo>
                    <a:lnTo>
                      <a:pt x="37" y="256"/>
                    </a:lnTo>
                    <a:lnTo>
                      <a:pt x="37" y="284"/>
                    </a:lnTo>
                    <a:lnTo>
                      <a:pt x="46" y="321"/>
                    </a:lnTo>
                    <a:lnTo>
                      <a:pt x="46" y="348"/>
                    </a:lnTo>
                    <a:lnTo>
                      <a:pt x="46" y="385"/>
                    </a:lnTo>
                    <a:lnTo>
                      <a:pt x="46" y="422"/>
                    </a:lnTo>
                    <a:lnTo>
                      <a:pt x="46" y="449"/>
                    </a:lnTo>
                    <a:lnTo>
                      <a:pt x="46" y="485"/>
                    </a:lnTo>
                    <a:lnTo>
                      <a:pt x="46" y="51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138720" y="5268240"/>
                <a:ext cx="21960" cy="65880"/>
              </a:xfrm>
              <a:custGeom>
                <a:avLst/>
                <a:gdLst/>
                <a:ahLst/>
                <a:rect l="l" t="t" r="r" b="b"/>
                <a:pathLst>
                  <a:path w="55" h="165">
                    <a:moveTo>
                      <a:pt x="55" y="0"/>
                    </a:moveTo>
                    <a:lnTo>
                      <a:pt x="46" y="10"/>
                    </a:lnTo>
                    <a:lnTo>
                      <a:pt x="46" y="28"/>
                    </a:lnTo>
                    <a:lnTo>
                      <a:pt x="46" y="37"/>
                    </a:lnTo>
                    <a:lnTo>
                      <a:pt x="37" y="46"/>
                    </a:lnTo>
                    <a:lnTo>
                      <a:pt x="37" y="55"/>
                    </a:lnTo>
                    <a:lnTo>
                      <a:pt x="37" y="65"/>
                    </a:lnTo>
                    <a:lnTo>
                      <a:pt x="27" y="73"/>
                    </a:lnTo>
                    <a:lnTo>
                      <a:pt x="27" y="82"/>
                    </a:lnTo>
                    <a:lnTo>
                      <a:pt x="19" y="92"/>
                    </a:lnTo>
                    <a:lnTo>
                      <a:pt x="19" y="110"/>
                    </a:lnTo>
                    <a:lnTo>
                      <a:pt x="19" y="119"/>
                    </a:lnTo>
                    <a:lnTo>
                      <a:pt x="9" y="129"/>
                    </a:lnTo>
                    <a:lnTo>
                      <a:pt x="9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27040" y="5276160"/>
                <a:ext cx="203760" cy="65520"/>
              </a:xfrm>
              <a:custGeom>
                <a:avLst/>
                <a:gdLst/>
                <a:ahLst/>
                <a:rect l="l" t="t" r="r" b="b"/>
                <a:pathLst>
                  <a:path w="512" h="166">
                    <a:moveTo>
                      <a:pt x="512" y="166"/>
                    </a:moveTo>
                    <a:lnTo>
                      <a:pt x="475" y="147"/>
                    </a:lnTo>
                    <a:lnTo>
                      <a:pt x="447" y="139"/>
                    </a:lnTo>
                    <a:lnTo>
                      <a:pt x="420" y="119"/>
                    </a:lnTo>
                    <a:lnTo>
                      <a:pt x="393" y="111"/>
                    </a:lnTo>
                    <a:lnTo>
                      <a:pt x="357" y="101"/>
                    </a:lnTo>
                    <a:lnTo>
                      <a:pt x="329" y="82"/>
                    </a:lnTo>
                    <a:lnTo>
                      <a:pt x="292" y="74"/>
                    </a:lnTo>
                    <a:lnTo>
                      <a:pt x="265" y="64"/>
                    </a:lnTo>
                    <a:lnTo>
                      <a:pt x="228" y="55"/>
                    </a:lnTo>
                    <a:lnTo>
                      <a:pt x="200" y="47"/>
                    </a:lnTo>
                    <a:lnTo>
                      <a:pt x="164" y="37"/>
                    </a:lnTo>
                    <a:lnTo>
                      <a:pt x="137" y="28"/>
                    </a:lnTo>
                    <a:lnTo>
                      <a:pt x="100" y="28"/>
                    </a:lnTo>
                    <a:lnTo>
                      <a:pt x="72" y="19"/>
                    </a:lnTo>
                    <a:lnTo>
                      <a:pt x="36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377320" y="5140440"/>
                <a:ext cx="281880" cy="157320"/>
              </a:xfrm>
              <a:custGeom>
                <a:avLst/>
                <a:gdLst/>
                <a:ahLst/>
                <a:rect l="l" t="t" r="r" b="b"/>
                <a:pathLst>
                  <a:path w="705" h="394">
                    <a:moveTo>
                      <a:pt x="705" y="394"/>
                    </a:moveTo>
                    <a:lnTo>
                      <a:pt x="659" y="367"/>
                    </a:lnTo>
                    <a:lnTo>
                      <a:pt x="622" y="349"/>
                    </a:lnTo>
                    <a:lnTo>
                      <a:pt x="567" y="321"/>
                    </a:lnTo>
                    <a:lnTo>
                      <a:pt x="530" y="303"/>
                    </a:lnTo>
                    <a:lnTo>
                      <a:pt x="485" y="284"/>
                    </a:lnTo>
                    <a:lnTo>
                      <a:pt x="440" y="257"/>
                    </a:lnTo>
                    <a:lnTo>
                      <a:pt x="393" y="239"/>
                    </a:lnTo>
                    <a:lnTo>
                      <a:pt x="347" y="212"/>
                    </a:lnTo>
                    <a:lnTo>
                      <a:pt x="302" y="193"/>
                    </a:lnTo>
                    <a:lnTo>
                      <a:pt x="255" y="166"/>
                    </a:lnTo>
                    <a:lnTo>
                      <a:pt x="210" y="137"/>
                    </a:lnTo>
                    <a:lnTo>
                      <a:pt x="165" y="110"/>
                    </a:lnTo>
                    <a:lnTo>
                      <a:pt x="118" y="92"/>
                    </a:lnTo>
                    <a:lnTo>
                      <a:pt x="82" y="64"/>
                    </a:lnTo>
                    <a:lnTo>
                      <a:pt x="36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033880" y="4745160"/>
                <a:ext cx="343440" cy="394920"/>
              </a:xfrm>
              <a:custGeom>
                <a:avLst/>
                <a:gdLst/>
                <a:ahLst/>
                <a:rect l="l" t="t" r="r" b="b"/>
                <a:pathLst>
                  <a:path w="860" h="990">
                    <a:moveTo>
                      <a:pt x="860" y="990"/>
                    </a:moveTo>
                    <a:lnTo>
                      <a:pt x="778" y="945"/>
                    </a:lnTo>
                    <a:lnTo>
                      <a:pt x="713" y="890"/>
                    </a:lnTo>
                    <a:lnTo>
                      <a:pt x="641" y="835"/>
                    </a:lnTo>
                    <a:lnTo>
                      <a:pt x="576" y="780"/>
                    </a:lnTo>
                    <a:lnTo>
                      <a:pt x="512" y="716"/>
                    </a:lnTo>
                    <a:lnTo>
                      <a:pt x="448" y="661"/>
                    </a:lnTo>
                    <a:lnTo>
                      <a:pt x="393" y="596"/>
                    </a:lnTo>
                    <a:lnTo>
                      <a:pt x="338" y="542"/>
                    </a:lnTo>
                    <a:lnTo>
                      <a:pt x="292" y="477"/>
                    </a:lnTo>
                    <a:lnTo>
                      <a:pt x="237" y="414"/>
                    </a:lnTo>
                    <a:lnTo>
                      <a:pt x="191" y="340"/>
                    </a:lnTo>
                    <a:lnTo>
                      <a:pt x="155" y="275"/>
                    </a:lnTo>
                    <a:lnTo>
                      <a:pt x="110" y="212"/>
                    </a:lnTo>
                    <a:lnTo>
                      <a:pt x="72" y="138"/>
                    </a:lnTo>
                    <a:lnTo>
                      <a:pt x="36" y="7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025600" y="4631040"/>
                <a:ext cx="7920" cy="113760"/>
              </a:xfrm>
              <a:custGeom>
                <a:avLst/>
                <a:gdLst/>
                <a:ahLst/>
                <a:rect l="l" t="t" r="r" b="b"/>
                <a:pathLst>
                  <a:path w="18" h="284">
                    <a:moveTo>
                      <a:pt x="18" y="284"/>
                    </a:moveTo>
                    <a:lnTo>
                      <a:pt x="18" y="266"/>
                    </a:lnTo>
                    <a:lnTo>
                      <a:pt x="8" y="248"/>
                    </a:lnTo>
                    <a:lnTo>
                      <a:pt x="8" y="239"/>
                    </a:lnTo>
                    <a:lnTo>
                      <a:pt x="8" y="220"/>
                    </a:lnTo>
                    <a:lnTo>
                      <a:pt x="8" y="203"/>
                    </a:lnTo>
                    <a:lnTo>
                      <a:pt x="0" y="185"/>
                    </a:lnTo>
                    <a:lnTo>
                      <a:pt x="0" y="166"/>
                    </a:lnTo>
                    <a:lnTo>
                      <a:pt x="0" y="147"/>
                    </a:lnTo>
                    <a:lnTo>
                      <a:pt x="0" y="128"/>
                    </a:lnTo>
                    <a:lnTo>
                      <a:pt x="0" y="110"/>
                    </a:lnTo>
                    <a:lnTo>
                      <a:pt x="8" y="93"/>
                    </a:lnTo>
                    <a:lnTo>
                      <a:pt x="8" y="74"/>
                    </a:lnTo>
                    <a:lnTo>
                      <a:pt x="8" y="56"/>
                    </a:lnTo>
                    <a:lnTo>
                      <a:pt x="8" y="38"/>
                    </a:lnTo>
                    <a:lnTo>
                      <a:pt x="8" y="18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029560" y="4485240"/>
                <a:ext cx="31680" cy="145440"/>
              </a:xfrm>
              <a:custGeom>
                <a:avLst/>
                <a:gdLst/>
                <a:ahLst/>
                <a:rect l="l" t="t" r="r" b="b"/>
                <a:pathLst>
                  <a:path w="82" h="366">
                    <a:moveTo>
                      <a:pt x="0" y="366"/>
                    </a:moveTo>
                    <a:lnTo>
                      <a:pt x="0" y="339"/>
                    </a:lnTo>
                    <a:lnTo>
                      <a:pt x="10" y="321"/>
                    </a:lnTo>
                    <a:lnTo>
                      <a:pt x="10" y="294"/>
                    </a:lnTo>
                    <a:lnTo>
                      <a:pt x="10" y="275"/>
                    </a:lnTo>
                    <a:lnTo>
                      <a:pt x="19" y="247"/>
                    </a:lnTo>
                    <a:lnTo>
                      <a:pt x="19" y="229"/>
                    </a:lnTo>
                    <a:lnTo>
                      <a:pt x="27" y="202"/>
                    </a:lnTo>
                    <a:lnTo>
                      <a:pt x="37" y="175"/>
                    </a:lnTo>
                    <a:lnTo>
                      <a:pt x="37" y="156"/>
                    </a:lnTo>
                    <a:lnTo>
                      <a:pt x="46" y="128"/>
                    </a:lnTo>
                    <a:lnTo>
                      <a:pt x="46" y="110"/>
                    </a:lnTo>
                    <a:lnTo>
                      <a:pt x="55" y="83"/>
                    </a:lnTo>
                    <a:lnTo>
                      <a:pt x="64" y="65"/>
                    </a:lnTo>
                    <a:lnTo>
                      <a:pt x="74" y="46"/>
                    </a:lnTo>
                    <a:lnTo>
                      <a:pt x="74" y="19"/>
                    </a:lnTo>
                    <a:lnTo>
                      <a:pt x="82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061240" y="4313880"/>
                <a:ext cx="47880" cy="171360"/>
              </a:xfrm>
              <a:custGeom>
                <a:avLst/>
                <a:gdLst/>
                <a:ahLst/>
                <a:rect l="l" t="t" r="r" b="b"/>
                <a:pathLst>
                  <a:path w="119" h="431">
                    <a:moveTo>
                      <a:pt x="0" y="431"/>
                    </a:moveTo>
                    <a:lnTo>
                      <a:pt x="10" y="404"/>
                    </a:lnTo>
                    <a:lnTo>
                      <a:pt x="20" y="376"/>
                    </a:lnTo>
                    <a:lnTo>
                      <a:pt x="20" y="349"/>
                    </a:lnTo>
                    <a:lnTo>
                      <a:pt x="28" y="322"/>
                    </a:lnTo>
                    <a:lnTo>
                      <a:pt x="28" y="294"/>
                    </a:lnTo>
                    <a:lnTo>
                      <a:pt x="38" y="266"/>
                    </a:lnTo>
                    <a:lnTo>
                      <a:pt x="47" y="239"/>
                    </a:lnTo>
                    <a:lnTo>
                      <a:pt x="55" y="212"/>
                    </a:lnTo>
                    <a:lnTo>
                      <a:pt x="55" y="185"/>
                    </a:lnTo>
                    <a:lnTo>
                      <a:pt x="65" y="155"/>
                    </a:lnTo>
                    <a:lnTo>
                      <a:pt x="74" y="128"/>
                    </a:lnTo>
                    <a:lnTo>
                      <a:pt x="83" y="110"/>
                    </a:lnTo>
                    <a:lnTo>
                      <a:pt x="92" y="83"/>
                    </a:lnTo>
                    <a:lnTo>
                      <a:pt x="102" y="56"/>
                    </a:lnTo>
                    <a:lnTo>
                      <a:pt x="110" y="28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139360" y="4150440"/>
                <a:ext cx="74160" cy="111600"/>
              </a:xfrm>
              <a:custGeom>
                <a:avLst/>
                <a:gdLst/>
                <a:ahLst/>
                <a:rect l="l" t="t" r="r" b="b"/>
                <a:pathLst>
                  <a:path w="183" h="284">
                    <a:moveTo>
                      <a:pt x="0" y="284"/>
                    </a:moveTo>
                    <a:lnTo>
                      <a:pt x="9" y="266"/>
                    </a:lnTo>
                    <a:lnTo>
                      <a:pt x="19" y="248"/>
                    </a:lnTo>
                    <a:lnTo>
                      <a:pt x="36" y="229"/>
                    </a:lnTo>
                    <a:lnTo>
                      <a:pt x="46" y="211"/>
                    </a:lnTo>
                    <a:lnTo>
                      <a:pt x="64" y="193"/>
                    </a:lnTo>
                    <a:lnTo>
                      <a:pt x="73" y="174"/>
                    </a:lnTo>
                    <a:lnTo>
                      <a:pt x="82" y="156"/>
                    </a:lnTo>
                    <a:lnTo>
                      <a:pt x="92" y="138"/>
                    </a:lnTo>
                    <a:lnTo>
                      <a:pt x="101" y="119"/>
                    </a:lnTo>
                    <a:lnTo>
                      <a:pt x="119" y="101"/>
                    </a:lnTo>
                    <a:lnTo>
                      <a:pt x="128" y="82"/>
                    </a:lnTo>
                    <a:lnTo>
                      <a:pt x="137" y="64"/>
                    </a:lnTo>
                    <a:lnTo>
                      <a:pt x="146" y="46"/>
                    </a:lnTo>
                    <a:lnTo>
                      <a:pt x="156" y="27"/>
                    </a:lnTo>
                    <a:lnTo>
                      <a:pt x="174" y="18"/>
                    </a:lnTo>
                    <a:lnTo>
                      <a:pt x="18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13520" y="3834720"/>
                <a:ext cx="229680" cy="315360"/>
              </a:xfrm>
              <a:custGeom>
                <a:avLst/>
                <a:gdLst/>
                <a:ahLst/>
                <a:rect l="l" t="t" r="r" b="b"/>
                <a:pathLst>
                  <a:path w="577" h="788">
                    <a:moveTo>
                      <a:pt x="0" y="788"/>
                    </a:moveTo>
                    <a:lnTo>
                      <a:pt x="36" y="733"/>
                    </a:lnTo>
                    <a:lnTo>
                      <a:pt x="83" y="687"/>
                    </a:lnTo>
                    <a:lnTo>
                      <a:pt x="118" y="641"/>
                    </a:lnTo>
                    <a:lnTo>
                      <a:pt x="155" y="596"/>
                    </a:lnTo>
                    <a:lnTo>
                      <a:pt x="183" y="540"/>
                    </a:lnTo>
                    <a:lnTo>
                      <a:pt x="220" y="495"/>
                    </a:lnTo>
                    <a:lnTo>
                      <a:pt x="247" y="440"/>
                    </a:lnTo>
                    <a:lnTo>
                      <a:pt x="283" y="394"/>
                    </a:lnTo>
                    <a:lnTo>
                      <a:pt x="321" y="339"/>
                    </a:lnTo>
                    <a:lnTo>
                      <a:pt x="348" y="293"/>
                    </a:lnTo>
                    <a:lnTo>
                      <a:pt x="384" y="239"/>
                    </a:lnTo>
                    <a:lnTo>
                      <a:pt x="420" y="192"/>
                    </a:lnTo>
                    <a:lnTo>
                      <a:pt x="458" y="147"/>
                    </a:lnTo>
                    <a:lnTo>
                      <a:pt x="494" y="92"/>
                    </a:lnTo>
                    <a:lnTo>
                      <a:pt x="530" y="45"/>
                    </a:lnTo>
                    <a:lnTo>
                      <a:pt x="57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43560" y="3666600"/>
                <a:ext cx="123480" cy="167760"/>
              </a:xfrm>
              <a:custGeom>
                <a:avLst/>
                <a:gdLst/>
                <a:ahLst/>
                <a:rect l="l" t="t" r="r" b="b"/>
                <a:pathLst>
                  <a:path w="310" h="421">
                    <a:moveTo>
                      <a:pt x="0" y="421"/>
                    </a:moveTo>
                    <a:lnTo>
                      <a:pt x="9" y="394"/>
                    </a:lnTo>
                    <a:lnTo>
                      <a:pt x="27" y="366"/>
                    </a:lnTo>
                    <a:lnTo>
                      <a:pt x="45" y="338"/>
                    </a:lnTo>
                    <a:lnTo>
                      <a:pt x="63" y="311"/>
                    </a:lnTo>
                    <a:lnTo>
                      <a:pt x="82" y="284"/>
                    </a:lnTo>
                    <a:lnTo>
                      <a:pt x="100" y="256"/>
                    </a:lnTo>
                    <a:lnTo>
                      <a:pt x="118" y="229"/>
                    </a:lnTo>
                    <a:lnTo>
                      <a:pt x="146" y="210"/>
                    </a:lnTo>
                    <a:lnTo>
                      <a:pt x="165" y="182"/>
                    </a:lnTo>
                    <a:lnTo>
                      <a:pt x="182" y="155"/>
                    </a:lnTo>
                    <a:lnTo>
                      <a:pt x="210" y="128"/>
                    </a:lnTo>
                    <a:lnTo>
                      <a:pt x="228" y="100"/>
                    </a:lnTo>
                    <a:lnTo>
                      <a:pt x="247" y="72"/>
                    </a:lnTo>
                    <a:lnTo>
                      <a:pt x="275" y="54"/>
                    </a:lnTo>
                    <a:lnTo>
                      <a:pt x="292" y="27"/>
                    </a:lnTo>
                    <a:lnTo>
                      <a:pt x="31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567400" y="3571200"/>
                <a:ext cx="95760" cy="95400"/>
              </a:xfrm>
              <a:custGeom>
                <a:avLst/>
                <a:gdLst/>
                <a:ahLst/>
                <a:rect l="l" t="t" r="r" b="b"/>
                <a:pathLst>
                  <a:path w="239" h="239">
                    <a:moveTo>
                      <a:pt x="0" y="239"/>
                    </a:moveTo>
                    <a:lnTo>
                      <a:pt x="19" y="220"/>
                    </a:lnTo>
                    <a:lnTo>
                      <a:pt x="28" y="212"/>
                    </a:lnTo>
                    <a:lnTo>
                      <a:pt x="46" y="192"/>
                    </a:lnTo>
                    <a:lnTo>
                      <a:pt x="55" y="174"/>
                    </a:lnTo>
                    <a:lnTo>
                      <a:pt x="74" y="165"/>
                    </a:lnTo>
                    <a:lnTo>
                      <a:pt x="83" y="147"/>
                    </a:lnTo>
                    <a:lnTo>
                      <a:pt x="102" y="129"/>
                    </a:lnTo>
                    <a:lnTo>
                      <a:pt x="110" y="119"/>
                    </a:lnTo>
                    <a:lnTo>
                      <a:pt x="129" y="102"/>
                    </a:lnTo>
                    <a:lnTo>
                      <a:pt x="147" y="83"/>
                    </a:lnTo>
                    <a:lnTo>
                      <a:pt x="156" y="74"/>
                    </a:lnTo>
                    <a:lnTo>
                      <a:pt x="174" y="55"/>
                    </a:lnTo>
                    <a:lnTo>
                      <a:pt x="192" y="45"/>
                    </a:lnTo>
                    <a:lnTo>
                      <a:pt x="212" y="27"/>
                    </a:lnTo>
                    <a:lnTo>
                      <a:pt x="220" y="18"/>
                    </a:lnTo>
                    <a:lnTo>
                      <a:pt x="23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861440" y="3597120"/>
                <a:ext cx="727920" cy="592920"/>
              </a:xfrm>
              <a:custGeom>
                <a:avLst/>
                <a:gdLst/>
                <a:ahLst/>
                <a:rect l="l" t="t" r="r" b="b"/>
                <a:pathLst>
                  <a:path w="1820" h="1484">
                    <a:moveTo>
                      <a:pt x="1811" y="18"/>
                    </a:moveTo>
                    <a:lnTo>
                      <a:pt x="1793" y="45"/>
                    </a:lnTo>
                    <a:lnTo>
                      <a:pt x="1765" y="82"/>
                    </a:lnTo>
                    <a:lnTo>
                      <a:pt x="1747" y="109"/>
                    </a:lnTo>
                    <a:lnTo>
                      <a:pt x="1720" y="137"/>
                    </a:lnTo>
                    <a:lnTo>
                      <a:pt x="1702" y="174"/>
                    </a:lnTo>
                    <a:lnTo>
                      <a:pt x="1674" y="201"/>
                    </a:lnTo>
                    <a:lnTo>
                      <a:pt x="1655" y="228"/>
                    </a:lnTo>
                    <a:lnTo>
                      <a:pt x="1628" y="266"/>
                    </a:lnTo>
                    <a:lnTo>
                      <a:pt x="1601" y="293"/>
                    </a:lnTo>
                    <a:lnTo>
                      <a:pt x="1583" y="320"/>
                    </a:lnTo>
                    <a:lnTo>
                      <a:pt x="1555" y="356"/>
                    </a:lnTo>
                    <a:lnTo>
                      <a:pt x="1537" y="384"/>
                    </a:lnTo>
                    <a:lnTo>
                      <a:pt x="1510" y="412"/>
                    </a:lnTo>
                    <a:lnTo>
                      <a:pt x="1491" y="439"/>
                    </a:lnTo>
                    <a:lnTo>
                      <a:pt x="1464" y="476"/>
                    </a:lnTo>
                    <a:lnTo>
                      <a:pt x="1445" y="503"/>
                    </a:lnTo>
                    <a:lnTo>
                      <a:pt x="1445" y="512"/>
                    </a:lnTo>
                    <a:lnTo>
                      <a:pt x="1436" y="512"/>
                    </a:lnTo>
                    <a:lnTo>
                      <a:pt x="1427" y="522"/>
                    </a:lnTo>
                    <a:lnTo>
                      <a:pt x="1427" y="531"/>
                    </a:lnTo>
                    <a:lnTo>
                      <a:pt x="1417" y="540"/>
                    </a:lnTo>
                    <a:lnTo>
                      <a:pt x="1417" y="550"/>
                    </a:lnTo>
                    <a:lnTo>
                      <a:pt x="1408" y="558"/>
                    </a:lnTo>
                    <a:lnTo>
                      <a:pt x="1408" y="568"/>
                    </a:lnTo>
                    <a:lnTo>
                      <a:pt x="1400" y="577"/>
                    </a:lnTo>
                    <a:lnTo>
                      <a:pt x="1400" y="586"/>
                    </a:lnTo>
                    <a:lnTo>
                      <a:pt x="1390" y="586"/>
                    </a:lnTo>
                    <a:lnTo>
                      <a:pt x="1390" y="595"/>
                    </a:lnTo>
                    <a:lnTo>
                      <a:pt x="1345" y="650"/>
                    </a:lnTo>
                    <a:lnTo>
                      <a:pt x="1298" y="705"/>
                    </a:lnTo>
                    <a:lnTo>
                      <a:pt x="1262" y="759"/>
                    </a:lnTo>
                    <a:lnTo>
                      <a:pt x="1216" y="815"/>
                    </a:lnTo>
                    <a:lnTo>
                      <a:pt x="1180" y="869"/>
                    </a:lnTo>
                    <a:lnTo>
                      <a:pt x="1134" y="925"/>
                    </a:lnTo>
                    <a:lnTo>
                      <a:pt x="1089" y="979"/>
                    </a:lnTo>
                    <a:lnTo>
                      <a:pt x="1052" y="1035"/>
                    </a:lnTo>
                    <a:lnTo>
                      <a:pt x="1015" y="1090"/>
                    </a:lnTo>
                    <a:lnTo>
                      <a:pt x="969" y="1145"/>
                    </a:lnTo>
                    <a:lnTo>
                      <a:pt x="933" y="1200"/>
                    </a:lnTo>
                    <a:lnTo>
                      <a:pt x="896" y="1255"/>
                    </a:lnTo>
                    <a:lnTo>
                      <a:pt x="851" y="1310"/>
                    </a:lnTo>
                    <a:lnTo>
                      <a:pt x="814" y="1365"/>
                    </a:lnTo>
                    <a:lnTo>
                      <a:pt x="777" y="1419"/>
                    </a:lnTo>
                    <a:lnTo>
                      <a:pt x="741" y="1484"/>
                    </a:lnTo>
                    <a:lnTo>
                      <a:pt x="749" y="1457"/>
                    </a:lnTo>
                    <a:lnTo>
                      <a:pt x="759" y="1438"/>
                    </a:lnTo>
                    <a:lnTo>
                      <a:pt x="768" y="1410"/>
                    </a:lnTo>
                    <a:lnTo>
                      <a:pt x="777" y="1392"/>
                    </a:lnTo>
                    <a:lnTo>
                      <a:pt x="787" y="1365"/>
                    </a:lnTo>
                    <a:lnTo>
                      <a:pt x="805" y="1347"/>
                    </a:lnTo>
                    <a:lnTo>
                      <a:pt x="814" y="1320"/>
                    </a:lnTo>
                    <a:lnTo>
                      <a:pt x="832" y="1300"/>
                    </a:lnTo>
                    <a:lnTo>
                      <a:pt x="841" y="1273"/>
                    </a:lnTo>
                    <a:lnTo>
                      <a:pt x="851" y="1255"/>
                    </a:lnTo>
                    <a:lnTo>
                      <a:pt x="869" y="1228"/>
                    </a:lnTo>
                    <a:lnTo>
                      <a:pt x="878" y="1209"/>
                    </a:lnTo>
                    <a:lnTo>
                      <a:pt x="886" y="1181"/>
                    </a:lnTo>
                    <a:lnTo>
                      <a:pt x="896" y="1163"/>
                    </a:lnTo>
                    <a:lnTo>
                      <a:pt x="905" y="1135"/>
                    </a:lnTo>
                    <a:lnTo>
                      <a:pt x="914" y="1108"/>
                    </a:lnTo>
                    <a:lnTo>
                      <a:pt x="914" y="1090"/>
                    </a:lnTo>
                    <a:lnTo>
                      <a:pt x="924" y="1072"/>
                    </a:lnTo>
                    <a:lnTo>
                      <a:pt x="933" y="1054"/>
                    </a:lnTo>
                    <a:lnTo>
                      <a:pt x="933" y="1035"/>
                    </a:lnTo>
                    <a:lnTo>
                      <a:pt x="942" y="1016"/>
                    </a:lnTo>
                    <a:lnTo>
                      <a:pt x="942" y="989"/>
                    </a:lnTo>
                    <a:lnTo>
                      <a:pt x="951" y="971"/>
                    </a:lnTo>
                    <a:lnTo>
                      <a:pt x="951" y="952"/>
                    </a:lnTo>
                    <a:lnTo>
                      <a:pt x="951" y="934"/>
                    </a:lnTo>
                    <a:lnTo>
                      <a:pt x="951" y="906"/>
                    </a:lnTo>
                    <a:lnTo>
                      <a:pt x="951" y="888"/>
                    </a:lnTo>
                    <a:lnTo>
                      <a:pt x="942" y="869"/>
                    </a:lnTo>
                    <a:lnTo>
                      <a:pt x="942" y="852"/>
                    </a:lnTo>
                    <a:lnTo>
                      <a:pt x="924" y="834"/>
                    </a:lnTo>
                    <a:lnTo>
                      <a:pt x="914" y="815"/>
                    </a:lnTo>
                    <a:lnTo>
                      <a:pt x="896" y="797"/>
                    </a:lnTo>
                    <a:lnTo>
                      <a:pt x="869" y="779"/>
                    </a:lnTo>
                    <a:lnTo>
                      <a:pt x="841" y="750"/>
                    </a:lnTo>
                    <a:lnTo>
                      <a:pt x="805" y="732"/>
                    </a:lnTo>
                    <a:lnTo>
                      <a:pt x="777" y="714"/>
                    </a:lnTo>
                    <a:lnTo>
                      <a:pt x="741" y="696"/>
                    </a:lnTo>
                    <a:lnTo>
                      <a:pt x="714" y="687"/>
                    </a:lnTo>
                    <a:lnTo>
                      <a:pt x="677" y="668"/>
                    </a:lnTo>
                    <a:lnTo>
                      <a:pt x="639" y="660"/>
                    </a:lnTo>
                    <a:lnTo>
                      <a:pt x="604" y="650"/>
                    </a:lnTo>
                    <a:lnTo>
                      <a:pt x="567" y="640"/>
                    </a:lnTo>
                    <a:lnTo>
                      <a:pt x="530" y="640"/>
                    </a:lnTo>
                    <a:lnTo>
                      <a:pt x="484" y="632"/>
                    </a:lnTo>
                    <a:lnTo>
                      <a:pt x="447" y="632"/>
                    </a:lnTo>
                    <a:lnTo>
                      <a:pt x="412" y="632"/>
                    </a:lnTo>
                    <a:lnTo>
                      <a:pt x="365" y="632"/>
                    </a:lnTo>
                    <a:lnTo>
                      <a:pt x="329" y="632"/>
                    </a:lnTo>
                    <a:lnTo>
                      <a:pt x="310" y="632"/>
                    </a:lnTo>
                    <a:lnTo>
                      <a:pt x="292" y="632"/>
                    </a:lnTo>
                    <a:lnTo>
                      <a:pt x="275" y="632"/>
                    </a:lnTo>
                    <a:lnTo>
                      <a:pt x="247" y="632"/>
                    </a:lnTo>
                    <a:lnTo>
                      <a:pt x="228" y="632"/>
                    </a:lnTo>
                    <a:lnTo>
                      <a:pt x="210" y="632"/>
                    </a:lnTo>
                    <a:lnTo>
                      <a:pt x="182" y="640"/>
                    </a:lnTo>
                    <a:lnTo>
                      <a:pt x="165" y="640"/>
                    </a:lnTo>
                    <a:lnTo>
                      <a:pt x="146" y="632"/>
                    </a:lnTo>
                    <a:lnTo>
                      <a:pt x="128" y="632"/>
                    </a:lnTo>
                    <a:lnTo>
                      <a:pt x="109" y="632"/>
                    </a:lnTo>
                    <a:lnTo>
                      <a:pt x="90" y="622"/>
                    </a:lnTo>
                    <a:lnTo>
                      <a:pt x="72" y="613"/>
                    </a:lnTo>
                    <a:lnTo>
                      <a:pt x="63" y="604"/>
                    </a:lnTo>
                    <a:lnTo>
                      <a:pt x="55" y="586"/>
                    </a:lnTo>
                    <a:lnTo>
                      <a:pt x="45" y="568"/>
                    </a:lnTo>
                    <a:lnTo>
                      <a:pt x="36" y="550"/>
                    </a:lnTo>
                    <a:lnTo>
                      <a:pt x="27" y="531"/>
                    </a:lnTo>
                    <a:lnTo>
                      <a:pt x="18" y="512"/>
                    </a:lnTo>
                    <a:lnTo>
                      <a:pt x="18" y="485"/>
                    </a:lnTo>
                    <a:lnTo>
                      <a:pt x="9" y="466"/>
                    </a:lnTo>
                    <a:lnTo>
                      <a:pt x="9" y="448"/>
                    </a:lnTo>
                    <a:lnTo>
                      <a:pt x="0" y="421"/>
                    </a:lnTo>
                    <a:lnTo>
                      <a:pt x="0" y="403"/>
                    </a:lnTo>
                    <a:lnTo>
                      <a:pt x="0" y="375"/>
                    </a:lnTo>
                    <a:lnTo>
                      <a:pt x="9" y="356"/>
                    </a:lnTo>
                    <a:lnTo>
                      <a:pt x="9" y="338"/>
                    </a:lnTo>
                    <a:lnTo>
                      <a:pt x="9" y="311"/>
                    </a:lnTo>
                    <a:lnTo>
                      <a:pt x="18" y="293"/>
                    </a:lnTo>
                    <a:lnTo>
                      <a:pt x="27" y="274"/>
                    </a:lnTo>
                    <a:lnTo>
                      <a:pt x="36" y="256"/>
                    </a:lnTo>
                    <a:lnTo>
                      <a:pt x="45" y="228"/>
                    </a:lnTo>
                    <a:lnTo>
                      <a:pt x="45" y="219"/>
                    </a:lnTo>
                    <a:lnTo>
                      <a:pt x="55" y="210"/>
                    </a:lnTo>
                    <a:lnTo>
                      <a:pt x="63" y="201"/>
                    </a:lnTo>
                    <a:lnTo>
                      <a:pt x="72" y="192"/>
                    </a:lnTo>
                    <a:lnTo>
                      <a:pt x="72" y="174"/>
                    </a:lnTo>
                    <a:lnTo>
                      <a:pt x="82" y="164"/>
                    </a:lnTo>
                    <a:lnTo>
                      <a:pt x="90" y="155"/>
                    </a:lnTo>
                    <a:lnTo>
                      <a:pt x="100" y="147"/>
                    </a:lnTo>
                    <a:lnTo>
                      <a:pt x="109" y="137"/>
                    </a:lnTo>
                    <a:lnTo>
                      <a:pt x="118" y="127"/>
                    </a:lnTo>
                    <a:lnTo>
                      <a:pt x="128" y="119"/>
                    </a:lnTo>
                    <a:lnTo>
                      <a:pt x="146" y="109"/>
                    </a:lnTo>
                    <a:lnTo>
                      <a:pt x="155" y="100"/>
                    </a:lnTo>
                    <a:lnTo>
                      <a:pt x="165" y="91"/>
                    </a:lnTo>
                    <a:lnTo>
                      <a:pt x="173" y="82"/>
                    </a:lnTo>
                    <a:lnTo>
                      <a:pt x="182" y="72"/>
                    </a:lnTo>
                    <a:lnTo>
                      <a:pt x="200" y="72"/>
                    </a:lnTo>
                    <a:lnTo>
                      <a:pt x="219" y="72"/>
                    </a:lnTo>
                    <a:lnTo>
                      <a:pt x="237" y="82"/>
                    </a:lnTo>
                    <a:lnTo>
                      <a:pt x="265" y="82"/>
                    </a:lnTo>
                    <a:lnTo>
                      <a:pt x="283" y="82"/>
                    </a:lnTo>
                    <a:lnTo>
                      <a:pt x="302" y="82"/>
                    </a:lnTo>
                    <a:lnTo>
                      <a:pt x="320" y="82"/>
                    </a:lnTo>
                    <a:lnTo>
                      <a:pt x="337" y="91"/>
                    </a:lnTo>
                    <a:lnTo>
                      <a:pt x="356" y="91"/>
                    </a:lnTo>
                    <a:lnTo>
                      <a:pt x="384" y="91"/>
                    </a:lnTo>
                    <a:lnTo>
                      <a:pt x="402" y="91"/>
                    </a:lnTo>
                    <a:lnTo>
                      <a:pt x="420" y="91"/>
                    </a:lnTo>
                    <a:lnTo>
                      <a:pt x="439" y="91"/>
                    </a:lnTo>
                    <a:lnTo>
                      <a:pt x="457" y="91"/>
                    </a:lnTo>
                    <a:lnTo>
                      <a:pt x="484" y="91"/>
                    </a:lnTo>
                    <a:lnTo>
                      <a:pt x="502" y="100"/>
                    </a:lnTo>
                    <a:lnTo>
                      <a:pt x="512" y="100"/>
                    </a:lnTo>
                    <a:lnTo>
                      <a:pt x="522" y="91"/>
                    </a:lnTo>
                    <a:lnTo>
                      <a:pt x="540" y="91"/>
                    </a:lnTo>
                    <a:lnTo>
                      <a:pt x="549" y="100"/>
                    </a:lnTo>
                    <a:lnTo>
                      <a:pt x="557" y="100"/>
                    </a:lnTo>
                    <a:lnTo>
                      <a:pt x="576" y="100"/>
                    </a:lnTo>
                    <a:lnTo>
                      <a:pt x="585" y="100"/>
                    </a:lnTo>
                    <a:lnTo>
                      <a:pt x="594" y="100"/>
                    </a:lnTo>
                    <a:lnTo>
                      <a:pt x="604" y="100"/>
                    </a:lnTo>
                    <a:lnTo>
                      <a:pt x="612" y="109"/>
                    </a:lnTo>
                    <a:lnTo>
                      <a:pt x="631" y="109"/>
                    </a:lnTo>
                    <a:lnTo>
                      <a:pt x="639" y="109"/>
                    </a:lnTo>
                    <a:lnTo>
                      <a:pt x="649" y="109"/>
                    </a:lnTo>
                    <a:lnTo>
                      <a:pt x="659" y="109"/>
                    </a:lnTo>
                    <a:lnTo>
                      <a:pt x="677" y="109"/>
                    </a:lnTo>
                    <a:lnTo>
                      <a:pt x="686" y="109"/>
                    </a:lnTo>
                    <a:lnTo>
                      <a:pt x="695" y="109"/>
                    </a:lnTo>
                    <a:lnTo>
                      <a:pt x="704" y="100"/>
                    </a:lnTo>
                    <a:lnTo>
                      <a:pt x="722" y="100"/>
                    </a:lnTo>
                    <a:lnTo>
                      <a:pt x="731" y="100"/>
                    </a:lnTo>
                    <a:lnTo>
                      <a:pt x="741" y="100"/>
                    </a:lnTo>
                    <a:lnTo>
                      <a:pt x="749" y="100"/>
                    </a:lnTo>
                    <a:lnTo>
                      <a:pt x="768" y="100"/>
                    </a:lnTo>
                    <a:lnTo>
                      <a:pt x="777" y="100"/>
                    </a:lnTo>
                    <a:lnTo>
                      <a:pt x="787" y="100"/>
                    </a:lnTo>
                    <a:lnTo>
                      <a:pt x="805" y="100"/>
                    </a:lnTo>
                    <a:lnTo>
                      <a:pt x="814" y="100"/>
                    </a:lnTo>
                    <a:lnTo>
                      <a:pt x="823" y="100"/>
                    </a:lnTo>
                    <a:lnTo>
                      <a:pt x="841" y="100"/>
                    </a:lnTo>
                    <a:lnTo>
                      <a:pt x="851" y="109"/>
                    </a:lnTo>
                    <a:lnTo>
                      <a:pt x="859" y="109"/>
                    </a:lnTo>
                    <a:lnTo>
                      <a:pt x="869" y="109"/>
                    </a:lnTo>
                    <a:lnTo>
                      <a:pt x="886" y="109"/>
                    </a:lnTo>
                    <a:lnTo>
                      <a:pt x="905" y="109"/>
                    </a:lnTo>
                    <a:lnTo>
                      <a:pt x="924" y="109"/>
                    </a:lnTo>
                    <a:lnTo>
                      <a:pt x="942" y="109"/>
                    </a:lnTo>
                    <a:lnTo>
                      <a:pt x="961" y="109"/>
                    </a:lnTo>
                    <a:lnTo>
                      <a:pt x="979" y="109"/>
                    </a:lnTo>
                    <a:lnTo>
                      <a:pt x="996" y="100"/>
                    </a:lnTo>
                    <a:lnTo>
                      <a:pt x="1015" y="100"/>
                    </a:lnTo>
                    <a:lnTo>
                      <a:pt x="1024" y="100"/>
                    </a:lnTo>
                    <a:lnTo>
                      <a:pt x="1043" y="100"/>
                    </a:lnTo>
                    <a:lnTo>
                      <a:pt x="1061" y="100"/>
                    </a:lnTo>
                    <a:lnTo>
                      <a:pt x="1079" y="100"/>
                    </a:lnTo>
                    <a:lnTo>
                      <a:pt x="1098" y="91"/>
                    </a:lnTo>
                    <a:lnTo>
                      <a:pt x="1116" y="100"/>
                    </a:lnTo>
                    <a:lnTo>
                      <a:pt x="1134" y="100"/>
                    </a:lnTo>
                    <a:lnTo>
                      <a:pt x="1152" y="100"/>
                    </a:lnTo>
                    <a:lnTo>
                      <a:pt x="1189" y="100"/>
                    </a:lnTo>
                    <a:lnTo>
                      <a:pt x="1235" y="100"/>
                    </a:lnTo>
                    <a:lnTo>
                      <a:pt x="1280" y="100"/>
                    </a:lnTo>
                    <a:lnTo>
                      <a:pt x="1318" y="91"/>
                    </a:lnTo>
                    <a:lnTo>
                      <a:pt x="1363" y="91"/>
                    </a:lnTo>
                    <a:lnTo>
                      <a:pt x="1400" y="91"/>
                    </a:lnTo>
                    <a:lnTo>
                      <a:pt x="1445" y="82"/>
                    </a:lnTo>
                    <a:lnTo>
                      <a:pt x="1482" y="72"/>
                    </a:lnTo>
                    <a:lnTo>
                      <a:pt x="1527" y="72"/>
                    </a:lnTo>
                    <a:lnTo>
                      <a:pt x="1564" y="64"/>
                    </a:lnTo>
                    <a:lnTo>
                      <a:pt x="1601" y="54"/>
                    </a:lnTo>
                    <a:lnTo>
                      <a:pt x="1647" y="45"/>
                    </a:lnTo>
                    <a:lnTo>
                      <a:pt x="1683" y="37"/>
                    </a:lnTo>
                    <a:lnTo>
                      <a:pt x="1720" y="27"/>
                    </a:lnTo>
                    <a:lnTo>
                      <a:pt x="1757" y="18"/>
                    </a:lnTo>
                    <a:lnTo>
                      <a:pt x="1793" y="0"/>
                    </a:lnTo>
                    <a:lnTo>
                      <a:pt x="1820" y="0"/>
                    </a:lnTo>
                    <a:lnTo>
                      <a:pt x="1811" y="18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439600" y="3605040"/>
                <a:ext cx="145800" cy="193320"/>
              </a:xfrm>
              <a:custGeom>
                <a:avLst/>
                <a:gdLst/>
                <a:ahLst/>
                <a:rect l="l" t="t" r="r" b="b"/>
                <a:pathLst>
                  <a:path w="366" h="485">
                    <a:moveTo>
                      <a:pt x="366" y="0"/>
                    </a:moveTo>
                    <a:lnTo>
                      <a:pt x="348" y="27"/>
                    </a:lnTo>
                    <a:lnTo>
                      <a:pt x="320" y="64"/>
                    </a:lnTo>
                    <a:lnTo>
                      <a:pt x="302" y="91"/>
                    </a:lnTo>
                    <a:lnTo>
                      <a:pt x="275" y="119"/>
                    </a:lnTo>
                    <a:lnTo>
                      <a:pt x="257" y="156"/>
                    </a:lnTo>
                    <a:lnTo>
                      <a:pt x="229" y="183"/>
                    </a:lnTo>
                    <a:lnTo>
                      <a:pt x="210" y="210"/>
                    </a:lnTo>
                    <a:lnTo>
                      <a:pt x="183" y="248"/>
                    </a:lnTo>
                    <a:lnTo>
                      <a:pt x="156" y="275"/>
                    </a:lnTo>
                    <a:lnTo>
                      <a:pt x="138" y="302"/>
                    </a:lnTo>
                    <a:lnTo>
                      <a:pt x="110" y="338"/>
                    </a:lnTo>
                    <a:lnTo>
                      <a:pt x="92" y="366"/>
                    </a:lnTo>
                    <a:lnTo>
                      <a:pt x="65" y="394"/>
                    </a:lnTo>
                    <a:lnTo>
                      <a:pt x="46" y="421"/>
                    </a:lnTo>
                    <a:lnTo>
                      <a:pt x="19" y="458"/>
                    </a:lnTo>
                    <a:lnTo>
                      <a:pt x="0" y="48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157360" y="3834720"/>
                <a:ext cx="259560" cy="355320"/>
              </a:xfrm>
              <a:custGeom>
                <a:avLst/>
                <a:gdLst/>
                <a:ahLst/>
                <a:rect l="l" t="t" r="r" b="b"/>
                <a:pathLst>
                  <a:path w="649" h="889">
                    <a:moveTo>
                      <a:pt x="649" y="0"/>
                    </a:moveTo>
                    <a:lnTo>
                      <a:pt x="604" y="55"/>
                    </a:lnTo>
                    <a:lnTo>
                      <a:pt x="557" y="110"/>
                    </a:lnTo>
                    <a:lnTo>
                      <a:pt x="521" y="164"/>
                    </a:lnTo>
                    <a:lnTo>
                      <a:pt x="475" y="220"/>
                    </a:lnTo>
                    <a:lnTo>
                      <a:pt x="439" y="274"/>
                    </a:lnTo>
                    <a:lnTo>
                      <a:pt x="393" y="330"/>
                    </a:lnTo>
                    <a:lnTo>
                      <a:pt x="348" y="384"/>
                    </a:lnTo>
                    <a:lnTo>
                      <a:pt x="311" y="440"/>
                    </a:lnTo>
                    <a:lnTo>
                      <a:pt x="274" y="495"/>
                    </a:lnTo>
                    <a:lnTo>
                      <a:pt x="228" y="550"/>
                    </a:lnTo>
                    <a:lnTo>
                      <a:pt x="192" y="605"/>
                    </a:lnTo>
                    <a:lnTo>
                      <a:pt x="155" y="660"/>
                    </a:lnTo>
                    <a:lnTo>
                      <a:pt x="110" y="715"/>
                    </a:lnTo>
                    <a:lnTo>
                      <a:pt x="73" y="770"/>
                    </a:lnTo>
                    <a:lnTo>
                      <a:pt x="36" y="824"/>
                    </a:lnTo>
                    <a:lnTo>
                      <a:pt x="0" y="88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157360" y="4040280"/>
                <a:ext cx="69480" cy="149760"/>
              </a:xfrm>
              <a:custGeom>
                <a:avLst/>
                <a:gdLst/>
                <a:ahLst/>
                <a:rect l="l" t="t" r="r" b="b"/>
                <a:pathLst>
                  <a:path w="173" h="376">
                    <a:moveTo>
                      <a:pt x="0" y="376"/>
                    </a:moveTo>
                    <a:lnTo>
                      <a:pt x="8" y="349"/>
                    </a:lnTo>
                    <a:lnTo>
                      <a:pt x="18" y="330"/>
                    </a:lnTo>
                    <a:lnTo>
                      <a:pt x="27" y="302"/>
                    </a:lnTo>
                    <a:lnTo>
                      <a:pt x="36" y="284"/>
                    </a:lnTo>
                    <a:lnTo>
                      <a:pt x="46" y="257"/>
                    </a:lnTo>
                    <a:lnTo>
                      <a:pt x="64" y="239"/>
                    </a:lnTo>
                    <a:lnTo>
                      <a:pt x="73" y="212"/>
                    </a:lnTo>
                    <a:lnTo>
                      <a:pt x="91" y="192"/>
                    </a:lnTo>
                    <a:lnTo>
                      <a:pt x="100" y="165"/>
                    </a:lnTo>
                    <a:lnTo>
                      <a:pt x="110" y="147"/>
                    </a:lnTo>
                    <a:lnTo>
                      <a:pt x="128" y="120"/>
                    </a:lnTo>
                    <a:lnTo>
                      <a:pt x="137" y="101"/>
                    </a:lnTo>
                    <a:lnTo>
                      <a:pt x="145" y="73"/>
                    </a:lnTo>
                    <a:lnTo>
                      <a:pt x="155" y="55"/>
                    </a:lnTo>
                    <a:lnTo>
                      <a:pt x="164" y="27"/>
                    </a:lnTo>
                    <a:lnTo>
                      <a:pt x="17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219640" y="3914280"/>
                <a:ext cx="21600" cy="125640"/>
              </a:xfrm>
              <a:custGeom>
                <a:avLst/>
                <a:gdLst/>
                <a:ahLst/>
                <a:rect l="l" t="t" r="r" b="b"/>
                <a:pathLst>
                  <a:path w="55" h="311">
                    <a:moveTo>
                      <a:pt x="18" y="311"/>
                    </a:moveTo>
                    <a:lnTo>
                      <a:pt x="18" y="293"/>
                    </a:lnTo>
                    <a:lnTo>
                      <a:pt x="28" y="275"/>
                    </a:lnTo>
                    <a:lnTo>
                      <a:pt x="37" y="257"/>
                    </a:lnTo>
                    <a:lnTo>
                      <a:pt x="37" y="238"/>
                    </a:lnTo>
                    <a:lnTo>
                      <a:pt x="46" y="219"/>
                    </a:lnTo>
                    <a:lnTo>
                      <a:pt x="46" y="192"/>
                    </a:lnTo>
                    <a:lnTo>
                      <a:pt x="55" y="174"/>
                    </a:lnTo>
                    <a:lnTo>
                      <a:pt x="55" y="155"/>
                    </a:lnTo>
                    <a:lnTo>
                      <a:pt x="55" y="137"/>
                    </a:lnTo>
                    <a:lnTo>
                      <a:pt x="55" y="109"/>
                    </a:lnTo>
                    <a:lnTo>
                      <a:pt x="55" y="91"/>
                    </a:lnTo>
                    <a:lnTo>
                      <a:pt x="46" y="72"/>
                    </a:lnTo>
                    <a:lnTo>
                      <a:pt x="46" y="55"/>
                    </a:lnTo>
                    <a:lnTo>
                      <a:pt x="28" y="37"/>
                    </a:lnTo>
                    <a:lnTo>
                      <a:pt x="18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993200" y="3848760"/>
                <a:ext cx="226080" cy="65520"/>
              </a:xfrm>
              <a:custGeom>
                <a:avLst/>
                <a:gdLst/>
                <a:ahLst/>
                <a:rect l="l" t="t" r="r" b="b"/>
                <a:pathLst>
                  <a:path w="567" h="165">
                    <a:moveTo>
                      <a:pt x="567" y="165"/>
                    </a:moveTo>
                    <a:lnTo>
                      <a:pt x="540" y="147"/>
                    </a:lnTo>
                    <a:lnTo>
                      <a:pt x="512" y="118"/>
                    </a:lnTo>
                    <a:lnTo>
                      <a:pt x="476" y="100"/>
                    </a:lnTo>
                    <a:lnTo>
                      <a:pt x="448" y="82"/>
                    </a:lnTo>
                    <a:lnTo>
                      <a:pt x="412" y="64"/>
                    </a:lnTo>
                    <a:lnTo>
                      <a:pt x="385" y="55"/>
                    </a:lnTo>
                    <a:lnTo>
                      <a:pt x="348" y="36"/>
                    </a:lnTo>
                    <a:lnTo>
                      <a:pt x="310" y="28"/>
                    </a:lnTo>
                    <a:lnTo>
                      <a:pt x="275" y="18"/>
                    </a:lnTo>
                    <a:lnTo>
                      <a:pt x="238" y="8"/>
                    </a:lnTo>
                    <a:lnTo>
                      <a:pt x="201" y="8"/>
                    </a:lnTo>
                    <a:lnTo>
                      <a:pt x="155" y="0"/>
                    </a:lnTo>
                    <a:lnTo>
                      <a:pt x="118" y="0"/>
                    </a:lnTo>
                    <a:lnTo>
                      <a:pt x="83" y="0"/>
                    </a:ln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861440" y="3688920"/>
                <a:ext cx="18000" cy="135720"/>
              </a:xfrm>
              <a:custGeom>
                <a:avLst/>
                <a:gdLst/>
                <a:ahLst/>
                <a:rect l="l" t="t" r="r" b="b"/>
                <a:pathLst>
                  <a:path w="45" h="340">
                    <a:moveTo>
                      <a:pt x="45" y="340"/>
                    </a:moveTo>
                    <a:lnTo>
                      <a:pt x="36" y="322"/>
                    </a:lnTo>
                    <a:lnTo>
                      <a:pt x="27" y="303"/>
                    </a:lnTo>
                    <a:lnTo>
                      <a:pt x="18" y="284"/>
                    </a:lnTo>
                    <a:lnTo>
                      <a:pt x="18" y="257"/>
                    </a:lnTo>
                    <a:lnTo>
                      <a:pt x="9" y="238"/>
                    </a:lnTo>
                    <a:lnTo>
                      <a:pt x="9" y="220"/>
                    </a:lnTo>
                    <a:lnTo>
                      <a:pt x="0" y="193"/>
                    </a:lnTo>
                    <a:lnTo>
                      <a:pt x="0" y="175"/>
                    </a:lnTo>
                    <a:lnTo>
                      <a:pt x="0" y="147"/>
                    </a:lnTo>
                    <a:lnTo>
                      <a:pt x="9" y="128"/>
                    </a:lnTo>
                    <a:lnTo>
                      <a:pt x="9" y="110"/>
                    </a:lnTo>
                    <a:lnTo>
                      <a:pt x="9" y="83"/>
                    </a:lnTo>
                    <a:lnTo>
                      <a:pt x="18" y="65"/>
                    </a:lnTo>
                    <a:lnTo>
                      <a:pt x="27" y="46"/>
                    </a:lnTo>
                    <a:lnTo>
                      <a:pt x="36" y="28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4879440" y="3625200"/>
                <a:ext cx="53640" cy="63720"/>
              </a:xfrm>
              <a:custGeom>
                <a:avLst/>
                <a:gdLst/>
                <a:ahLst/>
                <a:rect l="l" t="t" r="r" b="b"/>
                <a:pathLst>
                  <a:path w="137" h="156">
                    <a:moveTo>
                      <a:pt x="0" y="156"/>
                    </a:moveTo>
                    <a:lnTo>
                      <a:pt x="0" y="147"/>
                    </a:lnTo>
                    <a:lnTo>
                      <a:pt x="10" y="138"/>
                    </a:lnTo>
                    <a:lnTo>
                      <a:pt x="18" y="129"/>
                    </a:lnTo>
                    <a:lnTo>
                      <a:pt x="27" y="120"/>
                    </a:lnTo>
                    <a:lnTo>
                      <a:pt x="27" y="102"/>
                    </a:lnTo>
                    <a:lnTo>
                      <a:pt x="37" y="92"/>
                    </a:lnTo>
                    <a:lnTo>
                      <a:pt x="45" y="83"/>
                    </a:lnTo>
                    <a:lnTo>
                      <a:pt x="55" y="75"/>
                    </a:lnTo>
                    <a:lnTo>
                      <a:pt x="64" y="65"/>
                    </a:lnTo>
                    <a:lnTo>
                      <a:pt x="73" y="55"/>
                    </a:lnTo>
                    <a:lnTo>
                      <a:pt x="83" y="47"/>
                    </a:lnTo>
                    <a:lnTo>
                      <a:pt x="101" y="37"/>
                    </a:lnTo>
                    <a:lnTo>
                      <a:pt x="110" y="28"/>
                    </a:lnTo>
                    <a:lnTo>
                      <a:pt x="120" y="19"/>
                    </a:lnTo>
                    <a:lnTo>
                      <a:pt x="128" y="10"/>
                    </a:lnTo>
                    <a:lnTo>
                      <a:pt x="13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627440" y="3625200"/>
                <a:ext cx="277560" cy="223560"/>
              </a:xfrm>
              <a:custGeom>
                <a:avLst/>
                <a:gdLst/>
                <a:ahLst/>
                <a:rect l="l" t="t" r="r" b="b"/>
                <a:pathLst>
                  <a:path w="695" h="560">
                    <a:moveTo>
                      <a:pt x="576" y="129"/>
                    </a:moveTo>
                    <a:lnTo>
                      <a:pt x="566" y="129"/>
                    </a:lnTo>
                    <a:lnTo>
                      <a:pt x="558" y="129"/>
                    </a:lnTo>
                    <a:lnTo>
                      <a:pt x="558" y="138"/>
                    </a:lnTo>
                    <a:lnTo>
                      <a:pt x="548" y="138"/>
                    </a:lnTo>
                    <a:lnTo>
                      <a:pt x="539" y="138"/>
                    </a:lnTo>
                    <a:lnTo>
                      <a:pt x="531" y="138"/>
                    </a:lnTo>
                    <a:lnTo>
                      <a:pt x="521" y="138"/>
                    </a:lnTo>
                    <a:lnTo>
                      <a:pt x="512" y="138"/>
                    </a:lnTo>
                    <a:lnTo>
                      <a:pt x="503" y="147"/>
                    </a:lnTo>
                    <a:lnTo>
                      <a:pt x="494" y="147"/>
                    </a:lnTo>
                    <a:lnTo>
                      <a:pt x="485" y="147"/>
                    </a:lnTo>
                    <a:lnTo>
                      <a:pt x="476" y="147"/>
                    </a:lnTo>
                    <a:lnTo>
                      <a:pt x="449" y="156"/>
                    </a:lnTo>
                    <a:lnTo>
                      <a:pt x="421" y="165"/>
                    </a:lnTo>
                    <a:lnTo>
                      <a:pt x="393" y="184"/>
                    </a:lnTo>
                    <a:lnTo>
                      <a:pt x="375" y="194"/>
                    </a:lnTo>
                    <a:lnTo>
                      <a:pt x="357" y="212"/>
                    </a:lnTo>
                    <a:lnTo>
                      <a:pt x="330" y="230"/>
                    </a:lnTo>
                    <a:lnTo>
                      <a:pt x="311" y="248"/>
                    </a:lnTo>
                    <a:lnTo>
                      <a:pt x="292" y="266"/>
                    </a:lnTo>
                    <a:lnTo>
                      <a:pt x="283" y="294"/>
                    </a:lnTo>
                    <a:lnTo>
                      <a:pt x="265" y="312"/>
                    </a:lnTo>
                    <a:lnTo>
                      <a:pt x="247" y="340"/>
                    </a:lnTo>
                    <a:lnTo>
                      <a:pt x="229" y="358"/>
                    </a:lnTo>
                    <a:lnTo>
                      <a:pt x="220" y="376"/>
                    </a:lnTo>
                    <a:lnTo>
                      <a:pt x="202" y="404"/>
                    </a:lnTo>
                    <a:lnTo>
                      <a:pt x="182" y="421"/>
                    </a:lnTo>
                    <a:lnTo>
                      <a:pt x="164" y="440"/>
                    </a:lnTo>
                    <a:lnTo>
                      <a:pt x="155" y="450"/>
                    </a:lnTo>
                    <a:lnTo>
                      <a:pt x="146" y="459"/>
                    </a:lnTo>
                    <a:lnTo>
                      <a:pt x="137" y="468"/>
                    </a:lnTo>
                    <a:lnTo>
                      <a:pt x="137" y="478"/>
                    </a:lnTo>
                    <a:lnTo>
                      <a:pt x="127" y="486"/>
                    </a:lnTo>
                    <a:lnTo>
                      <a:pt x="119" y="496"/>
                    </a:lnTo>
                    <a:lnTo>
                      <a:pt x="110" y="505"/>
                    </a:lnTo>
                    <a:lnTo>
                      <a:pt x="100" y="514"/>
                    </a:lnTo>
                    <a:lnTo>
                      <a:pt x="92" y="523"/>
                    </a:lnTo>
                    <a:lnTo>
                      <a:pt x="82" y="532"/>
                    </a:lnTo>
                    <a:lnTo>
                      <a:pt x="73" y="541"/>
                    </a:lnTo>
                    <a:lnTo>
                      <a:pt x="64" y="550"/>
                    </a:lnTo>
                    <a:lnTo>
                      <a:pt x="45" y="550"/>
                    </a:lnTo>
                    <a:lnTo>
                      <a:pt x="36" y="560"/>
                    </a:lnTo>
                    <a:lnTo>
                      <a:pt x="27" y="560"/>
                    </a:lnTo>
                    <a:lnTo>
                      <a:pt x="17" y="550"/>
                    </a:lnTo>
                    <a:lnTo>
                      <a:pt x="17" y="541"/>
                    </a:lnTo>
                    <a:lnTo>
                      <a:pt x="9" y="532"/>
                    </a:lnTo>
                    <a:lnTo>
                      <a:pt x="9" y="523"/>
                    </a:lnTo>
                    <a:lnTo>
                      <a:pt x="9" y="514"/>
                    </a:lnTo>
                    <a:lnTo>
                      <a:pt x="0" y="505"/>
                    </a:lnTo>
                    <a:lnTo>
                      <a:pt x="0" y="496"/>
                    </a:lnTo>
                    <a:lnTo>
                      <a:pt x="0" y="486"/>
                    </a:lnTo>
                    <a:lnTo>
                      <a:pt x="0" y="478"/>
                    </a:lnTo>
                    <a:lnTo>
                      <a:pt x="0" y="468"/>
                    </a:lnTo>
                    <a:lnTo>
                      <a:pt x="0" y="459"/>
                    </a:lnTo>
                    <a:lnTo>
                      <a:pt x="0" y="450"/>
                    </a:lnTo>
                    <a:lnTo>
                      <a:pt x="0" y="440"/>
                    </a:lnTo>
                    <a:lnTo>
                      <a:pt x="0" y="431"/>
                    </a:lnTo>
                    <a:lnTo>
                      <a:pt x="0" y="421"/>
                    </a:lnTo>
                    <a:lnTo>
                      <a:pt x="0" y="394"/>
                    </a:lnTo>
                    <a:lnTo>
                      <a:pt x="9" y="367"/>
                    </a:lnTo>
                    <a:lnTo>
                      <a:pt x="17" y="349"/>
                    </a:lnTo>
                    <a:lnTo>
                      <a:pt x="36" y="322"/>
                    </a:lnTo>
                    <a:lnTo>
                      <a:pt x="55" y="294"/>
                    </a:lnTo>
                    <a:lnTo>
                      <a:pt x="73" y="276"/>
                    </a:lnTo>
                    <a:lnTo>
                      <a:pt x="92" y="257"/>
                    </a:lnTo>
                    <a:lnTo>
                      <a:pt x="110" y="239"/>
                    </a:lnTo>
                    <a:lnTo>
                      <a:pt x="137" y="212"/>
                    </a:lnTo>
                    <a:lnTo>
                      <a:pt x="164" y="194"/>
                    </a:lnTo>
                    <a:lnTo>
                      <a:pt x="182" y="184"/>
                    </a:lnTo>
                    <a:lnTo>
                      <a:pt x="210" y="165"/>
                    </a:lnTo>
                    <a:lnTo>
                      <a:pt x="237" y="147"/>
                    </a:lnTo>
                    <a:lnTo>
                      <a:pt x="265" y="129"/>
                    </a:lnTo>
                    <a:lnTo>
                      <a:pt x="292" y="120"/>
                    </a:lnTo>
                    <a:lnTo>
                      <a:pt x="311" y="102"/>
                    </a:lnTo>
                    <a:lnTo>
                      <a:pt x="330" y="92"/>
                    </a:lnTo>
                    <a:lnTo>
                      <a:pt x="347" y="83"/>
                    </a:lnTo>
                    <a:lnTo>
                      <a:pt x="366" y="83"/>
                    </a:lnTo>
                    <a:lnTo>
                      <a:pt x="384" y="75"/>
                    </a:lnTo>
                    <a:lnTo>
                      <a:pt x="411" y="65"/>
                    </a:lnTo>
                    <a:lnTo>
                      <a:pt x="429" y="55"/>
                    </a:lnTo>
                    <a:lnTo>
                      <a:pt x="449" y="55"/>
                    </a:lnTo>
                    <a:lnTo>
                      <a:pt x="467" y="47"/>
                    </a:lnTo>
                    <a:lnTo>
                      <a:pt x="485" y="47"/>
                    </a:lnTo>
                    <a:lnTo>
                      <a:pt x="503" y="37"/>
                    </a:lnTo>
                    <a:lnTo>
                      <a:pt x="521" y="37"/>
                    </a:lnTo>
                    <a:lnTo>
                      <a:pt x="539" y="28"/>
                    </a:lnTo>
                    <a:lnTo>
                      <a:pt x="566" y="28"/>
                    </a:lnTo>
                    <a:lnTo>
                      <a:pt x="586" y="19"/>
                    </a:lnTo>
                    <a:lnTo>
                      <a:pt x="604" y="19"/>
                    </a:lnTo>
                    <a:lnTo>
                      <a:pt x="622" y="10"/>
                    </a:lnTo>
                    <a:lnTo>
                      <a:pt x="631" y="10"/>
                    </a:lnTo>
                    <a:lnTo>
                      <a:pt x="641" y="10"/>
                    </a:lnTo>
                    <a:lnTo>
                      <a:pt x="649" y="0"/>
                    </a:lnTo>
                    <a:lnTo>
                      <a:pt x="658" y="0"/>
                    </a:lnTo>
                    <a:lnTo>
                      <a:pt x="668" y="0"/>
                    </a:lnTo>
                    <a:lnTo>
                      <a:pt x="676" y="0"/>
                    </a:lnTo>
                    <a:lnTo>
                      <a:pt x="686" y="0"/>
                    </a:lnTo>
                    <a:lnTo>
                      <a:pt x="695" y="0"/>
                    </a:lnTo>
                    <a:lnTo>
                      <a:pt x="566" y="129"/>
                    </a:lnTo>
                    <a:lnTo>
                      <a:pt x="576" y="129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693680" y="3684960"/>
                <a:ext cx="123480" cy="115560"/>
              </a:xfrm>
              <a:custGeom>
                <a:avLst/>
                <a:gdLst/>
                <a:ahLst/>
                <a:rect l="l" t="t" r="r" b="b"/>
                <a:pathLst>
                  <a:path w="312" h="293">
                    <a:moveTo>
                      <a:pt x="312" y="0"/>
                    </a:moveTo>
                    <a:lnTo>
                      <a:pt x="285" y="9"/>
                    </a:lnTo>
                    <a:lnTo>
                      <a:pt x="257" y="18"/>
                    </a:lnTo>
                    <a:lnTo>
                      <a:pt x="229" y="37"/>
                    </a:lnTo>
                    <a:lnTo>
                      <a:pt x="211" y="47"/>
                    </a:lnTo>
                    <a:lnTo>
                      <a:pt x="193" y="65"/>
                    </a:lnTo>
                    <a:lnTo>
                      <a:pt x="166" y="83"/>
                    </a:lnTo>
                    <a:lnTo>
                      <a:pt x="147" y="101"/>
                    </a:lnTo>
                    <a:lnTo>
                      <a:pt x="128" y="119"/>
                    </a:lnTo>
                    <a:lnTo>
                      <a:pt x="119" y="147"/>
                    </a:lnTo>
                    <a:lnTo>
                      <a:pt x="101" y="165"/>
                    </a:lnTo>
                    <a:lnTo>
                      <a:pt x="83" y="193"/>
                    </a:lnTo>
                    <a:lnTo>
                      <a:pt x="65" y="211"/>
                    </a:lnTo>
                    <a:lnTo>
                      <a:pt x="56" y="229"/>
                    </a:lnTo>
                    <a:lnTo>
                      <a:pt x="38" y="257"/>
                    </a:lnTo>
                    <a:lnTo>
                      <a:pt x="18" y="274"/>
                    </a:lnTo>
                    <a:lnTo>
                      <a:pt x="0" y="29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627440" y="3794760"/>
                <a:ext cx="10080" cy="536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27" y="139"/>
                    </a:moveTo>
                    <a:lnTo>
                      <a:pt x="17" y="129"/>
                    </a:lnTo>
                    <a:lnTo>
                      <a:pt x="17" y="120"/>
                    </a:lnTo>
                    <a:lnTo>
                      <a:pt x="9" y="111"/>
                    </a:lnTo>
                    <a:lnTo>
                      <a:pt x="9" y="102"/>
                    </a:lnTo>
                    <a:lnTo>
                      <a:pt x="9" y="93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0" y="38"/>
                    </a:lnTo>
                    <a:lnTo>
                      <a:pt x="0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627440" y="3666600"/>
                <a:ext cx="124200" cy="127800"/>
              </a:xfrm>
              <a:custGeom>
                <a:avLst/>
                <a:gdLst/>
                <a:ahLst/>
                <a:rect l="l" t="t" r="r" b="b"/>
                <a:pathLst>
                  <a:path w="311" h="319">
                    <a:moveTo>
                      <a:pt x="0" y="319"/>
                    </a:moveTo>
                    <a:lnTo>
                      <a:pt x="0" y="292"/>
                    </a:lnTo>
                    <a:lnTo>
                      <a:pt x="9" y="265"/>
                    </a:lnTo>
                    <a:lnTo>
                      <a:pt x="17" y="247"/>
                    </a:lnTo>
                    <a:lnTo>
                      <a:pt x="36" y="220"/>
                    </a:lnTo>
                    <a:lnTo>
                      <a:pt x="55" y="192"/>
                    </a:lnTo>
                    <a:lnTo>
                      <a:pt x="73" y="174"/>
                    </a:lnTo>
                    <a:lnTo>
                      <a:pt x="92" y="155"/>
                    </a:lnTo>
                    <a:lnTo>
                      <a:pt x="110" y="137"/>
                    </a:lnTo>
                    <a:lnTo>
                      <a:pt x="137" y="110"/>
                    </a:lnTo>
                    <a:lnTo>
                      <a:pt x="164" y="92"/>
                    </a:lnTo>
                    <a:lnTo>
                      <a:pt x="182" y="82"/>
                    </a:lnTo>
                    <a:lnTo>
                      <a:pt x="210" y="63"/>
                    </a:lnTo>
                    <a:lnTo>
                      <a:pt x="237" y="45"/>
                    </a:lnTo>
                    <a:lnTo>
                      <a:pt x="265" y="27"/>
                    </a:lnTo>
                    <a:lnTo>
                      <a:pt x="292" y="18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566760" y="3786840"/>
                <a:ext cx="475200" cy="131400"/>
              </a:xfrm>
              <a:custGeom>
                <a:avLst/>
                <a:gdLst/>
                <a:ahLst/>
                <a:rect l="l" t="t" r="r" b="b"/>
                <a:pathLst>
                  <a:path w="1190" h="331">
                    <a:moveTo>
                      <a:pt x="604" y="46"/>
                    </a:moveTo>
                    <a:lnTo>
                      <a:pt x="613" y="46"/>
                    </a:lnTo>
                    <a:lnTo>
                      <a:pt x="631" y="55"/>
                    </a:lnTo>
                    <a:lnTo>
                      <a:pt x="641" y="55"/>
                    </a:lnTo>
                    <a:lnTo>
                      <a:pt x="650" y="55"/>
                    </a:lnTo>
                    <a:lnTo>
                      <a:pt x="668" y="55"/>
                    </a:lnTo>
                    <a:lnTo>
                      <a:pt x="677" y="55"/>
                    </a:lnTo>
                    <a:lnTo>
                      <a:pt x="686" y="55"/>
                    </a:lnTo>
                    <a:lnTo>
                      <a:pt x="705" y="55"/>
                    </a:lnTo>
                    <a:lnTo>
                      <a:pt x="713" y="64"/>
                    </a:lnTo>
                    <a:lnTo>
                      <a:pt x="723" y="64"/>
                    </a:lnTo>
                    <a:lnTo>
                      <a:pt x="741" y="64"/>
                    </a:lnTo>
                    <a:lnTo>
                      <a:pt x="751" y="64"/>
                    </a:lnTo>
                    <a:lnTo>
                      <a:pt x="760" y="74"/>
                    </a:lnTo>
                    <a:lnTo>
                      <a:pt x="778" y="74"/>
                    </a:lnTo>
                    <a:lnTo>
                      <a:pt x="787" y="74"/>
                    </a:lnTo>
                    <a:lnTo>
                      <a:pt x="796" y="82"/>
                    </a:lnTo>
                    <a:lnTo>
                      <a:pt x="805" y="82"/>
                    </a:lnTo>
                    <a:lnTo>
                      <a:pt x="815" y="92"/>
                    </a:lnTo>
                    <a:lnTo>
                      <a:pt x="823" y="92"/>
                    </a:lnTo>
                    <a:lnTo>
                      <a:pt x="832" y="92"/>
                    </a:lnTo>
                    <a:lnTo>
                      <a:pt x="842" y="92"/>
                    </a:lnTo>
                    <a:lnTo>
                      <a:pt x="850" y="92"/>
                    </a:lnTo>
                    <a:lnTo>
                      <a:pt x="850" y="101"/>
                    </a:lnTo>
                    <a:lnTo>
                      <a:pt x="860" y="101"/>
                    </a:lnTo>
                    <a:lnTo>
                      <a:pt x="870" y="101"/>
                    </a:lnTo>
                    <a:lnTo>
                      <a:pt x="878" y="101"/>
                    </a:lnTo>
                    <a:lnTo>
                      <a:pt x="888" y="101"/>
                    </a:lnTo>
                    <a:lnTo>
                      <a:pt x="906" y="110"/>
                    </a:lnTo>
                    <a:lnTo>
                      <a:pt x="925" y="119"/>
                    </a:lnTo>
                    <a:lnTo>
                      <a:pt x="942" y="128"/>
                    </a:lnTo>
                    <a:lnTo>
                      <a:pt x="970" y="146"/>
                    </a:lnTo>
                    <a:lnTo>
                      <a:pt x="988" y="156"/>
                    </a:lnTo>
                    <a:lnTo>
                      <a:pt x="1007" y="174"/>
                    </a:lnTo>
                    <a:lnTo>
                      <a:pt x="1025" y="184"/>
                    </a:lnTo>
                    <a:lnTo>
                      <a:pt x="1043" y="202"/>
                    </a:lnTo>
                    <a:lnTo>
                      <a:pt x="1062" y="211"/>
                    </a:lnTo>
                    <a:lnTo>
                      <a:pt x="1080" y="229"/>
                    </a:lnTo>
                    <a:lnTo>
                      <a:pt x="1097" y="247"/>
                    </a:lnTo>
                    <a:lnTo>
                      <a:pt x="1115" y="256"/>
                    </a:lnTo>
                    <a:lnTo>
                      <a:pt x="1135" y="274"/>
                    </a:lnTo>
                    <a:lnTo>
                      <a:pt x="1153" y="283"/>
                    </a:lnTo>
                    <a:lnTo>
                      <a:pt x="1172" y="303"/>
                    </a:lnTo>
                    <a:lnTo>
                      <a:pt x="1190" y="311"/>
                    </a:lnTo>
                    <a:lnTo>
                      <a:pt x="1180" y="321"/>
                    </a:lnTo>
                    <a:lnTo>
                      <a:pt x="1172" y="331"/>
                    </a:lnTo>
                    <a:lnTo>
                      <a:pt x="1162" y="331"/>
                    </a:lnTo>
                    <a:lnTo>
                      <a:pt x="1153" y="331"/>
                    </a:lnTo>
                    <a:lnTo>
                      <a:pt x="1144" y="331"/>
                    </a:lnTo>
                    <a:lnTo>
                      <a:pt x="1135" y="331"/>
                    </a:lnTo>
                    <a:lnTo>
                      <a:pt x="1125" y="331"/>
                    </a:lnTo>
                    <a:lnTo>
                      <a:pt x="1115" y="331"/>
                    </a:lnTo>
                    <a:lnTo>
                      <a:pt x="1107" y="331"/>
                    </a:lnTo>
                    <a:lnTo>
                      <a:pt x="1097" y="321"/>
                    </a:lnTo>
                    <a:lnTo>
                      <a:pt x="1089" y="321"/>
                    </a:lnTo>
                    <a:lnTo>
                      <a:pt x="1080" y="321"/>
                    </a:lnTo>
                    <a:lnTo>
                      <a:pt x="1070" y="321"/>
                    </a:lnTo>
                    <a:lnTo>
                      <a:pt x="1062" y="321"/>
                    </a:lnTo>
                    <a:lnTo>
                      <a:pt x="1052" y="321"/>
                    </a:lnTo>
                    <a:lnTo>
                      <a:pt x="1043" y="311"/>
                    </a:lnTo>
                    <a:lnTo>
                      <a:pt x="1035" y="311"/>
                    </a:lnTo>
                    <a:lnTo>
                      <a:pt x="1016" y="311"/>
                    </a:lnTo>
                    <a:lnTo>
                      <a:pt x="1007" y="303"/>
                    </a:lnTo>
                    <a:lnTo>
                      <a:pt x="998" y="303"/>
                    </a:lnTo>
                    <a:lnTo>
                      <a:pt x="988" y="303"/>
                    </a:lnTo>
                    <a:lnTo>
                      <a:pt x="970" y="293"/>
                    </a:lnTo>
                    <a:lnTo>
                      <a:pt x="960" y="293"/>
                    </a:lnTo>
                    <a:lnTo>
                      <a:pt x="952" y="293"/>
                    </a:lnTo>
                    <a:lnTo>
                      <a:pt x="942" y="283"/>
                    </a:lnTo>
                    <a:lnTo>
                      <a:pt x="925" y="283"/>
                    </a:lnTo>
                    <a:lnTo>
                      <a:pt x="915" y="283"/>
                    </a:lnTo>
                    <a:lnTo>
                      <a:pt x="906" y="283"/>
                    </a:lnTo>
                    <a:lnTo>
                      <a:pt x="897" y="274"/>
                    </a:lnTo>
                    <a:lnTo>
                      <a:pt x="878" y="274"/>
                    </a:lnTo>
                    <a:lnTo>
                      <a:pt x="870" y="274"/>
                    </a:lnTo>
                    <a:lnTo>
                      <a:pt x="860" y="274"/>
                    </a:lnTo>
                    <a:lnTo>
                      <a:pt x="842" y="274"/>
                    </a:lnTo>
                    <a:lnTo>
                      <a:pt x="832" y="266"/>
                    </a:lnTo>
                    <a:lnTo>
                      <a:pt x="823" y="266"/>
                    </a:lnTo>
                    <a:lnTo>
                      <a:pt x="815" y="256"/>
                    </a:lnTo>
                    <a:lnTo>
                      <a:pt x="805" y="247"/>
                    </a:lnTo>
                    <a:lnTo>
                      <a:pt x="796" y="247"/>
                    </a:lnTo>
                    <a:lnTo>
                      <a:pt x="787" y="238"/>
                    </a:lnTo>
                    <a:lnTo>
                      <a:pt x="778" y="229"/>
                    </a:lnTo>
                    <a:lnTo>
                      <a:pt x="768" y="229"/>
                    </a:lnTo>
                    <a:lnTo>
                      <a:pt x="760" y="220"/>
                    </a:lnTo>
                    <a:lnTo>
                      <a:pt x="751" y="211"/>
                    </a:lnTo>
                    <a:lnTo>
                      <a:pt x="741" y="202"/>
                    </a:lnTo>
                    <a:lnTo>
                      <a:pt x="733" y="202"/>
                    </a:lnTo>
                    <a:lnTo>
                      <a:pt x="723" y="192"/>
                    </a:lnTo>
                    <a:lnTo>
                      <a:pt x="713" y="192"/>
                    </a:lnTo>
                    <a:lnTo>
                      <a:pt x="695" y="184"/>
                    </a:lnTo>
                    <a:lnTo>
                      <a:pt x="686" y="184"/>
                    </a:lnTo>
                    <a:lnTo>
                      <a:pt x="668" y="174"/>
                    </a:lnTo>
                    <a:lnTo>
                      <a:pt x="658" y="174"/>
                    </a:lnTo>
                    <a:lnTo>
                      <a:pt x="641" y="164"/>
                    </a:lnTo>
                    <a:lnTo>
                      <a:pt x="631" y="164"/>
                    </a:lnTo>
                    <a:lnTo>
                      <a:pt x="613" y="156"/>
                    </a:lnTo>
                    <a:lnTo>
                      <a:pt x="604" y="156"/>
                    </a:lnTo>
                    <a:lnTo>
                      <a:pt x="585" y="146"/>
                    </a:lnTo>
                    <a:lnTo>
                      <a:pt x="576" y="137"/>
                    </a:lnTo>
                    <a:lnTo>
                      <a:pt x="558" y="137"/>
                    </a:lnTo>
                    <a:lnTo>
                      <a:pt x="549" y="128"/>
                    </a:lnTo>
                    <a:lnTo>
                      <a:pt x="531" y="128"/>
                    </a:lnTo>
                    <a:lnTo>
                      <a:pt x="521" y="119"/>
                    </a:lnTo>
                    <a:lnTo>
                      <a:pt x="513" y="110"/>
                    </a:lnTo>
                    <a:lnTo>
                      <a:pt x="503" y="110"/>
                    </a:lnTo>
                    <a:lnTo>
                      <a:pt x="494" y="110"/>
                    </a:lnTo>
                    <a:lnTo>
                      <a:pt x="486" y="110"/>
                    </a:lnTo>
                    <a:lnTo>
                      <a:pt x="476" y="110"/>
                    </a:lnTo>
                    <a:lnTo>
                      <a:pt x="466" y="110"/>
                    </a:lnTo>
                    <a:lnTo>
                      <a:pt x="458" y="110"/>
                    </a:lnTo>
                    <a:lnTo>
                      <a:pt x="448" y="110"/>
                    </a:lnTo>
                    <a:lnTo>
                      <a:pt x="439" y="101"/>
                    </a:lnTo>
                    <a:lnTo>
                      <a:pt x="430" y="101"/>
                    </a:lnTo>
                    <a:lnTo>
                      <a:pt x="421" y="92"/>
                    </a:lnTo>
                    <a:lnTo>
                      <a:pt x="393" y="92"/>
                    </a:lnTo>
                    <a:lnTo>
                      <a:pt x="366" y="92"/>
                    </a:lnTo>
                    <a:lnTo>
                      <a:pt x="348" y="82"/>
                    </a:lnTo>
                    <a:lnTo>
                      <a:pt x="320" y="82"/>
                    </a:lnTo>
                    <a:lnTo>
                      <a:pt x="293" y="82"/>
                    </a:lnTo>
                    <a:lnTo>
                      <a:pt x="266" y="74"/>
                    </a:lnTo>
                    <a:lnTo>
                      <a:pt x="238" y="74"/>
                    </a:lnTo>
                    <a:lnTo>
                      <a:pt x="211" y="74"/>
                    </a:lnTo>
                    <a:lnTo>
                      <a:pt x="183" y="74"/>
                    </a:lnTo>
                    <a:lnTo>
                      <a:pt x="156" y="74"/>
                    </a:lnTo>
                    <a:lnTo>
                      <a:pt x="128" y="74"/>
                    </a:lnTo>
                    <a:lnTo>
                      <a:pt x="101" y="74"/>
                    </a:lnTo>
                    <a:lnTo>
                      <a:pt x="74" y="74"/>
                    </a:lnTo>
                    <a:lnTo>
                      <a:pt x="46" y="82"/>
                    </a:lnTo>
                    <a:lnTo>
                      <a:pt x="18" y="82"/>
                    </a:lnTo>
                    <a:lnTo>
                      <a:pt x="0" y="92"/>
                    </a:lnTo>
                    <a:lnTo>
                      <a:pt x="9" y="82"/>
                    </a:lnTo>
                    <a:lnTo>
                      <a:pt x="18" y="74"/>
                    </a:lnTo>
                    <a:lnTo>
                      <a:pt x="27" y="74"/>
                    </a:lnTo>
                    <a:lnTo>
                      <a:pt x="36" y="64"/>
                    </a:lnTo>
                    <a:lnTo>
                      <a:pt x="46" y="55"/>
                    </a:lnTo>
                    <a:lnTo>
                      <a:pt x="54" y="55"/>
                    </a:lnTo>
                    <a:lnTo>
                      <a:pt x="64" y="46"/>
                    </a:lnTo>
                    <a:lnTo>
                      <a:pt x="82" y="46"/>
                    </a:lnTo>
                    <a:lnTo>
                      <a:pt x="92" y="36"/>
                    </a:lnTo>
                    <a:lnTo>
                      <a:pt x="101" y="36"/>
                    </a:lnTo>
                    <a:lnTo>
                      <a:pt x="119" y="27"/>
                    </a:lnTo>
                    <a:lnTo>
                      <a:pt x="128" y="27"/>
                    </a:lnTo>
                    <a:lnTo>
                      <a:pt x="137" y="27"/>
                    </a:lnTo>
                    <a:lnTo>
                      <a:pt x="146" y="17"/>
                    </a:lnTo>
                    <a:lnTo>
                      <a:pt x="164" y="17"/>
                    </a:lnTo>
                    <a:lnTo>
                      <a:pt x="173" y="17"/>
                    </a:lnTo>
                    <a:lnTo>
                      <a:pt x="183" y="17"/>
                    </a:lnTo>
                    <a:lnTo>
                      <a:pt x="191" y="17"/>
                    </a:lnTo>
                    <a:lnTo>
                      <a:pt x="201" y="17"/>
                    </a:lnTo>
                    <a:lnTo>
                      <a:pt x="211" y="17"/>
                    </a:lnTo>
                    <a:lnTo>
                      <a:pt x="211" y="9"/>
                    </a:lnTo>
                    <a:lnTo>
                      <a:pt x="220" y="9"/>
                    </a:lnTo>
                    <a:lnTo>
                      <a:pt x="229" y="9"/>
                    </a:lnTo>
                    <a:lnTo>
                      <a:pt x="229" y="0"/>
                    </a:lnTo>
                    <a:lnTo>
                      <a:pt x="238" y="0"/>
                    </a:lnTo>
                    <a:lnTo>
                      <a:pt x="256" y="0"/>
                    </a:lnTo>
                    <a:lnTo>
                      <a:pt x="283" y="0"/>
                    </a:lnTo>
                    <a:lnTo>
                      <a:pt x="301" y="9"/>
                    </a:lnTo>
                    <a:lnTo>
                      <a:pt x="329" y="9"/>
                    </a:lnTo>
                    <a:lnTo>
                      <a:pt x="357" y="9"/>
                    </a:lnTo>
                    <a:lnTo>
                      <a:pt x="376" y="9"/>
                    </a:lnTo>
                    <a:lnTo>
                      <a:pt x="403" y="9"/>
                    </a:lnTo>
                    <a:lnTo>
                      <a:pt x="421" y="9"/>
                    </a:lnTo>
                    <a:lnTo>
                      <a:pt x="448" y="17"/>
                    </a:lnTo>
                    <a:lnTo>
                      <a:pt x="466" y="17"/>
                    </a:lnTo>
                    <a:lnTo>
                      <a:pt x="494" y="17"/>
                    </a:lnTo>
                    <a:lnTo>
                      <a:pt x="513" y="27"/>
                    </a:lnTo>
                    <a:lnTo>
                      <a:pt x="540" y="27"/>
                    </a:lnTo>
                    <a:lnTo>
                      <a:pt x="558" y="36"/>
                    </a:lnTo>
                    <a:lnTo>
                      <a:pt x="585" y="36"/>
                    </a:lnTo>
                    <a:lnTo>
                      <a:pt x="604" y="46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920280" y="3826440"/>
                <a:ext cx="121680" cy="83520"/>
              </a:xfrm>
              <a:custGeom>
                <a:avLst/>
                <a:gdLst/>
                <a:ahLst/>
                <a:rect l="l" t="t" r="r" b="b"/>
                <a:pathLst>
                  <a:path w="302" h="210">
                    <a:moveTo>
                      <a:pt x="0" y="0"/>
                    </a:moveTo>
                    <a:lnTo>
                      <a:pt x="18" y="9"/>
                    </a:lnTo>
                    <a:lnTo>
                      <a:pt x="37" y="18"/>
                    </a:lnTo>
                    <a:lnTo>
                      <a:pt x="54" y="27"/>
                    </a:lnTo>
                    <a:lnTo>
                      <a:pt x="82" y="45"/>
                    </a:lnTo>
                    <a:lnTo>
                      <a:pt x="100" y="55"/>
                    </a:lnTo>
                    <a:lnTo>
                      <a:pt x="119" y="73"/>
                    </a:lnTo>
                    <a:lnTo>
                      <a:pt x="137" y="83"/>
                    </a:lnTo>
                    <a:lnTo>
                      <a:pt x="155" y="101"/>
                    </a:lnTo>
                    <a:lnTo>
                      <a:pt x="174" y="110"/>
                    </a:lnTo>
                    <a:lnTo>
                      <a:pt x="192" y="128"/>
                    </a:lnTo>
                    <a:lnTo>
                      <a:pt x="209" y="146"/>
                    </a:lnTo>
                    <a:lnTo>
                      <a:pt x="227" y="155"/>
                    </a:lnTo>
                    <a:lnTo>
                      <a:pt x="247" y="173"/>
                    </a:lnTo>
                    <a:lnTo>
                      <a:pt x="265" y="182"/>
                    </a:lnTo>
                    <a:lnTo>
                      <a:pt x="284" y="202"/>
                    </a:lnTo>
                    <a:lnTo>
                      <a:pt x="302" y="21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971320" y="5323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18" y="10"/>
                    </a:lnTo>
                    <a:lnTo>
                      <a:pt x="8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06960" y="5342040"/>
                <a:ext cx="115920" cy="249120"/>
              </a:xfrm>
              <a:custGeom>
                <a:avLst/>
                <a:gdLst/>
                <a:ahLst/>
                <a:rect l="l" t="t" r="r" b="b"/>
                <a:pathLst>
                  <a:path w="294" h="623">
                    <a:moveTo>
                      <a:pt x="239" y="63"/>
                    </a:moveTo>
                    <a:lnTo>
                      <a:pt x="247" y="91"/>
                    </a:lnTo>
                    <a:lnTo>
                      <a:pt x="257" y="110"/>
                    </a:lnTo>
                    <a:lnTo>
                      <a:pt x="266" y="128"/>
                    </a:lnTo>
                    <a:lnTo>
                      <a:pt x="266" y="155"/>
                    </a:lnTo>
                    <a:lnTo>
                      <a:pt x="275" y="174"/>
                    </a:lnTo>
                    <a:lnTo>
                      <a:pt x="275" y="201"/>
                    </a:lnTo>
                    <a:lnTo>
                      <a:pt x="275" y="219"/>
                    </a:lnTo>
                    <a:lnTo>
                      <a:pt x="284" y="247"/>
                    </a:lnTo>
                    <a:lnTo>
                      <a:pt x="284" y="274"/>
                    </a:lnTo>
                    <a:lnTo>
                      <a:pt x="284" y="292"/>
                    </a:lnTo>
                    <a:lnTo>
                      <a:pt x="284" y="320"/>
                    </a:lnTo>
                    <a:lnTo>
                      <a:pt x="284" y="347"/>
                    </a:lnTo>
                    <a:lnTo>
                      <a:pt x="284" y="367"/>
                    </a:lnTo>
                    <a:lnTo>
                      <a:pt x="294" y="394"/>
                    </a:lnTo>
                    <a:lnTo>
                      <a:pt x="294" y="421"/>
                    </a:lnTo>
                    <a:lnTo>
                      <a:pt x="294" y="439"/>
                    </a:lnTo>
                    <a:lnTo>
                      <a:pt x="294" y="448"/>
                    </a:lnTo>
                    <a:lnTo>
                      <a:pt x="294" y="458"/>
                    </a:lnTo>
                    <a:lnTo>
                      <a:pt x="294" y="476"/>
                    </a:lnTo>
                    <a:lnTo>
                      <a:pt x="294" y="486"/>
                    </a:lnTo>
                    <a:lnTo>
                      <a:pt x="294" y="494"/>
                    </a:lnTo>
                    <a:lnTo>
                      <a:pt x="294" y="504"/>
                    </a:lnTo>
                    <a:lnTo>
                      <a:pt x="294" y="522"/>
                    </a:lnTo>
                    <a:lnTo>
                      <a:pt x="294" y="531"/>
                    </a:lnTo>
                    <a:lnTo>
                      <a:pt x="284" y="540"/>
                    </a:lnTo>
                    <a:lnTo>
                      <a:pt x="284" y="549"/>
                    </a:lnTo>
                    <a:lnTo>
                      <a:pt x="284" y="568"/>
                    </a:lnTo>
                    <a:lnTo>
                      <a:pt x="284" y="576"/>
                    </a:lnTo>
                    <a:lnTo>
                      <a:pt x="284" y="586"/>
                    </a:lnTo>
                    <a:lnTo>
                      <a:pt x="284" y="595"/>
                    </a:lnTo>
                    <a:lnTo>
                      <a:pt x="284" y="613"/>
                    </a:lnTo>
                    <a:lnTo>
                      <a:pt x="284" y="623"/>
                    </a:lnTo>
                    <a:lnTo>
                      <a:pt x="275" y="623"/>
                    </a:lnTo>
                    <a:lnTo>
                      <a:pt x="266" y="623"/>
                    </a:lnTo>
                    <a:lnTo>
                      <a:pt x="257" y="586"/>
                    </a:lnTo>
                    <a:lnTo>
                      <a:pt x="247" y="549"/>
                    </a:lnTo>
                    <a:lnTo>
                      <a:pt x="239" y="504"/>
                    </a:lnTo>
                    <a:lnTo>
                      <a:pt x="229" y="466"/>
                    </a:lnTo>
                    <a:lnTo>
                      <a:pt x="220" y="431"/>
                    </a:lnTo>
                    <a:lnTo>
                      <a:pt x="212" y="394"/>
                    </a:lnTo>
                    <a:lnTo>
                      <a:pt x="193" y="347"/>
                    </a:lnTo>
                    <a:lnTo>
                      <a:pt x="184" y="311"/>
                    </a:lnTo>
                    <a:lnTo>
                      <a:pt x="166" y="274"/>
                    </a:lnTo>
                    <a:lnTo>
                      <a:pt x="157" y="238"/>
                    </a:lnTo>
                    <a:lnTo>
                      <a:pt x="129" y="201"/>
                    </a:lnTo>
                    <a:lnTo>
                      <a:pt x="110" y="164"/>
                    </a:lnTo>
                    <a:lnTo>
                      <a:pt x="92" y="137"/>
                    </a:lnTo>
                    <a:lnTo>
                      <a:pt x="65" y="100"/>
                    </a:lnTo>
                    <a:lnTo>
                      <a:pt x="38" y="72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9" y="8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47" y="8"/>
                    </a:lnTo>
                    <a:lnTo>
                      <a:pt x="65" y="8"/>
                    </a:lnTo>
                    <a:lnTo>
                      <a:pt x="83" y="8"/>
                    </a:lnTo>
                    <a:lnTo>
                      <a:pt x="92" y="18"/>
                    </a:lnTo>
                    <a:lnTo>
                      <a:pt x="110" y="18"/>
                    </a:lnTo>
                    <a:lnTo>
                      <a:pt x="119" y="18"/>
                    </a:lnTo>
                    <a:lnTo>
                      <a:pt x="137" y="27"/>
                    </a:lnTo>
                    <a:lnTo>
                      <a:pt x="147" y="27"/>
                    </a:lnTo>
                    <a:lnTo>
                      <a:pt x="157" y="36"/>
                    </a:lnTo>
                    <a:lnTo>
                      <a:pt x="175" y="36"/>
                    </a:lnTo>
                    <a:lnTo>
                      <a:pt x="184" y="45"/>
                    </a:lnTo>
                    <a:lnTo>
                      <a:pt x="202" y="45"/>
                    </a:lnTo>
                    <a:lnTo>
                      <a:pt x="212" y="54"/>
                    </a:lnTo>
                    <a:lnTo>
                      <a:pt x="229" y="63"/>
                    </a:lnTo>
                    <a:lnTo>
                      <a:pt x="239" y="63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100920" y="5368320"/>
                <a:ext cx="21960" cy="149400"/>
              </a:xfrm>
              <a:custGeom>
                <a:avLst/>
                <a:gdLst/>
                <a:ahLst/>
                <a:rect l="l" t="t" r="r" b="b"/>
                <a:pathLst>
                  <a:path w="55" h="376">
                    <a:moveTo>
                      <a:pt x="0" y="0"/>
                    </a:moveTo>
                    <a:lnTo>
                      <a:pt x="8" y="28"/>
                    </a:lnTo>
                    <a:lnTo>
                      <a:pt x="18" y="47"/>
                    </a:lnTo>
                    <a:lnTo>
                      <a:pt x="27" y="65"/>
                    </a:lnTo>
                    <a:lnTo>
                      <a:pt x="27" y="92"/>
                    </a:lnTo>
                    <a:lnTo>
                      <a:pt x="36" y="111"/>
                    </a:lnTo>
                    <a:lnTo>
                      <a:pt x="36" y="138"/>
                    </a:lnTo>
                    <a:lnTo>
                      <a:pt x="36" y="156"/>
                    </a:lnTo>
                    <a:lnTo>
                      <a:pt x="45" y="184"/>
                    </a:lnTo>
                    <a:lnTo>
                      <a:pt x="45" y="211"/>
                    </a:lnTo>
                    <a:lnTo>
                      <a:pt x="45" y="229"/>
                    </a:lnTo>
                    <a:lnTo>
                      <a:pt x="45" y="257"/>
                    </a:lnTo>
                    <a:lnTo>
                      <a:pt x="45" y="284"/>
                    </a:lnTo>
                    <a:lnTo>
                      <a:pt x="45" y="304"/>
                    </a:lnTo>
                    <a:lnTo>
                      <a:pt x="55" y="331"/>
                    </a:lnTo>
                    <a:lnTo>
                      <a:pt x="55" y="358"/>
                    </a:lnTo>
                    <a:lnTo>
                      <a:pt x="55" y="37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118920" y="5517720"/>
                <a:ext cx="3960" cy="73440"/>
              </a:xfrm>
              <a:custGeom>
                <a:avLst/>
                <a:gdLst/>
                <a:ahLst/>
                <a:rect l="l" t="t" r="r" b="b"/>
                <a:pathLst>
                  <a:path w="10" h="184">
                    <a:moveTo>
                      <a:pt x="10" y="0"/>
                    </a:moveTo>
                    <a:lnTo>
                      <a:pt x="10" y="9"/>
                    </a:lnTo>
                    <a:lnTo>
                      <a:pt x="10" y="19"/>
                    </a:lnTo>
                    <a:lnTo>
                      <a:pt x="10" y="37"/>
                    </a:lnTo>
                    <a:lnTo>
                      <a:pt x="10" y="47"/>
                    </a:lnTo>
                    <a:lnTo>
                      <a:pt x="10" y="55"/>
                    </a:lnTo>
                    <a:lnTo>
                      <a:pt x="10" y="65"/>
                    </a:lnTo>
                    <a:lnTo>
                      <a:pt x="10" y="83"/>
                    </a:lnTo>
                    <a:lnTo>
                      <a:pt x="10" y="92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74"/>
                    </a:lnTo>
                    <a:lnTo>
                      <a:pt x="0" y="18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006960" y="5356080"/>
                <a:ext cx="105840" cy="235080"/>
              </a:xfrm>
              <a:custGeom>
                <a:avLst/>
                <a:gdLst/>
                <a:ahLst/>
                <a:rect l="l" t="t" r="r" b="b"/>
                <a:pathLst>
                  <a:path w="266" h="587">
                    <a:moveTo>
                      <a:pt x="266" y="587"/>
                    </a:moveTo>
                    <a:lnTo>
                      <a:pt x="257" y="550"/>
                    </a:lnTo>
                    <a:lnTo>
                      <a:pt x="247" y="513"/>
                    </a:lnTo>
                    <a:lnTo>
                      <a:pt x="239" y="468"/>
                    </a:lnTo>
                    <a:lnTo>
                      <a:pt x="229" y="430"/>
                    </a:lnTo>
                    <a:lnTo>
                      <a:pt x="220" y="395"/>
                    </a:lnTo>
                    <a:lnTo>
                      <a:pt x="212" y="358"/>
                    </a:lnTo>
                    <a:lnTo>
                      <a:pt x="193" y="311"/>
                    </a:lnTo>
                    <a:lnTo>
                      <a:pt x="184" y="275"/>
                    </a:lnTo>
                    <a:lnTo>
                      <a:pt x="166" y="238"/>
                    </a:lnTo>
                    <a:lnTo>
                      <a:pt x="157" y="202"/>
                    </a:lnTo>
                    <a:lnTo>
                      <a:pt x="129" y="165"/>
                    </a:lnTo>
                    <a:lnTo>
                      <a:pt x="110" y="128"/>
                    </a:lnTo>
                    <a:lnTo>
                      <a:pt x="92" y="101"/>
                    </a:lnTo>
                    <a:lnTo>
                      <a:pt x="65" y="64"/>
                    </a:lnTo>
                    <a:lnTo>
                      <a:pt x="38" y="3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849560" y="3241440"/>
                <a:ext cx="2044800" cy="2679120"/>
              </a:xfrm>
              <a:custGeom>
                <a:avLst/>
                <a:gdLst/>
                <a:ahLst/>
                <a:rect l="l" t="t" r="r" b="b"/>
                <a:pathLst>
                  <a:path w="5115" h="6708">
                    <a:moveTo>
                      <a:pt x="2132" y="81"/>
                    </a:moveTo>
                    <a:lnTo>
                      <a:pt x="2150" y="100"/>
                    </a:lnTo>
                    <a:lnTo>
                      <a:pt x="2169" y="119"/>
                    </a:lnTo>
                    <a:lnTo>
                      <a:pt x="2187" y="129"/>
                    </a:lnTo>
                    <a:lnTo>
                      <a:pt x="2214" y="137"/>
                    </a:lnTo>
                    <a:lnTo>
                      <a:pt x="2232" y="156"/>
                    </a:lnTo>
                    <a:lnTo>
                      <a:pt x="2251" y="164"/>
                    </a:lnTo>
                    <a:lnTo>
                      <a:pt x="2279" y="183"/>
                    </a:lnTo>
                    <a:lnTo>
                      <a:pt x="2297" y="191"/>
                    </a:lnTo>
                    <a:lnTo>
                      <a:pt x="2315" y="210"/>
                    </a:lnTo>
                    <a:lnTo>
                      <a:pt x="2334" y="229"/>
                    </a:lnTo>
                    <a:lnTo>
                      <a:pt x="2342" y="238"/>
                    </a:lnTo>
                    <a:lnTo>
                      <a:pt x="2352" y="256"/>
                    </a:lnTo>
                    <a:lnTo>
                      <a:pt x="2361" y="284"/>
                    </a:lnTo>
                    <a:lnTo>
                      <a:pt x="2369" y="301"/>
                    </a:lnTo>
                    <a:lnTo>
                      <a:pt x="2369" y="329"/>
                    </a:lnTo>
                    <a:lnTo>
                      <a:pt x="2369" y="356"/>
                    </a:lnTo>
                    <a:lnTo>
                      <a:pt x="2352" y="376"/>
                    </a:lnTo>
                    <a:lnTo>
                      <a:pt x="2342" y="394"/>
                    </a:lnTo>
                    <a:lnTo>
                      <a:pt x="2324" y="412"/>
                    </a:lnTo>
                    <a:lnTo>
                      <a:pt x="2307" y="430"/>
                    </a:lnTo>
                    <a:lnTo>
                      <a:pt x="2288" y="448"/>
                    </a:lnTo>
                    <a:lnTo>
                      <a:pt x="2270" y="457"/>
                    </a:lnTo>
                    <a:lnTo>
                      <a:pt x="2251" y="475"/>
                    </a:lnTo>
                    <a:lnTo>
                      <a:pt x="2232" y="485"/>
                    </a:lnTo>
                    <a:lnTo>
                      <a:pt x="2214" y="495"/>
                    </a:lnTo>
                    <a:lnTo>
                      <a:pt x="2187" y="513"/>
                    </a:lnTo>
                    <a:lnTo>
                      <a:pt x="2169" y="522"/>
                    </a:lnTo>
                    <a:lnTo>
                      <a:pt x="2150" y="540"/>
                    </a:lnTo>
                    <a:lnTo>
                      <a:pt x="2132" y="550"/>
                    </a:lnTo>
                    <a:lnTo>
                      <a:pt x="2114" y="567"/>
                    </a:lnTo>
                    <a:lnTo>
                      <a:pt x="2095" y="585"/>
                    </a:lnTo>
                    <a:lnTo>
                      <a:pt x="2087" y="604"/>
                    </a:lnTo>
                    <a:lnTo>
                      <a:pt x="2087" y="613"/>
                    </a:lnTo>
                    <a:lnTo>
                      <a:pt x="2077" y="613"/>
                    </a:lnTo>
                    <a:lnTo>
                      <a:pt x="2077" y="623"/>
                    </a:lnTo>
                    <a:lnTo>
                      <a:pt x="2077" y="632"/>
                    </a:lnTo>
                    <a:lnTo>
                      <a:pt x="2068" y="632"/>
                    </a:lnTo>
                    <a:lnTo>
                      <a:pt x="2068" y="642"/>
                    </a:lnTo>
                    <a:lnTo>
                      <a:pt x="2059" y="642"/>
                    </a:lnTo>
                    <a:lnTo>
                      <a:pt x="2059" y="650"/>
                    </a:lnTo>
                    <a:lnTo>
                      <a:pt x="2050" y="660"/>
                    </a:lnTo>
                    <a:lnTo>
                      <a:pt x="2040" y="677"/>
                    </a:lnTo>
                    <a:lnTo>
                      <a:pt x="2040" y="687"/>
                    </a:lnTo>
                    <a:lnTo>
                      <a:pt x="2040" y="696"/>
                    </a:lnTo>
                    <a:lnTo>
                      <a:pt x="2040" y="705"/>
                    </a:lnTo>
                    <a:lnTo>
                      <a:pt x="2040" y="714"/>
                    </a:lnTo>
                    <a:lnTo>
                      <a:pt x="2050" y="723"/>
                    </a:lnTo>
                    <a:lnTo>
                      <a:pt x="2059" y="732"/>
                    </a:lnTo>
                    <a:lnTo>
                      <a:pt x="2059" y="741"/>
                    </a:lnTo>
                    <a:lnTo>
                      <a:pt x="2068" y="751"/>
                    </a:lnTo>
                    <a:lnTo>
                      <a:pt x="2077" y="760"/>
                    </a:lnTo>
                    <a:lnTo>
                      <a:pt x="2087" y="770"/>
                    </a:lnTo>
                    <a:lnTo>
                      <a:pt x="2087" y="779"/>
                    </a:lnTo>
                    <a:lnTo>
                      <a:pt x="2095" y="787"/>
                    </a:lnTo>
                    <a:lnTo>
                      <a:pt x="2104" y="797"/>
                    </a:lnTo>
                    <a:lnTo>
                      <a:pt x="2104" y="806"/>
                    </a:lnTo>
                    <a:lnTo>
                      <a:pt x="2104" y="815"/>
                    </a:lnTo>
                    <a:lnTo>
                      <a:pt x="2114" y="824"/>
                    </a:lnTo>
                    <a:lnTo>
                      <a:pt x="2123" y="833"/>
                    </a:lnTo>
                    <a:lnTo>
                      <a:pt x="2132" y="851"/>
                    </a:lnTo>
                    <a:lnTo>
                      <a:pt x="2142" y="861"/>
                    </a:lnTo>
                    <a:lnTo>
                      <a:pt x="2150" y="869"/>
                    </a:lnTo>
                    <a:lnTo>
                      <a:pt x="2150" y="879"/>
                    </a:lnTo>
                    <a:lnTo>
                      <a:pt x="2160" y="889"/>
                    </a:lnTo>
                    <a:lnTo>
                      <a:pt x="2169" y="907"/>
                    </a:lnTo>
                    <a:lnTo>
                      <a:pt x="2178" y="916"/>
                    </a:lnTo>
                    <a:lnTo>
                      <a:pt x="2187" y="926"/>
                    </a:lnTo>
                    <a:lnTo>
                      <a:pt x="2187" y="934"/>
                    </a:lnTo>
                    <a:lnTo>
                      <a:pt x="2197" y="943"/>
                    </a:lnTo>
                    <a:lnTo>
                      <a:pt x="2205" y="961"/>
                    </a:lnTo>
                    <a:lnTo>
                      <a:pt x="2214" y="971"/>
                    </a:lnTo>
                    <a:lnTo>
                      <a:pt x="2224" y="980"/>
                    </a:lnTo>
                    <a:lnTo>
                      <a:pt x="2232" y="989"/>
                    </a:lnTo>
                    <a:lnTo>
                      <a:pt x="2270" y="1008"/>
                    </a:lnTo>
                    <a:lnTo>
                      <a:pt x="2307" y="1016"/>
                    </a:lnTo>
                    <a:lnTo>
                      <a:pt x="2342" y="1036"/>
                    </a:lnTo>
                    <a:lnTo>
                      <a:pt x="2379" y="1044"/>
                    </a:lnTo>
                    <a:lnTo>
                      <a:pt x="2416" y="1063"/>
                    </a:lnTo>
                    <a:lnTo>
                      <a:pt x="2452" y="1071"/>
                    </a:lnTo>
                    <a:lnTo>
                      <a:pt x="2489" y="1081"/>
                    </a:lnTo>
                    <a:lnTo>
                      <a:pt x="2526" y="1099"/>
                    </a:lnTo>
                    <a:lnTo>
                      <a:pt x="2562" y="1108"/>
                    </a:lnTo>
                    <a:lnTo>
                      <a:pt x="2599" y="1117"/>
                    </a:lnTo>
                    <a:lnTo>
                      <a:pt x="2635" y="1135"/>
                    </a:lnTo>
                    <a:lnTo>
                      <a:pt x="2672" y="1145"/>
                    </a:lnTo>
                    <a:lnTo>
                      <a:pt x="2709" y="1155"/>
                    </a:lnTo>
                    <a:lnTo>
                      <a:pt x="2745" y="1173"/>
                    </a:lnTo>
                    <a:lnTo>
                      <a:pt x="2782" y="1182"/>
                    </a:lnTo>
                    <a:lnTo>
                      <a:pt x="2819" y="1200"/>
                    </a:lnTo>
                    <a:lnTo>
                      <a:pt x="2855" y="1209"/>
                    </a:lnTo>
                    <a:lnTo>
                      <a:pt x="2891" y="1218"/>
                    </a:lnTo>
                    <a:lnTo>
                      <a:pt x="2929" y="1227"/>
                    </a:lnTo>
                    <a:lnTo>
                      <a:pt x="2965" y="1237"/>
                    </a:lnTo>
                    <a:lnTo>
                      <a:pt x="3001" y="1245"/>
                    </a:lnTo>
                    <a:lnTo>
                      <a:pt x="3038" y="1255"/>
                    </a:lnTo>
                    <a:lnTo>
                      <a:pt x="3075" y="1264"/>
                    </a:lnTo>
                    <a:lnTo>
                      <a:pt x="3111" y="1273"/>
                    </a:lnTo>
                    <a:lnTo>
                      <a:pt x="3148" y="1292"/>
                    </a:lnTo>
                    <a:lnTo>
                      <a:pt x="3185" y="1301"/>
                    </a:lnTo>
                    <a:lnTo>
                      <a:pt x="3230" y="1301"/>
                    </a:lnTo>
                    <a:lnTo>
                      <a:pt x="3267" y="1310"/>
                    </a:lnTo>
                    <a:lnTo>
                      <a:pt x="3303" y="1319"/>
                    </a:lnTo>
                    <a:lnTo>
                      <a:pt x="3340" y="1328"/>
                    </a:lnTo>
                    <a:lnTo>
                      <a:pt x="3385" y="1337"/>
                    </a:lnTo>
                    <a:lnTo>
                      <a:pt x="3422" y="1337"/>
                    </a:lnTo>
                    <a:lnTo>
                      <a:pt x="3450" y="1347"/>
                    </a:lnTo>
                    <a:lnTo>
                      <a:pt x="3478" y="1355"/>
                    </a:lnTo>
                    <a:lnTo>
                      <a:pt x="3505" y="1355"/>
                    </a:lnTo>
                    <a:lnTo>
                      <a:pt x="3542" y="1365"/>
                    </a:lnTo>
                    <a:lnTo>
                      <a:pt x="3569" y="1374"/>
                    </a:lnTo>
                    <a:lnTo>
                      <a:pt x="3597" y="1374"/>
                    </a:lnTo>
                    <a:lnTo>
                      <a:pt x="3624" y="1382"/>
                    </a:lnTo>
                    <a:lnTo>
                      <a:pt x="3660" y="1382"/>
                    </a:lnTo>
                    <a:lnTo>
                      <a:pt x="3687" y="1392"/>
                    </a:lnTo>
                    <a:lnTo>
                      <a:pt x="3715" y="1401"/>
                    </a:lnTo>
                    <a:lnTo>
                      <a:pt x="3743" y="1401"/>
                    </a:lnTo>
                    <a:lnTo>
                      <a:pt x="3779" y="1411"/>
                    </a:lnTo>
                    <a:lnTo>
                      <a:pt x="3807" y="1420"/>
                    </a:lnTo>
                    <a:lnTo>
                      <a:pt x="3834" y="1420"/>
                    </a:lnTo>
                    <a:lnTo>
                      <a:pt x="3862" y="1429"/>
                    </a:lnTo>
                    <a:lnTo>
                      <a:pt x="3889" y="1439"/>
                    </a:lnTo>
                    <a:lnTo>
                      <a:pt x="3917" y="1447"/>
                    </a:lnTo>
                    <a:lnTo>
                      <a:pt x="3934" y="1447"/>
                    </a:lnTo>
                    <a:lnTo>
                      <a:pt x="3962" y="1447"/>
                    </a:lnTo>
                    <a:lnTo>
                      <a:pt x="3990" y="1447"/>
                    </a:lnTo>
                    <a:lnTo>
                      <a:pt x="4009" y="1447"/>
                    </a:lnTo>
                    <a:lnTo>
                      <a:pt x="4036" y="1457"/>
                    </a:lnTo>
                    <a:lnTo>
                      <a:pt x="4054" y="1457"/>
                    </a:lnTo>
                    <a:lnTo>
                      <a:pt x="4081" y="1457"/>
                    </a:lnTo>
                    <a:lnTo>
                      <a:pt x="4099" y="1466"/>
                    </a:lnTo>
                    <a:lnTo>
                      <a:pt x="4127" y="1466"/>
                    </a:lnTo>
                    <a:lnTo>
                      <a:pt x="4146" y="1475"/>
                    </a:lnTo>
                    <a:lnTo>
                      <a:pt x="4164" y="1484"/>
                    </a:lnTo>
                    <a:lnTo>
                      <a:pt x="4191" y="1502"/>
                    </a:lnTo>
                    <a:lnTo>
                      <a:pt x="4209" y="1511"/>
                    </a:lnTo>
                    <a:lnTo>
                      <a:pt x="4218" y="1529"/>
                    </a:lnTo>
                    <a:lnTo>
                      <a:pt x="4237" y="1549"/>
                    </a:lnTo>
                    <a:lnTo>
                      <a:pt x="4256" y="1557"/>
                    </a:lnTo>
                    <a:lnTo>
                      <a:pt x="4264" y="1557"/>
                    </a:lnTo>
                    <a:lnTo>
                      <a:pt x="4283" y="1557"/>
                    </a:lnTo>
                    <a:lnTo>
                      <a:pt x="4292" y="1557"/>
                    </a:lnTo>
                    <a:lnTo>
                      <a:pt x="4310" y="1557"/>
                    </a:lnTo>
                    <a:lnTo>
                      <a:pt x="4319" y="1557"/>
                    </a:lnTo>
                    <a:lnTo>
                      <a:pt x="4338" y="1567"/>
                    </a:lnTo>
                    <a:lnTo>
                      <a:pt x="4346" y="1567"/>
                    </a:lnTo>
                    <a:lnTo>
                      <a:pt x="4366" y="1567"/>
                    </a:lnTo>
                    <a:lnTo>
                      <a:pt x="4374" y="1567"/>
                    </a:lnTo>
                    <a:lnTo>
                      <a:pt x="4393" y="1567"/>
                    </a:lnTo>
                    <a:lnTo>
                      <a:pt x="4411" y="1567"/>
                    </a:lnTo>
                    <a:lnTo>
                      <a:pt x="4420" y="1567"/>
                    </a:lnTo>
                    <a:lnTo>
                      <a:pt x="4438" y="1567"/>
                    </a:lnTo>
                    <a:lnTo>
                      <a:pt x="4448" y="1567"/>
                    </a:lnTo>
                    <a:lnTo>
                      <a:pt x="4465" y="1567"/>
                    </a:lnTo>
                    <a:lnTo>
                      <a:pt x="4503" y="1576"/>
                    </a:lnTo>
                    <a:lnTo>
                      <a:pt x="4530" y="1576"/>
                    </a:lnTo>
                    <a:lnTo>
                      <a:pt x="4566" y="1576"/>
                    </a:lnTo>
                    <a:lnTo>
                      <a:pt x="4593" y="1585"/>
                    </a:lnTo>
                    <a:lnTo>
                      <a:pt x="4631" y="1585"/>
                    </a:lnTo>
                    <a:lnTo>
                      <a:pt x="4658" y="1594"/>
                    </a:lnTo>
                    <a:lnTo>
                      <a:pt x="4695" y="1603"/>
                    </a:lnTo>
                    <a:lnTo>
                      <a:pt x="4722" y="1612"/>
                    </a:lnTo>
                    <a:lnTo>
                      <a:pt x="4758" y="1621"/>
                    </a:lnTo>
                    <a:lnTo>
                      <a:pt x="4786" y="1631"/>
                    </a:lnTo>
                    <a:lnTo>
                      <a:pt x="4813" y="1639"/>
                    </a:lnTo>
                    <a:lnTo>
                      <a:pt x="4841" y="1658"/>
                    </a:lnTo>
                    <a:lnTo>
                      <a:pt x="4877" y="1668"/>
                    </a:lnTo>
                    <a:lnTo>
                      <a:pt x="4896" y="1686"/>
                    </a:lnTo>
                    <a:lnTo>
                      <a:pt x="4923" y="1704"/>
                    </a:lnTo>
                    <a:lnTo>
                      <a:pt x="4950" y="1731"/>
                    </a:lnTo>
                    <a:lnTo>
                      <a:pt x="4960" y="1741"/>
                    </a:lnTo>
                    <a:lnTo>
                      <a:pt x="4978" y="1750"/>
                    </a:lnTo>
                    <a:lnTo>
                      <a:pt x="4987" y="1758"/>
                    </a:lnTo>
                    <a:lnTo>
                      <a:pt x="4997" y="1768"/>
                    </a:lnTo>
                    <a:lnTo>
                      <a:pt x="5005" y="1777"/>
                    </a:lnTo>
                    <a:lnTo>
                      <a:pt x="5025" y="1795"/>
                    </a:lnTo>
                    <a:lnTo>
                      <a:pt x="5033" y="1805"/>
                    </a:lnTo>
                    <a:lnTo>
                      <a:pt x="5043" y="1814"/>
                    </a:lnTo>
                    <a:lnTo>
                      <a:pt x="5052" y="1823"/>
                    </a:lnTo>
                    <a:lnTo>
                      <a:pt x="5060" y="1841"/>
                    </a:lnTo>
                    <a:lnTo>
                      <a:pt x="5070" y="1851"/>
                    </a:lnTo>
                    <a:lnTo>
                      <a:pt x="5079" y="1860"/>
                    </a:lnTo>
                    <a:lnTo>
                      <a:pt x="5088" y="1878"/>
                    </a:lnTo>
                    <a:lnTo>
                      <a:pt x="5097" y="1887"/>
                    </a:lnTo>
                    <a:lnTo>
                      <a:pt x="5107" y="1897"/>
                    </a:lnTo>
                    <a:lnTo>
                      <a:pt x="5107" y="1914"/>
                    </a:lnTo>
                    <a:lnTo>
                      <a:pt x="5115" y="1924"/>
                    </a:lnTo>
                    <a:lnTo>
                      <a:pt x="5115" y="1933"/>
                    </a:lnTo>
                    <a:lnTo>
                      <a:pt x="5115" y="1943"/>
                    </a:lnTo>
                    <a:lnTo>
                      <a:pt x="5115" y="1952"/>
                    </a:lnTo>
                    <a:lnTo>
                      <a:pt x="5107" y="1952"/>
                    </a:lnTo>
                    <a:lnTo>
                      <a:pt x="5107" y="1961"/>
                    </a:lnTo>
                    <a:lnTo>
                      <a:pt x="5107" y="1970"/>
                    </a:lnTo>
                    <a:lnTo>
                      <a:pt x="5097" y="1970"/>
                    </a:lnTo>
                    <a:lnTo>
                      <a:pt x="5097" y="1979"/>
                    </a:lnTo>
                    <a:lnTo>
                      <a:pt x="5088" y="1979"/>
                    </a:lnTo>
                    <a:lnTo>
                      <a:pt x="5079" y="1979"/>
                    </a:lnTo>
                    <a:lnTo>
                      <a:pt x="5079" y="1988"/>
                    </a:lnTo>
                    <a:lnTo>
                      <a:pt x="5070" y="1988"/>
                    </a:lnTo>
                    <a:lnTo>
                      <a:pt x="5060" y="1988"/>
                    </a:lnTo>
                    <a:lnTo>
                      <a:pt x="5052" y="1988"/>
                    </a:lnTo>
                    <a:lnTo>
                      <a:pt x="5043" y="1979"/>
                    </a:lnTo>
                    <a:lnTo>
                      <a:pt x="5033" y="1979"/>
                    </a:lnTo>
                    <a:lnTo>
                      <a:pt x="5025" y="1979"/>
                    </a:lnTo>
                    <a:lnTo>
                      <a:pt x="5015" y="1979"/>
                    </a:lnTo>
                    <a:lnTo>
                      <a:pt x="5005" y="1979"/>
                    </a:lnTo>
                    <a:lnTo>
                      <a:pt x="4978" y="1970"/>
                    </a:lnTo>
                    <a:lnTo>
                      <a:pt x="4960" y="1961"/>
                    </a:lnTo>
                    <a:lnTo>
                      <a:pt x="4942" y="1961"/>
                    </a:lnTo>
                    <a:lnTo>
                      <a:pt x="4923" y="1952"/>
                    </a:lnTo>
                    <a:lnTo>
                      <a:pt x="4905" y="1943"/>
                    </a:lnTo>
                    <a:lnTo>
                      <a:pt x="4877" y="1943"/>
                    </a:lnTo>
                    <a:lnTo>
                      <a:pt x="4859" y="1933"/>
                    </a:lnTo>
                    <a:lnTo>
                      <a:pt x="4841" y="1933"/>
                    </a:lnTo>
                    <a:lnTo>
                      <a:pt x="4823" y="1924"/>
                    </a:lnTo>
                    <a:lnTo>
                      <a:pt x="4805" y="1914"/>
                    </a:lnTo>
                    <a:lnTo>
                      <a:pt x="4778" y="1914"/>
                    </a:lnTo>
                    <a:lnTo>
                      <a:pt x="4758" y="1905"/>
                    </a:lnTo>
                    <a:lnTo>
                      <a:pt x="4740" y="1897"/>
                    </a:lnTo>
                    <a:lnTo>
                      <a:pt x="4722" y="1887"/>
                    </a:lnTo>
                    <a:lnTo>
                      <a:pt x="4703" y="1887"/>
                    </a:lnTo>
                    <a:lnTo>
                      <a:pt x="4685" y="1878"/>
                    </a:lnTo>
                    <a:lnTo>
                      <a:pt x="4676" y="1868"/>
                    </a:lnTo>
                    <a:lnTo>
                      <a:pt x="4668" y="1860"/>
                    </a:lnTo>
                    <a:lnTo>
                      <a:pt x="4658" y="1851"/>
                    </a:lnTo>
                    <a:lnTo>
                      <a:pt x="4649" y="1841"/>
                    </a:lnTo>
                    <a:lnTo>
                      <a:pt x="4640" y="1841"/>
                    </a:lnTo>
                    <a:lnTo>
                      <a:pt x="4631" y="1833"/>
                    </a:lnTo>
                    <a:lnTo>
                      <a:pt x="4621" y="1833"/>
                    </a:lnTo>
                    <a:lnTo>
                      <a:pt x="4612" y="1823"/>
                    </a:lnTo>
                    <a:lnTo>
                      <a:pt x="4603" y="1823"/>
                    </a:lnTo>
                    <a:lnTo>
                      <a:pt x="4593" y="1814"/>
                    </a:lnTo>
                    <a:lnTo>
                      <a:pt x="4585" y="1814"/>
                    </a:lnTo>
                    <a:lnTo>
                      <a:pt x="4575" y="1805"/>
                    </a:lnTo>
                    <a:lnTo>
                      <a:pt x="4566" y="1805"/>
                    </a:lnTo>
                    <a:lnTo>
                      <a:pt x="4558" y="1795"/>
                    </a:lnTo>
                    <a:lnTo>
                      <a:pt x="4548" y="1795"/>
                    </a:lnTo>
                    <a:lnTo>
                      <a:pt x="4539" y="1786"/>
                    </a:lnTo>
                    <a:lnTo>
                      <a:pt x="4521" y="1786"/>
                    </a:lnTo>
                    <a:lnTo>
                      <a:pt x="4512" y="1777"/>
                    </a:lnTo>
                    <a:lnTo>
                      <a:pt x="4493" y="1768"/>
                    </a:lnTo>
                    <a:lnTo>
                      <a:pt x="4483" y="1758"/>
                    </a:lnTo>
                    <a:lnTo>
                      <a:pt x="4465" y="1750"/>
                    </a:lnTo>
                    <a:lnTo>
                      <a:pt x="4456" y="1750"/>
                    </a:lnTo>
                    <a:lnTo>
                      <a:pt x="4448" y="1750"/>
                    </a:lnTo>
                    <a:lnTo>
                      <a:pt x="4429" y="1750"/>
                    </a:lnTo>
                    <a:lnTo>
                      <a:pt x="4411" y="1741"/>
                    </a:lnTo>
                    <a:lnTo>
                      <a:pt x="4402" y="1741"/>
                    </a:lnTo>
                    <a:lnTo>
                      <a:pt x="4384" y="1731"/>
                    </a:lnTo>
                    <a:lnTo>
                      <a:pt x="4356" y="1731"/>
                    </a:lnTo>
                    <a:lnTo>
                      <a:pt x="4338" y="1731"/>
                    </a:lnTo>
                    <a:lnTo>
                      <a:pt x="4319" y="1723"/>
                    </a:lnTo>
                    <a:lnTo>
                      <a:pt x="4301" y="1713"/>
                    </a:lnTo>
                    <a:lnTo>
                      <a:pt x="4283" y="1723"/>
                    </a:lnTo>
                    <a:lnTo>
                      <a:pt x="4274" y="1723"/>
                    </a:lnTo>
                    <a:lnTo>
                      <a:pt x="4310" y="1795"/>
                    </a:lnTo>
                    <a:lnTo>
                      <a:pt x="4328" y="1868"/>
                    </a:lnTo>
                    <a:lnTo>
                      <a:pt x="4328" y="1952"/>
                    </a:lnTo>
                    <a:lnTo>
                      <a:pt x="4319" y="2034"/>
                    </a:lnTo>
                    <a:lnTo>
                      <a:pt x="4292" y="2107"/>
                    </a:lnTo>
                    <a:lnTo>
                      <a:pt x="4283" y="2125"/>
                    </a:lnTo>
                    <a:lnTo>
                      <a:pt x="4237" y="2162"/>
                    </a:lnTo>
                    <a:lnTo>
                      <a:pt x="4191" y="2189"/>
                    </a:lnTo>
                    <a:lnTo>
                      <a:pt x="4137" y="2199"/>
                    </a:lnTo>
                    <a:lnTo>
                      <a:pt x="4072" y="2199"/>
                    </a:lnTo>
                    <a:lnTo>
                      <a:pt x="4017" y="2199"/>
                    </a:lnTo>
                    <a:lnTo>
                      <a:pt x="3999" y="2199"/>
                    </a:lnTo>
                    <a:lnTo>
                      <a:pt x="3981" y="2189"/>
                    </a:lnTo>
                    <a:lnTo>
                      <a:pt x="3953" y="2189"/>
                    </a:lnTo>
                    <a:lnTo>
                      <a:pt x="3934" y="2189"/>
                    </a:lnTo>
                    <a:lnTo>
                      <a:pt x="3907" y="2199"/>
                    </a:lnTo>
                    <a:lnTo>
                      <a:pt x="3889" y="2199"/>
                    </a:lnTo>
                    <a:lnTo>
                      <a:pt x="3880" y="2199"/>
                    </a:lnTo>
                    <a:lnTo>
                      <a:pt x="3816" y="2199"/>
                    </a:lnTo>
                    <a:lnTo>
                      <a:pt x="3762" y="2209"/>
                    </a:lnTo>
                    <a:lnTo>
                      <a:pt x="3697" y="2217"/>
                    </a:lnTo>
                    <a:lnTo>
                      <a:pt x="3642" y="2236"/>
                    </a:lnTo>
                    <a:lnTo>
                      <a:pt x="3597" y="2263"/>
                    </a:lnTo>
                    <a:lnTo>
                      <a:pt x="3578" y="2272"/>
                    </a:lnTo>
                    <a:lnTo>
                      <a:pt x="3532" y="2281"/>
                    </a:lnTo>
                    <a:lnTo>
                      <a:pt x="3487" y="2290"/>
                    </a:lnTo>
                    <a:lnTo>
                      <a:pt x="3450" y="2308"/>
                    </a:lnTo>
                    <a:lnTo>
                      <a:pt x="3404" y="2327"/>
                    </a:lnTo>
                    <a:lnTo>
                      <a:pt x="3358" y="2346"/>
                    </a:lnTo>
                    <a:lnTo>
                      <a:pt x="3340" y="2346"/>
                    </a:lnTo>
                    <a:lnTo>
                      <a:pt x="3323" y="2354"/>
                    </a:lnTo>
                    <a:lnTo>
                      <a:pt x="3303" y="2364"/>
                    </a:lnTo>
                    <a:lnTo>
                      <a:pt x="3285" y="2383"/>
                    </a:lnTo>
                    <a:lnTo>
                      <a:pt x="3267" y="2400"/>
                    </a:lnTo>
                    <a:lnTo>
                      <a:pt x="3258" y="2418"/>
                    </a:lnTo>
                    <a:lnTo>
                      <a:pt x="3248" y="2428"/>
                    </a:lnTo>
                    <a:lnTo>
                      <a:pt x="3248" y="2474"/>
                    </a:lnTo>
                    <a:lnTo>
                      <a:pt x="3248" y="2528"/>
                    </a:lnTo>
                    <a:lnTo>
                      <a:pt x="3240" y="2583"/>
                    </a:lnTo>
                    <a:lnTo>
                      <a:pt x="3230" y="2638"/>
                    </a:lnTo>
                    <a:lnTo>
                      <a:pt x="3221" y="2684"/>
                    </a:lnTo>
                    <a:lnTo>
                      <a:pt x="3213" y="2702"/>
                    </a:lnTo>
                    <a:lnTo>
                      <a:pt x="3166" y="2785"/>
                    </a:lnTo>
                    <a:lnTo>
                      <a:pt x="3120" y="2869"/>
                    </a:lnTo>
                    <a:lnTo>
                      <a:pt x="3084" y="2950"/>
                    </a:lnTo>
                    <a:lnTo>
                      <a:pt x="3057" y="3042"/>
                    </a:lnTo>
                    <a:lnTo>
                      <a:pt x="3048" y="3143"/>
                    </a:lnTo>
                    <a:lnTo>
                      <a:pt x="3048" y="3180"/>
                    </a:lnTo>
                    <a:lnTo>
                      <a:pt x="3048" y="3298"/>
                    </a:lnTo>
                    <a:lnTo>
                      <a:pt x="3057" y="3409"/>
                    </a:lnTo>
                    <a:lnTo>
                      <a:pt x="3075" y="3528"/>
                    </a:lnTo>
                    <a:lnTo>
                      <a:pt x="3084" y="3647"/>
                    </a:lnTo>
                    <a:lnTo>
                      <a:pt x="3103" y="3765"/>
                    </a:lnTo>
                    <a:lnTo>
                      <a:pt x="3103" y="3803"/>
                    </a:lnTo>
                    <a:lnTo>
                      <a:pt x="3148" y="3977"/>
                    </a:lnTo>
                    <a:lnTo>
                      <a:pt x="3194" y="4150"/>
                    </a:lnTo>
                    <a:lnTo>
                      <a:pt x="3221" y="4334"/>
                    </a:lnTo>
                    <a:lnTo>
                      <a:pt x="3248" y="4517"/>
                    </a:lnTo>
                    <a:lnTo>
                      <a:pt x="3267" y="4701"/>
                    </a:lnTo>
                    <a:lnTo>
                      <a:pt x="3276" y="4765"/>
                    </a:lnTo>
                    <a:lnTo>
                      <a:pt x="3294" y="4884"/>
                    </a:lnTo>
                    <a:lnTo>
                      <a:pt x="3303" y="5012"/>
                    </a:lnTo>
                    <a:lnTo>
                      <a:pt x="3313" y="5131"/>
                    </a:lnTo>
                    <a:lnTo>
                      <a:pt x="3294" y="5260"/>
                    </a:lnTo>
                    <a:lnTo>
                      <a:pt x="3258" y="5370"/>
                    </a:lnTo>
                    <a:lnTo>
                      <a:pt x="3230" y="5407"/>
                    </a:lnTo>
                    <a:lnTo>
                      <a:pt x="3221" y="5415"/>
                    </a:lnTo>
                    <a:lnTo>
                      <a:pt x="3213" y="5424"/>
                    </a:lnTo>
                    <a:lnTo>
                      <a:pt x="3194" y="5442"/>
                    </a:lnTo>
                    <a:lnTo>
                      <a:pt x="3185" y="5452"/>
                    </a:lnTo>
                    <a:lnTo>
                      <a:pt x="3166" y="5461"/>
                    </a:lnTo>
                    <a:lnTo>
                      <a:pt x="3166" y="5470"/>
                    </a:lnTo>
                    <a:lnTo>
                      <a:pt x="3166" y="5489"/>
                    </a:lnTo>
                    <a:lnTo>
                      <a:pt x="3175" y="5498"/>
                    </a:lnTo>
                    <a:lnTo>
                      <a:pt x="3175" y="5517"/>
                    </a:lnTo>
                    <a:lnTo>
                      <a:pt x="3185" y="5525"/>
                    </a:lnTo>
                    <a:lnTo>
                      <a:pt x="3203" y="5627"/>
                    </a:lnTo>
                    <a:lnTo>
                      <a:pt x="3221" y="5726"/>
                    </a:lnTo>
                    <a:lnTo>
                      <a:pt x="3230" y="5828"/>
                    </a:lnTo>
                    <a:lnTo>
                      <a:pt x="3230" y="5928"/>
                    </a:lnTo>
                    <a:lnTo>
                      <a:pt x="3221" y="6030"/>
                    </a:lnTo>
                    <a:lnTo>
                      <a:pt x="3221" y="6066"/>
                    </a:lnTo>
                    <a:lnTo>
                      <a:pt x="3203" y="6130"/>
                    </a:lnTo>
                    <a:lnTo>
                      <a:pt x="3258" y="6185"/>
                    </a:lnTo>
                    <a:lnTo>
                      <a:pt x="3294" y="6249"/>
                    </a:lnTo>
                    <a:lnTo>
                      <a:pt x="3331" y="6314"/>
                    </a:lnTo>
                    <a:lnTo>
                      <a:pt x="3350" y="6377"/>
                    </a:lnTo>
                    <a:lnTo>
                      <a:pt x="3350" y="6451"/>
                    </a:lnTo>
                    <a:lnTo>
                      <a:pt x="3340" y="6478"/>
                    </a:lnTo>
                    <a:lnTo>
                      <a:pt x="3323" y="6524"/>
                    </a:lnTo>
                    <a:lnTo>
                      <a:pt x="3294" y="6552"/>
                    </a:lnTo>
                    <a:lnTo>
                      <a:pt x="3258" y="6588"/>
                    </a:lnTo>
                    <a:lnTo>
                      <a:pt x="3230" y="6625"/>
                    </a:lnTo>
                    <a:lnTo>
                      <a:pt x="3203" y="6661"/>
                    </a:lnTo>
                    <a:lnTo>
                      <a:pt x="3203" y="6680"/>
                    </a:lnTo>
                    <a:lnTo>
                      <a:pt x="3194" y="6680"/>
                    </a:lnTo>
                    <a:lnTo>
                      <a:pt x="3185" y="6680"/>
                    </a:lnTo>
                    <a:lnTo>
                      <a:pt x="3175" y="6680"/>
                    </a:lnTo>
                    <a:lnTo>
                      <a:pt x="3166" y="6680"/>
                    </a:lnTo>
                    <a:lnTo>
                      <a:pt x="3157" y="6661"/>
                    </a:lnTo>
                    <a:lnTo>
                      <a:pt x="3157" y="6643"/>
                    </a:lnTo>
                    <a:lnTo>
                      <a:pt x="3175" y="6625"/>
                    </a:lnTo>
                    <a:lnTo>
                      <a:pt x="3194" y="6606"/>
                    </a:lnTo>
                    <a:lnTo>
                      <a:pt x="3203" y="6588"/>
                    </a:lnTo>
                    <a:lnTo>
                      <a:pt x="3213" y="6579"/>
                    </a:lnTo>
                    <a:lnTo>
                      <a:pt x="3230" y="6552"/>
                    </a:lnTo>
                    <a:lnTo>
                      <a:pt x="3248" y="6515"/>
                    </a:lnTo>
                    <a:lnTo>
                      <a:pt x="3258" y="6488"/>
                    </a:lnTo>
                    <a:lnTo>
                      <a:pt x="3267" y="6451"/>
                    </a:lnTo>
                    <a:lnTo>
                      <a:pt x="3267" y="6414"/>
                    </a:lnTo>
                    <a:lnTo>
                      <a:pt x="3267" y="6396"/>
                    </a:lnTo>
                    <a:lnTo>
                      <a:pt x="3258" y="6349"/>
                    </a:lnTo>
                    <a:lnTo>
                      <a:pt x="3240" y="6314"/>
                    </a:lnTo>
                    <a:lnTo>
                      <a:pt x="3213" y="6267"/>
                    </a:lnTo>
                    <a:lnTo>
                      <a:pt x="3185" y="6231"/>
                    </a:lnTo>
                    <a:lnTo>
                      <a:pt x="3148" y="6204"/>
                    </a:lnTo>
                    <a:lnTo>
                      <a:pt x="3130" y="6194"/>
                    </a:lnTo>
                    <a:lnTo>
                      <a:pt x="3111" y="6204"/>
                    </a:lnTo>
                    <a:lnTo>
                      <a:pt x="3084" y="6222"/>
                    </a:lnTo>
                    <a:lnTo>
                      <a:pt x="3057" y="6231"/>
                    </a:lnTo>
                    <a:lnTo>
                      <a:pt x="3038" y="6258"/>
                    </a:lnTo>
                    <a:lnTo>
                      <a:pt x="3028" y="6286"/>
                    </a:lnTo>
                    <a:lnTo>
                      <a:pt x="3028" y="6295"/>
                    </a:lnTo>
                    <a:lnTo>
                      <a:pt x="3020" y="6368"/>
                    </a:lnTo>
                    <a:lnTo>
                      <a:pt x="3028" y="6442"/>
                    </a:lnTo>
                    <a:lnTo>
                      <a:pt x="3038" y="6515"/>
                    </a:lnTo>
                    <a:lnTo>
                      <a:pt x="3057" y="6579"/>
                    </a:lnTo>
                    <a:lnTo>
                      <a:pt x="3057" y="6652"/>
                    </a:lnTo>
                    <a:lnTo>
                      <a:pt x="3057" y="6680"/>
                    </a:lnTo>
                    <a:lnTo>
                      <a:pt x="3028" y="6698"/>
                    </a:lnTo>
                    <a:lnTo>
                      <a:pt x="3001" y="6708"/>
                    </a:lnTo>
                    <a:lnTo>
                      <a:pt x="2974" y="6708"/>
                    </a:lnTo>
                    <a:lnTo>
                      <a:pt x="2947" y="6698"/>
                    </a:lnTo>
                    <a:lnTo>
                      <a:pt x="2919" y="6690"/>
                    </a:lnTo>
                    <a:lnTo>
                      <a:pt x="2910" y="6690"/>
                    </a:lnTo>
                    <a:lnTo>
                      <a:pt x="2855" y="6690"/>
                    </a:lnTo>
                    <a:lnTo>
                      <a:pt x="2801" y="6680"/>
                    </a:lnTo>
                    <a:lnTo>
                      <a:pt x="2745" y="6680"/>
                    </a:lnTo>
                    <a:lnTo>
                      <a:pt x="2699" y="6680"/>
                    </a:lnTo>
                    <a:lnTo>
                      <a:pt x="2644" y="6680"/>
                    </a:lnTo>
                    <a:lnTo>
                      <a:pt x="2626" y="6680"/>
                    </a:lnTo>
                    <a:lnTo>
                      <a:pt x="2617" y="6690"/>
                    </a:lnTo>
                    <a:lnTo>
                      <a:pt x="2608" y="6690"/>
                    </a:lnTo>
                    <a:lnTo>
                      <a:pt x="2599" y="6690"/>
                    </a:lnTo>
                    <a:lnTo>
                      <a:pt x="2581" y="6690"/>
                    </a:lnTo>
                    <a:lnTo>
                      <a:pt x="2572" y="6690"/>
                    </a:lnTo>
                    <a:lnTo>
                      <a:pt x="2562" y="6680"/>
                    </a:lnTo>
                    <a:lnTo>
                      <a:pt x="2562" y="6671"/>
                    </a:lnTo>
                    <a:lnTo>
                      <a:pt x="2554" y="6661"/>
                    </a:lnTo>
                    <a:lnTo>
                      <a:pt x="2554" y="6652"/>
                    </a:lnTo>
                    <a:lnTo>
                      <a:pt x="2562" y="6643"/>
                    </a:lnTo>
                    <a:lnTo>
                      <a:pt x="2589" y="6625"/>
                    </a:lnTo>
                    <a:lnTo>
                      <a:pt x="2626" y="6615"/>
                    </a:lnTo>
                    <a:lnTo>
                      <a:pt x="2664" y="6615"/>
                    </a:lnTo>
                    <a:lnTo>
                      <a:pt x="2699" y="6625"/>
                    </a:lnTo>
                    <a:lnTo>
                      <a:pt x="2736" y="6615"/>
                    </a:lnTo>
                    <a:lnTo>
                      <a:pt x="2745" y="6615"/>
                    </a:lnTo>
                    <a:lnTo>
                      <a:pt x="2782" y="6615"/>
                    </a:lnTo>
                    <a:lnTo>
                      <a:pt x="2819" y="6615"/>
                    </a:lnTo>
                    <a:lnTo>
                      <a:pt x="2855" y="6615"/>
                    </a:lnTo>
                    <a:lnTo>
                      <a:pt x="2883" y="6606"/>
                    </a:lnTo>
                    <a:lnTo>
                      <a:pt x="2919" y="6598"/>
                    </a:lnTo>
                    <a:lnTo>
                      <a:pt x="2929" y="6598"/>
                    </a:lnTo>
                    <a:lnTo>
                      <a:pt x="2947" y="6570"/>
                    </a:lnTo>
                    <a:lnTo>
                      <a:pt x="2929" y="6488"/>
                    </a:lnTo>
                    <a:lnTo>
                      <a:pt x="2929" y="6396"/>
                    </a:lnTo>
                    <a:lnTo>
                      <a:pt x="2929" y="6304"/>
                    </a:lnTo>
                    <a:lnTo>
                      <a:pt x="2956" y="6222"/>
                    </a:lnTo>
                    <a:lnTo>
                      <a:pt x="3010" y="6148"/>
                    </a:lnTo>
                    <a:lnTo>
                      <a:pt x="3028" y="6130"/>
                    </a:lnTo>
                    <a:lnTo>
                      <a:pt x="3028" y="6066"/>
                    </a:lnTo>
                    <a:lnTo>
                      <a:pt x="3020" y="6002"/>
                    </a:lnTo>
                    <a:lnTo>
                      <a:pt x="3010" y="5938"/>
                    </a:lnTo>
                    <a:lnTo>
                      <a:pt x="2993" y="5883"/>
                    </a:lnTo>
                    <a:lnTo>
                      <a:pt x="2974" y="5828"/>
                    </a:lnTo>
                    <a:lnTo>
                      <a:pt x="2965" y="5809"/>
                    </a:lnTo>
                    <a:lnTo>
                      <a:pt x="2956" y="5809"/>
                    </a:lnTo>
                    <a:lnTo>
                      <a:pt x="2956" y="5818"/>
                    </a:lnTo>
                    <a:lnTo>
                      <a:pt x="2956" y="5828"/>
                    </a:lnTo>
                    <a:lnTo>
                      <a:pt x="2956" y="5873"/>
                    </a:lnTo>
                    <a:lnTo>
                      <a:pt x="2956" y="5920"/>
                    </a:lnTo>
                    <a:lnTo>
                      <a:pt x="2956" y="5956"/>
                    </a:lnTo>
                    <a:lnTo>
                      <a:pt x="2947" y="6002"/>
                    </a:lnTo>
                    <a:lnTo>
                      <a:pt x="2938" y="6038"/>
                    </a:lnTo>
                    <a:lnTo>
                      <a:pt x="2938" y="6057"/>
                    </a:lnTo>
                    <a:lnTo>
                      <a:pt x="2947" y="6066"/>
                    </a:lnTo>
                    <a:lnTo>
                      <a:pt x="2947" y="6075"/>
                    </a:lnTo>
                    <a:lnTo>
                      <a:pt x="2956" y="6075"/>
                    </a:lnTo>
                    <a:lnTo>
                      <a:pt x="2947" y="6084"/>
                    </a:lnTo>
                    <a:lnTo>
                      <a:pt x="2947" y="6093"/>
                    </a:lnTo>
                    <a:lnTo>
                      <a:pt x="2938" y="6093"/>
                    </a:lnTo>
                    <a:lnTo>
                      <a:pt x="2929" y="6093"/>
                    </a:lnTo>
                    <a:lnTo>
                      <a:pt x="2919" y="6093"/>
                    </a:lnTo>
                    <a:lnTo>
                      <a:pt x="2910" y="6093"/>
                    </a:lnTo>
                    <a:lnTo>
                      <a:pt x="2855" y="6167"/>
                    </a:lnTo>
                    <a:lnTo>
                      <a:pt x="2846" y="6249"/>
                    </a:lnTo>
                    <a:lnTo>
                      <a:pt x="2864" y="6332"/>
                    </a:lnTo>
                    <a:lnTo>
                      <a:pt x="2891" y="6424"/>
                    </a:lnTo>
                    <a:lnTo>
                      <a:pt x="2891" y="6505"/>
                    </a:lnTo>
                    <a:lnTo>
                      <a:pt x="2883" y="6533"/>
                    </a:lnTo>
                    <a:lnTo>
                      <a:pt x="2864" y="6552"/>
                    </a:lnTo>
                    <a:lnTo>
                      <a:pt x="2846" y="6552"/>
                    </a:lnTo>
                    <a:lnTo>
                      <a:pt x="2828" y="6552"/>
                    </a:lnTo>
                    <a:lnTo>
                      <a:pt x="2801" y="6543"/>
                    </a:lnTo>
                    <a:lnTo>
                      <a:pt x="2782" y="6543"/>
                    </a:lnTo>
                    <a:lnTo>
                      <a:pt x="2773" y="6543"/>
                    </a:lnTo>
                    <a:lnTo>
                      <a:pt x="2727" y="6552"/>
                    </a:lnTo>
                    <a:lnTo>
                      <a:pt x="2672" y="6552"/>
                    </a:lnTo>
                    <a:lnTo>
                      <a:pt x="2617" y="6552"/>
                    </a:lnTo>
                    <a:lnTo>
                      <a:pt x="2562" y="6543"/>
                    </a:lnTo>
                    <a:lnTo>
                      <a:pt x="2507" y="6552"/>
                    </a:lnTo>
                    <a:lnTo>
                      <a:pt x="2498" y="6552"/>
                    </a:lnTo>
                    <a:lnTo>
                      <a:pt x="2489" y="6552"/>
                    </a:lnTo>
                    <a:lnTo>
                      <a:pt x="2479" y="6552"/>
                    </a:lnTo>
                    <a:lnTo>
                      <a:pt x="2479" y="6543"/>
                    </a:lnTo>
                    <a:lnTo>
                      <a:pt x="2471" y="6543"/>
                    </a:lnTo>
                    <a:lnTo>
                      <a:pt x="2471" y="6533"/>
                    </a:lnTo>
                    <a:lnTo>
                      <a:pt x="2471" y="6524"/>
                    </a:lnTo>
                    <a:lnTo>
                      <a:pt x="2471" y="6515"/>
                    </a:lnTo>
                    <a:lnTo>
                      <a:pt x="2479" y="6505"/>
                    </a:lnTo>
                    <a:lnTo>
                      <a:pt x="2489" y="6505"/>
                    </a:lnTo>
                    <a:lnTo>
                      <a:pt x="2507" y="6505"/>
                    </a:lnTo>
                    <a:lnTo>
                      <a:pt x="2507" y="6496"/>
                    </a:lnTo>
                    <a:lnTo>
                      <a:pt x="2562" y="6496"/>
                    </a:lnTo>
                    <a:lnTo>
                      <a:pt x="2626" y="6496"/>
                    </a:lnTo>
                    <a:lnTo>
                      <a:pt x="2682" y="6496"/>
                    </a:lnTo>
                    <a:lnTo>
                      <a:pt x="2736" y="6488"/>
                    </a:lnTo>
                    <a:lnTo>
                      <a:pt x="2791" y="6469"/>
                    </a:lnTo>
                    <a:lnTo>
                      <a:pt x="2809" y="6460"/>
                    </a:lnTo>
                    <a:lnTo>
                      <a:pt x="2801" y="6396"/>
                    </a:lnTo>
                    <a:lnTo>
                      <a:pt x="2791" y="6332"/>
                    </a:lnTo>
                    <a:lnTo>
                      <a:pt x="2782" y="6267"/>
                    </a:lnTo>
                    <a:lnTo>
                      <a:pt x="2782" y="6204"/>
                    </a:lnTo>
                    <a:lnTo>
                      <a:pt x="2801" y="6148"/>
                    </a:lnTo>
                    <a:lnTo>
                      <a:pt x="2809" y="6130"/>
                    </a:lnTo>
                    <a:lnTo>
                      <a:pt x="2883" y="6057"/>
                    </a:lnTo>
                    <a:lnTo>
                      <a:pt x="2883" y="6020"/>
                    </a:lnTo>
                    <a:lnTo>
                      <a:pt x="2883" y="5974"/>
                    </a:lnTo>
                    <a:lnTo>
                      <a:pt x="2883" y="5938"/>
                    </a:lnTo>
                    <a:lnTo>
                      <a:pt x="2883" y="5893"/>
                    </a:lnTo>
                    <a:lnTo>
                      <a:pt x="2883" y="5846"/>
                    </a:lnTo>
                    <a:lnTo>
                      <a:pt x="2883" y="5836"/>
                    </a:lnTo>
                    <a:lnTo>
                      <a:pt x="2855" y="5746"/>
                    </a:lnTo>
                    <a:lnTo>
                      <a:pt x="2819" y="5662"/>
                    </a:lnTo>
                    <a:lnTo>
                      <a:pt x="2782" y="5580"/>
                    </a:lnTo>
                    <a:lnTo>
                      <a:pt x="2727" y="5507"/>
                    </a:lnTo>
                    <a:lnTo>
                      <a:pt x="2664" y="5434"/>
                    </a:lnTo>
                    <a:lnTo>
                      <a:pt x="2635" y="5415"/>
                    </a:lnTo>
                    <a:lnTo>
                      <a:pt x="2626" y="5407"/>
                    </a:lnTo>
                    <a:lnTo>
                      <a:pt x="2608" y="5407"/>
                    </a:lnTo>
                    <a:lnTo>
                      <a:pt x="2599" y="5415"/>
                    </a:lnTo>
                    <a:lnTo>
                      <a:pt x="2581" y="5415"/>
                    </a:lnTo>
                    <a:lnTo>
                      <a:pt x="2572" y="5424"/>
                    </a:lnTo>
                    <a:lnTo>
                      <a:pt x="2562" y="5424"/>
                    </a:lnTo>
                    <a:lnTo>
                      <a:pt x="2516" y="5442"/>
                    </a:lnTo>
                    <a:lnTo>
                      <a:pt x="2471" y="5461"/>
                    </a:lnTo>
                    <a:lnTo>
                      <a:pt x="2416" y="5479"/>
                    </a:lnTo>
                    <a:lnTo>
                      <a:pt x="2361" y="5489"/>
                    </a:lnTo>
                    <a:lnTo>
                      <a:pt x="2315" y="5489"/>
                    </a:lnTo>
                    <a:lnTo>
                      <a:pt x="2297" y="5479"/>
                    </a:lnTo>
                    <a:lnTo>
                      <a:pt x="2260" y="5461"/>
                    </a:lnTo>
                    <a:lnTo>
                      <a:pt x="2242" y="5434"/>
                    </a:lnTo>
                    <a:lnTo>
                      <a:pt x="2214" y="5407"/>
                    </a:lnTo>
                    <a:lnTo>
                      <a:pt x="2205" y="5370"/>
                    </a:lnTo>
                    <a:lnTo>
                      <a:pt x="2187" y="5342"/>
                    </a:lnTo>
                    <a:lnTo>
                      <a:pt x="2178" y="5332"/>
                    </a:lnTo>
                    <a:lnTo>
                      <a:pt x="2114" y="5305"/>
                    </a:lnTo>
                    <a:lnTo>
                      <a:pt x="2059" y="5268"/>
                    </a:lnTo>
                    <a:lnTo>
                      <a:pt x="2005" y="5241"/>
                    </a:lnTo>
                    <a:lnTo>
                      <a:pt x="1940" y="5205"/>
                    </a:lnTo>
                    <a:lnTo>
                      <a:pt x="1885" y="5176"/>
                    </a:lnTo>
                    <a:lnTo>
                      <a:pt x="1857" y="5176"/>
                    </a:lnTo>
                    <a:lnTo>
                      <a:pt x="1629" y="5012"/>
                    </a:lnTo>
                    <a:lnTo>
                      <a:pt x="1418" y="4829"/>
                    </a:lnTo>
                    <a:lnTo>
                      <a:pt x="1217" y="4627"/>
                    </a:lnTo>
                    <a:lnTo>
                      <a:pt x="1043" y="4406"/>
                    </a:lnTo>
                    <a:lnTo>
                      <a:pt x="914" y="4169"/>
                    </a:lnTo>
                    <a:lnTo>
                      <a:pt x="879" y="4087"/>
                    </a:lnTo>
                    <a:lnTo>
                      <a:pt x="851" y="4022"/>
                    </a:lnTo>
                    <a:lnTo>
                      <a:pt x="833" y="3967"/>
                    </a:lnTo>
                    <a:lnTo>
                      <a:pt x="815" y="3903"/>
                    </a:lnTo>
                    <a:lnTo>
                      <a:pt x="805" y="3839"/>
                    </a:lnTo>
                    <a:lnTo>
                      <a:pt x="796" y="3775"/>
                    </a:lnTo>
                    <a:lnTo>
                      <a:pt x="805" y="3756"/>
                    </a:lnTo>
                    <a:lnTo>
                      <a:pt x="805" y="3674"/>
                    </a:lnTo>
                    <a:lnTo>
                      <a:pt x="815" y="3591"/>
                    </a:lnTo>
                    <a:lnTo>
                      <a:pt x="824" y="3519"/>
                    </a:lnTo>
                    <a:lnTo>
                      <a:pt x="833" y="3436"/>
                    </a:lnTo>
                    <a:lnTo>
                      <a:pt x="842" y="3353"/>
                    </a:lnTo>
                    <a:lnTo>
                      <a:pt x="842" y="3335"/>
                    </a:lnTo>
                    <a:lnTo>
                      <a:pt x="851" y="3280"/>
                    </a:lnTo>
                    <a:lnTo>
                      <a:pt x="869" y="3225"/>
                    </a:lnTo>
                    <a:lnTo>
                      <a:pt x="887" y="3170"/>
                    </a:lnTo>
                    <a:lnTo>
                      <a:pt x="906" y="3124"/>
                    </a:lnTo>
                    <a:lnTo>
                      <a:pt x="914" y="3069"/>
                    </a:lnTo>
                    <a:lnTo>
                      <a:pt x="914" y="3051"/>
                    </a:lnTo>
                    <a:lnTo>
                      <a:pt x="952" y="2923"/>
                    </a:lnTo>
                    <a:lnTo>
                      <a:pt x="997" y="2812"/>
                    </a:lnTo>
                    <a:lnTo>
                      <a:pt x="1052" y="2694"/>
                    </a:lnTo>
                    <a:lnTo>
                      <a:pt x="1099" y="2583"/>
                    </a:lnTo>
                    <a:lnTo>
                      <a:pt x="1144" y="2465"/>
                    </a:lnTo>
                    <a:lnTo>
                      <a:pt x="1162" y="2428"/>
                    </a:lnTo>
                    <a:lnTo>
                      <a:pt x="1189" y="2354"/>
                    </a:lnTo>
                    <a:lnTo>
                      <a:pt x="1217" y="2290"/>
                    </a:lnTo>
                    <a:lnTo>
                      <a:pt x="1236" y="2217"/>
                    </a:lnTo>
                    <a:lnTo>
                      <a:pt x="1254" y="2144"/>
                    </a:lnTo>
                    <a:lnTo>
                      <a:pt x="1272" y="2061"/>
                    </a:lnTo>
                    <a:lnTo>
                      <a:pt x="1272" y="2034"/>
                    </a:lnTo>
                    <a:lnTo>
                      <a:pt x="1254" y="1997"/>
                    </a:lnTo>
                    <a:lnTo>
                      <a:pt x="1227" y="1961"/>
                    </a:lnTo>
                    <a:lnTo>
                      <a:pt x="1189" y="1933"/>
                    </a:lnTo>
                    <a:lnTo>
                      <a:pt x="1144" y="1905"/>
                    </a:lnTo>
                    <a:lnTo>
                      <a:pt x="1107" y="1887"/>
                    </a:lnTo>
                    <a:lnTo>
                      <a:pt x="1099" y="1878"/>
                    </a:lnTo>
                    <a:lnTo>
                      <a:pt x="1052" y="1860"/>
                    </a:lnTo>
                    <a:lnTo>
                      <a:pt x="1016" y="1851"/>
                    </a:lnTo>
                    <a:lnTo>
                      <a:pt x="970" y="1841"/>
                    </a:lnTo>
                    <a:lnTo>
                      <a:pt x="933" y="1833"/>
                    </a:lnTo>
                    <a:lnTo>
                      <a:pt x="887" y="1823"/>
                    </a:lnTo>
                    <a:lnTo>
                      <a:pt x="869" y="1823"/>
                    </a:lnTo>
                    <a:lnTo>
                      <a:pt x="750" y="1833"/>
                    </a:lnTo>
                    <a:lnTo>
                      <a:pt x="705" y="1833"/>
                    </a:lnTo>
                    <a:lnTo>
                      <a:pt x="659" y="1833"/>
                    </a:lnTo>
                    <a:lnTo>
                      <a:pt x="613" y="1833"/>
                    </a:lnTo>
                    <a:lnTo>
                      <a:pt x="577" y="1814"/>
                    </a:lnTo>
                    <a:lnTo>
                      <a:pt x="550" y="1786"/>
                    </a:lnTo>
                    <a:lnTo>
                      <a:pt x="540" y="1768"/>
                    </a:lnTo>
                    <a:lnTo>
                      <a:pt x="512" y="1704"/>
                    </a:lnTo>
                    <a:lnTo>
                      <a:pt x="494" y="1639"/>
                    </a:lnTo>
                    <a:lnTo>
                      <a:pt x="485" y="1567"/>
                    </a:lnTo>
                    <a:lnTo>
                      <a:pt x="485" y="1493"/>
                    </a:lnTo>
                    <a:lnTo>
                      <a:pt x="503" y="1429"/>
                    </a:lnTo>
                    <a:lnTo>
                      <a:pt x="512" y="1401"/>
                    </a:lnTo>
                    <a:lnTo>
                      <a:pt x="485" y="1411"/>
                    </a:lnTo>
                    <a:lnTo>
                      <a:pt x="467" y="1411"/>
                    </a:lnTo>
                    <a:lnTo>
                      <a:pt x="440" y="1411"/>
                    </a:lnTo>
                    <a:lnTo>
                      <a:pt x="421" y="1420"/>
                    </a:lnTo>
                    <a:lnTo>
                      <a:pt x="402" y="1429"/>
                    </a:lnTo>
                    <a:lnTo>
                      <a:pt x="393" y="1429"/>
                    </a:lnTo>
                    <a:lnTo>
                      <a:pt x="338" y="1493"/>
                    </a:lnTo>
                    <a:lnTo>
                      <a:pt x="293" y="1567"/>
                    </a:lnTo>
                    <a:lnTo>
                      <a:pt x="247" y="1639"/>
                    </a:lnTo>
                    <a:lnTo>
                      <a:pt x="201" y="1704"/>
                    </a:lnTo>
                    <a:lnTo>
                      <a:pt x="146" y="1777"/>
                    </a:lnTo>
                    <a:lnTo>
                      <a:pt x="128" y="1795"/>
                    </a:lnTo>
                    <a:lnTo>
                      <a:pt x="110" y="1814"/>
                    </a:lnTo>
                    <a:lnTo>
                      <a:pt x="100" y="1823"/>
                    </a:lnTo>
                    <a:lnTo>
                      <a:pt x="83" y="1823"/>
                    </a:lnTo>
                    <a:lnTo>
                      <a:pt x="73" y="1833"/>
                    </a:lnTo>
                    <a:lnTo>
                      <a:pt x="55" y="1833"/>
                    </a:lnTo>
                    <a:lnTo>
                      <a:pt x="46" y="1823"/>
                    </a:lnTo>
                    <a:lnTo>
                      <a:pt x="18" y="1795"/>
                    </a:lnTo>
                    <a:lnTo>
                      <a:pt x="8" y="1758"/>
                    </a:lnTo>
                    <a:lnTo>
                      <a:pt x="0" y="1723"/>
                    </a:lnTo>
                    <a:lnTo>
                      <a:pt x="0" y="1686"/>
                    </a:lnTo>
                    <a:lnTo>
                      <a:pt x="8" y="1648"/>
                    </a:lnTo>
                    <a:lnTo>
                      <a:pt x="8" y="1631"/>
                    </a:lnTo>
                    <a:lnTo>
                      <a:pt x="37" y="1549"/>
                    </a:lnTo>
                    <a:lnTo>
                      <a:pt x="83" y="1475"/>
                    </a:lnTo>
                    <a:lnTo>
                      <a:pt x="146" y="1411"/>
                    </a:lnTo>
                    <a:lnTo>
                      <a:pt x="220" y="1355"/>
                    </a:lnTo>
                    <a:lnTo>
                      <a:pt x="293" y="1310"/>
                    </a:lnTo>
                    <a:lnTo>
                      <a:pt x="320" y="1292"/>
                    </a:lnTo>
                    <a:lnTo>
                      <a:pt x="384" y="1264"/>
                    </a:lnTo>
                    <a:lnTo>
                      <a:pt x="458" y="1237"/>
                    </a:lnTo>
                    <a:lnTo>
                      <a:pt x="530" y="1227"/>
                    </a:lnTo>
                    <a:lnTo>
                      <a:pt x="604" y="1209"/>
                    </a:lnTo>
                    <a:lnTo>
                      <a:pt x="677" y="1191"/>
                    </a:lnTo>
                    <a:lnTo>
                      <a:pt x="705" y="1182"/>
                    </a:lnTo>
                    <a:lnTo>
                      <a:pt x="777" y="1200"/>
                    </a:lnTo>
                    <a:lnTo>
                      <a:pt x="851" y="1209"/>
                    </a:lnTo>
                    <a:lnTo>
                      <a:pt x="933" y="1209"/>
                    </a:lnTo>
                    <a:lnTo>
                      <a:pt x="1007" y="1218"/>
                    </a:lnTo>
                    <a:lnTo>
                      <a:pt x="1089" y="1227"/>
                    </a:lnTo>
                    <a:lnTo>
                      <a:pt x="1107" y="1227"/>
                    </a:lnTo>
                    <a:lnTo>
                      <a:pt x="1144" y="1218"/>
                    </a:lnTo>
                    <a:lnTo>
                      <a:pt x="1180" y="1209"/>
                    </a:lnTo>
                    <a:lnTo>
                      <a:pt x="1217" y="1218"/>
                    </a:lnTo>
                    <a:lnTo>
                      <a:pt x="1254" y="1218"/>
                    </a:lnTo>
                    <a:lnTo>
                      <a:pt x="1281" y="1227"/>
                    </a:lnTo>
                    <a:lnTo>
                      <a:pt x="1299" y="1227"/>
                    </a:lnTo>
                    <a:lnTo>
                      <a:pt x="1336" y="1227"/>
                    </a:lnTo>
                    <a:lnTo>
                      <a:pt x="1373" y="1218"/>
                    </a:lnTo>
                    <a:lnTo>
                      <a:pt x="1409" y="1209"/>
                    </a:lnTo>
                    <a:lnTo>
                      <a:pt x="1455" y="1200"/>
                    </a:lnTo>
                    <a:lnTo>
                      <a:pt x="1492" y="1209"/>
                    </a:lnTo>
                    <a:lnTo>
                      <a:pt x="1501" y="1209"/>
                    </a:lnTo>
                    <a:lnTo>
                      <a:pt x="1519" y="1200"/>
                    </a:lnTo>
                    <a:lnTo>
                      <a:pt x="1538" y="1200"/>
                    </a:lnTo>
                    <a:lnTo>
                      <a:pt x="1555" y="1209"/>
                    </a:lnTo>
                    <a:lnTo>
                      <a:pt x="1573" y="1209"/>
                    </a:lnTo>
                    <a:lnTo>
                      <a:pt x="1592" y="1209"/>
                    </a:lnTo>
                    <a:lnTo>
                      <a:pt x="1601" y="1209"/>
                    </a:lnTo>
                    <a:lnTo>
                      <a:pt x="1683" y="1200"/>
                    </a:lnTo>
                    <a:lnTo>
                      <a:pt x="1766" y="1182"/>
                    </a:lnTo>
                    <a:lnTo>
                      <a:pt x="1839" y="1163"/>
                    </a:lnTo>
                    <a:lnTo>
                      <a:pt x="1922" y="1135"/>
                    </a:lnTo>
                    <a:lnTo>
                      <a:pt x="1995" y="1108"/>
                    </a:lnTo>
                    <a:lnTo>
                      <a:pt x="2023" y="1099"/>
                    </a:lnTo>
                    <a:lnTo>
                      <a:pt x="2050" y="1071"/>
                    </a:lnTo>
                    <a:lnTo>
                      <a:pt x="2068" y="1053"/>
                    </a:lnTo>
                    <a:lnTo>
                      <a:pt x="2087" y="1016"/>
                    </a:lnTo>
                    <a:lnTo>
                      <a:pt x="2095" y="989"/>
                    </a:lnTo>
                    <a:lnTo>
                      <a:pt x="2095" y="953"/>
                    </a:lnTo>
                    <a:lnTo>
                      <a:pt x="2095" y="943"/>
                    </a:lnTo>
                    <a:lnTo>
                      <a:pt x="2068" y="898"/>
                    </a:lnTo>
                    <a:lnTo>
                      <a:pt x="2032" y="861"/>
                    </a:lnTo>
                    <a:lnTo>
                      <a:pt x="1985" y="833"/>
                    </a:lnTo>
                    <a:lnTo>
                      <a:pt x="1940" y="806"/>
                    </a:lnTo>
                    <a:lnTo>
                      <a:pt x="1885" y="797"/>
                    </a:lnTo>
                    <a:lnTo>
                      <a:pt x="1867" y="797"/>
                    </a:lnTo>
                    <a:lnTo>
                      <a:pt x="1812" y="787"/>
                    </a:lnTo>
                    <a:lnTo>
                      <a:pt x="1775" y="760"/>
                    </a:lnTo>
                    <a:lnTo>
                      <a:pt x="1748" y="723"/>
                    </a:lnTo>
                    <a:lnTo>
                      <a:pt x="1711" y="677"/>
                    </a:lnTo>
                    <a:lnTo>
                      <a:pt x="1693" y="632"/>
                    </a:lnTo>
                    <a:lnTo>
                      <a:pt x="1683" y="623"/>
                    </a:lnTo>
                    <a:lnTo>
                      <a:pt x="1675" y="585"/>
                    </a:lnTo>
                    <a:lnTo>
                      <a:pt x="1665" y="550"/>
                    </a:lnTo>
                    <a:lnTo>
                      <a:pt x="1656" y="522"/>
                    </a:lnTo>
                    <a:lnTo>
                      <a:pt x="1648" y="485"/>
                    </a:lnTo>
                    <a:lnTo>
                      <a:pt x="1648" y="448"/>
                    </a:lnTo>
                    <a:lnTo>
                      <a:pt x="1648" y="440"/>
                    </a:lnTo>
                    <a:lnTo>
                      <a:pt x="1638" y="421"/>
                    </a:lnTo>
                    <a:lnTo>
                      <a:pt x="1638" y="394"/>
                    </a:lnTo>
                    <a:lnTo>
                      <a:pt x="1638" y="376"/>
                    </a:lnTo>
                    <a:lnTo>
                      <a:pt x="1638" y="348"/>
                    </a:lnTo>
                    <a:lnTo>
                      <a:pt x="1629" y="329"/>
                    </a:lnTo>
                    <a:lnTo>
                      <a:pt x="1629" y="320"/>
                    </a:lnTo>
                    <a:lnTo>
                      <a:pt x="1629" y="301"/>
                    </a:lnTo>
                    <a:lnTo>
                      <a:pt x="1638" y="274"/>
                    </a:lnTo>
                    <a:lnTo>
                      <a:pt x="1648" y="256"/>
                    </a:lnTo>
                    <a:lnTo>
                      <a:pt x="1648" y="229"/>
                    </a:lnTo>
                    <a:lnTo>
                      <a:pt x="1656" y="210"/>
                    </a:lnTo>
                    <a:lnTo>
                      <a:pt x="1665" y="201"/>
                    </a:lnTo>
                    <a:lnTo>
                      <a:pt x="1711" y="156"/>
                    </a:lnTo>
                    <a:lnTo>
                      <a:pt x="1758" y="119"/>
                    </a:lnTo>
                    <a:lnTo>
                      <a:pt x="1803" y="72"/>
                    </a:lnTo>
                    <a:lnTo>
                      <a:pt x="1857" y="36"/>
                    </a:lnTo>
                    <a:lnTo>
                      <a:pt x="1913" y="9"/>
                    </a:lnTo>
                    <a:lnTo>
                      <a:pt x="1930" y="0"/>
                    </a:lnTo>
                    <a:lnTo>
                      <a:pt x="1977" y="9"/>
                    </a:lnTo>
                    <a:lnTo>
                      <a:pt x="2013" y="18"/>
                    </a:lnTo>
                    <a:lnTo>
                      <a:pt x="2050" y="36"/>
                    </a:lnTo>
                    <a:lnTo>
                      <a:pt x="2087" y="54"/>
                    </a:lnTo>
                    <a:lnTo>
                      <a:pt x="2123" y="81"/>
                    </a:lnTo>
                    <a:lnTo>
                      <a:pt x="2132" y="8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703120" y="3273840"/>
                <a:ext cx="93600" cy="109440"/>
              </a:xfrm>
              <a:custGeom>
                <a:avLst/>
                <a:gdLst/>
                <a:ahLst/>
                <a:rect l="l" t="t" r="r" b="b"/>
                <a:pathLst>
                  <a:path w="237" h="275">
                    <a:moveTo>
                      <a:pt x="0" y="0"/>
                    </a:moveTo>
                    <a:lnTo>
                      <a:pt x="18" y="19"/>
                    </a:lnTo>
                    <a:lnTo>
                      <a:pt x="37" y="38"/>
                    </a:lnTo>
                    <a:lnTo>
                      <a:pt x="55" y="48"/>
                    </a:lnTo>
                    <a:lnTo>
                      <a:pt x="82" y="56"/>
                    </a:lnTo>
                    <a:lnTo>
                      <a:pt x="100" y="75"/>
                    </a:lnTo>
                    <a:lnTo>
                      <a:pt x="119" y="83"/>
                    </a:lnTo>
                    <a:lnTo>
                      <a:pt x="147" y="102"/>
                    </a:lnTo>
                    <a:lnTo>
                      <a:pt x="165" y="110"/>
                    </a:lnTo>
                    <a:lnTo>
                      <a:pt x="183" y="129"/>
                    </a:lnTo>
                    <a:lnTo>
                      <a:pt x="202" y="148"/>
                    </a:lnTo>
                    <a:lnTo>
                      <a:pt x="210" y="157"/>
                    </a:lnTo>
                    <a:lnTo>
                      <a:pt x="220" y="175"/>
                    </a:lnTo>
                    <a:lnTo>
                      <a:pt x="229" y="203"/>
                    </a:lnTo>
                    <a:lnTo>
                      <a:pt x="237" y="220"/>
                    </a:lnTo>
                    <a:lnTo>
                      <a:pt x="237" y="248"/>
                    </a:lnTo>
                    <a:lnTo>
                      <a:pt x="237" y="2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685120" y="3383280"/>
                <a:ext cx="111960" cy="99720"/>
              </a:xfrm>
              <a:custGeom>
                <a:avLst/>
                <a:gdLst/>
                <a:ahLst/>
                <a:rect l="l" t="t" r="r" b="b"/>
                <a:pathLst>
                  <a:path w="282" h="248">
                    <a:moveTo>
                      <a:pt x="282" y="0"/>
                    </a:moveTo>
                    <a:lnTo>
                      <a:pt x="265" y="20"/>
                    </a:lnTo>
                    <a:lnTo>
                      <a:pt x="255" y="38"/>
                    </a:lnTo>
                    <a:lnTo>
                      <a:pt x="237" y="56"/>
                    </a:lnTo>
                    <a:lnTo>
                      <a:pt x="220" y="74"/>
                    </a:lnTo>
                    <a:lnTo>
                      <a:pt x="201" y="92"/>
                    </a:lnTo>
                    <a:lnTo>
                      <a:pt x="183" y="101"/>
                    </a:lnTo>
                    <a:lnTo>
                      <a:pt x="164" y="119"/>
                    </a:lnTo>
                    <a:lnTo>
                      <a:pt x="145" y="129"/>
                    </a:lnTo>
                    <a:lnTo>
                      <a:pt x="127" y="139"/>
                    </a:lnTo>
                    <a:lnTo>
                      <a:pt x="100" y="157"/>
                    </a:lnTo>
                    <a:lnTo>
                      <a:pt x="82" y="166"/>
                    </a:lnTo>
                    <a:lnTo>
                      <a:pt x="63" y="184"/>
                    </a:lnTo>
                    <a:lnTo>
                      <a:pt x="45" y="194"/>
                    </a:lnTo>
                    <a:lnTo>
                      <a:pt x="27" y="211"/>
                    </a:lnTo>
                    <a:lnTo>
                      <a:pt x="8" y="229"/>
                    </a:lnTo>
                    <a:lnTo>
                      <a:pt x="0" y="2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65320" y="3504960"/>
                <a:ext cx="25560" cy="6192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10" y="0"/>
                    </a:moveTo>
                    <a:lnTo>
                      <a:pt x="0" y="17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4"/>
                    </a:lnTo>
                    <a:lnTo>
                      <a:pt x="10" y="63"/>
                    </a:lnTo>
                    <a:lnTo>
                      <a:pt x="19" y="72"/>
                    </a:lnTo>
                    <a:lnTo>
                      <a:pt x="19" y="81"/>
                    </a:lnTo>
                    <a:lnTo>
                      <a:pt x="28" y="91"/>
                    </a:lnTo>
                    <a:lnTo>
                      <a:pt x="37" y="100"/>
                    </a:lnTo>
                    <a:lnTo>
                      <a:pt x="47" y="110"/>
                    </a:lnTo>
                    <a:lnTo>
                      <a:pt x="47" y="119"/>
                    </a:lnTo>
                    <a:lnTo>
                      <a:pt x="55" y="127"/>
                    </a:lnTo>
                    <a:lnTo>
                      <a:pt x="64" y="137"/>
                    </a:lnTo>
                    <a:lnTo>
                      <a:pt x="64" y="146"/>
                    </a:lnTo>
                    <a:lnTo>
                      <a:pt x="64" y="1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690880" y="3567240"/>
                <a:ext cx="51840" cy="69480"/>
              </a:xfrm>
              <a:custGeom>
                <a:avLst/>
                <a:gdLst/>
                <a:ahLst/>
                <a:rect l="l" t="t" r="r" b="b"/>
                <a:pathLst>
                  <a:path w="128" h="174">
                    <a:moveTo>
                      <a:pt x="0" y="0"/>
                    </a:moveTo>
                    <a:lnTo>
                      <a:pt x="10" y="9"/>
                    </a:lnTo>
                    <a:lnTo>
                      <a:pt x="19" y="18"/>
                    </a:lnTo>
                    <a:lnTo>
                      <a:pt x="28" y="36"/>
                    </a:lnTo>
                    <a:lnTo>
                      <a:pt x="38" y="46"/>
                    </a:lnTo>
                    <a:lnTo>
                      <a:pt x="46" y="54"/>
                    </a:lnTo>
                    <a:lnTo>
                      <a:pt x="46" y="64"/>
                    </a:lnTo>
                    <a:lnTo>
                      <a:pt x="56" y="74"/>
                    </a:lnTo>
                    <a:lnTo>
                      <a:pt x="65" y="92"/>
                    </a:lnTo>
                    <a:lnTo>
                      <a:pt x="74" y="101"/>
                    </a:lnTo>
                    <a:lnTo>
                      <a:pt x="83" y="111"/>
                    </a:lnTo>
                    <a:lnTo>
                      <a:pt x="83" y="119"/>
                    </a:lnTo>
                    <a:lnTo>
                      <a:pt x="93" y="128"/>
                    </a:lnTo>
                    <a:lnTo>
                      <a:pt x="101" y="146"/>
                    </a:lnTo>
                    <a:lnTo>
                      <a:pt x="110" y="156"/>
                    </a:lnTo>
                    <a:lnTo>
                      <a:pt x="120" y="165"/>
                    </a:lnTo>
                    <a:lnTo>
                      <a:pt x="128" y="1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743080" y="363672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587" h="211">
                    <a:moveTo>
                      <a:pt x="0" y="0"/>
                    </a:moveTo>
                    <a:lnTo>
                      <a:pt x="38" y="19"/>
                    </a:lnTo>
                    <a:lnTo>
                      <a:pt x="75" y="27"/>
                    </a:lnTo>
                    <a:lnTo>
                      <a:pt x="110" y="47"/>
                    </a:lnTo>
                    <a:lnTo>
                      <a:pt x="147" y="55"/>
                    </a:lnTo>
                    <a:lnTo>
                      <a:pt x="184" y="74"/>
                    </a:lnTo>
                    <a:lnTo>
                      <a:pt x="220" y="82"/>
                    </a:lnTo>
                    <a:lnTo>
                      <a:pt x="257" y="92"/>
                    </a:lnTo>
                    <a:lnTo>
                      <a:pt x="294" y="110"/>
                    </a:lnTo>
                    <a:lnTo>
                      <a:pt x="330" y="119"/>
                    </a:lnTo>
                    <a:lnTo>
                      <a:pt x="367" y="128"/>
                    </a:lnTo>
                    <a:lnTo>
                      <a:pt x="403" y="146"/>
                    </a:lnTo>
                    <a:lnTo>
                      <a:pt x="440" y="156"/>
                    </a:lnTo>
                    <a:lnTo>
                      <a:pt x="477" y="166"/>
                    </a:lnTo>
                    <a:lnTo>
                      <a:pt x="513" y="184"/>
                    </a:lnTo>
                    <a:lnTo>
                      <a:pt x="550" y="193"/>
                    </a:lnTo>
                    <a:lnTo>
                      <a:pt x="587" y="2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634800" y="3868560"/>
                <a:ext cx="193680" cy="63720"/>
              </a:xfrm>
              <a:custGeom>
                <a:avLst/>
                <a:gdLst/>
                <a:ahLst/>
                <a:rect l="l" t="t" r="r" b="b"/>
                <a:pathLst>
                  <a:path w="485" h="164">
                    <a:moveTo>
                      <a:pt x="0" y="0"/>
                    </a:moveTo>
                    <a:lnTo>
                      <a:pt x="38" y="9"/>
                    </a:lnTo>
                    <a:lnTo>
                      <a:pt x="65" y="9"/>
                    </a:lnTo>
                    <a:lnTo>
                      <a:pt x="101" y="9"/>
                    </a:lnTo>
                    <a:lnTo>
                      <a:pt x="128" y="18"/>
                    </a:lnTo>
                    <a:lnTo>
                      <a:pt x="166" y="18"/>
                    </a:lnTo>
                    <a:lnTo>
                      <a:pt x="193" y="27"/>
                    </a:lnTo>
                    <a:lnTo>
                      <a:pt x="230" y="36"/>
                    </a:lnTo>
                    <a:lnTo>
                      <a:pt x="257" y="45"/>
                    </a:lnTo>
                    <a:lnTo>
                      <a:pt x="293" y="54"/>
                    </a:lnTo>
                    <a:lnTo>
                      <a:pt x="321" y="64"/>
                    </a:lnTo>
                    <a:lnTo>
                      <a:pt x="348" y="72"/>
                    </a:lnTo>
                    <a:lnTo>
                      <a:pt x="376" y="91"/>
                    </a:lnTo>
                    <a:lnTo>
                      <a:pt x="412" y="101"/>
                    </a:lnTo>
                    <a:lnTo>
                      <a:pt x="431" y="119"/>
                    </a:lnTo>
                    <a:lnTo>
                      <a:pt x="458" y="137"/>
                    </a:lnTo>
                    <a:lnTo>
                      <a:pt x="485" y="1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828840" y="3932640"/>
                <a:ext cx="63720" cy="73440"/>
              </a:xfrm>
              <a:custGeom>
                <a:avLst/>
                <a:gdLst/>
                <a:ahLst/>
                <a:rect l="l" t="t" r="r" b="b"/>
                <a:pathLst>
                  <a:path w="157" h="183">
                    <a:moveTo>
                      <a:pt x="0" y="0"/>
                    </a:moveTo>
                    <a:lnTo>
                      <a:pt x="10" y="10"/>
                    </a:lnTo>
                    <a:lnTo>
                      <a:pt x="28" y="19"/>
                    </a:lnTo>
                    <a:lnTo>
                      <a:pt x="37" y="27"/>
                    </a:lnTo>
                    <a:lnTo>
                      <a:pt x="47" y="37"/>
                    </a:lnTo>
                    <a:lnTo>
                      <a:pt x="55" y="46"/>
                    </a:lnTo>
                    <a:lnTo>
                      <a:pt x="75" y="64"/>
                    </a:lnTo>
                    <a:lnTo>
                      <a:pt x="83" y="74"/>
                    </a:lnTo>
                    <a:lnTo>
                      <a:pt x="93" y="83"/>
                    </a:lnTo>
                    <a:lnTo>
                      <a:pt x="102" y="92"/>
                    </a:lnTo>
                    <a:lnTo>
                      <a:pt x="110" y="110"/>
                    </a:lnTo>
                    <a:lnTo>
                      <a:pt x="120" y="120"/>
                    </a:lnTo>
                    <a:lnTo>
                      <a:pt x="129" y="129"/>
                    </a:lnTo>
                    <a:lnTo>
                      <a:pt x="138" y="147"/>
                    </a:lnTo>
                    <a:lnTo>
                      <a:pt x="147" y="156"/>
                    </a:lnTo>
                    <a:lnTo>
                      <a:pt x="157" y="166"/>
                    </a:lnTo>
                    <a:lnTo>
                      <a:pt x="157" y="1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558840" y="3930840"/>
                <a:ext cx="21960" cy="159120"/>
              </a:xfrm>
              <a:custGeom>
                <a:avLst/>
                <a:gdLst/>
                <a:ahLst/>
                <a:rect l="l" t="t" r="r" b="b"/>
                <a:pathLst>
                  <a:path w="54" h="402">
                    <a:moveTo>
                      <a:pt x="0" y="0"/>
                    </a:moveTo>
                    <a:lnTo>
                      <a:pt x="18" y="27"/>
                    </a:lnTo>
                    <a:lnTo>
                      <a:pt x="27" y="45"/>
                    </a:lnTo>
                    <a:lnTo>
                      <a:pt x="36" y="72"/>
                    </a:lnTo>
                    <a:lnTo>
                      <a:pt x="45" y="100"/>
                    </a:lnTo>
                    <a:lnTo>
                      <a:pt x="45" y="118"/>
                    </a:lnTo>
                    <a:lnTo>
                      <a:pt x="54" y="145"/>
                    </a:lnTo>
                    <a:lnTo>
                      <a:pt x="54" y="174"/>
                    </a:lnTo>
                    <a:lnTo>
                      <a:pt x="54" y="201"/>
                    </a:lnTo>
                    <a:lnTo>
                      <a:pt x="54" y="229"/>
                    </a:lnTo>
                    <a:lnTo>
                      <a:pt x="54" y="256"/>
                    </a:lnTo>
                    <a:lnTo>
                      <a:pt x="54" y="284"/>
                    </a:lnTo>
                    <a:lnTo>
                      <a:pt x="45" y="311"/>
                    </a:lnTo>
                    <a:lnTo>
                      <a:pt x="36" y="329"/>
                    </a:lnTo>
                    <a:lnTo>
                      <a:pt x="27" y="357"/>
                    </a:lnTo>
                    <a:lnTo>
                      <a:pt x="18" y="384"/>
                    </a:lnTo>
                    <a:lnTo>
                      <a:pt x="9" y="4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134760" y="4212000"/>
                <a:ext cx="14040" cy="109800"/>
              </a:xfrm>
              <a:custGeom>
                <a:avLst/>
                <a:gdLst/>
                <a:ahLst/>
                <a:rect l="l" t="t" r="r" b="b"/>
                <a:pathLst>
                  <a:path w="35" h="274">
                    <a:moveTo>
                      <a:pt x="35" y="0"/>
                    </a:moveTo>
                    <a:lnTo>
                      <a:pt x="35" y="9"/>
                    </a:lnTo>
                    <a:lnTo>
                      <a:pt x="35" y="27"/>
                    </a:lnTo>
                    <a:lnTo>
                      <a:pt x="35" y="46"/>
                    </a:lnTo>
                    <a:lnTo>
                      <a:pt x="35" y="65"/>
                    </a:lnTo>
                    <a:lnTo>
                      <a:pt x="35" y="82"/>
                    </a:lnTo>
                    <a:lnTo>
                      <a:pt x="35" y="100"/>
                    </a:lnTo>
                    <a:lnTo>
                      <a:pt x="35" y="119"/>
                    </a:lnTo>
                    <a:lnTo>
                      <a:pt x="35" y="137"/>
                    </a:lnTo>
                    <a:lnTo>
                      <a:pt x="27" y="155"/>
                    </a:lnTo>
                    <a:lnTo>
                      <a:pt x="27" y="175"/>
                    </a:lnTo>
                    <a:lnTo>
                      <a:pt x="27" y="192"/>
                    </a:lnTo>
                    <a:lnTo>
                      <a:pt x="17" y="210"/>
                    </a:lnTo>
                    <a:lnTo>
                      <a:pt x="17" y="229"/>
                    </a:lnTo>
                    <a:lnTo>
                      <a:pt x="8" y="239"/>
                    </a:lnTo>
                    <a:lnTo>
                      <a:pt x="8" y="256"/>
                    </a:lnTo>
                    <a:lnTo>
                      <a:pt x="0" y="2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069240" y="4321800"/>
                <a:ext cx="65520" cy="189360"/>
              </a:xfrm>
              <a:custGeom>
                <a:avLst/>
                <a:gdLst/>
                <a:ahLst/>
                <a:rect l="l" t="t" r="r" b="b"/>
                <a:pathLst>
                  <a:path w="165" h="478">
                    <a:moveTo>
                      <a:pt x="165" y="0"/>
                    </a:moveTo>
                    <a:lnTo>
                      <a:pt x="146" y="28"/>
                    </a:lnTo>
                    <a:lnTo>
                      <a:pt x="127" y="56"/>
                    </a:lnTo>
                    <a:lnTo>
                      <a:pt x="118" y="83"/>
                    </a:lnTo>
                    <a:lnTo>
                      <a:pt x="100" y="110"/>
                    </a:lnTo>
                    <a:lnTo>
                      <a:pt x="82" y="137"/>
                    </a:lnTo>
                    <a:lnTo>
                      <a:pt x="72" y="167"/>
                    </a:lnTo>
                    <a:lnTo>
                      <a:pt x="55" y="194"/>
                    </a:lnTo>
                    <a:lnTo>
                      <a:pt x="45" y="221"/>
                    </a:lnTo>
                    <a:lnTo>
                      <a:pt x="36" y="248"/>
                    </a:lnTo>
                    <a:lnTo>
                      <a:pt x="27" y="285"/>
                    </a:lnTo>
                    <a:lnTo>
                      <a:pt x="18" y="312"/>
                    </a:lnTo>
                    <a:lnTo>
                      <a:pt x="9" y="340"/>
                    </a:lnTo>
                    <a:lnTo>
                      <a:pt x="9" y="376"/>
                    </a:lnTo>
                    <a:lnTo>
                      <a:pt x="0" y="404"/>
                    </a:lnTo>
                    <a:lnTo>
                      <a:pt x="0" y="441"/>
                    </a:lnTo>
                    <a:lnTo>
                      <a:pt x="0" y="4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64920" y="4511520"/>
                <a:ext cx="25560" cy="249120"/>
              </a:xfrm>
              <a:custGeom>
                <a:avLst/>
                <a:gdLst/>
                <a:ahLst/>
                <a:rect l="l" t="t" r="r" b="b"/>
                <a:pathLst>
                  <a:path w="65" h="623">
                    <a:moveTo>
                      <a:pt x="10" y="0"/>
                    </a:moveTo>
                    <a:lnTo>
                      <a:pt x="0" y="35"/>
                    </a:lnTo>
                    <a:lnTo>
                      <a:pt x="10" y="73"/>
                    </a:lnTo>
                    <a:lnTo>
                      <a:pt x="10" y="118"/>
                    </a:lnTo>
                    <a:lnTo>
                      <a:pt x="10" y="155"/>
                    </a:lnTo>
                    <a:lnTo>
                      <a:pt x="10" y="192"/>
                    </a:lnTo>
                    <a:lnTo>
                      <a:pt x="19" y="229"/>
                    </a:lnTo>
                    <a:lnTo>
                      <a:pt x="19" y="274"/>
                    </a:lnTo>
                    <a:lnTo>
                      <a:pt x="28" y="311"/>
                    </a:lnTo>
                    <a:lnTo>
                      <a:pt x="37" y="348"/>
                    </a:lnTo>
                    <a:lnTo>
                      <a:pt x="37" y="384"/>
                    </a:lnTo>
                    <a:lnTo>
                      <a:pt x="46" y="429"/>
                    </a:lnTo>
                    <a:lnTo>
                      <a:pt x="46" y="467"/>
                    </a:lnTo>
                    <a:lnTo>
                      <a:pt x="55" y="504"/>
                    </a:lnTo>
                    <a:lnTo>
                      <a:pt x="55" y="540"/>
                    </a:lnTo>
                    <a:lnTo>
                      <a:pt x="65" y="585"/>
                    </a:lnTo>
                    <a:lnTo>
                      <a:pt x="65" y="6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90840" y="4761000"/>
                <a:ext cx="70200" cy="383400"/>
              </a:xfrm>
              <a:custGeom>
                <a:avLst/>
                <a:gdLst/>
                <a:ahLst/>
                <a:rect l="l" t="t" r="r" b="b"/>
                <a:pathLst>
                  <a:path w="173" h="962">
                    <a:moveTo>
                      <a:pt x="0" y="0"/>
                    </a:moveTo>
                    <a:lnTo>
                      <a:pt x="17" y="54"/>
                    </a:lnTo>
                    <a:lnTo>
                      <a:pt x="35" y="119"/>
                    </a:lnTo>
                    <a:lnTo>
                      <a:pt x="45" y="174"/>
                    </a:lnTo>
                    <a:lnTo>
                      <a:pt x="63" y="229"/>
                    </a:lnTo>
                    <a:lnTo>
                      <a:pt x="72" y="292"/>
                    </a:lnTo>
                    <a:lnTo>
                      <a:pt x="91" y="347"/>
                    </a:lnTo>
                    <a:lnTo>
                      <a:pt x="100" y="412"/>
                    </a:lnTo>
                    <a:lnTo>
                      <a:pt x="110" y="466"/>
                    </a:lnTo>
                    <a:lnTo>
                      <a:pt x="118" y="531"/>
                    </a:lnTo>
                    <a:lnTo>
                      <a:pt x="127" y="595"/>
                    </a:lnTo>
                    <a:lnTo>
                      <a:pt x="137" y="650"/>
                    </a:lnTo>
                    <a:lnTo>
                      <a:pt x="145" y="714"/>
                    </a:lnTo>
                    <a:lnTo>
                      <a:pt x="155" y="778"/>
                    </a:lnTo>
                    <a:lnTo>
                      <a:pt x="164" y="833"/>
                    </a:lnTo>
                    <a:lnTo>
                      <a:pt x="164" y="898"/>
                    </a:lnTo>
                    <a:lnTo>
                      <a:pt x="173" y="9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41240" y="5144400"/>
                <a:ext cx="33840" cy="257040"/>
              </a:xfrm>
              <a:custGeom>
                <a:avLst/>
                <a:gdLst/>
                <a:ahLst/>
                <a:rect l="l" t="t" r="r" b="b"/>
                <a:pathLst>
                  <a:path w="83" h="642">
                    <a:moveTo>
                      <a:pt x="46" y="0"/>
                    </a:moveTo>
                    <a:lnTo>
                      <a:pt x="46" y="36"/>
                    </a:lnTo>
                    <a:lnTo>
                      <a:pt x="55" y="82"/>
                    </a:lnTo>
                    <a:lnTo>
                      <a:pt x="64" y="119"/>
                    </a:lnTo>
                    <a:lnTo>
                      <a:pt x="64" y="164"/>
                    </a:lnTo>
                    <a:lnTo>
                      <a:pt x="73" y="202"/>
                    </a:lnTo>
                    <a:lnTo>
                      <a:pt x="73" y="247"/>
                    </a:lnTo>
                    <a:lnTo>
                      <a:pt x="73" y="283"/>
                    </a:lnTo>
                    <a:lnTo>
                      <a:pt x="83" y="329"/>
                    </a:lnTo>
                    <a:lnTo>
                      <a:pt x="83" y="366"/>
                    </a:lnTo>
                    <a:lnTo>
                      <a:pt x="73" y="411"/>
                    </a:lnTo>
                    <a:lnTo>
                      <a:pt x="73" y="448"/>
                    </a:lnTo>
                    <a:lnTo>
                      <a:pt x="64" y="495"/>
                    </a:lnTo>
                    <a:lnTo>
                      <a:pt x="55" y="531"/>
                    </a:lnTo>
                    <a:lnTo>
                      <a:pt x="37" y="567"/>
                    </a:lnTo>
                    <a:lnTo>
                      <a:pt x="28" y="605"/>
                    </a:lnTo>
                    <a:lnTo>
                      <a:pt x="0" y="64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6122880" y="5447880"/>
                <a:ext cx="18000" cy="215280"/>
              </a:xfrm>
              <a:custGeom>
                <a:avLst/>
                <a:gdLst/>
                <a:ahLst/>
                <a:rect l="l" t="t" r="r" b="b"/>
                <a:pathLst>
                  <a:path w="45" h="541">
                    <a:moveTo>
                      <a:pt x="0" y="0"/>
                    </a:moveTo>
                    <a:lnTo>
                      <a:pt x="9" y="37"/>
                    </a:lnTo>
                    <a:lnTo>
                      <a:pt x="18" y="64"/>
                    </a:lnTo>
                    <a:lnTo>
                      <a:pt x="18" y="102"/>
                    </a:lnTo>
                    <a:lnTo>
                      <a:pt x="28" y="137"/>
                    </a:lnTo>
                    <a:lnTo>
                      <a:pt x="28" y="166"/>
                    </a:lnTo>
                    <a:lnTo>
                      <a:pt x="36" y="201"/>
                    </a:lnTo>
                    <a:lnTo>
                      <a:pt x="36" y="229"/>
                    </a:lnTo>
                    <a:lnTo>
                      <a:pt x="45" y="266"/>
                    </a:lnTo>
                    <a:lnTo>
                      <a:pt x="45" y="303"/>
                    </a:lnTo>
                    <a:lnTo>
                      <a:pt x="45" y="330"/>
                    </a:lnTo>
                    <a:lnTo>
                      <a:pt x="45" y="368"/>
                    </a:lnTo>
                    <a:lnTo>
                      <a:pt x="45" y="403"/>
                    </a:lnTo>
                    <a:lnTo>
                      <a:pt x="45" y="440"/>
                    </a:lnTo>
                    <a:lnTo>
                      <a:pt x="45" y="467"/>
                    </a:lnTo>
                    <a:lnTo>
                      <a:pt x="36" y="505"/>
                    </a:lnTo>
                    <a:lnTo>
                      <a:pt x="36" y="5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131160" y="5689080"/>
                <a:ext cx="57240" cy="139680"/>
              </a:xfrm>
              <a:custGeom>
                <a:avLst/>
                <a:gdLst/>
                <a:ahLst/>
                <a:rect l="l" t="t" r="r" b="b"/>
                <a:pathLst>
                  <a:path w="147" h="348">
                    <a:moveTo>
                      <a:pt x="0" y="0"/>
                    </a:moveTo>
                    <a:lnTo>
                      <a:pt x="18" y="18"/>
                    </a:lnTo>
                    <a:lnTo>
                      <a:pt x="37" y="37"/>
                    </a:lnTo>
                    <a:lnTo>
                      <a:pt x="55" y="55"/>
                    </a:lnTo>
                    <a:lnTo>
                      <a:pt x="64" y="74"/>
                    </a:lnTo>
                    <a:lnTo>
                      <a:pt x="82" y="92"/>
                    </a:lnTo>
                    <a:lnTo>
                      <a:pt x="91" y="119"/>
                    </a:lnTo>
                    <a:lnTo>
                      <a:pt x="100" y="137"/>
                    </a:lnTo>
                    <a:lnTo>
                      <a:pt x="120" y="156"/>
                    </a:lnTo>
                    <a:lnTo>
                      <a:pt x="128" y="184"/>
                    </a:lnTo>
                    <a:lnTo>
                      <a:pt x="128" y="202"/>
                    </a:lnTo>
                    <a:lnTo>
                      <a:pt x="137" y="229"/>
                    </a:lnTo>
                    <a:lnTo>
                      <a:pt x="147" y="247"/>
                    </a:lnTo>
                    <a:lnTo>
                      <a:pt x="147" y="276"/>
                    </a:lnTo>
                    <a:lnTo>
                      <a:pt x="147" y="303"/>
                    </a:lnTo>
                    <a:lnTo>
                      <a:pt x="147" y="321"/>
                    </a:lnTo>
                    <a:lnTo>
                      <a:pt x="137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131160" y="5829120"/>
                <a:ext cx="53640" cy="7992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137" y="0"/>
                    </a:moveTo>
                    <a:lnTo>
                      <a:pt x="137" y="18"/>
                    </a:lnTo>
                    <a:lnTo>
                      <a:pt x="128" y="27"/>
                    </a:lnTo>
                    <a:lnTo>
                      <a:pt x="120" y="46"/>
                    </a:lnTo>
                    <a:lnTo>
                      <a:pt x="110" y="55"/>
                    </a:lnTo>
                    <a:lnTo>
                      <a:pt x="100" y="65"/>
                    </a:lnTo>
                    <a:lnTo>
                      <a:pt x="91" y="74"/>
                    </a:lnTo>
                    <a:lnTo>
                      <a:pt x="73" y="83"/>
                    </a:lnTo>
                    <a:lnTo>
                      <a:pt x="64" y="101"/>
                    </a:lnTo>
                    <a:lnTo>
                      <a:pt x="55" y="110"/>
                    </a:lnTo>
                    <a:lnTo>
                      <a:pt x="45" y="120"/>
                    </a:lnTo>
                    <a:lnTo>
                      <a:pt x="37" y="128"/>
                    </a:lnTo>
                    <a:lnTo>
                      <a:pt x="27" y="147"/>
                    </a:lnTo>
                    <a:lnTo>
                      <a:pt x="18" y="155"/>
                    </a:lnTo>
                    <a:lnTo>
                      <a:pt x="10" y="165"/>
                    </a:lnTo>
                    <a:lnTo>
                      <a:pt x="0" y="183"/>
                    </a:lnTo>
                    <a:lnTo>
                      <a:pt x="0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134760" y="5795280"/>
                <a:ext cx="21960" cy="73440"/>
              </a:xfrm>
              <a:custGeom>
                <a:avLst/>
                <a:gdLst/>
                <a:ahLst/>
                <a:rect l="l" t="t" r="r" b="b"/>
                <a:pathLst>
                  <a:path w="54" h="183">
                    <a:moveTo>
                      <a:pt x="0" y="183"/>
                    </a:moveTo>
                    <a:lnTo>
                      <a:pt x="0" y="174"/>
                    </a:lnTo>
                    <a:lnTo>
                      <a:pt x="8" y="165"/>
                    </a:lnTo>
                    <a:lnTo>
                      <a:pt x="17" y="156"/>
                    </a:lnTo>
                    <a:lnTo>
                      <a:pt x="27" y="147"/>
                    </a:lnTo>
                    <a:lnTo>
                      <a:pt x="27" y="128"/>
                    </a:lnTo>
                    <a:lnTo>
                      <a:pt x="35" y="119"/>
                    </a:lnTo>
                    <a:lnTo>
                      <a:pt x="35" y="109"/>
                    </a:lnTo>
                    <a:lnTo>
                      <a:pt x="45" y="100"/>
                    </a:lnTo>
                    <a:lnTo>
                      <a:pt x="45" y="92"/>
                    </a:lnTo>
                    <a:lnTo>
                      <a:pt x="54" y="73"/>
                    </a:lnTo>
                    <a:lnTo>
                      <a:pt x="54" y="64"/>
                    </a:lnTo>
                    <a:lnTo>
                      <a:pt x="54" y="55"/>
                    </a:lnTo>
                    <a:lnTo>
                      <a:pt x="54" y="37"/>
                    </a:lnTo>
                    <a:lnTo>
                      <a:pt x="54" y="28"/>
                    </a:lnTo>
                    <a:lnTo>
                      <a:pt x="54" y="18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100920" y="5715360"/>
                <a:ext cx="56160" cy="7956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137" y="202"/>
                    </a:moveTo>
                    <a:lnTo>
                      <a:pt x="137" y="192"/>
                    </a:lnTo>
                    <a:lnTo>
                      <a:pt x="128" y="174"/>
                    </a:lnTo>
                    <a:lnTo>
                      <a:pt x="128" y="155"/>
                    </a:lnTo>
                    <a:lnTo>
                      <a:pt x="118" y="147"/>
                    </a:lnTo>
                    <a:lnTo>
                      <a:pt x="110" y="128"/>
                    </a:lnTo>
                    <a:lnTo>
                      <a:pt x="110" y="120"/>
                    </a:lnTo>
                    <a:lnTo>
                      <a:pt x="100" y="101"/>
                    </a:lnTo>
                    <a:lnTo>
                      <a:pt x="91" y="92"/>
                    </a:lnTo>
                    <a:lnTo>
                      <a:pt x="83" y="73"/>
                    </a:lnTo>
                    <a:lnTo>
                      <a:pt x="73" y="64"/>
                    </a:lnTo>
                    <a:lnTo>
                      <a:pt x="64" y="45"/>
                    </a:lnTo>
                    <a:lnTo>
                      <a:pt x="55" y="37"/>
                    </a:lnTo>
                    <a:lnTo>
                      <a:pt x="45" y="28"/>
                    </a:lnTo>
                    <a:lnTo>
                      <a:pt x="27" y="18"/>
                    </a:lnTo>
                    <a:lnTo>
                      <a:pt x="18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057000" y="5755320"/>
                <a:ext cx="16200" cy="153720"/>
              </a:xfrm>
              <a:custGeom>
                <a:avLst/>
                <a:gdLst/>
                <a:ahLst/>
                <a:rect l="l" t="t" r="r" b="b"/>
                <a:pathLst>
                  <a:path w="37" h="385">
                    <a:moveTo>
                      <a:pt x="8" y="0"/>
                    </a:moveTo>
                    <a:lnTo>
                      <a:pt x="0" y="19"/>
                    </a:lnTo>
                    <a:lnTo>
                      <a:pt x="0" y="46"/>
                    </a:lnTo>
                    <a:lnTo>
                      <a:pt x="0" y="73"/>
                    </a:lnTo>
                    <a:lnTo>
                      <a:pt x="0" y="91"/>
                    </a:lnTo>
                    <a:lnTo>
                      <a:pt x="0" y="119"/>
                    </a:lnTo>
                    <a:lnTo>
                      <a:pt x="8" y="147"/>
                    </a:lnTo>
                    <a:lnTo>
                      <a:pt x="8" y="165"/>
                    </a:lnTo>
                    <a:lnTo>
                      <a:pt x="18" y="193"/>
                    </a:lnTo>
                    <a:lnTo>
                      <a:pt x="18" y="220"/>
                    </a:lnTo>
                    <a:lnTo>
                      <a:pt x="28" y="238"/>
                    </a:lnTo>
                    <a:lnTo>
                      <a:pt x="28" y="266"/>
                    </a:lnTo>
                    <a:lnTo>
                      <a:pt x="37" y="284"/>
                    </a:lnTo>
                    <a:lnTo>
                      <a:pt x="37" y="311"/>
                    </a:lnTo>
                    <a:lnTo>
                      <a:pt x="37" y="330"/>
                    </a:lnTo>
                    <a:lnTo>
                      <a:pt x="37" y="357"/>
                    </a:lnTo>
                    <a:lnTo>
                      <a:pt x="37" y="3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021000" y="5689080"/>
                <a:ext cx="39600" cy="176040"/>
              </a:xfrm>
              <a:custGeom>
                <a:avLst/>
                <a:gdLst/>
                <a:ahLst/>
                <a:rect l="l" t="t" r="r" b="b"/>
                <a:pathLst>
                  <a:path w="99" h="440">
                    <a:moveTo>
                      <a:pt x="18" y="440"/>
                    </a:moveTo>
                    <a:lnTo>
                      <a:pt x="9" y="413"/>
                    </a:lnTo>
                    <a:lnTo>
                      <a:pt x="9" y="385"/>
                    </a:lnTo>
                    <a:lnTo>
                      <a:pt x="0" y="358"/>
                    </a:lnTo>
                    <a:lnTo>
                      <a:pt x="0" y="321"/>
                    </a:lnTo>
                    <a:lnTo>
                      <a:pt x="0" y="294"/>
                    </a:lnTo>
                    <a:lnTo>
                      <a:pt x="0" y="266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0" y="174"/>
                    </a:lnTo>
                    <a:lnTo>
                      <a:pt x="9" y="147"/>
                    </a:lnTo>
                    <a:lnTo>
                      <a:pt x="18" y="119"/>
                    </a:lnTo>
                    <a:lnTo>
                      <a:pt x="27" y="92"/>
                    </a:lnTo>
                    <a:lnTo>
                      <a:pt x="45" y="64"/>
                    </a:lnTo>
                    <a:lnTo>
                      <a:pt x="54" y="47"/>
                    </a:lnTo>
                    <a:lnTo>
                      <a:pt x="81" y="18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035040" y="5561640"/>
                <a:ext cx="25560" cy="127440"/>
              </a:xfrm>
              <a:custGeom>
                <a:avLst/>
                <a:gdLst/>
                <a:ahLst/>
                <a:rect l="l" t="t" r="r" b="b"/>
                <a:pathLst>
                  <a:path w="63" h="321">
                    <a:moveTo>
                      <a:pt x="63" y="321"/>
                    </a:moveTo>
                    <a:lnTo>
                      <a:pt x="63" y="303"/>
                    </a:lnTo>
                    <a:lnTo>
                      <a:pt x="63" y="275"/>
                    </a:lnTo>
                    <a:lnTo>
                      <a:pt x="63" y="257"/>
                    </a:lnTo>
                    <a:lnTo>
                      <a:pt x="63" y="239"/>
                    </a:lnTo>
                    <a:lnTo>
                      <a:pt x="63" y="211"/>
                    </a:lnTo>
                    <a:lnTo>
                      <a:pt x="55" y="193"/>
                    </a:lnTo>
                    <a:lnTo>
                      <a:pt x="55" y="174"/>
                    </a:lnTo>
                    <a:lnTo>
                      <a:pt x="55" y="156"/>
                    </a:lnTo>
                    <a:lnTo>
                      <a:pt x="45" y="129"/>
                    </a:lnTo>
                    <a:lnTo>
                      <a:pt x="36" y="111"/>
                    </a:lnTo>
                    <a:lnTo>
                      <a:pt x="36" y="92"/>
                    </a:lnTo>
                    <a:lnTo>
                      <a:pt x="28" y="74"/>
                    </a:lnTo>
                    <a:lnTo>
                      <a:pt x="18" y="54"/>
                    </a:lnTo>
                    <a:lnTo>
                      <a:pt x="18" y="37"/>
                    </a:lnTo>
                    <a:lnTo>
                      <a:pt x="9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24960" y="5569560"/>
                <a:ext cx="7920" cy="91800"/>
              </a:xfrm>
              <a:custGeom>
                <a:avLst/>
                <a:gdLst/>
                <a:ahLst/>
                <a:rect l="l" t="t" r="r" b="b"/>
                <a:pathLst>
                  <a:path w="18" h="229">
                    <a:moveTo>
                      <a:pt x="18" y="0"/>
                    </a:moveTo>
                    <a:lnTo>
                      <a:pt x="18" y="18"/>
                    </a:lnTo>
                    <a:lnTo>
                      <a:pt x="18" y="35"/>
                    </a:lnTo>
                    <a:lnTo>
                      <a:pt x="18" y="45"/>
                    </a:lnTo>
                    <a:lnTo>
                      <a:pt x="18" y="65"/>
                    </a:lnTo>
                    <a:lnTo>
                      <a:pt x="18" y="73"/>
                    </a:lnTo>
                    <a:lnTo>
                      <a:pt x="18" y="92"/>
                    </a:lnTo>
                    <a:lnTo>
                      <a:pt x="18" y="100"/>
                    </a:lnTo>
                    <a:lnTo>
                      <a:pt x="18" y="119"/>
                    </a:lnTo>
                    <a:lnTo>
                      <a:pt x="18" y="128"/>
                    </a:lnTo>
                    <a:lnTo>
                      <a:pt x="9" y="146"/>
                    </a:lnTo>
                    <a:lnTo>
                      <a:pt x="9" y="155"/>
                    </a:lnTo>
                    <a:lnTo>
                      <a:pt x="9" y="174"/>
                    </a:lnTo>
                    <a:lnTo>
                      <a:pt x="0" y="18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0" y="2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988960" y="5675760"/>
                <a:ext cx="23760" cy="175320"/>
              </a:xfrm>
              <a:custGeom>
                <a:avLst/>
                <a:gdLst/>
                <a:ahLst/>
                <a:rect l="l" t="t" r="r" b="b"/>
                <a:pathLst>
                  <a:path w="64" h="440">
                    <a:moveTo>
                      <a:pt x="64" y="0"/>
                    </a:moveTo>
                    <a:lnTo>
                      <a:pt x="37" y="27"/>
                    </a:lnTo>
                    <a:lnTo>
                      <a:pt x="18" y="46"/>
                    </a:lnTo>
                    <a:lnTo>
                      <a:pt x="9" y="74"/>
                    </a:lnTo>
                    <a:lnTo>
                      <a:pt x="0" y="101"/>
                    </a:lnTo>
                    <a:lnTo>
                      <a:pt x="0" y="129"/>
                    </a:lnTo>
                    <a:lnTo>
                      <a:pt x="0" y="156"/>
                    </a:lnTo>
                    <a:lnTo>
                      <a:pt x="9" y="184"/>
                    </a:lnTo>
                    <a:lnTo>
                      <a:pt x="18" y="211"/>
                    </a:lnTo>
                    <a:lnTo>
                      <a:pt x="18" y="239"/>
                    </a:lnTo>
                    <a:lnTo>
                      <a:pt x="27" y="266"/>
                    </a:lnTo>
                    <a:lnTo>
                      <a:pt x="37" y="293"/>
                    </a:lnTo>
                    <a:lnTo>
                      <a:pt x="45" y="331"/>
                    </a:lnTo>
                    <a:lnTo>
                      <a:pt x="45" y="358"/>
                    </a:lnTo>
                    <a:lnTo>
                      <a:pt x="45" y="385"/>
                    </a:lnTo>
                    <a:lnTo>
                      <a:pt x="45" y="412"/>
                    </a:lnTo>
                    <a:lnTo>
                      <a:pt x="37" y="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963040" y="5689080"/>
                <a:ext cx="9720" cy="132120"/>
              </a:xfrm>
              <a:custGeom>
                <a:avLst/>
                <a:gdLst/>
                <a:ahLst/>
                <a:rect l="l" t="t" r="r" b="b"/>
                <a:pathLst>
                  <a:path w="27" h="330">
                    <a:moveTo>
                      <a:pt x="27" y="330"/>
                    </a:moveTo>
                    <a:lnTo>
                      <a:pt x="27" y="312"/>
                    </a:lnTo>
                    <a:lnTo>
                      <a:pt x="19" y="294"/>
                    </a:lnTo>
                    <a:lnTo>
                      <a:pt x="19" y="266"/>
                    </a:lnTo>
                    <a:lnTo>
                      <a:pt x="19" y="247"/>
                    </a:lnTo>
                    <a:lnTo>
                      <a:pt x="9" y="229"/>
                    </a:lnTo>
                    <a:lnTo>
                      <a:pt x="9" y="202"/>
                    </a:lnTo>
                    <a:lnTo>
                      <a:pt x="0" y="184"/>
                    </a:lnTo>
                    <a:lnTo>
                      <a:pt x="0" y="156"/>
                    </a:lnTo>
                    <a:lnTo>
                      <a:pt x="0" y="137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74"/>
                    </a:lnTo>
                    <a:lnTo>
                      <a:pt x="0" y="55"/>
                    </a:lnTo>
                    <a:lnTo>
                      <a:pt x="9" y="37"/>
                    </a:lnTo>
                    <a:lnTo>
                      <a:pt x="19" y="18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003000" y="5571360"/>
                <a:ext cx="2160" cy="90000"/>
              </a:xfrm>
              <a:custGeom>
                <a:avLst/>
                <a:gdLst/>
                <a:ahLst/>
                <a:rect l="l" t="t" r="r" b="b"/>
                <a:pathLst>
                  <a:path w="0" h="221">
                    <a:moveTo>
                      <a:pt x="0" y="221"/>
                    </a:moveTo>
                    <a:lnTo>
                      <a:pt x="0" y="212"/>
                    </a:lnTo>
                    <a:lnTo>
                      <a:pt x="0" y="194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0" y="156"/>
                    </a:lnTo>
                    <a:lnTo>
                      <a:pt x="0" y="138"/>
                    </a:lnTo>
                    <a:lnTo>
                      <a:pt x="0" y="129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84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903280" y="5403960"/>
                <a:ext cx="99720" cy="167400"/>
              </a:xfrm>
              <a:custGeom>
                <a:avLst/>
                <a:gdLst/>
                <a:ahLst/>
                <a:rect l="l" t="t" r="r" b="b"/>
                <a:pathLst>
                  <a:path w="248" h="421">
                    <a:moveTo>
                      <a:pt x="248" y="421"/>
                    </a:moveTo>
                    <a:lnTo>
                      <a:pt x="238" y="394"/>
                    </a:lnTo>
                    <a:lnTo>
                      <a:pt x="229" y="367"/>
                    </a:lnTo>
                    <a:lnTo>
                      <a:pt x="220" y="331"/>
                    </a:lnTo>
                    <a:lnTo>
                      <a:pt x="211" y="303"/>
                    </a:lnTo>
                    <a:lnTo>
                      <a:pt x="193" y="276"/>
                    </a:lnTo>
                    <a:lnTo>
                      <a:pt x="184" y="247"/>
                    </a:lnTo>
                    <a:lnTo>
                      <a:pt x="174" y="220"/>
                    </a:lnTo>
                    <a:lnTo>
                      <a:pt x="156" y="192"/>
                    </a:lnTo>
                    <a:lnTo>
                      <a:pt x="147" y="165"/>
                    </a:lnTo>
                    <a:lnTo>
                      <a:pt x="128" y="137"/>
                    </a:lnTo>
                    <a:lnTo>
                      <a:pt x="110" y="119"/>
                    </a:lnTo>
                    <a:lnTo>
                      <a:pt x="92" y="92"/>
                    </a:lnTo>
                    <a:lnTo>
                      <a:pt x="74" y="64"/>
                    </a:lnTo>
                    <a:lnTo>
                      <a:pt x="47" y="46"/>
                    </a:lnTo>
                    <a:lnTo>
                      <a:pt x="29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721480" y="5371920"/>
                <a:ext cx="47520" cy="57600"/>
              </a:xfrm>
              <a:custGeom>
                <a:avLst/>
                <a:gdLst/>
                <a:ahLst/>
                <a:rect l="l" t="t" r="r" b="b"/>
                <a:pathLst>
                  <a:path w="119" h="147">
                    <a:moveTo>
                      <a:pt x="119" y="147"/>
                    </a:moveTo>
                    <a:lnTo>
                      <a:pt x="101" y="138"/>
                    </a:lnTo>
                    <a:lnTo>
                      <a:pt x="92" y="129"/>
                    </a:lnTo>
                    <a:lnTo>
                      <a:pt x="82" y="129"/>
                    </a:lnTo>
                    <a:lnTo>
                      <a:pt x="73" y="120"/>
                    </a:lnTo>
                    <a:lnTo>
                      <a:pt x="64" y="110"/>
                    </a:lnTo>
                    <a:lnTo>
                      <a:pt x="64" y="102"/>
                    </a:lnTo>
                    <a:lnTo>
                      <a:pt x="54" y="92"/>
                    </a:lnTo>
                    <a:lnTo>
                      <a:pt x="46" y="83"/>
                    </a:lnTo>
                    <a:lnTo>
                      <a:pt x="36" y="75"/>
                    </a:lnTo>
                    <a:lnTo>
                      <a:pt x="36" y="65"/>
                    </a:lnTo>
                    <a:lnTo>
                      <a:pt x="27" y="46"/>
                    </a:lnTo>
                    <a:lnTo>
                      <a:pt x="27" y="38"/>
                    </a:lnTo>
                    <a:lnTo>
                      <a:pt x="19" y="28"/>
                    </a:lnTo>
                    <a:lnTo>
                      <a:pt x="9" y="19"/>
                    </a:lnTo>
                    <a:lnTo>
                      <a:pt x="9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592960" y="5307840"/>
                <a:ext cx="128160" cy="63720"/>
              </a:xfrm>
              <a:custGeom>
                <a:avLst/>
                <a:gdLst/>
                <a:ahLst/>
                <a:rect l="l" t="t" r="r" b="b"/>
                <a:pathLst>
                  <a:path w="321" h="156">
                    <a:moveTo>
                      <a:pt x="321" y="156"/>
                    </a:moveTo>
                    <a:lnTo>
                      <a:pt x="303" y="147"/>
                    </a:lnTo>
                    <a:lnTo>
                      <a:pt x="275" y="138"/>
                    </a:lnTo>
                    <a:lnTo>
                      <a:pt x="257" y="129"/>
                    </a:lnTo>
                    <a:lnTo>
                      <a:pt x="238" y="120"/>
                    </a:lnTo>
                    <a:lnTo>
                      <a:pt x="220" y="111"/>
                    </a:lnTo>
                    <a:lnTo>
                      <a:pt x="202" y="92"/>
                    </a:lnTo>
                    <a:lnTo>
                      <a:pt x="183" y="84"/>
                    </a:lnTo>
                    <a:lnTo>
                      <a:pt x="166" y="75"/>
                    </a:lnTo>
                    <a:lnTo>
                      <a:pt x="148" y="65"/>
                    </a:lnTo>
                    <a:lnTo>
                      <a:pt x="120" y="57"/>
                    </a:lnTo>
                    <a:lnTo>
                      <a:pt x="101" y="37"/>
                    </a:lnTo>
                    <a:lnTo>
                      <a:pt x="83" y="29"/>
                    </a:lnTo>
                    <a:lnTo>
                      <a:pt x="65" y="19"/>
                    </a:lnTo>
                    <a:lnTo>
                      <a:pt x="46" y="10"/>
                    </a:lnTo>
                    <a:lnTo>
                      <a:pt x="2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201280" y="4874760"/>
                <a:ext cx="391320" cy="433080"/>
              </a:xfrm>
              <a:custGeom>
                <a:avLst/>
                <a:gdLst/>
                <a:ahLst/>
                <a:rect l="l" t="t" r="r" b="b"/>
                <a:pathLst>
                  <a:path w="978" h="1089">
                    <a:moveTo>
                      <a:pt x="978" y="1089"/>
                    </a:moveTo>
                    <a:lnTo>
                      <a:pt x="906" y="1035"/>
                    </a:lnTo>
                    <a:lnTo>
                      <a:pt x="832" y="979"/>
                    </a:lnTo>
                    <a:lnTo>
                      <a:pt x="750" y="925"/>
                    </a:lnTo>
                    <a:lnTo>
                      <a:pt x="676" y="870"/>
                    </a:lnTo>
                    <a:lnTo>
                      <a:pt x="604" y="805"/>
                    </a:lnTo>
                    <a:lnTo>
                      <a:pt x="539" y="742"/>
                    </a:lnTo>
                    <a:lnTo>
                      <a:pt x="467" y="678"/>
                    </a:lnTo>
                    <a:lnTo>
                      <a:pt x="402" y="614"/>
                    </a:lnTo>
                    <a:lnTo>
                      <a:pt x="338" y="540"/>
                    </a:lnTo>
                    <a:lnTo>
                      <a:pt x="274" y="466"/>
                    </a:lnTo>
                    <a:lnTo>
                      <a:pt x="220" y="394"/>
                    </a:lnTo>
                    <a:lnTo>
                      <a:pt x="164" y="319"/>
                    </a:lnTo>
                    <a:lnTo>
                      <a:pt x="118" y="238"/>
                    </a:lnTo>
                    <a:lnTo>
                      <a:pt x="73" y="155"/>
                    </a:lnTo>
                    <a:lnTo>
                      <a:pt x="35" y="8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169600" y="4741200"/>
                <a:ext cx="31680" cy="133560"/>
              </a:xfrm>
              <a:custGeom>
                <a:avLst/>
                <a:gdLst/>
                <a:ahLst/>
                <a:rect l="l" t="t" r="r" b="b"/>
                <a:pathLst>
                  <a:path w="83" h="331">
                    <a:moveTo>
                      <a:pt x="83" y="331"/>
                    </a:moveTo>
                    <a:lnTo>
                      <a:pt x="73" y="312"/>
                    </a:lnTo>
                    <a:lnTo>
                      <a:pt x="64" y="284"/>
                    </a:lnTo>
                    <a:lnTo>
                      <a:pt x="55" y="266"/>
                    </a:lnTo>
                    <a:lnTo>
                      <a:pt x="46" y="248"/>
                    </a:lnTo>
                    <a:lnTo>
                      <a:pt x="37" y="229"/>
                    </a:lnTo>
                    <a:lnTo>
                      <a:pt x="37" y="211"/>
                    </a:lnTo>
                    <a:lnTo>
                      <a:pt x="28" y="194"/>
                    </a:lnTo>
                    <a:lnTo>
                      <a:pt x="19" y="166"/>
                    </a:lnTo>
                    <a:lnTo>
                      <a:pt x="19" y="147"/>
                    </a:lnTo>
                    <a:lnTo>
                      <a:pt x="9" y="129"/>
                    </a:lnTo>
                    <a:lnTo>
                      <a:pt x="9" y="110"/>
                    </a:lnTo>
                    <a:lnTo>
                      <a:pt x="9" y="83"/>
                    </a:lnTo>
                    <a:lnTo>
                      <a:pt x="0" y="65"/>
                    </a:lnTo>
                    <a:lnTo>
                      <a:pt x="0" y="47"/>
                    </a:lnTo>
                    <a:lnTo>
                      <a:pt x="0" y="19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171400" y="4573080"/>
                <a:ext cx="15840" cy="167760"/>
              </a:xfrm>
              <a:custGeom>
                <a:avLst/>
                <a:gdLst/>
                <a:ahLst/>
                <a:rect l="l" t="t" r="r" b="b"/>
                <a:pathLst>
                  <a:path w="37" h="421">
                    <a:moveTo>
                      <a:pt x="0" y="421"/>
                    </a:moveTo>
                    <a:lnTo>
                      <a:pt x="0" y="394"/>
                    </a:lnTo>
                    <a:lnTo>
                      <a:pt x="0" y="366"/>
                    </a:lnTo>
                    <a:lnTo>
                      <a:pt x="0" y="339"/>
                    </a:lnTo>
                    <a:lnTo>
                      <a:pt x="0" y="312"/>
                    </a:lnTo>
                    <a:lnTo>
                      <a:pt x="0" y="284"/>
                    </a:lnTo>
                    <a:lnTo>
                      <a:pt x="10" y="256"/>
                    </a:lnTo>
                    <a:lnTo>
                      <a:pt x="10" y="229"/>
                    </a:lnTo>
                    <a:lnTo>
                      <a:pt x="19" y="211"/>
                    </a:lnTo>
                    <a:lnTo>
                      <a:pt x="19" y="184"/>
                    </a:lnTo>
                    <a:lnTo>
                      <a:pt x="19" y="156"/>
                    </a:lnTo>
                    <a:lnTo>
                      <a:pt x="28" y="129"/>
                    </a:lnTo>
                    <a:lnTo>
                      <a:pt x="28" y="101"/>
                    </a:lnTo>
                    <a:lnTo>
                      <a:pt x="28" y="74"/>
                    </a:lnTo>
                    <a:lnTo>
                      <a:pt x="37" y="47"/>
                    </a:lnTo>
                    <a:lnTo>
                      <a:pt x="37" y="18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187240" y="4459680"/>
                <a:ext cx="28080" cy="113400"/>
              </a:xfrm>
              <a:custGeom>
                <a:avLst/>
                <a:gdLst/>
                <a:ahLst/>
                <a:rect l="l" t="t" r="r" b="b"/>
                <a:pathLst>
                  <a:path w="72" h="284">
                    <a:moveTo>
                      <a:pt x="0" y="284"/>
                    </a:moveTo>
                    <a:lnTo>
                      <a:pt x="0" y="266"/>
                    </a:lnTo>
                    <a:lnTo>
                      <a:pt x="9" y="247"/>
                    </a:lnTo>
                    <a:lnTo>
                      <a:pt x="9" y="229"/>
                    </a:lnTo>
                    <a:lnTo>
                      <a:pt x="18" y="211"/>
                    </a:lnTo>
                    <a:lnTo>
                      <a:pt x="27" y="192"/>
                    </a:lnTo>
                    <a:lnTo>
                      <a:pt x="27" y="174"/>
                    </a:lnTo>
                    <a:lnTo>
                      <a:pt x="37" y="156"/>
                    </a:lnTo>
                    <a:lnTo>
                      <a:pt x="45" y="137"/>
                    </a:lnTo>
                    <a:lnTo>
                      <a:pt x="45" y="119"/>
                    </a:lnTo>
                    <a:lnTo>
                      <a:pt x="55" y="102"/>
                    </a:lnTo>
                    <a:lnTo>
                      <a:pt x="55" y="92"/>
                    </a:lnTo>
                    <a:lnTo>
                      <a:pt x="64" y="73"/>
                    </a:lnTo>
                    <a:lnTo>
                      <a:pt x="64" y="55"/>
                    </a:lnTo>
                    <a:lnTo>
                      <a:pt x="72" y="37"/>
                    </a:lnTo>
                    <a:lnTo>
                      <a:pt x="72" y="18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215320" y="4212000"/>
                <a:ext cx="99720" cy="247320"/>
              </a:xfrm>
              <a:custGeom>
                <a:avLst/>
                <a:gdLst/>
                <a:ahLst/>
                <a:rect l="l" t="t" r="r" b="b"/>
                <a:pathLst>
                  <a:path w="248" h="623">
                    <a:moveTo>
                      <a:pt x="0" y="623"/>
                    </a:moveTo>
                    <a:lnTo>
                      <a:pt x="10" y="578"/>
                    </a:lnTo>
                    <a:lnTo>
                      <a:pt x="28" y="540"/>
                    </a:lnTo>
                    <a:lnTo>
                      <a:pt x="38" y="495"/>
                    </a:lnTo>
                    <a:lnTo>
                      <a:pt x="56" y="458"/>
                    </a:lnTo>
                    <a:lnTo>
                      <a:pt x="65" y="421"/>
                    </a:lnTo>
                    <a:lnTo>
                      <a:pt x="83" y="384"/>
                    </a:lnTo>
                    <a:lnTo>
                      <a:pt x="102" y="339"/>
                    </a:lnTo>
                    <a:lnTo>
                      <a:pt x="120" y="302"/>
                    </a:lnTo>
                    <a:lnTo>
                      <a:pt x="138" y="266"/>
                    </a:lnTo>
                    <a:lnTo>
                      <a:pt x="147" y="229"/>
                    </a:lnTo>
                    <a:lnTo>
                      <a:pt x="166" y="192"/>
                    </a:lnTo>
                    <a:lnTo>
                      <a:pt x="185" y="155"/>
                    </a:lnTo>
                    <a:lnTo>
                      <a:pt x="203" y="110"/>
                    </a:lnTo>
                    <a:lnTo>
                      <a:pt x="220" y="73"/>
                    </a:lnTo>
                    <a:lnTo>
                      <a:pt x="230" y="37"/>
                    </a:lnTo>
                    <a:lnTo>
                      <a:pt x="2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315040" y="4054320"/>
                <a:ext cx="43920" cy="157320"/>
              </a:xfrm>
              <a:custGeom>
                <a:avLst/>
                <a:gdLst/>
                <a:ahLst/>
                <a:rect l="l" t="t" r="r" b="b"/>
                <a:pathLst>
                  <a:path w="110" h="394">
                    <a:moveTo>
                      <a:pt x="0" y="394"/>
                    </a:moveTo>
                    <a:lnTo>
                      <a:pt x="9" y="366"/>
                    </a:lnTo>
                    <a:lnTo>
                      <a:pt x="18" y="349"/>
                    </a:lnTo>
                    <a:lnTo>
                      <a:pt x="27" y="320"/>
                    </a:lnTo>
                    <a:lnTo>
                      <a:pt x="36" y="302"/>
                    </a:lnTo>
                    <a:lnTo>
                      <a:pt x="46" y="274"/>
                    </a:lnTo>
                    <a:lnTo>
                      <a:pt x="55" y="256"/>
                    </a:lnTo>
                    <a:lnTo>
                      <a:pt x="65" y="229"/>
                    </a:lnTo>
                    <a:lnTo>
                      <a:pt x="74" y="202"/>
                    </a:lnTo>
                    <a:lnTo>
                      <a:pt x="74" y="183"/>
                    </a:lnTo>
                    <a:lnTo>
                      <a:pt x="82" y="155"/>
                    </a:lnTo>
                    <a:lnTo>
                      <a:pt x="92" y="128"/>
                    </a:lnTo>
                    <a:lnTo>
                      <a:pt x="92" y="110"/>
                    </a:lnTo>
                    <a:lnTo>
                      <a:pt x="101" y="83"/>
                    </a:lnTo>
                    <a:lnTo>
                      <a:pt x="101" y="55"/>
                    </a:lnTo>
                    <a:lnTo>
                      <a:pt x="110" y="27"/>
                    </a:lnTo>
                    <a:lnTo>
                      <a:pt x="1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289480" y="3992400"/>
                <a:ext cx="69480" cy="61920"/>
              </a:xfrm>
              <a:custGeom>
                <a:avLst/>
                <a:gdLst/>
                <a:ahLst/>
                <a:rect l="l" t="t" r="r" b="b"/>
                <a:pathLst>
                  <a:path w="173" h="156">
                    <a:moveTo>
                      <a:pt x="173" y="156"/>
                    </a:moveTo>
                    <a:lnTo>
                      <a:pt x="164" y="146"/>
                    </a:lnTo>
                    <a:lnTo>
                      <a:pt x="164" y="129"/>
                    </a:lnTo>
                    <a:lnTo>
                      <a:pt x="155" y="119"/>
                    </a:lnTo>
                    <a:lnTo>
                      <a:pt x="145" y="101"/>
                    </a:lnTo>
                    <a:lnTo>
                      <a:pt x="137" y="92"/>
                    </a:lnTo>
                    <a:lnTo>
                      <a:pt x="128" y="83"/>
                    </a:lnTo>
                    <a:lnTo>
                      <a:pt x="118" y="74"/>
                    </a:lnTo>
                    <a:lnTo>
                      <a:pt x="99" y="65"/>
                    </a:lnTo>
                    <a:lnTo>
                      <a:pt x="90" y="55"/>
                    </a:lnTo>
                    <a:lnTo>
                      <a:pt x="72" y="46"/>
                    </a:lnTo>
                    <a:lnTo>
                      <a:pt x="63" y="36"/>
                    </a:lnTo>
                    <a:lnTo>
                      <a:pt x="45" y="27"/>
                    </a:lnTo>
                    <a:lnTo>
                      <a:pt x="35" y="19"/>
                    </a:lnTo>
                    <a:lnTo>
                      <a:pt x="27" y="19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043600" y="3800880"/>
                <a:ext cx="21600" cy="147240"/>
              </a:xfrm>
              <a:custGeom>
                <a:avLst/>
                <a:gdLst/>
                <a:ahLst/>
                <a:rect l="l" t="t" r="r" b="b"/>
                <a:pathLst>
                  <a:path w="55" h="367">
                    <a:moveTo>
                      <a:pt x="55" y="367"/>
                    </a:moveTo>
                    <a:lnTo>
                      <a:pt x="45" y="349"/>
                    </a:lnTo>
                    <a:lnTo>
                      <a:pt x="37" y="330"/>
                    </a:lnTo>
                    <a:lnTo>
                      <a:pt x="27" y="303"/>
                    </a:lnTo>
                    <a:lnTo>
                      <a:pt x="18" y="285"/>
                    </a:lnTo>
                    <a:lnTo>
                      <a:pt x="18" y="257"/>
                    </a:lnTo>
                    <a:lnTo>
                      <a:pt x="9" y="238"/>
                    </a:lnTo>
                    <a:lnTo>
                      <a:pt x="9" y="211"/>
                    </a:lnTo>
                    <a:lnTo>
                      <a:pt x="0" y="193"/>
                    </a:lnTo>
                    <a:lnTo>
                      <a:pt x="0" y="166"/>
                    </a:lnTo>
                    <a:lnTo>
                      <a:pt x="0" y="148"/>
                    </a:lnTo>
                    <a:lnTo>
                      <a:pt x="0" y="120"/>
                    </a:lnTo>
                    <a:lnTo>
                      <a:pt x="0" y="92"/>
                    </a:lnTo>
                    <a:lnTo>
                      <a:pt x="9" y="74"/>
                    </a:lnTo>
                    <a:lnTo>
                      <a:pt x="9" y="46"/>
                    </a:lnTo>
                    <a:lnTo>
                      <a:pt x="18" y="28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01760" y="3812400"/>
                <a:ext cx="105480" cy="145440"/>
              </a:xfrm>
              <a:custGeom>
                <a:avLst/>
                <a:gdLst/>
                <a:ahLst/>
                <a:rect l="l" t="t" r="r" b="b"/>
                <a:pathLst>
                  <a:path w="265" h="366">
                    <a:moveTo>
                      <a:pt x="265" y="0"/>
                    </a:moveTo>
                    <a:lnTo>
                      <a:pt x="247" y="18"/>
                    </a:lnTo>
                    <a:lnTo>
                      <a:pt x="229" y="46"/>
                    </a:lnTo>
                    <a:lnTo>
                      <a:pt x="210" y="64"/>
                    </a:lnTo>
                    <a:lnTo>
                      <a:pt x="192" y="92"/>
                    </a:lnTo>
                    <a:lnTo>
                      <a:pt x="183" y="120"/>
                    </a:lnTo>
                    <a:lnTo>
                      <a:pt x="165" y="138"/>
                    </a:lnTo>
                    <a:lnTo>
                      <a:pt x="147" y="165"/>
                    </a:lnTo>
                    <a:lnTo>
                      <a:pt x="137" y="183"/>
                    </a:lnTo>
                    <a:lnTo>
                      <a:pt x="119" y="210"/>
                    </a:lnTo>
                    <a:lnTo>
                      <a:pt x="100" y="229"/>
                    </a:lnTo>
                    <a:lnTo>
                      <a:pt x="82" y="257"/>
                    </a:lnTo>
                    <a:lnTo>
                      <a:pt x="73" y="275"/>
                    </a:lnTo>
                    <a:lnTo>
                      <a:pt x="55" y="302"/>
                    </a:lnTo>
                    <a:lnTo>
                      <a:pt x="37" y="329"/>
                    </a:lnTo>
                    <a:lnTo>
                      <a:pt x="18" y="348"/>
                    </a:lnTo>
                    <a:lnTo>
                      <a:pt x="0" y="3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849560" y="3892680"/>
                <a:ext cx="19800" cy="77760"/>
              </a:xfrm>
              <a:custGeom>
                <a:avLst/>
                <a:gdLst/>
                <a:ahLst/>
                <a:rect l="l" t="t" r="r" b="b"/>
                <a:pathLst>
                  <a:path w="46" h="192">
                    <a:moveTo>
                      <a:pt x="46" y="192"/>
                    </a:moveTo>
                    <a:lnTo>
                      <a:pt x="37" y="183"/>
                    </a:lnTo>
                    <a:lnTo>
                      <a:pt x="28" y="174"/>
                    </a:lnTo>
                    <a:lnTo>
                      <a:pt x="18" y="164"/>
                    </a:lnTo>
                    <a:lnTo>
                      <a:pt x="18" y="155"/>
                    </a:lnTo>
                    <a:lnTo>
                      <a:pt x="8" y="146"/>
                    </a:lnTo>
                    <a:lnTo>
                      <a:pt x="8" y="127"/>
                    </a:lnTo>
                    <a:lnTo>
                      <a:pt x="8" y="119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27"/>
                    </a:lnTo>
                    <a:lnTo>
                      <a:pt x="8" y="17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853880" y="3758760"/>
                <a:ext cx="123480" cy="133920"/>
              </a:xfrm>
              <a:custGeom>
                <a:avLst/>
                <a:gdLst/>
                <a:ahLst/>
                <a:rect l="l" t="t" r="r" b="b"/>
                <a:pathLst>
                  <a:path w="312" h="339">
                    <a:moveTo>
                      <a:pt x="0" y="339"/>
                    </a:moveTo>
                    <a:lnTo>
                      <a:pt x="0" y="311"/>
                    </a:lnTo>
                    <a:lnTo>
                      <a:pt x="10" y="284"/>
                    </a:lnTo>
                    <a:lnTo>
                      <a:pt x="29" y="257"/>
                    </a:lnTo>
                    <a:lnTo>
                      <a:pt x="38" y="229"/>
                    </a:lnTo>
                    <a:lnTo>
                      <a:pt x="56" y="210"/>
                    </a:lnTo>
                    <a:lnTo>
                      <a:pt x="75" y="183"/>
                    </a:lnTo>
                    <a:lnTo>
                      <a:pt x="92" y="165"/>
                    </a:lnTo>
                    <a:lnTo>
                      <a:pt x="120" y="137"/>
                    </a:lnTo>
                    <a:lnTo>
                      <a:pt x="138" y="119"/>
                    </a:lnTo>
                    <a:lnTo>
                      <a:pt x="166" y="100"/>
                    </a:lnTo>
                    <a:lnTo>
                      <a:pt x="185" y="82"/>
                    </a:lnTo>
                    <a:lnTo>
                      <a:pt x="212" y="63"/>
                    </a:lnTo>
                    <a:lnTo>
                      <a:pt x="239" y="45"/>
                    </a:lnTo>
                    <a:lnTo>
                      <a:pt x="267" y="27"/>
                    </a:lnTo>
                    <a:lnTo>
                      <a:pt x="285" y="18"/>
                    </a:lnTo>
                    <a:lnTo>
                      <a:pt x="3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659200" y="3619080"/>
                <a:ext cx="28080" cy="61560"/>
              </a:xfrm>
              <a:custGeom>
                <a:avLst/>
                <a:gdLst/>
                <a:ahLst/>
                <a:rect l="l" t="t" r="r" b="b"/>
                <a:pathLst>
                  <a:path w="72" h="156">
                    <a:moveTo>
                      <a:pt x="0" y="156"/>
                    </a:moveTo>
                    <a:lnTo>
                      <a:pt x="9" y="147"/>
                    </a:lnTo>
                    <a:lnTo>
                      <a:pt x="17" y="138"/>
                    </a:lnTo>
                    <a:lnTo>
                      <a:pt x="27" y="128"/>
                    </a:lnTo>
                    <a:lnTo>
                      <a:pt x="36" y="128"/>
                    </a:lnTo>
                    <a:lnTo>
                      <a:pt x="36" y="120"/>
                    </a:lnTo>
                    <a:lnTo>
                      <a:pt x="45" y="110"/>
                    </a:lnTo>
                    <a:lnTo>
                      <a:pt x="54" y="101"/>
                    </a:lnTo>
                    <a:lnTo>
                      <a:pt x="54" y="93"/>
                    </a:lnTo>
                    <a:lnTo>
                      <a:pt x="64" y="73"/>
                    </a:lnTo>
                    <a:lnTo>
                      <a:pt x="64" y="65"/>
                    </a:lnTo>
                    <a:lnTo>
                      <a:pt x="64" y="55"/>
                    </a:lnTo>
                    <a:lnTo>
                      <a:pt x="72" y="46"/>
                    </a:lnTo>
                    <a:lnTo>
                      <a:pt x="72" y="37"/>
                    </a:lnTo>
                    <a:lnTo>
                      <a:pt x="72" y="28"/>
                    </a:lnTo>
                    <a:lnTo>
                      <a:pt x="72" y="10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597280" y="3561120"/>
                <a:ext cx="90000" cy="57600"/>
              </a:xfrm>
              <a:custGeom>
                <a:avLst/>
                <a:gdLst/>
                <a:ahLst/>
                <a:rect l="l" t="t" r="r" b="b"/>
                <a:pathLst>
                  <a:path w="228" h="146">
                    <a:moveTo>
                      <a:pt x="228" y="146"/>
                    </a:moveTo>
                    <a:lnTo>
                      <a:pt x="220" y="129"/>
                    </a:lnTo>
                    <a:lnTo>
                      <a:pt x="210" y="119"/>
                    </a:lnTo>
                    <a:lnTo>
                      <a:pt x="201" y="101"/>
                    </a:lnTo>
                    <a:lnTo>
                      <a:pt x="183" y="92"/>
                    </a:lnTo>
                    <a:lnTo>
                      <a:pt x="173" y="72"/>
                    </a:lnTo>
                    <a:lnTo>
                      <a:pt x="165" y="64"/>
                    </a:lnTo>
                    <a:lnTo>
                      <a:pt x="146" y="54"/>
                    </a:lnTo>
                    <a:lnTo>
                      <a:pt x="128" y="45"/>
                    </a:lnTo>
                    <a:lnTo>
                      <a:pt x="118" y="36"/>
                    </a:lnTo>
                    <a:lnTo>
                      <a:pt x="100" y="27"/>
                    </a:lnTo>
                    <a:lnTo>
                      <a:pt x="82" y="18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6" y="9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523120" y="3490920"/>
                <a:ext cx="73800" cy="69840"/>
              </a:xfrm>
              <a:custGeom>
                <a:avLst/>
                <a:gdLst/>
                <a:ahLst/>
                <a:rect l="l" t="t" r="r" b="b"/>
                <a:pathLst>
                  <a:path w="184" h="174">
                    <a:moveTo>
                      <a:pt x="184" y="174"/>
                    </a:moveTo>
                    <a:lnTo>
                      <a:pt x="165" y="174"/>
                    </a:lnTo>
                    <a:lnTo>
                      <a:pt x="147" y="174"/>
                    </a:lnTo>
                    <a:lnTo>
                      <a:pt x="129" y="164"/>
                    </a:lnTo>
                    <a:lnTo>
                      <a:pt x="120" y="156"/>
                    </a:lnTo>
                    <a:lnTo>
                      <a:pt x="102" y="147"/>
                    </a:lnTo>
                    <a:lnTo>
                      <a:pt x="92" y="137"/>
                    </a:lnTo>
                    <a:lnTo>
                      <a:pt x="83" y="128"/>
                    </a:lnTo>
                    <a:lnTo>
                      <a:pt x="75" y="109"/>
                    </a:lnTo>
                    <a:lnTo>
                      <a:pt x="65" y="100"/>
                    </a:lnTo>
                    <a:lnTo>
                      <a:pt x="47" y="82"/>
                    </a:lnTo>
                    <a:lnTo>
                      <a:pt x="37" y="73"/>
                    </a:lnTo>
                    <a:lnTo>
                      <a:pt x="28" y="54"/>
                    </a:lnTo>
                    <a:lnTo>
                      <a:pt x="28" y="37"/>
                    </a:lnTo>
                    <a:lnTo>
                      <a:pt x="19" y="27"/>
                    </a:lnTo>
                    <a:lnTo>
                      <a:pt x="1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509080" y="3417120"/>
                <a:ext cx="14040" cy="73440"/>
              </a:xfrm>
              <a:custGeom>
                <a:avLst/>
                <a:gdLst/>
                <a:ahLst/>
                <a:rect l="l" t="t" r="r" b="b"/>
                <a:pathLst>
                  <a:path w="35" h="183">
                    <a:moveTo>
                      <a:pt x="35" y="183"/>
                    </a:moveTo>
                    <a:lnTo>
                      <a:pt x="27" y="164"/>
                    </a:lnTo>
                    <a:lnTo>
                      <a:pt x="27" y="155"/>
                    </a:lnTo>
                    <a:lnTo>
                      <a:pt x="27" y="145"/>
                    </a:lnTo>
                    <a:lnTo>
                      <a:pt x="17" y="137"/>
                    </a:lnTo>
                    <a:lnTo>
                      <a:pt x="17" y="127"/>
                    </a:lnTo>
                    <a:lnTo>
                      <a:pt x="17" y="110"/>
                    </a:lnTo>
                    <a:lnTo>
                      <a:pt x="8" y="100"/>
                    </a:lnTo>
                    <a:lnTo>
                      <a:pt x="8" y="91"/>
                    </a:lnTo>
                    <a:lnTo>
                      <a:pt x="8" y="82"/>
                    </a:lnTo>
                    <a:lnTo>
                      <a:pt x="0" y="64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515200" y="3241440"/>
                <a:ext cx="105840" cy="79920"/>
              </a:xfrm>
              <a:custGeom>
                <a:avLst/>
                <a:gdLst/>
                <a:ahLst/>
                <a:rect l="l" t="t" r="r" b="b"/>
                <a:pathLst>
                  <a:path w="265" h="201">
                    <a:moveTo>
                      <a:pt x="0" y="201"/>
                    </a:moveTo>
                    <a:lnTo>
                      <a:pt x="18" y="191"/>
                    </a:lnTo>
                    <a:lnTo>
                      <a:pt x="28" y="174"/>
                    </a:lnTo>
                    <a:lnTo>
                      <a:pt x="46" y="156"/>
                    </a:lnTo>
                    <a:lnTo>
                      <a:pt x="65" y="146"/>
                    </a:lnTo>
                    <a:lnTo>
                      <a:pt x="83" y="129"/>
                    </a:lnTo>
                    <a:lnTo>
                      <a:pt x="93" y="119"/>
                    </a:lnTo>
                    <a:lnTo>
                      <a:pt x="110" y="100"/>
                    </a:lnTo>
                    <a:lnTo>
                      <a:pt x="128" y="91"/>
                    </a:lnTo>
                    <a:lnTo>
                      <a:pt x="138" y="72"/>
                    </a:lnTo>
                    <a:lnTo>
                      <a:pt x="156" y="64"/>
                    </a:lnTo>
                    <a:lnTo>
                      <a:pt x="174" y="45"/>
                    </a:lnTo>
                    <a:lnTo>
                      <a:pt x="192" y="36"/>
                    </a:lnTo>
                    <a:lnTo>
                      <a:pt x="211" y="27"/>
                    </a:lnTo>
                    <a:lnTo>
                      <a:pt x="230" y="18"/>
                    </a:lnTo>
                    <a:lnTo>
                      <a:pt x="248" y="9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515200" y="3263760"/>
                <a:ext cx="191880" cy="277200"/>
              </a:xfrm>
              <a:custGeom>
                <a:avLst/>
                <a:gdLst/>
                <a:ahLst/>
                <a:rect l="l" t="t" r="r" b="b"/>
                <a:pathLst>
                  <a:path w="477" h="697">
                    <a:moveTo>
                      <a:pt x="430" y="175"/>
                    </a:moveTo>
                    <a:lnTo>
                      <a:pt x="430" y="193"/>
                    </a:lnTo>
                    <a:lnTo>
                      <a:pt x="439" y="202"/>
                    </a:lnTo>
                    <a:lnTo>
                      <a:pt x="439" y="220"/>
                    </a:lnTo>
                    <a:lnTo>
                      <a:pt x="449" y="239"/>
                    </a:lnTo>
                    <a:lnTo>
                      <a:pt x="458" y="257"/>
                    </a:lnTo>
                    <a:lnTo>
                      <a:pt x="458" y="275"/>
                    </a:lnTo>
                    <a:lnTo>
                      <a:pt x="467" y="294"/>
                    </a:lnTo>
                    <a:lnTo>
                      <a:pt x="467" y="312"/>
                    </a:lnTo>
                    <a:lnTo>
                      <a:pt x="477" y="331"/>
                    </a:lnTo>
                    <a:lnTo>
                      <a:pt x="477" y="340"/>
                    </a:lnTo>
                    <a:lnTo>
                      <a:pt x="477" y="358"/>
                    </a:lnTo>
                    <a:lnTo>
                      <a:pt x="477" y="376"/>
                    </a:lnTo>
                    <a:lnTo>
                      <a:pt x="477" y="394"/>
                    </a:lnTo>
                    <a:lnTo>
                      <a:pt x="477" y="413"/>
                    </a:lnTo>
                    <a:lnTo>
                      <a:pt x="467" y="421"/>
                    </a:lnTo>
                    <a:lnTo>
                      <a:pt x="458" y="441"/>
                    </a:lnTo>
                    <a:lnTo>
                      <a:pt x="449" y="459"/>
                    </a:lnTo>
                    <a:lnTo>
                      <a:pt x="430" y="468"/>
                    </a:lnTo>
                    <a:lnTo>
                      <a:pt x="422" y="486"/>
                    </a:lnTo>
                    <a:lnTo>
                      <a:pt x="412" y="496"/>
                    </a:lnTo>
                    <a:lnTo>
                      <a:pt x="403" y="513"/>
                    </a:lnTo>
                    <a:lnTo>
                      <a:pt x="394" y="523"/>
                    </a:lnTo>
                    <a:lnTo>
                      <a:pt x="385" y="541"/>
                    </a:lnTo>
                    <a:lnTo>
                      <a:pt x="375" y="550"/>
                    </a:lnTo>
                    <a:lnTo>
                      <a:pt x="367" y="569"/>
                    </a:lnTo>
                    <a:lnTo>
                      <a:pt x="358" y="578"/>
                    </a:lnTo>
                    <a:lnTo>
                      <a:pt x="348" y="596"/>
                    </a:lnTo>
                    <a:lnTo>
                      <a:pt x="330" y="606"/>
                    </a:lnTo>
                    <a:lnTo>
                      <a:pt x="320" y="623"/>
                    </a:lnTo>
                    <a:lnTo>
                      <a:pt x="312" y="633"/>
                    </a:lnTo>
                    <a:lnTo>
                      <a:pt x="293" y="642"/>
                    </a:lnTo>
                    <a:lnTo>
                      <a:pt x="275" y="651"/>
                    </a:lnTo>
                    <a:lnTo>
                      <a:pt x="275" y="660"/>
                    </a:lnTo>
                    <a:lnTo>
                      <a:pt x="265" y="660"/>
                    </a:lnTo>
                    <a:lnTo>
                      <a:pt x="257" y="660"/>
                    </a:lnTo>
                    <a:lnTo>
                      <a:pt x="248" y="660"/>
                    </a:lnTo>
                    <a:lnTo>
                      <a:pt x="238" y="669"/>
                    </a:lnTo>
                    <a:lnTo>
                      <a:pt x="230" y="669"/>
                    </a:lnTo>
                    <a:lnTo>
                      <a:pt x="220" y="669"/>
                    </a:lnTo>
                    <a:lnTo>
                      <a:pt x="211" y="669"/>
                    </a:lnTo>
                    <a:lnTo>
                      <a:pt x="202" y="678"/>
                    </a:lnTo>
                    <a:lnTo>
                      <a:pt x="192" y="678"/>
                    </a:lnTo>
                    <a:lnTo>
                      <a:pt x="183" y="678"/>
                    </a:lnTo>
                    <a:lnTo>
                      <a:pt x="174" y="687"/>
                    </a:lnTo>
                    <a:lnTo>
                      <a:pt x="165" y="687"/>
                    </a:lnTo>
                    <a:lnTo>
                      <a:pt x="156" y="697"/>
                    </a:lnTo>
                    <a:lnTo>
                      <a:pt x="147" y="687"/>
                    </a:lnTo>
                    <a:lnTo>
                      <a:pt x="138" y="678"/>
                    </a:lnTo>
                    <a:lnTo>
                      <a:pt x="128" y="678"/>
                    </a:lnTo>
                    <a:lnTo>
                      <a:pt x="120" y="669"/>
                    </a:lnTo>
                    <a:lnTo>
                      <a:pt x="120" y="660"/>
                    </a:lnTo>
                    <a:lnTo>
                      <a:pt x="110" y="651"/>
                    </a:lnTo>
                    <a:lnTo>
                      <a:pt x="101" y="642"/>
                    </a:lnTo>
                    <a:lnTo>
                      <a:pt x="101" y="633"/>
                    </a:lnTo>
                    <a:lnTo>
                      <a:pt x="93" y="623"/>
                    </a:lnTo>
                    <a:lnTo>
                      <a:pt x="93" y="615"/>
                    </a:lnTo>
                    <a:lnTo>
                      <a:pt x="83" y="606"/>
                    </a:lnTo>
                    <a:lnTo>
                      <a:pt x="83" y="596"/>
                    </a:lnTo>
                    <a:lnTo>
                      <a:pt x="74" y="588"/>
                    </a:lnTo>
                    <a:lnTo>
                      <a:pt x="65" y="578"/>
                    </a:lnTo>
                    <a:lnTo>
                      <a:pt x="65" y="569"/>
                    </a:lnTo>
                    <a:lnTo>
                      <a:pt x="55" y="559"/>
                    </a:lnTo>
                    <a:lnTo>
                      <a:pt x="46" y="550"/>
                    </a:lnTo>
                    <a:lnTo>
                      <a:pt x="46" y="531"/>
                    </a:lnTo>
                    <a:lnTo>
                      <a:pt x="37" y="523"/>
                    </a:lnTo>
                    <a:lnTo>
                      <a:pt x="37" y="504"/>
                    </a:lnTo>
                    <a:lnTo>
                      <a:pt x="37" y="496"/>
                    </a:lnTo>
                    <a:lnTo>
                      <a:pt x="28" y="477"/>
                    </a:lnTo>
                    <a:lnTo>
                      <a:pt x="28" y="468"/>
                    </a:lnTo>
                    <a:lnTo>
                      <a:pt x="28" y="450"/>
                    </a:lnTo>
                    <a:lnTo>
                      <a:pt x="18" y="441"/>
                    </a:lnTo>
                    <a:lnTo>
                      <a:pt x="18" y="421"/>
                    </a:lnTo>
                    <a:lnTo>
                      <a:pt x="18" y="413"/>
                    </a:lnTo>
                    <a:lnTo>
                      <a:pt x="10" y="394"/>
                    </a:lnTo>
                    <a:lnTo>
                      <a:pt x="10" y="386"/>
                    </a:lnTo>
                    <a:lnTo>
                      <a:pt x="10" y="367"/>
                    </a:lnTo>
                    <a:lnTo>
                      <a:pt x="10" y="358"/>
                    </a:lnTo>
                    <a:lnTo>
                      <a:pt x="0" y="340"/>
                    </a:lnTo>
                    <a:lnTo>
                      <a:pt x="0" y="331"/>
                    </a:lnTo>
                    <a:lnTo>
                      <a:pt x="0" y="322"/>
                    </a:lnTo>
                    <a:lnTo>
                      <a:pt x="0" y="312"/>
                    </a:lnTo>
                    <a:lnTo>
                      <a:pt x="0" y="302"/>
                    </a:lnTo>
                    <a:lnTo>
                      <a:pt x="0" y="294"/>
                    </a:lnTo>
                    <a:lnTo>
                      <a:pt x="0" y="284"/>
                    </a:lnTo>
                    <a:lnTo>
                      <a:pt x="0" y="275"/>
                    </a:lnTo>
                    <a:lnTo>
                      <a:pt x="0" y="266"/>
                    </a:lnTo>
                    <a:lnTo>
                      <a:pt x="0" y="257"/>
                    </a:lnTo>
                    <a:lnTo>
                      <a:pt x="0" y="247"/>
                    </a:lnTo>
                    <a:lnTo>
                      <a:pt x="0" y="239"/>
                    </a:lnTo>
                    <a:lnTo>
                      <a:pt x="10" y="230"/>
                    </a:lnTo>
                    <a:lnTo>
                      <a:pt x="10" y="220"/>
                    </a:lnTo>
                    <a:lnTo>
                      <a:pt x="10" y="212"/>
                    </a:lnTo>
                    <a:lnTo>
                      <a:pt x="10" y="202"/>
                    </a:lnTo>
                    <a:lnTo>
                      <a:pt x="18" y="202"/>
                    </a:lnTo>
                    <a:lnTo>
                      <a:pt x="18" y="193"/>
                    </a:lnTo>
                    <a:lnTo>
                      <a:pt x="28" y="184"/>
                    </a:lnTo>
                    <a:lnTo>
                      <a:pt x="37" y="175"/>
                    </a:lnTo>
                    <a:lnTo>
                      <a:pt x="37" y="165"/>
                    </a:lnTo>
                    <a:lnTo>
                      <a:pt x="46" y="165"/>
                    </a:lnTo>
                    <a:lnTo>
                      <a:pt x="55" y="156"/>
                    </a:lnTo>
                    <a:lnTo>
                      <a:pt x="55" y="147"/>
                    </a:lnTo>
                    <a:lnTo>
                      <a:pt x="65" y="147"/>
                    </a:lnTo>
                    <a:lnTo>
                      <a:pt x="65" y="137"/>
                    </a:lnTo>
                    <a:lnTo>
                      <a:pt x="74" y="129"/>
                    </a:lnTo>
                    <a:lnTo>
                      <a:pt x="83" y="129"/>
                    </a:lnTo>
                    <a:lnTo>
                      <a:pt x="83" y="120"/>
                    </a:lnTo>
                    <a:lnTo>
                      <a:pt x="93" y="110"/>
                    </a:lnTo>
                    <a:lnTo>
                      <a:pt x="101" y="102"/>
                    </a:lnTo>
                    <a:lnTo>
                      <a:pt x="110" y="92"/>
                    </a:lnTo>
                    <a:lnTo>
                      <a:pt x="120" y="83"/>
                    </a:lnTo>
                    <a:lnTo>
                      <a:pt x="128" y="75"/>
                    </a:lnTo>
                    <a:lnTo>
                      <a:pt x="138" y="65"/>
                    </a:lnTo>
                    <a:lnTo>
                      <a:pt x="147" y="56"/>
                    </a:lnTo>
                    <a:lnTo>
                      <a:pt x="156" y="46"/>
                    </a:lnTo>
                    <a:lnTo>
                      <a:pt x="165" y="37"/>
                    </a:lnTo>
                    <a:lnTo>
                      <a:pt x="174" y="37"/>
                    </a:lnTo>
                    <a:lnTo>
                      <a:pt x="183" y="27"/>
                    </a:lnTo>
                    <a:lnTo>
                      <a:pt x="192" y="18"/>
                    </a:lnTo>
                    <a:lnTo>
                      <a:pt x="202" y="10"/>
                    </a:lnTo>
                    <a:lnTo>
                      <a:pt x="211" y="10"/>
                    </a:lnTo>
                    <a:lnTo>
                      <a:pt x="220" y="0"/>
                    </a:lnTo>
                    <a:lnTo>
                      <a:pt x="238" y="10"/>
                    </a:lnTo>
                    <a:lnTo>
                      <a:pt x="257" y="10"/>
                    </a:lnTo>
                    <a:lnTo>
                      <a:pt x="265" y="18"/>
                    </a:lnTo>
                    <a:lnTo>
                      <a:pt x="284" y="27"/>
                    </a:lnTo>
                    <a:lnTo>
                      <a:pt x="302" y="37"/>
                    </a:lnTo>
                    <a:lnTo>
                      <a:pt x="312" y="46"/>
                    </a:lnTo>
                    <a:lnTo>
                      <a:pt x="320" y="56"/>
                    </a:lnTo>
                    <a:lnTo>
                      <a:pt x="340" y="75"/>
                    </a:lnTo>
                    <a:lnTo>
                      <a:pt x="348" y="83"/>
                    </a:lnTo>
                    <a:lnTo>
                      <a:pt x="358" y="92"/>
                    </a:lnTo>
                    <a:lnTo>
                      <a:pt x="375" y="110"/>
                    </a:lnTo>
                    <a:lnTo>
                      <a:pt x="385" y="120"/>
                    </a:lnTo>
                    <a:lnTo>
                      <a:pt x="394" y="137"/>
                    </a:lnTo>
                    <a:lnTo>
                      <a:pt x="403" y="147"/>
                    </a:lnTo>
                    <a:lnTo>
                      <a:pt x="422" y="156"/>
                    </a:lnTo>
                    <a:lnTo>
                      <a:pt x="430" y="175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687280" y="3333600"/>
                <a:ext cx="19800" cy="105840"/>
              </a:xfrm>
              <a:custGeom>
                <a:avLst/>
                <a:gdLst/>
                <a:ahLst/>
                <a:rect l="l" t="t" r="r" b="b"/>
                <a:pathLst>
                  <a:path w="47" h="266">
                    <a:moveTo>
                      <a:pt x="0" y="0"/>
                    </a:moveTo>
                    <a:lnTo>
                      <a:pt x="0" y="18"/>
                    </a:lnTo>
                    <a:lnTo>
                      <a:pt x="9" y="27"/>
                    </a:lnTo>
                    <a:lnTo>
                      <a:pt x="9" y="45"/>
                    </a:lnTo>
                    <a:lnTo>
                      <a:pt x="19" y="64"/>
                    </a:lnTo>
                    <a:lnTo>
                      <a:pt x="28" y="82"/>
                    </a:lnTo>
                    <a:lnTo>
                      <a:pt x="28" y="100"/>
                    </a:lnTo>
                    <a:lnTo>
                      <a:pt x="37" y="119"/>
                    </a:lnTo>
                    <a:lnTo>
                      <a:pt x="37" y="137"/>
                    </a:lnTo>
                    <a:lnTo>
                      <a:pt x="47" y="156"/>
                    </a:lnTo>
                    <a:lnTo>
                      <a:pt x="47" y="165"/>
                    </a:lnTo>
                    <a:lnTo>
                      <a:pt x="47" y="183"/>
                    </a:lnTo>
                    <a:lnTo>
                      <a:pt x="47" y="201"/>
                    </a:lnTo>
                    <a:lnTo>
                      <a:pt x="47" y="219"/>
                    </a:lnTo>
                    <a:lnTo>
                      <a:pt x="47" y="238"/>
                    </a:lnTo>
                    <a:lnTo>
                      <a:pt x="37" y="246"/>
                    </a:lnTo>
                    <a:lnTo>
                      <a:pt x="28" y="2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625360" y="3439440"/>
                <a:ext cx="73800" cy="83520"/>
              </a:xfrm>
              <a:custGeom>
                <a:avLst/>
                <a:gdLst/>
                <a:ahLst/>
                <a:rect l="l" t="t" r="r" b="b"/>
                <a:pathLst>
                  <a:path w="183" h="210">
                    <a:moveTo>
                      <a:pt x="183" y="0"/>
                    </a:moveTo>
                    <a:lnTo>
                      <a:pt x="174" y="18"/>
                    </a:lnTo>
                    <a:lnTo>
                      <a:pt x="155" y="27"/>
                    </a:lnTo>
                    <a:lnTo>
                      <a:pt x="147" y="45"/>
                    </a:lnTo>
                    <a:lnTo>
                      <a:pt x="137" y="55"/>
                    </a:lnTo>
                    <a:lnTo>
                      <a:pt x="128" y="72"/>
                    </a:lnTo>
                    <a:lnTo>
                      <a:pt x="119" y="82"/>
                    </a:lnTo>
                    <a:lnTo>
                      <a:pt x="110" y="100"/>
                    </a:lnTo>
                    <a:lnTo>
                      <a:pt x="100" y="109"/>
                    </a:lnTo>
                    <a:lnTo>
                      <a:pt x="92" y="128"/>
                    </a:lnTo>
                    <a:lnTo>
                      <a:pt x="83" y="137"/>
                    </a:lnTo>
                    <a:lnTo>
                      <a:pt x="73" y="155"/>
                    </a:lnTo>
                    <a:lnTo>
                      <a:pt x="55" y="165"/>
                    </a:lnTo>
                    <a:lnTo>
                      <a:pt x="45" y="182"/>
                    </a:lnTo>
                    <a:lnTo>
                      <a:pt x="37" y="192"/>
                    </a:lnTo>
                    <a:lnTo>
                      <a:pt x="18" y="201"/>
                    </a:lnTo>
                    <a:lnTo>
                      <a:pt x="0" y="21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515200" y="3399480"/>
                <a:ext cx="21960" cy="87480"/>
              </a:xfrm>
              <a:custGeom>
                <a:avLst/>
                <a:gdLst/>
                <a:ahLst/>
                <a:rect l="l" t="t" r="r" b="b"/>
                <a:pathLst>
                  <a:path w="55" h="219">
                    <a:moveTo>
                      <a:pt x="55" y="219"/>
                    </a:moveTo>
                    <a:lnTo>
                      <a:pt x="46" y="210"/>
                    </a:lnTo>
                    <a:lnTo>
                      <a:pt x="46" y="191"/>
                    </a:lnTo>
                    <a:lnTo>
                      <a:pt x="37" y="183"/>
                    </a:lnTo>
                    <a:lnTo>
                      <a:pt x="37" y="164"/>
                    </a:lnTo>
                    <a:lnTo>
                      <a:pt x="37" y="156"/>
                    </a:lnTo>
                    <a:lnTo>
                      <a:pt x="28" y="137"/>
                    </a:lnTo>
                    <a:lnTo>
                      <a:pt x="28" y="128"/>
                    </a:lnTo>
                    <a:lnTo>
                      <a:pt x="28" y="110"/>
                    </a:lnTo>
                    <a:lnTo>
                      <a:pt x="18" y="101"/>
                    </a:lnTo>
                    <a:lnTo>
                      <a:pt x="18" y="81"/>
                    </a:lnTo>
                    <a:lnTo>
                      <a:pt x="18" y="73"/>
                    </a:lnTo>
                    <a:lnTo>
                      <a:pt x="10" y="54"/>
                    </a:lnTo>
                    <a:lnTo>
                      <a:pt x="10" y="46"/>
                    </a:lnTo>
                    <a:lnTo>
                      <a:pt x="10" y="27"/>
                    </a:lnTo>
                    <a:lnTo>
                      <a:pt x="1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603040" y="3263760"/>
                <a:ext cx="84240" cy="69480"/>
              </a:xfrm>
              <a:custGeom>
                <a:avLst/>
                <a:gdLst/>
                <a:ahLst/>
                <a:rect l="l" t="t" r="r" b="b"/>
                <a:pathLst>
                  <a:path w="210" h="175">
                    <a:moveTo>
                      <a:pt x="0" y="0"/>
                    </a:moveTo>
                    <a:lnTo>
                      <a:pt x="18" y="10"/>
                    </a:lnTo>
                    <a:lnTo>
                      <a:pt x="37" y="10"/>
                    </a:lnTo>
                    <a:lnTo>
                      <a:pt x="45" y="18"/>
                    </a:lnTo>
                    <a:lnTo>
                      <a:pt x="64" y="27"/>
                    </a:lnTo>
                    <a:lnTo>
                      <a:pt x="82" y="37"/>
                    </a:lnTo>
                    <a:lnTo>
                      <a:pt x="92" y="46"/>
                    </a:lnTo>
                    <a:lnTo>
                      <a:pt x="100" y="56"/>
                    </a:lnTo>
                    <a:lnTo>
                      <a:pt x="120" y="75"/>
                    </a:lnTo>
                    <a:lnTo>
                      <a:pt x="128" y="83"/>
                    </a:lnTo>
                    <a:lnTo>
                      <a:pt x="138" y="92"/>
                    </a:lnTo>
                    <a:lnTo>
                      <a:pt x="155" y="110"/>
                    </a:lnTo>
                    <a:lnTo>
                      <a:pt x="165" y="120"/>
                    </a:lnTo>
                    <a:lnTo>
                      <a:pt x="174" y="137"/>
                    </a:lnTo>
                    <a:lnTo>
                      <a:pt x="183" y="147"/>
                    </a:lnTo>
                    <a:lnTo>
                      <a:pt x="202" y="156"/>
                    </a:lnTo>
                    <a:lnTo>
                      <a:pt x="210" y="1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643360" y="351900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20" y="45"/>
                    </a:moveTo>
                    <a:lnTo>
                      <a:pt x="10" y="45"/>
                    </a:lnTo>
                    <a:lnTo>
                      <a:pt x="10" y="36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2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209560" y="3673080"/>
                <a:ext cx="1308960" cy="1712520"/>
              </a:xfrm>
              <a:custGeom>
                <a:avLst/>
                <a:gdLst/>
                <a:ahLst/>
                <a:rect l="l" t="t" r="r" b="b"/>
                <a:pathLst>
                  <a:path w="3276" h="4289">
                    <a:moveTo>
                      <a:pt x="1601" y="101"/>
                    </a:moveTo>
                    <a:lnTo>
                      <a:pt x="1629" y="110"/>
                    </a:lnTo>
                    <a:lnTo>
                      <a:pt x="1647" y="110"/>
                    </a:lnTo>
                    <a:lnTo>
                      <a:pt x="1665" y="119"/>
                    </a:lnTo>
                    <a:lnTo>
                      <a:pt x="1684" y="128"/>
                    </a:lnTo>
                    <a:lnTo>
                      <a:pt x="1711" y="128"/>
                    </a:lnTo>
                    <a:lnTo>
                      <a:pt x="1729" y="137"/>
                    </a:lnTo>
                    <a:lnTo>
                      <a:pt x="1747" y="146"/>
                    </a:lnTo>
                    <a:lnTo>
                      <a:pt x="1767" y="156"/>
                    </a:lnTo>
                    <a:lnTo>
                      <a:pt x="1794" y="164"/>
                    </a:lnTo>
                    <a:lnTo>
                      <a:pt x="1812" y="164"/>
                    </a:lnTo>
                    <a:lnTo>
                      <a:pt x="1830" y="174"/>
                    </a:lnTo>
                    <a:lnTo>
                      <a:pt x="1848" y="183"/>
                    </a:lnTo>
                    <a:lnTo>
                      <a:pt x="1866" y="192"/>
                    </a:lnTo>
                    <a:lnTo>
                      <a:pt x="1894" y="202"/>
                    </a:lnTo>
                    <a:lnTo>
                      <a:pt x="1912" y="202"/>
                    </a:lnTo>
                    <a:lnTo>
                      <a:pt x="1931" y="211"/>
                    </a:lnTo>
                    <a:lnTo>
                      <a:pt x="1967" y="220"/>
                    </a:lnTo>
                    <a:lnTo>
                      <a:pt x="2013" y="220"/>
                    </a:lnTo>
                    <a:lnTo>
                      <a:pt x="2050" y="229"/>
                    </a:lnTo>
                    <a:lnTo>
                      <a:pt x="2086" y="238"/>
                    </a:lnTo>
                    <a:lnTo>
                      <a:pt x="2123" y="247"/>
                    </a:lnTo>
                    <a:lnTo>
                      <a:pt x="2160" y="256"/>
                    </a:lnTo>
                    <a:lnTo>
                      <a:pt x="2196" y="266"/>
                    </a:lnTo>
                    <a:lnTo>
                      <a:pt x="2233" y="274"/>
                    </a:lnTo>
                    <a:lnTo>
                      <a:pt x="2269" y="284"/>
                    </a:lnTo>
                    <a:lnTo>
                      <a:pt x="2306" y="293"/>
                    </a:lnTo>
                    <a:lnTo>
                      <a:pt x="2343" y="301"/>
                    </a:lnTo>
                    <a:lnTo>
                      <a:pt x="2379" y="311"/>
                    </a:lnTo>
                    <a:lnTo>
                      <a:pt x="2426" y="320"/>
                    </a:lnTo>
                    <a:lnTo>
                      <a:pt x="2461" y="330"/>
                    </a:lnTo>
                    <a:lnTo>
                      <a:pt x="2498" y="330"/>
                    </a:lnTo>
                    <a:lnTo>
                      <a:pt x="2535" y="330"/>
                    </a:lnTo>
                    <a:lnTo>
                      <a:pt x="2563" y="339"/>
                    </a:lnTo>
                    <a:lnTo>
                      <a:pt x="2590" y="348"/>
                    </a:lnTo>
                    <a:lnTo>
                      <a:pt x="2626" y="358"/>
                    </a:lnTo>
                    <a:lnTo>
                      <a:pt x="2653" y="358"/>
                    </a:lnTo>
                    <a:lnTo>
                      <a:pt x="2681" y="366"/>
                    </a:lnTo>
                    <a:lnTo>
                      <a:pt x="2708" y="366"/>
                    </a:lnTo>
                    <a:lnTo>
                      <a:pt x="2736" y="376"/>
                    </a:lnTo>
                    <a:lnTo>
                      <a:pt x="2763" y="376"/>
                    </a:lnTo>
                    <a:lnTo>
                      <a:pt x="2790" y="385"/>
                    </a:lnTo>
                    <a:lnTo>
                      <a:pt x="2818" y="385"/>
                    </a:lnTo>
                    <a:lnTo>
                      <a:pt x="2846" y="394"/>
                    </a:lnTo>
                    <a:lnTo>
                      <a:pt x="2873" y="403"/>
                    </a:lnTo>
                    <a:lnTo>
                      <a:pt x="2910" y="403"/>
                    </a:lnTo>
                    <a:lnTo>
                      <a:pt x="2937" y="412"/>
                    </a:lnTo>
                    <a:lnTo>
                      <a:pt x="2965" y="421"/>
                    </a:lnTo>
                    <a:lnTo>
                      <a:pt x="2992" y="430"/>
                    </a:lnTo>
                    <a:lnTo>
                      <a:pt x="3010" y="430"/>
                    </a:lnTo>
                    <a:lnTo>
                      <a:pt x="3029" y="430"/>
                    </a:lnTo>
                    <a:lnTo>
                      <a:pt x="3047" y="430"/>
                    </a:lnTo>
                    <a:lnTo>
                      <a:pt x="3065" y="430"/>
                    </a:lnTo>
                    <a:lnTo>
                      <a:pt x="3084" y="430"/>
                    </a:lnTo>
                    <a:lnTo>
                      <a:pt x="3102" y="430"/>
                    </a:lnTo>
                    <a:lnTo>
                      <a:pt x="3120" y="430"/>
                    </a:lnTo>
                    <a:lnTo>
                      <a:pt x="3139" y="430"/>
                    </a:lnTo>
                    <a:lnTo>
                      <a:pt x="3157" y="440"/>
                    </a:lnTo>
                    <a:lnTo>
                      <a:pt x="3175" y="440"/>
                    </a:lnTo>
                    <a:lnTo>
                      <a:pt x="3194" y="440"/>
                    </a:lnTo>
                    <a:lnTo>
                      <a:pt x="3212" y="448"/>
                    </a:lnTo>
                    <a:lnTo>
                      <a:pt x="3230" y="458"/>
                    </a:lnTo>
                    <a:lnTo>
                      <a:pt x="3249" y="468"/>
                    </a:lnTo>
                    <a:lnTo>
                      <a:pt x="3257" y="476"/>
                    </a:lnTo>
                    <a:lnTo>
                      <a:pt x="3276" y="495"/>
                    </a:lnTo>
                    <a:lnTo>
                      <a:pt x="3267" y="495"/>
                    </a:lnTo>
                    <a:lnTo>
                      <a:pt x="3267" y="504"/>
                    </a:lnTo>
                    <a:lnTo>
                      <a:pt x="3257" y="504"/>
                    </a:lnTo>
                    <a:lnTo>
                      <a:pt x="3249" y="504"/>
                    </a:lnTo>
                    <a:lnTo>
                      <a:pt x="3240" y="504"/>
                    </a:lnTo>
                    <a:lnTo>
                      <a:pt x="3230" y="504"/>
                    </a:lnTo>
                    <a:lnTo>
                      <a:pt x="3222" y="513"/>
                    </a:lnTo>
                    <a:lnTo>
                      <a:pt x="3194" y="522"/>
                    </a:lnTo>
                    <a:lnTo>
                      <a:pt x="3166" y="540"/>
                    </a:lnTo>
                    <a:lnTo>
                      <a:pt x="3139" y="558"/>
                    </a:lnTo>
                    <a:lnTo>
                      <a:pt x="3112" y="577"/>
                    </a:lnTo>
                    <a:lnTo>
                      <a:pt x="3093" y="605"/>
                    </a:lnTo>
                    <a:lnTo>
                      <a:pt x="3065" y="623"/>
                    </a:lnTo>
                    <a:lnTo>
                      <a:pt x="3047" y="650"/>
                    </a:lnTo>
                    <a:lnTo>
                      <a:pt x="3029" y="677"/>
                    </a:lnTo>
                    <a:lnTo>
                      <a:pt x="3010" y="705"/>
                    </a:lnTo>
                    <a:lnTo>
                      <a:pt x="2992" y="733"/>
                    </a:lnTo>
                    <a:lnTo>
                      <a:pt x="2983" y="760"/>
                    </a:lnTo>
                    <a:lnTo>
                      <a:pt x="2965" y="787"/>
                    </a:lnTo>
                    <a:lnTo>
                      <a:pt x="2956" y="816"/>
                    </a:lnTo>
                    <a:lnTo>
                      <a:pt x="2947" y="852"/>
                    </a:lnTo>
                    <a:lnTo>
                      <a:pt x="2947" y="880"/>
                    </a:lnTo>
                    <a:lnTo>
                      <a:pt x="2937" y="916"/>
                    </a:lnTo>
                    <a:lnTo>
                      <a:pt x="2937" y="926"/>
                    </a:lnTo>
                    <a:lnTo>
                      <a:pt x="2947" y="934"/>
                    </a:lnTo>
                    <a:lnTo>
                      <a:pt x="2947" y="943"/>
                    </a:lnTo>
                    <a:lnTo>
                      <a:pt x="2947" y="961"/>
                    </a:lnTo>
                    <a:lnTo>
                      <a:pt x="2956" y="971"/>
                    </a:lnTo>
                    <a:lnTo>
                      <a:pt x="2956" y="980"/>
                    </a:lnTo>
                    <a:lnTo>
                      <a:pt x="2965" y="989"/>
                    </a:lnTo>
                    <a:lnTo>
                      <a:pt x="2965" y="999"/>
                    </a:lnTo>
                    <a:lnTo>
                      <a:pt x="2974" y="1008"/>
                    </a:lnTo>
                    <a:lnTo>
                      <a:pt x="2983" y="1017"/>
                    </a:lnTo>
                    <a:lnTo>
                      <a:pt x="2983" y="1036"/>
                    </a:lnTo>
                    <a:lnTo>
                      <a:pt x="2992" y="1044"/>
                    </a:lnTo>
                    <a:lnTo>
                      <a:pt x="3002" y="1053"/>
                    </a:lnTo>
                    <a:lnTo>
                      <a:pt x="3010" y="1063"/>
                    </a:lnTo>
                    <a:lnTo>
                      <a:pt x="3010" y="1071"/>
                    </a:lnTo>
                    <a:lnTo>
                      <a:pt x="3020" y="1081"/>
                    </a:lnTo>
                    <a:lnTo>
                      <a:pt x="3010" y="1090"/>
                    </a:lnTo>
                    <a:lnTo>
                      <a:pt x="2965" y="1081"/>
                    </a:lnTo>
                    <a:lnTo>
                      <a:pt x="2919" y="1081"/>
                    </a:lnTo>
                    <a:lnTo>
                      <a:pt x="2873" y="1090"/>
                    </a:lnTo>
                    <a:lnTo>
                      <a:pt x="2828" y="1090"/>
                    </a:lnTo>
                    <a:lnTo>
                      <a:pt x="2790" y="1100"/>
                    </a:lnTo>
                    <a:lnTo>
                      <a:pt x="2745" y="1108"/>
                    </a:lnTo>
                    <a:lnTo>
                      <a:pt x="2708" y="1118"/>
                    </a:lnTo>
                    <a:lnTo>
                      <a:pt x="2662" y="1128"/>
                    </a:lnTo>
                    <a:lnTo>
                      <a:pt x="2626" y="1136"/>
                    </a:lnTo>
                    <a:lnTo>
                      <a:pt x="2581" y="1146"/>
                    </a:lnTo>
                    <a:lnTo>
                      <a:pt x="2543" y="1163"/>
                    </a:lnTo>
                    <a:lnTo>
                      <a:pt x="2507" y="1173"/>
                    </a:lnTo>
                    <a:lnTo>
                      <a:pt x="2471" y="1191"/>
                    </a:lnTo>
                    <a:lnTo>
                      <a:pt x="2426" y="1200"/>
                    </a:lnTo>
                    <a:lnTo>
                      <a:pt x="2388" y="1218"/>
                    </a:lnTo>
                    <a:lnTo>
                      <a:pt x="2351" y="1227"/>
                    </a:lnTo>
                    <a:lnTo>
                      <a:pt x="2324" y="1237"/>
                    </a:lnTo>
                    <a:lnTo>
                      <a:pt x="2297" y="1255"/>
                    </a:lnTo>
                    <a:lnTo>
                      <a:pt x="2278" y="1265"/>
                    </a:lnTo>
                    <a:lnTo>
                      <a:pt x="2251" y="1283"/>
                    </a:lnTo>
                    <a:lnTo>
                      <a:pt x="2233" y="1302"/>
                    </a:lnTo>
                    <a:lnTo>
                      <a:pt x="2214" y="1319"/>
                    </a:lnTo>
                    <a:lnTo>
                      <a:pt x="2196" y="1347"/>
                    </a:lnTo>
                    <a:lnTo>
                      <a:pt x="2178" y="1365"/>
                    </a:lnTo>
                    <a:lnTo>
                      <a:pt x="2160" y="1384"/>
                    </a:lnTo>
                    <a:lnTo>
                      <a:pt x="2141" y="1412"/>
                    </a:lnTo>
                    <a:lnTo>
                      <a:pt x="2131" y="1429"/>
                    </a:lnTo>
                    <a:lnTo>
                      <a:pt x="2113" y="1457"/>
                    </a:lnTo>
                    <a:lnTo>
                      <a:pt x="2096" y="1475"/>
                    </a:lnTo>
                    <a:lnTo>
                      <a:pt x="2086" y="1502"/>
                    </a:lnTo>
                    <a:lnTo>
                      <a:pt x="2068" y="1522"/>
                    </a:lnTo>
                    <a:lnTo>
                      <a:pt x="2059" y="1549"/>
                    </a:lnTo>
                    <a:lnTo>
                      <a:pt x="2050" y="1567"/>
                    </a:lnTo>
                    <a:lnTo>
                      <a:pt x="2032" y="1594"/>
                    </a:lnTo>
                    <a:lnTo>
                      <a:pt x="2022" y="1613"/>
                    </a:lnTo>
                    <a:lnTo>
                      <a:pt x="2022" y="1640"/>
                    </a:lnTo>
                    <a:lnTo>
                      <a:pt x="2013" y="1659"/>
                    </a:lnTo>
                    <a:lnTo>
                      <a:pt x="2003" y="1686"/>
                    </a:lnTo>
                    <a:lnTo>
                      <a:pt x="1994" y="1704"/>
                    </a:lnTo>
                    <a:lnTo>
                      <a:pt x="1994" y="1731"/>
                    </a:lnTo>
                    <a:lnTo>
                      <a:pt x="1994" y="1758"/>
                    </a:lnTo>
                    <a:lnTo>
                      <a:pt x="1986" y="1788"/>
                    </a:lnTo>
                    <a:lnTo>
                      <a:pt x="1986" y="1805"/>
                    </a:lnTo>
                    <a:lnTo>
                      <a:pt x="1986" y="1833"/>
                    </a:lnTo>
                    <a:lnTo>
                      <a:pt x="1976" y="1860"/>
                    </a:lnTo>
                    <a:lnTo>
                      <a:pt x="1976" y="1887"/>
                    </a:lnTo>
                    <a:lnTo>
                      <a:pt x="1976" y="1915"/>
                    </a:lnTo>
                    <a:lnTo>
                      <a:pt x="1976" y="1933"/>
                    </a:lnTo>
                    <a:lnTo>
                      <a:pt x="1976" y="1979"/>
                    </a:lnTo>
                    <a:lnTo>
                      <a:pt x="1986" y="2025"/>
                    </a:lnTo>
                    <a:lnTo>
                      <a:pt x="1994" y="2072"/>
                    </a:lnTo>
                    <a:lnTo>
                      <a:pt x="1994" y="2117"/>
                    </a:lnTo>
                    <a:lnTo>
                      <a:pt x="2003" y="2153"/>
                    </a:lnTo>
                    <a:lnTo>
                      <a:pt x="2013" y="2199"/>
                    </a:lnTo>
                    <a:lnTo>
                      <a:pt x="2022" y="2244"/>
                    </a:lnTo>
                    <a:lnTo>
                      <a:pt x="2022" y="2291"/>
                    </a:lnTo>
                    <a:lnTo>
                      <a:pt x="2032" y="2337"/>
                    </a:lnTo>
                    <a:lnTo>
                      <a:pt x="2041" y="2383"/>
                    </a:lnTo>
                    <a:lnTo>
                      <a:pt x="2050" y="2418"/>
                    </a:lnTo>
                    <a:lnTo>
                      <a:pt x="2059" y="2465"/>
                    </a:lnTo>
                    <a:lnTo>
                      <a:pt x="2059" y="2510"/>
                    </a:lnTo>
                    <a:lnTo>
                      <a:pt x="2068" y="2556"/>
                    </a:lnTo>
                    <a:lnTo>
                      <a:pt x="2077" y="2593"/>
                    </a:lnTo>
                    <a:lnTo>
                      <a:pt x="2086" y="2639"/>
                    </a:lnTo>
                    <a:lnTo>
                      <a:pt x="2104" y="2703"/>
                    </a:lnTo>
                    <a:lnTo>
                      <a:pt x="2113" y="2758"/>
                    </a:lnTo>
                    <a:lnTo>
                      <a:pt x="2131" y="2822"/>
                    </a:lnTo>
                    <a:lnTo>
                      <a:pt x="2141" y="2877"/>
                    </a:lnTo>
                    <a:lnTo>
                      <a:pt x="2160" y="2941"/>
                    </a:lnTo>
                    <a:lnTo>
                      <a:pt x="2178" y="2996"/>
                    </a:lnTo>
                    <a:lnTo>
                      <a:pt x="2187" y="3060"/>
                    </a:lnTo>
                    <a:lnTo>
                      <a:pt x="2206" y="3116"/>
                    </a:lnTo>
                    <a:lnTo>
                      <a:pt x="2214" y="3180"/>
                    </a:lnTo>
                    <a:lnTo>
                      <a:pt x="2223" y="3244"/>
                    </a:lnTo>
                    <a:lnTo>
                      <a:pt x="2241" y="3298"/>
                    </a:lnTo>
                    <a:lnTo>
                      <a:pt x="2251" y="3363"/>
                    </a:lnTo>
                    <a:lnTo>
                      <a:pt x="2260" y="3427"/>
                    </a:lnTo>
                    <a:lnTo>
                      <a:pt x="2269" y="3492"/>
                    </a:lnTo>
                    <a:lnTo>
                      <a:pt x="2269" y="3555"/>
                    </a:lnTo>
                    <a:lnTo>
                      <a:pt x="2278" y="3620"/>
                    </a:lnTo>
                    <a:lnTo>
                      <a:pt x="2288" y="3647"/>
                    </a:lnTo>
                    <a:lnTo>
                      <a:pt x="2288" y="3674"/>
                    </a:lnTo>
                    <a:lnTo>
                      <a:pt x="2297" y="3701"/>
                    </a:lnTo>
                    <a:lnTo>
                      <a:pt x="2297" y="3738"/>
                    </a:lnTo>
                    <a:lnTo>
                      <a:pt x="2306" y="3766"/>
                    </a:lnTo>
                    <a:lnTo>
                      <a:pt x="2306" y="3803"/>
                    </a:lnTo>
                    <a:lnTo>
                      <a:pt x="2306" y="3830"/>
                    </a:lnTo>
                    <a:lnTo>
                      <a:pt x="2316" y="3857"/>
                    </a:lnTo>
                    <a:lnTo>
                      <a:pt x="2316" y="3895"/>
                    </a:lnTo>
                    <a:lnTo>
                      <a:pt x="2316" y="3922"/>
                    </a:lnTo>
                    <a:lnTo>
                      <a:pt x="2316" y="3958"/>
                    </a:lnTo>
                    <a:lnTo>
                      <a:pt x="2316" y="3985"/>
                    </a:lnTo>
                    <a:lnTo>
                      <a:pt x="2316" y="4023"/>
                    </a:lnTo>
                    <a:lnTo>
                      <a:pt x="2316" y="4050"/>
                    </a:lnTo>
                    <a:lnTo>
                      <a:pt x="2316" y="4087"/>
                    </a:lnTo>
                    <a:lnTo>
                      <a:pt x="2316" y="4114"/>
                    </a:lnTo>
                    <a:lnTo>
                      <a:pt x="2316" y="4124"/>
                    </a:lnTo>
                    <a:lnTo>
                      <a:pt x="2316" y="4132"/>
                    </a:lnTo>
                    <a:lnTo>
                      <a:pt x="2306" y="4142"/>
                    </a:lnTo>
                    <a:lnTo>
                      <a:pt x="2306" y="4152"/>
                    </a:lnTo>
                    <a:lnTo>
                      <a:pt x="2306" y="4170"/>
                    </a:lnTo>
                    <a:lnTo>
                      <a:pt x="2297" y="4179"/>
                    </a:lnTo>
                    <a:lnTo>
                      <a:pt x="2297" y="4187"/>
                    </a:lnTo>
                    <a:lnTo>
                      <a:pt x="2297" y="4197"/>
                    </a:lnTo>
                    <a:lnTo>
                      <a:pt x="2288" y="4206"/>
                    </a:lnTo>
                    <a:lnTo>
                      <a:pt x="2288" y="4215"/>
                    </a:lnTo>
                    <a:lnTo>
                      <a:pt x="2288" y="4224"/>
                    </a:lnTo>
                    <a:lnTo>
                      <a:pt x="2278" y="4233"/>
                    </a:lnTo>
                    <a:lnTo>
                      <a:pt x="2278" y="4242"/>
                    </a:lnTo>
                    <a:lnTo>
                      <a:pt x="2278" y="4251"/>
                    </a:lnTo>
                    <a:lnTo>
                      <a:pt x="2269" y="4261"/>
                    </a:lnTo>
                    <a:lnTo>
                      <a:pt x="2269" y="4270"/>
                    </a:lnTo>
                    <a:lnTo>
                      <a:pt x="2251" y="4289"/>
                    </a:lnTo>
                    <a:lnTo>
                      <a:pt x="2233" y="4270"/>
                    </a:lnTo>
                    <a:lnTo>
                      <a:pt x="2206" y="4261"/>
                    </a:lnTo>
                    <a:lnTo>
                      <a:pt x="2178" y="4251"/>
                    </a:lnTo>
                    <a:lnTo>
                      <a:pt x="2160" y="4233"/>
                    </a:lnTo>
                    <a:lnTo>
                      <a:pt x="2131" y="4224"/>
                    </a:lnTo>
                    <a:lnTo>
                      <a:pt x="2104" y="4215"/>
                    </a:lnTo>
                    <a:lnTo>
                      <a:pt x="2077" y="4206"/>
                    </a:lnTo>
                    <a:lnTo>
                      <a:pt x="2059" y="4197"/>
                    </a:lnTo>
                    <a:lnTo>
                      <a:pt x="2032" y="4187"/>
                    </a:lnTo>
                    <a:lnTo>
                      <a:pt x="2003" y="4179"/>
                    </a:lnTo>
                    <a:lnTo>
                      <a:pt x="1976" y="4170"/>
                    </a:lnTo>
                    <a:lnTo>
                      <a:pt x="1949" y="4160"/>
                    </a:lnTo>
                    <a:lnTo>
                      <a:pt x="1922" y="4152"/>
                    </a:lnTo>
                    <a:lnTo>
                      <a:pt x="1894" y="4142"/>
                    </a:lnTo>
                    <a:lnTo>
                      <a:pt x="1866" y="4142"/>
                    </a:lnTo>
                    <a:lnTo>
                      <a:pt x="1839" y="4132"/>
                    </a:lnTo>
                    <a:lnTo>
                      <a:pt x="1775" y="4124"/>
                    </a:lnTo>
                    <a:lnTo>
                      <a:pt x="1702" y="4124"/>
                    </a:lnTo>
                    <a:lnTo>
                      <a:pt x="1638" y="4124"/>
                    </a:lnTo>
                    <a:lnTo>
                      <a:pt x="1565" y="4124"/>
                    </a:lnTo>
                    <a:lnTo>
                      <a:pt x="1501" y="4132"/>
                    </a:lnTo>
                    <a:lnTo>
                      <a:pt x="1482" y="4132"/>
                    </a:lnTo>
                    <a:lnTo>
                      <a:pt x="1445" y="4142"/>
                    </a:lnTo>
                    <a:lnTo>
                      <a:pt x="1410" y="4152"/>
                    </a:lnTo>
                    <a:lnTo>
                      <a:pt x="1373" y="4160"/>
                    </a:lnTo>
                    <a:lnTo>
                      <a:pt x="1335" y="4170"/>
                    </a:lnTo>
                    <a:lnTo>
                      <a:pt x="1308" y="4179"/>
                    </a:lnTo>
                    <a:lnTo>
                      <a:pt x="1290" y="4179"/>
                    </a:lnTo>
                    <a:lnTo>
                      <a:pt x="1180" y="4114"/>
                    </a:lnTo>
                    <a:lnTo>
                      <a:pt x="1070" y="4050"/>
                    </a:lnTo>
                    <a:lnTo>
                      <a:pt x="960" y="3985"/>
                    </a:lnTo>
                    <a:lnTo>
                      <a:pt x="851" y="3913"/>
                    </a:lnTo>
                    <a:lnTo>
                      <a:pt x="741" y="3830"/>
                    </a:lnTo>
                    <a:lnTo>
                      <a:pt x="714" y="3803"/>
                    </a:lnTo>
                    <a:lnTo>
                      <a:pt x="531" y="3647"/>
                    </a:lnTo>
                    <a:lnTo>
                      <a:pt x="375" y="3482"/>
                    </a:lnTo>
                    <a:lnTo>
                      <a:pt x="247" y="3298"/>
                    </a:lnTo>
                    <a:lnTo>
                      <a:pt x="127" y="3116"/>
                    </a:lnTo>
                    <a:lnTo>
                      <a:pt x="36" y="2914"/>
                    </a:lnTo>
                    <a:lnTo>
                      <a:pt x="9" y="2850"/>
                    </a:lnTo>
                    <a:lnTo>
                      <a:pt x="0" y="2794"/>
                    </a:lnTo>
                    <a:lnTo>
                      <a:pt x="0" y="2749"/>
                    </a:lnTo>
                    <a:lnTo>
                      <a:pt x="0" y="2694"/>
                    </a:lnTo>
                    <a:lnTo>
                      <a:pt x="0" y="2639"/>
                    </a:lnTo>
                    <a:lnTo>
                      <a:pt x="0" y="2585"/>
                    </a:lnTo>
                    <a:lnTo>
                      <a:pt x="0" y="2566"/>
                    </a:lnTo>
                    <a:lnTo>
                      <a:pt x="9" y="2501"/>
                    </a:lnTo>
                    <a:lnTo>
                      <a:pt x="17" y="2428"/>
                    </a:lnTo>
                    <a:lnTo>
                      <a:pt x="27" y="2364"/>
                    </a:lnTo>
                    <a:lnTo>
                      <a:pt x="45" y="2301"/>
                    </a:lnTo>
                    <a:lnTo>
                      <a:pt x="64" y="2236"/>
                    </a:lnTo>
                    <a:lnTo>
                      <a:pt x="73" y="2209"/>
                    </a:lnTo>
                    <a:lnTo>
                      <a:pt x="82" y="2134"/>
                    </a:lnTo>
                    <a:lnTo>
                      <a:pt x="100" y="2053"/>
                    </a:lnTo>
                    <a:lnTo>
                      <a:pt x="119" y="1979"/>
                    </a:lnTo>
                    <a:lnTo>
                      <a:pt x="137" y="1897"/>
                    </a:lnTo>
                    <a:lnTo>
                      <a:pt x="155" y="1823"/>
                    </a:lnTo>
                    <a:lnTo>
                      <a:pt x="164" y="1796"/>
                    </a:lnTo>
                    <a:lnTo>
                      <a:pt x="183" y="1778"/>
                    </a:lnTo>
                    <a:lnTo>
                      <a:pt x="192" y="1750"/>
                    </a:lnTo>
                    <a:lnTo>
                      <a:pt x="202" y="1723"/>
                    </a:lnTo>
                    <a:lnTo>
                      <a:pt x="202" y="1704"/>
                    </a:lnTo>
                    <a:lnTo>
                      <a:pt x="220" y="1677"/>
                    </a:lnTo>
                    <a:lnTo>
                      <a:pt x="220" y="1668"/>
                    </a:lnTo>
                    <a:lnTo>
                      <a:pt x="256" y="1621"/>
                    </a:lnTo>
                    <a:lnTo>
                      <a:pt x="283" y="1567"/>
                    </a:lnTo>
                    <a:lnTo>
                      <a:pt x="311" y="1512"/>
                    </a:lnTo>
                    <a:lnTo>
                      <a:pt x="339" y="1466"/>
                    </a:lnTo>
                    <a:lnTo>
                      <a:pt x="366" y="1412"/>
                    </a:lnTo>
                    <a:lnTo>
                      <a:pt x="375" y="1393"/>
                    </a:lnTo>
                    <a:lnTo>
                      <a:pt x="467" y="1255"/>
                    </a:lnTo>
                    <a:lnTo>
                      <a:pt x="558" y="1108"/>
                    </a:lnTo>
                    <a:lnTo>
                      <a:pt x="631" y="961"/>
                    </a:lnTo>
                    <a:lnTo>
                      <a:pt x="714" y="824"/>
                    </a:lnTo>
                    <a:lnTo>
                      <a:pt x="814" y="687"/>
                    </a:lnTo>
                    <a:lnTo>
                      <a:pt x="842" y="642"/>
                    </a:lnTo>
                    <a:lnTo>
                      <a:pt x="888" y="558"/>
                    </a:lnTo>
                    <a:lnTo>
                      <a:pt x="933" y="476"/>
                    </a:lnTo>
                    <a:lnTo>
                      <a:pt x="979" y="403"/>
                    </a:lnTo>
                    <a:lnTo>
                      <a:pt x="1033" y="330"/>
                    </a:lnTo>
                    <a:lnTo>
                      <a:pt x="1088" y="256"/>
                    </a:lnTo>
                    <a:lnTo>
                      <a:pt x="1108" y="229"/>
                    </a:lnTo>
                    <a:lnTo>
                      <a:pt x="1135" y="183"/>
                    </a:lnTo>
                    <a:lnTo>
                      <a:pt x="1171" y="137"/>
                    </a:lnTo>
                    <a:lnTo>
                      <a:pt x="1207" y="92"/>
                    </a:lnTo>
                    <a:lnTo>
                      <a:pt x="1245" y="54"/>
                    </a:lnTo>
                    <a:lnTo>
                      <a:pt x="1290" y="9"/>
                    </a:lnTo>
                    <a:lnTo>
                      <a:pt x="1300" y="0"/>
                    </a:lnTo>
                    <a:lnTo>
                      <a:pt x="1354" y="18"/>
                    </a:lnTo>
                    <a:lnTo>
                      <a:pt x="1418" y="36"/>
                    </a:lnTo>
                    <a:lnTo>
                      <a:pt x="1472" y="54"/>
                    </a:lnTo>
                    <a:lnTo>
                      <a:pt x="1528" y="74"/>
                    </a:lnTo>
                    <a:lnTo>
                      <a:pt x="1582" y="101"/>
                    </a:lnTo>
                    <a:lnTo>
                      <a:pt x="1601" y="101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382800" y="3878640"/>
                <a:ext cx="114120" cy="161280"/>
              </a:xfrm>
              <a:custGeom>
                <a:avLst/>
                <a:gdLst/>
                <a:ahLst/>
                <a:rect l="l" t="t" r="r" b="b"/>
                <a:pathLst>
                  <a:path w="285" h="403">
                    <a:moveTo>
                      <a:pt x="285" y="0"/>
                    </a:moveTo>
                    <a:lnTo>
                      <a:pt x="257" y="9"/>
                    </a:lnTo>
                    <a:lnTo>
                      <a:pt x="229" y="27"/>
                    </a:lnTo>
                    <a:lnTo>
                      <a:pt x="202" y="45"/>
                    </a:lnTo>
                    <a:lnTo>
                      <a:pt x="175" y="64"/>
                    </a:lnTo>
                    <a:lnTo>
                      <a:pt x="156" y="92"/>
                    </a:lnTo>
                    <a:lnTo>
                      <a:pt x="128" y="110"/>
                    </a:lnTo>
                    <a:lnTo>
                      <a:pt x="110" y="137"/>
                    </a:lnTo>
                    <a:lnTo>
                      <a:pt x="92" y="164"/>
                    </a:lnTo>
                    <a:lnTo>
                      <a:pt x="73" y="192"/>
                    </a:lnTo>
                    <a:lnTo>
                      <a:pt x="55" y="220"/>
                    </a:lnTo>
                    <a:lnTo>
                      <a:pt x="46" y="247"/>
                    </a:lnTo>
                    <a:lnTo>
                      <a:pt x="28" y="274"/>
                    </a:lnTo>
                    <a:lnTo>
                      <a:pt x="19" y="303"/>
                    </a:lnTo>
                    <a:lnTo>
                      <a:pt x="10" y="339"/>
                    </a:lnTo>
                    <a:lnTo>
                      <a:pt x="10" y="367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82800" y="4040280"/>
                <a:ext cx="33840" cy="65880"/>
              </a:xfrm>
              <a:custGeom>
                <a:avLst/>
                <a:gdLst/>
                <a:ahLst/>
                <a:rect l="l" t="t" r="r" b="b"/>
                <a:pathLst>
                  <a:path w="83" h="165">
                    <a:moveTo>
                      <a:pt x="0" y="0"/>
                    </a:moveTo>
                    <a:lnTo>
                      <a:pt x="0" y="10"/>
                    </a:lnTo>
                    <a:lnTo>
                      <a:pt x="10" y="18"/>
                    </a:lnTo>
                    <a:lnTo>
                      <a:pt x="10" y="27"/>
                    </a:lnTo>
                    <a:lnTo>
                      <a:pt x="10" y="45"/>
                    </a:lnTo>
                    <a:lnTo>
                      <a:pt x="19" y="55"/>
                    </a:lnTo>
                    <a:lnTo>
                      <a:pt x="19" y="64"/>
                    </a:lnTo>
                    <a:lnTo>
                      <a:pt x="28" y="73"/>
                    </a:lnTo>
                    <a:lnTo>
                      <a:pt x="28" y="83"/>
                    </a:lnTo>
                    <a:lnTo>
                      <a:pt x="37" y="92"/>
                    </a:lnTo>
                    <a:lnTo>
                      <a:pt x="46" y="101"/>
                    </a:lnTo>
                    <a:lnTo>
                      <a:pt x="46" y="120"/>
                    </a:lnTo>
                    <a:lnTo>
                      <a:pt x="55" y="128"/>
                    </a:lnTo>
                    <a:lnTo>
                      <a:pt x="65" y="137"/>
                    </a:lnTo>
                    <a:lnTo>
                      <a:pt x="73" y="147"/>
                    </a:lnTo>
                    <a:lnTo>
                      <a:pt x="73" y="155"/>
                    </a:lnTo>
                    <a:lnTo>
                      <a:pt x="83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033240" y="4163760"/>
                <a:ext cx="115560" cy="127800"/>
              </a:xfrm>
              <a:custGeom>
                <a:avLst/>
                <a:gdLst/>
                <a:ahLst/>
                <a:rect l="l" t="t" r="r" b="b"/>
                <a:pathLst>
                  <a:path w="292" h="322">
                    <a:moveTo>
                      <a:pt x="292" y="0"/>
                    </a:moveTo>
                    <a:lnTo>
                      <a:pt x="265" y="10"/>
                    </a:lnTo>
                    <a:lnTo>
                      <a:pt x="238" y="28"/>
                    </a:lnTo>
                    <a:lnTo>
                      <a:pt x="219" y="38"/>
                    </a:lnTo>
                    <a:lnTo>
                      <a:pt x="192" y="56"/>
                    </a:lnTo>
                    <a:lnTo>
                      <a:pt x="174" y="75"/>
                    </a:lnTo>
                    <a:lnTo>
                      <a:pt x="155" y="92"/>
                    </a:lnTo>
                    <a:lnTo>
                      <a:pt x="137" y="120"/>
                    </a:lnTo>
                    <a:lnTo>
                      <a:pt x="119" y="138"/>
                    </a:lnTo>
                    <a:lnTo>
                      <a:pt x="101" y="157"/>
                    </a:lnTo>
                    <a:lnTo>
                      <a:pt x="82" y="185"/>
                    </a:lnTo>
                    <a:lnTo>
                      <a:pt x="72" y="202"/>
                    </a:lnTo>
                    <a:lnTo>
                      <a:pt x="54" y="230"/>
                    </a:lnTo>
                    <a:lnTo>
                      <a:pt x="37" y="248"/>
                    </a:lnTo>
                    <a:lnTo>
                      <a:pt x="27" y="275"/>
                    </a:lnTo>
                    <a:lnTo>
                      <a:pt x="9" y="295"/>
                    </a:lnTo>
                    <a:lnTo>
                      <a:pt x="0" y="32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2057400" y="3124080"/>
                <a:ext cx="4800960" cy="2792520"/>
                <a:chOff x="2057400" y="3124080"/>
                <a:chExt cx="4800960" cy="279252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5999040" y="4291920"/>
                  <a:ext cx="33840" cy="153360"/>
                </a:xfrm>
                <a:custGeom>
                  <a:avLst/>
                  <a:gdLst/>
                  <a:ahLst/>
                  <a:rect l="l" t="t" r="r" b="b"/>
                  <a:pathLst>
                    <a:path w="83" h="384">
                      <a:moveTo>
                        <a:pt x="83" y="0"/>
                      </a:moveTo>
                      <a:lnTo>
                        <a:pt x="74" y="18"/>
                      </a:lnTo>
                      <a:lnTo>
                        <a:pt x="56" y="45"/>
                      </a:lnTo>
                      <a:lnTo>
                        <a:pt x="46" y="64"/>
                      </a:lnTo>
                      <a:lnTo>
                        <a:pt x="46" y="91"/>
                      </a:lnTo>
                      <a:lnTo>
                        <a:pt x="37" y="110"/>
                      </a:lnTo>
                      <a:lnTo>
                        <a:pt x="27" y="137"/>
                      </a:lnTo>
                      <a:lnTo>
                        <a:pt x="18" y="155"/>
                      </a:lnTo>
                      <a:lnTo>
                        <a:pt x="18" y="182"/>
                      </a:lnTo>
                      <a:lnTo>
                        <a:pt x="18" y="209"/>
                      </a:lnTo>
                      <a:lnTo>
                        <a:pt x="10" y="239"/>
                      </a:lnTo>
                      <a:lnTo>
                        <a:pt x="10" y="256"/>
                      </a:lnTo>
                      <a:lnTo>
                        <a:pt x="10" y="284"/>
                      </a:lnTo>
                      <a:lnTo>
                        <a:pt x="0" y="311"/>
                      </a:lnTo>
                      <a:lnTo>
                        <a:pt x="0" y="338"/>
                      </a:lnTo>
                      <a:lnTo>
                        <a:pt x="0" y="366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999040" y="4445280"/>
                  <a:ext cx="43920" cy="281520"/>
                </a:xfrm>
                <a:custGeom>
                  <a:avLst/>
                  <a:gdLst/>
                  <a:ahLst/>
                  <a:rect l="l" t="t" r="r" b="b"/>
                  <a:pathLst>
                    <a:path w="110" h="706">
                      <a:moveTo>
                        <a:pt x="0" y="0"/>
                      </a:moveTo>
                      <a:lnTo>
                        <a:pt x="0" y="46"/>
                      </a:lnTo>
                      <a:lnTo>
                        <a:pt x="10" y="92"/>
                      </a:lnTo>
                      <a:lnTo>
                        <a:pt x="18" y="139"/>
                      </a:lnTo>
                      <a:lnTo>
                        <a:pt x="18" y="184"/>
                      </a:lnTo>
                      <a:lnTo>
                        <a:pt x="27" y="220"/>
                      </a:lnTo>
                      <a:lnTo>
                        <a:pt x="37" y="266"/>
                      </a:lnTo>
                      <a:lnTo>
                        <a:pt x="46" y="311"/>
                      </a:lnTo>
                      <a:lnTo>
                        <a:pt x="46" y="358"/>
                      </a:lnTo>
                      <a:lnTo>
                        <a:pt x="56" y="404"/>
                      </a:lnTo>
                      <a:lnTo>
                        <a:pt x="65" y="450"/>
                      </a:lnTo>
                      <a:lnTo>
                        <a:pt x="74" y="485"/>
                      </a:lnTo>
                      <a:lnTo>
                        <a:pt x="83" y="532"/>
                      </a:lnTo>
                      <a:lnTo>
                        <a:pt x="83" y="577"/>
                      </a:lnTo>
                      <a:lnTo>
                        <a:pt x="92" y="623"/>
                      </a:lnTo>
                      <a:lnTo>
                        <a:pt x="101" y="660"/>
                      </a:lnTo>
                      <a:lnTo>
                        <a:pt x="110" y="70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6042960" y="4726800"/>
                  <a:ext cx="75600" cy="390960"/>
                </a:xfrm>
                <a:custGeom>
                  <a:avLst/>
                  <a:gdLst/>
                  <a:ahLst/>
                  <a:rect l="l" t="t" r="r" b="b"/>
                  <a:pathLst>
                    <a:path w="192" h="981">
                      <a:moveTo>
                        <a:pt x="0" y="0"/>
                      </a:moveTo>
                      <a:lnTo>
                        <a:pt x="18" y="64"/>
                      </a:lnTo>
                      <a:lnTo>
                        <a:pt x="27" y="119"/>
                      </a:lnTo>
                      <a:lnTo>
                        <a:pt x="45" y="183"/>
                      </a:lnTo>
                      <a:lnTo>
                        <a:pt x="55" y="238"/>
                      </a:lnTo>
                      <a:lnTo>
                        <a:pt x="74" y="302"/>
                      </a:lnTo>
                      <a:lnTo>
                        <a:pt x="92" y="357"/>
                      </a:lnTo>
                      <a:lnTo>
                        <a:pt x="101" y="421"/>
                      </a:lnTo>
                      <a:lnTo>
                        <a:pt x="120" y="477"/>
                      </a:lnTo>
                      <a:lnTo>
                        <a:pt x="128" y="541"/>
                      </a:lnTo>
                      <a:lnTo>
                        <a:pt x="137" y="605"/>
                      </a:lnTo>
                      <a:lnTo>
                        <a:pt x="155" y="659"/>
                      </a:lnTo>
                      <a:lnTo>
                        <a:pt x="165" y="724"/>
                      </a:lnTo>
                      <a:lnTo>
                        <a:pt x="174" y="788"/>
                      </a:lnTo>
                      <a:lnTo>
                        <a:pt x="183" y="853"/>
                      </a:lnTo>
                      <a:lnTo>
                        <a:pt x="183" y="916"/>
                      </a:lnTo>
                      <a:lnTo>
                        <a:pt x="192" y="98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6118560" y="5118120"/>
                  <a:ext cx="15840" cy="197640"/>
                </a:xfrm>
                <a:custGeom>
                  <a:avLst/>
                  <a:gdLst/>
                  <a:ahLst/>
                  <a:rect l="l" t="t" r="r" b="b"/>
                  <a:pathLst>
                    <a:path w="38" h="494">
                      <a:moveTo>
                        <a:pt x="0" y="0"/>
                      </a:moveTo>
                      <a:lnTo>
                        <a:pt x="10" y="27"/>
                      </a:lnTo>
                      <a:lnTo>
                        <a:pt x="10" y="54"/>
                      </a:lnTo>
                      <a:lnTo>
                        <a:pt x="19" y="81"/>
                      </a:lnTo>
                      <a:lnTo>
                        <a:pt x="19" y="118"/>
                      </a:lnTo>
                      <a:lnTo>
                        <a:pt x="28" y="146"/>
                      </a:lnTo>
                      <a:lnTo>
                        <a:pt x="28" y="183"/>
                      </a:lnTo>
                      <a:lnTo>
                        <a:pt x="28" y="210"/>
                      </a:lnTo>
                      <a:lnTo>
                        <a:pt x="38" y="237"/>
                      </a:lnTo>
                      <a:lnTo>
                        <a:pt x="38" y="275"/>
                      </a:lnTo>
                      <a:lnTo>
                        <a:pt x="38" y="302"/>
                      </a:lnTo>
                      <a:lnTo>
                        <a:pt x="38" y="338"/>
                      </a:lnTo>
                      <a:lnTo>
                        <a:pt x="38" y="365"/>
                      </a:lnTo>
                      <a:lnTo>
                        <a:pt x="38" y="403"/>
                      </a:lnTo>
                      <a:lnTo>
                        <a:pt x="38" y="430"/>
                      </a:lnTo>
                      <a:lnTo>
                        <a:pt x="38" y="467"/>
                      </a:lnTo>
                      <a:lnTo>
                        <a:pt x="38" y="4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6116760" y="5315760"/>
                  <a:ext cx="17640" cy="61920"/>
                </a:xfrm>
                <a:custGeom>
                  <a:avLst/>
                  <a:gdLst/>
                  <a:ahLst/>
                  <a:rect l="l" t="t" r="r" b="b"/>
                  <a:pathLst>
                    <a:path w="47" h="156">
                      <a:moveTo>
                        <a:pt x="47" y="0"/>
                      </a:moveTo>
                      <a:lnTo>
                        <a:pt x="47" y="10"/>
                      </a:lnTo>
                      <a:lnTo>
                        <a:pt x="47" y="18"/>
                      </a:lnTo>
                      <a:lnTo>
                        <a:pt x="37" y="28"/>
                      </a:lnTo>
                      <a:lnTo>
                        <a:pt x="37" y="38"/>
                      </a:lnTo>
                      <a:lnTo>
                        <a:pt x="37" y="56"/>
                      </a:lnTo>
                      <a:lnTo>
                        <a:pt x="28" y="65"/>
                      </a:lnTo>
                      <a:lnTo>
                        <a:pt x="28" y="73"/>
                      </a:lnTo>
                      <a:lnTo>
                        <a:pt x="28" y="83"/>
                      </a:lnTo>
                      <a:lnTo>
                        <a:pt x="19" y="92"/>
                      </a:lnTo>
                      <a:lnTo>
                        <a:pt x="19" y="101"/>
                      </a:lnTo>
                      <a:lnTo>
                        <a:pt x="19" y="110"/>
                      </a:lnTo>
                      <a:lnTo>
                        <a:pt x="9" y="119"/>
                      </a:lnTo>
                      <a:lnTo>
                        <a:pt x="9" y="128"/>
                      </a:lnTo>
                      <a:lnTo>
                        <a:pt x="9" y="137"/>
                      </a:lnTo>
                      <a:lnTo>
                        <a:pt x="0" y="147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944680" y="5323680"/>
                  <a:ext cx="163800" cy="61920"/>
                </a:xfrm>
                <a:custGeom>
                  <a:avLst/>
                  <a:gdLst/>
                  <a:ahLst/>
                  <a:rect l="l" t="t" r="r" b="b"/>
                  <a:pathLst>
                    <a:path w="412" h="157">
                      <a:moveTo>
                        <a:pt x="412" y="157"/>
                      </a:moveTo>
                      <a:lnTo>
                        <a:pt x="394" y="138"/>
                      </a:lnTo>
                      <a:lnTo>
                        <a:pt x="367" y="129"/>
                      </a:lnTo>
                      <a:lnTo>
                        <a:pt x="339" y="119"/>
                      </a:lnTo>
                      <a:lnTo>
                        <a:pt x="321" y="101"/>
                      </a:lnTo>
                      <a:lnTo>
                        <a:pt x="292" y="92"/>
                      </a:lnTo>
                      <a:lnTo>
                        <a:pt x="265" y="83"/>
                      </a:lnTo>
                      <a:lnTo>
                        <a:pt x="238" y="74"/>
                      </a:lnTo>
                      <a:lnTo>
                        <a:pt x="220" y="65"/>
                      </a:lnTo>
                      <a:lnTo>
                        <a:pt x="193" y="55"/>
                      </a:lnTo>
                      <a:lnTo>
                        <a:pt x="164" y="47"/>
                      </a:lnTo>
                      <a:lnTo>
                        <a:pt x="137" y="38"/>
                      </a:lnTo>
                      <a:lnTo>
                        <a:pt x="110" y="28"/>
                      </a:lnTo>
                      <a:lnTo>
                        <a:pt x="83" y="20"/>
                      </a:lnTo>
                      <a:lnTo>
                        <a:pt x="55" y="10"/>
                      </a:lnTo>
                      <a:lnTo>
                        <a:pt x="27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495040" y="5191920"/>
                  <a:ext cx="229680" cy="149760"/>
                </a:xfrm>
                <a:custGeom>
                  <a:avLst/>
                  <a:gdLst/>
                  <a:ahLst/>
                  <a:rect l="l" t="t" r="r" b="b"/>
                  <a:pathLst>
                    <a:path w="576" h="376">
                      <a:moveTo>
                        <a:pt x="576" y="376"/>
                      </a:moveTo>
                      <a:lnTo>
                        <a:pt x="539" y="357"/>
                      </a:lnTo>
                      <a:lnTo>
                        <a:pt x="503" y="329"/>
                      </a:lnTo>
                      <a:lnTo>
                        <a:pt x="466" y="311"/>
                      </a:lnTo>
                      <a:lnTo>
                        <a:pt x="429" y="292"/>
                      </a:lnTo>
                      <a:lnTo>
                        <a:pt x="394" y="274"/>
                      </a:lnTo>
                      <a:lnTo>
                        <a:pt x="356" y="247"/>
                      </a:lnTo>
                      <a:lnTo>
                        <a:pt x="319" y="229"/>
                      </a:lnTo>
                      <a:lnTo>
                        <a:pt x="284" y="202"/>
                      </a:lnTo>
                      <a:lnTo>
                        <a:pt x="246" y="182"/>
                      </a:lnTo>
                      <a:lnTo>
                        <a:pt x="210" y="155"/>
                      </a:lnTo>
                      <a:lnTo>
                        <a:pt x="174" y="137"/>
                      </a:lnTo>
                      <a:lnTo>
                        <a:pt x="137" y="110"/>
                      </a:lnTo>
                      <a:lnTo>
                        <a:pt x="100" y="83"/>
                      </a:lnTo>
                      <a:lnTo>
                        <a:pt x="64" y="54"/>
                      </a:lnTo>
                      <a:lnTo>
                        <a:pt x="27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213520" y="4810680"/>
                  <a:ext cx="281160" cy="380880"/>
                </a:xfrm>
                <a:custGeom>
                  <a:avLst/>
                  <a:gdLst/>
                  <a:ahLst/>
                  <a:rect l="l" t="t" r="r" b="b"/>
                  <a:pathLst>
                    <a:path w="705" h="953">
                      <a:moveTo>
                        <a:pt x="705" y="953"/>
                      </a:moveTo>
                      <a:lnTo>
                        <a:pt x="640" y="907"/>
                      </a:lnTo>
                      <a:lnTo>
                        <a:pt x="577" y="851"/>
                      </a:lnTo>
                      <a:lnTo>
                        <a:pt x="522" y="797"/>
                      </a:lnTo>
                      <a:lnTo>
                        <a:pt x="467" y="741"/>
                      </a:lnTo>
                      <a:lnTo>
                        <a:pt x="420" y="687"/>
                      </a:lnTo>
                      <a:lnTo>
                        <a:pt x="366" y="632"/>
                      </a:lnTo>
                      <a:lnTo>
                        <a:pt x="321" y="577"/>
                      </a:lnTo>
                      <a:lnTo>
                        <a:pt x="274" y="513"/>
                      </a:lnTo>
                      <a:lnTo>
                        <a:pt x="238" y="448"/>
                      </a:lnTo>
                      <a:lnTo>
                        <a:pt x="201" y="385"/>
                      </a:lnTo>
                      <a:lnTo>
                        <a:pt x="155" y="330"/>
                      </a:lnTo>
                      <a:lnTo>
                        <a:pt x="118" y="266"/>
                      </a:lnTo>
                      <a:lnTo>
                        <a:pt x="91" y="192"/>
                      </a:lnTo>
                      <a:lnTo>
                        <a:pt x="55" y="129"/>
                      </a:lnTo>
                      <a:lnTo>
                        <a:pt x="27" y="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209560" y="4698720"/>
                  <a:ext cx="3960" cy="111600"/>
                </a:xfrm>
                <a:custGeom>
                  <a:avLst/>
                  <a:gdLst/>
                  <a:ahLst/>
                  <a:rect l="l" t="t" r="r" b="b"/>
                  <a:pathLst>
                    <a:path w="9" h="284">
                      <a:moveTo>
                        <a:pt x="9" y="284"/>
                      </a:moveTo>
                      <a:lnTo>
                        <a:pt x="9" y="266"/>
                      </a:lnTo>
                      <a:lnTo>
                        <a:pt x="0" y="246"/>
                      </a:lnTo>
                      <a:lnTo>
                        <a:pt x="0" y="228"/>
                      </a:lnTo>
                      <a:lnTo>
                        <a:pt x="0" y="210"/>
                      </a:lnTo>
                      <a:lnTo>
                        <a:pt x="0" y="192"/>
                      </a:lnTo>
                      <a:lnTo>
                        <a:pt x="0" y="183"/>
                      </a:lnTo>
                      <a:lnTo>
                        <a:pt x="0" y="164"/>
                      </a:lnTo>
                      <a:lnTo>
                        <a:pt x="0" y="147"/>
                      </a:lnTo>
                      <a:lnTo>
                        <a:pt x="0" y="128"/>
                      </a:lnTo>
                      <a:lnTo>
                        <a:pt x="0" y="109"/>
                      </a:lnTo>
                      <a:lnTo>
                        <a:pt x="0" y="91"/>
                      </a:lnTo>
                      <a:lnTo>
                        <a:pt x="0" y="73"/>
                      </a:lnTo>
                      <a:lnTo>
                        <a:pt x="0" y="54"/>
                      </a:lnTo>
                      <a:lnTo>
                        <a:pt x="0" y="37"/>
                      </a:lnTo>
                      <a:lnTo>
                        <a:pt x="0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209560" y="4555440"/>
                  <a:ext cx="27360" cy="143280"/>
                </a:xfrm>
                <a:custGeom>
                  <a:avLst/>
                  <a:gdLst/>
                  <a:ahLst/>
                  <a:rect l="l" t="t" r="r" b="b"/>
                  <a:pathLst>
                    <a:path w="73" h="357">
                      <a:moveTo>
                        <a:pt x="0" y="357"/>
                      </a:moveTo>
                      <a:lnTo>
                        <a:pt x="0" y="338"/>
                      </a:lnTo>
                      <a:lnTo>
                        <a:pt x="9" y="311"/>
                      </a:lnTo>
                      <a:lnTo>
                        <a:pt x="9" y="292"/>
                      </a:lnTo>
                      <a:lnTo>
                        <a:pt x="9" y="265"/>
                      </a:lnTo>
                      <a:lnTo>
                        <a:pt x="17" y="247"/>
                      </a:lnTo>
                      <a:lnTo>
                        <a:pt x="17" y="219"/>
                      </a:lnTo>
                      <a:lnTo>
                        <a:pt x="17" y="201"/>
                      </a:lnTo>
                      <a:lnTo>
                        <a:pt x="27" y="182"/>
                      </a:lnTo>
                      <a:lnTo>
                        <a:pt x="27" y="155"/>
                      </a:lnTo>
                      <a:lnTo>
                        <a:pt x="36" y="137"/>
                      </a:lnTo>
                      <a:lnTo>
                        <a:pt x="45" y="110"/>
                      </a:lnTo>
                      <a:lnTo>
                        <a:pt x="45" y="92"/>
                      </a:lnTo>
                      <a:lnTo>
                        <a:pt x="55" y="63"/>
                      </a:lnTo>
                      <a:lnTo>
                        <a:pt x="55" y="45"/>
                      </a:lnTo>
                      <a:lnTo>
                        <a:pt x="64" y="27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236920" y="4391640"/>
                  <a:ext cx="37800" cy="163800"/>
                </a:xfrm>
                <a:custGeom>
                  <a:avLst/>
                  <a:gdLst/>
                  <a:ahLst/>
                  <a:rect l="l" t="t" r="r" b="b"/>
                  <a:pathLst>
                    <a:path w="91" h="413">
                      <a:moveTo>
                        <a:pt x="0" y="413"/>
                      </a:moveTo>
                      <a:lnTo>
                        <a:pt x="0" y="385"/>
                      </a:lnTo>
                      <a:lnTo>
                        <a:pt x="9" y="366"/>
                      </a:lnTo>
                      <a:lnTo>
                        <a:pt x="9" y="338"/>
                      </a:lnTo>
                      <a:lnTo>
                        <a:pt x="19" y="311"/>
                      </a:lnTo>
                      <a:lnTo>
                        <a:pt x="19" y="284"/>
                      </a:lnTo>
                      <a:lnTo>
                        <a:pt x="27" y="257"/>
                      </a:lnTo>
                      <a:lnTo>
                        <a:pt x="27" y="229"/>
                      </a:lnTo>
                      <a:lnTo>
                        <a:pt x="37" y="211"/>
                      </a:lnTo>
                      <a:lnTo>
                        <a:pt x="46" y="183"/>
                      </a:lnTo>
                      <a:lnTo>
                        <a:pt x="46" y="156"/>
                      </a:lnTo>
                      <a:lnTo>
                        <a:pt x="54" y="129"/>
                      </a:lnTo>
                      <a:lnTo>
                        <a:pt x="64" y="101"/>
                      </a:lnTo>
                      <a:lnTo>
                        <a:pt x="73" y="82"/>
                      </a:lnTo>
                      <a:lnTo>
                        <a:pt x="73" y="55"/>
                      </a:lnTo>
                      <a:lnTo>
                        <a:pt x="82" y="27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297400" y="4230000"/>
                  <a:ext cx="61560" cy="109800"/>
                </a:xfrm>
                <a:custGeom>
                  <a:avLst/>
                  <a:gdLst/>
                  <a:ahLst/>
                  <a:rect l="l" t="t" r="r" b="b"/>
                  <a:pathLst>
                    <a:path w="155" h="275">
                      <a:moveTo>
                        <a:pt x="0" y="275"/>
                      </a:moveTo>
                      <a:lnTo>
                        <a:pt x="9" y="256"/>
                      </a:lnTo>
                      <a:lnTo>
                        <a:pt x="27" y="247"/>
                      </a:lnTo>
                      <a:lnTo>
                        <a:pt x="36" y="228"/>
                      </a:lnTo>
                      <a:lnTo>
                        <a:pt x="45" y="210"/>
                      </a:lnTo>
                      <a:lnTo>
                        <a:pt x="54" y="193"/>
                      </a:lnTo>
                      <a:lnTo>
                        <a:pt x="63" y="174"/>
                      </a:lnTo>
                      <a:lnTo>
                        <a:pt x="72" y="156"/>
                      </a:lnTo>
                      <a:lnTo>
                        <a:pt x="81" y="137"/>
                      </a:lnTo>
                      <a:lnTo>
                        <a:pt x="91" y="119"/>
                      </a:lnTo>
                      <a:lnTo>
                        <a:pt x="100" y="109"/>
                      </a:lnTo>
                      <a:lnTo>
                        <a:pt x="110" y="91"/>
                      </a:lnTo>
                      <a:lnTo>
                        <a:pt x="119" y="73"/>
                      </a:lnTo>
                      <a:lnTo>
                        <a:pt x="127" y="54"/>
                      </a:lnTo>
                      <a:lnTo>
                        <a:pt x="137" y="36"/>
                      </a:lnTo>
                      <a:lnTo>
                        <a:pt x="146" y="19"/>
                      </a:lnTo>
                      <a:lnTo>
                        <a:pt x="155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58960" y="3930480"/>
                  <a:ext cx="186120" cy="299160"/>
                </a:xfrm>
                <a:custGeom>
                  <a:avLst/>
                  <a:gdLst/>
                  <a:ahLst/>
                  <a:rect l="l" t="t" r="r" b="b"/>
                  <a:pathLst>
                    <a:path w="467" h="751">
                      <a:moveTo>
                        <a:pt x="0" y="751"/>
                      </a:moveTo>
                      <a:lnTo>
                        <a:pt x="36" y="705"/>
                      </a:lnTo>
                      <a:lnTo>
                        <a:pt x="64" y="660"/>
                      </a:lnTo>
                      <a:lnTo>
                        <a:pt x="92" y="613"/>
                      </a:lnTo>
                      <a:lnTo>
                        <a:pt x="128" y="567"/>
                      </a:lnTo>
                      <a:lnTo>
                        <a:pt x="156" y="521"/>
                      </a:lnTo>
                      <a:lnTo>
                        <a:pt x="183" y="466"/>
                      </a:lnTo>
                      <a:lnTo>
                        <a:pt x="211" y="421"/>
                      </a:lnTo>
                      <a:lnTo>
                        <a:pt x="229" y="375"/>
                      </a:lnTo>
                      <a:lnTo>
                        <a:pt x="256" y="319"/>
                      </a:lnTo>
                      <a:lnTo>
                        <a:pt x="283" y="274"/>
                      </a:lnTo>
                      <a:lnTo>
                        <a:pt x="311" y="229"/>
                      </a:lnTo>
                      <a:lnTo>
                        <a:pt x="339" y="182"/>
                      </a:lnTo>
                      <a:lnTo>
                        <a:pt x="376" y="137"/>
                      </a:lnTo>
                      <a:lnTo>
                        <a:pt x="403" y="91"/>
                      </a:lnTo>
                      <a:lnTo>
                        <a:pt x="439" y="45"/>
                      </a:lnTo>
                      <a:lnTo>
                        <a:pt x="46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545440" y="3764880"/>
                  <a:ext cx="105480" cy="165600"/>
                </a:xfrm>
                <a:custGeom>
                  <a:avLst/>
                  <a:gdLst/>
                  <a:ahLst/>
                  <a:rect l="l" t="t" r="r" b="b"/>
                  <a:pathLst>
                    <a:path w="266" h="413">
                      <a:moveTo>
                        <a:pt x="0" y="413"/>
                      </a:moveTo>
                      <a:lnTo>
                        <a:pt x="19" y="386"/>
                      </a:lnTo>
                      <a:lnTo>
                        <a:pt x="27" y="358"/>
                      </a:lnTo>
                      <a:lnTo>
                        <a:pt x="46" y="329"/>
                      </a:lnTo>
                      <a:lnTo>
                        <a:pt x="54" y="302"/>
                      </a:lnTo>
                      <a:lnTo>
                        <a:pt x="73" y="275"/>
                      </a:lnTo>
                      <a:lnTo>
                        <a:pt x="91" y="247"/>
                      </a:lnTo>
                      <a:lnTo>
                        <a:pt x="109" y="229"/>
                      </a:lnTo>
                      <a:lnTo>
                        <a:pt x="118" y="201"/>
                      </a:lnTo>
                      <a:lnTo>
                        <a:pt x="137" y="174"/>
                      </a:lnTo>
                      <a:lnTo>
                        <a:pt x="156" y="147"/>
                      </a:lnTo>
                      <a:lnTo>
                        <a:pt x="174" y="129"/>
                      </a:lnTo>
                      <a:lnTo>
                        <a:pt x="191" y="101"/>
                      </a:lnTo>
                      <a:lnTo>
                        <a:pt x="210" y="72"/>
                      </a:lnTo>
                      <a:lnTo>
                        <a:pt x="228" y="45"/>
                      </a:lnTo>
                      <a:lnTo>
                        <a:pt x="246" y="27"/>
                      </a:lnTo>
                      <a:lnTo>
                        <a:pt x="266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650920" y="3673080"/>
                  <a:ext cx="77760" cy="91800"/>
                </a:xfrm>
                <a:custGeom>
                  <a:avLst/>
                  <a:gdLst/>
                  <a:ahLst/>
                  <a:rect l="l" t="t" r="r" b="b"/>
                  <a:pathLst>
                    <a:path w="192" h="229">
                      <a:moveTo>
                        <a:pt x="0" y="229"/>
                      </a:moveTo>
                      <a:lnTo>
                        <a:pt x="8" y="211"/>
                      </a:lnTo>
                      <a:lnTo>
                        <a:pt x="18" y="202"/>
                      </a:lnTo>
                      <a:lnTo>
                        <a:pt x="27" y="183"/>
                      </a:lnTo>
                      <a:lnTo>
                        <a:pt x="45" y="164"/>
                      </a:lnTo>
                      <a:lnTo>
                        <a:pt x="54" y="156"/>
                      </a:lnTo>
                      <a:lnTo>
                        <a:pt x="63" y="137"/>
                      </a:lnTo>
                      <a:lnTo>
                        <a:pt x="72" y="128"/>
                      </a:lnTo>
                      <a:lnTo>
                        <a:pt x="90" y="110"/>
                      </a:lnTo>
                      <a:lnTo>
                        <a:pt x="99" y="92"/>
                      </a:lnTo>
                      <a:lnTo>
                        <a:pt x="109" y="82"/>
                      </a:lnTo>
                      <a:lnTo>
                        <a:pt x="127" y="64"/>
                      </a:lnTo>
                      <a:lnTo>
                        <a:pt x="137" y="54"/>
                      </a:lnTo>
                      <a:lnTo>
                        <a:pt x="155" y="36"/>
                      </a:lnTo>
                      <a:lnTo>
                        <a:pt x="164" y="27"/>
                      </a:lnTo>
                      <a:lnTo>
                        <a:pt x="182" y="9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073480" y="3699000"/>
                  <a:ext cx="591480" cy="570600"/>
                </a:xfrm>
                <a:custGeom>
                  <a:avLst/>
                  <a:gdLst/>
                  <a:ahLst/>
                  <a:rect l="l" t="t" r="r" b="b"/>
                  <a:pathLst>
                    <a:path w="1482" h="1429">
                      <a:moveTo>
                        <a:pt x="1482" y="18"/>
                      </a:moveTo>
                      <a:lnTo>
                        <a:pt x="1465" y="46"/>
                      </a:lnTo>
                      <a:lnTo>
                        <a:pt x="1447" y="73"/>
                      </a:lnTo>
                      <a:lnTo>
                        <a:pt x="1427" y="100"/>
                      </a:lnTo>
                      <a:lnTo>
                        <a:pt x="1409" y="138"/>
                      </a:lnTo>
                      <a:lnTo>
                        <a:pt x="1391" y="165"/>
                      </a:lnTo>
                      <a:lnTo>
                        <a:pt x="1364" y="192"/>
                      </a:lnTo>
                      <a:lnTo>
                        <a:pt x="1345" y="220"/>
                      </a:lnTo>
                      <a:lnTo>
                        <a:pt x="1327" y="247"/>
                      </a:lnTo>
                      <a:lnTo>
                        <a:pt x="1309" y="275"/>
                      </a:lnTo>
                      <a:lnTo>
                        <a:pt x="1290" y="312"/>
                      </a:lnTo>
                      <a:lnTo>
                        <a:pt x="1272" y="339"/>
                      </a:lnTo>
                      <a:lnTo>
                        <a:pt x="1254" y="366"/>
                      </a:lnTo>
                      <a:lnTo>
                        <a:pt x="1235" y="394"/>
                      </a:lnTo>
                      <a:lnTo>
                        <a:pt x="1217" y="431"/>
                      </a:lnTo>
                      <a:lnTo>
                        <a:pt x="1200" y="458"/>
                      </a:lnTo>
                      <a:lnTo>
                        <a:pt x="1181" y="486"/>
                      </a:lnTo>
                      <a:lnTo>
                        <a:pt x="1172" y="494"/>
                      </a:lnTo>
                      <a:lnTo>
                        <a:pt x="1172" y="503"/>
                      </a:lnTo>
                      <a:lnTo>
                        <a:pt x="1162" y="503"/>
                      </a:lnTo>
                      <a:lnTo>
                        <a:pt x="1162" y="513"/>
                      </a:lnTo>
                      <a:lnTo>
                        <a:pt x="1153" y="523"/>
                      </a:lnTo>
                      <a:lnTo>
                        <a:pt x="1153" y="531"/>
                      </a:lnTo>
                      <a:lnTo>
                        <a:pt x="1153" y="541"/>
                      </a:lnTo>
                      <a:lnTo>
                        <a:pt x="1144" y="541"/>
                      </a:lnTo>
                      <a:lnTo>
                        <a:pt x="1144" y="551"/>
                      </a:lnTo>
                      <a:lnTo>
                        <a:pt x="1144" y="559"/>
                      </a:lnTo>
                      <a:lnTo>
                        <a:pt x="1135" y="568"/>
                      </a:lnTo>
                      <a:lnTo>
                        <a:pt x="1098" y="623"/>
                      </a:lnTo>
                      <a:lnTo>
                        <a:pt x="1062" y="678"/>
                      </a:lnTo>
                      <a:lnTo>
                        <a:pt x="1025" y="733"/>
                      </a:lnTo>
                      <a:lnTo>
                        <a:pt x="988" y="779"/>
                      </a:lnTo>
                      <a:lnTo>
                        <a:pt x="961" y="834"/>
                      </a:lnTo>
                      <a:lnTo>
                        <a:pt x="925" y="889"/>
                      </a:lnTo>
                      <a:lnTo>
                        <a:pt x="887" y="944"/>
                      </a:lnTo>
                      <a:lnTo>
                        <a:pt x="860" y="999"/>
                      </a:lnTo>
                      <a:lnTo>
                        <a:pt x="824" y="1054"/>
                      </a:lnTo>
                      <a:lnTo>
                        <a:pt x="788" y="1099"/>
                      </a:lnTo>
                      <a:lnTo>
                        <a:pt x="760" y="1154"/>
                      </a:lnTo>
                      <a:lnTo>
                        <a:pt x="723" y="1209"/>
                      </a:lnTo>
                      <a:lnTo>
                        <a:pt x="696" y="1265"/>
                      </a:lnTo>
                      <a:lnTo>
                        <a:pt x="659" y="1320"/>
                      </a:lnTo>
                      <a:lnTo>
                        <a:pt x="631" y="1375"/>
                      </a:lnTo>
                      <a:lnTo>
                        <a:pt x="604" y="1429"/>
                      </a:lnTo>
                      <a:lnTo>
                        <a:pt x="604" y="1402"/>
                      </a:lnTo>
                      <a:lnTo>
                        <a:pt x="613" y="1383"/>
                      </a:lnTo>
                      <a:lnTo>
                        <a:pt x="622" y="1365"/>
                      </a:lnTo>
                      <a:lnTo>
                        <a:pt x="631" y="1338"/>
                      </a:lnTo>
                      <a:lnTo>
                        <a:pt x="640" y="1320"/>
                      </a:lnTo>
                      <a:lnTo>
                        <a:pt x="650" y="1301"/>
                      </a:lnTo>
                      <a:lnTo>
                        <a:pt x="659" y="1273"/>
                      </a:lnTo>
                      <a:lnTo>
                        <a:pt x="678" y="1255"/>
                      </a:lnTo>
                      <a:lnTo>
                        <a:pt x="686" y="1228"/>
                      </a:lnTo>
                      <a:lnTo>
                        <a:pt x="696" y="1209"/>
                      </a:lnTo>
                      <a:lnTo>
                        <a:pt x="705" y="1191"/>
                      </a:lnTo>
                      <a:lnTo>
                        <a:pt x="714" y="1163"/>
                      </a:lnTo>
                      <a:lnTo>
                        <a:pt x="723" y="1145"/>
                      </a:lnTo>
                      <a:lnTo>
                        <a:pt x="732" y="1118"/>
                      </a:lnTo>
                      <a:lnTo>
                        <a:pt x="732" y="1099"/>
                      </a:lnTo>
                      <a:lnTo>
                        <a:pt x="741" y="1072"/>
                      </a:lnTo>
                      <a:lnTo>
                        <a:pt x="750" y="1054"/>
                      </a:lnTo>
                      <a:lnTo>
                        <a:pt x="750" y="1036"/>
                      </a:lnTo>
                      <a:lnTo>
                        <a:pt x="760" y="1017"/>
                      </a:lnTo>
                      <a:lnTo>
                        <a:pt x="760" y="999"/>
                      </a:lnTo>
                      <a:lnTo>
                        <a:pt x="768" y="980"/>
                      </a:lnTo>
                      <a:lnTo>
                        <a:pt x="768" y="962"/>
                      </a:lnTo>
                      <a:lnTo>
                        <a:pt x="768" y="935"/>
                      </a:lnTo>
                      <a:lnTo>
                        <a:pt x="778" y="916"/>
                      </a:lnTo>
                      <a:lnTo>
                        <a:pt x="778" y="897"/>
                      </a:lnTo>
                      <a:lnTo>
                        <a:pt x="778" y="879"/>
                      </a:lnTo>
                      <a:lnTo>
                        <a:pt x="768" y="862"/>
                      </a:lnTo>
                      <a:lnTo>
                        <a:pt x="768" y="843"/>
                      </a:lnTo>
                      <a:lnTo>
                        <a:pt x="760" y="825"/>
                      </a:lnTo>
                      <a:lnTo>
                        <a:pt x="750" y="807"/>
                      </a:lnTo>
                      <a:lnTo>
                        <a:pt x="741" y="788"/>
                      </a:lnTo>
                      <a:lnTo>
                        <a:pt x="732" y="769"/>
                      </a:lnTo>
                      <a:lnTo>
                        <a:pt x="705" y="742"/>
                      </a:lnTo>
                      <a:lnTo>
                        <a:pt x="686" y="723"/>
                      </a:lnTo>
                      <a:lnTo>
                        <a:pt x="659" y="706"/>
                      </a:lnTo>
                      <a:lnTo>
                        <a:pt x="631" y="688"/>
                      </a:lnTo>
                      <a:lnTo>
                        <a:pt x="604" y="669"/>
                      </a:lnTo>
                      <a:lnTo>
                        <a:pt x="576" y="660"/>
                      </a:lnTo>
                      <a:lnTo>
                        <a:pt x="549" y="650"/>
                      </a:lnTo>
                      <a:lnTo>
                        <a:pt x="522" y="632"/>
                      </a:lnTo>
                      <a:lnTo>
                        <a:pt x="485" y="623"/>
                      </a:lnTo>
                      <a:lnTo>
                        <a:pt x="458" y="623"/>
                      </a:lnTo>
                      <a:lnTo>
                        <a:pt x="431" y="613"/>
                      </a:lnTo>
                      <a:lnTo>
                        <a:pt x="394" y="613"/>
                      </a:lnTo>
                      <a:lnTo>
                        <a:pt x="366" y="605"/>
                      </a:lnTo>
                      <a:lnTo>
                        <a:pt x="329" y="605"/>
                      </a:lnTo>
                      <a:lnTo>
                        <a:pt x="293" y="605"/>
                      </a:lnTo>
                      <a:lnTo>
                        <a:pt x="266" y="605"/>
                      </a:lnTo>
                      <a:lnTo>
                        <a:pt x="247" y="605"/>
                      </a:lnTo>
                      <a:lnTo>
                        <a:pt x="229" y="605"/>
                      </a:lnTo>
                      <a:lnTo>
                        <a:pt x="219" y="605"/>
                      </a:lnTo>
                      <a:lnTo>
                        <a:pt x="201" y="605"/>
                      </a:lnTo>
                      <a:lnTo>
                        <a:pt x="184" y="613"/>
                      </a:lnTo>
                      <a:lnTo>
                        <a:pt x="165" y="613"/>
                      </a:lnTo>
                      <a:lnTo>
                        <a:pt x="147" y="613"/>
                      </a:lnTo>
                      <a:lnTo>
                        <a:pt x="129" y="613"/>
                      </a:lnTo>
                      <a:lnTo>
                        <a:pt x="109" y="613"/>
                      </a:lnTo>
                      <a:lnTo>
                        <a:pt x="101" y="613"/>
                      </a:lnTo>
                      <a:lnTo>
                        <a:pt x="82" y="605"/>
                      </a:lnTo>
                      <a:lnTo>
                        <a:pt x="74" y="596"/>
                      </a:lnTo>
                      <a:lnTo>
                        <a:pt x="55" y="596"/>
                      </a:lnTo>
                      <a:lnTo>
                        <a:pt x="46" y="578"/>
                      </a:lnTo>
                      <a:lnTo>
                        <a:pt x="37" y="568"/>
                      </a:lnTo>
                      <a:lnTo>
                        <a:pt x="37" y="551"/>
                      </a:lnTo>
                      <a:lnTo>
                        <a:pt x="27" y="531"/>
                      </a:lnTo>
                      <a:lnTo>
                        <a:pt x="19" y="503"/>
                      </a:lnTo>
                      <a:lnTo>
                        <a:pt x="10" y="486"/>
                      </a:lnTo>
                      <a:lnTo>
                        <a:pt x="10" y="467"/>
                      </a:lnTo>
                      <a:lnTo>
                        <a:pt x="0" y="449"/>
                      </a:lnTo>
                      <a:lnTo>
                        <a:pt x="0" y="431"/>
                      </a:lnTo>
                      <a:lnTo>
                        <a:pt x="0" y="404"/>
                      </a:lnTo>
                      <a:lnTo>
                        <a:pt x="0" y="384"/>
                      </a:lnTo>
                      <a:lnTo>
                        <a:pt x="0" y="366"/>
                      </a:lnTo>
                      <a:lnTo>
                        <a:pt x="0" y="339"/>
                      </a:lnTo>
                      <a:lnTo>
                        <a:pt x="0" y="321"/>
                      </a:lnTo>
                      <a:lnTo>
                        <a:pt x="0" y="302"/>
                      </a:lnTo>
                      <a:lnTo>
                        <a:pt x="10" y="284"/>
                      </a:lnTo>
                      <a:lnTo>
                        <a:pt x="19" y="256"/>
                      </a:lnTo>
                      <a:lnTo>
                        <a:pt x="19" y="237"/>
                      </a:lnTo>
                      <a:lnTo>
                        <a:pt x="27" y="220"/>
                      </a:lnTo>
                      <a:lnTo>
                        <a:pt x="37" y="210"/>
                      </a:lnTo>
                      <a:lnTo>
                        <a:pt x="37" y="202"/>
                      </a:lnTo>
                      <a:lnTo>
                        <a:pt x="46" y="192"/>
                      </a:lnTo>
                      <a:lnTo>
                        <a:pt x="55" y="183"/>
                      </a:lnTo>
                      <a:lnTo>
                        <a:pt x="55" y="165"/>
                      </a:lnTo>
                      <a:lnTo>
                        <a:pt x="64" y="156"/>
                      </a:lnTo>
                      <a:lnTo>
                        <a:pt x="74" y="147"/>
                      </a:lnTo>
                      <a:lnTo>
                        <a:pt x="82" y="138"/>
                      </a:lnTo>
                      <a:lnTo>
                        <a:pt x="82" y="128"/>
                      </a:lnTo>
                      <a:lnTo>
                        <a:pt x="91" y="119"/>
                      </a:lnTo>
                      <a:lnTo>
                        <a:pt x="101" y="110"/>
                      </a:lnTo>
                      <a:lnTo>
                        <a:pt x="109" y="100"/>
                      </a:lnTo>
                      <a:lnTo>
                        <a:pt x="119" y="92"/>
                      </a:lnTo>
                      <a:lnTo>
                        <a:pt x="129" y="82"/>
                      </a:lnTo>
                      <a:lnTo>
                        <a:pt x="137" y="73"/>
                      </a:lnTo>
                      <a:lnTo>
                        <a:pt x="147" y="64"/>
                      </a:lnTo>
                      <a:lnTo>
                        <a:pt x="165" y="64"/>
                      </a:lnTo>
                      <a:lnTo>
                        <a:pt x="174" y="73"/>
                      </a:lnTo>
                      <a:lnTo>
                        <a:pt x="192" y="73"/>
                      </a:lnTo>
                      <a:lnTo>
                        <a:pt x="211" y="73"/>
                      </a:lnTo>
                      <a:lnTo>
                        <a:pt x="229" y="73"/>
                      </a:lnTo>
                      <a:lnTo>
                        <a:pt x="238" y="82"/>
                      </a:lnTo>
                      <a:lnTo>
                        <a:pt x="257" y="82"/>
                      </a:lnTo>
                      <a:lnTo>
                        <a:pt x="275" y="82"/>
                      </a:lnTo>
                      <a:lnTo>
                        <a:pt x="293" y="82"/>
                      </a:lnTo>
                      <a:lnTo>
                        <a:pt x="302" y="82"/>
                      </a:lnTo>
                      <a:lnTo>
                        <a:pt x="321" y="82"/>
                      </a:lnTo>
                      <a:lnTo>
                        <a:pt x="339" y="82"/>
                      </a:lnTo>
                      <a:lnTo>
                        <a:pt x="356" y="82"/>
                      </a:lnTo>
                      <a:lnTo>
                        <a:pt x="375" y="92"/>
                      </a:lnTo>
                      <a:lnTo>
                        <a:pt x="384" y="92"/>
                      </a:lnTo>
                      <a:lnTo>
                        <a:pt x="403" y="92"/>
                      </a:lnTo>
                      <a:lnTo>
                        <a:pt x="412" y="92"/>
                      </a:lnTo>
                      <a:lnTo>
                        <a:pt x="421" y="92"/>
                      </a:lnTo>
                      <a:lnTo>
                        <a:pt x="439" y="92"/>
                      </a:lnTo>
                      <a:lnTo>
                        <a:pt x="449" y="92"/>
                      </a:lnTo>
                      <a:lnTo>
                        <a:pt x="458" y="92"/>
                      </a:lnTo>
                      <a:lnTo>
                        <a:pt x="466" y="92"/>
                      </a:lnTo>
                      <a:lnTo>
                        <a:pt x="476" y="92"/>
                      </a:lnTo>
                      <a:lnTo>
                        <a:pt x="485" y="92"/>
                      </a:lnTo>
                      <a:lnTo>
                        <a:pt x="494" y="100"/>
                      </a:lnTo>
                      <a:lnTo>
                        <a:pt x="503" y="100"/>
                      </a:lnTo>
                      <a:lnTo>
                        <a:pt x="513" y="100"/>
                      </a:lnTo>
                      <a:lnTo>
                        <a:pt x="522" y="100"/>
                      </a:lnTo>
                      <a:lnTo>
                        <a:pt x="531" y="100"/>
                      </a:lnTo>
                      <a:lnTo>
                        <a:pt x="541" y="100"/>
                      </a:lnTo>
                      <a:lnTo>
                        <a:pt x="549" y="100"/>
                      </a:lnTo>
                      <a:lnTo>
                        <a:pt x="559" y="100"/>
                      </a:lnTo>
                      <a:lnTo>
                        <a:pt x="568" y="100"/>
                      </a:lnTo>
                      <a:lnTo>
                        <a:pt x="576" y="100"/>
                      </a:lnTo>
                      <a:lnTo>
                        <a:pt x="586" y="92"/>
                      </a:lnTo>
                      <a:lnTo>
                        <a:pt x="595" y="92"/>
                      </a:lnTo>
                      <a:lnTo>
                        <a:pt x="604" y="92"/>
                      </a:lnTo>
                      <a:lnTo>
                        <a:pt x="613" y="92"/>
                      </a:lnTo>
                      <a:lnTo>
                        <a:pt x="622" y="92"/>
                      </a:lnTo>
                      <a:lnTo>
                        <a:pt x="631" y="92"/>
                      </a:lnTo>
                      <a:lnTo>
                        <a:pt x="640" y="92"/>
                      </a:lnTo>
                      <a:lnTo>
                        <a:pt x="650" y="92"/>
                      </a:lnTo>
                      <a:lnTo>
                        <a:pt x="659" y="92"/>
                      </a:lnTo>
                      <a:lnTo>
                        <a:pt x="669" y="100"/>
                      </a:lnTo>
                      <a:lnTo>
                        <a:pt x="678" y="100"/>
                      </a:lnTo>
                      <a:lnTo>
                        <a:pt x="686" y="100"/>
                      </a:lnTo>
                      <a:lnTo>
                        <a:pt x="705" y="100"/>
                      </a:lnTo>
                      <a:lnTo>
                        <a:pt x="714" y="100"/>
                      </a:lnTo>
                      <a:lnTo>
                        <a:pt x="723" y="100"/>
                      </a:lnTo>
                      <a:lnTo>
                        <a:pt x="741" y="100"/>
                      </a:lnTo>
                      <a:lnTo>
                        <a:pt x="750" y="100"/>
                      </a:lnTo>
                      <a:lnTo>
                        <a:pt x="768" y="100"/>
                      </a:lnTo>
                      <a:lnTo>
                        <a:pt x="778" y="100"/>
                      </a:lnTo>
                      <a:lnTo>
                        <a:pt x="796" y="100"/>
                      </a:lnTo>
                      <a:lnTo>
                        <a:pt x="806" y="100"/>
                      </a:lnTo>
                      <a:lnTo>
                        <a:pt x="824" y="92"/>
                      </a:lnTo>
                      <a:lnTo>
                        <a:pt x="842" y="92"/>
                      </a:lnTo>
                      <a:lnTo>
                        <a:pt x="851" y="92"/>
                      </a:lnTo>
                      <a:lnTo>
                        <a:pt x="870" y="92"/>
                      </a:lnTo>
                      <a:lnTo>
                        <a:pt x="878" y="92"/>
                      </a:lnTo>
                      <a:lnTo>
                        <a:pt x="897" y="92"/>
                      </a:lnTo>
                      <a:lnTo>
                        <a:pt x="906" y="92"/>
                      </a:lnTo>
                      <a:lnTo>
                        <a:pt x="925" y="92"/>
                      </a:lnTo>
                      <a:lnTo>
                        <a:pt x="934" y="92"/>
                      </a:lnTo>
                      <a:lnTo>
                        <a:pt x="970" y="92"/>
                      </a:lnTo>
                      <a:lnTo>
                        <a:pt x="1007" y="92"/>
                      </a:lnTo>
                      <a:lnTo>
                        <a:pt x="1043" y="92"/>
                      </a:lnTo>
                      <a:lnTo>
                        <a:pt x="1071" y="92"/>
                      </a:lnTo>
                      <a:lnTo>
                        <a:pt x="1107" y="82"/>
                      </a:lnTo>
                      <a:lnTo>
                        <a:pt x="1144" y="82"/>
                      </a:lnTo>
                      <a:lnTo>
                        <a:pt x="1181" y="73"/>
                      </a:lnTo>
                      <a:lnTo>
                        <a:pt x="1208" y="73"/>
                      </a:lnTo>
                      <a:lnTo>
                        <a:pt x="1245" y="64"/>
                      </a:lnTo>
                      <a:lnTo>
                        <a:pt x="1272" y="55"/>
                      </a:lnTo>
                      <a:lnTo>
                        <a:pt x="1309" y="46"/>
                      </a:lnTo>
                      <a:lnTo>
                        <a:pt x="1345" y="37"/>
                      </a:lnTo>
                      <a:lnTo>
                        <a:pt x="1372" y="28"/>
                      </a:lnTo>
                      <a:lnTo>
                        <a:pt x="1400" y="18"/>
                      </a:lnTo>
                      <a:lnTo>
                        <a:pt x="1437" y="10"/>
                      </a:lnTo>
                      <a:lnTo>
                        <a:pt x="1465" y="0"/>
                      </a:lnTo>
                      <a:lnTo>
                        <a:pt x="1482" y="0"/>
                      </a:lnTo>
                      <a:lnTo>
                        <a:pt x="1482" y="1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545440" y="3706920"/>
                  <a:ext cx="119520" cy="185400"/>
                </a:xfrm>
                <a:custGeom>
                  <a:avLst/>
                  <a:gdLst/>
                  <a:ahLst/>
                  <a:rect l="l" t="t" r="r" b="b"/>
                  <a:pathLst>
                    <a:path w="301" h="468">
                      <a:moveTo>
                        <a:pt x="301" y="0"/>
                      </a:moveTo>
                      <a:lnTo>
                        <a:pt x="284" y="28"/>
                      </a:lnTo>
                      <a:lnTo>
                        <a:pt x="266" y="55"/>
                      </a:lnTo>
                      <a:lnTo>
                        <a:pt x="246" y="82"/>
                      </a:lnTo>
                      <a:lnTo>
                        <a:pt x="228" y="120"/>
                      </a:lnTo>
                      <a:lnTo>
                        <a:pt x="210" y="147"/>
                      </a:lnTo>
                      <a:lnTo>
                        <a:pt x="183" y="174"/>
                      </a:lnTo>
                      <a:lnTo>
                        <a:pt x="164" y="202"/>
                      </a:lnTo>
                      <a:lnTo>
                        <a:pt x="146" y="229"/>
                      </a:lnTo>
                      <a:lnTo>
                        <a:pt x="128" y="257"/>
                      </a:lnTo>
                      <a:lnTo>
                        <a:pt x="109" y="294"/>
                      </a:lnTo>
                      <a:lnTo>
                        <a:pt x="91" y="321"/>
                      </a:lnTo>
                      <a:lnTo>
                        <a:pt x="73" y="348"/>
                      </a:lnTo>
                      <a:lnTo>
                        <a:pt x="54" y="376"/>
                      </a:lnTo>
                      <a:lnTo>
                        <a:pt x="36" y="413"/>
                      </a:lnTo>
                      <a:lnTo>
                        <a:pt x="19" y="440"/>
                      </a:lnTo>
                      <a:lnTo>
                        <a:pt x="0" y="468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315040" y="3926520"/>
                  <a:ext cx="212040" cy="343080"/>
                </a:xfrm>
                <a:custGeom>
                  <a:avLst/>
                  <a:gdLst/>
                  <a:ahLst/>
                  <a:rect l="l" t="t" r="r" b="b"/>
                  <a:pathLst>
                    <a:path w="531" h="861">
                      <a:moveTo>
                        <a:pt x="531" y="0"/>
                      </a:moveTo>
                      <a:lnTo>
                        <a:pt x="494" y="55"/>
                      </a:lnTo>
                      <a:lnTo>
                        <a:pt x="458" y="110"/>
                      </a:lnTo>
                      <a:lnTo>
                        <a:pt x="421" y="165"/>
                      </a:lnTo>
                      <a:lnTo>
                        <a:pt x="384" y="211"/>
                      </a:lnTo>
                      <a:lnTo>
                        <a:pt x="357" y="266"/>
                      </a:lnTo>
                      <a:lnTo>
                        <a:pt x="321" y="321"/>
                      </a:lnTo>
                      <a:lnTo>
                        <a:pt x="283" y="376"/>
                      </a:lnTo>
                      <a:lnTo>
                        <a:pt x="256" y="431"/>
                      </a:lnTo>
                      <a:lnTo>
                        <a:pt x="220" y="486"/>
                      </a:lnTo>
                      <a:lnTo>
                        <a:pt x="184" y="531"/>
                      </a:lnTo>
                      <a:lnTo>
                        <a:pt x="156" y="586"/>
                      </a:lnTo>
                      <a:lnTo>
                        <a:pt x="119" y="641"/>
                      </a:lnTo>
                      <a:lnTo>
                        <a:pt x="92" y="697"/>
                      </a:lnTo>
                      <a:lnTo>
                        <a:pt x="55" y="752"/>
                      </a:lnTo>
                      <a:lnTo>
                        <a:pt x="27" y="807"/>
                      </a:lnTo>
                      <a:lnTo>
                        <a:pt x="0" y="86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315040" y="412812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137" h="357">
                      <a:moveTo>
                        <a:pt x="0" y="357"/>
                      </a:moveTo>
                      <a:lnTo>
                        <a:pt x="0" y="330"/>
                      </a:lnTo>
                      <a:lnTo>
                        <a:pt x="9" y="311"/>
                      </a:lnTo>
                      <a:lnTo>
                        <a:pt x="18" y="293"/>
                      </a:lnTo>
                      <a:lnTo>
                        <a:pt x="27" y="266"/>
                      </a:lnTo>
                      <a:lnTo>
                        <a:pt x="36" y="248"/>
                      </a:lnTo>
                      <a:lnTo>
                        <a:pt x="46" y="229"/>
                      </a:lnTo>
                      <a:lnTo>
                        <a:pt x="55" y="201"/>
                      </a:lnTo>
                      <a:lnTo>
                        <a:pt x="74" y="183"/>
                      </a:lnTo>
                      <a:lnTo>
                        <a:pt x="82" y="156"/>
                      </a:lnTo>
                      <a:lnTo>
                        <a:pt x="92" y="137"/>
                      </a:lnTo>
                      <a:lnTo>
                        <a:pt x="101" y="119"/>
                      </a:lnTo>
                      <a:lnTo>
                        <a:pt x="110" y="91"/>
                      </a:lnTo>
                      <a:lnTo>
                        <a:pt x="119" y="73"/>
                      </a:lnTo>
                      <a:lnTo>
                        <a:pt x="128" y="46"/>
                      </a:lnTo>
                      <a:lnTo>
                        <a:pt x="128" y="27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365440" y="4006080"/>
                  <a:ext cx="19800" cy="121680"/>
                </a:xfrm>
                <a:custGeom>
                  <a:avLst/>
                  <a:gdLst/>
                  <a:ahLst/>
                  <a:rect l="l" t="t" r="r" b="b"/>
                  <a:pathLst>
                    <a:path w="46" h="303">
                      <a:moveTo>
                        <a:pt x="9" y="303"/>
                      </a:moveTo>
                      <a:lnTo>
                        <a:pt x="18" y="285"/>
                      </a:lnTo>
                      <a:lnTo>
                        <a:pt x="18" y="267"/>
                      </a:lnTo>
                      <a:lnTo>
                        <a:pt x="28" y="248"/>
                      </a:lnTo>
                      <a:lnTo>
                        <a:pt x="28" y="230"/>
                      </a:lnTo>
                      <a:lnTo>
                        <a:pt x="36" y="211"/>
                      </a:lnTo>
                      <a:lnTo>
                        <a:pt x="36" y="193"/>
                      </a:lnTo>
                      <a:lnTo>
                        <a:pt x="36" y="166"/>
                      </a:lnTo>
                      <a:lnTo>
                        <a:pt x="46" y="147"/>
                      </a:lnTo>
                      <a:lnTo>
                        <a:pt x="46" y="128"/>
                      </a:lnTo>
                      <a:lnTo>
                        <a:pt x="46" y="110"/>
                      </a:lnTo>
                      <a:lnTo>
                        <a:pt x="36" y="93"/>
                      </a:lnTo>
                      <a:lnTo>
                        <a:pt x="36" y="74"/>
                      </a:lnTo>
                      <a:lnTo>
                        <a:pt x="28" y="56"/>
                      </a:lnTo>
                      <a:lnTo>
                        <a:pt x="18" y="38"/>
                      </a:lnTo>
                      <a:lnTo>
                        <a:pt x="9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179320" y="3940560"/>
                  <a:ext cx="185760" cy="65520"/>
                </a:xfrm>
                <a:custGeom>
                  <a:avLst/>
                  <a:gdLst/>
                  <a:ahLst/>
                  <a:rect l="l" t="t" r="r" b="b"/>
                  <a:pathLst>
                    <a:path w="466" h="164">
                      <a:moveTo>
                        <a:pt x="466" y="164"/>
                      </a:moveTo>
                      <a:lnTo>
                        <a:pt x="439" y="137"/>
                      </a:lnTo>
                      <a:lnTo>
                        <a:pt x="420" y="118"/>
                      </a:lnTo>
                      <a:lnTo>
                        <a:pt x="393" y="101"/>
                      </a:lnTo>
                      <a:lnTo>
                        <a:pt x="365" y="83"/>
                      </a:lnTo>
                      <a:lnTo>
                        <a:pt x="338" y="64"/>
                      </a:lnTo>
                      <a:lnTo>
                        <a:pt x="310" y="55"/>
                      </a:lnTo>
                      <a:lnTo>
                        <a:pt x="283" y="45"/>
                      </a:lnTo>
                      <a:lnTo>
                        <a:pt x="256" y="27"/>
                      </a:lnTo>
                      <a:lnTo>
                        <a:pt x="219" y="18"/>
                      </a:lnTo>
                      <a:lnTo>
                        <a:pt x="192" y="18"/>
                      </a:lnTo>
                      <a:lnTo>
                        <a:pt x="165" y="8"/>
                      </a:lnTo>
                      <a:lnTo>
                        <a:pt x="128" y="8"/>
                      </a:lnTo>
                      <a:lnTo>
                        <a:pt x="100" y="0"/>
                      </a:lnTo>
                      <a:lnTo>
                        <a:pt x="63" y="0"/>
                      </a:lnTo>
                      <a:lnTo>
                        <a:pt x="2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073480" y="3786840"/>
                  <a:ext cx="14040" cy="131400"/>
                </a:xfrm>
                <a:custGeom>
                  <a:avLst/>
                  <a:gdLst/>
                  <a:ahLst/>
                  <a:rect l="l" t="t" r="r" b="b"/>
                  <a:pathLst>
                    <a:path w="37" h="331">
                      <a:moveTo>
                        <a:pt x="37" y="331"/>
                      </a:moveTo>
                      <a:lnTo>
                        <a:pt x="27" y="311"/>
                      </a:lnTo>
                      <a:lnTo>
                        <a:pt x="19" y="283"/>
                      </a:lnTo>
                      <a:lnTo>
                        <a:pt x="10" y="266"/>
                      </a:lnTo>
                      <a:lnTo>
                        <a:pt x="10" y="247"/>
                      </a:lnTo>
                      <a:lnTo>
                        <a:pt x="0" y="229"/>
                      </a:lnTo>
                      <a:lnTo>
                        <a:pt x="0" y="211"/>
                      </a:lnTo>
                      <a:lnTo>
                        <a:pt x="0" y="184"/>
                      </a:lnTo>
                      <a:lnTo>
                        <a:pt x="0" y="164"/>
                      </a:lnTo>
                      <a:lnTo>
                        <a:pt x="0" y="146"/>
                      </a:lnTo>
                      <a:lnTo>
                        <a:pt x="0" y="119"/>
                      </a:lnTo>
                      <a:lnTo>
                        <a:pt x="0" y="101"/>
                      </a:lnTo>
                      <a:lnTo>
                        <a:pt x="0" y="82"/>
                      </a:lnTo>
                      <a:lnTo>
                        <a:pt x="10" y="64"/>
                      </a:lnTo>
                      <a:lnTo>
                        <a:pt x="19" y="36"/>
                      </a:lnTo>
                      <a:lnTo>
                        <a:pt x="19" y="17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083200" y="3724560"/>
                  <a:ext cx="4788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56">
                      <a:moveTo>
                        <a:pt x="0" y="156"/>
                      </a:moveTo>
                      <a:lnTo>
                        <a:pt x="10" y="146"/>
                      </a:lnTo>
                      <a:lnTo>
                        <a:pt x="10" y="138"/>
                      </a:lnTo>
                      <a:lnTo>
                        <a:pt x="19" y="128"/>
                      </a:lnTo>
                      <a:lnTo>
                        <a:pt x="28" y="119"/>
                      </a:lnTo>
                      <a:lnTo>
                        <a:pt x="28" y="101"/>
                      </a:lnTo>
                      <a:lnTo>
                        <a:pt x="37" y="92"/>
                      </a:lnTo>
                      <a:lnTo>
                        <a:pt x="47" y="83"/>
                      </a:lnTo>
                      <a:lnTo>
                        <a:pt x="55" y="74"/>
                      </a:lnTo>
                      <a:lnTo>
                        <a:pt x="55" y="64"/>
                      </a:lnTo>
                      <a:lnTo>
                        <a:pt x="64" y="55"/>
                      </a:lnTo>
                      <a:lnTo>
                        <a:pt x="74" y="46"/>
                      </a:lnTo>
                      <a:lnTo>
                        <a:pt x="82" y="36"/>
                      </a:lnTo>
                      <a:lnTo>
                        <a:pt x="92" y="28"/>
                      </a:lnTo>
                      <a:lnTo>
                        <a:pt x="102" y="18"/>
                      </a:lnTo>
                      <a:lnTo>
                        <a:pt x="110" y="9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4879440" y="3724560"/>
                  <a:ext cx="225720" cy="215640"/>
                </a:xfrm>
                <a:custGeom>
                  <a:avLst/>
                  <a:gdLst/>
                  <a:ahLst/>
                  <a:rect l="l" t="t" r="r" b="b"/>
                  <a:pathLst>
                    <a:path w="567" h="541">
                      <a:moveTo>
                        <a:pt x="467" y="128"/>
                      </a:moveTo>
                      <a:lnTo>
                        <a:pt x="457" y="128"/>
                      </a:lnTo>
                      <a:lnTo>
                        <a:pt x="449" y="138"/>
                      </a:lnTo>
                      <a:lnTo>
                        <a:pt x="439" y="138"/>
                      </a:lnTo>
                      <a:lnTo>
                        <a:pt x="430" y="138"/>
                      </a:lnTo>
                      <a:lnTo>
                        <a:pt x="421" y="138"/>
                      </a:lnTo>
                      <a:lnTo>
                        <a:pt x="412" y="138"/>
                      </a:lnTo>
                      <a:lnTo>
                        <a:pt x="402" y="138"/>
                      </a:lnTo>
                      <a:lnTo>
                        <a:pt x="402" y="146"/>
                      </a:lnTo>
                      <a:lnTo>
                        <a:pt x="394" y="146"/>
                      </a:lnTo>
                      <a:lnTo>
                        <a:pt x="367" y="156"/>
                      </a:lnTo>
                      <a:lnTo>
                        <a:pt x="348" y="165"/>
                      </a:lnTo>
                      <a:lnTo>
                        <a:pt x="329" y="173"/>
                      </a:lnTo>
                      <a:lnTo>
                        <a:pt x="311" y="192"/>
                      </a:lnTo>
                      <a:lnTo>
                        <a:pt x="292" y="211"/>
                      </a:lnTo>
                      <a:lnTo>
                        <a:pt x="275" y="230"/>
                      </a:lnTo>
                      <a:lnTo>
                        <a:pt x="257" y="248"/>
                      </a:lnTo>
                      <a:lnTo>
                        <a:pt x="247" y="266"/>
                      </a:lnTo>
                      <a:lnTo>
                        <a:pt x="230" y="284"/>
                      </a:lnTo>
                      <a:lnTo>
                        <a:pt x="220" y="302"/>
                      </a:lnTo>
                      <a:lnTo>
                        <a:pt x="202" y="330"/>
                      </a:lnTo>
                      <a:lnTo>
                        <a:pt x="192" y="348"/>
                      </a:lnTo>
                      <a:lnTo>
                        <a:pt x="174" y="367"/>
                      </a:lnTo>
                      <a:lnTo>
                        <a:pt x="165" y="394"/>
                      </a:lnTo>
                      <a:lnTo>
                        <a:pt x="147" y="412"/>
                      </a:lnTo>
                      <a:lnTo>
                        <a:pt x="137" y="430"/>
                      </a:lnTo>
                      <a:lnTo>
                        <a:pt x="128" y="439"/>
                      </a:lnTo>
                      <a:lnTo>
                        <a:pt x="120" y="439"/>
                      </a:lnTo>
                      <a:lnTo>
                        <a:pt x="120" y="449"/>
                      </a:lnTo>
                      <a:lnTo>
                        <a:pt x="110" y="459"/>
                      </a:lnTo>
                      <a:lnTo>
                        <a:pt x="101" y="467"/>
                      </a:lnTo>
                      <a:lnTo>
                        <a:pt x="101" y="477"/>
                      </a:lnTo>
                      <a:lnTo>
                        <a:pt x="92" y="487"/>
                      </a:lnTo>
                      <a:lnTo>
                        <a:pt x="83" y="495"/>
                      </a:lnTo>
                      <a:lnTo>
                        <a:pt x="73" y="504"/>
                      </a:lnTo>
                      <a:lnTo>
                        <a:pt x="73" y="514"/>
                      </a:lnTo>
                      <a:lnTo>
                        <a:pt x="64" y="522"/>
                      </a:lnTo>
                      <a:lnTo>
                        <a:pt x="55" y="522"/>
                      </a:lnTo>
                      <a:lnTo>
                        <a:pt x="45" y="532"/>
                      </a:lnTo>
                      <a:lnTo>
                        <a:pt x="37" y="541"/>
                      </a:lnTo>
                      <a:lnTo>
                        <a:pt x="27" y="541"/>
                      </a:lnTo>
                      <a:lnTo>
                        <a:pt x="18" y="541"/>
                      </a:lnTo>
                      <a:lnTo>
                        <a:pt x="10" y="532"/>
                      </a:lnTo>
                      <a:lnTo>
                        <a:pt x="10" y="522"/>
                      </a:lnTo>
                      <a:lnTo>
                        <a:pt x="10" y="514"/>
                      </a:lnTo>
                      <a:lnTo>
                        <a:pt x="10" y="504"/>
                      </a:lnTo>
                      <a:lnTo>
                        <a:pt x="0" y="495"/>
                      </a:lnTo>
                      <a:lnTo>
                        <a:pt x="0" y="487"/>
                      </a:lnTo>
                      <a:lnTo>
                        <a:pt x="0" y="477"/>
                      </a:lnTo>
                      <a:lnTo>
                        <a:pt x="0" y="467"/>
                      </a:lnTo>
                      <a:lnTo>
                        <a:pt x="0" y="459"/>
                      </a:lnTo>
                      <a:lnTo>
                        <a:pt x="0" y="449"/>
                      </a:lnTo>
                      <a:lnTo>
                        <a:pt x="0" y="439"/>
                      </a:lnTo>
                      <a:lnTo>
                        <a:pt x="0" y="430"/>
                      </a:lnTo>
                      <a:lnTo>
                        <a:pt x="0" y="422"/>
                      </a:lnTo>
                      <a:lnTo>
                        <a:pt x="0" y="412"/>
                      </a:lnTo>
                      <a:lnTo>
                        <a:pt x="0" y="385"/>
                      </a:lnTo>
                      <a:lnTo>
                        <a:pt x="10" y="358"/>
                      </a:lnTo>
                      <a:lnTo>
                        <a:pt x="18" y="340"/>
                      </a:lnTo>
                      <a:lnTo>
                        <a:pt x="27" y="312"/>
                      </a:lnTo>
                      <a:lnTo>
                        <a:pt x="37" y="293"/>
                      </a:lnTo>
                      <a:lnTo>
                        <a:pt x="55" y="266"/>
                      </a:lnTo>
                      <a:lnTo>
                        <a:pt x="73" y="248"/>
                      </a:lnTo>
                      <a:lnTo>
                        <a:pt x="92" y="230"/>
                      </a:lnTo>
                      <a:lnTo>
                        <a:pt x="110" y="211"/>
                      </a:lnTo>
                      <a:lnTo>
                        <a:pt x="128" y="192"/>
                      </a:lnTo>
                      <a:lnTo>
                        <a:pt x="155" y="173"/>
                      </a:lnTo>
                      <a:lnTo>
                        <a:pt x="174" y="156"/>
                      </a:lnTo>
                      <a:lnTo>
                        <a:pt x="192" y="146"/>
                      </a:lnTo>
                      <a:lnTo>
                        <a:pt x="220" y="128"/>
                      </a:lnTo>
                      <a:lnTo>
                        <a:pt x="238" y="110"/>
                      </a:lnTo>
                      <a:lnTo>
                        <a:pt x="257" y="101"/>
                      </a:lnTo>
                      <a:lnTo>
                        <a:pt x="275" y="92"/>
                      </a:lnTo>
                      <a:lnTo>
                        <a:pt x="284" y="83"/>
                      </a:lnTo>
                      <a:lnTo>
                        <a:pt x="302" y="83"/>
                      </a:lnTo>
                      <a:lnTo>
                        <a:pt x="320" y="74"/>
                      </a:lnTo>
                      <a:lnTo>
                        <a:pt x="329" y="64"/>
                      </a:lnTo>
                      <a:lnTo>
                        <a:pt x="348" y="64"/>
                      </a:lnTo>
                      <a:lnTo>
                        <a:pt x="367" y="55"/>
                      </a:lnTo>
                      <a:lnTo>
                        <a:pt x="385" y="46"/>
                      </a:lnTo>
                      <a:lnTo>
                        <a:pt x="394" y="46"/>
                      </a:lnTo>
                      <a:lnTo>
                        <a:pt x="412" y="36"/>
                      </a:lnTo>
                      <a:lnTo>
                        <a:pt x="430" y="36"/>
                      </a:lnTo>
                      <a:lnTo>
                        <a:pt x="449" y="28"/>
                      </a:lnTo>
                      <a:lnTo>
                        <a:pt x="457" y="28"/>
                      </a:lnTo>
                      <a:lnTo>
                        <a:pt x="477" y="18"/>
                      </a:lnTo>
                      <a:lnTo>
                        <a:pt x="495" y="18"/>
                      </a:lnTo>
                      <a:lnTo>
                        <a:pt x="512" y="18"/>
                      </a:lnTo>
                      <a:lnTo>
                        <a:pt x="512" y="9"/>
                      </a:lnTo>
                      <a:lnTo>
                        <a:pt x="522" y="9"/>
                      </a:lnTo>
                      <a:lnTo>
                        <a:pt x="531" y="9"/>
                      </a:lnTo>
                      <a:lnTo>
                        <a:pt x="540" y="9"/>
                      </a:lnTo>
                      <a:lnTo>
                        <a:pt x="549" y="0"/>
                      </a:lnTo>
                      <a:lnTo>
                        <a:pt x="559" y="0"/>
                      </a:lnTo>
                      <a:lnTo>
                        <a:pt x="567" y="0"/>
                      </a:lnTo>
                      <a:lnTo>
                        <a:pt x="467" y="12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4933440" y="3782520"/>
                  <a:ext cx="103680" cy="113760"/>
                </a:xfrm>
                <a:custGeom>
                  <a:avLst/>
                  <a:gdLst/>
                  <a:ahLst/>
                  <a:rect l="l" t="t" r="r" b="b"/>
                  <a:pathLst>
                    <a:path w="257" h="284">
                      <a:moveTo>
                        <a:pt x="257" y="0"/>
                      </a:moveTo>
                      <a:lnTo>
                        <a:pt x="230" y="10"/>
                      </a:lnTo>
                      <a:lnTo>
                        <a:pt x="211" y="19"/>
                      </a:lnTo>
                      <a:lnTo>
                        <a:pt x="192" y="27"/>
                      </a:lnTo>
                      <a:lnTo>
                        <a:pt x="174" y="46"/>
                      </a:lnTo>
                      <a:lnTo>
                        <a:pt x="155" y="65"/>
                      </a:lnTo>
                      <a:lnTo>
                        <a:pt x="138" y="84"/>
                      </a:lnTo>
                      <a:lnTo>
                        <a:pt x="120" y="102"/>
                      </a:lnTo>
                      <a:lnTo>
                        <a:pt x="110" y="120"/>
                      </a:lnTo>
                      <a:lnTo>
                        <a:pt x="93" y="138"/>
                      </a:lnTo>
                      <a:lnTo>
                        <a:pt x="83" y="156"/>
                      </a:lnTo>
                      <a:lnTo>
                        <a:pt x="65" y="184"/>
                      </a:lnTo>
                      <a:lnTo>
                        <a:pt x="55" y="202"/>
                      </a:lnTo>
                      <a:lnTo>
                        <a:pt x="37" y="221"/>
                      </a:lnTo>
                      <a:lnTo>
                        <a:pt x="28" y="248"/>
                      </a:lnTo>
                      <a:lnTo>
                        <a:pt x="10" y="266"/>
                      </a:lnTo>
                      <a:lnTo>
                        <a:pt x="0" y="28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4879440" y="3764880"/>
                  <a:ext cx="101880" cy="123480"/>
                </a:xfrm>
                <a:custGeom>
                  <a:avLst/>
                  <a:gdLst/>
                  <a:ahLst/>
                  <a:rect l="l" t="t" r="r" b="b"/>
                  <a:pathLst>
                    <a:path w="257" h="311">
                      <a:moveTo>
                        <a:pt x="0" y="311"/>
                      </a:moveTo>
                      <a:lnTo>
                        <a:pt x="0" y="284"/>
                      </a:lnTo>
                      <a:lnTo>
                        <a:pt x="10" y="257"/>
                      </a:lnTo>
                      <a:lnTo>
                        <a:pt x="18" y="239"/>
                      </a:lnTo>
                      <a:lnTo>
                        <a:pt x="27" y="211"/>
                      </a:lnTo>
                      <a:lnTo>
                        <a:pt x="37" y="192"/>
                      </a:lnTo>
                      <a:lnTo>
                        <a:pt x="55" y="165"/>
                      </a:lnTo>
                      <a:lnTo>
                        <a:pt x="73" y="147"/>
                      </a:lnTo>
                      <a:lnTo>
                        <a:pt x="92" y="129"/>
                      </a:lnTo>
                      <a:lnTo>
                        <a:pt x="110" y="110"/>
                      </a:lnTo>
                      <a:lnTo>
                        <a:pt x="128" y="91"/>
                      </a:lnTo>
                      <a:lnTo>
                        <a:pt x="155" y="72"/>
                      </a:lnTo>
                      <a:lnTo>
                        <a:pt x="174" y="55"/>
                      </a:lnTo>
                      <a:lnTo>
                        <a:pt x="192" y="45"/>
                      </a:lnTo>
                      <a:lnTo>
                        <a:pt x="220" y="27"/>
                      </a:lnTo>
                      <a:lnTo>
                        <a:pt x="238" y="9"/>
                      </a:lnTo>
                      <a:lnTo>
                        <a:pt x="25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6466320" y="3882600"/>
                  <a:ext cx="392040" cy="127440"/>
                </a:xfrm>
                <a:custGeom>
                  <a:avLst/>
                  <a:gdLst/>
                  <a:ahLst/>
                  <a:rect l="l" t="t" r="r" b="b"/>
                  <a:pathLst>
                    <a:path w="981" h="321">
                      <a:moveTo>
                        <a:pt x="495" y="45"/>
                      </a:moveTo>
                      <a:lnTo>
                        <a:pt x="504" y="45"/>
                      </a:lnTo>
                      <a:lnTo>
                        <a:pt x="522" y="45"/>
                      </a:lnTo>
                      <a:lnTo>
                        <a:pt x="531" y="45"/>
                      </a:lnTo>
                      <a:lnTo>
                        <a:pt x="541" y="55"/>
                      </a:lnTo>
                      <a:lnTo>
                        <a:pt x="549" y="55"/>
                      </a:lnTo>
                      <a:lnTo>
                        <a:pt x="559" y="55"/>
                      </a:lnTo>
                      <a:lnTo>
                        <a:pt x="568" y="55"/>
                      </a:lnTo>
                      <a:lnTo>
                        <a:pt x="577" y="55"/>
                      </a:lnTo>
                      <a:lnTo>
                        <a:pt x="587" y="55"/>
                      </a:lnTo>
                      <a:lnTo>
                        <a:pt x="596" y="55"/>
                      </a:lnTo>
                      <a:lnTo>
                        <a:pt x="605" y="65"/>
                      </a:lnTo>
                      <a:lnTo>
                        <a:pt x="614" y="65"/>
                      </a:lnTo>
                      <a:lnTo>
                        <a:pt x="632" y="65"/>
                      </a:lnTo>
                      <a:lnTo>
                        <a:pt x="641" y="73"/>
                      </a:lnTo>
                      <a:lnTo>
                        <a:pt x="651" y="73"/>
                      </a:lnTo>
                      <a:lnTo>
                        <a:pt x="659" y="73"/>
                      </a:lnTo>
                      <a:lnTo>
                        <a:pt x="659" y="83"/>
                      </a:lnTo>
                      <a:lnTo>
                        <a:pt x="669" y="83"/>
                      </a:lnTo>
                      <a:lnTo>
                        <a:pt x="678" y="83"/>
                      </a:lnTo>
                      <a:lnTo>
                        <a:pt x="678" y="93"/>
                      </a:lnTo>
                      <a:lnTo>
                        <a:pt x="687" y="93"/>
                      </a:lnTo>
                      <a:lnTo>
                        <a:pt x="696" y="93"/>
                      </a:lnTo>
                      <a:lnTo>
                        <a:pt x="706" y="93"/>
                      </a:lnTo>
                      <a:lnTo>
                        <a:pt x="714" y="93"/>
                      </a:lnTo>
                      <a:lnTo>
                        <a:pt x="724" y="101"/>
                      </a:lnTo>
                      <a:lnTo>
                        <a:pt x="742" y="110"/>
                      </a:lnTo>
                      <a:lnTo>
                        <a:pt x="761" y="120"/>
                      </a:lnTo>
                      <a:lnTo>
                        <a:pt x="779" y="128"/>
                      </a:lnTo>
                      <a:lnTo>
                        <a:pt x="797" y="138"/>
                      </a:lnTo>
                      <a:lnTo>
                        <a:pt x="815" y="147"/>
                      </a:lnTo>
                      <a:lnTo>
                        <a:pt x="824" y="165"/>
                      </a:lnTo>
                      <a:lnTo>
                        <a:pt x="843" y="174"/>
                      </a:lnTo>
                      <a:lnTo>
                        <a:pt x="861" y="192"/>
                      </a:lnTo>
                      <a:lnTo>
                        <a:pt x="871" y="202"/>
                      </a:lnTo>
                      <a:lnTo>
                        <a:pt x="889" y="220"/>
                      </a:lnTo>
                      <a:lnTo>
                        <a:pt x="898" y="238"/>
                      </a:lnTo>
                      <a:lnTo>
                        <a:pt x="916" y="248"/>
                      </a:lnTo>
                      <a:lnTo>
                        <a:pt x="934" y="265"/>
                      </a:lnTo>
                      <a:lnTo>
                        <a:pt x="943" y="275"/>
                      </a:lnTo>
                      <a:lnTo>
                        <a:pt x="961" y="294"/>
                      </a:lnTo>
                      <a:lnTo>
                        <a:pt x="981" y="302"/>
                      </a:lnTo>
                      <a:lnTo>
                        <a:pt x="971" y="311"/>
                      </a:lnTo>
                      <a:lnTo>
                        <a:pt x="961" y="311"/>
                      </a:lnTo>
                      <a:lnTo>
                        <a:pt x="953" y="311"/>
                      </a:lnTo>
                      <a:lnTo>
                        <a:pt x="953" y="321"/>
                      </a:lnTo>
                      <a:lnTo>
                        <a:pt x="943" y="321"/>
                      </a:lnTo>
                      <a:lnTo>
                        <a:pt x="934" y="321"/>
                      </a:lnTo>
                      <a:lnTo>
                        <a:pt x="925" y="321"/>
                      </a:lnTo>
                      <a:lnTo>
                        <a:pt x="916" y="311"/>
                      </a:lnTo>
                      <a:lnTo>
                        <a:pt x="906" y="311"/>
                      </a:lnTo>
                      <a:lnTo>
                        <a:pt x="898" y="311"/>
                      </a:lnTo>
                      <a:lnTo>
                        <a:pt x="889" y="311"/>
                      </a:lnTo>
                      <a:lnTo>
                        <a:pt x="879" y="311"/>
                      </a:lnTo>
                      <a:lnTo>
                        <a:pt x="871" y="302"/>
                      </a:lnTo>
                      <a:lnTo>
                        <a:pt x="852" y="302"/>
                      </a:lnTo>
                      <a:lnTo>
                        <a:pt x="843" y="302"/>
                      </a:lnTo>
                      <a:lnTo>
                        <a:pt x="833" y="302"/>
                      </a:lnTo>
                      <a:lnTo>
                        <a:pt x="824" y="294"/>
                      </a:lnTo>
                      <a:lnTo>
                        <a:pt x="815" y="294"/>
                      </a:lnTo>
                      <a:lnTo>
                        <a:pt x="806" y="294"/>
                      </a:lnTo>
                      <a:lnTo>
                        <a:pt x="797" y="284"/>
                      </a:lnTo>
                      <a:lnTo>
                        <a:pt x="788" y="284"/>
                      </a:lnTo>
                      <a:lnTo>
                        <a:pt x="779" y="284"/>
                      </a:lnTo>
                      <a:lnTo>
                        <a:pt x="769" y="275"/>
                      </a:lnTo>
                      <a:lnTo>
                        <a:pt x="761" y="275"/>
                      </a:lnTo>
                      <a:lnTo>
                        <a:pt x="751" y="275"/>
                      </a:lnTo>
                      <a:lnTo>
                        <a:pt x="742" y="265"/>
                      </a:lnTo>
                      <a:lnTo>
                        <a:pt x="734" y="265"/>
                      </a:lnTo>
                      <a:lnTo>
                        <a:pt x="724" y="265"/>
                      </a:lnTo>
                      <a:lnTo>
                        <a:pt x="714" y="265"/>
                      </a:lnTo>
                      <a:lnTo>
                        <a:pt x="706" y="265"/>
                      </a:lnTo>
                      <a:lnTo>
                        <a:pt x="696" y="265"/>
                      </a:lnTo>
                      <a:lnTo>
                        <a:pt x="687" y="257"/>
                      </a:lnTo>
                      <a:lnTo>
                        <a:pt x="678" y="257"/>
                      </a:lnTo>
                      <a:lnTo>
                        <a:pt x="669" y="248"/>
                      </a:lnTo>
                      <a:lnTo>
                        <a:pt x="669" y="238"/>
                      </a:lnTo>
                      <a:lnTo>
                        <a:pt x="659" y="238"/>
                      </a:lnTo>
                      <a:lnTo>
                        <a:pt x="651" y="230"/>
                      </a:lnTo>
                      <a:lnTo>
                        <a:pt x="641" y="220"/>
                      </a:lnTo>
                      <a:lnTo>
                        <a:pt x="632" y="220"/>
                      </a:lnTo>
                      <a:lnTo>
                        <a:pt x="632" y="211"/>
                      </a:lnTo>
                      <a:lnTo>
                        <a:pt x="624" y="202"/>
                      </a:lnTo>
                      <a:lnTo>
                        <a:pt x="614" y="202"/>
                      </a:lnTo>
                      <a:lnTo>
                        <a:pt x="605" y="192"/>
                      </a:lnTo>
                      <a:lnTo>
                        <a:pt x="596" y="183"/>
                      </a:lnTo>
                      <a:lnTo>
                        <a:pt x="587" y="183"/>
                      </a:lnTo>
                      <a:lnTo>
                        <a:pt x="577" y="174"/>
                      </a:lnTo>
                      <a:lnTo>
                        <a:pt x="568" y="174"/>
                      </a:lnTo>
                      <a:lnTo>
                        <a:pt x="549" y="165"/>
                      </a:lnTo>
                      <a:lnTo>
                        <a:pt x="541" y="165"/>
                      </a:lnTo>
                      <a:lnTo>
                        <a:pt x="531" y="165"/>
                      </a:lnTo>
                      <a:lnTo>
                        <a:pt x="514" y="155"/>
                      </a:lnTo>
                      <a:lnTo>
                        <a:pt x="504" y="155"/>
                      </a:lnTo>
                      <a:lnTo>
                        <a:pt x="495" y="147"/>
                      </a:lnTo>
                      <a:lnTo>
                        <a:pt x="486" y="138"/>
                      </a:lnTo>
                      <a:lnTo>
                        <a:pt x="477" y="138"/>
                      </a:lnTo>
                      <a:lnTo>
                        <a:pt x="459" y="128"/>
                      </a:lnTo>
                      <a:lnTo>
                        <a:pt x="449" y="128"/>
                      </a:lnTo>
                      <a:lnTo>
                        <a:pt x="439" y="120"/>
                      </a:lnTo>
                      <a:lnTo>
                        <a:pt x="431" y="110"/>
                      </a:lnTo>
                      <a:lnTo>
                        <a:pt x="421" y="110"/>
                      </a:lnTo>
                      <a:lnTo>
                        <a:pt x="412" y="110"/>
                      </a:lnTo>
                      <a:lnTo>
                        <a:pt x="404" y="110"/>
                      </a:lnTo>
                      <a:lnTo>
                        <a:pt x="394" y="110"/>
                      </a:lnTo>
                      <a:lnTo>
                        <a:pt x="385" y="101"/>
                      </a:lnTo>
                      <a:lnTo>
                        <a:pt x="376" y="101"/>
                      </a:lnTo>
                      <a:lnTo>
                        <a:pt x="367" y="101"/>
                      </a:lnTo>
                      <a:lnTo>
                        <a:pt x="358" y="93"/>
                      </a:lnTo>
                      <a:lnTo>
                        <a:pt x="349" y="93"/>
                      </a:lnTo>
                      <a:lnTo>
                        <a:pt x="330" y="93"/>
                      </a:lnTo>
                      <a:lnTo>
                        <a:pt x="302" y="83"/>
                      </a:lnTo>
                      <a:lnTo>
                        <a:pt x="284" y="83"/>
                      </a:lnTo>
                      <a:lnTo>
                        <a:pt x="266" y="83"/>
                      </a:lnTo>
                      <a:lnTo>
                        <a:pt x="239" y="73"/>
                      </a:lnTo>
                      <a:lnTo>
                        <a:pt x="220" y="73"/>
                      </a:lnTo>
                      <a:lnTo>
                        <a:pt x="193" y="73"/>
                      </a:lnTo>
                      <a:lnTo>
                        <a:pt x="174" y="73"/>
                      </a:lnTo>
                      <a:lnTo>
                        <a:pt x="156" y="73"/>
                      </a:lnTo>
                      <a:lnTo>
                        <a:pt x="129" y="73"/>
                      </a:lnTo>
                      <a:lnTo>
                        <a:pt x="110" y="73"/>
                      </a:lnTo>
                      <a:lnTo>
                        <a:pt x="83" y="73"/>
                      </a:lnTo>
                      <a:lnTo>
                        <a:pt x="65" y="73"/>
                      </a:lnTo>
                      <a:lnTo>
                        <a:pt x="47" y="73"/>
                      </a:lnTo>
                      <a:lnTo>
                        <a:pt x="19" y="83"/>
                      </a:lnTo>
                      <a:lnTo>
                        <a:pt x="0" y="83"/>
                      </a:lnTo>
                      <a:lnTo>
                        <a:pt x="10" y="83"/>
                      </a:lnTo>
                      <a:lnTo>
                        <a:pt x="19" y="73"/>
                      </a:lnTo>
                      <a:lnTo>
                        <a:pt x="28" y="65"/>
                      </a:lnTo>
                      <a:lnTo>
                        <a:pt x="37" y="55"/>
                      </a:lnTo>
                      <a:lnTo>
                        <a:pt x="47" y="55"/>
                      </a:lnTo>
                      <a:lnTo>
                        <a:pt x="55" y="45"/>
                      </a:lnTo>
                      <a:lnTo>
                        <a:pt x="65" y="45"/>
                      </a:lnTo>
                      <a:lnTo>
                        <a:pt x="75" y="36"/>
                      </a:lnTo>
                      <a:lnTo>
                        <a:pt x="83" y="36"/>
                      </a:lnTo>
                      <a:lnTo>
                        <a:pt x="93" y="28"/>
                      </a:lnTo>
                      <a:lnTo>
                        <a:pt x="110" y="28"/>
                      </a:lnTo>
                      <a:lnTo>
                        <a:pt x="120" y="18"/>
                      </a:lnTo>
                      <a:lnTo>
                        <a:pt x="129" y="18"/>
                      </a:lnTo>
                      <a:lnTo>
                        <a:pt x="138" y="18"/>
                      </a:lnTo>
                      <a:lnTo>
                        <a:pt x="147" y="18"/>
                      </a:lnTo>
                      <a:lnTo>
                        <a:pt x="156" y="18"/>
                      </a:lnTo>
                      <a:lnTo>
                        <a:pt x="165" y="18"/>
                      </a:lnTo>
                      <a:lnTo>
                        <a:pt x="174" y="18"/>
                      </a:lnTo>
                      <a:lnTo>
                        <a:pt x="174" y="9"/>
                      </a:lnTo>
                      <a:lnTo>
                        <a:pt x="184" y="9"/>
                      </a:lnTo>
                      <a:lnTo>
                        <a:pt x="193" y="0"/>
                      </a:lnTo>
                      <a:lnTo>
                        <a:pt x="212" y="0"/>
                      </a:lnTo>
                      <a:lnTo>
                        <a:pt x="230" y="0"/>
                      </a:lnTo>
                      <a:lnTo>
                        <a:pt x="257" y="0"/>
                      </a:lnTo>
                      <a:lnTo>
                        <a:pt x="275" y="9"/>
                      </a:lnTo>
                      <a:lnTo>
                        <a:pt x="294" y="9"/>
                      </a:lnTo>
                      <a:lnTo>
                        <a:pt x="312" y="9"/>
                      </a:lnTo>
                      <a:lnTo>
                        <a:pt x="330" y="9"/>
                      </a:lnTo>
                      <a:lnTo>
                        <a:pt x="349" y="9"/>
                      </a:lnTo>
                      <a:lnTo>
                        <a:pt x="367" y="18"/>
                      </a:lnTo>
                      <a:lnTo>
                        <a:pt x="385" y="18"/>
                      </a:lnTo>
                      <a:lnTo>
                        <a:pt x="404" y="18"/>
                      </a:lnTo>
                      <a:lnTo>
                        <a:pt x="421" y="28"/>
                      </a:lnTo>
                      <a:lnTo>
                        <a:pt x="449" y="28"/>
                      </a:lnTo>
                      <a:lnTo>
                        <a:pt x="468" y="36"/>
                      </a:lnTo>
                      <a:lnTo>
                        <a:pt x="477" y="36"/>
                      </a:lnTo>
                      <a:lnTo>
                        <a:pt x="495" y="45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6756480" y="3922560"/>
                  <a:ext cx="101880" cy="79560"/>
                </a:xfrm>
                <a:custGeom>
                  <a:avLst/>
                  <a:gdLst/>
                  <a:ahLst/>
                  <a:rect l="l" t="t" r="r" b="b"/>
                  <a:pathLst>
                    <a:path w="257" h="201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7" y="19"/>
                      </a:lnTo>
                      <a:lnTo>
                        <a:pt x="55" y="27"/>
                      </a:lnTo>
                      <a:lnTo>
                        <a:pt x="73" y="37"/>
                      </a:lnTo>
                      <a:lnTo>
                        <a:pt x="91" y="46"/>
                      </a:lnTo>
                      <a:lnTo>
                        <a:pt x="100" y="64"/>
                      </a:lnTo>
                      <a:lnTo>
                        <a:pt x="119" y="73"/>
                      </a:lnTo>
                      <a:lnTo>
                        <a:pt x="137" y="91"/>
                      </a:lnTo>
                      <a:lnTo>
                        <a:pt x="147" y="101"/>
                      </a:lnTo>
                      <a:lnTo>
                        <a:pt x="165" y="119"/>
                      </a:lnTo>
                      <a:lnTo>
                        <a:pt x="174" y="137"/>
                      </a:lnTo>
                      <a:lnTo>
                        <a:pt x="192" y="147"/>
                      </a:lnTo>
                      <a:lnTo>
                        <a:pt x="210" y="164"/>
                      </a:lnTo>
                      <a:lnTo>
                        <a:pt x="219" y="174"/>
                      </a:lnTo>
                      <a:lnTo>
                        <a:pt x="237" y="193"/>
                      </a:lnTo>
                      <a:lnTo>
                        <a:pt x="257" y="20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976720" y="5371560"/>
                  <a:ext cx="11520" cy="2160"/>
                </a:xfrm>
                <a:custGeom>
                  <a:avLst/>
                  <a:gdLst/>
                  <a:ahLst/>
                  <a:rect l="l" t="t" r="r" b="b"/>
                  <a:pathLst>
                    <a:path w="27" h="0">
                      <a:moveTo>
                        <a:pt x="27" y="0"/>
                      </a:move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8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6009120" y="5385600"/>
                  <a:ext cx="95400" cy="241560"/>
                </a:xfrm>
                <a:custGeom>
                  <a:avLst/>
                  <a:gdLst/>
                  <a:ahLst/>
                  <a:rect l="l" t="t" r="r" b="b"/>
                  <a:pathLst>
                    <a:path w="238" h="604">
                      <a:moveTo>
                        <a:pt x="193" y="64"/>
                      </a:moveTo>
                      <a:lnTo>
                        <a:pt x="203" y="82"/>
                      </a:lnTo>
                      <a:lnTo>
                        <a:pt x="211" y="109"/>
                      </a:lnTo>
                      <a:lnTo>
                        <a:pt x="211" y="128"/>
                      </a:lnTo>
                      <a:lnTo>
                        <a:pt x="220" y="147"/>
                      </a:lnTo>
                      <a:lnTo>
                        <a:pt x="220" y="174"/>
                      </a:lnTo>
                      <a:lnTo>
                        <a:pt x="230" y="192"/>
                      </a:lnTo>
                      <a:lnTo>
                        <a:pt x="230" y="219"/>
                      </a:lnTo>
                      <a:lnTo>
                        <a:pt x="230" y="237"/>
                      </a:lnTo>
                      <a:lnTo>
                        <a:pt x="230" y="265"/>
                      </a:lnTo>
                      <a:lnTo>
                        <a:pt x="230" y="284"/>
                      </a:lnTo>
                      <a:lnTo>
                        <a:pt x="230" y="311"/>
                      </a:lnTo>
                      <a:lnTo>
                        <a:pt x="230" y="338"/>
                      </a:lnTo>
                      <a:lnTo>
                        <a:pt x="238" y="356"/>
                      </a:lnTo>
                      <a:lnTo>
                        <a:pt x="238" y="384"/>
                      </a:lnTo>
                      <a:lnTo>
                        <a:pt x="238" y="403"/>
                      </a:lnTo>
                      <a:lnTo>
                        <a:pt x="238" y="430"/>
                      </a:lnTo>
                      <a:lnTo>
                        <a:pt x="238" y="439"/>
                      </a:lnTo>
                      <a:lnTo>
                        <a:pt x="238" y="448"/>
                      </a:lnTo>
                      <a:lnTo>
                        <a:pt x="238" y="458"/>
                      </a:lnTo>
                      <a:lnTo>
                        <a:pt x="238" y="466"/>
                      </a:lnTo>
                      <a:lnTo>
                        <a:pt x="238" y="476"/>
                      </a:lnTo>
                      <a:lnTo>
                        <a:pt x="238" y="493"/>
                      </a:lnTo>
                      <a:lnTo>
                        <a:pt x="238" y="503"/>
                      </a:lnTo>
                      <a:lnTo>
                        <a:pt x="238" y="513"/>
                      </a:lnTo>
                      <a:lnTo>
                        <a:pt x="238" y="523"/>
                      </a:lnTo>
                      <a:lnTo>
                        <a:pt x="238" y="540"/>
                      </a:lnTo>
                      <a:lnTo>
                        <a:pt x="238" y="550"/>
                      </a:lnTo>
                      <a:lnTo>
                        <a:pt x="238" y="558"/>
                      </a:lnTo>
                      <a:lnTo>
                        <a:pt x="230" y="568"/>
                      </a:lnTo>
                      <a:lnTo>
                        <a:pt x="230" y="577"/>
                      </a:lnTo>
                      <a:lnTo>
                        <a:pt x="230" y="595"/>
                      </a:lnTo>
                      <a:lnTo>
                        <a:pt x="230" y="604"/>
                      </a:lnTo>
                      <a:lnTo>
                        <a:pt x="220" y="604"/>
                      </a:lnTo>
                      <a:lnTo>
                        <a:pt x="211" y="568"/>
                      </a:lnTo>
                      <a:lnTo>
                        <a:pt x="203" y="531"/>
                      </a:lnTo>
                      <a:lnTo>
                        <a:pt x="193" y="493"/>
                      </a:lnTo>
                      <a:lnTo>
                        <a:pt x="184" y="448"/>
                      </a:lnTo>
                      <a:lnTo>
                        <a:pt x="175" y="412"/>
                      </a:lnTo>
                      <a:lnTo>
                        <a:pt x="166" y="376"/>
                      </a:lnTo>
                      <a:lnTo>
                        <a:pt x="157" y="338"/>
                      </a:lnTo>
                      <a:lnTo>
                        <a:pt x="148" y="302"/>
                      </a:lnTo>
                      <a:lnTo>
                        <a:pt x="138" y="265"/>
                      </a:lnTo>
                      <a:lnTo>
                        <a:pt x="120" y="228"/>
                      </a:lnTo>
                      <a:lnTo>
                        <a:pt x="110" y="201"/>
                      </a:lnTo>
                      <a:lnTo>
                        <a:pt x="93" y="164"/>
                      </a:lnTo>
                      <a:lnTo>
                        <a:pt x="74" y="128"/>
                      </a:lnTo>
                      <a:lnTo>
                        <a:pt x="47" y="100"/>
                      </a:lnTo>
                      <a:lnTo>
                        <a:pt x="29" y="64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0" y="18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38" y="8"/>
                      </a:lnTo>
                      <a:lnTo>
                        <a:pt x="56" y="8"/>
                      </a:lnTo>
                      <a:lnTo>
                        <a:pt x="65" y="8"/>
                      </a:lnTo>
                      <a:lnTo>
                        <a:pt x="74" y="18"/>
                      </a:lnTo>
                      <a:lnTo>
                        <a:pt x="83" y="18"/>
                      </a:lnTo>
                      <a:lnTo>
                        <a:pt x="101" y="18"/>
                      </a:lnTo>
                      <a:lnTo>
                        <a:pt x="110" y="27"/>
                      </a:lnTo>
                      <a:lnTo>
                        <a:pt x="120" y="27"/>
                      </a:lnTo>
                      <a:lnTo>
                        <a:pt x="128" y="37"/>
                      </a:lnTo>
                      <a:lnTo>
                        <a:pt x="138" y="37"/>
                      </a:lnTo>
                      <a:lnTo>
                        <a:pt x="148" y="45"/>
                      </a:lnTo>
                      <a:lnTo>
                        <a:pt x="166" y="45"/>
                      </a:lnTo>
                      <a:lnTo>
                        <a:pt x="175" y="54"/>
                      </a:lnTo>
                      <a:lnTo>
                        <a:pt x="184" y="64"/>
                      </a:lnTo>
                      <a:lnTo>
                        <a:pt x="193" y="64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6086880" y="5411880"/>
                  <a:ext cx="17640" cy="145080"/>
                </a:xfrm>
                <a:custGeom>
                  <a:avLst/>
                  <a:gdLst/>
                  <a:ahLst/>
                  <a:rect l="l" t="t" r="r" b="b"/>
                  <a:pathLst>
                    <a:path w="45" h="366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8" y="45"/>
                      </a:lnTo>
                      <a:lnTo>
                        <a:pt x="18" y="64"/>
                      </a:lnTo>
                      <a:lnTo>
                        <a:pt x="27" y="83"/>
                      </a:lnTo>
                      <a:lnTo>
                        <a:pt x="27" y="110"/>
                      </a:lnTo>
                      <a:lnTo>
                        <a:pt x="37" y="128"/>
                      </a:lnTo>
                      <a:lnTo>
                        <a:pt x="37" y="155"/>
                      </a:lnTo>
                      <a:lnTo>
                        <a:pt x="37" y="173"/>
                      </a:lnTo>
                      <a:lnTo>
                        <a:pt x="37" y="201"/>
                      </a:lnTo>
                      <a:lnTo>
                        <a:pt x="37" y="220"/>
                      </a:lnTo>
                      <a:lnTo>
                        <a:pt x="37" y="247"/>
                      </a:lnTo>
                      <a:lnTo>
                        <a:pt x="37" y="274"/>
                      </a:lnTo>
                      <a:lnTo>
                        <a:pt x="45" y="292"/>
                      </a:lnTo>
                      <a:lnTo>
                        <a:pt x="45" y="320"/>
                      </a:lnTo>
                      <a:lnTo>
                        <a:pt x="45" y="339"/>
                      </a:lnTo>
                      <a:lnTo>
                        <a:pt x="45" y="36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6100560" y="5557320"/>
                  <a:ext cx="3960" cy="69840"/>
                </a:xfrm>
                <a:custGeom>
                  <a:avLst/>
                  <a:gdLst/>
                  <a:ahLst/>
                  <a:rect l="l" t="t" r="r" b="b"/>
                  <a:pathLst>
                    <a:path w="8" h="174">
                      <a:moveTo>
                        <a:pt x="8" y="0"/>
                      </a:moveTo>
                      <a:lnTo>
                        <a:pt x="8" y="9"/>
                      </a:lnTo>
                      <a:lnTo>
                        <a:pt x="8" y="18"/>
                      </a:lnTo>
                      <a:lnTo>
                        <a:pt x="8" y="28"/>
                      </a:lnTo>
                      <a:lnTo>
                        <a:pt x="8" y="36"/>
                      </a:lnTo>
                      <a:lnTo>
                        <a:pt x="8" y="46"/>
                      </a:lnTo>
                      <a:lnTo>
                        <a:pt x="8" y="63"/>
                      </a:lnTo>
                      <a:lnTo>
                        <a:pt x="8" y="73"/>
                      </a:lnTo>
                      <a:lnTo>
                        <a:pt x="8" y="83"/>
                      </a:lnTo>
                      <a:lnTo>
                        <a:pt x="8" y="93"/>
                      </a:lnTo>
                      <a:lnTo>
                        <a:pt x="8" y="110"/>
                      </a:lnTo>
                      <a:lnTo>
                        <a:pt x="8" y="120"/>
                      </a:lnTo>
                      <a:lnTo>
                        <a:pt x="8" y="128"/>
                      </a:lnTo>
                      <a:lnTo>
                        <a:pt x="0" y="138"/>
                      </a:lnTo>
                      <a:lnTo>
                        <a:pt x="0" y="147"/>
                      </a:lnTo>
                      <a:lnTo>
                        <a:pt x="0" y="165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6009120" y="5401440"/>
                  <a:ext cx="87840" cy="225720"/>
                </a:xfrm>
                <a:custGeom>
                  <a:avLst/>
                  <a:gdLst/>
                  <a:ahLst/>
                  <a:rect l="l" t="t" r="r" b="b"/>
                  <a:pathLst>
                    <a:path w="220" h="567">
                      <a:moveTo>
                        <a:pt x="220" y="567"/>
                      </a:moveTo>
                      <a:lnTo>
                        <a:pt x="211" y="531"/>
                      </a:lnTo>
                      <a:lnTo>
                        <a:pt x="203" y="494"/>
                      </a:lnTo>
                      <a:lnTo>
                        <a:pt x="193" y="456"/>
                      </a:lnTo>
                      <a:lnTo>
                        <a:pt x="184" y="411"/>
                      </a:lnTo>
                      <a:lnTo>
                        <a:pt x="175" y="375"/>
                      </a:lnTo>
                      <a:lnTo>
                        <a:pt x="166" y="339"/>
                      </a:lnTo>
                      <a:lnTo>
                        <a:pt x="157" y="301"/>
                      </a:lnTo>
                      <a:lnTo>
                        <a:pt x="148" y="265"/>
                      </a:lnTo>
                      <a:lnTo>
                        <a:pt x="138" y="228"/>
                      </a:lnTo>
                      <a:lnTo>
                        <a:pt x="120" y="191"/>
                      </a:lnTo>
                      <a:lnTo>
                        <a:pt x="110" y="164"/>
                      </a:lnTo>
                      <a:lnTo>
                        <a:pt x="93" y="127"/>
                      </a:lnTo>
                      <a:lnTo>
                        <a:pt x="74" y="91"/>
                      </a:lnTo>
                      <a:lnTo>
                        <a:pt x="47" y="63"/>
                      </a:lnTo>
                      <a:lnTo>
                        <a:pt x="29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2057400" y="3124080"/>
                  <a:ext cx="2857680" cy="2792520"/>
                </a:xfrm>
                <a:custGeom>
                  <a:avLst/>
                  <a:gdLst/>
                  <a:ahLst/>
                  <a:rect l="l" t="t" r="r" b="b"/>
                  <a:pathLst>
                    <a:path w="7148" h="6992">
                      <a:moveTo>
                        <a:pt x="3606" y="74"/>
                      </a:moveTo>
                      <a:lnTo>
                        <a:pt x="3624" y="92"/>
                      </a:lnTo>
                      <a:lnTo>
                        <a:pt x="3634" y="101"/>
                      </a:lnTo>
                      <a:lnTo>
                        <a:pt x="3642" y="119"/>
                      </a:lnTo>
                      <a:lnTo>
                        <a:pt x="3651" y="139"/>
                      </a:lnTo>
                      <a:lnTo>
                        <a:pt x="3651" y="156"/>
                      </a:lnTo>
                      <a:lnTo>
                        <a:pt x="3651" y="174"/>
                      </a:lnTo>
                      <a:lnTo>
                        <a:pt x="3651" y="202"/>
                      </a:lnTo>
                      <a:lnTo>
                        <a:pt x="3651" y="220"/>
                      </a:lnTo>
                      <a:lnTo>
                        <a:pt x="3651" y="238"/>
                      </a:lnTo>
                      <a:lnTo>
                        <a:pt x="3651" y="257"/>
                      </a:lnTo>
                      <a:lnTo>
                        <a:pt x="3642" y="276"/>
                      </a:lnTo>
                      <a:lnTo>
                        <a:pt x="3642" y="294"/>
                      </a:lnTo>
                      <a:lnTo>
                        <a:pt x="3634" y="312"/>
                      </a:lnTo>
                      <a:lnTo>
                        <a:pt x="3634" y="339"/>
                      </a:lnTo>
                      <a:lnTo>
                        <a:pt x="3624" y="358"/>
                      </a:lnTo>
                      <a:lnTo>
                        <a:pt x="3624" y="375"/>
                      </a:lnTo>
                      <a:lnTo>
                        <a:pt x="3606" y="413"/>
                      </a:lnTo>
                      <a:lnTo>
                        <a:pt x="3578" y="450"/>
                      </a:lnTo>
                      <a:lnTo>
                        <a:pt x="3559" y="485"/>
                      </a:lnTo>
                      <a:lnTo>
                        <a:pt x="3532" y="513"/>
                      </a:lnTo>
                      <a:lnTo>
                        <a:pt x="3505" y="550"/>
                      </a:lnTo>
                      <a:lnTo>
                        <a:pt x="3469" y="587"/>
                      </a:lnTo>
                      <a:lnTo>
                        <a:pt x="3441" y="614"/>
                      </a:lnTo>
                      <a:lnTo>
                        <a:pt x="3404" y="642"/>
                      </a:lnTo>
                      <a:lnTo>
                        <a:pt x="3377" y="670"/>
                      </a:lnTo>
                      <a:lnTo>
                        <a:pt x="3340" y="697"/>
                      </a:lnTo>
                      <a:lnTo>
                        <a:pt x="3304" y="715"/>
                      </a:lnTo>
                      <a:lnTo>
                        <a:pt x="3267" y="734"/>
                      </a:lnTo>
                      <a:lnTo>
                        <a:pt x="3230" y="751"/>
                      </a:lnTo>
                      <a:lnTo>
                        <a:pt x="3194" y="769"/>
                      </a:lnTo>
                      <a:lnTo>
                        <a:pt x="3157" y="789"/>
                      </a:lnTo>
                      <a:lnTo>
                        <a:pt x="3112" y="798"/>
                      </a:lnTo>
                      <a:lnTo>
                        <a:pt x="3093" y="807"/>
                      </a:lnTo>
                      <a:lnTo>
                        <a:pt x="3075" y="816"/>
                      </a:lnTo>
                      <a:lnTo>
                        <a:pt x="3057" y="825"/>
                      </a:lnTo>
                      <a:lnTo>
                        <a:pt x="3038" y="825"/>
                      </a:lnTo>
                      <a:lnTo>
                        <a:pt x="3020" y="834"/>
                      </a:lnTo>
                      <a:lnTo>
                        <a:pt x="3002" y="844"/>
                      </a:lnTo>
                      <a:lnTo>
                        <a:pt x="2983" y="852"/>
                      </a:lnTo>
                      <a:lnTo>
                        <a:pt x="2965" y="852"/>
                      </a:lnTo>
                      <a:lnTo>
                        <a:pt x="2948" y="861"/>
                      </a:lnTo>
                      <a:lnTo>
                        <a:pt x="2928" y="871"/>
                      </a:lnTo>
                      <a:lnTo>
                        <a:pt x="2919" y="879"/>
                      </a:lnTo>
                      <a:lnTo>
                        <a:pt x="2900" y="889"/>
                      </a:lnTo>
                      <a:lnTo>
                        <a:pt x="2883" y="898"/>
                      </a:lnTo>
                      <a:lnTo>
                        <a:pt x="2865" y="907"/>
                      </a:lnTo>
                      <a:lnTo>
                        <a:pt x="2846" y="926"/>
                      </a:lnTo>
                      <a:lnTo>
                        <a:pt x="2838" y="936"/>
                      </a:lnTo>
                      <a:lnTo>
                        <a:pt x="2819" y="954"/>
                      </a:lnTo>
                      <a:lnTo>
                        <a:pt x="2810" y="963"/>
                      </a:lnTo>
                      <a:lnTo>
                        <a:pt x="2791" y="971"/>
                      </a:lnTo>
                      <a:lnTo>
                        <a:pt x="2782" y="990"/>
                      </a:lnTo>
                      <a:lnTo>
                        <a:pt x="2773" y="999"/>
                      </a:lnTo>
                      <a:lnTo>
                        <a:pt x="2763" y="1017"/>
                      </a:lnTo>
                      <a:lnTo>
                        <a:pt x="2745" y="1026"/>
                      </a:lnTo>
                      <a:lnTo>
                        <a:pt x="2736" y="1035"/>
                      </a:lnTo>
                      <a:lnTo>
                        <a:pt x="2728" y="1054"/>
                      </a:lnTo>
                      <a:lnTo>
                        <a:pt x="2718" y="1064"/>
                      </a:lnTo>
                      <a:lnTo>
                        <a:pt x="2709" y="1081"/>
                      </a:lnTo>
                      <a:lnTo>
                        <a:pt x="2700" y="1091"/>
                      </a:lnTo>
                      <a:lnTo>
                        <a:pt x="2681" y="1109"/>
                      </a:lnTo>
                      <a:lnTo>
                        <a:pt x="2673" y="1118"/>
                      </a:lnTo>
                      <a:lnTo>
                        <a:pt x="2663" y="1136"/>
                      </a:lnTo>
                      <a:lnTo>
                        <a:pt x="2653" y="1145"/>
                      </a:lnTo>
                      <a:lnTo>
                        <a:pt x="2653" y="1155"/>
                      </a:lnTo>
                      <a:lnTo>
                        <a:pt x="2653" y="1163"/>
                      </a:lnTo>
                      <a:lnTo>
                        <a:pt x="2653" y="1173"/>
                      </a:lnTo>
                      <a:lnTo>
                        <a:pt x="2653" y="1183"/>
                      </a:lnTo>
                      <a:lnTo>
                        <a:pt x="2663" y="1192"/>
                      </a:lnTo>
                      <a:lnTo>
                        <a:pt x="2673" y="1192"/>
                      </a:lnTo>
                      <a:lnTo>
                        <a:pt x="2681" y="1192"/>
                      </a:lnTo>
                      <a:lnTo>
                        <a:pt x="2681" y="1201"/>
                      </a:lnTo>
                      <a:lnTo>
                        <a:pt x="2900" y="1247"/>
                      </a:lnTo>
                      <a:lnTo>
                        <a:pt x="2919" y="1247"/>
                      </a:lnTo>
                      <a:lnTo>
                        <a:pt x="2928" y="1237"/>
                      </a:lnTo>
                      <a:lnTo>
                        <a:pt x="2948" y="1237"/>
                      </a:lnTo>
                      <a:lnTo>
                        <a:pt x="2956" y="1237"/>
                      </a:lnTo>
                      <a:lnTo>
                        <a:pt x="2975" y="1237"/>
                      </a:lnTo>
                      <a:lnTo>
                        <a:pt x="2983" y="1237"/>
                      </a:lnTo>
                      <a:lnTo>
                        <a:pt x="2993" y="1247"/>
                      </a:lnTo>
                      <a:lnTo>
                        <a:pt x="3010" y="1247"/>
                      </a:lnTo>
                      <a:lnTo>
                        <a:pt x="3020" y="1247"/>
                      </a:lnTo>
                      <a:lnTo>
                        <a:pt x="3038" y="1247"/>
                      </a:lnTo>
                      <a:lnTo>
                        <a:pt x="3047" y="1247"/>
                      </a:lnTo>
                      <a:lnTo>
                        <a:pt x="3066" y="1255"/>
                      </a:lnTo>
                      <a:lnTo>
                        <a:pt x="3075" y="1255"/>
                      </a:lnTo>
                      <a:lnTo>
                        <a:pt x="3085" y="1255"/>
                      </a:lnTo>
                      <a:lnTo>
                        <a:pt x="3103" y="1255"/>
                      </a:lnTo>
                      <a:lnTo>
                        <a:pt x="3112" y="1255"/>
                      </a:lnTo>
                      <a:lnTo>
                        <a:pt x="3166" y="1255"/>
                      </a:lnTo>
                      <a:lnTo>
                        <a:pt x="3213" y="1247"/>
                      </a:lnTo>
                      <a:lnTo>
                        <a:pt x="3258" y="1247"/>
                      </a:lnTo>
                      <a:lnTo>
                        <a:pt x="3312" y="1247"/>
                      </a:lnTo>
                      <a:lnTo>
                        <a:pt x="3359" y="1247"/>
                      </a:lnTo>
                      <a:lnTo>
                        <a:pt x="3404" y="1247"/>
                      </a:lnTo>
                      <a:lnTo>
                        <a:pt x="3460" y="1247"/>
                      </a:lnTo>
                      <a:lnTo>
                        <a:pt x="3505" y="1247"/>
                      </a:lnTo>
                      <a:lnTo>
                        <a:pt x="3559" y="1247"/>
                      </a:lnTo>
                      <a:lnTo>
                        <a:pt x="3606" y="1247"/>
                      </a:lnTo>
                      <a:lnTo>
                        <a:pt x="3661" y="1247"/>
                      </a:lnTo>
                      <a:lnTo>
                        <a:pt x="3706" y="1247"/>
                      </a:lnTo>
                      <a:lnTo>
                        <a:pt x="3752" y="1247"/>
                      </a:lnTo>
                      <a:lnTo>
                        <a:pt x="3807" y="1247"/>
                      </a:lnTo>
                      <a:lnTo>
                        <a:pt x="3853" y="1255"/>
                      </a:lnTo>
                      <a:lnTo>
                        <a:pt x="3908" y="1255"/>
                      </a:lnTo>
                      <a:lnTo>
                        <a:pt x="3971" y="1255"/>
                      </a:lnTo>
                      <a:lnTo>
                        <a:pt x="4036" y="1255"/>
                      </a:lnTo>
                      <a:lnTo>
                        <a:pt x="4090" y="1247"/>
                      </a:lnTo>
                      <a:lnTo>
                        <a:pt x="4155" y="1247"/>
                      </a:lnTo>
                      <a:lnTo>
                        <a:pt x="4218" y="1247"/>
                      </a:lnTo>
                      <a:lnTo>
                        <a:pt x="4283" y="1247"/>
                      </a:lnTo>
                      <a:lnTo>
                        <a:pt x="4347" y="1247"/>
                      </a:lnTo>
                      <a:lnTo>
                        <a:pt x="4411" y="1247"/>
                      </a:lnTo>
                      <a:lnTo>
                        <a:pt x="4475" y="1237"/>
                      </a:lnTo>
                      <a:lnTo>
                        <a:pt x="4540" y="1237"/>
                      </a:lnTo>
                      <a:lnTo>
                        <a:pt x="4594" y="1237"/>
                      </a:lnTo>
                      <a:lnTo>
                        <a:pt x="4658" y="1237"/>
                      </a:lnTo>
                      <a:lnTo>
                        <a:pt x="4722" y="1237"/>
                      </a:lnTo>
                      <a:lnTo>
                        <a:pt x="4787" y="1237"/>
                      </a:lnTo>
                      <a:lnTo>
                        <a:pt x="4841" y="1237"/>
                      </a:lnTo>
                      <a:lnTo>
                        <a:pt x="4905" y="1237"/>
                      </a:lnTo>
                      <a:lnTo>
                        <a:pt x="5903" y="1201"/>
                      </a:lnTo>
                      <a:lnTo>
                        <a:pt x="5912" y="1201"/>
                      </a:lnTo>
                      <a:lnTo>
                        <a:pt x="5912" y="1210"/>
                      </a:lnTo>
                      <a:lnTo>
                        <a:pt x="5920" y="1210"/>
                      </a:lnTo>
                      <a:lnTo>
                        <a:pt x="5930" y="1220"/>
                      </a:lnTo>
                      <a:lnTo>
                        <a:pt x="5938" y="1220"/>
                      </a:lnTo>
                      <a:lnTo>
                        <a:pt x="5938" y="1228"/>
                      </a:lnTo>
                      <a:lnTo>
                        <a:pt x="5948" y="1228"/>
                      </a:lnTo>
                      <a:lnTo>
                        <a:pt x="5948" y="1237"/>
                      </a:lnTo>
                      <a:lnTo>
                        <a:pt x="5958" y="1237"/>
                      </a:lnTo>
                      <a:lnTo>
                        <a:pt x="5958" y="1247"/>
                      </a:lnTo>
                      <a:lnTo>
                        <a:pt x="5968" y="1247"/>
                      </a:lnTo>
                      <a:lnTo>
                        <a:pt x="6003" y="1247"/>
                      </a:lnTo>
                      <a:lnTo>
                        <a:pt x="6048" y="1247"/>
                      </a:lnTo>
                      <a:lnTo>
                        <a:pt x="6086" y="1255"/>
                      </a:lnTo>
                      <a:lnTo>
                        <a:pt x="6123" y="1255"/>
                      </a:lnTo>
                      <a:lnTo>
                        <a:pt x="6168" y="1255"/>
                      </a:lnTo>
                      <a:lnTo>
                        <a:pt x="6204" y="1255"/>
                      </a:lnTo>
                      <a:lnTo>
                        <a:pt x="6242" y="1255"/>
                      </a:lnTo>
                      <a:lnTo>
                        <a:pt x="6287" y="1255"/>
                      </a:lnTo>
                      <a:lnTo>
                        <a:pt x="6324" y="1255"/>
                      </a:lnTo>
                      <a:lnTo>
                        <a:pt x="6360" y="1247"/>
                      </a:lnTo>
                      <a:lnTo>
                        <a:pt x="6405" y="1247"/>
                      </a:lnTo>
                      <a:lnTo>
                        <a:pt x="6442" y="1247"/>
                      </a:lnTo>
                      <a:lnTo>
                        <a:pt x="6489" y="1247"/>
                      </a:lnTo>
                      <a:lnTo>
                        <a:pt x="6525" y="1247"/>
                      </a:lnTo>
                      <a:lnTo>
                        <a:pt x="6561" y="1247"/>
                      </a:lnTo>
                      <a:lnTo>
                        <a:pt x="6607" y="1247"/>
                      </a:lnTo>
                      <a:lnTo>
                        <a:pt x="6626" y="1247"/>
                      </a:lnTo>
                      <a:lnTo>
                        <a:pt x="6654" y="1247"/>
                      </a:lnTo>
                      <a:lnTo>
                        <a:pt x="6681" y="1255"/>
                      </a:lnTo>
                      <a:lnTo>
                        <a:pt x="6707" y="1265"/>
                      </a:lnTo>
                      <a:lnTo>
                        <a:pt x="6726" y="1274"/>
                      </a:lnTo>
                      <a:lnTo>
                        <a:pt x="6754" y="1283"/>
                      </a:lnTo>
                      <a:lnTo>
                        <a:pt x="6772" y="1292"/>
                      </a:lnTo>
                      <a:lnTo>
                        <a:pt x="6799" y="1302"/>
                      </a:lnTo>
                      <a:lnTo>
                        <a:pt x="6817" y="1310"/>
                      </a:lnTo>
                      <a:lnTo>
                        <a:pt x="6844" y="1330"/>
                      </a:lnTo>
                      <a:lnTo>
                        <a:pt x="6863" y="1338"/>
                      </a:lnTo>
                      <a:lnTo>
                        <a:pt x="6891" y="1347"/>
                      </a:lnTo>
                      <a:lnTo>
                        <a:pt x="6909" y="1357"/>
                      </a:lnTo>
                      <a:lnTo>
                        <a:pt x="6927" y="1375"/>
                      </a:lnTo>
                      <a:lnTo>
                        <a:pt x="6954" y="1384"/>
                      </a:lnTo>
                      <a:lnTo>
                        <a:pt x="6982" y="1393"/>
                      </a:lnTo>
                      <a:lnTo>
                        <a:pt x="6991" y="1393"/>
                      </a:lnTo>
                      <a:lnTo>
                        <a:pt x="7001" y="1402"/>
                      </a:lnTo>
                      <a:lnTo>
                        <a:pt x="7019" y="1411"/>
                      </a:lnTo>
                      <a:lnTo>
                        <a:pt x="7029" y="1411"/>
                      </a:lnTo>
                      <a:lnTo>
                        <a:pt x="7046" y="1420"/>
                      </a:lnTo>
                      <a:lnTo>
                        <a:pt x="7056" y="1429"/>
                      </a:lnTo>
                      <a:lnTo>
                        <a:pt x="7074" y="1439"/>
                      </a:lnTo>
                      <a:lnTo>
                        <a:pt x="7083" y="1449"/>
                      </a:lnTo>
                      <a:lnTo>
                        <a:pt x="7093" y="1457"/>
                      </a:lnTo>
                      <a:lnTo>
                        <a:pt x="7110" y="1467"/>
                      </a:lnTo>
                      <a:lnTo>
                        <a:pt x="7119" y="1476"/>
                      </a:lnTo>
                      <a:lnTo>
                        <a:pt x="7129" y="1485"/>
                      </a:lnTo>
                      <a:lnTo>
                        <a:pt x="7138" y="1503"/>
                      </a:lnTo>
                      <a:lnTo>
                        <a:pt x="7138" y="1512"/>
                      </a:lnTo>
                      <a:lnTo>
                        <a:pt x="7148" y="1531"/>
                      </a:lnTo>
                      <a:lnTo>
                        <a:pt x="7148" y="1539"/>
                      </a:lnTo>
                      <a:lnTo>
                        <a:pt x="7148" y="1549"/>
                      </a:lnTo>
                      <a:lnTo>
                        <a:pt x="7148" y="1558"/>
                      </a:lnTo>
                      <a:lnTo>
                        <a:pt x="7148" y="1567"/>
                      </a:lnTo>
                      <a:lnTo>
                        <a:pt x="7138" y="1567"/>
                      </a:lnTo>
                      <a:lnTo>
                        <a:pt x="7138" y="1577"/>
                      </a:lnTo>
                      <a:lnTo>
                        <a:pt x="7138" y="1586"/>
                      </a:lnTo>
                      <a:lnTo>
                        <a:pt x="7129" y="1586"/>
                      </a:lnTo>
                      <a:lnTo>
                        <a:pt x="7119" y="1595"/>
                      </a:lnTo>
                      <a:lnTo>
                        <a:pt x="7110" y="1595"/>
                      </a:lnTo>
                      <a:lnTo>
                        <a:pt x="7083" y="1595"/>
                      </a:lnTo>
                      <a:lnTo>
                        <a:pt x="7056" y="1595"/>
                      </a:lnTo>
                      <a:lnTo>
                        <a:pt x="7038" y="1595"/>
                      </a:lnTo>
                      <a:lnTo>
                        <a:pt x="7011" y="1595"/>
                      </a:lnTo>
                      <a:lnTo>
                        <a:pt x="6982" y="1595"/>
                      </a:lnTo>
                      <a:lnTo>
                        <a:pt x="6954" y="1586"/>
                      </a:lnTo>
                      <a:lnTo>
                        <a:pt x="6927" y="1586"/>
                      </a:lnTo>
                      <a:lnTo>
                        <a:pt x="6909" y="1577"/>
                      </a:lnTo>
                      <a:lnTo>
                        <a:pt x="6882" y="1567"/>
                      </a:lnTo>
                      <a:lnTo>
                        <a:pt x="6854" y="1567"/>
                      </a:lnTo>
                      <a:lnTo>
                        <a:pt x="6836" y="1558"/>
                      </a:lnTo>
                      <a:lnTo>
                        <a:pt x="6809" y="1549"/>
                      </a:lnTo>
                      <a:lnTo>
                        <a:pt x="6781" y="1539"/>
                      </a:lnTo>
                      <a:lnTo>
                        <a:pt x="6764" y="1539"/>
                      </a:lnTo>
                      <a:lnTo>
                        <a:pt x="6736" y="1531"/>
                      </a:lnTo>
                      <a:lnTo>
                        <a:pt x="6707" y="1521"/>
                      </a:lnTo>
                      <a:lnTo>
                        <a:pt x="6699" y="1521"/>
                      </a:lnTo>
                      <a:lnTo>
                        <a:pt x="6689" y="1521"/>
                      </a:lnTo>
                      <a:lnTo>
                        <a:pt x="6681" y="1512"/>
                      </a:lnTo>
                      <a:lnTo>
                        <a:pt x="6671" y="1512"/>
                      </a:lnTo>
                      <a:lnTo>
                        <a:pt x="6671" y="1503"/>
                      </a:lnTo>
                      <a:lnTo>
                        <a:pt x="6662" y="1503"/>
                      </a:lnTo>
                      <a:lnTo>
                        <a:pt x="6654" y="1503"/>
                      </a:lnTo>
                      <a:lnTo>
                        <a:pt x="6644" y="1494"/>
                      </a:lnTo>
                      <a:lnTo>
                        <a:pt x="6635" y="1494"/>
                      </a:lnTo>
                      <a:lnTo>
                        <a:pt x="6626" y="1494"/>
                      </a:lnTo>
                      <a:lnTo>
                        <a:pt x="6617" y="1485"/>
                      </a:lnTo>
                      <a:lnTo>
                        <a:pt x="6607" y="1485"/>
                      </a:lnTo>
                      <a:lnTo>
                        <a:pt x="6597" y="1476"/>
                      </a:lnTo>
                      <a:lnTo>
                        <a:pt x="6589" y="1476"/>
                      </a:lnTo>
                      <a:lnTo>
                        <a:pt x="6579" y="1476"/>
                      </a:lnTo>
                      <a:lnTo>
                        <a:pt x="6570" y="1467"/>
                      </a:lnTo>
                      <a:lnTo>
                        <a:pt x="6552" y="1457"/>
                      </a:lnTo>
                      <a:lnTo>
                        <a:pt x="6534" y="1457"/>
                      </a:lnTo>
                      <a:lnTo>
                        <a:pt x="6515" y="1457"/>
                      </a:lnTo>
                      <a:lnTo>
                        <a:pt x="6498" y="1457"/>
                      </a:lnTo>
                      <a:lnTo>
                        <a:pt x="6470" y="1457"/>
                      </a:lnTo>
                      <a:lnTo>
                        <a:pt x="6379" y="1449"/>
                      </a:lnTo>
                      <a:lnTo>
                        <a:pt x="6295" y="1439"/>
                      </a:lnTo>
                      <a:lnTo>
                        <a:pt x="6214" y="1439"/>
                      </a:lnTo>
                      <a:lnTo>
                        <a:pt x="6132" y="1439"/>
                      </a:lnTo>
                      <a:lnTo>
                        <a:pt x="6040" y="1439"/>
                      </a:lnTo>
                      <a:lnTo>
                        <a:pt x="6013" y="1449"/>
                      </a:lnTo>
                      <a:lnTo>
                        <a:pt x="6013" y="1457"/>
                      </a:lnTo>
                      <a:lnTo>
                        <a:pt x="6003" y="1467"/>
                      </a:lnTo>
                      <a:lnTo>
                        <a:pt x="6003" y="1476"/>
                      </a:lnTo>
                      <a:lnTo>
                        <a:pt x="5995" y="1485"/>
                      </a:lnTo>
                      <a:lnTo>
                        <a:pt x="5995" y="1531"/>
                      </a:lnTo>
                      <a:lnTo>
                        <a:pt x="5985" y="1577"/>
                      </a:lnTo>
                      <a:lnTo>
                        <a:pt x="5976" y="1622"/>
                      </a:lnTo>
                      <a:lnTo>
                        <a:pt x="5958" y="1668"/>
                      </a:lnTo>
                      <a:lnTo>
                        <a:pt x="5948" y="1705"/>
                      </a:lnTo>
                      <a:lnTo>
                        <a:pt x="5948" y="1723"/>
                      </a:lnTo>
                      <a:lnTo>
                        <a:pt x="5958" y="1778"/>
                      </a:lnTo>
                      <a:lnTo>
                        <a:pt x="5948" y="1823"/>
                      </a:lnTo>
                      <a:lnTo>
                        <a:pt x="5938" y="1879"/>
                      </a:lnTo>
                      <a:lnTo>
                        <a:pt x="5930" y="1925"/>
                      </a:lnTo>
                      <a:lnTo>
                        <a:pt x="5912" y="1980"/>
                      </a:lnTo>
                      <a:lnTo>
                        <a:pt x="5912" y="1998"/>
                      </a:lnTo>
                      <a:lnTo>
                        <a:pt x="5912" y="2017"/>
                      </a:lnTo>
                      <a:lnTo>
                        <a:pt x="5912" y="2044"/>
                      </a:lnTo>
                      <a:lnTo>
                        <a:pt x="5903" y="2062"/>
                      </a:lnTo>
                      <a:lnTo>
                        <a:pt x="5893" y="2080"/>
                      </a:lnTo>
                      <a:lnTo>
                        <a:pt x="5885" y="2099"/>
                      </a:lnTo>
                      <a:lnTo>
                        <a:pt x="5885" y="2108"/>
                      </a:lnTo>
                      <a:lnTo>
                        <a:pt x="5858" y="2127"/>
                      </a:lnTo>
                      <a:lnTo>
                        <a:pt x="5830" y="2135"/>
                      </a:lnTo>
                      <a:lnTo>
                        <a:pt x="5793" y="2135"/>
                      </a:lnTo>
                      <a:lnTo>
                        <a:pt x="5765" y="2135"/>
                      </a:lnTo>
                      <a:lnTo>
                        <a:pt x="5738" y="2127"/>
                      </a:lnTo>
                      <a:lnTo>
                        <a:pt x="5729" y="2127"/>
                      </a:lnTo>
                      <a:lnTo>
                        <a:pt x="5646" y="2127"/>
                      </a:lnTo>
                      <a:lnTo>
                        <a:pt x="5564" y="2135"/>
                      </a:lnTo>
                      <a:lnTo>
                        <a:pt x="5482" y="2135"/>
                      </a:lnTo>
                      <a:lnTo>
                        <a:pt x="5399" y="2145"/>
                      </a:lnTo>
                      <a:lnTo>
                        <a:pt x="5317" y="2145"/>
                      </a:lnTo>
                      <a:lnTo>
                        <a:pt x="5289" y="2154"/>
                      </a:lnTo>
                      <a:lnTo>
                        <a:pt x="5152" y="2172"/>
                      </a:lnTo>
                      <a:lnTo>
                        <a:pt x="5014" y="2191"/>
                      </a:lnTo>
                      <a:lnTo>
                        <a:pt x="4887" y="2218"/>
                      </a:lnTo>
                      <a:lnTo>
                        <a:pt x="4749" y="2237"/>
                      </a:lnTo>
                      <a:lnTo>
                        <a:pt x="4622" y="2273"/>
                      </a:lnTo>
                      <a:lnTo>
                        <a:pt x="4575" y="2282"/>
                      </a:lnTo>
                      <a:lnTo>
                        <a:pt x="4540" y="2291"/>
                      </a:lnTo>
                      <a:lnTo>
                        <a:pt x="4503" y="2301"/>
                      </a:lnTo>
                      <a:lnTo>
                        <a:pt x="4457" y="2301"/>
                      </a:lnTo>
                      <a:lnTo>
                        <a:pt x="4420" y="2309"/>
                      </a:lnTo>
                      <a:lnTo>
                        <a:pt x="4375" y="2318"/>
                      </a:lnTo>
                      <a:lnTo>
                        <a:pt x="4365" y="2328"/>
                      </a:lnTo>
                      <a:lnTo>
                        <a:pt x="4328" y="2336"/>
                      </a:lnTo>
                      <a:lnTo>
                        <a:pt x="4293" y="2336"/>
                      </a:lnTo>
                      <a:lnTo>
                        <a:pt x="4265" y="2346"/>
                      </a:lnTo>
                      <a:lnTo>
                        <a:pt x="4228" y="2355"/>
                      </a:lnTo>
                      <a:lnTo>
                        <a:pt x="4191" y="2374"/>
                      </a:lnTo>
                      <a:lnTo>
                        <a:pt x="4183" y="2374"/>
                      </a:lnTo>
                      <a:lnTo>
                        <a:pt x="4164" y="2383"/>
                      </a:lnTo>
                      <a:lnTo>
                        <a:pt x="4146" y="2383"/>
                      </a:lnTo>
                      <a:lnTo>
                        <a:pt x="4136" y="2392"/>
                      </a:lnTo>
                      <a:lnTo>
                        <a:pt x="4119" y="2392"/>
                      </a:lnTo>
                      <a:lnTo>
                        <a:pt x="4100" y="2401"/>
                      </a:lnTo>
                      <a:lnTo>
                        <a:pt x="4090" y="2401"/>
                      </a:lnTo>
                      <a:lnTo>
                        <a:pt x="4081" y="2419"/>
                      </a:lnTo>
                      <a:lnTo>
                        <a:pt x="4128" y="2584"/>
                      </a:lnTo>
                      <a:lnTo>
                        <a:pt x="4164" y="2759"/>
                      </a:lnTo>
                      <a:lnTo>
                        <a:pt x="4191" y="2924"/>
                      </a:lnTo>
                      <a:lnTo>
                        <a:pt x="4218" y="3098"/>
                      </a:lnTo>
                      <a:lnTo>
                        <a:pt x="4228" y="3281"/>
                      </a:lnTo>
                      <a:lnTo>
                        <a:pt x="4228" y="3336"/>
                      </a:lnTo>
                      <a:lnTo>
                        <a:pt x="4228" y="3793"/>
                      </a:lnTo>
                      <a:lnTo>
                        <a:pt x="4218" y="3950"/>
                      </a:lnTo>
                      <a:lnTo>
                        <a:pt x="4200" y="4115"/>
                      </a:lnTo>
                      <a:lnTo>
                        <a:pt x="4191" y="4271"/>
                      </a:lnTo>
                      <a:lnTo>
                        <a:pt x="4173" y="4426"/>
                      </a:lnTo>
                      <a:lnTo>
                        <a:pt x="4136" y="4582"/>
                      </a:lnTo>
                      <a:lnTo>
                        <a:pt x="4128" y="4628"/>
                      </a:lnTo>
                      <a:lnTo>
                        <a:pt x="4073" y="4811"/>
                      </a:lnTo>
                      <a:lnTo>
                        <a:pt x="4018" y="4995"/>
                      </a:lnTo>
                      <a:lnTo>
                        <a:pt x="3953" y="5169"/>
                      </a:lnTo>
                      <a:lnTo>
                        <a:pt x="3881" y="5352"/>
                      </a:lnTo>
                      <a:lnTo>
                        <a:pt x="3816" y="5527"/>
                      </a:lnTo>
                      <a:lnTo>
                        <a:pt x="3789" y="5581"/>
                      </a:lnTo>
                      <a:lnTo>
                        <a:pt x="3779" y="5599"/>
                      </a:lnTo>
                      <a:lnTo>
                        <a:pt x="3771" y="5617"/>
                      </a:lnTo>
                      <a:lnTo>
                        <a:pt x="3761" y="5636"/>
                      </a:lnTo>
                      <a:lnTo>
                        <a:pt x="3761" y="5654"/>
                      </a:lnTo>
                      <a:lnTo>
                        <a:pt x="3761" y="5672"/>
                      </a:lnTo>
                      <a:lnTo>
                        <a:pt x="3771" y="5682"/>
                      </a:lnTo>
                      <a:lnTo>
                        <a:pt x="3834" y="5764"/>
                      </a:lnTo>
                      <a:lnTo>
                        <a:pt x="3899" y="5856"/>
                      </a:lnTo>
                      <a:lnTo>
                        <a:pt x="3963" y="5948"/>
                      </a:lnTo>
                      <a:lnTo>
                        <a:pt x="3999" y="6040"/>
                      </a:lnTo>
                      <a:lnTo>
                        <a:pt x="4018" y="6149"/>
                      </a:lnTo>
                      <a:lnTo>
                        <a:pt x="4009" y="6187"/>
                      </a:lnTo>
                      <a:lnTo>
                        <a:pt x="3999" y="6222"/>
                      </a:lnTo>
                      <a:lnTo>
                        <a:pt x="3991" y="6250"/>
                      </a:lnTo>
                      <a:lnTo>
                        <a:pt x="3981" y="6277"/>
                      </a:lnTo>
                      <a:lnTo>
                        <a:pt x="3971" y="6305"/>
                      </a:lnTo>
                      <a:lnTo>
                        <a:pt x="3953" y="6332"/>
                      </a:lnTo>
                      <a:lnTo>
                        <a:pt x="3944" y="6342"/>
                      </a:lnTo>
                      <a:lnTo>
                        <a:pt x="3953" y="6369"/>
                      </a:lnTo>
                      <a:lnTo>
                        <a:pt x="3963" y="6387"/>
                      </a:lnTo>
                      <a:lnTo>
                        <a:pt x="3981" y="6396"/>
                      </a:lnTo>
                      <a:lnTo>
                        <a:pt x="4009" y="6406"/>
                      </a:lnTo>
                      <a:lnTo>
                        <a:pt x="4026" y="6424"/>
                      </a:lnTo>
                      <a:lnTo>
                        <a:pt x="4036" y="6433"/>
                      </a:lnTo>
                      <a:lnTo>
                        <a:pt x="4073" y="6488"/>
                      </a:lnTo>
                      <a:lnTo>
                        <a:pt x="4100" y="6543"/>
                      </a:lnTo>
                      <a:lnTo>
                        <a:pt x="4119" y="6598"/>
                      </a:lnTo>
                      <a:lnTo>
                        <a:pt x="4119" y="6662"/>
                      </a:lnTo>
                      <a:lnTo>
                        <a:pt x="4109" y="6727"/>
                      </a:lnTo>
                      <a:lnTo>
                        <a:pt x="4100" y="6745"/>
                      </a:lnTo>
                      <a:lnTo>
                        <a:pt x="4081" y="6772"/>
                      </a:lnTo>
                      <a:lnTo>
                        <a:pt x="4073" y="6809"/>
                      </a:lnTo>
                      <a:lnTo>
                        <a:pt x="4054" y="6837"/>
                      </a:lnTo>
                      <a:lnTo>
                        <a:pt x="4036" y="6864"/>
                      </a:lnTo>
                      <a:lnTo>
                        <a:pt x="4018" y="6900"/>
                      </a:lnTo>
                      <a:lnTo>
                        <a:pt x="4018" y="6909"/>
                      </a:lnTo>
                      <a:lnTo>
                        <a:pt x="4018" y="6919"/>
                      </a:lnTo>
                      <a:lnTo>
                        <a:pt x="4036" y="6919"/>
                      </a:lnTo>
                      <a:lnTo>
                        <a:pt x="4045" y="6927"/>
                      </a:lnTo>
                      <a:lnTo>
                        <a:pt x="4054" y="6927"/>
                      </a:lnTo>
                      <a:lnTo>
                        <a:pt x="4073" y="6927"/>
                      </a:lnTo>
                      <a:lnTo>
                        <a:pt x="4136" y="6927"/>
                      </a:lnTo>
                      <a:lnTo>
                        <a:pt x="4200" y="6937"/>
                      </a:lnTo>
                      <a:lnTo>
                        <a:pt x="4265" y="6937"/>
                      </a:lnTo>
                      <a:lnTo>
                        <a:pt x="4328" y="6937"/>
                      </a:lnTo>
                      <a:lnTo>
                        <a:pt x="4384" y="6946"/>
                      </a:lnTo>
                      <a:lnTo>
                        <a:pt x="4411" y="6946"/>
                      </a:lnTo>
                      <a:lnTo>
                        <a:pt x="4411" y="6955"/>
                      </a:lnTo>
                      <a:lnTo>
                        <a:pt x="4420" y="6965"/>
                      </a:lnTo>
                      <a:lnTo>
                        <a:pt x="4393" y="6984"/>
                      </a:lnTo>
                      <a:lnTo>
                        <a:pt x="4355" y="6992"/>
                      </a:lnTo>
                      <a:lnTo>
                        <a:pt x="4328" y="6992"/>
                      </a:lnTo>
                      <a:lnTo>
                        <a:pt x="4293" y="6992"/>
                      </a:lnTo>
                      <a:lnTo>
                        <a:pt x="4265" y="6992"/>
                      </a:lnTo>
                      <a:lnTo>
                        <a:pt x="4256" y="6992"/>
                      </a:lnTo>
                      <a:lnTo>
                        <a:pt x="4200" y="6992"/>
                      </a:lnTo>
                      <a:lnTo>
                        <a:pt x="4146" y="6992"/>
                      </a:lnTo>
                      <a:lnTo>
                        <a:pt x="4090" y="6992"/>
                      </a:lnTo>
                      <a:lnTo>
                        <a:pt x="4045" y="6984"/>
                      </a:lnTo>
                      <a:lnTo>
                        <a:pt x="3991" y="6974"/>
                      </a:lnTo>
                      <a:lnTo>
                        <a:pt x="3971" y="6974"/>
                      </a:lnTo>
                      <a:lnTo>
                        <a:pt x="3953" y="6946"/>
                      </a:lnTo>
                      <a:lnTo>
                        <a:pt x="3953" y="6919"/>
                      </a:lnTo>
                      <a:lnTo>
                        <a:pt x="3971" y="6892"/>
                      </a:lnTo>
                      <a:lnTo>
                        <a:pt x="3981" y="6864"/>
                      </a:lnTo>
                      <a:lnTo>
                        <a:pt x="3991" y="6837"/>
                      </a:lnTo>
                      <a:lnTo>
                        <a:pt x="3999" y="6827"/>
                      </a:lnTo>
                      <a:lnTo>
                        <a:pt x="4009" y="6763"/>
                      </a:lnTo>
                      <a:lnTo>
                        <a:pt x="4018" y="6708"/>
                      </a:lnTo>
                      <a:lnTo>
                        <a:pt x="4026" y="6653"/>
                      </a:lnTo>
                      <a:lnTo>
                        <a:pt x="4026" y="6598"/>
                      </a:lnTo>
                      <a:lnTo>
                        <a:pt x="4009" y="6543"/>
                      </a:lnTo>
                      <a:lnTo>
                        <a:pt x="3999" y="6525"/>
                      </a:lnTo>
                      <a:lnTo>
                        <a:pt x="3971" y="6498"/>
                      </a:lnTo>
                      <a:lnTo>
                        <a:pt x="3944" y="6479"/>
                      </a:lnTo>
                      <a:lnTo>
                        <a:pt x="3917" y="6488"/>
                      </a:lnTo>
                      <a:lnTo>
                        <a:pt x="3889" y="6488"/>
                      </a:lnTo>
                      <a:lnTo>
                        <a:pt x="3853" y="6498"/>
                      </a:lnTo>
                      <a:lnTo>
                        <a:pt x="3844" y="6498"/>
                      </a:lnTo>
                      <a:lnTo>
                        <a:pt x="3825" y="6516"/>
                      </a:lnTo>
                      <a:lnTo>
                        <a:pt x="3807" y="6525"/>
                      </a:lnTo>
                      <a:lnTo>
                        <a:pt x="3789" y="6543"/>
                      </a:lnTo>
                      <a:lnTo>
                        <a:pt x="3771" y="6561"/>
                      </a:lnTo>
                      <a:lnTo>
                        <a:pt x="3761" y="6580"/>
                      </a:lnTo>
                      <a:lnTo>
                        <a:pt x="3761" y="6589"/>
                      </a:lnTo>
                      <a:lnTo>
                        <a:pt x="3779" y="6643"/>
                      </a:lnTo>
                      <a:lnTo>
                        <a:pt x="3807" y="6700"/>
                      </a:lnTo>
                      <a:lnTo>
                        <a:pt x="3834" y="6754"/>
                      </a:lnTo>
                      <a:lnTo>
                        <a:pt x="3862" y="6799"/>
                      </a:lnTo>
                      <a:lnTo>
                        <a:pt x="3862" y="6864"/>
                      </a:lnTo>
                      <a:lnTo>
                        <a:pt x="3862" y="6892"/>
                      </a:lnTo>
                      <a:lnTo>
                        <a:pt x="3862" y="6900"/>
                      </a:lnTo>
                      <a:lnTo>
                        <a:pt x="3862" y="6919"/>
                      </a:lnTo>
                      <a:lnTo>
                        <a:pt x="3853" y="6937"/>
                      </a:lnTo>
                      <a:lnTo>
                        <a:pt x="3853" y="6955"/>
                      </a:lnTo>
                      <a:lnTo>
                        <a:pt x="3844" y="6965"/>
                      </a:lnTo>
                      <a:lnTo>
                        <a:pt x="3825" y="6955"/>
                      </a:lnTo>
                      <a:lnTo>
                        <a:pt x="3816" y="6946"/>
                      </a:lnTo>
                      <a:lnTo>
                        <a:pt x="3816" y="6927"/>
                      </a:lnTo>
                      <a:lnTo>
                        <a:pt x="3825" y="6909"/>
                      </a:lnTo>
                      <a:lnTo>
                        <a:pt x="3825" y="6892"/>
                      </a:lnTo>
                      <a:lnTo>
                        <a:pt x="3825" y="6882"/>
                      </a:lnTo>
                      <a:lnTo>
                        <a:pt x="3789" y="6818"/>
                      </a:lnTo>
                      <a:lnTo>
                        <a:pt x="3761" y="6745"/>
                      </a:lnTo>
                      <a:lnTo>
                        <a:pt x="3725" y="6680"/>
                      </a:lnTo>
                      <a:lnTo>
                        <a:pt x="3716" y="6608"/>
                      </a:lnTo>
                      <a:lnTo>
                        <a:pt x="3744" y="6533"/>
                      </a:lnTo>
                      <a:lnTo>
                        <a:pt x="3752" y="6506"/>
                      </a:lnTo>
                      <a:lnTo>
                        <a:pt x="3771" y="6498"/>
                      </a:lnTo>
                      <a:lnTo>
                        <a:pt x="3779" y="6479"/>
                      </a:lnTo>
                      <a:lnTo>
                        <a:pt x="3798" y="6461"/>
                      </a:lnTo>
                      <a:lnTo>
                        <a:pt x="3807" y="6452"/>
                      </a:lnTo>
                      <a:lnTo>
                        <a:pt x="3816" y="6433"/>
                      </a:lnTo>
                      <a:lnTo>
                        <a:pt x="3816" y="6424"/>
                      </a:lnTo>
                      <a:lnTo>
                        <a:pt x="3807" y="6396"/>
                      </a:lnTo>
                      <a:lnTo>
                        <a:pt x="3798" y="6360"/>
                      </a:lnTo>
                      <a:lnTo>
                        <a:pt x="3798" y="6332"/>
                      </a:lnTo>
                      <a:lnTo>
                        <a:pt x="3789" y="6296"/>
                      </a:lnTo>
                      <a:lnTo>
                        <a:pt x="3779" y="6268"/>
                      </a:lnTo>
                      <a:lnTo>
                        <a:pt x="3779" y="6259"/>
                      </a:lnTo>
                      <a:lnTo>
                        <a:pt x="3752" y="6232"/>
                      </a:lnTo>
                      <a:lnTo>
                        <a:pt x="3725" y="6195"/>
                      </a:lnTo>
                      <a:lnTo>
                        <a:pt x="3688" y="6157"/>
                      </a:lnTo>
                      <a:lnTo>
                        <a:pt x="3661" y="6130"/>
                      </a:lnTo>
                      <a:lnTo>
                        <a:pt x="3634" y="6094"/>
                      </a:lnTo>
                      <a:lnTo>
                        <a:pt x="3624" y="6085"/>
                      </a:lnTo>
                      <a:lnTo>
                        <a:pt x="3597" y="6085"/>
                      </a:lnTo>
                      <a:lnTo>
                        <a:pt x="3551" y="6122"/>
                      </a:lnTo>
                      <a:lnTo>
                        <a:pt x="3496" y="6157"/>
                      </a:lnTo>
                      <a:lnTo>
                        <a:pt x="3441" y="6187"/>
                      </a:lnTo>
                      <a:lnTo>
                        <a:pt x="3386" y="6214"/>
                      </a:lnTo>
                      <a:lnTo>
                        <a:pt x="3332" y="6250"/>
                      </a:lnTo>
                      <a:lnTo>
                        <a:pt x="3312" y="6259"/>
                      </a:lnTo>
                      <a:lnTo>
                        <a:pt x="3294" y="6277"/>
                      </a:lnTo>
                      <a:lnTo>
                        <a:pt x="3285" y="6296"/>
                      </a:lnTo>
                      <a:lnTo>
                        <a:pt x="3276" y="6314"/>
                      </a:lnTo>
                      <a:lnTo>
                        <a:pt x="3258" y="6332"/>
                      </a:lnTo>
                      <a:lnTo>
                        <a:pt x="3249" y="6351"/>
                      </a:lnTo>
                      <a:lnTo>
                        <a:pt x="3240" y="6360"/>
                      </a:lnTo>
                      <a:lnTo>
                        <a:pt x="3249" y="6360"/>
                      </a:lnTo>
                      <a:lnTo>
                        <a:pt x="3267" y="6369"/>
                      </a:lnTo>
                      <a:lnTo>
                        <a:pt x="3276" y="6369"/>
                      </a:lnTo>
                      <a:lnTo>
                        <a:pt x="3294" y="6378"/>
                      </a:lnTo>
                      <a:lnTo>
                        <a:pt x="3304" y="6378"/>
                      </a:lnTo>
                      <a:lnTo>
                        <a:pt x="3312" y="6387"/>
                      </a:lnTo>
                      <a:lnTo>
                        <a:pt x="3350" y="6414"/>
                      </a:lnTo>
                      <a:lnTo>
                        <a:pt x="3386" y="6442"/>
                      </a:lnTo>
                      <a:lnTo>
                        <a:pt x="3414" y="6488"/>
                      </a:lnTo>
                      <a:lnTo>
                        <a:pt x="3432" y="6525"/>
                      </a:lnTo>
                      <a:lnTo>
                        <a:pt x="3441" y="6571"/>
                      </a:lnTo>
                      <a:lnTo>
                        <a:pt x="3441" y="6589"/>
                      </a:lnTo>
                      <a:lnTo>
                        <a:pt x="3422" y="6616"/>
                      </a:lnTo>
                      <a:lnTo>
                        <a:pt x="3395" y="6643"/>
                      </a:lnTo>
                      <a:lnTo>
                        <a:pt x="3368" y="6662"/>
                      </a:lnTo>
                      <a:lnTo>
                        <a:pt x="3350" y="6680"/>
                      </a:lnTo>
                      <a:lnTo>
                        <a:pt x="3332" y="6718"/>
                      </a:lnTo>
                      <a:lnTo>
                        <a:pt x="3332" y="6727"/>
                      </a:lnTo>
                      <a:lnTo>
                        <a:pt x="3322" y="6763"/>
                      </a:lnTo>
                      <a:lnTo>
                        <a:pt x="3312" y="6799"/>
                      </a:lnTo>
                      <a:lnTo>
                        <a:pt x="3312" y="6837"/>
                      </a:lnTo>
                      <a:lnTo>
                        <a:pt x="3304" y="6873"/>
                      </a:lnTo>
                      <a:lnTo>
                        <a:pt x="3304" y="6909"/>
                      </a:lnTo>
                      <a:lnTo>
                        <a:pt x="3304" y="6927"/>
                      </a:lnTo>
                      <a:lnTo>
                        <a:pt x="3294" y="6927"/>
                      </a:lnTo>
                      <a:lnTo>
                        <a:pt x="3294" y="6937"/>
                      </a:lnTo>
                      <a:lnTo>
                        <a:pt x="3285" y="6937"/>
                      </a:lnTo>
                      <a:lnTo>
                        <a:pt x="3276" y="6937"/>
                      </a:lnTo>
                      <a:lnTo>
                        <a:pt x="3267" y="6937"/>
                      </a:lnTo>
                      <a:lnTo>
                        <a:pt x="3249" y="6909"/>
                      </a:lnTo>
                      <a:lnTo>
                        <a:pt x="3276" y="6846"/>
                      </a:lnTo>
                      <a:lnTo>
                        <a:pt x="3294" y="6790"/>
                      </a:lnTo>
                      <a:lnTo>
                        <a:pt x="3312" y="6727"/>
                      </a:lnTo>
                      <a:lnTo>
                        <a:pt x="3332" y="6671"/>
                      </a:lnTo>
                      <a:lnTo>
                        <a:pt x="3340" y="6608"/>
                      </a:lnTo>
                      <a:lnTo>
                        <a:pt x="3350" y="6589"/>
                      </a:lnTo>
                      <a:lnTo>
                        <a:pt x="3340" y="6552"/>
                      </a:lnTo>
                      <a:lnTo>
                        <a:pt x="3322" y="6516"/>
                      </a:lnTo>
                      <a:lnTo>
                        <a:pt x="3304" y="6479"/>
                      </a:lnTo>
                      <a:lnTo>
                        <a:pt x="3276" y="6452"/>
                      </a:lnTo>
                      <a:lnTo>
                        <a:pt x="3249" y="6424"/>
                      </a:lnTo>
                      <a:lnTo>
                        <a:pt x="3230" y="6414"/>
                      </a:lnTo>
                      <a:lnTo>
                        <a:pt x="3194" y="6414"/>
                      </a:lnTo>
                      <a:lnTo>
                        <a:pt x="3166" y="6424"/>
                      </a:lnTo>
                      <a:lnTo>
                        <a:pt x="3130" y="6433"/>
                      </a:lnTo>
                      <a:lnTo>
                        <a:pt x="3103" y="6452"/>
                      </a:lnTo>
                      <a:lnTo>
                        <a:pt x="3075" y="6479"/>
                      </a:lnTo>
                      <a:lnTo>
                        <a:pt x="3066" y="6488"/>
                      </a:lnTo>
                      <a:lnTo>
                        <a:pt x="3066" y="6498"/>
                      </a:lnTo>
                      <a:lnTo>
                        <a:pt x="3066" y="6543"/>
                      </a:lnTo>
                      <a:lnTo>
                        <a:pt x="3093" y="6608"/>
                      </a:lnTo>
                      <a:lnTo>
                        <a:pt x="3120" y="6671"/>
                      </a:lnTo>
                      <a:lnTo>
                        <a:pt x="3148" y="6736"/>
                      </a:lnTo>
                      <a:lnTo>
                        <a:pt x="3166" y="6809"/>
                      </a:lnTo>
                      <a:lnTo>
                        <a:pt x="3185" y="6882"/>
                      </a:lnTo>
                      <a:lnTo>
                        <a:pt x="3185" y="6909"/>
                      </a:lnTo>
                      <a:lnTo>
                        <a:pt x="3157" y="6955"/>
                      </a:lnTo>
                      <a:lnTo>
                        <a:pt x="3120" y="6965"/>
                      </a:lnTo>
                      <a:lnTo>
                        <a:pt x="3066" y="6965"/>
                      </a:lnTo>
                      <a:lnTo>
                        <a:pt x="3010" y="6965"/>
                      </a:lnTo>
                      <a:lnTo>
                        <a:pt x="2965" y="6955"/>
                      </a:lnTo>
                      <a:lnTo>
                        <a:pt x="2948" y="6965"/>
                      </a:lnTo>
                      <a:lnTo>
                        <a:pt x="2910" y="6955"/>
                      </a:lnTo>
                      <a:lnTo>
                        <a:pt x="2873" y="6955"/>
                      </a:lnTo>
                      <a:lnTo>
                        <a:pt x="2838" y="6955"/>
                      </a:lnTo>
                      <a:lnTo>
                        <a:pt x="2810" y="6955"/>
                      </a:lnTo>
                      <a:lnTo>
                        <a:pt x="2773" y="6955"/>
                      </a:lnTo>
                      <a:lnTo>
                        <a:pt x="2763" y="6955"/>
                      </a:lnTo>
                      <a:lnTo>
                        <a:pt x="2755" y="6955"/>
                      </a:lnTo>
                      <a:lnTo>
                        <a:pt x="2745" y="6946"/>
                      </a:lnTo>
                      <a:lnTo>
                        <a:pt x="2736" y="6946"/>
                      </a:lnTo>
                      <a:lnTo>
                        <a:pt x="2736" y="6937"/>
                      </a:lnTo>
                      <a:lnTo>
                        <a:pt x="2728" y="6927"/>
                      </a:lnTo>
                      <a:lnTo>
                        <a:pt x="2728" y="6909"/>
                      </a:lnTo>
                      <a:lnTo>
                        <a:pt x="2736" y="6909"/>
                      </a:lnTo>
                      <a:lnTo>
                        <a:pt x="2736" y="6900"/>
                      </a:lnTo>
                      <a:lnTo>
                        <a:pt x="2745" y="6900"/>
                      </a:lnTo>
                      <a:lnTo>
                        <a:pt x="2755" y="6892"/>
                      </a:lnTo>
                      <a:lnTo>
                        <a:pt x="2801" y="6892"/>
                      </a:lnTo>
                      <a:lnTo>
                        <a:pt x="2846" y="6892"/>
                      </a:lnTo>
                      <a:lnTo>
                        <a:pt x="2883" y="6892"/>
                      </a:lnTo>
                      <a:lnTo>
                        <a:pt x="2928" y="6892"/>
                      </a:lnTo>
                      <a:lnTo>
                        <a:pt x="2965" y="6882"/>
                      </a:lnTo>
                      <a:lnTo>
                        <a:pt x="2983" y="6882"/>
                      </a:lnTo>
                      <a:lnTo>
                        <a:pt x="3010" y="6827"/>
                      </a:lnTo>
                      <a:lnTo>
                        <a:pt x="3010" y="6772"/>
                      </a:lnTo>
                      <a:lnTo>
                        <a:pt x="3002" y="6708"/>
                      </a:lnTo>
                      <a:lnTo>
                        <a:pt x="2993" y="6653"/>
                      </a:lnTo>
                      <a:lnTo>
                        <a:pt x="2983" y="6589"/>
                      </a:lnTo>
                      <a:lnTo>
                        <a:pt x="2983" y="6571"/>
                      </a:lnTo>
                      <a:lnTo>
                        <a:pt x="2993" y="6506"/>
                      </a:lnTo>
                      <a:lnTo>
                        <a:pt x="3020" y="6452"/>
                      </a:lnTo>
                      <a:lnTo>
                        <a:pt x="3066" y="6414"/>
                      </a:lnTo>
                      <a:lnTo>
                        <a:pt x="3120" y="6378"/>
                      </a:lnTo>
                      <a:lnTo>
                        <a:pt x="3166" y="6351"/>
                      </a:lnTo>
                      <a:lnTo>
                        <a:pt x="3185" y="6342"/>
                      </a:lnTo>
                      <a:lnTo>
                        <a:pt x="3230" y="6259"/>
                      </a:lnTo>
                      <a:lnTo>
                        <a:pt x="3276" y="6187"/>
                      </a:lnTo>
                      <a:lnTo>
                        <a:pt x="3322" y="6112"/>
                      </a:lnTo>
                      <a:lnTo>
                        <a:pt x="3377" y="6040"/>
                      </a:lnTo>
                      <a:lnTo>
                        <a:pt x="3414" y="5966"/>
                      </a:lnTo>
                      <a:lnTo>
                        <a:pt x="3422" y="5938"/>
                      </a:lnTo>
                      <a:lnTo>
                        <a:pt x="3450" y="5901"/>
                      </a:lnTo>
                      <a:lnTo>
                        <a:pt x="3478" y="5856"/>
                      </a:lnTo>
                      <a:lnTo>
                        <a:pt x="3496" y="5811"/>
                      </a:lnTo>
                      <a:lnTo>
                        <a:pt x="3505" y="5764"/>
                      </a:lnTo>
                      <a:lnTo>
                        <a:pt x="3514" y="5709"/>
                      </a:lnTo>
                      <a:lnTo>
                        <a:pt x="3514" y="5691"/>
                      </a:lnTo>
                      <a:lnTo>
                        <a:pt x="3422" y="5590"/>
                      </a:lnTo>
                      <a:lnTo>
                        <a:pt x="3340" y="5489"/>
                      </a:lnTo>
                      <a:lnTo>
                        <a:pt x="3258" y="5380"/>
                      </a:lnTo>
                      <a:lnTo>
                        <a:pt x="3185" y="5270"/>
                      </a:lnTo>
                      <a:lnTo>
                        <a:pt x="3112" y="5151"/>
                      </a:lnTo>
                      <a:lnTo>
                        <a:pt x="3093" y="5123"/>
                      </a:lnTo>
                      <a:lnTo>
                        <a:pt x="2975" y="4921"/>
                      </a:lnTo>
                      <a:lnTo>
                        <a:pt x="2855" y="4738"/>
                      </a:lnTo>
                      <a:lnTo>
                        <a:pt x="2736" y="4545"/>
                      </a:lnTo>
                      <a:lnTo>
                        <a:pt x="2618" y="4344"/>
                      </a:lnTo>
                      <a:lnTo>
                        <a:pt x="2508" y="4151"/>
                      </a:lnTo>
                      <a:lnTo>
                        <a:pt x="2471" y="4088"/>
                      </a:lnTo>
                      <a:lnTo>
                        <a:pt x="2398" y="3978"/>
                      </a:lnTo>
                      <a:lnTo>
                        <a:pt x="2324" y="3868"/>
                      </a:lnTo>
                      <a:lnTo>
                        <a:pt x="2251" y="3748"/>
                      </a:lnTo>
                      <a:lnTo>
                        <a:pt x="2187" y="3638"/>
                      </a:lnTo>
                      <a:lnTo>
                        <a:pt x="2114" y="3528"/>
                      </a:lnTo>
                      <a:lnTo>
                        <a:pt x="2096" y="3492"/>
                      </a:lnTo>
                      <a:lnTo>
                        <a:pt x="2069" y="3492"/>
                      </a:lnTo>
                      <a:lnTo>
                        <a:pt x="2050" y="3509"/>
                      </a:lnTo>
                      <a:lnTo>
                        <a:pt x="2032" y="3528"/>
                      </a:lnTo>
                      <a:lnTo>
                        <a:pt x="2014" y="3547"/>
                      </a:lnTo>
                      <a:lnTo>
                        <a:pt x="1995" y="3565"/>
                      </a:lnTo>
                      <a:lnTo>
                        <a:pt x="1986" y="3565"/>
                      </a:lnTo>
                      <a:lnTo>
                        <a:pt x="1931" y="3629"/>
                      </a:lnTo>
                      <a:lnTo>
                        <a:pt x="1867" y="3684"/>
                      </a:lnTo>
                      <a:lnTo>
                        <a:pt x="1812" y="3748"/>
                      </a:lnTo>
                      <a:lnTo>
                        <a:pt x="1748" y="3813"/>
                      </a:lnTo>
                      <a:lnTo>
                        <a:pt x="1693" y="3868"/>
                      </a:lnTo>
                      <a:lnTo>
                        <a:pt x="1675" y="3895"/>
                      </a:lnTo>
                      <a:lnTo>
                        <a:pt x="1602" y="3978"/>
                      </a:lnTo>
                      <a:lnTo>
                        <a:pt x="1528" y="4069"/>
                      </a:lnTo>
                      <a:lnTo>
                        <a:pt x="1455" y="4160"/>
                      </a:lnTo>
                      <a:lnTo>
                        <a:pt x="1391" y="4252"/>
                      </a:lnTo>
                      <a:lnTo>
                        <a:pt x="1318" y="4334"/>
                      </a:lnTo>
                      <a:lnTo>
                        <a:pt x="1290" y="4371"/>
                      </a:lnTo>
                      <a:lnTo>
                        <a:pt x="1281" y="4389"/>
                      </a:lnTo>
                      <a:lnTo>
                        <a:pt x="1273" y="4408"/>
                      </a:lnTo>
                      <a:lnTo>
                        <a:pt x="1263" y="4426"/>
                      </a:lnTo>
                      <a:lnTo>
                        <a:pt x="1245" y="4444"/>
                      </a:lnTo>
                      <a:lnTo>
                        <a:pt x="1226" y="4444"/>
                      </a:lnTo>
                      <a:lnTo>
                        <a:pt x="1218" y="4444"/>
                      </a:lnTo>
                      <a:lnTo>
                        <a:pt x="1190" y="4435"/>
                      </a:lnTo>
                      <a:lnTo>
                        <a:pt x="1153" y="4426"/>
                      </a:lnTo>
                      <a:lnTo>
                        <a:pt x="1126" y="4408"/>
                      </a:lnTo>
                      <a:lnTo>
                        <a:pt x="1099" y="4389"/>
                      </a:lnTo>
                      <a:lnTo>
                        <a:pt x="1061" y="4371"/>
                      </a:lnTo>
                      <a:lnTo>
                        <a:pt x="1053" y="4362"/>
                      </a:lnTo>
                      <a:lnTo>
                        <a:pt x="1016" y="4326"/>
                      </a:lnTo>
                      <a:lnTo>
                        <a:pt x="971" y="4289"/>
                      </a:lnTo>
                      <a:lnTo>
                        <a:pt x="933" y="4252"/>
                      </a:lnTo>
                      <a:lnTo>
                        <a:pt x="897" y="4216"/>
                      </a:lnTo>
                      <a:lnTo>
                        <a:pt x="861" y="4179"/>
                      </a:lnTo>
                      <a:lnTo>
                        <a:pt x="842" y="4169"/>
                      </a:lnTo>
                      <a:lnTo>
                        <a:pt x="796" y="4187"/>
                      </a:lnTo>
                      <a:lnTo>
                        <a:pt x="751" y="4207"/>
                      </a:lnTo>
                      <a:lnTo>
                        <a:pt x="705" y="4225"/>
                      </a:lnTo>
                      <a:lnTo>
                        <a:pt x="649" y="4234"/>
                      </a:lnTo>
                      <a:lnTo>
                        <a:pt x="604" y="4244"/>
                      </a:lnTo>
                      <a:lnTo>
                        <a:pt x="586" y="4244"/>
                      </a:lnTo>
                      <a:lnTo>
                        <a:pt x="504" y="4244"/>
                      </a:lnTo>
                      <a:lnTo>
                        <a:pt x="412" y="4244"/>
                      </a:lnTo>
                      <a:lnTo>
                        <a:pt x="330" y="4244"/>
                      </a:lnTo>
                      <a:lnTo>
                        <a:pt x="247" y="4234"/>
                      </a:lnTo>
                      <a:lnTo>
                        <a:pt x="165" y="4216"/>
                      </a:lnTo>
                      <a:lnTo>
                        <a:pt x="137" y="4207"/>
                      </a:lnTo>
                      <a:lnTo>
                        <a:pt x="110" y="4197"/>
                      </a:lnTo>
                      <a:lnTo>
                        <a:pt x="83" y="4187"/>
                      </a:lnTo>
                      <a:lnTo>
                        <a:pt x="55" y="4169"/>
                      </a:lnTo>
                      <a:lnTo>
                        <a:pt x="28" y="4151"/>
                      </a:lnTo>
                      <a:lnTo>
                        <a:pt x="9" y="4133"/>
                      </a:lnTo>
                      <a:lnTo>
                        <a:pt x="0" y="4124"/>
                      </a:lnTo>
                      <a:lnTo>
                        <a:pt x="0" y="4115"/>
                      </a:lnTo>
                      <a:lnTo>
                        <a:pt x="0" y="4097"/>
                      </a:lnTo>
                      <a:lnTo>
                        <a:pt x="0" y="4088"/>
                      </a:lnTo>
                      <a:lnTo>
                        <a:pt x="9" y="4078"/>
                      </a:lnTo>
                      <a:lnTo>
                        <a:pt x="18" y="4069"/>
                      </a:lnTo>
                      <a:lnTo>
                        <a:pt x="46" y="4059"/>
                      </a:lnTo>
                      <a:lnTo>
                        <a:pt x="73" y="4050"/>
                      </a:lnTo>
                      <a:lnTo>
                        <a:pt x="110" y="4041"/>
                      </a:lnTo>
                      <a:lnTo>
                        <a:pt x="146" y="4041"/>
                      </a:lnTo>
                      <a:lnTo>
                        <a:pt x="175" y="4032"/>
                      </a:lnTo>
                      <a:lnTo>
                        <a:pt x="183" y="4023"/>
                      </a:lnTo>
                      <a:lnTo>
                        <a:pt x="210" y="4032"/>
                      </a:lnTo>
                      <a:lnTo>
                        <a:pt x="238" y="4032"/>
                      </a:lnTo>
                      <a:lnTo>
                        <a:pt x="256" y="4023"/>
                      </a:lnTo>
                      <a:lnTo>
                        <a:pt x="284" y="4014"/>
                      </a:lnTo>
                      <a:lnTo>
                        <a:pt x="312" y="4014"/>
                      </a:lnTo>
                      <a:lnTo>
                        <a:pt x="320" y="4014"/>
                      </a:lnTo>
                      <a:lnTo>
                        <a:pt x="339" y="4005"/>
                      </a:lnTo>
                      <a:lnTo>
                        <a:pt x="366" y="4005"/>
                      </a:lnTo>
                      <a:lnTo>
                        <a:pt x="384" y="4005"/>
                      </a:lnTo>
                      <a:lnTo>
                        <a:pt x="412" y="4005"/>
                      </a:lnTo>
                      <a:lnTo>
                        <a:pt x="440" y="4005"/>
                      </a:lnTo>
                      <a:lnTo>
                        <a:pt x="449" y="4005"/>
                      </a:lnTo>
                      <a:lnTo>
                        <a:pt x="476" y="3995"/>
                      </a:lnTo>
                      <a:lnTo>
                        <a:pt x="512" y="3995"/>
                      </a:lnTo>
                      <a:lnTo>
                        <a:pt x="549" y="3995"/>
                      </a:lnTo>
                      <a:lnTo>
                        <a:pt x="586" y="3995"/>
                      </a:lnTo>
                      <a:lnTo>
                        <a:pt x="614" y="3995"/>
                      </a:lnTo>
                      <a:lnTo>
                        <a:pt x="631" y="3987"/>
                      </a:lnTo>
                      <a:lnTo>
                        <a:pt x="649" y="3987"/>
                      </a:lnTo>
                      <a:lnTo>
                        <a:pt x="668" y="3987"/>
                      </a:lnTo>
                      <a:lnTo>
                        <a:pt x="686" y="3987"/>
                      </a:lnTo>
                      <a:lnTo>
                        <a:pt x="705" y="3978"/>
                      </a:lnTo>
                      <a:lnTo>
                        <a:pt x="714" y="3968"/>
                      </a:lnTo>
                      <a:lnTo>
                        <a:pt x="714" y="3960"/>
                      </a:lnTo>
                      <a:lnTo>
                        <a:pt x="732" y="3876"/>
                      </a:lnTo>
                      <a:lnTo>
                        <a:pt x="769" y="3803"/>
                      </a:lnTo>
                      <a:lnTo>
                        <a:pt x="814" y="3730"/>
                      </a:lnTo>
                      <a:lnTo>
                        <a:pt x="851" y="3656"/>
                      </a:lnTo>
                      <a:lnTo>
                        <a:pt x="897" y="3584"/>
                      </a:lnTo>
                      <a:lnTo>
                        <a:pt x="906" y="3556"/>
                      </a:lnTo>
                      <a:lnTo>
                        <a:pt x="989" y="3400"/>
                      </a:lnTo>
                      <a:lnTo>
                        <a:pt x="1070" y="3235"/>
                      </a:lnTo>
                      <a:lnTo>
                        <a:pt x="1153" y="3070"/>
                      </a:lnTo>
                      <a:lnTo>
                        <a:pt x="1236" y="2914"/>
                      </a:lnTo>
                      <a:lnTo>
                        <a:pt x="1308" y="2749"/>
                      </a:lnTo>
                      <a:lnTo>
                        <a:pt x="1336" y="2694"/>
                      </a:lnTo>
                      <a:lnTo>
                        <a:pt x="1400" y="2566"/>
                      </a:lnTo>
                      <a:lnTo>
                        <a:pt x="1455" y="2446"/>
                      </a:lnTo>
                      <a:lnTo>
                        <a:pt x="1510" y="2318"/>
                      </a:lnTo>
                      <a:lnTo>
                        <a:pt x="1565" y="2191"/>
                      </a:lnTo>
                      <a:lnTo>
                        <a:pt x="1620" y="2062"/>
                      </a:lnTo>
                      <a:lnTo>
                        <a:pt x="1638" y="2025"/>
                      </a:lnTo>
                      <a:lnTo>
                        <a:pt x="1638" y="1980"/>
                      </a:lnTo>
                      <a:lnTo>
                        <a:pt x="1648" y="1933"/>
                      </a:lnTo>
                      <a:lnTo>
                        <a:pt x="1665" y="1897"/>
                      </a:lnTo>
                      <a:lnTo>
                        <a:pt x="1684" y="1851"/>
                      </a:lnTo>
                      <a:lnTo>
                        <a:pt x="1702" y="1815"/>
                      </a:lnTo>
                      <a:lnTo>
                        <a:pt x="1711" y="1805"/>
                      </a:lnTo>
                      <a:lnTo>
                        <a:pt x="1821" y="1649"/>
                      </a:lnTo>
                      <a:lnTo>
                        <a:pt x="1949" y="1512"/>
                      </a:lnTo>
                      <a:lnTo>
                        <a:pt x="2096" y="1393"/>
                      </a:lnTo>
                      <a:lnTo>
                        <a:pt x="2251" y="1283"/>
                      </a:lnTo>
                      <a:lnTo>
                        <a:pt x="2416" y="1183"/>
                      </a:lnTo>
                      <a:lnTo>
                        <a:pt x="2462" y="1155"/>
                      </a:lnTo>
                      <a:lnTo>
                        <a:pt x="2480" y="1155"/>
                      </a:lnTo>
                      <a:lnTo>
                        <a:pt x="2536" y="1081"/>
                      </a:lnTo>
                      <a:lnTo>
                        <a:pt x="2590" y="1017"/>
                      </a:lnTo>
                      <a:lnTo>
                        <a:pt x="2645" y="954"/>
                      </a:lnTo>
                      <a:lnTo>
                        <a:pt x="2700" y="879"/>
                      </a:lnTo>
                      <a:lnTo>
                        <a:pt x="2755" y="816"/>
                      </a:lnTo>
                      <a:lnTo>
                        <a:pt x="2773" y="789"/>
                      </a:lnTo>
                      <a:lnTo>
                        <a:pt x="2773" y="779"/>
                      </a:lnTo>
                      <a:lnTo>
                        <a:pt x="2782" y="761"/>
                      </a:lnTo>
                      <a:lnTo>
                        <a:pt x="2782" y="751"/>
                      </a:lnTo>
                      <a:lnTo>
                        <a:pt x="2782" y="734"/>
                      </a:lnTo>
                      <a:lnTo>
                        <a:pt x="2773" y="724"/>
                      </a:lnTo>
                      <a:lnTo>
                        <a:pt x="2773" y="715"/>
                      </a:lnTo>
                      <a:lnTo>
                        <a:pt x="2718" y="650"/>
                      </a:lnTo>
                      <a:lnTo>
                        <a:pt x="2691" y="578"/>
                      </a:lnTo>
                      <a:lnTo>
                        <a:pt x="2681" y="495"/>
                      </a:lnTo>
                      <a:lnTo>
                        <a:pt x="2681" y="413"/>
                      </a:lnTo>
                      <a:lnTo>
                        <a:pt x="2691" y="330"/>
                      </a:lnTo>
                      <a:lnTo>
                        <a:pt x="2691" y="303"/>
                      </a:lnTo>
                      <a:lnTo>
                        <a:pt x="2728" y="248"/>
                      </a:lnTo>
                      <a:lnTo>
                        <a:pt x="2782" y="211"/>
                      </a:lnTo>
                      <a:lnTo>
                        <a:pt x="2828" y="174"/>
                      </a:lnTo>
                      <a:lnTo>
                        <a:pt x="2883" y="147"/>
                      </a:lnTo>
                      <a:lnTo>
                        <a:pt x="2938" y="119"/>
                      </a:lnTo>
                      <a:lnTo>
                        <a:pt x="2956" y="109"/>
                      </a:lnTo>
                      <a:lnTo>
                        <a:pt x="3038" y="64"/>
                      </a:lnTo>
                      <a:lnTo>
                        <a:pt x="3130" y="28"/>
                      </a:lnTo>
                      <a:lnTo>
                        <a:pt x="3222" y="10"/>
                      </a:lnTo>
                      <a:lnTo>
                        <a:pt x="3322" y="0"/>
                      </a:lnTo>
                      <a:lnTo>
                        <a:pt x="3414" y="0"/>
                      </a:lnTo>
                      <a:lnTo>
                        <a:pt x="3450" y="10"/>
                      </a:lnTo>
                      <a:lnTo>
                        <a:pt x="3478" y="19"/>
                      </a:lnTo>
                      <a:lnTo>
                        <a:pt x="3514" y="28"/>
                      </a:lnTo>
                      <a:lnTo>
                        <a:pt x="3541" y="37"/>
                      </a:lnTo>
                      <a:lnTo>
                        <a:pt x="3569" y="46"/>
                      </a:lnTo>
                      <a:lnTo>
                        <a:pt x="3597" y="64"/>
                      </a:lnTo>
                      <a:lnTo>
                        <a:pt x="3606" y="74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3498120" y="3153600"/>
                  <a:ext cx="18000" cy="119880"/>
                </a:xfrm>
                <a:custGeom>
                  <a:avLst/>
                  <a:gdLst/>
                  <a:ahLst/>
                  <a:rect l="l" t="t" r="r" b="b"/>
                  <a:pathLst>
                    <a:path w="45" h="301">
                      <a:moveTo>
                        <a:pt x="0" y="0"/>
                      </a:moveTo>
                      <a:lnTo>
                        <a:pt x="18" y="18"/>
                      </a:lnTo>
                      <a:lnTo>
                        <a:pt x="28" y="27"/>
                      </a:lnTo>
                      <a:lnTo>
                        <a:pt x="36" y="45"/>
                      </a:lnTo>
                      <a:lnTo>
                        <a:pt x="45" y="65"/>
                      </a:lnTo>
                      <a:lnTo>
                        <a:pt x="45" y="82"/>
                      </a:lnTo>
                      <a:lnTo>
                        <a:pt x="45" y="100"/>
                      </a:lnTo>
                      <a:lnTo>
                        <a:pt x="45" y="128"/>
                      </a:lnTo>
                      <a:lnTo>
                        <a:pt x="45" y="146"/>
                      </a:lnTo>
                      <a:lnTo>
                        <a:pt x="45" y="164"/>
                      </a:lnTo>
                      <a:lnTo>
                        <a:pt x="45" y="183"/>
                      </a:lnTo>
                      <a:lnTo>
                        <a:pt x="36" y="202"/>
                      </a:lnTo>
                      <a:lnTo>
                        <a:pt x="36" y="220"/>
                      </a:lnTo>
                      <a:lnTo>
                        <a:pt x="28" y="238"/>
                      </a:lnTo>
                      <a:lnTo>
                        <a:pt x="28" y="265"/>
                      </a:lnTo>
                      <a:lnTo>
                        <a:pt x="18" y="284"/>
                      </a:lnTo>
                      <a:lnTo>
                        <a:pt x="18" y="30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3302280" y="3273840"/>
                  <a:ext cx="203760" cy="169560"/>
                </a:xfrm>
                <a:custGeom>
                  <a:avLst/>
                  <a:gdLst/>
                  <a:ahLst/>
                  <a:rect l="l" t="t" r="r" b="b"/>
                  <a:pathLst>
                    <a:path w="512" h="423">
                      <a:moveTo>
                        <a:pt x="512" y="0"/>
                      </a:moveTo>
                      <a:lnTo>
                        <a:pt x="494" y="38"/>
                      </a:lnTo>
                      <a:lnTo>
                        <a:pt x="466" y="75"/>
                      </a:lnTo>
                      <a:lnTo>
                        <a:pt x="447" y="110"/>
                      </a:lnTo>
                      <a:lnTo>
                        <a:pt x="420" y="138"/>
                      </a:lnTo>
                      <a:lnTo>
                        <a:pt x="393" y="175"/>
                      </a:lnTo>
                      <a:lnTo>
                        <a:pt x="357" y="212"/>
                      </a:lnTo>
                      <a:lnTo>
                        <a:pt x="329" y="239"/>
                      </a:lnTo>
                      <a:lnTo>
                        <a:pt x="292" y="267"/>
                      </a:lnTo>
                      <a:lnTo>
                        <a:pt x="265" y="295"/>
                      </a:lnTo>
                      <a:lnTo>
                        <a:pt x="228" y="322"/>
                      </a:lnTo>
                      <a:lnTo>
                        <a:pt x="192" y="340"/>
                      </a:lnTo>
                      <a:lnTo>
                        <a:pt x="155" y="359"/>
                      </a:lnTo>
                      <a:lnTo>
                        <a:pt x="118" y="376"/>
                      </a:lnTo>
                      <a:lnTo>
                        <a:pt x="82" y="394"/>
                      </a:lnTo>
                      <a:lnTo>
                        <a:pt x="45" y="414"/>
                      </a:lnTo>
                      <a:lnTo>
                        <a:pt x="0" y="42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3118320" y="3499200"/>
                  <a:ext cx="73800" cy="81720"/>
                </a:xfrm>
                <a:custGeom>
                  <a:avLst/>
                  <a:gdLst/>
                  <a:ahLst/>
                  <a:rect l="l" t="t" r="r" b="b"/>
                  <a:pathLst>
                    <a:path w="185" h="209">
                      <a:moveTo>
                        <a:pt x="185" y="0"/>
                      </a:moveTo>
                      <a:lnTo>
                        <a:pt x="166" y="18"/>
                      </a:lnTo>
                      <a:lnTo>
                        <a:pt x="157" y="27"/>
                      </a:lnTo>
                      <a:lnTo>
                        <a:pt x="138" y="35"/>
                      </a:lnTo>
                      <a:lnTo>
                        <a:pt x="129" y="54"/>
                      </a:lnTo>
                      <a:lnTo>
                        <a:pt x="120" y="63"/>
                      </a:lnTo>
                      <a:lnTo>
                        <a:pt x="110" y="81"/>
                      </a:lnTo>
                      <a:lnTo>
                        <a:pt x="92" y="90"/>
                      </a:lnTo>
                      <a:lnTo>
                        <a:pt x="83" y="99"/>
                      </a:lnTo>
                      <a:lnTo>
                        <a:pt x="75" y="118"/>
                      </a:lnTo>
                      <a:lnTo>
                        <a:pt x="65" y="128"/>
                      </a:lnTo>
                      <a:lnTo>
                        <a:pt x="56" y="145"/>
                      </a:lnTo>
                      <a:lnTo>
                        <a:pt x="47" y="155"/>
                      </a:lnTo>
                      <a:lnTo>
                        <a:pt x="28" y="173"/>
                      </a:lnTo>
                      <a:lnTo>
                        <a:pt x="20" y="182"/>
                      </a:lnTo>
                      <a:lnTo>
                        <a:pt x="10" y="200"/>
                      </a:lnTo>
                      <a:lnTo>
                        <a:pt x="0" y="209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4699440" y="3622680"/>
                  <a:ext cx="149760" cy="57600"/>
                </a:xfrm>
                <a:custGeom>
                  <a:avLst/>
                  <a:gdLst/>
                  <a:ahLst/>
                  <a:rect l="l" t="t" r="r" b="b"/>
                  <a:pathLst>
                    <a:path w="375" h="146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7" y="0"/>
                      </a:lnTo>
                      <a:lnTo>
                        <a:pt x="74" y="8"/>
                      </a:lnTo>
                      <a:lnTo>
                        <a:pt x="100" y="18"/>
                      </a:lnTo>
                      <a:lnTo>
                        <a:pt x="119" y="27"/>
                      </a:lnTo>
                      <a:lnTo>
                        <a:pt x="147" y="36"/>
                      </a:lnTo>
                      <a:lnTo>
                        <a:pt x="165" y="45"/>
                      </a:lnTo>
                      <a:lnTo>
                        <a:pt x="192" y="55"/>
                      </a:lnTo>
                      <a:lnTo>
                        <a:pt x="210" y="63"/>
                      </a:lnTo>
                      <a:lnTo>
                        <a:pt x="237" y="83"/>
                      </a:lnTo>
                      <a:lnTo>
                        <a:pt x="256" y="91"/>
                      </a:lnTo>
                      <a:lnTo>
                        <a:pt x="284" y="100"/>
                      </a:lnTo>
                      <a:lnTo>
                        <a:pt x="302" y="110"/>
                      </a:lnTo>
                      <a:lnTo>
                        <a:pt x="320" y="128"/>
                      </a:lnTo>
                      <a:lnTo>
                        <a:pt x="347" y="137"/>
                      </a:lnTo>
                      <a:lnTo>
                        <a:pt x="375" y="14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4849560" y="3680640"/>
                  <a:ext cx="65520" cy="57600"/>
                </a:xfrm>
                <a:custGeom>
                  <a:avLst/>
                  <a:gdLst/>
                  <a:ahLst/>
                  <a:rect l="l" t="t" r="r" b="b"/>
                  <a:pathLst>
                    <a:path w="166" h="146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9" y="9"/>
                      </a:lnTo>
                      <a:lnTo>
                        <a:pt x="37" y="18"/>
                      </a:lnTo>
                      <a:lnTo>
                        <a:pt x="47" y="18"/>
                      </a:lnTo>
                      <a:lnTo>
                        <a:pt x="64" y="27"/>
                      </a:lnTo>
                      <a:lnTo>
                        <a:pt x="74" y="36"/>
                      </a:lnTo>
                      <a:lnTo>
                        <a:pt x="92" y="46"/>
                      </a:lnTo>
                      <a:lnTo>
                        <a:pt x="101" y="56"/>
                      </a:lnTo>
                      <a:lnTo>
                        <a:pt x="111" y="64"/>
                      </a:lnTo>
                      <a:lnTo>
                        <a:pt x="128" y="74"/>
                      </a:lnTo>
                      <a:lnTo>
                        <a:pt x="137" y="83"/>
                      </a:lnTo>
                      <a:lnTo>
                        <a:pt x="147" y="92"/>
                      </a:lnTo>
                      <a:lnTo>
                        <a:pt x="156" y="110"/>
                      </a:lnTo>
                      <a:lnTo>
                        <a:pt x="156" y="119"/>
                      </a:lnTo>
                      <a:lnTo>
                        <a:pt x="166" y="138"/>
                      </a:lnTo>
                      <a:lnTo>
                        <a:pt x="166" y="14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4435560" y="3717000"/>
                  <a:ext cx="18000" cy="95400"/>
                </a:xfrm>
                <a:custGeom>
                  <a:avLst/>
                  <a:gdLst/>
                  <a:ahLst/>
                  <a:rect l="l" t="t" r="r" b="b"/>
                  <a:pathLst>
                    <a:path w="47" h="238">
                      <a:moveTo>
                        <a:pt x="47" y="0"/>
                      </a:moveTo>
                      <a:lnTo>
                        <a:pt x="47" y="18"/>
                      </a:lnTo>
                      <a:lnTo>
                        <a:pt x="47" y="27"/>
                      </a:lnTo>
                      <a:lnTo>
                        <a:pt x="47" y="46"/>
                      </a:lnTo>
                      <a:lnTo>
                        <a:pt x="37" y="64"/>
                      </a:lnTo>
                      <a:lnTo>
                        <a:pt x="37" y="73"/>
                      </a:lnTo>
                      <a:lnTo>
                        <a:pt x="37" y="92"/>
                      </a:lnTo>
                      <a:lnTo>
                        <a:pt x="28" y="110"/>
                      </a:lnTo>
                      <a:lnTo>
                        <a:pt x="28" y="119"/>
                      </a:lnTo>
                      <a:lnTo>
                        <a:pt x="28" y="137"/>
                      </a:lnTo>
                      <a:lnTo>
                        <a:pt x="20" y="146"/>
                      </a:lnTo>
                      <a:lnTo>
                        <a:pt x="20" y="164"/>
                      </a:lnTo>
                      <a:lnTo>
                        <a:pt x="10" y="183"/>
                      </a:lnTo>
                      <a:lnTo>
                        <a:pt x="10" y="191"/>
                      </a:lnTo>
                      <a:lnTo>
                        <a:pt x="10" y="210"/>
                      </a:lnTo>
                      <a:lnTo>
                        <a:pt x="0" y="220"/>
                      </a:lnTo>
                      <a:lnTo>
                        <a:pt x="0" y="23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4421520" y="3812400"/>
                  <a:ext cx="18000" cy="109800"/>
                </a:xfrm>
                <a:custGeom>
                  <a:avLst/>
                  <a:gdLst/>
                  <a:ahLst/>
                  <a:rect l="l" t="t" r="r" b="b"/>
                  <a:pathLst>
                    <a:path w="46" h="275">
                      <a:moveTo>
                        <a:pt x="36" y="0"/>
                      </a:moveTo>
                      <a:lnTo>
                        <a:pt x="36" y="18"/>
                      </a:lnTo>
                      <a:lnTo>
                        <a:pt x="36" y="37"/>
                      </a:lnTo>
                      <a:lnTo>
                        <a:pt x="46" y="55"/>
                      </a:lnTo>
                      <a:lnTo>
                        <a:pt x="46" y="73"/>
                      </a:lnTo>
                      <a:lnTo>
                        <a:pt x="36" y="92"/>
                      </a:lnTo>
                      <a:lnTo>
                        <a:pt x="36" y="100"/>
                      </a:lnTo>
                      <a:lnTo>
                        <a:pt x="36" y="120"/>
                      </a:lnTo>
                      <a:lnTo>
                        <a:pt x="36" y="138"/>
                      </a:lnTo>
                      <a:lnTo>
                        <a:pt x="26" y="156"/>
                      </a:lnTo>
                      <a:lnTo>
                        <a:pt x="26" y="174"/>
                      </a:lnTo>
                      <a:lnTo>
                        <a:pt x="18" y="192"/>
                      </a:lnTo>
                      <a:lnTo>
                        <a:pt x="18" y="202"/>
                      </a:lnTo>
                      <a:lnTo>
                        <a:pt x="8" y="219"/>
                      </a:lnTo>
                      <a:lnTo>
                        <a:pt x="8" y="239"/>
                      </a:lnTo>
                      <a:lnTo>
                        <a:pt x="0" y="257"/>
                      </a:lnTo>
                      <a:lnTo>
                        <a:pt x="0" y="2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3688200" y="4089960"/>
                  <a:ext cx="59760" cy="367560"/>
                </a:xfrm>
                <a:custGeom>
                  <a:avLst/>
                  <a:gdLst/>
                  <a:ahLst/>
                  <a:rect l="l" t="t" r="r" b="b"/>
                  <a:pathLst>
                    <a:path w="147" h="917">
                      <a:moveTo>
                        <a:pt x="0" y="0"/>
                      </a:moveTo>
                      <a:lnTo>
                        <a:pt x="9" y="56"/>
                      </a:lnTo>
                      <a:lnTo>
                        <a:pt x="28" y="111"/>
                      </a:lnTo>
                      <a:lnTo>
                        <a:pt x="47" y="165"/>
                      </a:lnTo>
                      <a:lnTo>
                        <a:pt x="55" y="221"/>
                      </a:lnTo>
                      <a:lnTo>
                        <a:pt x="74" y="275"/>
                      </a:lnTo>
                      <a:lnTo>
                        <a:pt x="83" y="340"/>
                      </a:lnTo>
                      <a:lnTo>
                        <a:pt x="92" y="395"/>
                      </a:lnTo>
                      <a:lnTo>
                        <a:pt x="102" y="449"/>
                      </a:lnTo>
                      <a:lnTo>
                        <a:pt x="110" y="505"/>
                      </a:lnTo>
                      <a:lnTo>
                        <a:pt x="119" y="559"/>
                      </a:lnTo>
                      <a:lnTo>
                        <a:pt x="129" y="624"/>
                      </a:lnTo>
                      <a:lnTo>
                        <a:pt x="137" y="679"/>
                      </a:lnTo>
                      <a:lnTo>
                        <a:pt x="137" y="744"/>
                      </a:lnTo>
                      <a:lnTo>
                        <a:pt x="147" y="798"/>
                      </a:lnTo>
                      <a:lnTo>
                        <a:pt x="147" y="862"/>
                      </a:lnTo>
                      <a:lnTo>
                        <a:pt x="147" y="91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3747960" y="4457520"/>
                  <a:ext cx="2160" cy="181440"/>
                </a:xfrm>
                <a:prstGeom prst="line">
                  <a:avLst/>
                </a:prstGeom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3708000" y="4638960"/>
                  <a:ext cx="39600" cy="333000"/>
                </a:xfrm>
                <a:custGeom>
                  <a:avLst/>
                  <a:gdLst/>
                  <a:ahLst/>
                  <a:rect l="l" t="t" r="r" b="b"/>
                  <a:pathLst>
                    <a:path w="100" h="835">
                      <a:moveTo>
                        <a:pt x="100" y="0"/>
                      </a:moveTo>
                      <a:lnTo>
                        <a:pt x="90" y="47"/>
                      </a:lnTo>
                      <a:lnTo>
                        <a:pt x="90" y="102"/>
                      </a:lnTo>
                      <a:lnTo>
                        <a:pt x="90" y="157"/>
                      </a:lnTo>
                      <a:lnTo>
                        <a:pt x="82" y="212"/>
                      </a:lnTo>
                      <a:lnTo>
                        <a:pt x="82" y="266"/>
                      </a:lnTo>
                      <a:lnTo>
                        <a:pt x="72" y="322"/>
                      </a:lnTo>
                      <a:lnTo>
                        <a:pt x="72" y="376"/>
                      </a:lnTo>
                      <a:lnTo>
                        <a:pt x="72" y="423"/>
                      </a:lnTo>
                      <a:lnTo>
                        <a:pt x="63" y="478"/>
                      </a:lnTo>
                      <a:lnTo>
                        <a:pt x="55" y="533"/>
                      </a:lnTo>
                      <a:lnTo>
                        <a:pt x="55" y="588"/>
                      </a:lnTo>
                      <a:lnTo>
                        <a:pt x="45" y="633"/>
                      </a:lnTo>
                      <a:lnTo>
                        <a:pt x="36" y="688"/>
                      </a:lnTo>
                      <a:lnTo>
                        <a:pt x="27" y="734"/>
                      </a:lnTo>
                      <a:lnTo>
                        <a:pt x="8" y="789"/>
                      </a:lnTo>
                      <a:lnTo>
                        <a:pt x="0" y="83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3572280" y="4972320"/>
                  <a:ext cx="135720" cy="381600"/>
                </a:xfrm>
                <a:custGeom>
                  <a:avLst/>
                  <a:gdLst/>
                  <a:ahLst/>
                  <a:rect l="l" t="t" r="r" b="b"/>
                  <a:pathLst>
                    <a:path w="339" h="953">
                      <a:moveTo>
                        <a:pt x="339" y="0"/>
                      </a:moveTo>
                      <a:lnTo>
                        <a:pt x="320" y="64"/>
                      </a:lnTo>
                      <a:lnTo>
                        <a:pt x="301" y="129"/>
                      </a:lnTo>
                      <a:lnTo>
                        <a:pt x="284" y="183"/>
                      </a:lnTo>
                      <a:lnTo>
                        <a:pt x="265" y="247"/>
                      </a:lnTo>
                      <a:lnTo>
                        <a:pt x="247" y="311"/>
                      </a:lnTo>
                      <a:lnTo>
                        <a:pt x="229" y="367"/>
                      </a:lnTo>
                      <a:lnTo>
                        <a:pt x="202" y="431"/>
                      </a:lnTo>
                      <a:lnTo>
                        <a:pt x="182" y="485"/>
                      </a:lnTo>
                      <a:lnTo>
                        <a:pt x="164" y="541"/>
                      </a:lnTo>
                      <a:lnTo>
                        <a:pt x="137" y="604"/>
                      </a:lnTo>
                      <a:lnTo>
                        <a:pt x="119" y="660"/>
                      </a:lnTo>
                      <a:lnTo>
                        <a:pt x="92" y="724"/>
                      </a:lnTo>
                      <a:lnTo>
                        <a:pt x="73" y="779"/>
                      </a:lnTo>
                      <a:lnTo>
                        <a:pt x="45" y="842"/>
                      </a:lnTo>
                      <a:lnTo>
                        <a:pt x="27" y="899"/>
                      </a:lnTo>
                      <a:lnTo>
                        <a:pt x="0" y="95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3564360" y="5393880"/>
                  <a:ext cx="99720" cy="201240"/>
                </a:xfrm>
                <a:custGeom>
                  <a:avLst/>
                  <a:gdLst/>
                  <a:ahLst/>
                  <a:rect l="l" t="t" r="r" b="b"/>
                  <a:pathLst>
                    <a:path w="247" h="505">
                      <a:moveTo>
                        <a:pt x="0" y="0"/>
                      </a:moveTo>
                      <a:lnTo>
                        <a:pt x="18" y="27"/>
                      </a:lnTo>
                      <a:lnTo>
                        <a:pt x="36" y="54"/>
                      </a:lnTo>
                      <a:lnTo>
                        <a:pt x="63" y="82"/>
                      </a:lnTo>
                      <a:lnTo>
                        <a:pt x="91" y="110"/>
                      </a:lnTo>
                      <a:lnTo>
                        <a:pt x="110" y="137"/>
                      </a:lnTo>
                      <a:lnTo>
                        <a:pt x="128" y="174"/>
                      </a:lnTo>
                      <a:lnTo>
                        <a:pt x="155" y="201"/>
                      </a:lnTo>
                      <a:lnTo>
                        <a:pt x="173" y="229"/>
                      </a:lnTo>
                      <a:lnTo>
                        <a:pt x="192" y="266"/>
                      </a:lnTo>
                      <a:lnTo>
                        <a:pt x="210" y="293"/>
                      </a:lnTo>
                      <a:lnTo>
                        <a:pt x="220" y="330"/>
                      </a:lnTo>
                      <a:lnTo>
                        <a:pt x="228" y="358"/>
                      </a:lnTo>
                      <a:lnTo>
                        <a:pt x="238" y="394"/>
                      </a:lnTo>
                      <a:lnTo>
                        <a:pt x="247" y="430"/>
                      </a:lnTo>
                      <a:lnTo>
                        <a:pt x="247" y="467"/>
                      </a:lnTo>
                      <a:lnTo>
                        <a:pt x="238" y="50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634200" y="5595120"/>
                  <a:ext cx="25560" cy="61920"/>
                </a:xfrm>
                <a:custGeom>
                  <a:avLst/>
                  <a:gdLst/>
                  <a:ahLst/>
                  <a:rect l="l" t="t" r="r" b="b"/>
                  <a:pathLst>
                    <a:path w="65" h="155">
                      <a:moveTo>
                        <a:pt x="65" y="0"/>
                      </a:moveTo>
                      <a:lnTo>
                        <a:pt x="65" y="8"/>
                      </a:lnTo>
                      <a:lnTo>
                        <a:pt x="65" y="27"/>
                      </a:lnTo>
                      <a:lnTo>
                        <a:pt x="55" y="35"/>
                      </a:lnTo>
                      <a:lnTo>
                        <a:pt x="55" y="45"/>
                      </a:lnTo>
                      <a:lnTo>
                        <a:pt x="55" y="54"/>
                      </a:lnTo>
                      <a:lnTo>
                        <a:pt x="47" y="63"/>
                      </a:lnTo>
                      <a:lnTo>
                        <a:pt x="47" y="72"/>
                      </a:lnTo>
                      <a:lnTo>
                        <a:pt x="37" y="81"/>
                      </a:lnTo>
                      <a:lnTo>
                        <a:pt x="37" y="90"/>
                      </a:lnTo>
                      <a:lnTo>
                        <a:pt x="37" y="99"/>
                      </a:lnTo>
                      <a:lnTo>
                        <a:pt x="27" y="109"/>
                      </a:lnTo>
                      <a:lnTo>
                        <a:pt x="27" y="118"/>
                      </a:lnTo>
                      <a:lnTo>
                        <a:pt x="19" y="127"/>
                      </a:lnTo>
                      <a:lnTo>
                        <a:pt x="19" y="137"/>
                      </a:lnTo>
                      <a:lnTo>
                        <a:pt x="9" y="145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3669840" y="5693040"/>
                  <a:ext cx="33840" cy="123840"/>
                </a:xfrm>
                <a:custGeom>
                  <a:avLst/>
                  <a:gdLst/>
                  <a:ahLst/>
                  <a:rect l="l" t="t" r="r" b="b"/>
                  <a:pathLst>
                    <a:path w="83" h="312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38"/>
                      </a:lnTo>
                      <a:lnTo>
                        <a:pt x="37" y="55"/>
                      </a:lnTo>
                      <a:lnTo>
                        <a:pt x="45" y="73"/>
                      </a:lnTo>
                      <a:lnTo>
                        <a:pt x="54" y="92"/>
                      </a:lnTo>
                      <a:lnTo>
                        <a:pt x="64" y="110"/>
                      </a:lnTo>
                      <a:lnTo>
                        <a:pt x="64" y="128"/>
                      </a:lnTo>
                      <a:lnTo>
                        <a:pt x="73" y="147"/>
                      </a:lnTo>
                      <a:lnTo>
                        <a:pt x="83" y="165"/>
                      </a:lnTo>
                      <a:lnTo>
                        <a:pt x="83" y="183"/>
                      </a:lnTo>
                      <a:lnTo>
                        <a:pt x="83" y="210"/>
                      </a:lnTo>
                      <a:lnTo>
                        <a:pt x="83" y="229"/>
                      </a:lnTo>
                      <a:lnTo>
                        <a:pt x="83" y="247"/>
                      </a:lnTo>
                      <a:lnTo>
                        <a:pt x="73" y="267"/>
                      </a:lnTo>
                      <a:lnTo>
                        <a:pt x="73" y="294"/>
                      </a:lnTo>
                      <a:lnTo>
                        <a:pt x="64" y="312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3664080" y="5817240"/>
                  <a:ext cx="32040" cy="65520"/>
                </a:xfrm>
                <a:custGeom>
                  <a:avLst/>
                  <a:gdLst/>
                  <a:ahLst/>
                  <a:rect l="l" t="t" r="r" b="b"/>
                  <a:pathLst>
                    <a:path w="82" h="164">
                      <a:moveTo>
                        <a:pt x="82" y="0"/>
                      </a:moveTo>
                      <a:lnTo>
                        <a:pt x="72" y="9"/>
                      </a:lnTo>
                      <a:lnTo>
                        <a:pt x="72" y="18"/>
                      </a:lnTo>
                      <a:lnTo>
                        <a:pt x="63" y="27"/>
                      </a:lnTo>
                      <a:lnTo>
                        <a:pt x="63" y="37"/>
                      </a:lnTo>
                      <a:lnTo>
                        <a:pt x="55" y="45"/>
                      </a:lnTo>
                      <a:lnTo>
                        <a:pt x="55" y="64"/>
                      </a:lnTo>
                      <a:lnTo>
                        <a:pt x="45" y="73"/>
                      </a:lnTo>
                      <a:lnTo>
                        <a:pt x="45" y="82"/>
                      </a:lnTo>
                      <a:lnTo>
                        <a:pt x="36" y="92"/>
                      </a:lnTo>
                      <a:lnTo>
                        <a:pt x="36" y="101"/>
                      </a:lnTo>
                      <a:lnTo>
                        <a:pt x="27" y="110"/>
                      </a:lnTo>
                      <a:lnTo>
                        <a:pt x="18" y="119"/>
                      </a:lnTo>
                      <a:lnTo>
                        <a:pt x="18" y="137"/>
                      </a:lnTo>
                      <a:lnTo>
                        <a:pt x="8" y="147"/>
                      </a:lnTo>
                      <a:lnTo>
                        <a:pt x="0" y="155"/>
                      </a:lnTo>
                      <a:lnTo>
                        <a:pt x="0" y="16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3638160" y="5851080"/>
                  <a:ext cx="17640" cy="57600"/>
                </a:xfrm>
                <a:custGeom>
                  <a:avLst/>
                  <a:gdLst/>
                  <a:ahLst/>
                  <a:rect l="l" t="t" r="r" b="b"/>
                  <a:pathLst>
                    <a:path w="46" h="147">
                      <a:moveTo>
                        <a:pt x="18" y="147"/>
                      </a:moveTo>
                      <a:lnTo>
                        <a:pt x="10" y="138"/>
                      </a:lnTo>
                      <a:lnTo>
                        <a:pt x="10" y="128"/>
                      </a:lnTo>
                      <a:lnTo>
                        <a:pt x="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0" y="92"/>
                      </a:lnTo>
                      <a:lnTo>
                        <a:pt x="10" y="82"/>
                      </a:lnTo>
                      <a:lnTo>
                        <a:pt x="10" y="73"/>
                      </a:lnTo>
                      <a:lnTo>
                        <a:pt x="18" y="65"/>
                      </a:lnTo>
                      <a:lnTo>
                        <a:pt x="18" y="55"/>
                      </a:lnTo>
                      <a:lnTo>
                        <a:pt x="28" y="46"/>
                      </a:lnTo>
                      <a:lnTo>
                        <a:pt x="28" y="37"/>
                      </a:lnTo>
                      <a:lnTo>
                        <a:pt x="38" y="28"/>
                      </a:lnTo>
                      <a:lnTo>
                        <a:pt x="38" y="19"/>
                      </a:lnTo>
                      <a:lnTo>
                        <a:pt x="38" y="10"/>
                      </a:lnTo>
                      <a:lnTo>
                        <a:pt x="46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3655800" y="5729400"/>
                  <a:ext cx="9720" cy="121680"/>
                </a:xfrm>
                <a:custGeom>
                  <a:avLst/>
                  <a:gdLst/>
                  <a:ahLst/>
                  <a:rect l="l" t="t" r="r" b="b"/>
                  <a:pathLst>
                    <a:path w="27" h="302">
                      <a:moveTo>
                        <a:pt x="0" y="302"/>
                      </a:moveTo>
                      <a:lnTo>
                        <a:pt x="0" y="284"/>
                      </a:lnTo>
                      <a:lnTo>
                        <a:pt x="10" y="265"/>
                      </a:lnTo>
                      <a:lnTo>
                        <a:pt x="10" y="238"/>
                      </a:lnTo>
                      <a:lnTo>
                        <a:pt x="19" y="220"/>
                      </a:lnTo>
                      <a:lnTo>
                        <a:pt x="19" y="202"/>
                      </a:lnTo>
                      <a:lnTo>
                        <a:pt x="19" y="183"/>
                      </a:lnTo>
                      <a:lnTo>
                        <a:pt x="27" y="165"/>
                      </a:lnTo>
                      <a:lnTo>
                        <a:pt x="27" y="146"/>
                      </a:lnTo>
                      <a:lnTo>
                        <a:pt x="27" y="128"/>
                      </a:lnTo>
                      <a:lnTo>
                        <a:pt x="27" y="110"/>
                      </a:lnTo>
                      <a:lnTo>
                        <a:pt x="27" y="91"/>
                      </a:lnTo>
                      <a:lnTo>
                        <a:pt x="27" y="73"/>
                      </a:lnTo>
                      <a:lnTo>
                        <a:pt x="19" y="55"/>
                      </a:lnTo>
                      <a:lnTo>
                        <a:pt x="19" y="36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3560400" y="5754960"/>
                  <a:ext cx="41400" cy="121680"/>
                </a:xfrm>
                <a:custGeom>
                  <a:avLst/>
                  <a:gdLst/>
                  <a:ahLst/>
                  <a:rect l="l" t="t" r="r" b="b"/>
                  <a:pathLst>
                    <a:path w="101" h="303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10" y="37"/>
                      </a:lnTo>
                      <a:lnTo>
                        <a:pt x="18" y="54"/>
                      </a:lnTo>
                      <a:lnTo>
                        <a:pt x="18" y="73"/>
                      </a:lnTo>
                      <a:lnTo>
                        <a:pt x="28" y="91"/>
                      </a:lnTo>
                      <a:lnTo>
                        <a:pt x="46" y="111"/>
                      </a:lnTo>
                      <a:lnTo>
                        <a:pt x="55" y="129"/>
                      </a:lnTo>
                      <a:lnTo>
                        <a:pt x="64" y="147"/>
                      </a:lnTo>
                      <a:lnTo>
                        <a:pt x="73" y="165"/>
                      </a:lnTo>
                      <a:lnTo>
                        <a:pt x="83" y="174"/>
                      </a:lnTo>
                      <a:lnTo>
                        <a:pt x="92" y="193"/>
                      </a:lnTo>
                      <a:lnTo>
                        <a:pt x="101" y="210"/>
                      </a:lnTo>
                      <a:lnTo>
                        <a:pt x="101" y="238"/>
                      </a:lnTo>
                      <a:lnTo>
                        <a:pt x="101" y="257"/>
                      </a:lnTo>
                      <a:lnTo>
                        <a:pt x="101" y="275"/>
                      </a:lnTo>
                      <a:lnTo>
                        <a:pt x="101" y="30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542040" y="5722920"/>
                  <a:ext cx="43920" cy="149760"/>
                </a:xfrm>
                <a:custGeom>
                  <a:avLst/>
                  <a:gdLst/>
                  <a:ahLst/>
                  <a:rect l="l" t="t" r="r" b="b"/>
                  <a:pathLst>
                    <a:path w="109" h="376">
                      <a:moveTo>
                        <a:pt x="109" y="376"/>
                      </a:moveTo>
                      <a:lnTo>
                        <a:pt x="100" y="358"/>
                      </a:lnTo>
                      <a:lnTo>
                        <a:pt x="91" y="331"/>
                      </a:lnTo>
                      <a:lnTo>
                        <a:pt x="73" y="312"/>
                      </a:lnTo>
                      <a:lnTo>
                        <a:pt x="63" y="284"/>
                      </a:lnTo>
                      <a:lnTo>
                        <a:pt x="55" y="266"/>
                      </a:lnTo>
                      <a:lnTo>
                        <a:pt x="45" y="239"/>
                      </a:lnTo>
                      <a:lnTo>
                        <a:pt x="28" y="221"/>
                      </a:lnTo>
                      <a:lnTo>
                        <a:pt x="18" y="194"/>
                      </a:lnTo>
                      <a:lnTo>
                        <a:pt x="9" y="174"/>
                      </a:lnTo>
                      <a:lnTo>
                        <a:pt x="9" y="147"/>
                      </a:lnTo>
                      <a:lnTo>
                        <a:pt x="0" y="120"/>
                      </a:lnTo>
                      <a:lnTo>
                        <a:pt x="0" y="102"/>
                      </a:lnTo>
                      <a:lnTo>
                        <a:pt x="9" y="74"/>
                      </a:lnTo>
                      <a:lnTo>
                        <a:pt x="9" y="55"/>
                      </a:lnTo>
                      <a:lnTo>
                        <a:pt x="28" y="27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3567960" y="5623200"/>
                  <a:ext cx="14040" cy="65520"/>
                </a:xfrm>
                <a:custGeom>
                  <a:avLst/>
                  <a:gdLst/>
                  <a:ahLst/>
                  <a:rect l="l" t="t" r="r" b="b"/>
                  <a:pathLst>
                    <a:path w="37" h="165">
                      <a:moveTo>
                        <a:pt x="37" y="165"/>
                      </a:moveTo>
                      <a:lnTo>
                        <a:pt x="28" y="155"/>
                      </a:lnTo>
                      <a:lnTo>
                        <a:pt x="28" y="147"/>
                      </a:lnTo>
                      <a:lnTo>
                        <a:pt x="28" y="137"/>
                      </a:lnTo>
                      <a:lnTo>
                        <a:pt x="19" y="128"/>
                      </a:lnTo>
                      <a:lnTo>
                        <a:pt x="19" y="110"/>
                      </a:lnTo>
                      <a:lnTo>
                        <a:pt x="19" y="101"/>
                      </a:lnTo>
                      <a:lnTo>
                        <a:pt x="19" y="92"/>
                      </a:lnTo>
                      <a:lnTo>
                        <a:pt x="19" y="83"/>
                      </a:lnTo>
                      <a:lnTo>
                        <a:pt x="19" y="73"/>
                      </a:lnTo>
                      <a:lnTo>
                        <a:pt x="19" y="65"/>
                      </a:lnTo>
                      <a:lnTo>
                        <a:pt x="19" y="55"/>
                      </a:lnTo>
                      <a:lnTo>
                        <a:pt x="10" y="37"/>
                      </a:lnTo>
                      <a:lnTo>
                        <a:pt x="10" y="27"/>
                      </a:lnTo>
                      <a:lnTo>
                        <a:pt x="10" y="18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3506400" y="5553720"/>
                  <a:ext cx="61560" cy="6948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155" y="174"/>
                      </a:moveTo>
                      <a:lnTo>
                        <a:pt x="147" y="165"/>
                      </a:lnTo>
                      <a:lnTo>
                        <a:pt x="137" y="156"/>
                      </a:lnTo>
                      <a:lnTo>
                        <a:pt x="128" y="147"/>
                      </a:lnTo>
                      <a:lnTo>
                        <a:pt x="120" y="129"/>
                      </a:lnTo>
                      <a:lnTo>
                        <a:pt x="110" y="119"/>
                      </a:lnTo>
                      <a:lnTo>
                        <a:pt x="101" y="110"/>
                      </a:lnTo>
                      <a:lnTo>
                        <a:pt x="92" y="102"/>
                      </a:lnTo>
                      <a:lnTo>
                        <a:pt x="82" y="92"/>
                      </a:lnTo>
                      <a:lnTo>
                        <a:pt x="64" y="72"/>
                      </a:lnTo>
                      <a:lnTo>
                        <a:pt x="55" y="64"/>
                      </a:lnTo>
                      <a:lnTo>
                        <a:pt x="45" y="55"/>
                      </a:lnTo>
                      <a:lnTo>
                        <a:pt x="37" y="45"/>
                      </a:lnTo>
                      <a:lnTo>
                        <a:pt x="27" y="37"/>
                      </a:lnTo>
                      <a:lnTo>
                        <a:pt x="18" y="27"/>
                      </a:lnTo>
                      <a:lnTo>
                        <a:pt x="1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382200" y="5553720"/>
                  <a:ext cx="114120" cy="69480"/>
                </a:xfrm>
                <a:custGeom>
                  <a:avLst/>
                  <a:gdLst/>
                  <a:ahLst/>
                  <a:rect l="l" t="t" r="r" b="b"/>
                  <a:pathLst>
                    <a:path w="285" h="174">
                      <a:moveTo>
                        <a:pt x="285" y="0"/>
                      </a:moveTo>
                      <a:lnTo>
                        <a:pt x="266" y="18"/>
                      </a:lnTo>
                      <a:lnTo>
                        <a:pt x="257" y="27"/>
                      </a:lnTo>
                      <a:lnTo>
                        <a:pt x="239" y="37"/>
                      </a:lnTo>
                      <a:lnTo>
                        <a:pt x="220" y="55"/>
                      </a:lnTo>
                      <a:lnTo>
                        <a:pt x="202" y="64"/>
                      </a:lnTo>
                      <a:lnTo>
                        <a:pt x="184" y="72"/>
                      </a:lnTo>
                      <a:lnTo>
                        <a:pt x="166" y="82"/>
                      </a:lnTo>
                      <a:lnTo>
                        <a:pt x="148" y="92"/>
                      </a:lnTo>
                      <a:lnTo>
                        <a:pt x="129" y="102"/>
                      </a:lnTo>
                      <a:lnTo>
                        <a:pt x="110" y="110"/>
                      </a:lnTo>
                      <a:lnTo>
                        <a:pt x="92" y="119"/>
                      </a:lnTo>
                      <a:lnTo>
                        <a:pt x="74" y="129"/>
                      </a:lnTo>
                      <a:lnTo>
                        <a:pt x="56" y="147"/>
                      </a:lnTo>
                      <a:lnTo>
                        <a:pt x="38" y="156"/>
                      </a:lnTo>
                      <a:lnTo>
                        <a:pt x="20" y="165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3382200" y="5675400"/>
                  <a:ext cx="49680" cy="79560"/>
                </a:xfrm>
                <a:custGeom>
                  <a:avLst/>
                  <a:gdLst/>
                  <a:ahLst/>
                  <a:rect l="l" t="t" r="r" b="b"/>
                  <a:pathLst>
                    <a:path w="129" h="202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20" y="9"/>
                      </a:lnTo>
                      <a:lnTo>
                        <a:pt x="38" y="27"/>
                      </a:lnTo>
                      <a:lnTo>
                        <a:pt x="47" y="37"/>
                      </a:lnTo>
                      <a:lnTo>
                        <a:pt x="56" y="46"/>
                      </a:lnTo>
                      <a:lnTo>
                        <a:pt x="74" y="55"/>
                      </a:lnTo>
                      <a:lnTo>
                        <a:pt x="83" y="74"/>
                      </a:lnTo>
                      <a:lnTo>
                        <a:pt x="92" y="84"/>
                      </a:lnTo>
                      <a:lnTo>
                        <a:pt x="102" y="101"/>
                      </a:lnTo>
                      <a:lnTo>
                        <a:pt x="110" y="111"/>
                      </a:lnTo>
                      <a:lnTo>
                        <a:pt x="110" y="129"/>
                      </a:lnTo>
                      <a:lnTo>
                        <a:pt x="120" y="138"/>
                      </a:lnTo>
                      <a:lnTo>
                        <a:pt x="120" y="156"/>
                      </a:lnTo>
                      <a:lnTo>
                        <a:pt x="129" y="174"/>
                      </a:lnTo>
                      <a:lnTo>
                        <a:pt x="129" y="184"/>
                      </a:lnTo>
                      <a:lnTo>
                        <a:pt x="129" y="202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3378240" y="5810760"/>
                  <a:ext cx="11880" cy="79920"/>
                </a:xfrm>
                <a:custGeom>
                  <a:avLst/>
                  <a:gdLst/>
                  <a:ahLst/>
                  <a:rect l="l" t="t" r="r" b="b"/>
                  <a:pathLst>
                    <a:path w="28" h="200">
                      <a:moveTo>
                        <a:pt x="28" y="0"/>
                      </a:moveTo>
                      <a:lnTo>
                        <a:pt x="28" y="9"/>
                      </a:lnTo>
                      <a:lnTo>
                        <a:pt x="18" y="27"/>
                      </a:lnTo>
                      <a:lnTo>
                        <a:pt x="18" y="36"/>
                      </a:lnTo>
                      <a:lnTo>
                        <a:pt x="18" y="45"/>
                      </a:lnTo>
                      <a:lnTo>
                        <a:pt x="18" y="63"/>
                      </a:lnTo>
                      <a:lnTo>
                        <a:pt x="8" y="72"/>
                      </a:lnTo>
                      <a:lnTo>
                        <a:pt x="8" y="82"/>
                      </a:lnTo>
                      <a:lnTo>
                        <a:pt x="8" y="100"/>
                      </a:lnTo>
                      <a:lnTo>
                        <a:pt x="8" y="110"/>
                      </a:lnTo>
                      <a:lnTo>
                        <a:pt x="8" y="119"/>
                      </a:lnTo>
                      <a:lnTo>
                        <a:pt x="0" y="137"/>
                      </a:lnTo>
                      <a:lnTo>
                        <a:pt x="0" y="146"/>
                      </a:lnTo>
                      <a:lnTo>
                        <a:pt x="0" y="165"/>
                      </a:lnTo>
                      <a:lnTo>
                        <a:pt x="0" y="173"/>
                      </a:lnTo>
                      <a:lnTo>
                        <a:pt x="0" y="182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3356280" y="5754960"/>
                  <a:ext cx="39600" cy="127440"/>
                </a:xfrm>
                <a:custGeom>
                  <a:avLst/>
                  <a:gdLst/>
                  <a:ahLst/>
                  <a:rect l="l" t="t" r="r" b="b"/>
                  <a:pathLst>
                    <a:path w="101" h="320">
                      <a:moveTo>
                        <a:pt x="0" y="320"/>
                      </a:moveTo>
                      <a:lnTo>
                        <a:pt x="9" y="293"/>
                      </a:ln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27" y="238"/>
                      </a:lnTo>
                      <a:lnTo>
                        <a:pt x="36" y="220"/>
                      </a:lnTo>
                      <a:lnTo>
                        <a:pt x="45" y="201"/>
                      </a:lnTo>
                      <a:lnTo>
                        <a:pt x="55" y="183"/>
                      </a:lnTo>
                      <a:lnTo>
                        <a:pt x="55" y="165"/>
                      </a:lnTo>
                      <a:lnTo>
                        <a:pt x="63" y="138"/>
                      </a:lnTo>
                      <a:lnTo>
                        <a:pt x="73" y="119"/>
                      </a:lnTo>
                      <a:lnTo>
                        <a:pt x="73" y="101"/>
                      </a:lnTo>
                      <a:lnTo>
                        <a:pt x="83" y="82"/>
                      </a:lnTo>
                      <a:lnTo>
                        <a:pt x="83" y="64"/>
                      </a:lnTo>
                      <a:lnTo>
                        <a:pt x="91" y="46"/>
                      </a:lnTo>
                      <a:lnTo>
                        <a:pt x="91" y="19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3348360" y="5685480"/>
                  <a:ext cx="47880" cy="69480"/>
                </a:xfrm>
                <a:custGeom>
                  <a:avLst/>
                  <a:gdLst/>
                  <a:ahLst/>
                  <a:rect l="l" t="t" r="r" b="b"/>
                  <a:pathLst>
                    <a:path w="120" h="175">
                      <a:moveTo>
                        <a:pt x="120" y="175"/>
                      </a:moveTo>
                      <a:lnTo>
                        <a:pt x="110" y="166"/>
                      </a:lnTo>
                      <a:lnTo>
                        <a:pt x="110" y="147"/>
                      </a:lnTo>
                      <a:lnTo>
                        <a:pt x="110" y="138"/>
                      </a:lnTo>
                      <a:lnTo>
                        <a:pt x="102" y="119"/>
                      </a:lnTo>
                      <a:lnTo>
                        <a:pt x="102" y="111"/>
                      </a:lnTo>
                      <a:lnTo>
                        <a:pt x="92" y="102"/>
                      </a:lnTo>
                      <a:lnTo>
                        <a:pt x="82" y="84"/>
                      </a:lnTo>
                      <a:lnTo>
                        <a:pt x="82" y="74"/>
                      </a:lnTo>
                      <a:lnTo>
                        <a:pt x="74" y="65"/>
                      </a:lnTo>
                      <a:lnTo>
                        <a:pt x="64" y="57"/>
                      </a:lnTo>
                      <a:lnTo>
                        <a:pt x="55" y="47"/>
                      </a:lnTo>
                      <a:lnTo>
                        <a:pt x="46" y="38"/>
                      </a:lnTo>
                      <a:lnTo>
                        <a:pt x="37" y="28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3282480" y="5736960"/>
                  <a:ext cx="47880" cy="145440"/>
                </a:xfrm>
                <a:custGeom>
                  <a:avLst/>
                  <a:gdLst/>
                  <a:ahLst/>
                  <a:rect l="l" t="t" r="r" b="b"/>
                  <a:pathLst>
                    <a:path w="119" h="366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19" y="46"/>
                      </a:lnTo>
                      <a:lnTo>
                        <a:pt x="27" y="65"/>
                      </a:lnTo>
                      <a:lnTo>
                        <a:pt x="37" y="83"/>
                      </a:lnTo>
                      <a:lnTo>
                        <a:pt x="46" y="110"/>
                      </a:lnTo>
                      <a:lnTo>
                        <a:pt x="54" y="128"/>
                      </a:lnTo>
                      <a:lnTo>
                        <a:pt x="64" y="157"/>
                      </a:lnTo>
                      <a:lnTo>
                        <a:pt x="73" y="175"/>
                      </a:lnTo>
                      <a:lnTo>
                        <a:pt x="82" y="193"/>
                      </a:lnTo>
                      <a:lnTo>
                        <a:pt x="91" y="220"/>
                      </a:lnTo>
                      <a:lnTo>
                        <a:pt x="100" y="239"/>
                      </a:lnTo>
                      <a:lnTo>
                        <a:pt x="100" y="266"/>
                      </a:lnTo>
                      <a:lnTo>
                        <a:pt x="109" y="284"/>
                      </a:lnTo>
                      <a:lnTo>
                        <a:pt x="109" y="312"/>
                      </a:lnTo>
                      <a:lnTo>
                        <a:pt x="119" y="339"/>
                      </a:lnTo>
                      <a:lnTo>
                        <a:pt x="119" y="36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3250440" y="5749200"/>
                  <a:ext cx="9720" cy="123480"/>
                </a:xfrm>
                <a:custGeom>
                  <a:avLst/>
                  <a:gdLst/>
                  <a:ahLst/>
                  <a:rect l="l" t="t" r="r" b="b"/>
                  <a:pathLst>
                    <a:path w="27" h="311">
                      <a:moveTo>
                        <a:pt x="0" y="311"/>
                      </a:moveTo>
                      <a:lnTo>
                        <a:pt x="10" y="293"/>
                      </a:lnTo>
                      <a:lnTo>
                        <a:pt x="19" y="275"/>
                      </a:lnTo>
                      <a:lnTo>
                        <a:pt x="27" y="256"/>
                      </a:lnTo>
                      <a:lnTo>
                        <a:pt x="27" y="238"/>
                      </a:lnTo>
                      <a:lnTo>
                        <a:pt x="27" y="219"/>
                      </a:lnTo>
                      <a:lnTo>
                        <a:pt x="27" y="201"/>
                      </a:lnTo>
                      <a:lnTo>
                        <a:pt x="27" y="183"/>
                      </a:lnTo>
                      <a:lnTo>
                        <a:pt x="27" y="156"/>
                      </a:lnTo>
                      <a:lnTo>
                        <a:pt x="19" y="137"/>
                      </a:lnTo>
                      <a:lnTo>
                        <a:pt x="19" y="119"/>
                      </a:lnTo>
                      <a:lnTo>
                        <a:pt x="10" y="100"/>
                      </a:lnTo>
                      <a:lnTo>
                        <a:pt x="10" y="82"/>
                      </a:lnTo>
                      <a:lnTo>
                        <a:pt x="0" y="64"/>
                      </a:lnTo>
                      <a:lnTo>
                        <a:pt x="0" y="37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3250440" y="5657400"/>
                  <a:ext cx="79920" cy="91800"/>
                </a:xfrm>
                <a:custGeom>
                  <a:avLst/>
                  <a:gdLst/>
                  <a:ahLst/>
                  <a:rect l="l" t="t" r="r" b="b"/>
                  <a:pathLst>
                    <a:path w="202" h="229">
                      <a:moveTo>
                        <a:pt x="0" y="229"/>
                      </a:moveTo>
                      <a:lnTo>
                        <a:pt x="0" y="201"/>
                      </a:lnTo>
                      <a:lnTo>
                        <a:pt x="0" y="183"/>
                      </a:lnTo>
                      <a:lnTo>
                        <a:pt x="10" y="164"/>
                      </a:lnTo>
                      <a:lnTo>
                        <a:pt x="19" y="146"/>
                      </a:lnTo>
                      <a:lnTo>
                        <a:pt x="27" y="129"/>
                      </a:lnTo>
                      <a:lnTo>
                        <a:pt x="37" y="110"/>
                      </a:lnTo>
                      <a:lnTo>
                        <a:pt x="55" y="100"/>
                      </a:lnTo>
                      <a:lnTo>
                        <a:pt x="64" y="82"/>
                      </a:lnTo>
                      <a:lnTo>
                        <a:pt x="83" y="72"/>
                      </a:lnTo>
                      <a:lnTo>
                        <a:pt x="102" y="54"/>
                      </a:lnTo>
                      <a:lnTo>
                        <a:pt x="120" y="45"/>
                      </a:lnTo>
                      <a:lnTo>
                        <a:pt x="137" y="36"/>
                      </a:lnTo>
                      <a:lnTo>
                        <a:pt x="156" y="27"/>
                      </a:lnTo>
                      <a:lnTo>
                        <a:pt x="165" y="18"/>
                      </a:lnTo>
                      <a:lnTo>
                        <a:pt x="183" y="9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3330360" y="5495760"/>
                  <a:ext cx="95400" cy="161280"/>
                </a:xfrm>
                <a:custGeom>
                  <a:avLst/>
                  <a:gdLst/>
                  <a:ahLst/>
                  <a:rect l="l" t="t" r="r" b="b"/>
                  <a:pathLst>
                    <a:path w="237" h="404">
                      <a:moveTo>
                        <a:pt x="0" y="404"/>
                      </a:moveTo>
                      <a:lnTo>
                        <a:pt x="9" y="376"/>
                      </a:lnTo>
                      <a:lnTo>
                        <a:pt x="28" y="348"/>
                      </a:lnTo>
                      <a:lnTo>
                        <a:pt x="45" y="321"/>
                      </a:lnTo>
                      <a:lnTo>
                        <a:pt x="55" y="303"/>
                      </a:lnTo>
                      <a:lnTo>
                        <a:pt x="73" y="276"/>
                      </a:lnTo>
                      <a:lnTo>
                        <a:pt x="91" y="249"/>
                      </a:lnTo>
                      <a:lnTo>
                        <a:pt x="109" y="229"/>
                      </a:lnTo>
                      <a:lnTo>
                        <a:pt x="127" y="202"/>
                      </a:lnTo>
                      <a:lnTo>
                        <a:pt x="137" y="174"/>
                      </a:lnTo>
                      <a:lnTo>
                        <a:pt x="155" y="156"/>
                      </a:lnTo>
                      <a:lnTo>
                        <a:pt x="174" y="129"/>
                      </a:lnTo>
                      <a:lnTo>
                        <a:pt x="192" y="102"/>
                      </a:lnTo>
                      <a:lnTo>
                        <a:pt x="201" y="82"/>
                      </a:lnTo>
                      <a:lnTo>
                        <a:pt x="219" y="55"/>
                      </a:lnTo>
                      <a:lnTo>
                        <a:pt x="229" y="28"/>
                      </a:lnTo>
                      <a:lnTo>
                        <a:pt x="23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3426120" y="5397840"/>
                  <a:ext cx="36000" cy="97560"/>
                </a:xfrm>
                <a:custGeom>
                  <a:avLst/>
                  <a:gdLst/>
                  <a:ahLst/>
                  <a:rect l="l" t="t" r="r" b="b"/>
                  <a:pathLst>
                    <a:path w="92" h="247">
                      <a:moveTo>
                        <a:pt x="0" y="247"/>
                      </a:moveTo>
                      <a:lnTo>
                        <a:pt x="10" y="238"/>
                      </a:lnTo>
                      <a:lnTo>
                        <a:pt x="19" y="220"/>
                      </a:lnTo>
                      <a:lnTo>
                        <a:pt x="28" y="210"/>
                      </a:lnTo>
                      <a:lnTo>
                        <a:pt x="38" y="192"/>
                      </a:lnTo>
                      <a:lnTo>
                        <a:pt x="47" y="174"/>
                      </a:lnTo>
                      <a:lnTo>
                        <a:pt x="56" y="165"/>
                      </a:lnTo>
                      <a:lnTo>
                        <a:pt x="65" y="147"/>
                      </a:lnTo>
                      <a:lnTo>
                        <a:pt x="65" y="137"/>
                      </a:lnTo>
                      <a:lnTo>
                        <a:pt x="74" y="120"/>
                      </a:lnTo>
                      <a:lnTo>
                        <a:pt x="74" y="101"/>
                      </a:lnTo>
                      <a:lnTo>
                        <a:pt x="83" y="82"/>
                      </a:lnTo>
                      <a:lnTo>
                        <a:pt x="83" y="73"/>
                      </a:lnTo>
                      <a:lnTo>
                        <a:pt x="83" y="55"/>
                      </a:lnTo>
                      <a:lnTo>
                        <a:pt x="92" y="37"/>
                      </a:lnTo>
                      <a:lnTo>
                        <a:pt x="92" y="18"/>
                      </a:lnTo>
                      <a:lnTo>
                        <a:pt x="9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3294360" y="5170320"/>
                  <a:ext cx="168120" cy="227520"/>
                </a:xfrm>
                <a:custGeom>
                  <a:avLst/>
                  <a:gdLst/>
                  <a:ahLst/>
                  <a:rect l="l" t="t" r="r" b="b"/>
                  <a:pathLst>
                    <a:path w="421" h="568">
                      <a:moveTo>
                        <a:pt x="421" y="568"/>
                      </a:moveTo>
                      <a:lnTo>
                        <a:pt x="394" y="541"/>
                      </a:lnTo>
                      <a:lnTo>
                        <a:pt x="357" y="503"/>
                      </a:lnTo>
                      <a:lnTo>
                        <a:pt x="329" y="467"/>
                      </a:lnTo>
                      <a:lnTo>
                        <a:pt x="302" y="431"/>
                      </a:lnTo>
                      <a:lnTo>
                        <a:pt x="275" y="404"/>
                      </a:lnTo>
                      <a:lnTo>
                        <a:pt x="247" y="366"/>
                      </a:lnTo>
                      <a:lnTo>
                        <a:pt x="219" y="329"/>
                      </a:lnTo>
                      <a:lnTo>
                        <a:pt x="192" y="293"/>
                      </a:lnTo>
                      <a:lnTo>
                        <a:pt x="165" y="257"/>
                      </a:lnTo>
                      <a:lnTo>
                        <a:pt x="147" y="219"/>
                      </a:lnTo>
                      <a:lnTo>
                        <a:pt x="120" y="183"/>
                      </a:lnTo>
                      <a:lnTo>
                        <a:pt x="92" y="147"/>
                      </a:lnTo>
                      <a:lnTo>
                        <a:pt x="73" y="109"/>
                      </a:lnTo>
                      <a:lnTo>
                        <a:pt x="46" y="73"/>
                      </a:lnTo>
                      <a:lnTo>
                        <a:pt x="19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3044520" y="4756680"/>
                  <a:ext cx="249480" cy="413280"/>
                </a:xfrm>
                <a:custGeom>
                  <a:avLst/>
                  <a:gdLst/>
                  <a:ahLst/>
                  <a:rect l="l" t="t" r="r" b="b"/>
                  <a:pathLst>
                    <a:path w="622" h="1035">
                      <a:moveTo>
                        <a:pt x="622" y="1035"/>
                      </a:moveTo>
                      <a:lnTo>
                        <a:pt x="576" y="961"/>
                      </a:lnTo>
                      <a:lnTo>
                        <a:pt x="539" y="898"/>
                      </a:lnTo>
                      <a:lnTo>
                        <a:pt x="504" y="833"/>
                      </a:lnTo>
                      <a:lnTo>
                        <a:pt x="467" y="779"/>
                      </a:lnTo>
                      <a:lnTo>
                        <a:pt x="421" y="714"/>
                      </a:lnTo>
                      <a:lnTo>
                        <a:pt x="384" y="650"/>
                      </a:lnTo>
                      <a:lnTo>
                        <a:pt x="348" y="585"/>
                      </a:lnTo>
                      <a:lnTo>
                        <a:pt x="302" y="522"/>
                      </a:lnTo>
                      <a:lnTo>
                        <a:pt x="265" y="457"/>
                      </a:lnTo>
                      <a:lnTo>
                        <a:pt x="229" y="393"/>
                      </a:lnTo>
                      <a:lnTo>
                        <a:pt x="192" y="329"/>
                      </a:lnTo>
                      <a:lnTo>
                        <a:pt x="147" y="256"/>
                      </a:lnTo>
                      <a:lnTo>
                        <a:pt x="110" y="191"/>
                      </a:lnTo>
                      <a:lnTo>
                        <a:pt x="73" y="128"/>
                      </a:lnTo>
                      <a:lnTo>
                        <a:pt x="37" y="6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894400" y="4519080"/>
                  <a:ext cx="149760" cy="237600"/>
                </a:xfrm>
                <a:custGeom>
                  <a:avLst/>
                  <a:gdLst/>
                  <a:ahLst/>
                  <a:rect l="l" t="t" r="r" b="b"/>
                  <a:pathLst>
                    <a:path w="375" h="596">
                      <a:moveTo>
                        <a:pt x="375" y="596"/>
                      </a:moveTo>
                      <a:lnTo>
                        <a:pt x="348" y="558"/>
                      </a:lnTo>
                      <a:lnTo>
                        <a:pt x="330" y="522"/>
                      </a:lnTo>
                      <a:lnTo>
                        <a:pt x="302" y="486"/>
                      </a:lnTo>
                      <a:lnTo>
                        <a:pt x="274" y="449"/>
                      </a:lnTo>
                      <a:lnTo>
                        <a:pt x="256" y="411"/>
                      </a:lnTo>
                      <a:lnTo>
                        <a:pt x="228" y="376"/>
                      </a:lnTo>
                      <a:lnTo>
                        <a:pt x="210" y="339"/>
                      </a:lnTo>
                      <a:lnTo>
                        <a:pt x="183" y="293"/>
                      </a:lnTo>
                      <a:lnTo>
                        <a:pt x="155" y="256"/>
                      </a:lnTo>
                      <a:lnTo>
                        <a:pt x="137" y="220"/>
                      </a:lnTo>
                      <a:lnTo>
                        <a:pt x="110" y="184"/>
                      </a:lnTo>
                      <a:lnTo>
                        <a:pt x="91" y="146"/>
                      </a:lnTo>
                      <a:lnTo>
                        <a:pt x="64" y="110"/>
                      </a:lnTo>
                      <a:lnTo>
                        <a:pt x="46" y="73"/>
                      </a:lnTo>
                      <a:lnTo>
                        <a:pt x="18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2726640" y="4547160"/>
                  <a:ext cx="123480" cy="131400"/>
                </a:xfrm>
                <a:custGeom>
                  <a:avLst/>
                  <a:gdLst/>
                  <a:ahLst/>
                  <a:rect l="l" t="t" r="r" b="b"/>
                  <a:pathLst>
                    <a:path w="311" h="330">
                      <a:moveTo>
                        <a:pt x="311" y="0"/>
                      </a:moveTo>
                      <a:lnTo>
                        <a:pt x="292" y="27"/>
                      </a:lnTo>
                      <a:lnTo>
                        <a:pt x="274" y="46"/>
                      </a:lnTo>
                      <a:lnTo>
                        <a:pt x="256" y="64"/>
                      </a:lnTo>
                      <a:lnTo>
                        <a:pt x="238" y="82"/>
                      </a:lnTo>
                      <a:lnTo>
                        <a:pt x="220" y="101"/>
                      </a:lnTo>
                      <a:lnTo>
                        <a:pt x="192" y="119"/>
                      </a:lnTo>
                      <a:lnTo>
                        <a:pt x="174" y="147"/>
                      </a:lnTo>
                      <a:lnTo>
                        <a:pt x="155" y="165"/>
                      </a:lnTo>
                      <a:lnTo>
                        <a:pt x="137" y="183"/>
                      </a:lnTo>
                      <a:lnTo>
                        <a:pt x="119" y="201"/>
                      </a:lnTo>
                      <a:lnTo>
                        <a:pt x="92" y="220"/>
                      </a:lnTo>
                      <a:lnTo>
                        <a:pt x="73" y="248"/>
                      </a:lnTo>
                      <a:lnTo>
                        <a:pt x="54" y="266"/>
                      </a:lnTo>
                      <a:lnTo>
                        <a:pt x="36" y="284"/>
                      </a:lnTo>
                      <a:lnTo>
                        <a:pt x="18" y="303"/>
                      </a:lnTo>
                      <a:lnTo>
                        <a:pt x="0" y="33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2572560" y="4678920"/>
                  <a:ext cx="154080" cy="191160"/>
                </a:xfrm>
                <a:custGeom>
                  <a:avLst/>
                  <a:gdLst/>
                  <a:ahLst/>
                  <a:rect l="l" t="t" r="r" b="b"/>
                  <a:pathLst>
                    <a:path w="385" h="476">
                      <a:moveTo>
                        <a:pt x="385" y="0"/>
                      </a:moveTo>
                      <a:lnTo>
                        <a:pt x="358" y="27"/>
                      </a:lnTo>
                      <a:lnTo>
                        <a:pt x="330" y="55"/>
                      </a:lnTo>
                      <a:lnTo>
                        <a:pt x="312" y="83"/>
                      </a:lnTo>
                      <a:lnTo>
                        <a:pt x="284" y="119"/>
                      </a:lnTo>
                      <a:lnTo>
                        <a:pt x="257" y="146"/>
                      </a:lnTo>
                      <a:lnTo>
                        <a:pt x="238" y="174"/>
                      </a:lnTo>
                      <a:lnTo>
                        <a:pt x="211" y="202"/>
                      </a:lnTo>
                      <a:lnTo>
                        <a:pt x="193" y="229"/>
                      </a:lnTo>
                      <a:lnTo>
                        <a:pt x="165" y="265"/>
                      </a:lnTo>
                      <a:lnTo>
                        <a:pt x="147" y="292"/>
                      </a:lnTo>
                      <a:lnTo>
                        <a:pt x="120" y="321"/>
                      </a:lnTo>
                      <a:lnTo>
                        <a:pt x="101" y="357"/>
                      </a:lnTo>
                      <a:lnTo>
                        <a:pt x="74" y="384"/>
                      </a:lnTo>
                      <a:lnTo>
                        <a:pt x="46" y="412"/>
                      </a:lnTo>
                      <a:lnTo>
                        <a:pt x="28" y="439"/>
                      </a:lnTo>
                      <a:lnTo>
                        <a:pt x="0" y="47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2395080" y="4789080"/>
                  <a:ext cx="83520" cy="77760"/>
                </a:xfrm>
                <a:custGeom>
                  <a:avLst/>
                  <a:gdLst/>
                  <a:ahLst/>
                  <a:rect l="l" t="t" r="r" b="b"/>
                  <a:pathLst>
                    <a:path w="211" h="193">
                      <a:moveTo>
                        <a:pt x="211" y="193"/>
                      </a:moveTo>
                      <a:lnTo>
                        <a:pt x="201" y="185"/>
                      </a:lnTo>
                      <a:lnTo>
                        <a:pt x="183" y="175"/>
                      </a:lnTo>
                      <a:lnTo>
                        <a:pt x="174" y="157"/>
                      </a:lnTo>
                      <a:lnTo>
                        <a:pt x="156" y="147"/>
                      </a:lnTo>
                      <a:lnTo>
                        <a:pt x="147" y="138"/>
                      </a:lnTo>
                      <a:lnTo>
                        <a:pt x="129" y="120"/>
                      </a:lnTo>
                      <a:lnTo>
                        <a:pt x="119" y="110"/>
                      </a:lnTo>
                      <a:lnTo>
                        <a:pt x="101" y="102"/>
                      </a:lnTo>
                      <a:lnTo>
                        <a:pt x="91" y="83"/>
                      </a:lnTo>
                      <a:lnTo>
                        <a:pt x="73" y="75"/>
                      </a:lnTo>
                      <a:lnTo>
                        <a:pt x="64" y="65"/>
                      </a:lnTo>
                      <a:lnTo>
                        <a:pt x="55" y="47"/>
                      </a:lnTo>
                      <a:lnTo>
                        <a:pt x="37" y="38"/>
                      </a:lnTo>
                      <a:lnTo>
                        <a:pt x="27" y="18"/>
                      </a:lnTo>
                      <a:lnTo>
                        <a:pt x="1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2342880" y="4545360"/>
                  <a:ext cx="75960" cy="159120"/>
                </a:xfrm>
                <a:custGeom>
                  <a:avLst/>
                  <a:gdLst/>
                  <a:ahLst/>
                  <a:rect l="l" t="t" r="r" b="b"/>
                  <a:pathLst>
                    <a:path w="192" h="404">
                      <a:moveTo>
                        <a:pt x="0" y="404"/>
                      </a:moveTo>
                      <a:lnTo>
                        <a:pt x="10" y="375"/>
                      </a:lnTo>
                      <a:lnTo>
                        <a:pt x="10" y="347"/>
                      </a:lnTo>
                      <a:lnTo>
                        <a:pt x="18" y="320"/>
                      </a:lnTo>
                      <a:lnTo>
                        <a:pt x="27" y="293"/>
                      </a:lnTo>
                      <a:lnTo>
                        <a:pt x="45" y="275"/>
                      </a:lnTo>
                      <a:lnTo>
                        <a:pt x="55" y="247"/>
                      </a:lnTo>
                      <a:lnTo>
                        <a:pt x="64" y="219"/>
                      </a:lnTo>
                      <a:lnTo>
                        <a:pt x="82" y="202"/>
                      </a:lnTo>
                      <a:lnTo>
                        <a:pt x="100" y="174"/>
                      </a:lnTo>
                      <a:lnTo>
                        <a:pt x="110" y="147"/>
                      </a:lnTo>
                      <a:lnTo>
                        <a:pt x="128" y="128"/>
                      </a:lnTo>
                      <a:lnTo>
                        <a:pt x="137" y="100"/>
                      </a:lnTo>
                      <a:lnTo>
                        <a:pt x="155" y="73"/>
                      </a:lnTo>
                      <a:lnTo>
                        <a:pt x="165" y="55"/>
                      </a:lnTo>
                      <a:lnTo>
                        <a:pt x="183" y="28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2418840" y="4200120"/>
                  <a:ext cx="171720" cy="345240"/>
                </a:xfrm>
                <a:custGeom>
                  <a:avLst/>
                  <a:gdLst/>
                  <a:ahLst/>
                  <a:rect l="l" t="t" r="r" b="b"/>
                  <a:pathLst>
                    <a:path w="430" h="862">
                      <a:moveTo>
                        <a:pt x="0" y="862"/>
                      </a:moveTo>
                      <a:lnTo>
                        <a:pt x="27" y="807"/>
                      </a:lnTo>
                      <a:lnTo>
                        <a:pt x="55" y="753"/>
                      </a:lnTo>
                      <a:lnTo>
                        <a:pt x="83" y="706"/>
                      </a:lnTo>
                      <a:lnTo>
                        <a:pt x="110" y="651"/>
                      </a:lnTo>
                      <a:lnTo>
                        <a:pt x="137" y="596"/>
                      </a:lnTo>
                      <a:lnTo>
                        <a:pt x="164" y="541"/>
                      </a:lnTo>
                      <a:lnTo>
                        <a:pt x="193" y="486"/>
                      </a:lnTo>
                      <a:lnTo>
                        <a:pt x="220" y="431"/>
                      </a:lnTo>
                      <a:lnTo>
                        <a:pt x="247" y="376"/>
                      </a:lnTo>
                      <a:lnTo>
                        <a:pt x="274" y="321"/>
                      </a:lnTo>
                      <a:lnTo>
                        <a:pt x="302" y="275"/>
                      </a:lnTo>
                      <a:lnTo>
                        <a:pt x="330" y="220"/>
                      </a:lnTo>
                      <a:lnTo>
                        <a:pt x="357" y="165"/>
                      </a:lnTo>
                      <a:lnTo>
                        <a:pt x="384" y="110"/>
                      </a:lnTo>
                      <a:lnTo>
                        <a:pt x="402" y="55"/>
                      </a:lnTo>
                      <a:lnTo>
                        <a:pt x="43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2590920" y="3932280"/>
                  <a:ext cx="121680" cy="267480"/>
                </a:xfrm>
                <a:custGeom>
                  <a:avLst/>
                  <a:gdLst/>
                  <a:ahLst/>
                  <a:rect l="l" t="t" r="r" b="b"/>
                  <a:pathLst>
                    <a:path w="302" h="669">
                      <a:moveTo>
                        <a:pt x="0" y="669"/>
                      </a:moveTo>
                      <a:lnTo>
                        <a:pt x="19" y="623"/>
                      </a:lnTo>
                      <a:lnTo>
                        <a:pt x="37" y="587"/>
                      </a:lnTo>
                      <a:lnTo>
                        <a:pt x="64" y="541"/>
                      </a:lnTo>
                      <a:lnTo>
                        <a:pt x="82" y="505"/>
                      </a:lnTo>
                      <a:lnTo>
                        <a:pt x="101" y="458"/>
                      </a:lnTo>
                      <a:lnTo>
                        <a:pt x="119" y="421"/>
                      </a:lnTo>
                      <a:lnTo>
                        <a:pt x="137" y="376"/>
                      </a:lnTo>
                      <a:lnTo>
                        <a:pt x="156" y="330"/>
                      </a:lnTo>
                      <a:lnTo>
                        <a:pt x="174" y="293"/>
                      </a:lnTo>
                      <a:lnTo>
                        <a:pt x="192" y="248"/>
                      </a:lnTo>
                      <a:lnTo>
                        <a:pt x="211" y="212"/>
                      </a:lnTo>
                      <a:lnTo>
                        <a:pt x="229" y="166"/>
                      </a:lnTo>
                      <a:lnTo>
                        <a:pt x="247" y="120"/>
                      </a:lnTo>
                      <a:lnTo>
                        <a:pt x="266" y="83"/>
                      </a:lnTo>
                      <a:lnTo>
                        <a:pt x="284" y="37"/>
                      </a:lnTo>
                      <a:lnTo>
                        <a:pt x="30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2712600" y="3844440"/>
                  <a:ext cx="28080" cy="87480"/>
                </a:xfrm>
                <a:custGeom>
                  <a:avLst/>
                  <a:gdLst/>
                  <a:ahLst/>
                  <a:rect l="l" t="t" r="r" b="b"/>
                  <a:pathLst>
                    <a:path w="73" h="220">
                      <a:moveTo>
                        <a:pt x="0" y="220"/>
                      </a:moveTo>
                      <a:lnTo>
                        <a:pt x="0" y="202"/>
                      </a:lnTo>
                      <a:lnTo>
                        <a:pt x="0" y="185"/>
                      </a:lnTo>
                      <a:lnTo>
                        <a:pt x="0" y="175"/>
                      </a:lnTo>
                      <a:lnTo>
                        <a:pt x="10" y="157"/>
                      </a:lnTo>
                      <a:lnTo>
                        <a:pt x="10" y="147"/>
                      </a:lnTo>
                      <a:lnTo>
                        <a:pt x="10" y="128"/>
                      </a:lnTo>
                      <a:lnTo>
                        <a:pt x="19" y="120"/>
                      </a:lnTo>
                      <a:lnTo>
                        <a:pt x="19" y="101"/>
                      </a:lnTo>
                      <a:lnTo>
                        <a:pt x="27" y="92"/>
                      </a:lnTo>
                      <a:lnTo>
                        <a:pt x="37" y="74"/>
                      </a:lnTo>
                      <a:lnTo>
                        <a:pt x="37" y="65"/>
                      </a:lnTo>
                      <a:lnTo>
                        <a:pt x="46" y="46"/>
                      </a:lnTo>
                      <a:lnTo>
                        <a:pt x="55" y="38"/>
                      </a:lnTo>
                      <a:lnTo>
                        <a:pt x="55" y="28"/>
                      </a:lnTo>
                      <a:lnTo>
                        <a:pt x="64" y="1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2740680" y="3585240"/>
                  <a:ext cx="301680" cy="259200"/>
                </a:xfrm>
                <a:custGeom>
                  <a:avLst/>
                  <a:gdLst/>
                  <a:ahLst/>
                  <a:rect l="l" t="t" r="r" b="b"/>
                  <a:pathLst>
                    <a:path w="751" h="650">
                      <a:moveTo>
                        <a:pt x="0" y="650"/>
                      </a:moveTo>
                      <a:lnTo>
                        <a:pt x="37" y="596"/>
                      </a:lnTo>
                      <a:lnTo>
                        <a:pt x="74" y="540"/>
                      </a:lnTo>
                      <a:lnTo>
                        <a:pt x="110" y="494"/>
                      </a:lnTo>
                      <a:lnTo>
                        <a:pt x="156" y="449"/>
                      </a:lnTo>
                      <a:lnTo>
                        <a:pt x="202" y="403"/>
                      </a:lnTo>
                      <a:lnTo>
                        <a:pt x="238" y="357"/>
                      </a:lnTo>
                      <a:lnTo>
                        <a:pt x="293" y="312"/>
                      </a:lnTo>
                      <a:lnTo>
                        <a:pt x="339" y="274"/>
                      </a:lnTo>
                      <a:lnTo>
                        <a:pt x="385" y="238"/>
                      </a:lnTo>
                      <a:lnTo>
                        <a:pt x="440" y="202"/>
                      </a:lnTo>
                      <a:lnTo>
                        <a:pt x="495" y="165"/>
                      </a:lnTo>
                      <a:lnTo>
                        <a:pt x="540" y="128"/>
                      </a:lnTo>
                      <a:lnTo>
                        <a:pt x="595" y="92"/>
                      </a:lnTo>
                      <a:lnTo>
                        <a:pt x="650" y="65"/>
                      </a:lnTo>
                      <a:lnTo>
                        <a:pt x="705" y="28"/>
                      </a:lnTo>
                      <a:lnTo>
                        <a:pt x="751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3048480" y="3439440"/>
                  <a:ext cx="117720" cy="145440"/>
                </a:xfrm>
                <a:custGeom>
                  <a:avLst/>
                  <a:gdLst/>
                  <a:ahLst/>
                  <a:rect l="l" t="t" r="r" b="b"/>
                  <a:pathLst>
                    <a:path w="293" h="366">
                      <a:moveTo>
                        <a:pt x="0" y="366"/>
                      </a:moveTo>
                      <a:lnTo>
                        <a:pt x="18" y="338"/>
                      </a:lnTo>
                      <a:lnTo>
                        <a:pt x="36" y="320"/>
                      </a:lnTo>
                      <a:lnTo>
                        <a:pt x="56" y="292"/>
                      </a:lnTo>
                      <a:lnTo>
                        <a:pt x="74" y="275"/>
                      </a:lnTo>
                      <a:lnTo>
                        <a:pt x="91" y="246"/>
                      </a:lnTo>
                      <a:lnTo>
                        <a:pt x="110" y="228"/>
                      </a:lnTo>
                      <a:lnTo>
                        <a:pt x="128" y="210"/>
                      </a:lnTo>
                      <a:lnTo>
                        <a:pt x="146" y="182"/>
                      </a:lnTo>
                      <a:lnTo>
                        <a:pt x="165" y="165"/>
                      </a:lnTo>
                      <a:lnTo>
                        <a:pt x="183" y="137"/>
                      </a:lnTo>
                      <a:lnTo>
                        <a:pt x="201" y="118"/>
                      </a:lnTo>
                      <a:lnTo>
                        <a:pt x="220" y="90"/>
                      </a:lnTo>
                      <a:lnTo>
                        <a:pt x="238" y="72"/>
                      </a:lnTo>
                      <a:lnTo>
                        <a:pt x="256" y="45"/>
                      </a:lnTo>
                      <a:lnTo>
                        <a:pt x="275" y="27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3128400" y="3245760"/>
                  <a:ext cx="37800" cy="163800"/>
                </a:xfrm>
                <a:custGeom>
                  <a:avLst/>
                  <a:gdLst/>
                  <a:ahLst/>
                  <a:rect l="l" t="t" r="r" b="b"/>
                  <a:pathLst>
                    <a:path w="92" h="412">
                      <a:moveTo>
                        <a:pt x="92" y="412"/>
                      </a:moveTo>
                      <a:lnTo>
                        <a:pt x="74" y="394"/>
                      </a:lnTo>
                      <a:lnTo>
                        <a:pt x="55" y="376"/>
                      </a:lnTo>
                      <a:lnTo>
                        <a:pt x="37" y="347"/>
                      </a:lnTo>
                      <a:lnTo>
                        <a:pt x="28" y="329"/>
                      </a:lnTo>
                      <a:lnTo>
                        <a:pt x="19" y="302"/>
                      </a:lnTo>
                      <a:lnTo>
                        <a:pt x="10" y="275"/>
                      </a:lnTo>
                      <a:lnTo>
                        <a:pt x="0" y="247"/>
                      </a:lnTo>
                      <a:lnTo>
                        <a:pt x="0" y="220"/>
                      </a:lnTo>
                      <a:lnTo>
                        <a:pt x="0" y="192"/>
                      </a:lnTo>
                      <a:lnTo>
                        <a:pt x="0" y="165"/>
                      </a:lnTo>
                      <a:lnTo>
                        <a:pt x="0" y="137"/>
                      </a:lnTo>
                      <a:lnTo>
                        <a:pt x="0" y="110"/>
                      </a:lnTo>
                      <a:lnTo>
                        <a:pt x="0" y="82"/>
                      </a:lnTo>
                      <a:lnTo>
                        <a:pt x="10" y="55"/>
                      </a:lnTo>
                      <a:lnTo>
                        <a:pt x="10" y="27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3132360" y="3167640"/>
                  <a:ext cx="105840" cy="77760"/>
                </a:xfrm>
                <a:custGeom>
                  <a:avLst/>
                  <a:gdLst/>
                  <a:ahLst/>
                  <a:rect l="l" t="t" r="r" b="b"/>
                  <a:pathLst>
                    <a:path w="265" h="194">
                      <a:moveTo>
                        <a:pt x="0" y="194"/>
                      </a:moveTo>
                      <a:lnTo>
                        <a:pt x="18" y="175"/>
                      </a:lnTo>
                      <a:lnTo>
                        <a:pt x="27" y="157"/>
                      </a:lnTo>
                      <a:lnTo>
                        <a:pt x="37" y="139"/>
                      </a:lnTo>
                      <a:lnTo>
                        <a:pt x="54" y="129"/>
                      </a:lnTo>
                      <a:lnTo>
                        <a:pt x="72" y="111"/>
                      </a:lnTo>
                      <a:lnTo>
                        <a:pt x="91" y="102"/>
                      </a:lnTo>
                      <a:lnTo>
                        <a:pt x="110" y="93"/>
                      </a:lnTo>
                      <a:lnTo>
                        <a:pt x="119" y="75"/>
                      </a:lnTo>
                      <a:lnTo>
                        <a:pt x="137" y="65"/>
                      </a:lnTo>
                      <a:lnTo>
                        <a:pt x="155" y="57"/>
                      </a:lnTo>
                      <a:lnTo>
                        <a:pt x="174" y="47"/>
                      </a:lnTo>
                      <a:lnTo>
                        <a:pt x="192" y="38"/>
                      </a:lnTo>
                      <a:lnTo>
                        <a:pt x="209" y="30"/>
                      </a:lnTo>
                      <a:lnTo>
                        <a:pt x="228" y="20"/>
                      </a:lnTo>
                      <a:lnTo>
                        <a:pt x="247" y="10"/>
                      </a:lnTo>
                      <a:lnTo>
                        <a:pt x="265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3188160" y="3145680"/>
                  <a:ext cx="303840" cy="289440"/>
                </a:xfrm>
                <a:custGeom>
                  <a:avLst/>
                  <a:gdLst/>
                  <a:ahLst/>
                  <a:rect l="l" t="t" r="r" b="b"/>
                  <a:pathLst>
                    <a:path w="759" h="724">
                      <a:moveTo>
                        <a:pt x="713" y="92"/>
                      </a:moveTo>
                      <a:lnTo>
                        <a:pt x="731" y="101"/>
                      </a:lnTo>
                      <a:lnTo>
                        <a:pt x="741" y="111"/>
                      </a:lnTo>
                      <a:lnTo>
                        <a:pt x="741" y="119"/>
                      </a:lnTo>
                      <a:lnTo>
                        <a:pt x="750" y="129"/>
                      </a:lnTo>
                      <a:lnTo>
                        <a:pt x="750" y="147"/>
                      </a:lnTo>
                      <a:lnTo>
                        <a:pt x="759" y="156"/>
                      </a:lnTo>
                      <a:lnTo>
                        <a:pt x="759" y="174"/>
                      </a:lnTo>
                      <a:lnTo>
                        <a:pt x="759" y="183"/>
                      </a:lnTo>
                      <a:lnTo>
                        <a:pt x="759" y="193"/>
                      </a:lnTo>
                      <a:lnTo>
                        <a:pt x="759" y="211"/>
                      </a:lnTo>
                      <a:lnTo>
                        <a:pt x="759" y="221"/>
                      </a:lnTo>
                      <a:lnTo>
                        <a:pt x="759" y="239"/>
                      </a:lnTo>
                      <a:lnTo>
                        <a:pt x="759" y="248"/>
                      </a:lnTo>
                      <a:lnTo>
                        <a:pt x="759" y="266"/>
                      </a:lnTo>
                      <a:lnTo>
                        <a:pt x="750" y="275"/>
                      </a:lnTo>
                      <a:lnTo>
                        <a:pt x="750" y="293"/>
                      </a:lnTo>
                      <a:lnTo>
                        <a:pt x="741" y="330"/>
                      </a:lnTo>
                      <a:lnTo>
                        <a:pt x="723" y="368"/>
                      </a:lnTo>
                      <a:lnTo>
                        <a:pt x="704" y="403"/>
                      </a:lnTo>
                      <a:lnTo>
                        <a:pt x="677" y="440"/>
                      </a:lnTo>
                      <a:lnTo>
                        <a:pt x="659" y="477"/>
                      </a:lnTo>
                      <a:lnTo>
                        <a:pt x="632" y="505"/>
                      </a:lnTo>
                      <a:lnTo>
                        <a:pt x="594" y="540"/>
                      </a:lnTo>
                      <a:lnTo>
                        <a:pt x="567" y="568"/>
                      </a:lnTo>
                      <a:lnTo>
                        <a:pt x="531" y="595"/>
                      </a:lnTo>
                      <a:lnTo>
                        <a:pt x="504" y="615"/>
                      </a:lnTo>
                      <a:lnTo>
                        <a:pt x="466" y="642"/>
                      </a:lnTo>
                      <a:lnTo>
                        <a:pt x="430" y="660"/>
                      </a:lnTo>
                      <a:lnTo>
                        <a:pt x="394" y="679"/>
                      </a:lnTo>
                      <a:lnTo>
                        <a:pt x="357" y="696"/>
                      </a:lnTo>
                      <a:lnTo>
                        <a:pt x="311" y="706"/>
                      </a:lnTo>
                      <a:lnTo>
                        <a:pt x="275" y="714"/>
                      </a:lnTo>
                      <a:lnTo>
                        <a:pt x="265" y="724"/>
                      </a:lnTo>
                      <a:lnTo>
                        <a:pt x="257" y="724"/>
                      </a:lnTo>
                      <a:lnTo>
                        <a:pt x="247" y="724"/>
                      </a:lnTo>
                      <a:lnTo>
                        <a:pt x="238" y="724"/>
                      </a:lnTo>
                      <a:lnTo>
                        <a:pt x="229" y="714"/>
                      </a:lnTo>
                      <a:lnTo>
                        <a:pt x="219" y="714"/>
                      </a:lnTo>
                      <a:lnTo>
                        <a:pt x="210" y="714"/>
                      </a:lnTo>
                      <a:lnTo>
                        <a:pt x="201" y="714"/>
                      </a:lnTo>
                      <a:lnTo>
                        <a:pt x="192" y="714"/>
                      </a:lnTo>
                      <a:lnTo>
                        <a:pt x="182" y="714"/>
                      </a:lnTo>
                      <a:lnTo>
                        <a:pt x="174" y="724"/>
                      </a:lnTo>
                      <a:lnTo>
                        <a:pt x="165" y="724"/>
                      </a:lnTo>
                      <a:lnTo>
                        <a:pt x="155" y="714"/>
                      </a:lnTo>
                      <a:lnTo>
                        <a:pt x="147" y="706"/>
                      </a:lnTo>
                      <a:lnTo>
                        <a:pt x="137" y="696"/>
                      </a:lnTo>
                      <a:lnTo>
                        <a:pt x="120" y="696"/>
                      </a:lnTo>
                      <a:lnTo>
                        <a:pt x="110" y="687"/>
                      </a:lnTo>
                      <a:lnTo>
                        <a:pt x="100" y="679"/>
                      </a:lnTo>
                      <a:lnTo>
                        <a:pt x="82" y="669"/>
                      </a:lnTo>
                      <a:lnTo>
                        <a:pt x="72" y="660"/>
                      </a:lnTo>
                      <a:lnTo>
                        <a:pt x="64" y="651"/>
                      </a:lnTo>
                      <a:lnTo>
                        <a:pt x="55" y="651"/>
                      </a:lnTo>
                      <a:lnTo>
                        <a:pt x="37" y="642"/>
                      </a:lnTo>
                      <a:lnTo>
                        <a:pt x="27" y="624"/>
                      </a:lnTo>
                      <a:lnTo>
                        <a:pt x="18" y="615"/>
                      </a:lnTo>
                      <a:lnTo>
                        <a:pt x="10" y="605"/>
                      </a:lnTo>
                      <a:lnTo>
                        <a:pt x="10" y="595"/>
                      </a:lnTo>
                      <a:lnTo>
                        <a:pt x="0" y="577"/>
                      </a:lnTo>
                      <a:lnTo>
                        <a:pt x="0" y="568"/>
                      </a:lnTo>
                      <a:lnTo>
                        <a:pt x="0" y="559"/>
                      </a:lnTo>
                      <a:lnTo>
                        <a:pt x="0" y="550"/>
                      </a:lnTo>
                      <a:lnTo>
                        <a:pt x="0" y="532"/>
                      </a:lnTo>
                      <a:lnTo>
                        <a:pt x="0" y="523"/>
                      </a:lnTo>
                      <a:lnTo>
                        <a:pt x="0" y="513"/>
                      </a:lnTo>
                      <a:lnTo>
                        <a:pt x="0" y="505"/>
                      </a:lnTo>
                      <a:lnTo>
                        <a:pt x="0" y="495"/>
                      </a:lnTo>
                      <a:lnTo>
                        <a:pt x="0" y="486"/>
                      </a:lnTo>
                      <a:lnTo>
                        <a:pt x="0" y="468"/>
                      </a:lnTo>
                      <a:lnTo>
                        <a:pt x="0" y="458"/>
                      </a:lnTo>
                      <a:lnTo>
                        <a:pt x="10" y="449"/>
                      </a:lnTo>
                      <a:lnTo>
                        <a:pt x="10" y="440"/>
                      </a:lnTo>
                      <a:lnTo>
                        <a:pt x="10" y="430"/>
                      </a:lnTo>
                      <a:lnTo>
                        <a:pt x="18" y="422"/>
                      </a:lnTo>
                      <a:lnTo>
                        <a:pt x="18" y="413"/>
                      </a:lnTo>
                      <a:lnTo>
                        <a:pt x="37" y="395"/>
                      </a:lnTo>
                      <a:lnTo>
                        <a:pt x="45" y="376"/>
                      </a:lnTo>
                      <a:lnTo>
                        <a:pt x="55" y="358"/>
                      </a:lnTo>
                      <a:lnTo>
                        <a:pt x="72" y="339"/>
                      </a:lnTo>
                      <a:lnTo>
                        <a:pt x="82" y="320"/>
                      </a:lnTo>
                      <a:lnTo>
                        <a:pt x="91" y="303"/>
                      </a:lnTo>
                      <a:lnTo>
                        <a:pt x="110" y="284"/>
                      </a:lnTo>
                      <a:lnTo>
                        <a:pt x="120" y="266"/>
                      </a:lnTo>
                      <a:lnTo>
                        <a:pt x="128" y="248"/>
                      </a:lnTo>
                      <a:lnTo>
                        <a:pt x="137" y="229"/>
                      </a:lnTo>
                      <a:lnTo>
                        <a:pt x="147" y="211"/>
                      </a:lnTo>
                      <a:lnTo>
                        <a:pt x="155" y="193"/>
                      </a:lnTo>
                      <a:lnTo>
                        <a:pt x="165" y="174"/>
                      </a:lnTo>
                      <a:lnTo>
                        <a:pt x="174" y="147"/>
                      </a:lnTo>
                      <a:lnTo>
                        <a:pt x="182" y="129"/>
                      </a:lnTo>
                      <a:lnTo>
                        <a:pt x="192" y="111"/>
                      </a:lnTo>
                      <a:lnTo>
                        <a:pt x="201" y="92"/>
                      </a:lnTo>
                      <a:lnTo>
                        <a:pt x="210" y="84"/>
                      </a:lnTo>
                      <a:lnTo>
                        <a:pt x="219" y="74"/>
                      </a:lnTo>
                      <a:lnTo>
                        <a:pt x="229" y="54"/>
                      </a:lnTo>
                      <a:lnTo>
                        <a:pt x="247" y="54"/>
                      </a:lnTo>
                      <a:lnTo>
                        <a:pt x="257" y="46"/>
                      </a:lnTo>
                      <a:lnTo>
                        <a:pt x="275" y="37"/>
                      </a:lnTo>
                      <a:lnTo>
                        <a:pt x="292" y="37"/>
                      </a:lnTo>
                      <a:lnTo>
                        <a:pt x="302" y="27"/>
                      </a:lnTo>
                      <a:lnTo>
                        <a:pt x="320" y="27"/>
                      </a:lnTo>
                      <a:lnTo>
                        <a:pt x="338" y="19"/>
                      </a:lnTo>
                      <a:lnTo>
                        <a:pt x="357" y="19"/>
                      </a:lnTo>
                      <a:lnTo>
                        <a:pt x="366" y="9"/>
                      </a:lnTo>
                      <a:lnTo>
                        <a:pt x="385" y="9"/>
                      </a:lnTo>
                      <a:lnTo>
                        <a:pt x="402" y="0"/>
                      </a:lnTo>
                      <a:lnTo>
                        <a:pt x="412" y="0"/>
                      </a:lnTo>
                      <a:lnTo>
                        <a:pt x="439" y="0"/>
                      </a:lnTo>
                      <a:lnTo>
                        <a:pt x="457" y="0"/>
                      </a:lnTo>
                      <a:lnTo>
                        <a:pt x="476" y="0"/>
                      </a:lnTo>
                      <a:lnTo>
                        <a:pt x="494" y="0"/>
                      </a:lnTo>
                      <a:lnTo>
                        <a:pt x="522" y="9"/>
                      </a:lnTo>
                      <a:lnTo>
                        <a:pt x="540" y="9"/>
                      </a:lnTo>
                      <a:lnTo>
                        <a:pt x="558" y="19"/>
                      </a:lnTo>
                      <a:lnTo>
                        <a:pt x="576" y="27"/>
                      </a:lnTo>
                      <a:lnTo>
                        <a:pt x="594" y="27"/>
                      </a:lnTo>
                      <a:lnTo>
                        <a:pt x="613" y="37"/>
                      </a:lnTo>
                      <a:lnTo>
                        <a:pt x="632" y="46"/>
                      </a:lnTo>
                      <a:lnTo>
                        <a:pt x="650" y="54"/>
                      </a:lnTo>
                      <a:lnTo>
                        <a:pt x="668" y="64"/>
                      </a:lnTo>
                      <a:lnTo>
                        <a:pt x="677" y="74"/>
                      </a:lnTo>
                      <a:lnTo>
                        <a:pt x="696" y="84"/>
                      </a:lnTo>
                      <a:lnTo>
                        <a:pt x="713" y="92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3472560" y="3183480"/>
                  <a:ext cx="19800" cy="79920"/>
                </a:xfrm>
                <a:custGeom>
                  <a:avLst/>
                  <a:gdLst/>
                  <a:ahLst/>
                  <a:rect l="l" t="t" r="r" b="b"/>
                  <a:pathLst>
                    <a:path w="46" h="201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28" y="19"/>
                      </a:lnTo>
                      <a:lnTo>
                        <a:pt x="28" y="27"/>
                      </a:lnTo>
                      <a:lnTo>
                        <a:pt x="37" y="37"/>
                      </a:lnTo>
                      <a:lnTo>
                        <a:pt x="37" y="55"/>
                      </a:lnTo>
                      <a:lnTo>
                        <a:pt x="46" y="64"/>
                      </a:lnTo>
                      <a:lnTo>
                        <a:pt x="46" y="82"/>
                      </a:lnTo>
                      <a:lnTo>
                        <a:pt x="46" y="91"/>
                      </a:lnTo>
                      <a:lnTo>
                        <a:pt x="46" y="101"/>
                      </a:lnTo>
                      <a:lnTo>
                        <a:pt x="46" y="119"/>
                      </a:lnTo>
                      <a:lnTo>
                        <a:pt x="46" y="129"/>
                      </a:lnTo>
                      <a:lnTo>
                        <a:pt x="46" y="147"/>
                      </a:lnTo>
                      <a:lnTo>
                        <a:pt x="46" y="156"/>
                      </a:lnTo>
                      <a:lnTo>
                        <a:pt x="46" y="174"/>
                      </a:lnTo>
                      <a:lnTo>
                        <a:pt x="37" y="183"/>
                      </a:lnTo>
                      <a:lnTo>
                        <a:pt x="37" y="20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3298320" y="3263760"/>
                  <a:ext cx="189720" cy="167400"/>
                </a:xfrm>
                <a:custGeom>
                  <a:avLst/>
                  <a:gdLst/>
                  <a:ahLst/>
                  <a:rect l="l" t="t" r="r" b="b"/>
                  <a:pathLst>
                    <a:path w="475" h="421">
                      <a:moveTo>
                        <a:pt x="475" y="0"/>
                      </a:moveTo>
                      <a:lnTo>
                        <a:pt x="466" y="37"/>
                      </a:lnTo>
                      <a:lnTo>
                        <a:pt x="448" y="75"/>
                      </a:lnTo>
                      <a:lnTo>
                        <a:pt x="429" y="110"/>
                      </a:lnTo>
                      <a:lnTo>
                        <a:pt x="402" y="147"/>
                      </a:lnTo>
                      <a:lnTo>
                        <a:pt x="384" y="184"/>
                      </a:lnTo>
                      <a:lnTo>
                        <a:pt x="357" y="212"/>
                      </a:lnTo>
                      <a:lnTo>
                        <a:pt x="319" y="247"/>
                      </a:lnTo>
                      <a:lnTo>
                        <a:pt x="292" y="275"/>
                      </a:lnTo>
                      <a:lnTo>
                        <a:pt x="256" y="302"/>
                      </a:lnTo>
                      <a:lnTo>
                        <a:pt x="229" y="322"/>
                      </a:lnTo>
                      <a:lnTo>
                        <a:pt x="191" y="349"/>
                      </a:lnTo>
                      <a:lnTo>
                        <a:pt x="155" y="367"/>
                      </a:lnTo>
                      <a:lnTo>
                        <a:pt x="119" y="386"/>
                      </a:lnTo>
                      <a:lnTo>
                        <a:pt x="82" y="403"/>
                      </a:lnTo>
                      <a:lnTo>
                        <a:pt x="36" y="413"/>
                      </a:lnTo>
                      <a:lnTo>
                        <a:pt x="0" y="42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3188160" y="3377520"/>
                  <a:ext cx="65880" cy="57600"/>
                </a:xfrm>
                <a:custGeom>
                  <a:avLst/>
                  <a:gdLst/>
                  <a:ahLst/>
                  <a:rect l="l" t="t" r="r" b="b"/>
                  <a:pathLst>
                    <a:path w="165" h="147">
                      <a:moveTo>
                        <a:pt x="165" y="147"/>
                      </a:moveTo>
                      <a:lnTo>
                        <a:pt x="155" y="137"/>
                      </a:lnTo>
                      <a:lnTo>
                        <a:pt x="147" y="129"/>
                      </a:lnTo>
                      <a:lnTo>
                        <a:pt x="137" y="119"/>
                      </a:lnTo>
                      <a:lnTo>
                        <a:pt x="120" y="119"/>
                      </a:lnTo>
                      <a:lnTo>
                        <a:pt x="110" y="110"/>
                      </a:lnTo>
                      <a:lnTo>
                        <a:pt x="100" y="102"/>
                      </a:lnTo>
                      <a:lnTo>
                        <a:pt x="82" y="92"/>
                      </a:lnTo>
                      <a:lnTo>
                        <a:pt x="72" y="83"/>
                      </a:lnTo>
                      <a:lnTo>
                        <a:pt x="64" y="74"/>
                      </a:lnTo>
                      <a:lnTo>
                        <a:pt x="55" y="74"/>
                      </a:lnTo>
                      <a:lnTo>
                        <a:pt x="37" y="65"/>
                      </a:lnTo>
                      <a:lnTo>
                        <a:pt x="27" y="47"/>
                      </a:lnTo>
                      <a:lnTo>
                        <a:pt x="18" y="38"/>
                      </a:lnTo>
                      <a:lnTo>
                        <a:pt x="10" y="28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3188160" y="3311280"/>
                  <a:ext cx="6120" cy="65880"/>
                </a:xfrm>
                <a:custGeom>
                  <a:avLst/>
                  <a:gdLst/>
                  <a:ahLst/>
                  <a:rect l="l" t="t" r="r" b="b"/>
                  <a:pathLst>
                    <a:path w="18" h="164">
                      <a:moveTo>
                        <a:pt x="0" y="164"/>
                      </a:moveTo>
                      <a:lnTo>
                        <a:pt x="0" y="155"/>
                      </a:lnTo>
                      <a:lnTo>
                        <a:pt x="0" y="146"/>
                      </a:lnTo>
                      <a:lnTo>
                        <a:pt x="0" y="137"/>
                      </a:lnTo>
                      <a:lnTo>
                        <a:pt x="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0" y="92"/>
                      </a:lnTo>
                      <a:lnTo>
                        <a:pt x="0" y="82"/>
                      </a:lnTo>
                      <a:lnTo>
                        <a:pt x="0" y="73"/>
                      </a:lnTo>
                      <a:lnTo>
                        <a:pt x="0" y="55"/>
                      </a:lnTo>
                      <a:lnTo>
                        <a:pt x="0" y="45"/>
                      </a:lnTo>
                      <a:lnTo>
                        <a:pt x="10" y="36"/>
                      </a:lnTo>
                      <a:lnTo>
                        <a:pt x="10" y="27"/>
                      </a:lnTo>
                      <a:lnTo>
                        <a:pt x="10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3194640" y="3191760"/>
                  <a:ext cx="69480" cy="119160"/>
                </a:xfrm>
                <a:custGeom>
                  <a:avLst/>
                  <a:gdLst/>
                  <a:ahLst/>
                  <a:rect l="l" t="t" r="r" b="b"/>
                  <a:pathLst>
                    <a:path w="174" h="302">
                      <a:moveTo>
                        <a:pt x="0" y="302"/>
                      </a:moveTo>
                      <a:lnTo>
                        <a:pt x="19" y="284"/>
                      </a:lnTo>
                      <a:lnTo>
                        <a:pt x="27" y="265"/>
                      </a:lnTo>
                      <a:lnTo>
                        <a:pt x="37" y="247"/>
                      </a:lnTo>
                      <a:lnTo>
                        <a:pt x="54" y="228"/>
                      </a:lnTo>
                      <a:lnTo>
                        <a:pt x="64" y="209"/>
                      </a:lnTo>
                      <a:lnTo>
                        <a:pt x="73" y="192"/>
                      </a:lnTo>
                      <a:lnTo>
                        <a:pt x="92" y="173"/>
                      </a:lnTo>
                      <a:lnTo>
                        <a:pt x="102" y="155"/>
                      </a:lnTo>
                      <a:lnTo>
                        <a:pt x="110" y="137"/>
                      </a:lnTo>
                      <a:lnTo>
                        <a:pt x="119" y="118"/>
                      </a:lnTo>
                      <a:lnTo>
                        <a:pt x="129" y="100"/>
                      </a:lnTo>
                      <a:lnTo>
                        <a:pt x="137" y="82"/>
                      </a:lnTo>
                      <a:lnTo>
                        <a:pt x="147" y="63"/>
                      </a:lnTo>
                      <a:lnTo>
                        <a:pt x="156" y="36"/>
                      </a:lnTo>
                      <a:lnTo>
                        <a:pt x="164" y="18"/>
                      </a:lnTo>
                      <a:lnTo>
                        <a:pt x="174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3062520" y="3447000"/>
                  <a:ext cx="161640" cy="167760"/>
                </a:xfrm>
                <a:custGeom>
                  <a:avLst/>
                  <a:gdLst/>
                  <a:ahLst/>
                  <a:rect l="l" t="t" r="r" b="b"/>
                  <a:pathLst>
                    <a:path w="403" h="421">
                      <a:moveTo>
                        <a:pt x="403" y="18"/>
                      </a:moveTo>
                      <a:lnTo>
                        <a:pt x="394" y="18"/>
                      </a:lnTo>
                      <a:lnTo>
                        <a:pt x="384" y="27"/>
                      </a:lnTo>
                      <a:lnTo>
                        <a:pt x="376" y="37"/>
                      </a:lnTo>
                      <a:lnTo>
                        <a:pt x="367" y="37"/>
                      </a:lnTo>
                      <a:lnTo>
                        <a:pt x="367" y="45"/>
                      </a:lnTo>
                      <a:lnTo>
                        <a:pt x="357" y="45"/>
                      </a:lnTo>
                      <a:lnTo>
                        <a:pt x="349" y="54"/>
                      </a:lnTo>
                      <a:lnTo>
                        <a:pt x="339" y="64"/>
                      </a:lnTo>
                      <a:lnTo>
                        <a:pt x="330" y="64"/>
                      </a:lnTo>
                      <a:lnTo>
                        <a:pt x="322" y="64"/>
                      </a:lnTo>
                      <a:lnTo>
                        <a:pt x="322" y="72"/>
                      </a:lnTo>
                      <a:lnTo>
                        <a:pt x="312" y="72"/>
                      </a:lnTo>
                      <a:lnTo>
                        <a:pt x="303" y="82"/>
                      </a:lnTo>
                      <a:lnTo>
                        <a:pt x="303" y="91"/>
                      </a:lnTo>
                      <a:lnTo>
                        <a:pt x="285" y="100"/>
                      </a:lnTo>
                      <a:lnTo>
                        <a:pt x="266" y="119"/>
                      </a:lnTo>
                      <a:lnTo>
                        <a:pt x="247" y="129"/>
                      </a:lnTo>
                      <a:lnTo>
                        <a:pt x="229" y="147"/>
                      </a:lnTo>
                      <a:lnTo>
                        <a:pt x="212" y="164"/>
                      </a:lnTo>
                      <a:lnTo>
                        <a:pt x="193" y="174"/>
                      </a:lnTo>
                      <a:lnTo>
                        <a:pt x="175" y="192"/>
                      </a:lnTo>
                      <a:lnTo>
                        <a:pt x="165" y="210"/>
                      </a:lnTo>
                      <a:lnTo>
                        <a:pt x="147" y="228"/>
                      </a:lnTo>
                      <a:lnTo>
                        <a:pt x="129" y="247"/>
                      </a:lnTo>
                      <a:lnTo>
                        <a:pt x="110" y="266"/>
                      </a:lnTo>
                      <a:lnTo>
                        <a:pt x="102" y="284"/>
                      </a:lnTo>
                      <a:lnTo>
                        <a:pt x="83" y="302"/>
                      </a:lnTo>
                      <a:lnTo>
                        <a:pt x="74" y="320"/>
                      </a:lnTo>
                      <a:lnTo>
                        <a:pt x="55" y="338"/>
                      </a:lnTo>
                      <a:lnTo>
                        <a:pt x="47" y="356"/>
                      </a:lnTo>
                      <a:lnTo>
                        <a:pt x="38" y="366"/>
                      </a:lnTo>
                      <a:lnTo>
                        <a:pt x="38" y="376"/>
                      </a:lnTo>
                      <a:lnTo>
                        <a:pt x="28" y="385"/>
                      </a:lnTo>
                      <a:lnTo>
                        <a:pt x="20" y="394"/>
                      </a:lnTo>
                      <a:lnTo>
                        <a:pt x="20" y="403"/>
                      </a:lnTo>
                      <a:lnTo>
                        <a:pt x="20" y="413"/>
                      </a:lnTo>
                      <a:lnTo>
                        <a:pt x="10" y="413"/>
                      </a:lnTo>
                      <a:lnTo>
                        <a:pt x="10" y="421"/>
                      </a:lnTo>
                      <a:lnTo>
                        <a:pt x="0" y="421"/>
                      </a:lnTo>
                      <a:lnTo>
                        <a:pt x="0" y="413"/>
                      </a:lnTo>
                      <a:lnTo>
                        <a:pt x="0" y="394"/>
                      </a:lnTo>
                      <a:lnTo>
                        <a:pt x="0" y="385"/>
                      </a:lnTo>
                      <a:lnTo>
                        <a:pt x="10" y="376"/>
                      </a:lnTo>
                      <a:lnTo>
                        <a:pt x="10" y="366"/>
                      </a:lnTo>
                      <a:lnTo>
                        <a:pt x="20" y="348"/>
                      </a:lnTo>
                      <a:lnTo>
                        <a:pt x="28" y="338"/>
                      </a:lnTo>
                      <a:lnTo>
                        <a:pt x="28" y="329"/>
                      </a:lnTo>
                      <a:lnTo>
                        <a:pt x="38" y="320"/>
                      </a:lnTo>
                      <a:lnTo>
                        <a:pt x="47" y="311"/>
                      </a:lnTo>
                      <a:lnTo>
                        <a:pt x="55" y="302"/>
                      </a:lnTo>
                      <a:lnTo>
                        <a:pt x="65" y="293"/>
                      </a:lnTo>
                      <a:lnTo>
                        <a:pt x="74" y="284"/>
                      </a:lnTo>
                      <a:lnTo>
                        <a:pt x="83" y="274"/>
                      </a:lnTo>
                      <a:lnTo>
                        <a:pt x="92" y="266"/>
                      </a:lnTo>
                      <a:lnTo>
                        <a:pt x="102" y="257"/>
                      </a:lnTo>
                      <a:lnTo>
                        <a:pt x="110" y="247"/>
                      </a:lnTo>
                      <a:lnTo>
                        <a:pt x="119" y="228"/>
                      </a:lnTo>
                      <a:lnTo>
                        <a:pt x="137" y="219"/>
                      </a:lnTo>
                      <a:lnTo>
                        <a:pt x="157" y="201"/>
                      </a:lnTo>
                      <a:lnTo>
                        <a:pt x="165" y="183"/>
                      </a:lnTo>
                      <a:lnTo>
                        <a:pt x="184" y="164"/>
                      </a:lnTo>
                      <a:lnTo>
                        <a:pt x="202" y="156"/>
                      </a:lnTo>
                      <a:lnTo>
                        <a:pt x="212" y="137"/>
                      </a:lnTo>
                      <a:lnTo>
                        <a:pt x="229" y="119"/>
                      </a:lnTo>
                      <a:lnTo>
                        <a:pt x="247" y="109"/>
                      </a:lnTo>
                      <a:lnTo>
                        <a:pt x="266" y="91"/>
                      </a:lnTo>
                      <a:lnTo>
                        <a:pt x="275" y="72"/>
                      </a:lnTo>
                      <a:lnTo>
                        <a:pt x="294" y="54"/>
                      </a:lnTo>
                      <a:lnTo>
                        <a:pt x="312" y="45"/>
                      </a:lnTo>
                      <a:lnTo>
                        <a:pt x="322" y="27"/>
                      </a:lnTo>
                      <a:lnTo>
                        <a:pt x="339" y="9"/>
                      </a:lnTo>
                      <a:lnTo>
                        <a:pt x="357" y="0"/>
                      </a:lnTo>
                      <a:lnTo>
                        <a:pt x="367" y="0"/>
                      </a:lnTo>
                      <a:lnTo>
                        <a:pt x="376" y="0"/>
                      </a:lnTo>
                      <a:lnTo>
                        <a:pt x="376" y="9"/>
                      </a:lnTo>
                      <a:lnTo>
                        <a:pt x="384" y="9"/>
                      </a:lnTo>
                      <a:lnTo>
                        <a:pt x="394" y="9"/>
                      </a:lnTo>
                      <a:lnTo>
                        <a:pt x="394" y="18"/>
                      </a:lnTo>
                      <a:lnTo>
                        <a:pt x="403" y="1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3082680" y="3483360"/>
                  <a:ext cx="101880" cy="105480"/>
                </a:xfrm>
                <a:custGeom>
                  <a:avLst/>
                  <a:gdLst/>
                  <a:ahLst/>
                  <a:rect l="l" t="t" r="r" b="b"/>
                  <a:pathLst>
                    <a:path w="256" h="265">
                      <a:moveTo>
                        <a:pt x="256" y="0"/>
                      </a:moveTo>
                      <a:lnTo>
                        <a:pt x="238" y="9"/>
                      </a:lnTo>
                      <a:lnTo>
                        <a:pt x="219" y="28"/>
                      </a:lnTo>
                      <a:lnTo>
                        <a:pt x="200" y="38"/>
                      </a:lnTo>
                      <a:lnTo>
                        <a:pt x="182" y="56"/>
                      </a:lnTo>
                      <a:lnTo>
                        <a:pt x="165" y="73"/>
                      </a:lnTo>
                      <a:lnTo>
                        <a:pt x="146" y="83"/>
                      </a:lnTo>
                      <a:lnTo>
                        <a:pt x="128" y="101"/>
                      </a:lnTo>
                      <a:lnTo>
                        <a:pt x="118" y="119"/>
                      </a:lnTo>
                      <a:lnTo>
                        <a:pt x="100" y="137"/>
                      </a:lnTo>
                      <a:lnTo>
                        <a:pt x="82" y="156"/>
                      </a:lnTo>
                      <a:lnTo>
                        <a:pt x="63" y="175"/>
                      </a:lnTo>
                      <a:lnTo>
                        <a:pt x="55" y="193"/>
                      </a:lnTo>
                      <a:lnTo>
                        <a:pt x="36" y="211"/>
                      </a:lnTo>
                      <a:lnTo>
                        <a:pt x="27" y="229"/>
                      </a:lnTo>
                      <a:lnTo>
                        <a:pt x="8" y="247"/>
                      </a:lnTo>
                      <a:lnTo>
                        <a:pt x="0" y="26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3062520" y="3544920"/>
                  <a:ext cx="43920" cy="65880"/>
                </a:xfrm>
                <a:custGeom>
                  <a:avLst/>
                  <a:gdLst/>
                  <a:ahLst/>
                  <a:rect l="l" t="t" r="r" b="b"/>
                  <a:pathLst>
                    <a:path w="110" h="166">
                      <a:moveTo>
                        <a:pt x="0" y="166"/>
                      </a:moveTo>
                      <a:lnTo>
                        <a:pt x="0" y="147"/>
                      </a:lnTo>
                      <a:lnTo>
                        <a:pt x="0" y="138"/>
                      </a:lnTo>
                      <a:lnTo>
                        <a:pt x="10" y="129"/>
                      </a:lnTo>
                      <a:lnTo>
                        <a:pt x="10" y="119"/>
                      </a:lnTo>
                      <a:lnTo>
                        <a:pt x="20" y="101"/>
                      </a:lnTo>
                      <a:lnTo>
                        <a:pt x="28" y="91"/>
                      </a:lnTo>
                      <a:lnTo>
                        <a:pt x="28" y="82"/>
                      </a:lnTo>
                      <a:lnTo>
                        <a:pt x="38" y="73"/>
                      </a:lnTo>
                      <a:lnTo>
                        <a:pt x="47" y="64"/>
                      </a:lnTo>
                      <a:lnTo>
                        <a:pt x="55" y="55"/>
                      </a:lnTo>
                      <a:lnTo>
                        <a:pt x="65" y="46"/>
                      </a:lnTo>
                      <a:lnTo>
                        <a:pt x="74" y="37"/>
                      </a:lnTo>
                      <a:lnTo>
                        <a:pt x="83" y="27"/>
                      </a:lnTo>
                      <a:lnTo>
                        <a:pt x="92" y="19"/>
                      </a:lnTo>
                      <a:lnTo>
                        <a:pt x="102" y="10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3106440" y="3447000"/>
                  <a:ext cx="99720" cy="97560"/>
                </a:xfrm>
                <a:custGeom>
                  <a:avLst/>
                  <a:gdLst/>
                  <a:ahLst/>
                  <a:rect l="l" t="t" r="r" b="b"/>
                  <a:pathLst>
                    <a:path w="247" h="247">
                      <a:moveTo>
                        <a:pt x="0" y="247"/>
                      </a:moveTo>
                      <a:lnTo>
                        <a:pt x="9" y="228"/>
                      </a:lnTo>
                      <a:lnTo>
                        <a:pt x="27" y="219"/>
                      </a:lnTo>
                      <a:lnTo>
                        <a:pt x="47" y="201"/>
                      </a:lnTo>
                      <a:lnTo>
                        <a:pt x="55" y="183"/>
                      </a:lnTo>
                      <a:lnTo>
                        <a:pt x="74" y="164"/>
                      </a:lnTo>
                      <a:lnTo>
                        <a:pt x="92" y="156"/>
                      </a:lnTo>
                      <a:lnTo>
                        <a:pt x="102" y="137"/>
                      </a:lnTo>
                      <a:lnTo>
                        <a:pt x="119" y="119"/>
                      </a:lnTo>
                      <a:lnTo>
                        <a:pt x="137" y="109"/>
                      </a:lnTo>
                      <a:lnTo>
                        <a:pt x="156" y="91"/>
                      </a:lnTo>
                      <a:lnTo>
                        <a:pt x="165" y="72"/>
                      </a:lnTo>
                      <a:lnTo>
                        <a:pt x="184" y="54"/>
                      </a:lnTo>
                      <a:lnTo>
                        <a:pt x="202" y="45"/>
                      </a:lnTo>
                      <a:lnTo>
                        <a:pt x="212" y="27"/>
                      </a:lnTo>
                      <a:lnTo>
                        <a:pt x="229" y="9"/>
                      </a:lnTo>
                      <a:lnTo>
                        <a:pt x="24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2756520" y="3606840"/>
                  <a:ext cx="957240" cy="1770840"/>
                </a:xfrm>
                <a:custGeom>
                  <a:avLst/>
                  <a:gdLst/>
                  <a:ahLst/>
                  <a:rect l="l" t="t" r="r" b="b"/>
                  <a:pathLst>
                    <a:path w="2398" h="4435">
                      <a:moveTo>
                        <a:pt x="723" y="45"/>
                      </a:moveTo>
                      <a:lnTo>
                        <a:pt x="723" y="55"/>
                      </a:lnTo>
                      <a:lnTo>
                        <a:pt x="732" y="55"/>
                      </a:lnTo>
                      <a:lnTo>
                        <a:pt x="732" y="64"/>
                      </a:lnTo>
                      <a:lnTo>
                        <a:pt x="741" y="64"/>
                      </a:lnTo>
                      <a:lnTo>
                        <a:pt x="741" y="73"/>
                      </a:lnTo>
                      <a:lnTo>
                        <a:pt x="750" y="73"/>
                      </a:lnTo>
                      <a:lnTo>
                        <a:pt x="760" y="73"/>
                      </a:lnTo>
                      <a:lnTo>
                        <a:pt x="768" y="82"/>
                      </a:lnTo>
                      <a:lnTo>
                        <a:pt x="778" y="82"/>
                      </a:lnTo>
                      <a:lnTo>
                        <a:pt x="788" y="82"/>
                      </a:lnTo>
                      <a:lnTo>
                        <a:pt x="796" y="82"/>
                      </a:lnTo>
                      <a:lnTo>
                        <a:pt x="796" y="73"/>
                      </a:lnTo>
                      <a:lnTo>
                        <a:pt x="806" y="73"/>
                      </a:lnTo>
                      <a:lnTo>
                        <a:pt x="815" y="73"/>
                      </a:lnTo>
                      <a:lnTo>
                        <a:pt x="815" y="64"/>
                      </a:lnTo>
                      <a:lnTo>
                        <a:pt x="823" y="64"/>
                      </a:lnTo>
                      <a:lnTo>
                        <a:pt x="823" y="55"/>
                      </a:lnTo>
                      <a:lnTo>
                        <a:pt x="833" y="55"/>
                      </a:lnTo>
                      <a:lnTo>
                        <a:pt x="833" y="45"/>
                      </a:lnTo>
                      <a:lnTo>
                        <a:pt x="842" y="45"/>
                      </a:lnTo>
                      <a:lnTo>
                        <a:pt x="842" y="37"/>
                      </a:lnTo>
                      <a:lnTo>
                        <a:pt x="851" y="27"/>
                      </a:lnTo>
                      <a:lnTo>
                        <a:pt x="851" y="18"/>
                      </a:lnTo>
                      <a:lnTo>
                        <a:pt x="860" y="10"/>
                      </a:lnTo>
                      <a:lnTo>
                        <a:pt x="860" y="18"/>
                      </a:lnTo>
                      <a:lnTo>
                        <a:pt x="870" y="27"/>
                      </a:lnTo>
                      <a:lnTo>
                        <a:pt x="878" y="37"/>
                      </a:lnTo>
                      <a:lnTo>
                        <a:pt x="878" y="45"/>
                      </a:lnTo>
                      <a:lnTo>
                        <a:pt x="887" y="45"/>
                      </a:lnTo>
                      <a:lnTo>
                        <a:pt x="887" y="55"/>
                      </a:lnTo>
                      <a:lnTo>
                        <a:pt x="897" y="64"/>
                      </a:lnTo>
                      <a:lnTo>
                        <a:pt x="905" y="73"/>
                      </a:lnTo>
                      <a:lnTo>
                        <a:pt x="905" y="82"/>
                      </a:lnTo>
                      <a:lnTo>
                        <a:pt x="915" y="82"/>
                      </a:lnTo>
                      <a:lnTo>
                        <a:pt x="925" y="100"/>
                      </a:lnTo>
                      <a:lnTo>
                        <a:pt x="933" y="110"/>
                      </a:lnTo>
                      <a:lnTo>
                        <a:pt x="952" y="120"/>
                      </a:lnTo>
                      <a:lnTo>
                        <a:pt x="961" y="128"/>
                      </a:lnTo>
                      <a:lnTo>
                        <a:pt x="970" y="137"/>
                      </a:lnTo>
                      <a:lnTo>
                        <a:pt x="988" y="147"/>
                      </a:lnTo>
                      <a:lnTo>
                        <a:pt x="997" y="155"/>
                      </a:lnTo>
                      <a:lnTo>
                        <a:pt x="1015" y="165"/>
                      </a:lnTo>
                      <a:lnTo>
                        <a:pt x="1025" y="174"/>
                      </a:lnTo>
                      <a:lnTo>
                        <a:pt x="1043" y="192"/>
                      </a:lnTo>
                      <a:lnTo>
                        <a:pt x="1053" y="201"/>
                      </a:lnTo>
                      <a:lnTo>
                        <a:pt x="1062" y="210"/>
                      </a:lnTo>
                      <a:lnTo>
                        <a:pt x="1080" y="219"/>
                      </a:lnTo>
                      <a:lnTo>
                        <a:pt x="1090" y="229"/>
                      </a:lnTo>
                      <a:lnTo>
                        <a:pt x="1098" y="239"/>
                      </a:lnTo>
                      <a:lnTo>
                        <a:pt x="1107" y="257"/>
                      </a:lnTo>
                      <a:lnTo>
                        <a:pt x="1117" y="257"/>
                      </a:lnTo>
                      <a:lnTo>
                        <a:pt x="1125" y="266"/>
                      </a:lnTo>
                      <a:lnTo>
                        <a:pt x="1135" y="266"/>
                      </a:lnTo>
                      <a:lnTo>
                        <a:pt x="1144" y="266"/>
                      </a:lnTo>
                      <a:lnTo>
                        <a:pt x="1152" y="266"/>
                      </a:lnTo>
                      <a:lnTo>
                        <a:pt x="1162" y="266"/>
                      </a:lnTo>
                      <a:lnTo>
                        <a:pt x="1171" y="266"/>
                      </a:lnTo>
                      <a:lnTo>
                        <a:pt x="1180" y="266"/>
                      </a:lnTo>
                      <a:lnTo>
                        <a:pt x="1190" y="266"/>
                      </a:lnTo>
                      <a:lnTo>
                        <a:pt x="1200" y="266"/>
                      </a:lnTo>
                      <a:lnTo>
                        <a:pt x="1208" y="257"/>
                      </a:lnTo>
                      <a:lnTo>
                        <a:pt x="1217" y="257"/>
                      </a:lnTo>
                      <a:lnTo>
                        <a:pt x="1227" y="257"/>
                      </a:lnTo>
                      <a:lnTo>
                        <a:pt x="1235" y="257"/>
                      </a:lnTo>
                      <a:lnTo>
                        <a:pt x="1245" y="247"/>
                      </a:lnTo>
                      <a:lnTo>
                        <a:pt x="1262" y="247"/>
                      </a:lnTo>
                      <a:lnTo>
                        <a:pt x="1272" y="247"/>
                      </a:lnTo>
                      <a:lnTo>
                        <a:pt x="1290" y="247"/>
                      </a:lnTo>
                      <a:lnTo>
                        <a:pt x="1299" y="247"/>
                      </a:lnTo>
                      <a:lnTo>
                        <a:pt x="1318" y="247"/>
                      </a:lnTo>
                      <a:lnTo>
                        <a:pt x="1337" y="247"/>
                      </a:lnTo>
                      <a:lnTo>
                        <a:pt x="1345" y="257"/>
                      </a:lnTo>
                      <a:lnTo>
                        <a:pt x="1364" y="257"/>
                      </a:lnTo>
                      <a:lnTo>
                        <a:pt x="1372" y="257"/>
                      </a:lnTo>
                      <a:lnTo>
                        <a:pt x="1391" y="257"/>
                      </a:lnTo>
                      <a:lnTo>
                        <a:pt x="1400" y="266"/>
                      </a:lnTo>
                      <a:lnTo>
                        <a:pt x="1418" y="266"/>
                      </a:lnTo>
                      <a:lnTo>
                        <a:pt x="1427" y="266"/>
                      </a:lnTo>
                      <a:lnTo>
                        <a:pt x="1446" y="275"/>
                      </a:lnTo>
                      <a:lnTo>
                        <a:pt x="1455" y="275"/>
                      </a:lnTo>
                      <a:lnTo>
                        <a:pt x="1474" y="275"/>
                      </a:lnTo>
                      <a:lnTo>
                        <a:pt x="1537" y="311"/>
                      </a:lnTo>
                      <a:lnTo>
                        <a:pt x="1602" y="348"/>
                      </a:lnTo>
                      <a:lnTo>
                        <a:pt x="1666" y="385"/>
                      </a:lnTo>
                      <a:lnTo>
                        <a:pt x="1721" y="431"/>
                      </a:lnTo>
                      <a:lnTo>
                        <a:pt x="1784" y="485"/>
                      </a:lnTo>
                      <a:lnTo>
                        <a:pt x="1830" y="541"/>
                      </a:lnTo>
                      <a:lnTo>
                        <a:pt x="1886" y="595"/>
                      </a:lnTo>
                      <a:lnTo>
                        <a:pt x="1931" y="651"/>
                      </a:lnTo>
                      <a:lnTo>
                        <a:pt x="1977" y="715"/>
                      </a:lnTo>
                      <a:lnTo>
                        <a:pt x="2023" y="780"/>
                      </a:lnTo>
                      <a:lnTo>
                        <a:pt x="2059" y="842"/>
                      </a:lnTo>
                      <a:lnTo>
                        <a:pt x="2096" y="907"/>
                      </a:lnTo>
                      <a:lnTo>
                        <a:pt x="2133" y="981"/>
                      </a:lnTo>
                      <a:lnTo>
                        <a:pt x="2169" y="1045"/>
                      </a:lnTo>
                      <a:lnTo>
                        <a:pt x="2196" y="1108"/>
                      </a:lnTo>
                      <a:lnTo>
                        <a:pt x="2223" y="1182"/>
                      </a:lnTo>
                      <a:lnTo>
                        <a:pt x="2243" y="1236"/>
                      </a:lnTo>
                      <a:lnTo>
                        <a:pt x="2261" y="1301"/>
                      </a:lnTo>
                      <a:lnTo>
                        <a:pt x="2278" y="1356"/>
                      </a:lnTo>
                      <a:lnTo>
                        <a:pt x="2297" y="1420"/>
                      </a:lnTo>
                      <a:lnTo>
                        <a:pt x="2315" y="1484"/>
                      </a:lnTo>
                      <a:lnTo>
                        <a:pt x="2325" y="1539"/>
                      </a:lnTo>
                      <a:lnTo>
                        <a:pt x="2342" y="1604"/>
                      </a:lnTo>
                      <a:lnTo>
                        <a:pt x="2352" y="1667"/>
                      </a:lnTo>
                      <a:lnTo>
                        <a:pt x="2361" y="1732"/>
                      </a:lnTo>
                      <a:lnTo>
                        <a:pt x="2371" y="1796"/>
                      </a:lnTo>
                      <a:lnTo>
                        <a:pt x="2380" y="1860"/>
                      </a:lnTo>
                      <a:lnTo>
                        <a:pt x="2388" y="1923"/>
                      </a:lnTo>
                      <a:lnTo>
                        <a:pt x="2398" y="1988"/>
                      </a:lnTo>
                      <a:lnTo>
                        <a:pt x="2398" y="2052"/>
                      </a:lnTo>
                      <a:lnTo>
                        <a:pt x="2398" y="2117"/>
                      </a:lnTo>
                      <a:lnTo>
                        <a:pt x="2398" y="2190"/>
                      </a:lnTo>
                      <a:lnTo>
                        <a:pt x="2398" y="2254"/>
                      </a:lnTo>
                      <a:lnTo>
                        <a:pt x="2398" y="2318"/>
                      </a:lnTo>
                      <a:lnTo>
                        <a:pt x="2398" y="2374"/>
                      </a:lnTo>
                      <a:lnTo>
                        <a:pt x="2398" y="2437"/>
                      </a:lnTo>
                      <a:lnTo>
                        <a:pt x="2398" y="2502"/>
                      </a:lnTo>
                      <a:lnTo>
                        <a:pt x="2398" y="2565"/>
                      </a:lnTo>
                      <a:lnTo>
                        <a:pt x="2398" y="2621"/>
                      </a:lnTo>
                      <a:lnTo>
                        <a:pt x="2388" y="2685"/>
                      </a:lnTo>
                      <a:lnTo>
                        <a:pt x="2388" y="2750"/>
                      </a:lnTo>
                      <a:lnTo>
                        <a:pt x="2388" y="2813"/>
                      </a:lnTo>
                      <a:lnTo>
                        <a:pt x="2380" y="2868"/>
                      </a:lnTo>
                      <a:lnTo>
                        <a:pt x="2380" y="2932"/>
                      </a:lnTo>
                      <a:lnTo>
                        <a:pt x="2371" y="2997"/>
                      </a:lnTo>
                      <a:lnTo>
                        <a:pt x="2371" y="3051"/>
                      </a:lnTo>
                      <a:lnTo>
                        <a:pt x="2361" y="3116"/>
                      </a:lnTo>
                      <a:lnTo>
                        <a:pt x="2352" y="3179"/>
                      </a:lnTo>
                      <a:lnTo>
                        <a:pt x="2333" y="3243"/>
                      </a:lnTo>
                      <a:lnTo>
                        <a:pt x="2325" y="3308"/>
                      </a:lnTo>
                      <a:lnTo>
                        <a:pt x="2306" y="3381"/>
                      </a:lnTo>
                      <a:lnTo>
                        <a:pt x="2288" y="3445"/>
                      </a:lnTo>
                      <a:lnTo>
                        <a:pt x="2270" y="3519"/>
                      </a:lnTo>
                      <a:lnTo>
                        <a:pt x="2251" y="3583"/>
                      </a:lnTo>
                      <a:lnTo>
                        <a:pt x="2233" y="3647"/>
                      </a:lnTo>
                      <a:lnTo>
                        <a:pt x="2215" y="3711"/>
                      </a:lnTo>
                      <a:lnTo>
                        <a:pt x="2196" y="3785"/>
                      </a:lnTo>
                      <a:lnTo>
                        <a:pt x="2169" y="3849"/>
                      </a:lnTo>
                      <a:lnTo>
                        <a:pt x="2151" y="3913"/>
                      </a:lnTo>
                      <a:lnTo>
                        <a:pt x="2133" y="3976"/>
                      </a:lnTo>
                      <a:lnTo>
                        <a:pt x="2105" y="4041"/>
                      </a:lnTo>
                      <a:lnTo>
                        <a:pt x="2077" y="4105"/>
                      </a:lnTo>
                      <a:lnTo>
                        <a:pt x="2059" y="4170"/>
                      </a:lnTo>
                      <a:lnTo>
                        <a:pt x="2031" y="4233"/>
                      </a:lnTo>
                      <a:lnTo>
                        <a:pt x="2023" y="4242"/>
                      </a:lnTo>
                      <a:lnTo>
                        <a:pt x="2023" y="4252"/>
                      </a:lnTo>
                      <a:lnTo>
                        <a:pt x="2023" y="4270"/>
                      </a:lnTo>
                      <a:lnTo>
                        <a:pt x="2013" y="4279"/>
                      </a:lnTo>
                      <a:lnTo>
                        <a:pt x="2013" y="4289"/>
                      </a:lnTo>
                      <a:lnTo>
                        <a:pt x="2013" y="4297"/>
                      </a:lnTo>
                      <a:lnTo>
                        <a:pt x="2004" y="4307"/>
                      </a:lnTo>
                      <a:lnTo>
                        <a:pt x="2004" y="4317"/>
                      </a:lnTo>
                      <a:lnTo>
                        <a:pt x="2004" y="4325"/>
                      </a:lnTo>
                      <a:lnTo>
                        <a:pt x="1996" y="4335"/>
                      </a:lnTo>
                      <a:lnTo>
                        <a:pt x="1996" y="4344"/>
                      </a:lnTo>
                      <a:lnTo>
                        <a:pt x="1996" y="4362"/>
                      </a:lnTo>
                      <a:lnTo>
                        <a:pt x="1986" y="4371"/>
                      </a:lnTo>
                      <a:lnTo>
                        <a:pt x="1986" y="4380"/>
                      </a:lnTo>
                      <a:lnTo>
                        <a:pt x="1977" y="4389"/>
                      </a:lnTo>
                      <a:lnTo>
                        <a:pt x="1968" y="4398"/>
                      </a:lnTo>
                      <a:lnTo>
                        <a:pt x="1968" y="4407"/>
                      </a:lnTo>
                      <a:lnTo>
                        <a:pt x="1968" y="4416"/>
                      </a:lnTo>
                      <a:lnTo>
                        <a:pt x="1958" y="4416"/>
                      </a:lnTo>
                      <a:lnTo>
                        <a:pt x="1949" y="4416"/>
                      </a:lnTo>
                      <a:lnTo>
                        <a:pt x="1949" y="4426"/>
                      </a:lnTo>
                      <a:lnTo>
                        <a:pt x="1940" y="4426"/>
                      </a:lnTo>
                      <a:lnTo>
                        <a:pt x="1931" y="4426"/>
                      </a:lnTo>
                      <a:lnTo>
                        <a:pt x="1921" y="4426"/>
                      </a:lnTo>
                      <a:lnTo>
                        <a:pt x="1913" y="4426"/>
                      </a:lnTo>
                      <a:lnTo>
                        <a:pt x="1903" y="4426"/>
                      </a:lnTo>
                      <a:lnTo>
                        <a:pt x="1894" y="4426"/>
                      </a:lnTo>
                      <a:lnTo>
                        <a:pt x="1886" y="4435"/>
                      </a:lnTo>
                      <a:lnTo>
                        <a:pt x="1876" y="4435"/>
                      </a:lnTo>
                      <a:lnTo>
                        <a:pt x="1867" y="4435"/>
                      </a:lnTo>
                      <a:lnTo>
                        <a:pt x="1858" y="4435"/>
                      </a:lnTo>
                      <a:lnTo>
                        <a:pt x="1849" y="4435"/>
                      </a:lnTo>
                      <a:lnTo>
                        <a:pt x="1839" y="4435"/>
                      </a:lnTo>
                      <a:lnTo>
                        <a:pt x="1830" y="4435"/>
                      </a:lnTo>
                      <a:lnTo>
                        <a:pt x="1821" y="4435"/>
                      </a:lnTo>
                      <a:lnTo>
                        <a:pt x="1811" y="4435"/>
                      </a:lnTo>
                      <a:lnTo>
                        <a:pt x="1739" y="4344"/>
                      </a:lnTo>
                      <a:lnTo>
                        <a:pt x="1666" y="4252"/>
                      </a:lnTo>
                      <a:lnTo>
                        <a:pt x="1602" y="4160"/>
                      </a:lnTo>
                      <a:lnTo>
                        <a:pt x="1537" y="4069"/>
                      </a:lnTo>
                      <a:lnTo>
                        <a:pt x="1474" y="3968"/>
                      </a:lnTo>
                      <a:lnTo>
                        <a:pt x="1409" y="3876"/>
                      </a:lnTo>
                      <a:lnTo>
                        <a:pt x="1345" y="3776"/>
                      </a:lnTo>
                      <a:lnTo>
                        <a:pt x="1290" y="3684"/>
                      </a:lnTo>
                      <a:lnTo>
                        <a:pt x="1235" y="3583"/>
                      </a:lnTo>
                      <a:lnTo>
                        <a:pt x="1171" y="3482"/>
                      </a:lnTo>
                      <a:lnTo>
                        <a:pt x="1117" y="3391"/>
                      </a:lnTo>
                      <a:lnTo>
                        <a:pt x="1062" y="3290"/>
                      </a:lnTo>
                      <a:lnTo>
                        <a:pt x="1007" y="3189"/>
                      </a:lnTo>
                      <a:lnTo>
                        <a:pt x="952" y="3097"/>
                      </a:lnTo>
                      <a:lnTo>
                        <a:pt x="887" y="2997"/>
                      </a:lnTo>
                      <a:lnTo>
                        <a:pt x="833" y="2895"/>
                      </a:lnTo>
                      <a:lnTo>
                        <a:pt x="788" y="2822"/>
                      </a:lnTo>
                      <a:lnTo>
                        <a:pt x="741" y="2750"/>
                      </a:lnTo>
                      <a:lnTo>
                        <a:pt x="686" y="2666"/>
                      </a:lnTo>
                      <a:lnTo>
                        <a:pt x="640" y="2593"/>
                      </a:lnTo>
                      <a:lnTo>
                        <a:pt x="595" y="2520"/>
                      </a:lnTo>
                      <a:lnTo>
                        <a:pt x="549" y="2437"/>
                      </a:lnTo>
                      <a:lnTo>
                        <a:pt x="494" y="2364"/>
                      </a:lnTo>
                      <a:lnTo>
                        <a:pt x="448" y="2282"/>
                      </a:lnTo>
                      <a:lnTo>
                        <a:pt x="403" y="2208"/>
                      </a:lnTo>
                      <a:lnTo>
                        <a:pt x="356" y="2126"/>
                      </a:lnTo>
                      <a:lnTo>
                        <a:pt x="321" y="2052"/>
                      </a:lnTo>
                      <a:lnTo>
                        <a:pt x="275" y="1970"/>
                      </a:lnTo>
                      <a:lnTo>
                        <a:pt x="238" y="1888"/>
                      </a:lnTo>
                      <a:lnTo>
                        <a:pt x="192" y="1814"/>
                      </a:lnTo>
                      <a:lnTo>
                        <a:pt x="156" y="1732"/>
                      </a:lnTo>
                      <a:lnTo>
                        <a:pt x="119" y="1649"/>
                      </a:lnTo>
                      <a:lnTo>
                        <a:pt x="109" y="1612"/>
                      </a:lnTo>
                      <a:lnTo>
                        <a:pt x="101" y="1585"/>
                      </a:lnTo>
                      <a:lnTo>
                        <a:pt x="91" y="1549"/>
                      </a:lnTo>
                      <a:lnTo>
                        <a:pt x="73" y="1512"/>
                      </a:lnTo>
                      <a:lnTo>
                        <a:pt x="64" y="1475"/>
                      </a:lnTo>
                      <a:lnTo>
                        <a:pt x="55" y="1438"/>
                      </a:lnTo>
                      <a:lnTo>
                        <a:pt x="55" y="1411"/>
                      </a:lnTo>
                      <a:lnTo>
                        <a:pt x="46" y="1374"/>
                      </a:lnTo>
                      <a:lnTo>
                        <a:pt x="37" y="1338"/>
                      </a:lnTo>
                      <a:lnTo>
                        <a:pt x="37" y="1301"/>
                      </a:lnTo>
                      <a:lnTo>
                        <a:pt x="37" y="1265"/>
                      </a:lnTo>
                      <a:lnTo>
                        <a:pt x="37" y="1228"/>
                      </a:lnTo>
                      <a:lnTo>
                        <a:pt x="37" y="1191"/>
                      </a:lnTo>
                      <a:lnTo>
                        <a:pt x="37" y="1154"/>
                      </a:lnTo>
                      <a:lnTo>
                        <a:pt x="37" y="1118"/>
                      </a:lnTo>
                      <a:lnTo>
                        <a:pt x="46" y="1081"/>
                      </a:lnTo>
                      <a:lnTo>
                        <a:pt x="46" y="989"/>
                      </a:lnTo>
                      <a:lnTo>
                        <a:pt x="27" y="898"/>
                      </a:lnTo>
                      <a:lnTo>
                        <a:pt x="10" y="807"/>
                      </a:lnTo>
                      <a:lnTo>
                        <a:pt x="0" y="715"/>
                      </a:lnTo>
                      <a:lnTo>
                        <a:pt x="19" y="623"/>
                      </a:lnTo>
                      <a:lnTo>
                        <a:pt x="27" y="595"/>
                      </a:lnTo>
                      <a:lnTo>
                        <a:pt x="101" y="466"/>
                      </a:lnTo>
                      <a:lnTo>
                        <a:pt x="192" y="357"/>
                      </a:lnTo>
                      <a:lnTo>
                        <a:pt x="311" y="266"/>
                      </a:lnTo>
                      <a:lnTo>
                        <a:pt x="421" y="174"/>
                      </a:lnTo>
                      <a:lnTo>
                        <a:pt x="549" y="92"/>
                      </a:lnTo>
                      <a:lnTo>
                        <a:pt x="586" y="64"/>
                      </a:lnTo>
                      <a:lnTo>
                        <a:pt x="604" y="55"/>
                      </a:lnTo>
                      <a:lnTo>
                        <a:pt x="631" y="45"/>
                      </a:lnTo>
                      <a:lnTo>
                        <a:pt x="650" y="27"/>
                      </a:lnTo>
                      <a:lnTo>
                        <a:pt x="678" y="18"/>
                      </a:lnTo>
                      <a:lnTo>
                        <a:pt x="696" y="10"/>
                      </a:lnTo>
                      <a:lnTo>
                        <a:pt x="705" y="0"/>
                      </a:lnTo>
                      <a:lnTo>
                        <a:pt x="705" y="10"/>
                      </a:lnTo>
                      <a:lnTo>
                        <a:pt x="723" y="45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3122280" y="3641040"/>
                  <a:ext cx="75960" cy="69480"/>
                </a:xfrm>
                <a:custGeom>
                  <a:avLst/>
                  <a:gdLst/>
                  <a:ahLst/>
                  <a:rect l="l" t="t" r="r" b="b"/>
                  <a:pathLst>
                    <a:path w="192" h="175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8" y="28"/>
                      </a:lnTo>
                      <a:lnTo>
                        <a:pt x="37" y="38"/>
                      </a:lnTo>
                      <a:lnTo>
                        <a:pt x="46" y="46"/>
                      </a:lnTo>
                      <a:lnTo>
                        <a:pt x="55" y="55"/>
                      </a:lnTo>
                      <a:lnTo>
                        <a:pt x="73" y="65"/>
                      </a:lnTo>
                      <a:lnTo>
                        <a:pt x="82" y="73"/>
                      </a:lnTo>
                      <a:lnTo>
                        <a:pt x="100" y="83"/>
                      </a:lnTo>
                      <a:lnTo>
                        <a:pt x="110" y="92"/>
                      </a:lnTo>
                      <a:lnTo>
                        <a:pt x="128" y="110"/>
                      </a:lnTo>
                      <a:lnTo>
                        <a:pt x="138" y="119"/>
                      </a:lnTo>
                      <a:lnTo>
                        <a:pt x="147" y="128"/>
                      </a:lnTo>
                      <a:lnTo>
                        <a:pt x="165" y="137"/>
                      </a:lnTo>
                      <a:lnTo>
                        <a:pt x="175" y="147"/>
                      </a:lnTo>
                      <a:lnTo>
                        <a:pt x="183" y="157"/>
                      </a:lnTo>
                      <a:lnTo>
                        <a:pt x="192" y="1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3346200" y="3717000"/>
                  <a:ext cx="297720" cy="362880"/>
                </a:xfrm>
                <a:custGeom>
                  <a:avLst/>
                  <a:gdLst/>
                  <a:ahLst/>
                  <a:rect l="l" t="t" r="r" b="b"/>
                  <a:pathLst>
                    <a:path w="749" h="907">
                      <a:moveTo>
                        <a:pt x="0" y="0"/>
                      </a:moveTo>
                      <a:lnTo>
                        <a:pt x="63" y="36"/>
                      </a:lnTo>
                      <a:lnTo>
                        <a:pt x="128" y="73"/>
                      </a:lnTo>
                      <a:lnTo>
                        <a:pt x="192" y="110"/>
                      </a:lnTo>
                      <a:lnTo>
                        <a:pt x="247" y="156"/>
                      </a:lnTo>
                      <a:lnTo>
                        <a:pt x="310" y="210"/>
                      </a:lnTo>
                      <a:lnTo>
                        <a:pt x="356" y="266"/>
                      </a:lnTo>
                      <a:lnTo>
                        <a:pt x="412" y="320"/>
                      </a:lnTo>
                      <a:lnTo>
                        <a:pt x="457" y="376"/>
                      </a:lnTo>
                      <a:lnTo>
                        <a:pt x="503" y="440"/>
                      </a:lnTo>
                      <a:lnTo>
                        <a:pt x="549" y="505"/>
                      </a:lnTo>
                      <a:lnTo>
                        <a:pt x="585" y="567"/>
                      </a:lnTo>
                      <a:lnTo>
                        <a:pt x="622" y="632"/>
                      </a:lnTo>
                      <a:lnTo>
                        <a:pt x="659" y="706"/>
                      </a:lnTo>
                      <a:lnTo>
                        <a:pt x="695" y="770"/>
                      </a:lnTo>
                      <a:lnTo>
                        <a:pt x="722" y="833"/>
                      </a:lnTo>
                      <a:lnTo>
                        <a:pt x="749" y="90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3644280" y="4079880"/>
                  <a:ext cx="69480" cy="401400"/>
                </a:xfrm>
                <a:custGeom>
                  <a:avLst/>
                  <a:gdLst/>
                  <a:ahLst/>
                  <a:rect l="l" t="t" r="r" b="b"/>
                  <a:pathLst>
                    <a:path w="175" h="1008">
                      <a:moveTo>
                        <a:pt x="0" y="0"/>
                      </a:moveTo>
                      <a:lnTo>
                        <a:pt x="20" y="54"/>
                      </a:lnTo>
                      <a:lnTo>
                        <a:pt x="38" y="119"/>
                      </a:lnTo>
                      <a:lnTo>
                        <a:pt x="55" y="174"/>
                      </a:lnTo>
                      <a:lnTo>
                        <a:pt x="74" y="238"/>
                      </a:lnTo>
                      <a:lnTo>
                        <a:pt x="92" y="302"/>
                      </a:lnTo>
                      <a:lnTo>
                        <a:pt x="102" y="357"/>
                      </a:lnTo>
                      <a:lnTo>
                        <a:pt x="119" y="422"/>
                      </a:lnTo>
                      <a:lnTo>
                        <a:pt x="129" y="485"/>
                      </a:lnTo>
                      <a:lnTo>
                        <a:pt x="138" y="550"/>
                      </a:lnTo>
                      <a:lnTo>
                        <a:pt x="148" y="614"/>
                      </a:lnTo>
                      <a:lnTo>
                        <a:pt x="157" y="678"/>
                      </a:lnTo>
                      <a:lnTo>
                        <a:pt x="165" y="741"/>
                      </a:lnTo>
                      <a:lnTo>
                        <a:pt x="175" y="806"/>
                      </a:lnTo>
                      <a:lnTo>
                        <a:pt x="175" y="870"/>
                      </a:lnTo>
                      <a:lnTo>
                        <a:pt x="175" y="935"/>
                      </a:lnTo>
                      <a:lnTo>
                        <a:pt x="175" y="100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3696480" y="4481640"/>
                  <a:ext cx="17640" cy="394920"/>
                </a:xfrm>
                <a:custGeom>
                  <a:avLst/>
                  <a:gdLst/>
                  <a:ahLst/>
                  <a:rect l="l" t="t" r="r" b="b"/>
                  <a:pathLst>
                    <a:path w="46" h="989">
                      <a:moveTo>
                        <a:pt x="46" y="0"/>
                      </a:moveTo>
                      <a:lnTo>
                        <a:pt x="46" y="64"/>
                      </a:lnTo>
                      <a:lnTo>
                        <a:pt x="46" y="128"/>
                      </a:lnTo>
                      <a:lnTo>
                        <a:pt x="46" y="184"/>
                      </a:lnTo>
                      <a:lnTo>
                        <a:pt x="46" y="247"/>
                      </a:lnTo>
                      <a:lnTo>
                        <a:pt x="46" y="312"/>
                      </a:lnTo>
                      <a:lnTo>
                        <a:pt x="46" y="375"/>
                      </a:lnTo>
                      <a:lnTo>
                        <a:pt x="46" y="431"/>
                      </a:lnTo>
                      <a:lnTo>
                        <a:pt x="36" y="495"/>
                      </a:lnTo>
                      <a:lnTo>
                        <a:pt x="36" y="560"/>
                      </a:lnTo>
                      <a:lnTo>
                        <a:pt x="36" y="623"/>
                      </a:lnTo>
                      <a:lnTo>
                        <a:pt x="28" y="678"/>
                      </a:lnTo>
                      <a:lnTo>
                        <a:pt x="28" y="742"/>
                      </a:lnTo>
                      <a:lnTo>
                        <a:pt x="19" y="807"/>
                      </a:lnTo>
                      <a:lnTo>
                        <a:pt x="19" y="861"/>
                      </a:lnTo>
                      <a:lnTo>
                        <a:pt x="9" y="926"/>
                      </a:lnTo>
                      <a:lnTo>
                        <a:pt x="0" y="989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3567960" y="4876920"/>
                  <a:ext cx="128160" cy="420840"/>
                </a:xfrm>
                <a:custGeom>
                  <a:avLst/>
                  <a:gdLst/>
                  <a:ahLst/>
                  <a:rect l="l" t="t" r="r" b="b"/>
                  <a:pathLst>
                    <a:path w="321" h="1054">
                      <a:moveTo>
                        <a:pt x="321" y="0"/>
                      </a:moveTo>
                      <a:lnTo>
                        <a:pt x="302" y="64"/>
                      </a:lnTo>
                      <a:lnTo>
                        <a:pt x="294" y="129"/>
                      </a:lnTo>
                      <a:lnTo>
                        <a:pt x="275" y="202"/>
                      </a:lnTo>
                      <a:lnTo>
                        <a:pt x="257" y="266"/>
                      </a:lnTo>
                      <a:lnTo>
                        <a:pt x="239" y="340"/>
                      </a:lnTo>
                      <a:lnTo>
                        <a:pt x="220" y="404"/>
                      </a:lnTo>
                      <a:lnTo>
                        <a:pt x="202" y="468"/>
                      </a:lnTo>
                      <a:lnTo>
                        <a:pt x="184" y="532"/>
                      </a:lnTo>
                      <a:lnTo>
                        <a:pt x="165" y="606"/>
                      </a:lnTo>
                      <a:lnTo>
                        <a:pt x="138" y="670"/>
                      </a:lnTo>
                      <a:lnTo>
                        <a:pt x="120" y="734"/>
                      </a:lnTo>
                      <a:lnTo>
                        <a:pt x="102" y="797"/>
                      </a:lnTo>
                      <a:lnTo>
                        <a:pt x="74" y="862"/>
                      </a:lnTo>
                      <a:lnTo>
                        <a:pt x="46" y="926"/>
                      </a:lnTo>
                      <a:lnTo>
                        <a:pt x="28" y="991"/>
                      </a:lnTo>
                      <a:lnTo>
                        <a:pt x="0" y="105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3542040" y="5297760"/>
                  <a:ext cx="25560" cy="65880"/>
                </a:xfrm>
                <a:custGeom>
                  <a:avLst/>
                  <a:gdLst/>
                  <a:ahLst/>
                  <a:rect l="l" t="t" r="r" b="b"/>
                  <a:pathLst>
                    <a:path w="63" h="165">
                      <a:moveTo>
                        <a:pt x="63" y="0"/>
                      </a:moveTo>
                      <a:lnTo>
                        <a:pt x="55" y="9"/>
                      </a:lnTo>
                      <a:lnTo>
                        <a:pt x="55" y="19"/>
                      </a:lnTo>
                      <a:lnTo>
                        <a:pt x="55" y="37"/>
                      </a:lnTo>
                      <a:lnTo>
                        <a:pt x="45" y="46"/>
                      </a:lnTo>
                      <a:lnTo>
                        <a:pt x="45" y="56"/>
                      </a:lnTo>
                      <a:lnTo>
                        <a:pt x="45" y="64"/>
                      </a:lnTo>
                      <a:lnTo>
                        <a:pt x="36" y="74"/>
                      </a:lnTo>
                      <a:lnTo>
                        <a:pt x="36" y="84"/>
                      </a:lnTo>
                      <a:lnTo>
                        <a:pt x="36" y="92"/>
                      </a:lnTo>
                      <a:lnTo>
                        <a:pt x="28" y="102"/>
                      </a:lnTo>
                      <a:lnTo>
                        <a:pt x="28" y="111"/>
                      </a:lnTo>
                      <a:lnTo>
                        <a:pt x="28" y="129"/>
                      </a:lnTo>
                      <a:lnTo>
                        <a:pt x="18" y="138"/>
                      </a:lnTo>
                      <a:lnTo>
                        <a:pt x="18" y="147"/>
                      </a:lnTo>
                      <a:lnTo>
                        <a:pt x="9" y="156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3088440" y="4762800"/>
                  <a:ext cx="391320" cy="614880"/>
                </a:xfrm>
                <a:custGeom>
                  <a:avLst/>
                  <a:gdLst/>
                  <a:ahLst/>
                  <a:rect l="l" t="t" r="r" b="b"/>
                  <a:pathLst>
                    <a:path w="978" h="1540">
                      <a:moveTo>
                        <a:pt x="978" y="1540"/>
                      </a:moveTo>
                      <a:lnTo>
                        <a:pt x="906" y="1449"/>
                      </a:lnTo>
                      <a:lnTo>
                        <a:pt x="833" y="1357"/>
                      </a:lnTo>
                      <a:lnTo>
                        <a:pt x="769" y="1265"/>
                      </a:lnTo>
                      <a:lnTo>
                        <a:pt x="704" y="1174"/>
                      </a:lnTo>
                      <a:lnTo>
                        <a:pt x="641" y="1073"/>
                      </a:lnTo>
                      <a:lnTo>
                        <a:pt x="576" y="981"/>
                      </a:lnTo>
                      <a:lnTo>
                        <a:pt x="512" y="881"/>
                      </a:lnTo>
                      <a:lnTo>
                        <a:pt x="457" y="789"/>
                      </a:lnTo>
                      <a:lnTo>
                        <a:pt x="402" y="688"/>
                      </a:lnTo>
                      <a:lnTo>
                        <a:pt x="338" y="587"/>
                      </a:lnTo>
                      <a:lnTo>
                        <a:pt x="284" y="496"/>
                      </a:lnTo>
                      <a:lnTo>
                        <a:pt x="229" y="395"/>
                      </a:lnTo>
                      <a:lnTo>
                        <a:pt x="174" y="294"/>
                      </a:lnTo>
                      <a:lnTo>
                        <a:pt x="119" y="202"/>
                      </a:lnTo>
                      <a:lnTo>
                        <a:pt x="54" y="10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2804760" y="4265640"/>
                  <a:ext cx="283680" cy="496800"/>
                </a:xfrm>
                <a:custGeom>
                  <a:avLst/>
                  <a:gdLst/>
                  <a:ahLst/>
                  <a:rect l="l" t="t" r="r" b="b"/>
                  <a:pathLst>
                    <a:path w="714" h="1246">
                      <a:moveTo>
                        <a:pt x="714" y="1246"/>
                      </a:moveTo>
                      <a:lnTo>
                        <a:pt x="669" y="1173"/>
                      </a:lnTo>
                      <a:lnTo>
                        <a:pt x="622" y="1101"/>
                      </a:lnTo>
                      <a:lnTo>
                        <a:pt x="567" y="1017"/>
                      </a:lnTo>
                      <a:lnTo>
                        <a:pt x="521" y="944"/>
                      </a:lnTo>
                      <a:lnTo>
                        <a:pt x="476" y="871"/>
                      </a:lnTo>
                      <a:lnTo>
                        <a:pt x="430" y="788"/>
                      </a:lnTo>
                      <a:lnTo>
                        <a:pt x="375" y="715"/>
                      </a:lnTo>
                      <a:lnTo>
                        <a:pt x="329" y="633"/>
                      </a:lnTo>
                      <a:lnTo>
                        <a:pt x="284" y="559"/>
                      </a:lnTo>
                      <a:lnTo>
                        <a:pt x="237" y="477"/>
                      </a:lnTo>
                      <a:lnTo>
                        <a:pt x="202" y="403"/>
                      </a:lnTo>
                      <a:lnTo>
                        <a:pt x="156" y="321"/>
                      </a:lnTo>
                      <a:lnTo>
                        <a:pt x="119" y="239"/>
                      </a:lnTo>
                      <a:lnTo>
                        <a:pt x="73" y="165"/>
                      </a:lnTo>
                      <a:lnTo>
                        <a:pt x="37" y="8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2770560" y="4040280"/>
                  <a:ext cx="33840" cy="225360"/>
                </a:xfrm>
                <a:custGeom>
                  <a:avLst/>
                  <a:gdLst/>
                  <a:ahLst/>
                  <a:rect l="l" t="t" r="r" b="b"/>
                  <a:pathLst>
                    <a:path w="82" h="568">
                      <a:moveTo>
                        <a:pt x="82" y="568"/>
                      </a:moveTo>
                      <a:lnTo>
                        <a:pt x="72" y="531"/>
                      </a:lnTo>
                      <a:lnTo>
                        <a:pt x="64" y="504"/>
                      </a:lnTo>
                      <a:lnTo>
                        <a:pt x="54" y="468"/>
                      </a:lnTo>
                      <a:lnTo>
                        <a:pt x="36" y="431"/>
                      </a:lnTo>
                      <a:lnTo>
                        <a:pt x="27" y="394"/>
                      </a:lnTo>
                      <a:lnTo>
                        <a:pt x="18" y="357"/>
                      </a:lnTo>
                      <a:lnTo>
                        <a:pt x="18" y="330"/>
                      </a:lnTo>
                      <a:lnTo>
                        <a:pt x="9" y="293"/>
                      </a:lnTo>
                      <a:lnTo>
                        <a:pt x="0" y="257"/>
                      </a:lnTo>
                      <a:lnTo>
                        <a:pt x="0" y="220"/>
                      </a:lnTo>
                      <a:lnTo>
                        <a:pt x="0" y="184"/>
                      </a:lnTo>
                      <a:lnTo>
                        <a:pt x="0" y="147"/>
                      </a:lnTo>
                      <a:lnTo>
                        <a:pt x="0" y="110"/>
                      </a:lnTo>
                      <a:lnTo>
                        <a:pt x="0" y="73"/>
                      </a:lnTo>
                      <a:lnTo>
                        <a:pt x="0" y="37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2756520" y="3844440"/>
                  <a:ext cx="18000" cy="195480"/>
                </a:xfrm>
                <a:custGeom>
                  <a:avLst/>
                  <a:gdLst/>
                  <a:ahLst/>
                  <a:rect l="l" t="t" r="r" b="b"/>
                  <a:pathLst>
                    <a:path w="46" h="486">
                      <a:moveTo>
                        <a:pt x="46" y="486"/>
                      </a:moveTo>
                      <a:lnTo>
                        <a:pt x="46" y="450"/>
                      </a:lnTo>
                      <a:lnTo>
                        <a:pt x="46" y="422"/>
                      </a:lnTo>
                      <a:lnTo>
                        <a:pt x="46" y="394"/>
                      </a:lnTo>
                      <a:lnTo>
                        <a:pt x="37" y="357"/>
                      </a:lnTo>
                      <a:lnTo>
                        <a:pt x="37" y="330"/>
                      </a:lnTo>
                      <a:lnTo>
                        <a:pt x="27" y="303"/>
                      </a:lnTo>
                      <a:lnTo>
                        <a:pt x="27" y="266"/>
                      </a:lnTo>
                      <a:lnTo>
                        <a:pt x="19" y="239"/>
                      </a:lnTo>
                      <a:lnTo>
                        <a:pt x="10" y="212"/>
                      </a:lnTo>
                      <a:lnTo>
                        <a:pt x="10" y="185"/>
                      </a:lnTo>
                      <a:lnTo>
                        <a:pt x="10" y="147"/>
                      </a:lnTo>
                      <a:lnTo>
                        <a:pt x="0" y="120"/>
                      </a:lnTo>
                      <a:lnTo>
                        <a:pt x="10" y="92"/>
                      </a:lnTo>
                      <a:lnTo>
                        <a:pt x="10" y="65"/>
                      </a:lnTo>
                      <a:lnTo>
                        <a:pt x="19" y="28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2766600" y="3632760"/>
                  <a:ext cx="223920" cy="211680"/>
                </a:xfrm>
                <a:custGeom>
                  <a:avLst/>
                  <a:gdLst/>
                  <a:ahLst/>
                  <a:rect l="l" t="t" r="r" b="b"/>
                  <a:pathLst>
                    <a:path w="559" h="531">
                      <a:moveTo>
                        <a:pt x="0" y="531"/>
                      </a:moveTo>
                      <a:lnTo>
                        <a:pt x="19" y="486"/>
                      </a:lnTo>
                      <a:lnTo>
                        <a:pt x="46" y="449"/>
                      </a:lnTo>
                      <a:lnTo>
                        <a:pt x="74" y="402"/>
                      </a:lnTo>
                      <a:lnTo>
                        <a:pt x="102" y="367"/>
                      </a:lnTo>
                      <a:lnTo>
                        <a:pt x="138" y="330"/>
                      </a:lnTo>
                      <a:lnTo>
                        <a:pt x="165" y="293"/>
                      </a:lnTo>
                      <a:lnTo>
                        <a:pt x="202" y="265"/>
                      </a:lnTo>
                      <a:lnTo>
                        <a:pt x="239" y="229"/>
                      </a:lnTo>
                      <a:lnTo>
                        <a:pt x="284" y="202"/>
                      </a:lnTo>
                      <a:lnTo>
                        <a:pt x="321" y="175"/>
                      </a:lnTo>
                      <a:lnTo>
                        <a:pt x="357" y="137"/>
                      </a:lnTo>
                      <a:lnTo>
                        <a:pt x="394" y="110"/>
                      </a:lnTo>
                      <a:lnTo>
                        <a:pt x="439" y="83"/>
                      </a:lnTo>
                      <a:lnTo>
                        <a:pt x="476" y="56"/>
                      </a:lnTo>
                      <a:lnTo>
                        <a:pt x="522" y="28"/>
                      </a:lnTo>
                      <a:lnTo>
                        <a:pt x="55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3430080" y="3619080"/>
                  <a:ext cx="991080" cy="452880"/>
                </a:xfrm>
                <a:custGeom>
                  <a:avLst/>
                  <a:gdLst/>
                  <a:ahLst/>
                  <a:rect l="l" t="t" r="r" b="b"/>
                  <a:pathLst>
                    <a:path w="2480" h="1137">
                      <a:moveTo>
                        <a:pt x="2471" y="18"/>
                      </a:moveTo>
                      <a:lnTo>
                        <a:pt x="2480" y="18"/>
                      </a:lnTo>
                      <a:lnTo>
                        <a:pt x="2480" y="28"/>
                      </a:lnTo>
                      <a:lnTo>
                        <a:pt x="2480" y="37"/>
                      </a:lnTo>
                      <a:lnTo>
                        <a:pt x="2480" y="46"/>
                      </a:lnTo>
                      <a:lnTo>
                        <a:pt x="2480" y="55"/>
                      </a:lnTo>
                      <a:lnTo>
                        <a:pt x="2480" y="65"/>
                      </a:lnTo>
                      <a:lnTo>
                        <a:pt x="2480" y="73"/>
                      </a:lnTo>
                      <a:lnTo>
                        <a:pt x="2461" y="101"/>
                      </a:lnTo>
                      <a:lnTo>
                        <a:pt x="2443" y="138"/>
                      </a:lnTo>
                      <a:lnTo>
                        <a:pt x="2416" y="165"/>
                      </a:lnTo>
                      <a:lnTo>
                        <a:pt x="2388" y="192"/>
                      </a:lnTo>
                      <a:lnTo>
                        <a:pt x="2361" y="220"/>
                      </a:lnTo>
                      <a:lnTo>
                        <a:pt x="2324" y="248"/>
                      </a:lnTo>
                      <a:lnTo>
                        <a:pt x="2297" y="275"/>
                      </a:lnTo>
                      <a:lnTo>
                        <a:pt x="2269" y="302"/>
                      </a:lnTo>
                      <a:lnTo>
                        <a:pt x="2233" y="340"/>
                      </a:lnTo>
                      <a:lnTo>
                        <a:pt x="2214" y="367"/>
                      </a:lnTo>
                      <a:lnTo>
                        <a:pt x="2187" y="394"/>
                      </a:lnTo>
                      <a:lnTo>
                        <a:pt x="2169" y="431"/>
                      </a:lnTo>
                      <a:lnTo>
                        <a:pt x="2151" y="468"/>
                      </a:lnTo>
                      <a:lnTo>
                        <a:pt x="2142" y="514"/>
                      </a:lnTo>
                      <a:lnTo>
                        <a:pt x="2142" y="550"/>
                      </a:lnTo>
                      <a:lnTo>
                        <a:pt x="2142" y="596"/>
                      </a:lnTo>
                      <a:lnTo>
                        <a:pt x="2151" y="614"/>
                      </a:lnTo>
                      <a:lnTo>
                        <a:pt x="2151" y="624"/>
                      </a:lnTo>
                      <a:lnTo>
                        <a:pt x="2159" y="633"/>
                      </a:lnTo>
                      <a:lnTo>
                        <a:pt x="2169" y="642"/>
                      </a:lnTo>
                      <a:lnTo>
                        <a:pt x="2178" y="651"/>
                      </a:lnTo>
                      <a:lnTo>
                        <a:pt x="2187" y="660"/>
                      </a:lnTo>
                      <a:lnTo>
                        <a:pt x="2196" y="669"/>
                      </a:lnTo>
                      <a:lnTo>
                        <a:pt x="2206" y="678"/>
                      </a:lnTo>
                      <a:lnTo>
                        <a:pt x="2214" y="678"/>
                      </a:lnTo>
                      <a:lnTo>
                        <a:pt x="2223" y="688"/>
                      </a:lnTo>
                      <a:lnTo>
                        <a:pt x="2233" y="696"/>
                      </a:lnTo>
                      <a:lnTo>
                        <a:pt x="2241" y="705"/>
                      </a:lnTo>
                      <a:lnTo>
                        <a:pt x="2251" y="715"/>
                      </a:lnTo>
                      <a:lnTo>
                        <a:pt x="2261" y="725"/>
                      </a:lnTo>
                      <a:lnTo>
                        <a:pt x="2269" y="733"/>
                      </a:lnTo>
                      <a:lnTo>
                        <a:pt x="2279" y="753"/>
                      </a:lnTo>
                      <a:lnTo>
                        <a:pt x="2288" y="761"/>
                      </a:lnTo>
                      <a:lnTo>
                        <a:pt x="2297" y="761"/>
                      </a:lnTo>
                      <a:lnTo>
                        <a:pt x="2306" y="770"/>
                      </a:lnTo>
                      <a:lnTo>
                        <a:pt x="2316" y="780"/>
                      </a:lnTo>
                      <a:lnTo>
                        <a:pt x="2324" y="780"/>
                      </a:lnTo>
                      <a:lnTo>
                        <a:pt x="2333" y="788"/>
                      </a:lnTo>
                      <a:lnTo>
                        <a:pt x="2343" y="788"/>
                      </a:lnTo>
                      <a:lnTo>
                        <a:pt x="2351" y="798"/>
                      </a:lnTo>
                      <a:lnTo>
                        <a:pt x="2361" y="798"/>
                      </a:lnTo>
                      <a:lnTo>
                        <a:pt x="2370" y="798"/>
                      </a:lnTo>
                      <a:lnTo>
                        <a:pt x="2379" y="798"/>
                      </a:lnTo>
                      <a:lnTo>
                        <a:pt x="2388" y="798"/>
                      </a:lnTo>
                      <a:lnTo>
                        <a:pt x="2398" y="798"/>
                      </a:lnTo>
                      <a:lnTo>
                        <a:pt x="2388" y="798"/>
                      </a:lnTo>
                      <a:lnTo>
                        <a:pt x="2388" y="807"/>
                      </a:lnTo>
                      <a:lnTo>
                        <a:pt x="2379" y="815"/>
                      </a:lnTo>
                      <a:lnTo>
                        <a:pt x="2370" y="815"/>
                      </a:lnTo>
                      <a:lnTo>
                        <a:pt x="2361" y="815"/>
                      </a:lnTo>
                      <a:lnTo>
                        <a:pt x="2351" y="815"/>
                      </a:lnTo>
                      <a:lnTo>
                        <a:pt x="2343" y="815"/>
                      </a:lnTo>
                      <a:lnTo>
                        <a:pt x="2333" y="815"/>
                      </a:lnTo>
                      <a:lnTo>
                        <a:pt x="2324" y="815"/>
                      </a:lnTo>
                      <a:lnTo>
                        <a:pt x="2316" y="815"/>
                      </a:lnTo>
                      <a:lnTo>
                        <a:pt x="2306" y="815"/>
                      </a:lnTo>
                      <a:lnTo>
                        <a:pt x="2297" y="815"/>
                      </a:lnTo>
                      <a:lnTo>
                        <a:pt x="2288" y="815"/>
                      </a:lnTo>
                      <a:lnTo>
                        <a:pt x="2279" y="815"/>
                      </a:lnTo>
                      <a:lnTo>
                        <a:pt x="2269" y="815"/>
                      </a:lnTo>
                      <a:lnTo>
                        <a:pt x="2261" y="815"/>
                      </a:lnTo>
                      <a:lnTo>
                        <a:pt x="2251" y="815"/>
                      </a:lnTo>
                      <a:lnTo>
                        <a:pt x="2241" y="815"/>
                      </a:lnTo>
                      <a:lnTo>
                        <a:pt x="2233" y="815"/>
                      </a:lnTo>
                      <a:lnTo>
                        <a:pt x="2223" y="815"/>
                      </a:lnTo>
                      <a:lnTo>
                        <a:pt x="2214" y="815"/>
                      </a:lnTo>
                      <a:lnTo>
                        <a:pt x="2169" y="825"/>
                      </a:lnTo>
                      <a:lnTo>
                        <a:pt x="2113" y="834"/>
                      </a:lnTo>
                      <a:lnTo>
                        <a:pt x="2068" y="843"/>
                      </a:lnTo>
                      <a:lnTo>
                        <a:pt x="2014" y="852"/>
                      </a:lnTo>
                      <a:lnTo>
                        <a:pt x="1967" y="862"/>
                      </a:lnTo>
                      <a:lnTo>
                        <a:pt x="1912" y="871"/>
                      </a:lnTo>
                      <a:lnTo>
                        <a:pt x="1867" y="880"/>
                      </a:lnTo>
                      <a:lnTo>
                        <a:pt x="1821" y="890"/>
                      </a:lnTo>
                      <a:lnTo>
                        <a:pt x="1767" y="898"/>
                      </a:lnTo>
                      <a:lnTo>
                        <a:pt x="1720" y="908"/>
                      </a:lnTo>
                      <a:lnTo>
                        <a:pt x="1665" y="908"/>
                      </a:lnTo>
                      <a:lnTo>
                        <a:pt x="1620" y="917"/>
                      </a:lnTo>
                      <a:lnTo>
                        <a:pt x="1564" y="935"/>
                      </a:lnTo>
                      <a:lnTo>
                        <a:pt x="1519" y="944"/>
                      </a:lnTo>
                      <a:lnTo>
                        <a:pt x="1473" y="954"/>
                      </a:lnTo>
                      <a:lnTo>
                        <a:pt x="1418" y="962"/>
                      </a:lnTo>
                      <a:lnTo>
                        <a:pt x="1382" y="962"/>
                      </a:lnTo>
                      <a:lnTo>
                        <a:pt x="1346" y="971"/>
                      </a:lnTo>
                      <a:lnTo>
                        <a:pt x="1308" y="981"/>
                      </a:lnTo>
                      <a:lnTo>
                        <a:pt x="1272" y="990"/>
                      </a:lnTo>
                      <a:lnTo>
                        <a:pt x="1226" y="1000"/>
                      </a:lnTo>
                      <a:lnTo>
                        <a:pt x="1190" y="1009"/>
                      </a:lnTo>
                      <a:lnTo>
                        <a:pt x="1153" y="1018"/>
                      </a:lnTo>
                      <a:lnTo>
                        <a:pt x="1116" y="1018"/>
                      </a:lnTo>
                      <a:lnTo>
                        <a:pt x="1080" y="1027"/>
                      </a:lnTo>
                      <a:lnTo>
                        <a:pt x="1033" y="1036"/>
                      </a:lnTo>
                      <a:lnTo>
                        <a:pt x="998" y="1045"/>
                      </a:lnTo>
                      <a:lnTo>
                        <a:pt x="961" y="1054"/>
                      </a:lnTo>
                      <a:lnTo>
                        <a:pt x="923" y="1054"/>
                      </a:lnTo>
                      <a:lnTo>
                        <a:pt x="888" y="1064"/>
                      </a:lnTo>
                      <a:lnTo>
                        <a:pt x="842" y="1072"/>
                      </a:lnTo>
                      <a:lnTo>
                        <a:pt x="805" y="1081"/>
                      </a:lnTo>
                      <a:lnTo>
                        <a:pt x="796" y="1081"/>
                      </a:lnTo>
                      <a:lnTo>
                        <a:pt x="786" y="1091"/>
                      </a:lnTo>
                      <a:lnTo>
                        <a:pt x="778" y="1091"/>
                      </a:lnTo>
                      <a:lnTo>
                        <a:pt x="768" y="1099"/>
                      </a:lnTo>
                      <a:lnTo>
                        <a:pt x="751" y="1099"/>
                      </a:lnTo>
                      <a:lnTo>
                        <a:pt x="741" y="1099"/>
                      </a:lnTo>
                      <a:lnTo>
                        <a:pt x="732" y="1109"/>
                      </a:lnTo>
                      <a:lnTo>
                        <a:pt x="723" y="1109"/>
                      </a:lnTo>
                      <a:lnTo>
                        <a:pt x="714" y="1109"/>
                      </a:lnTo>
                      <a:lnTo>
                        <a:pt x="696" y="1118"/>
                      </a:lnTo>
                      <a:lnTo>
                        <a:pt x="687" y="1118"/>
                      </a:lnTo>
                      <a:lnTo>
                        <a:pt x="677" y="1118"/>
                      </a:lnTo>
                      <a:lnTo>
                        <a:pt x="668" y="1127"/>
                      </a:lnTo>
                      <a:lnTo>
                        <a:pt x="649" y="1127"/>
                      </a:lnTo>
                      <a:lnTo>
                        <a:pt x="641" y="1127"/>
                      </a:lnTo>
                      <a:lnTo>
                        <a:pt x="631" y="1137"/>
                      </a:lnTo>
                      <a:lnTo>
                        <a:pt x="613" y="1091"/>
                      </a:lnTo>
                      <a:lnTo>
                        <a:pt x="594" y="1045"/>
                      </a:lnTo>
                      <a:lnTo>
                        <a:pt x="577" y="1000"/>
                      </a:lnTo>
                      <a:lnTo>
                        <a:pt x="559" y="962"/>
                      </a:lnTo>
                      <a:lnTo>
                        <a:pt x="539" y="917"/>
                      </a:lnTo>
                      <a:lnTo>
                        <a:pt x="521" y="880"/>
                      </a:lnTo>
                      <a:lnTo>
                        <a:pt x="494" y="834"/>
                      </a:lnTo>
                      <a:lnTo>
                        <a:pt x="476" y="798"/>
                      </a:lnTo>
                      <a:lnTo>
                        <a:pt x="449" y="753"/>
                      </a:lnTo>
                      <a:lnTo>
                        <a:pt x="421" y="715"/>
                      </a:lnTo>
                      <a:lnTo>
                        <a:pt x="393" y="669"/>
                      </a:lnTo>
                      <a:lnTo>
                        <a:pt x="366" y="633"/>
                      </a:lnTo>
                      <a:lnTo>
                        <a:pt x="339" y="596"/>
                      </a:lnTo>
                      <a:lnTo>
                        <a:pt x="312" y="559"/>
                      </a:lnTo>
                      <a:lnTo>
                        <a:pt x="284" y="523"/>
                      </a:lnTo>
                      <a:lnTo>
                        <a:pt x="256" y="486"/>
                      </a:lnTo>
                      <a:lnTo>
                        <a:pt x="237" y="468"/>
                      </a:lnTo>
                      <a:lnTo>
                        <a:pt x="219" y="449"/>
                      </a:lnTo>
                      <a:lnTo>
                        <a:pt x="210" y="439"/>
                      </a:lnTo>
                      <a:lnTo>
                        <a:pt x="192" y="422"/>
                      </a:lnTo>
                      <a:lnTo>
                        <a:pt x="174" y="404"/>
                      </a:lnTo>
                      <a:lnTo>
                        <a:pt x="165" y="394"/>
                      </a:lnTo>
                      <a:lnTo>
                        <a:pt x="146" y="376"/>
                      </a:lnTo>
                      <a:lnTo>
                        <a:pt x="127" y="358"/>
                      </a:lnTo>
                      <a:lnTo>
                        <a:pt x="109" y="349"/>
                      </a:lnTo>
                      <a:lnTo>
                        <a:pt x="100" y="330"/>
                      </a:lnTo>
                      <a:lnTo>
                        <a:pt x="82" y="321"/>
                      </a:lnTo>
                      <a:lnTo>
                        <a:pt x="64" y="302"/>
                      </a:lnTo>
                      <a:lnTo>
                        <a:pt x="46" y="294"/>
                      </a:lnTo>
                      <a:lnTo>
                        <a:pt x="37" y="275"/>
                      </a:lnTo>
                      <a:lnTo>
                        <a:pt x="18" y="266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9"/>
                      </a:lnTo>
                      <a:lnTo>
                        <a:pt x="0" y="230"/>
                      </a:lnTo>
                      <a:lnTo>
                        <a:pt x="0" y="220"/>
                      </a:lnTo>
                      <a:lnTo>
                        <a:pt x="9" y="220"/>
                      </a:lnTo>
                      <a:lnTo>
                        <a:pt x="9" y="212"/>
                      </a:lnTo>
                      <a:lnTo>
                        <a:pt x="18" y="212"/>
                      </a:lnTo>
                      <a:lnTo>
                        <a:pt x="18" y="202"/>
                      </a:lnTo>
                      <a:lnTo>
                        <a:pt x="28" y="192"/>
                      </a:lnTo>
                      <a:lnTo>
                        <a:pt x="37" y="174"/>
                      </a:lnTo>
                      <a:lnTo>
                        <a:pt x="55" y="165"/>
                      </a:lnTo>
                      <a:lnTo>
                        <a:pt x="64" y="156"/>
                      </a:lnTo>
                      <a:lnTo>
                        <a:pt x="73" y="147"/>
                      </a:lnTo>
                      <a:lnTo>
                        <a:pt x="92" y="138"/>
                      </a:lnTo>
                      <a:lnTo>
                        <a:pt x="109" y="128"/>
                      </a:lnTo>
                      <a:lnTo>
                        <a:pt x="119" y="120"/>
                      </a:lnTo>
                      <a:lnTo>
                        <a:pt x="137" y="110"/>
                      </a:lnTo>
                      <a:lnTo>
                        <a:pt x="155" y="101"/>
                      </a:lnTo>
                      <a:lnTo>
                        <a:pt x="165" y="101"/>
                      </a:lnTo>
                      <a:lnTo>
                        <a:pt x="183" y="93"/>
                      </a:lnTo>
                      <a:lnTo>
                        <a:pt x="202" y="83"/>
                      </a:lnTo>
                      <a:lnTo>
                        <a:pt x="219" y="83"/>
                      </a:lnTo>
                      <a:lnTo>
                        <a:pt x="237" y="83"/>
                      </a:lnTo>
                      <a:lnTo>
                        <a:pt x="247" y="73"/>
                      </a:lnTo>
                      <a:lnTo>
                        <a:pt x="265" y="73"/>
                      </a:lnTo>
                      <a:lnTo>
                        <a:pt x="329" y="65"/>
                      </a:lnTo>
                      <a:lnTo>
                        <a:pt x="393" y="65"/>
                      </a:lnTo>
                      <a:lnTo>
                        <a:pt x="457" y="55"/>
                      </a:lnTo>
                      <a:lnTo>
                        <a:pt x="521" y="55"/>
                      </a:lnTo>
                      <a:lnTo>
                        <a:pt x="586" y="55"/>
                      </a:lnTo>
                      <a:lnTo>
                        <a:pt x="649" y="46"/>
                      </a:lnTo>
                      <a:lnTo>
                        <a:pt x="714" y="46"/>
                      </a:lnTo>
                      <a:lnTo>
                        <a:pt x="778" y="46"/>
                      </a:lnTo>
                      <a:lnTo>
                        <a:pt x="842" y="46"/>
                      </a:lnTo>
                      <a:lnTo>
                        <a:pt x="906" y="37"/>
                      </a:lnTo>
                      <a:lnTo>
                        <a:pt x="971" y="37"/>
                      </a:lnTo>
                      <a:lnTo>
                        <a:pt x="1033" y="37"/>
                      </a:lnTo>
                      <a:lnTo>
                        <a:pt x="1098" y="37"/>
                      </a:lnTo>
                      <a:lnTo>
                        <a:pt x="1162" y="37"/>
                      </a:lnTo>
                      <a:lnTo>
                        <a:pt x="1226" y="28"/>
                      </a:lnTo>
                      <a:lnTo>
                        <a:pt x="1290" y="28"/>
                      </a:lnTo>
                      <a:lnTo>
                        <a:pt x="1327" y="28"/>
                      </a:lnTo>
                      <a:lnTo>
                        <a:pt x="1363" y="28"/>
                      </a:lnTo>
                      <a:lnTo>
                        <a:pt x="1400" y="28"/>
                      </a:lnTo>
                      <a:lnTo>
                        <a:pt x="1437" y="28"/>
                      </a:lnTo>
                      <a:lnTo>
                        <a:pt x="1483" y="28"/>
                      </a:lnTo>
                      <a:lnTo>
                        <a:pt x="1519" y="28"/>
                      </a:lnTo>
                      <a:lnTo>
                        <a:pt x="1555" y="28"/>
                      </a:lnTo>
                      <a:lnTo>
                        <a:pt x="1602" y="28"/>
                      </a:lnTo>
                      <a:lnTo>
                        <a:pt x="1638" y="28"/>
                      </a:lnTo>
                      <a:lnTo>
                        <a:pt x="1674" y="18"/>
                      </a:lnTo>
                      <a:lnTo>
                        <a:pt x="1711" y="18"/>
                      </a:lnTo>
                      <a:lnTo>
                        <a:pt x="1757" y="18"/>
                      </a:lnTo>
                      <a:lnTo>
                        <a:pt x="1794" y="18"/>
                      </a:lnTo>
                      <a:lnTo>
                        <a:pt x="1830" y="18"/>
                      </a:lnTo>
                      <a:lnTo>
                        <a:pt x="1877" y="18"/>
                      </a:lnTo>
                      <a:lnTo>
                        <a:pt x="1912" y="18"/>
                      </a:lnTo>
                      <a:lnTo>
                        <a:pt x="1940" y="10"/>
                      </a:lnTo>
                      <a:lnTo>
                        <a:pt x="1976" y="10"/>
                      </a:lnTo>
                      <a:lnTo>
                        <a:pt x="2004" y="10"/>
                      </a:lnTo>
                      <a:lnTo>
                        <a:pt x="2041" y="10"/>
                      </a:lnTo>
                      <a:lnTo>
                        <a:pt x="2077" y="10"/>
                      </a:lnTo>
                      <a:lnTo>
                        <a:pt x="2104" y="10"/>
                      </a:lnTo>
                      <a:lnTo>
                        <a:pt x="2142" y="10"/>
                      </a:lnTo>
                      <a:lnTo>
                        <a:pt x="2169" y="10"/>
                      </a:lnTo>
                      <a:lnTo>
                        <a:pt x="2206" y="10"/>
                      </a:lnTo>
                      <a:lnTo>
                        <a:pt x="2233" y="0"/>
                      </a:lnTo>
                      <a:lnTo>
                        <a:pt x="2269" y="0"/>
                      </a:lnTo>
                      <a:lnTo>
                        <a:pt x="2297" y="0"/>
                      </a:lnTo>
                      <a:lnTo>
                        <a:pt x="2333" y="0"/>
                      </a:lnTo>
                      <a:lnTo>
                        <a:pt x="2370" y="0"/>
                      </a:lnTo>
                      <a:lnTo>
                        <a:pt x="2398" y="0"/>
                      </a:lnTo>
                      <a:lnTo>
                        <a:pt x="2434" y="0"/>
                      </a:lnTo>
                      <a:lnTo>
                        <a:pt x="2471" y="1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4285440" y="3646800"/>
                  <a:ext cx="135720" cy="209520"/>
                </a:xfrm>
                <a:custGeom>
                  <a:avLst/>
                  <a:gdLst/>
                  <a:ahLst/>
                  <a:rect l="l" t="t" r="r" b="b"/>
                  <a:pathLst>
                    <a:path w="338" h="523">
                      <a:moveTo>
                        <a:pt x="338" y="0"/>
                      </a:moveTo>
                      <a:lnTo>
                        <a:pt x="319" y="28"/>
                      </a:lnTo>
                      <a:lnTo>
                        <a:pt x="301" y="65"/>
                      </a:lnTo>
                      <a:lnTo>
                        <a:pt x="274" y="92"/>
                      </a:lnTo>
                      <a:lnTo>
                        <a:pt x="246" y="119"/>
                      </a:lnTo>
                      <a:lnTo>
                        <a:pt x="219" y="147"/>
                      </a:lnTo>
                      <a:lnTo>
                        <a:pt x="182" y="175"/>
                      </a:lnTo>
                      <a:lnTo>
                        <a:pt x="155" y="202"/>
                      </a:lnTo>
                      <a:lnTo>
                        <a:pt x="127" y="229"/>
                      </a:lnTo>
                      <a:lnTo>
                        <a:pt x="91" y="267"/>
                      </a:lnTo>
                      <a:lnTo>
                        <a:pt x="72" y="294"/>
                      </a:lnTo>
                      <a:lnTo>
                        <a:pt x="45" y="321"/>
                      </a:lnTo>
                      <a:lnTo>
                        <a:pt x="27" y="358"/>
                      </a:lnTo>
                      <a:lnTo>
                        <a:pt x="9" y="395"/>
                      </a:lnTo>
                      <a:lnTo>
                        <a:pt x="0" y="441"/>
                      </a:lnTo>
                      <a:lnTo>
                        <a:pt x="0" y="477"/>
                      </a:lnTo>
                      <a:lnTo>
                        <a:pt x="0" y="52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4285440" y="3856320"/>
                  <a:ext cx="53640" cy="61920"/>
                </a:xfrm>
                <a:custGeom>
                  <a:avLst/>
                  <a:gdLst/>
                  <a:ahLst/>
                  <a:rect l="l" t="t" r="r" b="b"/>
                  <a:pathLst>
                    <a:path w="137" h="157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9" y="28"/>
                      </a:lnTo>
                      <a:lnTo>
                        <a:pt x="17" y="37"/>
                      </a:lnTo>
                      <a:lnTo>
                        <a:pt x="27" y="46"/>
                      </a:lnTo>
                      <a:lnTo>
                        <a:pt x="36" y="55"/>
                      </a:lnTo>
                      <a:lnTo>
                        <a:pt x="45" y="64"/>
                      </a:lnTo>
                      <a:lnTo>
                        <a:pt x="54" y="73"/>
                      </a:lnTo>
                      <a:lnTo>
                        <a:pt x="64" y="82"/>
                      </a:lnTo>
                      <a:lnTo>
                        <a:pt x="72" y="82"/>
                      </a:lnTo>
                      <a:lnTo>
                        <a:pt x="81" y="92"/>
                      </a:lnTo>
                      <a:lnTo>
                        <a:pt x="91" y="100"/>
                      </a:lnTo>
                      <a:lnTo>
                        <a:pt x="99" y="109"/>
                      </a:lnTo>
                      <a:lnTo>
                        <a:pt x="109" y="119"/>
                      </a:lnTo>
                      <a:lnTo>
                        <a:pt x="119" y="129"/>
                      </a:lnTo>
                      <a:lnTo>
                        <a:pt x="127" y="137"/>
                      </a:lnTo>
                      <a:lnTo>
                        <a:pt x="137" y="15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3996000" y="3944160"/>
                  <a:ext cx="317520" cy="57600"/>
                </a:xfrm>
                <a:custGeom>
                  <a:avLst/>
                  <a:gdLst/>
                  <a:ahLst/>
                  <a:rect l="l" t="t" r="r" b="b"/>
                  <a:pathLst>
                    <a:path w="796" h="147">
                      <a:moveTo>
                        <a:pt x="796" y="0"/>
                      </a:moveTo>
                      <a:lnTo>
                        <a:pt x="751" y="10"/>
                      </a:lnTo>
                      <a:lnTo>
                        <a:pt x="695" y="19"/>
                      </a:lnTo>
                      <a:lnTo>
                        <a:pt x="650" y="28"/>
                      </a:lnTo>
                      <a:lnTo>
                        <a:pt x="596" y="37"/>
                      </a:lnTo>
                      <a:lnTo>
                        <a:pt x="549" y="47"/>
                      </a:lnTo>
                      <a:lnTo>
                        <a:pt x="494" y="56"/>
                      </a:lnTo>
                      <a:lnTo>
                        <a:pt x="449" y="65"/>
                      </a:lnTo>
                      <a:lnTo>
                        <a:pt x="403" y="75"/>
                      </a:lnTo>
                      <a:lnTo>
                        <a:pt x="349" y="83"/>
                      </a:lnTo>
                      <a:lnTo>
                        <a:pt x="302" y="93"/>
                      </a:lnTo>
                      <a:lnTo>
                        <a:pt x="247" y="93"/>
                      </a:lnTo>
                      <a:lnTo>
                        <a:pt x="202" y="102"/>
                      </a:lnTo>
                      <a:lnTo>
                        <a:pt x="146" y="120"/>
                      </a:lnTo>
                      <a:lnTo>
                        <a:pt x="101" y="129"/>
                      </a:lnTo>
                      <a:lnTo>
                        <a:pt x="55" y="139"/>
                      </a:lnTo>
                      <a:lnTo>
                        <a:pt x="0" y="14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3532320" y="3812400"/>
                  <a:ext cx="149760" cy="259560"/>
                </a:xfrm>
                <a:custGeom>
                  <a:avLst/>
                  <a:gdLst/>
                  <a:ahLst/>
                  <a:rect l="l" t="t" r="r" b="b"/>
                  <a:pathLst>
                    <a:path w="375" h="651">
                      <a:moveTo>
                        <a:pt x="375" y="651"/>
                      </a:moveTo>
                      <a:lnTo>
                        <a:pt x="357" y="605"/>
                      </a:lnTo>
                      <a:lnTo>
                        <a:pt x="338" y="559"/>
                      </a:lnTo>
                      <a:lnTo>
                        <a:pt x="321" y="514"/>
                      </a:lnTo>
                      <a:lnTo>
                        <a:pt x="303" y="476"/>
                      </a:lnTo>
                      <a:lnTo>
                        <a:pt x="283" y="431"/>
                      </a:lnTo>
                      <a:lnTo>
                        <a:pt x="265" y="394"/>
                      </a:lnTo>
                      <a:lnTo>
                        <a:pt x="238" y="348"/>
                      </a:lnTo>
                      <a:lnTo>
                        <a:pt x="220" y="312"/>
                      </a:lnTo>
                      <a:lnTo>
                        <a:pt x="193" y="267"/>
                      </a:lnTo>
                      <a:lnTo>
                        <a:pt x="165" y="229"/>
                      </a:lnTo>
                      <a:lnTo>
                        <a:pt x="137" y="183"/>
                      </a:lnTo>
                      <a:lnTo>
                        <a:pt x="110" y="147"/>
                      </a:lnTo>
                      <a:lnTo>
                        <a:pt x="83" y="110"/>
                      </a:lnTo>
                      <a:lnTo>
                        <a:pt x="56" y="73"/>
                      </a:lnTo>
                      <a:lnTo>
                        <a:pt x="2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3430080" y="3720600"/>
                  <a:ext cx="101880" cy="91800"/>
                </a:xfrm>
                <a:custGeom>
                  <a:avLst/>
                  <a:gdLst/>
                  <a:ahLst/>
                  <a:rect l="l" t="t" r="r" b="b"/>
                  <a:pathLst>
                    <a:path w="256" h="229">
                      <a:moveTo>
                        <a:pt x="256" y="229"/>
                      </a:moveTo>
                      <a:lnTo>
                        <a:pt x="237" y="211"/>
                      </a:lnTo>
                      <a:lnTo>
                        <a:pt x="219" y="192"/>
                      </a:lnTo>
                      <a:lnTo>
                        <a:pt x="210" y="182"/>
                      </a:lnTo>
                      <a:lnTo>
                        <a:pt x="192" y="165"/>
                      </a:lnTo>
                      <a:lnTo>
                        <a:pt x="174" y="147"/>
                      </a:lnTo>
                      <a:lnTo>
                        <a:pt x="165" y="137"/>
                      </a:lnTo>
                      <a:lnTo>
                        <a:pt x="146" y="119"/>
                      </a:lnTo>
                      <a:lnTo>
                        <a:pt x="127" y="101"/>
                      </a:lnTo>
                      <a:lnTo>
                        <a:pt x="109" y="92"/>
                      </a:lnTo>
                      <a:lnTo>
                        <a:pt x="100" y="73"/>
                      </a:lnTo>
                      <a:lnTo>
                        <a:pt x="82" y="64"/>
                      </a:lnTo>
                      <a:lnTo>
                        <a:pt x="64" y="45"/>
                      </a:lnTo>
                      <a:lnTo>
                        <a:pt x="46" y="37"/>
                      </a:lnTo>
                      <a:lnTo>
                        <a:pt x="37" y="18"/>
                      </a:lnTo>
                      <a:lnTo>
                        <a:pt x="18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4435560" y="3636720"/>
                  <a:ext cx="445680" cy="105840"/>
                </a:xfrm>
                <a:custGeom>
                  <a:avLst/>
                  <a:gdLst/>
                  <a:ahLst/>
                  <a:rect l="l" t="t" r="r" b="b"/>
                  <a:pathLst>
                    <a:path w="1116" h="266">
                      <a:moveTo>
                        <a:pt x="824" y="101"/>
                      </a:moveTo>
                      <a:lnTo>
                        <a:pt x="843" y="110"/>
                      </a:lnTo>
                      <a:lnTo>
                        <a:pt x="861" y="119"/>
                      </a:lnTo>
                      <a:lnTo>
                        <a:pt x="879" y="128"/>
                      </a:lnTo>
                      <a:lnTo>
                        <a:pt x="896" y="137"/>
                      </a:lnTo>
                      <a:lnTo>
                        <a:pt x="915" y="146"/>
                      </a:lnTo>
                      <a:lnTo>
                        <a:pt x="934" y="156"/>
                      </a:lnTo>
                      <a:lnTo>
                        <a:pt x="953" y="166"/>
                      </a:lnTo>
                      <a:lnTo>
                        <a:pt x="971" y="174"/>
                      </a:lnTo>
                      <a:lnTo>
                        <a:pt x="998" y="184"/>
                      </a:lnTo>
                      <a:lnTo>
                        <a:pt x="1006" y="193"/>
                      </a:lnTo>
                      <a:lnTo>
                        <a:pt x="1025" y="202"/>
                      </a:lnTo>
                      <a:lnTo>
                        <a:pt x="1043" y="211"/>
                      </a:lnTo>
                      <a:lnTo>
                        <a:pt x="1063" y="220"/>
                      </a:lnTo>
                      <a:lnTo>
                        <a:pt x="1081" y="229"/>
                      </a:lnTo>
                      <a:lnTo>
                        <a:pt x="1098" y="238"/>
                      </a:lnTo>
                      <a:lnTo>
                        <a:pt x="1116" y="248"/>
                      </a:lnTo>
                      <a:lnTo>
                        <a:pt x="1116" y="256"/>
                      </a:lnTo>
                      <a:lnTo>
                        <a:pt x="1108" y="256"/>
                      </a:lnTo>
                      <a:lnTo>
                        <a:pt x="1098" y="256"/>
                      </a:lnTo>
                      <a:lnTo>
                        <a:pt x="1098" y="266"/>
                      </a:lnTo>
                      <a:lnTo>
                        <a:pt x="1090" y="266"/>
                      </a:lnTo>
                      <a:lnTo>
                        <a:pt x="1081" y="266"/>
                      </a:lnTo>
                      <a:lnTo>
                        <a:pt x="1071" y="266"/>
                      </a:lnTo>
                      <a:lnTo>
                        <a:pt x="1063" y="266"/>
                      </a:lnTo>
                      <a:lnTo>
                        <a:pt x="1053" y="266"/>
                      </a:lnTo>
                      <a:lnTo>
                        <a:pt x="1025" y="266"/>
                      </a:lnTo>
                      <a:lnTo>
                        <a:pt x="998" y="256"/>
                      </a:lnTo>
                      <a:lnTo>
                        <a:pt x="971" y="256"/>
                      </a:lnTo>
                      <a:lnTo>
                        <a:pt x="943" y="248"/>
                      </a:lnTo>
                      <a:lnTo>
                        <a:pt x="915" y="248"/>
                      </a:lnTo>
                      <a:lnTo>
                        <a:pt x="879" y="238"/>
                      </a:lnTo>
                      <a:lnTo>
                        <a:pt x="851" y="229"/>
                      </a:lnTo>
                      <a:lnTo>
                        <a:pt x="824" y="229"/>
                      </a:lnTo>
                      <a:lnTo>
                        <a:pt x="806" y="220"/>
                      </a:lnTo>
                      <a:lnTo>
                        <a:pt x="778" y="211"/>
                      </a:lnTo>
                      <a:lnTo>
                        <a:pt x="751" y="202"/>
                      </a:lnTo>
                      <a:lnTo>
                        <a:pt x="723" y="193"/>
                      </a:lnTo>
                      <a:lnTo>
                        <a:pt x="696" y="184"/>
                      </a:lnTo>
                      <a:lnTo>
                        <a:pt x="669" y="166"/>
                      </a:lnTo>
                      <a:lnTo>
                        <a:pt x="649" y="156"/>
                      </a:lnTo>
                      <a:lnTo>
                        <a:pt x="622" y="146"/>
                      </a:lnTo>
                      <a:lnTo>
                        <a:pt x="586" y="137"/>
                      </a:lnTo>
                      <a:lnTo>
                        <a:pt x="541" y="137"/>
                      </a:lnTo>
                      <a:lnTo>
                        <a:pt x="504" y="137"/>
                      </a:lnTo>
                      <a:lnTo>
                        <a:pt x="467" y="137"/>
                      </a:lnTo>
                      <a:lnTo>
                        <a:pt x="431" y="128"/>
                      </a:lnTo>
                      <a:lnTo>
                        <a:pt x="394" y="128"/>
                      </a:lnTo>
                      <a:lnTo>
                        <a:pt x="347" y="128"/>
                      </a:lnTo>
                      <a:lnTo>
                        <a:pt x="312" y="128"/>
                      </a:lnTo>
                      <a:lnTo>
                        <a:pt x="275" y="119"/>
                      </a:lnTo>
                      <a:lnTo>
                        <a:pt x="237" y="119"/>
                      </a:lnTo>
                      <a:lnTo>
                        <a:pt x="202" y="119"/>
                      </a:lnTo>
                      <a:lnTo>
                        <a:pt x="157" y="119"/>
                      </a:lnTo>
                      <a:lnTo>
                        <a:pt x="119" y="119"/>
                      </a:lnTo>
                      <a:lnTo>
                        <a:pt x="82" y="119"/>
                      </a:lnTo>
                      <a:lnTo>
                        <a:pt x="47" y="128"/>
                      </a:lnTo>
                      <a:lnTo>
                        <a:pt x="0" y="128"/>
                      </a:lnTo>
                      <a:lnTo>
                        <a:pt x="10" y="119"/>
                      </a:lnTo>
                      <a:lnTo>
                        <a:pt x="10" y="110"/>
                      </a:lnTo>
                      <a:lnTo>
                        <a:pt x="20" y="101"/>
                      </a:lnTo>
                      <a:lnTo>
                        <a:pt x="20" y="92"/>
                      </a:lnTo>
                      <a:lnTo>
                        <a:pt x="28" y="82"/>
                      </a:lnTo>
                      <a:lnTo>
                        <a:pt x="28" y="74"/>
                      </a:lnTo>
                      <a:lnTo>
                        <a:pt x="28" y="64"/>
                      </a:lnTo>
                      <a:lnTo>
                        <a:pt x="37" y="55"/>
                      </a:lnTo>
                      <a:lnTo>
                        <a:pt x="37" y="47"/>
                      </a:lnTo>
                      <a:lnTo>
                        <a:pt x="37" y="37"/>
                      </a:lnTo>
                      <a:lnTo>
                        <a:pt x="37" y="27"/>
                      </a:lnTo>
                      <a:lnTo>
                        <a:pt x="37" y="19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65" y="0"/>
                      </a:lnTo>
                      <a:lnTo>
                        <a:pt x="100" y="9"/>
                      </a:lnTo>
                      <a:lnTo>
                        <a:pt x="138" y="9"/>
                      </a:lnTo>
                      <a:lnTo>
                        <a:pt x="175" y="9"/>
                      </a:lnTo>
                      <a:lnTo>
                        <a:pt x="210" y="9"/>
                      </a:lnTo>
                      <a:lnTo>
                        <a:pt x="247" y="9"/>
                      </a:lnTo>
                      <a:lnTo>
                        <a:pt x="285" y="9"/>
                      </a:lnTo>
                      <a:lnTo>
                        <a:pt x="321" y="0"/>
                      </a:lnTo>
                      <a:lnTo>
                        <a:pt x="357" y="0"/>
                      </a:lnTo>
                      <a:lnTo>
                        <a:pt x="394" y="0"/>
                      </a:lnTo>
                      <a:lnTo>
                        <a:pt x="431" y="0"/>
                      </a:lnTo>
                      <a:lnTo>
                        <a:pt x="467" y="0"/>
                      </a:lnTo>
                      <a:lnTo>
                        <a:pt x="504" y="0"/>
                      </a:lnTo>
                      <a:lnTo>
                        <a:pt x="541" y="0"/>
                      </a:lnTo>
                      <a:lnTo>
                        <a:pt x="577" y="0"/>
                      </a:lnTo>
                      <a:lnTo>
                        <a:pt x="613" y="0"/>
                      </a:lnTo>
                      <a:lnTo>
                        <a:pt x="622" y="0"/>
                      </a:lnTo>
                      <a:lnTo>
                        <a:pt x="631" y="9"/>
                      </a:lnTo>
                      <a:lnTo>
                        <a:pt x="641" y="9"/>
                      </a:lnTo>
                      <a:lnTo>
                        <a:pt x="649" y="9"/>
                      </a:lnTo>
                      <a:lnTo>
                        <a:pt x="659" y="9"/>
                      </a:lnTo>
                      <a:lnTo>
                        <a:pt x="669" y="9"/>
                      </a:lnTo>
                      <a:lnTo>
                        <a:pt x="678" y="19"/>
                      </a:lnTo>
                      <a:lnTo>
                        <a:pt x="687" y="19"/>
                      </a:lnTo>
                      <a:lnTo>
                        <a:pt x="696" y="19"/>
                      </a:lnTo>
                      <a:lnTo>
                        <a:pt x="706" y="27"/>
                      </a:lnTo>
                      <a:lnTo>
                        <a:pt x="714" y="27"/>
                      </a:lnTo>
                      <a:lnTo>
                        <a:pt x="723" y="27"/>
                      </a:lnTo>
                      <a:lnTo>
                        <a:pt x="733" y="37"/>
                      </a:lnTo>
                      <a:lnTo>
                        <a:pt x="741" y="47"/>
                      </a:lnTo>
                      <a:lnTo>
                        <a:pt x="751" y="47"/>
                      </a:lnTo>
                      <a:lnTo>
                        <a:pt x="824" y="101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4765680" y="3676680"/>
                  <a:ext cx="115920" cy="60120"/>
                </a:xfrm>
                <a:custGeom>
                  <a:avLst/>
                  <a:gdLst/>
                  <a:ahLst/>
                  <a:rect l="l" t="t" r="r" b="b"/>
                  <a:pathLst>
                    <a:path w="292" h="147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37" y="18"/>
                      </a:lnTo>
                      <a:lnTo>
                        <a:pt x="55" y="27"/>
                      </a:lnTo>
                      <a:lnTo>
                        <a:pt x="72" y="36"/>
                      </a:lnTo>
                      <a:lnTo>
                        <a:pt x="91" y="45"/>
                      </a:lnTo>
                      <a:lnTo>
                        <a:pt x="110" y="55"/>
                      </a:lnTo>
                      <a:lnTo>
                        <a:pt x="129" y="65"/>
                      </a:lnTo>
                      <a:lnTo>
                        <a:pt x="147" y="73"/>
                      </a:lnTo>
                      <a:lnTo>
                        <a:pt x="174" y="83"/>
                      </a:lnTo>
                      <a:lnTo>
                        <a:pt x="182" y="92"/>
                      </a:lnTo>
                      <a:lnTo>
                        <a:pt x="201" y="101"/>
                      </a:lnTo>
                      <a:lnTo>
                        <a:pt x="219" y="110"/>
                      </a:lnTo>
                      <a:lnTo>
                        <a:pt x="239" y="119"/>
                      </a:lnTo>
                      <a:lnTo>
                        <a:pt x="257" y="128"/>
                      </a:lnTo>
                      <a:lnTo>
                        <a:pt x="274" y="137"/>
                      </a:lnTo>
                      <a:lnTo>
                        <a:pt x="292" y="14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4343760" y="3816720"/>
                  <a:ext cx="3960" cy="3960"/>
                </a:xfrm>
                <a:prstGeom prst="rect">
                  <a:avLst/>
                </a:pr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4351680" y="381672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8" y="8"/>
                      </a:moveTo>
                      <a:lnTo>
                        <a:pt x="10" y="8"/>
                      </a:lnTo>
                      <a:lnTo>
                        <a:pt x="10" y="18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2364840" y="4064040"/>
                  <a:ext cx="515160" cy="806040"/>
                </a:xfrm>
                <a:custGeom>
                  <a:avLst/>
                  <a:gdLst/>
                  <a:ahLst/>
                  <a:rect l="l" t="t" r="r" b="b"/>
                  <a:pathLst>
                    <a:path w="1290" h="2016">
                      <a:moveTo>
                        <a:pt x="869" y="19"/>
                      </a:moveTo>
                      <a:lnTo>
                        <a:pt x="879" y="83"/>
                      </a:lnTo>
                      <a:lnTo>
                        <a:pt x="888" y="148"/>
                      </a:lnTo>
                      <a:lnTo>
                        <a:pt x="906" y="211"/>
                      </a:lnTo>
                      <a:lnTo>
                        <a:pt x="924" y="275"/>
                      </a:lnTo>
                      <a:lnTo>
                        <a:pt x="942" y="330"/>
                      </a:lnTo>
                      <a:lnTo>
                        <a:pt x="960" y="394"/>
                      </a:lnTo>
                      <a:lnTo>
                        <a:pt x="979" y="449"/>
                      </a:lnTo>
                      <a:lnTo>
                        <a:pt x="998" y="504"/>
                      </a:lnTo>
                      <a:lnTo>
                        <a:pt x="1025" y="569"/>
                      </a:lnTo>
                      <a:lnTo>
                        <a:pt x="1052" y="623"/>
                      </a:lnTo>
                      <a:lnTo>
                        <a:pt x="1080" y="679"/>
                      </a:lnTo>
                      <a:lnTo>
                        <a:pt x="1108" y="733"/>
                      </a:lnTo>
                      <a:lnTo>
                        <a:pt x="1135" y="788"/>
                      </a:lnTo>
                      <a:lnTo>
                        <a:pt x="1162" y="843"/>
                      </a:lnTo>
                      <a:lnTo>
                        <a:pt x="1190" y="898"/>
                      </a:lnTo>
                      <a:lnTo>
                        <a:pt x="1217" y="953"/>
                      </a:lnTo>
                      <a:lnTo>
                        <a:pt x="1290" y="1082"/>
                      </a:lnTo>
                      <a:lnTo>
                        <a:pt x="1263" y="1119"/>
                      </a:lnTo>
                      <a:lnTo>
                        <a:pt x="1235" y="1146"/>
                      </a:lnTo>
                      <a:lnTo>
                        <a:pt x="1198" y="1182"/>
                      </a:lnTo>
                      <a:lnTo>
                        <a:pt x="1171" y="1210"/>
                      </a:lnTo>
                      <a:lnTo>
                        <a:pt x="1135" y="1247"/>
                      </a:lnTo>
                      <a:lnTo>
                        <a:pt x="1108" y="1274"/>
                      </a:lnTo>
                      <a:lnTo>
                        <a:pt x="1070" y="1311"/>
                      </a:lnTo>
                      <a:lnTo>
                        <a:pt x="1034" y="1348"/>
                      </a:lnTo>
                      <a:lnTo>
                        <a:pt x="1006" y="1375"/>
                      </a:lnTo>
                      <a:lnTo>
                        <a:pt x="970" y="1411"/>
                      </a:lnTo>
                      <a:lnTo>
                        <a:pt x="933" y="1438"/>
                      </a:lnTo>
                      <a:lnTo>
                        <a:pt x="906" y="1476"/>
                      </a:lnTo>
                      <a:lnTo>
                        <a:pt x="869" y="1513"/>
                      </a:lnTo>
                      <a:lnTo>
                        <a:pt x="842" y="1548"/>
                      </a:lnTo>
                      <a:lnTo>
                        <a:pt x="814" y="1586"/>
                      </a:lnTo>
                      <a:lnTo>
                        <a:pt x="786" y="1623"/>
                      </a:lnTo>
                      <a:lnTo>
                        <a:pt x="759" y="1640"/>
                      </a:lnTo>
                      <a:lnTo>
                        <a:pt x="741" y="1668"/>
                      </a:lnTo>
                      <a:lnTo>
                        <a:pt x="723" y="1695"/>
                      </a:lnTo>
                      <a:lnTo>
                        <a:pt x="704" y="1723"/>
                      </a:lnTo>
                      <a:lnTo>
                        <a:pt x="676" y="1742"/>
                      </a:lnTo>
                      <a:lnTo>
                        <a:pt x="659" y="1769"/>
                      </a:lnTo>
                      <a:lnTo>
                        <a:pt x="641" y="1796"/>
                      </a:lnTo>
                      <a:lnTo>
                        <a:pt x="622" y="1814"/>
                      </a:lnTo>
                      <a:lnTo>
                        <a:pt x="595" y="1842"/>
                      </a:lnTo>
                      <a:lnTo>
                        <a:pt x="576" y="1870"/>
                      </a:lnTo>
                      <a:lnTo>
                        <a:pt x="558" y="1889"/>
                      </a:lnTo>
                      <a:lnTo>
                        <a:pt x="531" y="1916"/>
                      </a:lnTo>
                      <a:lnTo>
                        <a:pt x="512" y="1943"/>
                      </a:lnTo>
                      <a:lnTo>
                        <a:pt x="485" y="1961"/>
                      </a:lnTo>
                      <a:lnTo>
                        <a:pt x="467" y="1989"/>
                      </a:lnTo>
                      <a:lnTo>
                        <a:pt x="449" y="2007"/>
                      </a:lnTo>
                      <a:lnTo>
                        <a:pt x="429" y="2016"/>
                      </a:lnTo>
                      <a:lnTo>
                        <a:pt x="402" y="1999"/>
                      </a:lnTo>
                      <a:lnTo>
                        <a:pt x="375" y="1979"/>
                      </a:lnTo>
                      <a:lnTo>
                        <a:pt x="347" y="1961"/>
                      </a:lnTo>
                      <a:lnTo>
                        <a:pt x="330" y="1943"/>
                      </a:lnTo>
                      <a:lnTo>
                        <a:pt x="301" y="1924"/>
                      </a:lnTo>
                      <a:lnTo>
                        <a:pt x="274" y="1897"/>
                      </a:lnTo>
                      <a:lnTo>
                        <a:pt x="247" y="1879"/>
                      </a:lnTo>
                      <a:lnTo>
                        <a:pt x="229" y="1852"/>
                      </a:lnTo>
                      <a:lnTo>
                        <a:pt x="202" y="1832"/>
                      </a:lnTo>
                      <a:lnTo>
                        <a:pt x="183" y="1805"/>
                      </a:lnTo>
                      <a:lnTo>
                        <a:pt x="155" y="1787"/>
                      </a:lnTo>
                      <a:lnTo>
                        <a:pt x="128" y="1760"/>
                      </a:lnTo>
                      <a:lnTo>
                        <a:pt x="110" y="1733"/>
                      </a:lnTo>
                      <a:lnTo>
                        <a:pt x="92" y="1714"/>
                      </a:lnTo>
                      <a:lnTo>
                        <a:pt x="65" y="1686"/>
                      </a:lnTo>
                      <a:lnTo>
                        <a:pt x="45" y="1659"/>
                      </a:lnTo>
                      <a:lnTo>
                        <a:pt x="36" y="1659"/>
                      </a:lnTo>
                      <a:lnTo>
                        <a:pt x="27" y="1650"/>
                      </a:lnTo>
                      <a:lnTo>
                        <a:pt x="27" y="1640"/>
                      </a:lnTo>
                      <a:lnTo>
                        <a:pt x="18" y="1632"/>
                      </a:lnTo>
                      <a:lnTo>
                        <a:pt x="18" y="1623"/>
                      </a:lnTo>
                      <a:lnTo>
                        <a:pt x="9" y="1613"/>
                      </a:lnTo>
                      <a:lnTo>
                        <a:pt x="0" y="1605"/>
                      </a:lnTo>
                      <a:lnTo>
                        <a:pt x="0" y="1595"/>
                      </a:lnTo>
                      <a:lnTo>
                        <a:pt x="0" y="1586"/>
                      </a:lnTo>
                      <a:lnTo>
                        <a:pt x="0" y="1576"/>
                      </a:lnTo>
                      <a:lnTo>
                        <a:pt x="0" y="1567"/>
                      </a:lnTo>
                      <a:lnTo>
                        <a:pt x="0" y="1558"/>
                      </a:lnTo>
                      <a:lnTo>
                        <a:pt x="0" y="1548"/>
                      </a:lnTo>
                      <a:lnTo>
                        <a:pt x="0" y="1540"/>
                      </a:lnTo>
                      <a:lnTo>
                        <a:pt x="0" y="1530"/>
                      </a:lnTo>
                      <a:lnTo>
                        <a:pt x="9" y="1513"/>
                      </a:lnTo>
                      <a:lnTo>
                        <a:pt x="18" y="1494"/>
                      </a:lnTo>
                      <a:lnTo>
                        <a:pt x="27" y="1476"/>
                      </a:lnTo>
                      <a:lnTo>
                        <a:pt x="36" y="1458"/>
                      </a:lnTo>
                      <a:lnTo>
                        <a:pt x="45" y="1438"/>
                      </a:lnTo>
                      <a:lnTo>
                        <a:pt x="55" y="1420"/>
                      </a:lnTo>
                      <a:lnTo>
                        <a:pt x="65" y="1403"/>
                      </a:lnTo>
                      <a:lnTo>
                        <a:pt x="82" y="1384"/>
                      </a:lnTo>
                      <a:lnTo>
                        <a:pt x="92" y="1366"/>
                      </a:lnTo>
                      <a:lnTo>
                        <a:pt x="100" y="1348"/>
                      </a:lnTo>
                      <a:lnTo>
                        <a:pt x="110" y="1329"/>
                      </a:lnTo>
                      <a:lnTo>
                        <a:pt x="119" y="1311"/>
                      </a:lnTo>
                      <a:lnTo>
                        <a:pt x="128" y="1292"/>
                      </a:lnTo>
                      <a:lnTo>
                        <a:pt x="137" y="1274"/>
                      </a:lnTo>
                      <a:lnTo>
                        <a:pt x="146" y="1247"/>
                      </a:lnTo>
                      <a:lnTo>
                        <a:pt x="155" y="1229"/>
                      </a:lnTo>
                      <a:lnTo>
                        <a:pt x="164" y="1210"/>
                      </a:lnTo>
                      <a:lnTo>
                        <a:pt x="183" y="1182"/>
                      </a:lnTo>
                      <a:lnTo>
                        <a:pt x="192" y="1164"/>
                      </a:lnTo>
                      <a:lnTo>
                        <a:pt x="202" y="1146"/>
                      </a:lnTo>
                      <a:lnTo>
                        <a:pt x="210" y="1119"/>
                      </a:lnTo>
                      <a:lnTo>
                        <a:pt x="220" y="1100"/>
                      </a:lnTo>
                      <a:lnTo>
                        <a:pt x="237" y="1073"/>
                      </a:lnTo>
                      <a:lnTo>
                        <a:pt x="247" y="1054"/>
                      </a:lnTo>
                      <a:lnTo>
                        <a:pt x="256" y="1027"/>
                      </a:lnTo>
                      <a:lnTo>
                        <a:pt x="265" y="1008"/>
                      </a:lnTo>
                      <a:lnTo>
                        <a:pt x="274" y="981"/>
                      </a:lnTo>
                      <a:lnTo>
                        <a:pt x="284" y="963"/>
                      </a:lnTo>
                      <a:lnTo>
                        <a:pt x="301" y="945"/>
                      </a:lnTo>
                      <a:lnTo>
                        <a:pt x="311" y="917"/>
                      </a:lnTo>
                      <a:lnTo>
                        <a:pt x="320" y="898"/>
                      </a:lnTo>
                      <a:lnTo>
                        <a:pt x="339" y="871"/>
                      </a:lnTo>
                      <a:lnTo>
                        <a:pt x="366" y="825"/>
                      </a:lnTo>
                      <a:lnTo>
                        <a:pt x="394" y="770"/>
                      </a:lnTo>
                      <a:lnTo>
                        <a:pt x="421" y="724"/>
                      </a:lnTo>
                      <a:lnTo>
                        <a:pt x="449" y="669"/>
                      </a:lnTo>
                      <a:lnTo>
                        <a:pt x="467" y="614"/>
                      </a:lnTo>
                      <a:lnTo>
                        <a:pt x="494" y="569"/>
                      </a:lnTo>
                      <a:lnTo>
                        <a:pt x="521" y="513"/>
                      </a:lnTo>
                      <a:lnTo>
                        <a:pt x="549" y="459"/>
                      </a:lnTo>
                      <a:lnTo>
                        <a:pt x="576" y="413"/>
                      </a:lnTo>
                      <a:lnTo>
                        <a:pt x="604" y="357"/>
                      </a:lnTo>
                      <a:lnTo>
                        <a:pt x="631" y="303"/>
                      </a:lnTo>
                      <a:lnTo>
                        <a:pt x="659" y="257"/>
                      </a:lnTo>
                      <a:lnTo>
                        <a:pt x="686" y="202"/>
                      </a:lnTo>
                      <a:lnTo>
                        <a:pt x="714" y="156"/>
                      </a:lnTo>
                      <a:lnTo>
                        <a:pt x="751" y="101"/>
                      </a:lnTo>
                      <a:lnTo>
                        <a:pt x="778" y="56"/>
                      </a:lnTo>
                      <a:lnTo>
                        <a:pt x="778" y="46"/>
                      </a:lnTo>
                      <a:lnTo>
                        <a:pt x="786" y="46"/>
                      </a:lnTo>
                      <a:lnTo>
                        <a:pt x="786" y="37"/>
                      </a:lnTo>
                      <a:lnTo>
                        <a:pt x="796" y="37"/>
                      </a:lnTo>
                      <a:lnTo>
                        <a:pt x="796" y="28"/>
                      </a:lnTo>
                      <a:lnTo>
                        <a:pt x="805" y="28"/>
                      </a:lnTo>
                      <a:lnTo>
                        <a:pt x="805" y="19"/>
                      </a:lnTo>
                      <a:lnTo>
                        <a:pt x="814" y="19"/>
                      </a:lnTo>
                      <a:lnTo>
                        <a:pt x="823" y="9"/>
                      </a:lnTo>
                      <a:lnTo>
                        <a:pt x="833" y="9"/>
                      </a:lnTo>
                      <a:lnTo>
                        <a:pt x="842" y="9"/>
                      </a:lnTo>
                      <a:lnTo>
                        <a:pt x="842" y="0"/>
                      </a:lnTo>
                      <a:lnTo>
                        <a:pt x="851" y="0"/>
                      </a:lnTo>
                      <a:lnTo>
                        <a:pt x="861" y="0"/>
                      </a:lnTo>
                      <a:lnTo>
                        <a:pt x="869" y="1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2712600" y="4072320"/>
                  <a:ext cx="13752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934">
                      <a:moveTo>
                        <a:pt x="0" y="0"/>
                      </a:moveTo>
                      <a:lnTo>
                        <a:pt x="10" y="64"/>
                      </a:lnTo>
                      <a:lnTo>
                        <a:pt x="19" y="129"/>
                      </a:lnTo>
                      <a:lnTo>
                        <a:pt x="37" y="192"/>
                      </a:lnTo>
                      <a:lnTo>
                        <a:pt x="55" y="256"/>
                      </a:lnTo>
                      <a:lnTo>
                        <a:pt x="73" y="311"/>
                      </a:lnTo>
                      <a:lnTo>
                        <a:pt x="91" y="375"/>
                      </a:lnTo>
                      <a:lnTo>
                        <a:pt x="110" y="430"/>
                      </a:lnTo>
                      <a:lnTo>
                        <a:pt x="129" y="485"/>
                      </a:lnTo>
                      <a:lnTo>
                        <a:pt x="156" y="550"/>
                      </a:lnTo>
                      <a:lnTo>
                        <a:pt x="183" y="604"/>
                      </a:lnTo>
                      <a:lnTo>
                        <a:pt x="211" y="660"/>
                      </a:lnTo>
                      <a:lnTo>
                        <a:pt x="239" y="714"/>
                      </a:lnTo>
                      <a:lnTo>
                        <a:pt x="266" y="769"/>
                      </a:lnTo>
                      <a:lnTo>
                        <a:pt x="293" y="824"/>
                      </a:lnTo>
                      <a:lnTo>
                        <a:pt x="321" y="879"/>
                      </a:lnTo>
                      <a:lnTo>
                        <a:pt x="348" y="93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678760" y="4497480"/>
                  <a:ext cx="201600" cy="215280"/>
                </a:xfrm>
                <a:custGeom>
                  <a:avLst/>
                  <a:gdLst/>
                  <a:ahLst/>
                  <a:rect l="l" t="t" r="r" b="b"/>
                  <a:pathLst>
                    <a:path w="504" h="541">
                      <a:moveTo>
                        <a:pt x="504" y="0"/>
                      </a:moveTo>
                      <a:lnTo>
                        <a:pt x="477" y="37"/>
                      </a:lnTo>
                      <a:lnTo>
                        <a:pt x="449" y="64"/>
                      </a:lnTo>
                      <a:lnTo>
                        <a:pt x="412" y="100"/>
                      </a:lnTo>
                      <a:lnTo>
                        <a:pt x="385" y="128"/>
                      </a:lnTo>
                      <a:lnTo>
                        <a:pt x="349" y="165"/>
                      </a:lnTo>
                      <a:lnTo>
                        <a:pt x="322" y="192"/>
                      </a:lnTo>
                      <a:lnTo>
                        <a:pt x="284" y="229"/>
                      </a:lnTo>
                      <a:lnTo>
                        <a:pt x="248" y="266"/>
                      </a:lnTo>
                      <a:lnTo>
                        <a:pt x="220" y="293"/>
                      </a:lnTo>
                      <a:lnTo>
                        <a:pt x="184" y="329"/>
                      </a:lnTo>
                      <a:lnTo>
                        <a:pt x="147" y="356"/>
                      </a:lnTo>
                      <a:lnTo>
                        <a:pt x="120" y="394"/>
                      </a:lnTo>
                      <a:lnTo>
                        <a:pt x="83" y="431"/>
                      </a:lnTo>
                      <a:lnTo>
                        <a:pt x="56" y="466"/>
                      </a:lnTo>
                      <a:lnTo>
                        <a:pt x="28" y="504"/>
                      </a:lnTo>
                      <a:lnTo>
                        <a:pt x="0" y="54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2544840" y="4712760"/>
                  <a:ext cx="133560" cy="153720"/>
                </a:xfrm>
                <a:custGeom>
                  <a:avLst/>
                  <a:gdLst/>
                  <a:ahLst/>
                  <a:rect l="l" t="t" r="r" b="b"/>
                  <a:pathLst>
                    <a:path w="337" h="384">
                      <a:moveTo>
                        <a:pt x="337" y="0"/>
                      </a:moveTo>
                      <a:lnTo>
                        <a:pt x="310" y="17"/>
                      </a:lnTo>
                      <a:lnTo>
                        <a:pt x="292" y="45"/>
                      </a:lnTo>
                      <a:lnTo>
                        <a:pt x="274" y="72"/>
                      </a:lnTo>
                      <a:lnTo>
                        <a:pt x="255" y="100"/>
                      </a:lnTo>
                      <a:lnTo>
                        <a:pt x="227" y="119"/>
                      </a:lnTo>
                      <a:lnTo>
                        <a:pt x="210" y="146"/>
                      </a:lnTo>
                      <a:lnTo>
                        <a:pt x="192" y="173"/>
                      </a:lnTo>
                      <a:lnTo>
                        <a:pt x="173" y="191"/>
                      </a:lnTo>
                      <a:lnTo>
                        <a:pt x="146" y="219"/>
                      </a:lnTo>
                      <a:lnTo>
                        <a:pt x="127" y="247"/>
                      </a:lnTo>
                      <a:lnTo>
                        <a:pt x="109" y="266"/>
                      </a:lnTo>
                      <a:lnTo>
                        <a:pt x="82" y="293"/>
                      </a:lnTo>
                      <a:lnTo>
                        <a:pt x="63" y="320"/>
                      </a:lnTo>
                      <a:lnTo>
                        <a:pt x="36" y="338"/>
                      </a:lnTo>
                      <a:lnTo>
                        <a:pt x="18" y="366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2382840" y="4726800"/>
                  <a:ext cx="154080" cy="143280"/>
                </a:xfrm>
                <a:custGeom>
                  <a:avLst/>
                  <a:gdLst/>
                  <a:ahLst/>
                  <a:rect l="l" t="t" r="r" b="b"/>
                  <a:pathLst>
                    <a:path w="384" h="357">
                      <a:moveTo>
                        <a:pt x="384" y="357"/>
                      </a:moveTo>
                      <a:lnTo>
                        <a:pt x="357" y="340"/>
                      </a:lnTo>
                      <a:lnTo>
                        <a:pt x="330" y="320"/>
                      </a:lnTo>
                      <a:lnTo>
                        <a:pt x="302" y="302"/>
                      </a:lnTo>
                      <a:lnTo>
                        <a:pt x="285" y="284"/>
                      </a:lnTo>
                      <a:lnTo>
                        <a:pt x="256" y="265"/>
                      </a:lnTo>
                      <a:lnTo>
                        <a:pt x="229" y="238"/>
                      </a:lnTo>
                      <a:lnTo>
                        <a:pt x="202" y="220"/>
                      </a:lnTo>
                      <a:lnTo>
                        <a:pt x="184" y="193"/>
                      </a:lnTo>
                      <a:lnTo>
                        <a:pt x="157" y="173"/>
                      </a:lnTo>
                      <a:lnTo>
                        <a:pt x="138" y="146"/>
                      </a:lnTo>
                      <a:lnTo>
                        <a:pt x="110" y="128"/>
                      </a:lnTo>
                      <a:lnTo>
                        <a:pt x="83" y="101"/>
                      </a:lnTo>
                      <a:lnTo>
                        <a:pt x="65" y="74"/>
                      </a:lnTo>
                      <a:lnTo>
                        <a:pt x="47" y="55"/>
                      </a:lnTo>
                      <a:lnTo>
                        <a:pt x="20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2364840" y="4555440"/>
                  <a:ext cx="61560" cy="119160"/>
                </a:xfrm>
                <a:custGeom>
                  <a:avLst/>
                  <a:gdLst/>
                  <a:ahLst/>
                  <a:rect l="l" t="t" r="r" b="b"/>
                  <a:pathLst>
                    <a:path w="155" h="301">
                      <a:moveTo>
                        <a:pt x="0" y="301"/>
                      </a:moveTo>
                      <a:lnTo>
                        <a:pt x="9" y="284"/>
                      </a:lnTo>
                      <a:lnTo>
                        <a:pt x="18" y="265"/>
                      </a:lnTo>
                      <a:lnTo>
                        <a:pt x="27" y="247"/>
                      </a:lnTo>
                      <a:lnTo>
                        <a:pt x="36" y="229"/>
                      </a:lnTo>
                      <a:lnTo>
                        <a:pt x="45" y="209"/>
                      </a:lnTo>
                      <a:lnTo>
                        <a:pt x="55" y="191"/>
                      </a:lnTo>
                      <a:lnTo>
                        <a:pt x="65" y="174"/>
                      </a:lnTo>
                      <a:lnTo>
                        <a:pt x="82" y="155"/>
                      </a:lnTo>
                      <a:lnTo>
                        <a:pt x="92" y="137"/>
                      </a:lnTo>
                      <a:lnTo>
                        <a:pt x="100" y="119"/>
                      </a:lnTo>
                      <a:lnTo>
                        <a:pt x="110" y="100"/>
                      </a:lnTo>
                      <a:lnTo>
                        <a:pt x="119" y="82"/>
                      </a:lnTo>
                      <a:lnTo>
                        <a:pt x="128" y="63"/>
                      </a:lnTo>
                      <a:lnTo>
                        <a:pt x="137" y="45"/>
                      </a:lnTo>
                      <a:lnTo>
                        <a:pt x="146" y="18"/>
                      </a:lnTo>
                      <a:lnTo>
                        <a:pt x="155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426760" y="4413600"/>
                  <a:ext cx="74160" cy="141480"/>
                </a:xfrm>
                <a:custGeom>
                  <a:avLst/>
                  <a:gdLst/>
                  <a:ahLst/>
                  <a:rect l="l" t="t" r="r" b="b"/>
                  <a:pathLst>
                    <a:path w="184" h="358">
                      <a:moveTo>
                        <a:pt x="0" y="358"/>
                      </a:moveTo>
                      <a:lnTo>
                        <a:pt x="9" y="339"/>
                      </a:lnTo>
                      <a:lnTo>
                        <a:pt x="28" y="311"/>
                      </a:lnTo>
                      <a:lnTo>
                        <a:pt x="37" y="293"/>
                      </a:lnTo>
                      <a:lnTo>
                        <a:pt x="47" y="275"/>
                      </a:lnTo>
                      <a:lnTo>
                        <a:pt x="55" y="248"/>
                      </a:lnTo>
                      <a:lnTo>
                        <a:pt x="65" y="229"/>
                      </a:lnTo>
                      <a:lnTo>
                        <a:pt x="82" y="202"/>
                      </a:lnTo>
                      <a:lnTo>
                        <a:pt x="92" y="183"/>
                      </a:lnTo>
                      <a:lnTo>
                        <a:pt x="101" y="156"/>
                      </a:lnTo>
                      <a:lnTo>
                        <a:pt x="110" y="137"/>
                      </a:lnTo>
                      <a:lnTo>
                        <a:pt x="119" y="110"/>
                      </a:lnTo>
                      <a:lnTo>
                        <a:pt x="129" y="92"/>
                      </a:lnTo>
                      <a:lnTo>
                        <a:pt x="146" y="74"/>
                      </a:lnTo>
                      <a:lnTo>
                        <a:pt x="156" y="46"/>
                      </a:lnTo>
                      <a:lnTo>
                        <a:pt x="165" y="27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500920" y="4088160"/>
                  <a:ext cx="175680" cy="325440"/>
                </a:xfrm>
                <a:custGeom>
                  <a:avLst/>
                  <a:gdLst/>
                  <a:ahLst/>
                  <a:rect l="l" t="t" r="r" b="b"/>
                  <a:pathLst>
                    <a:path w="439" h="815">
                      <a:moveTo>
                        <a:pt x="0" y="815"/>
                      </a:moveTo>
                      <a:lnTo>
                        <a:pt x="27" y="769"/>
                      </a:lnTo>
                      <a:lnTo>
                        <a:pt x="55" y="714"/>
                      </a:lnTo>
                      <a:lnTo>
                        <a:pt x="82" y="668"/>
                      </a:lnTo>
                      <a:lnTo>
                        <a:pt x="110" y="613"/>
                      </a:lnTo>
                      <a:lnTo>
                        <a:pt x="128" y="558"/>
                      </a:lnTo>
                      <a:lnTo>
                        <a:pt x="155" y="513"/>
                      </a:lnTo>
                      <a:lnTo>
                        <a:pt x="182" y="457"/>
                      </a:lnTo>
                      <a:lnTo>
                        <a:pt x="210" y="403"/>
                      </a:lnTo>
                      <a:lnTo>
                        <a:pt x="237" y="357"/>
                      </a:lnTo>
                      <a:lnTo>
                        <a:pt x="265" y="301"/>
                      </a:lnTo>
                      <a:lnTo>
                        <a:pt x="292" y="247"/>
                      </a:lnTo>
                      <a:lnTo>
                        <a:pt x="320" y="201"/>
                      </a:lnTo>
                      <a:lnTo>
                        <a:pt x="347" y="146"/>
                      </a:lnTo>
                      <a:lnTo>
                        <a:pt x="375" y="100"/>
                      </a:lnTo>
                      <a:lnTo>
                        <a:pt x="412" y="45"/>
                      </a:lnTo>
                      <a:lnTo>
                        <a:pt x="43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2073240" y="4726800"/>
                  <a:ext cx="305640" cy="65880"/>
                </a:xfrm>
                <a:custGeom>
                  <a:avLst/>
                  <a:gdLst/>
                  <a:ahLst/>
                  <a:rect l="l" t="t" r="r" b="b"/>
                  <a:pathLst>
                    <a:path w="768" h="165">
                      <a:moveTo>
                        <a:pt x="668" y="9"/>
                      </a:moveTo>
                      <a:lnTo>
                        <a:pt x="677" y="9"/>
                      </a:lnTo>
                      <a:lnTo>
                        <a:pt x="687" y="9"/>
                      </a:lnTo>
                      <a:lnTo>
                        <a:pt x="695" y="9"/>
                      </a:lnTo>
                      <a:lnTo>
                        <a:pt x="704" y="9"/>
                      </a:lnTo>
                      <a:lnTo>
                        <a:pt x="704" y="18"/>
                      </a:lnTo>
                      <a:lnTo>
                        <a:pt x="714" y="27"/>
                      </a:lnTo>
                      <a:lnTo>
                        <a:pt x="714" y="36"/>
                      </a:lnTo>
                      <a:lnTo>
                        <a:pt x="714" y="45"/>
                      </a:lnTo>
                      <a:lnTo>
                        <a:pt x="722" y="45"/>
                      </a:lnTo>
                      <a:lnTo>
                        <a:pt x="722" y="55"/>
                      </a:lnTo>
                      <a:lnTo>
                        <a:pt x="722" y="64"/>
                      </a:lnTo>
                      <a:lnTo>
                        <a:pt x="732" y="64"/>
                      </a:lnTo>
                      <a:lnTo>
                        <a:pt x="732" y="74"/>
                      </a:lnTo>
                      <a:lnTo>
                        <a:pt x="741" y="74"/>
                      </a:lnTo>
                      <a:lnTo>
                        <a:pt x="768" y="110"/>
                      </a:lnTo>
                      <a:lnTo>
                        <a:pt x="741" y="119"/>
                      </a:lnTo>
                      <a:lnTo>
                        <a:pt x="714" y="128"/>
                      </a:lnTo>
                      <a:lnTo>
                        <a:pt x="687" y="137"/>
                      </a:lnTo>
                      <a:lnTo>
                        <a:pt x="659" y="146"/>
                      </a:lnTo>
                      <a:lnTo>
                        <a:pt x="622" y="146"/>
                      </a:lnTo>
                      <a:lnTo>
                        <a:pt x="594" y="155"/>
                      </a:lnTo>
                      <a:lnTo>
                        <a:pt x="567" y="155"/>
                      </a:lnTo>
                      <a:lnTo>
                        <a:pt x="540" y="155"/>
                      </a:lnTo>
                      <a:lnTo>
                        <a:pt x="512" y="155"/>
                      </a:lnTo>
                      <a:lnTo>
                        <a:pt x="475" y="155"/>
                      </a:lnTo>
                      <a:lnTo>
                        <a:pt x="448" y="155"/>
                      </a:lnTo>
                      <a:lnTo>
                        <a:pt x="421" y="155"/>
                      </a:lnTo>
                      <a:lnTo>
                        <a:pt x="393" y="155"/>
                      </a:lnTo>
                      <a:lnTo>
                        <a:pt x="357" y="155"/>
                      </a:lnTo>
                      <a:lnTo>
                        <a:pt x="329" y="155"/>
                      </a:lnTo>
                      <a:lnTo>
                        <a:pt x="302" y="165"/>
                      </a:lnTo>
                      <a:lnTo>
                        <a:pt x="283" y="155"/>
                      </a:lnTo>
                      <a:lnTo>
                        <a:pt x="265" y="155"/>
                      </a:lnTo>
                      <a:lnTo>
                        <a:pt x="247" y="146"/>
                      </a:lnTo>
                      <a:lnTo>
                        <a:pt x="219" y="146"/>
                      </a:lnTo>
                      <a:lnTo>
                        <a:pt x="201" y="146"/>
                      </a:lnTo>
                      <a:lnTo>
                        <a:pt x="183" y="137"/>
                      </a:lnTo>
                      <a:lnTo>
                        <a:pt x="165" y="137"/>
                      </a:lnTo>
                      <a:lnTo>
                        <a:pt x="146" y="137"/>
                      </a:lnTo>
                      <a:lnTo>
                        <a:pt x="128" y="128"/>
                      </a:lnTo>
                      <a:lnTo>
                        <a:pt x="109" y="128"/>
                      </a:lnTo>
                      <a:lnTo>
                        <a:pt x="91" y="128"/>
                      </a:lnTo>
                      <a:lnTo>
                        <a:pt x="73" y="119"/>
                      </a:lnTo>
                      <a:lnTo>
                        <a:pt x="55" y="119"/>
                      </a:lnTo>
                      <a:lnTo>
                        <a:pt x="36" y="110"/>
                      </a:lnTo>
                      <a:lnTo>
                        <a:pt x="18" y="101"/>
                      </a:lnTo>
                      <a:lnTo>
                        <a:pt x="9" y="91"/>
                      </a:lnTo>
                      <a:lnTo>
                        <a:pt x="0" y="91"/>
                      </a:lnTo>
                      <a:lnTo>
                        <a:pt x="0" y="83"/>
                      </a:lnTo>
                      <a:lnTo>
                        <a:pt x="9" y="74"/>
                      </a:lnTo>
                      <a:lnTo>
                        <a:pt x="18" y="64"/>
                      </a:lnTo>
                      <a:lnTo>
                        <a:pt x="28" y="64"/>
                      </a:lnTo>
                      <a:lnTo>
                        <a:pt x="36" y="64"/>
                      </a:lnTo>
                      <a:lnTo>
                        <a:pt x="46" y="55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73" y="55"/>
                      </a:lnTo>
                      <a:lnTo>
                        <a:pt x="82" y="55"/>
                      </a:lnTo>
                      <a:lnTo>
                        <a:pt x="91" y="45"/>
                      </a:lnTo>
                      <a:lnTo>
                        <a:pt x="100" y="45"/>
                      </a:lnTo>
                      <a:lnTo>
                        <a:pt x="109" y="45"/>
                      </a:lnTo>
                      <a:lnTo>
                        <a:pt x="118" y="45"/>
                      </a:lnTo>
                      <a:lnTo>
                        <a:pt x="128" y="45"/>
                      </a:lnTo>
                      <a:lnTo>
                        <a:pt x="138" y="36"/>
                      </a:lnTo>
                      <a:lnTo>
                        <a:pt x="146" y="36"/>
                      </a:lnTo>
                      <a:lnTo>
                        <a:pt x="156" y="36"/>
                      </a:lnTo>
                      <a:lnTo>
                        <a:pt x="165" y="36"/>
                      </a:lnTo>
                      <a:lnTo>
                        <a:pt x="173" y="36"/>
                      </a:lnTo>
                      <a:lnTo>
                        <a:pt x="183" y="36"/>
                      </a:lnTo>
                      <a:lnTo>
                        <a:pt x="192" y="36"/>
                      </a:lnTo>
                      <a:lnTo>
                        <a:pt x="201" y="36"/>
                      </a:lnTo>
                      <a:lnTo>
                        <a:pt x="210" y="36"/>
                      </a:lnTo>
                      <a:lnTo>
                        <a:pt x="219" y="36"/>
                      </a:lnTo>
                      <a:lnTo>
                        <a:pt x="228" y="27"/>
                      </a:lnTo>
                      <a:lnTo>
                        <a:pt x="237" y="27"/>
                      </a:lnTo>
                      <a:lnTo>
                        <a:pt x="247" y="27"/>
                      </a:lnTo>
                      <a:lnTo>
                        <a:pt x="256" y="18"/>
                      </a:lnTo>
                      <a:lnTo>
                        <a:pt x="265" y="18"/>
                      </a:lnTo>
                      <a:lnTo>
                        <a:pt x="275" y="18"/>
                      </a:lnTo>
                      <a:lnTo>
                        <a:pt x="283" y="18"/>
                      </a:lnTo>
                      <a:lnTo>
                        <a:pt x="293" y="18"/>
                      </a:lnTo>
                      <a:lnTo>
                        <a:pt x="302" y="18"/>
                      </a:lnTo>
                      <a:lnTo>
                        <a:pt x="311" y="9"/>
                      </a:lnTo>
                      <a:lnTo>
                        <a:pt x="320" y="9"/>
                      </a:lnTo>
                      <a:lnTo>
                        <a:pt x="329" y="9"/>
                      </a:lnTo>
                      <a:lnTo>
                        <a:pt x="338" y="9"/>
                      </a:lnTo>
                      <a:lnTo>
                        <a:pt x="347" y="9"/>
                      </a:lnTo>
                      <a:lnTo>
                        <a:pt x="357" y="9"/>
                      </a:lnTo>
                      <a:lnTo>
                        <a:pt x="365" y="9"/>
                      </a:lnTo>
                      <a:lnTo>
                        <a:pt x="375" y="9"/>
                      </a:lnTo>
                      <a:lnTo>
                        <a:pt x="384" y="9"/>
                      </a:lnTo>
                      <a:lnTo>
                        <a:pt x="393" y="9"/>
                      </a:lnTo>
                      <a:lnTo>
                        <a:pt x="403" y="9"/>
                      </a:lnTo>
                      <a:lnTo>
                        <a:pt x="412" y="9"/>
                      </a:lnTo>
                      <a:lnTo>
                        <a:pt x="421" y="9"/>
                      </a:lnTo>
                      <a:lnTo>
                        <a:pt x="430" y="9"/>
                      </a:lnTo>
                      <a:lnTo>
                        <a:pt x="439" y="9"/>
                      </a:lnTo>
                      <a:lnTo>
                        <a:pt x="448" y="9"/>
                      </a:lnTo>
                      <a:lnTo>
                        <a:pt x="457" y="9"/>
                      </a:lnTo>
                      <a:lnTo>
                        <a:pt x="467" y="9"/>
                      </a:lnTo>
                      <a:lnTo>
                        <a:pt x="475" y="9"/>
                      </a:lnTo>
                      <a:lnTo>
                        <a:pt x="484" y="9"/>
                      </a:lnTo>
                      <a:lnTo>
                        <a:pt x="494" y="9"/>
                      </a:lnTo>
                      <a:lnTo>
                        <a:pt x="502" y="9"/>
                      </a:lnTo>
                      <a:lnTo>
                        <a:pt x="512" y="9"/>
                      </a:lnTo>
                      <a:lnTo>
                        <a:pt x="522" y="9"/>
                      </a:lnTo>
                      <a:lnTo>
                        <a:pt x="531" y="9"/>
                      </a:lnTo>
                      <a:lnTo>
                        <a:pt x="540" y="9"/>
                      </a:lnTo>
                      <a:lnTo>
                        <a:pt x="549" y="9"/>
                      </a:lnTo>
                      <a:lnTo>
                        <a:pt x="558" y="0"/>
                      </a:lnTo>
                      <a:lnTo>
                        <a:pt x="567" y="0"/>
                      </a:lnTo>
                      <a:lnTo>
                        <a:pt x="577" y="0"/>
                      </a:lnTo>
                      <a:lnTo>
                        <a:pt x="585" y="0"/>
                      </a:lnTo>
                      <a:lnTo>
                        <a:pt x="594" y="0"/>
                      </a:lnTo>
                      <a:lnTo>
                        <a:pt x="604" y="0"/>
                      </a:lnTo>
                      <a:lnTo>
                        <a:pt x="612" y="0"/>
                      </a:lnTo>
                      <a:lnTo>
                        <a:pt x="622" y="0"/>
                      </a:lnTo>
                      <a:lnTo>
                        <a:pt x="631" y="0"/>
                      </a:lnTo>
                      <a:lnTo>
                        <a:pt x="640" y="0"/>
                      </a:lnTo>
                      <a:lnTo>
                        <a:pt x="649" y="0"/>
                      </a:lnTo>
                      <a:lnTo>
                        <a:pt x="659" y="9"/>
                      </a:lnTo>
                      <a:lnTo>
                        <a:pt x="668" y="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3400200" y="5393880"/>
                  <a:ext cx="137520" cy="189360"/>
                </a:xfrm>
                <a:custGeom>
                  <a:avLst/>
                  <a:gdLst/>
                  <a:ahLst/>
                  <a:rect l="l" t="t" r="r" b="b"/>
                  <a:pathLst>
                    <a:path w="347" h="475">
                      <a:moveTo>
                        <a:pt x="347" y="0"/>
                      </a:moveTo>
                      <a:lnTo>
                        <a:pt x="338" y="36"/>
                      </a:lnTo>
                      <a:lnTo>
                        <a:pt x="320" y="73"/>
                      </a:lnTo>
                      <a:lnTo>
                        <a:pt x="310" y="110"/>
                      </a:lnTo>
                      <a:lnTo>
                        <a:pt x="292" y="137"/>
                      </a:lnTo>
                      <a:lnTo>
                        <a:pt x="275" y="174"/>
                      </a:lnTo>
                      <a:lnTo>
                        <a:pt x="256" y="201"/>
                      </a:lnTo>
                      <a:lnTo>
                        <a:pt x="228" y="239"/>
                      </a:lnTo>
                      <a:lnTo>
                        <a:pt x="210" y="266"/>
                      </a:lnTo>
                      <a:lnTo>
                        <a:pt x="182" y="293"/>
                      </a:lnTo>
                      <a:lnTo>
                        <a:pt x="165" y="320"/>
                      </a:lnTo>
                      <a:lnTo>
                        <a:pt x="137" y="348"/>
                      </a:lnTo>
                      <a:lnTo>
                        <a:pt x="110" y="376"/>
                      </a:lnTo>
                      <a:lnTo>
                        <a:pt x="82" y="403"/>
                      </a:lnTo>
                      <a:lnTo>
                        <a:pt x="55" y="430"/>
                      </a:lnTo>
                      <a:lnTo>
                        <a:pt x="27" y="448"/>
                      </a:lnTo>
                      <a:lnTo>
                        <a:pt x="0" y="475"/>
                      </a:lnTo>
                      <a:lnTo>
                        <a:pt x="18" y="448"/>
                      </a:lnTo>
                      <a:lnTo>
                        <a:pt x="36" y="421"/>
                      </a:lnTo>
                      <a:lnTo>
                        <a:pt x="55" y="403"/>
                      </a:lnTo>
                      <a:lnTo>
                        <a:pt x="73" y="376"/>
                      </a:lnTo>
                      <a:lnTo>
                        <a:pt x="91" y="348"/>
                      </a:lnTo>
                      <a:lnTo>
                        <a:pt x="110" y="320"/>
                      </a:lnTo>
                      <a:lnTo>
                        <a:pt x="128" y="293"/>
                      </a:lnTo>
                      <a:lnTo>
                        <a:pt x="146" y="266"/>
                      </a:lnTo>
                      <a:lnTo>
                        <a:pt x="165" y="239"/>
                      </a:lnTo>
                      <a:lnTo>
                        <a:pt x="173" y="210"/>
                      </a:lnTo>
                      <a:lnTo>
                        <a:pt x="182" y="183"/>
                      </a:lnTo>
                      <a:lnTo>
                        <a:pt x="192" y="156"/>
                      </a:lnTo>
                      <a:lnTo>
                        <a:pt x="200" y="129"/>
                      </a:lnTo>
                      <a:lnTo>
                        <a:pt x="200" y="91"/>
                      </a:lnTo>
                      <a:lnTo>
                        <a:pt x="200" y="64"/>
                      </a:lnTo>
                      <a:lnTo>
                        <a:pt x="200" y="27"/>
                      </a:lnTo>
                      <a:lnTo>
                        <a:pt x="210" y="27"/>
                      </a:lnTo>
                      <a:lnTo>
                        <a:pt x="219" y="27"/>
                      </a:lnTo>
                      <a:lnTo>
                        <a:pt x="228" y="27"/>
                      </a:lnTo>
                      <a:lnTo>
                        <a:pt x="238" y="27"/>
                      </a:lnTo>
                      <a:lnTo>
                        <a:pt x="247" y="27"/>
                      </a:lnTo>
                      <a:lnTo>
                        <a:pt x="256" y="19"/>
                      </a:lnTo>
                      <a:lnTo>
                        <a:pt x="265" y="19"/>
                      </a:lnTo>
                      <a:lnTo>
                        <a:pt x="275" y="19"/>
                      </a:lnTo>
                      <a:lnTo>
                        <a:pt x="283" y="19"/>
                      </a:lnTo>
                      <a:lnTo>
                        <a:pt x="292" y="19"/>
                      </a:lnTo>
                      <a:lnTo>
                        <a:pt x="302" y="9"/>
                      </a:lnTo>
                      <a:lnTo>
                        <a:pt x="310" y="9"/>
                      </a:lnTo>
                      <a:lnTo>
                        <a:pt x="320" y="9"/>
                      </a:lnTo>
                      <a:lnTo>
                        <a:pt x="329" y="9"/>
                      </a:lnTo>
                      <a:lnTo>
                        <a:pt x="338" y="9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3400200" y="5393880"/>
                  <a:ext cx="137520" cy="189360"/>
                </a:xfrm>
                <a:custGeom>
                  <a:avLst/>
                  <a:gdLst/>
                  <a:ahLst/>
                  <a:rect l="l" t="t" r="r" b="b"/>
                  <a:pathLst>
                    <a:path w="347" h="475">
                      <a:moveTo>
                        <a:pt x="347" y="0"/>
                      </a:moveTo>
                      <a:lnTo>
                        <a:pt x="338" y="36"/>
                      </a:lnTo>
                      <a:lnTo>
                        <a:pt x="320" y="73"/>
                      </a:lnTo>
                      <a:lnTo>
                        <a:pt x="310" y="110"/>
                      </a:lnTo>
                      <a:lnTo>
                        <a:pt x="292" y="137"/>
                      </a:lnTo>
                      <a:lnTo>
                        <a:pt x="275" y="174"/>
                      </a:lnTo>
                      <a:lnTo>
                        <a:pt x="256" y="201"/>
                      </a:lnTo>
                      <a:lnTo>
                        <a:pt x="228" y="239"/>
                      </a:lnTo>
                      <a:lnTo>
                        <a:pt x="210" y="266"/>
                      </a:lnTo>
                      <a:lnTo>
                        <a:pt x="182" y="293"/>
                      </a:lnTo>
                      <a:lnTo>
                        <a:pt x="165" y="320"/>
                      </a:lnTo>
                      <a:lnTo>
                        <a:pt x="137" y="348"/>
                      </a:lnTo>
                      <a:lnTo>
                        <a:pt x="110" y="376"/>
                      </a:lnTo>
                      <a:lnTo>
                        <a:pt x="82" y="403"/>
                      </a:lnTo>
                      <a:lnTo>
                        <a:pt x="55" y="430"/>
                      </a:lnTo>
                      <a:lnTo>
                        <a:pt x="27" y="448"/>
                      </a:lnTo>
                      <a:lnTo>
                        <a:pt x="0" y="4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3400200" y="5403600"/>
                  <a:ext cx="79560" cy="179640"/>
                </a:xfrm>
                <a:custGeom>
                  <a:avLst/>
                  <a:gdLst/>
                  <a:ahLst/>
                  <a:rect l="l" t="t" r="r" b="b"/>
                  <a:pathLst>
                    <a:path w="200" h="448">
                      <a:moveTo>
                        <a:pt x="0" y="448"/>
                      </a:moveTo>
                      <a:lnTo>
                        <a:pt x="18" y="421"/>
                      </a:lnTo>
                      <a:lnTo>
                        <a:pt x="36" y="394"/>
                      </a:lnTo>
                      <a:lnTo>
                        <a:pt x="55" y="376"/>
                      </a:lnTo>
                      <a:lnTo>
                        <a:pt x="73" y="349"/>
                      </a:lnTo>
                      <a:lnTo>
                        <a:pt x="91" y="321"/>
                      </a:lnTo>
                      <a:lnTo>
                        <a:pt x="110" y="293"/>
                      </a:lnTo>
                      <a:lnTo>
                        <a:pt x="128" y="266"/>
                      </a:lnTo>
                      <a:lnTo>
                        <a:pt x="146" y="239"/>
                      </a:lnTo>
                      <a:lnTo>
                        <a:pt x="165" y="212"/>
                      </a:lnTo>
                      <a:lnTo>
                        <a:pt x="173" y="183"/>
                      </a:lnTo>
                      <a:lnTo>
                        <a:pt x="182" y="156"/>
                      </a:lnTo>
                      <a:lnTo>
                        <a:pt x="192" y="129"/>
                      </a:lnTo>
                      <a:lnTo>
                        <a:pt x="200" y="102"/>
                      </a:lnTo>
                      <a:lnTo>
                        <a:pt x="200" y="64"/>
                      </a:lnTo>
                      <a:lnTo>
                        <a:pt x="200" y="37"/>
                      </a:lnTo>
                      <a:lnTo>
                        <a:pt x="20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524040" y="5465880"/>
                  <a:ext cx="95760" cy="125280"/>
                </a:xfrm>
                <a:custGeom>
                  <a:avLst/>
                  <a:gdLst/>
                  <a:ahLst/>
                  <a:rect l="l" t="t" r="r" b="b"/>
                  <a:pathLst>
                    <a:path w="239" h="312">
                      <a:moveTo>
                        <a:pt x="120" y="9"/>
                      </a:moveTo>
                      <a:lnTo>
                        <a:pt x="129" y="27"/>
                      </a:lnTo>
                      <a:lnTo>
                        <a:pt x="138" y="36"/>
                      </a:lnTo>
                      <a:lnTo>
                        <a:pt x="138" y="56"/>
                      </a:lnTo>
                      <a:lnTo>
                        <a:pt x="147" y="64"/>
                      </a:lnTo>
                      <a:lnTo>
                        <a:pt x="156" y="83"/>
                      </a:lnTo>
                      <a:lnTo>
                        <a:pt x="165" y="101"/>
                      </a:lnTo>
                      <a:lnTo>
                        <a:pt x="175" y="120"/>
                      </a:lnTo>
                      <a:lnTo>
                        <a:pt x="184" y="128"/>
                      </a:lnTo>
                      <a:lnTo>
                        <a:pt x="184" y="147"/>
                      </a:lnTo>
                      <a:lnTo>
                        <a:pt x="193" y="165"/>
                      </a:lnTo>
                      <a:lnTo>
                        <a:pt x="202" y="175"/>
                      </a:lnTo>
                      <a:lnTo>
                        <a:pt x="212" y="193"/>
                      </a:lnTo>
                      <a:lnTo>
                        <a:pt x="212" y="211"/>
                      </a:lnTo>
                      <a:lnTo>
                        <a:pt x="220" y="229"/>
                      </a:lnTo>
                      <a:lnTo>
                        <a:pt x="230" y="238"/>
                      </a:lnTo>
                      <a:lnTo>
                        <a:pt x="230" y="257"/>
                      </a:lnTo>
                      <a:lnTo>
                        <a:pt x="230" y="265"/>
                      </a:lnTo>
                      <a:lnTo>
                        <a:pt x="239" y="275"/>
                      </a:lnTo>
                      <a:lnTo>
                        <a:pt x="230" y="284"/>
                      </a:lnTo>
                      <a:lnTo>
                        <a:pt x="230" y="292"/>
                      </a:lnTo>
                      <a:lnTo>
                        <a:pt x="230" y="302"/>
                      </a:lnTo>
                      <a:lnTo>
                        <a:pt x="220" y="302"/>
                      </a:lnTo>
                      <a:lnTo>
                        <a:pt x="220" y="312"/>
                      </a:lnTo>
                      <a:lnTo>
                        <a:pt x="212" y="312"/>
                      </a:lnTo>
                      <a:lnTo>
                        <a:pt x="193" y="312"/>
                      </a:lnTo>
                      <a:lnTo>
                        <a:pt x="184" y="302"/>
                      </a:lnTo>
                      <a:lnTo>
                        <a:pt x="175" y="302"/>
                      </a:lnTo>
                      <a:lnTo>
                        <a:pt x="165" y="292"/>
                      </a:lnTo>
                      <a:lnTo>
                        <a:pt x="156" y="284"/>
                      </a:lnTo>
                      <a:lnTo>
                        <a:pt x="147" y="275"/>
                      </a:lnTo>
                      <a:lnTo>
                        <a:pt x="138" y="265"/>
                      </a:lnTo>
                      <a:lnTo>
                        <a:pt x="138" y="257"/>
                      </a:lnTo>
                      <a:lnTo>
                        <a:pt x="129" y="247"/>
                      </a:lnTo>
                      <a:lnTo>
                        <a:pt x="120" y="247"/>
                      </a:lnTo>
                      <a:lnTo>
                        <a:pt x="110" y="238"/>
                      </a:lnTo>
                      <a:lnTo>
                        <a:pt x="110" y="229"/>
                      </a:lnTo>
                      <a:lnTo>
                        <a:pt x="102" y="220"/>
                      </a:lnTo>
                      <a:lnTo>
                        <a:pt x="92" y="211"/>
                      </a:lnTo>
                      <a:lnTo>
                        <a:pt x="83" y="211"/>
                      </a:lnTo>
                      <a:lnTo>
                        <a:pt x="0" y="155"/>
                      </a:lnTo>
                      <a:lnTo>
                        <a:pt x="0" y="137"/>
                      </a:lnTo>
                      <a:lnTo>
                        <a:pt x="10" y="128"/>
                      </a:lnTo>
                      <a:lnTo>
                        <a:pt x="19" y="120"/>
                      </a:lnTo>
                      <a:lnTo>
                        <a:pt x="19" y="110"/>
                      </a:lnTo>
                      <a:lnTo>
                        <a:pt x="28" y="101"/>
                      </a:lnTo>
                      <a:lnTo>
                        <a:pt x="28" y="91"/>
                      </a:lnTo>
                      <a:lnTo>
                        <a:pt x="37" y="83"/>
                      </a:lnTo>
                      <a:lnTo>
                        <a:pt x="37" y="73"/>
                      </a:lnTo>
                      <a:lnTo>
                        <a:pt x="47" y="64"/>
                      </a:lnTo>
                      <a:lnTo>
                        <a:pt x="47" y="56"/>
                      </a:lnTo>
                      <a:lnTo>
                        <a:pt x="56" y="46"/>
                      </a:lnTo>
                      <a:lnTo>
                        <a:pt x="56" y="36"/>
                      </a:lnTo>
                      <a:lnTo>
                        <a:pt x="65" y="27"/>
                      </a:lnTo>
                      <a:lnTo>
                        <a:pt x="75" y="27"/>
                      </a:lnTo>
                      <a:lnTo>
                        <a:pt x="75" y="18"/>
                      </a:lnTo>
                      <a:lnTo>
                        <a:pt x="83" y="9"/>
                      </a:lnTo>
                      <a:lnTo>
                        <a:pt x="92" y="0"/>
                      </a:lnTo>
                      <a:lnTo>
                        <a:pt x="120" y="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572280" y="5469480"/>
                  <a:ext cx="43920" cy="99720"/>
                </a:xfrm>
                <a:custGeom>
                  <a:avLst/>
                  <a:gdLst/>
                  <a:ahLst/>
                  <a:rect l="l" t="t" r="r" b="b"/>
                  <a:pathLst>
                    <a:path w="110" h="248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18" y="27"/>
                      </a:lnTo>
                      <a:lnTo>
                        <a:pt x="18" y="47"/>
                      </a:lnTo>
                      <a:lnTo>
                        <a:pt x="27" y="55"/>
                      </a:lnTo>
                      <a:lnTo>
                        <a:pt x="36" y="74"/>
                      </a:lnTo>
                      <a:lnTo>
                        <a:pt x="45" y="92"/>
                      </a:lnTo>
                      <a:lnTo>
                        <a:pt x="55" y="111"/>
                      </a:lnTo>
                      <a:lnTo>
                        <a:pt x="64" y="119"/>
                      </a:lnTo>
                      <a:lnTo>
                        <a:pt x="64" y="138"/>
                      </a:lnTo>
                      <a:lnTo>
                        <a:pt x="73" y="156"/>
                      </a:lnTo>
                      <a:lnTo>
                        <a:pt x="82" y="166"/>
                      </a:lnTo>
                      <a:lnTo>
                        <a:pt x="92" y="184"/>
                      </a:lnTo>
                      <a:lnTo>
                        <a:pt x="92" y="202"/>
                      </a:lnTo>
                      <a:lnTo>
                        <a:pt x="100" y="220"/>
                      </a:lnTo>
                      <a:lnTo>
                        <a:pt x="110" y="229"/>
                      </a:lnTo>
                      <a:lnTo>
                        <a:pt x="110" y="24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3276720" y="5794920"/>
                  <a:ext cx="3600" cy="39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061000" y="3211560"/>
                  <a:ext cx="2864520" cy="2704680"/>
                </a:xfrm>
                <a:custGeom>
                  <a:avLst/>
                  <a:gdLst/>
                  <a:ahLst/>
                  <a:rect l="l" t="t" r="r" b="b"/>
                  <a:pathLst>
                    <a:path w="7165" h="6772">
                      <a:moveTo>
                        <a:pt x="3615" y="64"/>
                      </a:moveTo>
                      <a:lnTo>
                        <a:pt x="3633" y="83"/>
                      </a:lnTo>
                      <a:lnTo>
                        <a:pt x="3642" y="101"/>
                      </a:lnTo>
                      <a:lnTo>
                        <a:pt x="3652" y="110"/>
                      </a:lnTo>
                      <a:lnTo>
                        <a:pt x="3660" y="128"/>
                      </a:lnTo>
                      <a:lnTo>
                        <a:pt x="3660" y="146"/>
                      </a:lnTo>
                      <a:lnTo>
                        <a:pt x="3670" y="165"/>
                      </a:lnTo>
                      <a:lnTo>
                        <a:pt x="3670" y="184"/>
                      </a:lnTo>
                      <a:lnTo>
                        <a:pt x="3670" y="203"/>
                      </a:lnTo>
                      <a:lnTo>
                        <a:pt x="3660" y="230"/>
                      </a:lnTo>
                      <a:lnTo>
                        <a:pt x="3660" y="248"/>
                      </a:lnTo>
                      <a:lnTo>
                        <a:pt x="3660" y="265"/>
                      </a:lnTo>
                      <a:lnTo>
                        <a:pt x="3652" y="284"/>
                      </a:lnTo>
                      <a:lnTo>
                        <a:pt x="3652" y="303"/>
                      </a:lnTo>
                      <a:lnTo>
                        <a:pt x="3642" y="321"/>
                      </a:lnTo>
                      <a:lnTo>
                        <a:pt x="3642" y="340"/>
                      </a:lnTo>
                      <a:lnTo>
                        <a:pt x="3633" y="358"/>
                      </a:lnTo>
                      <a:lnTo>
                        <a:pt x="3615" y="394"/>
                      </a:lnTo>
                      <a:lnTo>
                        <a:pt x="3588" y="430"/>
                      </a:lnTo>
                      <a:lnTo>
                        <a:pt x="3569" y="468"/>
                      </a:lnTo>
                      <a:lnTo>
                        <a:pt x="3542" y="495"/>
                      </a:lnTo>
                      <a:lnTo>
                        <a:pt x="3515" y="531"/>
                      </a:lnTo>
                      <a:lnTo>
                        <a:pt x="3487" y="559"/>
                      </a:lnTo>
                      <a:lnTo>
                        <a:pt x="3451" y="587"/>
                      </a:lnTo>
                      <a:lnTo>
                        <a:pt x="3423" y="614"/>
                      </a:lnTo>
                      <a:lnTo>
                        <a:pt x="3386" y="641"/>
                      </a:lnTo>
                      <a:lnTo>
                        <a:pt x="3350" y="669"/>
                      </a:lnTo>
                      <a:lnTo>
                        <a:pt x="3313" y="687"/>
                      </a:lnTo>
                      <a:lnTo>
                        <a:pt x="3276" y="706"/>
                      </a:lnTo>
                      <a:lnTo>
                        <a:pt x="3240" y="724"/>
                      </a:lnTo>
                      <a:lnTo>
                        <a:pt x="3204" y="743"/>
                      </a:lnTo>
                      <a:lnTo>
                        <a:pt x="3166" y="751"/>
                      </a:lnTo>
                      <a:lnTo>
                        <a:pt x="3121" y="770"/>
                      </a:lnTo>
                      <a:lnTo>
                        <a:pt x="3103" y="779"/>
                      </a:lnTo>
                      <a:lnTo>
                        <a:pt x="3084" y="788"/>
                      </a:lnTo>
                      <a:lnTo>
                        <a:pt x="3066" y="788"/>
                      </a:lnTo>
                      <a:lnTo>
                        <a:pt x="3048" y="797"/>
                      </a:lnTo>
                      <a:lnTo>
                        <a:pt x="3029" y="806"/>
                      </a:lnTo>
                      <a:lnTo>
                        <a:pt x="3011" y="815"/>
                      </a:lnTo>
                      <a:lnTo>
                        <a:pt x="2993" y="815"/>
                      </a:lnTo>
                      <a:lnTo>
                        <a:pt x="2974" y="825"/>
                      </a:lnTo>
                      <a:lnTo>
                        <a:pt x="2956" y="834"/>
                      </a:lnTo>
                      <a:lnTo>
                        <a:pt x="2939" y="844"/>
                      </a:lnTo>
                      <a:lnTo>
                        <a:pt x="2929" y="853"/>
                      </a:lnTo>
                      <a:lnTo>
                        <a:pt x="2910" y="853"/>
                      </a:lnTo>
                      <a:lnTo>
                        <a:pt x="2891" y="871"/>
                      </a:lnTo>
                      <a:lnTo>
                        <a:pt x="2874" y="880"/>
                      </a:lnTo>
                      <a:lnTo>
                        <a:pt x="2856" y="889"/>
                      </a:lnTo>
                      <a:lnTo>
                        <a:pt x="2846" y="907"/>
                      </a:lnTo>
                      <a:lnTo>
                        <a:pt x="2829" y="916"/>
                      </a:lnTo>
                      <a:lnTo>
                        <a:pt x="2819" y="925"/>
                      </a:lnTo>
                      <a:lnTo>
                        <a:pt x="2801" y="943"/>
                      </a:lnTo>
                      <a:lnTo>
                        <a:pt x="2792" y="953"/>
                      </a:lnTo>
                      <a:lnTo>
                        <a:pt x="2782" y="963"/>
                      </a:lnTo>
                      <a:lnTo>
                        <a:pt x="2773" y="981"/>
                      </a:lnTo>
                      <a:lnTo>
                        <a:pt x="2754" y="990"/>
                      </a:lnTo>
                      <a:lnTo>
                        <a:pt x="2746" y="1000"/>
                      </a:lnTo>
                      <a:lnTo>
                        <a:pt x="2736" y="1017"/>
                      </a:lnTo>
                      <a:lnTo>
                        <a:pt x="2727" y="1027"/>
                      </a:lnTo>
                      <a:lnTo>
                        <a:pt x="2719" y="1045"/>
                      </a:lnTo>
                      <a:lnTo>
                        <a:pt x="2700" y="1054"/>
                      </a:lnTo>
                      <a:lnTo>
                        <a:pt x="2691" y="1072"/>
                      </a:lnTo>
                      <a:lnTo>
                        <a:pt x="2682" y="1082"/>
                      </a:lnTo>
                      <a:lnTo>
                        <a:pt x="2672" y="1100"/>
                      </a:lnTo>
                      <a:lnTo>
                        <a:pt x="2664" y="1110"/>
                      </a:lnTo>
                      <a:lnTo>
                        <a:pt x="2664" y="1118"/>
                      </a:lnTo>
                      <a:lnTo>
                        <a:pt x="2664" y="1127"/>
                      </a:lnTo>
                      <a:lnTo>
                        <a:pt x="2664" y="1137"/>
                      </a:lnTo>
                      <a:lnTo>
                        <a:pt x="2664" y="1145"/>
                      </a:lnTo>
                      <a:lnTo>
                        <a:pt x="2672" y="1145"/>
                      </a:lnTo>
                      <a:lnTo>
                        <a:pt x="2682" y="1155"/>
                      </a:lnTo>
                      <a:lnTo>
                        <a:pt x="2691" y="1155"/>
                      </a:lnTo>
                      <a:lnTo>
                        <a:pt x="2910" y="1209"/>
                      </a:lnTo>
                      <a:lnTo>
                        <a:pt x="2910" y="1200"/>
                      </a:lnTo>
                      <a:lnTo>
                        <a:pt x="2929" y="1200"/>
                      </a:lnTo>
                      <a:lnTo>
                        <a:pt x="2939" y="1200"/>
                      </a:lnTo>
                      <a:lnTo>
                        <a:pt x="2956" y="1200"/>
                      </a:lnTo>
                      <a:lnTo>
                        <a:pt x="2966" y="1200"/>
                      </a:lnTo>
                      <a:lnTo>
                        <a:pt x="2984" y="1200"/>
                      </a:lnTo>
                      <a:lnTo>
                        <a:pt x="2993" y="1200"/>
                      </a:lnTo>
                      <a:lnTo>
                        <a:pt x="3001" y="1200"/>
                      </a:lnTo>
                      <a:lnTo>
                        <a:pt x="3020" y="1200"/>
                      </a:lnTo>
                      <a:lnTo>
                        <a:pt x="3029" y="1200"/>
                      </a:lnTo>
                      <a:lnTo>
                        <a:pt x="3048" y="1209"/>
                      </a:lnTo>
                      <a:lnTo>
                        <a:pt x="3057" y="1209"/>
                      </a:lnTo>
                      <a:lnTo>
                        <a:pt x="3076" y="1209"/>
                      </a:lnTo>
                      <a:lnTo>
                        <a:pt x="3084" y="1209"/>
                      </a:lnTo>
                      <a:lnTo>
                        <a:pt x="3094" y="1209"/>
                      </a:lnTo>
                      <a:lnTo>
                        <a:pt x="3111" y="1209"/>
                      </a:lnTo>
                      <a:lnTo>
                        <a:pt x="3121" y="1209"/>
                      </a:lnTo>
                      <a:lnTo>
                        <a:pt x="3176" y="1209"/>
                      </a:lnTo>
                      <a:lnTo>
                        <a:pt x="3221" y="1209"/>
                      </a:lnTo>
                      <a:lnTo>
                        <a:pt x="3267" y="1209"/>
                      </a:lnTo>
                      <a:lnTo>
                        <a:pt x="3323" y="1209"/>
                      </a:lnTo>
                      <a:lnTo>
                        <a:pt x="3368" y="1209"/>
                      </a:lnTo>
                      <a:lnTo>
                        <a:pt x="3423" y="1209"/>
                      </a:lnTo>
                      <a:lnTo>
                        <a:pt x="3469" y="1209"/>
                      </a:lnTo>
                      <a:lnTo>
                        <a:pt x="3515" y="1209"/>
                      </a:lnTo>
                      <a:lnTo>
                        <a:pt x="3569" y="1209"/>
                      </a:lnTo>
                      <a:lnTo>
                        <a:pt x="3615" y="1209"/>
                      </a:lnTo>
                      <a:lnTo>
                        <a:pt x="3670" y="1209"/>
                      </a:lnTo>
                      <a:lnTo>
                        <a:pt x="3716" y="1209"/>
                      </a:lnTo>
                      <a:lnTo>
                        <a:pt x="3770" y="1209"/>
                      </a:lnTo>
                      <a:lnTo>
                        <a:pt x="3816" y="1209"/>
                      </a:lnTo>
                      <a:lnTo>
                        <a:pt x="3872" y="1209"/>
                      </a:lnTo>
                      <a:lnTo>
                        <a:pt x="3917" y="1209"/>
                      </a:lnTo>
                      <a:lnTo>
                        <a:pt x="3982" y="1209"/>
                      </a:lnTo>
                      <a:lnTo>
                        <a:pt x="4045" y="1209"/>
                      </a:lnTo>
                      <a:lnTo>
                        <a:pt x="4110" y="1209"/>
                      </a:lnTo>
                      <a:lnTo>
                        <a:pt x="4164" y="1209"/>
                      </a:lnTo>
                      <a:lnTo>
                        <a:pt x="4228" y="1209"/>
                      </a:lnTo>
                      <a:lnTo>
                        <a:pt x="4292" y="1200"/>
                      </a:lnTo>
                      <a:lnTo>
                        <a:pt x="4356" y="1200"/>
                      </a:lnTo>
                      <a:lnTo>
                        <a:pt x="4421" y="1200"/>
                      </a:lnTo>
                      <a:lnTo>
                        <a:pt x="4484" y="1200"/>
                      </a:lnTo>
                      <a:lnTo>
                        <a:pt x="4549" y="1200"/>
                      </a:lnTo>
                      <a:lnTo>
                        <a:pt x="4613" y="1191"/>
                      </a:lnTo>
                      <a:lnTo>
                        <a:pt x="4676" y="1191"/>
                      </a:lnTo>
                      <a:lnTo>
                        <a:pt x="4731" y="1191"/>
                      </a:lnTo>
                      <a:lnTo>
                        <a:pt x="4796" y="1191"/>
                      </a:lnTo>
                      <a:lnTo>
                        <a:pt x="4860" y="1191"/>
                      </a:lnTo>
                      <a:lnTo>
                        <a:pt x="4915" y="1191"/>
                      </a:lnTo>
                      <a:lnTo>
                        <a:pt x="4915" y="1200"/>
                      </a:lnTo>
                      <a:lnTo>
                        <a:pt x="5921" y="1164"/>
                      </a:lnTo>
                      <a:lnTo>
                        <a:pt x="5929" y="1164"/>
                      </a:lnTo>
                      <a:lnTo>
                        <a:pt x="5939" y="1164"/>
                      </a:lnTo>
                      <a:lnTo>
                        <a:pt x="5939" y="1173"/>
                      </a:lnTo>
                      <a:lnTo>
                        <a:pt x="5949" y="1173"/>
                      </a:lnTo>
                      <a:lnTo>
                        <a:pt x="5949" y="1182"/>
                      </a:lnTo>
                      <a:lnTo>
                        <a:pt x="5959" y="1182"/>
                      </a:lnTo>
                      <a:lnTo>
                        <a:pt x="5959" y="1191"/>
                      </a:lnTo>
                      <a:lnTo>
                        <a:pt x="5967" y="1191"/>
                      </a:lnTo>
                      <a:lnTo>
                        <a:pt x="5976" y="1200"/>
                      </a:lnTo>
                      <a:lnTo>
                        <a:pt x="6021" y="1209"/>
                      </a:lnTo>
                      <a:lnTo>
                        <a:pt x="6058" y="1209"/>
                      </a:lnTo>
                      <a:lnTo>
                        <a:pt x="6104" y="1209"/>
                      </a:lnTo>
                      <a:lnTo>
                        <a:pt x="6141" y="1209"/>
                      </a:lnTo>
                      <a:lnTo>
                        <a:pt x="6176" y="1209"/>
                      </a:lnTo>
                      <a:lnTo>
                        <a:pt x="6224" y="1209"/>
                      </a:lnTo>
                      <a:lnTo>
                        <a:pt x="6260" y="1209"/>
                      </a:lnTo>
                      <a:lnTo>
                        <a:pt x="6296" y="1209"/>
                      </a:lnTo>
                      <a:lnTo>
                        <a:pt x="6343" y="1209"/>
                      </a:lnTo>
                      <a:lnTo>
                        <a:pt x="6379" y="1209"/>
                      </a:lnTo>
                      <a:lnTo>
                        <a:pt x="6415" y="1209"/>
                      </a:lnTo>
                      <a:lnTo>
                        <a:pt x="6461" y="1200"/>
                      </a:lnTo>
                      <a:lnTo>
                        <a:pt x="6498" y="1200"/>
                      </a:lnTo>
                      <a:lnTo>
                        <a:pt x="6543" y="1200"/>
                      </a:lnTo>
                      <a:lnTo>
                        <a:pt x="6580" y="1200"/>
                      </a:lnTo>
                      <a:lnTo>
                        <a:pt x="6617" y="1200"/>
                      </a:lnTo>
                      <a:lnTo>
                        <a:pt x="6645" y="1200"/>
                      </a:lnTo>
                      <a:lnTo>
                        <a:pt x="6672" y="1209"/>
                      </a:lnTo>
                      <a:lnTo>
                        <a:pt x="6698" y="1209"/>
                      </a:lnTo>
                      <a:lnTo>
                        <a:pt x="6717" y="1219"/>
                      </a:lnTo>
                      <a:lnTo>
                        <a:pt x="6745" y="1229"/>
                      </a:lnTo>
                      <a:lnTo>
                        <a:pt x="6763" y="1237"/>
                      </a:lnTo>
                      <a:lnTo>
                        <a:pt x="6790" y="1247"/>
                      </a:lnTo>
                      <a:lnTo>
                        <a:pt x="6808" y="1256"/>
                      </a:lnTo>
                      <a:lnTo>
                        <a:pt x="6835" y="1274"/>
                      </a:lnTo>
                      <a:lnTo>
                        <a:pt x="6854" y="1283"/>
                      </a:lnTo>
                      <a:lnTo>
                        <a:pt x="6882" y="1292"/>
                      </a:lnTo>
                      <a:lnTo>
                        <a:pt x="6900" y="1301"/>
                      </a:lnTo>
                      <a:lnTo>
                        <a:pt x="6928" y="1311"/>
                      </a:lnTo>
                      <a:lnTo>
                        <a:pt x="6945" y="1319"/>
                      </a:lnTo>
                      <a:lnTo>
                        <a:pt x="6973" y="1329"/>
                      </a:lnTo>
                      <a:lnTo>
                        <a:pt x="6992" y="1338"/>
                      </a:lnTo>
                      <a:lnTo>
                        <a:pt x="7010" y="1347"/>
                      </a:lnTo>
                      <a:lnTo>
                        <a:pt x="7020" y="1357"/>
                      </a:lnTo>
                      <a:lnTo>
                        <a:pt x="7037" y="1357"/>
                      </a:lnTo>
                      <a:lnTo>
                        <a:pt x="7047" y="1366"/>
                      </a:lnTo>
                      <a:lnTo>
                        <a:pt x="7065" y="1375"/>
                      </a:lnTo>
                      <a:lnTo>
                        <a:pt x="7074" y="1384"/>
                      </a:lnTo>
                      <a:lnTo>
                        <a:pt x="7084" y="1393"/>
                      </a:lnTo>
                      <a:lnTo>
                        <a:pt x="7101" y="1393"/>
                      </a:lnTo>
                      <a:lnTo>
                        <a:pt x="7110" y="1402"/>
                      </a:lnTo>
                      <a:lnTo>
                        <a:pt x="7120" y="1411"/>
                      </a:lnTo>
                      <a:lnTo>
                        <a:pt x="7139" y="1429"/>
                      </a:lnTo>
                      <a:lnTo>
                        <a:pt x="7147" y="1439"/>
                      </a:lnTo>
                      <a:lnTo>
                        <a:pt x="7147" y="1448"/>
                      </a:lnTo>
                      <a:lnTo>
                        <a:pt x="7157" y="1466"/>
                      </a:lnTo>
                      <a:lnTo>
                        <a:pt x="7165" y="1475"/>
                      </a:lnTo>
                      <a:lnTo>
                        <a:pt x="7165" y="1494"/>
                      </a:lnTo>
                      <a:lnTo>
                        <a:pt x="7165" y="1503"/>
                      </a:lnTo>
                      <a:lnTo>
                        <a:pt x="7165" y="1513"/>
                      </a:lnTo>
                      <a:lnTo>
                        <a:pt x="7157" y="1513"/>
                      </a:lnTo>
                      <a:lnTo>
                        <a:pt x="7157" y="1521"/>
                      </a:lnTo>
                      <a:lnTo>
                        <a:pt x="7147" y="1531"/>
                      </a:lnTo>
                      <a:lnTo>
                        <a:pt x="7139" y="1531"/>
                      </a:lnTo>
                      <a:lnTo>
                        <a:pt x="7139" y="1540"/>
                      </a:lnTo>
                      <a:lnTo>
                        <a:pt x="7129" y="1540"/>
                      </a:lnTo>
                      <a:lnTo>
                        <a:pt x="7101" y="1540"/>
                      </a:lnTo>
                      <a:lnTo>
                        <a:pt x="7074" y="1549"/>
                      </a:lnTo>
                      <a:lnTo>
                        <a:pt x="7047" y="1540"/>
                      </a:lnTo>
                      <a:lnTo>
                        <a:pt x="7029" y="1540"/>
                      </a:lnTo>
                      <a:lnTo>
                        <a:pt x="7002" y="1540"/>
                      </a:lnTo>
                      <a:lnTo>
                        <a:pt x="6973" y="1531"/>
                      </a:lnTo>
                      <a:lnTo>
                        <a:pt x="6945" y="1531"/>
                      </a:lnTo>
                      <a:lnTo>
                        <a:pt x="6918" y="1521"/>
                      </a:lnTo>
                      <a:lnTo>
                        <a:pt x="6900" y="1521"/>
                      </a:lnTo>
                      <a:lnTo>
                        <a:pt x="6873" y="1513"/>
                      </a:lnTo>
                      <a:lnTo>
                        <a:pt x="6845" y="1503"/>
                      </a:lnTo>
                      <a:lnTo>
                        <a:pt x="6827" y="1494"/>
                      </a:lnTo>
                      <a:lnTo>
                        <a:pt x="6800" y="1494"/>
                      </a:lnTo>
                      <a:lnTo>
                        <a:pt x="6772" y="1485"/>
                      </a:lnTo>
                      <a:lnTo>
                        <a:pt x="6755" y="1475"/>
                      </a:lnTo>
                      <a:lnTo>
                        <a:pt x="6727" y="1475"/>
                      </a:lnTo>
                      <a:lnTo>
                        <a:pt x="6717" y="1466"/>
                      </a:lnTo>
                      <a:lnTo>
                        <a:pt x="6708" y="1466"/>
                      </a:lnTo>
                      <a:lnTo>
                        <a:pt x="6698" y="1466"/>
                      </a:lnTo>
                      <a:lnTo>
                        <a:pt x="6690" y="1456"/>
                      </a:lnTo>
                      <a:lnTo>
                        <a:pt x="6680" y="1456"/>
                      </a:lnTo>
                      <a:lnTo>
                        <a:pt x="6672" y="1456"/>
                      </a:lnTo>
                      <a:lnTo>
                        <a:pt x="6662" y="1448"/>
                      </a:lnTo>
                      <a:lnTo>
                        <a:pt x="6653" y="1448"/>
                      </a:lnTo>
                      <a:lnTo>
                        <a:pt x="6645" y="1439"/>
                      </a:lnTo>
                      <a:lnTo>
                        <a:pt x="6635" y="1439"/>
                      </a:lnTo>
                      <a:lnTo>
                        <a:pt x="6626" y="1429"/>
                      </a:lnTo>
                      <a:lnTo>
                        <a:pt x="6617" y="1429"/>
                      </a:lnTo>
                      <a:lnTo>
                        <a:pt x="6608" y="1429"/>
                      </a:lnTo>
                      <a:lnTo>
                        <a:pt x="6598" y="1421"/>
                      </a:lnTo>
                      <a:lnTo>
                        <a:pt x="6588" y="1421"/>
                      </a:lnTo>
                      <a:lnTo>
                        <a:pt x="6570" y="1411"/>
                      </a:lnTo>
                      <a:lnTo>
                        <a:pt x="6552" y="1402"/>
                      </a:lnTo>
                      <a:lnTo>
                        <a:pt x="6535" y="1402"/>
                      </a:lnTo>
                      <a:lnTo>
                        <a:pt x="6506" y="1411"/>
                      </a:lnTo>
                      <a:lnTo>
                        <a:pt x="6489" y="1411"/>
                      </a:lnTo>
                      <a:lnTo>
                        <a:pt x="6480" y="1411"/>
                      </a:lnTo>
                      <a:lnTo>
                        <a:pt x="6396" y="1402"/>
                      </a:lnTo>
                      <a:lnTo>
                        <a:pt x="6315" y="1393"/>
                      </a:lnTo>
                      <a:lnTo>
                        <a:pt x="6233" y="1393"/>
                      </a:lnTo>
                      <a:lnTo>
                        <a:pt x="6141" y="1393"/>
                      </a:lnTo>
                      <a:lnTo>
                        <a:pt x="6058" y="1393"/>
                      </a:lnTo>
                      <a:lnTo>
                        <a:pt x="6031" y="1393"/>
                      </a:lnTo>
                      <a:lnTo>
                        <a:pt x="6021" y="1402"/>
                      </a:lnTo>
                      <a:lnTo>
                        <a:pt x="6021" y="1411"/>
                      </a:lnTo>
                      <a:lnTo>
                        <a:pt x="6021" y="1421"/>
                      </a:lnTo>
                      <a:lnTo>
                        <a:pt x="6013" y="1429"/>
                      </a:lnTo>
                      <a:lnTo>
                        <a:pt x="6004" y="1475"/>
                      </a:lnTo>
                      <a:lnTo>
                        <a:pt x="5994" y="1521"/>
                      </a:lnTo>
                      <a:lnTo>
                        <a:pt x="5986" y="1567"/>
                      </a:lnTo>
                      <a:lnTo>
                        <a:pt x="5976" y="1613"/>
                      </a:lnTo>
                      <a:lnTo>
                        <a:pt x="5967" y="1650"/>
                      </a:lnTo>
                      <a:lnTo>
                        <a:pt x="5967" y="1668"/>
                      </a:lnTo>
                      <a:lnTo>
                        <a:pt x="5967" y="1713"/>
                      </a:lnTo>
                      <a:lnTo>
                        <a:pt x="5967" y="1770"/>
                      </a:lnTo>
                      <a:lnTo>
                        <a:pt x="5959" y="1815"/>
                      </a:lnTo>
                      <a:lnTo>
                        <a:pt x="5939" y="1860"/>
                      </a:lnTo>
                      <a:lnTo>
                        <a:pt x="5929" y="1915"/>
                      </a:lnTo>
                      <a:lnTo>
                        <a:pt x="5929" y="1925"/>
                      </a:lnTo>
                      <a:lnTo>
                        <a:pt x="5929" y="1952"/>
                      </a:lnTo>
                      <a:lnTo>
                        <a:pt x="5921" y="1971"/>
                      </a:lnTo>
                      <a:lnTo>
                        <a:pt x="5921" y="1988"/>
                      </a:lnTo>
                      <a:lnTo>
                        <a:pt x="5911" y="2017"/>
                      </a:lnTo>
                      <a:lnTo>
                        <a:pt x="5903" y="2035"/>
                      </a:lnTo>
                      <a:lnTo>
                        <a:pt x="5894" y="2035"/>
                      </a:lnTo>
                      <a:lnTo>
                        <a:pt x="5876" y="2053"/>
                      </a:lnTo>
                      <a:lnTo>
                        <a:pt x="5839" y="2062"/>
                      </a:lnTo>
                      <a:lnTo>
                        <a:pt x="5811" y="2062"/>
                      </a:lnTo>
                      <a:lnTo>
                        <a:pt x="5774" y="2062"/>
                      </a:lnTo>
                      <a:lnTo>
                        <a:pt x="5747" y="2053"/>
                      </a:lnTo>
                      <a:lnTo>
                        <a:pt x="5739" y="2053"/>
                      </a:lnTo>
                      <a:lnTo>
                        <a:pt x="5656" y="2053"/>
                      </a:lnTo>
                      <a:lnTo>
                        <a:pt x="5574" y="2062"/>
                      </a:lnTo>
                      <a:lnTo>
                        <a:pt x="5491" y="2062"/>
                      </a:lnTo>
                      <a:lnTo>
                        <a:pt x="5409" y="2071"/>
                      </a:lnTo>
                      <a:lnTo>
                        <a:pt x="5327" y="2081"/>
                      </a:lnTo>
                      <a:lnTo>
                        <a:pt x="5300" y="2081"/>
                      </a:lnTo>
                      <a:lnTo>
                        <a:pt x="5162" y="2098"/>
                      </a:lnTo>
                      <a:lnTo>
                        <a:pt x="5034" y="2116"/>
                      </a:lnTo>
                      <a:lnTo>
                        <a:pt x="4896" y="2144"/>
                      </a:lnTo>
                      <a:lnTo>
                        <a:pt x="4759" y="2163"/>
                      </a:lnTo>
                      <a:lnTo>
                        <a:pt x="4631" y="2191"/>
                      </a:lnTo>
                      <a:lnTo>
                        <a:pt x="4594" y="2208"/>
                      </a:lnTo>
                      <a:lnTo>
                        <a:pt x="4549" y="2208"/>
                      </a:lnTo>
                      <a:lnTo>
                        <a:pt x="4512" y="2218"/>
                      </a:lnTo>
                      <a:lnTo>
                        <a:pt x="4475" y="2226"/>
                      </a:lnTo>
                      <a:lnTo>
                        <a:pt x="4429" y="2236"/>
                      </a:lnTo>
                      <a:lnTo>
                        <a:pt x="4394" y="2245"/>
                      </a:lnTo>
                      <a:lnTo>
                        <a:pt x="4375" y="2245"/>
                      </a:lnTo>
                      <a:lnTo>
                        <a:pt x="4346" y="2255"/>
                      </a:lnTo>
                      <a:lnTo>
                        <a:pt x="4311" y="2263"/>
                      </a:lnTo>
                      <a:lnTo>
                        <a:pt x="4274" y="2273"/>
                      </a:lnTo>
                      <a:lnTo>
                        <a:pt x="4237" y="2283"/>
                      </a:lnTo>
                      <a:lnTo>
                        <a:pt x="4209" y="2291"/>
                      </a:lnTo>
                      <a:lnTo>
                        <a:pt x="4191" y="2301"/>
                      </a:lnTo>
                      <a:lnTo>
                        <a:pt x="4174" y="2301"/>
                      </a:lnTo>
                      <a:lnTo>
                        <a:pt x="4164" y="2310"/>
                      </a:lnTo>
                      <a:lnTo>
                        <a:pt x="4146" y="2310"/>
                      </a:lnTo>
                      <a:lnTo>
                        <a:pt x="4127" y="2318"/>
                      </a:lnTo>
                      <a:lnTo>
                        <a:pt x="4110" y="2318"/>
                      </a:lnTo>
                      <a:lnTo>
                        <a:pt x="4110" y="2328"/>
                      </a:lnTo>
                      <a:lnTo>
                        <a:pt x="4091" y="2346"/>
                      </a:lnTo>
                      <a:lnTo>
                        <a:pt x="4137" y="2502"/>
                      </a:lnTo>
                      <a:lnTo>
                        <a:pt x="4174" y="2667"/>
                      </a:lnTo>
                      <a:lnTo>
                        <a:pt x="4209" y="2832"/>
                      </a:lnTo>
                      <a:lnTo>
                        <a:pt x="4228" y="2997"/>
                      </a:lnTo>
                      <a:lnTo>
                        <a:pt x="4237" y="3170"/>
                      </a:lnTo>
                      <a:lnTo>
                        <a:pt x="4237" y="3235"/>
                      </a:lnTo>
                      <a:lnTo>
                        <a:pt x="4237" y="3665"/>
                      </a:lnTo>
                      <a:lnTo>
                        <a:pt x="4228" y="3821"/>
                      </a:lnTo>
                      <a:lnTo>
                        <a:pt x="4219" y="3977"/>
                      </a:lnTo>
                      <a:lnTo>
                        <a:pt x="4201" y="4134"/>
                      </a:lnTo>
                      <a:lnTo>
                        <a:pt x="4182" y="4289"/>
                      </a:lnTo>
                      <a:lnTo>
                        <a:pt x="4146" y="4435"/>
                      </a:lnTo>
                      <a:lnTo>
                        <a:pt x="4137" y="4480"/>
                      </a:lnTo>
                      <a:lnTo>
                        <a:pt x="4081" y="4665"/>
                      </a:lnTo>
                      <a:lnTo>
                        <a:pt x="4027" y="4839"/>
                      </a:lnTo>
                      <a:lnTo>
                        <a:pt x="3962" y="5012"/>
                      </a:lnTo>
                      <a:lnTo>
                        <a:pt x="3890" y="5178"/>
                      </a:lnTo>
                      <a:lnTo>
                        <a:pt x="3825" y="5352"/>
                      </a:lnTo>
                      <a:lnTo>
                        <a:pt x="3798" y="5406"/>
                      </a:lnTo>
                      <a:lnTo>
                        <a:pt x="3789" y="5425"/>
                      </a:lnTo>
                      <a:lnTo>
                        <a:pt x="3780" y="5444"/>
                      </a:lnTo>
                      <a:lnTo>
                        <a:pt x="3780" y="5462"/>
                      </a:lnTo>
                      <a:lnTo>
                        <a:pt x="3770" y="5481"/>
                      </a:lnTo>
                      <a:lnTo>
                        <a:pt x="3770" y="5489"/>
                      </a:lnTo>
                      <a:lnTo>
                        <a:pt x="3780" y="5498"/>
                      </a:lnTo>
                      <a:lnTo>
                        <a:pt x="3844" y="5581"/>
                      </a:lnTo>
                      <a:lnTo>
                        <a:pt x="3917" y="5663"/>
                      </a:lnTo>
                      <a:lnTo>
                        <a:pt x="3972" y="5755"/>
                      </a:lnTo>
                      <a:lnTo>
                        <a:pt x="4009" y="5847"/>
                      </a:lnTo>
                      <a:lnTo>
                        <a:pt x="4027" y="5957"/>
                      </a:lnTo>
                      <a:lnTo>
                        <a:pt x="4017" y="5994"/>
                      </a:lnTo>
                      <a:lnTo>
                        <a:pt x="4009" y="6021"/>
                      </a:lnTo>
                      <a:lnTo>
                        <a:pt x="4000" y="6048"/>
                      </a:lnTo>
                      <a:lnTo>
                        <a:pt x="3990" y="6076"/>
                      </a:lnTo>
                      <a:lnTo>
                        <a:pt x="3982" y="6104"/>
                      </a:lnTo>
                      <a:lnTo>
                        <a:pt x="3962" y="6131"/>
                      </a:lnTo>
                      <a:lnTo>
                        <a:pt x="3962" y="6140"/>
                      </a:lnTo>
                      <a:lnTo>
                        <a:pt x="3962" y="6167"/>
                      </a:lnTo>
                      <a:lnTo>
                        <a:pt x="3972" y="6186"/>
                      </a:lnTo>
                      <a:lnTo>
                        <a:pt x="4000" y="6194"/>
                      </a:lnTo>
                      <a:lnTo>
                        <a:pt x="4017" y="6204"/>
                      </a:lnTo>
                      <a:lnTo>
                        <a:pt x="4036" y="6222"/>
                      </a:lnTo>
                      <a:lnTo>
                        <a:pt x="4045" y="6232"/>
                      </a:lnTo>
                      <a:lnTo>
                        <a:pt x="4081" y="6278"/>
                      </a:lnTo>
                      <a:lnTo>
                        <a:pt x="4110" y="6332"/>
                      </a:lnTo>
                      <a:lnTo>
                        <a:pt x="4127" y="6396"/>
                      </a:lnTo>
                      <a:lnTo>
                        <a:pt x="4127" y="6451"/>
                      </a:lnTo>
                      <a:lnTo>
                        <a:pt x="4119" y="6507"/>
                      </a:lnTo>
                      <a:lnTo>
                        <a:pt x="4110" y="6534"/>
                      </a:lnTo>
                      <a:lnTo>
                        <a:pt x="4100" y="6562"/>
                      </a:lnTo>
                      <a:lnTo>
                        <a:pt x="4081" y="6589"/>
                      </a:lnTo>
                      <a:lnTo>
                        <a:pt x="4064" y="6617"/>
                      </a:lnTo>
                      <a:lnTo>
                        <a:pt x="4054" y="6653"/>
                      </a:lnTo>
                      <a:lnTo>
                        <a:pt x="4036" y="6680"/>
                      </a:lnTo>
                      <a:lnTo>
                        <a:pt x="4027" y="6689"/>
                      </a:lnTo>
                      <a:lnTo>
                        <a:pt x="4036" y="6699"/>
                      </a:lnTo>
                      <a:lnTo>
                        <a:pt x="4045" y="6707"/>
                      </a:lnTo>
                      <a:lnTo>
                        <a:pt x="4054" y="6707"/>
                      </a:lnTo>
                      <a:lnTo>
                        <a:pt x="4072" y="6707"/>
                      </a:lnTo>
                      <a:lnTo>
                        <a:pt x="4081" y="6707"/>
                      </a:lnTo>
                      <a:lnTo>
                        <a:pt x="4091" y="6707"/>
                      </a:lnTo>
                      <a:lnTo>
                        <a:pt x="4146" y="6707"/>
                      </a:lnTo>
                      <a:lnTo>
                        <a:pt x="4209" y="6717"/>
                      </a:lnTo>
                      <a:lnTo>
                        <a:pt x="4274" y="6717"/>
                      </a:lnTo>
                      <a:lnTo>
                        <a:pt x="4338" y="6726"/>
                      </a:lnTo>
                      <a:lnTo>
                        <a:pt x="4402" y="6726"/>
                      </a:lnTo>
                      <a:lnTo>
                        <a:pt x="4421" y="6726"/>
                      </a:lnTo>
                      <a:lnTo>
                        <a:pt x="4429" y="6735"/>
                      </a:lnTo>
                      <a:lnTo>
                        <a:pt x="4429" y="6745"/>
                      </a:lnTo>
                      <a:lnTo>
                        <a:pt x="4429" y="6754"/>
                      </a:lnTo>
                      <a:lnTo>
                        <a:pt x="4402" y="6764"/>
                      </a:lnTo>
                      <a:lnTo>
                        <a:pt x="4375" y="6772"/>
                      </a:lnTo>
                      <a:lnTo>
                        <a:pt x="4338" y="6772"/>
                      </a:lnTo>
                      <a:lnTo>
                        <a:pt x="4301" y="6772"/>
                      </a:lnTo>
                      <a:lnTo>
                        <a:pt x="4274" y="6772"/>
                      </a:lnTo>
                      <a:lnTo>
                        <a:pt x="4265" y="6772"/>
                      </a:lnTo>
                      <a:lnTo>
                        <a:pt x="4209" y="6772"/>
                      </a:lnTo>
                      <a:lnTo>
                        <a:pt x="4155" y="6772"/>
                      </a:lnTo>
                      <a:lnTo>
                        <a:pt x="4110" y="6772"/>
                      </a:lnTo>
                      <a:lnTo>
                        <a:pt x="4054" y="6764"/>
                      </a:lnTo>
                      <a:lnTo>
                        <a:pt x="4000" y="6754"/>
                      </a:lnTo>
                      <a:lnTo>
                        <a:pt x="3990" y="6754"/>
                      </a:lnTo>
                      <a:lnTo>
                        <a:pt x="3972" y="6726"/>
                      </a:lnTo>
                      <a:lnTo>
                        <a:pt x="3972" y="6699"/>
                      </a:lnTo>
                      <a:lnTo>
                        <a:pt x="3982" y="6672"/>
                      </a:lnTo>
                      <a:lnTo>
                        <a:pt x="3990" y="6644"/>
                      </a:lnTo>
                      <a:lnTo>
                        <a:pt x="4009" y="6617"/>
                      </a:lnTo>
                      <a:lnTo>
                        <a:pt x="4009" y="6607"/>
                      </a:lnTo>
                      <a:lnTo>
                        <a:pt x="4017" y="6552"/>
                      </a:lnTo>
                      <a:lnTo>
                        <a:pt x="4036" y="6498"/>
                      </a:lnTo>
                      <a:lnTo>
                        <a:pt x="4045" y="6442"/>
                      </a:lnTo>
                      <a:lnTo>
                        <a:pt x="4036" y="6388"/>
                      </a:lnTo>
                      <a:lnTo>
                        <a:pt x="4017" y="6332"/>
                      </a:lnTo>
                      <a:lnTo>
                        <a:pt x="4009" y="6313"/>
                      </a:lnTo>
                      <a:lnTo>
                        <a:pt x="3982" y="6286"/>
                      </a:lnTo>
                      <a:lnTo>
                        <a:pt x="3962" y="6278"/>
                      </a:lnTo>
                      <a:lnTo>
                        <a:pt x="3926" y="6278"/>
                      </a:lnTo>
                      <a:lnTo>
                        <a:pt x="3899" y="6286"/>
                      </a:lnTo>
                      <a:lnTo>
                        <a:pt x="3862" y="6296"/>
                      </a:lnTo>
                      <a:lnTo>
                        <a:pt x="3853" y="6296"/>
                      </a:lnTo>
                      <a:lnTo>
                        <a:pt x="3835" y="6305"/>
                      </a:lnTo>
                      <a:lnTo>
                        <a:pt x="3816" y="6323"/>
                      </a:lnTo>
                      <a:lnTo>
                        <a:pt x="3798" y="6332"/>
                      </a:lnTo>
                      <a:lnTo>
                        <a:pt x="3789" y="6351"/>
                      </a:lnTo>
                      <a:lnTo>
                        <a:pt x="3770" y="6369"/>
                      </a:lnTo>
                      <a:lnTo>
                        <a:pt x="3770" y="6378"/>
                      </a:lnTo>
                      <a:lnTo>
                        <a:pt x="3789" y="6433"/>
                      </a:lnTo>
                      <a:lnTo>
                        <a:pt x="3816" y="6488"/>
                      </a:lnTo>
                      <a:lnTo>
                        <a:pt x="3844" y="6534"/>
                      </a:lnTo>
                      <a:lnTo>
                        <a:pt x="3872" y="6589"/>
                      </a:lnTo>
                      <a:lnTo>
                        <a:pt x="3872" y="6644"/>
                      </a:lnTo>
                      <a:lnTo>
                        <a:pt x="3872" y="6672"/>
                      </a:lnTo>
                      <a:lnTo>
                        <a:pt x="3872" y="6689"/>
                      </a:lnTo>
                      <a:lnTo>
                        <a:pt x="3872" y="6699"/>
                      </a:lnTo>
                      <a:lnTo>
                        <a:pt x="3872" y="6717"/>
                      </a:lnTo>
                      <a:lnTo>
                        <a:pt x="3862" y="6735"/>
                      </a:lnTo>
                      <a:lnTo>
                        <a:pt x="3853" y="6745"/>
                      </a:lnTo>
                      <a:lnTo>
                        <a:pt x="3835" y="6735"/>
                      </a:lnTo>
                      <a:lnTo>
                        <a:pt x="3835" y="6726"/>
                      </a:lnTo>
                      <a:lnTo>
                        <a:pt x="3835" y="6707"/>
                      </a:lnTo>
                      <a:lnTo>
                        <a:pt x="3835" y="6689"/>
                      </a:lnTo>
                      <a:lnTo>
                        <a:pt x="3835" y="6672"/>
                      </a:lnTo>
                      <a:lnTo>
                        <a:pt x="3835" y="6662"/>
                      </a:lnTo>
                      <a:lnTo>
                        <a:pt x="3807" y="6598"/>
                      </a:lnTo>
                      <a:lnTo>
                        <a:pt x="3770" y="6534"/>
                      </a:lnTo>
                      <a:lnTo>
                        <a:pt x="3743" y="6470"/>
                      </a:lnTo>
                      <a:lnTo>
                        <a:pt x="3725" y="6396"/>
                      </a:lnTo>
                      <a:lnTo>
                        <a:pt x="3752" y="6332"/>
                      </a:lnTo>
                      <a:lnTo>
                        <a:pt x="3770" y="6305"/>
                      </a:lnTo>
                      <a:lnTo>
                        <a:pt x="3780" y="6286"/>
                      </a:lnTo>
                      <a:lnTo>
                        <a:pt x="3798" y="6278"/>
                      </a:lnTo>
                      <a:lnTo>
                        <a:pt x="3807" y="6259"/>
                      </a:lnTo>
                      <a:lnTo>
                        <a:pt x="3816" y="6241"/>
                      </a:lnTo>
                      <a:lnTo>
                        <a:pt x="3825" y="6222"/>
                      </a:lnTo>
                      <a:lnTo>
                        <a:pt x="3816" y="6194"/>
                      </a:lnTo>
                      <a:lnTo>
                        <a:pt x="3807" y="6158"/>
                      </a:lnTo>
                      <a:lnTo>
                        <a:pt x="3807" y="6131"/>
                      </a:lnTo>
                      <a:lnTo>
                        <a:pt x="3807" y="6104"/>
                      </a:lnTo>
                      <a:lnTo>
                        <a:pt x="3798" y="6076"/>
                      </a:lnTo>
                      <a:lnTo>
                        <a:pt x="3789" y="6066"/>
                      </a:lnTo>
                      <a:lnTo>
                        <a:pt x="3762" y="6030"/>
                      </a:lnTo>
                      <a:lnTo>
                        <a:pt x="3735" y="6002"/>
                      </a:lnTo>
                      <a:lnTo>
                        <a:pt x="3707" y="5967"/>
                      </a:lnTo>
                      <a:lnTo>
                        <a:pt x="3670" y="5937"/>
                      </a:lnTo>
                      <a:lnTo>
                        <a:pt x="3642" y="5902"/>
                      </a:lnTo>
                      <a:lnTo>
                        <a:pt x="3633" y="5892"/>
                      </a:lnTo>
                      <a:lnTo>
                        <a:pt x="3606" y="5892"/>
                      </a:lnTo>
                      <a:lnTo>
                        <a:pt x="3560" y="5929"/>
                      </a:lnTo>
                      <a:lnTo>
                        <a:pt x="3505" y="5967"/>
                      </a:lnTo>
                      <a:lnTo>
                        <a:pt x="3451" y="5994"/>
                      </a:lnTo>
                      <a:lnTo>
                        <a:pt x="3395" y="6021"/>
                      </a:lnTo>
                      <a:lnTo>
                        <a:pt x="3341" y="6048"/>
                      </a:lnTo>
                      <a:lnTo>
                        <a:pt x="3323" y="6057"/>
                      </a:lnTo>
                      <a:lnTo>
                        <a:pt x="3303" y="6076"/>
                      </a:lnTo>
                      <a:lnTo>
                        <a:pt x="3295" y="6094"/>
                      </a:lnTo>
                      <a:lnTo>
                        <a:pt x="3285" y="6112"/>
                      </a:lnTo>
                      <a:lnTo>
                        <a:pt x="3267" y="6131"/>
                      </a:lnTo>
                      <a:lnTo>
                        <a:pt x="3258" y="6149"/>
                      </a:lnTo>
                      <a:lnTo>
                        <a:pt x="3249" y="6158"/>
                      </a:lnTo>
                      <a:lnTo>
                        <a:pt x="3267" y="6158"/>
                      </a:lnTo>
                      <a:lnTo>
                        <a:pt x="3276" y="6167"/>
                      </a:lnTo>
                      <a:lnTo>
                        <a:pt x="3285" y="6167"/>
                      </a:lnTo>
                      <a:lnTo>
                        <a:pt x="3303" y="6176"/>
                      </a:lnTo>
                      <a:lnTo>
                        <a:pt x="3313" y="6176"/>
                      </a:lnTo>
                      <a:lnTo>
                        <a:pt x="3323" y="6176"/>
                      </a:lnTo>
                      <a:lnTo>
                        <a:pt x="3359" y="6213"/>
                      </a:lnTo>
                      <a:lnTo>
                        <a:pt x="3395" y="6241"/>
                      </a:lnTo>
                      <a:lnTo>
                        <a:pt x="3423" y="6278"/>
                      </a:lnTo>
                      <a:lnTo>
                        <a:pt x="3441" y="6323"/>
                      </a:lnTo>
                      <a:lnTo>
                        <a:pt x="3451" y="6369"/>
                      </a:lnTo>
                      <a:lnTo>
                        <a:pt x="3451" y="6388"/>
                      </a:lnTo>
                      <a:lnTo>
                        <a:pt x="3432" y="6415"/>
                      </a:lnTo>
                      <a:lnTo>
                        <a:pt x="3405" y="6433"/>
                      </a:lnTo>
                      <a:lnTo>
                        <a:pt x="3377" y="6451"/>
                      </a:lnTo>
                      <a:lnTo>
                        <a:pt x="3359" y="6470"/>
                      </a:lnTo>
                      <a:lnTo>
                        <a:pt x="3341" y="6507"/>
                      </a:lnTo>
                      <a:lnTo>
                        <a:pt x="3341" y="6516"/>
                      </a:lnTo>
                      <a:lnTo>
                        <a:pt x="3331" y="6552"/>
                      </a:lnTo>
                      <a:lnTo>
                        <a:pt x="3323" y="6589"/>
                      </a:lnTo>
                      <a:lnTo>
                        <a:pt x="3323" y="6617"/>
                      </a:lnTo>
                      <a:lnTo>
                        <a:pt x="3313" y="6662"/>
                      </a:lnTo>
                      <a:lnTo>
                        <a:pt x="3313" y="6689"/>
                      </a:lnTo>
                      <a:lnTo>
                        <a:pt x="3313" y="6707"/>
                      </a:lnTo>
                      <a:lnTo>
                        <a:pt x="3303" y="6707"/>
                      </a:lnTo>
                      <a:lnTo>
                        <a:pt x="3303" y="6717"/>
                      </a:lnTo>
                      <a:lnTo>
                        <a:pt x="3295" y="6717"/>
                      </a:lnTo>
                      <a:lnTo>
                        <a:pt x="3285" y="6717"/>
                      </a:lnTo>
                      <a:lnTo>
                        <a:pt x="3276" y="6717"/>
                      </a:lnTo>
                      <a:lnTo>
                        <a:pt x="3258" y="6689"/>
                      </a:lnTo>
                      <a:lnTo>
                        <a:pt x="3285" y="6635"/>
                      </a:lnTo>
                      <a:lnTo>
                        <a:pt x="3303" y="6579"/>
                      </a:lnTo>
                      <a:lnTo>
                        <a:pt x="3323" y="6516"/>
                      </a:lnTo>
                      <a:lnTo>
                        <a:pt x="3341" y="6460"/>
                      </a:lnTo>
                      <a:lnTo>
                        <a:pt x="3350" y="6406"/>
                      </a:lnTo>
                      <a:lnTo>
                        <a:pt x="3359" y="6378"/>
                      </a:lnTo>
                      <a:lnTo>
                        <a:pt x="3350" y="6341"/>
                      </a:lnTo>
                      <a:lnTo>
                        <a:pt x="3331" y="6305"/>
                      </a:lnTo>
                      <a:lnTo>
                        <a:pt x="3313" y="6278"/>
                      </a:lnTo>
                      <a:lnTo>
                        <a:pt x="3285" y="6251"/>
                      </a:lnTo>
                      <a:lnTo>
                        <a:pt x="3258" y="6222"/>
                      </a:lnTo>
                      <a:lnTo>
                        <a:pt x="3249" y="6213"/>
                      </a:lnTo>
                      <a:lnTo>
                        <a:pt x="3213" y="6213"/>
                      </a:lnTo>
                      <a:lnTo>
                        <a:pt x="3176" y="6213"/>
                      </a:lnTo>
                      <a:lnTo>
                        <a:pt x="3139" y="6232"/>
                      </a:lnTo>
                      <a:lnTo>
                        <a:pt x="3111" y="6251"/>
                      </a:lnTo>
                      <a:lnTo>
                        <a:pt x="3084" y="6278"/>
                      </a:lnTo>
                      <a:lnTo>
                        <a:pt x="3084" y="6286"/>
                      </a:lnTo>
                      <a:lnTo>
                        <a:pt x="3084" y="6332"/>
                      </a:lnTo>
                      <a:lnTo>
                        <a:pt x="3103" y="6396"/>
                      </a:lnTo>
                      <a:lnTo>
                        <a:pt x="3130" y="6460"/>
                      </a:lnTo>
                      <a:lnTo>
                        <a:pt x="3157" y="6525"/>
                      </a:lnTo>
                      <a:lnTo>
                        <a:pt x="3176" y="6598"/>
                      </a:lnTo>
                      <a:lnTo>
                        <a:pt x="3194" y="6662"/>
                      </a:lnTo>
                      <a:lnTo>
                        <a:pt x="3194" y="6689"/>
                      </a:lnTo>
                      <a:lnTo>
                        <a:pt x="3166" y="6735"/>
                      </a:lnTo>
                      <a:lnTo>
                        <a:pt x="3130" y="6745"/>
                      </a:lnTo>
                      <a:lnTo>
                        <a:pt x="3076" y="6745"/>
                      </a:lnTo>
                      <a:lnTo>
                        <a:pt x="3020" y="6745"/>
                      </a:lnTo>
                      <a:lnTo>
                        <a:pt x="2974" y="6735"/>
                      </a:lnTo>
                      <a:lnTo>
                        <a:pt x="2956" y="6745"/>
                      </a:lnTo>
                      <a:lnTo>
                        <a:pt x="2919" y="6735"/>
                      </a:lnTo>
                      <a:lnTo>
                        <a:pt x="2883" y="6735"/>
                      </a:lnTo>
                      <a:lnTo>
                        <a:pt x="2846" y="6735"/>
                      </a:lnTo>
                      <a:lnTo>
                        <a:pt x="2819" y="6735"/>
                      </a:lnTo>
                      <a:lnTo>
                        <a:pt x="2782" y="6735"/>
                      </a:lnTo>
                      <a:lnTo>
                        <a:pt x="2773" y="6735"/>
                      </a:lnTo>
                      <a:lnTo>
                        <a:pt x="2764" y="6735"/>
                      </a:lnTo>
                      <a:lnTo>
                        <a:pt x="2754" y="6726"/>
                      </a:lnTo>
                      <a:lnTo>
                        <a:pt x="2746" y="6726"/>
                      </a:lnTo>
                      <a:lnTo>
                        <a:pt x="2746" y="6717"/>
                      </a:lnTo>
                      <a:lnTo>
                        <a:pt x="2736" y="6707"/>
                      </a:lnTo>
                      <a:lnTo>
                        <a:pt x="2736" y="6699"/>
                      </a:lnTo>
                      <a:lnTo>
                        <a:pt x="2746" y="6689"/>
                      </a:lnTo>
                      <a:lnTo>
                        <a:pt x="2746" y="6680"/>
                      </a:lnTo>
                      <a:lnTo>
                        <a:pt x="2754" y="6680"/>
                      </a:lnTo>
                      <a:lnTo>
                        <a:pt x="2764" y="6680"/>
                      </a:lnTo>
                      <a:lnTo>
                        <a:pt x="2764" y="6672"/>
                      </a:lnTo>
                      <a:lnTo>
                        <a:pt x="2810" y="6680"/>
                      </a:lnTo>
                      <a:lnTo>
                        <a:pt x="2856" y="6680"/>
                      </a:lnTo>
                      <a:lnTo>
                        <a:pt x="2891" y="6672"/>
                      </a:lnTo>
                      <a:lnTo>
                        <a:pt x="2939" y="6672"/>
                      </a:lnTo>
                      <a:lnTo>
                        <a:pt x="2974" y="6662"/>
                      </a:lnTo>
                      <a:lnTo>
                        <a:pt x="2993" y="6662"/>
                      </a:lnTo>
                      <a:lnTo>
                        <a:pt x="3020" y="6607"/>
                      </a:lnTo>
                      <a:lnTo>
                        <a:pt x="3020" y="6552"/>
                      </a:lnTo>
                      <a:lnTo>
                        <a:pt x="3011" y="6498"/>
                      </a:lnTo>
                      <a:lnTo>
                        <a:pt x="3001" y="6442"/>
                      </a:lnTo>
                      <a:lnTo>
                        <a:pt x="2993" y="6378"/>
                      </a:lnTo>
                      <a:lnTo>
                        <a:pt x="2993" y="6360"/>
                      </a:lnTo>
                      <a:lnTo>
                        <a:pt x="3001" y="6296"/>
                      </a:lnTo>
                      <a:lnTo>
                        <a:pt x="3029" y="6251"/>
                      </a:lnTo>
                      <a:lnTo>
                        <a:pt x="3076" y="6213"/>
                      </a:lnTo>
                      <a:lnTo>
                        <a:pt x="3130" y="6176"/>
                      </a:lnTo>
                      <a:lnTo>
                        <a:pt x="3176" y="6149"/>
                      </a:lnTo>
                      <a:lnTo>
                        <a:pt x="3194" y="6140"/>
                      </a:lnTo>
                      <a:lnTo>
                        <a:pt x="3240" y="6066"/>
                      </a:lnTo>
                      <a:lnTo>
                        <a:pt x="3285" y="5994"/>
                      </a:lnTo>
                      <a:lnTo>
                        <a:pt x="3331" y="5920"/>
                      </a:lnTo>
                      <a:lnTo>
                        <a:pt x="3386" y="5856"/>
                      </a:lnTo>
                      <a:lnTo>
                        <a:pt x="3423" y="5773"/>
                      </a:lnTo>
                      <a:lnTo>
                        <a:pt x="3432" y="5755"/>
                      </a:lnTo>
                      <a:lnTo>
                        <a:pt x="3460" y="5709"/>
                      </a:lnTo>
                      <a:lnTo>
                        <a:pt x="3487" y="5672"/>
                      </a:lnTo>
                      <a:lnTo>
                        <a:pt x="3505" y="5626"/>
                      </a:lnTo>
                      <a:lnTo>
                        <a:pt x="3515" y="5581"/>
                      </a:lnTo>
                      <a:lnTo>
                        <a:pt x="3523" y="5526"/>
                      </a:lnTo>
                      <a:lnTo>
                        <a:pt x="3523" y="5516"/>
                      </a:lnTo>
                      <a:lnTo>
                        <a:pt x="3432" y="5416"/>
                      </a:lnTo>
                      <a:lnTo>
                        <a:pt x="3350" y="5315"/>
                      </a:lnTo>
                      <a:lnTo>
                        <a:pt x="3267" y="5205"/>
                      </a:lnTo>
                      <a:lnTo>
                        <a:pt x="3194" y="5095"/>
                      </a:lnTo>
                      <a:lnTo>
                        <a:pt x="3121" y="4995"/>
                      </a:lnTo>
                      <a:lnTo>
                        <a:pt x="3103" y="4958"/>
                      </a:lnTo>
                      <a:lnTo>
                        <a:pt x="2984" y="4766"/>
                      </a:lnTo>
                      <a:lnTo>
                        <a:pt x="2864" y="4582"/>
                      </a:lnTo>
                      <a:lnTo>
                        <a:pt x="2746" y="4399"/>
                      </a:lnTo>
                      <a:lnTo>
                        <a:pt x="2626" y="4206"/>
                      </a:lnTo>
                      <a:lnTo>
                        <a:pt x="2517" y="4024"/>
                      </a:lnTo>
                      <a:lnTo>
                        <a:pt x="2480" y="3959"/>
                      </a:lnTo>
                      <a:lnTo>
                        <a:pt x="2407" y="3849"/>
                      </a:lnTo>
                      <a:lnTo>
                        <a:pt x="2334" y="3740"/>
                      </a:lnTo>
                      <a:lnTo>
                        <a:pt x="2261" y="3629"/>
                      </a:lnTo>
                      <a:lnTo>
                        <a:pt x="2187" y="3519"/>
                      </a:lnTo>
                      <a:lnTo>
                        <a:pt x="2123" y="3409"/>
                      </a:lnTo>
                      <a:lnTo>
                        <a:pt x="2105" y="3372"/>
                      </a:lnTo>
                      <a:lnTo>
                        <a:pt x="2077" y="3382"/>
                      </a:lnTo>
                      <a:lnTo>
                        <a:pt x="2060" y="3391"/>
                      </a:lnTo>
                      <a:lnTo>
                        <a:pt x="2041" y="3418"/>
                      </a:lnTo>
                      <a:lnTo>
                        <a:pt x="2023" y="3436"/>
                      </a:lnTo>
                      <a:lnTo>
                        <a:pt x="2005" y="3446"/>
                      </a:lnTo>
                      <a:lnTo>
                        <a:pt x="1995" y="3456"/>
                      </a:lnTo>
                      <a:lnTo>
                        <a:pt x="1940" y="3510"/>
                      </a:lnTo>
                      <a:lnTo>
                        <a:pt x="1876" y="3573"/>
                      </a:lnTo>
                      <a:lnTo>
                        <a:pt x="1821" y="3629"/>
                      </a:lnTo>
                      <a:lnTo>
                        <a:pt x="1758" y="3683"/>
                      </a:lnTo>
                      <a:lnTo>
                        <a:pt x="1702" y="3748"/>
                      </a:lnTo>
                      <a:lnTo>
                        <a:pt x="1675" y="3767"/>
                      </a:lnTo>
                      <a:lnTo>
                        <a:pt x="1602" y="3849"/>
                      </a:lnTo>
                      <a:lnTo>
                        <a:pt x="1538" y="3940"/>
                      </a:lnTo>
                      <a:lnTo>
                        <a:pt x="1464" y="4024"/>
                      </a:lnTo>
                      <a:lnTo>
                        <a:pt x="1391" y="4114"/>
                      </a:lnTo>
                      <a:lnTo>
                        <a:pt x="1327" y="4197"/>
                      </a:lnTo>
                      <a:lnTo>
                        <a:pt x="1299" y="4224"/>
                      </a:lnTo>
                      <a:lnTo>
                        <a:pt x="1291" y="4243"/>
                      </a:lnTo>
                      <a:lnTo>
                        <a:pt x="1281" y="4261"/>
                      </a:lnTo>
                      <a:lnTo>
                        <a:pt x="1272" y="4289"/>
                      </a:lnTo>
                      <a:lnTo>
                        <a:pt x="1254" y="4298"/>
                      </a:lnTo>
                      <a:lnTo>
                        <a:pt x="1236" y="4307"/>
                      </a:lnTo>
                      <a:lnTo>
                        <a:pt x="1227" y="4307"/>
                      </a:lnTo>
                      <a:lnTo>
                        <a:pt x="1189" y="4298"/>
                      </a:lnTo>
                      <a:lnTo>
                        <a:pt x="1162" y="4289"/>
                      </a:lnTo>
                      <a:lnTo>
                        <a:pt x="1126" y="4271"/>
                      </a:lnTo>
                      <a:lnTo>
                        <a:pt x="1099" y="4253"/>
                      </a:lnTo>
                      <a:lnTo>
                        <a:pt x="1071" y="4233"/>
                      </a:lnTo>
                      <a:lnTo>
                        <a:pt x="1061" y="4224"/>
                      </a:lnTo>
                      <a:lnTo>
                        <a:pt x="1016" y="4188"/>
                      </a:lnTo>
                      <a:lnTo>
                        <a:pt x="980" y="4151"/>
                      </a:lnTo>
                      <a:lnTo>
                        <a:pt x="943" y="4114"/>
                      </a:lnTo>
                      <a:lnTo>
                        <a:pt x="897" y="4087"/>
                      </a:lnTo>
                      <a:lnTo>
                        <a:pt x="860" y="4051"/>
                      </a:lnTo>
                      <a:lnTo>
                        <a:pt x="852" y="4032"/>
                      </a:lnTo>
                      <a:lnTo>
                        <a:pt x="805" y="4051"/>
                      </a:lnTo>
                      <a:lnTo>
                        <a:pt x="760" y="4069"/>
                      </a:lnTo>
                      <a:lnTo>
                        <a:pt x="705" y="4087"/>
                      </a:lnTo>
                      <a:lnTo>
                        <a:pt x="659" y="4096"/>
                      </a:lnTo>
                      <a:lnTo>
                        <a:pt x="605" y="4106"/>
                      </a:lnTo>
                      <a:lnTo>
                        <a:pt x="586" y="4106"/>
                      </a:lnTo>
                      <a:lnTo>
                        <a:pt x="503" y="4106"/>
                      </a:lnTo>
                      <a:lnTo>
                        <a:pt x="421" y="4114"/>
                      </a:lnTo>
                      <a:lnTo>
                        <a:pt x="339" y="4106"/>
                      </a:lnTo>
                      <a:lnTo>
                        <a:pt x="247" y="4096"/>
                      </a:lnTo>
                      <a:lnTo>
                        <a:pt x="174" y="4078"/>
                      </a:lnTo>
                      <a:lnTo>
                        <a:pt x="146" y="4078"/>
                      </a:lnTo>
                      <a:lnTo>
                        <a:pt x="110" y="4069"/>
                      </a:lnTo>
                      <a:lnTo>
                        <a:pt x="83" y="4051"/>
                      </a:lnTo>
                      <a:lnTo>
                        <a:pt x="56" y="4041"/>
                      </a:lnTo>
                      <a:lnTo>
                        <a:pt x="37" y="4024"/>
                      </a:lnTo>
                      <a:lnTo>
                        <a:pt x="9" y="3996"/>
                      </a:lnTo>
                      <a:lnTo>
                        <a:pt x="9" y="3987"/>
                      </a:lnTo>
                      <a:lnTo>
                        <a:pt x="0" y="3977"/>
                      </a:lnTo>
                      <a:lnTo>
                        <a:pt x="9" y="3967"/>
                      </a:lnTo>
                      <a:lnTo>
                        <a:pt x="9" y="3959"/>
                      </a:lnTo>
                      <a:lnTo>
                        <a:pt x="9" y="3949"/>
                      </a:lnTo>
                      <a:lnTo>
                        <a:pt x="19" y="3940"/>
                      </a:lnTo>
                      <a:lnTo>
                        <a:pt x="56" y="3922"/>
                      </a:lnTo>
                      <a:lnTo>
                        <a:pt x="83" y="3913"/>
                      </a:lnTo>
                      <a:lnTo>
                        <a:pt x="119" y="3913"/>
                      </a:lnTo>
                      <a:lnTo>
                        <a:pt x="146" y="3904"/>
                      </a:lnTo>
                      <a:lnTo>
                        <a:pt x="184" y="3904"/>
                      </a:lnTo>
                      <a:lnTo>
                        <a:pt x="193" y="3895"/>
                      </a:lnTo>
                      <a:lnTo>
                        <a:pt x="211" y="3904"/>
                      </a:lnTo>
                      <a:lnTo>
                        <a:pt x="238" y="3904"/>
                      </a:lnTo>
                      <a:lnTo>
                        <a:pt x="265" y="3895"/>
                      </a:lnTo>
                      <a:lnTo>
                        <a:pt x="284" y="3885"/>
                      </a:lnTo>
                      <a:lnTo>
                        <a:pt x="311" y="3885"/>
                      </a:lnTo>
                      <a:lnTo>
                        <a:pt x="321" y="3885"/>
                      </a:lnTo>
                      <a:lnTo>
                        <a:pt x="348" y="3877"/>
                      </a:lnTo>
                      <a:lnTo>
                        <a:pt x="366" y="3877"/>
                      </a:lnTo>
                      <a:lnTo>
                        <a:pt x="393" y="3877"/>
                      </a:lnTo>
                      <a:lnTo>
                        <a:pt x="421" y="3877"/>
                      </a:lnTo>
                      <a:lnTo>
                        <a:pt x="449" y="3877"/>
                      </a:lnTo>
                      <a:lnTo>
                        <a:pt x="485" y="3868"/>
                      </a:lnTo>
                      <a:lnTo>
                        <a:pt x="522" y="3868"/>
                      </a:lnTo>
                      <a:lnTo>
                        <a:pt x="559" y="3868"/>
                      </a:lnTo>
                      <a:lnTo>
                        <a:pt x="586" y="3868"/>
                      </a:lnTo>
                      <a:lnTo>
                        <a:pt x="622" y="3868"/>
                      </a:lnTo>
                      <a:lnTo>
                        <a:pt x="632" y="3868"/>
                      </a:lnTo>
                      <a:lnTo>
                        <a:pt x="650" y="3858"/>
                      </a:lnTo>
                      <a:lnTo>
                        <a:pt x="668" y="3858"/>
                      </a:lnTo>
                      <a:lnTo>
                        <a:pt x="687" y="3858"/>
                      </a:lnTo>
                      <a:lnTo>
                        <a:pt x="705" y="3849"/>
                      </a:lnTo>
                      <a:lnTo>
                        <a:pt x="723" y="3839"/>
                      </a:lnTo>
                      <a:lnTo>
                        <a:pt x="723" y="3830"/>
                      </a:lnTo>
                      <a:lnTo>
                        <a:pt x="742" y="3748"/>
                      </a:lnTo>
                      <a:lnTo>
                        <a:pt x="778" y="3683"/>
                      </a:lnTo>
                      <a:lnTo>
                        <a:pt x="815" y="3611"/>
                      </a:lnTo>
                      <a:lnTo>
                        <a:pt x="860" y="3538"/>
                      </a:lnTo>
                      <a:lnTo>
                        <a:pt x="897" y="3464"/>
                      </a:lnTo>
                      <a:lnTo>
                        <a:pt x="906" y="3446"/>
                      </a:lnTo>
                      <a:lnTo>
                        <a:pt x="997" y="3289"/>
                      </a:lnTo>
                      <a:lnTo>
                        <a:pt x="1080" y="3134"/>
                      </a:lnTo>
                      <a:lnTo>
                        <a:pt x="1162" y="2970"/>
                      </a:lnTo>
                      <a:lnTo>
                        <a:pt x="1245" y="2814"/>
                      </a:lnTo>
                      <a:lnTo>
                        <a:pt x="1318" y="2657"/>
                      </a:lnTo>
                      <a:lnTo>
                        <a:pt x="1346" y="2602"/>
                      </a:lnTo>
                      <a:lnTo>
                        <a:pt x="1401" y="2484"/>
                      </a:lnTo>
                      <a:lnTo>
                        <a:pt x="1464" y="2364"/>
                      </a:lnTo>
                      <a:lnTo>
                        <a:pt x="1519" y="2245"/>
                      </a:lnTo>
                      <a:lnTo>
                        <a:pt x="1574" y="2116"/>
                      </a:lnTo>
                      <a:lnTo>
                        <a:pt x="1629" y="1998"/>
                      </a:lnTo>
                      <a:lnTo>
                        <a:pt x="1639" y="1952"/>
                      </a:lnTo>
                      <a:lnTo>
                        <a:pt x="1648" y="1915"/>
                      </a:lnTo>
                      <a:lnTo>
                        <a:pt x="1656" y="1869"/>
                      </a:lnTo>
                      <a:lnTo>
                        <a:pt x="1675" y="1832"/>
                      </a:lnTo>
                      <a:lnTo>
                        <a:pt x="1693" y="1797"/>
                      </a:lnTo>
                      <a:lnTo>
                        <a:pt x="1711" y="1750"/>
                      </a:lnTo>
                      <a:lnTo>
                        <a:pt x="1720" y="1742"/>
                      </a:lnTo>
                      <a:lnTo>
                        <a:pt x="1830" y="1595"/>
                      </a:lnTo>
                      <a:lnTo>
                        <a:pt x="1958" y="1456"/>
                      </a:lnTo>
                      <a:lnTo>
                        <a:pt x="2105" y="1338"/>
                      </a:lnTo>
                      <a:lnTo>
                        <a:pt x="2261" y="1237"/>
                      </a:lnTo>
                      <a:lnTo>
                        <a:pt x="2417" y="1145"/>
                      </a:lnTo>
                      <a:lnTo>
                        <a:pt x="2471" y="1118"/>
                      </a:lnTo>
                      <a:lnTo>
                        <a:pt x="2489" y="1110"/>
                      </a:lnTo>
                      <a:lnTo>
                        <a:pt x="2545" y="1045"/>
                      </a:lnTo>
                      <a:lnTo>
                        <a:pt x="2599" y="981"/>
                      </a:lnTo>
                      <a:lnTo>
                        <a:pt x="2654" y="916"/>
                      </a:lnTo>
                      <a:lnTo>
                        <a:pt x="2709" y="853"/>
                      </a:lnTo>
                      <a:lnTo>
                        <a:pt x="2764" y="788"/>
                      </a:lnTo>
                      <a:lnTo>
                        <a:pt x="2782" y="761"/>
                      </a:lnTo>
                      <a:lnTo>
                        <a:pt x="2782" y="751"/>
                      </a:lnTo>
                      <a:lnTo>
                        <a:pt x="2792" y="734"/>
                      </a:lnTo>
                      <a:lnTo>
                        <a:pt x="2792" y="724"/>
                      </a:lnTo>
                      <a:lnTo>
                        <a:pt x="2792" y="706"/>
                      </a:lnTo>
                      <a:lnTo>
                        <a:pt x="2782" y="696"/>
                      </a:lnTo>
                      <a:lnTo>
                        <a:pt x="2782" y="687"/>
                      </a:lnTo>
                      <a:lnTo>
                        <a:pt x="2727" y="632"/>
                      </a:lnTo>
                      <a:lnTo>
                        <a:pt x="2700" y="559"/>
                      </a:lnTo>
                      <a:lnTo>
                        <a:pt x="2691" y="477"/>
                      </a:lnTo>
                      <a:lnTo>
                        <a:pt x="2691" y="394"/>
                      </a:lnTo>
                      <a:lnTo>
                        <a:pt x="2700" y="321"/>
                      </a:lnTo>
                      <a:lnTo>
                        <a:pt x="2700" y="293"/>
                      </a:lnTo>
                      <a:lnTo>
                        <a:pt x="2736" y="238"/>
                      </a:lnTo>
                      <a:lnTo>
                        <a:pt x="2792" y="203"/>
                      </a:lnTo>
                      <a:lnTo>
                        <a:pt x="2837" y="165"/>
                      </a:lnTo>
                      <a:lnTo>
                        <a:pt x="2891" y="138"/>
                      </a:lnTo>
                      <a:lnTo>
                        <a:pt x="2947" y="110"/>
                      </a:lnTo>
                      <a:lnTo>
                        <a:pt x="2966" y="101"/>
                      </a:lnTo>
                      <a:lnTo>
                        <a:pt x="3048" y="56"/>
                      </a:lnTo>
                      <a:lnTo>
                        <a:pt x="3139" y="28"/>
                      </a:lnTo>
                      <a:lnTo>
                        <a:pt x="3231" y="9"/>
                      </a:lnTo>
                      <a:lnTo>
                        <a:pt x="3331" y="0"/>
                      </a:lnTo>
                      <a:lnTo>
                        <a:pt x="3423" y="0"/>
                      </a:lnTo>
                      <a:lnTo>
                        <a:pt x="3460" y="9"/>
                      </a:lnTo>
                      <a:lnTo>
                        <a:pt x="3487" y="9"/>
                      </a:lnTo>
                      <a:lnTo>
                        <a:pt x="3523" y="18"/>
                      </a:lnTo>
                      <a:lnTo>
                        <a:pt x="3550" y="28"/>
                      </a:lnTo>
                      <a:lnTo>
                        <a:pt x="3578" y="46"/>
                      </a:lnTo>
                      <a:lnTo>
                        <a:pt x="3606" y="64"/>
                      </a:lnTo>
                      <a:lnTo>
                        <a:pt x="3615" y="64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3506400" y="3237480"/>
                  <a:ext cx="21600" cy="118080"/>
                </a:xfrm>
                <a:custGeom>
                  <a:avLst/>
                  <a:gdLst/>
                  <a:ahLst/>
                  <a:rect l="l" t="t" r="r" b="b"/>
                  <a:pathLst>
                    <a:path w="55" h="294">
                      <a:moveTo>
                        <a:pt x="0" y="0"/>
                      </a:moveTo>
                      <a:lnTo>
                        <a:pt x="18" y="19"/>
                      </a:lnTo>
                      <a:lnTo>
                        <a:pt x="27" y="37"/>
                      </a:lnTo>
                      <a:lnTo>
                        <a:pt x="37" y="46"/>
                      </a:lnTo>
                      <a:lnTo>
                        <a:pt x="45" y="64"/>
                      </a:lnTo>
                      <a:lnTo>
                        <a:pt x="45" y="82"/>
                      </a:lnTo>
                      <a:lnTo>
                        <a:pt x="55" y="101"/>
                      </a:lnTo>
                      <a:lnTo>
                        <a:pt x="55" y="120"/>
                      </a:lnTo>
                      <a:lnTo>
                        <a:pt x="55" y="139"/>
                      </a:lnTo>
                      <a:lnTo>
                        <a:pt x="45" y="166"/>
                      </a:lnTo>
                      <a:lnTo>
                        <a:pt x="45" y="184"/>
                      </a:lnTo>
                      <a:lnTo>
                        <a:pt x="45" y="201"/>
                      </a:lnTo>
                      <a:lnTo>
                        <a:pt x="37" y="220"/>
                      </a:lnTo>
                      <a:lnTo>
                        <a:pt x="37" y="239"/>
                      </a:lnTo>
                      <a:lnTo>
                        <a:pt x="27" y="257"/>
                      </a:lnTo>
                      <a:lnTo>
                        <a:pt x="27" y="276"/>
                      </a:lnTo>
                      <a:lnTo>
                        <a:pt x="18" y="2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3308400" y="3355560"/>
                  <a:ext cx="205560" cy="163080"/>
                </a:xfrm>
                <a:custGeom>
                  <a:avLst/>
                  <a:gdLst/>
                  <a:ahLst/>
                  <a:rect l="l" t="t" r="r" b="b"/>
                  <a:pathLst>
                    <a:path w="512" h="412">
                      <a:moveTo>
                        <a:pt x="512" y="0"/>
                      </a:moveTo>
                      <a:lnTo>
                        <a:pt x="494" y="36"/>
                      </a:lnTo>
                      <a:lnTo>
                        <a:pt x="467" y="72"/>
                      </a:lnTo>
                      <a:lnTo>
                        <a:pt x="448" y="110"/>
                      </a:lnTo>
                      <a:lnTo>
                        <a:pt x="421" y="137"/>
                      </a:lnTo>
                      <a:lnTo>
                        <a:pt x="394" y="173"/>
                      </a:lnTo>
                      <a:lnTo>
                        <a:pt x="366" y="201"/>
                      </a:lnTo>
                      <a:lnTo>
                        <a:pt x="330" y="229"/>
                      </a:lnTo>
                      <a:lnTo>
                        <a:pt x="302" y="256"/>
                      </a:lnTo>
                      <a:lnTo>
                        <a:pt x="265" y="283"/>
                      </a:lnTo>
                      <a:lnTo>
                        <a:pt x="229" y="311"/>
                      </a:lnTo>
                      <a:lnTo>
                        <a:pt x="192" y="329"/>
                      </a:lnTo>
                      <a:lnTo>
                        <a:pt x="155" y="348"/>
                      </a:lnTo>
                      <a:lnTo>
                        <a:pt x="119" y="366"/>
                      </a:lnTo>
                      <a:lnTo>
                        <a:pt x="83" y="385"/>
                      </a:lnTo>
                      <a:lnTo>
                        <a:pt x="45" y="393"/>
                      </a:lnTo>
                      <a:lnTo>
                        <a:pt x="0" y="41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3126600" y="3575160"/>
                  <a:ext cx="72000" cy="79560"/>
                </a:xfrm>
                <a:custGeom>
                  <a:avLst/>
                  <a:gdLst/>
                  <a:ahLst/>
                  <a:rect l="l" t="t" r="r" b="b"/>
                  <a:pathLst>
                    <a:path w="182" h="203">
                      <a:moveTo>
                        <a:pt x="182" y="0"/>
                      </a:moveTo>
                      <a:lnTo>
                        <a:pt x="165" y="9"/>
                      </a:lnTo>
                      <a:lnTo>
                        <a:pt x="155" y="18"/>
                      </a:lnTo>
                      <a:lnTo>
                        <a:pt x="137" y="36"/>
                      </a:lnTo>
                      <a:lnTo>
                        <a:pt x="128" y="46"/>
                      </a:lnTo>
                      <a:lnTo>
                        <a:pt x="118" y="56"/>
                      </a:lnTo>
                      <a:lnTo>
                        <a:pt x="109" y="74"/>
                      </a:lnTo>
                      <a:lnTo>
                        <a:pt x="90" y="83"/>
                      </a:lnTo>
                      <a:lnTo>
                        <a:pt x="82" y="93"/>
                      </a:lnTo>
                      <a:lnTo>
                        <a:pt x="72" y="110"/>
                      </a:lnTo>
                      <a:lnTo>
                        <a:pt x="63" y="120"/>
                      </a:lnTo>
                      <a:lnTo>
                        <a:pt x="55" y="138"/>
                      </a:lnTo>
                      <a:lnTo>
                        <a:pt x="36" y="147"/>
                      </a:lnTo>
                      <a:lnTo>
                        <a:pt x="27" y="165"/>
                      </a:lnTo>
                      <a:lnTo>
                        <a:pt x="18" y="175"/>
                      </a:lnTo>
                      <a:lnTo>
                        <a:pt x="8" y="193"/>
                      </a:lnTo>
                      <a:lnTo>
                        <a:pt x="0" y="203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855320" y="3746880"/>
                  <a:ext cx="70200" cy="61920"/>
                </a:xfrm>
                <a:custGeom>
                  <a:avLst/>
                  <a:gdLst/>
                  <a:ahLst/>
                  <a:rect l="l" t="t" r="r" b="b"/>
                  <a:pathLst>
                    <a:path w="173" h="156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28" y="19"/>
                      </a:lnTo>
                      <a:lnTo>
                        <a:pt x="45" y="19"/>
                      </a:lnTo>
                      <a:lnTo>
                        <a:pt x="55" y="28"/>
                      </a:lnTo>
                      <a:lnTo>
                        <a:pt x="73" y="37"/>
                      </a:lnTo>
                      <a:lnTo>
                        <a:pt x="82" y="46"/>
                      </a:lnTo>
                      <a:lnTo>
                        <a:pt x="92" y="55"/>
                      </a:lnTo>
                      <a:lnTo>
                        <a:pt x="109" y="55"/>
                      </a:lnTo>
                      <a:lnTo>
                        <a:pt x="118" y="64"/>
                      </a:lnTo>
                      <a:lnTo>
                        <a:pt x="128" y="73"/>
                      </a:lnTo>
                      <a:lnTo>
                        <a:pt x="147" y="91"/>
                      </a:lnTo>
                      <a:lnTo>
                        <a:pt x="155" y="101"/>
                      </a:lnTo>
                      <a:lnTo>
                        <a:pt x="155" y="110"/>
                      </a:lnTo>
                      <a:lnTo>
                        <a:pt x="165" y="128"/>
                      </a:lnTo>
                      <a:lnTo>
                        <a:pt x="173" y="137"/>
                      </a:lnTo>
                      <a:lnTo>
                        <a:pt x="173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445640" y="3782520"/>
                  <a:ext cx="19800" cy="95760"/>
                </a:xfrm>
                <a:custGeom>
                  <a:avLst/>
                  <a:gdLst/>
                  <a:ahLst/>
                  <a:rect l="l" t="t" r="r" b="b"/>
                  <a:pathLst>
                    <a:path w="46" h="239">
                      <a:moveTo>
                        <a:pt x="46" y="0"/>
                      </a:moveTo>
                      <a:lnTo>
                        <a:pt x="46" y="19"/>
                      </a:lnTo>
                      <a:lnTo>
                        <a:pt x="37" y="37"/>
                      </a:lnTo>
                      <a:lnTo>
                        <a:pt x="37" y="46"/>
                      </a:lnTo>
                      <a:lnTo>
                        <a:pt x="37" y="65"/>
                      </a:lnTo>
                      <a:lnTo>
                        <a:pt x="37" y="84"/>
                      </a:lnTo>
                      <a:lnTo>
                        <a:pt x="27" y="92"/>
                      </a:lnTo>
                      <a:lnTo>
                        <a:pt x="27" y="111"/>
                      </a:lnTo>
                      <a:lnTo>
                        <a:pt x="27" y="120"/>
                      </a:lnTo>
                      <a:lnTo>
                        <a:pt x="19" y="138"/>
                      </a:lnTo>
                      <a:lnTo>
                        <a:pt x="19" y="147"/>
                      </a:lnTo>
                      <a:lnTo>
                        <a:pt x="9" y="166"/>
                      </a:lnTo>
                      <a:lnTo>
                        <a:pt x="9" y="184"/>
                      </a:lnTo>
                      <a:lnTo>
                        <a:pt x="9" y="194"/>
                      </a:lnTo>
                      <a:lnTo>
                        <a:pt x="0" y="212"/>
                      </a:lnTo>
                      <a:lnTo>
                        <a:pt x="0" y="221"/>
                      </a:lnTo>
                      <a:lnTo>
                        <a:pt x="0" y="23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431600" y="3878640"/>
                  <a:ext cx="14040" cy="101520"/>
                </a:xfrm>
                <a:custGeom>
                  <a:avLst/>
                  <a:gdLst/>
                  <a:ahLst/>
                  <a:rect l="l" t="t" r="r" b="b"/>
                  <a:pathLst>
                    <a:path w="38" h="257">
                      <a:moveTo>
                        <a:pt x="38" y="0"/>
                      </a:moveTo>
                      <a:lnTo>
                        <a:pt x="38" y="18"/>
                      </a:lnTo>
                      <a:lnTo>
                        <a:pt x="38" y="37"/>
                      </a:lnTo>
                      <a:lnTo>
                        <a:pt x="38" y="45"/>
                      </a:lnTo>
                      <a:lnTo>
                        <a:pt x="38" y="64"/>
                      </a:lnTo>
                      <a:lnTo>
                        <a:pt x="38" y="82"/>
                      </a:lnTo>
                      <a:lnTo>
                        <a:pt x="38" y="102"/>
                      </a:lnTo>
                      <a:lnTo>
                        <a:pt x="38" y="119"/>
                      </a:lnTo>
                      <a:lnTo>
                        <a:pt x="30" y="129"/>
                      </a:lnTo>
                      <a:lnTo>
                        <a:pt x="30" y="147"/>
                      </a:lnTo>
                      <a:lnTo>
                        <a:pt x="20" y="164"/>
                      </a:lnTo>
                      <a:lnTo>
                        <a:pt x="20" y="183"/>
                      </a:lnTo>
                      <a:lnTo>
                        <a:pt x="10" y="192"/>
                      </a:lnTo>
                      <a:lnTo>
                        <a:pt x="10" y="211"/>
                      </a:lnTo>
                      <a:lnTo>
                        <a:pt x="10" y="229"/>
                      </a:lnTo>
                      <a:lnTo>
                        <a:pt x="0" y="247"/>
                      </a:lnTo>
                      <a:lnTo>
                        <a:pt x="0" y="2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3696480" y="4150080"/>
                  <a:ext cx="57240" cy="352800"/>
                </a:xfrm>
                <a:custGeom>
                  <a:avLst/>
                  <a:gdLst/>
                  <a:ahLst/>
                  <a:rect l="l" t="t" r="r" b="b"/>
                  <a:pathLst>
                    <a:path w="146" h="889">
                      <a:moveTo>
                        <a:pt x="0" y="0"/>
                      </a:moveTo>
                      <a:lnTo>
                        <a:pt x="19" y="46"/>
                      </a:lnTo>
                      <a:lnTo>
                        <a:pt x="28" y="101"/>
                      </a:lnTo>
                      <a:lnTo>
                        <a:pt x="46" y="156"/>
                      </a:lnTo>
                      <a:lnTo>
                        <a:pt x="55" y="211"/>
                      </a:lnTo>
                      <a:lnTo>
                        <a:pt x="73" y="266"/>
                      </a:lnTo>
                      <a:lnTo>
                        <a:pt x="83" y="321"/>
                      </a:lnTo>
                      <a:lnTo>
                        <a:pt x="91" y="376"/>
                      </a:lnTo>
                      <a:lnTo>
                        <a:pt x="110" y="430"/>
                      </a:lnTo>
                      <a:lnTo>
                        <a:pt x="118" y="486"/>
                      </a:lnTo>
                      <a:lnTo>
                        <a:pt x="128" y="540"/>
                      </a:lnTo>
                      <a:lnTo>
                        <a:pt x="128" y="597"/>
                      </a:lnTo>
                      <a:lnTo>
                        <a:pt x="137" y="651"/>
                      </a:lnTo>
                      <a:lnTo>
                        <a:pt x="146" y="715"/>
                      </a:lnTo>
                      <a:lnTo>
                        <a:pt x="146" y="770"/>
                      </a:lnTo>
                      <a:lnTo>
                        <a:pt x="146" y="824"/>
                      </a:lnTo>
                      <a:lnTo>
                        <a:pt x="146" y="88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753720" y="4503240"/>
                  <a:ext cx="2160" cy="171360"/>
                </a:xfrm>
                <a:prstGeom prst="line">
                  <a:avLst/>
                </a:prstGeom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714120" y="4674960"/>
                  <a:ext cx="39600" cy="325440"/>
                </a:xfrm>
                <a:custGeom>
                  <a:avLst/>
                  <a:gdLst/>
                  <a:ahLst/>
                  <a:rect l="l" t="t" r="r" b="b"/>
                  <a:pathLst>
                    <a:path w="100" h="815">
                      <a:moveTo>
                        <a:pt x="100" y="0"/>
                      </a:moveTo>
                      <a:lnTo>
                        <a:pt x="100" y="56"/>
                      </a:lnTo>
                      <a:lnTo>
                        <a:pt x="91" y="110"/>
                      </a:lnTo>
                      <a:lnTo>
                        <a:pt x="91" y="156"/>
                      </a:lnTo>
                      <a:lnTo>
                        <a:pt x="82" y="212"/>
                      </a:lnTo>
                      <a:lnTo>
                        <a:pt x="82" y="266"/>
                      </a:lnTo>
                      <a:lnTo>
                        <a:pt x="82" y="312"/>
                      </a:lnTo>
                      <a:lnTo>
                        <a:pt x="72" y="367"/>
                      </a:lnTo>
                      <a:lnTo>
                        <a:pt x="72" y="422"/>
                      </a:lnTo>
                      <a:lnTo>
                        <a:pt x="64" y="469"/>
                      </a:lnTo>
                      <a:lnTo>
                        <a:pt x="64" y="523"/>
                      </a:lnTo>
                      <a:lnTo>
                        <a:pt x="54" y="568"/>
                      </a:lnTo>
                      <a:lnTo>
                        <a:pt x="45" y="624"/>
                      </a:lnTo>
                      <a:lnTo>
                        <a:pt x="37" y="670"/>
                      </a:lnTo>
                      <a:lnTo>
                        <a:pt x="27" y="725"/>
                      </a:lnTo>
                      <a:lnTo>
                        <a:pt x="9" y="770"/>
                      </a:lnTo>
                      <a:lnTo>
                        <a:pt x="0" y="81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3580200" y="5000400"/>
                  <a:ext cx="133560" cy="371160"/>
                </a:xfrm>
                <a:custGeom>
                  <a:avLst/>
                  <a:gdLst/>
                  <a:ahLst/>
                  <a:rect l="l" t="t" r="r" b="b"/>
                  <a:pathLst>
                    <a:path w="339" h="926">
                      <a:moveTo>
                        <a:pt x="339" y="0"/>
                      </a:moveTo>
                      <a:lnTo>
                        <a:pt x="321" y="65"/>
                      </a:lnTo>
                      <a:lnTo>
                        <a:pt x="302" y="120"/>
                      </a:lnTo>
                      <a:lnTo>
                        <a:pt x="283" y="185"/>
                      </a:lnTo>
                      <a:lnTo>
                        <a:pt x="266" y="239"/>
                      </a:lnTo>
                      <a:lnTo>
                        <a:pt x="247" y="295"/>
                      </a:lnTo>
                      <a:lnTo>
                        <a:pt x="229" y="359"/>
                      </a:lnTo>
                      <a:lnTo>
                        <a:pt x="211" y="413"/>
                      </a:lnTo>
                      <a:lnTo>
                        <a:pt x="184" y="469"/>
                      </a:lnTo>
                      <a:lnTo>
                        <a:pt x="164" y="532"/>
                      </a:lnTo>
                      <a:lnTo>
                        <a:pt x="137" y="588"/>
                      </a:lnTo>
                      <a:lnTo>
                        <a:pt x="119" y="642"/>
                      </a:lnTo>
                      <a:lnTo>
                        <a:pt x="92" y="698"/>
                      </a:lnTo>
                      <a:lnTo>
                        <a:pt x="74" y="752"/>
                      </a:lnTo>
                      <a:lnTo>
                        <a:pt x="46" y="817"/>
                      </a:lnTo>
                      <a:lnTo>
                        <a:pt x="27" y="872"/>
                      </a:lnTo>
                      <a:lnTo>
                        <a:pt x="0" y="92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3572280" y="5407920"/>
                  <a:ext cx="97560" cy="197280"/>
                </a:xfrm>
                <a:custGeom>
                  <a:avLst/>
                  <a:gdLst/>
                  <a:ahLst/>
                  <a:rect l="l" t="t" r="r" b="b"/>
                  <a:pathLst>
                    <a:path w="247" h="496">
                      <a:moveTo>
                        <a:pt x="0" y="0"/>
                      </a:moveTo>
                      <a:lnTo>
                        <a:pt x="18" y="28"/>
                      </a:lnTo>
                      <a:lnTo>
                        <a:pt x="45" y="55"/>
                      </a:lnTo>
                      <a:lnTo>
                        <a:pt x="64" y="83"/>
                      </a:lnTo>
                      <a:lnTo>
                        <a:pt x="92" y="110"/>
                      </a:lnTo>
                      <a:lnTo>
                        <a:pt x="110" y="138"/>
                      </a:lnTo>
                      <a:lnTo>
                        <a:pt x="137" y="165"/>
                      </a:lnTo>
                      <a:lnTo>
                        <a:pt x="155" y="203"/>
                      </a:lnTo>
                      <a:lnTo>
                        <a:pt x="174" y="230"/>
                      </a:lnTo>
                      <a:lnTo>
                        <a:pt x="192" y="257"/>
                      </a:lnTo>
                      <a:lnTo>
                        <a:pt x="210" y="284"/>
                      </a:lnTo>
                      <a:lnTo>
                        <a:pt x="220" y="322"/>
                      </a:lnTo>
                      <a:lnTo>
                        <a:pt x="229" y="349"/>
                      </a:lnTo>
                      <a:lnTo>
                        <a:pt x="237" y="385"/>
                      </a:lnTo>
                      <a:lnTo>
                        <a:pt x="247" y="422"/>
                      </a:lnTo>
                      <a:lnTo>
                        <a:pt x="247" y="459"/>
                      </a:lnTo>
                      <a:lnTo>
                        <a:pt x="237" y="49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3644280" y="5605200"/>
                  <a:ext cx="21600" cy="57600"/>
                </a:xfrm>
                <a:custGeom>
                  <a:avLst/>
                  <a:gdLst/>
                  <a:ahLst/>
                  <a:rect l="l" t="t" r="r" b="b"/>
                  <a:pathLst>
                    <a:path w="55" h="146">
                      <a:moveTo>
                        <a:pt x="55" y="0"/>
                      </a:moveTo>
                      <a:lnTo>
                        <a:pt x="55" y="8"/>
                      </a:lnTo>
                      <a:lnTo>
                        <a:pt x="55" y="18"/>
                      </a:lnTo>
                      <a:lnTo>
                        <a:pt x="47" y="27"/>
                      </a:lnTo>
                      <a:lnTo>
                        <a:pt x="47" y="36"/>
                      </a:lnTo>
                      <a:lnTo>
                        <a:pt x="47" y="45"/>
                      </a:lnTo>
                      <a:lnTo>
                        <a:pt x="38" y="54"/>
                      </a:lnTo>
                      <a:lnTo>
                        <a:pt x="38" y="63"/>
                      </a:lnTo>
                      <a:lnTo>
                        <a:pt x="38" y="72"/>
                      </a:lnTo>
                      <a:lnTo>
                        <a:pt x="28" y="82"/>
                      </a:lnTo>
                      <a:lnTo>
                        <a:pt x="28" y="91"/>
                      </a:lnTo>
                      <a:lnTo>
                        <a:pt x="20" y="100"/>
                      </a:lnTo>
                      <a:lnTo>
                        <a:pt x="20" y="110"/>
                      </a:lnTo>
                      <a:lnTo>
                        <a:pt x="10" y="118"/>
                      </a:lnTo>
                      <a:lnTo>
                        <a:pt x="10" y="128"/>
                      </a:lnTo>
                      <a:lnTo>
                        <a:pt x="0" y="137"/>
                      </a:lnTo>
                      <a:lnTo>
                        <a:pt x="0" y="14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3678120" y="5701320"/>
                  <a:ext cx="31680" cy="119880"/>
                </a:xfrm>
                <a:custGeom>
                  <a:avLst/>
                  <a:gdLst/>
                  <a:ahLst/>
                  <a:rect l="l" t="t" r="r" b="b"/>
                  <a:pathLst>
                    <a:path w="82" h="302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27" y="27"/>
                      </a:lnTo>
                      <a:lnTo>
                        <a:pt x="36" y="46"/>
                      </a:lnTo>
                      <a:lnTo>
                        <a:pt x="46" y="64"/>
                      </a:lnTo>
                      <a:lnTo>
                        <a:pt x="55" y="81"/>
                      </a:lnTo>
                      <a:lnTo>
                        <a:pt x="65" y="100"/>
                      </a:lnTo>
                      <a:lnTo>
                        <a:pt x="74" y="119"/>
                      </a:lnTo>
                      <a:lnTo>
                        <a:pt x="74" y="137"/>
                      </a:lnTo>
                      <a:lnTo>
                        <a:pt x="82" y="164"/>
                      </a:lnTo>
                      <a:lnTo>
                        <a:pt x="82" y="183"/>
                      </a:lnTo>
                      <a:lnTo>
                        <a:pt x="82" y="201"/>
                      </a:lnTo>
                      <a:lnTo>
                        <a:pt x="82" y="219"/>
                      </a:lnTo>
                      <a:lnTo>
                        <a:pt x="82" y="238"/>
                      </a:lnTo>
                      <a:lnTo>
                        <a:pt x="82" y="256"/>
                      </a:lnTo>
                      <a:lnTo>
                        <a:pt x="74" y="275"/>
                      </a:lnTo>
                      <a:lnTo>
                        <a:pt x="65" y="30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3669840" y="5821200"/>
                  <a:ext cx="33840" cy="61560"/>
                </a:xfrm>
                <a:custGeom>
                  <a:avLst/>
                  <a:gdLst/>
                  <a:ahLst/>
                  <a:rect l="l" t="t" r="r" b="b"/>
                  <a:pathLst>
                    <a:path w="83" h="155">
                      <a:moveTo>
                        <a:pt x="83" y="0"/>
                      </a:moveTo>
                      <a:lnTo>
                        <a:pt x="83" y="9"/>
                      </a:lnTo>
                      <a:lnTo>
                        <a:pt x="73" y="18"/>
                      </a:lnTo>
                      <a:lnTo>
                        <a:pt x="73" y="28"/>
                      </a:lnTo>
                      <a:lnTo>
                        <a:pt x="64" y="36"/>
                      </a:lnTo>
                      <a:lnTo>
                        <a:pt x="54" y="45"/>
                      </a:lnTo>
                      <a:lnTo>
                        <a:pt x="54" y="55"/>
                      </a:lnTo>
                      <a:lnTo>
                        <a:pt x="45" y="64"/>
                      </a:lnTo>
                      <a:lnTo>
                        <a:pt x="45" y="73"/>
                      </a:lnTo>
                      <a:lnTo>
                        <a:pt x="37" y="83"/>
                      </a:lnTo>
                      <a:lnTo>
                        <a:pt x="37" y="101"/>
                      </a:lnTo>
                      <a:lnTo>
                        <a:pt x="27" y="110"/>
                      </a:lnTo>
                      <a:lnTo>
                        <a:pt x="27" y="119"/>
                      </a:lnTo>
                      <a:lnTo>
                        <a:pt x="18" y="128"/>
                      </a:lnTo>
                      <a:lnTo>
                        <a:pt x="9" y="138"/>
                      </a:lnTo>
                      <a:lnTo>
                        <a:pt x="9" y="146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3644280" y="5851080"/>
                  <a:ext cx="19800" cy="57600"/>
                </a:xfrm>
                <a:custGeom>
                  <a:avLst/>
                  <a:gdLst/>
                  <a:ahLst/>
                  <a:rect l="l" t="t" r="r" b="b"/>
                  <a:pathLst>
                    <a:path w="47" h="147">
                      <a:moveTo>
                        <a:pt x="28" y="147"/>
                      </a:moveTo>
                      <a:lnTo>
                        <a:pt x="20" y="138"/>
                      </a:lnTo>
                      <a:lnTo>
                        <a:pt x="10" y="128"/>
                      </a:lnTo>
                      <a:lnTo>
                        <a:pt x="1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10" y="92"/>
                      </a:lnTo>
                      <a:lnTo>
                        <a:pt x="10" y="82"/>
                      </a:lnTo>
                      <a:lnTo>
                        <a:pt x="10" y="73"/>
                      </a:lnTo>
                      <a:lnTo>
                        <a:pt x="20" y="65"/>
                      </a:lnTo>
                      <a:lnTo>
                        <a:pt x="20" y="55"/>
                      </a:lnTo>
                      <a:lnTo>
                        <a:pt x="28" y="46"/>
                      </a:lnTo>
                      <a:lnTo>
                        <a:pt x="28" y="37"/>
                      </a:lnTo>
                      <a:lnTo>
                        <a:pt x="38" y="28"/>
                      </a:lnTo>
                      <a:lnTo>
                        <a:pt x="3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3664080" y="5733000"/>
                  <a:ext cx="14040" cy="118080"/>
                </a:xfrm>
                <a:custGeom>
                  <a:avLst/>
                  <a:gdLst/>
                  <a:ahLst/>
                  <a:rect l="l" t="t" r="r" b="b"/>
                  <a:pathLst>
                    <a:path w="36" h="294">
                      <a:moveTo>
                        <a:pt x="0" y="294"/>
                      </a:moveTo>
                      <a:lnTo>
                        <a:pt x="0" y="276"/>
                      </a:lnTo>
                      <a:lnTo>
                        <a:pt x="8" y="257"/>
                      </a:lnTo>
                      <a:lnTo>
                        <a:pt x="8" y="239"/>
                      </a:lnTo>
                      <a:lnTo>
                        <a:pt x="18" y="221"/>
                      </a:lnTo>
                      <a:lnTo>
                        <a:pt x="18" y="203"/>
                      </a:lnTo>
                      <a:lnTo>
                        <a:pt x="27" y="185"/>
                      </a:lnTo>
                      <a:lnTo>
                        <a:pt x="27" y="167"/>
                      </a:lnTo>
                      <a:lnTo>
                        <a:pt x="27" y="147"/>
                      </a:lnTo>
                      <a:lnTo>
                        <a:pt x="36" y="129"/>
                      </a:lnTo>
                      <a:lnTo>
                        <a:pt x="36" y="110"/>
                      </a:lnTo>
                      <a:lnTo>
                        <a:pt x="27" y="93"/>
                      </a:lnTo>
                      <a:lnTo>
                        <a:pt x="27" y="75"/>
                      </a:lnTo>
                      <a:lnTo>
                        <a:pt x="27" y="56"/>
                      </a:lnTo>
                      <a:lnTo>
                        <a:pt x="18" y="38"/>
                      </a:lnTo>
                      <a:lnTo>
                        <a:pt x="8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3567960" y="5759280"/>
                  <a:ext cx="40320" cy="117360"/>
                </a:xfrm>
                <a:custGeom>
                  <a:avLst/>
                  <a:gdLst/>
                  <a:ahLst/>
                  <a:rect l="l" t="t" r="r" b="b"/>
                  <a:pathLst>
                    <a:path w="102" h="294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10" y="37"/>
                      </a:lnTo>
                      <a:lnTo>
                        <a:pt x="19" y="55"/>
                      </a:lnTo>
                      <a:lnTo>
                        <a:pt x="28" y="73"/>
                      </a:lnTo>
                      <a:lnTo>
                        <a:pt x="37" y="92"/>
                      </a:lnTo>
                      <a:lnTo>
                        <a:pt x="46" y="110"/>
                      </a:lnTo>
                      <a:lnTo>
                        <a:pt x="55" y="129"/>
                      </a:lnTo>
                      <a:lnTo>
                        <a:pt x="65" y="147"/>
                      </a:lnTo>
                      <a:lnTo>
                        <a:pt x="74" y="156"/>
                      </a:lnTo>
                      <a:lnTo>
                        <a:pt x="83" y="174"/>
                      </a:lnTo>
                      <a:lnTo>
                        <a:pt x="92" y="192"/>
                      </a:lnTo>
                      <a:lnTo>
                        <a:pt x="102" y="211"/>
                      </a:lnTo>
                      <a:lnTo>
                        <a:pt x="102" y="229"/>
                      </a:lnTo>
                      <a:lnTo>
                        <a:pt x="102" y="248"/>
                      </a:lnTo>
                      <a:lnTo>
                        <a:pt x="102" y="266"/>
                      </a:lnTo>
                      <a:lnTo>
                        <a:pt x="102" y="2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3550320" y="5729400"/>
                  <a:ext cx="43920" cy="143280"/>
                </a:xfrm>
                <a:custGeom>
                  <a:avLst/>
                  <a:gdLst/>
                  <a:ahLst/>
                  <a:rect l="l" t="t" r="r" b="b"/>
                  <a:pathLst>
                    <a:path w="110" h="357">
                      <a:moveTo>
                        <a:pt x="110" y="357"/>
                      </a:moveTo>
                      <a:lnTo>
                        <a:pt x="100" y="339"/>
                      </a:lnTo>
                      <a:lnTo>
                        <a:pt x="91" y="321"/>
                      </a:lnTo>
                      <a:lnTo>
                        <a:pt x="82" y="293"/>
                      </a:lnTo>
                      <a:lnTo>
                        <a:pt x="64" y="274"/>
                      </a:lnTo>
                      <a:lnTo>
                        <a:pt x="55" y="247"/>
                      </a:lnTo>
                      <a:lnTo>
                        <a:pt x="45" y="229"/>
                      </a:lnTo>
                      <a:lnTo>
                        <a:pt x="37" y="211"/>
                      </a:lnTo>
                      <a:lnTo>
                        <a:pt x="18" y="183"/>
                      </a:lnTo>
                      <a:lnTo>
                        <a:pt x="18" y="165"/>
                      </a:lnTo>
                      <a:lnTo>
                        <a:pt x="10" y="137"/>
                      </a:lnTo>
                      <a:lnTo>
                        <a:pt x="0" y="118"/>
                      </a:lnTo>
                      <a:lnTo>
                        <a:pt x="0" y="91"/>
                      </a:lnTo>
                      <a:lnTo>
                        <a:pt x="10" y="73"/>
                      </a:lnTo>
                      <a:lnTo>
                        <a:pt x="10" y="46"/>
                      </a:lnTo>
                      <a:lnTo>
                        <a:pt x="27" y="27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3576240" y="5635080"/>
                  <a:ext cx="14040" cy="61920"/>
                </a:xfrm>
                <a:custGeom>
                  <a:avLst/>
                  <a:gdLst/>
                  <a:ahLst/>
                  <a:rect l="l" t="t" r="r" b="b"/>
                  <a:pathLst>
                    <a:path w="36" h="156">
                      <a:moveTo>
                        <a:pt x="36" y="156"/>
                      </a:moveTo>
                      <a:lnTo>
                        <a:pt x="27" y="147"/>
                      </a:lnTo>
                      <a:lnTo>
                        <a:pt x="27" y="138"/>
                      </a:lnTo>
                      <a:lnTo>
                        <a:pt x="27" y="128"/>
                      </a:lnTo>
                      <a:lnTo>
                        <a:pt x="27" y="120"/>
                      </a:lnTo>
                      <a:lnTo>
                        <a:pt x="18" y="110"/>
                      </a:lnTo>
                      <a:lnTo>
                        <a:pt x="18" y="92"/>
                      </a:lnTo>
                      <a:lnTo>
                        <a:pt x="18" y="83"/>
                      </a:lnTo>
                      <a:lnTo>
                        <a:pt x="18" y="74"/>
                      </a:lnTo>
                      <a:lnTo>
                        <a:pt x="18" y="65"/>
                      </a:lnTo>
                      <a:lnTo>
                        <a:pt x="18" y="56"/>
                      </a:lnTo>
                      <a:lnTo>
                        <a:pt x="18" y="46"/>
                      </a:lnTo>
                      <a:lnTo>
                        <a:pt x="18" y="38"/>
                      </a:lnTo>
                      <a:lnTo>
                        <a:pt x="9" y="28"/>
                      </a:lnTo>
                      <a:lnTo>
                        <a:pt x="9" y="19"/>
                      </a:lnTo>
                      <a:lnTo>
                        <a:pt x="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3513960" y="5565240"/>
                  <a:ext cx="61920" cy="69480"/>
                </a:xfrm>
                <a:custGeom>
                  <a:avLst/>
                  <a:gdLst/>
                  <a:ahLst/>
                  <a:rect l="l" t="t" r="r" b="b"/>
                  <a:pathLst>
                    <a:path w="156" h="174">
                      <a:moveTo>
                        <a:pt x="156" y="174"/>
                      </a:moveTo>
                      <a:lnTo>
                        <a:pt x="147" y="156"/>
                      </a:lnTo>
                      <a:lnTo>
                        <a:pt x="137" y="147"/>
                      </a:lnTo>
                      <a:lnTo>
                        <a:pt x="129" y="138"/>
                      </a:lnTo>
                      <a:lnTo>
                        <a:pt x="119" y="129"/>
                      </a:lnTo>
                      <a:lnTo>
                        <a:pt x="110" y="120"/>
                      </a:lnTo>
                      <a:lnTo>
                        <a:pt x="102" y="110"/>
                      </a:lnTo>
                      <a:lnTo>
                        <a:pt x="92" y="92"/>
                      </a:lnTo>
                      <a:lnTo>
                        <a:pt x="83" y="83"/>
                      </a:lnTo>
                      <a:lnTo>
                        <a:pt x="74" y="75"/>
                      </a:lnTo>
                      <a:lnTo>
                        <a:pt x="64" y="65"/>
                      </a:lnTo>
                      <a:lnTo>
                        <a:pt x="46" y="55"/>
                      </a:lnTo>
                      <a:lnTo>
                        <a:pt x="37" y="45"/>
                      </a:lnTo>
                      <a:lnTo>
                        <a:pt x="27" y="37"/>
                      </a:lnTo>
                      <a:lnTo>
                        <a:pt x="19" y="28"/>
                      </a:lnTo>
                      <a:lnTo>
                        <a:pt x="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390480" y="5565240"/>
                  <a:ext cx="111960" cy="65880"/>
                </a:xfrm>
                <a:custGeom>
                  <a:avLst/>
                  <a:gdLst/>
                  <a:ahLst/>
                  <a:rect l="l" t="t" r="r" b="b"/>
                  <a:pathLst>
                    <a:path w="283" h="165">
                      <a:moveTo>
                        <a:pt x="283" y="0"/>
                      </a:moveTo>
                      <a:lnTo>
                        <a:pt x="274" y="18"/>
                      </a:lnTo>
                      <a:lnTo>
                        <a:pt x="255" y="28"/>
                      </a:lnTo>
                      <a:lnTo>
                        <a:pt x="237" y="37"/>
                      </a:lnTo>
                      <a:lnTo>
                        <a:pt x="219" y="45"/>
                      </a:lnTo>
                      <a:lnTo>
                        <a:pt x="200" y="65"/>
                      </a:lnTo>
                      <a:lnTo>
                        <a:pt x="182" y="75"/>
                      </a:lnTo>
                      <a:lnTo>
                        <a:pt x="164" y="83"/>
                      </a:lnTo>
                      <a:lnTo>
                        <a:pt x="146" y="92"/>
                      </a:lnTo>
                      <a:lnTo>
                        <a:pt x="128" y="102"/>
                      </a:lnTo>
                      <a:lnTo>
                        <a:pt x="109" y="110"/>
                      </a:lnTo>
                      <a:lnTo>
                        <a:pt x="90" y="120"/>
                      </a:lnTo>
                      <a:lnTo>
                        <a:pt x="72" y="129"/>
                      </a:lnTo>
                      <a:lnTo>
                        <a:pt x="54" y="138"/>
                      </a:lnTo>
                      <a:lnTo>
                        <a:pt x="36" y="147"/>
                      </a:lnTo>
                      <a:lnTo>
                        <a:pt x="18" y="156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3390480" y="5679000"/>
                  <a:ext cx="49680" cy="83880"/>
                </a:xfrm>
                <a:custGeom>
                  <a:avLst/>
                  <a:gdLst/>
                  <a:ahLst/>
                  <a:rect l="l" t="t" r="r" b="b"/>
                  <a:pathLst>
                    <a:path w="128" h="212">
                      <a:moveTo>
                        <a:pt x="0" y="0"/>
                      </a:moveTo>
                      <a:lnTo>
                        <a:pt x="8" y="10"/>
                      </a:lnTo>
                      <a:lnTo>
                        <a:pt x="18" y="18"/>
                      </a:lnTo>
                      <a:lnTo>
                        <a:pt x="36" y="37"/>
                      </a:lnTo>
                      <a:lnTo>
                        <a:pt x="45" y="46"/>
                      </a:lnTo>
                      <a:lnTo>
                        <a:pt x="54" y="56"/>
                      </a:lnTo>
                      <a:lnTo>
                        <a:pt x="72" y="65"/>
                      </a:lnTo>
                      <a:lnTo>
                        <a:pt x="82" y="83"/>
                      </a:lnTo>
                      <a:lnTo>
                        <a:pt x="90" y="92"/>
                      </a:lnTo>
                      <a:lnTo>
                        <a:pt x="100" y="102"/>
                      </a:lnTo>
                      <a:lnTo>
                        <a:pt x="109" y="120"/>
                      </a:lnTo>
                      <a:lnTo>
                        <a:pt x="109" y="129"/>
                      </a:lnTo>
                      <a:lnTo>
                        <a:pt x="118" y="147"/>
                      </a:lnTo>
                      <a:lnTo>
                        <a:pt x="128" y="156"/>
                      </a:lnTo>
                      <a:lnTo>
                        <a:pt x="128" y="175"/>
                      </a:lnTo>
                      <a:lnTo>
                        <a:pt x="128" y="193"/>
                      </a:lnTo>
                      <a:lnTo>
                        <a:pt x="128" y="21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3386160" y="5814720"/>
                  <a:ext cx="9720" cy="75960"/>
                </a:xfrm>
                <a:custGeom>
                  <a:avLst/>
                  <a:gdLst/>
                  <a:ahLst/>
                  <a:rect l="l" t="t" r="r" b="b"/>
                  <a:pathLst>
                    <a:path w="28" h="191">
                      <a:moveTo>
                        <a:pt x="28" y="0"/>
                      </a:moveTo>
                      <a:lnTo>
                        <a:pt x="28" y="9"/>
                      </a:lnTo>
                      <a:lnTo>
                        <a:pt x="18" y="18"/>
                      </a:lnTo>
                      <a:lnTo>
                        <a:pt x="18" y="36"/>
                      </a:lnTo>
                      <a:lnTo>
                        <a:pt x="18" y="46"/>
                      </a:lnTo>
                      <a:lnTo>
                        <a:pt x="18" y="54"/>
                      </a:lnTo>
                      <a:lnTo>
                        <a:pt x="10" y="73"/>
                      </a:lnTo>
                      <a:lnTo>
                        <a:pt x="10" y="82"/>
                      </a:lnTo>
                      <a:lnTo>
                        <a:pt x="10" y="91"/>
                      </a:lnTo>
                      <a:lnTo>
                        <a:pt x="10" y="101"/>
                      </a:lnTo>
                      <a:lnTo>
                        <a:pt x="10" y="119"/>
                      </a:lnTo>
                      <a:lnTo>
                        <a:pt x="10" y="128"/>
                      </a:lnTo>
                      <a:lnTo>
                        <a:pt x="0" y="146"/>
                      </a:lnTo>
                      <a:lnTo>
                        <a:pt x="0" y="156"/>
                      </a:lnTo>
                      <a:lnTo>
                        <a:pt x="0" y="164"/>
                      </a:lnTo>
                      <a:lnTo>
                        <a:pt x="0" y="173"/>
                      </a:lnTo>
                      <a:lnTo>
                        <a:pt x="0" y="19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3364560" y="5759280"/>
                  <a:ext cx="39600" cy="123480"/>
                </a:xfrm>
                <a:custGeom>
                  <a:avLst/>
                  <a:gdLst/>
                  <a:ahLst/>
                  <a:rect l="l" t="t" r="r" b="b"/>
                  <a:pathLst>
                    <a:path w="101" h="311">
                      <a:moveTo>
                        <a:pt x="0" y="311"/>
                      </a:moveTo>
                      <a:lnTo>
                        <a:pt x="9" y="294"/>
                      </a:ln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27" y="239"/>
                      </a:lnTo>
                      <a:lnTo>
                        <a:pt x="37" y="220"/>
                      </a:lnTo>
                      <a:lnTo>
                        <a:pt x="45" y="201"/>
                      </a:lnTo>
                      <a:lnTo>
                        <a:pt x="55" y="174"/>
                      </a:lnTo>
                      <a:lnTo>
                        <a:pt x="55" y="156"/>
                      </a:lnTo>
                      <a:lnTo>
                        <a:pt x="65" y="138"/>
                      </a:lnTo>
                      <a:lnTo>
                        <a:pt x="73" y="120"/>
                      </a:lnTo>
                      <a:lnTo>
                        <a:pt x="73" y="102"/>
                      </a:lnTo>
                      <a:lnTo>
                        <a:pt x="83" y="82"/>
                      </a:lnTo>
                      <a:lnTo>
                        <a:pt x="83" y="64"/>
                      </a:lnTo>
                      <a:lnTo>
                        <a:pt x="92" y="45"/>
                      </a:lnTo>
                      <a:lnTo>
                        <a:pt x="92" y="28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3360600" y="5693040"/>
                  <a:ext cx="43920" cy="65880"/>
                </a:xfrm>
                <a:custGeom>
                  <a:avLst/>
                  <a:gdLst/>
                  <a:ahLst/>
                  <a:rect l="l" t="t" r="r" b="b"/>
                  <a:pathLst>
                    <a:path w="110" h="165">
                      <a:moveTo>
                        <a:pt x="110" y="165"/>
                      </a:moveTo>
                      <a:lnTo>
                        <a:pt x="110" y="156"/>
                      </a:lnTo>
                      <a:lnTo>
                        <a:pt x="101" y="147"/>
                      </a:lnTo>
                      <a:lnTo>
                        <a:pt x="101" y="128"/>
                      </a:lnTo>
                      <a:lnTo>
                        <a:pt x="101" y="119"/>
                      </a:lnTo>
                      <a:lnTo>
                        <a:pt x="92" y="110"/>
                      </a:lnTo>
                      <a:lnTo>
                        <a:pt x="82" y="92"/>
                      </a:lnTo>
                      <a:lnTo>
                        <a:pt x="82" y="83"/>
                      </a:lnTo>
                      <a:lnTo>
                        <a:pt x="74" y="73"/>
                      </a:lnTo>
                      <a:lnTo>
                        <a:pt x="64" y="65"/>
                      </a:lnTo>
                      <a:lnTo>
                        <a:pt x="54" y="55"/>
                      </a:lnTo>
                      <a:lnTo>
                        <a:pt x="46" y="46"/>
                      </a:lnTo>
                      <a:lnTo>
                        <a:pt x="36" y="38"/>
                      </a:lnTo>
                      <a:lnTo>
                        <a:pt x="27" y="28"/>
                      </a:lnTo>
                      <a:lnTo>
                        <a:pt x="18" y="19"/>
                      </a:ln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3294360" y="5740920"/>
                  <a:ext cx="43920" cy="141480"/>
                </a:xfrm>
                <a:custGeom>
                  <a:avLst/>
                  <a:gdLst/>
                  <a:ahLst/>
                  <a:rect l="l" t="t" r="r" b="b"/>
                  <a:pathLst>
                    <a:path w="110" h="357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10" y="46"/>
                      </a:lnTo>
                      <a:lnTo>
                        <a:pt x="19" y="64"/>
                      </a:lnTo>
                      <a:lnTo>
                        <a:pt x="27" y="91"/>
                      </a:lnTo>
                      <a:lnTo>
                        <a:pt x="37" y="110"/>
                      </a:lnTo>
                      <a:lnTo>
                        <a:pt x="46" y="128"/>
                      </a:lnTo>
                      <a:lnTo>
                        <a:pt x="55" y="156"/>
                      </a:lnTo>
                      <a:lnTo>
                        <a:pt x="64" y="175"/>
                      </a:lnTo>
                      <a:lnTo>
                        <a:pt x="73" y="193"/>
                      </a:lnTo>
                      <a:lnTo>
                        <a:pt x="82" y="220"/>
                      </a:lnTo>
                      <a:lnTo>
                        <a:pt x="92" y="238"/>
                      </a:lnTo>
                      <a:lnTo>
                        <a:pt x="92" y="266"/>
                      </a:lnTo>
                      <a:lnTo>
                        <a:pt x="101" y="285"/>
                      </a:lnTo>
                      <a:lnTo>
                        <a:pt x="110" y="312"/>
                      </a:lnTo>
                      <a:lnTo>
                        <a:pt x="110" y="330"/>
                      </a:lnTo>
                      <a:lnTo>
                        <a:pt x="110" y="3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3258360" y="5751000"/>
                  <a:ext cx="9720" cy="121680"/>
                </a:xfrm>
                <a:custGeom>
                  <a:avLst/>
                  <a:gdLst/>
                  <a:ahLst/>
                  <a:rect l="l" t="t" r="r" b="b"/>
                  <a:pathLst>
                    <a:path w="27" h="302">
                      <a:moveTo>
                        <a:pt x="0" y="302"/>
                      </a:moveTo>
                      <a:lnTo>
                        <a:pt x="8" y="284"/>
                      </a:lnTo>
                      <a:lnTo>
                        <a:pt x="18" y="266"/>
                      </a:lnTo>
                      <a:lnTo>
                        <a:pt x="27" y="247"/>
                      </a:lnTo>
                      <a:lnTo>
                        <a:pt x="27" y="229"/>
                      </a:lnTo>
                      <a:lnTo>
                        <a:pt x="27" y="210"/>
                      </a:lnTo>
                      <a:lnTo>
                        <a:pt x="27" y="192"/>
                      </a:lnTo>
                      <a:lnTo>
                        <a:pt x="27" y="174"/>
                      </a:lnTo>
                      <a:lnTo>
                        <a:pt x="27" y="156"/>
                      </a:lnTo>
                      <a:lnTo>
                        <a:pt x="18" y="138"/>
                      </a:lnTo>
                      <a:lnTo>
                        <a:pt x="18" y="120"/>
                      </a:lnTo>
                      <a:lnTo>
                        <a:pt x="8" y="100"/>
                      </a:lnTo>
                      <a:lnTo>
                        <a:pt x="8" y="82"/>
                      </a:lnTo>
                      <a:lnTo>
                        <a:pt x="8" y="63"/>
                      </a:lnTo>
                      <a:lnTo>
                        <a:pt x="0" y="46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3258360" y="5663160"/>
                  <a:ext cx="79560" cy="87480"/>
                </a:xfrm>
                <a:custGeom>
                  <a:avLst/>
                  <a:gdLst/>
                  <a:ahLst/>
                  <a:rect l="l" t="t" r="r" b="b"/>
                  <a:pathLst>
                    <a:path w="201" h="220">
                      <a:moveTo>
                        <a:pt x="0" y="220"/>
                      </a:moveTo>
                      <a:lnTo>
                        <a:pt x="0" y="201"/>
                      </a:lnTo>
                      <a:lnTo>
                        <a:pt x="8" y="183"/>
                      </a:lnTo>
                      <a:lnTo>
                        <a:pt x="8" y="156"/>
                      </a:lnTo>
                      <a:lnTo>
                        <a:pt x="18" y="138"/>
                      </a:lnTo>
                      <a:lnTo>
                        <a:pt x="27" y="128"/>
                      </a:lnTo>
                      <a:lnTo>
                        <a:pt x="36" y="111"/>
                      </a:lnTo>
                      <a:lnTo>
                        <a:pt x="55" y="92"/>
                      </a:lnTo>
                      <a:lnTo>
                        <a:pt x="64" y="82"/>
                      </a:lnTo>
                      <a:lnTo>
                        <a:pt x="83" y="73"/>
                      </a:lnTo>
                      <a:lnTo>
                        <a:pt x="101" y="54"/>
                      </a:lnTo>
                      <a:lnTo>
                        <a:pt x="118" y="46"/>
                      </a:lnTo>
                      <a:lnTo>
                        <a:pt x="137" y="36"/>
                      </a:lnTo>
                      <a:lnTo>
                        <a:pt x="155" y="27"/>
                      </a:lnTo>
                      <a:lnTo>
                        <a:pt x="164" y="18"/>
                      </a:lnTo>
                      <a:lnTo>
                        <a:pt x="183" y="9"/>
                      </a:lnTo>
                      <a:lnTo>
                        <a:pt x="20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3338280" y="5509800"/>
                  <a:ext cx="93600" cy="153360"/>
                </a:xfrm>
                <a:custGeom>
                  <a:avLst/>
                  <a:gdLst/>
                  <a:ahLst/>
                  <a:rect l="l" t="t" r="r" b="b"/>
                  <a:pathLst>
                    <a:path w="238" h="385">
                      <a:moveTo>
                        <a:pt x="0" y="385"/>
                      </a:moveTo>
                      <a:lnTo>
                        <a:pt x="19" y="357"/>
                      </a:lnTo>
                      <a:lnTo>
                        <a:pt x="27" y="330"/>
                      </a:lnTo>
                      <a:lnTo>
                        <a:pt x="46" y="311"/>
                      </a:lnTo>
                      <a:lnTo>
                        <a:pt x="55" y="284"/>
                      </a:lnTo>
                      <a:lnTo>
                        <a:pt x="73" y="257"/>
                      </a:lnTo>
                      <a:lnTo>
                        <a:pt x="91" y="239"/>
                      </a:lnTo>
                      <a:lnTo>
                        <a:pt x="109" y="212"/>
                      </a:lnTo>
                      <a:lnTo>
                        <a:pt x="129" y="192"/>
                      </a:lnTo>
                      <a:lnTo>
                        <a:pt x="137" y="165"/>
                      </a:lnTo>
                      <a:lnTo>
                        <a:pt x="156" y="147"/>
                      </a:lnTo>
                      <a:lnTo>
                        <a:pt x="174" y="119"/>
                      </a:lnTo>
                      <a:lnTo>
                        <a:pt x="192" y="101"/>
                      </a:lnTo>
                      <a:lnTo>
                        <a:pt x="201" y="73"/>
                      </a:lnTo>
                      <a:lnTo>
                        <a:pt x="219" y="45"/>
                      </a:lnTo>
                      <a:lnTo>
                        <a:pt x="229" y="18"/>
                      </a:lnTo>
                      <a:lnTo>
                        <a:pt x="23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3431880" y="5415480"/>
                  <a:ext cx="37800" cy="93960"/>
                </a:xfrm>
                <a:custGeom>
                  <a:avLst/>
                  <a:gdLst/>
                  <a:ahLst/>
                  <a:rect l="l" t="t" r="r" b="b"/>
                  <a:pathLst>
                    <a:path w="91" h="239">
                      <a:moveTo>
                        <a:pt x="0" y="239"/>
                      </a:moveTo>
                      <a:lnTo>
                        <a:pt x="19" y="220"/>
                      </a:lnTo>
                      <a:lnTo>
                        <a:pt x="28" y="212"/>
                      </a:lnTo>
                      <a:lnTo>
                        <a:pt x="28" y="193"/>
                      </a:lnTo>
                      <a:lnTo>
                        <a:pt x="37" y="185"/>
                      </a:lnTo>
                      <a:lnTo>
                        <a:pt x="46" y="165"/>
                      </a:lnTo>
                      <a:lnTo>
                        <a:pt x="55" y="156"/>
                      </a:lnTo>
                      <a:lnTo>
                        <a:pt x="64" y="138"/>
                      </a:lnTo>
                      <a:lnTo>
                        <a:pt x="64" y="120"/>
                      </a:lnTo>
                      <a:lnTo>
                        <a:pt x="73" y="110"/>
                      </a:lnTo>
                      <a:lnTo>
                        <a:pt x="73" y="92"/>
                      </a:lnTo>
                      <a:lnTo>
                        <a:pt x="83" y="75"/>
                      </a:lnTo>
                      <a:lnTo>
                        <a:pt x="83" y="65"/>
                      </a:lnTo>
                      <a:lnTo>
                        <a:pt x="91" y="47"/>
                      </a:lnTo>
                      <a:lnTo>
                        <a:pt x="91" y="28"/>
                      </a:lnTo>
                      <a:lnTo>
                        <a:pt x="91" y="10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302280" y="5191920"/>
                  <a:ext cx="167400" cy="223560"/>
                </a:xfrm>
                <a:custGeom>
                  <a:avLst/>
                  <a:gdLst/>
                  <a:ahLst/>
                  <a:rect l="l" t="t" r="r" b="b"/>
                  <a:pathLst>
                    <a:path w="420" h="558">
                      <a:moveTo>
                        <a:pt x="420" y="558"/>
                      </a:moveTo>
                      <a:lnTo>
                        <a:pt x="393" y="523"/>
                      </a:lnTo>
                      <a:lnTo>
                        <a:pt x="357" y="486"/>
                      </a:lnTo>
                      <a:lnTo>
                        <a:pt x="329" y="458"/>
                      </a:lnTo>
                      <a:lnTo>
                        <a:pt x="302" y="421"/>
                      </a:lnTo>
                      <a:lnTo>
                        <a:pt x="274" y="384"/>
                      </a:lnTo>
                      <a:lnTo>
                        <a:pt x="247" y="357"/>
                      </a:lnTo>
                      <a:lnTo>
                        <a:pt x="220" y="321"/>
                      </a:lnTo>
                      <a:lnTo>
                        <a:pt x="192" y="284"/>
                      </a:lnTo>
                      <a:lnTo>
                        <a:pt x="164" y="247"/>
                      </a:lnTo>
                      <a:lnTo>
                        <a:pt x="146" y="210"/>
                      </a:lnTo>
                      <a:lnTo>
                        <a:pt x="118" y="174"/>
                      </a:lnTo>
                      <a:lnTo>
                        <a:pt x="91" y="137"/>
                      </a:lnTo>
                      <a:lnTo>
                        <a:pt x="73" y="101"/>
                      </a:lnTo>
                      <a:lnTo>
                        <a:pt x="45" y="73"/>
                      </a:lnTo>
                      <a:lnTo>
                        <a:pt x="1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3052800" y="4793040"/>
                  <a:ext cx="249480" cy="398520"/>
                </a:xfrm>
                <a:custGeom>
                  <a:avLst/>
                  <a:gdLst/>
                  <a:ahLst/>
                  <a:rect l="l" t="t" r="r" b="b"/>
                  <a:pathLst>
                    <a:path w="623" h="999">
                      <a:moveTo>
                        <a:pt x="623" y="999"/>
                      </a:moveTo>
                      <a:lnTo>
                        <a:pt x="577" y="934"/>
                      </a:lnTo>
                      <a:lnTo>
                        <a:pt x="540" y="870"/>
                      </a:lnTo>
                      <a:lnTo>
                        <a:pt x="504" y="807"/>
                      </a:lnTo>
                      <a:lnTo>
                        <a:pt x="467" y="751"/>
                      </a:lnTo>
                      <a:lnTo>
                        <a:pt x="421" y="688"/>
                      </a:lnTo>
                      <a:lnTo>
                        <a:pt x="384" y="623"/>
                      </a:lnTo>
                      <a:lnTo>
                        <a:pt x="349" y="559"/>
                      </a:lnTo>
                      <a:lnTo>
                        <a:pt x="302" y="504"/>
                      </a:lnTo>
                      <a:lnTo>
                        <a:pt x="266" y="440"/>
                      </a:lnTo>
                      <a:lnTo>
                        <a:pt x="229" y="376"/>
                      </a:lnTo>
                      <a:lnTo>
                        <a:pt x="184" y="312"/>
                      </a:lnTo>
                      <a:lnTo>
                        <a:pt x="146" y="247"/>
                      </a:lnTo>
                      <a:lnTo>
                        <a:pt x="110" y="183"/>
                      </a:lnTo>
                      <a:lnTo>
                        <a:pt x="74" y="128"/>
                      </a:lnTo>
                      <a:lnTo>
                        <a:pt x="3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2902680" y="4559400"/>
                  <a:ext cx="149760" cy="233280"/>
                </a:xfrm>
                <a:custGeom>
                  <a:avLst/>
                  <a:gdLst/>
                  <a:ahLst/>
                  <a:rect l="l" t="t" r="r" b="b"/>
                  <a:pathLst>
                    <a:path w="375" h="587">
                      <a:moveTo>
                        <a:pt x="375" y="587"/>
                      </a:moveTo>
                      <a:lnTo>
                        <a:pt x="348" y="550"/>
                      </a:lnTo>
                      <a:lnTo>
                        <a:pt x="330" y="513"/>
                      </a:lnTo>
                      <a:lnTo>
                        <a:pt x="302" y="477"/>
                      </a:lnTo>
                      <a:lnTo>
                        <a:pt x="274" y="440"/>
                      </a:lnTo>
                      <a:lnTo>
                        <a:pt x="256" y="403"/>
                      </a:lnTo>
                      <a:lnTo>
                        <a:pt x="229" y="368"/>
                      </a:lnTo>
                      <a:lnTo>
                        <a:pt x="202" y="330"/>
                      </a:lnTo>
                      <a:lnTo>
                        <a:pt x="183" y="293"/>
                      </a:lnTo>
                      <a:lnTo>
                        <a:pt x="156" y="257"/>
                      </a:lnTo>
                      <a:lnTo>
                        <a:pt x="137" y="221"/>
                      </a:lnTo>
                      <a:lnTo>
                        <a:pt x="110" y="183"/>
                      </a:lnTo>
                      <a:lnTo>
                        <a:pt x="82" y="147"/>
                      </a:lnTo>
                      <a:lnTo>
                        <a:pt x="65" y="111"/>
                      </a:lnTo>
                      <a:lnTo>
                        <a:pt x="37" y="74"/>
                      </a:lnTo>
                      <a:lnTo>
                        <a:pt x="1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2730960" y="4593240"/>
                  <a:ext cx="127800" cy="123480"/>
                </a:xfrm>
                <a:custGeom>
                  <a:avLst/>
                  <a:gdLst/>
                  <a:ahLst/>
                  <a:rect l="l" t="t" r="r" b="b"/>
                  <a:pathLst>
                    <a:path w="320" h="311">
                      <a:moveTo>
                        <a:pt x="320" y="0"/>
                      </a:moveTo>
                      <a:lnTo>
                        <a:pt x="302" y="18"/>
                      </a:lnTo>
                      <a:lnTo>
                        <a:pt x="283" y="36"/>
                      </a:lnTo>
                      <a:lnTo>
                        <a:pt x="265" y="54"/>
                      </a:lnTo>
                      <a:lnTo>
                        <a:pt x="247" y="72"/>
                      </a:lnTo>
                      <a:lnTo>
                        <a:pt x="229" y="99"/>
                      </a:lnTo>
                      <a:lnTo>
                        <a:pt x="201" y="117"/>
                      </a:lnTo>
                      <a:lnTo>
                        <a:pt x="183" y="137"/>
                      </a:lnTo>
                      <a:lnTo>
                        <a:pt x="165" y="155"/>
                      </a:lnTo>
                      <a:lnTo>
                        <a:pt x="146" y="173"/>
                      </a:lnTo>
                      <a:lnTo>
                        <a:pt x="119" y="192"/>
                      </a:lnTo>
                      <a:lnTo>
                        <a:pt x="101" y="209"/>
                      </a:lnTo>
                      <a:lnTo>
                        <a:pt x="83" y="227"/>
                      </a:lnTo>
                      <a:lnTo>
                        <a:pt x="64" y="246"/>
                      </a:lnTo>
                      <a:lnTo>
                        <a:pt x="45" y="274"/>
                      </a:lnTo>
                      <a:lnTo>
                        <a:pt x="27" y="292"/>
                      </a:lnTo>
                      <a:lnTo>
                        <a:pt x="0" y="31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2580840" y="4717080"/>
                  <a:ext cx="149760" cy="181440"/>
                </a:xfrm>
                <a:custGeom>
                  <a:avLst/>
                  <a:gdLst/>
                  <a:ahLst/>
                  <a:rect l="l" t="t" r="r" b="b"/>
                  <a:pathLst>
                    <a:path w="376" h="457">
                      <a:moveTo>
                        <a:pt x="376" y="0"/>
                      </a:moveTo>
                      <a:lnTo>
                        <a:pt x="357" y="27"/>
                      </a:lnTo>
                      <a:lnTo>
                        <a:pt x="330" y="54"/>
                      </a:lnTo>
                      <a:lnTo>
                        <a:pt x="303" y="82"/>
                      </a:lnTo>
                      <a:lnTo>
                        <a:pt x="284" y="118"/>
                      </a:lnTo>
                      <a:lnTo>
                        <a:pt x="257" y="146"/>
                      </a:lnTo>
                      <a:lnTo>
                        <a:pt x="239" y="173"/>
                      </a:lnTo>
                      <a:lnTo>
                        <a:pt x="212" y="200"/>
                      </a:lnTo>
                      <a:lnTo>
                        <a:pt x="184" y="229"/>
                      </a:lnTo>
                      <a:lnTo>
                        <a:pt x="165" y="257"/>
                      </a:lnTo>
                      <a:lnTo>
                        <a:pt x="137" y="284"/>
                      </a:lnTo>
                      <a:lnTo>
                        <a:pt x="120" y="320"/>
                      </a:lnTo>
                      <a:lnTo>
                        <a:pt x="92" y="347"/>
                      </a:lnTo>
                      <a:lnTo>
                        <a:pt x="75" y="375"/>
                      </a:lnTo>
                      <a:lnTo>
                        <a:pt x="47" y="402"/>
                      </a:lnTo>
                      <a:lnTo>
                        <a:pt x="28" y="430"/>
                      </a:lnTo>
                      <a:lnTo>
                        <a:pt x="0" y="4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2400840" y="4822920"/>
                  <a:ext cx="83520" cy="7560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lnTo>
                        <a:pt x="192" y="183"/>
                      </a:lnTo>
                      <a:lnTo>
                        <a:pt x="182" y="165"/>
                      </a:lnTo>
                      <a:lnTo>
                        <a:pt x="164" y="156"/>
                      </a:lnTo>
                      <a:lnTo>
                        <a:pt x="155" y="147"/>
                      </a:lnTo>
                      <a:lnTo>
                        <a:pt x="137" y="137"/>
                      </a:lnTo>
                      <a:lnTo>
                        <a:pt x="128" y="119"/>
                      </a:lnTo>
                      <a:lnTo>
                        <a:pt x="110" y="110"/>
                      </a:lnTo>
                      <a:lnTo>
                        <a:pt x="100" y="102"/>
                      </a:lnTo>
                      <a:lnTo>
                        <a:pt x="91" y="82"/>
                      </a:lnTo>
                      <a:lnTo>
                        <a:pt x="72" y="74"/>
                      </a:lnTo>
                      <a:lnTo>
                        <a:pt x="63" y="64"/>
                      </a:lnTo>
                      <a:lnTo>
                        <a:pt x="45" y="55"/>
                      </a:lnTo>
                      <a:lnTo>
                        <a:pt x="36" y="37"/>
                      </a:lnTo>
                      <a:lnTo>
                        <a:pt x="27" y="27"/>
                      </a:lnTo>
                      <a:lnTo>
                        <a:pt x="8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2350800" y="4589280"/>
                  <a:ext cx="72000" cy="151560"/>
                </a:xfrm>
                <a:custGeom>
                  <a:avLst/>
                  <a:gdLst/>
                  <a:ahLst/>
                  <a:rect l="l" t="t" r="r" b="b"/>
                  <a:pathLst>
                    <a:path w="183" h="384">
                      <a:moveTo>
                        <a:pt x="0" y="384"/>
                      </a:moveTo>
                      <a:lnTo>
                        <a:pt x="0" y="357"/>
                      </a:lnTo>
                      <a:lnTo>
                        <a:pt x="9" y="329"/>
                      </a:lnTo>
                      <a:lnTo>
                        <a:pt x="19" y="302"/>
                      </a:lnTo>
                      <a:lnTo>
                        <a:pt x="27" y="284"/>
                      </a:lnTo>
                      <a:lnTo>
                        <a:pt x="37" y="256"/>
                      </a:lnTo>
                      <a:lnTo>
                        <a:pt x="55" y="237"/>
                      </a:lnTo>
                      <a:lnTo>
                        <a:pt x="64" y="210"/>
                      </a:lnTo>
                      <a:lnTo>
                        <a:pt x="82" y="183"/>
                      </a:lnTo>
                      <a:lnTo>
                        <a:pt x="92" y="165"/>
                      </a:lnTo>
                      <a:lnTo>
                        <a:pt x="110" y="137"/>
                      </a:lnTo>
                      <a:lnTo>
                        <a:pt x="129" y="119"/>
                      </a:lnTo>
                      <a:lnTo>
                        <a:pt x="137" y="92"/>
                      </a:lnTo>
                      <a:lnTo>
                        <a:pt x="156" y="73"/>
                      </a:lnTo>
                      <a:lnTo>
                        <a:pt x="165" y="46"/>
                      </a:lnTo>
                      <a:lnTo>
                        <a:pt x="174" y="18"/>
                      </a:lnTo>
                      <a:lnTo>
                        <a:pt x="18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2423160" y="4251600"/>
                  <a:ext cx="175680" cy="337680"/>
                </a:xfrm>
                <a:custGeom>
                  <a:avLst/>
                  <a:gdLst/>
                  <a:ahLst/>
                  <a:rect l="l" t="t" r="r" b="b"/>
                  <a:pathLst>
                    <a:path w="440" h="844">
                      <a:moveTo>
                        <a:pt x="0" y="844"/>
                      </a:moveTo>
                      <a:lnTo>
                        <a:pt x="28" y="789"/>
                      </a:lnTo>
                      <a:lnTo>
                        <a:pt x="56" y="734"/>
                      </a:lnTo>
                      <a:lnTo>
                        <a:pt x="91" y="687"/>
                      </a:lnTo>
                      <a:lnTo>
                        <a:pt x="119" y="633"/>
                      </a:lnTo>
                      <a:lnTo>
                        <a:pt x="146" y="578"/>
                      </a:lnTo>
                      <a:lnTo>
                        <a:pt x="174" y="532"/>
                      </a:lnTo>
                      <a:lnTo>
                        <a:pt x="201" y="478"/>
                      </a:lnTo>
                      <a:lnTo>
                        <a:pt x="229" y="422"/>
                      </a:lnTo>
                      <a:lnTo>
                        <a:pt x="256" y="368"/>
                      </a:lnTo>
                      <a:lnTo>
                        <a:pt x="283" y="321"/>
                      </a:lnTo>
                      <a:lnTo>
                        <a:pt x="311" y="266"/>
                      </a:lnTo>
                      <a:lnTo>
                        <a:pt x="339" y="212"/>
                      </a:lnTo>
                      <a:lnTo>
                        <a:pt x="366" y="166"/>
                      </a:lnTo>
                      <a:lnTo>
                        <a:pt x="385" y="110"/>
                      </a:lnTo>
                      <a:lnTo>
                        <a:pt x="412" y="55"/>
                      </a:lnTo>
                      <a:lnTo>
                        <a:pt x="44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598840" y="3992040"/>
                  <a:ext cx="117720" cy="259200"/>
                </a:xfrm>
                <a:custGeom>
                  <a:avLst/>
                  <a:gdLst/>
                  <a:ahLst/>
                  <a:rect l="l" t="t" r="r" b="b"/>
                  <a:pathLst>
                    <a:path w="293" h="650">
                      <a:moveTo>
                        <a:pt x="0" y="650"/>
                      </a:moveTo>
                      <a:lnTo>
                        <a:pt x="18" y="615"/>
                      </a:lnTo>
                      <a:lnTo>
                        <a:pt x="36" y="568"/>
                      </a:lnTo>
                      <a:lnTo>
                        <a:pt x="55" y="532"/>
                      </a:lnTo>
                      <a:lnTo>
                        <a:pt x="73" y="495"/>
                      </a:lnTo>
                      <a:lnTo>
                        <a:pt x="90" y="449"/>
                      </a:lnTo>
                      <a:lnTo>
                        <a:pt x="118" y="412"/>
                      </a:lnTo>
                      <a:lnTo>
                        <a:pt x="137" y="366"/>
                      </a:lnTo>
                      <a:lnTo>
                        <a:pt x="155" y="331"/>
                      </a:lnTo>
                      <a:lnTo>
                        <a:pt x="173" y="293"/>
                      </a:lnTo>
                      <a:lnTo>
                        <a:pt x="192" y="247"/>
                      </a:lnTo>
                      <a:lnTo>
                        <a:pt x="210" y="211"/>
                      </a:lnTo>
                      <a:lnTo>
                        <a:pt x="228" y="164"/>
                      </a:lnTo>
                      <a:lnTo>
                        <a:pt x="247" y="129"/>
                      </a:lnTo>
                      <a:lnTo>
                        <a:pt x="265" y="83"/>
                      </a:lnTo>
                      <a:lnTo>
                        <a:pt x="283" y="46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716920" y="3908520"/>
                  <a:ext cx="31680" cy="83520"/>
                </a:xfrm>
                <a:custGeom>
                  <a:avLst/>
                  <a:gdLst/>
                  <a:ahLst/>
                  <a:rect l="l" t="t" r="r" b="b"/>
                  <a:pathLst>
                    <a:path w="81" h="210">
                      <a:moveTo>
                        <a:pt x="0" y="210"/>
                      </a:moveTo>
                      <a:lnTo>
                        <a:pt x="9" y="200"/>
                      </a:lnTo>
                      <a:lnTo>
                        <a:pt x="9" y="183"/>
                      </a:lnTo>
                      <a:lnTo>
                        <a:pt x="9" y="173"/>
                      </a:lnTo>
                      <a:lnTo>
                        <a:pt x="9" y="155"/>
                      </a:lnTo>
                      <a:lnTo>
                        <a:pt x="17" y="146"/>
                      </a:lnTo>
                      <a:lnTo>
                        <a:pt x="17" y="127"/>
                      </a:lnTo>
                      <a:lnTo>
                        <a:pt x="27" y="118"/>
                      </a:lnTo>
                      <a:lnTo>
                        <a:pt x="27" y="100"/>
                      </a:lnTo>
                      <a:lnTo>
                        <a:pt x="36" y="90"/>
                      </a:lnTo>
                      <a:lnTo>
                        <a:pt x="36" y="73"/>
                      </a:lnTo>
                      <a:lnTo>
                        <a:pt x="45" y="63"/>
                      </a:lnTo>
                      <a:lnTo>
                        <a:pt x="54" y="55"/>
                      </a:lnTo>
                      <a:lnTo>
                        <a:pt x="63" y="36"/>
                      </a:lnTo>
                      <a:lnTo>
                        <a:pt x="63" y="28"/>
                      </a:lnTo>
                      <a:lnTo>
                        <a:pt x="72" y="8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748600" y="3659040"/>
                  <a:ext cx="299880" cy="249120"/>
                </a:xfrm>
                <a:custGeom>
                  <a:avLst/>
                  <a:gdLst/>
                  <a:ahLst/>
                  <a:rect l="l" t="t" r="r" b="b"/>
                  <a:pathLst>
                    <a:path w="751" h="624">
                      <a:moveTo>
                        <a:pt x="0" y="624"/>
                      </a:moveTo>
                      <a:lnTo>
                        <a:pt x="29" y="568"/>
                      </a:lnTo>
                      <a:lnTo>
                        <a:pt x="65" y="523"/>
                      </a:lnTo>
                      <a:lnTo>
                        <a:pt x="110" y="477"/>
                      </a:lnTo>
                      <a:lnTo>
                        <a:pt x="156" y="431"/>
                      </a:lnTo>
                      <a:lnTo>
                        <a:pt x="193" y="385"/>
                      </a:lnTo>
                      <a:lnTo>
                        <a:pt x="238" y="338"/>
                      </a:lnTo>
                      <a:lnTo>
                        <a:pt x="285" y="303"/>
                      </a:lnTo>
                      <a:lnTo>
                        <a:pt x="340" y="266"/>
                      </a:lnTo>
                      <a:lnTo>
                        <a:pt x="385" y="220"/>
                      </a:lnTo>
                      <a:lnTo>
                        <a:pt x="440" y="193"/>
                      </a:lnTo>
                      <a:lnTo>
                        <a:pt x="485" y="156"/>
                      </a:lnTo>
                      <a:lnTo>
                        <a:pt x="541" y="119"/>
                      </a:lnTo>
                      <a:lnTo>
                        <a:pt x="595" y="91"/>
                      </a:lnTo>
                      <a:lnTo>
                        <a:pt x="650" y="55"/>
                      </a:lnTo>
                      <a:lnTo>
                        <a:pt x="697" y="27"/>
                      </a:lnTo>
                      <a:lnTo>
                        <a:pt x="75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3056400" y="3517200"/>
                  <a:ext cx="115920" cy="137520"/>
                </a:xfrm>
                <a:custGeom>
                  <a:avLst/>
                  <a:gdLst/>
                  <a:ahLst/>
                  <a:rect l="l" t="t" r="r" b="b"/>
                  <a:pathLst>
                    <a:path w="293" h="349">
                      <a:moveTo>
                        <a:pt x="0" y="349"/>
                      </a:moveTo>
                      <a:lnTo>
                        <a:pt x="18" y="329"/>
                      </a:lnTo>
                      <a:lnTo>
                        <a:pt x="38" y="302"/>
                      </a:lnTo>
                      <a:lnTo>
                        <a:pt x="56" y="284"/>
                      </a:lnTo>
                      <a:lnTo>
                        <a:pt x="73" y="266"/>
                      </a:lnTo>
                      <a:lnTo>
                        <a:pt x="92" y="239"/>
                      </a:lnTo>
                      <a:lnTo>
                        <a:pt x="110" y="220"/>
                      </a:lnTo>
                      <a:lnTo>
                        <a:pt x="128" y="202"/>
                      </a:lnTo>
                      <a:lnTo>
                        <a:pt x="147" y="174"/>
                      </a:lnTo>
                      <a:lnTo>
                        <a:pt x="165" y="155"/>
                      </a:lnTo>
                      <a:lnTo>
                        <a:pt x="183" y="137"/>
                      </a:lnTo>
                      <a:lnTo>
                        <a:pt x="202" y="110"/>
                      </a:lnTo>
                      <a:lnTo>
                        <a:pt x="220" y="92"/>
                      </a:lnTo>
                      <a:lnTo>
                        <a:pt x="238" y="64"/>
                      </a:lnTo>
                      <a:lnTo>
                        <a:pt x="257" y="45"/>
                      </a:lnTo>
                      <a:lnTo>
                        <a:pt x="275" y="27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3136320" y="3329280"/>
                  <a:ext cx="35640" cy="157680"/>
                </a:xfrm>
                <a:custGeom>
                  <a:avLst/>
                  <a:gdLst/>
                  <a:ahLst/>
                  <a:rect l="l" t="t" r="r" b="b"/>
                  <a:pathLst>
                    <a:path w="91" h="394">
                      <a:moveTo>
                        <a:pt x="91" y="394"/>
                      </a:moveTo>
                      <a:lnTo>
                        <a:pt x="73" y="376"/>
                      </a:lnTo>
                      <a:lnTo>
                        <a:pt x="55" y="358"/>
                      </a:lnTo>
                      <a:lnTo>
                        <a:pt x="36" y="339"/>
                      </a:lnTo>
                      <a:lnTo>
                        <a:pt x="28" y="312"/>
                      </a:lnTo>
                      <a:lnTo>
                        <a:pt x="18" y="294"/>
                      </a:lnTo>
                      <a:lnTo>
                        <a:pt x="9" y="266"/>
                      </a:lnTo>
                      <a:lnTo>
                        <a:pt x="0" y="238"/>
                      </a:lnTo>
                      <a:lnTo>
                        <a:pt x="0" y="211"/>
                      </a:lnTo>
                      <a:lnTo>
                        <a:pt x="0" y="184"/>
                      </a:lnTo>
                      <a:lnTo>
                        <a:pt x="0" y="157"/>
                      </a:lnTo>
                      <a:lnTo>
                        <a:pt x="0" y="129"/>
                      </a:lnTo>
                      <a:lnTo>
                        <a:pt x="0" y="101"/>
                      </a:lnTo>
                      <a:lnTo>
                        <a:pt x="0" y="74"/>
                      </a:lnTo>
                      <a:lnTo>
                        <a:pt x="9" y="47"/>
                      </a:lnTo>
                      <a:lnTo>
                        <a:pt x="9" y="28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3140640" y="3253680"/>
                  <a:ext cx="105480" cy="75600"/>
                </a:xfrm>
                <a:custGeom>
                  <a:avLst/>
                  <a:gdLst/>
                  <a:ahLst/>
                  <a:rect l="l" t="t" r="r" b="b"/>
                  <a:pathLst>
                    <a:path w="266" h="192">
                      <a:moveTo>
                        <a:pt x="0" y="192"/>
                      </a:moveTo>
                      <a:lnTo>
                        <a:pt x="19" y="164"/>
                      </a:lnTo>
                      <a:lnTo>
                        <a:pt x="27" y="156"/>
                      </a:lnTo>
                      <a:lnTo>
                        <a:pt x="36" y="137"/>
                      </a:lnTo>
                      <a:lnTo>
                        <a:pt x="54" y="119"/>
                      </a:lnTo>
                      <a:lnTo>
                        <a:pt x="73" y="110"/>
                      </a:lnTo>
                      <a:lnTo>
                        <a:pt x="92" y="102"/>
                      </a:lnTo>
                      <a:lnTo>
                        <a:pt x="101" y="83"/>
                      </a:lnTo>
                      <a:lnTo>
                        <a:pt x="119" y="73"/>
                      </a:lnTo>
                      <a:lnTo>
                        <a:pt x="137" y="64"/>
                      </a:lnTo>
                      <a:lnTo>
                        <a:pt x="156" y="54"/>
                      </a:lnTo>
                      <a:lnTo>
                        <a:pt x="174" y="45"/>
                      </a:lnTo>
                      <a:lnTo>
                        <a:pt x="191" y="37"/>
                      </a:lnTo>
                      <a:lnTo>
                        <a:pt x="210" y="27"/>
                      </a:lnTo>
                      <a:lnTo>
                        <a:pt x="229" y="18"/>
                      </a:lnTo>
                      <a:lnTo>
                        <a:pt x="247" y="9"/>
                      </a:lnTo>
                      <a:lnTo>
                        <a:pt x="266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3194640" y="3231720"/>
                  <a:ext cx="303480" cy="281520"/>
                </a:xfrm>
                <a:custGeom>
                  <a:avLst/>
                  <a:gdLst/>
                  <a:ahLst/>
                  <a:rect l="l" t="t" r="r" b="b"/>
                  <a:pathLst>
                    <a:path w="760" h="705">
                      <a:moveTo>
                        <a:pt x="723" y="92"/>
                      </a:moveTo>
                      <a:lnTo>
                        <a:pt x="732" y="100"/>
                      </a:lnTo>
                      <a:lnTo>
                        <a:pt x="741" y="109"/>
                      </a:lnTo>
                      <a:lnTo>
                        <a:pt x="741" y="119"/>
                      </a:lnTo>
                      <a:lnTo>
                        <a:pt x="751" y="128"/>
                      </a:lnTo>
                      <a:lnTo>
                        <a:pt x="751" y="147"/>
                      </a:lnTo>
                      <a:lnTo>
                        <a:pt x="760" y="157"/>
                      </a:lnTo>
                      <a:lnTo>
                        <a:pt x="760" y="165"/>
                      </a:lnTo>
                      <a:lnTo>
                        <a:pt x="760" y="184"/>
                      </a:lnTo>
                      <a:lnTo>
                        <a:pt x="760" y="192"/>
                      </a:lnTo>
                      <a:lnTo>
                        <a:pt x="760" y="211"/>
                      </a:lnTo>
                      <a:lnTo>
                        <a:pt x="760" y="219"/>
                      </a:lnTo>
                      <a:lnTo>
                        <a:pt x="760" y="238"/>
                      </a:lnTo>
                      <a:lnTo>
                        <a:pt x="760" y="247"/>
                      </a:lnTo>
                      <a:lnTo>
                        <a:pt x="760" y="257"/>
                      </a:lnTo>
                      <a:lnTo>
                        <a:pt x="760" y="275"/>
                      </a:lnTo>
                      <a:lnTo>
                        <a:pt x="760" y="284"/>
                      </a:lnTo>
                      <a:lnTo>
                        <a:pt x="741" y="321"/>
                      </a:lnTo>
                      <a:lnTo>
                        <a:pt x="723" y="357"/>
                      </a:lnTo>
                      <a:lnTo>
                        <a:pt x="705" y="394"/>
                      </a:lnTo>
                      <a:lnTo>
                        <a:pt x="678" y="431"/>
                      </a:lnTo>
                      <a:lnTo>
                        <a:pt x="659" y="458"/>
                      </a:lnTo>
                      <a:lnTo>
                        <a:pt x="632" y="495"/>
                      </a:lnTo>
                      <a:lnTo>
                        <a:pt x="595" y="523"/>
                      </a:lnTo>
                      <a:lnTo>
                        <a:pt x="568" y="550"/>
                      </a:lnTo>
                      <a:lnTo>
                        <a:pt x="531" y="578"/>
                      </a:lnTo>
                      <a:lnTo>
                        <a:pt x="504" y="595"/>
                      </a:lnTo>
                      <a:lnTo>
                        <a:pt x="466" y="623"/>
                      </a:lnTo>
                      <a:lnTo>
                        <a:pt x="430" y="641"/>
                      </a:lnTo>
                      <a:lnTo>
                        <a:pt x="394" y="660"/>
                      </a:lnTo>
                      <a:lnTo>
                        <a:pt x="357" y="678"/>
                      </a:lnTo>
                      <a:lnTo>
                        <a:pt x="311" y="688"/>
                      </a:lnTo>
                      <a:lnTo>
                        <a:pt x="274" y="697"/>
                      </a:lnTo>
                      <a:lnTo>
                        <a:pt x="266" y="697"/>
                      </a:lnTo>
                      <a:lnTo>
                        <a:pt x="266" y="705"/>
                      </a:lnTo>
                      <a:lnTo>
                        <a:pt x="257" y="705"/>
                      </a:lnTo>
                      <a:lnTo>
                        <a:pt x="247" y="705"/>
                      </a:lnTo>
                      <a:lnTo>
                        <a:pt x="239" y="705"/>
                      </a:lnTo>
                      <a:lnTo>
                        <a:pt x="229" y="697"/>
                      </a:lnTo>
                      <a:lnTo>
                        <a:pt x="220" y="697"/>
                      </a:lnTo>
                      <a:lnTo>
                        <a:pt x="211" y="697"/>
                      </a:lnTo>
                      <a:lnTo>
                        <a:pt x="201" y="697"/>
                      </a:lnTo>
                      <a:lnTo>
                        <a:pt x="192" y="697"/>
                      </a:lnTo>
                      <a:lnTo>
                        <a:pt x="183" y="697"/>
                      </a:lnTo>
                      <a:lnTo>
                        <a:pt x="174" y="697"/>
                      </a:lnTo>
                      <a:lnTo>
                        <a:pt x="164" y="705"/>
                      </a:lnTo>
                      <a:lnTo>
                        <a:pt x="156" y="697"/>
                      </a:lnTo>
                      <a:lnTo>
                        <a:pt x="147" y="688"/>
                      </a:lnTo>
                      <a:lnTo>
                        <a:pt x="137" y="678"/>
                      </a:lnTo>
                      <a:lnTo>
                        <a:pt x="119" y="678"/>
                      </a:lnTo>
                      <a:lnTo>
                        <a:pt x="110" y="670"/>
                      </a:lnTo>
                      <a:lnTo>
                        <a:pt x="102" y="660"/>
                      </a:lnTo>
                      <a:lnTo>
                        <a:pt x="82" y="650"/>
                      </a:lnTo>
                      <a:lnTo>
                        <a:pt x="73" y="641"/>
                      </a:lnTo>
                      <a:lnTo>
                        <a:pt x="64" y="641"/>
                      </a:lnTo>
                      <a:lnTo>
                        <a:pt x="46" y="632"/>
                      </a:lnTo>
                      <a:lnTo>
                        <a:pt x="37" y="623"/>
                      </a:lnTo>
                      <a:lnTo>
                        <a:pt x="27" y="613"/>
                      </a:lnTo>
                      <a:lnTo>
                        <a:pt x="19" y="605"/>
                      </a:lnTo>
                      <a:lnTo>
                        <a:pt x="9" y="586"/>
                      </a:lnTo>
                      <a:lnTo>
                        <a:pt x="9" y="578"/>
                      </a:lnTo>
                      <a:lnTo>
                        <a:pt x="0" y="568"/>
                      </a:lnTo>
                      <a:lnTo>
                        <a:pt x="0" y="550"/>
                      </a:lnTo>
                      <a:lnTo>
                        <a:pt x="0" y="541"/>
                      </a:lnTo>
                      <a:lnTo>
                        <a:pt x="0" y="532"/>
                      </a:lnTo>
                      <a:lnTo>
                        <a:pt x="0" y="523"/>
                      </a:lnTo>
                      <a:lnTo>
                        <a:pt x="0" y="513"/>
                      </a:lnTo>
                      <a:lnTo>
                        <a:pt x="0" y="503"/>
                      </a:lnTo>
                      <a:lnTo>
                        <a:pt x="0" y="495"/>
                      </a:lnTo>
                      <a:lnTo>
                        <a:pt x="0" y="476"/>
                      </a:lnTo>
                      <a:lnTo>
                        <a:pt x="0" y="468"/>
                      </a:lnTo>
                      <a:lnTo>
                        <a:pt x="0" y="458"/>
                      </a:lnTo>
                      <a:lnTo>
                        <a:pt x="0" y="449"/>
                      </a:lnTo>
                      <a:lnTo>
                        <a:pt x="9" y="440"/>
                      </a:lnTo>
                      <a:lnTo>
                        <a:pt x="9" y="431"/>
                      </a:lnTo>
                      <a:lnTo>
                        <a:pt x="9" y="422"/>
                      </a:lnTo>
                      <a:lnTo>
                        <a:pt x="19" y="413"/>
                      </a:lnTo>
                      <a:lnTo>
                        <a:pt x="19" y="404"/>
                      </a:lnTo>
                      <a:lnTo>
                        <a:pt x="37" y="384"/>
                      </a:lnTo>
                      <a:lnTo>
                        <a:pt x="46" y="366"/>
                      </a:lnTo>
                      <a:lnTo>
                        <a:pt x="54" y="348"/>
                      </a:lnTo>
                      <a:lnTo>
                        <a:pt x="73" y="329"/>
                      </a:lnTo>
                      <a:lnTo>
                        <a:pt x="82" y="312"/>
                      </a:lnTo>
                      <a:lnTo>
                        <a:pt x="92" y="294"/>
                      </a:lnTo>
                      <a:lnTo>
                        <a:pt x="110" y="275"/>
                      </a:lnTo>
                      <a:lnTo>
                        <a:pt x="119" y="257"/>
                      </a:lnTo>
                      <a:lnTo>
                        <a:pt x="129" y="238"/>
                      </a:lnTo>
                      <a:lnTo>
                        <a:pt x="137" y="219"/>
                      </a:lnTo>
                      <a:lnTo>
                        <a:pt x="147" y="202"/>
                      </a:lnTo>
                      <a:lnTo>
                        <a:pt x="156" y="184"/>
                      </a:lnTo>
                      <a:lnTo>
                        <a:pt x="164" y="165"/>
                      </a:lnTo>
                      <a:lnTo>
                        <a:pt x="174" y="147"/>
                      </a:lnTo>
                      <a:lnTo>
                        <a:pt x="183" y="128"/>
                      </a:lnTo>
                      <a:lnTo>
                        <a:pt x="192" y="109"/>
                      </a:lnTo>
                      <a:lnTo>
                        <a:pt x="201" y="92"/>
                      </a:lnTo>
                      <a:lnTo>
                        <a:pt x="211" y="82"/>
                      </a:lnTo>
                      <a:lnTo>
                        <a:pt x="220" y="73"/>
                      </a:lnTo>
                      <a:lnTo>
                        <a:pt x="229" y="64"/>
                      </a:lnTo>
                      <a:lnTo>
                        <a:pt x="247" y="55"/>
                      </a:lnTo>
                      <a:lnTo>
                        <a:pt x="257" y="46"/>
                      </a:lnTo>
                      <a:lnTo>
                        <a:pt x="274" y="37"/>
                      </a:lnTo>
                      <a:lnTo>
                        <a:pt x="293" y="37"/>
                      </a:lnTo>
                      <a:lnTo>
                        <a:pt x="311" y="28"/>
                      </a:lnTo>
                      <a:lnTo>
                        <a:pt x="320" y="28"/>
                      </a:lnTo>
                      <a:lnTo>
                        <a:pt x="339" y="28"/>
                      </a:lnTo>
                      <a:lnTo>
                        <a:pt x="357" y="18"/>
                      </a:lnTo>
                      <a:lnTo>
                        <a:pt x="367" y="18"/>
                      </a:lnTo>
                      <a:lnTo>
                        <a:pt x="384" y="10"/>
                      </a:lnTo>
                      <a:lnTo>
                        <a:pt x="403" y="10"/>
                      </a:lnTo>
                      <a:lnTo>
                        <a:pt x="412" y="0"/>
                      </a:lnTo>
                      <a:lnTo>
                        <a:pt x="439" y="0"/>
                      </a:lnTo>
                      <a:lnTo>
                        <a:pt x="458" y="0"/>
                      </a:lnTo>
                      <a:lnTo>
                        <a:pt x="476" y="0"/>
                      </a:lnTo>
                      <a:lnTo>
                        <a:pt x="504" y="0"/>
                      </a:lnTo>
                      <a:lnTo>
                        <a:pt x="522" y="10"/>
                      </a:lnTo>
                      <a:lnTo>
                        <a:pt x="540" y="10"/>
                      </a:lnTo>
                      <a:lnTo>
                        <a:pt x="558" y="18"/>
                      </a:lnTo>
                      <a:lnTo>
                        <a:pt x="576" y="28"/>
                      </a:lnTo>
                      <a:lnTo>
                        <a:pt x="595" y="37"/>
                      </a:lnTo>
                      <a:lnTo>
                        <a:pt x="614" y="37"/>
                      </a:lnTo>
                      <a:lnTo>
                        <a:pt x="632" y="46"/>
                      </a:lnTo>
                      <a:lnTo>
                        <a:pt x="650" y="55"/>
                      </a:lnTo>
                      <a:lnTo>
                        <a:pt x="668" y="64"/>
                      </a:lnTo>
                      <a:lnTo>
                        <a:pt x="686" y="73"/>
                      </a:lnTo>
                      <a:lnTo>
                        <a:pt x="705" y="82"/>
                      </a:lnTo>
                      <a:lnTo>
                        <a:pt x="723" y="92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484080" y="3267360"/>
                  <a:ext cx="14040" cy="75960"/>
                </a:xfrm>
                <a:custGeom>
                  <a:avLst/>
                  <a:gdLst/>
                  <a:ahLst/>
                  <a:rect l="l" t="t" r="r" b="b"/>
                  <a:pathLst>
                    <a:path w="37" h="192">
                      <a:moveTo>
                        <a:pt x="0" y="0"/>
                      </a:moveTo>
                      <a:lnTo>
                        <a:pt x="9" y="8"/>
                      </a:lnTo>
                      <a:lnTo>
                        <a:pt x="18" y="17"/>
                      </a:lnTo>
                      <a:lnTo>
                        <a:pt x="18" y="27"/>
                      </a:lnTo>
                      <a:lnTo>
                        <a:pt x="28" y="36"/>
                      </a:lnTo>
                      <a:lnTo>
                        <a:pt x="28" y="55"/>
                      </a:lnTo>
                      <a:lnTo>
                        <a:pt x="37" y="65"/>
                      </a:lnTo>
                      <a:lnTo>
                        <a:pt x="37" y="73"/>
                      </a:lnTo>
                      <a:lnTo>
                        <a:pt x="37" y="92"/>
                      </a:lnTo>
                      <a:lnTo>
                        <a:pt x="37" y="100"/>
                      </a:lnTo>
                      <a:lnTo>
                        <a:pt x="37" y="119"/>
                      </a:lnTo>
                      <a:lnTo>
                        <a:pt x="37" y="127"/>
                      </a:lnTo>
                      <a:lnTo>
                        <a:pt x="37" y="146"/>
                      </a:lnTo>
                      <a:lnTo>
                        <a:pt x="37" y="155"/>
                      </a:lnTo>
                      <a:lnTo>
                        <a:pt x="37" y="165"/>
                      </a:lnTo>
                      <a:lnTo>
                        <a:pt x="37" y="183"/>
                      </a:lnTo>
                      <a:lnTo>
                        <a:pt x="37" y="19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304080" y="3343320"/>
                  <a:ext cx="193680" cy="165600"/>
                </a:xfrm>
                <a:custGeom>
                  <a:avLst/>
                  <a:gdLst/>
                  <a:ahLst/>
                  <a:rect l="l" t="t" r="r" b="b"/>
                  <a:pathLst>
                    <a:path w="486" h="413">
                      <a:moveTo>
                        <a:pt x="486" y="0"/>
                      </a:moveTo>
                      <a:lnTo>
                        <a:pt x="467" y="37"/>
                      </a:lnTo>
                      <a:lnTo>
                        <a:pt x="449" y="73"/>
                      </a:lnTo>
                      <a:lnTo>
                        <a:pt x="431" y="110"/>
                      </a:lnTo>
                      <a:lnTo>
                        <a:pt x="404" y="147"/>
                      </a:lnTo>
                      <a:lnTo>
                        <a:pt x="385" y="174"/>
                      </a:lnTo>
                      <a:lnTo>
                        <a:pt x="358" y="211"/>
                      </a:lnTo>
                      <a:lnTo>
                        <a:pt x="321" y="239"/>
                      </a:lnTo>
                      <a:lnTo>
                        <a:pt x="294" y="266"/>
                      </a:lnTo>
                      <a:lnTo>
                        <a:pt x="257" y="294"/>
                      </a:lnTo>
                      <a:lnTo>
                        <a:pt x="230" y="311"/>
                      </a:lnTo>
                      <a:lnTo>
                        <a:pt x="192" y="339"/>
                      </a:lnTo>
                      <a:lnTo>
                        <a:pt x="156" y="357"/>
                      </a:lnTo>
                      <a:lnTo>
                        <a:pt x="120" y="376"/>
                      </a:lnTo>
                      <a:lnTo>
                        <a:pt x="83" y="394"/>
                      </a:lnTo>
                      <a:lnTo>
                        <a:pt x="37" y="404"/>
                      </a:lnTo>
                      <a:lnTo>
                        <a:pt x="0" y="413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3194640" y="3391560"/>
                  <a:ext cx="7560" cy="65520"/>
                </a:xfrm>
                <a:custGeom>
                  <a:avLst/>
                  <a:gdLst/>
                  <a:ahLst/>
                  <a:rect l="l" t="t" r="r" b="b"/>
                  <a:pathLst>
                    <a:path w="19" h="164">
                      <a:moveTo>
                        <a:pt x="0" y="164"/>
                      </a:moveTo>
                      <a:lnTo>
                        <a:pt x="0" y="146"/>
                      </a:lnTo>
                      <a:lnTo>
                        <a:pt x="0" y="137"/>
                      </a:lnTo>
                      <a:lnTo>
                        <a:pt x="0" y="128"/>
                      </a:lnTo>
                      <a:lnTo>
                        <a:pt x="0" y="119"/>
                      </a:lnTo>
                      <a:lnTo>
                        <a:pt x="0" y="109"/>
                      </a:lnTo>
                      <a:lnTo>
                        <a:pt x="0" y="99"/>
                      </a:lnTo>
                      <a:lnTo>
                        <a:pt x="0" y="91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0" y="45"/>
                      </a:lnTo>
                      <a:lnTo>
                        <a:pt x="9" y="36"/>
                      </a:lnTo>
                      <a:lnTo>
                        <a:pt x="9" y="27"/>
                      </a:lnTo>
                      <a:lnTo>
                        <a:pt x="9" y="18"/>
                      </a:lnTo>
                      <a:lnTo>
                        <a:pt x="19" y="9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3202200" y="3273840"/>
                  <a:ext cx="70200" cy="117360"/>
                </a:xfrm>
                <a:custGeom>
                  <a:avLst/>
                  <a:gdLst/>
                  <a:ahLst/>
                  <a:rect l="l" t="t" r="r" b="b"/>
                  <a:pathLst>
                    <a:path w="173" h="295">
                      <a:moveTo>
                        <a:pt x="0" y="295"/>
                      </a:move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35" y="239"/>
                      </a:lnTo>
                      <a:lnTo>
                        <a:pt x="54" y="220"/>
                      </a:lnTo>
                      <a:lnTo>
                        <a:pt x="63" y="203"/>
                      </a:lnTo>
                      <a:lnTo>
                        <a:pt x="73" y="185"/>
                      </a:lnTo>
                      <a:lnTo>
                        <a:pt x="91" y="166"/>
                      </a:lnTo>
                      <a:lnTo>
                        <a:pt x="100" y="148"/>
                      </a:lnTo>
                      <a:lnTo>
                        <a:pt x="110" y="129"/>
                      </a:lnTo>
                      <a:lnTo>
                        <a:pt x="118" y="110"/>
                      </a:lnTo>
                      <a:lnTo>
                        <a:pt x="128" y="93"/>
                      </a:lnTo>
                      <a:lnTo>
                        <a:pt x="137" y="75"/>
                      </a:lnTo>
                      <a:lnTo>
                        <a:pt x="145" y="56"/>
                      </a:lnTo>
                      <a:lnTo>
                        <a:pt x="155" y="38"/>
                      </a:lnTo>
                      <a:lnTo>
                        <a:pt x="164" y="19"/>
                      </a:lnTo>
                      <a:lnTo>
                        <a:pt x="17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3066120" y="3523320"/>
                  <a:ext cx="165600" cy="165600"/>
                </a:xfrm>
                <a:custGeom>
                  <a:avLst/>
                  <a:gdLst/>
                  <a:ahLst/>
                  <a:rect l="l" t="t" r="r" b="b"/>
                  <a:pathLst>
                    <a:path w="412" h="412">
                      <a:moveTo>
                        <a:pt x="412" y="18"/>
                      </a:moveTo>
                      <a:lnTo>
                        <a:pt x="402" y="18"/>
                      </a:lnTo>
                      <a:lnTo>
                        <a:pt x="393" y="27"/>
                      </a:lnTo>
                      <a:lnTo>
                        <a:pt x="384" y="36"/>
                      </a:lnTo>
                      <a:lnTo>
                        <a:pt x="374" y="36"/>
                      </a:lnTo>
                      <a:lnTo>
                        <a:pt x="366" y="46"/>
                      </a:lnTo>
                      <a:lnTo>
                        <a:pt x="357" y="46"/>
                      </a:lnTo>
                      <a:lnTo>
                        <a:pt x="357" y="55"/>
                      </a:lnTo>
                      <a:lnTo>
                        <a:pt x="347" y="55"/>
                      </a:lnTo>
                      <a:lnTo>
                        <a:pt x="339" y="65"/>
                      </a:lnTo>
                      <a:lnTo>
                        <a:pt x="329" y="65"/>
                      </a:lnTo>
                      <a:lnTo>
                        <a:pt x="320" y="74"/>
                      </a:lnTo>
                      <a:lnTo>
                        <a:pt x="312" y="82"/>
                      </a:lnTo>
                      <a:lnTo>
                        <a:pt x="293" y="101"/>
                      </a:lnTo>
                      <a:lnTo>
                        <a:pt x="275" y="110"/>
                      </a:lnTo>
                      <a:lnTo>
                        <a:pt x="256" y="128"/>
                      </a:lnTo>
                      <a:lnTo>
                        <a:pt x="237" y="137"/>
                      </a:lnTo>
                      <a:lnTo>
                        <a:pt x="219" y="156"/>
                      </a:lnTo>
                      <a:lnTo>
                        <a:pt x="202" y="174"/>
                      </a:lnTo>
                      <a:lnTo>
                        <a:pt x="183" y="184"/>
                      </a:lnTo>
                      <a:lnTo>
                        <a:pt x="174" y="202"/>
                      </a:lnTo>
                      <a:lnTo>
                        <a:pt x="155" y="221"/>
                      </a:lnTo>
                      <a:lnTo>
                        <a:pt x="137" y="238"/>
                      </a:lnTo>
                      <a:lnTo>
                        <a:pt x="119" y="256"/>
                      </a:lnTo>
                      <a:lnTo>
                        <a:pt x="109" y="275"/>
                      </a:lnTo>
                      <a:lnTo>
                        <a:pt x="92" y="293"/>
                      </a:lnTo>
                      <a:lnTo>
                        <a:pt x="82" y="311"/>
                      </a:lnTo>
                      <a:lnTo>
                        <a:pt x="64" y="331"/>
                      </a:lnTo>
                      <a:lnTo>
                        <a:pt x="55" y="348"/>
                      </a:lnTo>
                      <a:lnTo>
                        <a:pt x="45" y="348"/>
                      </a:lnTo>
                      <a:lnTo>
                        <a:pt x="45" y="358"/>
                      </a:lnTo>
                      <a:lnTo>
                        <a:pt x="37" y="366"/>
                      </a:lnTo>
                      <a:lnTo>
                        <a:pt x="37" y="376"/>
                      </a:lnTo>
                      <a:lnTo>
                        <a:pt x="28" y="376"/>
                      </a:lnTo>
                      <a:lnTo>
                        <a:pt x="28" y="385"/>
                      </a:lnTo>
                      <a:lnTo>
                        <a:pt x="28" y="394"/>
                      </a:lnTo>
                      <a:lnTo>
                        <a:pt x="18" y="403"/>
                      </a:lnTo>
                      <a:lnTo>
                        <a:pt x="18" y="412"/>
                      </a:lnTo>
                      <a:lnTo>
                        <a:pt x="18" y="403"/>
                      </a:lnTo>
                      <a:lnTo>
                        <a:pt x="10" y="403"/>
                      </a:lnTo>
                      <a:lnTo>
                        <a:pt x="10" y="394"/>
                      </a:lnTo>
                      <a:lnTo>
                        <a:pt x="0" y="394"/>
                      </a:lnTo>
                      <a:lnTo>
                        <a:pt x="10" y="385"/>
                      </a:lnTo>
                      <a:lnTo>
                        <a:pt x="10" y="376"/>
                      </a:lnTo>
                      <a:lnTo>
                        <a:pt x="10" y="358"/>
                      </a:lnTo>
                      <a:lnTo>
                        <a:pt x="18" y="348"/>
                      </a:lnTo>
                      <a:lnTo>
                        <a:pt x="28" y="339"/>
                      </a:lnTo>
                      <a:lnTo>
                        <a:pt x="28" y="331"/>
                      </a:lnTo>
                      <a:lnTo>
                        <a:pt x="37" y="321"/>
                      </a:lnTo>
                      <a:lnTo>
                        <a:pt x="45" y="311"/>
                      </a:lnTo>
                      <a:lnTo>
                        <a:pt x="55" y="303"/>
                      </a:lnTo>
                      <a:lnTo>
                        <a:pt x="64" y="293"/>
                      </a:lnTo>
                      <a:lnTo>
                        <a:pt x="73" y="284"/>
                      </a:lnTo>
                      <a:lnTo>
                        <a:pt x="82" y="275"/>
                      </a:lnTo>
                      <a:lnTo>
                        <a:pt x="92" y="266"/>
                      </a:lnTo>
                      <a:lnTo>
                        <a:pt x="100" y="256"/>
                      </a:lnTo>
                      <a:lnTo>
                        <a:pt x="109" y="248"/>
                      </a:lnTo>
                      <a:lnTo>
                        <a:pt x="119" y="238"/>
                      </a:lnTo>
                      <a:lnTo>
                        <a:pt x="127" y="221"/>
                      </a:lnTo>
                      <a:lnTo>
                        <a:pt x="147" y="211"/>
                      </a:lnTo>
                      <a:lnTo>
                        <a:pt x="165" y="193"/>
                      </a:lnTo>
                      <a:lnTo>
                        <a:pt x="174" y="174"/>
                      </a:lnTo>
                      <a:lnTo>
                        <a:pt x="192" y="164"/>
                      </a:lnTo>
                      <a:lnTo>
                        <a:pt x="210" y="146"/>
                      </a:lnTo>
                      <a:lnTo>
                        <a:pt x="219" y="128"/>
                      </a:lnTo>
                      <a:lnTo>
                        <a:pt x="237" y="119"/>
                      </a:lnTo>
                      <a:lnTo>
                        <a:pt x="256" y="101"/>
                      </a:lnTo>
                      <a:lnTo>
                        <a:pt x="275" y="82"/>
                      </a:lnTo>
                      <a:lnTo>
                        <a:pt x="284" y="74"/>
                      </a:lnTo>
                      <a:lnTo>
                        <a:pt x="302" y="55"/>
                      </a:lnTo>
                      <a:lnTo>
                        <a:pt x="320" y="36"/>
                      </a:lnTo>
                      <a:lnTo>
                        <a:pt x="339" y="27"/>
                      </a:lnTo>
                      <a:lnTo>
                        <a:pt x="347" y="9"/>
                      </a:lnTo>
                      <a:lnTo>
                        <a:pt x="366" y="0"/>
                      </a:lnTo>
                      <a:lnTo>
                        <a:pt x="374" y="0"/>
                      </a:lnTo>
                      <a:lnTo>
                        <a:pt x="384" y="0"/>
                      </a:lnTo>
                      <a:lnTo>
                        <a:pt x="393" y="9"/>
                      </a:lnTo>
                      <a:lnTo>
                        <a:pt x="402" y="9"/>
                      </a:lnTo>
                      <a:lnTo>
                        <a:pt x="412" y="1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3088440" y="3557160"/>
                  <a:ext cx="103680" cy="105840"/>
                </a:xfrm>
                <a:custGeom>
                  <a:avLst/>
                  <a:gdLst/>
                  <a:ahLst/>
                  <a:rect l="l" t="t" r="r" b="b"/>
                  <a:pathLst>
                    <a:path w="257" h="266">
                      <a:moveTo>
                        <a:pt x="257" y="0"/>
                      </a:moveTo>
                      <a:lnTo>
                        <a:pt x="238" y="19"/>
                      </a:lnTo>
                      <a:lnTo>
                        <a:pt x="220" y="28"/>
                      </a:lnTo>
                      <a:lnTo>
                        <a:pt x="201" y="46"/>
                      </a:lnTo>
                      <a:lnTo>
                        <a:pt x="182" y="55"/>
                      </a:lnTo>
                      <a:lnTo>
                        <a:pt x="164" y="74"/>
                      </a:lnTo>
                      <a:lnTo>
                        <a:pt x="147" y="92"/>
                      </a:lnTo>
                      <a:lnTo>
                        <a:pt x="128" y="102"/>
                      </a:lnTo>
                      <a:lnTo>
                        <a:pt x="119" y="120"/>
                      </a:lnTo>
                      <a:lnTo>
                        <a:pt x="100" y="139"/>
                      </a:lnTo>
                      <a:lnTo>
                        <a:pt x="82" y="156"/>
                      </a:lnTo>
                      <a:lnTo>
                        <a:pt x="64" y="174"/>
                      </a:lnTo>
                      <a:lnTo>
                        <a:pt x="54" y="193"/>
                      </a:lnTo>
                      <a:lnTo>
                        <a:pt x="37" y="211"/>
                      </a:lnTo>
                      <a:lnTo>
                        <a:pt x="27" y="229"/>
                      </a:lnTo>
                      <a:lnTo>
                        <a:pt x="9" y="249"/>
                      </a:lnTo>
                      <a:lnTo>
                        <a:pt x="0" y="26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3066120" y="3619080"/>
                  <a:ext cx="47880" cy="61560"/>
                </a:xfrm>
                <a:custGeom>
                  <a:avLst/>
                  <a:gdLst/>
                  <a:ahLst/>
                  <a:rect l="l" t="t" r="r" b="b"/>
                  <a:pathLst>
                    <a:path w="119" h="156">
                      <a:moveTo>
                        <a:pt x="0" y="156"/>
                      </a:moveTo>
                      <a:lnTo>
                        <a:pt x="10" y="147"/>
                      </a:lnTo>
                      <a:lnTo>
                        <a:pt x="10" y="138"/>
                      </a:lnTo>
                      <a:lnTo>
                        <a:pt x="10" y="120"/>
                      </a:lnTo>
                      <a:lnTo>
                        <a:pt x="18" y="110"/>
                      </a:lnTo>
                      <a:lnTo>
                        <a:pt x="28" y="101"/>
                      </a:lnTo>
                      <a:lnTo>
                        <a:pt x="28" y="93"/>
                      </a:lnTo>
                      <a:lnTo>
                        <a:pt x="37" y="83"/>
                      </a:lnTo>
                      <a:lnTo>
                        <a:pt x="45" y="73"/>
                      </a:lnTo>
                      <a:lnTo>
                        <a:pt x="55" y="65"/>
                      </a:lnTo>
                      <a:lnTo>
                        <a:pt x="64" y="55"/>
                      </a:lnTo>
                      <a:lnTo>
                        <a:pt x="73" y="46"/>
                      </a:lnTo>
                      <a:lnTo>
                        <a:pt x="82" y="37"/>
                      </a:lnTo>
                      <a:lnTo>
                        <a:pt x="92" y="28"/>
                      </a:lnTo>
                      <a:lnTo>
                        <a:pt x="100" y="18"/>
                      </a:lnTo>
                      <a:lnTo>
                        <a:pt x="109" y="10"/>
                      </a:lnTo>
                      <a:lnTo>
                        <a:pt x="11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114360" y="3523320"/>
                  <a:ext cx="100080" cy="95760"/>
                </a:xfrm>
                <a:custGeom>
                  <a:avLst/>
                  <a:gdLst/>
                  <a:ahLst/>
                  <a:rect l="l" t="t" r="r" b="b"/>
                  <a:pathLst>
                    <a:path w="247" h="238">
                      <a:moveTo>
                        <a:pt x="0" y="238"/>
                      </a:moveTo>
                      <a:lnTo>
                        <a:pt x="8" y="221"/>
                      </a:lnTo>
                      <a:lnTo>
                        <a:pt x="28" y="211"/>
                      </a:lnTo>
                      <a:lnTo>
                        <a:pt x="46" y="193"/>
                      </a:lnTo>
                      <a:lnTo>
                        <a:pt x="55" y="174"/>
                      </a:lnTo>
                      <a:lnTo>
                        <a:pt x="73" y="164"/>
                      </a:lnTo>
                      <a:lnTo>
                        <a:pt x="91" y="146"/>
                      </a:lnTo>
                      <a:lnTo>
                        <a:pt x="100" y="128"/>
                      </a:lnTo>
                      <a:lnTo>
                        <a:pt x="118" y="119"/>
                      </a:lnTo>
                      <a:lnTo>
                        <a:pt x="137" y="101"/>
                      </a:lnTo>
                      <a:lnTo>
                        <a:pt x="156" y="82"/>
                      </a:lnTo>
                      <a:lnTo>
                        <a:pt x="165" y="74"/>
                      </a:lnTo>
                      <a:lnTo>
                        <a:pt x="183" y="55"/>
                      </a:lnTo>
                      <a:lnTo>
                        <a:pt x="201" y="36"/>
                      </a:lnTo>
                      <a:lnTo>
                        <a:pt x="220" y="27"/>
                      </a:lnTo>
                      <a:lnTo>
                        <a:pt x="228" y="9"/>
                      </a:lnTo>
                      <a:lnTo>
                        <a:pt x="24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2764800" y="3680640"/>
                  <a:ext cx="961200" cy="1716840"/>
                </a:xfrm>
                <a:custGeom>
                  <a:avLst/>
                  <a:gdLst/>
                  <a:ahLst/>
                  <a:rect l="l" t="t" r="r" b="b"/>
                  <a:pathLst>
                    <a:path w="2406" h="4298">
                      <a:moveTo>
                        <a:pt x="722" y="36"/>
                      </a:moveTo>
                      <a:lnTo>
                        <a:pt x="722" y="46"/>
                      </a:lnTo>
                      <a:lnTo>
                        <a:pt x="731" y="56"/>
                      </a:lnTo>
                      <a:lnTo>
                        <a:pt x="741" y="56"/>
                      </a:lnTo>
                      <a:lnTo>
                        <a:pt x="741" y="64"/>
                      </a:lnTo>
                      <a:lnTo>
                        <a:pt x="749" y="64"/>
                      </a:lnTo>
                      <a:lnTo>
                        <a:pt x="759" y="74"/>
                      </a:lnTo>
                      <a:lnTo>
                        <a:pt x="769" y="74"/>
                      </a:lnTo>
                      <a:lnTo>
                        <a:pt x="777" y="74"/>
                      </a:lnTo>
                      <a:lnTo>
                        <a:pt x="787" y="74"/>
                      </a:lnTo>
                      <a:lnTo>
                        <a:pt x="796" y="74"/>
                      </a:lnTo>
                      <a:lnTo>
                        <a:pt x="804" y="64"/>
                      </a:lnTo>
                      <a:lnTo>
                        <a:pt x="814" y="64"/>
                      </a:lnTo>
                      <a:lnTo>
                        <a:pt x="823" y="56"/>
                      </a:lnTo>
                      <a:lnTo>
                        <a:pt x="832" y="46"/>
                      </a:lnTo>
                      <a:lnTo>
                        <a:pt x="832" y="36"/>
                      </a:lnTo>
                      <a:lnTo>
                        <a:pt x="841" y="36"/>
                      </a:lnTo>
                      <a:lnTo>
                        <a:pt x="841" y="27"/>
                      </a:lnTo>
                      <a:lnTo>
                        <a:pt x="851" y="27"/>
                      </a:lnTo>
                      <a:lnTo>
                        <a:pt x="851" y="18"/>
                      </a:lnTo>
                      <a:lnTo>
                        <a:pt x="851" y="9"/>
                      </a:lnTo>
                      <a:lnTo>
                        <a:pt x="859" y="9"/>
                      </a:lnTo>
                      <a:lnTo>
                        <a:pt x="859" y="18"/>
                      </a:lnTo>
                      <a:lnTo>
                        <a:pt x="868" y="18"/>
                      </a:lnTo>
                      <a:lnTo>
                        <a:pt x="868" y="27"/>
                      </a:lnTo>
                      <a:lnTo>
                        <a:pt x="878" y="36"/>
                      </a:lnTo>
                      <a:lnTo>
                        <a:pt x="886" y="46"/>
                      </a:lnTo>
                      <a:lnTo>
                        <a:pt x="886" y="56"/>
                      </a:lnTo>
                      <a:lnTo>
                        <a:pt x="896" y="56"/>
                      </a:lnTo>
                      <a:lnTo>
                        <a:pt x="896" y="64"/>
                      </a:lnTo>
                      <a:lnTo>
                        <a:pt x="906" y="64"/>
                      </a:lnTo>
                      <a:lnTo>
                        <a:pt x="906" y="74"/>
                      </a:lnTo>
                      <a:lnTo>
                        <a:pt x="914" y="74"/>
                      </a:lnTo>
                      <a:lnTo>
                        <a:pt x="924" y="92"/>
                      </a:lnTo>
                      <a:lnTo>
                        <a:pt x="933" y="101"/>
                      </a:lnTo>
                      <a:lnTo>
                        <a:pt x="951" y="110"/>
                      </a:lnTo>
                      <a:lnTo>
                        <a:pt x="961" y="119"/>
                      </a:lnTo>
                      <a:lnTo>
                        <a:pt x="969" y="128"/>
                      </a:lnTo>
                      <a:lnTo>
                        <a:pt x="988" y="138"/>
                      </a:lnTo>
                      <a:lnTo>
                        <a:pt x="996" y="146"/>
                      </a:lnTo>
                      <a:lnTo>
                        <a:pt x="1015" y="156"/>
                      </a:lnTo>
                      <a:lnTo>
                        <a:pt x="1024" y="165"/>
                      </a:lnTo>
                      <a:lnTo>
                        <a:pt x="1043" y="174"/>
                      </a:lnTo>
                      <a:lnTo>
                        <a:pt x="1052" y="184"/>
                      </a:lnTo>
                      <a:lnTo>
                        <a:pt x="1061" y="193"/>
                      </a:lnTo>
                      <a:lnTo>
                        <a:pt x="1079" y="211"/>
                      </a:lnTo>
                      <a:lnTo>
                        <a:pt x="1088" y="220"/>
                      </a:lnTo>
                      <a:lnTo>
                        <a:pt x="1098" y="229"/>
                      </a:lnTo>
                      <a:lnTo>
                        <a:pt x="1106" y="238"/>
                      </a:lnTo>
                      <a:lnTo>
                        <a:pt x="1116" y="248"/>
                      </a:lnTo>
                      <a:lnTo>
                        <a:pt x="1125" y="248"/>
                      </a:lnTo>
                      <a:lnTo>
                        <a:pt x="1133" y="256"/>
                      </a:lnTo>
                      <a:lnTo>
                        <a:pt x="1143" y="256"/>
                      </a:lnTo>
                      <a:lnTo>
                        <a:pt x="1152" y="256"/>
                      </a:lnTo>
                      <a:lnTo>
                        <a:pt x="1161" y="256"/>
                      </a:lnTo>
                      <a:lnTo>
                        <a:pt x="1171" y="256"/>
                      </a:lnTo>
                      <a:lnTo>
                        <a:pt x="1181" y="256"/>
                      </a:lnTo>
                      <a:lnTo>
                        <a:pt x="1189" y="248"/>
                      </a:lnTo>
                      <a:lnTo>
                        <a:pt x="1198" y="248"/>
                      </a:lnTo>
                      <a:lnTo>
                        <a:pt x="1208" y="248"/>
                      </a:lnTo>
                      <a:lnTo>
                        <a:pt x="1216" y="248"/>
                      </a:lnTo>
                      <a:lnTo>
                        <a:pt x="1226" y="238"/>
                      </a:lnTo>
                      <a:lnTo>
                        <a:pt x="1235" y="238"/>
                      </a:lnTo>
                      <a:lnTo>
                        <a:pt x="1243" y="238"/>
                      </a:lnTo>
                      <a:lnTo>
                        <a:pt x="1262" y="238"/>
                      </a:lnTo>
                      <a:lnTo>
                        <a:pt x="1271" y="238"/>
                      </a:lnTo>
                      <a:lnTo>
                        <a:pt x="1290" y="238"/>
                      </a:lnTo>
                      <a:lnTo>
                        <a:pt x="1308" y="238"/>
                      </a:lnTo>
                      <a:lnTo>
                        <a:pt x="1318" y="238"/>
                      </a:lnTo>
                      <a:lnTo>
                        <a:pt x="1336" y="238"/>
                      </a:lnTo>
                      <a:lnTo>
                        <a:pt x="1345" y="238"/>
                      </a:lnTo>
                      <a:lnTo>
                        <a:pt x="1363" y="238"/>
                      </a:lnTo>
                      <a:lnTo>
                        <a:pt x="1372" y="248"/>
                      </a:lnTo>
                      <a:lnTo>
                        <a:pt x="1390" y="248"/>
                      </a:lnTo>
                      <a:lnTo>
                        <a:pt x="1399" y="248"/>
                      </a:lnTo>
                      <a:lnTo>
                        <a:pt x="1418" y="256"/>
                      </a:lnTo>
                      <a:lnTo>
                        <a:pt x="1427" y="256"/>
                      </a:lnTo>
                      <a:lnTo>
                        <a:pt x="1446" y="256"/>
                      </a:lnTo>
                      <a:lnTo>
                        <a:pt x="1455" y="266"/>
                      </a:lnTo>
                      <a:lnTo>
                        <a:pt x="1473" y="266"/>
                      </a:lnTo>
                      <a:lnTo>
                        <a:pt x="1537" y="293"/>
                      </a:lnTo>
                      <a:lnTo>
                        <a:pt x="1601" y="330"/>
                      </a:lnTo>
                      <a:lnTo>
                        <a:pt x="1665" y="376"/>
                      </a:lnTo>
                      <a:lnTo>
                        <a:pt x="1729" y="412"/>
                      </a:lnTo>
                      <a:lnTo>
                        <a:pt x="1784" y="468"/>
                      </a:lnTo>
                      <a:lnTo>
                        <a:pt x="1830" y="513"/>
                      </a:lnTo>
                      <a:lnTo>
                        <a:pt x="1884" y="569"/>
                      </a:lnTo>
                      <a:lnTo>
                        <a:pt x="1930" y="632"/>
                      </a:lnTo>
                      <a:lnTo>
                        <a:pt x="1977" y="687"/>
                      </a:lnTo>
                      <a:lnTo>
                        <a:pt x="2022" y="752"/>
                      </a:lnTo>
                      <a:lnTo>
                        <a:pt x="2058" y="815"/>
                      </a:lnTo>
                      <a:lnTo>
                        <a:pt x="2104" y="880"/>
                      </a:lnTo>
                      <a:lnTo>
                        <a:pt x="2132" y="943"/>
                      </a:lnTo>
                      <a:lnTo>
                        <a:pt x="2168" y="1008"/>
                      </a:lnTo>
                      <a:lnTo>
                        <a:pt x="2196" y="1072"/>
                      </a:lnTo>
                      <a:lnTo>
                        <a:pt x="2224" y="1137"/>
                      </a:lnTo>
                      <a:lnTo>
                        <a:pt x="2242" y="1191"/>
                      </a:lnTo>
                      <a:lnTo>
                        <a:pt x="2259" y="1255"/>
                      </a:lnTo>
                      <a:lnTo>
                        <a:pt x="2278" y="1311"/>
                      </a:lnTo>
                      <a:lnTo>
                        <a:pt x="2296" y="1375"/>
                      </a:lnTo>
                      <a:lnTo>
                        <a:pt x="2314" y="1429"/>
                      </a:lnTo>
                      <a:lnTo>
                        <a:pt x="2323" y="1494"/>
                      </a:lnTo>
                      <a:lnTo>
                        <a:pt x="2342" y="1549"/>
                      </a:lnTo>
                      <a:lnTo>
                        <a:pt x="2352" y="1613"/>
                      </a:lnTo>
                      <a:lnTo>
                        <a:pt x="2361" y="1668"/>
                      </a:lnTo>
                      <a:lnTo>
                        <a:pt x="2369" y="1732"/>
                      </a:lnTo>
                      <a:lnTo>
                        <a:pt x="2379" y="1797"/>
                      </a:lnTo>
                      <a:lnTo>
                        <a:pt x="2388" y="1860"/>
                      </a:lnTo>
                      <a:lnTo>
                        <a:pt x="2397" y="1925"/>
                      </a:lnTo>
                      <a:lnTo>
                        <a:pt x="2397" y="1989"/>
                      </a:lnTo>
                      <a:lnTo>
                        <a:pt x="2397" y="2054"/>
                      </a:lnTo>
                      <a:lnTo>
                        <a:pt x="2397" y="2116"/>
                      </a:lnTo>
                      <a:lnTo>
                        <a:pt x="2397" y="2181"/>
                      </a:lnTo>
                      <a:lnTo>
                        <a:pt x="2406" y="2236"/>
                      </a:lnTo>
                      <a:lnTo>
                        <a:pt x="2406" y="2301"/>
                      </a:lnTo>
                      <a:lnTo>
                        <a:pt x="2397" y="2355"/>
                      </a:lnTo>
                      <a:lnTo>
                        <a:pt x="2397" y="2420"/>
                      </a:lnTo>
                      <a:lnTo>
                        <a:pt x="2397" y="2475"/>
                      </a:lnTo>
                      <a:lnTo>
                        <a:pt x="2397" y="2538"/>
                      </a:lnTo>
                      <a:lnTo>
                        <a:pt x="2397" y="2594"/>
                      </a:lnTo>
                      <a:lnTo>
                        <a:pt x="2388" y="2657"/>
                      </a:lnTo>
                      <a:lnTo>
                        <a:pt x="2388" y="2722"/>
                      </a:lnTo>
                      <a:lnTo>
                        <a:pt x="2388" y="2776"/>
                      </a:lnTo>
                      <a:lnTo>
                        <a:pt x="2379" y="2832"/>
                      </a:lnTo>
                      <a:lnTo>
                        <a:pt x="2369" y="2896"/>
                      </a:lnTo>
                      <a:lnTo>
                        <a:pt x="2369" y="2951"/>
                      </a:lnTo>
                      <a:lnTo>
                        <a:pt x="2361" y="3015"/>
                      </a:lnTo>
                      <a:lnTo>
                        <a:pt x="2352" y="3070"/>
                      </a:lnTo>
                      <a:lnTo>
                        <a:pt x="2342" y="3134"/>
                      </a:lnTo>
                      <a:lnTo>
                        <a:pt x="2323" y="3208"/>
                      </a:lnTo>
                      <a:lnTo>
                        <a:pt x="2306" y="3272"/>
                      </a:lnTo>
                      <a:lnTo>
                        <a:pt x="2287" y="3336"/>
                      </a:lnTo>
                      <a:lnTo>
                        <a:pt x="2269" y="3400"/>
                      </a:lnTo>
                      <a:lnTo>
                        <a:pt x="2251" y="3464"/>
                      </a:lnTo>
                      <a:lnTo>
                        <a:pt x="2232" y="3528"/>
                      </a:lnTo>
                      <a:lnTo>
                        <a:pt x="2214" y="3593"/>
                      </a:lnTo>
                      <a:lnTo>
                        <a:pt x="2196" y="3656"/>
                      </a:lnTo>
                      <a:lnTo>
                        <a:pt x="2177" y="3720"/>
                      </a:lnTo>
                      <a:lnTo>
                        <a:pt x="2150" y="3785"/>
                      </a:lnTo>
                      <a:lnTo>
                        <a:pt x="2132" y="3849"/>
                      </a:lnTo>
                      <a:lnTo>
                        <a:pt x="2104" y="3913"/>
                      </a:lnTo>
                      <a:lnTo>
                        <a:pt x="2077" y="3977"/>
                      </a:lnTo>
                      <a:lnTo>
                        <a:pt x="2058" y="4042"/>
                      </a:lnTo>
                      <a:lnTo>
                        <a:pt x="2031" y="4096"/>
                      </a:lnTo>
                      <a:lnTo>
                        <a:pt x="2031" y="4106"/>
                      </a:lnTo>
                      <a:lnTo>
                        <a:pt x="2022" y="4114"/>
                      </a:lnTo>
                      <a:lnTo>
                        <a:pt x="2022" y="4134"/>
                      </a:lnTo>
                      <a:lnTo>
                        <a:pt x="2012" y="4142"/>
                      </a:lnTo>
                      <a:lnTo>
                        <a:pt x="2012" y="4152"/>
                      </a:lnTo>
                      <a:lnTo>
                        <a:pt x="2012" y="4161"/>
                      </a:lnTo>
                      <a:lnTo>
                        <a:pt x="2012" y="4169"/>
                      </a:lnTo>
                      <a:lnTo>
                        <a:pt x="2004" y="4179"/>
                      </a:lnTo>
                      <a:lnTo>
                        <a:pt x="2004" y="4188"/>
                      </a:lnTo>
                      <a:lnTo>
                        <a:pt x="2004" y="4197"/>
                      </a:lnTo>
                      <a:lnTo>
                        <a:pt x="1994" y="4206"/>
                      </a:lnTo>
                      <a:lnTo>
                        <a:pt x="1994" y="4215"/>
                      </a:lnTo>
                      <a:lnTo>
                        <a:pt x="1985" y="4224"/>
                      </a:lnTo>
                      <a:lnTo>
                        <a:pt x="1985" y="4233"/>
                      </a:lnTo>
                      <a:lnTo>
                        <a:pt x="1977" y="4243"/>
                      </a:lnTo>
                      <a:lnTo>
                        <a:pt x="1977" y="4252"/>
                      </a:lnTo>
                      <a:lnTo>
                        <a:pt x="1977" y="4261"/>
                      </a:lnTo>
                      <a:lnTo>
                        <a:pt x="1967" y="4261"/>
                      </a:lnTo>
                      <a:lnTo>
                        <a:pt x="1967" y="4271"/>
                      </a:lnTo>
                      <a:lnTo>
                        <a:pt x="1958" y="4271"/>
                      </a:lnTo>
                      <a:lnTo>
                        <a:pt x="1958" y="4279"/>
                      </a:lnTo>
                      <a:lnTo>
                        <a:pt x="1949" y="4279"/>
                      </a:lnTo>
                      <a:lnTo>
                        <a:pt x="1939" y="4279"/>
                      </a:lnTo>
                      <a:lnTo>
                        <a:pt x="1930" y="4279"/>
                      </a:lnTo>
                      <a:lnTo>
                        <a:pt x="1921" y="4289"/>
                      </a:lnTo>
                      <a:lnTo>
                        <a:pt x="1912" y="4289"/>
                      </a:lnTo>
                      <a:lnTo>
                        <a:pt x="1902" y="4289"/>
                      </a:lnTo>
                      <a:lnTo>
                        <a:pt x="1894" y="4289"/>
                      </a:lnTo>
                      <a:lnTo>
                        <a:pt x="1884" y="4289"/>
                      </a:lnTo>
                      <a:lnTo>
                        <a:pt x="1875" y="4289"/>
                      </a:lnTo>
                      <a:lnTo>
                        <a:pt x="1867" y="4289"/>
                      </a:lnTo>
                      <a:lnTo>
                        <a:pt x="1857" y="4289"/>
                      </a:lnTo>
                      <a:lnTo>
                        <a:pt x="1857" y="4298"/>
                      </a:lnTo>
                      <a:lnTo>
                        <a:pt x="1848" y="4298"/>
                      </a:lnTo>
                      <a:lnTo>
                        <a:pt x="1839" y="4298"/>
                      </a:lnTo>
                      <a:lnTo>
                        <a:pt x="1830" y="4298"/>
                      </a:lnTo>
                      <a:lnTo>
                        <a:pt x="1820" y="4289"/>
                      </a:lnTo>
                      <a:lnTo>
                        <a:pt x="1811" y="4289"/>
                      </a:lnTo>
                      <a:lnTo>
                        <a:pt x="1738" y="4206"/>
                      </a:lnTo>
                      <a:lnTo>
                        <a:pt x="1665" y="4114"/>
                      </a:lnTo>
                      <a:lnTo>
                        <a:pt x="1601" y="4023"/>
                      </a:lnTo>
                      <a:lnTo>
                        <a:pt x="1537" y="3932"/>
                      </a:lnTo>
                      <a:lnTo>
                        <a:pt x="1473" y="3839"/>
                      </a:lnTo>
                      <a:lnTo>
                        <a:pt x="1408" y="3748"/>
                      </a:lnTo>
                      <a:lnTo>
                        <a:pt x="1345" y="3656"/>
                      </a:lnTo>
                      <a:lnTo>
                        <a:pt x="1290" y="3564"/>
                      </a:lnTo>
                      <a:lnTo>
                        <a:pt x="1235" y="3464"/>
                      </a:lnTo>
                      <a:lnTo>
                        <a:pt x="1171" y="3372"/>
                      </a:lnTo>
                      <a:lnTo>
                        <a:pt x="1116" y="3280"/>
                      </a:lnTo>
                      <a:lnTo>
                        <a:pt x="1061" y="3180"/>
                      </a:lnTo>
                      <a:lnTo>
                        <a:pt x="1006" y="3088"/>
                      </a:lnTo>
                      <a:lnTo>
                        <a:pt x="951" y="2996"/>
                      </a:lnTo>
                      <a:lnTo>
                        <a:pt x="886" y="2896"/>
                      </a:lnTo>
                      <a:lnTo>
                        <a:pt x="832" y="2804"/>
                      </a:lnTo>
                      <a:lnTo>
                        <a:pt x="787" y="2731"/>
                      </a:lnTo>
                      <a:lnTo>
                        <a:pt x="731" y="2657"/>
                      </a:lnTo>
                      <a:lnTo>
                        <a:pt x="686" y="2585"/>
                      </a:lnTo>
                      <a:lnTo>
                        <a:pt x="640" y="2510"/>
                      </a:lnTo>
                      <a:lnTo>
                        <a:pt x="594" y="2438"/>
                      </a:lnTo>
                      <a:lnTo>
                        <a:pt x="549" y="2355"/>
                      </a:lnTo>
                      <a:lnTo>
                        <a:pt x="494" y="2283"/>
                      </a:lnTo>
                      <a:lnTo>
                        <a:pt x="447" y="2209"/>
                      </a:lnTo>
                      <a:lnTo>
                        <a:pt x="402" y="2135"/>
                      </a:lnTo>
                      <a:lnTo>
                        <a:pt x="356" y="2062"/>
                      </a:lnTo>
                      <a:lnTo>
                        <a:pt x="319" y="1979"/>
                      </a:lnTo>
                      <a:lnTo>
                        <a:pt x="274" y="1907"/>
                      </a:lnTo>
                      <a:lnTo>
                        <a:pt x="228" y="1824"/>
                      </a:lnTo>
                      <a:lnTo>
                        <a:pt x="192" y="1750"/>
                      </a:lnTo>
                      <a:lnTo>
                        <a:pt x="155" y="1668"/>
                      </a:lnTo>
                      <a:lnTo>
                        <a:pt x="118" y="1595"/>
                      </a:lnTo>
                      <a:lnTo>
                        <a:pt x="110" y="1558"/>
                      </a:lnTo>
                      <a:lnTo>
                        <a:pt x="100" y="1531"/>
                      </a:lnTo>
                      <a:lnTo>
                        <a:pt x="82" y="1494"/>
                      </a:lnTo>
                      <a:lnTo>
                        <a:pt x="72" y="1457"/>
                      </a:lnTo>
                      <a:lnTo>
                        <a:pt x="63" y="1429"/>
                      </a:lnTo>
                      <a:lnTo>
                        <a:pt x="54" y="1394"/>
                      </a:lnTo>
                      <a:lnTo>
                        <a:pt x="54" y="1356"/>
                      </a:lnTo>
                      <a:lnTo>
                        <a:pt x="45" y="1319"/>
                      </a:lnTo>
                      <a:lnTo>
                        <a:pt x="36" y="1292"/>
                      </a:lnTo>
                      <a:lnTo>
                        <a:pt x="36" y="1255"/>
                      </a:lnTo>
                      <a:lnTo>
                        <a:pt x="36" y="1219"/>
                      </a:lnTo>
                      <a:lnTo>
                        <a:pt x="27" y="1182"/>
                      </a:lnTo>
                      <a:lnTo>
                        <a:pt x="27" y="1145"/>
                      </a:lnTo>
                      <a:lnTo>
                        <a:pt x="36" y="1110"/>
                      </a:lnTo>
                      <a:lnTo>
                        <a:pt x="36" y="1072"/>
                      </a:lnTo>
                      <a:lnTo>
                        <a:pt x="45" y="1035"/>
                      </a:lnTo>
                      <a:lnTo>
                        <a:pt x="36" y="953"/>
                      </a:lnTo>
                      <a:lnTo>
                        <a:pt x="27" y="862"/>
                      </a:lnTo>
                      <a:lnTo>
                        <a:pt x="8" y="779"/>
                      </a:lnTo>
                      <a:lnTo>
                        <a:pt x="0" y="687"/>
                      </a:lnTo>
                      <a:lnTo>
                        <a:pt x="8" y="605"/>
                      </a:lnTo>
                      <a:lnTo>
                        <a:pt x="18" y="577"/>
                      </a:lnTo>
                      <a:lnTo>
                        <a:pt x="100" y="450"/>
                      </a:lnTo>
                      <a:lnTo>
                        <a:pt x="192" y="348"/>
                      </a:lnTo>
                      <a:lnTo>
                        <a:pt x="302" y="248"/>
                      </a:lnTo>
                      <a:lnTo>
                        <a:pt x="420" y="165"/>
                      </a:lnTo>
                      <a:lnTo>
                        <a:pt x="539" y="83"/>
                      </a:lnTo>
                      <a:lnTo>
                        <a:pt x="585" y="64"/>
                      </a:lnTo>
                      <a:lnTo>
                        <a:pt x="603" y="56"/>
                      </a:lnTo>
                      <a:lnTo>
                        <a:pt x="631" y="36"/>
                      </a:lnTo>
                      <a:lnTo>
                        <a:pt x="649" y="27"/>
                      </a:lnTo>
                      <a:lnTo>
                        <a:pt x="677" y="9"/>
                      </a:lnTo>
                      <a:lnTo>
                        <a:pt x="695" y="0"/>
                      </a:lnTo>
                      <a:lnTo>
                        <a:pt x="704" y="0"/>
                      </a:lnTo>
                      <a:lnTo>
                        <a:pt x="722" y="36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3128400" y="3710520"/>
                  <a:ext cx="77760" cy="65880"/>
                </a:xfrm>
                <a:custGeom>
                  <a:avLst/>
                  <a:gdLst/>
                  <a:ahLst/>
                  <a:rect l="l" t="t" r="r" b="b"/>
                  <a:pathLst>
                    <a:path w="192" h="164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9" y="27"/>
                      </a:lnTo>
                      <a:lnTo>
                        <a:pt x="37" y="36"/>
                      </a:lnTo>
                      <a:lnTo>
                        <a:pt x="47" y="45"/>
                      </a:lnTo>
                      <a:lnTo>
                        <a:pt x="55" y="54"/>
                      </a:lnTo>
                      <a:lnTo>
                        <a:pt x="74" y="64"/>
                      </a:lnTo>
                      <a:lnTo>
                        <a:pt x="82" y="72"/>
                      </a:lnTo>
                      <a:lnTo>
                        <a:pt x="101" y="82"/>
                      </a:lnTo>
                      <a:lnTo>
                        <a:pt x="110" y="91"/>
                      </a:lnTo>
                      <a:lnTo>
                        <a:pt x="129" y="100"/>
                      </a:lnTo>
                      <a:lnTo>
                        <a:pt x="138" y="110"/>
                      </a:lnTo>
                      <a:lnTo>
                        <a:pt x="147" y="119"/>
                      </a:lnTo>
                      <a:lnTo>
                        <a:pt x="165" y="137"/>
                      </a:lnTo>
                      <a:lnTo>
                        <a:pt x="174" y="146"/>
                      </a:lnTo>
                      <a:lnTo>
                        <a:pt x="184" y="155"/>
                      </a:lnTo>
                      <a:lnTo>
                        <a:pt x="192" y="16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3352320" y="3786840"/>
                  <a:ext cx="299880" cy="347040"/>
                </a:xfrm>
                <a:custGeom>
                  <a:avLst/>
                  <a:gdLst/>
                  <a:ahLst/>
                  <a:rect l="l" t="t" r="r" b="b"/>
                  <a:pathLst>
                    <a:path w="751" h="871">
                      <a:moveTo>
                        <a:pt x="0" y="0"/>
                      </a:moveTo>
                      <a:lnTo>
                        <a:pt x="64" y="27"/>
                      </a:lnTo>
                      <a:lnTo>
                        <a:pt x="128" y="64"/>
                      </a:lnTo>
                      <a:lnTo>
                        <a:pt x="192" y="110"/>
                      </a:lnTo>
                      <a:lnTo>
                        <a:pt x="256" y="146"/>
                      </a:lnTo>
                      <a:lnTo>
                        <a:pt x="311" y="202"/>
                      </a:lnTo>
                      <a:lnTo>
                        <a:pt x="357" y="247"/>
                      </a:lnTo>
                      <a:lnTo>
                        <a:pt x="411" y="303"/>
                      </a:lnTo>
                      <a:lnTo>
                        <a:pt x="457" y="366"/>
                      </a:lnTo>
                      <a:lnTo>
                        <a:pt x="504" y="421"/>
                      </a:lnTo>
                      <a:lnTo>
                        <a:pt x="549" y="486"/>
                      </a:lnTo>
                      <a:lnTo>
                        <a:pt x="585" y="549"/>
                      </a:lnTo>
                      <a:lnTo>
                        <a:pt x="631" y="614"/>
                      </a:lnTo>
                      <a:lnTo>
                        <a:pt x="659" y="677"/>
                      </a:lnTo>
                      <a:lnTo>
                        <a:pt x="695" y="742"/>
                      </a:lnTo>
                      <a:lnTo>
                        <a:pt x="723" y="806"/>
                      </a:lnTo>
                      <a:lnTo>
                        <a:pt x="751" y="87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3652200" y="4133880"/>
                  <a:ext cx="69480" cy="391320"/>
                </a:xfrm>
                <a:custGeom>
                  <a:avLst/>
                  <a:gdLst/>
                  <a:ahLst/>
                  <a:rect l="l" t="t" r="r" b="b"/>
                  <a:pathLst>
                    <a:path w="173" h="979">
                      <a:moveTo>
                        <a:pt x="0" y="0"/>
                      </a:moveTo>
                      <a:lnTo>
                        <a:pt x="18" y="54"/>
                      </a:lnTo>
                      <a:lnTo>
                        <a:pt x="35" y="118"/>
                      </a:lnTo>
                      <a:lnTo>
                        <a:pt x="54" y="174"/>
                      </a:lnTo>
                      <a:lnTo>
                        <a:pt x="72" y="238"/>
                      </a:lnTo>
                      <a:lnTo>
                        <a:pt x="90" y="292"/>
                      </a:lnTo>
                      <a:lnTo>
                        <a:pt x="99" y="357"/>
                      </a:lnTo>
                      <a:lnTo>
                        <a:pt x="118" y="412"/>
                      </a:lnTo>
                      <a:lnTo>
                        <a:pt x="128" y="476"/>
                      </a:lnTo>
                      <a:lnTo>
                        <a:pt x="137" y="531"/>
                      </a:lnTo>
                      <a:lnTo>
                        <a:pt x="145" y="595"/>
                      </a:lnTo>
                      <a:lnTo>
                        <a:pt x="155" y="660"/>
                      </a:lnTo>
                      <a:lnTo>
                        <a:pt x="164" y="723"/>
                      </a:lnTo>
                      <a:lnTo>
                        <a:pt x="173" y="788"/>
                      </a:lnTo>
                      <a:lnTo>
                        <a:pt x="173" y="852"/>
                      </a:lnTo>
                      <a:lnTo>
                        <a:pt x="173" y="917"/>
                      </a:lnTo>
                      <a:lnTo>
                        <a:pt x="173" y="97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704040" y="4525560"/>
                  <a:ext cx="21960" cy="380880"/>
                </a:xfrm>
                <a:custGeom>
                  <a:avLst/>
                  <a:gdLst/>
                  <a:ahLst/>
                  <a:rect l="l" t="t" r="r" b="b"/>
                  <a:pathLst>
                    <a:path w="54" h="954">
                      <a:moveTo>
                        <a:pt x="45" y="0"/>
                      </a:moveTo>
                      <a:lnTo>
                        <a:pt x="45" y="65"/>
                      </a:lnTo>
                      <a:lnTo>
                        <a:pt x="54" y="120"/>
                      </a:lnTo>
                      <a:lnTo>
                        <a:pt x="54" y="185"/>
                      </a:lnTo>
                      <a:lnTo>
                        <a:pt x="45" y="239"/>
                      </a:lnTo>
                      <a:lnTo>
                        <a:pt x="45" y="304"/>
                      </a:lnTo>
                      <a:lnTo>
                        <a:pt x="45" y="359"/>
                      </a:lnTo>
                      <a:lnTo>
                        <a:pt x="45" y="422"/>
                      </a:lnTo>
                      <a:lnTo>
                        <a:pt x="45" y="478"/>
                      </a:lnTo>
                      <a:lnTo>
                        <a:pt x="36" y="541"/>
                      </a:lnTo>
                      <a:lnTo>
                        <a:pt x="36" y="606"/>
                      </a:lnTo>
                      <a:lnTo>
                        <a:pt x="36" y="660"/>
                      </a:lnTo>
                      <a:lnTo>
                        <a:pt x="27" y="716"/>
                      </a:lnTo>
                      <a:lnTo>
                        <a:pt x="17" y="780"/>
                      </a:lnTo>
                      <a:lnTo>
                        <a:pt x="17" y="835"/>
                      </a:lnTo>
                      <a:lnTo>
                        <a:pt x="9" y="899"/>
                      </a:lnTo>
                      <a:lnTo>
                        <a:pt x="0" y="95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3576240" y="4906800"/>
                  <a:ext cx="127800" cy="408960"/>
                </a:xfrm>
                <a:custGeom>
                  <a:avLst/>
                  <a:gdLst/>
                  <a:ahLst/>
                  <a:rect l="l" t="t" r="r" b="b"/>
                  <a:pathLst>
                    <a:path w="321" h="1026">
                      <a:moveTo>
                        <a:pt x="321" y="0"/>
                      </a:moveTo>
                      <a:lnTo>
                        <a:pt x="311" y="64"/>
                      </a:lnTo>
                      <a:lnTo>
                        <a:pt x="292" y="138"/>
                      </a:lnTo>
                      <a:lnTo>
                        <a:pt x="275" y="202"/>
                      </a:lnTo>
                      <a:lnTo>
                        <a:pt x="256" y="266"/>
                      </a:lnTo>
                      <a:lnTo>
                        <a:pt x="238" y="330"/>
                      </a:lnTo>
                      <a:lnTo>
                        <a:pt x="220" y="394"/>
                      </a:lnTo>
                      <a:lnTo>
                        <a:pt x="201" y="458"/>
                      </a:lnTo>
                      <a:lnTo>
                        <a:pt x="183" y="523"/>
                      </a:lnTo>
                      <a:lnTo>
                        <a:pt x="165" y="586"/>
                      </a:lnTo>
                      <a:lnTo>
                        <a:pt x="146" y="650"/>
                      </a:lnTo>
                      <a:lnTo>
                        <a:pt x="119" y="715"/>
                      </a:lnTo>
                      <a:lnTo>
                        <a:pt x="101" y="779"/>
                      </a:lnTo>
                      <a:lnTo>
                        <a:pt x="73" y="843"/>
                      </a:lnTo>
                      <a:lnTo>
                        <a:pt x="46" y="907"/>
                      </a:lnTo>
                      <a:lnTo>
                        <a:pt x="27" y="972"/>
                      </a:lnTo>
                      <a:lnTo>
                        <a:pt x="0" y="102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3553920" y="5315760"/>
                  <a:ext cx="21960" cy="61920"/>
                </a:xfrm>
                <a:custGeom>
                  <a:avLst/>
                  <a:gdLst/>
                  <a:ahLst/>
                  <a:rect l="l" t="t" r="r" b="b"/>
                  <a:pathLst>
                    <a:path w="54" h="156">
                      <a:moveTo>
                        <a:pt x="54" y="0"/>
                      </a:moveTo>
                      <a:lnTo>
                        <a:pt x="54" y="10"/>
                      </a:lnTo>
                      <a:lnTo>
                        <a:pt x="45" y="18"/>
                      </a:lnTo>
                      <a:lnTo>
                        <a:pt x="45" y="38"/>
                      </a:lnTo>
                      <a:lnTo>
                        <a:pt x="35" y="46"/>
                      </a:lnTo>
                      <a:lnTo>
                        <a:pt x="35" y="56"/>
                      </a:lnTo>
                      <a:lnTo>
                        <a:pt x="35" y="65"/>
                      </a:lnTo>
                      <a:lnTo>
                        <a:pt x="35" y="73"/>
                      </a:lnTo>
                      <a:lnTo>
                        <a:pt x="27" y="83"/>
                      </a:lnTo>
                      <a:lnTo>
                        <a:pt x="27" y="92"/>
                      </a:lnTo>
                      <a:lnTo>
                        <a:pt x="27" y="101"/>
                      </a:lnTo>
                      <a:lnTo>
                        <a:pt x="17" y="110"/>
                      </a:lnTo>
                      <a:lnTo>
                        <a:pt x="17" y="119"/>
                      </a:lnTo>
                      <a:lnTo>
                        <a:pt x="8" y="128"/>
                      </a:lnTo>
                      <a:lnTo>
                        <a:pt x="8" y="137"/>
                      </a:lnTo>
                      <a:lnTo>
                        <a:pt x="0" y="147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3096720" y="4800600"/>
                  <a:ext cx="391320" cy="592920"/>
                </a:xfrm>
                <a:custGeom>
                  <a:avLst/>
                  <a:gdLst/>
                  <a:ahLst/>
                  <a:rect l="l" t="t" r="r" b="b"/>
                  <a:pathLst>
                    <a:path w="979" h="1485">
                      <a:moveTo>
                        <a:pt x="979" y="1485"/>
                      </a:moveTo>
                      <a:lnTo>
                        <a:pt x="906" y="1402"/>
                      </a:lnTo>
                      <a:lnTo>
                        <a:pt x="833" y="1310"/>
                      </a:lnTo>
                      <a:lnTo>
                        <a:pt x="769" y="1219"/>
                      </a:lnTo>
                      <a:lnTo>
                        <a:pt x="705" y="1128"/>
                      </a:lnTo>
                      <a:lnTo>
                        <a:pt x="641" y="1035"/>
                      </a:lnTo>
                      <a:lnTo>
                        <a:pt x="576" y="944"/>
                      </a:lnTo>
                      <a:lnTo>
                        <a:pt x="513" y="852"/>
                      </a:lnTo>
                      <a:lnTo>
                        <a:pt x="458" y="760"/>
                      </a:lnTo>
                      <a:lnTo>
                        <a:pt x="403" y="660"/>
                      </a:lnTo>
                      <a:lnTo>
                        <a:pt x="339" y="568"/>
                      </a:lnTo>
                      <a:lnTo>
                        <a:pt x="284" y="476"/>
                      </a:lnTo>
                      <a:lnTo>
                        <a:pt x="229" y="376"/>
                      </a:lnTo>
                      <a:lnTo>
                        <a:pt x="174" y="284"/>
                      </a:lnTo>
                      <a:lnTo>
                        <a:pt x="119" y="192"/>
                      </a:lnTo>
                      <a:lnTo>
                        <a:pt x="54" y="9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2810520" y="4317840"/>
                  <a:ext cx="285840" cy="482760"/>
                </a:xfrm>
                <a:custGeom>
                  <a:avLst/>
                  <a:gdLst/>
                  <a:ahLst/>
                  <a:rect l="l" t="t" r="r" b="b"/>
                  <a:pathLst>
                    <a:path w="714" h="1209">
                      <a:moveTo>
                        <a:pt x="714" y="1209"/>
                      </a:moveTo>
                      <a:lnTo>
                        <a:pt x="669" y="1136"/>
                      </a:lnTo>
                      <a:lnTo>
                        <a:pt x="613" y="1062"/>
                      </a:lnTo>
                      <a:lnTo>
                        <a:pt x="568" y="990"/>
                      </a:lnTo>
                      <a:lnTo>
                        <a:pt x="522" y="915"/>
                      </a:lnTo>
                      <a:lnTo>
                        <a:pt x="476" y="843"/>
                      </a:lnTo>
                      <a:lnTo>
                        <a:pt x="431" y="760"/>
                      </a:lnTo>
                      <a:lnTo>
                        <a:pt x="376" y="688"/>
                      </a:lnTo>
                      <a:lnTo>
                        <a:pt x="329" y="614"/>
                      </a:lnTo>
                      <a:lnTo>
                        <a:pt x="284" y="540"/>
                      </a:lnTo>
                      <a:lnTo>
                        <a:pt x="238" y="467"/>
                      </a:lnTo>
                      <a:lnTo>
                        <a:pt x="201" y="384"/>
                      </a:lnTo>
                      <a:lnTo>
                        <a:pt x="156" y="312"/>
                      </a:lnTo>
                      <a:lnTo>
                        <a:pt x="110" y="229"/>
                      </a:lnTo>
                      <a:lnTo>
                        <a:pt x="74" y="155"/>
                      </a:lnTo>
                      <a:lnTo>
                        <a:pt x="37" y="7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2774880" y="4093920"/>
                  <a:ext cx="35640" cy="223560"/>
                </a:xfrm>
                <a:custGeom>
                  <a:avLst/>
                  <a:gdLst/>
                  <a:ahLst/>
                  <a:rect l="l" t="t" r="r" b="b"/>
                  <a:pathLst>
                    <a:path w="91" h="560">
                      <a:moveTo>
                        <a:pt x="91" y="560"/>
                      </a:moveTo>
                      <a:lnTo>
                        <a:pt x="83" y="523"/>
                      </a:lnTo>
                      <a:lnTo>
                        <a:pt x="73" y="496"/>
                      </a:lnTo>
                      <a:lnTo>
                        <a:pt x="55" y="459"/>
                      </a:lnTo>
                      <a:lnTo>
                        <a:pt x="45" y="422"/>
                      </a:lnTo>
                      <a:lnTo>
                        <a:pt x="36" y="394"/>
                      </a:lnTo>
                      <a:lnTo>
                        <a:pt x="27" y="359"/>
                      </a:lnTo>
                      <a:lnTo>
                        <a:pt x="27" y="321"/>
                      </a:lnTo>
                      <a:lnTo>
                        <a:pt x="18" y="284"/>
                      </a:lnTo>
                      <a:lnTo>
                        <a:pt x="9" y="257"/>
                      </a:lnTo>
                      <a:lnTo>
                        <a:pt x="9" y="220"/>
                      </a:lnTo>
                      <a:lnTo>
                        <a:pt x="9" y="184"/>
                      </a:lnTo>
                      <a:lnTo>
                        <a:pt x="0" y="147"/>
                      </a:lnTo>
                      <a:lnTo>
                        <a:pt x="0" y="110"/>
                      </a:lnTo>
                      <a:lnTo>
                        <a:pt x="9" y="75"/>
                      </a:lnTo>
                      <a:lnTo>
                        <a:pt x="9" y="3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2764800" y="3910320"/>
                  <a:ext cx="17640" cy="183600"/>
                </a:xfrm>
                <a:custGeom>
                  <a:avLst/>
                  <a:gdLst/>
                  <a:ahLst/>
                  <a:rect l="l" t="t" r="r" b="b"/>
                  <a:pathLst>
                    <a:path w="45" h="458">
                      <a:moveTo>
                        <a:pt x="45" y="458"/>
                      </a:moveTo>
                      <a:lnTo>
                        <a:pt x="45" y="431"/>
                      </a:lnTo>
                      <a:lnTo>
                        <a:pt x="45" y="404"/>
                      </a:lnTo>
                      <a:lnTo>
                        <a:pt x="36" y="376"/>
                      </a:lnTo>
                      <a:lnTo>
                        <a:pt x="36" y="339"/>
                      </a:lnTo>
                      <a:lnTo>
                        <a:pt x="36" y="312"/>
                      </a:lnTo>
                      <a:lnTo>
                        <a:pt x="27" y="285"/>
                      </a:lnTo>
                      <a:lnTo>
                        <a:pt x="18" y="257"/>
                      </a:lnTo>
                      <a:lnTo>
                        <a:pt x="18" y="229"/>
                      </a:lnTo>
                      <a:lnTo>
                        <a:pt x="8" y="202"/>
                      </a:lnTo>
                      <a:lnTo>
                        <a:pt x="8" y="175"/>
                      </a:lnTo>
                      <a:lnTo>
                        <a:pt x="0" y="138"/>
                      </a:lnTo>
                      <a:lnTo>
                        <a:pt x="0" y="110"/>
                      </a:lnTo>
                      <a:lnTo>
                        <a:pt x="0" y="82"/>
                      </a:lnTo>
                      <a:lnTo>
                        <a:pt x="8" y="55"/>
                      </a:lnTo>
                      <a:lnTo>
                        <a:pt x="8" y="2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2770560" y="3706920"/>
                  <a:ext cx="227880" cy="203040"/>
                </a:xfrm>
                <a:custGeom>
                  <a:avLst/>
                  <a:gdLst/>
                  <a:ahLst/>
                  <a:rect l="l" t="t" r="r" b="b"/>
                  <a:pathLst>
                    <a:path w="567" h="513">
                      <a:moveTo>
                        <a:pt x="0" y="513"/>
                      </a:moveTo>
                      <a:lnTo>
                        <a:pt x="27" y="468"/>
                      </a:lnTo>
                      <a:lnTo>
                        <a:pt x="54" y="422"/>
                      </a:lnTo>
                      <a:lnTo>
                        <a:pt x="82" y="386"/>
                      </a:lnTo>
                      <a:lnTo>
                        <a:pt x="110" y="348"/>
                      </a:lnTo>
                      <a:lnTo>
                        <a:pt x="146" y="312"/>
                      </a:lnTo>
                      <a:lnTo>
                        <a:pt x="174" y="284"/>
                      </a:lnTo>
                      <a:lnTo>
                        <a:pt x="210" y="248"/>
                      </a:lnTo>
                      <a:lnTo>
                        <a:pt x="247" y="219"/>
                      </a:lnTo>
                      <a:lnTo>
                        <a:pt x="284" y="184"/>
                      </a:lnTo>
                      <a:lnTo>
                        <a:pt x="329" y="156"/>
                      </a:lnTo>
                      <a:lnTo>
                        <a:pt x="366" y="129"/>
                      </a:lnTo>
                      <a:lnTo>
                        <a:pt x="402" y="101"/>
                      </a:lnTo>
                      <a:lnTo>
                        <a:pt x="448" y="74"/>
                      </a:lnTo>
                      <a:lnTo>
                        <a:pt x="485" y="46"/>
                      </a:lnTo>
                      <a:lnTo>
                        <a:pt x="521" y="19"/>
                      </a:lnTo>
                      <a:lnTo>
                        <a:pt x="56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3436200" y="3690720"/>
                  <a:ext cx="995400" cy="437040"/>
                </a:xfrm>
                <a:custGeom>
                  <a:avLst/>
                  <a:gdLst/>
                  <a:ahLst/>
                  <a:rect l="l" t="t" r="r" b="b"/>
                  <a:pathLst>
                    <a:path w="2488" h="1091">
                      <a:moveTo>
                        <a:pt x="2480" y="9"/>
                      </a:moveTo>
                      <a:lnTo>
                        <a:pt x="2480" y="19"/>
                      </a:lnTo>
                      <a:lnTo>
                        <a:pt x="2488" y="19"/>
                      </a:lnTo>
                      <a:lnTo>
                        <a:pt x="2488" y="29"/>
                      </a:lnTo>
                      <a:lnTo>
                        <a:pt x="2488" y="37"/>
                      </a:lnTo>
                      <a:lnTo>
                        <a:pt x="2488" y="47"/>
                      </a:lnTo>
                      <a:lnTo>
                        <a:pt x="2488" y="56"/>
                      </a:lnTo>
                      <a:lnTo>
                        <a:pt x="2488" y="65"/>
                      </a:lnTo>
                      <a:lnTo>
                        <a:pt x="2470" y="92"/>
                      </a:lnTo>
                      <a:lnTo>
                        <a:pt x="2443" y="129"/>
                      </a:lnTo>
                      <a:lnTo>
                        <a:pt x="2416" y="157"/>
                      </a:lnTo>
                      <a:lnTo>
                        <a:pt x="2389" y="184"/>
                      </a:lnTo>
                      <a:lnTo>
                        <a:pt x="2361" y="211"/>
                      </a:lnTo>
                      <a:lnTo>
                        <a:pt x="2333" y="239"/>
                      </a:lnTo>
                      <a:lnTo>
                        <a:pt x="2298" y="266"/>
                      </a:lnTo>
                      <a:lnTo>
                        <a:pt x="2270" y="294"/>
                      </a:lnTo>
                      <a:lnTo>
                        <a:pt x="2243" y="321"/>
                      </a:lnTo>
                      <a:lnTo>
                        <a:pt x="2215" y="349"/>
                      </a:lnTo>
                      <a:lnTo>
                        <a:pt x="2196" y="385"/>
                      </a:lnTo>
                      <a:lnTo>
                        <a:pt x="2169" y="413"/>
                      </a:lnTo>
                      <a:lnTo>
                        <a:pt x="2160" y="450"/>
                      </a:lnTo>
                      <a:lnTo>
                        <a:pt x="2151" y="486"/>
                      </a:lnTo>
                      <a:lnTo>
                        <a:pt x="2141" y="532"/>
                      </a:lnTo>
                      <a:lnTo>
                        <a:pt x="2151" y="570"/>
                      </a:lnTo>
                      <a:lnTo>
                        <a:pt x="2151" y="587"/>
                      </a:lnTo>
                      <a:lnTo>
                        <a:pt x="2160" y="597"/>
                      </a:lnTo>
                      <a:lnTo>
                        <a:pt x="2169" y="605"/>
                      </a:lnTo>
                      <a:lnTo>
                        <a:pt x="2169" y="615"/>
                      </a:lnTo>
                      <a:lnTo>
                        <a:pt x="2178" y="624"/>
                      </a:lnTo>
                      <a:lnTo>
                        <a:pt x="2188" y="632"/>
                      </a:lnTo>
                      <a:lnTo>
                        <a:pt x="2196" y="642"/>
                      </a:lnTo>
                      <a:lnTo>
                        <a:pt x="2205" y="651"/>
                      </a:lnTo>
                      <a:lnTo>
                        <a:pt x="2215" y="660"/>
                      </a:lnTo>
                      <a:lnTo>
                        <a:pt x="2223" y="660"/>
                      </a:lnTo>
                      <a:lnTo>
                        <a:pt x="2243" y="669"/>
                      </a:lnTo>
                      <a:lnTo>
                        <a:pt x="2251" y="679"/>
                      </a:lnTo>
                      <a:lnTo>
                        <a:pt x="2261" y="688"/>
                      </a:lnTo>
                      <a:lnTo>
                        <a:pt x="2270" y="697"/>
                      </a:lnTo>
                      <a:lnTo>
                        <a:pt x="2270" y="707"/>
                      </a:lnTo>
                      <a:lnTo>
                        <a:pt x="2279" y="715"/>
                      </a:lnTo>
                      <a:lnTo>
                        <a:pt x="2288" y="725"/>
                      </a:lnTo>
                      <a:lnTo>
                        <a:pt x="2298" y="725"/>
                      </a:lnTo>
                      <a:lnTo>
                        <a:pt x="2298" y="734"/>
                      </a:lnTo>
                      <a:lnTo>
                        <a:pt x="2306" y="742"/>
                      </a:lnTo>
                      <a:lnTo>
                        <a:pt x="2315" y="742"/>
                      </a:lnTo>
                      <a:lnTo>
                        <a:pt x="2315" y="752"/>
                      </a:lnTo>
                      <a:lnTo>
                        <a:pt x="2325" y="752"/>
                      </a:lnTo>
                      <a:lnTo>
                        <a:pt x="2333" y="752"/>
                      </a:lnTo>
                      <a:lnTo>
                        <a:pt x="2343" y="761"/>
                      </a:lnTo>
                      <a:lnTo>
                        <a:pt x="2352" y="761"/>
                      </a:lnTo>
                      <a:lnTo>
                        <a:pt x="2361" y="771"/>
                      </a:lnTo>
                      <a:lnTo>
                        <a:pt x="2370" y="771"/>
                      </a:lnTo>
                      <a:lnTo>
                        <a:pt x="2380" y="771"/>
                      </a:lnTo>
                      <a:lnTo>
                        <a:pt x="2389" y="771"/>
                      </a:lnTo>
                      <a:lnTo>
                        <a:pt x="2398" y="771"/>
                      </a:lnTo>
                      <a:lnTo>
                        <a:pt x="2398" y="779"/>
                      </a:lnTo>
                      <a:lnTo>
                        <a:pt x="2389" y="779"/>
                      </a:lnTo>
                      <a:lnTo>
                        <a:pt x="2380" y="779"/>
                      </a:lnTo>
                      <a:lnTo>
                        <a:pt x="2380" y="788"/>
                      </a:lnTo>
                      <a:lnTo>
                        <a:pt x="2370" y="788"/>
                      </a:lnTo>
                      <a:lnTo>
                        <a:pt x="2361" y="788"/>
                      </a:lnTo>
                      <a:lnTo>
                        <a:pt x="2352" y="788"/>
                      </a:lnTo>
                      <a:lnTo>
                        <a:pt x="2343" y="788"/>
                      </a:lnTo>
                      <a:lnTo>
                        <a:pt x="2333" y="788"/>
                      </a:lnTo>
                      <a:lnTo>
                        <a:pt x="2325" y="788"/>
                      </a:lnTo>
                      <a:lnTo>
                        <a:pt x="2315" y="788"/>
                      </a:lnTo>
                      <a:lnTo>
                        <a:pt x="2306" y="788"/>
                      </a:lnTo>
                      <a:lnTo>
                        <a:pt x="2298" y="788"/>
                      </a:lnTo>
                      <a:lnTo>
                        <a:pt x="2288" y="788"/>
                      </a:lnTo>
                      <a:lnTo>
                        <a:pt x="2279" y="788"/>
                      </a:lnTo>
                      <a:lnTo>
                        <a:pt x="2270" y="779"/>
                      </a:lnTo>
                      <a:lnTo>
                        <a:pt x="2261" y="779"/>
                      </a:lnTo>
                      <a:lnTo>
                        <a:pt x="2251" y="788"/>
                      </a:lnTo>
                      <a:lnTo>
                        <a:pt x="2243" y="788"/>
                      </a:lnTo>
                      <a:lnTo>
                        <a:pt x="2233" y="788"/>
                      </a:lnTo>
                      <a:lnTo>
                        <a:pt x="2223" y="788"/>
                      </a:lnTo>
                      <a:lnTo>
                        <a:pt x="2169" y="798"/>
                      </a:lnTo>
                      <a:lnTo>
                        <a:pt x="2124" y="807"/>
                      </a:lnTo>
                      <a:lnTo>
                        <a:pt x="2068" y="807"/>
                      </a:lnTo>
                      <a:lnTo>
                        <a:pt x="2023" y="817"/>
                      </a:lnTo>
                      <a:lnTo>
                        <a:pt x="1968" y="826"/>
                      </a:lnTo>
                      <a:lnTo>
                        <a:pt x="1922" y="835"/>
                      </a:lnTo>
                      <a:lnTo>
                        <a:pt x="1867" y="844"/>
                      </a:lnTo>
                      <a:lnTo>
                        <a:pt x="1821" y="853"/>
                      </a:lnTo>
                      <a:lnTo>
                        <a:pt x="1776" y="862"/>
                      </a:lnTo>
                      <a:lnTo>
                        <a:pt x="1721" y="871"/>
                      </a:lnTo>
                      <a:lnTo>
                        <a:pt x="1674" y="881"/>
                      </a:lnTo>
                      <a:lnTo>
                        <a:pt x="1620" y="889"/>
                      </a:lnTo>
                      <a:lnTo>
                        <a:pt x="1574" y="898"/>
                      </a:lnTo>
                      <a:lnTo>
                        <a:pt x="1519" y="908"/>
                      </a:lnTo>
                      <a:lnTo>
                        <a:pt x="1474" y="916"/>
                      </a:lnTo>
                      <a:lnTo>
                        <a:pt x="1427" y="926"/>
                      </a:lnTo>
                      <a:lnTo>
                        <a:pt x="1382" y="935"/>
                      </a:lnTo>
                      <a:lnTo>
                        <a:pt x="1345" y="935"/>
                      </a:lnTo>
                      <a:lnTo>
                        <a:pt x="1309" y="944"/>
                      </a:lnTo>
                      <a:lnTo>
                        <a:pt x="1272" y="954"/>
                      </a:lnTo>
                      <a:lnTo>
                        <a:pt x="1235" y="963"/>
                      </a:lnTo>
                      <a:lnTo>
                        <a:pt x="1200" y="972"/>
                      </a:lnTo>
                      <a:lnTo>
                        <a:pt x="1153" y="981"/>
                      </a:lnTo>
                      <a:lnTo>
                        <a:pt x="1117" y="981"/>
                      </a:lnTo>
                      <a:lnTo>
                        <a:pt x="1080" y="991"/>
                      </a:lnTo>
                      <a:lnTo>
                        <a:pt x="1043" y="999"/>
                      </a:lnTo>
                      <a:lnTo>
                        <a:pt x="1007" y="1008"/>
                      </a:lnTo>
                      <a:lnTo>
                        <a:pt x="961" y="1008"/>
                      </a:lnTo>
                      <a:lnTo>
                        <a:pt x="925" y="1018"/>
                      </a:lnTo>
                      <a:lnTo>
                        <a:pt x="888" y="1026"/>
                      </a:lnTo>
                      <a:lnTo>
                        <a:pt x="851" y="1036"/>
                      </a:lnTo>
                      <a:lnTo>
                        <a:pt x="815" y="1045"/>
                      </a:lnTo>
                      <a:lnTo>
                        <a:pt x="796" y="1045"/>
                      </a:lnTo>
                      <a:lnTo>
                        <a:pt x="787" y="1055"/>
                      </a:lnTo>
                      <a:lnTo>
                        <a:pt x="778" y="1055"/>
                      </a:lnTo>
                      <a:lnTo>
                        <a:pt x="768" y="1055"/>
                      </a:lnTo>
                      <a:lnTo>
                        <a:pt x="760" y="1063"/>
                      </a:lnTo>
                      <a:lnTo>
                        <a:pt x="750" y="1063"/>
                      </a:lnTo>
                      <a:lnTo>
                        <a:pt x="733" y="1063"/>
                      </a:lnTo>
                      <a:lnTo>
                        <a:pt x="723" y="1073"/>
                      </a:lnTo>
                      <a:lnTo>
                        <a:pt x="714" y="1073"/>
                      </a:lnTo>
                      <a:lnTo>
                        <a:pt x="705" y="1073"/>
                      </a:lnTo>
                      <a:lnTo>
                        <a:pt x="686" y="1083"/>
                      </a:lnTo>
                      <a:lnTo>
                        <a:pt x="678" y="1083"/>
                      </a:lnTo>
                      <a:lnTo>
                        <a:pt x="669" y="1083"/>
                      </a:lnTo>
                      <a:lnTo>
                        <a:pt x="659" y="1091"/>
                      </a:lnTo>
                      <a:lnTo>
                        <a:pt x="650" y="1091"/>
                      </a:lnTo>
                      <a:lnTo>
                        <a:pt x="631" y="1091"/>
                      </a:lnTo>
                      <a:lnTo>
                        <a:pt x="613" y="1055"/>
                      </a:lnTo>
                      <a:lnTo>
                        <a:pt x="604" y="1008"/>
                      </a:lnTo>
                      <a:lnTo>
                        <a:pt x="586" y="963"/>
                      </a:lnTo>
                      <a:lnTo>
                        <a:pt x="559" y="926"/>
                      </a:lnTo>
                      <a:lnTo>
                        <a:pt x="541" y="881"/>
                      </a:lnTo>
                      <a:lnTo>
                        <a:pt x="521" y="844"/>
                      </a:lnTo>
                      <a:lnTo>
                        <a:pt x="494" y="807"/>
                      </a:lnTo>
                      <a:lnTo>
                        <a:pt x="476" y="761"/>
                      </a:lnTo>
                      <a:lnTo>
                        <a:pt x="449" y="725"/>
                      </a:lnTo>
                      <a:lnTo>
                        <a:pt x="421" y="688"/>
                      </a:lnTo>
                      <a:lnTo>
                        <a:pt x="403" y="642"/>
                      </a:lnTo>
                      <a:lnTo>
                        <a:pt x="375" y="605"/>
                      </a:lnTo>
                      <a:lnTo>
                        <a:pt x="348" y="570"/>
                      </a:lnTo>
                      <a:lnTo>
                        <a:pt x="311" y="532"/>
                      </a:lnTo>
                      <a:lnTo>
                        <a:pt x="284" y="495"/>
                      </a:lnTo>
                      <a:lnTo>
                        <a:pt x="256" y="459"/>
                      </a:lnTo>
                      <a:lnTo>
                        <a:pt x="238" y="450"/>
                      </a:lnTo>
                      <a:lnTo>
                        <a:pt x="219" y="431"/>
                      </a:lnTo>
                      <a:lnTo>
                        <a:pt x="211" y="413"/>
                      </a:lnTo>
                      <a:lnTo>
                        <a:pt x="192" y="403"/>
                      </a:lnTo>
                      <a:lnTo>
                        <a:pt x="174" y="385"/>
                      </a:lnTo>
                      <a:lnTo>
                        <a:pt x="165" y="376"/>
                      </a:lnTo>
                      <a:lnTo>
                        <a:pt x="147" y="358"/>
                      </a:lnTo>
                      <a:lnTo>
                        <a:pt x="128" y="349"/>
                      </a:lnTo>
                      <a:lnTo>
                        <a:pt x="119" y="331"/>
                      </a:lnTo>
                      <a:lnTo>
                        <a:pt x="101" y="313"/>
                      </a:lnTo>
                      <a:lnTo>
                        <a:pt x="82" y="303"/>
                      </a:lnTo>
                      <a:lnTo>
                        <a:pt x="64" y="294"/>
                      </a:lnTo>
                      <a:lnTo>
                        <a:pt x="46" y="275"/>
                      </a:lnTo>
                      <a:lnTo>
                        <a:pt x="37" y="266"/>
                      </a:lnTo>
                      <a:lnTo>
                        <a:pt x="19" y="248"/>
                      </a:lnTo>
                      <a:lnTo>
                        <a:pt x="0" y="239"/>
                      </a:lnTo>
                      <a:lnTo>
                        <a:pt x="0" y="229"/>
                      </a:lnTo>
                      <a:lnTo>
                        <a:pt x="0" y="221"/>
                      </a:lnTo>
                      <a:lnTo>
                        <a:pt x="0" y="211"/>
                      </a:lnTo>
                      <a:lnTo>
                        <a:pt x="10" y="211"/>
                      </a:lnTo>
                      <a:lnTo>
                        <a:pt x="10" y="202"/>
                      </a:lnTo>
                      <a:lnTo>
                        <a:pt x="19" y="202"/>
                      </a:lnTo>
                      <a:lnTo>
                        <a:pt x="19" y="193"/>
                      </a:lnTo>
                      <a:lnTo>
                        <a:pt x="19" y="184"/>
                      </a:lnTo>
                      <a:lnTo>
                        <a:pt x="28" y="184"/>
                      </a:lnTo>
                      <a:lnTo>
                        <a:pt x="37" y="166"/>
                      </a:lnTo>
                      <a:lnTo>
                        <a:pt x="55" y="157"/>
                      </a:lnTo>
                      <a:lnTo>
                        <a:pt x="64" y="147"/>
                      </a:lnTo>
                      <a:lnTo>
                        <a:pt x="82" y="138"/>
                      </a:lnTo>
                      <a:lnTo>
                        <a:pt x="91" y="129"/>
                      </a:lnTo>
                      <a:lnTo>
                        <a:pt x="109" y="119"/>
                      </a:lnTo>
                      <a:lnTo>
                        <a:pt x="119" y="111"/>
                      </a:lnTo>
                      <a:lnTo>
                        <a:pt x="137" y="101"/>
                      </a:lnTo>
                      <a:lnTo>
                        <a:pt x="156" y="92"/>
                      </a:lnTo>
                      <a:lnTo>
                        <a:pt x="165" y="92"/>
                      </a:lnTo>
                      <a:lnTo>
                        <a:pt x="184" y="83"/>
                      </a:lnTo>
                      <a:lnTo>
                        <a:pt x="201" y="83"/>
                      </a:lnTo>
                      <a:lnTo>
                        <a:pt x="219" y="74"/>
                      </a:lnTo>
                      <a:lnTo>
                        <a:pt x="238" y="74"/>
                      </a:lnTo>
                      <a:lnTo>
                        <a:pt x="256" y="65"/>
                      </a:lnTo>
                      <a:lnTo>
                        <a:pt x="266" y="65"/>
                      </a:lnTo>
                      <a:lnTo>
                        <a:pt x="329" y="56"/>
                      </a:lnTo>
                      <a:lnTo>
                        <a:pt x="394" y="56"/>
                      </a:lnTo>
                      <a:lnTo>
                        <a:pt x="458" y="56"/>
                      </a:lnTo>
                      <a:lnTo>
                        <a:pt x="521" y="47"/>
                      </a:lnTo>
                      <a:lnTo>
                        <a:pt x="586" y="47"/>
                      </a:lnTo>
                      <a:lnTo>
                        <a:pt x="650" y="47"/>
                      </a:lnTo>
                      <a:lnTo>
                        <a:pt x="714" y="37"/>
                      </a:lnTo>
                      <a:lnTo>
                        <a:pt x="778" y="37"/>
                      </a:lnTo>
                      <a:lnTo>
                        <a:pt x="843" y="37"/>
                      </a:lnTo>
                      <a:lnTo>
                        <a:pt x="905" y="37"/>
                      </a:lnTo>
                      <a:lnTo>
                        <a:pt x="970" y="29"/>
                      </a:lnTo>
                      <a:lnTo>
                        <a:pt x="1034" y="29"/>
                      </a:lnTo>
                      <a:lnTo>
                        <a:pt x="1098" y="29"/>
                      </a:lnTo>
                      <a:lnTo>
                        <a:pt x="1162" y="29"/>
                      </a:lnTo>
                      <a:lnTo>
                        <a:pt x="1227" y="29"/>
                      </a:lnTo>
                      <a:lnTo>
                        <a:pt x="1290" y="19"/>
                      </a:lnTo>
                      <a:lnTo>
                        <a:pt x="1328" y="19"/>
                      </a:lnTo>
                      <a:lnTo>
                        <a:pt x="1364" y="29"/>
                      </a:lnTo>
                      <a:lnTo>
                        <a:pt x="1409" y="29"/>
                      </a:lnTo>
                      <a:lnTo>
                        <a:pt x="1446" y="29"/>
                      </a:lnTo>
                      <a:lnTo>
                        <a:pt x="1483" y="29"/>
                      </a:lnTo>
                      <a:lnTo>
                        <a:pt x="1519" y="19"/>
                      </a:lnTo>
                      <a:lnTo>
                        <a:pt x="1564" y="19"/>
                      </a:lnTo>
                      <a:lnTo>
                        <a:pt x="1602" y="19"/>
                      </a:lnTo>
                      <a:lnTo>
                        <a:pt x="1639" y="19"/>
                      </a:lnTo>
                      <a:lnTo>
                        <a:pt x="1684" y="19"/>
                      </a:lnTo>
                      <a:lnTo>
                        <a:pt x="1721" y="19"/>
                      </a:lnTo>
                      <a:lnTo>
                        <a:pt x="1757" y="9"/>
                      </a:lnTo>
                      <a:lnTo>
                        <a:pt x="1794" y="9"/>
                      </a:lnTo>
                      <a:lnTo>
                        <a:pt x="1839" y="9"/>
                      </a:lnTo>
                      <a:lnTo>
                        <a:pt x="1876" y="9"/>
                      </a:lnTo>
                      <a:lnTo>
                        <a:pt x="1922" y="9"/>
                      </a:lnTo>
                      <a:lnTo>
                        <a:pt x="1949" y="9"/>
                      </a:lnTo>
                      <a:lnTo>
                        <a:pt x="1977" y="9"/>
                      </a:lnTo>
                      <a:lnTo>
                        <a:pt x="2014" y="0"/>
                      </a:lnTo>
                      <a:lnTo>
                        <a:pt x="2041" y="0"/>
                      </a:lnTo>
                      <a:lnTo>
                        <a:pt x="2078" y="0"/>
                      </a:lnTo>
                      <a:lnTo>
                        <a:pt x="2114" y="0"/>
                      </a:lnTo>
                      <a:lnTo>
                        <a:pt x="2141" y="0"/>
                      </a:lnTo>
                      <a:lnTo>
                        <a:pt x="2178" y="0"/>
                      </a:lnTo>
                      <a:lnTo>
                        <a:pt x="2205" y="0"/>
                      </a:lnTo>
                      <a:lnTo>
                        <a:pt x="2243" y="0"/>
                      </a:lnTo>
                      <a:lnTo>
                        <a:pt x="2270" y="0"/>
                      </a:lnTo>
                      <a:lnTo>
                        <a:pt x="2306" y="0"/>
                      </a:lnTo>
                      <a:lnTo>
                        <a:pt x="2343" y="0"/>
                      </a:lnTo>
                      <a:lnTo>
                        <a:pt x="2370" y="0"/>
                      </a:lnTo>
                      <a:lnTo>
                        <a:pt x="2408" y="0"/>
                      </a:lnTo>
                      <a:lnTo>
                        <a:pt x="2435" y="0"/>
                      </a:lnTo>
                      <a:lnTo>
                        <a:pt x="2480" y="9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4291920" y="3717000"/>
                  <a:ext cx="139320" cy="201240"/>
                </a:xfrm>
                <a:custGeom>
                  <a:avLst/>
                  <a:gdLst/>
                  <a:ahLst/>
                  <a:rect l="l" t="t" r="r" b="b"/>
                  <a:pathLst>
                    <a:path w="347" h="505">
                      <a:moveTo>
                        <a:pt x="347" y="0"/>
                      </a:moveTo>
                      <a:lnTo>
                        <a:pt x="329" y="27"/>
                      </a:lnTo>
                      <a:lnTo>
                        <a:pt x="302" y="64"/>
                      </a:lnTo>
                      <a:lnTo>
                        <a:pt x="275" y="92"/>
                      </a:lnTo>
                      <a:lnTo>
                        <a:pt x="248" y="119"/>
                      </a:lnTo>
                      <a:lnTo>
                        <a:pt x="220" y="146"/>
                      </a:lnTo>
                      <a:lnTo>
                        <a:pt x="192" y="174"/>
                      </a:lnTo>
                      <a:lnTo>
                        <a:pt x="157" y="201"/>
                      </a:lnTo>
                      <a:lnTo>
                        <a:pt x="129" y="229"/>
                      </a:lnTo>
                      <a:lnTo>
                        <a:pt x="102" y="256"/>
                      </a:lnTo>
                      <a:lnTo>
                        <a:pt x="74" y="284"/>
                      </a:lnTo>
                      <a:lnTo>
                        <a:pt x="55" y="320"/>
                      </a:lnTo>
                      <a:lnTo>
                        <a:pt x="28" y="348"/>
                      </a:lnTo>
                      <a:lnTo>
                        <a:pt x="19" y="385"/>
                      </a:lnTo>
                      <a:lnTo>
                        <a:pt x="10" y="421"/>
                      </a:lnTo>
                      <a:lnTo>
                        <a:pt x="0" y="467"/>
                      </a:lnTo>
                      <a:lnTo>
                        <a:pt x="10" y="50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4295520" y="3918240"/>
                  <a:ext cx="51840" cy="57600"/>
                </a:xfrm>
                <a:custGeom>
                  <a:avLst/>
                  <a:gdLst/>
                  <a:ahLst/>
                  <a:rect l="l" t="t" r="r" b="b"/>
                  <a:pathLst>
                    <a:path w="128" h="145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9" y="27"/>
                      </a:lnTo>
                      <a:lnTo>
                        <a:pt x="18" y="35"/>
                      </a:lnTo>
                      <a:lnTo>
                        <a:pt x="18" y="45"/>
                      </a:lnTo>
                      <a:lnTo>
                        <a:pt x="27" y="54"/>
                      </a:lnTo>
                      <a:lnTo>
                        <a:pt x="37" y="62"/>
                      </a:lnTo>
                      <a:lnTo>
                        <a:pt x="45" y="72"/>
                      </a:lnTo>
                      <a:lnTo>
                        <a:pt x="54" y="81"/>
                      </a:lnTo>
                      <a:lnTo>
                        <a:pt x="64" y="90"/>
                      </a:lnTo>
                      <a:lnTo>
                        <a:pt x="72" y="90"/>
                      </a:lnTo>
                      <a:lnTo>
                        <a:pt x="92" y="99"/>
                      </a:lnTo>
                      <a:lnTo>
                        <a:pt x="100" y="109"/>
                      </a:lnTo>
                      <a:lnTo>
                        <a:pt x="110" y="118"/>
                      </a:lnTo>
                      <a:lnTo>
                        <a:pt x="119" y="127"/>
                      </a:lnTo>
                      <a:lnTo>
                        <a:pt x="119" y="137"/>
                      </a:lnTo>
                      <a:lnTo>
                        <a:pt x="128" y="14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4007880" y="4006080"/>
                  <a:ext cx="317880" cy="55800"/>
                </a:xfrm>
                <a:custGeom>
                  <a:avLst/>
                  <a:gdLst/>
                  <a:ahLst/>
                  <a:rect l="l" t="t" r="r" b="b"/>
                  <a:pathLst>
                    <a:path w="796" h="138">
                      <a:moveTo>
                        <a:pt x="796" y="0"/>
                      </a:moveTo>
                      <a:lnTo>
                        <a:pt x="742" y="10"/>
                      </a:lnTo>
                      <a:lnTo>
                        <a:pt x="697" y="19"/>
                      </a:lnTo>
                      <a:lnTo>
                        <a:pt x="641" y="19"/>
                      </a:lnTo>
                      <a:lnTo>
                        <a:pt x="596" y="29"/>
                      </a:lnTo>
                      <a:lnTo>
                        <a:pt x="541" y="38"/>
                      </a:lnTo>
                      <a:lnTo>
                        <a:pt x="495" y="47"/>
                      </a:lnTo>
                      <a:lnTo>
                        <a:pt x="440" y="56"/>
                      </a:lnTo>
                      <a:lnTo>
                        <a:pt x="394" y="65"/>
                      </a:lnTo>
                      <a:lnTo>
                        <a:pt x="349" y="74"/>
                      </a:lnTo>
                      <a:lnTo>
                        <a:pt x="294" y="83"/>
                      </a:lnTo>
                      <a:lnTo>
                        <a:pt x="247" y="93"/>
                      </a:lnTo>
                      <a:lnTo>
                        <a:pt x="193" y="101"/>
                      </a:lnTo>
                      <a:lnTo>
                        <a:pt x="147" y="110"/>
                      </a:lnTo>
                      <a:lnTo>
                        <a:pt x="92" y="120"/>
                      </a:lnTo>
                      <a:lnTo>
                        <a:pt x="47" y="128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3538080" y="3874320"/>
                  <a:ext cx="149760" cy="253440"/>
                </a:xfrm>
                <a:custGeom>
                  <a:avLst/>
                  <a:gdLst/>
                  <a:ahLst/>
                  <a:rect l="l" t="t" r="r" b="b"/>
                  <a:pathLst>
                    <a:path w="375" h="632">
                      <a:moveTo>
                        <a:pt x="375" y="632"/>
                      </a:moveTo>
                      <a:lnTo>
                        <a:pt x="357" y="596"/>
                      </a:lnTo>
                      <a:lnTo>
                        <a:pt x="348" y="549"/>
                      </a:lnTo>
                      <a:lnTo>
                        <a:pt x="330" y="504"/>
                      </a:lnTo>
                      <a:lnTo>
                        <a:pt x="303" y="467"/>
                      </a:lnTo>
                      <a:lnTo>
                        <a:pt x="285" y="422"/>
                      </a:lnTo>
                      <a:lnTo>
                        <a:pt x="265" y="385"/>
                      </a:lnTo>
                      <a:lnTo>
                        <a:pt x="238" y="348"/>
                      </a:lnTo>
                      <a:lnTo>
                        <a:pt x="220" y="302"/>
                      </a:lnTo>
                      <a:lnTo>
                        <a:pt x="193" y="266"/>
                      </a:lnTo>
                      <a:lnTo>
                        <a:pt x="165" y="229"/>
                      </a:lnTo>
                      <a:lnTo>
                        <a:pt x="147" y="183"/>
                      </a:lnTo>
                      <a:lnTo>
                        <a:pt x="119" y="146"/>
                      </a:lnTo>
                      <a:lnTo>
                        <a:pt x="92" y="111"/>
                      </a:lnTo>
                      <a:lnTo>
                        <a:pt x="55" y="73"/>
                      </a:lnTo>
                      <a:lnTo>
                        <a:pt x="28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3436200" y="3786840"/>
                  <a:ext cx="101880" cy="87480"/>
                </a:xfrm>
                <a:custGeom>
                  <a:avLst/>
                  <a:gdLst/>
                  <a:ahLst/>
                  <a:rect l="l" t="t" r="r" b="b"/>
                  <a:pathLst>
                    <a:path w="256" h="220">
                      <a:moveTo>
                        <a:pt x="256" y="220"/>
                      </a:moveTo>
                      <a:lnTo>
                        <a:pt x="238" y="211"/>
                      </a:lnTo>
                      <a:lnTo>
                        <a:pt x="219" y="192"/>
                      </a:lnTo>
                      <a:lnTo>
                        <a:pt x="211" y="174"/>
                      </a:lnTo>
                      <a:lnTo>
                        <a:pt x="192" y="164"/>
                      </a:lnTo>
                      <a:lnTo>
                        <a:pt x="174" y="146"/>
                      </a:lnTo>
                      <a:lnTo>
                        <a:pt x="165" y="137"/>
                      </a:lnTo>
                      <a:lnTo>
                        <a:pt x="147" y="119"/>
                      </a:lnTo>
                      <a:lnTo>
                        <a:pt x="128" y="110"/>
                      </a:lnTo>
                      <a:lnTo>
                        <a:pt x="119" y="92"/>
                      </a:lnTo>
                      <a:lnTo>
                        <a:pt x="101" y="74"/>
                      </a:lnTo>
                      <a:lnTo>
                        <a:pt x="82" y="64"/>
                      </a:lnTo>
                      <a:lnTo>
                        <a:pt x="64" y="55"/>
                      </a:lnTo>
                      <a:lnTo>
                        <a:pt x="46" y="36"/>
                      </a:lnTo>
                      <a:lnTo>
                        <a:pt x="37" y="27"/>
                      </a:lnTo>
                      <a:lnTo>
                        <a:pt x="1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4445640" y="3706920"/>
                  <a:ext cx="447840" cy="105480"/>
                </a:xfrm>
                <a:custGeom>
                  <a:avLst/>
                  <a:gdLst/>
                  <a:ahLst/>
                  <a:rect l="l" t="t" r="r" b="b"/>
                  <a:pathLst>
                    <a:path w="1117" h="266">
                      <a:moveTo>
                        <a:pt x="823" y="101"/>
                      </a:moveTo>
                      <a:lnTo>
                        <a:pt x="841" y="110"/>
                      </a:lnTo>
                      <a:lnTo>
                        <a:pt x="860" y="120"/>
                      </a:lnTo>
                      <a:lnTo>
                        <a:pt x="878" y="129"/>
                      </a:lnTo>
                      <a:lnTo>
                        <a:pt x="896" y="138"/>
                      </a:lnTo>
                      <a:lnTo>
                        <a:pt x="915" y="138"/>
                      </a:lnTo>
                      <a:lnTo>
                        <a:pt x="933" y="147"/>
                      </a:lnTo>
                      <a:lnTo>
                        <a:pt x="951" y="156"/>
                      </a:lnTo>
                      <a:lnTo>
                        <a:pt x="970" y="165"/>
                      </a:lnTo>
                      <a:lnTo>
                        <a:pt x="988" y="174"/>
                      </a:lnTo>
                      <a:lnTo>
                        <a:pt x="1006" y="184"/>
                      </a:lnTo>
                      <a:lnTo>
                        <a:pt x="1025" y="192"/>
                      </a:lnTo>
                      <a:lnTo>
                        <a:pt x="1043" y="202"/>
                      </a:lnTo>
                      <a:lnTo>
                        <a:pt x="1062" y="211"/>
                      </a:lnTo>
                      <a:lnTo>
                        <a:pt x="1080" y="219"/>
                      </a:lnTo>
                      <a:lnTo>
                        <a:pt x="1098" y="229"/>
                      </a:lnTo>
                      <a:lnTo>
                        <a:pt x="1117" y="248"/>
                      </a:lnTo>
                      <a:lnTo>
                        <a:pt x="1107" y="248"/>
                      </a:lnTo>
                      <a:lnTo>
                        <a:pt x="1098" y="257"/>
                      </a:lnTo>
                      <a:lnTo>
                        <a:pt x="1088" y="257"/>
                      </a:lnTo>
                      <a:lnTo>
                        <a:pt x="1080" y="257"/>
                      </a:lnTo>
                      <a:lnTo>
                        <a:pt x="1070" y="257"/>
                      </a:lnTo>
                      <a:lnTo>
                        <a:pt x="1062" y="257"/>
                      </a:lnTo>
                      <a:lnTo>
                        <a:pt x="1053" y="257"/>
                      </a:lnTo>
                      <a:lnTo>
                        <a:pt x="1053" y="266"/>
                      </a:lnTo>
                      <a:lnTo>
                        <a:pt x="1025" y="257"/>
                      </a:lnTo>
                      <a:lnTo>
                        <a:pt x="988" y="257"/>
                      </a:lnTo>
                      <a:lnTo>
                        <a:pt x="961" y="248"/>
                      </a:lnTo>
                      <a:lnTo>
                        <a:pt x="933" y="248"/>
                      </a:lnTo>
                      <a:lnTo>
                        <a:pt x="906" y="238"/>
                      </a:lnTo>
                      <a:lnTo>
                        <a:pt x="878" y="229"/>
                      </a:lnTo>
                      <a:lnTo>
                        <a:pt x="851" y="229"/>
                      </a:lnTo>
                      <a:lnTo>
                        <a:pt x="823" y="219"/>
                      </a:lnTo>
                      <a:lnTo>
                        <a:pt x="796" y="211"/>
                      </a:lnTo>
                      <a:lnTo>
                        <a:pt x="769" y="202"/>
                      </a:lnTo>
                      <a:lnTo>
                        <a:pt x="741" y="202"/>
                      </a:lnTo>
                      <a:lnTo>
                        <a:pt x="723" y="184"/>
                      </a:lnTo>
                      <a:lnTo>
                        <a:pt x="695" y="174"/>
                      </a:lnTo>
                      <a:lnTo>
                        <a:pt x="668" y="165"/>
                      </a:lnTo>
                      <a:lnTo>
                        <a:pt x="641" y="156"/>
                      </a:lnTo>
                      <a:lnTo>
                        <a:pt x="621" y="138"/>
                      </a:lnTo>
                      <a:lnTo>
                        <a:pt x="576" y="138"/>
                      </a:lnTo>
                      <a:lnTo>
                        <a:pt x="539" y="138"/>
                      </a:lnTo>
                      <a:lnTo>
                        <a:pt x="503" y="138"/>
                      </a:lnTo>
                      <a:lnTo>
                        <a:pt x="466" y="129"/>
                      </a:lnTo>
                      <a:lnTo>
                        <a:pt x="429" y="129"/>
                      </a:lnTo>
                      <a:lnTo>
                        <a:pt x="384" y="129"/>
                      </a:lnTo>
                      <a:lnTo>
                        <a:pt x="348" y="129"/>
                      </a:lnTo>
                      <a:lnTo>
                        <a:pt x="311" y="120"/>
                      </a:lnTo>
                      <a:lnTo>
                        <a:pt x="274" y="120"/>
                      </a:lnTo>
                      <a:lnTo>
                        <a:pt x="228" y="120"/>
                      </a:lnTo>
                      <a:lnTo>
                        <a:pt x="192" y="120"/>
                      </a:lnTo>
                      <a:lnTo>
                        <a:pt x="156" y="120"/>
                      </a:lnTo>
                      <a:lnTo>
                        <a:pt x="119" y="120"/>
                      </a:lnTo>
                      <a:lnTo>
                        <a:pt x="72" y="120"/>
                      </a:lnTo>
                      <a:lnTo>
                        <a:pt x="37" y="120"/>
                      </a:lnTo>
                      <a:lnTo>
                        <a:pt x="0" y="129"/>
                      </a:lnTo>
                      <a:lnTo>
                        <a:pt x="0" y="120"/>
                      </a:lnTo>
                      <a:lnTo>
                        <a:pt x="9" y="110"/>
                      </a:lnTo>
                      <a:lnTo>
                        <a:pt x="9" y="101"/>
                      </a:lnTo>
                      <a:lnTo>
                        <a:pt x="19" y="92"/>
                      </a:lnTo>
                      <a:lnTo>
                        <a:pt x="19" y="82"/>
                      </a:lnTo>
                      <a:lnTo>
                        <a:pt x="27" y="74"/>
                      </a:lnTo>
                      <a:lnTo>
                        <a:pt x="27" y="64"/>
                      </a:lnTo>
                      <a:lnTo>
                        <a:pt x="27" y="55"/>
                      </a:lnTo>
                      <a:lnTo>
                        <a:pt x="37" y="55"/>
                      </a:lnTo>
                      <a:lnTo>
                        <a:pt x="37" y="46"/>
                      </a:lnTo>
                      <a:lnTo>
                        <a:pt x="37" y="37"/>
                      </a:lnTo>
                      <a:lnTo>
                        <a:pt x="37" y="28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7" y="0"/>
                      </a:lnTo>
                      <a:lnTo>
                        <a:pt x="64" y="10"/>
                      </a:lnTo>
                      <a:lnTo>
                        <a:pt x="101" y="10"/>
                      </a:lnTo>
                      <a:lnTo>
                        <a:pt x="137" y="10"/>
                      </a:lnTo>
                      <a:lnTo>
                        <a:pt x="174" y="10"/>
                      </a:lnTo>
                      <a:lnTo>
                        <a:pt x="209" y="10"/>
                      </a:lnTo>
                      <a:lnTo>
                        <a:pt x="247" y="10"/>
                      </a:lnTo>
                      <a:lnTo>
                        <a:pt x="284" y="10"/>
                      </a:lnTo>
                      <a:lnTo>
                        <a:pt x="319" y="10"/>
                      </a:lnTo>
                      <a:lnTo>
                        <a:pt x="356" y="0"/>
                      </a:lnTo>
                      <a:lnTo>
                        <a:pt x="394" y="0"/>
                      </a:lnTo>
                      <a:lnTo>
                        <a:pt x="429" y="0"/>
                      </a:lnTo>
                      <a:lnTo>
                        <a:pt x="466" y="0"/>
                      </a:lnTo>
                      <a:lnTo>
                        <a:pt x="494" y="0"/>
                      </a:lnTo>
                      <a:lnTo>
                        <a:pt x="531" y="0"/>
                      </a:lnTo>
                      <a:lnTo>
                        <a:pt x="568" y="0"/>
                      </a:lnTo>
                      <a:lnTo>
                        <a:pt x="603" y="10"/>
                      </a:lnTo>
                      <a:lnTo>
                        <a:pt x="613" y="10"/>
                      </a:lnTo>
                      <a:lnTo>
                        <a:pt x="621" y="10"/>
                      </a:lnTo>
                      <a:lnTo>
                        <a:pt x="631" y="10"/>
                      </a:lnTo>
                      <a:lnTo>
                        <a:pt x="641" y="10"/>
                      </a:lnTo>
                      <a:lnTo>
                        <a:pt x="650" y="10"/>
                      </a:lnTo>
                      <a:lnTo>
                        <a:pt x="668" y="19"/>
                      </a:lnTo>
                      <a:lnTo>
                        <a:pt x="678" y="19"/>
                      </a:lnTo>
                      <a:lnTo>
                        <a:pt x="695" y="19"/>
                      </a:lnTo>
                      <a:lnTo>
                        <a:pt x="695" y="28"/>
                      </a:lnTo>
                      <a:lnTo>
                        <a:pt x="705" y="28"/>
                      </a:lnTo>
                      <a:lnTo>
                        <a:pt x="713" y="28"/>
                      </a:lnTo>
                      <a:lnTo>
                        <a:pt x="723" y="37"/>
                      </a:lnTo>
                      <a:lnTo>
                        <a:pt x="731" y="37"/>
                      </a:lnTo>
                      <a:lnTo>
                        <a:pt x="741" y="46"/>
                      </a:lnTo>
                      <a:lnTo>
                        <a:pt x="750" y="46"/>
                      </a:lnTo>
                      <a:lnTo>
                        <a:pt x="823" y="101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4775760" y="3746880"/>
                  <a:ext cx="117720" cy="57600"/>
                </a:xfrm>
                <a:custGeom>
                  <a:avLst/>
                  <a:gdLst/>
                  <a:ahLst/>
                  <a:rect l="l" t="t" r="r" b="b"/>
                  <a:pathLst>
                    <a:path w="294" h="147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7" y="19"/>
                      </a:lnTo>
                      <a:lnTo>
                        <a:pt x="55" y="28"/>
                      </a:lnTo>
                      <a:lnTo>
                        <a:pt x="73" y="37"/>
                      </a:lnTo>
                      <a:lnTo>
                        <a:pt x="92" y="37"/>
                      </a:lnTo>
                      <a:lnTo>
                        <a:pt x="110" y="46"/>
                      </a:lnTo>
                      <a:lnTo>
                        <a:pt x="128" y="55"/>
                      </a:lnTo>
                      <a:lnTo>
                        <a:pt x="147" y="64"/>
                      </a:lnTo>
                      <a:lnTo>
                        <a:pt x="165" y="73"/>
                      </a:lnTo>
                      <a:lnTo>
                        <a:pt x="183" y="83"/>
                      </a:lnTo>
                      <a:lnTo>
                        <a:pt x="202" y="91"/>
                      </a:lnTo>
                      <a:lnTo>
                        <a:pt x="220" y="101"/>
                      </a:lnTo>
                      <a:lnTo>
                        <a:pt x="239" y="110"/>
                      </a:lnTo>
                      <a:lnTo>
                        <a:pt x="257" y="118"/>
                      </a:lnTo>
                      <a:lnTo>
                        <a:pt x="275" y="128"/>
                      </a:lnTo>
                      <a:lnTo>
                        <a:pt x="294" y="14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1" name=""/>
              <p:cNvSpPr/>
              <p:nvPr/>
            </p:nvSpPr>
            <p:spPr>
              <a:xfrm>
                <a:off x="2368800" y="4124160"/>
                <a:ext cx="519840" cy="774360"/>
              </a:xfrm>
              <a:custGeom>
                <a:avLst/>
                <a:gdLst/>
                <a:ahLst/>
                <a:rect l="l" t="t" r="r" b="b"/>
                <a:pathLst>
                  <a:path w="1299" h="1941">
                    <a:moveTo>
                      <a:pt x="879" y="18"/>
                    </a:moveTo>
                    <a:lnTo>
                      <a:pt x="887" y="81"/>
                    </a:lnTo>
                    <a:lnTo>
                      <a:pt x="897" y="137"/>
                    </a:lnTo>
                    <a:lnTo>
                      <a:pt x="915" y="201"/>
                    </a:lnTo>
                    <a:lnTo>
                      <a:pt x="924" y="256"/>
                    </a:lnTo>
                    <a:lnTo>
                      <a:pt x="942" y="319"/>
                    </a:lnTo>
                    <a:lnTo>
                      <a:pt x="961" y="374"/>
                    </a:lnTo>
                    <a:lnTo>
                      <a:pt x="989" y="429"/>
                    </a:lnTo>
                    <a:lnTo>
                      <a:pt x="1007" y="485"/>
                    </a:lnTo>
                    <a:lnTo>
                      <a:pt x="1034" y="540"/>
                    </a:lnTo>
                    <a:lnTo>
                      <a:pt x="1052" y="595"/>
                    </a:lnTo>
                    <a:lnTo>
                      <a:pt x="1079" y="650"/>
                    </a:lnTo>
                    <a:lnTo>
                      <a:pt x="1107" y="705"/>
                    </a:lnTo>
                    <a:lnTo>
                      <a:pt x="1135" y="759"/>
                    </a:lnTo>
                    <a:lnTo>
                      <a:pt x="1171" y="815"/>
                    </a:lnTo>
                    <a:lnTo>
                      <a:pt x="1199" y="869"/>
                    </a:lnTo>
                    <a:lnTo>
                      <a:pt x="1226" y="915"/>
                    </a:lnTo>
                    <a:lnTo>
                      <a:pt x="1226" y="925"/>
                    </a:lnTo>
                    <a:lnTo>
                      <a:pt x="1299" y="1044"/>
                    </a:lnTo>
                    <a:lnTo>
                      <a:pt x="1272" y="1071"/>
                    </a:lnTo>
                    <a:lnTo>
                      <a:pt x="1245" y="1108"/>
                    </a:lnTo>
                    <a:lnTo>
                      <a:pt x="1208" y="1135"/>
                    </a:lnTo>
                    <a:lnTo>
                      <a:pt x="1181" y="1173"/>
                    </a:lnTo>
                    <a:lnTo>
                      <a:pt x="1144" y="1200"/>
                    </a:lnTo>
                    <a:lnTo>
                      <a:pt x="1107" y="1236"/>
                    </a:lnTo>
                    <a:lnTo>
                      <a:pt x="1079" y="1263"/>
                    </a:lnTo>
                    <a:lnTo>
                      <a:pt x="1043" y="1300"/>
                    </a:lnTo>
                    <a:lnTo>
                      <a:pt x="1007" y="1328"/>
                    </a:lnTo>
                    <a:lnTo>
                      <a:pt x="980" y="1365"/>
                    </a:lnTo>
                    <a:lnTo>
                      <a:pt x="942" y="1392"/>
                    </a:lnTo>
                    <a:lnTo>
                      <a:pt x="915" y="1428"/>
                    </a:lnTo>
                    <a:lnTo>
                      <a:pt x="879" y="1457"/>
                    </a:lnTo>
                    <a:lnTo>
                      <a:pt x="852" y="1492"/>
                    </a:lnTo>
                    <a:lnTo>
                      <a:pt x="824" y="1529"/>
                    </a:lnTo>
                    <a:lnTo>
                      <a:pt x="787" y="1566"/>
                    </a:lnTo>
                    <a:lnTo>
                      <a:pt x="769" y="1585"/>
                    </a:lnTo>
                    <a:lnTo>
                      <a:pt x="750" y="1612"/>
                    </a:lnTo>
                    <a:lnTo>
                      <a:pt x="732" y="1639"/>
                    </a:lnTo>
                    <a:lnTo>
                      <a:pt x="714" y="1657"/>
                    </a:lnTo>
                    <a:lnTo>
                      <a:pt x="686" y="1684"/>
                    </a:lnTo>
                    <a:lnTo>
                      <a:pt x="667" y="1713"/>
                    </a:lnTo>
                    <a:lnTo>
                      <a:pt x="650" y="1731"/>
                    </a:lnTo>
                    <a:lnTo>
                      <a:pt x="622" y="1758"/>
                    </a:lnTo>
                    <a:lnTo>
                      <a:pt x="605" y="1776"/>
                    </a:lnTo>
                    <a:lnTo>
                      <a:pt x="586" y="1804"/>
                    </a:lnTo>
                    <a:lnTo>
                      <a:pt x="558" y="1831"/>
                    </a:lnTo>
                    <a:lnTo>
                      <a:pt x="540" y="1851"/>
                    </a:lnTo>
                    <a:lnTo>
                      <a:pt x="512" y="1878"/>
                    </a:lnTo>
                    <a:lnTo>
                      <a:pt x="495" y="1896"/>
                    </a:lnTo>
                    <a:lnTo>
                      <a:pt x="476" y="1914"/>
                    </a:lnTo>
                    <a:lnTo>
                      <a:pt x="448" y="1941"/>
                    </a:lnTo>
                    <a:lnTo>
                      <a:pt x="440" y="1941"/>
                    </a:lnTo>
                    <a:lnTo>
                      <a:pt x="412" y="1932"/>
                    </a:lnTo>
                    <a:lnTo>
                      <a:pt x="385" y="1914"/>
                    </a:lnTo>
                    <a:lnTo>
                      <a:pt x="357" y="1896"/>
                    </a:lnTo>
                    <a:lnTo>
                      <a:pt x="330" y="1878"/>
                    </a:lnTo>
                    <a:lnTo>
                      <a:pt x="302" y="1859"/>
                    </a:lnTo>
                    <a:lnTo>
                      <a:pt x="283" y="1831"/>
                    </a:lnTo>
                    <a:lnTo>
                      <a:pt x="256" y="1813"/>
                    </a:lnTo>
                    <a:lnTo>
                      <a:pt x="228" y="1795"/>
                    </a:lnTo>
                    <a:lnTo>
                      <a:pt x="211" y="1768"/>
                    </a:lnTo>
                    <a:lnTo>
                      <a:pt x="183" y="1749"/>
                    </a:lnTo>
                    <a:lnTo>
                      <a:pt x="165" y="1722"/>
                    </a:lnTo>
                    <a:lnTo>
                      <a:pt x="137" y="1704"/>
                    </a:lnTo>
                    <a:lnTo>
                      <a:pt x="119" y="1676"/>
                    </a:lnTo>
                    <a:lnTo>
                      <a:pt x="91" y="1648"/>
                    </a:lnTo>
                    <a:lnTo>
                      <a:pt x="73" y="1630"/>
                    </a:lnTo>
                    <a:lnTo>
                      <a:pt x="46" y="1602"/>
                    </a:lnTo>
                    <a:lnTo>
                      <a:pt x="36" y="1594"/>
                    </a:lnTo>
                    <a:lnTo>
                      <a:pt x="27" y="1585"/>
                    </a:lnTo>
                    <a:lnTo>
                      <a:pt x="27" y="1575"/>
                    </a:lnTo>
                    <a:lnTo>
                      <a:pt x="18" y="1566"/>
                    </a:lnTo>
                    <a:lnTo>
                      <a:pt x="9" y="1556"/>
                    </a:lnTo>
                    <a:lnTo>
                      <a:pt x="9" y="1547"/>
                    </a:lnTo>
                    <a:lnTo>
                      <a:pt x="9" y="1538"/>
                    </a:lnTo>
                    <a:lnTo>
                      <a:pt x="0" y="1529"/>
                    </a:lnTo>
                    <a:lnTo>
                      <a:pt x="0" y="1520"/>
                    </a:lnTo>
                    <a:lnTo>
                      <a:pt x="0" y="1511"/>
                    </a:lnTo>
                    <a:lnTo>
                      <a:pt x="0" y="1502"/>
                    </a:lnTo>
                    <a:lnTo>
                      <a:pt x="0" y="1492"/>
                    </a:lnTo>
                    <a:lnTo>
                      <a:pt x="9" y="1484"/>
                    </a:lnTo>
                    <a:lnTo>
                      <a:pt x="18" y="1457"/>
                    </a:lnTo>
                    <a:lnTo>
                      <a:pt x="27" y="1438"/>
                    </a:lnTo>
                    <a:lnTo>
                      <a:pt x="36" y="1419"/>
                    </a:lnTo>
                    <a:lnTo>
                      <a:pt x="46" y="1400"/>
                    </a:lnTo>
                    <a:lnTo>
                      <a:pt x="56" y="1382"/>
                    </a:lnTo>
                    <a:lnTo>
                      <a:pt x="64" y="1365"/>
                    </a:lnTo>
                    <a:lnTo>
                      <a:pt x="73" y="1346"/>
                    </a:lnTo>
                    <a:lnTo>
                      <a:pt x="83" y="1337"/>
                    </a:lnTo>
                    <a:lnTo>
                      <a:pt x="91" y="1319"/>
                    </a:lnTo>
                    <a:lnTo>
                      <a:pt x="101" y="1300"/>
                    </a:lnTo>
                    <a:lnTo>
                      <a:pt x="119" y="1282"/>
                    </a:lnTo>
                    <a:lnTo>
                      <a:pt x="128" y="1263"/>
                    </a:lnTo>
                    <a:lnTo>
                      <a:pt x="137" y="1245"/>
                    </a:lnTo>
                    <a:lnTo>
                      <a:pt x="146" y="1227"/>
                    </a:lnTo>
                    <a:lnTo>
                      <a:pt x="155" y="1209"/>
                    </a:lnTo>
                    <a:lnTo>
                      <a:pt x="165" y="1191"/>
                    </a:lnTo>
                    <a:lnTo>
                      <a:pt x="174" y="1163"/>
                    </a:lnTo>
                    <a:lnTo>
                      <a:pt x="183" y="1144"/>
                    </a:lnTo>
                    <a:lnTo>
                      <a:pt x="201" y="1126"/>
                    </a:lnTo>
                    <a:lnTo>
                      <a:pt x="211" y="1099"/>
                    </a:lnTo>
                    <a:lnTo>
                      <a:pt x="220" y="1081"/>
                    </a:lnTo>
                    <a:lnTo>
                      <a:pt x="228" y="1062"/>
                    </a:lnTo>
                    <a:lnTo>
                      <a:pt x="238" y="1034"/>
                    </a:lnTo>
                    <a:lnTo>
                      <a:pt x="247" y="1016"/>
                    </a:lnTo>
                    <a:lnTo>
                      <a:pt x="265" y="989"/>
                    </a:lnTo>
                    <a:lnTo>
                      <a:pt x="275" y="971"/>
                    </a:lnTo>
                    <a:lnTo>
                      <a:pt x="283" y="952"/>
                    </a:lnTo>
                    <a:lnTo>
                      <a:pt x="292" y="925"/>
                    </a:lnTo>
                    <a:lnTo>
                      <a:pt x="302" y="906"/>
                    </a:lnTo>
                    <a:lnTo>
                      <a:pt x="321" y="887"/>
                    </a:lnTo>
                    <a:lnTo>
                      <a:pt x="330" y="860"/>
                    </a:lnTo>
                    <a:lnTo>
                      <a:pt x="338" y="842"/>
                    </a:lnTo>
                    <a:lnTo>
                      <a:pt x="366" y="797"/>
                    </a:lnTo>
                    <a:lnTo>
                      <a:pt x="393" y="741"/>
                    </a:lnTo>
                    <a:lnTo>
                      <a:pt x="420" y="695"/>
                    </a:lnTo>
                    <a:lnTo>
                      <a:pt x="448" y="640"/>
                    </a:lnTo>
                    <a:lnTo>
                      <a:pt x="476" y="595"/>
                    </a:lnTo>
                    <a:lnTo>
                      <a:pt x="503" y="540"/>
                    </a:lnTo>
                    <a:lnTo>
                      <a:pt x="530" y="493"/>
                    </a:lnTo>
                    <a:lnTo>
                      <a:pt x="558" y="439"/>
                    </a:lnTo>
                    <a:lnTo>
                      <a:pt x="586" y="394"/>
                    </a:lnTo>
                    <a:lnTo>
                      <a:pt x="613" y="338"/>
                    </a:lnTo>
                    <a:lnTo>
                      <a:pt x="640" y="292"/>
                    </a:lnTo>
                    <a:lnTo>
                      <a:pt x="667" y="246"/>
                    </a:lnTo>
                    <a:lnTo>
                      <a:pt x="695" y="191"/>
                    </a:lnTo>
                    <a:lnTo>
                      <a:pt x="723" y="145"/>
                    </a:lnTo>
                    <a:lnTo>
                      <a:pt x="750" y="99"/>
                    </a:lnTo>
                    <a:lnTo>
                      <a:pt x="787" y="45"/>
                    </a:lnTo>
                    <a:lnTo>
                      <a:pt x="787" y="35"/>
                    </a:lnTo>
                    <a:lnTo>
                      <a:pt x="796" y="35"/>
                    </a:lnTo>
                    <a:lnTo>
                      <a:pt x="796" y="27"/>
                    </a:lnTo>
                    <a:lnTo>
                      <a:pt x="805" y="27"/>
                    </a:lnTo>
                    <a:lnTo>
                      <a:pt x="814" y="18"/>
                    </a:lnTo>
                    <a:lnTo>
                      <a:pt x="824" y="18"/>
                    </a:lnTo>
                    <a:lnTo>
                      <a:pt x="824" y="8"/>
                    </a:lnTo>
                    <a:lnTo>
                      <a:pt x="833" y="8"/>
                    </a:lnTo>
                    <a:lnTo>
                      <a:pt x="842" y="0"/>
                    </a:lnTo>
                    <a:lnTo>
                      <a:pt x="852" y="0"/>
                    </a:lnTo>
                    <a:lnTo>
                      <a:pt x="860" y="0"/>
                    </a:lnTo>
                    <a:lnTo>
                      <a:pt x="870" y="0"/>
                    </a:lnTo>
                    <a:lnTo>
                      <a:pt x="860" y="0"/>
                    </a:lnTo>
                    <a:lnTo>
                      <a:pt x="879" y="18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2720880" y="4132080"/>
                <a:ext cx="137520" cy="357120"/>
              </a:xfrm>
              <a:custGeom>
                <a:avLst/>
                <a:gdLst/>
                <a:ahLst/>
                <a:rect l="l" t="t" r="r" b="b"/>
                <a:pathLst>
                  <a:path w="347" h="897">
                    <a:moveTo>
                      <a:pt x="0" y="0"/>
                    </a:moveTo>
                    <a:lnTo>
                      <a:pt x="8" y="63"/>
                    </a:lnTo>
                    <a:lnTo>
                      <a:pt x="18" y="119"/>
                    </a:lnTo>
                    <a:lnTo>
                      <a:pt x="36" y="183"/>
                    </a:lnTo>
                    <a:lnTo>
                      <a:pt x="45" y="238"/>
                    </a:lnTo>
                    <a:lnTo>
                      <a:pt x="63" y="301"/>
                    </a:lnTo>
                    <a:lnTo>
                      <a:pt x="82" y="356"/>
                    </a:lnTo>
                    <a:lnTo>
                      <a:pt x="110" y="411"/>
                    </a:lnTo>
                    <a:lnTo>
                      <a:pt x="128" y="467"/>
                    </a:lnTo>
                    <a:lnTo>
                      <a:pt x="155" y="522"/>
                    </a:lnTo>
                    <a:lnTo>
                      <a:pt x="173" y="577"/>
                    </a:lnTo>
                    <a:lnTo>
                      <a:pt x="200" y="632"/>
                    </a:lnTo>
                    <a:lnTo>
                      <a:pt x="228" y="687"/>
                    </a:lnTo>
                    <a:lnTo>
                      <a:pt x="256" y="741"/>
                    </a:lnTo>
                    <a:lnTo>
                      <a:pt x="292" y="797"/>
                    </a:lnTo>
                    <a:lnTo>
                      <a:pt x="320" y="851"/>
                    </a:lnTo>
                    <a:lnTo>
                      <a:pt x="347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2682720" y="4541400"/>
                <a:ext cx="205560" cy="207360"/>
              </a:xfrm>
              <a:custGeom>
                <a:avLst/>
                <a:gdLst/>
                <a:ahLst/>
                <a:rect l="l" t="t" r="r" b="b"/>
                <a:pathLst>
                  <a:path w="512" h="522">
                    <a:moveTo>
                      <a:pt x="512" y="0"/>
                    </a:moveTo>
                    <a:lnTo>
                      <a:pt x="485" y="27"/>
                    </a:lnTo>
                    <a:lnTo>
                      <a:pt x="458" y="64"/>
                    </a:lnTo>
                    <a:lnTo>
                      <a:pt x="421" y="91"/>
                    </a:lnTo>
                    <a:lnTo>
                      <a:pt x="394" y="129"/>
                    </a:lnTo>
                    <a:lnTo>
                      <a:pt x="357" y="156"/>
                    </a:lnTo>
                    <a:lnTo>
                      <a:pt x="320" y="192"/>
                    </a:lnTo>
                    <a:lnTo>
                      <a:pt x="292" y="219"/>
                    </a:lnTo>
                    <a:lnTo>
                      <a:pt x="256" y="256"/>
                    </a:lnTo>
                    <a:lnTo>
                      <a:pt x="220" y="284"/>
                    </a:lnTo>
                    <a:lnTo>
                      <a:pt x="193" y="321"/>
                    </a:lnTo>
                    <a:lnTo>
                      <a:pt x="155" y="348"/>
                    </a:lnTo>
                    <a:lnTo>
                      <a:pt x="128" y="384"/>
                    </a:lnTo>
                    <a:lnTo>
                      <a:pt x="92" y="413"/>
                    </a:lnTo>
                    <a:lnTo>
                      <a:pt x="65" y="448"/>
                    </a:lnTo>
                    <a:lnTo>
                      <a:pt x="37" y="485"/>
                    </a:lnTo>
                    <a:lnTo>
                      <a:pt x="0" y="52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546640" y="4748760"/>
                <a:ext cx="135720" cy="149760"/>
              </a:xfrm>
              <a:custGeom>
                <a:avLst/>
                <a:gdLst/>
                <a:ahLst/>
                <a:rect l="l" t="t" r="r" b="b"/>
                <a:pathLst>
                  <a:path w="339" h="375">
                    <a:moveTo>
                      <a:pt x="339" y="0"/>
                    </a:moveTo>
                    <a:lnTo>
                      <a:pt x="321" y="19"/>
                    </a:lnTo>
                    <a:lnTo>
                      <a:pt x="302" y="46"/>
                    </a:lnTo>
                    <a:lnTo>
                      <a:pt x="284" y="73"/>
                    </a:lnTo>
                    <a:lnTo>
                      <a:pt x="266" y="91"/>
                    </a:lnTo>
                    <a:lnTo>
                      <a:pt x="238" y="118"/>
                    </a:lnTo>
                    <a:lnTo>
                      <a:pt x="219" y="147"/>
                    </a:lnTo>
                    <a:lnTo>
                      <a:pt x="202" y="165"/>
                    </a:lnTo>
                    <a:lnTo>
                      <a:pt x="174" y="192"/>
                    </a:lnTo>
                    <a:lnTo>
                      <a:pt x="157" y="210"/>
                    </a:lnTo>
                    <a:lnTo>
                      <a:pt x="138" y="238"/>
                    </a:lnTo>
                    <a:lnTo>
                      <a:pt x="110" y="265"/>
                    </a:lnTo>
                    <a:lnTo>
                      <a:pt x="92" y="285"/>
                    </a:lnTo>
                    <a:lnTo>
                      <a:pt x="64" y="312"/>
                    </a:lnTo>
                    <a:lnTo>
                      <a:pt x="47" y="330"/>
                    </a:lnTo>
                    <a:lnTo>
                      <a:pt x="28" y="348"/>
                    </a:lnTo>
                    <a:lnTo>
                      <a:pt x="0" y="3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2386800" y="4762800"/>
                <a:ext cx="158040" cy="135720"/>
              </a:xfrm>
              <a:custGeom>
                <a:avLst/>
                <a:gdLst/>
                <a:ahLst/>
                <a:rect l="l" t="t" r="r" b="b"/>
                <a:pathLst>
                  <a:path w="394" h="339">
                    <a:moveTo>
                      <a:pt x="394" y="339"/>
                    </a:moveTo>
                    <a:lnTo>
                      <a:pt x="366" y="330"/>
                    </a:lnTo>
                    <a:lnTo>
                      <a:pt x="339" y="312"/>
                    </a:lnTo>
                    <a:lnTo>
                      <a:pt x="311" y="294"/>
                    </a:lnTo>
                    <a:lnTo>
                      <a:pt x="284" y="276"/>
                    </a:lnTo>
                    <a:lnTo>
                      <a:pt x="256" y="257"/>
                    </a:lnTo>
                    <a:lnTo>
                      <a:pt x="237" y="229"/>
                    </a:lnTo>
                    <a:lnTo>
                      <a:pt x="210" y="211"/>
                    </a:lnTo>
                    <a:lnTo>
                      <a:pt x="182" y="193"/>
                    </a:lnTo>
                    <a:lnTo>
                      <a:pt x="165" y="166"/>
                    </a:lnTo>
                    <a:lnTo>
                      <a:pt x="137" y="147"/>
                    </a:lnTo>
                    <a:lnTo>
                      <a:pt x="119" y="120"/>
                    </a:lnTo>
                    <a:lnTo>
                      <a:pt x="91" y="102"/>
                    </a:lnTo>
                    <a:lnTo>
                      <a:pt x="73" y="74"/>
                    </a:lnTo>
                    <a:lnTo>
                      <a:pt x="45" y="46"/>
                    </a:lnTo>
                    <a:lnTo>
                      <a:pt x="27" y="2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372760" y="4599360"/>
                <a:ext cx="61920" cy="117360"/>
              </a:xfrm>
              <a:custGeom>
                <a:avLst/>
                <a:gdLst/>
                <a:ahLst/>
                <a:rect l="l" t="t" r="r" b="b"/>
                <a:pathLst>
                  <a:path w="156" h="293">
                    <a:moveTo>
                      <a:pt x="0" y="293"/>
                    </a:moveTo>
                    <a:lnTo>
                      <a:pt x="9" y="266"/>
                    </a:lnTo>
                    <a:lnTo>
                      <a:pt x="18" y="247"/>
                    </a:lnTo>
                    <a:lnTo>
                      <a:pt x="27" y="228"/>
                    </a:lnTo>
                    <a:lnTo>
                      <a:pt x="37" y="209"/>
                    </a:lnTo>
                    <a:lnTo>
                      <a:pt x="47" y="191"/>
                    </a:lnTo>
                    <a:lnTo>
                      <a:pt x="55" y="174"/>
                    </a:lnTo>
                    <a:lnTo>
                      <a:pt x="64" y="155"/>
                    </a:lnTo>
                    <a:lnTo>
                      <a:pt x="74" y="146"/>
                    </a:lnTo>
                    <a:lnTo>
                      <a:pt x="82" y="128"/>
                    </a:lnTo>
                    <a:lnTo>
                      <a:pt x="92" y="109"/>
                    </a:lnTo>
                    <a:lnTo>
                      <a:pt x="110" y="91"/>
                    </a:lnTo>
                    <a:lnTo>
                      <a:pt x="119" y="72"/>
                    </a:lnTo>
                    <a:lnTo>
                      <a:pt x="128" y="54"/>
                    </a:lnTo>
                    <a:lnTo>
                      <a:pt x="137" y="36"/>
                    </a:lnTo>
                    <a:lnTo>
                      <a:pt x="146" y="18"/>
                    </a:lnTo>
                    <a:lnTo>
                      <a:pt x="1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2434680" y="4459680"/>
                <a:ext cx="67680" cy="1396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0" y="349"/>
                    </a:moveTo>
                    <a:lnTo>
                      <a:pt x="9" y="321"/>
                    </a:lnTo>
                    <a:lnTo>
                      <a:pt x="18" y="302"/>
                    </a:lnTo>
                    <a:lnTo>
                      <a:pt x="36" y="284"/>
                    </a:lnTo>
                    <a:lnTo>
                      <a:pt x="46" y="257"/>
                    </a:lnTo>
                    <a:lnTo>
                      <a:pt x="55" y="239"/>
                    </a:lnTo>
                    <a:lnTo>
                      <a:pt x="63" y="220"/>
                    </a:lnTo>
                    <a:lnTo>
                      <a:pt x="73" y="192"/>
                    </a:lnTo>
                    <a:lnTo>
                      <a:pt x="82" y="174"/>
                    </a:lnTo>
                    <a:lnTo>
                      <a:pt x="100" y="147"/>
                    </a:lnTo>
                    <a:lnTo>
                      <a:pt x="110" y="129"/>
                    </a:lnTo>
                    <a:lnTo>
                      <a:pt x="118" y="110"/>
                    </a:lnTo>
                    <a:lnTo>
                      <a:pt x="127" y="83"/>
                    </a:lnTo>
                    <a:lnTo>
                      <a:pt x="137" y="64"/>
                    </a:lnTo>
                    <a:lnTo>
                      <a:pt x="156" y="45"/>
                    </a:lnTo>
                    <a:lnTo>
                      <a:pt x="165" y="18"/>
                    </a:lnTo>
                    <a:lnTo>
                      <a:pt x="1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2502720" y="4142160"/>
                <a:ext cx="179640" cy="317160"/>
              </a:xfrm>
              <a:custGeom>
                <a:avLst/>
                <a:gdLst/>
                <a:ahLst/>
                <a:rect l="l" t="t" r="r" b="b"/>
                <a:pathLst>
                  <a:path w="449" h="797">
                    <a:moveTo>
                      <a:pt x="0" y="797"/>
                    </a:moveTo>
                    <a:lnTo>
                      <a:pt x="28" y="752"/>
                    </a:lnTo>
                    <a:lnTo>
                      <a:pt x="55" y="696"/>
                    </a:lnTo>
                    <a:lnTo>
                      <a:pt x="82" y="650"/>
                    </a:lnTo>
                    <a:lnTo>
                      <a:pt x="110" y="595"/>
                    </a:lnTo>
                    <a:lnTo>
                      <a:pt x="138" y="550"/>
                    </a:lnTo>
                    <a:lnTo>
                      <a:pt x="165" y="495"/>
                    </a:lnTo>
                    <a:lnTo>
                      <a:pt x="192" y="448"/>
                    </a:lnTo>
                    <a:lnTo>
                      <a:pt x="220" y="394"/>
                    </a:lnTo>
                    <a:lnTo>
                      <a:pt x="248" y="349"/>
                    </a:lnTo>
                    <a:lnTo>
                      <a:pt x="275" y="293"/>
                    </a:lnTo>
                    <a:lnTo>
                      <a:pt x="302" y="247"/>
                    </a:lnTo>
                    <a:lnTo>
                      <a:pt x="329" y="201"/>
                    </a:lnTo>
                    <a:lnTo>
                      <a:pt x="357" y="146"/>
                    </a:lnTo>
                    <a:lnTo>
                      <a:pt x="385" y="100"/>
                    </a:lnTo>
                    <a:lnTo>
                      <a:pt x="412" y="54"/>
                    </a:lnTo>
                    <a:lnTo>
                      <a:pt x="4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075040" y="4762800"/>
                <a:ext cx="307800" cy="63720"/>
              </a:xfrm>
              <a:custGeom>
                <a:avLst/>
                <a:gdLst/>
                <a:ahLst/>
                <a:rect l="l" t="t" r="r" b="b"/>
                <a:pathLst>
                  <a:path w="768" h="156">
                    <a:moveTo>
                      <a:pt x="668" y="10"/>
                    </a:moveTo>
                    <a:lnTo>
                      <a:pt x="678" y="10"/>
                    </a:lnTo>
                    <a:lnTo>
                      <a:pt x="686" y="10"/>
                    </a:lnTo>
                    <a:lnTo>
                      <a:pt x="695" y="10"/>
                    </a:lnTo>
                    <a:lnTo>
                      <a:pt x="705" y="10"/>
                    </a:lnTo>
                    <a:lnTo>
                      <a:pt x="713" y="19"/>
                    </a:lnTo>
                    <a:lnTo>
                      <a:pt x="713" y="28"/>
                    </a:lnTo>
                    <a:lnTo>
                      <a:pt x="723" y="37"/>
                    </a:lnTo>
                    <a:lnTo>
                      <a:pt x="723" y="46"/>
                    </a:lnTo>
                    <a:lnTo>
                      <a:pt x="723" y="55"/>
                    </a:lnTo>
                    <a:lnTo>
                      <a:pt x="732" y="64"/>
                    </a:lnTo>
                    <a:lnTo>
                      <a:pt x="741" y="74"/>
                    </a:lnTo>
                    <a:lnTo>
                      <a:pt x="768" y="102"/>
                    </a:lnTo>
                    <a:lnTo>
                      <a:pt x="741" y="111"/>
                    </a:lnTo>
                    <a:lnTo>
                      <a:pt x="713" y="129"/>
                    </a:lnTo>
                    <a:lnTo>
                      <a:pt x="686" y="129"/>
                    </a:lnTo>
                    <a:lnTo>
                      <a:pt x="659" y="139"/>
                    </a:lnTo>
                    <a:lnTo>
                      <a:pt x="631" y="147"/>
                    </a:lnTo>
                    <a:lnTo>
                      <a:pt x="603" y="147"/>
                    </a:lnTo>
                    <a:lnTo>
                      <a:pt x="576" y="147"/>
                    </a:lnTo>
                    <a:lnTo>
                      <a:pt x="540" y="156"/>
                    </a:lnTo>
                    <a:lnTo>
                      <a:pt x="513" y="156"/>
                    </a:lnTo>
                    <a:lnTo>
                      <a:pt x="485" y="156"/>
                    </a:lnTo>
                    <a:lnTo>
                      <a:pt x="458" y="156"/>
                    </a:lnTo>
                    <a:lnTo>
                      <a:pt x="421" y="156"/>
                    </a:lnTo>
                    <a:lnTo>
                      <a:pt x="394" y="156"/>
                    </a:lnTo>
                    <a:lnTo>
                      <a:pt x="366" y="156"/>
                    </a:lnTo>
                    <a:lnTo>
                      <a:pt x="329" y="156"/>
                    </a:lnTo>
                    <a:lnTo>
                      <a:pt x="302" y="156"/>
                    </a:lnTo>
                    <a:lnTo>
                      <a:pt x="284" y="156"/>
                    </a:lnTo>
                    <a:lnTo>
                      <a:pt x="266" y="147"/>
                    </a:lnTo>
                    <a:lnTo>
                      <a:pt x="247" y="147"/>
                    </a:lnTo>
                    <a:lnTo>
                      <a:pt x="228" y="139"/>
                    </a:lnTo>
                    <a:lnTo>
                      <a:pt x="210" y="139"/>
                    </a:lnTo>
                    <a:lnTo>
                      <a:pt x="192" y="139"/>
                    </a:lnTo>
                    <a:lnTo>
                      <a:pt x="174" y="139"/>
                    </a:lnTo>
                    <a:lnTo>
                      <a:pt x="156" y="129"/>
                    </a:lnTo>
                    <a:lnTo>
                      <a:pt x="137" y="129"/>
                    </a:lnTo>
                    <a:lnTo>
                      <a:pt x="119" y="129"/>
                    </a:lnTo>
                    <a:lnTo>
                      <a:pt x="100" y="120"/>
                    </a:lnTo>
                    <a:lnTo>
                      <a:pt x="82" y="120"/>
                    </a:lnTo>
                    <a:lnTo>
                      <a:pt x="64" y="111"/>
                    </a:lnTo>
                    <a:lnTo>
                      <a:pt x="46" y="111"/>
                    </a:lnTo>
                    <a:lnTo>
                      <a:pt x="27" y="102"/>
                    </a:lnTo>
                    <a:lnTo>
                      <a:pt x="9" y="92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9" y="74"/>
                    </a:lnTo>
                    <a:lnTo>
                      <a:pt x="19" y="64"/>
                    </a:lnTo>
                    <a:lnTo>
                      <a:pt x="27" y="64"/>
                    </a:lnTo>
                    <a:lnTo>
                      <a:pt x="37" y="55"/>
                    </a:lnTo>
                    <a:lnTo>
                      <a:pt x="46" y="55"/>
                    </a:lnTo>
                    <a:lnTo>
                      <a:pt x="54" y="55"/>
                    </a:lnTo>
                    <a:lnTo>
                      <a:pt x="64" y="55"/>
                    </a:lnTo>
                    <a:lnTo>
                      <a:pt x="73" y="46"/>
                    </a:lnTo>
                    <a:lnTo>
                      <a:pt x="82" y="46"/>
                    </a:lnTo>
                    <a:lnTo>
                      <a:pt x="91" y="46"/>
                    </a:lnTo>
                    <a:lnTo>
                      <a:pt x="109" y="46"/>
                    </a:lnTo>
                    <a:lnTo>
                      <a:pt x="119" y="46"/>
                    </a:lnTo>
                    <a:lnTo>
                      <a:pt x="129" y="46"/>
                    </a:lnTo>
                    <a:lnTo>
                      <a:pt x="137" y="46"/>
                    </a:lnTo>
                    <a:lnTo>
                      <a:pt x="147" y="37"/>
                    </a:lnTo>
                    <a:lnTo>
                      <a:pt x="156" y="37"/>
                    </a:lnTo>
                    <a:lnTo>
                      <a:pt x="164" y="37"/>
                    </a:lnTo>
                    <a:lnTo>
                      <a:pt x="174" y="37"/>
                    </a:lnTo>
                    <a:lnTo>
                      <a:pt x="183" y="37"/>
                    </a:lnTo>
                    <a:lnTo>
                      <a:pt x="192" y="37"/>
                    </a:lnTo>
                    <a:lnTo>
                      <a:pt x="201" y="37"/>
                    </a:lnTo>
                    <a:lnTo>
                      <a:pt x="210" y="37"/>
                    </a:lnTo>
                    <a:lnTo>
                      <a:pt x="219" y="37"/>
                    </a:lnTo>
                    <a:lnTo>
                      <a:pt x="228" y="28"/>
                    </a:lnTo>
                    <a:lnTo>
                      <a:pt x="238" y="28"/>
                    </a:lnTo>
                    <a:lnTo>
                      <a:pt x="247" y="28"/>
                    </a:lnTo>
                    <a:lnTo>
                      <a:pt x="256" y="28"/>
                    </a:lnTo>
                    <a:lnTo>
                      <a:pt x="266" y="19"/>
                    </a:lnTo>
                    <a:lnTo>
                      <a:pt x="274" y="19"/>
                    </a:lnTo>
                    <a:lnTo>
                      <a:pt x="284" y="19"/>
                    </a:lnTo>
                    <a:lnTo>
                      <a:pt x="293" y="19"/>
                    </a:lnTo>
                    <a:lnTo>
                      <a:pt x="302" y="19"/>
                    </a:lnTo>
                    <a:lnTo>
                      <a:pt x="311" y="19"/>
                    </a:lnTo>
                    <a:lnTo>
                      <a:pt x="320" y="10"/>
                    </a:lnTo>
                    <a:lnTo>
                      <a:pt x="329" y="10"/>
                    </a:lnTo>
                    <a:lnTo>
                      <a:pt x="338" y="10"/>
                    </a:lnTo>
                    <a:lnTo>
                      <a:pt x="348" y="10"/>
                    </a:lnTo>
                    <a:lnTo>
                      <a:pt x="356" y="10"/>
                    </a:lnTo>
                    <a:lnTo>
                      <a:pt x="366" y="10"/>
                    </a:lnTo>
                    <a:lnTo>
                      <a:pt x="375" y="10"/>
                    </a:lnTo>
                    <a:lnTo>
                      <a:pt x="384" y="10"/>
                    </a:lnTo>
                    <a:lnTo>
                      <a:pt x="394" y="10"/>
                    </a:lnTo>
                    <a:lnTo>
                      <a:pt x="403" y="10"/>
                    </a:lnTo>
                    <a:lnTo>
                      <a:pt x="412" y="10"/>
                    </a:lnTo>
                    <a:lnTo>
                      <a:pt x="421" y="10"/>
                    </a:lnTo>
                    <a:lnTo>
                      <a:pt x="430" y="10"/>
                    </a:lnTo>
                    <a:lnTo>
                      <a:pt x="439" y="10"/>
                    </a:lnTo>
                    <a:lnTo>
                      <a:pt x="448" y="10"/>
                    </a:lnTo>
                    <a:lnTo>
                      <a:pt x="458" y="10"/>
                    </a:lnTo>
                    <a:lnTo>
                      <a:pt x="466" y="10"/>
                    </a:lnTo>
                    <a:lnTo>
                      <a:pt x="475" y="10"/>
                    </a:lnTo>
                    <a:lnTo>
                      <a:pt x="485" y="10"/>
                    </a:lnTo>
                    <a:lnTo>
                      <a:pt x="493" y="10"/>
                    </a:lnTo>
                    <a:lnTo>
                      <a:pt x="503" y="10"/>
                    </a:lnTo>
                    <a:lnTo>
                      <a:pt x="513" y="10"/>
                    </a:lnTo>
                    <a:lnTo>
                      <a:pt x="522" y="10"/>
                    </a:lnTo>
                    <a:lnTo>
                      <a:pt x="531" y="10"/>
                    </a:lnTo>
                    <a:lnTo>
                      <a:pt x="540" y="10"/>
                    </a:lnTo>
                    <a:lnTo>
                      <a:pt x="549" y="10"/>
                    </a:lnTo>
                    <a:lnTo>
                      <a:pt x="558" y="10"/>
                    </a:lnTo>
                    <a:lnTo>
                      <a:pt x="568" y="0"/>
                    </a:lnTo>
                    <a:lnTo>
                      <a:pt x="576" y="0"/>
                    </a:lnTo>
                    <a:lnTo>
                      <a:pt x="585" y="0"/>
                    </a:lnTo>
                    <a:lnTo>
                      <a:pt x="595" y="0"/>
                    </a:lnTo>
                    <a:lnTo>
                      <a:pt x="603" y="0"/>
                    </a:lnTo>
                    <a:lnTo>
                      <a:pt x="613" y="0"/>
                    </a:lnTo>
                    <a:lnTo>
                      <a:pt x="622" y="0"/>
                    </a:lnTo>
                    <a:lnTo>
                      <a:pt x="631" y="0"/>
                    </a:lnTo>
                    <a:lnTo>
                      <a:pt x="640" y="0"/>
                    </a:lnTo>
                    <a:lnTo>
                      <a:pt x="650" y="0"/>
                    </a:lnTo>
                    <a:lnTo>
                      <a:pt x="659" y="0"/>
                    </a:lnTo>
                    <a:lnTo>
                      <a:pt x="668" y="1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408480" y="5412240"/>
                <a:ext cx="137520" cy="183240"/>
              </a:xfrm>
              <a:custGeom>
                <a:avLst/>
                <a:gdLst/>
                <a:ahLst/>
                <a:rect l="l" t="t" r="r" b="b"/>
                <a:pathLst>
                  <a:path w="348" h="459">
                    <a:moveTo>
                      <a:pt x="348" y="0"/>
                    </a:moveTo>
                    <a:lnTo>
                      <a:pt x="339" y="27"/>
                    </a:lnTo>
                    <a:lnTo>
                      <a:pt x="320" y="64"/>
                    </a:lnTo>
                    <a:lnTo>
                      <a:pt x="311" y="100"/>
                    </a:lnTo>
                    <a:lnTo>
                      <a:pt x="292" y="128"/>
                    </a:lnTo>
                    <a:lnTo>
                      <a:pt x="274" y="164"/>
                    </a:lnTo>
                    <a:lnTo>
                      <a:pt x="257" y="193"/>
                    </a:lnTo>
                    <a:lnTo>
                      <a:pt x="238" y="220"/>
                    </a:lnTo>
                    <a:lnTo>
                      <a:pt x="210" y="247"/>
                    </a:lnTo>
                    <a:lnTo>
                      <a:pt x="182" y="274"/>
                    </a:lnTo>
                    <a:lnTo>
                      <a:pt x="164" y="302"/>
                    </a:lnTo>
                    <a:lnTo>
                      <a:pt x="137" y="330"/>
                    </a:lnTo>
                    <a:lnTo>
                      <a:pt x="110" y="357"/>
                    </a:lnTo>
                    <a:lnTo>
                      <a:pt x="83" y="384"/>
                    </a:lnTo>
                    <a:lnTo>
                      <a:pt x="55" y="412"/>
                    </a:lnTo>
                    <a:lnTo>
                      <a:pt x="27" y="429"/>
                    </a:lnTo>
                    <a:lnTo>
                      <a:pt x="0" y="459"/>
                    </a:lnTo>
                    <a:lnTo>
                      <a:pt x="18" y="429"/>
                    </a:lnTo>
                    <a:lnTo>
                      <a:pt x="37" y="402"/>
                    </a:lnTo>
                    <a:lnTo>
                      <a:pt x="55" y="384"/>
                    </a:lnTo>
                    <a:lnTo>
                      <a:pt x="73" y="357"/>
                    </a:lnTo>
                    <a:lnTo>
                      <a:pt x="92" y="330"/>
                    </a:lnTo>
                    <a:lnTo>
                      <a:pt x="119" y="302"/>
                    </a:lnTo>
                    <a:lnTo>
                      <a:pt x="128" y="284"/>
                    </a:lnTo>
                    <a:lnTo>
                      <a:pt x="147" y="257"/>
                    </a:lnTo>
                    <a:lnTo>
                      <a:pt x="164" y="228"/>
                    </a:lnTo>
                    <a:lnTo>
                      <a:pt x="174" y="201"/>
                    </a:lnTo>
                    <a:lnTo>
                      <a:pt x="192" y="173"/>
                    </a:lnTo>
                    <a:lnTo>
                      <a:pt x="201" y="146"/>
                    </a:lnTo>
                    <a:lnTo>
                      <a:pt x="201" y="110"/>
                    </a:lnTo>
                    <a:lnTo>
                      <a:pt x="201" y="83"/>
                    </a:lnTo>
                    <a:lnTo>
                      <a:pt x="201" y="55"/>
                    </a:lnTo>
                    <a:lnTo>
                      <a:pt x="201" y="18"/>
                    </a:lnTo>
                    <a:lnTo>
                      <a:pt x="210" y="18"/>
                    </a:lnTo>
                    <a:lnTo>
                      <a:pt x="220" y="18"/>
                    </a:lnTo>
                    <a:lnTo>
                      <a:pt x="229" y="18"/>
                    </a:lnTo>
                    <a:lnTo>
                      <a:pt x="238" y="18"/>
                    </a:lnTo>
                    <a:lnTo>
                      <a:pt x="247" y="18"/>
                    </a:lnTo>
                    <a:lnTo>
                      <a:pt x="257" y="18"/>
                    </a:lnTo>
                    <a:lnTo>
                      <a:pt x="265" y="8"/>
                    </a:lnTo>
                    <a:lnTo>
                      <a:pt x="274" y="8"/>
                    </a:lnTo>
                    <a:lnTo>
                      <a:pt x="284" y="8"/>
                    </a:lnTo>
                    <a:lnTo>
                      <a:pt x="292" y="8"/>
                    </a:lnTo>
                    <a:lnTo>
                      <a:pt x="302" y="8"/>
                    </a:lnTo>
                    <a:lnTo>
                      <a:pt x="311" y="0"/>
                    </a:lnTo>
                    <a:lnTo>
                      <a:pt x="320" y="0"/>
                    </a:lnTo>
                    <a:lnTo>
                      <a:pt x="329" y="0"/>
                    </a:lnTo>
                    <a:lnTo>
                      <a:pt x="339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3408480" y="5412240"/>
                <a:ext cx="137520" cy="183240"/>
              </a:xfrm>
              <a:custGeom>
                <a:avLst/>
                <a:gdLst/>
                <a:ahLst/>
                <a:rect l="l" t="t" r="r" b="b"/>
                <a:pathLst>
                  <a:path w="348" h="459">
                    <a:moveTo>
                      <a:pt x="348" y="0"/>
                    </a:moveTo>
                    <a:lnTo>
                      <a:pt x="339" y="27"/>
                    </a:lnTo>
                    <a:lnTo>
                      <a:pt x="320" y="64"/>
                    </a:lnTo>
                    <a:lnTo>
                      <a:pt x="311" y="100"/>
                    </a:lnTo>
                    <a:lnTo>
                      <a:pt x="292" y="128"/>
                    </a:lnTo>
                    <a:lnTo>
                      <a:pt x="274" y="164"/>
                    </a:lnTo>
                    <a:lnTo>
                      <a:pt x="257" y="193"/>
                    </a:lnTo>
                    <a:lnTo>
                      <a:pt x="238" y="220"/>
                    </a:lnTo>
                    <a:lnTo>
                      <a:pt x="210" y="247"/>
                    </a:lnTo>
                    <a:lnTo>
                      <a:pt x="182" y="274"/>
                    </a:lnTo>
                    <a:lnTo>
                      <a:pt x="164" y="302"/>
                    </a:lnTo>
                    <a:lnTo>
                      <a:pt x="137" y="330"/>
                    </a:lnTo>
                    <a:lnTo>
                      <a:pt x="110" y="357"/>
                    </a:lnTo>
                    <a:lnTo>
                      <a:pt x="83" y="384"/>
                    </a:lnTo>
                    <a:lnTo>
                      <a:pt x="55" y="412"/>
                    </a:lnTo>
                    <a:lnTo>
                      <a:pt x="27" y="429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3408480" y="5419800"/>
                <a:ext cx="79560" cy="175320"/>
              </a:xfrm>
              <a:custGeom>
                <a:avLst/>
                <a:gdLst/>
                <a:ahLst/>
                <a:rect l="l" t="t" r="r" b="b"/>
                <a:pathLst>
                  <a:path w="201" h="441">
                    <a:moveTo>
                      <a:pt x="0" y="441"/>
                    </a:moveTo>
                    <a:lnTo>
                      <a:pt x="18" y="411"/>
                    </a:lnTo>
                    <a:lnTo>
                      <a:pt x="37" y="384"/>
                    </a:lnTo>
                    <a:lnTo>
                      <a:pt x="55" y="366"/>
                    </a:lnTo>
                    <a:lnTo>
                      <a:pt x="73" y="339"/>
                    </a:lnTo>
                    <a:lnTo>
                      <a:pt x="92" y="312"/>
                    </a:lnTo>
                    <a:lnTo>
                      <a:pt x="119" y="284"/>
                    </a:lnTo>
                    <a:lnTo>
                      <a:pt x="128" y="266"/>
                    </a:lnTo>
                    <a:lnTo>
                      <a:pt x="147" y="239"/>
                    </a:lnTo>
                    <a:lnTo>
                      <a:pt x="164" y="210"/>
                    </a:lnTo>
                    <a:lnTo>
                      <a:pt x="174" y="183"/>
                    </a:lnTo>
                    <a:lnTo>
                      <a:pt x="192" y="155"/>
                    </a:lnTo>
                    <a:lnTo>
                      <a:pt x="201" y="128"/>
                    </a:lnTo>
                    <a:lnTo>
                      <a:pt x="201" y="92"/>
                    </a:lnTo>
                    <a:lnTo>
                      <a:pt x="201" y="65"/>
                    </a:lnTo>
                    <a:lnTo>
                      <a:pt x="201" y="37"/>
                    </a:lnTo>
                    <a:lnTo>
                      <a:pt x="2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3532320" y="5481720"/>
                <a:ext cx="93600" cy="115560"/>
              </a:xfrm>
              <a:custGeom>
                <a:avLst/>
                <a:gdLst/>
                <a:ahLst/>
                <a:rect l="l" t="t" r="r" b="b"/>
                <a:pathLst>
                  <a:path w="238" h="294">
                    <a:moveTo>
                      <a:pt x="119" y="10"/>
                    </a:moveTo>
                    <a:lnTo>
                      <a:pt x="128" y="20"/>
                    </a:lnTo>
                    <a:lnTo>
                      <a:pt x="137" y="37"/>
                    </a:lnTo>
                    <a:lnTo>
                      <a:pt x="146" y="47"/>
                    </a:lnTo>
                    <a:lnTo>
                      <a:pt x="146" y="65"/>
                    </a:lnTo>
                    <a:lnTo>
                      <a:pt x="156" y="84"/>
                    </a:lnTo>
                    <a:lnTo>
                      <a:pt x="165" y="92"/>
                    </a:lnTo>
                    <a:lnTo>
                      <a:pt x="174" y="111"/>
                    </a:lnTo>
                    <a:lnTo>
                      <a:pt x="183" y="129"/>
                    </a:lnTo>
                    <a:lnTo>
                      <a:pt x="193" y="139"/>
                    </a:lnTo>
                    <a:lnTo>
                      <a:pt x="193" y="157"/>
                    </a:lnTo>
                    <a:lnTo>
                      <a:pt x="201" y="175"/>
                    </a:lnTo>
                    <a:lnTo>
                      <a:pt x="211" y="184"/>
                    </a:lnTo>
                    <a:lnTo>
                      <a:pt x="220" y="202"/>
                    </a:lnTo>
                    <a:lnTo>
                      <a:pt x="220" y="221"/>
                    </a:lnTo>
                    <a:lnTo>
                      <a:pt x="229" y="229"/>
                    </a:lnTo>
                    <a:lnTo>
                      <a:pt x="238" y="248"/>
                    </a:lnTo>
                    <a:lnTo>
                      <a:pt x="238" y="256"/>
                    </a:lnTo>
                    <a:lnTo>
                      <a:pt x="238" y="266"/>
                    </a:lnTo>
                    <a:lnTo>
                      <a:pt x="238" y="276"/>
                    </a:lnTo>
                    <a:lnTo>
                      <a:pt x="229" y="286"/>
                    </a:lnTo>
                    <a:lnTo>
                      <a:pt x="229" y="294"/>
                    </a:lnTo>
                    <a:lnTo>
                      <a:pt x="220" y="294"/>
                    </a:lnTo>
                    <a:lnTo>
                      <a:pt x="211" y="294"/>
                    </a:lnTo>
                    <a:lnTo>
                      <a:pt x="201" y="294"/>
                    </a:lnTo>
                    <a:lnTo>
                      <a:pt x="193" y="294"/>
                    </a:lnTo>
                    <a:lnTo>
                      <a:pt x="183" y="294"/>
                    </a:lnTo>
                    <a:lnTo>
                      <a:pt x="174" y="286"/>
                    </a:lnTo>
                    <a:lnTo>
                      <a:pt x="165" y="286"/>
                    </a:lnTo>
                    <a:lnTo>
                      <a:pt x="156" y="276"/>
                    </a:lnTo>
                    <a:lnTo>
                      <a:pt x="146" y="266"/>
                    </a:lnTo>
                    <a:lnTo>
                      <a:pt x="146" y="256"/>
                    </a:lnTo>
                    <a:lnTo>
                      <a:pt x="137" y="248"/>
                    </a:lnTo>
                    <a:lnTo>
                      <a:pt x="128" y="239"/>
                    </a:lnTo>
                    <a:lnTo>
                      <a:pt x="119" y="229"/>
                    </a:lnTo>
                    <a:lnTo>
                      <a:pt x="110" y="221"/>
                    </a:lnTo>
                    <a:lnTo>
                      <a:pt x="101" y="211"/>
                    </a:lnTo>
                    <a:lnTo>
                      <a:pt x="91" y="202"/>
                    </a:lnTo>
                    <a:lnTo>
                      <a:pt x="83" y="202"/>
                    </a:lnTo>
                    <a:lnTo>
                      <a:pt x="0" y="147"/>
                    </a:lnTo>
                    <a:lnTo>
                      <a:pt x="9" y="129"/>
                    </a:lnTo>
                    <a:lnTo>
                      <a:pt x="9" y="119"/>
                    </a:lnTo>
                    <a:lnTo>
                      <a:pt x="18" y="111"/>
                    </a:lnTo>
                    <a:lnTo>
                      <a:pt x="18" y="101"/>
                    </a:lnTo>
                    <a:lnTo>
                      <a:pt x="28" y="92"/>
                    </a:lnTo>
                    <a:lnTo>
                      <a:pt x="28" y="84"/>
                    </a:lnTo>
                    <a:lnTo>
                      <a:pt x="37" y="74"/>
                    </a:lnTo>
                    <a:lnTo>
                      <a:pt x="37" y="65"/>
                    </a:lnTo>
                    <a:lnTo>
                      <a:pt x="46" y="65"/>
                    </a:lnTo>
                    <a:lnTo>
                      <a:pt x="46" y="55"/>
                    </a:lnTo>
                    <a:lnTo>
                      <a:pt x="56" y="47"/>
                    </a:lnTo>
                    <a:lnTo>
                      <a:pt x="56" y="37"/>
                    </a:lnTo>
                    <a:lnTo>
                      <a:pt x="64" y="28"/>
                    </a:lnTo>
                    <a:lnTo>
                      <a:pt x="73" y="20"/>
                    </a:lnTo>
                    <a:lnTo>
                      <a:pt x="73" y="10"/>
                    </a:lnTo>
                    <a:lnTo>
                      <a:pt x="83" y="10"/>
                    </a:lnTo>
                    <a:lnTo>
                      <a:pt x="91" y="0"/>
                    </a:lnTo>
                    <a:lnTo>
                      <a:pt x="119" y="1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3580200" y="5486040"/>
                <a:ext cx="45720" cy="93600"/>
              </a:xfrm>
              <a:custGeom>
                <a:avLst/>
                <a:gdLst/>
                <a:ahLst/>
                <a:rect l="l" t="t" r="r" b="b"/>
                <a:pathLst>
                  <a:path w="119" h="238">
                    <a:moveTo>
                      <a:pt x="0" y="0"/>
                    </a:moveTo>
                    <a:lnTo>
                      <a:pt x="9" y="10"/>
                    </a:lnTo>
                    <a:lnTo>
                      <a:pt x="18" y="27"/>
                    </a:lnTo>
                    <a:lnTo>
                      <a:pt x="27" y="37"/>
                    </a:lnTo>
                    <a:lnTo>
                      <a:pt x="27" y="55"/>
                    </a:lnTo>
                    <a:lnTo>
                      <a:pt x="37" y="74"/>
                    </a:lnTo>
                    <a:lnTo>
                      <a:pt x="46" y="82"/>
                    </a:lnTo>
                    <a:lnTo>
                      <a:pt x="55" y="101"/>
                    </a:lnTo>
                    <a:lnTo>
                      <a:pt x="64" y="119"/>
                    </a:lnTo>
                    <a:lnTo>
                      <a:pt x="74" y="129"/>
                    </a:lnTo>
                    <a:lnTo>
                      <a:pt x="74" y="147"/>
                    </a:lnTo>
                    <a:lnTo>
                      <a:pt x="82" y="165"/>
                    </a:lnTo>
                    <a:lnTo>
                      <a:pt x="92" y="174"/>
                    </a:lnTo>
                    <a:lnTo>
                      <a:pt x="101" y="192"/>
                    </a:lnTo>
                    <a:lnTo>
                      <a:pt x="101" y="211"/>
                    </a:lnTo>
                    <a:lnTo>
                      <a:pt x="110" y="219"/>
                    </a:lnTo>
                    <a:lnTo>
                      <a:pt x="119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5" name=""/>
          <p:cNvSpPr/>
          <p:nvPr/>
        </p:nvSpPr>
        <p:spPr>
          <a:xfrm>
            <a:off x="3548160" y="6075360"/>
            <a:ext cx="3240" cy="324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8"/>
                </a:moveTo>
                <a:lnTo>
                  <a:pt x="0" y="0"/>
                </a:lnTo>
                <a:lnTo>
                  <a:pt x="9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"/>
          <p:cNvGrpSpPr/>
          <p:nvPr/>
        </p:nvGrpSpPr>
        <p:grpSpPr>
          <a:xfrm>
            <a:off x="3085560" y="887400"/>
            <a:ext cx="4223880" cy="1585080"/>
            <a:chOff x="3085560" y="887400"/>
            <a:chExt cx="4223880" cy="1585080"/>
          </a:xfrm>
        </p:grpSpPr>
        <p:sp>
          <p:nvSpPr>
            <p:cNvPr id="2407" name=""/>
            <p:cNvSpPr/>
            <p:nvPr/>
          </p:nvSpPr>
          <p:spPr>
            <a:xfrm>
              <a:off x="3085560" y="1268280"/>
              <a:ext cx="422388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bstinence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161160" y="88740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3089880" y="2470320"/>
            <a:ext cx="4221360" cy="1585080"/>
            <a:chOff x="3089880" y="2470320"/>
            <a:chExt cx="4221360" cy="1585080"/>
          </a:xfrm>
        </p:grpSpPr>
        <p:sp>
          <p:nvSpPr>
            <p:cNvPr id="2410" name=""/>
            <p:cNvSpPr/>
            <p:nvPr/>
          </p:nvSpPr>
          <p:spPr>
            <a:xfrm>
              <a:off x="3268800" y="2851200"/>
              <a:ext cx="40424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e Faithful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089880" y="247032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3039480" y="4052880"/>
            <a:ext cx="4329000" cy="1585080"/>
            <a:chOff x="3039480" y="4052880"/>
            <a:chExt cx="4329000" cy="1585080"/>
          </a:xfrm>
        </p:grpSpPr>
        <p:sp>
          <p:nvSpPr>
            <p:cNvPr id="2413" name=""/>
            <p:cNvSpPr/>
            <p:nvPr/>
          </p:nvSpPr>
          <p:spPr>
            <a:xfrm>
              <a:off x="3039480" y="4433760"/>
              <a:ext cx="43290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ondomize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054960" y="405288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1981080" y="1219320"/>
            <a:ext cx="914400" cy="4120920"/>
            <a:chOff x="1981080" y="1219320"/>
            <a:chExt cx="914400" cy="4120920"/>
          </a:xfrm>
        </p:grpSpPr>
        <p:sp>
          <p:nvSpPr>
            <p:cNvPr id="2416" name=""/>
            <p:cNvSpPr/>
            <p:nvPr/>
          </p:nvSpPr>
          <p:spPr>
            <a:xfrm>
              <a:off x="1981080" y="1219320"/>
              <a:ext cx="914400" cy="939600"/>
            </a:xfrm>
            <a:custGeom>
              <a:avLst/>
              <a:gdLst/>
              <a:ahLst/>
              <a:rect l="l" t="t" r="r" b="b"/>
              <a:pathLst>
                <a:path w="2878" h="2958">
                  <a:moveTo>
                    <a:pt x="1126" y="1886"/>
                  </a:moveTo>
                  <a:lnTo>
                    <a:pt x="1735" y="1886"/>
                  </a:lnTo>
                  <a:lnTo>
                    <a:pt x="1429" y="889"/>
                  </a:lnTo>
                  <a:lnTo>
                    <a:pt x="1126" y="1886"/>
                  </a:lnTo>
                  <a:close/>
                  <a:moveTo>
                    <a:pt x="0" y="2958"/>
                  </a:moveTo>
                  <a:lnTo>
                    <a:pt x="1035" y="0"/>
                  </a:lnTo>
                  <a:lnTo>
                    <a:pt x="1901" y="0"/>
                  </a:lnTo>
                  <a:lnTo>
                    <a:pt x="2878" y="2958"/>
                  </a:lnTo>
                  <a:lnTo>
                    <a:pt x="2066" y="2958"/>
                  </a:lnTo>
                  <a:lnTo>
                    <a:pt x="1959" y="2626"/>
                  </a:lnTo>
                  <a:lnTo>
                    <a:pt x="912" y="2626"/>
                  </a:lnTo>
                  <a:lnTo>
                    <a:pt x="798" y="2958"/>
                  </a:lnTo>
                  <a:lnTo>
                    <a:pt x="0" y="2958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057400" y="2801880"/>
              <a:ext cx="641520" cy="939960"/>
            </a:xfrm>
            <a:custGeom>
              <a:avLst/>
              <a:gdLst/>
              <a:ahLst/>
              <a:rect l="l" t="t" r="r" b="b"/>
              <a:pathLst>
                <a:path w="2020" h="2957">
                  <a:moveTo>
                    <a:pt x="767" y="1153"/>
                  </a:moveTo>
                  <a:lnTo>
                    <a:pt x="901" y="1153"/>
                  </a:lnTo>
                  <a:lnTo>
                    <a:pt x="944" y="1153"/>
                  </a:lnTo>
                  <a:lnTo>
                    <a:pt x="983" y="1149"/>
                  </a:lnTo>
                  <a:lnTo>
                    <a:pt x="1002" y="1147"/>
                  </a:lnTo>
                  <a:lnTo>
                    <a:pt x="1020" y="1144"/>
                  </a:lnTo>
                  <a:lnTo>
                    <a:pt x="1037" y="1142"/>
                  </a:lnTo>
                  <a:lnTo>
                    <a:pt x="1053" y="1138"/>
                  </a:lnTo>
                  <a:lnTo>
                    <a:pt x="1070" y="1134"/>
                  </a:lnTo>
                  <a:lnTo>
                    <a:pt x="1085" y="1130"/>
                  </a:lnTo>
                  <a:lnTo>
                    <a:pt x="1099" y="1126"/>
                  </a:lnTo>
                  <a:lnTo>
                    <a:pt x="1113" y="1120"/>
                  </a:lnTo>
                  <a:lnTo>
                    <a:pt x="1126" y="1115"/>
                  </a:lnTo>
                  <a:lnTo>
                    <a:pt x="1138" y="1109"/>
                  </a:lnTo>
                  <a:lnTo>
                    <a:pt x="1150" y="1102"/>
                  </a:lnTo>
                  <a:lnTo>
                    <a:pt x="1161" y="1094"/>
                  </a:lnTo>
                  <a:lnTo>
                    <a:pt x="1171" y="1087"/>
                  </a:lnTo>
                  <a:lnTo>
                    <a:pt x="1181" y="1079"/>
                  </a:lnTo>
                  <a:lnTo>
                    <a:pt x="1190" y="1071"/>
                  </a:lnTo>
                  <a:lnTo>
                    <a:pt x="1198" y="1062"/>
                  </a:lnTo>
                  <a:lnTo>
                    <a:pt x="1205" y="1053"/>
                  </a:lnTo>
                  <a:lnTo>
                    <a:pt x="1213" y="1042"/>
                  </a:lnTo>
                  <a:lnTo>
                    <a:pt x="1219" y="1032"/>
                  </a:lnTo>
                  <a:lnTo>
                    <a:pt x="1225" y="1021"/>
                  </a:lnTo>
                  <a:lnTo>
                    <a:pt x="1230" y="1010"/>
                  </a:lnTo>
                  <a:lnTo>
                    <a:pt x="1234" y="997"/>
                  </a:lnTo>
                  <a:lnTo>
                    <a:pt x="1237" y="985"/>
                  </a:lnTo>
                  <a:lnTo>
                    <a:pt x="1240" y="973"/>
                  </a:lnTo>
                  <a:lnTo>
                    <a:pt x="1243" y="960"/>
                  </a:lnTo>
                  <a:lnTo>
                    <a:pt x="1244" y="946"/>
                  </a:lnTo>
                  <a:lnTo>
                    <a:pt x="1245" y="932"/>
                  </a:lnTo>
                  <a:lnTo>
                    <a:pt x="1246" y="917"/>
                  </a:lnTo>
                  <a:lnTo>
                    <a:pt x="1245" y="901"/>
                  </a:lnTo>
                  <a:lnTo>
                    <a:pt x="1244" y="883"/>
                  </a:lnTo>
                  <a:lnTo>
                    <a:pt x="1243" y="868"/>
                  </a:lnTo>
                  <a:lnTo>
                    <a:pt x="1241" y="853"/>
                  </a:lnTo>
                  <a:lnTo>
                    <a:pt x="1238" y="837"/>
                  </a:lnTo>
                  <a:lnTo>
                    <a:pt x="1235" y="824"/>
                  </a:lnTo>
                  <a:lnTo>
                    <a:pt x="1231" y="810"/>
                  </a:lnTo>
                  <a:lnTo>
                    <a:pt x="1226" y="798"/>
                  </a:lnTo>
                  <a:lnTo>
                    <a:pt x="1221" y="785"/>
                  </a:lnTo>
                  <a:lnTo>
                    <a:pt x="1215" y="774"/>
                  </a:lnTo>
                  <a:lnTo>
                    <a:pt x="1209" y="763"/>
                  </a:lnTo>
                  <a:lnTo>
                    <a:pt x="1201" y="753"/>
                  </a:lnTo>
                  <a:lnTo>
                    <a:pt x="1194" y="742"/>
                  </a:lnTo>
                  <a:lnTo>
                    <a:pt x="1185" y="733"/>
                  </a:lnTo>
                  <a:lnTo>
                    <a:pt x="1177" y="725"/>
                  </a:lnTo>
                  <a:lnTo>
                    <a:pt x="1167" y="717"/>
                  </a:lnTo>
                  <a:lnTo>
                    <a:pt x="1156" y="710"/>
                  </a:lnTo>
                  <a:lnTo>
                    <a:pt x="1145" y="703"/>
                  </a:lnTo>
                  <a:lnTo>
                    <a:pt x="1134" y="697"/>
                  </a:lnTo>
                  <a:lnTo>
                    <a:pt x="1121" y="690"/>
                  </a:lnTo>
                  <a:lnTo>
                    <a:pt x="1106" y="685"/>
                  </a:lnTo>
                  <a:lnTo>
                    <a:pt x="1092" y="680"/>
                  </a:lnTo>
                  <a:lnTo>
                    <a:pt x="1077" y="676"/>
                  </a:lnTo>
                  <a:lnTo>
                    <a:pt x="1061" y="672"/>
                  </a:lnTo>
                  <a:lnTo>
                    <a:pt x="1044" y="668"/>
                  </a:lnTo>
                  <a:lnTo>
                    <a:pt x="1026" y="665"/>
                  </a:lnTo>
                  <a:lnTo>
                    <a:pt x="1007" y="663"/>
                  </a:lnTo>
                  <a:lnTo>
                    <a:pt x="988" y="661"/>
                  </a:lnTo>
                  <a:lnTo>
                    <a:pt x="946" y="658"/>
                  </a:lnTo>
                  <a:lnTo>
                    <a:pt x="901" y="657"/>
                  </a:lnTo>
                  <a:lnTo>
                    <a:pt x="767" y="657"/>
                  </a:lnTo>
                  <a:lnTo>
                    <a:pt x="767" y="1153"/>
                  </a:lnTo>
                  <a:close/>
                  <a:moveTo>
                    <a:pt x="767" y="2279"/>
                  </a:moveTo>
                  <a:lnTo>
                    <a:pt x="925" y="2279"/>
                  </a:lnTo>
                  <a:lnTo>
                    <a:pt x="944" y="2279"/>
                  </a:lnTo>
                  <a:lnTo>
                    <a:pt x="965" y="2278"/>
                  </a:lnTo>
                  <a:lnTo>
                    <a:pt x="983" y="2277"/>
                  </a:lnTo>
                  <a:lnTo>
                    <a:pt x="1002" y="2276"/>
                  </a:lnTo>
                  <a:lnTo>
                    <a:pt x="1020" y="2273"/>
                  </a:lnTo>
                  <a:lnTo>
                    <a:pt x="1037" y="2271"/>
                  </a:lnTo>
                  <a:lnTo>
                    <a:pt x="1053" y="2268"/>
                  </a:lnTo>
                  <a:lnTo>
                    <a:pt x="1069" y="2264"/>
                  </a:lnTo>
                  <a:lnTo>
                    <a:pt x="1084" y="2259"/>
                  </a:lnTo>
                  <a:lnTo>
                    <a:pt x="1098" y="2254"/>
                  </a:lnTo>
                  <a:lnTo>
                    <a:pt x="1113" y="2249"/>
                  </a:lnTo>
                  <a:lnTo>
                    <a:pt x="1126" y="2244"/>
                  </a:lnTo>
                  <a:lnTo>
                    <a:pt x="1138" y="2238"/>
                  </a:lnTo>
                  <a:lnTo>
                    <a:pt x="1150" y="2231"/>
                  </a:lnTo>
                  <a:lnTo>
                    <a:pt x="1162" y="2224"/>
                  </a:lnTo>
                  <a:lnTo>
                    <a:pt x="1172" y="2217"/>
                  </a:lnTo>
                  <a:lnTo>
                    <a:pt x="1182" y="2208"/>
                  </a:lnTo>
                  <a:lnTo>
                    <a:pt x="1191" y="2200"/>
                  </a:lnTo>
                  <a:lnTo>
                    <a:pt x="1199" y="2191"/>
                  </a:lnTo>
                  <a:lnTo>
                    <a:pt x="1207" y="2181"/>
                  </a:lnTo>
                  <a:lnTo>
                    <a:pt x="1215" y="2172"/>
                  </a:lnTo>
                  <a:lnTo>
                    <a:pt x="1222" y="2160"/>
                  </a:lnTo>
                  <a:lnTo>
                    <a:pt x="1228" y="2149"/>
                  </a:lnTo>
                  <a:lnTo>
                    <a:pt x="1233" y="2138"/>
                  </a:lnTo>
                  <a:lnTo>
                    <a:pt x="1238" y="2126"/>
                  </a:lnTo>
                  <a:lnTo>
                    <a:pt x="1242" y="2113"/>
                  </a:lnTo>
                  <a:lnTo>
                    <a:pt x="1246" y="2100"/>
                  </a:lnTo>
                  <a:lnTo>
                    <a:pt x="1249" y="2086"/>
                  </a:lnTo>
                  <a:lnTo>
                    <a:pt x="1251" y="2072"/>
                  </a:lnTo>
                  <a:lnTo>
                    <a:pt x="1252" y="2057"/>
                  </a:lnTo>
                  <a:lnTo>
                    <a:pt x="1253" y="2042"/>
                  </a:lnTo>
                  <a:lnTo>
                    <a:pt x="1254" y="2026"/>
                  </a:lnTo>
                  <a:lnTo>
                    <a:pt x="1253" y="2008"/>
                  </a:lnTo>
                  <a:lnTo>
                    <a:pt x="1252" y="1991"/>
                  </a:lnTo>
                  <a:lnTo>
                    <a:pt x="1251" y="1975"/>
                  </a:lnTo>
                  <a:lnTo>
                    <a:pt x="1248" y="1958"/>
                  </a:lnTo>
                  <a:lnTo>
                    <a:pt x="1245" y="1943"/>
                  </a:lnTo>
                  <a:lnTo>
                    <a:pt x="1242" y="1928"/>
                  </a:lnTo>
                  <a:lnTo>
                    <a:pt x="1238" y="1914"/>
                  </a:lnTo>
                  <a:lnTo>
                    <a:pt x="1233" y="1900"/>
                  </a:lnTo>
                  <a:lnTo>
                    <a:pt x="1227" y="1887"/>
                  </a:lnTo>
                  <a:lnTo>
                    <a:pt x="1221" y="1874"/>
                  </a:lnTo>
                  <a:lnTo>
                    <a:pt x="1214" y="1863"/>
                  </a:lnTo>
                  <a:lnTo>
                    <a:pt x="1206" y="1850"/>
                  </a:lnTo>
                  <a:lnTo>
                    <a:pt x="1198" y="1840"/>
                  </a:lnTo>
                  <a:lnTo>
                    <a:pt x="1189" y="1830"/>
                  </a:lnTo>
                  <a:lnTo>
                    <a:pt x="1180" y="1820"/>
                  </a:lnTo>
                  <a:lnTo>
                    <a:pt x="1170" y="1811"/>
                  </a:lnTo>
                  <a:lnTo>
                    <a:pt x="1159" y="1802"/>
                  </a:lnTo>
                  <a:lnTo>
                    <a:pt x="1146" y="1794"/>
                  </a:lnTo>
                  <a:lnTo>
                    <a:pt x="1134" y="1787"/>
                  </a:lnTo>
                  <a:lnTo>
                    <a:pt x="1121" y="1781"/>
                  </a:lnTo>
                  <a:lnTo>
                    <a:pt x="1106" y="1775"/>
                  </a:lnTo>
                  <a:lnTo>
                    <a:pt x="1092" y="1769"/>
                  </a:lnTo>
                  <a:lnTo>
                    <a:pt x="1077" y="1764"/>
                  </a:lnTo>
                  <a:lnTo>
                    <a:pt x="1061" y="1759"/>
                  </a:lnTo>
                  <a:lnTo>
                    <a:pt x="1044" y="1754"/>
                  </a:lnTo>
                  <a:lnTo>
                    <a:pt x="1026" y="1751"/>
                  </a:lnTo>
                  <a:lnTo>
                    <a:pt x="1007" y="1748"/>
                  </a:lnTo>
                  <a:lnTo>
                    <a:pt x="989" y="1745"/>
                  </a:lnTo>
                  <a:lnTo>
                    <a:pt x="969" y="1744"/>
                  </a:lnTo>
                  <a:lnTo>
                    <a:pt x="948" y="1742"/>
                  </a:lnTo>
                  <a:lnTo>
                    <a:pt x="928" y="1741"/>
                  </a:lnTo>
                  <a:lnTo>
                    <a:pt x="905" y="1741"/>
                  </a:lnTo>
                  <a:lnTo>
                    <a:pt x="767" y="1741"/>
                  </a:lnTo>
                  <a:lnTo>
                    <a:pt x="767" y="2279"/>
                  </a:lnTo>
                  <a:close/>
                  <a:moveTo>
                    <a:pt x="0" y="2957"/>
                  </a:moveTo>
                  <a:lnTo>
                    <a:pt x="0" y="0"/>
                  </a:lnTo>
                  <a:lnTo>
                    <a:pt x="989" y="0"/>
                  </a:lnTo>
                  <a:lnTo>
                    <a:pt x="1050" y="1"/>
                  </a:lnTo>
                  <a:lnTo>
                    <a:pt x="1111" y="3"/>
                  </a:lnTo>
                  <a:lnTo>
                    <a:pt x="1169" y="8"/>
                  </a:lnTo>
                  <a:lnTo>
                    <a:pt x="1225" y="13"/>
                  </a:lnTo>
                  <a:lnTo>
                    <a:pt x="1279" y="20"/>
                  </a:lnTo>
                  <a:lnTo>
                    <a:pt x="1331" y="29"/>
                  </a:lnTo>
                  <a:lnTo>
                    <a:pt x="1381" y="40"/>
                  </a:lnTo>
                  <a:lnTo>
                    <a:pt x="1430" y="52"/>
                  </a:lnTo>
                  <a:lnTo>
                    <a:pt x="1477" y="66"/>
                  </a:lnTo>
                  <a:lnTo>
                    <a:pt x="1522" y="81"/>
                  </a:lnTo>
                  <a:lnTo>
                    <a:pt x="1543" y="89"/>
                  </a:lnTo>
                  <a:lnTo>
                    <a:pt x="1565" y="99"/>
                  </a:lnTo>
                  <a:lnTo>
                    <a:pt x="1585" y="108"/>
                  </a:lnTo>
                  <a:lnTo>
                    <a:pt x="1606" y="117"/>
                  </a:lnTo>
                  <a:lnTo>
                    <a:pt x="1625" y="127"/>
                  </a:lnTo>
                  <a:lnTo>
                    <a:pt x="1644" y="137"/>
                  </a:lnTo>
                  <a:lnTo>
                    <a:pt x="1664" y="149"/>
                  </a:lnTo>
                  <a:lnTo>
                    <a:pt x="1682" y="160"/>
                  </a:lnTo>
                  <a:lnTo>
                    <a:pt x="1699" y="171"/>
                  </a:lnTo>
                  <a:lnTo>
                    <a:pt x="1717" y="183"/>
                  </a:lnTo>
                  <a:lnTo>
                    <a:pt x="1734" y="196"/>
                  </a:lnTo>
                  <a:lnTo>
                    <a:pt x="1750" y="208"/>
                  </a:lnTo>
                  <a:lnTo>
                    <a:pt x="1767" y="221"/>
                  </a:lnTo>
                  <a:lnTo>
                    <a:pt x="1782" y="235"/>
                  </a:lnTo>
                  <a:lnTo>
                    <a:pt x="1797" y="249"/>
                  </a:lnTo>
                  <a:lnTo>
                    <a:pt x="1812" y="263"/>
                  </a:lnTo>
                  <a:lnTo>
                    <a:pt x="1826" y="278"/>
                  </a:lnTo>
                  <a:lnTo>
                    <a:pt x="1839" y="293"/>
                  </a:lnTo>
                  <a:lnTo>
                    <a:pt x="1853" y="309"/>
                  </a:lnTo>
                  <a:lnTo>
                    <a:pt x="1865" y="324"/>
                  </a:lnTo>
                  <a:lnTo>
                    <a:pt x="1877" y="340"/>
                  </a:lnTo>
                  <a:lnTo>
                    <a:pt x="1888" y="357"/>
                  </a:lnTo>
                  <a:lnTo>
                    <a:pt x="1899" y="374"/>
                  </a:lnTo>
                  <a:lnTo>
                    <a:pt x="1910" y="391"/>
                  </a:lnTo>
                  <a:lnTo>
                    <a:pt x="1920" y="409"/>
                  </a:lnTo>
                  <a:lnTo>
                    <a:pt x="1929" y="426"/>
                  </a:lnTo>
                  <a:lnTo>
                    <a:pt x="1938" y="445"/>
                  </a:lnTo>
                  <a:lnTo>
                    <a:pt x="1946" y="464"/>
                  </a:lnTo>
                  <a:lnTo>
                    <a:pt x="1955" y="483"/>
                  </a:lnTo>
                  <a:lnTo>
                    <a:pt x="1962" y="503"/>
                  </a:lnTo>
                  <a:lnTo>
                    <a:pt x="1969" y="522"/>
                  </a:lnTo>
                  <a:lnTo>
                    <a:pt x="1975" y="542"/>
                  </a:lnTo>
                  <a:lnTo>
                    <a:pt x="1981" y="563"/>
                  </a:lnTo>
                  <a:lnTo>
                    <a:pt x="1986" y="584"/>
                  </a:lnTo>
                  <a:lnTo>
                    <a:pt x="1991" y="606"/>
                  </a:lnTo>
                  <a:lnTo>
                    <a:pt x="1995" y="627"/>
                  </a:lnTo>
                  <a:lnTo>
                    <a:pt x="1999" y="650"/>
                  </a:lnTo>
                  <a:lnTo>
                    <a:pt x="2003" y="671"/>
                  </a:lnTo>
                  <a:lnTo>
                    <a:pt x="2006" y="694"/>
                  </a:lnTo>
                  <a:lnTo>
                    <a:pt x="2008" y="718"/>
                  </a:lnTo>
                  <a:lnTo>
                    <a:pt x="2010" y="741"/>
                  </a:lnTo>
                  <a:lnTo>
                    <a:pt x="2011" y="765"/>
                  </a:lnTo>
                  <a:lnTo>
                    <a:pt x="2012" y="789"/>
                  </a:lnTo>
                  <a:lnTo>
                    <a:pt x="2012" y="814"/>
                  </a:lnTo>
                  <a:lnTo>
                    <a:pt x="2012" y="842"/>
                  </a:lnTo>
                  <a:lnTo>
                    <a:pt x="2010" y="871"/>
                  </a:lnTo>
                  <a:lnTo>
                    <a:pt x="2009" y="900"/>
                  </a:lnTo>
                  <a:lnTo>
                    <a:pt x="2006" y="926"/>
                  </a:lnTo>
                  <a:lnTo>
                    <a:pt x="2003" y="954"/>
                  </a:lnTo>
                  <a:lnTo>
                    <a:pt x="1998" y="979"/>
                  </a:lnTo>
                  <a:lnTo>
                    <a:pt x="1993" y="1005"/>
                  </a:lnTo>
                  <a:lnTo>
                    <a:pt x="1987" y="1029"/>
                  </a:lnTo>
                  <a:lnTo>
                    <a:pt x="1981" y="1054"/>
                  </a:lnTo>
                  <a:lnTo>
                    <a:pt x="1974" y="1077"/>
                  </a:lnTo>
                  <a:lnTo>
                    <a:pt x="1966" y="1101"/>
                  </a:lnTo>
                  <a:lnTo>
                    <a:pt x="1958" y="1123"/>
                  </a:lnTo>
                  <a:lnTo>
                    <a:pt x="1948" y="1144"/>
                  </a:lnTo>
                  <a:lnTo>
                    <a:pt x="1938" y="1166"/>
                  </a:lnTo>
                  <a:lnTo>
                    <a:pt x="1927" y="1187"/>
                  </a:lnTo>
                  <a:lnTo>
                    <a:pt x="1916" y="1207"/>
                  </a:lnTo>
                  <a:lnTo>
                    <a:pt x="1904" y="1226"/>
                  </a:lnTo>
                  <a:lnTo>
                    <a:pt x="1890" y="1245"/>
                  </a:lnTo>
                  <a:lnTo>
                    <a:pt x="1876" y="1265"/>
                  </a:lnTo>
                  <a:lnTo>
                    <a:pt x="1861" y="1283"/>
                  </a:lnTo>
                  <a:lnTo>
                    <a:pt x="1845" y="1300"/>
                  </a:lnTo>
                  <a:lnTo>
                    <a:pt x="1828" y="1318"/>
                  </a:lnTo>
                  <a:lnTo>
                    <a:pt x="1811" y="1335"/>
                  </a:lnTo>
                  <a:lnTo>
                    <a:pt x="1792" y="1351"/>
                  </a:lnTo>
                  <a:lnTo>
                    <a:pt x="1773" y="1368"/>
                  </a:lnTo>
                  <a:lnTo>
                    <a:pt x="1754" y="1383"/>
                  </a:lnTo>
                  <a:lnTo>
                    <a:pt x="1732" y="1398"/>
                  </a:lnTo>
                  <a:lnTo>
                    <a:pt x="1711" y="1414"/>
                  </a:lnTo>
                  <a:lnTo>
                    <a:pt x="1688" y="1428"/>
                  </a:lnTo>
                  <a:lnTo>
                    <a:pt x="1665" y="1441"/>
                  </a:lnTo>
                  <a:lnTo>
                    <a:pt x="1640" y="1456"/>
                  </a:lnTo>
                  <a:lnTo>
                    <a:pt x="1616" y="1468"/>
                  </a:lnTo>
                  <a:lnTo>
                    <a:pt x="1640" y="1478"/>
                  </a:lnTo>
                  <a:lnTo>
                    <a:pt x="1664" y="1487"/>
                  </a:lnTo>
                  <a:lnTo>
                    <a:pt x="1687" y="1498"/>
                  </a:lnTo>
                  <a:lnTo>
                    <a:pt x="1710" y="1510"/>
                  </a:lnTo>
                  <a:lnTo>
                    <a:pt x="1731" y="1522"/>
                  </a:lnTo>
                  <a:lnTo>
                    <a:pt x="1751" y="1535"/>
                  </a:lnTo>
                  <a:lnTo>
                    <a:pt x="1772" y="1548"/>
                  </a:lnTo>
                  <a:lnTo>
                    <a:pt x="1791" y="1563"/>
                  </a:lnTo>
                  <a:lnTo>
                    <a:pt x="1810" y="1578"/>
                  </a:lnTo>
                  <a:lnTo>
                    <a:pt x="1827" y="1594"/>
                  </a:lnTo>
                  <a:lnTo>
                    <a:pt x="1844" y="1611"/>
                  </a:lnTo>
                  <a:lnTo>
                    <a:pt x="1861" y="1629"/>
                  </a:lnTo>
                  <a:lnTo>
                    <a:pt x="1876" y="1646"/>
                  </a:lnTo>
                  <a:lnTo>
                    <a:pt x="1890" y="1666"/>
                  </a:lnTo>
                  <a:lnTo>
                    <a:pt x="1905" y="1686"/>
                  </a:lnTo>
                  <a:lnTo>
                    <a:pt x="1918" y="1707"/>
                  </a:lnTo>
                  <a:lnTo>
                    <a:pt x="1930" y="1727"/>
                  </a:lnTo>
                  <a:lnTo>
                    <a:pt x="1941" y="1749"/>
                  </a:lnTo>
                  <a:lnTo>
                    <a:pt x="1953" y="1772"/>
                  </a:lnTo>
                  <a:lnTo>
                    <a:pt x="1963" y="1795"/>
                  </a:lnTo>
                  <a:lnTo>
                    <a:pt x="1972" y="1819"/>
                  </a:lnTo>
                  <a:lnTo>
                    <a:pt x="1980" y="1843"/>
                  </a:lnTo>
                  <a:lnTo>
                    <a:pt x="1987" y="1869"/>
                  </a:lnTo>
                  <a:lnTo>
                    <a:pt x="1994" y="1895"/>
                  </a:lnTo>
                  <a:lnTo>
                    <a:pt x="2001" y="1922"/>
                  </a:lnTo>
                  <a:lnTo>
                    <a:pt x="2006" y="1949"/>
                  </a:lnTo>
                  <a:lnTo>
                    <a:pt x="2010" y="1978"/>
                  </a:lnTo>
                  <a:lnTo>
                    <a:pt x="2014" y="2006"/>
                  </a:lnTo>
                  <a:lnTo>
                    <a:pt x="2016" y="2036"/>
                  </a:lnTo>
                  <a:lnTo>
                    <a:pt x="2018" y="2067"/>
                  </a:lnTo>
                  <a:lnTo>
                    <a:pt x="2020" y="2098"/>
                  </a:lnTo>
                  <a:lnTo>
                    <a:pt x="2020" y="2130"/>
                  </a:lnTo>
                  <a:lnTo>
                    <a:pt x="2020" y="2155"/>
                  </a:lnTo>
                  <a:lnTo>
                    <a:pt x="2019" y="2180"/>
                  </a:lnTo>
                  <a:lnTo>
                    <a:pt x="2018" y="2205"/>
                  </a:lnTo>
                  <a:lnTo>
                    <a:pt x="2016" y="2229"/>
                  </a:lnTo>
                  <a:lnTo>
                    <a:pt x="2014" y="2253"/>
                  </a:lnTo>
                  <a:lnTo>
                    <a:pt x="2011" y="2277"/>
                  </a:lnTo>
                  <a:lnTo>
                    <a:pt x="2008" y="2300"/>
                  </a:lnTo>
                  <a:lnTo>
                    <a:pt x="2004" y="2323"/>
                  </a:lnTo>
                  <a:lnTo>
                    <a:pt x="1999" y="2345"/>
                  </a:lnTo>
                  <a:lnTo>
                    <a:pt x="1994" y="2368"/>
                  </a:lnTo>
                  <a:lnTo>
                    <a:pt x="1989" y="2389"/>
                  </a:lnTo>
                  <a:lnTo>
                    <a:pt x="1983" y="2409"/>
                  </a:lnTo>
                  <a:lnTo>
                    <a:pt x="1977" y="2431"/>
                  </a:lnTo>
                  <a:lnTo>
                    <a:pt x="1970" y="2451"/>
                  </a:lnTo>
                  <a:lnTo>
                    <a:pt x="1963" y="2471"/>
                  </a:lnTo>
                  <a:lnTo>
                    <a:pt x="1955" y="2490"/>
                  </a:lnTo>
                  <a:lnTo>
                    <a:pt x="1946" y="2509"/>
                  </a:lnTo>
                  <a:lnTo>
                    <a:pt x="1937" y="2529"/>
                  </a:lnTo>
                  <a:lnTo>
                    <a:pt x="1928" y="2547"/>
                  </a:lnTo>
                  <a:lnTo>
                    <a:pt x="1918" y="2564"/>
                  </a:lnTo>
                  <a:lnTo>
                    <a:pt x="1908" y="2583"/>
                  </a:lnTo>
                  <a:lnTo>
                    <a:pt x="1896" y="2599"/>
                  </a:lnTo>
                  <a:lnTo>
                    <a:pt x="1885" y="2617"/>
                  </a:lnTo>
                  <a:lnTo>
                    <a:pt x="1873" y="2633"/>
                  </a:lnTo>
                  <a:lnTo>
                    <a:pt x="1861" y="2649"/>
                  </a:lnTo>
                  <a:lnTo>
                    <a:pt x="1847" y="2664"/>
                  </a:lnTo>
                  <a:lnTo>
                    <a:pt x="1834" y="2680"/>
                  </a:lnTo>
                  <a:lnTo>
                    <a:pt x="1820" y="2694"/>
                  </a:lnTo>
                  <a:lnTo>
                    <a:pt x="1806" y="2708"/>
                  </a:lnTo>
                  <a:lnTo>
                    <a:pt x="1790" y="2723"/>
                  </a:lnTo>
                  <a:lnTo>
                    <a:pt x="1775" y="2736"/>
                  </a:lnTo>
                  <a:lnTo>
                    <a:pt x="1760" y="2749"/>
                  </a:lnTo>
                  <a:lnTo>
                    <a:pt x="1742" y="2762"/>
                  </a:lnTo>
                  <a:lnTo>
                    <a:pt x="1726" y="2775"/>
                  </a:lnTo>
                  <a:lnTo>
                    <a:pt x="1708" y="2787"/>
                  </a:lnTo>
                  <a:lnTo>
                    <a:pt x="1690" y="2798"/>
                  </a:lnTo>
                  <a:lnTo>
                    <a:pt x="1671" y="2809"/>
                  </a:lnTo>
                  <a:lnTo>
                    <a:pt x="1652" y="2821"/>
                  </a:lnTo>
                  <a:lnTo>
                    <a:pt x="1633" y="2831"/>
                  </a:lnTo>
                  <a:lnTo>
                    <a:pt x="1613" y="2841"/>
                  </a:lnTo>
                  <a:lnTo>
                    <a:pt x="1592" y="2850"/>
                  </a:lnTo>
                  <a:lnTo>
                    <a:pt x="1571" y="2859"/>
                  </a:lnTo>
                  <a:lnTo>
                    <a:pt x="1549" y="2869"/>
                  </a:lnTo>
                  <a:lnTo>
                    <a:pt x="1527" y="2877"/>
                  </a:lnTo>
                  <a:lnTo>
                    <a:pt x="1504" y="2885"/>
                  </a:lnTo>
                  <a:lnTo>
                    <a:pt x="1482" y="2892"/>
                  </a:lnTo>
                  <a:lnTo>
                    <a:pt x="1459" y="2899"/>
                  </a:lnTo>
                  <a:lnTo>
                    <a:pt x="1434" y="2905"/>
                  </a:lnTo>
                  <a:lnTo>
                    <a:pt x="1410" y="2912"/>
                  </a:lnTo>
                  <a:lnTo>
                    <a:pt x="1384" y="2917"/>
                  </a:lnTo>
                  <a:lnTo>
                    <a:pt x="1359" y="2924"/>
                  </a:lnTo>
                  <a:lnTo>
                    <a:pt x="1333" y="2929"/>
                  </a:lnTo>
                  <a:lnTo>
                    <a:pt x="1279" y="2938"/>
                  </a:lnTo>
                  <a:lnTo>
                    <a:pt x="1224" y="2945"/>
                  </a:lnTo>
                  <a:lnTo>
                    <a:pt x="1166" y="2950"/>
                  </a:lnTo>
                  <a:lnTo>
                    <a:pt x="1106" y="2954"/>
                  </a:lnTo>
                  <a:lnTo>
                    <a:pt x="1044" y="2957"/>
                  </a:lnTo>
                  <a:lnTo>
                    <a:pt x="981" y="2957"/>
                  </a:lnTo>
                  <a:lnTo>
                    <a:pt x="0" y="295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14560" y="4368960"/>
              <a:ext cx="639720" cy="971280"/>
            </a:xfrm>
            <a:custGeom>
              <a:avLst/>
              <a:gdLst/>
              <a:ahLst/>
              <a:rect l="l" t="t" r="r" b="b"/>
              <a:pathLst>
                <a:path w="2017" h="3059">
                  <a:moveTo>
                    <a:pt x="1959" y="3009"/>
                  </a:moveTo>
                  <a:lnTo>
                    <a:pt x="1937" y="3015"/>
                  </a:lnTo>
                  <a:lnTo>
                    <a:pt x="1915" y="3021"/>
                  </a:lnTo>
                  <a:lnTo>
                    <a:pt x="1893" y="3026"/>
                  </a:lnTo>
                  <a:lnTo>
                    <a:pt x="1870" y="3031"/>
                  </a:lnTo>
                  <a:lnTo>
                    <a:pt x="1847" y="3036"/>
                  </a:lnTo>
                  <a:lnTo>
                    <a:pt x="1823" y="3040"/>
                  </a:lnTo>
                  <a:lnTo>
                    <a:pt x="1800" y="3044"/>
                  </a:lnTo>
                  <a:lnTo>
                    <a:pt x="1776" y="3047"/>
                  </a:lnTo>
                  <a:lnTo>
                    <a:pt x="1752" y="3050"/>
                  </a:lnTo>
                  <a:lnTo>
                    <a:pt x="1727" y="3052"/>
                  </a:lnTo>
                  <a:lnTo>
                    <a:pt x="1702" y="3054"/>
                  </a:lnTo>
                  <a:lnTo>
                    <a:pt x="1675" y="3056"/>
                  </a:lnTo>
                  <a:lnTo>
                    <a:pt x="1649" y="3057"/>
                  </a:lnTo>
                  <a:lnTo>
                    <a:pt x="1621" y="3058"/>
                  </a:lnTo>
                  <a:lnTo>
                    <a:pt x="1594" y="3059"/>
                  </a:lnTo>
                  <a:lnTo>
                    <a:pt x="1565" y="3059"/>
                  </a:lnTo>
                  <a:lnTo>
                    <a:pt x="1521" y="3059"/>
                  </a:lnTo>
                  <a:lnTo>
                    <a:pt x="1478" y="3057"/>
                  </a:lnTo>
                  <a:lnTo>
                    <a:pt x="1436" y="3056"/>
                  </a:lnTo>
                  <a:lnTo>
                    <a:pt x="1395" y="3053"/>
                  </a:lnTo>
                  <a:lnTo>
                    <a:pt x="1353" y="3049"/>
                  </a:lnTo>
                  <a:lnTo>
                    <a:pt x="1312" y="3045"/>
                  </a:lnTo>
                  <a:lnTo>
                    <a:pt x="1272" y="3040"/>
                  </a:lnTo>
                  <a:lnTo>
                    <a:pt x="1232" y="3032"/>
                  </a:lnTo>
                  <a:lnTo>
                    <a:pt x="1192" y="3026"/>
                  </a:lnTo>
                  <a:lnTo>
                    <a:pt x="1154" y="3018"/>
                  </a:lnTo>
                  <a:lnTo>
                    <a:pt x="1116" y="3010"/>
                  </a:lnTo>
                  <a:lnTo>
                    <a:pt x="1078" y="3000"/>
                  </a:lnTo>
                  <a:lnTo>
                    <a:pt x="1040" y="2991"/>
                  </a:lnTo>
                  <a:lnTo>
                    <a:pt x="1004" y="2979"/>
                  </a:lnTo>
                  <a:lnTo>
                    <a:pt x="968" y="2967"/>
                  </a:lnTo>
                  <a:lnTo>
                    <a:pt x="932" y="2955"/>
                  </a:lnTo>
                  <a:lnTo>
                    <a:pt x="896" y="2942"/>
                  </a:lnTo>
                  <a:lnTo>
                    <a:pt x="863" y="2927"/>
                  </a:lnTo>
                  <a:lnTo>
                    <a:pt x="828" y="2912"/>
                  </a:lnTo>
                  <a:lnTo>
                    <a:pt x="794" y="2896"/>
                  </a:lnTo>
                  <a:lnTo>
                    <a:pt x="762" y="2879"/>
                  </a:lnTo>
                  <a:lnTo>
                    <a:pt x="729" y="2862"/>
                  </a:lnTo>
                  <a:lnTo>
                    <a:pt x="697" y="2844"/>
                  </a:lnTo>
                  <a:lnTo>
                    <a:pt x="666" y="2824"/>
                  </a:lnTo>
                  <a:lnTo>
                    <a:pt x="635" y="2804"/>
                  </a:lnTo>
                  <a:lnTo>
                    <a:pt x="605" y="2784"/>
                  </a:lnTo>
                  <a:lnTo>
                    <a:pt x="574" y="2761"/>
                  </a:lnTo>
                  <a:lnTo>
                    <a:pt x="545" y="2739"/>
                  </a:lnTo>
                  <a:lnTo>
                    <a:pt x="516" y="2716"/>
                  </a:lnTo>
                  <a:lnTo>
                    <a:pt x="488" y="2692"/>
                  </a:lnTo>
                  <a:lnTo>
                    <a:pt x="460" y="2667"/>
                  </a:lnTo>
                  <a:lnTo>
                    <a:pt x="433" y="2641"/>
                  </a:lnTo>
                  <a:lnTo>
                    <a:pt x="407" y="2615"/>
                  </a:lnTo>
                  <a:lnTo>
                    <a:pt x="380" y="2588"/>
                  </a:lnTo>
                  <a:lnTo>
                    <a:pt x="356" y="2560"/>
                  </a:lnTo>
                  <a:lnTo>
                    <a:pt x="331" y="2533"/>
                  </a:lnTo>
                  <a:lnTo>
                    <a:pt x="309" y="2504"/>
                  </a:lnTo>
                  <a:lnTo>
                    <a:pt x="286" y="2475"/>
                  </a:lnTo>
                  <a:lnTo>
                    <a:pt x="264" y="2446"/>
                  </a:lnTo>
                  <a:lnTo>
                    <a:pt x="243" y="2416"/>
                  </a:lnTo>
                  <a:lnTo>
                    <a:pt x="224" y="2386"/>
                  </a:lnTo>
                  <a:lnTo>
                    <a:pt x="204" y="2355"/>
                  </a:lnTo>
                  <a:lnTo>
                    <a:pt x="186" y="2323"/>
                  </a:lnTo>
                  <a:lnTo>
                    <a:pt x="169" y="2292"/>
                  </a:lnTo>
                  <a:lnTo>
                    <a:pt x="152" y="2259"/>
                  </a:lnTo>
                  <a:lnTo>
                    <a:pt x="137" y="2227"/>
                  </a:lnTo>
                  <a:lnTo>
                    <a:pt x="122" y="2194"/>
                  </a:lnTo>
                  <a:lnTo>
                    <a:pt x="109" y="2159"/>
                  </a:lnTo>
                  <a:lnTo>
                    <a:pt x="95" y="2126"/>
                  </a:lnTo>
                  <a:lnTo>
                    <a:pt x="83" y="2091"/>
                  </a:lnTo>
                  <a:lnTo>
                    <a:pt x="72" y="2055"/>
                  </a:lnTo>
                  <a:lnTo>
                    <a:pt x="61" y="2019"/>
                  </a:lnTo>
                  <a:lnTo>
                    <a:pt x="51" y="1984"/>
                  </a:lnTo>
                  <a:lnTo>
                    <a:pt x="42" y="1947"/>
                  </a:lnTo>
                  <a:lnTo>
                    <a:pt x="34" y="1909"/>
                  </a:lnTo>
                  <a:lnTo>
                    <a:pt x="27" y="1871"/>
                  </a:lnTo>
                  <a:lnTo>
                    <a:pt x="21" y="1834"/>
                  </a:lnTo>
                  <a:lnTo>
                    <a:pt x="16" y="1795"/>
                  </a:lnTo>
                  <a:lnTo>
                    <a:pt x="11" y="1755"/>
                  </a:lnTo>
                  <a:lnTo>
                    <a:pt x="6" y="1715"/>
                  </a:lnTo>
                  <a:lnTo>
                    <a:pt x="4" y="1676"/>
                  </a:lnTo>
                  <a:lnTo>
                    <a:pt x="2" y="1635"/>
                  </a:lnTo>
                  <a:lnTo>
                    <a:pt x="0" y="1594"/>
                  </a:lnTo>
                  <a:lnTo>
                    <a:pt x="0" y="1552"/>
                  </a:lnTo>
                  <a:lnTo>
                    <a:pt x="0" y="1510"/>
                  </a:lnTo>
                  <a:lnTo>
                    <a:pt x="2" y="1469"/>
                  </a:lnTo>
                  <a:lnTo>
                    <a:pt x="4" y="1428"/>
                  </a:lnTo>
                  <a:lnTo>
                    <a:pt x="7" y="1388"/>
                  </a:lnTo>
                  <a:lnTo>
                    <a:pt x="12" y="1348"/>
                  </a:lnTo>
                  <a:lnTo>
                    <a:pt x="16" y="1308"/>
                  </a:lnTo>
                  <a:lnTo>
                    <a:pt x="22" y="1269"/>
                  </a:lnTo>
                  <a:lnTo>
                    <a:pt x="28" y="1230"/>
                  </a:lnTo>
                  <a:lnTo>
                    <a:pt x="36" y="1192"/>
                  </a:lnTo>
                  <a:lnTo>
                    <a:pt x="44" y="1154"/>
                  </a:lnTo>
                  <a:lnTo>
                    <a:pt x="53" y="1118"/>
                  </a:lnTo>
                  <a:lnTo>
                    <a:pt x="64" y="1080"/>
                  </a:lnTo>
                  <a:lnTo>
                    <a:pt x="74" y="1044"/>
                  </a:lnTo>
                  <a:lnTo>
                    <a:pt x="86" y="1008"/>
                  </a:lnTo>
                  <a:lnTo>
                    <a:pt x="98" y="973"/>
                  </a:lnTo>
                  <a:lnTo>
                    <a:pt x="113" y="938"/>
                  </a:lnTo>
                  <a:lnTo>
                    <a:pt x="127" y="903"/>
                  </a:lnTo>
                  <a:lnTo>
                    <a:pt x="142" y="869"/>
                  </a:lnTo>
                  <a:lnTo>
                    <a:pt x="159" y="836"/>
                  </a:lnTo>
                  <a:lnTo>
                    <a:pt x="176" y="802"/>
                  </a:lnTo>
                  <a:lnTo>
                    <a:pt x="193" y="770"/>
                  </a:lnTo>
                  <a:lnTo>
                    <a:pt x="213" y="737"/>
                  </a:lnTo>
                  <a:lnTo>
                    <a:pt x="232" y="705"/>
                  </a:lnTo>
                  <a:lnTo>
                    <a:pt x="252" y="674"/>
                  </a:lnTo>
                  <a:lnTo>
                    <a:pt x="274" y="643"/>
                  </a:lnTo>
                  <a:lnTo>
                    <a:pt x="296" y="613"/>
                  </a:lnTo>
                  <a:lnTo>
                    <a:pt x="320" y="583"/>
                  </a:lnTo>
                  <a:lnTo>
                    <a:pt x="343" y="553"/>
                  </a:lnTo>
                  <a:lnTo>
                    <a:pt x="369" y="525"/>
                  </a:lnTo>
                  <a:lnTo>
                    <a:pt x="394" y="495"/>
                  </a:lnTo>
                  <a:lnTo>
                    <a:pt x="421" y="468"/>
                  </a:lnTo>
                  <a:lnTo>
                    <a:pt x="448" y="440"/>
                  </a:lnTo>
                  <a:lnTo>
                    <a:pt x="477" y="413"/>
                  </a:lnTo>
                  <a:lnTo>
                    <a:pt x="506" y="387"/>
                  </a:lnTo>
                  <a:lnTo>
                    <a:pt x="535" y="362"/>
                  </a:lnTo>
                  <a:lnTo>
                    <a:pt x="565" y="337"/>
                  </a:lnTo>
                  <a:lnTo>
                    <a:pt x="595" y="314"/>
                  </a:lnTo>
                  <a:lnTo>
                    <a:pt x="626" y="290"/>
                  </a:lnTo>
                  <a:lnTo>
                    <a:pt x="657" y="269"/>
                  </a:lnTo>
                  <a:lnTo>
                    <a:pt x="688" y="247"/>
                  </a:lnTo>
                  <a:lnTo>
                    <a:pt x="721" y="228"/>
                  </a:lnTo>
                  <a:lnTo>
                    <a:pt x="754" y="209"/>
                  </a:lnTo>
                  <a:lnTo>
                    <a:pt x="786" y="190"/>
                  </a:lnTo>
                  <a:lnTo>
                    <a:pt x="820" y="172"/>
                  </a:lnTo>
                  <a:lnTo>
                    <a:pt x="854" y="156"/>
                  </a:lnTo>
                  <a:lnTo>
                    <a:pt x="888" y="139"/>
                  </a:lnTo>
                  <a:lnTo>
                    <a:pt x="923" y="125"/>
                  </a:lnTo>
                  <a:lnTo>
                    <a:pt x="959" y="111"/>
                  </a:lnTo>
                  <a:lnTo>
                    <a:pt x="994" y="97"/>
                  </a:lnTo>
                  <a:lnTo>
                    <a:pt x="1031" y="85"/>
                  </a:lnTo>
                  <a:lnTo>
                    <a:pt x="1068" y="73"/>
                  </a:lnTo>
                  <a:lnTo>
                    <a:pt x="1106" y="63"/>
                  </a:lnTo>
                  <a:lnTo>
                    <a:pt x="1143" y="52"/>
                  </a:lnTo>
                  <a:lnTo>
                    <a:pt x="1181" y="43"/>
                  </a:lnTo>
                  <a:lnTo>
                    <a:pt x="1220" y="35"/>
                  </a:lnTo>
                  <a:lnTo>
                    <a:pt x="1260" y="28"/>
                  </a:lnTo>
                  <a:lnTo>
                    <a:pt x="1300" y="22"/>
                  </a:lnTo>
                  <a:lnTo>
                    <a:pt x="1339" y="16"/>
                  </a:lnTo>
                  <a:lnTo>
                    <a:pt x="1380" y="12"/>
                  </a:lnTo>
                  <a:lnTo>
                    <a:pt x="1422" y="8"/>
                  </a:lnTo>
                  <a:lnTo>
                    <a:pt x="1463" y="5"/>
                  </a:lnTo>
                  <a:lnTo>
                    <a:pt x="1506" y="2"/>
                  </a:lnTo>
                  <a:lnTo>
                    <a:pt x="1548" y="1"/>
                  </a:lnTo>
                  <a:lnTo>
                    <a:pt x="1591" y="0"/>
                  </a:lnTo>
                  <a:lnTo>
                    <a:pt x="1612" y="0"/>
                  </a:lnTo>
                  <a:lnTo>
                    <a:pt x="1632" y="1"/>
                  </a:lnTo>
                  <a:lnTo>
                    <a:pt x="1653" y="2"/>
                  </a:lnTo>
                  <a:lnTo>
                    <a:pt x="1674" y="4"/>
                  </a:lnTo>
                  <a:lnTo>
                    <a:pt x="1696" y="5"/>
                  </a:lnTo>
                  <a:lnTo>
                    <a:pt x="1717" y="7"/>
                  </a:lnTo>
                  <a:lnTo>
                    <a:pt x="1738" y="9"/>
                  </a:lnTo>
                  <a:lnTo>
                    <a:pt x="1761" y="11"/>
                  </a:lnTo>
                  <a:lnTo>
                    <a:pt x="1783" y="14"/>
                  </a:lnTo>
                  <a:lnTo>
                    <a:pt x="1806" y="17"/>
                  </a:lnTo>
                  <a:lnTo>
                    <a:pt x="1828" y="20"/>
                  </a:lnTo>
                  <a:lnTo>
                    <a:pt x="1852" y="24"/>
                  </a:lnTo>
                  <a:lnTo>
                    <a:pt x="1875" y="28"/>
                  </a:lnTo>
                  <a:lnTo>
                    <a:pt x="1899" y="33"/>
                  </a:lnTo>
                  <a:lnTo>
                    <a:pt x="1922" y="38"/>
                  </a:lnTo>
                  <a:lnTo>
                    <a:pt x="1947" y="43"/>
                  </a:lnTo>
                  <a:lnTo>
                    <a:pt x="1987" y="920"/>
                  </a:lnTo>
                  <a:lnTo>
                    <a:pt x="1961" y="908"/>
                  </a:lnTo>
                  <a:lnTo>
                    <a:pt x="1934" y="898"/>
                  </a:lnTo>
                  <a:lnTo>
                    <a:pt x="1909" y="888"/>
                  </a:lnTo>
                  <a:lnTo>
                    <a:pt x="1882" y="880"/>
                  </a:lnTo>
                  <a:lnTo>
                    <a:pt x="1857" y="872"/>
                  </a:lnTo>
                  <a:lnTo>
                    <a:pt x="1831" y="864"/>
                  </a:lnTo>
                  <a:lnTo>
                    <a:pt x="1806" y="857"/>
                  </a:lnTo>
                  <a:lnTo>
                    <a:pt x="1780" y="851"/>
                  </a:lnTo>
                  <a:lnTo>
                    <a:pt x="1755" y="846"/>
                  </a:lnTo>
                  <a:lnTo>
                    <a:pt x="1729" y="841"/>
                  </a:lnTo>
                  <a:lnTo>
                    <a:pt x="1705" y="838"/>
                  </a:lnTo>
                  <a:lnTo>
                    <a:pt x="1679" y="834"/>
                  </a:lnTo>
                  <a:lnTo>
                    <a:pt x="1655" y="832"/>
                  </a:lnTo>
                  <a:lnTo>
                    <a:pt x="1631" y="830"/>
                  </a:lnTo>
                  <a:lnTo>
                    <a:pt x="1607" y="829"/>
                  </a:lnTo>
                  <a:lnTo>
                    <a:pt x="1583" y="829"/>
                  </a:lnTo>
                  <a:lnTo>
                    <a:pt x="1539" y="830"/>
                  </a:lnTo>
                  <a:lnTo>
                    <a:pt x="1498" y="832"/>
                  </a:lnTo>
                  <a:lnTo>
                    <a:pt x="1457" y="836"/>
                  </a:lnTo>
                  <a:lnTo>
                    <a:pt x="1417" y="841"/>
                  </a:lnTo>
                  <a:lnTo>
                    <a:pt x="1378" y="848"/>
                  </a:lnTo>
                  <a:lnTo>
                    <a:pt x="1340" y="856"/>
                  </a:lnTo>
                  <a:lnTo>
                    <a:pt x="1303" y="867"/>
                  </a:lnTo>
                  <a:lnTo>
                    <a:pt x="1267" y="878"/>
                  </a:lnTo>
                  <a:lnTo>
                    <a:pt x="1232" y="891"/>
                  </a:lnTo>
                  <a:lnTo>
                    <a:pt x="1199" y="905"/>
                  </a:lnTo>
                  <a:lnTo>
                    <a:pt x="1166" y="922"/>
                  </a:lnTo>
                  <a:lnTo>
                    <a:pt x="1133" y="939"/>
                  </a:lnTo>
                  <a:lnTo>
                    <a:pt x="1103" y="958"/>
                  </a:lnTo>
                  <a:lnTo>
                    <a:pt x="1073" y="979"/>
                  </a:lnTo>
                  <a:lnTo>
                    <a:pt x="1043" y="1001"/>
                  </a:lnTo>
                  <a:lnTo>
                    <a:pt x="1016" y="1025"/>
                  </a:lnTo>
                  <a:lnTo>
                    <a:pt x="989" y="1049"/>
                  </a:lnTo>
                  <a:lnTo>
                    <a:pt x="964" y="1076"/>
                  </a:lnTo>
                  <a:lnTo>
                    <a:pt x="941" y="1102"/>
                  </a:lnTo>
                  <a:lnTo>
                    <a:pt x="920" y="1130"/>
                  </a:lnTo>
                  <a:lnTo>
                    <a:pt x="900" y="1158"/>
                  </a:lnTo>
                  <a:lnTo>
                    <a:pt x="882" y="1187"/>
                  </a:lnTo>
                  <a:lnTo>
                    <a:pt x="874" y="1202"/>
                  </a:lnTo>
                  <a:lnTo>
                    <a:pt x="866" y="1217"/>
                  </a:lnTo>
                  <a:lnTo>
                    <a:pt x="859" y="1232"/>
                  </a:lnTo>
                  <a:lnTo>
                    <a:pt x="852" y="1248"/>
                  </a:lnTo>
                  <a:lnTo>
                    <a:pt x="838" y="1280"/>
                  </a:lnTo>
                  <a:lnTo>
                    <a:pt x="827" y="1311"/>
                  </a:lnTo>
                  <a:lnTo>
                    <a:pt x="818" y="1345"/>
                  </a:lnTo>
                  <a:lnTo>
                    <a:pt x="810" y="1379"/>
                  </a:lnTo>
                  <a:lnTo>
                    <a:pt x="804" y="1414"/>
                  </a:lnTo>
                  <a:lnTo>
                    <a:pt x="799" y="1450"/>
                  </a:lnTo>
                  <a:lnTo>
                    <a:pt x="797" y="1487"/>
                  </a:lnTo>
                  <a:lnTo>
                    <a:pt x="796" y="1524"/>
                  </a:lnTo>
                  <a:lnTo>
                    <a:pt x="797" y="1561"/>
                  </a:lnTo>
                  <a:lnTo>
                    <a:pt x="799" y="1598"/>
                  </a:lnTo>
                  <a:lnTo>
                    <a:pt x="804" y="1634"/>
                  </a:lnTo>
                  <a:lnTo>
                    <a:pt x="810" y="1668"/>
                  </a:lnTo>
                  <a:lnTo>
                    <a:pt x="818" y="1702"/>
                  </a:lnTo>
                  <a:lnTo>
                    <a:pt x="827" y="1736"/>
                  </a:lnTo>
                  <a:lnTo>
                    <a:pt x="838" y="1768"/>
                  </a:lnTo>
                  <a:lnTo>
                    <a:pt x="851" y="1800"/>
                  </a:lnTo>
                  <a:lnTo>
                    <a:pt x="858" y="1816"/>
                  </a:lnTo>
                  <a:lnTo>
                    <a:pt x="865" y="1832"/>
                  </a:lnTo>
                  <a:lnTo>
                    <a:pt x="873" y="1847"/>
                  </a:lnTo>
                  <a:lnTo>
                    <a:pt x="881" y="1861"/>
                  </a:lnTo>
                  <a:lnTo>
                    <a:pt x="900" y="1892"/>
                  </a:lnTo>
                  <a:lnTo>
                    <a:pt x="919" y="1920"/>
                  </a:lnTo>
                  <a:lnTo>
                    <a:pt x="939" y="1948"/>
                  </a:lnTo>
                  <a:lnTo>
                    <a:pt x="963" y="1976"/>
                  </a:lnTo>
                  <a:lnTo>
                    <a:pt x="987" y="2002"/>
                  </a:lnTo>
                  <a:lnTo>
                    <a:pt x="1014" y="2028"/>
                  </a:lnTo>
                  <a:lnTo>
                    <a:pt x="1041" y="2053"/>
                  </a:lnTo>
                  <a:lnTo>
                    <a:pt x="1070" y="2076"/>
                  </a:lnTo>
                  <a:lnTo>
                    <a:pt x="1099" y="2097"/>
                  </a:lnTo>
                  <a:lnTo>
                    <a:pt x="1129" y="2116"/>
                  </a:lnTo>
                  <a:lnTo>
                    <a:pt x="1160" y="2135"/>
                  </a:lnTo>
                  <a:lnTo>
                    <a:pt x="1191" y="2152"/>
                  </a:lnTo>
                  <a:lnTo>
                    <a:pt x="1224" y="2166"/>
                  </a:lnTo>
                  <a:lnTo>
                    <a:pt x="1258" y="2181"/>
                  </a:lnTo>
                  <a:lnTo>
                    <a:pt x="1292" y="2192"/>
                  </a:lnTo>
                  <a:lnTo>
                    <a:pt x="1327" y="2202"/>
                  </a:lnTo>
                  <a:lnTo>
                    <a:pt x="1364" y="2211"/>
                  </a:lnTo>
                  <a:lnTo>
                    <a:pt x="1401" y="2218"/>
                  </a:lnTo>
                  <a:lnTo>
                    <a:pt x="1438" y="2223"/>
                  </a:lnTo>
                  <a:lnTo>
                    <a:pt x="1477" y="2228"/>
                  </a:lnTo>
                  <a:lnTo>
                    <a:pt x="1516" y="2230"/>
                  </a:lnTo>
                  <a:lnTo>
                    <a:pt x="1557" y="2231"/>
                  </a:lnTo>
                  <a:lnTo>
                    <a:pt x="1586" y="2231"/>
                  </a:lnTo>
                  <a:lnTo>
                    <a:pt x="1615" y="2229"/>
                  </a:lnTo>
                  <a:lnTo>
                    <a:pt x="1645" y="2227"/>
                  </a:lnTo>
                  <a:lnTo>
                    <a:pt x="1673" y="2223"/>
                  </a:lnTo>
                  <a:lnTo>
                    <a:pt x="1703" y="2219"/>
                  </a:lnTo>
                  <a:lnTo>
                    <a:pt x="1731" y="2213"/>
                  </a:lnTo>
                  <a:lnTo>
                    <a:pt x="1761" y="2207"/>
                  </a:lnTo>
                  <a:lnTo>
                    <a:pt x="1789" y="2200"/>
                  </a:lnTo>
                  <a:lnTo>
                    <a:pt x="1818" y="2193"/>
                  </a:lnTo>
                  <a:lnTo>
                    <a:pt x="1847" y="2184"/>
                  </a:lnTo>
                  <a:lnTo>
                    <a:pt x="1875" y="2173"/>
                  </a:lnTo>
                  <a:lnTo>
                    <a:pt x="1904" y="2163"/>
                  </a:lnTo>
                  <a:lnTo>
                    <a:pt x="1932" y="2152"/>
                  </a:lnTo>
                  <a:lnTo>
                    <a:pt x="1961" y="2139"/>
                  </a:lnTo>
                  <a:lnTo>
                    <a:pt x="1990" y="2126"/>
                  </a:lnTo>
                  <a:lnTo>
                    <a:pt x="2017" y="2111"/>
                  </a:lnTo>
                  <a:lnTo>
                    <a:pt x="1959" y="3009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340000" y="1501920"/>
              <a:ext cx="192240" cy="315720"/>
            </a:xfrm>
            <a:custGeom>
              <a:avLst/>
              <a:gdLst/>
              <a:ahLst/>
              <a:rect l="l" t="t" r="r" b="b"/>
              <a:pathLst>
                <a:path w="609" h="997">
                  <a:moveTo>
                    <a:pt x="0" y="997"/>
                  </a:moveTo>
                  <a:lnTo>
                    <a:pt x="609" y="997"/>
                  </a:lnTo>
                  <a:lnTo>
                    <a:pt x="303" y="0"/>
                  </a:lnTo>
                  <a:lnTo>
                    <a:pt x="0" y="997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981080" y="1219320"/>
              <a:ext cx="914400" cy="939600"/>
            </a:xfrm>
            <a:custGeom>
              <a:avLst/>
              <a:gdLst/>
              <a:ahLst/>
              <a:rect l="l" t="t" r="r" b="b"/>
              <a:pathLst>
                <a:path w="2878" h="2958">
                  <a:moveTo>
                    <a:pt x="0" y="2958"/>
                  </a:moveTo>
                  <a:lnTo>
                    <a:pt x="1035" y="0"/>
                  </a:lnTo>
                  <a:lnTo>
                    <a:pt x="1901" y="0"/>
                  </a:lnTo>
                  <a:lnTo>
                    <a:pt x="2878" y="2958"/>
                  </a:lnTo>
                  <a:lnTo>
                    <a:pt x="2066" y="2958"/>
                  </a:lnTo>
                  <a:lnTo>
                    <a:pt x="1959" y="2626"/>
                  </a:lnTo>
                  <a:lnTo>
                    <a:pt x="912" y="2626"/>
                  </a:lnTo>
                  <a:lnTo>
                    <a:pt x="798" y="2958"/>
                  </a:lnTo>
                  <a:lnTo>
                    <a:pt x="0" y="2958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301840" y="3011400"/>
              <a:ext cx="152280" cy="157320"/>
            </a:xfrm>
            <a:custGeom>
              <a:avLst/>
              <a:gdLst/>
              <a:ahLst/>
              <a:rect l="l" t="t" r="r" b="b"/>
              <a:pathLst>
                <a:path w="479" h="496">
                  <a:moveTo>
                    <a:pt x="0" y="496"/>
                  </a:moveTo>
                  <a:lnTo>
                    <a:pt x="134" y="496"/>
                  </a:lnTo>
                  <a:lnTo>
                    <a:pt x="177" y="496"/>
                  </a:lnTo>
                  <a:lnTo>
                    <a:pt x="216" y="492"/>
                  </a:lnTo>
                  <a:lnTo>
                    <a:pt x="235" y="490"/>
                  </a:lnTo>
                  <a:lnTo>
                    <a:pt x="253" y="487"/>
                  </a:lnTo>
                  <a:lnTo>
                    <a:pt x="270" y="485"/>
                  </a:lnTo>
                  <a:lnTo>
                    <a:pt x="286" y="481"/>
                  </a:lnTo>
                  <a:lnTo>
                    <a:pt x="303" y="477"/>
                  </a:lnTo>
                  <a:lnTo>
                    <a:pt x="318" y="473"/>
                  </a:lnTo>
                  <a:lnTo>
                    <a:pt x="332" y="469"/>
                  </a:lnTo>
                  <a:lnTo>
                    <a:pt x="346" y="463"/>
                  </a:lnTo>
                  <a:lnTo>
                    <a:pt x="359" y="458"/>
                  </a:lnTo>
                  <a:lnTo>
                    <a:pt x="371" y="452"/>
                  </a:lnTo>
                  <a:lnTo>
                    <a:pt x="383" y="445"/>
                  </a:lnTo>
                  <a:lnTo>
                    <a:pt x="394" y="437"/>
                  </a:lnTo>
                  <a:lnTo>
                    <a:pt x="404" y="430"/>
                  </a:lnTo>
                  <a:lnTo>
                    <a:pt x="414" y="422"/>
                  </a:lnTo>
                  <a:lnTo>
                    <a:pt x="423" y="414"/>
                  </a:lnTo>
                  <a:lnTo>
                    <a:pt x="431" y="405"/>
                  </a:lnTo>
                  <a:lnTo>
                    <a:pt x="438" y="396"/>
                  </a:lnTo>
                  <a:lnTo>
                    <a:pt x="446" y="385"/>
                  </a:lnTo>
                  <a:lnTo>
                    <a:pt x="452" y="375"/>
                  </a:lnTo>
                  <a:lnTo>
                    <a:pt x="458" y="364"/>
                  </a:lnTo>
                  <a:lnTo>
                    <a:pt x="463" y="353"/>
                  </a:lnTo>
                  <a:lnTo>
                    <a:pt x="467" y="340"/>
                  </a:lnTo>
                  <a:lnTo>
                    <a:pt x="470" y="328"/>
                  </a:lnTo>
                  <a:lnTo>
                    <a:pt x="473" y="316"/>
                  </a:lnTo>
                  <a:lnTo>
                    <a:pt x="476" y="303"/>
                  </a:lnTo>
                  <a:lnTo>
                    <a:pt x="477" y="289"/>
                  </a:lnTo>
                  <a:lnTo>
                    <a:pt x="478" y="275"/>
                  </a:lnTo>
                  <a:lnTo>
                    <a:pt x="479" y="260"/>
                  </a:lnTo>
                  <a:lnTo>
                    <a:pt x="478" y="244"/>
                  </a:lnTo>
                  <a:lnTo>
                    <a:pt x="477" y="226"/>
                  </a:lnTo>
                  <a:lnTo>
                    <a:pt x="476" y="211"/>
                  </a:lnTo>
                  <a:lnTo>
                    <a:pt x="474" y="196"/>
                  </a:lnTo>
                  <a:lnTo>
                    <a:pt x="471" y="180"/>
                  </a:lnTo>
                  <a:lnTo>
                    <a:pt x="468" y="167"/>
                  </a:lnTo>
                  <a:lnTo>
                    <a:pt x="464" y="153"/>
                  </a:lnTo>
                  <a:lnTo>
                    <a:pt x="459" y="141"/>
                  </a:lnTo>
                  <a:lnTo>
                    <a:pt x="454" y="128"/>
                  </a:lnTo>
                  <a:lnTo>
                    <a:pt x="448" y="117"/>
                  </a:lnTo>
                  <a:lnTo>
                    <a:pt x="442" y="106"/>
                  </a:lnTo>
                  <a:lnTo>
                    <a:pt x="434" y="96"/>
                  </a:lnTo>
                  <a:lnTo>
                    <a:pt x="427" y="85"/>
                  </a:lnTo>
                  <a:lnTo>
                    <a:pt x="418" y="76"/>
                  </a:lnTo>
                  <a:lnTo>
                    <a:pt x="410" y="68"/>
                  </a:lnTo>
                  <a:lnTo>
                    <a:pt x="400" y="60"/>
                  </a:lnTo>
                  <a:lnTo>
                    <a:pt x="389" y="53"/>
                  </a:lnTo>
                  <a:lnTo>
                    <a:pt x="378" y="46"/>
                  </a:lnTo>
                  <a:lnTo>
                    <a:pt x="367" y="40"/>
                  </a:lnTo>
                  <a:lnTo>
                    <a:pt x="354" y="33"/>
                  </a:lnTo>
                  <a:lnTo>
                    <a:pt x="339" y="28"/>
                  </a:lnTo>
                  <a:lnTo>
                    <a:pt x="325" y="23"/>
                  </a:lnTo>
                  <a:lnTo>
                    <a:pt x="310" y="19"/>
                  </a:lnTo>
                  <a:lnTo>
                    <a:pt x="294" y="15"/>
                  </a:lnTo>
                  <a:lnTo>
                    <a:pt x="277" y="11"/>
                  </a:lnTo>
                  <a:lnTo>
                    <a:pt x="259" y="8"/>
                  </a:lnTo>
                  <a:lnTo>
                    <a:pt x="240" y="6"/>
                  </a:lnTo>
                  <a:lnTo>
                    <a:pt x="221" y="4"/>
                  </a:lnTo>
                  <a:lnTo>
                    <a:pt x="179" y="1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96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301840" y="3354480"/>
              <a:ext cx="154080" cy="171360"/>
            </a:xfrm>
            <a:custGeom>
              <a:avLst/>
              <a:gdLst/>
              <a:ahLst/>
              <a:rect l="l" t="t" r="r" b="b"/>
              <a:pathLst>
                <a:path w="487" h="538">
                  <a:moveTo>
                    <a:pt x="0" y="538"/>
                  </a:moveTo>
                  <a:lnTo>
                    <a:pt x="158" y="538"/>
                  </a:lnTo>
                  <a:lnTo>
                    <a:pt x="177" y="538"/>
                  </a:lnTo>
                  <a:lnTo>
                    <a:pt x="198" y="537"/>
                  </a:lnTo>
                  <a:lnTo>
                    <a:pt x="216" y="536"/>
                  </a:lnTo>
                  <a:lnTo>
                    <a:pt x="235" y="535"/>
                  </a:lnTo>
                  <a:lnTo>
                    <a:pt x="253" y="532"/>
                  </a:lnTo>
                  <a:lnTo>
                    <a:pt x="270" y="530"/>
                  </a:lnTo>
                  <a:lnTo>
                    <a:pt x="286" y="527"/>
                  </a:lnTo>
                  <a:lnTo>
                    <a:pt x="302" y="523"/>
                  </a:lnTo>
                  <a:lnTo>
                    <a:pt x="317" y="518"/>
                  </a:lnTo>
                  <a:lnTo>
                    <a:pt x="331" y="513"/>
                  </a:lnTo>
                  <a:lnTo>
                    <a:pt x="346" y="508"/>
                  </a:lnTo>
                  <a:lnTo>
                    <a:pt x="359" y="503"/>
                  </a:lnTo>
                  <a:lnTo>
                    <a:pt x="371" y="497"/>
                  </a:lnTo>
                  <a:lnTo>
                    <a:pt x="383" y="490"/>
                  </a:lnTo>
                  <a:lnTo>
                    <a:pt x="395" y="483"/>
                  </a:lnTo>
                  <a:lnTo>
                    <a:pt x="405" y="476"/>
                  </a:lnTo>
                  <a:lnTo>
                    <a:pt x="415" y="467"/>
                  </a:lnTo>
                  <a:lnTo>
                    <a:pt x="424" y="459"/>
                  </a:lnTo>
                  <a:lnTo>
                    <a:pt x="432" y="450"/>
                  </a:lnTo>
                  <a:lnTo>
                    <a:pt x="440" y="440"/>
                  </a:lnTo>
                  <a:lnTo>
                    <a:pt x="448" y="431"/>
                  </a:lnTo>
                  <a:lnTo>
                    <a:pt x="455" y="419"/>
                  </a:lnTo>
                  <a:lnTo>
                    <a:pt x="461" y="408"/>
                  </a:lnTo>
                  <a:lnTo>
                    <a:pt x="466" y="397"/>
                  </a:lnTo>
                  <a:lnTo>
                    <a:pt x="471" y="385"/>
                  </a:lnTo>
                  <a:lnTo>
                    <a:pt x="475" y="372"/>
                  </a:lnTo>
                  <a:lnTo>
                    <a:pt x="479" y="359"/>
                  </a:lnTo>
                  <a:lnTo>
                    <a:pt x="482" y="345"/>
                  </a:lnTo>
                  <a:lnTo>
                    <a:pt x="484" y="331"/>
                  </a:lnTo>
                  <a:lnTo>
                    <a:pt x="485" y="316"/>
                  </a:lnTo>
                  <a:lnTo>
                    <a:pt x="486" y="301"/>
                  </a:lnTo>
                  <a:lnTo>
                    <a:pt x="487" y="285"/>
                  </a:lnTo>
                  <a:lnTo>
                    <a:pt x="486" y="267"/>
                  </a:lnTo>
                  <a:lnTo>
                    <a:pt x="485" y="250"/>
                  </a:lnTo>
                  <a:lnTo>
                    <a:pt x="484" y="234"/>
                  </a:lnTo>
                  <a:lnTo>
                    <a:pt x="481" y="217"/>
                  </a:lnTo>
                  <a:lnTo>
                    <a:pt x="478" y="202"/>
                  </a:lnTo>
                  <a:lnTo>
                    <a:pt x="475" y="187"/>
                  </a:lnTo>
                  <a:lnTo>
                    <a:pt x="471" y="173"/>
                  </a:lnTo>
                  <a:lnTo>
                    <a:pt x="466" y="159"/>
                  </a:lnTo>
                  <a:lnTo>
                    <a:pt x="460" y="146"/>
                  </a:lnTo>
                  <a:lnTo>
                    <a:pt x="454" y="133"/>
                  </a:lnTo>
                  <a:lnTo>
                    <a:pt x="447" y="122"/>
                  </a:lnTo>
                  <a:lnTo>
                    <a:pt x="439" y="109"/>
                  </a:lnTo>
                  <a:lnTo>
                    <a:pt x="431" y="99"/>
                  </a:lnTo>
                  <a:lnTo>
                    <a:pt x="422" y="89"/>
                  </a:lnTo>
                  <a:lnTo>
                    <a:pt x="413" y="79"/>
                  </a:lnTo>
                  <a:lnTo>
                    <a:pt x="403" y="70"/>
                  </a:lnTo>
                  <a:lnTo>
                    <a:pt x="392" y="61"/>
                  </a:lnTo>
                  <a:lnTo>
                    <a:pt x="379" y="53"/>
                  </a:lnTo>
                  <a:lnTo>
                    <a:pt x="367" y="46"/>
                  </a:lnTo>
                  <a:lnTo>
                    <a:pt x="354" y="40"/>
                  </a:lnTo>
                  <a:lnTo>
                    <a:pt x="339" y="34"/>
                  </a:lnTo>
                  <a:lnTo>
                    <a:pt x="325" y="28"/>
                  </a:lnTo>
                  <a:lnTo>
                    <a:pt x="310" y="23"/>
                  </a:lnTo>
                  <a:lnTo>
                    <a:pt x="294" y="18"/>
                  </a:lnTo>
                  <a:lnTo>
                    <a:pt x="277" y="13"/>
                  </a:lnTo>
                  <a:lnTo>
                    <a:pt x="259" y="10"/>
                  </a:lnTo>
                  <a:lnTo>
                    <a:pt x="240" y="7"/>
                  </a:lnTo>
                  <a:lnTo>
                    <a:pt x="222" y="4"/>
                  </a:lnTo>
                  <a:lnTo>
                    <a:pt x="202" y="3"/>
                  </a:lnTo>
                  <a:lnTo>
                    <a:pt x="181" y="1"/>
                  </a:lnTo>
                  <a:lnTo>
                    <a:pt x="161" y="0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538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057400" y="2801880"/>
              <a:ext cx="641520" cy="939960"/>
            </a:xfrm>
            <a:custGeom>
              <a:avLst/>
              <a:gdLst/>
              <a:ahLst/>
              <a:rect l="l" t="t" r="r" b="b"/>
              <a:pathLst>
                <a:path w="2020" h="2957">
                  <a:moveTo>
                    <a:pt x="0" y="2957"/>
                  </a:moveTo>
                  <a:lnTo>
                    <a:pt x="0" y="0"/>
                  </a:lnTo>
                  <a:lnTo>
                    <a:pt x="989" y="0"/>
                  </a:lnTo>
                  <a:lnTo>
                    <a:pt x="1050" y="1"/>
                  </a:lnTo>
                  <a:lnTo>
                    <a:pt x="1111" y="3"/>
                  </a:lnTo>
                  <a:lnTo>
                    <a:pt x="1169" y="8"/>
                  </a:lnTo>
                  <a:lnTo>
                    <a:pt x="1225" y="13"/>
                  </a:lnTo>
                  <a:lnTo>
                    <a:pt x="1279" y="20"/>
                  </a:lnTo>
                  <a:lnTo>
                    <a:pt x="1331" y="29"/>
                  </a:lnTo>
                  <a:lnTo>
                    <a:pt x="1381" y="40"/>
                  </a:lnTo>
                  <a:lnTo>
                    <a:pt x="1430" y="52"/>
                  </a:lnTo>
                  <a:lnTo>
                    <a:pt x="1477" y="66"/>
                  </a:lnTo>
                  <a:lnTo>
                    <a:pt x="1522" y="81"/>
                  </a:lnTo>
                  <a:lnTo>
                    <a:pt x="1543" y="89"/>
                  </a:lnTo>
                  <a:lnTo>
                    <a:pt x="1565" y="99"/>
                  </a:lnTo>
                  <a:lnTo>
                    <a:pt x="1585" y="108"/>
                  </a:lnTo>
                  <a:lnTo>
                    <a:pt x="1606" y="117"/>
                  </a:lnTo>
                  <a:lnTo>
                    <a:pt x="1625" y="127"/>
                  </a:lnTo>
                  <a:lnTo>
                    <a:pt x="1644" y="137"/>
                  </a:lnTo>
                  <a:lnTo>
                    <a:pt x="1664" y="149"/>
                  </a:lnTo>
                  <a:lnTo>
                    <a:pt x="1682" y="160"/>
                  </a:lnTo>
                  <a:lnTo>
                    <a:pt x="1699" y="171"/>
                  </a:lnTo>
                  <a:lnTo>
                    <a:pt x="1717" y="183"/>
                  </a:lnTo>
                  <a:lnTo>
                    <a:pt x="1734" y="196"/>
                  </a:lnTo>
                  <a:lnTo>
                    <a:pt x="1750" y="208"/>
                  </a:lnTo>
                  <a:lnTo>
                    <a:pt x="1767" y="221"/>
                  </a:lnTo>
                  <a:lnTo>
                    <a:pt x="1782" y="235"/>
                  </a:lnTo>
                  <a:lnTo>
                    <a:pt x="1797" y="249"/>
                  </a:lnTo>
                  <a:lnTo>
                    <a:pt x="1812" y="263"/>
                  </a:lnTo>
                  <a:lnTo>
                    <a:pt x="1826" y="278"/>
                  </a:lnTo>
                  <a:lnTo>
                    <a:pt x="1839" y="293"/>
                  </a:lnTo>
                  <a:lnTo>
                    <a:pt x="1853" y="309"/>
                  </a:lnTo>
                  <a:lnTo>
                    <a:pt x="1865" y="324"/>
                  </a:lnTo>
                  <a:lnTo>
                    <a:pt x="1877" y="340"/>
                  </a:lnTo>
                  <a:lnTo>
                    <a:pt x="1888" y="357"/>
                  </a:lnTo>
                  <a:lnTo>
                    <a:pt x="1899" y="374"/>
                  </a:lnTo>
                  <a:lnTo>
                    <a:pt x="1910" y="391"/>
                  </a:lnTo>
                  <a:lnTo>
                    <a:pt x="1920" y="409"/>
                  </a:lnTo>
                  <a:lnTo>
                    <a:pt x="1929" y="426"/>
                  </a:lnTo>
                  <a:lnTo>
                    <a:pt x="1938" y="445"/>
                  </a:lnTo>
                  <a:lnTo>
                    <a:pt x="1946" y="464"/>
                  </a:lnTo>
                  <a:lnTo>
                    <a:pt x="1955" y="483"/>
                  </a:lnTo>
                  <a:lnTo>
                    <a:pt x="1962" y="503"/>
                  </a:lnTo>
                  <a:lnTo>
                    <a:pt x="1969" y="522"/>
                  </a:lnTo>
                  <a:lnTo>
                    <a:pt x="1975" y="542"/>
                  </a:lnTo>
                  <a:lnTo>
                    <a:pt x="1981" y="563"/>
                  </a:lnTo>
                  <a:lnTo>
                    <a:pt x="1986" y="584"/>
                  </a:lnTo>
                  <a:lnTo>
                    <a:pt x="1991" y="606"/>
                  </a:lnTo>
                  <a:lnTo>
                    <a:pt x="1995" y="627"/>
                  </a:lnTo>
                  <a:lnTo>
                    <a:pt x="1999" y="650"/>
                  </a:lnTo>
                  <a:lnTo>
                    <a:pt x="2003" y="671"/>
                  </a:lnTo>
                  <a:lnTo>
                    <a:pt x="2006" y="694"/>
                  </a:lnTo>
                  <a:lnTo>
                    <a:pt x="2008" y="718"/>
                  </a:lnTo>
                  <a:lnTo>
                    <a:pt x="2010" y="741"/>
                  </a:lnTo>
                  <a:lnTo>
                    <a:pt x="2011" y="765"/>
                  </a:lnTo>
                  <a:lnTo>
                    <a:pt x="2012" y="789"/>
                  </a:lnTo>
                  <a:lnTo>
                    <a:pt x="2012" y="814"/>
                  </a:lnTo>
                  <a:lnTo>
                    <a:pt x="2012" y="842"/>
                  </a:lnTo>
                  <a:lnTo>
                    <a:pt x="2010" y="871"/>
                  </a:lnTo>
                  <a:lnTo>
                    <a:pt x="2009" y="900"/>
                  </a:lnTo>
                  <a:lnTo>
                    <a:pt x="2006" y="926"/>
                  </a:lnTo>
                  <a:lnTo>
                    <a:pt x="2003" y="954"/>
                  </a:lnTo>
                  <a:lnTo>
                    <a:pt x="1998" y="979"/>
                  </a:lnTo>
                  <a:lnTo>
                    <a:pt x="1993" y="1005"/>
                  </a:lnTo>
                  <a:lnTo>
                    <a:pt x="1987" y="1029"/>
                  </a:lnTo>
                  <a:lnTo>
                    <a:pt x="1981" y="1054"/>
                  </a:lnTo>
                  <a:lnTo>
                    <a:pt x="1974" y="1077"/>
                  </a:lnTo>
                  <a:lnTo>
                    <a:pt x="1966" y="1101"/>
                  </a:lnTo>
                  <a:lnTo>
                    <a:pt x="1958" y="1123"/>
                  </a:lnTo>
                  <a:lnTo>
                    <a:pt x="1948" y="1144"/>
                  </a:lnTo>
                  <a:lnTo>
                    <a:pt x="1938" y="1166"/>
                  </a:lnTo>
                  <a:lnTo>
                    <a:pt x="1927" y="1187"/>
                  </a:lnTo>
                  <a:lnTo>
                    <a:pt x="1916" y="1207"/>
                  </a:lnTo>
                  <a:lnTo>
                    <a:pt x="1904" y="1226"/>
                  </a:lnTo>
                  <a:lnTo>
                    <a:pt x="1890" y="1245"/>
                  </a:lnTo>
                  <a:lnTo>
                    <a:pt x="1876" y="1265"/>
                  </a:lnTo>
                  <a:lnTo>
                    <a:pt x="1861" y="1283"/>
                  </a:lnTo>
                  <a:lnTo>
                    <a:pt x="1845" y="1300"/>
                  </a:lnTo>
                  <a:lnTo>
                    <a:pt x="1828" y="1318"/>
                  </a:lnTo>
                  <a:lnTo>
                    <a:pt x="1811" y="1335"/>
                  </a:lnTo>
                  <a:lnTo>
                    <a:pt x="1792" y="1351"/>
                  </a:lnTo>
                  <a:lnTo>
                    <a:pt x="1773" y="1368"/>
                  </a:lnTo>
                  <a:lnTo>
                    <a:pt x="1754" y="1383"/>
                  </a:lnTo>
                  <a:lnTo>
                    <a:pt x="1732" y="1398"/>
                  </a:lnTo>
                  <a:lnTo>
                    <a:pt x="1711" y="1414"/>
                  </a:lnTo>
                  <a:lnTo>
                    <a:pt x="1688" y="1428"/>
                  </a:lnTo>
                  <a:lnTo>
                    <a:pt x="1665" y="1441"/>
                  </a:lnTo>
                  <a:lnTo>
                    <a:pt x="1640" y="1456"/>
                  </a:lnTo>
                  <a:lnTo>
                    <a:pt x="1616" y="1468"/>
                  </a:lnTo>
                  <a:lnTo>
                    <a:pt x="1640" y="1478"/>
                  </a:lnTo>
                  <a:lnTo>
                    <a:pt x="1664" y="1487"/>
                  </a:lnTo>
                  <a:lnTo>
                    <a:pt x="1687" y="1498"/>
                  </a:lnTo>
                  <a:lnTo>
                    <a:pt x="1710" y="1510"/>
                  </a:lnTo>
                  <a:lnTo>
                    <a:pt x="1731" y="1522"/>
                  </a:lnTo>
                  <a:lnTo>
                    <a:pt x="1751" y="1535"/>
                  </a:lnTo>
                  <a:lnTo>
                    <a:pt x="1772" y="1548"/>
                  </a:lnTo>
                  <a:lnTo>
                    <a:pt x="1791" y="1563"/>
                  </a:lnTo>
                  <a:lnTo>
                    <a:pt x="1810" y="1578"/>
                  </a:lnTo>
                  <a:lnTo>
                    <a:pt x="1827" y="1594"/>
                  </a:lnTo>
                  <a:lnTo>
                    <a:pt x="1844" y="1611"/>
                  </a:lnTo>
                  <a:lnTo>
                    <a:pt x="1861" y="1629"/>
                  </a:lnTo>
                  <a:lnTo>
                    <a:pt x="1876" y="1646"/>
                  </a:lnTo>
                  <a:lnTo>
                    <a:pt x="1890" y="1666"/>
                  </a:lnTo>
                  <a:lnTo>
                    <a:pt x="1905" y="1686"/>
                  </a:lnTo>
                  <a:lnTo>
                    <a:pt x="1918" y="1707"/>
                  </a:lnTo>
                  <a:lnTo>
                    <a:pt x="1930" y="1727"/>
                  </a:lnTo>
                  <a:lnTo>
                    <a:pt x="1941" y="1749"/>
                  </a:lnTo>
                  <a:lnTo>
                    <a:pt x="1953" y="1772"/>
                  </a:lnTo>
                  <a:lnTo>
                    <a:pt x="1963" y="1795"/>
                  </a:lnTo>
                  <a:lnTo>
                    <a:pt x="1972" y="1819"/>
                  </a:lnTo>
                  <a:lnTo>
                    <a:pt x="1980" y="1843"/>
                  </a:lnTo>
                  <a:lnTo>
                    <a:pt x="1987" y="1869"/>
                  </a:lnTo>
                  <a:lnTo>
                    <a:pt x="1994" y="1895"/>
                  </a:lnTo>
                  <a:lnTo>
                    <a:pt x="2001" y="1922"/>
                  </a:lnTo>
                  <a:lnTo>
                    <a:pt x="2006" y="1949"/>
                  </a:lnTo>
                  <a:lnTo>
                    <a:pt x="2010" y="1978"/>
                  </a:lnTo>
                  <a:lnTo>
                    <a:pt x="2014" y="2006"/>
                  </a:lnTo>
                  <a:lnTo>
                    <a:pt x="2016" y="2036"/>
                  </a:lnTo>
                  <a:lnTo>
                    <a:pt x="2018" y="2067"/>
                  </a:lnTo>
                  <a:lnTo>
                    <a:pt x="2020" y="2098"/>
                  </a:lnTo>
                  <a:lnTo>
                    <a:pt x="2020" y="2130"/>
                  </a:lnTo>
                  <a:lnTo>
                    <a:pt x="2020" y="2155"/>
                  </a:lnTo>
                  <a:lnTo>
                    <a:pt x="2019" y="2180"/>
                  </a:lnTo>
                  <a:lnTo>
                    <a:pt x="2018" y="2205"/>
                  </a:lnTo>
                  <a:lnTo>
                    <a:pt x="2016" y="2229"/>
                  </a:lnTo>
                  <a:lnTo>
                    <a:pt x="2014" y="2253"/>
                  </a:lnTo>
                  <a:lnTo>
                    <a:pt x="2011" y="2277"/>
                  </a:lnTo>
                  <a:lnTo>
                    <a:pt x="2008" y="2300"/>
                  </a:lnTo>
                  <a:lnTo>
                    <a:pt x="2004" y="2323"/>
                  </a:lnTo>
                  <a:lnTo>
                    <a:pt x="1999" y="2345"/>
                  </a:lnTo>
                  <a:lnTo>
                    <a:pt x="1994" y="2368"/>
                  </a:lnTo>
                  <a:lnTo>
                    <a:pt x="1989" y="2389"/>
                  </a:lnTo>
                  <a:lnTo>
                    <a:pt x="1983" y="2409"/>
                  </a:lnTo>
                  <a:lnTo>
                    <a:pt x="1977" y="2431"/>
                  </a:lnTo>
                  <a:lnTo>
                    <a:pt x="1970" y="2451"/>
                  </a:lnTo>
                  <a:lnTo>
                    <a:pt x="1963" y="2471"/>
                  </a:lnTo>
                  <a:lnTo>
                    <a:pt x="1955" y="2490"/>
                  </a:lnTo>
                  <a:lnTo>
                    <a:pt x="1946" y="2509"/>
                  </a:lnTo>
                  <a:lnTo>
                    <a:pt x="1937" y="2529"/>
                  </a:lnTo>
                  <a:lnTo>
                    <a:pt x="1928" y="2547"/>
                  </a:lnTo>
                  <a:lnTo>
                    <a:pt x="1918" y="2564"/>
                  </a:lnTo>
                  <a:lnTo>
                    <a:pt x="1908" y="2583"/>
                  </a:lnTo>
                  <a:lnTo>
                    <a:pt x="1896" y="2599"/>
                  </a:lnTo>
                  <a:lnTo>
                    <a:pt x="1885" y="2617"/>
                  </a:lnTo>
                  <a:lnTo>
                    <a:pt x="1873" y="2633"/>
                  </a:lnTo>
                  <a:lnTo>
                    <a:pt x="1861" y="2649"/>
                  </a:lnTo>
                  <a:lnTo>
                    <a:pt x="1847" y="2664"/>
                  </a:lnTo>
                  <a:lnTo>
                    <a:pt x="1834" y="2680"/>
                  </a:lnTo>
                  <a:lnTo>
                    <a:pt x="1820" y="2694"/>
                  </a:lnTo>
                  <a:lnTo>
                    <a:pt x="1806" y="2708"/>
                  </a:lnTo>
                  <a:lnTo>
                    <a:pt x="1790" y="2723"/>
                  </a:lnTo>
                  <a:lnTo>
                    <a:pt x="1775" y="2736"/>
                  </a:lnTo>
                  <a:lnTo>
                    <a:pt x="1760" y="2749"/>
                  </a:lnTo>
                  <a:lnTo>
                    <a:pt x="1742" y="2762"/>
                  </a:lnTo>
                  <a:lnTo>
                    <a:pt x="1726" y="2775"/>
                  </a:lnTo>
                  <a:lnTo>
                    <a:pt x="1708" y="2787"/>
                  </a:lnTo>
                  <a:lnTo>
                    <a:pt x="1690" y="2798"/>
                  </a:lnTo>
                  <a:lnTo>
                    <a:pt x="1671" y="2809"/>
                  </a:lnTo>
                  <a:lnTo>
                    <a:pt x="1652" y="2821"/>
                  </a:lnTo>
                  <a:lnTo>
                    <a:pt x="1633" y="2831"/>
                  </a:lnTo>
                  <a:lnTo>
                    <a:pt x="1613" y="2841"/>
                  </a:lnTo>
                  <a:lnTo>
                    <a:pt x="1592" y="2850"/>
                  </a:lnTo>
                  <a:lnTo>
                    <a:pt x="1571" y="2859"/>
                  </a:lnTo>
                  <a:lnTo>
                    <a:pt x="1549" y="2869"/>
                  </a:lnTo>
                  <a:lnTo>
                    <a:pt x="1527" y="2877"/>
                  </a:lnTo>
                  <a:lnTo>
                    <a:pt x="1504" y="2885"/>
                  </a:lnTo>
                  <a:lnTo>
                    <a:pt x="1482" y="2892"/>
                  </a:lnTo>
                  <a:lnTo>
                    <a:pt x="1459" y="2899"/>
                  </a:lnTo>
                  <a:lnTo>
                    <a:pt x="1434" y="2905"/>
                  </a:lnTo>
                  <a:lnTo>
                    <a:pt x="1410" y="2912"/>
                  </a:lnTo>
                  <a:lnTo>
                    <a:pt x="1384" y="2917"/>
                  </a:lnTo>
                  <a:lnTo>
                    <a:pt x="1359" y="2924"/>
                  </a:lnTo>
                  <a:lnTo>
                    <a:pt x="1333" y="2929"/>
                  </a:lnTo>
                  <a:lnTo>
                    <a:pt x="1279" y="2938"/>
                  </a:lnTo>
                  <a:lnTo>
                    <a:pt x="1224" y="2945"/>
                  </a:lnTo>
                  <a:lnTo>
                    <a:pt x="1166" y="2950"/>
                  </a:lnTo>
                  <a:lnTo>
                    <a:pt x="1106" y="2954"/>
                  </a:lnTo>
                  <a:lnTo>
                    <a:pt x="1044" y="2957"/>
                  </a:lnTo>
                  <a:lnTo>
                    <a:pt x="981" y="2957"/>
                  </a:lnTo>
                  <a:lnTo>
                    <a:pt x="0" y="2957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14560" y="4368960"/>
              <a:ext cx="639720" cy="971280"/>
            </a:xfrm>
            <a:custGeom>
              <a:avLst/>
              <a:gdLst/>
              <a:ahLst/>
              <a:rect l="l" t="t" r="r" b="b"/>
              <a:pathLst>
                <a:path w="2017" h="3059">
                  <a:moveTo>
                    <a:pt x="1959" y="3009"/>
                  </a:moveTo>
                  <a:lnTo>
                    <a:pt x="1937" y="3015"/>
                  </a:lnTo>
                  <a:lnTo>
                    <a:pt x="1915" y="3021"/>
                  </a:lnTo>
                  <a:lnTo>
                    <a:pt x="1893" y="3026"/>
                  </a:lnTo>
                  <a:lnTo>
                    <a:pt x="1870" y="3031"/>
                  </a:lnTo>
                  <a:lnTo>
                    <a:pt x="1847" y="3036"/>
                  </a:lnTo>
                  <a:lnTo>
                    <a:pt x="1823" y="3040"/>
                  </a:lnTo>
                  <a:lnTo>
                    <a:pt x="1800" y="3044"/>
                  </a:lnTo>
                  <a:lnTo>
                    <a:pt x="1776" y="3047"/>
                  </a:lnTo>
                  <a:lnTo>
                    <a:pt x="1752" y="3050"/>
                  </a:lnTo>
                  <a:lnTo>
                    <a:pt x="1727" y="3052"/>
                  </a:lnTo>
                  <a:lnTo>
                    <a:pt x="1702" y="3054"/>
                  </a:lnTo>
                  <a:lnTo>
                    <a:pt x="1675" y="3056"/>
                  </a:lnTo>
                  <a:lnTo>
                    <a:pt x="1649" y="3057"/>
                  </a:lnTo>
                  <a:lnTo>
                    <a:pt x="1621" y="3058"/>
                  </a:lnTo>
                  <a:lnTo>
                    <a:pt x="1594" y="3059"/>
                  </a:lnTo>
                  <a:lnTo>
                    <a:pt x="1565" y="3059"/>
                  </a:lnTo>
                  <a:lnTo>
                    <a:pt x="1521" y="3059"/>
                  </a:lnTo>
                  <a:lnTo>
                    <a:pt x="1478" y="3057"/>
                  </a:lnTo>
                  <a:lnTo>
                    <a:pt x="1436" y="3056"/>
                  </a:lnTo>
                  <a:lnTo>
                    <a:pt x="1395" y="3053"/>
                  </a:lnTo>
                  <a:lnTo>
                    <a:pt x="1353" y="3049"/>
                  </a:lnTo>
                  <a:lnTo>
                    <a:pt x="1312" y="3045"/>
                  </a:lnTo>
                  <a:lnTo>
                    <a:pt x="1272" y="3040"/>
                  </a:lnTo>
                  <a:lnTo>
                    <a:pt x="1232" y="3032"/>
                  </a:lnTo>
                  <a:lnTo>
                    <a:pt x="1192" y="3026"/>
                  </a:lnTo>
                  <a:lnTo>
                    <a:pt x="1154" y="3018"/>
                  </a:lnTo>
                  <a:lnTo>
                    <a:pt x="1116" y="3010"/>
                  </a:lnTo>
                  <a:lnTo>
                    <a:pt x="1078" y="3000"/>
                  </a:lnTo>
                  <a:lnTo>
                    <a:pt x="1040" y="2991"/>
                  </a:lnTo>
                  <a:lnTo>
                    <a:pt x="1004" y="2979"/>
                  </a:lnTo>
                  <a:lnTo>
                    <a:pt x="968" y="2967"/>
                  </a:lnTo>
                  <a:lnTo>
                    <a:pt x="932" y="2955"/>
                  </a:lnTo>
                  <a:lnTo>
                    <a:pt x="896" y="2942"/>
                  </a:lnTo>
                  <a:lnTo>
                    <a:pt x="863" y="2927"/>
                  </a:lnTo>
                  <a:lnTo>
                    <a:pt x="828" y="2912"/>
                  </a:lnTo>
                  <a:lnTo>
                    <a:pt x="794" y="2896"/>
                  </a:lnTo>
                  <a:lnTo>
                    <a:pt x="762" y="2879"/>
                  </a:lnTo>
                  <a:lnTo>
                    <a:pt x="729" y="2862"/>
                  </a:lnTo>
                  <a:lnTo>
                    <a:pt x="697" y="2844"/>
                  </a:lnTo>
                  <a:lnTo>
                    <a:pt x="666" y="2824"/>
                  </a:lnTo>
                  <a:lnTo>
                    <a:pt x="635" y="2804"/>
                  </a:lnTo>
                  <a:lnTo>
                    <a:pt x="605" y="2784"/>
                  </a:lnTo>
                  <a:lnTo>
                    <a:pt x="574" y="2761"/>
                  </a:lnTo>
                  <a:lnTo>
                    <a:pt x="545" y="2739"/>
                  </a:lnTo>
                  <a:lnTo>
                    <a:pt x="516" y="2716"/>
                  </a:lnTo>
                  <a:lnTo>
                    <a:pt x="488" y="2692"/>
                  </a:lnTo>
                  <a:lnTo>
                    <a:pt x="460" y="2667"/>
                  </a:lnTo>
                  <a:lnTo>
                    <a:pt x="433" y="2641"/>
                  </a:lnTo>
                  <a:lnTo>
                    <a:pt x="407" y="2615"/>
                  </a:lnTo>
                  <a:lnTo>
                    <a:pt x="380" y="2588"/>
                  </a:lnTo>
                  <a:lnTo>
                    <a:pt x="356" y="2560"/>
                  </a:lnTo>
                  <a:lnTo>
                    <a:pt x="331" y="2533"/>
                  </a:lnTo>
                  <a:lnTo>
                    <a:pt x="309" y="2504"/>
                  </a:lnTo>
                  <a:lnTo>
                    <a:pt x="286" y="2475"/>
                  </a:lnTo>
                  <a:lnTo>
                    <a:pt x="264" y="2446"/>
                  </a:lnTo>
                  <a:lnTo>
                    <a:pt x="243" y="2416"/>
                  </a:lnTo>
                  <a:lnTo>
                    <a:pt x="224" y="2386"/>
                  </a:lnTo>
                  <a:lnTo>
                    <a:pt x="204" y="2355"/>
                  </a:lnTo>
                  <a:lnTo>
                    <a:pt x="186" y="2323"/>
                  </a:lnTo>
                  <a:lnTo>
                    <a:pt x="169" y="2292"/>
                  </a:lnTo>
                  <a:lnTo>
                    <a:pt x="152" y="2259"/>
                  </a:lnTo>
                  <a:lnTo>
                    <a:pt x="137" y="2227"/>
                  </a:lnTo>
                  <a:lnTo>
                    <a:pt x="122" y="2194"/>
                  </a:lnTo>
                  <a:lnTo>
                    <a:pt x="109" y="2159"/>
                  </a:lnTo>
                  <a:lnTo>
                    <a:pt x="95" y="2126"/>
                  </a:lnTo>
                  <a:lnTo>
                    <a:pt x="83" y="2091"/>
                  </a:lnTo>
                  <a:lnTo>
                    <a:pt x="72" y="2055"/>
                  </a:lnTo>
                  <a:lnTo>
                    <a:pt x="61" y="2019"/>
                  </a:lnTo>
                  <a:lnTo>
                    <a:pt x="51" y="1984"/>
                  </a:lnTo>
                  <a:lnTo>
                    <a:pt x="42" y="1947"/>
                  </a:lnTo>
                  <a:lnTo>
                    <a:pt x="34" y="1909"/>
                  </a:lnTo>
                  <a:lnTo>
                    <a:pt x="27" y="1871"/>
                  </a:lnTo>
                  <a:lnTo>
                    <a:pt x="21" y="1834"/>
                  </a:lnTo>
                  <a:lnTo>
                    <a:pt x="16" y="1795"/>
                  </a:lnTo>
                  <a:lnTo>
                    <a:pt x="11" y="1755"/>
                  </a:lnTo>
                  <a:lnTo>
                    <a:pt x="6" y="1715"/>
                  </a:lnTo>
                  <a:lnTo>
                    <a:pt x="4" y="1676"/>
                  </a:lnTo>
                  <a:lnTo>
                    <a:pt x="2" y="1635"/>
                  </a:lnTo>
                  <a:lnTo>
                    <a:pt x="0" y="1594"/>
                  </a:lnTo>
                  <a:lnTo>
                    <a:pt x="0" y="1552"/>
                  </a:lnTo>
                  <a:lnTo>
                    <a:pt x="0" y="1510"/>
                  </a:lnTo>
                  <a:lnTo>
                    <a:pt x="2" y="1469"/>
                  </a:lnTo>
                  <a:lnTo>
                    <a:pt x="4" y="1428"/>
                  </a:lnTo>
                  <a:lnTo>
                    <a:pt x="7" y="1388"/>
                  </a:lnTo>
                  <a:lnTo>
                    <a:pt x="12" y="1348"/>
                  </a:lnTo>
                  <a:lnTo>
                    <a:pt x="16" y="1308"/>
                  </a:lnTo>
                  <a:lnTo>
                    <a:pt x="22" y="1269"/>
                  </a:lnTo>
                  <a:lnTo>
                    <a:pt x="28" y="1230"/>
                  </a:lnTo>
                  <a:lnTo>
                    <a:pt x="36" y="1192"/>
                  </a:lnTo>
                  <a:lnTo>
                    <a:pt x="44" y="1154"/>
                  </a:lnTo>
                  <a:lnTo>
                    <a:pt x="53" y="1118"/>
                  </a:lnTo>
                  <a:lnTo>
                    <a:pt x="64" y="1080"/>
                  </a:lnTo>
                  <a:lnTo>
                    <a:pt x="74" y="1044"/>
                  </a:lnTo>
                  <a:lnTo>
                    <a:pt x="86" y="1008"/>
                  </a:lnTo>
                  <a:lnTo>
                    <a:pt x="98" y="973"/>
                  </a:lnTo>
                  <a:lnTo>
                    <a:pt x="113" y="938"/>
                  </a:lnTo>
                  <a:lnTo>
                    <a:pt x="127" y="903"/>
                  </a:lnTo>
                  <a:lnTo>
                    <a:pt x="142" y="869"/>
                  </a:lnTo>
                  <a:lnTo>
                    <a:pt x="159" y="836"/>
                  </a:lnTo>
                  <a:lnTo>
                    <a:pt x="176" y="802"/>
                  </a:lnTo>
                  <a:lnTo>
                    <a:pt x="193" y="770"/>
                  </a:lnTo>
                  <a:lnTo>
                    <a:pt x="213" y="737"/>
                  </a:lnTo>
                  <a:lnTo>
                    <a:pt x="232" y="705"/>
                  </a:lnTo>
                  <a:lnTo>
                    <a:pt x="252" y="674"/>
                  </a:lnTo>
                  <a:lnTo>
                    <a:pt x="274" y="643"/>
                  </a:lnTo>
                  <a:lnTo>
                    <a:pt x="296" y="613"/>
                  </a:lnTo>
                  <a:lnTo>
                    <a:pt x="320" y="583"/>
                  </a:lnTo>
                  <a:lnTo>
                    <a:pt x="343" y="553"/>
                  </a:lnTo>
                  <a:lnTo>
                    <a:pt x="369" y="525"/>
                  </a:lnTo>
                  <a:lnTo>
                    <a:pt x="394" y="495"/>
                  </a:lnTo>
                  <a:lnTo>
                    <a:pt x="421" y="468"/>
                  </a:lnTo>
                  <a:lnTo>
                    <a:pt x="448" y="440"/>
                  </a:lnTo>
                  <a:lnTo>
                    <a:pt x="477" y="413"/>
                  </a:lnTo>
                  <a:lnTo>
                    <a:pt x="506" y="387"/>
                  </a:lnTo>
                  <a:lnTo>
                    <a:pt x="535" y="362"/>
                  </a:lnTo>
                  <a:lnTo>
                    <a:pt x="565" y="337"/>
                  </a:lnTo>
                  <a:lnTo>
                    <a:pt x="595" y="314"/>
                  </a:lnTo>
                  <a:lnTo>
                    <a:pt x="626" y="290"/>
                  </a:lnTo>
                  <a:lnTo>
                    <a:pt x="657" y="269"/>
                  </a:lnTo>
                  <a:lnTo>
                    <a:pt x="688" y="247"/>
                  </a:lnTo>
                  <a:lnTo>
                    <a:pt x="721" y="228"/>
                  </a:lnTo>
                  <a:lnTo>
                    <a:pt x="754" y="209"/>
                  </a:lnTo>
                  <a:lnTo>
                    <a:pt x="786" y="190"/>
                  </a:lnTo>
                  <a:lnTo>
                    <a:pt x="820" y="172"/>
                  </a:lnTo>
                  <a:lnTo>
                    <a:pt x="854" y="156"/>
                  </a:lnTo>
                  <a:lnTo>
                    <a:pt x="888" y="139"/>
                  </a:lnTo>
                  <a:lnTo>
                    <a:pt x="923" y="125"/>
                  </a:lnTo>
                  <a:lnTo>
                    <a:pt x="959" y="111"/>
                  </a:lnTo>
                  <a:lnTo>
                    <a:pt x="994" y="97"/>
                  </a:lnTo>
                  <a:lnTo>
                    <a:pt x="1031" y="85"/>
                  </a:lnTo>
                  <a:lnTo>
                    <a:pt x="1068" y="73"/>
                  </a:lnTo>
                  <a:lnTo>
                    <a:pt x="1106" y="63"/>
                  </a:lnTo>
                  <a:lnTo>
                    <a:pt x="1143" y="52"/>
                  </a:lnTo>
                  <a:lnTo>
                    <a:pt x="1181" y="43"/>
                  </a:lnTo>
                  <a:lnTo>
                    <a:pt x="1220" y="35"/>
                  </a:lnTo>
                  <a:lnTo>
                    <a:pt x="1260" y="28"/>
                  </a:lnTo>
                  <a:lnTo>
                    <a:pt x="1300" y="22"/>
                  </a:lnTo>
                  <a:lnTo>
                    <a:pt x="1339" y="16"/>
                  </a:lnTo>
                  <a:lnTo>
                    <a:pt x="1380" y="12"/>
                  </a:lnTo>
                  <a:lnTo>
                    <a:pt x="1422" y="8"/>
                  </a:lnTo>
                  <a:lnTo>
                    <a:pt x="1463" y="5"/>
                  </a:lnTo>
                  <a:lnTo>
                    <a:pt x="1506" y="2"/>
                  </a:lnTo>
                  <a:lnTo>
                    <a:pt x="1548" y="1"/>
                  </a:lnTo>
                  <a:lnTo>
                    <a:pt x="1591" y="0"/>
                  </a:lnTo>
                  <a:lnTo>
                    <a:pt x="1612" y="0"/>
                  </a:lnTo>
                  <a:lnTo>
                    <a:pt x="1632" y="1"/>
                  </a:lnTo>
                  <a:lnTo>
                    <a:pt x="1653" y="2"/>
                  </a:lnTo>
                  <a:lnTo>
                    <a:pt x="1674" y="4"/>
                  </a:lnTo>
                  <a:lnTo>
                    <a:pt x="1696" y="5"/>
                  </a:lnTo>
                  <a:lnTo>
                    <a:pt x="1717" y="7"/>
                  </a:lnTo>
                  <a:lnTo>
                    <a:pt x="1738" y="9"/>
                  </a:lnTo>
                  <a:lnTo>
                    <a:pt x="1761" y="11"/>
                  </a:lnTo>
                  <a:lnTo>
                    <a:pt x="1783" y="14"/>
                  </a:lnTo>
                  <a:lnTo>
                    <a:pt x="1806" y="17"/>
                  </a:lnTo>
                  <a:lnTo>
                    <a:pt x="1828" y="20"/>
                  </a:lnTo>
                  <a:lnTo>
                    <a:pt x="1852" y="24"/>
                  </a:lnTo>
                  <a:lnTo>
                    <a:pt x="1875" y="28"/>
                  </a:lnTo>
                  <a:lnTo>
                    <a:pt x="1899" y="33"/>
                  </a:lnTo>
                  <a:lnTo>
                    <a:pt x="1922" y="38"/>
                  </a:lnTo>
                  <a:lnTo>
                    <a:pt x="1947" y="43"/>
                  </a:lnTo>
                  <a:lnTo>
                    <a:pt x="1987" y="920"/>
                  </a:lnTo>
                  <a:lnTo>
                    <a:pt x="1961" y="908"/>
                  </a:lnTo>
                  <a:lnTo>
                    <a:pt x="1934" y="898"/>
                  </a:lnTo>
                  <a:lnTo>
                    <a:pt x="1909" y="888"/>
                  </a:lnTo>
                  <a:lnTo>
                    <a:pt x="1882" y="880"/>
                  </a:lnTo>
                  <a:lnTo>
                    <a:pt x="1857" y="872"/>
                  </a:lnTo>
                  <a:lnTo>
                    <a:pt x="1831" y="864"/>
                  </a:lnTo>
                  <a:lnTo>
                    <a:pt x="1806" y="857"/>
                  </a:lnTo>
                  <a:lnTo>
                    <a:pt x="1780" y="851"/>
                  </a:lnTo>
                  <a:lnTo>
                    <a:pt x="1755" y="846"/>
                  </a:lnTo>
                  <a:lnTo>
                    <a:pt x="1729" y="841"/>
                  </a:lnTo>
                  <a:lnTo>
                    <a:pt x="1705" y="838"/>
                  </a:lnTo>
                  <a:lnTo>
                    <a:pt x="1679" y="834"/>
                  </a:lnTo>
                  <a:lnTo>
                    <a:pt x="1655" y="832"/>
                  </a:lnTo>
                  <a:lnTo>
                    <a:pt x="1631" y="830"/>
                  </a:lnTo>
                  <a:lnTo>
                    <a:pt x="1607" y="829"/>
                  </a:lnTo>
                  <a:lnTo>
                    <a:pt x="1583" y="829"/>
                  </a:lnTo>
                  <a:lnTo>
                    <a:pt x="1539" y="830"/>
                  </a:lnTo>
                  <a:lnTo>
                    <a:pt x="1498" y="832"/>
                  </a:lnTo>
                  <a:lnTo>
                    <a:pt x="1457" y="836"/>
                  </a:lnTo>
                  <a:lnTo>
                    <a:pt x="1417" y="841"/>
                  </a:lnTo>
                  <a:lnTo>
                    <a:pt x="1378" y="848"/>
                  </a:lnTo>
                  <a:lnTo>
                    <a:pt x="1340" y="856"/>
                  </a:lnTo>
                  <a:lnTo>
                    <a:pt x="1303" y="867"/>
                  </a:lnTo>
                  <a:lnTo>
                    <a:pt x="1267" y="878"/>
                  </a:lnTo>
                  <a:lnTo>
                    <a:pt x="1232" y="891"/>
                  </a:lnTo>
                  <a:lnTo>
                    <a:pt x="1199" y="905"/>
                  </a:lnTo>
                  <a:lnTo>
                    <a:pt x="1166" y="922"/>
                  </a:lnTo>
                  <a:lnTo>
                    <a:pt x="1133" y="939"/>
                  </a:lnTo>
                  <a:lnTo>
                    <a:pt x="1103" y="958"/>
                  </a:lnTo>
                  <a:lnTo>
                    <a:pt x="1073" y="979"/>
                  </a:lnTo>
                  <a:lnTo>
                    <a:pt x="1043" y="1001"/>
                  </a:lnTo>
                  <a:lnTo>
                    <a:pt x="1016" y="1025"/>
                  </a:lnTo>
                  <a:lnTo>
                    <a:pt x="989" y="1049"/>
                  </a:lnTo>
                  <a:lnTo>
                    <a:pt x="964" y="1076"/>
                  </a:lnTo>
                  <a:lnTo>
                    <a:pt x="941" y="1102"/>
                  </a:lnTo>
                  <a:lnTo>
                    <a:pt x="920" y="1130"/>
                  </a:lnTo>
                  <a:lnTo>
                    <a:pt x="900" y="1158"/>
                  </a:lnTo>
                  <a:lnTo>
                    <a:pt x="882" y="1187"/>
                  </a:lnTo>
                  <a:lnTo>
                    <a:pt x="874" y="1202"/>
                  </a:lnTo>
                  <a:lnTo>
                    <a:pt x="866" y="1217"/>
                  </a:lnTo>
                  <a:lnTo>
                    <a:pt x="859" y="1232"/>
                  </a:lnTo>
                  <a:lnTo>
                    <a:pt x="852" y="1248"/>
                  </a:lnTo>
                  <a:lnTo>
                    <a:pt x="838" y="1280"/>
                  </a:lnTo>
                  <a:lnTo>
                    <a:pt x="827" y="1311"/>
                  </a:lnTo>
                  <a:lnTo>
                    <a:pt x="818" y="1345"/>
                  </a:lnTo>
                  <a:lnTo>
                    <a:pt x="810" y="1379"/>
                  </a:lnTo>
                  <a:lnTo>
                    <a:pt x="804" y="1414"/>
                  </a:lnTo>
                  <a:lnTo>
                    <a:pt x="799" y="1450"/>
                  </a:lnTo>
                  <a:lnTo>
                    <a:pt x="797" y="1487"/>
                  </a:lnTo>
                  <a:lnTo>
                    <a:pt x="796" y="1524"/>
                  </a:lnTo>
                  <a:lnTo>
                    <a:pt x="797" y="1561"/>
                  </a:lnTo>
                  <a:lnTo>
                    <a:pt x="799" y="1598"/>
                  </a:lnTo>
                  <a:lnTo>
                    <a:pt x="804" y="1634"/>
                  </a:lnTo>
                  <a:lnTo>
                    <a:pt x="810" y="1668"/>
                  </a:lnTo>
                  <a:lnTo>
                    <a:pt x="818" y="1702"/>
                  </a:lnTo>
                  <a:lnTo>
                    <a:pt x="827" y="1736"/>
                  </a:lnTo>
                  <a:lnTo>
                    <a:pt x="838" y="1768"/>
                  </a:lnTo>
                  <a:lnTo>
                    <a:pt x="851" y="1800"/>
                  </a:lnTo>
                  <a:lnTo>
                    <a:pt x="858" y="1816"/>
                  </a:lnTo>
                  <a:lnTo>
                    <a:pt x="865" y="1832"/>
                  </a:lnTo>
                  <a:lnTo>
                    <a:pt x="873" y="1847"/>
                  </a:lnTo>
                  <a:lnTo>
                    <a:pt x="881" y="1861"/>
                  </a:lnTo>
                  <a:lnTo>
                    <a:pt x="900" y="1892"/>
                  </a:lnTo>
                  <a:lnTo>
                    <a:pt x="919" y="1920"/>
                  </a:lnTo>
                  <a:lnTo>
                    <a:pt x="939" y="1948"/>
                  </a:lnTo>
                  <a:lnTo>
                    <a:pt x="963" y="1976"/>
                  </a:lnTo>
                  <a:lnTo>
                    <a:pt x="987" y="2002"/>
                  </a:lnTo>
                  <a:lnTo>
                    <a:pt x="1014" y="2028"/>
                  </a:lnTo>
                  <a:lnTo>
                    <a:pt x="1041" y="2053"/>
                  </a:lnTo>
                  <a:lnTo>
                    <a:pt x="1070" y="2076"/>
                  </a:lnTo>
                  <a:lnTo>
                    <a:pt x="1099" y="2097"/>
                  </a:lnTo>
                  <a:lnTo>
                    <a:pt x="1129" y="2116"/>
                  </a:lnTo>
                  <a:lnTo>
                    <a:pt x="1160" y="2135"/>
                  </a:lnTo>
                  <a:lnTo>
                    <a:pt x="1191" y="2152"/>
                  </a:lnTo>
                  <a:lnTo>
                    <a:pt x="1224" y="2166"/>
                  </a:lnTo>
                  <a:lnTo>
                    <a:pt x="1258" y="2181"/>
                  </a:lnTo>
                  <a:lnTo>
                    <a:pt x="1292" y="2192"/>
                  </a:lnTo>
                  <a:lnTo>
                    <a:pt x="1327" y="2202"/>
                  </a:lnTo>
                  <a:lnTo>
                    <a:pt x="1364" y="2211"/>
                  </a:lnTo>
                  <a:lnTo>
                    <a:pt x="1401" y="2218"/>
                  </a:lnTo>
                  <a:lnTo>
                    <a:pt x="1438" y="2223"/>
                  </a:lnTo>
                  <a:lnTo>
                    <a:pt x="1477" y="2228"/>
                  </a:lnTo>
                  <a:lnTo>
                    <a:pt x="1516" y="2230"/>
                  </a:lnTo>
                  <a:lnTo>
                    <a:pt x="1557" y="2231"/>
                  </a:lnTo>
                  <a:lnTo>
                    <a:pt x="1586" y="2231"/>
                  </a:lnTo>
                  <a:lnTo>
                    <a:pt x="1615" y="2229"/>
                  </a:lnTo>
                  <a:lnTo>
                    <a:pt x="1645" y="2227"/>
                  </a:lnTo>
                  <a:lnTo>
                    <a:pt x="1673" y="2223"/>
                  </a:lnTo>
                  <a:lnTo>
                    <a:pt x="1703" y="2219"/>
                  </a:lnTo>
                  <a:lnTo>
                    <a:pt x="1731" y="2213"/>
                  </a:lnTo>
                  <a:lnTo>
                    <a:pt x="1761" y="2207"/>
                  </a:lnTo>
                  <a:lnTo>
                    <a:pt x="1789" y="2200"/>
                  </a:lnTo>
                  <a:lnTo>
                    <a:pt x="1818" y="2193"/>
                  </a:lnTo>
                  <a:lnTo>
                    <a:pt x="1847" y="2184"/>
                  </a:lnTo>
                  <a:lnTo>
                    <a:pt x="1875" y="2173"/>
                  </a:lnTo>
                  <a:lnTo>
                    <a:pt x="1904" y="2163"/>
                  </a:lnTo>
                  <a:lnTo>
                    <a:pt x="1932" y="2152"/>
                  </a:lnTo>
                  <a:lnTo>
                    <a:pt x="1961" y="2139"/>
                  </a:lnTo>
                  <a:lnTo>
                    <a:pt x="1990" y="2126"/>
                  </a:lnTo>
                  <a:lnTo>
                    <a:pt x="2017" y="2111"/>
                  </a:lnTo>
                  <a:lnTo>
                    <a:pt x="1959" y="3009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5" name=""/>
          <p:cNvGrpSpPr/>
          <p:nvPr/>
        </p:nvGrpSpPr>
        <p:grpSpPr>
          <a:xfrm>
            <a:off x="2496600" y="2209680"/>
            <a:ext cx="4341240" cy="747000"/>
            <a:chOff x="2496600" y="2209680"/>
            <a:chExt cx="4341240" cy="747000"/>
          </a:xfrm>
        </p:grpSpPr>
        <p:sp>
          <p:nvSpPr>
            <p:cNvPr id="2426" name=""/>
            <p:cNvSpPr/>
            <p:nvPr/>
          </p:nvSpPr>
          <p:spPr>
            <a:xfrm>
              <a:off x="2496600" y="2209680"/>
              <a:ext cx="43412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LIFE       DEATH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899160" y="2209680"/>
              <a:ext cx="10357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1970280" y="3540240"/>
            <a:ext cx="5363640" cy="747000"/>
            <a:chOff x="1970280" y="3540240"/>
            <a:chExt cx="5363640" cy="747000"/>
          </a:xfrm>
        </p:grpSpPr>
        <p:sp>
          <p:nvSpPr>
            <p:cNvPr id="2429" name=""/>
            <p:cNvSpPr/>
            <p:nvPr/>
          </p:nvSpPr>
          <p:spPr>
            <a:xfrm>
              <a:off x="1970280" y="3540240"/>
              <a:ext cx="53636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RIGHT       WRONG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832200" y="3540240"/>
              <a:ext cx="1197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1" name=""/>
          <p:cNvGrpSpPr/>
          <p:nvPr/>
        </p:nvGrpSpPr>
        <p:grpSpPr>
          <a:xfrm>
            <a:off x="1522440" y="4870440"/>
            <a:ext cx="6299280" cy="747000"/>
            <a:chOff x="1522440" y="4870440"/>
            <a:chExt cx="6299280" cy="747000"/>
          </a:xfrm>
        </p:grpSpPr>
        <p:sp>
          <p:nvSpPr>
            <p:cNvPr id="2432" name=""/>
            <p:cNvSpPr/>
            <p:nvPr/>
          </p:nvSpPr>
          <p:spPr>
            <a:xfrm>
              <a:off x="1522440" y="4870440"/>
              <a:ext cx="62992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HEALTH       SICKNESS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911400" y="4870440"/>
              <a:ext cx="1197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3122640" y="1044720"/>
            <a:ext cx="2914560" cy="582480"/>
            <a:chOff x="3122640" y="1044720"/>
            <a:chExt cx="2914560" cy="582480"/>
          </a:xfrm>
        </p:grpSpPr>
        <p:sp>
          <p:nvSpPr>
            <p:cNvPr id="2435" name=""/>
            <p:cNvSpPr/>
            <p:nvPr/>
          </p:nvSpPr>
          <p:spPr>
            <a:xfrm>
              <a:off x="312264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7" h="1801">
                  <a:moveTo>
                    <a:pt x="1153" y="1771"/>
                  </a:moveTo>
                  <a:lnTo>
                    <a:pt x="1140" y="1776"/>
                  </a:lnTo>
                  <a:lnTo>
                    <a:pt x="1127" y="1779"/>
                  </a:lnTo>
                  <a:lnTo>
                    <a:pt x="1114" y="1781"/>
                  </a:lnTo>
                  <a:lnTo>
                    <a:pt x="1100" y="1785"/>
                  </a:lnTo>
                  <a:lnTo>
                    <a:pt x="1087" y="1787"/>
                  </a:lnTo>
                  <a:lnTo>
                    <a:pt x="1073" y="1789"/>
                  </a:lnTo>
                  <a:lnTo>
                    <a:pt x="1059" y="1792"/>
                  </a:lnTo>
                  <a:lnTo>
                    <a:pt x="1046" y="1794"/>
                  </a:lnTo>
                  <a:lnTo>
                    <a:pt x="1031" y="1795"/>
                  </a:lnTo>
                  <a:lnTo>
                    <a:pt x="1016" y="1797"/>
                  </a:lnTo>
                  <a:lnTo>
                    <a:pt x="1001" y="1798"/>
                  </a:lnTo>
                  <a:lnTo>
                    <a:pt x="985" y="1799"/>
                  </a:lnTo>
                  <a:lnTo>
                    <a:pt x="970" y="1799"/>
                  </a:lnTo>
                  <a:lnTo>
                    <a:pt x="954" y="1801"/>
                  </a:lnTo>
                  <a:lnTo>
                    <a:pt x="937" y="1801"/>
                  </a:lnTo>
                  <a:lnTo>
                    <a:pt x="921" y="1801"/>
                  </a:lnTo>
                  <a:lnTo>
                    <a:pt x="870" y="1799"/>
                  </a:lnTo>
                  <a:lnTo>
                    <a:pt x="820" y="1797"/>
                  </a:lnTo>
                  <a:lnTo>
                    <a:pt x="772" y="1793"/>
                  </a:lnTo>
                  <a:lnTo>
                    <a:pt x="725" y="1786"/>
                  </a:lnTo>
                  <a:lnTo>
                    <a:pt x="678" y="1777"/>
                  </a:lnTo>
                  <a:lnTo>
                    <a:pt x="634" y="1766"/>
                  </a:lnTo>
                  <a:lnTo>
                    <a:pt x="612" y="1761"/>
                  </a:lnTo>
                  <a:lnTo>
                    <a:pt x="590" y="1754"/>
                  </a:lnTo>
                  <a:lnTo>
                    <a:pt x="569" y="1747"/>
                  </a:lnTo>
                  <a:lnTo>
                    <a:pt x="548" y="1739"/>
                  </a:lnTo>
                  <a:lnTo>
                    <a:pt x="528" y="1731"/>
                  </a:lnTo>
                  <a:lnTo>
                    <a:pt x="507" y="1723"/>
                  </a:lnTo>
                  <a:lnTo>
                    <a:pt x="487" y="1714"/>
                  </a:lnTo>
                  <a:lnTo>
                    <a:pt x="467" y="1705"/>
                  </a:lnTo>
                  <a:lnTo>
                    <a:pt x="448" y="1695"/>
                  </a:lnTo>
                  <a:lnTo>
                    <a:pt x="429" y="1684"/>
                  </a:lnTo>
                  <a:lnTo>
                    <a:pt x="410" y="1674"/>
                  </a:lnTo>
                  <a:lnTo>
                    <a:pt x="391" y="1663"/>
                  </a:lnTo>
                  <a:lnTo>
                    <a:pt x="373" y="1651"/>
                  </a:lnTo>
                  <a:lnTo>
                    <a:pt x="356" y="1639"/>
                  </a:lnTo>
                  <a:lnTo>
                    <a:pt x="337" y="1626"/>
                  </a:lnTo>
                  <a:lnTo>
                    <a:pt x="320" y="1612"/>
                  </a:lnTo>
                  <a:lnTo>
                    <a:pt x="303" y="1599"/>
                  </a:lnTo>
                  <a:lnTo>
                    <a:pt x="287" y="1585"/>
                  </a:lnTo>
                  <a:lnTo>
                    <a:pt x="270" y="1570"/>
                  </a:lnTo>
                  <a:lnTo>
                    <a:pt x="254" y="1554"/>
                  </a:lnTo>
                  <a:lnTo>
                    <a:pt x="238" y="1540"/>
                  </a:lnTo>
                  <a:lnTo>
                    <a:pt x="223" y="1524"/>
                  </a:lnTo>
                  <a:lnTo>
                    <a:pt x="208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7" y="1457"/>
                  </a:lnTo>
                  <a:lnTo>
                    <a:pt x="155" y="1440"/>
                  </a:lnTo>
                  <a:lnTo>
                    <a:pt x="142" y="1422"/>
                  </a:lnTo>
                  <a:lnTo>
                    <a:pt x="131" y="1405"/>
                  </a:lnTo>
                  <a:lnTo>
                    <a:pt x="119" y="1387"/>
                  </a:lnTo>
                  <a:lnTo>
                    <a:pt x="109" y="1367"/>
                  </a:lnTo>
                  <a:lnTo>
                    <a:pt x="99" y="1349"/>
                  </a:lnTo>
                  <a:lnTo>
                    <a:pt x="89" y="1330"/>
                  </a:lnTo>
                  <a:lnTo>
                    <a:pt x="79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8" y="1230"/>
                  </a:lnTo>
                  <a:lnTo>
                    <a:pt x="42" y="1210"/>
                  </a:lnTo>
                  <a:lnTo>
                    <a:pt x="35" y="1188"/>
                  </a:lnTo>
                  <a:lnTo>
                    <a:pt x="29" y="1168"/>
                  </a:lnTo>
                  <a:lnTo>
                    <a:pt x="24" y="1146"/>
                  </a:lnTo>
                  <a:lnTo>
                    <a:pt x="19" y="1124"/>
                  </a:lnTo>
                  <a:lnTo>
                    <a:pt x="16" y="1102"/>
                  </a:lnTo>
                  <a:lnTo>
                    <a:pt x="11" y="1079"/>
                  </a:lnTo>
                  <a:lnTo>
                    <a:pt x="9" y="1056"/>
                  </a:lnTo>
                  <a:lnTo>
                    <a:pt x="5" y="1033"/>
                  </a:lnTo>
                  <a:lnTo>
                    <a:pt x="3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3" y="817"/>
                  </a:lnTo>
                  <a:lnTo>
                    <a:pt x="9" y="770"/>
                  </a:lnTo>
                  <a:lnTo>
                    <a:pt x="16" y="724"/>
                  </a:lnTo>
                  <a:lnTo>
                    <a:pt x="20" y="701"/>
                  </a:lnTo>
                  <a:lnTo>
                    <a:pt x="25" y="680"/>
                  </a:lnTo>
                  <a:lnTo>
                    <a:pt x="30" y="657"/>
                  </a:lnTo>
                  <a:lnTo>
                    <a:pt x="36" y="635"/>
                  </a:lnTo>
                  <a:lnTo>
                    <a:pt x="43" y="615"/>
                  </a:lnTo>
                  <a:lnTo>
                    <a:pt x="50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4" y="531"/>
                  </a:lnTo>
                  <a:lnTo>
                    <a:pt x="83" y="511"/>
                  </a:lnTo>
                  <a:lnTo>
                    <a:pt x="92" y="492"/>
                  </a:lnTo>
                  <a:lnTo>
                    <a:pt x="102" y="472"/>
                  </a:lnTo>
                  <a:lnTo>
                    <a:pt x="113" y="453"/>
                  </a:lnTo>
                  <a:lnTo>
                    <a:pt x="124" y="433"/>
                  </a:lnTo>
                  <a:lnTo>
                    <a:pt x="135" y="415"/>
                  </a:lnTo>
                  <a:lnTo>
                    <a:pt x="148" y="397"/>
                  </a:lnTo>
                  <a:lnTo>
                    <a:pt x="160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2" y="325"/>
                  </a:lnTo>
                  <a:lnTo>
                    <a:pt x="231" y="291"/>
                  </a:lnTo>
                  <a:lnTo>
                    <a:pt x="263" y="258"/>
                  </a:lnTo>
                  <a:lnTo>
                    <a:pt x="280" y="243"/>
                  </a:lnTo>
                  <a:lnTo>
                    <a:pt x="297" y="227"/>
                  </a:lnTo>
                  <a:lnTo>
                    <a:pt x="314" y="212"/>
                  </a:lnTo>
                  <a:lnTo>
                    <a:pt x="332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6" y="157"/>
                  </a:lnTo>
                  <a:lnTo>
                    <a:pt x="405" y="145"/>
                  </a:lnTo>
                  <a:lnTo>
                    <a:pt x="424" y="134"/>
                  </a:lnTo>
                  <a:lnTo>
                    <a:pt x="442" y="122"/>
                  </a:lnTo>
                  <a:lnTo>
                    <a:pt x="462" y="111"/>
                  </a:lnTo>
                  <a:lnTo>
                    <a:pt x="482" y="100"/>
                  </a:lnTo>
                  <a:lnTo>
                    <a:pt x="502" y="91"/>
                  </a:lnTo>
                  <a:lnTo>
                    <a:pt x="522" y="81"/>
                  </a:lnTo>
                  <a:lnTo>
                    <a:pt x="543" y="73"/>
                  </a:lnTo>
                  <a:lnTo>
                    <a:pt x="564" y="64"/>
                  </a:lnTo>
                  <a:lnTo>
                    <a:pt x="606" y="49"/>
                  </a:lnTo>
                  <a:lnTo>
                    <a:pt x="650" y="37"/>
                  </a:lnTo>
                  <a:lnTo>
                    <a:pt x="695" y="25"/>
                  </a:lnTo>
                  <a:lnTo>
                    <a:pt x="741" y="16"/>
                  </a:lnTo>
                  <a:lnTo>
                    <a:pt x="788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3" y="0"/>
                  </a:lnTo>
                  <a:lnTo>
                    <a:pt x="985" y="1"/>
                  </a:lnTo>
                  <a:lnTo>
                    <a:pt x="998" y="2"/>
                  </a:lnTo>
                  <a:lnTo>
                    <a:pt x="1010" y="4"/>
                  </a:lnTo>
                  <a:lnTo>
                    <a:pt x="1023" y="5"/>
                  </a:lnTo>
                  <a:lnTo>
                    <a:pt x="1036" y="6"/>
                  </a:lnTo>
                  <a:lnTo>
                    <a:pt x="1049" y="7"/>
                  </a:lnTo>
                  <a:lnTo>
                    <a:pt x="1063" y="9"/>
                  </a:lnTo>
                  <a:lnTo>
                    <a:pt x="1076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7" y="18"/>
                  </a:lnTo>
                  <a:lnTo>
                    <a:pt x="1131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4" y="535"/>
                  </a:lnTo>
                  <a:lnTo>
                    <a:pt x="1138" y="528"/>
                  </a:lnTo>
                  <a:lnTo>
                    <a:pt x="1123" y="522"/>
                  </a:lnTo>
                  <a:lnTo>
                    <a:pt x="1108" y="518"/>
                  </a:lnTo>
                  <a:lnTo>
                    <a:pt x="1092" y="512"/>
                  </a:lnTo>
                  <a:lnTo>
                    <a:pt x="1078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2" y="497"/>
                  </a:lnTo>
                  <a:lnTo>
                    <a:pt x="1017" y="495"/>
                  </a:lnTo>
                  <a:lnTo>
                    <a:pt x="1003" y="493"/>
                  </a:lnTo>
                  <a:lnTo>
                    <a:pt x="989" y="490"/>
                  </a:lnTo>
                  <a:lnTo>
                    <a:pt x="974" y="489"/>
                  </a:lnTo>
                  <a:lnTo>
                    <a:pt x="960" y="488"/>
                  </a:lnTo>
                  <a:lnTo>
                    <a:pt x="945" y="488"/>
                  </a:lnTo>
                  <a:lnTo>
                    <a:pt x="932" y="487"/>
                  </a:lnTo>
                  <a:lnTo>
                    <a:pt x="906" y="488"/>
                  </a:lnTo>
                  <a:lnTo>
                    <a:pt x="881" y="489"/>
                  </a:lnTo>
                  <a:lnTo>
                    <a:pt x="857" y="492"/>
                  </a:lnTo>
                  <a:lnTo>
                    <a:pt x="833" y="495"/>
                  </a:lnTo>
                  <a:lnTo>
                    <a:pt x="811" y="498"/>
                  </a:lnTo>
                  <a:lnTo>
                    <a:pt x="788" y="504"/>
                  </a:lnTo>
                  <a:lnTo>
                    <a:pt x="766" y="510"/>
                  </a:lnTo>
                  <a:lnTo>
                    <a:pt x="746" y="517"/>
                  </a:lnTo>
                  <a:lnTo>
                    <a:pt x="725" y="524"/>
                  </a:lnTo>
                  <a:lnTo>
                    <a:pt x="705" y="533"/>
                  </a:lnTo>
                  <a:lnTo>
                    <a:pt x="685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0" y="576"/>
                  </a:lnTo>
                  <a:lnTo>
                    <a:pt x="613" y="588"/>
                  </a:lnTo>
                  <a:lnTo>
                    <a:pt x="597" y="603"/>
                  </a:lnTo>
                  <a:lnTo>
                    <a:pt x="581" y="617"/>
                  </a:lnTo>
                  <a:lnTo>
                    <a:pt x="567" y="633"/>
                  </a:lnTo>
                  <a:lnTo>
                    <a:pt x="553" y="649"/>
                  </a:lnTo>
                  <a:lnTo>
                    <a:pt x="540" y="665"/>
                  </a:lnTo>
                  <a:lnTo>
                    <a:pt x="529" y="681"/>
                  </a:lnTo>
                  <a:lnTo>
                    <a:pt x="519" y="698"/>
                  </a:lnTo>
                  <a:lnTo>
                    <a:pt x="510" y="716"/>
                  </a:lnTo>
                  <a:lnTo>
                    <a:pt x="500" y="734"/>
                  </a:lnTo>
                  <a:lnTo>
                    <a:pt x="492" y="753"/>
                  </a:lnTo>
                  <a:lnTo>
                    <a:pt x="487" y="772"/>
                  </a:lnTo>
                  <a:lnTo>
                    <a:pt x="481" y="791"/>
                  </a:lnTo>
                  <a:lnTo>
                    <a:pt x="476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68" y="875"/>
                  </a:lnTo>
                  <a:lnTo>
                    <a:pt x="468" y="896"/>
                  </a:lnTo>
                  <a:lnTo>
                    <a:pt x="468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6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2" y="1041"/>
                  </a:lnTo>
                  <a:lnTo>
                    <a:pt x="500" y="1059"/>
                  </a:lnTo>
                  <a:lnTo>
                    <a:pt x="508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0" y="1130"/>
                  </a:lnTo>
                  <a:lnTo>
                    <a:pt x="553" y="1147"/>
                  </a:lnTo>
                  <a:lnTo>
                    <a:pt x="567" y="1163"/>
                  </a:lnTo>
                  <a:lnTo>
                    <a:pt x="580" y="1178"/>
                  </a:lnTo>
                  <a:lnTo>
                    <a:pt x="596" y="1194"/>
                  </a:lnTo>
                  <a:lnTo>
                    <a:pt x="612" y="1208"/>
                  </a:lnTo>
                  <a:lnTo>
                    <a:pt x="629" y="1221"/>
                  </a:lnTo>
                  <a:lnTo>
                    <a:pt x="646" y="1234"/>
                  </a:lnTo>
                  <a:lnTo>
                    <a:pt x="663" y="1246"/>
                  </a:lnTo>
                  <a:lnTo>
                    <a:pt x="682" y="1257"/>
                  </a:lnTo>
                  <a:lnTo>
                    <a:pt x="701" y="1267"/>
                  </a:lnTo>
                  <a:lnTo>
                    <a:pt x="721" y="1275"/>
                  </a:lnTo>
                  <a:lnTo>
                    <a:pt x="740" y="1283"/>
                  </a:lnTo>
                  <a:lnTo>
                    <a:pt x="760" y="1291"/>
                  </a:lnTo>
                  <a:lnTo>
                    <a:pt x="781" y="1297"/>
                  </a:lnTo>
                  <a:lnTo>
                    <a:pt x="803" y="1301"/>
                  </a:lnTo>
                  <a:lnTo>
                    <a:pt x="824" y="1306"/>
                  </a:lnTo>
                  <a:lnTo>
                    <a:pt x="846" y="1309"/>
                  </a:lnTo>
                  <a:lnTo>
                    <a:pt x="869" y="1311"/>
                  </a:lnTo>
                  <a:lnTo>
                    <a:pt x="892" y="1313"/>
                  </a:lnTo>
                  <a:lnTo>
                    <a:pt x="916" y="1313"/>
                  </a:lnTo>
                  <a:lnTo>
                    <a:pt x="933" y="1313"/>
                  </a:lnTo>
                  <a:lnTo>
                    <a:pt x="950" y="1313"/>
                  </a:lnTo>
                  <a:lnTo>
                    <a:pt x="967" y="1310"/>
                  </a:lnTo>
                  <a:lnTo>
                    <a:pt x="985" y="1309"/>
                  </a:lnTo>
                  <a:lnTo>
                    <a:pt x="1001" y="1306"/>
                  </a:lnTo>
                  <a:lnTo>
                    <a:pt x="1018" y="1303"/>
                  </a:lnTo>
                  <a:lnTo>
                    <a:pt x="1035" y="1300"/>
                  </a:lnTo>
                  <a:lnTo>
                    <a:pt x="1052" y="1295"/>
                  </a:lnTo>
                  <a:lnTo>
                    <a:pt x="1070" y="1291"/>
                  </a:lnTo>
                  <a:lnTo>
                    <a:pt x="1087" y="1285"/>
                  </a:lnTo>
                  <a:lnTo>
                    <a:pt x="1104" y="1280"/>
                  </a:lnTo>
                  <a:lnTo>
                    <a:pt x="1120" y="1274"/>
                  </a:lnTo>
                  <a:lnTo>
                    <a:pt x="1137" y="1267"/>
                  </a:lnTo>
                  <a:lnTo>
                    <a:pt x="1154" y="1259"/>
                  </a:lnTo>
                  <a:lnTo>
                    <a:pt x="1171" y="1251"/>
                  </a:lnTo>
                  <a:lnTo>
                    <a:pt x="1187" y="1243"/>
                  </a:lnTo>
                  <a:lnTo>
                    <a:pt x="1153" y="17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78400" y="1058760"/>
              <a:ext cx="406080" cy="554040"/>
            </a:xfrm>
            <a:custGeom>
              <a:avLst/>
              <a:gdLst/>
              <a:ahLst/>
              <a:rect l="l" t="t" r="r" b="b"/>
              <a:pathLst>
                <a:path w="1282" h="1741">
                  <a:moveTo>
                    <a:pt x="0" y="1741"/>
                  </a:moveTo>
                  <a:lnTo>
                    <a:pt x="0" y="0"/>
                  </a:lnTo>
                  <a:lnTo>
                    <a:pt x="450" y="0"/>
                  </a:lnTo>
                  <a:lnTo>
                    <a:pt x="450" y="609"/>
                  </a:lnTo>
                  <a:lnTo>
                    <a:pt x="830" y="609"/>
                  </a:lnTo>
                  <a:lnTo>
                    <a:pt x="830" y="0"/>
                  </a:lnTo>
                  <a:lnTo>
                    <a:pt x="1282" y="0"/>
                  </a:lnTo>
                  <a:lnTo>
                    <a:pt x="1282" y="1741"/>
                  </a:lnTo>
                  <a:lnTo>
                    <a:pt x="830" y="1741"/>
                  </a:lnTo>
                  <a:lnTo>
                    <a:pt x="830" y="1064"/>
                  </a:lnTo>
                  <a:lnTo>
                    <a:pt x="450" y="1064"/>
                  </a:lnTo>
                  <a:lnTo>
                    <a:pt x="450" y="1741"/>
                  </a:lnTo>
                  <a:lnTo>
                    <a:pt x="0" y="17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052880" y="1044720"/>
              <a:ext cx="560520" cy="582480"/>
            </a:xfrm>
            <a:custGeom>
              <a:avLst/>
              <a:gdLst/>
              <a:ahLst/>
              <a:rect l="l" t="t" r="r" b="b"/>
              <a:pathLst>
                <a:path w="1765" h="1835">
                  <a:moveTo>
                    <a:pt x="883" y="485"/>
                  </a:moveTo>
                  <a:lnTo>
                    <a:pt x="861" y="485"/>
                  </a:lnTo>
                  <a:lnTo>
                    <a:pt x="840" y="486"/>
                  </a:lnTo>
                  <a:lnTo>
                    <a:pt x="819" y="488"/>
                  </a:lnTo>
                  <a:lnTo>
                    <a:pt x="799" y="491"/>
                  </a:lnTo>
                  <a:lnTo>
                    <a:pt x="778" y="496"/>
                  </a:lnTo>
                  <a:lnTo>
                    <a:pt x="759" y="502"/>
                  </a:lnTo>
                  <a:lnTo>
                    <a:pt x="739" y="509"/>
                  </a:lnTo>
                  <a:lnTo>
                    <a:pt x="721" y="515"/>
                  </a:lnTo>
                  <a:lnTo>
                    <a:pt x="703" y="523"/>
                  </a:lnTo>
                  <a:lnTo>
                    <a:pt x="685" y="533"/>
                  </a:lnTo>
                  <a:lnTo>
                    <a:pt x="667" y="543"/>
                  </a:lnTo>
                  <a:lnTo>
                    <a:pt x="650" y="554"/>
                  </a:lnTo>
                  <a:lnTo>
                    <a:pt x="634" y="567"/>
                  </a:lnTo>
                  <a:lnTo>
                    <a:pt x="618" y="579"/>
                  </a:lnTo>
                  <a:lnTo>
                    <a:pt x="602" y="593"/>
                  </a:lnTo>
                  <a:lnTo>
                    <a:pt x="588" y="609"/>
                  </a:lnTo>
                  <a:lnTo>
                    <a:pt x="573" y="624"/>
                  </a:lnTo>
                  <a:lnTo>
                    <a:pt x="559" y="641"/>
                  </a:lnTo>
                  <a:lnTo>
                    <a:pt x="547" y="657"/>
                  </a:lnTo>
                  <a:lnTo>
                    <a:pt x="535" y="674"/>
                  </a:lnTo>
                  <a:lnTo>
                    <a:pt x="525" y="692"/>
                  </a:lnTo>
                  <a:lnTo>
                    <a:pt x="515" y="710"/>
                  </a:lnTo>
                  <a:lnTo>
                    <a:pt x="507" y="729"/>
                  </a:lnTo>
                  <a:lnTo>
                    <a:pt x="499" y="748"/>
                  </a:lnTo>
                  <a:lnTo>
                    <a:pt x="492" y="767"/>
                  </a:lnTo>
                  <a:lnTo>
                    <a:pt x="485" y="787"/>
                  </a:lnTo>
                  <a:lnTo>
                    <a:pt x="480" y="807"/>
                  </a:lnTo>
                  <a:lnTo>
                    <a:pt x="476" y="828"/>
                  </a:lnTo>
                  <a:lnTo>
                    <a:pt x="472" y="850"/>
                  </a:lnTo>
                  <a:lnTo>
                    <a:pt x="470" y="871"/>
                  </a:lnTo>
                  <a:lnTo>
                    <a:pt x="469" y="893"/>
                  </a:lnTo>
                  <a:lnTo>
                    <a:pt x="469" y="916"/>
                  </a:lnTo>
                  <a:lnTo>
                    <a:pt x="469" y="938"/>
                  </a:lnTo>
                  <a:lnTo>
                    <a:pt x="470" y="961"/>
                  </a:lnTo>
                  <a:lnTo>
                    <a:pt x="472" y="983"/>
                  </a:lnTo>
                  <a:lnTo>
                    <a:pt x="476" y="1003"/>
                  </a:lnTo>
                  <a:lnTo>
                    <a:pt x="480" y="1025"/>
                  </a:lnTo>
                  <a:lnTo>
                    <a:pt x="485" y="1045"/>
                  </a:lnTo>
                  <a:lnTo>
                    <a:pt x="491" y="1065"/>
                  </a:lnTo>
                  <a:lnTo>
                    <a:pt x="499" y="1084"/>
                  </a:lnTo>
                  <a:lnTo>
                    <a:pt x="505" y="1104"/>
                  </a:lnTo>
                  <a:lnTo>
                    <a:pt x="515" y="1122"/>
                  </a:lnTo>
                  <a:lnTo>
                    <a:pt x="525" y="1140"/>
                  </a:lnTo>
                  <a:lnTo>
                    <a:pt x="535" y="1157"/>
                  </a:lnTo>
                  <a:lnTo>
                    <a:pt x="547" y="1175"/>
                  </a:lnTo>
                  <a:lnTo>
                    <a:pt x="559" y="1192"/>
                  </a:lnTo>
                  <a:lnTo>
                    <a:pt x="573" y="1208"/>
                  </a:lnTo>
                  <a:lnTo>
                    <a:pt x="588" y="1222"/>
                  </a:lnTo>
                  <a:lnTo>
                    <a:pt x="602" y="1238"/>
                  </a:lnTo>
                  <a:lnTo>
                    <a:pt x="617" y="1252"/>
                  </a:lnTo>
                  <a:lnTo>
                    <a:pt x="633" y="1265"/>
                  </a:lnTo>
                  <a:lnTo>
                    <a:pt x="650" y="1277"/>
                  </a:lnTo>
                  <a:lnTo>
                    <a:pt x="666" y="1289"/>
                  </a:lnTo>
                  <a:lnTo>
                    <a:pt x="685" y="1299"/>
                  </a:lnTo>
                  <a:lnTo>
                    <a:pt x="702" y="1308"/>
                  </a:lnTo>
                  <a:lnTo>
                    <a:pt x="720" y="1316"/>
                  </a:lnTo>
                  <a:lnTo>
                    <a:pt x="739" y="1323"/>
                  </a:lnTo>
                  <a:lnTo>
                    <a:pt x="758" y="1330"/>
                  </a:lnTo>
                  <a:lnTo>
                    <a:pt x="778" y="1335"/>
                  </a:lnTo>
                  <a:lnTo>
                    <a:pt x="797" y="1339"/>
                  </a:lnTo>
                  <a:lnTo>
                    <a:pt x="818" y="1342"/>
                  </a:lnTo>
                  <a:lnTo>
                    <a:pt x="840" y="1344"/>
                  </a:lnTo>
                  <a:lnTo>
                    <a:pt x="861" y="1347"/>
                  </a:lnTo>
                  <a:lnTo>
                    <a:pt x="883" y="1347"/>
                  </a:lnTo>
                  <a:lnTo>
                    <a:pt x="905" y="1347"/>
                  </a:lnTo>
                  <a:lnTo>
                    <a:pt x="926" y="1344"/>
                  </a:lnTo>
                  <a:lnTo>
                    <a:pt x="947" y="1342"/>
                  </a:lnTo>
                  <a:lnTo>
                    <a:pt x="967" y="1339"/>
                  </a:lnTo>
                  <a:lnTo>
                    <a:pt x="987" y="1335"/>
                  </a:lnTo>
                  <a:lnTo>
                    <a:pt x="1007" y="1330"/>
                  </a:lnTo>
                  <a:lnTo>
                    <a:pt x="1026" y="1323"/>
                  </a:lnTo>
                  <a:lnTo>
                    <a:pt x="1045" y="1316"/>
                  </a:lnTo>
                  <a:lnTo>
                    <a:pt x="1063" y="1308"/>
                  </a:lnTo>
                  <a:lnTo>
                    <a:pt x="1080" y="1299"/>
                  </a:lnTo>
                  <a:lnTo>
                    <a:pt x="1097" y="1289"/>
                  </a:lnTo>
                  <a:lnTo>
                    <a:pt x="1115" y="1277"/>
                  </a:lnTo>
                  <a:lnTo>
                    <a:pt x="1132" y="1265"/>
                  </a:lnTo>
                  <a:lnTo>
                    <a:pt x="1148" y="1252"/>
                  </a:lnTo>
                  <a:lnTo>
                    <a:pt x="1164" y="1237"/>
                  </a:lnTo>
                  <a:lnTo>
                    <a:pt x="1178" y="1222"/>
                  </a:lnTo>
                  <a:lnTo>
                    <a:pt x="1192" y="1206"/>
                  </a:lnTo>
                  <a:lnTo>
                    <a:pt x="1206" y="1190"/>
                  </a:lnTo>
                  <a:lnTo>
                    <a:pt x="1218" y="1173"/>
                  </a:lnTo>
                  <a:lnTo>
                    <a:pt x="1230" y="1156"/>
                  </a:lnTo>
                  <a:lnTo>
                    <a:pt x="1241" y="1139"/>
                  </a:lnTo>
                  <a:lnTo>
                    <a:pt x="1250" y="1121"/>
                  </a:lnTo>
                  <a:lnTo>
                    <a:pt x="1259" y="1103"/>
                  </a:lnTo>
                  <a:lnTo>
                    <a:pt x="1267" y="1083"/>
                  </a:lnTo>
                  <a:lnTo>
                    <a:pt x="1274" y="1064"/>
                  </a:lnTo>
                  <a:lnTo>
                    <a:pt x="1280" y="1045"/>
                  </a:lnTo>
                  <a:lnTo>
                    <a:pt x="1286" y="1024"/>
                  </a:lnTo>
                  <a:lnTo>
                    <a:pt x="1290" y="1003"/>
                  </a:lnTo>
                  <a:lnTo>
                    <a:pt x="1293" y="982"/>
                  </a:lnTo>
                  <a:lnTo>
                    <a:pt x="1296" y="960"/>
                  </a:lnTo>
                  <a:lnTo>
                    <a:pt x="1297" y="938"/>
                  </a:lnTo>
                  <a:lnTo>
                    <a:pt x="1297" y="916"/>
                  </a:lnTo>
                  <a:lnTo>
                    <a:pt x="1297" y="894"/>
                  </a:lnTo>
                  <a:lnTo>
                    <a:pt x="1296" y="871"/>
                  </a:lnTo>
                  <a:lnTo>
                    <a:pt x="1293" y="850"/>
                  </a:lnTo>
                  <a:lnTo>
                    <a:pt x="1290" y="829"/>
                  </a:lnTo>
                  <a:lnTo>
                    <a:pt x="1286" y="808"/>
                  </a:lnTo>
                  <a:lnTo>
                    <a:pt x="1280" y="788"/>
                  </a:lnTo>
                  <a:lnTo>
                    <a:pt x="1274" y="767"/>
                  </a:lnTo>
                  <a:lnTo>
                    <a:pt x="1267" y="748"/>
                  </a:lnTo>
                  <a:lnTo>
                    <a:pt x="1259" y="730"/>
                  </a:lnTo>
                  <a:lnTo>
                    <a:pt x="1250" y="710"/>
                  </a:lnTo>
                  <a:lnTo>
                    <a:pt x="1241" y="693"/>
                  </a:lnTo>
                  <a:lnTo>
                    <a:pt x="1230" y="675"/>
                  </a:lnTo>
                  <a:lnTo>
                    <a:pt x="1218" y="658"/>
                  </a:lnTo>
                  <a:lnTo>
                    <a:pt x="1206" y="641"/>
                  </a:lnTo>
                  <a:lnTo>
                    <a:pt x="1192" y="625"/>
                  </a:lnTo>
                  <a:lnTo>
                    <a:pt x="1178" y="609"/>
                  </a:lnTo>
                  <a:lnTo>
                    <a:pt x="1164" y="594"/>
                  </a:lnTo>
                  <a:lnTo>
                    <a:pt x="1148" y="580"/>
                  </a:lnTo>
                  <a:lnTo>
                    <a:pt x="1132" y="567"/>
                  </a:lnTo>
                  <a:lnTo>
                    <a:pt x="1115" y="554"/>
                  </a:lnTo>
                  <a:lnTo>
                    <a:pt x="1097" y="544"/>
                  </a:lnTo>
                  <a:lnTo>
                    <a:pt x="1080" y="534"/>
                  </a:lnTo>
                  <a:lnTo>
                    <a:pt x="1063" y="523"/>
                  </a:lnTo>
                  <a:lnTo>
                    <a:pt x="1045" y="515"/>
                  </a:lnTo>
                  <a:lnTo>
                    <a:pt x="1026" y="509"/>
                  </a:lnTo>
                  <a:lnTo>
                    <a:pt x="1007" y="502"/>
                  </a:lnTo>
                  <a:lnTo>
                    <a:pt x="987" y="496"/>
                  </a:lnTo>
                  <a:lnTo>
                    <a:pt x="967" y="491"/>
                  </a:lnTo>
                  <a:lnTo>
                    <a:pt x="947" y="488"/>
                  </a:lnTo>
                  <a:lnTo>
                    <a:pt x="926" y="486"/>
                  </a:lnTo>
                  <a:lnTo>
                    <a:pt x="905" y="485"/>
                  </a:lnTo>
                  <a:lnTo>
                    <a:pt x="883" y="485"/>
                  </a:lnTo>
                  <a:close/>
                  <a:moveTo>
                    <a:pt x="881" y="0"/>
                  </a:moveTo>
                  <a:lnTo>
                    <a:pt x="922" y="1"/>
                  </a:lnTo>
                  <a:lnTo>
                    <a:pt x="962" y="3"/>
                  </a:lnTo>
                  <a:lnTo>
                    <a:pt x="1002" y="8"/>
                  </a:lnTo>
                  <a:lnTo>
                    <a:pt x="1042" y="14"/>
                  </a:lnTo>
                  <a:lnTo>
                    <a:pt x="1080" y="22"/>
                  </a:lnTo>
                  <a:lnTo>
                    <a:pt x="1119" y="32"/>
                  </a:lnTo>
                  <a:lnTo>
                    <a:pt x="1157" y="43"/>
                  </a:lnTo>
                  <a:lnTo>
                    <a:pt x="1194" y="56"/>
                  </a:lnTo>
                  <a:lnTo>
                    <a:pt x="1231" y="71"/>
                  </a:lnTo>
                  <a:lnTo>
                    <a:pt x="1267" y="87"/>
                  </a:lnTo>
                  <a:lnTo>
                    <a:pt x="1302" y="105"/>
                  </a:lnTo>
                  <a:lnTo>
                    <a:pt x="1335" y="124"/>
                  </a:lnTo>
                  <a:lnTo>
                    <a:pt x="1367" y="145"/>
                  </a:lnTo>
                  <a:lnTo>
                    <a:pt x="1397" y="168"/>
                  </a:lnTo>
                  <a:lnTo>
                    <a:pt x="1427" y="192"/>
                  </a:lnTo>
                  <a:lnTo>
                    <a:pt x="1456" y="217"/>
                  </a:lnTo>
                  <a:lnTo>
                    <a:pt x="1474" y="234"/>
                  </a:lnTo>
                  <a:lnTo>
                    <a:pt x="1492" y="252"/>
                  </a:lnTo>
                  <a:lnTo>
                    <a:pt x="1509" y="269"/>
                  </a:lnTo>
                  <a:lnTo>
                    <a:pt x="1526" y="287"/>
                  </a:lnTo>
                  <a:lnTo>
                    <a:pt x="1542" y="307"/>
                  </a:lnTo>
                  <a:lnTo>
                    <a:pt x="1558" y="325"/>
                  </a:lnTo>
                  <a:lnTo>
                    <a:pt x="1573" y="344"/>
                  </a:lnTo>
                  <a:lnTo>
                    <a:pt x="1588" y="365"/>
                  </a:lnTo>
                  <a:lnTo>
                    <a:pt x="1602" y="384"/>
                  </a:lnTo>
                  <a:lnTo>
                    <a:pt x="1615" y="405"/>
                  </a:lnTo>
                  <a:lnTo>
                    <a:pt x="1628" y="425"/>
                  </a:lnTo>
                  <a:lnTo>
                    <a:pt x="1640" y="446"/>
                  </a:lnTo>
                  <a:lnTo>
                    <a:pt x="1653" y="468"/>
                  </a:lnTo>
                  <a:lnTo>
                    <a:pt x="1664" y="489"/>
                  </a:lnTo>
                  <a:lnTo>
                    <a:pt x="1675" y="512"/>
                  </a:lnTo>
                  <a:lnTo>
                    <a:pt x="1685" y="534"/>
                  </a:lnTo>
                  <a:lnTo>
                    <a:pt x="1695" y="556"/>
                  </a:lnTo>
                  <a:lnTo>
                    <a:pt x="1704" y="579"/>
                  </a:lnTo>
                  <a:lnTo>
                    <a:pt x="1712" y="603"/>
                  </a:lnTo>
                  <a:lnTo>
                    <a:pt x="1720" y="626"/>
                  </a:lnTo>
                  <a:lnTo>
                    <a:pt x="1727" y="649"/>
                  </a:lnTo>
                  <a:lnTo>
                    <a:pt x="1734" y="673"/>
                  </a:lnTo>
                  <a:lnTo>
                    <a:pt x="1740" y="697"/>
                  </a:lnTo>
                  <a:lnTo>
                    <a:pt x="1745" y="721"/>
                  </a:lnTo>
                  <a:lnTo>
                    <a:pt x="1750" y="745"/>
                  </a:lnTo>
                  <a:lnTo>
                    <a:pt x="1753" y="769"/>
                  </a:lnTo>
                  <a:lnTo>
                    <a:pt x="1757" y="793"/>
                  </a:lnTo>
                  <a:lnTo>
                    <a:pt x="1760" y="818"/>
                  </a:lnTo>
                  <a:lnTo>
                    <a:pt x="1762" y="842"/>
                  </a:lnTo>
                  <a:lnTo>
                    <a:pt x="1764" y="867"/>
                  </a:lnTo>
                  <a:lnTo>
                    <a:pt x="1765" y="892"/>
                  </a:lnTo>
                  <a:lnTo>
                    <a:pt x="1765" y="917"/>
                  </a:lnTo>
                  <a:lnTo>
                    <a:pt x="1765" y="942"/>
                  </a:lnTo>
                  <a:lnTo>
                    <a:pt x="1764" y="966"/>
                  </a:lnTo>
                  <a:lnTo>
                    <a:pt x="1762" y="991"/>
                  </a:lnTo>
                  <a:lnTo>
                    <a:pt x="1760" y="1016"/>
                  </a:lnTo>
                  <a:lnTo>
                    <a:pt x="1757" y="1040"/>
                  </a:lnTo>
                  <a:lnTo>
                    <a:pt x="1753" y="1064"/>
                  </a:lnTo>
                  <a:lnTo>
                    <a:pt x="1750" y="1089"/>
                  </a:lnTo>
                  <a:lnTo>
                    <a:pt x="1745" y="1113"/>
                  </a:lnTo>
                  <a:lnTo>
                    <a:pt x="1740" y="1137"/>
                  </a:lnTo>
                  <a:lnTo>
                    <a:pt x="1734" y="1160"/>
                  </a:lnTo>
                  <a:lnTo>
                    <a:pt x="1727" y="1184"/>
                  </a:lnTo>
                  <a:lnTo>
                    <a:pt x="1719" y="1208"/>
                  </a:lnTo>
                  <a:lnTo>
                    <a:pt x="1711" y="1230"/>
                  </a:lnTo>
                  <a:lnTo>
                    <a:pt x="1703" y="1253"/>
                  </a:lnTo>
                  <a:lnTo>
                    <a:pt x="1694" y="1276"/>
                  </a:lnTo>
                  <a:lnTo>
                    <a:pt x="1685" y="1299"/>
                  </a:lnTo>
                  <a:lnTo>
                    <a:pt x="1675" y="1322"/>
                  </a:lnTo>
                  <a:lnTo>
                    <a:pt x="1663" y="1344"/>
                  </a:lnTo>
                  <a:lnTo>
                    <a:pt x="1652" y="1366"/>
                  </a:lnTo>
                  <a:lnTo>
                    <a:pt x="1640" y="1388"/>
                  </a:lnTo>
                  <a:lnTo>
                    <a:pt x="1628" y="1408"/>
                  </a:lnTo>
                  <a:lnTo>
                    <a:pt x="1614" y="1430"/>
                  </a:lnTo>
                  <a:lnTo>
                    <a:pt x="1600" y="1450"/>
                  </a:lnTo>
                  <a:lnTo>
                    <a:pt x="1587" y="1470"/>
                  </a:lnTo>
                  <a:lnTo>
                    <a:pt x="1572" y="1489"/>
                  </a:lnTo>
                  <a:lnTo>
                    <a:pt x="1557" y="1509"/>
                  </a:lnTo>
                  <a:lnTo>
                    <a:pt x="1541" y="1528"/>
                  </a:lnTo>
                  <a:lnTo>
                    <a:pt x="1525" y="1547"/>
                  </a:lnTo>
                  <a:lnTo>
                    <a:pt x="1508" y="1566"/>
                  </a:lnTo>
                  <a:lnTo>
                    <a:pt x="1491" y="1583"/>
                  </a:lnTo>
                  <a:lnTo>
                    <a:pt x="1474" y="1601"/>
                  </a:lnTo>
                  <a:lnTo>
                    <a:pt x="1456" y="1618"/>
                  </a:lnTo>
                  <a:lnTo>
                    <a:pt x="1426" y="1643"/>
                  </a:lnTo>
                  <a:lnTo>
                    <a:pt x="1396" y="1667"/>
                  </a:lnTo>
                  <a:lnTo>
                    <a:pt x="1364" y="1690"/>
                  </a:lnTo>
                  <a:lnTo>
                    <a:pt x="1332" y="1710"/>
                  </a:lnTo>
                  <a:lnTo>
                    <a:pt x="1299" y="1730"/>
                  </a:lnTo>
                  <a:lnTo>
                    <a:pt x="1265" y="1748"/>
                  </a:lnTo>
                  <a:lnTo>
                    <a:pt x="1230" y="1764"/>
                  </a:lnTo>
                  <a:lnTo>
                    <a:pt x="1193" y="1779"/>
                  </a:lnTo>
                  <a:lnTo>
                    <a:pt x="1156" y="1791"/>
                  </a:lnTo>
                  <a:lnTo>
                    <a:pt x="1118" y="1803"/>
                  </a:lnTo>
                  <a:lnTo>
                    <a:pt x="1079" y="1813"/>
                  </a:lnTo>
                  <a:lnTo>
                    <a:pt x="1040" y="1821"/>
                  </a:lnTo>
                  <a:lnTo>
                    <a:pt x="1002" y="1827"/>
                  </a:lnTo>
                  <a:lnTo>
                    <a:pt x="962" y="1831"/>
                  </a:lnTo>
                  <a:lnTo>
                    <a:pt x="922" y="1834"/>
                  </a:lnTo>
                  <a:lnTo>
                    <a:pt x="881" y="1835"/>
                  </a:lnTo>
                  <a:lnTo>
                    <a:pt x="840" y="1834"/>
                  </a:lnTo>
                  <a:lnTo>
                    <a:pt x="800" y="1831"/>
                  </a:lnTo>
                  <a:lnTo>
                    <a:pt x="760" y="1827"/>
                  </a:lnTo>
                  <a:lnTo>
                    <a:pt x="721" y="1821"/>
                  </a:lnTo>
                  <a:lnTo>
                    <a:pt x="682" y="1813"/>
                  </a:lnTo>
                  <a:lnTo>
                    <a:pt x="644" y="1803"/>
                  </a:lnTo>
                  <a:lnTo>
                    <a:pt x="606" y="1791"/>
                  </a:lnTo>
                  <a:lnTo>
                    <a:pt x="569" y="1779"/>
                  </a:lnTo>
                  <a:lnTo>
                    <a:pt x="533" y="1764"/>
                  </a:lnTo>
                  <a:lnTo>
                    <a:pt x="498" y="1748"/>
                  </a:lnTo>
                  <a:lnTo>
                    <a:pt x="463" y="1730"/>
                  </a:lnTo>
                  <a:lnTo>
                    <a:pt x="430" y="1710"/>
                  </a:lnTo>
                  <a:lnTo>
                    <a:pt x="398" y="1690"/>
                  </a:lnTo>
                  <a:lnTo>
                    <a:pt x="366" y="1667"/>
                  </a:lnTo>
                  <a:lnTo>
                    <a:pt x="336" y="1643"/>
                  </a:lnTo>
                  <a:lnTo>
                    <a:pt x="307" y="1618"/>
                  </a:lnTo>
                  <a:lnTo>
                    <a:pt x="289" y="1601"/>
                  </a:lnTo>
                  <a:lnTo>
                    <a:pt x="271" y="1584"/>
                  </a:lnTo>
                  <a:lnTo>
                    <a:pt x="253" y="1566"/>
                  </a:lnTo>
                  <a:lnTo>
                    <a:pt x="237" y="1547"/>
                  </a:lnTo>
                  <a:lnTo>
                    <a:pt x="221" y="1529"/>
                  </a:lnTo>
                  <a:lnTo>
                    <a:pt x="206" y="1510"/>
                  </a:lnTo>
                  <a:lnTo>
                    <a:pt x="191" y="1490"/>
                  </a:lnTo>
                  <a:lnTo>
                    <a:pt x="176" y="1471"/>
                  </a:lnTo>
                  <a:lnTo>
                    <a:pt x="162" y="1450"/>
                  </a:lnTo>
                  <a:lnTo>
                    <a:pt x="148" y="1431"/>
                  </a:lnTo>
                  <a:lnTo>
                    <a:pt x="136" y="1409"/>
                  </a:lnTo>
                  <a:lnTo>
                    <a:pt x="123" y="1389"/>
                  </a:lnTo>
                  <a:lnTo>
                    <a:pt x="112" y="1367"/>
                  </a:lnTo>
                  <a:lnTo>
                    <a:pt x="101" y="1346"/>
                  </a:lnTo>
                  <a:lnTo>
                    <a:pt x="89" y="1323"/>
                  </a:lnTo>
                  <a:lnTo>
                    <a:pt x="79" y="1300"/>
                  </a:lnTo>
                  <a:lnTo>
                    <a:pt x="70" y="1278"/>
                  </a:lnTo>
                  <a:lnTo>
                    <a:pt x="61" y="1254"/>
                  </a:lnTo>
                  <a:lnTo>
                    <a:pt x="53" y="1232"/>
                  </a:lnTo>
                  <a:lnTo>
                    <a:pt x="45" y="1209"/>
                  </a:lnTo>
                  <a:lnTo>
                    <a:pt x="37" y="1185"/>
                  </a:lnTo>
                  <a:lnTo>
                    <a:pt x="31" y="1161"/>
                  </a:lnTo>
                  <a:lnTo>
                    <a:pt x="25" y="1137"/>
                  </a:lnTo>
                  <a:lnTo>
                    <a:pt x="20" y="1113"/>
                  </a:lnTo>
                  <a:lnTo>
                    <a:pt x="15" y="1089"/>
                  </a:lnTo>
                  <a:lnTo>
                    <a:pt x="10" y="1065"/>
                  </a:lnTo>
                  <a:lnTo>
                    <a:pt x="7" y="1041"/>
                  </a:lnTo>
                  <a:lnTo>
                    <a:pt x="5" y="1016"/>
                  </a:lnTo>
                  <a:lnTo>
                    <a:pt x="2" y="991"/>
                  </a:lnTo>
                  <a:lnTo>
                    <a:pt x="1" y="967"/>
                  </a:lnTo>
                  <a:lnTo>
                    <a:pt x="0" y="942"/>
                  </a:lnTo>
                  <a:lnTo>
                    <a:pt x="0" y="917"/>
                  </a:lnTo>
                  <a:lnTo>
                    <a:pt x="0" y="892"/>
                  </a:lnTo>
                  <a:lnTo>
                    <a:pt x="1" y="867"/>
                  </a:lnTo>
                  <a:lnTo>
                    <a:pt x="2" y="842"/>
                  </a:lnTo>
                  <a:lnTo>
                    <a:pt x="5" y="816"/>
                  </a:lnTo>
                  <a:lnTo>
                    <a:pt x="7" y="793"/>
                  </a:lnTo>
                  <a:lnTo>
                    <a:pt x="10" y="767"/>
                  </a:lnTo>
                  <a:lnTo>
                    <a:pt x="15" y="743"/>
                  </a:lnTo>
                  <a:lnTo>
                    <a:pt x="20" y="720"/>
                  </a:lnTo>
                  <a:lnTo>
                    <a:pt x="24" y="696"/>
                  </a:lnTo>
                  <a:lnTo>
                    <a:pt x="31" y="672"/>
                  </a:lnTo>
                  <a:lnTo>
                    <a:pt x="37" y="648"/>
                  </a:lnTo>
                  <a:lnTo>
                    <a:pt x="45" y="625"/>
                  </a:lnTo>
                  <a:lnTo>
                    <a:pt x="52" y="602"/>
                  </a:lnTo>
                  <a:lnTo>
                    <a:pt x="61" y="578"/>
                  </a:lnTo>
                  <a:lnTo>
                    <a:pt x="70" y="555"/>
                  </a:lnTo>
                  <a:lnTo>
                    <a:pt x="79" y="533"/>
                  </a:lnTo>
                  <a:lnTo>
                    <a:pt x="89" y="511"/>
                  </a:lnTo>
                  <a:lnTo>
                    <a:pt x="99" y="488"/>
                  </a:lnTo>
                  <a:lnTo>
                    <a:pt x="111" y="466"/>
                  </a:lnTo>
                  <a:lnTo>
                    <a:pt x="123" y="446"/>
                  </a:lnTo>
                  <a:lnTo>
                    <a:pt x="135" y="424"/>
                  </a:lnTo>
                  <a:lnTo>
                    <a:pt x="148" y="404"/>
                  </a:lnTo>
                  <a:lnTo>
                    <a:pt x="161" y="383"/>
                  </a:lnTo>
                  <a:lnTo>
                    <a:pt x="176" y="364"/>
                  </a:lnTo>
                  <a:lnTo>
                    <a:pt x="190" y="344"/>
                  </a:lnTo>
                  <a:lnTo>
                    <a:pt x="206" y="325"/>
                  </a:lnTo>
                  <a:lnTo>
                    <a:pt x="220" y="306"/>
                  </a:lnTo>
                  <a:lnTo>
                    <a:pt x="236" y="287"/>
                  </a:lnTo>
                  <a:lnTo>
                    <a:pt x="253" y="269"/>
                  </a:lnTo>
                  <a:lnTo>
                    <a:pt x="271" y="251"/>
                  </a:lnTo>
                  <a:lnTo>
                    <a:pt x="289" y="234"/>
                  </a:lnTo>
                  <a:lnTo>
                    <a:pt x="307" y="217"/>
                  </a:lnTo>
                  <a:lnTo>
                    <a:pt x="336" y="190"/>
                  </a:lnTo>
                  <a:lnTo>
                    <a:pt x="366" y="166"/>
                  </a:lnTo>
                  <a:lnTo>
                    <a:pt x="398" y="145"/>
                  </a:lnTo>
                  <a:lnTo>
                    <a:pt x="430" y="123"/>
                  </a:lnTo>
                  <a:lnTo>
                    <a:pt x="463" y="104"/>
                  </a:lnTo>
                  <a:lnTo>
                    <a:pt x="498" y="87"/>
                  </a:lnTo>
                  <a:lnTo>
                    <a:pt x="533" y="70"/>
                  </a:lnTo>
                  <a:lnTo>
                    <a:pt x="569" y="55"/>
                  </a:lnTo>
                  <a:lnTo>
                    <a:pt x="606" y="42"/>
                  </a:lnTo>
                  <a:lnTo>
                    <a:pt x="644" y="31"/>
                  </a:lnTo>
                  <a:lnTo>
                    <a:pt x="682" y="22"/>
                  </a:lnTo>
                  <a:lnTo>
                    <a:pt x="721" y="14"/>
                  </a:lnTo>
                  <a:lnTo>
                    <a:pt x="760" y="8"/>
                  </a:lnTo>
                  <a:lnTo>
                    <a:pt x="800" y="3"/>
                  </a:lnTo>
                  <a:lnTo>
                    <a:pt x="840" y="1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686480" y="1058760"/>
              <a:ext cx="144360" cy="5540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90536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8" h="1801">
                  <a:moveTo>
                    <a:pt x="1154" y="1771"/>
                  </a:moveTo>
                  <a:lnTo>
                    <a:pt x="1141" y="1776"/>
                  </a:lnTo>
                  <a:lnTo>
                    <a:pt x="1128" y="1779"/>
                  </a:lnTo>
                  <a:lnTo>
                    <a:pt x="1114" y="1781"/>
                  </a:lnTo>
                  <a:lnTo>
                    <a:pt x="1102" y="1785"/>
                  </a:lnTo>
                  <a:lnTo>
                    <a:pt x="1088" y="1787"/>
                  </a:lnTo>
                  <a:lnTo>
                    <a:pt x="1074" y="1789"/>
                  </a:lnTo>
                  <a:lnTo>
                    <a:pt x="1061" y="1792"/>
                  </a:lnTo>
                  <a:lnTo>
                    <a:pt x="1046" y="1794"/>
                  </a:lnTo>
                  <a:lnTo>
                    <a:pt x="1032" y="1795"/>
                  </a:lnTo>
                  <a:lnTo>
                    <a:pt x="1017" y="1797"/>
                  </a:lnTo>
                  <a:lnTo>
                    <a:pt x="1003" y="1798"/>
                  </a:lnTo>
                  <a:lnTo>
                    <a:pt x="987" y="1799"/>
                  </a:lnTo>
                  <a:lnTo>
                    <a:pt x="971" y="1799"/>
                  </a:lnTo>
                  <a:lnTo>
                    <a:pt x="955" y="1801"/>
                  </a:lnTo>
                  <a:lnTo>
                    <a:pt x="939" y="1801"/>
                  </a:lnTo>
                  <a:lnTo>
                    <a:pt x="922" y="1801"/>
                  </a:lnTo>
                  <a:lnTo>
                    <a:pt x="871" y="1799"/>
                  </a:lnTo>
                  <a:lnTo>
                    <a:pt x="821" y="1797"/>
                  </a:lnTo>
                  <a:lnTo>
                    <a:pt x="773" y="1793"/>
                  </a:lnTo>
                  <a:lnTo>
                    <a:pt x="725" y="1786"/>
                  </a:lnTo>
                  <a:lnTo>
                    <a:pt x="680" y="1777"/>
                  </a:lnTo>
                  <a:lnTo>
                    <a:pt x="635" y="1766"/>
                  </a:lnTo>
                  <a:lnTo>
                    <a:pt x="612" y="1761"/>
                  </a:lnTo>
                  <a:lnTo>
                    <a:pt x="592" y="1754"/>
                  </a:lnTo>
                  <a:lnTo>
                    <a:pt x="570" y="1747"/>
                  </a:lnTo>
                  <a:lnTo>
                    <a:pt x="550" y="1739"/>
                  </a:lnTo>
                  <a:lnTo>
                    <a:pt x="528" y="1731"/>
                  </a:lnTo>
                  <a:lnTo>
                    <a:pt x="509" y="1723"/>
                  </a:lnTo>
                  <a:lnTo>
                    <a:pt x="488" y="1714"/>
                  </a:lnTo>
                  <a:lnTo>
                    <a:pt x="469" y="1705"/>
                  </a:lnTo>
                  <a:lnTo>
                    <a:pt x="449" y="1695"/>
                  </a:lnTo>
                  <a:lnTo>
                    <a:pt x="430" y="1684"/>
                  </a:lnTo>
                  <a:lnTo>
                    <a:pt x="411" y="1674"/>
                  </a:lnTo>
                  <a:lnTo>
                    <a:pt x="392" y="1663"/>
                  </a:lnTo>
                  <a:lnTo>
                    <a:pt x="374" y="1651"/>
                  </a:lnTo>
                  <a:lnTo>
                    <a:pt x="356" y="1639"/>
                  </a:lnTo>
                  <a:lnTo>
                    <a:pt x="339" y="1626"/>
                  </a:lnTo>
                  <a:lnTo>
                    <a:pt x="322" y="1612"/>
                  </a:lnTo>
                  <a:lnTo>
                    <a:pt x="304" y="1599"/>
                  </a:lnTo>
                  <a:lnTo>
                    <a:pt x="287" y="1585"/>
                  </a:lnTo>
                  <a:lnTo>
                    <a:pt x="271" y="1570"/>
                  </a:lnTo>
                  <a:lnTo>
                    <a:pt x="255" y="1554"/>
                  </a:lnTo>
                  <a:lnTo>
                    <a:pt x="239" y="1540"/>
                  </a:lnTo>
                  <a:lnTo>
                    <a:pt x="225" y="1524"/>
                  </a:lnTo>
                  <a:lnTo>
                    <a:pt x="210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9" y="1457"/>
                  </a:lnTo>
                  <a:lnTo>
                    <a:pt x="156" y="1440"/>
                  </a:lnTo>
                  <a:lnTo>
                    <a:pt x="144" y="1422"/>
                  </a:lnTo>
                  <a:lnTo>
                    <a:pt x="132" y="1405"/>
                  </a:lnTo>
                  <a:lnTo>
                    <a:pt x="121" y="1387"/>
                  </a:lnTo>
                  <a:lnTo>
                    <a:pt x="111" y="1367"/>
                  </a:lnTo>
                  <a:lnTo>
                    <a:pt x="100" y="1349"/>
                  </a:lnTo>
                  <a:lnTo>
                    <a:pt x="90" y="1330"/>
                  </a:lnTo>
                  <a:lnTo>
                    <a:pt x="81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9" y="1230"/>
                  </a:lnTo>
                  <a:lnTo>
                    <a:pt x="42" y="1210"/>
                  </a:lnTo>
                  <a:lnTo>
                    <a:pt x="36" y="1188"/>
                  </a:lnTo>
                  <a:lnTo>
                    <a:pt x="31" y="1168"/>
                  </a:lnTo>
                  <a:lnTo>
                    <a:pt x="25" y="1146"/>
                  </a:lnTo>
                  <a:lnTo>
                    <a:pt x="20" y="1124"/>
                  </a:lnTo>
                  <a:lnTo>
                    <a:pt x="16" y="1102"/>
                  </a:lnTo>
                  <a:lnTo>
                    <a:pt x="12" y="1079"/>
                  </a:lnTo>
                  <a:lnTo>
                    <a:pt x="9" y="1056"/>
                  </a:lnTo>
                  <a:lnTo>
                    <a:pt x="7" y="1033"/>
                  </a:lnTo>
                  <a:lnTo>
                    <a:pt x="5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5" y="817"/>
                  </a:lnTo>
                  <a:lnTo>
                    <a:pt x="10" y="770"/>
                  </a:lnTo>
                  <a:lnTo>
                    <a:pt x="17" y="724"/>
                  </a:lnTo>
                  <a:lnTo>
                    <a:pt x="22" y="701"/>
                  </a:lnTo>
                  <a:lnTo>
                    <a:pt x="26" y="680"/>
                  </a:lnTo>
                  <a:lnTo>
                    <a:pt x="32" y="657"/>
                  </a:lnTo>
                  <a:lnTo>
                    <a:pt x="38" y="635"/>
                  </a:lnTo>
                  <a:lnTo>
                    <a:pt x="44" y="615"/>
                  </a:lnTo>
                  <a:lnTo>
                    <a:pt x="51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5" y="531"/>
                  </a:lnTo>
                  <a:lnTo>
                    <a:pt x="84" y="511"/>
                  </a:lnTo>
                  <a:lnTo>
                    <a:pt x="93" y="492"/>
                  </a:lnTo>
                  <a:lnTo>
                    <a:pt x="104" y="472"/>
                  </a:lnTo>
                  <a:lnTo>
                    <a:pt x="114" y="453"/>
                  </a:lnTo>
                  <a:lnTo>
                    <a:pt x="125" y="433"/>
                  </a:lnTo>
                  <a:lnTo>
                    <a:pt x="137" y="415"/>
                  </a:lnTo>
                  <a:lnTo>
                    <a:pt x="149" y="397"/>
                  </a:lnTo>
                  <a:lnTo>
                    <a:pt x="162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3" y="325"/>
                  </a:lnTo>
                  <a:lnTo>
                    <a:pt x="233" y="291"/>
                  </a:lnTo>
                  <a:lnTo>
                    <a:pt x="265" y="258"/>
                  </a:lnTo>
                  <a:lnTo>
                    <a:pt x="282" y="243"/>
                  </a:lnTo>
                  <a:lnTo>
                    <a:pt x="298" y="227"/>
                  </a:lnTo>
                  <a:lnTo>
                    <a:pt x="315" y="212"/>
                  </a:lnTo>
                  <a:lnTo>
                    <a:pt x="333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7" y="157"/>
                  </a:lnTo>
                  <a:lnTo>
                    <a:pt x="406" y="145"/>
                  </a:lnTo>
                  <a:lnTo>
                    <a:pt x="424" y="134"/>
                  </a:lnTo>
                  <a:lnTo>
                    <a:pt x="444" y="122"/>
                  </a:lnTo>
                  <a:lnTo>
                    <a:pt x="463" y="111"/>
                  </a:lnTo>
                  <a:lnTo>
                    <a:pt x="484" y="100"/>
                  </a:lnTo>
                  <a:lnTo>
                    <a:pt x="503" y="91"/>
                  </a:lnTo>
                  <a:lnTo>
                    <a:pt x="523" y="81"/>
                  </a:lnTo>
                  <a:lnTo>
                    <a:pt x="544" y="73"/>
                  </a:lnTo>
                  <a:lnTo>
                    <a:pt x="565" y="64"/>
                  </a:lnTo>
                  <a:lnTo>
                    <a:pt x="608" y="49"/>
                  </a:lnTo>
                  <a:lnTo>
                    <a:pt x="651" y="37"/>
                  </a:lnTo>
                  <a:lnTo>
                    <a:pt x="696" y="25"/>
                  </a:lnTo>
                  <a:lnTo>
                    <a:pt x="742" y="16"/>
                  </a:lnTo>
                  <a:lnTo>
                    <a:pt x="789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8" y="0"/>
                  </a:lnTo>
                  <a:lnTo>
                    <a:pt x="949" y="0"/>
                  </a:lnTo>
                  <a:lnTo>
                    <a:pt x="961" y="0"/>
                  </a:lnTo>
                  <a:lnTo>
                    <a:pt x="974" y="0"/>
                  </a:lnTo>
                  <a:lnTo>
                    <a:pt x="987" y="1"/>
                  </a:lnTo>
                  <a:lnTo>
                    <a:pt x="999" y="2"/>
                  </a:lnTo>
                  <a:lnTo>
                    <a:pt x="1012" y="4"/>
                  </a:lnTo>
                  <a:lnTo>
                    <a:pt x="1024" y="5"/>
                  </a:lnTo>
                  <a:lnTo>
                    <a:pt x="1037" y="6"/>
                  </a:lnTo>
                  <a:lnTo>
                    <a:pt x="1050" y="7"/>
                  </a:lnTo>
                  <a:lnTo>
                    <a:pt x="1064" y="9"/>
                  </a:lnTo>
                  <a:lnTo>
                    <a:pt x="1077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9" y="18"/>
                  </a:lnTo>
                  <a:lnTo>
                    <a:pt x="1133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5" y="535"/>
                  </a:lnTo>
                  <a:lnTo>
                    <a:pt x="1139" y="528"/>
                  </a:lnTo>
                  <a:lnTo>
                    <a:pt x="1125" y="522"/>
                  </a:lnTo>
                  <a:lnTo>
                    <a:pt x="1109" y="518"/>
                  </a:lnTo>
                  <a:lnTo>
                    <a:pt x="1094" y="512"/>
                  </a:lnTo>
                  <a:lnTo>
                    <a:pt x="1079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3" y="497"/>
                  </a:lnTo>
                  <a:lnTo>
                    <a:pt x="1019" y="495"/>
                  </a:lnTo>
                  <a:lnTo>
                    <a:pt x="1004" y="493"/>
                  </a:lnTo>
                  <a:lnTo>
                    <a:pt x="990" y="490"/>
                  </a:lnTo>
                  <a:lnTo>
                    <a:pt x="975" y="489"/>
                  </a:lnTo>
                  <a:lnTo>
                    <a:pt x="960" y="488"/>
                  </a:lnTo>
                  <a:lnTo>
                    <a:pt x="947" y="488"/>
                  </a:lnTo>
                  <a:lnTo>
                    <a:pt x="933" y="487"/>
                  </a:lnTo>
                  <a:lnTo>
                    <a:pt x="907" y="488"/>
                  </a:lnTo>
                  <a:lnTo>
                    <a:pt x="883" y="489"/>
                  </a:lnTo>
                  <a:lnTo>
                    <a:pt x="859" y="492"/>
                  </a:lnTo>
                  <a:lnTo>
                    <a:pt x="835" y="495"/>
                  </a:lnTo>
                  <a:lnTo>
                    <a:pt x="812" y="498"/>
                  </a:lnTo>
                  <a:lnTo>
                    <a:pt x="789" y="504"/>
                  </a:lnTo>
                  <a:lnTo>
                    <a:pt x="768" y="510"/>
                  </a:lnTo>
                  <a:lnTo>
                    <a:pt x="747" y="517"/>
                  </a:lnTo>
                  <a:lnTo>
                    <a:pt x="725" y="524"/>
                  </a:lnTo>
                  <a:lnTo>
                    <a:pt x="706" y="533"/>
                  </a:lnTo>
                  <a:lnTo>
                    <a:pt x="687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2" y="576"/>
                  </a:lnTo>
                  <a:lnTo>
                    <a:pt x="615" y="588"/>
                  </a:lnTo>
                  <a:lnTo>
                    <a:pt x="599" y="603"/>
                  </a:lnTo>
                  <a:lnTo>
                    <a:pt x="583" y="617"/>
                  </a:lnTo>
                  <a:lnTo>
                    <a:pt x="568" y="633"/>
                  </a:lnTo>
                  <a:lnTo>
                    <a:pt x="554" y="649"/>
                  </a:lnTo>
                  <a:lnTo>
                    <a:pt x="542" y="665"/>
                  </a:lnTo>
                  <a:lnTo>
                    <a:pt x="530" y="681"/>
                  </a:lnTo>
                  <a:lnTo>
                    <a:pt x="520" y="698"/>
                  </a:lnTo>
                  <a:lnTo>
                    <a:pt x="510" y="716"/>
                  </a:lnTo>
                  <a:lnTo>
                    <a:pt x="502" y="734"/>
                  </a:lnTo>
                  <a:lnTo>
                    <a:pt x="494" y="753"/>
                  </a:lnTo>
                  <a:lnTo>
                    <a:pt x="487" y="772"/>
                  </a:lnTo>
                  <a:lnTo>
                    <a:pt x="482" y="791"/>
                  </a:lnTo>
                  <a:lnTo>
                    <a:pt x="478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70" y="875"/>
                  </a:lnTo>
                  <a:lnTo>
                    <a:pt x="470" y="896"/>
                  </a:lnTo>
                  <a:lnTo>
                    <a:pt x="470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8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4" y="1041"/>
                  </a:lnTo>
                  <a:lnTo>
                    <a:pt x="502" y="1059"/>
                  </a:lnTo>
                  <a:lnTo>
                    <a:pt x="510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2" y="1130"/>
                  </a:lnTo>
                  <a:lnTo>
                    <a:pt x="554" y="1147"/>
                  </a:lnTo>
                  <a:lnTo>
                    <a:pt x="567" y="1163"/>
                  </a:lnTo>
                  <a:lnTo>
                    <a:pt x="582" y="1178"/>
                  </a:lnTo>
                  <a:lnTo>
                    <a:pt x="598" y="1194"/>
                  </a:lnTo>
                  <a:lnTo>
                    <a:pt x="614" y="1208"/>
                  </a:lnTo>
                  <a:lnTo>
                    <a:pt x="631" y="1221"/>
                  </a:lnTo>
                  <a:lnTo>
                    <a:pt x="648" y="1234"/>
                  </a:lnTo>
                  <a:lnTo>
                    <a:pt x="665" y="1246"/>
                  </a:lnTo>
                  <a:lnTo>
                    <a:pt x="683" y="1257"/>
                  </a:lnTo>
                  <a:lnTo>
                    <a:pt x="703" y="1267"/>
                  </a:lnTo>
                  <a:lnTo>
                    <a:pt x="721" y="1275"/>
                  </a:lnTo>
                  <a:lnTo>
                    <a:pt x="741" y="1283"/>
                  </a:lnTo>
                  <a:lnTo>
                    <a:pt x="761" y="1291"/>
                  </a:lnTo>
                  <a:lnTo>
                    <a:pt x="782" y="1297"/>
                  </a:lnTo>
                  <a:lnTo>
                    <a:pt x="803" y="1301"/>
                  </a:lnTo>
                  <a:lnTo>
                    <a:pt x="825" y="1306"/>
                  </a:lnTo>
                  <a:lnTo>
                    <a:pt x="847" y="1309"/>
                  </a:lnTo>
                  <a:lnTo>
                    <a:pt x="870" y="1311"/>
                  </a:lnTo>
                  <a:lnTo>
                    <a:pt x="893" y="1313"/>
                  </a:lnTo>
                  <a:lnTo>
                    <a:pt x="917" y="1313"/>
                  </a:lnTo>
                  <a:lnTo>
                    <a:pt x="934" y="1313"/>
                  </a:lnTo>
                  <a:lnTo>
                    <a:pt x="951" y="1313"/>
                  </a:lnTo>
                  <a:lnTo>
                    <a:pt x="968" y="1310"/>
                  </a:lnTo>
                  <a:lnTo>
                    <a:pt x="985" y="1309"/>
                  </a:lnTo>
                  <a:lnTo>
                    <a:pt x="1003" y="1306"/>
                  </a:lnTo>
                  <a:lnTo>
                    <a:pt x="1020" y="1303"/>
                  </a:lnTo>
                  <a:lnTo>
                    <a:pt x="1037" y="1300"/>
                  </a:lnTo>
                  <a:lnTo>
                    <a:pt x="1054" y="1295"/>
                  </a:lnTo>
                  <a:lnTo>
                    <a:pt x="1071" y="1291"/>
                  </a:lnTo>
                  <a:lnTo>
                    <a:pt x="1088" y="1285"/>
                  </a:lnTo>
                  <a:lnTo>
                    <a:pt x="1104" y="1280"/>
                  </a:lnTo>
                  <a:lnTo>
                    <a:pt x="1121" y="1274"/>
                  </a:lnTo>
                  <a:lnTo>
                    <a:pt x="1138" y="1267"/>
                  </a:lnTo>
                  <a:lnTo>
                    <a:pt x="1155" y="1259"/>
                  </a:lnTo>
                  <a:lnTo>
                    <a:pt x="1171" y="1251"/>
                  </a:lnTo>
                  <a:lnTo>
                    <a:pt x="1188" y="1243"/>
                  </a:lnTo>
                  <a:lnTo>
                    <a:pt x="1154" y="17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361120" y="1058760"/>
              <a:ext cx="345960" cy="554040"/>
            </a:xfrm>
            <a:custGeom>
              <a:avLst/>
              <a:gdLst/>
              <a:ahLst/>
              <a:rect l="l" t="t" r="r" b="b"/>
              <a:pathLst>
                <a:path w="1088" h="1741">
                  <a:moveTo>
                    <a:pt x="1088" y="1262"/>
                  </a:moveTo>
                  <a:lnTo>
                    <a:pt x="967" y="1741"/>
                  </a:lnTo>
                  <a:lnTo>
                    <a:pt x="0" y="1741"/>
                  </a:lnTo>
                  <a:lnTo>
                    <a:pt x="0" y="0"/>
                  </a:lnTo>
                  <a:lnTo>
                    <a:pt x="963" y="0"/>
                  </a:lnTo>
                  <a:lnTo>
                    <a:pt x="1038" y="463"/>
                  </a:lnTo>
                  <a:lnTo>
                    <a:pt x="451" y="463"/>
                  </a:lnTo>
                  <a:lnTo>
                    <a:pt x="451" y="639"/>
                  </a:lnTo>
                  <a:lnTo>
                    <a:pt x="843" y="639"/>
                  </a:lnTo>
                  <a:lnTo>
                    <a:pt x="843" y="1100"/>
                  </a:lnTo>
                  <a:lnTo>
                    <a:pt x="451" y="1100"/>
                  </a:lnTo>
                  <a:lnTo>
                    <a:pt x="451" y="1262"/>
                  </a:lnTo>
                  <a:lnTo>
                    <a:pt x="1088" y="1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745240" y="1050840"/>
              <a:ext cx="291960" cy="569880"/>
            </a:xfrm>
            <a:custGeom>
              <a:avLst/>
              <a:gdLst/>
              <a:ahLst/>
              <a:rect l="l" t="t" r="r" b="b"/>
              <a:pathLst>
                <a:path w="922" h="1796">
                  <a:moveTo>
                    <a:pt x="33" y="1775"/>
                  </a:moveTo>
                  <a:lnTo>
                    <a:pt x="22" y="1295"/>
                  </a:lnTo>
                  <a:lnTo>
                    <a:pt x="34" y="1299"/>
                  </a:lnTo>
                  <a:lnTo>
                    <a:pt x="47" y="1305"/>
                  </a:lnTo>
                  <a:lnTo>
                    <a:pt x="59" y="1309"/>
                  </a:lnTo>
                  <a:lnTo>
                    <a:pt x="71" y="1313"/>
                  </a:lnTo>
                  <a:lnTo>
                    <a:pt x="83" y="1317"/>
                  </a:lnTo>
                  <a:lnTo>
                    <a:pt x="95" y="1321"/>
                  </a:lnTo>
                  <a:lnTo>
                    <a:pt x="107" y="1324"/>
                  </a:lnTo>
                  <a:lnTo>
                    <a:pt x="119" y="1327"/>
                  </a:lnTo>
                  <a:lnTo>
                    <a:pt x="130" y="1330"/>
                  </a:lnTo>
                  <a:lnTo>
                    <a:pt x="141" y="1332"/>
                  </a:lnTo>
                  <a:lnTo>
                    <a:pt x="153" y="1335"/>
                  </a:lnTo>
                  <a:lnTo>
                    <a:pt x="164" y="1336"/>
                  </a:lnTo>
                  <a:lnTo>
                    <a:pt x="174" y="1337"/>
                  </a:lnTo>
                  <a:lnTo>
                    <a:pt x="186" y="1338"/>
                  </a:lnTo>
                  <a:lnTo>
                    <a:pt x="196" y="1338"/>
                  </a:lnTo>
                  <a:lnTo>
                    <a:pt x="206" y="1338"/>
                  </a:lnTo>
                  <a:lnTo>
                    <a:pt x="225" y="1338"/>
                  </a:lnTo>
                  <a:lnTo>
                    <a:pt x="243" y="1336"/>
                  </a:lnTo>
                  <a:lnTo>
                    <a:pt x="259" y="1333"/>
                  </a:lnTo>
                  <a:lnTo>
                    <a:pt x="275" y="1329"/>
                  </a:lnTo>
                  <a:lnTo>
                    <a:pt x="290" y="1323"/>
                  </a:lnTo>
                  <a:lnTo>
                    <a:pt x="304" y="1316"/>
                  </a:lnTo>
                  <a:lnTo>
                    <a:pt x="317" y="1308"/>
                  </a:lnTo>
                  <a:lnTo>
                    <a:pt x="330" y="1299"/>
                  </a:lnTo>
                  <a:lnTo>
                    <a:pt x="341" y="1289"/>
                  </a:lnTo>
                  <a:lnTo>
                    <a:pt x="350" y="1279"/>
                  </a:lnTo>
                  <a:lnTo>
                    <a:pt x="358" y="1267"/>
                  </a:lnTo>
                  <a:lnTo>
                    <a:pt x="365" y="1255"/>
                  </a:lnTo>
                  <a:lnTo>
                    <a:pt x="371" y="1242"/>
                  </a:lnTo>
                  <a:lnTo>
                    <a:pt x="374" y="1230"/>
                  </a:lnTo>
                  <a:lnTo>
                    <a:pt x="376" y="1216"/>
                  </a:lnTo>
                  <a:lnTo>
                    <a:pt x="377" y="1201"/>
                  </a:lnTo>
                  <a:lnTo>
                    <a:pt x="376" y="1192"/>
                  </a:lnTo>
                  <a:lnTo>
                    <a:pt x="375" y="1182"/>
                  </a:lnTo>
                  <a:lnTo>
                    <a:pt x="373" y="1171"/>
                  </a:lnTo>
                  <a:lnTo>
                    <a:pt x="368" y="1160"/>
                  </a:lnTo>
                  <a:lnTo>
                    <a:pt x="364" y="1149"/>
                  </a:lnTo>
                  <a:lnTo>
                    <a:pt x="359" y="1137"/>
                  </a:lnTo>
                  <a:lnTo>
                    <a:pt x="352" y="1126"/>
                  </a:lnTo>
                  <a:lnTo>
                    <a:pt x="344" y="1113"/>
                  </a:lnTo>
                  <a:lnTo>
                    <a:pt x="326" y="1088"/>
                  </a:lnTo>
                  <a:lnTo>
                    <a:pt x="304" y="1062"/>
                  </a:lnTo>
                  <a:lnTo>
                    <a:pt x="278" y="1035"/>
                  </a:lnTo>
                  <a:lnTo>
                    <a:pt x="247" y="1005"/>
                  </a:lnTo>
                  <a:lnTo>
                    <a:pt x="236" y="996"/>
                  </a:lnTo>
                  <a:lnTo>
                    <a:pt x="227" y="987"/>
                  </a:lnTo>
                  <a:lnTo>
                    <a:pt x="217" y="978"/>
                  </a:lnTo>
                  <a:lnTo>
                    <a:pt x="209" y="970"/>
                  </a:lnTo>
                  <a:lnTo>
                    <a:pt x="201" y="962"/>
                  </a:lnTo>
                  <a:lnTo>
                    <a:pt x="193" y="954"/>
                  </a:lnTo>
                  <a:lnTo>
                    <a:pt x="186" y="947"/>
                  </a:lnTo>
                  <a:lnTo>
                    <a:pt x="180" y="941"/>
                  </a:lnTo>
                  <a:lnTo>
                    <a:pt x="157" y="918"/>
                  </a:lnTo>
                  <a:lnTo>
                    <a:pt x="137" y="894"/>
                  </a:lnTo>
                  <a:lnTo>
                    <a:pt x="117" y="870"/>
                  </a:lnTo>
                  <a:lnTo>
                    <a:pt x="99" y="846"/>
                  </a:lnTo>
                  <a:lnTo>
                    <a:pt x="83" y="823"/>
                  </a:lnTo>
                  <a:lnTo>
                    <a:pt x="68" y="799"/>
                  </a:lnTo>
                  <a:lnTo>
                    <a:pt x="56" y="775"/>
                  </a:lnTo>
                  <a:lnTo>
                    <a:pt x="43" y="750"/>
                  </a:lnTo>
                  <a:lnTo>
                    <a:pt x="33" y="724"/>
                  </a:lnTo>
                  <a:lnTo>
                    <a:pt x="24" y="699"/>
                  </a:lnTo>
                  <a:lnTo>
                    <a:pt x="17" y="673"/>
                  </a:lnTo>
                  <a:lnTo>
                    <a:pt x="10" y="647"/>
                  </a:lnTo>
                  <a:lnTo>
                    <a:pt x="6" y="620"/>
                  </a:lnTo>
                  <a:lnTo>
                    <a:pt x="2" y="592"/>
                  </a:lnTo>
                  <a:lnTo>
                    <a:pt x="0" y="565"/>
                  </a:lnTo>
                  <a:lnTo>
                    <a:pt x="0" y="536"/>
                  </a:lnTo>
                  <a:lnTo>
                    <a:pt x="0" y="508"/>
                  </a:lnTo>
                  <a:lnTo>
                    <a:pt x="2" y="479"/>
                  </a:lnTo>
                  <a:lnTo>
                    <a:pt x="6" y="452"/>
                  </a:lnTo>
                  <a:lnTo>
                    <a:pt x="10" y="425"/>
                  </a:lnTo>
                  <a:lnTo>
                    <a:pt x="16" y="398"/>
                  </a:lnTo>
                  <a:lnTo>
                    <a:pt x="23" y="372"/>
                  </a:lnTo>
                  <a:lnTo>
                    <a:pt x="31" y="347"/>
                  </a:lnTo>
                  <a:lnTo>
                    <a:pt x="41" y="323"/>
                  </a:lnTo>
                  <a:lnTo>
                    <a:pt x="51" y="299"/>
                  </a:lnTo>
                  <a:lnTo>
                    <a:pt x="64" y="276"/>
                  </a:lnTo>
                  <a:lnTo>
                    <a:pt x="77" y="254"/>
                  </a:lnTo>
                  <a:lnTo>
                    <a:pt x="92" y="232"/>
                  </a:lnTo>
                  <a:lnTo>
                    <a:pt x="108" y="211"/>
                  </a:lnTo>
                  <a:lnTo>
                    <a:pt x="125" y="191"/>
                  </a:lnTo>
                  <a:lnTo>
                    <a:pt x="144" y="170"/>
                  </a:lnTo>
                  <a:lnTo>
                    <a:pt x="164" y="151"/>
                  </a:lnTo>
                  <a:lnTo>
                    <a:pt x="185" y="133"/>
                  </a:lnTo>
                  <a:lnTo>
                    <a:pt x="206" y="116"/>
                  </a:lnTo>
                  <a:lnTo>
                    <a:pt x="229" y="100"/>
                  </a:lnTo>
                  <a:lnTo>
                    <a:pt x="252" y="85"/>
                  </a:lnTo>
                  <a:lnTo>
                    <a:pt x="276" y="72"/>
                  </a:lnTo>
                  <a:lnTo>
                    <a:pt x="301" y="60"/>
                  </a:lnTo>
                  <a:lnTo>
                    <a:pt x="326" y="48"/>
                  </a:lnTo>
                  <a:lnTo>
                    <a:pt x="352" y="38"/>
                  </a:lnTo>
                  <a:lnTo>
                    <a:pt x="379" y="29"/>
                  </a:lnTo>
                  <a:lnTo>
                    <a:pt x="407" y="21"/>
                  </a:lnTo>
                  <a:lnTo>
                    <a:pt x="436" y="15"/>
                  </a:lnTo>
                  <a:lnTo>
                    <a:pt x="464" y="10"/>
                  </a:lnTo>
                  <a:lnTo>
                    <a:pt x="494" y="5"/>
                  </a:lnTo>
                  <a:lnTo>
                    <a:pt x="525" y="3"/>
                  </a:lnTo>
                  <a:lnTo>
                    <a:pt x="557" y="0"/>
                  </a:lnTo>
                  <a:lnTo>
                    <a:pt x="588" y="0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49" y="2"/>
                  </a:lnTo>
                  <a:lnTo>
                    <a:pt x="668" y="3"/>
                  </a:lnTo>
                  <a:lnTo>
                    <a:pt x="688" y="5"/>
                  </a:lnTo>
                  <a:lnTo>
                    <a:pt x="706" y="6"/>
                  </a:lnTo>
                  <a:lnTo>
                    <a:pt x="725" y="8"/>
                  </a:lnTo>
                  <a:lnTo>
                    <a:pt x="744" y="11"/>
                  </a:lnTo>
                  <a:lnTo>
                    <a:pt x="761" y="14"/>
                  </a:lnTo>
                  <a:lnTo>
                    <a:pt x="779" y="16"/>
                  </a:lnTo>
                  <a:lnTo>
                    <a:pt x="796" y="21"/>
                  </a:lnTo>
                  <a:lnTo>
                    <a:pt x="813" y="24"/>
                  </a:lnTo>
                  <a:lnTo>
                    <a:pt x="830" y="29"/>
                  </a:lnTo>
                  <a:lnTo>
                    <a:pt x="847" y="33"/>
                  </a:lnTo>
                  <a:lnTo>
                    <a:pt x="865" y="39"/>
                  </a:lnTo>
                  <a:lnTo>
                    <a:pt x="882" y="44"/>
                  </a:lnTo>
                  <a:lnTo>
                    <a:pt x="882" y="476"/>
                  </a:lnTo>
                  <a:lnTo>
                    <a:pt x="868" y="469"/>
                  </a:lnTo>
                  <a:lnTo>
                    <a:pt x="853" y="462"/>
                  </a:lnTo>
                  <a:lnTo>
                    <a:pt x="841" y="457"/>
                  </a:lnTo>
                  <a:lnTo>
                    <a:pt x="827" y="451"/>
                  </a:lnTo>
                  <a:lnTo>
                    <a:pt x="813" y="446"/>
                  </a:lnTo>
                  <a:lnTo>
                    <a:pt x="801" y="442"/>
                  </a:lnTo>
                  <a:lnTo>
                    <a:pt x="788" y="437"/>
                  </a:lnTo>
                  <a:lnTo>
                    <a:pt x="776" y="433"/>
                  </a:lnTo>
                  <a:lnTo>
                    <a:pt x="764" y="430"/>
                  </a:lnTo>
                  <a:lnTo>
                    <a:pt x="752" y="427"/>
                  </a:lnTo>
                  <a:lnTo>
                    <a:pt x="740" y="425"/>
                  </a:lnTo>
                  <a:lnTo>
                    <a:pt x="730" y="422"/>
                  </a:lnTo>
                  <a:lnTo>
                    <a:pt x="719" y="421"/>
                  </a:lnTo>
                  <a:lnTo>
                    <a:pt x="708" y="420"/>
                  </a:lnTo>
                  <a:lnTo>
                    <a:pt x="699" y="419"/>
                  </a:lnTo>
                  <a:lnTo>
                    <a:pt x="689" y="419"/>
                  </a:lnTo>
                  <a:lnTo>
                    <a:pt x="668" y="419"/>
                  </a:lnTo>
                  <a:lnTo>
                    <a:pt x="649" y="421"/>
                  </a:lnTo>
                  <a:lnTo>
                    <a:pt x="631" y="423"/>
                  </a:lnTo>
                  <a:lnTo>
                    <a:pt x="614" y="428"/>
                  </a:lnTo>
                  <a:lnTo>
                    <a:pt x="598" y="433"/>
                  </a:lnTo>
                  <a:lnTo>
                    <a:pt x="583" y="439"/>
                  </a:lnTo>
                  <a:lnTo>
                    <a:pt x="569" y="446"/>
                  </a:lnTo>
                  <a:lnTo>
                    <a:pt x="558" y="454"/>
                  </a:lnTo>
                  <a:lnTo>
                    <a:pt x="546" y="464"/>
                  </a:lnTo>
                  <a:lnTo>
                    <a:pt x="537" y="474"/>
                  </a:lnTo>
                  <a:lnTo>
                    <a:pt x="529" y="485"/>
                  </a:lnTo>
                  <a:lnTo>
                    <a:pt x="523" y="498"/>
                  </a:lnTo>
                  <a:lnTo>
                    <a:pt x="518" y="511"/>
                  </a:lnTo>
                  <a:lnTo>
                    <a:pt x="514" y="525"/>
                  </a:lnTo>
                  <a:lnTo>
                    <a:pt x="512" y="540"/>
                  </a:lnTo>
                  <a:lnTo>
                    <a:pt x="511" y="556"/>
                  </a:lnTo>
                  <a:lnTo>
                    <a:pt x="512" y="565"/>
                  </a:lnTo>
                  <a:lnTo>
                    <a:pt x="513" y="575"/>
                  </a:lnTo>
                  <a:lnTo>
                    <a:pt x="515" y="584"/>
                  </a:lnTo>
                  <a:lnTo>
                    <a:pt x="519" y="594"/>
                  </a:lnTo>
                  <a:lnTo>
                    <a:pt x="523" y="605"/>
                  </a:lnTo>
                  <a:lnTo>
                    <a:pt x="529" y="615"/>
                  </a:lnTo>
                  <a:lnTo>
                    <a:pt x="535" y="625"/>
                  </a:lnTo>
                  <a:lnTo>
                    <a:pt x="543" y="636"/>
                  </a:lnTo>
                  <a:lnTo>
                    <a:pt x="551" y="647"/>
                  </a:lnTo>
                  <a:lnTo>
                    <a:pt x="560" y="657"/>
                  </a:lnTo>
                  <a:lnTo>
                    <a:pt x="570" y="669"/>
                  </a:lnTo>
                  <a:lnTo>
                    <a:pt x="582" y="680"/>
                  </a:lnTo>
                  <a:lnTo>
                    <a:pt x="607" y="704"/>
                  </a:lnTo>
                  <a:lnTo>
                    <a:pt x="636" y="728"/>
                  </a:lnTo>
                  <a:lnTo>
                    <a:pt x="649" y="738"/>
                  </a:lnTo>
                  <a:lnTo>
                    <a:pt x="660" y="747"/>
                  </a:lnTo>
                  <a:lnTo>
                    <a:pt x="671" y="756"/>
                  </a:lnTo>
                  <a:lnTo>
                    <a:pt x="681" y="764"/>
                  </a:lnTo>
                  <a:lnTo>
                    <a:pt x="690" y="772"/>
                  </a:lnTo>
                  <a:lnTo>
                    <a:pt x="699" y="779"/>
                  </a:lnTo>
                  <a:lnTo>
                    <a:pt x="707" y="786"/>
                  </a:lnTo>
                  <a:lnTo>
                    <a:pt x="714" y="793"/>
                  </a:lnTo>
                  <a:lnTo>
                    <a:pt x="738" y="815"/>
                  </a:lnTo>
                  <a:lnTo>
                    <a:pt x="762" y="839"/>
                  </a:lnTo>
                  <a:lnTo>
                    <a:pt x="782" y="862"/>
                  </a:lnTo>
                  <a:lnTo>
                    <a:pt x="803" y="886"/>
                  </a:lnTo>
                  <a:lnTo>
                    <a:pt x="821" y="913"/>
                  </a:lnTo>
                  <a:lnTo>
                    <a:pt x="838" y="939"/>
                  </a:lnTo>
                  <a:lnTo>
                    <a:pt x="854" y="966"/>
                  </a:lnTo>
                  <a:lnTo>
                    <a:pt x="868" y="995"/>
                  </a:lnTo>
                  <a:lnTo>
                    <a:pt x="880" y="1023"/>
                  </a:lnTo>
                  <a:lnTo>
                    <a:pt x="891" y="1053"/>
                  </a:lnTo>
                  <a:lnTo>
                    <a:pt x="900" y="1083"/>
                  </a:lnTo>
                  <a:lnTo>
                    <a:pt x="908" y="1112"/>
                  </a:lnTo>
                  <a:lnTo>
                    <a:pt x="914" y="1143"/>
                  </a:lnTo>
                  <a:lnTo>
                    <a:pt x="918" y="1175"/>
                  </a:lnTo>
                  <a:lnTo>
                    <a:pt x="920" y="1207"/>
                  </a:lnTo>
                  <a:lnTo>
                    <a:pt x="922" y="1239"/>
                  </a:lnTo>
                  <a:lnTo>
                    <a:pt x="920" y="1271"/>
                  </a:lnTo>
                  <a:lnTo>
                    <a:pt x="918" y="1301"/>
                  </a:lnTo>
                  <a:lnTo>
                    <a:pt x="915" y="1332"/>
                  </a:lnTo>
                  <a:lnTo>
                    <a:pt x="910" y="1362"/>
                  </a:lnTo>
                  <a:lnTo>
                    <a:pt x="904" y="1390"/>
                  </a:lnTo>
                  <a:lnTo>
                    <a:pt x="896" y="1418"/>
                  </a:lnTo>
                  <a:lnTo>
                    <a:pt x="887" y="1445"/>
                  </a:lnTo>
                  <a:lnTo>
                    <a:pt x="878" y="1471"/>
                  </a:lnTo>
                  <a:lnTo>
                    <a:pt x="866" y="1496"/>
                  </a:lnTo>
                  <a:lnTo>
                    <a:pt x="853" y="1520"/>
                  </a:lnTo>
                  <a:lnTo>
                    <a:pt x="839" y="1544"/>
                  </a:lnTo>
                  <a:lnTo>
                    <a:pt x="823" y="1566"/>
                  </a:lnTo>
                  <a:lnTo>
                    <a:pt x="806" y="1588"/>
                  </a:lnTo>
                  <a:lnTo>
                    <a:pt x="788" y="1609"/>
                  </a:lnTo>
                  <a:lnTo>
                    <a:pt x="769" y="1629"/>
                  </a:lnTo>
                  <a:lnTo>
                    <a:pt x="748" y="1648"/>
                  </a:lnTo>
                  <a:lnTo>
                    <a:pt x="725" y="1666"/>
                  </a:lnTo>
                  <a:lnTo>
                    <a:pt x="703" y="1682"/>
                  </a:lnTo>
                  <a:lnTo>
                    <a:pt x="677" y="1698"/>
                  </a:lnTo>
                  <a:lnTo>
                    <a:pt x="652" y="1713"/>
                  </a:lnTo>
                  <a:lnTo>
                    <a:pt x="626" y="1727"/>
                  </a:lnTo>
                  <a:lnTo>
                    <a:pt x="599" y="1738"/>
                  </a:lnTo>
                  <a:lnTo>
                    <a:pt x="570" y="1750"/>
                  </a:lnTo>
                  <a:lnTo>
                    <a:pt x="541" y="1759"/>
                  </a:lnTo>
                  <a:lnTo>
                    <a:pt x="510" y="1768"/>
                  </a:lnTo>
                  <a:lnTo>
                    <a:pt x="479" y="1776"/>
                  </a:lnTo>
                  <a:lnTo>
                    <a:pt x="446" y="1782"/>
                  </a:lnTo>
                  <a:lnTo>
                    <a:pt x="413" y="1787"/>
                  </a:lnTo>
                  <a:lnTo>
                    <a:pt x="377" y="1792"/>
                  </a:lnTo>
                  <a:lnTo>
                    <a:pt x="342" y="1794"/>
                  </a:lnTo>
                  <a:lnTo>
                    <a:pt x="306" y="1796"/>
                  </a:lnTo>
                  <a:lnTo>
                    <a:pt x="267" y="1796"/>
                  </a:lnTo>
                  <a:lnTo>
                    <a:pt x="252" y="1796"/>
                  </a:lnTo>
                  <a:lnTo>
                    <a:pt x="236" y="1795"/>
                  </a:lnTo>
                  <a:lnTo>
                    <a:pt x="221" y="1795"/>
                  </a:lnTo>
                  <a:lnTo>
                    <a:pt x="205" y="1794"/>
                  </a:lnTo>
                  <a:lnTo>
                    <a:pt x="190" y="1793"/>
                  </a:lnTo>
                  <a:lnTo>
                    <a:pt x="176" y="1793"/>
                  </a:lnTo>
                  <a:lnTo>
                    <a:pt x="161" y="1792"/>
                  </a:lnTo>
                  <a:lnTo>
                    <a:pt x="146" y="1790"/>
                  </a:lnTo>
                  <a:lnTo>
                    <a:pt x="131" y="1788"/>
                  </a:lnTo>
                  <a:lnTo>
                    <a:pt x="117" y="1787"/>
                  </a:lnTo>
                  <a:lnTo>
                    <a:pt x="103" y="1785"/>
                  </a:lnTo>
                  <a:lnTo>
                    <a:pt x="89" y="1784"/>
                  </a:lnTo>
                  <a:lnTo>
                    <a:pt x="74" y="1782"/>
                  </a:lnTo>
                  <a:lnTo>
                    <a:pt x="60" y="1779"/>
                  </a:lnTo>
                  <a:lnTo>
                    <a:pt x="47" y="1777"/>
                  </a:lnTo>
                  <a:lnTo>
                    <a:pt x="33" y="177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2264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7" h="1801">
                  <a:moveTo>
                    <a:pt x="1153" y="1771"/>
                  </a:moveTo>
                  <a:lnTo>
                    <a:pt x="1140" y="1776"/>
                  </a:lnTo>
                  <a:lnTo>
                    <a:pt x="1127" y="1779"/>
                  </a:lnTo>
                  <a:lnTo>
                    <a:pt x="1114" y="1781"/>
                  </a:lnTo>
                  <a:lnTo>
                    <a:pt x="1100" y="1785"/>
                  </a:lnTo>
                  <a:lnTo>
                    <a:pt x="1087" y="1787"/>
                  </a:lnTo>
                  <a:lnTo>
                    <a:pt x="1073" y="1789"/>
                  </a:lnTo>
                  <a:lnTo>
                    <a:pt x="1059" y="1792"/>
                  </a:lnTo>
                  <a:lnTo>
                    <a:pt x="1046" y="1794"/>
                  </a:lnTo>
                  <a:lnTo>
                    <a:pt x="1031" y="1795"/>
                  </a:lnTo>
                  <a:lnTo>
                    <a:pt x="1016" y="1797"/>
                  </a:lnTo>
                  <a:lnTo>
                    <a:pt x="1001" y="1798"/>
                  </a:lnTo>
                  <a:lnTo>
                    <a:pt x="985" y="1799"/>
                  </a:lnTo>
                  <a:lnTo>
                    <a:pt x="970" y="1799"/>
                  </a:lnTo>
                  <a:lnTo>
                    <a:pt x="954" y="1801"/>
                  </a:lnTo>
                  <a:lnTo>
                    <a:pt x="937" y="1801"/>
                  </a:lnTo>
                  <a:lnTo>
                    <a:pt x="921" y="1801"/>
                  </a:lnTo>
                  <a:lnTo>
                    <a:pt x="870" y="1799"/>
                  </a:lnTo>
                  <a:lnTo>
                    <a:pt x="820" y="1797"/>
                  </a:lnTo>
                  <a:lnTo>
                    <a:pt x="772" y="1793"/>
                  </a:lnTo>
                  <a:lnTo>
                    <a:pt x="725" y="1786"/>
                  </a:lnTo>
                  <a:lnTo>
                    <a:pt x="678" y="1777"/>
                  </a:lnTo>
                  <a:lnTo>
                    <a:pt x="634" y="1766"/>
                  </a:lnTo>
                  <a:lnTo>
                    <a:pt x="612" y="1761"/>
                  </a:lnTo>
                  <a:lnTo>
                    <a:pt x="590" y="1754"/>
                  </a:lnTo>
                  <a:lnTo>
                    <a:pt x="569" y="1747"/>
                  </a:lnTo>
                  <a:lnTo>
                    <a:pt x="548" y="1739"/>
                  </a:lnTo>
                  <a:lnTo>
                    <a:pt x="528" y="1731"/>
                  </a:lnTo>
                  <a:lnTo>
                    <a:pt x="507" y="1723"/>
                  </a:lnTo>
                  <a:lnTo>
                    <a:pt x="487" y="1714"/>
                  </a:lnTo>
                  <a:lnTo>
                    <a:pt x="467" y="1705"/>
                  </a:lnTo>
                  <a:lnTo>
                    <a:pt x="448" y="1695"/>
                  </a:lnTo>
                  <a:lnTo>
                    <a:pt x="429" y="1684"/>
                  </a:lnTo>
                  <a:lnTo>
                    <a:pt x="410" y="1674"/>
                  </a:lnTo>
                  <a:lnTo>
                    <a:pt x="391" y="1663"/>
                  </a:lnTo>
                  <a:lnTo>
                    <a:pt x="373" y="1651"/>
                  </a:lnTo>
                  <a:lnTo>
                    <a:pt x="356" y="1639"/>
                  </a:lnTo>
                  <a:lnTo>
                    <a:pt x="337" y="1626"/>
                  </a:lnTo>
                  <a:lnTo>
                    <a:pt x="320" y="1612"/>
                  </a:lnTo>
                  <a:lnTo>
                    <a:pt x="303" y="1599"/>
                  </a:lnTo>
                  <a:lnTo>
                    <a:pt x="287" y="1585"/>
                  </a:lnTo>
                  <a:lnTo>
                    <a:pt x="270" y="1570"/>
                  </a:lnTo>
                  <a:lnTo>
                    <a:pt x="254" y="1554"/>
                  </a:lnTo>
                  <a:lnTo>
                    <a:pt x="238" y="1540"/>
                  </a:lnTo>
                  <a:lnTo>
                    <a:pt x="223" y="1524"/>
                  </a:lnTo>
                  <a:lnTo>
                    <a:pt x="208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7" y="1457"/>
                  </a:lnTo>
                  <a:lnTo>
                    <a:pt x="155" y="1440"/>
                  </a:lnTo>
                  <a:lnTo>
                    <a:pt x="142" y="1422"/>
                  </a:lnTo>
                  <a:lnTo>
                    <a:pt x="131" y="1405"/>
                  </a:lnTo>
                  <a:lnTo>
                    <a:pt x="119" y="1387"/>
                  </a:lnTo>
                  <a:lnTo>
                    <a:pt x="109" y="1367"/>
                  </a:lnTo>
                  <a:lnTo>
                    <a:pt x="99" y="1349"/>
                  </a:lnTo>
                  <a:lnTo>
                    <a:pt x="89" y="1330"/>
                  </a:lnTo>
                  <a:lnTo>
                    <a:pt x="79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8" y="1230"/>
                  </a:lnTo>
                  <a:lnTo>
                    <a:pt x="42" y="1210"/>
                  </a:lnTo>
                  <a:lnTo>
                    <a:pt x="35" y="1188"/>
                  </a:lnTo>
                  <a:lnTo>
                    <a:pt x="29" y="1168"/>
                  </a:lnTo>
                  <a:lnTo>
                    <a:pt x="24" y="1146"/>
                  </a:lnTo>
                  <a:lnTo>
                    <a:pt x="19" y="1124"/>
                  </a:lnTo>
                  <a:lnTo>
                    <a:pt x="16" y="1102"/>
                  </a:lnTo>
                  <a:lnTo>
                    <a:pt x="11" y="1079"/>
                  </a:lnTo>
                  <a:lnTo>
                    <a:pt x="9" y="1056"/>
                  </a:lnTo>
                  <a:lnTo>
                    <a:pt x="5" y="1033"/>
                  </a:lnTo>
                  <a:lnTo>
                    <a:pt x="3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3" y="817"/>
                  </a:lnTo>
                  <a:lnTo>
                    <a:pt x="9" y="770"/>
                  </a:lnTo>
                  <a:lnTo>
                    <a:pt x="16" y="724"/>
                  </a:lnTo>
                  <a:lnTo>
                    <a:pt x="20" y="701"/>
                  </a:lnTo>
                  <a:lnTo>
                    <a:pt x="25" y="680"/>
                  </a:lnTo>
                  <a:lnTo>
                    <a:pt x="30" y="657"/>
                  </a:lnTo>
                  <a:lnTo>
                    <a:pt x="36" y="635"/>
                  </a:lnTo>
                  <a:lnTo>
                    <a:pt x="43" y="615"/>
                  </a:lnTo>
                  <a:lnTo>
                    <a:pt x="50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4" y="531"/>
                  </a:lnTo>
                  <a:lnTo>
                    <a:pt x="83" y="511"/>
                  </a:lnTo>
                  <a:lnTo>
                    <a:pt x="92" y="492"/>
                  </a:lnTo>
                  <a:lnTo>
                    <a:pt x="102" y="472"/>
                  </a:lnTo>
                  <a:lnTo>
                    <a:pt x="113" y="453"/>
                  </a:lnTo>
                  <a:lnTo>
                    <a:pt x="124" y="433"/>
                  </a:lnTo>
                  <a:lnTo>
                    <a:pt x="135" y="415"/>
                  </a:lnTo>
                  <a:lnTo>
                    <a:pt x="148" y="397"/>
                  </a:lnTo>
                  <a:lnTo>
                    <a:pt x="160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2" y="325"/>
                  </a:lnTo>
                  <a:lnTo>
                    <a:pt x="231" y="291"/>
                  </a:lnTo>
                  <a:lnTo>
                    <a:pt x="263" y="258"/>
                  </a:lnTo>
                  <a:lnTo>
                    <a:pt x="280" y="243"/>
                  </a:lnTo>
                  <a:lnTo>
                    <a:pt x="297" y="227"/>
                  </a:lnTo>
                  <a:lnTo>
                    <a:pt x="314" y="212"/>
                  </a:lnTo>
                  <a:lnTo>
                    <a:pt x="332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6" y="157"/>
                  </a:lnTo>
                  <a:lnTo>
                    <a:pt x="405" y="145"/>
                  </a:lnTo>
                  <a:lnTo>
                    <a:pt x="424" y="134"/>
                  </a:lnTo>
                  <a:lnTo>
                    <a:pt x="442" y="122"/>
                  </a:lnTo>
                  <a:lnTo>
                    <a:pt x="462" y="111"/>
                  </a:lnTo>
                  <a:lnTo>
                    <a:pt x="482" y="100"/>
                  </a:lnTo>
                  <a:lnTo>
                    <a:pt x="502" y="91"/>
                  </a:lnTo>
                  <a:lnTo>
                    <a:pt x="522" y="81"/>
                  </a:lnTo>
                  <a:lnTo>
                    <a:pt x="543" y="73"/>
                  </a:lnTo>
                  <a:lnTo>
                    <a:pt x="564" y="64"/>
                  </a:lnTo>
                  <a:lnTo>
                    <a:pt x="606" y="49"/>
                  </a:lnTo>
                  <a:lnTo>
                    <a:pt x="650" y="37"/>
                  </a:lnTo>
                  <a:lnTo>
                    <a:pt x="695" y="25"/>
                  </a:lnTo>
                  <a:lnTo>
                    <a:pt x="741" y="16"/>
                  </a:lnTo>
                  <a:lnTo>
                    <a:pt x="788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3" y="0"/>
                  </a:lnTo>
                  <a:lnTo>
                    <a:pt x="985" y="1"/>
                  </a:lnTo>
                  <a:lnTo>
                    <a:pt x="998" y="2"/>
                  </a:lnTo>
                  <a:lnTo>
                    <a:pt x="1010" y="4"/>
                  </a:lnTo>
                  <a:lnTo>
                    <a:pt x="1023" y="5"/>
                  </a:lnTo>
                  <a:lnTo>
                    <a:pt x="1036" y="6"/>
                  </a:lnTo>
                  <a:lnTo>
                    <a:pt x="1049" y="7"/>
                  </a:lnTo>
                  <a:lnTo>
                    <a:pt x="1063" y="9"/>
                  </a:lnTo>
                  <a:lnTo>
                    <a:pt x="1076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7" y="18"/>
                  </a:lnTo>
                  <a:lnTo>
                    <a:pt x="1131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4" y="535"/>
                  </a:lnTo>
                  <a:lnTo>
                    <a:pt x="1138" y="528"/>
                  </a:lnTo>
                  <a:lnTo>
                    <a:pt x="1123" y="522"/>
                  </a:lnTo>
                  <a:lnTo>
                    <a:pt x="1108" y="518"/>
                  </a:lnTo>
                  <a:lnTo>
                    <a:pt x="1092" y="512"/>
                  </a:lnTo>
                  <a:lnTo>
                    <a:pt x="1078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2" y="497"/>
                  </a:lnTo>
                  <a:lnTo>
                    <a:pt x="1017" y="495"/>
                  </a:lnTo>
                  <a:lnTo>
                    <a:pt x="1003" y="493"/>
                  </a:lnTo>
                  <a:lnTo>
                    <a:pt x="989" y="490"/>
                  </a:lnTo>
                  <a:lnTo>
                    <a:pt x="974" y="489"/>
                  </a:lnTo>
                  <a:lnTo>
                    <a:pt x="960" y="488"/>
                  </a:lnTo>
                  <a:lnTo>
                    <a:pt x="945" y="488"/>
                  </a:lnTo>
                  <a:lnTo>
                    <a:pt x="932" y="487"/>
                  </a:lnTo>
                  <a:lnTo>
                    <a:pt x="906" y="488"/>
                  </a:lnTo>
                  <a:lnTo>
                    <a:pt x="881" y="489"/>
                  </a:lnTo>
                  <a:lnTo>
                    <a:pt x="857" y="492"/>
                  </a:lnTo>
                  <a:lnTo>
                    <a:pt x="833" y="495"/>
                  </a:lnTo>
                  <a:lnTo>
                    <a:pt x="811" y="498"/>
                  </a:lnTo>
                  <a:lnTo>
                    <a:pt x="788" y="504"/>
                  </a:lnTo>
                  <a:lnTo>
                    <a:pt x="766" y="510"/>
                  </a:lnTo>
                  <a:lnTo>
                    <a:pt x="746" y="517"/>
                  </a:lnTo>
                  <a:lnTo>
                    <a:pt x="725" y="524"/>
                  </a:lnTo>
                  <a:lnTo>
                    <a:pt x="705" y="533"/>
                  </a:lnTo>
                  <a:lnTo>
                    <a:pt x="685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0" y="576"/>
                  </a:lnTo>
                  <a:lnTo>
                    <a:pt x="613" y="588"/>
                  </a:lnTo>
                  <a:lnTo>
                    <a:pt x="597" y="603"/>
                  </a:lnTo>
                  <a:lnTo>
                    <a:pt x="581" y="617"/>
                  </a:lnTo>
                  <a:lnTo>
                    <a:pt x="567" y="633"/>
                  </a:lnTo>
                  <a:lnTo>
                    <a:pt x="553" y="649"/>
                  </a:lnTo>
                  <a:lnTo>
                    <a:pt x="540" y="665"/>
                  </a:lnTo>
                  <a:lnTo>
                    <a:pt x="529" y="681"/>
                  </a:lnTo>
                  <a:lnTo>
                    <a:pt x="519" y="698"/>
                  </a:lnTo>
                  <a:lnTo>
                    <a:pt x="510" y="716"/>
                  </a:lnTo>
                  <a:lnTo>
                    <a:pt x="500" y="734"/>
                  </a:lnTo>
                  <a:lnTo>
                    <a:pt x="492" y="753"/>
                  </a:lnTo>
                  <a:lnTo>
                    <a:pt x="487" y="772"/>
                  </a:lnTo>
                  <a:lnTo>
                    <a:pt x="481" y="791"/>
                  </a:lnTo>
                  <a:lnTo>
                    <a:pt x="476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68" y="875"/>
                  </a:lnTo>
                  <a:lnTo>
                    <a:pt x="468" y="896"/>
                  </a:lnTo>
                  <a:lnTo>
                    <a:pt x="468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6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2" y="1041"/>
                  </a:lnTo>
                  <a:lnTo>
                    <a:pt x="500" y="1059"/>
                  </a:lnTo>
                  <a:lnTo>
                    <a:pt x="508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0" y="1130"/>
                  </a:lnTo>
                  <a:lnTo>
                    <a:pt x="553" y="1147"/>
                  </a:lnTo>
                  <a:lnTo>
                    <a:pt x="567" y="1163"/>
                  </a:lnTo>
                  <a:lnTo>
                    <a:pt x="580" y="1178"/>
                  </a:lnTo>
                  <a:lnTo>
                    <a:pt x="596" y="1194"/>
                  </a:lnTo>
                  <a:lnTo>
                    <a:pt x="612" y="1208"/>
                  </a:lnTo>
                  <a:lnTo>
                    <a:pt x="629" y="1221"/>
                  </a:lnTo>
                  <a:lnTo>
                    <a:pt x="646" y="1234"/>
                  </a:lnTo>
                  <a:lnTo>
                    <a:pt x="663" y="1246"/>
                  </a:lnTo>
                  <a:lnTo>
                    <a:pt x="682" y="1257"/>
                  </a:lnTo>
                  <a:lnTo>
                    <a:pt x="701" y="1267"/>
                  </a:lnTo>
                  <a:lnTo>
                    <a:pt x="721" y="1275"/>
                  </a:lnTo>
                  <a:lnTo>
                    <a:pt x="740" y="1283"/>
                  </a:lnTo>
                  <a:lnTo>
                    <a:pt x="760" y="1291"/>
                  </a:lnTo>
                  <a:lnTo>
                    <a:pt x="781" y="1297"/>
                  </a:lnTo>
                  <a:lnTo>
                    <a:pt x="803" y="1301"/>
                  </a:lnTo>
                  <a:lnTo>
                    <a:pt x="824" y="1306"/>
                  </a:lnTo>
                  <a:lnTo>
                    <a:pt x="846" y="1309"/>
                  </a:lnTo>
                  <a:lnTo>
                    <a:pt x="869" y="1311"/>
                  </a:lnTo>
                  <a:lnTo>
                    <a:pt x="892" y="1313"/>
                  </a:lnTo>
                  <a:lnTo>
                    <a:pt x="916" y="1313"/>
                  </a:lnTo>
                  <a:lnTo>
                    <a:pt x="933" y="1313"/>
                  </a:lnTo>
                  <a:lnTo>
                    <a:pt x="950" y="1313"/>
                  </a:lnTo>
                  <a:lnTo>
                    <a:pt x="967" y="1310"/>
                  </a:lnTo>
                  <a:lnTo>
                    <a:pt x="985" y="1309"/>
                  </a:lnTo>
                  <a:lnTo>
                    <a:pt x="1001" y="1306"/>
                  </a:lnTo>
                  <a:lnTo>
                    <a:pt x="1018" y="1303"/>
                  </a:lnTo>
                  <a:lnTo>
                    <a:pt x="1035" y="1300"/>
                  </a:lnTo>
                  <a:lnTo>
                    <a:pt x="1052" y="1295"/>
                  </a:lnTo>
                  <a:lnTo>
                    <a:pt x="1070" y="1291"/>
                  </a:lnTo>
                  <a:lnTo>
                    <a:pt x="1087" y="1285"/>
                  </a:lnTo>
                  <a:lnTo>
                    <a:pt x="1104" y="1280"/>
                  </a:lnTo>
                  <a:lnTo>
                    <a:pt x="1120" y="1274"/>
                  </a:lnTo>
                  <a:lnTo>
                    <a:pt x="1137" y="1267"/>
                  </a:lnTo>
                  <a:lnTo>
                    <a:pt x="1154" y="1259"/>
                  </a:lnTo>
                  <a:lnTo>
                    <a:pt x="1171" y="1251"/>
                  </a:lnTo>
                  <a:lnTo>
                    <a:pt x="1187" y="1243"/>
                  </a:lnTo>
                  <a:lnTo>
                    <a:pt x="1153" y="177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578400" y="1058760"/>
              <a:ext cx="406080" cy="554040"/>
            </a:xfrm>
            <a:custGeom>
              <a:avLst/>
              <a:gdLst/>
              <a:ahLst/>
              <a:rect l="l" t="t" r="r" b="b"/>
              <a:pathLst>
                <a:path w="1282" h="1741">
                  <a:moveTo>
                    <a:pt x="0" y="1741"/>
                  </a:moveTo>
                  <a:lnTo>
                    <a:pt x="0" y="0"/>
                  </a:lnTo>
                  <a:lnTo>
                    <a:pt x="450" y="0"/>
                  </a:lnTo>
                  <a:lnTo>
                    <a:pt x="450" y="609"/>
                  </a:lnTo>
                  <a:lnTo>
                    <a:pt x="830" y="609"/>
                  </a:lnTo>
                  <a:lnTo>
                    <a:pt x="830" y="0"/>
                  </a:lnTo>
                  <a:lnTo>
                    <a:pt x="1282" y="0"/>
                  </a:lnTo>
                  <a:lnTo>
                    <a:pt x="1282" y="1741"/>
                  </a:lnTo>
                  <a:lnTo>
                    <a:pt x="830" y="1741"/>
                  </a:lnTo>
                  <a:lnTo>
                    <a:pt x="830" y="1064"/>
                  </a:lnTo>
                  <a:lnTo>
                    <a:pt x="450" y="1064"/>
                  </a:lnTo>
                  <a:lnTo>
                    <a:pt x="450" y="1741"/>
                  </a:lnTo>
                  <a:lnTo>
                    <a:pt x="0" y="174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202280" y="1198440"/>
              <a:ext cx="263520" cy="273240"/>
            </a:xfrm>
            <a:custGeom>
              <a:avLst/>
              <a:gdLst/>
              <a:ahLst/>
              <a:rect l="l" t="t" r="r" b="b"/>
              <a:pathLst>
                <a:path w="828" h="862">
                  <a:moveTo>
                    <a:pt x="414" y="0"/>
                  </a:moveTo>
                  <a:lnTo>
                    <a:pt x="392" y="0"/>
                  </a:lnTo>
                  <a:lnTo>
                    <a:pt x="371" y="1"/>
                  </a:lnTo>
                  <a:lnTo>
                    <a:pt x="350" y="3"/>
                  </a:lnTo>
                  <a:lnTo>
                    <a:pt x="330" y="6"/>
                  </a:lnTo>
                  <a:lnTo>
                    <a:pt x="309" y="11"/>
                  </a:lnTo>
                  <a:lnTo>
                    <a:pt x="290" y="17"/>
                  </a:lnTo>
                  <a:lnTo>
                    <a:pt x="270" y="24"/>
                  </a:lnTo>
                  <a:lnTo>
                    <a:pt x="252" y="30"/>
                  </a:lnTo>
                  <a:lnTo>
                    <a:pt x="234" y="38"/>
                  </a:lnTo>
                  <a:lnTo>
                    <a:pt x="216" y="48"/>
                  </a:lnTo>
                  <a:lnTo>
                    <a:pt x="198" y="58"/>
                  </a:lnTo>
                  <a:lnTo>
                    <a:pt x="181" y="69"/>
                  </a:lnTo>
                  <a:lnTo>
                    <a:pt x="165" y="82"/>
                  </a:lnTo>
                  <a:lnTo>
                    <a:pt x="149" y="94"/>
                  </a:lnTo>
                  <a:lnTo>
                    <a:pt x="133" y="108"/>
                  </a:lnTo>
                  <a:lnTo>
                    <a:pt x="119" y="124"/>
                  </a:lnTo>
                  <a:lnTo>
                    <a:pt x="104" y="139"/>
                  </a:lnTo>
                  <a:lnTo>
                    <a:pt x="90" y="156"/>
                  </a:lnTo>
                  <a:lnTo>
                    <a:pt x="78" y="172"/>
                  </a:lnTo>
                  <a:lnTo>
                    <a:pt x="66" y="189"/>
                  </a:lnTo>
                  <a:lnTo>
                    <a:pt x="56" y="207"/>
                  </a:lnTo>
                  <a:lnTo>
                    <a:pt x="46" y="225"/>
                  </a:lnTo>
                  <a:lnTo>
                    <a:pt x="38" y="244"/>
                  </a:lnTo>
                  <a:lnTo>
                    <a:pt x="30" y="263"/>
                  </a:lnTo>
                  <a:lnTo>
                    <a:pt x="23" y="282"/>
                  </a:lnTo>
                  <a:lnTo>
                    <a:pt x="16" y="302"/>
                  </a:lnTo>
                  <a:lnTo>
                    <a:pt x="11" y="322"/>
                  </a:lnTo>
                  <a:lnTo>
                    <a:pt x="7" y="343"/>
                  </a:lnTo>
                  <a:lnTo>
                    <a:pt x="3" y="365"/>
                  </a:lnTo>
                  <a:lnTo>
                    <a:pt x="1" y="386"/>
                  </a:lnTo>
                  <a:lnTo>
                    <a:pt x="0" y="408"/>
                  </a:lnTo>
                  <a:lnTo>
                    <a:pt x="0" y="431"/>
                  </a:lnTo>
                  <a:lnTo>
                    <a:pt x="0" y="453"/>
                  </a:lnTo>
                  <a:lnTo>
                    <a:pt x="1" y="476"/>
                  </a:lnTo>
                  <a:lnTo>
                    <a:pt x="3" y="498"/>
                  </a:lnTo>
                  <a:lnTo>
                    <a:pt x="7" y="518"/>
                  </a:lnTo>
                  <a:lnTo>
                    <a:pt x="11" y="540"/>
                  </a:lnTo>
                  <a:lnTo>
                    <a:pt x="16" y="560"/>
                  </a:lnTo>
                  <a:lnTo>
                    <a:pt x="22" y="580"/>
                  </a:lnTo>
                  <a:lnTo>
                    <a:pt x="30" y="599"/>
                  </a:lnTo>
                  <a:lnTo>
                    <a:pt x="36" y="619"/>
                  </a:lnTo>
                  <a:lnTo>
                    <a:pt x="46" y="637"/>
                  </a:lnTo>
                  <a:lnTo>
                    <a:pt x="56" y="655"/>
                  </a:lnTo>
                  <a:lnTo>
                    <a:pt x="66" y="672"/>
                  </a:lnTo>
                  <a:lnTo>
                    <a:pt x="78" y="690"/>
                  </a:lnTo>
                  <a:lnTo>
                    <a:pt x="90" y="707"/>
                  </a:lnTo>
                  <a:lnTo>
                    <a:pt x="104" y="723"/>
                  </a:lnTo>
                  <a:lnTo>
                    <a:pt x="119" y="737"/>
                  </a:lnTo>
                  <a:lnTo>
                    <a:pt x="133" y="753"/>
                  </a:lnTo>
                  <a:lnTo>
                    <a:pt x="148" y="767"/>
                  </a:lnTo>
                  <a:lnTo>
                    <a:pt x="164" y="780"/>
                  </a:lnTo>
                  <a:lnTo>
                    <a:pt x="181" y="792"/>
                  </a:lnTo>
                  <a:lnTo>
                    <a:pt x="197" y="804"/>
                  </a:lnTo>
                  <a:lnTo>
                    <a:pt x="216" y="814"/>
                  </a:lnTo>
                  <a:lnTo>
                    <a:pt x="233" y="823"/>
                  </a:lnTo>
                  <a:lnTo>
                    <a:pt x="251" y="831"/>
                  </a:lnTo>
                  <a:lnTo>
                    <a:pt x="270" y="838"/>
                  </a:lnTo>
                  <a:lnTo>
                    <a:pt x="289" y="845"/>
                  </a:lnTo>
                  <a:lnTo>
                    <a:pt x="309" y="850"/>
                  </a:lnTo>
                  <a:lnTo>
                    <a:pt x="328" y="854"/>
                  </a:lnTo>
                  <a:lnTo>
                    <a:pt x="349" y="857"/>
                  </a:lnTo>
                  <a:lnTo>
                    <a:pt x="371" y="859"/>
                  </a:lnTo>
                  <a:lnTo>
                    <a:pt x="392" y="862"/>
                  </a:lnTo>
                  <a:lnTo>
                    <a:pt x="414" y="862"/>
                  </a:lnTo>
                  <a:lnTo>
                    <a:pt x="436" y="862"/>
                  </a:lnTo>
                  <a:lnTo>
                    <a:pt x="457" y="859"/>
                  </a:lnTo>
                  <a:lnTo>
                    <a:pt x="478" y="857"/>
                  </a:lnTo>
                  <a:lnTo>
                    <a:pt x="498" y="854"/>
                  </a:lnTo>
                  <a:lnTo>
                    <a:pt x="518" y="850"/>
                  </a:lnTo>
                  <a:lnTo>
                    <a:pt x="538" y="845"/>
                  </a:lnTo>
                  <a:lnTo>
                    <a:pt x="557" y="838"/>
                  </a:lnTo>
                  <a:lnTo>
                    <a:pt x="576" y="831"/>
                  </a:lnTo>
                  <a:lnTo>
                    <a:pt x="594" y="823"/>
                  </a:lnTo>
                  <a:lnTo>
                    <a:pt x="611" y="814"/>
                  </a:lnTo>
                  <a:lnTo>
                    <a:pt x="628" y="804"/>
                  </a:lnTo>
                  <a:lnTo>
                    <a:pt x="646" y="792"/>
                  </a:lnTo>
                  <a:lnTo>
                    <a:pt x="663" y="780"/>
                  </a:lnTo>
                  <a:lnTo>
                    <a:pt x="679" y="767"/>
                  </a:lnTo>
                  <a:lnTo>
                    <a:pt x="695" y="752"/>
                  </a:lnTo>
                  <a:lnTo>
                    <a:pt x="709" y="737"/>
                  </a:lnTo>
                  <a:lnTo>
                    <a:pt x="723" y="721"/>
                  </a:lnTo>
                  <a:lnTo>
                    <a:pt x="737" y="705"/>
                  </a:lnTo>
                  <a:lnTo>
                    <a:pt x="749" y="688"/>
                  </a:lnTo>
                  <a:lnTo>
                    <a:pt x="761" y="671"/>
                  </a:lnTo>
                  <a:lnTo>
                    <a:pt x="772" y="654"/>
                  </a:lnTo>
                  <a:lnTo>
                    <a:pt x="781" y="636"/>
                  </a:lnTo>
                  <a:lnTo>
                    <a:pt x="790" y="618"/>
                  </a:lnTo>
                  <a:lnTo>
                    <a:pt x="798" y="598"/>
                  </a:lnTo>
                  <a:lnTo>
                    <a:pt x="805" y="579"/>
                  </a:lnTo>
                  <a:lnTo>
                    <a:pt x="811" y="560"/>
                  </a:lnTo>
                  <a:lnTo>
                    <a:pt x="817" y="539"/>
                  </a:lnTo>
                  <a:lnTo>
                    <a:pt x="821" y="518"/>
                  </a:lnTo>
                  <a:lnTo>
                    <a:pt x="824" y="497"/>
                  </a:lnTo>
                  <a:lnTo>
                    <a:pt x="827" y="475"/>
                  </a:lnTo>
                  <a:lnTo>
                    <a:pt x="828" y="453"/>
                  </a:lnTo>
                  <a:lnTo>
                    <a:pt x="828" y="431"/>
                  </a:lnTo>
                  <a:lnTo>
                    <a:pt x="828" y="409"/>
                  </a:lnTo>
                  <a:lnTo>
                    <a:pt x="827" y="386"/>
                  </a:lnTo>
                  <a:lnTo>
                    <a:pt x="824" y="365"/>
                  </a:lnTo>
                  <a:lnTo>
                    <a:pt x="821" y="344"/>
                  </a:lnTo>
                  <a:lnTo>
                    <a:pt x="817" y="323"/>
                  </a:lnTo>
                  <a:lnTo>
                    <a:pt x="811" y="303"/>
                  </a:lnTo>
                  <a:lnTo>
                    <a:pt x="805" y="282"/>
                  </a:lnTo>
                  <a:lnTo>
                    <a:pt x="798" y="263"/>
                  </a:lnTo>
                  <a:lnTo>
                    <a:pt x="790" y="245"/>
                  </a:lnTo>
                  <a:lnTo>
                    <a:pt x="781" y="225"/>
                  </a:lnTo>
                  <a:lnTo>
                    <a:pt x="772" y="208"/>
                  </a:lnTo>
                  <a:lnTo>
                    <a:pt x="761" y="190"/>
                  </a:lnTo>
                  <a:lnTo>
                    <a:pt x="749" y="173"/>
                  </a:lnTo>
                  <a:lnTo>
                    <a:pt x="737" y="156"/>
                  </a:lnTo>
                  <a:lnTo>
                    <a:pt x="723" y="140"/>
                  </a:lnTo>
                  <a:lnTo>
                    <a:pt x="709" y="124"/>
                  </a:lnTo>
                  <a:lnTo>
                    <a:pt x="695" y="109"/>
                  </a:lnTo>
                  <a:lnTo>
                    <a:pt x="679" y="95"/>
                  </a:lnTo>
                  <a:lnTo>
                    <a:pt x="663" y="82"/>
                  </a:lnTo>
                  <a:lnTo>
                    <a:pt x="646" y="69"/>
                  </a:lnTo>
                  <a:lnTo>
                    <a:pt x="628" y="59"/>
                  </a:lnTo>
                  <a:lnTo>
                    <a:pt x="611" y="49"/>
                  </a:lnTo>
                  <a:lnTo>
                    <a:pt x="594" y="38"/>
                  </a:lnTo>
                  <a:lnTo>
                    <a:pt x="576" y="30"/>
                  </a:lnTo>
                  <a:lnTo>
                    <a:pt x="557" y="24"/>
                  </a:lnTo>
                  <a:lnTo>
                    <a:pt x="538" y="17"/>
                  </a:lnTo>
                  <a:lnTo>
                    <a:pt x="518" y="11"/>
                  </a:lnTo>
                  <a:lnTo>
                    <a:pt x="498" y="6"/>
                  </a:lnTo>
                  <a:lnTo>
                    <a:pt x="478" y="3"/>
                  </a:lnTo>
                  <a:lnTo>
                    <a:pt x="457" y="1"/>
                  </a:lnTo>
                  <a:lnTo>
                    <a:pt x="436" y="0"/>
                  </a:lnTo>
                  <a:lnTo>
                    <a:pt x="414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052880" y="1044720"/>
              <a:ext cx="560520" cy="582480"/>
            </a:xfrm>
            <a:custGeom>
              <a:avLst/>
              <a:gdLst/>
              <a:ahLst/>
              <a:rect l="l" t="t" r="r" b="b"/>
              <a:pathLst>
                <a:path w="1765" h="1835">
                  <a:moveTo>
                    <a:pt x="881" y="0"/>
                  </a:moveTo>
                  <a:lnTo>
                    <a:pt x="922" y="1"/>
                  </a:lnTo>
                  <a:lnTo>
                    <a:pt x="962" y="3"/>
                  </a:lnTo>
                  <a:lnTo>
                    <a:pt x="1002" y="8"/>
                  </a:lnTo>
                  <a:lnTo>
                    <a:pt x="1042" y="14"/>
                  </a:lnTo>
                  <a:lnTo>
                    <a:pt x="1080" y="22"/>
                  </a:lnTo>
                  <a:lnTo>
                    <a:pt x="1119" y="32"/>
                  </a:lnTo>
                  <a:lnTo>
                    <a:pt x="1157" y="43"/>
                  </a:lnTo>
                  <a:lnTo>
                    <a:pt x="1194" y="56"/>
                  </a:lnTo>
                  <a:lnTo>
                    <a:pt x="1231" y="71"/>
                  </a:lnTo>
                  <a:lnTo>
                    <a:pt x="1267" y="87"/>
                  </a:lnTo>
                  <a:lnTo>
                    <a:pt x="1302" y="105"/>
                  </a:lnTo>
                  <a:lnTo>
                    <a:pt x="1335" y="124"/>
                  </a:lnTo>
                  <a:lnTo>
                    <a:pt x="1367" y="145"/>
                  </a:lnTo>
                  <a:lnTo>
                    <a:pt x="1397" y="168"/>
                  </a:lnTo>
                  <a:lnTo>
                    <a:pt x="1427" y="192"/>
                  </a:lnTo>
                  <a:lnTo>
                    <a:pt x="1456" y="217"/>
                  </a:lnTo>
                  <a:lnTo>
                    <a:pt x="1474" y="234"/>
                  </a:lnTo>
                  <a:lnTo>
                    <a:pt x="1492" y="252"/>
                  </a:lnTo>
                  <a:lnTo>
                    <a:pt x="1509" y="269"/>
                  </a:lnTo>
                  <a:lnTo>
                    <a:pt x="1526" y="287"/>
                  </a:lnTo>
                  <a:lnTo>
                    <a:pt x="1542" y="307"/>
                  </a:lnTo>
                  <a:lnTo>
                    <a:pt x="1558" y="325"/>
                  </a:lnTo>
                  <a:lnTo>
                    <a:pt x="1573" y="344"/>
                  </a:lnTo>
                  <a:lnTo>
                    <a:pt x="1588" y="365"/>
                  </a:lnTo>
                  <a:lnTo>
                    <a:pt x="1602" y="384"/>
                  </a:lnTo>
                  <a:lnTo>
                    <a:pt x="1615" y="405"/>
                  </a:lnTo>
                  <a:lnTo>
                    <a:pt x="1628" y="425"/>
                  </a:lnTo>
                  <a:lnTo>
                    <a:pt x="1640" y="446"/>
                  </a:lnTo>
                  <a:lnTo>
                    <a:pt x="1653" y="468"/>
                  </a:lnTo>
                  <a:lnTo>
                    <a:pt x="1664" y="489"/>
                  </a:lnTo>
                  <a:lnTo>
                    <a:pt x="1675" y="512"/>
                  </a:lnTo>
                  <a:lnTo>
                    <a:pt x="1685" y="534"/>
                  </a:lnTo>
                  <a:lnTo>
                    <a:pt x="1695" y="556"/>
                  </a:lnTo>
                  <a:lnTo>
                    <a:pt x="1704" y="579"/>
                  </a:lnTo>
                  <a:lnTo>
                    <a:pt x="1712" y="603"/>
                  </a:lnTo>
                  <a:lnTo>
                    <a:pt x="1720" y="626"/>
                  </a:lnTo>
                  <a:lnTo>
                    <a:pt x="1727" y="649"/>
                  </a:lnTo>
                  <a:lnTo>
                    <a:pt x="1734" y="673"/>
                  </a:lnTo>
                  <a:lnTo>
                    <a:pt x="1740" y="697"/>
                  </a:lnTo>
                  <a:lnTo>
                    <a:pt x="1745" y="721"/>
                  </a:lnTo>
                  <a:lnTo>
                    <a:pt x="1750" y="745"/>
                  </a:lnTo>
                  <a:lnTo>
                    <a:pt x="1753" y="769"/>
                  </a:lnTo>
                  <a:lnTo>
                    <a:pt x="1757" y="793"/>
                  </a:lnTo>
                  <a:lnTo>
                    <a:pt x="1760" y="818"/>
                  </a:lnTo>
                  <a:lnTo>
                    <a:pt x="1762" y="842"/>
                  </a:lnTo>
                  <a:lnTo>
                    <a:pt x="1764" y="867"/>
                  </a:lnTo>
                  <a:lnTo>
                    <a:pt x="1765" y="892"/>
                  </a:lnTo>
                  <a:lnTo>
                    <a:pt x="1765" y="917"/>
                  </a:lnTo>
                  <a:lnTo>
                    <a:pt x="1765" y="942"/>
                  </a:lnTo>
                  <a:lnTo>
                    <a:pt x="1764" y="966"/>
                  </a:lnTo>
                  <a:lnTo>
                    <a:pt x="1762" y="991"/>
                  </a:lnTo>
                  <a:lnTo>
                    <a:pt x="1760" y="1016"/>
                  </a:lnTo>
                  <a:lnTo>
                    <a:pt x="1757" y="1040"/>
                  </a:lnTo>
                  <a:lnTo>
                    <a:pt x="1753" y="1064"/>
                  </a:lnTo>
                  <a:lnTo>
                    <a:pt x="1750" y="1089"/>
                  </a:lnTo>
                  <a:lnTo>
                    <a:pt x="1745" y="1113"/>
                  </a:lnTo>
                  <a:lnTo>
                    <a:pt x="1740" y="1137"/>
                  </a:lnTo>
                  <a:lnTo>
                    <a:pt x="1734" y="1160"/>
                  </a:lnTo>
                  <a:lnTo>
                    <a:pt x="1727" y="1184"/>
                  </a:lnTo>
                  <a:lnTo>
                    <a:pt x="1719" y="1208"/>
                  </a:lnTo>
                  <a:lnTo>
                    <a:pt x="1711" y="1230"/>
                  </a:lnTo>
                  <a:lnTo>
                    <a:pt x="1703" y="1253"/>
                  </a:lnTo>
                  <a:lnTo>
                    <a:pt x="1694" y="1276"/>
                  </a:lnTo>
                  <a:lnTo>
                    <a:pt x="1685" y="1299"/>
                  </a:lnTo>
                  <a:lnTo>
                    <a:pt x="1675" y="1322"/>
                  </a:lnTo>
                  <a:lnTo>
                    <a:pt x="1663" y="1344"/>
                  </a:lnTo>
                  <a:lnTo>
                    <a:pt x="1652" y="1366"/>
                  </a:lnTo>
                  <a:lnTo>
                    <a:pt x="1640" y="1388"/>
                  </a:lnTo>
                  <a:lnTo>
                    <a:pt x="1628" y="1408"/>
                  </a:lnTo>
                  <a:lnTo>
                    <a:pt x="1614" y="1430"/>
                  </a:lnTo>
                  <a:lnTo>
                    <a:pt x="1600" y="1450"/>
                  </a:lnTo>
                  <a:lnTo>
                    <a:pt x="1587" y="1470"/>
                  </a:lnTo>
                  <a:lnTo>
                    <a:pt x="1572" y="1489"/>
                  </a:lnTo>
                  <a:lnTo>
                    <a:pt x="1557" y="1509"/>
                  </a:lnTo>
                  <a:lnTo>
                    <a:pt x="1541" y="1528"/>
                  </a:lnTo>
                  <a:lnTo>
                    <a:pt x="1525" y="1547"/>
                  </a:lnTo>
                  <a:lnTo>
                    <a:pt x="1508" y="1566"/>
                  </a:lnTo>
                  <a:lnTo>
                    <a:pt x="1491" y="1583"/>
                  </a:lnTo>
                  <a:lnTo>
                    <a:pt x="1474" y="1601"/>
                  </a:lnTo>
                  <a:lnTo>
                    <a:pt x="1456" y="1618"/>
                  </a:lnTo>
                  <a:lnTo>
                    <a:pt x="1426" y="1643"/>
                  </a:lnTo>
                  <a:lnTo>
                    <a:pt x="1396" y="1667"/>
                  </a:lnTo>
                  <a:lnTo>
                    <a:pt x="1364" y="1690"/>
                  </a:lnTo>
                  <a:lnTo>
                    <a:pt x="1332" y="1710"/>
                  </a:lnTo>
                  <a:lnTo>
                    <a:pt x="1299" y="1730"/>
                  </a:lnTo>
                  <a:lnTo>
                    <a:pt x="1265" y="1748"/>
                  </a:lnTo>
                  <a:lnTo>
                    <a:pt x="1230" y="1764"/>
                  </a:lnTo>
                  <a:lnTo>
                    <a:pt x="1193" y="1779"/>
                  </a:lnTo>
                  <a:lnTo>
                    <a:pt x="1156" y="1791"/>
                  </a:lnTo>
                  <a:lnTo>
                    <a:pt x="1118" y="1803"/>
                  </a:lnTo>
                  <a:lnTo>
                    <a:pt x="1079" y="1813"/>
                  </a:lnTo>
                  <a:lnTo>
                    <a:pt x="1040" y="1821"/>
                  </a:lnTo>
                  <a:lnTo>
                    <a:pt x="1002" y="1827"/>
                  </a:lnTo>
                  <a:lnTo>
                    <a:pt x="962" y="1831"/>
                  </a:lnTo>
                  <a:lnTo>
                    <a:pt x="922" y="1834"/>
                  </a:lnTo>
                  <a:lnTo>
                    <a:pt x="881" y="1835"/>
                  </a:lnTo>
                  <a:lnTo>
                    <a:pt x="840" y="1834"/>
                  </a:lnTo>
                  <a:lnTo>
                    <a:pt x="800" y="1831"/>
                  </a:lnTo>
                  <a:lnTo>
                    <a:pt x="760" y="1827"/>
                  </a:lnTo>
                  <a:lnTo>
                    <a:pt x="721" y="1821"/>
                  </a:lnTo>
                  <a:lnTo>
                    <a:pt x="682" y="1813"/>
                  </a:lnTo>
                  <a:lnTo>
                    <a:pt x="644" y="1803"/>
                  </a:lnTo>
                  <a:lnTo>
                    <a:pt x="606" y="1791"/>
                  </a:lnTo>
                  <a:lnTo>
                    <a:pt x="569" y="1779"/>
                  </a:lnTo>
                  <a:lnTo>
                    <a:pt x="533" y="1764"/>
                  </a:lnTo>
                  <a:lnTo>
                    <a:pt x="498" y="1748"/>
                  </a:lnTo>
                  <a:lnTo>
                    <a:pt x="463" y="1730"/>
                  </a:lnTo>
                  <a:lnTo>
                    <a:pt x="430" y="1710"/>
                  </a:lnTo>
                  <a:lnTo>
                    <a:pt x="398" y="1690"/>
                  </a:lnTo>
                  <a:lnTo>
                    <a:pt x="366" y="1667"/>
                  </a:lnTo>
                  <a:lnTo>
                    <a:pt x="336" y="1643"/>
                  </a:lnTo>
                  <a:lnTo>
                    <a:pt x="307" y="1618"/>
                  </a:lnTo>
                  <a:lnTo>
                    <a:pt x="289" y="1601"/>
                  </a:lnTo>
                  <a:lnTo>
                    <a:pt x="271" y="1584"/>
                  </a:lnTo>
                  <a:lnTo>
                    <a:pt x="253" y="1566"/>
                  </a:lnTo>
                  <a:lnTo>
                    <a:pt x="237" y="1547"/>
                  </a:lnTo>
                  <a:lnTo>
                    <a:pt x="221" y="1529"/>
                  </a:lnTo>
                  <a:lnTo>
                    <a:pt x="206" y="1510"/>
                  </a:lnTo>
                  <a:lnTo>
                    <a:pt x="191" y="1490"/>
                  </a:lnTo>
                  <a:lnTo>
                    <a:pt x="176" y="1471"/>
                  </a:lnTo>
                  <a:lnTo>
                    <a:pt x="162" y="1450"/>
                  </a:lnTo>
                  <a:lnTo>
                    <a:pt x="148" y="1431"/>
                  </a:lnTo>
                  <a:lnTo>
                    <a:pt x="136" y="1409"/>
                  </a:lnTo>
                  <a:lnTo>
                    <a:pt x="123" y="1389"/>
                  </a:lnTo>
                  <a:lnTo>
                    <a:pt x="112" y="1367"/>
                  </a:lnTo>
                  <a:lnTo>
                    <a:pt x="101" y="1346"/>
                  </a:lnTo>
                  <a:lnTo>
                    <a:pt x="89" y="1323"/>
                  </a:lnTo>
                  <a:lnTo>
                    <a:pt x="79" y="1300"/>
                  </a:lnTo>
                  <a:lnTo>
                    <a:pt x="70" y="1278"/>
                  </a:lnTo>
                  <a:lnTo>
                    <a:pt x="61" y="1254"/>
                  </a:lnTo>
                  <a:lnTo>
                    <a:pt x="53" y="1232"/>
                  </a:lnTo>
                  <a:lnTo>
                    <a:pt x="45" y="1209"/>
                  </a:lnTo>
                  <a:lnTo>
                    <a:pt x="37" y="1185"/>
                  </a:lnTo>
                  <a:lnTo>
                    <a:pt x="31" y="1161"/>
                  </a:lnTo>
                  <a:lnTo>
                    <a:pt x="25" y="1137"/>
                  </a:lnTo>
                  <a:lnTo>
                    <a:pt x="20" y="1113"/>
                  </a:lnTo>
                  <a:lnTo>
                    <a:pt x="15" y="1089"/>
                  </a:lnTo>
                  <a:lnTo>
                    <a:pt x="10" y="1065"/>
                  </a:lnTo>
                  <a:lnTo>
                    <a:pt x="7" y="1041"/>
                  </a:lnTo>
                  <a:lnTo>
                    <a:pt x="5" y="1016"/>
                  </a:lnTo>
                  <a:lnTo>
                    <a:pt x="2" y="991"/>
                  </a:lnTo>
                  <a:lnTo>
                    <a:pt x="1" y="967"/>
                  </a:lnTo>
                  <a:lnTo>
                    <a:pt x="0" y="942"/>
                  </a:lnTo>
                  <a:lnTo>
                    <a:pt x="0" y="917"/>
                  </a:lnTo>
                  <a:lnTo>
                    <a:pt x="0" y="892"/>
                  </a:lnTo>
                  <a:lnTo>
                    <a:pt x="1" y="867"/>
                  </a:lnTo>
                  <a:lnTo>
                    <a:pt x="2" y="842"/>
                  </a:lnTo>
                  <a:lnTo>
                    <a:pt x="5" y="816"/>
                  </a:lnTo>
                  <a:lnTo>
                    <a:pt x="7" y="793"/>
                  </a:lnTo>
                  <a:lnTo>
                    <a:pt x="10" y="767"/>
                  </a:lnTo>
                  <a:lnTo>
                    <a:pt x="15" y="743"/>
                  </a:lnTo>
                  <a:lnTo>
                    <a:pt x="20" y="720"/>
                  </a:lnTo>
                  <a:lnTo>
                    <a:pt x="24" y="696"/>
                  </a:lnTo>
                  <a:lnTo>
                    <a:pt x="31" y="672"/>
                  </a:lnTo>
                  <a:lnTo>
                    <a:pt x="37" y="648"/>
                  </a:lnTo>
                  <a:lnTo>
                    <a:pt x="45" y="625"/>
                  </a:lnTo>
                  <a:lnTo>
                    <a:pt x="52" y="602"/>
                  </a:lnTo>
                  <a:lnTo>
                    <a:pt x="61" y="578"/>
                  </a:lnTo>
                  <a:lnTo>
                    <a:pt x="70" y="555"/>
                  </a:lnTo>
                  <a:lnTo>
                    <a:pt x="79" y="533"/>
                  </a:lnTo>
                  <a:lnTo>
                    <a:pt x="89" y="511"/>
                  </a:lnTo>
                  <a:lnTo>
                    <a:pt x="99" y="488"/>
                  </a:lnTo>
                  <a:lnTo>
                    <a:pt x="111" y="466"/>
                  </a:lnTo>
                  <a:lnTo>
                    <a:pt x="123" y="446"/>
                  </a:lnTo>
                  <a:lnTo>
                    <a:pt x="135" y="424"/>
                  </a:lnTo>
                  <a:lnTo>
                    <a:pt x="148" y="404"/>
                  </a:lnTo>
                  <a:lnTo>
                    <a:pt x="161" y="383"/>
                  </a:lnTo>
                  <a:lnTo>
                    <a:pt x="176" y="364"/>
                  </a:lnTo>
                  <a:lnTo>
                    <a:pt x="190" y="344"/>
                  </a:lnTo>
                  <a:lnTo>
                    <a:pt x="206" y="325"/>
                  </a:lnTo>
                  <a:lnTo>
                    <a:pt x="220" y="306"/>
                  </a:lnTo>
                  <a:lnTo>
                    <a:pt x="236" y="287"/>
                  </a:lnTo>
                  <a:lnTo>
                    <a:pt x="253" y="269"/>
                  </a:lnTo>
                  <a:lnTo>
                    <a:pt x="271" y="251"/>
                  </a:lnTo>
                  <a:lnTo>
                    <a:pt x="289" y="234"/>
                  </a:lnTo>
                  <a:lnTo>
                    <a:pt x="307" y="217"/>
                  </a:lnTo>
                  <a:lnTo>
                    <a:pt x="336" y="190"/>
                  </a:lnTo>
                  <a:lnTo>
                    <a:pt x="366" y="166"/>
                  </a:lnTo>
                  <a:lnTo>
                    <a:pt x="398" y="145"/>
                  </a:lnTo>
                  <a:lnTo>
                    <a:pt x="430" y="123"/>
                  </a:lnTo>
                  <a:lnTo>
                    <a:pt x="463" y="104"/>
                  </a:lnTo>
                  <a:lnTo>
                    <a:pt x="498" y="87"/>
                  </a:lnTo>
                  <a:lnTo>
                    <a:pt x="533" y="70"/>
                  </a:lnTo>
                  <a:lnTo>
                    <a:pt x="569" y="55"/>
                  </a:lnTo>
                  <a:lnTo>
                    <a:pt x="606" y="42"/>
                  </a:lnTo>
                  <a:lnTo>
                    <a:pt x="644" y="31"/>
                  </a:lnTo>
                  <a:lnTo>
                    <a:pt x="682" y="22"/>
                  </a:lnTo>
                  <a:lnTo>
                    <a:pt x="721" y="14"/>
                  </a:lnTo>
                  <a:lnTo>
                    <a:pt x="760" y="8"/>
                  </a:lnTo>
                  <a:lnTo>
                    <a:pt x="800" y="3"/>
                  </a:lnTo>
                  <a:lnTo>
                    <a:pt x="840" y="1"/>
                  </a:lnTo>
                  <a:lnTo>
                    <a:pt x="881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686480" y="1058760"/>
              <a:ext cx="144360" cy="554040"/>
            </a:xfrm>
            <a:prstGeom prst="rect">
              <a:avLst/>
            </a:prstGeom>
            <a:noFill/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90536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8" h="1801">
                  <a:moveTo>
                    <a:pt x="1154" y="1771"/>
                  </a:moveTo>
                  <a:lnTo>
                    <a:pt x="1141" y="1776"/>
                  </a:lnTo>
                  <a:lnTo>
                    <a:pt x="1128" y="1779"/>
                  </a:lnTo>
                  <a:lnTo>
                    <a:pt x="1114" y="1781"/>
                  </a:lnTo>
                  <a:lnTo>
                    <a:pt x="1102" y="1785"/>
                  </a:lnTo>
                  <a:lnTo>
                    <a:pt x="1088" y="1787"/>
                  </a:lnTo>
                  <a:lnTo>
                    <a:pt x="1074" y="1789"/>
                  </a:lnTo>
                  <a:lnTo>
                    <a:pt x="1061" y="1792"/>
                  </a:lnTo>
                  <a:lnTo>
                    <a:pt x="1046" y="1794"/>
                  </a:lnTo>
                  <a:lnTo>
                    <a:pt x="1032" y="1795"/>
                  </a:lnTo>
                  <a:lnTo>
                    <a:pt x="1017" y="1797"/>
                  </a:lnTo>
                  <a:lnTo>
                    <a:pt x="1003" y="1798"/>
                  </a:lnTo>
                  <a:lnTo>
                    <a:pt x="987" y="1799"/>
                  </a:lnTo>
                  <a:lnTo>
                    <a:pt x="971" y="1799"/>
                  </a:lnTo>
                  <a:lnTo>
                    <a:pt x="955" y="1801"/>
                  </a:lnTo>
                  <a:lnTo>
                    <a:pt x="939" y="1801"/>
                  </a:lnTo>
                  <a:lnTo>
                    <a:pt x="922" y="1801"/>
                  </a:lnTo>
                  <a:lnTo>
                    <a:pt x="871" y="1799"/>
                  </a:lnTo>
                  <a:lnTo>
                    <a:pt x="821" y="1797"/>
                  </a:lnTo>
                  <a:lnTo>
                    <a:pt x="773" y="1793"/>
                  </a:lnTo>
                  <a:lnTo>
                    <a:pt x="725" y="1786"/>
                  </a:lnTo>
                  <a:lnTo>
                    <a:pt x="680" y="1777"/>
                  </a:lnTo>
                  <a:lnTo>
                    <a:pt x="635" y="1766"/>
                  </a:lnTo>
                  <a:lnTo>
                    <a:pt x="612" y="1761"/>
                  </a:lnTo>
                  <a:lnTo>
                    <a:pt x="592" y="1754"/>
                  </a:lnTo>
                  <a:lnTo>
                    <a:pt x="570" y="1747"/>
                  </a:lnTo>
                  <a:lnTo>
                    <a:pt x="550" y="1739"/>
                  </a:lnTo>
                  <a:lnTo>
                    <a:pt x="528" y="1731"/>
                  </a:lnTo>
                  <a:lnTo>
                    <a:pt x="509" y="1723"/>
                  </a:lnTo>
                  <a:lnTo>
                    <a:pt x="488" y="1714"/>
                  </a:lnTo>
                  <a:lnTo>
                    <a:pt x="469" y="1705"/>
                  </a:lnTo>
                  <a:lnTo>
                    <a:pt x="449" y="1695"/>
                  </a:lnTo>
                  <a:lnTo>
                    <a:pt x="430" y="1684"/>
                  </a:lnTo>
                  <a:lnTo>
                    <a:pt x="411" y="1674"/>
                  </a:lnTo>
                  <a:lnTo>
                    <a:pt x="392" y="1663"/>
                  </a:lnTo>
                  <a:lnTo>
                    <a:pt x="374" y="1651"/>
                  </a:lnTo>
                  <a:lnTo>
                    <a:pt x="356" y="1639"/>
                  </a:lnTo>
                  <a:lnTo>
                    <a:pt x="339" y="1626"/>
                  </a:lnTo>
                  <a:lnTo>
                    <a:pt x="322" y="1612"/>
                  </a:lnTo>
                  <a:lnTo>
                    <a:pt x="304" y="1599"/>
                  </a:lnTo>
                  <a:lnTo>
                    <a:pt x="287" y="1585"/>
                  </a:lnTo>
                  <a:lnTo>
                    <a:pt x="271" y="1570"/>
                  </a:lnTo>
                  <a:lnTo>
                    <a:pt x="255" y="1554"/>
                  </a:lnTo>
                  <a:lnTo>
                    <a:pt x="239" y="1540"/>
                  </a:lnTo>
                  <a:lnTo>
                    <a:pt x="225" y="1524"/>
                  </a:lnTo>
                  <a:lnTo>
                    <a:pt x="210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9" y="1457"/>
                  </a:lnTo>
                  <a:lnTo>
                    <a:pt x="156" y="1440"/>
                  </a:lnTo>
                  <a:lnTo>
                    <a:pt x="144" y="1422"/>
                  </a:lnTo>
                  <a:lnTo>
                    <a:pt x="132" y="1405"/>
                  </a:lnTo>
                  <a:lnTo>
                    <a:pt x="121" y="1387"/>
                  </a:lnTo>
                  <a:lnTo>
                    <a:pt x="111" y="1367"/>
                  </a:lnTo>
                  <a:lnTo>
                    <a:pt x="100" y="1349"/>
                  </a:lnTo>
                  <a:lnTo>
                    <a:pt x="90" y="1330"/>
                  </a:lnTo>
                  <a:lnTo>
                    <a:pt x="81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9" y="1230"/>
                  </a:lnTo>
                  <a:lnTo>
                    <a:pt x="42" y="1210"/>
                  </a:lnTo>
                  <a:lnTo>
                    <a:pt x="36" y="1188"/>
                  </a:lnTo>
                  <a:lnTo>
                    <a:pt x="31" y="1168"/>
                  </a:lnTo>
                  <a:lnTo>
                    <a:pt x="25" y="1146"/>
                  </a:lnTo>
                  <a:lnTo>
                    <a:pt x="20" y="1124"/>
                  </a:lnTo>
                  <a:lnTo>
                    <a:pt x="16" y="1102"/>
                  </a:lnTo>
                  <a:lnTo>
                    <a:pt x="12" y="1079"/>
                  </a:lnTo>
                  <a:lnTo>
                    <a:pt x="9" y="1056"/>
                  </a:lnTo>
                  <a:lnTo>
                    <a:pt x="7" y="1033"/>
                  </a:lnTo>
                  <a:lnTo>
                    <a:pt x="5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5" y="817"/>
                  </a:lnTo>
                  <a:lnTo>
                    <a:pt x="10" y="770"/>
                  </a:lnTo>
                  <a:lnTo>
                    <a:pt x="17" y="724"/>
                  </a:lnTo>
                  <a:lnTo>
                    <a:pt x="22" y="701"/>
                  </a:lnTo>
                  <a:lnTo>
                    <a:pt x="26" y="680"/>
                  </a:lnTo>
                  <a:lnTo>
                    <a:pt x="32" y="657"/>
                  </a:lnTo>
                  <a:lnTo>
                    <a:pt x="38" y="635"/>
                  </a:lnTo>
                  <a:lnTo>
                    <a:pt x="44" y="615"/>
                  </a:lnTo>
                  <a:lnTo>
                    <a:pt x="51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5" y="531"/>
                  </a:lnTo>
                  <a:lnTo>
                    <a:pt x="84" y="511"/>
                  </a:lnTo>
                  <a:lnTo>
                    <a:pt x="93" y="492"/>
                  </a:lnTo>
                  <a:lnTo>
                    <a:pt x="104" y="472"/>
                  </a:lnTo>
                  <a:lnTo>
                    <a:pt x="114" y="453"/>
                  </a:lnTo>
                  <a:lnTo>
                    <a:pt x="125" y="433"/>
                  </a:lnTo>
                  <a:lnTo>
                    <a:pt x="137" y="415"/>
                  </a:lnTo>
                  <a:lnTo>
                    <a:pt x="149" y="397"/>
                  </a:lnTo>
                  <a:lnTo>
                    <a:pt x="162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3" y="325"/>
                  </a:lnTo>
                  <a:lnTo>
                    <a:pt x="233" y="291"/>
                  </a:lnTo>
                  <a:lnTo>
                    <a:pt x="265" y="258"/>
                  </a:lnTo>
                  <a:lnTo>
                    <a:pt x="282" y="243"/>
                  </a:lnTo>
                  <a:lnTo>
                    <a:pt x="298" y="227"/>
                  </a:lnTo>
                  <a:lnTo>
                    <a:pt x="315" y="212"/>
                  </a:lnTo>
                  <a:lnTo>
                    <a:pt x="333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7" y="157"/>
                  </a:lnTo>
                  <a:lnTo>
                    <a:pt x="406" y="145"/>
                  </a:lnTo>
                  <a:lnTo>
                    <a:pt x="424" y="134"/>
                  </a:lnTo>
                  <a:lnTo>
                    <a:pt x="444" y="122"/>
                  </a:lnTo>
                  <a:lnTo>
                    <a:pt x="463" y="111"/>
                  </a:lnTo>
                  <a:lnTo>
                    <a:pt x="484" y="100"/>
                  </a:lnTo>
                  <a:lnTo>
                    <a:pt x="503" y="91"/>
                  </a:lnTo>
                  <a:lnTo>
                    <a:pt x="523" y="81"/>
                  </a:lnTo>
                  <a:lnTo>
                    <a:pt x="544" y="73"/>
                  </a:lnTo>
                  <a:lnTo>
                    <a:pt x="565" y="64"/>
                  </a:lnTo>
                  <a:lnTo>
                    <a:pt x="608" y="49"/>
                  </a:lnTo>
                  <a:lnTo>
                    <a:pt x="651" y="37"/>
                  </a:lnTo>
                  <a:lnTo>
                    <a:pt x="696" y="25"/>
                  </a:lnTo>
                  <a:lnTo>
                    <a:pt x="742" y="16"/>
                  </a:lnTo>
                  <a:lnTo>
                    <a:pt x="789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8" y="0"/>
                  </a:lnTo>
                  <a:lnTo>
                    <a:pt x="949" y="0"/>
                  </a:lnTo>
                  <a:lnTo>
                    <a:pt x="961" y="0"/>
                  </a:lnTo>
                  <a:lnTo>
                    <a:pt x="974" y="0"/>
                  </a:lnTo>
                  <a:lnTo>
                    <a:pt x="987" y="1"/>
                  </a:lnTo>
                  <a:lnTo>
                    <a:pt x="999" y="2"/>
                  </a:lnTo>
                  <a:lnTo>
                    <a:pt x="1012" y="4"/>
                  </a:lnTo>
                  <a:lnTo>
                    <a:pt x="1024" y="5"/>
                  </a:lnTo>
                  <a:lnTo>
                    <a:pt x="1037" y="6"/>
                  </a:lnTo>
                  <a:lnTo>
                    <a:pt x="1050" y="7"/>
                  </a:lnTo>
                  <a:lnTo>
                    <a:pt x="1064" y="9"/>
                  </a:lnTo>
                  <a:lnTo>
                    <a:pt x="1077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9" y="18"/>
                  </a:lnTo>
                  <a:lnTo>
                    <a:pt x="1133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5" y="535"/>
                  </a:lnTo>
                  <a:lnTo>
                    <a:pt x="1139" y="528"/>
                  </a:lnTo>
                  <a:lnTo>
                    <a:pt x="1125" y="522"/>
                  </a:lnTo>
                  <a:lnTo>
                    <a:pt x="1109" y="518"/>
                  </a:lnTo>
                  <a:lnTo>
                    <a:pt x="1094" y="512"/>
                  </a:lnTo>
                  <a:lnTo>
                    <a:pt x="1079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3" y="497"/>
                  </a:lnTo>
                  <a:lnTo>
                    <a:pt x="1019" y="495"/>
                  </a:lnTo>
                  <a:lnTo>
                    <a:pt x="1004" y="493"/>
                  </a:lnTo>
                  <a:lnTo>
                    <a:pt x="990" y="490"/>
                  </a:lnTo>
                  <a:lnTo>
                    <a:pt x="975" y="489"/>
                  </a:lnTo>
                  <a:lnTo>
                    <a:pt x="960" y="488"/>
                  </a:lnTo>
                  <a:lnTo>
                    <a:pt x="947" y="488"/>
                  </a:lnTo>
                  <a:lnTo>
                    <a:pt x="933" y="487"/>
                  </a:lnTo>
                  <a:lnTo>
                    <a:pt x="907" y="488"/>
                  </a:lnTo>
                  <a:lnTo>
                    <a:pt x="883" y="489"/>
                  </a:lnTo>
                  <a:lnTo>
                    <a:pt x="859" y="492"/>
                  </a:lnTo>
                  <a:lnTo>
                    <a:pt x="835" y="495"/>
                  </a:lnTo>
                  <a:lnTo>
                    <a:pt x="812" y="498"/>
                  </a:lnTo>
                  <a:lnTo>
                    <a:pt x="789" y="504"/>
                  </a:lnTo>
                  <a:lnTo>
                    <a:pt x="768" y="510"/>
                  </a:lnTo>
                  <a:lnTo>
                    <a:pt x="747" y="517"/>
                  </a:lnTo>
                  <a:lnTo>
                    <a:pt x="725" y="524"/>
                  </a:lnTo>
                  <a:lnTo>
                    <a:pt x="706" y="533"/>
                  </a:lnTo>
                  <a:lnTo>
                    <a:pt x="687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2" y="576"/>
                  </a:lnTo>
                  <a:lnTo>
                    <a:pt x="615" y="588"/>
                  </a:lnTo>
                  <a:lnTo>
                    <a:pt x="599" y="603"/>
                  </a:lnTo>
                  <a:lnTo>
                    <a:pt x="583" y="617"/>
                  </a:lnTo>
                  <a:lnTo>
                    <a:pt x="568" y="633"/>
                  </a:lnTo>
                  <a:lnTo>
                    <a:pt x="554" y="649"/>
                  </a:lnTo>
                  <a:lnTo>
                    <a:pt x="542" y="665"/>
                  </a:lnTo>
                  <a:lnTo>
                    <a:pt x="530" y="681"/>
                  </a:lnTo>
                  <a:lnTo>
                    <a:pt x="520" y="698"/>
                  </a:lnTo>
                  <a:lnTo>
                    <a:pt x="510" y="716"/>
                  </a:lnTo>
                  <a:lnTo>
                    <a:pt x="502" y="734"/>
                  </a:lnTo>
                  <a:lnTo>
                    <a:pt x="494" y="753"/>
                  </a:lnTo>
                  <a:lnTo>
                    <a:pt x="487" y="772"/>
                  </a:lnTo>
                  <a:lnTo>
                    <a:pt x="482" y="791"/>
                  </a:lnTo>
                  <a:lnTo>
                    <a:pt x="478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70" y="875"/>
                  </a:lnTo>
                  <a:lnTo>
                    <a:pt x="470" y="896"/>
                  </a:lnTo>
                  <a:lnTo>
                    <a:pt x="470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8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4" y="1041"/>
                  </a:lnTo>
                  <a:lnTo>
                    <a:pt x="502" y="1059"/>
                  </a:lnTo>
                  <a:lnTo>
                    <a:pt x="510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2" y="1130"/>
                  </a:lnTo>
                  <a:lnTo>
                    <a:pt x="554" y="1147"/>
                  </a:lnTo>
                  <a:lnTo>
                    <a:pt x="567" y="1163"/>
                  </a:lnTo>
                  <a:lnTo>
                    <a:pt x="582" y="1178"/>
                  </a:lnTo>
                  <a:lnTo>
                    <a:pt x="598" y="1194"/>
                  </a:lnTo>
                  <a:lnTo>
                    <a:pt x="614" y="1208"/>
                  </a:lnTo>
                  <a:lnTo>
                    <a:pt x="631" y="1221"/>
                  </a:lnTo>
                  <a:lnTo>
                    <a:pt x="648" y="1234"/>
                  </a:lnTo>
                  <a:lnTo>
                    <a:pt x="665" y="1246"/>
                  </a:lnTo>
                  <a:lnTo>
                    <a:pt x="683" y="1257"/>
                  </a:lnTo>
                  <a:lnTo>
                    <a:pt x="703" y="1267"/>
                  </a:lnTo>
                  <a:lnTo>
                    <a:pt x="721" y="1275"/>
                  </a:lnTo>
                  <a:lnTo>
                    <a:pt x="741" y="1283"/>
                  </a:lnTo>
                  <a:lnTo>
                    <a:pt x="761" y="1291"/>
                  </a:lnTo>
                  <a:lnTo>
                    <a:pt x="782" y="1297"/>
                  </a:lnTo>
                  <a:lnTo>
                    <a:pt x="803" y="1301"/>
                  </a:lnTo>
                  <a:lnTo>
                    <a:pt x="825" y="1306"/>
                  </a:lnTo>
                  <a:lnTo>
                    <a:pt x="847" y="1309"/>
                  </a:lnTo>
                  <a:lnTo>
                    <a:pt x="870" y="1311"/>
                  </a:lnTo>
                  <a:lnTo>
                    <a:pt x="893" y="1313"/>
                  </a:lnTo>
                  <a:lnTo>
                    <a:pt x="917" y="1313"/>
                  </a:lnTo>
                  <a:lnTo>
                    <a:pt x="934" y="1313"/>
                  </a:lnTo>
                  <a:lnTo>
                    <a:pt x="951" y="1313"/>
                  </a:lnTo>
                  <a:lnTo>
                    <a:pt x="968" y="1310"/>
                  </a:lnTo>
                  <a:lnTo>
                    <a:pt x="985" y="1309"/>
                  </a:lnTo>
                  <a:lnTo>
                    <a:pt x="1003" y="1306"/>
                  </a:lnTo>
                  <a:lnTo>
                    <a:pt x="1020" y="1303"/>
                  </a:lnTo>
                  <a:lnTo>
                    <a:pt x="1037" y="1300"/>
                  </a:lnTo>
                  <a:lnTo>
                    <a:pt x="1054" y="1295"/>
                  </a:lnTo>
                  <a:lnTo>
                    <a:pt x="1071" y="1291"/>
                  </a:lnTo>
                  <a:lnTo>
                    <a:pt x="1088" y="1285"/>
                  </a:lnTo>
                  <a:lnTo>
                    <a:pt x="1104" y="1280"/>
                  </a:lnTo>
                  <a:lnTo>
                    <a:pt x="1121" y="1274"/>
                  </a:lnTo>
                  <a:lnTo>
                    <a:pt x="1138" y="1267"/>
                  </a:lnTo>
                  <a:lnTo>
                    <a:pt x="1155" y="1259"/>
                  </a:lnTo>
                  <a:lnTo>
                    <a:pt x="1171" y="1251"/>
                  </a:lnTo>
                  <a:lnTo>
                    <a:pt x="1188" y="1243"/>
                  </a:lnTo>
                  <a:lnTo>
                    <a:pt x="1154" y="177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361120" y="1058760"/>
              <a:ext cx="345960" cy="554040"/>
            </a:xfrm>
            <a:custGeom>
              <a:avLst/>
              <a:gdLst/>
              <a:ahLst/>
              <a:rect l="l" t="t" r="r" b="b"/>
              <a:pathLst>
                <a:path w="1088" h="1741">
                  <a:moveTo>
                    <a:pt x="1088" y="1262"/>
                  </a:moveTo>
                  <a:lnTo>
                    <a:pt x="967" y="1741"/>
                  </a:lnTo>
                  <a:lnTo>
                    <a:pt x="0" y="1741"/>
                  </a:lnTo>
                  <a:lnTo>
                    <a:pt x="0" y="0"/>
                  </a:lnTo>
                  <a:lnTo>
                    <a:pt x="963" y="0"/>
                  </a:lnTo>
                  <a:lnTo>
                    <a:pt x="1038" y="463"/>
                  </a:lnTo>
                  <a:lnTo>
                    <a:pt x="451" y="463"/>
                  </a:lnTo>
                  <a:lnTo>
                    <a:pt x="451" y="639"/>
                  </a:lnTo>
                  <a:lnTo>
                    <a:pt x="843" y="639"/>
                  </a:lnTo>
                  <a:lnTo>
                    <a:pt x="843" y="1100"/>
                  </a:lnTo>
                  <a:lnTo>
                    <a:pt x="451" y="1100"/>
                  </a:lnTo>
                  <a:lnTo>
                    <a:pt x="451" y="1262"/>
                  </a:lnTo>
                  <a:lnTo>
                    <a:pt x="1088" y="1262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45240" y="1050840"/>
              <a:ext cx="291960" cy="569880"/>
            </a:xfrm>
            <a:custGeom>
              <a:avLst/>
              <a:gdLst/>
              <a:ahLst/>
              <a:rect l="l" t="t" r="r" b="b"/>
              <a:pathLst>
                <a:path w="922" h="1796">
                  <a:moveTo>
                    <a:pt x="33" y="1775"/>
                  </a:moveTo>
                  <a:lnTo>
                    <a:pt x="22" y="1295"/>
                  </a:lnTo>
                  <a:lnTo>
                    <a:pt x="34" y="1299"/>
                  </a:lnTo>
                  <a:lnTo>
                    <a:pt x="47" y="1305"/>
                  </a:lnTo>
                  <a:lnTo>
                    <a:pt x="59" y="1309"/>
                  </a:lnTo>
                  <a:lnTo>
                    <a:pt x="71" y="1313"/>
                  </a:lnTo>
                  <a:lnTo>
                    <a:pt x="83" y="1317"/>
                  </a:lnTo>
                  <a:lnTo>
                    <a:pt x="95" y="1321"/>
                  </a:lnTo>
                  <a:lnTo>
                    <a:pt x="107" y="1324"/>
                  </a:lnTo>
                  <a:lnTo>
                    <a:pt x="119" y="1327"/>
                  </a:lnTo>
                  <a:lnTo>
                    <a:pt x="130" y="1330"/>
                  </a:lnTo>
                  <a:lnTo>
                    <a:pt x="141" y="1332"/>
                  </a:lnTo>
                  <a:lnTo>
                    <a:pt x="153" y="1335"/>
                  </a:lnTo>
                  <a:lnTo>
                    <a:pt x="164" y="1336"/>
                  </a:lnTo>
                  <a:lnTo>
                    <a:pt x="174" y="1337"/>
                  </a:lnTo>
                  <a:lnTo>
                    <a:pt x="186" y="1338"/>
                  </a:lnTo>
                  <a:lnTo>
                    <a:pt x="196" y="1338"/>
                  </a:lnTo>
                  <a:lnTo>
                    <a:pt x="206" y="1338"/>
                  </a:lnTo>
                  <a:lnTo>
                    <a:pt x="225" y="1338"/>
                  </a:lnTo>
                  <a:lnTo>
                    <a:pt x="243" y="1336"/>
                  </a:lnTo>
                  <a:lnTo>
                    <a:pt x="259" y="1333"/>
                  </a:lnTo>
                  <a:lnTo>
                    <a:pt x="275" y="1329"/>
                  </a:lnTo>
                  <a:lnTo>
                    <a:pt x="290" y="1323"/>
                  </a:lnTo>
                  <a:lnTo>
                    <a:pt x="304" y="1316"/>
                  </a:lnTo>
                  <a:lnTo>
                    <a:pt x="317" y="1308"/>
                  </a:lnTo>
                  <a:lnTo>
                    <a:pt x="330" y="1299"/>
                  </a:lnTo>
                  <a:lnTo>
                    <a:pt x="341" y="1289"/>
                  </a:lnTo>
                  <a:lnTo>
                    <a:pt x="350" y="1279"/>
                  </a:lnTo>
                  <a:lnTo>
                    <a:pt x="358" y="1267"/>
                  </a:lnTo>
                  <a:lnTo>
                    <a:pt x="365" y="1255"/>
                  </a:lnTo>
                  <a:lnTo>
                    <a:pt x="371" y="1242"/>
                  </a:lnTo>
                  <a:lnTo>
                    <a:pt x="374" y="1230"/>
                  </a:lnTo>
                  <a:lnTo>
                    <a:pt x="376" y="1216"/>
                  </a:lnTo>
                  <a:lnTo>
                    <a:pt x="377" y="1201"/>
                  </a:lnTo>
                  <a:lnTo>
                    <a:pt x="376" y="1192"/>
                  </a:lnTo>
                  <a:lnTo>
                    <a:pt x="375" y="1182"/>
                  </a:lnTo>
                  <a:lnTo>
                    <a:pt x="373" y="1171"/>
                  </a:lnTo>
                  <a:lnTo>
                    <a:pt x="368" y="1160"/>
                  </a:lnTo>
                  <a:lnTo>
                    <a:pt x="364" y="1149"/>
                  </a:lnTo>
                  <a:lnTo>
                    <a:pt x="359" y="1137"/>
                  </a:lnTo>
                  <a:lnTo>
                    <a:pt x="352" y="1126"/>
                  </a:lnTo>
                  <a:lnTo>
                    <a:pt x="344" y="1113"/>
                  </a:lnTo>
                  <a:lnTo>
                    <a:pt x="326" y="1088"/>
                  </a:lnTo>
                  <a:lnTo>
                    <a:pt x="304" y="1062"/>
                  </a:lnTo>
                  <a:lnTo>
                    <a:pt x="278" y="1035"/>
                  </a:lnTo>
                  <a:lnTo>
                    <a:pt x="247" y="1005"/>
                  </a:lnTo>
                  <a:lnTo>
                    <a:pt x="236" y="996"/>
                  </a:lnTo>
                  <a:lnTo>
                    <a:pt x="227" y="987"/>
                  </a:lnTo>
                  <a:lnTo>
                    <a:pt x="217" y="978"/>
                  </a:lnTo>
                  <a:lnTo>
                    <a:pt x="209" y="970"/>
                  </a:lnTo>
                  <a:lnTo>
                    <a:pt x="201" y="962"/>
                  </a:lnTo>
                  <a:lnTo>
                    <a:pt x="193" y="954"/>
                  </a:lnTo>
                  <a:lnTo>
                    <a:pt x="186" y="947"/>
                  </a:lnTo>
                  <a:lnTo>
                    <a:pt x="180" y="941"/>
                  </a:lnTo>
                  <a:lnTo>
                    <a:pt x="157" y="918"/>
                  </a:lnTo>
                  <a:lnTo>
                    <a:pt x="137" y="894"/>
                  </a:lnTo>
                  <a:lnTo>
                    <a:pt x="117" y="870"/>
                  </a:lnTo>
                  <a:lnTo>
                    <a:pt x="99" y="846"/>
                  </a:lnTo>
                  <a:lnTo>
                    <a:pt x="83" y="823"/>
                  </a:lnTo>
                  <a:lnTo>
                    <a:pt x="68" y="799"/>
                  </a:lnTo>
                  <a:lnTo>
                    <a:pt x="56" y="775"/>
                  </a:lnTo>
                  <a:lnTo>
                    <a:pt x="43" y="750"/>
                  </a:lnTo>
                  <a:lnTo>
                    <a:pt x="33" y="724"/>
                  </a:lnTo>
                  <a:lnTo>
                    <a:pt x="24" y="699"/>
                  </a:lnTo>
                  <a:lnTo>
                    <a:pt x="17" y="673"/>
                  </a:lnTo>
                  <a:lnTo>
                    <a:pt x="10" y="647"/>
                  </a:lnTo>
                  <a:lnTo>
                    <a:pt x="6" y="620"/>
                  </a:lnTo>
                  <a:lnTo>
                    <a:pt x="2" y="592"/>
                  </a:lnTo>
                  <a:lnTo>
                    <a:pt x="0" y="565"/>
                  </a:lnTo>
                  <a:lnTo>
                    <a:pt x="0" y="536"/>
                  </a:lnTo>
                  <a:lnTo>
                    <a:pt x="0" y="508"/>
                  </a:lnTo>
                  <a:lnTo>
                    <a:pt x="2" y="479"/>
                  </a:lnTo>
                  <a:lnTo>
                    <a:pt x="6" y="452"/>
                  </a:lnTo>
                  <a:lnTo>
                    <a:pt x="10" y="425"/>
                  </a:lnTo>
                  <a:lnTo>
                    <a:pt x="16" y="398"/>
                  </a:lnTo>
                  <a:lnTo>
                    <a:pt x="23" y="372"/>
                  </a:lnTo>
                  <a:lnTo>
                    <a:pt x="31" y="347"/>
                  </a:lnTo>
                  <a:lnTo>
                    <a:pt x="41" y="323"/>
                  </a:lnTo>
                  <a:lnTo>
                    <a:pt x="51" y="299"/>
                  </a:lnTo>
                  <a:lnTo>
                    <a:pt x="64" y="276"/>
                  </a:lnTo>
                  <a:lnTo>
                    <a:pt x="77" y="254"/>
                  </a:lnTo>
                  <a:lnTo>
                    <a:pt x="92" y="232"/>
                  </a:lnTo>
                  <a:lnTo>
                    <a:pt x="108" y="211"/>
                  </a:lnTo>
                  <a:lnTo>
                    <a:pt x="125" y="191"/>
                  </a:lnTo>
                  <a:lnTo>
                    <a:pt x="144" y="170"/>
                  </a:lnTo>
                  <a:lnTo>
                    <a:pt x="164" y="151"/>
                  </a:lnTo>
                  <a:lnTo>
                    <a:pt x="185" y="133"/>
                  </a:lnTo>
                  <a:lnTo>
                    <a:pt x="206" y="116"/>
                  </a:lnTo>
                  <a:lnTo>
                    <a:pt x="229" y="100"/>
                  </a:lnTo>
                  <a:lnTo>
                    <a:pt x="252" y="85"/>
                  </a:lnTo>
                  <a:lnTo>
                    <a:pt x="276" y="72"/>
                  </a:lnTo>
                  <a:lnTo>
                    <a:pt x="301" y="60"/>
                  </a:lnTo>
                  <a:lnTo>
                    <a:pt x="326" y="48"/>
                  </a:lnTo>
                  <a:lnTo>
                    <a:pt x="352" y="38"/>
                  </a:lnTo>
                  <a:lnTo>
                    <a:pt x="379" y="29"/>
                  </a:lnTo>
                  <a:lnTo>
                    <a:pt x="407" y="21"/>
                  </a:lnTo>
                  <a:lnTo>
                    <a:pt x="436" y="15"/>
                  </a:lnTo>
                  <a:lnTo>
                    <a:pt x="464" y="10"/>
                  </a:lnTo>
                  <a:lnTo>
                    <a:pt x="494" y="5"/>
                  </a:lnTo>
                  <a:lnTo>
                    <a:pt x="525" y="3"/>
                  </a:lnTo>
                  <a:lnTo>
                    <a:pt x="557" y="0"/>
                  </a:lnTo>
                  <a:lnTo>
                    <a:pt x="588" y="0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49" y="2"/>
                  </a:lnTo>
                  <a:lnTo>
                    <a:pt x="668" y="3"/>
                  </a:lnTo>
                  <a:lnTo>
                    <a:pt x="688" y="5"/>
                  </a:lnTo>
                  <a:lnTo>
                    <a:pt x="706" y="6"/>
                  </a:lnTo>
                  <a:lnTo>
                    <a:pt x="725" y="8"/>
                  </a:lnTo>
                  <a:lnTo>
                    <a:pt x="744" y="11"/>
                  </a:lnTo>
                  <a:lnTo>
                    <a:pt x="761" y="14"/>
                  </a:lnTo>
                  <a:lnTo>
                    <a:pt x="779" y="16"/>
                  </a:lnTo>
                  <a:lnTo>
                    <a:pt x="796" y="21"/>
                  </a:lnTo>
                  <a:lnTo>
                    <a:pt x="813" y="24"/>
                  </a:lnTo>
                  <a:lnTo>
                    <a:pt x="830" y="29"/>
                  </a:lnTo>
                  <a:lnTo>
                    <a:pt x="847" y="33"/>
                  </a:lnTo>
                  <a:lnTo>
                    <a:pt x="865" y="39"/>
                  </a:lnTo>
                  <a:lnTo>
                    <a:pt x="882" y="44"/>
                  </a:lnTo>
                  <a:lnTo>
                    <a:pt x="882" y="476"/>
                  </a:lnTo>
                  <a:lnTo>
                    <a:pt x="868" y="469"/>
                  </a:lnTo>
                  <a:lnTo>
                    <a:pt x="853" y="462"/>
                  </a:lnTo>
                  <a:lnTo>
                    <a:pt x="841" y="457"/>
                  </a:lnTo>
                  <a:lnTo>
                    <a:pt x="827" y="451"/>
                  </a:lnTo>
                  <a:lnTo>
                    <a:pt x="813" y="446"/>
                  </a:lnTo>
                  <a:lnTo>
                    <a:pt x="801" y="442"/>
                  </a:lnTo>
                  <a:lnTo>
                    <a:pt x="788" y="437"/>
                  </a:lnTo>
                  <a:lnTo>
                    <a:pt x="776" y="433"/>
                  </a:lnTo>
                  <a:lnTo>
                    <a:pt x="764" y="430"/>
                  </a:lnTo>
                  <a:lnTo>
                    <a:pt x="752" y="427"/>
                  </a:lnTo>
                  <a:lnTo>
                    <a:pt x="740" y="425"/>
                  </a:lnTo>
                  <a:lnTo>
                    <a:pt x="730" y="422"/>
                  </a:lnTo>
                  <a:lnTo>
                    <a:pt x="719" y="421"/>
                  </a:lnTo>
                  <a:lnTo>
                    <a:pt x="708" y="420"/>
                  </a:lnTo>
                  <a:lnTo>
                    <a:pt x="699" y="419"/>
                  </a:lnTo>
                  <a:lnTo>
                    <a:pt x="689" y="419"/>
                  </a:lnTo>
                  <a:lnTo>
                    <a:pt x="668" y="419"/>
                  </a:lnTo>
                  <a:lnTo>
                    <a:pt x="649" y="421"/>
                  </a:lnTo>
                  <a:lnTo>
                    <a:pt x="631" y="423"/>
                  </a:lnTo>
                  <a:lnTo>
                    <a:pt x="614" y="428"/>
                  </a:lnTo>
                  <a:lnTo>
                    <a:pt x="598" y="433"/>
                  </a:lnTo>
                  <a:lnTo>
                    <a:pt x="583" y="439"/>
                  </a:lnTo>
                  <a:lnTo>
                    <a:pt x="569" y="446"/>
                  </a:lnTo>
                  <a:lnTo>
                    <a:pt x="558" y="454"/>
                  </a:lnTo>
                  <a:lnTo>
                    <a:pt x="546" y="464"/>
                  </a:lnTo>
                  <a:lnTo>
                    <a:pt x="537" y="474"/>
                  </a:lnTo>
                  <a:lnTo>
                    <a:pt x="529" y="485"/>
                  </a:lnTo>
                  <a:lnTo>
                    <a:pt x="523" y="498"/>
                  </a:lnTo>
                  <a:lnTo>
                    <a:pt x="518" y="511"/>
                  </a:lnTo>
                  <a:lnTo>
                    <a:pt x="514" y="525"/>
                  </a:lnTo>
                  <a:lnTo>
                    <a:pt x="512" y="540"/>
                  </a:lnTo>
                  <a:lnTo>
                    <a:pt x="511" y="556"/>
                  </a:lnTo>
                  <a:lnTo>
                    <a:pt x="512" y="565"/>
                  </a:lnTo>
                  <a:lnTo>
                    <a:pt x="513" y="575"/>
                  </a:lnTo>
                  <a:lnTo>
                    <a:pt x="515" y="584"/>
                  </a:lnTo>
                  <a:lnTo>
                    <a:pt x="519" y="594"/>
                  </a:lnTo>
                  <a:lnTo>
                    <a:pt x="523" y="605"/>
                  </a:lnTo>
                  <a:lnTo>
                    <a:pt x="529" y="615"/>
                  </a:lnTo>
                  <a:lnTo>
                    <a:pt x="535" y="625"/>
                  </a:lnTo>
                  <a:lnTo>
                    <a:pt x="543" y="636"/>
                  </a:lnTo>
                  <a:lnTo>
                    <a:pt x="551" y="647"/>
                  </a:lnTo>
                  <a:lnTo>
                    <a:pt x="560" y="657"/>
                  </a:lnTo>
                  <a:lnTo>
                    <a:pt x="570" y="669"/>
                  </a:lnTo>
                  <a:lnTo>
                    <a:pt x="582" y="680"/>
                  </a:lnTo>
                  <a:lnTo>
                    <a:pt x="607" y="704"/>
                  </a:lnTo>
                  <a:lnTo>
                    <a:pt x="636" y="728"/>
                  </a:lnTo>
                  <a:lnTo>
                    <a:pt x="649" y="738"/>
                  </a:lnTo>
                  <a:lnTo>
                    <a:pt x="660" y="747"/>
                  </a:lnTo>
                  <a:lnTo>
                    <a:pt x="671" y="756"/>
                  </a:lnTo>
                  <a:lnTo>
                    <a:pt x="681" y="764"/>
                  </a:lnTo>
                  <a:lnTo>
                    <a:pt x="690" y="772"/>
                  </a:lnTo>
                  <a:lnTo>
                    <a:pt x="699" y="779"/>
                  </a:lnTo>
                  <a:lnTo>
                    <a:pt x="707" y="786"/>
                  </a:lnTo>
                  <a:lnTo>
                    <a:pt x="714" y="793"/>
                  </a:lnTo>
                  <a:lnTo>
                    <a:pt x="738" y="815"/>
                  </a:lnTo>
                  <a:lnTo>
                    <a:pt x="762" y="839"/>
                  </a:lnTo>
                  <a:lnTo>
                    <a:pt x="782" y="862"/>
                  </a:lnTo>
                  <a:lnTo>
                    <a:pt x="803" y="886"/>
                  </a:lnTo>
                  <a:lnTo>
                    <a:pt x="821" y="913"/>
                  </a:lnTo>
                  <a:lnTo>
                    <a:pt x="838" y="939"/>
                  </a:lnTo>
                  <a:lnTo>
                    <a:pt x="854" y="966"/>
                  </a:lnTo>
                  <a:lnTo>
                    <a:pt x="868" y="995"/>
                  </a:lnTo>
                  <a:lnTo>
                    <a:pt x="880" y="1023"/>
                  </a:lnTo>
                  <a:lnTo>
                    <a:pt x="891" y="1053"/>
                  </a:lnTo>
                  <a:lnTo>
                    <a:pt x="900" y="1083"/>
                  </a:lnTo>
                  <a:lnTo>
                    <a:pt x="908" y="1112"/>
                  </a:lnTo>
                  <a:lnTo>
                    <a:pt x="914" y="1143"/>
                  </a:lnTo>
                  <a:lnTo>
                    <a:pt x="918" y="1175"/>
                  </a:lnTo>
                  <a:lnTo>
                    <a:pt x="920" y="1207"/>
                  </a:lnTo>
                  <a:lnTo>
                    <a:pt x="922" y="1239"/>
                  </a:lnTo>
                  <a:lnTo>
                    <a:pt x="920" y="1271"/>
                  </a:lnTo>
                  <a:lnTo>
                    <a:pt x="918" y="1301"/>
                  </a:lnTo>
                  <a:lnTo>
                    <a:pt x="915" y="1332"/>
                  </a:lnTo>
                  <a:lnTo>
                    <a:pt x="910" y="1362"/>
                  </a:lnTo>
                  <a:lnTo>
                    <a:pt x="904" y="1390"/>
                  </a:lnTo>
                  <a:lnTo>
                    <a:pt x="896" y="1418"/>
                  </a:lnTo>
                  <a:lnTo>
                    <a:pt x="887" y="1445"/>
                  </a:lnTo>
                  <a:lnTo>
                    <a:pt x="878" y="1471"/>
                  </a:lnTo>
                  <a:lnTo>
                    <a:pt x="866" y="1496"/>
                  </a:lnTo>
                  <a:lnTo>
                    <a:pt x="853" y="1520"/>
                  </a:lnTo>
                  <a:lnTo>
                    <a:pt x="839" y="1544"/>
                  </a:lnTo>
                  <a:lnTo>
                    <a:pt x="823" y="1566"/>
                  </a:lnTo>
                  <a:lnTo>
                    <a:pt x="806" y="1588"/>
                  </a:lnTo>
                  <a:lnTo>
                    <a:pt x="788" y="1609"/>
                  </a:lnTo>
                  <a:lnTo>
                    <a:pt x="769" y="1629"/>
                  </a:lnTo>
                  <a:lnTo>
                    <a:pt x="748" y="1648"/>
                  </a:lnTo>
                  <a:lnTo>
                    <a:pt x="725" y="1666"/>
                  </a:lnTo>
                  <a:lnTo>
                    <a:pt x="703" y="1682"/>
                  </a:lnTo>
                  <a:lnTo>
                    <a:pt x="677" y="1698"/>
                  </a:lnTo>
                  <a:lnTo>
                    <a:pt x="652" y="1713"/>
                  </a:lnTo>
                  <a:lnTo>
                    <a:pt x="626" y="1727"/>
                  </a:lnTo>
                  <a:lnTo>
                    <a:pt x="599" y="1738"/>
                  </a:lnTo>
                  <a:lnTo>
                    <a:pt x="570" y="1750"/>
                  </a:lnTo>
                  <a:lnTo>
                    <a:pt x="541" y="1759"/>
                  </a:lnTo>
                  <a:lnTo>
                    <a:pt x="510" y="1768"/>
                  </a:lnTo>
                  <a:lnTo>
                    <a:pt x="479" y="1776"/>
                  </a:lnTo>
                  <a:lnTo>
                    <a:pt x="446" y="1782"/>
                  </a:lnTo>
                  <a:lnTo>
                    <a:pt x="413" y="1787"/>
                  </a:lnTo>
                  <a:lnTo>
                    <a:pt x="377" y="1792"/>
                  </a:lnTo>
                  <a:lnTo>
                    <a:pt x="342" y="1794"/>
                  </a:lnTo>
                  <a:lnTo>
                    <a:pt x="306" y="1796"/>
                  </a:lnTo>
                  <a:lnTo>
                    <a:pt x="267" y="1796"/>
                  </a:lnTo>
                  <a:lnTo>
                    <a:pt x="252" y="1796"/>
                  </a:lnTo>
                  <a:lnTo>
                    <a:pt x="236" y="1795"/>
                  </a:lnTo>
                  <a:lnTo>
                    <a:pt x="221" y="1795"/>
                  </a:lnTo>
                  <a:lnTo>
                    <a:pt x="205" y="1794"/>
                  </a:lnTo>
                  <a:lnTo>
                    <a:pt x="190" y="1793"/>
                  </a:lnTo>
                  <a:lnTo>
                    <a:pt x="176" y="1793"/>
                  </a:lnTo>
                  <a:lnTo>
                    <a:pt x="161" y="1792"/>
                  </a:lnTo>
                  <a:lnTo>
                    <a:pt x="146" y="1790"/>
                  </a:lnTo>
                  <a:lnTo>
                    <a:pt x="131" y="1788"/>
                  </a:lnTo>
                  <a:lnTo>
                    <a:pt x="117" y="1787"/>
                  </a:lnTo>
                  <a:lnTo>
                    <a:pt x="103" y="1785"/>
                  </a:lnTo>
                  <a:lnTo>
                    <a:pt x="89" y="1784"/>
                  </a:lnTo>
                  <a:lnTo>
                    <a:pt x="74" y="1782"/>
                  </a:lnTo>
                  <a:lnTo>
                    <a:pt x="60" y="1779"/>
                  </a:lnTo>
                  <a:lnTo>
                    <a:pt x="47" y="1777"/>
                  </a:lnTo>
                  <a:lnTo>
                    <a:pt x="33" y="1775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0" name=""/>
          <p:cNvGrpSpPr/>
          <p:nvPr/>
        </p:nvGrpSpPr>
        <p:grpSpPr>
          <a:xfrm>
            <a:off x="2448360" y="1582560"/>
            <a:ext cx="4444560" cy="4456800"/>
            <a:chOff x="2448360" y="1582560"/>
            <a:chExt cx="4444560" cy="4456800"/>
          </a:xfrm>
        </p:grpSpPr>
        <p:grpSp>
          <p:nvGrpSpPr>
            <p:cNvPr id="2451" name=""/>
            <p:cNvGrpSpPr/>
            <p:nvPr/>
          </p:nvGrpSpPr>
          <p:grpSpPr>
            <a:xfrm>
              <a:off x="2448360" y="2313000"/>
              <a:ext cx="4444560" cy="3726360"/>
              <a:chOff x="2448360" y="2313000"/>
              <a:chExt cx="4444560" cy="3726360"/>
            </a:xfrm>
          </p:grpSpPr>
          <p:sp>
            <p:nvSpPr>
              <p:cNvPr id="2452" name=""/>
              <p:cNvSpPr/>
              <p:nvPr/>
            </p:nvSpPr>
            <p:spPr>
              <a:xfrm>
                <a:off x="2448360" y="5003640"/>
                <a:ext cx="44445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UNLESS YOU CHOOSE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3082680" y="5521320"/>
                <a:ext cx="3162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TO MAKE IT SO!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5264280" y="4797360"/>
                <a:ext cx="106200" cy="12600"/>
              </a:xfrm>
              <a:custGeom>
                <a:avLst/>
                <a:gdLst/>
                <a:ahLst/>
                <a:rect l="l" t="t" r="r" b="b"/>
                <a:pathLst>
                  <a:path w="401" h="48">
                    <a:moveTo>
                      <a:pt x="0" y="0"/>
                    </a:moveTo>
                    <a:lnTo>
                      <a:pt x="401" y="0"/>
                    </a:lnTo>
                    <a:lnTo>
                      <a:pt x="44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5251320" y="478476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612" h="97">
                    <a:moveTo>
                      <a:pt x="0" y="0"/>
                    </a:moveTo>
                    <a:lnTo>
                      <a:pt x="612" y="0"/>
                    </a:lnTo>
                    <a:lnTo>
                      <a:pt x="612" y="26"/>
                    </a:lnTo>
                    <a:lnTo>
                      <a:pt x="92" y="97"/>
                    </a:lnTo>
                    <a:lnTo>
                      <a:pt x="29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202360" y="477216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793" h="96">
                    <a:moveTo>
                      <a:pt x="630" y="96"/>
                    </a:moveTo>
                    <a:lnTo>
                      <a:pt x="229" y="96"/>
                    </a:lnTo>
                    <a:lnTo>
                      <a:pt x="210" y="73"/>
                    </a:lnTo>
                    <a:lnTo>
                      <a:pt x="140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793" y="0"/>
                    </a:lnTo>
                    <a:lnTo>
                      <a:pt x="793" y="73"/>
                    </a:lnTo>
                    <a:lnTo>
                      <a:pt x="630" y="96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192640" y="4759200"/>
                <a:ext cx="220680" cy="25560"/>
              </a:xfrm>
              <a:custGeom>
                <a:avLst/>
                <a:gdLst/>
                <a:ahLst/>
                <a:rect l="l" t="t" r="r" b="b"/>
                <a:pathLst>
                  <a:path w="831" h="95">
                    <a:moveTo>
                      <a:pt x="831" y="95"/>
                    </a:moveTo>
                    <a:lnTo>
                      <a:pt x="219" y="95"/>
                    </a:lnTo>
                    <a:lnTo>
                      <a:pt x="178" y="58"/>
                    </a:lnTo>
                    <a:lnTo>
                      <a:pt x="46" y="58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31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183280" y="4746600"/>
                <a:ext cx="230040" cy="25560"/>
              </a:xfrm>
              <a:custGeom>
                <a:avLst/>
                <a:gdLst/>
                <a:ahLst/>
                <a:rect l="l" t="t" r="r" b="b"/>
                <a:pathLst>
                  <a:path w="868" h="95">
                    <a:moveTo>
                      <a:pt x="868" y="95"/>
                    </a:moveTo>
                    <a:lnTo>
                      <a:pt x="75" y="9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804" y="47"/>
                    </a:lnTo>
                    <a:lnTo>
                      <a:pt x="868" y="47"/>
                    </a:lnTo>
                    <a:lnTo>
                      <a:pt x="868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222800" y="4734000"/>
                <a:ext cx="1190520" cy="25200"/>
              </a:xfrm>
              <a:custGeom>
                <a:avLst/>
                <a:gdLst/>
                <a:ahLst/>
                <a:rect l="l" t="t" r="r" b="b"/>
                <a:pathLst>
                  <a:path w="4498" h="95">
                    <a:moveTo>
                      <a:pt x="4498" y="95"/>
                    </a:moveTo>
                    <a:lnTo>
                      <a:pt x="3667" y="95"/>
                    </a:lnTo>
                    <a:lnTo>
                      <a:pt x="3592" y="0"/>
                    </a:lnTo>
                    <a:lnTo>
                      <a:pt x="4275" y="0"/>
                    </a:lnTo>
                    <a:lnTo>
                      <a:pt x="4301" y="26"/>
                    </a:lnTo>
                    <a:lnTo>
                      <a:pt x="4434" y="95"/>
                    </a:lnTo>
                    <a:lnTo>
                      <a:pt x="4498" y="95"/>
                    </a:lnTo>
                    <a:lnTo>
                      <a:pt x="4498" y="95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39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300" y="0"/>
                    </a:moveTo>
                    <a:lnTo>
                      <a:pt x="3389" y="0"/>
                    </a:lnTo>
                    <a:lnTo>
                      <a:pt x="3389" y="26"/>
                    </a:lnTo>
                    <a:lnTo>
                      <a:pt x="3326" y="26"/>
                    </a:lnTo>
                    <a:lnTo>
                      <a:pt x="3300" y="0"/>
                    </a:lnTo>
                    <a:close/>
                  </a:path>
                </a:pathLst>
              </a:custGeom>
              <a:solidFill>
                <a:srgbClr val="7fc4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097160" y="4721400"/>
                <a:ext cx="1275120" cy="25200"/>
              </a:xfrm>
              <a:custGeom>
                <a:avLst/>
                <a:gdLst/>
                <a:ahLst/>
                <a:rect l="l" t="t" r="r" b="b"/>
                <a:pathLst>
                  <a:path w="4818" h="95">
                    <a:moveTo>
                      <a:pt x="4818" y="95"/>
                    </a:moveTo>
                    <a:lnTo>
                      <a:pt x="4105" y="95"/>
                    </a:lnTo>
                    <a:lnTo>
                      <a:pt x="4030" y="0"/>
                    </a:lnTo>
                    <a:lnTo>
                      <a:pt x="4701" y="0"/>
                    </a:lnTo>
                    <a:lnTo>
                      <a:pt x="4776" y="73"/>
                    </a:lnTo>
                    <a:lnTo>
                      <a:pt x="4818" y="95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19" y="9"/>
                    </a:lnTo>
                    <a:lnTo>
                      <a:pt x="0" y="0"/>
                    </a:lnTo>
                    <a:close/>
                    <a:moveTo>
                      <a:pt x="475" y="0"/>
                    </a:moveTo>
                    <a:lnTo>
                      <a:pt x="998" y="0"/>
                    </a:lnTo>
                    <a:lnTo>
                      <a:pt x="998" y="9"/>
                    </a:lnTo>
                    <a:lnTo>
                      <a:pt x="929" y="9"/>
                    </a:lnTo>
                    <a:lnTo>
                      <a:pt x="866" y="73"/>
                    </a:lnTo>
                    <a:lnTo>
                      <a:pt x="475" y="73"/>
                    </a:lnTo>
                    <a:lnTo>
                      <a:pt x="475" y="0"/>
                    </a:lnTo>
                    <a:close/>
                    <a:moveTo>
                      <a:pt x="3727" y="0"/>
                    </a:moveTo>
                    <a:lnTo>
                      <a:pt x="3864" y="0"/>
                    </a:lnTo>
                    <a:lnTo>
                      <a:pt x="3864" y="73"/>
                    </a:lnTo>
                    <a:lnTo>
                      <a:pt x="3801" y="73"/>
                    </a:lnTo>
                    <a:lnTo>
                      <a:pt x="3737" y="9"/>
                    </a:lnTo>
                    <a:lnTo>
                      <a:pt x="3727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073400" y="4708440"/>
                <a:ext cx="1279800" cy="25560"/>
              </a:xfrm>
              <a:custGeom>
                <a:avLst/>
                <a:gdLst/>
                <a:ahLst/>
                <a:rect l="l" t="t" r="r" b="b"/>
                <a:pathLst>
                  <a:path w="4840" h="95">
                    <a:moveTo>
                      <a:pt x="4840" y="95"/>
                    </a:moveTo>
                    <a:lnTo>
                      <a:pt x="4157" y="95"/>
                    </a:lnTo>
                    <a:lnTo>
                      <a:pt x="4082" y="0"/>
                    </a:lnTo>
                    <a:lnTo>
                      <a:pt x="4742" y="0"/>
                    </a:lnTo>
                    <a:lnTo>
                      <a:pt x="4840" y="95"/>
                    </a:lnTo>
                    <a:close/>
                    <a:moveTo>
                      <a:pt x="3954" y="95"/>
                    </a:moveTo>
                    <a:lnTo>
                      <a:pt x="3865" y="95"/>
                    </a:lnTo>
                    <a:lnTo>
                      <a:pt x="3827" y="57"/>
                    </a:lnTo>
                    <a:lnTo>
                      <a:pt x="3770" y="0"/>
                    </a:lnTo>
                    <a:lnTo>
                      <a:pt x="3954" y="0"/>
                    </a:lnTo>
                    <a:lnTo>
                      <a:pt x="3954" y="95"/>
                    </a:lnTo>
                    <a:close/>
                    <a:moveTo>
                      <a:pt x="981" y="95"/>
                    </a:moveTo>
                    <a:lnTo>
                      <a:pt x="565" y="95"/>
                    </a:lnTo>
                    <a:lnTo>
                      <a:pt x="565" y="0"/>
                    </a:lnTo>
                    <a:lnTo>
                      <a:pt x="1088" y="0"/>
                    </a:lnTo>
                    <a:lnTo>
                      <a:pt x="1088" y="57"/>
                    </a:lnTo>
                    <a:lnTo>
                      <a:pt x="1019" y="57"/>
                    </a:lnTo>
                    <a:lnTo>
                      <a:pt x="981" y="95"/>
                    </a:lnTo>
                    <a:close/>
                    <a:moveTo>
                      <a:pt x="0" y="0"/>
                    </a:moveTo>
                    <a:lnTo>
                      <a:pt x="220" y="0"/>
                    </a:lnTo>
                    <a:lnTo>
                      <a:pt x="10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987720" y="4695840"/>
                <a:ext cx="1352520" cy="25560"/>
              </a:xfrm>
              <a:custGeom>
                <a:avLst/>
                <a:gdLst/>
                <a:ahLst/>
                <a:rect l="l" t="t" r="r" b="b"/>
                <a:pathLst>
                  <a:path w="5113" h="96">
                    <a:moveTo>
                      <a:pt x="5113" y="96"/>
                    </a:moveTo>
                    <a:lnTo>
                      <a:pt x="4442" y="96"/>
                    </a:lnTo>
                    <a:lnTo>
                      <a:pt x="4367" y="0"/>
                    </a:lnTo>
                    <a:lnTo>
                      <a:pt x="5015" y="0"/>
                    </a:lnTo>
                    <a:lnTo>
                      <a:pt x="5113" y="96"/>
                    </a:lnTo>
                    <a:close/>
                    <a:moveTo>
                      <a:pt x="4276" y="96"/>
                    </a:moveTo>
                    <a:lnTo>
                      <a:pt x="4139" y="96"/>
                    </a:lnTo>
                    <a:lnTo>
                      <a:pt x="4080" y="36"/>
                    </a:lnTo>
                    <a:lnTo>
                      <a:pt x="4080" y="0"/>
                    </a:lnTo>
                    <a:lnTo>
                      <a:pt x="4315" y="0"/>
                    </a:lnTo>
                    <a:lnTo>
                      <a:pt x="4276" y="36"/>
                    </a:lnTo>
                    <a:lnTo>
                      <a:pt x="4276" y="96"/>
                    </a:lnTo>
                    <a:close/>
                    <a:moveTo>
                      <a:pt x="1410" y="96"/>
                    </a:moveTo>
                    <a:lnTo>
                      <a:pt x="887" y="96"/>
                    </a:lnTo>
                    <a:lnTo>
                      <a:pt x="887" y="36"/>
                    </a:lnTo>
                    <a:lnTo>
                      <a:pt x="564" y="36"/>
                    </a:lnTo>
                    <a:lnTo>
                      <a:pt x="450" y="96"/>
                    </a:lnTo>
                    <a:lnTo>
                      <a:pt x="412" y="96"/>
                    </a:lnTo>
                    <a:lnTo>
                      <a:pt x="298" y="36"/>
                    </a:lnTo>
                    <a:lnTo>
                      <a:pt x="106" y="36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410" y="96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973680" y="4683240"/>
                <a:ext cx="1353960" cy="25200"/>
              </a:xfrm>
              <a:custGeom>
                <a:avLst/>
                <a:gdLst/>
                <a:ahLst/>
                <a:rect l="l" t="t" r="r" b="b"/>
                <a:pathLst>
                  <a:path w="5122" h="95">
                    <a:moveTo>
                      <a:pt x="5122" y="95"/>
                    </a:moveTo>
                    <a:lnTo>
                      <a:pt x="4462" y="95"/>
                    </a:lnTo>
                    <a:lnTo>
                      <a:pt x="4404" y="19"/>
                    </a:lnTo>
                    <a:lnTo>
                      <a:pt x="4334" y="83"/>
                    </a:lnTo>
                    <a:lnTo>
                      <a:pt x="4334" y="95"/>
                    </a:lnTo>
                    <a:lnTo>
                      <a:pt x="4150" y="95"/>
                    </a:lnTo>
                    <a:lnTo>
                      <a:pt x="4138" y="83"/>
                    </a:lnTo>
                    <a:lnTo>
                      <a:pt x="4138" y="19"/>
                    </a:lnTo>
                    <a:lnTo>
                      <a:pt x="4138" y="0"/>
                    </a:lnTo>
                    <a:lnTo>
                      <a:pt x="5025" y="0"/>
                    </a:lnTo>
                    <a:lnTo>
                      <a:pt x="5122" y="95"/>
                    </a:lnTo>
                    <a:close/>
                    <a:moveTo>
                      <a:pt x="1468" y="95"/>
                    </a:moveTo>
                    <a:lnTo>
                      <a:pt x="945" y="95"/>
                    </a:lnTo>
                    <a:lnTo>
                      <a:pt x="945" y="83"/>
                    </a:lnTo>
                    <a:lnTo>
                      <a:pt x="622" y="83"/>
                    </a:lnTo>
                    <a:lnTo>
                      <a:pt x="600" y="95"/>
                    </a:lnTo>
                    <a:lnTo>
                      <a:pt x="380" y="95"/>
                    </a:lnTo>
                    <a:lnTo>
                      <a:pt x="356" y="83"/>
                    </a:lnTo>
                    <a:lnTo>
                      <a:pt x="164" y="83"/>
                    </a:lnTo>
                    <a:lnTo>
                      <a:pt x="94" y="83"/>
                    </a:lnTo>
                    <a:lnTo>
                      <a:pt x="34" y="22"/>
                    </a:lnTo>
                    <a:lnTo>
                      <a:pt x="0" y="0"/>
                    </a:lnTo>
                    <a:lnTo>
                      <a:pt x="1468" y="0"/>
                    </a:lnTo>
                    <a:lnTo>
                      <a:pt x="1468" y="95"/>
                    </a:lnTo>
                    <a:close/>
                    <a:moveTo>
                      <a:pt x="2497" y="0"/>
                    </a:moveTo>
                    <a:lnTo>
                      <a:pt x="2517" y="0"/>
                    </a:lnTo>
                    <a:lnTo>
                      <a:pt x="2510" y="19"/>
                    </a:lnTo>
                    <a:lnTo>
                      <a:pt x="2497" y="0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954600" y="467028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4495" y="95"/>
                    </a:lnTo>
                    <a:lnTo>
                      <a:pt x="4474" y="67"/>
                    </a:lnTo>
                    <a:lnTo>
                      <a:pt x="4443" y="95"/>
                    </a:lnTo>
                    <a:lnTo>
                      <a:pt x="4208" y="95"/>
                    </a:lnTo>
                    <a:lnTo>
                      <a:pt x="4208" y="67"/>
                    </a:lnTo>
                    <a:lnTo>
                      <a:pt x="4208" y="4"/>
                    </a:lnTo>
                    <a:lnTo>
                      <a:pt x="4204" y="0"/>
                    </a:lnTo>
                    <a:lnTo>
                      <a:pt x="5047" y="0"/>
                    </a:lnTo>
                    <a:lnTo>
                      <a:pt x="5051" y="4"/>
                    </a:lnTo>
                    <a:lnTo>
                      <a:pt x="5143" y="95"/>
                    </a:lnTo>
                    <a:close/>
                    <a:moveTo>
                      <a:pt x="1538" y="95"/>
                    </a:moveTo>
                    <a:lnTo>
                      <a:pt x="128" y="95"/>
                    </a:lnTo>
                    <a:lnTo>
                      <a:pt x="104" y="70"/>
                    </a:lnTo>
                    <a:lnTo>
                      <a:pt x="0" y="0"/>
                    </a:lnTo>
                    <a:lnTo>
                      <a:pt x="1538" y="0"/>
                    </a:lnTo>
                    <a:lnTo>
                      <a:pt x="1538" y="95"/>
                    </a:lnTo>
                    <a:close/>
                    <a:moveTo>
                      <a:pt x="2534" y="0"/>
                    </a:moveTo>
                    <a:lnTo>
                      <a:pt x="2604" y="0"/>
                    </a:lnTo>
                    <a:lnTo>
                      <a:pt x="2580" y="67"/>
                    </a:lnTo>
                    <a:lnTo>
                      <a:pt x="2534" y="0"/>
                    </a:lnTo>
                    <a:close/>
                  </a:path>
                </a:pathLst>
              </a:custGeom>
              <a:solidFill>
                <a:srgbClr val="7dc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935520" y="4657680"/>
                <a:ext cx="1366560" cy="25560"/>
              </a:xfrm>
              <a:custGeom>
                <a:avLst/>
                <a:gdLst/>
                <a:ahLst/>
                <a:rect l="l" t="t" r="r" b="b"/>
                <a:pathLst>
                  <a:path w="5166" h="95">
                    <a:moveTo>
                      <a:pt x="5166" y="95"/>
                    </a:moveTo>
                    <a:lnTo>
                      <a:pt x="4279" y="95"/>
                    </a:lnTo>
                    <a:lnTo>
                      <a:pt x="4279" y="51"/>
                    </a:lnTo>
                    <a:lnTo>
                      <a:pt x="4231" y="0"/>
                    </a:lnTo>
                    <a:lnTo>
                      <a:pt x="5079" y="0"/>
                    </a:lnTo>
                    <a:lnTo>
                      <a:pt x="5122" y="51"/>
                    </a:lnTo>
                    <a:lnTo>
                      <a:pt x="5166" y="95"/>
                    </a:lnTo>
                    <a:close/>
                    <a:moveTo>
                      <a:pt x="2658" y="95"/>
                    </a:moveTo>
                    <a:lnTo>
                      <a:pt x="2638" y="95"/>
                    </a:lnTo>
                    <a:lnTo>
                      <a:pt x="2573" y="0"/>
                    </a:lnTo>
                    <a:lnTo>
                      <a:pt x="2692" y="0"/>
                    </a:lnTo>
                    <a:lnTo>
                      <a:pt x="2658" y="95"/>
                    </a:lnTo>
                    <a:close/>
                    <a:moveTo>
                      <a:pt x="1609" y="95"/>
                    </a:moveTo>
                    <a:lnTo>
                      <a:pt x="141" y="95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09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911760" y="4646520"/>
                <a:ext cx="1377720" cy="23760"/>
              </a:xfrm>
              <a:custGeom>
                <a:avLst/>
                <a:gdLst/>
                <a:ahLst/>
                <a:rect l="l" t="t" r="r" b="b"/>
                <a:pathLst>
                  <a:path w="5207" h="95">
                    <a:moveTo>
                      <a:pt x="5207" y="95"/>
                    </a:moveTo>
                    <a:lnTo>
                      <a:pt x="4364" y="95"/>
                    </a:lnTo>
                    <a:lnTo>
                      <a:pt x="4304" y="30"/>
                    </a:lnTo>
                    <a:lnTo>
                      <a:pt x="4304" y="0"/>
                    </a:lnTo>
                    <a:lnTo>
                      <a:pt x="5138" y="0"/>
                    </a:lnTo>
                    <a:lnTo>
                      <a:pt x="5153" y="30"/>
                    </a:lnTo>
                    <a:lnTo>
                      <a:pt x="5207" y="95"/>
                    </a:lnTo>
                    <a:close/>
                    <a:moveTo>
                      <a:pt x="2764" y="95"/>
                    </a:moveTo>
                    <a:lnTo>
                      <a:pt x="2694" y="95"/>
                    </a:lnTo>
                    <a:lnTo>
                      <a:pt x="2630" y="0"/>
                    </a:lnTo>
                    <a:lnTo>
                      <a:pt x="2797" y="0"/>
                    </a:lnTo>
                    <a:lnTo>
                      <a:pt x="2764" y="95"/>
                    </a:lnTo>
                    <a:close/>
                    <a:moveTo>
                      <a:pt x="1698" y="95"/>
                    </a:moveTo>
                    <a:lnTo>
                      <a:pt x="160" y="95"/>
                    </a:lnTo>
                    <a:lnTo>
                      <a:pt x="68" y="32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8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890880" y="4632480"/>
                <a:ext cx="1389240" cy="25200"/>
              </a:xfrm>
              <a:custGeom>
                <a:avLst/>
                <a:gdLst/>
                <a:ahLst/>
                <a:rect l="l" t="t" r="r" b="b"/>
                <a:pathLst>
                  <a:path w="5245" h="97">
                    <a:moveTo>
                      <a:pt x="5245" y="97"/>
                    </a:moveTo>
                    <a:lnTo>
                      <a:pt x="4397" y="97"/>
                    </a:lnTo>
                    <a:lnTo>
                      <a:pt x="4381" y="79"/>
                    </a:lnTo>
                    <a:lnTo>
                      <a:pt x="4381" y="0"/>
                    </a:lnTo>
                    <a:lnTo>
                      <a:pt x="5193" y="0"/>
                    </a:lnTo>
                    <a:lnTo>
                      <a:pt x="5230" y="79"/>
                    </a:lnTo>
                    <a:lnTo>
                      <a:pt x="5245" y="97"/>
                    </a:lnTo>
                    <a:close/>
                    <a:moveTo>
                      <a:pt x="2858" y="97"/>
                    </a:moveTo>
                    <a:lnTo>
                      <a:pt x="2739" y="97"/>
                    </a:lnTo>
                    <a:lnTo>
                      <a:pt x="2684" y="15"/>
                    </a:lnTo>
                    <a:lnTo>
                      <a:pt x="2684" y="0"/>
                    </a:lnTo>
                    <a:lnTo>
                      <a:pt x="2893" y="0"/>
                    </a:lnTo>
                    <a:lnTo>
                      <a:pt x="2886" y="15"/>
                    </a:lnTo>
                    <a:lnTo>
                      <a:pt x="2858" y="97"/>
                    </a:lnTo>
                    <a:close/>
                    <a:moveTo>
                      <a:pt x="1775" y="97"/>
                    </a:moveTo>
                    <a:lnTo>
                      <a:pt x="166" y="97"/>
                    </a:lnTo>
                    <a:lnTo>
                      <a:pt x="145" y="81"/>
                    </a:lnTo>
                    <a:lnTo>
                      <a:pt x="14" y="18"/>
                    </a:lnTo>
                    <a:lnTo>
                      <a:pt x="0" y="0"/>
                    </a:lnTo>
                    <a:lnTo>
                      <a:pt x="1775" y="0"/>
                    </a:lnTo>
                    <a:lnTo>
                      <a:pt x="1775" y="97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879720" y="4619520"/>
                <a:ext cx="1392480" cy="27000"/>
              </a:xfrm>
              <a:custGeom>
                <a:avLst/>
                <a:gdLst/>
                <a:ahLst/>
                <a:rect l="l" t="t" r="r" b="b"/>
                <a:pathLst>
                  <a:path w="5259" h="96">
                    <a:moveTo>
                      <a:pt x="5259" y="96"/>
                    </a:moveTo>
                    <a:lnTo>
                      <a:pt x="4425" y="96"/>
                    </a:lnTo>
                    <a:lnTo>
                      <a:pt x="4425" y="0"/>
                    </a:lnTo>
                    <a:lnTo>
                      <a:pt x="5214" y="0"/>
                    </a:lnTo>
                    <a:lnTo>
                      <a:pt x="5259" y="96"/>
                    </a:lnTo>
                    <a:close/>
                    <a:moveTo>
                      <a:pt x="2918" y="96"/>
                    </a:moveTo>
                    <a:lnTo>
                      <a:pt x="2751" y="96"/>
                    </a:lnTo>
                    <a:lnTo>
                      <a:pt x="2728" y="62"/>
                    </a:lnTo>
                    <a:lnTo>
                      <a:pt x="2728" y="0"/>
                    </a:lnTo>
                    <a:lnTo>
                      <a:pt x="2961" y="0"/>
                    </a:lnTo>
                    <a:lnTo>
                      <a:pt x="2930" y="62"/>
                    </a:lnTo>
                    <a:lnTo>
                      <a:pt x="2918" y="96"/>
                    </a:lnTo>
                    <a:close/>
                    <a:moveTo>
                      <a:pt x="1819" y="96"/>
                    </a:moveTo>
                    <a:lnTo>
                      <a:pt x="121" y="96"/>
                    </a:lnTo>
                    <a:lnTo>
                      <a:pt x="58" y="65"/>
                    </a:lnTo>
                    <a:lnTo>
                      <a:pt x="0" y="0"/>
                    </a:lnTo>
                    <a:lnTo>
                      <a:pt x="1819" y="0"/>
                    </a:lnTo>
                    <a:lnTo>
                      <a:pt x="1819" y="96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865680" y="4608360"/>
                <a:ext cx="1400040" cy="24120"/>
              </a:xfrm>
              <a:custGeom>
                <a:avLst/>
                <a:gdLst/>
                <a:ahLst/>
                <a:rect l="l" t="t" r="r" b="b"/>
                <a:pathLst>
                  <a:path w="5291" h="95">
                    <a:moveTo>
                      <a:pt x="5291" y="95"/>
                    </a:moveTo>
                    <a:lnTo>
                      <a:pt x="4479" y="95"/>
                    </a:lnTo>
                    <a:lnTo>
                      <a:pt x="4479" y="41"/>
                    </a:lnTo>
                    <a:lnTo>
                      <a:pt x="4479" y="0"/>
                    </a:lnTo>
                    <a:lnTo>
                      <a:pt x="5241" y="0"/>
                    </a:lnTo>
                    <a:lnTo>
                      <a:pt x="5265" y="41"/>
                    </a:lnTo>
                    <a:lnTo>
                      <a:pt x="5291" y="95"/>
                    </a:lnTo>
                    <a:close/>
                    <a:moveTo>
                      <a:pt x="2991" y="95"/>
                    </a:moveTo>
                    <a:lnTo>
                      <a:pt x="2782" y="95"/>
                    </a:lnTo>
                    <a:lnTo>
                      <a:pt x="2782" y="0"/>
                    </a:lnTo>
                    <a:lnTo>
                      <a:pt x="3039" y="0"/>
                    </a:lnTo>
                    <a:lnTo>
                      <a:pt x="2991" y="95"/>
                    </a:lnTo>
                    <a:close/>
                    <a:moveTo>
                      <a:pt x="1873" y="95"/>
                    </a:moveTo>
                    <a:lnTo>
                      <a:pt x="98" y="95"/>
                    </a:lnTo>
                    <a:lnTo>
                      <a:pt x="49" y="43"/>
                    </a:lnTo>
                    <a:lnTo>
                      <a:pt x="0" y="0"/>
                    </a:lnTo>
                    <a:lnTo>
                      <a:pt x="1873" y="0"/>
                    </a:lnTo>
                    <a:lnTo>
                      <a:pt x="187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860640" y="4595760"/>
                <a:ext cx="1398600" cy="23760"/>
              </a:xfrm>
              <a:custGeom>
                <a:avLst/>
                <a:gdLst/>
                <a:ahLst/>
                <a:rect l="l" t="t" r="r" b="b"/>
                <a:pathLst>
                  <a:path w="5288" h="95">
                    <a:moveTo>
                      <a:pt x="5288" y="95"/>
                    </a:moveTo>
                    <a:lnTo>
                      <a:pt x="4499" y="95"/>
                    </a:lnTo>
                    <a:lnTo>
                      <a:pt x="4499" y="88"/>
                    </a:lnTo>
                    <a:lnTo>
                      <a:pt x="4499" y="30"/>
                    </a:lnTo>
                    <a:lnTo>
                      <a:pt x="4499" y="0"/>
                    </a:lnTo>
                    <a:lnTo>
                      <a:pt x="5235" y="0"/>
                    </a:lnTo>
                    <a:lnTo>
                      <a:pt x="5285" y="88"/>
                    </a:lnTo>
                    <a:lnTo>
                      <a:pt x="5288" y="95"/>
                    </a:lnTo>
                    <a:close/>
                    <a:moveTo>
                      <a:pt x="3035" y="95"/>
                    </a:moveTo>
                    <a:lnTo>
                      <a:pt x="2802" y="95"/>
                    </a:lnTo>
                    <a:lnTo>
                      <a:pt x="2802" y="30"/>
                    </a:lnTo>
                    <a:lnTo>
                      <a:pt x="2773" y="0"/>
                    </a:lnTo>
                    <a:lnTo>
                      <a:pt x="3358" y="0"/>
                    </a:lnTo>
                    <a:lnTo>
                      <a:pt x="3328" y="30"/>
                    </a:lnTo>
                    <a:lnTo>
                      <a:pt x="3068" y="30"/>
                    </a:lnTo>
                    <a:lnTo>
                      <a:pt x="3035" y="95"/>
                    </a:lnTo>
                    <a:close/>
                    <a:moveTo>
                      <a:pt x="1893" y="95"/>
                    </a:moveTo>
                    <a:lnTo>
                      <a:pt x="74" y="95"/>
                    </a:lnTo>
                    <a:lnTo>
                      <a:pt x="69" y="9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3860640" y="4583160"/>
                <a:ext cx="1392480" cy="25200"/>
              </a:xfrm>
              <a:custGeom>
                <a:avLst/>
                <a:gdLst/>
                <a:ahLst/>
                <a:rect l="l" t="t" r="r" b="b"/>
                <a:pathLst>
                  <a:path w="5261" h="95">
                    <a:moveTo>
                      <a:pt x="5261" y="95"/>
                    </a:moveTo>
                    <a:lnTo>
                      <a:pt x="4499" y="95"/>
                    </a:lnTo>
                    <a:lnTo>
                      <a:pt x="4499" y="78"/>
                    </a:lnTo>
                    <a:lnTo>
                      <a:pt x="4499" y="15"/>
                    </a:lnTo>
                    <a:lnTo>
                      <a:pt x="4499" y="0"/>
                    </a:lnTo>
                    <a:lnTo>
                      <a:pt x="5209" y="0"/>
                    </a:lnTo>
                    <a:lnTo>
                      <a:pt x="5215" y="15"/>
                    </a:lnTo>
                    <a:lnTo>
                      <a:pt x="5261" y="95"/>
                    </a:lnTo>
                    <a:close/>
                    <a:moveTo>
                      <a:pt x="3059" y="95"/>
                    </a:moveTo>
                    <a:lnTo>
                      <a:pt x="2802" y="95"/>
                    </a:lnTo>
                    <a:lnTo>
                      <a:pt x="2802" y="78"/>
                    </a:lnTo>
                    <a:lnTo>
                      <a:pt x="2739" y="15"/>
                    </a:lnTo>
                    <a:lnTo>
                      <a:pt x="2743" y="0"/>
                    </a:lnTo>
                    <a:lnTo>
                      <a:pt x="3404" y="0"/>
                    </a:lnTo>
                    <a:lnTo>
                      <a:pt x="3391" y="15"/>
                    </a:lnTo>
                    <a:lnTo>
                      <a:pt x="3328" y="78"/>
                    </a:lnTo>
                    <a:lnTo>
                      <a:pt x="3068" y="78"/>
                    </a:lnTo>
                    <a:lnTo>
                      <a:pt x="3059" y="95"/>
                    </a:lnTo>
                    <a:close/>
                    <a:moveTo>
                      <a:pt x="1893" y="95"/>
                    </a:moveTo>
                    <a:lnTo>
                      <a:pt x="20" y="95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3860640" y="45705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5" h="95">
                    <a:moveTo>
                      <a:pt x="5235" y="95"/>
                    </a:moveTo>
                    <a:lnTo>
                      <a:pt x="4499" y="95"/>
                    </a:lnTo>
                    <a:lnTo>
                      <a:pt x="4499" y="62"/>
                    </a:lnTo>
                    <a:lnTo>
                      <a:pt x="4499" y="0"/>
                    </a:lnTo>
                    <a:lnTo>
                      <a:pt x="5186" y="0"/>
                    </a:lnTo>
                    <a:lnTo>
                      <a:pt x="5215" y="62"/>
                    </a:lnTo>
                    <a:lnTo>
                      <a:pt x="5235" y="95"/>
                    </a:lnTo>
                    <a:close/>
                    <a:moveTo>
                      <a:pt x="3358" y="95"/>
                    </a:moveTo>
                    <a:lnTo>
                      <a:pt x="2773" y="95"/>
                    </a:lnTo>
                    <a:lnTo>
                      <a:pt x="2739" y="62"/>
                    </a:lnTo>
                    <a:lnTo>
                      <a:pt x="2758" y="0"/>
                    </a:lnTo>
                    <a:lnTo>
                      <a:pt x="3447" y="0"/>
                    </a:lnTo>
                    <a:lnTo>
                      <a:pt x="3391" y="62"/>
                    </a:lnTo>
                    <a:lnTo>
                      <a:pt x="3358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860640" y="4557600"/>
                <a:ext cx="1378080" cy="25560"/>
              </a:xfrm>
              <a:custGeom>
                <a:avLst/>
                <a:gdLst/>
                <a:ahLst/>
                <a:rect l="l" t="t" r="r" b="b"/>
                <a:pathLst>
                  <a:path w="5209" h="95">
                    <a:moveTo>
                      <a:pt x="5209" y="95"/>
                    </a:moveTo>
                    <a:lnTo>
                      <a:pt x="4499" y="95"/>
                    </a:lnTo>
                    <a:lnTo>
                      <a:pt x="4499" y="0"/>
                    </a:lnTo>
                    <a:lnTo>
                      <a:pt x="5162" y="0"/>
                    </a:lnTo>
                    <a:lnTo>
                      <a:pt x="5209" y="95"/>
                    </a:lnTo>
                    <a:close/>
                    <a:moveTo>
                      <a:pt x="3404" y="95"/>
                    </a:moveTo>
                    <a:lnTo>
                      <a:pt x="2743" y="95"/>
                    </a:lnTo>
                    <a:lnTo>
                      <a:pt x="2773" y="0"/>
                    </a:lnTo>
                    <a:lnTo>
                      <a:pt x="3537" y="0"/>
                    </a:lnTo>
                    <a:lnTo>
                      <a:pt x="3454" y="39"/>
                    </a:lnTo>
                    <a:lnTo>
                      <a:pt x="3404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39"/>
                    </a:lnTo>
                    <a:lnTo>
                      <a:pt x="69" y="39"/>
                    </a:lnTo>
                    <a:lnTo>
                      <a:pt x="108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860640" y="4545000"/>
                <a:ext cx="1371600" cy="25560"/>
              </a:xfrm>
              <a:custGeom>
                <a:avLst/>
                <a:gdLst/>
                <a:ahLst/>
                <a:rect l="l" t="t" r="r" b="b"/>
                <a:pathLst>
                  <a:path w="5186" h="95">
                    <a:moveTo>
                      <a:pt x="5186" y="95"/>
                    </a:moveTo>
                    <a:lnTo>
                      <a:pt x="4499" y="95"/>
                    </a:lnTo>
                    <a:lnTo>
                      <a:pt x="4499" y="23"/>
                    </a:lnTo>
                    <a:lnTo>
                      <a:pt x="4521" y="0"/>
                    </a:lnTo>
                    <a:lnTo>
                      <a:pt x="5143" y="0"/>
                    </a:lnTo>
                    <a:lnTo>
                      <a:pt x="5152" y="23"/>
                    </a:lnTo>
                    <a:lnTo>
                      <a:pt x="5186" y="95"/>
                    </a:lnTo>
                    <a:close/>
                    <a:moveTo>
                      <a:pt x="3447" y="95"/>
                    </a:moveTo>
                    <a:lnTo>
                      <a:pt x="2758" y="95"/>
                    </a:lnTo>
                    <a:lnTo>
                      <a:pt x="2788" y="0"/>
                    </a:lnTo>
                    <a:lnTo>
                      <a:pt x="3587" y="0"/>
                    </a:lnTo>
                    <a:lnTo>
                      <a:pt x="3587" y="23"/>
                    </a:lnTo>
                    <a:lnTo>
                      <a:pt x="3454" y="86"/>
                    </a:lnTo>
                    <a:lnTo>
                      <a:pt x="3447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86"/>
                    </a:lnTo>
                    <a:lnTo>
                      <a:pt x="69" y="86"/>
                    </a:lnTo>
                    <a:lnTo>
                      <a:pt x="132" y="23"/>
                    </a:lnTo>
                    <a:lnTo>
                      <a:pt x="781" y="23"/>
                    </a:lnTo>
                    <a:lnTo>
                      <a:pt x="78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889440" y="4532400"/>
                <a:ext cx="1336680" cy="25200"/>
              </a:xfrm>
              <a:custGeom>
                <a:avLst/>
                <a:gdLst/>
                <a:ahLst/>
                <a:rect l="l" t="t" r="r" b="b"/>
                <a:pathLst>
                  <a:path w="5054" h="95">
                    <a:moveTo>
                      <a:pt x="5054" y="95"/>
                    </a:moveTo>
                    <a:lnTo>
                      <a:pt x="4391" y="95"/>
                    </a:lnTo>
                    <a:lnTo>
                      <a:pt x="4391" y="71"/>
                    </a:lnTo>
                    <a:lnTo>
                      <a:pt x="4455" y="2"/>
                    </a:lnTo>
                    <a:lnTo>
                      <a:pt x="4455" y="0"/>
                    </a:lnTo>
                    <a:lnTo>
                      <a:pt x="5019" y="0"/>
                    </a:lnTo>
                    <a:lnTo>
                      <a:pt x="5044" y="71"/>
                    </a:lnTo>
                    <a:lnTo>
                      <a:pt x="5054" y="95"/>
                    </a:lnTo>
                    <a:close/>
                    <a:moveTo>
                      <a:pt x="3429" y="95"/>
                    </a:moveTo>
                    <a:lnTo>
                      <a:pt x="2665" y="95"/>
                    </a:lnTo>
                    <a:lnTo>
                      <a:pt x="2694" y="2"/>
                    </a:lnTo>
                    <a:lnTo>
                      <a:pt x="2694" y="0"/>
                    </a:lnTo>
                    <a:lnTo>
                      <a:pt x="3479" y="0"/>
                    </a:lnTo>
                    <a:lnTo>
                      <a:pt x="3479" y="2"/>
                    </a:lnTo>
                    <a:lnTo>
                      <a:pt x="3479" y="71"/>
                    </a:lnTo>
                    <a:lnTo>
                      <a:pt x="3429" y="95"/>
                    </a:lnTo>
                    <a:close/>
                    <a:moveTo>
                      <a:pt x="1785" y="95"/>
                    </a:moveTo>
                    <a:lnTo>
                      <a:pt x="0" y="95"/>
                    </a:lnTo>
                    <a:lnTo>
                      <a:pt x="24" y="71"/>
                    </a:lnTo>
                    <a:lnTo>
                      <a:pt x="673" y="71"/>
                    </a:lnTo>
                    <a:lnTo>
                      <a:pt x="669" y="0"/>
                    </a:lnTo>
                    <a:lnTo>
                      <a:pt x="1785" y="0"/>
                    </a:lnTo>
                    <a:lnTo>
                      <a:pt x="1785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065480" y="4519440"/>
                <a:ext cx="1155960" cy="25560"/>
              </a:xfrm>
              <a:custGeom>
                <a:avLst/>
                <a:gdLst/>
                <a:ahLst/>
                <a:rect l="l" t="t" r="r" b="b"/>
                <a:pathLst>
                  <a:path w="4370" h="95">
                    <a:moveTo>
                      <a:pt x="4370" y="95"/>
                    </a:moveTo>
                    <a:lnTo>
                      <a:pt x="3748" y="95"/>
                    </a:lnTo>
                    <a:lnTo>
                      <a:pt x="3790" y="49"/>
                    </a:lnTo>
                    <a:lnTo>
                      <a:pt x="3790" y="0"/>
                    </a:lnTo>
                    <a:lnTo>
                      <a:pt x="4337" y="0"/>
                    </a:lnTo>
                    <a:lnTo>
                      <a:pt x="4370" y="95"/>
                    </a:lnTo>
                    <a:close/>
                    <a:moveTo>
                      <a:pt x="2814" y="95"/>
                    </a:moveTo>
                    <a:lnTo>
                      <a:pt x="2015" y="95"/>
                    </a:lnTo>
                    <a:lnTo>
                      <a:pt x="2029" y="49"/>
                    </a:lnTo>
                    <a:lnTo>
                      <a:pt x="2029" y="0"/>
                    </a:lnTo>
                    <a:lnTo>
                      <a:pt x="2814" y="0"/>
                    </a:lnTo>
                    <a:lnTo>
                      <a:pt x="2814" y="49"/>
                    </a:lnTo>
                    <a:lnTo>
                      <a:pt x="2814" y="95"/>
                    </a:lnTo>
                    <a:close/>
                    <a:moveTo>
                      <a:pt x="1120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064040" y="4506840"/>
                <a:ext cx="1152360" cy="25560"/>
              </a:xfrm>
              <a:custGeom>
                <a:avLst/>
                <a:gdLst/>
                <a:ahLst/>
                <a:rect l="l" t="t" r="r" b="b"/>
                <a:pathLst>
                  <a:path w="4357" h="95">
                    <a:moveTo>
                      <a:pt x="4357" y="95"/>
                    </a:moveTo>
                    <a:lnTo>
                      <a:pt x="3793" y="95"/>
                    </a:lnTo>
                    <a:lnTo>
                      <a:pt x="3793" y="0"/>
                    </a:lnTo>
                    <a:lnTo>
                      <a:pt x="4322" y="0"/>
                    </a:lnTo>
                    <a:lnTo>
                      <a:pt x="4357" y="95"/>
                    </a:lnTo>
                    <a:close/>
                    <a:moveTo>
                      <a:pt x="2817" y="95"/>
                    </a:moveTo>
                    <a:lnTo>
                      <a:pt x="2032" y="95"/>
                    </a:lnTo>
                    <a:lnTo>
                      <a:pt x="2032" y="0"/>
                    </a:lnTo>
                    <a:lnTo>
                      <a:pt x="2817" y="0"/>
                    </a:lnTo>
                    <a:lnTo>
                      <a:pt x="2817" y="33"/>
                    </a:lnTo>
                    <a:lnTo>
                      <a:pt x="2817" y="95"/>
                    </a:lnTo>
                    <a:close/>
                    <a:moveTo>
                      <a:pt x="112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3" y="0"/>
                    </a:lnTo>
                    <a:lnTo>
                      <a:pt x="1123" y="95"/>
                    </a:lnTo>
                    <a:close/>
                    <a:moveTo>
                      <a:pt x="1539" y="0"/>
                    </a:moveTo>
                    <a:lnTo>
                      <a:pt x="1680" y="0"/>
                    </a:lnTo>
                    <a:lnTo>
                      <a:pt x="1643" y="37"/>
                    </a:lnTo>
                    <a:lnTo>
                      <a:pt x="1579" y="37"/>
                    </a:lnTo>
                    <a:lnTo>
                      <a:pt x="1539" y="0"/>
                    </a:lnTo>
                    <a:close/>
                  </a:path>
                </a:pathLst>
              </a:custGeom>
              <a:solidFill>
                <a:srgbClr val="7bb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062240" y="4494240"/>
                <a:ext cx="1149480" cy="25200"/>
              </a:xfrm>
              <a:custGeom>
                <a:avLst/>
                <a:gdLst/>
                <a:ahLst/>
                <a:rect l="l" t="t" r="r" b="b"/>
                <a:pathLst>
                  <a:path w="4344" h="96">
                    <a:moveTo>
                      <a:pt x="4344" y="96"/>
                    </a:moveTo>
                    <a:lnTo>
                      <a:pt x="3797" y="96"/>
                    </a:lnTo>
                    <a:lnTo>
                      <a:pt x="3797" y="18"/>
                    </a:lnTo>
                    <a:lnTo>
                      <a:pt x="3789" y="0"/>
                    </a:lnTo>
                    <a:lnTo>
                      <a:pt x="4311" y="0"/>
                    </a:lnTo>
                    <a:lnTo>
                      <a:pt x="4317" y="18"/>
                    </a:lnTo>
                    <a:lnTo>
                      <a:pt x="4344" y="96"/>
                    </a:lnTo>
                    <a:close/>
                    <a:moveTo>
                      <a:pt x="2821" y="96"/>
                    </a:moveTo>
                    <a:lnTo>
                      <a:pt x="2036" y="96"/>
                    </a:lnTo>
                    <a:lnTo>
                      <a:pt x="2036" y="18"/>
                    </a:lnTo>
                    <a:lnTo>
                      <a:pt x="2034" y="0"/>
                    </a:lnTo>
                    <a:lnTo>
                      <a:pt x="2806" y="0"/>
                    </a:lnTo>
                    <a:lnTo>
                      <a:pt x="2821" y="18"/>
                    </a:lnTo>
                    <a:lnTo>
                      <a:pt x="2821" y="81"/>
                    </a:lnTo>
                    <a:lnTo>
                      <a:pt x="2821" y="96"/>
                    </a:lnTo>
                    <a:close/>
                    <a:moveTo>
                      <a:pt x="1127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27" y="0"/>
                    </a:lnTo>
                    <a:lnTo>
                      <a:pt x="1127" y="96"/>
                    </a:lnTo>
                    <a:close/>
                    <a:moveTo>
                      <a:pt x="1374" y="0"/>
                    </a:moveTo>
                    <a:lnTo>
                      <a:pt x="1730" y="0"/>
                    </a:lnTo>
                    <a:lnTo>
                      <a:pt x="1710" y="21"/>
                    </a:lnTo>
                    <a:lnTo>
                      <a:pt x="1647" y="85"/>
                    </a:lnTo>
                    <a:lnTo>
                      <a:pt x="1583" y="85"/>
                    </a:lnTo>
                    <a:lnTo>
                      <a:pt x="1514" y="21"/>
                    </a:lnTo>
                    <a:lnTo>
                      <a:pt x="1384" y="21"/>
                    </a:lnTo>
                    <a:lnTo>
                      <a:pt x="1374" y="0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062240" y="4481640"/>
                <a:ext cx="1144800" cy="25200"/>
              </a:xfrm>
              <a:custGeom>
                <a:avLst/>
                <a:gdLst/>
                <a:ahLst/>
                <a:rect l="l" t="t" r="r" b="b"/>
                <a:pathLst>
                  <a:path w="4330" h="95">
                    <a:moveTo>
                      <a:pt x="4330" y="95"/>
                    </a:moveTo>
                    <a:lnTo>
                      <a:pt x="3801" y="95"/>
                    </a:lnTo>
                    <a:lnTo>
                      <a:pt x="3801" y="65"/>
                    </a:lnTo>
                    <a:lnTo>
                      <a:pt x="3770" y="0"/>
                    </a:lnTo>
                    <a:lnTo>
                      <a:pt x="4300" y="0"/>
                    </a:lnTo>
                    <a:lnTo>
                      <a:pt x="4321" y="65"/>
                    </a:lnTo>
                    <a:lnTo>
                      <a:pt x="4330" y="95"/>
                    </a:lnTo>
                    <a:close/>
                    <a:moveTo>
                      <a:pt x="2825" y="95"/>
                    </a:moveTo>
                    <a:lnTo>
                      <a:pt x="2040" y="95"/>
                    </a:lnTo>
                    <a:lnTo>
                      <a:pt x="2040" y="65"/>
                    </a:lnTo>
                    <a:lnTo>
                      <a:pt x="2030" y="0"/>
                    </a:lnTo>
                    <a:lnTo>
                      <a:pt x="2766" y="0"/>
                    </a:lnTo>
                    <a:lnTo>
                      <a:pt x="2825" y="65"/>
                    </a:lnTo>
                    <a:lnTo>
                      <a:pt x="2825" y="95"/>
                    </a:lnTo>
                    <a:close/>
                    <a:moveTo>
                      <a:pt x="1688" y="95"/>
                    </a:moveTo>
                    <a:lnTo>
                      <a:pt x="1547" y="95"/>
                    </a:lnTo>
                    <a:lnTo>
                      <a:pt x="1518" y="68"/>
                    </a:lnTo>
                    <a:lnTo>
                      <a:pt x="1388" y="68"/>
                    </a:lnTo>
                    <a:lnTo>
                      <a:pt x="1355" y="0"/>
                    </a:lnTo>
                    <a:lnTo>
                      <a:pt x="1780" y="0"/>
                    </a:lnTo>
                    <a:lnTo>
                      <a:pt x="1714" y="68"/>
                    </a:lnTo>
                    <a:lnTo>
                      <a:pt x="1688" y="95"/>
                    </a:lnTo>
                    <a:close/>
                    <a:moveTo>
                      <a:pt x="11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131" y="0"/>
                    </a:lnTo>
                    <a:lnTo>
                      <a:pt x="1131" y="95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060800" y="446868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18" h="96">
                    <a:moveTo>
                      <a:pt x="4318" y="96"/>
                    </a:moveTo>
                    <a:lnTo>
                      <a:pt x="3796" y="96"/>
                    </a:lnTo>
                    <a:lnTo>
                      <a:pt x="3749" y="0"/>
                    </a:lnTo>
                    <a:lnTo>
                      <a:pt x="4287" y="0"/>
                    </a:lnTo>
                    <a:lnTo>
                      <a:pt x="4318" y="96"/>
                    </a:lnTo>
                    <a:close/>
                    <a:moveTo>
                      <a:pt x="2813" y="96"/>
                    </a:moveTo>
                    <a:lnTo>
                      <a:pt x="2041" y="96"/>
                    </a:lnTo>
                    <a:lnTo>
                      <a:pt x="2024" y="0"/>
                    </a:lnTo>
                    <a:lnTo>
                      <a:pt x="2520" y="0"/>
                    </a:lnTo>
                    <a:lnTo>
                      <a:pt x="2569" y="44"/>
                    </a:lnTo>
                    <a:lnTo>
                      <a:pt x="2765" y="44"/>
                    </a:lnTo>
                    <a:lnTo>
                      <a:pt x="2813" y="96"/>
                    </a:lnTo>
                    <a:close/>
                    <a:moveTo>
                      <a:pt x="1737" y="96"/>
                    </a:moveTo>
                    <a:lnTo>
                      <a:pt x="1381" y="96"/>
                    </a:lnTo>
                    <a:lnTo>
                      <a:pt x="1336" y="0"/>
                    </a:lnTo>
                    <a:lnTo>
                      <a:pt x="1831" y="0"/>
                    </a:lnTo>
                    <a:lnTo>
                      <a:pt x="1783" y="48"/>
                    </a:lnTo>
                    <a:lnTo>
                      <a:pt x="1737" y="96"/>
                    </a:lnTo>
                    <a:close/>
                    <a:moveTo>
                      <a:pt x="1134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34" y="0"/>
                    </a:lnTo>
                    <a:lnTo>
                      <a:pt x="1134" y="96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060800" y="4456080"/>
                <a:ext cx="1138320" cy="25560"/>
              </a:xfrm>
              <a:custGeom>
                <a:avLst/>
                <a:gdLst/>
                <a:ahLst/>
                <a:rect l="l" t="t" r="r" b="b"/>
                <a:pathLst>
                  <a:path w="4307" h="96">
                    <a:moveTo>
                      <a:pt x="4307" y="96"/>
                    </a:moveTo>
                    <a:lnTo>
                      <a:pt x="3777" y="96"/>
                    </a:lnTo>
                    <a:lnTo>
                      <a:pt x="3744" y="28"/>
                    </a:lnTo>
                    <a:lnTo>
                      <a:pt x="3744" y="0"/>
                    </a:lnTo>
                    <a:lnTo>
                      <a:pt x="4276" y="0"/>
                    </a:lnTo>
                    <a:lnTo>
                      <a:pt x="4307" y="96"/>
                    </a:lnTo>
                    <a:close/>
                    <a:moveTo>
                      <a:pt x="2773" y="96"/>
                    </a:moveTo>
                    <a:lnTo>
                      <a:pt x="2037" y="96"/>
                    </a:lnTo>
                    <a:lnTo>
                      <a:pt x="2021" y="0"/>
                    </a:lnTo>
                    <a:lnTo>
                      <a:pt x="2489" y="0"/>
                    </a:lnTo>
                    <a:lnTo>
                      <a:pt x="2503" y="28"/>
                    </a:lnTo>
                    <a:lnTo>
                      <a:pt x="2573" y="91"/>
                    </a:lnTo>
                    <a:lnTo>
                      <a:pt x="2769" y="91"/>
                    </a:lnTo>
                    <a:lnTo>
                      <a:pt x="2773" y="96"/>
                    </a:lnTo>
                    <a:close/>
                    <a:moveTo>
                      <a:pt x="1787" y="96"/>
                    </a:moveTo>
                    <a:lnTo>
                      <a:pt x="1362" y="96"/>
                    </a:lnTo>
                    <a:lnTo>
                      <a:pt x="1331" y="30"/>
                    </a:lnTo>
                    <a:lnTo>
                      <a:pt x="1138" y="30"/>
                    </a:lnTo>
                    <a:lnTo>
                      <a:pt x="1138" y="96"/>
                    </a:lnTo>
                    <a:lnTo>
                      <a:pt x="7" y="96"/>
                    </a:lnTo>
                    <a:lnTo>
                      <a:pt x="0" y="0"/>
                    </a:lnTo>
                    <a:lnTo>
                      <a:pt x="1851" y="0"/>
                    </a:lnTo>
                    <a:lnTo>
                      <a:pt x="1851" y="30"/>
                    </a:lnTo>
                    <a:lnTo>
                      <a:pt x="1787" y="95"/>
                    </a:lnTo>
                    <a:lnTo>
                      <a:pt x="1787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059360" y="4443480"/>
                <a:ext cx="1136520" cy="25200"/>
              </a:xfrm>
              <a:custGeom>
                <a:avLst/>
                <a:gdLst/>
                <a:ahLst/>
                <a:rect l="l" t="t" r="r" b="b"/>
                <a:pathLst>
                  <a:path w="4294" h="95">
                    <a:moveTo>
                      <a:pt x="4294" y="95"/>
                    </a:moveTo>
                    <a:lnTo>
                      <a:pt x="3756" y="95"/>
                    </a:lnTo>
                    <a:lnTo>
                      <a:pt x="3747" y="76"/>
                    </a:lnTo>
                    <a:lnTo>
                      <a:pt x="3747" y="12"/>
                    </a:lnTo>
                    <a:lnTo>
                      <a:pt x="3747" y="0"/>
                    </a:lnTo>
                    <a:lnTo>
                      <a:pt x="4263" y="0"/>
                    </a:lnTo>
                    <a:lnTo>
                      <a:pt x="4294" y="95"/>
                    </a:lnTo>
                    <a:close/>
                    <a:moveTo>
                      <a:pt x="2527" y="95"/>
                    </a:moveTo>
                    <a:lnTo>
                      <a:pt x="2031" y="95"/>
                    </a:lnTo>
                    <a:lnTo>
                      <a:pt x="2016" y="0"/>
                    </a:lnTo>
                    <a:lnTo>
                      <a:pt x="2468" y="0"/>
                    </a:lnTo>
                    <a:lnTo>
                      <a:pt x="2506" y="76"/>
                    </a:lnTo>
                    <a:lnTo>
                      <a:pt x="2527" y="95"/>
                    </a:lnTo>
                    <a:close/>
                    <a:moveTo>
                      <a:pt x="1838" y="95"/>
                    </a:moveTo>
                    <a:lnTo>
                      <a:pt x="1343" y="95"/>
                    </a:lnTo>
                    <a:lnTo>
                      <a:pt x="1334" y="78"/>
                    </a:lnTo>
                    <a:lnTo>
                      <a:pt x="1141" y="78"/>
                    </a:lnTo>
                    <a:lnTo>
                      <a:pt x="1141" y="95"/>
                    </a:lnTo>
                    <a:lnTo>
                      <a:pt x="7" y="95"/>
                    </a:lnTo>
                    <a:lnTo>
                      <a:pt x="0" y="0"/>
                    </a:lnTo>
                    <a:lnTo>
                      <a:pt x="1854" y="0"/>
                    </a:lnTo>
                    <a:lnTo>
                      <a:pt x="1854" y="78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057560" y="4430880"/>
                <a:ext cx="1133640" cy="25200"/>
              </a:xfrm>
              <a:custGeom>
                <a:avLst/>
                <a:gdLst/>
                <a:ahLst/>
                <a:rect l="l" t="t" r="r" b="b"/>
                <a:pathLst>
                  <a:path w="4283" h="96">
                    <a:moveTo>
                      <a:pt x="4283" y="96"/>
                    </a:moveTo>
                    <a:lnTo>
                      <a:pt x="3751" y="96"/>
                    </a:lnTo>
                    <a:lnTo>
                      <a:pt x="3751" y="60"/>
                    </a:lnTo>
                    <a:lnTo>
                      <a:pt x="3751" y="0"/>
                    </a:lnTo>
                    <a:lnTo>
                      <a:pt x="4252" y="0"/>
                    </a:lnTo>
                    <a:lnTo>
                      <a:pt x="4283" y="96"/>
                    </a:lnTo>
                    <a:close/>
                    <a:moveTo>
                      <a:pt x="2496" y="96"/>
                    </a:moveTo>
                    <a:lnTo>
                      <a:pt x="2028" y="96"/>
                    </a:lnTo>
                    <a:lnTo>
                      <a:pt x="2011" y="0"/>
                    </a:lnTo>
                    <a:lnTo>
                      <a:pt x="2448" y="0"/>
                    </a:lnTo>
                    <a:lnTo>
                      <a:pt x="2496" y="96"/>
                    </a:lnTo>
                    <a:close/>
                    <a:moveTo>
                      <a:pt x="1858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858" y="0"/>
                    </a:lnTo>
                    <a:lnTo>
                      <a:pt x="1858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057560" y="4417920"/>
                <a:ext cx="1130400" cy="25560"/>
              </a:xfrm>
              <a:custGeom>
                <a:avLst/>
                <a:gdLst/>
                <a:ahLst/>
                <a:rect l="l" t="t" r="r" b="b"/>
                <a:pathLst>
                  <a:path w="4270" h="95">
                    <a:moveTo>
                      <a:pt x="4270" y="95"/>
                    </a:moveTo>
                    <a:lnTo>
                      <a:pt x="3754" y="95"/>
                    </a:lnTo>
                    <a:lnTo>
                      <a:pt x="3754" y="44"/>
                    </a:lnTo>
                    <a:lnTo>
                      <a:pt x="3706" y="0"/>
                    </a:lnTo>
                    <a:lnTo>
                      <a:pt x="4239" y="0"/>
                    </a:lnTo>
                    <a:lnTo>
                      <a:pt x="4270" y="95"/>
                    </a:lnTo>
                    <a:close/>
                    <a:moveTo>
                      <a:pt x="2475" y="95"/>
                    </a:moveTo>
                    <a:lnTo>
                      <a:pt x="2023" y="95"/>
                    </a:lnTo>
                    <a:lnTo>
                      <a:pt x="2007" y="0"/>
                    </a:lnTo>
                    <a:lnTo>
                      <a:pt x="2450" y="0"/>
                    </a:lnTo>
                    <a:lnTo>
                      <a:pt x="2450" y="44"/>
                    </a:lnTo>
                    <a:lnTo>
                      <a:pt x="2475" y="95"/>
                    </a:lnTo>
                    <a:close/>
                    <a:moveTo>
                      <a:pt x="186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52" y="0"/>
                    </a:lnTo>
                    <a:lnTo>
                      <a:pt x="1861" y="44"/>
                    </a:lnTo>
                    <a:lnTo>
                      <a:pt x="1861" y="95"/>
                    </a:lnTo>
                    <a:close/>
                  </a:path>
                </a:pathLst>
              </a:custGeom>
              <a:solidFill>
                <a:srgbClr val="7ab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056120" y="4406760"/>
                <a:ext cx="1127160" cy="24120"/>
              </a:xfrm>
              <a:custGeom>
                <a:avLst/>
                <a:gdLst/>
                <a:ahLst/>
                <a:rect l="l" t="t" r="r" b="b"/>
                <a:pathLst>
                  <a:path w="4259" h="95">
                    <a:moveTo>
                      <a:pt x="4259" y="95"/>
                    </a:moveTo>
                    <a:lnTo>
                      <a:pt x="3758" y="95"/>
                    </a:lnTo>
                    <a:lnTo>
                      <a:pt x="3758" y="92"/>
                    </a:lnTo>
                    <a:lnTo>
                      <a:pt x="3689" y="28"/>
                    </a:lnTo>
                    <a:lnTo>
                      <a:pt x="3689" y="0"/>
                    </a:lnTo>
                    <a:lnTo>
                      <a:pt x="4228" y="0"/>
                    </a:lnTo>
                    <a:lnTo>
                      <a:pt x="4259" y="95"/>
                    </a:lnTo>
                    <a:close/>
                    <a:moveTo>
                      <a:pt x="2455" y="95"/>
                    </a:moveTo>
                    <a:lnTo>
                      <a:pt x="2018" y="95"/>
                    </a:lnTo>
                    <a:lnTo>
                      <a:pt x="2003" y="0"/>
                    </a:lnTo>
                    <a:lnTo>
                      <a:pt x="2454" y="0"/>
                    </a:lnTo>
                    <a:lnTo>
                      <a:pt x="2454" y="92"/>
                    </a:lnTo>
                    <a:lnTo>
                      <a:pt x="2455" y="95"/>
                    </a:lnTo>
                    <a:close/>
                    <a:moveTo>
                      <a:pt x="1865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45" y="0"/>
                    </a:lnTo>
                    <a:lnTo>
                      <a:pt x="1865" y="92"/>
                    </a:lnTo>
                    <a:lnTo>
                      <a:pt x="1865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056120" y="4394160"/>
                <a:ext cx="1122480" cy="23760"/>
              </a:xfrm>
              <a:custGeom>
                <a:avLst/>
                <a:gdLst/>
                <a:ahLst/>
                <a:rect l="l" t="t" r="r" b="b"/>
                <a:pathLst>
                  <a:path w="4246" h="95">
                    <a:moveTo>
                      <a:pt x="4246" y="95"/>
                    </a:moveTo>
                    <a:lnTo>
                      <a:pt x="3713" y="95"/>
                    </a:lnTo>
                    <a:lnTo>
                      <a:pt x="3692" y="75"/>
                    </a:lnTo>
                    <a:lnTo>
                      <a:pt x="3692" y="0"/>
                    </a:lnTo>
                    <a:lnTo>
                      <a:pt x="4216" y="0"/>
                    </a:lnTo>
                    <a:lnTo>
                      <a:pt x="4218" y="6"/>
                    </a:lnTo>
                    <a:lnTo>
                      <a:pt x="4246" y="95"/>
                    </a:lnTo>
                    <a:close/>
                    <a:moveTo>
                      <a:pt x="2457" y="95"/>
                    </a:moveTo>
                    <a:lnTo>
                      <a:pt x="2014" y="95"/>
                    </a:lnTo>
                    <a:lnTo>
                      <a:pt x="1998" y="0"/>
                    </a:lnTo>
                    <a:lnTo>
                      <a:pt x="2457" y="0"/>
                    </a:lnTo>
                    <a:lnTo>
                      <a:pt x="2457" y="6"/>
                    </a:lnTo>
                    <a:lnTo>
                      <a:pt x="2457" y="95"/>
                    </a:lnTo>
                    <a:close/>
                    <a:moveTo>
                      <a:pt x="185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37" y="0"/>
                    </a:lnTo>
                    <a:lnTo>
                      <a:pt x="1859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054320" y="4381560"/>
                <a:ext cx="1121040" cy="25200"/>
              </a:xfrm>
              <a:custGeom>
                <a:avLst/>
                <a:gdLst/>
                <a:ahLst/>
                <a:rect l="l" t="t" r="r" b="b"/>
                <a:pathLst>
                  <a:path w="4234" h="95">
                    <a:moveTo>
                      <a:pt x="4234" y="95"/>
                    </a:moveTo>
                    <a:lnTo>
                      <a:pt x="3695" y="95"/>
                    </a:lnTo>
                    <a:lnTo>
                      <a:pt x="3695" y="0"/>
                    </a:lnTo>
                    <a:lnTo>
                      <a:pt x="4207" y="0"/>
                    </a:lnTo>
                    <a:lnTo>
                      <a:pt x="4221" y="54"/>
                    </a:lnTo>
                    <a:lnTo>
                      <a:pt x="4234" y="95"/>
                    </a:lnTo>
                    <a:close/>
                    <a:moveTo>
                      <a:pt x="2460" y="95"/>
                    </a:moveTo>
                    <a:lnTo>
                      <a:pt x="2009" y="95"/>
                    </a:lnTo>
                    <a:lnTo>
                      <a:pt x="1994" y="0"/>
                    </a:lnTo>
                    <a:lnTo>
                      <a:pt x="2460" y="0"/>
                    </a:lnTo>
                    <a:lnTo>
                      <a:pt x="2460" y="54"/>
                    </a:lnTo>
                    <a:lnTo>
                      <a:pt x="2460" y="95"/>
                    </a:lnTo>
                    <a:close/>
                    <a:moveTo>
                      <a:pt x="1851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31" y="0"/>
                    </a:lnTo>
                    <a:lnTo>
                      <a:pt x="1851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4054320" y="4368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22" h="95">
                    <a:moveTo>
                      <a:pt x="4222" y="95"/>
                    </a:moveTo>
                    <a:lnTo>
                      <a:pt x="3698" y="95"/>
                    </a:lnTo>
                    <a:lnTo>
                      <a:pt x="3698" y="38"/>
                    </a:lnTo>
                    <a:lnTo>
                      <a:pt x="3664" y="0"/>
                    </a:lnTo>
                    <a:lnTo>
                      <a:pt x="4197" y="0"/>
                    </a:lnTo>
                    <a:lnTo>
                      <a:pt x="4222" y="95"/>
                    </a:lnTo>
                    <a:close/>
                    <a:moveTo>
                      <a:pt x="2463" y="95"/>
                    </a:moveTo>
                    <a:lnTo>
                      <a:pt x="2004" y="95"/>
                    </a:lnTo>
                    <a:lnTo>
                      <a:pt x="1988" y="0"/>
                    </a:lnTo>
                    <a:lnTo>
                      <a:pt x="2463" y="0"/>
                    </a:lnTo>
                    <a:lnTo>
                      <a:pt x="2463" y="38"/>
                    </a:lnTo>
                    <a:lnTo>
                      <a:pt x="2463" y="95"/>
                    </a:lnTo>
                    <a:close/>
                    <a:moveTo>
                      <a:pt x="1843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23" y="0"/>
                    </a:lnTo>
                    <a:lnTo>
                      <a:pt x="1843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4052880" y="4356000"/>
                <a:ext cx="1114560" cy="2556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3702" y="95"/>
                    </a:lnTo>
                    <a:lnTo>
                      <a:pt x="3702" y="86"/>
                    </a:lnTo>
                    <a:lnTo>
                      <a:pt x="3639" y="16"/>
                    </a:lnTo>
                    <a:lnTo>
                      <a:pt x="3631" y="0"/>
                    </a:lnTo>
                    <a:lnTo>
                      <a:pt x="4188" y="0"/>
                    </a:lnTo>
                    <a:lnTo>
                      <a:pt x="4214" y="95"/>
                    </a:lnTo>
                    <a:close/>
                    <a:moveTo>
                      <a:pt x="2467" y="95"/>
                    </a:moveTo>
                    <a:lnTo>
                      <a:pt x="2001" y="95"/>
                    </a:lnTo>
                    <a:lnTo>
                      <a:pt x="1984" y="0"/>
                    </a:lnTo>
                    <a:lnTo>
                      <a:pt x="2467" y="0"/>
                    </a:lnTo>
                    <a:lnTo>
                      <a:pt x="2467" y="16"/>
                    </a:lnTo>
                    <a:lnTo>
                      <a:pt x="2467" y="86"/>
                    </a:lnTo>
                    <a:lnTo>
                      <a:pt x="2467" y="95"/>
                    </a:lnTo>
                    <a:close/>
                    <a:moveTo>
                      <a:pt x="1838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17" y="0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4051440" y="434340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5" h="95">
                    <a:moveTo>
                      <a:pt x="4205" y="95"/>
                    </a:moveTo>
                    <a:lnTo>
                      <a:pt x="3672" y="95"/>
                    </a:lnTo>
                    <a:lnTo>
                      <a:pt x="3643" y="63"/>
                    </a:lnTo>
                    <a:lnTo>
                      <a:pt x="3611" y="0"/>
                    </a:lnTo>
                    <a:lnTo>
                      <a:pt x="4178" y="0"/>
                    </a:lnTo>
                    <a:lnTo>
                      <a:pt x="4205" y="95"/>
                    </a:lnTo>
                    <a:close/>
                    <a:moveTo>
                      <a:pt x="2471" y="95"/>
                    </a:moveTo>
                    <a:lnTo>
                      <a:pt x="1996" y="95"/>
                    </a:lnTo>
                    <a:lnTo>
                      <a:pt x="1981" y="0"/>
                    </a:lnTo>
                    <a:lnTo>
                      <a:pt x="2471" y="0"/>
                    </a:lnTo>
                    <a:lnTo>
                      <a:pt x="2471" y="63"/>
                    </a:lnTo>
                    <a:lnTo>
                      <a:pt x="2471" y="95"/>
                    </a:lnTo>
                    <a:close/>
                    <a:moveTo>
                      <a:pt x="18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810" y="0"/>
                    </a:lnTo>
                    <a:lnTo>
                      <a:pt x="1831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4051440" y="43308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5" h="95">
                    <a:moveTo>
                      <a:pt x="4195" y="95"/>
                    </a:moveTo>
                    <a:lnTo>
                      <a:pt x="3638" y="95"/>
                    </a:lnTo>
                    <a:lnTo>
                      <a:pt x="3590" y="0"/>
                    </a:lnTo>
                    <a:lnTo>
                      <a:pt x="4170" y="0"/>
                    </a:lnTo>
                    <a:lnTo>
                      <a:pt x="4195" y="95"/>
                    </a:lnTo>
                    <a:close/>
                    <a:moveTo>
                      <a:pt x="2474" y="95"/>
                    </a:moveTo>
                    <a:lnTo>
                      <a:pt x="1991" y="95"/>
                    </a:lnTo>
                    <a:lnTo>
                      <a:pt x="1976" y="0"/>
                    </a:lnTo>
                    <a:lnTo>
                      <a:pt x="2474" y="0"/>
                    </a:lnTo>
                    <a:lnTo>
                      <a:pt x="2474" y="95"/>
                    </a:lnTo>
                    <a:close/>
                    <a:moveTo>
                      <a:pt x="182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03" y="0"/>
                    </a:lnTo>
                    <a:lnTo>
                      <a:pt x="1824" y="95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049640" y="4317840"/>
                <a:ext cx="1108080" cy="25560"/>
              </a:xfrm>
              <a:custGeom>
                <a:avLst/>
                <a:gdLst/>
                <a:ahLst/>
                <a:rect l="l" t="t" r="r" b="b"/>
                <a:pathLst>
                  <a:path w="4185" h="97">
                    <a:moveTo>
                      <a:pt x="4185" y="97"/>
                    </a:moveTo>
                    <a:lnTo>
                      <a:pt x="3618" y="97"/>
                    </a:lnTo>
                    <a:lnTo>
                      <a:pt x="3586" y="32"/>
                    </a:lnTo>
                    <a:lnTo>
                      <a:pt x="3586" y="0"/>
                    </a:lnTo>
                    <a:lnTo>
                      <a:pt x="4162" y="0"/>
                    </a:lnTo>
                    <a:lnTo>
                      <a:pt x="4169" y="32"/>
                    </a:lnTo>
                    <a:lnTo>
                      <a:pt x="4185" y="97"/>
                    </a:lnTo>
                    <a:close/>
                    <a:moveTo>
                      <a:pt x="2478" y="97"/>
                    </a:moveTo>
                    <a:lnTo>
                      <a:pt x="1988" y="97"/>
                    </a:lnTo>
                    <a:lnTo>
                      <a:pt x="1971" y="0"/>
                    </a:lnTo>
                    <a:lnTo>
                      <a:pt x="2483" y="0"/>
                    </a:lnTo>
                    <a:lnTo>
                      <a:pt x="2478" y="32"/>
                    </a:lnTo>
                    <a:lnTo>
                      <a:pt x="2478" y="97"/>
                    </a:lnTo>
                    <a:close/>
                    <a:moveTo>
                      <a:pt x="1817" y="97"/>
                    </a:moveTo>
                    <a:lnTo>
                      <a:pt x="7" y="97"/>
                    </a:lnTo>
                    <a:lnTo>
                      <a:pt x="0" y="0"/>
                    </a:lnTo>
                    <a:lnTo>
                      <a:pt x="1797" y="0"/>
                    </a:lnTo>
                    <a:lnTo>
                      <a:pt x="1817" y="97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049640" y="4305240"/>
                <a:ext cx="1104840" cy="25560"/>
              </a:xfrm>
              <a:custGeom>
                <a:avLst/>
                <a:gdLst/>
                <a:ahLst/>
                <a:rect l="l" t="t" r="r" b="b"/>
                <a:pathLst>
                  <a:path w="4177" h="96">
                    <a:moveTo>
                      <a:pt x="4177" y="96"/>
                    </a:moveTo>
                    <a:lnTo>
                      <a:pt x="3597" y="96"/>
                    </a:lnTo>
                    <a:lnTo>
                      <a:pt x="3589" y="79"/>
                    </a:lnTo>
                    <a:lnTo>
                      <a:pt x="3589" y="0"/>
                    </a:lnTo>
                    <a:lnTo>
                      <a:pt x="4154" y="0"/>
                    </a:lnTo>
                    <a:lnTo>
                      <a:pt x="4172" y="79"/>
                    </a:lnTo>
                    <a:lnTo>
                      <a:pt x="4177" y="96"/>
                    </a:lnTo>
                    <a:close/>
                    <a:moveTo>
                      <a:pt x="2481" y="96"/>
                    </a:moveTo>
                    <a:lnTo>
                      <a:pt x="1983" y="96"/>
                    </a:lnTo>
                    <a:lnTo>
                      <a:pt x="1967" y="0"/>
                    </a:lnTo>
                    <a:lnTo>
                      <a:pt x="2494" y="0"/>
                    </a:lnTo>
                    <a:lnTo>
                      <a:pt x="2481" y="79"/>
                    </a:lnTo>
                    <a:lnTo>
                      <a:pt x="2481" y="96"/>
                    </a:lnTo>
                    <a:close/>
                    <a:moveTo>
                      <a:pt x="1810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89" y="0"/>
                    </a:lnTo>
                    <a:lnTo>
                      <a:pt x="1810" y="96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048200" y="42926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593" y="95"/>
                    </a:lnTo>
                    <a:lnTo>
                      <a:pt x="3593" y="0"/>
                    </a:lnTo>
                    <a:lnTo>
                      <a:pt x="3593" y="0"/>
                    </a:lnTo>
                    <a:lnTo>
                      <a:pt x="4147" y="0"/>
                    </a:lnTo>
                    <a:lnTo>
                      <a:pt x="4169" y="95"/>
                    </a:lnTo>
                    <a:close/>
                    <a:moveTo>
                      <a:pt x="2490" y="95"/>
                    </a:moveTo>
                    <a:lnTo>
                      <a:pt x="1978" y="95"/>
                    </a:lnTo>
                    <a:lnTo>
                      <a:pt x="1963" y="0"/>
                    </a:lnTo>
                    <a:lnTo>
                      <a:pt x="2507" y="0"/>
                    </a:lnTo>
                    <a:lnTo>
                      <a:pt x="2490" y="95"/>
                    </a:lnTo>
                    <a:close/>
                    <a:moveTo>
                      <a:pt x="180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84" y="0"/>
                    </a:lnTo>
                    <a:lnTo>
                      <a:pt x="1804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046400" y="4280040"/>
                <a:ext cx="1101960" cy="25200"/>
              </a:xfrm>
              <a:custGeom>
                <a:avLst/>
                <a:gdLst/>
                <a:ahLst/>
                <a:rect l="l" t="t" r="r" b="b"/>
                <a:pathLst>
                  <a:path w="4161" h="95">
                    <a:moveTo>
                      <a:pt x="4161" y="95"/>
                    </a:moveTo>
                    <a:lnTo>
                      <a:pt x="3596" y="95"/>
                    </a:lnTo>
                    <a:lnTo>
                      <a:pt x="3596" y="47"/>
                    </a:lnTo>
                    <a:lnTo>
                      <a:pt x="3573" y="0"/>
                    </a:lnTo>
                    <a:lnTo>
                      <a:pt x="4141" y="0"/>
                    </a:lnTo>
                    <a:lnTo>
                      <a:pt x="4161" y="95"/>
                    </a:lnTo>
                    <a:close/>
                    <a:moveTo>
                      <a:pt x="2501" y="95"/>
                    </a:moveTo>
                    <a:lnTo>
                      <a:pt x="1974" y="95"/>
                    </a:lnTo>
                    <a:lnTo>
                      <a:pt x="1957" y="0"/>
                    </a:lnTo>
                    <a:lnTo>
                      <a:pt x="2518" y="0"/>
                    </a:lnTo>
                    <a:lnTo>
                      <a:pt x="2501" y="95"/>
                    </a:lnTo>
                    <a:close/>
                    <a:moveTo>
                      <a:pt x="179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76" y="0"/>
                    </a:lnTo>
                    <a:lnTo>
                      <a:pt x="1796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046400" y="42670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4" h="95">
                    <a:moveTo>
                      <a:pt x="4154" y="95"/>
                    </a:moveTo>
                    <a:lnTo>
                      <a:pt x="3600" y="95"/>
                    </a:lnTo>
                    <a:lnTo>
                      <a:pt x="3555" y="0"/>
                    </a:lnTo>
                    <a:lnTo>
                      <a:pt x="4134" y="0"/>
                    </a:lnTo>
                    <a:lnTo>
                      <a:pt x="4154" y="95"/>
                    </a:lnTo>
                    <a:close/>
                    <a:moveTo>
                      <a:pt x="2514" y="95"/>
                    </a:moveTo>
                    <a:lnTo>
                      <a:pt x="1970" y="95"/>
                    </a:lnTo>
                    <a:lnTo>
                      <a:pt x="1954" y="0"/>
                    </a:lnTo>
                    <a:lnTo>
                      <a:pt x="2530" y="0"/>
                    </a:lnTo>
                    <a:lnTo>
                      <a:pt x="2514" y="95"/>
                    </a:lnTo>
                    <a:close/>
                    <a:moveTo>
                      <a:pt x="179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9" y="0"/>
                    </a:lnTo>
                    <a:lnTo>
                      <a:pt x="1791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044960" y="42544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48" h="95">
                    <a:moveTo>
                      <a:pt x="4148" y="95"/>
                    </a:moveTo>
                    <a:lnTo>
                      <a:pt x="3580" y="95"/>
                    </a:lnTo>
                    <a:lnTo>
                      <a:pt x="3540" y="9"/>
                    </a:lnTo>
                    <a:lnTo>
                      <a:pt x="3540" y="0"/>
                    </a:lnTo>
                    <a:lnTo>
                      <a:pt x="4129" y="0"/>
                    </a:lnTo>
                    <a:lnTo>
                      <a:pt x="4129" y="9"/>
                    </a:lnTo>
                    <a:lnTo>
                      <a:pt x="4148" y="95"/>
                    </a:lnTo>
                    <a:close/>
                    <a:moveTo>
                      <a:pt x="2525" y="95"/>
                    </a:moveTo>
                    <a:lnTo>
                      <a:pt x="1964" y="95"/>
                    </a:lnTo>
                    <a:lnTo>
                      <a:pt x="1949" y="0"/>
                    </a:lnTo>
                    <a:lnTo>
                      <a:pt x="2540" y="0"/>
                    </a:lnTo>
                    <a:lnTo>
                      <a:pt x="2525" y="95"/>
                    </a:lnTo>
                    <a:close/>
                    <a:moveTo>
                      <a:pt x="178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1" y="0"/>
                    </a:lnTo>
                    <a:lnTo>
                      <a:pt x="1783" y="95"/>
                    </a:lnTo>
                    <a:close/>
                  </a:path>
                </a:pathLst>
              </a:custGeom>
              <a:solidFill>
                <a:srgbClr val="78b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044960" y="4241880"/>
                <a:ext cx="1095480" cy="2520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3562" y="95"/>
                    </a:lnTo>
                    <a:lnTo>
                      <a:pt x="3544" y="57"/>
                    </a:lnTo>
                    <a:lnTo>
                      <a:pt x="3544" y="0"/>
                    </a:lnTo>
                    <a:lnTo>
                      <a:pt x="4133" y="0"/>
                    </a:lnTo>
                    <a:lnTo>
                      <a:pt x="4133" y="57"/>
                    </a:lnTo>
                    <a:lnTo>
                      <a:pt x="4141" y="95"/>
                    </a:lnTo>
                    <a:close/>
                    <a:moveTo>
                      <a:pt x="2537" y="95"/>
                    </a:moveTo>
                    <a:lnTo>
                      <a:pt x="1961" y="95"/>
                    </a:lnTo>
                    <a:lnTo>
                      <a:pt x="1945" y="0"/>
                    </a:lnTo>
                    <a:lnTo>
                      <a:pt x="2553" y="0"/>
                    </a:lnTo>
                    <a:lnTo>
                      <a:pt x="2537" y="95"/>
                    </a:lnTo>
                    <a:close/>
                    <a:moveTo>
                      <a:pt x="177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56" y="0"/>
                    </a:lnTo>
                    <a:lnTo>
                      <a:pt x="1776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043520" y="4229280"/>
                <a:ext cx="1093680" cy="25200"/>
              </a:xfrm>
              <a:custGeom>
                <a:avLst/>
                <a:gdLst/>
                <a:ahLst/>
                <a:rect l="l" t="t" r="r" b="b"/>
                <a:pathLst>
                  <a:path w="4137" h="95">
                    <a:moveTo>
                      <a:pt x="4137" y="95"/>
                    </a:moveTo>
                    <a:lnTo>
                      <a:pt x="3548" y="95"/>
                    </a:lnTo>
                    <a:lnTo>
                      <a:pt x="3548" y="41"/>
                    </a:lnTo>
                    <a:lnTo>
                      <a:pt x="3528" y="0"/>
                    </a:lnTo>
                    <a:lnTo>
                      <a:pt x="4137" y="0"/>
                    </a:lnTo>
                    <a:lnTo>
                      <a:pt x="4137" y="95"/>
                    </a:lnTo>
                    <a:close/>
                    <a:moveTo>
                      <a:pt x="2548" y="95"/>
                    </a:moveTo>
                    <a:lnTo>
                      <a:pt x="1957" y="95"/>
                    </a:lnTo>
                    <a:lnTo>
                      <a:pt x="1942" y="0"/>
                    </a:lnTo>
                    <a:lnTo>
                      <a:pt x="2565" y="0"/>
                    </a:lnTo>
                    <a:lnTo>
                      <a:pt x="2548" y="95"/>
                    </a:lnTo>
                    <a:close/>
                    <a:moveTo>
                      <a:pt x="1769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749" y="0"/>
                    </a:lnTo>
                    <a:lnTo>
                      <a:pt x="1769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041720" y="4216320"/>
                <a:ext cx="1095480" cy="25560"/>
              </a:xfrm>
              <a:custGeom>
                <a:avLst/>
                <a:gdLst/>
                <a:ahLst/>
                <a:rect l="l" t="t" r="r" b="b"/>
                <a:pathLst>
                  <a:path w="4140" h="95">
                    <a:moveTo>
                      <a:pt x="4140" y="95"/>
                    </a:moveTo>
                    <a:lnTo>
                      <a:pt x="3551" y="95"/>
                    </a:lnTo>
                    <a:lnTo>
                      <a:pt x="3551" y="89"/>
                    </a:lnTo>
                    <a:lnTo>
                      <a:pt x="3508" y="0"/>
                    </a:lnTo>
                    <a:lnTo>
                      <a:pt x="4140" y="0"/>
                    </a:lnTo>
                    <a:lnTo>
                      <a:pt x="4140" y="95"/>
                    </a:lnTo>
                    <a:close/>
                    <a:moveTo>
                      <a:pt x="2560" y="95"/>
                    </a:moveTo>
                    <a:lnTo>
                      <a:pt x="1952" y="95"/>
                    </a:lnTo>
                    <a:lnTo>
                      <a:pt x="1936" y="0"/>
                    </a:lnTo>
                    <a:lnTo>
                      <a:pt x="2576" y="0"/>
                    </a:lnTo>
                    <a:lnTo>
                      <a:pt x="2560" y="95"/>
                    </a:lnTo>
                    <a:close/>
                    <a:moveTo>
                      <a:pt x="176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42" y="0"/>
                    </a:lnTo>
                    <a:lnTo>
                      <a:pt x="1763" y="95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041720" y="4205160"/>
                <a:ext cx="1095480" cy="24120"/>
              </a:xfrm>
              <a:custGeom>
                <a:avLst/>
                <a:gdLst/>
                <a:ahLst/>
                <a:rect l="l" t="t" r="r" b="b"/>
                <a:pathLst>
                  <a:path w="4144" h="96">
                    <a:moveTo>
                      <a:pt x="4144" y="96"/>
                    </a:moveTo>
                    <a:lnTo>
                      <a:pt x="3535" y="96"/>
                    </a:lnTo>
                    <a:lnTo>
                      <a:pt x="3491" y="4"/>
                    </a:lnTo>
                    <a:lnTo>
                      <a:pt x="3491" y="0"/>
                    </a:lnTo>
                    <a:lnTo>
                      <a:pt x="4144" y="0"/>
                    </a:lnTo>
                    <a:lnTo>
                      <a:pt x="4144" y="96"/>
                    </a:lnTo>
                    <a:close/>
                    <a:moveTo>
                      <a:pt x="2572" y="96"/>
                    </a:moveTo>
                    <a:lnTo>
                      <a:pt x="1949" y="96"/>
                    </a:lnTo>
                    <a:lnTo>
                      <a:pt x="1933" y="0"/>
                    </a:lnTo>
                    <a:lnTo>
                      <a:pt x="2589" y="0"/>
                    </a:lnTo>
                    <a:lnTo>
                      <a:pt x="2572" y="96"/>
                    </a:lnTo>
                    <a:close/>
                    <a:moveTo>
                      <a:pt x="1756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35" y="0"/>
                    </a:lnTo>
                    <a:lnTo>
                      <a:pt x="1756" y="96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040280" y="4192560"/>
                <a:ext cx="1096920" cy="2376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3515" y="95"/>
                    </a:lnTo>
                    <a:lnTo>
                      <a:pt x="3494" y="51"/>
                    </a:lnTo>
                    <a:lnTo>
                      <a:pt x="3494" y="0"/>
                    </a:lnTo>
                    <a:lnTo>
                      <a:pt x="4147" y="0"/>
                    </a:lnTo>
                    <a:lnTo>
                      <a:pt x="4147" y="95"/>
                    </a:lnTo>
                    <a:close/>
                    <a:moveTo>
                      <a:pt x="2583" y="95"/>
                    </a:moveTo>
                    <a:lnTo>
                      <a:pt x="1943" y="95"/>
                    </a:lnTo>
                    <a:lnTo>
                      <a:pt x="1928" y="0"/>
                    </a:lnTo>
                    <a:lnTo>
                      <a:pt x="2600" y="0"/>
                    </a:lnTo>
                    <a:lnTo>
                      <a:pt x="2583" y="95"/>
                    </a:lnTo>
                    <a:close/>
                    <a:moveTo>
                      <a:pt x="174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49" y="95"/>
                    </a:lnTo>
                    <a:close/>
                  </a:path>
                </a:pathLst>
              </a:custGeom>
              <a:solidFill>
                <a:srgbClr val="77a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040280" y="4179960"/>
                <a:ext cx="1096920" cy="25200"/>
              </a:xfrm>
              <a:custGeom>
                <a:avLst/>
                <a:gdLst/>
                <a:ahLst/>
                <a:rect l="l" t="t" r="r" b="b"/>
                <a:pathLst>
                  <a:path w="4151" h="95">
                    <a:moveTo>
                      <a:pt x="4151" y="95"/>
                    </a:moveTo>
                    <a:lnTo>
                      <a:pt x="3498" y="95"/>
                    </a:lnTo>
                    <a:lnTo>
                      <a:pt x="3498" y="30"/>
                    </a:lnTo>
                    <a:lnTo>
                      <a:pt x="3498" y="0"/>
                    </a:lnTo>
                    <a:lnTo>
                      <a:pt x="4151" y="0"/>
                    </a:lnTo>
                    <a:lnTo>
                      <a:pt x="4151" y="30"/>
                    </a:lnTo>
                    <a:lnTo>
                      <a:pt x="4151" y="95"/>
                    </a:lnTo>
                    <a:close/>
                    <a:moveTo>
                      <a:pt x="2596" y="95"/>
                    </a:moveTo>
                    <a:lnTo>
                      <a:pt x="1940" y="95"/>
                    </a:lnTo>
                    <a:lnTo>
                      <a:pt x="1924" y="0"/>
                    </a:lnTo>
                    <a:lnTo>
                      <a:pt x="2611" y="0"/>
                    </a:lnTo>
                    <a:lnTo>
                      <a:pt x="2596" y="95"/>
                    </a:lnTo>
                    <a:close/>
                    <a:moveTo>
                      <a:pt x="1742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2" y="0"/>
                    </a:lnTo>
                    <a:lnTo>
                      <a:pt x="1742" y="95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038480" y="416736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54" h="96">
                    <a:moveTo>
                      <a:pt x="4154" y="96"/>
                    </a:moveTo>
                    <a:lnTo>
                      <a:pt x="3501" y="96"/>
                    </a:lnTo>
                    <a:lnTo>
                      <a:pt x="3501" y="78"/>
                    </a:lnTo>
                    <a:lnTo>
                      <a:pt x="3501" y="0"/>
                    </a:lnTo>
                    <a:lnTo>
                      <a:pt x="4154" y="0"/>
                    </a:lnTo>
                    <a:lnTo>
                      <a:pt x="4154" y="78"/>
                    </a:lnTo>
                    <a:lnTo>
                      <a:pt x="4154" y="96"/>
                    </a:lnTo>
                    <a:close/>
                    <a:moveTo>
                      <a:pt x="2607" y="96"/>
                    </a:moveTo>
                    <a:lnTo>
                      <a:pt x="1935" y="96"/>
                    </a:lnTo>
                    <a:lnTo>
                      <a:pt x="1919" y="0"/>
                    </a:lnTo>
                    <a:lnTo>
                      <a:pt x="2622" y="0"/>
                    </a:lnTo>
                    <a:lnTo>
                      <a:pt x="2607" y="96"/>
                    </a:lnTo>
                    <a:close/>
                    <a:moveTo>
                      <a:pt x="1735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14" y="0"/>
                    </a:lnTo>
                    <a:lnTo>
                      <a:pt x="1735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038480" y="415440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8" h="96">
                    <a:moveTo>
                      <a:pt x="4158" y="96"/>
                    </a:moveTo>
                    <a:lnTo>
                      <a:pt x="3505" y="96"/>
                    </a:lnTo>
                    <a:lnTo>
                      <a:pt x="3505" y="5"/>
                    </a:lnTo>
                    <a:lnTo>
                      <a:pt x="3480" y="0"/>
                    </a:lnTo>
                    <a:lnTo>
                      <a:pt x="4158" y="0"/>
                    </a:lnTo>
                    <a:lnTo>
                      <a:pt x="4158" y="96"/>
                    </a:lnTo>
                    <a:close/>
                    <a:moveTo>
                      <a:pt x="2618" y="96"/>
                    </a:moveTo>
                    <a:lnTo>
                      <a:pt x="1931" y="96"/>
                    </a:lnTo>
                    <a:lnTo>
                      <a:pt x="1915" y="0"/>
                    </a:lnTo>
                    <a:lnTo>
                      <a:pt x="2635" y="0"/>
                    </a:lnTo>
                    <a:lnTo>
                      <a:pt x="2618" y="96"/>
                    </a:lnTo>
                    <a:close/>
                    <a:moveTo>
                      <a:pt x="1729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29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037040" y="414180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62" h="96">
                    <a:moveTo>
                      <a:pt x="4162" y="96"/>
                    </a:moveTo>
                    <a:lnTo>
                      <a:pt x="3509" y="96"/>
                    </a:lnTo>
                    <a:lnTo>
                      <a:pt x="3509" y="53"/>
                    </a:lnTo>
                    <a:lnTo>
                      <a:pt x="3180" y="0"/>
                    </a:lnTo>
                    <a:lnTo>
                      <a:pt x="4162" y="0"/>
                    </a:lnTo>
                    <a:lnTo>
                      <a:pt x="4162" y="96"/>
                    </a:lnTo>
                    <a:close/>
                    <a:moveTo>
                      <a:pt x="2630" y="96"/>
                    </a:moveTo>
                    <a:lnTo>
                      <a:pt x="1927" y="96"/>
                    </a:lnTo>
                    <a:lnTo>
                      <a:pt x="1911" y="0"/>
                    </a:lnTo>
                    <a:lnTo>
                      <a:pt x="2647" y="0"/>
                    </a:lnTo>
                    <a:lnTo>
                      <a:pt x="2630" y="96"/>
                    </a:lnTo>
                    <a:close/>
                    <a:moveTo>
                      <a:pt x="1722" y="96"/>
                    </a:moveTo>
                    <a:lnTo>
                      <a:pt x="8" y="96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22" y="96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035600" y="412920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3487" y="95"/>
                    </a:lnTo>
                    <a:lnTo>
                      <a:pt x="2879" y="0"/>
                    </a:lnTo>
                    <a:lnTo>
                      <a:pt x="4165" y="0"/>
                    </a:lnTo>
                    <a:lnTo>
                      <a:pt x="4165" y="95"/>
                    </a:lnTo>
                    <a:close/>
                    <a:moveTo>
                      <a:pt x="2642" y="95"/>
                    </a:moveTo>
                    <a:lnTo>
                      <a:pt x="1922" y="95"/>
                    </a:lnTo>
                    <a:lnTo>
                      <a:pt x="1907" y="0"/>
                    </a:lnTo>
                    <a:lnTo>
                      <a:pt x="2658" y="0"/>
                    </a:lnTo>
                    <a:lnTo>
                      <a:pt x="2642" y="95"/>
                    </a:lnTo>
                    <a:close/>
                    <a:moveTo>
                      <a:pt x="171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035600" y="4116240"/>
                <a:ext cx="1101600" cy="2556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187" y="95"/>
                    </a:lnTo>
                    <a:lnTo>
                      <a:pt x="2668" y="15"/>
                    </a:lnTo>
                    <a:lnTo>
                      <a:pt x="2654" y="95"/>
                    </a:lnTo>
                    <a:lnTo>
                      <a:pt x="1918" y="95"/>
                    </a:lnTo>
                    <a:lnTo>
                      <a:pt x="1902" y="0"/>
                    </a:lnTo>
                    <a:lnTo>
                      <a:pt x="4165" y="0"/>
                    </a:lnTo>
                    <a:lnTo>
                      <a:pt x="4169" y="15"/>
                    </a:lnTo>
                    <a:lnTo>
                      <a:pt x="4169" y="95"/>
                    </a:lnTo>
                    <a:close/>
                    <a:moveTo>
                      <a:pt x="170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7" y="0"/>
                    </a:lnTo>
                    <a:lnTo>
                      <a:pt x="1709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033800" y="4103640"/>
                <a:ext cx="1103400" cy="2556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2886" y="95"/>
                    </a:lnTo>
                    <a:lnTo>
                      <a:pt x="2671" y="62"/>
                    </a:lnTo>
                    <a:lnTo>
                      <a:pt x="2665" y="95"/>
                    </a:lnTo>
                    <a:lnTo>
                      <a:pt x="1914" y="95"/>
                    </a:lnTo>
                    <a:lnTo>
                      <a:pt x="1897" y="0"/>
                    </a:lnTo>
                    <a:lnTo>
                      <a:pt x="4155" y="0"/>
                    </a:lnTo>
                    <a:lnTo>
                      <a:pt x="4172" y="62"/>
                    </a:lnTo>
                    <a:lnTo>
                      <a:pt x="4172" y="95"/>
                    </a:lnTo>
                    <a:close/>
                    <a:moveTo>
                      <a:pt x="170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1" y="0"/>
                    </a:lnTo>
                    <a:lnTo>
                      <a:pt x="1701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033800" y="40910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909" y="95"/>
                    </a:lnTo>
                    <a:lnTo>
                      <a:pt x="1894" y="0"/>
                    </a:lnTo>
                    <a:lnTo>
                      <a:pt x="4147" y="0"/>
                    </a:lnTo>
                    <a:lnTo>
                      <a:pt x="4172" y="95"/>
                    </a:lnTo>
                    <a:close/>
                    <a:moveTo>
                      <a:pt x="169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74" y="0"/>
                    </a:lnTo>
                    <a:lnTo>
                      <a:pt x="1694" y="95"/>
                    </a:lnTo>
                    <a:close/>
                  </a:path>
                </a:pathLst>
              </a:custGeom>
              <a:solidFill>
                <a:srgbClr val="76a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032360" y="407844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4" h="95">
                    <a:moveTo>
                      <a:pt x="4164" y="95"/>
                    </a:moveTo>
                    <a:lnTo>
                      <a:pt x="1906" y="95"/>
                    </a:lnTo>
                    <a:lnTo>
                      <a:pt x="1894" y="23"/>
                    </a:lnTo>
                    <a:lnTo>
                      <a:pt x="1863" y="0"/>
                    </a:lnTo>
                    <a:lnTo>
                      <a:pt x="4139" y="0"/>
                    </a:lnTo>
                    <a:lnTo>
                      <a:pt x="4164" y="95"/>
                    </a:lnTo>
                    <a:close/>
                    <a:moveTo>
                      <a:pt x="1690" y="95"/>
                    </a:moveTo>
                    <a:lnTo>
                      <a:pt x="9" y="95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1669" y="0"/>
                    </a:lnTo>
                    <a:lnTo>
                      <a:pt x="1690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030560" y="40654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9" h="95">
                    <a:moveTo>
                      <a:pt x="4159" y="95"/>
                    </a:moveTo>
                    <a:lnTo>
                      <a:pt x="1906" y="95"/>
                    </a:lnTo>
                    <a:lnTo>
                      <a:pt x="1901" y="71"/>
                    </a:lnTo>
                    <a:lnTo>
                      <a:pt x="1807" y="0"/>
                    </a:lnTo>
                    <a:lnTo>
                      <a:pt x="4134" y="0"/>
                    </a:lnTo>
                    <a:lnTo>
                      <a:pt x="4159" y="95"/>
                    </a:lnTo>
                    <a:close/>
                    <a:moveTo>
                      <a:pt x="1686" y="95"/>
                    </a:moveTo>
                    <a:lnTo>
                      <a:pt x="12" y="95"/>
                    </a:lnTo>
                    <a:lnTo>
                      <a:pt x="11" y="71"/>
                    </a:lnTo>
                    <a:lnTo>
                      <a:pt x="0" y="0"/>
                    </a:lnTo>
                    <a:lnTo>
                      <a:pt x="1665" y="0"/>
                    </a:lnTo>
                    <a:lnTo>
                      <a:pt x="1686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027320" y="40528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3" h="95">
                    <a:moveTo>
                      <a:pt x="4153" y="95"/>
                    </a:moveTo>
                    <a:lnTo>
                      <a:pt x="1877" y="95"/>
                    </a:lnTo>
                    <a:lnTo>
                      <a:pt x="1751" y="0"/>
                    </a:lnTo>
                    <a:lnTo>
                      <a:pt x="4128" y="0"/>
                    </a:lnTo>
                    <a:lnTo>
                      <a:pt x="4153" y="95"/>
                    </a:lnTo>
                    <a:close/>
                    <a:moveTo>
                      <a:pt x="1683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83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025880" y="404028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1820" y="95"/>
                    </a:lnTo>
                    <a:lnTo>
                      <a:pt x="1693" y="0"/>
                    </a:lnTo>
                    <a:lnTo>
                      <a:pt x="4131" y="0"/>
                    </a:lnTo>
                    <a:lnTo>
                      <a:pt x="4131" y="33"/>
                    </a:lnTo>
                    <a:lnTo>
                      <a:pt x="4147" y="95"/>
                    </a:lnTo>
                    <a:close/>
                    <a:moveTo>
                      <a:pt x="1678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8" y="0"/>
                    </a:lnTo>
                    <a:lnTo>
                      <a:pt x="1678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024440" y="4027320"/>
                <a:ext cx="1095120" cy="2556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1764" y="95"/>
                    </a:lnTo>
                    <a:lnTo>
                      <a:pt x="1662" y="17"/>
                    </a:lnTo>
                    <a:lnTo>
                      <a:pt x="1659" y="0"/>
                    </a:lnTo>
                    <a:lnTo>
                      <a:pt x="4138" y="0"/>
                    </a:lnTo>
                    <a:lnTo>
                      <a:pt x="4138" y="80"/>
                    </a:lnTo>
                    <a:lnTo>
                      <a:pt x="4141" y="95"/>
                    </a:lnTo>
                    <a:close/>
                    <a:moveTo>
                      <a:pt x="1675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59" y="20"/>
                    </a:lnTo>
                    <a:lnTo>
                      <a:pt x="1675" y="95"/>
                    </a:lnTo>
                    <a:close/>
                  </a:path>
                </a:pathLst>
              </a:custGeom>
              <a:solidFill>
                <a:srgbClr val="73a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4022640" y="4014720"/>
                <a:ext cx="1096920" cy="25560"/>
              </a:xfrm>
              <a:custGeom>
                <a:avLst/>
                <a:gdLst/>
                <a:ahLst/>
                <a:rect l="l" t="t" r="r" b="b"/>
                <a:pathLst>
                  <a:path w="4145" h="95">
                    <a:moveTo>
                      <a:pt x="4145" y="95"/>
                    </a:moveTo>
                    <a:lnTo>
                      <a:pt x="1707" y="95"/>
                    </a:lnTo>
                    <a:lnTo>
                      <a:pt x="1669" y="65"/>
                    </a:lnTo>
                    <a:lnTo>
                      <a:pt x="1659" y="0"/>
                    </a:lnTo>
                    <a:lnTo>
                      <a:pt x="4145" y="0"/>
                    </a:lnTo>
                    <a:lnTo>
                      <a:pt x="4145" y="95"/>
                    </a:lnTo>
                    <a:close/>
                    <a:moveTo>
                      <a:pt x="1672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6" y="68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021200" y="4002120"/>
                <a:ext cx="1098360" cy="25200"/>
              </a:xfrm>
              <a:custGeom>
                <a:avLst/>
                <a:gdLst/>
                <a:ahLst/>
                <a:rect l="l" t="t" r="r" b="b"/>
                <a:pathLst>
                  <a:path w="4152" h="97">
                    <a:moveTo>
                      <a:pt x="4152" y="97"/>
                    </a:moveTo>
                    <a:lnTo>
                      <a:pt x="1673" y="97"/>
                    </a:lnTo>
                    <a:lnTo>
                      <a:pt x="1659" y="0"/>
                    </a:lnTo>
                    <a:lnTo>
                      <a:pt x="4152" y="0"/>
                    </a:lnTo>
                    <a:lnTo>
                      <a:pt x="4152" y="97"/>
                    </a:lnTo>
                    <a:close/>
                    <a:moveTo>
                      <a:pt x="1669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7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019400" y="3989520"/>
                <a:ext cx="1100160" cy="25200"/>
              </a:xfrm>
              <a:custGeom>
                <a:avLst/>
                <a:gdLst/>
                <a:ahLst/>
                <a:rect l="l" t="t" r="r" b="b"/>
                <a:pathLst>
                  <a:path w="4159" h="96">
                    <a:moveTo>
                      <a:pt x="4159" y="96"/>
                    </a:moveTo>
                    <a:lnTo>
                      <a:pt x="1673" y="96"/>
                    </a:lnTo>
                    <a:lnTo>
                      <a:pt x="1657" y="0"/>
                    </a:lnTo>
                    <a:lnTo>
                      <a:pt x="4159" y="0"/>
                    </a:lnTo>
                    <a:lnTo>
                      <a:pt x="4159" y="28"/>
                    </a:lnTo>
                    <a:lnTo>
                      <a:pt x="4159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017960" y="3978360"/>
                <a:ext cx="1101600" cy="2376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1672" y="95"/>
                    </a:lnTo>
                    <a:lnTo>
                      <a:pt x="1656" y="0"/>
                    </a:lnTo>
                    <a:lnTo>
                      <a:pt x="4165" y="0"/>
                    </a:lnTo>
                    <a:lnTo>
                      <a:pt x="4165" y="76"/>
                    </a:lnTo>
                    <a:lnTo>
                      <a:pt x="4165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014720" y="3965400"/>
                <a:ext cx="1104840" cy="2412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2" y="0"/>
                    </a:lnTo>
                    <a:lnTo>
                      <a:pt x="4172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013280" y="3952800"/>
                <a:ext cx="1106280" cy="25560"/>
              </a:xfrm>
              <a:custGeom>
                <a:avLst/>
                <a:gdLst/>
                <a:ahLst/>
                <a:rect l="l" t="t" r="r" b="b"/>
                <a:pathLst>
                  <a:path w="4179" h="95">
                    <a:moveTo>
                      <a:pt x="4179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9" y="0"/>
                    </a:lnTo>
                    <a:lnTo>
                      <a:pt x="4179" y="95"/>
                    </a:lnTo>
                    <a:close/>
                    <a:moveTo>
                      <a:pt x="1669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011480" y="3940200"/>
                <a:ext cx="1108080" cy="25200"/>
              </a:xfrm>
              <a:custGeom>
                <a:avLst/>
                <a:gdLst/>
                <a:ahLst/>
                <a:rect l="l" t="t" r="r" b="b"/>
                <a:pathLst>
                  <a:path w="4186" h="96">
                    <a:moveTo>
                      <a:pt x="4186" y="96"/>
                    </a:moveTo>
                    <a:lnTo>
                      <a:pt x="1670" y="96"/>
                    </a:lnTo>
                    <a:lnTo>
                      <a:pt x="1655" y="0"/>
                    </a:lnTo>
                    <a:lnTo>
                      <a:pt x="4186" y="0"/>
                    </a:lnTo>
                    <a:lnTo>
                      <a:pt x="4186" y="29"/>
                    </a:lnTo>
                    <a:lnTo>
                      <a:pt x="4186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2a7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010040" y="39276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4" h="95">
                    <a:moveTo>
                      <a:pt x="4194" y="95"/>
                    </a:moveTo>
                    <a:lnTo>
                      <a:pt x="1671" y="95"/>
                    </a:lnTo>
                    <a:lnTo>
                      <a:pt x="1655" y="0"/>
                    </a:lnTo>
                    <a:lnTo>
                      <a:pt x="4194" y="0"/>
                    </a:lnTo>
                    <a:lnTo>
                      <a:pt x="4194" y="76"/>
                    </a:lnTo>
                    <a:lnTo>
                      <a:pt x="4194" y="95"/>
                    </a:lnTo>
                    <a:close/>
                    <a:moveTo>
                      <a:pt x="167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0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008600" y="3914640"/>
                <a:ext cx="1110960" cy="25560"/>
              </a:xfrm>
              <a:custGeom>
                <a:avLst/>
                <a:gdLst/>
                <a:ahLst/>
                <a:rect l="l" t="t" r="r" b="b"/>
                <a:pathLst>
                  <a:path w="4201" h="95">
                    <a:moveTo>
                      <a:pt x="4201" y="95"/>
                    </a:moveTo>
                    <a:lnTo>
                      <a:pt x="1670" y="95"/>
                    </a:lnTo>
                    <a:lnTo>
                      <a:pt x="1659" y="22"/>
                    </a:lnTo>
                    <a:lnTo>
                      <a:pt x="1670" y="95"/>
                    </a:lnTo>
                    <a:lnTo>
                      <a:pt x="15" y="95"/>
                    </a:lnTo>
                    <a:lnTo>
                      <a:pt x="0" y="0"/>
                    </a:lnTo>
                    <a:lnTo>
                      <a:pt x="4201" y="0"/>
                    </a:lnTo>
                    <a:lnTo>
                      <a:pt x="4201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006800" y="390204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7" h="95">
                    <a:moveTo>
                      <a:pt x="4207" y="95"/>
                    </a:moveTo>
                    <a:lnTo>
                      <a:pt x="1668" y="95"/>
                    </a:lnTo>
                    <a:lnTo>
                      <a:pt x="1665" y="69"/>
                    </a:lnTo>
                    <a:lnTo>
                      <a:pt x="1668" y="95"/>
                    </a:lnTo>
                    <a:lnTo>
                      <a:pt x="13" y="95"/>
                    </a:lnTo>
                    <a:lnTo>
                      <a:pt x="0" y="0"/>
                    </a:lnTo>
                    <a:lnTo>
                      <a:pt x="4207" y="0"/>
                    </a:lnTo>
                    <a:lnTo>
                      <a:pt x="4207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005360" y="3889440"/>
                <a:ext cx="1114200" cy="2520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14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002120" y="3876840"/>
                <a:ext cx="1117440" cy="25200"/>
              </a:xfrm>
              <a:custGeom>
                <a:avLst/>
                <a:gdLst/>
                <a:ahLst/>
                <a:rect l="l" t="t" r="r" b="b"/>
                <a:pathLst>
                  <a:path w="4221" h="95">
                    <a:moveTo>
                      <a:pt x="4221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1" y="0"/>
                    </a:lnTo>
                    <a:lnTo>
                      <a:pt x="4221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000680" y="3863880"/>
                <a:ext cx="1118880" cy="25560"/>
              </a:xfrm>
              <a:custGeom>
                <a:avLst/>
                <a:gdLst/>
                <a:ahLst/>
                <a:rect l="l" t="t" r="r" b="b"/>
                <a:pathLst>
                  <a:path w="4228" h="95">
                    <a:moveTo>
                      <a:pt x="4228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8" y="0"/>
                    </a:lnTo>
                    <a:lnTo>
                      <a:pt x="4228" y="95"/>
                    </a:lnTo>
                    <a:close/>
                  </a:path>
                </a:pathLst>
              </a:custGeom>
              <a:solidFill>
                <a:srgbClr val="71a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998880" y="385128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5" h="97">
                    <a:moveTo>
                      <a:pt x="4235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4235" y="0"/>
                    </a:lnTo>
                    <a:lnTo>
                      <a:pt x="4235" y="97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997440" y="3838680"/>
                <a:ext cx="1122120" cy="25200"/>
              </a:xfrm>
              <a:custGeom>
                <a:avLst/>
                <a:gdLst/>
                <a:ahLst/>
                <a:rect l="l" t="t" r="r" b="b"/>
                <a:pathLst>
                  <a:path w="4242" h="96">
                    <a:moveTo>
                      <a:pt x="4242" y="96"/>
                    </a:moveTo>
                    <a:lnTo>
                      <a:pt x="14" y="96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4242" y="0"/>
                    </a:lnTo>
                    <a:lnTo>
                      <a:pt x="4242" y="96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995640" y="3825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9" h="95">
                    <a:moveTo>
                      <a:pt x="4249" y="95"/>
                    </a:moveTo>
                    <a:lnTo>
                      <a:pt x="14" y="95"/>
                    </a:lnTo>
                    <a:lnTo>
                      <a:pt x="9" y="62"/>
                    </a:lnTo>
                    <a:lnTo>
                      <a:pt x="0" y="0"/>
                    </a:lnTo>
                    <a:lnTo>
                      <a:pt x="4249" y="0"/>
                    </a:lnTo>
                    <a:lnTo>
                      <a:pt x="4249" y="95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992400" y="3813120"/>
                <a:ext cx="1127160" cy="25560"/>
              </a:xfrm>
              <a:custGeom>
                <a:avLst/>
                <a:gdLst/>
                <a:ahLst/>
                <a:rect l="l" t="t" r="r" b="b"/>
                <a:pathLst>
                  <a:path w="4258" h="95">
                    <a:moveTo>
                      <a:pt x="425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4258" y="0"/>
                    </a:lnTo>
                    <a:lnTo>
                      <a:pt x="4258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990960" y="3800520"/>
                <a:ext cx="1128600" cy="25200"/>
              </a:xfrm>
              <a:custGeom>
                <a:avLst/>
                <a:gdLst/>
                <a:ahLst/>
                <a:rect l="l" t="t" r="r" b="b"/>
                <a:pathLst>
                  <a:path w="4266" h="95">
                    <a:moveTo>
                      <a:pt x="42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4266" y="0"/>
                    </a:lnTo>
                    <a:lnTo>
                      <a:pt x="4266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989520" y="3787920"/>
                <a:ext cx="1130040" cy="25200"/>
              </a:xfrm>
              <a:custGeom>
                <a:avLst/>
                <a:gdLst/>
                <a:ahLst/>
                <a:rect l="l" t="t" r="r" b="b"/>
                <a:pathLst>
                  <a:path w="4273" h="95">
                    <a:moveTo>
                      <a:pt x="4273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64" y="10"/>
                    </a:lnTo>
                    <a:lnTo>
                      <a:pt x="1664" y="33"/>
                    </a:lnTo>
                    <a:lnTo>
                      <a:pt x="1664" y="10"/>
                    </a:lnTo>
                    <a:lnTo>
                      <a:pt x="1668" y="0"/>
                    </a:lnTo>
                    <a:lnTo>
                      <a:pt x="4273" y="0"/>
                    </a:lnTo>
                    <a:lnTo>
                      <a:pt x="4273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986280" y="3776760"/>
                <a:ext cx="1133280" cy="23760"/>
              </a:xfrm>
              <a:custGeom>
                <a:avLst/>
                <a:gdLst/>
                <a:ahLst/>
                <a:rect l="l" t="t" r="r" b="b"/>
                <a:pathLst>
                  <a:path w="4281" h="95">
                    <a:moveTo>
                      <a:pt x="4281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72" y="58"/>
                    </a:lnTo>
                    <a:lnTo>
                      <a:pt x="1672" y="81"/>
                    </a:lnTo>
                    <a:lnTo>
                      <a:pt x="1672" y="58"/>
                    </a:lnTo>
                    <a:lnTo>
                      <a:pt x="1691" y="0"/>
                    </a:lnTo>
                    <a:lnTo>
                      <a:pt x="4281" y="0"/>
                    </a:lnTo>
                    <a:lnTo>
                      <a:pt x="4281" y="95"/>
                    </a:lnTo>
                    <a:close/>
                  </a:path>
                </a:pathLst>
              </a:custGeom>
              <a:solidFill>
                <a:srgbClr val="70a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984480" y="3763800"/>
                <a:ext cx="1135080" cy="24120"/>
              </a:xfrm>
              <a:custGeom>
                <a:avLst/>
                <a:gdLst/>
                <a:ahLst/>
                <a:rect l="l" t="t" r="r" b="b"/>
                <a:pathLst>
                  <a:path w="4290" h="95">
                    <a:moveTo>
                      <a:pt x="4290" y="95"/>
                    </a:moveTo>
                    <a:lnTo>
                      <a:pt x="1685" y="95"/>
                    </a:lnTo>
                    <a:lnTo>
                      <a:pt x="1717" y="0"/>
                    </a:lnTo>
                    <a:lnTo>
                      <a:pt x="4290" y="0"/>
                    </a:lnTo>
                    <a:lnTo>
                      <a:pt x="4290" y="95"/>
                    </a:lnTo>
                    <a:close/>
                    <a:moveTo>
                      <a:pt x="1679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9" y="0"/>
                    </a:lnTo>
                    <a:lnTo>
                      <a:pt x="1679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983040" y="375120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7" h="95">
                    <a:moveTo>
                      <a:pt x="4297" y="95"/>
                    </a:moveTo>
                    <a:lnTo>
                      <a:pt x="1707" y="95"/>
                    </a:lnTo>
                    <a:lnTo>
                      <a:pt x="1741" y="0"/>
                    </a:lnTo>
                    <a:lnTo>
                      <a:pt x="4297" y="0"/>
                    </a:lnTo>
                    <a:lnTo>
                      <a:pt x="4297" y="95"/>
                    </a:lnTo>
                    <a:close/>
                    <a:moveTo>
                      <a:pt x="1677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77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979800" y="3738600"/>
                <a:ext cx="1139760" cy="25200"/>
              </a:xfrm>
              <a:custGeom>
                <a:avLst/>
                <a:gdLst/>
                <a:ahLst/>
                <a:rect l="l" t="t" r="r" b="b"/>
                <a:pathLst>
                  <a:path w="4305" h="96">
                    <a:moveTo>
                      <a:pt x="4305" y="96"/>
                    </a:moveTo>
                    <a:lnTo>
                      <a:pt x="1732" y="96"/>
                    </a:lnTo>
                    <a:lnTo>
                      <a:pt x="1765" y="0"/>
                    </a:lnTo>
                    <a:lnTo>
                      <a:pt x="4305" y="0"/>
                    </a:lnTo>
                    <a:lnTo>
                      <a:pt x="4305" y="96"/>
                    </a:lnTo>
                    <a:close/>
                    <a:moveTo>
                      <a:pt x="1674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4" y="96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978360" y="3726000"/>
                <a:ext cx="1141200" cy="25200"/>
              </a:xfrm>
              <a:custGeom>
                <a:avLst/>
                <a:gdLst/>
                <a:ahLst/>
                <a:rect l="l" t="t" r="r" b="b"/>
                <a:pathLst>
                  <a:path w="4314" h="95">
                    <a:moveTo>
                      <a:pt x="4314" y="95"/>
                    </a:moveTo>
                    <a:lnTo>
                      <a:pt x="1758" y="95"/>
                    </a:lnTo>
                    <a:lnTo>
                      <a:pt x="1790" y="0"/>
                    </a:lnTo>
                    <a:lnTo>
                      <a:pt x="4314" y="0"/>
                    </a:lnTo>
                    <a:lnTo>
                      <a:pt x="4314" y="95"/>
                    </a:lnTo>
                    <a:close/>
                    <a:moveTo>
                      <a:pt x="1673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3" y="0"/>
                    </a:lnTo>
                    <a:lnTo>
                      <a:pt x="1673" y="95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976560" y="371304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22" h="95">
                    <a:moveTo>
                      <a:pt x="4322" y="95"/>
                    </a:moveTo>
                    <a:lnTo>
                      <a:pt x="1782" y="95"/>
                    </a:lnTo>
                    <a:lnTo>
                      <a:pt x="1814" y="0"/>
                    </a:lnTo>
                    <a:lnTo>
                      <a:pt x="4322" y="0"/>
                    </a:lnTo>
                    <a:lnTo>
                      <a:pt x="4322" y="95"/>
                    </a:lnTo>
                    <a:close/>
                    <a:moveTo>
                      <a:pt x="1672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2" y="0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973680" y="3700440"/>
                <a:ext cx="1145880" cy="25560"/>
              </a:xfrm>
              <a:custGeom>
                <a:avLst/>
                <a:gdLst/>
                <a:ahLst/>
                <a:rect l="l" t="t" r="r" b="b"/>
                <a:pathLst>
                  <a:path w="4329" h="96">
                    <a:moveTo>
                      <a:pt x="4329" y="96"/>
                    </a:moveTo>
                    <a:lnTo>
                      <a:pt x="1805" y="96"/>
                    </a:lnTo>
                    <a:lnTo>
                      <a:pt x="1838" y="0"/>
                    </a:lnTo>
                    <a:lnTo>
                      <a:pt x="4328" y="0"/>
                    </a:lnTo>
                    <a:lnTo>
                      <a:pt x="4329" y="15"/>
                    </a:lnTo>
                    <a:lnTo>
                      <a:pt x="4329" y="96"/>
                    </a:lnTo>
                    <a:close/>
                    <a:moveTo>
                      <a:pt x="1668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9" y="0"/>
                    </a:lnTo>
                    <a:lnTo>
                      <a:pt x="1668" y="96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971880" y="3687840"/>
                <a:ext cx="1147680" cy="25200"/>
              </a:xfrm>
              <a:custGeom>
                <a:avLst/>
                <a:gdLst/>
                <a:ahLst/>
                <a:rect l="l" t="t" r="r" b="b"/>
                <a:pathLst>
                  <a:path w="4337" h="96">
                    <a:moveTo>
                      <a:pt x="4337" y="96"/>
                    </a:moveTo>
                    <a:lnTo>
                      <a:pt x="1829" y="96"/>
                    </a:lnTo>
                    <a:lnTo>
                      <a:pt x="1861" y="5"/>
                    </a:lnTo>
                    <a:lnTo>
                      <a:pt x="1861" y="0"/>
                    </a:lnTo>
                    <a:lnTo>
                      <a:pt x="4331" y="0"/>
                    </a:lnTo>
                    <a:lnTo>
                      <a:pt x="4337" y="63"/>
                    </a:lnTo>
                    <a:lnTo>
                      <a:pt x="4337" y="96"/>
                    </a:lnTo>
                    <a:close/>
                    <a:moveTo>
                      <a:pt x="1667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7" y="96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970440" y="3675240"/>
                <a:ext cx="1149120" cy="25200"/>
              </a:xfrm>
              <a:custGeom>
                <a:avLst/>
                <a:gdLst/>
                <a:ahLst/>
                <a:rect l="l" t="t" r="r" b="b"/>
                <a:pathLst>
                  <a:path w="4345" h="95">
                    <a:moveTo>
                      <a:pt x="4345" y="95"/>
                    </a:moveTo>
                    <a:lnTo>
                      <a:pt x="1855" y="95"/>
                    </a:lnTo>
                    <a:lnTo>
                      <a:pt x="1870" y="52"/>
                    </a:lnTo>
                    <a:lnTo>
                      <a:pt x="1881" y="0"/>
                    </a:lnTo>
                    <a:lnTo>
                      <a:pt x="4335" y="0"/>
                    </a:lnTo>
                    <a:lnTo>
                      <a:pt x="4345" y="95"/>
                    </a:lnTo>
                    <a:close/>
                    <a:moveTo>
                      <a:pt x="16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6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67200" y="3662280"/>
                <a:ext cx="1150920" cy="25560"/>
              </a:xfrm>
              <a:custGeom>
                <a:avLst/>
                <a:gdLst/>
                <a:ahLst/>
                <a:rect l="l" t="t" r="r" b="b"/>
                <a:pathLst>
                  <a:path w="4347" h="95">
                    <a:moveTo>
                      <a:pt x="4347" y="95"/>
                    </a:moveTo>
                    <a:lnTo>
                      <a:pt x="1877" y="95"/>
                    </a:lnTo>
                    <a:lnTo>
                      <a:pt x="1898" y="0"/>
                    </a:lnTo>
                    <a:lnTo>
                      <a:pt x="4337" y="0"/>
                    </a:lnTo>
                    <a:lnTo>
                      <a:pt x="4347" y="95"/>
                    </a:lnTo>
                    <a:close/>
                    <a:moveTo>
                      <a:pt x="166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43" y="0"/>
                    </a:lnTo>
                    <a:lnTo>
                      <a:pt x="1662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65400" y="3649680"/>
                <a:ext cx="1151280" cy="25560"/>
              </a:xfrm>
              <a:custGeom>
                <a:avLst/>
                <a:gdLst/>
                <a:ahLst/>
                <a:rect l="l" t="t" r="r" b="b"/>
                <a:pathLst>
                  <a:path w="4350" h="96">
                    <a:moveTo>
                      <a:pt x="4350" y="96"/>
                    </a:moveTo>
                    <a:lnTo>
                      <a:pt x="1896" y="96"/>
                    </a:lnTo>
                    <a:lnTo>
                      <a:pt x="1916" y="0"/>
                    </a:lnTo>
                    <a:lnTo>
                      <a:pt x="4341" y="0"/>
                    </a:lnTo>
                    <a:lnTo>
                      <a:pt x="4350" y="96"/>
                    </a:lnTo>
                    <a:close/>
                    <a:moveTo>
                      <a:pt x="1661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1" y="0"/>
                    </a:lnTo>
                    <a:lnTo>
                      <a:pt x="1661" y="96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963960" y="3637080"/>
                <a:ext cx="1150920" cy="25200"/>
              </a:xfrm>
              <a:custGeom>
                <a:avLst/>
                <a:gdLst/>
                <a:ahLst/>
                <a:rect l="l" t="t" r="r" b="b"/>
                <a:pathLst>
                  <a:path w="4353" h="95">
                    <a:moveTo>
                      <a:pt x="4353" y="95"/>
                    </a:moveTo>
                    <a:lnTo>
                      <a:pt x="1914" y="95"/>
                    </a:lnTo>
                    <a:lnTo>
                      <a:pt x="1934" y="0"/>
                    </a:lnTo>
                    <a:lnTo>
                      <a:pt x="4345" y="0"/>
                    </a:lnTo>
                    <a:lnTo>
                      <a:pt x="4353" y="95"/>
                    </a:lnTo>
                    <a:close/>
                    <a:moveTo>
                      <a:pt x="1659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9" y="0"/>
                    </a:lnTo>
                    <a:lnTo>
                      <a:pt x="1659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960720" y="3624120"/>
                <a:ext cx="1152720" cy="25560"/>
              </a:xfrm>
              <a:custGeom>
                <a:avLst/>
                <a:gdLst/>
                <a:ahLst/>
                <a:rect l="l" t="t" r="r" b="b"/>
                <a:pathLst>
                  <a:path w="4356" h="95">
                    <a:moveTo>
                      <a:pt x="4356" y="95"/>
                    </a:moveTo>
                    <a:lnTo>
                      <a:pt x="1931" y="95"/>
                    </a:lnTo>
                    <a:lnTo>
                      <a:pt x="1950" y="0"/>
                    </a:lnTo>
                    <a:lnTo>
                      <a:pt x="4347" y="0"/>
                    </a:lnTo>
                    <a:lnTo>
                      <a:pt x="4356" y="95"/>
                    </a:lnTo>
                    <a:close/>
                    <a:moveTo>
                      <a:pt x="165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7" y="0"/>
                    </a:lnTo>
                    <a:lnTo>
                      <a:pt x="1656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959280" y="3611520"/>
                <a:ext cx="1154160" cy="25560"/>
              </a:xfrm>
              <a:custGeom>
                <a:avLst/>
                <a:gdLst/>
                <a:ahLst/>
                <a:rect l="l" t="t" r="r" b="b"/>
                <a:pathLst>
                  <a:path w="4361" h="95">
                    <a:moveTo>
                      <a:pt x="4361" y="95"/>
                    </a:moveTo>
                    <a:lnTo>
                      <a:pt x="1950" y="95"/>
                    </a:lnTo>
                    <a:lnTo>
                      <a:pt x="1970" y="0"/>
                    </a:lnTo>
                    <a:lnTo>
                      <a:pt x="4352" y="0"/>
                    </a:lnTo>
                    <a:lnTo>
                      <a:pt x="4361" y="95"/>
                    </a:lnTo>
                    <a:close/>
                    <a:moveTo>
                      <a:pt x="1655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5" y="0"/>
                    </a:lnTo>
                    <a:lnTo>
                      <a:pt x="1655" y="95"/>
                    </a:lnTo>
                    <a:close/>
                  </a:path>
                </a:pathLst>
              </a:custGeom>
              <a:solidFill>
                <a:srgbClr val="6d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957480" y="3598920"/>
                <a:ext cx="1154160" cy="25200"/>
              </a:xfrm>
              <a:custGeom>
                <a:avLst/>
                <a:gdLst/>
                <a:ahLst/>
                <a:rect l="l" t="t" r="r" b="b"/>
                <a:pathLst>
                  <a:path w="4364" h="95">
                    <a:moveTo>
                      <a:pt x="4364" y="95"/>
                    </a:moveTo>
                    <a:lnTo>
                      <a:pt x="1967" y="95"/>
                    </a:lnTo>
                    <a:lnTo>
                      <a:pt x="1986" y="9"/>
                    </a:lnTo>
                    <a:lnTo>
                      <a:pt x="1987" y="0"/>
                    </a:lnTo>
                    <a:lnTo>
                      <a:pt x="4355" y="0"/>
                    </a:lnTo>
                    <a:lnTo>
                      <a:pt x="4364" y="95"/>
                    </a:lnTo>
                    <a:close/>
                    <a:moveTo>
                      <a:pt x="165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34" y="0"/>
                    </a:lnTo>
                    <a:lnTo>
                      <a:pt x="1654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954600" y="358632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7" h="95">
                    <a:moveTo>
                      <a:pt x="4367" y="95"/>
                    </a:moveTo>
                    <a:lnTo>
                      <a:pt x="1985" y="95"/>
                    </a:lnTo>
                    <a:lnTo>
                      <a:pt x="1993" y="56"/>
                    </a:lnTo>
                    <a:lnTo>
                      <a:pt x="2002" y="0"/>
                    </a:lnTo>
                    <a:lnTo>
                      <a:pt x="4357" y="0"/>
                    </a:lnTo>
                    <a:lnTo>
                      <a:pt x="4367" y="95"/>
                    </a:lnTo>
                    <a:close/>
                    <a:moveTo>
                      <a:pt x="16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1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952800" y="3575160"/>
                <a:ext cx="1155600" cy="23760"/>
              </a:xfrm>
              <a:custGeom>
                <a:avLst/>
                <a:gdLst/>
                <a:ahLst/>
                <a:rect l="l" t="t" r="r" b="b"/>
                <a:pathLst>
                  <a:path w="4371" h="95">
                    <a:moveTo>
                      <a:pt x="4371" y="95"/>
                    </a:moveTo>
                    <a:lnTo>
                      <a:pt x="2003" y="95"/>
                    </a:lnTo>
                    <a:lnTo>
                      <a:pt x="2019" y="0"/>
                    </a:lnTo>
                    <a:lnTo>
                      <a:pt x="4361" y="0"/>
                    </a:lnTo>
                    <a:lnTo>
                      <a:pt x="4371" y="95"/>
                    </a:lnTo>
                    <a:close/>
                    <a:moveTo>
                      <a:pt x="1650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51360" y="3562200"/>
                <a:ext cx="1157040" cy="24120"/>
              </a:xfrm>
              <a:custGeom>
                <a:avLst/>
                <a:gdLst/>
                <a:ahLst/>
                <a:rect l="l" t="t" r="r" b="b"/>
                <a:pathLst>
                  <a:path w="4374" h="95">
                    <a:moveTo>
                      <a:pt x="4374" y="95"/>
                    </a:moveTo>
                    <a:lnTo>
                      <a:pt x="2019" y="95"/>
                    </a:lnTo>
                    <a:lnTo>
                      <a:pt x="2034" y="0"/>
                    </a:lnTo>
                    <a:lnTo>
                      <a:pt x="4365" y="0"/>
                    </a:lnTo>
                    <a:lnTo>
                      <a:pt x="4374" y="95"/>
                    </a:lnTo>
                    <a:close/>
                    <a:moveTo>
                      <a:pt x="1648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8" y="0"/>
                    </a:lnTo>
                    <a:lnTo>
                      <a:pt x="1648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948120" y="3548160"/>
                <a:ext cx="1158840" cy="27000"/>
              </a:xfrm>
              <a:custGeom>
                <a:avLst/>
                <a:gdLst/>
                <a:ahLst/>
                <a:rect l="l" t="t" r="r" b="b"/>
                <a:pathLst>
                  <a:path w="4377" h="96">
                    <a:moveTo>
                      <a:pt x="4377" y="96"/>
                    </a:moveTo>
                    <a:lnTo>
                      <a:pt x="2035" y="96"/>
                    </a:lnTo>
                    <a:lnTo>
                      <a:pt x="2050" y="0"/>
                    </a:lnTo>
                    <a:lnTo>
                      <a:pt x="4368" y="0"/>
                    </a:lnTo>
                    <a:lnTo>
                      <a:pt x="4377" y="96"/>
                    </a:lnTo>
                    <a:close/>
                    <a:moveTo>
                      <a:pt x="164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626" y="0"/>
                    </a:lnTo>
                    <a:lnTo>
                      <a:pt x="1645" y="96"/>
                    </a:lnTo>
                    <a:close/>
                  </a:path>
                </a:pathLst>
              </a:custGeom>
              <a:solidFill>
                <a:srgbClr val="6c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946680" y="3537000"/>
                <a:ext cx="1158840" cy="25200"/>
              </a:xfrm>
              <a:custGeom>
                <a:avLst/>
                <a:gdLst/>
                <a:ahLst/>
                <a:rect l="l" t="t" r="r" b="b"/>
                <a:pathLst>
                  <a:path w="4380" h="97">
                    <a:moveTo>
                      <a:pt x="4380" y="97"/>
                    </a:moveTo>
                    <a:lnTo>
                      <a:pt x="2049" y="97"/>
                    </a:lnTo>
                    <a:lnTo>
                      <a:pt x="2064" y="0"/>
                    </a:lnTo>
                    <a:lnTo>
                      <a:pt x="4370" y="0"/>
                    </a:lnTo>
                    <a:lnTo>
                      <a:pt x="4380" y="97"/>
                    </a:lnTo>
                    <a:close/>
                    <a:moveTo>
                      <a:pt x="1643" y="97"/>
                    </a:moveTo>
                    <a:lnTo>
                      <a:pt x="15" y="97"/>
                    </a:lnTo>
                    <a:lnTo>
                      <a:pt x="0" y="0"/>
                    </a:lnTo>
                    <a:lnTo>
                      <a:pt x="1623" y="0"/>
                    </a:lnTo>
                    <a:lnTo>
                      <a:pt x="1643" y="97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944880" y="3524400"/>
                <a:ext cx="1158840" cy="23760"/>
              </a:xfrm>
              <a:custGeom>
                <a:avLst/>
                <a:gdLst/>
                <a:ahLst/>
                <a:rect l="l" t="t" r="r" b="b"/>
                <a:pathLst>
                  <a:path w="4384" h="95">
                    <a:moveTo>
                      <a:pt x="4384" y="95"/>
                    </a:moveTo>
                    <a:lnTo>
                      <a:pt x="2066" y="95"/>
                    </a:lnTo>
                    <a:lnTo>
                      <a:pt x="2082" y="0"/>
                    </a:lnTo>
                    <a:lnTo>
                      <a:pt x="4378" y="0"/>
                    </a:lnTo>
                    <a:lnTo>
                      <a:pt x="4378" y="28"/>
                    </a:lnTo>
                    <a:lnTo>
                      <a:pt x="4384" y="95"/>
                    </a:lnTo>
                    <a:close/>
                    <a:moveTo>
                      <a:pt x="164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42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41640" y="35114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87" h="95">
                    <a:moveTo>
                      <a:pt x="4387" y="95"/>
                    </a:moveTo>
                    <a:lnTo>
                      <a:pt x="2081" y="95"/>
                    </a:lnTo>
                    <a:lnTo>
                      <a:pt x="2097" y="0"/>
                    </a:lnTo>
                    <a:lnTo>
                      <a:pt x="4386" y="0"/>
                    </a:lnTo>
                    <a:lnTo>
                      <a:pt x="4386" y="76"/>
                    </a:lnTo>
                    <a:lnTo>
                      <a:pt x="4387" y="95"/>
                    </a:lnTo>
                    <a:close/>
                    <a:moveTo>
                      <a:pt x="1640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1" y="0"/>
                    </a:lnTo>
                    <a:lnTo>
                      <a:pt x="1640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40200" y="34988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3" h="95">
                    <a:moveTo>
                      <a:pt x="4393" y="95"/>
                    </a:moveTo>
                    <a:lnTo>
                      <a:pt x="2097" y="95"/>
                    </a:lnTo>
                    <a:lnTo>
                      <a:pt x="2112" y="0"/>
                    </a:lnTo>
                    <a:lnTo>
                      <a:pt x="4393" y="0"/>
                    </a:lnTo>
                    <a:lnTo>
                      <a:pt x="4393" y="95"/>
                    </a:lnTo>
                    <a:close/>
                    <a:moveTo>
                      <a:pt x="1637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37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38760" y="348624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401" h="95">
                    <a:moveTo>
                      <a:pt x="4401" y="95"/>
                    </a:moveTo>
                    <a:lnTo>
                      <a:pt x="2112" y="95"/>
                    </a:lnTo>
                    <a:lnTo>
                      <a:pt x="2120" y="44"/>
                    </a:lnTo>
                    <a:lnTo>
                      <a:pt x="2120" y="0"/>
                    </a:lnTo>
                    <a:lnTo>
                      <a:pt x="4401" y="0"/>
                    </a:lnTo>
                    <a:lnTo>
                      <a:pt x="4401" y="95"/>
                    </a:lnTo>
                    <a:close/>
                    <a:moveTo>
                      <a:pt x="163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6" y="0"/>
                    </a:lnTo>
                    <a:lnTo>
                      <a:pt x="1636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35520" y="3473280"/>
                <a:ext cx="1166760" cy="25560"/>
              </a:xfrm>
              <a:custGeom>
                <a:avLst/>
                <a:gdLst/>
                <a:ahLst/>
                <a:rect l="l" t="t" r="r" b="b"/>
                <a:pathLst>
                  <a:path w="4410" h="95">
                    <a:moveTo>
                      <a:pt x="4410" y="95"/>
                    </a:moveTo>
                    <a:lnTo>
                      <a:pt x="2129" y="95"/>
                    </a:lnTo>
                    <a:lnTo>
                      <a:pt x="2129" y="91"/>
                    </a:lnTo>
                    <a:lnTo>
                      <a:pt x="2129" y="0"/>
                    </a:lnTo>
                    <a:lnTo>
                      <a:pt x="4410" y="0"/>
                    </a:lnTo>
                    <a:lnTo>
                      <a:pt x="4410" y="95"/>
                    </a:lnTo>
                    <a:close/>
                    <a:moveTo>
                      <a:pt x="163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15" y="0"/>
                    </a:lnTo>
                    <a:lnTo>
                      <a:pt x="1634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933720" y="3460680"/>
                <a:ext cx="1168560" cy="25560"/>
              </a:xfrm>
              <a:custGeom>
                <a:avLst/>
                <a:gdLst/>
                <a:ahLst/>
                <a:rect l="l" t="t" r="r" b="b"/>
                <a:pathLst>
                  <a:path w="4417" h="95">
                    <a:moveTo>
                      <a:pt x="4417" y="95"/>
                    </a:moveTo>
                    <a:lnTo>
                      <a:pt x="2136" y="95"/>
                    </a:lnTo>
                    <a:lnTo>
                      <a:pt x="2136" y="0"/>
                    </a:lnTo>
                    <a:lnTo>
                      <a:pt x="4417" y="0"/>
                    </a:lnTo>
                    <a:lnTo>
                      <a:pt x="4417" y="95"/>
                    </a:lnTo>
                    <a:close/>
                    <a:moveTo>
                      <a:pt x="163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14" y="12"/>
                    </a:lnTo>
                    <a:lnTo>
                      <a:pt x="1632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932280" y="34480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5" h="96">
                    <a:moveTo>
                      <a:pt x="4425" y="96"/>
                    </a:moveTo>
                    <a:lnTo>
                      <a:pt x="2144" y="96"/>
                    </a:lnTo>
                    <a:lnTo>
                      <a:pt x="2144" y="0"/>
                    </a:lnTo>
                    <a:lnTo>
                      <a:pt x="4425" y="0"/>
                    </a:lnTo>
                    <a:lnTo>
                      <a:pt x="4425" y="96"/>
                    </a:lnTo>
                    <a:close/>
                    <a:moveTo>
                      <a:pt x="1630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22" y="60"/>
                    </a:lnTo>
                    <a:lnTo>
                      <a:pt x="1630" y="96"/>
                    </a:lnTo>
                    <a:close/>
                  </a:path>
                </a:pathLst>
              </a:custGeom>
              <a:solidFill>
                <a:srgbClr val="6b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929040" y="343548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433" y="95"/>
                    </a:moveTo>
                    <a:lnTo>
                      <a:pt x="2152" y="95"/>
                    </a:lnTo>
                    <a:lnTo>
                      <a:pt x="2152" y="0"/>
                    </a:lnTo>
                    <a:lnTo>
                      <a:pt x="4433" y="0"/>
                    </a:lnTo>
                    <a:lnTo>
                      <a:pt x="4433" y="95"/>
                    </a:lnTo>
                    <a:close/>
                    <a:moveTo>
                      <a:pt x="163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38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927600" y="3422520"/>
                <a:ext cx="1174680" cy="25560"/>
              </a:xfrm>
              <a:custGeom>
                <a:avLst/>
                <a:gdLst/>
                <a:ahLst/>
                <a:rect l="l" t="t" r="r" b="b"/>
                <a:pathLst>
                  <a:path w="4440" h="95">
                    <a:moveTo>
                      <a:pt x="4440" y="95"/>
                    </a:moveTo>
                    <a:lnTo>
                      <a:pt x="2159" y="95"/>
                    </a:lnTo>
                    <a:lnTo>
                      <a:pt x="2159" y="0"/>
                    </a:lnTo>
                    <a:lnTo>
                      <a:pt x="4440" y="0"/>
                    </a:lnTo>
                    <a:lnTo>
                      <a:pt x="4440" y="95"/>
                    </a:lnTo>
                    <a:close/>
                    <a:moveTo>
                      <a:pt x="167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738" y="0"/>
                    </a:lnTo>
                    <a:lnTo>
                      <a:pt x="1676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925800" y="3409920"/>
                <a:ext cx="1176480" cy="25560"/>
              </a:xfrm>
              <a:custGeom>
                <a:avLst/>
                <a:gdLst/>
                <a:ahLst/>
                <a:rect l="l" t="t" r="r" b="b"/>
                <a:pathLst>
                  <a:path w="4449" h="95">
                    <a:moveTo>
                      <a:pt x="4449" y="95"/>
                    </a:moveTo>
                    <a:lnTo>
                      <a:pt x="2168" y="95"/>
                    </a:lnTo>
                    <a:lnTo>
                      <a:pt x="2168" y="0"/>
                    </a:lnTo>
                    <a:lnTo>
                      <a:pt x="4449" y="0"/>
                    </a:lnTo>
                    <a:lnTo>
                      <a:pt x="4449" y="95"/>
                    </a:lnTo>
                    <a:close/>
                    <a:moveTo>
                      <a:pt x="1716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79" y="0"/>
                    </a:lnTo>
                    <a:lnTo>
                      <a:pt x="1776" y="2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922560" y="3397320"/>
                <a:ext cx="1179720" cy="25200"/>
              </a:xfrm>
              <a:custGeom>
                <a:avLst/>
                <a:gdLst/>
                <a:ahLst/>
                <a:rect l="l" t="t" r="r" b="b"/>
                <a:pathLst>
                  <a:path w="4457" h="95">
                    <a:moveTo>
                      <a:pt x="4457" y="95"/>
                    </a:moveTo>
                    <a:lnTo>
                      <a:pt x="2176" y="95"/>
                    </a:lnTo>
                    <a:lnTo>
                      <a:pt x="2176" y="0"/>
                    </a:lnTo>
                    <a:lnTo>
                      <a:pt x="4457" y="0"/>
                    </a:lnTo>
                    <a:lnTo>
                      <a:pt x="4457" y="95"/>
                    </a:lnTo>
                    <a:close/>
                    <a:moveTo>
                      <a:pt x="1755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818" y="0"/>
                    </a:lnTo>
                    <a:lnTo>
                      <a:pt x="1784" y="50"/>
                    </a:lnTo>
                    <a:lnTo>
                      <a:pt x="1755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921120" y="3384720"/>
                <a:ext cx="1181160" cy="25200"/>
              </a:xfrm>
              <a:custGeom>
                <a:avLst/>
                <a:gdLst/>
                <a:ahLst/>
                <a:rect l="l" t="t" r="r" b="b"/>
                <a:pathLst>
                  <a:path w="4465" h="96">
                    <a:moveTo>
                      <a:pt x="4465" y="96"/>
                    </a:moveTo>
                    <a:lnTo>
                      <a:pt x="2184" y="96"/>
                    </a:lnTo>
                    <a:lnTo>
                      <a:pt x="2184" y="33"/>
                    </a:lnTo>
                    <a:lnTo>
                      <a:pt x="2190" y="0"/>
                    </a:lnTo>
                    <a:lnTo>
                      <a:pt x="4465" y="0"/>
                    </a:lnTo>
                    <a:lnTo>
                      <a:pt x="4465" y="96"/>
                    </a:lnTo>
                    <a:close/>
                    <a:moveTo>
                      <a:pt x="179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795" y="96"/>
                    </a:lnTo>
                    <a:close/>
                  </a:path>
                </a:pathLst>
              </a:custGeom>
              <a:solidFill>
                <a:srgbClr val="699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919680" y="337176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3" h="96">
                    <a:moveTo>
                      <a:pt x="4473" y="96"/>
                    </a:moveTo>
                    <a:lnTo>
                      <a:pt x="2192" y="96"/>
                    </a:lnTo>
                    <a:lnTo>
                      <a:pt x="2192" y="81"/>
                    </a:lnTo>
                    <a:lnTo>
                      <a:pt x="2205" y="0"/>
                    </a:lnTo>
                    <a:lnTo>
                      <a:pt x="4473" y="0"/>
                    </a:lnTo>
                    <a:lnTo>
                      <a:pt x="4473" y="96"/>
                    </a:lnTo>
                    <a:close/>
                    <a:moveTo>
                      <a:pt x="1834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97" y="0"/>
                    </a:lnTo>
                    <a:lnTo>
                      <a:pt x="1834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917880" y="3359160"/>
                <a:ext cx="1184400" cy="25560"/>
              </a:xfrm>
              <a:custGeom>
                <a:avLst/>
                <a:gdLst/>
                <a:ahLst/>
                <a:rect l="l" t="t" r="r" b="b"/>
                <a:pathLst>
                  <a:path w="4481" h="96">
                    <a:moveTo>
                      <a:pt x="4481" y="96"/>
                    </a:moveTo>
                    <a:lnTo>
                      <a:pt x="2206" y="96"/>
                    </a:lnTo>
                    <a:lnTo>
                      <a:pt x="2222" y="0"/>
                    </a:lnTo>
                    <a:lnTo>
                      <a:pt x="4481" y="0"/>
                    </a:lnTo>
                    <a:lnTo>
                      <a:pt x="4481" y="2"/>
                    </a:lnTo>
                    <a:lnTo>
                      <a:pt x="4481" y="96"/>
                    </a:lnTo>
                    <a:close/>
                    <a:moveTo>
                      <a:pt x="1872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935" y="0"/>
                    </a:lnTo>
                    <a:lnTo>
                      <a:pt x="1935" y="2"/>
                    </a:lnTo>
                    <a:lnTo>
                      <a:pt x="1872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14640" y="3346560"/>
                <a:ext cx="1187640" cy="25200"/>
              </a:xfrm>
              <a:custGeom>
                <a:avLst/>
                <a:gdLst/>
                <a:ahLst/>
                <a:rect l="l" t="t" r="r" b="b"/>
                <a:pathLst>
                  <a:path w="4489" h="95">
                    <a:moveTo>
                      <a:pt x="4489" y="95"/>
                    </a:moveTo>
                    <a:lnTo>
                      <a:pt x="2221" y="95"/>
                    </a:lnTo>
                    <a:lnTo>
                      <a:pt x="2238" y="0"/>
                    </a:lnTo>
                    <a:lnTo>
                      <a:pt x="4479" y="0"/>
                    </a:lnTo>
                    <a:lnTo>
                      <a:pt x="4489" y="49"/>
                    </a:lnTo>
                    <a:lnTo>
                      <a:pt x="4489" y="95"/>
                    </a:lnTo>
                    <a:close/>
                    <a:moveTo>
                      <a:pt x="1913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974" y="0"/>
                    </a:lnTo>
                    <a:lnTo>
                      <a:pt x="1943" y="49"/>
                    </a:lnTo>
                    <a:lnTo>
                      <a:pt x="1913" y="95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913200" y="3335400"/>
                <a:ext cx="1189080" cy="23760"/>
              </a:xfrm>
              <a:custGeom>
                <a:avLst/>
                <a:gdLst/>
                <a:ahLst/>
                <a:rect l="l" t="t" r="r" b="b"/>
                <a:pathLst>
                  <a:path w="4496" h="95">
                    <a:moveTo>
                      <a:pt x="4496" y="95"/>
                    </a:moveTo>
                    <a:lnTo>
                      <a:pt x="2237" y="95"/>
                    </a:lnTo>
                    <a:lnTo>
                      <a:pt x="2252" y="0"/>
                    </a:lnTo>
                    <a:lnTo>
                      <a:pt x="4476" y="0"/>
                    </a:lnTo>
                    <a:lnTo>
                      <a:pt x="4496" y="95"/>
                    </a:lnTo>
                    <a:close/>
                    <a:moveTo>
                      <a:pt x="19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2013" y="0"/>
                    </a:lnTo>
                    <a:lnTo>
                      <a:pt x="1950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911760" y="3322800"/>
                <a:ext cx="1188720" cy="23760"/>
              </a:xfrm>
              <a:custGeom>
                <a:avLst/>
                <a:gdLst/>
                <a:ahLst/>
                <a:rect l="l" t="t" r="r" b="b"/>
                <a:pathLst>
                  <a:path w="4492" h="95">
                    <a:moveTo>
                      <a:pt x="4492" y="95"/>
                    </a:moveTo>
                    <a:lnTo>
                      <a:pt x="2251" y="95"/>
                    </a:lnTo>
                    <a:lnTo>
                      <a:pt x="2266" y="0"/>
                    </a:lnTo>
                    <a:lnTo>
                      <a:pt x="4472" y="0"/>
                    </a:lnTo>
                    <a:lnTo>
                      <a:pt x="4492" y="95"/>
                    </a:lnTo>
                    <a:close/>
                    <a:moveTo>
                      <a:pt x="1987" y="95"/>
                    </a:moveTo>
                    <a:lnTo>
                      <a:pt x="13" y="9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051" y="0"/>
                    </a:lnTo>
                    <a:lnTo>
                      <a:pt x="1987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911760" y="3309840"/>
                <a:ext cx="1185840" cy="25560"/>
              </a:xfrm>
              <a:custGeom>
                <a:avLst/>
                <a:gdLst/>
                <a:ahLst/>
                <a:rect l="l" t="t" r="r" b="b"/>
                <a:pathLst>
                  <a:path w="4482" h="95">
                    <a:moveTo>
                      <a:pt x="4482" y="95"/>
                    </a:moveTo>
                    <a:lnTo>
                      <a:pt x="2258" y="95"/>
                    </a:lnTo>
                    <a:lnTo>
                      <a:pt x="2273" y="0"/>
                    </a:lnTo>
                    <a:lnTo>
                      <a:pt x="4463" y="0"/>
                    </a:lnTo>
                    <a:lnTo>
                      <a:pt x="4482" y="95"/>
                    </a:lnTo>
                    <a:close/>
                    <a:moveTo>
                      <a:pt x="2019" y="95"/>
                    </a:moveTo>
                    <a:lnTo>
                      <a:pt x="6" y="95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2082" y="0"/>
                    </a:lnTo>
                    <a:lnTo>
                      <a:pt x="2019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911760" y="329724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2" h="95">
                    <a:moveTo>
                      <a:pt x="4472" y="95"/>
                    </a:moveTo>
                    <a:lnTo>
                      <a:pt x="2266" y="95"/>
                    </a:lnTo>
                    <a:lnTo>
                      <a:pt x="2282" y="0"/>
                    </a:lnTo>
                    <a:lnTo>
                      <a:pt x="4453" y="0"/>
                    </a:lnTo>
                    <a:lnTo>
                      <a:pt x="4472" y="95"/>
                    </a:lnTo>
                    <a:close/>
                    <a:moveTo>
                      <a:pt x="205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01" y="0"/>
                    </a:lnTo>
                    <a:lnTo>
                      <a:pt x="2086" y="41"/>
                    </a:lnTo>
                    <a:lnTo>
                      <a:pt x="2051" y="95"/>
                    </a:lnTo>
                    <a:close/>
                  </a:path>
                </a:pathLst>
              </a:custGeom>
              <a:solidFill>
                <a:srgbClr val="689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911760" y="3284640"/>
                <a:ext cx="1180800" cy="25200"/>
              </a:xfrm>
              <a:custGeom>
                <a:avLst/>
                <a:gdLst/>
                <a:ahLst/>
                <a:rect l="l" t="t" r="r" b="b"/>
                <a:pathLst>
                  <a:path w="4463" h="95">
                    <a:moveTo>
                      <a:pt x="4463" y="95"/>
                    </a:moveTo>
                    <a:lnTo>
                      <a:pt x="2273" y="95"/>
                    </a:lnTo>
                    <a:lnTo>
                      <a:pt x="2285" y="26"/>
                    </a:lnTo>
                    <a:lnTo>
                      <a:pt x="2281" y="0"/>
                    </a:lnTo>
                    <a:lnTo>
                      <a:pt x="4444" y="0"/>
                    </a:lnTo>
                    <a:lnTo>
                      <a:pt x="4463" y="95"/>
                    </a:lnTo>
                    <a:close/>
                    <a:moveTo>
                      <a:pt x="208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18" y="0"/>
                    </a:lnTo>
                    <a:lnTo>
                      <a:pt x="2086" y="89"/>
                    </a:lnTo>
                    <a:lnTo>
                      <a:pt x="2082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911760" y="3271680"/>
                <a:ext cx="1177920" cy="25560"/>
              </a:xfrm>
              <a:custGeom>
                <a:avLst/>
                <a:gdLst/>
                <a:ahLst/>
                <a:rect l="l" t="t" r="r" b="b"/>
                <a:pathLst>
                  <a:path w="4453" h="95">
                    <a:moveTo>
                      <a:pt x="4453" y="95"/>
                    </a:moveTo>
                    <a:lnTo>
                      <a:pt x="2282" y="95"/>
                    </a:lnTo>
                    <a:lnTo>
                      <a:pt x="2285" y="73"/>
                    </a:lnTo>
                    <a:lnTo>
                      <a:pt x="2273" y="0"/>
                    </a:lnTo>
                    <a:lnTo>
                      <a:pt x="4434" y="0"/>
                    </a:lnTo>
                    <a:lnTo>
                      <a:pt x="4453" y="95"/>
                    </a:lnTo>
                    <a:close/>
                    <a:moveTo>
                      <a:pt x="210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34" y="0"/>
                    </a:lnTo>
                    <a:lnTo>
                      <a:pt x="2101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911760" y="3259080"/>
                <a:ext cx="1176120" cy="25560"/>
              </a:xfrm>
              <a:custGeom>
                <a:avLst/>
                <a:gdLst/>
                <a:ahLst/>
                <a:rect l="l" t="t" r="r" b="b"/>
                <a:pathLst>
                  <a:path w="4444" h="95">
                    <a:moveTo>
                      <a:pt x="4444" y="95"/>
                    </a:moveTo>
                    <a:lnTo>
                      <a:pt x="2281" y="95"/>
                    </a:lnTo>
                    <a:lnTo>
                      <a:pt x="2265" y="0"/>
                    </a:lnTo>
                    <a:lnTo>
                      <a:pt x="4424" y="0"/>
                    </a:lnTo>
                    <a:lnTo>
                      <a:pt x="4444" y="95"/>
                    </a:lnTo>
                    <a:close/>
                    <a:moveTo>
                      <a:pt x="211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52" y="0"/>
                    </a:lnTo>
                    <a:lnTo>
                      <a:pt x="2118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911760" y="3246480"/>
                <a:ext cx="1172880" cy="25200"/>
              </a:xfrm>
              <a:custGeom>
                <a:avLst/>
                <a:gdLst/>
                <a:ahLst/>
                <a:rect l="l" t="t" r="r" b="b"/>
                <a:pathLst>
                  <a:path w="4434" h="96">
                    <a:moveTo>
                      <a:pt x="4434" y="96"/>
                    </a:moveTo>
                    <a:lnTo>
                      <a:pt x="2273" y="96"/>
                    </a:lnTo>
                    <a:lnTo>
                      <a:pt x="2258" y="0"/>
                    </a:lnTo>
                    <a:lnTo>
                      <a:pt x="4414" y="0"/>
                    </a:lnTo>
                    <a:lnTo>
                      <a:pt x="4434" y="96"/>
                    </a:lnTo>
                    <a:close/>
                    <a:moveTo>
                      <a:pt x="213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64" y="0"/>
                    </a:lnTo>
                    <a:lnTo>
                      <a:pt x="2155" y="39"/>
                    </a:lnTo>
                    <a:lnTo>
                      <a:pt x="2134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911760" y="32338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4" h="96">
                    <a:moveTo>
                      <a:pt x="4424" y="96"/>
                    </a:moveTo>
                    <a:lnTo>
                      <a:pt x="2265" y="96"/>
                    </a:lnTo>
                    <a:lnTo>
                      <a:pt x="2250" y="0"/>
                    </a:lnTo>
                    <a:lnTo>
                      <a:pt x="4405" y="0"/>
                    </a:lnTo>
                    <a:lnTo>
                      <a:pt x="4424" y="96"/>
                    </a:lnTo>
                    <a:close/>
                    <a:moveTo>
                      <a:pt x="2152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76" y="0"/>
                    </a:lnTo>
                    <a:lnTo>
                      <a:pt x="2155" y="87"/>
                    </a:lnTo>
                    <a:lnTo>
                      <a:pt x="2152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911760" y="3220920"/>
                <a:ext cx="1168200" cy="25560"/>
              </a:xfrm>
              <a:custGeom>
                <a:avLst/>
                <a:gdLst/>
                <a:ahLst/>
                <a:rect l="l" t="t" r="r" b="b"/>
                <a:pathLst>
                  <a:path w="4414" h="96">
                    <a:moveTo>
                      <a:pt x="4414" y="96"/>
                    </a:moveTo>
                    <a:lnTo>
                      <a:pt x="2258" y="96"/>
                    </a:lnTo>
                    <a:lnTo>
                      <a:pt x="2243" y="0"/>
                    </a:lnTo>
                    <a:lnTo>
                      <a:pt x="4395" y="0"/>
                    </a:lnTo>
                    <a:lnTo>
                      <a:pt x="4414" y="96"/>
                    </a:lnTo>
                    <a:close/>
                    <a:moveTo>
                      <a:pt x="216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88" y="0"/>
                    </a:lnTo>
                    <a:lnTo>
                      <a:pt x="2164" y="96"/>
                    </a:lnTo>
                    <a:close/>
                  </a:path>
                </a:pathLst>
              </a:custGeom>
              <a:solidFill>
                <a:srgbClr val="668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911760" y="3208320"/>
                <a:ext cx="1164960" cy="25560"/>
              </a:xfrm>
              <a:custGeom>
                <a:avLst/>
                <a:gdLst/>
                <a:ahLst/>
                <a:rect l="l" t="t" r="r" b="b"/>
                <a:pathLst>
                  <a:path w="4405" h="95">
                    <a:moveTo>
                      <a:pt x="4405" y="95"/>
                    </a:moveTo>
                    <a:lnTo>
                      <a:pt x="2250" y="95"/>
                    </a:lnTo>
                    <a:lnTo>
                      <a:pt x="2234" y="0"/>
                    </a:lnTo>
                    <a:lnTo>
                      <a:pt x="4386" y="0"/>
                    </a:lnTo>
                    <a:lnTo>
                      <a:pt x="4405" y="95"/>
                    </a:lnTo>
                    <a:close/>
                    <a:moveTo>
                      <a:pt x="217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99" y="0"/>
                    </a:lnTo>
                    <a:lnTo>
                      <a:pt x="217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911760" y="319572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395" h="95">
                    <a:moveTo>
                      <a:pt x="4395" y="95"/>
                    </a:moveTo>
                    <a:lnTo>
                      <a:pt x="2243" y="95"/>
                    </a:lnTo>
                    <a:lnTo>
                      <a:pt x="2227" y="0"/>
                    </a:lnTo>
                    <a:lnTo>
                      <a:pt x="4376" y="0"/>
                    </a:lnTo>
                    <a:lnTo>
                      <a:pt x="4395" y="95"/>
                    </a:lnTo>
                    <a:close/>
                    <a:moveTo>
                      <a:pt x="218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210" y="0"/>
                    </a:lnTo>
                    <a:lnTo>
                      <a:pt x="2188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911760" y="3182760"/>
                <a:ext cx="1160280" cy="25560"/>
              </a:xfrm>
              <a:custGeom>
                <a:avLst/>
                <a:gdLst/>
                <a:ahLst/>
                <a:rect l="l" t="t" r="r" b="b"/>
                <a:pathLst>
                  <a:path w="4386" h="95">
                    <a:moveTo>
                      <a:pt x="4386" y="95"/>
                    </a:moveTo>
                    <a:lnTo>
                      <a:pt x="2234" y="95"/>
                    </a:lnTo>
                    <a:lnTo>
                      <a:pt x="2221" y="14"/>
                    </a:lnTo>
                    <a:lnTo>
                      <a:pt x="2219" y="3"/>
                    </a:lnTo>
                    <a:lnTo>
                      <a:pt x="2219" y="14"/>
                    </a:lnTo>
                    <a:lnTo>
                      <a:pt x="2199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8" y="0"/>
                    </a:lnTo>
                    <a:lnTo>
                      <a:pt x="4369" y="14"/>
                    </a:lnTo>
                    <a:lnTo>
                      <a:pt x="438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911760" y="3170160"/>
                <a:ext cx="1157040" cy="25560"/>
              </a:xfrm>
              <a:custGeom>
                <a:avLst/>
                <a:gdLst/>
                <a:ahLst/>
                <a:rect l="l" t="t" r="r" b="b"/>
                <a:pathLst>
                  <a:path w="4376" h="95">
                    <a:moveTo>
                      <a:pt x="4376" y="95"/>
                    </a:moveTo>
                    <a:lnTo>
                      <a:pt x="2227" y="95"/>
                    </a:lnTo>
                    <a:lnTo>
                      <a:pt x="2221" y="62"/>
                    </a:lnTo>
                    <a:lnTo>
                      <a:pt x="2219" y="51"/>
                    </a:lnTo>
                    <a:lnTo>
                      <a:pt x="2219" y="62"/>
                    </a:lnTo>
                    <a:lnTo>
                      <a:pt x="2210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3" y="0"/>
                    </a:lnTo>
                    <a:lnTo>
                      <a:pt x="4369" y="62"/>
                    </a:lnTo>
                    <a:lnTo>
                      <a:pt x="4376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911760" y="315756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8" h="96">
                    <a:moveTo>
                      <a:pt x="4368" y="96"/>
                    </a:moveTo>
                    <a:lnTo>
                      <a:pt x="0" y="96"/>
                    </a:lnTo>
                    <a:lnTo>
                      <a:pt x="0" y="47"/>
                    </a:lnTo>
                    <a:lnTo>
                      <a:pt x="12" y="0"/>
                    </a:lnTo>
                    <a:lnTo>
                      <a:pt x="4358" y="0"/>
                    </a:lnTo>
                    <a:lnTo>
                      <a:pt x="4368" y="96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911760" y="3144960"/>
                <a:ext cx="1153800" cy="25200"/>
              </a:xfrm>
              <a:custGeom>
                <a:avLst/>
                <a:gdLst/>
                <a:ahLst/>
                <a:rect l="l" t="t" r="r" b="b"/>
                <a:pathLst>
                  <a:path w="4363" h="95">
                    <a:moveTo>
                      <a:pt x="4363" y="95"/>
                    </a:moveTo>
                    <a:lnTo>
                      <a:pt x="0" y="95"/>
                    </a:lnTo>
                    <a:lnTo>
                      <a:pt x="0" y="94"/>
                    </a:lnTo>
                    <a:lnTo>
                      <a:pt x="24" y="0"/>
                    </a:lnTo>
                    <a:lnTo>
                      <a:pt x="4353" y="0"/>
                    </a:lnTo>
                    <a:lnTo>
                      <a:pt x="4363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914640" y="3133800"/>
                <a:ext cx="1149480" cy="23760"/>
              </a:xfrm>
              <a:custGeom>
                <a:avLst/>
                <a:gdLst/>
                <a:ahLst/>
                <a:rect l="l" t="t" r="r" b="b"/>
                <a:pathLst>
                  <a:path w="4346" h="95">
                    <a:moveTo>
                      <a:pt x="4346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37" y="0"/>
                    </a:lnTo>
                    <a:lnTo>
                      <a:pt x="4346" y="95"/>
                    </a:lnTo>
                    <a:close/>
                  </a:path>
                </a:pathLst>
              </a:custGeom>
              <a:solidFill>
                <a:srgbClr val="65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917880" y="3121200"/>
                <a:ext cx="1146240" cy="23760"/>
              </a:xfrm>
              <a:custGeom>
                <a:avLst/>
                <a:gdLst/>
                <a:ahLst/>
                <a:rect l="l" t="t" r="r" b="b"/>
                <a:pathLst>
                  <a:path w="4329" h="95">
                    <a:moveTo>
                      <a:pt x="4329" y="95"/>
                    </a:moveTo>
                    <a:lnTo>
                      <a:pt x="0" y="95"/>
                    </a:lnTo>
                    <a:lnTo>
                      <a:pt x="24" y="0"/>
                    </a:lnTo>
                    <a:lnTo>
                      <a:pt x="4320" y="0"/>
                    </a:lnTo>
                    <a:lnTo>
                      <a:pt x="4329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921120" y="3108240"/>
                <a:ext cx="1141560" cy="25560"/>
              </a:xfrm>
              <a:custGeom>
                <a:avLst/>
                <a:gdLst/>
                <a:ahLst/>
                <a:rect l="l" t="t" r="r" b="b"/>
                <a:pathLst>
                  <a:path w="4312" h="95">
                    <a:moveTo>
                      <a:pt x="4312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02" y="0"/>
                    </a:lnTo>
                    <a:lnTo>
                      <a:pt x="4312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924360" y="309564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6" h="95">
                    <a:moveTo>
                      <a:pt x="4296" y="95"/>
                    </a:moveTo>
                    <a:lnTo>
                      <a:pt x="0" y="95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4286" y="0"/>
                    </a:lnTo>
                    <a:lnTo>
                      <a:pt x="4296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927600" y="3083040"/>
                <a:ext cx="1131840" cy="25200"/>
              </a:xfrm>
              <a:custGeom>
                <a:avLst/>
                <a:gdLst/>
                <a:ahLst/>
                <a:rect l="l" t="t" r="r" b="b"/>
                <a:pathLst>
                  <a:path w="4277" h="96">
                    <a:moveTo>
                      <a:pt x="4277" y="96"/>
                    </a:moveTo>
                    <a:lnTo>
                      <a:pt x="0" y="96"/>
                    </a:lnTo>
                    <a:lnTo>
                      <a:pt x="7" y="70"/>
                    </a:lnTo>
                    <a:lnTo>
                      <a:pt x="7" y="0"/>
                    </a:lnTo>
                    <a:lnTo>
                      <a:pt x="4269" y="0"/>
                    </a:lnTo>
                    <a:lnTo>
                      <a:pt x="4277" y="96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929040" y="30700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5" h="97">
                    <a:moveTo>
                      <a:pt x="426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4257" y="0"/>
                    </a:lnTo>
                    <a:lnTo>
                      <a:pt x="4265" y="97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929040" y="30574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2" h="95">
                    <a:moveTo>
                      <a:pt x="426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52" y="0"/>
                    </a:lnTo>
                    <a:lnTo>
                      <a:pt x="4262" y="95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929040" y="3044880"/>
                <a:ext cx="1127160" cy="25200"/>
              </a:xfrm>
              <a:custGeom>
                <a:avLst/>
                <a:gdLst/>
                <a:ahLst/>
                <a:rect l="l" t="t" r="r" b="b"/>
                <a:pathLst>
                  <a:path w="4257" h="95">
                    <a:moveTo>
                      <a:pt x="4257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8" y="0"/>
                    </a:lnTo>
                    <a:lnTo>
                      <a:pt x="4257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929040" y="3032280"/>
                <a:ext cx="1125720" cy="25200"/>
              </a:xfrm>
              <a:custGeom>
                <a:avLst/>
                <a:gdLst/>
                <a:ahLst/>
                <a:rect l="l" t="t" r="r" b="b"/>
                <a:pathLst>
                  <a:path w="4252" h="95">
                    <a:moveTo>
                      <a:pt x="425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3" y="0"/>
                    </a:lnTo>
                    <a:lnTo>
                      <a:pt x="4252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29040" y="30193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8" h="95">
                    <a:moveTo>
                      <a:pt x="424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8" y="0"/>
                    </a:lnTo>
                    <a:lnTo>
                      <a:pt x="4248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29040" y="3006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3" h="95">
                    <a:moveTo>
                      <a:pt x="424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1" y="0"/>
                    </a:lnTo>
                    <a:lnTo>
                      <a:pt x="4236" y="28"/>
                    </a:lnTo>
                    <a:lnTo>
                      <a:pt x="4243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29040" y="2994120"/>
                <a:ext cx="1122480" cy="25200"/>
              </a:xfrm>
              <a:custGeom>
                <a:avLst/>
                <a:gdLst/>
                <a:ahLst/>
                <a:rect l="l" t="t" r="r" b="b"/>
                <a:pathLst>
                  <a:path w="4238" h="95">
                    <a:moveTo>
                      <a:pt x="423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23" y="0"/>
                    </a:lnTo>
                    <a:lnTo>
                      <a:pt x="4236" y="76"/>
                    </a:lnTo>
                    <a:lnTo>
                      <a:pt x="4238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29040" y="298116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1" h="95">
                    <a:moveTo>
                      <a:pt x="423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31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929040" y="2968560"/>
                <a:ext cx="1117800" cy="25560"/>
              </a:xfrm>
              <a:custGeom>
                <a:avLst/>
                <a:gdLst/>
                <a:ahLst/>
                <a:rect l="l" t="t" r="r" b="b"/>
                <a:pathLst>
                  <a:path w="4223" h="95">
                    <a:moveTo>
                      <a:pt x="4223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206" y="0"/>
                    </a:lnTo>
                    <a:lnTo>
                      <a:pt x="4223" y="95"/>
                    </a:lnTo>
                    <a:close/>
                  </a:path>
                </a:pathLst>
              </a:custGeom>
              <a:solidFill>
                <a:srgbClr val="628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929040" y="2955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14" h="96">
                    <a:moveTo>
                      <a:pt x="4214" y="96"/>
                    </a:moveTo>
                    <a:lnTo>
                      <a:pt x="0" y="96"/>
                    </a:lnTo>
                    <a:lnTo>
                      <a:pt x="0" y="8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4198" y="0"/>
                    </a:lnTo>
                    <a:lnTo>
                      <a:pt x="4214" y="96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929040" y="2943360"/>
                <a:ext cx="1114560" cy="25200"/>
              </a:xfrm>
              <a:custGeom>
                <a:avLst/>
                <a:gdLst/>
                <a:ahLst/>
                <a:rect l="l" t="t" r="r" b="b"/>
                <a:pathLst>
                  <a:path w="4206" h="95">
                    <a:moveTo>
                      <a:pt x="4206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88" y="0"/>
                    </a:lnTo>
                    <a:lnTo>
                      <a:pt x="4206" y="95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929040" y="2932200"/>
                <a:ext cx="1111320" cy="23760"/>
              </a:xfrm>
              <a:custGeom>
                <a:avLst/>
                <a:gdLst/>
                <a:ahLst/>
                <a:rect l="l" t="t" r="r" b="b"/>
                <a:pathLst>
                  <a:path w="4198" h="95">
                    <a:moveTo>
                      <a:pt x="4198" y="95"/>
                    </a:moveTo>
                    <a:lnTo>
                      <a:pt x="0" y="95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180" y="0"/>
                    </a:lnTo>
                    <a:lnTo>
                      <a:pt x="4198" y="95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929040" y="2917800"/>
                <a:ext cx="1109520" cy="25560"/>
              </a:xfrm>
              <a:custGeom>
                <a:avLst/>
                <a:gdLst/>
                <a:ahLst/>
                <a:rect l="l" t="t" r="r" b="b"/>
                <a:pathLst>
                  <a:path w="4188" h="96">
                    <a:moveTo>
                      <a:pt x="418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4172" y="0"/>
                    </a:lnTo>
                    <a:lnTo>
                      <a:pt x="4188" y="96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929040" y="29066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0" h="96">
                    <a:moveTo>
                      <a:pt x="4180" y="96"/>
                    </a:moveTo>
                    <a:lnTo>
                      <a:pt x="0" y="9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90" y="0"/>
                    </a:lnTo>
                    <a:lnTo>
                      <a:pt x="4369" y="23"/>
                    </a:lnTo>
                    <a:lnTo>
                      <a:pt x="4300" y="23"/>
                    </a:lnTo>
                    <a:lnTo>
                      <a:pt x="4236" y="23"/>
                    </a:lnTo>
                    <a:lnTo>
                      <a:pt x="4167" y="23"/>
                    </a:lnTo>
                    <a:lnTo>
                      <a:pt x="4180" y="96"/>
                    </a:lnTo>
                    <a:close/>
                  </a:path>
                </a:pathLst>
              </a:custGeom>
              <a:solidFill>
                <a:srgbClr val="61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929040" y="2894040"/>
                <a:ext cx="1173240" cy="2376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172" y="95"/>
                    </a:moveTo>
                    <a:lnTo>
                      <a:pt x="0" y="95"/>
                    </a:lnTo>
                    <a:lnTo>
                      <a:pt x="0" y="7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433" y="0"/>
                    </a:lnTo>
                    <a:lnTo>
                      <a:pt x="4433" y="1"/>
                    </a:lnTo>
                    <a:lnTo>
                      <a:pt x="4369" y="70"/>
                    </a:lnTo>
                    <a:lnTo>
                      <a:pt x="4300" y="70"/>
                    </a:lnTo>
                    <a:lnTo>
                      <a:pt x="4236" y="70"/>
                    </a:lnTo>
                    <a:lnTo>
                      <a:pt x="4167" y="70"/>
                    </a:lnTo>
                    <a:lnTo>
                      <a:pt x="4172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929040" y="288144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390" y="95"/>
                    </a:moveTo>
                    <a:lnTo>
                      <a:pt x="0" y="95"/>
                    </a:lnTo>
                    <a:lnTo>
                      <a:pt x="0" y="49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49"/>
                    </a:lnTo>
                    <a:lnTo>
                      <a:pt x="4390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929040" y="2868480"/>
                <a:ext cx="1173240" cy="25560"/>
              </a:xfrm>
              <a:custGeom>
                <a:avLst/>
                <a:gdLst/>
                <a:ahLst/>
                <a:rect l="l" t="t" r="r" b="b"/>
                <a:pathLst>
                  <a:path w="4433" h="96">
                    <a:moveTo>
                      <a:pt x="4433" y="96"/>
                    </a:moveTo>
                    <a:lnTo>
                      <a:pt x="0" y="96"/>
                    </a:lnTo>
                    <a:lnTo>
                      <a:pt x="63" y="32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32"/>
                    </a:lnTo>
                    <a:lnTo>
                      <a:pt x="4433" y="96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936960" y="2855880"/>
                <a:ext cx="1165320" cy="25560"/>
              </a:xfrm>
              <a:custGeom>
                <a:avLst/>
                <a:gdLst/>
                <a:ahLst/>
                <a:rect l="l" t="t" r="r" b="b"/>
                <a:pathLst>
                  <a:path w="4408" h="95">
                    <a:moveTo>
                      <a:pt x="4408" y="95"/>
                    </a:moveTo>
                    <a:lnTo>
                      <a:pt x="22" y="95"/>
                    </a:lnTo>
                    <a:lnTo>
                      <a:pt x="38" y="79"/>
                    </a:lnTo>
                    <a:lnTo>
                      <a:pt x="0" y="0"/>
                    </a:lnTo>
                    <a:lnTo>
                      <a:pt x="4408" y="0"/>
                    </a:lnTo>
                    <a:lnTo>
                      <a:pt x="4408" y="16"/>
                    </a:lnTo>
                    <a:lnTo>
                      <a:pt x="4408" y="79"/>
                    </a:lnTo>
                    <a:lnTo>
                      <a:pt x="440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930480" y="2843280"/>
                <a:ext cx="1171800" cy="25200"/>
              </a:xfrm>
              <a:custGeom>
                <a:avLst/>
                <a:gdLst/>
                <a:ahLst/>
                <a:rect l="l" t="t" r="r" b="b"/>
                <a:pathLst>
                  <a:path w="4431" h="95">
                    <a:moveTo>
                      <a:pt x="4431" y="95"/>
                    </a:moveTo>
                    <a:lnTo>
                      <a:pt x="45" y="95"/>
                    </a:lnTo>
                    <a:lnTo>
                      <a:pt x="0" y="0"/>
                    </a:lnTo>
                    <a:lnTo>
                      <a:pt x="4431" y="0"/>
                    </a:lnTo>
                    <a:lnTo>
                      <a:pt x="4431" y="64"/>
                    </a:lnTo>
                    <a:lnTo>
                      <a:pt x="4431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841920" y="2830680"/>
                <a:ext cx="1260360" cy="25200"/>
              </a:xfrm>
              <a:custGeom>
                <a:avLst/>
                <a:gdLst/>
                <a:ahLst/>
                <a:rect l="l" t="t" r="r" b="b"/>
                <a:pathLst>
                  <a:path w="4768" h="95">
                    <a:moveTo>
                      <a:pt x="4768" y="95"/>
                    </a:moveTo>
                    <a:lnTo>
                      <a:pt x="360" y="95"/>
                    </a:lnTo>
                    <a:lnTo>
                      <a:pt x="335" y="41"/>
                    </a:lnTo>
                    <a:lnTo>
                      <a:pt x="141" y="41"/>
                    </a:lnTo>
                    <a:lnTo>
                      <a:pt x="0" y="0"/>
                    </a:lnTo>
                    <a:lnTo>
                      <a:pt x="4768" y="0"/>
                    </a:lnTo>
                    <a:lnTo>
                      <a:pt x="4768" y="41"/>
                    </a:lnTo>
                    <a:lnTo>
                      <a:pt x="476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3817800" y="28177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55" h="95">
                    <a:moveTo>
                      <a:pt x="4855" y="95"/>
                    </a:moveTo>
                    <a:lnTo>
                      <a:pt x="424" y="95"/>
                    </a:lnTo>
                    <a:lnTo>
                      <a:pt x="422" y="89"/>
                    </a:lnTo>
                    <a:lnTo>
                      <a:pt x="228" y="89"/>
                    </a:lnTo>
                    <a:lnTo>
                      <a:pt x="26" y="29"/>
                    </a:lnTo>
                    <a:lnTo>
                      <a:pt x="0" y="0"/>
                    </a:lnTo>
                    <a:lnTo>
                      <a:pt x="4855" y="0"/>
                    </a:lnTo>
                    <a:lnTo>
                      <a:pt x="4855" y="26"/>
                    </a:lnTo>
                    <a:lnTo>
                      <a:pt x="4855" y="89"/>
                    </a:lnTo>
                    <a:lnTo>
                      <a:pt x="4855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805200" y="2805120"/>
                <a:ext cx="1297080" cy="25560"/>
              </a:xfrm>
              <a:custGeom>
                <a:avLst/>
                <a:gdLst/>
                <a:ahLst/>
                <a:rect l="l" t="t" r="r" b="b"/>
                <a:pathLst>
                  <a:path w="4905" h="95">
                    <a:moveTo>
                      <a:pt x="4905" y="95"/>
                    </a:moveTo>
                    <a:lnTo>
                      <a:pt x="137" y="95"/>
                    </a:lnTo>
                    <a:lnTo>
                      <a:pt x="76" y="7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4905" y="0"/>
                    </a:lnTo>
                    <a:lnTo>
                      <a:pt x="4905" y="73"/>
                    </a:lnTo>
                    <a:lnTo>
                      <a:pt x="4905" y="95"/>
                    </a:lnTo>
                    <a:close/>
                  </a:path>
                </a:pathLst>
              </a:custGeom>
              <a:solidFill>
                <a:srgbClr val="608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778200" y="2792520"/>
                <a:ext cx="1324080" cy="25200"/>
              </a:xfrm>
              <a:custGeom>
                <a:avLst/>
                <a:gdLst/>
                <a:ahLst/>
                <a:rect l="l" t="t" r="r" b="b"/>
                <a:pathLst>
                  <a:path w="5004" h="95">
                    <a:moveTo>
                      <a:pt x="5004" y="95"/>
                    </a:moveTo>
                    <a:lnTo>
                      <a:pt x="149" y="95"/>
                    </a:lnTo>
                    <a:lnTo>
                      <a:pt x="115" y="55"/>
                    </a:lnTo>
                    <a:lnTo>
                      <a:pt x="0" y="0"/>
                    </a:lnTo>
                    <a:lnTo>
                      <a:pt x="5004" y="0"/>
                    </a:lnTo>
                    <a:lnTo>
                      <a:pt x="5004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763800" y="2779560"/>
                <a:ext cx="1382760" cy="25560"/>
              </a:xfrm>
              <a:custGeom>
                <a:avLst/>
                <a:gdLst/>
                <a:ahLst/>
                <a:rect l="l" t="t" r="r" b="b"/>
                <a:pathLst>
                  <a:path w="5226" h="95">
                    <a:moveTo>
                      <a:pt x="5061" y="95"/>
                    </a:moveTo>
                    <a:lnTo>
                      <a:pt x="156" y="95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5226" y="0"/>
                    </a:lnTo>
                    <a:lnTo>
                      <a:pt x="5194" y="35"/>
                    </a:lnTo>
                    <a:lnTo>
                      <a:pt x="4997" y="35"/>
                    </a:lnTo>
                    <a:lnTo>
                      <a:pt x="5061" y="35"/>
                    </a:lnTo>
                    <a:lnTo>
                      <a:pt x="5061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754440" y="2766960"/>
                <a:ext cx="1405080" cy="25560"/>
              </a:xfrm>
              <a:custGeom>
                <a:avLst/>
                <a:gdLst/>
                <a:ahLst/>
                <a:rect l="l" t="t" r="r" b="b"/>
                <a:pathLst>
                  <a:path w="5310" h="96">
                    <a:moveTo>
                      <a:pt x="5098" y="96"/>
                    </a:moveTo>
                    <a:lnTo>
                      <a:pt x="94" y="96"/>
                    </a:lnTo>
                    <a:lnTo>
                      <a:pt x="76" y="8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5310" y="0"/>
                    </a:lnTo>
                    <a:lnTo>
                      <a:pt x="5288" y="21"/>
                    </a:lnTo>
                    <a:lnTo>
                      <a:pt x="5231" y="84"/>
                    </a:lnTo>
                    <a:lnTo>
                      <a:pt x="5034" y="84"/>
                    </a:lnTo>
                    <a:lnTo>
                      <a:pt x="5098" y="84"/>
                    </a:lnTo>
                    <a:lnTo>
                      <a:pt x="5098" y="96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747960" y="2754360"/>
                <a:ext cx="1424160" cy="25200"/>
              </a:xfrm>
              <a:custGeom>
                <a:avLst/>
                <a:gdLst/>
                <a:ahLst/>
                <a:rect l="l" t="t" r="r" b="b"/>
                <a:pathLst>
                  <a:path w="5383" h="97">
                    <a:moveTo>
                      <a:pt x="5287" y="97"/>
                    </a:moveTo>
                    <a:lnTo>
                      <a:pt x="61" y="97"/>
                    </a:lnTo>
                    <a:lnTo>
                      <a:pt x="36" y="72"/>
                    </a:lnTo>
                    <a:lnTo>
                      <a:pt x="0" y="0"/>
                    </a:lnTo>
                    <a:lnTo>
                      <a:pt x="5383" y="0"/>
                    </a:lnTo>
                    <a:lnTo>
                      <a:pt x="5382" y="5"/>
                    </a:lnTo>
                    <a:lnTo>
                      <a:pt x="5312" y="69"/>
                    </a:lnTo>
                    <a:lnTo>
                      <a:pt x="5287" y="97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3741840" y="2741760"/>
                <a:ext cx="1436760" cy="25200"/>
              </a:xfrm>
              <a:custGeom>
                <a:avLst/>
                <a:gdLst/>
                <a:ahLst/>
                <a:rect l="l" t="t" r="r" b="b"/>
                <a:pathLst>
                  <a:path w="5432" h="95">
                    <a:moveTo>
                      <a:pt x="5359" y="95"/>
                    </a:moveTo>
                    <a:lnTo>
                      <a:pt x="49" y="95"/>
                    </a:lnTo>
                    <a:lnTo>
                      <a:pt x="0" y="0"/>
                    </a:lnTo>
                    <a:lnTo>
                      <a:pt x="5432" y="0"/>
                    </a:lnTo>
                    <a:lnTo>
                      <a:pt x="5407" y="52"/>
                    </a:lnTo>
                    <a:lnTo>
                      <a:pt x="5359" y="95"/>
                    </a:lnTo>
                    <a:close/>
                  </a:path>
                </a:pathLst>
              </a:custGeom>
              <a:solidFill>
                <a:srgbClr val="5e8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730680" y="272880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2" h="95">
                    <a:moveTo>
                      <a:pt x="5446" y="95"/>
                    </a:moveTo>
                    <a:lnTo>
                      <a:pt x="63" y="95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5492" y="0"/>
                    </a:lnTo>
                    <a:lnTo>
                      <a:pt x="5446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722760" y="271620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01" y="95"/>
                    </a:moveTo>
                    <a:lnTo>
                      <a:pt x="69" y="95"/>
                    </a:lnTo>
                    <a:lnTo>
                      <a:pt x="64" y="8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14"/>
                    </a:lnTo>
                    <a:lnTo>
                      <a:pt x="5501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722760" y="27050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23" y="95"/>
                    </a:moveTo>
                    <a:lnTo>
                      <a:pt x="31" y="9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62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722760" y="26924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4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722760" y="267984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30"/>
                    </a:lnTo>
                    <a:lnTo>
                      <a:pt x="5539" y="94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722760" y="26668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6">
                    <a:moveTo>
                      <a:pt x="5539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5536" y="0"/>
                    </a:lnTo>
                    <a:lnTo>
                      <a:pt x="5539" y="9"/>
                    </a:lnTo>
                    <a:lnTo>
                      <a:pt x="5539" y="78"/>
                    </a:lnTo>
                    <a:lnTo>
                      <a:pt x="5539" y="96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722760" y="26542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23" y="0"/>
                    </a:lnTo>
                    <a:lnTo>
                      <a:pt x="5539" y="5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722760" y="264168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6" h="95">
                    <a:moveTo>
                      <a:pt x="553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10" y="0"/>
                    </a:lnTo>
                    <a:lnTo>
                      <a:pt x="5536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722760" y="2629080"/>
                <a:ext cx="1461960" cy="25200"/>
              </a:xfrm>
              <a:custGeom>
                <a:avLst/>
                <a:gdLst/>
                <a:ahLst/>
                <a:rect l="l" t="t" r="r" b="b"/>
                <a:pathLst>
                  <a:path w="5523" h="95">
                    <a:moveTo>
                      <a:pt x="552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497" y="0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722760" y="2616120"/>
                <a:ext cx="1457280" cy="25560"/>
              </a:xfrm>
              <a:custGeom>
                <a:avLst/>
                <a:gdLst/>
                <a:ahLst/>
                <a:rect l="l" t="t" r="r" b="b"/>
                <a:pathLst>
                  <a:path w="5510" h="96">
                    <a:moveTo>
                      <a:pt x="5510" y="96"/>
                    </a:moveTo>
                    <a:lnTo>
                      <a:pt x="0" y="96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5484" y="0"/>
                    </a:lnTo>
                    <a:lnTo>
                      <a:pt x="5510" y="96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722760" y="260352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7" h="97">
                    <a:moveTo>
                      <a:pt x="5497" y="97"/>
                    </a:moveTo>
                    <a:lnTo>
                      <a:pt x="0" y="97"/>
                    </a:lnTo>
                    <a:lnTo>
                      <a:pt x="0" y="54"/>
                    </a:lnTo>
                    <a:lnTo>
                      <a:pt x="64" y="54"/>
                    </a:lnTo>
                    <a:lnTo>
                      <a:pt x="64" y="0"/>
                    </a:lnTo>
                    <a:lnTo>
                      <a:pt x="5471" y="0"/>
                    </a:lnTo>
                    <a:lnTo>
                      <a:pt x="5497" y="97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740040" y="2590920"/>
                <a:ext cx="1433520" cy="25200"/>
              </a:xfrm>
              <a:custGeom>
                <a:avLst/>
                <a:gdLst/>
                <a:ahLst/>
                <a:rect l="l" t="t" r="r" b="b"/>
                <a:pathLst>
                  <a:path w="5420" h="95">
                    <a:moveTo>
                      <a:pt x="5420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38" y="0"/>
                    </a:lnTo>
                    <a:lnTo>
                      <a:pt x="5394" y="0"/>
                    </a:lnTo>
                    <a:lnTo>
                      <a:pt x="5420" y="95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740040" y="2577960"/>
                <a:ext cx="1430280" cy="25560"/>
              </a:xfrm>
              <a:custGeom>
                <a:avLst/>
                <a:gdLst/>
                <a:ahLst/>
                <a:rect l="l" t="t" r="r" b="b"/>
                <a:pathLst>
                  <a:path w="5407" h="95">
                    <a:moveTo>
                      <a:pt x="5407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66" y="19"/>
                    </a:lnTo>
                    <a:lnTo>
                      <a:pt x="85" y="0"/>
                    </a:lnTo>
                    <a:lnTo>
                      <a:pt x="5381" y="0"/>
                    </a:lnTo>
                    <a:lnTo>
                      <a:pt x="5407" y="95"/>
                    </a:lnTo>
                    <a:close/>
                  </a:path>
                </a:pathLst>
              </a:custGeom>
              <a:solidFill>
                <a:srgbClr val="5b7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749760" y="2565360"/>
                <a:ext cx="1417680" cy="25560"/>
              </a:xfrm>
              <a:custGeom>
                <a:avLst/>
                <a:gdLst/>
                <a:ahLst/>
                <a:rect l="l" t="t" r="r" b="b"/>
                <a:pathLst>
                  <a:path w="5356" h="95">
                    <a:moveTo>
                      <a:pt x="5356" y="95"/>
                    </a:moveTo>
                    <a:lnTo>
                      <a:pt x="0" y="95"/>
                    </a:lnTo>
                    <a:lnTo>
                      <a:pt x="28" y="66"/>
                    </a:lnTo>
                    <a:lnTo>
                      <a:pt x="94" y="0"/>
                    </a:lnTo>
                    <a:lnTo>
                      <a:pt x="5330" y="0"/>
                    </a:lnTo>
                    <a:lnTo>
                      <a:pt x="535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762360" y="2552760"/>
                <a:ext cx="1401840" cy="25200"/>
              </a:xfrm>
              <a:custGeom>
                <a:avLst/>
                <a:gdLst/>
                <a:ahLst/>
                <a:rect l="l" t="t" r="r" b="b"/>
                <a:pathLst>
                  <a:path w="5296" h="95">
                    <a:moveTo>
                      <a:pt x="5296" y="95"/>
                    </a:moveTo>
                    <a:lnTo>
                      <a:pt x="0" y="95"/>
                    </a:lnTo>
                    <a:lnTo>
                      <a:pt x="95" y="0"/>
                    </a:lnTo>
                    <a:lnTo>
                      <a:pt x="5270" y="0"/>
                    </a:lnTo>
                    <a:lnTo>
                      <a:pt x="529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774960" y="25401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6" h="95">
                    <a:moveTo>
                      <a:pt x="5236" y="95"/>
                    </a:moveTo>
                    <a:lnTo>
                      <a:pt x="0" y="95"/>
                    </a:lnTo>
                    <a:lnTo>
                      <a:pt x="67" y="28"/>
                    </a:lnTo>
                    <a:lnTo>
                      <a:pt x="131" y="28"/>
                    </a:lnTo>
                    <a:lnTo>
                      <a:pt x="101" y="0"/>
                    </a:lnTo>
                    <a:lnTo>
                      <a:pt x="5210" y="0"/>
                    </a:lnTo>
                    <a:lnTo>
                      <a:pt x="523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787920" y="2527200"/>
                <a:ext cx="1368360" cy="25560"/>
              </a:xfrm>
              <a:custGeom>
                <a:avLst/>
                <a:gdLst/>
                <a:ahLst/>
                <a:rect l="l" t="t" r="r" b="b"/>
                <a:pathLst>
                  <a:path w="5175" h="95">
                    <a:moveTo>
                      <a:pt x="5175" y="95"/>
                    </a:moveTo>
                    <a:lnTo>
                      <a:pt x="0" y="95"/>
                    </a:lnTo>
                    <a:lnTo>
                      <a:pt x="19" y="76"/>
                    </a:lnTo>
                    <a:lnTo>
                      <a:pt x="83" y="76"/>
                    </a:lnTo>
                    <a:lnTo>
                      <a:pt x="19" y="16"/>
                    </a:lnTo>
                    <a:lnTo>
                      <a:pt x="19" y="0"/>
                    </a:lnTo>
                    <a:lnTo>
                      <a:pt x="5148" y="0"/>
                    </a:lnTo>
                    <a:lnTo>
                      <a:pt x="5175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792600" y="251460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34" y="95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5116" y="0"/>
                    </a:lnTo>
                    <a:lnTo>
                      <a:pt x="5143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792600" y="2503440"/>
                <a:ext cx="1357200" cy="23760"/>
              </a:xfrm>
              <a:custGeom>
                <a:avLst/>
                <a:gdLst/>
                <a:ahLst/>
                <a:rect l="l" t="t" r="r" b="b"/>
                <a:pathLst>
                  <a:path w="5129" h="95">
                    <a:moveTo>
                      <a:pt x="5129" y="95"/>
                    </a:moveTo>
                    <a:lnTo>
                      <a:pt x="0" y="95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5102" y="0"/>
                    </a:lnTo>
                    <a:lnTo>
                      <a:pt x="5129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792600" y="2490840"/>
                <a:ext cx="1352520" cy="23760"/>
              </a:xfrm>
              <a:custGeom>
                <a:avLst/>
                <a:gdLst/>
                <a:ahLst/>
                <a:rect l="l" t="t" r="r" b="b"/>
                <a:pathLst>
                  <a:path w="5116" h="95">
                    <a:moveTo>
                      <a:pt x="5116" y="95"/>
                    </a:moveTo>
                    <a:lnTo>
                      <a:pt x="0" y="95"/>
                    </a:lnTo>
                    <a:lnTo>
                      <a:pt x="0" y="93"/>
                    </a:lnTo>
                    <a:lnTo>
                      <a:pt x="0" y="24"/>
                    </a:lnTo>
                    <a:lnTo>
                      <a:pt x="30" y="0"/>
                    </a:lnTo>
                    <a:lnTo>
                      <a:pt x="5089" y="0"/>
                    </a:lnTo>
                    <a:lnTo>
                      <a:pt x="5116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792600" y="2478240"/>
                <a:ext cx="1349280" cy="25200"/>
              </a:xfrm>
              <a:custGeom>
                <a:avLst/>
                <a:gdLst/>
                <a:ahLst/>
                <a:rect l="l" t="t" r="r" b="b"/>
                <a:pathLst>
                  <a:path w="5102" h="95">
                    <a:moveTo>
                      <a:pt x="5102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87" y="0"/>
                    </a:lnTo>
                    <a:lnTo>
                      <a:pt x="5076" y="0"/>
                    </a:lnTo>
                    <a:lnTo>
                      <a:pt x="5102" y="95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800520" y="2465280"/>
                <a:ext cx="1338120" cy="25560"/>
              </a:xfrm>
              <a:custGeom>
                <a:avLst/>
                <a:gdLst/>
                <a:ahLst/>
                <a:rect l="l" t="t" r="r" b="b"/>
                <a:pathLst>
                  <a:path w="5059" h="96">
                    <a:moveTo>
                      <a:pt x="505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5033" y="0"/>
                    </a:lnTo>
                    <a:lnTo>
                      <a:pt x="5059" y="96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814920" y="2452680"/>
                <a:ext cx="1320480" cy="25560"/>
              </a:xfrm>
              <a:custGeom>
                <a:avLst/>
                <a:gdLst/>
                <a:ahLst/>
                <a:rect l="l" t="t" r="r" b="b"/>
                <a:pathLst>
                  <a:path w="4989" h="96">
                    <a:moveTo>
                      <a:pt x="498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4963" y="0"/>
                    </a:lnTo>
                    <a:lnTo>
                      <a:pt x="498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830760" y="2440080"/>
                <a:ext cx="1301760" cy="25200"/>
              </a:xfrm>
              <a:custGeom>
                <a:avLst/>
                <a:gdLst/>
                <a:ahLst/>
                <a:rect l="l" t="t" r="r" b="b"/>
                <a:pathLst>
                  <a:path w="4919" h="96">
                    <a:moveTo>
                      <a:pt x="4919" y="96"/>
                    </a:moveTo>
                    <a:lnTo>
                      <a:pt x="0" y="96"/>
                    </a:lnTo>
                    <a:lnTo>
                      <a:pt x="113" y="0"/>
                    </a:lnTo>
                    <a:lnTo>
                      <a:pt x="4893" y="0"/>
                    </a:lnTo>
                    <a:lnTo>
                      <a:pt x="491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844800" y="24271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49" h="95">
                    <a:moveTo>
                      <a:pt x="4849" y="95"/>
                    </a:moveTo>
                    <a:lnTo>
                      <a:pt x="0" y="95"/>
                    </a:lnTo>
                    <a:lnTo>
                      <a:pt x="113" y="0"/>
                    </a:lnTo>
                    <a:lnTo>
                      <a:pt x="4823" y="0"/>
                    </a:lnTo>
                    <a:lnTo>
                      <a:pt x="4849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60640" y="2414520"/>
                <a:ext cx="1263960" cy="25560"/>
              </a:xfrm>
              <a:custGeom>
                <a:avLst/>
                <a:gdLst/>
                <a:ahLst/>
                <a:rect l="l" t="t" r="r" b="b"/>
                <a:pathLst>
                  <a:path w="4780" h="95">
                    <a:moveTo>
                      <a:pt x="4780" y="95"/>
                    </a:moveTo>
                    <a:lnTo>
                      <a:pt x="0" y="95"/>
                    </a:lnTo>
                    <a:lnTo>
                      <a:pt x="114" y="0"/>
                    </a:lnTo>
                    <a:lnTo>
                      <a:pt x="4754" y="0"/>
                    </a:lnTo>
                    <a:lnTo>
                      <a:pt x="4780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875040" y="2401920"/>
                <a:ext cx="1246320" cy="25200"/>
              </a:xfrm>
              <a:custGeom>
                <a:avLst/>
                <a:gdLst/>
                <a:ahLst/>
                <a:rect l="l" t="t" r="r" b="b"/>
                <a:pathLst>
                  <a:path w="4710" h="96">
                    <a:moveTo>
                      <a:pt x="4710" y="96"/>
                    </a:moveTo>
                    <a:lnTo>
                      <a:pt x="0" y="96"/>
                    </a:lnTo>
                    <a:lnTo>
                      <a:pt x="75" y="33"/>
                    </a:lnTo>
                    <a:lnTo>
                      <a:pt x="75" y="0"/>
                    </a:lnTo>
                    <a:lnTo>
                      <a:pt x="4684" y="0"/>
                    </a:lnTo>
                    <a:lnTo>
                      <a:pt x="4710" y="96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890880" y="2389320"/>
                <a:ext cx="1227240" cy="25200"/>
              </a:xfrm>
              <a:custGeom>
                <a:avLst/>
                <a:gdLst/>
                <a:ahLst/>
                <a:rect l="l" t="t" r="r" b="b"/>
                <a:pathLst>
                  <a:path w="4640" h="95">
                    <a:moveTo>
                      <a:pt x="4640" y="95"/>
                    </a:moveTo>
                    <a:lnTo>
                      <a:pt x="0" y="95"/>
                    </a:lnTo>
                    <a:lnTo>
                      <a:pt x="18" y="80"/>
                    </a:lnTo>
                    <a:lnTo>
                      <a:pt x="18" y="0"/>
                    </a:lnTo>
                    <a:lnTo>
                      <a:pt x="4614" y="0"/>
                    </a:lnTo>
                    <a:lnTo>
                      <a:pt x="4640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895560" y="2376360"/>
                <a:ext cx="1219320" cy="25560"/>
              </a:xfrm>
              <a:custGeom>
                <a:avLst/>
                <a:gdLst/>
                <a:ahLst/>
                <a:rect l="l" t="t" r="r" b="b"/>
                <a:pathLst>
                  <a:path w="4609" h="95">
                    <a:moveTo>
                      <a:pt x="460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583" y="0"/>
                    </a:lnTo>
                    <a:lnTo>
                      <a:pt x="4609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895560" y="2363760"/>
                <a:ext cx="1216080" cy="25560"/>
              </a:xfrm>
              <a:custGeom>
                <a:avLst/>
                <a:gdLst/>
                <a:ahLst/>
                <a:rect l="l" t="t" r="r" b="b"/>
                <a:pathLst>
                  <a:path w="4596" h="95">
                    <a:moveTo>
                      <a:pt x="4596" y="95"/>
                    </a:moveTo>
                    <a:lnTo>
                      <a:pt x="0" y="9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4570" y="0"/>
                    </a:lnTo>
                    <a:lnTo>
                      <a:pt x="4596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95560" y="2351160"/>
                <a:ext cx="1211400" cy="25200"/>
              </a:xfrm>
              <a:custGeom>
                <a:avLst/>
                <a:gdLst/>
                <a:ahLst/>
                <a:rect l="l" t="t" r="r" b="b"/>
                <a:pathLst>
                  <a:path w="4583" h="95">
                    <a:moveTo>
                      <a:pt x="4583" y="95"/>
                    </a:moveTo>
                    <a:lnTo>
                      <a:pt x="0" y="95"/>
                    </a:lnTo>
                    <a:lnTo>
                      <a:pt x="0" y="9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493" y="0"/>
                    </a:lnTo>
                    <a:lnTo>
                      <a:pt x="4500" y="26"/>
                    </a:lnTo>
                    <a:lnTo>
                      <a:pt x="4564" y="26"/>
                    </a:lnTo>
                    <a:lnTo>
                      <a:pt x="4583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95560" y="2338560"/>
                <a:ext cx="1208160" cy="25200"/>
              </a:xfrm>
              <a:custGeom>
                <a:avLst/>
                <a:gdLst/>
                <a:ahLst/>
                <a:rect l="l" t="t" r="r" b="b"/>
                <a:pathLst>
                  <a:path w="4570" h="95">
                    <a:moveTo>
                      <a:pt x="4570" y="95"/>
                    </a:moveTo>
                    <a:lnTo>
                      <a:pt x="0" y="95"/>
                    </a:lnTo>
                    <a:lnTo>
                      <a:pt x="0" y="77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4091" y="0"/>
                    </a:lnTo>
                    <a:lnTo>
                      <a:pt x="4108" y="10"/>
                    </a:lnTo>
                    <a:lnTo>
                      <a:pt x="4103" y="0"/>
                    </a:lnTo>
                    <a:lnTo>
                      <a:pt x="4481" y="0"/>
                    </a:lnTo>
                    <a:lnTo>
                      <a:pt x="4500" y="73"/>
                    </a:lnTo>
                    <a:lnTo>
                      <a:pt x="4564" y="73"/>
                    </a:lnTo>
                    <a:lnTo>
                      <a:pt x="4570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895560" y="2325600"/>
                <a:ext cx="1187640" cy="25560"/>
              </a:xfrm>
              <a:custGeom>
                <a:avLst/>
                <a:gdLst/>
                <a:ahLst/>
                <a:rect l="l" t="t" r="r" b="b"/>
                <a:pathLst>
                  <a:path w="4493" h="95">
                    <a:moveTo>
                      <a:pt x="4493" y="95"/>
                    </a:moveTo>
                    <a:lnTo>
                      <a:pt x="0" y="95"/>
                    </a:lnTo>
                    <a:lnTo>
                      <a:pt x="0" y="61"/>
                    </a:lnTo>
                    <a:lnTo>
                      <a:pt x="55" y="0"/>
                    </a:lnTo>
                    <a:lnTo>
                      <a:pt x="4021" y="0"/>
                    </a:lnTo>
                    <a:lnTo>
                      <a:pt x="4108" y="58"/>
                    </a:lnTo>
                    <a:lnTo>
                      <a:pt x="4083" y="0"/>
                    </a:lnTo>
                    <a:lnTo>
                      <a:pt x="4468" y="0"/>
                    </a:lnTo>
                    <a:lnTo>
                      <a:pt x="4493" y="95"/>
                    </a:lnTo>
                    <a:close/>
                  </a:path>
                </a:pathLst>
              </a:custGeom>
              <a:solidFill>
                <a:srgbClr val="577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898800" y="2313000"/>
                <a:ext cx="1181160" cy="25560"/>
              </a:xfrm>
              <a:custGeom>
                <a:avLst/>
                <a:gdLst/>
                <a:ahLst/>
                <a:rect l="l" t="t" r="r" b="b"/>
                <a:pathLst>
                  <a:path w="4469" h="95">
                    <a:moveTo>
                      <a:pt x="4469" y="95"/>
                    </a:moveTo>
                    <a:lnTo>
                      <a:pt x="4091" y="95"/>
                    </a:lnTo>
                    <a:lnTo>
                      <a:pt x="4050" y="0"/>
                    </a:lnTo>
                    <a:lnTo>
                      <a:pt x="4443" y="0"/>
                    </a:lnTo>
                    <a:lnTo>
                      <a:pt x="4469" y="95"/>
                    </a:lnTo>
                    <a:close/>
                    <a:moveTo>
                      <a:pt x="4079" y="95"/>
                    </a:moveTo>
                    <a:lnTo>
                      <a:pt x="0" y="95"/>
                    </a:lnTo>
                    <a:lnTo>
                      <a:pt x="50" y="39"/>
                    </a:lnTo>
                    <a:lnTo>
                      <a:pt x="93" y="0"/>
                    </a:lnTo>
                    <a:lnTo>
                      <a:pt x="3939" y="0"/>
                    </a:lnTo>
                    <a:lnTo>
                      <a:pt x="4079" y="95"/>
                    </a:lnTo>
                    <a:close/>
                  </a:path>
                </a:pathLst>
              </a:custGeom>
              <a:solidFill>
                <a:srgbClr val="577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2" name=""/>
            <p:cNvSpPr/>
            <p:nvPr/>
          </p:nvSpPr>
          <p:spPr>
            <a:xfrm>
              <a:off x="3909960" y="2300400"/>
              <a:ext cx="1166760" cy="25200"/>
            </a:xfrm>
            <a:custGeom>
              <a:avLst/>
              <a:gdLst/>
              <a:ahLst/>
              <a:rect l="l" t="t" r="r" b="b"/>
              <a:pathLst>
                <a:path w="4413" h="96">
                  <a:moveTo>
                    <a:pt x="4413" y="96"/>
                  </a:moveTo>
                  <a:lnTo>
                    <a:pt x="4028" y="96"/>
                  </a:lnTo>
                  <a:lnTo>
                    <a:pt x="3986" y="0"/>
                  </a:lnTo>
                  <a:lnTo>
                    <a:pt x="4388" y="0"/>
                  </a:lnTo>
                  <a:lnTo>
                    <a:pt x="4413" y="96"/>
                  </a:lnTo>
                  <a:close/>
                  <a:moveTo>
                    <a:pt x="3966" y="96"/>
                  </a:moveTo>
                  <a:lnTo>
                    <a:pt x="0" y="96"/>
                  </a:lnTo>
                  <a:lnTo>
                    <a:pt x="7" y="88"/>
                  </a:lnTo>
                  <a:lnTo>
                    <a:pt x="76" y="24"/>
                  </a:lnTo>
                  <a:lnTo>
                    <a:pt x="99" y="0"/>
                  </a:lnTo>
                  <a:lnTo>
                    <a:pt x="3836" y="0"/>
                  </a:lnTo>
                  <a:lnTo>
                    <a:pt x="3856" y="21"/>
                  </a:lnTo>
                  <a:lnTo>
                    <a:pt x="3966" y="96"/>
                  </a:lnTo>
                  <a:close/>
                </a:path>
              </a:pathLst>
            </a:custGeom>
            <a:solidFill>
              <a:srgbClr val="577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922560" y="2287440"/>
              <a:ext cx="1150920" cy="25560"/>
            </a:xfrm>
            <a:custGeom>
              <a:avLst/>
              <a:gdLst/>
              <a:ahLst/>
              <a:rect l="l" t="t" r="r" b="b"/>
              <a:pathLst>
                <a:path w="4350" h="97">
                  <a:moveTo>
                    <a:pt x="4350" y="97"/>
                  </a:moveTo>
                  <a:lnTo>
                    <a:pt x="3957" y="97"/>
                  </a:lnTo>
                  <a:lnTo>
                    <a:pt x="3916" y="0"/>
                  </a:lnTo>
                  <a:lnTo>
                    <a:pt x="4262" y="0"/>
                  </a:lnTo>
                  <a:lnTo>
                    <a:pt x="4262" y="5"/>
                  </a:lnTo>
                  <a:lnTo>
                    <a:pt x="4326" y="5"/>
                  </a:lnTo>
                  <a:lnTo>
                    <a:pt x="4350" y="97"/>
                  </a:lnTo>
                  <a:close/>
                  <a:moveTo>
                    <a:pt x="3846" y="97"/>
                  </a:moveTo>
                  <a:lnTo>
                    <a:pt x="0" y="97"/>
                  </a:lnTo>
                  <a:lnTo>
                    <a:pt x="26" y="72"/>
                  </a:lnTo>
                  <a:lnTo>
                    <a:pt x="97" y="0"/>
                  </a:lnTo>
                  <a:lnTo>
                    <a:pt x="3737" y="0"/>
                  </a:lnTo>
                  <a:lnTo>
                    <a:pt x="3806" y="69"/>
                  </a:lnTo>
                  <a:lnTo>
                    <a:pt x="3846" y="97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935520" y="2274840"/>
              <a:ext cx="1135080" cy="25560"/>
            </a:xfrm>
            <a:custGeom>
              <a:avLst/>
              <a:gdLst/>
              <a:ahLst/>
              <a:rect l="l" t="t" r="r" b="b"/>
              <a:pathLst>
                <a:path w="4289" h="95">
                  <a:moveTo>
                    <a:pt x="4289" y="95"/>
                  </a:moveTo>
                  <a:lnTo>
                    <a:pt x="3887" y="95"/>
                  </a:lnTo>
                  <a:lnTo>
                    <a:pt x="3847" y="0"/>
                  </a:lnTo>
                  <a:lnTo>
                    <a:pt x="4213" y="0"/>
                  </a:lnTo>
                  <a:lnTo>
                    <a:pt x="4213" y="52"/>
                  </a:lnTo>
                  <a:lnTo>
                    <a:pt x="4277" y="52"/>
                  </a:lnTo>
                  <a:lnTo>
                    <a:pt x="4289" y="95"/>
                  </a:lnTo>
                  <a:close/>
                  <a:moveTo>
                    <a:pt x="3737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3639" y="0"/>
                  </a:lnTo>
                  <a:lnTo>
                    <a:pt x="3737" y="95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948120" y="2263680"/>
              <a:ext cx="1101600" cy="23760"/>
            </a:xfrm>
            <a:custGeom>
              <a:avLst/>
              <a:gdLst/>
              <a:ahLst/>
              <a:rect l="l" t="t" r="r" b="b"/>
              <a:pathLst>
                <a:path w="4165" h="95">
                  <a:moveTo>
                    <a:pt x="4165" y="95"/>
                  </a:moveTo>
                  <a:lnTo>
                    <a:pt x="3819" y="95"/>
                  </a:lnTo>
                  <a:lnTo>
                    <a:pt x="3778" y="0"/>
                  </a:lnTo>
                  <a:lnTo>
                    <a:pt x="4165" y="0"/>
                  </a:lnTo>
                  <a:lnTo>
                    <a:pt x="4165" y="95"/>
                  </a:lnTo>
                  <a:close/>
                  <a:moveTo>
                    <a:pt x="3640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2079" y="0"/>
                  </a:lnTo>
                  <a:lnTo>
                    <a:pt x="2079" y="43"/>
                  </a:lnTo>
                  <a:lnTo>
                    <a:pt x="2341" y="37"/>
                  </a:lnTo>
                  <a:lnTo>
                    <a:pt x="2328" y="0"/>
                  </a:lnTo>
                  <a:lnTo>
                    <a:pt x="3543" y="0"/>
                  </a:lnTo>
                  <a:lnTo>
                    <a:pt x="3640" y="95"/>
                  </a:lnTo>
                  <a:close/>
                </a:path>
              </a:pathLst>
            </a:custGeom>
            <a:solidFill>
              <a:srgbClr val="567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960720" y="2251080"/>
              <a:ext cx="1089000" cy="23760"/>
            </a:xfrm>
            <a:custGeom>
              <a:avLst/>
              <a:gdLst/>
              <a:ahLst/>
              <a:rect l="l" t="t" r="r" b="b"/>
              <a:pathLst>
                <a:path w="4118" h="95">
                  <a:moveTo>
                    <a:pt x="4118" y="95"/>
                  </a:moveTo>
                  <a:lnTo>
                    <a:pt x="3752" y="95"/>
                  </a:lnTo>
                  <a:lnTo>
                    <a:pt x="3711" y="0"/>
                  </a:lnTo>
                  <a:lnTo>
                    <a:pt x="4118" y="0"/>
                  </a:lnTo>
                  <a:lnTo>
                    <a:pt x="4118" y="95"/>
                  </a:lnTo>
                  <a:close/>
                  <a:moveTo>
                    <a:pt x="3544" y="95"/>
                  </a:moveTo>
                  <a:lnTo>
                    <a:pt x="0" y="95"/>
                  </a:lnTo>
                  <a:lnTo>
                    <a:pt x="97" y="0"/>
                  </a:lnTo>
                  <a:lnTo>
                    <a:pt x="2032" y="0"/>
                  </a:lnTo>
                  <a:lnTo>
                    <a:pt x="2032" y="90"/>
                  </a:lnTo>
                  <a:lnTo>
                    <a:pt x="2294" y="84"/>
                  </a:lnTo>
                  <a:lnTo>
                    <a:pt x="2264" y="0"/>
                  </a:lnTo>
                  <a:lnTo>
                    <a:pt x="3447" y="0"/>
                  </a:lnTo>
                  <a:lnTo>
                    <a:pt x="3544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973680" y="2238480"/>
              <a:ext cx="1076040" cy="25200"/>
            </a:xfrm>
            <a:custGeom>
              <a:avLst/>
              <a:gdLst/>
              <a:ahLst/>
              <a:rect l="l" t="t" r="r" b="b"/>
              <a:pathLst>
                <a:path w="4069" h="95">
                  <a:moveTo>
                    <a:pt x="4069" y="95"/>
                  </a:moveTo>
                  <a:lnTo>
                    <a:pt x="3682" y="95"/>
                  </a:lnTo>
                  <a:lnTo>
                    <a:pt x="3641" y="0"/>
                  </a:lnTo>
                  <a:lnTo>
                    <a:pt x="4069" y="0"/>
                  </a:lnTo>
                  <a:lnTo>
                    <a:pt x="4069" y="95"/>
                  </a:lnTo>
                  <a:close/>
                  <a:moveTo>
                    <a:pt x="3447" y="95"/>
                  </a:moveTo>
                  <a:lnTo>
                    <a:pt x="2232" y="95"/>
                  </a:lnTo>
                  <a:lnTo>
                    <a:pt x="2199" y="0"/>
                  </a:lnTo>
                  <a:lnTo>
                    <a:pt x="3349" y="0"/>
                  </a:lnTo>
                  <a:lnTo>
                    <a:pt x="3447" y="95"/>
                  </a:lnTo>
                  <a:close/>
                  <a:moveTo>
                    <a:pt x="1983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83" y="0"/>
                  </a:lnTo>
                  <a:lnTo>
                    <a:pt x="1983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986280" y="2225520"/>
              <a:ext cx="1063440" cy="25560"/>
            </a:xfrm>
            <a:custGeom>
              <a:avLst/>
              <a:gdLst/>
              <a:ahLst/>
              <a:rect l="l" t="t" r="r" b="b"/>
              <a:pathLst>
                <a:path w="4021" h="95">
                  <a:moveTo>
                    <a:pt x="4021" y="95"/>
                  </a:moveTo>
                  <a:lnTo>
                    <a:pt x="3614" y="95"/>
                  </a:lnTo>
                  <a:lnTo>
                    <a:pt x="3573" y="0"/>
                  </a:lnTo>
                  <a:lnTo>
                    <a:pt x="4021" y="0"/>
                  </a:lnTo>
                  <a:lnTo>
                    <a:pt x="4021" y="95"/>
                  </a:lnTo>
                  <a:close/>
                  <a:moveTo>
                    <a:pt x="3350" y="95"/>
                  </a:moveTo>
                  <a:lnTo>
                    <a:pt x="2167" y="95"/>
                  </a:lnTo>
                  <a:lnTo>
                    <a:pt x="2134" y="0"/>
                  </a:lnTo>
                  <a:lnTo>
                    <a:pt x="3350" y="0"/>
                  </a:lnTo>
                  <a:lnTo>
                    <a:pt x="3300" y="46"/>
                  </a:lnTo>
                  <a:lnTo>
                    <a:pt x="3350" y="95"/>
                  </a:lnTo>
                  <a:close/>
                  <a:moveTo>
                    <a:pt x="1935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35" y="0"/>
                  </a:lnTo>
                  <a:lnTo>
                    <a:pt x="1935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998880" y="2212920"/>
              <a:ext cx="1050840" cy="25560"/>
            </a:xfrm>
            <a:custGeom>
              <a:avLst/>
              <a:gdLst/>
              <a:ahLst/>
              <a:rect l="l" t="t" r="r" b="b"/>
              <a:pathLst>
                <a:path w="3974" h="95">
                  <a:moveTo>
                    <a:pt x="3974" y="95"/>
                  </a:moveTo>
                  <a:lnTo>
                    <a:pt x="3546" y="95"/>
                  </a:lnTo>
                  <a:lnTo>
                    <a:pt x="3518" y="31"/>
                  </a:lnTo>
                  <a:lnTo>
                    <a:pt x="3518" y="0"/>
                  </a:lnTo>
                  <a:lnTo>
                    <a:pt x="3974" y="0"/>
                  </a:lnTo>
                  <a:lnTo>
                    <a:pt x="3974" y="95"/>
                  </a:lnTo>
                  <a:close/>
                  <a:moveTo>
                    <a:pt x="3254" y="95"/>
                  </a:moveTo>
                  <a:lnTo>
                    <a:pt x="2104" y="95"/>
                  </a:lnTo>
                  <a:lnTo>
                    <a:pt x="2081" y="31"/>
                  </a:lnTo>
                  <a:lnTo>
                    <a:pt x="2081" y="0"/>
                  </a:lnTo>
                  <a:lnTo>
                    <a:pt x="3322" y="0"/>
                  </a:lnTo>
                  <a:lnTo>
                    <a:pt x="3322" y="31"/>
                  </a:lnTo>
                  <a:lnTo>
                    <a:pt x="3253" y="94"/>
                  </a:lnTo>
                  <a:lnTo>
                    <a:pt x="3254" y="95"/>
                  </a:lnTo>
                  <a:close/>
                  <a:moveTo>
                    <a:pt x="1888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857" y="0"/>
                  </a:lnTo>
                  <a:lnTo>
                    <a:pt x="1888" y="33"/>
                  </a:lnTo>
                  <a:lnTo>
                    <a:pt x="1888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11480" y="2200320"/>
              <a:ext cx="1038240" cy="25200"/>
            </a:xfrm>
            <a:custGeom>
              <a:avLst/>
              <a:gdLst/>
              <a:ahLst/>
              <a:rect l="l" t="t" r="r" b="b"/>
              <a:pathLst>
                <a:path w="3926" h="96">
                  <a:moveTo>
                    <a:pt x="3926" y="96"/>
                  </a:moveTo>
                  <a:lnTo>
                    <a:pt x="3478" y="96"/>
                  </a:lnTo>
                  <a:lnTo>
                    <a:pt x="3470" y="79"/>
                  </a:lnTo>
                  <a:lnTo>
                    <a:pt x="3470" y="9"/>
                  </a:lnTo>
                  <a:lnTo>
                    <a:pt x="3468" y="0"/>
                  </a:lnTo>
                  <a:lnTo>
                    <a:pt x="3926" y="0"/>
                  </a:lnTo>
                  <a:lnTo>
                    <a:pt x="3926" y="96"/>
                  </a:lnTo>
                  <a:close/>
                  <a:moveTo>
                    <a:pt x="3255" y="96"/>
                  </a:moveTo>
                  <a:lnTo>
                    <a:pt x="2039" y="96"/>
                  </a:lnTo>
                  <a:lnTo>
                    <a:pt x="2033" y="79"/>
                  </a:lnTo>
                  <a:lnTo>
                    <a:pt x="2033" y="0"/>
                  </a:lnTo>
                  <a:lnTo>
                    <a:pt x="3274" y="0"/>
                  </a:lnTo>
                  <a:lnTo>
                    <a:pt x="3274" y="79"/>
                  </a:lnTo>
                  <a:lnTo>
                    <a:pt x="3255" y="96"/>
                  </a:lnTo>
                  <a:close/>
                  <a:moveTo>
                    <a:pt x="1840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776" y="0"/>
                  </a:lnTo>
                  <a:lnTo>
                    <a:pt x="1776" y="12"/>
                  </a:lnTo>
                  <a:lnTo>
                    <a:pt x="1840" y="81"/>
                  </a:lnTo>
                  <a:lnTo>
                    <a:pt x="1840" y="96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024440" y="2187720"/>
              <a:ext cx="1025280" cy="25200"/>
            </a:xfrm>
            <a:custGeom>
              <a:avLst/>
              <a:gdLst/>
              <a:ahLst/>
              <a:rect l="l" t="t" r="r" b="b"/>
              <a:pathLst>
                <a:path w="3878" h="95">
                  <a:moveTo>
                    <a:pt x="3878" y="95"/>
                  </a:moveTo>
                  <a:lnTo>
                    <a:pt x="3422" y="95"/>
                  </a:lnTo>
                  <a:lnTo>
                    <a:pt x="3422" y="56"/>
                  </a:lnTo>
                  <a:lnTo>
                    <a:pt x="3404" y="0"/>
                  </a:lnTo>
                  <a:lnTo>
                    <a:pt x="3878" y="0"/>
                  </a:lnTo>
                  <a:lnTo>
                    <a:pt x="3878" y="95"/>
                  </a:lnTo>
                  <a:close/>
                  <a:moveTo>
                    <a:pt x="3226" y="95"/>
                  </a:moveTo>
                  <a:lnTo>
                    <a:pt x="1985" y="95"/>
                  </a:lnTo>
                  <a:lnTo>
                    <a:pt x="1985" y="0"/>
                  </a:lnTo>
                  <a:lnTo>
                    <a:pt x="3226" y="0"/>
                  </a:lnTo>
                  <a:lnTo>
                    <a:pt x="3226" y="95"/>
                  </a:lnTo>
                  <a:close/>
                  <a:moveTo>
                    <a:pt x="1761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728" y="0"/>
                  </a:lnTo>
                  <a:lnTo>
                    <a:pt x="1728" y="59"/>
                  </a:lnTo>
                  <a:lnTo>
                    <a:pt x="1761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037040" y="2174760"/>
              <a:ext cx="1012680" cy="25560"/>
            </a:xfrm>
            <a:custGeom>
              <a:avLst/>
              <a:gdLst/>
              <a:ahLst/>
              <a:rect l="l" t="t" r="r" b="b"/>
              <a:pathLst>
                <a:path w="3830" h="95">
                  <a:moveTo>
                    <a:pt x="3830" y="95"/>
                  </a:moveTo>
                  <a:lnTo>
                    <a:pt x="3372" y="95"/>
                  </a:lnTo>
                  <a:lnTo>
                    <a:pt x="3341" y="0"/>
                  </a:lnTo>
                  <a:lnTo>
                    <a:pt x="3786" y="0"/>
                  </a:lnTo>
                  <a:lnTo>
                    <a:pt x="3830" y="41"/>
                  </a:lnTo>
                  <a:lnTo>
                    <a:pt x="3830" y="95"/>
                  </a:lnTo>
                  <a:close/>
                  <a:moveTo>
                    <a:pt x="3178" y="95"/>
                  </a:moveTo>
                  <a:lnTo>
                    <a:pt x="1937" y="95"/>
                  </a:lnTo>
                  <a:lnTo>
                    <a:pt x="1937" y="0"/>
                  </a:lnTo>
                  <a:lnTo>
                    <a:pt x="3178" y="0"/>
                  </a:lnTo>
                  <a:lnTo>
                    <a:pt x="3178" y="95"/>
                  </a:lnTo>
                  <a:close/>
                  <a:moveTo>
                    <a:pt x="1680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633" y="0"/>
                  </a:lnTo>
                  <a:lnTo>
                    <a:pt x="1680" y="43"/>
                  </a:lnTo>
                  <a:lnTo>
                    <a:pt x="1680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49640" y="2162160"/>
              <a:ext cx="1000080" cy="25560"/>
            </a:xfrm>
            <a:custGeom>
              <a:avLst/>
              <a:gdLst/>
              <a:ahLst/>
              <a:rect l="l" t="t" r="r" b="b"/>
              <a:pathLst>
                <a:path w="3783" h="95">
                  <a:moveTo>
                    <a:pt x="3783" y="95"/>
                  </a:moveTo>
                  <a:lnTo>
                    <a:pt x="3309" y="95"/>
                  </a:lnTo>
                  <a:lnTo>
                    <a:pt x="3278" y="0"/>
                  </a:lnTo>
                  <a:lnTo>
                    <a:pt x="3714" y="0"/>
                  </a:lnTo>
                  <a:lnTo>
                    <a:pt x="3714" y="24"/>
                  </a:lnTo>
                  <a:lnTo>
                    <a:pt x="3783" y="88"/>
                  </a:lnTo>
                  <a:lnTo>
                    <a:pt x="3783" y="95"/>
                  </a:lnTo>
                  <a:close/>
                  <a:moveTo>
                    <a:pt x="3131" y="95"/>
                  </a:moveTo>
                  <a:lnTo>
                    <a:pt x="1890" y="95"/>
                  </a:lnTo>
                  <a:lnTo>
                    <a:pt x="1890" y="0"/>
                  </a:lnTo>
                  <a:lnTo>
                    <a:pt x="3178" y="0"/>
                  </a:lnTo>
                  <a:lnTo>
                    <a:pt x="3131" y="24"/>
                  </a:lnTo>
                  <a:lnTo>
                    <a:pt x="3131" y="95"/>
                  </a:lnTo>
                  <a:close/>
                  <a:moveTo>
                    <a:pt x="1633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564" y="0"/>
                  </a:lnTo>
                  <a:lnTo>
                    <a:pt x="1564" y="27"/>
                  </a:lnTo>
                  <a:lnTo>
                    <a:pt x="1633" y="90"/>
                  </a:lnTo>
                  <a:lnTo>
                    <a:pt x="1633" y="95"/>
                  </a:lnTo>
                  <a:close/>
                </a:path>
              </a:pathLst>
            </a:custGeom>
            <a:solidFill>
              <a:srgbClr val="55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62240" y="2149560"/>
              <a:ext cx="976320" cy="25200"/>
            </a:xfrm>
            <a:custGeom>
              <a:avLst/>
              <a:gdLst/>
              <a:ahLst/>
              <a:rect l="l" t="t" r="r" b="b"/>
              <a:pathLst>
                <a:path w="3691" h="96">
                  <a:moveTo>
                    <a:pt x="3691" y="96"/>
                  </a:moveTo>
                  <a:lnTo>
                    <a:pt x="3246" y="96"/>
                  </a:lnTo>
                  <a:lnTo>
                    <a:pt x="3216" y="4"/>
                  </a:lnTo>
                  <a:lnTo>
                    <a:pt x="3218" y="0"/>
                  </a:lnTo>
                  <a:lnTo>
                    <a:pt x="3662" y="0"/>
                  </a:lnTo>
                  <a:lnTo>
                    <a:pt x="3666" y="4"/>
                  </a:lnTo>
                  <a:lnTo>
                    <a:pt x="3666" y="73"/>
                  </a:lnTo>
                  <a:lnTo>
                    <a:pt x="3691" y="96"/>
                  </a:lnTo>
                  <a:close/>
                  <a:moveTo>
                    <a:pt x="3083" y="96"/>
                  </a:moveTo>
                  <a:lnTo>
                    <a:pt x="1842" y="96"/>
                  </a:lnTo>
                  <a:lnTo>
                    <a:pt x="1842" y="0"/>
                  </a:lnTo>
                  <a:lnTo>
                    <a:pt x="3218" y="0"/>
                  </a:lnTo>
                  <a:lnTo>
                    <a:pt x="3216" y="4"/>
                  </a:lnTo>
                  <a:lnTo>
                    <a:pt x="3083" y="73"/>
                  </a:lnTo>
                  <a:lnTo>
                    <a:pt x="3083" y="96"/>
                  </a:lnTo>
                  <a:close/>
                  <a:moveTo>
                    <a:pt x="1538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510" y="0"/>
                  </a:lnTo>
                  <a:lnTo>
                    <a:pt x="1516" y="6"/>
                  </a:lnTo>
                  <a:lnTo>
                    <a:pt x="1516" y="76"/>
                  </a:lnTo>
                  <a:lnTo>
                    <a:pt x="153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75200" y="2136600"/>
              <a:ext cx="957240" cy="25560"/>
            </a:xfrm>
            <a:custGeom>
              <a:avLst/>
              <a:gdLst/>
              <a:ahLst/>
              <a:rect l="l" t="t" r="r" b="b"/>
              <a:pathLst>
                <a:path w="3618" h="96">
                  <a:moveTo>
                    <a:pt x="3618" y="96"/>
                  </a:moveTo>
                  <a:lnTo>
                    <a:pt x="3182" y="96"/>
                  </a:lnTo>
                  <a:lnTo>
                    <a:pt x="3168" y="51"/>
                  </a:lnTo>
                  <a:lnTo>
                    <a:pt x="3219" y="0"/>
                  </a:lnTo>
                  <a:lnTo>
                    <a:pt x="3562" y="0"/>
                  </a:lnTo>
                  <a:lnTo>
                    <a:pt x="3618" y="51"/>
                  </a:lnTo>
                  <a:lnTo>
                    <a:pt x="3618" y="96"/>
                  </a:lnTo>
                  <a:close/>
                  <a:moveTo>
                    <a:pt x="3082" y="96"/>
                  </a:moveTo>
                  <a:lnTo>
                    <a:pt x="1794" y="96"/>
                  </a:lnTo>
                  <a:lnTo>
                    <a:pt x="1794" y="0"/>
                  </a:lnTo>
                  <a:lnTo>
                    <a:pt x="3219" y="0"/>
                  </a:lnTo>
                  <a:lnTo>
                    <a:pt x="3168" y="51"/>
                  </a:lnTo>
                  <a:lnTo>
                    <a:pt x="3082" y="96"/>
                  </a:lnTo>
                  <a:close/>
                  <a:moveTo>
                    <a:pt x="1468" y="96"/>
                  </a:moveTo>
                  <a:lnTo>
                    <a:pt x="0" y="96"/>
                  </a:lnTo>
                  <a:lnTo>
                    <a:pt x="95" y="0"/>
                  </a:lnTo>
                  <a:lnTo>
                    <a:pt x="1414" y="0"/>
                  </a:lnTo>
                  <a:lnTo>
                    <a:pt x="1468" y="53"/>
                  </a:lnTo>
                  <a:lnTo>
                    <a:pt x="146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7800" y="2124000"/>
              <a:ext cx="942840" cy="25560"/>
            </a:xfrm>
            <a:custGeom>
              <a:avLst/>
              <a:gdLst/>
              <a:ahLst/>
              <a:rect l="l" t="t" r="r" b="b"/>
              <a:pathLst>
                <a:path w="3566" h="95">
                  <a:moveTo>
                    <a:pt x="3566" y="95"/>
                  </a:moveTo>
                  <a:lnTo>
                    <a:pt x="3122" y="95"/>
                  </a:lnTo>
                  <a:lnTo>
                    <a:pt x="3220" y="0"/>
                  </a:lnTo>
                  <a:lnTo>
                    <a:pt x="3507" y="0"/>
                  </a:lnTo>
                  <a:lnTo>
                    <a:pt x="3507" y="40"/>
                  </a:lnTo>
                  <a:lnTo>
                    <a:pt x="3566" y="95"/>
                  </a:lnTo>
                  <a:close/>
                  <a:moveTo>
                    <a:pt x="3122" y="95"/>
                  </a:moveTo>
                  <a:lnTo>
                    <a:pt x="1746" y="95"/>
                  </a:lnTo>
                  <a:lnTo>
                    <a:pt x="1746" y="40"/>
                  </a:lnTo>
                  <a:lnTo>
                    <a:pt x="1761" y="0"/>
                  </a:lnTo>
                  <a:lnTo>
                    <a:pt x="3220" y="0"/>
                  </a:lnTo>
                  <a:lnTo>
                    <a:pt x="3122" y="95"/>
                  </a:lnTo>
                  <a:close/>
                  <a:moveTo>
                    <a:pt x="1414" y="95"/>
                  </a:moveTo>
                  <a:lnTo>
                    <a:pt x="0" y="95"/>
                  </a:lnTo>
                  <a:lnTo>
                    <a:pt x="54" y="40"/>
                  </a:lnTo>
                  <a:lnTo>
                    <a:pt x="15" y="0"/>
                  </a:lnTo>
                  <a:lnTo>
                    <a:pt x="1319" y="0"/>
                  </a:lnTo>
                  <a:lnTo>
                    <a:pt x="1359" y="40"/>
                  </a:lnTo>
                  <a:lnTo>
                    <a:pt x="1414" y="95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079880" y="2111400"/>
              <a:ext cx="938160" cy="25200"/>
            </a:xfrm>
            <a:custGeom>
              <a:avLst/>
              <a:gdLst/>
              <a:ahLst/>
              <a:rect l="l" t="t" r="r" b="b"/>
              <a:pathLst>
                <a:path w="3546" h="96">
                  <a:moveTo>
                    <a:pt x="3546" y="96"/>
                  </a:moveTo>
                  <a:lnTo>
                    <a:pt x="3203" y="96"/>
                  </a:lnTo>
                  <a:lnTo>
                    <a:pt x="3300" y="0"/>
                  </a:lnTo>
                  <a:lnTo>
                    <a:pt x="3520" y="0"/>
                  </a:lnTo>
                  <a:lnTo>
                    <a:pt x="3539" y="19"/>
                  </a:lnTo>
                  <a:lnTo>
                    <a:pt x="3539" y="88"/>
                  </a:lnTo>
                  <a:lnTo>
                    <a:pt x="3546" y="96"/>
                  </a:lnTo>
                  <a:close/>
                  <a:moveTo>
                    <a:pt x="3203" y="96"/>
                  </a:moveTo>
                  <a:lnTo>
                    <a:pt x="1778" y="96"/>
                  </a:lnTo>
                  <a:lnTo>
                    <a:pt x="1778" y="88"/>
                  </a:lnTo>
                  <a:lnTo>
                    <a:pt x="1809" y="0"/>
                  </a:lnTo>
                  <a:lnTo>
                    <a:pt x="3300" y="0"/>
                  </a:lnTo>
                  <a:lnTo>
                    <a:pt x="3203" y="96"/>
                  </a:lnTo>
                  <a:close/>
                  <a:moveTo>
                    <a:pt x="1398" y="96"/>
                  </a:moveTo>
                  <a:lnTo>
                    <a:pt x="79" y="96"/>
                  </a:lnTo>
                  <a:lnTo>
                    <a:pt x="86" y="88"/>
                  </a:lnTo>
                  <a:lnTo>
                    <a:pt x="0" y="0"/>
                  </a:lnTo>
                  <a:lnTo>
                    <a:pt x="1303" y="0"/>
                  </a:lnTo>
                  <a:lnTo>
                    <a:pt x="1391" y="88"/>
                  </a:lnTo>
                  <a:lnTo>
                    <a:pt x="1398" y="96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67280" y="2098800"/>
              <a:ext cx="949320" cy="25200"/>
            </a:xfrm>
            <a:custGeom>
              <a:avLst/>
              <a:gdLst/>
              <a:ahLst/>
              <a:rect l="l" t="t" r="r" b="b"/>
              <a:pathLst>
                <a:path w="3586" h="95">
                  <a:moveTo>
                    <a:pt x="3586" y="95"/>
                  </a:moveTo>
                  <a:lnTo>
                    <a:pt x="3299" y="95"/>
                  </a:lnTo>
                  <a:lnTo>
                    <a:pt x="3396" y="0"/>
                  </a:lnTo>
                  <a:lnTo>
                    <a:pt x="3459" y="0"/>
                  </a:lnTo>
                  <a:lnTo>
                    <a:pt x="3459" y="2"/>
                  </a:lnTo>
                  <a:lnTo>
                    <a:pt x="3522" y="2"/>
                  </a:lnTo>
                  <a:lnTo>
                    <a:pt x="3586" y="66"/>
                  </a:lnTo>
                  <a:lnTo>
                    <a:pt x="3586" y="95"/>
                  </a:lnTo>
                  <a:close/>
                  <a:moveTo>
                    <a:pt x="3299" y="95"/>
                  </a:moveTo>
                  <a:lnTo>
                    <a:pt x="1840" y="95"/>
                  </a:lnTo>
                  <a:lnTo>
                    <a:pt x="1873" y="0"/>
                  </a:lnTo>
                  <a:lnTo>
                    <a:pt x="3396" y="0"/>
                  </a:lnTo>
                  <a:lnTo>
                    <a:pt x="3299" y="95"/>
                  </a:lnTo>
                  <a:close/>
                  <a:moveTo>
                    <a:pt x="1398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42" y="0"/>
                  </a:lnTo>
                  <a:lnTo>
                    <a:pt x="1242" y="2"/>
                  </a:lnTo>
                  <a:lnTo>
                    <a:pt x="1305" y="2"/>
                  </a:lnTo>
                  <a:lnTo>
                    <a:pt x="1398" y="95"/>
                  </a:lnTo>
                  <a:close/>
                </a:path>
              </a:pathLst>
            </a:custGeom>
            <a:solidFill>
              <a:srgbClr val="536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54320" y="2085840"/>
              <a:ext cx="955800" cy="25560"/>
            </a:xfrm>
            <a:custGeom>
              <a:avLst/>
              <a:gdLst/>
              <a:ahLst/>
              <a:rect l="l" t="t" r="r" b="b"/>
              <a:pathLst>
                <a:path w="3614" h="95">
                  <a:moveTo>
                    <a:pt x="3614" y="95"/>
                  </a:moveTo>
                  <a:lnTo>
                    <a:pt x="3394" y="95"/>
                  </a:lnTo>
                  <a:lnTo>
                    <a:pt x="3492" y="0"/>
                  </a:lnTo>
                  <a:lnTo>
                    <a:pt x="3506" y="0"/>
                  </a:lnTo>
                  <a:lnTo>
                    <a:pt x="3506" y="50"/>
                  </a:lnTo>
                  <a:lnTo>
                    <a:pt x="3569" y="50"/>
                  </a:lnTo>
                  <a:lnTo>
                    <a:pt x="3614" y="95"/>
                  </a:lnTo>
                  <a:close/>
                  <a:moveTo>
                    <a:pt x="3394" y="95"/>
                  </a:moveTo>
                  <a:lnTo>
                    <a:pt x="1903" y="95"/>
                  </a:lnTo>
                  <a:lnTo>
                    <a:pt x="1936" y="0"/>
                  </a:lnTo>
                  <a:lnTo>
                    <a:pt x="3492" y="0"/>
                  </a:lnTo>
                  <a:lnTo>
                    <a:pt x="3394" y="95"/>
                  </a:lnTo>
                  <a:close/>
                  <a:moveTo>
                    <a:pt x="1397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89" y="0"/>
                  </a:lnTo>
                  <a:lnTo>
                    <a:pt x="1289" y="50"/>
                  </a:lnTo>
                  <a:lnTo>
                    <a:pt x="1352" y="50"/>
                  </a:lnTo>
                  <a:lnTo>
                    <a:pt x="1397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51440" y="2073240"/>
              <a:ext cx="930240" cy="255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456" y="95"/>
                  </a:lnTo>
                  <a:lnTo>
                    <a:pt x="3519" y="34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34"/>
                  </a:lnTo>
                  <a:lnTo>
                    <a:pt x="1933" y="95"/>
                  </a:lnTo>
                  <a:lnTo>
                    <a:pt x="3456" y="95"/>
                  </a:lnTo>
                  <a:lnTo>
                    <a:pt x="3519" y="34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60" y="95"/>
                  </a:lnTo>
                  <a:lnTo>
                    <a:pt x="0" y="34"/>
                  </a:lnTo>
                  <a:lnTo>
                    <a:pt x="32" y="0"/>
                  </a:lnTo>
                  <a:lnTo>
                    <a:pt x="1235" y="0"/>
                  </a:lnTo>
                  <a:lnTo>
                    <a:pt x="1302" y="34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51440" y="2062080"/>
              <a:ext cx="930240" cy="237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505" y="95"/>
                  </a:lnTo>
                  <a:lnTo>
                    <a:pt x="3519" y="82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82"/>
                  </a:lnTo>
                  <a:lnTo>
                    <a:pt x="1949" y="95"/>
                  </a:lnTo>
                  <a:lnTo>
                    <a:pt x="3505" y="95"/>
                  </a:lnTo>
                  <a:lnTo>
                    <a:pt x="3519" y="82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13" y="95"/>
                  </a:lnTo>
                  <a:lnTo>
                    <a:pt x="0" y="82"/>
                  </a:lnTo>
                  <a:lnTo>
                    <a:pt x="60" y="16"/>
                  </a:lnTo>
                  <a:lnTo>
                    <a:pt x="53" y="0"/>
                  </a:lnTo>
                  <a:lnTo>
                    <a:pt x="1140" y="0"/>
                  </a:lnTo>
                  <a:lnTo>
                    <a:pt x="1172" y="16"/>
                  </a:lnTo>
                  <a:lnTo>
                    <a:pt x="1302" y="82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59360" y="2049480"/>
              <a:ext cx="922320" cy="23760"/>
            </a:xfrm>
            <a:custGeom>
              <a:avLst/>
              <a:gdLst/>
              <a:ahLst/>
              <a:rect l="l" t="t" r="r" b="b"/>
              <a:pathLst>
                <a:path w="3491" h="95">
                  <a:moveTo>
                    <a:pt x="3491" y="95"/>
                  </a:moveTo>
                  <a:lnTo>
                    <a:pt x="1926" y="95"/>
                  </a:lnTo>
                  <a:lnTo>
                    <a:pt x="1926" y="0"/>
                  </a:lnTo>
                  <a:lnTo>
                    <a:pt x="3491" y="0"/>
                  </a:lnTo>
                  <a:lnTo>
                    <a:pt x="3491" y="95"/>
                  </a:lnTo>
                  <a:close/>
                  <a:moveTo>
                    <a:pt x="1207" y="95"/>
                  </a:moveTo>
                  <a:lnTo>
                    <a:pt x="4" y="95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144" y="63"/>
                  </a:lnTo>
                  <a:lnTo>
                    <a:pt x="1207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52880" y="2036880"/>
              <a:ext cx="928800" cy="25200"/>
            </a:xfrm>
            <a:custGeom>
              <a:avLst/>
              <a:gdLst/>
              <a:ahLst/>
              <a:rect l="l" t="t" r="r" b="b"/>
              <a:pathLst>
                <a:path w="3514" h="95">
                  <a:moveTo>
                    <a:pt x="3514" y="95"/>
                  </a:moveTo>
                  <a:lnTo>
                    <a:pt x="1949" y="95"/>
                  </a:lnTo>
                  <a:lnTo>
                    <a:pt x="1949" y="44"/>
                  </a:lnTo>
                  <a:lnTo>
                    <a:pt x="1949" y="0"/>
                  </a:lnTo>
                  <a:lnTo>
                    <a:pt x="3514" y="0"/>
                  </a:lnTo>
                  <a:lnTo>
                    <a:pt x="3514" y="95"/>
                  </a:lnTo>
                  <a:close/>
                  <a:moveTo>
                    <a:pt x="1135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42" y="0"/>
                  </a:lnTo>
                  <a:lnTo>
                    <a:pt x="971" y="48"/>
                  </a:lnTo>
                  <a:lnTo>
                    <a:pt x="1035" y="48"/>
                  </a:lnTo>
                  <a:lnTo>
                    <a:pt x="1135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046400" y="2023920"/>
              <a:ext cx="935280" cy="25560"/>
            </a:xfrm>
            <a:custGeom>
              <a:avLst/>
              <a:gdLst/>
              <a:ahLst/>
              <a:rect l="l" t="t" r="r" b="b"/>
              <a:pathLst>
                <a:path w="3538" h="95">
                  <a:moveTo>
                    <a:pt x="3538" y="95"/>
                  </a:moveTo>
                  <a:lnTo>
                    <a:pt x="1973" y="95"/>
                  </a:lnTo>
                  <a:lnTo>
                    <a:pt x="1973" y="91"/>
                  </a:lnTo>
                  <a:lnTo>
                    <a:pt x="1973" y="22"/>
                  </a:lnTo>
                  <a:lnTo>
                    <a:pt x="1973" y="0"/>
                  </a:lnTo>
                  <a:lnTo>
                    <a:pt x="3538" y="0"/>
                  </a:lnTo>
                  <a:lnTo>
                    <a:pt x="3538" y="95"/>
                  </a:lnTo>
                  <a:close/>
                  <a:moveTo>
                    <a:pt x="1059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95" y="95"/>
                  </a:lnTo>
                  <a:lnTo>
                    <a:pt x="1059" y="95"/>
                  </a:lnTo>
                  <a:lnTo>
                    <a:pt x="1059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040280" y="2011320"/>
              <a:ext cx="941400" cy="25560"/>
            </a:xfrm>
            <a:custGeom>
              <a:avLst/>
              <a:gdLst/>
              <a:ahLst/>
              <a:rect l="l" t="t" r="r" b="b"/>
              <a:pathLst>
                <a:path w="3562" h="95">
                  <a:moveTo>
                    <a:pt x="3562" y="95"/>
                  </a:moveTo>
                  <a:lnTo>
                    <a:pt x="1997" y="95"/>
                  </a:lnTo>
                  <a:lnTo>
                    <a:pt x="1997" y="70"/>
                  </a:lnTo>
                  <a:lnTo>
                    <a:pt x="1997" y="0"/>
                  </a:lnTo>
                  <a:lnTo>
                    <a:pt x="3562" y="0"/>
                  </a:lnTo>
                  <a:lnTo>
                    <a:pt x="3562" y="95"/>
                  </a:lnTo>
                  <a:close/>
                  <a:moveTo>
                    <a:pt x="990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90" y="95"/>
                  </a:lnTo>
                  <a:close/>
                </a:path>
              </a:pathLst>
            </a:custGeom>
            <a:solidFill>
              <a:srgbClr val="526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033800" y="1998720"/>
              <a:ext cx="947880" cy="25200"/>
            </a:xfrm>
            <a:custGeom>
              <a:avLst/>
              <a:gdLst/>
              <a:ahLst/>
              <a:rect l="l" t="t" r="r" b="b"/>
              <a:pathLst>
                <a:path w="3587" h="95">
                  <a:moveTo>
                    <a:pt x="3587" y="95"/>
                  </a:moveTo>
                  <a:lnTo>
                    <a:pt x="2022" y="95"/>
                  </a:lnTo>
                  <a:lnTo>
                    <a:pt x="2022" y="0"/>
                  </a:lnTo>
                  <a:lnTo>
                    <a:pt x="3587" y="0"/>
                  </a:lnTo>
                  <a:lnTo>
                    <a:pt x="3587" y="95"/>
                  </a:lnTo>
                  <a:close/>
                  <a:moveTo>
                    <a:pt x="986" y="95"/>
                  </a:moveTo>
                  <a:lnTo>
                    <a:pt x="49" y="95"/>
                  </a:lnTo>
                  <a:lnTo>
                    <a:pt x="0" y="0"/>
                  </a:lnTo>
                  <a:lnTo>
                    <a:pt x="927" y="0"/>
                  </a:lnTo>
                  <a:lnTo>
                    <a:pt x="986" y="95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981600" y="1986120"/>
              <a:ext cx="1000080" cy="25200"/>
            </a:xfrm>
            <a:custGeom>
              <a:avLst/>
              <a:gdLst/>
              <a:ahLst/>
              <a:rect l="l" t="t" r="r" b="b"/>
              <a:pathLst>
                <a:path w="3781" h="96">
                  <a:moveTo>
                    <a:pt x="3781" y="96"/>
                  </a:moveTo>
                  <a:lnTo>
                    <a:pt x="2216" y="96"/>
                  </a:lnTo>
                  <a:lnTo>
                    <a:pt x="2216" y="45"/>
                  </a:lnTo>
                  <a:lnTo>
                    <a:pt x="2238" y="0"/>
                  </a:lnTo>
                  <a:lnTo>
                    <a:pt x="3781" y="0"/>
                  </a:lnTo>
                  <a:lnTo>
                    <a:pt x="3781" y="96"/>
                  </a:lnTo>
                  <a:close/>
                  <a:moveTo>
                    <a:pt x="1151" y="96"/>
                  </a:moveTo>
                  <a:lnTo>
                    <a:pt x="219" y="96"/>
                  </a:lnTo>
                  <a:lnTo>
                    <a:pt x="193" y="45"/>
                  </a:lnTo>
                  <a:lnTo>
                    <a:pt x="130" y="45"/>
                  </a:lnTo>
                  <a:lnTo>
                    <a:pt x="60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151" y="96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975120" y="1973160"/>
              <a:ext cx="1006560" cy="25560"/>
            </a:xfrm>
            <a:custGeom>
              <a:avLst/>
              <a:gdLst/>
              <a:ahLst/>
              <a:rect l="l" t="t" r="r" b="b"/>
              <a:pathLst>
                <a:path w="3804" h="97">
                  <a:moveTo>
                    <a:pt x="3804" y="97"/>
                  </a:moveTo>
                  <a:lnTo>
                    <a:pt x="2239" y="97"/>
                  </a:lnTo>
                  <a:lnTo>
                    <a:pt x="2239" y="93"/>
                  </a:lnTo>
                  <a:lnTo>
                    <a:pt x="2283" y="0"/>
                  </a:lnTo>
                  <a:lnTo>
                    <a:pt x="3804" y="0"/>
                  </a:lnTo>
                  <a:lnTo>
                    <a:pt x="3804" y="97"/>
                  </a:lnTo>
                  <a:close/>
                  <a:moveTo>
                    <a:pt x="1144" y="97"/>
                  </a:moveTo>
                  <a:lnTo>
                    <a:pt x="217" y="97"/>
                  </a:lnTo>
                  <a:lnTo>
                    <a:pt x="216" y="93"/>
                  </a:lnTo>
                  <a:lnTo>
                    <a:pt x="153" y="93"/>
                  </a:lnTo>
                  <a:lnTo>
                    <a:pt x="83" y="93"/>
                  </a:lnTo>
                  <a:lnTo>
                    <a:pt x="23" y="93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1086" y="0"/>
                  </a:lnTo>
                  <a:lnTo>
                    <a:pt x="1144" y="97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965400" y="1960560"/>
              <a:ext cx="1019520" cy="25560"/>
            </a:xfrm>
            <a:custGeom>
              <a:avLst/>
              <a:gdLst/>
              <a:ahLst/>
              <a:rect l="l" t="t" r="r" b="b"/>
              <a:pathLst>
                <a:path w="3856" h="95">
                  <a:moveTo>
                    <a:pt x="3844" y="95"/>
                  </a:moveTo>
                  <a:lnTo>
                    <a:pt x="2301" y="95"/>
                  </a:lnTo>
                  <a:lnTo>
                    <a:pt x="2343" y="7"/>
                  </a:lnTo>
                  <a:lnTo>
                    <a:pt x="2348" y="0"/>
                  </a:lnTo>
                  <a:lnTo>
                    <a:pt x="3856" y="0"/>
                  </a:lnTo>
                  <a:lnTo>
                    <a:pt x="3844" y="7"/>
                  </a:lnTo>
                  <a:lnTo>
                    <a:pt x="3844" y="95"/>
                  </a:lnTo>
                  <a:close/>
                  <a:moveTo>
                    <a:pt x="1156" y="95"/>
                  </a:moveTo>
                  <a:lnTo>
                    <a:pt x="63" y="95"/>
                  </a:lnTo>
                  <a:lnTo>
                    <a:pt x="63" y="7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01" y="7"/>
                  </a:lnTo>
                  <a:lnTo>
                    <a:pt x="115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965400" y="1947960"/>
              <a:ext cx="1043280" cy="25200"/>
            </a:xfrm>
            <a:custGeom>
              <a:avLst/>
              <a:gdLst/>
              <a:ahLst/>
              <a:rect l="l" t="t" r="r" b="b"/>
              <a:pathLst>
                <a:path w="3944" h="95">
                  <a:moveTo>
                    <a:pt x="3844" y="95"/>
                  </a:moveTo>
                  <a:lnTo>
                    <a:pt x="2323" y="95"/>
                  </a:lnTo>
                  <a:lnTo>
                    <a:pt x="2343" y="55"/>
                  </a:lnTo>
                  <a:lnTo>
                    <a:pt x="2387" y="0"/>
                  </a:lnTo>
                  <a:lnTo>
                    <a:pt x="3944" y="0"/>
                  </a:lnTo>
                  <a:lnTo>
                    <a:pt x="3844" y="55"/>
                  </a:lnTo>
                  <a:lnTo>
                    <a:pt x="3844" y="95"/>
                  </a:lnTo>
                  <a:close/>
                  <a:moveTo>
                    <a:pt x="1126" y="95"/>
                  </a:moveTo>
                  <a:lnTo>
                    <a:pt x="40" y="95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01" y="55"/>
                  </a:lnTo>
                  <a:lnTo>
                    <a:pt x="112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965400" y="19350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856" y="95"/>
                  </a:moveTo>
                  <a:lnTo>
                    <a:pt x="2348" y="95"/>
                  </a:lnTo>
                  <a:lnTo>
                    <a:pt x="2425" y="0"/>
                  </a:lnTo>
                  <a:lnTo>
                    <a:pt x="3971" y="0"/>
                  </a:lnTo>
                  <a:lnTo>
                    <a:pt x="3971" y="33"/>
                  </a:lnTo>
                  <a:lnTo>
                    <a:pt x="3856" y="95"/>
                  </a:lnTo>
                  <a:close/>
                  <a:moveTo>
                    <a:pt x="110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55" y="0"/>
                  </a:lnTo>
                  <a:lnTo>
                    <a:pt x="1105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965400" y="19224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44" y="95"/>
                  </a:moveTo>
                  <a:lnTo>
                    <a:pt x="2387" y="95"/>
                  </a:lnTo>
                  <a:lnTo>
                    <a:pt x="2463" y="0"/>
                  </a:lnTo>
                  <a:lnTo>
                    <a:pt x="3971" y="0"/>
                  </a:lnTo>
                  <a:lnTo>
                    <a:pt x="3971" y="81"/>
                  </a:lnTo>
                  <a:lnTo>
                    <a:pt x="3944" y="95"/>
                  </a:lnTo>
                  <a:close/>
                  <a:moveTo>
                    <a:pt x="1130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79" y="0"/>
                  </a:lnTo>
                  <a:lnTo>
                    <a:pt x="1171" y="17"/>
                  </a:lnTo>
                  <a:lnTo>
                    <a:pt x="1130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965400" y="19098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425" y="96"/>
                  </a:lnTo>
                  <a:lnTo>
                    <a:pt x="2502" y="0"/>
                  </a:lnTo>
                  <a:lnTo>
                    <a:pt x="3971" y="0"/>
                  </a:lnTo>
                  <a:lnTo>
                    <a:pt x="3971" y="2"/>
                  </a:lnTo>
                  <a:lnTo>
                    <a:pt x="3971" y="96"/>
                  </a:lnTo>
                  <a:close/>
                  <a:moveTo>
                    <a:pt x="1155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201" y="0"/>
                  </a:lnTo>
                  <a:lnTo>
                    <a:pt x="1171" y="65"/>
                  </a:lnTo>
                  <a:lnTo>
                    <a:pt x="1155" y="96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965400" y="18972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463" y="95"/>
                  </a:lnTo>
                  <a:lnTo>
                    <a:pt x="2540" y="0"/>
                  </a:lnTo>
                  <a:lnTo>
                    <a:pt x="3971" y="0"/>
                  </a:lnTo>
                  <a:lnTo>
                    <a:pt x="3971" y="49"/>
                  </a:lnTo>
                  <a:lnTo>
                    <a:pt x="3971" y="95"/>
                  </a:lnTo>
                  <a:close/>
                  <a:moveTo>
                    <a:pt x="117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24" y="0"/>
                  </a:lnTo>
                  <a:lnTo>
                    <a:pt x="1179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965400" y="18842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02" y="95"/>
                  </a:lnTo>
                  <a:lnTo>
                    <a:pt x="2578" y="0"/>
                  </a:lnTo>
                  <a:lnTo>
                    <a:pt x="3971" y="0"/>
                  </a:lnTo>
                  <a:lnTo>
                    <a:pt x="3971" y="95"/>
                  </a:lnTo>
                  <a:close/>
                  <a:moveTo>
                    <a:pt x="120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32" y="30"/>
                  </a:lnTo>
                  <a:lnTo>
                    <a:pt x="1201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965400" y="18716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40" y="95"/>
                  </a:lnTo>
                  <a:lnTo>
                    <a:pt x="2608" y="11"/>
                  </a:lnTo>
                  <a:lnTo>
                    <a:pt x="2619" y="0"/>
                  </a:lnTo>
                  <a:lnTo>
                    <a:pt x="3971" y="0"/>
                  </a:lnTo>
                  <a:lnTo>
                    <a:pt x="3971" y="11"/>
                  </a:lnTo>
                  <a:lnTo>
                    <a:pt x="3971" y="95"/>
                  </a:lnTo>
                  <a:close/>
                  <a:moveTo>
                    <a:pt x="122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32" y="77"/>
                  </a:lnTo>
                  <a:lnTo>
                    <a:pt x="1224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965400" y="18604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78" y="95"/>
                  </a:lnTo>
                  <a:lnTo>
                    <a:pt x="2608" y="59"/>
                  </a:lnTo>
                  <a:lnTo>
                    <a:pt x="2661" y="0"/>
                  </a:lnTo>
                  <a:lnTo>
                    <a:pt x="3971" y="0"/>
                  </a:lnTo>
                  <a:lnTo>
                    <a:pt x="3971" y="59"/>
                  </a:lnTo>
                  <a:lnTo>
                    <a:pt x="3971" y="95"/>
                  </a:lnTo>
                  <a:close/>
                  <a:moveTo>
                    <a:pt x="124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97" y="0"/>
                  </a:lnTo>
                  <a:lnTo>
                    <a:pt x="1247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965400" y="18478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619" y="95"/>
                  </a:lnTo>
                  <a:lnTo>
                    <a:pt x="2672" y="35"/>
                  </a:lnTo>
                  <a:lnTo>
                    <a:pt x="2672" y="0"/>
                  </a:lnTo>
                  <a:lnTo>
                    <a:pt x="3934" y="0"/>
                  </a:lnTo>
                  <a:lnTo>
                    <a:pt x="3971" y="35"/>
                  </a:lnTo>
                  <a:lnTo>
                    <a:pt x="3971" y="95"/>
                  </a:lnTo>
                  <a:close/>
                  <a:moveTo>
                    <a:pt x="1272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40" y="0"/>
                  </a:lnTo>
                  <a:lnTo>
                    <a:pt x="1301" y="39"/>
                  </a:lnTo>
                  <a:lnTo>
                    <a:pt x="1272" y="95"/>
                  </a:lnTo>
                  <a:close/>
                </a:path>
              </a:pathLst>
            </a:custGeom>
            <a:solidFill>
              <a:srgbClr val="4f6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965400" y="1833480"/>
              <a:ext cx="1051200" cy="270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661" y="96"/>
                  </a:lnTo>
                  <a:lnTo>
                    <a:pt x="2672" y="84"/>
                  </a:lnTo>
                  <a:lnTo>
                    <a:pt x="2672" y="21"/>
                  </a:lnTo>
                  <a:lnTo>
                    <a:pt x="2692" y="0"/>
                  </a:lnTo>
                  <a:lnTo>
                    <a:pt x="3884" y="0"/>
                  </a:lnTo>
                  <a:lnTo>
                    <a:pt x="3907" y="21"/>
                  </a:lnTo>
                  <a:lnTo>
                    <a:pt x="3971" y="84"/>
                  </a:lnTo>
                  <a:lnTo>
                    <a:pt x="3971" y="96"/>
                  </a:lnTo>
                  <a:close/>
                  <a:moveTo>
                    <a:pt x="1297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365" y="0"/>
                  </a:lnTo>
                  <a:lnTo>
                    <a:pt x="1365" y="24"/>
                  </a:lnTo>
                  <a:lnTo>
                    <a:pt x="1301" y="88"/>
                  </a:lnTo>
                  <a:lnTo>
                    <a:pt x="1297" y="96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965400" y="1822320"/>
              <a:ext cx="1040040" cy="25560"/>
            </a:xfrm>
            <a:custGeom>
              <a:avLst/>
              <a:gdLst/>
              <a:ahLst/>
              <a:rect l="l" t="t" r="r" b="b"/>
              <a:pathLst>
                <a:path w="3934" h="97">
                  <a:moveTo>
                    <a:pt x="3934" y="97"/>
                  </a:moveTo>
                  <a:lnTo>
                    <a:pt x="2672" y="97"/>
                  </a:lnTo>
                  <a:lnTo>
                    <a:pt x="2672" y="69"/>
                  </a:lnTo>
                  <a:lnTo>
                    <a:pt x="2729" y="11"/>
                  </a:lnTo>
                  <a:lnTo>
                    <a:pt x="2740" y="0"/>
                  </a:lnTo>
                  <a:lnTo>
                    <a:pt x="3844" y="0"/>
                  </a:lnTo>
                  <a:lnTo>
                    <a:pt x="3844" y="11"/>
                  </a:lnTo>
                  <a:lnTo>
                    <a:pt x="3907" y="69"/>
                  </a:lnTo>
                  <a:lnTo>
                    <a:pt x="3934" y="97"/>
                  </a:lnTo>
                  <a:close/>
                  <a:moveTo>
                    <a:pt x="1340" y="97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365" y="0"/>
                  </a:lnTo>
                  <a:lnTo>
                    <a:pt x="1365" y="72"/>
                  </a:lnTo>
                  <a:lnTo>
                    <a:pt x="1340" y="97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965400" y="1809720"/>
              <a:ext cx="1027440" cy="23760"/>
            </a:xfrm>
            <a:custGeom>
              <a:avLst/>
              <a:gdLst/>
              <a:ahLst/>
              <a:rect l="l" t="t" r="r" b="b"/>
              <a:pathLst>
                <a:path w="3884" h="95">
                  <a:moveTo>
                    <a:pt x="3884" y="95"/>
                  </a:moveTo>
                  <a:lnTo>
                    <a:pt x="2692" y="95"/>
                  </a:lnTo>
                  <a:lnTo>
                    <a:pt x="2729" y="58"/>
                  </a:lnTo>
                  <a:lnTo>
                    <a:pt x="2787" y="0"/>
                  </a:lnTo>
                  <a:lnTo>
                    <a:pt x="3844" y="0"/>
                  </a:lnTo>
                  <a:lnTo>
                    <a:pt x="3844" y="58"/>
                  </a:lnTo>
                  <a:lnTo>
                    <a:pt x="3884" y="95"/>
                  </a:lnTo>
                  <a:close/>
                  <a:moveTo>
                    <a:pt x="1365" y="95"/>
                  </a:moveTo>
                  <a:lnTo>
                    <a:pt x="0" y="95"/>
                  </a:lnTo>
                  <a:lnTo>
                    <a:pt x="0" y="58"/>
                  </a:lnTo>
                  <a:lnTo>
                    <a:pt x="27" y="0"/>
                  </a:lnTo>
                  <a:lnTo>
                    <a:pt x="1365" y="0"/>
                  </a:lnTo>
                  <a:lnTo>
                    <a:pt x="1365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965400" y="1797120"/>
              <a:ext cx="1016280" cy="25200"/>
            </a:xfrm>
            <a:custGeom>
              <a:avLst/>
              <a:gdLst/>
              <a:ahLst/>
              <a:rect l="l" t="t" r="r" b="b"/>
              <a:pathLst>
                <a:path w="3840" h="95">
                  <a:moveTo>
                    <a:pt x="3840" y="95"/>
                  </a:moveTo>
                  <a:lnTo>
                    <a:pt x="2736" y="95"/>
                  </a:lnTo>
                  <a:lnTo>
                    <a:pt x="2795" y="37"/>
                  </a:lnTo>
                  <a:lnTo>
                    <a:pt x="2795" y="0"/>
                  </a:lnTo>
                  <a:lnTo>
                    <a:pt x="3737" y="0"/>
                  </a:lnTo>
                  <a:lnTo>
                    <a:pt x="3776" y="37"/>
                  </a:lnTo>
                  <a:lnTo>
                    <a:pt x="3840" y="37"/>
                  </a:lnTo>
                  <a:lnTo>
                    <a:pt x="3840" y="95"/>
                  </a:lnTo>
                  <a:close/>
                  <a:moveTo>
                    <a:pt x="1361" y="95"/>
                  </a:moveTo>
                  <a:lnTo>
                    <a:pt x="0" y="95"/>
                  </a:lnTo>
                  <a:lnTo>
                    <a:pt x="45" y="0"/>
                  </a:lnTo>
                  <a:lnTo>
                    <a:pt x="1361" y="0"/>
                  </a:lnTo>
                  <a:lnTo>
                    <a:pt x="1361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971880" y="1784520"/>
              <a:ext cx="1009800" cy="25200"/>
            </a:xfrm>
            <a:custGeom>
              <a:avLst/>
              <a:gdLst/>
              <a:ahLst/>
              <a:rect l="l" t="t" r="r" b="b"/>
              <a:pathLst>
                <a:path w="3817" h="95">
                  <a:moveTo>
                    <a:pt x="3817" y="95"/>
                  </a:moveTo>
                  <a:lnTo>
                    <a:pt x="2760" y="95"/>
                  </a:lnTo>
                  <a:lnTo>
                    <a:pt x="2772" y="84"/>
                  </a:lnTo>
                  <a:lnTo>
                    <a:pt x="2772" y="21"/>
                  </a:lnTo>
                  <a:lnTo>
                    <a:pt x="2905" y="21"/>
                  </a:lnTo>
                  <a:lnTo>
                    <a:pt x="2924" y="0"/>
                  </a:lnTo>
                  <a:lnTo>
                    <a:pt x="3601" y="0"/>
                  </a:lnTo>
                  <a:lnTo>
                    <a:pt x="3620" y="21"/>
                  </a:lnTo>
                  <a:lnTo>
                    <a:pt x="3684" y="21"/>
                  </a:lnTo>
                  <a:lnTo>
                    <a:pt x="3753" y="84"/>
                  </a:lnTo>
                  <a:lnTo>
                    <a:pt x="3817" y="84"/>
                  </a:lnTo>
                  <a:lnTo>
                    <a:pt x="3817" y="95"/>
                  </a:lnTo>
                  <a:close/>
                  <a:moveTo>
                    <a:pt x="1338" y="95"/>
                  </a:moveTo>
                  <a:lnTo>
                    <a:pt x="0" y="95"/>
                  </a:lnTo>
                  <a:lnTo>
                    <a:pt x="36" y="21"/>
                  </a:lnTo>
                  <a:lnTo>
                    <a:pt x="26" y="0"/>
                  </a:lnTo>
                  <a:lnTo>
                    <a:pt x="1327" y="0"/>
                  </a:lnTo>
                  <a:lnTo>
                    <a:pt x="1338" y="21"/>
                  </a:lnTo>
                  <a:lnTo>
                    <a:pt x="1338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973680" y="1771560"/>
              <a:ext cx="981000" cy="25560"/>
            </a:xfrm>
            <a:custGeom>
              <a:avLst/>
              <a:gdLst/>
              <a:ahLst/>
              <a:rect l="l" t="t" r="r" b="b"/>
              <a:pathLst>
                <a:path w="3712" h="95">
                  <a:moveTo>
                    <a:pt x="3712" y="95"/>
                  </a:moveTo>
                  <a:lnTo>
                    <a:pt x="2770" y="95"/>
                  </a:lnTo>
                  <a:lnTo>
                    <a:pt x="2770" y="69"/>
                  </a:lnTo>
                  <a:lnTo>
                    <a:pt x="2903" y="69"/>
                  </a:lnTo>
                  <a:lnTo>
                    <a:pt x="2965" y="0"/>
                  </a:lnTo>
                  <a:lnTo>
                    <a:pt x="3556" y="0"/>
                  </a:lnTo>
                  <a:lnTo>
                    <a:pt x="3618" y="69"/>
                  </a:lnTo>
                  <a:lnTo>
                    <a:pt x="3682" y="69"/>
                  </a:lnTo>
                  <a:lnTo>
                    <a:pt x="3712" y="95"/>
                  </a:lnTo>
                  <a:close/>
                  <a:moveTo>
                    <a:pt x="1336" y="95"/>
                  </a:moveTo>
                  <a:lnTo>
                    <a:pt x="20" y="95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36" y="69"/>
                  </a:lnTo>
                  <a:lnTo>
                    <a:pt x="1336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967200" y="1758960"/>
              <a:ext cx="957240" cy="25560"/>
            </a:xfrm>
            <a:custGeom>
              <a:avLst/>
              <a:gdLst/>
              <a:ahLst/>
              <a:rect l="l" t="t" r="r" b="b"/>
              <a:pathLst>
                <a:path w="3622" h="95">
                  <a:moveTo>
                    <a:pt x="3622" y="95"/>
                  </a:moveTo>
                  <a:lnTo>
                    <a:pt x="2945" y="95"/>
                  </a:lnTo>
                  <a:lnTo>
                    <a:pt x="2989" y="46"/>
                  </a:lnTo>
                  <a:lnTo>
                    <a:pt x="3052" y="46"/>
                  </a:lnTo>
                  <a:lnTo>
                    <a:pt x="3103" y="0"/>
                  </a:lnTo>
                  <a:lnTo>
                    <a:pt x="3394" y="0"/>
                  </a:lnTo>
                  <a:lnTo>
                    <a:pt x="3445" y="46"/>
                  </a:lnTo>
                  <a:lnTo>
                    <a:pt x="3509" y="46"/>
                  </a:lnTo>
                  <a:lnTo>
                    <a:pt x="3578" y="46"/>
                  </a:lnTo>
                  <a:lnTo>
                    <a:pt x="3622" y="95"/>
                  </a:lnTo>
                  <a:close/>
                  <a:moveTo>
                    <a:pt x="1348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4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965400" y="1746360"/>
              <a:ext cx="947880" cy="25200"/>
            </a:xfrm>
            <a:custGeom>
              <a:avLst/>
              <a:gdLst/>
              <a:ahLst/>
              <a:rect l="l" t="t" r="r" b="b"/>
              <a:pathLst>
                <a:path w="3585" h="95">
                  <a:moveTo>
                    <a:pt x="3585" y="95"/>
                  </a:moveTo>
                  <a:lnTo>
                    <a:pt x="2994" y="95"/>
                  </a:lnTo>
                  <a:lnTo>
                    <a:pt x="2995" y="94"/>
                  </a:lnTo>
                  <a:lnTo>
                    <a:pt x="3058" y="94"/>
                  </a:lnTo>
                  <a:lnTo>
                    <a:pt x="3128" y="31"/>
                  </a:lnTo>
                  <a:lnTo>
                    <a:pt x="3191" y="31"/>
                  </a:lnTo>
                  <a:lnTo>
                    <a:pt x="3261" y="31"/>
                  </a:lnTo>
                  <a:lnTo>
                    <a:pt x="3318" y="31"/>
                  </a:lnTo>
                  <a:lnTo>
                    <a:pt x="3382" y="31"/>
                  </a:lnTo>
                  <a:lnTo>
                    <a:pt x="3451" y="94"/>
                  </a:lnTo>
                  <a:lnTo>
                    <a:pt x="3515" y="94"/>
                  </a:lnTo>
                  <a:lnTo>
                    <a:pt x="3584" y="94"/>
                  </a:lnTo>
                  <a:lnTo>
                    <a:pt x="3585" y="95"/>
                  </a:lnTo>
                  <a:close/>
                  <a:moveTo>
                    <a:pt x="1331" y="95"/>
                  </a:moveTo>
                  <a:lnTo>
                    <a:pt x="29" y="95"/>
                  </a:lnTo>
                  <a:lnTo>
                    <a:pt x="0" y="33"/>
                  </a:lnTo>
                  <a:lnTo>
                    <a:pt x="21" y="0"/>
                  </a:lnTo>
                  <a:lnTo>
                    <a:pt x="1301" y="0"/>
                  </a:lnTo>
                  <a:lnTo>
                    <a:pt x="1301" y="33"/>
                  </a:lnTo>
                  <a:lnTo>
                    <a:pt x="1331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965400" y="1733400"/>
              <a:ext cx="898560" cy="25560"/>
            </a:xfrm>
            <a:custGeom>
              <a:avLst/>
              <a:gdLst/>
              <a:ahLst/>
              <a:rect l="l" t="t" r="r" b="b"/>
              <a:pathLst>
                <a:path w="3400" h="95">
                  <a:moveTo>
                    <a:pt x="3400" y="95"/>
                  </a:moveTo>
                  <a:lnTo>
                    <a:pt x="3109" y="95"/>
                  </a:lnTo>
                  <a:lnTo>
                    <a:pt x="3128" y="78"/>
                  </a:lnTo>
                  <a:lnTo>
                    <a:pt x="3191" y="78"/>
                  </a:lnTo>
                  <a:lnTo>
                    <a:pt x="3261" y="78"/>
                  </a:lnTo>
                  <a:lnTo>
                    <a:pt x="3318" y="78"/>
                  </a:lnTo>
                  <a:lnTo>
                    <a:pt x="3382" y="78"/>
                  </a:lnTo>
                  <a:lnTo>
                    <a:pt x="3400" y="95"/>
                  </a:lnTo>
                  <a:close/>
                  <a:moveTo>
                    <a:pt x="1308" y="95"/>
                  </a:moveTo>
                  <a:lnTo>
                    <a:pt x="6" y="95"/>
                  </a:lnTo>
                  <a:lnTo>
                    <a:pt x="0" y="80"/>
                  </a:lnTo>
                  <a:lnTo>
                    <a:pt x="51" y="0"/>
                  </a:lnTo>
                  <a:lnTo>
                    <a:pt x="1301" y="0"/>
                  </a:lnTo>
                  <a:lnTo>
                    <a:pt x="1301" y="17"/>
                  </a:lnTo>
                  <a:lnTo>
                    <a:pt x="1301" y="80"/>
                  </a:lnTo>
                  <a:lnTo>
                    <a:pt x="130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70440" y="1720800"/>
              <a:ext cx="338040" cy="25560"/>
            </a:xfrm>
            <a:custGeom>
              <a:avLst/>
              <a:gdLst/>
              <a:ahLst/>
              <a:rect l="l" t="t" r="r" b="b"/>
              <a:pathLst>
                <a:path w="1280" h="95">
                  <a:moveTo>
                    <a:pt x="1280" y="95"/>
                  </a:moveTo>
                  <a:lnTo>
                    <a:pt x="0" y="95"/>
                  </a:lnTo>
                  <a:lnTo>
                    <a:pt x="59" y="0"/>
                  </a:lnTo>
                  <a:lnTo>
                    <a:pt x="1280" y="0"/>
                  </a:lnTo>
                  <a:lnTo>
                    <a:pt x="1280" y="65"/>
                  </a:lnTo>
                  <a:lnTo>
                    <a:pt x="1280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978360" y="1708200"/>
              <a:ext cx="330120" cy="25200"/>
            </a:xfrm>
            <a:custGeom>
              <a:avLst/>
              <a:gdLst/>
              <a:ahLst/>
              <a:rect l="l" t="t" r="r" b="b"/>
              <a:pathLst>
                <a:path w="1250" h="96">
                  <a:moveTo>
                    <a:pt x="1250" y="96"/>
                  </a:moveTo>
                  <a:lnTo>
                    <a:pt x="0" y="96"/>
                  </a:lnTo>
                  <a:lnTo>
                    <a:pt x="60" y="0"/>
                  </a:lnTo>
                  <a:lnTo>
                    <a:pt x="1202" y="0"/>
                  </a:lnTo>
                  <a:lnTo>
                    <a:pt x="1250" y="43"/>
                  </a:lnTo>
                  <a:lnTo>
                    <a:pt x="1250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986280" y="1695600"/>
              <a:ext cx="322200" cy="2520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0" y="95"/>
                  </a:lnTo>
                  <a:lnTo>
                    <a:pt x="43" y="27"/>
                  </a:lnTo>
                  <a:lnTo>
                    <a:pt x="43" y="0"/>
                  </a:lnTo>
                  <a:lnTo>
                    <a:pt x="1152" y="0"/>
                  </a:lnTo>
                  <a:lnTo>
                    <a:pt x="1152" y="27"/>
                  </a:lnTo>
                  <a:lnTo>
                    <a:pt x="1221" y="90"/>
                  </a:lnTo>
                  <a:lnTo>
                    <a:pt x="1221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994200" y="1682640"/>
              <a:ext cx="303120" cy="25560"/>
            </a:xfrm>
            <a:custGeom>
              <a:avLst/>
              <a:gdLst/>
              <a:ahLst/>
              <a:rect l="l" t="t" r="r" b="b"/>
              <a:pathLst>
                <a:path w="1142" h="96">
                  <a:moveTo>
                    <a:pt x="1142" y="96"/>
                  </a:moveTo>
                  <a:lnTo>
                    <a:pt x="0" y="96"/>
                  </a:lnTo>
                  <a:lnTo>
                    <a:pt x="12" y="76"/>
                  </a:lnTo>
                  <a:lnTo>
                    <a:pt x="12" y="0"/>
                  </a:lnTo>
                  <a:lnTo>
                    <a:pt x="1121" y="0"/>
                  </a:lnTo>
                  <a:lnTo>
                    <a:pt x="1121" y="7"/>
                  </a:lnTo>
                  <a:lnTo>
                    <a:pt x="1121" y="76"/>
                  </a:lnTo>
                  <a:lnTo>
                    <a:pt x="1142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997440" y="167004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6">
                  <a:moveTo>
                    <a:pt x="1109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109" y="0"/>
                  </a:lnTo>
                  <a:lnTo>
                    <a:pt x="1109" y="54"/>
                  </a:lnTo>
                  <a:lnTo>
                    <a:pt x="1109" y="96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997440" y="1657440"/>
              <a:ext cx="293400" cy="2520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70" y="0"/>
                  </a:lnTo>
                  <a:lnTo>
                    <a:pt x="1109" y="41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997440" y="164448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024" y="0"/>
                  </a:lnTo>
                  <a:lnTo>
                    <a:pt x="1048" y="25"/>
                  </a:lnTo>
                  <a:lnTo>
                    <a:pt x="1109" y="88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997440" y="1631880"/>
              <a:ext cx="282600" cy="25560"/>
            </a:xfrm>
            <a:custGeom>
              <a:avLst/>
              <a:gdLst/>
              <a:ahLst/>
              <a:rect l="l" t="t" r="r" b="b"/>
              <a:pathLst>
                <a:path w="1070" h="95">
                  <a:moveTo>
                    <a:pt x="1070" y="95"/>
                  </a:moveTo>
                  <a:lnTo>
                    <a:pt x="0" y="95"/>
                  </a:lnTo>
                  <a:lnTo>
                    <a:pt x="0" y="73"/>
                  </a:lnTo>
                  <a:lnTo>
                    <a:pt x="70" y="4"/>
                  </a:lnTo>
                  <a:lnTo>
                    <a:pt x="73" y="0"/>
                  </a:lnTo>
                  <a:lnTo>
                    <a:pt x="976" y="0"/>
                  </a:lnTo>
                  <a:lnTo>
                    <a:pt x="978" y="4"/>
                  </a:lnTo>
                  <a:lnTo>
                    <a:pt x="1048" y="73"/>
                  </a:lnTo>
                  <a:lnTo>
                    <a:pt x="1070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003560" y="1620720"/>
              <a:ext cx="265320" cy="23760"/>
            </a:xfrm>
            <a:custGeom>
              <a:avLst/>
              <a:gdLst/>
              <a:ahLst/>
              <a:rect l="l" t="t" r="r" b="b"/>
              <a:pathLst>
                <a:path w="999" h="96">
                  <a:moveTo>
                    <a:pt x="999" y="96"/>
                  </a:moveTo>
                  <a:lnTo>
                    <a:pt x="0" y="96"/>
                  </a:lnTo>
                  <a:lnTo>
                    <a:pt x="45" y="52"/>
                  </a:lnTo>
                  <a:lnTo>
                    <a:pt x="95" y="0"/>
                  </a:lnTo>
                  <a:lnTo>
                    <a:pt x="904" y="0"/>
                  </a:lnTo>
                  <a:lnTo>
                    <a:pt x="953" y="52"/>
                  </a:lnTo>
                  <a:lnTo>
                    <a:pt x="999" y="96"/>
                  </a:lnTo>
                  <a:close/>
                </a:path>
              </a:pathLst>
            </a:custGeom>
            <a:solidFill>
              <a:srgbClr val="4a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016520" y="1608120"/>
              <a:ext cx="239400" cy="23760"/>
            </a:xfrm>
            <a:custGeom>
              <a:avLst/>
              <a:gdLst/>
              <a:ahLst/>
              <a:rect l="l" t="t" r="r" b="b"/>
              <a:pathLst>
                <a:path w="903" h="95">
                  <a:moveTo>
                    <a:pt x="903" y="95"/>
                  </a:moveTo>
                  <a:lnTo>
                    <a:pt x="0" y="95"/>
                  </a:lnTo>
                  <a:lnTo>
                    <a:pt x="60" y="34"/>
                  </a:lnTo>
                  <a:lnTo>
                    <a:pt x="189" y="34"/>
                  </a:lnTo>
                  <a:lnTo>
                    <a:pt x="189" y="0"/>
                  </a:lnTo>
                  <a:lnTo>
                    <a:pt x="744" y="0"/>
                  </a:lnTo>
                  <a:lnTo>
                    <a:pt x="778" y="34"/>
                  </a:lnTo>
                  <a:lnTo>
                    <a:pt x="842" y="34"/>
                  </a:lnTo>
                  <a:lnTo>
                    <a:pt x="903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29120" y="1595520"/>
              <a:ext cx="214200" cy="25200"/>
            </a:xfrm>
            <a:custGeom>
              <a:avLst/>
              <a:gdLst/>
              <a:ahLst/>
              <a:rect l="l" t="t" r="r" b="b"/>
              <a:pathLst>
                <a:path w="809" h="95">
                  <a:moveTo>
                    <a:pt x="809" y="95"/>
                  </a:moveTo>
                  <a:lnTo>
                    <a:pt x="0" y="95"/>
                  </a:lnTo>
                  <a:lnTo>
                    <a:pt x="13" y="82"/>
                  </a:lnTo>
                  <a:lnTo>
                    <a:pt x="142" y="82"/>
                  </a:lnTo>
                  <a:lnTo>
                    <a:pt x="142" y="16"/>
                  </a:lnTo>
                  <a:lnTo>
                    <a:pt x="207" y="16"/>
                  </a:lnTo>
                  <a:lnTo>
                    <a:pt x="275" y="16"/>
                  </a:lnTo>
                  <a:lnTo>
                    <a:pt x="292" y="0"/>
                  </a:lnTo>
                  <a:lnTo>
                    <a:pt x="516" y="0"/>
                  </a:lnTo>
                  <a:lnTo>
                    <a:pt x="533" y="16"/>
                  </a:lnTo>
                  <a:lnTo>
                    <a:pt x="602" y="16"/>
                  </a:lnTo>
                  <a:lnTo>
                    <a:pt x="665" y="16"/>
                  </a:lnTo>
                  <a:lnTo>
                    <a:pt x="731" y="82"/>
                  </a:lnTo>
                  <a:lnTo>
                    <a:pt x="795" y="82"/>
                  </a:lnTo>
                  <a:lnTo>
                    <a:pt x="809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67280" y="1582560"/>
              <a:ext cx="145800" cy="25560"/>
            </a:xfrm>
            <a:custGeom>
              <a:avLst/>
              <a:gdLst/>
              <a:ahLst/>
              <a:rect l="l" t="t" r="r" b="b"/>
              <a:pathLst>
                <a:path w="555" h="95">
                  <a:moveTo>
                    <a:pt x="555" y="95"/>
                  </a:moveTo>
                  <a:lnTo>
                    <a:pt x="0" y="95"/>
                  </a:lnTo>
                  <a:lnTo>
                    <a:pt x="0" y="63"/>
                  </a:lnTo>
                  <a:lnTo>
                    <a:pt x="65" y="63"/>
                  </a:lnTo>
                  <a:lnTo>
                    <a:pt x="133" y="63"/>
                  </a:lnTo>
                  <a:lnTo>
                    <a:pt x="198" y="0"/>
                  </a:lnTo>
                  <a:lnTo>
                    <a:pt x="327" y="0"/>
                  </a:lnTo>
                  <a:lnTo>
                    <a:pt x="391" y="63"/>
                  </a:lnTo>
                  <a:lnTo>
                    <a:pt x="460" y="63"/>
                  </a:lnTo>
                  <a:lnTo>
                    <a:pt x="523" y="63"/>
                  </a:lnTo>
                  <a:lnTo>
                    <a:pt x="555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106880" y="1582560"/>
              <a:ext cx="58680" cy="12960"/>
            </a:xfrm>
            <a:custGeom>
              <a:avLst/>
              <a:gdLst/>
              <a:ahLst/>
              <a:rect l="l" t="t" r="r" b="b"/>
              <a:pathLst>
                <a:path w="224" h="47">
                  <a:moveTo>
                    <a:pt x="224" y="47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77" y="0"/>
                  </a:lnTo>
                  <a:lnTo>
                    <a:pt x="224" y="47"/>
                  </a:lnTo>
                  <a:close/>
                </a:path>
              </a:pathLst>
            </a:custGeom>
            <a:solidFill>
              <a:srgbClr val="49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361040" y="3184560"/>
              <a:ext cx="155520" cy="612720"/>
            </a:xfrm>
            <a:custGeom>
              <a:avLst/>
              <a:gdLst/>
              <a:ahLst/>
              <a:rect l="l" t="t" r="r" b="b"/>
              <a:pathLst>
                <a:path w="586" h="2317">
                  <a:moveTo>
                    <a:pt x="257" y="2294"/>
                  </a:moveTo>
                  <a:lnTo>
                    <a:pt x="390" y="1907"/>
                  </a:lnTo>
                  <a:lnTo>
                    <a:pt x="459" y="1578"/>
                  </a:lnTo>
                  <a:lnTo>
                    <a:pt x="522" y="1184"/>
                  </a:lnTo>
                  <a:lnTo>
                    <a:pt x="522" y="792"/>
                  </a:lnTo>
                  <a:lnTo>
                    <a:pt x="586" y="404"/>
                  </a:lnTo>
                  <a:lnTo>
                    <a:pt x="522" y="11"/>
                  </a:lnTo>
                  <a:lnTo>
                    <a:pt x="520" y="0"/>
                  </a:lnTo>
                  <a:lnTo>
                    <a:pt x="520" y="11"/>
                  </a:lnTo>
                  <a:lnTo>
                    <a:pt x="456" y="274"/>
                  </a:lnTo>
                  <a:lnTo>
                    <a:pt x="387" y="467"/>
                  </a:lnTo>
                  <a:lnTo>
                    <a:pt x="257" y="665"/>
                  </a:lnTo>
                  <a:lnTo>
                    <a:pt x="130" y="857"/>
                  </a:lnTo>
                  <a:lnTo>
                    <a:pt x="0" y="1057"/>
                  </a:lnTo>
                  <a:lnTo>
                    <a:pt x="257" y="2294"/>
                  </a:lnTo>
                  <a:lnTo>
                    <a:pt x="257" y="2317"/>
                  </a:lnTo>
                  <a:lnTo>
                    <a:pt x="257" y="22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722760" y="1582560"/>
              <a:ext cx="1690560" cy="3227400"/>
            </a:xfrm>
            <a:custGeom>
              <a:avLst/>
              <a:gdLst/>
              <a:ahLst/>
              <a:rect l="l" t="t" r="r" b="b"/>
              <a:pathLst>
                <a:path w="6388" h="12198">
                  <a:moveTo>
                    <a:pt x="2933" y="2615"/>
                  </a:moveTo>
                  <a:lnTo>
                    <a:pt x="3195" y="2609"/>
                  </a:lnTo>
                  <a:lnTo>
                    <a:pt x="3126" y="2413"/>
                  </a:lnTo>
                  <a:lnTo>
                    <a:pt x="3126" y="2088"/>
                  </a:lnTo>
                  <a:lnTo>
                    <a:pt x="3195" y="1892"/>
                  </a:lnTo>
                  <a:lnTo>
                    <a:pt x="3195" y="1759"/>
                  </a:lnTo>
                  <a:lnTo>
                    <a:pt x="3195" y="1690"/>
                  </a:lnTo>
                  <a:lnTo>
                    <a:pt x="3195" y="1569"/>
                  </a:lnTo>
                  <a:lnTo>
                    <a:pt x="3259" y="1436"/>
                  </a:lnTo>
                  <a:lnTo>
                    <a:pt x="3524" y="1107"/>
                  </a:lnTo>
                  <a:lnTo>
                    <a:pt x="3588" y="1036"/>
                  </a:lnTo>
                  <a:lnTo>
                    <a:pt x="3588" y="973"/>
                  </a:lnTo>
                  <a:lnTo>
                    <a:pt x="3645" y="915"/>
                  </a:lnTo>
                  <a:lnTo>
                    <a:pt x="3715" y="846"/>
                  </a:lnTo>
                  <a:lnTo>
                    <a:pt x="3715" y="783"/>
                  </a:lnTo>
                  <a:lnTo>
                    <a:pt x="3848" y="783"/>
                  </a:lnTo>
                  <a:lnTo>
                    <a:pt x="3911" y="713"/>
                  </a:lnTo>
                  <a:lnTo>
                    <a:pt x="3974" y="713"/>
                  </a:lnTo>
                  <a:lnTo>
                    <a:pt x="4044" y="650"/>
                  </a:lnTo>
                  <a:lnTo>
                    <a:pt x="4107" y="650"/>
                  </a:lnTo>
                  <a:lnTo>
                    <a:pt x="4177" y="650"/>
                  </a:lnTo>
                  <a:lnTo>
                    <a:pt x="4234" y="650"/>
                  </a:lnTo>
                  <a:lnTo>
                    <a:pt x="4298" y="650"/>
                  </a:lnTo>
                  <a:lnTo>
                    <a:pt x="4367" y="713"/>
                  </a:lnTo>
                  <a:lnTo>
                    <a:pt x="4431" y="713"/>
                  </a:lnTo>
                  <a:lnTo>
                    <a:pt x="4500" y="713"/>
                  </a:lnTo>
                  <a:lnTo>
                    <a:pt x="4563" y="783"/>
                  </a:lnTo>
                  <a:lnTo>
                    <a:pt x="4627" y="783"/>
                  </a:lnTo>
                  <a:lnTo>
                    <a:pt x="4696" y="846"/>
                  </a:lnTo>
                  <a:lnTo>
                    <a:pt x="4760" y="846"/>
                  </a:lnTo>
                  <a:lnTo>
                    <a:pt x="4760" y="915"/>
                  </a:lnTo>
                  <a:lnTo>
                    <a:pt x="4823" y="973"/>
                  </a:lnTo>
                  <a:lnTo>
                    <a:pt x="4887" y="1036"/>
                  </a:lnTo>
                  <a:lnTo>
                    <a:pt x="4887" y="1107"/>
                  </a:lnTo>
                  <a:lnTo>
                    <a:pt x="4887" y="1240"/>
                  </a:lnTo>
                  <a:lnTo>
                    <a:pt x="4887" y="1367"/>
                  </a:lnTo>
                  <a:lnTo>
                    <a:pt x="4760" y="1436"/>
                  </a:lnTo>
                  <a:lnTo>
                    <a:pt x="4760" y="1892"/>
                  </a:lnTo>
                  <a:lnTo>
                    <a:pt x="4500" y="2147"/>
                  </a:lnTo>
                  <a:lnTo>
                    <a:pt x="4367" y="2216"/>
                  </a:lnTo>
                  <a:lnTo>
                    <a:pt x="4367" y="2413"/>
                  </a:lnTo>
                  <a:lnTo>
                    <a:pt x="4298" y="2476"/>
                  </a:lnTo>
                  <a:lnTo>
                    <a:pt x="4563" y="2736"/>
                  </a:lnTo>
                  <a:lnTo>
                    <a:pt x="4760" y="2869"/>
                  </a:lnTo>
                  <a:lnTo>
                    <a:pt x="4563" y="2413"/>
                  </a:lnTo>
                  <a:lnTo>
                    <a:pt x="4563" y="2343"/>
                  </a:lnTo>
                  <a:lnTo>
                    <a:pt x="4500" y="2147"/>
                  </a:lnTo>
                  <a:lnTo>
                    <a:pt x="4760" y="1892"/>
                  </a:lnTo>
                  <a:lnTo>
                    <a:pt x="4760" y="1955"/>
                  </a:lnTo>
                  <a:lnTo>
                    <a:pt x="4823" y="1955"/>
                  </a:lnTo>
                  <a:lnTo>
                    <a:pt x="4887" y="2019"/>
                  </a:lnTo>
                  <a:lnTo>
                    <a:pt x="4887" y="2088"/>
                  </a:lnTo>
                  <a:lnTo>
                    <a:pt x="4950" y="2147"/>
                  </a:lnTo>
                  <a:lnTo>
                    <a:pt x="4950" y="2216"/>
                  </a:lnTo>
                  <a:lnTo>
                    <a:pt x="5019" y="2280"/>
                  </a:lnTo>
                  <a:lnTo>
                    <a:pt x="5019" y="2672"/>
                  </a:lnTo>
                  <a:lnTo>
                    <a:pt x="5083" y="2672"/>
                  </a:lnTo>
                  <a:lnTo>
                    <a:pt x="5152" y="2932"/>
                  </a:lnTo>
                  <a:lnTo>
                    <a:pt x="5216" y="2932"/>
                  </a:lnTo>
                  <a:lnTo>
                    <a:pt x="5539" y="4106"/>
                  </a:lnTo>
                  <a:lnTo>
                    <a:pt x="5539" y="4175"/>
                  </a:lnTo>
                  <a:lnTo>
                    <a:pt x="5539" y="4239"/>
                  </a:lnTo>
                  <a:lnTo>
                    <a:pt x="5539" y="4302"/>
                  </a:lnTo>
                  <a:lnTo>
                    <a:pt x="5476" y="4435"/>
                  </a:lnTo>
                  <a:lnTo>
                    <a:pt x="5406" y="4499"/>
                  </a:lnTo>
                  <a:lnTo>
                    <a:pt x="5349" y="4562"/>
                  </a:lnTo>
                  <a:lnTo>
                    <a:pt x="5152" y="4562"/>
                  </a:lnTo>
                  <a:lnTo>
                    <a:pt x="5216" y="4562"/>
                  </a:lnTo>
                  <a:lnTo>
                    <a:pt x="5216" y="4695"/>
                  </a:lnTo>
                  <a:lnTo>
                    <a:pt x="5216" y="4758"/>
                  </a:lnTo>
                  <a:lnTo>
                    <a:pt x="5216" y="4828"/>
                  </a:lnTo>
                  <a:lnTo>
                    <a:pt x="5216" y="4891"/>
                  </a:lnTo>
                  <a:lnTo>
                    <a:pt x="5216" y="4956"/>
                  </a:lnTo>
                  <a:lnTo>
                    <a:pt x="5152" y="5025"/>
                  </a:lnTo>
                  <a:lnTo>
                    <a:pt x="5083" y="5025"/>
                  </a:lnTo>
                  <a:lnTo>
                    <a:pt x="5019" y="5025"/>
                  </a:lnTo>
                  <a:lnTo>
                    <a:pt x="4950" y="5025"/>
                  </a:lnTo>
                  <a:lnTo>
                    <a:pt x="5019" y="5412"/>
                  </a:lnTo>
                  <a:lnTo>
                    <a:pt x="5083" y="6065"/>
                  </a:lnTo>
                  <a:lnTo>
                    <a:pt x="5216" y="6719"/>
                  </a:lnTo>
                  <a:lnTo>
                    <a:pt x="5216" y="7365"/>
                  </a:lnTo>
                  <a:lnTo>
                    <a:pt x="5279" y="8019"/>
                  </a:lnTo>
                  <a:lnTo>
                    <a:pt x="5279" y="8938"/>
                  </a:lnTo>
                  <a:lnTo>
                    <a:pt x="5279" y="9128"/>
                  </a:lnTo>
                  <a:lnTo>
                    <a:pt x="5279" y="9324"/>
                  </a:lnTo>
                  <a:lnTo>
                    <a:pt x="5349" y="9591"/>
                  </a:lnTo>
                  <a:lnTo>
                    <a:pt x="5349" y="9845"/>
                  </a:lnTo>
                  <a:lnTo>
                    <a:pt x="5349" y="10110"/>
                  </a:lnTo>
                  <a:lnTo>
                    <a:pt x="5406" y="10370"/>
                  </a:lnTo>
                  <a:lnTo>
                    <a:pt x="5476" y="10631"/>
                  </a:lnTo>
                  <a:lnTo>
                    <a:pt x="5603" y="11024"/>
                  </a:lnTo>
                  <a:lnTo>
                    <a:pt x="5672" y="11220"/>
                  </a:lnTo>
                  <a:lnTo>
                    <a:pt x="5735" y="11354"/>
                  </a:lnTo>
                  <a:lnTo>
                    <a:pt x="5805" y="11475"/>
                  </a:lnTo>
                  <a:lnTo>
                    <a:pt x="5868" y="11608"/>
                  </a:lnTo>
                  <a:lnTo>
                    <a:pt x="5926" y="11677"/>
                  </a:lnTo>
                  <a:lnTo>
                    <a:pt x="6191" y="11937"/>
                  </a:lnTo>
                  <a:lnTo>
                    <a:pt x="6324" y="12006"/>
                  </a:lnTo>
                  <a:lnTo>
                    <a:pt x="6388" y="12006"/>
                  </a:lnTo>
                  <a:lnTo>
                    <a:pt x="6388" y="12127"/>
                  </a:lnTo>
                  <a:lnTo>
                    <a:pt x="5868" y="12198"/>
                  </a:lnTo>
                  <a:lnTo>
                    <a:pt x="5805" y="12127"/>
                  </a:lnTo>
                  <a:lnTo>
                    <a:pt x="5735" y="12064"/>
                  </a:lnTo>
                  <a:lnTo>
                    <a:pt x="5603" y="12064"/>
                  </a:lnTo>
                  <a:lnTo>
                    <a:pt x="5349" y="11740"/>
                  </a:lnTo>
                  <a:lnTo>
                    <a:pt x="5279" y="11804"/>
                  </a:lnTo>
                  <a:lnTo>
                    <a:pt x="5279" y="11937"/>
                  </a:lnTo>
                  <a:lnTo>
                    <a:pt x="5216" y="11937"/>
                  </a:lnTo>
                  <a:lnTo>
                    <a:pt x="5152" y="11873"/>
                  </a:lnTo>
                  <a:lnTo>
                    <a:pt x="5083" y="11804"/>
                  </a:lnTo>
                  <a:lnTo>
                    <a:pt x="5083" y="11740"/>
                  </a:lnTo>
                  <a:lnTo>
                    <a:pt x="5083" y="11677"/>
                  </a:lnTo>
                  <a:lnTo>
                    <a:pt x="5019" y="11608"/>
                  </a:lnTo>
                  <a:lnTo>
                    <a:pt x="5019" y="11475"/>
                  </a:lnTo>
                  <a:lnTo>
                    <a:pt x="5019" y="11417"/>
                  </a:lnTo>
                  <a:lnTo>
                    <a:pt x="5019" y="11354"/>
                  </a:lnTo>
                  <a:lnTo>
                    <a:pt x="5019" y="11220"/>
                  </a:lnTo>
                  <a:lnTo>
                    <a:pt x="5083" y="11151"/>
                  </a:lnTo>
                  <a:lnTo>
                    <a:pt x="5083" y="11024"/>
                  </a:lnTo>
                  <a:lnTo>
                    <a:pt x="5019" y="10891"/>
                  </a:lnTo>
                  <a:lnTo>
                    <a:pt x="5019" y="10827"/>
                  </a:lnTo>
                  <a:lnTo>
                    <a:pt x="5019" y="10764"/>
                  </a:lnTo>
                  <a:lnTo>
                    <a:pt x="4950" y="10700"/>
                  </a:lnTo>
                  <a:lnTo>
                    <a:pt x="4950" y="10568"/>
                  </a:lnTo>
                  <a:lnTo>
                    <a:pt x="4887" y="10498"/>
                  </a:lnTo>
                  <a:lnTo>
                    <a:pt x="4823" y="10370"/>
                  </a:lnTo>
                  <a:lnTo>
                    <a:pt x="4823" y="10243"/>
                  </a:lnTo>
                  <a:lnTo>
                    <a:pt x="4760" y="10110"/>
                  </a:lnTo>
                  <a:lnTo>
                    <a:pt x="4760" y="10047"/>
                  </a:lnTo>
                  <a:lnTo>
                    <a:pt x="4696" y="9914"/>
                  </a:lnTo>
                  <a:lnTo>
                    <a:pt x="4696" y="9845"/>
                  </a:lnTo>
                  <a:lnTo>
                    <a:pt x="4696" y="9724"/>
                  </a:lnTo>
                  <a:lnTo>
                    <a:pt x="3848" y="9591"/>
                  </a:lnTo>
                  <a:lnTo>
                    <a:pt x="3715" y="10370"/>
                  </a:lnTo>
                  <a:lnTo>
                    <a:pt x="3715" y="10498"/>
                  </a:lnTo>
                  <a:lnTo>
                    <a:pt x="3715" y="10568"/>
                  </a:lnTo>
                  <a:lnTo>
                    <a:pt x="3715" y="10631"/>
                  </a:lnTo>
                  <a:lnTo>
                    <a:pt x="3715" y="10764"/>
                  </a:lnTo>
                  <a:lnTo>
                    <a:pt x="3778" y="10891"/>
                  </a:lnTo>
                  <a:lnTo>
                    <a:pt x="3848" y="10954"/>
                  </a:lnTo>
                  <a:lnTo>
                    <a:pt x="4044" y="10954"/>
                  </a:lnTo>
                  <a:lnTo>
                    <a:pt x="4107" y="11024"/>
                  </a:lnTo>
                  <a:lnTo>
                    <a:pt x="4107" y="11087"/>
                  </a:lnTo>
                  <a:lnTo>
                    <a:pt x="4107" y="11151"/>
                  </a:lnTo>
                  <a:lnTo>
                    <a:pt x="4107" y="11220"/>
                  </a:lnTo>
                  <a:lnTo>
                    <a:pt x="3974" y="11283"/>
                  </a:lnTo>
                  <a:lnTo>
                    <a:pt x="3911" y="11354"/>
                  </a:lnTo>
                  <a:lnTo>
                    <a:pt x="3848" y="11417"/>
                  </a:lnTo>
                  <a:lnTo>
                    <a:pt x="3588" y="11417"/>
                  </a:lnTo>
                  <a:lnTo>
                    <a:pt x="3524" y="11544"/>
                  </a:lnTo>
                  <a:lnTo>
                    <a:pt x="3455" y="11740"/>
                  </a:lnTo>
                  <a:lnTo>
                    <a:pt x="3322" y="11544"/>
                  </a:lnTo>
                  <a:lnTo>
                    <a:pt x="3322" y="11417"/>
                  </a:lnTo>
                  <a:lnTo>
                    <a:pt x="3259" y="11354"/>
                  </a:lnTo>
                  <a:lnTo>
                    <a:pt x="3322" y="11151"/>
                  </a:lnTo>
                  <a:lnTo>
                    <a:pt x="3322" y="11024"/>
                  </a:lnTo>
                  <a:lnTo>
                    <a:pt x="3062" y="9457"/>
                  </a:lnTo>
                  <a:lnTo>
                    <a:pt x="2803" y="9261"/>
                  </a:lnTo>
                  <a:lnTo>
                    <a:pt x="2737" y="8836"/>
                  </a:lnTo>
                  <a:lnTo>
                    <a:pt x="2800" y="9264"/>
                  </a:lnTo>
                  <a:lnTo>
                    <a:pt x="3126" y="10764"/>
                  </a:lnTo>
                  <a:lnTo>
                    <a:pt x="3126" y="10893"/>
                  </a:lnTo>
                  <a:lnTo>
                    <a:pt x="3062" y="10958"/>
                  </a:lnTo>
                  <a:lnTo>
                    <a:pt x="2996" y="11027"/>
                  </a:lnTo>
                  <a:lnTo>
                    <a:pt x="2933" y="11091"/>
                  </a:lnTo>
                  <a:lnTo>
                    <a:pt x="2869" y="11091"/>
                  </a:lnTo>
                  <a:lnTo>
                    <a:pt x="2800" y="11027"/>
                  </a:lnTo>
                  <a:lnTo>
                    <a:pt x="2670" y="11027"/>
                  </a:lnTo>
                  <a:lnTo>
                    <a:pt x="2606" y="10893"/>
                  </a:lnTo>
                  <a:lnTo>
                    <a:pt x="2413" y="10893"/>
                  </a:lnTo>
                  <a:lnTo>
                    <a:pt x="2413" y="11873"/>
                  </a:lnTo>
                  <a:lnTo>
                    <a:pt x="2344" y="11873"/>
                  </a:lnTo>
                  <a:lnTo>
                    <a:pt x="2281" y="11937"/>
                  </a:lnTo>
                  <a:lnTo>
                    <a:pt x="1890" y="11937"/>
                  </a:lnTo>
                  <a:lnTo>
                    <a:pt x="1890" y="11804"/>
                  </a:lnTo>
                  <a:lnTo>
                    <a:pt x="1567" y="11804"/>
                  </a:lnTo>
                  <a:lnTo>
                    <a:pt x="1434" y="11873"/>
                  </a:lnTo>
                  <a:lnTo>
                    <a:pt x="1301" y="11804"/>
                  </a:lnTo>
                  <a:lnTo>
                    <a:pt x="1109" y="11804"/>
                  </a:lnTo>
                  <a:lnTo>
                    <a:pt x="1039" y="11804"/>
                  </a:lnTo>
                  <a:lnTo>
                    <a:pt x="979" y="11743"/>
                  </a:lnTo>
                  <a:lnTo>
                    <a:pt x="783" y="11610"/>
                  </a:lnTo>
                  <a:lnTo>
                    <a:pt x="652" y="11547"/>
                  </a:lnTo>
                  <a:lnTo>
                    <a:pt x="589" y="11477"/>
                  </a:lnTo>
                  <a:lnTo>
                    <a:pt x="520" y="11417"/>
                  </a:lnTo>
                  <a:lnTo>
                    <a:pt x="520" y="11283"/>
                  </a:lnTo>
                  <a:lnTo>
                    <a:pt x="589" y="11283"/>
                  </a:lnTo>
                  <a:lnTo>
                    <a:pt x="652" y="11220"/>
                  </a:lnTo>
                  <a:lnTo>
                    <a:pt x="1301" y="11220"/>
                  </a:lnTo>
                  <a:lnTo>
                    <a:pt x="1172" y="9457"/>
                  </a:lnTo>
                  <a:lnTo>
                    <a:pt x="1039" y="8542"/>
                  </a:lnTo>
                  <a:lnTo>
                    <a:pt x="714" y="6585"/>
                  </a:lnTo>
                  <a:lnTo>
                    <a:pt x="714" y="6002"/>
                  </a:lnTo>
                  <a:lnTo>
                    <a:pt x="783" y="5739"/>
                  </a:lnTo>
                  <a:lnTo>
                    <a:pt x="783" y="5281"/>
                  </a:lnTo>
                  <a:lnTo>
                    <a:pt x="783" y="5218"/>
                  </a:lnTo>
                  <a:lnTo>
                    <a:pt x="783" y="5154"/>
                  </a:lnTo>
                  <a:lnTo>
                    <a:pt x="783" y="5025"/>
                  </a:lnTo>
                  <a:lnTo>
                    <a:pt x="783" y="4956"/>
                  </a:lnTo>
                  <a:lnTo>
                    <a:pt x="846" y="4891"/>
                  </a:lnTo>
                  <a:lnTo>
                    <a:pt x="783" y="4758"/>
                  </a:lnTo>
                  <a:lnTo>
                    <a:pt x="589" y="4758"/>
                  </a:lnTo>
                  <a:lnTo>
                    <a:pt x="387" y="4698"/>
                  </a:lnTo>
                  <a:lnTo>
                    <a:pt x="327" y="4629"/>
                  </a:lnTo>
                  <a:lnTo>
                    <a:pt x="194" y="4566"/>
                  </a:lnTo>
                  <a:lnTo>
                    <a:pt x="130" y="4502"/>
                  </a:lnTo>
                  <a:lnTo>
                    <a:pt x="64" y="4372"/>
                  </a:lnTo>
                  <a:lnTo>
                    <a:pt x="0" y="4302"/>
                  </a:lnTo>
                  <a:lnTo>
                    <a:pt x="0" y="3912"/>
                  </a:lnTo>
                  <a:lnTo>
                    <a:pt x="64" y="3912"/>
                  </a:lnTo>
                  <a:lnTo>
                    <a:pt x="64" y="3851"/>
                  </a:lnTo>
                  <a:lnTo>
                    <a:pt x="130" y="3782"/>
                  </a:lnTo>
                  <a:lnTo>
                    <a:pt x="263" y="3649"/>
                  </a:lnTo>
                  <a:lnTo>
                    <a:pt x="327" y="3649"/>
                  </a:lnTo>
                  <a:lnTo>
                    <a:pt x="263" y="3589"/>
                  </a:lnTo>
                  <a:lnTo>
                    <a:pt x="263" y="3524"/>
                  </a:lnTo>
                  <a:lnTo>
                    <a:pt x="263" y="3455"/>
                  </a:lnTo>
                  <a:lnTo>
                    <a:pt x="652" y="3129"/>
                  </a:lnTo>
                  <a:lnTo>
                    <a:pt x="652" y="2997"/>
                  </a:lnTo>
                  <a:lnTo>
                    <a:pt x="652" y="2936"/>
                  </a:lnTo>
                  <a:lnTo>
                    <a:pt x="652" y="2872"/>
                  </a:lnTo>
                  <a:lnTo>
                    <a:pt x="714" y="2803"/>
                  </a:lnTo>
                  <a:lnTo>
                    <a:pt x="783" y="2739"/>
                  </a:lnTo>
                  <a:lnTo>
                    <a:pt x="1434" y="2088"/>
                  </a:lnTo>
                  <a:lnTo>
                    <a:pt x="1241" y="1892"/>
                  </a:lnTo>
                  <a:lnTo>
                    <a:pt x="1301" y="1826"/>
                  </a:lnTo>
                  <a:lnTo>
                    <a:pt x="1172" y="1569"/>
                  </a:lnTo>
                  <a:lnTo>
                    <a:pt x="1109" y="1569"/>
                  </a:lnTo>
                  <a:lnTo>
                    <a:pt x="1039" y="1569"/>
                  </a:lnTo>
                  <a:lnTo>
                    <a:pt x="979" y="1569"/>
                  </a:lnTo>
                  <a:lnTo>
                    <a:pt x="979" y="1499"/>
                  </a:lnTo>
                  <a:lnTo>
                    <a:pt x="916" y="1436"/>
                  </a:lnTo>
                  <a:lnTo>
                    <a:pt x="916" y="915"/>
                  </a:lnTo>
                  <a:lnTo>
                    <a:pt x="979" y="783"/>
                  </a:lnTo>
                  <a:lnTo>
                    <a:pt x="916" y="652"/>
                  </a:lnTo>
                  <a:lnTo>
                    <a:pt x="1039" y="456"/>
                  </a:lnTo>
                  <a:lnTo>
                    <a:pt x="1039" y="263"/>
                  </a:lnTo>
                  <a:lnTo>
                    <a:pt x="1109" y="194"/>
                  </a:lnTo>
                  <a:lnTo>
                    <a:pt x="1172" y="129"/>
                  </a:lnTo>
                  <a:lnTo>
                    <a:pt x="1301" y="129"/>
                  </a:lnTo>
                  <a:lnTo>
                    <a:pt x="1301" y="63"/>
                  </a:lnTo>
                  <a:lnTo>
                    <a:pt x="1366" y="63"/>
                  </a:lnTo>
                  <a:lnTo>
                    <a:pt x="1434" y="63"/>
                  </a:lnTo>
                  <a:lnTo>
                    <a:pt x="1499" y="0"/>
                  </a:lnTo>
                  <a:lnTo>
                    <a:pt x="1628" y="0"/>
                  </a:lnTo>
                  <a:lnTo>
                    <a:pt x="1692" y="63"/>
                  </a:lnTo>
                  <a:lnTo>
                    <a:pt x="1761" y="63"/>
                  </a:lnTo>
                  <a:lnTo>
                    <a:pt x="1824" y="63"/>
                  </a:lnTo>
                  <a:lnTo>
                    <a:pt x="1890" y="129"/>
                  </a:lnTo>
                  <a:lnTo>
                    <a:pt x="1954" y="129"/>
                  </a:lnTo>
                  <a:lnTo>
                    <a:pt x="2017" y="194"/>
                  </a:lnTo>
                  <a:lnTo>
                    <a:pt x="2087" y="263"/>
                  </a:lnTo>
                  <a:lnTo>
                    <a:pt x="2148" y="326"/>
                  </a:lnTo>
                  <a:lnTo>
                    <a:pt x="2148" y="387"/>
                  </a:lnTo>
                  <a:lnTo>
                    <a:pt x="2148" y="456"/>
                  </a:lnTo>
                  <a:lnTo>
                    <a:pt x="2217" y="519"/>
                  </a:lnTo>
                  <a:lnTo>
                    <a:pt x="2217" y="589"/>
                  </a:lnTo>
                  <a:lnTo>
                    <a:pt x="2217" y="652"/>
                  </a:lnTo>
                  <a:lnTo>
                    <a:pt x="2281" y="783"/>
                  </a:lnTo>
                  <a:lnTo>
                    <a:pt x="2281" y="976"/>
                  </a:lnTo>
                  <a:lnTo>
                    <a:pt x="2217" y="1040"/>
                  </a:lnTo>
                  <a:lnTo>
                    <a:pt x="2148" y="1173"/>
                  </a:lnTo>
                  <a:lnTo>
                    <a:pt x="2087" y="1303"/>
                  </a:lnTo>
                  <a:lnTo>
                    <a:pt x="2017" y="1436"/>
                  </a:lnTo>
                  <a:lnTo>
                    <a:pt x="2217" y="1763"/>
                  </a:lnTo>
                  <a:lnTo>
                    <a:pt x="2281" y="1763"/>
                  </a:lnTo>
                  <a:lnTo>
                    <a:pt x="2413" y="1826"/>
                  </a:lnTo>
                  <a:lnTo>
                    <a:pt x="2543" y="1892"/>
                  </a:lnTo>
                  <a:lnTo>
                    <a:pt x="2543" y="1955"/>
                  </a:lnTo>
                  <a:lnTo>
                    <a:pt x="2606" y="1955"/>
                  </a:lnTo>
                  <a:lnTo>
                    <a:pt x="2739" y="2088"/>
                  </a:lnTo>
                  <a:lnTo>
                    <a:pt x="2800" y="2149"/>
                  </a:lnTo>
                  <a:lnTo>
                    <a:pt x="2800" y="2219"/>
                  </a:lnTo>
                  <a:lnTo>
                    <a:pt x="2869" y="2282"/>
                  </a:lnTo>
                  <a:lnTo>
                    <a:pt x="2869" y="2346"/>
                  </a:lnTo>
                  <a:lnTo>
                    <a:pt x="2933" y="2415"/>
                  </a:lnTo>
                  <a:lnTo>
                    <a:pt x="2933" y="261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3" name=""/>
          <p:cNvSpPr/>
          <p:nvPr/>
        </p:nvSpPr>
        <p:spPr>
          <a:xfrm>
            <a:off x="2531880" y="790560"/>
            <a:ext cx="4312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SEX IS NOT DIR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4" name=""/>
          <p:cNvGrpSpPr/>
          <p:nvPr/>
        </p:nvGrpSpPr>
        <p:grpSpPr>
          <a:xfrm>
            <a:off x="2363760" y="1066680"/>
            <a:ext cx="4432320" cy="1335240"/>
            <a:chOff x="2363760" y="1066680"/>
            <a:chExt cx="4432320" cy="1335240"/>
          </a:xfrm>
        </p:grpSpPr>
        <p:sp>
          <p:nvSpPr>
            <p:cNvPr id="2715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756" y="1266"/>
                  </a:moveTo>
                  <a:lnTo>
                    <a:pt x="1164" y="1266"/>
                  </a:lnTo>
                  <a:lnTo>
                    <a:pt x="959" y="596"/>
                  </a:lnTo>
                  <a:lnTo>
                    <a:pt x="756" y="1266"/>
                  </a:lnTo>
                  <a:close/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515" y="932"/>
                  </a:moveTo>
                  <a:lnTo>
                    <a:pt x="564" y="932"/>
                  </a:lnTo>
                  <a:lnTo>
                    <a:pt x="598" y="931"/>
                  </a:lnTo>
                  <a:lnTo>
                    <a:pt x="630" y="929"/>
                  </a:lnTo>
                  <a:lnTo>
                    <a:pt x="644" y="927"/>
                  </a:lnTo>
                  <a:lnTo>
                    <a:pt x="659" y="923"/>
                  </a:lnTo>
                  <a:lnTo>
                    <a:pt x="673" y="921"/>
                  </a:lnTo>
                  <a:lnTo>
                    <a:pt x="687" y="916"/>
                  </a:lnTo>
                  <a:lnTo>
                    <a:pt x="699" y="912"/>
                  </a:lnTo>
                  <a:lnTo>
                    <a:pt x="711" y="908"/>
                  </a:lnTo>
                  <a:lnTo>
                    <a:pt x="724" y="903"/>
                  </a:lnTo>
                  <a:lnTo>
                    <a:pt x="735" y="898"/>
                  </a:lnTo>
                  <a:lnTo>
                    <a:pt x="746" y="891"/>
                  </a:lnTo>
                  <a:lnTo>
                    <a:pt x="756" y="884"/>
                  </a:lnTo>
                  <a:lnTo>
                    <a:pt x="766" y="877"/>
                  </a:lnTo>
                  <a:lnTo>
                    <a:pt x="775" y="870"/>
                  </a:lnTo>
                  <a:lnTo>
                    <a:pt x="784" y="862"/>
                  </a:lnTo>
                  <a:lnTo>
                    <a:pt x="793" y="853"/>
                  </a:lnTo>
                  <a:lnTo>
                    <a:pt x="800" y="844"/>
                  </a:lnTo>
                  <a:lnTo>
                    <a:pt x="807" y="834"/>
                  </a:lnTo>
                  <a:lnTo>
                    <a:pt x="814" y="825"/>
                  </a:lnTo>
                  <a:lnTo>
                    <a:pt x="820" y="814"/>
                  </a:lnTo>
                  <a:lnTo>
                    <a:pt x="825" y="804"/>
                  </a:lnTo>
                  <a:lnTo>
                    <a:pt x="830" y="791"/>
                  </a:lnTo>
                  <a:lnTo>
                    <a:pt x="834" y="780"/>
                  </a:lnTo>
                  <a:lnTo>
                    <a:pt x="838" y="768"/>
                  </a:lnTo>
                  <a:lnTo>
                    <a:pt x="841" y="756"/>
                  </a:lnTo>
                  <a:lnTo>
                    <a:pt x="843" y="742"/>
                  </a:lnTo>
                  <a:lnTo>
                    <a:pt x="845" y="729"/>
                  </a:lnTo>
                  <a:lnTo>
                    <a:pt x="846" y="716"/>
                  </a:lnTo>
                  <a:lnTo>
                    <a:pt x="848" y="701"/>
                  </a:lnTo>
                  <a:lnTo>
                    <a:pt x="848" y="685"/>
                  </a:lnTo>
                  <a:lnTo>
                    <a:pt x="848" y="671"/>
                  </a:lnTo>
                  <a:lnTo>
                    <a:pt x="846" y="656"/>
                  </a:lnTo>
                  <a:lnTo>
                    <a:pt x="845" y="642"/>
                  </a:lnTo>
                  <a:lnTo>
                    <a:pt x="844" y="629"/>
                  </a:lnTo>
                  <a:lnTo>
                    <a:pt x="841" y="615"/>
                  </a:lnTo>
                  <a:lnTo>
                    <a:pt x="839" y="603"/>
                  </a:lnTo>
                  <a:lnTo>
                    <a:pt x="834" y="589"/>
                  </a:lnTo>
                  <a:lnTo>
                    <a:pt x="831" y="578"/>
                  </a:lnTo>
                  <a:lnTo>
                    <a:pt x="826" y="567"/>
                  </a:lnTo>
                  <a:lnTo>
                    <a:pt x="821" y="556"/>
                  </a:lnTo>
                  <a:lnTo>
                    <a:pt x="815" y="545"/>
                  </a:lnTo>
                  <a:lnTo>
                    <a:pt x="809" y="535"/>
                  </a:lnTo>
                  <a:lnTo>
                    <a:pt x="802" y="526"/>
                  </a:lnTo>
                  <a:lnTo>
                    <a:pt x="795" y="516"/>
                  </a:lnTo>
                  <a:lnTo>
                    <a:pt x="786" y="508"/>
                  </a:lnTo>
                  <a:lnTo>
                    <a:pt x="778" y="499"/>
                  </a:lnTo>
                  <a:lnTo>
                    <a:pt x="769" y="491"/>
                  </a:lnTo>
                  <a:lnTo>
                    <a:pt x="759" y="485"/>
                  </a:lnTo>
                  <a:lnTo>
                    <a:pt x="749" y="478"/>
                  </a:lnTo>
                  <a:lnTo>
                    <a:pt x="739" y="471"/>
                  </a:lnTo>
                  <a:lnTo>
                    <a:pt x="728" y="466"/>
                  </a:lnTo>
                  <a:lnTo>
                    <a:pt x="717" y="460"/>
                  </a:lnTo>
                  <a:lnTo>
                    <a:pt x="706" y="456"/>
                  </a:lnTo>
                  <a:lnTo>
                    <a:pt x="694" y="451"/>
                  </a:lnTo>
                  <a:lnTo>
                    <a:pt x="667" y="444"/>
                  </a:lnTo>
                  <a:lnTo>
                    <a:pt x="640" y="439"/>
                  </a:lnTo>
                  <a:lnTo>
                    <a:pt x="610" y="435"/>
                  </a:lnTo>
                  <a:lnTo>
                    <a:pt x="579" y="434"/>
                  </a:lnTo>
                  <a:lnTo>
                    <a:pt x="515" y="434"/>
                  </a:lnTo>
                  <a:lnTo>
                    <a:pt x="515" y="932"/>
                  </a:lnTo>
                  <a:close/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6" y="552"/>
                  </a:moveTo>
                  <a:lnTo>
                    <a:pt x="981" y="553"/>
                  </a:lnTo>
                  <a:lnTo>
                    <a:pt x="957" y="554"/>
                  </a:lnTo>
                  <a:lnTo>
                    <a:pt x="933" y="557"/>
                  </a:lnTo>
                  <a:lnTo>
                    <a:pt x="910" y="561"/>
                  </a:lnTo>
                  <a:lnTo>
                    <a:pt x="888" y="565"/>
                  </a:lnTo>
                  <a:lnTo>
                    <a:pt x="865" y="572"/>
                  </a:lnTo>
                  <a:lnTo>
                    <a:pt x="843" y="578"/>
                  </a:lnTo>
                  <a:lnTo>
                    <a:pt x="822" y="587"/>
                  </a:lnTo>
                  <a:lnTo>
                    <a:pt x="801" y="596"/>
                  </a:lnTo>
                  <a:lnTo>
                    <a:pt x="780" y="607"/>
                  </a:lnTo>
                  <a:lnTo>
                    <a:pt x="761" y="619"/>
                  </a:lnTo>
                  <a:lnTo>
                    <a:pt x="741" y="631"/>
                  </a:lnTo>
                  <a:lnTo>
                    <a:pt x="722" y="645"/>
                  </a:lnTo>
                  <a:lnTo>
                    <a:pt x="705" y="660"/>
                  </a:lnTo>
                  <a:lnTo>
                    <a:pt x="687" y="677"/>
                  </a:lnTo>
                  <a:lnTo>
                    <a:pt x="670" y="693"/>
                  </a:lnTo>
                  <a:lnTo>
                    <a:pt x="653" y="711"/>
                  </a:lnTo>
                  <a:lnTo>
                    <a:pt x="638" y="730"/>
                  </a:lnTo>
                  <a:lnTo>
                    <a:pt x="623" y="749"/>
                  </a:lnTo>
                  <a:lnTo>
                    <a:pt x="611" y="768"/>
                  </a:lnTo>
                  <a:lnTo>
                    <a:pt x="599" y="788"/>
                  </a:lnTo>
                  <a:lnTo>
                    <a:pt x="587" y="809"/>
                  </a:lnTo>
                  <a:lnTo>
                    <a:pt x="577" y="831"/>
                  </a:lnTo>
                  <a:lnTo>
                    <a:pt x="568" y="852"/>
                  </a:lnTo>
                  <a:lnTo>
                    <a:pt x="561" y="874"/>
                  </a:lnTo>
                  <a:lnTo>
                    <a:pt x="553" y="896"/>
                  </a:lnTo>
                  <a:lnTo>
                    <a:pt x="547" y="920"/>
                  </a:lnTo>
                  <a:lnTo>
                    <a:pt x="543" y="943"/>
                  </a:lnTo>
                  <a:lnTo>
                    <a:pt x="539" y="968"/>
                  </a:lnTo>
                  <a:lnTo>
                    <a:pt x="536" y="992"/>
                  </a:lnTo>
                  <a:lnTo>
                    <a:pt x="535" y="1018"/>
                  </a:lnTo>
                  <a:lnTo>
                    <a:pt x="534" y="1044"/>
                  </a:lnTo>
                  <a:lnTo>
                    <a:pt x="535" y="1069"/>
                  </a:lnTo>
                  <a:lnTo>
                    <a:pt x="536" y="1095"/>
                  </a:lnTo>
                  <a:lnTo>
                    <a:pt x="539" y="1120"/>
                  </a:lnTo>
                  <a:lnTo>
                    <a:pt x="543" y="1144"/>
                  </a:lnTo>
                  <a:lnTo>
                    <a:pt x="547" y="1168"/>
                  </a:lnTo>
                  <a:lnTo>
                    <a:pt x="553" y="1191"/>
                  </a:lnTo>
                  <a:lnTo>
                    <a:pt x="559" y="1213"/>
                  </a:lnTo>
                  <a:lnTo>
                    <a:pt x="568" y="1236"/>
                  </a:lnTo>
                  <a:lnTo>
                    <a:pt x="577" y="1257"/>
                  </a:lnTo>
                  <a:lnTo>
                    <a:pt x="587" y="1278"/>
                  </a:lnTo>
                  <a:lnTo>
                    <a:pt x="597" y="1298"/>
                  </a:lnTo>
                  <a:lnTo>
                    <a:pt x="610" y="1318"/>
                  </a:lnTo>
                  <a:lnTo>
                    <a:pt x="623" y="1338"/>
                  </a:lnTo>
                  <a:lnTo>
                    <a:pt x="638" y="1357"/>
                  </a:lnTo>
                  <a:lnTo>
                    <a:pt x="653" y="1375"/>
                  </a:lnTo>
                  <a:lnTo>
                    <a:pt x="669" y="1393"/>
                  </a:lnTo>
                  <a:lnTo>
                    <a:pt x="687" y="1410"/>
                  </a:lnTo>
                  <a:lnTo>
                    <a:pt x="703" y="1427"/>
                  </a:lnTo>
                  <a:lnTo>
                    <a:pt x="722" y="1441"/>
                  </a:lnTo>
                  <a:lnTo>
                    <a:pt x="741" y="1454"/>
                  </a:lnTo>
                  <a:lnTo>
                    <a:pt x="760" y="1468"/>
                  </a:lnTo>
                  <a:lnTo>
                    <a:pt x="779" y="1479"/>
                  </a:lnTo>
                  <a:lnTo>
                    <a:pt x="801" y="1490"/>
                  </a:lnTo>
                  <a:lnTo>
                    <a:pt x="821" y="1499"/>
                  </a:lnTo>
                  <a:lnTo>
                    <a:pt x="842" y="1507"/>
                  </a:lnTo>
                  <a:lnTo>
                    <a:pt x="864" y="1515"/>
                  </a:lnTo>
                  <a:lnTo>
                    <a:pt x="886" y="1520"/>
                  </a:lnTo>
                  <a:lnTo>
                    <a:pt x="909" y="1526"/>
                  </a:lnTo>
                  <a:lnTo>
                    <a:pt x="932" y="1529"/>
                  </a:lnTo>
                  <a:lnTo>
                    <a:pt x="957" y="1533"/>
                  </a:lnTo>
                  <a:lnTo>
                    <a:pt x="981" y="1534"/>
                  </a:lnTo>
                  <a:lnTo>
                    <a:pt x="1006" y="1535"/>
                  </a:lnTo>
                  <a:lnTo>
                    <a:pt x="1030" y="1534"/>
                  </a:lnTo>
                  <a:lnTo>
                    <a:pt x="1055" y="1533"/>
                  </a:lnTo>
                  <a:lnTo>
                    <a:pt x="1078" y="1529"/>
                  </a:lnTo>
                  <a:lnTo>
                    <a:pt x="1102" y="1526"/>
                  </a:lnTo>
                  <a:lnTo>
                    <a:pt x="1125" y="1520"/>
                  </a:lnTo>
                  <a:lnTo>
                    <a:pt x="1148" y="1515"/>
                  </a:lnTo>
                  <a:lnTo>
                    <a:pt x="1169" y="1507"/>
                  </a:lnTo>
                  <a:lnTo>
                    <a:pt x="1190" y="1499"/>
                  </a:lnTo>
                  <a:lnTo>
                    <a:pt x="1211" y="1490"/>
                  </a:lnTo>
                  <a:lnTo>
                    <a:pt x="1231" y="1479"/>
                  </a:lnTo>
                  <a:lnTo>
                    <a:pt x="1251" y="1468"/>
                  </a:lnTo>
                  <a:lnTo>
                    <a:pt x="1270" y="1454"/>
                  </a:lnTo>
                  <a:lnTo>
                    <a:pt x="1289" y="1441"/>
                  </a:lnTo>
                  <a:lnTo>
                    <a:pt x="1307" y="1425"/>
                  </a:lnTo>
                  <a:lnTo>
                    <a:pt x="1325" y="1410"/>
                  </a:lnTo>
                  <a:lnTo>
                    <a:pt x="1343" y="1393"/>
                  </a:lnTo>
                  <a:lnTo>
                    <a:pt x="1359" y="1375"/>
                  </a:lnTo>
                  <a:lnTo>
                    <a:pt x="1374" y="1356"/>
                  </a:lnTo>
                  <a:lnTo>
                    <a:pt x="1389" y="1337"/>
                  </a:lnTo>
                  <a:lnTo>
                    <a:pt x="1402" y="1318"/>
                  </a:lnTo>
                  <a:lnTo>
                    <a:pt x="1413" y="1298"/>
                  </a:lnTo>
                  <a:lnTo>
                    <a:pt x="1426" y="1277"/>
                  </a:lnTo>
                  <a:lnTo>
                    <a:pt x="1434" y="1256"/>
                  </a:lnTo>
                  <a:lnTo>
                    <a:pt x="1445" y="1235"/>
                  </a:lnTo>
                  <a:lnTo>
                    <a:pt x="1452" y="1212"/>
                  </a:lnTo>
                  <a:lnTo>
                    <a:pt x="1459" y="1190"/>
                  </a:lnTo>
                  <a:lnTo>
                    <a:pt x="1465" y="1167"/>
                  </a:lnTo>
                  <a:lnTo>
                    <a:pt x="1469" y="1143"/>
                  </a:lnTo>
                  <a:lnTo>
                    <a:pt x="1474" y="1119"/>
                  </a:lnTo>
                  <a:lnTo>
                    <a:pt x="1476" y="1094"/>
                  </a:lnTo>
                  <a:lnTo>
                    <a:pt x="1478" y="1069"/>
                  </a:lnTo>
                  <a:lnTo>
                    <a:pt x="1478" y="1044"/>
                  </a:lnTo>
                  <a:lnTo>
                    <a:pt x="1478" y="1018"/>
                  </a:lnTo>
                  <a:lnTo>
                    <a:pt x="1476" y="992"/>
                  </a:lnTo>
                  <a:lnTo>
                    <a:pt x="1474" y="968"/>
                  </a:lnTo>
                  <a:lnTo>
                    <a:pt x="1469" y="944"/>
                  </a:lnTo>
                  <a:lnTo>
                    <a:pt x="1465" y="921"/>
                  </a:lnTo>
                  <a:lnTo>
                    <a:pt x="1459" y="898"/>
                  </a:lnTo>
                  <a:lnTo>
                    <a:pt x="1452" y="875"/>
                  </a:lnTo>
                  <a:lnTo>
                    <a:pt x="1445" y="853"/>
                  </a:lnTo>
                  <a:lnTo>
                    <a:pt x="1434" y="831"/>
                  </a:lnTo>
                  <a:lnTo>
                    <a:pt x="1426" y="811"/>
                  </a:lnTo>
                  <a:lnTo>
                    <a:pt x="1413" y="789"/>
                  </a:lnTo>
                  <a:lnTo>
                    <a:pt x="1402" y="769"/>
                  </a:lnTo>
                  <a:lnTo>
                    <a:pt x="1389" y="750"/>
                  </a:lnTo>
                  <a:lnTo>
                    <a:pt x="1374" y="731"/>
                  </a:lnTo>
                  <a:lnTo>
                    <a:pt x="1359" y="712"/>
                  </a:lnTo>
                  <a:lnTo>
                    <a:pt x="1343" y="694"/>
                  </a:lnTo>
                  <a:lnTo>
                    <a:pt x="1325" y="677"/>
                  </a:lnTo>
                  <a:lnTo>
                    <a:pt x="1307" y="661"/>
                  </a:lnTo>
                  <a:lnTo>
                    <a:pt x="1289" y="645"/>
                  </a:lnTo>
                  <a:lnTo>
                    <a:pt x="1270" y="632"/>
                  </a:lnTo>
                  <a:lnTo>
                    <a:pt x="1251" y="620"/>
                  </a:lnTo>
                  <a:lnTo>
                    <a:pt x="1231" y="607"/>
                  </a:lnTo>
                  <a:lnTo>
                    <a:pt x="1211" y="597"/>
                  </a:lnTo>
                  <a:lnTo>
                    <a:pt x="1190" y="587"/>
                  </a:lnTo>
                  <a:lnTo>
                    <a:pt x="1169" y="579"/>
                  </a:lnTo>
                  <a:lnTo>
                    <a:pt x="1148" y="572"/>
                  </a:lnTo>
                  <a:lnTo>
                    <a:pt x="1125" y="566"/>
                  </a:lnTo>
                  <a:lnTo>
                    <a:pt x="1102" y="561"/>
                  </a:lnTo>
                  <a:lnTo>
                    <a:pt x="1078" y="557"/>
                  </a:lnTo>
                  <a:lnTo>
                    <a:pt x="1055" y="554"/>
                  </a:lnTo>
                  <a:lnTo>
                    <a:pt x="1030" y="553"/>
                  </a:lnTo>
                  <a:lnTo>
                    <a:pt x="1006" y="552"/>
                  </a:lnTo>
                  <a:close/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305320" y="1849320"/>
              <a:ext cx="265320" cy="538200"/>
            </a:xfrm>
            <a:custGeom>
              <a:avLst/>
              <a:gdLst/>
              <a:ahLst/>
              <a:rect l="l" t="t" r="r" b="b"/>
              <a:pathLst>
                <a:path w="1004" h="2034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  <a:close/>
                  <a:moveTo>
                    <a:pt x="287" y="2034"/>
                  </a:moveTo>
                  <a:lnTo>
                    <a:pt x="287" y="1526"/>
                  </a:lnTo>
                  <a:lnTo>
                    <a:pt x="763" y="1526"/>
                  </a:lnTo>
                  <a:lnTo>
                    <a:pt x="763" y="2034"/>
                  </a:lnTo>
                  <a:lnTo>
                    <a:pt x="287" y="20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592440" y="1233360"/>
              <a:ext cx="108000" cy="176400"/>
            </a:xfrm>
            <a:custGeom>
              <a:avLst/>
              <a:gdLst/>
              <a:ahLst/>
              <a:rect l="l" t="t" r="r" b="b"/>
              <a:pathLst>
                <a:path w="408" h="670">
                  <a:moveTo>
                    <a:pt x="0" y="670"/>
                  </a:moveTo>
                  <a:lnTo>
                    <a:pt x="408" y="670"/>
                  </a:lnTo>
                  <a:lnTo>
                    <a:pt x="203" y="0"/>
                  </a:lnTo>
                  <a:lnTo>
                    <a:pt x="0" y="6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729400" y="1190520"/>
              <a:ext cx="88920" cy="131760"/>
            </a:xfrm>
            <a:custGeom>
              <a:avLst/>
              <a:gdLst/>
              <a:ahLst/>
              <a:rect l="l" t="t" r="r" b="b"/>
              <a:pathLst>
                <a:path w="333" h="498">
                  <a:moveTo>
                    <a:pt x="0" y="498"/>
                  </a:moveTo>
                  <a:lnTo>
                    <a:pt x="49" y="498"/>
                  </a:lnTo>
                  <a:lnTo>
                    <a:pt x="83" y="497"/>
                  </a:lnTo>
                  <a:lnTo>
                    <a:pt x="115" y="495"/>
                  </a:lnTo>
                  <a:lnTo>
                    <a:pt x="129" y="493"/>
                  </a:lnTo>
                  <a:lnTo>
                    <a:pt x="144" y="489"/>
                  </a:lnTo>
                  <a:lnTo>
                    <a:pt x="158" y="487"/>
                  </a:lnTo>
                  <a:lnTo>
                    <a:pt x="172" y="482"/>
                  </a:lnTo>
                  <a:lnTo>
                    <a:pt x="184" y="478"/>
                  </a:lnTo>
                  <a:lnTo>
                    <a:pt x="196" y="474"/>
                  </a:lnTo>
                  <a:lnTo>
                    <a:pt x="209" y="469"/>
                  </a:lnTo>
                  <a:lnTo>
                    <a:pt x="220" y="464"/>
                  </a:lnTo>
                  <a:lnTo>
                    <a:pt x="231" y="457"/>
                  </a:lnTo>
                  <a:lnTo>
                    <a:pt x="241" y="450"/>
                  </a:lnTo>
                  <a:lnTo>
                    <a:pt x="251" y="443"/>
                  </a:lnTo>
                  <a:lnTo>
                    <a:pt x="260" y="436"/>
                  </a:lnTo>
                  <a:lnTo>
                    <a:pt x="269" y="428"/>
                  </a:lnTo>
                  <a:lnTo>
                    <a:pt x="278" y="419"/>
                  </a:lnTo>
                  <a:lnTo>
                    <a:pt x="285" y="410"/>
                  </a:lnTo>
                  <a:lnTo>
                    <a:pt x="292" y="400"/>
                  </a:lnTo>
                  <a:lnTo>
                    <a:pt x="299" y="391"/>
                  </a:lnTo>
                  <a:lnTo>
                    <a:pt x="305" y="380"/>
                  </a:lnTo>
                  <a:lnTo>
                    <a:pt x="310" y="370"/>
                  </a:lnTo>
                  <a:lnTo>
                    <a:pt x="315" y="357"/>
                  </a:lnTo>
                  <a:lnTo>
                    <a:pt x="319" y="346"/>
                  </a:lnTo>
                  <a:lnTo>
                    <a:pt x="323" y="334"/>
                  </a:lnTo>
                  <a:lnTo>
                    <a:pt x="326" y="322"/>
                  </a:lnTo>
                  <a:lnTo>
                    <a:pt x="328" y="308"/>
                  </a:lnTo>
                  <a:lnTo>
                    <a:pt x="330" y="295"/>
                  </a:lnTo>
                  <a:lnTo>
                    <a:pt x="331" y="282"/>
                  </a:lnTo>
                  <a:lnTo>
                    <a:pt x="333" y="267"/>
                  </a:lnTo>
                  <a:lnTo>
                    <a:pt x="333" y="251"/>
                  </a:lnTo>
                  <a:lnTo>
                    <a:pt x="333" y="237"/>
                  </a:lnTo>
                  <a:lnTo>
                    <a:pt x="331" y="222"/>
                  </a:lnTo>
                  <a:lnTo>
                    <a:pt x="330" y="208"/>
                  </a:lnTo>
                  <a:lnTo>
                    <a:pt x="329" y="195"/>
                  </a:lnTo>
                  <a:lnTo>
                    <a:pt x="326" y="181"/>
                  </a:lnTo>
                  <a:lnTo>
                    <a:pt x="324" y="169"/>
                  </a:lnTo>
                  <a:lnTo>
                    <a:pt x="319" y="155"/>
                  </a:lnTo>
                  <a:lnTo>
                    <a:pt x="316" y="144"/>
                  </a:lnTo>
                  <a:lnTo>
                    <a:pt x="311" y="133"/>
                  </a:lnTo>
                  <a:lnTo>
                    <a:pt x="306" y="122"/>
                  </a:lnTo>
                  <a:lnTo>
                    <a:pt x="300" y="111"/>
                  </a:lnTo>
                  <a:lnTo>
                    <a:pt x="294" y="101"/>
                  </a:lnTo>
                  <a:lnTo>
                    <a:pt x="287" y="92"/>
                  </a:lnTo>
                  <a:lnTo>
                    <a:pt x="280" y="82"/>
                  </a:lnTo>
                  <a:lnTo>
                    <a:pt x="271" y="74"/>
                  </a:lnTo>
                  <a:lnTo>
                    <a:pt x="263" y="65"/>
                  </a:lnTo>
                  <a:lnTo>
                    <a:pt x="254" y="57"/>
                  </a:lnTo>
                  <a:lnTo>
                    <a:pt x="244" y="51"/>
                  </a:lnTo>
                  <a:lnTo>
                    <a:pt x="234" y="44"/>
                  </a:lnTo>
                  <a:lnTo>
                    <a:pt x="224" y="37"/>
                  </a:lnTo>
                  <a:lnTo>
                    <a:pt x="213" y="32"/>
                  </a:lnTo>
                  <a:lnTo>
                    <a:pt x="202" y="26"/>
                  </a:lnTo>
                  <a:lnTo>
                    <a:pt x="191" y="22"/>
                  </a:lnTo>
                  <a:lnTo>
                    <a:pt x="179" y="17"/>
                  </a:lnTo>
                  <a:lnTo>
                    <a:pt x="152" y="10"/>
                  </a:lnTo>
                  <a:lnTo>
                    <a:pt x="125" y="5"/>
                  </a:lnTo>
                  <a:lnTo>
                    <a:pt x="95" y="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9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087800" y="1995480"/>
              <a:ext cx="249120" cy="258840"/>
            </a:xfrm>
            <a:custGeom>
              <a:avLst/>
              <a:gdLst/>
              <a:ahLst/>
              <a:rect l="l" t="t" r="r" b="b"/>
              <a:pathLst>
                <a:path w="944" h="983">
                  <a:moveTo>
                    <a:pt x="472" y="0"/>
                  </a:moveTo>
                  <a:lnTo>
                    <a:pt x="447" y="1"/>
                  </a:lnTo>
                  <a:lnTo>
                    <a:pt x="423" y="2"/>
                  </a:lnTo>
                  <a:lnTo>
                    <a:pt x="399" y="5"/>
                  </a:lnTo>
                  <a:lnTo>
                    <a:pt x="376" y="9"/>
                  </a:lnTo>
                  <a:lnTo>
                    <a:pt x="354" y="13"/>
                  </a:lnTo>
                  <a:lnTo>
                    <a:pt x="331" y="20"/>
                  </a:lnTo>
                  <a:lnTo>
                    <a:pt x="309" y="26"/>
                  </a:lnTo>
                  <a:lnTo>
                    <a:pt x="288" y="35"/>
                  </a:lnTo>
                  <a:lnTo>
                    <a:pt x="267" y="44"/>
                  </a:lnTo>
                  <a:lnTo>
                    <a:pt x="246" y="55"/>
                  </a:lnTo>
                  <a:lnTo>
                    <a:pt x="227" y="67"/>
                  </a:lnTo>
                  <a:lnTo>
                    <a:pt x="207" y="79"/>
                  </a:lnTo>
                  <a:lnTo>
                    <a:pt x="188" y="93"/>
                  </a:lnTo>
                  <a:lnTo>
                    <a:pt x="171" y="108"/>
                  </a:lnTo>
                  <a:lnTo>
                    <a:pt x="153" y="125"/>
                  </a:lnTo>
                  <a:lnTo>
                    <a:pt x="136" y="141"/>
                  </a:lnTo>
                  <a:lnTo>
                    <a:pt x="119" y="159"/>
                  </a:lnTo>
                  <a:lnTo>
                    <a:pt x="104" y="178"/>
                  </a:lnTo>
                  <a:lnTo>
                    <a:pt x="89" y="197"/>
                  </a:lnTo>
                  <a:lnTo>
                    <a:pt x="77" y="216"/>
                  </a:lnTo>
                  <a:lnTo>
                    <a:pt x="65" y="236"/>
                  </a:lnTo>
                  <a:lnTo>
                    <a:pt x="53" y="257"/>
                  </a:lnTo>
                  <a:lnTo>
                    <a:pt x="43" y="279"/>
                  </a:lnTo>
                  <a:lnTo>
                    <a:pt x="34" y="300"/>
                  </a:lnTo>
                  <a:lnTo>
                    <a:pt x="27" y="322"/>
                  </a:lnTo>
                  <a:lnTo>
                    <a:pt x="19" y="344"/>
                  </a:lnTo>
                  <a:lnTo>
                    <a:pt x="13" y="368"/>
                  </a:lnTo>
                  <a:lnTo>
                    <a:pt x="9" y="391"/>
                  </a:lnTo>
                  <a:lnTo>
                    <a:pt x="5" y="416"/>
                  </a:lnTo>
                  <a:lnTo>
                    <a:pt x="2" y="440"/>
                  </a:lnTo>
                  <a:lnTo>
                    <a:pt x="1" y="466"/>
                  </a:lnTo>
                  <a:lnTo>
                    <a:pt x="0" y="492"/>
                  </a:lnTo>
                  <a:lnTo>
                    <a:pt x="1" y="517"/>
                  </a:lnTo>
                  <a:lnTo>
                    <a:pt x="2" y="543"/>
                  </a:lnTo>
                  <a:lnTo>
                    <a:pt x="5" y="568"/>
                  </a:lnTo>
                  <a:lnTo>
                    <a:pt x="9" y="592"/>
                  </a:lnTo>
                  <a:lnTo>
                    <a:pt x="13" y="616"/>
                  </a:lnTo>
                  <a:lnTo>
                    <a:pt x="19" y="639"/>
                  </a:lnTo>
                  <a:lnTo>
                    <a:pt x="25" y="661"/>
                  </a:lnTo>
                  <a:lnTo>
                    <a:pt x="34" y="684"/>
                  </a:lnTo>
                  <a:lnTo>
                    <a:pt x="43" y="705"/>
                  </a:lnTo>
                  <a:lnTo>
                    <a:pt x="53" y="726"/>
                  </a:lnTo>
                  <a:lnTo>
                    <a:pt x="63" y="746"/>
                  </a:lnTo>
                  <a:lnTo>
                    <a:pt x="76" y="766"/>
                  </a:lnTo>
                  <a:lnTo>
                    <a:pt x="89" y="786"/>
                  </a:lnTo>
                  <a:lnTo>
                    <a:pt x="104" y="805"/>
                  </a:lnTo>
                  <a:lnTo>
                    <a:pt x="119" y="823"/>
                  </a:lnTo>
                  <a:lnTo>
                    <a:pt x="135" y="841"/>
                  </a:lnTo>
                  <a:lnTo>
                    <a:pt x="153" y="858"/>
                  </a:lnTo>
                  <a:lnTo>
                    <a:pt x="169" y="875"/>
                  </a:lnTo>
                  <a:lnTo>
                    <a:pt x="188" y="889"/>
                  </a:lnTo>
                  <a:lnTo>
                    <a:pt x="207" y="902"/>
                  </a:lnTo>
                  <a:lnTo>
                    <a:pt x="226" y="916"/>
                  </a:lnTo>
                  <a:lnTo>
                    <a:pt x="245" y="927"/>
                  </a:lnTo>
                  <a:lnTo>
                    <a:pt x="267" y="938"/>
                  </a:lnTo>
                  <a:lnTo>
                    <a:pt x="287" y="947"/>
                  </a:lnTo>
                  <a:lnTo>
                    <a:pt x="308" y="955"/>
                  </a:lnTo>
                  <a:lnTo>
                    <a:pt x="330" y="963"/>
                  </a:lnTo>
                  <a:lnTo>
                    <a:pt x="352" y="968"/>
                  </a:lnTo>
                  <a:lnTo>
                    <a:pt x="375" y="974"/>
                  </a:lnTo>
                  <a:lnTo>
                    <a:pt x="398" y="977"/>
                  </a:lnTo>
                  <a:lnTo>
                    <a:pt x="423" y="981"/>
                  </a:lnTo>
                  <a:lnTo>
                    <a:pt x="447" y="982"/>
                  </a:lnTo>
                  <a:lnTo>
                    <a:pt x="472" y="983"/>
                  </a:lnTo>
                  <a:lnTo>
                    <a:pt x="496" y="982"/>
                  </a:lnTo>
                  <a:lnTo>
                    <a:pt x="521" y="981"/>
                  </a:lnTo>
                  <a:lnTo>
                    <a:pt x="544" y="977"/>
                  </a:lnTo>
                  <a:lnTo>
                    <a:pt x="568" y="974"/>
                  </a:lnTo>
                  <a:lnTo>
                    <a:pt x="591" y="968"/>
                  </a:lnTo>
                  <a:lnTo>
                    <a:pt x="614" y="963"/>
                  </a:lnTo>
                  <a:lnTo>
                    <a:pt x="635" y="955"/>
                  </a:lnTo>
                  <a:lnTo>
                    <a:pt x="656" y="947"/>
                  </a:lnTo>
                  <a:lnTo>
                    <a:pt x="677" y="938"/>
                  </a:lnTo>
                  <a:lnTo>
                    <a:pt x="697" y="927"/>
                  </a:lnTo>
                  <a:lnTo>
                    <a:pt x="717" y="916"/>
                  </a:lnTo>
                  <a:lnTo>
                    <a:pt x="736" y="902"/>
                  </a:lnTo>
                  <a:lnTo>
                    <a:pt x="755" y="889"/>
                  </a:lnTo>
                  <a:lnTo>
                    <a:pt x="773" y="873"/>
                  </a:lnTo>
                  <a:lnTo>
                    <a:pt x="791" y="858"/>
                  </a:lnTo>
                  <a:lnTo>
                    <a:pt x="809" y="841"/>
                  </a:lnTo>
                  <a:lnTo>
                    <a:pt x="825" y="823"/>
                  </a:lnTo>
                  <a:lnTo>
                    <a:pt x="840" y="804"/>
                  </a:lnTo>
                  <a:lnTo>
                    <a:pt x="855" y="785"/>
                  </a:lnTo>
                  <a:lnTo>
                    <a:pt x="868" y="766"/>
                  </a:lnTo>
                  <a:lnTo>
                    <a:pt x="879" y="746"/>
                  </a:lnTo>
                  <a:lnTo>
                    <a:pt x="892" y="725"/>
                  </a:lnTo>
                  <a:lnTo>
                    <a:pt x="900" y="704"/>
                  </a:lnTo>
                  <a:lnTo>
                    <a:pt x="911" y="683"/>
                  </a:lnTo>
                  <a:lnTo>
                    <a:pt x="918" y="660"/>
                  </a:lnTo>
                  <a:lnTo>
                    <a:pt x="925" y="638"/>
                  </a:lnTo>
                  <a:lnTo>
                    <a:pt x="931" y="615"/>
                  </a:lnTo>
                  <a:lnTo>
                    <a:pt x="935" y="591"/>
                  </a:lnTo>
                  <a:lnTo>
                    <a:pt x="940" y="567"/>
                  </a:lnTo>
                  <a:lnTo>
                    <a:pt x="942" y="542"/>
                  </a:lnTo>
                  <a:lnTo>
                    <a:pt x="944" y="517"/>
                  </a:lnTo>
                  <a:lnTo>
                    <a:pt x="944" y="492"/>
                  </a:lnTo>
                  <a:lnTo>
                    <a:pt x="944" y="466"/>
                  </a:lnTo>
                  <a:lnTo>
                    <a:pt x="942" y="440"/>
                  </a:lnTo>
                  <a:lnTo>
                    <a:pt x="940" y="416"/>
                  </a:lnTo>
                  <a:lnTo>
                    <a:pt x="935" y="392"/>
                  </a:lnTo>
                  <a:lnTo>
                    <a:pt x="931" y="369"/>
                  </a:lnTo>
                  <a:lnTo>
                    <a:pt x="925" y="346"/>
                  </a:lnTo>
                  <a:lnTo>
                    <a:pt x="918" y="323"/>
                  </a:lnTo>
                  <a:lnTo>
                    <a:pt x="911" y="301"/>
                  </a:lnTo>
                  <a:lnTo>
                    <a:pt x="900" y="279"/>
                  </a:lnTo>
                  <a:lnTo>
                    <a:pt x="892" y="259"/>
                  </a:lnTo>
                  <a:lnTo>
                    <a:pt x="879" y="237"/>
                  </a:lnTo>
                  <a:lnTo>
                    <a:pt x="868" y="217"/>
                  </a:lnTo>
                  <a:lnTo>
                    <a:pt x="855" y="198"/>
                  </a:lnTo>
                  <a:lnTo>
                    <a:pt x="840" y="179"/>
                  </a:lnTo>
                  <a:lnTo>
                    <a:pt x="825" y="160"/>
                  </a:lnTo>
                  <a:lnTo>
                    <a:pt x="809" y="142"/>
                  </a:lnTo>
                  <a:lnTo>
                    <a:pt x="791" y="125"/>
                  </a:lnTo>
                  <a:lnTo>
                    <a:pt x="773" y="109"/>
                  </a:lnTo>
                  <a:lnTo>
                    <a:pt x="755" y="93"/>
                  </a:lnTo>
                  <a:lnTo>
                    <a:pt x="736" y="80"/>
                  </a:lnTo>
                  <a:lnTo>
                    <a:pt x="717" y="68"/>
                  </a:lnTo>
                  <a:lnTo>
                    <a:pt x="697" y="55"/>
                  </a:lnTo>
                  <a:lnTo>
                    <a:pt x="677" y="45"/>
                  </a:lnTo>
                  <a:lnTo>
                    <a:pt x="656" y="35"/>
                  </a:lnTo>
                  <a:lnTo>
                    <a:pt x="635" y="27"/>
                  </a:lnTo>
                  <a:lnTo>
                    <a:pt x="614" y="20"/>
                  </a:lnTo>
                  <a:lnTo>
                    <a:pt x="591" y="14"/>
                  </a:lnTo>
                  <a:lnTo>
                    <a:pt x="568" y="9"/>
                  </a:lnTo>
                  <a:lnTo>
                    <a:pt x="544" y="5"/>
                  </a:lnTo>
                  <a:lnTo>
                    <a:pt x="521" y="2"/>
                  </a:lnTo>
                  <a:lnTo>
                    <a:pt x="496" y="1"/>
                  </a:lnTo>
                  <a:lnTo>
                    <a:pt x="47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305320" y="1849320"/>
              <a:ext cx="265320" cy="373320"/>
            </a:xfrm>
            <a:custGeom>
              <a:avLst/>
              <a:gdLst/>
              <a:ahLst/>
              <a:rect l="l" t="t" r="r" b="b"/>
              <a:pathLst>
                <a:path w="1004" h="1409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380200" y="2254320"/>
              <a:ext cx="126720" cy="1332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4633920" y="4319640"/>
            <a:ext cx="404640" cy="485640"/>
            <a:chOff x="4633920" y="4319640"/>
            <a:chExt cx="404640" cy="485640"/>
          </a:xfrm>
        </p:grpSpPr>
        <p:sp>
          <p:nvSpPr>
            <p:cNvPr id="2750" name=""/>
            <p:cNvSpPr/>
            <p:nvPr/>
          </p:nvSpPr>
          <p:spPr>
            <a:xfrm>
              <a:off x="4662360" y="4349880"/>
              <a:ext cx="346320" cy="426960"/>
            </a:xfrm>
            <a:custGeom>
              <a:avLst/>
              <a:gdLst/>
              <a:ahLst/>
              <a:rect l="l" t="t" r="r" b="b"/>
              <a:pathLst>
                <a:path w="1310" h="1614">
                  <a:moveTo>
                    <a:pt x="334" y="1614"/>
                  </a:moveTo>
                  <a:lnTo>
                    <a:pt x="281" y="1538"/>
                  </a:lnTo>
                  <a:lnTo>
                    <a:pt x="233" y="1459"/>
                  </a:lnTo>
                  <a:lnTo>
                    <a:pt x="188" y="1379"/>
                  </a:lnTo>
                  <a:lnTo>
                    <a:pt x="150" y="1296"/>
                  </a:lnTo>
                  <a:lnTo>
                    <a:pt x="116" y="1211"/>
                  </a:lnTo>
                  <a:lnTo>
                    <a:pt x="86" y="1127"/>
                  </a:lnTo>
                  <a:lnTo>
                    <a:pt x="60" y="1042"/>
                  </a:lnTo>
                  <a:lnTo>
                    <a:pt x="40" y="957"/>
                  </a:lnTo>
                  <a:lnTo>
                    <a:pt x="23" y="873"/>
                  </a:lnTo>
                  <a:lnTo>
                    <a:pt x="11" y="789"/>
                  </a:lnTo>
                  <a:lnTo>
                    <a:pt x="3" y="708"/>
                  </a:lnTo>
                  <a:lnTo>
                    <a:pt x="0" y="629"/>
                  </a:lnTo>
                  <a:lnTo>
                    <a:pt x="0" y="552"/>
                  </a:lnTo>
                  <a:lnTo>
                    <a:pt x="4" y="477"/>
                  </a:lnTo>
                  <a:lnTo>
                    <a:pt x="13" y="407"/>
                  </a:lnTo>
                  <a:lnTo>
                    <a:pt x="26" y="341"/>
                  </a:lnTo>
                  <a:lnTo>
                    <a:pt x="43" y="278"/>
                  </a:lnTo>
                  <a:lnTo>
                    <a:pt x="63" y="221"/>
                  </a:lnTo>
                  <a:lnTo>
                    <a:pt x="88" y="170"/>
                  </a:lnTo>
                  <a:lnTo>
                    <a:pt x="117" y="124"/>
                  </a:lnTo>
                  <a:lnTo>
                    <a:pt x="148" y="85"/>
                  </a:lnTo>
                  <a:lnTo>
                    <a:pt x="185" y="53"/>
                  </a:lnTo>
                  <a:lnTo>
                    <a:pt x="224" y="27"/>
                  </a:lnTo>
                  <a:lnTo>
                    <a:pt x="267" y="9"/>
                  </a:lnTo>
                  <a:lnTo>
                    <a:pt x="314" y="0"/>
                  </a:lnTo>
                  <a:lnTo>
                    <a:pt x="365" y="0"/>
                  </a:lnTo>
                  <a:lnTo>
                    <a:pt x="418" y="9"/>
                  </a:lnTo>
                  <a:lnTo>
                    <a:pt x="475" y="28"/>
                  </a:lnTo>
                  <a:lnTo>
                    <a:pt x="535" y="56"/>
                  </a:lnTo>
                  <a:lnTo>
                    <a:pt x="599" y="96"/>
                  </a:lnTo>
                  <a:lnTo>
                    <a:pt x="666" y="147"/>
                  </a:lnTo>
                  <a:lnTo>
                    <a:pt x="737" y="209"/>
                  </a:lnTo>
                  <a:lnTo>
                    <a:pt x="830" y="194"/>
                  </a:lnTo>
                  <a:lnTo>
                    <a:pt x="914" y="187"/>
                  </a:lnTo>
                  <a:lnTo>
                    <a:pt x="988" y="187"/>
                  </a:lnTo>
                  <a:lnTo>
                    <a:pt x="1055" y="195"/>
                  </a:lnTo>
                  <a:lnTo>
                    <a:pt x="1115" y="209"/>
                  </a:lnTo>
                  <a:lnTo>
                    <a:pt x="1165" y="230"/>
                  </a:lnTo>
                  <a:lnTo>
                    <a:pt x="1207" y="257"/>
                  </a:lnTo>
                  <a:lnTo>
                    <a:pt x="1242" y="290"/>
                  </a:lnTo>
                  <a:lnTo>
                    <a:pt x="1270" y="327"/>
                  </a:lnTo>
                  <a:lnTo>
                    <a:pt x="1290" y="370"/>
                  </a:lnTo>
                  <a:lnTo>
                    <a:pt x="1303" y="416"/>
                  </a:lnTo>
                  <a:lnTo>
                    <a:pt x="1310" y="467"/>
                  </a:lnTo>
                  <a:lnTo>
                    <a:pt x="1310" y="521"/>
                  </a:lnTo>
                  <a:lnTo>
                    <a:pt x="1303" y="577"/>
                  </a:lnTo>
                  <a:lnTo>
                    <a:pt x="1291" y="637"/>
                  </a:lnTo>
                  <a:lnTo>
                    <a:pt x="1272" y="698"/>
                  </a:lnTo>
                  <a:lnTo>
                    <a:pt x="1247" y="762"/>
                  </a:lnTo>
                  <a:lnTo>
                    <a:pt x="1217" y="825"/>
                  </a:lnTo>
                  <a:lnTo>
                    <a:pt x="1183" y="891"/>
                  </a:lnTo>
                  <a:lnTo>
                    <a:pt x="1142" y="956"/>
                  </a:lnTo>
                  <a:lnTo>
                    <a:pt x="1097" y="1022"/>
                  </a:lnTo>
                  <a:lnTo>
                    <a:pt x="1046" y="1086"/>
                  </a:lnTo>
                  <a:lnTo>
                    <a:pt x="992" y="1151"/>
                  </a:lnTo>
                  <a:lnTo>
                    <a:pt x="934" y="1214"/>
                  </a:lnTo>
                  <a:lnTo>
                    <a:pt x="870" y="1274"/>
                  </a:lnTo>
                  <a:lnTo>
                    <a:pt x="804" y="1333"/>
                  </a:lnTo>
                  <a:lnTo>
                    <a:pt x="734" y="1389"/>
                  </a:lnTo>
                  <a:lnTo>
                    <a:pt x="659" y="1442"/>
                  </a:lnTo>
                  <a:lnTo>
                    <a:pt x="582" y="1491"/>
                  </a:lnTo>
                  <a:lnTo>
                    <a:pt x="502" y="1537"/>
                  </a:lnTo>
                  <a:lnTo>
                    <a:pt x="419" y="1577"/>
                  </a:lnTo>
                  <a:lnTo>
                    <a:pt x="334" y="161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633920" y="4319640"/>
              <a:ext cx="252360" cy="473040"/>
            </a:xfrm>
            <a:custGeom>
              <a:avLst/>
              <a:gdLst/>
              <a:ahLst/>
              <a:rect l="l" t="t" r="r" b="b"/>
              <a:pathLst>
                <a:path w="957" h="1788">
                  <a:moveTo>
                    <a:pt x="825" y="212"/>
                  </a:moveTo>
                  <a:lnTo>
                    <a:pt x="922" y="240"/>
                  </a:lnTo>
                  <a:lnTo>
                    <a:pt x="883" y="204"/>
                  </a:lnTo>
                  <a:lnTo>
                    <a:pt x="845" y="172"/>
                  </a:lnTo>
                  <a:lnTo>
                    <a:pt x="808" y="143"/>
                  </a:lnTo>
                  <a:lnTo>
                    <a:pt x="770" y="115"/>
                  </a:lnTo>
                  <a:lnTo>
                    <a:pt x="733" y="92"/>
                  </a:lnTo>
                  <a:lnTo>
                    <a:pt x="698" y="70"/>
                  </a:lnTo>
                  <a:lnTo>
                    <a:pt x="662" y="51"/>
                  </a:lnTo>
                  <a:lnTo>
                    <a:pt x="625" y="36"/>
                  </a:lnTo>
                  <a:lnTo>
                    <a:pt x="590" y="24"/>
                  </a:lnTo>
                  <a:lnTo>
                    <a:pt x="554" y="13"/>
                  </a:lnTo>
                  <a:lnTo>
                    <a:pt x="518" y="6"/>
                  </a:lnTo>
                  <a:lnTo>
                    <a:pt x="485" y="1"/>
                  </a:lnTo>
                  <a:lnTo>
                    <a:pt x="465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11" y="2"/>
                  </a:lnTo>
                  <a:lnTo>
                    <a:pt x="380" y="7"/>
                  </a:lnTo>
                  <a:lnTo>
                    <a:pt x="346" y="15"/>
                  </a:lnTo>
                  <a:lnTo>
                    <a:pt x="315" y="26"/>
                  </a:lnTo>
                  <a:lnTo>
                    <a:pt x="284" y="39"/>
                  </a:lnTo>
                  <a:lnTo>
                    <a:pt x="256" y="56"/>
                  </a:lnTo>
                  <a:lnTo>
                    <a:pt x="229" y="75"/>
                  </a:lnTo>
                  <a:lnTo>
                    <a:pt x="203" y="96"/>
                  </a:lnTo>
                  <a:lnTo>
                    <a:pt x="180" y="120"/>
                  </a:lnTo>
                  <a:lnTo>
                    <a:pt x="158" y="144"/>
                  </a:lnTo>
                  <a:lnTo>
                    <a:pt x="138" y="171"/>
                  </a:lnTo>
                  <a:lnTo>
                    <a:pt x="120" y="198"/>
                  </a:lnTo>
                  <a:lnTo>
                    <a:pt x="102" y="227"/>
                  </a:lnTo>
                  <a:lnTo>
                    <a:pt x="87" y="258"/>
                  </a:lnTo>
                  <a:lnTo>
                    <a:pt x="73" y="289"/>
                  </a:lnTo>
                  <a:lnTo>
                    <a:pt x="61" y="321"/>
                  </a:lnTo>
                  <a:lnTo>
                    <a:pt x="49" y="355"/>
                  </a:lnTo>
                  <a:lnTo>
                    <a:pt x="39" y="390"/>
                  </a:lnTo>
                  <a:lnTo>
                    <a:pt x="30" y="425"/>
                  </a:lnTo>
                  <a:lnTo>
                    <a:pt x="23" y="462"/>
                  </a:lnTo>
                  <a:lnTo>
                    <a:pt x="16" y="499"/>
                  </a:lnTo>
                  <a:lnTo>
                    <a:pt x="10" y="538"/>
                  </a:lnTo>
                  <a:lnTo>
                    <a:pt x="6" y="577"/>
                  </a:lnTo>
                  <a:lnTo>
                    <a:pt x="4" y="616"/>
                  </a:lnTo>
                  <a:lnTo>
                    <a:pt x="1" y="657"/>
                  </a:lnTo>
                  <a:lnTo>
                    <a:pt x="0" y="699"/>
                  </a:lnTo>
                  <a:lnTo>
                    <a:pt x="0" y="740"/>
                  </a:lnTo>
                  <a:lnTo>
                    <a:pt x="2" y="781"/>
                  </a:lnTo>
                  <a:lnTo>
                    <a:pt x="5" y="825"/>
                  </a:lnTo>
                  <a:lnTo>
                    <a:pt x="8" y="867"/>
                  </a:lnTo>
                  <a:lnTo>
                    <a:pt x="13" y="911"/>
                  </a:lnTo>
                  <a:lnTo>
                    <a:pt x="18" y="955"/>
                  </a:lnTo>
                  <a:lnTo>
                    <a:pt x="26" y="1000"/>
                  </a:lnTo>
                  <a:lnTo>
                    <a:pt x="34" y="1045"/>
                  </a:lnTo>
                  <a:lnTo>
                    <a:pt x="44" y="1089"/>
                  </a:lnTo>
                  <a:lnTo>
                    <a:pt x="54" y="1134"/>
                  </a:lnTo>
                  <a:lnTo>
                    <a:pt x="65" y="1180"/>
                  </a:lnTo>
                  <a:lnTo>
                    <a:pt x="78" y="1224"/>
                  </a:lnTo>
                  <a:lnTo>
                    <a:pt x="92" y="1270"/>
                  </a:lnTo>
                  <a:lnTo>
                    <a:pt x="107" y="1314"/>
                  </a:lnTo>
                  <a:lnTo>
                    <a:pt x="124" y="1359"/>
                  </a:lnTo>
                  <a:lnTo>
                    <a:pt x="142" y="1404"/>
                  </a:lnTo>
                  <a:lnTo>
                    <a:pt x="160" y="1449"/>
                  </a:lnTo>
                  <a:lnTo>
                    <a:pt x="180" y="1492"/>
                  </a:lnTo>
                  <a:lnTo>
                    <a:pt x="202" y="1537"/>
                  </a:lnTo>
                  <a:lnTo>
                    <a:pt x="225" y="1579"/>
                  </a:lnTo>
                  <a:lnTo>
                    <a:pt x="248" y="1623"/>
                  </a:lnTo>
                  <a:lnTo>
                    <a:pt x="274" y="1665"/>
                  </a:lnTo>
                  <a:lnTo>
                    <a:pt x="299" y="1706"/>
                  </a:lnTo>
                  <a:lnTo>
                    <a:pt x="328" y="1748"/>
                  </a:lnTo>
                  <a:lnTo>
                    <a:pt x="357" y="1788"/>
                  </a:lnTo>
                  <a:lnTo>
                    <a:pt x="531" y="1658"/>
                  </a:lnTo>
                  <a:lnTo>
                    <a:pt x="506" y="1624"/>
                  </a:lnTo>
                  <a:lnTo>
                    <a:pt x="481" y="1588"/>
                  </a:lnTo>
                  <a:lnTo>
                    <a:pt x="459" y="1551"/>
                  </a:lnTo>
                  <a:lnTo>
                    <a:pt x="437" y="1515"/>
                  </a:lnTo>
                  <a:lnTo>
                    <a:pt x="415" y="1477"/>
                  </a:lnTo>
                  <a:lnTo>
                    <a:pt x="395" y="1439"/>
                  </a:lnTo>
                  <a:lnTo>
                    <a:pt x="376" y="1400"/>
                  </a:lnTo>
                  <a:lnTo>
                    <a:pt x="360" y="1360"/>
                  </a:lnTo>
                  <a:lnTo>
                    <a:pt x="342" y="1321"/>
                  </a:lnTo>
                  <a:lnTo>
                    <a:pt x="327" y="1282"/>
                  </a:lnTo>
                  <a:lnTo>
                    <a:pt x="313" y="1242"/>
                  </a:lnTo>
                  <a:lnTo>
                    <a:pt x="299" y="1202"/>
                  </a:lnTo>
                  <a:lnTo>
                    <a:pt x="286" y="1163"/>
                  </a:lnTo>
                  <a:lnTo>
                    <a:pt x="275" y="1123"/>
                  </a:lnTo>
                  <a:lnTo>
                    <a:pt x="265" y="1083"/>
                  </a:lnTo>
                  <a:lnTo>
                    <a:pt x="255" y="1042"/>
                  </a:lnTo>
                  <a:lnTo>
                    <a:pt x="247" y="1003"/>
                  </a:lnTo>
                  <a:lnTo>
                    <a:pt x="240" y="963"/>
                  </a:lnTo>
                  <a:lnTo>
                    <a:pt x="234" y="924"/>
                  </a:lnTo>
                  <a:lnTo>
                    <a:pt x="229" y="886"/>
                  </a:lnTo>
                  <a:lnTo>
                    <a:pt x="225" y="847"/>
                  </a:lnTo>
                  <a:lnTo>
                    <a:pt x="221" y="809"/>
                  </a:lnTo>
                  <a:lnTo>
                    <a:pt x="219" y="772"/>
                  </a:lnTo>
                  <a:lnTo>
                    <a:pt x="218" y="736"/>
                  </a:lnTo>
                  <a:lnTo>
                    <a:pt x="218" y="699"/>
                  </a:lnTo>
                  <a:lnTo>
                    <a:pt x="218" y="664"/>
                  </a:lnTo>
                  <a:lnTo>
                    <a:pt x="220" y="630"/>
                  </a:lnTo>
                  <a:lnTo>
                    <a:pt x="222" y="596"/>
                  </a:lnTo>
                  <a:lnTo>
                    <a:pt x="226" y="564"/>
                  </a:lnTo>
                  <a:lnTo>
                    <a:pt x="230" y="532"/>
                  </a:lnTo>
                  <a:lnTo>
                    <a:pt x="236" y="502"/>
                  </a:lnTo>
                  <a:lnTo>
                    <a:pt x="241" y="473"/>
                  </a:lnTo>
                  <a:lnTo>
                    <a:pt x="249" y="446"/>
                  </a:lnTo>
                  <a:lnTo>
                    <a:pt x="256" y="420"/>
                  </a:lnTo>
                  <a:lnTo>
                    <a:pt x="265" y="395"/>
                  </a:lnTo>
                  <a:lnTo>
                    <a:pt x="274" y="372"/>
                  </a:lnTo>
                  <a:lnTo>
                    <a:pt x="284" y="351"/>
                  </a:lnTo>
                  <a:lnTo>
                    <a:pt x="294" y="330"/>
                  </a:lnTo>
                  <a:lnTo>
                    <a:pt x="304" y="313"/>
                  </a:lnTo>
                  <a:lnTo>
                    <a:pt x="315" y="296"/>
                  </a:lnTo>
                  <a:lnTo>
                    <a:pt x="326" y="281"/>
                  </a:lnTo>
                  <a:lnTo>
                    <a:pt x="337" y="268"/>
                  </a:lnTo>
                  <a:lnTo>
                    <a:pt x="348" y="257"/>
                  </a:lnTo>
                  <a:lnTo>
                    <a:pt x="361" y="248"/>
                  </a:lnTo>
                  <a:lnTo>
                    <a:pt x="372" y="240"/>
                  </a:lnTo>
                  <a:lnTo>
                    <a:pt x="384" y="232"/>
                  </a:lnTo>
                  <a:lnTo>
                    <a:pt x="395" y="228"/>
                  </a:lnTo>
                  <a:lnTo>
                    <a:pt x="408" y="223"/>
                  </a:lnTo>
                  <a:lnTo>
                    <a:pt x="420" y="220"/>
                  </a:lnTo>
                  <a:lnTo>
                    <a:pt x="437" y="218"/>
                  </a:lnTo>
                  <a:lnTo>
                    <a:pt x="441" y="218"/>
                  </a:lnTo>
                  <a:lnTo>
                    <a:pt x="449" y="218"/>
                  </a:lnTo>
                  <a:lnTo>
                    <a:pt x="458" y="218"/>
                  </a:lnTo>
                  <a:lnTo>
                    <a:pt x="463" y="218"/>
                  </a:lnTo>
                  <a:lnTo>
                    <a:pt x="483" y="220"/>
                  </a:lnTo>
                  <a:lnTo>
                    <a:pt x="501" y="223"/>
                  </a:lnTo>
                  <a:lnTo>
                    <a:pt x="523" y="230"/>
                  </a:lnTo>
                  <a:lnTo>
                    <a:pt x="545" y="238"/>
                  </a:lnTo>
                  <a:lnTo>
                    <a:pt x="568" y="248"/>
                  </a:lnTo>
                  <a:lnTo>
                    <a:pt x="593" y="261"/>
                  </a:lnTo>
                  <a:lnTo>
                    <a:pt x="620" y="277"/>
                  </a:lnTo>
                  <a:lnTo>
                    <a:pt x="649" y="295"/>
                  </a:lnTo>
                  <a:lnTo>
                    <a:pt x="677" y="316"/>
                  </a:lnTo>
                  <a:lnTo>
                    <a:pt x="708" y="339"/>
                  </a:lnTo>
                  <a:lnTo>
                    <a:pt x="739" y="367"/>
                  </a:lnTo>
                  <a:lnTo>
                    <a:pt x="773" y="396"/>
                  </a:lnTo>
                  <a:lnTo>
                    <a:pt x="869" y="424"/>
                  </a:lnTo>
                  <a:lnTo>
                    <a:pt x="773" y="396"/>
                  </a:lnTo>
                  <a:lnTo>
                    <a:pt x="781" y="405"/>
                  </a:lnTo>
                  <a:lnTo>
                    <a:pt x="792" y="413"/>
                  </a:lnTo>
                  <a:lnTo>
                    <a:pt x="803" y="419"/>
                  </a:lnTo>
                  <a:lnTo>
                    <a:pt x="813" y="423"/>
                  </a:lnTo>
                  <a:lnTo>
                    <a:pt x="823" y="426"/>
                  </a:lnTo>
                  <a:lnTo>
                    <a:pt x="834" y="428"/>
                  </a:lnTo>
                  <a:lnTo>
                    <a:pt x="844" y="429"/>
                  </a:lnTo>
                  <a:lnTo>
                    <a:pt x="854" y="429"/>
                  </a:lnTo>
                  <a:lnTo>
                    <a:pt x="864" y="428"/>
                  </a:lnTo>
                  <a:lnTo>
                    <a:pt x="874" y="424"/>
                  </a:lnTo>
                  <a:lnTo>
                    <a:pt x="884" y="422"/>
                  </a:lnTo>
                  <a:lnTo>
                    <a:pt x="893" y="417"/>
                  </a:lnTo>
                  <a:lnTo>
                    <a:pt x="902" y="412"/>
                  </a:lnTo>
                  <a:lnTo>
                    <a:pt x="910" y="406"/>
                  </a:lnTo>
                  <a:lnTo>
                    <a:pt x="918" y="400"/>
                  </a:lnTo>
                  <a:lnTo>
                    <a:pt x="925" y="393"/>
                  </a:lnTo>
                  <a:lnTo>
                    <a:pt x="932" y="385"/>
                  </a:lnTo>
                  <a:lnTo>
                    <a:pt x="938" y="377"/>
                  </a:lnTo>
                  <a:lnTo>
                    <a:pt x="943" y="368"/>
                  </a:lnTo>
                  <a:lnTo>
                    <a:pt x="948" y="359"/>
                  </a:lnTo>
                  <a:lnTo>
                    <a:pt x="951" y="351"/>
                  </a:lnTo>
                  <a:lnTo>
                    <a:pt x="954" y="340"/>
                  </a:lnTo>
                  <a:lnTo>
                    <a:pt x="956" y="330"/>
                  </a:lnTo>
                  <a:lnTo>
                    <a:pt x="957" y="320"/>
                  </a:lnTo>
                  <a:lnTo>
                    <a:pt x="957" y="310"/>
                  </a:lnTo>
                  <a:lnTo>
                    <a:pt x="956" y="299"/>
                  </a:lnTo>
                  <a:lnTo>
                    <a:pt x="953" y="289"/>
                  </a:lnTo>
                  <a:lnTo>
                    <a:pt x="950" y="279"/>
                  </a:lnTo>
                  <a:lnTo>
                    <a:pt x="944" y="269"/>
                  </a:lnTo>
                  <a:lnTo>
                    <a:pt x="938" y="259"/>
                  </a:lnTo>
                  <a:lnTo>
                    <a:pt x="931" y="249"/>
                  </a:lnTo>
                  <a:lnTo>
                    <a:pt x="922" y="240"/>
                  </a:lnTo>
                  <a:lnTo>
                    <a:pt x="825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722840" y="4368960"/>
              <a:ext cx="315720" cy="436320"/>
            </a:xfrm>
            <a:custGeom>
              <a:avLst/>
              <a:gdLst/>
              <a:ahLst/>
              <a:rect l="l" t="t" r="r" b="b"/>
              <a:pathLst>
                <a:path w="1194" h="1648">
                  <a:moveTo>
                    <a:pt x="22" y="1603"/>
                  </a:moveTo>
                  <a:lnTo>
                    <a:pt x="148" y="1640"/>
                  </a:lnTo>
                  <a:lnTo>
                    <a:pt x="194" y="1621"/>
                  </a:lnTo>
                  <a:lnTo>
                    <a:pt x="239" y="1601"/>
                  </a:lnTo>
                  <a:lnTo>
                    <a:pt x="285" y="1579"/>
                  </a:lnTo>
                  <a:lnTo>
                    <a:pt x="328" y="1557"/>
                  </a:lnTo>
                  <a:lnTo>
                    <a:pt x="372" y="1533"/>
                  </a:lnTo>
                  <a:lnTo>
                    <a:pt x="414" y="1508"/>
                  </a:lnTo>
                  <a:lnTo>
                    <a:pt x="455" y="1482"/>
                  </a:lnTo>
                  <a:lnTo>
                    <a:pt x="496" y="1456"/>
                  </a:lnTo>
                  <a:lnTo>
                    <a:pt x="536" y="1428"/>
                  </a:lnTo>
                  <a:lnTo>
                    <a:pt x="574" y="1400"/>
                  </a:lnTo>
                  <a:lnTo>
                    <a:pt x="612" y="1371"/>
                  </a:lnTo>
                  <a:lnTo>
                    <a:pt x="648" y="1341"/>
                  </a:lnTo>
                  <a:lnTo>
                    <a:pt x="684" y="1309"/>
                  </a:lnTo>
                  <a:lnTo>
                    <a:pt x="719" y="1278"/>
                  </a:lnTo>
                  <a:lnTo>
                    <a:pt x="753" y="1246"/>
                  </a:lnTo>
                  <a:lnTo>
                    <a:pt x="786" y="1213"/>
                  </a:lnTo>
                  <a:lnTo>
                    <a:pt x="817" y="1180"/>
                  </a:lnTo>
                  <a:lnTo>
                    <a:pt x="848" y="1146"/>
                  </a:lnTo>
                  <a:lnTo>
                    <a:pt x="878" y="1113"/>
                  </a:lnTo>
                  <a:lnTo>
                    <a:pt x="906" y="1078"/>
                  </a:lnTo>
                  <a:lnTo>
                    <a:pt x="933" y="1045"/>
                  </a:lnTo>
                  <a:lnTo>
                    <a:pt x="960" y="1009"/>
                  </a:lnTo>
                  <a:lnTo>
                    <a:pt x="984" y="975"/>
                  </a:lnTo>
                  <a:lnTo>
                    <a:pt x="1008" y="940"/>
                  </a:lnTo>
                  <a:lnTo>
                    <a:pt x="1030" y="904"/>
                  </a:lnTo>
                  <a:lnTo>
                    <a:pt x="1051" y="869"/>
                  </a:lnTo>
                  <a:lnTo>
                    <a:pt x="1071" y="833"/>
                  </a:lnTo>
                  <a:lnTo>
                    <a:pt x="1089" y="798"/>
                  </a:lnTo>
                  <a:lnTo>
                    <a:pt x="1107" y="763"/>
                  </a:lnTo>
                  <a:lnTo>
                    <a:pt x="1123" y="728"/>
                  </a:lnTo>
                  <a:lnTo>
                    <a:pt x="1136" y="692"/>
                  </a:lnTo>
                  <a:lnTo>
                    <a:pt x="1150" y="658"/>
                  </a:lnTo>
                  <a:lnTo>
                    <a:pt x="1161" y="622"/>
                  </a:lnTo>
                  <a:lnTo>
                    <a:pt x="1171" y="587"/>
                  </a:lnTo>
                  <a:lnTo>
                    <a:pt x="1179" y="553"/>
                  </a:lnTo>
                  <a:lnTo>
                    <a:pt x="1185" y="518"/>
                  </a:lnTo>
                  <a:lnTo>
                    <a:pt x="1190" y="485"/>
                  </a:lnTo>
                  <a:lnTo>
                    <a:pt x="1193" y="451"/>
                  </a:lnTo>
                  <a:lnTo>
                    <a:pt x="1194" y="417"/>
                  </a:lnTo>
                  <a:lnTo>
                    <a:pt x="1193" y="384"/>
                  </a:lnTo>
                  <a:lnTo>
                    <a:pt x="1190" y="351"/>
                  </a:lnTo>
                  <a:lnTo>
                    <a:pt x="1185" y="318"/>
                  </a:lnTo>
                  <a:lnTo>
                    <a:pt x="1177" y="286"/>
                  </a:lnTo>
                  <a:lnTo>
                    <a:pt x="1166" y="256"/>
                  </a:lnTo>
                  <a:lnTo>
                    <a:pt x="1154" y="225"/>
                  </a:lnTo>
                  <a:lnTo>
                    <a:pt x="1138" y="196"/>
                  </a:lnTo>
                  <a:lnTo>
                    <a:pt x="1119" y="168"/>
                  </a:lnTo>
                  <a:lnTo>
                    <a:pt x="1098" y="141"/>
                  </a:lnTo>
                  <a:lnTo>
                    <a:pt x="1074" y="118"/>
                  </a:lnTo>
                  <a:lnTo>
                    <a:pt x="1048" y="94"/>
                  </a:lnTo>
                  <a:lnTo>
                    <a:pt x="1020" y="75"/>
                  </a:lnTo>
                  <a:lnTo>
                    <a:pt x="989" y="57"/>
                  </a:lnTo>
                  <a:lnTo>
                    <a:pt x="957" y="43"/>
                  </a:lnTo>
                  <a:lnTo>
                    <a:pt x="923" y="29"/>
                  </a:lnTo>
                  <a:lnTo>
                    <a:pt x="887" y="19"/>
                  </a:lnTo>
                  <a:lnTo>
                    <a:pt x="849" y="12"/>
                  </a:lnTo>
                  <a:lnTo>
                    <a:pt x="810" y="6"/>
                  </a:lnTo>
                  <a:lnTo>
                    <a:pt x="770" y="3"/>
                  </a:lnTo>
                  <a:lnTo>
                    <a:pt x="728" y="0"/>
                  </a:lnTo>
                  <a:lnTo>
                    <a:pt x="684" y="1"/>
                  </a:lnTo>
                  <a:lnTo>
                    <a:pt x="638" y="5"/>
                  </a:lnTo>
                  <a:lnTo>
                    <a:pt x="590" y="10"/>
                  </a:lnTo>
                  <a:lnTo>
                    <a:pt x="541" y="17"/>
                  </a:lnTo>
                  <a:lnTo>
                    <a:pt x="490" y="27"/>
                  </a:lnTo>
                  <a:lnTo>
                    <a:pt x="534" y="239"/>
                  </a:lnTo>
                  <a:lnTo>
                    <a:pt x="577" y="231"/>
                  </a:lnTo>
                  <a:lnTo>
                    <a:pt x="618" y="225"/>
                  </a:lnTo>
                  <a:lnTo>
                    <a:pt x="657" y="221"/>
                  </a:lnTo>
                  <a:lnTo>
                    <a:pt x="693" y="219"/>
                  </a:lnTo>
                  <a:lnTo>
                    <a:pt x="727" y="218"/>
                  </a:lnTo>
                  <a:lnTo>
                    <a:pt x="758" y="219"/>
                  </a:lnTo>
                  <a:lnTo>
                    <a:pt x="787" y="221"/>
                  </a:lnTo>
                  <a:lnTo>
                    <a:pt x="811" y="226"/>
                  </a:lnTo>
                  <a:lnTo>
                    <a:pt x="835" y="230"/>
                  </a:lnTo>
                  <a:lnTo>
                    <a:pt x="856" y="236"/>
                  </a:lnTo>
                  <a:lnTo>
                    <a:pt x="874" y="243"/>
                  </a:lnTo>
                  <a:lnTo>
                    <a:pt x="890" y="250"/>
                  </a:lnTo>
                  <a:lnTo>
                    <a:pt x="904" y="258"/>
                  </a:lnTo>
                  <a:lnTo>
                    <a:pt x="916" y="267"/>
                  </a:lnTo>
                  <a:lnTo>
                    <a:pt x="927" y="276"/>
                  </a:lnTo>
                  <a:lnTo>
                    <a:pt x="936" y="286"/>
                  </a:lnTo>
                  <a:lnTo>
                    <a:pt x="944" y="295"/>
                  </a:lnTo>
                  <a:lnTo>
                    <a:pt x="951" y="307"/>
                  </a:lnTo>
                  <a:lnTo>
                    <a:pt x="958" y="318"/>
                  </a:lnTo>
                  <a:lnTo>
                    <a:pt x="963" y="331"/>
                  </a:lnTo>
                  <a:lnTo>
                    <a:pt x="968" y="346"/>
                  </a:lnTo>
                  <a:lnTo>
                    <a:pt x="972" y="362"/>
                  </a:lnTo>
                  <a:lnTo>
                    <a:pt x="974" y="379"/>
                  </a:lnTo>
                  <a:lnTo>
                    <a:pt x="977" y="397"/>
                  </a:lnTo>
                  <a:lnTo>
                    <a:pt x="977" y="417"/>
                  </a:lnTo>
                  <a:lnTo>
                    <a:pt x="977" y="438"/>
                  </a:lnTo>
                  <a:lnTo>
                    <a:pt x="974" y="460"/>
                  </a:lnTo>
                  <a:lnTo>
                    <a:pt x="971" y="484"/>
                  </a:lnTo>
                  <a:lnTo>
                    <a:pt x="967" y="508"/>
                  </a:lnTo>
                  <a:lnTo>
                    <a:pt x="960" y="534"/>
                  </a:lnTo>
                  <a:lnTo>
                    <a:pt x="953" y="559"/>
                  </a:lnTo>
                  <a:lnTo>
                    <a:pt x="944" y="586"/>
                  </a:lnTo>
                  <a:lnTo>
                    <a:pt x="934" y="614"/>
                  </a:lnTo>
                  <a:lnTo>
                    <a:pt x="923" y="642"/>
                  </a:lnTo>
                  <a:lnTo>
                    <a:pt x="910" y="671"/>
                  </a:lnTo>
                  <a:lnTo>
                    <a:pt x="896" y="700"/>
                  </a:lnTo>
                  <a:lnTo>
                    <a:pt x="881" y="730"/>
                  </a:lnTo>
                  <a:lnTo>
                    <a:pt x="864" y="760"/>
                  </a:lnTo>
                  <a:lnTo>
                    <a:pt x="845" y="790"/>
                  </a:lnTo>
                  <a:lnTo>
                    <a:pt x="826" y="821"/>
                  </a:lnTo>
                  <a:lnTo>
                    <a:pt x="806" y="851"/>
                  </a:lnTo>
                  <a:lnTo>
                    <a:pt x="785" y="881"/>
                  </a:lnTo>
                  <a:lnTo>
                    <a:pt x="761" y="912"/>
                  </a:lnTo>
                  <a:lnTo>
                    <a:pt x="738" y="942"/>
                  </a:lnTo>
                  <a:lnTo>
                    <a:pt x="712" y="972"/>
                  </a:lnTo>
                  <a:lnTo>
                    <a:pt x="686" y="1003"/>
                  </a:lnTo>
                  <a:lnTo>
                    <a:pt x="660" y="1032"/>
                  </a:lnTo>
                  <a:lnTo>
                    <a:pt x="631" y="1062"/>
                  </a:lnTo>
                  <a:lnTo>
                    <a:pt x="602" y="1091"/>
                  </a:lnTo>
                  <a:lnTo>
                    <a:pt x="573" y="1119"/>
                  </a:lnTo>
                  <a:lnTo>
                    <a:pt x="541" y="1146"/>
                  </a:lnTo>
                  <a:lnTo>
                    <a:pt x="509" y="1173"/>
                  </a:lnTo>
                  <a:lnTo>
                    <a:pt x="477" y="1200"/>
                  </a:lnTo>
                  <a:lnTo>
                    <a:pt x="443" y="1227"/>
                  </a:lnTo>
                  <a:lnTo>
                    <a:pt x="409" y="1251"/>
                  </a:lnTo>
                  <a:lnTo>
                    <a:pt x="374" y="1276"/>
                  </a:lnTo>
                  <a:lnTo>
                    <a:pt x="338" y="1299"/>
                  </a:lnTo>
                  <a:lnTo>
                    <a:pt x="301" y="1323"/>
                  </a:lnTo>
                  <a:lnTo>
                    <a:pt x="265" y="1344"/>
                  </a:lnTo>
                  <a:lnTo>
                    <a:pt x="227" y="1365"/>
                  </a:lnTo>
                  <a:lnTo>
                    <a:pt x="189" y="1384"/>
                  </a:lnTo>
                  <a:lnTo>
                    <a:pt x="150" y="1403"/>
                  </a:lnTo>
                  <a:lnTo>
                    <a:pt x="109" y="1421"/>
                  </a:lnTo>
                  <a:lnTo>
                    <a:pt x="70" y="1437"/>
                  </a:lnTo>
                  <a:lnTo>
                    <a:pt x="196" y="1473"/>
                  </a:lnTo>
                  <a:lnTo>
                    <a:pt x="70" y="1437"/>
                  </a:lnTo>
                  <a:lnTo>
                    <a:pt x="58" y="1442"/>
                  </a:lnTo>
                  <a:lnTo>
                    <a:pt x="47" y="1449"/>
                  </a:lnTo>
                  <a:lnTo>
                    <a:pt x="37" y="1456"/>
                  </a:lnTo>
                  <a:lnTo>
                    <a:pt x="29" y="1462"/>
                  </a:lnTo>
                  <a:lnTo>
                    <a:pt x="21" y="1471"/>
                  </a:lnTo>
                  <a:lnTo>
                    <a:pt x="16" y="1479"/>
                  </a:lnTo>
                  <a:lnTo>
                    <a:pt x="10" y="1489"/>
                  </a:lnTo>
                  <a:lnTo>
                    <a:pt x="6" y="1498"/>
                  </a:lnTo>
                  <a:lnTo>
                    <a:pt x="3" y="1508"/>
                  </a:lnTo>
                  <a:lnTo>
                    <a:pt x="1" y="1517"/>
                  </a:lnTo>
                  <a:lnTo>
                    <a:pt x="0" y="1528"/>
                  </a:lnTo>
                  <a:lnTo>
                    <a:pt x="0" y="1538"/>
                  </a:lnTo>
                  <a:lnTo>
                    <a:pt x="0" y="1548"/>
                  </a:lnTo>
                  <a:lnTo>
                    <a:pt x="2" y="1558"/>
                  </a:lnTo>
                  <a:lnTo>
                    <a:pt x="5" y="1567"/>
                  </a:lnTo>
                  <a:lnTo>
                    <a:pt x="8" y="1577"/>
                  </a:lnTo>
                  <a:lnTo>
                    <a:pt x="11" y="1586"/>
                  </a:lnTo>
                  <a:lnTo>
                    <a:pt x="17" y="1595"/>
                  </a:lnTo>
                  <a:lnTo>
                    <a:pt x="22" y="1604"/>
                  </a:lnTo>
                  <a:lnTo>
                    <a:pt x="28" y="1612"/>
                  </a:lnTo>
                  <a:lnTo>
                    <a:pt x="36" y="1620"/>
                  </a:lnTo>
                  <a:lnTo>
                    <a:pt x="42" y="1626"/>
                  </a:lnTo>
                  <a:lnTo>
                    <a:pt x="51" y="1632"/>
                  </a:lnTo>
                  <a:lnTo>
                    <a:pt x="60" y="1638"/>
                  </a:lnTo>
                  <a:lnTo>
                    <a:pt x="69" y="1641"/>
                  </a:lnTo>
                  <a:lnTo>
                    <a:pt x="79" y="1644"/>
                  </a:lnTo>
                  <a:lnTo>
                    <a:pt x="89" y="1646"/>
                  </a:lnTo>
                  <a:lnTo>
                    <a:pt x="101" y="1648"/>
                  </a:lnTo>
                  <a:lnTo>
                    <a:pt x="112" y="1648"/>
                  </a:lnTo>
                  <a:lnTo>
                    <a:pt x="123" y="1646"/>
                  </a:lnTo>
                  <a:lnTo>
                    <a:pt x="135" y="1643"/>
                  </a:lnTo>
                  <a:lnTo>
                    <a:pt x="148" y="1640"/>
                  </a:lnTo>
                  <a:lnTo>
                    <a:pt x="22" y="1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5111640" y="4044960"/>
            <a:ext cx="473040" cy="563400"/>
            <a:chOff x="5111640" y="4044960"/>
            <a:chExt cx="473040" cy="563400"/>
          </a:xfrm>
        </p:grpSpPr>
        <p:sp>
          <p:nvSpPr>
            <p:cNvPr id="2754" name=""/>
            <p:cNvSpPr/>
            <p:nvPr/>
          </p:nvSpPr>
          <p:spPr>
            <a:xfrm>
              <a:off x="5140440" y="4073400"/>
              <a:ext cx="414360" cy="505080"/>
            </a:xfrm>
            <a:custGeom>
              <a:avLst/>
              <a:gdLst/>
              <a:ahLst/>
              <a:rect l="l" t="t" r="r" b="b"/>
              <a:pathLst>
                <a:path w="1569" h="1912">
                  <a:moveTo>
                    <a:pt x="858" y="1912"/>
                  </a:moveTo>
                  <a:lnTo>
                    <a:pt x="768" y="1846"/>
                  </a:lnTo>
                  <a:lnTo>
                    <a:pt x="681" y="1776"/>
                  </a:lnTo>
                  <a:lnTo>
                    <a:pt x="600" y="1700"/>
                  </a:lnTo>
                  <a:lnTo>
                    <a:pt x="523" y="1621"/>
                  </a:lnTo>
                  <a:lnTo>
                    <a:pt x="450" y="1539"/>
                  </a:lnTo>
                  <a:lnTo>
                    <a:pt x="383" y="1453"/>
                  </a:lnTo>
                  <a:lnTo>
                    <a:pt x="321" y="1366"/>
                  </a:lnTo>
                  <a:lnTo>
                    <a:pt x="264" y="1278"/>
                  </a:lnTo>
                  <a:lnTo>
                    <a:pt x="211" y="1188"/>
                  </a:lnTo>
                  <a:lnTo>
                    <a:pt x="164" y="1097"/>
                  </a:lnTo>
                  <a:lnTo>
                    <a:pt x="124" y="1008"/>
                  </a:lnTo>
                  <a:lnTo>
                    <a:pt x="88" y="919"/>
                  </a:lnTo>
                  <a:lnTo>
                    <a:pt x="58" y="830"/>
                  </a:lnTo>
                  <a:lnTo>
                    <a:pt x="35" y="743"/>
                  </a:lnTo>
                  <a:lnTo>
                    <a:pt x="17" y="660"/>
                  </a:lnTo>
                  <a:lnTo>
                    <a:pt x="6" y="579"/>
                  </a:lnTo>
                  <a:lnTo>
                    <a:pt x="0" y="501"/>
                  </a:lnTo>
                  <a:lnTo>
                    <a:pt x="1" y="429"/>
                  </a:lnTo>
                  <a:lnTo>
                    <a:pt x="9" y="359"/>
                  </a:lnTo>
                  <a:lnTo>
                    <a:pt x="24" y="296"/>
                  </a:lnTo>
                  <a:lnTo>
                    <a:pt x="45" y="239"/>
                  </a:lnTo>
                  <a:lnTo>
                    <a:pt x="74" y="188"/>
                  </a:lnTo>
                  <a:lnTo>
                    <a:pt x="109" y="143"/>
                  </a:lnTo>
                  <a:lnTo>
                    <a:pt x="151" y="106"/>
                  </a:lnTo>
                  <a:lnTo>
                    <a:pt x="201" y="77"/>
                  </a:lnTo>
                  <a:lnTo>
                    <a:pt x="258" y="57"/>
                  </a:lnTo>
                  <a:lnTo>
                    <a:pt x="323" y="47"/>
                  </a:lnTo>
                  <a:lnTo>
                    <a:pt x="395" y="45"/>
                  </a:lnTo>
                  <a:lnTo>
                    <a:pt x="476" y="55"/>
                  </a:lnTo>
                  <a:lnTo>
                    <a:pt x="565" y="75"/>
                  </a:lnTo>
                  <a:lnTo>
                    <a:pt x="661" y="106"/>
                  </a:lnTo>
                  <a:lnTo>
                    <a:pt x="766" y="150"/>
                  </a:lnTo>
                  <a:lnTo>
                    <a:pt x="866" y="95"/>
                  </a:lnTo>
                  <a:lnTo>
                    <a:pt x="959" y="54"/>
                  </a:lnTo>
                  <a:lnTo>
                    <a:pt x="1045" y="25"/>
                  </a:lnTo>
                  <a:lnTo>
                    <a:pt x="1124" y="7"/>
                  </a:lnTo>
                  <a:lnTo>
                    <a:pt x="1197" y="0"/>
                  </a:lnTo>
                  <a:lnTo>
                    <a:pt x="1262" y="5"/>
                  </a:lnTo>
                  <a:lnTo>
                    <a:pt x="1322" y="19"/>
                  </a:lnTo>
                  <a:lnTo>
                    <a:pt x="1375" y="43"/>
                  </a:lnTo>
                  <a:lnTo>
                    <a:pt x="1421" y="74"/>
                  </a:lnTo>
                  <a:lnTo>
                    <a:pt x="1461" y="115"/>
                  </a:lnTo>
                  <a:lnTo>
                    <a:pt x="1495" y="163"/>
                  </a:lnTo>
                  <a:lnTo>
                    <a:pt x="1521" y="218"/>
                  </a:lnTo>
                  <a:lnTo>
                    <a:pt x="1543" y="279"/>
                  </a:lnTo>
                  <a:lnTo>
                    <a:pt x="1557" y="347"/>
                  </a:lnTo>
                  <a:lnTo>
                    <a:pt x="1566" y="420"/>
                  </a:lnTo>
                  <a:lnTo>
                    <a:pt x="1569" y="497"/>
                  </a:lnTo>
                  <a:lnTo>
                    <a:pt x="1566" y="578"/>
                  </a:lnTo>
                  <a:lnTo>
                    <a:pt x="1557" y="664"/>
                  </a:lnTo>
                  <a:lnTo>
                    <a:pt x="1543" y="752"/>
                  </a:lnTo>
                  <a:lnTo>
                    <a:pt x="1523" y="843"/>
                  </a:lnTo>
                  <a:lnTo>
                    <a:pt x="1497" y="935"/>
                  </a:lnTo>
                  <a:lnTo>
                    <a:pt x="1464" y="1029"/>
                  </a:lnTo>
                  <a:lnTo>
                    <a:pt x="1428" y="1124"/>
                  </a:lnTo>
                  <a:lnTo>
                    <a:pt x="1385" y="1219"/>
                  </a:lnTo>
                  <a:lnTo>
                    <a:pt x="1337" y="1313"/>
                  </a:lnTo>
                  <a:lnTo>
                    <a:pt x="1285" y="1406"/>
                  </a:lnTo>
                  <a:lnTo>
                    <a:pt x="1226" y="1498"/>
                  </a:lnTo>
                  <a:lnTo>
                    <a:pt x="1162" y="1587"/>
                  </a:lnTo>
                  <a:lnTo>
                    <a:pt x="1094" y="1674"/>
                  </a:lnTo>
                  <a:lnTo>
                    <a:pt x="1020" y="1758"/>
                  </a:lnTo>
                  <a:lnTo>
                    <a:pt x="942" y="1837"/>
                  </a:lnTo>
                  <a:lnTo>
                    <a:pt x="858" y="191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111640" y="4056120"/>
              <a:ext cx="271440" cy="547560"/>
            </a:xfrm>
            <a:custGeom>
              <a:avLst/>
              <a:gdLst/>
              <a:ahLst/>
              <a:rect l="l" t="t" r="r" b="b"/>
              <a:pathLst>
                <a:path w="1029" h="2067">
                  <a:moveTo>
                    <a:pt x="820" y="121"/>
                  </a:moveTo>
                  <a:lnTo>
                    <a:pt x="920" y="115"/>
                  </a:lnTo>
                  <a:lnTo>
                    <a:pt x="863" y="91"/>
                  </a:lnTo>
                  <a:lnTo>
                    <a:pt x="808" y="68"/>
                  </a:lnTo>
                  <a:lnTo>
                    <a:pt x="754" y="51"/>
                  </a:lnTo>
                  <a:lnTo>
                    <a:pt x="703" y="35"/>
                  </a:lnTo>
                  <a:lnTo>
                    <a:pt x="652" y="23"/>
                  </a:lnTo>
                  <a:lnTo>
                    <a:pt x="605" y="13"/>
                  </a:lnTo>
                  <a:lnTo>
                    <a:pt x="579" y="8"/>
                  </a:lnTo>
                  <a:lnTo>
                    <a:pt x="556" y="6"/>
                  </a:lnTo>
                  <a:lnTo>
                    <a:pt x="533" y="4"/>
                  </a:lnTo>
                  <a:lnTo>
                    <a:pt x="510" y="2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44" y="2"/>
                  </a:lnTo>
                  <a:lnTo>
                    <a:pt x="422" y="3"/>
                  </a:lnTo>
                  <a:lnTo>
                    <a:pt x="402" y="6"/>
                  </a:lnTo>
                  <a:lnTo>
                    <a:pt x="380" y="8"/>
                  </a:lnTo>
                  <a:lnTo>
                    <a:pt x="360" y="13"/>
                  </a:lnTo>
                  <a:lnTo>
                    <a:pt x="340" y="17"/>
                  </a:lnTo>
                  <a:lnTo>
                    <a:pt x="320" y="23"/>
                  </a:lnTo>
                  <a:lnTo>
                    <a:pt x="302" y="29"/>
                  </a:lnTo>
                  <a:lnTo>
                    <a:pt x="283" y="36"/>
                  </a:lnTo>
                  <a:lnTo>
                    <a:pt x="264" y="44"/>
                  </a:lnTo>
                  <a:lnTo>
                    <a:pt x="247" y="53"/>
                  </a:lnTo>
                  <a:lnTo>
                    <a:pt x="230" y="62"/>
                  </a:lnTo>
                  <a:lnTo>
                    <a:pt x="213" y="72"/>
                  </a:lnTo>
                  <a:lnTo>
                    <a:pt x="197" y="83"/>
                  </a:lnTo>
                  <a:lnTo>
                    <a:pt x="182" y="94"/>
                  </a:lnTo>
                  <a:lnTo>
                    <a:pt x="167" y="106"/>
                  </a:lnTo>
                  <a:lnTo>
                    <a:pt x="153" y="120"/>
                  </a:lnTo>
                  <a:lnTo>
                    <a:pt x="139" y="133"/>
                  </a:lnTo>
                  <a:lnTo>
                    <a:pt x="126" y="148"/>
                  </a:lnTo>
                  <a:lnTo>
                    <a:pt x="114" y="162"/>
                  </a:lnTo>
                  <a:lnTo>
                    <a:pt x="103" y="177"/>
                  </a:lnTo>
                  <a:lnTo>
                    <a:pt x="91" y="192"/>
                  </a:lnTo>
                  <a:lnTo>
                    <a:pt x="81" y="209"/>
                  </a:lnTo>
                  <a:lnTo>
                    <a:pt x="72" y="225"/>
                  </a:lnTo>
                  <a:lnTo>
                    <a:pt x="64" y="241"/>
                  </a:lnTo>
                  <a:lnTo>
                    <a:pt x="55" y="260"/>
                  </a:lnTo>
                  <a:lnTo>
                    <a:pt x="41" y="294"/>
                  </a:lnTo>
                  <a:lnTo>
                    <a:pt x="29" y="331"/>
                  </a:lnTo>
                  <a:lnTo>
                    <a:pt x="19" y="369"/>
                  </a:lnTo>
                  <a:lnTo>
                    <a:pt x="11" y="407"/>
                  </a:lnTo>
                  <a:lnTo>
                    <a:pt x="5" y="447"/>
                  </a:lnTo>
                  <a:lnTo>
                    <a:pt x="2" y="487"/>
                  </a:lnTo>
                  <a:lnTo>
                    <a:pt x="0" y="528"/>
                  </a:lnTo>
                  <a:lnTo>
                    <a:pt x="1" y="570"/>
                  </a:lnTo>
                  <a:lnTo>
                    <a:pt x="3" y="612"/>
                  </a:lnTo>
                  <a:lnTo>
                    <a:pt x="7" y="655"/>
                  </a:lnTo>
                  <a:lnTo>
                    <a:pt x="12" y="699"/>
                  </a:lnTo>
                  <a:lnTo>
                    <a:pt x="19" y="744"/>
                  </a:lnTo>
                  <a:lnTo>
                    <a:pt x="28" y="788"/>
                  </a:lnTo>
                  <a:lnTo>
                    <a:pt x="39" y="834"/>
                  </a:lnTo>
                  <a:lnTo>
                    <a:pt x="50" y="880"/>
                  </a:lnTo>
                  <a:lnTo>
                    <a:pt x="64" y="927"/>
                  </a:lnTo>
                  <a:lnTo>
                    <a:pt x="79" y="974"/>
                  </a:lnTo>
                  <a:lnTo>
                    <a:pt x="95" y="1020"/>
                  </a:lnTo>
                  <a:lnTo>
                    <a:pt x="113" y="1067"/>
                  </a:lnTo>
                  <a:lnTo>
                    <a:pt x="133" y="1115"/>
                  </a:lnTo>
                  <a:lnTo>
                    <a:pt x="154" y="1162"/>
                  </a:lnTo>
                  <a:lnTo>
                    <a:pt x="176" y="1210"/>
                  </a:lnTo>
                  <a:lnTo>
                    <a:pt x="200" y="1257"/>
                  </a:lnTo>
                  <a:lnTo>
                    <a:pt x="225" y="1305"/>
                  </a:lnTo>
                  <a:lnTo>
                    <a:pt x="252" y="1352"/>
                  </a:lnTo>
                  <a:lnTo>
                    <a:pt x="280" y="1399"/>
                  </a:lnTo>
                  <a:lnTo>
                    <a:pt x="309" y="1446"/>
                  </a:lnTo>
                  <a:lnTo>
                    <a:pt x="340" y="1492"/>
                  </a:lnTo>
                  <a:lnTo>
                    <a:pt x="372" y="1538"/>
                  </a:lnTo>
                  <a:lnTo>
                    <a:pt x="405" y="1584"/>
                  </a:lnTo>
                  <a:lnTo>
                    <a:pt x="440" y="1629"/>
                  </a:lnTo>
                  <a:lnTo>
                    <a:pt x="476" y="1673"/>
                  </a:lnTo>
                  <a:lnTo>
                    <a:pt x="513" y="1717"/>
                  </a:lnTo>
                  <a:lnTo>
                    <a:pt x="552" y="1759"/>
                  </a:lnTo>
                  <a:lnTo>
                    <a:pt x="591" y="1802"/>
                  </a:lnTo>
                  <a:lnTo>
                    <a:pt x="633" y="1843"/>
                  </a:lnTo>
                  <a:lnTo>
                    <a:pt x="675" y="1883"/>
                  </a:lnTo>
                  <a:lnTo>
                    <a:pt x="719" y="1922"/>
                  </a:lnTo>
                  <a:lnTo>
                    <a:pt x="764" y="1960"/>
                  </a:lnTo>
                  <a:lnTo>
                    <a:pt x="810" y="1997"/>
                  </a:lnTo>
                  <a:lnTo>
                    <a:pt x="858" y="2033"/>
                  </a:lnTo>
                  <a:lnTo>
                    <a:pt x="906" y="2067"/>
                  </a:lnTo>
                  <a:lnTo>
                    <a:pt x="1029" y="1888"/>
                  </a:lnTo>
                  <a:lnTo>
                    <a:pt x="985" y="1857"/>
                  </a:lnTo>
                  <a:lnTo>
                    <a:pt x="943" y="1825"/>
                  </a:lnTo>
                  <a:lnTo>
                    <a:pt x="902" y="1793"/>
                  </a:lnTo>
                  <a:lnTo>
                    <a:pt x="861" y="1759"/>
                  </a:lnTo>
                  <a:lnTo>
                    <a:pt x="822" y="1723"/>
                  </a:lnTo>
                  <a:lnTo>
                    <a:pt x="784" y="1688"/>
                  </a:lnTo>
                  <a:lnTo>
                    <a:pt x="748" y="1651"/>
                  </a:lnTo>
                  <a:lnTo>
                    <a:pt x="712" y="1613"/>
                  </a:lnTo>
                  <a:lnTo>
                    <a:pt x="676" y="1574"/>
                  </a:lnTo>
                  <a:lnTo>
                    <a:pt x="643" y="1534"/>
                  </a:lnTo>
                  <a:lnTo>
                    <a:pt x="610" y="1495"/>
                  </a:lnTo>
                  <a:lnTo>
                    <a:pt x="579" y="1453"/>
                  </a:lnTo>
                  <a:lnTo>
                    <a:pt x="549" y="1412"/>
                  </a:lnTo>
                  <a:lnTo>
                    <a:pt x="519" y="1371"/>
                  </a:lnTo>
                  <a:lnTo>
                    <a:pt x="492" y="1328"/>
                  </a:lnTo>
                  <a:lnTo>
                    <a:pt x="465" y="1286"/>
                  </a:lnTo>
                  <a:lnTo>
                    <a:pt x="440" y="1244"/>
                  </a:lnTo>
                  <a:lnTo>
                    <a:pt x="415" y="1201"/>
                  </a:lnTo>
                  <a:lnTo>
                    <a:pt x="393" y="1158"/>
                  </a:lnTo>
                  <a:lnTo>
                    <a:pt x="372" y="1115"/>
                  </a:lnTo>
                  <a:lnTo>
                    <a:pt x="351" y="1073"/>
                  </a:lnTo>
                  <a:lnTo>
                    <a:pt x="332" y="1030"/>
                  </a:lnTo>
                  <a:lnTo>
                    <a:pt x="316" y="988"/>
                  </a:lnTo>
                  <a:lnTo>
                    <a:pt x="299" y="946"/>
                  </a:lnTo>
                  <a:lnTo>
                    <a:pt x="284" y="904"/>
                  </a:lnTo>
                  <a:lnTo>
                    <a:pt x="271" y="863"/>
                  </a:lnTo>
                  <a:lnTo>
                    <a:pt x="260" y="823"/>
                  </a:lnTo>
                  <a:lnTo>
                    <a:pt x="250" y="783"/>
                  </a:lnTo>
                  <a:lnTo>
                    <a:pt x="241" y="745"/>
                  </a:lnTo>
                  <a:lnTo>
                    <a:pt x="233" y="706"/>
                  </a:lnTo>
                  <a:lnTo>
                    <a:pt x="228" y="669"/>
                  </a:lnTo>
                  <a:lnTo>
                    <a:pt x="223" y="632"/>
                  </a:lnTo>
                  <a:lnTo>
                    <a:pt x="220" y="597"/>
                  </a:lnTo>
                  <a:lnTo>
                    <a:pt x="219" y="564"/>
                  </a:lnTo>
                  <a:lnTo>
                    <a:pt x="218" y="532"/>
                  </a:lnTo>
                  <a:lnTo>
                    <a:pt x="219" y="500"/>
                  </a:lnTo>
                  <a:lnTo>
                    <a:pt x="222" y="470"/>
                  </a:lnTo>
                  <a:lnTo>
                    <a:pt x="225" y="442"/>
                  </a:lnTo>
                  <a:lnTo>
                    <a:pt x="231" y="417"/>
                  </a:lnTo>
                  <a:lnTo>
                    <a:pt x="236" y="392"/>
                  </a:lnTo>
                  <a:lnTo>
                    <a:pt x="244" y="369"/>
                  </a:lnTo>
                  <a:lnTo>
                    <a:pt x="254" y="346"/>
                  </a:lnTo>
                  <a:lnTo>
                    <a:pt x="258" y="339"/>
                  </a:lnTo>
                  <a:lnTo>
                    <a:pt x="262" y="330"/>
                  </a:lnTo>
                  <a:lnTo>
                    <a:pt x="268" y="321"/>
                  </a:lnTo>
                  <a:lnTo>
                    <a:pt x="273" y="313"/>
                  </a:lnTo>
                  <a:lnTo>
                    <a:pt x="279" y="305"/>
                  </a:lnTo>
                  <a:lnTo>
                    <a:pt x="284" y="297"/>
                  </a:lnTo>
                  <a:lnTo>
                    <a:pt x="290" y="291"/>
                  </a:lnTo>
                  <a:lnTo>
                    <a:pt x="297" y="283"/>
                  </a:lnTo>
                  <a:lnTo>
                    <a:pt x="302" y="277"/>
                  </a:lnTo>
                  <a:lnTo>
                    <a:pt x="309" y="270"/>
                  </a:lnTo>
                  <a:lnTo>
                    <a:pt x="316" y="265"/>
                  </a:lnTo>
                  <a:lnTo>
                    <a:pt x="324" y="259"/>
                  </a:lnTo>
                  <a:lnTo>
                    <a:pt x="330" y="255"/>
                  </a:lnTo>
                  <a:lnTo>
                    <a:pt x="338" y="250"/>
                  </a:lnTo>
                  <a:lnTo>
                    <a:pt x="347" y="246"/>
                  </a:lnTo>
                  <a:lnTo>
                    <a:pt x="356" y="241"/>
                  </a:lnTo>
                  <a:lnTo>
                    <a:pt x="364" y="237"/>
                  </a:lnTo>
                  <a:lnTo>
                    <a:pt x="374" y="234"/>
                  </a:lnTo>
                  <a:lnTo>
                    <a:pt x="384" y="230"/>
                  </a:lnTo>
                  <a:lnTo>
                    <a:pt x="394" y="228"/>
                  </a:lnTo>
                  <a:lnTo>
                    <a:pt x="405" y="225"/>
                  </a:lnTo>
                  <a:lnTo>
                    <a:pt x="416" y="222"/>
                  </a:lnTo>
                  <a:lnTo>
                    <a:pt x="428" y="221"/>
                  </a:lnTo>
                  <a:lnTo>
                    <a:pt x="442" y="220"/>
                  </a:lnTo>
                  <a:lnTo>
                    <a:pt x="455" y="219"/>
                  </a:lnTo>
                  <a:lnTo>
                    <a:pt x="469" y="218"/>
                  </a:lnTo>
                  <a:lnTo>
                    <a:pt x="484" y="218"/>
                  </a:lnTo>
                  <a:lnTo>
                    <a:pt x="499" y="219"/>
                  </a:lnTo>
                  <a:lnTo>
                    <a:pt x="515" y="220"/>
                  </a:lnTo>
                  <a:lnTo>
                    <a:pt x="532" y="221"/>
                  </a:lnTo>
                  <a:lnTo>
                    <a:pt x="549" y="224"/>
                  </a:lnTo>
                  <a:lnTo>
                    <a:pt x="566" y="226"/>
                  </a:lnTo>
                  <a:lnTo>
                    <a:pt x="605" y="234"/>
                  </a:lnTo>
                  <a:lnTo>
                    <a:pt x="645" y="244"/>
                  </a:lnTo>
                  <a:lnTo>
                    <a:pt x="687" y="257"/>
                  </a:lnTo>
                  <a:lnTo>
                    <a:pt x="732" y="273"/>
                  </a:lnTo>
                  <a:lnTo>
                    <a:pt x="780" y="292"/>
                  </a:lnTo>
                  <a:lnTo>
                    <a:pt x="830" y="313"/>
                  </a:lnTo>
                  <a:lnTo>
                    <a:pt x="930" y="307"/>
                  </a:lnTo>
                  <a:lnTo>
                    <a:pt x="830" y="313"/>
                  </a:lnTo>
                  <a:lnTo>
                    <a:pt x="842" y="317"/>
                  </a:lnTo>
                  <a:lnTo>
                    <a:pt x="854" y="322"/>
                  </a:lnTo>
                  <a:lnTo>
                    <a:pt x="866" y="323"/>
                  </a:lnTo>
                  <a:lnTo>
                    <a:pt x="877" y="324"/>
                  </a:lnTo>
                  <a:lnTo>
                    <a:pt x="887" y="324"/>
                  </a:lnTo>
                  <a:lnTo>
                    <a:pt x="898" y="322"/>
                  </a:lnTo>
                  <a:lnTo>
                    <a:pt x="908" y="320"/>
                  </a:lnTo>
                  <a:lnTo>
                    <a:pt x="918" y="316"/>
                  </a:lnTo>
                  <a:lnTo>
                    <a:pt x="927" y="312"/>
                  </a:lnTo>
                  <a:lnTo>
                    <a:pt x="935" y="306"/>
                  </a:lnTo>
                  <a:lnTo>
                    <a:pt x="943" y="299"/>
                  </a:lnTo>
                  <a:lnTo>
                    <a:pt x="951" y="293"/>
                  </a:lnTo>
                  <a:lnTo>
                    <a:pt x="957" y="285"/>
                  </a:lnTo>
                  <a:lnTo>
                    <a:pt x="963" y="277"/>
                  </a:lnTo>
                  <a:lnTo>
                    <a:pt x="969" y="268"/>
                  </a:lnTo>
                  <a:lnTo>
                    <a:pt x="973" y="259"/>
                  </a:lnTo>
                  <a:lnTo>
                    <a:pt x="978" y="250"/>
                  </a:lnTo>
                  <a:lnTo>
                    <a:pt x="980" y="240"/>
                  </a:lnTo>
                  <a:lnTo>
                    <a:pt x="982" y="230"/>
                  </a:lnTo>
                  <a:lnTo>
                    <a:pt x="984" y="220"/>
                  </a:lnTo>
                  <a:lnTo>
                    <a:pt x="984" y="210"/>
                  </a:lnTo>
                  <a:lnTo>
                    <a:pt x="984" y="200"/>
                  </a:lnTo>
                  <a:lnTo>
                    <a:pt x="982" y="190"/>
                  </a:lnTo>
                  <a:lnTo>
                    <a:pt x="980" y="180"/>
                  </a:lnTo>
                  <a:lnTo>
                    <a:pt x="976" y="171"/>
                  </a:lnTo>
                  <a:lnTo>
                    <a:pt x="972" y="161"/>
                  </a:lnTo>
                  <a:lnTo>
                    <a:pt x="966" y="152"/>
                  </a:lnTo>
                  <a:lnTo>
                    <a:pt x="960" y="144"/>
                  </a:lnTo>
                  <a:lnTo>
                    <a:pt x="951" y="135"/>
                  </a:lnTo>
                  <a:lnTo>
                    <a:pt x="942" y="129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82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327640" y="4044960"/>
              <a:ext cx="257040" cy="563400"/>
            </a:xfrm>
            <a:custGeom>
              <a:avLst/>
              <a:gdLst/>
              <a:ahLst/>
              <a:rect l="l" t="t" r="r" b="b"/>
              <a:pathLst>
                <a:path w="968" h="2130">
                  <a:moveTo>
                    <a:pt x="86" y="2110"/>
                  </a:moveTo>
                  <a:lnTo>
                    <a:pt x="218" y="2104"/>
                  </a:lnTo>
                  <a:lnTo>
                    <a:pt x="262" y="2064"/>
                  </a:lnTo>
                  <a:lnTo>
                    <a:pt x="306" y="2024"/>
                  </a:lnTo>
                  <a:lnTo>
                    <a:pt x="348" y="1982"/>
                  </a:lnTo>
                  <a:lnTo>
                    <a:pt x="389" y="1939"/>
                  </a:lnTo>
                  <a:lnTo>
                    <a:pt x="429" y="1896"/>
                  </a:lnTo>
                  <a:lnTo>
                    <a:pt x="467" y="1852"/>
                  </a:lnTo>
                  <a:lnTo>
                    <a:pt x="502" y="1807"/>
                  </a:lnTo>
                  <a:lnTo>
                    <a:pt x="538" y="1761"/>
                  </a:lnTo>
                  <a:lnTo>
                    <a:pt x="573" y="1714"/>
                  </a:lnTo>
                  <a:lnTo>
                    <a:pt x="605" y="1666"/>
                  </a:lnTo>
                  <a:lnTo>
                    <a:pt x="636" y="1618"/>
                  </a:lnTo>
                  <a:lnTo>
                    <a:pt x="666" y="1570"/>
                  </a:lnTo>
                  <a:lnTo>
                    <a:pt x="694" y="1521"/>
                  </a:lnTo>
                  <a:lnTo>
                    <a:pt x="722" y="1472"/>
                  </a:lnTo>
                  <a:lnTo>
                    <a:pt x="748" y="1423"/>
                  </a:lnTo>
                  <a:lnTo>
                    <a:pt x="772" y="1374"/>
                  </a:lnTo>
                  <a:lnTo>
                    <a:pt x="795" y="1323"/>
                  </a:lnTo>
                  <a:lnTo>
                    <a:pt x="817" y="1274"/>
                  </a:lnTo>
                  <a:lnTo>
                    <a:pt x="837" y="1224"/>
                  </a:lnTo>
                  <a:lnTo>
                    <a:pt x="856" y="1174"/>
                  </a:lnTo>
                  <a:lnTo>
                    <a:pt x="873" y="1125"/>
                  </a:lnTo>
                  <a:lnTo>
                    <a:pt x="890" y="1076"/>
                  </a:lnTo>
                  <a:lnTo>
                    <a:pt x="904" y="1027"/>
                  </a:lnTo>
                  <a:lnTo>
                    <a:pt x="916" y="977"/>
                  </a:lnTo>
                  <a:lnTo>
                    <a:pt x="929" y="929"/>
                  </a:lnTo>
                  <a:lnTo>
                    <a:pt x="939" y="882"/>
                  </a:lnTo>
                  <a:lnTo>
                    <a:pt x="947" y="834"/>
                  </a:lnTo>
                  <a:lnTo>
                    <a:pt x="954" y="787"/>
                  </a:lnTo>
                  <a:lnTo>
                    <a:pt x="960" y="740"/>
                  </a:lnTo>
                  <a:lnTo>
                    <a:pt x="963" y="694"/>
                  </a:lnTo>
                  <a:lnTo>
                    <a:pt x="966" y="649"/>
                  </a:lnTo>
                  <a:lnTo>
                    <a:pt x="968" y="605"/>
                  </a:lnTo>
                  <a:lnTo>
                    <a:pt x="966" y="562"/>
                  </a:lnTo>
                  <a:lnTo>
                    <a:pt x="963" y="519"/>
                  </a:lnTo>
                  <a:lnTo>
                    <a:pt x="960" y="478"/>
                  </a:lnTo>
                  <a:lnTo>
                    <a:pt x="953" y="437"/>
                  </a:lnTo>
                  <a:lnTo>
                    <a:pt x="947" y="397"/>
                  </a:lnTo>
                  <a:lnTo>
                    <a:pt x="937" y="358"/>
                  </a:lnTo>
                  <a:lnTo>
                    <a:pt x="924" y="321"/>
                  </a:lnTo>
                  <a:lnTo>
                    <a:pt x="911" y="284"/>
                  </a:lnTo>
                  <a:lnTo>
                    <a:pt x="895" y="250"/>
                  </a:lnTo>
                  <a:lnTo>
                    <a:pt x="876" y="215"/>
                  </a:lnTo>
                  <a:lnTo>
                    <a:pt x="856" y="184"/>
                  </a:lnTo>
                  <a:lnTo>
                    <a:pt x="835" y="155"/>
                  </a:lnTo>
                  <a:lnTo>
                    <a:pt x="822" y="139"/>
                  </a:lnTo>
                  <a:lnTo>
                    <a:pt x="808" y="125"/>
                  </a:lnTo>
                  <a:lnTo>
                    <a:pt x="795" y="113"/>
                  </a:lnTo>
                  <a:lnTo>
                    <a:pt x="780" y="99"/>
                  </a:lnTo>
                  <a:lnTo>
                    <a:pt x="765" y="87"/>
                  </a:lnTo>
                  <a:lnTo>
                    <a:pt x="750" y="77"/>
                  </a:lnTo>
                  <a:lnTo>
                    <a:pt x="733" y="66"/>
                  </a:lnTo>
                  <a:lnTo>
                    <a:pt x="717" y="56"/>
                  </a:lnTo>
                  <a:lnTo>
                    <a:pt x="700" y="46"/>
                  </a:lnTo>
                  <a:lnTo>
                    <a:pt x="682" y="38"/>
                  </a:lnTo>
                  <a:lnTo>
                    <a:pt x="664" y="31"/>
                  </a:lnTo>
                  <a:lnTo>
                    <a:pt x="645" y="23"/>
                  </a:lnTo>
                  <a:lnTo>
                    <a:pt x="626" y="18"/>
                  </a:lnTo>
                  <a:lnTo>
                    <a:pt x="607" y="13"/>
                  </a:lnTo>
                  <a:lnTo>
                    <a:pt x="587" y="9"/>
                  </a:lnTo>
                  <a:lnTo>
                    <a:pt x="567" y="5"/>
                  </a:lnTo>
                  <a:lnTo>
                    <a:pt x="546" y="3"/>
                  </a:lnTo>
                  <a:lnTo>
                    <a:pt x="526" y="1"/>
                  </a:lnTo>
                  <a:lnTo>
                    <a:pt x="506" y="0"/>
                  </a:lnTo>
                  <a:lnTo>
                    <a:pt x="485" y="0"/>
                  </a:lnTo>
                  <a:lnTo>
                    <a:pt x="462" y="1"/>
                  </a:lnTo>
                  <a:lnTo>
                    <a:pt x="441" y="2"/>
                  </a:lnTo>
                  <a:lnTo>
                    <a:pt x="419" y="4"/>
                  </a:lnTo>
                  <a:lnTo>
                    <a:pt x="396" y="8"/>
                  </a:lnTo>
                  <a:lnTo>
                    <a:pt x="374" y="12"/>
                  </a:lnTo>
                  <a:lnTo>
                    <a:pt x="351" y="17"/>
                  </a:lnTo>
                  <a:lnTo>
                    <a:pt x="328" y="22"/>
                  </a:lnTo>
                  <a:lnTo>
                    <a:pt x="304" y="29"/>
                  </a:lnTo>
                  <a:lnTo>
                    <a:pt x="257" y="43"/>
                  </a:lnTo>
                  <a:lnTo>
                    <a:pt x="209" y="60"/>
                  </a:lnTo>
                  <a:lnTo>
                    <a:pt x="158" y="82"/>
                  </a:lnTo>
                  <a:lnTo>
                    <a:pt x="107" y="106"/>
                  </a:lnTo>
                  <a:lnTo>
                    <a:pt x="55" y="133"/>
                  </a:lnTo>
                  <a:lnTo>
                    <a:pt x="0" y="164"/>
                  </a:lnTo>
                  <a:lnTo>
                    <a:pt x="110" y="350"/>
                  </a:lnTo>
                  <a:lnTo>
                    <a:pt x="158" y="325"/>
                  </a:lnTo>
                  <a:lnTo>
                    <a:pt x="203" y="300"/>
                  </a:lnTo>
                  <a:lnTo>
                    <a:pt x="247" y="280"/>
                  </a:lnTo>
                  <a:lnTo>
                    <a:pt x="287" y="263"/>
                  </a:lnTo>
                  <a:lnTo>
                    <a:pt x="326" y="249"/>
                  </a:lnTo>
                  <a:lnTo>
                    <a:pt x="364" y="236"/>
                  </a:lnTo>
                  <a:lnTo>
                    <a:pt x="381" y="233"/>
                  </a:lnTo>
                  <a:lnTo>
                    <a:pt x="397" y="229"/>
                  </a:lnTo>
                  <a:lnTo>
                    <a:pt x="414" y="225"/>
                  </a:lnTo>
                  <a:lnTo>
                    <a:pt x="430" y="223"/>
                  </a:lnTo>
                  <a:lnTo>
                    <a:pt x="444" y="221"/>
                  </a:lnTo>
                  <a:lnTo>
                    <a:pt x="460" y="219"/>
                  </a:lnTo>
                  <a:lnTo>
                    <a:pt x="473" y="219"/>
                  </a:lnTo>
                  <a:lnTo>
                    <a:pt x="487" y="217"/>
                  </a:lnTo>
                  <a:lnTo>
                    <a:pt x="500" y="217"/>
                  </a:lnTo>
                  <a:lnTo>
                    <a:pt x="514" y="217"/>
                  </a:lnTo>
                  <a:lnTo>
                    <a:pt x="525" y="219"/>
                  </a:lnTo>
                  <a:lnTo>
                    <a:pt x="536" y="220"/>
                  </a:lnTo>
                  <a:lnTo>
                    <a:pt x="547" y="222"/>
                  </a:lnTo>
                  <a:lnTo>
                    <a:pt x="557" y="224"/>
                  </a:lnTo>
                  <a:lnTo>
                    <a:pt x="567" y="226"/>
                  </a:lnTo>
                  <a:lnTo>
                    <a:pt x="576" y="230"/>
                  </a:lnTo>
                  <a:lnTo>
                    <a:pt x="585" y="233"/>
                  </a:lnTo>
                  <a:lnTo>
                    <a:pt x="594" y="236"/>
                  </a:lnTo>
                  <a:lnTo>
                    <a:pt x="603" y="241"/>
                  </a:lnTo>
                  <a:lnTo>
                    <a:pt x="611" y="244"/>
                  </a:lnTo>
                  <a:lnTo>
                    <a:pt x="618" y="249"/>
                  </a:lnTo>
                  <a:lnTo>
                    <a:pt x="625" y="254"/>
                  </a:lnTo>
                  <a:lnTo>
                    <a:pt x="633" y="260"/>
                  </a:lnTo>
                  <a:lnTo>
                    <a:pt x="640" y="265"/>
                  </a:lnTo>
                  <a:lnTo>
                    <a:pt x="646" y="271"/>
                  </a:lnTo>
                  <a:lnTo>
                    <a:pt x="653" y="278"/>
                  </a:lnTo>
                  <a:lnTo>
                    <a:pt x="660" y="284"/>
                  </a:lnTo>
                  <a:lnTo>
                    <a:pt x="664" y="290"/>
                  </a:lnTo>
                  <a:lnTo>
                    <a:pt x="678" y="308"/>
                  </a:lnTo>
                  <a:lnTo>
                    <a:pt x="690" y="326"/>
                  </a:lnTo>
                  <a:lnTo>
                    <a:pt x="700" y="346"/>
                  </a:lnTo>
                  <a:lnTo>
                    <a:pt x="710" y="367"/>
                  </a:lnTo>
                  <a:lnTo>
                    <a:pt x="719" y="390"/>
                  </a:lnTo>
                  <a:lnTo>
                    <a:pt x="727" y="416"/>
                  </a:lnTo>
                  <a:lnTo>
                    <a:pt x="733" y="444"/>
                  </a:lnTo>
                  <a:lnTo>
                    <a:pt x="739" y="472"/>
                  </a:lnTo>
                  <a:lnTo>
                    <a:pt x="743" y="503"/>
                  </a:lnTo>
                  <a:lnTo>
                    <a:pt x="747" y="536"/>
                  </a:lnTo>
                  <a:lnTo>
                    <a:pt x="749" y="569"/>
                  </a:lnTo>
                  <a:lnTo>
                    <a:pt x="750" y="605"/>
                  </a:lnTo>
                  <a:lnTo>
                    <a:pt x="749" y="642"/>
                  </a:lnTo>
                  <a:lnTo>
                    <a:pt x="747" y="680"/>
                  </a:lnTo>
                  <a:lnTo>
                    <a:pt x="743" y="717"/>
                  </a:lnTo>
                  <a:lnTo>
                    <a:pt x="739" y="758"/>
                  </a:lnTo>
                  <a:lnTo>
                    <a:pt x="732" y="798"/>
                  </a:lnTo>
                  <a:lnTo>
                    <a:pt x="726" y="839"/>
                  </a:lnTo>
                  <a:lnTo>
                    <a:pt x="717" y="882"/>
                  </a:lnTo>
                  <a:lnTo>
                    <a:pt x="707" y="925"/>
                  </a:lnTo>
                  <a:lnTo>
                    <a:pt x="694" y="967"/>
                  </a:lnTo>
                  <a:lnTo>
                    <a:pt x="682" y="1012"/>
                  </a:lnTo>
                  <a:lnTo>
                    <a:pt x="668" y="1056"/>
                  </a:lnTo>
                  <a:lnTo>
                    <a:pt x="652" y="1100"/>
                  </a:lnTo>
                  <a:lnTo>
                    <a:pt x="635" y="1145"/>
                  </a:lnTo>
                  <a:lnTo>
                    <a:pt x="616" y="1190"/>
                  </a:lnTo>
                  <a:lnTo>
                    <a:pt x="597" y="1235"/>
                  </a:lnTo>
                  <a:lnTo>
                    <a:pt x="576" y="1280"/>
                  </a:lnTo>
                  <a:lnTo>
                    <a:pt x="554" y="1325"/>
                  </a:lnTo>
                  <a:lnTo>
                    <a:pt x="531" y="1369"/>
                  </a:lnTo>
                  <a:lnTo>
                    <a:pt x="506" y="1414"/>
                  </a:lnTo>
                  <a:lnTo>
                    <a:pt x="480" y="1458"/>
                  </a:lnTo>
                  <a:lnTo>
                    <a:pt x="453" y="1502"/>
                  </a:lnTo>
                  <a:lnTo>
                    <a:pt x="425" y="1546"/>
                  </a:lnTo>
                  <a:lnTo>
                    <a:pt x="395" y="1588"/>
                  </a:lnTo>
                  <a:lnTo>
                    <a:pt x="365" y="1630"/>
                  </a:lnTo>
                  <a:lnTo>
                    <a:pt x="333" y="1672"/>
                  </a:lnTo>
                  <a:lnTo>
                    <a:pt x="299" y="1713"/>
                  </a:lnTo>
                  <a:lnTo>
                    <a:pt x="265" y="1753"/>
                  </a:lnTo>
                  <a:lnTo>
                    <a:pt x="230" y="1792"/>
                  </a:lnTo>
                  <a:lnTo>
                    <a:pt x="193" y="1830"/>
                  </a:lnTo>
                  <a:lnTo>
                    <a:pt x="156" y="1867"/>
                  </a:lnTo>
                  <a:lnTo>
                    <a:pt x="117" y="1903"/>
                  </a:lnTo>
                  <a:lnTo>
                    <a:pt x="77" y="1937"/>
                  </a:lnTo>
                  <a:lnTo>
                    <a:pt x="209" y="1931"/>
                  </a:lnTo>
                  <a:lnTo>
                    <a:pt x="77" y="1937"/>
                  </a:lnTo>
                  <a:lnTo>
                    <a:pt x="67" y="1946"/>
                  </a:lnTo>
                  <a:lnTo>
                    <a:pt x="59" y="1956"/>
                  </a:lnTo>
                  <a:lnTo>
                    <a:pt x="53" y="1965"/>
                  </a:lnTo>
                  <a:lnTo>
                    <a:pt x="47" y="1975"/>
                  </a:lnTo>
                  <a:lnTo>
                    <a:pt x="43" y="1985"/>
                  </a:lnTo>
                  <a:lnTo>
                    <a:pt x="39" y="1995"/>
                  </a:lnTo>
                  <a:lnTo>
                    <a:pt x="38" y="2005"/>
                  </a:lnTo>
                  <a:lnTo>
                    <a:pt x="37" y="2016"/>
                  </a:lnTo>
                  <a:lnTo>
                    <a:pt x="37" y="2027"/>
                  </a:lnTo>
                  <a:lnTo>
                    <a:pt x="38" y="2037"/>
                  </a:lnTo>
                  <a:lnTo>
                    <a:pt x="40" y="2047"/>
                  </a:lnTo>
                  <a:lnTo>
                    <a:pt x="44" y="2056"/>
                  </a:lnTo>
                  <a:lnTo>
                    <a:pt x="48" y="2064"/>
                  </a:lnTo>
                  <a:lnTo>
                    <a:pt x="53" y="2073"/>
                  </a:lnTo>
                  <a:lnTo>
                    <a:pt x="58" y="2082"/>
                  </a:lnTo>
                  <a:lnTo>
                    <a:pt x="65" y="2090"/>
                  </a:lnTo>
                  <a:lnTo>
                    <a:pt x="72" y="2098"/>
                  </a:lnTo>
                  <a:lnTo>
                    <a:pt x="78" y="2105"/>
                  </a:lnTo>
                  <a:lnTo>
                    <a:pt x="87" y="2111"/>
                  </a:lnTo>
                  <a:lnTo>
                    <a:pt x="95" y="2117"/>
                  </a:lnTo>
                  <a:lnTo>
                    <a:pt x="104" y="2121"/>
                  </a:lnTo>
                  <a:lnTo>
                    <a:pt x="114" y="2125"/>
                  </a:lnTo>
                  <a:lnTo>
                    <a:pt x="123" y="2128"/>
                  </a:lnTo>
                  <a:lnTo>
                    <a:pt x="133" y="2130"/>
                  </a:lnTo>
                  <a:lnTo>
                    <a:pt x="143" y="2130"/>
                  </a:lnTo>
                  <a:lnTo>
                    <a:pt x="154" y="2130"/>
                  </a:lnTo>
                  <a:lnTo>
                    <a:pt x="164" y="2129"/>
                  </a:lnTo>
                  <a:lnTo>
                    <a:pt x="175" y="2127"/>
                  </a:lnTo>
                  <a:lnTo>
                    <a:pt x="185" y="2122"/>
                  </a:lnTo>
                  <a:lnTo>
                    <a:pt x="197" y="2118"/>
                  </a:lnTo>
                  <a:lnTo>
                    <a:pt x="207" y="2111"/>
                  </a:lnTo>
                  <a:lnTo>
                    <a:pt x="218" y="2104"/>
                  </a:lnTo>
                  <a:lnTo>
                    <a:pt x="86" y="2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5784840" y="3683160"/>
            <a:ext cx="714240" cy="863280"/>
            <a:chOff x="5784840" y="3683160"/>
            <a:chExt cx="714240" cy="863280"/>
          </a:xfrm>
        </p:grpSpPr>
        <p:sp>
          <p:nvSpPr>
            <p:cNvPr id="2758" name=""/>
            <p:cNvSpPr/>
            <p:nvPr/>
          </p:nvSpPr>
          <p:spPr>
            <a:xfrm>
              <a:off x="5813280" y="3711600"/>
              <a:ext cx="657360" cy="804960"/>
            </a:xfrm>
            <a:custGeom>
              <a:avLst/>
              <a:gdLst/>
              <a:ahLst/>
              <a:rect l="l" t="t" r="r" b="b"/>
              <a:pathLst>
                <a:path w="2484" h="3043">
                  <a:moveTo>
                    <a:pt x="547" y="3043"/>
                  </a:moveTo>
                  <a:lnTo>
                    <a:pt x="453" y="2895"/>
                  </a:lnTo>
                  <a:lnTo>
                    <a:pt x="369" y="2742"/>
                  </a:lnTo>
                  <a:lnTo>
                    <a:pt x="293" y="2586"/>
                  </a:lnTo>
                  <a:lnTo>
                    <a:pt x="227" y="2427"/>
                  </a:lnTo>
                  <a:lnTo>
                    <a:pt x="169" y="2266"/>
                  </a:lnTo>
                  <a:lnTo>
                    <a:pt x="120" y="2104"/>
                  </a:lnTo>
                  <a:lnTo>
                    <a:pt x="80" y="1941"/>
                  </a:lnTo>
                  <a:lnTo>
                    <a:pt x="48" y="1779"/>
                  </a:lnTo>
                  <a:lnTo>
                    <a:pt x="24" y="1618"/>
                  </a:lnTo>
                  <a:lnTo>
                    <a:pt x="8" y="1461"/>
                  </a:lnTo>
                  <a:lnTo>
                    <a:pt x="0" y="1307"/>
                  </a:lnTo>
                  <a:lnTo>
                    <a:pt x="0" y="1156"/>
                  </a:lnTo>
                  <a:lnTo>
                    <a:pt x="8" y="1011"/>
                  </a:lnTo>
                  <a:lnTo>
                    <a:pt x="23" y="873"/>
                  </a:lnTo>
                  <a:lnTo>
                    <a:pt x="46" y="740"/>
                  </a:lnTo>
                  <a:lnTo>
                    <a:pt x="76" y="616"/>
                  </a:lnTo>
                  <a:lnTo>
                    <a:pt x="113" y="501"/>
                  </a:lnTo>
                  <a:lnTo>
                    <a:pt x="156" y="395"/>
                  </a:lnTo>
                  <a:lnTo>
                    <a:pt x="206" y="300"/>
                  </a:lnTo>
                  <a:lnTo>
                    <a:pt x="264" y="217"/>
                  </a:lnTo>
                  <a:lnTo>
                    <a:pt x="328" y="145"/>
                  </a:lnTo>
                  <a:lnTo>
                    <a:pt x="398" y="86"/>
                  </a:lnTo>
                  <a:lnTo>
                    <a:pt x="475" y="43"/>
                  </a:lnTo>
                  <a:lnTo>
                    <a:pt x="558" y="14"/>
                  </a:lnTo>
                  <a:lnTo>
                    <a:pt x="647" y="0"/>
                  </a:lnTo>
                  <a:lnTo>
                    <a:pt x="742" y="3"/>
                  </a:lnTo>
                  <a:lnTo>
                    <a:pt x="842" y="26"/>
                  </a:lnTo>
                  <a:lnTo>
                    <a:pt x="948" y="65"/>
                  </a:lnTo>
                  <a:lnTo>
                    <a:pt x="1060" y="125"/>
                  </a:lnTo>
                  <a:lnTo>
                    <a:pt x="1177" y="204"/>
                  </a:lnTo>
                  <a:lnTo>
                    <a:pt x="1299" y="306"/>
                  </a:lnTo>
                  <a:lnTo>
                    <a:pt x="1426" y="430"/>
                  </a:lnTo>
                  <a:lnTo>
                    <a:pt x="1602" y="409"/>
                  </a:lnTo>
                  <a:lnTo>
                    <a:pt x="1762" y="402"/>
                  </a:lnTo>
                  <a:lnTo>
                    <a:pt x="1904" y="409"/>
                  </a:lnTo>
                  <a:lnTo>
                    <a:pt x="2029" y="429"/>
                  </a:lnTo>
                  <a:lnTo>
                    <a:pt x="2138" y="461"/>
                  </a:lnTo>
                  <a:lnTo>
                    <a:pt x="2231" y="505"/>
                  </a:lnTo>
                  <a:lnTo>
                    <a:pt x="2309" y="559"/>
                  </a:lnTo>
                  <a:lnTo>
                    <a:pt x="2373" y="624"/>
                  </a:lnTo>
                  <a:lnTo>
                    <a:pt x="2421" y="698"/>
                  </a:lnTo>
                  <a:lnTo>
                    <a:pt x="2455" y="779"/>
                  </a:lnTo>
                  <a:lnTo>
                    <a:pt x="2476" y="867"/>
                  </a:lnTo>
                  <a:lnTo>
                    <a:pt x="2484" y="963"/>
                  </a:lnTo>
                  <a:lnTo>
                    <a:pt x="2480" y="1065"/>
                  </a:lnTo>
                  <a:lnTo>
                    <a:pt x="2463" y="1172"/>
                  </a:lnTo>
                  <a:lnTo>
                    <a:pt x="2434" y="1282"/>
                  </a:lnTo>
                  <a:lnTo>
                    <a:pt x="2394" y="1396"/>
                  </a:lnTo>
                  <a:lnTo>
                    <a:pt x="2342" y="1513"/>
                  </a:lnTo>
                  <a:lnTo>
                    <a:pt x="2280" y="1632"/>
                  </a:lnTo>
                  <a:lnTo>
                    <a:pt x="2208" y="1752"/>
                  </a:lnTo>
                  <a:lnTo>
                    <a:pt x="2127" y="1872"/>
                  </a:lnTo>
                  <a:lnTo>
                    <a:pt x="2035" y="1991"/>
                  </a:lnTo>
                  <a:lnTo>
                    <a:pt x="1936" y="2109"/>
                  </a:lnTo>
                  <a:lnTo>
                    <a:pt x="1828" y="2225"/>
                  </a:lnTo>
                  <a:lnTo>
                    <a:pt x="1712" y="2339"/>
                  </a:lnTo>
                  <a:lnTo>
                    <a:pt x="1588" y="2449"/>
                  </a:lnTo>
                  <a:lnTo>
                    <a:pt x="1456" y="2554"/>
                  </a:lnTo>
                  <a:lnTo>
                    <a:pt x="1319" y="2653"/>
                  </a:lnTo>
                  <a:lnTo>
                    <a:pt x="1175" y="2747"/>
                  </a:lnTo>
                  <a:lnTo>
                    <a:pt x="1025" y="2833"/>
                  </a:lnTo>
                  <a:lnTo>
                    <a:pt x="871" y="2912"/>
                  </a:lnTo>
                  <a:lnTo>
                    <a:pt x="711" y="2982"/>
                  </a:lnTo>
                  <a:lnTo>
                    <a:pt x="547" y="304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84840" y="3683160"/>
              <a:ext cx="434880" cy="849240"/>
            </a:xfrm>
            <a:custGeom>
              <a:avLst/>
              <a:gdLst/>
              <a:ahLst/>
              <a:rect l="l" t="t" r="r" b="b"/>
              <a:pathLst>
                <a:path w="1647" h="3213">
                  <a:moveTo>
                    <a:pt x="1519" y="432"/>
                  </a:moveTo>
                  <a:lnTo>
                    <a:pt x="1614" y="463"/>
                  </a:lnTo>
                  <a:lnTo>
                    <a:pt x="1581" y="429"/>
                  </a:lnTo>
                  <a:lnTo>
                    <a:pt x="1547" y="396"/>
                  </a:lnTo>
                  <a:lnTo>
                    <a:pt x="1515" y="365"/>
                  </a:lnTo>
                  <a:lnTo>
                    <a:pt x="1481" y="335"/>
                  </a:lnTo>
                  <a:lnTo>
                    <a:pt x="1449" y="306"/>
                  </a:lnTo>
                  <a:lnTo>
                    <a:pt x="1417" y="278"/>
                  </a:lnTo>
                  <a:lnTo>
                    <a:pt x="1384" y="252"/>
                  </a:lnTo>
                  <a:lnTo>
                    <a:pt x="1352" y="227"/>
                  </a:lnTo>
                  <a:lnTo>
                    <a:pt x="1321" y="204"/>
                  </a:lnTo>
                  <a:lnTo>
                    <a:pt x="1289" y="182"/>
                  </a:lnTo>
                  <a:lnTo>
                    <a:pt x="1258" y="160"/>
                  </a:lnTo>
                  <a:lnTo>
                    <a:pt x="1227" y="141"/>
                  </a:lnTo>
                  <a:lnTo>
                    <a:pt x="1196" y="123"/>
                  </a:lnTo>
                  <a:lnTo>
                    <a:pt x="1164" y="106"/>
                  </a:lnTo>
                  <a:lnTo>
                    <a:pt x="1134" y="90"/>
                  </a:lnTo>
                  <a:lnTo>
                    <a:pt x="1103" y="76"/>
                  </a:lnTo>
                  <a:lnTo>
                    <a:pt x="1073" y="62"/>
                  </a:lnTo>
                  <a:lnTo>
                    <a:pt x="1043" y="50"/>
                  </a:lnTo>
                  <a:lnTo>
                    <a:pt x="1013" y="40"/>
                  </a:lnTo>
                  <a:lnTo>
                    <a:pt x="983" y="30"/>
                  </a:lnTo>
                  <a:lnTo>
                    <a:pt x="954" y="22"/>
                  </a:lnTo>
                  <a:lnTo>
                    <a:pt x="925" y="15"/>
                  </a:lnTo>
                  <a:lnTo>
                    <a:pt x="894" y="10"/>
                  </a:lnTo>
                  <a:lnTo>
                    <a:pt x="865" y="5"/>
                  </a:lnTo>
                  <a:lnTo>
                    <a:pt x="836" y="2"/>
                  </a:lnTo>
                  <a:lnTo>
                    <a:pt x="807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3"/>
                  </a:lnTo>
                  <a:lnTo>
                    <a:pt x="696" y="6"/>
                  </a:lnTo>
                  <a:lnTo>
                    <a:pt x="669" y="11"/>
                  </a:lnTo>
                  <a:lnTo>
                    <a:pt x="642" y="17"/>
                  </a:lnTo>
                  <a:lnTo>
                    <a:pt x="617" y="24"/>
                  </a:lnTo>
                  <a:lnTo>
                    <a:pt x="591" y="32"/>
                  </a:lnTo>
                  <a:lnTo>
                    <a:pt x="565" y="42"/>
                  </a:lnTo>
                  <a:lnTo>
                    <a:pt x="539" y="53"/>
                  </a:lnTo>
                  <a:lnTo>
                    <a:pt x="516" y="64"/>
                  </a:lnTo>
                  <a:lnTo>
                    <a:pt x="493" y="78"/>
                  </a:lnTo>
                  <a:lnTo>
                    <a:pt x="469" y="91"/>
                  </a:lnTo>
                  <a:lnTo>
                    <a:pt x="447" y="106"/>
                  </a:lnTo>
                  <a:lnTo>
                    <a:pt x="425" y="123"/>
                  </a:lnTo>
                  <a:lnTo>
                    <a:pt x="403" y="139"/>
                  </a:lnTo>
                  <a:lnTo>
                    <a:pt x="383" y="157"/>
                  </a:lnTo>
                  <a:lnTo>
                    <a:pt x="362" y="175"/>
                  </a:lnTo>
                  <a:lnTo>
                    <a:pt x="343" y="195"/>
                  </a:lnTo>
                  <a:lnTo>
                    <a:pt x="324" y="215"/>
                  </a:lnTo>
                  <a:lnTo>
                    <a:pt x="306" y="236"/>
                  </a:lnTo>
                  <a:lnTo>
                    <a:pt x="288" y="259"/>
                  </a:lnTo>
                  <a:lnTo>
                    <a:pt x="272" y="281"/>
                  </a:lnTo>
                  <a:lnTo>
                    <a:pt x="255" y="304"/>
                  </a:lnTo>
                  <a:lnTo>
                    <a:pt x="239" y="328"/>
                  </a:lnTo>
                  <a:lnTo>
                    <a:pt x="224" y="352"/>
                  </a:lnTo>
                  <a:lnTo>
                    <a:pt x="209" y="378"/>
                  </a:lnTo>
                  <a:lnTo>
                    <a:pt x="195" y="404"/>
                  </a:lnTo>
                  <a:lnTo>
                    <a:pt x="181" y="431"/>
                  </a:lnTo>
                  <a:lnTo>
                    <a:pt x="168" y="457"/>
                  </a:lnTo>
                  <a:lnTo>
                    <a:pt x="154" y="486"/>
                  </a:lnTo>
                  <a:lnTo>
                    <a:pt x="143" y="514"/>
                  </a:lnTo>
                  <a:lnTo>
                    <a:pt x="131" y="543"/>
                  </a:lnTo>
                  <a:lnTo>
                    <a:pt x="120" y="573"/>
                  </a:lnTo>
                  <a:lnTo>
                    <a:pt x="110" y="604"/>
                  </a:lnTo>
                  <a:lnTo>
                    <a:pt x="100" y="634"/>
                  </a:lnTo>
                  <a:lnTo>
                    <a:pt x="90" y="665"/>
                  </a:lnTo>
                  <a:lnTo>
                    <a:pt x="81" y="697"/>
                  </a:lnTo>
                  <a:lnTo>
                    <a:pt x="64" y="761"/>
                  </a:lnTo>
                  <a:lnTo>
                    <a:pt x="50" y="828"/>
                  </a:lnTo>
                  <a:lnTo>
                    <a:pt x="36" y="896"/>
                  </a:lnTo>
                  <a:lnTo>
                    <a:pt x="25" y="966"/>
                  </a:lnTo>
                  <a:lnTo>
                    <a:pt x="16" y="1039"/>
                  </a:lnTo>
                  <a:lnTo>
                    <a:pt x="9" y="1111"/>
                  </a:lnTo>
                  <a:lnTo>
                    <a:pt x="5" y="1187"/>
                  </a:lnTo>
                  <a:lnTo>
                    <a:pt x="2" y="1263"/>
                  </a:lnTo>
                  <a:lnTo>
                    <a:pt x="0" y="1340"/>
                  </a:lnTo>
                  <a:lnTo>
                    <a:pt x="2" y="1418"/>
                  </a:lnTo>
                  <a:lnTo>
                    <a:pt x="5" y="1497"/>
                  </a:lnTo>
                  <a:lnTo>
                    <a:pt x="9" y="1578"/>
                  </a:lnTo>
                  <a:lnTo>
                    <a:pt x="17" y="1659"/>
                  </a:lnTo>
                  <a:lnTo>
                    <a:pt x="26" y="1741"/>
                  </a:lnTo>
                  <a:lnTo>
                    <a:pt x="37" y="1823"/>
                  </a:lnTo>
                  <a:lnTo>
                    <a:pt x="51" y="1906"/>
                  </a:lnTo>
                  <a:lnTo>
                    <a:pt x="66" y="1990"/>
                  </a:lnTo>
                  <a:lnTo>
                    <a:pt x="84" y="2073"/>
                  </a:lnTo>
                  <a:lnTo>
                    <a:pt x="104" y="2157"/>
                  </a:lnTo>
                  <a:lnTo>
                    <a:pt x="125" y="2241"/>
                  </a:lnTo>
                  <a:lnTo>
                    <a:pt x="150" y="2324"/>
                  </a:lnTo>
                  <a:lnTo>
                    <a:pt x="176" y="2408"/>
                  </a:lnTo>
                  <a:lnTo>
                    <a:pt x="190" y="2450"/>
                  </a:lnTo>
                  <a:lnTo>
                    <a:pt x="205" y="2492"/>
                  </a:lnTo>
                  <a:lnTo>
                    <a:pt x="220" y="2534"/>
                  </a:lnTo>
                  <a:lnTo>
                    <a:pt x="236" y="2575"/>
                  </a:lnTo>
                  <a:lnTo>
                    <a:pt x="252" y="2617"/>
                  </a:lnTo>
                  <a:lnTo>
                    <a:pt x="268" y="2658"/>
                  </a:lnTo>
                  <a:lnTo>
                    <a:pt x="286" y="2698"/>
                  </a:lnTo>
                  <a:lnTo>
                    <a:pt x="304" y="2740"/>
                  </a:lnTo>
                  <a:lnTo>
                    <a:pt x="323" y="2781"/>
                  </a:lnTo>
                  <a:lnTo>
                    <a:pt x="342" y="2821"/>
                  </a:lnTo>
                  <a:lnTo>
                    <a:pt x="362" y="2861"/>
                  </a:lnTo>
                  <a:lnTo>
                    <a:pt x="382" y="2901"/>
                  </a:lnTo>
                  <a:lnTo>
                    <a:pt x="403" y="2942"/>
                  </a:lnTo>
                  <a:lnTo>
                    <a:pt x="425" y="2981"/>
                  </a:lnTo>
                  <a:lnTo>
                    <a:pt x="447" y="3021"/>
                  </a:lnTo>
                  <a:lnTo>
                    <a:pt x="469" y="3060"/>
                  </a:lnTo>
                  <a:lnTo>
                    <a:pt x="493" y="3098"/>
                  </a:lnTo>
                  <a:lnTo>
                    <a:pt x="517" y="3137"/>
                  </a:lnTo>
                  <a:lnTo>
                    <a:pt x="542" y="3175"/>
                  </a:lnTo>
                  <a:lnTo>
                    <a:pt x="566" y="3213"/>
                  </a:lnTo>
                  <a:lnTo>
                    <a:pt x="747" y="3091"/>
                  </a:lnTo>
                  <a:lnTo>
                    <a:pt x="724" y="3056"/>
                  </a:lnTo>
                  <a:lnTo>
                    <a:pt x="700" y="3021"/>
                  </a:lnTo>
                  <a:lnTo>
                    <a:pt x="678" y="2985"/>
                  </a:lnTo>
                  <a:lnTo>
                    <a:pt x="657" y="2949"/>
                  </a:lnTo>
                  <a:lnTo>
                    <a:pt x="635" y="2913"/>
                  </a:lnTo>
                  <a:lnTo>
                    <a:pt x="615" y="2877"/>
                  </a:lnTo>
                  <a:lnTo>
                    <a:pt x="594" y="2839"/>
                  </a:lnTo>
                  <a:lnTo>
                    <a:pt x="575" y="2802"/>
                  </a:lnTo>
                  <a:lnTo>
                    <a:pt x="556" y="2764"/>
                  </a:lnTo>
                  <a:lnTo>
                    <a:pt x="537" y="2727"/>
                  </a:lnTo>
                  <a:lnTo>
                    <a:pt x="519" y="2689"/>
                  </a:lnTo>
                  <a:lnTo>
                    <a:pt x="503" y="2651"/>
                  </a:lnTo>
                  <a:lnTo>
                    <a:pt x="486" y="2613"/>
                  </a:lnTo>
                  <a:lnTo>
                    <a:pt x="469" y="2574"/>
                  </a:lnTo>
                  <a:lnTo>
                    <a:pt x="454" y="2535"/>
                  </a:lnTo>
                  <a:lnTo>
                    <a:pt x="438" y="2497"/>
                  </a:lnTo>
                  <a:lnTo>
                    <a:pt x="423" y="2458"/>
                  </a:lnTo>
                  <a:lnTo>
                    <a:pt x="410" y="2419"/>
                  </a:lnTo>
                  <a:lnTo>
                    <a:pt x="396" y="2380"/>
                  </a:lnTo>
                  <a:lnTo>
                    <a:pt x="383" y="2342"/>
                  </a:lnTo>
                  <a:lnTo>
                    <a:pt x="358" y="2263"/>
                  </a:lnTo>
                  <a:lnTo>
                    <a:pt x="335" y="2184"/>
                  </a:lnTo>
                  <a:lnTo>
                    <a:pt x="314" y="2106"/>
                  </a:lnTo>
                  <a:lnTo>
                    <a:pt x="296" y="2026"/>
                  </a:lnTo>
                  <a:lnTo>
                    <a:pt x="279" y="1948"/>
                  </a:lnTo>
                  <a:lnTo>
                    <a:pt x="265" y="1870"/>
                  </a:lnTo>
                  <a:lnTo>
                    <a:pt x="253" y="1792"/>
                  </a:lnTo>
                  <a:lnTo>
                    <a:pt x="242" y="1715"/>
                  </a:lnTo>
                  <a:lnTo>
                    <a:pt x="233" y="1638"/>
                  </a:lnTo>
                  <a:lnTo>
                    <a:pt x="227" y="1562"/>
                  </a:lnTo>
                  <a:lnTo>
                    <a:pt x="221" y="1487"/>
                  </a:lnTo>
                  <a:lnTo>
                    <a:pt x="219" y="1413"/>
                  </a:lnTo>
                  <a:lnTo>
                    <a:pt x="218" y="1340"/>
                  </a:lnTo>
                  <a:lnTo>
                    <a:pt x="219" y="1268"/>
                  </a:lnTo>
                  <a:lnTo>
                    <a:pt x="221" y="1197"/>
                  </a:lnTo>
                  <a:lnTo>
                    <a:pt x="226" y="1129"/>
                  </a:lnTo>
                  <a:lnTo>
                    <a:pt x="233" y="1061"/>
                  </a:lnTo>
                  <a:lnTo>
                    <a:pt x="240" y="996"/>
                  </a:lnTo>
                  <a:lnTo>
                    <a:pt x="250" y="933"/>
                  </a:lnTo>
                  <a:lnTo>
                    <a:pt x="262" y="871"/>
                  </a:lnTo>
                  <a:lnTo>
                    <a:pt x="275" y="811"/>
                  </a:lnTo>
                  <a:lnTo>
                    <a:pt x="291" y="753"/>
                  </a:lnTo>
                  <a:lnTo>
                    <a:pt x="298" y="726"/>
                  </a:lnTo>
                  <a:lnTo>
                    <a:pt x="306" y="699"/>
                  </a:lnTo>
                  <a:lnTo>
                    <a:pt x="315" y="673"/>
                  </a:lnTo>
                  <a:lnTo>
                    <a:pt x="324" y="647"/>
                  </a:lnTo>
                  <a:lnTo>
                    <a:pt x="334" y="621"/>
                  </a:lnTo>
                  <a:lnTo>
                    <a:pt x="343" y="597"/>
                  </a:lnTo>
                  <a:lnTo>
                    <a:pt x="354" y="573"/>
                  </a:lnTo>
                  <a:lnTo>
                    <a:pt x="364" y="550"/>
                  </a:lnTo>
                  <a:lnTo>
                    <a:pt x="375" y="528"/>
                  </a:lnTo>
                  <a:lnTo>
                    <a:pt x="387" y="506"/>
                  </a:lnTo>
                  <a:lnTo>
                    <a:pt x="398" y="485"/>
                  </a:lnTo>
                  <a:lnTo>
                    <a:pt x="410" y="465"/>
                  </a:lnTo>
                  <a:lnTo>
                    <a:pt x="422" y="445"/>
                  </a:lnTo>
                  <a:lnTo>
                    <a:pt x="435" y="427"/>
                  </a:lnTo>
                  <a:lnTo>
                    <a:pt x="447" y="409"/>
                  </a:lnTo>
                  <a:lnTo>
                    <a:pt x="459" y="391"/>
                  </a:lnTo>
                  <a:lnTo>
                    <a:pt x="473" y="376"/>
                  </a:lnTo>
                  <a:lnTo>
                    <a:pt x="486" y="360"/>
                  </a:lnTo>
                  <a:lnTo>
                    <a:pt x="499" y="346"/>
                  </a:lnTo>
                  <a:lnTo>
                    <a:pt x="514" y="332"/>
                  </a:lnTo>
                  <a:lnTo>
                    <a:pt x="527" y="319"/>
                  </a:lnTo>
                  <a:lnTo>
                    <a:pt x="542" y="307"/>
                  </a:lnTo>
                  <a:lnTo>
                    <a:pt x="556" y="296"/>
                  </a:lnTo>
                  <a:lnTo>
                    <a:pt x="571" y="284"/>
                  </a:lnTo>
                  <a:lnTo>
                    <a:pt x="585" y="275"/>
                  </a:lnTo>
                  <a:lnTo>
                    <a:pt x="600" y="265"/>
                  </a:lnTo>
                  <a:lnTo>
                    <a:pt x="615" y="258"/>
                  </a:lnTo>
                  <a:lnTo>
                    <a:pt x="631" y="250"/>
                  </a:lnTo>
                  <a:lnTo>
                    <a:pt x="647" y="243"/>
                  </a:lnTo>
                  <a:lnTo>
                    <a:pt x="662" y="237"/>
                  </a:lnTo>
                  <a:lnTo>
                    <a:pt x="678" y="232"/>
                  </a:lnTo>
                  <a:lnTo>
                    <a:pt x="695" y="227"/>
                  </a:lnTo>
                  <a:lnTo>
                    <a:pt x="710" y="224"/>
                  </a:lnTo>
                  <a:lnTo>
                    <a:pt x="728" y="221"/>
                  </a:lnTo>
                  <a:lnTo>
                    <a:pt x="745" y="218"/>
                  </a:lnTo>
                  <a:lnTo>
                    <a:pt x="763" y="217"/>
                  </a:lnTo>
                  <a:lnTo>
                    <a:pt x="781" y="217"/>
                  </a:lnTo>
                  <a:lnTo>
                    <a:pt x="800" y="217"/>
                  </a:lnTo>
                  <a:lnTo>
                    <a:pt x="819" y="218"/>
                  </a:lnTo>
                  <a:lnTo>
                    <a:pt x="839" y="221"/>
                  </a:lnTo>
                  <a:lnTo>
                    <a:pt x="859" y="224"/>
                  </a:lnTo>
                  <a:lnTo>
                    <a:pt x="879" y="227"/>
                  </a:lnTo>
                  <a:lnTo>
                    <a:pt x="900" y="233"/>
                  </a:lnTo>
                  <a:lnTo>
                    <a:pt x="922" y="239"/>
                  </a:lnTo>
                  <a:lnTo>
                    <a:pt x="944" y="245"/>
                  </a:lnTo>
                  <a:lnTo>
                    <a:pt x="967" y="253"/>
                  </a:lnTo>
                  <a:lnTo>
                    <a:pt x="989" y="263"/>
                  </a:lnTo>
                  <a:lnTo>
                    <a:pt x="1014" y="273"/>
                  </a:lnTo>
                  <a:lnTo>
                    <a:pt x="1038" y="284"/>
                  </a:lnTo>
                  <a:lnTo>
                    <a:pt x="1063" y="298"/>
                  </a:lnTo>
                  <a:lnTo>
                    <a:pt x="1087" y="311"/>
                  </a:lnTo>
                  <a:lnTo>
                    <a:pt x="1113" y="327"/>
                  </a:lnTo>
                  <a:lnTo>
                    <a:pt x="1140" y="343"/>
                  </a:lnTo>
                  <a:lnTo>
                    <a:pt x="1167" y="361"/>
                  </a:lnTo>
                  <a:lnTo>
                    <a:pt x="1193" y="380"/>
                  </a:lnTo>
                  <a:lnTo>
                    <a:pt x="1221" y="400"/>
                  </a:lnTo>
                  <a:lnTo>
                    <a:pt x="1249" y="422"/>
                  </a:lnTo>
                  <a:lnTo>
                    <a:pt x="1278" y="445"/>
                  </a:lnTo>
                  <a:lnTo>
                    <a:pt x="1307" y="470"/>
                  </a:lnTo>
                  <a:lnTo>
                    <a:pt x="1336" y="495"/>
                  </a:lnTo>
                  <a:lnTo>
                    <a:pt x="1366" y="523"/>
                  </a:lnTo>
                  <a:lnTo>
                    <a:pt x="1397" y="552"/>
                  </a:lnTo>
                  <a:lnTo>
                    <a:pt x="1427" y="582"/>
                  </a:lnTo>
                  <a:lnTo>
                    <a:pt x="1458" y="614"/>
                  </a:lnTo>
                  <a:lnTo>
                    <a:pt x="1553" y="646"/>
                  </a:lnTo>
                  <a:lnTo>
                    <a:pt x="1458" y="614"/>
                  </a:lnTo>
                  <a:lnTo>
                    <a:pt x="1468" y="622"/>
                  </a:lnTo>
                  <a:lnTo>
                    <a:pt x="1477" y="630"/>
                  </a:lnTo>
                  <a:lnTo>
                    <a:pt x="1487" y="637"/>
                  </a:lnTo>
                  <a:lnTo>
                    <a:pt x="1498" y="641"/>
                  </a:lnTo>
                  <a:lnTo>
                    <a:pt x="1508" y="645"/>
                  </a:lnTo>
                  <a:lnTo>
                    <a:pt x="1518" y="647"/>
                  </a:lnTo>
                  <a:lnTo>
                    <a:pt x="1528" y="648"/>
                  </a:lnTo>
                  <a:lnTo>
                    <a:pt x="1539" y="649"/>
                  </a:lnTo>
                  <a:lnTo>
                    <a:pt x="1550" y="648"/>
                  </a:lnTo>
                  <a:lnTo>
                    <a:pt x="1558" y="646"/>
                  </a:lnTo>
                  <a:lnTo>
                    <a:pt x="1568" y="644"/>
                  </a:lnTo>
                  <a:lnTo>
                    <a:pt x="1579" y="639"/>
                  </a:lnTo>
                  <a:lnTo>
                    <a:pt x="1587" y="635"/>
                  </a:lnTo>
                  <a:lnTo>
                    <a:pt x="1595" y="629"/>
                  </a:lnTo>
                  <a:lnTo>
                    <a:pt x="1604" y="624"/>
                  </a:lnTo>
                  <a:lnTo>
                    <a:pt x="1612" y="617"/>
                  </a:lnTo>
                  <a:lnTo>
                    <a:pt x="1619" y="609"/>
                  </a:lnTo>
                  <a:lnTo>
                    <a:pt x="1625" y="601"/>
                  </a:lnTo>
                  <a:lnTo>
                    <a:pt x="1631" y="593"/>
                  </a:lnTo>
                  <a:lnTo>
                    <a:pt x="1635" y="585"/>
                  </a:lnTo>
                  <a:lnTo>
                    <a:pt x="1640" y="575"/>
                  </a:lnTo>
                  <a:lnTo>
                    <a:pt x="1643" y="566"/>
                  </a:lnTo>
                  <a:lnTo>
                    <a:pt x="1645" y="556"/>
                  </a:lnTo>
                  <a:lnTo>
                    <a:pt x="1647" y="545"/>
                  </a:lnTo>
                  <a:lnTo>
                    <a:pt x="1647" y="535"/>
                  </a:lnTo>
                  <a:lnTo>
                    <a:pt x="1645" y="524"/>
                  </a:lnTo>
                  <a:lnTo>
                    <a:pt x="1644" y="514"/>
                  </a:lnTo>
                  <a:lnTo>
                    <a:pt x="1641" y="504"/>
                  </a:lnTo>
                  <a:lnTo>
                    <a:pt x="1637" y="493"/>
                  </a:lnTo>
                  <a:lnTo>
                    <a:pt x="1630" y="483"/>
                  </a:lnTo>
                  <a:lnTo>
                    <a:pt x="1623" y="473"/>
                  </a:lnTo>
                  <a:lnTo>
                    <a:pt x="1614" y="463"/>
                  </a:lnTo>
                  <a:lnTo>
                    <a:pt x="1519" y="4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29200" y="3789360"/>
              <a:ext cx="569880" cy="757080"/>
            </a:xfrm>
            <a:custGeom>
              <a:avLst/>
              <a:gdLst/>
              <a:ahLst/>
              <a:rect l="l" t="t" r="r" b="b"/>
              <a:pathLst>
                <a:path w="2156" h="2860">
                  <a:moveTo>
                    <a:pt x="19" y="2811"/>
                  </a:moveTo>
                  <a:lnTo>
                    <a:pt x="144" y="2853"/>
                  </a:lnTo>
                  <a:lnTo>
                    <a:pt x="188" y="2839"/>
                  </a:lnTo>
                  <a:lnTo>
                    <a:pt x="230" y="2823"/>
                  </a:lnTo>
                  <a:lnTo>
                    <a:pt x="273" y="2806"/>
                  </a:lnTo>
                  <a:lnTo>
                    <a:pt x="315" y="2790"/>
                  </a:lnTo>
                  <a:lnTo>
                    <a:pt x="356" y="2773"/>
                  </a:lnTo>
                  <a:lnTo>
                    <a:pt x="399" y="2755"/>
                  </a:lnTo>
                  <a:lnTo>
                    <a:pt x="439" y="2736"/>
                  </a:lnTo>
                  <a:lnTo>
                    <a:pt x="480" y="2717"/>
                  </a:lnTo>
                  <a:lnTo>
                    <a:pt x="522" y="2697"/>
                  </a:lnTo>
                  <a:lnTo>
                    <a:pt x="562" y="2677"/>
                  </a:lnTo>
                  <a:lnTo>
                    <a:pt x="601" y="2657"/>
                  </a:lnTo>
                  <a:lnTo>
                    <a:pt x="641" y="2636"/>
                  </a:lnTo>
                  <a:lnTo>
                    <a:pt x="680" y="2613"/>
                  </a:lnTo>
                  <a:lnTo>
                    <a:pt x="719" y="2592"/>
                  </a:lnTo>
                  <a:lnTo>
                    <a:pt x="757" y="2569"/>
                  </a:lnTo>
                  <a:lnTo>
                    <a:pt x="796" y="2545"/>
                  </a:lnTo>
                  <a:lnTo>
                    <a:pt x="870" y="2498"/>
                  </a:lnTo>
                  <a:lnTo>
                    <a:pt x="943" y="2449"/>
                  </a:lnTo>
                  <a:lnTo>
                    <a:pt x="1016" y="2399"/>
                  </a:lnTo>
                  <a:lnTo>
                    <a:pt x="1085" y="2346"/>
                  </a:lnTo>
                  <a:lnTo>
                    <a:pt x="1154" y="2293"/>
                  </a:lnTo>
                  <a:lnTo>
                    <a:pt x="1220" y="2238"/>
                  </a:lnTo>
                  <a:lnTo>
                    <a:pt x="1285" y="2182"/>
                  </a:lnTo>
                  <a:lnTo>
                    <a:pt x="1348" y="2126"/>
                  </a:lnTo>
                  <a:lnTo>
                    <a:pt x="1409" y="2067"/>
                  </a:lnTo>
                  <a:lnTo>
                    <a:pt x="1468" y="2008"/>
                  </a:lnTo>
                  <a:lnTo>
                    <a:pt x="1525" y="1949"/>
                  </a:lnTo>
                  <a:lnTo>
                    <a:pt x="1580" y="1889"/>
                  </a:lnTo>
                  <a:lnTo>
                    <a:pt x="1633" y="1828"/>
                  </a:lnTo>
                  <a:lnTo>
                    <a:pt x="1683" y="1766"/>
                  </a:lnTo>
                  <a:lnTo>
                    <a:pt x="1731" y="1705"/>
                  </a:lnTo>
                  <a:lnTo>
                    <a:pt x="1777" y="1642"/>
                  </a:lnTo>
                  <a:lnTo>
                    <a:pt x="1822" y="1580"/>
                  </a:lnTo>
                  <a:lnTo>
                    <a:pt x="1863" y="1517"/>
                  </a:lnTo>
                  <a:lnTo>
                    <a:pt x="1902" y="1455"/>
                  </a:lnTo>
                  <a:lnTo>
                    <a:pt x="1938" y="1392"/>
                  </a:lnTo>
                  <a:lnTo>
                    <a:pt x="1972" y="1330"/>
                  </a:lnTo>
                  <a:lnTo>
                    <a:pt x="2002" y="1267"/>
                  </a:lnTo>
                  <a:lnTo>
                    <a:pt x="2032" y="1206"/>
                  </a:lnTo>
                  <a:lnTo>
                    <a:pt x="2057" y="1145"/>
                  </a:lnTo>
                  <a:lnTo>
                    <a:pt x="2069" y="1112"/>
                  </a:lnTo>
                  <a:lnTo>
                    <a:pt x="2081" y="1082"/>
                  </a:lnTo>
                  <a:lnTo>
                    <a:pt x="2091" y="1052"/>
                  </a:lnTo>
                  <a:lnTo>
                    <a:pt x="2101" y="1021"/>
                  </a:lnTo>
                  <a:lnTo>
                    <a:pt x="2110" y="991"/>
                  </a:lnTo>
                  <a:lnTo>
                    <a:pt x="2117" y="960"/>
                  </a:lnTo>
                  <a:lnTo>
                    <a:pt x="2125" y="930"/>
                  </a:lnTo>
                  <a:lnTo>
                    <a:pt x="2132" y="901"/>
                  </a:lnTo>
                  <a:lnTo>
                    <a:pt x="2138" y="871"/>
                  </a:lnTo>
                  <a:lnTo>
                    <a:pt x="2143" y="842"/>
                  </a:lnTo>
                  <a:lnTo>
                    <a:pt x="2148" y="813"/>
                  </a:lnTo>
                  <a:lnTo>
                    <a:pt x="2151" y="783"/>
                  </a:lnTo>
                  <a:lnTo>
                    <a:pt x="2153" y="754"/>
                  </a:lnTo>
                  <a:lnTo>
                    <a:pt x="2155" y="726"/>
                  </a:lnTo>
                  <a:lnTo>
                    <a:pt x="2156" y="697"/>
                  </a:lnTo>
                  <a:lnTo>
                    <a:pt x="2156" y="669"/>
                  </a:lnTo>
                  <a:lnTo>
                    <a:pt x="2155" y="641"/>
                  </a:lnTo>
                  <a:lnTo>
                    <a:pt x="2153" y="613"/>
                  </a:lnTo>
                  <a:lnTo>
                    <a:pt x="2151" y="585"/>
                  </a:lnTo>
                  <a:lnTo>
                    <a:pt x="2148" y="559"/>
                  </a:lnTo>
                  <a:lnTo>
                    <a:pt x="2142" y="531"/>
                  </a:lnTo>
                  <a:lnTo>
                    <a:pt x="2136" y="505"/>
                  </a:lnTo>
                  <a:lnTo>
                    <a:pt x="2130" y="478"/>
                  </a:lnTo>
                  <a:lnTo>
                    <a:pt x="2122" y="453"/>
                  </a:lnTo>
                  <a:lnTo>
                    <a:pt x="2113" y="427"/>
                  </a:lnTo>
                  <a:lnTo>
                    <a:pt x="2103" y="401"/>
                  </a:lnTo>
                  <a:lnTo>
                    <a:pt x="2092" y="377"/>
                  </a:lnTo>
                  <a:lnTo>
                    <a:pt x="2079" y="353"/>
                  </a:lnTo>
                  <a:lnTo>
                    <a:pt x="2066" y="330"/>
                  </a:lnTo>
                  <a:lnTo>
                    <a:pt x="2052" y="306"/>
                  </a:lnTo>
                  <a:lnTo>
                    <a:pt x="2036" y="284"/>
                  </a:lnTo>
                  <a:lnTo>
                    <a:pt x="2020" y="263"/>
                  </a:lnTo>
                  <a:lnTo>
                    <a:pt x="2001" y="242"/>
                  </a:lnTo>
                  <a:lnTo>
                    <a:pt x="1982" y="222"/>
                  </a:lnTo>
                  <a:lnTo>
                    <a:pt x="1963" y="203"/>
                  </a:lnTo>
                  <a:lnTo>
                    <a:pt x="1942" y="184"/>
                  </a:lnTo>
                  <a:lnTo>
                    <a:pt x="1920" y="166"/>
                  </a:lnTo>
                  <a:lnTo>
                    <a:pt x="1898" y="149"/>
                  </a:lnTo>
                  <a:lnTo>
                    <a:pt x="1873" y="133"/>
                  </a:lnTo>
                  <a:lnTo>
                    <a:pt x="1848" y="118"/>
                  </a:lnTo>
                  <a:lnTo>
                    <a:pt x="1822" y="103"/>
                  </a:lnTo>
                  <a:lnTo>
                    <a:pt x="1796" y="91"/>
                  </a:lnTo>
                  <a:lnTo>
                    <a:pt x="1767" y="79"/>
                  </a:lnTo>
                  <a:lnTo>
                    <a:pt x="1739" y="66"/>
                  </a:lnTo>
                  <a:lnTo>
                    <a:pt x="1709" y="56"/>
                  </a:lnTo>
                  <a:lnTo>
                    <a:pt x="1679" y="46"/>
                  </a:lnTo>
                  <a:lnTo>
                    <a:pt x="1648" y="37"/>
                  </a:lnTo>
                  <a:lnTo>
                    <a:pt x="1615" y="30"/>
                  </a:lnTo>
                  <a:lnTo>
                    <a:pt x="1582" y="23"/>
                  </a:lnTo>
                  <a:lnTo>
                    <a:pt x="1548" y="17"/>
                  </a:lnTo>
                  <a:lnTo>
                    <a:pt x="1514" y="12"/>
                  </a:lnTo>
                  <a:lnTo>
                    <a:pt x="1478" y="7"/>
                  </a:lnTo>
                  <a:lnTo>
                    <a:pt x="1440" y="4"/>
                  </a:lnTo>
                  <a:lnTo>
                    <a:pt x="1403" y="2"/>
                  </a:lnTo>
                  <a:lnTo>
                    <a:pt x="1364" y="1"/>
                  </a:lnTo>
                  <a:lnTo>
                    <a:pt x="1325" y="0"/>
                  </a:lnTo>
                  <a:lnTo>
                    <a:pt x="1284" y="0"/>
                  </a:lnTo>
                  <a:lnTo>
                    <a:pt x="1242" y="2"/>
                  </a:lnTo>
                  <a:lnTo>
                    <a:pt x="1200" y="4"/>
                  </a:lnTo>
                  <a:lnTo>
                    <a:pt x="1157" y="6"/>
                  </a:lnTo>
                  <a:lnTo>
                    <a:pt x="1112" y="11"/>
                  </a:lnTo>
                  <a:lnTo>
                    <a:pt x="1067" y="16"/>
                  </a:lnTo>
                  <a:lnTo>
                    <a:pt x="1020" y="22"/>
                  </a:lnTo>
                  <a:lnTo>
                    <a:pt x="972" y="30"/>
                  </a:lnTo>
                  <a:lnTo>
                    <a:pt x="1006" y="244"/>
                  </a:lnTo>
                  <a:lnTo>
                    <a:pt x="1049" y="237"/>
                  </a:lnTo>
                  <a:lnTo>
                    <a:pt x="1093" y="232"/>
                  </a:lnTo>
                  <a:lnTo>
                    <a:pt x="1134" y="227"/>
                  </a:lnTo>
                  <a:lnTo>
                    <a:pt x="1174" y="224"/>
                  </a:lnTo>
                  <a:lnTo>
                    <a:pt x="1213" y="220"/>
                  </a:lnTo>
                  <a:lnTo>
                    <a:pt x="1251" y="218"/>
                  </a:lnTo>
                  <a:lnTo>
                    <a:pt x="1288" y="217"/>
                  </a:lnTo>
                  <a:lnTo>
                    <a:pt x="1325" y="217"/>
                  </a:lnTo>
                  <a:lnTo>
                    <a:pt x="1359" y="218"/>
                  </a:lnTo>
                  <a:lnTo>
                    <a:pt x="1392" y="218"/>
                  </a:lnTo>
                  <a:lnTo>
                    <a:pt x="1424" y="220"/>
                  </a:lnTo>
                  <a:lnTo>
                    <a:pt x="1456" y="224"/>
                  </a:lnTo>
                  <a:lnTo>
                    <a:pt x="1485" y="227"/>
                  </a:lnTo>
                  <a:lnTo>
                    <a:pt x="1514" y="232"/>
                  </a:lnTo>
                  <a:lnTo>
                    <a:pt x="1542" y="236"/>
                  </a:lnTo>
                  <a:lnTo>
                    <a:pt x="1568" y="242"/>
                  </a:lnTo>
                  <a:lnTo>
                    <a:pt x="1593" y="248"/>
                  </a:lnTo>
                  <a:lnTo>
                    <a:pt x="1617" y="255"/>
                  </a:lnTo>
                  <a:lnTo>
                    <a:pt x="1641" y="262"/>
                  </a:lnTo>
                  <a:lnTo>
                    <a:pt x="1662" y="270"/>
                  </a:lnTo>
                  <a:lnTo>
                    <a:pt x="1683" y="279"/>
                  </a:lnTo>
                  <a:lnTo>
                    <a:pt x="1703" y="287"/>
                  </a:lnTo>
                  <a:lnTo>
                    <a:pt x="1722" y="296"/>
                  </a:lnTo>
                  <a:lnTo>
                    <a:pt x="1740" y="306"/>
                  </a:lnTo>
                  <a:lnTo>
                    <a:pt x="1757" y="316"/>
                  </a:lnTo>
                  <a:lnTo>
                    <a:pt x="1773" y="327"/>
                  </a:lnTo>
                  <a:lnTo>
                    <a:pt x="1788" y="339"/>
                  </a:lnTo>
                  <a:lnTo>
                    <a:pt x="1802" y="350"/>
                  </a:lnTo>
                  <a:lnTo>
                    <a:pt x="1815" y="361"/>
                  </a:lnTo>
                  <a:lnTo>
                    <a:pt x="1828" y="373"/>
                  </a:lnTo>
                  <a:lnTo>
                    <a:pt x="1840" y="386"/>
                  </a:lnTo>
                  <a:lnTo>
                    <a:pt x="1851" y="399"/>
                  </a:lnTo>
                  <a:lnTo>
                    <a:pt x="1861" y="412"/>
                  </a:lnTo>
                  <a:lnTo>
                    <a:pt x="1871" y="426"/>
                  </a:lnTo>
                  <a:lnTo>
                    <a:pt x="1880" y="440"/>
                  </a:lnTo>
                  <a:lnTo>
                    <a:pt x="1889" y="455"/>
                  </a:lnTo>
                  <a:lnTo>
                    <a:pt x="1895" y="470"/>
                  </a:lnTo>
                  <a:lnTo>
                    <a:pt x="1903" y="486"/>
                  </a:lnTo>
                  <a:lnTo>
                    <a:pt x="1910" y="503"/>
                  </a:lnTo>
                  <a:lnTo>
                    <a:pt x="1915" y="520"/>
                  </a:lnTo>
                  <a:lnTo>
                    <a:pt x="1921" y="536"/>
                  </a:lnTo>
                  <a:lnTo>
                    <a:pt x="1925" y="554"/>
                  </a:lnTo>
                  <a:lnTo>
                    <a:pt x="1929" y="573"/>
                  </a:lnTo>
                  <a:lnTo>
                    <a:pt x="1932" y="591"/>
                  </a:lnTo>
                  <a:lnTo>
                    <a:pt x="1934" y="611"/>
                  </a:lnTo>
                  <a:lnTo>
                    <a:pt x="1937" y="631"/>
                  </a:lnTo>
                  <a:lnTo>
                    <a:pt x="1939" y="651"/>
                  </a:lnTo>
                  <a:lnTo>
                    <a:pt x="1939" y="671"/>
                  </a:lnTo>
                  <a:lnTo>
                    <a:pt x="1939" y="694"/>
                  </a:lnTo>
                  <a:lnTo>
                    <a:pt x="1939" y="715"/>
                  </a:lnTo>
                  <a:lnTo>
                    <a:pt x="1937" y="738"/>
                  </a:lnTo>
                  <a:lnTo>
                    <a:pt x="1934" y="761"/>
                  </a:lnTo>
                  <a:lnTo>
                    <a:pt x="1932" y="784"/>
                  </a:lnTo>
                  <a:lnTo>
                    <a:pt x="1929" y="808"/>
                  </a:lnTo>
                  <a:lnTo>
                    <a:pt x="1924" y="832"/>
                  </a:lnTo>
                  <a:lnTo>
                    <a:pt x="1920" y="855"/>
                  </a:lnTo>
                  <a:lnTo>
                    <a:pt x="1914" y="881"/>
                  </a:lnTo>
                  <a:lnTo>
                    <a:pt x="1908" y="906"/>
                  </a:lnTo>
                  <a:lnTo>
                    <a:pt x="1901" y="931"/>
                  </a:lnTo>
                  <a:lnTo>
                    <a:pt x="1893" y="957"/>
                  </a:lnTo>
                  <a:lnTo>
                    <a:pt x="1884" y="984"/>
                  </a:lnTo>
                  <a:lnTo>
                    <a:pt x="1875" y="1010"/>
                  </a:lnTo>
                  <a:lnTo>
                    <a:pt x="1866" y="1036"/>
                  </a:lnTo>
                  <a:lnTo>
                    <a:pt x="1856" y="1063"/>
                  </a:lnTo>
                  <a:lnTo>
                    <a:pt x="1833" y="1118"/>
                  </a:lnTo>
                  <a:lnTo>
                    <a:pt x="1807" y="1174"/>
                  </a:lnTo>
                  <a:lnTo>
                    <a:pt x="1779" y="1229"/>
                  </a:lnTo>
                  <a:lnTo>
                    <a:pt x="1748" y="1286"/>
                  </a:lnTo>
                  <a:lnTo>
                    <a:pt x="1716" y="1343"/>
                  </a:lnTo>
                  <a:lnTo>
                    <a:pt x="1680" y="1400"/>
                  </a:lnTo>
                  <a:lnTo>
                    <a:pt x="1642" y="1458"/>
                  </a:lnTo>
                  <a:lnTo>
                    <a:pt x="1602" y="1515"/>
                  </a:lnTo>
                  <a:lnTo>
                    <a:pt x="1558" y="1573"/>
                  </a:lnTo>
                  <a:lnTo>
                    <a:pt x="1514" y="1630"/>
                  </a:lnTo>
                  <a:lnTo>
                    <a:pt x="1467" y="1688"/>
                  </a:lnTo>
                  <a:lnTo>
                    <a:pt x="1418" y="1745"/>
                  </a:lnTo>
                  <a:lnTo>
                    <a:pt x="1366" y="1801"/>
                  </a:lnTo>
                  <a:lnTo>
                    <a:pt x="1313" y="1857"/>
                  </a:lnTo>
                  <a:lnTo>
                    <a:pt x="1258" y="1912"/>
                  </a:lnTo>
                  <a:lnTo>
                    <a:pt x="1200" y="1966"/>
                  </a:lnTo>
                  <a:lnTo>
                    <a:pt x="1141" y="2019"/>
                  </a:lnTo>
                  <a:lnTo>
                    <a:pt x="1081" y="2072"/>
                  </a:lnTo>
                  <a:lnTo>
                    <a:pt x="1018" y="2124"/>
                  </a:lnTo>
                  <a:lnTo>
                    <a:pt x="953" y="2173"/>
                  </a:lnTo>
                  <a:lnTo>
                    <a:pt x="888" y="2223"/>
                  </a:lnTo>
                  <a:lnTo>
                    <a:pt x="821" y="2271"/>
                  </a:lnTo>
                  <a:lnTo>
                    <a:pt x="751" y="2316"/>
                  </a:lnTo>
                  <a:lnTo>
                    <a:pt x="681" y="2361"/>
                  </a:lnTo>
                  <a:lnTo>
                    <a:pt x="645" y="2382"/>
                  </a:lnTo>
                  <a:lnTo>
                    <a:pt x="610" y="2403"/>
                  </a:lnTo>
                  <a:lnTo>
                    <a:pt x="574" y="2425"/>
                  </a:lnTo>
                  <a:lnTo>
                    <a:pt x="537" y="2445"/>
                  </a:lnTo>
                  <a:lnTo>
                    <a:pt x="500" y="2465"/>
                  </a:lnTo>
                  <a:lnTo>
                    <a:pt x="462" y="2484"/>
                  </a:lnTo>
                  <a:lnTo>
                    <a:pt x="426" y="2503"/>
                  </a:lnTo>
                  <a:lnTo>
                    <a:pt x="388" y="2521"/>
                  </a:lnTo>
                  <a:lnTo>
                    <a:pt x="350" y="2538"/>
                  </a:lnTo>
                  <a:lnTo>
                    <a:pt x="311" y="2555"/>
                  </a:lnTo>
                  <a:lnTo>
                    <a:pt x="273" y="2573"/>
                  </a:lnTo>
                  <a:lnTo>
                    <a:pt x="234" y="2589"/>
                  </a:lnTo>
                  <a:lnTo>
                    <a:pt x="195" y="2604"/>
                  </a:lnTo>
                  <a:lnTo>
                    <a:pt x="155" y="2619"/>
                  </a:lnTo>
                  <a:lnTo>
                    <a:pt x="115" y="2633"/>
                  </a:lnTo>
                  <a:lnTo>
                    <a:pt x="75" y="2647"/>
                  </a:lnTo>
                  <a:lnTo>
                    <a:pt x="200" y="2689"/>
                  </a:lnTo>
                  <a:lnTo>
                    <a:pt x="75" y="2647"/>
                  </a:lnTo>
                  <a:lnTo>
                    <a:pt x="63" y="2652"/>
                  </a:lnTo>
                  <a:lnTo>
                    <a:pt x="52" y="2658"/>
                  </a:lnTo>
                  <a:lnTo>
                    <a:pt x="42" y="2665"/>
                  </a:lnTo>
                  <a:lnTo>
                    <a:pt x="33" y="2671"/>
                  </a:lnTo>
                  <a:lnTo>
                    <a:pt x="26" y="2679"/>
                  </a:lnTo>
                  <a:lnTo>
                    <a:pt x="19" y="2687"/>
                  </a:lnTo>
                  <a:lnTo>
                    <a:pt x="14" y="2696"/>
                  </a:lnTo>
                  <a:lnTo>
                    <a:pt x="9" y="2705"/>
                  </a:lnTo>
                  <a:lnTo>
                    <a:pt x="5" y="2715"/>
                  </a:lnTo>
                  <a:lnTo>
                    <a:pt x="3" y="2725"/>
                  </a:lnTo>
                  <a:lnTo>
                    <a:pt x="1" y="2735"/>
                  </a:lnTo>
                  <a:lnTo>
                    <a:pt x="0" y="2745"/>
                  </a:lnTo>
                  <a:lnTo>
                    <a:pt x="0" y="2755"/>
                  </a:lnTo>
                  <a:lnTo>
                    <a:pt x="1" y="2765"/>
                  </a:lnTo>
                  <a:lnTo>
                    <a:pt x="4" y="2775"/>
                  </a:lnTo>
                  <a:lnTo>
                    <a:pt x="7" y="2785"/>
                  </a:lnTo>
                  <a:lnTo>
                    <a:pt x="10" y="2794"/>
                  </a:lnTo>
                  <a:lnTo>
                    <a:pt x="15" y="2803"/>
                  </a:lnTo>
                  <a:lnTo>
                    <a:pt x="20" y="2812"/>
                  </a:lnTo>
                  <a:lnTo>
                    <a:pt x="26" y="2820"/>
                  </a:lnTo>
                  <a:lnTo>
                    <a:pt x="33" y="2827"/>
                  </a:lnTo>
                  <a:lnTo>
                    <a:pt x="39" y="2835"/>
                  </a:lnTo>
                  <a:lnTo>
                    <a:pt x="47" y="2841"/>
                  </a:lnTo>
                  <a:lnTo>
                    <a:pt x="56" y="2846"/>
                  </a:lnTo>
                  <a:lnTo>
                    <a:pt x="65" y="2851"/>
                  </a:lnTo>
                  <a:lnTo>
                    <a:pt x="75" y="2855"/>
                  </a:lnTo>
                  <a:lnTo>
                    <a:pt x="85" y="2858"/>
                  </a:lnTo>
                  <a:lnTo>
                    <a:pt x="96" y="2859"/>
                  </a:lnTo>
                  <a:lnTo>
                    <a:pt x="107" y="2860"/>
                  </a:lnTo>
                  <a:lnTo>
                    <a:pt x="119" y="2859"/>
                  </a:lnTo>
                  <a:lnTo>
                    <a:pt x="131" y="2856"/>
                  </a:lnTo>
                  <a:lnTo>
                    <a:pt x="144" y="2853"/>
                  </a:lnTo>
                  <a:lnTo>
                    <a:pt x="19" y="28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2608200" y="2444760"/>
            <a:ext cx="2676960" cy="3346560"/>
            <a:chOff x="2608200" y="2444760"/>
            <a:chExt cx="2676960" cy="3346560"/>
          </a:xfrm>
        </p:grpSpPr>
        <p:grpSp>
          <p:nvGrpSpPr>
            <p:cNvPr id="2762" name=""/>
            <p:cNvGrpSpPr/>
            <p:nvPr/>
          </p:nvGrpSpPr>
          <p:grpSpPr>
            <a:xfrm>
              <a:off x="2608200" y="3657600"/>
              <a:ext cx="1992240" cy="2133720"/>
              <a:chOff x="2608200" y="3657600"/>
              <a:chExt cx="1992240" cy="2133720"/>
            </a:xfrm>
          </p:grpSpPr>
          <p:sp>
            <p:nvSpPr>
              <p:cNvPr id="2763" name=""/>
              <p:cNvSpPr/>
              <p:nvPr/>
            </p:nvSpPr>
            <p:spPr>
              <a:xfrm>
                <a:off x="2608200" y="3657600"/>
                <a:ext cx="1992240" cy="2133720"/>
              </a:xfrm>
              <a:custGeom>
                <a:avLst/>
                <a:gdLst/>
                <a:ahLst/>
                <a:rect l="l" t="t" r="r" b="b"/>
                <a:pathLst>
                  <a:path w="7533" h="8065">
                    <a:moveTo>
                      <a:pt x="162" y="3826"/>
                    </a:moveTo>
                    <a:lnTo>
                      <a:pt x="162" y="3802"/>
                    </a:lnTo>
                    <a:lnTo>
                      <a:pt x="180" y="3784"/>
                    </a:lnTo>
                    <a:lnTo>
                      <a:pt x="222" y="3784"/>
                    </a:lnTo>
                    <a:lnTo>
                      <a:pt x="240" y="3766"/>
                    </a:lnTo>
                    <a:lnTo>
                      <a:pt x="264" y="3766"/>
                    </a:lnTo>
                    <a:lnTo>
                      <a:pt x="281" y="3743"/>
                    </a:lnTo>
                    <a:lnTo>
                      <a:pt x="360" y="3743"/>
                    </a:lnTo>
                    <a:lnTo>
                      <a:pt x="401" y="3725"/>
                    </a:lnTo>
                    <a:lnTo>
                      <a:pt x="539" y="3725"/>
                    </a:lnTo>
                    <a:lnTo>
                      <a:pt x="581" y="3707"/>
                    </a:lnTo>
                    <a:lnTo>
                      <a:pt x="742" y="3707"/>
                    </a:lnTo>
                    <a:lnTo>
                      <a:pt x="778" y="3682"/>
                    </a:lnTo>
                    <a:lnTo>
                      <a:pt x="898" y="3682"/>
                    </a:lnTo>
                    <a:lnTo>
                      <a:pt x="921" y="3665"/>
                    </a:lnTo>
                    <a:lnTo>
                      <a:pt x="999" y="3665"/>
                    </a:lnTo>
                    <a:lnTo>
                      <a:pt x="1040" y="3647"/>
                    </a:lnTo>
                    <a:lnTo>
                      <a:pt x="1059" y="3647"/>
                    </a:lnTo>
                    <a:lnTo>
                      <a:pt x="1101" y="3623"/>
                    </a:lnTo>
                    <a:lnTo>
                      <a:pt x="1136" y="3623"/>
                    </a:lnTo>
                    <a:lnTo>
                      <a:pt x="1179" y="3605"/>
                    </a:lnTo>
                    <a:lnTo>
                      <a:pt x="1197" y="3588"/>
                    </a:lnTo>
                    <a:lnTo>
                      <a:pt x="1238" y="3588"/>
                    </a:lnTo>
                    <a:lnTo>
                      <a:pt x="1280" y="3563"/>
                    </a:lnTo>
                    <a:lnTo>
                      <a:pt x="1298" y="3545"/>
                    </a:lnTo>
                    <a:lnTo>
                      <a:pt x="1339" y="3527"/>
                    </a:lnTo>
                    <a:lnTo>
                      <a:pt x="1357" y="3504"/>
                    </a:lnTo>
                    <a:lnTo>
                      <a:pt x="1400" y="3485"/>
                    </a:lnTo>
                    <a:lnTo>
                      <a:pt x="1418" y="3467"/>
                    </a:lnTo>
                    <a:lnTo>
                      <a:pt x="1460" y="3444"/>
                    </a:lnTo>
                    <a:lnTo>
                      <a:pt x="1478" y="3426"/>
                    </a:lnTo>
                    <a:lnTo>
                      <a:pt x="1519" y="3408"/>
                    </a:lnTo>
                    <a:lnTo>
                      <a:pt x="1537" y="3366"/>
                    </a:lnTo>
                    <a:lnTo>
                      <a:pt x="1555" y="3366"/>
                    </a:lnTo>
                    <a:lnTo>
                      <a:pt x="1597" y="3289"/>
                    </a:lnTo>
                    <a:lnTo>
                      <a:pt x="1615" y="3264"/>
                    </a:lnTo>
                    <a:lnTo>
                      <a:pt x="1656" y="3187"/>
                    </a:lnTo>
                    <a:lnTo>
                      <a:pt x="1699" y="3109"/>
                    </a:lnTo>
                    <a:lnTo>
                      <a:pt x="1717" y="3049"/>
                    </a:lnTo>
                    <a:lnTo>
                      <a:pt x="1758" y="2965"/>
                    </a:lnTo>
                    <a:lnTo>
                      <a:pt x="1776" y="2906"/>
                    </a:lnTo>
                    <a:lnTo>
                      <a:pt x="1795" y="2870"/>
                    </a:lnTo>
                    <a:lnTo>
                      <a:pt x="1818" y="2810"/>
                    </a:lnTo>
                    <a:lnTo>
                      <a:pt x="1836" y="2768"/>
                    </a:lnTo>
                    <a:lnTo>
                      <a:pt x="1877" y="2648"/>
                    </a:lnTo>
                    <a:lnTo>
                      <a:pt x="1896" y="2607"/>
                    </a:lnTo>
                    <a:lnTo>
                      <a:pt x="1896" y="2546"/>
                    </a:lnTo>
                    <a:lnTo>
                      <a:pt x="1938" y="2427"/>
                    </a:lnTo>
                    <a:lnTo>
                      <a:pt x="1956" y="2368"/>
                    </a:lnTo>
                    <a:lnTo>
                      <a:pt x="1973" y="2332"/>
                    </a:lnTo>
                    <a:lnTo>
                      <a:pt x="1998" y="2272"/>
                    </a:lnTo>
                    <a:lnTo>
                      <a:pt x="1998" y="2212"/>
                    </a:lnTo>
                    <a:lnTo>
                      <a:pt x="2034" y="2092"/>
                    </a:lnTo>
                    <a:lnTo>
                      <a:pt x="2075" y="1973"/>
                    </a:lnTo>
                    <a:lnTo>
                      <a:pt x="2093" y="1914"/>
                    </a:lnTo>
                    <a:lnTo>
                      <a:pt x="2093" y="1871"/>
                    </a:lnTo>
                    <a:lnTo>
                      <a:pt x="2135" y="1752"/>
                    </a:lnTo>
                    <a:lnTo>
                      <a:pt x="2153" y="1692"/>
                    </a:lnTo>
                    <a:lnTo>
                      <a:pt x="2171" y="1656"/>
                    </a:lnTo>
                    <a:lnTo>
                      <a:pt x="2212" y="1536"/>
                    </a:lnTo>
                    <a:lnTo>
                      <a:pt x="2231" y="1494"/>
                    </a:lnTo>
                    <a:lnTo>
                      <a:pt x="2255" y="1435"/>
                    </a:lnTo>
                    <a:lnTo>
                      <a:pt x="2272" y="1392"/>
                    </a:lnTo>
                    <a:lnTo>
                      <a:pt x="2290" y="1333"/>
                    </a:lnTo>
                    <a:lnTo>
                      <a:pt x="2333" y="1255"/>
                    </a:lnTo>
                    <a:lnTo>
                      <a:pt x="2351" y="1214"/>
                    </a:lnTo>
                    <a:lnTo>
                      <a:pt x="2374" y="1154"/>
                    </a:lnTo>
                    <a:lnTo>
                      <a:pt x="2410" y="1118"/>
                    </a:lnTo>
                    <a:lnTo>
                      <a:pt x="2452" y="1077"/>
                    </a:lnTo>
                    <a:lnTo>
                      <a:pt x="2493" y="998"/>
                    </a:lnTo>
                    <a:lnTo>
                      <a:pt x="2511" y="956"/>
                    </a:lnTo>
                    <a:lnTo>
                      <a:pt x="2554" y="915"/>
                    </a:lnTo>
                    <a:lnTo>
                      <a:pt x="2572" y="897"/>
                    </a:lnTo>
                    <a:lnTo>
                      <a:pt x="2613" y="855"/>
                    </a:lnTo>
                    <a:lnTo>
                      <a:pt x="2631" y="819"/>
                    </a:lnTo>
                    <a:lnTo>
                      <a:pt x="2673" y="778"/>
                    </a:lnTo>
                    <a:lnTo>
                      <a:pt x="2691" y="760"/>
                    </a:lnTo>
                    <a:lnTo>
                      <a:pt x="2709" y="717"/>
                    </a:lnTo>
                    <a:lnTo>
                      <a:pt x="2751" y="676"/>
                    </a:lnTo>
                    <a:lnTo>
                      <a:pt x="2793" y="657"/>
                    </a:lnTo>
                    <a:lnTo>
                      <a:pt x="2810" y="616"/>
                    </a:lnTo>
                    <a:lnTo>
                      <a:pt x="2853" y="580"/>
                    </a:lnTo>
                    <a:lnTo>
                      <a:pt x="2871" y="555"/>
                    </a:lnTo>
                    <a:lnTo>
                      <a:pt x="2912" y="520"/>
                    </a:lnTo>
                    <a:lnTo>
                      <a:pt x="2930" y="496"/>
                    </a:lnTo>
                    <a:lnTo>
                      <a:pt x="2972" y="461"/>
                    </a:lnTo>
                    <a:lnTo>
                      <a:pt x="3008" y="436"/>
                    </a:lnTo>
                    <a:lnTo>
                      <a:pt x="3031" y="418"/>
                    </a:lnTo>
                    <a:lnTo>
                      <a:pt x="3068" y="377"/>
                    </a:lnTo>
                    <a:lnTo>
                      <a:pt x="3110" y="359"/>
                    </a:lnTo>
                    <a:lnTo>
                      <a:pt x="3127" y="341"/>
                    </a:lnTo>
                    <a:lnTo>
                      <a:pt x="3170" y="299"/>
                    </a:lnTo>
                    <a:lnTo>
                      <a:pt x="3211" y="281"/>
                    </a:lnTo>
                    <a:lnTo>
                      <a:pt x="3229" y="257"/>
                    </a:lnTo>
                    <a:lnTo>
                      <a:pt x="3307" y="221"/>
                    </a:lnTo>
                    <a:lnTo>
                      <a:pt x="3330" y="197"/>
                    </a:lnTo>
                    <a:lnTo>
                      <a:pt x="3409" y="161"/>
                    </a:lnTo>
                    <a:lnTo>
                      <a:pt x="3426" y="137"/>
                    </a:lnTo>
                    <a:lnTo>
                      <a:pt x="3510" y="101"/>
                    </a:lnTo>
                    <a:lnTo>
                      <a:pt x="3546" y="78"/>
                    </a:lnTo>
                    <a:lnTo>
                      <a:pt x="3570" y="60"/>
                    </a:lnTo>
                    <a:lnTo>
                      <a:pt x="3606" y="60"/>
                    </a:lnTo>
                    <a:lnTo>
                      <a:pt x="3647" y="42"/>
                    </a:lnTo>
                    <a:lnTo>
                      <a:pt x="3665" y="42"/>
                    </a:lnTo>
                    <a:lnTo>
                      <a:pt x="3708" y="18"/>
                    </a:lnTo>
                    <a:lnTo>
                      <a:pt x="3749" y="18"/>
                    </a:lnTo>
                    <a:lnTo>
                      <a:pt x="3767" y="0"/>
                    </a:lnTo>
                    <a:lnTo>
                      <a:pt x="4048" y="0"/>
                    </a:lnTo>
                    <a:lnTo>
                      <a:pt x="4084" y="18"/>
                    </a:lnTo>
                    <a:lnTo>
                      <a:pt x="4108" y="18"/>
                    </a:lnTo>
                    <a:lnTo>
                      <a:pt x="4144" y="42"/>
                    </a:lnTo>
                    <a:lnTo>
                      <a:pt x="4168" y="60"/>
                    </a:lnTo>
                    <a:lnTo>
                      <a:pt x="4246" y="101"/>
                    </a:lnTo>
                    <a:lnTo>
                      <a:pt x="4263" y="119"/>
                    </a:lnTo>
                    <a:lnTo>
                      <a:pt x="4347" y="161"/>
                    </a:lnTo>
                    <a:lnTo>
                      <a:pt x="4383" y="179"/>
                    </a:lnTo>
                    <a:lnTo>
                      <a:pt x="4407" y="221"/>
                    </a:lnTo>
                    <a:lnTo>
                      <a:pt x="4443" y="238"/>
                    </a:lnTo>
                    <a:lnTo>
                      <a:pt x="4484" y="281"/>
                    </a:lnTo>
                    <a:lnTo>
                      <a:pt x="4502" y="299"/>
                    </a:lnTo>
                    <a:lnTo>
                      <a:pt x="4545" y="317"/>
                    </a:lnTo>
                    <a:lnTo>
                      <a:pt x="4586" y="359"/>
                    </a:lnTo>
                    <a:lnTo>
                      <a:pt x="4604" y="400"/>
                    </a:lnTo>
                    <a:lnTo>
                      <a:pt x="4646" y="418"/>
                    </a:lnTo>
                    <a:lnTo>
                      <a:pt x="4682" y="461"/>
                    </a:lnTo>
                    <a:lnTo>
                      <a:pt x="4705" y="478"/>
                    </a:lnTo>
                    <a:lnTo>
                      <a:pt x="4742" y="520"/>
                    </a:lnTo>
                    <a:lnTo>
                      <a:pt x="4766" y="538"/>
                    </a:lnTo>
                    <a:lnTo>
                      <a:pt x="4801" y="580"/>
                    </a:lnTo>
                    <a:lnTo>
                      <a:pt x="4844" y="598"/>
                    </a:lnTo>
                    <a:lnTo>
                      <a:pt x="4862" y="639"/>
                    </a:lnTo>
                    <a:lnTo>
                      <a:pt x="4903" y="657"/>
                    </a:lnTo>
                    <a:lnTo>
                      <a:pt x="4921" y="699"/>
                    </a:lnTo>
                    <a:lnTo>
                      <a:pt x="4963" y="717"/>
                    </a:lnTo>
                    <a:lnTo>
                      <a:pt x="5005" y="760"/>
                    </a:lnTo>
                    <a:lnTo>
                      <a:pt x="5022" y="778"/>
                    </a:lnTo>
                    <a:lnTo>
                      <a:pt x="5065" y="795"/>
                    </a:lnTo>
                    <a:lnTo>
                      <a:pt x="5083" y="837"/>
                    </a:lnTo>
                    <a:lnTo>
                      <a:pt x="5124" y="855"/>
                    </a:lnTo>
                    <a:lnTo>
                      <a:pt x="5161" y="897"/>
                    </a:lnTo>
                    <a:lnTo>
                      <a:pt x="5202" y="915"/>
                    </a:lnTo>
                    <a:lnTo>
                      <a:pt x="5220" y="938"/>
                    </a:lnTo>
                    <a:lnTo>
                      <a:pt x="5262" y="938"/>
                    </a:lnTo>
                    <a:lnTo>
                      <a:pt x="5304" y="974"/>
                    </a:lnTo>
                    <a:lnTo>
                      <a:pt x="5364" y="974"/>
                    </a:lnTo>
                    <a:lnTo>
                      <a:pt x="5382" y="998"/>
                    </a:lnTo>
                    <a:lnTo>
                      <a:pt x="5459" y="998"/>
                    </a:lnTo>
                    <a:lnTo>
                      <a:pt x="5483" y="974"/>
                    </a:lnTo>
                    <a:lnTo>
                      <a:pt x="5542" y="974"/>
                    </a:lnTo>
                    <a:lnTo>
                      <a:pt x="5560" y="956"/>
                    </a:lnTo>
                    <a:lnTo>
                      <a:pt x="5579" y="956"/>
                    </a:lnTo>
                    <a:lnTo>
                      <a:pt x="5621" y="915"/>
                    </a:lnTo>
                    <a:lnTo>
                      <a:pt x="5638" y="915"/>
                    </a:lnTo>
                    <a:lnTo>
                      <a:pt x="5681" y="879"/>
                    </a:lnTo>
                    <a:lnTo>
                      <a:pt x="5699" y="855"/>
                    </a:lnTo>
                    <a:lnTo>
                      <a:pt x="5699" y="837"/>
                    </a:lnTo>
                    <a:lnTo>
                      <a:pt x="5740" y="795"/>
                    </a:lnTo>
                    <a:lnTo>
                      <a:pt x="5782" y="760"/>
                    </a:lnTo>
                    <a:lnTo>
                      <a:pt x="5818" y="717"/>
                    </a:lnTo>
                    <a:lnTo>
                      <a:pt x="5842" y="699"/>
                    </a:lnTo>
                    <a:lnTo>
                      <a:pt x="5842" y="676"/>
                    </a:lnTo>
                    <a:lnTo>
                      <a:pt x="5877" y="639"/>
                    </a:lnTo>
                    <a:lnTo>
                      <a:pt x="5920" y="598"/>
                    </a:lnTo>
                    <a:lnTo>
                      <a:pt x="5920" y="580"/>
                    </a:lnTo>
                    <a:lnTo>
                      <a:pt x="5961" y="538"/>
                    </a:lnTo>
                    <a:lnTo>
                      <a:pt x="5998" y="496"/>
                    </a:lnTo>
                    <a:lnTo>
                      <a:pt x="5998" y="478"/>
                    </a:lnTo>
                    <a:lnTo>
                      <a:pt x="6021" y="461"/>
                    </a:lnTo>
                    <a:lnTo>
                      <a:pt x="6039" y="461"/>
                    </a:lnTo>
                    <a:lnTo>
                      <a:pt x="6082" y="418"/>
                    </a:lnTo>
                    <a:lnTo>
                      <a:pt x="6099" y="400"/>
                    </a:lnTo>
                    <a:lnTo>
                      <a:pt x="6117" y="400"/>
                    </a:lnTo>
                    <a:lnTo>
                      <a:pt x="6135" y="377"/>
                    </a:lnTo>
                    <a:lnTo>
                      <a:pt x="6176" y="377"/>
                    </a:lnTo>
                    <a:lnTo>
                      <a:pt x="6194" y="359"/>
                    </a:lnTo>
                    <a:lnTo>
                      <a:pt x="6219" y="377"/>
                    </a:lnTo>
                    <a:lnTo>
                      <a:pt x="6338" y="377"/>
                    </a:lnTo>
                    <a:lnTo>
                      <a:pt x="6356" y="400"/>
                    </a:lnTo>
                    <a:lnTo>
                      <a:pt x="6397" y="400"/>
                    </a:lnTo>
                    <a:lnTo>
                      <a:pt x="6416" y="418"/>
                    </a:lnTo>
                    <a:lnTo>
                      <a:pt x="6434" y="418"/>
                    </a:lnTo>
                    <a:lnTo>
                      <a:pt x="6458" y="436"/>
                    </a:lnTo>
                    <a:lnTo>
                      <a:pt x="6493" y="436"/>
                    </a:lnTo>
                    <a:lnTo>
                      <a:pt x="6518" y="461"/>
                    </a:lnTo>
                    <a:lnTo>
                      <a:pt x="6536" y="461"/>
                    </a:lnTo>
                    <a:lnTo>
                      <a:pt x="6536" y="478"/>
                    </a:lnTo>
                    <a:lnTo>
                      <a:pt x="6554" y="496"/>
                    </a:lnTo>
                    <a:lnTo>
                      <a:pt x="6577" y="496"/>
                    </a:lnTo>
                    <a:lnTo>
                      <a:pt x="6595" y="520"/>
                    </a:lnTo>
                    <a:lnTo>
                      <a:pt x="6613" y="520"/>
                    </a:lnTo>
                    <a:lnTo>
                      <a:pt x="6655" y="555"/>
                    </a:lnTo>
                    <a:lnTo>
                      <a:pt x="6696" y="598"/>
                    </a:lnTo>
                    <a:lnTo>
                      <a:pt x="6732" y="639"/>
                    </a:lnTo>
                    <a:lnTo>
                      <a:pt x="6757" y="657"/>
                    </a:lnTo>
                    <a:lnTo>
                      <a:pt x="6757" y="676"/>
                    </a:lnTo>
                    <a:lnTo>
                      <a:pt x="6792" y="717"/>
                    </a:lnTo>
                    <a:lnTo>
                      <a:pt x="6816" y="735"/>
                    </a:lnTo>
                    <a:lnTo>
                      <a:pt x="6816" y="778"/>
                    </a:lnTo>
                    <a:lnTo>
                      <a:pt x="6853" y="819"/>
                    </a:lnTo>
                    <a:lnTo>
                      <a:pt x="6853" y="837"/>
                    </a:lnTo>
                    <a:lnTo>
                      <a:pt x="6876" y="879"/>
                    </a:lnTo>
                    <a:lnTo>
                      <a:pt x="6894" y="897"/>
                    </a:lnTo>
                    <a:lnTo>
                      <a:pt x="6894" y="915"/>
                    </a:lnTo>
                    <a:lnTo>
                      <a:pt x="6912" y="956"/>
                    </a:lnTo>
                    <a:lnTo>
                      <a:pt x="6912" y="974"/>
                    </a:lnTo>
                    <a:lnTo>
                      <a:pt x="6936" y="1016"/>
                    </a:lnTo>
                    <a:lnTo>
                      <a:pt x="6936" y="1058"/>
                    </a:lnTo>
                    <a:lnTo>
                      <a:pt x="6954" y="1077"/>
                    </a:lnTo>
                    <a:lnTo>
                      <a:pt x="6954" y="1136"/>
                    </a:lnTo>
                    <a:lnTo>
                      <a:pt x="6972" y="1178"/>
                    </a:lnTo>
                    <a:lnTo>
                      <a:pt x="6972" y="1255"/>
                    </a:lnTo>
                    <a:lnTo>
                      <a:pt x="6996" y="1298"/>
                    </a:lnTo>
                    <a:lnTo>
                      <a:pt x="6996" y="1435"/>
                    </a:lnTo>
                    <a:lnTo>
                      <a:pt x="7013" y="1494"/>
                    </a:lnTo>
                    <a:lnTo>
                      <a:pt x="7013" y="2870"/>
                    </a:lnTo>
                    <a:lnTo>
                      <a:pt x="7031" y="2929"/>
                    </a:lnTo>
                    <a:lnTo>
                      <a:pt x="7031" y="3264"/>
                    </a:lnTo>
                    <a:lnTo>
                      <a:pt x="7056" y="3306"/>
                    </a:lnTo>
                    <a:lnTo>
                      <a:pt x="7056" y="3426"/>
                    </a:lnTo>
                    <a:lnTo>
                      <a:pt x="7074" y="3444"/>
                    </a:lnTo>
                    <a:lnTo>
                      <a:pt x="7074" y="3504"/>
                    </a:lnTo>
                    <a:lnTo>
                      <a:pt x="7092" y="3527"/>
                    </a:lnTo>
                    <a:lnTo>
                      <a:pt x="7092" y="3588"/>
                    </a:lnTo>
                    <a:lnTo>
                      <a:pt x="7115" y="3605"/>
                    </a:lnTo>
                    <a:lnTo>
                      <a:pt x="7115" y="3647"/>
                    </a:lnTo>
                    <a:lnTo>
                      <a:pt x="7133" y="3665"/>
                    </a:lnTo>
                    <a:lnTo>
                      <a:pt x="7133" y="3682"/>
                    </a:lnTo>
                    <a:lnTo>
                      <a:pt x="7175" y="3725"/>
                    </a:lnTo>
                    <a:lnTo>
                      <a:pt x="7175" y="3743"/>
                    </a:lnTo>
                    <a:lnTo>
                      <a:pt x="7193" y="3766"/>
                    </a:lnTo>
                    <a:lnTo>
                      <a:pt x="7193" y="3784"/>
                    </a:lnTo>
                    <a:lnTo>
                      <a:pt x="7234" y="3826"/>
                    </a:lnTo>
                    <a:lnTo>
                      <a:pt x="7234" y="3844"/>
                    </a:lnTo>
                    <a:lnTo>
                      <a:pt x="7253" y="3844"/>
                    </a:lnTo>
                    <a:lnTo>
                      <a:pt x="7271" y="3862"/>
                    </a:lnTo>
                    <a:lnTo>
                      <a:pt x="7271" y="3886"/>
                    </a:lnTo>
                    <a:lnTo>
                      <a:pt x="7295" y="3886"/>
                    </a:lnTo>
                    <a:lnTo>
                      <a:pt x="7313" y="3903"/>
                    </a:lnTo>
                    <a:lnTo>
                      <a:pt x="7313" y="3921"/>
                    </a:lnTo>
                    <a:lnTo>
                      <a:pt x="7330" y="3921"/>
                    </a:lnTo>
                    <a:lnTo>
                      <a:pt x="7355" y="3946"/>
                    </a:lnTo>
                    <a:lnTo>
                      <a:pt x="7355" y="3964"/>
                    </a:lnTo>
                    <a:lnTo>
                      <a:pt x="7373" y="3964"/>
                    </a:lnTo>
                    <a:lnTo>
                      <a:pt x="7373" y="3982"/>
                    </a:lnTo>
                    <a:lnTo>
                      <a:pt x="7391" y="3982"/>
                    </a:lnTo>
                    <a:lnTo>
                      <a:pt x="7432" y="4024"/>
                    </a:lnTo>
                    <a:lnTo>
                      <a:pt x="7474" y="4065"/>
                    </a:lnTo>
                    <a:lnTo>
                      <a:pt x="7474" y="4083"/>
                    </a:lnTo>
                    <a:lnTo>
                      <a:pt x="7510" y="4126"/>
                    </a:lnTo>
                    <a:lnTo>
                      <a:pt x="7510" y="4185"/>
                    </a:lnTo>
                    <a:lnTo>
                      <a:pt x="7533" y="4203"/>
                    </a:lnTo>
                    <a:lnTo>
                      <a:pt x="7533" y="4263"/>
                    </a:lnTo>
                    <a:lnTo>
                      <a:pt x="7510" y="4263"/>
                    </a:lnTo>
                    <a:lnTo>
                      <a:pt x="7510" y="4340"/>
                    </a:lnTo>
                    <a:lnTo>
                      <a:pt x="7492" y="4364"/>
                    </a:lnTo>
                    <a:lnTo>
                      <a:pt x="7492" y="4400"/>
                    </a:lnTo>
                    <a:lnTo>
                      <a:pt x="7474" y="4425"/>
                    </a:lnTo>
                    <a:lnTo>
                      <a:pt x="7474" y="4442"/>
                    </a:lnTo>
                    <a:lnTo>
                      <a:pt x="7450" y="4460"/>
                    </a:lnTo>
                    <a:lnTo>
                      <a:pt x="7450" y="4502"/>
                    </a:lnTo>
                    <a:lnTo>
                      <a:pt x="7432" y="4502"/>
                    </a:lnTo>
                    <a:lnTo>
                      <a:pt x="7432" y="4519"/>
                    </a:lnTo>
                    <a:lnTo>
                      <a:pt x="7391" y="4562"/>
                    </a:lnTo>
                    <a:lnTo>
                      <a:pt x="7391" y="4580"/>
                    </a:lnTo>
                    <a:lnTo>
                      <a:pt x="7355" y="4621"/>
                    </a:lnTo>
                    <a:lnTo>
                      <a:pt x="7355" y="4639"/>
                    </a:lnTo>
                    <a:lnTo>
                      <a:pt x="7330" y="4639"/>
                    </a:lnTo>
                    <a:lnTo>
                      <a:pt x="7330" y="4663"/>
                    </a:lnTo>
                    <a:lnTo>
                      <a:pt x="7295" y="4699"/>
                    </a:lnTo>
                    <a:lnTo>
                      <a:pt x="7295" y="4723"/>
                    </a:lnTo>
                    <a:lnTo>
                      <a:pt x="7271" y="4723"/>
                    </a:lnTo>
                    <a:lnTo>
                      <a:pt x="7271" y="4740"/>
                    </a:lnTo>
                    <a:lnTo>
                      <a:pt x="7253" y="4740"/>
                    </a:lnTo>
                    <a:lnTo>
                      <a:pt x="7253" y="4759"/>
                    </a:lnTo>
                    <a:lnTo>
                      <a:pt x="7211" y="4801"/>
                    </a:lnTo>
                    <a:lnTo>
                      <a:pt x="7193" y="4819"/>
                    </a:lnTo>
                    <a:lnTo>
                      <a:pt x="7193" y="4842"/>
                    </a:lnTo>
                    <a:lnTo>
                      <a:pt x="7151" y="4842"/>
                    </a:lnTo>
                    <a:lnTo>
                      <a:pt x="7151" y="4861"/>
                    </a:lnTo>
                    <a:lnTo>
                      <a:pt x="7133" y="4861"/>
                    </a:lnTo>
                    <a:lnTo>
                      <a:pt x="7133" y="4879"/>
                    </a:lnTo>
                    <a:lnTo>
                      <a:pt x="7092" y="4879"/>
                    </a:lnTo>
                    <a:lnTo>
                      <a:pt x="7074" y="4902"/>
                    </a:lnTo>
                    <a:lnTo>
                      <a:pt x="7031" y="4902"/>
                    </a:lnTo>
                    <a:lnTo>
                      <a:pt x="7013" y="4920"/>
                    </a:lnTo>
                    <a:lnTo>
                      <a:pt x="6912" y="4920"/>
                    </a:lnTo>
                    <a:lnTo>
                      <a:pt x="6912" y="4938"/>
                    </a:lnTo>
                    <a:lnTo>
                      <a:pt x="6816" y="4938"/>
                    </a:lnTo>
                    <a:lnTo>
                      <a:pt x="6816" y="4963"/>
                    </a:lnTo>
                    <a:lnTo>
                      <a:pt x="6775" y="4963"/>
                    </a:lnTo>
                    <a:lnTo>
                      <a:pt x="6757" y="4980"/>
                    </a:lnTo>
                    <a:lnTo>
                      <a:pt x="6732" y="4980"/>
                    </a:lnTo>
                    <a:lnTo>
                      <a:pt x="6696" y="5022"/>
                    </a:lnTo>
                    <a:lnTo>
                      <a:pt x="6655" y="5057"/>
                    </a:lnTo>
                    <a:lnTo>
                      <a:pt x="6655" y="5082"/>
                    </a:lnTo>
                    <a:lnTo>
                      <a:pt x="6637" y="5082"/>
                    </a:lnTo>
                    <a:lnTo>
                      <a:pt x="6637" y="5141"/>
                    </a:lnTo>
                    <a:lnTo>
                      <a:pt x="6613" y="5141"/>
                    </a:lnTo>
                    <a:lnTo>
                      <a:pt x="6613" y="5177"/>
                    </a:lnTo>
                    <a:lnTo>
                      <a:pt x="6595" y="5201"/>
                    </a:lnTo>
                    <a:lnTo>
                      <a:pt x="6595" y="5577"/>
                    </a:lnTo>
                    <a:lnTo>
                      <a:pt x="6613" y="5620"/>
                    </a:lnTo>
                    <a:lnTo>
                      <a:pt x="6613" y="5877"/>
                    </a:lnTo>
                    <a:lnTo>
                      <a:pt x="6637" y="5894"/>
                    </a:lnTo>
                    <a:lnTo>
                      <a:pt x="6637" y="6176"/>
                    </a:lnTo>
                    <a:lnTo>
                      <a:pt x="6613" y="6193"/>
                    </a:lnTo>
                    <a:lnTo>
                      <a:pt x="6613" y="6331"/>
                    </a:lnTo>
                    <a:lnTo>
                      <a:pt x="6595" y="6355"/>
                    </a:lnTo>
                    <a:lnTo>
                      <a:pt x="6595" y="6432"/>
                    </a:lnTo>
                    <a:lnTo>
                      <a:pt x="6577" y="6451"/>
                    </a:lnTo>
                    <a:lnTo>
                      <a:pt x="6577" y="6510"/>
                    </a:lnTo>
                    <a:lnTo>
                      <a:pt x="6554" y="6535"/>
                    </a:lnTo>
                    <a:lnTo>
                      <a:pt x="6536" y="6571"/>
                    </a:lnTo>
                    <a:lnTo>
                      <a:pt x="6536" y="6594"/>
                    </a:lnTo>
                    <a:lnTo>
                      <a:pt x="6518" y="6630"/>
                    </a:lnTo>
                    <a:lnTo>
                      <a:pt x="6518" y="6672"/>
                    </a:lnTo>
                    <a:lnTo>
                      <a:pt x="6493" y="6690"/>
                    </a:lnTo>
                    <a:lnTo>
                      <a:pt x="6493" y="6731"/>
                    </a:lnTo>
                    <a:lnTo>
                      <a:pt x="6475" y="6774"/>
                    </a:lnTo>
                    <a:lnTo>
                      <a:pt x="6475" y="6792"/>
                    </a:lnTo>
                    <a:lnTo>
                      <a:pt x="6434" y="6870"/>
                    </a:lnTo>
                    <a:lnTo>
                      <a:pt x="6434" y="6911"/>
                    </a:lnTo>
                    <a:lnTo>
                      <a:pt x="6397" y="6989"/>
                    </a:lnTo>
                    <a:lnTo>
                      <a:pt x="6397" y="7013"/>
                    </a:lnTo>
                    <a:lnTo>
                      <a:pt x="6356" y="7091"/>
                    </a:lnTo>
                    <a:lnTo>
                      <a:pt x="6356" y="7132"/>
                    </a:lnTo>
                    <a:lnTo>
                      <a:pt x="6314" y="7210"/>
                    </a:lnTo>
                    <a:lnTo>
                      <a:pt x="6296" y="7228"/>
                    </a:lnTo>
                    <a:lnTo>
                      <a:pt x="6296" y="7270"/>
                    </a:lnTo>
                    <a:lnTo>
                      <a:pt x="6255" y="7347"/>
                    </a:lnTo>
                    <a:lnTo>
                      <a:pt x="6237" y="7390"/>
                    </a:lnTo>
                    <a:lnTo>
                      <a:pt x="6219" y="7408"/>
                    </a:lnTo>
                    <a:lnTo>
                      <a:pt x="6176" y="7491"/>
                    </a:lnTo>
                    <a:lnTo>
                      <a:pt x="6159" y="7509"/>
                    </a:lnTo>
                    <a:lnTo>
                      <a:pt x="6135" y="7551"/>
                    </a:lnTo>
                    <a:lnTo>
                      <a:pt x="6117" y="7568"/>
                    </a:lnTo>
                    <a:lnTo>
                      <a:pt x="6099" y="7611"/>
                    </a:lnTo>
                    <a:lnTo>
                      <a:pt x="6057" y="7647"/>
                    </a:lnTo>
                    <a:lnTo>
                      <a:pt x="6021" y="7688"/>
                    </a:lnTo>
                    <a:lnTo>
                      <a:pt x="5998" y="7730"/>
                    </a:lnTo>
                    <a:lnTo>
                      <a:pt x="5961" y="7748"/>
                    </a:lnTo>
                    <a:lnTo>
                      <a:pt x="5938" y="7766"/>
                    </a:lnTo>
                    <a:lnTo>
                      <a:pt x="5920" y="7808"/>
                    </a:lnTo>
                    <a:lnTo>
                      <a:pt x="5877" y="7826"/>
                    </a:lnTo>
                    <a:lnTo>
                      <a:pt x="5859" y="7850"/>
                    </a:lnTo>
                    <a:lnTo>
                      <a:pt x="5818" y="7867"/>
                    </a:lnTo>
                    <a:lnTo>
                      <a:pt x="5800" y="7885"/>
                    </a:lnTo>
                    <a:lnTo>
                      <a:pt x="5758" y="7910"/>
                    </a:lnTo>
                    <a:lnTo>
                      <a:pt x="5722" y="7910"/>
                    </a:lnTo>
                    <a:lnTo>
                      <a:pt x="5681" y="7928"/>
                    </a:lnTo>
                    <a:lnTo>
                      <a:pt x="5681" y="7946"/>
                    </a:lnTo>
                    <a:lnTo>
                      <a:pt x="5638" y="7946"/>
                    </a:lnTo>
                    <a:lnTo>
                      <a:pt x="5603" y="7969"/>
                    </a:lnTo>
                    <a:lnTo>
                      <a:pt x="5560" y="7969"/>
                    </a:lnTo>
                    <a:lnTo>
                      <a:pt x="5519" y="7987"/>
                    </a:lnTo>
                    <a:lnTo>
                      <a:pt x="5483" y="7987"/>
                    </a:lnTo>
                    <a:lnTo>
                      <a:pt x="5423" y="8005"/>
                    </a:lnTo>
                    <a:lnTo>
                      <a:pt x="5382" y="8005"/>
                    </a:lnTo>
                    <a:lnTo>
                      <a:pt x="5339" y="8029"/>
                    </a:lnTo>
                    <a:lnTo>
                      <a:pt x="5304" y="8029"/>
                    </a:lnTo>
                    <a:lnTo>
                      <a:pt x="5244" y="8047"/>
                    </a:lnTo>
                    <a:lnTo>
                      <a:pt x="5142" y="8047"/>
                    </a:lnTo>
                    <a:lnTo>
                      <a:pt x="5101" y="8065"/>
                    </a:lnTo>
                    <a:lnTo>
                      <a:pt x="4365" y="8065"/>
                    </a:lnTo>
                    <a:lnTo>
                      <a:pt x="4324" y="8047"/>
                    </a:lnTo>
                    <a:lnTo>
                      <a:pt x="4203" y="8047"/>
                    </a:lnTo>
                    <a:lnTo>
                      <a:pt x="4144" y="8029"/>
                    </a:lnTo>
                    <a:lnTo>
                      <a:pt x="4084" y="8029"/>
                    </a:lnTo>
                    <a:lnTo>
                      <a:pt x="3964" y="7987"/>
                    </a:lnTo>
                    <a:lnTo>
                      <a:pt x="3905" y="7987"/>
                    </a:lnTo>
                    <a:lnTo>
                      <a:pt x="3845" y="7969"/>
                    </a:lnTo>
                    <a:lnTo>
                      <a:pt x="3809" y="7946"/>
                    </a:lnTo>
                    <a:lnTo>
                      <a:pt x="3749" y="7928"/>
                    </a:lnTo>
                    <a:lnTo>
                      <a:pt x="3690" y="7928"/>
                    </a:lnTo>
                    <a:lnTo>
                      <a:pt x="3570" y="7885"/>
                    </a:lnTo>
                    <a:lnTo>
                      <a:pt x="3528" y="7867"/>
                    </a:lnTo>
                    <a:lnTo>
                      <a:pt x="3468" y="7826"/>
                    </a:lnTo>
                    <a:lnTo>
                      <a:pt x="3409" y="7808"/>
                    </a:lnTo>
                    <a:lnTo>
                      <a:pt x="3366" y="7790"/>
                    </a:lnTo>
                    <a:lnTo>
                      <a:pt x="3307" y="7766"/>
                    </a:lnTo>
                    <a:lnTo>
                      <a:pt x="3271" y="7730"/>
                    </a:lnTo>
                    <a:lnTo>
                      <a:pt x="3247" y="7730"/>
                    </a:lnTo>
                    <a:lnTo>
                      <a:pt x="3188" y="7688"/>
                    </a:lnTo>
                    <a:lnTo>
                      <a:pt x="3152" y="7647"/>
                    </a:lnTo>
                    <a:lnTo>
                      <a:pt x="3092" y="7629"/>
                    </a:lnTo>
                    <a:lnTo>
                      <a:pt x="3049" y="7586"/>
                    </a:lnTo>
                    <a:lnTo>
                      <a:pt x="2990" y="7551"/>
                    </a:lnTo>
                    <a:lnTo>
                      <a:pt x="2948" y="7509"/>
                    </a:lnTo>
                    <a:lnTo>
                      <a:pt x="2889" y="7449"/>
                    </a:lnTo>
                    <a:lnTo>
                      <a:pt x="2853" y="7408"/>
                    </a:lnTo>
                    <a:lnTo>
                      <a:pt x="2793" y="7372"/>
                    </a:lnTo>
                    <a:lnTo>
                      <a:pt x="2751" y="7312"/>
                    </a:lnTo>
                    <a:lnTo>
                      <a:pt x="2691" y="7251"/>
                    </a:lnTo>
                    <a:lnTo>
                      <a:pt x="2650" y="7210"/>
                    </a:lnTo>
                    <a:lnTo>
                      <a:pt x="2589" y="7150"/>
                    </a:lnTo>
                    <a:lnTo>
                      <a:pt x="2554" y="7091"/>
                    </a:lnTo>
                    <a:lnTo>
                      <a:pt x="2493" y="7030"/>
                    </a:lnTo>
                    <a:lnTo>
                      <a:pt x="2452" y="6971"/>
                    </a:lnTo>
                    <a:lnTo>
                      <a:pt x="2392" y="6911"/>
                    </a:lnTo>
                    <a:lnTo>
                      <a:pt x="2351" y="6852"/>
                    </a:lnTo>
                    <a:lnTo>
                      <a:pt x="2290" y="6792"/>
                    </a:lnTo>
                    <a:lnTo>
                      <a:pt x="2255" y="6731"/>
                    </a:lnTo>
                    <a:lnTo>
                      <a:pt x="2194" y="6672"/>
                    </a:lnTo>
                    <a:lnTo>
                      <a:pt x="2111" y="6553"/>
                    </a:lnTo>
                    <a:lnTo>
                      <a:pt x="2052" y="6493"/>
                    </a:lnTo>
                    <a:lnTo>
                      <a:pt x="2016" y="6414"/>
                    </a:lnTo>
                    <a:lnTo>
                      <a:pt x="1956" y="6355"/>
                    </a:lnTo>
                    <a:lnTo>
                      <a:pt x="1877" y="6236"/>
                    </a:lnTo>
                    <a:lnTo>
                      <a:pt x="1836" y="6176"/>
                    </a:lnTo>
                    <a:lnTo>
                      <a:pt x="1776" y="6116"/>
                    </a:lnTo>
                    <a:lnTo>
                      <a:pt x="1699" y="5996"/>
                    </a:lnTo>
                    <a:lnTo>
                      <a:pt x="1615" y="5877"/>
                    </a:lnTo>
                    <a:lnTo>
                      <a:pt x="1555" y="5817"/>
                    </a:lnTo>
                    <a:lnTo>
                      <a:pt x="1478" y="5698"/>
                    </a:lnTo>
                    <a:lnTo>
                      <a:pt x="1435" y="5656"/>
                    </a:lnTo>
                    <a:lnTo>
                      <a:pt x="1400" y="5596"/>
                    </a:lnTo>
                    <a:lnTo>
                      <a:pt x="1357" y="5560"/>
                    </a:lnTo>
                    <a:lnTo>
                      <a:pt x="1316" y="5500"/>
                    </a:lnTo>
                    <a:lnTo>
                      <a:pt x="1298" y="5458"/>
                    </a:lnTo>
                    <a:lnTo>
                      <a:pt x="1256" y="5417"/>
                    </a:lnTo>
                    <a:lnTo>
                      <a:pt x="1220" y="5356"/>
                    </a:lnTo>
                    <a:lnTo>
                      <a:pt x="1136" y="5279"/>
                    </a:lnTo>
                    <a:lnTo>
                      <a:pt x="1059" y="5201"/>
                    </a:lnTo>
                    <a:lnTo>
                      <a:pt x="1040" y="5159"/>
                    </a:lnTo>
                    <a:lnTo>
                      <a:pt x="999" y="5141"/>
                    </a:lnTo>
                    <a:lnTo>
                      <a:pt x="981" y="5100"/>
                    </a:lnTo>
                    <a:lnTo>
                      <a:pt x="939" y="5082"/>
                    </a:lnTo>
                    <a:lnTo>
                      <a:pt x="921" y="5057"/>
                    </a:lnTo>
                    <a:lnTo>
                      <a:pt x="880" y="5022"/>
                    </a:lnTo>
                    <a:lnTo>
                      <a:pt x="862" y="4998"/>
                    </a:lnTo>
                    <a:lnTo>
                      <a:pt x="819" y="4980"/>
                    </a:lnTo>
                    <a:lnTo>
                      <a:pt x="778" y="4938"/>
                    </a:lnTo>
                    <a:lnTo>
                      <a:pt x="742" y="4920"/>
                    </a:lnTo>
                    <a:lnTo>
                      <a:pt x="700" y="4879"/>
                    </a:lnTo>
                    <a:lnTo>
                      <a:pt x="682" y="4861"/>
                    </a:lnTo>
                    <a:lnTo>
                      <a:pt x="641" y="4842"/>
                    </a:lnTo>
                    <a:lnTo>
                      <a:pt x="598" y="4801"/>
                    </a:lnTo>
                    <a:lnTo>
                      <a:pt x="563" y="4759"/>
                    </a:lnTo>
                    <a:lnTo>
                      <a:pt x="539" y="4759"/>
                    </a:lnTo>
                    <a:lnTo>
                      <a:pt x="502" y="4723"/>
                    </a:lnTo>
                    <a:lnTo>
                      <a:pt x="479" y="4723"/>
                    </a:lnTo>
                    <a:lnTo>
                      <a:pt x="443" y="4681"/>
                    </a:lnTo>
                    <a:lnTo>
                      <a:pt x="419" y="4681"/>
                    </a:lnTo>
                    <a:lnTo>
                      <a:pt x="383" y="4639"/>
                    </a:lnTo>
                    <a:lnTo>
                      <a:pt x="360" y="4639"/>
                    </a:lnTo>
                    <a:lnTo>
                      <a:pt x="324" y="4603"/>
                    </a:lnTo>
                    <a:lnTo>
                      <a:pt x="299" y="4580"/>
                    </a:lnTo>
                    <a:lnTo>
                      <a:pt x="281" y="4580"/>
                    </a:lnTo>
                    <a:lnTo>
                      <a:pt x="264" y="4562"/>
                    </a:lnTo>
                    <a:lnTo>
                      <a:pt x="264" y="4544"/>
                    </a:lnTo>
                    <a:lnTo>
                      <a:pt x="240" y="4544"/>
                    </a:lnTo>
                    <a:lnTo>
                      <a:pt x="222" y="4519"/>
                    </a:lnTo>
                    <a:lnTo>
                      <a:pt x="222" y="4502"/>
                    </a:lnTo>
                    <a:lnTo>
                      <a:pt x="203" y="4502"/>
                    </a:lnTo>
                    <a:lnTo>
                      <a:pt x="180" y="4484"/>
                    </a:lnTo>
                    <a:lnTo>
                      <a:pt x="180" y="4460"/>
                    </a:lnTo>
                    <a:lnTo>
                      <a:pt x="162" y="4460"/>
                    </a:lnTo>
                    <a:lnTo>
                      <a:pt x="162" y="4442"/>
                    </a:lnTo>
                    <a:lnTo>
                      <a:pt x="120" y="4400"/>
                    </a:lnTo>
                    <a:lnTo>
                      <a:pt x="120" y="4364"/>
                    </a:lnTo>
                    <a:lnTo>
                      <a:pt x="102" y="4364"/>
                    </a:lnTo>
                    <a:lnTo>
                      <a:pt x="102" y="4340"/>
                    </a:lnTo>
                    <a:lnTo>
                      <a:pt x="84" y="4322"/>
                    </a:lnTo>
                    <a:lnTo>
                      <a:pt x="84" y="4304"/>
                    </a:lnTo>
                    <a:lnTo>
                      <a:pt x="60" y="4304"/>
                    </a:lnTo>
                    <a:lnTo>
                      <a:pt x="60" y="4263"/>
                    </a:lnTo>
                    <a:lnTo>
                      <a:pt x="43" y="4263"/>
                    </a:lnTo>
                    <a:lnTo>
                      <a:pt x="43" y="4220"/>
                    </a:lnTo>
                    <a:lnTo>
                      <a:pt x="25" y="4203"/>
                    </a:lnTo>
                    <a:lnTo>
                      <a:pt x="25" y="4161"/>
                    </a:lnTo>
                    <a:lnTo>
                      <a:pt x="0" y="4143"/>
                    </a:lnTo>
                    <a:lnTo>
                      <a:pt x="0" y="4005"/>
                    </a:lnTo>
                    <a:lnTo>
                      <a:pt x="25" y="3982"/>
                    </a:lnTo>
                    <a:lnTo>
                      <a:pt x="25" y="3946"/>
                    </a:lnTo>
                    <a:lnTo>
                      <a:pt x="43" y="3946"/>
                    </a:lnTo>
                    <a:lnTo>
                      <a:pt x="43" y="3921"/>
                    </a:lnTo>
                    <a:lnTo>
                      <a:pt x="60" y="3921"/>
                    </a:lnTo>
                    <a:lnTo>
                      <a:pt x="60" y="3886"/>
                    </a:lnTo>
                    <a:lnTo>
                      <a:pt x="84" y="3886"/>
                    </a:lnTo>
                    <a:lnTo>
                      <a:pt x="120" y="3844"/>
                    </a:lnTo>
                    <a:lnTo>
                      <a:pt x="120" y="3826"/>
                    </a:lnTo>
                    <a:lnTo>
                      <a:pt x="162" y="38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719440" y="3741840"/>
                <a:ext cx="1803240" cy="1969920"/>
              </a:xfrm>
              <a:custGeom>
                <a:avLst/>
                <a:gdLst/>
                <a:ahLst/>
                <a:rect l="l" t="t" r="r" b="b"/>
                <a:pathLst>
                  <a:path w="6815" h="7449">
                    <a:moveTo>
                      <a:pt x="418" y="3545"/>
                    </a:moveTo>
                    <a:lnTo>
                      <a:pt x="479" y="3545"/>
                    </a:lnTo>
                    <a:lnTo>
                      <a:pt x="502" y="3569"/>
                    </a:lnTo>
                    <a:lnTo>
                      <a:pt x="717" y="3569"/>
                    </a:lnTo>
                    <a:lnTo>
                      <a:pt x="742" y="3545"/>
                    </a:lnTo>
                    <a:lnTo>
                      <a:pt x="819" y="3545"/>
                    </a:lnTo>
                    <a:lnTo>
                      <a:pt x="837" y="3527"/>
                    </a:lnTo>
                    <a:lnTo>
                      <a:pt x="879" y="3527"/>
                    </a:lnTo>
                    <a:lnTo>
                      <a:pt x="897" y="3509"/>
                    </a:lnTo>
                    <a:lnTo>
                      <a:pt x="920" y="3509"/>
                    </a:lnTo>
                    <a:lnTo>
                      <a:pt x="956" y="3485"/>
                    </a:lnTo>
                    <a:lnTo>
                      <a:pt x="981" y="3485"/>
                    </a:lnTo>
                    <a:lnTo>
                      <a:pt x="1016" y="3449"/>
                    </a:lnTo>
                    <a:lnTo>
                      <a:pt x="1041" y="3449"/>
                    </a:lnTo>
                    <a:lnTo>
                      <a:pt x="1077" y="3408"/>
                    </a:lnTo>
                    <a:lnTo>
                      <a:pt x="1100" y="3408"/>
                    </a:lnTo>
                    <a:lnTo>
                      <a:pt x="1136" y="3365"/>
                    </a:lnTo>
                    <a:lnTo>
                      <a:pt x="1160" y="3348"/>
                    </a:lnTo>
                    <a:lnTo>
                      <a:pt x="1196" y="3330"/>
                    </a:lnTo>
                    <a:lnTo>
                      <a:pt x="1220" y="3306"/>
                    </a:lnTo>
                    <a:lnTo>
                      <a:pt x="1237" y="3306"/>
                    </a:lnTo>
                    <a:lnTo>
                      <a:pt x="1280" y="3271"/>
                    </a:lnTo>
                    <a:lnTo>
                      <a:pt x="1298" y="3228"/>
                    </a:lnTo>
                    <a:lnTo>
                      <a:pt x="1339" y="3187"/>
                    </a:lnTo>
                    <a:lnTo>
                      <a:pt x="1376" y="3150"/>
                    </a:lnTo>
                    <a:lnTo>
                      <a:pt x="1399" y="3127"/>
                    </a:lnTo>
                    <a:lnTo>
                      <a:pt x="1417" y="3091"/>
                    </a:lnTo>
                    <a:lnTo>
                      <a:pt x="1435" y="3066"/>
                    </a:lnTo>
                    <a:lnTo>
                      <a:pt x="1435" y="3049"/>
                    </a:lnTo>
                    <a:lnTo>
                      <a:pt x="1458" y="3031"/>
                    </a:lnTo>
                    <a:lnTo>
                      <a:pt x="1458" y="2989"/>
                    </a:lnTo>
                    <a:lnTo>
                      <a:pt x="1477" y="2972"/>
                    </a:lnTo>
                    <a:lnTo>
                      <a:pt x="1519" y="2888"/>
                    </a:lnTo>
                    <a:lnTo>
                      <a:pt x="1537" y="2870"/>
                    </a:lnTo>
                    <a:lnTo>
                      <a:pt x="1554" y="2828"/>
                    </a:lnTo>
                    <a:lnTo>
                      <a:pt x="1554" y="2792"/>
                    </a:lnTo>
                    <a:lnTo>
                      <a:pt x="1597" y="2708"/>
                    </a:lnTo>
                    <a:lnTo>
                      <a:pt x="1615" y="2672"/>
                    </a:lnTo>
                    <a:lnTo>
                      <a:pt x="1615" y="2630"/>
                    </a:lnTo>
                    <a:lnTo>
                      <a:pt x="1633" y="2571"/>
                    </a:lnTo>
                    <a:lnTo>
                      <a:pt x="1674" y="2493"/>
                    </a:lnTo>
                    <a:lnTo>
                      <a:pt x="1674" y="2432"/>
                    </a:lnTo>
                    <a:lnTo>
                      <a:pt x="1716" y="2350"/>
                    </a:lnTo>
                    <a:lnTo>
                      <a:pt x="1716" y="2290"/>
                    </a:lnTo>
                    <a:lnTo>
                      <a:pt x="1734" y="2254"/>
                    </a:lnTo>
                    <a:lnTo>
                      <a:pt x="1734" y="2194"/>
                    </a:lnTo>
                    <a:lnTo>
                      <a:pt x="1752" y="2152"/>
                    </a:lnTo>
                    <a:lnTo>
                      <a:pt x="1775" y="2092"/>
                    </a:lnTo>
                    <a:lnTo>
                      <a:pt x="1775" y="2051"/>
                    </a:lnTo>
                    <a:lnTo>
                      <a:pt x="1793" y="1991"/>
                    </a:lnTo>
                    <a:lnTo>
                      <a:pt x="1812" y="1955"/>
                    </a:lnTo>
                    <a:lnTo>
                      <a:pt x="1812" y="1895"/>
                    </a:lnTo>
                    <a:lnTo>
                      <a:pt x="1836" y="1853"/>
                    </a:lnTo>
                    <a:lnTo>
                      <a:pt x="1853" y="1793"/>
                    </a:lnTo>
                    <a:lnTo>
                      <a:pt x="1853" y="1752"/>
                    </a:lnTo>
                    <a:lnTo>
                      <a:pt x="1871" y="1698"/>
                    </a:lnTo>
                    <a:lnTo>
                      <a:pt x="1896" y="1656"/>
                    </a:lnTo>
                    <a:lnTo>
                      <a:pt x="1896" y="1597"/>
                    </a:lnTo>
                    <a:lnTo>
                      <a:pt x="1914" y="1554"/>
                    </a:lnTo>
                    <a:lnTo>
                      <a:pt x="1932" y="1494"/>
                    </a:lnTo>
                    <a:lnTo>
                      <a:pt x="1973" y="1417"/>
                    </a:lnTo>
                    <a:lnTo>
                      <a:pt x="1973" y="1357"/>
                    </a:lnTo>
                    <a:lnTo>
                      <a:pt x="2015" y="1280"/>
                    </a:lnTo>
                    <a:lnTo>
                      <a:pt x="2051" y="1196"/>
                    </a:lnTo>
                    <a:lnTo>
                      <a:pt x="2092" y="1118"/>
                    </a:lnTo>
                    <a:lnTo>
                      <a:pt x="2135" y="1040"/>
                    </a:lnTo>
                    <a:lnTo>
                      <a:pt x="2153" y="998"/>
                    </a:lnTo>
                    <a:lnTo>
                      <a:pt x="2170" y="998"/>
                    </a:lnTo>
                    <a:lnTo>
                      <a:pt x="2212" y="920"/>
                    </a:lnTo>
                    <a:lnTo>
                      <a:pt x="2231" y="897"/>
                    </a:lnTo>
                    <a:lnTo>
                      <a:pt x="2272" y="819"/>
                    </a:lnTo>
                    <a:lnTo>
                      <a:pt x="2314" y="801"/>
                    </a:lnTo>
                    <a:lnTo>
                      <a:pt x="2332" y="760"/>
                    </a:lnTo>
                    <a:lnTo>
                      <a:pt x="2350" y="741"/>
                    </a:lnTo>
                    <a:lnTo>
                      <a:pt x="2374" y="699"/>
                    </a:lnTo>
                    <a:lnTo>
                      <a:pt x="2409" y="681"/>
                    </a:lnTo>
                    <a:lnTo>
                      <a:pt x="2434" y="639"/>
                    </a:lnTo>
                    <a:lnTo>
                      <a:pt x="2452" y="621"/>
                    </a:lnTo>
                    <a:lnTo>
                      <a:pt x="2493" y="580"/>
                    </a:lnTo>
                    <a:lnTo>
                      <a:pt x="2511" y="562"/>
                    </a:lnTo>
                    <a:lnTo>
                      <a:pt x="2553" y="520"/>
                    </a:lnTo>
                    <a:lnTo>
                      <a:pt x="2571" y="502"/>
                    </a:lnTo>
                    <a:lnTo>
                      <a:pt x="2612" y="461"/>
                    </a:lnTo>
                    <a:lnTo>
                      <a:pt x="2691" y="382"/>
                    </a:lnTo>
                    <a:lnTo>
                      <a:pt x="2708" y="359"/>
                    </a:lnTo>
                    <a:lnTo>
                      <a:pt x="2751" y="340"/>
                    </a:lnTo>
                    <a:lnTo>
                      <a:pt x="2769" y="322"/>
                    </a:lnTo>
                    <a:lnTo>
                      <a:pt x="2810" y="281"/>
                    </a:lnTo>
                    <a:lnTo>
                      <a:pt x="2852" y="263"/>
                    </a:lnTo>
                    <a:lnTo>
                      <a:pt x="2870" y="238"/>
                    </a:lnTo>
                    <a:lnTo>
                      <a:pt x="2911" y="221"/>
                    </a:lnTo>
                    <a:lnTo>
                      <a:pt x="2929" y="203"/>
                    </a:lnTo>
                    <a:lnTo>
                      <a:pt x="2972" y="179"/>
                    </a:lnTo>
                    <a:lnTo>
                      <a:pt x="2990" y="161"/>
                    </a:lnTo>
                    <a:lnTo>
                      <a:pt x="3031" y="144"/>
                    </a:lnTo>
                    <a:lnTo>
                      <a:pt x="3049" y="119"/>
                    </a:lnTo>
                    <a:lnTo>
                      <a:pt x="3091" y="101"/>
                    </a:lnTo>
                    <a:lnTo>
                      <a:pt x="3109" y="101"/>
                    </a:lnTo>
                    <a:lnTo>
                      <a:pt x="3187" y="60"/>
                    </a:lnTo>
                    <a:lnTo>
                      <a:pt x="3211" y="60"/>
                    </a:lnTo>
                    <a:lnTo>
                      <a:pt x="3246" y="42"/>
                    </a:lnTo>
                    <a:lnTo>
                      <a:pt x="3271" y="42"/>
                    </a:lnTo>
                    <a:lnTo>
                      <a:pt x="3307" y="24"/>
                    </a:lnTo>
                    <a:lnTo>
                      <a:pt x="3330" y="24"/>
                    </a:lnTo>
                    <a:lnTo>
                      <a:pt x="3366" y="0"/>
                    </a:lnTo>
                    <a:lnTo>
                      <a:pt x="3606" y="0"/>
                    </a:lnTo>
                    <a:lnTo>
                      <a:pt x="3647" y="24"/>
                    </a:lnTo>
                    <a:lnTo>
                      <a:pt x="3689" y="24"/>
                    </a:lnTo>
                    <a:lnTo>
                      <a:pt x="3707" y="42"/>
                    </a:lnTo>
                    <a:lnTo>
                      <a:pt x="3749" y="60"/>
                    </a:lnTo>
                    <a:lnTo>
                      <a:pt x="3766" y="60"/>
                    </a:lnTo>
                    <a:lnTo>
                      <a:pt x="3809" y="83"/>
                    </a:lnTo>
                    <a:lnTo>
                      <a:pt x="3827" y="101"/>
                    </a:lnTo>
                    <a:lnTo>
                      <a:pt x="3905" y="144"/>
                    </a:lnTo>
                    <a:lnTo>
                      <a:pt x="3928" y="179"/>
                    </a:lnTo>
                    <a:lnTo>
                      <a:pt x="3964" y="203"/>
                    </a:lnTo>
                    <a:lnTo>
                      <a:pt x="3988" y="221"/>
                    </a:lnTo>
                    <a:lnTo>
                      <a:pt x="4024" y="238"/>
                    </a:lnTo>
                    <a:lnTo>
                      <a:pt x="4048" y="281"/>
                    </a:lnTo>
                    <a:lnTo>
                      <a:pt x="4083" y="299"/>
                    </a:lnTo>
                    <a:lnTo>
                      <a:pt x="4126" y="340"/>
                    </a:lnTo>
                    <a:lnTo>
                      <a:pt x="4144" y="359"/>
                    </a:lnTo>
                    <a:lnTo>
                      <a:pt x="4185" y="382"/>
                    </a:lnTo>
                    <a:lnTo>
                      <a:pt x="4203" y="418"/>
                    </a:lnTo>
                    <a:lnTo>
                      <a:pt x="4245" y="443"/>
                    </a:lnTo>
                    <a:lnTo>
                      <a:pt x="4286" y="478"/>
                    </a:lnTo>
                    <a:lnTo>
                      <a:pt x="4304" y="502"/>
                    </a:lnTo>
                    <a:lnTo>
                      <a:pt x="4347" y="538"/>
                    </a:lnTo>
                    <a:lnTo>
                      <a:pt x="4365" y="562"/>
                    </a:lnTo>
                    <a:lnTo>
                      <a:pt x="4407" y="580"/>
                    </a:lnTo>
                    <a:lnTo>
                      <a:pt x="4425" y="621"/>
                    </a:lnTo>
                    <a:lnTo>
                      <a:pt x="4466" y="639"/>
                    </a:lnTo>
                    <a:lnTo>
                      <a:pt x="4484" y="657"/>
                    </a:lnTo>
                    <a:lnTo>
                      <a:pt x="4526" y="699"/>
                    </a:lnTo>
                    <a:lnTo>
                      <a:pt x="4544" y="717"/>
                    </a:lnTo>
                    <a:lnTo>
                      <a:pt x="4586" y="741"/>
                    </a:lnTo>
                    <a:lnTo>
                      <a:pt x="4603" y="760"/>
                    </a:lnTo>
                    <a:lnTo>
                      <a:pt x="4646" y="777"/>
                    </a:lnTo>
                    <a:lnTo>
                      <a:pt x="4682" y="819"/>
                    </a:lnTo>
                    <a:lnTo>
                      <a:pt x="4723" y="837"/>
                    </a:lnTo>
                    <a:lnTo>
                      <a:pt x="4742" y="861"/>
                    </a:lnTo>
                    <a:lnTo>
                      <a:pt x="4783" y="879"/>
                    </a:lnTo>
                    <a:lnTo>
                      <a:pt x="4801" y="879"/>
                    </a:lnTo>
                    <a:lnTo>
                      <a:pt x="4825" y="897"/>
                    </a:lnTo>
                    <a:lnTo>
                      <a:pt x="4885" y="897"/>
                    </a:lnTo>
                    <a:lnTo>
                      <a:pt x="4903" y="920"/>
                    </a:lnTo>
                    <a:lnTo>
                      <a:pt x="4963" y="920"/>
                    </a:lnTo>
                    <a:lnTo>
                      <a:pt x="4981" y="897"/>
                    </a:lnTo>
                    <a:lnTo>
                      <a:pt x="5064" y="897"/>
                    </a:lnTo>
                    <a:lnTo>
                      <a:pt x="5082" y="879"/>
                    </a:lnTo>
                    <a:lnTo>
                      <a:pt x="5100" y="879"/>
                    </a:lnTo>
                    <a:lnTo>
                      <a:pt x="5141" y="837"/>
                    </a:lnTo>
                    <a:lnTo>
                      <a:pt x="5184" y="837"/>
                    </a:lnTo>
                    <a:lnTo>
                      <a:pt x="5219" y="801"/>
                    </a:lnTo>
                    <a:lnTo>
                      <a:pt x="5244" y="801"/>
                    </a:lnTo>
                    <a:lnTo>
                      <a:pt x="5280" y="760"/>
                    </a:lnTo>
                    <a:lnTo>
                      <a:pt x="5321" y="717"/>
                    </a:lnTo>
                    <a:lnTo>
                      <a:pt x="5363" y="681"/>
                    </a:lnTo>
                    <a:lnTo>
                      <a:pt x="5399" y="639"/>
                    </a:lnTo>
                    <a:lnTo>
                      <a:pt x="5440" y="598"/>
                    </a:lnTo>
                    <a:lnTo>
                      <a:pt x="5483" y="562"/>
                    </a:lnTo>
                    <a:lnTo>
                      <a:pt x="5519" y="520"/>
                    </a:lnTo>
                    <a:lnTo>
                      <a:pt x="5560" y="478"/>
                    </a:lnTo>
                    <a:lnTo>
                      <a:pt x="5579" y="478"/>
                    </a:lnTo>
                    <a:lnTo>
                      <a:pt x="5579" y="461"/>
                    </a:lnTo>
                    <a:lnTo>
                      <a:pt x="5620" y="418"/>
                    </a:lnTo>
                    <a:lnTo>
                      <a:pt x="5638" y="400"/>
                    </a:lnTo>
                    <a:lnTo>
                      <a:pt x="5663" y="400"/>
                    </a:lnTo>
                    <a:lnTo>
                      <a:pt x="5698" y="359"/>
                    </a:lnTo>
                    <a:lnTo>
                      <a:pt x="5716" y="359"/>
                    </a:lnTo>
                    <a:lnTo>
                      <a:pt x="5740" y="340"/>
                    </a:lnTo>
                    <a:lnTo>
                      <a:pt x="5775" y="340"/>
                    </a:lnTo>
                    <a:lnTo>
                      <a:pt x="5800" y="322"/>
                    </a:lnTo>
                    <a:lnTo>
                      <a:pt x="5818" y="340"/>
                    </a:lnTo>
                    <a:lnTo>
                      <a:pt x="5895" y="340"/>
                    </a:lnTo>
                    <a:lnTo>
                      <a:pt x="5919" y="359"/>
                    </a:lnTo>
                    <a:lnTo>
                      <a:pt x="5955" y="359"/>
                    </a:lnTo>
                    <a:lnTo>
                      <a:pt x="5978" y="382"/>
                    </a:lnTo>
                    <a:lnTo>
                      <a:pt x="5997" y="382"/>
                    </a:lnTo>
                    <a:lnTo>
                      <a:pt x="6039" y="418"/>
                    </a:lnTo>
                    <a:lnTo>
                      <a:pt x="6074" y="461"/>
                    </a:lnTo>
                    <a:lnTo>
                      <a:pt x="6074" y="478"/>
                    </a:lnTo>
                    <a:lnTo>
                      <a:pt x="6099" y="478"/>
                    </a:lnTo>
                    <a:lnTo>
                      <a:pt x="6099" y="502"/>
                    </a:lnTo>
                    <a:lnTo>
                      <a:pt x="6135" y="538"/>
                    </a:lnTo>
                    <a:lnTo>
                      <a:pt x="6135" y="562"/>
                    </a:lnTo>
                    <a:lnTo>
                      <a:pt x="6158" y="580"/>
                    </a:lnTo>
                    <a:lnTo>
                      <a:pt x="6158" y="598"/>
                    </a:lnTo>
                    <a:lnTo>
                      <a:pt x="6194" y="639"/>
                    </a:lnTo>
                    <a:lnTo>
                      <a:pt x="6194" y="699"/>
                    </a:lnTo>
                    <a:lnTo>
                      <a:pt x="6218" y="717"/>
                    </a:lnTo>
                    <a:lnTo>
                      <a:pt x="6218" y="741"/>
                    </a:lnTo>
                    <a:lnTo>
                      <a:pt x="6236" y="760"/>
                    </a:lnTo>
                    <a:lnTo>
                      <a:pt x="6236" y="801"/>
                    </a:lnTo>
                    <a:lnTo>
                      <a:pt x="6254" y="837"/>
                    </a:lnTo>
                    <a:lnTo>
                      <a:pt x="6254" y="879"/>
                    </a:lnTo>
                    <a:lnTo>
                      <a:pt x="6277" y="920"/>
                    </a:lnTo>
                    <a:lnTo>
                      <a:pt x="6277" y="981"/>
                    </a:lnTo>
                    <a:lnTo>
                      <a:pt x="6295" y="998"/>
                    </a:lnTo>
                    <a:lnTo>
                      <a:pt x="6295" y="1100"/>
                    </a:lnTo>
                    <a:lnTo>
                      <a:pt x="6313" y="1118"/>
                    </a:lnTo>
                    <a:lnTo>
                      <a:pt x="6313" y="1339"/>
                    </a:lnTo>
                    <a:lnTo>
                      <a:pt x="6338" y="1375"/>
                    </a:lnTo>
                    <a:lnTo>
                      <a:pt x="6338" y="2589"/>
                    </a:lnTo>
                    <a:lnTo>
                      <a:pt x="6356" y="2630"/>
                    </a:lnTo>
                    <a:lnTo>
                      <a:pt x="6356" y="2989"/>
                    </a:lnTo>
                    <a:lnTo>
                      <a:pt x="6373" y="3031"/>
                    </a:lnTo>
                    <a:lnTo>
                      <a:pt x="6373" y="3150"/>
                    </a:lnTo>
                    <a:lnTo>
                      <a:pt x="6397" y="3168"/>
                    </a:lnTo>
                    <a:lnTo>
                      <a:pt x="6397" y="3246"/>
                    </a:lnTo>
                    <a:lnTo>
                      <a:pt x="6416" y="3271"/>
                    </a:lnTo>
                    <a:lnTo>
                      <a:pt x="6416" y="3306"/>
                    </a:lnTo>
                    <a:lnTo>
                      <a:pt x="6434" y="3330"/>
                    </a:lnTo>
                    <a:lnTo>
                      <a:pt x="6434" y="3348"/>
                    </a:lnTo>
                    <a:lnTo>
                      <a:pt x="6457" y="3365"/>
                    </a:lnTo>
                    <a:lnTo>
                      <a:pt x="6457" y="3408"/>
                    </a:lnTo>
                    <a:lnTo>
                      <a:pt x="6475" y="3426"/>
                    </a:lnTo>
                    <a:lnTo>
                      <a:pt x="6475" y="3449"/>
                    </a:lnTo>
                    <a:lnTo>
                      <a:pt x="6517" y="3485"/>
                    </a:lnTo>
                    <a:lnTo>
                      <a:pt x="6517" y="3509"/>
                    </a:lnTo>
                    <a:lnTo>
                      <a:pt x="6535" y="3527"/>
                    </a:lnTo>
                    <a:lnTo>
                      <a:pt x="6535" y="3545"/>
                    </a:lnTo>
                    <a:lnTo>
                      <a:pt x="6553" y="3545"/>
                    </a:lnTo>
                    <a:lnTo>
                      <a:pt x="6553" y="3569"/>
                    </a:lnTo>
                    <a:lnTo>
                      <a:pt x="6577" y="3586"/>
                    </a:lnTo>
                    <a:lnTo>
                      <a:pt x="6594" y="3586"/>
                    </a:lnTo>
                    <a:lnTo>
                      <a:pt x="6594" y="3604"/>
                    </a:lnTo>
                    <a:lnTo>
                      <a:pt x="6637" y="3647"/>
                    </a:lnTo>
                    <a:lnTo>
                      <a:pt x="6637" y="3665"/>
                    </a:lnTo>
                    <a:lnTo>
                      <a:pt x="6655" y="3665"/>
                    </a:lnTo>
                    <a:lnTo>
                      <a:pt x="6655" y="3688"/>
                    </a:lnTo>
                    <a:lnTo>
                      <a:pt x="6673" y="3688"/>
                    </a:lnTo>
                    <a:lnTo>
                      <a:pt x="6714" y="3725"/>
                    </a:lnTo>
                    <a:lnTo>
                      <a:pt x="6732" y="3748"/>
                    </a:lnTo>
                    <a:lnTo>
                      <a:pt x="6732" y="3766"/>
                    </a:lnTo>
                    <a:lnTo>
                      <a:pt x="6756" y="3766"/>
                    </a:lnTo>
                    <a:lnTo>
                      <a:pt x="6756" y="3784"/>
                    </a:lnTo>
                    <a:lnTo>
                      <a:pt x="6774" y="3784"/>
                    </a:lnTo>
                    <a:lnTo>
                      <a:pt x="6774" y="3809"/>
                    </a:lnTo>
                    <a:lnTo>
                      <a:pt x="6792" y="3826"/>
                    </a:lnTo>
                    <a:lnTo>
                      <a:pt x="6792" y="3868"/>
                    </a:lnTo>
                    <a:lnTo>
                      <a:pt x="6815" y="3886"/>
                    </a:lnTo>
                    <a:lnTo>
                      <a:pt x="6815" y="4083"/>
                    </a:lnTo>
                    <a:lnTo>
                      <a:pt x="6792" y="4083"/>
                    </a:lnTo>
                    <a:lnTo>
                      <a:pt x="6792" y="4125"/>
                    </a:lnTo>
                    <a:lnTo>
                      <a:pt x="6774" y="4143"/>
                    </a:lnTo>
                    <a:lnTo>
                      <a:pt x="6774" y="4167"/>
                    </a:lnTo>
                    <a:lnTo>
                      <a:pt x="6756" y="4185"/>
                    </a:lnTo>
                    <a:lnTo>
                      <a:pt x="6756" y="4202"/>
                    </a:lnTo>
                    <a:lnTo>
                      <a:pt x="6732" y="4202"/>
                    </a:lnTo>
                    <a:lnTo>
                      <a:pt x="6732" y="4227"/>
                    </a:lnTo>
                    <a:lnTo>
                      <a:pt x="6696" y="4263"/>
                    </a:lnTo>
                    <a:lnTo>
                      <a:pt x="6673" y="4286"/>
                    </a:lnTo>
                    <a:lnTo>
                      <a:pt x="6673" y="4304"/>
                    </a:lnTo>
                    <a:lnTo>
                      <a:pt x="6655" y="4304"/>
                    </a:lnTo>
                    <a:lnTo>
                      <a:pt x="6655" y="4322"/>
                    </a:lnTo>
                    <a:lnTo>
                      <a:pt x="6612" y="4322"/>
                    </a:lnTo>
                    <a:lnTo>
                      <a:pt x="6612" y="4346"/>
                    </a:lnTo>
                    <a:lnTo>
                      <a:pt x="6535" y="4346"/>
                    </a:lnTo>
                    <a:lnTo>
                      <a:pt x="6517" y="4364"/>
                    </a:lnTo>
                    <a:lnTo>
                      <a:pt x="6236" y="4364"/>
                    </a:lnTo>
                    <a:lnTo>
                      <a:pt x="6218" y="4382"/>
                    </a:lnTo>
                    <a:lnTo>
                      <a:pt x="6176" y="4382"/>
                    </a:lnTo>
                    <a:lnTo>
                      <a:pt x="6176" y="4406"/>
                    </a:lnTo>
                    <a:lnTo>
                      <a:pt x="6135" y="4406"/>
                    </a:lnTo>
                    <a:lnTo>
                      <a:pt x="6135" y="4423"/>
                    </a:lnTo>
                    <a:lnTo>
                      <a:pt x="6117" y="4423"/>
                    </a:lnTo>
                    <a:lnTo>
                      <a:pt x="6117" y="4442"/>
                    </a:lnTo>
                    <a:lnTo>
                      <a:pt x="6099" y="4442"/>
                    </a:lnTo>
                    <a:lnTo>
                      <a:pt x="6099" y="4466"/>
                    </a:lnTo>
                    <a:lnTo>
                      <a:pt x="6056" y="4502"/>
                    </a:lnTo>
                    <a:lnTo>
                      <a:pt x="6056" y="4544"/>
                    </a:lnTo>
                    <a:lnTo>
                      <a:pt x="6039" y="4544"/>
                    </a:lnTo>
                    <a:lnTo>
                      <a:pt x="6039" y="4585"/>
                    </a:lnTo>
                    <a:lnTo>
                      <a:pt x="6015" y="4621"/>
                    </a:lnTo>
                    <a:lnTo>
                      <a:pt x="6015" y="4740"/>
                    </a:lnTo>
                    <a:lnTo>
                      <a:pt x="5997" y="4765"/>
                    </a:lnTo>
                    <a:lnTo>
                      <a:pt x="5997" y="5039"/>
                    </a:lnTo>
                    <a:lnTo>
                      <a:pt x="6015" y="5082"/>
                    </a:lnTo>
                    <a:lnTo>
                      <a:pt x="6015" y="5679"/>
                    </a:lnTo>
                    <a:lnTo>
                      <a:pt x="5997" y="5721"/>
                    </a:lnTo>
                    <a:lnTo>
                      <a:pt x="5997" y="5817"/>
                    </a:lnTo>
                    <a:lnTo>
                      <a:pt x="5978" y="5835"/>
                    </a:lnTo>
                    <a:lnTo>
                      <a:pt x="5978" y="5919"/>
                    </a:lnTo>
                    <a:lnTo>
                      <a:pt x="5955" y="5937"/>
                    </a:lnTo>
                    <a:lnTo>
                      <a:pt x="5955" y="5996"/>
                    </a:lnTo>
                    <a:lnTo>
                      <a:pt x="5937" y="6014"/>
                    </a:lnTo>
                    <a:lnTo>
                      <a:pt x="5919" y="6056"/>
                    </a:lnTo>
                    <a:lnTo>
                      <a:pt x="5919" y="6074"/>
                    </a:lnTo>
                    <a:lnTo>
                      <a:pt x="5895" y="6115"/>
                    </a:lnTo>
                    <a:lnTo>
                      <a:pt x="5895" y="6134"/>
                    </a:lnTo>
                    <a:lnTo>
                      <a:pt x="5877" y="6176"/>
                    </a:lnTo>
                    <a:lnTo>
                      <a:pt x="5877" y="6218"/>
                    </a:lnTo>
                    <a:lnTo>
                      <a:pt x="5859" y="6236"/>
                    </a:lnTo>
                    <a:lnTo>
                      <a:pt x="5859" y="6277"/>
                    </a:lnTo>
                    <a:lnTo>
                      <a:pt x="5836" y="6313"/>
                    </a:lnTo>
                    <a:lnTo>
                      <a:pt x="5836" y="6337"/>
                    </a:lnTo>
                    <a:lnTo>
                      <a:pt x="5800" y="6414"/>
                    </a:lnTo>
                    <a:lnTo>
                      <a:pt x="5800" y="6457"/>
                    </a:lnTo>
                    <a:lnTo>
                      <a:pt x="5775" y="6475"/>
                    </a:lnTo>
                    <a:lnTo>
                      <a:pt x="5757" y="6516"/>
                    </a:lnTo>
                    <a:lnTo>
                      <a:pt x="5757" y="6553"/>
                    </a:lnTo>
                    <a:lnTo>
                      <a:pt x="5740" y="6576"/>
                    </a:lnTo>
                    <a:lnTo>
                      <a:pt x="5716" y="6612"/>
                    </a:lnTo>
                    <a:lnTo>
                      <a:pt x="5716" y="6654"/>
                    </a:lnTo>
                    <a:lnTo>
                      <a:pt x="5698" y="6672"/>
                    </a:lnTo>
                    <a:lnTo>
                      <a:pt x="5663" y="6756"/>
                    </a:lnTo>
                    <a:lnTo>
                      <a:pt x="5663" y="6774"/>
                    </a:lnTo>
                    <a:lnTo>
                      <a:pt x="5620" y="6851"/>
                    </a:lnTo>
                    <a:lnTo>
                      <a:pt x="5602" y="6875"/>
                    </a:lnTo>
                    <a:lnTo>
                      <a:pt x="5579" y="6911"/>
                    </a:lnTo>
                    <a:lnTo>
                      <a:pt x="5560" y="6934"/>
                    </a:lnTo>
                    <a:lnTo>
                      <a:pt x="5542" y="6971"/>
                    </a:lnTo>
                    <a:lnTo>
                      <a:pt x="5501" y="7013"/>
                    </a:lnTo>
                    <a:lnTo>
                      <a:pt x="5483" y="7055"/>
                    </a:lnTo>
                    <a:lnTo>
                      <a:pt x="5399" y="7132"/>
                    </a:lnTo>
                    <a:lnTo>
                      <a:pt x="5363" y="7174"/>
                    </a:lnTo>
                    <a:lnTo>
                      <a:pt x="5339" y="7192"/>
                    </a:lnTo>
                    <a:lnTo>
                      <a:pt x="5303" y="7210"/>
                    </a:lnTo>
                    <a:lnTo>
                      <a:pt x="5262" y="7251"/>
                    </a:lnTo>
                    <a:lnTo>
                      <a:pt x="5219" y="7269"/>
                    </a:lnTo>
                    <a:lnTo>
                      <a:pt x="5202" y="7294"/>
                    </a:lnTo>
                    <a:lnTo>
                      <a:pt x="5160" y="7294"/>
                    </a:lnTo>
                    <a:lnTo>
                      <a:pt x="5123" y="7312"/>
                    </a:lnTo>
                    <a:lnTo>
                      <a:pt x="5123" y="7330"/>
                    </a:lnTo>
                    <a:lnTo>
                      <a:pt x="5082" y="7330"/>
                    </a:lnTo>
                    <a:lnTo>
                      <a:pt x="5040" y="7353"/>
                    </a:lnTo>
                    <a:lnTo>
                      <a:pt x="5004" y="7353"/>
                    </a:lnTo>
                    <a:lnTo>
                      <a:pt x="4963" y="7371"/>
                    </a:lnTo>
                    <a:lnTo>
                      <a:pt x="4920" y="7371"/>
                    </a:lnTo>
                    <a:lnTo>
                      <a:pt x="4885" y="7390"/>
                    </a:lnTo>
                    <a:lnTo>
                      <a:pt x="4843" y="7390"/>
                    </a:lnTo>
                    <a:lnTo>
                      <a:pt x="4801" y="7413"/>
                    </a:lnTo>
                    <a:lnTo>
                      <a:pt x="4723" y="7413"/>
                    </a:lnTo>
                    <a:lnTo>
                      <a:pt x="4682" y="7431"/>
                    </a:lnTo>
                    <a:lnTo>
                      <a:pt x="4544" y="7431"/>
                    </a:lnTo>
                    <a:lnTo>
                      <a:pt x="4484" y="7449"/>
                    </a:lnTo>
                    <a:lnTo>
                      <a:pt x="3988" y="7449"/>
                    </a:lnTo>
                    <a:lnTo>
                      <a:pt x="3928" y="7431"/>
                    </a:lnTo>
                    <a:lnTo>
                      <a:pt x="3827" y="7431"/>
                    </a:lnTo>
                    <a:lnTo>
                      <a:pt x="3766" y="7413"/>
                    </a:lnTo>
                    <a:lnTo>
                      <a:pt x="3725" y="7413"/>
                    </a:lnTo>
                    <a:lnTo>
                      <a:pt x="3665" y="7390"/>
                    </a:lnTo>
                    <a:lnTo>
                      <a:pt x="3629" y="7390"/>
                    </a:lnTo>
                    <a:lnTo>
                      <a:pt x="3570" y="7371"/>
                    </a:lnTo>
                    <a:lnTo>
                      <a:pt x="3510" y="7371"/>
                    </a:lnTo>
                    <a:lnTo>
                      <a:pt x="3467" y="7353"/>
                    </a:lnTo>
                    <a:lnTo>
                      <a:pt x="3408" y="7330"/>
                    </a:lnTo>
                    <a:lnTo>
                      <a:pt x="3366" y="7330"/>
                    </a:lnTo>
                    <a:lnTo>
                      <a:pt x="3307" y="7312"/>
                    </a:lnTo>
                    <a:lnTo>
                      <a:pt x="3271" y="7294"/>
                    </a:lnTo>
                    <a:lnTo>
                      <a:pt x="3211" y="7269"/>
                    </a:lnTo>
                    <a:lnTo>
                      <a:pt x="3169" y="7251"/>
                    </a:lnTo>
                    <a:lnTo>
                      <a:pt x="3109" y="7234"/>
                    </a:lnTo>
                    <a:lnTo>
                      <a:pt x="3068" y="7210"/>
                    </a:lnTo>
                    <a:lnTo>
                      <a:pt x="3007" y="7192"/>
                    </a:lnTo>
                    <a:lnTo>
                      <a:pt x="2972" y="7150"/>
                    </a:lnTo>
                    <a:lnTo>
                      <a:pt x="2929" y="7132"/>
                    </a:lnTo>
                    <a:lnTo>
                      <a:pt x="2911" y="7132"/>
                    </a:lnTo>
                    <a:lnTo>
                      <a:pt x="2852" y="7091"/>
                    </a:lnTo>
                    <a:lnTo>
                      <a:pt x="2810" y="7073"/>
                    </a:lnTo>
                    <a:lnTo>
                      <a:pt x="2769" y="7030"/>
                    </a:lnTo>
                    <a:lnTo>
                      <a:pt x="2708" y="6995"/>
                    </a:lnTo>
                    <a:lnTo>
                      <a:pt x="2630" y="6911"/>
                    </a:lnTo>
                    <a:lnTo>
                      <a:pt x="2589" y="6875"/>
                    </a:lnTo>
                    <a:lnTo>
                      <a:pt x="2529" y="6833"/>
                    </a:lnTo>
                    <a:lnTo>
                      <a:pt x="2452" y="6756"/>
                    </a:lnTo>
                    <a:lnTo>
                      <a:pt x="2391" y="6696"/>
                    </a:lnTo>
                    <a:lnTo>
                      <a:pt x="2350" y="6654"/>
                    </a:lnTo>
                    <a:lnTo>
                      <a:pt x="2314" y="6594"/>
                    </a:lnTo>
                    <a:lnTo>
                      <a:pt x="2254" y="6535"/>
                    </a:lnTo>
                    <a:lnTo>
                      <a:pt x="2212" y="6493"/>
                    </a:lnTo>
                    <a:lnTo>
                      <a:pt x="2170" y="6432"/>
                    </a:lnTo>
                    <a:lnTo>
                      <a:pt x="2110" y="6373"/>
                    </a:lnTo>
                    <a:lnTo>
                      <a:pt x="2074" y="6337"/>
                    </a:lnTo>
                    <a:lnTo>
                      <a:pt x="1991" y="6218"/>
                    </a:lnTo>
                    <a:lnTo>
                      <a:pt x="1932" y="6158"/>
                    </a:lnTo>
                    <a:lnTo>
                      <a:pt x="1853" y="6038"/>
                    </a:lnTo>
                    <a:lnTo>
                      <a:pt x="1775" y="5919"/>
                    </a:lnTo>
                    <a:lnTo>
                      <a:pt x="1716" y="5859"/>
                    </a:lnTo>
                    <a:lnTo>
                      <a:pt x="1633" y="5739"/>
                    </a:lnTo>
                    <a:lnTo>
                      <a:pt x="1597" y="5698"/>
                    </a:lnTo>
                    <a:lnTo>
                      <a:pt x="1519" y="5577"/>
                    </a:lnTo>
                    <a:lnTo>
                      <a:pt x="1435" y="5458"/>
                    </a:lnTo>
                    <a:lnTo>
                      <a:pt x="1399" y="5422"/>
                    </a:lnTo>
                    <a:lnTo>
                      <a:pt x="1316" y="5303"/>
                    </a:lnTo>
                    <a:lnTo>
                      <a:pt x="1280" y="5260"/>
                    </a:lnTo>
                    <a:lnTo>
                      <a:pt x="1237" y="5201"/>
                    </a:lnTo>
                    <a:lnTo>
                      <a:pt x="1160" y="5123"/>
                    </a:lnTo>
                    <a:lnTo>
                      <a:pt x="1136" y="5064"/>
                    </a:lnTo>
                    <a:lnTo>
                      <a:pt x="1059" y="4980"/>
                    </a:lnTo>
                    <a:lnTo>
                      <a:pt x="1041" y="4945"/>
                    </a:lnTo>
                    <a:lnTo>
                      <a:pt x="956" y="4860"/>
                    </a:lnTo>
                    <a:lnTo>
                      <a:pt x="920" y="4824"/>
                    </a:lnTo>
                    <a:lnTo>
                      <a:pt x="897" y="4783"/>
                    </a:lnTo>
                    <a:lnTo>
                      <a:pt x="861" y="4765"/>
                    </a:lnTo>
                    <a:lnTo>
                      <a:pt x="837" y="4723"/>
                    </a:lnTo>
                    <a:lnTo>
                      <a:pt x="801" y="4705"/>
                    </a:lnTo>
                    <a:lnTo>
                      <a:pt x="778" y="4681"/>
                    </a:lnTo>
                    <a:lnTo>
                      <a:pt x="760" y="4646"/>
                    </a:lnTo>
                    <a:lnTo>
                      <a:pt x="717" y="4621"/>
                    </a:lnTo>
                    <a:lnTo>
                      <a:pt x="682" y="4585"/>
                    </a:lnTo>
                    <a:lnTo>
                      <a:pt x="640" y="4562"/>
                    </a:lnTo>
                    <a:lnTo>
                      <a:pt x="598" y="4525"/>
                    </a:lnTo>
                    <a:lnTo>
                      <a:pt x="562" y="4484"/>
                    </a:lnTo>
                    <a:lnTo>
                      <a:pt x="538" y="4466"/>
                    </a:lnTo>
                    <a:lnTo>
                      <a:pt x="502" y="4442"/>
                    </a:lnTo>
                    <a:lnTo>
                      <a:pt x="461" y="4406"/>
                    </a:lnTo>
                    <a:lnTo>
                      <a:pt x="443" y="4406"/>
                    </a:lnTo>
                    <a:lnTo>
                      <a:pt x="400" y="4364"/>
                    </a:lnTo>
                    <a:lnTo>
                      <a:pt x="359" y="4322"/>
                    </a:lnTo>
                    <a:lnTo>
                      <a:pt x="341" y="4322"/>
                    </a:lnTo>
                    <a:lnTo>
                      <a:pt x="299" y="4286"/>
                    </a:lnTo>
                    <a:lnTo>
                      <a:pt x="281" y="4286"/>
                    </a:lnTo>
                    <a:lnTo>
                      <a:pt x="240" y="4245"/>
                    </a:lnTo>
                    <a:lnTo>
                      <a:pt x="204" y="4202"/>
                    </a:lnTo>
                    <a:lnTo>
                      <a:pt x="179" y="4202"/>
                    </a:lnTo>
                    <a:lnTo>
                      <a:pt x="179" y="4185"/>
                    </a:lnTo>
                    <a:lnTo>
                      <a:pt x="162" y="4185"/>
                    </a:lnTo>
                    <a:lnTo>
                      <a:pt x="120" y="4143"/>
                    </a:lnTo>
                    <a:lnTo>
                      <a:pt x="120" y="4125"/>
                    </a:lnTo>
                    <a:lnTo>
                      <a:pt x="101" y="4125"/>
                    </a:lnTo>
                    <a:lnTo>
                      <a:pt x="101" y="4108"/>
                    </a:lnTo>
                    <a:lnTo>
                      <a:pt x="83" y="4108"/>
                    </a:lnTo>
                    <a:lnTo>
                      <a:pt x="83" y="4065"/>
                    </a:lnTo>
                    <a:lnTo>
                      <a:pt x="60" y="4065"/>
                    </a:lnTo>
                    <a:lnTo>
                      <a:pt x="60" y="4047"/>
                    </a:lnTo>
                    <a:lnTo>
                      <a:pt x="42" y="4023"/>
                    </a:lnTo>
                    <a:lnTo>
                      <a:pt x="42" y="4005"/>
                    </a:lnTo>
                    <a:lnTo>
                      <a:pt x="24" y="4005"/>
                    </a:lnTo>
                    <a:lnTo>
                      <a:pt x="24" y="3964"/>
                    </a:lnTo>
                    <a:lnTo>
                      <a:pt x="0" y="3946"/>
                    </a:lnTo>
                    <a:lnTo>
                      <a:pt x="0" y="3766"/>
                    </a:lnTo>
                    <a:lnTo>
                      <a:pt x="24" y="3748"/>
                    </a:lnTo>
                    <a:lnTo>
                      <a:pt x="24" y="3725"/>
                    </a:lnTo>
                    <a:lnTo>
                      <a:pt x="42" y="3725"/>
                    </a:lnTo>
                    <a:lnTo>
                      <a:pt x="42" y="3707"/>
                    </a:lnTo>
                    <a:lnTo>
                      <a:pt x="83" y="3665"/>
                    </a:lnTo>
                    <a:lnTo>
                      <a:pt x="101" y="3665"/>
                    </a:lnTo>
                    <a:lnTo>
                      <a:pt x="101" y="3647"/>
                    </a:lnTo>
                    <a:lnTo>
                      <a:pt x="120" y="3647"/>
                    </a:lnTo>
                    <a:lnTo>
                      <a:pt x="144" y="3629"/>
                    </a:lnTo>
                    <a:lnTo>
                      <a:pt x="418" y="3545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951280" y="4357800"/>
                <a:ext cx="1438200" cy="869760"/>
              </a:xfrm>
              <a:custGeom>
                <a:avLst/>
                <a:gdLst/>
                <a:ahLst/>
                <a:rect l="l" t="t" r="r" b="b"/>
                <a:pathLst>
                  <a:path w="5434" h="3289">
                    <a:moveTo>
                      <a:pt x="4741" y="222"/>
                    </a:moveTo>
                    <a:lnTo>
                      <a:pt x="4723" y="222"/>
                    </a:lnTo>
                    <a:lnTo>
                      <a:pt x="4723" y="258"/>
                    </a:lnTo>
                    <a:lnTo>
                      <a:pt x="4700" y="281"/>
                    </a:lnTo>
                    <a:lnTo>
                      <a:pt x="4700" y="299"/>
                    </a:lnTo>
                    <a:lnTo>
                      <a:pt x="4663" y="341"/>
                    </a:lnTo>
                    <a:lnTo>
                      <a:pt x="4663" y="377"/>
                    </a:lnTo>
                    <a:lnTo>
                      <a:pt x="4622" y="418"/>
                    </a:lnTo>
                    <a:lnTo>
                      <a:pt x="4604" y="461"/>
                    </a:lnTo>
                    <a:lnTo>
                      <a:pt x="4604" y="479"/>
                    </a:lnTo>
                    <a:lnTo>
                      <a:pt x="4561" y="557"/>
                    </a:lnTo>
                    <a:lnTo>
                      <a:pt x="4544" y="580"/>
                    </a:lnTo>
                    <a:lnTo>
                      <a:pt x="4502" y="658"/>
                    </a:lnTo>
                    <a:lnTo>
                      <a:pt x="4460" y="735"/>
                    </a:lnTo>
                    <a:lnTo>
                      <a:pt x="4442" y="760"/>
                    </a:lnTo>
                    <a:lnTo>
                      <a:pt x="4424" y="796"/>
                    </a:lnTo>
                    <a:lnTo>
                      <a:pt x="4383" y="837"/>
                    </a:lnTo>
                    <a:lnTo>
                      <a:pt x="4340" y="915"/>
                    </a:lnTo>
                    <a:lnTo>
                      <a:pt x="4305" y="999"/>
                    </a:lnTo>
                    <a:lnTo>
                      <a:pt x="4281" y="1017"/>
                    </a:lnTo>
                    <a:lnTo>
                      <a:pt x="4244" y="1095"/>
                    </a:lnTo>
                    <a:lnTo>
                      <a:pt x="4244" y="1136"/>
                    </a:lnTo>
                    <a:lnTo>
                      <a:pt x="4221" y="1154"/>
                    </a:lnTo>
                    <a:lnTo>
                      <a:pt x="4203" y="1196"/>
                    </a:lnTo>
                    <a:lnTo>
                      <a:pt x="4185" y="1214"/>
                    </a:lnTo>
                    <a:lnTo>
                      <a:pt x="4161" y="1255"/>
                    </a:lnTo>
                    <a:lnTo>
                      <a:pt x="4161" y="1273"/>
                    </a:lnTo>
                    <a:lnTo>
                      <a:pt x="4143" y="1316"/>
                    </a:lnTo>
                    <a:lnTo>
                      <a:pt x="4125" y="1334"/>
                    </a:lnTo>
                    <a:lnTo>
                      <a:pt x="4125" y="1376"/>
                    </a:lnTo>
                    <a:lnTo>
                      <a:pt x="4102" y="1394"/>
                    </a:lnTo>
                    <a:lnTo>
                      <a:pt x="4102" y="1478"/>
                    </a:lnTo>
                    <a:lnTo>
                      <a:pt x="4125" y="1478"/>
                    </a:lnTo>
                    <a:lnTo>
                      <a:pt x="4143" y="1453"/>
                    </a:lnTo>
                    <a:lnTo>
                      <a:pt x="4161" y="1453"/>
                    </a:lnTo>
                    <a:lnTo>
                      <a:pt x="4185" y="1435"/>
                    </a:lnTo>
                    <a:lnTo>
                      <a:pt x="4203" y="1435"/>
                    </a:lnTo>
                    <a:lnTo>
                      <a:pt x="4203" y="1417"/>
                    </a:lnTo>
                    <a:lnTo>
                      <a:pt x="4221" y="1417"/>
                    </a:lnTo>
                    <a:lnTo>
                      <a:pt x="4244" y="1394"/>
                    </a:lnTo>
                    <a:lnTo>
                      <a:pt x="4262" y="1394"/>
                    </a:lnTo>
                    <a:lnTo>
                      <a:pt x="4281" y="1376"/>
                    </a:lnTo>
                    <a:lnTo>
                      <a:pt x="4281" y="1357"/>
                    </a:lnTo>
                    <a:lnTo>
                      <a:pt x="4305" y="1357"/>
                    </a:lnTo>
                    <a:lnTo>
                      <a:pt x="4340" y="1316"/>
                    </a:lnTo>
                    <a:lnTo>
                      <a:pt x="4365" y="1316"/>
                    </a:lnTo>
                    <a:lnTo>
                      <a:pt x="4401" y="1273"/>
                    </a:lnTo>
                    <a:lnTo>
                      <a:pt x="4424" y="1255"/>
                    </a:lnTo>
                    <a:lnTo>
                      <a:pt x="4442" y="1255"/>
                    </a:lnTo>
                    <a:lnTo>
                      <a:pt x="4460" y="1238"/>
                    </a:lnTo>
                    <a:lnTo>
                      <a:pt x="4460" y="1214"/>
                    </a:lnTo>
                    <a:lnTo>
                      <a:pt x="4484" y="1214"/>
                    </a:lnTo>
                    <a:lnTo>
                      <a:pt x="4520" y="1178"/>
                    </a:lnTo>
                    <a:lnTo>
                      <a:pt x="4544" y="1178"/>
                    </a:lnTo>
                    <a:lnTo>
                      <a:pt x="4561" y="1154"/>
                    </a:lnTo>
                    <a:lnTo>
                      <a:pt x="4561" y="1136"/>
                    </a:lnTo>
                    <a:lnTo>
                      <a:pt x="4579" y="1136"/>
                    </a:lnTo>
                    <a:lnTo>
                      <a:pt x="4604" y="1118"/>
                    </a:lnTo>
                    <a:lnTo>
                      <a:pt x="4622" y="1118"/>
                    </a:lnTo>
                    <a:lnTo>
                      <a:pt x="4622" y="1095"/>
                    </a:lnTo>
                    <a:lnTo>
                      <a:pt x="4640" y="1095"/>
                    </a:lnTo>
                    <a:lnTo>
                      <a:pt x="4663" y="1077"/>
                    </a:lnTo>
                    <a:lnTo>
                      <a:pt x="4681" y="1095"/>
                    </a:lnTo>
                    <a:lnTo>
                      <a:pt x="4663" y="1095"/>
                    </a:lnTo>
                    <a:lnTo>
                      <a:pt x="4663" y="1136"/>
                    </a:lnTo>
                    <a:lnTo>
                      <a:pt x="4622" y="1178"/>
                    </a:lnTo>
                    <a:lnTo>
                      <a:pt x="4604" y="1196"/>
                    </a:lnTo>
                    <a:lnTo>
                      <a:pt x="4604" y="1214"/>
                    </a:lnTo>
                    <a:lnTo>
                      <a:pt x="4579" y="1238"/>
                    </a:lnTo>
                    <a:lnTo>
                      <a:pt x="4579" y="1255"/>
                    </a:lnTo>
                    <a:lnTo>
                      <a:pt x="4561" y="1255"/>
                    </a:lnTo>
                    <a:lnTo>
                      <a:pt x="4544" y="1273"/>
                    </a:lnTo>
                    <a:lnTo>
                      <a:pt x="4544" y="1298"/>
                    </a:lnTo>
                    <a:lnTo>
                      <a:pt x="4502" y="1334"/>
                    </a:lnTo>
                    <a:lnTo>
                      <a:pt x="4502" y="1357"/>
                    </a:lnTo>
                    <a:lnTo>
                      <a:pt x="4460" y="1394"/>
                    </a:lnTo>
                    <a:lnTo>
                      <a:pt x="4442" y="1417"/>
                    </a:lnTo>
                    <a:lnTo>
                      <a:pt x="4442" y="1435"/>
                    </a:lnTo>
                    <a:lnTo>
                      <a:pt x="4424" y="1453"/>
                    </a:lnTo>
                    <a:lnTo>
                      <a:pt x="4401" y="1453"/>
                    </a:lnTo>
                    <a:lnTo>
                      <a:pt x="4401" y="1478"/>
                    </a:lnTo>
                    <a:lnTo>
                      <a:pt x="4365" y="1513"/>
                    </a:lnTo>
                    <a:lnTo>
                      <a:pt x="4365" y="1537"/>
                    </a:lnTo>
                    <a:lnTo>
                      <a:pt x="4340" y="1555"/>
                    </a:lnTo>
                    <a:lnTo>
                      <a:pt x="4340" y="1572"/>
                    </a:lnTo>
                    <a:lnTo>
                      <a:pt x="4323" y="1572"/>
                    </a:lnTo>
                    <a:lnTo>
                      <a:pt x="4323" y="1597"/>
                    </a:lnTo>
                    <a:lnTo>
                      <a:pt x="4281" y="1633"/>
                    </a:lnTo>
                    <a:lnTo>
                      <a:pt x="4281" y="1674"/>
                    </a:lnTo>
                    <a:lnTo>
                      <a:pt x="4262" y="1674"/>
                    </a:lnTo>
                    <a:lnTo>
                      <a:pt x="4262" y="1692"/>
                    </a:lnTo>
                    <a:lnTo>
                      <a:pt x="4281" y="1716"/>
                    </a:lnTo>
                    <a:lnTo>
                      <a:pt x="4305" y="1716"/>
                    </a:lnTo>
                    <a:lnTo>
                      <a:pt x="4323" y="1692"/>
                    </a:lnTo>
                    <a:lnTo>
                      <a:pt x="4340" y="1692"/>
                    </a:lnTo>
                    <a:lnTo>
                      <a:pt x="4365" y="1674"/>
                    </a:lnTo>
                    <a:lnTo>
                      <a:pt x="4383" y="1674"/>
                    </a:lnTo>
                    <a:lnTo>
                      <a:pt x="4401" y="1656"/>
                    </a:lnTo>
                    <a:lnTo>
                      <a:pt x="4424" y="1656"/>
                    </a:lnTo>
                    <a:lnTo>
                      <a:pt x="4442" y="1633"/>
                    </a:lnTo>
                    <a:lnTo>
                      <a:pt x="4460" y="1633"/>
                    </a:lnTo>
                    <a:lnTo>
                      <a:pt x="4460" y="1615"/>
                    </a:lnTo>
                    <a:lnTo>
                      <a:pt x="4484" y="1615"/>
                    </a:lnTo>
                    <a:lnTo>
                      <a:pt x="4502" y="1597"/>
                    </a:lnTo>
                    <a:lnTo>
                      <a:pt x="4520" y="1597"/>
                    </a:lnTo>
                    <a:lnTo>
                      <a:pt x="4544" y="1572"/>
                    </a:lnTo>
                    <a:lnTo>
                      <a:pt x="4561" y="1572"/>
                    </a:lnTo>
                    <a:lnTo>
                      <a:pt x="4579" y="1555"/>
                    </a:lnTo>
                    <a:lnTo>
                      <a:pt x="4604" y="1555"/>
                    </a:lnTo>
                    <a:lnTo>
                      <a:pt x="4640" y="1513"/>
                    </a:lnTo>
                    <a:lnTo>
                      <a:pt x="4663" y="1513"/>
                    </a:lnTo>
                    <a:lnTo>
                      <a:pt x="4681" y="1495"/>
                    </a:lnTo>
                    <a:lnTo>
                      <a:pt x="4700" y="1495"/>
                    </a:lnTo>
                    <a:lnTo>
                      <a:pt x="4741" y="1453"/>
                    </a:lnTo>
                    <a:lnTo>
                      <a:pt x="4759" y="1453"/>
                    </a:lnTo>
                    <a:lnTo>
                      <a:pt x="4784" y="1435"/>
                    </a:lnTo>
                    <a:lnTo>
                      <a:pt x="4801" y="1435"/>
                    </a:lnTo>
                    <a:lnTo>
                      <a:pt x="4819" y="1417"/>
                    </a:lnTo>
                    <a:lnTo>
                      <a:pt x="4837" y="1417"/>
                    </a:lnTo>
                    <a:lnTo>
                      <a:pt x="4861" y="1394"/>
                    </a:lnTo>
                    <a:lnTo>
                      <a:pt x="4878" y="1394"/>
                    </a:lnTo>
                    <a:lnTo>
                      <a:pt x="4896" y="1376"/>
                    </a:lnTo>
                    <a:lnTo>
                      <a:pt x="4921" y="1376"/>
                    </a:lnTo>
                    <a:lnTo>
                      <a:pt x="4939" y="1357"/>
                    </a:lnTo>
                    <a:lnTo>
                      <a:pt x="5016" y="1357"/>
                    </a:lnTo>
                    <a:lnTo>
                      <a:pt x="5016" y="1334"/>
                    </a:lnTo>
                    <a:lnTo>
                      <a:pt x="5118" y="1334"/>
                    </a:lnTo>
                    <a:lnTo>
                      <a:pt x="5118" y="1357"/>
                    </a:lnTo>
                    <a:lnTo>
                      <a:pt x="5195" y="1357"/>
                    </a:lnTo>
                    <a:lnTo>
                      <a:pt x="5195" y="1376"/>
                    </a:lnTo>
                    <a:lnTo>
                      <a:pt x="5238" y="1376"/>
                    </a:lnTo>
                    <a:lnTo>
                      <a:pt x="5256" y="1394"/>
                    </a:lnTo>
                    <a:lnTo>
                      <a:pt x="5279" y="1394"/>
                    </a:lnTo>
                    <a:lnTo>
                      <a:pt x="5297" y="1417"/>
                    </a:lnTo>
                    <a:lnTo>
                      <a:pt x="5315" y="1417"/>
                    </a:lnTo>
                    <a:lnTo>
                      <a:pt x="5357" y="1453"/>
                    </a:lnTo>
                    <a:lnTo>
                      <a:pt x="5375" y="1453"/>
                    </a:lnTo>
                    <a:lnTo>
                      <a:pt x="5375" y="1478"/>
                    </a:lnTo>
                    <a:lnTo>
                      <a:pt x="5398" y="1478"/>
                    </a:lnTo>
                    <a:lnTo>
                      <a:pt x="5434" y="1513"/>
                    </a:lnTo>
                    <a:lnTo>
                      <a:pt x="5416" y="1513"/>
                    </a:lnTo>
                    <a:lnTo>
                      <a:pt x="5416" y="1495"/>
                    </a:lnTo>
                    <a:lnTo>
                      <a:pt x="5357" y="1495"/>
                    </a:lnTo>
                    <a:lnTo>
                      <a:pt x="5357" y="1478"/>
                    </a:lnTo>
                    <a:lnTo>
                      <a:pt x="5118" y="1478"/>
                    </a:lnTo>
                    <a:lnTo>
                      <a:pt x="5118" y="1495"/>
                    </a:lnTo>
                    <a:lnTo>
                      <a:pt x="5058" y="1495"/>
                    </a:lnTo>
                    <a:lnTo>
                      <a:pt x="5040" y="1513"/>
                    </a:lnTo>
                    <a:lnTo>
                      <a:pt x="5016" y="1513"/>
                    </a:lnTo>
                    <a:lnTo>
                      <a:pt x="4998" y="1537"/>
                    </a:lnTo>
                    <a:lnTo>
                      <a:pt x="4957" y="1537"/>
                    </a:lnTo>
                    <a:lnTo>
                      <a:pt x="4939" y="1555"/>
                    </a:lnTo>
                    <a:lnTo>
                      <a:pt x="4896" y="1555"/>
                    </a:lnTo>
                    <a:lnTo>
                      <a:pt x="4878" y="1572"/>
                    </a:lnTo>
                    <a:lnTo>
                      <a:pt x="4861" y="1572"/>
                    </a:lnTo>
                    <a:lnTo>
                      <a:pt x="4837" y="1597"/>
                    </a:lnTo>
                    <a:lnTo>
                      <a:pt x="4819" y="1597"/>
                    </a:lnTo>
                    <a:lnTo>
                      <a:pt x="4801" y="1615"/>
                    </a:lnTo>
                    <a:lnTo>
                      <a:pt x="4759" y="1615"/>
                    </a:lnTo>
                    <a:lnTo>
                      <a:pt x="4741" y="1633"/>
                    </a:lnTo>
                    <a:lnTo>
                      <a:pt x="4723" y="1633"/>
                    </a:lnTo>
                    <a:lnTo>
                      <a:pt x="4700" y="1656"/>
                    </a:lnTo>
                    <a:lnTo>
                      <a:pt x="4681" y="1656"/>
                    </a:lnTo>
                    <a:lnTo>
                      <a:pt x="4663" y="1674"/>
                    </a:lnTo>
                    <a:lnTo>
                      <a:pt x="4640" y="1674"/>
                    </a:lnTo>
                    <a:lnTo>
                      <a:pt x="4622" y="1692"/>
                    </a:lnTo>
                    <a:lnTo>
                      <a:pt x="4604" y="1692"/>
                    </a:lnTo>
                    <a:lnTo>
                      <a:pt x="4604" y="1716"/>
                    </a:lnTo>
                    <a:lnTo>
                      <a:pt x="4579" y="1716"/>
                    </a:lnTo>
                    <a:lnTo>
                      <a:pt x="4561" y="1734"/>
                    </a:lnTo>
                    <a:lnTo>
                      <a:pt x="4520" y="1734"/>
                    </a:lnTo>
                    <a:lnTo>
                      <a:pt x="4502" y="1752"/>
                    </a:lnTo>
                    <a:lnTo>
                      <a:pt x="4484" y="1752"/>
                    </a:lnTo>
                    <a:lnTo>
                      <a:pt x="4442" y="1794"/>
                    </a:lnTo>
                    <a:lnTo>
                      <a:pt x="4424" y="1794"/>
                    </a:lnTo>
                    <a:lnTo>
                      <a:pt x="4401" y="1812"/>
                    </a:lnTo>
                    <a:lnTo>
                      <a:pt x="4383" y="1812"/>
                    </a:lnTo>
                    <a:lnTo>
                      <a:pt x="4383" y="1836"/>
                    </a:lnTo>
                    <a:lnTo>
                      <a:pt x="4365" y="1836"/>
                    </a:lnTo>
                    <a:lnTo>
                      <a:pt x="4365" y="1854"/>
                    </a:lnTo>
                    <a:lnTo>
                      <a:pt x="4323" y="1854"/>
                    </a:lnTo>
                    <a:lnTo>
                      <a:pt x="4323" y="1896"/>
                    </a:lnTo>
                    <a:lnTo>
                      <a:pt x="4340" y="1896"/>
                    </a:lnTo>
                    <a:lnTo>
                      <a:pt x="4340" y="1914"/>
                    </a:lnTo>
                    <a:lnTo>
                      <a:pt x="4401" y="1914"/>
                    </a:lnTo>
                    <a:lnTo>
                      <a:pt x="4401" y="1932"/>
                    </a:lnTo>
                    <a:lnTo>
                      <a:pt x="4424" y="1932"/>
                    </a:lnTo>
                    <a:lnTo>
                      <a:pt x="4442" y="1955"/>
                    </a:lnTo>
                    <a:lnTo>
                      <a:pt x="4460" y="1955"/>
                    </a:lnTo>
                    <a:lnTo>
                      <a:pt x="4460" y="1973"/>
                    </a:lnTo>
                    <a:lnTo>
                      <a:pt x="4484" y="1973"/>
                    </a:lnTo>
                    <a:lnTo>
                      <a:pt x="4484" y="1991"/>
                    </a:lnTo>
                    <a:lnTo>
                      <a:pt x="4502" y="2015"/>
                    </a:lnTo>
                    <a:lnTo>
                      <a:pt x="4502" y="2033"/>
                    </a:lnTo>
                    <a:lnTo>
                      <a:pt x="4520" y="2051"/>
                    </a:lnTo>
                    <a:lnTo>
                      <a:pt x="4520" y="2092"/>
                    </a:lnTo>
                    <a:lnTo>
                      <a:pt x="4544" y="2092"/>
                    </a:lnTo>
                    <a:lnTo>
                      <a:pt x="4544" y="2135"/>
                    </a:lnTo>
                    <a:lnTo>
                      <a:pt x="4561" y="2135"/>
                    </a:lnTo>
                    <a:lnTo>
                      <a:pt x="4561" y="2171"/>
                    </a:lnTo>
                    <a:lnTo>
                      <a:pt x="4579" y="2194"/>
                    </a:lnTo>
                    <a:lnTo>
                      <a:pt x="4579" y="2213"/>
                    </a:lnTo>
                    <a:lnTo>
                      <a:pt x="4604" y="2231"/>
                    </a:lnTo>
                    <a:lnTo>
                      <a:pt x="4604" y="2272"/>
                    </a:lnTo>
                    <a:lnTo>
                      <a:pt x="4622" y="2272"/>
                    </a:lnTo>
                    <a:lnTo>
                      <a:pt x="4622" y="2315"/>
                    </a:lnTo>
                    <a:lnTo>
                      <a:pt x="4640" y="2332"/>
                    </a:lnTo>
                    <a:lnTo>
                      <a:pt x="4640" y="2350"/>
                    </a:lnTo>
                    <a:lnTo>
                      <a:pt x="4663" y="2374"/>
                    </a:lnTo>
                    <a:lnTo>
                      <a:pt x="4663" y="2409"/>
                    </a:lnTo>
                    <a:lnTo>
                      <a:pt x="4681" y="2434"/>
                    </a:lnTo>
                    <a:lnTo>
                      <a:pt x="4681" y="2470"/>
                    </a:lnTo>
                    <a:lnTo>
                      <a:pt x="4700" y="2470"/>
                    </a:lnTo>
                    <a:lnTo>
                      <a:pt x="4700" y="2529"/>
                    </a:lnTo>
                    <a:lnTo>
                      <a:pt x="4723" y="2553"/>
                    </a:lnTo>
                    <a:lnTo>
                      <a:pt x="4723" y="2571"/>
                    </a:lnTo>
                    <a:lnTo>
                      <a:pt x="4700" y="2571"/>
                    </a:lnTo>
                    <a:lnTo>
                      <a:pt x="4700" y="2553"/>
                    </a:lnTo>
                    <a:lnTo>
                      <a:pt x="4681" y="2553"/>
                    </a:lnTo>
                    <a:lnTo>
                      <a:pt x="4681" y="2529"/>
                    </a:lnTo>
                    <a:lnTo>
                      <a:pt x="4663" y="2529"/>
                    </a:lnTo>
                    <a:lnTo>
                      <a:pt x="4663" y="2511"/>
                    </a:lnTo>
                    <a:lnTo>
                      <a:pt x="4640" y="2511"/>
                    </a:lnTo>
                    <a:lnTo>
                      <a:pt x="4640" y="2493"/>
                    </a:lnTo>
                    <a:lnTo>
                      <a:pt x="4622" y="2470"/>
                    </a:lnTo>
                    <a:lnTo>
                      <a:pt x="4622" y="2452"/>
                    </a:lnTo>
                    <a:lnTo>
                      <a:pt x="4604" y="2452"/>
                    </a:lnTo>
                    <a:lnTo>
                      <a:pt x="4604" y="2434"/>
                    </a:lnTo>
                    <a:lnTo>
                      <a:pt x="4561" y="2392"/>
                    </a:lnTo>
                    <a:lnTo>
                      <a:pt x="4561" y="2374"/>
                    </a:lnTo>
                    <a:lnTo>
                      <a:pt x="4544" y="2374"/>
                    </a:lnTo>
                    <a:lnTo>
                      <a:pt x="4544" y="2350"/>
                    </a:lnTo>
                    <a:lnTo>
                      <a:pt x="4502" y="2315"/>
                    </a:lnTo>
                    <a:lnTo>
                      <a:pt x="4502" y="2290"/>
                    </a:lnTo>
                    <a:lnTo>
                      <a:pt x="4484" y="2290"/>
                    </a:lnTo>
                    <a:lnTo>
                      <a:pt x="4484" y="2272"/>
                    </a:lnTo>
                    <a:lnTo>
                      <a:pt x="4460" y="2272"/>
                    </a:lnTo>
                    <a:lnTo>
                      <a:pt x="4460" y="2254"/>
                    </a:lnTo>
                    <a:lnTo>
                      <a:pt x="4424" y="2213"/>
                    </a:lnTo>
                    <a:lnTo>
                      <a:pt x="4383" y="2171"/>
                    </a:lnTo>
                    <a:lnTo>
                      <a:pt x="4365" y="2153"/>
                    </a:lnTo>
                    <a:lnTo>
                      <a:pt x="4340" y="2153"/>
                    </a:lnTo>
                    <a:lnTo>
                      <a:pt x="4340" y="2135"/>
                    </a:lnTo>
                    <a:lnTo>
                      <a:pt x="4323" y="2135"/>
                    </a:lnTo>
                    <a:lnTo>
                      <a:pt x="4323" y="2111"/>
                    </a:lnTo>
                    <a:lnTo>
                      <a:pt x="4281" y="2111"/>
                    </a:lnTo>
                    <a:lnTo>
                      <a:pt x="4281" y="2092"/>
                    </a:lnTo>
                    <a:lnTo>
                      <a:pt x="4244" y="2092"/>
                    </a:lnTo>
                    <a:lnTo>
                      <a:pt x="4244" y="2075"/>
                    </a:lnTo>
                    <a:lnTo>
                      <a:pt x="4203" y="2075"/>
                    </a:lnTo>
                    <a:lnTo>
                      <a:pt x="4203" y="2051"/>
                    </a:lnTo>
                    <a:lnTo>
                      <a:pt x="4161" y="2051"/>
                    </a:lnTo>
                    <a:lnTo>
                      <a:pt x="4161" y="2033"/>
                    </a:lnTo>
                    <a:lnTo>
                      <a:pt x="4125" y="2033"/>
                    </a:lnTo>
                    <a:lnTo>
                      <a:pt x="4102" y="2015"/>
                    </a:lnTo>
                    <a:lnTo>
                      <a:pt x="4041" y="2015"/>
                    </a:lnTo>
                    <a:lnTo>
                      <a:pt x="4041" y="1991"/>
                    </a:lnTo>
                    <a:lnTo>
                      <a:pt x="4024" y="1991"/>
                    </a:lnTo>
                    <a:lnTo>
                      <a:pt x="4024" y="2015"/>
                    </a:lnTo>
                    <a:lnTo>
                      <a:pt x="4006" y="2015"/>
                    </a:lnTo>
                    <a:lnTo>
                      <a:pt x="4024" y="2033"/>
                    </a:lnTo>
                    <a:lnTo>
                      <a:pt x="4024" y="2051"/>
                    </a:lnTo>
                    <a:lnTo>
                      <a:pt x="4041" y="2051"/>
                    </a:lnTo>
                    <a:lnTo>
                      <a:pt x="4041" y="2075"/>
                    </a:lnTo>
                    <a:lnTo>
                      <a:pt x="4066" y="2075"/>
                    </a:lnTo>
                    <a:lnTo>
                      <a:pt x="4066" y="2092"/>
                    </a:lnTo>
                    <a:lnTo>
                      <a:pt x="4084" y="2111"/>
                    </a:lnTo>
                    <a:lnTo>
                      <a:pt x="4084" y="2135"/>
                    </a:lnTo>
                    <a:lnTo>
                      <a:pt x="4102" y="2135"/>
                    </a:lnTo>
                    <a:lnTo>
                      <a:pt x="4102" y="2153"/>
                    </a:lnTo>
                    <a:lnTo>
                      <a:pt x="4125" y="2153"/>
                    </a:lnTo>
                    <a:lnTo>
                      <a:pt x="4125" y="2171"/>
                    </a:lnTo>
                    <a:lnTo>
                      <a:pt x="4143" y="2194"/>
                    </a:lnTo>
                    <a:lnTo>
                      <a:pt x="4143" y="2213"/>
                    </a:lnTo>
                    <a:lnTo>
                      <a:pt x="4161" y="2213"/>
                    </a:lnTo>
                    <a:lnTo>
                      <a:pt x="4161" y="2231"/>
                    </a:lnTo>
                    <a:lnTo>
                      <a:pt x="4185" y="2254"/>
                    </a:lnTo>
                    <a:lnTo>
                      <a:pt x="4185" y="2272"/>
                    </a:lnTo>
                    <a:lnTo>
                      <a:pt x="4203" y="2290"/>
                    </a:lnTo>
                    <a:lnTo>
                      <a:pt x="4203" y="2332"/>
                    </a:lnTo>
                    <a:lnTo>
                      <a:pt x="4221" y="2332"/>
                    </a:lnTo>
                    <a:lnTo>
                      <a:pt x="4221" y="2374"/>
                    </a:lnTo>
                    <a:lnTo>
                      <a:pt x="4244" y="2374"/>
                    </a:lnTo>
                    <a:lnTo>
                      <a:pt x="4244" y="2409"/>
                    </a:lnTo>
                    <a:lnTo>
                      <a:pt x="4262" y="2434"/>
                    </a:lnTo>
                    <a:lnTo>
                      <a:pt x="4262" y="2470"/>
                    </a:lnTo>
                    <a:lnTo>
                      <a:pt x="4281" y="2493"/>
                    </a:lnTo>
                    <a:lnTo>
                      <a:pt x="4281" y="2511"/>
                    </a:lnTo>
                    <a:lnTo>
                      <a:pt x="4305" y="2529"/>
                    </a:lnTo>
                    <a:lnTo>
                      <a:pt x="4305" y="2589"/>
                    </a:lnTo>
                    <a:lnTo>
                      <a:pt x="4323" y="2614"/>
                    </a:lnTo>
                    <a:lnTo>
                      <a:pt x="4323" y="2649"/>
                    </a:lnTo>
                    <a:lnTo>
                      <a:pt x="4340" y="2673"/>
                    </a:lnTo>
                    <a:lnTo>
                      <a:pt x="4340" y="2769"/>
                    </a:lnTo>
                    <a:lnTo>
                      <a:pt x="4365" y="2792"/>
                    </a:lnTo>
                    <a:lnTo>
                      <a:pt x="4365" y="2828"/>
                    </a:lnTo>
                    <a:lnTo>
                      <a:pt x="4340" y="2852"/>
                    </a:lnTo>
                    <a:lnTo>
                      <a:pt x="4340" y="2972"/>
                    </a:lnTo>
                    <a:lnTo>
                      <a:pt x="4323" y="2972"/>
                    </a:lnTo>
                    <a:lnTo>
                      <a:pt x="4323" y="3032"/>
                    </a:lnTo>
                    <a:lnTo>
                      <a:pt x="4305" y="3050"/>
                    </a:lnTo>
                    <a:lnTo>
                      <a:pt x="4305" y="3109"/>
                    </a:lnTo>
                    <a:lnTo>
                      <a:pt x="4281" y="3109"/>
                    </a:lnTo>
                    <a:lnTo>
                      <a:pt x="4281" y="3152"/>
                    </a:lnTo>
                    <a:lnTo>
                      <a:pt x="4262" y="3152"/>
                    </a:lnTo>
                    <a:lnTo>
                      <a:pt x="4262" y="3187"/>
                    </a:lnTo>
                    <a:lnTo>
                      <a:pt x="4244" y="3187"/>
                    </a:lnTo>
                    <a:lnTo>
                      <a:pt x="4244" y="3008"/>
                    </a:lnTo>
                    <a:lnTo>
                      <a:pt x="4221" y="3008"/>
                    </a:lnTo>
                    <a:lnTo>
                      <a:pt x="4221" y="2929"/>
                    </a:lnTo>
                    <a:lnTo>
                      <a:pt x="4203" y="2929"/>
                    </a:lnTo>
                    <a:lnTo>
                      <a:pt x="4203" y="2888"/>
                    </a:lnTo>
                    <a:lnTo>
                      <a:pt x="4185" y="2870"/>
                    </a:lnTo>
                    <a:lnTo>
                      <a:pt x="4185" y="2852"/>
                    </a:lnTo>
                    <a:lnTo>
                      <a:pt x="4161" y="2828"/>
                    </a:lnTo>
                    <a:lnTo>
                      <a:pt x="4161" y="2810"/>
                    </a:lnTo>
                    <a:lnTo>
                      <a:pt x="4125" y="2769"/>
                    </a:lnTo>
                    <a:lnTo>
                      <a:pt x="4125" y="2751"/>
                    </a:lnTo>
                    <a:lnTo>
                      <a:pt x="4102" y="2733"/>
                    </a:lnTo>
                    <a:lnTo>
                      <a:pt x="4102" y="2708"/>
                    </a:lnTo>
                    <a:lnTo>
                      <a:pt x="4084" y="2691"/>
                    </a:lnTo>
                    <a:lnTo>
                      <a:pt x="4084" y="2673"/>
                    </a:lnTo>
                    <a:lnTo>
                      <a:pt x="4041" y="2631"/>
                    </a:lnTo>
                    <a:lnTo>
                      <a:pt x="4041" y="2614"/>
                    </a:lnTo>
                    <a:lnTo>
                      <a:pt x="4024" y="2589"/>
                    </a:lnTo>
                    <a:lnTo>
                      <a:pt x="4006" y="2553"/>
                    </a:lnTo>
                    <a:lnTo>
                      <a:pt x="4006" y="2529"/>
                    </a:lnTo>
                    <a:lnTo>
                      <a:pt x="3964" y="2493"/>
                    </a:lnTo>
                    <a:lnTo>
                      <a:pt x="3964" y="2470"/>
                    </a:lnTo>
                    <a:lnTo>
                      <a:pt x="3946" y="2452"/>
                    </a:lnTo>
                    <a:lnTo>
                      <a:pt x="3922" y="2409"/>
                    </a:lnTo>
                    <a:lnTo>
                      <a:pt x="3904" y="2392"/>
                    </a:lnTo>
                    <a:lnTo>
                      <a:pt x="3904" y="2374"/>
                    </a:lnTo>
                    <a:lnTo>
                      <a:pt x="3863" y="2332"/>
                    </a:lnTo>
                    <a:lnTo>
                      <a:pt x="3863" y="2315"/>
                    </a:lnTo>
                    <a:lnTo>
                      <a:pt x="3826" y="2272"/>
                    </a:lnTo>
                    <a:lnTo>
                      <a:pt x="3803" y="2231"/>
                    </a:lnTo>
                    <a:lnTo>
                      <a:pt x="3803" y="2213"/>
                    </a:lnTo>
                    <a:lnTo>
                      <a:pt x="3767" y="2171"/>
                    </a:lnTo>
                    <a:lnTo>
                      <a:pt x="3767" y="2153"/>
                    </a:lnTo>
                    <a:lnTo>
                      <a:pt x="3742" y="2153"/>
                    </a:lnTo>
                    <a:lnTo>
                      <a:pt x="3724" y="2135"/>
                    </a:lnTo>
                    <a:lnTo>
                      <a:pt x="3724" y="2111"/>
                    </a:lnTo>
                    <a:lnTo>
                      <a:pt x="3707" y="2092"/>
                    </a:lnTo>
                    <a:lnTo>
                      <a:pt x="3707" y="2075"/>
                    </a:lnTo>
                    <a:lnTo>
                      <a:pt x="3683" y="2075"/>
                    </a:lnTo>
                    <a:lnTo>
                      <a:pt x="3647" y="2033"/>
                    </a:lnTo>
                    <a:lnTo>
                      <a:pt x="3605" y="1991"/>
                    </a:lnTo>
                    <a:lnTo>
                      <a:pt x="3587" y="1991"/>
                    </a:lnTo>
                    <a:lnTo>
                      <a:pt x="3587" y="2015"/>
                    </a:lnTo>
                    <a:lnTo>
                      <a:pt x="3564" y="2015"/>
                    </a:lnTo>
                    <a:lnTo>
                      <a:pt x="3564" y="2075"/>
                    </a:lnTo>
                    <a:lnTo>
                      <a:pt x="3546" y="2075"/>
                    </a:lnTo>
                    <a:lnTo>
                      <a:pt x="3546" y="2529"/>
                    </a:lnTo>
                    <a:lnTo>
                      <a:pt x="3528" y="2529"/>
                    </a:lnTo>
                    <a:lnTo>
                      <a:pt x="3528" y="2691"/>
                    </a:lnTo>
                    <a:lnTo>
                      <a:pt x="3503" y="2708"/>
                    </a:lnTo>
                    <a:lnTo>
                      <a:pt x="3503" y="2888"/>
                    </a:lnTo>
                    <a:lnTo>
                      <a:pt x="3486" y="2888"/>
                    </a:lnTo>
                    <a:lnTo>
                      <a:pt x="3486" y="2912"/>
                    </a:lnTo>
                    <a:lnTo>
                      <a:pt x="3468" y="2888"/>
                    </a:lnTo>
                    <a:lnTo>
                      <a:pt x="3468" y="2589"/>
                    </a:lnTo>
                    <a:lnTo>
                      <a:pt x="3444" y="2571"/>
                    </a:lnTo>
                    <a:lnTo>
                      <a:pt x="3444" y="2231"/>
                    </a:lnTo>
                    <a:lnTo>
                      <a:pt x="3425" y="2213"/>
                    </a:lnTo>
                    <a:lnTo>
                      <a:pt x="3425" y="2092"/>
                    </a:lnTo>
                    <a:lnTo>
                      <a:pt x="3407" y="2075"/>
                    </a:lnTo>
                    <a:lnTo>
                      <a:pt x="3407" y="2015"/>
                    </a:lnTo>
                    <a:lnTo>
                      <a:pt x="3384" y="2015"/>
                    </a:lnTo>
                    <a:lnTo>
                      <a:pt x="3384" y="1991"/>
                    </a:lnTo>
                    <a:lnTo>
                      <a:pt x="3366" y="1973"/>
                    </a:lnTo>
                    <a:lnTo>
                      <a:pt x="3324" y="1973"/>
                    </a:lnTo>
                    <a:lnTo>
                      <a:pt x="3288" y="2015"/>
                    </a:lnTo>
                    <a:lnTo>
                      <a:pt x="3265" y="2015"/>
                    </a:lnTo>
                    <a:lnTo>
                      <a:pt x="3265" y="2033"/>
                    </a:lnTo>
                    <a:lnTo>
                      <a:pt x="3247" y="2033"/>
                    </a:lnTo>
                    <a:lnTo>
                      <a:pt x="3247" y="2051"/>
                    </a:lnTo>
                    <a:lnTo>
                      <a:pt x="3229" y="2051"/>
                    </a:lnTo>
                    <a:lnTo>
                      <a:pt x="3229" y="2075"/>
                    </a:lnTo>
                    <a:lnTo>
                      <a:pt x="3204" y="2075"/>
                    </a:lnTo>
                    <a:lnTo>
                      <a:pt x="3204" y="2092"/>
                    </a:lnTo>
                    <a:lnTo>
                      <a:pt x="3169" y="2135"/>
                    </a:lnTo>
                    <a:lnTo>
                      <a:pt x="3169" y="2153"/>
                    </a:lnTo>
                    <a:lnTo>
                      <a:pt x="3127" y="2194"/>
                    </a:lnTo>
                    <a:lnTo>
                      <a:pt x="3127" y="2213"/>
                    </a:lnTo>
                    <a:lnTo>
                      <a:pt x="3085" y="2254"/>
                    </a:lnTo>
                    <a:lnTo>
                      <a:pt x="3085" y="2272"/>
                    </a:lnTo>
                    <a:lnTo>
                      <a:pt x="3049" y="2315"/>
                    </a:lnTo>
                    <a:lnTo>
                      <a:pt x="3026" y="2332"/>
                    </a:lnTo>
                    <a:lnTo>
                      <a:pt x="3026" y="2350"/>
                    </a:lnTo>
                    <a:lnTo>
                      <a:pt x="3007" y="2374"/>
                    </a:lnTo>
                    <a:lnTo>
                      <a:pt x="3007" y="2392"/>
                    </a:lnTo>
                    <a:lnTo>
                      <a:pt x="2989" y="2392"/>
                    </a:lnTo>
                    <a:lnTo>
                      <a:pt x="2989" y="2409"/>
                    </a:lnTo>
                    <a:lnTo>
                      <a:pt x="2965" y="2434"/>
                    </a:lnTo>
                    <a:lnTo>
                      <a:pt x="2965" y="2452"/>
                    </a:lnTo>
                    <a:lnTo>
                      <a:pt x="2948" y="2452"/>
                    </a:lnTo>
                    <a:lnTo>
                      <a:pt x="2948" y="2493"/>
                    </a:lnTo>
                    <a:lnTo>
                      <a:pt x="2930" y="2493"/>
                    </a:lnTo>
                    <a:lnTo>
                      <a:pt x="2905" y="2511"/>
                    </a:lnTo>
                    <a:lnTo>
                      <a:pt x="2905" y="2529"/>
                    </a:lnTo>
                    <a:lnTo>
                      <a:pt x="2887" y="2553"/>
                    </a:lnTo>
                    <a:lnTo>
                      <a:pt x="2887" y="2571"/>
                    </a:lnTo>
                    <a:lnTo>
                      <a:pt x="2870" y="2589"/>
                    </a:lnTo>
                    <a:lnTo>
                      <a:pt x="2870" y="2614"/>
                    </a:lnTo>
                    <a:lnTo>
                      <a:pt x="2828" y="2649"/>
                    </a:lnTo>
                    <a:lnTo>
                      <a:pt x="2828" y="2673"/>
                    </a:lnTo>
                    <a:lnTo>
                      <a:pt x="2810" y="2691"/>
                    </a:lnTo>
                    <a:lnTo>
                      <a:pt x="2786" y="2733"/>
                    </a:lnTo>
                    <a:lnTo>
                      <a:pt x="2786" y="2751"/>
                    </a:lnTo>
                    <a:lnTo>
                      <a:pt x="2750" y="2792"/>
                    </a:lnTo>
                    <a:lnTo>
                      <a:pt x="2750" y="2810"/>
                    </a:lnTo>
                    <a:lnTo>
                      <a:pt x="2727" y="2852"/>
                    </a:lnTo>
                    <a:lnTo>
                      <a:pt x="2709" y="2870"/>
                    </a:lnTo>
                    <a:lnTo>
                      <a:pt x="2709" y="2888"/>
                    </a:lnTo>
                    <a:lnTo>
                      <a:pt x="2691" y="2929"/>
                    </a:lnTo>
                    <a:lnTo>
                      <a:pt x="2666" y="2948"/>
                    </a:lnTo>
                    <a:lnTo>
                      <a:pt x="2666" y="2972"/>
                    </a:lnTo>
                    <a:lnTo>
                      <a:pt x="2631" y="3008"/>
                    </a:lnTo>
                    <a:lnTo>
                      <a:pt x="2631" y="3050"/>
                    </a:lnTo>
                    <a:lnTo>
                      <a:pt x="2588" y="3091"/>
                    </a:lnTo>
                    <a:lnTo>
                      <a:pt x="2588" y="3109"/>
                    </a:lnTo>
                    <a:lnTo>
                      <a:pt x="2570" y="3127"/>
                    </a:lnTo>
                    <a:lnTo>
                      <a:pt x="2570" y="3152"/>
                    </a:lnTo>
                    <a:lnTo>
                      <a:pt x="2547" y="3169"/>
                    </a:lnTo>
                    <a:lnTo>
                      <a:pt x="2547" y="3187"/>
                    </a:lnTo>
                    <a:lnTo>
                      <a:pt x="2511" y="3229"/>
                    </a:lnTo>
                    <a:lnTo>
                      <a:pt x="2511" y="3246"/>
                    </a:lnTo>
                    <a:lnTo>
                      <a:pt x="2487" y="3246"/>
                    </a:lnTo>
                    <a:lnTo>
                      <a:pt x="2487" y="3289"/>
                    </a:lnTo>
                    <a:lnTo>
                      <a:pt x="2469" y="3289"/>
                    </a:lnTo>
                    <a:lnTo>
                      <a:pt x="2469" y="3211"/>
                    </a:lnTo>
                    <a:lnTo>
                      <a:pt x="2487" y="3187"/>
                    </a:lnTo>
                    <a:lnTo>
                      <a:pt x="2487" y="3152"/>
                    </a:lnTo>
                    <a:lnTo>
                      <a:pt x="2511" y="3109"/>
                    </a:lnTo>
                    <a:lnTo>
                      <a:pt x="2511" y="3091"/>
                    </a:lnTo>
                    <a:lnTo>
                      <a:pt x="2529" y="3050"/>
                    </a:lnTo>
                    <a:lnTo>
                      <a:pt x="2547" y="3032"/>
                    </a:lnTo>
                    <a:lnTo>
                      <a:pt x="2547" y="2990"/>
                    </a:lnTo>
                    <a:lnTo>
                      <a:pt x="2570" y="2948"/>
                    </a:lnTo>
                    <a:lnTo>
                      <a:pt x="2570" y="2912"/>
                    </a:lnTo>
                    <a:lnTo>
                      <a:pt x="2588" y="2888"/>
                    </a:lnTo>
                    <a:lnTo>
                      <a:pt x="2631" y="2810"/>
                    </a:lnTo>
                    <a:lnTo>
                      <a:pt x="2631" y="2769"/>
                    </a:lnTo>
                    <a:lnTo>
                      <a:pt x="2666" y="2691"/>
                    </a:lnTo>
                    <a:lnTo>
                      <a:pt x="2691" y="2649"/>
                    </a:lnTo>
                    <a:lnTo>
                      <a:pt x="2691" y="2614"/>
                    </a:lnTo>
                    <a:lnTo>
                      <a:pt x="2709" y="2553"/>
                    </a:lnTo>
                    <a:lnTo>
                      <a:pt x="2750" y="2470"/>
                    </a:lnTo>
                    <a:lnTo>
                      <a:pt x="2768" y="2434"/>
                    </a:lnTo>
                    <a:lnTo>
                      <a:pt x="2768" y="2392"/>
                    </a:lnTo>
                    <a:lnTo>
                      <a:pt x="2810" y="2315"/>
                    </a:lnTo>
                    <a:lnTo>
                      <a:pt x="2810" y="2272"/>
                    </a:lnTo>
                    <a:lnTo>
                      <a:pt x="2828" y="2231"/>
                    </a:lnTo>
                    <a:lnTo>
                      <a:pt x="2828" y="2194"/>
                    </a:lnTo>
                    <a:lnTo>
                      <a:pt x="2846" y="2153"/>
                    </a:lnTo>
                    <a:lnTo>
                      <a:pt x="2870" y="2135"/>
                    </a:lnTo>
                    <a:lnTo>
                      <a:pt x="2870" y="2051"/>
                    </a:lnTo>
                    <a:lnTo>
                      <a:pt x="2887" y="2033"/>
                    </a:lnTo>
                    <a:lnTo>
                      <a:pt x="2887" y="1973"/>
                    </a:lnTo>
                    <a:lnTo>
                      <a:pt x="2905" y="1955"/>
                    </a:lnTo>
                    <a:lnTo>
                      <a:pt x="2905" y="1854"/>
                    </a:lnTo>
                    <a:lnTo>
                      <a:pt x="2887" y="1836"/>
                    </a:lnTo>
                    <a:lnTo>
                      <a:pt x="2887" y="1812"/>
                    </a:lnTo>
                    <a:lnTo>
                      <a:pt x="2870" y="1812"/>
                    </a:lnTo>
                    <a:lnTo>
                      <a:pt x="2846" y="1794"/>
                    </a:lnTo>
                    <a:lnTo>
                      <a:pt x="2786" y="1794"/>
                    </a:lnTo>
                    <a:lnTo>
                      <a:pt x="2768" y="1812"/>
                    </a:lnTo>
                    <a:lnTo>
                      <a:pt x="2709" y="1812"/>
                    </a:lnTo>
                    <a:lnTo>
                      <a:pt x="2691" y="1836"/>
                    </a:lnTo>
                    <a:lnTo>
                      <a:pt x="2666" y="1836"/>
                    </a:lnTo>
                    <a:lnTo>
                      <a:pt x="2649" y="1854"/>
                    </a:lnTo>
                    <a:lnTo>
                      <a:pt x="2631" y="1854"/>
                    </a:lnTo>
                    <a:lnTo>
                      <a:pt x="2607" y="1871"/>
                    </a:lnTo>
                    <a:lnTo>
                      <a:pt x="2588" y="1871"/>
                    </a:lnTo>
                    <a:lnTo>
                      <a:pt x="2570" y="1896"/>
                    </a:lnTo>
                    <a:lnTo>
                      <a:pt x="2547" y="1896"/>
                    </a:lnTo>
                    <a:lnTo>
                      <a:pt x="2529" y="1914"/>
                    </a:lnTo>
                    <a:lnTo>
                      <a:pt x="2487" y="1932"/>
                    </a:lnTo>
                    <a:lnTo>
                      <a:pt x="2469" y="1932"/>
                    </a:lnTo>
                    <a:lnTo>
                      <a:pt x="2428" y="1973"/>
                    </a:lnTo>
                    <a:lnTo>
                      <a:pt x="2410" y="1973"/>
                    </a:lnTo>
                    <a:lnTo>
                      <a:pt x="2367" y="1991"/>
                    </a:lnTo>
                    <a:lnTo>
                      <a:pt x="2349" y="2015"/>
                    </a:lnTo>
                    <a:lnTo>
                      <a:pt x="2332" y="2015"/>
                    </a:lnTo>
                    <a:lnTo>
                      <a:pt x="2290" y="2051"/>
                    </a:lnTo>
                    <a:lnTo>
                      <a:pt x="2272" y="2051"/>
                    </a:lnTo>
                    <a:lnTo>
                      <a:pt x="2248" y="2075"/>
                    </a:lnTo>
                    <a:lnTo>
                      <a:pt x="2212" y="2092"/>
                    </a:lnTo>
                    <a:lnTo>
                      <a:pt x="2189" y="2092"/>
                    </a:lnTo>
                    <a:lnTo>
                      <a:pt x="2170" y="2111"/>
                    </a:lnTo>
                    <a:lnTo>
                      <a:pt x="2152" y="2111"/>
                    </a:lnTo>
                    <a:lnTo>
                      <a:pt x="2152" y="2135"/>
                    </a:lnTo>
                    <a:lnTo>
                      <a:pt x="2128" y="2135"/>
                    </a:lnTo>
                    <a:lnTo>
                      <a:pt x="2111" y="2153"/>
                    </a:lnTo>
                    <a:lnTo>
                      <a:pt x="2093" y="2153"/>
                    </a:lnTo>
                    <a:lnTo>
                      <a:pt x="2068" y="2171"/>
                    </a:lnTo>
                    <a:lnTo>
                      <a:pt x="2050" y="2171"/>
                    </a:lnTo>
                    <a:lnTo>
                      <a:pt x="2050" y="2194"/>
                    </a:lnTo>
                    <a:lnTo>
                      <a:pt x="2009" y="2194"/>
                    </a:lnTo>
                    <a:lnTo>
                      <a:pt x="1991" y="2213"/>
                    </a:lnTo>
                    <a:lnTo>
                      <a:pt x="1949" y="2213"/>
                    </a:lnTo>
                    <a:lnTo>
                      <a:pt x="1949" y="2231"/>
                    </a:lnTo>
                    <a:lnTo>
                      <a:pt x="1913" y="2231"/>
                    </a:lnTo>
                    <a:lnTo>
                      <a:pt x="1913" y="2254"/>
                    </a:lnTo>
                    <a:lnTo>
                      <a:pt x="1890" y="2254"/>
                    </a:lnTo>
                    <a:lnTo>
                      <a:pt x="1872" y="2272"/>
                    </a:lnTo>
                    <a:lnTo>
                      <a:pt x="1854" y="2272"/>
                    </a:lnTo>
                    <a:lnTo>
                      <a:pt x="1854" y="2290"/>
                    </a:lnTo>
                    <a:lnTo>
                      <a:pt x="1812" y="2290"/>
                    </a:lnTo>
                    <a:lnTo>
                      <a:pt x="1812" y="2315"/>
                    </a:lnTo>
                    <a:lnTo>
                      <a:pt x="1794" y="2315"/>
                    </a:lnTo>
                    <a:lnTo>
                      <a:pt x="1770" y="2332"/>
                    </a:lnTo>
                    <a:lnTo>
                      <a:pt x="1770" y="2315"/>
                    </a:lnTo>
                    <a:lnTo>
                      <a:pt x="1794" y="2315"/>
                    </a:lnTo>
                    <a:lnTo>
                      <a:pt x="1794" y="2290"/>
                    </a:lnTo>
                    <a:lnTo>
                      <a:pt x="1812" y="2272"/>
                    </a:lnTo>
                    <a:lnTo>
                      <a:pt x="1829" y="2272"/>
                    </a:lnTo>
                    <a:lnTo>
                      <a:pt x="1829" y="2254"/>
                    </a:lnTo>
                    <a:lnTo>
                      <a:pt x="1854" y="2231"/>
                    </a:lnTo>
                    <a:lnTo>
                      <a:pt x="1872" y="2231"/>
                    </a:lnTo>
                    <a:lnTo>
                      <a:pt x="1913" y="2194"/>
                    </a:lnTo>
                    <a:lnTo>
                      <a:pt x="1949" y="2153"/>
                    </a:lnTo>
                    <a:lnTo>
                      <a:pt x="1973" y="2153"/>
                    </a:lnTo>
                    <a:lnTo>
                      <a:pt x="2009" y="2111"/>
                    </a:lnTo>
                    <a:lnTo>
                      <a:pt x="2032" y="2092"/>
                    </a:lnTo>
                    <a:lnTo>
                      <a:pt x="2050" y="2092"/>
                    </a:lnTo>
                    <a:lnTo>
                      <a:pt x="2093" y="2075"/>
                    </a:lnTo>
                    <a:lnTo>
                      <a:pt x="2128" y="2033"/>
                    </a:lnTo>
                    <a:lnTo>
                      <a:pt x="2170" y="1991"/>
                    </a:lnTo>
                    <a:lnTo>
                      <a:pt x="2189" y="1973"/>
                    </a:lnTo>
                    <a:lnTo>
                      <a:pt x="2212" y="1973"/>
                    </a:lnTo>
                    <a:lnTo>
                      <a:pt x="2248" y="1932"/>
                    </a:lnTo>
                    <a:lnTo>
                      <a:pt x="2290" y="1896"/>
                    </a:lnTo>
                    <a:lnTo>
                      <a:pt x="2332" y="1854"/>
                    </a:lnTo>
                    <a:lnTo>
                      <a:pt x="2349" y="1854"/>
                    </a:lnTo>
                    <a:lnTo>
                      <a:pt x="2392" y="1812"/>
                    </a:lnTo>
                    <a:lnTo>
                      <a:pt x="2392" y="1794"/>
                    </a:lnTo>
                    <a:lnTo>
                      <a:pt x="2410" y="1794"/>
                    </a:lnTo>
                    <a:lnTo>
                      <a:pt x="2428" y="1777"/>
                    </a:lnTo>
                    <a:lnTo>
                      <a:pt x="2428" y="1752"/>
                    </a:lnTo>
                    <a:lnTo>
                      <a:pt x="2451" y="1752"/>
                    </a:lnTo>
                    <a:lnTo>
                      <a:pt x="2451" y="1734"/>
                    </a:lnTo>
                    <a:lnTo>
                      <a:pt x="2469" y="1716"/>
                    </a:lnTo>
                    <a:lnTo>
                      <a:pt x="2469" y="1692"/>
                    </a:lnTo>
                    <a:lnTo>
                      <a:pt x="2451" y="1674"/>
                    </a:lnTo>
                    <a:lnTo>
                      <a:pt x="2392" y="1674"/>
                    </a:lnTo>
                    <a:lnTo>
                      <a:pt x="2367" y="1656"/>
                    </a:lnTo>
                    <a:lnTo>
                      <a:pt x="2349" y="1674"/>
                    </a:lnTo>
                    <a:lnTo>
                      <a:pt x="2170" y="1674"/>
                    </a:lnTo>
                    <a:lnTo>
                      <a:pt x="2152" y="1692"/>
                    </a:lnTo>
                    <a:lnTo>
                      <a:pt x="2068" y="1692"/>
                    </a:lnTo>
                    <a:lnTo>
                      <a:pt x="2050" y="1716"/>
                    </a:lnTo>
                    <a:lnTo>
                      <a:pt x="1949" y="1716"/>
                    </a:lnTo>
                    <a:lnTo>
                      <a:pt x="1931" y="1734"/>
                    </a:lnTo>
                    <a:lnTo>
                      <a:pt x="1829" y="1734"/>
                    </a:lnTo>
                    <a:lnTo>
                      <a:pt x="1794" y="1752"/>
                    </a:lnTo>
                    <a:lnTo>
                      <a:pt x="1733" y="1752"/>
                    </a:lnTo>
                    <a:lnTo>
                      <a:pt x="1710" y="1777"/>
                    </a:lnTo>
                    <a:lnTo>
                      <a:pt x="1573" y="1777"/>
                    </a:lnTo>
                    <a:lnTo>
                      <a:pt x="1555" y="1794"/>
                    </a:lnTo>
                    <a:lnTo>
                      <a:pt x="1315" y="1794"/>
                    </a:lnTo>
                    <a:lnTo>
                      <a:pt x="1315" y="1812"/>
                    </a:lnTo>
                    <a:lnTo>
                      <a:pt x="1274" y="1794"/>
                    </a:lnTo>
                    <a:lnTo>
                      <a:pt x="873" y="1794"/>
                    </a:lnTo>
                    <a:lnTo>
                      <a:pt x="837" y="1777"/>
                    </a:lnTo>
                    <a:lnTo>
                      <a:pt x="616" y="1777"/>
                    </a:lnTo>
                    <a:lnTo>
                      <a:pt x="579" y="1752"/>
                    </a:lnTo>
                    <a:lnTo>
                      <a:pt x="401" y="1752"/>
                    </a:lnTo>
                    <a:lnTo>
                      <a:pt x="358" y="1734"/>
                    </a:lnTo>
                    <a:lnTo>
                      <a:pt x="239" y="1734"/>
                    </a:lnTo>
                    <a:lnTo>
                      <a:pt x="221" y="1716"/>
                    </a:lnTo>
                    <a:lnTo>
                      <a:pt x="77" y="1716"/>
                    </a:lnTo>
                    <a:lnTo>
                      <a:pt x="59" y="1692"/>
                    </a:lnTo>
                    <a:lnTo>
                      <a:pt x="0" y="1692"/>
                    </a:lnTo>
                    <a:lnTo>
                      <a:pt x="0" y="1674"/>
                    </a:lnTo>
                    <a:lnTo>
                      <a:pt x="957" y="1674"/>
                    </a:lnTo>
                    <a:lnTo>
                      <a:pt x="992" y="1656"/>
                    </a:lnTo>
                    <a:lnTo>
                      <a:pt x="1315" y="1656"/>
                    </a:lnTo>
                    <a:lnTo>
                      <a:pt x="1333" y="1633"/>
                    </a:lnTo>
                    <a:lnTo>
                      <a:pt x="1471" y="1633"/>
                    </a:lnTo>
                    <a:lnTo>
                      <a:pt x="1495" y="1615"/>
                    </a:lnTo>
                    <a:lnTo>
                      <a:pt x="1614" y="1615"/>
                    </a:lnTo>
                    <a:lnTo>
                      <a:pt x="1650" y="1597"/>
                    </a:lnTo>
                    <a:lnTo>
                      <a:pt x="1733" y="1597"/>
                    </a:lnTo>
                    <a:lnTo>
                      <a:pt x="1770" y="1572"/>
                    </a:lnTo>
                    <a:lnTo>
                      <a:pt x="1872" y="1572"/>
                    </a:lnTo>
                    <a:lnTo>
                      <a:pt x="1913" y="1555"/>
                    </a:lnTo>
                    <a:lnTo>
                      <a:pt x="1973" y="1555"/>
                    </a:lnTo>
                    <a:lnTo>
                      <a:pt x="1991" y="1537"/>
                    </a:lnTo>
                    <a:lnTo>
                      <a:pt x="2068" y="1537"/>
                    </a:lnTo>
                    <a:lnTo>
                      <a:pt x="2093" y="1513"/>
                    </a:lnTo>
                    <a:lnTo>
                      <a:pt x="2170" y="1513"/>
                    </a:lnTo>
                    <a:lnTo>
                      <a:pt x="2189" y="1495"/>
                    </a:lnTo>
                    <a:lnTo>
                      <a:pt x="2248" y="1495"/>
                    </a:lnTo>
                    <a:lnTo>
                      <a:pt x="2272" y="1478"/>
                    </a:lnTo>
                    <a:lnTo>
                      <a:pt x="2308" y="1478"/>
                    </a:lnTo>
                    <a:lnTo>
                      <a:pt x="2332" y="1453"/>
                    </a:lnTo>
                    <a:lnTo>
                      <a:pt x="2367" y="1453"/>
                    </a:lnTo>
                    <a:lnTo>
                      <a:pt x="2392" y="1435"/>
                    </a:lnTo>
                    <a:lnTo>
                      <a:pt x="2410" y="1435"/>
                    </a:lnTo>
                    <a:lnTo>
                      <a:pt x="2428" y="1417"/>
                    </a:lnTo>
                    <a:lnTo>
                      <a:pt x="2469" y="1417"/>
                    </a:lnTo>
                    <a:lnTo>
                      <a:pt x="2469" y="1394"/>
                    </a:lnTo>
                    <a:lnTo>
                      <a:pt x="2487" y="1376"/>
                    </a:lnTo>
                    <a:lnTo>
                      <a:pt x="2511" y="1376"/>
                    </a:lnTo>
                    <a:lnTo>
                      <a:pt x="2511" y="1255"/>
                    </a:lnTo>
                    <a:lnTo>
                      <a:pt x="2487" y="1238"/>
                    </a:lnTo>
                    <a:lnTo>
                      <a:pt x="2487" y="1214"/>
                    </a:lnTo>
                    <a:lnTo>
                      <a:pt x="2469" y="1196"/>
                    </a:lnTo>
                    <a:lnTo>
                      <a:pt x="2469" y="1178"/>
                    </a:lnTo>
                    <a:lnTo>
                      <a:pt x="2451" y="1178"/>
                    </a:lnTo>
                    <a:lnTo>
                      <a:pt x="2451" y="1154"/>
                    </a:lnTo>
                    <a:lnTo>
                      <a:pt x="2428" y="1136"/>
                    </a:lnTo>
                    <a:lnTo>
                      <a:pt x="2428" y="1118"/>
                    </a:lnTo>
                    <a:lnTo>
                      <a:pt x="2410" y="1118"/>
                    </a:lnTo>
                    <a:lnTo>
                      <a:pt x="2410" y="1095"/>
                    </a:lnTo>
                    <a:lnTo>
                      <a:pt x="2392" y="1095"/>
                    </a:lnTo>
                    <a:lnTo>
                      <a:pt x="2392" y="1077"/>
                    </a:lnTo>
                    <a:lnTo>
                      <a:pt x="2367" y="1059"/>
                    </a:lnTo>
                    <a:lnTo>
                      <a:pt x="2367" y="1034"/>
                    </a:lnTo>
                    <a:lnTo>
                      <a:pt x="2349" y="1034"/>
                    </a:lnTo>
                    <a:lnTo>
                      <a:pt x="2349" y="999"/>
                    </a:lnTo>
                    <a:lnTo>
                      <a:pt x="2332" y="975"/>
                    </a:lnTo>
                    <a:lnTo>
                      <a:pt x="2332" y="915"/>
                    </a:lnTo>
                    <a:lnTo>
                      <a:pt x="2349" y="897"/>
                    </a:lnTo>
                    <a:lnTo>
                      <a:pt x="2349" y="837"/>
                    </a:lnTo>
                    <a:lnTo>
                      <a:pt x="2367" y="837"/>
                    </a:lnTo>
                    <a:lnTo>
                      <a:pt x="2367" y="819"/>
                    </a:lnTo>
                    <a:lnTo>
                      <a:pt x="2392" y="819"/>
                    </a:lnTo>
                    <a:lnTo>
                      <a:pt x="2392" y="837"/>
                    </a:lnTo>
                    <a:lnTo>
                      <a:pt x="2410" y="837"/>
                    </a:lnTo>
                    <a:lnTo>
                      <a:pt x="2451" y="879"/>
                    </a:lnTo>
                    <a:lnTo>
                      <a:pt x="2451" y="897"/>
                    </a:lnTo>
                    <a:lnTo>
                      <a:pt x="2469" y="897"/>
                    </a:lnTo>
                    <a:lnTo>
                      <a:pt x="2469" y="915"/>
                    </a:lnTo>
                    <a:lnTo>
                      <a:pt x="2487" y="940"/>
                    </a:lnTo>
                    <a:lnTo>
                      <a:pt x="2487" y="957"/>
                    </a:lnTo>
                    <a:lnTo>
                      <a:pt x="2511" y="975"/>
                    </a:lnTo>
                    <a:lnTo>
                      <a:pt x="2511" y="999"/>
                    </a:lnTo>
                    <a:lnTo>
                      <a:pt x="2547" y="1034"/>
                    </a:lnTo>
                    <a:lnTo>
                      <a:pt x="2547" y="1059"/>
                    </a:lnTo>
                    <a:lnTo>
                      <a:pt x="2570" y="1077"/>
                    </a:lnTo>
                    <a:lnTo>
                      <a:pt x="2570" y="1095"/>
                    </a:lnTo>
                    <a:lnTo>
                      <a:pt x="2588" y="1118"/>
                    </a:lnTo>
                    <a:lnTo>
                      <a:pt x="2588" y="1136"/>
                    </a:lnTo>
                    <a:lnTo>
                      <a:pt x="2631" y="1178"/>
                    </a:lnTo>
                    <a:lnTo>
                      <a:pt x="2631" y="1196"/>
                    </a:lnTo>
                    <a:lnTo>
                      <a:pt x="2649" y="1214"/>
                    </a:lnTo>
                    <a:lnTo>
                      <a:pt x="2649" y="1238"/>
                    </a:lnTo>
                    <a:lnTo>
                      <a:pt x="2666" y="1255"/>
                    </a:lnTo>
                    <a:lnTo>
                      <a:pt x="2666" y="1273"/>
                    </a:lnTo>
                    <a:lnTo>
                      <a:pt x="2691" y="1273"/>
                    </a:lnTo>
                    <a:lnTo>
                      <a:pt x="2691" y="1298"/>
                    </a:lnTo>
                    <a:lnTo>
                      <a:pt x="2709" y="1316"/>
                    </a:lnTo>
                    <a:lnTo>
                      <a:pt x="2709" y="1334"/>
                    </a:lnTo>
                    <a:lnTo>
                      <a:pt x="2727" y="1334"/>
                    </a:lnTo>
                    <a:lnTo>
                      <a:pt x="2727" y="1357"/>
                    </a:lnTo>
                    <a:lnTo>
                      <a:pt x="2750" y="1357"/>
                    </a:lnTo>
                    <a:lnTo>
                      <a:pt x="2750" y="1376"/>
                    </a:lnTo>
                    <a:lnTo>
                      <a:pt x="2786" y="1417"/>
                    </a:lnTo>
                    <a:lnTo>
                      <a:pt x="2810" y="1435"/>
                    </a:lnTo>
                    <a:lnTo>
                      <a:pt x="2828" y="1435"/>
                    </a:lnTo>
                    <a:lnTo>
                      <a:pt x="2828" y="1453"/>
                    </a:lnTo>
                    <a:lnTo>
                      <a:pt x="2846" y="1453"/>
                    </a:lnTo>
                    <a:lnTo>
                      <a:pt x="2846" y="1478"/>
                    </a:lnTo>
                    <a:lnTo>
                      <a:pt x="2887" y="1478"/>
                    </a:lnTo>
                    <a:lnTo>
                      <a:pt x="2887" y="1495"/>
                    </a:lnTo>
                    <a:lnTo>
                      <a:pt x="2965" y="1495"/>
                    </a:lnTo>
                    <a:lnTo>
                      <a:pt x="2965" y="1478"/>
                    </a:lnTo>
                    <a:lnTo>
                      <a:pt x="2989" y="1478"/>
                    </a:lnTo>
                    <a:lnTo>
                      <a:pt x="2989" y="1435"/>
                    </a:lnTo>
                    <a:lnTo>
                      <a:pt x="3007" y="1435"/>
                    </a:lnTo>
                    <a:lnTo>
                      <a:pt x="3007" y="1357"/>
                    </a:lnTo>
                    <a:lnTo>
                      <a:pt x="3026" y="1357"/>
                    </a:lnTo>
                    <a:lnTo>
                      <a:pt x="3026" y="1118"/>
                    </a:lnTo>
                    <a:lnTo>
                      <a:pt x="3007" y="1095"/>
                    </a:lnTo>
                    <a:lnTo>
                      <a:pt x="3007" y="879"/>
                    </a:lnTo>
                    <a:lnTo>
                      <a:pt x="2989" y="837"/>
                    </a:lnTo>
                    <a:lnTo>
                      <a:pt x="2989" y="616"/>
                    </a:lnTo>
                    <a:lnTo>
                      <a:pt x="2965" y="580"/>
                    </a:lnTo>
                    <a:lnTo>
                      <a:pt x="2965" y="359"/>
                    </a:lnTo>
                    <a:lnTo>
                      <a:pt x="2948" y="317"/>
                    </a:lnTo>
                    <a:lnTo>
                      <a:pt x="2948" y="0"/>
                    </a:lnTo>
                    <a:lnTo>
                      <a:pt x="2965" y="0"/>
                    </a:lnTo>
                    <a:lnTo>
                      <a:pt x="2965" y="19"/>
                    </a:lnTo>
                    <a:lnTo>
                      <a:pt x="2989" y="42"/>
                    </a:lnTo>
                    <a:lnTo>
                      <a:pt x="2989" y="78"/>
                    </a:lnTo>
                    <a:lnTo>
                      <a:pt x="3007" y="101"/>
                    </a:lnTo>
                    <a:lnTo>
                      <a:pt x="3007" y="162"/>
                    </a:lnTo>
                    <a:lnTo>
                      <a:pt x="3026" y="180"/>
                    </a:lnTo>
                    <a:lnTo>
                      <a:pt x="3026" y="222"/>
                    </a:lnTo>
                    <a:lnTo>
                      <a:pt x="3049" y="258"/>
                    </a:lnTo>
                    <a:lnTo>
                      <a:pt x="3049" y="281"/>
                    </a:lnTo>
                    <a:lnTo>
                      <a:pt x="3067" y="317"/>
                    </a:lnTo>
                    <a:lnTo>
                      <a:pt x="3067" y="401"/>
                    </a:lnTo>
                    <a:lnTo>
                      <a:pt x="3085" y="436"/>
                    </a:lnTo>
                    <a:lnTo>
                      <a:pt x="3085" y="479"/>
                    </a:lnTo>
                    <a:lnTo>
                      <a:pt x="3109" y="539"/>
                    </a:lnTo>
                    <a:lnTo>
                      <a:pt x="3109" y="580"/>
                    </a:lnTo>
                    <a:lnTo>
                      <a:pt x="3127" y="616"/>
                    </a:lnTo>
                    <a:lnTo>
                      <a:pt x="3127" y="658"/>
                    </a:lnTo>
                    <a:lnTo>
                      <a:pt x="3145" y="700"/>
                    </a:lnTo>
                    <a:lnTo>
                      <a:pt x="3145" y="760"/>
                    </a:lnTo>
                    <a:lnTo>
                      <a:pt x="3186" y="837"/>
                    </a:lnTo>
                    <a:lnTo>
                      <a:pt x="3186" y="879"/>
                    </a:lnTo>
                    <a:lnTo>
                      <a:pt x="3204" y="915"/>
                    </a:lnTo>
                    <a:lnTo>
                      <a:pt x="3204" y="957"/>
                    </a:lnTo>
                    <a:lnTo>
                      <a:pt x="3229" y="999"/>
                    </a:lnTo>
                    <a:lnTo>
                      <a:pt x="3229" y="1034"/>
                    </a:lnTo>
                    <a:lnTo>
                      <a:pt x="3247" y="1077"/>
                    </a:lnTo>
                    <a:lnTo>
                      <a:pt x="3247" y="1118"/>
                    </a:lnTo>
                    <a:lnTo>
                      <a:pt x="3265" y="1154"/>
                    </a:lnTo>
                    <a:lnTo>
                      <a:pt x="3265" y="1196"/>
                    </a:lnTo>
                    <a:lnTo>
                      <a:pt x="3288" y="1214"/>
                    </a:lnTo>
                    <a:lnTo>
                      <a:pt x="3288" y="1255"/>
                    </a:lnTo>
                    <a:lnTo>
                      <a:pt x="3306" y="1273"/>
                    </a:lnTo>
                    <a:lnTo>
                      <a:pt x="3306" y="1316"/>
                    </a:lnTo>
                    <a:lnTo>
                      <a:pt x="3324" y="1334"/>
                    </a:lnTo>
                    <a:lnTo>
                      <a:pt x="3324" y="1357"/>
                    </a:lnTo>
                    <a:lnTo>
                      <a:pt x="3366" y="1394"/>
                    </a:lnTo>
                    <a:lnTo>
                      <a:pt x="3384" y="1417"/>
                    </a:lnTo>
                    <a:lnTo>
                      <a:pt x="3407" y="1417"/>
                    </a:lnTo>
                    <a:lnTo>
                      <a:pt x="3407" y="1394"/>
                    </a:lnTo>
                    <a:lnTo>
                      <a:pt x="3425" y="1394"/>
                    </a:lnTo>
                    <a:lnTo>
                      <a:pt x="3425" y="1376"/>
                    </a:lnTo>
                    <a:lnTo>
                      <a:pt x="3444" y="1376"/>
                    </a:lnTo>
                    <a:lnTo>
                      <a:pt x="3444" y="1357"/>
                    </a:lnTo>
                    <a:lnTo>
                      <a:pt x="3468" y="1334"/>
                    </a:lnTo>
                    <a:lnTo>
                      <a:pt x="3468" y="1316"/>
                    </a:lnTo>
                    <a:lnTo>
                      <a:pt x="3486" y="1298"/>
                    </a:lnTo>
                    <a:lnTo>
                      <a:pt x="3486" y="1273"/>
                    </a:lnTo>
                    <a:lnTo>
                      <a:pt x="3503" y="1255"/>
                    </a:lnTo>
                    <a:lnTo>
                      <a:pt x="3503" y="1238"/>
                    </a:lnTo>
                    <a:lnTo>
                      <a:pt x="3528" y="1196"/>
                    </a:lnTo>
                    <a:lnTo>
                      <a:pt x="3528" y="1154"/>
                    </a:lnTo>
                    <a:lnTo>
                      <a:pt x="3546" y="1118"/>
                    </a:lnTo>
                    <a:lnTo>
                      <a:pt x="3546" y="1095"/>
                    </a:lnTo>
                    <a:lnTo>
                      <a:pt x="3564" y="1059"/>
                    </a:lnTo>
                    <a:lnTo>
                      <a:pt x="3564" y="1034"/>
                    </a:lnTo>
                    <a:lnTo>
                      <a:pt x="3587" y="999"/>
                    </a:lnTo>
                    <a:lnTo>
                      <a:pt x="3587" y="957"/>
                    </a:lnTo>
                    <a:lnTo>
                      <a:pt x="3605" y="940"/>
                    </a:lnTo>
                    <a:lnTo>
                      <a:pt x="3605" y="897"/>
                    </a:lnTo>
                    <a:lnTo>
                      <a:pt x="3623" y="879"/>
                    </a:lnTo>
                    <a:lnTo>
                      <a:pt x="3623" y="837"/>
                    </a:lnTo>
                    <a:lnTo>
                      <a:pt x="3647" y="796"/>
                    </a:lnTo>
                    <a:lnTo>
                      <a:pt x="3647" y="735"/>
                    </a:lnTo>
                    <a:lnTo>
                      <a:pt x="3665" y="718"/>
                    </a:lnTo>
                    <a:lnTo>
                      <a:pt x="3665" y="676"/>
                    </a:lnTo>
                    <a:lnTo>
                      <a:pt x="3683" y="658"/>
                    </a:lnTo>
                    <a:lnTo>
                      <a:pt x="3683" y="641"/>
                    </a:lnTo>
                    <a:lnTo>
                      <a:pt x="3707" y="598"/>
                    </a:lnTo>
                    <a:lnTo>
                      <a:pt x="3707" y="557"/>
                    </a:lnTo>
                    <a:lnTo>
                      <a:pt x="3724" y="539"/>
                    </a:lnTo>
                    <a:lnTo>
                      <a:pt x="3724" y="497"/>
                    </a:lnTo>
                    <a:lnTo>
                      <a:pt x="3742" y="497"/>
                    </a:lnTo>
                    <a:lnTo>
                      <a:pt x="3742" y="461"/>
                    </a:lnTo>
                    <a:lnTo>
                      <a:pt x="3785" y="461"/>
                    </a:lnTo>
                    <a:lnTo>
                      <a:pt x="3803" y="479"/>
                    </a:lnTo>
                    <a:lnTo>
                      <a:pt x="3803" y="1178"/>
                    </a:lnTo>
                    <a:lnTo>
                      <a:pt x="3826" y="1214"/>
                    </a:lnTo>
                    <a:lnTo>
                      <a:pt x="3826" y="1316"/>
                    </a:lnTo>
                    <a:lnTo>
                      <a:pt x="3844" y="1334"/>
                    </a:lnTo>
                    <a:lnTo>
                      <a:pt x="3844" y="1357"/>
                    </a:lnTo>
                    <a:lnTo>
                      <a:pt x="3886" y="1394"/>
                    </a:lnTo>
                    <a:lnTo>
                      <a:pt x="3904" y="1394"/>
                    </a:lnTo>
                    <a:lnTo>
                      <a:pt x="3904" y="1376"/>
                    </a:lnTo>
                    <a:lnTo>
                      <a:pt x="3922" y="1376"/>
                    </a:lnTo>
                    <a:lnTo>
                      <a:pt x="3922" y="1357"/>
                    </a:lnTo>
                    <a:lnTo>
                      <a:pt x="3946" y="1357"/>
                    </a:lnTo>
                    <a:lnTo>
                      <a:pt x="3982" y="1316"/>
                    </a:lnTo>
                    <a:lnTo>
                      <a:pt x="4024" y="1273"/>
                    </a:lnTo>
                    <a:lnTo>
                      <a:pt x="4024" y="1255"/>
                    </a:lnTo>
                    <a:lnTo>
                      <a:pt x="4041" y="1238"/>
                    </a:lnTo>
                    <a:lnTo>
                      <a:pt x="4084" y="1196"/>
                    </a:lnTo>
                    <a:lnTo>
                      <a:pt x="4102" y="1178"/>
                    </a:lnTo>
                    <a:lnTo>
                      <a:pt x="4125" y="1136"/>
                    </a:lnTo>
                    <a:lnTo>
                      <a:pt x="4143" y="1118"/>
                    </a:lnTo>
                    <a:lnTo>
                      <a:pt x="4185" y="1034"/>
                    </a:lnTo>
                    <a:lnTo>
                      <a:pt x="4203" y="1017"/>
                    </a:lnTo>
                    <a:lnTo>
                      <a:pt x="4244" y="975"/>
                    </a:lnTo>
                    <a:lnTo>
                      <a:pt x="4281" y="897"/>
                    </a:lnTo>
                    <a:lnTo>
                      <a:pt x="4323" y="819"/>
                    </a:lnTo>
                    <a:lnTo>
                      <a:pt x="4365" y="796"/>
                    </a:lnTo>
                    <a:lnTo>
                      <a:pt x="4401" y="718"/>
                    </a:lnTo>
                    <a:lnTo>
                      <a:pt x="4442" y="641"/>
                    </a:lnTo>
                    <a:lnTo>
                      <a:pt x="4460" y="598"/>
                    </a:lnTo>
                    <a:lnTo>
                      <a:pt x="4484" y="580"/>
                    </a:lnTo>
                    <a:lnTo>
                      <a:pt x="4520" y="539"/>
                    </a:lnTo>
                    <a:lnTo>
                      <a:pt x="4544" y="497"/>
                    </a:lnTo>
                    <a:lnTo>
                      <a:pt x="4561" y="479"/>
                    </a:lnTo>
                    <a:lnTo>
                      <a:pt x="4579" y="436"/>
                    </a:lnTo>
                    <a:lnTo>
                      <a:pt x="4604" y="418"/>
                    </a:lnTo>
                    <a:lnTo>
                      <a:pt x="4604" y="377"/>
                    </a:lnTo>
                    <a:lnTo>
                      <a:pt x="4640" y="341"/>
                    </a:lnTo>
                    <a:lnTo>
                      <a:pt x="4663" y="299"/>
                    </a:lnTo>
                    <a:lnTo>
                      <a:pt x="4681" y="281"/>
                    </a:lnTo>
                    <a:lnTo>
                      <a:pt x="4681" y="258"/>
                    </a:lnTo>
                    <a:lnTo>
                      <a:pt x="4700" y="258"/>
                    </a:lnTo>
                    <a:lnTo>
                      <a:pt x="4700" y="240"/>
                    </a:lnTo>
                    <a:lnTo>
                      <a:pt x="4723" y="222"/>
                    </a:lnTo>
                    <a:lnTo>
                      <a:pt x="4741" y="2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335400" y="3882960"/>
                <a:ext cx="406440" cy="254160"/>
              </a:xfrm>
              <a:custGeom>
                <a:avLst/>
                <a:gdLst/>
                <a:ahLst/>
                <a:rect l="l" t="t" r="r" b="b"/>
                <a:pathLst>
                  <a:path w="1536" h="956">
                    <a:moveTo>
                      <a:pt x="1536" y="341"/>
                    </a:moveTo>
                    <a:lnTo>
                      <a:pt x="1512" y="323"/>
                    </a:lnTo>
                    <a:lnTo>
                      <a:pt x="1512" y="299"/>
                    </a:lnTo>
                    <a:lnTo>
                      <a:pt x="1495" y="281"/>
                    </a:lnTo>
                    <a:lnTo>
                      <a:pt x="1495" y="263"/>
                    </a:lnTo>
                    <a:lnTo>
                      <a:pt x="1477" y="263"/>
                    </a:lnTo>
                    <a:lnTo>
                      <a:pt x="1477" y="239"/>
                    </a:lnTo>
                    <a:lnTo>
                      <a:pt x="1452" y="239"/>
                    </a:lnTo>
                    <a:lnTo>
                      <a:pt x="1452" y="222"/>
                    </a:lnTo>
                    <a:lnTo>
                      <a:pt x="1417" y="179"/>
                    </a:lnTo>
                    <a:lnTo>
                      <a:pt x="1375" y="143"/>
                    </a:lnTo>
                    <a:lnTo>
                      <a:pt x="1357" y="119"/>
                    </a:lnTo>
                    <a:lnTo>
                      <a:pt x="1333" y="119"/>
                    </a:lnTo>
                    <a:lnTo>
                      <a:pt x="1297" y="83"/>
                    </a:lnTo>
                    <a:lnTo>
                      <a:pt x="1274" y="83"/>
                    </a:lnTo>
                    <a:lnTo>
                      <a:pt x="1256" y="60"/>
                    </a:lnTo>
                    <a:lnTo>
                      <a:pt x="1238" y="60"/>
                    </a:lnTo>
                    <a:lnTo>
                      <a:pt x="1213" y="42"/>
                    </a:lnTo>
                    <a:lnTo>
                      <a:pt x="1196" y="42"/>
                    </a:lnTo>
                    <a:lnTo>
                      <a:pt x="1178" y="24"/>
                    </a:lnTo>
                    <a:lnTo>
                      <a:pt x="1094" y="24"/>
                    </a:lnTo>
                    <a:lnTo>
                      <a:pt x="1076" y="0"/>
                    </a:lnTo>
                    <a:lnTo>
                      <a:pt x="1076" y="24"/>
                    </a:lnTo>
                    <a:lnTo>
                      <a:pt x="975" y="24"/>
                    </a:lnTo>
                    <a:lnTo>
                      <a:pt x="957" y="42"/>
                    </a:lnTo>
                    <a:lnTo>
                      <a:pt x="914" y="42"/>
                    </a:lnTo>
                    <a:lnTo>
                      <a:pt x="896" y="60"/>
                    </a:lnTo>
                    <a:lnTo>
                      <a:pt x="855" y="60"/>
                    </a:lnTo>
                    <a:lnTo>
                      <a:pt x="855" y="83"/>
                    </a:lnTo>
                    <a:lnTo>
                      <a:pt x="819" y="83"/>
                    </a:lnTo>
                    <a:lnTo>
                      <a:pt x="795" y="101"/>
                    </a:lnTo>
                    <a:lnTo>
                      <a:pt x="777" y="101"/>
                    </a:lnTo>
                    <a:lnTo>
                      <a:pt x="736" y="143"/>
                    </a:lnTo>
                    <a:lnTo>
                      <a:pt x="717" y="143"/>
                    </a:lnTo>
                    <a:lnTo>
                      <a:pt x="699" y="161"/>
                    </a:lnTo>
                    <a:lnTo>
                      <a:pt x="675" y="161"/>
                    </a:lnTo>
                    <a:lnTo>
                      <a:pt x="640" y="203"/>
                    </a:lnTo>
                    <a:lnTo>
                      <a:pt x="615" y="203"/>
                    </a:lnTo>
                    <a:lnTo>
                      <a:pt x="597" y="222"/>
                    </a:lnTo>
                    <a:lnTo>
                      <a:pt x="579" y="222"/>
                    </a:lnTo>
                    <a:lnTo>
                      <a:pt x="579" y="239"/>
                    </a:lnTo>
                    <a:lnTo>
                      <a:pt x="556" y="239"/>
                    </a:lnTo>
                    <a:lnTo>
                      <a:pt x="538" y="263"/>
                    </a:lnTo>
                    <a:lnTo>
                      <a:pt x="520" y="263"/>
                    </a:lnTo>
                    <a:lnTo>
                      <a:pt x="520" y="281"/>
                    </a:lnTo>
                    <a:lnTo>
                      <a:pt x="496" y="281"/>
                    </a:lnTo>
                    <a:lnTo>
                      <a:pt x="460" y="323"/>
                    </a:lnTo>
                    <a:lnTo>
                      <a:pt x="437" y="341"/>
                    </a:lnTo>
                    <a:lnTo>
                      <a:pt x="419" y="341"/>
                    </a:lnTo>
                    <a:lnTo>
                      <a:pt x="419" y="359"/>
                    </a:lnTo>
                    <a:lnTo>
                      <a:pt x="401" y="359"/>
                    </a:lnTo>
                    <a:lnTo>
                      <a:pt x="376" y="382"/>
                    </a:lnTo>
                    <a:lnTo>
                      <a:pt x="376" y="400"/>
                    </a:lnTo>
                    <a:lnTo>
                      <a:pt x="359" y="400"/>
                    </a:lnTo>
                    <a:lnTo>
                      <a:pt x="317" y="443"/>
                    </a:lnTo>
                    <a:lnTo>
                      <a:pt x="280" y="478"/>
                    </a:lnTo>
                    <a:lnTo>
                      <a:pt x="257" y="502"/>
                    </a:lnTo>
                    <a:lnTo>
                      <a:pt x="257" y="520"/>
                    </a:lnTo>
                    <a:lnTo>
                      <a:pt x="239" y="520"/>
                    </a:lnTo>
                    <a:lnTo>
                      <a:pt x="239" y="537"/>
                    </a:lnTo>
                    <a:lnTo>
                      <a:pt x="221" y="562"/>
                    </a:lnTo>
                    <a:lnTo>
                      <a:pt x="197" y="562"/>
                    </a:lnTo>
                    <a:lnTo>
                      <a:pt x="197" y="580"/>
                    </a:lnTo>
                    <a:lnTo>
                      <a:pt x="179" y="598"/>
                    </a:lnTo>
                    <a:lnTo>
                      <a:pt x="179" y="621"/>
                    </a:lnTo>
                    <a:lnTo>
                      <a:pt x="161" y="621"/>
                    </a:lnTo>
                    <a:lnTo>
                      <a:pt x="161" y="639"/>
                    </a:lnTo>
                    <a:lnTo>
                      <a:pt x="138" y="658"/>
                    </a:lnTo>
                    <a:lnTo>
                      <a:pt x="138" y="681"/>
                    </a:lnTo>
                    <a:lnTo>
                      <a:pt x="120" y="681"/>
                    </a:lnTo>
                    <a:lnTo>
                      <a:pt x="120" y="699"/>
                    </a:lnTo>
                    <a:lnTo>
                      <a:pt x="77" y="742"/>
                    </a:lnTo>
                    <a:lnTo>
                      <a:pt x="77" y="777"/>
                    </a:lnTo>
                    <a:lnTo>
                      <a:pt x="59" y="777"/>
                    </a:lnTo>
                    <a:lnTo>
                      <a:pt x="59" y="801"/>
                    </a:lnTo>
                    <a:lnTo>
                      <a:pt x="42" y="819"/>
                    </a:lnTo>
                    <a:lnTo>
                      <a:pt x="42" y="837"/>
                    </a:lnTo>
                    <a:lnTo>
                      <a:pt x="18" y="861"/>
                    </a:lnTo>
                    <a:lnTo>
                      <a:pt x="18" y="920"/>
                    </a:lnTo>
                    <a:lnTo>
                      <a:pt x="0" y="920"/>
                    </a:lnTo>
                    <a:lnTo>
                      <a:pt x="0" y="938"/>
                    </a:lnTo>
                    <a:lnTo>
                      <a:pt x="18" y="956"/>
                    </a:lnTo>
                    <a:lnTo>
                      <a:pt x="120" y="956"/>
                    </a:lnTo>
                    <a:lnTo>
                      <a:pt x="138" y="938"/>
                    </a:lnTo>
                    <a:lnTo>
                      <a:pt x="179" y="938"/>
                    </a:lnTo>
                    <a:lnTo>
                      <a:pt x="197" y="920"/>
                    </a:lnTo>
                    <a:lnTo>
                      <a:pt x="239" y="920"/>
                    </a:lnTo>
                    <a:lnTo>
                      <a:pt x="257" y="897"/>
                    </a:lnTo>
                    <a:lnTo>
                      <a:pt x="298" y="897"/>
                    </a:lnTo>
                    <a:lnTo>
                      <a:pt x="317" y="879"/>
                    </a:lnTo>
                    <a:lnTo>
                      <a:pt x="341" y="879"/>
                    </a:lnTo>
                    <a:lnTo>
                      <a:pt x="359" y="861"/>
                    </a:lnTo>
                    <a:lnTo>
                      <a:pt x="376" y="861"/>
                    </a:lnTo>
                    <a:lnTo>
                      <a:pt x="401" y="837"/>
                    </a:lnTo>
                    <a:lnTo>
                      <a:pt x="437" y="837"/>
                    </a:lnTo>
                    <a:lnTo>
                      <a:pt x="460" y="819"/>
                    </a:lnTo>
                    <a:lnTo>
                      <a:pt x="478" y="819"/>
                    </a:lnTo>
                    <a:lnTo>
                      <a:pt x="478" y="801"/>
                    </a:lnTo>
                    <a:lnTo>
                      <a:pt x="538" y="801"/>
                    </a:lnTo>
                    <a:lnTo>
                      <a:pt x="538" y="777"/>
                    </a:lnTo>
                    <a:lnTo>
                      <a:pt x="556" y="777"/>
                    </a:lnTo>
                    <a:lnTo>
                      <a:pt x="579" y="760"/>
                    </a:lnTo>
                    <a:lnTo>
                      <a:pt x="597" y="760"/>
                    </a:lnTo>
                    <a:lnTo>
                      <a:pt x="615" y="742"/>
                    </a:lnTo>
                    <a:lnTo>
                      <a:pt x="640" y="742"/>
                    </a:lnTo>
                    <a:lnTo>
                      <a:pt x="675" y="699"/>
                    </a:lnTo>
                    <a:lnTo>
                      <a:pt x="699" y="699"/>
                    </a:lnTo>
                    <a:lnTo>
                      <a:pt x="699" y="681"/>
                    </a:lnTo>
                    <a:lnTo>
                      <a:pt x="717" y="681"/>
                    </a:lnTo>
                    <a:lnTo>
                      <a:pt x="759" y="639"/>
                    </a:lnTo>
                    <a:lnTo>
                      <a:pt x="777" y="639"/>
                    </a:lnTo>
                    <a:lnTo>
                      <a:pt x="795" y="621"/>
                    </a:lnTo>
                    <a:lnTo>
                      <a:pt x="819" y="621"/>
                    </a:lnTo>
                    <a:lnTo>
                      <a:pt x="819" y="598"/>
                    </a:lnTo>
                    <a:lnTo>
                      <a:pt x="837" y="598"/>
                    </a:lnTo>
                    <a:lnTo>
                      <a:pt x="855" y="580"/>
                    </a:lnTo>
                    <a:lnTo>
                      <a:pt x="879" y="580"/>
                    </a:lnTo>
                    <a:lnTo>
                      <a:pt x="879" y="562"/>
                    </a:lnTo>
                    <a:lnTo>
                      <a:pt x="896" y="562"/>
                    </a:lnTo>
                    <a:lnTo>
                      <a:pt x="914" y="537"/>
                    </a:lnTo>
                    <a:lnTo>
                      <a:pt x="939" y="537"/>
                    </a:lnTo>
                    <a:lnTo>
                      <a:pt x="957" y="520"/>
                    </a:lnTo>
                    <a:lnTo>
                      <a:pt x="1016" y="520"/>
                    </a:lnTo>
                    <a:lnTo>
                      <a:pt x="1016" y="502"/>
                    </a:lnTo>
                    <a:lnTo>
                      <a:pt x="1034" y="502"/>
                    </a:lnTo>
                    <a:lnTo>
                      <a:pt x="1058" y="520"/>
                    </a:lnTo>
                    <a:lnTo>
                      <a:pt x="1094" y="520"/>
                    </a:lnTo>
                    <a:lnTo>
                      <a:pt x="1094" y="537"/>
                    </a:lnTo>
                    <a:lnTo>
                      <a:pt x="1117" y="537"/>
                    </a:lnTo>
                    <a:lnTo>
                      <a:pt x="1154" y="580"/>
                    </a:lnTo>
                    <a:lnTo>
                      <a:pt x="1178" y="598"/>
                    </a:lnTo>
                    <a:lnTo>
                      <a:pt x="1196" y="598"/>
                    </a:lnTo>
                    <a:lnTo>
                      <a:pt x="1196" y="621"/>
                    </a:lnTo>
                    <a:lnTo>
                      <a:pt x="1213" y="621"/>
                    </a:lnTo>
                    <a:lnTo>
                      <a:pt x="1213" y="639"/>
                    </a:lnTo>
                    <a:lnTo>
                      <a:pt x="1238" y="639"/>
                    </a:lnTo>
                    <a:lnTo>
                      <a:pt x="1256" y="658"/>
                    </a:lnTo>
                    <a:lnTo>
                      <a:pt x="1297" y="658"/>
                    </a:lnTo>
                    <a:lnTo>
                      <a:pt x="1297" y="639"/>
                    </a:lnTo>
                    <a:lnTo>
                      <a:pt x="1315" y="639"/>
                    </a:lnTo>
                    <a:lnTo>
                      <a:pt x="1333" y="621"/>
                    </a:lnTo>
                    <a:lnTo>
                      <a:pt x="1357" y="621"/>
                    </a:lnTo>
                    <a:lnTo>
                      <a:pt x="1357" y="598"/>
                    </a:lnTo>
                    <a:lnTo>
                      <a:pt x="1375" y="598"/>
                    </a:lnTo>
                    <a:lnTo>
                      <a:pt x="1375" y="580"/>
                    </a:lnTo>
                    <a:lnTo>
                      <a:pt x="1393" y="580"/>
                    </a:lnTo>
                    <a:lnTo>
                      <a:pt x="1434" y="537"/>
                    </a:lnTo>
                    <a:lnTo>
                      <a:pt x="1434" y="520"/>
                    </a:lnTo>
                    <a:lnTo>
                      <a:pt x="1452" y="520"/>
                    </a:lnTo>
                    <a:lnTo>
                      <a:pt x="1452" y="502"/>
                    </a:lnTo>
                    <a:lnTo>
                      <a:pt x="1477" y="502"/>
                    </a:lnTo>
                    <a:lnTo>
                      <a:pt x="1477" y="478"/>
                    </a:lnTo>
                    <a:lnTo>
                      <a:pt x="1495" y="478"/>
                    </a:lnTo>
                    <a:lnTo>
                      <a:pt x="1495" y="443"/>
                    </a:lnTo>
                    <a:lnTo>
                      <a:pt x="1512" y="443"/>
                    </a:lnTo>
                    <a:lnTo>
                      <a:pt x="1512" y="400"/>
                    </a:lnTo>
                    <a:lnTo>
                      <a:pt x="1536" y="382"/>
                    </a:lnTo>
                    <a:lnTo>
                      <a:pt x="1536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414600" y="5418000"/>
                <a:ext cx="395280" cy="204840"/>
              </a:xfrm>
              <a:custGeom>
                <a:avLst/>
                <a:gdLst/>
                <a:ahLst/>
                <a:rect l="l" t="t" r="r" b="b"/>
                <a:pathLst>
                  <a:path w="1496" h="777">
                    <a:moveTo>
                      <a:pt x="0" y="120"/>
                    </a:moveTo>
                    <a:lnTo>
                      <a:pt x="43" y="156"/>
                    </a:lnTo>
                    <a:lnTo>
                      <a:pt x="43" y="179"/>
                    </a:lnTo>
                    <a:lnTo>
                      <a:pt x="61" y="179"/>
                    </a:lnTo>
                    <a:lnTo>
                      <a:pt x="61" y="198"/>
                    </a:lnTo>
                    <a:lnTo>
                      <a:pt x="78" y="198"/>
                    </a:lnTo>
                    <a:lnTo>
                      <a:pt x="78" y="216"/>
                    </a:lnTo>
                    <a:lnTo>
                      <a:pt x="103" y="216"/>
                    </a:lnTo>
                    <a:lnTo>
                      <a:pt x="139" y="257"/>
                    </a:lnTo>
                    <a:lnTo>
                      <a:pt x="162" y="275"/>
                    </a:lnTo>
                    <a:lnTo>
                      <a:pt x="180" y="275"/>
                    </a:lnTo>
                    <a:lnTo>
                      <a:pt x="180" y="299"/>
                    </a:lnTo>
                    <a:lnTo>
                      <a:pt x="198" y="299"/>
                    </a:lnTo>
                    <a:lnTo>
                      <a:pt x="198" y="317"/>
                    </a:lnTo>
                    <a:lnTo>
                      <a:pt x="222" y="317"/>
                    </a:lnTo>
                    <a:lnTo>
                      <a:pt x="258" y="359"/>
                    </a:lnTo>
                    <a:lnTo>
                      <a:pt x="281" y="359"/>
                    </a:lnTo>
                    <a:lnTo>
                      <a:pt x="317" y="394"/>
                    </a:lnTo>
                    <a:lnTo>
                      <a:pt x="342" y="394"/>
                    </a:lnTo>
                    <a:lnTo>
                      <a:pt x="342" y="419"/>
                    </a:lnTo>
                    <a:lnTo>
                      <a:pt x="360" y="419"/>
                    </a:lnTo>
                    <a:lnTo>
                      <a:pt x="377" y="437"/>
                    </a:lnTo>
                    <a:lnTo>
                      <a:pt x="401" y="437"/>
                    </a:lnTo>
                    <a:lnTo>
                      <a:pt x="419" y="455"/>
                    </a:lnTo>
                    <a:lnTo>
                      <a:pt x="438" y="455"/>
                    </a:lnTo>
                    <a:lnTo>
                      <a:pt x="461" y="478"/>
                    </a:lnTo>
                    <a:lnTo>
                      <a:pt x="479" y="478"/>
                    </a:lnTo>
                    <a:lnTo>
                      <a:pt x="497" y="496"/>
                    </a:lnTo>
                    <a:lnTo>
                      <a:pt x="521" y="496"/>
                    </a:lnTo>
                    <a:lnTo>
                      <a:pt x="539" y="514"/>
                    </a:lnTo>
                    <a:lnTo>
                      <a:pt x="557" y="514"/>
                    </a:lnTo>
                    <a:lnTo>
                      <a:pt x="581" y="538"/>
                    </a:lnTo>
                    <a:lnTo>
                      <a:pt x="598" y="538"/>
                    </a:lnTo>
                    <a:lnTo>
                      <a:pt x="616" y="556"/>
                    </a:lnTo>
                    <a:lnTo>
                      <a:pt x="641" y="556"/>
                    </a:lnTo>
                    <a:lnTo>
                      <a:pt x="659" y="574"/>
                    </a:lnTo>
                    <a:lnTo>
                      <a:pt x="677" y="574"/>
                    </a:lnTo>
                    <a:lnTo>
                      <a:pt x="700" y="597"/>
                    </a:lnTo>
                    <a:lnTo>
                      <a:pt x="718" y="597"/>
                    </a:lnTo>
                    <a:lnTo>
                      <a:pt x="736" y="616"/>
                    </a:lnTo>
                    <a:lnTo>
                      <a:pt x="778" y="616"/>
                    </a:lnTo>
                    <a:lnTo>
                      <a:pt x="796" y="634"/>
                    </a:lnTo>
                    <a:lnTo>
                      <a:pt x="819" y="634"/>
                    </a:lnTo>
                    <a:lnTo>
                      <a:pt x="837" y="658"/>
                    </a:lnTo>
                    <a:lnTo>
                      <a:pt x="880" y="658"/>
                    </a:lnTo>
                    <a:lnTo>
                      <a:pt x="898" y="676"/>
                    </a:lnTo>
                    <a:lnTo>
                      <a:pt x="940" y="676"/>
                    </a:lnTo>
                    <a:lnTo>
                      <a:pt x="940" y="693"/>
                    </a:lnTo>
                    <a:lnTo>
                      <a:pt x="976" y="693"/>
                    </a:lnTo>
                    <a:lnTo>
                      <a:pt x="999" y="718"/>
                    </a:lnTo>
                    <a:lnTo>
                      <a:pt x="1035" y="718"/>
                    </a:lnTo>
                    <a:lnTo>
                      <a:pt x="1059" y="736"/>
                    </a:lnTo>
                    <a:lnTo>
                      <a:pt x="1095" y="736"/>
                    </a:lnTo>
                    <a:lnTo>
                      <a:pt x="1119" y="754"/>
                    </a:lnTo>
                    <a:lnTo>
                      <a:pt x="1214" y="754"/>
                    </a:lnTo>
                    <a:lnTo>
                      <a:pt x="1238" y="777"/>
                    </a:lnTo>
                    <a:lnTo>
                      <a:pt x="1275" y="777"/>
                    </a:lnTo>
                    <a:lnTo>
                      <a:pt x="1275" y="754"/>
                    </a:lnTo>
                    <a:lnTo>
                      <a:pt x="1334" y="754"/>
                    </a:lnTo>
                    <a:lnTo>
                      <a:pt x="1334" y="736"/>
                    </a:lnTo>
                    <a:lnTo>
                      <a:pt x="1358" y="736"/>
                    </a:lnTo>
                    <a:lnTo>
                      <a:pt x="1358" y="718"/>
                    </a:lnTo>
                    <a:lnTo>
                      <a:pt x="1376" y="718"/>
                    </a:lnTo>
                    <a:lnTo>
                      <a:pt x="1418" y="676"/>
                    </a:lnTo>
                    <a:lnTo>
                      <a:pt x="1418" y="658"/>
                    </a:lnTo>
                    <a:lnTo>
                      <a:pt x="1435" y="658"/>
                    </a:lnTo>
                    <a:lnTo>
                      <a:pt x="1435" y="634"/>
                    </a:lnTo>
                    <a:lnTo>
                      <a:pt x="1453" y="616"/>
                    </a:lnTo>
                    <a:lnTo>
                      <a:pt x="1453" y="597"/>
                    </a:lnTo>
                    <a:lnTo>
                      <a:pt x="1478" y="574"/>
                    </a:lnTo>
                    <a:lnTo>
                      <a:pt x="1478" y="538"/>
                    </a:lnTo>
                    <a:lnTo>
                      <a:pt x="1496" y="514"/>
                    </a:lnTo>
                    <a:lnTo>
                      <a:pt x="1496" y="419"/>
                    </a:lnTo>
                    <a:lnTo>
                      <a:pt x="1453" y="376"/>
                    </a:lnTo>
                    <a:lnTo>
                      <a:pt x="1376" y="376"/>
                    </a:lnTo>
                    <a:lnTo>
                      <a:pt x="1376" y="359"/>
                    </a:lnTo>
                    <a:lnTo>
                      <a:pt x="1119" y="359"/>
                    </a:lnTo>
                    <a:lnTo>
                      <a:pt x="1095" y="335"/>
                    </a:lnTo>
                    <a:lnTo>
                      <a:pt x="1035" y="335"/>
                    </a:lnTo>
                    <a:lnTo>
                      <a:pt x="1017" y="317"/>
                    </a:lnTo>
                    <a:lnTo>
                      <a:pt x="976" y="317"/>
                    </a:lnTo>
                    <a:lnTo>
                      <a:pt x="976" y="299"/>
                    </a:lnTo>
                    <a:lnTo>
                      <a:pt x="915" y="299"/>
                    </a:lnTo>
                    <a:lnTo>
                      <a:pt x="915" y="275"/>
                    </a:lnTo>
                    <a:lnTo>
                      <a:pt x="880" y="275"/>
                    </a:lnTo>
                    <a:lnTo>
                      <a:pt x="856" y="257"/>
                    </a:lnTo>
                    <a:lnTo>
                      <a:pt x="837" y="257"/>
                    </a:lnTo>
                    <a:lnTo>
                      <a:pt x="837" y="239"/>
                    </a:lnTo>
                    <a:lnTo>
                      <a:pt x="796" y="239"/>
                    </a:lnTo>
                    <a:lnTo>
                      <a:pt x="778" y="216"/>
                    </a:lnTo>
                    <a:lnTo>
                      <a:pt x="760" y="216"/>
                    </a:lnTo>
                    <a:lnTo>
                      <a:pt x="736" y="198"/>
                    </a:lnTo>
                    <a:lnTo>
                      <a:pt x="718" y="198"/>
                    </a:lnTo>
                    <a:lnTo>
                      <a:pt x="700" y="179"/>
                    </a:lnTo>
                    <a:lnTo>
                      <a:pt x="677" y="179"/>
                    </a:lnTo>
                    <a:lnTo>
                      <a:pt x="659" y="156"/>
                    </a:lnTo>
                    <a:lnTo>
                      <a:pt x="641" y="156"/>
                    </a:lnTo>
                    <a:lnTo>
                      <a:pt x="616" y="138"/>
                    </a:lnTo>
                    <a:lnTo>
                      <a:pt x="598" y="138"/>
                    </a:lnTo>
                    <a:lnTo>
                      <a:pt x="581" y="120"/>
                    </a:lnTo>
                    <a:lnTo>
                      <a:pt x="539" y="120"/>
                    </a:lnTo>
                    <a:lnTo>
                      <a:pt x="539" y="95"/>
                    </a:lnTo>
                    <a:lnTo>
                      <a:pt x="521" y="95"/>
                    </a:lnTo>
                    <a:lnTo>
                      <a:pt x="497" y="77"/>
                    </a:lnTo>
                    <a:lnTo>
                      <a:pt x="461" y="77"/>
                    </a:lnTo>
                    <a:lnTo>
                      <a:pt x="438" y="60"/>
                    </a:lnTo>
                    <a:lnTo>
                      <a:pt x="419" y="60"/>
                    </a:lnTo>
                    <a:lnTo>
                      <a:pt x="401" y="36"/>
                    </a:lnTo>
                    <a:lnTo>
                      <a:pt x="360" y="36"/>
                    </a:lnTo>
                    <a:lnTo>
                      <a:pt x="342" y="18"/>
                    </a:lnTo>
                    <a:lnTo>
                      <a:pt x="258" y="18"/>
                    </a:lnTo>
                    <a:lnTo>
                      <a:pt x="240" y="0"/>
                    </a:lnTo>
                    <a:lnTo>
                      <a:pt x="78" y="0"/>
                    </a:lnTo>
                    <a:lnTo>
                      <a:pt x="61" y="18"/>
                    </a:lnTo>
                    <a:lnTo>
                      <a:pt x="43" y="18"/>
                    </a:lnTo>
                    <a:lnTo>
                      <a:pt x="19" y="36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22720" y="3968640"/>
                <a:ext cx="182520" cy="158760"/>
              </a:xfrm>
              <a:custGeom>
                <a:avLst/>
                <a:gdLst/>
                <a:ahLst/>
                <a:rect l="l" t="t" r="r" b="b"/>
                <a:pathLst>
                  <a:path w="694" h="597">
                    <a:moveTo>
                      <a:pt x="0" y="394"/>
                    </a:moveTo>
                    <a:lnTo>
                      <a:pt x="0" y="335"/>
                    </a:lnTo>
                    <a:lnTo>
                      <a:pt x="18" y="335"/>
                    </a:lnTo>
                    <a:lnTo>
                      <a:pt x="18" y="316"/>
                    </a:lnTo>
                    <a:lnTo>
                      <a:pt x="36" y="316"/>
                    </a:lnTo>
                    <a:lnTo>
                      <a:pt x="36" y="298"/>
                    </a:lnTo>
                    <a:lnTo>
                      <a:pt x="78" y="257"/>
                    </a:lnTo>
                    <a:lnTo>
                      <a:pt x="120" y="214"/>
                    </a:lnTo>
                    <a:lnTo>
                      <a:pt x="137" y="197"/>
                    </a:lnTo>
                    <a:lnTo>
                      <a:pt x="137" y="179"/>
                    </a:lnTo>
                    <a:lnTo>
                      <a:pt x="155" y="179"/>
                    </a:lnTo>
                    <a:lnTo>
                      <a:pt x="155" y="155"/>
                    </a:lnTo>
                    <a:lnTo>
                      <a:pt x="180" y="155"/>
                    </a:lnTo>
                    <a:lnTo>
                      <a:pt x="180" y="137"/>
                    </a:lnTo>
                    <a:lnTo>
                      <a:pt x="198" y="137"/>
                    </a:lnTo>
                    <a:lnTo>
                      <a:pt x="239" y="95"/>
                    </a:lnTo>
                    <a:lnTo>
                      <a:pt x="276" y="59"/>
                    </a:lnTo>
                    <a:lnTo>
                      <a:pt x="299" y="59"/>
                    </a:lnTo>
                    <a:lnTo>
                      <a:pt x="317" y="36"/>
                    </a:lnTo>
                    <a:lnTo>
                      <a:pt x="335" y="36"/>
                    </a:lnTo>
                    <a:lnTo>
                      <a:pt x="335" y="18"/>
                    </a:lnTo>
                    <a:lnTo>
                      <a:pt x="395" y="18"/>
                    </a:lnTo>
                    <a:lnTo>
                      <a:pt x="395" y="0"/>
                    </a:lnTo>
                    <a:lnTo>
                      <a:pt x="413" y="0"/>
                    </a:lnTo>
                    <a:lnTo>
                      <a:pt x="413" y="18"/>
                    </a:lnTo>
                    <a:lnTo>
                      <a:pt x="454" y="18"/>
                    </a:lnTo>
                    <a:lnTo>
                      <a:pt x="472" y="36"/>
                    </a:lnTo>
                    <a:lnTo>
                      <a:pt x="497" y="36"/>
                    </a:lnTo>
                    <a:lnTo>
                      <a:pt x="497" y="59"/>
                    </a:lnTo>
                    <a:lnTo>
                      <a:pt x="533" y="59"/>
                    </a:lnTo>
                    <a:lnTo>
                      <a:pt x="533" y="77"/>
                    </a:lnTo>
                    <a:lnTo>
                      <a:pt x="574" y="120"/>
                    </a:lnTo>
                    <a:lnTo>
                      <a:pt x="592" y="120"/>
                    </a:lnTo>
                    <a:lnTo>
                      <a:pt x="592" y="137"/>
                    </a:lnTo>
                    <a:lnTo>
                      <a:pt x="616" y="155"/>
                    </a:lnTo>
                    <a:lnTo>
                      <a:pt x="616" y="179"/>
                    </a:lnTo>
                    <a:lnTo>
                      <a:pt x="634" y="179"/>
                    </a:lnTo>
                    <a:lnTo>
                      <a:pt x="634" y="197"/>
                    </a:lnTo>
                    <a:lnTo>
                      <a:pt x="652" y="214"/>
                    </a:lnTo>
                    <a:lnTo>
                      <a:pt x="652" y="239"/>
                    </a:lnTo>
                    <a:lnTo>
                      <a:pt x="675" y="257"/>
                    </a:lnTo>
                    <a:lnTo>
                      <a:pt x="675" y="275"/>
                    </a:lnTo>
                    <a:lnTo>
                      <a:pt x="694" y="298"/>
                    </a:lnTo>
                    <a:lnTo>
                      <a:pt x="694" y="394"/>
                    </a:lnTo>
                    <a:lnTo>
                      <a:pt x="675" y="419"/>
                    </a:lnTo>
                    <a:lnTo>
                      <a:pt x="675" y="478"/>
                    </a:lnTo>
                    <a:lnTo>
                      <a:pt x="652" y="478"/>
                    </a:lnTo>
                    <a:lnTo>
                      <a:pt x="652" y="514"/>
                    </a:lnTo>
                    <a:lnTo>
                      <a:pt x="634" y="514"/>
                    </a:lnTo>
                    <a:lnTo>
                      <a:pt x="634" y="556"/>
                    </a:lnTo>
                    <a:lnTo>
                      <a:pt x="616" y="556"/>
                    </a:lnTo>
                    <a:lnTo>
                      <a:pt x="616" y="574"/>
                    </a:lnTo>
                    <a:lnTo>
                      <a:pt x="592" y="574"/>
                    </a:lnTo>
                    <a:lnTo>
                      <a:pt x="592" y="597"/>
                    </a:lnTo>
                    <a:lnTo>
                      <a:pt x="574" y="597"/>
                    </a:lnTo>
                    <a:lnTo>
                      <a:pt x="574" y="574"/>
                    </a:lnTo>
                    <a:lnTo>
                      <a:pt x="556" y="574"/>
                    </a:lnTo>
                    <a:lnTo>
                      <a:pt x="556" y="556"/>
                    </a:lnTo>
                    <a:lnTo>
                      <a:pt x="533" y="556"/>
                    </a:lnTo>
                    <a:lnTo>
                      <a:pt x="533" y="538"/>
                    </a:lnTo>
                    <a:lnTo>
                      <a:pt x="515" y="538"/>
                    </a:lnTo>
                    <a:lnTo>
                      <a:pt x="515" y="496"/>
                    </a:lnTo>
                    <a:lnTo>
                      <a:pt x="497" y="496"/>
                    </a:lnTo>
                    <a:lnTo>
                      <a:pt x="497" y="478"/>
                    </a:lnTo>
                    <a:lnTo>
                      <a:pt x="472" y="478"/>
                    </a:lnTo>
                    <a:lnTo>
                      <a:pt x="472" y="454"/>
                    </a:lnTo>
                    <a:lnTo>
                      <a:pt x="454" y="437"/>
                    </a:lnTo>
                    <a:lnTo>
                      <a:pt x="454" y="419"/>
                    </a:lnTo>
                    <a:lnTo>
                      <a:pt x="437" y="419"/>
                    </a:lnTo>
                    <a:lnTo>
                      <a:pt x="437" y="394"/>
                    </a:lnTo>
                    <a:lnTo>
                      <a:pt x="413" y="394"/>
                    </a:lnTo>
                    <a:lnTo>
                      <a:pt x="413" y="376"/>
                    </a:lnTo>
                    <a:lnTo>
                      <a:pt x="395" y="358"/>
                    </a:lnTo>
                    <a:lnTo>
                      <a:pt x="377" y="358"/>
                    </a:lnTo>
                    <a:lnTo>
                      <a:pt x="360" y="335"/>
                    </a:lnTo>
                    <a:lnTo>
                      <a:pt x="276" y="335"/>
                    </a:lnTo>
                    <a:lnTo>
                      <a:pt x="257" y="358"/>
                    </a:lnTo>
                    <a:lnTo>
                      <a:pt x="180" y="358"/>
                    </a:lnTo>
                    <a:lnTo>
                      <a:pt x="155" y="376"/>
                    </a:lnTo>
                    <a:lnTo>
                      <a:pt x="96" y="376"/>
                    </a:lnTo>
                    <a:lnTo>
                      <a:pt x="96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905280" y="5491080"/>
                <a:ext cx="163440" cy="125640"/>
              </a:xfrm>
              <a:custGeom>
                <a:avLst/>
                <a:gdLst/>
                <a:ahLst/>
                <a:rect l="l" t="t" r="r" b="b"/>
                <a:pathLst>
                  <a:path w="616" h="479">
                    <a:moveTo>
                      <a:pt x="60" y="101"/>
                    </a:moveTo>
                    <a:lnTo>
                      <a:pt x="60" y="84"/>
                    </a:lnTo>
                    <a:lnTo>
                      <a:pt x="78" y="84"/>
                    </a:lnTo>
                    <a:lnTo>
                      <a:pt x="102" y="60"/>
                    </a:lnTo>
                    <a:lnTo>
                      <a:pt x="162" y="60"/>
                    </a:lnTo>
                    <a:lnTo>
                      <a:pt x="180" y="84"/>
                    </a:lnTo>
                    <a:lnTo>
                      <a:pt x="299" y="84"/>
                    </a:lnTo>
                    <a:lnTo>
                      <a:pt x="317" y="101"/>
                    </a:lnTo>
                    <a:lnTo>
                      <a:pt x="377" y="101"/>
                    </a:lnTo>
                    <a:lnTo>
                      <a:pt x="377" y="84"/>
                    </a:lnTo>
                    <a:lnTo>
                      <a:pt x="419" y="84"/>
                    </a:lnTo>
                    <a:lnTo>
                      <a:pt x="419" y="60"/>
                    </a:lnTo>
                    <a:lnTo>
                      <a:pt x="461" y="60"/>
                    </a:lnTo>
                    <a:lnTo>
                      <a:pt x="461" y="42"/>
                    </a:lnTo>
                    <a:lnTo>
                      <a:pt x="479" y="42"/>
                    </a:lnTo>
                    <a:lnTo>
                      <a:pt x="497" y="24"/>
                    </a:lnTo>
                    <a:lnTo>
                      <a:pt x="520" y="24"/>
                    </a:lnTo>
                    <a:lnTo>
                      <a:pt x="520" y="0"/>
                    </a:lnTo>
                    <a:lnTo>
                      <a:pt x="556" y="0"/>
                    </a:lnTo>
                    <a:lnTo>
                      <a:pt x="580" y="24"/>
                    </a:lnTo>
                    <a:lnTo>
                      <a:pt x="580" y="42"/>
                    </a:lnTo>
                    <a:lnTo>
                      <a:pt x="598" y="42"/>
                    </a:lnTo>
                    <a:lnTo>
                      <a:pt x="598" y="119"/>
                    </a:lnTo>
                    <a:lnTo>
                      <a:pt x="616" y="144"/>
                    </a:lnTo>
                    <a:lnTo>
                      <a:pt x="616" y="263"/>
                    </a:lnTo>
                    <a:lnTo>
                      <a:pt x="598" y="281"/>
                    </a:lnTo>
                    <a:lnTo>
                      <a:pt x="598" y="341"/>
                    </a:lnTo>
                    <a:lnTo>
                      <a:pt x="580" y="341"/>
                    </a:lnTo>
                    <a:lnTo>
                      <a:pt x="538" y="383"/>
                    </a:lnTo>
                    <a:lnTo>
                      <a:pt x="520" y="383"/>
                    </a:lnTo>
                    <a:lnTo>
                      <a:pt x="520" y="401"/>
                    </a:lnTo>
                    <a:lnTo>
                      <a:pt x="479" y="401"/>
                    </a:lnTo>
                    <a:lnTo>
                      <a:pt x="479" y="418"/>
                    </a:lnTo>
                    <a:lnTo>
                      <a:pt x="436" y="418"/>
                    </a:lnTo>
                    <a:lnTo>
                      <a:pt x="419" y="443"/>
                    </a:lnTo>
                    <a:lnTo>
                      <a:pt x="359" y="443"/>
                    </a:lnTo>
                    <a:lnTo>
                      <a:pt x="359" y="461"/>
                    </a:lnTo>
                    <a:lnTo>
                      <a:pt x="281" y="461"/>
                    </a:lnTo>
                    <a:lnTo>
                      <a:pt x="281" y="479"/>
                    </a:lnTo>
                    <a:lnTo>
                      <a:pt x="60" y="479"/>
                    </a:lnTo>
                    <a:lnTo>
                      <a:pt x="60" y="461"/>
                    </a:lnTo>
                    <a:lnTo>
                      <a:pt x="42" y="461"/>
                    </a:lnTo>
                    <a:lnTo>
                      <a:pt x="0" y="418"/>
                    </a:lnTo>
                    <a:lnTo>
                      <a:pt x="0" y="180"/>
                    </a:lnTo>
                    <a:lnTo>
                      <a:pt x="18" y="162"/>
                    </a:lnTo>
                    <a:lnTo>
                      <a:pt x="18" y="119"/>
                    </a:lnTo>
                    <a:lnTo>
                      <a:pt x="42" y="119"/>
                    </a:lnTo>
                    <a:lnTo>
                      <a:pt x="42" y="101"/>
                    </a:lnTo>
                    <a:lnTo>
                      <a:pt x="60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0" name=""/>
            <p:cNvSpPr/>
            <p:nvPr/>
          </p:nvSpPr>
          <p:spPr>
            <a:xfrm>
              <a:off x="3971160" y="2444760"/>
              <a:ext cx="441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rot="1380000">
              <a:off x="4722120" y="2751120"/>
              <a:ext cx="3754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8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rot="19920000">
              <a:off x="3119760" y="2608200"/>
              <a:ext cx="36936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7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2776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2796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8" name=""/>
          <p:cNvGrpSpPr/>
          <p:nvPr/>
        </p:nvGrpSpPr>
        <p:grpSpPr>
          <a:xfrm>
            <a:off x="2822400" y="2824200"/>
            <a:ext cx="3546720" cy="838080"/>
            <a:chOff x="2822400" y="2824200"/>
            <a:chExt cx="3546720" cy="838080"/>
          </a:xfrm>
        </p:grpSpPr>
        <p:sp>
          <p:nvSpPr>
            <p:cNvPr id="2869" name=""/>
            <p:cNvSpPr/>
            <p:nvPr/>
          </p:nvSpPr>
          <p:spPr>
            <a:xfrm>
              <a:off x="2822400" y="2833560"/>
              <a:ext cx="179640" cy="304920"/>
            </a:xfrm>
            <a:custGeom>
              <a:avLst/>
              <a:gdLst/>
              <a:ahLst/>
              <a:rect l="l" t="t" r="r" b="b"/>
              <a:pathLst>
                <a:path w="567" h="963">
                  <a:moveTo>
                    <a:pt x="0" y="963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67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014640" y="2824200"/>
              <a:ext cx="309600" cy="322200"/>
            </a:xfrm>
            <a:custGeom>
              <a:avLst/>
              <a:gdLst/>
              <a:ahLst/>
              <a:rect l="l" t="t" r="r" b="b"/>
              <a:pathLst>
                <a:path w="977" h="1015">
                  <a:moveTo>
                    <a:pt x="489" y="268"/>
                  </a:moveTo>
                  <a:lnTo>
                    <a:pt x="477" y="268"/>
                  </a:lnTo>
                  <a:lnTo>
                    <a:pt x="466" y="269"/>
                  </a:lnTo>
                  <a:lnTo>
                    <a:pt x="454" y="270"/>
                  </a:lnTo>
                  <a:lnTo>
                    <a:pt x="442" y="272"/>
                  </a:lnTo>
                  <a:lnTo>
                    <a:pt x="431" y="275"/>
                  </a:lnTo>
                  <a:lnTo>
                    <a:pt x="421" y="278"/>
                  </a:lnTo>
                  <a:lnTo>
                    <a:pt x="410" y="281"/>
                  </a:lnTo>
                  <a:lnTo>
                    <a:pt x="399" y="285"/>
                  </a:lnTo>
                  <a:lnTo>
                    <a:pt x="389" y="289"/>
                  </a:lnTo>
                  <a:lnTo>
                    <a:pt x="380" y="294"/>
                  </a:lnTo>
                  <a:lnTo>
                    <a:pt x="370" y="301"/>
                  </a:lnTo>
                  <a:lnTo>
                    <a:pt x="361" y="307"/>
                  </a:lnTo>
                  <a:lnTo>
                    <a:pt x="351" y="314"/>
                  </a:lnTo>
                  <a:lnTo>
                    <a:pt x="342" y="321"/>
                  </a:lnTo>
                  <a:lnTo>
                    <a:pt x="334" y="328"/>
                  </a:lnTo>
                  <a:lnTo>
                    <a:pt x="326" y="336"/>
                  </a:lnTo>
                  <a:lnTo>
                    <a:pt x="318" y="345"/>
                  </a:lnTo>
                  <a:lnTo>
                    <a:pt x="311" y="355"/>
                  </a:lnTo>
                  <a:lnTo>
                    <a:pt x="303" y="364"/>
                  </a:lnTo>
                  <a:lnTo>
                    <a:pt x="297" y="373"/>
                  </a:lnTo>
                  <a:lnTo>
                    <a:pt x="291" y="383"/>
                  </a:lnTo>
                  <a:lnTo>
                    <a:pt x="285" y="393"/>
                  </a:lnTo>
                  <a:lnTo>
                    <a:pt x="281" y="404"/>
                  </a:lnTo>
                  <a:lnTo>
                    <a:pt x="276" y="414"/>
                  </a:lnTo>
                  <a:lnTo>
                    <a:pt x="273" y="425"/>
                  </a:lnTo>
                  <a:lnTo>
                    <a:pt x="269" y="435"/>
                  </a:lnTo>
                  <a:lnTo>
                    <a:pt x="266" y="446"/>
                  </a:lnTo>
                  <a:lnTo>
                    <a:pt x="264" y="459"/>
                  </a:lnTo>
                  <a:lnTo>
                    <a:pt x="262" y="470"/>
                  </a:lnTo>
                  <a:lnTo>
                    <a:pt x="261" y="482"/>
                  </a:lnTo>
                  <a:lnTo>
                    <a:pt x="260" y="494"/>
                  </a:lnTo>
                  <a:lnTo>
                    <a:pt x="260" y="507"/>
                  </a:lnTo>
                  <a:lnTo>
                    <a:pt x="260" y="520"/>
                  </a:lnTo>
                  <a:lnTo>
                    <a:pt x="261" y="532"/>
                  </a:lnTo>
                  <a:lnTo>
                    <a:pt x="262" y="543"/>
                  </a:lnTo>
                  <a:lnTo>
                    <a:pt x="264" y="556"/>
                  </a:lnTo>
                  <a:lnTo>
                    <a:pt x="266" y="567"/>
                  </a:lnTo>
                  <a:lnTo>
                    <a:pt x="269" y="578"/>
                  </a:lnTo>
                  <a:lnTo>
                    <a:pt x="272" y="589"/>
                  </a:lnTo>
                  <a:lnTo>
                    <a:pt x="276" y="600"/>
                  </a:lnTo>
                  <a:lnTo>
                    <a:pt x="280" y="611"/>
                  </a:lnTo>
                  <a:lnTo>
                    <a:pt x="285" y="621"/>
                  </a:lnTo>
                  <a:lnTo>
                    <a:pt x="291" y="631"/>
                  </a:lnTo>
                  <a:lnTo>
                    <a:pt x="296" y="640"/>
                  </a:lnTo>
                  <a:lnTo>
                    <a:pt x="303" y="650"/>
                  </a:lnTo>
                  <a:lnTo>
                    <a:pt x="310" y="659"/>
                  </a:lnTo>
                  <a:lnTo>
                    <a:pt x="318" y="668"/>
                  </a:lnTo>
                  <a:lnTo>
                    <a:pt x="326" y="677"/>
                  </a:lnTo>
                  <a:lnTo>
                    <a:pt x="334" y="685"/>
                  </a:lnTo>
                  <a:lnTo>
                    <a:pt x="342" y="692"/>
                  </a:lnTo>
                  <a:lnTo>
                    <a:pt x="351" y="700"/>
                  </a:lnTo>
                  <a:lnTo>
                    <a:pt x="361" y="707"/>
                  </a:lnTo>
                  <a:lnTo>
                    <a:pt x="370" y="713"/>
                  </a:lnTo>
                  <a:lnTo>
                    <a:pt x="379" y="719"/>
                  </a:lnTo>
                  <a:lnTo>
                    <a:pt x="389" y="724"/>
                  </a:lnTo>
                  <a:lnTo>
                    <a:pt x="399" y="728"/>
                  </a:lnTo>
                  <a:lnTo>
                    <a:pt x="410" y="732"/>
                  </a:lnTo>
                  <a:lnTo>
                    <a:pt x="420" y="736"/>
                  </a:lnTo>
                  <a:lnTo>
                    <a:pt x="431" y="738"/>
                  </a:lnTo>
                  <a:lnTo>
                    <a:pt x="442" y="741"/>
                  </a:lnTo>
                  <a:lnTo>
                    <a:pt x="454" y="743"/>
                  </a:lnTo>
                  <a:lnTo>
                    <a:pt x="465" y="744"/>
                  </a:lnTo>
                  <a:lnTo>
                    <a:pt x="477" y="745"/>
                  </a:lnTo>
                  <a:lnTo>
                    <a:pt x="489" y="745"/>
                  </a:lnTo>
                  <a:lnTo>
                    <a:pt x="502" y="745"/>
                  </a:lnTo>
                  <a:lnTo>
                    <a:pt x="513" y="744"/>
                  </a:lnTo>
                  <a:lnTo>
                    <a:pt x="525" y="743"/>
                  </a:lnTo>
                  <a:lnTo>
                    <a:pt x="536" y="741"/>
                  </a:lnTo>
                  <a:lnTo>
                    <a:pt x="547" y="738"/>
                  </a:lnTo>
                  <a:lnTo>
                    <a:pt x="558" y="736"/>
                  </a:lnTo>
                  <a:lnTo>
                    <a:pt x="569" y="732"/>
                  </a:lnTo>
                  <a:lnTo>
                    <a:pt x="579" y="728"/>
                  </a:lnTo>
                  <a:lnTo>
                    <a:pt x="589" y="724"/>
                  </a:lnTo>
                  <a:lnTo>
                    <a:pt x="599" y="719"/>
                  </a:lnTo>
                  <a:lnTo>
                    <a:pt x="609" y="713"/>
                  </a:lnTo>
                  <a:lnTo>
                    <a:pt x="618" y="707"/>
                  </a:lnTo>
                  <a:lnTo>
                    <a:pt x="627" y="699"/>
                  </a:lnTo>
                  <a:lnTo>
                    <a:pt x="635" y="692"/>
                  </a:lnTo>
                  <a:lnTo>
                    <a:pt x="645" y="685"/>
                  </a:lnTo>
                  <a:lnTo>
                    <a:pt x="653" y="676"/>
                  </a:lnTo>
                  <a:lnTo>
                    <a:pt x="661" y="668"/>
                  </a:lnTo>
                  <a:lnTo>
                    <a:pt x="668" y="659"/>
                  </a:lnTo>
                  <a:lnTo>
                    <a:pt x="675" y="649"/>
                  </a:lnTo>
                  <a:lnTo>
                    <a:pt x="681" y="640"/>
                  </a:lnTo>
                  <a:lnTo>
                    <a:pt x="687" y="630"/>
                  </a:lnTo>
                  <a:lnTo>
                    <a:pt x="693" y="621"/>
                  </a:lnTo>
                  <a:lnTo>
                    <a:pt x="698" y="611"/>
                  </a:lnTo>
                  <a:lnTo>
                    <a:pt x="702" y="599"/>
                  </a:lnTo>
                  <a:lnTo>
                    <a:pt x="706" y="589"/>
                  </a:lnTo>
                  <a:lnTo>
                    <a:pt x="709" y="578"/>
                  </a:lnTo>
                  <a:lnTo>
                    <a:pt x="712" y="567"/>
                  </a:lnTo>
                  <a:lnTo>
                    <a:pt x="714" y="556"/>
                  </a:lnTo>
                  <a:lnTo>
                    <a:pt x="716" y="543"/>
                  </a:lnTo>
                  <a:lnTo>
                    <a:pt x="718" y="531"/>
                  </a:lnTo>
                  <a:lnTo>
                    <a:pt x="718" y="519"/>
                  </a:lnTo>
                  <a:lnTo>
                    <a:pt x="719" y="507"/>
                  </a:lnTo>
                  <a:lnTo>
                    <a:pt x="718" y="494"/>
                  </a:lnTo>
                  <a:lnTo>
                    <a:pt x="718" y="482"/>
                  </a:lnTo>
                  <a:lnTo>
                    <a:pt x="716" y="470"/>
                  </a:lnTo>
                  <a:lnTo>
                    <a:pt x="714" y="459"/>
                  </a:lnTo>
                  <a:lnTo>
                    <a:pt x="712" y="447"/>
                  </a:lnTo>
                  <a:lnTo>
                    <a:pt x="709" y="436"/>
                  </a:lnTo>
                  <a:lnTo>
                    <a:pt x="706" y="425"/>
                  </a:lnTo>
                  <a:lnTo>
                    <a:pt x="702" y="414"/>
                  </a:lnTo>
                  <a:lnTo>
                    <a:pt x="698" y="404"/>
                  </a:lnTo>
                  <a:lnTo>
                    <a:pt x="693" y="393"/>
                  </a:lnTo>
                  <a:lnTo>
                    <a:pt x="687" y="383"/>
                  </a:lnTo>
                  <a:lnTo>
                    <a:pt x="681" y="374"/>
                  </a:lnTo>
                  <a:lnTo>
                    <a:pt x="675" y="364"/>
                  </a:lnTo>
                  <a:lnTo>
                    <a:pt x="668" y="355"/>
                  </a:lnTo>
                  <a:lnTo>
                    <a:pt x="661" y="346"/>
                  </a:lnTo>
                  <a:lnTo>
                    <a:pt x="653" y="337"/>
                  </a:lnTo>
                  <a:lnTo>
                    <a:pt x="645" y="329"/>
                  </a:lnTo>
                  <a:lnTo>
                    <a:pt x="635" y="321"/>
                  </a:lnTo>
                  <a:lnTo>
                    <a:pt x="627" y="314"/>
                  </a:lnTo>
                  <a:lnTo>
                    <a:pt x="618" y="307"/>
                  </a:lnTo>
                  <a:lnTo>
                    <a:pt x="609" y="301"/>
                  </a:lnTo>
                  <a:lnTo>
                    <a:pt x="599" y="295"/>
                  </a:lnTo>
                  <a:lnTo>
                    <a:pt x="589" y="290"/>
                  </a:lnTo>
                  <a:lnTo>
                    <a:pt x="579" y="285"/>
                  </a:lnTo>
                  <a:lnTo>
                    <a:pt x="569" y="281"/>
                  </a:lnTo>
                  <a:lnTo>
                    <a:pt x="558" y="278"/>
                  </a:lnTo>
                  <a:lnTo>
                    <a:pt x="547" y="275"/>
                  </a:lnTo>
                  <a:lnTo>
                    <a:pt x="536" y="272"/>
                  </a:lnTo>
                  <a:lnTo>
                    <a:pt x="525" y="271"/>
                  </a:lnTo>
                  <a:lnTo>
                    <a:pt x="513" y="269"/>
                  </a:lnTo>
                  <a:lnTo>
                    <a:pt x="502" y="268"/>
                  </a:lnTo>
                  <a:lnTo>
                    <a:pt x="489" y="268"/>
                  </a:lnTo>
                  <a:close/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599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39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6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1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0" y="372"/>
                  </a:lnTo>
                  <a:lnTo>
                    <a:pt x="966" y="399"/>
                  </a:lnTo>
                  <a:lnTo>
                    <a:pt x="971" y="425"/>
                  </a:lnTo>
                  <a:lnTo>
                    <a:pt x="974" y="453"/>
                  </a:lnTo>
                  <a:lnTo>
                    <a:pt x="976" y="479"/>
                  </a:lnTo>
                  <a:lnTo>
                    <a:pt x="977" y="507"/>
                  </a:lnTo>
                  <a:lnTo>
                    <a:pt x="976" y="535"/>
                  </a:lnTo>
                  <a:lnTo>
                    <a:pt x="974" y="562"/>
                  </a:lnTo>
                  <a:lnTo>
                    <a:pt x="971" y="589"/>
                  </a:lnTo>
                  <a:lnTo>
                    <a:pt x="966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2" y="719"/>
                  </a:lnTo>
                  <a:lnTo>
                    <a:pt x="921" y="743"/>
                  </a:lnTo>
                  <a:lnTo>
                    <a:pt x="908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2" y="835"/>
                  </a:lnTo>
                  <a:lnTo>
                    <a:pt x="845" y="855"/>
                  </a:lnTo>
                  <a:lnTo>
                    <a:pt x="826" y="876"/>
                  </a:lnTo>
                  <a:lnTo>
                    <a:pt x="806" y="895"/>
                  </a:lnTo>
                  <a:lnTo>
                    <a:pt x="790" y="910"/>
                  </a:lnTo>
                  <a:lnTo>
                    <a:pt x="773" y="923"/>
                  </a:lnTo>
                  <a:lnTo>
                    <a:pt x="756" y="935"/>
                  </a:lnTo>
                  <a:lnTo>
                    <a:pt x="738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19" y="997"/>
                  </a:lnTo>
                  <a:lnTo>
                    <a:pt x="598" y="1003"/>
                  </a:lnTo>
                  <a:lnTo>
                    <a:pt x="576" y="1007"/>
                  </a:lnTo>
                  <a:lnTo>
                    <a:pt x="555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5" y="1015"/>
                  </a:lnTo>
                  <a:lnTo>
                    <a:pt x="443" y="1014"/>
                  </a:lnTo>
                  <a:lnTo>
                    <a:pt x="421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7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5" y="976"/>
                  </a:lnTo>
                  <a:lnTo>
                    <a:pt x="276" y="967"/>
                  </a:lnTo>
                  <a:lnTo>
                    <a:pt x="256" y="957"/>
                  </a:lnTo>
                  <a:lnTo>
                    <a:pt x="238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6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4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69" y="769"/>
                  </a:lnTo>
                  <a:lnTo>
                    <a:pt x="56" y="744"/>
                  </a:lnTo>
                  <a:lnTo>
                    <a:pt x="44" y="720"/>
                  </a:lnTo>
                  <a:lnTo>
                    <a:pt x="34" y="694"/>
                  </a:lnTo>
                  <a:lnTo>
                    <a:pt x="25" y="669"/>
                  </a:lnTo>
                  <a:lnTo>
                    <a:pt x="17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7" y="372"/>
                  </a:lnTo>
                  <a:lnTo>
                    <a:pt x="25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5" y="270"/>
                  </a:lnTo>
                  <a:lnTo>
                    <a:pt x="69" y="247"/>
                  </a:lnTo>
                  <a:lnTo>
                    <a:pt x="82" y="223"/>
                  </a:lnTo>
                  <a:lnTo>
                    <a:pt x="97" y="202"/>
                  </a:lnTo>
                  <a:lnTo>
                    <a:pt x="113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6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8" y="68"/>
                  </a:lnTo>
                  <a:lnTo>
                    <a:pt x="256" y="58"/>
                  </a:lnTo>
                  <a:lnTo>
                    <a:pt x="276" y="48"/>
                  </a:lnTo>
                  <a:lnTo>
                    <a:pt x="295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7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1" y="5"/>
                  </a:lnTo>
                  <a:lnTo>
                    <a:pt x="443" y="2"/>
                  </a:lnTo>
                  <a:lnTo>
                    <a:pt x="465" y="1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2400" y="2833560"/>
              <a:ext cx="230040" cy="304920"/>
            </a:xfrm>
            <a:custGeom>
              <a:avLst/>
              <a:gdLst/>
              <a:ahLst/>
              <a:rect l="l" t="t" r="r" b="b"/>
              <a:pathLst>
                <a:path w="724" h="963">
                  <a:moveTo>
                    <a:pt x="250" y="452"/>
                  </a:moveTo>
                  <a:lnTo>
                    <a:pt x="275" y="452"/>
                  </a:lnTo>
                  <a:lnTo>
                    <a:pt x="291" y="452"/>
                  </a:lnTo>
                  <a:lnTo>
                    <a:pt x="306" y="451"/>
                  </a:lnTo>
                  <a:lnTo>
                    <a:pt x="321" y="448"/>
                  </a:lnTo>
                  <a:lnTo>
                    <a:pt x="334" y="445"/>
                  </a:lnTo>
                  <a:lnTo>
                    <a:pt x="346" y="441"/>
                  </a:lnTo>
                  <a:lnTo>
                    <a:pt x="357" y="436"/>
                  </a:lnTo>
                  <a:lnTo>
                    <a:pt x="368" y="430"/>
                  </a:lnTo>
                  <a:lnTo>
                    <a:pt x="377" y="421"/>
                  </a:lnTo>
                  <a:lnTo>
                    <a:pt x="385" y="414"/>
                  </a:lnTo>
                  <a:lnTo>
                    <a:pt x="392" y="405"/>
                  </a:lnTo>
                  <a:lnTo>
                    <a:pt x="398" y="395"/>
                  </a:lnTo>
                  <a:lnTo>
                    <a:pt x="403" y="385"/>
                  </a:lnTo>
                  <a:lnTo>
                    <a:pt x="407" y="373"/>
                  </a:lnTo>
                  <a:lnTo>
                    <a:pt x="410" y="360"/>
                  </a:lnTo>
                  <a:lnTo>
                    <a:pt x="411" y="347"/>
                  </a:lnTo>
                  <a:lnTo>
                    <a:pt x="412" y="333"/>
                  </a:lnTo>
                  <a:lnTo>
                    <a:pt x="411" y="318"/>
                  </a:lnTo>
                  <a:lnTo>
                    <a:pt x="410" y="305"/>
                  </a:lnTo>
                  <a:lnTo>
                    <a:pt x="407" y="292"/>
                  </a:lnTo>
                  <a:lnTo>
                    <a:pt x="403" y="281"/>
                  </a:lnTo>
                  <a:lnTo>
                    <a:pt x="399" y="269"/>
                  </a:lnTo>
                  <a:lnTo>
                    <a:pt x="393" y="259"/>
                  </a:lnTo>
                  <a:lnTo>
                    <a:pt x="386" y="250"/>
                  </a:lnTo>
                  <a:lnTo>
                    <a:pt x="379" y="242"/>
                  </a:lnTo>
                  <a:lnTo>
                    <a:pt x="370" y="235"/>
                  </a:lnTo>
                  <a:lnTo>
                    <a:pt x="359" y="229"/>
                  </a:lnTo>
                  <a:lnTo>
                    <a:pt x="348" y="224"/>
                  </a:lnTo>
                  <a:lnTo>
                    <a:pt x="337" y="218"/>
                  </a:lnTo>
                  <a:lnTo>
                    <a:pt x="325" y="215"/>
                  </a:lnTo>
                  <a:lnTo>
                    <a:pt x="310" y="213"/>
                  </a:lnTo>
                  <a:lnTo>
                    <a:pt x="296" y="211"/>
                  </a:lnTo>
                  <a:lnTo>
                    <a:pt x="281" y="211"/>
                  </a:lnTo>
                  <a:lnTo>
                    <a:pt x="250" y="211"/>
                  </a:lnTo>
                  <a:lnTo>
                    <a:pt x="250" y="452"/>
                  </a:lnTo>
                  <a:close/>
                  <a:moveTo>
                    <a:pt x="0" y="96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20" y="1"/>
                  </a:lnTo>
                  <a:lnTo>
                    <a:pt x="341" y="2"/>
                  </a:lnTo>
                  <a:lnTo>
                    <a:pt x="362" y="4"/>
                  </a:lnTo>
                  <a:lnTo>
                    <a:pt x="383" y="7"/>
                  </a:lnTo>
                  <a:lnTo>
                    <a:pt x="403" y="10"/>
                  </a:lnTo>
                  <a:lnTo>
                    <a:pt x="423" y="14"/>
                  </a:lnTo>
                  <a:lnTo>
                    <a:pt x="441" y="20"/>
                  </a:lnTo>
                  <a:lnTo>
                    <a:pt x="458" y="25"/>
                  </a:lnTo>
                  <a:lnTo>
                    <a:pt x="476" y="30"/>
                  </a:lnTo>
                  <a:lnTo>
                    <a:pt x="492" y="37"/>
                  </a:lnTo>
                  <a:lnTo>
                    <a:pt x="508" y="44"/>
                  </a:lnTo>
                  <a:lnTo>
                    <a:pt x="523" y="51"/>
                  </a:lnTo>
                  <a:lnTo>
                    <a:pt x="537" y="59"/>
                  </a:lnTo>
                  <a:lnTo>
                    <a:pt x="551" y="69"/>
                  </a:lnTo>
                  <a:lnTo>
                    <a:pt x="564" y="78"/>
                  </a:lnTo>
                  <a:lnTo>
                    <a:pt x="576" y="88"/>
                  </a:lnTo>
                  <a:lnTo>
                    <a:pt x="587" y="98"/>
                  </a:lnTo>
                  <a:lnTo>
                    <a:pt x="598" y="109"/>
                  </a:lnTo>
                  <a:lnTo>
                    <a:pt x="608" y="122"/>
                  </a:lnTo>
                  <a:lnTo>
                    <a:pt x="617" y="134"/>
                  </a:lnTo>
                  <a:lnTo>
                    <a:pt x="625" y="146"/>
                  </a:lnTo>
                  <a:lnTo>
                    <a:pt x="633" y="159"/>
                  </a:lnTo>
                  <a:lnTo>
                    <a:pt x="639" y="174"/>
                  </a:lnTo>
                  <a:lnTo>
                    <a:pt x="645" y="188"/>
                  </a:lnTo>
                  <a:lnTo>
                    <a:pt x="650" y="203"/>
                  </a:lnTo>
                  <a:lnTo>
                    <a:pt x="655" y="218"/>
                  </a:lnTo>
                  <a:lnTo>
                    <a:pt x="659" y="235"/>
                  </a:lnTo>
                  <a:lnTo>
                    <a:pt x="661" y="251"/>
                  </a:lnTo>
                  <a:lnTo>
                    <a:pt x="663" y="268"/>
                  </a:lnTo>
                  <a:lnTo>
                    <a:pt x="664" y="286"/>
                  </a:lnTo>
                  <a:lnTo>
                    <a:pt x="665" y="304"/>
                  </a:lnTo>
                  <a:lnTo>
                    <a:pt x="664" y="326"/>
                  </a:lnTo>
                  <a:lnTo>
                    <a:pt x="662" y="346"/>
                  </a:lnTo>
                  <a:lnTo>
                    <a:pt x="659" y="365"/>
                  </a:lnTo>
                  <a:lnTo>
                    <a:pt x="655" y="385"/>
                  </a:lnTo>
                  <a:lnTo>
                    <a:pt x="648" y="403"/>
                  </a:lnTo>
                  <a:lnTo>
                    <a:pt x="641" y="420"/>
                  </a:lnTo>
                  <a:lnTo>
                    <a:pt x="633" y="437"/>
                  </a:lnTo>
                  <a:lnTo>
                    <a:pt x="624" y="453"/>
                  </a:lnTo>
                  <a:lnTo>
                    <a:pt x="613" y="468"/>
                  </a:lnTo>
                  <a:lnTo>
                    <a:pt x="601" y="482"/>
                  </a:lnTo>
                  <a:lnTo>
                    <a:pt x="589" y="495"/>
                  </a:lnTo>
                  <a:lnTo>
                    <a:pt x="575" y="506"/>
                  </a:lnTo>
                  <a:lnTo>
                    <a:pt x="561" y="516"/>
                  </a:lnTo>
                  <a:lnTo>
                    <a:pt x="545" y="526"/>
                  </a:lnTo>
                  <a:lnTo>
                    <a:pt x="529" y="534"/>
                  </a:lnTo>
                  <a:lnTo>
                    <a:pt x="512" y="540"/>
                  </a:lnTo>
                  <a:lnTo>
                    <a:pt x="724" y="963"/>
                  </a:lnTo>
                  <a:lnTo>
                    <a:pt x="450" y="963"/>
                  </a:lnTo>
                  <a:lnTo>
                    <a:pt x="250" y="551"/>
                  </a:lnTo>
                  <a:lnTo>
                    <a:pt x="250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736800" y="2851200"/>
              <a:ext cx="193680" cy="291960"/>
            </a:xfrm>
            <a:custGeom>
              <a:avLst/>
              <a:gdLst/>
              <a:ahLst/>
              <a:rect l="l" t="t" r="r" b="b"/>
              <a:pathLst>
                <a:path w="610" h="923">
                  <a:moveTo>
                    <a:pt x="0" y="798"/>
                  </a:moveTo>
                  <a:lnTo>
                    <a:pt x="126" y="621"/>
                  </a:lnTo>
                  <a:lnTo>
                    <a:pt x="134" y="630"/>
                  </a:lnTo>
                  <a:lnTo>
                    <a:pt x="141" y="637"/>
                  </a:lnTo>
                  <a:lnTo>
                    <a:pt x="150" y="644"/>
                  </a:lnTo>
                  <a:lnTo>
                    <a:pt x="158" y="650"/>
                  </a:lnTo>
                  <a:lnTo>
                    <a:pt x="166" y="656"/>
                  </a:lnTo>
                  <a:lnTo>
                    <a:pt x="175" y="661"/>
                  </a:lnTo>
                  <a:lnTo>
                    <a:pt x="183" y="666"/>
                  </a:lnTo>
                  <a:lnTo>
                    <a:pt x="191" y="670"/>
                  </a:lnTo>
                  <a:lnTo>
                    <a:pt x="200" y="676"/>
                  </a:lnTo>
                  <a:lnTo>
                    <a:pt x="209" y="679"/>
                  </a:lnTo>
                  <a:lnTo>
                    <a:pt x="217" y="682"/>
                  </a:lnTo>
                  <a:lnTo>
                    <a:pt x="225" y="684"/>
                  </a:lnTo>
                  <a:lnTo>
                    <a:pt x="233" y="686"/>
                  </a:lnTo>
                  <a:lnTo>
                    <a:pt x="241" y="688"/>
                  </a:lnTo>
                  <a:lnTo>
                    <a:pt x="250" y="688"/>
                  </a:lnTo>
                  <a:lnTo>
                    <a:pt x="258" y="689"/>
                  </a:lnTo>
                  <a:lnTo>
                    <a:pt x="268" y="688"/>
                  </a:lnTo>
                  <a:lnTo>
                    <a:pt x="276" y="687"/>
                  </a:lnTo>
                  <a:lnTo>
                    <a:pt x="285" y="686"/>
                  </a:lnTo>
                  <a:lnTo>
                    <a:pt x="293" y="683"/>
                  </a:lnTo>
                  <a:lnTo>
                    <a:pt x="301" y="680"/>
                  </a:lnTo>
                  <a:lnTo>
                    <a:pt x="308" y="677"/>
                  </a:lnTo>
                  <a:lnTo>
                    <a:pt x="314" y="671"/>
                  </a:lnTo>
                  <a:lnTo>
                    <a:pt x="320" y="666"/>
                  </a:lnTo>
                  <a:lnTo>
                    <a:pt x="325" y="660"/>
                  </a:lnTo>
                  <a:lnTo>
                    <a:pt x="330" y="654"/>
                  </a:lnTo>
                  <a:lnTo>
                    <a:pt x="334" y="648"/>
                  </a:lnTo>
                  <a:lnTo>
                    <a:pt x="337" y="641"/>
                  </a:lnTo>
                  <a:lnTo>
                    <a:pt x="340" y="633"/>
                  </a:lnTo>
                  <a:lnTo>
                    <a:pt x="342" y="625"/>
                  </a:lnTo>
                  <a:lnTo>
                    <a:pt x="343" y="615"/>
                  </a:lnTo>
                  <a:lnTo>
                    <a:pt x="344" y="606"/>
                  </a:lnTo>
                  <a:lnTo>
                    <a:pt x="343" y="595"/>
                  </a:lnTo>
                  <a:lnTo>
                    <a:pt x="341" y="585"/>
                  </a:lnTo>
                  <a:lnTo>
                    <a:pt x="337" y="575"/>
                  </a:lnTo>
                  <a:lnTo>
                    <a:pt x="332" y="565"/>
                  </a:lnTo>
                  <a:lnTo>
                    <a:pt x="327" y="556"/>
                  </a:lnTo>
                  <a:lnTo>
                    <a:pt x="320" y="547"/>
                  </a:lnTo>
                  <a:lnTo>
                    <a:pt x="312" y="540"/>
                  </a:lnTo>
                  <a:lnTo>
                    <a:pt x="302" y="532"/>
                  </a:lnTo>
                  <a:lnTo>
                    <a:pt x="292" y="526"/>
                  </a:lnTo>
                  <a:lnTo>
                    <a:pt x="280" y="519"/>
                  </a:lnTo>
                  <a:lnTo>
                    <a:pt x="268" y="514"/>
                  </a:lnTo>
                  <a:lnTo>
                    <a:pt x="255" y="510"/>
                  </a:lnTo>
                  <a:lnTo>
                    <a:pt x="240" y="507"/>
                  </a:lnTo>
                  <a:lnTo>
                    <a:pt x="226" y="505"/>
                  </a:lnTo>
                  <a:lnTo>
                    <a:pt x="211" y="503"/>
                  </a:lnTo>
                  <a:lnTo>
                    <a:pt x="194" y="503"/>
                  </a:lnTo>
                  <a:lnTo>
                    <a:pt x="188" y="503"/>
                  </a:lnTo>
                  <a:lnTo>
                    <a:pt x="182" y="503"/>
                  </a:lnTo>
                  <a:lnTo>
                    <a:pt x="175" y="503"/>
                  </a:lnTo>
                  <a:lnTo>
                    <a:pt x="169" y="504"/>
                  </a:lnTo>
                  <a:lnTo>
                    <a:pt x="162" y="504"/>
                  </a:lnTo>
                  <a:lnTo>
                    <a:pt x="156" y="505"/>
                  </a:lnTo>
                  <a:lnTo>
                    <a:pt x="149" y="506"/>
                  </a:lnTo>
                  <a:lnTo>
                    <a:pt x="141" y="507"/>
                  </a:lnTo>
                  <a:lnTo>
                    <a:pt x="134" y="508"/>
                  </a:lnTo>
                  <a:lnTo>
                    <a:pt x="128" y="509"/>
                  </a:lnTo>
                  <a:lnTo>
                    <a:pt x="121" y="511"/>
                  </a:lnTo>
                  <a:lnTo>
                    <a:pt x="114" y="512"/>
                  </a:lnTo>
                  <a:lnTo>
                    <a:pt x="107" y="514"/>
                  </a:lnTo>
                  <a:lnTo>
                    <a:pt x="98" y="516"/>
                  </a:lnTo>
                  <a:lnTo>
                    <a:pt x="91" y="518"/>
                  </a:lnTo>
                  <a:lnTo>
                    <a:pt x="84" y="519"/>
                  </a:lnTo>
                  <a:lnTo>
                    <a:pt x="84" y="0"/>
                  </a:lnTo>
                  <a:lnTo>
                    <a:pt x="610" y="0"/>
                  </a:lnTo>
                  <a:lnTo>
                    <a:pt x="522" y="225"/>
                  </a:lnTo>
                  <a:lnTo>
                    <a:pt x="306" y="225"/>
                  </a:lnTo>
                  <a:lnTo>
                    <a:pt x="306" y="307"/>
                  </a:lnTo>
                  <a:lnTo>
                    <a:pt x="321" y="308"/>
                  </a:lnTo>
                  <a:lnTo>
                    <a:pt x="336" y="309"/>
                  </a:lnTo>
                  <a:lnTo>
                    <a:pt x="351" y="311"/>
                  </a:lnTo>
                  <a:lnTo>
                    <a:pt x="365" y="314"/>
                  </a:lnTo>
                  <a:lnTo>
                    <a:pt x="379" y="318"/>
                  </a:lnTo>
                  <a:lnTo>
                    <a:pt x="393" y="321"/>
                  </a:lnTo>
                  <a:lnTo>
                    <a:pt x="406" y="325"/>
                  </a:lnTo>
                  <a:lnTo>
                    <a:pt x="418" y="330"/>
                  </a:lnTo>
                  <a:lnTo>
                    <a:pt x="430" y="335"/>
                  </a:lnTo>
                  <a:lnTo>
                    <a:pt x="443" y="341"/>
                  </a:lnTo>
                  <a:lnTo>
                    <a:pt x="454" y="347"/>
                  </a:lnTo>
                  <a:lnTo>
                    <a:pt x="465" y="354"/>
                  </a:lnTo>
                  <a:lnTo>
                    <a:pt x="476" y="362"/>
                  </a:lnTo>
                  <a:lnTo>
                    <a:pt x="487" y="371"/>
                  </a:lnTo>
                  <a:lnTo>
                    <a:pt x="497" y="379"/>
                  </a:lnTo>
                  <a:lnTo>
                    <a:pt x="506" y="388"/>
                  </a:lnTo>
                  <a:lnTo>
                    <a:pt x="515" y="398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39" y="430"/>
                  </a:lnTo>
                  <a:lnTo>
                    <a:pt x="545" y="441"/>
                  </a:lnTo>
                  <a:lnTo>
                    <a:pt x="551" y="453"/>
                  </a:lnTo>
                  <a:lnTo>
                    <a:pt x="557" y="465"/>
                  </a:lnTo>
                  <a:lnTo>
                    <a:pt x="562" y="478"/>
                  </a:lnTo>
                  <a:lnTo>
                    <a:pt x="566" y="490"/>
                  </a:lnTo>
                  <a:lnTo>
                    <a:pt x="570" y="503"/>
                  </a:lnTo>
                  <a:lnTo>
                    <a:pt x="573" y="517"/>
                  </a:lnTo>
                  <a:lnTo>
                    <a:pt x="575" y="531"/>
                  </a:lnTo>
                  <a:lnTo>
                    <a:pt x="577" y="545"/>
                  </a:lnTo>
                  <a:lnTo>
                    <a:pt x="579" y="560"/>
                  </a:lnTo>
                  <a:lnTo>
                    <a:pt x="581" y="576"/>
                  </a:lnTo>
                  <a:lnTo>
                    <a:pt x="581" y="591"/>
                  </a:lnTo>
                  <a:lnTo>
                    <a:pt x="581" y="608"/>
                  </a:lnTo>
                  <a:lnTo>
                    <a:pt x="579" y="627"/>
                  </a:lnTo>
                  <a:lnTo>
                    <a:pt x="577" y="643"/>
                  </a:lnTo>
                  <a:lnTo>
                    <a:pt x="574" y="660"/>
                  </a:lnTo>
                  <a:lnTo>
                    <a:pt x="571" y="677"/>
                  </a:lnTo>
                  <a:lnTo>
                    <a:pt x="567" y="692"/>
                  </a:lnTo>
                  <a:lnTo>
                    <a:pt x="563" y="708"/>
                  </a:lnTo>
                  <a:lnTo>
                    <a:pt x="558" y="723"/>
                  </a:lnTo>
                  <a:lnTo>
                    <a:pt x="552" y="738"/>
                  </a:lnTo>
                  <a:lnTo>
                    <a:pt x="545" y="752"/>
                  </a:lnTo>
                  <a:lnTo>
                    <a:pt x="538" y="766"/>
                  </a:lnTo>
                  <a:lnTo>
                    <a:pt x="529" y="780"/>
                  </a:lnTo>
                  <a:lnTo>
                    <a:pt x="520" y="793"/>
                  </a:lnTo>
                  <a:lnTo>
                    <a:pt x="511" y="805"/>
                  </a:lnTo>
                  <a:lnTo>
                    <a:pt x="501" y="818"/>
                  </a:lnTo>
                  <a:lnTo>
                    <a:pt x="490" y="830"/>
                  </a:lnTo>
                  <a:lnTo>
                    <a:pt x="478" y="841"/>
                  </a:lnTo>
                  <a:lnTo>
                    <a:pt x="466" y="852"/>
                  </a:lnTo>
                  <a:lnTo>
                    <a:pt x="454" y="862"/>
                  </a:lnTo>
                  <a:lnTo>
                    <a:pt x="441" y="871"/>
                  </a:lnTo>
                  <a:lnTo>
                    <a:pt x="427" y="880"/>
                  </a:lnTo>
                  <a:lnTo>
                    <a:pt x="414" y="887"/>
                  </a:lnTo>
                  <a:lnTo>
                    <a:pt x="400" y="894"/>
                  </a:lnTo>
                  <a:lnTo>
                    <a:pt x="385" y="900"/>
                  </a:lnTo>
                  <a:lnTo>
                    <a:pt x="371" y="906"/>
                  </a:lnTo>
                  <a:lnTo>
                    <a:pt x="356" y="910"/>
                  </a:lnTo>
                  <a:lnTo>
                    <a:pt x="341" y="914"/>
                  </a:lnTo>
                  <a:lnTo>
                    <a:pt x="324" y="917"/>
                  </a:lnTo>
                  <a:lnTo>
                    <a:pt x="308" y="920"/>
                  </a:lnTo>
                  <a:lnTo>
                    <a:pt x="292" y="922"/>
                  </a:lnTo>
                  <a:lnTo>
                    <a:pt x="274" y="923"/>
                  </a:lnTo>
                  <a:lnTo>
                    <a:pt x="257" y="923"/>
                  </a:lnTo>
                  <a:lnTo>
                    <a:pt x="238" y="923"/>
                  </a:lnTo>
                  <a:lnTo>
                    <a:pt x="220" y="921"/>
                  </a:lnTo>
                  <a:lnTo>
                    <a:pt x="203" y="919"/>
                  </a:lnTo>
                  <a:lnTo>
                    <a:pt x="185" y="915"/>
                  </a:lnTo>
                  <a:lnTo>
                    <a:pt x="168" y="911"/>
                  </a:lnTo>
                  <a:lnTo>
                    <a:pt x="151" y="905"/>
                  </a:lnTo>
                  <a:lnTo>
                    <a:pt x="134" y="899"/>
                  </a:lnTo>
                  <a:lnTo>
                    <a:pt x="117" y="891"/>
                  </a:lnTo>
                  <a:lnTo>
                    <a:pt x="102" y="883"/>
                  </a:lnTo>
                  <a:lnTo>
                    <a:pt x="85" y="873"/>
                  </a:lnTo>
                  <a:lnTo>
                    <a:pt x="70" y="863"/>
                  </a:lnTo>
                  <a:lnTo>
                    <a:pt x="56" y="852"/>
                  </a:lnTo>
                  <a:lnTo>
                    <a:pt x="41" y="840"/>
                  </a:lnTo>
                  <a:lnTo>
                    <a:pt x="27" y="826"/>
                  </a:lnTo>
                  <a:lnTo>
                    <a:pt x="14" y="812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091040" y="2833560"/>
              <a:ext cx="317520" cy="306360"/>
            </a:xfrm>
            <a:custGeom>
              <a:avLst/>
              <a:gdLst/>
              <a:ahLst/>
              <a:rect l="l" t="t" r="r" b="b"/>
              <a:pathLst>
                <a:path w="1003" h="967">
                  <a:moveTo>
                    <a:pt x="0" y="963"/>
                  </a:moveTo>
                  <a:lnTo>
                    <a:pt x="121" y="0"/>
                  </a:lnTo>
                  <a:lnTo>
                    <a:pt x="324" y="0"/>
                  </a:lnTo>
                  <a:lnTo>
                    <a:pt x="495" y="429"/>
                  </a:lnTo>
                  <a:lnTo>
                    <a:pt x="667" y="0"/>
                  </a:lnTo>
                  <a:lnTo>
                    <a:pt x="866" y="0"/>
                  </a:lnTo>
                  <a:lnTo>
                    <a:pt x="1003" y="963"/>
                  </a:lnTo>
                  <a:lnTo>
                    <a:pt x="746" y="963"/>
                  </a:lnTo>
                  <a:lnTo>
                    <a:pt x="692" y="521"/>
                  </a:lnTo>
                  <a:lnTo>
                    <a:pt x="505" y="967"/>
                  </a:lnTo>
                  <a:lnTo>
                    <a:pt x="303" y="521"/>
                  </a:lnTo>
                  <a:lnTo>
                    <a:pt x="257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448160" y="2833560"/>
              <a:ext cx="79560" cy="3049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583160" y="2833560"/>
              <a:ext cx="226800" cy="304920"/>
            </a:xfrm>
            <a:custGeom>
              <a:avLst/>
              <a:gdLst/>
              <a:ahLst/>
              <a:rect l="l" t="t" r="r" b="b"/>
              <a:pathLst>
                <a:path w="717" h="963">
                  <a:moveTo>
                    <a:pt x="0" y="963"/>
                  </a:moveTo>
                  <a:lnTo>
                    <a:pt x="0" y="0"/>
                  </a:lnTo>
                  <a:lnTo>
                    <a:pt x="109" y="0"/>
                  </a:lnTo>
                  <a:lnTo>
                    <a:pt x="468" y="421"/>
                  </a:lnTo>
                  <a:lnTo>
                    <a:pt x="468" y="0"/>
                  </a:lnTo>
                  <a:lnTo>
                    <a:pt x="717" y="0"/>
                  </a:lnTo>
                  <a:lnTo>
                    <a:pt x="717" y="963"/>
                  </a:lnTo>
                  <a:lnTo>
                    <a:pt x="603" y="963"/>
                  </a:lnTo>
                  <a:lnTo>
                    <a:pt x="249" y="546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861080" y="2833560"/>
              <a:ext cx="206280" cy="31284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9" y="616"/>
                  </a:lnTo>
                  <a:lnTo>
                    <a:pt x="648" y="647"/>
                  </a:lnTo>
                  <a:lnTo>
                    <a:pt x="646" y="675"/>
                  </a:lnTo>
                  <a:lnTo>
                    <a:pt x="644" y="702"/>
                  </a:lnTo>
                  <a:lnTo>
                    <a:pt x="641" y="725"/>
                  </a:lnTo>
                  <a:lnTo>
                    <a:pt x="638" y="748"/>
                  </a:lnTo>
                  <a:lnTo>
                    <a:pt x="634" y="768"/>
                  </a:lnTo>
                  <a:lnTo>
                    <a:pt x="630" y="786"/>
                  </a:lnTo>
                  <a:lnTo>
                    <a:pt x="624" y="803"/>
                  </a:lnTo>
                  <a:lnTo>
                    <a:pt x="618" y="818"/>
                  </a:lnTo>
                  <a:lnTo>
                    <a:pt x="612" y="834"/>
                  </a:lnTo>
                  <a:lnTo>
                    <a:pt x="604" y="849"/>
                  </a:lnTo>
                  <a:lnTo>
                    <a:pt x="595" y="863"/>
                  </a:lnTo>
                  <a:lnTo>
                    <a:pt x="586" y="876"/>
                  </a:lnTo>
                  <a:lnTo>
                    <a:pt x="576" y="890"/>
                  </a:lnTo>
                  <a:lnTo>
                    <a:pt x="565" y="902"/>
                  </a:lnTo>
                  <a:lnTo>
                    <a:pt x="555" y="911"/>
                  </a:lnTo>
                  <a:lnTo>
                    <a:pt x="543" y="921"/>
                  </a:lnTo>
                  <a:lnTo>
                    <a:pt x="532" y="930"/>
                  </a:lnTo>
                  <a:lnTo>
                    <a:pt x="520" y="939"/>
                  </a:lnTo>
                  <a:lnTo>
                    <a:pt x="507" y="946"/>
                  </a:lnTo>
                  <a:lnTo>
                    <a:pt x="492" y="953"/>
                  </a:lnTo>
                  <a:lnTo>
                    <a:pt x="478" y="960"/>
                  </a:lnTo>
                  <a:lnTo>
                    <a:pt x="463" y="966"/>
                  </a:lnTo>
                  <a:lnTo>
                    <a:pt x="446" y="971"/>
                  </a:lnTo>
                  <a:lnTo>
                    <a:pt x="430" y="976"/>
                  </a:lnTo>
                  <a:lnTo>
                    <a:pt x="414" y="980"/>
                  </a:lnTo>
                  <a:lnTo>
                    <a:pt x="396" y="983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5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3"/>
                  </a:lnTo>
                  <a:lnTo>
                    <a:pt x="236" y="980"/>
                  </a:lnTo>
                  <a:lnTo>
                    <a:pt x="219" y="976"/>
                  </a:lnTo>
                  <a:lnTo>
                    <a:pt x="202" y="971"/>
                  </a:lnTo>
                  <a:lnTo>
                    <a:pt x="187" y="966"/>
                  </a:lnTo>
                  <a:lnTo>
                    <a:pt x="172" y="960"/>
                  </a:lnTo>
                  <a:lnTo>
                    <a:pt x="156" y="953"/>
                  </a:lnTo>
                  <a:lnTo>
                    <a:pt x="143" y="946"/>
                  </a:lnTo>
                  <a:lnTo>
                    <a:pt x="130" y="939"/>
                  </a:lnTo>
                  <a:lnTo>
                    <a:pt x="117" y="930"/>
                  </a:lnTo>
                  <a:lnTo>
                    <a:pt x="105" y="921"/>
                  </a:lnTo>
                  <a:lnTo>
                    <a:pt x="95" y="911"/>
                  </a:lnTo>
                  <a:lnTo>
                    <a:pt x="85" y="902"/>
                  </a:lnTo>
                  <a:lnTo>
                    <a:pt x="74" y="889"/>
                  </a:lnTo>
                  <a:lnTo>
                    <a:pt x="63" y="876"/>
                  </a:lnTo>
                  <a:lnTo>
                    <a:pt x="53" y="862"/>
                  </a:lnTo>
                  <a:lnTo>
                    <a:pt x="45" y="848"/>
                  </a:lnTo>
                  <a:lnTo>
                    <a:pt x="37" y="833"/>
                  </a:lnTo>
                  <a:lnTo>
                    <a:pt x="31" y="817"/>
                  </a:lnTo>
                  <a:lnTo>
                    <a:pt x="25" y="801"/>
                  </a:lnTo>
                  <a:lnTo>
                    <a:pt x="18" y="785"/>
                  </a:lnTo>
                  <a:lnTo>
                    <a:pt x="14" y="766"/>
                  </a:lnTo>
                  <a:lnTo>
                    <a:pt x="10" y="746"/>
                  </a:lnTo>
                  <a:lnTo>
                    <a:pt x="7" y="724"/>
                  </a:lnTo>
                  <a:lnTo>
                    <a:pt x="4" y="700"/>
                  </a:lnTo>
                  <a:lnTo>
                    <a:pt x="2" y="673"/>
                  </a:lnTo>
                  <a:lnTo>
                    <a:pt x="1" y="646"/>
                  </a:lnTo>
                  <a:lnTo>
                    <a:pt x="0" y="615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583"/>
                  </a:lnTo>
                  <a:lnTo>
                    <a:pt x="251" y="603"/>
                  </a:lnTo>
                  <a:lnTo>
                    <a:pt x="251" y="620"/>
                  </a:lnTo>
                  <a:lnTo>
                    <a:pt x="253" y="638"/>
                  </a:lnTo>
                  <a:lnTo>
                    <a:pt x="254" y="652"/>
                  </a:lnTo>
                  <a:lnTo>
                    <a:pt x="257" y="666"/>
                  </a:lnTo>
                  <a:lnTo>
                    <a:pt x="260" y="677"/>
                  </a:lnTo>
                  <a:lnTo>
                    <a:pt x="264" y="688"/>
                  </a:lnTo>
                  <a:lnTo>
                    <a:pt x="268" y="697"/>
                  </a:lnTo>
                  <a:lnTo>
                    <a:pt x="272" y="704"/>
                  </a:lnTo>
                  <a:lnTo>
                    <a:pt x="277" y="711"/>
                  </a:lnTo>
                  <a:lnTo>
                    <a:pt x="283" y="716"/>
                  </a:lnTo>
                  <a:lnTo>
                    <a:pt x="290" y="721"/>
                  </a:lnTo>
                  <a:lnTo>
                    <a:pt x="297" y="724"/>
                  </a:lnTo>
                  <a:lnTo>
                    <a:pt x="305" y="727"/>
                  </a:lnTo>
                  <a:lnTo>
                    <a:pt x="315" y="728"/>
                  </a:lnTo>
                  <a:lnTo>
                    <a:pt x="325" y="730"/>
                  </a:lnTo>
                  <a:lnTo>
                    <a:pt x="334" y="728"/>
                  </a:lnTo>
                  <a:lnTo>
                    <a:pt x="343" y="727"/>
                  </a:lnTo>
                  <a:lnTo>
                    <a:pt x="351" y="724"/>
                  </a:lnTo>
                  <a:lnTo>
                    <a:pt x="358" y="721"/>
                  </a:lnTo>
                  <a:lnTo>
                    <a:pt x="366" y="716"/>
                  </a:lnTo>
                  <a:lnTo>
                    <a:pt x="372" y="710"/>
                  </a:lnTo>
                  <a:lnTo>
                    <a:pt x="377" y="704"/>
                  </a:lnTo>
                  <a:lnTo>
                    <a:pt x="382" y="696"/>
                  </a:lnTo>
                  <a:lnTo>
                    <a:pt x="386" y="688"/>
                  </a:lnTo>
                  <a:lnTo>
                    <a:pt x="389" y="676"/>
                  </a:lnTo>
                  <a:lnTo>
                    <a:pt x="392" y="665"/>
                  </a:lnTo>
                  <a:lnTo>
                    <a:pt x="395" y="652"/>
                  </a:lnTo>
                  <a:lnTo>
                    <a:pt x="396" y="637"/>
                  </a:lnTo>
                  <a:lnTo>
                    <a:pt x="398" y="620"/>
                  </a:lnTo>
                  <a:lnTo>
                    <a:pt x="398" y="602"/>
                  </a:lnTo>
                  <a:lnTo>
                    <a:pt x="399" y="58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092560" y="2833560"/>
              <a:ext cx="204840" cy="304920"/>
            </a:xfrm>
            <a:custGeom>
              <a:avLst/>
              <a:gdLst/>
              <a:ahLst/>
              <a:rect l="l" t="t" r="r" b="b"/>
              <a:pathLst>
                <a:path w="643" h="963">
                  <a:moveTo>
                    <a:pt x="447" y="243"/>
                  </a:moveTo>
                  <a:lnTo>
                    <a:pt x="447" y="963"/>
                  </a:lnTo>
                  <a:lnTo>
                    <a:pt x="195" y="963"/>
                  </a:lnTo>
                  <a:lnTo>
                    <a:pt x="195" y="243"/>
                  </a:lnTo>
                  <a:lnTo>
                    <a:pt x="0" y="243"/>
                  </a:lnTo>
                  <a:lnTo>
                    <a:pt x="26" y="0"/>
                  </a:lnTo>
                  <a:lnTo>
                    <a:pt x="615" y="0"/>
                  </a:lnTo>
                  <a:lnTo>
                    <a:pt x="643" y="243"/>
                  </a:lnTo>
                  <a:lnTo>
                    <a:pt x="447" y="24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322960" y="2833560"/>
              <a:ext cx="191880" cy="304920"/>
            </a:xfrm>
            <a:custGeom>
              <a:avLst/>
              <a:gdLst/>
              <a:ahLst/>
              <a:rect l="l" t="t" r="r" b="b"/>
              <a:pathLst>
                <a:path w="604" h="963">
                  <a:moveTo>
                    <a:pt x="604" y="698"/>
                  </a:moveTo>
                  <a:lnTo>
                    <a:pt x="536" y="963"/>
                  </a:lnTo>
                  <a:lnTo>
                    <a:pt x="0" y="963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5" y="256"/>
                  </a:lnTo>
                  <a:lnTo>
                    <a:pt x="251" y="256"/>
                  </a:lnTo>
                  <a:lnTo>
                    <a:pt x="251" y="354"/>
                  </a:lnTo>
                  <a:lnTo>
                    <a:pt x="468" y="354"/>
                  </a:lnTo>
                  <a:lnTo>
                    <a:pt x="468" y="609"/>
                  </a:lnTo>
                  <a:lnTo>
                    <a:pt x="251" y="609"/>
                  </a:lnTo>
                  <a:lnTo>
                    <a:pt x="251" y="698"/>
                  </a:lnTo>
                  <a:lnTo>
                    <a:pt x="604" y="6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535720" y="282888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9" y="981"/>
                  </a:moveTo>
                  <a:lnTo>
                    <a:pt x="11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6" y="728"/>
                  </a:lnTo>
                  <a:lnTo>
                    <a:pt x="53" y="730"/>
                  </a:lnTo>
                  <a:lnTo>
                    <a:pt x="59" y="732"/>
                  </a:lnTo>
                  <a:lnTo>
                    <a:pt x="66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8" y="740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2" y="734"/>
                  </a:lnTo>
                  <a:lnTo>
                    <a:pt x="161" y="731"/>
                  </a:lnTo>
                  <a:lnTo>
                    <a:pt x="169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8" y="701"/>
                  </a:lnTo>
                  <a:lnTo>
                    <a:pt x="202" y="695"/>
                  </a:lnTo>
                  <a:lnTo>
                    <a:pt x="205" y="687"/>
                  </a:lnTo>
                  <a:lnTo>
                    <a:pt x="208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4" y="641"/>
                  </a:lnTo>
                  <a:lnTo>
                    <a:pt x="198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9" y="587"/>
                  </a:lnTo>
                  <a:lnTo>
                    <a:pt x="154" y="572"/>
                  </a:lnTo>
                  <a:lnTo>
                    <a:pt x="137" y="556"/>
                  </a:lnTo>
                  <a:lnTo>
                    <a:pt x="131" y="551"/>
                  </a:lnTo>
                  <a:lnTo>
                    <a:pt x="126" y="546"/>
                  </a:lnTo>
                  <a:lnTo>
                    <a:pt x="121" y="541"/>
                  </a:lnTo>
                  <a:lnTo>
                    <a:pt x="116" y="535"/>
                  </a:lnTo>
                  <a:lnTo>
                    <a:pt x="112" y="531"/>
                  </a:lnTo>
                  <a:lnTo>
                    <a:pt x="106" y="527"/>
                  </a:lnTo>
                  <a:lnTo>
                    <a:pt x="103" y="524"/>
                  </a:lnTo>
                  <a:lnTo>
                    <a:pt x="99" y="520"/>
                  </a:lnTo>
                  <a:lnTo>
                    <a:pt x="87" y="508"/>
                  </a:lnTo>
                  <a:lnTo>
                    <a:pt x="76" y="495"/>
                  </a:lnTo>
                  <a:lnTo>
                    <a:pt x="66" y="481"/>
                  </a:lnTo>
                  <a:lnTo>
                    <a:pt x="55" y="468"/>
                  </a:lnTo>
                  <a:lnTo>
                    <a:pt x="46" y="455"/>
                  </a:lnTo>
                  <a:lnTo>
                    <a:pt x="38" y="442"/>
                  </a:lnTo>
                  <a:lnTo>
                    <a:pt x="31" y="428"/>
                  </a:lnTo>
                  <a:lnTo>
                    <a:pt x="25" y="414"/>
                  </a:lnTo>
                  <a:lnTo>
                    <a:pt x="19" y="401"/>
                  </a:lnTo>
                  <a:lnTo>
                    <a:pt x="13" y="386"/>
                  </a:lnTo>
                  <a:lnTo>
                    <a:pt x="9" y="372"/>
                  </a:lnTo>
                  <a:lnTo>
                    <a:pt x="6" y="358"/>
                  </a:lnTo>
                  <a:lnTo>
                    <a:pt x="3" y="343"/>
                  </a:lnTo>
                  <a:lnTo>
                    <a:pt x="1" y="327"/>
                  </a:lnTo>
                  <a:lnTo>
                    <a:pt x="0" y="312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1" y="265"/>
                  </a:lnTo>
                  <a:lnTo>
                    <a:pt x="3" y="250"/>
                  </a:lnTo>
                  <a:lnTo>
                    <a:pt x="5" y="235"/>
                  </a:lnTo>
                  <a:lnTo>
                    <a:pt x="8" y="220"/>
                  </a:lnTo>
                  <a:lnTo>
                    <a:pt x="12" y="206"/>
                  </a:lnTo>
                  <a:lnTo>
                    <a:pt x="18" y="192"/>
                  </a:lnTo>
                  <a:lnTo>
                    <a:pt x="23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59" y="116"/>
                  </a:lnTo>
                  <a:lnTo>
                    <a:pt x="70" y="105"/>
                  </a:lnTo>
                  <a:lnTo>
                    <a:pt x="80" y="94"/>
                  </a:lnTo>
                  <a:lnTo>
                    <a:pt x="91" y="84"/>
                  </a:lnTo>
                  <a:lnTo>
                    <a:pt x="102" y="73"/>
                  </a:lnTo>
                  <a:lnTo>
                    <a:pt x="115" y="64"/>
                  </a:lnTo>
                  <a:lnTo>
                    <a:pt x="127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3"/>
                  </a:lnTo>
                  <a:lnTo>
                    <a:pt x="181" y="26"/>
                  </a:lnTo>
                  <a:lnTo>
                    <a:pt x="195" y="20"/>
                  </a:lnTo>
                  <a:lnTo>
                    <a:pt x="211" y="16"/>
                  </a:lnTo>
                  <a:lnTo>
                    <a:pt x="226" y="11"/>
                  </a:lnTo>
                  <a:lnTo>
                    <a:pt x="241" y="8"/>
                  </a:lnTo>
                  <a:lnTo>
                    <a:pt x="258" y="5"/>
                  </a:lnTo>
                  <a:lnTo>
                    <a:pt x="274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0" y="1"/>
                  </a:lnTo>
                  <a:lnTo>
                    <a:pt x="370" y="1"/>
                  </a:lnTo>
                  <a:lnTo>
                    <a:pt x="381" y="2"/>
                  </a:lnTo>
                  <a:lnTo>
                    <a:pt x="391" y="3"/>
                  </a:lnTo>
                  <a:lnTo>
                    <a:pt x="402" y="4"/>
                  </a:lnTo>
                  <a:lnTo>
                    <a:pt x="412" y="6"/>
                  </a:lnTo>
                  <a:lnTo>
                    <a:pt x="422" y="7"/>
                  </a:lnTo>
                  <a:lnTo>
                    <a:pt x="431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8" y="24"/>
                  </a:lnTo>
                  <a:lnTo>
                    <a:pt x="488" y="263"/>
                  </a:lnTo>
                  <a:lnTo>
                    <a:pt x="480" y="259"/>
                  </a:lnTo>
                  <a:lnTo>
                    <a:pt x="473" y="256"/>
                  </a:lnTo>
                  <a:lnTo>
                    <a:pt x="465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3" y="244"/>
                  </a:lnTo>
                  <a:lnTo>
                    <a:pt x="436" y="242"/>
                  </a:lnTo>
                  <a:lnTo>
                    <a:pt x="430" y="240"/>
                  </a:lnTo>
                  <a:lnTo>
                    <a:pt x="423" y="238"/>
                  </a:lnTo>
                  <a:lnTo>
                    <a:pt x="417" y="236"/>
                  </a:lnTo>
                  <a:lnTo>
                    <a:pt x="411" y="235"/>
                  </a:lnTo>
                  <a:lnTo>
                    <a:pt x="405" y="233"/>
                  </a:lnTo>
                  <a:lnTo>
                    <a:pt x="398" y="232"/>
                  </a:lnTo>
                  <a:lnTo>
                    <a:pt x="392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0" y="231"/>
                  </a:lnTo>
                  <a:lnTo>
                    <a:pt x="360" y="232"/>
                  </a:lnTo>
                  <a:lnTo>
                    <a:pt x="349" y="235"/>
                  </a:lnTo>
                  <a:lnTo>
                    <a:pt x="339" y="237"/>
                  </a:lnTo>
                  <a:lnTo>
                    <a:pt x="331" y="240"/>
                  </a:lnTo>
                  <a:lnTo>
                    <a:pt x="323" y="243"/>
                  </a:lnTo>
                  <a:lnTo>
                    <a:pt x="316" y="247"/>
                  </a:lnTo>
                  <a:lnTo>
                    <a:pt x="309" y="251"/>
                  </a:lnTo>
                  <a:lnTo>
                    <a:pt x="302" y="256"/>
                  </a:lnTo>
                  <a:lnTo>
                    <a:pt x="297" y="262"/>
                  </a:lnTo>
                  <a:lnTo>
                    <a:pt x="293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90"/>
                  </a:lnTo>
                  <a:lnTo>
                    <a:pt x="284" y="299"/>
                  </a:lnTo>
                  <a:lnTo>
                    <a:pt x="283" y="307"/>
                  </a:lnTo>
                  <a:lnTo>
                    <a:pt x="284" y="312"/>
                  </a:lnTo>
                  <a:lnTo>
                    <a:pt x="284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40"/>
                  </a:lnTo>
                  <a:lnTo>
                    <a:pt x="300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6" y="389"/>
                  </a:lnTo>
                  <a:lnTo>
                    <a:pt x="353" y="403"/>
                  </a:lnTo>
                  <a:lnTo>
                    <a:pt x="360" y="408"/>
                  </a:lnTo>
                  <a:lnTo>
                    <a:pt x="366" y="413"/>
                  </a:lnTo>
                  <a:lnTo>
                    <a:pt x="372" y="418"/>
                  </a:lnTo>
                  <a:lnTo>
                    <a:pt x="377" y="422"/>
                  </a:lnTo>
                  <a:lnTo>
                    <a:pt x="382" y="427"/>
                  </a:lnTo>
                  <a:lnTo>
                    <a:pt x="387" y="431"/>
                  </a:lnTo>
                  <a:lnTo>
                    <a:pt x="391" y="434"/>
                  </a:lnTo>
                  <a:lnTo>
                    <a:pt x="395" y="439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3" y="476"/>
                  </a:lnTo>
                  <a:lnTo>
                    <a:pt x="444" y="491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3" y="534"/>
                  </a:lnTo>
                  <a:lnTo>
                    <a:pt x="481" y="550"/>
                  </a:lnTo>
                  <a:lnTo>
                    <a:pt x="487" y="566"/>
                  </a:lnTo>
                  <a:lnTo>
                    <a:pt x="493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9" y="650"/>
                  </a:lnTo>
                  <a:lnTo>
                    <a:pt x="510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9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1" y="800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1"/>
                  </a:lnTo>
                  <a:lnTo>
                    <a:pt x="465" y="854"/>
                  </a:lnTo>
                  <a:lnTo>
                    <a:pt x="457" y="866"/>
                  </a:lnTo>
                  <a:lnTo>
                    <a:pt x="446" y="878"/>
                  </a:lnTo>
                  <a:lnTo>
                    <a:pt x="436" y="889"/>
                  </a:lnTo>
                  <a:lnTo>
                    <a:pt x="426" y="901"/>
                  </a:lnTo>
                  <a:lnTo>
                    <a:pt x="415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2" y="947"/>
                  </a:lnTo>
                  <a:lnTo>
                    <a:pt x="347" y="955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299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89" y="992"/>
                  </a:lnTo>
                  <a:lnTo>
                    <a:pt x="169" y="993"/>
                  </a:lnTo>
                  <a:lnTo>
                    <a:pt x="148" y="993"/>
                  </a:lnTo>
                  <a:lnTo>
                    <a:pt x="139" y="993"/>
                  </a:lnTo>
                  <a:lnTo>
                    <a:pt x="131" y="993"/>
                  </a:lnTo>
                  <a:lnTo>
                    <a:pt x="123" y="992"/>
                  </a:lnTo>
                  <a:lnTo>
                    <a:pt x="114" y="992"/>
                  </a:lnTo>
                  <a:lnTo>
                    <a:pt x="105" y="992"/>
                  </a:lnTo>
                  <a:lnTo>
                    <a:pt x="97" y="991"/>
                  </a:lnTo>
                  <a:lnTo>
                    <a:pt x="89" y="990"/>
                  </a:lnTo>
                  <a:lnTo>
                    <a:pt x="81" y="990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49" y="986"/>
                  </a:lnTo>
                  <a:lnTo>
                    <a:pt x="41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9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840280" y="2824200"/>
              <a:ext cx="311400" cy="322200"/>
            </a:xfrm>
            <a:custGeom>
              <a:avLst/>
              <a:gdLst/>
              <a:ahLst/>
              <a:rect l="l" t="t" r="r" b="b"/>
              <a:pathLst>
                <a:path w="979" h="1015">
                  <a:moveTo>
                    <a:pt x="489" y="268"/>
                  </a:moveTo>
                  <a:lnTo>
                    <a:pt x="478" y="268"/>
                  </a:lnTo>
                  <a:lnTo>
                    <a:pt x="466" y="269"/>
                  </a:lnTo>
                  <a:lnTo>
                    <a:pt x="455" y="270"/>
                  </a:lnTo>
                  <a:lnTo>
                    <a:pt x="443" y="272"/>
                  </a:lnTo>
                  <a:lnTo>
                    <a:pt x="432" y="275"/>
                  </a:lnTo>
                  <a:lnTo>
                    <a:pt x="421" y="278"/>
                  </a:lnTo>
                  <a:lnTo>
                    <a:pt x="411" y="281"/>
                  </a:lnTo>
                  <a:lnTo>
                    <a:pt x="400" y="285"/>
                  </a:lnTo>
                  <a:lnTo>
                    <a:pt x="390" y="289"/>
                  </a:lnTo>
                  <a:lnTo>
                    <a:pt x="380" y="294"/>
                  </a:lnTo>
                  <a:lnTo>
                    <a:pt x="371" y="301"/>
                  </a:lnTo>
                  <a:lnTo>
                    <a:pt x="361" y="307"/>
                  </a:lnTo>
                  <a:lnTo>
                    <a:pt x="351" y="314"/>
                  </a:lnTo>
                  <a:lnTo>
                    <a:pt x="343" y="321"/>
                  </a:lnTo>
                  <a:lnTo>
                    <a:pt x="334" y="328"/>
                  </a:lnTo>
                  <a:lnTo>
                    <a:pt x="326" y="336"/>
                  </a:lnTo>
                  <a:lnTo>
                    <a:pt x="318" y="345"/>
                  </a:lnTo>
                  <a:lnTo>
                    <a:pt x="311" y="355"/>
                  </a:lnTo>
                  <a:lnTo>
                    <a:pt x="303" y="364"/>
                  </a:lnTo>
                  <a:lnTo>
                    <a:pt x="297" y="373"/>
                  </a:lnTo>
                  <a:lnTo>
                    <a:pt x="291" y="383"/>
                  </a:lnTo>
                  <a:lnTo>
                    <a:pt x="286" y="393"/>
                  </a:lnTo>
                  <a:lnTo>
                    <a:pt x="281" y="404"/>
                  </a:lnTo>
                  <a:lnTo>
                    <a:pt x="277" y="414"/>
                  </a:lnTo>
                  <a:lnTo>
                    <a:pt x="273" y="425"/>
                  </a:lnTo>
                  <a:lnTo>
                    <a:pt x="270" y="435"/>
                  </a:lnTo>
                  <a:lnTo>
                    <a:pt x="267" y="446"/>
                  </a:lnTo>
                  <a:lnTo>
                    <a:pt x="265" y="459"/>
                  </a:lnTo>
                  <a:lnTo>
                    <a:pt x="263" y="470"/>
                  </a:lnTo>
                  <a:lnTo>
                    <a:pt x="262" y="482"/>
                  </a:lnTo>
                  <a:lnTo>
                    <a:pt x="261" y="494"/>
                  </a:lnTo>
                  <a:lnTo>
                    <a:pt x="261" y="507"/>
                  </a:lnTo>
                  <a:lnTo>
                    <a:pt x="261" y="520"/>
                  </a:lnTo>
                  <a:lnTo>
                    <a:pt x="262" y="532"/>
                  </a:lnTo>
                  <a:lnTo>
                    <a:pt x="263" y="543"/>
                  </a:lnTo>
                  <a:lnTo>
                    <a:pt x="265" y="556"/>
                  </a:lnTo>
                  <a:lnTo>
                    <a:pt x="267" y="567"/>
                  </a:lnTo>
                  <a:lnTo>
                    <a:pt x="270" y="578"/>
                  </a:lnTo>
                  <a:lnTo>
                    <a:pt x="273" y="589"/>
                  </a:lnTo>
                  <a:lnTo>
                    <a:pt x="277" y="600"/>
                  </a:lnTo>
                  <a:lnTo>
                    <a:pt x="281" y="611"/>
                  </a:lnTo>
                  <a:lnTo>
                    <a:pt x="286" y="621"/>
                  </a:lnTo>
                  <a:lnTo>
                    <a:pt x="291" y="631"/>
                  </a:lnTo>
                  <a:lnTo>
                    <a:pt x="297" y="640"/>
                  </a:lnTo>
                  <a:lnTo>
                    <a:pt x="303" y="650"/>
                  </a:lnTo>
                  <a:lnTo>
                    <a:pt x="311" y="659"/>
                  </a:lnTo>
                  <a:lnTo>
                    <a:pt x="318" y="668"/>
                  </a:lnTo>
                  <a:lnTo>
                    <a:pt x="326" y="677"/>
                  </a:lnTo>
                  <a:lnTo>
                    <a:pt x="334" y="685"/>
                  </a:lnTo>
                  <a:lnTo>
                    <a:pt x="342" y="692"/>
                  </a:lnTo>
                  <a:lnTo>
                    <a:pt x="351" y="700"/>
                  </a:lnTo>
                  <a:lnTo>
                    <a:pt x="361" y="707"/>
                  </a:lnTo>
                  <a:lnTo>
                    <a:pt x="370" y="713"/>
                  </a:lnTo>
                  <a:lnTo>
                    <a:pt x="380" y="719"/>
                  </a:lnTo>
                  <a:lnTo>
                    <a:pt x="389" y="724"/>
                  </a:lnTo>
                  <a:lnTo>
                    <a:pt x="399" y="728"/>
                  </a:lnTo>
                  <a:lnTo>
                    <a:pt x="410" y="732"/>
                  </a:lnTo>
                  <a:lnTo>
                    <a:pt x="421" y="736"/>
                  </a:lnTo>
                  <a:lnTo>
                    <a:pt x="431" y="738"/>
                  </a:lnTo>
                  <a:lnTo>
                    <a:pt x="442" y="741"/>
                  </a:lnTo>
                  <a:lnTo>
                    <a:pt x="454" y="743"/>
                  </a:lnTo>
                  <a:lnTo>
                    <a:pt x="466" y="744"/>
                  </a:lnTo>
                  <a:lnTo>
                    <a:pt x="477" y="745"/>
                  </a:lnTo>
                  <a:lnTo>
                    <a:pt x="489" y="745"/>
                  </a:lnTo>
                  <a:lnTo>
                    <a:pt x="502" y="745"/>
                  </a:lnTo>
                  <a:lnTo>
                    <a:pt x="514" y="744"/>
                  </a:lnTo>
                  <a:lnTo>
                    <a:pt x="525" y="743"/>
                  </a:lnTo>
                  <a:lnTo>
                    <a:pt x="536" y="741"/>
                  </a:lnTo>
                  <a:lnTo>
                    <a:pt x="548" y="738"/>
                  </a:lnTo>
                  <a:lnTo>
                    <a:pt x="559" y="736"/>
                  </a:lnTo>
                  <a:lnTo>
                    <a:pt x="569" y="732"/>
                  </a:lnTo>
                  <a:lnTo>
                    <a:pt x="579" y="728"/>
                  </a:lnTo>
                  <a:lnTo>
                    <a:pt x="589" y="724"/>
                  </a:lnTo>
                  <a:lnTo>
                    <a:pt x="600" y="719"/>
                  </a:lnTo>
                  <a:lnTo>
                    <a:pt x="609" y="713"/>
                  </a:lnTo>
                  <a:lnTo>
                    <a:pt x="618" y="707"/>
                  </a:lnTo>
                  <a:lnTo>
                    <a:pt x="627" y="699"/>
                  </a:lnTo>
                  <a:lnTo>
                    <a:pt x="636" y="692"/>
                  </a:lnTo>
                  <a:lnTo>
                    <a:pt x="645" y="685"/>
                  </a:lnTo>
                  <a:lnTo>
                    <a:pt x="653" y="676"/>
                  </a:lnTo>
                  <a:lnTo>
                    <a:pt x="661" y="668"/>
                  </a:lnTo>
                  <a:lnTo>
                    <a:pt x="668" y="659"/>
                  </a:lnTo>
                  <a:lnTo>
                    <a:pt x="675" y="649"/>
                  </a:lnTo>
                  <a:lnTo>
                    <a:pt x="682" y="640"/>
                  </a:lnTo>
                  <a:lnTo>
                    <a:pt x="687" y="630"/>
                  </a:lnTo>
                  <a:lnTo>
                    <a:pt x="694" y="621"/>
                  </a:lnTo>
                  <a:lnTo>
                    <a:pt x="698" y="611"/>
                  </a:lnTo>
                  <a:lnTo>
                    <a:pt x="703" y="599"/>
                  </a:lnTo>
                  <a:lnTo>
                    <a:pt x="707" y="589"/>
                  </a:lnTo>
                  <a:lnTo>
                    <a:pt x="710" y="578"/>
                  </a:lnTo>
                  <a:lnTo>
                    <a:pt x="713" y="567"/>
                  </a:lnTo>
                  <a:lnTo>
                    <a:pt x="715" y="556"/>
                  </a:lnTo>
                  <a:lnTo>
                    <a:pt x="717" y="543"/>
                  </a:lnTo>
                  <a:lnTo>
                    <a:pt x="718" y="531"/>
                  </a:lnTo>
                  <a:lnTo>
                    <a:pt x="719" y="519"/>
                  </a:lnTo>
                  <a:lnTo>
                    <a:pt x="719" y="507"/>
                  </a:lnTo>
                  <a:lnTo>
                    <a:pt x="719" y="494"/>
                  </a:lnTo>
                  <a:lnTo>
                    <a:pt x="718" y="482"/>
                  </a:lnTo>
                  <a:lnTo>
                    <a:pt x="717" y="470"/>
                  </a:lnTo>
                  <a:lnTo>
                    <a:pt x="715" y="459"/>
                  </a:lnTo>
                  <a:lnTo>
                    <a:pt x="713" y="447"/>
                  </a:lnTo>
                  <a:lnTo>
                    <a:pt x="710" y="436"/>
                  </a:lnTo>
                  <a:lnTo>
                    <a:pt x="707" y="425"/>
                  </a:lnTo>
                  <a:lnTo>
                    <a:pt x="703" y="414"/>
                  </a:lnTo>
                  <a:lnTo>
                    <a:pt x="698" y="404"/>
                  </a:lnTo>
                  <a:lnTo>
                    <a:pt x="694" y="393"/>
                  </a:lnTo>
                  <a:lnTo>
                    <a:pt x="687" y="383"/>
                  </a:lnTo>
                  <a:lnTo>
                    <a:pt x="682" y="374"/>
                  </a:lnTo>
                  <a:lnTo>
                    <a:pt x="675" y="364"/>
                  </a:lnTo>
                  <a:lnTo>
                    <a:pt x="668" y="355"/>
                  </a:lnTo>
                  <a:lnTo>
                    <a:pt x="661" y="346"/>
                  </a:lnTo>
                  <a:lnTo>
                    <a:pt x="653" y="337"/>
                  </a:lnTo>
                  <a:lnTo>
                    <a:pt x="645" y="329"/>
                  </a:lnTo>
                  <a:lnTo>
                    <a:pt x="636" y="321"/>
                  </a:lnTo>
                  <a:lnTo>
                    <a:pt x="627" y="314"/>
                  </a:lnTo>
                  <a:lnTo>
                    <a:pt x="618" y="307"/>
                  </a:lnTo>
                  <a:lnTo>
                    <a:pt x="609" y="301"/>
                  </a:lnTo>
                  <a:lnTo>
                    <a:pt x="600" y="295"/>
                  </a:lnTo>
                  <a:lnTo>
                    <a:pt x="589" y="290"/>
                  </a:lnTo>
                  <a:lnTo>
                    <a:pt x="579" y="285"/>
                  </a:lnTo>
                  <a:lnTo>
                    <a:pt x="569" y="281"/>
                  </a:lnTo>
                  <a:lnTo>
                    <a:pt x="559" y="278"/>
                  </a:lnTo>
                  <a:lnTo>
                    <a:pt x="548" y="275"/>
                  </a:lnTo>
                  <a:lnTo>
                    <a:pt x="536" y="272"/>
                  </a:lnTo>
                  <a:lnTo>
                    <a:pt x="525" y="271"/>
                  </a:lnTo>
                  <a:lnTo>
                    <a:pt x="514" y="269"/>
                  </a:lnTo>
                  <a:lnTo>
                    <a:pt x="502" y="268"/>
                  </a:lnTo>
                  <a:lnTo>
                    <a:pt x="489" y="268"/>
                  </a:lnTo>
                  <a:close/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600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40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7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2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1" y="372"/>
                  </a:lnTo>
                  <a:lnTo>
                    <a:pt x="967" y="399"/>
                  </a:lnTo>
                  <a:lnTo>
                    <a:pt x="971" y="425"/>
                  </a:lnTo>
                  <a:lnTo>
                    <a:pt x="975" y="453"/>
                  </a:lnTo>
                  <a:lnTo>
                    <a:pt x="977" y="479"/>
                  </a:lnTo>
                  <a:lnTo>
                    <a:pt x="979" y="507"/>
                  </a:lnTo>
                  <a:lnTo>
                    <a:pt x="977" y="535"/>
                  </a:lnTo>
                  <a:lnTo>
                    <a:pt x="975" y="562"/>
                  </a:lnTo>
                  <a:lnTo>
                    <a:pt x="971" y="589"/>
                  </a:lnTo>
                  <a:lnTo>
                    <a:pt x="967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4" y="719"/>
                  </a:lnTo>
                  <a:lnTo>
                    <a:pt x="921" y="743"/>
                  </a:lnTo>
                  <a:lnTo>
                    <a:pt x="909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3" y="835"/>
                  </a:lnTo>
                  <a:lnTo>
                    <a:pt x="846" y="855"/>
                  </a:lnTo>
                  <a:lnTo>
                    <a:pt x="826" y="876"/>
                  </a:lnTo>
                  <a:lnTo>
                    <a:pt x="807" y="895"/>
                  </a:lnTo>
                  <a:lnTo>
                    <a:pt x="791" y="910"/>
                  </a:lnTo>
                  <a:lnTo>
                    <a:pt x="774" y="923"/>
                  </a:lnTo>
                  <a:lnTo>
                    <a:pt x="757" y="935"/>
                  </a:lnTo>
                  <a:lnTo>
                    <a:pt x="739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20" y="997"/>
                  </a:lnTo>
                  <a:lnTo>
                    <a:pt x="599" y="1003"/>
                  </a:lnTo>
                  <a:lnTo>
                    <a:pt x="577" y="1007"/>
                  </a:lnTo>
                  <a:lnTo>
                    <a:pt x="556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6" y="1015"/>
                  </a:lnTo>
                  <a:lnTo>
                    <a:pt x="443" y="1014"/>
                  </a:lnTo>
                  <a:lnTo>
                    <a:pt x="422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8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6" y="976"/>
                  </a:lnTo>
                  <a:lnTo>
                    <a:pt x="276" y="967"/>
                  </a:lnTo>
                  <a:lnTo>
                    <a:pt x="258" y="957"/>
                  </a:lnTo>
                  <a:lnTo>
                    <a:pt x="239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7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5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70" y="769"/>
                  </a:lnTo>
                  <a:lnTo>
                    <a:pt x="56" y="744"/>
                  </a:lnTo>
                  <a:lnTo>
                    <a:pt x="45" y="720"/>
                  </a:lnTo>
                  <a:lnTo>
                    <a:pt x="34" y="694"/>
                  </a:lnTo>
                  <a:lnTo>
                    <a:pt x="26" y="669"/>
                  </a:lnTo>
                  <a:lnTo>
                    <a:pt x="18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8" y="372"/>
                  </a:lnTo>
                  <a:lnTo>
                    <a:pt x="26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6" y="270"/>
                  </a:lnTo>
                  <a:lnTo>
                    <a:pt x="69" y="247"/>
                  </a:lnTo>
                  <a:lnTo>
                    <a:pt x="83" y="223"/>
                  </a:lnTo>
                  <a:lnTo>
                    <a:pt x="98" y="202"/>
                  </a:lnTo>
                  <a:lnTo>
                    <a:pt x="115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7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9" y="68"/>
                  </a:lnTo>
                  <a:lnTo>
                    <a:pt x="258" y="58"/>
                  </a:lnTo>
                  <a:lnTo>
                    <a:pt x="276" y="48"/>
                  </a:lnTo>
                  <a:lnTo>
                    <a:pt x="296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8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2" y="5"/>
                  </a:lnTo>
                  <a:lnTo>
                    <a:pt x="443" y="2"/>
                  </a:lnTo>
                  <a:lnTo>
                    <a:pt x="466" y="1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188040" y="2833560"/>
              <a:ext cx="181080" cy="304920"/>
            </a:xfrm>
            <a:custGeom>
              <a:avLst/>
              <a:gdLst/>
              <a:ahLst/>
              <a:rect l="l" t="t" r="r" b="b"/>
              <a:pathLst>
                <a:path w="568" h="963">
                  <a:moveTo>
                    <a:pt x="0" y="963"/>
                  </a:moveTo>
                  <a:lnTo>
                    <a:pt x="0" y="0"/>
                  </a:lnTo>
                  <a:lnTo>
                    <a:pt x="529" y="0"/>
                  </a:lnTo>
                  <a:lnTo>
                    <a:pt x="568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2400" y="3343320"/>
              <a:ext cx="209520" cy="315720"/>
            </a:xfrm>
            <a:custGeom>
              <a:avLst/>
              <a:gdLst/>
              <a:ahLst/>
              <a:rect l="l" t="t" r="r" b="b"/>
              <a:pathLst>
                <a:path w="658" h="996">
                  <a:moveTo>
                    <a:pt x="638" y="980"/>
                  </a:moveTo>
                  <a:lnTo>
                    <a:pt x="631" y="982"/>
                  </a:lnTo>
                  <a:lnTo>
                    <a:pt x="624" y="984"/>
                  </a:lnTo>
                  <a:lnTo>
                    <a:pt x="617" y="986"/>
                  </a:lnTo>
                  <a:lnTo>
                    <a:pt x="609" y="987"/>
                  </a:lnTo>
                  <a:lnTo>
                    <a:pt x="601" y="989"/>
                  </a:lnTo>
                  <a:lnTo>
                    <a:pt x="594" y="990"/>
                  </a:lnTo>
                  <a:lnTo>
                    <a:pt x="586" y="991"/>
                  </a:lnTo>
                  <a:lnTo>
                    <a:pt x="579" y="992"/>
                  </a:lnTo>
                  <a:lnTo>
                    <a:pt x="571" y="993"/>
                  </a:lnTo>
                  <a:lnTo>
                    <a:pt x="563" y="994"/>
                  </a:lnTo>
                  <a:lnTo>
                    <a:pt x="554" y="995"/>
                  </a:lnTo>
                  <a:lnTo>
                    <a:pt x="545" y="995"/>
                  </a:lnTo>
                  <a:lnTo>
                    <a:pt x="537" y="996"/>
                  </a:lnTo>
                  <a:lnTo>
                    <a:pt x="528" y="996"/>
                  </a:lnTo>
                  <a:lnTo>
                    <a:pt x="519" y="996"/>
                  </a:lnTo>
                  <a:lnTo>
                    <a:pt x="510" y="996"/>
                  </a:lnTo>
                  <a:lnTo>
                    <a:pt x="481" y="996"/>
                  </a:lnTo>
                  <a:lnTo>
                    <a:pt x="454" y="994"/>
                  </a:lnTo>
                  <a:lnTo>
                    <a:pt x="427" y="992"/>
                  </a:lnTo>
                  <a:lnTo>
                    <a:pt x="401" y="988"/>
                  </a:lnTo>
                  <a:lnTo>
                    <a:pt x="376" y="983"/>
                  </a:lnTo>
                  <a:lnTo>
                    <a:pt x="351" y="978"/>
                  </a:lnTo>
                  <a:lnTo>
                    <a:pt x="327" y="971"/>
                  </a:lnTo>
                  <a:lnTo>
                    <a:pt x="303" y="963"/>
                  </a:lnTo>
                  <a:lnTo>
                    <a:pt x="281" y="953"/>
                  </a:lnTo>
                  <a:lnTo>
                    <a:pt x="258" y="943"/>
                  </a:lnTo>
                  <a:lnTo>
                    <a:pt x="237" y="932"/>
                  </a:lnTo>
                  <a:lnTo>
                    <a:pt x="216" y="920"/>
                  </a:lnTo>
                  <a:lnTo>
                    <a:pt x="196" y="907"/>
                  </a:lnTo>
                  <a:lnTo>
                    <a:pt x="177" y="892"/>
                  </a:lnTo>
                  <a:lnTo>
                    <a:pt x="158" y="877"/>
                  </a:lnTo>
                  <a:lnTo>
                    <a:pt x="141" y="861"/>
                  </a:lnTo>
                  <a:lnTo>
                    <a:pt x="124" y="843"/>
                  </a:lnTo>
                  <a:lnTo>
                    <a:pt x="107" y="825"/>
                  </a:lnTo>
                  <a:lnTo>
                    <a:pt x="93" y="807"/>
                  </a:lnTo>
                  <a:lnTo>
                    <a:pt x="79" y="787"/>
                  </a:lnTo>
                  <a:lnTo>
                    <a:pt x="66" y="768"/>
                  </a:lnTo>
                  <a:lnTo>
                    <a:pt x="54" y="746"/>
                  </a:lnTo>
                  <a:lnTo>
                    <a:pt x="44" y="726"/>
                  </a:lnTo>
                  <a:lnTo>
                    <a:pt x="35" y="704"/>
                  </a:lnTo>
                  <a:lnTo>
                    <a:pt x="26" y="681"/>
                  </a:lnTo>
                  <a:lnTo>
                    <a:pt x="19" y="658"/>
                  </a:lnTo>
                  <a:lnTo>
                    <a:pt x="13" y="634"/>
                  </a:lnTo>
                  <a:lnTo>
                    <a:pt x="8" y="610"/>
                  </a:lnTo>
                  <a:lnTo>
                    <a:pt x="4" y="585"/>
                  </a:lnTo>
                  <a:lnTo>
                    <a:pt x="2" y="559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478"/>
                  </a:lnTo>
                  <a:lnTo>
                    <a:pt x="2" y="452"/>
                  </a:lnTo>
                  <a:lnTo>
                    <a:pt x="5" y="426"/>
                  </a:lnTo>
                  <a:lnTo>
                    <a:pt x="8" y="401"/>
                  </a:lnTo>
                  <a:lnTo>
                    <a:pt x="13" y="376"/>
                  </a:lnTo>
                  <a:lnTo>
                    <a:pt x="20" y="352"/>
                  </a:lnTo>
                  <a:lnTo>
                    <a:pt x="28" y="328"/>
                  </a:lnTo>
                  <a:lnTo>
                    <a:pt x="36" y="306"/>
                  </a:lnTo>
                  <a:lnTo>
                    <a:pt x="46" y="283"/>
                  </a:lnTo>
                  <a:lnTo>
                    <a:pt x="56" y="262"/>
                  </a:lnTo>
                  <a:lnTo>
                    <a:pt x="68" y="240"/>
                  </a:lnTo>
                  <a:lnTo>
                    <a:pt x="82" y="220"/>
                  </a:lnTo>
                  <a:lnTo>
                    <a:pt x="96" y="200"/>
                  </a:lnTo>
                  <a:lnTo>
                    <a:pt x="111" y="180"/>
                  </a:lnTo>
                  <a:lnTo>
                    <a:pt x="128" y="162"/>
                  </a:lnTo>
                  <a:lnTo>
                    <a:pt x="146" y="144"/>
                  </a:lnTo>
                  <a:lnTo>
                    <a:pt x="164" y="126"/>
                  </a:lnTo>
                  <a:lnTo>
                    <a:pt x="184" y="110"/>
                  </a:lnTo>
                  <a:lnTo>
                    <a:pt x="203" y="95"/>
                  </a:lnTo>
                  <a:lnTo>
                    <a:pt x="224" y="80"/>
                  </a:lnTo>
                  <a:lnTo>
                    <a:pt x="245" y="68"/>
                  </a:lnTo>
                  <a:lnTo>
                    <a:pt x="266" y="56"/>
                  </a:lnTo>
                  <a:lnTo>
                    <a:pt x="289" y="46"/>
                  </a:lnTo>
                  <a:lnTo>
                    <a:pt x="312" y="35"/>
                  </a:lnTo>
                  <a:lnTo>
                    <a:pt x="336" y="27"/>
                  </a:lnTo>
                  <a:lnTo>
                    <a:pt x="359" y="20"/>
                  </a:lnTo>
                  <a:lnTo>
                    <a:pt x="385" y="14"/>
                  </a:lnTo>
                  <a:lnTo>
                    <a:pt x="410" y="9"/>
                  </a:lnTo>
                  <a:lnTo>
                    <a:pt x="436" y="5"/>
                  </a:lnTo>
                  <a:lnTo>
                    <a:pt x="463" y="3"/>
                  </a:lnTo>
                  <a:lnTo>
                    <a:pt x="490" y="1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31" y="1"/>
                  </a:lnTo>
                  <a:lnTo>
                    <a:pt x="538" y="1"/>
                  </a:lnTo>
                  <a:lnTo>
                    <a:pt x="545" y="1"/>
                  </a:lnTo>
                  <a:lnTo>
                    <a:pt x="552" y="2"/>
                  </a:lnTo>
                  <a:lnTo>
                    <a:pt x="560" y="2"/>
                  </a:lnTo>
                  <a:lnTo>
                    <a:pt x="567" y="3"/>
                  </a:lnTo>
                  <a:lnTo>
                    <a:pt x="574" y="4"/>
                  </a:lnTo>
                  <a:lnTo>
                    <a:pt x="581" y="5"/>
                  </a:lnTo>
                  <a:lnTo>
                    <a:pt x="588" y="6"/>
                  </a:lnTo>
                  <a:lnTo>
                    <a:pt x="595" y="7"/>
                  </a:lnTo>
                  <a:lnTo>
                    <a:pt x="603" y="8"/>
                  </a:lnTo>
                  <a:lnTo>
                    <a:pt x="611" y="9"/>
                  </a:lnTo>
                  <a:lnTo>
                    <a:pt x="619" y="11"/>
                  </a:lnTo>
                  <a:lnTo>
                    <a:pt x="626" y="12"/>
                  </a:lnTo>
                  <a:lnTo>
                    <a:pt x="634" y="14"/>
                  </a:lnTo>
                  <a:lnTo>
                    <a:pt x="647" y="300"/>
                  </a:lnTo>
                  <a:lnTo>
                    <a:pt x="638" y="297"/>
                  </a:lnTo>
                  <a:lnTo>
                    <a:pt x="630" y="292"/>
                  </a:lnTo>
                  <a:lnTo>
                    <a:pt x="622" y="289"/>
                  </a:lnTo>
                  <a:lnTo>
                    <a:pt x="614" y="286"/>
                  </a:lnTo>
                  <a:lnTo>
                    <a:pt x="605" y="284"/>
                  </a:lnTo>
                  <a:lnTo>
                    <a:pt x="596" y="281"/>
                  </a:lnTo>
                  <a:lnTo>
                    <a:pt x="588" y="279"/>
                  </a:lnTo>
                  <a:lnTo>
                    <a:pt x="580" y="277"/>
                  </a:lnTo>
                  <a:lnTo>
                    <a:pt x="572" y="275"/>
                  </a:lnTo>
                  <a:lnTo>
                    <a:pt x="564" y="274"/>
                  </a:lnTo>
                  <a:lnTo>
                    <a:pt x="555" y="273"/>
                  </a:lnTo>
                  <a:lnTo>
                    <a:pt x="547" y="272"/>
                  </a:lnTo>
                  <a:lnTo>
                    <a:pt x="539" y="271"/>
                  </a:lnTo>
                  <a:lnTo>
                    <a:pt x="531" y="270"/>
                  </a:lnTo>
                  <a:lnTo>
                    <a:pt x="523" y="270"/>
                  </a:lnTo>
                  <a:lnTo>
                    <a:pt x="516" y="270"/>
                  </a:lnTo>
                  <a:lnTo>
                    <a:pt x="488" y="271"/>
                  </a:lnTo>
                  <a:lnTo>
                    <a:pt x="462" y="274"/>
                  </a:lnTo>
                  <a:lnTo>
                    <a:pt x="448" y="276"/>
                  </a:lnTo>
                  <a:lnTo>
                    <a:pt x="436" y="279"/>
                  </a:lnTo>
                  <a:lnTo>
                    <a:pt x="424" y="282"/>
                  </a:lnTo>
                  <a:lnTo>
                    <a:pt x="413" y="286"/>
                  </a:lnTo>
                  <a:lnTo>
                    <a:pt x="401" y="290"/>
                  </a:lnTo>
                  <a:lnTo>
                    <a:pt x="390" y="296"/>
                  </a:lnTo>
                  <a:lnTo>
                    <a:pt x="380" y="301"/>
                  </a:lnTo>
                  <a:lnTo>
                    <a:pt x="369" y="306"/>
                  </a:lnTo>
                  <a:lnTo>
                    <a:pt x="358" y="312"/>
                  </a:lnTo>
                  <a:lnTo>
                    <a:pt x="349" y="319"/>
                  </a:lnTo>
                  <a:lnTo>
                    <a:pt x="340" y="326"/>
                  </a:lnTo>
                  <a:lnTo>
                    <a:pt x="331" y="333"/>
                  </a:lnTo>
                  <a:lnTo>
                    <a:pt x="322" y="342"/>
                  </a:lnTo>
                  <a:lnTo>
                    <a:pt x="313" y="351"/>
                  </a:lnTo>
                  <a:lnTo>
                    <a:pt x="306" y="359"/>
                  </a:lnTo>
                  <a:lnTo>
                    <a:pt x="299" y="368"/>
                  </a:lnTo>
                  <a:lnTo>
                    <a:pt x="293" y="377"/>
                  </a:lnTo>
                  <a:lnTo>
                    <a:pt x="287" y="386"/>
                  </a:lnTo>
                  <a:lnTo>
                    <a:pt x="282" y="397"/>
                  </a:lnTo>
                  <a:lnTo>
                    <a:pt x="277" y="407"/>
                  </a:lnTo>
                  <a:lnTo>
                    <a:pt x="273" y="417"/>
                  </a:lnTo>
                  <a:lnTo>
                    <a:pt x="270" y="427"/>
                  </a:lnTo>
                  <a:lnTo>
                    <a:pt x="265" y="438"/>
                  </a:lnTo>
                  <a:lnTo>
                    <a:pt x="263" y="450"/>
                  </a:lnTo>
                  <a:lnTo>
                    <a:pt x="261" y="461"/>
                  </a:lnTo>
                  <a:lnTo>
                    <a:pt x="260" y="472"/>
                  </a:lnTo>
                  <a:lnTo>
                    <a:pt x="259" y="484"/>
                  </a:lnTo>
                  <a:lnTo>
                    <a:pt x="259" y="496"/>
                  </a:lnTo>
                  <a:lnTo>
                    <a:pt x="259" y="509"/>
                  </a:lnTo>
                  <a:lnTo>
                    <a:pt x="260" y="521"/>
                  </a:lnTo>
                  <a:lnTo>
                    <a:pt x="261" y="532"/>
                  </a:lnTo>
                  <a:lnTo>
                    <a:pt x="263" y="543"/>
                  </a:lnTo>
                  <a:lnTo>
                    <a:pt x="265" y="555"/>
                  </a:lnTo>
                  <a:lnTo>
                    <a:pt x="269" y="566"/>
                  </a:lnTo>
                  <a:lnTo>
                    <a:pt x="273" y="576"/>
                  </a:lnTo>
                  <a:lnTo>
                    <a:pt x="277" y="586"/>
                  </a:lnTo>
                  <a:lnTo>
                    <a:pt x="282" y="596"/>
                  </a:lnTo>
                  <a:lnTo>
                    <a:pt x="287" y="607"/>
                  </a:lnTo>
                  <a:lnTo>
                    <a:pt x="292" y="616"/>
                  </a:lnTo>
                  <a:lnTo>
                    <a:pt x="299" y="626"/>
                  </a:lnTo>
                  <a:lnTo>
                    <a:pt x="305" y="635"/>
                  </a:lnTo>
                  <a:lnTo>
                    <a:pt x="313" y="643"/>
                  </a:lnTo>
                  <a:lnTo>
                    <a:pt x="322" y="653"/>
                  </a:lnTo>
                  <a:lnTo>
                    <a:pt x="330" y="661"/>
                  </a:lnTo>
                  <a:lnTo>
                    <a:pt x="339" y="669"/>
                  </a:lnTo>
                  <a:lnTo>
                    <a:pt x="348" y="676"/>
                  </a:lnTo>
                  <a:lnTo>
                    <a:pt x="357" y="683"/>
                  </a:lnTo>
                  <a:lnTo>
                    <a:pt x="368" y="689"/>
                  </a:lnTo>
                  <a:lnTo>
                    <a:pt x="378" y="695"/>
                  </a:lnTo>
                  <a:lnTo>
                    <a:pt x="388" y="701"/>
                  </a:lnTo>
                  <a:lnTo>
                    <a:pt x="398" y="706"/>
                  </a:lnTo>
                  <a:lnTo>
                    <a:pt x="409" y="711"/>
                  </a:lnTo>
                  <a:lnTo>
                    <a:pt x="421" y="714"/>
                  </a:lnTo>
                  <a:lnTo>
                    <a:pt x="432" y="718"/>
                  </a:lnTo>
                  <a:lnTo>
                    <a:pt x="444" y="720"/>
                  </a:lnTo>
                  <a:lnTo>
                    <a:pt x="456" y="723"/>
                  </a:lnTo>
                  <a:lnTo>
                    <a:pt x="469" y="725"/>
                  </a:lnTo>
                  <a:lnTo>
                    <a:pt x="481" y="726"/>
                  </a:lnTo>
                  <a:lnTo>
                    <a:pt x="494" y="727"/>
                  </a:lnTo>
                  <a:lnTo>
                    <a:pt x="506" y="727"/>
                  </a:lnTo>
                  <a:lnTo>
                    <a:pt x="517" y="727"/>
                  </a:lnTo>
                  <a:lnTo>
                    <a:pt x="526" y="726"/>
                  </a:lnTo>
                  <a:lnTo>
                    <a:pt x="535" y="725"/>
                  </a:lnTo>
                  <a:lnTo>
                    <a:pt x="545" y="724"/>
                  </a:lnTo>
                  <a:lnTo>
                    <a:pt x="554" y="723"/>
                  </a:lnTo>
                  <a:lnTo>
                    <a:pt x="564" y="721"/>
                  </a:lnTo>
                  <a:lnTo>
                    <a:pt x="573" y="719"/>
                  </a:lnTo>
                  <a:lnTo>
                    <a:pt x="583" y="717"/>
                  </a:lnTo>
                  <a:lnTo>
                    <a:pt x="592" y="715"/>
                  </a:lnTo>
                  <a:lnTo>
                    <a:pt x="601" y="712"/>
                  </a:lnTo>
                  <a:lnTo>
                    <a:pt x="611" y="709"/>
                  </a:lnTo>
                  <a:lnTo>
                    <a:pt x="620" y="705"/>
                  </a:lnTo>
                  <a:lnTo>
                    <a:pt x="629" y="701"/>
                  </a:lnTo>
                  <a:lnTo>
                    <a:pt x="638" y="697"/>
                  </a:lnTo>
                  <a:lnTo>
                    <a:pt x="648" y="692"/>
                  </a:lnTo>
                  <a:lnTo>
                    <a:pt x="658" y="688"/>
                  </a:lnTo>
                  <a:lnTo>
                    <a:pt x="638" y="98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591000" y="3348000"/>
              <a:ext cx="296640" cy="306360"/>
            </a:xfrm>
            <a:custGeom>
              <a:avLst/>
              <a:gdLst/>
              <a:ahLst/>
              <a:rect l="l" t="t" r="r" b="b"/>
              <a:pathLst>
                <a:path w="938" h="964">
                  <a:moveTo>
                    <a:pt x="366" y="615"/>
                  </a:moveTo>
                  <a:lnTo>
                    <a:pt x="565" y="615"/>
                  </a:lnTo>
                  <a:lnTo>
                    <a:pt x="466" y="290"/>
                  </a:lnTo>
                  <a:lnTo>
                    <a:pt x="366" y="615"/>
                  </a:lnTo>
                  <a:close/>
                  <a:moveTo>
                    <a:pt x="0" y="964"/>
                  </a:moveTo>
                  <a:lnTo>
                    <a:pt x="337" y="0"/>
                  </a:lnTo>
                  <a:lnTo>
                    <a:pt x="619" y="0"/>
                  </a:lnTo>
                  <a:lnTo>
                    <a:pt x="938" y="964"/>
                  </a:lnTo>
                  <a:lnTo>
                    <a:pt x="673" y="964"/>
                  </a:lnTo>
                  <a:lnTo>
                    <a:pt x="638" y="856"/>
                  </a:lnTo>
                  <a:lnTo>
                    <a:pt x="297" y="856"/>
                  </a:lnTo>
                  <a:lnTo>
                    <a:pt x="259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911760" y="334476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8" y="981"/>
                  </a:moveTo>
                  <a:lnTo>
                    <a:pt x="12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0" y="732"/>
                  </a:lnTo>
                  <a:lnTo>
                    <a:pt x="66" y="733"/>
                  </a:lnTo>
                  <a:lnTo>
                    <a:pt x="72" y="735"/>
                  </a:lnTo>
                  <a:lnTo>
                    <a:pt x="78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9" y="739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1" y="731"/>
                  </a:lnTo>
                  <a:lnTo>
                    <a:pt x="168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9" y="701"/>
                  </a:lnTo>
                  <a:lnTo>
                    <a:pt x="203" y="693"/>
                  </a:lnTo>
                  <a:lnTo>
                    <a:pt x="205" y="687"/>
                  </a:lnTo>
                  <a:lnTo>
                    <a:pt x="207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5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8" y="587"/>
                  </a:lnTo>
                  <a:lnTo>
                    <a:pt x="154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5" y="545"/>
                  </a:lnTo>
                  <a:lnTo>
                    <a:pt x="120" y="540"/>
                  </a:lnTo>
                  <a:lnTo>
                    <a:pt x="115" y="535"/>
                  </a:lnTo>
                  <a:lnTo>
                    <a:pt x="111" y="531"/>
                  </a:lnTo>
                  <a:lnTo>
                    <a:pt x="107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6" y="494"/>
                  </a:lnTo>
                  <a:lnTo>
                    <a:pt x="65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4" y="414"/>
                  </a:lnTo>
                  <a:lnTo>
                    <a:pt x="19" y="401"/>
                  </a:lnTo>
                  <a:lnTo>
                    <a:pt x="14" y="386"/>
                  </a:lnTo>
                  <a:lnTo>
                    <a:pt x="10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3" y="206"/>
                  </a:lnTo>
                  <a:lnTo>
                    <a:pt x="17" y="192"/>
                  </a:lnTo>
                  <a:lnTo>
                    <a:pt x="23" y="178"/>
                  </a:lnTo>
                  <a:lnTo>
                    <a:pt x="28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0" y="116"/>
                  </a:lnTo>
                  <a:lnTo>
                    <a:pt x="69" y="105"/>
                  </a:lnTo>
                  <a:lnTo>
                    <a:pt x="80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4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0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7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8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59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2" y="4"/>
                  </a:lnTo>
                  <a:lnTo>
                    <a:pt x="411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4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0" y="234"/>
                  </a:lnTo>
                  <a:lnTo>
                    <a:pt x="404" y="233"/>
                  </a:lnTo>
                  <a:lnTo>
                    <a:pt x="398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59" y="232"/>
                  </a:lnTo>
                  <a:lnTo>
                    <a:pt x="349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3" y="243"/>
                  </a:lnTo>
                  <a:lnTo>
                    <a:pt x="315" y="247"/>
                  </a:lnTo>
                  <a:lnTo>
                    <a:pt x="309" y="251"/>
                  </a:lnTo>
                  <a:lnTo>
                    <a:pt x="303" y="256"/>
                  </a:lnTo>
                  <a:lnTo>
                    <a:pt x="298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1" y="351"/>
                  </a:lnTo>
                  <a:lnTo>
                    <a:pt x="310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3" y="402"/>
                  </a:lnTo>
                  <a:lnTo>
                    <a:pt x="359" y="408"/>
                  </a:lnTo>
                  <a:lnTo>
                    <a:pt x="365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6" y="437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5" y="490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4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8" y="650"/>
                  </a:lnTo>
                  <a:lnTo>
                    <a:pt x="509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8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2" y="799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6" y="866"/>
                  </a:lnTo>
                  <a:lnTo>
                    <a:pt x="447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4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1" y="947"/>
                  </a:lnTo>
                  <a:lnTo>
                    <a:pt x="347" y="954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300" y="973"/>
                  </a:lnTo>
                  <a:lnTo>
                    <a:pt x="283" y="978"/>
                  </a:lnTo>
                  <a:lnTo>
                    <a:pt x="265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09" y="990"/>
                  </a:lnTo>
                  <a:lnTo>
                    <a:pt x="190" y="992"/>
                  </a:lnTo>
                  <a:lnTo>
                    <a:pt x="169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2" y="992"/>
                  </a:lnTo>
                  <a:lnTo>
                    <a:pt x="114" y="992"/>
                  </a:lnTo>
                  <a:lnTo>
                    <a:pt x="106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8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106880" y="3348000"/>
              <a:ext cx="206280" cy="31428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8" y="617"/>
                  </a:lnTo>
                  <a:lnTo>
                    <a:pt x="648" y="648"/>
                  </a:lnTo>
                  <a:lnTo>
                    <a:pt x="646" y="676"/>
                  </a:lnTo>
                  <a:lnTo>
                    <a:pt x="644" y="702"/>
                  </a:lnTo>
                  <a:lnTo>
                    <a:pt x="641" y="726"/>
                  </a:lnTo>
                  <a:lnTo>
                    <a:pt x="638" y="749"/>
                  </a:lnTo>
                  <a:lnTo>
                    <a:pt x="634" y="769"/>
                  </a:lnTo>
                  <a:lnTo>
                    <a:pt x="630" y="786"/>
                  </a:lnTo>
                  <a:lnTo>
                    <a:pt x="625" y="804"/>
                  </a:lnTo>
                  <a:lnTo>
                    <a:pt x="619" y="819"/>
                  </a:lnTo>
                  <a:lnTo>
                    <a:pt x="611" y="834"/>
                  </a:lnTo>
                  <a:lnTo>
                    <a:pt x="604" y="850"/>
                  </a:lnTo>
                  <a:lnTo>
                    <a:pt x="596" y="864"/>
                  </a:lnTo>
                  <a:lnTo>
                    <a:pt x="586" y="877"/>
                  </a:lnTo>
                  <a:lnTo>
                    <a:pt x="577" y="889"/>
                  </a:lnTo>
                  <a:lnTo>
                    <a:pt x="565" y="902"/>
                  </a:lnTo>
                  <a:lnTo>
                    <a:pt x="555" y="912"/>
                  </a:lnTo>
                  <a:lnTo>
                    <a:pt x="544" y="922"/>
                  </a:lnTo>
                  <a:lnTo>
                    <a:pt x="532" y="930"/>
                  </a:lnTo>
                  <a:lnTo>
                    <a:pt x="519" y="939"/>
                  </a:lnTo>
                  <a:lnTo>
                    <a:pt x="506" y="947"/>
                  </a:lnTo>
                  <a:lnTo>
                    <a:pt x="493" y="954"/>
                  </a:lnTo>
                  <a:lnTo>
                    <a:pt x="478" y="961"/>
                  </a:lnTo>
                  <a:lnTo>
                    <a:pt x="462" y="967"/>
                  </a:lnTo>
                  <a:lnTo>
                    <a:pt x="446" y="972"/>
                  </a:lnTo>
                  <a:lnTo>
                    <a:pt x="430" y="977"/>
                  </a:lnTo>
                  <a:lnTo>
                    <a:pt x="413" y="981"/>
                  </a:lnTo>
                  <a:lnTo>
                    <a:pt x="396" y="984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4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4"/>
                  </a:lnTo>
                  <a:lnTo>
                    <a:pt x="236" y="981"/>
                  </a:lnTo>
                  <a:lnTo>
                    <a:pt x="219" y="977"/>
                  </a:lnTo>
                  <a:lnTo>
                    <a:pt x="203" y="972"/>
                  </a:lnTo>
                  <a:lnTo>
                    <a:pt x="187" y="967"/>
                  </a:lnTo>
                  <a:lnTo>
                    <a:pt x="171" y="961"/>
                  </a:lnTo>
                  <a:lnTo>
                    <a:pt x="157" y="954"/>
                  </a:lnTo>
                  <a:lnTo>
                    <a:pt x="143" y="947"/>
                  </a:lnTo>
                  <a:lnTo>
                    <a:pt x="129" y="939"/>
                  </a:lnTo>
                  <a:lnTo>
                    <a:pt x="117" y="930"/>
                  </a:lnTo>
                  <a:lnTo>
                    <a:pt x="106" y="922"/>
                  </a:lnTo>
                  <a:lnTo>
                    <a:pt x="95" y="912"/>
                  </a:lnTo>
                  <a:lnTo>
                    <a:pt x="84" y="902"/>
                  </a:lnTo>
                  <a:lnTo>
                    <a:pt x="73" y="889"/>
                  </a:lnTo>
                  <a:lnTo>
                    <a:pt x="63" y="876"/>
                  </a:lnTo>
                  <a:lnTo>
                    <a:pt x="54" y="863"/>
                  </a:lnTo>
                  <a:lnTo>
                    <a:pt x="46" y="849"/>
                  </a:lnTo>
                  <a:lnTo>
                    <a:pt x="37" y="833"/>
                  </a:lnTo>
                  <a:lnTo>
                    <a:pt x="30" y="818"/>
                  </a:lnTo>
                  <a:lnTo>
                    <a:pt x="24" y="802"/>
                  </a:lnTo>
                  <a:lnTo>
                    <a:pt x="19" y="785"/>
                  </a:lnTo>
                  <a:lnTo>
                    <a:pt x="15" y="767"/>
                  </a:lnTo>
                  <a:lnTo>
                    <a:pt x="11" y="747"/>
                  </a:lnTo>
                  <a:lnTo>
                    <a:pt x="7" y="725"/>
                  </a:lnTo>
                  <a:lnTo>
                    <a:pt x="5" y="701"/>
                  </a:lnTo>
                  <a:lnTo>
                    <a:pt x="3" y="674"/>
                  </a:lnTo>
                  <a:lnTo>
                    <a:pt x="1" y="647"/>
                  </a:lnTo>
                  <a:lnTo>
                    <a:pt x="0" y="616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583"/>
                  </a:lnTo>
                  <a:lnTo>
                    <a:pt x="251" y="604"/>
                  </a:lnTo>
                  <a:lnTo>
                    <a:pt x="252" y="621"/>
                  </a:lnTo>
                  <a:lnTo>
                    <a:pt x="253" y="639"/>
                  </a:lnTo>
                  <a:lnTo>
                    <a:pt x="255" y="653"/>
                  </a:lnTo>
                  <a:lnTo>
                    <a:pt x="257" y="666"/>
                  </a:lnTo>
                  <a:lnTo>
                    <a:pt x="260" y="678"/>
                  </a:lnTo>
                  <a:lnTo>
                    <a:pt x="263" y="689"/>
                  </a:lnTo>
                  <a:lnTo>
                    <a:pt x="267" y="698"/>
                  </a:lnTo>
                  <a:lnTo>
                    <a:pt x="272" y="705"/>
                  </a:lnTo>
                  <a:lnTo>
                    <a:pt x="277" y="712"/>
                  </a:lnTo>
                  <a:lnTo>
                    <a:pt x="284" y="717"/>
                  </a:lnTo>
                  <a:lnTo>
                    <a:pt x="291" y="722"/>
                  </a:lnTo>
                  <a:lnTo>
                    <a:pt x="298" y="725"/>
                  </a:lnTo>
                  <a:lnTo>
                    <a:pt x="306" y="728"/>
                  </a:lnTo>
                  <a:lnTo>
                    <a:pt x="315" y="729"/>
                  </a:lnTo>
                  <a:lnTo>
                    <a:pt x="324" y="729"/>
                  </a:lnTo>
                  <a:lnTo>
                    <a:pt x="335" y="729"/>
                  </a:lnTo>
                  <a:lnTo>
                    <a:pt x="344" y="728"/>
                  </a:lnTo>
                  <a:lnTo>
                    <a:pt x="352" y="725"/>
                  </a:lnTo>
                  <a:lnTo>
                    <a:pt x="359" y="721"/>
                  </a:lnTo>
                  <a:lnTo>
                    <a:pt x="366" y="717"/>
                  </a:lnTo>
                  <a:lnTo>
                    <a:pt x="372" y="711"/>
                  </a:lnTo>
                  <a:lnTo>
                    <a:pt x="378" y="705"/>
                  </a:lnTo>
                  <a:lnTo>
                    <a:pt x="383" y="697"/>
                  </a:lnTo>
                  <a:lnTo>
                    <a:pt x="386" y="689"/>
                  </a:lnTo>
                  <a:lnTo>
                    <a:pt x="390" y="677"/>
                  </a:lnTo>
                  <a:lnTo>
                    <a:pt x="393" y="666"/>
                  </a:lnTo>
                  <a:lnTo>
                    <a:pt x="395" y="652"/>
                  </a:lnTo>
                  <a:lnTo>
                    <a:pt x="397" y="638"/>
                  </a:lnTo>
                  <a:lnTo>
                    <a:pt x="398" y="621"/>
                  </a:lnTo>
                  <a:lnTo>
                    <a:pt x="399" y="603"/>
                  </a:lnTo>
                  <a:lnTo>
                    <a:pt x="399" y="58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332240" y="3348000"/>
              <a:ext cx="297000" cy="306360"/>
            </a:xfrm>
            <a:custGeom>
              <a:avLst/>
              <a:gdLst/>
              <a:ahLst/>
              <a:rect l="l" t="t" r="r" b="b"/>
              <a:pathLst>
                <a:path w="939" h="964">
                  <a:moveTo>
                    <a:pt x="368" y="615"/>
                  </a:moveTo>
                  <a:lnTo>
                    <a:pt x="566" y="615"/>
                  </a:lnTo>
                  <a:lnTo>
                    <a:pt x="466" y="290"/>
                  </a:lnTo>
                  <a:lnTo>
                    <a:pt x="368" y="615"/>
                  </a:lnTo>
                  <a:close/>
                  <a:moveTo>
                    <a:pt x="0" y="964"/>
                  </a:moveTo>
                  <a:lnTo>
                    <a:pt x="337" y="0"/>
                  </a:lnTo>
                  <a:lnTo>
                    <a:pt x="620" y="0"/>
                  </a:lnTo>
                  <a:lnTo>
                    <a:pt x="939" y="964"/>
                  </a:lnTo>
                  <a:lnTo>
                    <a:pt x="674" y="964"/>
                  </a:lnTo>
                  <a:lnTo>
                    <a:pt x="639" y="856"/>
                  </a:lnTo>
                  <a:lnTo>
                    <a:pt x="298" y="856"/>
                  </a:lnTo>
                  <a:lnTo>
                    <a:pt x="261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65768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7" h="964">
                  <a:moveTo>
                    <a:pt x="607" y="699"/>
                  </a:moveTo>
                  <a:lnTo>
                    <a:pt x="529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699"/>
                  </a:lnTo>
                  <a:lnTo>
                    <a:pt x="607" y="6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987800" y="3344760"/>
              <a:ext cx="162000" cy="314280"/>
            </a:xfrm>
            <a:custGeom>
              <a:avLst/>
              <a:gdLst/>
              <a:ahLst/>
              <a:rect l="l" t="t" r="r" b="b"/>
              <a:pathLst>
                <a:path w="511" h="993">
                  <a:moveTo>
                    <a:pt x="19" y="981"/>
                  </a:moveTo>
                  <a:lnTo>
                    <a:pt x="13" y="716"/>
                  </a:lnTo>
                  <a:lnTo>
                    <a:pt x="20" y="719"/>
                  </a:lnTo>
                  <a:lnTo>
                    <a:pt x="27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1" y="732"/>
                  </a:lnTo>
                  <a:lnTo>
                    <a:pt x="67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10" y="739"/>
                  </a:lnTo>
                  <a:lnTo>
                    <a:pt x="116" y="740"/>
                  </a:lnTo>
                  <a:lnTo>
                    <a:pt x="126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2" y="731"/>
                  </a:lnTo>
                  <a:lnTo>
                    <a:pt x="169" y="728"/>
                  </a:lnTo>
                  <a:lnTo>
                    <a:pt x="177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5" y="707"/>
                  </a:lnTo>
                  <a:lnTo>
                    <a:pt x="199" y="701"/>
                  </a:lnTo>
                  <a:lnTo>
                    <a:pt x="204" y="693"/>
                  </a:lnTo>
                  <a:lnTo>
                    <a:pt x="206" y="687"/>
                  </a:lnTo>
                  <a:lnTo>
                    <a:pt x="208" y="680"/>
                  </a:lnTo>
                  <a:lnTo>
                    <a:pt x="210" y="672"/>
                  </a:lnTo>
                  <a:lnTo>
                    <a:pt x="210" y="664"/>
                  </a:lnTo>
                  <a:lnTo>
                    <a:pt x="209" y="654"/>
                  </a:lnTo>
                  <a:lnTo>
                    <a:pt x="206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2" y="602"/>
                  </a:lnTo>
                  <a:lnTo>
                    <a:pt x="169" y="587"/>
                  </a:lnTo>
                  <a:lnTo>
                    <a:pt x="155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6" y="545"/>
                  </a:lnTo>
                  <a:lnTo>
                    <a:pt x="121" y="540"/>
                  </a:lnTo>
                  <a:lnTo>
                    <a:pt x="117" y="535"/>
                  </a:lnTo>
                  <a:lnTo>
                    <a:pt x="112" y="531"/>
                  </a:lnTo>
                  <a:lnTo>
                    <a:pt x="108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7" y="494"/>
                  </a:lnTo>
                  <a:lnTo>
                    <a:pt x="66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5" y="414"/>
                  </a:lnTo>
                  <a:lnTo>
                    <a:pt x="20" y="401"/>
                  </a:lnTo>
                  <a:lnTo>
                    <a:pt x="15" y="386"/>
                  </a:lnTo>
                  <a:lnTo>
                    <a:pt x="11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4" y="206"/>
                  </a:lnTo>
                  <a:lnTo>
                    <a:pt x="18" y="192"/>
                  </a:lnTo>
                  <a:lnTo>
                    <a:pt x="24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1" y="116"/>
                  </a:lnTo>
                  <a:lnTo>
                    <a:pt x="70" y="105"/>
                  </a:lnTo>
                  <a:lnTo>
                    <a:pt x="81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5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8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1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8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50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3" y="4"/>
                  </a:lnTo>
                  <a:lnTo>
                    <a:pt x="413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2" y="13"/>
                  </a:lnTo>
                  <a:lnTo>
                    <a:pt x="461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9" y="249"/>
                  </a:lnTo>
                  <a:lnTo>
                    <a:pt x="452" y="247"/>
                  </a:lnTo>
                  <a:lnTo>
                    <a:pt x="445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1" y="234"/>
                  </a:lnTo>
                  <a:lnTo>
                    <a:pt x="405" y="233"/>
                  </a:lnTo>
                  <a:lnTo>
                    <a:pt x="399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60" y="232"/>
                  </a:lnTo>
                  <a:lnTo>
                    <a:pt x="350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4" y="243"/>
                  </a:lnTo>
                  <a:lnTo>
                    <a:pt x="316" y="247"/>
                  </a:lnTo>
                  <a:lnTo>
                    <a:pt x="310" y="251"/>
                  </a:lnTo>
                  <a:lnTo>
                    <a:pt x="304" y="256"/>
                  </a:lnTo>
                  <a:lnTo>
                    <a:pt x="299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2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4" y="402"/>
                  </a:lnTo>
                  <a:lnTo>
                    <a:pt x="360" y="408"/>
                  </a:lnTo>
                  <a:lnTo>
                    <a:pt x="367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7" y="437"/>
                  </a:lnTo>
                  <a:lnTo>
                    <a:pt x="410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6" y="490"/>
                  </a:lnTo>
                  <a:lnTo>
                    <a:pt x="456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5" y="582"/>
                  </a:lnTo>
                  <a:lnTo>
                    <a:pt x="500" y="599"/>
                  </a:lnTo>
                  <a:lnTo>
                    <a:pt x="504" y="615"/>
                  </a:lnTo>
                  <a:lnTo>
                    <a:pt x="507" y="632"/>
                  </a:lnTo>
                  <a:lnTo>
                    <a:pt x="509" y="650"/>
                  </a:lnTo>
                  <a:lnTo>
                    <a:pt x="511" y="667"/>
                  </a:lnTo>
                  <a:lnTo>
                    <a:pt x="511" y="684"/>
                  </a:lnTo>
                  <a:lnTo>
                    <a:pt x="511" y="703"/>
                  </a:lnTo>
                  <a:lnTo>
                    <a:pt x="509" y="720"/>
                  </a:lnTo>
                  <a:lnTo>
                    <a:pt x="508" y="736"/>
                  </a:lnTo>
                  <a:lnTo>
                    <a:pt x="505" y="753"/>
                  </a:lnTo>
                  <a:lnTo>
                    <a:pt x="502" y="769"/>
                  </a:lnTo>
                  <a:lnTo>
                    <a:pt x="498" y="784"/>
                  </a:lnTo>
                  <a:lnTo>
                    <a:pt x="493" y="799"/>
                  </a:lnTo>
                  <a:lnTo>
                    <a:pt x="487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7" y="866"/>
                  </a:lnTo>
                  <a:lnTo>
                    <a:pt x="448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5" y="911"/>
                  </a:lnTo>
                  <a:lnTo>
                    <a:pt x="403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3" y="947"/>
                  </a:lnTo>
                  <a:lnTo>
                    <a:pt x="348" y="954"/>
                  </a:lnTo>
                  <a:lnTo>
                    <a:pt x="332" y="962"/>
                  </a:lnTo>
                  <a:lnTo>
                    <a:pt x="317" y="968"/>
                  </a:lnTo>
                  <a:lnTo>
                    <a:pt x="301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8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90" y="992"/>
                  </a:lnTo>
                  <a:lnTo>
                    <a:pt x="170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3" y="992"/>
                  </a:lnTo>
                  <a:lnTo>
                    <a:pt x="115" y="992"/>
                  </a:lnTo>
                  <a:lnTo>
                    <a:pt x="107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4" y="989"/>
                  </a:lnTo>
                  <a:lnTo>
                    <a:pt x="66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7" y="982"/>
                  </a:lnTo>
                  <a:lnTo>
                    <a:pt x="19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18472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3" h="964">
                  <a:moveTo>
                    <a:pt x="603" y="699"/>
                  </a:moveTo>
                  <a:lnTo>
                    <a:pt x="535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4" y="257"/>
                  </a:lnTo>
                  <a:lnTo>
                    <a:pt x="249" y="257"/>
                  </a:lnTo>
                  <a:lnTo>
                    <a:pt x="249" y="355"/>
                  </a:lnTo>
                  <a:lnTo>
                    <a:pt x="467" y="355"/>
                  </a:lnTo>
                  <a:lnTo>
                    <a:pt x="467" y="609"/>
                  </a:lnTo>
                  <a:lnTo>
                    <a:pt x="249" y="609"/>
                  </a:lnTo>
                  <a:lnTo>
                    <a:pt x="249" y="699"/>
                  </a:lnTo>
                  <a:lnTo>
                    <a:pt x="603" y="6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381640" y="3348000"/>
              <a:ext cx="266760" cy="306360"/>
            </a:xfrm>
            <a:custGeom>
              <a:avLst/>
              <a:gdLst/>
              <a:ahLst/>
              <a:rect l="l" t="t" r="r" b="b"/>
              <a:pathLst>
                <a:path w="841" h="964">
                  <a:moveTo>
                    <a:pt x="0" y="964"/>
                  </a:moveTo>
                  <a:lnTo>
                    <a:pt x="278" y="477"/>
                  </a:lnTo>
                  <a:lnTo>
                    <a:pt x="16" y="0"/>
                  </a:lnTo>
                  <a:lnTo>
                    <a:pt x="296" y="0"/>
                  </a:lnTo>
                  <a:lnTo>
                    <a:pt x="423" y="269"/>
                  </a:lnTo>
                  <a:lnTo>
                    <a:pt x="551" y="0"/>
                  </a:lnTo>
                  <a:lnTo>
                    <a:pt x="837" y="0"/>
                  </a:lnTo>
                  <a:lnTo>
                    <a:pt x="566" y="480"/>
                  </a:lnTo>
                  <a:lnTo>
                    <a:pt x="841" y="964"/>
                  </a:lnTo>
                  <a:lnTo>
                    <a:pt x="556" y="964"/>
                  </a:lnTo>
                  <a:lnTo>
                    <a:pt x="424" y="693"/>
                  </a:lnTo>
                  <a:lnTo>
                    <a:pt x="292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646600" y="3341520"/>
              <a:ext cx="155880" cy="312840"/>
            </a:xfrm>
            <a:custGeom>
              <a:avLst/>
              <a:gdLst/>
              <a:ahLst/>
              <a:rect l="l" t="t" r="r" b="b"/>
              <a:pathLst>
                <a:path w="489" h="987">
                  <a:moveTo>
                    <a:pt x="139" y="684"/>
                  </a:moveTo>
                  <a:lnTo>
                    <a:pt x="139" y="543"/>
                  </a:lnTo>
                  <a:lnTo>
                    <a:pt x="140" y="534"/>
                  </a:lnTo>
                  <a:lnTo>
                    <a:pt x="140" y="525"/>
                  </a:lnTo>
                  <a:lnTo>
                    <a:pt x="140" y="516"/>
                  </a:lnTo>
                  <a:lnTo>
                    <a:pt x="141" y="507"/>
                  </a:lnTo>
                  <a:lnTo>
                    <a:pt x="142" y="498"/>
                  </a:lnTo>
                  <a:lnTo>
                    <a:pt x="143" y="490"/>
                  </a:lnTo>
                  <a:lnTo>
                    <a:pt x="145" y="482"/>
                  </a:lnTo>
                  <a:lnTo>
                    <a:pt x="148" y="475"/>
                  </a:lnTo>
                  <a:lnTo>
                    <a:pt x="149" y="467"/>
                  </a:lnTo>
                  <a:lnTo>
                    <a:pt x="152" y="460"/>
                  </a:lnTo>
                  <a:lnTo>
                    <a:pt x="154" y="452"/>
                  </a:lnTo>
                  <a:lnTo>
                    <a:pt x="157" y="444"/>
                  </a:lnTo>
                  <a:lnTo>
                    <a:pt x="160" y="437"/>
                  </a:lnTo>
                  <a:lnTo>
                    <a:pt x="163" y="430"/>
                  </a:lnTo>
                  <a:lnTo>
                    <a:pt x="167" y="422"/>
                  </a:lnTo>
                  <a:lnTo>
                    <a:pt x="171" y="415"/>
                  </a:lnTo>
                  <a:lnTo>
                    <a:pt x="173" y="411"/>
                  </a:lnTo>
                  <a:lnTo>
                    <a:pt x="175" y="407"/>
                  </a:lnTo>
                  <a:lnTo>
                    <a:pt x="177" y="402"/>
                  </a:lnTo>
                  <a:lnTo>
                    <a:pt x="180" y="397"/>
                  </a:lnTo>
                  <a:lnTo>
                    <a:pt x="183" y="392"/>
                  </a:lnTo>
                  <a:lnTo>
                    <a:pt x="186" y="387"/>
                  </a:lnTo>
                  <a:lnTo>
                    <a:pt x="190" y="382"/>
                  </a:lnTo>
                  <a:lnTo>
                    <a:pt x="194" y="376"/>
                  </a:lnTo>
                  <a:lnTo>
                    <a:pt x="203" y="364"/>
                  </a:lnTo>
                  <a:lnTo>
                    <a:pt x="210" y="351"/>
                  </a:lnTo>
                  <a:lnTo>
                    <a:pt x="215" y="340"/>
                  </a:lnTo>
                  <a:lnTo>
                    <a:pt x="220" y="331"/>
                  </a:lnTo>
                  <a:lnTo>
                    <a:pt x="224" y="321"/>
                  </a:lnTo>
                  <a:lnTo>
                    <a:pt x="226" y="313"/>
                  </a:lnTo>
                  <a:lnTo>
                    <a:pt x="228" y="306"/>
                  </a:lnTo>
                  <a:lnTo>
                    <a:pt x="228" y="298"/>
                  </a:lnTo>
                  <a:lnTo>
                    <a:pt x="228" y="292"/>
                  </a:lnTo>
                  <a:lnTo>
                    <a:pt x="228" y="287"/>
                  </a:lnTo>
                  <a:lnTo>
                    <a:pt x="227" y="283"/>
                  </a:lnTo>
                  <a:lnTo>
                    <a:pt x="225" y="278"/>
                  </a:lnTo>
                  <a:lnTo>
                    <a:pt x="224" y="274"/>
                  </a:lnTo>
                  <a:lnTo>
                    <a:pt x="222" y="270"/>
                  </a:lnTo>
                  <a:lnTo>
                    <a:pt x="219" y="266"/>
                  </a:lnTo>
                  <a:lnTo>
                    <a:pt x="217" y="263"/>
                  </a:lnTo>
                  <a:lnTo>
                    <a:pt x="213" y="260"/>
                  </a:lnTo>
                  <a:lnTo>
                    <a:pt x="210" y="258"/>
                  </a:lnTo>
                  <a:lnTo>
                    <a:pt x="206" y="255"/>
                  </a:lnTo>
                  <a:lnTo>
                    <a:pt x="202" y="254"/>
                  </a:lnTo>
                  <a:lnTo>
                    <a:pt x="198" y="252"/>
                  </a:lnTo>
                  <a:lnTo>
                    <a:pt x="192" y="251"/>
                  </a:lnTo>
                  <a:lnTo>
                    <a:pt x="187" y="251"/>
                  </a:lnTo>
                  <a:lnTo>
                    <a:pt x="182" y="249"/>
                  </a:lnTo>
                  <a:lnTo>
                    <a:pt x="177" y="251"/>
                  </a:lnTo>
                  <a:lnTo>
                    <a:pt x="172" y="251"/>
                  </a:lnTo>
                  <a:lnTo>
                    <a:pt x="167" y="252"/>
                  </a:lnTo>
                  <a:lnTo>
                    <a:pt x="162" y="254"/>
                  </a:lnTo>
                  <a:lnTo>
                    <a:pt x="157" y="256"/>
                  </a:lnTo>
                  <a:lnTo>
                    <a:pt x="152" y="258"/>
                  </a:lnTo>
                  <a:lnTo>
                    <a:pt x="147" y="261"/>
                  </a:lnTo>
                  <a:lnTo>
                    <a:pt x="141" y="264"/>
                  </a:lnTo>
                  <a:lnTo>
                    <a:pt x="136" y="267"/>
                  </a:lnTo>
                  <a:lnTo>
                    <a:pt x="132" y="271"/>
                  </a:lnTo>
                  <a:lnTo>
                    <a:pt x="127" y="274"/>
                  </a:lnTo>
                  <a:lnTo>
                    <a:pt x="123" y="278"/>
                  </a:lnTo>
                  <a:lnTo>
                    <a:pt x="119" y="283"/>
                  </a:lnTo>
                  <a:lnTo>
                    <a:pt x="115" y="288"/>
                  </a:lnTo>
                  <a:lnTo>
                    <a:pt x="112" y="292"/>
                  </a:lnTo>
                  <a:lnTo>
                    <a:pt x="108" y="298"/>
                  </a:lnTo>
                  <a:lnTo>
                    <a:pt x="0" y="150"/>
                  </a:lnTo>
                  <a:lnTo>
                    <a:pt x="13" y="132"/>
                  </a:lnTo>
                  <a:lnTo>
                    <a:pt x="25" y="115"/>
                  </a:lnTo>
                  <a:lnTo>
                    <a:pt x="38" y="99"/>
                  </a:lnTo>
                  <a:lnTo>
                    <a:pt x="52" y="84"/>
                  </a:lnTo>
                  <a:lnTo>
                    <a:pt x="66" y="71"/>
                  </a:lnTo>
                  <a:lnTo>
                    <a:pt x="80" y="59"/>
                  </a:lnTo>
                  <a:lnTo>
                    <a:pt x="94" y="48"/>
                  </a:lnTo>
                  <a:lnTo>
                    <a:pt x="110" y="37"/>
                  </a:lnTo>
                  <a:lnTo>
                    <a:pt x="126" y="28"/>
                  </a:lnTo>
                  <a:lnTo>
                    <a:pt x="141" y="21"/>
                  </a:lnTo>
                  <a:lnTo>
                    <a:pt x="158" y="14"/>
                  </a:lnTo>
                  <a:lnTo>
                    <a:pt x="175" y="9"/>
                  </a:lnTo>
                  <a:lnTo>
                    <a:pt x="192" y="5"/>
                  </a:lnTo>
                  <a:lnTo>
                    <a:pt x="210" y="2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59" y="0"/>
                  </a:lnTo>
                  <a:lnTo>
                    <a:pt x="271" y="1"/>
                  </a:lnTo>
                  <a:lnTo>
                    <a:pt x="283" y="2"/>
                  </a:lnTo>
                  <a:lnTo>
                    <a:pt x="296" y="4"/>
                  </a:lnTo>
                  <a:lnTo>
                    <a:pt x="308" y="7"/>
                  </a:lnTo>
                  <a:lnTo>
                    <a:pt x="319" y="9"/>
                  </a:lnTo>
                  <a:lnTo>
                    <a:pt x="330" y="13"/>
                  </a:lnTo>
                  <a:lnTo>
                    <a:pt x="342" y="17"/>
                  </a:lnTo>
                  <a:lnTo>
                    <a:pt x="352" y="22"/>
                  </a:lnTo>
                  <a:lnTo>
                    <a:pt x="363" y="27"/>
                  </a:lnTo>
                  <a:lnTo>
                    <a:pt x="373" y="32"/>
                  </a:lnTo>
                  <a:lnTo>
                    <a:pt x="382" y="38"/>
                  </a:lnTo>
                  <a:lnTo>
                    <a:pt x="393" y="45"/>
                  </a:lnTo>
                  <a:lnTo>
                    <a:pt x="402" y="53"/>
                  </a:lnTo>
                  <a:lnTo>
                    <a:pt x="411" y="61"/>
                  </a:lnTo>
                  <a:lnTo>
                    <a:pt x="419" y="69"/>
                  </a:lnTo>
                  <a:lnTo>
                    <a:pt x="428" y="78"/>
                  </a:lnTo>
                  <a:lnTo>
                    <a:pt x="436" y="87"/>
                  </a:lnTo>
                  <a:lnTo>
                    <a:pt x="443" y="96"/>
                  </a:lnTo>
                  <a:lnTo>
                    <a:pt x="450" y="107"/>
                  </a:lnTo>
                  <a:lnTo>
                    <a:pt x="456" y="117"/>
                  </a:lnTo>
                  <a:lnTo>
                    <a:pt x="462" y="127"/>
                  </a:lnTo>
                  <a:lnTo>
                    <a:pt x="467" y="137"/>
                  </a:lnTo>
                  <a:lnTo>
                    <a:pt x="471" y="149"/>
                  </a:lnTo>
                  <a:lnTo>
                    <a:pt x="475" y="160"/>
                  </a:lnTo>
                  <a:lnTo>
                    <a:pt x="479" y="171"/>
                  </a:lnTo>
                  <a:lnTo>
                    <a:pt x="482" y="182"/>
                  </a:lnTo>
                  <a:lnTo>
                    <a:pt x="485" y="194"/>
                  </a:lnTo>
                  <a:lnTo>
                    <a:pt x="487" y="207"/>
                  </a:lnTo>
                  <a:lnTo>
                    <a:pt x="488" y="219"/>
                  </a:lnTo>
                  <a:lnTo>
                    <a:pt x="489" y="232"/>
                  </a:lnTo>
                  <a:lnTo>
                    <a:pt x="489" y="244"/>
                  </a:lnTo>
                  <a:lnTo>
                    <a:pt x="488" y="265"/>
                  </a:lnTo>
                  <a:lnTo>
                    <a:pt x="485" y="285"/>
                  </a:lnTo>
                  <a:lnTo>
                    <a:pt x="479" y="306"/>
                  </a:lnTo>
                  <a:lnTo>
                    <a:pt x="473" y="328"/>
                  </a:lnTo>
                  <a:lnTo>
                    <a:pt x="464" y="350"/>
                  </a:lnTo>
                  <a:lnTo>
                    <a:pt x="453" y="373"/>
                  </a:lnTo>
                  <a:lnTo>
                    <a:pt x="440" y="397"/>
                  </a:lnTo>
                  <a:lnTo>
                    <a:pt x="425" y="422"/>
                  </a:lnTo>
                  <a:lnTo>
                    <a:pt x="421" y="428"/>
                  </a:lnTo>
                  <a:lnTo>
                    <a:pt x="417" y="434"/>
                  </a:lnTo>
                  <a:lnTo>
                    <a:pt x="414" y="439"/>
                  </a:lnTo>
                  <a:lnTo>
                    <a:pt x="411" y="444"/>
                  </a:lnTo>
                  <a:lnTo>
                    <a:pt x="408" y="448"/>
                  </a:lnTo>
                  <a:lnTo>
                    <a:pt x="406" y="452"/>
                  </a:lnTo>
                  <a:lnTo>
                    <a:pt x="403" y="457"/>
                  </a:lnTo>
                  <a:lnTo>
                    <a:pt x="402" y="460"/>
                  </a:lnTo>
                  <a:lnTo>
                    <a:pt x="398" y="467"/>
                  </a:lnTo>
                  <a:lnTo>
                    <a:pt x="395" y="473"/>
                  </a:lnTo>
                  <a:lnTo>
                    <a:pt x="392" y="480"/>
                  </a:lnTo>
                  <a:lnTo>
                    <a:pt x="389" y="488"/>
                  </a:lnTo>
                  <a:lnTo>
                    <a:pt x="385" y="496"/>
                  </a:lnTo>
                  <a:lnTo>
                    <a:pt x="383" y="504"/>
                  </a:lnTo>
                  <a:lnTo>
                    <a:pt x="380" y="513"/>
                  </a:lnTo>
                  <a:lnTo>
                    <a:pt x="379" y="522"/>
                  </a:lnTo>
                  <a:lnTo>
                    <a:pt x="377" y="532"/>
                  </a:lnTo>
                  <a:lnTo>
                    <a:pt x="376" y="541"/>
                  </a:lnTo>
                  <a:lnTo>
                    <a:pt x="374" y="551"/>
                  </a:lnTo>
                  <a:lnTo>
                    <a:pt x="373" y="563"/>
                  </a:lnTo>
                  <a:lnTo>
                    <a:pt x="373" y="574"/>
                  </a:lnTo>
                  <a:lnTo>
                    <a:pt x="372" y="585"/>
                  </a:lnTo>
                  <a:lnTo>
                    <a:pt x="372" y="597"/>
                  </a:lnTo>
                  <a:lnTo>
                    <a:pt x="372" y="610"/>
                  </a:lnTo>
                  <a:lnTo>
                    <a:pt x="372" y="684"/>
                  </a:lnTo>
                  <a:lnTo>
                    <a:pt x="139" y="684"/>
                  </a:lnTo>
                  <a:close/>
                  <a:moveTo>
                    <a:pt x="139" y="987"/>
                  </a:moveTo>
                  <a:lnTo>
                    <a:pt x="139" y="740"/>
                  </a:lnTo>
                  <a:lnTo>
                    <a:pt x="372" y="740"/>
                  </a:lnTo>
                  <a:lnTo>
                    <a:pt x="372" y="987"/>
                  </a:lnTo>
                  <a:lnTo>
                    <a:pt x="139" y="9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822400" y="2833560"/>
              <a:ext cx="179640" cy="304920"/>
            </a:xfrm>
            <a:custGeom>
              <a:avLst/>
              <a:gdLst/>
              <a:ahLst/>
              <a:rect l="l" t="t" r="r" b="b"/>
              <a:pathLst>
                <a:path w="567" h="963">
                  <a:moveTo>
                    <a:pt x="0" y="963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67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097080" y="2909880"/>
              <a:ext cx="146160" cy="150840"/>
            </a:xfrm>
            <a:custGeom>
              <a:avLst/>
              <a:gdLst/>
              <a:ahLst/>
              <a:rect l="l" t="t" r="r" b="b"/>
              <a:pathLst>
                <a:path w="459" h="477">
                  <a:moveTo>
                    <a:pt x="229" y="0"/>
                  </a:moveTo>
                  <a:lnTo>
                    <a:pt x="217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2" y="4"/>
                  </a:lnTo>
                  <a:lnTo>
                    <a:pt x="171" y="7"/>
                  </a:lnTo>
                  <a:lnTo>
                    <a:pt x="161" y="10"/>
                  </a:lnTo>
                  <a:lnTo>
                    <a:pt x="150" y="13"/>
                  </a:lnTo>
                  <a:lnTo>
                    <a:pt x="139" y="17"/>
                  </a:lnTo>
                  <a:lnTo>
                    <a:pt x="129" y="21"/>
                  </a:lnTo>
                  <a:lnTo>
                    <a:pt x="120" y="26"/>
                  </a:lnTo>
                  <a:lnTo>
                    <a:pt x="110" y="33"/>
                  </a:lnTo>
                  <a:lnTo>
                    <a:pt x="101" y="39"/>
                  </a:lnTo>
                  <a:lnTo>
                    <a:pt x="91" y="46"/>
                  </a:lnTo>
                  <a:lnTo>
                    <a:pt x="82" y="53"/>
                  </a:lnTo>
                  <a:lnTo>
                    <a:pt x="74" y="60"/>
                  </a:lnTo>
                  <a:lnTo>
                    <a:pt x="66" y="68"/>
                  </a:lnTo>
                  <a:lnTo>
                    <a:pt x="58" y="77"/>
                  </a:lnTo>
                  <a:lnTo>
                    <a:pt x="51" y="87"/>
                  </a:lnTo>
                  <a:lnTo>
                    <a:pt x="43" y="96"/>
                  </a:lnTo>
                  <a:lnTo>
                    <a:pt x="37" y="105"/>
                  </a:lnTo>
                  <a:lnTo>
                    <a:pt x="31" y="115"/>
                  </a:lnTo>
                  <a:lnTo>
                    <a:pt x="25" y="125"/>
                  </a:lnTo>
                  <a:lnTo>
                    <a:pt x="21" y="136"/>
                  </a:lnTo>
                  <a:lnTo>
                    <a:pt x="16" y="146"/>
                  </a:lnTo>
                  <a:lnTo>
                    <a:pt x="13" y="157"/>
                  </a:lnTo>
                  <a:lnTo>
                    <a:pt x="9" y="167"/>
                  </a:lnTo>
                  <a:lnTo>
                    <a:pt x="6" y="178"/>
                  </a:lnTo>
                  <a:lnTo>
                    <a:pt x="4" y="191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52"/>
                  </a:lnTo>
                  <a:lnTo>
                    <a:pt x="1" y="264"/>
                  </a:lnTo>
                  <a:lnTo>
                    <a:pt x="2" y="275"/>
                  </a:lnTo>
                  <a:lnTo>
                    <a:pt x="4" y="288"/>
                  </a:lnTo>
                  <a:lnTo>
                    <a:pt x="6" y="299"/>
                  </a:lnTo>
                  <a:lnTo>
                    <a:pt x="9" y="310"/>
                  </a:lnTo>
                  <a:lnTo>
                    <a:pt x="12" y="321"/>
                  </a:lnTo>
                  <a:lnTo>
                    <a:pt x="16" y="332"/>
                  </a:lnTo>
                  <a:lnTo>
                    <a:pt x="20" y="343"/>
                  </a:lnTo>
                  <a:lnTo>
                    <a:pt x="25" y="353"/>
                  </a:lnTo>
                  <a:lnTo>
                    <a:pt x="31" y="363"/>
                  </a:lnTo>
                  <a:lnTo>
                    <a:pt x="36" y="372"/>
                  </a:lnTo>
                  <a:lnTo>
                    <a:pt x="43" y="382"/>
                  </a:lnTo>
                  <a:lnTo>
                    <a:pt x="50" y="391"/>
                  </a:lnTo>
                  <a:lnTo>
                    <a:pt x="58" y="400"/>
                  </a:lnTo>
                  <a:lnTo>
                    <a:pt x="66" y="409"/>
                  </a:lnTo>
                  <a:lnTo>
                    <a:pt x="74" y="417"/>
                  </a:lnTo>
                  <a:lnTo>
                    <a:pt x="82" y="424"/>
                  </a:lnTo>
                  <a:lnTo>
                    <a:pt x="91" y="432"/>
                  </a:lnTo>
                  <a:lnTo>
                    <a:pt x="101" y="439"/>
                  </a:lnTo>
                  <a:lnTo>
                    <a:pt x="110" y="445"/>
                  </a:lnTo>
                  <a:lnTo>
                    <a:pt x="119" y="451"/>
                  </a:lnTo>
                  <a:lnTo>
                    <a:pt x="129" y="456"/>
                  </a:lnTo>
                  <a:lnTo>
                    <a:pt x="139" y="460"/>
                  </a:lnTo>
                  <a:lnTo>
                    <a:pt x="150" y="464"/>
                  </a:lnTo>
                  <a:lnTo>
                    <a:pt x="160" y="468"/>
                  </a:lnTo>
                  <a:lnTo>
                    <a:pt x="171" y="470"/>
                  </a:lnTo>
                  <a:lnTo>
                    <a:pt x="182" y="473"/>
                  </a:lnTo>
                  <a:lnTo>
                    <a:pt x="194" y="475"/>
                  </a:lnTo>
                  <a:lnTo>
                    <a:pt x="205" y="476"/>
                  </a:lnTo>
                  <a:lnTo>
                    <a:pt x="217" y="477"/>
                  </a:lnTo>
                  <a:lnTo>
                    <a:pt x="229" y="477"/>
                  </a:lnTo>
                  <a:lnTo>
                    <a:pt x="242" y="477"/>
                  </a:lnTo>
                  <a:lnTo>
                    <a:pt x="253" y="476"/>
                  </a:lnTo>
                  <a:lnTo>
                    <a:pt x="265" y="475"/>
                  </a:lnTo>
                  <a:lnTo>
                    <a:pt x="276" y="473"/>
                  </a:lnTo>
                  <a:lnTo>
                    <a:pt x="287" y="470"/>
                  </a:lnTo>
                  <a:lnTo>
                    <a:pt x="298" y="468"/>
                  </a:lnTo>
                  <a:lnTo>
                    <a:pt x="309" y="464"/>
                  </a:lnTo>
                  <a:lnTo>
                    <a:pt x="319" y="460"/>
                  </a:lnTo>
                  <a:lnTo>
                    <a:pt x="329" y="456"/>
                  </a:lnTo>
                  <a:lnTo>
                    <a:pt x="339" y="451"/>
                  </a:lnTo>
                  <a:lnTo>
                    <a:pt x="349" y="445"/>
                  </a:lnTo>
                  <a:lnTo>
                    <a:pt x="358" y="439"/>
                  </a:lnTo>
                  <a:lnTo>
                    <a:pt x="367" y="431"/>
                  </a:lnTo>
                  <a:lnTo>
                    <a:pt x="375" y="424"/>
                  </a:lnTo>
                  <a:lnTo>
                    <a:pt x="385" y="417"/>
                  </a:lnTo>
                  <a:lnTo>
                    <a:pt x="393" y="408"/>
                  </a:lnTo>
                  <a:lnTo>
                    <a:pt x="401" y="400"/>
                  </a:lnTo>
                  <a:lnTo>
                    <a:pt x="408" y="391"/>
                  </a:lnTo>
                  <a:lnTo>
                    <a:pt x="415" y="381"/>
                  </a:lnTo>
                  <a:lnTo>
                    <a:pt x="421" y="372"/>
                  </a:lnTo>
                  <a:lnTo>
                    <a:pt x="427" y="362"/>
                  </a:lnTo>
                  <a:lnTo>
                    <a:pt x="433" y="353"/>
                  </a:lnTo>
                  <a:lnTo>
                    <a:pt x="438" y="343"/>
                  </a:lnTo>
                  <a:lnTo>
                    <a:pt x="442" y="331"/>
                  </a:lnTo>
                  <a:lnTo>
                    <a:pt x="446" y="321"/>
                  </a:lnTo>
                  <a:lnTo>
                    <a:pt x="449" y="310"/>
                  </a:lnTo>
                  <a:lnTo>
                    <a:pt x="452" y="299"/>
                  </a:lnTo>
                  <a:lnTo>
                    <a:pt x="454" y="288"/>
                  </a:lnTo>
                  <a:lnTo>
                    <a:pt x="456" y="275"/>
                  </a:lnTo>
                  <a:lnTo>
                    <a:pt x="458" y="263"/>
                  </a:lnTo>
                  <a:lnTo>
                    <a:pt x="458" y="251"/>
                  </a:lnTo>
                  <a:lnTo>
                    <a:pt x="459" y="239"/>
                  </a:lnTo>
                  <a:lnTo>
                    <a:pt x="458" y="226"/>
                  </a:lnTo>
                  <a:lnTo>
                    <a:pt x="458" y="214"/>
                  </a:lnTo>
                  <a:lnTo>
                    <a:pt x="456" y="202"/>
                  </a:lnTo>
                  <a:lnTo>
                    <a:pt x="454" y="191"/>
                  </a:lnTo>
                  <a:lnTo>
                    <a:pt x="452" y="179"/>
                  </a:lnTo>
                  <a:lnTo>
                    <a:pt x="449" y="168"/>
                  </a:lnTo>
                  <a:lnTo>
                    <a:pt x="446" y="157"/>
                  </a:lnTo>
                  <a:lnTo>
                    <a:pt x="442" y="146"/>
                  </a:lnTo>
                  <a:lnTo>
                    <a:pt x="438" y="136"/>
                  </a:lnTo>
                  <a:lnTo>
                    <a:pt x="433" y="125"/>
                  </a:lnTo>
                  <a:lnTo>
                    <a:pt x="427" y="115"/>
                  </a:lnTo>
                  <a:lnTo>
                    <a:pt x="421" y="106"/>
                  </a:lnTo>
                  <a:lnTo>
                    <a:pt x="415" y="96"/>
                  </a:lnTo>
                  <a:lnTo>
                    <a:pt x="408" y="87"/>
                  </a:lnTo>
                  <a:lnTo>
                    <a:pt x="401" y="78"/>
                  </a:lnTo>
                  <a:lnTo>
                    <a:pt x="393" y="69"/>
                  </a:lnTo>
                  <a:lnTo>
                    <a:pt x="385" y="61"/>
                  </a:lnTo>
                  <a:lnTo>
                    <a:pt x="375" y="53"/>
                  </a:lnTo>
                  <a:lnTo>
                    <a:pt x="367" y="46"/>
                  </a:lnTo>
                  <a:lnTo>
                    <a:pt x="358" y="39"/>
                  </a:lnTo>
                  <a:lnTo>
                    <a:pt x="349" y="33"/>
                  </a:lnTo>
                  <a:lnTo>
                    <a:pt x="339" y="27"/>
                  </a:lnTo>
                  <a:lnTo>
                    <a:pt x="329" y="22"/>
                  </a:lnTo>
                  <a:lnTo>
                    <a:pt x="319" y="17"/>
                  </a:lnTo>
                  <a:lnTo>
                    <a:pt x="309" y="13"/>
                  </a:lnTo>
                  <a:lnTo>
                    <a:pt x="298" y="10"/>
                  </a:lnTo>
                  <a:lnTo>
                    <a:pt x="287" y="7"/>
                  </a:lnTo>
                  <a:lnTo>
                    <a:pt x="276" y="4"/>
                  </a:lnTo>
                  <a:lnTo>
                    <a:pt x="265" y="3"/>
                  </a:lnTo>
                  <a:lnTo>
                    <a:pt x="253" y="1"/>
                  </a:lnTo>
                  <a:lnTo>
                    <a:pt x="242" y="0"/>
                  </a:lnTo>
                  <a:lnTo>
                    <a:pt x="22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014640" y="2824200"/>
              <a:ext cx="309600" cy="322200"/>
            </a:xfrm>
            <a:custGeom>
              <a:avLst/>
              <a:gdLst/>
              <a:ahLst/>
              <a:rect l="l" t="t" r="r" b="b"/>
              <a:pathLst>
                <a:path w="977" h="1015"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599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39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6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1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0" y="372"/>
                  </a:lnTo>
                  <a:lnTo>
                    <a:pt x="966" y="399"/>
                  </a:lnTo>
                  <a:lnTo>
                    <a:pt x="971" y="425"/>
                  </a:lnTo>
                  <a:lnTo>
                    <a:pt x="974" y="453"/>
                  </a:lnTo>
                  <a:lnTo>
                    <a:pt x="976" y="479"/>
                  </a:lnTo>
                  <a:lnTo>
                    <a:pt x="977" y="507"/>
                  </a:lnTo>
                  <a:lnTo>
                    <a:pt x="976" y="535"/>
                  </a:lnTo>
                  <a:lnTo>
                    <a:pt x="974" y="562"/>
                  </a:lnTo>
                  <a:lnTo>
                    <a:pt x="971" y="589"/>
                  </a:lnTo>
                  <a:lnTo>
                    <a:pt x="966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2" y="719"/>
                  </a:lnTo>
                  <a:lnTo>
                    <a:pt x="921" y="743"/>
                  </a:lnTo>
                  <a:lnTo>
                    <a:pt x="908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2" y="835"/>
                  </a:lnTo>
                  <a:lnTo>
                    <a:pt x="845" y="855"/>
                  </a:lnTo>
                  <a:lnTo>
                    <a:pt x="826" y="876"/>
                  </a:lnTo>
                  <a:lnTo>
                    <a:pt x="806" y="895"/>
                  </a:lnTo>
                  <a:lnTo>
                    <a:pt x="790" y="910"/>
                  </a:lnTo>
                  <a:lnTo>
                    <a:pt x="773" y="923"/>
                  </a:lnTo>
                  <a:lnTo>
                    <a:pt x="756" y="935"/>
                  </a:lnTo>
                  <a:lnTo>
                    <a:pt x="738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19" y="997"/>
                  </a:lnTo>
                  <a:lnTo>
                    <a:pt x="598" y="1003"/>
                  </a:lnTo>
                  <a:lnTo>
                    <a:pt x="576" y="1007"/>
                  </a:lnTo>
                  <a:lnTo>
                    <a:pt x="555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5" y="1015"/>
                  </a:lnTo>
                  <a:lnTo>
                    <a:pt x="443" y="1014"/>
                  </a:lnTo>
                  <a:lnTo>
                    <a:pt x="421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7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5" y="976"/>
                  </a:lnTo>
                  <a:lnTo>
                    <a:pt x="276" y="967"/>
                  </a:lnTo>
                  <a:lnTo>
                    <a:pt x="256" y="957"/>
                  </a:lnTo>
                  <a:lnTo>
                    <a:pt x="238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6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4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69" y="769"/>
                  </a:lnTo>
                  <a:lnTo>
                    <a:pt x="56" y="744"/>
                  </a:lnTo>
                  <a:lnTo>
                    <a:pt x="44" y="720"/>
                  </a:lnTo>
                  <a:lnTo>
                    <a:pt x="34" y="694"/>
                  </a:lnTo>
                  <a:lnTo>
                    <a:pt x="25" y="669"/>
                  </a:lnTo>
                  <a:lnTo>
                    <a:pt x="17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7" y="372"/>
                  </a:lnTo>
                  <a:lnTo>
                    <a:pt x="25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5" y="270"/>
                  </a:lnTo>
                  <a:lnTo>
                    <a:pt x="69" y="247"/>
                  </a:lnTo>
                  <a:lnTo>
                    <a:pt x="82" y="223"/>
                  </a:lnTo>
                  <a:lnTo>
                    <a:pt x="97" y="202"/>
                  </a:lnTo>
                  <a:lnTo>
                    <a:pt x="113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6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8" y="68"/>
                  </a:lnTo>
                  <a:lnTo>
                    <a:pt x="256" y="58"/>
                  </a:lnTo>
                  <a:lnTo>
                    <a:pt x="276" y="48"/>
                  </a:lnTo>
                  <a:lnTo>
                    <a:pt x="295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7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1" y="5"/>
                  </a:lnTo>
                  <a:lnTo>
                    <a:pt x="443" y="2"/>
                  </a:lnTo>
                  <a:lnTo>
                    <a:pt x="465" y="1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441600" y="2900520"/>
              <a:ext cx="50760" cy="759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241"/>
                  </a:moveTo>
                  <a:lnTo>
                    <a:pt x="25" y="241"/>
                  </a:lnTo>
                  <a:lnTo>
                    <a:pt x="41" y="241"/>
                  </a:lnTo>
                  <a:lnTo>
                    <a:pt x="56" y="240"/>
                  </a:lnTo>
                  <a:lnTo>
                    <a:pt x="71" y="237"/>
                  </a:lnTo>
                  <a:lnTo>
                    <a:pt x="84" y="234"/>
                  </a:lnTo>
                  <a:lnTo>
                    <a:pt x="96" y="230"/>
                  </a:lnTo>
                  <a:lnTo>
                    <a:pt x="107" y="225"/>
                  </a:lnTo>
                  <a:lnTo>
                    <a:pt x="118" y="219"/>
                  </a:lnTo>
                  <a:lnTo>
                    <a:pt x="127" y="210"/>
                  </a:lnTo>
                  <a:lnTo>
                    <a:pt x="135" y="203"/>
                  </a:lnTo>
                  <a:lnTo>
                    <a:pt x="142" y="194"/>
                  </a:lnTo>
                  <a:lnTo>
                    <a:pt x="148" y="184"/>
                  </a:lnTo>
                  <a:lnTo>
                    <a:pt x="153" y="174"/>
                  </a:lnTo>
                  <a:lnTo>
                    <a:pt x="157" y="162"/>
                  </a:lnTo>
                  <a:lnTo>
                    <a:pt x="160" y="149"/>
                  </a:lnTo>
                  <a:lnTo>
                    <a:pt x="161" y="136"/>
                  </a:lnTo>
                  <a:lnTo>
                    <a:pt x="162" y="122"/>
                  </a:lnTo>
                  <a:lnTo>
                    <a:pt x="161" y="107"/>
                  </a:lnTo>
                  <a:lnTo>
                    <a:pt x="160" y="94"/>
                  </a:lnTo>
                  <a:lnTo>
                    <a:pt x="157" y="81"/>
                  </a:lnTo>
                  <a:lnTo>
                    <a:pt x="153" y="70"/>
                  </a:lnTo>
                  <a:lnTo>
                    <a:pt x="149" y="58"/>
                  </a:lnTo>
                  <a:lnTo>
                    <a:pt x="143" y="48"/>
                  </a:lnTo>
                  <a:lnTo>
                    <a:pt x="136" y="39"/>
                  </a:lnTo>
                  <a:lnTo>
                    <a:pt x="129" y="31"/>
                  </a:lnTo>
                  <a:lnTo>
                    <a:pt x="120" y="24"/>
                  </a:lnTo>
                  <a:lnTo>
                    <a:pt x="109" y="18"/>
                  </a:lnTo>
                  <a:lnTo>
                    <a:pt x="98" y="13"/>
                  </a:lnTo>
                  <a:lnTo>
                    <a:pt x="87" y="7"/>
                  </a:lnTo>
                  <a:lnTo>
                    <a:pt x="75" y="4"/>
                  </a:lnTo>
                  <a:lnTo>
                    <a:pt x="60" y="2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4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2400" y="2833560"/>
              <a:ext cx="230040" cy="304920"/>
            </a:xfrm>
            <a:custGeom>
              <a:avLst/>
              <a:gdLst/>
              <a:ahLst/>
              <a:rect l="l" t="t" r="r" b="b"/>
              <a:pathLst>
                <a:path w="724" h="963">
                  <a:moveTo>
                    <a:pt x="0" y="96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20" y="1"/>
                  </a:lnTo>
                  <a:lnTo>
                    <a:pt x="341" y="2"/>
                  </a:lnTo>
                  <a:lnTo>
                    <a:pt x="362" y="4"/>
                  </a:lnTo>
                  <a:lnTo>
                    <a:pt x="383" y="7"/>
                  </a:lnTo>
                  <a:lnTo>
                    <a:pt x="403" y="10"/>
                  </a:lnTo>
                  <a:lnTo>
                    <a:pt x="423" y="14"/>
                  </a:lnTo>
                  <a:lnTo>
                    <a:pt x="441" y="20"/>
                  </a:lnTo>
                  <a:lnTo>
                    <a:pt x="458" y="25"/>
                  </a:lnTo>
                  <a:lnTo>
                    <a:pt x="476" y="30"/>
                  </a:lnTo>
                  <a:lnTo>
                    <a:pt x="492" y="37"/>
                  </a:lnTo>
                  <a:lnTo>
                    <a:pt x="508" y="44"/>
                  </a:lnTo>
                  <a:lnTo>
                    <a:pt x="523" y="51"/>
                  </a:lnTo>
                  <a:lnTo>
                    <a:pt x="537" y="59"/>
                  </a:lnTo>
                  <a:lnTo>
                    <a:pt x="551" y="69"/>
                  </a:lnTo>
                  <a:lnTo>
                    <a:pt x="564" y="78"/>
                  </a:lnTo>
                  <a:lnTo>
                    <a:pt x="576" y="88"/>
                  </a:lnTo>
                  <a:lnTo>
                    <a:pt x="587" y="98"/>
                  </a:lnTo>
                  <a:lnTo>
                    <a:pt x="598" y="109"/>
                  </a:lnTo>
                  <a:lnTo>
                    <a:pt x="608" y="122"/>
                  </a:lnTo>
                  <a:lnTo>
                    <a:pt x="617" y="134"/>
                  </a:lnTo>
                  <a:lnTo>
                    <a:pt x="625" y="146"/>
                  </a:lnTo>
                  <a:lnTo>
                    <a:pt x="633" y="159"/>
                  </a:lnTo>
                  <a:lnTo>
                    <a:pt x="639" y="174"/>
                  </a:lnTo>
                  <a:lnTo>
                    <a:pt x="645" y="188"/>
                  </a:lnTo>
                  <a:lnTo>
                    <a:pt x="650" y="203"/>
                  </a:lnTo>
                  <a:lnTo>
                    <a:pt x="655" y="218"/>
                  </a:lnTo>
                  <a:lnTo>
                    <a:pt x="659" y="235"/>
                  </a:lnTo>
                  <a:lnTo>
                    <a:pt x="661" y="251"/>
                  </a:lnTo>
                  <a:lnTo>
                    <a:pt x="663" y="268"/>
                  </a:lnTo>
                  <a:lnTo>
                    <a:pt x="664" y="286"/>
                  </a:lnTo>
                  <a:lnTo>
                    <a:pt x="665" y="304"/>
                  </a:lnTo>
                  <a:lnTo>
                    <a:pt x="664" y="326"/>
                  </a:lnTo>
                  <a:lnTo>
                    <a:pt x="662" y="346"/>
                  </a:lnTo>
                  <a:lnTo>
                    <a:pt x="659" y="365"/>
                  </a:lnTo>
                  <a:lnTo>
                    <a:pt x="655" y="385"/>
                  </a:lnTo>
                  <a:lnTo>
                    <a:pt x="648" y="403"/>
                  </a:lnTo>
                  <a:lnTo>
                    <a:pt x="641" y="420"/>
                  </a:lnTo>
                  <a:lnTo>
                    <a:pt x="633" y="437"/>
                  </a:lnTo>
                  <a:lnTo>
                    <a:pt x="624" y="453"/>
                  </a:lnTo>
                  <a:lnTo>
                    <a:pt x="613" y="468"/>
                  </a:lnTo>
                  <a:lnTo>
                    <a:pt x="601" y="482"/>
                  </a:lnTo>
                  <a:lnTo>
                    <a:pt x="589" y="495"/>
                  </a:lnTo>
                  <a:lnTo>
                    <a:pt x="575" y="506"/>
                  </a:lnTo>
                  <a:lnTo>
                    <a:pt x="561" y="516"/>
                  </a:lnTo>
                  <a:lnTo>
                    <a:pt x="545" y="526"/>
                  </a:lnTo>
                  <a:lnTo>
                    <a:pt x="529" y="534"/>
                  </a:lnTo>
                  <a:lnTo>
                    <a:pt x="512" y="540"/>
                  </a:lnTo>
                  <a:lnTo>
                    <a:pt x="724" y="963"/>
                  </a:lnTo>
                  <a:lnTo>
                    <a:pt x="450" y="963"/>
                  </a:lnTo>
                  <a:lnTo>
                    <a:pt x="250" y="551"/>
                  </a:lnTo>
                  <a:lnTo>
                    <a:pt x="250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736800" y="2851200"/>
              <a:ext cx="193680" cy="291960"/>
            </a:xfrm>
            <a:custGeom>
              <a:avLst/>
              <a:gdLst/>
              <a:ahLst/>
              <a:rect l="l" t="t" r="r" b="b"/>
              <a:pathLst>
                <a:path w="610" h="923">
                  <a:moveTo>
                    <a:pt x="0" y="798"/>
                  </a:moveTo>
                  <a:lnTo>
                    <a:pt x="126" y="621"/>
                  </a:lnTo>
                  <a:lnTo>
                    <a:pt x="134" y="630"/>
                  </a:lnTo>
                  <a:lnTo>
                    <a:pt x="141" y="637"/>
                  </a:lnTo>
                  <a:lnTo>
                    <a:pt x="150" y="644"/>
                  </a:lnTo>
                  <a:lnTo>
                    <a:pt x="158" y="650"/>
                  </a:lnTo>
                  <a:lnTo>
                    <a:pt x="166" y="656"/>
                  </a:lnTo>
                  <a:lnTo>
                    <a:pt x="175" y="661"/>
                  </a:lnTo>
                  <a:lnTo>
                    <a:pt x="183" y="666"/>
                  </a:lnTo>
                  <a:lnTo>
                    <a:pt x="191" y="670"/>
                  </a:lnTo>
                  <a:lnTo>
                    <a:pt x="200" y="676"/>
                  </a:lnTo>
                  <a:lnTo>
                    <a:pt x="209" y="679"/>
                  </a:lnTo>
                  <a:lnTo>
                    <a:pt x="217" y="682"/>
                  </a:lnTo>
                  <a:lnTo>
                    <a:pt x="225" y="684"/>
                  </a:lnTo>
                  <a:lnTo>
                    <a:pt x="233" y="686"/>
                  </a:lnTo>
                  <a:lnTo>
                    <a:pt x="241" y="688"/>
                  </a:lnTo>
                  <a:lnTo>
                    <a:pt x="250" y="688"/>
                  </a:lnTo>
                  <a:lnTo>
                    <a:pt x="258" y="689"/>
                  </a:lnTo>
                  <a:lnTo>
                    <a:pt x="268" y="688"/>
                  </a:lnTo>
                  <a:lnTo>
                    <a:pt x="276" y="687"/>
                  </a:lnTo>
                  <a:lnTo>
                    <a:pt x="285" y="686"/>
                  </a:lnTo>
                  <a:lnTo>
                    <a:pt x="293" y="683"/>
                  </a:lnTo>
                  <a:lnTo>
                    <a:pt x="301" y="680"/>
                  </a:lnTo>
                  <a:lnTo>
                    <a:pt x="308" y="677"/>
                  </a:lnTo>
                  <a:lnTo>
                    <a:pt x="314" y="671"/>
                  </a:lnTo>
                  <a:lnTo>
                    <a:pt x="320" y="666"/>
                  </a:lnTo>
                  <a:lnTo>
                    <a:pt x="325" y="660"/>
                  </a:lnTo>
                  <a:lnTo>
                    <a:pt x="330" y="654"/>
                  </a:lnTo>
                  <a:lnTo>
                    <a:pt x="334" y="648"/>
                  </a:lnTo>
                  <a:lnTo>
                    <a:pt x="337" y="641"/>
                  </a:lnTo>
                  <a:lnTo>
                    <a:pt x="340" y="633"/>
                  </a:lnTo>
                  <a:lnTo>
                    <a:pt x="342" y="625"/>
                  </a:lnTo>
                  <a:lnTo>
                    <a:pt x="343" y="615"/>
                  </a:lnTo>
                  <a:lnTo>
                    <a:pt x="344" y="606"/>
                  </a:lnTo>
                  <a:lnTo>
                    <a:pt x="343" y="595"/>
                  </a:lnTo>
                  <a:lnTo>
                    <a:pt x="341" y="585"/>
                  </a:lnTo>
                  <a:lnTo>
                    <a:pt x="337" y="575"/>
                  </a:lnTo>
                  <a:lnTo>
                    <a:pt x="332" y="565"/>
                  </a:lnTo>
                  <a:lnTo>
                    <a:pt x="327" y="556"/>
                  </a:lnTo>
                  <a:lnTo>
                    <a:pt x="320" y="547"/>
                  </a:lnTo>
                  <a:lnTo>
                    <a:pt x="312" y="540"/>
                  </a:lnTo>
                  <a:lnTo>
                    <a:pt x="302" y="532"/>
                  </a:lnTo>
                  <a:lnTo>
                    <a:pt x="292" y="526"/>
                  </a:lnTo>
                  <a:lnTo>
                    <a:pt x="280" y="519"/>
                  </a:lnTo>
                  <a:lnTo>
                    <a:pt x="268" y="514"/>
                  </a:lnTo>
                  <a:lnTo>
                    <a:pt x="255" y="510"/>
                  </a:lnTo>
                  <a:lnTo>
                    <a:pt x="240" y="507"/>
                  </a:lnTo>
                  <a:lnTo>
                    <a:pt x="226" y="505"/>
                  </a:lnTo>
                  <a:lnTo>
                    <a:pt x="211" y="503"/>
                  </a:lnTo>
                  <a:lnTo>
                    <a:pt x="194" y="503"/>
                  </a:lnTo>
                  <a:lnTo>
                    <a:pt x="188" y="503"/>
                  </a:lnTo>
                  <a:lnTo>
                    <a:pt x="182" y="503"/>
                  </a:lnTo>
                  <a:lnTo>
                    <a:pt x="175" y="503"/>
                  </a:lnTo>
                  <a:lnTo>
                    <a:pt x="169" y="504"/>
                  </a:lnTo>
                  <a:lnTo>
                    <a:pt x="162" y="504"/>
                  </a:lnTo>
                  <a:lnTo>
                    <a:pt x="156" y="505"/>
                  </a:lnTo>
                  <a:lnTo>
                    <a:pt x="149" y="506"/>
                  </a:lnTo>
                  <a:lnTo>
                    <a:pt x="141" y="507"/>
                  </a:lnTo>
                  <a:lnTo>
                    <a:pt x="134" y="508"/>
                  </a:lnTo>
                  <a:lnTo>
                    <a:pt x="128" y="509"/>
                  </a:lnTo>
                  <a:lnTo>
                    <a:pt x="121" y="511"/>
                  </a:lnTo>
                  <a:lnTo>
                    <a:pt x="114" y="512"/>
                  </a:lnTo>
                  <a:lnTo>
                    <a:pt x="107" y="514"/>
                  </a:lnTo>
                  <a:lnTo>
                    <a:pt x="98" y="516"/>
                  </a:lnTo>
                  <a:lnTo>
                    <a:pt x="91" y="518"/>
                  </a:lnTo>
                  <a:lnTo>
                    <a:pt x="84" y="519"/>
                  </a:lnTo>
                  <a:lnTo>
                    <a:pt x="84" y="0"/>
                  </a:lnTo>
                  <a:lnTo>
                    <a:pt x="610" y="0"/>
                  </a:lnTo>
                  <a:lnTo>
                    <a:pt x="522" y="225"/>
                  </a:lnTo>
                  <a:lnTo>
                    <a:pt x="306" y="225"/>
                  </a:lnTo>
                  <a:lnTo>
                    <a:pt x="306" y="307"/>
                  </a:lnTo>
                  <a:lnTo>
                    <a:pt x="321" y="308"/>
                  </a:lnTo>
                  <a:lnTo>
                    <a:pt x="336" y="309"/>
                  </a:lnTo>
                  <a:lnTo>
                    <a:pt x="351" y="311"/>
                  </a:lnTo>
                  <a:lnTo>
                    <a:pt x="365" y="314"/>
                  </a:lnTo>
                  <a:lnTo>
                    <a:pt x="379" y="318"/>
                  </a:lnTo>
                  <a:lnTo>
                    <a:pt x="393" y="321"/>
                  </a:lnTo>
                  <a:lnTo>
                    <a:pt x="406" y="325"/>
                  </a:lnTo>
                  <a:lnTo>
                    <a:pt x="418" y="330"/>
                  </a:lnTo>
                  <a:lnTo>
                    <a:pt x="430" y="335"/>
                  </a:lnTo>
                  <a:lnTo>
                    <a:pt x="443" y="341"/>
                  </a:lnTo>
                  <a:lnTo>
                    <a:pt x="454" y="347"/>
                  </a:lnTo>
                  <a:lnTo>
                    <a:pt x="465" y="354"/>
                  </a:lnTo>
                  <a:lnTo>
                    <a:pt x="476" y="362"/>
                  </a:lnTo>
                  <a:lnTo>
                    <a:pt x="487" y="371"/>
                  </a:lnTo>
                  <a:lnTo>
                    <a:pt x="497" y="379"/>
                  </a:lnTo>
                  <a:lnTo>
                    <a:pt x="506" y="388"/>
                  </a:lnTo>
                  <a:lnTo>
                    <a:pt x="515" y="398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39" y="430"/>
                  </a:lnTo>
                  <a:lnTo>
                    <a:pt x="545" y="441"/>
                  </a:lnTo>
                  <a:lnTo>
                    <a:pt x="551" y="453"/>
                  </a:lnTo>
                  <a:lnTo>
                    <a:pt x="557" y="465"/>
                  </a:lnTo>
                  <a:lnTo>
                    <a:pt x="562" y="478"/>
                  </a:lnTo>
                  <a:lnTo>
                    <a:pt x="566" y="490"/>
                  </a:lnTo>
                  <a:lnTo>
                    <a:pt x="570" y="503"/>
                  </a:lnTo>
                  <a:lnTo>
                    <a:pt x="573" y="517"/>
                  </a:lnTo>
                  <a:lnTo>
                    <a:pt x="575" y="531"/>
                  </a:lnTo>
                  <a:lnTo>
                    <a:pt x="577" y="545"/>
                  </a:lnTo>
                  <a:lnTo>
                    <a:pt x="579" y="560"/>
                  </a:lnTo>
                  <a:lnTo>
                    <a:pt x="581" y="576"/>
                  </a:lnTo>
                  <a:lnTo>
                    <a:pt x="581" y="591"/>
                  </a:lnTo>
                  <a:lnTo>
                    <a:pt x="581" y="608"/>
                  </a:lnTo>
                  <a:lnTo>
                    <a:pt x="579" y="627"/>
                  </a:lnTo>
                  <a:lnTo>
                    <a:pt x="577" y="643"/>
                  </a:lnTo>
                  <a:lnTo>
                    <a:pt x="574" y="660"/>
                  </a:lnTo>
                  <a:lnTo>
                    <a:pt x="571" y="677"/>
                  </a:lnTo>
                  <a:lnTo>
                    <a:pt x="567" y="692"/>
                  </a:lnTo>
                  <a:lnTo>
                    <a:pt x="563" y="708"/>
                  </a:lnTo>
                  <a:lnTo>
                    <a:pt x="558" y="723"/>
                  </a:lnTo>
                  <a:lnTo>
                    <a:pt x="552" y="738"/>
                  </a:lnTo>
                  <a:lnTo>
                    <a:pt x="545" y="752"/>
                  </a:lnTo>
                  <a:lnTo>
                    <a:pt x="538" y="766"/>
                  </a:lnTo>
                  <a:lnTo>
                    <a:pt x="529" y="780"/>
                  </a:lnTo>
                  <a:lnTo>
                    <a:pt x="520" y="793"/>
                  </a:lnTo>
                  <a:lnTo>
                    <a:pt x="511" y="805"/>
                  </a:lnTo>
                  <a:lnTo>
                    <a:pt x="501" y="818"/>
                  </a:lnTo>
                  <a:lnTo>
                    <a:pt x="490" y="830"/>
                  </a:lnTo>
                  <a:lnTo>
                    <a:pt x="478" y="841"/>
                  </a:lnTo>
                  <a:lnTo>
                    <a:pt x="466" y="852"/>
                  </a:lnTo>
                  <a:lnTo>
                    <a:pt x="454" y="862"/>
                  </a:lnTo>
                  <a:lnTo>
                    <a:pt x="441" y="871"/>
                  </a:lnTo>
                  <a:lnTo>
                    <a:pt x="427" y="880"/>
                  </a:lnTo>
                  <a:lnTo>
                    <a:pt x="414" y="887"/>
                  </a:lnTo>
                  <a:lnTo>
                    <a:pt x="400" y="894"/>
                  </a:lnTo>
                  <a:lnTo>
                    <a:pt x="385" y="900"/>
                  </a:lnTo>
                  <a:lnTo>
                    <a:pt x="371" y="906"/>
                  </a:lnTo>
                  <a:lnTo>
                    <a:pt x="356" y="910"/>
                  </a:lnTo>
                  <a:lnTo>
                    <a:pt x="341" y="914"/>
                  </a:lnTo>
                  <a:lnTo>
                    <a:pt x="324" y="917"/>
                  </a:lnTo>
                  <a:lnTo>
                    <a:pt x="308" y="920"/>
                  </a:lnTo>
                  <a:lnTo>
                    <a:pt x="292" y="922"/>
                  </a:lnTo>
                  <a:lnTo>
                    <a:pt x="274" y="923"/>
                  </a:lnTo>
                  <a:lnTo>
                    <a:pt x="257" y="923"/>
                  </a:lnTo>
                  <a:lnTo>
                    <a:pt x="238" y="923"/>
                  </a:lnTo>
                  <a:lnTo>
                    <a:pt x="220" y="921"/>
                  </a:lnTo>
                  <a:lnTo>
                    <a:pt x="203" y="919"/>
                  </a:lnTo>
                  <a:lnTo>
                    <a:pt x="185" y="915"/>
                  </a:lnTo>
                  <a:lnTo>
                    <a:pt x="168" y="911"/>
                  </a:lnTo>
                  <a:lnTo>
                    <a:pt x="151" y="905"/>
                  </a:lnTo>
                  <a:lnTo>
                    <a:pt x="134" y="899"/>
                  </a:lnTo>
                  <a:lnTo>
                    <a:pt x="117" y="891"/>
                  </a:lnTo>
                  <a:lnTo>
                    <a:pt x="102" y="883"/>
                  </a:lnTo>
                  <a:lnTo>
                    <a:pt x="85" y="873"/>
                  </a:lnTo>
                  <a:lnTo>
                    <a:pt x="70" y="863"/>
                  </a:lnTo>
                  <a:lnTo>
                    <a:pt x="56" y="852"/>
                  </a:lnTo>
                  <a:lnTo>
                    <a:pt x="41" y="840"/>
                  </a:lnTo>
                  <a:lnTo>
                    <a:pt x="27" y="826"/>
                  </a:lnTo>
                  <a:lnTo>
                    <a:pt x="14" y="812"/>
                  </a:lnTo>
                  <a:lnTo>
                    <a:pt x="0" y="7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091040" y="2833560"/>
              <a:ext cx="317520" cy="306360"/>
            </a:xfrm>
            <a:custGeom>
              <a:avLst/>
              <a:gdLst/>
              <a:ahLst/>
              <a:rect l="l" t="t" r="r" b="b"/>
              <a:pathLst>
                <a:path w="1003" h="967">
                  <a:moveTo>
                    <a:pt x="0" y="963"/>
                  </a:moveTo>
                  <a:lnTo>
                    <a:pt x="121" y="0"/>
                  </a:lnTo>
                  <a:lnTo>
                    <a:pt x="324" y="0"/>
                  </a:lnTo>
                  <a:lnTo>
                    <a:pt x="495" y="429"/>
                  </a:lnTo>
                  <a:lnTo>
                    <a:pt x="667" y="0"/>
                  </a:lnTo>
                  <a:lnTo>
                    <a:pt x="866" y="0"/>
                  </a:lnTo>
                  <a:lnTo>
                    <a:pt x="1003" y="963"/>
                  </a:lnTo>
                  <a:lnTo>
                    <a:pt x="746" y="963"/>
                  </a:lnTo>
                  <a:lnTo>
                    <a:pt x="692" y="521"/>
                  </a:lnTo>
                  <a:lnTo>
                    <a:pt x="505" y="967"/>
                  </a:lnTo>
                  <a:lnTo>
                    <a:pt x="303" y="521"/>
                  </a:lnTo>
                  <a:lnTo>
                    <a:pt x="257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448160" y="2833560"/>
              <a:ext cx="79560" cy="3049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583160" y="2833560"/>
              <a:ext cx="226800" cy="304920"/>
            </a:xfrm>
            <a:custGeom>
              <a:avLst/>
              <a:gdLst/>
              <a:ahLst/>
              <a:rect l="l" t="t" r="r" b="b"/>
              <a:pathLst>
                <a:path w="717" h="963">
                  <a:moveTo>
                    <a:pt x="0" y="963"/>
                  </a:moveTo>
                  <a:lnTo>
                    <a:pt x="0" y="0"/>
                  </a:lnTo>
                  <a:lnTo>
                    <a:pt x="109" y="0"/>
                  </a:lnTo>
                  <a:lnTo>
                    <a:pt x="468" y="421"/>
                  </a:lnTo>
                  <a:lnTo>
                    <a:pt x="468" y="0"/>
                  </a:lnTo>
                  <a:lnTo>
                    <a:pt x="717" y="0"/>
                  </a:lnTo>
                  <a:lnTo>
                    <a:pt x="717" y="963"/>
                  </a:lnTo>
                  <a:lnTo>
                    <a:pt x="603" y="963"/>
                  </a:lnTo>
                  <a:lnTo>
                    <a:pt x="249" y="546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861080" y="2833560"/>
              <a:ext cx="206280" cy="31284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9" y="616"/>
                  </a:lnTo>
                  <a:lnTo>
                    <a:pt x="648" y="647"/>
                  </a:lnTo>
                  <a:lnTo>
                    <a:pt x="646" y="675"/>
                  </a:lnTo>
                  <a:lnTo>
                    <a:pt x="644" y="702"/>
                  </a:lnTo>
                  <a:lnTo>
                    <a:pt x="641" y="725"/>
                  </a:lnTo>
                  <a:lnTo>
                    <a:pt x="638" y="748"/>
                  </a:lnTo>
                  <a:lnTo>
                    <a:pt x="634" y="768"/>
                  </a:lnTo>
                  <a:lnTo>
                    <a:pt x="630" y="786"/>
                  </a:lnTo>
                  <a:lnTo>
                    <a:pt x="624" y="803"/>
                  </a:lnTo>
                  <a:lnTo>
                    <a:pt x="618" y="818"/>
                  </a:lnTo>
                  <a:lnTo>
                    <a:pt x="612" y="834"/>
                  </a:lnTo>
                  <a:lnTo>
                    <a:pt x="604" y="849"/>
                  </a:lnTo>
                  <a:lnTo>
                    <a:pt x="595" y="863"/>
                  </a:lnTo>
                  <a:lnTo>
                    <a:pt x="586" y="876"/>
                  </a:lnTo>
                  <a:lnTo>
                    <a:pt x="576" y="890"/>
                  </a:lnTo>
                  <a:lnTo>
                    <a:pt x="565" y="902"/>
                  </a:lnTo>
                  <a:lnTo>
                    <a:pt x="555" y="911"/>
                  </a:lnTo>
                  <a:lnTo>
                    <a:pt x="543" y="921"/>
                  </a:lnTo>
                  <a:lnTo>
                    <a:pt x="532" y="930"/>
                  </a:lnTo>
                  <a:lnTo>
                    <a:pt x="520" y="939"/>
                  </a:lnTo>
                  <a:lnTo>
                    <a:pt x="507" y="946"/>
                  </a:lnTo>
                  <a:lnTo>
                    <a:pt x="492" y="953"/>
                  </a:lnTo>
                  <a:lnTo>
                    <a:pt x="478" y="960"/>
                  </a:lnTo>
                  <a:lnTo>
                    <a:pt x="463" y="966"/>
                  </a:lnTo>
                  <a:lnTo>
                    <a:pt x="446" y="971"/>
                  </a:lnTo>
                  <a:lnTo>
                    <a:pt x="430" y="976"/>
                  </a:lnTo>
                  <a:lnTo>
                    <a:pt x="414" y="980"/>
                  </a:lnTo>
                  <a:lnTo>
                    <a:pt x="396" y="983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5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3"/>
                  </a:lnTo>
                  <a:lnTo>
                    <a:pt x="236" y="980"/>
                  </a:lnTo>
                  <a:lnTo>
                    <a:pt x="219" y="976"/>
                  </a:lnTo>
                  <a:lnTo>
                    <a:pt x="202" y="971"/>
                  </a:lnTo>
                  <a:lnTo>
                    <a:pt x="187" y="966"/>
                  </a:lnTo>
                  <a:lnTo>
                    <a:pt x="172" y="960"/>
                  </a:lnTo>
                  <a:lnTo>
                    <a:pt x="156" y="953"/>
                  </a:lnTo>
                  <a:lnTo>
                    <a:pt x="143" y="946"/>
                  </a:lnTo>
                  <a:lnTo>
                    <a:pt x="130" y="939"/>
                  </a:lnTo>
                  <a:lnTo>
                    <a:pt x="117" y="930"/>
                  </a:lnTo>
                  <a:lnTo>
                    <a:pt x="105" y="921"/>
                  </a:lnTo>
                  <a:lnTo>
                    <a:pt x="95" y="911"/>
                  </a:lnTo>
                  <a:lnTo>
                    <a:pt x="85" y="902"/>
                  </a:lnTo>
                  <a:lnTo>
                    <a:pt x="74" y="889"/>
                  </a:lnTo>
                  <a:lnTo>
                    <a:pt x="63" y="876"/>
                  </a:lnTo>
                  <a:lnTo>
                    <a:pt x="53" y="862"/>
                  </a:lnTo>
                  <a:lnTo>
                    <a:pt x="45" y="848"/>
                  </a:lnTo>
                  <a:lnTo>
                    <a:pt x="37" y="833"/>
                  </a:lnTo>
                  <a:lnTo>
                    <a:pt x="31" y="817"/>
                  </a:lnTo>
                  <a:lnTo>
                    <a:pt x="25" y="801"/>
                  </a:lnTo>
                  <a:lnTo>
                    <a:pt x="18" y="785"/>
                  </a:lnTo>
                  <a:lnTo>
                    <a:pt x="14" y="766"/>
                  </a:lnTo>
                  <a:lnTo>
                    <a:pt x="10" y="746"/>
                  </a:lnTo>
                  <a:lnTo>
                    <a:pt x="7" y="724"/>
                  </a:lnTo>
                  <a:lnTo>
                    <a:pt x="4" y="700"/>
                  </a:lnTo>
                  <a:lnTo>
                    <a:pt x="2" y="673"/>
                  </a:lnTo>
                  <a:lnTo>
                    <a:pt x="1" y="646"/>
                  </a:lnTo>
                  <a:lnTo>
                    <a:pt x="0" y="615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583"/>
                  </a:lnTo>
                  <a:lnTo>
                    <a:pt x="251" y="603"/>
                  </a:lnTo>
                  <a:lnTo>
                    <a:pt x="251" y="620"/>
                  </a:lnTo>
                  <a:lnTo>
                    <a:pt x="253" y="638"/>
                  </a:lnTo>
                  <a:lnTo>
                    <a:pt x="254" y="652"/>
                  </a:lnTo>
                  <a:lnTo>
                    <a:pt x="257" y="666"/>
                  </a:lnTo>
                  <a:lnTo>
                    <a:pt x="260" y="677"/>
                  </a:lnTo>
                  <a:lnTo>
                    <a:pt x="264" y="688"/>
                  </a:lnTo>
                  <a:lnTo>
                    <a:pt x="268" y="697"/>
                  </a:lnTo>
                  <a:lnTo>
                    <a:pt x="272" y="704"/>
                  </a:lnTo>
                  <a:lnTo>
                    <a:pt x="277" y="711"/>
                  </a:lnTo>
                  <a:lnTo>
                    <a:pt x="283" y="716"/>
                  </a:lnTo>
                  <a:lnTo>
                    <a:pt x="290" y="721"/>
                  </a:lnTo>
                  <a:lnTo>
                    <a:pt x="297" y="724"/>
                  </a:lnTo>
                  <a:lnTo>
                    <a:pt x="305" y="727"/>
                  </a:lnTo>
                  <a:lnTo>
                    <a:pt x="315" y="728"/>
                  </a:lnTo>
                  <a:lnTo>
                    <a:pt x="325" y="730"/>
                  </a:lnTo>
                  <a:lnTo>
                    <a:pt x="334" y="728"/>
                  </a:lnTo>
                  <a:lnTo>
                    <a:pt x="343" y="727"/>
                  </a:lnTo>
                  <a:lnTo>
                    <a:pt x="351" y="724"/>
                  </a:lnTo>
                  <a:lnTo>
                    <a:pt x="358" y="721"/>
                  </a:lnTo>
                  <a:lnTo>
                    <a:pt x="366" y="716"/>
                  </a:lnTo>
                  <a:lnTo>
                    <a:pt x="372" y="710"/>
                  </a:lnTo>
                  <a:lnTo>
                    <a:pt x="377" y="704"/>
                  </a:lnTo>
                  <a:lnTo>
                    <a:pt x="382" y="696"/>
                  </a:lnTo>
                  <a:lnTo>
                    <a:pt x="386" y="688"/>
                  </a:lnTo>
                  <a:lnTo>
                    <a:pt x="389" y="676"/>
                  </a:lnTo>
                  <a:lnTo>
                    <a:pt x="392" y="665"/>
                  </a:lnTo>
                  <a:lnTo>
                    <a:pt x="395" y="652"/>
                  </a:lnTo>
                  <a:lnTo>
                    <a:pt x="396" y="637"/>
                  </a:lnTo>
                  <a:lnTo>
                    <a:pt x="398" y="620"/>
                  </a:lnTo>
                  <a:lnTo>
                    <a:pt x="398" y="602"/>
                  </a:lnTo>
                  <a:lnTo>
                    <a:pt x="399" y="58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092560" y="2833560"/>
              <a:ext cx="204840" cy="304920"/>
            </a:xfrm>
            <a:custGeom>
              <a:avLst/>
              <a:gdLst/>
              <a:ahLst/>
              <a:rect l="l" t="t" r="r" b="b"/>
              <a:pathLst>
                <a:path w="643" h="963">
                  <a:moveTo>
                    <a:pt x="447" y="243"/>
                  </a:moveTo>
                  <a:lnTo>
                    <a:pt x="447" y="963"/>
                  </a:lnTo>
                  <a:lnTo>
                    <a:pt x="195" y="963"/>
                  </a:lnTo>
                  <a:lnTo>
                    <a:pt x="195" y="243"/>
                  </a:lnTo>
                  <a:lnTo>
                    <a:pt x="0" y="243"/>
                  </a:lnTo>
                  <a:lnTo>
                    <a:pt x="26" y="0"/>
                  </a:lnTo>
                  <a:lnTo>
                    <a:pt x="615" y="0"/>
                  </a:lnTo>
                  <a:lnTo>
                    <a:pt x="643" y="243"/>
                  </a:lnTo>
                  <a:lnTo>
                    <a:pt x="447" y="24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322960" y="2833560"/>
              <a:ext cx="191880" cy="304920"/>
            </a:xfrm>
            <a:custGeom>
              <a:avLst/>
              <a:gdLst/>
              <a:ahLst/>
              <a:rect l="l" t="t" r="r" b="b"/>
              <a:pathLst>
                <a:path w="604" h="963">
                  <a:moveTo>
                    <a:pt x="604" y="698"/>
                  </a:moveTo>
                  <a:lnTo>
                    <a:pt x="536" y="963"/>
                  </a:lnTo>
                  <a:lnTo>
                    <a:pt x="0" y="963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5" y="256"/>
                  </a:lnTo>
                  <a:lnTo>
                    <a:pt x="251" y="256"/>
                  </a:lnTo>
                  <a:lnTo>
                    <a:pt x="251" y="354"/>
                  </a:lnTo>
                  <a:lnTo>
                    <a:pt x="468" y="354"/>
                  </a:lnTo>
                  <a:lnTo>
                    <a:pt x="468" y="609"/>
                  </a:lnTo>
                  <a:lnTo>
                    <a:pt x="251" y="609"/>
                  </a:lnTo>
                  <a:lnTo>
                    <a:pt x="251" y="698"/>
                  </a:lnTo>
                  <a:lnTo>
                    <a:pt x="604" y="6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535720" y="282888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9" y="981"/>
                  </a:moveTo>
                  <a:lnTo>
                    <a:pt x="11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6" y="728"/>
                  </a:lnTo>
                  <a:lnTo>
                    <a:pt x="53" y="730"/>
                  </a:lnTo>
                  <a:lnTo>
                    <a:pt x="59" y="732"/>
                  </a:lnTo>
                  <a:lnTo>
                    <a:pt x="66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8" y="740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2" y="734"/>
                  </a:lnTo>
                  <a:lnTo>
                    <a:pt x="161" y="731"/>
                  </a:lnTo>
                  <a:lnTo>
                    <a:pt x="169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8" y="701"/>
                  </a:lnTo>
                  <a:lnTo>
                    <a:pt x="202" y="695"/>
                  </a:lnTo>
                  <a:lnTo>
                    <a:pt x="205" y="687"/>
                  </a:lnTo>
                  <a:lnTo>
                    <a:pt x="208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4" y="641"/>
                  </a:lnTo>
                  <a:lnTo>
                    <a:pt x="198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9" y="587"/>
                  </a:lnTo>
                  <a:lnTo>
                    <a:pt x="154" y="572"/>
                  </a:lnTo>
                  <a:lnTo>
                    <a:pt x="137" y="556"/>
                  </a:lnTo>
                  <a:lnTo>
                    <a:pt x="131" y="551"/>
                  </a:lnTo>
                  <a:lnTo>
                    <a:pt x="126" y="546"/>
                  </a:lnTo>
                  <a:lnTo>
                    <a:pt x="121" y="541"/>
                  </a:lnTo>
                  <a:lnTo>
                    <a:pt x="116" y="535"/>
                  </a:lnTo>
                  <a:lnTo>
                    <a:pt x="112" y="531"/>
                  </a:lnTo>
                  <a:lnTo>
                    <a:pt x="106" y="527"/>
                  </a:lnTo>
                  <a:lnTo>
                    <a:pt x="103" y="524"/>
                  </a:lnTo>
                  <a:lnTo>
                    <a:pt x="99" y="520"/>
                  </a:lnTo>
                  <a:lnTo>
                    <a:pt x="87" y="508"/>
                  </a:lnTo>
                  <a:lnTo>
                    <a:pt x="76" y="495"/>
                  </a:lnTo>
                  <a:lnTo>
                    <a:pt x="66" y="481"/>
                  </a:lnTo>
                  <a:lnTo>
                    <a:pt x="55" y="468"/>
                  </a:lnTo>
                  <a:lnTo>
                    <a:pt x="46" y="455"/>
                  </a:lnTo>
                  <a:lnTo>
                    <a:pt x="38" y="442"/>
                  </a:lnTo>
                  <a:lnTo>
                    <a:pt x="31" y="428"/>
                  </a:lnTo>
                  <a:lnTo>
                    <a:pt x="25" y="414"/>
                  </a:lnTo>
                  <a:lnTo>
                    <a:pt x="19" y="401"/>
                  </a:lnTo>
                  <a:lnTo>
                    <a:pt x="13" y="386"/>
                  </a:lnTo>
                  <a:lnTo>
                    <a:pt x="9" y="372"/>
                  </a:lnTo>
                  <a:lnTo>
                    <a:pt x="6" y="358"/>
                  </a:lnTo>
                  <a:lnTo>
                    <a:pt x="3" y="343"/>
                  </a:lnTo>
                  <a:lnTo>
                    <a:pt x="1" y="327"/>
                  </a:lnTo>
                  <a:lnTo>
                    <a:pt x="0" y="312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1" y="265"/>
                  </a:lnTo>
                  <a:lnTo>
                    <a:pt x="3" y="250"/>
                  </a:lnTo>
                  <a:lnTo>
                    <a:pt x="5" y="235"/>
                  </a:lnTo>
                  <a:lnTo>
                    <a:pt x="8" y="220"/>
                  </a:lnTo>
                  <a:lnTo>
                    <a:pt x="12" y="206"/>
                  </a:lnTo>
                  <a:lnTo>
                    <a:pt x="18" y="192"/>
                  </a:lnTo>
                  <a:lnTo>
                    <a:pt x="23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59" y="116"/>
                  </a:lnTo>
                  <a:lnTo>
                    <a:pt x="70" y="105"/>
                  </a:lnTo>
                  <a:lnTo>
                    <a:pt x="80" y="94"/>
                  </a:lnTo>
                  <a:lnTo>
                    <a:pt x="91" y="84"/>
                  </a:lnTo>
                  <a:lnTo>
                    <a:pt x="102" y="73"/>
                  </a:lnTo>
                  <a:lnTo>
                    <a:pt x="115" y="64"/>
                  </a:lnTo>
                  <a:lnTo>
                    <a:pt x="127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3"/>
                  </a:lnTo>
                  <a:lnTo>
                    <a:pt x="181" y="26"/>
                  </a:lnTo>
                  <a:lnTo>
                    <a:pt x="195" y="20"/>
                  </a:lnTo>
                  <a:lnTo>
                    <a:pt x="211" y="16"/>
                  </a:lnTo>
                  <a:lnTo>
                    <a:pt x="226" y="11"/>
                  </a:lnTo>
                  <a:lnTo>
                    <a:pt x="241" y="8"/>
                  </a:lnTo>
                  <a:lnTo>
                    <a:pt x="258" y="5"/>
                  </a:lnTo>
                  <a:lnTo>
                    <a:pt x="274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0" y="1"/>
                  </a:lnTo>
                  <a:lnTo>
                    <a:pt x="370" y="1"/>
                  </a:lnTo>
                  <a:lnTo>
                    <a:pt x="381" y="2"/>
                  </a:lnTo>
                  <a:lnTo>
                    <a:pt x="391" y="3"/>
                  </a:lnTo>
                  <a:lnTo>
                    <a:pt x="402" y="4"/>
                  </a:lnTo>
                  <a:lnTo>
                    <a:pt x="412" y="6"/>
                  </a:lnTo>
                  <a:lnTo>
                    <a:pt x="422" y="7"/>
                  </a:lnTo>
                  <a:lnTo>
                    <a:pt x="431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8" y="24"/>
                  </a:lnTo>
                  <a:lnTo>
                    <a:pt x="488" y="263"/>
                  </a:lnTo>
                  <a:lnTo>
                    <a:pt x="480" y="259"/>
                  </a:lnTo>
                  <a:lnTo>
                    <a:pt x="473" y="256"/>
                  </a:lnTo>
                  <a:lnTo>
                    <a:pt x="465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3" y="244"/>
                  </a:lnTo>
                  <a:lnTo>
                    <a:pt x="436" y="242"/>
                  </a:lnTo>
                  <a:lnTo>
                    <a:pt x="430" y="240"/>
                  </a:lnTo>
                  <a:lnTo>
                    <a:pt x="423" y="238"/>
                  </a:lnTo>
                  <a:lnTo>
                    <a:pt x="417" y="236"/>
                  </a:lnTo>
                  <a:lnTo>
                    <a:pt x="411" y="235"/>
                  </a:lnTo>
                  <a:lnTo>
                    <a:pt x="405" y="233"/>
                  </a:lnTo>
                  <a:lnTo>
                    <a:pt x="398" y="232"/>
                  </a:lnTo>
                  <a:lnTo>
                    <a:pt x="392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0" y="231"/>
                  </a:lnTo>
                  <a:lnTo>
                    <a:pt x="360" y="232"/>
                  </a:lnTo>
                  <a:lnTo>
                    <a:pt x="349" y="235"/>
                  </a:lnTo>
                  <a:lnTo>
                    <a:pt x="339" y="237"/>
                  </a:lnTo>
                  <a:lnTo>
                    <a:pt x="331" y="240"/>
                  </a:lnTo>
                  <a:lnTo>
                    <a:pt x="323" y="243"/>
                  </a:lnTo>
                  <a:lnTo>
                    <a:pt x="316" y="247"/>
                  </a:lnTo>
                  <a:lnTo>
                    <a:pt x="309" y="251"/>
                  </a:lnTo>
                  <a:lnTo>
                    <a:pt x="302" y="256"/>
                  </a:lnTo>
                  <a:lnTo>
                    <a:pt x="297" y="262"/>
                  </a:lnTo>
                  <a:lnTo>
                    <a:pt x="293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90"/>
                  </a:lnTo>
                  <a:lnTo>
                    <a:pt x="284" y="299"/>
                  </a:lnTo>
                  <a:lnTo>
                    <a:pt x="283" y="307"/>
                  </a:lnTo>
                  <a:lnTo>
                    <a:pt x="284" y="312"/>
                  </a:lnTo>
                  <a:lnTo>
                    <a:pt x="284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40"/>
                  </a:lnTo>
                  <a:lnTo>
                    <a:pt x="300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6" y="389"/>
                  </a:lnTo>
                  <a:lnTo>
                    <a:pt x="353" y="403"/>
                  </a:lnTo>
                  <a:lnTo>
                    <a:pt x="360" y="408"/>
                  </a:lnTo>
                  <a:lnTo>
                    <a:pt x="366" y="413"/>
                  </a:lnTo>
                  <a:lnTo>
                    <a:pt x="372" y="418"/>
                  </a:lnTo>
                  <a:lnTo>
                    <a:pt x="377" y="422"/>
                  </a:lnTo>
                  <a:lnTo>
                    <a:pt x="382" y="427"/>
                  </a:lnTo>
                  <a:lnTo>
                    <a:pt x="387" y="431"/>
                  </a:lnTo>
                  <a:lnTo>
                    <a:pt x="391" y="434"/>
                  </a:lnTo>
                  <a:lnTo>
                    <a:pt x="395" y="439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3" y="476"/>
                  </a:lnTo>
                  <a:lnTo>
                    <a:pt x="444" y="491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3" y="534"/>
                  </a:lnTo>
                  <a:lnTo>
                    <a:pt x="481" y="550"/>
                  </a:lnTo>
                  <a:lnTo>
                    <a:pt x="487" y="566"/>
                  </a:lnTo>
                  <a:lnTo>
                    <a:pt x="493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9" y="650"/>
                  </a:lnTo>
                  <a:lnTo>
                    <a:pt x="510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9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1" y="800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1"/>
                  </a:lnTo>
                  <a:lnTo>
                    <a:pt x="465" y="854"/>
                  </a:lnTo>
                  <a:lnTo>
                    <a:pt x="457" y="866"/>
                  </a:lnTo>
                  <a:lnTo>
                    <a:pt x="446" y="878"/>
                  </a:lnTo>
                  <a:lnTo>
                    <a:pt x="436" y="889"/>
                  </a:lnTo>
                  <a:lnTo>
                    <a:pt x="426" y="901"/>
                  </a:lnTo>
                  <a:lnTo>
                    <a:pt x="415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2" y="947"/>
                  </a:lnTo>
                  <a:lnTo>
                    <a:pt x="347" y="955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299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89" y="992"/>
                  </a:lnTo>
                  <a:lnTo>
                    <a:pt x="169" y="993"/>
                  </a:lnTo>
                  <a:lnTo>
                    <a:pt x="148" y="993"/>
                  </a:lnTo>
                  <a:lnTo>
                    <a:pt x="139" y="993"/>
                  </a:lnTo>
                  <a:lnTo>
                    <a:pt x="131" y="993"/>
                  </a:lnTo>
                  <a:lnTo>
                    <a:pt x="123" y="992"/>
                  </a:lnTo>
                  <a:lnTo>
                    <a:pt x="114" y="992"/>
                  </a:lnTo>
                  <a:lnTo>
                    <a:pt x="105" y="992"/>
                  </a:lnTo>
                  <a:lnTo>
                    <a:pt x="97" y="991"/>
                  </a:lnTo>
                  <a:lnTo>
                    <a:pt x="89" y="990"/>
                  </a:lnTo>
                  <a:lnTo>
                    <a:pt x="81" y="990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49" y="986"/>
                  </a:lnTo>
                  <a:lnTo>
                    <a:pt x="41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9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923080" y="2909880"/>
              <a:ext cx="145800" cy="150840"/>
            </a:xfrm>
            <a:custGeom>
              <a:avLst/>
              <a:gdLst/>
              <a:ahLst/>
              <a:rect l="l" t="t" r="r" b="b"/>
              <a:pathLst>
                <a:path w="458" h="477">
                  <a:moveTo>
                    <a:pt x="228" y="0"/>
                  </a:moveTo>
                  <a:lnTo>
                    <a:pt x="217" y="0"/>
                  </a:lnTo>
                  <a:lnTo>
                    <a:pt x="205" y="1"/>
                  </a:lnTo>
                  <a:lnTo>
                    <a:pt x="194" y="2"/>
                  </a:lnTo>
                  <a:lnTo>
                    <a:pt x="182" y="4"/>
                  </a:lnTo>
                  <a:lnTo>
                    <a:pt x="171" y="7"/>
                  </a:lnTo>
                  <a:lnTo>
                    <a:pt x="160" y="10"/>
                  </a:lnTo>
                  <a:lnTo>
                    <a:pt x="150" y="13"/>
                  </a:lnTo>
                  <a:lnTo>
                    <a:pt x="139" y="17"/>
                  </a:lnTo>
                  <a:lnTo>
                    <a:pt x="129" y="21"/>
                  </a:lnTo>
                  <a:lnTo>
                    <a:pt x="119" y="26"/>
                  </a:lnTo>
                  <a:lnTo>
                    <a:pt x="110" y="33"/>
                  </a:lnTo>
                  <a:lnTo>
                    <a:pt x="100" y="39"/>
                  </a:lnTo>
                  <a:lnTo>
                    <a:pt x="90" y="46"/>
                  </a:lnTo>
                  <a:lnTo>
                    <a:pt x="82" y="53"/>
                  </a:lnTo>
                  <a:lnTo>
                    <a:pt x="73" y="60"/>
                  </a:lnTo>
                  <a:lnTo>
                    <a:pt x="65" y="68"/>
                  </a:lnTo>
                  <a:lnTo>
                    <a:pt x="57" y="77"/>
                  </a:lnTo>
                  <a:lnTo>
                    <a:pt x="50" y="87"/>
                  </a:lnTo>
                  <a:lnTo>
                    <a:pt x="42" y="96"/>
                  </a:lnTo>
                  <a:lnTo>
                    <a:pt x="36" y="105"/>
                  </a:lnTo>
                  <a:lnTo>
                    <a:pt x="30" y="115"/>
                  </a:lnTo>
                  <a:lnTo>
                    <a:pt x="25" y="125"/>
                  </a:lnTo>
                  <a:lnTo>
                    <a:pt x="20" y="136"/>
                  </a:lnTo>
                  <a:lnTo>
                    <a:pt x="16" y="146"/>
                  </a:lnTo>
                  <a:lnTo>
                    <a:pt x="12" y="157"/>
                  </a:lnTo>
                  <a:lnTo>
                    <a:pt x="9" y="167"/>
                  </a:lnTo>
                  <a:lnTo>
                    <a:pt x="6" y="178"/>
                  </a:lnTo>
                  <a:lnTo>
                    <a:pt x="4" y="191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52"/>
                  </a:lnTo>
                  <a:lnTo>
                    <a:pt x="1" y="264"/>
                  </a:lnTo>
                  <a:lnTo>
                    <a:pt x="2" y="275"/>
                  </a:lnTo>
                  <a:lnTo>
                    <a:pt x="4" y="288"/>
                  </a:lnTo>
                  <a:lnTo>
                    <a:pt x="6" y="299"/>
                  </a:lnTo>
                  <a:lnTo>
                    <a:pt x="9" y="310"/>
                  </a:lnTo>
                  <a:lnTo>
                    <a:pt x="12" y="321"/>
                  </a:lnTo>
                  <a:lnTo>
                    <a:pt x="16" y="332"/>
                  </a:lnTo>
                  <a:lnTo>
                    <a:pt x="20" y="343"/>
                  </a:lnTo>
                  <a:lnTo>
                    <a:pt x="25" y="353"/>
                  </a:lnTo>
                  <a:lnTo>
                    <a:pt x="30" y="363"/>
                  </a:lnTo>
                  <a:lnTo>
                    <a:pt x="36" y="372"/>
                  </a:lnTo>
                  <a:lnTo>
                    <a:pt x="42" y="382"/>
                  </a:lnTo>
                  <a:lnTo>
                    <a:pt x="50" y="391"/>
                  </a:lnTo>
                  <a:lnTo>
                    <a:pt x="57" y="400"/>
                  </a:lnTo>
                  <a:lnTo>
                    <a:pt x="65" y="409"/>
                  </a:lnTo>
                  <a:lnTo>
                    <a:pt x="73" y="417"/>
                  </a:lnTo>
                  <a:lnTo>
                    <a:pt x="81" y="424"/>
                  </a:lnTo>
                  <a:lnTo>
                    <a:pt x="90" y="432"/>
                  </a:lnTo>
                  <a:lnTo>
                    <a:pt x="100" y="439"/>
                  </a:lnTo>
                  <a:lnTo>
                    <a:pt x="109" y="445"/>
                  </a:lnTo>
                  <a:lnTo>
                    <a:pt x="119" y="451"/>
                  </a:lnTo>
                  <a:lnTo>
                    <a:pt x="128" y="456"/>
                  </a:lnTo>
                  <a:lnTo>
                    <a:pt x="138" y="460"/>
                  </a:lnTo>
                  <a:lnTo>
                    <a:pt x="149" y="464"/>
                  </a:lnTo>
                  <a:lnTo>
                    <a:pt x="160" y="468"/>
                  </a:lnTo>
                  <a:lnTo>
                    <a:pt x="170" y="470"/>
                  </a:lnTo>
                  <a:lnTo>
                    <a:pt x="181" y="473"/>
                  </a:lnTo>
                  <a:lnTo>
                    <a:pt x="193" y="475"/>
                  </a:lnTo>
                  <a:lnTo>
                    <a:pt x="205" y="476"/>
                  </a:lnTo>
                  <a:lnTo>
                    <a:pt x="216" y="477"/>
                  </a:lnTo>
                  <a:lnTo>
                    <a:pt x="228" y="477"/>
                  </a:lnTo>
                  <a:lnTo>
                    <a:pt x="241" y="477"/>
                  </a:lnTo>
                  <a:lnTo>
                    <a:pt x="253" y="476"/>
                  </a:lnTo>
                  <a:lnTo>
                    <a:pt x="264" y="475"/>
                  </a:lnTo>
                  <a:lnTo>
                    <a:pt x="275" y="473"/>
                  </a:lnTo>
                  <a:lnTo>
                    <a:pt x="287" y="470"/>
                  </a:lnTo>
                  <a:lnTo>
                    <a:pt x="298" y="468"/>
                  </a:lnTo>
                  <a:lnTo>
                    <a:pt x="308" y="464"/>
                  </a:lnTo>
                  <a:lnTo>
                    <a:pt x="318" y="460"/>
                  </a:lnTo>
                  <a:lnTo>
                    <a:pt x="328" y="456"/>
                  </a:lnTo>
                  <a:lnTo>
                    <a:pt x="339" y="451"/>
                  </a:lnTo>
                  <a:lnTo>
                    <a:pt x="348" y="445"/>
                  </a:lnTo>
                  <a:lnTo>
                    <a:pt x="357" y="439"/>
                  </a:lnTo>
                  <a:lnTo>
                    <a:pt x="366" y="431"/>
                  </a:lnTo>
                  <a:lnTo>
                    <a:pt x="375" y="424"/>
                  </a:lnTo>
                  <a:lnTo>
                    <a:pt x="384" y="417"/>
                  </a:lnTo>
                  <a:lnTo>
                    <a:pt x="392" y="408"/>
                  </a:lnTo>
                  <a:lnTo>
                    <a:pt x="400" y="400"/>
                  </a:lnTo>
                  <a:lnTo>
                    <a:pt x="407" y="391"/>
                  </a:lnTo>
                  <a:lnTo>
                    <a:pt x="414" y="381"/>
                  </a:lnTo>
                  <a:lnTo>
                    <a:pt x="421" y="372"/>
                  </a:lnTo>
                  <a:lnTo>
                    <a:pt x="426" y="362"/>
                  </a:lnTo>
                  <a:lnTo>
                    <a:pt x="433" y="353"/>
                  </a:lnTo>
                  <a:lnTo>
                    <a:pt x="437" y="343"/>
                  </a:lnTo>
                  <a:lnTo>
                    <a:pt x="442" y="331"/>
                  </a:lnTo>
                  <a:lnTo>
                    <a:pt x="446" y="321"/>
                  </a:lnTo>
                  <a:lnTo>
                    <a:pt x="449" y="310"/>
                  </a:lnTo>
                  <a:lnTo>
                    <a:pt x="452" y="299"/>
                  </a:lnTo>
                  <a:lnTo>
                    <a:pt x="454" y="288"/>
                  </a:lnTo>
                  <a:lnTo>
                    <a:pt x="456" y="275"/>
                  </a:lnTo>
                  <a:lnTo>
                    <a:pt x="457" y="263"/>
                  </a:lnTo>
                  <a:lnTo>
                    <a:pt x="458" y="251"/>
                  </a:lnTo>
                  <a:lnTo>
                    <a:pt x="458" y="239"/>
                  </a:lnTo>
                  <a:lnTo>
                    <a:pt x="458" y="226"/>
                  </a:lnTo>
                  <a:lnTo>
                    <a:pt x="457" y="214"/>
                  </a:lnTo>
                  <a:lnTo>
                    <a:pt x="456" y="202"/>
                  </a:lnTo>
                  <a:lnTo>
                    <a:pt x="454" y="191"/>
                  </a:lnTo>
                  <a:lnTo>
                    <a:pt x="452" y="179"/>
                  </a:lnTo>
                  <a:lnTo>
                    <a:pt x="449" y="168"/>
                  </a:lnTo>
                  <a:lnTo>
                    <a:pt x="446" y="157"/>
                  </a:lnTo>
                  <a:lnTo>
                    <a:pt x="442" y="146"/>
                  </a:lnTo>
                  <a:lnTo>
                    <a:pt x="437" y="136"/>
                  </a:lnTo>
                  <a:lnTo>
                    <a:pt x="433" y="125"/>
                  </a:lnTo>
                  <a:lnTo>
                    <a:pt x="426" y="115"/>
                  </a:lnTo>
                  <a:lnTo>
                    <a:pt x="421" y="106"/>
                  </a:lnTo>
                  <a:lnTo>
                    <a:pt x="414" y="96"/>
                  </a:lnTo>
                  <a:lnTo>
                    <a:pt x="407" y="87"/>
                  </a:lnTo>
                  <a:lnTo>
                    <a:pt x="400" y="78"/>
                  </a:lnTo>
                  <a:lnTo>
                    <a:pt x="392" y="69"/>
                  </a:lnTo>
                  <a:lnTo>
                    <a:pt x="384" y="61"/>
                  </a:lnTo>
                  <a:lnTo>
                    <a:pt x="375" y="53"/>
                  </a:lnTo>
                  <a:lnTo>
                    <a:pt x="366" y="46"/>
                  </a:lnTo>
                  <a:lnTo>
                    <a:pt x="357" y="39"/>
                  </a:lnTo>
                  <a:lnTo>
                    <a:pt x="348" y="33"/>
                  </a:lnTo>
                  <a:lnTo>
                    <a:pt x="339" y="27"/>
                  </a:lnTo>
                  <a:lnTo>
                    <a:pt x="328" y="22"/>
                  </a:lnTo>
                  <a:lnTo>
                    <a:pt x="318" y="17"/>
                  </a:lnTo>
                  <a:lnTo>
                    <a:pt x="308" y="13"/>
                  </a:lnTo>
                  <a:lnTo>
                    <a:pt x="298" y="10"/>
                  </a:lnTo>
                  <a:lnTo>
                    <a:pt x="287" y="7"/>
                  </a:lnTo>
                  <a:lnTo>
                    <a:pt x="275" y="4"/>
                  </a:lnTo>
                  <a:lnTo>
                    <a:pt x="264" y="3"/>
                  </a:lnTo>
                  <a:lnTo>
                    <a:pt x="253" y="1"/>
                  </a:lnTo>
                  <a:lnTo>
                    <a:pt x="241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840280" y="2824200"/>
              <a:ext cx="311400" cy="322200"/>
            </a:xfrm>
            <a:custGeom>
              <a:avLst/>
              <a:gdLst/>
              <a:ahLst/>
              <a:rect l="l" t="t" r="r" b="b"/>
              <a:pathLst>
                <a:path w="979" h="1015"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600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40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7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2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1" y="372"/>
                  </a:lnTo>
                  <a:lnTo>
                    <a:pt x="967" y="399"/>
                  </a:lnTo>
                  <a:lnTo>
                    <a:pt x="971" y="425"/>
                  </a:lnTo>
                  <a:lnTo>
                    <a:pt x="975" y="453"/>
                  </a:lnTo>
                  <a:lnTo>
                    <a:pt x="977" y="479"/>
                  </a:lnTo>
                  <a:lnTo>
                    <a:pt x="979" y="507"/>
                  </a:lnTo>
                  <a:lnTo>
                    <a:pt x="977" y="535"/>
                  </a:lnTo>
                  <a:lnTo>
                    <a:pt x="975" y="562"/>
                  </a:lnTo>
                  <a:lnTo>
                    <a:pt x="971" y="589"/>
                  </a:lnTo>
                  <a:lnTo>
                    <a:pt x="967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4" y="719"/>
                  </a:lnTo>
                  <a:lnTo>
                    <a:pt x="921" y="743"/>
                  </a:lnTo>
                  <a:lnTo>
                    <a:pt x="909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3" y="835"/>
                  </a:lnTo>
                  <a:lnTo>
                    <a:pt x="846" y="855"/>
                  </a:lnTo>
                  <a:lnTo>
                    <a:pt x="826" y="876"/>
                  </a:lnTo>
                  <a:lnTo>
                    <a:pt x="807" y="895"/>
                  </a:lnTo>
                  <a:lnTo>
                    <a:pt x="791" y="910"/>
                  </a:lnTo>
                  <a:lnTo>
                    <a:pt x="774" y="923"/>
                  </a:lnTo>
                  <a:lnTo>
                    <a:pt x="757" y="935"/>
                  </a:lnTo>
                  <a:lnTo>
                    <a:pt x="739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20" y="997"/>
                  </a:lnTo>
                  <a:lnTo>
                    <a:pt x="599" y="1003"/>
                  </a:lnTo>
                  <a:lnTo>
                    <a:pt x="577" y="1007"/>
                  </a:lnTo>
                  <a:lnTo>
                    <a:pt x="556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6" y="1015"/>
                  </a:lnTo>
                  <a:lnTo>
                    <a:pt x="443" y="1014"/>
                  </a:lnTo>
                  <a:lnTo>
                    <a:pt x="422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8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6" y="976"/>
                  </a:lnTo>
                  <a:lnTo>
                    <a:pt x="276" y="967"/>
                  </a:lnTo>
                  <a:lnTo>
                    <a:pt x="258" y="957"/>
                  </a:lnTo>
                  <a:lnTo>
                    <a:pt x="239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7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5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70" y="769"/>
                  </a:lnTo>
                  <a:lnTo>
                    <a:pt x="56" y="744"/>
                  </a:lnTo>
                  <a:lnTo>
                    <a:pt x="45" y="720"/>
                  </a:lnTo>
                  <a:lnTo>
                    <a:pt x="34" y="694"/>
                  </a:lnTo>
                  <a:lnTo>
                    <a:pt x="26" y="669"/>
                  </a:lnTo>
                  <a:lnTo>
                    <a:pt x="18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8" y="372"/>
                  </a:lnTo>
                  <a:lnTo>
                    <a:pt x="26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6" y="270"/>
                  </a:lnTo>
                  <a:lnTo>
                    <a:pt x="69" y="247"/>
                  </a:lnTo>
                  <a:lnTo>
                    <a:pt x="83" y="223"/>
                  </a:lnTo>
                  <a:lnTo>
                    <a:pt x="98" y="202"/>
                  </a:lnTo>
                  <a:lnTo>
                    <a:pt x="115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7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9" y="68"/>
                  </a:lnTo>
                  <a:lnTo>
                    <a:pt x="258" y="58"/>
                  </a:lnTo>
                  <a:lnTo>
                    <a:pt x="276" y="48"/>
                  </a:lnTo>
                  <a:lnTo>
                    <a:pt x="296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8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2" y="5"/>
                  </a:lnTo>
                  <a:lnTo>
                    <a:pt x="443" y="2"/>
                  </a:lnTo>
                  <a:lnTo>
                    <a:pt x="466" y="1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188040" y="2833560"/>
              <a:ext cx="181080" cy="304920"/>
            </a:xfrm>
            <a:custGeom>
              <a:avLst/>
              <a:gdLst/>
              <a:ahLst/>
              <a:rect l="l" t="t" r="r" b="b"/>
              <a:pathLst>
                <a:path w="568" h="963">
                  <a:moveTo>
                    <a:pt x="0" y="963"/>
                  </a:moveTo>
                  <a:lnTo>
                    <a:pt x="0" y="0"/>
                  </a:lnTo>
                  <a:lnTo>
                    <a:pt x="529" y="0"/>
                  </a:lnTo>
                  <a:lnTo>
                    <a:pt x="568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2400" y="3343320"/>
              <a:ext cx="209520" cy="315720"/>
            </a:xfrm>
            <a:custGeom>
              <a:avLst/>
              <a:gdLst/>
              <a:ahLst/>
              <a:rect l="l" t="t" r="r" b="b"/>
              <a:pathLst>
                <a:path w="658" h="996">
                  <a:moveTo>
                    <a:pt x="638" y="980"/>
                  </a:moveTo>
                  <a:lnTo>
                    <a:pt x="631" y="982"/>
                  </a:lnTo>
                  <a:lnTo>
                    <a:pt x="624" y="984"/>
                  </a:lnTo>
                  <a:lnTo>
                    <a:pt x="617" y="986"/>
                  </a:lnTo>
                  <a:lnTo>
                    <a:pt x="609" y="987"/>
                  </a:lnTo>
                  <a:lnTo>
                    <a:pt x="601" y="989"/>
                  </a:lnTo>
                  <a:lnTo>
                    <a:pt x="594" y="990"/>
                  </a:lnTo>
                  <a:lnTo>
                    <a:pt x="586" y="991"/>
                  </a:lnTo>
                  <a:lnTo>
                    <a:pt x="579" y="992"/>
                  </a:lnTo>
                  <a:lnTo>
                    <a:pt x="571" y="993"/>
                  </a:lnTo>
                  <a:lnTo>
                    <a:pt x="563" y="994"/>
                  </a:lnTo>
                  <a:lnTo>
                    <a:pt x="554" y="995"/>
                  </a:lnTo>
                  <a:lnTo>
                    <a:pt x="545" y="995"/>
                  </a:lnTo>
                  <a:lnTo>
                    <a:pt x="537" y="996"/>
                  </a:lnTo>
                  <a:lnTo>
                    <a:pt x="528" y="996"/>
                  </a:lnTo>
                  <a:lnTo>
                    <a:pt x="519" y="996"/>
                  </a:lnTo>
                  <a:lnTo>
                    <a:pt x="510" y="996"/>
                  </a:lnTo>
                  <a:lnTo>
                    <a:pt x="481" y="996"/>
                  </a:lnTo>
                  <a:lnTo>
                    <a:pt x="454" y="994"/>
                  </a:lnTo>
                  <a:lnTo>
                    <a:pt x="427" y="992"/>
                  </a:lnTo>
                  <a:lnTo>
                    <a:pt x="401" y="988"/>
                  </a:lnTo>
                  <a:lnTo>
                    <a:pt x="376" y="983"/>
                  </a:lnTo>
                  <a:lnTo>
                    <a:pt x="351" y="978"/>
                  </a:lnTo>
                  <a:lnTo>
                    <a:pt x="327" y="971"/>
                  </a:lnTo>
                  <a:lnTo>
                    <a:pt x="303" y="963"/>
                  </a:lnTo>
                  <a:lnTo>
                    <a:pt x="281" y="953"/>
                  </a:lnTo>
                  <a:lnTo>
                    <a:pt x="258" y="943"/>
                  </a:lnTo>
                  <a:lnTo>
                    <a:pt x="237" y="932"/>
                  </a:lnTo>
                  <a:lnTo>
                    <a:pt x="216" y="920"/>
                  </a:lnTo>
                  <a:lnTo>
                    <a:pt x="196" y="907"/>
                  </a:lnTo>
                  <a:lnTo>
                    <a:pt x="177" y="892"/>
                  </a:lnTo>
                  <a:lnTo>
                    <a:pt x="158" y="877"/>
                  </a:lnTo>
                  <a:lnTo>
                    <a:pt x="141" y="861"/>
                  </a:lnTo>
                  <a:lnTo>
                    <a:pt x="124" y="843"/>
                  </a:lnTo>
                  <a:lnTo>
                    <a:pt x="107" y="825"/>
                  </a:lnTo>
                  <a:lnTo>
                    <a:pt x="93" y="807"/>
                  </a:lnTo>
                  <a:lnTo>
                    <a:pt x="79" y="787"/>
                  </a:lnTo>
                  <a:lnTo>
                    <a:pt x="66" y="768"/>
                  </a:lnTo>
                  <a:lnTo>
                    <a:pt x="54" y="746"/>
                  </a:lnTo>
                  <a:lnTo>
                    <a:pt x="44" y="726"/>
                  </a:lnTo>
                  <a:lnTo>
                    <a:pt x="35" y="704"/>
                  </a:lnTo>
                  <a:lnTo>
                    <a:pt x="26" y="681"/>
                  </a:lnTo>
                  <a:lnTo>
                    <a:pt x="19" y="658"/>
                  </a:lnTo>
                  <a:lnTo>
                    <a:pt x="13" y="634"/>
                  </a:lnTo>
                  <a:lnTo>
                    <a:pt x="8" y="610"/>
                  </a:lnTo>
                  <a:lnTo>
                    <a:pt x="4" y="585"/>
                  </a:lnTo>
                  <a:lnTo>
                    <a:pt x="2" y="559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478"/>
                  </a:lnTo>
                  <a:lnTo>
                    <a:pt x="2" y="452"/>
                  </a:lnTo>
                  <a:lnTo>
                    <a:pt x="5" y="426"/>
                  </a:lnTo>
                  <a:lnTo>
                    <a:pt x="8" y="401"/>
                  </a:lnTo>
                  <a:lnTo>
                    <a:pt x="13" y="376"/>
                  </a:lnTo>
                  <a:lnTo>
                    <a:pt x="20" y="352"/>
                  </a:lnTo>
                  <a:lnTo>
                    <a:pt x="28" y="328"/>
                  </a:lnTo>
                  <a:lnTo>
                    <a:pt x="36" y="306"/>
                  </a:lnTo>
                  <a:lnTo>
                    <a:pt x="46" y="283"/>
                  </a:lnTo>
                  <a:lnTo>
                    <a:pt x="56" y="262"/>
                  </a:lnTo>
                  <a:lnTo>
                    <a:pt x="68" y="240"/>
                  </a:lnTo>
                  <a:lnTo>
                    <a:pt x="82" y="220"/>
                  </a:lnTo>
                  <a:lnTo>
                    <a:pt x="96" y="200"/>
                  </a:lnTo>
                  <a:lnTo>
                    <a:pt x="111" y="180"/>
                  </a:lnTo>
                  <a:lnTo>
                    <a:pt x="128" y="162"/>
                  </a:lnTo>
                  <a:lnTo>
                    <a:pt x="146" y="144"/>
                  </a:lnTo>
                  <a:lnTo>
                    <a:pt x="164" y="126"/>
                  </a:lnTo>
                  <a:lnTo>
                    <a:pt x="184" y="110"/>
                  </a:lnTo>
                  <a:lnTo>
                    <a:pt x="203" y="95"/>
                  </a:lnTo>
                  <a:lnTo>
                    <a:pt x="224" y="80"/>
                  </a:lnTo>
                  <a:lnTo>
                    <a:pt x="245" y="68"/>
                  </a:lnTo>
                  <a:lnTo>
                    <a:pt x="266" y="56"/>
                  </a:lnTo>
                  <a:lnTo>
                    <a:pt x="289" y="46"/>
                  </a:lnTo>
                  <a:lnTo>
                    <a:pt x="312" y="35"/>
                  </a:lnTo>
                  <a:lnTo>
                    <a:pt x="336" y="27"/>
                  </a:lnTo>
                  <a:lnTo>
                    <a:pt x="359" y="20"/>
                  </a:lnTo>
                  <a:lnTo>
                    <a:pt x="385" y="14"/>
                  </a:lnTo>
                  <a:lnTo>
                    <a:pt x="410" y="9"/>
                  </a:lnTo>
                  <a:lnTo>
                    <a:pt x="436" y="5"/>
                  </a:lnTo>
                  <a:lnTo>
                    <a:pt x="463" y="3"/>
                  </a:lnTo>
                  <a:lnTo>
                    <a:pt x="490" y="1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31" y="1"/>
                  </a:lnTo>
                  <a:lnTo>
                    <a:pt x="538" y="1"/>
                  </a:lnTo>
                  <a:lnTo>
                    <a:pt x="545" y="1"/>
                  </a:lnTo>
                  <a:lnTo>
                    <a:pt x="552" y="2"/>
                  </a:lnTo>
                  <a:lnTo>
                    <a:pt x="560" y="2"/>
                  </a:lnTo>
                  <a:lnTo>
                    <a:pt x="567" y="3"/>
                  </a:lnTo>
                  <a:lnTo>
                    <a:pt x="574" y="4"/>
                  </a:lnTo>
                  <a:lnTo>
                    <a:pt x="581" y="5"/>
                  </a:lnTo>
                  <a:lnTo>
                    <a:pt x="588" y="6"/>
                  </a:lnTo>
                  <a:lnTo>
                    <a:pt x="595" y="7"/>
                  </a:lnTo>
                  <a:lnTo>
                    <a:pt x="603" y="8"/>
                  </a:lnTo>
                  <a:lnTo>
                    <a:pt x="611" y="9"/>
                  </a:lnTo>
                  <a:lnTo>
                    <a:pt x="619" y="11"/>
                  </a:lnTo>
                  <a:lnTo>
                    <a:pt x="626" y="12"/>
                  </a:lnTo>
                  <a:lnTo>
                    <a:pt x="634" y="14"/>
                  </a:lnTo>
                  <a:lnTo>
                    <a:pt x="647" y="300"/>
                  </a:lnTo>
                  <a:lnTo>
                    <a:pt x="638" y="297"/>
                  </a:lnTo>
                  <a:lnTo>
                    <a:pt x="630" y="292"/>
                  </a:lnTo>
                  <a:lnTo>
                    <a:pt x="622" y="289"/>
                  </a:lnTo>
                  <a:lnTo>
                    <a:pt x="614" y="286"/>
                  </a:lnTo>
                  <a:lnTo>
                    <a:pt x="605" y="284"/>
                  </a:lnTo>
                  <a:lnTo>
                    <a:pt x="596" y="281"/>
                  </a:lnTo>
                  <a:lnTo>
                    <a:pt x="588" y="279"/>
                  </a:lnTo>
                  <a:lnTo>
                    <a:pt x="580" y="277"/>
                  </a:lnTo>
                  <a:lnTo>
                    <a:pt x="572" y="275"/>
                  </a:lnTo>
                  <a:lnTo>
                    <a:pt x="564" y="274"/>
                  </a:lnTo>
                  <a:lnTo>
                    <a:pt x="555" y="273"/>
                  </a:lnTo>
                  <a:lnTo>
                    <a:pt x="547" y="272"/>
                  </a:lnTo>
                  <a:lnTo>
                    <a:pt x="539" y="271"/>
                  </a:lnTo>
                  <a:lnTo>
                    <a:pt x="531" y="270"/>
                  </a:lnTo>
                  <a:lnTo>
                    <a:pt x="523" y="270"/>
                  </a:lnTo>
                  <a:lnTo>
                    <a:pt x="516" y="270"/>
                  </a:lnTo>
                  <a:lnTo>
                    <a:pt x="488" y="271"/>
                  </a:lnTo>
                  <a:lnTo>
                    <a:pt x="462" y="274"/>
                  </a:lnTo>
                  <a:lnTo>
                    <a:pt x="448" y="276"/>
                  </a:lnTo>
                  <a:lnTo>
                    <a:pt x="436" y="279"/>
                  </a:lnTo>
                  <a:lnTo>
                    <a:pt x="424" y="282"/>
                  </a:lnTo>
                  <a:lnTo>
                    <a:pt x="413" y="286"/>
                  </a:lnTo>
                  <a:lnTo>
                    <a:pt x="401" y="290"/>
                  </a:lnTo>
                  <a:lnTo>
                    <a:pt x="390" y="296"/>
                  </a:lnTo>
                  <a:lnTo>
                    <a:pt x="380" y="301"/>
                  </a:lnTo>
                  <a:lnTo>
                    <a:pt x="369" y="306"/>
                  </a:lnTo>
                  <a:lnTo>
                    <a:pt x="358" y="312"/>
                  </a:lnTo>
                  <a:lnTo>
                    <a:pt x="349" y="319"/>
                  </a:lnTo>
                  <a:lnTo>
                    <a:pt x="340" y="326"/>
                  </a:lnTo>
                  <a:lnTo>
                    <a:pt x="331" y="333"/>
                  </a:lnTo>
                  <a:lnTo>
                    <a:pt x="322" y="342"/>
                  </a:lnTo>
                  <a:lnTo>
                    <a:pt x="313" y="351"/>
                  </a:lnTo>
                  <a:lnTo>
                    <a:pt x="306" y="359"/>
                  </a:lnTo>
                  <a:lnTo>
                    <a:pt x="299" y="368"/>
                  </a:lnTo>
                  <a:lnTo>
                    <a:pt x="293" y="377"/>
                  </a:lnTo>
                  <a:lnTo>
                    <a:pt x="287" y="386"/>
                  </a:lnTo>
                  <a:lnTo>
                    <a:pt x="282" y="397"/>
                  </a:lnTo>
                  <a:lnTo>
                    <a:pt x="277" y="407"/>
                  </a:lnTo>
                  <a:lnTo>
                    <a:pt x="273" y="417"/>
                  </a:lnTo>
                  <a:lnTo>
                    <a:pt x="270" y="427"/>
                  </a:lnTo>
                  <a:lnTo>
                    <a:pt x="265" y="438"/>
                  </a:lnTo>
                  <a:lnTo>
                    <a:pt x="263" y="450"/>
                  </a:lnTo>
                  <a:lnTo>
                    <a:pt x="261" y="461"/>
                  </a:lnTo>
                  <a:lnTo>
                    <a:pt x="260" y="472"/>
                  </a:lnTo>
                  <a:lnTo>
                    <a:pt x="259" y="484"/>
                  </a:lnTo>
                  <a:lnTo>
                    <a:pt x="259" y="496"/>
                  </a:lnTo>
                  <a:lnTo>
                    <a:pt x="259" y="509"/>
                  </a:lnTo>
                  <a:lnTo>
                    <a:pt x="260" y="521"/>
                  </a:lnTo>
                  <a:lnTo>
                    <a:pt x="261" y="532"/>
                  </a:lnTo>
                  <a:lnTo>
                    <a:pt x="263" y="543"/>
                  </a:lnTo>
                  <a:lnTo>
                    <a:pt x="265" y="555"/>
                  </a:lnTo>
                  <a:lnTo>
                    <a:pt x="269" y="566"/>
                  </a:lnTo>
                  <a:lnTo>
                    <a:pt x="273" y="576"/>
                  </a:lnTo>
                  <a:lnTo>
                    <a:pt x="277" y="586"/>
                  </a:lnTo>
                  <a:lnTo>
                    <a:pt x="282" y="596"/>
                  </a:lnTo>
                  <a:lnTo>
                    <a:pt x="287" y="607"/>
                  </a:lnTo>
                  <a:lnTo>
                    <a:pt x="292" y="616"/>
                  </a:lnTo>
                  <a:lnTo>
                    <a:pt x="299" y="626"/>
                  </a:lnTo>
                  <a:lnTo>
                    <a:pt x="305" y="635"/>
                  </a:lnTo>
                  <a:lnTo>
                    <a:pt x="313" y="643"/>
                  </a:lnTo>
                  <a:lnTo>
                    <a:pt x="322" y="653"/>
                  </a:lnTo>
                  <a:lnTo>
                    <a:pt x="330" y="661"/>
                  </a:lnTo>
                  <a:lnTo>
                    <a:pt x="339" y="669"/>
                  </a:lnTo>
                  <a:lnTo>
                    <a:pt x="348" y="676"/>
                  </a:lnTo>
                  <a:lnTo>
                    <a:pt x="357" y="683"/>
                  </a:lnTo>
                  <a:lnTo>
                    <a:pt x="368" y="689"/>
                  </a:lnTo>
                  <a:lnTo>
                    <a:pt x="378" y="695"/>
                  </a:lnTo>
                  <a:lnTo>
                    <a:pt x="388" y="701"/>
                  </a:lnTo>
                  <a:lnTo>
                    <a:pt x="398" y="706"/>
                  </a:lnTo>
                  <a:lnTo>
                    <a:pt x="409" y="711"/>
                  </a:lnTo>
                  <a:lnTo>
                    <a:pt x="421" y="714"/>
                  </a:lnTo>
                  <a:lnTo>
                    <a:pt x="432" y="718"/>
                  </a:lnTo>
                  <a:lnTo>
                    <a:pt x="444" y="720"/>
                  </a:lnTo>
                  <a:lnTo>
                    <a:pt x="456" y="723"/>
                  </a:lnTo>
                  <a:lnTo>
                    <a:pt x="469" y="725"/>
                  </a:lnTo>
                  <a:lnTo>
                    <a:pt x="481" y="726"/>
                  </a:lnTo>
                  <a:lnTo>
                    <a:pt x="494" y="727"/>
                  </a:lnTo>
                  <a:lnTo>
                    <a:pt x="506" y="727"/>
                  </a:lnTo>
                  <a:lnTo>
                    <a:pt x="517" y="727"/>
                  </a:lnTo>
                  <a:lnTo>
                    <a:pt x="526" y="726"/>
                  </a:lnTo>
                  <a:lnTo>
                    <a:pt x="535" y="725"/>
                  </a:lnTo>
                  <a:lnTo>
                    <a:pt x="545" y="724"/>
                  </a:lnTo>
                  <a:lnTo>
                    <a:pt x="554" y="723"/>
                  </a:lnTo>
                  <a:lnTo>
                    <a:pt x="564" y="721"/>
                  </a:lnTo>
                  <a:lnTo>
                    <a:pt x="573" y="719"/>
                  </a:lnTo>
                  <a:lnTo>
                    <a:pt x="583" y="717"/>
                  </a:lnTo>
                  <a:lnTo>
                    <a:pt x="592" y="715"/>
                  </a:lnTo>
                  <a:lnTo>
                    <a:pt x="601" y="712"/>
                  </a:lnTo>
                  <a:lnTo>
                    <a:pt x="611" y="709"/>
                  </a:lnTo>
                  <a:lnTo>
                    <a:pt x="620" y="705"/>
                  </a:lnTo>
                  <a:lnTo>
                    <a:pt x="629" y="701"/>
                  </a:lnTo>
                  <a:lnTo>
                    <a:pt x="638" y="697"/>
                  </a:lnTo>
                  <a:lnTo>
                    <a:pt x="648" y="692"/>
                  </a:lnTo>
                  <a:lnTo>
                    <a:pt x="658" y="688"/>
                  </a:lnTo>
                  <a:lnTo>
                    <a:pt x="638" y="98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706920" y="3440160"/>
              <a:ext cx="63360" cy="103320"/>
            </a:xfrm>
            <a:custGeom>
              <a:avLst/>
              <a:gdLst/>
              <a:ahLst/>
              <a:rect l="l" t="t" r="r" b="b"/>
              <a:pathLst>
                <a:path w="199" h="325">
                  <a:moveTo>
                    <a:pt x="0" y="325"/>
                  </a:moveTo>
                  <a:lnTo>
                    <a:pt x="199" y="325"/>
                  </a:lnTo>
                  <a:lnTo>
                    <a:pt x="100" y="0"/>
                  </a:lnTo>
                  <a:lnTo>
                    <a:pt x="0" y="3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591000" y="3348000"/>
              <a:ext cx="296640" cy="306360"/>
            </a:xfrm>
            <a:custGeom>
              <a:avLst/>
              <a:gdLst/>
              <a:ahLst/>
              <a:rect l="l" t="t" r="r" b="b"/>
              <a:pathLst>
                <a:path w="938" h="964">
                  <a:moveTo>
                    <a:pt x="0" y="964"/>
                  </a:moveTo>
                  <a:lnTo>
                    <a:pt x="337" y="0"/>
                  </a:lnTo>
                  <a:lnTo>
                    <a:pt x="619" y="0"/>
                  </a:lnTo>
                  <a:lnTo>
                    <a:pt x="938" y="964"/>
                  </a:lnTo>
                  <a:lnTo>
                    <a:pt x="673" y="964"/>
                  </a:lnTo>
                  <a:lnTo>
                    <a:pt x="638" y="856"/>
                  </a:lnTo>
                  <a:lnTo>
                    <a:pt x="297" y="856"/>
                  </a:lnTo>
                  <a:lnTo>
                    <a:pt x="259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911760" y="334476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8" y="981"/>
                  </a:moveTo>
                  <a:lnTo>
                    <a:pt x="12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0" y="732"/>
                  </a:lnTo>
                  <a:lnTo>
                    <a:pt x="66" y="733"/>
                  </a:lnTo>
                  <a:lnTo>
                    <a:pt x="72" y="735"/>
                  </a:lnTo>
                  <a:lnTo>
                    <a:pt x="78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9" y="739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1" y="731"/>
                  </a:lnTo>
                  <a:lnTo>
                    <a:pt x="168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9" y="701"/>
                  </a:lnTo>
                  <a:lnTo>
                    <a:pt x="203" y="693"/>
                  </a:lnTo>
                  <a:lnTo>
                    <a:pt x="205" y="687"/>
                  </a:lnTo>
                  <a:lnTo>
                    <a:pt x="207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5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8" y="587"/>
                  </a:lnTo>
                  <a:lnTo>
                    <a:pt x="154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5" y="545"/>
                  </a:lnTo>
                  <a:lnTo>
                    <a:pt x="120" y="540"/>
                  </a:lnTo>
                  <a:lnTo>
                    <a:pt x="115" y="535"/>
                  </a:lnTo>
                  <a:lnTo>
                    <a:pt x="111" y="531"/>
                  </a:lnTo>
                  <a:lnTo>
                    <a:pt x="107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6" y="494"/>
                  </a:lnTo>
                  <a:lnTo>
                    <a:pt x="65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4" y="414"/>
                  </a:lnTo>
                  <a:lnTo>
                    <a:pt x="19" y="401"/>
                  </a:lnTo>
                  <a:lnTo>
                    <a:pt x="14" y="386"/>
                  </a:lnTo>
                  <a:lnTo>
                    <a:pt x="10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3" y="206"/>
                  </a:lnTo>
                  <a:lnTo>
                    <a:pt x="17" y="192"/>
                  </a:lnTo>
                  <a:lnTo>
                    <a:pt x="23" y="178"/>
                  </a:lnTo>
                  <a:lnTo>
                    <a:pt x="28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0" y="116"/>
                  </a:lnTo>
                  <a:lnTo>
                    <a:pt x="69" y="105"/>
                  </a:lnTo>
                  <a:lnTo>
                    <a:pt x="80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4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0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7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8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59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2" y="4"/>
                  </a:lnTo>
                  <a:lnTo>
                    <a:pt x="411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4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0" y="234"/>
                  </a:lnTo>
                  <a:lnTo>
                    <a:pt x="404" y="233"/>
                  </a:lnTo>
                  <a:lnTo>
                    <a:pt x="398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59" y="232"/>
                  </a:lnTo>
                  <a:lnTo>
                    <a:pt x="349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3" y="243"/>
                  </a:lnTo>
                  <a:lnTo>
                    <a:pt x="315" y="247"/>
                  </a:lnTo>
                  <a:lnTo>
                    <a:pt x="309" y="251"/>
                  </a:lnTo>
                  <a:lnTo>
                    <a:pt x="303" y="256"/>
                  </a:lnTo>
                  <a:lnTo>
                    <a:pt x="298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1" y="351"/>
                  </a:lnTo>
                  <a:lnTo>
                    <a:pt x="310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3" y="402"/>
                  </a:lnTo>
                  <a:lnTo>
                    <a:pt x="359" y="408"/>
                  </a:lnTo>
                  <a:lnTo>
                    <a:pt x="365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6" y="437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5" y="490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4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8" y="650"/>
                  </a:lnTo>
                  <a:lnTo>
                    <a:pt x="509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8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2" y="799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6" y="866"/>
                  </a:lnTo>
                  <a:lnTo>
                    <a:pt x="447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4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1" y="947"/>
                  </a:lnTo>
                  <a:lnTo>
                    <a:pt x="347" y="954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300" y="973"/>
                  </a:lnTo>
                  <a:lnTo>
                    <a:pt x="283" y="978"/>
                  </a:lnTo>
                  <a:lnTo>
                    <a:pt x="265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09" y="990"/>
                  </a:lnTo>
                  <a:lnTo>
                    <a:pt x="190" y="992"/>
                  </a:lnTo>
                  <a:lnTo>
                    <a:pt x="169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2" y="992"/>
                  </a:lnTo>
                  <a:lnTo>
                    <a:pt x="114" y="992"/>
                  </a:lnTo>
                  <a:lnTo>
                    <a:pt x="106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8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106880" y="3348000"/>
              <a:ext cx="206280" cy="31428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8" y="617"/>
                  </a:lnTo>
                  <a:lnTo>
                    <a:pt x="648" y="648"/>
                  </a:lnTo>
                  <a:lnTo>
                    <a:pt x="646" y="676"/>
                  </a:lnTo>
                  <a:lnTo>
                    <a:pt x="644" y="702"/>
                  </a:lnTo>
                  <a:lnTo>
                    <a:pt x="641" y="726"/>
                  </a:lnTo>
                  <a:lnTo>
                    <a:pt x="638" y="749"/>
                  </a:lnTo>
                  <a:lnTo>
                    <a:pt x="634" y="769"/>
                  </a:lnTo>
                  <a:lnTo>
                    <a:pt x="630" y="786"/>
                  </a:lnTo>
                  <a:lnTo>
                    <a:pt x="625" y="804"/>
                  </a:lnTo>
                  <a:lnTo>
                    <a:pt x="619" y="819"/>
                  </a:lnTo>
                  <a:lnTo>
                    <a:pt x="611" y="834"/>
                  </a:lnTo>
                  <a:lnTo>
                    <a:pt x="604" y="850"/>
                  </a:lnTo>
                  <a:lnTo>
                    <a:pt x="596" y="864"/>
                  </a:lnTo>
                  <a:lnTo>
                    <a:pt x="586" y="877"/>
                  </a:lnTo>
                  <a:lnTo>
                    <a:pt x="577" y="889"/>
                  </a:lnTo>
                  <a:lnTo>
                    <a:pt x="565" y="902"/>
                  </a:lnTo>
                  <a:lnTo>
                    <a:pt x="555" y="912"/>
                  </a:lnTo>
                  <a:lnTo>
                    <a:pt x="544" y="922"/>
                  </a:lnTo>
                  <a:lnTo>
                    <a:pt x="532" y="930"/>
                  </a:lnTo>
                  <a:lnTo>
                    <a:pt x="519" y="939"/>
                  </a:lnTo>
                  <a:lnTo>
                    <a:pt x="506" y="947"/>
                  </a:lnTo>
                  <a:lnTo>
                    <a:pt x="493" y="954"/>
                  </a:lnTo>
                  <a:lnTo>
                    <a:pt x="478" y="961"/>
                  </a:lnTo>
                  <a:lnTo>
                    <a:pt x="462" y="967"/>
                  </a:lnTo>
                  <a:lnTo>
                    <a:pt x="446" y="972"/>
                  </a:lnTo>
                  <a:lnTo>
                    <a:pt x="430" y="977"/>
                  </a:lnTo>
                  <a:lnTo>
                    <a:pt x="413" y="981"/>
                  </a:lnTo>
                  <a:lnTo>
                    <a:pt x="396" y="984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4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4"/>
                  </a:lnTo>
                  <a:lnTo>
                    <a:pt x="236" y="981"/>
                  </a:lnTo>
                  <a:lnTo>
                    <a:pt x="219" y="977"/>
                  </a:lnTo>
                  <a:lnTo>
                    <a:pt x="203" y="972"/>
                  </a:lnTo>
                  <a:lnTo>
                    <a:pt x="187" y="967"/>
                  </a:lnTo>
                  <a:lnTo>
                    <a:pt x="171" y="961"/>
                  </a:lnTo>
                  <a:lnTo>
                    <a:pt x="157" y="954"/>
                  </a:lnTo>
                  <a:lnTo>
                    <a:pt x="143" y="947"/>
                  </a:lnTo>
                  <a:lnTo>
                    <a:pt x="129" y="939"/>
                  </a:lnTo>
                  <a:lnTo>
                    <a:pt x="117" y="930"/>
                  </a:lnTo>
                  <a:lnTo>
                    <a:pt x="106" y="922"/>
                  </a:lnTo>
                  <a:lnTo>
                    <a:pt x="95" y="912"/>
                  </a:lnTo>
                  <a:lnTo>
                    <a:pt x="84" y="902"/>
                  </a:lnTo>
                  <a:lnTo>
                    <a:pt x="73" y="889"/>
                  </a:lnTo>
                  <a:lnTo>
                    <a:pt x="63" y="876"/>
                  </a:lnTo>
                  <a:lnTo>
                    <a:pt x="54" y="863"/>
                  </a:lnTo>
                  <a:lnTo>
                    <a:pt x="46" y="849"/>
                  </a:lnTo>
                  <a:lnTo>
                    <a:pt x="37" y="833"/>
                  </a:lnTo>
                  <a:lnTo>
                    <a:pt x="30" y="818"/>
                  </a:lnTo>
                  <a:lnTo>
                    <a:pt x="24" y="802"/>
                  </a:lnTo>
                  <a:lnTo>
                    <a:pt x="19" y="785"/>
                  </a:lnTo>
                  <a:lnTo>
                    <a:pt x="15" y="767"/>
                  </a:lnTo>
                  <a:lnTo>
                    <a:pt x="11" y="747"/>
                  </a:lnTo>
                  <a:lnTo>
                    <a:pt x="7" y="725"/>
                  </a:lnTo>
                  <a:lnTo>
                    <a:pt x="5" y="701"/>
                  </a:lnTo>
                  <a:lnTo>
                    <a:pt x="3" y="674"/>
                  </a:lnTo>
                  <a:lnTo>
                    <a:pt x="1" y="647"/>
                  </a:lnTo>
                  <a:lnTo>
                    <a:pt x="0" y="616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583"/>
                  </a:lnTo>
                  <a:lnTo>
                    <a:pt x="251" y="604"/>
                  </a:lnTo>
                  <a:lnTo>
                    <a:pt x="252" y="621"/>
                  </a:lnTo>
                  <a:lnTo>
                    <a:pt x="253" y="639"/>
                  </a:lnTo>
                  <a:lnTo>
                    <a:pt x="255" y="653"/>
                  </a:lnTo>
                  <a:lnTo>
                    <a:pt x="257" y="666"/>
                  </a:lnTo>
                  <a:lnTo>
                    <a:pt x="260" y="678"/>
                  </a:lnTo>
                  <a:lnTo>
                    <a:pt x="263" y="689"/>
                  </a:lnTo>
                  <a:lnTo>
                    <a:pt x="267" y="698"/>
                  </a:lnTo>
                  <a:lnTo>
                    <a:pt x="272" y="705"/>
                  </a:lnTo>
                  <a:lnTo>
                    <a:pt x="277" y="712"/>
                  </a:lnTo>
                  <a:lnTo>
                    <a:pt x="284" y="717"/>
                  </a:lnTo>
                  <a:lnTo>
                    <a:pt x="291" y="722"/>
                  </a:lnTo>
                  <a:lnTo>
                    <a:pt x="298" y="725"/>
                  </a:lnTo>
                  <a:lnTo>
                    <a:pt x="306" y="728"/>
                  </a:lnTo>
                  <a:lnTo>
                    <a:pt x="315" y="729"/>
                  </a:lnTo>
                  <a:lnTo>
                    <a:pt x="324" y="729"/>
                  </a:lnTo>
                  <a:lnTo>
                    <a:pt x="335" y="729"/>
                  </a:lnTo>
                  <a:lnTo>
                    <a:pt x="344" y="728"/>
                  </a:lnTo>
                  <a:lnTo>
                    <a:pt x="352" y="725"/>
                  </a:lnTo>
                  <a:lnTo>
                    <a:pt x="359" y="721"/>
                  </a:lnTo>
                  <a:lnTo>
                    <a:pt x="366" y="717"/>
                  </a:lnTo>
                  <a:lnTo>
                    <a:pt x="372" y="711"/>
                  </a:lnTo>
                  <a:lnTo>
                    <a:pt x="378" y="705"/>
                  </a:lnTo>
                  <a:lnTo>
                    <a:pt x="383" y="697"/>
                  </a:lnTo>
                  <a:lnTo>
                    <a:pt x="386" y="689"/>
                  </a:lnTo>
                  <a:lnTo>
                    <a:pt x="390" y="677"/>
                  </a:lnTo>
                  <a:lnTo>
                    <a:pt x="393" y="666"/>
                  </a:lnTo>
                  <a:lnTo>
                    <a:pt x="395" y="652"/>
                  </a:lnTo>
                  <a:lnTo>
                    <a:pt x="397" y="638"/>
                  </a:lnTo>
                  <a:lnTo>
                    <a:pt x="398" y="621"/>
                  </a:lnTo>
                  <a:lnTo>
                    <a:pt x="399" y="603"/>
                  </a:lnTo>
                  <a:lnTo>
                    <a:pt x="399" y="58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448160" y="3440160"/>
              <a:ext cx="63360" cy="103320"/>
            </a:xfrm>
            <a:custGeom>
              <a:avLst/>
              <a:gdLst/>
              <a:ahLst/>
              <a:rect l="l" t="t" r="r" b="b"/>
              <a:pathLst>
                <a:path w="198" h="325">
                  <a:moveTo>
                    <a:pt x="0" y="325"/>
                  </a:moveTo>
                  <a:lnTo>
                    <a:pt x="198" y="325"/>
                  </a:lnTo>
                  <a:lnTo>
                    <a:pt x="98" y="0"/>
                  </a:lnTo>
                  <a:lnTo>
                    <a:pt x="0" y="3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332240" y="3348000"/>
              <a:ext cx="297000" cy="306360"/>
            </a:xfrm>
            <a:custGeom>
              <a:avLst/>
              <a:gdLst/>
              <a:ahLst/>
              <a:rect l="l" t="t" r="r" b="b"/>
              <a:pathLst>
                <a:path w="939" h="964">
                  <a:moveTo>
                    <a:pt x="0" y="964"/>
                  </a:moveTo>
                  <a:lnTo>
                    <a:pt x="337" y="0"/>
                  </a:lnTo>
                  <a:lnTo>
                    <a:pt x="620" y="0"/>
                  </a:lnTo>
                  <a:lnTo>
                    <a:pt x="939" y="964"/>
                  </a:lnTo>
                  <a:lnTo>
                    <a:pt x="674" y="964"/>
                  </a:lnTo>
                  <a:lnTo>
                    <a:pt x="639" y="856"/>
                  </a:lnTo>
                  <a:lnTo>
                    <a:pt x="298" y="856"/>
                  </a:lnTo>
                  <a:lnTo>
                    <a:pt x="261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65768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7" h="964">
                  <a:moveTo>
                    <a:pt x="607" y="699"/>
                  </a:moveTo>
                  <a:lnTo>
                    <a:pt x="529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699"/>
                  </a:lnTo>
                  <a:lnTo>
                    <a:pt x="607" y="69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987800" y="3344760"/>
              <a:ext cx="162000" cy="314280"/>
            </a:xfrm>
            <a:custGeom>
              <a:avLst/>
              <a:gdLst/>
              <a:ahLst/>
              <a:rect l="l" t="t" r="r" b="b"/>
              <a:pathLst>
                <a:path w="511" h="993">
                  <a:moveTo>
                    <a:pt x="19" y="981"/>
                  </a:moveTo>
                  <a:lnTo>
                    <a:pt x="13" y="716"/>
                  </a:lnTo>
                  <a:lnTo>
                    <a:pt x="20" y="719"/>
                  </a:lnTo>
                  <a:lnTo>
                    <a:pt x="27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1" y="732"/>
                  </a:lnTo>
                  <a:lnTo>
                    <a:pt x="67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10" y="739"/>
                  </a:lnTo>
                  <a:lnTo>
                    <a:pt x="116" y="740"/>
                  </a:lnTo>
                  <a:lnTo>
                    <a:pt x="126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2" y="731"/>
                  </a:lnTo>
                  <a:lnTo>
                    <a:pt x="169" y="728"/>
                  </a:lnTo>
                  <a:lnTo>
                    <a:pt x="177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5" y="707"/>
                  </a:lnTo>
                  <a:lnTo>
                    <a:pt x="199" y="701"/>
                  </a:lnTo>
                  <a:lnTo>
                    <a:pt x="204" y="693"/>
                  </a:lnTo>
                  <a:lnTo>
                    <a:pt x="206" y="687"/>
                  </a:lnTo>
                  <a:lnTo>
                    <a:pt x="208" y="680"/>
                  </a:lnTo>
                  <a:lnTo>
                    <a:pt x="210" y="672"/>
                  </a:lnTo>
                  <a:lnTo>
                    <a:pt x="210" y="664"/>
                  </a:lnTo>
                  <a:lnTo>
                    <a:pt x="209" y="654"/>
                  </a:lnTo>
                  <a:lnTo>
                    <a:pt x="206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2" y="602"/>
                  </a:lnTo>
                  <a:lnTo>
                    <a:pt x="169" y="587"/>
                  </a:lnTo>
                  <a:lnTo>
                    <a:pt x="155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6" y="545"/>
                  </a:lnTo>
                  <a:lnTo>
                    <a:pt x="121" y="540"/>
                  </a:lnTo>
                  <a:lnTo>
                    <a:pt x="117" y="535"/>
                  </a:lnTo>
                  <a:lnTo>
                    <a:pt x="112" y="531"/>
                  </a:lnTo>
                  <a:lnTo>
                    <a:pt x="108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7" y="494"/>
                  </a:lnTo>
                  <a:lnTo>
                    <a:pt x="66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5" y="414"/>
                  </a:lnTo>
                  <a:lnTo>
                    <a:pt x="20" y="401"/>
                  </a:lnTo>
                  <a:lnTo>
                    <a:pt x="15" y="386"/>
                  </a:lnTo>
                  <a:lnTo>
                    <a:pt x="11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4" y="206"/>
                  </a:lnTo>
                  <a:lnTo>
                    <a:pt x="18" y="192"/>
                  </a:lnTo>
                  <a:lnTo>
                    <a:pt x="24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1" y="116"/>
                  </a:lnTo>
                  <a:lnTo>
                    <a:pt x="70" y="105"/>
                  </a:lnTo>
                  <a:lnTo>
                    <a:pt x="81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5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8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1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8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50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3" y="4"/>
                  </a:lnTo>
                  <a:lnTo>
                    <a:pt x="413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2" y="13"/>
                  </a:lnTo>
                  <a:lnTo>
                    <a:pt x="461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9" y="249"/>
                  </a:lnTo>
                  <a:lnTo>
                    <a:pt x="452" y="247"/>
                  </a:lnTo>
                  <a:lnTo>
                    <a:pt x="445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1" y="234"/>
                  </a:lnTo>
                  <a:lnTo>
                    <a:pt x="405" y="233"/>
                  </a:lnTo>
                  <a:lnTo>
                    <a:pt x="399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60" y="232"/>
                  </a:lnTo>
                  <a:lnTo>
                    <a:pt x="350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4" y="243"/>
                  </a:lnTo>
                  <a:lnTo>
                    <a:pt x="316" y="247"/>
                  </a:lnTo>
                  <a:lnTo>
                    <a:pt x="310" y="251"/>
                  </a:lnTo>
                  <a:lnTo>
                    <a:pt x="304" y="256"/>
                  </a:lnTo>
                  <a:lnTo>
                    <a:pt x="299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2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4" y="402"/>
                  </a:lnTo>
                  <a:lnTo>
                    <a:pt x="360" y="408"/>
                  </a:lnTo>
                  <a:lnTo>
                    <a:pt x="367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7" y="437"/>
                  </a:lnTo>
                  <a:lnTo>
                    <a:pt x="410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6" y="490"/>
                  </a:lnTo>
                  <a:lnTo>
                    <a:pt x="456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5" y="582"/>
                  </a:lnTo>
                  <a:lnTo>
                    <a:pt x="500" y="599"/>
                  </a:lnTo>
                  <a:lnTo>
                    <a:pt x="504" y="615"/>
                  </a:lnTo>
                  <a:lnTo>
                    <a:pt x="507" y="632"/>
                  </a:lnTo>
                  <a:lnTo>
                    <a:pt x="509" y="650"/>
                  </a:lnTo>
                  <a:lnTo>
                    <a:pt x="511" y="667"/>
                  </a:lnTo>
                  <a:lnTo>
                    <a:pt x="511" y="684"/>
                  </a:lnTo>
                  <a:lnTo>
                    <a:pt x="511" y="703"/>
                  </a:lnTo>
                  <a:lnTo>
                    <a:pt x="509" y="720"/>
                  </a:lnTo>
                  <a:lnTo>
                    <a:pt x="508" y="736"/>
                  </a:lnTo>
                  <a:lnTo>
                    <a:pt x="505" y="753"/>
                  </a:lnTo>
                  <a:lnTo>
                    <a:pt x="502" y="769"/>
                  </a:lnTo>
                  <a:lnTo>
                    <a:pt x="498" y="784"/>
                  </a:lnTo>
                  <a:lnTo>
                    <a:pt x="493" y="799"/>
                  </a:lnTo>
                  <a:lnTo>
                    <a:pt x="487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7" y="866"/>
                  </a:lnTo>
                  <a:lnTo>
                    <a:pt x="448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5" y="911"/>
                  </a:lnTo>
                  <a:lnTo>
                    <a:pt x="403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3" y="947"/>
                  </a:lnTo>
                  <a:lnTo>
                    <a:pt x="348" y="954"/>
                  </a:lnTo>
                  <a:lnTo>
                    <a:pt x="332" y="962"/>
                  </a:lnTo>
                  <a:lnTo>
                    <a:pt x="317" y="968"/>
                  </a:lnTo>
                  <a:lnTo>
                    <a:pt x="301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8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90" y="992"/>
                  </a:lnTo>
                  <a:lnTo>
                    <a:pt x="170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3" y="992"/>
                  </a:lnTo>
                  <a:lnTo>
                    <a:pt x="115" y="992"/>
                  </a:lnTo>
                  <a:lnTo>
                    <a:pt x="107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4" y="989"/>
                  </a:lnTo>
                  <a:lnTo>
                    <a:pt x="66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7" y="982"/>
                  </a:lnTo>
                  <a:lnTo>
                    <a:pt x="19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18472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3" h="964">
                  <a:moveTo>
                    <a:pt x="603" y="699"/>
                  </a:moveTo>
                  <a:lnTo>
                    <a:pt x="535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4" y="257"/>
                  </a:lnTo>
                  <a:lnTo>
                    <a:pt x="249" y="257"/>
                  </a:lnTo>
                  <a:lnTo>
                    <a:pt x="249" y="355"/>
                  </a:lnTo>
                  <a:lnTo>
                    <a:pt x="467" y="355"/>
                  </a:lnTo>
                  <a:lnTo>
                    <a:pt x="467" y="609"/>
                  </a:lnTo>
                  <a:lnTo>
                    <a:pt x="249" y="609"/>
                  </a:lnTo>
                  <a:lnTo>
                    <a:pt x="249" y="699"/>
                  </a:lnTo>
                  <a:lnTo>
                    <a:pt x="603" y="69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381640" y="3348000"/>
              <a:ext cx="266760" cy="306360"/>
            </a:xfrm>
            <a:custGeom>
              <a:avLst/>
              <a:gdLst/>
              <a:ahLst/>
              <a:rect l="l" t="t" r="r" b="b"/>
              <a:pathLst>
                <a:path w="841" h="964">
                  <a:moveTo>
                    <a:pt x="0" y="964"/>
                  </a:moveTo>
                  <a:lnTo>
                    <a:pt x="278" y="477"/>
                  </a:lnTo>
                  <a:lnTo>
                    <a:pt x="16" y="0"/>
                  </a:lnTo>
                  <a:lnTo>
                    <a:pt x="296" y="0"/>
                  </a:lnTo>
                  <a:lnTo>
                    <a:pt x="423" y="269"/>
                  </a:lnTo>
                  <a:lnTo>
                    <a:pt x="551" y="0"/>
                  </a:lnTo>
                  <a:lnTo>
                    <a:pt x="837" y="0"/>
                  </a:lnTo>
                  <a:lnTo>
                    <a:pt x="566" y="480"/>
                  </a:lnTo>
                  <a:lnTo>
                    <a:pt x="841" y="964"/>
                  </a:lnTo>
                  <a:lnTo>
                    <a:pt x="556" y="964"/>
                  </a:lnTo>
                  <a:lnTo>
                    <a:pt x="424" y="693"/>
                  </a:lnTo>
                  <a:lnTo>
                    <a:pt x="292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646600" y="3341520"/>
              <a:ext cx="155880" cy="217800"/>
            </a:xfrm>
            <a:custGeom>
              <a:avLst/>
              <a:gdLst/>
              <a:ahLst/>
              <a:rect l="l" t="t" r="r" b="b"/>
              <a:pathLst>
                <a:path w="489" h="684">
                  <a:moveTo>
                    <a:pt x="139" y="684"/>
                  </a:moveTo>
                  <a:lnTo>
                    <a:pt x="139" y="543"/>
                  </a:lnTo>
                  <a:lnTo>
                    <a:pt x="140" y="534"/>
                  </a:lnTo>
                  <a:lnTo>
                    <a:pt x="140" y="525"/>
                  </a:lnTo>
                  <a:lnTo>
                    <a:pt x="140" y="516"/>
                  </a:lnTo>
                  <a:lnTo>
                    <a:pt x="141" y="507"/>
                  </a:lnTo>
                  <a:lnTo>
                    <a:pt x="142" y="498"/>
                  </a:lnTo>
                  <a:lnTo>
                    <a:pt x="143" y="490"/>
                  </a:lnTo>
                  <a:lnTo>
                    <a:pt x="145" y="482"/>
                  </a:lnTo>
                  <a:lnTo>
                    <a:pt x="148" y="475"/>
                  </a:lnTo>
                  <a:lnTo>
                    <a:pt x="149" y="467"/>
                  </a:lnTo>
                  <a:lnTo>
                    <a:pt x="152" y="460"/>
                  </a:lnTo>
                  <a:lnTo>
                    <a:pt x="154" y="452"/>
                  </a:lnTo>
                  <a:lnTo>
                    <a:pt x="157" y="444"/>
                  </a:lnTo>
                  <a:lnTo>
                    <a:pt x="160" y="437"/>
                  </a:lnTo>
                  <a:lnTo>
                    <a:pt x="163" y="430"/>
                  </a:lnTo>
                  <a:lnTo>
                    <a:pt x="167" y="422"/>
                  </a:lnTo>
                  <a:lnTo>
                    <a:pt x="171" y="415"/>
                  </a:lnTo>
                  <a:lnTo>
                    <a:pt x="173" y="411"/>
                  </a:lnTo>
                  <a:lnTo>
                    <a:pt x="175" y="407"/>
                  </a:lnTo>
                  <a:lnTo>
                    <a:pt x="177" y="402"/>
                  </a:lnTo>
                  <a:lnTo>
                    <a:pt x="180" y="397"/>
                  </a:lnTo>
                  <a:lnTo>
                    <a:pt x="183" y="392"/>
                  </a:lnTo>
                  <a:lnTo>
                    <a:pt x="186" y="387"/>
                  </a:lnTo>
                  <a:lnTo>
                    <a:pt x="190" y="382"/>
                  </a:lnTo>
                  <a:lnTo>
                    <a:pt x="194" y="376"/>
                  </a:lnTo>
                  <a:lnTo>
                    <a:pt x="203" y="364"/>
                  </a:lnTo>
                  <a:lnTo>
                    <a:pt x="210" y="351"/>
                  </a:lnTo>
                  <a:lnTo>
                    <a:pt x="215" y="340"/>
                  </a:lnTo>
                  <a:lnTo>
                    <a:pt x="220" y="331"/>
                  </a:lnTo>
                  <a:lnTo>
                    <a:pt x="224" y="321"/>
                  </a:lnTo>
                  <a:lnTo>
                    <a:pt x="226" y="313"/>
                  </a:lnTo>
                  <a:lnTo>
                    <a:pt x="228" y="306"/>
                  </a:lnTo>
                  <a:lnTo>
                    <a:pt x="228" y="298"/>
                  </a:lnTo>
                  <a:lnTo>
                    <a:pt x="228" y="292"/>
                  </a:lnTo>
                  <a:lnTo>
                    <a:pt x="228" y="287"/>
                  </a:lnTo>
                  <a:lnTo>
                    <a:pt x="227" y="283"/>
                  </a:lnTo>
                  <a:lnTo>
                    <a:pt x="225" y="278"/>
                  </a:lnTo>
                  <a:lnTo>
                    <a:pt x="224" y="274"/>
                  </a:lnTo>
                  <a:lnTo>
                    <a:pt x="222" y="270"/>
                  </a:lnTo>
                  <a:lnTo>
                    <a:pt x="219" y="266"/>
                  </a:lnTo>
                  <a:lnTo>
                    <a:pt x="217" y="263"/>
                  </a:lnTo>
                  <a:lnTo>
                    <a:pt x="213" y="260"/>
                  </a:lnTo>
                  <a:lnTo>
                    <a:pt x="210" y="258"/>
                  </a:lnTo>
                  <a:lnTo>
                    <a:pt x="206" y="255"/>
                  </a:lnTo>
                  <a:lnTo>
                    <a:pt x="202" y="254"/>
                  </a:lnTo>
                  <a:lnTo>
                    <a:pt x="198" y="252"/>
                  </a:lnTo>
                  <a:lnTo>
                    <a:pt x="192" y="251"/>
                  </a:lnTo>
                  <a:lnTo>
                    <a:pt x="187" y="251"/>
                  </a:lnTo>
                  <a:lnTo>
                    <a:pt x="182" y="249"/>
                  </a:lnTo>
                  <a:lnTo>
                    <a:pt x="177" y="251"/>
                  </a:lnTo>
                  <a:lnTo>
                    <a:pt x="172" y="251"/>
                  </a:lnTo>
                  <a:lnTo>
                    <a:pt x="167" y="252"/>
                  </a:lnTo>
                  <a:lnTo>
                    <a:pt x="162" y="254"/>
                  </a:lnTo>
                  <a:lnTo>
                    <a:pt x="157" y="256"/>
                  </a:lnTo>
                  <a:lnTo>
                    <a:pt x="152" y="258"/>
                  </a:lnTo>
                  <a:lnTo>
                    <a:pt x="147" y="261"/>
                  </a:lnTo>
                  <a:lnTo>
                    <a:pt x="141" y="264"/>
                  </a:lnTo>
                  <a:lnTo>
                    <a:pt x="136" y="267"/>
                  </a:lnTo>
                  <a:lnTo>
                    <a:pt x="132" y="271"/>
                  </a:lnTo>
                  <a:lnTo>
                    <a:pt x="127" y="274"/>
                  </a:lnTo>
                  <a:lnTo>
                    <a:pt x="123" y="278"/>
                  </a:lnTo>
                  <a:lnTo>
                    <a:pt x="119" y="283"/>
                  </a:lnTo>
                  <a:lnTo>
                    <a:pt x="115" y="288"/>
                  </a:lnTo>
                  <a:lnTo>
                    <a:pt x="112" y="292"/>
                  </a:lnTo>
                  <a:lnTo>
                    <a:pt x="108" y="298"/>
                  </a:lnTo>
                  <a:lnTo>
                    <a:pt x="0" y="150"/>
                  </a:lnTo>
                  <a:lnTo>
                    <a:pt x="13" y="132"/>
                  </a:lnTo>
                  <a:lnTo>
                    <a:pt x="25" y="115"/>
                  </a:lnTo>
                  <a:lnTo>
                    <a:pt x="38" y="99"/>
                  </a:lnTo>
                  <a:lnTo>
                    <a:pt x="52" y="84"/>
                  </a:lnTo>
                  <a:lnTo>
                    <a:pt x="66" y="71"/>
                  </a:lnTo>
                  <a:lnTo>
                    <a:pt x="80" y="59"/>
                  </a:lnTo>
                  <a:lnTo>
                    <a:pt x="94" y="48"/>
                  </a:lnTo>
                  <a:lnTo>
                    <a:pt x="110" y="37"/>
                  </a:lnTo>
                  <a:lnTo>
                    <a:pt x="126" y="28"/>
                  </a:lnTo>
                  <a:lnTo>
                    <a:pt x="141" y="21"/>
                  </a:lnTo>
                  <a:lnTo>
                    <a:pt x="158" y="14"/>
                  </a:lnTo>
                  <a:lnTo>
                    <a:pt x="175" y="9"/>
                  </a:lnTo>
                  <a:lnTo>
                    <a:pt x="192" y="5"/>
                  </a:lnTo>
                  <a:lnTo>
                    <a:pt x="210" y="2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59" y="0"/>
                  </a:lnTo>
                  <a:lnTo>
                    <a:pt x="271" y="1"/>
                  </a:lnTo>
                  <a:lnTo>
                    <a:pt x="283" y="2"/>
                  </a:lnTo>
                  <a:lnTo>
                    <a:pt x="296" y="4"/>
                  </a:lnTo>
                  <a:lnTo>
                    <a:pt x="308" y="7"/>
                  </a:lnTo>
                  <a:lnTo>
                    <a:pt x="319" y="9"/>
                  </a:lnTo>
                  <a:lnTo>
                    <a:pt x="330" y="13"/>
                  </a:lnTo>
                  <a:lnTo>
                    <a:pt x="342" y="17"/>
                  </a:lnTo>
                  <a:lnTo>
                    <a:pt x="352" y="22"/>
                  </a:lnTo>
                  <a:lnTo>
                    <a:pt x="363" y="27"/>
                  </a:lnTo>
                  <a:lnTo>
                    <a:pt x="373" y="32"/>
                  </a:lnTo>
                  <a:lnTo>
                    <a:pt x="382" y="38"/>
                  </a:lnTo>
                  <a:lnTo>
                    <a:pt x="393" y="45"/>
                  </a:lnTo>
                  <a:lnTo>
                    <a:pt x="402" y="53"/>
                  </a:lnTo>
                  <a:lnTo>
                    <a:pt x="411" y="61"/>
                  </a:lnTo>
                  <a:lnTo>
                    <a:pt x="419" y="69"/>
                  </a:lnTo>
                  <a:lnTo>
                    <a:pt x="428" y="78"/>
                  </a:lnTo>
                  <a:lnTo>
                    <a:pt x="436" y="87"/>
                  </a:lnTo>
                  <a:lnTo>
                    <a:pt x="443" y="96"/>
                  </a:lnTo>
                  <a:lnTo>
                    <a:pt x="450" y="107"/>
                  </a:lnTo>
                  <a:lnTo>
                    <a:pt x="456" y="117"/>
                  </a:lnTo>
                  <a:lnTo>
                    <a:pt x="462" y="127"/>
                  </a:lnTo>
                  <a:lnTo>
                    <a:pt x="467" y="137"/>
                  </a:lnTo>
                  <a:lnTo>
                    <a:pt x="471" y="149"/>
                  </a:lnTo>
                  <a:lnTo>
                    <a:pt x="475" y="160"/>
                  </a:lnTo>
                  <a:lnTo>
                    <a:pt x="479" y="171"/>
                  </a:lnTo>
                  <a:lnTo>
                    <a:pt x="482" y="182"/>
                  </a:lnTo>
                  <a:lnTo>
                    <a:pt x="485" y="194"/>
                  </a:lnTo>
                  <a:lnTo>
                    <a:pt x="487" y="207"/>
                  </a:lnTo>
                  <a:lnTo>
                    <a:pt x="488" y="219"/>
                  </a:lnTo>
                  <a:lnTo>
                    <a:pt x="489" y="232"/>
                  </a:lnTo>
                  <a:lnTo>
                    <a:pt x="489" y="244"/>
                  </a:lnTo>
                  <a:lnTo>
                    <a:pt x="488" y="265"/>
                  </a:lnTo>
                  <a:lnTo>
                    <a:pt x="485" y="285"/>
                  </a:lnTo>
                  <a:lnTo>
                    <a:pt x="479" y="306"/>
                  </a:lnTo>
                  <a:lnTo>
                    <a:pt x="473" y="328"/>
                  </a:lnTo>
                  <a:lnTo>
                    <a:pt x="464" y="350"/>
                  </a:lnTo>
                  <a:lnTo>
                    <a:pt x="453" y="373"/>
                  </a:lnTo>
                  <a:lnTo>
                    <a:pt x="440" y="397"/>
                  </a:lnTo>
                  <a:lnTo>
                    <a:pt x="425" y="422"/>
                  </a:lnTo>
                  <a:lnTo>
                    <a:pt x="421" y="428"/>
                  </a:lnTo>
                  <a:lnTo>
                    <a:pt x="417" y="434"/>
                  </a:lnTo>
                  <a:lnTo>
                    <a:pt x="414" y="439"/>
                  </a:lnTo>
                  <a:lnTo>
                    <a:pt x="411" y="444"/>
                  </a:lnTo>
                  <a:lnTo>
                    <a:pt x="408" y="448"/>
                  </a:lnTo>
                  <a:lnTo>
                    <a:pt x="406" y="452"/>
                  </a:lnTo>
                  <a:lnTo>
                    <a:pt x="403" y="457"/>
                  </a:lnTo>
                  <a:lnTo>
                    <a:pt x="402" y="460"/>
                  </a:lnTo>
                  <a:lnTo>
                    <a:pt x="398" y="467"/>
                  </a:lnTo>
                  <a:lnTo>
                    <a:pt x="395" y="473"/>
                  </a:lnTo>
                  <a:lnTo>
                    <a:pt x="392" y="480"/>
                  </a:lnTo>
                  <a:lnTo>
                    <a:pt x="389" y="488"/>
                  </a:lnTo>
                  <a:lnTo>
                    <a:pt x="385" y="496"/>
                  </a:lnTo>
                  <a:lnTo>
                    <a:pt x="383" y="504"/>
                  </a:lnTo>
                  <a:lnTo>
                    <a:pt x="380" y="513"/>
                  </a:lnTo>
                  <a:lnTo>
                    <a:pt x="379" y="522"/>
                  </a:lnTo>
                  <a:lnTo>
                    <a:pt x="377" y="532"/>
                  </a:lnTo>
                  <a:lnTo>
                    <a:pt x="376" y="541"/>
                  </a:lnTo>
                  <a:lnTo>
                    <a:pt x="374" y="551"/>
                  </a:lnTo>
                  <a:lnTo>
                    <a:pt x="373" y="563"/>
                  </a:lnTo>
                  <a:lnTo>
                    <a:pt x="373" y="574"/>
                  </a:lnTo>
                  <a:lnTo>
                    <a:pt x="372" y="585"/>
                  </a:lnTo>
                  <a:lnTo>
                    <a:pt x="372" y="597"/>
                  </a:lnTo>
                  <a:lnTo>
                    <a:pt x="372" y="610"/>
                  </a:lnTo>
                  <a:lnTo>
                    <a:pt x="372" y="684"/>
                  </a:lnTo>
                  <a:lnTo>
                    <a:pt x="139" y="6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691240" y="3576600"/>
              <a:ext cx="73080" cy="77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1" name=""/>
          <p:cNvSpPr/>
          <p:nvPr/>
        </p:nvSpPr>
        <p:spPr>
          <a:xfrm>
            <a:off x="2455200" y="709560"/>
            <a:ext cx="428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IS YOUR LIF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ORTH RISK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2627280" y="4356000"/>
            <a:ext cx="3808440" cy="1663920"/>
            <a:chOff x="2627280" y="4356000"/>
            <a:chExt cx="3808440" cy="1663920"/>
          </a:xfrm>
        </p:grpSpPr>
        <p:sp>
          <p:nvSpPr>
            <p:cNvPr id="2923" name=""/>
            <p:cNvSpPr/>
            <p:nvPr/>
          </p:nvSpPr>
          <p:spPr>
            <a:xfrm>
              <a:off x="2627280" y="4387680"/>
              <a:ext cx="3776760" cy="1632240"/>
            </a:xfrm>
            <a:custGeom>
              <a:avLst/>
              <a:gdLst/>
              <a:ahLst/>
              <a:rect l="l" t="t" r="r" b="b"/>
              <a:pathLst>
                <a:path w="11898" h="5138">
                  <a:moveTo>
                    <a:pt x="1" y="3611"/>
                  </a:moveTo>
                  <a:lnTo>
                    <a:pt x="1" y="3470"/>
                  </a:lnTo>
                  <a:lnTo>
                    <a:pt x="1" y="3330"/>
                  </a:lnTo>
                  <a:lnTo>
                    <a:pt x="1" y="3189"/>
                  </a:lnTo>
                  <a:lnTo>
                    <a:pt x="1" y="3048"/>
                  </a:lnTo>
                  <a:lnTo>
                    <a:pt x="0" y="2907"/>
                  </a:lnTo>
                  <a:lnTo>
                    <a:pt x="0" y="2767"/>
                  </a:lnTo>
                  <a:lnTo>
                    <a:pt x="0" y="2627"/>
                  </a:lnTo>
                  <a:lnTo>
                    <a:pt x="0" y="2486"/>
                  </a:lnTo>
                  <a:lnTo>
                    <a:pt x="0" y="2346"/>
                  </a:lnTo>
                  <a:lnTo>
                    <a:pt x="1" y="2208"/>
                  </a:lnTo>
                  <a:lnTo>
                    <a:pt x="1" y="2068"/>
                  </a:lnTo>
                  <a:lnTo>
                    <a:pt x="1" y="1929"/>
                  </a:lnTo>
                  <a:lnTo>
                    <a:pt x="1" y="1789"/>
                  </a:lnTo>
                  <a:lnTo>
                    <a:pt x="1" y="1651"/>
                  </a:lnTo>
                  <a:lnTo>
                    <a:pt x="1" y="1512"/>
                  </a:lnTo>
                  <a:lnTo>
                    <a:pt x="1" y="1373"/>
                  </a:lnTo>
                  <a:lnTo>
                    <a:pt x="14" y="1371"/>
                  </a:lnTo>
                  <a:lnTo>
                    <a:pt x="28" y="1370"/>
                  </a:lnTo>
                  <a:lnTo>
                    <a:pt x="43" y="1368"/>
                  </a:lnTo>
                  <a:lnTo>
                    <a:pt x="57" y="1366"/>
                  </a:lnTo>
                  <a:lnTo>
                    <a:pt x="71" y="1365"/>
                  </a:lnTo>
                  <a:lnTo>
                    <a:pt x="86" y="1363"/>
                  </a:lnTo>
                  <a:lnTo>
                    <a:pt x="100" y="1361"/>
                  </a:lnTo>
                  <a:lnTo>
                    <a:pt x="114" y="1360"/>
                  </a:lnTo>
                  <a:lnTo>
                    <a:pt x="138" y="1419"/>
                  </a:lnTo>
                  <a:lnTo>
                    <a:pt x="162" y="1478"/>
                  </a:lnTo>
                  <a:lnTo>
                    <a:pt x="187" y="1537"/>
                  </a:lnTo>
                  <a:lnTo>
                    <a:pt x="211" y="1598"/>
                  </a:lnTo>
                  <a:lnTo>
                    <a:pt x="236" y="1658"/>
                  </a:lnTo>
                  <a:lnTo>
                    <a:pt x="260" y="1718"/>
                  </a:lnTo>
                  <a:lnTo>
                    <a:pt x="285" y="1778"/>
                  </a:lnTo>
                  <a:lnTo>
                    <a:pt x="309" y="1839"/>
                  </a:lnTo>
                  <a:lnTo>
                    <a:pt x="335" y="1901"/>
                  </a:lnTo>
                  <a:lnTo>
                    <a:pt x="360" y="1963"/>
                  </a:lnTo>
                  <a:lnTo>
                    <a:pt x="385" y="2025"/>
                  </a:lnTo>
                  <a:lnTo>
                    <a:pt x="410" y="2088"/>
                  </a:lnTo>
                  <a:lnTo>
                    <a:pt x="437" y="2151"/>
                  </a:lnTo>
                  <a:lnTo>
                    <a:pt x="462" y="2214"/>
                  </a:lnTo>
                  <a:lnTo>
                    <a:pt x="489" y="2278"/>
                  </a:lnTo>
                  <a:lnTo>
                    <a:pt x="514" y="2341"/>
                  </a:lnTo>
                  <a:lnTo>
                    <a:pt x="514" y="2277"/>
                  </a:lnTo>
                  <a:lnTo>
                    <a:pt x="514" y="2212"/>
                  </a:lnTo>
                  <a:lnTo>
                    <a:pt x="513" y="2147"/>
                  </a:lnTo>
                  <a:lnTo>
                    <a:pt x="513" y="2083"/>
                  </a:lnTo>
                  <a:lnTo>
                    <a:pt x="513" y="2019"/>
                  </a:lnTo>
                  <a:lnTo>
                    <a:pt x="513" y="1955"/>
                  </a:lnTo>
                  <a:lnTo>
                    <a:pt x="513" y="1890"/>
                  </a:lnTo>
                  <a:lnTo>
                    <a:pt x="513" y="1826"/>
                  </a:lnTo>
                  <a:lnTo>
                    <a:pt x="512" y="1762"/>
                  </a:lnTo>
                  <a:lnTo>
                    <a:pt x="512" y="1698"/>
                  </a:lnTo>
                  <a:lnTo>
                    <a:pt x="512" y="1633"/>
                  </a:lnTo>
                  <a:lnTo>
                    <a:pt x="512" y="1569"/>
                  </a:lnTo>
                  <a:lnTo>
                    <a:pt x="512" y="1505"/>
                  </a:lnTo>
                  <a:lnTo>
                    <a:pt x="512" y="1441"/>
                  </a:lnTo>
                  <a:lnTo>
                    <a:pt x="511" y="1376"/>
                  </a:lnTo>
                  <a:lnTo>
                    <a:pt x="511" y="1313"/>
                  </a:lnTo>
                  <a:lnTo>
                    <a:pt x="547" y="1308"/>
                  </a:lnTo>
                  <a:lnTo>
                    <a:pt x="584" y="1304"/>
                  </a:lnTo>
                  <a:lnTo>
                    <a:pt x="621" y="1300"/>
                  </a:lnTo>
                  <a:lnTo>
                    <a:pt x="657" y="1296"/>
                  </a:lnTo>
                  <a:lnTo>
                    <a:pt x="695" y="1291"/>
                  </a:lnTo>
                  <a:lnTo>
                    <a:pt x="732" y="1286"/>
                  </a:lnTo>
                  <a:lnTo>
                    <a:pt x="770" y="1282"/>
                  </a:lnTo>
                  <a:lnTo>
                    <a:pt x="808" y="1277"/>
                  </a:lnTo>
                  <a:lnTo>
                    <a:pt x="809" y="1428"/>
                  </a:lnTo>
                  <a:lnTo>
                    <a:pt x="809" y="1579"/>
                  </a:lnTo>
                  <a:lnTo>
                    <a:pt x="810" y="1731"/>
                  </a:lnTo>
                  <a:lnTo>
                    <a:pt x="810" y="1882"/>
                  </a:lnTo>
                  <a:lnTo>
                    <a:pt x="811" y="2034"/>
                  </a:lnTo>
                  <a:lnTo>
                    <a:pt x="811" y="2185"/>
                  </a:lnTo>
                  <a:lnTo>
                    <a:pt x="812" y="2337"/>
                  </a:lnTo>
                  <a:lnTo>
                    <a:pt x="812" y="2489"/>
                  </a:lnTo>
                  <a:lnTo>
                    <a:pt x="813" y="2642"/>
                  </a:lnTo>
                  <a:lnTo>
                    <a:pt x="814" y="2795"/>
                  </a:lnTo>
                  <a:lnTo>
                    <a:pt x="814" y="2948"/>
                  </a:lnTo>
                  <a:lnTo>
                    <a:pt x="815" y="3101"/>
                  </a:lnTo>
                  <a:lnTo>
                    <a:pt x="815" y="3255"/>
                  </a:lnTo>
                  <a:lnTo>
                    <a:pt x="816" y="3408"/>
                  </a:lnTo>
                  <a:lnTo>
                    <a:pt x="817" y="3562"/>
                  </a:lnTo>
                  <a:lnTo>
                    <a:pt x="818" y="3716"/>
                  </a:lnTo>
                  <a:lnTo>
                    <a:pt x="800" y="3714"/>
                  </a:lnTo>
                  <a:lnTo>
                    <a:pt x="783" y="3711"/>
                  </a:lnTo>
                  <a:lnTo>
                    <a:pt x="766" y="3709"/>
                  </a:lnTo>
                  <a:lnTo>
                    <a:pt x="748" y="3707"/>
                  </a:lnTo>
                  <a:lnTo>
                    <a:pt x="731" y="3705"/>
                  </a:lnTo>
                  <a:lnTo>
                    <a:pt x="714" y="3703"/>
                  </a:lnTo>
                  <a:lnTo>
                    <a:pt x="696" y="3700"/>
                  </a:lnTo>
                  <a:lnTo>
                    <a:pt x="680" y="3698"/>
                  </a:lnTo>
                  <a:lnTo>
                    <a:pt x="652" y="3629"/>
                  </a:lnTo>
                  <a:lnTo>
                    <a:pt x="626" y="3561"/>
                  </a:lnTo>
                  <a:lnTo>
                    <a:pt x="599" y="3493"/>
                  </a:lnTo>
                  <a:lnTo>
                    <a:pt x="573" y="3425"/>
                  </a:lnTo>
                  <a:lnTo>
                    <a:pt x="547" y="3357"/>
                  </a:lnTo>
                  <a:lnTo>
                    <a:pt x="521" y="3290"/>
                  </a:lnTo>
                  <a:lnTo>
                    <a:pt x="494" y="3223"/>
                  </a:lnTo>
                  <a:lnTo>
                    <a:pt x="468" y="3156"/>
                  </a:lnTo>
                  <a:lnTo>
                    <a:pt x="443" y="3091"/>
                  </a:lnTo>
                  <a:lnTo>
                    <a:pt x="417" y="3026"/>
                  </a:lnTo>
                  <a:lnTo>
                    <a:pt x="392" y="2961"/>
                  </a:lnTo>
                  <a:lnTo>
                    <a:pt x="366" y="2896"/>
                  </a:lnTo>
                  <a:lnTo>
                    <a:pt x="342" y="2832"/>
                  </a:lnTo>
                  <a:lnTo>
                    <a:pt x="317" y="2768"/>
                  </a:lnTo>
                  <a:lnTo>
                    <a:pt x="292" y="2703"/>
                  </a:lnTo>
                  <a:lnTo>
                    <a:pt x="267" y="2640"/>
                  </a:lnTo>
                  <a:lnTo>
                    <a:pt x="267" y="2702"/>
                  </a:lnTo>
                  <a:lnTo>
                    <a:pt x="267" y="2765"/>
                  </a:lnTo>
                  <a:lnTo>
                    <a:pt x="267" y="2828"/>
                  </a:lnTo>
                  <a:lnTo>
                    <a:pt x="267" y="2891"/>
                  </a:lnTo>
                  <a:lnTo>
                    <a:pt x="267" y="2953"/>
                  </a:lnTo>
                  <a:lnTo>
                    <a:pt x="267" y="3016"/>
                  </a:lnTo>
                  <a:lnTo>
                    <a:pt x="267" y="3079"/>
                  </a:lnTo>
                  <a:lnTo>
                    <a:pt x="268" y="3142"/>
                  </a:lnTo>
                  <a:lnTo>
                    <a:pt x="268" y="3205"/>
                  </a:lnTo>
                  <a:lnTo>
                    <a:pt x="268" y="3267"/>
                  </a:lnTo>
                  <a:lnTo>
                    <a:pt x="268" y="3331"/>
                  </a:lnTo>
                  <a:lnTo>
                    <a:pt x="268" y="3394"/>
                  </a:lnTo>
                  <a:lnTo>
                    <a:pt x="268" y="3456"/>
                  </a:lnTo>
                  <a:lnTo>
                    <a:pt x="268" y="3519"/>
                  </a:lnTo>
                  <a:lnTo>
                    <a:pt x="268" y="3583"/>
                  </a:lnTo>
                  <a:lnTo>
                    <a:pt x="268" y="3646"/>
                  </a:lnTo>
                  <a:lnTo>
                    <a:pt x="235" y="3641"/>
                  </a:lnTo>
                  <a:lnTo>
                    <a:pt x="200" y="3637"/>
                  </a:lnTo>
                  <a:lnTo>
                    <a:pt x="166" y="3632"/>
                  </a:lnTo>
                  <a:lnTo>
                    <a:pt x="133" y="3628"/>
                  </a:lnTo>
                  <a:lnTo>
                    <a:pt x="100" y="3623"/>
                  </a:lnTo>
                  <a:lnTo>
                    <a:pt x="66" y="3619"/>
                  </a:lnTo>
                  <a:lnTo>
                    <a:pt x="33" y="3615"/>
                  </a:lnTo>
                  <a:lnTo>
                    <a:pt x="1" y="3611"/>
                  </a:lnTo>
                  <a:close/>
                  <a:moveTo>
                    <a:pt x="1619" y="1838"/>
                  </a:moveTo>
                  <a:lnTo>
                    <a:pt x="1602" y="1840"/>
                  </a:lnTo>
                  <a:lnTo>
                    <a:pt x="1585" y="1843"/>
                  </a:lnTo>
                  <a:lnTo>
                    <a:pt x="1568" y="1847"/>
                  </a:lnTo>
                  <a:lnTo>
                    <a:pt x="1553" y="1854"/>
                  </a:lnTo>
                  <a:lnTo>
                    <a:pt x="1537" y="1861"/>
                  </a:lnTo>
                  <a:lnTo>
                    <a:pt x="1521" y="1870"/>
                  </a:lnTo>
                  <a:lnTo>
                    <a:pt x="1507" y="1880"/>
                  </a:lnTo>
                  <a:lnTo>
                    <a:pt x="1493" y="1891"/>
                  </a:lnTo>
                  <a:lnTo>
                    <a:pt x="1478" y="1905"/>
                  </a:lnTo>
                  <a:lnTo>
                    <a:pt x="1464" y="1919"/>
                  </a:lnTo>
                  <a:lnTo>
                    <a:pt x="1451" y="1935"/>
                  </a:lnTo>
                  <a:lnTo>
                    <a:pt x="1439" y="1953"/>
                  </a:lnTo>
                  <a:lnTo>
                    <a:pt x="1425" y="1971"/>
                  </a:lnTo>
                  <a:lnTo>
                    <a:pt x="1413" y="1990"/>
                  </a:lnTo>
                  <a:lnTo>
                    <a:pt x="1402" y="2012"/>
                  </a:lnTo>
                  <a:lnTo>
                    <a:pt x="1391" y="2035"/>
                  </a:lnTo>
                  <a:lnTo>
                    <a:pt x="1379" y="2059"/>
                  </a:lnTo>
                  <a:lnTo>
                    <a:pt x="1369" y="2083"/>
                  </a:lnTo>
                  <a:lnTo>
                    <a:pt x="1360" y="2108"/>
                  </a:lnTo>
                  <a:lnTo>
                    <a:pt x="1352" y="2133"/>
                  </a:lnTo>
                  <a:lnTo>
                    <a:pt x="1344" y="2160"/>
                  </a:lnTo>
                  <a:lnTo>
                    <a:pt x="1337" y="2186"/>
                  </a:lnTo>
                  <a:lnTo>
                    <a:pt x="1330" y="2214"/>
                  </a:lnTo>
                  <a:lnTo>
                    <a:pt x="1324" y="2241"/>
                  </a:lnTo>
                  <a:lnTo>
                    <a:pt x="1319" y="2270"/>
                  </a:lnTo>
                  <a:lnTo>
                    <a:pt x="1315" y="2299"/>
                  </a:lnTo>
                  <a:lnTo>
                    <a:pt x="1311" y="2330"/>
                  </a:lnTo>
                  <a:lnTo>
                    <a:pt x="1309" y="2361"/>
                  </a:lnTo>
                  <a:lnTo>
                    <a:pt x="1306" y="2391"/>
                  </a:lnTo>
                  <a:lnTo>
                    <a:pt x="1305" y="2423"/>
                  </a:lnTo>
                  <a:lnTo>
                    <a:pt x="1304" y="2455"/>
                  </a:lnTo>
                  <a:lnTo>
                    <a:pt x="1304" y="2489"/>
                  </a:lnTo>
                  <a:lnTo>
                    <a:pt x="1304" y="2523"/>
                  </a:lnTo>
                  <a:lnTo>
                    <a:pt x="1306" y="2555"/>
                  </a:lnTo>
                  <a:lnTo>
                    <a:pt x="1307" y="2587"/>
                  </a:lnTo>
                  <a:lnTo>
                    <a:pt x="1310" y="2619"/>
                  </a:lnTo>
                  <a:lnTo>
                    <a:pt x="1313" y="2649"/>
                  </a:lnTo>
                  <a:lnTo>
                    <a:pt x="1317" y="2680"/>
                  </a:lnTo>
                  <a:lnTo>
                    <a:pt x="1322" y="2709"/>
                  </a:lnTo>
                  <a:lnTo>
                    <a:pt x="1327" y="2738"/>
                  </a:lnTo>
                  <a:lnTo>
                    <a:pt x="1333" y="2767"/>
                  </a:lnTo>
                  <a:lnTo>
                    <a:pt x="1341" y="2794"/>
                  </a:lnTo>
                  <a:lnTo>
                    <a:pt x="1348" y="2821"/>
                  </a:lnTo>
                  <a:lnTo>
                    <a:pt x="1356" y="2847"/>
                  </a:lnTo>
                  <a:lnTo>
                    <a:pt x="1365" y="2873"/>
                  </a:lnTo>
                  <a:lnTo>
                    <a:pt x="1374" y="2897"/>
                  </a:lnTo>
                  <a:lnTo>
                    <a:pt x="1386" y="2922"/>
                  </a:lnTo>
                  <a:lnTo>
                    <a:pt x="1396" y="2945"/>
                  </a:lnTo>
                  <a:lnTo>
                    <a:pt x="1408" y="2968"/>
                  </a:lnTo>
                  <a:lnTo>
                    <a:pt x="1420" y="2990"/>
                  </a:lnTo>
                  <a:lnTo>
                    <a:pt x="1433" y="3010"/>
                  </a:lnTo>
                  <a:lnTo>
                    <a:pt x="1446" y="3029"/>
                  </a:lnTo>
                  <a:lnTo>
                    <a:pt x="1459" y="3047"/>
                  </a:lnTo>
                  <a:lnTo>
                    <a:pt x="1472" y="3062"/>
                  </a:lnTo>
                  <a:lnTo>
                    <a:pt x="1487" y="3078"/>
                  </a:lnTo>
                  <a:lnTo>
                    <a:pt x="1501" y="3091"/>
                  </a:lnTo>
                  <a:lnTo>
                    <a:pt x="1515" y="3102"/>
                  </a:lnTo>
                  <a:lnTo>
                    <a:pt x="1531" y="3112"/>
                  </a:lnTo>
                  <a:lnTo>
                    <a:pt x="1546" y="3121"/>
                  </a:lnTo>
                  <a:lnTo>
                    <a:pt x="1562" y="3130"/>
                  </a:lnTo>
                  <a:lnTo>
                    <a:pt x="1579" y="3136"/>
                  </a:lnTo>
                  <a:lnTo>
                    <a:pt x="1595" y="3140"/>
                  </a:lnTo>
                  <a:lnTo>
                    <a:pt x="1612" y="3144"/>
                  </a:lnTo>
                  <a:lnTo>
                    <a:pt x="1630" y="3145"/>
                  </a:lnTo>
                  <a:lnTo>
                    <a:pt x="1648" y="3146"/>
                  </a:lnTo>
                  <a:lnTo>
                    <a:pt x="1664" y="3145"/>
                  </a:lnTo>
                  <a:lnTo>
                    <a:pt x="1682" y="3142"/>
                  </a:lnTo>
                  <a:lnTo>
                    <a:pt x="1698" y="3138"/>
                  </a:lnTo>
                  <a:lnTo>
                    <a:pt x="1714" y="3132"/>
                  </a:lnTo>
                  <a:lnTo>
                    <a:pt x="1731" y="3125"/>
                  </a:lnTo>
                  <a:lnTo>
                    <a:pt x="1746" y="3115"/>
                  </a:lnTo>
                  <a:lnTo>
                    <a:pt x="1761" y="3105"/>
                  </a:lnTo>
                  <a:lnTo>
                    <a:pt x="1776" y="3094"/>
                  </a:lnTo>
                  <a:lnTo>
                    <a:pt x="1790" y="3080"/>
                  </a:lnTo>
                  <a:lnTo>
                    <a:pt x="1804" y="3065"/>
                  </a:lnTo>
                  <a:lnTo>
                    <a:pt x="1819" y="3049"/>
                  </a:lnTo>
                  <a:lnTo>
                    <a:pt x="1832" y="3031"/>
                  </a:lnTo>
                  <a:lnTo>
                    <a:pt x="1845" y="3011"/>
                  </a:lnTo>
                  <a:lnTo>
                    <a:pt x="1857" y="2990"/>
                  </a:lnTo>
                  <a:lnTo>
                    <a:pt x="1870" y="2967"/>
                  </a:lnTo>
                  <a:lnTo>
                    <a:pt x="1882" y="2943"/>
                  </a:lnTo>
                  <a:lnTo>
                    <a:pt x="1893" y="2918"/>
                  </a:lnTo>
                  <a:lnTo>
                    <a:pt x="1903" y="2893"/>
                  </a:lnTo>
                  <a:lnTo>
                    <a:pt x="1914" y="2866"/>
                  </a:lnTo>
                  <a:lnTo>
                    <a:pt x="1922" y="2839"/>
                  </a:lnTo>
                  <a:lnTo>
                    <a:pt x="1930" y="2811"/>
                  </a:lnTo>
                  <a:lnTo>
                    <a:pt x="1937" y="2783"/>
                  </a:lnTo>
                  <a:lnTo>
                    <a:pt x="1944" y="2753"/>
                  </a:lnTo>
                  <a:lnTo>
                    <a:pt x="1949" y="2723"/>
                  </a:lnTo>
                  <a:lnTo>
                    <a:pt x="1954" y="2692"/>
                  </a:lnTo>
                  <a:lnTo>
                    <a:pt x="1958" y="2660"/>
                  </a:lnTo>
                  <a:lnTo>
                    <a:pt x="1963" y="2628"/>
                  </a:lnTo>
                  <a:lnTo>
                    <a:pt x="1965" y="2595"/>
                  </a:lnTo>
                  <a:lnTo>
                    <a:pt x="1967" y="2561"/>
                  </a:lnTo>
                  <a:lnTo>
                    <a:pt x="1968" y="2527"/>
                  </a:lnTo>
                  <a:lnTo>
                    <a:pt x="1968" y="2491"/>
                  </a:lnTo>
                  <a:lnTo>
                    <a:pt x="1967" y="2456"/>
                  </a:lnTo>
                  <a:lnTo>
                    <a:pt x="1966" y="2422"/>
                  </a:lnTo>
                  <a:lnTo>
                    <a:pt x="1963" y="2388"/>
                  </a:lnTo>
                  <a:lnTo>
                    <a:pt x="1959" y="2355"/>
                  </a:lnTo>
                  <a:lnTo>
                    <a:pt x="1955" y="2324"/>
                  </a:lnTo>
                  <a:lnTo>
                    <a:pt x="1951" y="2292"/>
                  </a:lnTo>
                  <a:lnTo>
                    <a:pt x="1945" y="2262"/>
                  </a:lnTo>
                  <a:lnTo>
                    <a:pt x="1939" y="2231"/>
                  </a:lnTo>
                  <a:lnTo>
                    <a:pt x="1932" y="2202"/>
                  </a:lnTo>
                  <a:lnTo>
                    <a:pt x="1924" y="2174"/>
                  </a:lnTo>
                  <a:lnTo>
                    <a:pt x="1916" y="2145"/>
                  </a:lnTo>
                  <a:lnTo>
                    <a:pt x="1906" y="2119"/>
                  </a:lnTo>
                  <a:lnTo>
                    <a:pt x="1896" y="2092"/>
                  </a:lnTo>
                  <a:lnTo>
                    <a:pt x="1885" y="2067"/>
                  </a:lnTo>
                  <a:lnTo>
                    <a:pt x="1874" y="2041"/>
                  </a:lnTo>
                  <a:lnTo>
                    <a:pt x="1861" y="2018"/>
                  </a:lnTo>
                  <a:lnTo>
                    <a:pt x="1849" y="1994"/>
                  </a:lnTo>
                  <a:lnTo>
                    <a:pt x="1836" y="1974"/>
                  </a:lnTo>
                  <a:lnTo>
                    <a:pt x="1823" y="1955"/>
                  </a:lnTo>
                  <a:lnTo>
                    <a:pt x="1809" y="1936"/>
                  </a:lnTo>
                  <a:lnTo>
                    <a:pt x="1795" y="1920"/>
                  </a:lnTo>
                  <a:lnTo>
                    <a:pt x="1781" y="1905"/>
                  </a:lnTo>
                  <a:lnTo>
                    <a:pt x="1766" y="1891"/>
                  </a:lnTo>
                  <a:lnTo>
                    <a:pt x="1751" y="1879"/>
                  </a:lnTo>
                  <a:lnTo>
                    <a:pt x="1736" y="1869"/>
                  </a:lnTo>
                  <a:lnTo>
                    <a:pt x="1721" y="1860"/>
                  </a:lnTo>
                  <a:lnTo>
                    <a:pt x="1704" y="1853"/>
                  </a:lnTo>
                  <a:lnTo>
                    <a:pt x="1688" y="1846"/>
                  </a:lnTo>
                  <a:lnTo>
                    <a:pt x="1671" y="1842"/>
                  </a:lnTo>
                  <a:lnTo>
                    <a:pt x="1654" y="1839"/>
                  </a:lnTo>
                  <a:lnTo>
                    <a:pt x="1637" y="1838"/>
                  </a:lnTo>
                  <a:lnTo>
                    <a:pt x="1619" y="1838"/>
                  </a:lnTo>
                  <a:close/>
                  <a:moveTo>
                    <a:pt x="1612" y="1113"/>
                  </a:moveTo>
                  <a:lnTo>
                    <a:pt x="1629" y="1111"/>
                  </a:lnTo>
                  <a:lnTo>
                    <a:pt x="1645" y="1110"/>
                  </a:lnTo>
                  <a:lnTo>
                    <a:pt x="1661" y="1110"/>
                  </a:lnTo>
                  <a:lnTo>
                    <a:pt x="1678" y="1110"/>
                  </a:lnTo>
                  <a:lnTo>
                    <a:pt x="1694" y="1111"/>
                  </a:lnTo>
                  <a:lnTo>
                    <a:pt x="1710" y="1113"/>
                  </a:lnTo>
                  <a:lnTo>
                    <a:pt x="1726" y="1116"/>
                  </a:lnTo>
                  <a:lnTo>
                    <a:pt x="1742" y="1118"/>
                  </a:lnTo>
                  <a:lnTo>
                    <a:pt x="1758" y="1122"/>
                  </a:lnTo>
                  <a:lnTo>
                    <a:pt x="1774" y="1127"/>
                  </a:lnTo>
                  <a:lnTo>
                    <a:pt x="1790" y="1132"/>
                  </a:lnTo>
                  <a:lnTo>
                    <a:pt x="1805" y="1138"/>
                  </a:lnTo>
                  <a:lnTo>
                    <a:pt x="1821" y="1144"/>
                  </a:lnTo>
                  <a:lnTo>
                    <a:pt x="1836" y="1151"/>
                  </a:lnTo>
                  <a:lnTo>
                    <a:pt x="1852" y="1159"/>
                  </a:lnTo>
                  <a:lnTo>
                    <a:pt x="1868" y="1167"/>
                  </a:lnTo>
                  <a:lnTo>
                    <a:pt x="1883" y="1176"/>
                  </a:lnTo>
                  <a:lnTo>
                    <a:pt x="1898" y="1187"/>
                  </a:lnTo>
                  <a:lnTo>
                    <a:pt x="1914" y="1198"/>
                  </a:lnTo>
                  <a:lnTo>
                    <a:pt x="1929" y="1208"/>
                  </a:lnTo>
                  <a:lnTo>
                    <a:pt x="1944" y="1220"/>
                  </a:lnTo>
                  <a:lnTo>
                    <a:pt x="1958" y="1232"/>
                  </a:lnTo>
                  <a:lnTo>
                    <a:pt x="1973" y="1246"/>
                  </a:lnTo>
                  <a:lnTo>
                    <a:pt x="1987" y="1259"/>
                  </a:lnTo>
                  <a:lnTo>
                    <a:pt x="2000" y="1274"/>
                  </a:lnTo>
                  <a:lnTo>
                    <a:pt x="2015" y="1289"/>
                  </a:lnTo>
                  <a:lnTo>
                    <a:pt x="2028" y="1305"/>
                  </a:lnTo>
                  <a:lnTo>
                    <a:pt x="2041" y="1321"/>
                  </a:lnTo>
                  <a:lnTo>
                    <a:pt x="2054" y="1337"/>
                  </a:lnTo>
                  <a:lnTo>
                    <a:pt x="2067" y="1355"/>
                  </a:lnTo>
                  <a:lnTo>
                    <a:pt x="2080" y="1373"/>
                  </a:lnTo>
                  <a:lnTo>
                    <a:pt x="2092" y="1392"/>
                  </a:lnTo>
                  <a:lnTo>
                    <a:pt x="2109" y="1418"/>
                  </a:lnTo>
                  <a:lnTo>
                    <a:pt x="2125" y="1445"/>
                  </a:lnTo>
                  <a:lnTo>
                    <a:pt x="2140" y="1471"/>
                  </a:lnTo>
                  <a:lnTo>
                    <a:pt x="2156" y="1499"/>
                  </a:lnTo>
                  <a:lnTo>
                    <a:pt x="2170" y="1527"/>
                  </a:lnTo>
                  <a:lnTo>
                    <a:pt x="2184" y="1557"/>
                  </a:lnTo>
                  <a:lnTo>
                    <a:pt x="2198" y="1585"/>
                  </a:lnTo>
                  <a:lnTo>
                    <a:pt x="2212" y="1616"/>
                  </a:lnTo>
                  <a:lnTo>
                    <a:pt x="2225" y="1647"/>
                  </a:lnTo>
                  <a:lnTo>
                    <a:pt x="2237" y="1678"/>
                  </a:lnTo>
                  <a:lnTo>
                    <a:pt x="2248" y="1710"/>
                  </a:lnTo>
                  <a:lnTo>
                    <a:pt x="2261" y="1742"/>
                  </a:lnTo>
                  <a:lnTo>
                    <a:pt x="2272" y="1776"/>
                  </a:lnTo>
                  <a:lnTo>
                    <a:pt x="2282" y="1810"/>
                  </a:lnTo>
                  <a:lnTo>
                    <a:pt x="2292" y="1844"/>
                  </a:lnTo>
                  <a:lnTo>
                    <a:pt x="2302" y="1880"/>
                  </a:lnTo>
                  <a:lnTo>
                    <a:pt x="2311" y="1916"/>
                  </a:lnTo>
                  <a:lnTo>
                    <a:pt x="2319" y="1953"/>
                  </a:lnTo>
                  <a:lnTo>
                    <a:pt x="2327" y="1989"/>
                  </a:lnTo>
                  <a:lnTo>
                    <a:pt x="2334" y="2026"/>
                  </a:lnTo>
                  <a:lnTo>
                    <a:pt x="2341" y="2064"/>
                  </a:lnTo>
                  <a:lnTo>
                    <a:pt x="2348" y="2101"/>
                  </a:lnTo>
                  <a:lnTo>
                    <a:pt x="2354" y="2139"/>
                  </a:lnTo>
                  <a:lnTo>
                    <a:pt x="2359" y="2177"/>
                  </a:lnTo>
                  <a:lnTo>
                    <a:pt x="2363" y="2216"/>
                  </a:lnTo>
                  <a:lnTo>
                    <a:pt x="2367" y="2254"/>
                  </a:lnTo>
                  <a:lnTo>
                    <a:pt x="2371" y="2294"/>
                  </a:lnTo>
                  <a:lnTo>
                    <a:pt x="2374" y="2333"/>
                  </a:lnTo>
                  <a:lnTo>
                    <a:pt x="2376" y="2373"/>
                  </a:lnTo>
                  <a:lnTo>
                    <a:pt x="2378" y="2413"/>
                  </a:lnTo>
                  <a:lnTo>
                    <a:pt x="2379" y="2453"/>
                  </a:lnTo>
                  <a:lnTo>
                    <a:pt x="2380" y="2494"/>
                  </a:lnTo>
                  <a:lnTo>
                    <a:pt x="2380" y="2534"/>
                  </a:lnTo>
                  <a:lnTo>
                    <a:pt x="2379" y="2575"/>
                  </a:lnTo>
                  <a:lnTo>
                    <a:pt x="2378" y="2616"/>
                  </a:lnTo>
                  <a:lnTo>
                    <a:pt x="2377" y="2655"/>
                  </a:lnTo>
                  <a:lnTo>
                    <a:pt x="2375" y="2695"/>
                  </a:lnTo>
                  <a:lnTo>
                    <a:pt x="2372" y="2734"/>
                  </a:lnTo>
                  <a:lnTo>
                    <a:pt x="2369" y="2773"/>
                  </a:lnTo>
                  <a:lnTo>
                    <a:pt x="2365" y="2811"/>
                  </a:lnTo>
                  <a:lnTo>
                    <a:pt x="2361" y="2850"/>
                  </a:lnTo>
                  <a:lnTo>
                    <a:pt x="2356" y="2889"/>
                  </a:lnTo>
                  <a:lnTo>
                    <a:pt x="2350" y="2927"/>
                  </a:lnTo>
                  <a:lnTo>
                    <a:pt x="2343" y="2964"/>
                  </a:lnTo>
                  <a:lnTo>
                    <a:pt x="2337" y="3002"/>
                  </a:lnTo>
                  <a:lnTo>
                    <a:pt x="2330" y="3039"/>
                  </a:lnTo>
                  <a:lnTo>
                    <a:pt x="2322" y="3076"/>
                  </a:lnTo>
                  <a:lnTo>
                    <a:pt x="2314" y="3112"/>
                  </a:lnTo>
                  <a:lnTo>
                    <a:pt x="2305" y="3149"/>
                  </a:lnTo>
                  <a:lnTo>
                    <a:pt x="2295" y="3184"/>
                  </a:lnTo>
                  <a:lnTo>
                    <a:pt x="2285" y="3218"/>
                  </a:lnTo>
                  <a:lnTo>
                    <a:pt x="2275" y="3252"/>
                  </a:lnTo>
                  <a:lnTo>
                    <a:pt x="2264" y="3286"/>
                  </a:lnTo>
                  <a:lnTo>
                    <a:pt x="2253" y="3318"/>
                  </a:lnTo>
                  <a:lnTo>
                    <a:pt x="2240" y="3351"/>
                  </a:lnTo>
                  <a:lnTo>
                    <a:pt x="2228" y="3382"/>
                  </a:lnTo>
                  <a:lnTo>
                    <a:pt x="2216" y="3412"/>
                  </a:lnTo>
                  <a:lnTo>
                    <a:pt x="2203" y="3443"/>
                  </a:lnTo>
                  <a:lnTo>
                    <a:pt x="2188" y="3472"/>
                  </a:lnTo>
                  <a:lnTo>
                    <a:pt x="2174" y="3501"/>
                  </a:lnTo>
                  <a:lnTo>
                    <a:pt x="2160" y="3528"/>
                  </a:lnTo>
                  <a:lnTo>
                    <a:pt x="2144" y="3556"/>
                  </a:lnTo>
                  <a:lnTo>
                    <a:pt x="2129" y="3584"/>
                  </a:lnTo>
                  <a:lnTo>
                    <a:pt x="2114" y="3609"/>
                  </a:lnTo>
                  <a:lnTo>
                    <a:pt x="2100" y="3628"/>
                  </a:lnTo>
                  <a:lnTo>
                    <a:pt x="2088" y="3648"/>
                  </a:lnTo>
                  <a:lnTo>
                    <a:pt x="2076" y="3665"/>
                  </a:lnTo>
                  <a:lnTo>
                    <a:pt x="2063" y="3682"/>
                  </a:lnTo>
                  <a:lnTo>
                    <a:pt x="2049" y="3699"/>
                  </a:lnTo>
                  <a:lnTo>
                    <a:pt x="2036" y="3715"/>
                  </a:lnTo>
                  <a:lnTo>
                    <a:pt x="2023" y="3730"/>
                  </a:lnTo>
                  <a:lnTo>
                    <a:pt x="2009" y="3745"/>
                  </a:lnTo>
                  <a:lnTo>
                    <a:pt x="1994" y="3759"/>
                  </a:lnTo>
                  <a:lnTo>
                    <a:pt x="1981" y="3772"/>
                  </a:lnTo>
                  <a:lnTo>
                    <a:pt x="1966" y="3784"/>
                  </a:lnTo>
                  <a:lnTo>
                    <a:pt x="1951" y="3797"/>
                  </a:lnTo>
                  <a:lnTo>
                    <a:pt x="1936" y="3808"/>
                  </a:lnTo>
                  <a:lnTo>
                    <a:pt x="1921" y="3819"/>
                  </a:lnTo>
                  <a:lnTo>
                    <a:pt x="1905" y="3829"/>
                  </a:lnTo>
                  <a:lnTo>
                    <a:pt x="1890" y="3839"/>
                  </a:lnTo>
                  <a:lnTo>
                    <a:pt x="1875" y="3847"/>
                  </a:lnTo>
                  <a:lnTo>
                    <a:pt x="1859" y="3855"/>
                  </a:lnTo>
                  <a:lnTo>
                    <a:pt x="1844" y="3862"/>
                  </a:lnTo>
                  <a:lnTo>
                    <a:pt x="1828" y="3868"/>
                  </a:lnTo>
                  <a:lnTo>
                    <a:pt x="1812" y="3874"/>
                  </a:lnTo>
                  <a:lnTo>
                    <a:pt x="1797" y="3879"/>
                  </a:lnTo>
                  <a:lnTo>
                    <a:pt x="1781" y="3883"/>
                  </a:lnTo>
                  <a:lnTo>
                    <a:pt x="1764" y="3886"/>
                  </a:lnTo>
                  <a:lnTo>
                    <a:pt x="1749" y="3890"/>
                  </a:lnTo>
                  <a:lnTo>
                    <a:pt x="1733" y="3893"/>
                  </a:lnTo>
                  <a:lnTo>
                    <a:pt x="1716" y="3894"/>
                  </a:lnTo>
                  <a:lnTo>
                    <a:pt x="1700" y="3895"/>
                  </a:lnTo>
                  <a:lnTo>
                    <a:pt x="1684" y="3895"/>
                  </a:lnTo>
                  <a:lnTo>
                    <a:pt x="1667" y="3895"/>
                  </a:lnTo>
                  <a:lnTo>
                    <a:pt x="1650" y="3893"/>
                  </a:lnTo>
                  <a:lnTo>
                    <a:pt x="1634" y="3892"/>
                  </a:lnTo>
                  <a:lnTo>
                    <a:pt x="1617" y="3889"/>
                  </a:lnTo>
                  <a:lnTo>
                    <a:pt x="1601" y="3885"/>
                  </a:lnTo>
                  <a:lnTo>
                    <a:pt x="1586" y="3881"/>
                  </a:lnTo>
                  <a:lnTo>
                    <a:pt x="1569" y="3877"/>
                  </a:lnTo>
                  <a:lnTo>
                    <a:pt x="1554" y="3872"/>
                  </a:lnTo>
                  <a:lnTo>
                    <a:pt x="1538" y="3866"/>
                  </a:lnTo>
                  <a:lnTo>
                    <a:pt x="1522" y="3860"/>
                  </a:lnTo>
                  <a:lnTo>
                    <a:pt x="1507" y="3853"/>
                  </a:lnTo>
                  <a:lnTo>
                    <a:pt x="1492" y="3846"/>
                  </a:lnTo>
                  <a:lnTo>
                    <a:pt x="1476" y="3838"/>
                  </a:lnTo>
                  <a:lnTo>
                    <a:pt x="1461" y="3828"/>
                  </a:lnTo>
                  <a:lnTo>
                    <a:pt x="1446" y="3819"/>
                  </a:lnTo>
                  <a:lnTo>
                    <a:pt x="1432" y="3809"/>
                  </a:lnTo>
                  <a:lnTo>
                    <a:pt x="1417" y="3798"/>
                  </a:lnTo>
                  <a:lnTo>
                    <a:pt x="1402" y="3787"/>
                  </a:lnTo>
                  <a:lnTo>
                    <a:pt x="1388" y="3774"/>
                  </a:lnTo>
                  <a:lnTo>
                    <a:pt x="1360" y="3750"/>
                  </a:lnTo>
                  <a:lnTo>
                    <a:pt x="1333" y="3722"/>
                  </a:lnTo>
                  <a:lnTo>
                    <a:pt x="1307" y="3693"/>
                  </a:lnTo>
                  <a:lnTo>
                    <a:pt x="1281" y="3661"/>
                  </a:lnTo>
                  <a:lnTo>
                    <a:pt x="1257" y="3627"/>
                  </a:lnTo>
                  <a:lnTo>
                    <a:pt x="1233" y="3592"/>
                  </a:lnTo>
                  <a:lnTo>
                    <a:pt x="1211" y="3554"/>
                  </a:lnTo>
                  <a:lnTo>
                    <a:pt x="1188" y="3513"/>
                  </a:lnTo>
                  <a:lnTo>
                    <a:pt x="1175" y="3488"/>
                  </a:lnTo>
                  <a:lnTo>
                    <a:pt x="1162" y="3460"/>
                  </a:lnTo>
                  <a:lnTo>
                    <a:pt x="1150" y="3434"/>
                  </a:lnTo>
                  <a:lnTo>
                    <a:pt x="1137" y="3406"/>
                  </a:lnTo>
                  <a:lnTo>
                    <a:pt x="1125" y="3377"/>
                  </a:lnTo>
                  <a:lnTo>
                    <a:pt x="1114" y="3349"/>
                  </a:lnTo>
                  <a:lnTo>
                    <a:pt x="1103" y="3320"/>
                  </a:lnTo>
                  <a:lnTo>
                    <a:pt x="1092" y="3291"/>
                  </a:lnTo>
                  <a:lnTo>
                    <a:pt x="1072" y="3231"/>
                  </a:lnTo>
                  <a:lnTo>
                    <a:pt x="1054" y="3168"/>
                  </a:lnTo>
                  <a:lnTo>
                    <a:pt x="1037" y="3104"/>
                  </a:lnTo>
                  <a:lnTo>
                    <a:pt x="1021" y="3039"/>
                  </a:lnTo>
                  <a:lnTo>
                    <a:pt x="1008" y="2973"/>
                  </a:lnTo>
                  <a:lnTo>
                    <a:pt x="995" y="2905"/>
                  </a:lnTo>
                  <a:lnTo>
                    <a:pt x="985" y="2838"/>
                  </a:lnTo>
                  <a:lnTo>
                    <a:pt x="977" y="2770"/>
                  </a:lnTo>
                  <a:lnTo>
                    <a:pt x="971" y="2700"/>
                  </a:lnTo>
                  <a:lnTo>
                    <a:pt x="966" y="2631"/>
                  </a:lnTo>
                  <a:lnTo>
                    <a:pt x="963" y="2559"/>
                  </a:lnTo>
                  <a:lnTo>
                    <a:pt x="962" y="2488"/>
                  </a:lnTo>
                  <a:lnTo>
                    <a:pt x="962" y="2417"/>
                  </a:lnTo>
                  <a:lnTo>
                    <a:pt x="964" y="2346"/>
                  </a:lnTo>
                  <a:lnTo>
                    <a:pt x="968" y="2277"/>
                  </a:lnTo>
                  <a:lnTo>
                    <a:pt x="974" y="2209"/>
                  </a:lnTo>
                  <a:lnTo>
                    <a:pt x="981" y="2140"/>
                  </a:lnTo>
                  <a:lnTo>
                    <a:pt x="990" y="2074"/>
                  </a:lnTo>
                  <a:lnTo>
                    <a:pt x="1002" y="2008"/>
                  </a:lnTo>
                  <a:lnTo>
                    <a:pt x="1015" y="1942"/>
                  </a:lnTo>
                  <a:lnTo>
                    <a:pt x="1030" y="1878"/>
                  </a:lnTo>
                  <a:lnTo>
                    <a:pt x="1047" y="1816"/>
                  </a:lnTo>
                  <a:lnTo>
                    <a:pt x="1055" y="1785"/>
                  </a:lnTo>
                  <a:lnTo>
                    <a:pt x="1064" y="1755"/>
                  </a:lnTo>
                  <a:lnTo>
                    <a:pt x="1073" y="1725"/>
                  </a:lnTo>
                  <a:lnTo>
                    <a:pt x="1083" y="1697"/>
                  </a:lnTo>
                  <a:lnTo>
                    <a:pt x="1093" y="1668"/>
                  </a:lnTo>
                  <a:lnTo>
                    <a:pt x="1104" y="1639"/>
                  </a:lnTo>
                  <a:lnTo>
                    <a:pt x="1115" y="1611"/>
                  </a:lnTo>
                  <a:lnTo>
                    <a:pt x="1126" y="1584"/>
                  </a:lnTo>
                  <a:lnTo>
                    <a:pt x="1138" y="1557"/>
                  </a:lnTo>
                  <a:lnTo>
                    <a:pt x="1151" y="1530"/>
                  </a:lnTo>
                  <a:lnTo>
                    <a:pt x="1163" y="1504"/>
                  </a:lnTo>
                  <a:lnTo>
                    <a:pt x="1176" y="1478"/>
                  </a:lnTo>
                  <a:lnTo>
                    <a:pt x="1198" y="1439"/>
                  </a:lnTo>
                  <a:lnTo>
                    <a:pt x="1220" y="1402"/>
                  </a:lnTo>
                  <a:lnTo>
                    <a:pt x="1244" y="1367"/>
                  </a:lnTo>
                  <a:lnTo>
                    <a:pt x="1267" y="1334"/>
                  </a:lnTo>
                  <a:lnTo>
                    <a:pt x="1292" y="1304"/>
                  </a:lnTo>
                  <a:lnTo>
                    <a:pt x="1317" y="1275"/>
                  </a:lnTo>
                  <a:lnTo>
                    <a:pt x="1344" y="1249"/>
                  </a:lnTo>
                  <a:lnTo>
                    <a:pt x="1370" y="1224"/>
                  </a:lnTo>
                  <a:lnTo>
                    <a:pt x="1385" y="1213"/>
                  </a:lnTo>
                  <a:lnTo>
                    <a:pt x="1399" y="1202"/>
                  </a:lnTo>
                  <a:lnTo>
                    <a:pt x="1413" y="1192"/>
                  </a:lnTo>
                  <a:lnTo>
                    <a:pt x="1427" y="1181"/>
                  </a:lnTo>
                  <a:lnTo>
                    <a:pt x="1442" y="1172"/>
                  </a:lnTo>
                  <a:lnTo>
                    <a:pt x="1457" y="1164"/>
                  </a:lnTo>
                  <a:lnTo>
                    <a:pt x="1471" y="1156"/>
                  </a:lnTo>
                  <a:lnTo>
                    <a:pt x="1487" y="1149"/>
                  </a:lnTo>
                  <a:lnTo>
                    <a:pt x="1502" y="1143"/>
                  </a:lnTo>
                  <a:lnTo>
                    <a:pt x="1517" y="1137"/>
                  </a:lnTo>
                  <a:lnTo>
                    <a:pt x="1533" y="1131"/>
                  </a:lnTo>
                  <a:lnTo>
                    <a:pt x="1549" y="1126"/>
                  </a:lnTo>
                  <a:lnTo>
                    <a:pt x="1564" y="1122"/>
                  </a:lnTo>
                  <a:lnTo>
                    <a:pt x="1580" y="1118"/>
                  </a:lnTo>
                  <a:lnTo>
                    <a:pt x="1596" y="1115"/>
                  </a:lnTo>
                  <a:lnTo>
                    <a:pt x="1612" y="1113"/>
                  </a:lnTo>
                  <a:close/>
                  <a:moveTo>
                    <a:pt x="2627" y="3948"/>
                  </a:moveTo>
                  <a:lnTo>
                    <a:pt x="2626" y="3855"/>
                  </a:lnTo>
                  <a:lnTo>
                    <a:pt x="2625" y="3761"/>
                  </a:lnTo>
                  <a:lnTo>
                    <a:pt x="2624" y="3668"/>
                  </a:lnTo>
                  <a:lnTo>
                    <a:pt x="2623" y="3574"/>
                  </a:lnTo>
                  <a:lnTo>
                    <a:pt x="2622" y="3482"/>
                  </a:lnTo>
                  <a:lnTo>
                    <a:pt x="2621" y="3388"/>
                  </a:lnTo>
                  <a:lnTo>
                    <a:pt x="2620" y="3295"/>
                  </a:lnTo>
                  <a:lnTo>
                    <a:pt x="2619" y="3201"/>
                  </a:lnTo>
                  <a:lnTo>
                    <a:pt x="2670" y="3204"/>
                  </a:lnTo>
                  <a:lnTo>
                    <a:pt x="2721" y="3208"/>
                  </a:lnTo>
                  <a:lnTo>
                    <a:pt x="2772" y="3211"/>
                  </a:lnTo>
                  <a:lnTo>
                    <a:pt x="2823" y="3214"/>
                  </a:lnTo>
                  <a:lnTo>
                    <a:pt x="2876" y="3217"/>
                  </a:lnTo>
                  <a:lnTo>
                    <a:pt x="2928" y="3221"/>
                  </a:lnTo>
                  <a:lnTo>
                    <a:pt x="2981" y="3224"/>
                  </a:lnTo>
                  <a:lnTo>
                    <a:pt x="3034" y="3228"/>
                  </a:lnTo>
                  <a:lnTo>
                    <a:pt x="3035" y="3324"/>
                  </a:lnTo>
                  <a:lnTo>
                    <a:pt x="3037" y="3421"/>
                  </a:lnTo>
                  <a:lnTo>
                    <a:pt x="3038" y="3517"/>
                  </a:lnTo>
                  <a:lnTo>
                    <a:pt x="3039" y="3614"/>
                  </a:lnTo>
                  <a:lnTo>
                    <a:pt x="3040" y="3711"/>
                  </a:lnTo>
                  <a:lnTo>
                    <a:pt x="3042" y="3808"/>
                  </a:lnTo>
                  <a:lnTo>
                    <a:pt x="3043" y="3905"/>
                  </a:lnTo>
                  <a:lnTo>
                    <a:pt x="3044" y="4002"/>
                  </a:lnTo>
                  <a:lnTo>
                    <a:pt x="2990" y="3995"/>
                  </a:lnTo>
                  <a:lnTo>
                    <a:pt x="2938" y="3987"/>
                  </a:lnTo>
                  <a:lnTo>
                    <a:pt x="2886" y="3981"/>
                  </a:lnTo>
                  <a:lnTo>
                    <a:pt x="2834" y="3974"/>
                  </a:lnTo>
                  <a:lnTo>
                    <a:pt x="2782" y="3968"/>
                  </a:lnTo>
                  <a:lnTo>
                    <a:pt x="2731" y="3961"/>
                  </a:lnTo>
                  <a:lnTo>
                    <a:pt x="2678" y="3955"/>
                  </a:lnTo>
                  <a:lnTo>
                    <a:pt x="2627" y="3948"/>
                  </a:lnTo>
                  <a:close/>
                  <a:moveTo>
                    <a:pt x="2616" y="3031"/>
                  </a:moveTo>
                  <a:lnTo>
                    <a:pt x="2615" y="2907"/>
                  </a:lnTo>
                  <a:lnTo>
                    <a:pt x="2614" y="2784"/>
                  </a:lnTo>
                  <a:lnTo>
                    <a:pt x="2612" y="2660"/>
                  </a:lnTo>
                  <a:lnTo>
                    <a:pt x="2611" y="2537"/>
                  </a:lnTo>
                  <a:lnTo>
                    <a:pt x="2609" y="2414"/>
                  </a:lnTo>
                  <a:lnTo>
                    <a:pt x="2608" y="2290"/>
                  </a:lnTo>
                  <a:lnTo>
                    <a:pt x="2607" y="2167"/>
                  </a:lnTo>
                  <a:lnTo>
                    <a:pt x="2605" y="2044"/>
                  </a:lnTo>
                  <a:lnTo>
                    <a:pt x="2604" y="1921"/>
                  </a:lnTo>
                  <a:lnTo>
                    <a:pt x="2602" y="1799"/>
                  </a:lnTo>
                  <a:lnTo>
                    <a:pt x="2601" y="1677"/>
                  </a:lnTo>
                  <a:lnTo>
                    <a:pt x="2599" y="1555"/>
                  </a:lnTo>
                  <a:lnTo>
                    <a:pt x="2598" y="1432"/>
                  </a:lnTo>
                  <a:lnTo>
                    <a:pt x="2597" y="1311"/>
                  </a:lnTo>
                  <a:lnTo>
                    <a:pt x="2595" y="1189"/>
                  </a:lnTo>
                  <a:lnTo>
                    <a:pt x="2594" y="1067"/>
                  </a:lnTo>
                  <a:lnTo>
                    <a:pt x="2644" y="1061"/>
                  </a:lnTo>
                  <a:lnTo>
                    <a:pt x="2694" y="1055"/>
                  </a:lnTo>
                  <a:lnTo>
                    <a:pt x="2745" y="1049"/>
                  </a:lnTo>
                  <a:lnTo>
                    <a:pt x="2795" y="1043"/>
                  </a:lnTo>
                  <a:lnTo>
                    <a:pt x="2846" y="1037"/>
                  </a:lnTo>
                  <a:lnTo>
                    <a:pt x="2898" y="1030"/>
                  </a:lnTo>
                  <a:lnTo>
                    <a:pt x="2950" y="1024"/>
                  </a:lnTo>
                  <a:lnTo>
                    <a:pt x="3003" y="1018"/>
                  </a:lnTo>
                  <a:lnTo>
                    <a:pt x="3004" y="1145"/>
                  </a:lnTo>
                  <a:lnTo>
                    <a:pt x="3006" y="1270"/>
                  </a:lnTo>
                  <a:lnTo>
                    <a:pt x="3007" y="1397"/>
                  </a:lnTo>
                  <a:lnTo>
                    <a:pt x="3009" y="1523"/>
                  </a:lnTo>
                  <a:lnTo>
                    <a:pt x="3010" y="1650"/>
                  </a:lnTo>
                  <a:lnTo>
                    <a:pt x="3012" y="1776"/>
                  </a:lnTo>
                  <a:lnTo>
                    <a:pt x="3014" y="1903"/>
                  </a:lnTo>
                  <a:lnTo>
                    <a:pt x="3016" y="2030"/>
                  </a:lnTo>
                  <a:lnTo>
                    <a:pt x="3017" y="2158"/>
                  </a:lnTo>
                  <a:lnTo>
                    <a:pt x="3020" y="2284"/>
                  </a:lnTo>
                  <a:lnTo>
                    <a:pt x="3022" y="2413"/>
                  </a:lnTo>
                  <a:lnTo>
                    <a:pt x="3024" y="2540"/>
                  </a:lnTo>
                  <a:lnTo>
                    <a:pt x="3026" y="2668"/>
                  </a:lnTo>
                  <a:lnTo>
                    <a:pt x="3027" y="2796"/>
                  </a:lnTo>
                  <a:lnTo>
                    <a:pt x="3029" y="2924"/>
                  </a:lnTo>
                  <a:lnTo>
                    <a:pt x="3031" y="3052"/>
                  </a:lnTo>
                  <a:lnTo>
                    <a:pt x="2978" y="3049"/>
                  </a:lnTo>
                  <a:lnTo>
                    <a:pt x="2925" y="3046"/>
                  </a:lnTo>
                  <a:lnTo>
                    <a:pt x="2872" y="3044"/>
                  </a:lnTo>
                  <a:lnTo>
                    <a:pt x="2820" y="3041"/>
                  </a:lnTo>
                  <a:lnTo>
                    <a:pt x="2769" y="3039"/>
                  </a:lnTo>
                  <a:lnTo>
                    <a:pt x="2718" y="3036"/>
                  </a:lnTo>
                  <a:lnTo>
                    <a:pt x="2667" y="3034"/>
                  </a:lnTo>
                  <a:lnTo>
                    <a:pt x="2616" y="3031"/>
                  </a:lnTo>
                  <a:close/>
                  <a:moveTo>
                    <a:pt x="4198" y="4150"/>
                  </a:moveTo>
                  <a:lnTo>
                    <a:pt x="4194" y="3943"/>
                  </a:lnTo>
                  <a:lnTo>
                    <a:pt x="4190" y="3737"/>
                  </a:lnTo>
                  <a:lnTo>
                    <a:pt x="4187" y="3530"/>
                  </a:lnTo>
                  <a:lnTo>
                    <a:pt x="4183" y="3324"/>
                  </a:lnTo>
                  <a:lnTo>
                    <a:pt x="4179" y="3118"/>
                  </a:lnTo>
                  <a:lnTo>
                    <a:pt x="4175" y="2913"/>
                  </a:lnTo>
                  <a:lnTo>
                    <a:pt x="4171" y="2708"/>
                  </a:lnTo>
                  <a:lnTo>
                    <a:pt x="4167" y="2503"/>
                  </a:lnTo>
                  <a:lnTo>
                    <a:pt x="4163" y="2299"/>
                  </a:lnTo>
                  <a:lnTo>
                    <a:pt x="4159" y="2096"/>
                  </a:lnTo>
                  <a:lnTo>
                    <a:pt x="4156" y="1894"/>
                  </a:lnTo>
                  <a:lnTo>
                    <a:pt x="4152" y="1691"/>
                  </a:lnTo>
                  <a:lnTo>
                    <a:pt x="4148" y="1489"/>
                  </a:lnTo>
                  <a:lnTo>
                    <a:pt x="4145" y="1288"/>
                  </a:lnTo>
                  <a:lnTo>
                    <a:pt x="4141" y="1086"/>
                  </a:lnTo>
                  <a:lnTo>
                    <a:pt x="4137" y="885"/>
                  </a:lnTo>
                  <a:lnTo>
                    <a:pt x="4167" y="881"/>
                  </a:lnTo>
                  <a:lnTo>
                    <a:pt x="4198" y="877"/>
                  </a:lnTo>
                  <a:lnTo>
                    <a:pt x="4229" y="873"/>
                  </a:lnTo>
                  <a:lnTo>
                    <a:pt x="4259" y="870"/>
                  </a:lnTo>
                  <a:lnTo>
                    <a:pt x="4290" y="866"/>
                  </a:lnTo>
                  <a:lnTo>
                    <a:pt x="4321" y="863"/>
                  </a:lnTo>
                  <a:lnTo>
                    <a:pt x="4351" y="859"/>
                  </a:lnTo>
                  <a:lnTo>
                    <a:pt x="4382" y="856"/>
                  </a:lnTo>
                  <a:lnTo>
                    <a:pt x="4435" y="941"/>
                  </a:lnTo>
                  <a:lnTo>
                    <a:pt x="4489" y="1025"/>
                  </a:lnTo>
                  <a:lnTo>
                    <a:pt x="4543" y="1111"/>
                  </a:lnTo>
                  <a:lnTo>
                    <a:pt x="4597" y="1198"/>
                  </a:lnTo>
                  <a:lnTo>
                    <a:pt x="4652" y="1284"/>
                  </a:lnTo>
                  <a:lnTo>
                    <a:pt x="4708" y="1371"/>
                  </a:lnTo>
                  <a:lnTo>
                    <a:pt x="4763" y="1459"/>
                  </a:lnTo>
                  <a:lnTo>
                    <a:pt x="4819" y="1547"/>
                  </a:lnTo>
                  <a:lnTo>
                    <a:pt x="4876" y="1637"/>
                  </a:lnTo>
                  <a:lnTo>
                    <a:pt x="4933" y="1729"/>
                  </a:lnTo>
                  <a:lnTo>
                    <a:pt x="4992" y="1821"/>
                  </a:lnTo>
                  <a:lnTo>
                    <a:pt x="5051" y="1913"/>
                  </a:lnTo>
                  <a:lnTo>
                    <a:pt x="5110" y="2007"/>
                  </a:lnTo>
                  <a:lnTo>
                    <a:pt x="5169" y="2099"/>
                  </a:lnTo>
                  <a:lnTo>
                    <a:pt x="5228" y="2193"/>
                  </a:lnTo>
                  <a:lnTo>
                    <a:pt x="5288" y="2288"/>
                  </a:lnTo>
                  <a:lnTo>
                    <a:pt x="5286" y="2191"/>
                  </a:lnTo>
                  <a:lnTo>
                    <a:pt x="5284" y="2095"/>
                  </a:lnTo>
                  <a:lnTo>
                    <a:pt x="5281" y="1998"/>
                  </a:lnTo>
                  <a:lnTo>
                    <a:pt x="5278" y="1903"/>
                  </a:lnTo>
                  <a:lnTo>
                    <a:pt x="5276" y="1807"/>
                  </a:lnTo>
                  <a:lnTo>
                    <a:pt x="5274" y="1710"/>
                  </a:lnTo>
                  <a:lnTo>
                    <a:pt x="5271" y="1614"/>
                  </a:lnTo>
                  <a:lnTo>
                    <a:pt x="5269" y="1518"/>
                  </a:lnTo>
                  <a:lnTo>
                    <a:pt x="5267" y="1422"/>
                  </a:lnTo>
                  <a:lnTo>
                    <a:pt x="5265" y="1326"/>
                  </a:lnTo>
                  <a:lnTo>
                    <a:pt x="5262" y="1230"/>
                  </a:lnTo>
                  <a:lnTo>
                    <a:pt x="5260" y="1135"/>
                  </a:lnTo>
                  <a:lnTo>
                    <a:pt x="5258" y="1040"/>
                  </a:lnTo>
                  <a:lnTo>
                    <a:pt x="5256" y="944"/>
                  </a:lnTo>
                  <a:lnTo>
                    <a:pt x="5254" y="848"/>
                  </a:lnTo>
                  <a:lnTo>
                    <a:pt x="5252" y="753"/>
                  </a:lnTo>
                  <a:lnTo>
                    <a:pt x="5334" y="743"/>
                  </a:lnTo>
                  <a:lnTo>
                    <a:pt x="5416" y="734"/>
                  </a:lnTo>
                  <a:lnTo>
                    <a:pt x="5499" y="723"/>
                  </a:lnTo>
                  <a:lnTo>
                    <a:pt x="5583" y="713"/>
                  </a:lnTo>
                  <a:lnTo>
                    <a:pt x="5668" y="704"/>
                  </a:lnTo>
                  <a:lnTo>
                    <a:pt x="5752" y="694"/>
                  </a:lnTo>
                  <a:lnTo>
                    <a:pt x="5838" y="684"/>
                  </a:lnTo>
                  <a:lnTo>
                    <a:pt x="5925" y="673"/>
                  </a:lnTo>
                  <a:lnTo>
                    <a:pt x="5931" y="902"/>
                  </a:lnTo>
                  <a:lnTo>
                    <a:pt x="5937" y="1130"/>
                  </a:lnTo>
                  <a:lnTo>
                    <a:pt x="5943" y="1360"/>
                  </a:lnTo>
                  <a:lnTo>
                    <a:pt x="5949" y="1589"/>
                  </a:lnTo>
                  <a:lnTo>
                    <a:pt x="5956" y="1820"/>
                  </a:lnTo>
                  <a:lnTo>
                    <a:pt x="5962" y="2049"/>
                  </a:lnTo>
                  <a:lnTo>
                    <a:pt x="5968" y="2281"/>
                  </a:lnTo>
                  <a:lnTo>
                    <a:pt x="5975" y="2512"/>
                  </a:lnTo>
                  <a:lnTo>
                    <a:pt x="5981" y="2744"/>
                  </a:lnTo>
                  <a:lnTo>
                    <a:pt x="5987" y="2978"/>
                  </a:lnTo>
                  <a:lnTo>
                    <a:pt x="5993" y="3211"/>
                  </a:lnTo>
                  <a:lnTo>
                    <a:pt x="6000" y="3445"/>
                  </a:lnTo>
                  <a:lnTo>
                    <a:pt x="6007" y="3679"/>
                  </a:lnTo>
                  <a:lnTo>
                    <a:pt x="6013" y="3914"/>
                  </a:lnTo>
                  <a:lnTo>
                    <a:pt x="6019" y="4149"/>
                  </a:lnTo>
                  <a:lnTo>
                    <a:pt x="6025" y="4384"/>
                  </a:lnTo>
                  <a:lnTo>
                    <a:pt x="5984" y="4379"/>
                  </a:lnTo>
                  <a:lnTo>
                    <a:pt x="5943" y="4374"/>
                  </a:lnTo>
                  <a:lnTo>
                    <a:pt x="5903" y="4369"/>
                  </a:lnTo>
                  <a:lnTo>
                    <a:pt x="5863" y="4363"/>
                  </a:lnTo>
                  <a:lnTo>
                    <a:pt x="5823" y="4358"/>
                  </a:lnTo>
                  <a:lnTo>
                    <a:pt x="5782" y="4353"/>
                  </a:lnTo>
                  <a:lnTo>
                    <a:pt x="5742" y="4348"/>
                  </a:lnTo>
                  <a:lnTo>
                    <a:pt x="5702" y="4342"/>
                  </a:lnTo>
                  <a:lnTo>
                    <a:pt x="5640" y="4236"/>
                  </a:lnTo>
                  <a:lnTo>
                    <a:pt x="5578" y="4130"/>
                  </a:lnTo>
                  <a:lnTo>
                    <a:pt x="5515" y="4025"/>
                  </a:lnTo>
                  <a:lnTo>
                    <a:pt x="5453" y="3921"/>
                  </a:lnTo>
                  <a:lnTo>
                    <a:pt x="5392" y="3817"/>
                  </a:lnTo>
                  <a:lnTo>
                    <a:pt x="5331" y="3714"/>
                  </a:lnTo>
                  <a:lnTo>
                    <a:pt x="5269" y="3611"/>
                  </a:lnTo>
                  <a:lnTo>
                    <a:pt x="5210" y="3509"/>
                  </a:lnTo>
                  <a:lnTo>
                    <a:pt x="5152" y="3410"/>
                  </a:lnTo>
                  <a:lnTo>
                    <a:pt x="5094" y="3311"/>
                  </a:lnTo>
                  <a:lnTo>
                    <a:pt x="5035" y="3213"/>
                  </a:lnTo>
                  <a:lnTo>
                    <a:pt x="4978" y="3116"/>
                  </a:lnTo>
                  <a:lnTo>
                    <a:pt x="4920" y="3019"/>
                  </a:lnTo>
                  <a:lnTo>
                    <a:pt x="4864" y="2923"/>
                  </a:lnTo>
                  <a:lnTo>
                    <a:pt x="4807" y="2827"/>
                  </a:lnTo>
                  <a:lnTo>
                    <a:pt x="4752" y="2732"/>
                  </a:lnTo>
                  <a:lnTo>
                    <a:pt x="4754" y="2825"/>
                  </a:lnTo>
                  <a:lnTo>
                    <a:pt x="4756" y="2917"/>
                  </a:lnTo>
                  <a:lnTo>
                    <a:pt x="4758" y="3010"/>
                  </a:lnTo>
                  <a:lnTo>
                    <a:pt x="4760" y="3103"/>
                  </a:lnTo>
                  <a:lnTo>
                    <a:pt x="4762" y="3197"/>
                  </a:lnTo>
                  <a:lnTo>
                    <a:pt x="4764" y="3290"/>
                  </a:lnTo>
                  <a:lnTo>
                    <a:pt x="4766" y="3383"/>
                  </a:lnTo>
                  <a:lnTo>
                    <a:pt x="4769" y="3475"/>
                  </a:lnTo>
                  <a:lnTo>
                    <a:pt x="4771" y="3569"/>
                  </a:lnTo>
                  <a:lnTo>
                    <a:pt x="4772" y="3663"/>
                  </a:lnTo>
                  <a:lnTo>
                    <a:pt x="4774" y="3756"/>
                  </a:lnTo>
                  <a:lnTo>
                    <a:pt x="4776" y="3850"/>
                  </a:lnTo>
                  <a:lnTo>
                    <a:pt x="4778" y="3944"/>
                  </a:lnTo>
                  <a:lnTo>
                    <a:pt x="4780" y="4037"/>
                  </a:lnTo>
                  <a:lnTo>
                    <a:pt x="4782" y="4131"/>
                  </a:lnTo>
                  <a:lnTo>
                    <a:pt x="4784" y="4225"/>
                  </a:lnTo>
                  <a:lnTo>
                    <a:pt x="4709" y="4215"/>
                  </a:lnTo>
                  <a:lnTo>
                    <a:pt x="4634" y="4206"/>
                  </a:lnTo>
                  <a:lnTo>
                    <a:pt x="4560" y="4197"/>
                  </a:lnTo>
                  <a:lnTo>
                    <a:pt x="4487" y="4186"/>
                  </a:lnTo>
                  <a:lnTo>
                    <a:pt x="4414" y="4177"/>
                  </a:lnTo>
                  <a:lnTo>
                    <a:pt x="4341" y="4168"/>
                  </a:lnTo>
                  <a:lnTo>
                    <a:pt x="4270" y="4159"/>
                  </a:lnTo>
                  <a:lnTo>
                    <a:pt x="4198" y="4150"/>
                  </a:lnTo>
                  <a:close/>
                  <a:moveTo>
                    <a:pt x="7903" y="1482"/>
                  </a:moveTo>
                  <a:lnTo>
                    <a:pt x="7881" y="1484"/>
                  </a:lnTo>
                  <a:lnTo>
                    <a:pt x="7859" y="1486"/>
                  </a:lnTo>
                  <a:lnTo>
                    <a:pt x="7838" y="1489"/>
                  </a:lnTo>
                  <a:lnTo>
                    <a:pt x="7817" y="1493"/>
                  </a:lnTo>
                  <a:lnTo>
                    <a:pt x="7796" y="1496"/>
                  </a:lnTo>
                  <a:lnTo>
                    <a:pt x="7775" y="1500"/>
                  </a:lnTo>
                  <a:lnTo>
                    <a:pt x="7755" y="1505"/>
                  </a:lnTo>
                  <a:lnTo>
                    <a:pt x="7736" y="1510"/>
                  </a:lnTo>
                  <a:lnTo>
                    <a:pt x="7716" y="1516"/>
                  </a:lnTo>
                  <a:lnTo>
                    <a:pt x="7697" y="1523"/>
                  </a:lnTo>
                  <a:lnTo>
                    <a:pt x="7677" y="1530"/>
                  </a:lnTo>
                  <a:lnTo>
                    <a:pt x="7659" y="1537"/>
                  </a:lnTo>
                  <a:lnTo>
                    <a:pt x="7641" y="1546"/>
                  </a:lnTo>
                  <a:lnTo>
                    <a:pt x="7622" y="1554"/>
                  </a:lnTo>
                  <a:lnTo>
                    <a:pt x="7605" y="1563"/>
                  </a:lnTo>
                  <a:lnTo>
                    <a:pt x="7586" y="1573"/>
                  </a:lnTo>
                  <a:lnTo>
                    <a:pt x="7569" y="1583"/>
                  </a:lnTo>
                  <a:lnTo>
                    <a:pt x="7553" y="1595"/>
                  </a:lnTo>
                  <a:lnTo>
                    <a:pt x="7535" y="1606"/>
                  </a:lnTo>
                  <a:lnTo>
                    <a:pt x="7519" y="1617"/>
                  </a:lnTo>
                  <a:lnTo>
                    <a:pt x="7503" y="1630"/>
                  </a:lnTo>
                  <a:lnTo>
                    <a:pt x="7486" y="1642"/>
                  </a:lnTo>
                  <a:lnTo>
                    <a:pt x="7471" y="1657"/>
                  </a:lnTo>
                  <a:lnTo>
                    <a:pt x="7456" y="1670"/>
                  </a:lnTo>
                  <a:lnTo>
                    <a:pt x="7439" y="1685"/>
                  </a:lnTo>
                  <a:lnTo>
                    <a:pt x="7425" y="1700"/>
                  </a:lnTo>
                  <a:lnTo>
                    <a:pt x="7410" y="1716"/>
                  </a:lnTo>
                  <a:lnTo>
                    <a:pt x="7395" y="1732"/>
                  </a:lnTo>
                  <a:lnTo>
                    <a:pt x="7381" y="1749"/>
                  </a:lnTo>
                  <a:lnTo>
                    <a:pt x="7367" y="1766"/>
                  </a:lnTo>
                  <a:lnTo>
                    <a:pt x="7354" y="1783"/>
                  </a:lnTo>
                  <a:lnTo>
                    <a:pt x="7339" y="1802"/>
                  </a:lnTo>
                  <a:lnTo>
                    <a:pt x="7314" y="1839"/>
                  </a:lnTo>
                  <a:lnTo>
                    <a:pt x="7289" y="1877"/>
                  </a:lnTo>
                  <a:lnTo>
                    <a:pt x="7267" y="1917"/>
                  </a:lnTo>
                  <a:lnTo>
                    <a:pt x="7246" y="1957"/>
                  </a:lnTo>
                  <a:lnTo>
                    <a:pt x="7236" y="1977"/>
                  </a:lnTo>
                  <a:lnTo>
                    <a:pt x="7227" y="1997"/>
                  </a:lnTo>
                  <a:lnTo>
                    <a:pt x="7219" y="2019"/>
                  </a:lnTo>
                  <a:lnTo>
                    <a:pt x="7211" y="2040"/>
                  </a:lnTo>
                  <a:lnTo>
                    <a:pt x="7194" y="2083"/>
                  </a:lnTo>
                  <a:lnTo>
                    <a:pt x="7181" y="2127"/>
                  </a:lnTo>
                  <a:lnTo>
                    <a:pt x="7170" y="2172"/>
                  </a:lnTo>
                  <a:lnTo>
                    <a:pt x="7160" y="2218"/>
                  </a:lnTo>
                  <a:lnTo>
                    <a:pt x="7151" y="2265"/>
                  </a:lnTo>
                  <a:lnTo>
                    <a:pt x="7144" y="2313"/>
                  </a:lnTo>
                  <a:lnTo>
                    <a:pt x="7140" y="2361"/>
                  </a:lnTo>
                  <a:lnTo>
                    <a:pt x="7137" y="2411"/>
                  </a:lnTo>
                  <a:lnTo>
                    <a:pt x="7136" y="2462"/>
                  </a:lnTo>
                  <a:lnTo>
                    <a:pt x="7137" y="2514"/>
                  </a:lnTo>
                  <a:lnTo>
                    <a:pt x="7139" y="2566"/>
                  </a:lnTo>
                  <a:lnTo>
                    <a:pt x="7144" y="2617"/>
                  </a:lnTo>
                  <a:lnTo>
                    <a:pt x="7150" y="2667"/>
                  </a:lnTo>
                  <a:lnTo>
                    <a:pt x="7158" y="2717"/>
                  </a:lnTo>
                  <a:lnTo>
                    <a:pt x="7168" y="2764"/>
                  </a:lnTo>
                  <a:lnTo>
                    <a:pt x="7179" y="2811"/>
                  </a:lnTo>
                  <a:lnTo>
                    <a:pt x="7191" y="2858"/>
                  </a:lnTo>
                  <a:lnTo>
                    <a:pt x="7207" y="2903"/>
                  </a:lnTo>
                  <a:lnTo>
                    <a:pt x="7223" y="2947"/>
                  </a:lnTo>
                  <a:lnTo>
                    <a:pt x="7241" y="2991"/>
                  </a:lnTo>
                  <a:lnTo>
                    <a:pt x="7261" y="3034"/>
                  </a:lnTo>
                  <a:lnTo>
                    <a:pt x="7282" y="3075"/>
                  </a:lnTo>
                  <a:lnTo>
                    <a:pt x="7306" y="3115"/>
                  </a:lnTo>
                  <a:lnTo>
                    <a:pt x="7330" y="3155"/>
                  </a:lnTo>
                  <a:lnTo>
                    <a:pt x="7357" y="3194"/>
                  </a:lnTo>
                  <a:lnTo>
                    <a:pt x="7385" y="3232"/>
                  </a:lnTo>
                  <a:lnTo>
                    <a:pt x="7400" y="3250"/>
                  </a:lnTo>
                  <a:lnTo>
                    <a:pt x="7415" y="3268"/>
                  </a:lnTo>
                  <a:lnTo>
                    <a:pt x="7430" y="3286"/>
                  </a:lnTo>
                  <a:lnTo>
                    <a:pt x="7446" y="3303"/>
                  </a:lnTo>
                  <a:lnTo>
                    <a:pt x="7461" y="3319"/>
                  </a:lnTo>
                  <a:lnTo>
                    <a:pt x="7477" y="3336"/>
                  </a:lnTo>
                  <a:lnTo>
                    <a:pt x="7494" y="3351"/>
                  </a:lnTo>
                  <a:lnTo>
                    <a:pt x="7510" y="3365"/>
                  </a:lnTo>
                  <a:lnTo>
                    <a:pt x="7526" y="3380"/>
                  </a:lnTo>
                  <a:lnTo>
                    <a:pt x="7544" y="3394"/>
                  </a:lnTo>
                  <a:lnTo>
                    <a:pt x="7561" y="3407"/>
                  </a:lnTo>
                  <a:lnTo>
                    <a:pt x="7578" y="3420"/>
                  </a:lnTo>
                  <a:lnTo>
                    <a:pt x="7596" y="3433"/>
                  </a:lnTo>
                  <a:lnTo>
                    <a:pt x="7614" y="3444"/>
                  </a:lnTo>
                  <a:lnTo>
                    <a:pt x="7631" y="3455"/>
                  </a:lnTo>
                  <a:lnTo>
                    <a:pt x="7650" y="3465"/>
                  </a:lnTo>
                  <a:lnTo>
                    <a:pt x="7669" y="3475"/>
                  </a:lnTo>
                  <a:lnTo>
                    <a:pt x="7688" y="3485"/>
                  </a:lnTo>
                  <a:lnTo>
                    <a:pt x="7707" y="3494"/>
                  </a:lnTo>
                  <a:lnTo>
                    <a:pt x="7726" y="3502"/>
                  </a:lnTo>
                  <a:lnTo>
                    <a:pt x="7746" y="3510"/>
                  </a:lnTo>
                  <a:lnTo>
                    <a:pt x="7765" y="3517"/>
                  </a:lnTo>
                  <a:lnTo>
                    <a:pt x="7786" y="3524"/>
                  </a:lnTo>
                  <a:lnTo>
                    <a:pt x="7806" y="3530"/>
                  </a:lnTo>
                  <a:lnTo>
                    <a:pt x="7826" y="3537"/>
                  </a:lnTo>
                  <a:lnTo>
                    <a:pt x="7847" y="3542"/>
                  </a:lnTo>
                  <a:lnTo>
                    <a:pt x="7868" y="3546"/>
                  </a:lnTo>
                  <a:lnTo>
                    <a:pt x="7890" y="3550"/>
                  </a:lnTo>
                  <a:lnTo>
                    <a:pt x="7911" y="3553"/>
                  </a:lnTo>
                  <a:lnTo>
                    <a:pt x="7934" y="3556"/>
                  </a:lnTo>
                  <a:lnTo>
                    <a:pt x="7955" y="3558"/>
                  </a:lnTo>
                  <a:lnTo>
                    <a:pt x="7978" y="3560"/>
                  </a:lnTo>
                  <a:lnTo>
                    <a:pt x="8000" y="3561"/>
                  </a:lnTo>
                  <a:lnTo>
                    <a:pt x="8022" y="3562"/>
                  </a:lnTo>
                  <a:lnTo>
                    <a:pt x="8044" y="3562"/>
                  </a:lnTo>
                  <a:lnTo>
                    <a:pt x="8065" y="3561"/>
                  </a:lnTo>
                  <a:lnTo>
                    <a:pt x="8087" y="3560"/>
                  </a:lnTo>
                  <a:lnTo>
                    <a:pt x="8108" y="3558"/>
                  </a:lnTo>
                  <a:lnTo>
                    <a:pt x="8130" y="3556"/>
                  </a:lnTo>
                  <a:lnTo>
                    <a:pt x="8150" y="3552"/>
                  </a:lnTo>
                  <a:lnTo>
                    <a:pt x="8171" y="3549"/>
                  </a:lnTo>
                  <a:lnTo>
                    <a:pt x="8192" y="3545"/>
                  </a:lnTo>
                  <a:lnTo>
                    <a:pt x="8212" y="3540"/>
                  </a:lnTo>
                  <a:lnTo>
                    <a:pt x="8232" y="3534"/>
                  </a:lnTo>
                  <a:lnTo>
                    <a:pt x="8252" y="3527"/>
                  </a:lnTo>
                  <a:lnTo>
                    <a:pt x="8272" y="3520"/>
                  </a:lnTo>
                  <a:lnTo>
                    <a:pt x="8291" y="3513"/>
                  </a:lnTo>
                  <a:lnTo>
                    <a:pt x="8311" y="3505"/>
                  </a:lnTo>
                  <a:lnTo>
                    <a:pt x="8330" y="3496"/>
                  </a:lnTo>
                  <a:lnTo>
                    <a:pt x="8348" y="3487"/>
                  </a:lnTo>
                  <a:lnTo>
                    <a:pt x="8367" y="3476"/>
                  </a:lnTo>
                  <a:lnTo>
                    <a:pt x="8385" y="3466"/>
                  </a:lnTo>
                  <a:lnTo>
                    <a:pt x="8403" y="3455"/>
                  </a:lnTo>
                  <a:lnTo>
                    <a:pt x="8422" y="3443"/>
                  </a:lnTo>
                  <a:lnTo>
                    <a:pt x="8439" y="3431"/>
                  </a:lnTo>
                  <a:lnTo>
                    <a:pt x="8457" y="3417"/>
                  </a:lnTo>
                  <a:lnTo>
                    <a:pt x="8474" y="3403"/>
                  </a:lnTo>
                  <a:lnTo>
                    <a:pt x="8491" y="3389"/>
                  </a:lnTo>
                  <a:lnTo>
                    <a:pt x="8508" y="3373"/>
                  </a:lnTo>
                  <a:lnTo>
                    <a:pt x="8524" y="3358"/>
                  </a:lnTo>
                  <a:lnTo>
                    <a:pt x="8540" y="3342"/>
                  </a:lnTo>
                  <a:lnTo>
                    <a:pt x="8557" y="3324"/>
                  </a:lnTo>
                  <a:lnTo>
                    <a:pt x="8572" y="3307"/>
                  </a:lnTo>
                  <a:lnTo>
                    <a:pt x="8588" y="3289"/>
                  </a:lnTo>
                  <a:lnTo>
                    <a:pt x="8604" y="3269"/>
                  </a:lnTo>
                  <a:lnTo>
                    <a:pt x="8618" y="3250"/>
                  </a:lnTo>
                  <a:lnTo>
                    <a:pt x="8632" y="3231"/>
                  </a:lnTo>
                  <a:lnTo>
                    <a:pt x="8645" y="3210"/>
                  </a:lnTo>
                  <a:lnTo>
                    <a:pt x="8659" y="3190"/>
                  </a:lnTo>
                  <a:lnTo>
                    <a:pt x="8672" y="3169"/>
                  </a:lnTo>
                  <a:lnTo>
                    <a:pt x="8683" y="3149"/>
                  </a:lnTo>
                  <a:lnTo>
                    <a:pt x="8696" y="3128"/>
                  </a:lnTo>
                  <a:lnTo>
                    <a:pt x="8707" y="3105"/>
                  </a:lnTo>
                  <a:lnTo>
                    <a:pt x="8717" y="3084"/>
                  </a:lnTo>
                  <a:lnTo>
                    <a:pt x="8727" y="3061"/>
                  </a:lnTo>
                  <a:lnTo>
                    <a:pt x="8736" y="3039"/>
                  </a:lnTo>
                  <a:lnTo>
                    <a:pt x="8746" y="3015"/>
                  </a:lnTo>
                  <a:lnTo>
                    <a:pt x="8754" y="2993"/>
                  </a:lnTo>
                  <a:lnTo>
                    <a:pt x="8762" y="2969"/>
                  </a:lnTo>
                  <a:lnTo>
                    <a:pt x="8769" y="2945"/>
                  </a:lnTo>
                  <a:lnTo>
                    <a:pt x="8776" y="2921"/>
                  </a:lnTo>
                  <a:lnTo>
                    <a:pt x="8782" y="2896"/>
                  </a:lnTo>
                  <a:lnTo>
                    <a:pt x="8787" y="2872"/>
                  </a:lnTo>
                  <a:lnTo>
                    <a:pt x="8794" y="2846"/>
                  </a:lnTo>
                  <a:lnTo>
                    <a:pt x="8798" y="2822"/>
                  </a:lnTo>
                  <a:lnTo>
                    <a:pt x="8803" y="2795"/>
                  </a:lnTo>
                  <a:lnTo>
                    <a:pt x="8806" y="2770"/>
                  </a:lnTo>
                  <a:lnTo>
                    <a:pt x="8809" y="2743"/>
                  </a:lnTo>
                  <a:lnTo>
                    <a:pt x="8812" y="2717"/>
                  </a:lnTo>
                  <a:lnTo>
                    <a:pt x="8814" y="2689"/>
                  </a:lnTo>
                  <a:lnTo>
                    <a:pt x="8816" y="2662"/>
                  </a:lnTo>
                  <a:lnTo>
                    <a:pt x="8817" y="2635"/>
                  </a:lnTo>
                  <a:lnTo>
                    <a:pt x="8818" y="2579"/>
                  </a:lnTo>
                  <a:lnTo>
                    <a:pt x="8816" y="2522"/>
                  </a:lnTo>
                  <a:lnTo>
                    <a:pt x="8813" y="2465"/>
                  </a:lnTo>
                  <a:lnTo>
                    <a:pt x="8808" y="2408"/>
                  </a:lnTo>
                  <a:lnTo>
                    <a:pt x="8801" y="2354"/>
                  </a:lnTo>
                  <a:lnTo>
                    <a:pt x="8792" y="2301"/>
                  </a:lnTo>
                  <a:lnTo>
                    <a:pt x="8786" y="2275"/>
                  </a:lnTo>
                  <a:lnTo>
                    <a:pt x="8780" y="2249"/>
                  </a:lnTo>
                  <a:lnTo>
                    <a:pt x="8774" y="2224"/>
                  </a:lnTo>
                  <a:lnTo>
                    <a:pt x="8767" y="2198"/>
                  </a:lnTo>
                  <a:lnTo>
                    <a:pt x="8760" y="2174"/>
                  </a:lnTo>
                  <a:lnTo>
                    <a:pt x="8753" y="2148"/>
                  </a:lnTo>
                  <a:lnTo>
                    <a:pt x="8745" y="2125"/>
                  </a:lnTo>
                  <a:lnTo>
                    <a:pt x="8735" y="2100"/>
                  </a:lnTo>
                  <a:lnTo>
                    <a:pt x="8726" y="2077"/>
                  </a:lnTo>
                  <a:lnTo>
                    <a:pt x="8716" y="2054"/>
                  </a:lnTo>
                  <a:lnTo>
                    <a:pt x="8706" y="2030"/>
                  </a:lnTo>
                  <a:lnTo>
                    <a:pt x="8696" y="2008"/>
                  </a:lnTo>
                  <a:lnTo>
                    <a:pt x="8684" y="1985"/>
                  </a:lnTo>
                  <a:lnTo>
                    <a:pt x="8673" y="1963"/>
                  </a:lnTo>
                  <a:lnTo>
                    <a:pt x="8661" y="1940"/>
                  </a:lnTo>
                  <a:lnTo>
                    <a:pt x="8648" y="1919"/>
                  </a:lnTo>
                  <a:lnTo>
                    <a:pt x="8634" y="1897"/>
                  </a:lnTo>
                  <a:lnTo>
                    <a:pt x="8621" y="1877"/>
                  </a:lnTo>
                  <a:lnTo>
                    <a:pt x="8607" y="1856"/>
                  </a:lnTo>
                  <a:lnTo>
                    <a:pt x="8592" y="1835"/>
                  </a:lnTo>
                  <a:lnTo>
                    <a:pt x="8577" y="1816"/>
                  </a:lnTo>
                  <a:lnTo>
                    <a:pt x="8561" y="1796"/>
                  </a:lnTo>
                  <a:lnTo>
                    <a:pt x="8545" y="1777"/>
                  </a:lnTo>
                  <a:lnTo>
                    <a:pt x="8528" y="1758"/>
                  </a:lnTo>
                  <a:lnTo>
                    <a:pt x="8512" y="1739"/>
                  </a:lnTo>
                  <a:lnTo>
                    <a:pt x="8494" y="1722"/>
                  </a:lnTo>
                  <a:lnTo>
                    <a:pt x="8478" y="1705"/>
                  </a:lnTo>
                  <a:lnTo>
                    <a:pt x="8461" y="1688"/>
                  </a:lnTo>
                  <a:lnTo>
                    <a:pt x="8442" y="1673"/>
                  </a:lnTo>
                  <a:lnTo>
                    <a:pt x="8425" y="1658"/>
                  </a:lnTo>
                  <a:lnTo>
                    <a:pt x="8408" y="1643"/>
                  </a:lnTo>
                  <a:lnTo>
                    <a:pt x="8389" y="1629"/>
                  </a:lnTo>
                  <a:lnTo>
                    <a:pt x="8371" y="1616"/>
                  </a:lnTo>
                  <a:lnTo>
                    <a:pt x="8352" y="1604"/>
                  </a:lnTo>
                  <a:lnTo>
                    <a:pt x="8334" y="1591"/>
                  </a:lnTo>
                  <a:lnTo>
                    <a:pt x="8315" y="1580"/>
                  </a:lnTo>
                  <a:lnTo>
                    <a:pt x="8295" y="1570"/>
                  </a:lnTo>
                  <a:lnTo>
                    <a:pt x="8277" y="1560"/>
                  </a:lnTo>
                  <a:lnTo>
                    <a:pt x="8257" y="1550"/>
                  </a:lnTo>
                  <a:lnTo>
                    <a:pt x="8238" y="1541"/>
                  </a:lnTo>
                  <a:lnTo>
                    <a:pt x="8218" y="1532"/>
                  </a:lnTo>
                  <a:lnTo>
                    <a:pt x="8198" y="1525"/>
                  </a:lnTo>
                  <a:lnTo>
                    <a:pt x="8178" y="1518"/>
                  </a:lnTo>
                  <a:lnTo>
                    <a:pt x="8157" y="1512"/>
                  </a:lnTo>
                  <a:lnTo>
                    <a:pt x="8137" y="1506"/>
                  </a:lnTo>
                  <a:lnTo>
                    <a:pt x="8116" y="1501"/>
                  </a:lnTo>
                  <a:lnTo>
                    <a:pt x="8096" y="1497"/>
                  </a:lnTo>
                  <a:lnTo>
                    <a:pt x="8075" y="1493"/>
                  </a:lnTo>
                  <a:lnTo>
                    <a:pt x="8054" y="1489"/>
                  </a:lnTo>
                  <a:lnTo>
                    <a:pt x="8033" y="1486"/>
                  </a:lnTo>
                  <a:lnTo>
                    <a:pt x="8011" y="1484"/>
                  </a:lnTo>
                  <a:lnTo>
                    <a:pt x="7990" y="1482"/>
                  </a:lnTo>
                  <a:lnTo>
                    <a:pt x="7968" y="1482"/>
                  </a:lnTo>
                  <a:lnTo>
                    <a:pt x="7947" y="1481"/>
                  </a:lnTo>
                  <a:lnTo>
                    <a:pt x="7924" y="1482"/>
                  </a:lnTo>
                  <a:lnTo>
                    <a:pt x="7903" y="1482"/>
                  </a:lnTo>
                  <a:close/>
                  <a:moveTo>
                    <a:pt x="7856" y="335"/>
                  </a:moveTo>
                  <a:lnTo>
                    <a:pt x="7898" y="331"/>
                  </a:lnTo>
                  <a:lnTo>
                    <a:pt x="7940" y="327"/>
                  </a:lnTo>
                  <a:lnTo>
                    <a:pt x="7981" y="325"/>
                  </a:lnTo>
                  <a:lnTo>
                    <a:pt x="8023" y="324"/>
                  </a:lnTo>
                  <a:lnTo>
                    <a:pt x="8063" y="323"/>
                  </a:lnTo>
                  <a:lnTo>
                    <a:pt x="8104" y="324"/>
                  </a:lnTo>
                  <a:lnTo>
                    <a:pt x="8146" y="326"/>
                  </a:lnTo>
                  <a:lnTo>
                    <a:pt x="8187" y="329"/>
                  </a:lnTo>
                  <a:lnTo>
                    <a:pt x="8228" y="333"/>
                  </a:lnTo>
                  <a:lnTo>
                    <a:pt x="8269" y="338"/>
                  </a:lnTo>
                  <a:lnTo>
                    <a:pt x="8309" y="344"/>
                  </a:lnTo>
                  <a:lnTo>
                    <a:pt x="8350" y="351"/>
                  </a:lnTo>
                  <a:lnTo>
                    <a:pt x="8391" y="359"/>
                  </a:lnTo>
                  <a:lnTo>
                    <a:pt x="8432" y="370"/>
                  </a:lnTo>
                  <a:lnTo>
                    <a:pt x="8472" y="380"/>
                  </a:lnTo>
                  <a:lnTo>
                    <a:pt x="8513" y="392"/>
                  </a:lnTo>
                  <a:lnTo>
                    <a:pt x="8553" y="405"/>
                  </a:lnTo>
                  <a:lnTo>
                    <a:pt x="8592" y="419"/>
                  </a:lnTo>
                  <a:lnTo>
                    <a:pt x="8632" y="434"/>
                  </a:lnTo>
                  <a:lnTo>
                    <a:pt x="8671" y="450"/>
                  </a:lnTo>
                  <a:lnTo>
                    <a:pt x="8710" y="467"/>
                  </a:lnTo>
                  <a:lnTo>
                    <a:pt x="8749" y="487"/>
                  </a:lnTo>
                  <a:lnTo>
                    <a:pt x="8786" y="506"/>
                  </a:lnTo>
                  <a:lnTo>
                    <a:pt x="8824" y="527"/>
                  </a:lnTo>
                  <a:lnTo>
                    <a:pt x="8861" y="548"/>
                  </a:lnTo>
                  <a:lnTo>
                    <a:pt x="8899" y="571"/>
                  </a:lnTo>
                  <a:lnTo>
                    <a:pt x="8934" y="595"/>
                  </a:lnTo>
                  <a:lnTo>
                    <a:pt x="8970" y="620"/>
                  </a:lnTo>
                  <a:lnTo>
                    <a:pt x="9006" y="646"/>
                  </a:lnTo>
                  <a:lnTo>
                    <a:pt x="9041" y="673"/>
                  </a:lnTo>
                  <a:lnTo>
                    <a:pt x="9075" y="702"/>
                  </a:lnTo>
                  <a:lnTo>
                    <a:pt x="9109" y="732"/>
                  </a:lnTo>
                  <a:lnTo>
                    <a:pt x="9154" y="771"/>
                  </a:lnTo>
                  <a:lnTo>
                    <a:pt x="9197" y="813"/>
                  </a:lnTo>
                  <a:lnTo>
                    <a:pt x="9240" y="856"/>
                  </a:lnTo>
                  <a:lnTo>
                    <a:pt x="9281" y="900"/>
                  </a:lnTo>
                  <a:lnTo>
                    <a:pt x="9322" y="945"/>
                  </a:lnTo>
                  <a:lnTo>
                    <a:pt x="9360" y="991"/>
                  </a:lnTo>
                  <a:lnTo>
                    <a:pt x="9399" y="1039"/>
                  </a:lnTo>
                  <a:lnTo>
                    <a:pt x="9436" y="1087"/>
                  </a:lnTo>
                  <a:lnTo>
                    <a:pt x="9472" y="1136"/>
                  </a:lnTo>
                  <a:lnTo>
                    <a:pt x="9506" y="1187"/>
                  </a:lnTo>
                  <a:lnTo>
                    <a:pt x="9540" y="1239"/>
                  </a:lnTo>
                  <a:lnTo>
                    <a:pt x="9573" y="1292"/>
                  </a:lnTo>
                  <a:lnTo>
                    <a:pt x="9604" y="1346"/>
                  </a:lnTo>
                  <a:lnTo>
                    <a:pt x="9634" y="1401"/>
                  </a:lnTo>
                  <a:lnTo>
                    <a:pt x="9664" y="1457"/>
                  </a:lnTo>
                  <a:lnTo>
                    <a:pt x="9691" y="1514"/>
                  </a:lnTo>
                  <a:lnTo>
                    <a:pt x="9718" y="1573"/>
                  </a:lnTo>
                  <a:lnTo>
                    <a:pt x="9743" y="1633"/>
                  </a:lnTo>
                  <a:lnTo>
                    <a:pt x="9767" y="1693"/>
                  </a:lnTo>
                  <a:lnTo>
                    <a:pt x="9788" y="1755"/>
                  </a:lnTo>
                  <a:lnTo>
                    <a:pt x="9809" y="1816"/>
                  </a:lnTo>
                  <a:lnTo>
                    <a:pt x="9828" y="1878"/>
                  </a:lnTo>
                  <a:lnTo>
                    <a:pt x="9845" y="1941"/>
                  </a:lnTo>
                  <a:lnTo>
                    <a:pt x="9862" y="2004"/>
                  </a:lnTo>
                  <a:lnTo>
                    <a:pt x="9876" y="2068"/>
                  </a:lnTo>
                  <a:lnTo>
                    <a:pt x="9889" y="2132"/>
                  </a:lnTo>
                  <a:lnTo>
                    <a:pt x="9901" y="2197"/>
                  </a:lnTo>
                  <a:lnTo>
                    <a:pt x="9910" y="2262"/>
                  </a:lnTo>
                  <a:lnTo>
                    <a:pt x="9918" y="2328"/>
                  </a:lnTo>
                  <a:lnTo>
                    <a:pt x="9925" y="2394"/>
                  </a:lnTo>
                  <a:lnTo>
                    <a:pt x="9930" y="2461"/>
                  </a:lnTo>
                  <a:lnTo>
                    <a:pt x="9934" y="2528"/>
                  </a:lnTo>
                  <a:lnTo>
                    <a:pt x="9936" y="2595"/>
                  </a:lnTo>
                  <a:lnTo>
                    <a:pt x="9937" y="2662"/>
                  </a:lnTo>
                  <a:lnTo>
                    <a:pt x="9936" y="2730"/>
                  </a:lnTo>
                  <a:lnTo>
                    <a:pt x="9933" y="2795"/>
                  </a:lnTo>
                  <a:lnTo>
                    <a:pt x="9929" y="2861"/>
                  </a:lnTo>
                  <a:lnTo>
                    <a:pt x="9924" y="2927"/>
                  </a:lnTo>
                  <a:lnTo>
                    <a:pt x="9917" y="2991"/>
                  </a:lnTo>
                  <a:lnTo>
                    <a:pt x="9908" y="3055"/>
                  </a:lnTo>
                  <a:lnTo>
                    <a:pt x="9898" y="3119"/>
                  </a:lnTo>
                  <a:lnTo>
                    <a:pt x="9885" y="3183"/>
                  </a:lnTo>
                  <a:lnTo>
                    <a:pt x="9871" y="3245"/>
                  </a:lnTo>
                  <a:lnTo>
                    <a:pt x="9856" y="3307"/>
                  </a:lnTo>
                  <a:lnTo>
                    <a:pt x="9839" y="3369"/>
                  </a:lnTo>
                  <a:lnTo>
                    <a:pt x="9821" y="3431"/>
                  </a:lnTo>
                  <a:lnTo>
                    <a:pt x="9800" y="3491"/>
                  </a:lnTo>
                  <a:lnTo>
                    <a:pt x="9778" y="3551"/>
                  </a:lnTo>
                  <a:lnTo>
                    <a:pt x="9755" y="3610"/>
                  </a:lnTo>
                  <a:lnTo>
                    <a:pt x="9730" y="3668"/>
                  </a:lnTo>
                  <a:lnTo>
                    <a:pt x="9704" y="3724"/>
                  </a:lnTo>
                  <a:lnTo>
                    <a:pt x="9678" y="3780"/>
                  </a:lnTo>
                  <a:lnTo>
                    <a:pt x="9649" y="3834"/>
                  </a:lnTo>
                  <a:lnTo>
                    <a:pt x="9620" y="3887"/>
                  </a:lnTo>
                  <a:lnTo>
                    <a:pt x="9589" y="3940"/>
                  </a:lnTo>
                  <a:lnTo>
                    <a:pt x="9557" y="3991"/>
                  </a:lnTo>
                  <a:lnTo>
                    <a:pt x="9524" y="4039"/>
                  </a:lnTo>
                  <a:lnTo>
                    <a:pt x="9490" y="4088"/>
                  </a:lnTo>
                  <a:lnTo>
                    <a:pt x="9454" y="4135"/>
                  </a:lnTo>
                  <a:lnTo>
                    <a:pt x="9418" y="4181"/>
                  </a:lnTo>
                  <a:lnTo>
                    <a:pt x="9380" y="4226"/>
                  </a:lnTo>
                  <a:lnTo>
                    <a:pt x="9341" y="4270"/>
                  </a:lnTo>
                  <a:lnTo>
                    <a:pt x="9301" y="4312"/>
                  </a:lnTo>
                  <a:lnTo>
                    <a:pt x="9260" y="4354"/>
                  </a:lnTo>
                  <a:lnTo>
                    <a:pt x="9228" y="4384"/>
                  </a:lnTo>
                  <a:lnTo>
                    <a:pt x="9195" y="4413"/>
                  </a:lnTo>
                  <a:lnTo>
                    <a:pt x="9161" y="4441"/>
                  </a:lnTo>
                  <a:lnTo>
                    <a:pt x="9126" y="4468"/>
                  </a:lnTo>
                  <a:lnTo>
                    <a:pt x="9092" y="4493"/>
                  </a:lnTo>
                  <a:lnTo>
                    <a:pt x="9056" y="4518"/>
                  </a:lnTo>
                  <a:lnTo>
                    <a:pt x="9020" y="4541"/>
                  </a:lnTo>
                  <a:lnTo>
                    <a:pt x="8984" y="4564"/>
                  </a:lnTo>
                  <a:lnTo>
                    <a:pt x="8947" y="4585"/>
                  </a:lnTo>
                  <a:lnTo>
                    <a:pt x="8909" y="4605"/>
                  </a:lnTo>
                  <a:lnTo>
                    <a:pt x="8871" y="4623"/>
                  </a:lnTo>
                  <a:lnTo>
                    <a:pt x="8832" y="4641"/>
                  </a:lnTo>
                  <a:lnTo>
                    <a:pt x="8794" y="4658"/>
                  </a:lnTo>
                  <a:lnTo>
                    <a:pt x="8755" y="4673"/>
                  </a:lnTo>
                  <a:lnTo>
                    <a:pt x="8715" y="4687"/>
                  </a:lnTo>
                  <a:lnTo>
                    <a:pt x="8675" y="4699"/>
                  </a:lnTo>
                  <a:lnTo>
                    <a:pt x="8635" y="4712"/>
                  </a:lnTo>
                  <a:lnTo>
                    <a:pt x="8595" y="4723"/>
                  </a:lnTo>
                  <a:lnTo>
                    <a:pt x="8556" y="4732"/>
                  </a:lnTo>
                  <a:lnTo>
                    <a:pt x="8515" y="4740"/>
                  </a:lnTo>
                  <a:lnTo>
                    <a:pt x="8474" y="4747"/>
                  </a:lnTo>
                  <a:lnTo>
                    <a:pt x="8433" y="4753"/>
                  </a:lnTo>
                  <a:lnTo>
                    <a:pt x="8392" y="4759"/>
                  </a:lnTo>
                  <a:lnTo>
                    <a:pt x="8350" y="4763"/>
                  </a:lnTo>
                  <a:lnTo>
                    <a:pt x="8308" y="4766"/>
                  </a:lnTo>
                  <a:lnTo>
                    <a:pt x="8267" y="4767"/>
                  </a:lnTo>
                  <a:lnTo>
                    <a:pt x="8225" y="4767"/>
                  </a:lnTo>
                  <a:lnTo>
                    <a:pt x="8183" y="4767"/>
                  </a:lnTo>
                  <a:lnTo>
                    <a:pt x="8141" y="4765"/>
                  </a:lnTo>
                  <a:lnTo>
                    <a:pt x="8099" y="4762"/>
                  </a:lnTo>
                  <a:lnTo>
                    <a:pt x="8056" y="4758"/>
                  </a:lnTo>
                  <a:lnTo>
                    <a:pt x="8014" y="4752"/>
                  </a:lnTo>
                  <a:lnTo>
                    <a:pt x="7972" y="4746"/>
                  </a:lnTo>
                  <a:lnTo>
                    <a:pt x="7932" y="4739"/>
                  </a:lnTo>
                  <a:lnTo>
                    <a:pt x="7891" y="4731"/>
                  </a:lnTo>
                  <a:lnTo>
                    <a:pt x="7851" y="4722"/>
                  </a:lnTo>
                  <a:lnTo>
                    <a:pt x="7810" y="4712"/>
                  </a:lnTo>
                  <a:lnTo>
                    <a:pt x="7771" y="4700"/>
                  </a:lnTo>
                  <a:lnTo>
                    <a:pt x="7731" y="4688"/>
                  </a:lnTo>
                  <a:lnTo>
                    <a:pt x="7693" y="4676"/>
                  </a:lnTo>
                  <a:lnTo>
                    <a:pt x="7655" y="4662"/>
                  </a:lnTo>
                  <a:lnTo>
                    <a:pt x="7616" y="4646"/>
                  </a:lnTo>
                  <a:lnTo>
                    <a:pt x="7578" y="4631"/>
                  </a:lnTo>
                  <a:lnTo>
                    <a:pt x="7542" y="4614"/>
                  </a:lnTo>
                  <a:lnTo>
                    <a:pt x="7505" y="4596"/>
                  </a:lnTo>
                  <a:lnTo>
                    <a:pt x="7468" y="4577"/>
                  </a:lnTo>
                  <a:lnTo>
                    <a:pt x="7431" y="4558"/>
                  </a:lnTo>
                  <a:lnTo>
                    <a:pt x="7395" y="4537"/>
                  </a:lnTo>
                  <a:lnTo>
                    <a:pt x="7360" y="4516"/>
                  </a:lnTo>
                  <a:lnTo>
                    <a:pt x="7326" y="4494"/>
                  </a:lnTo>
                  <a:lnTo>
                    <a:pt x="7291" y="4472"/>
                  </a:lnTo>
                  <a:lnTo>
                    <a:pt x="7259" y="4448"/>
                  </a:lnTo>
                  <a:lnTo>
                    <a:pt x="7225" y="4424"/>
                  </a:lnTo>
                  <a:lnTo>
                    <a:pt x="7193" y="4399"/>
                  </a:lnTo>
                  <a:lnTo>
                    <a:pt x="7162" y="4373"/>
                  </a:lnTo>
                  <a:lnTo>
                    <a:pt x="7130" y="4346"/>
                  </a:lnTo>
                  <a:lnTo>
                    <a:pt x="7099" y="4319"/>
                  </a:lnTo>
                  <a:lnTo>
                    <a:pt x="7069" y="4291"/>
                  </a:lnTo>
                  <a:lnTo>
                    <a:pt x="7039" y="4263"/>
                  </a:lnTo>
                  <a:lnTo>
                    <a:pt x="7010" y="4233"/>
                  </a:lnTo>
                  <a:lnTo>
                    <a:pt x="6982" y="4203"/>
                  </a:lnTo>
                  <a:lnTo>
                    <a:pt x="6953" y="4172"/>
                  </a:lnTo>
                  <a:lnTo>
                    <a:pt x="6926" y="4140"/>
                  </a:lnTo>
                  <a:lnTo>
                    <a:pt x="6899" y="4108"/>
                  </a:lnTo>
                  <a:lnTo>
                    <a:pt x="6865" y="4065"/>
                  </a:lnTo>
                  <a:lnTo>
                    <a:pt x="6833" y="4022"/>
                  </a:lnTo>
                  <a:lnTo>
                    <a:pt x="6801" y="3979"/>
                  </a:lnTo>
                  <a:lnTo>
                    <a:pt x="6771" y="3935"/>
                  </a:lnTo>
                  <a:lnTo>
                    <a:pt x="6741" y="3891"/>
                  </a:lnTo>
                  <a:lnTo>
                    <a:pt x="6712" y="3846"/>
                  </a:lnTo>
                  <a:lnTo>
                    <a:pt x="6685" y="3800"/>
                  </a:lnTo>
                  <a:lnTo>
                    <a:pt x="6658" y="3754"/>
                  </a:lnTo>
                  <a:lnTo>
                    <a:pt x="6632" y="3706"/>
                  </a:lnTo>
                  <a:lnTo>
                    <a:pt x="6607" y="3659"/>
                  </a:lnTo>
                  <a:lnTo>
                    <a:pt x="6584" y="3610"/>
                  </a:lnTo>
                  <a:lnTo>
                    <a:pt x="6561" y="3561"/>
                  </a:lnTo>
                  <a:lnTo>
                    <a:pt x="6540" y="3512"/>
                  </a:lnTo>
                  <a:lnTo>
                    <a:pt x="6518" y="3462"/>
                  </a:lnTo>
                  <a:lnTo>
                    <a:pt x="6499" y="3411"/>
                  </a:lnTo>
                  <a:lnTo>
                    <a:pt x="6480" y="3359"/>
                  </a:lnTo>
                  <a:lnTo>
                    <a:pt x="6463" y="3308"/>
                  </a:lnTo>
                  <a:lnTo>
                    <a:pt x="6446" y="3257"/>
                  </a:lnTo>
                  <a:lnTo>
                    <a:pt x="6430" y="3205"/>
                  </a:lnTo>
                  <a:lnTo>
                    <a:pt x="6416" y="3153"/>
                  </a:lnTo>
                  <a:lnTo>
                    <a:pt x="6403" y="3101"/>
                  </a:lnTo>
                  <a:lnTo>
                    <a:pt x="6390" y="3049"/>
                  </a:lnTo>
                  <a:lnTo>
                    <a:pt x="6378" y="2996"/>
                  </a:lnTo>
                  <a:lnTo>
                    <a:pt x="6368" y="2943"/>
                  </a:lnTo>
                  <a:lnTo>
                    <a:pt x="6359" y="2890"/>
                  </a:lnTo>
                  <a:lnTo>
                    <a:pt x="6350" y="2837"/>
                  </a:lnTo>
                  <a:lnTo>
                    <a:pt x="6343" y="2783"/>
                  </a:lnTo>
                  <a:lnTo>
                    <a:pt x="6336" y="2729"/>
                  </a:lnTo>
                  <a:lnTo>
                    <a:pt x="6331" y="2675"/>
                  </a:lnTo>
                  <a:lnTo>
                    <a:pt x="6327" y="2621"/>
                  </a:lnTo>
                  <a:lnTo>
                    <a:pt x="6324" y="2566"/>
                  </a:lnTo>
                  <a:lnTo>
                    <a:pt x="6322" y="2510"/>
                  </a:lnTo>
                  <a:lnTo>
                    <a:pt x="6321" y="2455"/>
                  </a:lnTo>
                  <a:lnTo>
                    <a:pt x="6321" y="2401"/>
                  </a:lnTo>
                  <a:lnTo>
                    <a:pt x="6322" y="2347"/>
                  </a:lnTo>
                  <a:lnTo>
                    <a:pt x="6324" y="2293"/>
                  </a:lnTo>
                  <a:lnTo>
                    <a:pt x="6327" y="2240"/>
                  </a:lnTo>
                  <a:lnTo>
                    <a:pt x="6331" y="2186"/>
                  </a:lnTo>
                  <a:lnTo>
                    <a:pt x="6336" y="2134"/>
                  </a:lnTo>
                  <a:lnTo>
                    <a:pt x="6344" y="2081"/>
                  </a:lnTo>
                  <a:lnTo>
                    <a:pt x="6351" y="2029"/>
                  </a:lnTo>
                  <a:lnTo>
                    <a:pt x="6359" y="1977"/>
                  </a:lnTo>
                  <a:lnTo>
                    <a:pt x="6368" y="1925"/>
                  </a:lnTo>
                  <a:lnTo>
                    <a:pt x="6378" y="1874"/>
                  </a:lnTo>
                  <a:lnTo>
                    <a:pt x="6390" y="1823"/>
                  </a:lnTo>
                  <a:lnTo>
                    <a:pt x="6403" y="1772"/>
                  </a:lnTo>
                  <a:lnTo>
                    <a:pt x="6416" y="1722"/>
                  </a:lnTo>
                  <a:lnTo>
                    <a:pt x="6430" y="1672"/>
                  </a:lnTo>
                  <a:lnTo>
                    <a:pt x="6446" y="1622"/>
                  </a:lnTo>
                  <a:lnTo>
                    <a:pt x="6462" y="1573"/>
                  </a:lnTo>
                  <a:lnTo>
                    <a:pt x="6479" y="1524"/>
                  </a:lnTo>
                  <a:lnTo>
                    <a:pt x="6499" y="1476"/>
                  </a:lnTo>
                  <a:lnTo>
                    <a:pt x="6518" y="1429"/>
                  </a:lnTo>
                  <a:lnTo>
                    <a:pt x="6539" y="1382"/>
                  </a:lnTo>
                  <a:lnTo>
                    <a:pt x="6560" y="1336"/>
                  </a:lnTo>
                  <a:lnTo>
                    <a:pt x="6584" y="1291"/>
                  </a:lnTo>
                  <a:lnTo>
                    <a:pt x="6607" y="1246"/>
                  </a:lnTo>
                  <a:lnTo>
                    <a:pt x="6632" y="1202"/>
                  </a:lnTo>
                  <a:lnTo>
                    <a:pt x="6657" y="1158"/>
                  </a:lnTo>
                  <a:lnTo>
                    <a:pt x="6685" y="1115"/>
                  </a:lnTo>
                  <a:lnTo>
                    <a:pt x="6712" y="1072"/>
                  </a:lnTo>
                  <a:lnTo>
                    <a:pt x="6741" y="1030"/>
                  </a:lnTo>
                  <a:lnTo>
                    <a:pt x="6771" y="990"/>
                  </a:lnTo>
                  <a:lnTo>
                    <a:pt x="6802" y="948"/>
                  </a:lnTo>
                  <a:lnTo>
                    <a:pt x="6827" y="917"/>
                  </a:lnTo>
                  <a:lnTo>
                    <a:pt x="6852" y="887"/>
                  </a:lnTo>
                  <a:lnTo>
                    <a:pt x="6878" y="856"/>
                  </a:lnTo>
                  <a:lnTo>
                    <a:pt x="6904" y="827"/>
                  </a:lnTo>
                  <a:lnTo>
                    <a:pt x="6931" y="799"/>
                  </a:lnTo>
                  <a:lnTo>
                    <a:pt x="6958" y="771"/>
                  </a:lnTo>
                  <a:lnTo>
                    <a:pt x="6986" y="744"/>
                  </a:lnTo>
                  <a:lnTo>
                    <a:pt x="7015" y="717"/>
                  </a:lnTo>
                  <a:lnTo>
                    <a:pt x="7043" y="693"/>
                  </a:lnTo>
                  <a:lnTo>
                    <a:pt x="7073" y="667"/>
                  </a:lnTo>
                  <a:lnTo>
                    <a:pt x="7103" y="644"/>
                  </a:lnTo>
                  <a:lnTo>
                    <a:pt x="7134" y="620"/>
                  </a:lnTo>
                  <a:lnTo>
                    <a:pt x="7166" y="598"/>
                  </a:lnTo>
                  <a:lnTo>
                    <a:pt x="7197" y="577"/>
                  </a:lnTo>
                  <a:lnTo>
                    <a:pt x="7230" y="556"/>
                  </a:lnTo>
                  <a:lnTo>
                    <a:pt x="7264" y="536"/>
                  </a:lnTo>
                  <a:lnTo>
                    <a:pt x="7297" y="516"/>
                  </a:lnTo>
                  <a:lnTo>
                    <a:pt x="7332" y="498"/>
                  </a:lnTo>
                  <a:lnTo>
                    <a:pt x="7367" y="481"/>
                  </a:lnTo>
                  <a:lnTo>
                    <a:pt x="7402" y="463"/>
                  </a:lnTo>
                  <a:lnTo>
                    <a:pt x="7437" y="448"/>
                  </a:lnTo>
                  <a:lnTo>
                    <a:pt x="7473" y="433"/>
                  </a:lnTo>
                  <a:lnTo>
                    <a:pt x="7510" y="419"/>
                  </a:lnTo>
                  <a:lnTo>
                    <a:pt x="7547" y="406"/>
                  </a:lnTo>
                  <a:lnTo>
                    <a:pt x="7584" y="394"/>
                  </a:lnTo>
                  <a:lnTo>
                    <a:pt x="7622" y="383"/>
                  </a:lnTo>
                  <a:lnTo>
                    <a:pt x="7660" y="373"/>
                  </a:lnTo>
                  <a:lnTo>
                    <a:pt x="7699" y="363"/>
                  </a:lnTo>
                  <a:lnTo>
                    <a:pt x="7738" y="355"/>
                  </a:lnTo>
                  <a:lnTo>
                    <a:pt x="7776" y="347"/>
                  </a:lnTo>
                  <a:lnTo>
                    <a:pt x="7816" y="341"/>
                  </a:lnTo>
                  <a:lnTo>
                    <a:pt x="7856" y="335"/>
                  </a:lnTo>
                  <a:close/>
                  <a:moveTo>
                    <a:pt x="10694" y="4983"/>
                  </a:moveTo>
                  <a:lnTo>
                    <a:pt x="10687" y="4825"/>
                  </a:lnTo>
                  <a:lnTo>
                    <a:pt x="10680" y="4667"/>
                  </a:lnTo>
                  <a:lnTo>
                    <a:pt x="10672" y="4510"/>
                  </a:lnTo>
                  <a:lnTo>
                    <a:pt x="10664" y="4352"/>
                  </a:lnTo>
                  <a:lnTo>
                    <a:pt x="10657" y="4193"/>
                  </a:lnTo>
                  <a:lnTo>
                    <a:pt x="10649" y="4036"/>
                  </a:lnTo>
                  <a:lnTo>
                    <a:pt x="10642" y="3879"/>
                  </a:lnTo>
                  <a:lnTo>
                    <a:pt x="10635" y="3721"/>
                  </a:lnTo>
                  <a:lnTo>
                    <a:pt x="10777" y="3730"/>
                  </a:lnTo>
                  <a:lnTo>
                    <a:pt x="10922" y="3741"/>
                  </a:lnTo>
                  <a:lnTo>
                    <a:pt x="11069" y="3750"/>
                  </a:lnTo>
                  <a:lnTo>
                    <a:pt x="11218" y="3760"/>
                  </a:lnTo>
                  <a:lnTo>
                    <a:pt x="11369" y="3769"/>
                  </a:lnTo>
                  <a:lnTo>
                    <a:pt x="11521" y="3779"/>
                  </a:lnTo>
                  <a:lnTo>
                    <a:pt x="11674" y="3790"/>
                  </a:lnTo>
                  <a:lnTo>
                    <a:pt x="11828" y="3799"/>
                  </a:lnTo>
                  <a:lnTo>
                    <a:pt x="11837" y="3966"/>
                  </a:lnTo>
                  <a:lnTo>
                    <a:pt x="11845" y="4133"/>
                  </a:lnTo>
                  <a:lnTo>
                    <a:pt x="11854" y="4301"/>
                  </a:lnTo>
                  <a:lnTo>
                    <a:pt x="11862" y="4468"/>
                  </a:lnTo>
                  <a:lnTo>
                    <a:pt x="11872" y="4635"/>
                  </a:lnTo>
                  <a:lnTo>
                    <a:pt x="11880" y="4802"/>
                  </a:lnTo>
                  <a:lnTo>
                    <a:pt x="11889" y="4971"/>
                  </a:lnTo>
                  <a:lnTo>
                    <a:pt x="11898" y="5138"/>
                  </a:lnTo>
                  <a:lnTo>
                    <a:pt x="11743" y="5119"/>
                  </a:lnTo>
                  <a:lnTo>
                    <a:pt x="11589" y="5098"/>
                  </a:lnTo>
                  <a:lnTo>
                    <a:pt x="11435" y="5079"/>
                  </a:lnTo>
                  <a:lnTo>
                    <a:pt x="11283" y="5059"/>
                  </a:lnTo>
                  <a:lnTo>
                    <a:pt x="11133" y="5040"/>
                  </a:lnTo>
                  <a:lnTo>
                    <a:pt x="10984" y="5021"/>
                  </a:lnTo>
                  <a:lnTo>
                    <a:pt x="10838" y="5002"/>
                  </a:lnTo>
                  <a:lnTo>
                    <a:pt x="10694" y="4983"/>
                  </a:lnTo>
                  <a:close/>
                  <a:moveTo>
                    <a:pt x="10621" y="3435"/>
                  </a:moveTo>
                  <a:lnTo>
                    <a:pt x="10610" y="3227"/>
                  </a:lnTo>
                  <a:lnTo>
                    <a:pt x="10601" y="3017"/>
                  </a:lnTo>
                  <a:lnTo>
                    <a:pt x="10591" y="2810"/>
                  </a:lnTo>
                  <a:lnTo>
                    <a:pt x="10581" y="2602"/>
                  </a:lnTo>
                  <a:lnTo>
                    <a:pt x="10572" y="2395"/>
                  </a:lnTo>
                  <a:lnTo>
                    <a:pt x="10561" y="2187"/>
                  </a:lnTo>
                  <a:lnTo>
                    <a:pt x="10552" y="1980"/>
                  </a:lnTo>
                  <a:lnTo>
                    <a:pt x="10542" y="1774"/>
                  </a:lnTo>
                  <a:lnTo>
                    <a:pt x="10533" y="1568"/>
                  </a:lnTo>
                  <a:lnTo>
                    <a:pt x="10523" y="1363"/>
                  </a:lnTo>
                  <a:lnTo>
                    <a:pt x="10513" y="1158"/>
                  </a:lnTo>
                  <a:lnTo>
                    <a:pt x="10503" y="954"/>
                  </a:lnTo>
                  <a:lnTo>
                    <a:pt x="10494" y="749"/>
                  </a:lnTo>
                  <a:lnTo>
                    <a:pt x="10484" y="545"/>
                  </a:lnTo>
                  <a:lnTo>
                    <a:pt x="10475" y="341"/>
                  </a:lnTo>
                  <a:lnTo>
                    <a:pt x="10465" y="137"/>
                  </a:lnTo>
                  <a:lnTo>
                    <a:pt x="10604" y="121"/>
                  </a:lnTo>
                  <a:lnTo>
                    <a:pt x="10745" y="104"/>
                  </a:lnTo>
                  <a:lnTo>
                    <a:pt x="10889" y="87"/>
                  </a:lnTo>
                  <a:lnTo>
                    <a:pt x="11035" y="71"/>
                  </a:lnTo>
                  <a:lnTo>
                    <a:pt x="11181" y="53"/>
                  </a:lnTo>
                  <a:lnTo>
                    <a:pt x="11330" y="35"/>
                  </a:lnTo>
                  <a:lnTo>
                    <a:pt x="11479" y="18"/>
                  </a:lnTo>
                  <a:lnTo>
                    <a:pt x="11628" y="0"/>
                  </a:lnTo>
                  <a:lnTo>
                    <a:pt x="11640" y="215"/>
                  </a:lnTo>
                  <a:lnTo>
                    <a:pt x="11651" y="432"/>
                  </a:lnTo>
                  <a:lnTo>
                    <a:pt x="11663" y="648"/>
                  </a:lnTo>
                  <a:lnTo>
                    <a:pt x="11674" y="865"/>
                  </a:lnTo>
                  <a:lnTo>
                    <a:pt x="11686" y="1082"/>
                  </a:lnTo>
                  <a:lnTo>
                    <a:pt x="11697" y="1299"/>
                  </a:lnTo>
                  <a:lnTo>
                    <a:pt x="11708" y="1517"/>
                  </a:lnTo>
                  <a:lnTo>
                    <a:pt x="11719" y="1734"/>
                  </a:lnTo>
                  <a:lnTo>
                    <a:pt x="11731" y="1954"/>
                  </a:lnTo>
                  <a:lnTo>
                    <a:pt x="11743" y="2173"/>
                  </a:lnTo>
                  <a:lnTo>
                    <a:pt x="11754" y="2392"/>
                  </a:lnTo>
                  <a:lnTo>
                    <a:pt x="11765" y="2612"/>
                  </a:lnTo>
                  <a:lnTo>
                    <a:pt x="11777" y="2833"/>
                  </a:lnTo>
                  <a:lnTo>
                    <a:pt x="11789" y="3053"/>
                  </a:lnTo>
                  <a:lnTo>
                    <a:pt x="11800" y="3274"/>
                  </a:lnTo>
                  <a:lnTo>
                    <a:pt x="11811" y="3495"/>
                  </a:lnTo>
                  <a:lnTo>
                    <a:pt x="11658" y="3488"/>
                  </a:lnTo>
                  <a:lnTo>
                    <a:pt x="11506" y="3479"/>
                  </a:lnTo>
                  <a:lnTo>
                    <a:pt x="11354" y="3471"/>
                  </a:lnTo>
                  <a:lnTo>
                    <a:pt x="11204" y="3464"/>
                  </a:lnTo>
                  <a:lnTo>
                    <a:pt x="11055" y="3456"/>
                  </a:lnTo>
                  <a:lnTo>
                    <a:pt x="10908" y="3449"/>
                  </a:lnTo>
                  <a:lnTo>
                    <a:pt x="10762" y="3442"/>
                  </a:lnTo>
                  <a:lnTo>
                    <a:pt x="10621" y="34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4" name=""/>
            <p:cNvGrpSpPr/>
            <p:nvPr/>
          </p:nvGrpSpPr>
          <p:grpSpPr>
            <a:xfrm>
              <a:off x="2627280" y="4680000"/>
              <a:ext cx="998640" cy="979560"/>
              <a:chOff x="2627280" y="4680000"/>
              <a:chExt cx="998640" cy="979560"/>
            </a:xfrm>
          </p:grpSpPr>
          <p:sp>
            <p:nvSpPr>
              <p:cNvPr id="2925" name=""/>
              <p:cNvSpPr/>
              <p:nvPr/>
            </p:nvSpPr>
            <p:spPr>
              <a:xfrm>
                <a:off x="2627280" y="4794120"/>
                <a:ext cx="258840" cy="774720"/>
              </a:xfrm>
              <a:custGeom>
                <a:avLst/>
                <a:gdLst/>
                <a:ahLst/>
                <a:rect l="l" t="t" r="r" b="b"/>
                <a:pathLst>
                  <a:path w="818" h="2439">
                    <a:moveTo>
                      <a:pt x="1" y="2334"/>
                    </a:moveTo>
                    <a:lnTo>
                      <a:pt x="1" y="2193"/>
                    </a:lnTo>
                    <a:lnTo>
                      <a:pt x="1" y="2053"/>
                    </a:lnTo>
                    <a:lnTo>
                      <a:pt x="1" y="1912"/>
                    </a:lnTo>
                    <a:lnTo>
                      <a:pt x="1" y="1771"/>
                    </a:lnTo>
                    <a:lnTo>
                      <a:pt x="0" y="1630"/>
                    </a:lnTo>
                    <a:lnTo>
                      <a:pt x="0" y="1490"/>
                    </a:lnTo>
                    <a:lnTo>
                      <a:pt x="0" y="1350"/>
                    </a:lnTo>
                    <a:lnTo>
                      <a:pt x="0" y="1209"/>
                    </a:lnTo>
                    <a:lnTo>
                      <a:pt x="0" y="1069"/>
                    </a:lnTo>
                    <a:lnTo>
                      <a:pt x="1" y="931"/>
                    </a:lnTo>
                    <a:lnTo>
                      <a:pt x="1" y="791"/>
                    </a:lnTo>
                    <a:lnTo>
                      <a:pt x="1" y="652"/>
                    </a:lnTo>
                    <a:lnTo>
                      <a:pt x="1" y="512"/>
                    </a:lnTo>
                    <a:lnTo>
                      <a:pt x="1" y="374"/>
                    </a:lnTo>
                    <a:lnTo>
                      <a:pt x="1" y="235"/>
                    </a:lnTo>
                    <a:lnTo>
                      <a:pt x="1" y="96"/>
                    </a:lnTo>
                    <a:lnTo>
                      <a:pt x="14" y="94"/>
                    </a:lnTo>
                    <a:lnTo>
                      <a:pt x="28" y="93"/>
                    </a:lnTo>
                    <a:lnTo>
                      <a:pt x="43" y="91"/>
                    </a:lnTo>
                    <a:lnTo>
                      <a:pt x="57" y="89"/>
                    </a:lnTo>
                    <a:lnTo>
                      <a:pt x="71" y="88"/>
                    </a:lnTo>
                    <a:lnTo>
                      <a:pt x="86" y="86"/>
                    </a:lnTo>
                    <a:lnTo>
                      <a:pt x="100" y="84"/>
                    </a:lnTo>
                    <a:lnTo>
                      <a:pt x="114" y="83"/>
                    </a:lnTo>
                    <a:lnTo>
                      <a:pt x="138" y="142"/>
                    </a:lnTo>
                    <a:lnTo>
                      <a:pt x="162" y="201"/>
                    </a:lnTo>
                    <a:lnTo>
                      <a:pt x="187" y="260"/>
                    </a:lnTo>
                    <a:lnTo>
                      <a:pt x="211" y="321"/>
                    </a:lnTo>
                    <a:lnTo>
                      <a:pt x="236" y="381"/>
                    </a:lnTo>
                    <a:lnTo>
                      <a:pt x="260" y="441"/>
                    </a:lnTo>
                    <a:lnTo>
                      <a:pt x="285" y="501"/>
                    </a:lnTo>
                    <a:lnTo>
                      <a:pt x="309" y="562"/>
                    </a:lnTo>
                    <a:lnTo>
                      <a:pt x="335" y="624"/>
                    </a:lnTo>
                    <a:lnTo>
                      <a:pt x="360" y="686"/>
                    </a:lnTo>
                    <a:lnTo>
                      <a:pt x="385" y="748"/>
                    </a:lnTo>
                    <a:lnTo>
                      <a:pt x="410" y="811"/>
                    </a:lnTo>
                    <a:lnTo>
                      <a:pt x="437" y="874"/>
                    </a:lnTo>
                    <a:lnTo>
                      <a:pt x="462" y="937"/>
                    </a:lnTo>
                    <a:lnTo>
                      <a:pt x="489" y="1001"/>
                    </a:lnTo>
                    <a:lnTo>
                      <a:pt x="514" y="1064"/>
                    </a:lnTo>
                    <a:lnTo>
                      <a:pt x="514" y="1000"/>
                    </a:lnTo>
                    <a:lnTo>
                      <a:pt x="514" y="935"/>
                    </a:lnTo>
                    <a:lnTo>
                      <a:pt x="513" y="870"/>
                    </a:lnTo>
                    <a:lnTo>
                      <a:pt x="513" y="806"/>
                    </a:lnTo>
                    <a:lnTo>
                      <a:pt x="513" y="742"/>
                    </a:lnTo>
                    <a:lnTo>
                      <a:pt x="513" y="678"/>
                    </a:lnTo>
                    <a:lnTo>
                      <a:pt x="513" y="613"/>
                    </a:lnTo>
                    <a:lnTo>
                      <a:pt x="513" y="549"/>
                    </a:lnTo>
                    <a:lnTo>
                      <a:pt x="512" y="485"/>
                    </a:lnTo>
                    <a:lnTo>
                      <a:pt x="512" y="421"/>
                    </a:lnTo>
                    <a:lnTo>
                      <a:pt x="512" y="356"/>
                    </a:lnTo>
                    <a:lnTo>
                      <a:pt x="512" y="292"/>
                    </a:lnTo>
                    <a:lnTo>
                      <a:pt x="512" y="228"/>
                    </a:lnTo>
                    <a:lnTo>
                      <a:pt x="512" y="164"/>
                    </a:lnTo>
                    <a:lnTo>
                      <a:pt x="511" y="99"/>
                    </a:lnTo>
                    <a:lnTo>
                      <a:pt x="511" y="36"/>
                    </a:lnTo>
                    <a:lnTo>
                      <a:pt x="547" y="31"/>
                    </a:lnTo>
                    <a:lnTo>
                      <a:pt x="584" y="27"/>
                    </a:lnTo>
                    <a:lnTo>
                      <a:pt x="621" y="23"/>
                    </a:lnTo>
                    <a:lnTo>
                      <a:pt x="657" y="19"/>
                    </a:lnTo>
                    <a:lnTo>
                      <a:pt x="695" y="14"/>
                    </a:lnTo>
                    <a:lnTo>
                      <a:pt x="732" y="9"/>
                    </a:lnTo>
                    <a:lnTo>
                      <a:pt x="770" y="5"/>
                    </a:lnTo>
                    <a:lnTo>
                      <a:pt x="808" y="0"/>
                    </a:lnTo>
                    <a:lnTo>
                      <a:pt x="809" y="151"/>
                    </a:lnTo>
                    <a:lnTo>
                      <a:pt x="809" y="302"/>
                    </a:lnTo>
                    <a:lnTo>
                      <a:pt x="810" y="454"/>
                    </a:lnTo>
                    <a:lnTo>
                      <a:pt x="810" y="605"/>
                    </a:lnTo>
                    <a:lnTo>
                      <a:pt x="811" y="757"/>
                    </a:lnTo>
                    <a:lnTo>
                      <a:pt x="811" y="908"/>
                    </a:lnTo>
                    <a:lnTo>
                      <a:pt x="812" y="1060"/>
                    </a:lnTo>
                    <a:lnTo>
                      <a:pt x="812" y="1212"/>
                    </a:lnTo>
                    <a:lnTo>
                      <a:pt x="813" y="1365"/>
                    </a:lnTo>
                    <a:lnTo>
                      <a:pt x="814" y="1518"/>
                    </a:lnTo>
                    <a:lnTo>
                      <a:pt x="814" y="1671"/>
                    </a:lnTo>
                    <a:lnTo>
                      <a:pt x="815" y="1824"/>
                    </a:lnTo>
                    <a:lnTo>
                      <a:pt x="815" y="1978"/>
                    </a:lnTo>
                    <a:lnTo>
                      <a:pt x="816" y="2131"/>
                    </a:lnTo>
                    <a:lnTo>
                      <a:pt x="817" y="2285"/>
                    </a:lnTo>
                    <a:lnTo>
                      <a:pt x="818" y="2439"/>
                    </a:lnTo>
                    <a:lnTo>
                      <a:pt x="800" y="2437"/>
                    </a:lnTo>
                    <a:lnTo>
                      <a:pt x="783" y="2434"/>
                    </a:lnTo>
                    <a:lnTo>
                      <a:pt x="766" y="2432"/>
                    </a:lnTo>
                    <a:lnTo>
                      <a:pt x="748" y="2430"/>
                    </a:lnTo>
                    <a:lnTo>
                      <a:pt x="731" y="2428"/>
                    </a:lnTo>
                    <a:lnTo>
                      <a:pt x="714" y="2426"/>
                    </a:lnTo>
                    <a:lnTo>
                      <a:pt x="696" y="2423"/>
                    </a:lnTo>
                    <a:lnTo>
                      <a:pt x="680" y="2421"/>
                    </a:lnTo>
                    <a:lnTo>
                      <a:pt x="652" y="2352"/>
                    </a:lnTo>
                    <a:lnTo>
                      <a:pt x="626" y="2284"/>
                    </a:lnTo>
                    <a:lnTo>
                      <a:pt x="599" y="2216"/>
                    </a:lnTo>
                    <a:lnTo>
                      <a:pt x="573" y="2148"/>
                    </a:lnTo>
                    <a:lnTo>
                      <a:pt x="547" y="2080"/>
                    </a:lnTo>
                    <a:lnTo>
                      <a:pt x="521" y="2013"/>
                    </a:lnTo>
                    <a:lnTo>
                      <a:pt x="494" y="1946"/>
                    </a:lnTo>
                    <a:lnTo>
                      <a:pt x="468" y="1879"/>
                    </a:lnTo>
                    <a:lnTo>
                      <a:pt x="443" y="1814"/>
                    </a:lnTo>
                    <a:lnTo>
                      <a:pt x="417" y="1749"/>
                    </a:lnTo>
                    <a:lnTo>
                      <a:pt x="392" y="1684"/>
                    </a:lnTo>
                    <a:lnTo>
                      <a:pt x="366" y="1619"/>
                    </a:lnTo>
                    <a:lnTo>
                      <a:pt x="342" y="1555"/>
                    </a:lnTo>
                    <a:lnTo>
                      <a:pt x="317" y="1491"/>
                    </a:lnTo>
                    <a:lnTo>
                      <a:pt x="292" y="1426"/>
                    </a:lnTo>
                    <a:lnTo>
                      <a:pt x="267" y="1363"/>
                    </a:lnTo>
                    <a:lnTo>
                      <a:pt x="267" y="1425"/>
                    </a:lnTo>
                    <a:lnTo>
                      <a:pt x="267" y="1488"/>
                    </a:lnTo>
                    <a:lnTo>
                      <a:pt x="267" y="1551"/>
                    </a:lnTo>
                    <a:lnTo>
                      <a:pt x="267" y="1614"/>
                    </a:lnTo>
                    <a:lnTo>
                      <a:pt x="267" y="1676"/>
                    </a:lnTo>
                    <a:lnTo>
                      <a:pt x="267" y="1739"/>
                    </a:lnTo>
                    <a:lnTo>
                      <a:pt x="267" y="1802"/>
                    </a:lnTo>
                    <a:lnTo>
                      <a:pt x="268" y="1865"/>
                    </a:lnTo>
                    <a:lnTo>
                      <a:pt x="268" y="1928"/>
                    </a:lnTo>
                    <a:lnTo>
                      <a:pt x="268" y="1990"/>
                    </a:lnTo>
                    <a:lnTo>
                      <a:pt x="268" y="2054"/>
                    </a:lnTo>
                    <a:lnTo>
                      <a:pt x="268" y="2117"/>
                    </a:lnTo>
                    <a:lnTo>
                      <a:pt x="268" y="2179"/>
                    </a:lnTo>
                    <a:lnTo>
                      <a:pt x="268" y="2242"/>
                    </a:lnTo>
                    <a:lnTo>
                      <a:pt x="268" y="2306"/>
                    </a:lnTo>
                    <a:lnTo>
                      <a:pt x="268" y="2369"/>
                    </a:lnTo>
                    <a:lnTo>
                      <a:pt x="235" y="2364"/>
                    </a:lnTo>
                    <a:lnTo>
                      <a:pt x="200" y="2360"/>
                    </a:lnTo>
                    <a:lnTo>
                      <a:pt x="166" y="2355"/>
                    </a:lnTo>
                    <a:lnTo>
                      <a:pt x="133" y="2351"/>
                    </a:lnTo>
                    <a:lnTo>
                      <a:pt x="100" y="2346"/>
                    </a:lnTo>
                    <a:lnTo>
                      <a:pt x="66" y="2342"/>
                    </a:lnTo>
                    <a:lnTo>
                      <a:pt x="33" y="2338"/>
                    </a:lnTo>
                    <a:lnTo>
                      <a:pt x="1" y="2334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041640" y="4971960"/>
                <a:ext cx="209520" cy="416160"/>
              </a:xfrm>
              <a:custGeom>
                <a:avLst/>
                <a:gdLst/>
                <a:ahLst/>
                <a:rect l="l" t="t" r="r" b="b"/>
                <a:pathLst>
                  <a:path w="664" h="1308">
                    <a:moveTo>
                      <a:pt x="315" y="0"/>
                    </a:moveTo>
                    <a:lnTo>
                      <a:pt x="298" y="2"/>
                    </a:lnTo>
                    <a:lnTo>
                      <a:pt x="281" y="5"/>
                    </a:lnTo>
                    <a:lnTo>
                      <a:pt x="264" y="9"/>
                    </a:lnTo>
                    <a:lnTo>
                      <a:pt x="249" y="16"/>
                    </a:lnTo>
                    <a:lnTo>
                      <a:pt x="233" y="23"/>
                    </a:lnTo>
                    <a:lnTo>
                      <a:pt x="217" y="32"/>
                    </a:lnTo>
                    <a:lnTo>
                      <a:pt x="203" y="42"/>
                    </a:lnTo>
                    <a:lnTo>
                      <a:pt x="189" y="53"/>
                    </a:lnTo>
                    <a:lnTo>
                      <a:pt x="174" y="67"/>
                    </a:lnTo>
                    <a:lnTo>
                      <a:pt x="160" y="81"/>
                    </a:lnTo>
                    <a:lnTo>
                      <a:pt x="147" y="97"/>
                    </a:lnTo>
                    <a:lnTo>
                      <a:pt x="135" y="115"/>
                    </a:lnTo>
                    <a:lnTo>
                      <a:pt x="121" y="133"/>
                    </a:lnTo>
                    <a:lnTo>
                      <a:pt x="109" y="152"/>
                    </a:lnTo>
                    <a:lnTo>
                      <a:pt x="98" y="174"/>
                    </a:lnTo>
                    <a:lnTo>
                      <a:pt x="87" y="197"/>
                    </a:lnTo>
                    <a:lnTo>
                      <a:pt x="75" y="221"/>
                    </a:lnTo>
                    <a:lnTo>
                      <a:pt x="65" y="245"/>
                    </a:lnTo>
                    <a:lnTo>
                      <a:pt x="56" y="270"/>
                    </a:lnTo>
                    <a:lnTo>
                      <a:pt x="48" y="295"/>
                    </a:lnTo>
                    <a:lnTo>
                      <a:pt x="40" y="322"/>
                    </a:lnTo>
                    <a:lnTo>
                      <a:pt x="33" y="348"/>
                    </a:lnTo>
                    <a:lnTo>
                      <a:pt x="26" y="376"/>
                    </a:lnTo>
                    <a:lnTo>
                      <a:pt x="20" y="403"/>
                    </a:lnTo>
                    <a:lnTo>
                      <a:pt x="15" y="432"/>
                    </a:lnTo>
                    <a:lnTo>
                      <a:pt x="11" y="461"/>
                    </a:lnTo>
                    <a:lnTo>
                      <a:pt x="7" y="492"/>
                    </a:lnTo>
                    <a:lnTo>
                      <a:pt x="5" y="523"/>
                    </a:lnTo>
                    <a:lnTo>
                      <a:pt x="2" y="553"/>
                    </a:lnTo>
                    <a:lnTo>
                      <a:pt x="1" y="585"/>
                    </a:lnTo>
                    <a:lnTo>
                      <a:pt x="0" y="617"/>
                    </a:lnTo>
                    <a:lnTo>
                      <a:pt x="0" y="651"/>
                    </a:lnTo>
                    <a:lnTo>
                      <a:pt x="0" y="685"/>
                    </a:lnTo>
                    <a:lnTo>
                      <a:pt x="2" y="717"/>
                    </a:lnTo>
                    <a:lnTo>
                      <a:pt x="3" y="749"/>
                    </a:lnTo>
                    <a:lnTo>
                      <a:pt x="6" y="781"/>
                    </a:lnTo>
                    <a:lnTo>
                      <a:pt x="9" y="811"/>
                    </a:lnTo>
                    <a:lnTo>
                      <a:pt x="13" y="842"/>
                    </a:lnTo>
                    <a:lnTo>
                      <a:pt x="18" y="871"/>
                    </a:lnTo>
                    <a:lnTo>
                      <a:pt x="23" y="900"/>
                    </a:lnTo>
                    <a:lnTo>
                      <a:pt x="29" y="929"/>
                    </a:lnTo>
                    <a:lnTo>
                      <a:pt x="37" y="956"/>
                    </a:lnTo>
                    <a:lnTo>
                      <a:pt x="44" y="983"/>
                    </a:lnTo>
                    <a:lnTo>
                      <a:pt x="52" y="1009"/>
                    </a:lnTo>
                    <a:lnTo>
                      <a:pt x="61" y="1035"/>
                    </a:lnTo>
                    <a:lnTo>
                      <a:pt x="70" y="1059"/>
                    </a:lnTo>
                    <a:lnTo>
                      <a:pt x="82" y="1084"/>
                    </a:lnTo>
                    <a:lnTo>
                      <a:pt x="92" y="1107"/>
                    </a:lnTo>
                    <a:lnTo>
                      <a:pt x="104" y="1130"/>
                    </a:lnTo>
                    <a:lnTo>
                      <a:pt x="116" y="1152"/>
                    </a:lnTo>
                    <a:lnTo>
                      <a:pt x="129" y="1172"/>
                    </a:lnTo>
                    <a:lnTo>
                      <a:pt x="142" y="1191"/>
                    </a:lnTo>
                    <a:lnTo>
                      <a:pt x="155" y="1209"/>
                    </a:lnTo>
                    <a:lnTo>
                      <a:pt x="168" y="1224"/>
                    </a:lnTo>
                    <a:lnTo>
                      <a:pt x="183" y="1240"/>
                    </a:lnTo>
                    <a:lnTo>
                      <a:pt x="197" y="1253"/>
                    </a:lnTo>
                    <a:lnTo>
                      <a:pt x="211" y="1264"/>
                    </a:lnTo>
                    <a:lnTo>
                      <a:pt x="227" y="1274"/>
                    </a:lnTo>
                    <a:lnTo>
                      <a:pt x="242" y="1283"/>
                    </a:lnTo>
                    <a:lnTo>
                      <a:pt x="258" y="1292"/>
                    </a:lnTo>
                    <a:lnTo>
                      <a:pt x="275" y="1298"/>
                    </a:lnTo>
                    <a:lnTo>
                      <a:pt x="291" y="1302"/>
                    </a:lnTo>
                    <a:lnTo>
                      <a:pt x="308" y="1306"/>
                    </a:lnTo>
                    <a:lnTo>
                      <a:pt x="326" y="1307"/>
                    </a:lnTo>
                    <a:lnTo>
                      <a:pt x="344" y="1308"/>
                    </a:lnTo>
                    <a:lnTo>
                      <a:pt x="360" y="1307"/>
                    </a:lnTo>
                    <a:lnTo>
                      <a:pt x="378" y="1304"/>
                    </a:lnTo>
                    <a:lnTo>
                      <a:pt x="394" y="1300"/>
                    </a:lnTo>
                    <a:lnTo>
                      <a:pt x="410" y="1294"/>
                    </a:lnTo>
                    <a:lnTo>
                      <a:pt x="427" y="1287"/>
                    </a:lnTo>
                    <a:lnTo>
                      <a:pt x="442" y="1277"/>
                    </a:lnTo>
                    <a:lnTo>
                      <a:pt x="457" y="1267"/>
                    </a:lnTo>
                    <a:lnTo>
                      <a:pt x="472" y="1256"/>
                    </a:lnTo>
                    <a:lnTo>
                      <a:pt x="486" y="1242"/>
                    </a:lnTo>
                    <a:lnTo>
                      <a:pt x="500" y="1227"/>
                    </a:lnTo>
                    <a:lnTo>
                      <a:pt x="515" y="1211"/>
                    </a:lnTo>
                    <a:lnTo>
                      <a:pt x="528" y="1193"/>
                    </a:lnTo>
                    <a:lnTo>
                      <a:pt x="541" y="1173"/>
                    </a:lnTo>
                    <a:lnTo>
                      <a:pt x="553" y="1152"/>
                    </a:lnTo>
                    <a:lnTo>
                      <a:pt x="566" y="1129"/>
                    </a:lnTo>
                    <a:lnTo>
                      <a:pt x="578" y="1105"/>
                    </a:lnTo>
                    <a:lnTo>
                      <a:pt x="589" y="1080"/>
                    </a:lnTo>
                    <a:lnTo>
                      <a:pt x="599" y="1055"/>
                    </a:lnTo>
                    <a:lnTo>
                      <a:pt x="610" y="1028"/>
                    </a:lnTo>
                    <a:lnTo>
                      <a:pt x="618" y="1001"/>
                    </a:lnTo>
                    <a:lnTo>
                      <a:pt x="626" y="973"/>
                    </a:lnTo>
                    <a:lnTo>
                      <a:pt x="633" y="945"/>
                    </a:lnTo>
                    <a:lnTo>
                      <a:pt x="640" y="915"/>
                    </a:lnTo>
                    <a:lnTo>
                      <a:pt x="645" y="885"/>
                    </a:lnTo>
                    <a:lnTo>
                      <a:pt x="650" y="854"/>
                    </a:lnTo>
                    <a:lnTo>
                      <a:pt x="654" y="822"/>
                    </a:lnTo>
                    <a:lnTo>
                      <a:pt x="659" y="790"/>
                    </a:lnTo>
                    <a:lnTo>
                      <a:pt x="661" y="757"/>
                    </a:lnTo>
                    <a:lnTo>
                      <a:pt x="663" y="723"/>
                    </a:lnTo>
                    <a:lnTo>
                      <a:pt x="664" y="689"/>
                    </a:lnTo>
                    <a:lnTo>
                      <a:pt x="664" y="653"/>
                    </a:lnTo>
                    <a:lnTo>
                      <a:pt x="663" y="618"/>
                    </a:lnTo>
                    <a:lnTo>
                      <a:pt x="662" y="584"/>
                    </a:lnTo>
                    <a:lnTo>
                      <a:pt x="659" y="550"/>
                    </a:lnTo>
                    <a:lnTo>
                      <a:pt x="655" y="517"/>
                    </a:lnTo>
                    <a:lnTo>
                      <a:pt x="651" y="486"/>
                    </a:lnTo>
                    <a:lnTo>
                      <a:pt x="647" y="454"/>
                    </a:lnTo>
                    <a:lnTo>
                      <a:pt x="641" y="424"/>
                    </a:lnTo>
                    <a:lnTo>
                      <a:pt x="635" y="393"/>
                    </a:lnTo>
                    <a:lnTo>
                      <a:pt x="628" y="364"/>
                    </a:lnTo>
                    <a:lnTo>
                      <a:pt x="620" y="336"/>
                    </a:lnTo>
                    <a:lnTo>
                      <a:pt x="612" y="307"/>
                    </a:lnTo>
                    <a:lnTo>
                      <a:pt x="602" y="281"/>
                    </a:lnTo>
                    <a:lnTo>
                      <a:pt x="592" y="254"/>
                    </a:lnTo>
                    <a:lnTo>
                      <a:pt x="581" y="229"/>
                    </a:lnTo>
                    <a:lnTo>
                      <a:pt x="570" y="203"/>
                    </a:lnTo>
                    <a:lnTo>
                      <a:pt x="557" y="180"/>
                    </a:lnTo>
                    <a:lnTo>
                      <a:pt x="545" y="156"/>
                    </a:lnTo>
                    <a:lnTo>
                      <a:pt x="532" y="136"/>
                    </a:lnTo>
                    <a:lnTo>
                      <a:pt x="519" y="117"/>
                    </a:lnTo>
                    <a:lnTo>
                      <a:pt x="505" y="98"/>
                    </a:lnTo>
                    <a:lnTo>
                      <a:pt x="491" y="82"/>
                    </a:lnTo>
                    <a:lnTo>
                      <a:pt x="477" y="67"/>
                    </a:lnTo>
                    <a:lnTo>
                      <a:pt x="462" y="53"/>
                    </a:lnTo>
                    <a:lnTo>
                      <a:pt x="447" y="41"/>
                    </a:lnTo>
                    <a:lnTo>
                      <a:pt x="432" y="31"/>
                    </a:lnTo>
                    <a:lnTo>
                      <a:pt x="417" y="22"/>
                    </a:lnTo>
                    <a:lnTo>
                      <a:pt x="400" y="15"/>
                    </a:lnTo>
                    <a:lnTo>
                      <a:pt x="384" y="8"/>
                    </a:lnTo>
                    <a:lnTo>
                      <a:pt x="367" y="4"/>
                    </a:lnTo>
                    <a:lnTo>
                      <a:pt x="350" y="1"/>
                    </a:lnTo>
                    <a:lnTo>
                      <a:pt x="333" y="0"/>
                    </a:lnTo>
                    <a:lnTo>
                      <a:pt x="315" y="0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2932200" y="4740120"/>
                <a:ext cx="450720" cy="884520"/>
              </a:xfrm>
              <a:custGeom>
                <a:avLst/>
                <a:gdLst/>
                <a:ahLst/>
                <a:rect l="l" t="t" r="r" b="b"/>
                <a:pathLst>
                  <a:path w="1418" h="2785">
                    <a:moveTo>
                      <a:pt x="650" y="3"/>
                    </a:moveTo>
                    <a:lnTo>
                      <a:pt x="667" y="1"/>
                    </a:lnTo>
                    <a:lnTo>
                      <a:pt x="683" y="0"/>
                    </a:lnTo>
                    <a:lnTo>
                      <a:pt x="699" y="0"/>
                    </a:lnTo>
                    <a:lnTo>
                      <a:pt x="716" y="0"/>
                    </a:lnTo>
                    <a:lnTo>
                      <a:pt x="732" y="1"/>
                    </a:lnTo>
                    <a:lnTo>
                      <a:pt x="748" y="3"/>
                    </a:lnTo>
                    <a:lnTo>
                      <a:pt x="764" y="6"/>
                    </a:lnTo>
                    <a:lnTo>
                      <a:pt x="780" y="8"/>
                    </a:lnTo>
                    <a:lnTo>
                      <a:pt x="796" y="12"/>
                    </a:lnTo>
                    <a:lnTo>
                      <a:pt x="812" y="17"/>
                    </a:lnTo>
                    <a:lnTo>
                      <a:pt x="828" y="22"/>
                    </a:lnTo>
                    <a:lnTo>
                      <a:pt x="843" y="28"/>
                    </a:lnTo>
                    <a:lnTo>
                      <a:pt x="859" y="34"/>
                    </a:lnTo>
                    <a:lnTo>
                      <a:pt x="874" y="41"/>
                    </a:lnTo>
                    <a:lnTo>
                      <a:pt x="890" y="49"/>
                    </a:lnTo>
                    <a:lnTo>
                      <a:pt x="906" y="57"/>
                    </a:lnTo>
                    <a:lnTo>
                      <a:pt x="921" y="66"/>
                    </a:lnTo>
                    <a:lnTo>
                      <a:pt x="936" y="77"/>
                    </a:lnTo>
                    <a:lnTo>
                      <a:pt x="952" y="88"/>
                    </a:lnTo>
                    <a:lnTo>
                      <a:pt x="967" y="98"/>
                    </a:lnTo>
                    <a:lnTo>
                      <a:pt x="982" y="110"/>
                    </a:lnTo>
                    <a:lnTo>
                      <a:pt x="996" y="122"/>
                    </a:lnTo>
                    <a:lnTo>
                      <a:pt x="1011" y="136"/>
                    </a:lnTo>
                    <a:lnTo>
                      <a:pt x="1025" y="149"/>
                    </a:lnTo>
                    <a:lnTo>
                      <a:pt x="1038" y="164"/>
                    </a:lnTo>
                    <a:lnTo>
                      <a:pt x="1053" y="179"/>
                    </a:lnTo>
                    <a:lnTo>
                      <a:pt x="1066" y="195"/>
                    </a:lnTo>
                    <a:lnTo>
                      <a:pt x="1079" y="211"/>
                    </a:lnTo>
                    <a:lnTo>
                      <a:pt x="1092" y="227"/>
                    </a:lnTo>
                    <a:lnTo>
                      <a:pt x="1105" y="245"/>
                    </a:lnTo>
                    <a:lnTo>
                      <a:pt x="1118" y="263"/>
                    </a:lnTo>
                    <a:lnTo>
                      <a:pt x="1130" y="282"/>
                    </a:lnTo>
                    <a:lnTo>
                      <a:pt x="1147" y="308"/>
                    </a:lnTo>
                    <a:lnTo>
                      <a:pt x="1163" y="335"/>
                    </a:lnTo>
                    <a:lnTo>
                      <a:pt x="1178" y="361"/>
                    </a:lnTo>
                    <a:lnTo>
                      <a:pt x="1194" y="389"/>
                    </a:lnTo>
                    <a:lnTo>
                      <a:pt x="1208" y="417"/>
                    </a:lnTo>
                    <a:lnTo>
                      <a:pt x="1222" y="447"/>
                    </a:lnTo>
                    <a:lnTo>
                      <a:pt x="1236" y="475"/>
                    </a:lnTo>
                    <a:lnTo>
                      <a:pt x="1250" y="506"/>
                    </a:lnTo>
                    <a:lnTo>
                      <a:pt x="1263" y="537"/>
                    </a:lnTo>
                    <a:lnTo>
                      <a:pt x="1275" y="568"/>
                    </a:lnTo>
                    <a:lnTo>
                      <a:pt x="1286" y="600"/>
                    </a:lnTo>
                    <a:lnTo>
                      <a:pt x="1299" y="632"/>
                    </a:lnTo>
                    <a:lnTo>
                      <a:pt x="1310" y="666"/>
                    </a:lnTo>
                    <a:lnTo>
                      <a:pt x="1320" y="700"/>
                    </a:lnTo>
                    <a:lnTo>
                      <a:pt x="1330" y="734"/>
                    </a:lnTo>
                    <a:lnTo>
                      <a:pt x="1340" y="770"/>
                    </a:lnTo>
                    <a:lnTo>
                      <a:pt x="1349" y="806"/>
                    </a:lnTo>
                    <a:lnTo>
                      <a:pt x="1357" y="843"/>
                    </a:lnTo>
                    <a:lnTo>
                      <a:pt x="1365" y="879"/>
                    </a:lnTo>
                    <a:lnTo>
                      <a:pt x="1372" y="916"/>
                    </a:lnTo>
                    <a:lnTo>
                      <a:pt x="1379" y="954"/>
                    </a:lnTo>
                    <a:lnTo>
                      <a:pt x="1386" y="991"/>
                    </a:lnTo>
                    <a:lnTo>
                      <a:pt x="1392" y="1029"/>
                    </a:lnTo>
                    <a:lnTo>
                      <a:pt x="1397" y="1067"/>
                    </a:lnTo>
                    <a:lnTo>
                      <a:pt x="1401" y="1106"/>
                    </a:lnTo>
                    <a:lnTo>
                      <a:pt x="1405" y="1144"/>
                    </a:lnTo>
                    <a:lnTo>
                      <a:pt x="1409" y="1184"/>
                    </a:lnTo>
                    <a:lnTo>
                      <a:pt x="1412" y="1223"/>
                    </a:lnTo>
                    <a:lnTo>
                      <a:pt x="1414" y="1263"/>
                    </a:lnTo>
                    <a:lnTo>
                      <a:pt x="1416" y="1303"/>
                    </a:lnTo>
                    <a:lnTo>
                      <a:pt x="1417" y="1343"/>
                    </a:lnTo>
                    <a:lnTo>
                      <a:pt x="1418" y="1384"/>
                    </a:lnTo>
                    <a:lnTo>
                      <a:pt x="1418" y="1424"/>
                    </a:lnTo>
                    <a:lnTo>
                      <a:pt x="1417" y="1465"/>
                    </a:lnTo>
                    <a:lnTo>
                      <a:pt x="1416" y="1506"/>
                    </a:lnTo>
                    <a:lnTo>
                      <a:pt x="1415" y="1545"/>
                    </a:lnTo>
                    <a:lnTo>
                      <a:pt x="1413" y="1585"/>
                    </a:lnTo>
                    <a:lnTo>
                      <a:pt x="1410" y="1624"/>
                    </a:lnTo>
                    <a:lnTo>
                      <a:pt x="1407" y="1663"/>
                    </a:lnTo>
                    <a:lnTo>
                      <a:pt x="1403" y="1701"/>
                    </a:lnTo>
                    <a:lnTo>
                      <a:pt x="1399" y="1740"/>
                    </a:lnTo>
                    <a:lnTo>
                      <a:pt x="1394" y="1779"/>
                    </a:lnTo>
                    <a:lnTo>
                      <a:pt x="1388" y="1817"/>
                    </a:lnTo>
                    <a:lnTo>
                      <a:pt x="1381" y="1854"/>
                    </a:lnTo>
                    <a:lnTo>
                      <a:pt x="1375" y="1892"/>
                    </a:lnTo>
                    <a:lnTo>
                      <a:pt x="1368" y="1929"/>
                    </a:lnTo>
                    <a:lnTo>
                      <a:pt x="1360" y="1966"/>
                    </a:lnTo>
                    <a:lnTo>
                      <a:pt x="1352" y="2002"/>
                    </a:lnTo>
                    <a:lnTo>
                      <a:pt x="1343" y="2039"/>
                    </a:lnTo>
                    <a:lnTo>
                      <a:pt x="1333" y="2074"/>
                    </a:lnTo>
                    <a:lnTo>
                      <a:pt x="1323" y="2108"/>
                    </a:lnTo>
                    <a:lnTo>
                      <a:pt x="1313" y="2142"/>
                    </a:lnTo>
                    <a:lnTo>
                      <a:pt x="1302" y="2176"/>
                    </a:lnTo>
                    <a:lnTo>
                      <a:pt x="1291" y="2208"/>
                    </a:lnTo>
                    <a:lnTo>
                      <a:pt x="1278" y="2241"/>
                    </a:lnTo>
                    <a:lnTo>
                      <a:pt x="1266" y="2272"/>
                    </a:lnTo>
                    <a:lnTo>
                      <a:pt x="1254" y="2302"/>
                    </a:lnTo>
                    <a:lnTo>
                      <a:pt x="1241" y="2333"/>
                    </a:lnTo>
                    <a:lnTo>
                      <a:pt x="1226" y="2362"/>
                    </a:lnTo>
                    <a:lnTo>
                      <a:pt x="1212" y="2391"/>
                    </a:lnTo>
                    <a:lnTo>
                      <a:pt x="1198" y="2418"/>
                    </a:lnTo>
                    <a:lnTo>
                      <a:pt x="1182" y="2446"/>
                    </a:lnTo>
                    <a:lnTo>
                      <a:pt x="1167" y="2474"/>
                    </a:lnTo>
                    <a:lnTo>
                      <a:pt x="1152" y="2499"/>
                    </a:lnTo>
                    <a:lnTo>
                      <a:pt x="1138" y="2518"/>
                    </a:lnTo>
                    <a:lnTo>
                      <a:pt x="1126" y="2538"/>
                    </a:lnTo>
                    <a:lnTo>
                      <a:pt x="1114" y="2555"/>
                    </a:lnTo>
                    <a:lnTo>
                      <a:pt x="1101" y="2572"/>
                    </a:lnTo>
                    <a:lnTo>
                      <a:pt x="1087" y="2589"/>
                    </a:lnTo>
                    <a:lnTo>
                      <a:pt x="1074" y="2605"/>
                    </a:lnTo>
                    <a:lnTo>
                      <a:pt x="1061" y="2620"/>
                    </a:lnTo>
                    <a:lnTo>
                      <a:pt x="1047" y="2635"/>
                    </a:lnTo>
                    <a:lnTo>
                      <a:pt x="1032" y="2649"/>
                    </a:lnTo>
                    <a:lnTo>
                      <a:pt x="1019" y="2662"/>
                    </a:lnTo>
                    <a:lnTo>
                      <a:pt x="1004" y="2674"/>
                    </a:lnTo>
                    <a:lnTo>
                      <a:pt x="989" y="2687"/>
                    </a:lnTo>
                    <a:lnTo>
                      <a:pt x="974" y="2698"/>
                    </a:lnTo>
                    <a:lnTo>
                      <a:pt x="959" y="2709"/>
                    </a:lnTo>
                    <a:lnTo>
                      <a:pt x="943" y="2719"/>
                    </a:lnTo>
                    <a:lnTo>
                      <a:pt x="928" y="2729"/>
                    </a:lnTo>
                    <a:lnTo>
                      <a:pt x="913" y="2737"/>
                    </a:lnTo>
                    <a:lnTo>
                      <a:pt x="897" y="2745"/>
                    </a:lnTo>
                    <a:lnTo>
                      <a:pt x="882" y="2752"/>
                    </a:lnTo>
                    <a:lnTo>
                      <a:pt x="866" y="2758"/>
                    </a:lnTo>
                    <a:lnTo>
                      <a:pt x="850" y="2764"/>
                    </a:lnTo>
                    <a:lnTo>
                      <a:pt x="835" y="2769"/>
                    </a:lnTo>
                    <a:lnTo>
                      <a:pt x="819" y="2773"/>
                    </a:lnTo>
                    <a:lnTo>
                      <a:pt x="802" y="2776"/>
                    </a:lnTo>
                    <a:lnTo>
                      <a:pt x="787" y="2780"/>
                    </a:lnTo>
                    <a:lnTo>
                      <a:pt x="771" y="2783"/>
                    </a:lnTo>
                    <a:lnTo>
                      <a:pt x="754" y="2784"/>
                    </a:lnTo>
                    <a:lnTo>
                      <a:pt x="738" y="2785"/>
                    </a:lnTo>
                    <a:lnTo>
                      <a:pt x="722" y="2785"/>
                    </a:lnTo>
                    <a:lnTo>
                      <a:pt x="705" y="2785"/>
                    </a:lnTo>
                    <a:lnTo>
                      <a:pt x="688" y="2783"/>
                    </a:lnTo>
                    <a:lnTo>
                      <a:pt x="672" y="2782"/>
                    </a:lnTo>
                    <a:lnTo>
                      <a:pt x="655" y="2779"/>
                    </a:lnTo>
                    <a:lnTo>
                      <a:pt x="639" y="2775"/>
                    </a:lnTo>
                    <a:lnTo>
                      <a:pt x="624" y="2771"/>
                    </a:lnTo>
                    <a:lnTo>
                      <a:pt x="607" y="2767"/>
                    </a:lnTo>
                    <a:lnTo>
                      <a:pt x="592" y="2762"/>
                    </a:lnTo>
                    <a:lnTo>
                      <a:pt x="576" y="2756"/>
                    </a:lnTo>
                    <a:lnTo>
                      <a:pt x="560" y="2750"/>
                    </a:lnTo>
                    <a:lnTo>
                      <a:pt x="545" y="2743"/>
                    </a:lnTo>
                    <a:lnTo>
                      <a:pt x="530" y="2736"/>
                    </a:lnTo>
                    <a:lnTo>
                      <a:pt x="514" y="2728"/>
                    </a:lnTo>
                    <a:lnTo>
                      <a:pt x="499" y="2718"/>
                    </a:lnTo>
                    <a:lnTo>
                      <a:pt x="484" y="2709"/>
                    </a:lnTo>
                    <a:lnTo>
                      <a:pt x="470" y="2699"/>
                    </a:lnTo>
                    <a:lnTo>
                      <a:pt x="455" y="2688"/>
                    </a:lnTo>
                    <a:lnTo>
                      <a:pt x="440" y="2677"/>
                    </a:lnTo>
                    <a:lnTo>
                      <a:pt x="426" y="2664"/>
                    </a:lnTo>
                    <a:lnTo>
                      <a:pt x="398" y="2640"/>
                    </a:lnTo>
                    <a:lnTo>
                      <a:pt x="371" y="2612"/>
                    </a:lnTo>
                    <a:lnTo>
                      <a:pt x="345" y="2583"/>
                    </a:lnTo>
                    <a:lnTo>
                      <a:pt x="319" y="2551"/>
                    </a:lnTo>
                    <a:lnTo>
                      <a:pt x="295" y="2517"/>
                    </a:lnTo>
                    <a:lnTo>
                      <a:pt x="271" y="2482"/>
                    </a:lnTo>
                    <a:lnTo>
                      <a:pt x="249" y="2444"/>
                    </a:lnTo>
                    <a:lnTo>
                      <a:pt x="226" y="2403"/>
                    </a:lnTo>
                    <a:lnTo>
                      <a:pt x="213" y="2378"/>
                    </a:lnTo>
                    <a:lnTo>
                      <a:pt x="200" y="2350"/>
                    </a:lnTo>
                    <a:lnTo>
                      <a:pt x="188" y="2324"/>
                    </a:lnTo>
                    <a:lnTo>
                      <a:pt x="175" y="2296"/>
                    </a:lnTo>
                    <a:lnTo>
                      <a:pt x="163" y="2267"/>
                    </a:lnTo>
                    <a:lnTo>
                      <a:pt x="152" y="2239"/>
                    </a:lnTo>
                    <a:lnTo>
                      <a:pt x="141" y="2210"/>
                    </a:lnTo>
                    <a:lnTo>
                      <a:pt x="130" y="2181"/>
                    </a:lnTo>
                    <a:lnTo>
                      <a:pt x="110" y="2121"/>
                    </a:lnTo>
                    <a:lnTo>
                      <a:pt x="92" y="2058"/>
                    </a:lnTo>
                    <a:lnTo>
                      <a:pt x="75" y="1994"/>
                    </a:lnTo>
                    <a:lnTo>
                      <a:pt x="59" y="1929"/>
                    </a:lnTo>
                    <a:lnTo>
                      <a:pt x="46" y="1863"/>
                    </a:lnTo>
                    <a:lnTo>
                      <a:pt x="33" y="1795"/>
                    </a:lnTo>
                    <a:lnTo>
                      <a:pt x="23" y="1728"/>
                    </a:lnTo>
                    <a:lnTo>
                      <a:pt x="15" y="1660"/>
                    </a:lnTo>
                    <a:lnTo>
                      <a:pt x="9" y="1590"/>
                    </a:lnTo>
                    <a:lnTo>
                      <a:pt x="4" y="1521"/>
                    </a:lnTo>
                    <a:lnTo>
                      <a:pt x="1" y="1449"/>
                    </a:lnTo>
                    <a:lnTo>
                      <a:pt x="0" y="1378"/>
                    </a:lnTo>
                    <a:lnTo>
                      <a:pt x="0" y="1307"/>
                    </a:lnTo>
                    <a:lnTo>
                      <a:pt x="2" y="1236"/>
                    </a:lnTo>
                    <a:lnTo>
                      <a:pt x="6" y="1167"/>
                    </a:lnTo>
                    <a:lnTo>
                      <a:pt x="12" y="1099"/>
                    </a:lnTo>
                    <a:lnTo>
                      <a:pt x="19" y="1030"/>
                    </a:lnTo>
                    <a:lnTo>
                      <a:pt x="28" y="964"/>
                    </a:lnTo>
                    <a:lnTo>
                      <a:pt x="40" y="898"/>
                    </a:lnTo>
                    <a:lnTo>
                      <a:pt x="53" y="832"/>
                    </a:lnTo>
                    <a:lnTo>
                      <a:pt x="68" y="768"/>
                    </a:lnTo>
                    <a:lnTo>
                      <a:pt x="85" y="706"/>
                    </a:lnTo>
                    <a:lnTo>
                      <a:pt x="93" y="675"/>
                    </a:lnTo>
                    <a:lnTo>
                      <a:pt x="102" y="645"/>
                    </a:lnTo>
                    <a:lnTo>
                      <a:pt x="111" y="615"/>
                    </a:lnTo>
                    <a:lnTo>
                      <a:pt x="121" y="587"/>
                    </a:lnTo>
                    <a:lnTo>
                      <a:pt x="131" y="558"/>
                    </a:lnTo>
                    <a:lnTo>
                      <a:pt x="142" y="529"/>
                    </a:lnTo>
                    <a:lnTo>
                      <a:pt x="153" y="501"/>
                    </a:lnTo>
                    <a:lnTo>
                      <a:pt x="164" y="474"/>
                    </a:lnTo>
                    <a:lnTo>
                      <a:pt x="176" y="447"/>
                    </a:lnTo>
                    <a:lnTo>
                      <a:pt x="189" y="420"/>
                    </a:lnTo>
                    <a:lnTo>
                      <a:pt x="201" y="394"/>
                    </a:lnTo>
                    <a:lnTo>
                      <a:pt x="214" y="368"/>
                    </a:lnTo>
                    <a:lnTo>
                      <a:pt x="236" y="329"/>
                    </a:lnTo>
                    <a:lnTo>
                      <a:pt x="258" y="292"/>
                    </a:lnTo>
                    <a:lnTo>
                      <a:pt x="282" y="257"/>
                    </a:lnTo>
                    <a:lnTo>
                      <a:pt x="305" y="224"/>
                    </a:lnTo>
                    <a:lnTo>
                      <a:pt x="330" y="194"/>
                    </a:lnTo>
                    <a:lnTo>
                      <a:pt x="355" y="165"/>
                    </a:lnTo>
                    <a:lnTo>
                      <a:pt x="382" y="139"/>
                    </a:lnTo>
                    <a:lnTo>
                      <a:pt x="408" y="114"/>
                    </a:lnTo>
                    <a:lnTo>
                      <a:pt x="423" y="103"/>
                    </a:lnTo>
                    <a:lnTo>
                      <a:pt x="437" y="92"/>
                    </a:lnTo>
                    <a:lnTo>
                      <a:pt x="451" y="82"/>
                    </a:lnTo>
                    <a:lnTo>
                      <a:pt x="465" y="71"/>
                    </a:lnTo>
                    <a:lnTo>
                      <a:pt x="480" y="62"/>
                    </a:lnTo>
                    <a:lnTo>
                      <a:pt x="495" y="54"/>
                    </a:lnTo>
                    <a:lnTo>
                      <a:pt x="509" y="46"/>
                    </a:lnTo>
                    <a:lnTo>
                      <a:pt x="525" y="39"/>
                    </a:lnTo>
                    <a:lnTo>
                      <a:pt x="540" y="33"/>
                    </a:lnTo>
                    <a:lnTo>
                      <a:pt x="555" y="27"/>
                    </a:lnTo>
                    <a:lnTo>
                      <a:pt x="571" y="21"/>
                    </a:lnTo>
                    <a:lnTo>
                      <a:pt x="587" y="16"/>
                    </a:lnTo>
                    <a:lnTo>
                      <a:pt x="602" y="12"/>
                    </a:lnTo>
                    <a:lnTo>
                      <a:pt x="618" y="8"/>
                    </a:lnTo>
                    <a:lnTo>
                      <a:pt x="634" y="5"/>
                    </a:lnTo>
                    <a:lnTo>
                      <a:pt x="650" y="3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459240" y="5405400"/>
                <a:ext cx="135000" cy="254160"/>
              </a:xfrm>
              <a:custGeom>
                <a:avLst/>
                <a:gdLst/>
                <a:ahLst/>
                <a:rect l="l" t="t" r="r" b="b"/>
                <a:pathLst>
                  <a:path w="425" h="801">
                    <a:moveTo>
                      <a:pt x="8" y="747"/>
                    </a:moveTo>
                    <a:lnTo>
                      <a:pt x="7" y="654"/>
                    </a:lnTo>
                    <a:lnTo>
                      <a:pt x="6" y="560"/>
                    </a:lnTo>
                    <a:lnTo>
                      <a:pt x="5" y="467"/>
                    </a:lnTo>
                    <a:lnTo>
                      <a:pt x="4" y="373"/>
                    </a:lnTo>
                    <a:lnTo>
                      <a:pt x="3" y="281"/>
                    </a:lnTo>
                    <a:lnTo>
                      <a:pt x="2" y="187"/>
                    </a:lnTo>
                    <a:lnTo>
                      <a:pt x="1" y="94"/>
                    </a:lnTo>
                    <a:lnTo>
                      <a:pt x="0" y="0"/>
                    </a:lnTo>
                    <a:lnTo>
                      <a:pt x="51" y="3"/>
                    </a:lnTo>
                    <a:lnTo>
                      <a:pt x="102" y="7"/>
                    </a:lnTo>
                    <a:lnTo>
                      <a:pt x="153" y="10"/>
                    </a:lnTo>
                    <a:lnTo>
                      <a:pt x="204" y="13"/>
                    </a:lnTo>
                    <a:lnTo>
                      <a:pt x="257" y="16"/>
                    </a:lnTo>
                    <a:lnTo>
                      <a:pt x="309" y="20"/>
                    </a:lnTo>
                    <a:lnTo>
                      <a:pt x="362" y="23"/>
                    </a:lnTo>
                    <a:lnTo>
                      <a:pt x="415" y="27"/>
                    </a:lnTo>
                    <a:lnTo>
                      <a:pt x="416" y="123"/>
                    </a:lnTo>
                    <a:lnTo>
                      <a:pt x="418" y="220"/>
                    </a:lnTo>
                    <a:lnTo>
                      <a:pt x="419" y="316"/>
                    </a:lnTo>
                    <a:lnTo>
                      <a:pt x="420" y="413"/>
                    </a:lnTo>
                    <a:lnTo>
                      <a:pt x="421" y="510"/>
                    </a:lnTo>
                    <a:lnTo>
                      <a:pt x="423" y="607"/>
                    </a:lnTo>
                    <a:lnTo>
                      <a:pt x="424" y="704"/>
                    </a:lnTo>
                    <a:lnTo>
                      <a:pt x="425" y="801"/>
                    </a:lnTo>
                    <a:lnTo>
                      <a:pt x="371" y="794"/>
                    </a:lnTo>
                    <a:lnTo>
                      <a:pt x="319" y="786"/>
                    </a:lnTo>
                    <a:lnTo>
                      <a:pt x="267" y="780"/>
                    </a:lnTo>
                    <a:lnTo>
                      <a:pt x="215" y="773"/>
                    </a:lnTo>
                    <a:lnTo>
                      <a:pt x="163" y="767"/>
                    </a:lnTo>
                    <a:lnTo>
                      <a:pt x="112" y="760"/>
                    </a:lnTo>
                    <a:lnTo>
                      <a:pt x="59" y="754"/>
                    </a:lnTo>
                    <a:lnTo>
                      <a:pt x="8" y="747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451320" y="4711680"/>
                <a:ext cx="137880" cy="646200"/>
              </a:xfrm>
              <a:custGeom>
                <a:avLst/>
                <a:gdLst/>
                <a:ahLst/>
                <a:rect l="l" t="t" r="r" b="b"/>
                <a:pathLst>
                  <a:path w="437" h="2034">
                    <a:moveTo>
                      <a:pt x="22" y="2013"/>
                    </a:moveTo>
                    <a:lnTo>
                      <a:pt x="21" y="1889"/>
                    </a:lnTo>
                    <a:lnTo>
                      <a:pt x="20" y="1766"/>
                    </a:lnTo>
                    <a:lnTo>
                      <a:pt x="18" y="1642"/>
                    </a:lnTo>
                    <a:lnTo>
                      <a:pt x="17" y="1519"/>
                    </a:lnTo>
                    <a:lnTo>
                      <a:pt x="15" y="1396"/>
                    </a:lnTo>
                    <a:lnTo>
                      <a:pt x="14" y="1272"/>
                    </a:lnTo>
                    <a:lnTo>
                      <a:pt x="13" y="1149"/>
                    </a:lnTo>
                    <a:lnTo>
                      <a:pt x="11" y="1026"/>
                    </a:lnTo>
                    <a:lnTo>
                      <a:pt x="10" y="903"/>
                    </a:lnTo>
                    <a:lnTo>
                      <a:pt x="8" y="781"/>
                    </a:lnTo>
                    <a:lnTo>
                      <a:pt x="7" y="659"/>
                    </a:lnTo>
                    <a:lnTo>
                      <a:pt x="5" y="537"/>
                    </a:lnTo>
                    <a:lnTo>
                      <a:pt x="4" y="414"/>
                    </a:lnTo>
                    <a:lnTo>
                      <a:pt x="3" y="293"/>
                    </a:lnTo>
                    <a:lnTo>
                      <a:pt x="1" y="171"/>
                    </a:lnTo>
                    <a:lnTo>
                      <a:pt x="0" y="49"/>
                    </a:lnTo>
                    <a:lnTo>
                      <a:pt x="50" y="43"/>
                    </a:lnTo>
                    <a:lnTo>
                      <a:pt x="100" y="37"/>
                    </a:lnTo>
                    <a:lnTo>
                      <a:pt x="151" y="31"/>
                    </a:lnTo>
                    <a:lnTo>
                      <a:pt x="201" y="25"/>
                    </a:lnTo>
                    <a:lnTo>
                      <a:pt x="252" y="19"/>
                    </a:lnTo>
                    <a:lnTo>
                      <a:pt x="304" y="12"/>
                    </a:lnTo>
                    <a:lnTo>
                      <a:pt x="356" y="6"/>
                    </a:lnTo>
                    <a:lnTo>
                      <a:pt x="409" y="0"/>
                    </a:lnTo>
                    <a:lnTo>
                      <a:pt x="410" y="127"/>
                    </a:lnTo>
                    <a:lnTo>
                      <a:pt x="412" y="252"/>
                    </a:lnTo>
                    <a:lnTo>
                      <a:pt x="413" y="379"/>
                    </a:lnTo>
                    <a:lnTo>
                      <a:pt x="415" y="505"/>
                    </a:lnTo>
                    <a:lnTo>
                      <a:pt x="416" y="632"/>
                    </a:lnTo>
                    <a:lnTo>
                      <a:pt x="418" y="758"/>
                    </a:lnTo>
                    <a:lnTo>
                      <a:pt x="420" y="885"/>
                    </a:lnTo>
                    <a:lnTo>
                      <a:pt x="422" y="1012"/>
                    </a:lnTo>
                    <a:lnTo>
                      <a:pt x="423" y="1140"/>
                    </a:lnTo>
                    <a:lnTo>
                      <a:pt x="426" y="1266"/>
                    </a:lnTo>
                    <a:lnTo>
                      <a:pt x="428" y="1395"/>
                    </a:lnTo>
                    <a:lnTo>
                      <a:pt x="430" y="1522"/>
                    </a:lnTo>
                    <a:lnTo>
                      <a:pt x="432" y="1650"/>
                    </a:lnTo>
                    <a:lnTo>
                      <a:pt x="433" y="1778"/>
                    </a:lnTo>
                    <a:lnTo>
                      <a:pt x="435" y="1906"/>
                    </a:lnTo>
                    <a:lnTo>
                      <a:pt x="437" y="2034"/>
                    </a:lnTo>
                    <a:lnTo>
                      <a:pt x="384" y="2031"/>
                    </a:lnTo>
                    <a:lnTo>
                      <a:pt x="331" y="2028"/>
                    </a:lnTo>
                    <a:lnTo>
                      <a:pt x="278" y="2026"/>
                    </a:lnTo>
                    <a:lnTo>
                      <a:pt x="226" y="2023"/>
                    </a:lnTo>
                    <a:lnTo>
                      <a:pt x="175" y="2021"/>
                    </a:lnTo>
                    <a:lnTo>
                      <a:pt x="124" y="2018"/>
                    </a:lnTo>
                    <a:lnTo>
                      <a:pt x="73" y="2016"/>
                    </a:lnTo>
                    <a:lnTo>
                      <a:pt x="22" y="2013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2658960" y="4792680"/>
                <a:ext cx="3240" cy="711360"/>
              </a:xfrm>
              <a:custGeom>
                <a:avLst/>
                <a:gdLst/>
                <a:ahLst/>
                <a:rect l="l" t="t" r="r" b="b"/>
                <a:pathLst>
                  <a:path w="10" h="2240">
                    <a:moveTo>
                      <a:pt x="10" y="0"/>
                    </a:moveTo>
                    <a:lnTo>
                      <a:pt x="10" y="2240"/>
                    </a:lnTo>
                    <a:lnTo>
                      <a:pt x="9" y="2240"/>
                    </a:lnTo>
                    <a:lnTo>
                      <a:pt x="8" y="2240"/>
                    </a:lnTo>
                    <a:lnTo>
                      <a:pt x="6" y="2240"/>
                    </a:lnTo>
                    <a:lnTo>
                      <a:pt x="6" y="2239"/>
                    </a:lnTo>
                    <a:lnTo>
                      <a:pt x="4" y="2239"/>
                    </a:lnTo>
                    <a:lnTo>
                      <a:pt x="3" y="2239"/>
                    </a:lnTo>
                    <a:lnTo>
                      <a:pt x="2" y="2239"/>
                    </a:lnTo>
                    <a:lnTo>
                      <a:pt x="1" y="2239"/>
                    </a:lnTo>
                    <a:lnTo>
                      <a:pt x="1" y="2098"/>
                    </a:lnTo>
                    <a:lnTo>
                      <a:pt x="1" y="1957"/>
                    </a:lnTo>
                    <a:lnTo>
                      <a:pt x="1" y="1817"/>
                    </a:lnTo>
                    <a:lnTo>
                      <a:pt x="1" y="1676"/>
                    </a:lnTo>
                    <a:lnTo>
                      <a:pt x="0" y="1535"/>
                    </a:lnTo>
                    <a:lnTo>
                      <a:pt x="0" y="1395"/>
                    </a:lnTo>
                    <a:lnTo>
                      <a:pt x="0" y="1255"/>
                    </a:lnTo>
                    <a:lnTo>
                      <a:pt x="0" y="1114"/>
                    </a:lnTo>
                    <a:lnTo>
                      <a:pt x="0" y="974"/>
                    </a:lnTo>
                    <a:lnTo>
                      <a:pt x="1" y="836"/>
                    </a:lnTo>
                    <a:lnTo>
                      <a:pt x="1" y="696"/>
                    </a:lnTo>
                    <a:lnTo>
                      <a:pt x="1" y="557"/>
                    </a:lnTo>
                    <a:lnTo>
                      <a:pt x="1" y="417"/>
                    </a:lnTo>
                    <a:lnTo>
                      <a:pt x="1" y="279"/>
                    </a:lnTo>
                    <a:lnTo>
                      <a:pt x="1" y="14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2658960" y="4791240"/>
                <a:ext cx="17640" cy="714240"/>
              </a:xfrm>
              <a:custGeom>
                <a:avLst/>
                <a:gdLst/>
                <a:ahLst/>
                <a:rect l="l" t="t" r="r" b="b"/>
                <a:pathLst>
                  <a:path w="57" h="2252">
                    <a:moveTo>
                      <a:pt x="57" y="0"/>
                    </a:moveTo>
                    <a:lnTo>
                      <a:pt x="57" y="2252"/>
                    </a:lnTo>
                    <a:lnTo>
                      <a:pt x="50" y="2251"/>
                    </a:lnTo>
                    <a:lnTo>
                      <a:pt x="43" y="2250"/>
                    </a:lnTo>
                    <a:lnTo>
                      <a:pt x="36" y="2249"/>
                    </a:lnTo>
                    <a:lnTo>
                      <a:pt x="28" y="2248"/>
                    </a:lnTo>
                    <a:lnTo>
                      <a:pt x="22" y="2248"/>
                    </a:lnTo>
                    <a:lnTo>
                      <a:pt x="15" y="2247"/>
                    </a:lnTo>
                    <a:lnTo>
                      <a:pt x="8" y="2246"/>
                    </a:lnTo>
                    <a:lnTo>
                      <a:pt x="1" y="2245"/>
                    </a:lnTo>
                    <a:lnTo>
                      <a:pt x="1" y="2104"/>
                    </a:lnTo>
                    <a:lnTo>
                      <a:pt x="1" y="1963"/>
                    </a:lnTo>
                    <a:lnTo>
                      <a:pt x="1" y="1823"/>
                    </a:lnTo>
                    <a:lnTo>
                      <a:pt x="1" y="1682"/>
                    </a:lnTo>
                    <a:lnTo>
                      <a:pt x="0" y="1541"/>
                    </a:lnTo>
                    <a:lnTo>
                      <a:pt x="0" y="1401"/>
                    </a:lnTo>
                    <a:lnTo>
                      <a:pt x="0" y="1261"/>
                    </a:lnTo>
                    <a:lnTo>
                      <a:pt x="0" y="1120"/>
                    </a:lnTo>
                    <a:lnTo>
                      <a:pt x="0" y="980"/>
                    </a:lnTo>
                    <a:lnTo>
                      <a:pt x="1" y="842"/>
                    </a:lnTo>
                    <a:lnTo>
                      <a:pt x="1" y="702"/>
                    </a:lnTo>
                    <a:lnTo>
                      <a:pt x="1" y="563"/>
                    </a:lnTo>
                    <a:lnTo>
                      <a:pt x="1" y="423"/>
                    </a:lnTo>
                    <a:lnTo>
                      <a:pt x="1" y="285"/>
                    </a:lnTo>
                    <a:lnTo>
                      <a:pt x="1" y="146"/>
                    </a:lnTo>
                    <a:lnTo>
                      <a:pt x="1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2662200" y="4789440"/>
                <a:ext cx="28440" cy="717480"/>
              </a:xfrm>
              <a:custGeom>
                <a:avLst/>
                <a:gdLst/>
                <a:ahLst/>
                <a:rect l="l" t="t" r="r" b="b"/>
                <a:pathLst>
                  <a:path w="93" h="2263">
                    <a:moveTo>
                      <a:pt x="0" y="2251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2263"/>
                    </a:lnTo>
                    <a:lnTo>
                      <a:pt x="82" y="2262"/>
                    </a:lnTo>
                    <a:lnTo>
                      <a:pt x="69" y="2260"/>
                    </a:lnTo>
                    <a:lnTo>
                      <a:pt x="58" y="2259"/>
                    </a:lnTo>
                    <a:lnTo>
                      <a:pt x="46" y="2257"/>
                    </a:lnTo>
                    <a:lnTo>
                      <a:pt x="35" y="2256"/>
                    </a:lnTo>
                    <a:lnTo>
                      <a:pt x="23" y="2254"/>
                    </a:lnTo>
                    <a:lnTo>
                      <a:pt x="11" y="2253"/>
                    </a:lnTo>
                    <a:lnTo>
                      <a:pt x="0" y="225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2676600" y="4788000"/>
                <a:ext cx="30240" cy="720720"/>
              </a:xfrm>
              <a:custGeom>
                <a:avLst/>
                <a:gdLst/>
                <a:ahLst/>
                <a:rect l="l" t="t" r="r" b="b"/>
                <a:pathLst>
                  <a:path w="93" h="2270">
                    <a:moveTo>
                      <a:pt x="0" y="2258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9" y="3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1" y="10"/>
                    </a:lnTo>
                    <a:lnTo>
                      <a:pt x="66" y="21"/>
                    </a:lnTo>
                    <a:lnTo>
                      <a:pt x="70" y="33"/>
                    </a:lnTo>
                    <a:lnTo>
                      <a:pt x="75" y="44"/>
                    </a:lnTo>
                    <a:lnTo>
                      <a:pt x="80" y="55"/>
                    </a:lnTo>
                    <a:lnTo>
                      <a:pt x="84" y="66"/>
                    </a:lnTo>
                    <a:lnTo>
                      <a:pt x="89" y="77"/>
                    </a:lnTo>
                    <a:lnTo>
                      <a:pt x="93" y="88"/>
                    </a:lnTo>
                    <a:lnTo>
                      <a:pt x="93" y="2270"/>
                    </a:lnTo>
                    <a:lnTo>
                      <a:pt x="82" y="2268"/>
                    </a:lnTo>
                    <a:lnTo>
                      <a:pt x="69" y="2267"/>
                    </a:lnTo>
                    <a:lnTo>
                      <a:pt x="58" y="2265"/>
                    </a:lnTo>
                    <a:lnTo>
                      <a:pt x="46" y="2264"/>
                    </a:lnTo>
                    <a:lnTo>
                      <a:pt x="35" y="2262"/>
                    </a:lnTo>
                    <a:lnTo>
                      <a:pt x="22" y="2261"/>
                    </a:lnTo>
                    <a:lnTo>
                      <a:pt x="11" y="2260"/>
                    </a:lnTo>
                    <a:lnTo>
                      <a:pt x="0" y="2258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2690640" y="4788000"/>
                <a:ext cx="30240" cy="723960"/>
              </a:xfrm>
              <a:custGeom>
                <a:avLst/>
                <a:gdLst/>
                <a:ahLst/>
                <a:rect l="l" t="t" r="r" b="b"/>
                <a:pathLst>
                  <a:path w="94" h="2277">
                    <a:moveTo>
                      <a:pt x="0" y="2264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21" y="24"/>
                    </a:lnTo>
                    <a:lnTo>
                      <a:pt x="32" y="50"/>
                    </a:lnTo>
                    <a:lnTo>
                      <a:pt x="42" y="75"/>
                    </a:lnTo>
                    <a:lnTo>
                      <a:pt x="52" y="101"/>
                    </a:lnTo>
                    <a:lnTo>
                      <a:pt x="62" y="126"/>
                    </a:lnTo>
                    <a:lnTo>
                      <a:pt x="73" y="152"/>
                    </a:lnTo>
                    <a:lnTo>
                      <a:pt x="84" y="177"/>
                    </a:lnTo>
                    <a:lnTo>
                      <a:pt x="94" y="203"/>
                    </a:lnTo>
                    <a:lnTo>
                      <a:pt x="94" y="2277"/>
                    </a:lnTo>
                    <a:lnTo>
                      <a:pt x="82" y="2275"/>
                    </a:lnTo>
                    <a:lnTo>
                      <a:pt x="70" y="2274"/>
                    </a:lnTo>
                    <a:lnTo>
                      <a:pt x="58" y="2272"/>
                    </a:lnTo>
                    <a:lnTo>
                      <a:pt x="47" y="2270"/>
                    </a:lnTo>
                    <a:lnTo>
                      <a:pt x="35" y="2268"/>
                    </a:lnTo>
                    <a:lnTo>
                      <a:pt x="23" y="2267"/>
                    </a:lnTo>
                    <a:lnTo>
                      <a:pt x="12" y="2266"/>
                    </a:lnTo>
                    <a:lnTo>
                      <a:pt x="0" y="2264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2706840" y="4816440"/>
                <a:ext cx="29880" cy="696960"/>
              </a:xfrm>
              <a:custGeom>
                <a:avLst/>
                <a:gdLst/>
                <a:ahLst/>
                <a:rect l="l" t="t" r="r" b="b"/>
                <a:pathLst>
                  <a:path w="94" h="2195">
                    <a:moveTo>
                      <a:pt x="0" y="2182"/>
                    </a:moveTo>
                    <a:lnTo>
                      <a:pt x="0" y="0"/>
                    </a:lnTo>
                    <a:lnTo>
                      <a:pt x="12" y="28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5"/>
                    </a:lnTo>
                    <a:lnTo>
                      <a:pt x="58" y="144"/>
                    </a:lnTo>
                    <a:lnTo>
                      <a:pt x="70" y="172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2195"/>
                    </a:lnTo>
                    <a:lnTo>
                      <a:pt x="82" y="2193"/>
                    </a:lnTo>
                    <a:lnTo>
                      <a:pt x="70" y="2192"/>
                    </a:lnTo>
                    <a:lnTo>
                      <a:pt x="58" y="2190"/>
                    </a:lnTo>
                    <a:lnTo>
                      <a:pt x="47" y="2189"/>
                    </a:lnTo>
                    <a:lnTo>
                      <a:pt x="35" y="2187"/>
                    </a:lnTo>
                    <a:lnTo>
                      <a:pt x="23" y="2186"/>
                    </a:lnTo>
                    <a:lnTo>
                      <a:pt x="12" y="2184"/>
                    </a:lnTo>
                    <a:lnTo>
                      <a:pt x="0" y="2182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2720880" y="4853160"/>
                <a:ext cx="30240" cy="661680"/>
              </a:xfrm>
              <a:custGeom>
                <a:avLst/>
                <a:gdLst/>
                <a:ahLst/>
                <a:rect l="l" t="t" r="r" b="b"/>
                <a:pathLst>
                  <a:path w="94" h="2083">
                    <a:moveTo>
                      <a:pt x="0" y="2074"/>
                    </a:moveTo>
                    <a:lnTo>
                      <a:pt x="0" y="0"/>
                    </a:lnTo>
                    <a:lnTo>
                      <a:pt x="11" y="29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4"/>
                    </a:lnTo>
                    <a:lnTo>
                      <a:pt x="58" y="143"/>
                    </a:lnTo>
                    <a:lnTo>
                      <a:pt x="70" y="171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1136"/>
                    </a:lnTo>
                    <a:lnTo>
                      <a:pt x="91" y="1129"/>
                    </a:lnTo>
                    <a:lnTo>
                      <a:pt x="88" y="1122"/>
                    </a:lnTo>
                    <a:lnTo>
                      <a:pt x="85" y="1114"/>
                    </a:lnTo>
                    <a:lnTo>
                      <a:pt x="82" y="1107"/>
                    </a:lnTo>
                    <a:lnTo>
                      <a:pt x="79" y="1100"/>
                    </a:lnTo>
                    <a:lnTo>
                      <a:pt x="77" y="1091"/>
                    </a:lnTo>
                    <a:lnTo>
                      <a:pt x="73" y="1084"/>
                    </a:lnTo>
                    <a:lnTo>
                      <a:pt x="70" y="1077"/>
                    </a:lnTo>
                    <a:lnTo>
                      <a:pt x="70" y="1139"/>
                    </a:lnTo>
                    <a:lnTo>
                      <a:pt x="70" y="1203"/>
                    </a:lnTo>
                    <a:lnTo>
                      <a:pt x="70" y="1265"/>
                    </a:lnTo>
                    <a:lnTo>
                      <a:pt x="70" y="1328"/>
                    </a:lnTo>
                    <a:lnTo>
                      <a:pt x="70" y="1390"/>
                    </a:lnTo>
                    <a:lnTo>
                      <a:pt x="70" y="1453"/>
                    </a:lnTo>
                    <a:lnTo>
                      <a:pt x="70" y="1516"/>
                    </a:lnTo>
                    <a:lnTo>
                      <a:pt x="71" y="1579"/>
                    </a:lnTo>
                    <a:lnTo>
                      <a:pt x="71" y="1642"/>
                    </a:lnTo>
                    <a:lnTo>
                      <a:pt x="71" y="1704"/>
                    </a:lnTo>
                    <a:lnTo>
                      <a:pt x="71" y="1768"/>
                    </a:lnTo>
                    <a:lnTo>
                      <a:pt x="71" y="1831"/>
                    </a:lnTo>
                    <a:lnTo>
                      <a:pt x="71" y="1893"/>
                    </a:lnTo>
                    <a:lnTo>
                      <a:pt x="71" y="1956"/>
                    </a:lnTo>
                    <a:lnTo>
                      <a:pt x="71" y="2020"/>
                    </a:lnTo>
                    <a:lnTo>
                      <a:pt x="71" y="2083"/>
                    </a:lnTo>
                    <a:lnTo>
                      <a:pt x="62" y="2082"/>
                    </a:lnTo>
                    <a:lnTo>
                      <a:pt x="53" y="2080"/>
                    </a:lnTo>
                    <a:lnTo>
                      <a:pt x="45" y="2079"/>
                    </a:lnTo>
                    <a:lnTo>
                      <a:pt x="36" y="2078"/>
                    </a:lnTo>
                    <a:lnTo>
                      <a:pt x="26" y="2077"/>
                    </a:lnTo>
                    <a:lnTo>
                      <a:pt x="17" y="2076"/>
                    </a:lnTo>
                    <a:lnTo>
                      <a:pt x="9" y="2075"/>
                    </a:lnTo>
                    <a:lnTo>
                      <a:pt x="0" y="2074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2736720" y="4889520"/>
                <a:ext cx="28800" cy="625320"/>
              </a:xfrm>
              <a:custGeom>
                <a:avLst/>
                <a:gdLst/>
                <a:ahLst/>
                <a:rect l="l" t="t" r="r" b="b"/>
                <a:pathLst>
                  <a:path w="94" h="1969">
                    <a:moveTo>
                      <a:pt x="0" y="1966"/>
                    </a:moveTo>
                    <a:lnTo>
                      <a:pt x="0" y="0"/>
                    </a:lnTo>
                    <a:lnTo>
                      <a:pt x="8" y="21"/>
                    </a:lnTo>
                    <a:lnTo>
                      <a:pt x="16" y="41"/>
                    </a:lnTo>
                    <a:lnTo>
                      <a:pt x="24" y="61"/>
                    </a:lnTo>
                    <a:lnTo>
                      <a:pt x="33" y="81"/>
                    </a:lnTo>
                    <a:lnTo>
                      <a:pt x="41" y="101"/>
                    </a:lnTo>
                    <a:lnTo>
                      <a:pt x="49" y="122"/>
                    </a:lnTo>
                    <a:lnTo>
                      <a:pt x="57" y="142"/>
                    </a:lnTo>
                    <a:lnTo>
                      <a:pt x="65" y="162"/>
                    </a:lnTo>
                    <a:lnTo>
                      <a:pt x="69" y="171"/>
                    </a:lnTo>
                    <a:lnTo>
                      <a:pt x="72" y="179"/>
                    </a:lnTo>
                    <a:lnTo>
                      <a:pt x="75" y="188"/>
                    </a:lnTo>
                    <a:lnTo>
                      <a:pt x="80" y="196"/>
                    </a:lnTo>
                    <a:lnTo>
                      <a:pt x="83" y="205"/>
                    </a:lnTo>
                    <a:lnTo>
                      <a:pt x="87" y="213"/>
                    </a:lnTo>
                    <a:lnTo>
                      <a:pt x="90" y="222"/>
                    </a:lnTo>
                    <a:lnTo>
                      <a:pt x="94" y="231"/>
                    </a:lnTo>
                    <a:lnTo>
                      <a:pt x="94" y="1143"/>
                    </a:lnTo>
                    <a:lnTo>
                      <a:pt x="85" y="1120"/>
                    </a:lnTo>
                    <a:lnTo>
                      <a:pt x="75" y="1098"/>
                    </a:lnTo>
                    <a:lnTo>
                      <a:pt x="67" y="1075"/>
                    </a:lnTo>
                    <a:lnTo>
                      <a:pt x="58" y="1053"/>
                    </a:lnTo>
                    <a:lnTo>
                      <a:pt x="50" y="1030"/>
                    </a:lnTo>
                    <a:lnTo>
                      <a:pt x="41" y="1008"/>
                    </a:lnTo>
                    <a:lnTo>
                      <a:pt x="32" y="986"/>
                    </a:lnTo>
                    <a:lnTo>
                      <a:pt x="23" y="963"/>
                    </a:lnTo>
                    <a:lnTo>
                      <a:pt x="23" y="1025"/>
                    </a:lnTo>
                    <a:lnTo>
                      <a:pt x="23" y="1089"/>
                    </a:lnTo>
                    <a:lnTo>
                      <a:pt x="23" y="1151"/>
                    </a:lnTo>
                    <a:lnTo>
                      <a:pt x="23" y="1214"/>
                    </a:lnTo>
                    <a:lnTo>
                      <a:pt x="23" y="1276"/>
                    </a:lnTo>
                    <a:lnTo>
                      <a:pt x="23" y="1339"/>
                    </a:lnTo>
                    <a:lnTo>
                      <a:pt x="23" y="1402"/>
                    </a:lnTo>
                    <a:lnTo>
                      <a:pt x="24" y="1465"/>
                    </a:lnTo>
                    <a:lnTo>
                      <a:pt x="24" y="1528"/>
                    </a:lnTo>
                    <a:lnTo>
                      <a:pt x="24" y="1590"/>
                    </a:lnTo>
                    <a:lnTo>
                      <a:pt x="24" y="1654"/>
                    </a:lnTo>
                    <a:lnTo>
                      <a:pt x="24" y="1717"/>
                    </a:lnTo>
                    <a:lnTo>
                      <a:pt x="24" y="1779"/>
                    </a:lnTo>
                    <a:lnTo>
                      <a:pt x="24" y="1842"/>
                    </a:lnTo>
                    <a:lnTo>
                      <a:pt x="24" y="1906"/>
                    </a:lnTo>
                    <a:lnTo>
                      <a:pt x="24" y="1969"/>
                    </a:lnTo>
                    <a:lnTo>
                      <a:pt x="21" y="1968"/>
                    </a:lnTo>
                    <a:lnTo>
                      <a:pt x="18" y="1968"/>
                    </a:lnTo>
                    <a:lnTo>
                      <a:pt x="15" y="1968"/>
                    </a:lnTo>
                    <a:lnTo>
                      <a:pt x="12" y="1967"/>
                    </a:lnTo>
                    <a:lnTo>
                      <a:pt x="9" y="1967"/>
                    </a:lnTo>
                    <a:lnTo>
                      <a:pt x="6" y="1966"/>
                    </a:lnTo>
                    <a:lnTo>
                      <a:pt x="3" y="1966"/>
                    </a:lnTo>
                    <a:lnTo>
                      <a:pt x="0" y="1966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751120" y="4925880"/>
                <a:ext cx="30240" cy="363600"/>
              </a:xfrm>
              <a:custGeom>
                <a:avLst/>
                <a:gdLst/>
                <a:ahLst/>
                <a:rect l="l" t="t" r="r" b="b"/>
                <a:pathLst>
                  <a:path w="93" h="1148">
                    <a:moveTo>
                      <a:pt x="0" y="907"/>
                    </a:moveTo>
                    <a:lnTo>
                      <a:pt x="0" y="0"/>
                    </a:lnTo>
                    <a:lnTo>
                      <a:pt x="2" y="7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4"/>
                    </a:lnTo>
                    <a:lnTo>
                      <a:pt x="11" y="30"/>
                    </a:lnTo>
                    <a:lnTo>
                      <a:pt x="13" y="35"/>
                    </a:lnTo>
                    <a:lnTo>
                      <a:pt x="16" y="41"/>
                    </a:lnTo>
                    <a:lnTo>
                      <a:pt x="18" y="47"/>
                    </a:lnTo>
                    <a:lnTo>
                      <a:pt x="27" y="70"/>
                    </a:lnTo>
                    <a:lnTo>
                      <a:pt x="37" y="92"/>
                    </a:lnTo>
                    <a:lnTo>
                      <a:pt x="46" y="116"/>
                    </a:lnTo>
                    <a:lnTo>
                      <a:pt x="56" y="138"/>
                    </a:lnTo>
                    <a:lnTo>
                      <a:pt x="65" y="162"/>
                    </a:lnTo>
                    <a:lnTo>
                      <a:pt x="74" y="184"/>
                    </a:lnTo>
                    <a:lnTo>
                      <a:pt x="84" y="208"/>
                    </a:lnTo>
                    <a:lnTo>
                      <a:pt x="93" y="230"/>
                    </a:lnTo>
                    <a:lnTo>
                      <a:pt x="93" y="1148"/>
                    </a:lnTo>
                    <a:lnTo>
                      <a:pt x="82" y="1118"/>
                    </a:lnTo>
                    <a:lnTo>
                      <a:pt x="69" y="1088"/>
                    </a:lnTo>
                    <a:lnTo>
                      <a:pt x="58" y="1057"/>
                    </a:lnTo>
                    <a:lnTo>
                      <a:pt x="46" y="1028"/>
                    </a:lnTo>
                    <a:lnTo>
                      <a:pt x="35" y="997"/>
                    </a:lnTo>
                    <a:lnTo>
                      <a:pt x="22" y="967"/>
                    </a:lnTo>
                    <a:lnTo>
                      <a:pt x="11" y="937"/>
                    </a:lnTo>
                    <a:lnTo>
                      <a:pt x="0" y="907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765520" y="4962600"/>
                <a:ext cx="30240" cy="365040"/>
              </a:xfrm>
              <a:custGeom>
                <a:avLst/>
                <a:gdLst/>
                <a:ahLst/>
                <a:rect l="l" t="t" r="r" b="b"/>
                <a:pathLst>
                  <a:path w="93" h="1152">
                    <a:moveTo>
                      <a:pt x="0" y="912"/>
                    </a:moveTo>
                    <a:lnTo>
                      <a:pt x="0" y="0"/>
                    </a:lnTo>
                    <a:lnTo>
                      <a:pt x="11" y="28"/>
                    </a:lnTo>
                    <a:lnTo>
                      <a:pt x="22" y="57"/>
                    </a:lnTo>
                    <a:lnTo>
                      <a:pt x="35" y="85"/>
                    </a:lnTo>
                    <a:lnTo>
                      <a:pt x="46" y="114"/>
                    </a:lnTo>
                    <a:lnTo>
                      <a:pt x="58" y="143"/>
                    </a:lnTo>
                    <a:lnTo>
                      <a:pt x="69" y="171"/>
                    </a:lnTo>
                    <a:lnTo>
                      <a:pt x="82" y="201"/>
                    </a:lnTo>
                    <a:lnTo>
                      <a:pt x="93" y="229"/>
                    </a:lnTo>
                    <a:lnTo>
                      <a:pt x="93" y="1152"/>
                    </a:lnTo>
                    <a:lnTo>
                      <a:pt x="82" y="1123"/>
                    </a:lnTo>
                    <a:lnTo>
                      <a:pt x="69" y="1092"/>
                    </a:lnTo>
                    <a:lnTo>
                      <a:pt x="58" y="1062"/>
                    </a:lnTo>
                    <a:lnTo>
                      <a:pt x="46" y="1032"/>
                    </a:lnTo>
                    <a:lnTo>
                      <a:pt x="35" y="1001"/>
                    </a:lnTo>
                    <a:lnTo>
                      <a:pt x="22" y="972"/>
                    </a:lnTo>
                    <a:lnTo>
                      <a:pt x="11" y="941"/>
                    </a:lnTo>
                    <a:lnTo>
                      <a:pt x="0" y="912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81360" y="4998960"/>
                <a:ext cx="28440" cy="368280"/>
              </a:xfrm>
              <a:custGeom>
                <a:avLst/>
                <a:gdLst/>
                <a:ahLst/>
                <a:rect l="l" t="t" r="r" b="b"/>
                <a:pathLst>
                  <a:path w="94" h="1159">
                    <a:moveTo>
                      <a:pt x="0" y="918"/>
                    </a:moveTo>
                    <a:lnTo>
                      <a:pt x="0" y="0"/>
                    </a:lnTo>
                    <a:lnTo>
                      <a:pt x="12" y="29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4"/>
                    </a:lnTo>
                    <a:lnTo>
                      <a:pt x="58" y="143"/>
                    </a:lnTo>
                    <a:lnTo>
                      <a:pt x="70" y="171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1159"/>
                    </a:lnTo>
                    <a:lnTo>
                      <a:pt x="93" y="1156"/>
                    </a:lnTo>
                    <a:lnTo>
                      <a:pt x="92" y="1153"/>
                    </a:lnTo>
                    <a:lnTo>
                      <a:pt x="90" y="1149"/>
                    </a:lnTo>
                    <a:lnTo>
                      <a:pt x="89" y="1146"/>
                    </a:lnTo>
                    <a:lnTo>
                      <a:pt x="88" y="1143"/>
                    </a:lnTo>
                    <a:lnTo>
                      <a:pt x="87" y="1140"/>
                    </a:lnTo>
                    <a:lnTo>
                      <a:pt x="86" y="1137"/>
                    </a:lnTo>
                    <a:lnTo>
                      <a:pt x="85" y="1134"/>
                    </a:lnTo>
                    <a:lnTo>
                      <a:pt x="73" y="1108"/>
                    </a:lnTo>
                    <a:lnTo>
                      <a:pt x="63" y="1080"/>
                    </a:lnTo>
                    <a:lnTo>
                      <a:pt x="53" y="1054"/>
                    </a:lnTo>
                    <a:lnTo>
                      <a:pt x="42" y="1026"/>
                    </a:lnTo>
                    <a:lnTo>
                      <a:pt x="31" y="1000"/>
                    </a:lnTo>
                    <a:lnTo>
                      <a:pt x="21" y="972"/>
                    </a:lnTo>
                    <a:lnTo>
                      <a:pt x="11" y="945"/>
                    </a:lnTo>
                    <a:lnTo>
                      <a:pt x="0" y="918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795760" y="4773600"/>
                <a:ext cx="29880" cy="630360"/>
              </a:xfrm>
              <a:custGeom>
                <a:avLst/>
                <a:gdLst/>
                <a:ahLst/>
                <a:rect l="l" t="t" r="r" b="b"/>
                <a:pathLst>
                  <a:path w="94" h="1989">
                    <a:moveTo>
                      <a:pt x="0" y="1749"/>
                    </a:moveTo>
                    <a:lnTo>
                      <a:pt x="0" y="826"/>
                    </a:lnTo>
                    <a:lnTo>
                      <a:pt x="10" y="852"/>
                    </a:lnTo>
                    <a:lnTo>
                      <a:pt x="21" y="877"/>
                    </a:lnTo>
                    <a:lnTo>
                      <a:pt x="31" y="903"/>
                    </a:lnTo>
                    <a:lnTo>
                      <a:pt x="42" y="928"/>
                    </a:lnTo>
                    <a:lnTo>
                      <a:pt x="52" y="954"/>
                    </a:lnTo>
                    <a:lnTo>
                      <a:pt x="63" y="979"/>
                    </a:lnTo>
                    <a:lnTo>
                      <a:pt x="73" y="1005"/>
                    </a:lnTo>
                    <a:lnTo>
                      <a:pt x="84" y="1030"/>
                    </a:lnTo>
                    <a:lnTo>
                      <a:pt x="84" y="966"/>
                    </a:lnTo>
                    <a:lnTo>
                      <a:pt x="84" y="901"/>
                    </a:lnTo>
                    <a:lnTo>
                      <a:pt x="83" y="836"/>
                    </a:lnTo>
                    <a:lnTo>
                      <a:pt x="83" y="772"/>
                    </a:lnTo>
                    <a:lnTo>
                      <a:pt x="83" y="708"/>
                    </a:lnTo>
                    <a:lnTo>
                      <a:pt x="83" y="644"/>
                    </a:lnTo>
                    <a:lnTo>
                      <a:pt x="83" y="579"/>
                    </a:lnTo>
                    <a:lnTo>
                      <a:pt x="83" y="515"/>
                    </a:lnTo>
                    <a:lnTo>
                      <a:pt x="81" y="451"/>
                    </a:lnTo>
                    <a:lnTo>
                      <a:pt x="81" y="387"/>
                    </a:lnTo>
                    <a:lnTo>
                      <a:pt x="81" y="322"/>
                    </a:lnTo>
                    <a:lnTo>
                      <a:pt x="81" y="258"/>
                    </a:lnTo>
                    <a:lnTo>
                      <a:pt x="81" y="194"/>
                    </a:lnTo>
                    <a:lnTo>
                      <a:pt x="81" y="130"/>
                    </a:lnTo>
                    <a:lnTo>
                      <a:pt x="80" y="65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4" y="1"/>
                    </a:lnTo>
                    <a:lnTo>
                      <a:pt x="86" y="1"/>
                    </a:lnTo>
                    <a:lnTo>
                      <a:pt x="87" y="1"/>
                    </a:lnTo>
                    <a:lnTo>
                      <a:pt x="89" y="1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4" y="1989"/>
                    </a:lnTo>
                    <a:lnTo>
                      <a:pt x="87" y="1971"/>
                    </a:lnTo>
                    <a:lnTo>
                      <a:pt x="79" y="1953"/>
                    </a:lnTo>
                    <a:lnTo>
                      <a:pt x="72" y="1935"/>
                    </a:lnTo>
                    <a:lnTo>
                      <a:pt x="65" y="1918"/>
                    </a:lnTo>
                    <a:lnTo>
                      <a:pt x="58" y="1899"/>
                    </a:lnTo>
                    <a:lnTo>
                      <a:pt x="52" y="1881"/>
                    </a:lnTo>
                    <a:lnTo>
                      <a:pt x="45" y="1864"/>
                    </a:lnTo>
                    <a:lnTo>
                      <a:pt x="38" y="1845"/>
                    </a:lnTo>
                    <a:lnTo>
                      <a:pt x="32" y="1834"/>
                    </a:lnTo>
                    <a:lnTo>
                      <a:pt x="28" y="1822"/>
                    </a:lnTo>
                    <a:lnTo>
                      <a:pt x="23" y="1809"/>
                    </a:lnTo>
                    <a:lnTo>
                      <a:pt x="18" y="1797"/>
                    </a:lnTo>
                    <a:lnTo>
                      <a:pt x="14" y="1786"/>
                    </a:lnTo>
                    <a:lnTo>
                      <a:pt x="9" y="1774"/>
                    </a:lnTo>
                    <a:lnTo>
                      <a:pt x="5" y="1762"/>
                    </a:lnTo>
                    <a:lnTo>
                      <a:pt x="0" y="1749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809800" y="4772160"/>
                <a:ext cx="30240" cy="669960"/>
              </a:xfrm>
              <a:custGeom>
                <a:avLst/>
                <a:gdLst/>
                <a:ahLst/>
                <a:rect l="l" t="t" r="r" b="b"/>
                <a:pathLst>
                  <a:path w="94" h="2114">
                    <a:moveTo>
                      <a:pt x="0" y="1875"/>
                    </a:moveTo>
                    <a:lnTo>
                      <a:pt x="0" y="945"/>
                    </a:lnTo>
                    <a:lnTo>
                      <a:pt x="4" y="957"/>
                    </a:lnTo>
                    <a:lnTo>
                      <a:pt x="9" y="968"/>
                    </a:lnTo>
                    <a:lnTo>
                      <a:pt x="13" y="979"/>
                    </a:lnTo>
                    <a:lnTo>
                      <a:pt x="18" y="990"/>
                    </a:lnTo>
                    <a:lnTo>
                      <a:pt x="23" y="1002"/>
                    </a:lnTo>
                    <a:lnTo>
                      <a:pt x="27" y="1013"/>
                    </a:lnTo>
                    <a:lnTo>
                      <a:pt x="32" y="1024"/>
                    </a:lnTo>
                    <a:lnTo>
                      <a:pt x="37" y="1035"/>
                    </a:lnTo>
                    <a:lnTo>
                      <a:pt x="37" y="971"/>
                    </a:lnTo>
                    <a:lnTo>
                      <a:pt x="37" y="906"/>
                    </a:lnTo>
                    <a:lnTo>
                      <a:pt x="36" y="841"/>
                    </a:lnTo>
                    <a:lnTo>
                      <a:pt x="36" y="777"/>
                    </a:lnTo>
                    <a:lnTo>
                      <a:pt x="36" y="713"/>
                    </a:lnTo>
                    <a:lnTo>
                      <a:pt x="36" y="649"/>
                    </a:lnTo>
                    <a:lnTo>
                      <a:pt x="36" y="584"/>
                    </a:lnTo>
                    <a:lnTo>
                      <a:pt x="36" y="520"/>
                    </a:lnTo>
                    <a:lnTo>
                      <a:pt x="34" y="456"/>
                    </a:lnTo>
                    <a:lnTo>
                      <a:pt x="34" y="392"/>
                    </a:lnTo>
                    <a:lnTo>
                      <a:pt x="34" y="327"/>
                    </a:lnTo>
                    <a:lnTo>
                      <a:pt x="34" y="263"/>
                    </a:lnTo>
                    <a:lnTo>
                      <a:pt x="34" y="199"/>
                    </a:lnTo>
                    <a:lnTo>
                      <a:pt x="34" y="135"/>
                    </a:lnTo>
                    <a:lnTo>
                      <a:pt x="33" y="70"/>
                    </a:lnTo>
                    <a:lnTo>
                      <a:pt x="33" y="7"/>
                    </a:lnTo>
                    <a:lnTo>
                      <a:pt x="41" y="6"/>
                    </a:lnTo>
                    <a:lnTo>
                      <a:pt x="49" y="5"/>
                    </a:lnTo>
                    <a:lnTo>
                      <a:pt x="56" y="4"/>
                    </a:lnTo>
                    <a:lnTo>
                      <a:pt x="63" y="3"/>
                    </a:lnTo>
                    <a:lnTo>
                      <a:pt x="70" y="2"/>
                    </a:lnTo>
                    <a:lnTo>
                      <a:pt x="78" y="1"/>
                    </a:lnTo>
                    <a:lnTo>
                      <a:pt x="86" y="1"/>
                    </a:lnTo>
                    <a:lnTo>
                      <a:pt x="94" y="0"/>
                    </a:lnTo>
                    <a:lnTo>
                      <a:pt x="94" y="2114"/>
                    </a:lnTo>
                    <a:lnTo>
                      <a:pt x="81" y="2084"/>
                    </a:lnTo>
                    <a:lnTo>
                      <a:pt x="70" y="2054"/>
                    </a:lnTo>
                    <a:lnTo>
                      <a:pt x="58" y="2024"/>
                    </a:lnTo>
                    <a:lnTo>
                      <a:pt x="47" y="1994"/>
                    </a:lnTo>
                    <a:lnTo>
                      <a:pt x="34" y="1964"/>
                    </a:lnTo>
                    <a:lnTo>
                      <a:pt x="23" y="1934"/>
                    </a:lnTo>
                    <a:lnTo>
                      <a:pt x="11" y="1904"/>
                    </a:lnTo>
                    <a:lnTo>
                      <a:pt x="0" y="187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2825640" y="4768920"/>
                <a:ext cx="28800" cy="712800"/>
              </a:xfrm>
              <a:custGeom>
                <a:avLst/>
                <a:gdLst/>
                <a:ahLst/>
                <a:rect l="l" t="t" r="r" b="b"/>
                <a:pathLst>
                  <a:path w="93" h="2241">
                    <a:moveTo>
                      <a:pt x="0" y="200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2"/>
                    </a:lnTo>
                    <a:lnTo>
                      <a:pt x="93" y="0"/>
                    </a:lnTo>
                    <a:lnTo>
                      <a:pt x="93" y="2241"/>
                    </a:lnTo>
                    <a:lnTo>
                      <a:pt x="81" y="2210"/>
                    </a:lnTo>
                    <a:lnTo>
                      <a:pt x="69" y="2181"/>
                    </a:lnTo>
                    <a:lnTo>
                      <a:pt x="58" y="2150"/>
                    </a:lnTo>
                    <a:lnTo>
                      <a:pt x="46" y="2120"/>
                    </a:lnTo>
                    <a:lnTo>
                      <a:pt x="34" y="2090"/>
                    </a:lnTo>
                    <a:lnTo>
                      <a:pt x="23" y="2060"/>
                    </a:lnTo>
                    <a:lnTo>
                      <a:pt x="11" y="2030"/>
                    </a:lnTo>
                    <a:lnTo>
                      <a:pt x="0" y="2000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840040" y="4767120"/>
                <a:ext cx="30240" cy="750960"/>
              </a:xfrm>
              <a:custGeom>
                <a:avLst/>
                <a:gdLst/>
                <a:ahLst/>
                <a:rect l="l" t="t" r="r" b="b"/>
                <a:pathLst>
                  <a:path w="93" h="2365">
                    <a:moveTo>
                      <a:pt x="0" y="2125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2365"/>
                    </a:lnTo>
                    <a:lnTo>
                      <a:pt x="81" y="2335"/>
                    </a:lnTo>
                    <a:lnTo>
                      <a:pt x="69" y="2305"/>
                    </a:lnTo>
                    <a:lnTo>
                      <a:pt x="58" y="2275"/>
                    </a:lnTo>
                    <a:lnTo>
                      <a:pt x="46" y="2245"/>
                    </a:lnTo>
                    <a:lnTo>
                      <a:pt x="34" y="2215"/>
                    </a:lnTo>
                    <a:lnTo>
                      <a:pt x="22" y="2186"/>
                    </a:lnTo>
                    <a:lnTo>
                      <a:pt x="11" y="2155"/>
                    </a:lnTo>
                    <a:lnTo>
                      <a:pt x="0" y="212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854440" y="4765680"/>
                <a:ext cx="29880" cy="766800"/>
              </a:xfrm>
              <a:custGeom>
                <a:avLst/>
                <a:gdLst/>
                <a:ahLst/>
                <a:rect l="l" t="t" r="r" b="b"/>
                <a:pathLst>
                  <a:path w="94" h="2412">
                    <a:moveTo>
                      <a:pt x="0" y="2251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2412"/>
                    </a:lnTo>
                    <a:lnTo>
                      <a:pt x="90" y="2412"/>
                    </a:lnTo>
                    <a:lnTo>
                      <a:pt x="85" y="2411"/>
                    </a:lnTo>
                    <a:lnTo>
                      <a:pt x="81" y="2411"/>
                    </a:lnTo>
                    <a:lnTo>
                      <a:pt x="77" y="2410"/>
                    </a:lnTo>
                    <a:lnTo>
                      <a:pt x="73" y="2410"/>
                    </a:lnTo>
                    <a:lnTo>
                      <a:pt x="70" y="2409"/>
                    </a:lnTo>
                    <a:lnTo>
                      <a:pt x="66" y="2409"/>
                    </a:lnTo>
                    <a:lnTo>
                      <a:pt x="62" y="2408"/>
                    </a:lnTo>
                    <a:lnTo>
                      <a:pt x="54" y="2388"/>
                    </a:lnTo>
                    <a:lnTo>
                      <a:pt x="47" y="2369"/>
                    </a:lnTo>
                    <a:lnTo>
                      <a:pt x="38" y="2349"/>
                    </a:lnTo>
                    <a:lnTo>
                      <a:pt x="30" y="2329"/>
                    </a:lnTo>
                    <a:lnTo>
                      <a:pt x="23" y="2310"/>
                    </a:lnTo>
                    <a:lnTo>
                      <a:pt x="15" y="2289"/>
                    </a:lnTo>
                    <a:lnTo>
                      <a:pt x="8" y="2270"/>
                    </a:lnTo>
                    <a:lnTo>
                      <a:pt x="0" y="2251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870280" y="4764240"/>
                <a:ext cx="30240" cy="769680"/>
              </a:xfrm>
              <a:custGeom>
                <a:avLst/>
                <a:gdLst/>
                <a:ahLst/>
                <a:rect l="l" t="t" r="r" b="b"/>
                <a:pathLst>
                  <a:path w="94" h="2425">
                    <a:moveTo>
                      <a:pt x="0" y="2377"/>
                    </a:moveTo>
                    <a:lnTo>
                      <a:pt x="0" y="12"/>
                    </a:lnTo>
                    <a:lnTo>
                      <a:pt x="12" y="11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7" y="7"/>
                    </a:lnTo>
                    <a:lnTo>
                      <a:pt x="58" y="5"/>
                    </a:lnTo>
                    <a:lnTo>
                      <a:pt x="70" y="4"/>
                    </a:lnTo>
                    <a:lnTo>
                      <a:pt x="81" y="3"/>
                    </a:lnTo>
                    <a:lnTo>
                      <a:pt x="94" y="0"/>
                    </a:lnTo>
                    <a:lnTo>
                      <a:pt x="94" y="2425"/>
                    </a:lnTo>
                    <a:lnTo>
                      <a:pt x="83" y="2424"/>
                    </a:lnTo>
                    <a:lnTo>
                      <a:pt x="74" y="2423"/>
                    </a:lnTo>
                    <a:lnTo>
                      <a:pt x="64" y="2422"/>
                    </a:lnTo>
                    <a:lnTo>
                      <a:pt x="54" y="2420"/>
                    </a:lnTo>
                    <a:lnTo>
                      <a:pt x="45" y="2419"/>
                    </a:lnTo>
                    <a:lnTo>
                      <a:pt x="34" y="2418"/>
                    </a:lnTo>
                    <a:lnTo>
                      <a:pt x="24" y="2417"/>
                    </a:lnTo>
                    <a:lnTo>
                      <a:pt x="15" y="2415"/>
                    </a:lnTo>
                    <a:lnTo>
                      <a:pt x="13" y="2411"/>
                    </a:lnTo>
                    <a:lnTo>
                      <a:pt x="11" y="2406"/>
                    </a:lnTo>
                    <a:lnTo>
                      <a:pt x="9" y="2401"/>
                    </a:lnTo>
                    <a:lnTo>
                      <a:pt x="7" y="2396"/>
                    </a:lnTo>
                    <a:lnTo>
                      <a:pt x="6" y="2391"/>
                    </a:lnTo>
                    <a:lnTo>
                      <a:pt x="4" y="2387"/>
                    </a:lnTo>
                    <a:lnTo>
                      <a:pt x="2" y="2382"/>
                    </a:lnTo>
                    <a:lnTo>
                      <a:pt x="0" y="237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884320" y="4762440"/>
                <a:ext cx="30240" cy="773280"/>
              </a:xfrm>
              <a:custGeom>
                <a:avLst/>
                <a:gdLst/>
                <a:ahLst/>
                <a:rect l="l" t="t" r="r" b="b"/>
                <a:pathLst>
                  <a:path w="94" h="2436">
                    <a:moveTo>
                      <a:pt x="0" y="2424"/>
                    </a:moveTo>
                    <a:lnTo>
                      <a:pt x="0" y="12"/>
                    </a:lnTo>
                    <a:lnTo>
                      <a:pt x="11" y="10"/>
                    </a:lnTo>
                    <a:lnTo>
                      <a:pt x="23" y="9"/>
                    </a:lnTo>
                    <a:lnTo>
                      <a:pt x="34" y="8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2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2436"/>
                    </a:lnTo>
                    <a:lnTo>
                      <a:pt x="81" y="2435"/>
                    </a:lnTo>
                    <a:lnTo>
                      <a:pt x="70" y="2433"/>
                    </a:lnTo>
                    <a:lnTo>
                      <a:pt x="58" y="2432"/>
                    </a:lnTo>
                    <a:lnTo>
                      <a:pt x="47" y="2430"/>
                    </a:lnTo>
                    <a:lnTo>
                      <a:pt x="34" y="2429"/>
                    </a:lnTo>
                    <a:lnTo>
                      <a:pt x="23" y="2427"/>
                    </a:lnTo>
                    <a:lnTo>
                      <a:pt x="11" y="2426"/>
                    </a:lnTo>
                    <a:lnTo>
                      <a:pt x="0" y="242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900520" y="4762440"/>
                <a:ext cx="17280" cy="774720"/>
              </a:xfrm>
              <a:custGeom>
                <a:avLst/>
                <a:gdLst/>
                <a:ahLst/>
                <a:rect l="l" t="t" r="r" b="b"/>
                <a:pathLst>
                  <a:path w="59" h="2439">
                    <a:moveTo>
                      <a:pt x="0" y="2431"/>
                    </a:moveTo>
                    <a:lnTo>
                      <a:pt x="0" y="6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4" y="3"/>
                    </a:lnTo>
                    <a:lnTo>
                      <a:pt x="30" y="3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0" y="151"/>
                    </a:lnTo>
                    <a:lnTo>
                      <a:pt x="50" y="302"/>
                    </a:lnTo>
                    <a:lnTo>
                      <a:pt x="51" y="454"/>
                    </a:lnTo>
                    <a:lnTo>
                      <a:pt x="51" y="605"/>
                    </a:lnTo>
                    <a:lnTo>
                      <a:pt x="52" y="757"/>
                    </a:lnTo>
                    <a:lnTo>
                      <a:pt x="52" y="908"/>
                    </a:lnTo>
                    <a:lnTo>
                      <a:pt x="53" y="1060"/>
                    </a:lnTo>
                    <a:lnTo>
                      <a:pt x="53" y="1212"/>
                    </a:lnTo>
                    <a:lnTo>
                      <a:pt x="54" y="1365"/>
                    </a:lnTo>
                    <a:lnTo>
                      <a:pt x="55" y="1518"/>
                    </a:lnTo>
                    <a:lnTo>
                      <a:pt x="55" y="1671"/>
                    </a:lnTo>
                    <a:lnTo>
                      <a:pt x="56" y="1824"/>
                    </a:lnTo>
                    <a:lnTo>
                      <a:pt x="56" y="1978"/>
                    </a:lnTo>
                    <a:lnTo>
                      <a:pt x="57" y="2131"/>
                    </a:lnTo>
                    <a:lnTo>
                      <a:pt x="58" y="2285"/>
                    </a:lnTo>
                    <a:lnTo>
                      <a:pt x="59" y="2439"/>
                    </a:lnTo>
                    <a:lnTo>
                      <a:pt x="51" y="2438"/>
                    </a:lnTo>
                    <a:lnTo>
                      <a:pt x="44" y="2437"/>
                    </a:lnTo>
                    <a:lnTo>
                      <a:pt x="36" y="2436"/>
                    </a:lnTo>
                    <a:lnTo>
                      <a:pt x="29" y="2435"/>
                    </a:lnTo>
                    <a:lnTo>
                      <a:pt x="21" y="2434"/>
                    </a:lnTo>
                    <a:lnTo>
                      <a:pt x="14" y="2433"/>
                    </a:lnTo>
                    <a:lnTo>
                      <a:pt x="7" y="2432"/>
                    </a:lnTo>
                    <a:lnTo>
                      <a:pt x="0" y="243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2914560" y="4762440"/>
                <a:ext cx="3240" cy="774720"/>
              </a:xfrm>
              <a:custGeom>
                <a:avLst/>
                <a:gdLst/>
                <a:ahLst/>
                <a:rect l="l" t="t" r="r" b="b"/>
                <a:pathLst>
                  <a:path w="12" h="2439">
                    <a:moveTo>
                      <a:pt x="0" y="2437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51"/>
                    </a:lnTo>
                    <a:lnTo>
                      <a:pt x="3" y="302"/>
                    </a:lnTo>
                    <a:lnTo>
                      <a:pt x="4" y="454"/>
                    </a:lnTo>
                    <a:lnTo>
                      <a:pt x="4" y="605"/>
                    </a:lnTo>
                    <a:lnTo>
                      <a:pt x="5" y="757"/>
                    </a:lnTo>
                    <a:lnTo>
                      <a:pt x="5" y="908"/>
                    </a:lnTo>
                    <a:lnTo>
                      <a:pt x="6" y="1060"/>
                    </a:lnTo>
                    <a:lnTo>
                      <a:pt x="6" y="1212"/>
                    </a:lnTo>
                    <a:lnTo>
                      <a:pt x="7" y="1365"/>
                    </a:lnTo>
                    <a:lnTo>
                      <a:pt x="8" y="1518"/>
                    </a:lnTo>
                    <a:lnTo>
                      <a:pt x="8" y="1671"/>
                    </a:lnTo>
                    <a:lnTo>
                      <a:pt x="9" y="1824"/>
                    </a:lnTo>
                    <a:lnTo>
                      <a:pt x="9" y="1978"/>
                    </a:lnTo>
                    <a:lnTo>
                      <a:pt x="10" y="2131"/>
                    </a:lnTo>
                    <a:lnTo>
                      <a:pt x="11" y="2285"/>
                    </a:lnTo>
                    <a:lnTo>
                      <a:pt x="12" y="2439"/>
                    </a:lnTo>
                    <a:lnTo>
                      <a:pt x="10" y="2439"/>
                    </a:lnTo>
                    <a:lnTo>
                      <a:pt x="9" y="2438"/>
                    </a:lnTo>
                    <a:lnTo>
                      <a:pt x="7" y="2438"/>
                    </a:lnTo>
                    <a:lnTo>
                      <a:pt x="6" y="2438"/>
                    </a:lnTo>
                    <a:lnTo>
                      <a:pt x="4" y="2438"/>
                    </a:lnTo>
                    <a:lnTo>
                      <a:pt x="3" y="2438"/>
                    </a:lnTo>
                    <a:lnTo>
                      <a:pt x="1" y="2437"/>
                    </a:lnTo>
                    <a:lnTo>
                      <a:pt x="0" y="2437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2963880" y="5011560"/>
                <a:ext cx="9360" cy="262080"/>
              </a:xfrm>
              <a:custGeom>
                <a:avLst/>
                <a:gdLst/>
                <a:ahLst/>
                <a:rect l="l" t="t" r="r" b="b"/>
                <a:pathLst>
                  <a:path w="30" h="822">
                    <a:moveTo>
                      <a:pt x="30" y="0"/>
                    </a:moveTo>
                    <a:lnTo>
                      <a:pt x="30" y="822"/>
                    </a:lnTo>
                    <a:lnTo>
                      <a:pt x="23" y="773"/>
                    </a:lnTo>
                    <a:lnTo>
                      <a:pt x="17" y="725"/>
                    </a:lnTo>
                    <a:lnTo>
                      <a:pt x="12" y="676"/>
                    </a:lnTo>
                    <a:lnTo>
                      <a:pt x="8" y="626"/>
                    </a:lnTo>
                    <a:lnTo>
                      <a:pt x="4" y="576"/>
                    </a:lnTo>
                    <a:lnTo>
                      <a:pt x="2" y="526"/>
                    </a:lnTo>
                    <a:lnTo>
                      <a:pt x="0" y="475"/>
                    </a:lnTo>
                    <a:lnTo>
                      <a:pt x="0" y="424"/>
                    </a:lnTo>
                    <a:lnTo>
                      <a:pt x="0" y="370"/>
                    </a:lnTo>
                    <a:lnTo>
                      <a:pt x="1" y="315"/>
                    </a:lnTo>
                    <a:lnTo>
                      <a:pt x="3" y="262"/>
                    </a:lnTo>
                    <a:lnTo>
                      <a:pt x="7" y="208"/>
                    </a:lnTo>
                    <a:lnTo>
                      <a:pt x="11" y="156"/>
                    </a:lnTo>
                    <a:lnTo>
                      <a:pt x="16" y="103"/>
                    </a:lnTo>
                    <a:lnTo>
                      <a:pt x="23" y="5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963880" y="4941720"/>
                <a:ext cx="25560" cy="403560"/>
              </a:xfrm>
              <a:custGeom>
                <a:avLst/>
                <a:gdLst/>
                <a:ahLst/>
                <a:rect l="l" t="t" r="r" b="b"/>
                <a:pathLst>
                  <a:path w="77" h="1272">
                    <a:moveTo>
                      <a:pt x="77" y="0"/>
                    </a:moveTo>
                    <a:lnTo>
                      <a:pt x="77" y="1272"/>
                    </a:lnTo>
                    <a:lnTo>
                      <a:pt x="75" y="1263"/>
                    </a:lnTo>
                    <a:lnTo>
                      <a:pt x="72" y="1254"/>
                    </a:lnTo>
                    <a:lnTo>
                      <a:pt x="70" y="1245"/>
                    </a:lnTo>
                    <a:lnTo>
                      <a:pt x="68" y="1236"/>
                    </a:lnTo>
                    <a:lnTo>
                      <a:pt x="66" y="1226"/>
                    </a:lnTo>
                    <a:lnTo>
                      <a:pt x="64" y="1217"/>
                    </a:lnTo>
                    <a:lnTo>
                      <a:pt x="61" y="1207"/>
                    </a:lnTo>
                    <a:lnTo>
                      <a:pt x="59" y="1198"/>
                    </a:lnTo>
                    <a:lnTo>
                      <a:pt x="46" y="1132"/>
                    </a:lnTo>
                    <a:lnTo>
                      <a:pt x="34" y="1064"/>
                    </a:lnTo>
                    <a:lnTo>
                      <a:pt x="23" y="997"/>
                    </a:lnTo>
                    <a:lnTo>
                      <a:pt x="15" y="929"/>
                    </a:lnTo>
                    <a:lnTo>
                      <a:pt x="9" y="859"/>
                    </a:lnTo>
                    <a:lnTo>
                      <a:pt x="4" y="790"/>
                    </a:lnTo>
                    <a:lnTo>
                      <a:pt x="1" y="718"/>
                    </a:lnTo>
                    <a:lnTo>
                      <a:pt x="0" y="647"/>
                    </a:lnTo>
                    <a:lnTo>
                      <a:pt x="0" y="576"/>
                    </a:lnTo>
                    <a:lnTo>
                      <a:pt x="2" y="505"/>
                    </a:lnTo>
                    <a:lnTo>
                      <a:pt x="6" y="436"/>
                    </a:lnTo>
                    <a:lnTo>
                      <a:pt x="12" y="368"/>
                    </a:lnTo>
                    <a:lnTo>
                      <a:pt x="19" y="299"/>
                    </a:lnTo>
                    <a:lnTo>
                      <a:pt x="29" y="233"/>
                    </a:lnTo>
                    <a:lnTo>
                      <a:pt x="40" y="167"/>
                    </a:lnTo>
                    <a:lnTo>
                      <a:pt x="53" y="101"/>
                    </a:lnTo>
                    <a:lnTo>
                      <a:pt x="56" y="88"/>
                    </a:lnTo>
                    <a:lnTo>
                      <a:pt x="59" y="76"/>
                    </a:lnTo>
                    <a:lnTo>
                      <a:pt x="62" y="63"/>
                    </a:lnTo>
                    <a:lnTo>
                      <a:pt x="65" y="50"/>
                    </a:lnTo>
                    <a:lnTo>
                      <a:pt x="68" y="38"/>
                    </a:lnTo>
                    <a:lnTo>
                      <a:pt x="71" y="25"/>
                    </a:lnTo>
                    <a:lnTo>
                      <a:pt x="74" y="1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973240" y="4892760"/>
                <a:ext cx="30240" cy="503280"/>
              </a:xfrm>
              <a:custGeom>
                <a:avLst/>
                <a:gdLst/>
                <a:ahLst/>
                <a:rect l="l" t="t" r="r" b="b"/>
                <a:pathLst>
                  <a:path w="94" h="1583">
                    <a:moveTo>
                      <a:pt x="0" y="1198"/>
                    </a:moveTo>
                    <a:lnTo>
                      <a:pt x="0" y="376"/>
                    </a:lnTo>
                    <a:lnTo>
                      <a:pt x="4" y="360"/>
                    </a:lnTo>
                    <a:lnTo>
                      <a:pt x="6" y="345"/>
                    </a:lnTo>
                    <a:lnTo>
                      <a:pt x="9" y="330"/>
                    </a:lnTo>
                    <a:lnTo>
                      <a:pt x="11" y="315"/>
                    </a:lnTo>
                    <a:lnTo>
                      <a:pt x="14" y="299"/>
                    </a:lnTo>
                    <a:lnTo>
                      <a:pt x="17" y="285"/>
                    </a:lnTo>
                    <a:lnTo>
                      <a:pt x="20" y="270"/>
                    </a:lnTo>
                    <a:lnTo>
                      <a:pt x="23" y="254"/>
                    </a:lnTo>
                    <a:lnTo>
                      <a:pt x="30" y="221"/>
                    </a:lnTo>
                    <a:lnTo>
                      <a:pt x="38" y="188"/>
                    </a:lnTo>
                    <a:lnTo>
                      <a:pt x="46" y="155"/>
                    </a:lnTo>
                    <a:lnTo>
                      <a:pt x="56" y="124"/>
                    </a:lnTo>
                    <a:lnTo>
                      <a:pt x="65" y="92"/>
                    </a:lnTo>
                    <a:lnTo>
                      <a:pt x="74" y="61"/>
                    </a:lnTo>
                    <a:lnTo>
                      <a:pt x="84" y="30"/>
                    </a:lnTo>
                    <a:lnTo>
                      <a:pt x="94" y="0"/>
                    </a:lnTo>
                    <a:lnTo>
                      <a:pt x="94" y="1583"/>
                    </a:lnTo>
                    <a:lnTo>
                      <a:pt x="85" y="1556"/>
                    </a:lnTo>
                    <a:lnTo>
                      <a:pt x="76" y="1527"/>
                    </a:lnTo>
                    <a:lnTo>
                      <a:pt x="68" y="1499"/>
                    </a:lnTo>
                    <a:lnTo>
                      <a:pt x="60" y="1470"/>
                    </a:lnTo>
                    <a:lnTo>
                      <a:pt x="52" y="1441"/>
                    </a:lnTo>
                    <a:lnTo>
                      <a:pt x="43" y="1411"/>
                    </a:lnTo>
                    <a:lnTo>
                      <a:pt x="36" y="1381"/>
                    </a:lnTo>
                    <a:lnTo>
                      <a:pt x="29" y="1351"/>
                    </a:lnTo>
                    <a:lnTo>
                      <a:pt x="25" y="1333"/>
                    </a:lnTo>
                    <a:lnTo>
                      <a:pt x="21" y="1313"/>
                    </a:lnTo>
                    <a:lnTo>
                      <a:pt x="18" y="1294"/>
                    </a:lnTo>
                    <a:lnTo>
                      <a:pt x="14" y="1274"/>
                    </a:lnTo>
                    <a:lnTo>
                      <a:pt x="11" y="1256"/>
                    </a:lnTo>
                    <a:lnTo>
                      <a:pt x="7" y="1237"/>
                    </a:lnTo>
                    <a:lnTo>
                      <a:pt x="4" y="1217"/>
                    </a:lnTo>
                    <a:lnTo>
                      <a:pt x="0" y="119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989440" y="4854600"/>
                <a:ext cx="28440" cy="579240"/>
              </a:xfrm>
              <a:custGeom>
                <a:avLst/>
                <a:gdLst/>
                <a:ahLst/>
                <a:rect l="l" t="t" r="r" b="b"/>
                <a:pathLst>
                  <a:path w="94" h="1826">
                    <a:moveTo>
                      <a:pt x="0" y="1544"/>
                    </a:moveTo>
                    <a:lnTo>
                      <a:pt x="0" y="272"/>
                    </a:lnTo>
                    <a:lnTo>
                      <a:pt x="11" y="237"/>
                    </a:lnTo>
                    <a:lnTo>
                      <a:pt x="21" y="201"/>
                    </a:lnTo>
                    <a:lnTo>
                      <a:pt x="31" y="166"/>
                    </a:lnTo>
                    <a:lnTo>
                      <a:pt x="43" y="132"/>
                    </a:lnTo>
                    <a:lnTo>
                      <a:pt x="55" y="98"/>
                    </a:lnTo>
                    <a:lnTo>
                      <a:pt x="68" y="64"/>
                    </a:lnTo>
                    <a:lnTo>
                      <a:pt x="80" y="33"/>
                    </a:lnTo>
                    <a:lnTo>
                      <a:pt x="94" y="0"/>
                    </a:lnTo>
                    <a:lnTo>
                      <a:pt x="94" y="1826"/>
                    </a:lnTo>
                    <a:lnTo>
                      <a:pt x="80" y="1793"/>
                    </a:lnTo>
                    <a:lnTo>
                      <a:pt x="68" y="1760"/>
                    </a:lnTo>
                    <a:lnTo>
                      <a:pt x="55" y="1725"/>
                    </a:lnTo>
                    <a:lnTo>
                      <a:pt x="43" y="1690"/>
                    </a:lnTo>
                    <a:lnTo>
                      <a:pt x="31" y="1655"/>
                    </a:lnTo>
                    <a:lnTo>
                      <a:pt x="21" y="1619"/>
                    </a:lnTo>
                    <a:lnTo>
                      <a:pt x="11" y="1582"/>
                    </a:lnTo>
                    <a:lnTo>
                      <a:pt x="0" y="154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003480" y="4824360"/>
                <a:ext cx="30240" cy="642960"/>
              </a:xfrm>
              <a:custGeom>
                <a:avLst/>
                <a:gdLst/>
                <a:ahLst/>
                <a:rect l="l" t="t" r="r" b="b"/>
                <a:pathLst>
                  <a:path w="93" h="2024">
                    <a:moveTo>
                      <a:pt x="0" y="1799"/>
                    </a:moveTo>
                    <a:lnTo>
                      <a:pt x="0" y="216"/>
                    </a:lnTo>
                    <a:lnTo>
                      <a:pt x="11" y="189"/>
                    </a:lnTo>
                    <a:lnTo>
                      <a:pt x="21" y="161"/>
                    </a:lnTo>
                    <a:lnTo>
                      <a:pt x="31" y="135"/>
                    </a:lnTo>
                    <a:lnTo>
                      <a:pt x="42" y="108"/>
                    </a:lnTo>
                    <a:lnTo>
                      <a:pt x="54" y="82"/>
                    </a:lnTo>
                    <a:lnTo>
                      <a:pt x="66" y="56"/>
                    </a:lnTo>
                    <a:lnTo>
                      <a:pt x="78" y="32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1" y="5"/>
                    </a:lnTo>
                    <a:lnTo>
                      <a:pt x="91" y="4"/>
                    </a:lnTo>
                    <a:lnTo>
                      <a:pt x="92" y="3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93" y="0"/>
                    </a:lnTo>
                    <a:lnTo>
                      <a:pt x="93" y="2024"/>
                    </a:lnTo>
                    <a:lnTo>
                      <a:pt x="81" y="1997"/>
                    </a:lnTo>
                    <a:lnTo>
                      <a:pt x="68" y="1971"/>
                    </a:lnTo>
                    <a:lnTo>
                      <a:pt x="56" y="1943"/>
                    </a:lnTo>
                    <a:lnTo>
                      <a:pt x="44" y="1916"/>
                    </a:lnTo>
                    <a:lnTo>
                      <a:pt x="32" y="1887"/>
                    </a:lnTo>
                    <a:lnTo>
                      <a:pt x="21" y="1859"/>
                    </a:lnTo>
                    <a:lnTo>
                      <a:pt x="11" y="1829"/>
                    </a:lnTo>
                    <a:lnTo>
                      <a:pt x="0" y="1799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017880" y="4799160"/>
                <a:ext cx="30240" cy="695160"/>
              </a:xfrm>
              <a:custGeom>
                <a:avLst/>
                <a:gdLst/>
                <a:ahLst/>
                <a:rect l="l" t="t" r="r" b="b"/>
                <a:pathLst>
                  <a:path w="93" h="2188">
                    <a:moveTo>
                      <a:pt x="0" y="2002"/>
                    </a:moveTo>
                    <a:lnTo>
                      <a:pt x="0" y="176"/>
                    </a:lnTo>
                    <a:lnTo>
                      <a:pt x="5" y="165"/>
                    </a:lnTo>
                    <a:lnTo>
                      <a:pt x="11" y="154"/>
                    </a:lnTo>
                    <a:lnTo>
                      <a:pt x="16" y="141"/>
                    </a:lnTo>
                    <a:lnTo>
                      <a:pt x="21" y="130"/>
                    </a:lnTo>
                    <a:lnTo>
                      <a:pt x="26" y="119"/>
                    </a:lnTo>
                    <a:lnTo>
                      <a:pt x="32" y="108"/>
                    </a:lnTo>
                    <a:lnTo>
                      <a:pt x="37" y="97"/>
                    </a:lnTo>
                    <a:lnTo>
                      <a:pt x="43" y="85"/>
                    </a:lnTo>
                    <a:lnTo>
                      <a:pt x="49" y="74"/>
                    </a:lnTo>
                    <a:lnTo>
                      <a:pt x="56" y="63"/>
                    </a:lnTo>
                    <a:lnTo>
                      <a:pt x="62" y="52"/>
                    </a:lnTo>
                    <a:lnTo>
                      <a:pt x="68" y="41"/>
                    </a:lnTo>
                    <a:lnTo>
                      <a:pt x="74" y="30"/>
                    </a:lnTo>
                    <a:lnTo>
                      <a:pt x="80" y="20"/>
                    </a:lnTo>
                    <a:lnTo>
                      <a:pt x="87" y="10"/>
                    </a:lnTo>
                    <a:lnTo>
                      <a:pt x="93" y="0"/>
                    </a:lnTo>
                    <a:lnTo>
                      <a:pt x="93" y="2188"/>
                    </a:lnTo>
                    <a:lnTo>
                      <a:pt x="88" y="2179"/>
                    </a:lnTo>
                    <a:lnTo>
                      <a:pt x="84" y="2171"/>
                    </a:lnTo>
                    <a:lnTo>
                      <a:pt x="79" y="2163"/>
                    </a:lnTo>
                    <a:lnTo>
                      <a:pt x="74" y="2155"/>
                    </a:lnTo>
                    <a:lnTo>
                      <a:pt x="70" y="2147"/>
                    </a:lnTo>
                    <a:lnTo>
                      <a:pt x="65" y="2138"/>
                    </a:lnTo>
                    <a:lnTo>
                      <a:pt x="61" y="2129"/>
                    </a:lnTo>
                    <a:lnTo>
                      <a:pt x="56" y="2120"/>
                    </a:lnTo>
                    <a:lnTo>
                      <a:pt x="48" y="2106"/>
                    </a:lnTo>
                    <a:lnTo>
                      <a:pt x="41" y="2092"/>
                    </a:lnTo>
                    <a:lnTo>
                      <a:pt x="34" y="2077"/>
                    </a:lnTo>
                    <a:lnTo>
                      <a:pt x="27" y="2062"/>
                    </a:lnTo>
                    <a:lnTo>
                      <a:pt x="20" y="2048"/>
                    </a:lnTo>
                    <a:lnTo>
                      <a:pt x="14" y="2032"/>
                    </a:lnTo>
                    <a:lnTo>
                      <a:pt x="7" y="2017"/>
                    </a:lnTo>
                    <a:lnTo>
                      <a:pt x="0" y="2002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033720" y="4778280"/>
                <a:ext cx="28440" cy="736560"/>
              </a:xfrm>
              <a:custGeom>
                <a:avLst/>
                <a:gdLst/>
                <a:ahLst/>
                <a:rect l="l" t="t" r="r" b="b"/>
                <a:pathLst>
                  <a:path w="94" h="2324">
                    <a:moveTo>
                      <a:pt x="0" y="2170"/>
                    </a:moveTo>
                    <a:lnTo>
                      <a:pt x="0" y="146"/>
                    </a:lnTo>
                    <a:lnTo>
                      <a:pt x="12" y="126"/>
                    </a:lnTo>
                    <a:lnTo>
                      <a:pt x="23" y="106"/>
                    </a:lnTo>
                    <a:lnTo>
                      <a:pt x="34" y="87"/>
                    </a:lnTo>
                    <a:lnTo>
                      <a:pt x="46" y="69"/>
                    </a:lnTo>
                    <a:lnTo>
                      <a:pt x="58" y="51"/>
                    </a:lnTo>
                    <a:lnTo>
                      <a:pt x="70" y="34"/>
                    </a:lnTo>
                    <a:lnTo>
                      <a:pt x="82" y="17"/>
                    </a:lnTo>
                    <a:lnTo>
                      <a:pt x="94" y="0"/>
                    </a:lnTo>
                    <a:lnTo>
                      <a:pt x="94" y="2324"/>
                    </a:lnTo>
                    <a:lnTo>
                      <a:pt x="83" y="2309"/>
                    </a:lnTo>
                    <a:lnTo>
                      <a:pt x="72" y="2292"/>
                    </a:lnTo>
                    <a:lnTo>
                      <a:pt x="62" y="2276"/>
                    </a:lnTo>
                    <a:lnTo>
                      <a:pt x="50" y="2259"/>
                    </a:lnTo>
                    <a:lnTo>
                      <a:pt x="40" y="2242"/>
                    </a:lnTo>
                    <a:lnTo>
                      <a:pt x="30" y="2224"/>
                    </a:lnTo>
                    <a:lnTo>
                      <a:pt x="20" y="2207"/>
                    </a:lnTo>
                    <a:lnTo>
                      <a:pt x="10" y="2187"/>
                    </a:lnTo>
                    <a:lnTo>
                      <a:pt x="9" y="2185"/>
                    </a:lnTo>
                    <a:lnTo>
                      <a:pt x="7" y="2183"/>
                    </a:lnTo>
                    <a:lnTo>
                      <a:pt x="6" y="2181"/>
                    </a:lnTo>
                    <a:lnTo>
                      <a:pt x="5" y="2179"/>
                    </a:lnTo>
                    <a:lnTo>
                      <a:pt x="4" y="2177"/>
                    </a:lnTo>
                    <a:lnTo>
                      <a:pt x="3" y="2175"/>
                    </a:lnTo>
                    <a:lnTo>
                      <a:pt x="2" y="2172"/>
                    </a:lnTo>
                    <a:lnTo>
                      <a:pt x="0" y="2170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048120" y="4761000"/>
                <a:ext cx="29880" cy="772920"/>
              </a:xfrm>
              <a:custGeom>
                <a:avLst/>
                <a:gdLst/>
                <a:ahLst/>
                <a:rect l="l" t="t" r="r" b="b"/>
                <a:pathLst>
                  <a:path w="94" h="2435">
                    <a:moveTo>
                      <a:pt x="0" y="2309"/>
                    </a:moveTo>
                    <a:lnTo>
                      <a:pt x="0" y="121"/>
                    </a:lnTo>
                    <a:lnTo>
                      <a:pt x="12" y="103"/>
                    </a:lnTo>
                    <a:lnTo>
                      <a:pt x="23" y="87"/>
                    </a:lnTo>
                    <a:lnTo>
                      <a:pt x="34" y="72"/>
                    </a:lnTo>
                    <a:lnTo>
                      <a:pt x="46" y="56"/>
                    </a:lnTo>
                    <a:lnTo>
                      <a:pt x="58" y="42"/>
                    </a:lnTo>
                    <a:lnTo>
                      <a:pt x="70" y="28"/>
                    </a:lnTo>
                    <a:lnTo>
                      <a:pt x="82" y="14"/>
                    </a:lnTo>
                    <a:lnTo>
                      <a:pt x="94" y="0"/>
                    </a:lnTo>
                    <a:lnTo>
                      <a:pt x="94" y="996"/>
                    </a:lnTo>
                    <a:lnTo>
                      <a:pt x="90" y="1021"/>
                    </a:lnTo>
                    <a:lnTo>
                      <a:pt x="87" y="1048"/>
                    </a:lnTo>
                    <a:lnTo>
                      <a:pt x="84" y="1075"/>
                    </a:lnTo>
                    <a:lnTo>
                      <a:pt x="82" y="1102"/>
                    </a:lnTo>
                    <a:lnTo>
                      <a:pt x="80" y="1130"/>
                    </a:lnTo>
                    <a:lnTo>
                      <a:pt x="79" y="1159"/>
                    </a:lnTo>
                    <a:lnTo>
                      <a:pt x="78" y="1188"/>
                    </a:lnTo>
                    <a:lnTo>
                      <a:pt x="78" y="1217"/>
                    </a:lnTo>
                    <a:lnTo>
                      <a:pt x="78" y="1245"/>
                    </a:lnTo>
                    <a:lnTo>
                      <a:pt x="79" y="1271"/>
                    </a:lnTo>
                    <a:lnTo>
                      <a:pt x="80" y="1299"/>
                    </a:lnTo>
                    <a:lnTo>
                      <a:pt x="82" y="1324"/>
                    </a:lnTo>
                    <a:lnTo>
                      <a:pt x="84" y="1351"/>
                    </a:lnTo>
                    <a:lnTo>
                      <a:pt x="87" y="1375"/>
                    </a:lnTo>
                    <a:lnTo>
                      <a:pt x="90" y="1401"/>
                    </a:lnTo>
                    <a:lnTo>
                      <a:pt x="94" y="1425"/>
                    </a:lnTo>
                    <a:lnTo>
                      <a:pt x="94" y="2435"/>
                    </a:lnTo>
                    <a:lnTo>
                      <a:pt x="82" y="2421"/>
                    </a:lnTo>
                    <a:lnTo>
                      <a:pt x="70" y="2406"/>
                    </a:lnTo>
                    <a:lnTo>
                      <a:pt x="58" y="2391"/>
                    </a:lnTo>
                    <a:lnTo>
                      <a:pt x="46" y="2376"/>
                    </a:lnTo>
                    <a:lnTo>
                      <a:pt x="34" y="2360"/>
                    </a:lnTo>
                    <a:lnTo>
                      <a:pt x="23" y="2343"/>
                    </a:lnTo>
                    <a:lnTo>
                      <a:pt x="12" y="2326"/>
                    </a:lnTo>
                    <a:lnTo>
                      <a:pt x="0" y="2309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062160" y="4746600"/>
                <a:ext cx="30240" cy="803160"/>
              </a:xfrm>
              <a:custGeom>
                <a:avLst/>
                <a:gdLst/>
                <a:ahLst/>
                <a:rect l="l" t="t" r="r" b="b"/>
                <a:pathLst>
                  <a:path w="94" h="2529">
                    <a:moveTo>
                      <a:pt x="0" y="2423"/>
                    </a:moveTo>
                    <a:lnTo>
                      <a:pt x="0" y="99"/>
                    </a:lnTo>
                    <a:lnTo>
                      <a:pt x="12" y="86"/>
                    </a:lnTo>
                    <a:lnTo>
                      <a:pt x="23" y="72"/>
                    </a:lnTo>
                    <a:lnTo>
                      <a:pt x="34" y="60"/>
                    </a:lnTo>
                    <a:lnTo>
                      <a:pt x="46" y="46"/>
                    </a:lnTo>
                    <a:lnTo>
                      <a:pt x="57" y="34"/>
                    </a:lnTo>
                    <a:lnTo>
                      <a:pt x="70" y="23"/>
                    </a:lnTo>
                    <a:lnTo>
                      <a:pt x="82" y="12"/>
                    </a:lnTo>
                    <a:lnTo>
                      <a:pt x="94" y="0"/>
                    </a:lnTo>
                    <a:lnTo>
                      <a:pt x="94" y="863"/>
                    </a:lnTo>
                    <a:lnTo>
                      <a:pt x="86" y="885"/>
                    </a:lnTo>
                    <a:lnTo>
                      <a:pt x="79" y="906"/>
                    </a:lnTo>
                    <a:lnTo>
                      <a:pt x="72" y="929"/>
                    </a:lnTo>
                    <a:lnTo>
                      <a:pt x="66" y="952"/>
                    </a:lnTo>
                    <a:lnTo>
                      <a:pt x="61" y="975"/>
                    </a:lnTo>
                    <a:lnTo>
                      <a:pt x="54" y="999"/>
                    </a:lnTo>
                    <a:lnTo>
                      <a:pt x="50" y="1023"/>
                    </a:lnTo>
                    <a:lnTo>
                      <a:pt x="46" y="1048"/>
                    </a:lnTo>
                    <a:lnTo>
                      <a:pt x="42" y="1072"/>
                    </a:lnTo>
                    <a:lnTo>
                      <a:pt x="39" y="1099"/>
                    </a:lnTo>
                    <a:lnTo>
                      <a:pt x="36" y="1124"/>
                    </a:lnTo>
                    <a:lnTo>
                      <a:pt x="34" y="1151"/>
                    </a:lnTo>
                    <a:lnTo>
                      <a:pt x="33" y="1178"/>
                    </a:lnTo>
                    <a:lnTo>
                      <a:pt x="32" y="1206"/>
                    </a:lnTo>
                    <a:lnTo>
                      <a:pt x="31" y="1234"/>
                    </a:lnTo>
                    <a:lnTo>
                      <a:pt x="31" y="1262"/>
                    </a:lnTo>
                    <a:lnTo>
                      <a:pt x="32" y="1316"/>
                    </a:lnTo>
                    <a:lnTo>
                      <a:pt x="35" y="1369"/>
                    </a:lnTo>
                    <a:lnTo>
                      <a:pt x="37" y="1396"/>
                    </a:lnTo>
                    <a:lnTo>
                      <a:pt x="40" y="1421"/>
                    </a:lnTo>
                    <a:lnTo>
                      <a:pt x="43" y="1446"/>
                    </a:lnTo>
                    <a:lnTo>
                      <a:pt x="47" y="1470"/>
                    </a:lnTo>
                    <a:lnTo>
                      <a:pt x="51" y="1495"/>
                    </a:lnTo>
                    <a:lnTo>
                      <a:pt x="55" y="1518"/>
                    </a:lnTo>
                    <a:lnTo>
                      <a:pt x="61" y="1541"/>
                    </a:lnTo>
                    <a:lnTo>
                      <a:pt x="67" y="1564"/>
                    </a:lnTo>
                    <a:lnTo>
                      <a:pt x="73" y="1585"/>
                    </a:lnTo>
                    <a:lnTo>
                      <a:pt x="79" y="1608"/>
                    </a:lnTo>
                    <a:lnTo>
                      <a:pt x="86" y="1629"/>
                    </a:lnTo>
                    <a:lnTo>
                      <a:pt x="94" y="1650"/>
                    </a:lnTo>
                    <a:lnTo>
                      <a:pt x="94" y="2529"/>
                    </a:lnTo>
                    <a:lnTo>
                      <a:pt x="82" y="2517"/>
                    </a:lnTo>
                    <a:lnTo>
                      <a:pt x="70" y="2504"/>
                    </a:lnTo>
                    <a:lnTo>
                      <a:pt x="57" y="2492"/>
                    </a:lnTo>
                    <a:lnTo>
                      <a:pt x="46" y="2479"/>
                    </a:lnTo>
                    <a:lnTo>
                      <a:pt x="34" y="2466"/>
                    </a:lnTo>
                    <a:lnTo>
                      <a:pt x="23" y="2451"/>
                    </a:lnTo>
                    <a:lnTo>
                      <a:pt x="12" y="2437"/>
                    </a:lnTo>
                    <a:lnTo>
                      <a:pt x="0" y="2423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078000" y="4735440"/>
                <a:ext cx="30240" cy="827280"/>
              </a:xfrm>
              <a:custGeom>
                <a:avLst/>
                <a:gdLst/>
                <a:ahLst/>
                <a:rect l="l" t="t" r="r" b="b"/>
                <a:pathLst>
                  <a:path w="94" h="2605">
                    <a:moveTo>
                      <a:pt x="0" y="2516"/>
                    </a:moveTo>
                    <a:lnTo>
                      <a:pt x="0" y="1506"/>
                    </a:lnTo>
                    <a:lnTo>
                      <a:pt x="6" y="1540"/>
                    </a:lnTo>
                    <a:lnTo>
                      <a:pt x="14" y="1574"/>
                    </a:lnTo>
                    <a:lnTo>
                      <a:pt x="22" y="1606"/>
                    </a:lnTo>
                    <a:lnTo>
                      <a:pt x="30" y="1638"/>
                    </a:lnTo>
                    <a:lnTo>
                      <a:pt x="40" y="1668"/>
                    </a:lnTo>
                    <a:lnTo>
                      <a:pt x="51" y="1698"/>
                    </a:lnTo>
                    <a:lnTo>
                      <a:pt x="64" y="1727"/>
                    </a:lnTo>
                    <a:lnTo>
                      <a:pt x="76" y="1754"/>
                    </a:lnTo>
                    <a:lnTo>
                      <a:pt x="79" y="1759"/>
                    </a:lnTo>
                    <a:lnTo>
                      <a:pt x="81" y="1763"/>
                    </a:lnTo>
                    <a:lnTo>
                      <a:pt x="83" y="1767"/>
                    </a:lnTo>
                    <a:lnTo>
                      <a:pt x="85" y="1771"/>
                    </a:lnTo>
                    <a:lnTo>
                      <a:pt x="87" y="1775"/>
                    </a:lnTo>
                    <a:lnTo>
                      <a:pt x="89" y="1780"/>
                    </a:lnTo>
                    <a:lnTo>
                      <a:pt x="91" y="1784"/>
                    </a:lnTo>
                    <a:lnTo>
                      <a:pt x="94" y="1788"/>
                    </a:lnTo>
                    <a:lnTo>
                      <a:pt x="94" y="2605"/>
                    </a:lnTo>
                    <a:lnTo>
                      <a:pt x="90" y="2602"/>
                    </a:lnTo>
                    <a:lnTo>
                      <a:pt x="87" y="2600"/>
                    </a:lnTo>
                    <a:lnTo>
                      <a:pt x="84" y="2597"/>
                    </a:lnTo>
                    <a:lnTo>
                      <a:pt x="81" y="2595"/>
                    </a:lnTo>
                    <a:lnTo>
                      <a:pt x="78" y="2591"/>
                    </a:lnTo>
                    <a:lnTo>
                      <a:pt x="75" y="2589"/>
                    </a:lnTo>
                    <a:lnTo>
                      <a:pt x="71" y="2586"/>
                    </a:lnTo>
                    <a:lnTo>
                      <a:pt x="68" y="2583"/>
                    </a:lnTo>
                    <a:lnTo>
                      <a:pt x="60" y="2576"/>
                    </a:lnTo>
                    <a:lnTo>
                      <a:pt x="50" y="2568"/>
                    </a:lnTo>
                    <a:lnTo>
                      <a:pt x="42" y="2560"/>
                    </a:lnTo>
                    <a:lnTo>
                      <a:pt x="34" y="2552"/>
                    </a:lnTo>
                    <a:lnTo>
                      <a:pt x="25" y="2544"/>
                    </a:lnTo>
                    <a:lnTo>
                      <a:pt x="17" y="2534"/>
                    </a:lnTo>
                    <a:lnTo>
                      <a:pt x="8" y="2525"/>
                    </a:lnTo>
                    <a:lnTo>
                      <a:pt x="0" y="2516"/>
                    </a:lnTo>
                    <a:close/>
                    <a:moveTo>
                      <a:pt x="0" y="1077"/>
                    </a:moveTo>
                    <a:lnTo>
                      <a:pt x="0" y="81"/>
                    </a:lnTo>
                    <a:lnTo>
                      <a:pt x="6" y="75"/>
                    </a:lnTo>
                    <a:lnTo>
                      <a:pt x="13" y="69"/>
                    </a:lnTo>
                    <a:lnTo>
                      <a:pt x="19" y="63"/>
                    </a:lnTo>
                    <a:lnTo>
                      <a:pt x="25" y="57"/>
                    </a:lnTo>
                    <a:lnTo>
                      <a:pt x="31" y="51"/>
                    </a:lnTo>
                    <a:lnTo>
                      <a:pt x="38" y="45"/>
                    </a:lnTo>
                    <a:lnTo>
                      <a:pt x="44" y="38"/>
                    </a:lnTo>
                    <a:lnTo>
                      <a:pt x="50" y="33"/>
                    </a:lnTo>
                    <a:lnTo>
                      <a:pt x="55" y="29"/>
                    </a:lnTo>
                    <a:lnTo>
                      <a:pt x="62" y="24"/>
                    </a:lnTo>
                    <a:lnTo>
                      <a:pt x="67" y="20"/>
                    </a:lnTo>
                    <a:lnTo>
                      <a:pt x="72" y="16"/>
                    </a:lnTo>
                    <a:lnTo>
                      <a:pt x="78" y="12"/>
                    </a:lnTo>
                    <a:lnTo>
                      <a:pt x="83" y="8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799"/>
                    </a:lnTo>
                    <a:lnTo>
                      <a:pt x="91" y="804"/>
                    </a:lnTo>
                    <a:lnTo>
                      <a:pt x="88" y="811"/>
                    </a:lnTo>
                    <a:lnTo>
                      <a:pt x="85" y="816"/>
                    </a:lnTo>
                    <a:lnTo>
                      <a:pt x="82" y="821"/>
                    </a:lnTo>
                    <a:lnTo>
                      <a:pt x="79" y="827"/>
                    </a:lnTo>
                    <a:lnTo>
                      <a:pt x="76" y="832"/>
                    </a:lnTo>
                    <a:lnTo>
                      <a:pt x="73" y="838"/>
                    </a:lnTo>
                    <a:lnTo>
                      <a:pt x="71" y="844"/>
                    </a:lnTo>
                    <a:lnTo>
                      <a:pt x="58" y="871"/>
                    </a:lnTo>
                    <a:lnTo>
                      <a:pt x="47" y="897"/>
                    </a:lnTo>
                    <a:lnTo>
                      <a:pt x="37" y="925"/>
                    </a:lnTo>
                    <a:lnTo>
                      <a:pt x="28" y="954"/>
                    </a:lnTo>
                    <a:lnTo>
                      <a:pt x="20" y="983"/>
                    </a:lnTo>
                    <a:lnTo>
                      <a:pt x="13" y="1014"/>
                    </a:lnTo>
                    <a:lnTo>
                      <a:pt x="6" y="1045"/>
                    </a:lnTo>
                    <a:lnTo>
                      <a:pt x="0" y="107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092400" y="4726080"/>
                <a:ext cx="30240" cy="846000"/>
              </a:xfrm>
              <a:custGeom>
                <a:avLst/>
                <a:gdLst/>
                <a:ahLst/>
                <a:rect l="l" t="t" r="r" b="b"/>
                <a:pathLst>
                  <a:path w="93" h="2666">
                    <a:moveTo>
                      <a:pt x="0" y="2594"/>
                    </a:moveTo>
                    <a:lnTo>
                      <a:pt x="0" y="1715"/>
                    </a:lnTo>
                    <a:lnTo>
                      <a:pt x="3" y="1724"/>
                    </a:lnTo>
                    <a:lnTo>
                      <a:pt x="6" y="1733"/>
                    </a:lnTo>
                    <a:lnTo>
                      <a:pt x="10" y="1741"/>
                    </a:lnTo>
                    <a:lnTo>
                      <a:pt x="14" y="1749"/>
                    </a:lnTo>
                    <a:lnTo>
                      <a:pt x="18" y="1759"/>
                    </a:lnTo>
                    <a:lnTo>
                      <a:pt x="22" y="1767"/>
                    </a:lnTo>
                    <a:lnTo>
                      <a:pt x="26" y="1775"/>
                    </a:lnTo>
                    <a:lnTo>
                      <a:pt x="29" y="1783"/>
                    </a:lnTo>
                    <a:lnTo>
                      <a:pt x="37" y="1798"/>
                    </a:lnTo>
                    <a:lnTo>
                      <a:pt x="44" y="1813"/>
                    </a:lnTo>
                    <a:lnTo>
                      <a:pt x="52" y="1826"/>
                    </a:lnTo>
                    <a:lnTo>
                      <a:pt x="61" y="1839"/>
                    </a:lnTo>
                    <a:lnTo>
                      <a:pt x="69" y="1852"/>
                    </a:lnTo>
                    <a:lnTo>
                      <a:pt x="77" y="1864"/>
                    </a:lnTo>
                    <a:lnTo>
                      <a:pt x="85" y="1876"/>
                    </a:lnTo>
                    <a:lnTo>
                      <a:pt x="93" y="1886"/>
                    </a:lnTo>
                    <a:lnTo>
                      <a:pt x="93" y="2666"/>
                    </a:lnTo>
                    <a:lnTo>
                      <a:pt x="84" y="2660"/>
                    </a:lnTo>
                    <a:lnTo>
                      <a:pt x="75" y="2654"/>
                    </a:lnTo>
                    <a:lnTo>
                      <a:pt x="66" y="2648"/>
                    </a:lnTo>
                    <a:lnTo>
                      <a:pt x="56" y="2641"/>
                    </a:lnTo>
                    <a:lnTo>
                      <a:pt x="47" y="2635"/>
                    </a:lnTo>
                    <a:lnTo>
                      <a:pt x="39" y="2628"/>
                    </a:lnTo>
                    <a:lnTo>
                      <a:pt x="30" y="2620"/>
                    </a:lnTo>
                    <a:lnTo>
                      <a:pt x="21" y="2612"/>
                    </a:lnTo>
                    <a:lnTo>
                      <a:pt x="19" y="2610"/>
                    </a:lnTo>
                    <a:lnTo>
                      <a:pt x="16" y="2608"/>
                    </a:lnTo>
                    <a:lnTo>
                      <a:pt x="13" y="2605"/>
                    </a:lnTo>
                    <a:lnTo>
                      <a:pt x="10" y="2603"/>
                    </a:lnTo>
                    <a:lnTo>
                      <a:pt x="7" y="2601"/>
                    </a:lnTo>
                    <a:lnTo>
                      <a:pt x="5" y="2598"/>
                    </a:lnTo>
                    <a:lnTo>
                      <a:pt x="2" y="2596"/>
                    </a:lnTo>
                    <a:lnTo>
                      <a:pt x="0" y="2594"/>
                    </a:lnTo>
                    <a:close/>
                    <a:moveTo>
                      <a:pt x="0" y="928"/>
                    </a:moveTo>
                    <a:lnTo>
                      <a:pt x="0" y="65"/>
                    </a:lnTo>
                    <a:lnTo>
                      <a:pt x="0" y="65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15" y="53"/>
                    </a:lnTo>
                    <a:lnTo>
                      <a:pt x="26" y="45"/>
                    </a:lnTo>
                    <a:lnTo>
                      <a:pt x="37" y="36"/>
                    </a:lnTo>
                    <a:lnTo>
                      <a:pt x="48" y="29"/>
                    </a:lnTo>
                    <a:lnTo>
                      <a:pt x="59" y="20"/>
                    </a:lnTo>
                    <a:lnTo>
                      <a:pt x="71" y="13"/>
                    </a:lnTo>
                    <a:lnTo>
                      <a:pt x="82" y="6"/>
                    </a:lnTo>
                    <a:lnTo>
                      <a:pt x="93" y="0"/>
                    </a:lnTo>
                    <a:lnTo>
                      <a:pt x="93" y="762"/>
                    </a:lnTo>
                    <a:lnTo>
                      <a:pt x="84" y="773"/>
                    </a:lnTo>
                    <a:lnTo>
                      <a:pt x="75" y="785"/>
                    </a:lnTo>
                    <a:lnTo>
                      <a:pt x="66" y="799"/>
                    </a:lnTo>
                    <a:lnTo>
                      <a:pt x="56" y="812"/>
                    </a:lnTo>
                    <a:lnTo>
                      <a:pt x="48" y="826"/>
                    </a:lnTo>
                    <a:lnTo>
                      <a:pt x="40" y="841"/>
                    </a:lnTo>
                    <a:lnTo>
                      <a:pt x="32" y="857"/>
                    </a:lnTo>
                    <a:lnTo>
                      <a:pt x="24" y="873"/>
                    </a:lnTo>
                    <a:lnTo>
                      <a:pt x="21" y="879"/>
                    </a:lnTo>
                    <a:lnTo>
                      <a:pt x="18" y="886"/>
                    </a:lnTo>
                    <a:lnTo>
                      <a:pt x="15" y="894"/>
                    </a:lnTo>
                    <a:lnTo>
                      <a:pt x="11" y="900"/>
                    </a:lnTo>
                    <a:lnTo>
                      <a:pt x="8" y="907"/>
                    </a:lnTo>
                    <a:lnTo>
                      <a:pt x="5" y="914"/>
                    </a:lnTo>
                    <a:lnTo>
                      <a:pt x="2" y="921"/>
                    </a:lnTo>
                    <a:lnTo>
                      <a:pt x="0" y="92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108240" y="4719600"/>
                <a:ext cx="28800" cy="860400"/>
              </a:xfrm>
              <a:custGeom>
                <a:avLst/>
                <a:gdLst/>
                <a:ahLst/>
                <a:rect l="l" t="t" r="r" b="b"/>
                <a:pathLst>
                  <a:path w="93" h="2713">
                    <a:moveTo>
                      <a:pt x="0" y="2655"/>
                    </a:moveTo>
                    <a:lnTo>
                      <a:pt x="0" y="1838"/>
                    </a:lnTo>
                    <a:lnTo>
                      <a:pt x="10" y="1856"/>
                    </a:lnTo>
                    <a:lnTo>
                      <a:pt x="22" y="1873"/>
                    </a:lnTo>
                    <a:lnTo>
                      <a:pt x="33" y="1890"/>
                    </a:lnTo>
                    <a:lnTo>
                      <a:pt x="44" y="1905"/>
                    </a:lnTo>
                    <a:lnTo>
                      <a:pt x="56" y="1919"/>
                    </a:lnTo>
                    <a:lnTo>
                      <a:pt x="69" y="1932"/>
                    </a:lnTo>
                    <a:lnTo>
                      <a:pt x="81" y="1944"/>
                    </a:lnTo>
                    <a:lnTo>
                      <a:pt x="93" y="1955"/>
                    </a:lnTo>
                    <a:lnTo>
                      <a:pt x="93" y="2713"/>
                    </a:lnTo>
                    <a:lnTo>
                      <a:pt x="81" y="2707"/>
                    </a:lnTo>
                    <a:lnTo>
                      <a:pt x="70" y="2701"/>
                    </a:lnTo>
                    <a:lnTo>
                      <a:pt x="57" y="2693"/>
                    </a:lnTo>
                    <a:lnTo>
                      <a:pt x="46" y="2686"/>
                    </a:lnTo>
                    <a:lnTo>
                      <a:pt x="34" y="2679"/>
                    </a:lnTo>
                    <a:lnTo>
                      <a:pt x="23" y="2671"/>
                    </a:lnTo>
                    <a:lnTo>
                      <a:pt x="11" y="2663"/>
                    </a:lnTo>
                    <a:lnTo>
                      <a:pt x="0" y="2655"/>
                    </a:lnTo>
                    <a:close/>
                    <a:moveTo>
                      <a:pt x="0" y="849"/>
                    </a:moveTo>
                    <a:lnTo>
                      <a:pt x="0" y="50"/>
                    </a:lnTo>
                    <a:lnTo>
                      <a:pt x="11" y="43"/>
                    </a:lnTo>
                    <a:lnTo>
                      <a:pt x="23" y="35"/>
                    </a:lnTo>
                    <a:lnTo>
                      <a:pt x="34" y="28"/>
                    </a:lnTo>
                    <a:lnTo>
                      <a:pt x="46" y="21"/>
                    </a:lnTo>
                    <a:lnTo>
                      <a:pt x="57" y="16"/>
                    </a:lnTo>
                    <a:lnTo>
                      <a:pt x="70" y="10"/>
                    </a:lnTo>
                    <a:lnTo>
                      <a:pt x="81" y="5"/>
                    </a:lnTo>
                    <a:lnTo>
                      <a:pt x="93" y="0"/>
                    </a:lnTo>
                    <a:lnTo>
                      <a:pt x="93" y="739"/>
                    </a:lnTo>
                    <a:lnTo>
                      <a:pt x="81" y="749"/>
                    </a:lnTo>
                    <a:lnTo>
                      <a:pt x="69" y="761"/>
                    </a:lnTo>
                    <a:lnTo>
                      <a:pt x="56" y="773"/>
                    </a:lnTo>
                    <a:lnTo>
                      <a:pt x="44" y="786"/>
                    </a:lnTo>
                    <a:lnTo>
                      <a:pt x="33" y="800"/>
                    </a:lnTo>
                    <a:lnTo>
                      <a:pt x="22" y="816"/>
                    </a:lnTo>
                    <a:lnTo>
                      <a:pt x="10" y="832"/>
                    </a:lnTo>
                    <a:lnTo>
                      <a:pt x="0" y="849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122640" y="4713120"/>
                <a:ext cx="30240" cy="873360"/>
              </a:xfrm>
              <a:custGeom>
                <a:avLst/>
                <a:gdLst/>
                <a:ahLst/>
                <a:rect l="l" t="t" r="r" b="b"/>
                <a:pathLst>
                  <a:path w="94" h="2748">
                    <a:moveTo>
                      <a:pt x="0" y="2704"/>
                    </a:moveTo>
                    <a:lnTo>
                      <a:pt x="0" y="1924"/>
                    </a:lnTo>
                    <a:lnTo>
                      <a:pt x="11" y="1937"/>
                    </a:lnTo>
                    <a:lnTo>
                      <a:pt x="23" y="1950"/>
                    </a:lnTo>
                    <a:lnTo>
                      <a:pt x="34" y="1960"/>
                    </a:lnTo>
                    <a:lnTo>
                      <a:pt x="45" y="1970"/>
                    </a:lnTo>
                    <a:lnTo>
                      <a:pt x="57" y="1979"/>
                    </a:lnTo>
                    <a:lnTo>
                      <a:pt x="70" y="1987"/>
                    </a:lnTo>
                    <a:lnTo>
                      <a:pt x="82" y="1995"/>
                    </a:lnTo>
                    <a:lnTo>
                      <a:pt x="94" y="2002"/>
                    </a:lnTo>
                    <a:lnTo>
                      <a:pt x="94" y="2748"/>
                    </a:lnTo>
                    <a:lnTo>
                      <a:pt x="82" y="2744"/>
                    </a:lnTo>
                    <a:lnTo>
                      <a:pt x="71" y="2740"/>
                    </a:lnTo>
                    <a:lnTo>
                      <a:pt x="58" y="2735"/>
                    </a:lnTo>
                    <a:lnTo>
                      <a:pt x="47" y="2729"/>
                    </a:lnTo>
                    <a:lnTo>
                      <a:pt x="35" y="2724"/>
                    </a:lnTo>
                    <a:lnTo>
                      <a:pt x="24" y="2718"/>
                    </a:lnTo>
                    <a:lnTo>
                      <a:pt x="12" y="2710"/>
                    </a:lnTo>
                    <a:lnTo>
                      <a:pt x="0" y="2704"/>
                    </a:lnTo>
                    <a:close/>
                    <a:moveTo>
                      <a:pt x="0" y="800"/>
                    </a:moveTo>
                    <a:lnTo>
                      <a:pt x="0" y="38"/>
                    </a:lnTo>
                    <a:lnTo>
                      <a:pt x="12" y="32"/>
                    </a:lnTo>
                    <a:lnTo>
                      <a:pt x="24" y="27"/>
                    </a:lnTo>
                    <a:lnTo>
                      <a:pt x="35" y="22"/>
                    </a:lnTo>
                    <a:lnTo>
                      <a:pt x="47" y="17"/>
                    </a:lnTo>
                    <a:lnTo>
                      <a:pt x="58" y="12"/>
                    </a:lnTo>
                    <a:lnTo>
                      <a:pt x="71" y="7"/>
                    </a:lnTo>
                    <a:lnTo>
                      <a:pt x="82" y="4"/>
                    </a:lnTo>
                    <a:lnTo>
                      <a:pt x="94" y="0"/>
                    </a:lnTo>
                    <a:lnTo>
                      <a:pt x="94" y="730"/>
                    </a:lnTo>
                    <a:lnTo>
                      <a:pt x="82" y="735"/>
                    </a:lnTo>
                    <a:lnTo>
                      <a:pt x="70" y="742"/>
                    </a:lnTo>
                    <a:lnTo>
                      <a:pt x="57" y="749"/>
                    </a:lnTo>
                    <a:lnTo>
                      <a:pt x="45" y="757"/>
                    </a:lnTo>
                    <a:lnTo>
                      <a:pt x="34" y="766"/>
                    </a:lnTo>
                    <a:lnTo>
                      <a:pt x="23" y="777"/>
                    </a:lnTo>
                    <a:lnTo>
                      <a:pt x="11" y="78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3137040" y="4710240"/>
                <a:ext cx="29880" cy="879480"/>
              </a:xfrm>
              <a:custGeom>
                <a:avLst/>
                <a:gdLst/>
                <a:ahLst/>
                <a:rect l="l" t="t" r="r" b="b"/>
                <a:pathLst>
                  <a:path w="94" h="2770">
                    <a:moveTo>
                      <a:pt x="0" y="2739"/>
                    </a:moveTo>
                    <a:lnTo>
                      <a:pt x="0" y="1981"/>
                    </a:lnTo>
                    <a:lnTo>
                      <a:pt x="11" y="1989"/>
                    </a:lnTo>
                    <a:lnTo>
                      <a:pt x="23" y="1997"/>
                    </a:lnTo>
                    <a:lnTo>
                      <a:pt x="34" y="2003"/>
                    </a:lnTo>
                    <a:lnTo>
                      <a:pt x="45" y="2010"/>
                    </a:lnTo>
                    <a:lnTo>
                      <a:pt x="57" y="2015"/>
                    </a:lnTo>
                    <a:lnTo>
                      <a:pt x="70" y="2020"/>
                    </a:lnTo>
                    <a:lnTo>
                      <a:pt x="82" y="2024"/>
                    </a:lnTo>
                    <a:lnTo>
                      <a:pt x="94" y="2027"/>
                    </a:lnTo>
                    <a:lnTo>
                      <a:pt x="94" y="2770"/>
                    </a:lnTo>
                    <a:lnTo>
                      <a:pt x="82" y="2767"/>
                    </a:lnTo>
                    <a:lnTo>
                      <a:pt x="71" y="2764"/>
                    </a:lnTo>
                    <a:lnTo>
                      <a:pt x="58" y="2761"/>
                    </a:lnTo>
                    <a:lnTo>
                      <a:pt x="47" y="2757"/>
                    </a:lnTo>
                    <a:lnTo>
                      <a:pt x="35" y="2753"/>
                    </a:lnTo>
                    <a:lnTo>
                      <a:pt x="24" y="2748"/>
                    </a:lnTo>
                    <a:lnTo>
                      <a:pt x="11" y="2744"/>
                    </a:lnTo>
                    <a:lnTo>
                      <a:pt x="0" y="2739"/>
                    </a:lnTo>
                    <a:close/>
                    <a:moveTo>
                      <a:pt x="0" y="765"/>
                    </a:moveTo>
                    <a:lnTo>
                      <a:pt x="0" y="26"/>
                    </a:lnTo>
                    <a:lnTo>
                      <a:pt x="11" y="21"/>
                    </a:lnTo>
                    <a:lnTo>
                      <a:pt x="24" y="16"/>
                    </a:lnTo>
                    <a:lnTo>
                      <a:pt x="35" y="13"/>
                    </a:lnTo>
                    <a:lnTo>
                      <a:pt x="47" y="10"/>
                    </a:lnTo>
                    <a:lnTo>
                      <a:pt x="58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725"/>
                    </a:lnTo>
                    <a:lnTo>
                      <a:pt x="82" y="727"/>
                    </a:lnTo>
                    <a:lnTo>
                      <a:pt x="70" y="730"/>
                    </a:lnTo>
                    <a:lnTo>
                      <a:pt x="57" y="735"/>
                    </a:lnTo>
                    <a:lnTo>
                      <a:pt x="46" y="739"/>
                    </a:lnTo>
                    <a:lnTo>
                      <a:pt x="34" y="745"/>
                    </a:lnTo>
                    <a:lnTo>
                      <a:pt x="23" y="751"/>
                    </a:lnTo>
                    <a:lnTo>
                      <a:pt x="11" y="757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152880" y="4708440"/>
                <a:ext cx="28440" cy="884160"/>
              </a:xfrm>
              <a:custGeom>
                <a:avLst/>
                <a:gdLst/>
                <a:ahLst/>
                <a:rect l="l" t="t" r="r" b="b"/>
                <a:pathLst>
                  <a:path w="94" h="2783">
                    <a:moveTo>
                      <a:pt x="0" y="2762"/>
                    </a:moveTo>
                    <a:lnTo>
                      <a:pt x="0" y="2016"/>
                    </a:lnTo>
                    <a:lnTo>
                      <a:pt x="9" y="2020"/>
                    </a:lnTo>
                    <a:lnTo>
                      <a:pt x="19" y="2024"/>
                    </a:lnTo>
                    <a:lnTo>
                      <a:pt x="28" y="2027"/>
                    </a:lnTo>
                    <a:lnTo>
                      <a:pt x="37" y="2029"/>
                    </a:lnTo>
                    <a:lnTo>
                      <a:pt x="46" y="2031"/>
                    </a:lnTo>
                    <a:lnTo>
                      <a:pt x="56" y="2033"/>
                    </a:lnTo>
                    <a:lnTo>
                      <a:pt x="65" y="2034"/>
                    </a:lnTo>
                    <a:lnTo>
                      <a:pt x="76" y="2035"/>
                    </a:lnTo>
                    <a:lnTo>
                      <a:pt x="78" y="2035"/>
                    </a:lnTo>
                    <a:lnTo>
                      <a:pt x="81" y="2036"/>
                    </a:lnTo>
                    <a:lnTo>
                      <a:pt x="83" y="2036"/>
                    </a:lnTo>
                    <a:lnTo>
                      <a:pt x="85" y="2036"/>
                    </a:lnTo>
                    <a:lnTo>
                      <a:pt x="87" y="2036"/>
                    </a:lnTo>
                    <a:lnTo>
                      <a:pt x="89" y="2036"/>
                    </a:lnTo>
                    <a:lnTo>
                      <a:pt x="92" y="2036"/>
                    </a:lnTo>
                    <a:lnTo>
                      <a:pt x="94" y="2036"/>
                    </a:lnTo>
                    <a:lnTo>
                      <a:pt x="94" y="2783"/>
                    </a:lnTo>
                    <a:lnTo>
                      <a:pt x="92" y="2783"/>
                    </a:lnTo>
                    <a:lnTo>
                      <a:pt x="90" y="2783"/>
                    </a:lnTo>
                    <a:lnTo>
                      <a:pt x="89" y="2783"/>
                    </a:lnTo>
                    <a:lnTo>
                      <a:pt x="87" y="2782"/>
                    </a:lnTo>
                    <a:lnTo>
                      <a:pt x="85" y="2782"/>
                    </a:lnTo>
                    <a:lnTo>
                      <a:pt x="83" y="2782"/>
                    </a:lnTo>
                    <a:lnTo>
                      <a:pt x="82" y="2782"/>
                    </a:lnTo>
                    <a:lnTo>
                      <a:pt x="80" y="2782"/>
                    </a:lnTo>
                    <a:lnTo>
                      <a:pt x="70" y="2780"/>
                    </a:lnTo>
                    <a:lnTo>
                      <a:pt x="59" y="2778"/>
                    </a:lnTo>
                    <a:lnTo>
                      <a:pt x="49" y="2777"/>
                    </a:lnTo>
                    <a:lnTo>
                      <a:pt x="40" y="2773"/>
                    </a:lnTo>
                    <a:lnTo>
                      <a:pt x="30" y="2771"/>
                    </a:lnTo>
                    <a:lnTo>
                      <a:pt x="20" y="2768"/>
                    </a:lnTo>
                    <a:lnTo>
                      <a:pt x="10" y="2765"/>
                    </a:lnTo>
                    <a:lnTo>
                      <a:pt x="0" y="2762"/>
                    </a:lnTo>
                    <a:close/>
                    <a:moveTo>
                      <a:pt x="0" y="744"/>
                    </a:move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5"/>
                    </a:lnTo>
                    <a:lnTo>
                      <a:pt x="50" y="4"/>
                    </a:lnTo>
                    <a:lnTo>
                      <a:pt x="58" y="3"/>
                    </a:lnTo>
                    <a:lnTo>
                      <a:pt x="62" y="3"/>
                    </a:lnTo>
                    <a:lnTo>
                      <a:pt x="67" y="2"/>
                    </a:lnTo>
                    <a:lnTo>
                      <a:pt x="72" y="2"/>
                    </a:lnTo>
                    <a:lnTo>
                      <a:pt x="76" y="1"/>
                    </a:lnTo>
                    <a:lnTo>
                      <a:pt x="81" y="1"/>
                    </a:lnTo>
                    <a:lnTo>
                      <a:pt x="85" y="1"/>
                    </a:lnTo>
                    <a:lnTo>
                      <a:pt x="89" y="1"/>
                    </a:lnTo>
                    <a:lnTo>
                      <a:pt x="94" y="0"/>
                    </a:lnTo>
                    <a:lnTo>
                      <a:pt x="94" y="729"/>
                    </a:lnTo>
                    <a:lnTo>
                      <a:pt x="90" y="728"/>
                    </a:lnTo>
                    <a:lnTo>
                      <a:pt x="87" y="728"/>
                    </a:lnTo>
                    <a:lnTo>
                      <a:pt x="83" y="728"/>
                    </a:lnTo>
                    <a:lnTo>
                      <a:pt x="80" y="728"/>
                    </a:lnTo>
                    <a:lnTo>
                      <a:pt x="76" y="728"/>
                    </a:lnTo>
                    <a:lnTo>
                      <a:pt x="73" y="728"/>
                    </a:lnTo>
                    <a:lnTo>
                      <a:pt x="69" y="728"/>
                    </a:lnTo>
                    <a:lnTo>
                      <a:pt x="65" y="728"/>
                    </a:lnTo>
                    <a:lnTo>
                      <a:pt x="56" y="729"/>
                    </a:lnTo>
                    <a:lnTo>
                      <a:pt x="48" y="730"/>
                    </a:lnTo>
                    <a:lnTo>
                      <a:pt x="40" y="731"/>
                    </a:lnTo>
                    <a:lnTo>
                      <a:pt x="32" y="733"/>
                    </a:lnTo>
                    <a:lnTo>
                      <a:pt x="24" y="735"/>
                    </a:lnTo>
                    <a:lnTo>
                      <a:pt x="15" y="738"/>
                    </a:lnTo>
                    <a:lnTo>
                      <a:pt x="8" y="741"/>
                    </a:lnTo>
                    <a:lnTo>
                      <a:pt x="0" y="744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166920" y="4708440"/>
                <a:ext cx="30240" cy="884160"/>
              </a:xfrm>
              <a:custGeom>
                <a:avLst/>
                <a:gdLst/>
                <a:ahLst/>
                <a:rect l="l" t="t" r="r" b="b"/>
                <a:pathLst>
                  <a:path w="94" h="2785">
                    <a:moveTo>
                      <a:pt x="0" y="2775"/>
                    </a:moveTo>
                    <a:lnTo>
                      <a:pt x="0" y="2032"/>
                    </a:lnTo>
                    <a:lnTo>
                      <a:pt x="3" y="2032"/>
                    </a:lnTo>
                    <a:lnTo>
                      <a:pt x="7" y="2033"/>
                    </a:lnTo>
                    <a:lnTo>
                      <a:pt x="10" y="2033"/>
                    </a:lnTo>
                    <a:lnTo>
                      <a:pt x="14" y="2034"/>
                    </a:lnTo>
                    <a:lnTo>
                      <a:pt x="17" y="2034"/>
                    </a:lnTo>
                    <a:lnTo>
                      <a:pt x="22" y="2035"/>
                    </a:lnTo>
                    <a:lnTo>
                      <a:pt x="26" y="2035"/>
                    </a:lnTo>
                    <a:lnTo>
                      <a:pt x="29" y="2035"/>
                    </a:lnTo>
                    <a:lnTo>
                      <a:pt x="37" y="2036"/>
                    </a:lnTo>
                    <a:lnTo>
                      <a:pt x="46" y="2036"/>
                    </a:lnTo>
                    <a:lnTo>
                      <a:pt x="54" y="2035"/>
                    </a:lnTo>
                    <a:lnTo>
                      <a:pt x="62" y="2035"/>
                    </a:lnTo>
                    <a:lnTo>
                      <a:pt x="70" y="2034"/>
                    </a:lnTo>
                    <a:lnTo>
                      <a:pt x="78" y="2033"/>
                    </a:lnTo>
                    <a:lnTo>
                      <a:pt x="86" y="2031"/>
                    </a:lnTo>
                    <a:lnTo>
                      <a:pt x="94" y="2029"/>
                    </a:lnTo>
                    <a:lnTo>
                      <a:pt x="94" y="2785"/>
                    </a:lnTo>
                    <a:lnTo>
                      <a:pt x="86" y="2785"/>
                    </a:lnTo>
                    <a:lnTo>
                      <a:pt x="79" y="2785"/>
                    </a:lnTo>
                    <a:lnTo>
                      <a:pt x="71" y="2785"/>
                    </a:lnTo>
                    <a:lnTo>
                      <a:pt x="63" y="2785"/>
                    </a:lnTo>
                    <a:lnTo>
                      <a:pt x="55" y="2784"/>
                    </a:lnTo>
                    <a:lnTo>
                      <a:pt x="48" y="2783"/>
                    </a:lnTo>
                    <a:lnTo>
                      <a:pt x="40" y="2783"/>
                    </a:lnTo>
                    <a:lnTo>
                      <a:pt x="33" y="2782"/>
                    </a:lnTo>
                    <a:lnTo>
                      <a:pt x="29" y="2781"/>
                    </a:lnTo>
                    <a:lnTo>
                      <a:pt x="25" y="2780"/>
                    </a:lnTo>
                    <a:lnTo>
                      <a:pt x="21" y="2780"/>
                    </a:lnTo>
                    <a:lnTo>
                      <a:pt x="16" y="2779"/>
                    </a:lnTo>
                    <a:lnTo>
                      <a:pt x="12" y="2778"/>
                    </a:lnTo>
                    <a:lnTo>
                      <a:pt x="8" y="2778"/>
                    </a:lnTo>
                    <a:lnTo>
                      <a:pt x="4" y="2777"/>
                    </a:lnTo>
                    <a:lnTo>
                      <a:pt x="0" y="2775"/>
                    </a:lnTo>
                    <a:close/>
                    <a:moveTo>
                      <a:pt x="0" y="73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22" y="2"/>
                    </a:lnTo>
                    <a:lnTo>
                      <a:pt x="32" y="1"/>
                    </a:lnTo>
                    <a:lnTo>
                      <a:pt x="42" y="1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84" y="1"/>
                    </a:lnTo>
                    <a:lnTo>
                      <a:pt x="94" y="1"/>
                    </a:lnTo>
                    <a:lnTo>
                      <a:pt x="94" y="740"/>
                    </a:lnTo>
                    <a:lnTo>
                      <a:pt x="85" y="737"/>
                    </a:lnTo>
                    <a:lnTo>
                      <a:pt x="76" y="733"/>
                    </a:lnTo>
                    <a:lnTo>
                      <a:pt x="66" y="731"/>
                    </a:lnTo>
                    <a:lnTo>
                      <a:pt x="56" y="730"/>
                    </a:lnTo>
                    <a:lnTo>
                      <a:pt x="47" y="729"/>
                    </a:lnTo>
                    <a:lnTo>
                      <a:pt x="38" y="728"/>
                    </a:lnTo>
                    <a:lnTo>
                      <a:pt x="28" y="728"/>
                    </a:lnTo>
                    <a:lnTo>
                      <a:pt x="18" y="728"/>
                    </a:lnTo>
                    <a:lnTo>
                      <a:pt x="15" y="728"/>
                    </a:lnTo>
                    <a:lnTo>
                      <a:pt x="13" y="729"/>
                    </a:lnTo>
                    <a:lnTo>
                      <a:pt x="11" y="729"/>
                    </a:lnTo>
                    <a:lnTo>
                      <a:pt x="9" y="729"/>
                    </a:lnTo>
                    <a:lnTo>
                      <a:pt x="6" y="729"/>
                    </a:lnTo>
                    <a:lnTo>
                      <a:pt x="4" y="730"/>
                    </a:lnTo>
                    <a:lnTo>
                      <a:pt x="2" y="730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3181320" y="4708440"/>
                <a:ext cx="30240" cy="884160"/>
              </a:xfrm>
              <a:custGeom>
                <a:avLst/>
                <a:gdLst/>
                <a:ahLst/>
                <a:rect l="l" t="t" r="r" b="b"/>
                <a:pathLst>
                  <a:path w="93" h="2785">
                    <a:moveTo>
                      <a:pt x="0" y="2783"/>
                    </a:moveTo>
                    <a:lnTo>
                      <a:pt x="0" y="2036"/>
                    </a:lnTo>
                    <a:lnTo>
                      <a:pt x="12" y="2035"/>
                    </a:lnTo>
                    <a:lnTo>
                      <a:pt x="25" y="2034"/>
                    </a:lnTo>
                    <a:lnTo>
                      <a:pt x="36" y="2031"/>
                    </a:lnTo>
                    <a:lnTo>
                      <a:pt x="48" y="2029"/>
                    </a:lnTo>
                    <a:lnTo>
                      <a:pt x="59" y="2025"/>
                    </a:lnTo>
                    <a:lnTo>
                      <a:pt x="72" y="2020"/>
                    </a:lnTo>
                    <a:lnTo>
                      <a:pt x="83" y="2015"/>
                    </a:lnTo>
                    <a:lnTo>
                      <a:pt x="93" y="2008"/>
                    </a:lnTo>
                    <a:lnTo>
                      <a:pt x="93" y="2782"/>
                    </a:lnTo>
                    <a:lnTo>
                      <a:pt x="82" y="2783"/>
                    </a:lnTo>
                    <a:lnTo>
                      <a:pt x="71" y="2784"/>
                    </a:lnTo>
                    <a:lnTo>
                      <a:pt x="58" y="2785"/>
                    </a:lnTo>
                    <a:lnTo>
                      <a:pt x="47" y="2785"/>
                    </a:lnTo>
                    <a:lnTo>
                      <a:pt x="35" y="2785"/>
                    </a:lnTo>
                    <a:lnTo>
                      <a:pt x="24" y="2785"/>
                    </a:lnTo>
                    <a:lnTo>
                      <a:pt x="11" y="2784"/>
                    </a:lnTo>
                    <a:lnTo>
                      <a:pt x="0" y="2783"/>
                    </a:lnTo>
                    <a:close/>
                    <a:moveTo>
                      <a:pt x="0" y="72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lnTo>
                      <a:pt x="35" y="1"/>
                    </a:lnTo>
                    <a:lnTo>
                      <a:pt x="47" y="2"/>
                    </a:lnTo>
                    <a:lnTo>
                      <a:pt x="58" y="3"/>
                    </a:lnTo>
                    <a:lnTo>
                      <a:pt x="71" y="4"/>
                    </a:lnTo>
                    <a:lnTo>
                      <a:pt x="82" y="6"/>
                    </a:lnTo>
                    <a:lnTo>
                      <a:pt x="93" y="8"/>
                    </a:lnTo>
                    <a:lnTo>
                      <a:pt x="93" y="763"/>
                    </a:lnTo>
                    <a:lnTo>
                      <a:pt x="83" y="756"/>
                    </a:lnTo>
                    <a:lnTo>
                      <a:pt x="71" y="750"/>
                    </a:lnTo>
                    <a:lnTo>
                      <a:pt x="59" y="745"/>
                    </a:lnTo>
                    <a:lnTo>
                      <a:pt x="48" y="740"/>
                    </a:lnTo>
                    <a:lnTo>
                      <a:pt x="36" y="735"/>
                    </a:lnTo>
                    <a:lnTo>
                      <a:pt x="25" y="732"/>
                    </a:lnTo>
                    <a:lnTo>
                      <a:pt x="12" y="730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3197160" y="4710240"/>
                <a:ext cx="28800" cy="882360"/>
              </a:xfrm>
              <a:custGeom>
                <a:avLst/>
                <a:gdLst/>
                <a:ahLst/>
                <a:rect l="l" t="t" r="r" b="b"/>
                <a:pathLst>
                  <a:path w="93" h="2784">
                    <a:moveTo>
                      <a:pt x="0" y="2784"/>
                    </a:moveTo>
                    <a:lnTo>
                      <a:pt x="0" y="2028"/>
                    </a:lnTo>
                    <a:lnTo>
                      <a:pt x="12" y="2024"/>
                    </a:lnTo>
                    <a:lnTo>
                      <a:pt x="25" y="2019"/>
                    </a:lnTo>
                    <a:lnTo>
                      <a:pt x="36" y="2014"/>
                    </a:lnTo>
                    <a:lnTo>
                      <a:pt x="48" y="2006"/>
                    </a:lnTo>
                    <a:lnTo>
                      <a:pt x="59" y="1999"/>
                    </a:lnTo>
                    <a:lnTo>
                      <a:pt x="71" y="1991"/>
                    </a:lnTo>
                    <a:lnTo>
                      <a:pt x="82" y="1982"/>
                    </a:lnTo>
                    <a:lnTo>
                      <a:pt x="93" y="1972"/>
                    </a:lnTo>
                    <a:lnTo>
                      <a:pt x="93" y="2770"/>
                    </a:lnTo>
                    <a:lnTo>
                      <a:pt x="82" y="2773"/>
                    </a:lnTo>
                    <a:lnTo>
                      <a:pt x="71" y="2777"/>
                    </a:lnTo>
                    <a:lnTo>
                      <a:pt x="58" y="2779"/>
                    </a:lnTo>
                    <a:lnTo>
                      <a:pt x="47" y="2781"/>
                    </a:lnTo>
                    <a:lnTo>
                      <a:pt x="35" y="2782"/>
                    </a:lnTo>
                    <a:lnTo>
                      <a:pt x="24" y="2783"/>
                    </a:lnTo>
                    <a:lnTo>
                      <a:pt x="11" y="2784"/>
                    </a:lnTo>
                    <a:lnTo>
                      <a:pt x="0" y="2784"/>
                    </a:lnTo>
                    <a:close/>
                    <a:moveTo>
                      <a:pt x="0" y="739"/>
                    </a:moveTo>
                    <a:lnTo>
                      <a:pt x="0" y="0"/>
                    </a:lnTo>
                    <a:lnTo>
                      <a:pt x="11" y="2"/>
                    </a:lnTo>
                    <a:lnTo>
                      <a:pt x="24" y="3"/>
                    </a:lnTo>
                    <a:lnTo>
                      <a:pt x="35" y="5"/>
                    </a:lnTo>
                    <a:lnTo>
                      <a:pt x="47" y="7"/>
                    </a:lnTo>
                    <a:lnTo>
                      <a:pt x="58" y="10"/>
                    </a:lnTo>
                    <a:lnTo>
                      <a:pt x="71" y="13"/>
                    </a:lnTo>
                    <a:lnTo>
                      <a:pt x="82" y="16"/>
                    </a:lnTo>
                    <a:lnTo>
                      <a:pt x="93" y="20"/>
                    </a:lnTo>
                    <a:lnTo>
                      <a:pt x="93" y="802"/>
                    </a:lnTo>
                    <a:lnTo>
                      <a:pt x="82" y="791"/>
                    </a:lnTo>
                    <a:lnTo>
                      <a:pt x="71" y="780"/>
                    </a:lnTo>
                    <a:lnTo>
                      <a:pt x="59" y="771"/>
                    </a:lnTo>
                    <a:lnTo>
                      <a:pt x="48" y="763"/>
                    </a:lnTo>
                    <a:lnTo>
                      <a:pt x="36" y="755"/>
                    </a:lnTo>
                    <a:lnTo>
                      <a:pt x="25" y="749"/>
                    </a:lnTo>
                    <a:lnTo>
                      <a:pt x="12" y="743"/>
                    </a:lnTo>
                    <a:lnTo>
                      <a:pt x="0" y="73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3211560" y="4711680"/>
                <a:ext cx="30240" cy="880920"/>
              </a:xfrm>
              <a:custGeom>
                <a:avLst/>
                <a:gdLst/>
                <a:ahLst/>
                <a:rect l="l" t="t" r="r" b="b"/>
                <a:pathLst>
                  <a:path w="94" h="2774">
                    <a:moveTo>
                      <a:pt x="0" y="2774"/>
                    </a:moveTo>
                    <a:lnTo>
                      <a:pt x="0" y="2000"/>
                    </a:lnTo>
                    <a:lnTo>
                      <a:pt x="13" y="1992"/>
                    </a:lnTo>
                    <a:lnTo>
                      <a:pt x="26" y="1984"/>
                    </a:lnTo>
                    <a:lnTo>
                      <a:pt x="37" y="1974"/>
                    </a:lnTo>
                    <a:lnTo>
                      <a:pt x="49" y="1963"/>
                    </a:lnTo>
                    <a:lnTo>
                      <a:pt x="60" y="1950"/>
                    </a:lnTo>
                    <a:lnTo>
                      <a:pt x="73" y="1937"/>
                    </a:lnTo>
                    <a:lnTo>
                      <a:pt x="83" y="1923"/>
                    </a:lnTo>
                    <a:lnTo>
                      <a:pt x="94" y="1908"/>
                    </a:lnTo>
                    <a:lnTo>
                      <a:pt x="94" y="2747"/>
                    </a:lnTo>
                    <a:lnTo>
                      <a:pt x="83" y="2752"/>
                    </a:lnTo>
                    <a:lnTo>
                      <a:pt x="70" y="2756"/>
                    </a:lnTo>
                    <a:lnTo>
                      <a:pt x="59" y="2760"/>
                    </a:lnTo>
                    <a:lnTo>
                      <a:pt x="48" y="2763"/>
                    </a:lnTo>
                    <a:lnTo>
                      <a:pt x="36" y="2766"/>
                    </a:lnTo>
                    <a:lnTo>
                      <a:pt x="25" y="2770"/>
                    </a:lnTo>
                    <a:lnTo>
                      <a:pt x="12" y="2772"/>
                    </a:lnTo>
                    <a:lnTo>
                      <a:pt x="0" y="2774"/>
                    </a:lnTo>
                    <a:close/>
                    <a:moveTo>
                      <a:pt x="0" y="755"/>
                    </a:moveTo>
                    <a:lnTo>
                      <a:pt x="0" y="0"/>
                    </a:lnTo>
                    <a:lnTo>
                      <a:pt x="12" y="3"/>
                    </a:lnTo>
                    <a:lnTo>
                      <a:pt x="25" y="6"/>
                    </a:lnTo>
                    <a:lnTo>
                      <a:pt x="36" y="9"/>
                    </a:lnTo>
                    <a:lnTo>
                      <a:pt x="48" y="13"/>
                    </a:lnTo>
                    <a:lnTo>
                      <a:pt x="59" y="18"/>
                    </a:lnTo>
                    <a:lnTo>
                      <a:pt x="70" y="23"/>
                    </a:lnTo>
                    <a:lnTo>
                      <a:pt x="83" y="28"/>
                    </a:lnTo>
                    <a:lnTo>
                      <a:pt x="94" y="33"/>
                    </a:lnTo>
                    <a:lnTo>
                      <a:pt x="94" y="854"/>
                    </a:lnTo>
                    <a:lnTo>
                      <a:pt x="83" y="839"/>
                    </a:lnTo>
                    <a:lnTo>
                      <a:pt x="73" y="823"/>
                    </a:lnTo>
                    <a:lnTo>
                      <a:pt x="60" y="809"/>
                    </a:lnTo>
                    <a:lnTo>
                      <a:pt x="49" y="797"/>
                    </a:lnTo>
                    <a:lnTo>
                      <a:pt x="37" y="785"/>
                    </a:lnTo>
                    <a:lnTo>
                      <a:pt x="26" y="773"/>
                    </a:lnTo>
                    <a:lnTo>
                      <a:pt x="13" y="763"/>
                    </a:lnTo>
                    <a:lnTo>
                      <a:pt x="0" y="75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225960" y="4716360"/>
                <a:ext cx="29880" cy="873360"/>
              </a:xfrm>
              <a:custGeom>
                <a:avLst/>
                <a:gdLst/>
                <a:ahLst/>
                <a:rect l="l" t="t" r="r" b="b"/>
                <a:pathLst>
                  <a:path w="94" h="2750">
                    <a:moveTo>
                      <a:pt x="0" y="2750"/>
                    </a:moveTo>
                    <a:lnTo>
                      <a:pt x="0" y="1952"/>
                    </a:lnTo>
                    <a:lnTo>
                      <a:pt x="11" y="1941"/>
                    </a:lnTo>
                    <a:lnTo>
                      <a:pt x="21" y="1928"/>
                    </a:lnTo>
                    <a:lnTo>
                      <a:pt x="33" y="1915"/>
                    </a:lnTo>
                    <a:lnTo>
                      <a:pt x="43" y="1901"/>
                    </a:lnTo>
                    <a:lnTo>
                      <a:pt x="53" y="1886"/>
                    </a:lnTo>
                    <a:lnTo>
                      <a:pt x="62" y="1870"/>
                    </a:lnTo>
                    <a:lnTo>
                      <a:pt x="73" y="1854"/>
                    </a:lnTo>
                    <a:lnTo>
                      <a:pt x="82" y="1836"/>
                    </a:lnTo>
                    <a:lnTo>
                      <a:pt x="84" y="1833"/>
                    </a:lnTo>
                    <a:lnTo>
                      <a:pt x="85" y="1830"/>
                    </a:lnTo>
                    <a:lnTo>
                      <a:pt x="87" y="1827"/>
                    </a:lnTo>
                    <a:lnTo>
                      <a:pt x="88" y="1824"/>
                    </a:lnTo>
                    <a:lnTo>
                      <a:pt x="90" y="1821"/>
                    </a:lnTo>
                    <a:lnTo>
                      <a:pt x="91" y="1818"/>
                    </a:lnTo>
                    <a:lnTo>
                      <a:pt x="92" y="1815"/>
                    </a:lnTo>
                    <a:lnTo>
                      <a:pt x="94" y="1812"/>
                    </a:lnTo>
                    <a:lnTo>
                      <a:pt x="94" y="2712"/>
                    </a:lnTo>
                    <a:lnTo>
                      <a:pt x="83" y="2718"/>
                    </a:lnTo>
                    <a:lnTo>
                      <a:pt x="70" y="2724"/>
                    </a:lnTo>
                    <a:lnTo>
                      <a:pt x="59" y="2729"/>
                    </a:lnTo>
                    <a:lnTo>
                      <a:pt x="47" y="2734"/>
                    </a:lnTo>
                    <a:lnTo>
                      <a:pt x="36" y="2739"/>
                    </a:lnTo>
                    <a:lnTo>
                      <a:pt x="23" y="2743"/>
                    </a:lnTo>
                    <a:lnTo>
                      <a:pt x="12" y="2747"/>
                    </a:lnTo>
                    <a:lnTo>
                      <a:pt x="0" y="2750"/>
                    </a:lnTo>
                    <a:close/>
                    <a:moveTo>
                      <a:pt x="0" y="782"/>
                    </a:moveTo>
                    <a:lnTo>
                      <a:pt x="0" y="0"/>
                    </a:lnTo>
                    <a:lnTo>
                      <a:pt x="10" y="5"/>
                    </a:lnTo>
                    <a:lnTo>
                      <a:pt x="20" y="8"/>
                    </a:lnTo>
                    <a:lnTo>
                      <a:pt x="30" y="12"/>
                    </a:lnTo>
                    <a:lnTo>
                      <a:pt x="40" y="17"/>
                    </a:lnTo>
                    <a:lnTo>
                      <a:pt x="50" y="21"/>
                    </a:lnTo>
                    <a:lnTo>
                      <a:pt x="60" y="26"/>
                    </a:lnTo>
                    <a:lnTo>
                      <a:pt x="69" y="31"/>
                    </a:lnTo>
                    <a:lnTo>
                      <a:pt x="80" y="36"/>
                    </a:lnTo>
                    <a:lnTo>
                      <a:pt x="82" y="37"/>
                    </a:lnTo>
                    <a:lnTo>
                      <a:pt x="83" y="38"/>
                    </a:lnTo>
                    <a:lnTo>
                      <a:pt x="85" y="39"/>
                    </a:lnTo>
                    <a:lnTo>
                      <a:pt x="87" y="40"/>
                    </a:lnTo>
                    <a:lnTo>
                      <a:pt x="89" y="41"/>
                    </a:lnTo>
                    <a:lnTo>
                      <a:pt x="90" y="42"/>
                    </a:lnTo>
                    <a:lnTo>
                      <a:pt x="92" y="44"/>
                    </a:lnTo>
                    <a:lnTo>
                      <a:pt x="94" y="45"/>
                    </a:lnTo>
                    <a:lnTo>
                      <a:pt x="94" y="928"/>
                    </a:lnTo>
                    <a:lnTo>
                      <a:pt x="92" y="923"/>
                    </a:lnTo>
                    <a:lnTo>
                      <a:pt x="89" y="917"/>
                    </a:lnTo>
                    <a:lnTo>
                      <a:pt x="87" y="912"/>
                    </a:lnTo>
                    <a:lnTo>
                      <a:pt x="84" y="906"/>
                    </a:lnTo>
                    <a:lnTo>
                      <a:pt x="82" y="901"/>
                    </a:lnTo>
                    <a:lnTo>
                      <a:pt x="79" y="896"/>
                    </a:lnTo>
                    <a:lnTo>
                      <a:pt x="76" y="891"/>
                    </a:lnTo>
                    <a:lnTo>
                      <a:pt x="74" y="887"/>
                    </a:lnTo>
                    <a:lnTo>
                      <a:pt x="64" y="871"/>
                    </a:lnTo>
                    <a:lnTo>
                      <a:pt x="56" y="856"/>
                    </a:lnTo>
                    <a:lnTo>
                      <a:pt x="47" y="842"/>
                    </a:lnTo>
                    <a:lnTo>
                      <a:pt x="38" y="828"/>
                    </a:lnTo>
                    <a:lnTo>
                      <a:pt x="29" y="815"/>
                    </a:lnTo>
                    <a:lnTo>
                      <a:pt x="19" y="803"/>
                    </a:lnTo>
                    <a:lnTo>
                      <a:pt x="10" y="792"/>
                    </a:lnTo>
                    <a:lnTo>
                      <a:pt x="0" y="782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3241800" y="4722840"/>
                <a:ext cx="29880" cy="860400"/>
              </a:xfrm>
              <a:custGeom>
                <a:avLst/>
                <a:gdLst/>
                <a:ahLst/>
                <a:rect l="l" t="t" r="r" b="b"/>
                <a:pathLst>
                  <a:path w="94" h="2714">
                    <a:moveTo>
                      <a:pt x="0" y="2714"/>
                    </a:moveTo>
                    <a:lnTo>
                      <a:pt x="0" y="1875"/>
                    </a:lnTo>
                    <a:lnTo>
                      <a:pt x="4" y="1869"/>
                    </a:lnTo>
                    <a:lnTo>
                      <a:pt x="9" y="1861"/>
                    </a:lnTo>
                    <a:lnTo>
                      <a:pt x="13" y="1854"/>
                    </a:lnTo>
                    <a:lnTo>
                      <a:pt x="17" y="1847"/>
                    </a:lnTo>
                    <a:lnTo>
                      <a:pt x="22" y="1840"/>
                    </a:lnTo>
                    <a:lnTo>
                      <a:pt x="27" y="1832"/>
                    </a:lnTo>
                    <a:lnTo>
                      <a:pt x="31" y="1825"/>
                    </a:lnTo>
                    <a:lnTo>
                      <a:pt x="35" y="1816"/>
                    </a:lnTo>
                    <a:lnTo>
                      <a:pt x="44" y="1799"/>
                    </a:lnTo>
                    <a:lnTo>
                      <a:pt x="52" y="1781"/>
                    </a:lnTo>
                    <a:lnTo>
                      <a:pt x="60" y="1763"/>
                    </a:lnTo>
                    <a:lnTo>
                      <a:pt x="67" y="1744"/>
                    </a:lnTo>
                    <a:lnTo>
                      <a:pt x="75" y="1726"/>
                    </a:lnTo>
                    <a:lnTo>
                      <a:pt x="82" y="1706"/>
                    </a:lnTo>
                    <a:lnTo>
                      <a:pt x="88" y="1687"/>
                    </a:lnTo>
                    <a:lnTo>
                      <a:pt x="94" y="1667"/>
                    </a:lnTo>
                    <a:lnTo>
                      <a:pt x="94" y="2663"/>
                    </a:lnTo>
                    <a:lnTo>
                      <a:pt x="89" y="2666"/>
                    </a:lnTo>
                    <a:lnTo>
                      <a:pt x="84" y="2669"/>
                    </a:lnTo>
                    <a:lnTo>
                      <a:pt x="80" y="2672"/>
                    </a:lnTo>
                    <a:lnTo>
                      <a:pt x="75" y="2675"/>
                    </a:lnTo>
                    <a:lnTo>
                      <a:pt x="69" y="2678"/>
                    </a:lnTo>
                    <a:lnTo>
                      <a:pt x="65" y="2681"/>
                    </a:lnTo>
                    <a:lnTo>
                      <a:pt x="60" y="2685"/>
                    </a:lnTo>
                    <a:lnTo>
                      <a:pt x="55" y="2688"/>
                    </a:lnTo>
                    <a:lnTo>
                      <a:pt x="48" y="2692"/>
                    </a:lnTo>
                    <a:lnTo>
                      <a:pt x="42" y="2695"/>
                    </a:lnTo>
                    <a:lnTo>
                      <a:pt x="35" y="2699"/>
                    </a:lnTo>
                    <a:lnTo>
                      <a:pt x="28" y="2702"/>
                    </a:lnTo>
                    <a:lnTo>
                      <a:pt x="20" y="2705"/>
                    </a:lnTo>
                    <a:lnTo>
                      <a:pt x="14" y="2709"/>
                    </a:lnTo>
                    <a:lnTo>
                      <a:pt x="7" y="2712"/>
                    </a:lnTo>
                    <a:lnTo>
                      <a:pt x="0" y="2714"/>
                    </a:lnTo>
                    <a:close/>
                    <a:moveTo>
                      <a:pt x="0" y="82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lnTo>
                      <a:pt x="20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40" y="21"/>
                    </a:lnTo>
                    <a:lnTo>
                      <a:pt x="48" y="25"/>
                    </a:lnTo>
                    <a:lnTo>
                      <a:pt x="56" y="30"/>
                    </a:lnTo>
                    <a:lnTo>
                      <a:pt x="63" y="36"/>
                    </a:lnTo>
                    <a:lnTo>
                      <a:pt x="71" y="41"/>
                    </a:lnTo>
                    <a:lnTo>
                      <a:pt x="79" y="46"/>
                    </a:lnTo>
                    <a:lnTo>
                      <a:pt x="86" y="52"/>
                    </a:lnTo>
                    <a:lnTo>
                      <a:pt x="94" y="57"/>
                    </a:lnTo>
                    <a:lnTo>
                      <a:pt x="94" y="1037"/>
                    </a:lnTo>
                    <a:lnTo>
                      <a:pt x="87" y="1014"/>
                    </a:lnTo>
                    <a:lnTo>
                      <a:pt x="80" y="991"/>
                    </a:lnTo>
                    <a:lnTo>
                      <a:pt x="72" y="970"/>
                    </a:lnTo>
                    <a:lnTo>
                      <a:pt x="64" y="947"/>
                    </a:lnTo>
                    <a:lnTo>
                      <a:pt x="55" y="927"/>
                    </a:lnTo>
                    <a:lnTo>
                      <a:pt x="46" y="907"/>
                    </a:lnTo>
                    <a:lnTo>
                      <a:pt x="37" y="886"/>
                    </a:lnTo>
                    <a:lnTo>
                      <a:pt x="27" y="867"/>
                    </a:lnTo>
                    <a:lnTo>
                      <a:pt x="23" y="861"/>
                    </a:lnTo>
                    <a:lnTo>
                      <a:pt x="20" y="855"/>
                    </a:lnTo>
                    <a:lnTo>
                      <a:pt x="16" y="849"/>
                    </a:lnTo>
                    <a:lnTo>
                      <a:pt x="13" y="843"/>
                    </a:lnTo>
                    <a:lnTo>
                      <a:pt x="10" y="837"/>
                    </a:lnTo>
                    <a:lnTo>
                      <a:pt x="7" y="832"/>
                    </a:lnTo>
                    <a:lnTo>
                      <a:pt x="3" y="827"/>
                    </a:lnTo>
                    <a:lnTo>
                      <a:pt x="0" y="821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255840" y="4730760"/>
                <a:ext cx="30240" cy="846000"/>
              </a:xfrm>
              <a:custGeom>
                <a:avLst/>
                <a:gdLst/>
                <a:ahLst/>
                <a:rect l="l" t="t" r="r" b="b"/>
                <a:pathLst>
                  <a:path w="94" h="2667">
                    <a:moveTo>
                      <a:pt x="0" y="2667"/>
                    </a:moveTo>
                    <a:lnTo>
                      <a:pt x="0" y="1767"/>
                    </a:lnTo>
                    <a:lnTo>
                      <a:pt x="10" y="1745"/>
                    </a:lnTo>
                    <a:lnTo>
                      <a:pt x="20" y="1720"/>
                    </a:lnTo>
                    <a:lnTo>
                      <a:pt x="30" y="1696"/>
                    </a:lnTo>
                    <a:lnTo>
                      <a:pt x="38" y="1670"/>
                    </a:lnTo>
                    <a:lnTo>
                      <a:pt x="46" y="1645"/>
                    </a:lnTo>
                    <a:lnTo>
                      <a:pt x="53" y="1618"/>
                    </a:lnTo>
                    <a:lnTo>
                      <a:pt x="59" y="1591"/>
                    </a:lnTo>
                    <a:lnTo>
                      <a:pt x="65" y="1562"/>
                    </a:lnTo>
                    <a:lnTo>
                      <a:pt x="70" y="1533"/>
                    </a:lnTo>
                    <a:lnTo>
                      <a:pt x="75" y="1505"/>
                    </a:lnTo>
                    <a:lnTo>
                      <a:pt x="78" y="1474"/>
                    </a:lnTo>
                    <a:lnTo>
                      <a:pt x="81" y="1444"/>
                    </a:lnTo>
                    <a:lnTo>
                      <a:pt x="83" y="1413"/>
                    </a:lnTo>
                    <a:lnTo>
                      <a:pt x="85" y="1381"/>
                    </a:lnTo>
                    <a:lnTo>
                      <a:pt x="86" y="1349"/>
                    </a:lnTo>
                    <a:lnTo>
                      <a:pt x="86" y="1315"/>
                    </a:lnTo>
                    <a:lnTo>
                      <a:pt x="85" y="1285"/>
                    </a:lnTo>
                    <a:lnTo>
                      <a:pt x="84" y="1253"/>
                    </a:lnTo>
                    <a:lnTo>
                      <a:pt x="82" y="1223"/>
                    </a:lnTo>
                    <a:lnTo>
                      <a:pt x="80" y="1194"/>
                    </a:lnTo>
                    <a:lnTo>
                      <a:pt x="77" y="1164"/>
                    </a:lnTo>
                    <a:lnTo>
                      <a:pt x="72" y="1136"/>
                    </a:lnTo>
                    <a:lnTo>
                      <a:pt x="67" y="1108"/>
                    </a:lnTo>
                    <a:lnTo>
                      <a:pt x="62" y="1081"/>
                    </a:lnTo>
                    <a:lnTo>
                      <a:pt x="57" y="1054"/>
                    </a:lnTo>
                    <a:lnTo>
                      <a:pt x="51" y="1028"/>
                    </a:lnTo>
                    <a:lnTo>
                      <a:pt x="44" y="1002"/>
                    </a:lnTo>
                    <a:lnTo>
                      <a:pt x="36" y="977"/>
                    </a:lnTo>
                    <a:lnTo>
                      <a:pt x="28" y="952"/>
                    </a:lnTo>
                    <a:lnTo>
                      <a:pt x="19" y="929"/>
                    </a:lnTo>
                    <a:lnTo>
                      <a:pt x="10" y="905"/>
                    </a:lnTo>
                    <a:lnTo>
                      <a:pt x="0" y="883"/>
                    </a:lnTo>
                    <a:lnTo>
                      <a:pt x="0" y="0"/>
                    </a:lnTo>
                    <a:lnTo>
                      <a:pt x="12" y="8"/>
                    </a:lnTo>
                    <a:lnTo>
                      <a:pt x="24" y="16"/>
                    </a:lnTo>
                    <a:lnTo>
                      <a:pt x="36" y="24"/>
                    </a:lnTo>
                    <a:lnTo>
                      <a:pt x="48" y="33"/>
                    </a:lnTo>
                    <a:lnTo>
                      <a:pt x="59" y="42"/>
                    </a:lnTo>
                    <a:lnTo>
                      <a:pt x="70" y="52"/>
                    </a:lnTo>
                    <a:lnTo>
                      <a:pt x="83" y="62"/>
                    </a:lnTo>
                    <a:lnTo>
                      <a:pt x="94" y="73"/>
                    </a:lnTo>
                    <a:lnTo>
                      <a:pt x="94" y="2601"/>
                    </a:lnTo>
                    <a:lnTo>
                      <a:pt x="83" y="2610"/>
                    </a:lnTo>
                    <a:lnTo>
                      <a:pt x="72" y="2619"/>
                    </a:lnTo>
                    <a:lnTo>
                      <a:pt x="62" y="2627"/>
                    </a:lnTo>
                    <a:lnTo>
                      <a:pt x="52" y="2634"/>
                    </a:lnTo>
                    <a:lnTo>
                      <a:pt x="41" y="2642"/>
                    </a:lnTo>
                    <a:lnTo>
                      <a:pt x="31" y="2649"/>
                    </a:lnTo>
                    <a:lnTo>
                      <a:pt x="19" y="2655"/>
                    </a:lnTo>
                    <a:lnTo>
                      <a:pt x="8" y="2663"/>
                    </a:lnTo>
                    <a:lnTo>
                      <a:pt x="7" y="2663"/>
                    </a:lnTo>
                    <a:lnTo>
                      <a:pt x="6" y="2664"/>
                    </a:lnTo>
                    <a:lnTo>
                      <a:pt x="5" y="2665"/>
                    </a:lnTo>
                    <a:lnTo>
                      <a:pt x="4" y="2665"/>
                    </a:lnTo>
                    <a:lnTo>
                      <a:pt x="3" y="2666"/>
                    </a:lnTo>
                    <a:lnTo>
                      <a:pt x="2" y="2666"/>
                    </a:lnTo>
                    <a:lnTo>
                      <a:pt x="1" y="2667"/>
                    </a:lnTo>
                    <a:lnTo>
                      <a:pt x="0" y="266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271680" y="4740120"/>
                <a:ext cx="28800" cy="827280"/>
              </a:xfrm>
              <a:custGeom>
                <a:avLst/>
                <a:gdLst/>
                <a:ahLst/>
                <a:rect l="l" t="t" r="r" b="b"/>
                <a:pathLst>
                  <a:path w="93" h="2606">
                    <a:moveTo>
                      <a:pt x="0" y="2606"/>
                    </a:moveTo>
                    <a:lnTo>
                      <a:pt x="0" y="1610"/>
                    </a:lnTo>
                    <a:lnTo>
                      <a:pt x="9" y="1573"/>
                    </a:lnTo>
                    <a:lnTo>
                      <a:pt x="17" y="1535"/>
                    </a:lnTo>
                    <a:lnTo>
                      <a:pt x="24" y="1496"/>
                    </a:lnTo>
                    <a:lnTo>
                      <a:pt x="30" y="1457"/>
                    </a:lnTo>
                    <a:lnTo>
                      <a:pt x="34" y="1415"/>
                    </a:lnTo>
                    <a:lnTo>
                      <a:pt x="37" y="1372"/>
                    </a:lnTo>
                    <a:lnTo>
                      <a:pt x="38" y="1328"/>
                    </a:lnTo>
                    <a:lnTo>
                      <a:pt x="39" y="1283"/>
                    </a:lnTo>
                    <a:lnTo>
                      <a:pt x="38" y="1242"/>
                    </a:lnTo>
                    <a:lnTo>
                      <a:pt x="36" y="1202"/>
                    </a:lnTo>
                    <a:lnTo>
                      <a:pt x="33" y="1162"/>
                    </a:lnTo>
                    <a:lnTo>
                      <a:pt x="29" y="1124"/>
                    </a:lnTo>
                    <a:lnTo>
                      <a:pt x="22" y="1086"/>
                    </a:lnTo>
                    <a:lnTo>
                      <a:pt x="16" y="1050"/>
                    </a:lnTo>
                    <a:lnTo>
                      <a:pt x="8" y="1015"/>
                    </a:lnTo>
                    <a:lnTo>
                      <a:pt x="0" y="980"/>
                    </a:lnTo>
                    <a:lnTo>
                      <a:pt x="0" y="0"/>
                    </a:lnTo>
                    <a:lnTo>
                      <a:pt x="12" y="10"/>
                    </a:lnTo>
                    <a:lnTo>
                      <a:pt x="23" y="20"/>
                    </a:lnTo>
                    <a:lnTo>
                      <a:pt x="36" y="31"/>
                    </a:lnTo>
                    <a:lnTo>
                      <a:pt x="48" y="42"/>
                    </a:lnTo>
                    <a:lnTo>
                      <a:pt x="59" y="53"/>
                    </a:lnTo>
                    <a:lnTo>
                      <a:pt x="70" y="65"/>
                    </a:lnTo>
                    <a:lnTo>
                      <a:pt x="82" y="78"/>
                    </a:lnTo>
                    <a:lnTo>
                      <a:pt x="93" y="90"/>
                    </a:lnTo>
                    <a:lnTo>
                      <a:pt x="93" y="2523"/>
                    </a:lnTo>
                    <a:lnTo>
                      <a:pt x="82" y="2535"/>
                    </a:lnTo>
                    <a:lnTo>
                      <a:pt x="70" y="2546"/>
                    </a:lnTo>
                    <a:lnTo>
                      <a:pt x="59" y="2557"/>
                    </a:lnTo>
                    <a:lnTo>
                      <a:pt x="48" y="2568"/>
                    </a:lnTo>
                    <a:lnTo>
                      <a:pt x="36" y="2579"/>
                    </a:lnTo>
                    <a:lnTo>
                      <a:pt x="23" y="2588"/>
                    </a:lnTo>
                    <a:lnTo>
                      <a:pt x="12" y="2597"/>
                    </a:lnTo>
                    <a:lnTo>
                      <a:pt x="0" y="2606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286080" y="4753080"/>
                <a:ext cx="30240" cy="803160"/>
              </a:xfrm>
              <a:custGeom>
                <a:avLst/>
                <a:gdLst/>
                <a:ahLst/>
                <a:rect l="l" t="t" r="r" b="b"/>
                <a:pathLst>
                  <a:path w="93" h="2528">
                    <a:moveTo>
                      <a:pt x="0" y="2528"/>
                    </a:moveTo>
                    <a:lnTo>
                      <a:pt x="0" y="0"/>
                    </a:lnTo>
                    <a:lnTo>
                      <a:pt x="12" y="11"/>
                    </a:lnTo>
                    <a:lnTo>
                      <a:pt x="23" y="24"/>
                    </a:lnTo>
                    <a:lnTo>
                      <a:pt x="36" y="37"/>
                    </a:lnTo>
                    <a:lnTo>
                      <a:pt x="48" y="50"/>
                    </a:lnTo>
                    <a:lnTo>
                      <a:pt x="59" y="64"/>
                    </a:lnTo>
                    <a:lnTo>
                      <a:pt x="70" y="78"/>
                    </a:lnTo>
                    <a:lnTo>
                      <a:pt x="82" y="94"/>
                    </a:lnTo>
                    <a:lnTo>
                      <a:pt x="93" y="109"/>
                    </a:lnTo>
                    <a:lnTo>
                      <a:pt x="93" y="2425"/>
                    </a:lnTo>
                    <a:lnTo>
                      <a:pt x="82" y="2440"/>
                    </a:lnTo>
                    <a:lnTo>
                      <a:pt x="70" y="2454"/>
                    </a:lnTo>
                    <a:lnTo>
                      <a:pt x="59" y="2467"/>
                    </a:lnTo>
                    <a:lnTo>
                      <a:pt x="48" y="2480"/>
                    </a:lnTo>
                    <a:lnTo>
                      <a:pt x="36" y="2494"/>
                    </a:lnTo>
                    <a:lnTo>
                      <a:pt x="23" y="2505"/>
                    </a:lnTo>
                    <a:lnTo>
                      <a:pt x="12" y="2517"/>
                    </a:lnTo>
                    <a:lnTo>
                      <a:pt x="0" y="2528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300480" y="4768920"/>
                <a:ext cx="30240" cy="772920"/>
              </a:xfrm>
              <a:custGeom>
                <a:avLst/>
                <a:gdLst/>
                <a:ahLst/>
                <a:rect l="l" t="t" r="r" b="b"/>
                <a:pathLst>
                  <a:path w="94" h="2433">
                    <a:moveTo>
                      <a:pt x="0" y="2433"/>
                    </a:moveTo>
                    <a:lnTo>
                      <a:pt x="0" y="0"/>
                    </a:lnTo>
                    <a:lnTo>
                      <a:pt x="9" y="11"/>
                    </a:lnTo>
                    <a:lnTo>
                      <a:pt x="18" y="21"/>
                    </a:lnTo>
                    <a:lnTo>
                      <a:pt x="27" y="33"/>
                    </a:lnTo>
                    <a:lnTo>
                      <a:pt x="36" y="45"/>
                    </a:lnTo>
                    <a:lnTo>
                      <a:pt x="45" y="57"/>
                    </a:lnTo>
                    <a:lnTo>
                      <a:pt x="53" y="69"/>
                    </a:lnTo>
                    <a:lnTo>
                      <a:pt x="62" y="81"/>
                    </a:lnTo>
                    <a:lnTo>
                      <a:pt x="70" y="94"/>
                    </a:lnTo>
                    <a:lnTo>
                      <a:pt x="73" y="99"/>
                    </a:lnTo>
                    <a:lnTo>
                      <a:pt x="76" y="104"/>
                    </a:lnTo>
                    <a:lnTo>
                      <a:pt x="80" y="108"/>
                    </a:lnTo>
                    <a:lnTo>
                      <a:pt x="83" y="113"/>
                    </a:lnTo>
                    <a:lnTo>
                      <a:pt x="85" y="117"/>
                    </a:lnTo>
                    <a:lnTo>
                      <a:pt x="88" y="122"/>
                    </a:lnTo>
                    <a:lnTo>
                      <a:pt x="91" y="127"/>
                    </a:lnTo>
                    <a:lnTo>
                      <a:pt x="94" y="131"/>
                    </a:lnTo>
                    <a:lnTo>
                      <a:pt x="94" y="2307"/>
                    </a:lnTo>
                    <a:lnTo>
                      <a:pt x="94" y="2308"/>
                    </a:lnTo>
                    <a:lnTo>
                      <a:pt x="93" y="2309"/>
                    </a:lnTo>
                    <a:lnTo>
                      <a:pt x="93" y="2309"/>
                    </a:lnTo>
                    <a:lnTo>
                      <a:pt x="93" y="2309"/>
                    </a:lnTo>
                    <a:lnTo>
                      <a:pt x="92" y="2310"/>
                    </a:lnTo>
                    <a:lnTo>
                      <a:pt x="92" y="2310"/>
                    </a:lnTo>
                    <a:lnTo>
                      <a:pt x="92" y="2311"/>
                    </a:lnTo>
                    <a:lnTo>
                      <a:pt x="92" y="2311"/>
                    </a:lnTo>
                    <a:lnTo>
                      <a:pt x="81" y="2328"/>
                    </a:lnTo>
                    <a:lnTo>
                      <a:pt x="69" y="2345"/>
                    </a:lnTo>
                    <a:lnTo>
                      <a:pt x="58" y="2361"/>
                    </a:lnTo>
                    <a:lnTo>
                      <a:pt x="47" y="2376"/>
                    </a:lnTo>
                    <a:lnTo>
                      <a:pt x="36" y="2392"/>
                    </a:lnTo>
                    <a:lnTo>
                      <a:pt x="24" y="2406"/>
                    </a:lnTo>
                    <a:lnTo>
                      <a:pt x="12" y="2419"/>
                    </a:lnTo>
                    <a:lnTo>
                      <a:pt x="0" y="243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316320" y="4788000"/>
                <a:ext cx="28440" cy="734760"/>
              </a:xfrm>
              <a:custGeom>
                <a:avLst/>
                <a:gdLst/>
                <a:ahLst/>
                <a:rect l="l" t="t" r="r" b="b"/>
                <a:pathLst>
                  <a:path w="94" h="2316">
                    <a:moveTo>
                      <a:pt x="0" y="2316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6" y="8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4" y="21"/>
                    </a:lnTo>
                    <a:lnTo>
                      <a:pt x="17" y="25"/>
                    </a:lnTo>
                    <a:lnTo>
                      <a:pt x="20" y="30"/>
                    </a:lnTo>
                    <a:lnTo>
                      <a:pt x="23" y="34"/>
                    </a:lnTo>
                    <a:lnTo>
                      <a:pt x="33" y="49"/>
                    </a:lnTo>
                    <a:lnTo>
                      <a:pt x="42" y="63"/>
                    </a:lnTo>
                    <a:lnTo>
                      <a:pt x="51" y="77"/>
                    </a:lnTo>
                    <a:lnTo>
                      <a:pt x="59" y="93"/>
                    </a:lnTo>
                    <a:lnTo>
                      <a:pt x="68" y="108"/>
                    </a:lnTo>
                    <a:lnTo>
                      <a:pt x="76" y="123"/>
                    </a:lnTo>
                    <a:lnTo>
                      <a:pt x="86" y="139"/>
                    </a:lnTo>
                    <a:lnTo>
                      <a:pt x="94" y="155"/>
                    </a:lnTo>
                    <a:lnTo>
                      <a:pt x="94" y="2165"/>
                    </a:lnTo>
                    <a:lnTo>
                      <a:pt x="88" y="2177"/>
                    </a:lnTo>
                    <a:lnTo>
                      <a:pt x="82" y="2188"/>
                    </a:lnTo>
                    <a:lnTo>
                      <a:pt x="75" y="2199"/>
                    </a:lnTo>
                    <a:lnTo>
                      <a:pt x="69" y="2209"/>
                    </a:lnTo>
                    <a:lnTo>
                      <a:pt x="63" y="2220"/>
                    </a:lnTo>
                    <a:lnTo>
                      <a:pt x="57" y="2231"/>
                    </a:lnTo>
                    <a:lnTo>
                      <a:pt x="51" y="2241"/>
                    </a:lnTo>
                    <a:lnTo>
                      <a:pt x="45" y="2251"/>
                    </a:lnTo>
                    <a:lnTo>
                      <a:pt x="39" y="2260"/>
                    </a:lnTo>
                    <a:lnTo>
                      <a:pt x="34" y="2268"/>
                    </a:lnTo>
                    <a:lnTo>
                      <a:pt x="28" y="2277"/>
                    </a:lnTo>
                    <a:lnTo>
                      <a:pt x="22" y="2285"/>
                    </a:lnTo>
                    <a:lnTo>
                      <a:pt x="17" y="2293"/>
                    </a:lnTo>
                    <a:lnTo>
                      <a:pt x="11" y="2301"/>
                    </a:lnTo>
                    <a:lnTo>
                      <a:pt x="6" y="2309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330720" y="4809960"/>
                <a:ext cx="29880" cy="690840"/>
              </a:xfrm>
              <a:custGeom>
                <a:avLst/>
                <a:gdLst/>
                <a:ahLst/>
                <a:rect l="l" t="t" r="r" b="b"/>
                <a:pathLst>
                  <a:path w="94" h="2176">
                    <a:moveTo>
                      <a:pt x="0" y="2176"/>
                    </a:moveTo>
                    <a:lnTo>
                      <a:pt x="0" y="0"/>
                    </a:lnTo>
                    <a:lnTo>
                      <a:pt x="12" y="22"/>
                    </a:lnTo>
                    <a:lnTo>
                      <a:pt x="25" y="43"/>
                    </a:lnTo>
                    <a:lnTo>
                      <a:pt x="37" y="66"/>
                    </a:lnTo>
                    <a:lnTo>
                      <a:pt x="49" y="88"/>
                    </a:lnTo>
                    <a:lnTo>
                      <a:pt x="60" y="110"/>
                    </a:lnTo>
                    <a:lnTo>
                      <a:pt x="71" y="134"/>
                    </a:lnTo>
                    <a:lnTo>
                      <a:pt x="83" y="157"/>
                    </a:lnTo>
                    <a:lnTo>
                      <a:pt x="94" y="182"/>
                    </a:lnTo>
                    <a:lnTo>
                      <a:pt x="94" y="1997"/>
                    </a:lnTo>
                    <a:lnTo>
                      <a:pt x="83" y="2022"/>
                    </a:lnTo>
                    <a:lnTo>
                      <a:pt x="71" y="2045"/>
                    </a:lnTo>
                    <a:lnTo>
                      <a:pt x="60" y="2068"/>
                    </a:lnTo>
                    <a:lnTo>
                      <a:pt x="49" y="2090"/>
                    </a:lnTo>
                    <a:lnTo>
                      <a:pt x="37" y="2113"/>
                    </a:lnTo>
                    <a:lnTo>
                      <a:pt x="25" y="2134"/>
                    </a:lnTo>
                    <a:lnTo>
                      <a:pt x="12" y="2156"/>
                    </a:lnTo>
                    <a:lnTo>
                      <a:pt x="0" y="2176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344760" y="4836960"/>
                <a:ext cx="30240" cy="638280"/>
              </a:xfrm>
              <a:custGeom>
                <a:avLst/>
                <a:gdLst/>
                <a:ahLst/>
                <a:rect l="l" t="t" r="r" b="b"/>
                <a:pathLst>
                  <a:path w="94" h="2010">
                    <a:moveTo>
                      <a:pt x="0" y="2010"/>
                    </a:moveTo>
                    <a:lnTo>
                      <a:pt x="0" y="0"/>
                    </a:lnTo>
                    <a:lnTo>
                      <a:pt x="13" y="25"/>
                    </a:lnTo>
                    <a:lnTo>
                      <a:pt x="25" y="51"/>
                    </a:lnTo>
                    <a:lnTo>
                      <a:pt x="38" y="77"/>
                    </a:lnTo>
                    <a:lnTo>
                      <a:pt x="50" y="104"/>
                    </a:lnTo>
                    <a:lnTo>
                      <a:pt x="61" y="132"/>
                    </a:lnTo>
                    <a:lnTo>
                      <a:pt x="72" y="160"/>
                    </a:lnTo>
                    <a:lnTo>
                      <a:pt x="83" y="188"/>
                    </a:lnTo>
                    <a:lnTo>
                      <a:pt x="94" y="217"/>
                    </a:lnTo>
                    <a:lnTo>
                      <a:pt x="94" y="1796"/>
                    </a:lnTo>
                    <a:lnTo>
                      <a:pt x="83" y="1825"/>
                    </a:lnTo>
                    <a:lnTo>
                      <a:pt x="72" y="1853"/>
                    </a:lnTo>
                    <a:lnTo>
                      <a:pt x="61" y="1881"/>
                    </a:lnTo>
                    <a:lnTo>
                      <a:pt x="50" y="1907"/>
                    </a:lnTo>
                    <a:lnTo>
                      <a:pt x="38" y="1934"/>
                    </a:lnTo>
                    <a:lnTo>
                      <a:pt x="25" y="1960"/>
                    </a:lnTo>
                    <a:lnTo>
                      <a:pt x="13" y="1986"/>
                    </a:lnTo>
                    <a:lnTo>
                      <a:pt x="0" y="2010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360600" y="4869000"/>
                <a:ext cx="28800" cy="576000"/>
              </a:xfrm>
              <a:custGeom>
                <a:avLst/>
                <a:gdLst/>
                <a:ahLst/>
                <a:rect l="l" t="t" r="r" b="b"/>
                <a:pathLst>
                  <a:path w="93" h="1815">
                    <a:moveTo>
                      <a:pt x="0" y="1815"/>
                    </a:moveTo>
                    <a:lnTo>
                      <a:pt x="0" y="0"/>
                    </a:lnTo>
                    <a:lnTo>
                      <a:pt x="13" y="32"/>
                    </a:lnTo>
                    <a:lnTo>
                      <a:pt x="25" y="63"/>
                    </a:lnTo>
                    <a:lnTo>
                      <a:pt x="38" y="96"/>
                    </a:lnTo>
                    <a:lnTo>
                      <a:pt x="50" y="128"/>
                    </a:lnTo>
                    <a:lnTo>
                      <a:pt x="61" y="163"/>
                    </a:lnTo>
                    <a:lnTo>
                      <a:pt x="71" y="198"/>
                    </a:lnTo>
                    <a:lnTo>
                      <a:pt x="81" y="232"/>
                    </a:lnTo>
                    <a:lnTo>
                      <a:pt x="92" y="269"/>
                    </a:lnTo>
                    <a:lnTo>
                      <a:pt x="92" y="269"/>
                    </a:lnTo>
                    <a:lnTo>
                      <a:pt x="92" y="270"/>
                    </a:lnTo>
                    <a:lnTo>
                      <a:pt x="92" y="270"/>
                    </a:lnTo>
                    <a:lnTo>
                      <a:pt x="93" y="271"/>
                    </a:lnTo>
                    <a:lnTo>
                      <a:pt x="93" y="272"/>
                    </a:lnTo>
                    <a:lnTo>
                      <a:pt x="93" y="272"/>
                    </a:lnTo>
                    <a:lnTo>
                      <a:pt x="93" y="273"/>
                    </a:lnTo>
                    <a:lnTo>
                      <a:pt x="93" y="273"/>
                    </a:lnTo>
                    <a:lnTo>
                      <a:pt x="93" y="1545"/>
                    </a:lnTo>
                    <a:lnTo>
                      <a:pt x="84" y="1581"/>
                    </a:lnTo>
                    <a:lnTo>
                      <a:pt x="73" y="1617"/>
                    </a:lnTo>
                    <a:lnTo>
                      <a:pt x="62" y="1652"/>
                    </a:lnTo>
                    <a:lnTo>
                      <a:pt x="51" y="1686"/>
                    </a:lnTo>
                    <a:lnTo>
                      <a:pt x="39" y="1720"/>
                    </a:lnTo>
                    <a:lnTo>
                      <a:pt x="26" y="1752"/>
                    </a:lnTo>
                    <a:lnTo>
                      <a:pt x="13" y="1785"/>
                    </a:lnTo>
                    <a:lnTo>
                      <a:pt x="0" y="18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375000" y="4905360"/>
                <a:ext cx="30240" cy="501840"/>
              </a:xfrm>
              <a:custGeom>
                <a:avLst/>
                <a:gdLst/>
                <a:ahLst/>
                <a:rect l="l" t="t" r="r" b="b"/>
                <a:pathLst>
                  <a:path w="93" h="1579">
                    <a:moveTo>
                      <a:pt x="0" y="1579"/>
                    </a:moveTo>
                    <a:lnTo>
                      <a:pt x="0" y="0"/>
                    </a:lnTo>
                    <a:lnTo>
                      <a:pt x="6" y="18"/>
                    </a:lnTo>
                    <a:lnTo>
                      <a:pt x="12" y="36"/>
                    </a:lnTo>
                    <a:lnTo>
                      <a:pt x="17" y="54"/>
                    </a:lnTo>
                    <a:lnTo>
                      <a:pt x="23" y="74"/>
                    </a:lnTo>
                    <a:lnTo>
                      <a:pt x="28" y="92"/>
                    </a:lnTo>
                    <a:lnTo>
                      <a:pt x="34" y="111"/>
                    </a:lnTo>
                    <a:lnTo>
                      <a:pt x="40" y="131"/>
                    </a:lnTo>
                    <a:lnTo>
                      <a:pt x="45" y="150"/>
                    </a:lnTo>
                    <a:lnTo>
                      <a:pt x="52" y="178"/>
                    </a:lnTo>
                    <a:lnTo>
                      <a:pt x="59" y="207"/>
                    </a:lnTo>
                    <a:lnTo>
                      <a:pt x="65" y="236"/>
                    </a:lnTo>
                    <a:lnTo>
                      <a:pt x="71" y="264"/>
                    </a:lnTo>
                    <a:lnTo>
                      <a:pt x="77" y="294"/>
                    </a:lnTo>
                    <a:lnTo>
                      <a:pt x="82" y="324"/>
                    </a:lnTo>
                    <a:lnTo>
                      <a:pt x="88" y="353"/>
                    </a:lnTo>
                    <a:lnTo>
                      <a:pt x="93" y="383"/>
                    </a:lnTo>
                    <a:lnTo>
                      <a:pt x="93" y="1199"/>
                    </a:lnTo>
                    <a:lnTo>
                      <a:pt x="89" y="1222"/>
                    </a:lnTo>
                    <a:lnTo>
                      <a:pt x="86" y="1246"/>
                    </a:lnTo>
                    <a:lnTo>
                      <a:pt x="81" y="1268"/>
                    </a:lnTo>
                    <a:lnTo>
                      <a:pt x="76" y="1292"/>
                    </a:lnTo>
                    <a:lnTo>
                      <a:pt x="72" y="1314"/>
                    </a:lnTo>
                    <a:lnTo>
                      <a:pt x="67" y="1337"/>
                    </a:lnTo>
                    <a:lnTo>
                      <a:pt x="62" y="1360"/>
                    </a:lnTo>
                    <a:lnTo>
                      <a:pt x="57" y="1382"/>
                    </a:lnTo>
                    <a:lnTo>
                      <a:pt x="51" y="1409"/>
                    </a:lnTo>
                    <a:lnTo>
                      <a:pt x="44" y="1433"/>
                    </a:lnTo>
                    <a:lnTo>
                      <a:pt x="38" y="1459"/>
                    </a:lnTo>
                    <a:lnTo>
                      <a:pt x="30" y="1483"/>
                    </a:lnTo>
                    <a:lnTo>
                      <a:pt x="22" y="1508"/>
                    </a:lnTo>
                    <a:lnTo>
                      <a:pt x="15" y="1532"/>
                    </a:lnTo>
                    <a:lnTo>
                      <a:pt x="7" y="1556"/>
                    </a:lnTo>
                    <a:lnTo>
                      <a:pt x="0" y="1579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389400" y="4954680"/>
                <a:ext cx="25200" cy="404640"/>
              </a:xfrm>
              <a:custGeom>
                <a:avLst/>
                <a:gdLst/>
                <a:ahLst/>
                <a:rect l="l" t="t" r="r" b="b"/>
                <a:pathLst>
                  <a:path w="77" h="1272">
                    <a:moveTo>
                      <a:pt x="0" y="1272"/>
                    </a:moveTo>
                    <a:lnTo>
                      <a:pt x="0" y="0"/>
                    </a:lnTo>
                    <a:lnTo>
                      <a:pt x="9" y="37"/>
                    </a:lnTo>
                    <a:lnTo>
                      <a:pt x="17" y="73"/>
                    </a:lnTo>
                    <a:lnTo>
                      <a:pt x="25" y="109"/>
                    </a:lnTo>
                    <a:lnTo>
                      <a:pt x="32" y="146"/>
                    </a:lnTo>
                    <a:lnTo>
                      <a:pt x="40" y="183"/>
                    </a:lnTo>
                    <a:lnTo>
                      <a:pt x="46" y="221"/>
                    </a:lnTo>
                    <a:lnTo>
                      <a:pt x="51" y="258"/>
                    </a:lnTo>
                    <a:lnTo>
                      <a:pt x="56" y="296"/>
                    </a:lnTo>
                    <a:lnTo>
                      <a:pt x="61" y="335"/>
                    </a:lnTo>
                    <a:lnTo>
                      <a:pt x="65" y="373"/>
                    </a:lnTo>
                    <a:lnTo>
                      <a:pt x="68" y="411"/>
                    </a:lnTo>
                    <a:lnTo>
                      <a:pt x="71" y="451"/>
                    </a:lnTo>
                    <a:lnTo>
                      <a:pt x="73" y="490"/>
                    </a:lnTo>
                    <a:lnTo>
                      <a:pt x="75" y="530"/>
                    </a:lnTo>
                    <a:lnTo>
                      <a:pt x="76" y="569"/>
                    </a:lnTo>
                    <a:lnTo>
                      <a:pt x="77" y="610"/>
                    </a:lnTo>
                    <a:lnTo>
                      <a:pt x="77" y="650"/>
                    </a:lnTo>
                    <a:lnTo>
                      <a:pt x="76" y="691"/>
                    </a:lnTo>
                    <a:lnTo>
                      <a:pt x="75" y="732"/>
                    </a:lnTo>
                    <a:lnTo>
                      <a:pt x="74" y="771"/>
                    </a:lnTo>
                    <a:lnTo>
                      <a:pt x="72" y="810"/>
                    </a:lnTo>
                    <a:lnTo>
                      <a:pt x="69" y="850"/>
                    </a:lnTo>
                    <a:lnTo>
                      <a:pt x="66" y="889"/>
                    </a:lnTo>
                    <a:lnTo>
                      <a:pt x="62" y="927"/>
                    </a:lnTo>
                    <a:lnTo>
                      <a:pt x="58" y="966"/>
                    </a:lnTo>
                    <a:lnTo>
                      <a:pt x="53" y="1005"/>
                    </a:lnTo>
                    <a:lnTo>
                      <a:pt x="47" y="1043"/>
                    </a:lnTo>
                    <a:lnTo>
                      <a:pt x="41" y="1080"/>
                    </a:lnTo>
                    <a:lnTo>
                      <a:pt x="34" y="1118"/>
                    </a:lnTo>
                    <a:lnTo>
                      <a:pt x="27" y="1155"/>
                    </a:lnTo>
                    <a:lnTo>
                      <a:pt x="19" y="1192"/>
                    </a:lnTo>
                    <a:lnTo>
                      <a:pt x="11" y="1228"/>
                    </a:lnTo>
                    <a:lnTo>
                      <a:pt x="10" y="1234"/>
                    </a:lnTo>
                    <a:lnTo>
                      <a:pt x="8" y="1240"/>
                    </a:lnTo>
                    <a:lnTo>
                      <a:pt x="7" y="1245"/>
                    </a:lnTo>
                    <a:lnTo>
                      <a:pt x="6" y="1251"/>
                    </a:lnTo>
                    <a:lnTo>
                      <a:pt x="4" y="1256"/>
                    </a:lnTo>
                    <a:lnTo>
                      <a:pt x="3" y="1261"/>
                    </a:lnTo>
                    <a:lnTo>
                      <a:pt x="2" y="1267"/>
                    </a:lnTo>
                    <a:lnTo>
                      <a:pt x="0" y="1272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405240" y="5027760"/>
                <a:ext cx="9360" cy="258480"/>
              </a:xfrm>
              <a:custGeom>
                <a:avLst/>
                <a:gdLst/>
                <a:ahLst/>
                <a:rect l="l" t="t" r="r" b="b"/>
                <a:pathLst>
                  <a:path w="30" h="816">
                    <a:moveTo>
                      <a:pt x="0" y="816"/>
                    </a:moveTo>
                    <a:lnTo>
                      <a:pt x="0" y="0"/>
                    </a:lnTo>
                    <a:lnTo>
                      <a:pt x="7" y="46"/>
                    </a:lnTo>
                    <a:lnTo>
                      <a:pt x="12" y="93"/>
                    </a:lnTo>
                    <a:lnTo>
                      <a:pt x="17" y="139"/>
                    </a:lnTo>
                    <a:lnTo>
                      <a:pt x="21" y="187"/>
                    </a:lnTo>
                    <a:lnTo>
                      <a:pt x="25" y="235"/>
                    </a:lnTo>
                    <a:lnTo>
                      <a:pt x="27" y="283"/>
                    </a:lnTo>
                    <a:lnTo>
                      <a:pt x="29" y="332"/>
                    </a:lnTo>
                    <a:lnTo>
                      <a:pt x="30" y="381"/>
                    </a:lnTo>
                    <a:lnTo>
                      <a:pt x="30" y="437"/>
                    </a:lnTo>
                    <a:lnTo>
                      <a:pt x="29" y="492"/>
                    </a:lnTo>
                    <a:lnTo>
                      <a:pt x="26" y="547"/>
                    </a:lnTo>
                    <a:lnTo>
                      <a:pt x="23" y="603"/>
                    </a:lnTo>
                    <a:lnTo>
                      <a:pt x="19" y="657"/>
                    </a:lnTo>
                    <a:lnTo>
                      <a:pt x="14" y="710"/>
                    </a:lnTo>
                    <a:lnTo>
                      <a:pt x="8" y="763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483000" y="4694400"/>
                <a:ext cx="11160" cy="915840"/>
              </a:xfrm>
              <a:custGeom>
                <a:avLst/>
                <a:gdLst/>
                <a:ahLst/>
                <a:rect l="l" t="t" r="r" b="b"/>
                <a:pathLst>
                  <a:path w="37" h="2887">
                    <a:moveTo>
                      <a:pt x="37" y="0"/>
                    </a:moveTo>
                    <a:lnTo>
                      <a:pt x="37" y="1970"/>
                    </a:lnTo>
                    <a:lnTo>
                      <a:pt x="34" y="1970"/>
                    </a:lnTo>
                    <a:lnTo>
                      <a:pt x="33" y="1970"/>
                    </a:lnTo>
                    <a:lnTo>
                      <a:pt x="31" y="1970"/>
                    </a:lnTo>
                    <a:lnTo>
                      <a:pt x="29" y="1970"/>
                    </a:lnTo>
                    <a:lnTo>
                      <a:pt x="27" y="1970"/>
                    </a:lnTo>
                    <a:lnTo>
                      <a:pt x="26" y="1970"/>
                    </a:lnTo>
                    <a:lnTo>
                      <a:pt x="24" y="1969"/>
                    </a:lnTo>
                    <a:lnTo>
                      <a:pt x="22" y="1969"/>
                    </a:lnTo>
                    <a:lnTo>
                      <a:pt x="21" y="1845"/>
                    </a:lnTo>
                    <a:lnTo>
                      <a:pt x="20" y="1722"/>
                    </a:lnTo>
                    <a:lnTo>
                      <a:pt x="18" y="1598"/>
                    </a:lnTo>
                    <a:lnTo>
                      <a:pt x="17" y="1475"/>
                    </a:lnTo>
                    <a:lnTo>
                      <a:pt x="16" y="1352"/>
                    </a:lnTo>
                    <a:lnTo>
                      <a:pt x="14" y="1228"/>
                    </a:lnTo>
                    <a:lnTo>
                      <a:pt x="13" y="1105"/>
                    </a:lnTo>
                    <a:lnTo>
                      <a:pt x="11" y="982"/>
                    </a:lnTo>
                    <a:lnTo>
                      <a:pt x="10" y="859"/>
                    </a:lnTo>
                    <a:lnTo>
                      <a:pt x="8" y="737"/>
                    </a:lnTo>
                    <a:lnTo>
                      <a:pt x="7" y="615"/>
                    </a:lnTo>
                    <a:lnTo>
                      <a:pt x="5" y="493"/>
                    </a:lnTo>
                    <a:lnTo>
                      <a:pt x="4" y="370"/>
                    </a:lnTo>
                    <a:lnTo>
                      <a:pt x="3" y="248"/>
                    </a:lnTo>
                    <a:lnTo>
                      <a:pt x="1" y="127"/>
                    </a:lnTo>
                    <a:lnTo>
                      <a:pt x="0" y="5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3"/>
                    </a:lnTo>
                    <a:lnTo>
                      <a:pt x="18" y="2"/>
                    </a:lnTo>
                    <a:lnTo>
                      <a:pt x="23" y="2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0"/>
                    </a:lnTo>
                    <a:close/>
                    <a:moveTo>
                      <a:pt x="37" y="2140"/>
                    </a:moveTo>
                    <a:lnTo>
                      <a:pt x="37" y="2887"/>
                    </a:lnTo>
                    <a:lnTo>
                      <a:pt x="37" y="2887"/>
                    </a:lnTo>
                    <a:lnTo>
                      <a:pt x="35" y="2887"/>
                    </a:lnTo>
                    <a:lnTo>
                      <a:pt x="35" y="2887"/>
                    </a:lnTo>
                    <a:lnTo>
                      <a:pt x="35" y="2887"/>
                    </a:lnTo>
                    <a:lnTo>
                      <a:pt x="34" y="2887"/>
                    </a:lnTo>
                    <a:lnTo>
                      <a:pt x="34" y="2886"/>
                    </a:lnTo>
                    <a:lnTo>
                      <a:pt x="34" y="2886"/>
                    </a:lnTo>
                    <a:lnTo>
                      <a:pt x="33" y="2886"/>
                    </a:lnTo>
                    <a:lnTo>
                      <a:pt x="32" y="2793"/>
                    </a:lnTo>
                    <a:lnTo>
                      <a:pt x="31" y="2699"/>
                    </a:lnTo>
                    <a:lnTo>
                      <a:pt x="30" y="2606"/>
                    </a:lnTo>
                    <a:lnTo>
                      <a:pt x="29" y="2512"/>
                    </a:lnTo>
                    <a:lnTo>
                      <a:pt x="28" y="2420"/>
                    </a:lnTo>
                    <a:lnTo>
                      <a:pt x="27" y="2326"/>
                    </a:lnTo>
                    <a:lnTo>
                      <a:pt x="26" y="2233"/>
                    </a:lnTo>
                    <a:lnTo>
                      <a:pt x="25" y="2139"/>
                    </a:lnTo>
                    <a:lnTo>
                      <a:pt x="26" y="2139"/>
                    </a:lnTo>
                    <a:lnTo>
                      <a:pt x="28" y="2139"/>
                    </a:lnTo>
                    <a:lnTo>
                      <a:pt x="29" y="2139"/>
                    </a:lnTo>
                    <a:lnTo>
                      <a:pt x="30" y="2139"/>
                    </a:lnTo>
                    <a:lnTo>
                      <a:pt x="32" y="2140"/>
                    </a:lnTo>
                    <a:lnTo>
                      <a:pt x="33" y="2140"/>
                    </a:lnTo>
                    <a:lnTo>
                      <a:pt x="35" y="2140"/>
                    </a:lnTo>
                    <a:lnTo>
                      <a:pt x="37" y="2140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483000" y="4692600"/>
                <a:ext cx="25200" cy="919080"/>
              </a:xfrm>
              <a:custGeom>
                <a:avLst/>
                <a:gdLst/>
                <a:ahLst/>
                <a:rect l="l" t="t" r="r" b="b"/>
                <a:pathLst>
                  <a:path w="83" h="2898">
                    <a:moveTo>
                      <a:pt x="83" y="0"/>
                    </a:moveTo>
                    <a:lnTo>
                      <a:pt x="83" y="1977"/>
                    </a:lnTo>
                    <a:lnTo>
                      <a:pt x="76" y="1977"/>
                    </a:lnTo>
                    <a:lnTo>
                      <a:pt x="68" y="1977"/>
                    </a:lnTo>
                    <a:lnTo>
                      <a:pt x="61" y="1976"/>
                    </a:lnTo>
                    <a:lnTo>
                      <a:pt x="53" y="1976"/>
                    </a:lnTo>
                    <a:lnTo>
                      <a:pt x="46" y="1975"/>
                    </a:lnTo>
                    <a:lnTo>
                      <a:pt x="38" y="1975"/>
                    </a:lnTo>
                    <a:lnTo>
                      <a:pt x="30" y="1975"/>
                    </a:lnTo>
                    <a:lnTo>
                      <a:pt x="22" y="1974"/>
                    </a:lnTo>
                    <a:lnTo>
                      <a:pt x="21" y="1850"/>
                    </a:lnTo>
                    <a:lnTo>
                      <a:pt x="20" y="1727"/>
                    </a:lnTo>
                    <a:lnTo>
                      <a:pt x="18" y="1603"/>
                    </a:lnTo>
                    <a:lnTo>
                      <a:pt x="17" y="1480"/>
                    </a:lnTo>
                    <a:lnTo>
                      <a:pt x="16" y="1357"/>
                    </a:lnTo>
                    <a:lnTo>
                      <a:pt x="14" y="1233"/>
                    </a:lnTo>
                    <a:lnTo>
                      <a:pt x="13" y="1110"/>
                    </a:lnTo>
                    <a:lnTo>
                      <a:pt x="11" y="987"/>
                    </a:lnTo>
                    <a:lnTo>
                      <a:pt x="10" y="864"/>
                    </a:lnTo>
                    <a:lnTo>
                      <a:pt x="8" y="742"/>
                    </a:lnTo>
                    <a:lnTo>
                      <a:pt x="7" y="620"/>
                    </a:lnTo>
                    <a:lnTo>
                      <a:pt x="5" y="498"/>
                    </a:lnTo>
                    <a:lnTo>
                      <a:pt x="4" y="375"/>
                    </a:lnTo>
                    <a:lnTo>
                      <a:pt x="3" y="253"/>
                    </a:lnTo>
                    <a:lnTo>
                      <a:pt x="1" y="132"/>
                    </a:lnTo>
                    <a:lnTo>
                      <a:pt x="0" y="10"/>
                    </a:lnTo>
                    <a:lnTo>
                      <a:pt x="10" y="8"/>
                    </a:lnTo>
                    <a:lnTo>
                      <a:pt x="20" y="7"/>
                    </a:lnTo>
                    <a:lnTo>
                      <a:pt x="31" y="6"/>
                    </a:lnTo>
                    <a:lnTo>
                      <a:pt x="42" y="5"/>
                    </a:lnTo>
                    <a:lnTo>
                      <a:pt x="52" y="3"/>
                    </a:lnTo>
                    <a:lnTo>
                      <a:pt x="62" y="2"/>
                    </a:lnTo>
                    <a:lnTo>
                      <a:pt x="73" y="1"/>
                    </a:lnTo>
                    <a:lnTo>
                      <a:pt x="83" y="0"/>
                    </a:lnTo>
                    <a:close/>
                    <a:moveTo>
                      <a:pt x="83" y="2148"/>
                    </a:moveTo>
                    <a:lnTo>
                      <a:pt x="83" y="2898"/>
                    </a:lnTo>
                    <a:lnTo>
                      <a:pt x="77" y="2897"/>
                    </a:lnTo>
                    <a:lnTo>
                      <a:pt x="71" y="2896"/>
                    </a:lnTo>
                    <a:lnTo>
                      <a:pt x="65" y="2895"/>
                    </a:lnTo>
                    <a:lnTo>
                      <a:pt x="59" y="2895"/>
                    </a:lnTo>
                    <a:lnTo>
                      <a:pt x="52" y="2894"/>
                    </a:lnTo>
                    <a:lnTo>
                      <a:pt x="46" y="2893"/>
                    </a:lnTo>
                    <a:lnTo>
                      <a:pt x="40" y="2892"/>
                    </a:lnTo>
                    <a:lnTo>
                      <a:pt x="33" y="2891"/>
                    </a:lnTo>
                    <a:lnTo>
                      <a:pt x="32" y="2798"/>
                    </a:lnTo>
                    <a:lnTo>
                      <a:pt x="31" y="2704"/>
                    </a:lnTo>
                    <a:lnTo>
                      <a:pt x="30" y="2611"/>
                    </a:lnTo>
                    <a:lnTo>
                      <a:pt x="29" y="2517"/>
                    </a:lnTo>
                    <a:lnTo>
                      <a:pt x="28" y="2425"/>
                    </a:lnTo>
                    <a:lnTo>
                      <a:pt x="27" y="2331"/>
                    </a:lnTo>
                    <a:lnTo>
                      <a:pt x="26" y="2238"/>
                    </a:lnTo>
                    <a:lnTo>
                      <a:pt x="25" y="2144"/>
                    </a:lnTo>
                    <a:lnTo>
                      <a:pt x="32" y="2145"/>
                    </a:lnTo>
                    <a:lnTo>
                      <a:pt x="40" y="2145"/>
                    </a:lnTo>
                    <a:lnTo>
                      <a:pt x="47" y="2146"/>
                    </a:lnTo>
                    <a:lnTo>
                      <a:pt x="54" y="2146"/>
                    </a:lnTo>
                    <a:lnTo>
                      <a:pt x="61" y="2146"/>
                    </a:lnTo>
                    <a:lnTo>
                      <a:pt x="69" y="2147"/>
                    </a:lnTo>
                    <a:lnTo>
                      <a:pt x="76" y="2147"/>
                    </a:lnTo>
                    <a:lnTo>
                      <a:pt x="83" y="214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3494160" y="4691160"/>
                <a:ext cx="30240" cy="923760"/>
              </a:xfrm>
              <a:custGeom>
                <a:avLst/>
                <a:gdLst/>
                <a:ahLst/>
                <a:rect l="l" t="t" r="r" b="b"/>
                <a:pathLst>
                  <a:path w="93" h="2910">
                    <a:moveTo>
                      <a:pt x="0" y="2898"/>
                    </a:moveTo>
                    <a:lnTo>
                      <a:pt x="0" y="2151"/>
                    </a:lnTo>
                    <a:lnTo>
                      <a:pt x="12" y="2152"/>
                    </a:lnTo>
                    <a:lnTo>
                      <a:pt x="23" y="2152"/>
                    </a:lnTo>
                    <a:lnTo>
                      <a:pt x="35" y="2153"/>
                    </a:lnTo>
                    <a:lnTo>
                      <a:pt x="46" y="2154"/>
                    </a:lnTo>
                    <a:lnTo>
                      <a:pt x="58" y="2155"/>
                    </a:lnTo>
                    <a:lnTo>
                      <a:pt x="70" y="2155"/>
                    </a:lnTo>
                    <a:lnTo>
                      <a:pt x="81" y="2156"/>
                    </a:lnTo>
                    <a:lnTo>
                      <a:pt x="93" y="2157"/>
                    </a:lnTo>
                    <a:lnTo>
                      <a:pt x="93" y="2910"/>
                    </a:lnTo>
                    <a:lnTo>
                      <a:pt x="81" y="2908"/>
                    </a:lnTo>
                    <a:lnTo>
                      <a:pt x="70" y="2907"/>
                    </a:lnTo>
                    <a:lnTo>
                      <a:pt x="58" y="2905"/>
                    </a:lnTo>
                    <a:lnTo>
                      <a:pt x="46" y="2904"/>
                    </a:lnTo>
                    <a:lnTo>
                      <a:pt x="35" y="2902"/>
                    </a:lnTo>
                    <a:lnTo>
                      <a:pt x="23" y="2901"/>
                    </a:lnTo>
                    <a:lnTo>
                      <a:pt x="12" y="2899"/>
                    </a:lnTo>
                    <a:lnTo>
                      <a:pt x="0" y="2898"/>
                    </a:lnTo>
                    <a:close/>
                    <a:moveTo>
                      <a:pt x="0" y="1981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5"/>
                    </a:lnTo>
                    <a:lnTo>
                      <a:pt x="70" y="3"/>
                    </a:lnTo>
                    <a:lnTo>
                      <a:pt x="81" y="2"/>
                    </a:lnTo>
                    <a:lnTo>
                      <a:pt x="93" y="0"/>
                    </a:lnTo>
                    <a:lnTo>
                      <a:pt x="93" y="1986"/>
                    </a:lnTo>
                    <a:lnTo>
                      <a:pt x="81" y="1985"/>
                    </a:lnTo>
                    <a:lnTo>
                      <a:pt x="70" y="1985"/>
                    </a:lnTo>
                    <a:lnTo>
                      <a:pt x="58" y="1984"/>
                    </a:lnTo>
                    <a:lnTo>
                      <a:pt x="46" y="1983"/>
                    </a:lnTo>
                    <a:lnTo>
                      <a:pt x="34" y="1983"/>
                    </a:lnTo>
                    <a:lnTo>
                      <a:pt x="23" y="1982"/>
                    </a:lnTo>
                    <a:lnTo>
                      <a:pt x="12" y="1982"/>
                    </a:lnTo>
                    <a:lnTo>
                      <a:pt x="0" y="1981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508200" y="4689360"/>
                <a:ext cx="30240" cy="927360"/>
              </a:xfrm>
              <a:custGeom>
                <a:avLst/>
                <a:gdLst/>
                <a:ahLst/>
                <a:rect l="l" t="t" r="r" b="b"/>
                <a:pathLst>
                  <a:path w="94" h="2920">
                    <a:moveTo>
                      <a:pt x="0" y="2909"/>
                    </a:moveTo>
                    <a:lnTo>
                      <a:pt x="0" y="2159"/>
                    </a:lnTo>
                    <a:lnTo>
                      <a:pt x="12" y="2160"/>
                    </a:lnTo>
                    <a:lnTo>
                      <a:pt x="24" y="2160"/>
                    </a:lnTo>
                    <a:lnTo>
                      <a:pt x="35" y="2161"/>
                    </a:lnTo>
                    <a:lnTo>
                      <a:pt x="47" y="2162"/>
                    </a:lnTo>
                    <a:lnTo>
                      <a:pt x="59" y="2163"/>
                    </a:lnTo>
                    <a:lnTo>
                      <a:pt x="71" y="2163"/>
                    </a:lnTo>
                    <a:lnTo>
                      <a:pt x="82" y="2164"/>
                    </a:lnTo>
                    <a:lnTo>
                      <a:pt x="94" y="2165"/>
                    </a:lnTo>
                    <a:lnTo>
                      <a:pt x="94" y="2920"/>
                    </a:lnTo>
                    <a:lnTo>
                      <a:pt x="82" y="2919"/>
                    </a:lnTo>
                    <a:lnTo>
                      <a:pt x="71" y="2918"/>
                    </a:lnTo>
                    <a:lnTo>
                      <a:pt x="59" y="2916"/>
                    </a:lnTo>
                    <a:lnTo>
                      <a:pt x="47" y="2915"/>
                    </a:lnTo>
                    <a:lnTo>
                      <a:pt x="35" y="2913"/>
                    </a:lnTo>
                    <a:lnTo>
                      <a:pt x="24" y="2912"/>
                    </a:lnTo>
                    <a:lnTo>
                      <a:pt x="12" y="2910"/>
                    </a:lnTo>
                    <a:lnTo>
                      <a:pt x="0" y="2909"/>
                    </a:lnTo>
                    <a:close/>
                    <a:moveTo>
                      <a:pt x="0" y="198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4" y="8"/>
                    </a:lnTo>
                    <a:lnTo>
                      <a:pt x="35" y="7"/>
                    </a:lnTo>
                    <a:lnTo>
                      <a:pt x="47" y="6"/>
                    </a:lnTo>
                    <a:lnTo>
                      <a:pt x="59" y="4"/>
                    </a:lnTo>
                    <a:lnTo>
                      <a:pt x="71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1993"/>
                    </a:lnTo>
                    <a:lnTo>
                      <a:pt x="82" y="1992"/>
                    </a:lnTo>
                    <a:lnTo>
                      <a:pt x="71" y="1992"/>
                    </a:lnTo>
                    <a:lnTo>
                      <a:pt x="59" y="1991"/>
                    </a:lnTo>
                    <a:lnTo>
                      <a:pt x="47" y="1991"/>
                    </a:lnTo>
                    <a:lnTo>
                      <a:pt x="35" y="1990"/>
                    </a:lnTo>
                    <a:lnTo>
                      <a:pt x="24" y="1990"/>
                    </a:lnTo>
                    <a:lnTo>
                      <a:pt x="12" y="1989"/>
                    </a:lnTo>
                    <a:lnTo>
                      <a:pt x="0" y="1988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524400" y="4687920"/>
                <a:ext cx="28440" cy="930240"/>
              </a:xfrm>
              <a:custGeom>
                <a:avLst/>
                <a:gdLst/>
                <a:ahLst/>
                <a:rect l="l" t="t" r="r" b="b"/>
                <a:pathLst>
                  <a:path w="94" h="2931">
                    <a:moveTo>
                      <a:pt x="0" y="2920"/>
                    </a:moveTo>
                    <a:lnTo>
                      <a:pt x="0" y="2167"/>
                    </a:lnTo>
                    <a:lnTo>
                      <a:pt x="12" y="2168"/>
                    </a:lnTo>
                    <a:lnTo>
                      <a:pt x="24" y="2168"/>
                    </a:lnTo>
                    <a:lnTo>
                      <a:pt x="35" y="2169"/>
                    </a:lnTo>
                    <a:lnTo>
                      <a:pt x="47" y="2170"/>
                    </a:lnTo>
                    <a:lnTo>
                      <a:pt x="59" y="2171"/>
                    </a:lnTo>
                    <a:lnTo>
                      <a:pt x="70" y="2171"/>
                    </a:lnTo>
                    <a:lnTo>
                      <a:pt x="82" y="2172"/>
                    </a:lnTo>
                    <a:lnTo>
                      <a:pt x="94" y="2173"/>
                    </a:lnTo>
                    <a:lnTo>
                      <a:pt x="94" y="2931"/>
                    </a:lnTo>
                    <a:lnTo>
                      <a:pt x="82" y="2930"/>
                    </a:lnTo>
                    <a:lnTo>
                      <a:pt x="70" y="2928"/>
                    </a:lnTo>
                    <a:lnTo>
                      <a:pt x="59" y="2927"/>
                    </a:lnTo>
                    <a:lnTo>
                      <a:pt x="47" y="2925"/>
                    </a:lnTo>
                    <a:lnTo>
                      <a:pt x="35" y="2924"/>
                    </a:lnTo>
                    <a:lnTo>
                      <a:pt x="24" y="2923"/>
                    </a:lnTo>
                    <a:lnTo>
                      <a:pt x="12" y="2921"/>
                    </a:lnTo>
                    <a:lnTo>
                      <a:pt x="0" y="2920"/>
                    </a:lnTo>
                    <a:close/>
                    <a:moveTo>
                      <a:pt x="0" y="1996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4" y="8"/>
                    </a:lnTo>
                    <a:lnTo>
                      <a:pt x="35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2000"/>
                    </a:lnTo>
                    <a:lnTo>
                      <a:pt x="82" y="2000"/>
                    </a:lnTo>
                    <a:lnTo>
                      <a:pt x="70" y="1999"/>
                    </a:lnTo>
                    <a:lnTo>
                      <a:pt x="59" y="1999"/>
                    </a:lnTo>
                    <a:lnTo>
                      <a:pt x="47" y="1998"/>
                    </a:lnTo>
                    <a:lnTo>
                      <a:pt x="35" y="1997"/>
                    </a:lnTo>
                    <a:lnTo>
                      <a:pt x="24" y="1997"/>
                    </a:lnTo>
                    <a:lnTo>
                      <a:pt x="12" y="1996"/>
                    </a:lnTo>
                    <a:lnTo>
                      <a:pt x="0" y="199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538440" y="4684680"/>
                <a:ext cx="30240" cy="934920"/>
              </a:xfrm>
              <a:custGeom>
                <a:avLst/>
                <a:gdLst/>
                <a:ahLst/>
                <a:rect l="l" t="t" r="r" b="b"/>
                <a:pathLst>
                  <a:path w="93" h="2943">
                    <a:moveTo>
                      <a:pt x="0" y="2931"/>
                    </a:moveTo>
                    <a:lnTo>
                      <a:pt x="0" y="2176"/>
                    </a:lnTo>
                    <a:lnTo>
                      <a:pt x="12" y="2177"/>
                    </a:lnTo>
                    <a:lnTo>
                      <a:pt x="23" y="2177"/>
                    </a:lnTo>
                    <a:lnTo>
                      <a:pt x="35" y="2178"/>
                    </a:lnTo>
                    <a:lnTo>
                      <a:pt x="46" y="2179"/>
                    </a:lnTo>
                    <a:lnTo>
                      <a:pt x="59" y="2180"/>
                    </a:lnTo>
                    <a:lnTo>
                      <a:pt x="70" y="2180"/>
                    </a:lnTo>
                    <a:lnTo>
                      <a:pt x="82" y="2181"/>
                    </a:lnTo>
                    <a:lnTo>
                      <a:pt x="93" y="2182"/>
                    </a:lnTo>
                    <a:lnTo>
                      <a:pt x="93" y="2943"/>
                    </a:lnTo>
                    <a:lnTo>
                      <a:pt x="82" y="2942"/>
                    </a:lnTo>
                    <a:lnTo>
                      <a:pt x="70" y="2940"/>
                    </a:lnTo>
                    <a:lnTo>
                      <a:pt x="59" y="2939"/>
                    </a:lnTo>
                    <a:lnTo>
                      <a:pt x="46" y="2937"/>
                    </a:lnTo>
                    <a:lnTo>
                      <a:pt x="35" y="2936"/>
                    </a:lnTo>
                    <a:lnTo>
                      <a:pt x="24" y="2934"/>
                    </a:lnTo>
                    <a:lnTo>
                      <a:pt x="12" y="2933"/>
                    </a:lnTo>
                    <a:lnTo>
                      <a:pt x="0" y="2931"/>
                    </a:lnTo>
                    <a:close/>
                    <a:moveTo>
                      <a:pt x="0" y="2004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6" y="6"/>
                    </a:lnTo>
                    <a:lnTo>
                      <a:pt x="59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2009"/>
                    </a:lnTo>
                    <a:lnTo>
                      <a:pt x="82" y="2008"/>
                    </a:lnTo>
                    <a:lnTo>
                      <a:pt x="70" y="2008"/>
                    </a:lnTo>
                    <a:lnTo>
                      <a:pt x="59" y="2007"/>
                    </a:lnTo>
                    <a:lnTo>
                      <a:pt x="46" y="2006"/>
                    </a:lnTo>
                    <a:lnTo>
                      <a:pt x="35" y="2006"/>
                    </a:lnTo>
                    <a:lnTo>
                      <a:pt x="23" y="2005"/>
                    </a:lnTo>
                    <a:lnTo>
                      <a:pt x="12" y="2005"/>
                    </a:lnTo>
                    <a:lnTo>
                      <a:pt x="0" y="200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3552840" y="4683240"/>
                <a:ext cx="30240" cy="938160"/>
              </a:xfrm>
              <a:custGeom>
                <a:avLst/>
                <a:gdLst/>
                <a:ahLst/>
                <a:rect l="l" t="t" r="r" b="b"/>
                <a:pathLst>
                  <a:path w="93" h="2955">
                    <a:moveTo>
                      <a:pt x="0" y="2943"/>
                    </a:moveTo>
                    <a:lnTo>
                      <a:pt x="0" y="2185"/>
                    </a:lnTo>
                    <a:lnTo>
                      <a:pt x="12" y="2186"/>
                    </a:lnTo>
                    <a:lnTo>
                      <a:pt x="23" y="2186"/>
                    </a:lnTo>
                    <a:lnTo>
                      <a:pt x="35" y="2187"/>
                    </a:lnTo>
                    <a:lnTo>
                      <a:pt x="46" y="2188"/>
                    </a:lnTo>
                    <a:lnTo>
                      <a:pt x="59" y="2189"/>
                    </a:lnTo>
                    <a:lnTo>
                      <a:pt x="70" y="2189"/>
                    </a:lnTo>
                    <a:lnTo>
                      <a:pt x="82" y="2190"/>
                    </a:lnTo>
                    <a:lnTo>
                      <a:pt x="93" y="2191"/>
                    </a:lnTo>
                    <a:lnTo>
                      <a:pt x="93" y="2955"/>
                    </a:lnTo>
                    <a:lnTo>
                      <a:pt x="82" y="2954"/>
                    </a:lnTo>
                    <a:lnTo>
                      <a:pt x="70" y="2952"/>
                    </a:lnTo>
                    <a:lnTo>
                      <a:pt x="59" y="2951"/>
                    </a:lnTo>
                    <a:lnTo>
                      <a:pt x="46" y="2949"/>
                    </a:lnTo>
                    <a:lnTo>
                      <a:pt x="35" y="2948"/>
                    </a:lnTo>
                    <a:lnTo>
                      <a:pt x="23" y="2946"/>
                    </a:lnTo>
                    <a:lnTo>
                      <a:pt x="12" y="2945"/>
                    </a:lnTo>
                    <a:lnTo>
                      <a:pt x="0" y="2943"/>
                    </a:lnTo>
                    <a:close/>
                    <a:moveTo>
                      <a:pt x="0" y="2012"/>
                    </a:moveTo>
                    <a:lnTo>
                      <a:pt x="0" y="12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6" y="6"/>
                    </a:lnTo>
                    <a:lnTo>
                      <a:pt x="59" y="5"/>
                    </a:lnTo>
                    <a:lnTo>
                      <a:pt x="70" y="4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2017"/>
                    </a:lnTo>
                    <a:lnTo>
                      <a:pt x="82" y="2016"/>
                    </a:lnTo>
                    <a:lnTo>
                      <a:pt x="70" y="2016"/>
                    </a:lnTo>
                    <a:lnTo>
                      <a:pt x="59" y="2015"/>
                    </a:lnTo>
                    <a:lnTo>
                      <a:pt x="46" y="2015"/>
                    </a:lnTo>
                    <a:lnTo>
                      <a:pt x="35" y="2014"/>
                    </a:lnTo>
                    <a:lnTo>
                      <a:pt x="23" y="2013"/>
                    </a:lnTo>
                    <a:lnTo>
                      <a:pt x="12" y="2013"/>
                    </a:lnTo>
                    <a:lnTo>
                      <a:pt x="0" y="2012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3568680" y="4681440"/>
                <a:ext cx="28440" cy="943200"/>
              </a:xfrm>
              <a:custGeom>
                <a:avLst/>
                <a:gdLst/>
                <a:ahLst/>
                <a:rect l="l" t="t" r="r" b="b"/>
                <a:pathLst>
                  <a:path w="94" h="2968">
                    <a:moveTo>
                      <a:pt x="0" y="2955"/>
                    </a:moveTo>
                    <a:lnTo>
                      <a:pt x="0" y="2194"/>
                    </a:lnTo>
                    <a:lnTo>
                      <a:pt x="13" y="2195"/>
                    </a:lnTo>
                    <a:lnTo>
                      <a:pt x="24" y="2195"/>
                    </a:lnTo>
                    <a:lnTo>
                      <a:pt x="36" y="2196"/>
                    </a:lnTo>
                    <a:lnTo>
                      <a:pt x="47" y="2197"/>
                    </a:lnTo>
                    <a:lnTo>
                      <a:pt x="59" y="2198"/>
                    </a:lnTo>
                    <a:lnTo>
                      <a:pt x="71" y="2198"/>
                    </a:lnTo>
                    <a:lnTo>
                      <a:pt x="82" y="2199"/>
                    </a:lnTo>
                    <a:lnTo>
                      <a:pt x="94" y="2201"/>
                    </a:lnTo>
                    <a:lnTo>
                      <a:pt x="94" y="2968"/>
                    </a:lnTo>
                    <a:lnTo>
                      <a:pt x="82" y="2967"/>
                    </a:lnTo>
                    <a:lnTo>
                      <a:pt x="71" y="2964"/>
                    </a:lnTo>
                    <a:lnTo>
                      <a:pt x="59" y="2963"/>
                    </a:lnTo>
                    <a:lnTo>
                      <a:pt x="47" y="2961"/>
                    </a:lnTo>
                    <a:lnTo>
                      <a:pt x="36" y="2960"/>
                    </a:lnTo>
                    <a:lnTo>
                      <a:pt x="24" y="2958"/>
                    </a:lnTo>
                    <a:lnTo>
                      <a:pt x="13" y="2957"/>
                    </a:lnTo>
                    <a:lnTo>
                      <a:pt x="0" y="2955"/>
                    </a:lnTo>
                    <a:close/>
                    <a:moveTo>
                      <a:pt x="0" y="2021"/>
                    </a:moveTo>
                    <a:lnTo>
                      <a:pt x="0" y="12"/>
                    </a:lnTo>
                    <a:lnTo>
                      <a:pt x="13" y="11"/>
                    </a:lnTo>
                    <a:lnTo>
                      <a:pt x="24" y="10"/>
                    </a:lnTo>
                    <a:lnTo>
                      <a:pt x="35" y="8"/>
                    </a:lnTo>
                    <a:lnTo>
                      <a:pt x="47" y="6"/>
                    </a:lnTo>
                    <a:lnTo>
                      <a:pt x="59" y="5"/>
                    </a:lnTo>
                    <a:lnTo>
                      <a:pt x="71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2025"/>
                    </a:lnTo>
                    <a:lnTo>
                      <a:pt x="82" y="2025"/>
                    </a:lnTo>
                    <a:lnTo>
                      <a:pt x="71" y="2024"/>
                    </a:lnTo>
                    <a:lnTo>
                      <a:pt x="59" y="2023"/>
                    </a:lnTo>
                    <a:lnTo>
                      <a:pt x="47" y="2023"/>
                    </a:lnTo>
                    <a:lnTo>
                      <a:pt x="36" y="2022"/>
                    </a:lnTo>
                    <a:lnTo>
                      <a:pt x="24" y="2022"/>
                    </a:lnTo>
                    <a:lnTo>
                      <a:pt x="13" y="2021"/>
                    </a:lnTo>
                    <a:lnTo>
                      <a:pt x="0" y="2021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3583080" y="4680000"/>
                <a:ext cx="30240" cy="946080"/>
              </a:xfrm>
              <a:custGeom>
                <a:avLst/>
                <a:gdLst/>
                <a:ahLst/>
                <a:rect l="l" t="t" r="r" b="b"/>
                <a:pathLst>
                  <a:path w="94" h="2979">
                    <a:moveTo>
                      <a:pt x="0" y="2966"/>
                    </a:moveTo>
                    <a:lnTo>
                      <a:pt x="0" y="2202"/>
                    </a:lnTo>
                    <a:lnTo>
                      <a:pt x="13" y="2203"/>
                    </a:lnTo>
                    <a:lnTo>
                      <a:pt x="24" y="2203"/>
                    </a:lnTo>
                    <a:lnTo>
                      <a:pt x="35" y="2204"/>
                    </a:lnTo>
                    <a:lnTo>
                      <a:pt x="47" y="2206"/>
                    </a:lnTo>
                    <a:lnTo>
                      <a:pt x="59" y="2206"/>
                    </a:lnTo>
                    <a:lnTo>
                      <a:pt x="71" y="2207"/>
                    </a:lnTo>
                    <a:lnTo>
                      <a:pt x="82" y="2208"/>
                    </a:lnTo>
                    <a:lnTo>
                      <a:pt x="94" y="2209"/>
                    </a:lnTo>
                    <a:lnTo>
                      <a:pt x="94" y="2979"/>
                    </a:lnTo>
                    <a:lnTo>
                      <a:pt x="82" y="2977"/>
                    </a:lnTo>
                    <a:lnTo>
                      <a:pt x="71" y="2976"/>
                    </a:lnTo>
                    <a:lnTo>
                      <a:pt x="59" y="2975"/>
                    </a:lnTo>
                    <a:lnTo>
                      <a:pt x="47" y="2973"/>
                    </a:lnTo>
                    <a:lnTo>
                      <a:pt x="35" y="2972"/>
                    </a:lnTo>
                    <a:lnTo>
                      <a:pt x="24" y="2969"/>
                    </a:lnTo>
                    <a:lnTo>
                      <a:pt x="13" y="2968"/>
                    </a:lnTo>
                    <a:lnTo>
                      <a:pt x="0" y="2966"/>
                    </a:lnTo>
                    <a:close/>
                    <a:moveTo>
                      <a:pt x="0" y="202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0" y="2"/>
                    </a:lnTo>
                    <a:lnTo>
                      <a:pt x="92" y="0"/>
                    </a:lnTo>
                    <a:lnTo>
                      <a:pt x="92" y="22"/>
                    </a:lnTo>
                    <a:lnTo>
                      <a:pt x="92" y="43"/>
                    </a:lnTo>
                    <a:lnTo>
                      <a:pt x="92" y="65"/>
                    </a:lnTo>
                    <a:lnTo>
                      <a:pt x="93" y="86"/>
                    </a:lnTo>
                    <a:lnTo>
                      <a:pt x="93" y="107"/>
                    </a:lnTo>
                    <a:lnTo>
                      <a:pt x="93" y="129"/>
                    </a:lnTo>
                    <a:lnTo>
                      <a:pt x="93" y="150"/>
                    </a:lnTo>
                    <a:lnTo>
                      <a:pt x="94" y="172"/>
                    </a:lnTo>
                    <a:lnTo>
                      <a:pt x="94" y="2032"/>
                    </a:lnTo>
                    <a:lnTo>
                      <a:pt x="82" y="2032"/>
                    </a:lnTo>
                    <a:lnTo>
                      <a:pt x="71" y="2031"/>
                    </a:lnTo>
                    <a:lnTo>
                      <a:pt x="59" y="2031"/>
                    </a:lnTo>
                    <a:lnTo>
                      <a:pt x="47" y="2030"/>
                    </a:lnTo>
                    <a:lnTo>
                      <a:pt x="35" y="2030"/>
                    </a:lnTo>
                    <a:lnTo>
                      <a:pt x="24" y="2029"/>
                    </a:lnTo>
                    <a:lnTo>
                      <a:pt x="13" y="2028"/>
                    </a:lnTo>
                    <a:lnTo>
                      <a:pt x="0" y="2028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597120" y="4680000"/>
                <a:ext cx="28800" cy="947520"/>
              </a:xfrm>
              <a:custGeom>
                <a:avLst/>
                <a:gdLst/>
                <a:ahLst/>
                <a:rect l="l" t="t" r="r" b="b"/>
                <a:pathLst>
                  <a:path w="86" h="2984">
                    <a:moveTo>
                      <a:pt x="0" y="2973"/>
                    </a:moveTo>
                    <a:lnTo>
                      <a:pt x="0" y="2206"/>
                    </a:lnTo>
                    <a:lnTo>
                      <a:pt x="10" y="2206"/>
                    </a:lnTo>
                    <a:lnTo>
                      <a:pt x="19" y="2207"/>
                    </a:lnTo>
                    <a:lnTo>
                      <a:pt x="29" y="2208"/>
                    </a:lnTo>
                    <a:lnTo>
                      <a:pt x="38" y="2208"/>
                    </a:lnTo>
                    <a:lnTo>
                      <a:pt x="47" y="2209"/>
                    </a:lnTo>
                    <a:lnTo>
                      <a:pt x="56" y="2209"/>
                    </a:lnTo>
                    <a:lnTo>
                      <a:pt x="67" y="2210"/>
                    </a:lnTo>
                    <a:lnTo>
                      <a:pt x="76" y="2210"/>
                    </a:lnTo>
                    <a:lnTo>
                      <a:pt x="77" y="2306"/>
                    </a:lnTo>
                    <a:lnTo>
                      <a:pt x="79" y="2403"/>
                    </a:lnTo>
                    <a:lnTo>
                      <a:pt x="80" y="2499"/>
                    </a:lnTo>
                    <a:lnTo>
                      <a:pt x="81" y="2596"/>
                    </a:lnTo>
                    <a:lnTo>
                      <a:pt x="82" y="2693"/>
                    </a:lnTo>
                    <a:lnTo>
                      <a:pt x="84" y="2790"/>
                    </a:lnTo>
                    <a:lnTo>
                      <a:pt x="85" y="2887"/>
                    </a:lnTo>
                    <a:lnTo>
                      <a:pt x="86" y="2984"/>
                    </a:lnTo>
                    <a:lnTo>
                      <a:pt x="75" y="2982"/>
                    </a:lnTo>
                    <a:lnTo>
                      <a:pt x="65" y="2981"/>
                    </a:lnTo>
                    <a:lnTo>
                      <a:pt x="53" y="2980"/>
                    </a:lnTo>
                    <a:lnTo>
                      <a:pt x="43" y="2978"/>
                    </a:lnTo>
                    <a:lnTo>
                      <a:pt x="32" y="2977"/>
                    </a:lnTo>
                    <a:lnTo>
                      <a:pt x="22" y="2976"/>
                    </a:lnTo>
                    <a:lnTo>
                      <a:pt x="11" y="2974"/>
                    </a:lnTo>
                    <a:lnTo>
                      <a:pt x="0" y="2973"/>
                    </a:lnTo>
                    <a:close/>
                    <a:moveTo>
                      <a:pt x="0" y="203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46" y="127"/>
                    </a:lnTo>
                    <a:lnTo>
                      <a:pt x="48" y="252"/>
                    </a:lnTo>
                    <a:lnTo>
                      <a:pt x="49" y="379"/>
                    </a:lnTo>
                    <a:lnTo>
                      <a:pt x="51" y="505"/>
                    </a:lnTo>
                    <a:lnTo>
                      <a:pt x="52" y="632"/>
                    </a:lnTo>
                    <a:lnTo>
                      <a:pt x="54" y="758"/>
                    </a:lnTo>
                    <a:lnTo>
                      <a:pt x="56" y="885"/>
                    </a:lnTo>
                    <a:lnTo>
                      <a:pt x="59" y="1012"/>
                    </a:lnTo>
                    <a:lnTo>
                      <a:pt x="60" y="1140"/>
                    </a:lnTo>
                    <a:lnTo>
                      <a:pt x="62" y="1266"/>
                    </a:lnTo>
                    <a:lnTo>
                      <a:pt x="64" y="1395"/>
                    </a:lnTo>
                    <a:lnTo>
                      <a:pt x="66" y="1522"/>
                    </a:lnTo>
                    <a:lnTo>
                      <a:pt x="68" y="1650"/>
                    </a:lnTo>
                    <a:lnTo>
                      <a:pt x="69" y="1778"/>
                    </a:lnTo>
                    <a:lnTo>
                      <a:pt x="71" y="1906"/>
                    </a:lnTo>
                    <a:lnTo>
                      <a:pt x="73" y="2034"/>
                    </a:lnTo>
                    <a:lnTo>
                      <a:pt x="64" y="2033"/>
                    </a:lnTo>
                    <a:lnTo>
                      <a:pt x="54" y="2033"/>
                    </a:lnTo>
                    <a:lnTo>
                      <a:pt x="45" y="2032"/>
                    </a:lnTo>
                    <a:lnTo>
                      <a:pt x="36" y="2032"/>
                    </a:lnTo>
                    <a:lnTo>
                      <a:pt x="27" y="2032"/>
                    </a:lnTo>
                    <a:lnTo>
                      <a:pt x="19" y="2031"/>
                    </a:lnTo>
                    <a:lnTo>
                      <a:pt x="10" y="2031"/>
                    </a:lnTo>
                    <a:lnTo>
                      <a:pt x="0" y="2030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613320" y="4734000"/>
                <a:ext cx="12600" cy="893520"/>
              </a:xfrm>
              <a:custGeom>
                <a:avLst/>
                <a:gdLst/>
                <a:ahLst/>
                <a:rect l="l" t="t" r="r" b="b"/>
                <a:pathLst>
                  <a:path w="39" h="2812">
                    <a:moveTo>
                      <a:pt x="0" y="2807"/>
                    </a:moveTo>
                    <a:lnTo>
                      <a:pt x="0" y="2037"/>
                    </a:lnTo>
                    <a:lnTo>
                      <a:pt x="3" y="2037"/>
                    </a:lnTo>
                    <a:lnTo>
                      <a:pt x="7" y="2037"/>
                    </a:lnTo>
                    <a:lnTo>
                      <a:pt x="11" y="2037"/>
                    </a:lnTo>
                    <a:lnTo>
                      <a:pt x="15" y="2037"/>
                    </a:lnTo>
                    <a:lnTo>
                      <a:pt x="18" y="2038"/>
                    </a:lnTo>
                    <a:lnTo>
                      <a:pt x="22" y="2038"/>
                    </a:lnTo>
                    <a:lnTo>
                      <a:pt x="25" y="2038"/>
                    </a:lnTo>
                    <a:lnTo>
                      <a:pt x="29" y="2038"/>
                    </a:lnTo>
                    <a:lnTo>
                      <a:pt x="30" y="2134"/>
                    </a:lnTo>
                    <a:lnTo>
                      <a:pt x="32" y="2231"/>
                    </a:lnTo>
                    <a:lnTo>
                      <a:pt x="33" y="2327"/>
                    </a:lnTo>
                    <a:lnTo>
                      <a:pt x="34" y="2424"/>
                    </a:lnTo>
                    <a:lnTo>
                      <a:pt x="35" y="2521"/>
                    </a:lnTo>
                    <a:lnTo>
                      <a:pt x="37" y="2618"/>
                    </a:lnTo>
                    <a:lnTo>
                      <a:pt x="38" y="2715"/>
                    </a:lnTo>
                    <a:lnTo>
                      <a:pt x="39" y="2812"/>
                    </a:lnTo>
                    <a:lnTo>
                      <a:pt x="34" y="2811"/>
                    </a:lnTo>
                    <a:lnTo>
                      <a:pt x="29" y="2811"/>
                    </a:lnTo>
                    <a:lnTo>
                      <a:pt x="24" y="2810"/>
                    </a:lnTo>
                    <a:lnTo>
                      <a:pt x="20" y="2809"/>
                    </a:lnTo>
                    <a:lnTo>
                      <a:pt x="15" y="2809"/>
                    </a:lnTo>
                    <a:lnTo>
                      <a:pt x="9" y="2808"/>
                    </a:lnTo>
                    <a:lnTo>
                      <a:pt x="5" y="2808"/>
                    </a:lnTo>
                    <a:lnTo>
                      <a:pt x="0" y="2807"/>
                    </a:lnTo>
                    <a:close/>
                    <a:moveTo>
                      <a:pt x="0" y="1860"/>
                    </a:moveTo>
                    <a:lnTo>
                      <a:pt x="0" y="0"/>
                    </a:lnTo>
                    <a:lnTo>
                      <a:pt x="1" y="104"/>
                    </a:lnTo>
                    <a:lnTo>
                      <a:pt x="2" y="209"/>
                    </a:lnTo>
                    <a:lnTo>
                      <a:pt x="4" y="314"/>
                    </a:lnTo>
                    <a:lnTo>
                      <a:pt x="5" y="419"/>
                    </a:lnTo>
                    <a:lnTo>
                      <a:pt x="6" y="524"/>
                    </a:lnTo>
                    <a:lnTo>
                      <a:pt x="8" y="629"/>
                    </a:lnTo>
                    <a:lnTo>
                      <a:pt x="9" y="734"/>
                    </a:lnTo>
                    <a:lnTo>
                      <a:pt x="12" y="840"/>
                    </a:lnTo>
                    <a:lnTo>
                      <a:pt x="13" y="968"/>
                    </a:lnTo>
                    <a:lnTo>
                      <a:pt x="15" y="1094"/>
                    </a:lnTo>
                    <a:lnTo>
                      <a:pt x="17" y="1223"/>
                    </a:lnTo>
                    <a:lnTo>
                      <a:pt x="19" y="1350"/>
                    </a:lnTo>
                    <a:lnTo>
                      <a:pt x="21" y="1478"/>
                    </a:lnTo>
                    <a:lnTo>
                      <a:pt x="22" y="1606"/>
                    </a:lnTo>
                    <a:lnTo>
                      <a:pt x="24" y="1734"/>
                    </a:lnTo>
                    <a:lnTo>
                      <a:pt x="26" y="1862"/>
                    </a:lnTo>
                    <a:lnTo>
                      <a:pt x="23" y="1862"/>
                    </a:lnTo>
                    <a:lnTo>
                      <a:pt x="20" y="1861"/>
                    </a:lnTo>
                    <a:lnTo>
                      <a:pt x="16" y="1861"/>
                    </a:lnTo>
                    <a:lnTo>
                      <a:pt x="13" y="1861"/>
                    </a:lnTo>
                    <a:lnTo>
                      <a:pt x="9" y="1861"/>
                    </a:lnTo>
                    <a:lnTo>
                      <a:pt x="6" y="1861"/>
                    </a:lnTo>
                    <a:lnTo>
                      <a:pt x="3" y="1861"/>
                    </a:lnTo>
                    <a:lnTo>
                      <a:pt x="0" y="1860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3" name=""/>
              <p:cNvGrpSpPr/>
              <p:nvPr/>
            </p:nvGrpSpPr>
            <p:grpSpPr>
              <a:xfrm>
                <a:off x="2658960" y="4680000"/>
                <a:ext cx="966960" cy="947520"/>
                <a:chOff x="2658960" y="4680000"/>
                <a:chExt cx="966960" cy="947520"/>
              </a:xfrm>
            </p:grpSpPr>
            <p:sp>
              <p:nvSpPr>
                <p:cNvPr id="2994" name=""/>
                <p:cNvSpPr/>
                <p:nvPr/>
              </p:nvSpPr>
              <p:spPr>
                <a:xfrm>
                  <a:off x="2658960" y="476244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818" h="2439">
                      <a:moveTo>
                        <a:pt x="1" y="2334"/>
                      </a:moveTo>
                      <a:lnTo>
                        <a:pt x="1" y="2193"/>
                      </a:lnTo>
                      <a:lnTo>
                        <a:pt x="1" y="2052"/>
                      </a:lnTo>
                      <a:lnTo>
                        <a:pt x="1" y="1912"/>
                      </a:lnTo>
                      <a:lnTo>
                        <a:pt x="1" y="1771"/>
                      </a:lnTo>
                      <a:lnTo>
                        <a:pt x="0" y="1630"/>
                      </a:lnTo>
                      <a:lnTo>
                        <a:pt x="0" y="1490"/>
                      </a:lnTo>
                      <a:lnTo>
                        <a:pt x="0" y="1350"/>
                      </a:lnTo>
                      <a:lnTo>
                        <a:pt x="0" y="1209"/>
                      </a:lnTo>
                      <a:lnTo>
                        <a:pt x="0" y="1069"/>
                      </a:lnTo>
                      <a:lnTo>
                        <a:pt x="1" y="931"/>
                      </a:lnTo>
                      <a:lnTo>
                        <a:pt x="1" y="791"/>
                      </a:lnTo>
                      <a:lnTo>
                        <a:pt x="1" y="652"/>
                      </a:lnTo>
                      <a:lnTo>
                        <a:pt x="1" y="512"/>
                      </a:lnTo>
                      <a:lnTo>
                        <a:pt x="1" y="374"/>
                      </a:lnTo>
                      <a:lnTo>
                        <a:pt x="1" y="235"/>
                      </a:lnTo>
                      <a:lnTo>
                        <a:pt x="1" y="96"/>
                      </a:lnTo>
                      <a:lnTo>
                        <a:pt x="14" y="94"/>
                      </a:lnTo>
                      <a:lnTo>
                        <a:pt x="28" y="93"/>
                      </a:lnTo>
                      <a:lnTo>
                        <a:pt x="43" y="91"/>
                      </a:lnTo>
                      <a:lnTo>
                        <a:pt x="57" y="89"/>
                      </a:lnTo>
                      <a:lnTo>
                        <a:pt x="71" y="88"/>
                      </a:lnTo>
                      <a:lnTo>
                        <a:pt x="86" y="86"/>
                      </a:lnTo>
                      <a:lnTo>
                        <a:pt x="100" y="84"/>
                      </a:lnTo>
                      <a:lnTo>
                        <a:pt x="114" y="83"/>
                      </a:lnTo>
                      <a:lnTo>
                        <a:pt x="138" y="142"/>
                      </a:lnTo>
                      <a:lnTo>
                        <a:pt x="162" y="201"/>
                      </a:lnTo>
                      <a:lnTo>
                        <a:pt x="187" y="260"/>
                      </a:lnTo>
                      <a:lnTo>
                        <a:pt x="211" y="321"/>
                      </a:lnTo>
                      <a:lnTo>
                        <a:pt x="236" y="381"/>
                      </a:lnTo>
                      <a:lnTo>
                        <a:pt x="260" y="441"/>
                      </a:lnTo>
                      <a:lnTo>
                        <a:pt x="285" y="501"/>
                      </a:lnTo>
                      <a:lnTo>
                        <a:pt x="309" y="562"/>
                      </a:lnTo>
                      <a:lnTo>
                        <a:pt x="335" y="624"/>
                      </a:lnTo>
                      <a:lnTo>
                        <a:pt x="360" y="686"/>
                      </a:lnTo>
                      <a:lnTo>
                        <a:pt x="385" y="748"/>
                      </a:lnTo>
                      <a:lnTo>
                        <a:pt x="410" y="811"/>
                      </a:lnTo>
                      <a:lnTo>
                        <a:pt x="437" y="874"/>
                      </a:lnTo>
                      <a:lnTo>
                        <a:pt x="462" y="937"/>
                      </a:lnTo>
                      <a:lnTo>
                        <a:pt x="489" y="1001"/>
                      </a:lnTo>
                      <a:lnTo>
                        <a:pt x="515" y="1064"/>
                      </a:lnTo>
                      <a:lnTo>
                        <a:pt x="515" y="1000"/>
                      </a:lnTo>
                      <a:lnTo>
                        <a:pt x="515" y="935"/>
                      </a:lnTo>
                      <a:lnTo>
                        <a:pt x="514" y="870"/>
                      </a:lnTo>
                      <a:lnTo>
                        <a:pt x="514" y="806"/>
                      </a:lnTo>
                      <a:lnTo>
                        <a:pt x="514" y="742"/>
                      </a:lnTo>
                      <a:lnTo>
                        <a:pt x="514" y="678"/>
                      </a:lnTo>
                      <a:lnTo>
                        <a:pt x="514" y="613"/>
                      </a:lnTo>
                      <a:lnTo>
                        <a:pt x="514" y="549"/>
                      </a:lnTo>
                      <a:lnTo>
                        <a:pt x="512" y="485"/>
                      </a:lnTo>
                      <a:lnTo>
                        <a:pt x="512" y="421"/>
                      </a:lnTo>
                      <a:lnTo>
                        <a:pt x="512" y="356"/>
                      </a:lnTo>
                      <a:lnTo>
                        <a:pt x="512" y="292"/>
                      </a:lnTo>
                      <a:lnTo>
                        <a:pt x="512" y="228"/>
                      </a:lnTo>
                      <a:lnTo>
                        <a:pt x="512" y="164"/>
                      </a:lnTo>
                      <a:lnTo>
                        <a:pt x="511" y="99"/>
                      </a:lnTo>
                      <a:lnTo>
                        <a:pt x="511" y="36"/>
                      </a:lnTo>
                      <a:lnTo>
                        <a:pt x="547" y="31"/>
                      </a:lnTo>
                      <a:lnTo>
                        <a:pt x="584" y="27"/>
                      </a:lnTo>
                      <a:lnTo>
                        <a:pt x="621" y="23"/>
                      </a:lnTo>
                      <a:lnTo>
                        <a:pt x="657" y="19"/>
                      </a:lnTo>
                      <a:lnTo>
                        <a:pt x="695" y="14"/>
                      </a:lnTo>
                      <a:lnTo>
                        <a:pt x="732" y="10"/>
                      </a:lnTo>
                      <a:lnTo>
                        <a:pt x="770" y="5"/>
                      </a:lnTo>
                      <a:lnTo>
                        <a:pt x="808" y="0"/>
                      </a:lnTo>
                      <a:lnTo>
                        <a:pt x="809" y="151"/>
                      </a:lnTo>
                      <a:lnTo>
                        <a:pt x="809" y="302"/>
                      </a:lnTo>
                      <a:lnTo>
                        <a:pt x="810" y="454"/>
                      </a:lnTo>
                      <a:lnTo>
                        <a:pt x="810" y="605"/>
                      </a:lnTo>
                      <a:lnTo>
                        <a:pt x="811" y="757"/>
                      </a:lnTo>
                      <a:lnTo>
                        <a:pt x="811" y="908"/>
                      </a:lnTo>
                      <a:lnTo>
                        <a:pt x="812" y="1060"/>
                      </a:lnTo>
                      <a:lnTo>
                        <a:pt x="812" y="1212"/>
                      </a:lnTo>
                      <a:lnTo>
                        <a:pt x="813" y="1365"/>
                      </a:lnTo>
                      <a:lnTo>
                        <a:pt x="814" y="1518"/>
                      </a:lnTo>
                      <a:lnTo>
                        <a:pt x="814" y="1671"/>
                      </a:lnTo>
                      <a:lnTo>
                        <a:pt x="815" y="1824"/>
                      </a:lnTo>
                      <a:lnTo>
                        <a:pt x="815" y="1978"/>
                      </a:lnTo>
                      <a:lnTo>
                        <a:pt x="816" y="2131"/>
                      </a:lnTo>
                      <a:lnTo>
                        <a:pt x="817" y="2285"/>
                      </a:lnTo>
                      <a:lnTo>
                        <a:pt x="818" y="2439"/>
                      </a:lnTo>
                      <a:lnTo>
                        <a:pt x="800" y="2436"/>
                      </a:lnTo>
                      <a:lnTo>
                        <a:pt x="783" y="2434"/>
                      </a:lnTo>
                      <a:lnTo>
                        <a:pt x="766" y="2432"/>
                      </a:lnTo>
                      <a:lnTo>
                        <a:pt x="748" y="2430"/>
                      </a:lnTo>
                      <a:lnTo>
                        <a:pt x="731" y="2428"/>
                      </a:lnTo>
                      <a:lnTo>
                        <a:pt x="714" y="2426"/>
                      </a:lnTo>
                      <a:lnTo>
                        <a:pt x="696" y="2423"/>
                      </a:lnTo>
                      <a:lnTo>
                        <a:pt x="680" y="2421"/>
                      </a:lnTo>
                      <a:lnTo>
                        <a:pt x="652" y="2352"/>
                      </a:lnTo>
                      <a:lnTo>
                        <a:pt x="626" y="2284"/>
                      </a:lnTo>
                      <a:lnTo>
                        <a:pt x="599" y="2216"/>
                      </a:lnTo>
                      <a:lnTo>
                        <a:pt x="573" y="2148"/>
                      </a:lnTo>
                      <a:lnTo>
                        <a:pt x="547" y="2080"/>
                      </a:lnTo>
                      <a:lnTo>
                        <a:pt x="521" y="2013"/>
                      </a:lnTo>
                      <a:lnTo>
                        <a:pt x="494" y="1947"/>
                      </a:lnTo>
                      <a:lnTo>
                        <a:pt x="469" y="1879"/>
                      </a:lnTo>
                      <a:lnTo>
                        <a:pt x="443" y="1814"/>
                      </a:lnTo>
                      <a:lnTo>
                        <a:pt x="418" y="1749"/>
                      </a:lnTo>
                      <a:lnTo>
                        <a:pt x="392" y="1684"/>
                      </a:lnTo>
                      <a:lnTo>
                        <a:pt x="367" y="1619"/>
                      </a:lnTo>
                      <a:lnTo>
                        <a:pt x="342" y="1555"/>
                      </a:lnTo>
                      <a:lnTo>
                        <a:pt x="317" y="1491"/>
                      </a:lnTo>
                      <a:lnTo>
                        <a:pt x="292" y="1426"/>
                      </a:lnTo>
                      <a:lnTo>
                        <a:pt x="267" y="1363"/>
                      </a:lnTo>
                      <a:lnTo>
                        <a:pt x="267" y="1425"/>
                      </a:lnTo>
                      <a:lnTo>
                        <a:pt x="267" y="1489"/>
                      </a:lnTo>
                      <a:lnTo>
                        <a:pt x="267" y="1551"/>
                      </a:lnTo>
                      <a:lnTo>
                        <a:pt x="267" y="1614"/>
                      </a:lnTo>
                      <a:lnTo>
                        <a:pt x="267" y="1676"/>
                      </a:lnTo>
                      <a:lnTo>
                        <a:pt x="267" y="1739"/>
                      </a:lnTo>
                      <a:lnTo>
                        <a:pt x="267" y="1802"/>
                      </a:lnTo>
                      <a:lnTo>
                        <a:pt x="268" y="1865"/>
                      </a:lnTo>
                      <a:lnTo>
                        <a:pt x="268" y="1928"/>
                      </a:lnTo>
                      <a:lnTo>
                        <a:pt x="268" y="1990"/>
                      </a:lnTo>
                      <a:lnTo>
                        <a:pt x="268" y="2054"/>
                      </a:lnTo>
                      <a:lnTo>
                        <a:pt x="268" y="2117"/>
                      </a:lnTo>
                      <a:lnTo>
                        <a:pt x="268" y="2179"/>
                      </a:lnTo>
                      <a:lnTo>
                        <a:pt x="268" y="2242"/>
                      </a:lnTo>
                      <a:lnTo>
                        <a:pt x="268" y="2306"/>
                      </a:lnTo>
                      <a:lnTo>
                        <a:pt x="268" y="2369"/>
                      </a:lnTo>
                      <a:lnTo>
                        <a:pt x="235" y="2364"/>
                      </a:lnTo>
                      <a:lnTo>
                        <a:pt x="200" y="2360"/>
                      </a:lnTo>
                      <a:lnTo>
                        <a:pt x="166" y="2356"/>
                      </a:lnTo>
                      <a:lnTo>
                        <a:pt x="133" y="2351"/>
                      </a:lnTo>
                      <a:lnTo>
                        <a:pt x="100" y="2346"/>
                      </a:lnTo>
                      <a:lnTo>
                        <a:pt x="66" y="2342"/>
                      </a:lnTo>
                      <a:lnTo>
                        <a:pt x="34" y="2338"/>
                      </a:lnTo>
                      <a:lnTo>
                        <a:pt x="1" y="2334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3073320" y="4940280"/>
                  <a:ext cx="209520" cy="415800"/>
                </a:xfrm>
                <a:custGeom>
                  <a:avLst/>
                  <a:gdLst/>
                  <a:ahLst/>
                  <a:rect l="l" t="t" r="r" b="b"/>
                  <a:pathLst>
                    <a:path w="664" h="1308">
                      <a:moveTo>
                        <a:pt x="315" y="0"/>
                      </a:moveTo>
                      <a:lnTo>
                        <a:pt x="298" y="2"/>
                      </a:lnTo>
                      <a:lnTo>
                        <a:pt x="281" y="5"/>
                      </a:lnTo>
                      <a:lnTo>
                        <a:pt x="264" y="10"/>
                      </a:lnTo>
                      <a:lnTo>
                        <a:pt x="249" y="16"/>
                      </a:lnTo>
                      <a:lnTo>
                        <a:pt x="233" y="23"/>
                      </a:lnTo>
                      <a:lnTo>
                        <a:pt x="218" y="32"/>
                      </a:lnTo>
                      <a:lnTo>
                        <a:pt x="203" y="42"/>
                      </a:lnTo>
                      <a:lnTo>
                        <a:pt x="189" y="53"/>
                      </a:lnTo>
                      <a:lnTo>
                        <a:pt x="175" y="67"/>
                      </a:lnTo>
                      <a:lnTo>
                        <a:pt x="160" y="81"/>
                      </a:lnTo>
                      <a:lnTo>
                        <a:pt x="147" y="97"/>
                      </a:lnTo>
                      <a:lnTo>
                        <a:pt x="135" y="115"/>
                      </a:lnTo>
                      <a:lnTo>
                        <a:pt x="121" y="133"/>
                      </a:lnTo>
                      <a:lnTo>
                        <a:pt x="109" y="152"/>
                      </a:lnTo>
                      <a:lnTo>
                        <a:pt x="98" y="174"/>
                      </a:lnTo>
                      <a:lnTo>
                        <a:pt x="87" y="197"/>
                      </a:lnTo>
                      <a:lnTo>
                        <a:pt x="76" y="221"/>
                      </a:lnTo>
                      <a:lnTo>
                        <a:pt x="65" y="245"/>
                      </a:lnTo>
                      <a:lnTo>
                        <a:pt x="56" y="270"/>
                      </a:lnTo>
                      <a:lnTo>
                        <a:pt x="48" y="295"/>
                      </a:lnTo>
                      <a:lnTo>
                        <a:pt x="40" y="322"/>
                      </a:lnTo>
                      <a:lnTo>
                        <a:pt x="33" y="348"/>
                      </a:lnTo>
                      <a:lnTo>
                        <a:pt x="26" y="376"/>
                      </a:lnTo>
                      <a:lnTo>
                        <a:pt x="20" y="403"/>
                      </a:lnTo>
                      <a:lnTo>
                        <a:pt x="15" y="432"/>
                      </a:lnTo>
                      <a:lnTo>
                        <a:pt x="11" y="461"/>
                      </a:lnTo>
                      <a:lnTo>
                        <a:pt x="7" y="492"/>
                      </a:lnTo>
                      <a:lnTo>
                        <a:pt x="5" y="523"/>
                      </a:lnTo>
                      <a:lnTo>
                        <a:pt x="2" y="553"/>
                      </a:lnTo>
                      <a:lnTo>
                        <a:pt x="1" y="585"/>
                      </a:lnTo>
                      <a:lnTo>
                        <a:pt x="0" y="617"/>
                      </a:lnTo>
                      <a:lnTo>
                        <a:pt x="0" y="651"/>
                      </a:lnTo>
                      <a:lnTo>
                        <a:pt x="0" y="685"/>
                      </a:lnTo>
                      <a:lnTo>
                        <a:pt x="2" y="717"/>
                      </a:lnTo>
                      <a:lnTo>
                        <a:pt x="3" y="749"/>
                      </a:lnTo>
                      <a:lnTo>
                        <a:pt x="6" y="781"/>
                      </a:lnTo>
                      <a:lnTo>
                        <a:pt x="9" y="811"/>
                      </a:lnTo>
                      <a:lnTo>
                        <a:pt x="13" y="842"/>
                      </a:lnTo>
                      <a:lnTo>
                        <a:pt x="18" y="871"/>
                      </a:lnTo>
                      <a:lnTo>
                        <a:pt x="23" y="900"/>
                      </a:lnTo>
                      <a:lnTo>
                        <a:pt x="30" y="929"/>
                      </a:lnTo>
                      <a:lnTo>
                        <a:pt x="37" y="956"/>
                      </a:lnTo>
                      <a:lnTo>
                        <a:pt x="44" y="983"/>
                      </a:lnTo>
                      <a:lnTo>
                        <a:pt x="52" y="1009"/>
                      </a:lnTo>
                      <a:lnTo>
                        <a:pt x="61" y="1035"/>
                      </a:lnTo>
                      <a:lnTo>
                        <a:pt x="70" y="1059"/>
                      </a:lnTo>
                      <a:lnTo>
                        <a:pt x="82" y="1084"/>
                      </a:lnTo>
                      <a:lnTo>
                        <a:pt x="92" y="1107"/>
                      </a:lnTo>
                      <a:lnTo>
                        <a:pt x="104" y="1131"/>
                      </a:lnTo>
                      <a:lnTo>
                        <a:pt x="116" y="1152"/>
                      </a:lnTo>
                      <a:lnTo>
                        <a:pt x="129" y="1172"/>
                      </a:lnTo>
                      <a:lnTo>
                        <a:pt x="142" y="1191"/>
                      </a:lnTo>
                      <a:lnTo>
                        <a:pt x="155" y="1209"/>
                      </a:lnTo>
                      <a:lnTo>
                        <a:pt x="168" y="1224"/>
                      </a:lnTo>
                      <a:lnTo>
                        <a:pt x="183" y="1240"/>
                      </a:lnTo>
                      <a:lnTo>
                        <a:pt x="197" y="1253"/>
                      </a:lnTo>
                      <a:lnTo>
                        <a:pt x="211" y="1264"/>
                      </a:lnTo>
                      <a:lnTo>
                        <a:pt x="227" y="1274"/>
                      </a:lnTo>
                      <a:lnTo>
                        <a:pt x="242" y="1284"/>
                      </a:lnTo>
                      <a:lnTo>
                        <a:pt x="258" y="1292"/>
                      </a:lnTo>
                      <a:lnTo>
                        <a:pt x="275" y="1298"/>
                      </a:lnTo>
                      <a:lnTo>
                        <a:pt x="291" y="1302"/>
                      </a:lnTo>
                      <a:lnTo>
                        <a:pt x="308" y="1306"/>
                      </a:lnTo>
                      <a:lnTo>
                        <a:pt x="326" y="1307"/>
                      </a:lnTo>
                      <a:lnTo>
                        <a:pt x="344" y="1308"/>
                      </a:lnTo>
                      <a:lnTo>
                        <a:pt x="361" y="1307"/>
                      </a:lnTo>
                      <a:lnTo>
                        <a:pt x="378" y="1304"/>
                      </a:lnTo>
                      <a:lnTo>
                        <a:pt x="394" y="1300"/>
                      </a:lnTo>
                      <a:lnTo>
                        <a:pt x="410" y="1294"/>
                      </a:lnTo>
                      <a:lnTo>
                        <a:pt x="427" y="1287"/>
                      </a:lnTo>
                      <a:lnTo>
                        <a:pt x="442" y="1277"/>
                      </a:lnTo>
                      <a:lnTo>
                        <a:pt x="457" y="1267"/>
                      </a:lnTo>
                      <a:lnTo>
                        <a:pt x="472" y="1256"/>
                      </a:lnTo>
                      <a:lnTo>
                        <a:pt x="486" y="1242"/>
                      </a:lnTo>
                      <a:lnTo>
                        <a:pt x="500" y="1227"/>
                      </a:lnTo>
                      <a:lnTo>
                        <a:pt x="515" y="1211"/>
                      </a:lnTo>
                      <a:lnTo>
                        <a:pt x="528" y="1193"/>
                      </a:lnTo>
                      <a:lnTo>
                        <a:pt x="541" y="1173"/>
                      </a:lnTo>
                      <a:lnTo>
                        <a:pt x="553" y="1152"/>
                      </a:lnTo>
                      <a:lnTo>
                        <a:pt x="566" y="1129"/>
                      </a:lnTo>
                      <a:lnTo>
                        <a:pt x="578" y="1105"/>
                      </a:lnTo>
                      <a:lnTo>
                        <a:pt x="589" y="1081"/>
                      </a:lnTo>
                      <a:lnTo>
                        <a:pt x="599" y="1055"/>
                      </a:lnTo>
                      <a:lnTo>
                        <a:pt x="610" y="1029"/>
                      </a:lnTo>
                      <a:lnTo>
                        <a:pt x="618" y="1001"/>
                      </a:lnTo>
                      <a:lnTo>
                        <a:pt x="626" y="973"/>
                      </a:lnTo>
                      <a:lnTo>
                        <a:pt x="633" y="945"/>
                      </a:lnTo>
                      <a:lnTo>
                        <a:pt x="640" y="915"/>
                      </a:lnTo>
                      <a:lnTo>
                        <a:pt x="645" y="885"/>
                      </a:lnTo>
                      <a:lnTo>
                        <a:pt x="650" y="854"/>
                      </a:lnTo>
                      <a:lnTo>
                        <a:pt x="655" y="822"/>
                      </a:lnTo>
                      <a:lnTo>
                        <a:pt x="659" y="790"/>
                      </a:lnTo>
                      <a:lnTo>
                        <a:pt x="661" y="757"/>
                      </a:lnTo>
                      <a:lnTo>
                        <a:pt x="663" y="724"/>
                      </a:lnTo>
                      <a:lnTo>
                        <a:pt x="664" y="689"/>
                      </a:lnTo>
                      <a:lnTo>
                        <a:pt x="664" y="653"/>
                      </a:lnTo>
                      <a:lnTo>
                        <a:pt x="663" y="618"/>
                      </a:lnTo>
                      <a:lnTo>
                        <a:pt x="662" y="584"/>
                      </a:lnTo>
                      <a:lnTo>
                        <a:pt x="659" y="550"/>
                      </a:lnTo>
                      <a:lnTo>
                        <a:pt x="656" y="517"/>
                      </a:lnTo>
                      <a:lnTo>
                        <a:pt x="651" y="486"/>
                      </a:lnTo>
                      <a:lnTo>
                        <a:pt x="647" y="454"/>
                      </a:lnTo>
                      <a:lnTo>
                        <a:pt x="641" y="424"/>
                      </a:lnTo>
                      <a:lnTo>
                        <a:pt x="635" y="393"/>
                      </a:lnTo>
                      <a:lnTo>
                        <a:pt x="628" y="363"/>
                      </a:lnTo>
                      <a:lnTo>
                        <a:pt x="621" y="336"/>
                      </a:lnTo>
                      <a:lnTo>
                        <a:pt x="612" y="307"/>
                      </a:lnTo>
                      <a:lnTo>
                        <a:pt x="602" y="281"/>
                      </a:lnTo>
                      <a:lnTo>
                        <a:pt x="592" y="254"/>
                      </a:lnTo>
                      <a:lnTo>
                        <a:pt x="581" y="229"/>
                      </a:lnTo>
                      <a:lnTo>
                        <a:pt x="570" y="203"/>
                      </a:lnTo>
                      <a:lnTo>
                        <a:pt x="558" y="180"/>
                      </a:lnTo>
                      <a:lnTo>
                        <a:pt x="545" y="156"/>
                      </a:lnTo>
                      <a:lnTo>
                        <a:pt x="532" y="136"/>
                      </a:lnTo>
                      <a:lnTo>
                        <a:pt x="519" y="117"/>
                      </a:lnTo>
                      <a:lnTo>
                        <a:pt x="505" y="98"/>
                      </a:lnTo>
                      <a:lnTo>
                        <a:pt x="491" y="82"/>
                      </a:lnTo>
                      <a:lnTo>
                        <a:pt x="477" y="67"/>
                      </a:lnTo>
                      <a:lnTo>
                        <a:pt x="463" y="53"/>
                      </a:lnTo>
                      <a:lnTo>
                        <a:pt x="447" y="41"/>
                      </a:lnTo>
                      <a:lnTo>
                        <a:pt x="432" y="31"/>
                      </a:lnTo>
                      <a:lnTo>
                        <a:pt x="417" y="22"/>
                      </a:lnTo>
                      <a:lnTo>
                        <a:pt x="400" y="15"/>
                      </a:lnTo>
                      <a:lnTo>
                        <a:pt x="384" y="9"/>
                      </a:lnTo>
                      <a:lnTo>
                        <a:pt x="368" y="4"/>
                      </a:lnTo>
                      <a:lnTo>
                        <a:pt x="350" y="1"/>
                      </a:lnTo>
                      <a:lnTo>
                        <a:pt x="333" y="0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2963880" y="4708440"/>
                  <a:ext cx="450720" cy="884160"/>
                </a:xfrm>
                <a:custGeom>
                  <a:avLst/>
                  <a:gdLst/>
                  <a:ahLst/>
                  <a:rect l="l" t="t" r="r" b="b"/>
                  <a:pathLst>
                    <a:path w="1418" h="2785">
                      <a:moveTo>
                        <a:pt x="650" y="3"/>
                      </a:moveTo>
                      <a:lnTo>
                        <a:pt x="667" y="1"/>
                      </a:lnTo>
                      <a:lnTo>
                        <a:pt x="683" y="0"/>
                      </a:lnTo>
                      <a:lnTo>
                        <a:pt x="699" y="0"/>
                      </a:lnTo>
                      <a:lnTo>
                        <a:pt x="716" y="0"/>
                      </a:lnTo>
                      <a:lnTo>
                        <a:pt x="732" y="1"/>
                      </a:lnTo>
                      <a:lnTo>
                        <a:pt x="748" y="3"/>
                      </a:lnTo>
                      <a:lnTo>
                        <a:pt x="764" y="5"/>
                      </a:lnTo>
                      <a:lnTo>
                        <a:pt x="780" y="8"/>
                      </a:lnTo>
                      <a:lnTo>
                        <a:pt x="796" y="12"/>
                      </a:lnTo>
                      <a:lnTo>
                        <a:pt x="812" y="17"/>
                      </a:lnTo>
                      <a:lnTo>
                        <a:pt x="828" y="23"/>
                      </a:lnTo>
                      <a:lnTo>
                        <a:pt x="843" y="28"/>
                      </a:lnTo>
                      <a:lnTo>
                        <a:pt x="859" y="34"/>
                      </a:lnTo>
                      <a:lnTo>
                        <a:pt x="874" y="41"/>
                      </a:lnTo>
                      <a:lnTo>
                        <a:pt x="890" y="49"/>
                      </a:lnTo>
                      <a:lnTo>
                        <a:pt x="906" y="57"/>
                      </a:lnTo>
                      <a:lnTo>
                        <a:pt x="921" y="66"/>
                      </a:lnTo>
                      <a:lnTo>
                        <a:pt x="936" y="77"/>
                      </a:lnTo>
                      <a:lnTo>
                        <a:pt x="952" y="87"/>
                      </a:lnTo>
                      <a:lnTo>
                        <a:pt x="967" y="98"/>
                      </a:lnTo>
                      <a:lnTo>
                        <a:pt x="982" y="110"/>
                      </a:lnTo>
                      <a:lnTo>
                        <a:pt x="997" y="122"/>
                      </a:lnTo>
                      <a:lnTo>
                        <a:pt x="1011" y="136"/>
                      </a:lnTo>
                      <a:lnTo>
                        <a:pt x="1025" y="149"/>
                      </a:lnTo>
                      <a:lnTo>
                        <a:pt x="1038" y="164"/>
                      </a:lnTo>
                      <a:lnTo>
                        <a:pt x="1053" y="179"/>
                      </a:lnTo>
                      <a:lnTo>
                        <a:pt x="1066" y="195"/>
                      </a:lnTo>
                      <a:lnTo>
                        <a:pt x="1079" y="210"/>
                      </a:lnTo>
                      <a:lnTo>
                        <a:pt x="1093" y="228"/>
                      </a:lnTo>
                      <a:lnTo>
                        <a:pt x="1105" y="245"/>
                      </a:lnTo>
                      <a:lnTo>
                        <a:pt x="1118" y="263"/>
                      </a:lnTo>
                      <a:lnTo>
                        <a:pt x="1130" y="282"/>
                      </a:lnTo>
                      <a:lnTo>
                        <a:pt x="1147" y="308"/>
                      </a:lnTo>
                      <a:lnTo>
                        <a:pt x="1163" y="335"/>
                      </a:lnTo>
                      <a:lnTo>
                        <a:pt x="1178" y="361"/>
                      </a:lnTo>
                      <a:lnTo>
                        <a:pt x="1194" y="389"/>
                      </a:lnTo>
                      <a:lnTo>
                        <a:pt x="1208" y="417"/>
                      </a:lnTo>
                      <a:lnTo>
                        <a:pt x="1222" y="447"/>
                      </a:lnTo>
                      <a:lnTo>
                        <a:pt x="1237" y="475"/>
                      </a:lnTo>
                      <a:lnTo>
                        <a:pt x="1250" y="506"/>
                      </a:lnTo>
                      <a:lnTo>
                        <a:pt x="1263" y="537"/>
                      </a:lnTo>
                      <a:lnTo>
                        <a:pt x="1275" y="568"/>
                      </a:lnTo>
                      <a:lnTo>
                        <a:pt x="1287" y="600"/>
                      </a:lnTo>
                      <a:lnTo>
                        <a:pt x="1299" y="632"/>
                      </a:lnTo>
                      <a:lnTo>
                        <a:pt x="1310" y="666"/>
                      </a:lnTo>
                      <a:lnTo>
                        <a:pt x="1320" y="700"/>
                      </a:lnTo>
                      <a:lnTo>
                        <a:pt x="1330" y="734"/>
                      </a:lnTo>
                      <a:lnTo>
                        <a:pt x="1340" y="770"/>
                      </a:lnTo>
                      <a:lnTo>
                        <a:pt x="1349" y="806"/>
                      </a:lnTo>
                      <a:lnTo>
                        <a:pt x="1357" y="843"/>
                      </a:lnTo>
                      <a:lnTo>
                        <a:pt x="1365" y="879"/>
                      </a:lnTo>
                      <a:lnTo>
                        <a:pt x="1372" y="916"/>
                      </a:lnTo>
                      <a:lnTo>
                        <a:pt x="1380" y="954"/>
                      </a:lnTo>
                      <a:lnTo>
                        <a:pt x="1386" y="992"/>
                      </a:lnTo>
                      <a:lnTo>
                        <a:pt x="1392" y="1029"/>
                      </a:lnTo>
                      <a:lnTo>
                        <a:pt x="1397" y="1067"/>
                      </a:lnTo>
                      <a:lnTo>
                        <a:pt x="1401" y="1106"/>
                      </a:lnTo>
                      <a:lnTo>
                        <a:pt x="1405" y="1145"/>
                      </a:lnTo>
                      <a:lnTo>
                        <a:pt x="1409" y="1184"/>
                      </a:lnTo>
                      <a:lnTo>
                        <a:pt x="1412" y="1223"/>
                      </a:lnTo>
                      <a:lnTo>
                        <a:pt x="1414" y="1263"/>
                      </a:lnTo>
                      <a:lnTo>
                        <a:pt x="1416" y="1303"/>
                      </a:lnTo>
                      <a:lnTo>
                        <a:pt x="1417" y="1343"/>
                      </a:lnTo>
                      <a:lnTo>
                        <a:pt x="1418" y="1384"/>
                      </a:lnTo>
                      <a:lnTo>
                        <a:pt x="1418" y="1424"/>
                      </a:lnTo>
                      <a:lnTo>
                        <a:pt x="1417" y="1465"/>
                      </a:lnTo>
                      <a:lnTo>
                        <a:pt x="1416" y="1506"/>
                      </a:lnTo>
                      <a:lnTo>
                        <a:pt x="1415" y="1545"/>
                      </a:lnTo>
                      <a:lnTo>
                        <a:pt x="1413" y="1584"/>
                      </a:lnTo>
                      <a:lnTo>
                        <a:pt x="1410" y="1624"/>
                      </a:lnTo>
                      <a:lnTo>
                        <a:pt x="1407" y="1663"/>
                      </a:lnTo>
                      <a:lnTo>
                        <a:pt x="1403" y="1701"/>
                      </a:lnTo>
                      <a:lnTo>
                        <a:pt x="1399" y="1740"/>
                      </a:lnTo>
                      <a:lnTo>
                        <a:pt x="1394" y="1779"/>
                      </a:lnTo>
                      <a:lnTo>
                        <a:pt x="1388" y="1817"/>
                      </a:lnTo>
                      <a:lnTo>
                        <a:pt x="1382" y="1854"/>
                      </a:lnTo>
                      <a:lnTo>
                        <a:pt x="1375" y="1892"/>
                      </a:lnTo>
                      <a:lnTo>
                        <a:pt x="1368" y="1929"/>
                      </a:lnTo>
                      <a:lnTo>
                        <a:pt x="1360" y="1966"/>
                      </a:lnTo>
                      <a:lnTo>
                        <a:pt x="1352" y="2002"/>
                      </a:lnTo>
                      <a:lnTo>
                        <a:pt x="1343" y="2039"/>
                      </a:lnTo>
                      <a:lnTo>
                        <a:pt x="1334" y="2074"/>
                      </a:lnTo>
                      <a:lnTo>
                        <a:pt x="1323" y="2108"/>
                      </a:lnTo>
                      <a:lnTo>
                        <a:pt x="1313" y="2142"/>
                      </a:lnTo>
                      <a:lnTo>
                        <a:pt x="1302" y="2176"/>
                      </a:lnTo>
                      <a:lnTo>
                        <a:pt x="1291" y="2208"/>
                      </a:lnTo>
                      <a:lnTo>
                        <a:pt x="1278" y="2240"/>
                      </a:lnTo>
                      <a:lnTo>
                        <a:pt x="1266" y="2272"/>
                      </a:lnTo>
                      <a:lnTo>
                        <a:pt x="1254" y="2302"/>
                      </a:lnTo>
                      <a:lnTo>
                        <a:pt x="1241" y="2333"/>
                      </a:lnTo>
                      <a:lnTo>
                        <a:pt x="1226" y="2362"/>
                      </a:lnTo>
                      <a:lnTo>
                        <a:pt x="1212" y="2391"/>
                      </a:lnTo>
                      <a:lnTo>
                        <a:pt x="1198" y="2418"/>
                      </a:lnTo>
                      <a:lnTo>
                        <a:pt x="1182" y="2446"/>
                      </a:lnTo>
                      <a:lnTo>
                        <a:pt x="1167" y="2474"/>
                      </a:lnTo>
                      <a:lnTo>
                        <a:pt x="1152" y="2499"/>
                      </a:lnTo>
                      <a:lnTo>
                        <a:pt x="1138" y="2518"/>
                      </a:lnTo>
                      <a:lnTo>
                        <a:pt x="1126" y="2538"/>
                      </a:lnTo>
                      <a:lnTo>
                        <a:pt x="1114" y="2555"/>
                      </a:lnTo>
                      <a:lnTo>
                        <a:pt x="1101" y="2573"/>
                      </a:lnTo>
                      <a:lnTo>
                        <a:pt x="1087" y="2589"/>
                      </a:lnTo>
                      <a:lnTo>
                        <a:pt x="1074" y="2605"/>
                      </a:lnTo>
                      <a:lnTo>
                        <a:pt x="1061" y="2620"/>
                      </a:lnTo>
                      <a:lnTo>
                        <a:pt x="1047" y="2635"/>
                      </a:lnTo>
                      <a:lnTo>
                        <a:pt x="1033" y="2649"/>
                      </a:lnTo>
                      <a:lnTo>
                        <a:pt x="1019" y="2662"/>
                      </a:lnTo>
                      <a:lnTo>
                        <a:pt x="1004" y="2675"/>
                      </a:lnTo>
                      <a:lnTo>
                        <a:pt x="989" y="2687"/>
                      </a:lnTo>
                      <a:lnTo>
                        <a:pt x="974" y="2698"/>
                      </a:lnTo>
                      <a:lnTo>
                        <a:pt x="959" y="2709"/>
                      </a:lnTo>
                      <a:lnTo>
                        <a:pt x="943" y="2719"/>
                      </a:lnTo>
                      <a:lnTo>
                        <a:pt x="928" y="2729"/>
                      </a:lnTo>
                      <a:lnTo>
                        <a:pt x="913" y="2737"/>
                      </a:lnTo>
                      <a:lnTo>
                        <a:pt x="897" y="2745"/>
                      </a:lnTo>
                      <a:lnTo>
                        <a:pt x="882" y="2752"/>
                      </a:lnTo>
                      <a:lnTo>
                        <a:pt x="866" y="2758"/>
                      </a:lnTo>
                      <a:lnTo>
                        <a:pt x="851" y="2764"/>
                      </a:lnTo>
                      <a:lnTo>
                        <a:pt x="835" y="2769"/>
                      </a:lnTo>
                      <a:lnTo>
                        <a:pt x="819" y="2773"/>
                      </a:lnTo>
                      <a:lnTo>
                        <a:pt x="803" y="2777"/>
                      </a:lnTo>
                      <a:lnTo>
                        <a:pt x="787" y="2780"/>
                      </a:lnTo>
                      <a:lnTo>
                        <a:pt x="771" y="2783"/>
                      </a:lnTo>
                      <a:lnTo>
                        <a:pt x="755" y="2784"/>
                      </a:lnTo>
                      <a:lnTo>
                        <a:pt x="738" y="2785"/>
                      </a:lnTo>
                      <a:lnTo>
                        <a:pt x="722" y="2785"/>
                      </a:lnTo>
                      <a:lnTo>
                        <a:pt x="705" y="2785"/>
                      </a:lnTo>
                      <a:lnTo>
                        <a:pt x="688" y="2783"/>
                      </a:lnTo>
                      <a:lnTo>
                        <a:pt x="672" y="2782"/>
                      </a:lnTo>
                      <a:lnTo>
                        <a:pt x="655" y="2779"/>
                      </a:lnTo>
                      <a:lnTo>
                        <a:pt x="639" y="2775"/>
                      </a:lnTo>
                      <a:lnTo>
                        <a:pt x="624" y="2771"/>
                      </a:lnTo>
                      <a:lnTo>
                        <a:pt x="607" y="2767"/>
                      </a:lnTo>
                      <a:lnTo>
                        <a:pt x="592" y="2762"/>
                      </a:lnTo>
                      <a:lnTo>
                        <a:pt x="576" y="2756"/>
                      </a:lnTo>
                      <a:lnTo>
                        <a:pt x="560" y="2750"/>
                      </a:lnTo>
                      <a:lnTo>
                        <a:pt x="545" y="2743"/>
                      </a:lnTo>
                      <a:lnTo>
                        <a:pt x="530" y="2736"/>
                      </a:lnTo>
                      <a:lnTo>
                        <a:pt x="515" y="2728"/>
                      </a:lnTo>
                      <a:lnTo>
                        <a:pt x="499" y="2718"/>
                      </a:lnTo>
                      <a:lnTo>
                        <a:pt x="484" y="2709"/>
                      </a:lnTo>
                      <a:lnTo>
                        <a:pt x="470" y="2699"/>
                      </a:lnTo>
                      <a:lnTo>
                        <a:pt x="455" y="2688"/>
                      </a:lnTo>
                      <a:lnTo>
                        <a:pt x="440" y="2677"/>
                      </a:lnTo>
                      <a:lnTo>
                        <a:pt x="426" y="2664"/>
                      </a:lnTo>
                      <a:lnTo>
                        <a:pt x="398" y="2640"/>
                      </a:lnTo>
                      <a:lnTo>
                        <a:pt x="372" y="2612"/>
                      </a:lnTo>
                      <a:lnTo>
                        <a:pt x="345" y="2583"/>
                      </a:lnTo>
                      <a:lnTo>
                        <a:pt x="319" y="2551"/>
                      </a:lnTo>
                      <a:lnTo>
                        <a:pt x="295" y="2517"/>
                      </a:lnTo>
                      <a:lnTo>
                        <a:pt x="271" y="2482"/>
                      </a:lnTo>
                      <a:lnTo>
                        <a:pt x="249" y="2444"/>
                      </a:lnTo>
                      <a:lnTo>
                        <a:pt x="227" y="2403"/>
                      </a:lnTo>
                      <a:lnTo>
                        <a:pt x="213" y="2378"/>
                      </a:lnTo>
                      <a:lnTo>
                        <a:pt x="200" y="2350"/>
                      </a:lnTo>
                      <a:lnTo>
                        <a:pt x="188" y="2324"/>
                      </a:lnTo>
                      <a:lnTo>
                        <a:pt x="175" y="2296"/>
                      </a:lnTo>
                      <a:lnTo>
                        <a:pt x="163" y="2268"/>
                      </a:lnTo>
                      <a:lnTo>
                        <a:pt x="152" y="2239"/>
                      </a:lnTo>
                      <a:lnTo>
                        <a:pt x="142" y="2210"/>
                      </a:lnTo>
                      <a:lnTo>
                        <a:pt x="131" y="2181"/>
                      </a:lnTo>
                      <a:lnTo>
                        <a:pt x="110" y="2121"/>
                      </a:lnTo>
                      <a:lnTo>
                        <a:pt x="92" y="2058"/>
                      </a:lnTo>
                      <a:lnTo>
                        <a:pt x="75" y="1994"/>
                      </a:lnTo>
                      <a:lnTo>
                        <a:pt x="59" y="1929"/>
                      </a:lnTo>
                      <a:lnTo>
                        <a:pt x="46" y="1863"/>
                      </a:lnTo>
                      <a:lnTo>
                        <a:pt x="34" y="1795"/>
                      </a:lnTo>
                      <a:lnTo>
                        <a:pt x="23" y="1728"/>
                      </a:lnTo>
                      <a:lnTo>
                        <a:pt x="15" y="1660"/>
                      </a:lnTo>
                      <a:lnTo>
                        <a:pt x="9" y="1590"/>
                      </a:lnTo>
                      <a:lnTo>
                        <a:pt x="4" y="1521"/>
                      </a:lnTo>
                      <a:lnTo>
                        <a:pt x="1" y="1449"/>
                      </a:lnTo>
                      <a:lnTo>
                        <a:pt x="0" y="1378"/>
                      </a:lnTo>
                      <a:lnTo>
                        <a:pt x="0" y="1307"/>
                      </a:lnTo>
                      <a:lnTo>
                        <a:pt x="2" y="1236"/>
                      </a:lnTo>
                      <a:lnTo>
                        <a:pt x="6" y="1167"/>
                      </a:lnTo>
                      <a:lnTo>
                        <a:pt x="12" y="1099"/>
                      </a:lnTo>
                      <a:lnTo>
                        <a:pt x="19" y="1030"/>
                      </a:lnTo>
                      <a:lnTo>
                        <a:pt x="29" y="964"/>
                      </a:lnTo>
                      <a:lnTo>
                        <a:pt x="40" y="898"/>
                      </a:lnTo>
                      <a:lnTo>
                        <a:pt x="53" y="832"/>
                      </a:lnTo>
                      <a:lnTo>
                        <a:pt x="68" y="768"/>
                      </a:lnTo>
                      <a:lnTo>
                        <a:pt x="85" y="706"/>
                      </a:lnTo>
                      <a:lnTo>
                        <a:pt x="102" y="645"/>
                      </a:lnTo>
                      <a:lnTo>
                        <a:pt x="121" y="587"/>
                      </a:lnTo>
                      <a:lnTo>
                        <a:pt x="132" y="558"/>
                      </a:lnTo>
                      <a:lnTo>
                        <a:pt x="142" y="529"/>
                      </a:lnTo>
                      <a:lnTo>
                        <a:pt x="153" y="501"/>
                      </a:lnTo>
                      <a:lnTo>
                        <a:pt x="164" y="474"/>
                      </a:lnTo>
                      <a:lnTo>
                        <a:pt x="176" y="447"/>
                      </a:lnTo>
                      <a:lnTo>
                        <a:pt x="189" y="420"/>
                      </a:lnTo>
                      <a:lnTo>
                        <a:pt x="201" y="394"/>
                      </a:lnTo>
                      <a:lnTo>
                        <a:pt x="214" y="368"/>
                      </a:lnTo>
                      <a:lnTo>
                        <a:pt x="236" y="330"/>
                      </a:lnTo>
                      <a:lnTo>
                        <a:pt x="258" y="292"/>
                      </a:lnTo>
                      <a:lnTo>
                        <a:pt x="282" y="257"/>
                      </a:lnTo>
                      <a:lnTo>
                        <a:pt x="305" y="224"/>
                      </a:lnTo>
                      <a:lnTo>
                        <a:pt x="330" y="194"/>
                      </a:lnTo>
                      <a:lnTo>
                        <a:pt x="355" y="165"/>
                      </a:lnTo>
                      <a:lnTo>
                        <a:pt x="382" y="139"/>
                      </a:lnTo>
                      <a:lnTo>
                        <a:pt x="408" y="114"/>
                      </a:lnTo>
                      <a:lnTo>
                        <a:pt x="423" y="103"/>
                      </a:lnTo>
                      <a:lnTo>
                        <a:pt x="437" y="92"/>
                      </a:lnTo>
                      <a:lnTo>
                        <a:pt x="451" y="82"/>
                      </a:lnTo>
                      <a:lnTo>
                        <a:pt x="466" y="71"/>
                      </a:lnTo>
                      <a:lnTo>
                        <a:pt x="480" y="62"/>
                      </a:lnTo>
                      <a:lnTo>
                        <a:pt x="495" y="54"/>
                      </a:lnTo>
                      <a:lnTo>
                        <a:pt x="509" y="46"/>
                      </a:lnTo>
                      <a:lnTo>
                        <a:pt x="525" y="39"/>
                      </a:lnTo>
                      <a:lnTo>
                        <a:pt x="540" y="33"/>
                      </a:lnTo>
                      <a:lnTo>
                        <a:pt x="555" y="27"/>
                      </a:lnTo>
                      <a:lnTo>
                        <a:pt x="571" y="20"/>
                      </a:lnTo>
                      <a:lnTo>
                        <a:pt x="587" y="16"/>
                      </a:lnTo>
                      <a:lnTo>
                        <a:pt x="602" y="12"/>
                      </a:lnTo>
                      <a:lnTo>
                        <a:pt x="618" y="8"/>
                      </a:lnTo>
                      <a:lnTo>
                        <a:pt x="634" y="5"/>
                      </a:lnTo>
                      <a:lnTo>
                        <a:pt x="650" y="3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3490920" y="5373720"/>
                  <a:ext cx="135000" cy="253800"/>
                </a:xfrm>
                <a:custGeom>
                  <a:avLst/>
                  <a:gdLst/>
                  <a:ahLst/>
                  <a:rect l="l" t="t" r="r" b="b"/>
                  <a:pathLst>
                    <a:path w="425" h="801">
                      <a:moveTo>
                        <a:pt x="8" y="747"/>
                      </a:moveTo>
                      <a:lnTo>
                        <a:pt x="7" y="654"/>
                      </a:lnTo>
                      <a:lnTo>
                        <a:pt x="6" y="560"/>
                      </a:lnTo>
                      <a:lnTo>
                        <a:pt x="5" y="467"/>
                      </a:lnTo>
                      <a:lnTo>
                        <a:pt x="4" y="373"/>
                      </a:lnTo>
                      <a:lnTo>
                        <a:pt x="3" y="281"/>
                      </a:lnTo>
                      <a:lnTo>
                        <a:pt x="2" y="187"/>
                      </a:lnTo>
                      <a:lnTo>
                        <a:pt x="1" y="94"/>
                      </a:lnTo>
                      <a:lnTo>
                        <a:pt x="0" y="0"/>
                      </a:lnTo>
                      <a:lnTo>
                        <a:pt x="51" y="3"/>
                      </a:lnTo>
                      <a:lnTo>
                        <a:pt x="102" y="7"/>
                      </a:lnTo>
                      <a:lnTo>
                        <a:pt x="153" y="10"/>
                      </a:lnTo>
                      <a:lnTo>
                        <a:pt x="205" y="13"/>
                      </a:lnTo>
                      <a:lnTo>
                        <a:pt x="257" y="16"/>
                      </a:lnTo>
                      <a:lnTo>
                        <a:pt x="309" y="20"/>
                      </a:lnTo>
                      <a:lnTo>
                        <a:pt x="362" y="24"/>
                      </a:lnTo>
                      <a:lnTo>
                        <a:pt x="415" y="27"/>
                      </a:lnTo>
                      <a:lnTo>
                        <a:pt x="416" y="123"/>
                      </a:lnTo>
                      <a:lnTo>
                        <a:pt x="418" y="220"/>
                      </a:lnTo>
                      <a:lnTo>
                        <a:pt x="419" y="316"/>
                      </a:lnTo>
                      <a:lnTo>
                        <a:pt x="420" y="413"/>
                      </a:lnTo>
                      <a:lnTo>
                        <a:pt x="421" y="510"/>
                      </a:lnTo>
                      <a:lnTo>
                        <a:pt x="423" y="607"/>
                      </a:lnTo>
                      <a:lnTo>
                        <a:pt x="424" y="704"/>
                      </a:lnTo>
                      <a:lnTo>
                        <a:pt x="425" y="801"/>
                      </a:lnTo>
                      <a:lnTo>
                        <a:pt x="371" y="794"/>
                      </a:lnTo>
                      <a:lnTo>
                        <a:pt x="319" y="786"/>
                      </a:lnTo>
                      <a:lnTo>
                        <a:pt x="267" y="780"/>
                      </a:lnTo>
                      <a:lnTo>
                        <a:pt x="215" y="773"/>
                      </a:lnTo>
                      <a:lnTo>
                        <a:pt x="163" y="767"/>
                      </a:lnTo>
                      <a:lnTo>
                        <a:pt x="112" y="760"/>
                      </a:lnTo>
                      <a:lnTo>
                        <a:pt x="60" y="754"/>
                      </a:lnTo>
                      <a:lnTo>
                        <a:pt x="8" y="747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3483000" y="4680000"/>
                  <a:ext cx="138240" cy="646200"/>
                </a:xfrm>
                <a:custGeom>
                  <a:avLst/>
                  <a:gdLst/>
                  <a:ahLst/>
                  <a:rect l="l" t="t" r="r" b="b"/>
                  <a:pathLst>
                    <a:path w="437" h="2034">
                      <a:moveTo>
                        <a:pt x="22" y="2013"/>
                      </a:moveTo>
                      <a:lnTo>
                        <a:pt x="21" y="1889"/>
                      </a:lnTo>
                      <a:lnTo>
                        <a:pt x="20" y="1766"/>
                      </a:lnTo>
                      <a:lnTo>
                        <a:pt x="18" y="1642"/>
                      </a:lnTo>
                      <a:lnTo>
                        <a:pt x="17" y="1519"/>
                      </a:lnTo>
                      <a:lnTo>
                        <a:pt x="16" y="1396"/>
                      </a:lnTo>
                      <a:lnTo>
                        <a:pt x="14" y="1272"/>
                      </a:lnTo>
                      <a:lnTo>
                        <a:pt x="13" y="1149"/>
                      </a:lnTo>
                      <a:lnTo>
                        <a:pt x="11" y="1026"/>
                      </a:lnTo>
                      <a:lnTo>
                        <a:pt x="10" y="903"/>
                      </a:lnTo>
                      <a:lnTo>
                        <a:pt x="8" y="781"/>
                      </a:lnTo>
                      <a:lnTo>
                        <a:pt x="7" y="659"/>
                      </a:lnTo>
                      <a:lnTo>
                        <a:pt x="5" y="537"/>
                      </a:lnTo>
                      <a:lnTo>
                        <a:pt x="4" y="414"/>
                      </a:lnTo>
                      <a:lnTo>
                        <a:pt x="3" y="292"/>
                      </a:lnTo>
                      <a:lnTo>
                        <a:pt x="1" y="171"/>
                      </a:lnTo>
                      <a:lnTo>
                        <a:pt x="0" y="49"/>
                      </a:lnTo>
                      <a:lnTo>
                        <a:pt x="50" y="43"/>
                      </a:lnTo>
                      <a:lnTo>
                        <a:pt x="100" y="37"/>
                      </a:lnTo>
                      <a:lnTo>
                        <a:pt x="151" y="31"/>
                      </a:lnTo>
                      <a:lnTo>
                        <a:pt x="201" y="25"/>
                      </a:lnTo>
                      <a:lnTo>
                        <a:pt x="252" y="19"/>
                      </a:lnTo>
                      <a:lnTo>
                        <a:pt x="304" y="13"/>
                      </a:lnTo>
                      <a:lnTo>
                        <a:pt x="356" y="6"/>
                      </a:lnTo>
                      <a:lnTo>
                        <a:pt x="409" y="0"/>
                      </a:lnTo>
                      <a:lnTo>
                        <a:pt x="410" y="127"/>
                      </a:lnTo>
                      <a:lnTo>
                        <a:pt x="412" y="252"/>
                      </a:lnTo>
                      <a:lnTo>
                        <a:pt x="413" y="379"/>
                      </a:lnTo>
                      <a:lnTo>
                        <a:pt x="415" y="505"/>
                      </a:lnTo>
                      <a:lnTo>
                        <a:pt x="416" y="632"/>
                      </a:lnTo>
                      <a:lnTo>
                        <a:pt x="418" y="758"/>
                      </a:lnTo>
                      <a:lnTo>
                        <a:pt x="420" y="885"/>
                      </a:lnTo>
                      <a:lnTo>
                        <a:pt x="423" y="1012"/>
                      </a:lnTo>
                      <a:lnTo>
                        <a:pt x="424" y="1140"/>
                      </a:lnTo>
                      <a:lnTo>
                        <a:pt x="426" y="1266"/>
                      </a:lnTo>
                      <a:lnTo>
                        <a:pt x="428" y="1395"/>
                      </a:lnTo>
                      <a:lnTo>
                        <a:pt x="430" y="1522"/>
                      </a:lnTo>
                      <a:lnTo>
                        <a:pt x="432" y="1650"/>
                      </a:lnTo>
                      <a:lnTo>
                        <a:pt x="433" y="1778"/>
                      </a:lnTo>
                      <a:lnTo>
                        <a:pt x="435" y="1906"/>
                      </a:lnTo>
                      <a:lnTo>
                        <a:pt x="437" y="2034"/>
                      </a:lnTo>
                      <a:lnTo>
                        <a:pt x="384" y="2031"/>
                      </a:lnTo>
                      <a:lnTo>
                        <a:pt x="331" y="2028"/>
                      </a:lnTo>
                      <a:lnTo>
                        <a:pt x="279" y="2026"/>
                      </a:lnTo>
                      <a:lnTo>
                        <a:pt x="226" y="2023"/>
                      </a:lnTo>
                      <a:lnTo>
                        <a:pt x="175" y="2021"/>
                      </a:lnTo>
                      <a:lnTo>
                        <a:pt x="124" y="2018"/>
                      </a:lnTo>
                      <a:lnTo>
                        <a:pt x="73" y="2016"/>
                      </a:lnTo>
                      <a:lnTo>
                        <a:pt x="22" y="2013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9" name=""/>
            <p:cNvGrpSpPr/>
            <p:nvPr/>
          </p:nvGrpSpPr>
          <p:grpSpPr>
            <a:xfrm>
              <a:off x="3940200" y="4356000"/>
              <a:ext cx="2495520" cy="1663920"/>
              <a:chOff x="3940200" y="4356000"/>
              <a:chExt cx="2495520" cy="1663920"/>
            </a:xfrm>
          </p:grpSpPr>
          <p:sp>
            <p:nvSpPr>
              <p:cNvPr id="3000" name=""/>
              <p:cNvSpPr/>
              <p:nvPr/>
            </p:nvSpPr>
            <p:spPr>
              <a:xfrm>
                <a:off x="3940200" y="4602240"/>
                <a:ext cx="600120" cy="1177920"/>
              </a:xfrm>
              <a:custGeom>
                <a:avLst/>
                <a:gdLst/>
                <a:ahLst/>
                <a:rect l="l" t="t" r="r" b="b"/>
                <a:pathLst>
                  <a:path w="1888" h="3711">
                    <a:moveTo>
                      <a:pt x="61" y="3477"/>
                    </a:moveTo>
                    <a:lnTo>
                      <a:pt x="57" y="3270"/>
                    </a:lnTo>
                    <a:lnTo>
                      <a:pt x="53" y="3064"/>
                    </a:lnTo>
                    <a:lnTo>
                      <a:pt x="50" y="2857"/>
                    </a:lnTo>
                    <a:lnTo>
                      <a:pt x="46" y="2651"/>
                    </a:lnTo>
                    <a:lnTo>
                      <a:pt x="42" y="2445"/>
                    </a:lnTo>
                    <a:lnTo>
                      <a:pt x="38" y="2240"/>
                    </a:lnTo>
                    <a:lnTo>
                      <a:pt x="34" y="2035"/>
                    </a:lnTo>
                    <a:lnTo>
                      <a:pt x="30" y="1830"/>
                    </a:lnTo>
                    <a:lnTo>
                      <a:pt x="26" y="1626"/>
                    </a:lnTo>
                    <a:lnTo>
                      <a:pt x="22" y="1423"/>
                    </a:lnTo>
                    <a:lnTo>
                      <a:pt x="19" y="1221"/>
                    </a:lnTo>
                    <a:lnTo>
                      <a:pt x="15" y="1018"/>
                    </a:lnTo>
                    <a:lnTo>
                      <a:pt x="11" y="816"/>
                    </a:lnTo>
                    <a:lnTo>
                      <a:pt x="8" y="615"/>
                    </a:lnTo>
                    <a:lnTo>
                      <a:pt x="4" y="413"/>
                    </a:lnTo>
                    <a:lnTo>
                      <a:pt x="0" y="212"/>
                    </a:lnTo>
                    <a:lnTo>
                      <a:pt x="30" y="208"/>
                    </a:lnTo>
                    <a:lnTo>
                      <a:pt x="61" y="204"/>
                    </a:lnTo>
                    <a:lnTo>
                      <a:pt x="92" y="200"/>
                    </a:lnTo>
                    <a:lnTo>
                      <a:pt x="122" y="197"/>
                    </a:lnTo>
                    <a:lnTo>
                      <a:pt x="153" y="193"/>
                    </a:lnTo>
                    <a:lnTo>
                      <a:pt x="184" y="190"/>
                    </a:lnTo>
                    <a:lnTo>
                      <a:pt x="214" y="186"/>
                    </a:lnTo>
                    <a:lnTo>
                      <a:pt x="245" y="183"/>
                    </a:lnTo>
                    <a:lnTo>
                      <a:pt x="298" y="268"/>
                    </a:lnTo>
                    <a:lnTo>
                      <a:pt x="352" y="352"/>
                    </a:lnTo>
                    <a:lnTo>
                      <a:pt x="406" y="438"/>
                    </a:lnTo>
                    <a:lnTo>
                      <a:pt x="460" y="525"/>
                    </a:lnTo>
                    <a:lnTo>
                      <a:pt x="515" y="611"/>
                    </a:lnTo>
                    <a:lnTo>
                      <a:pt x="571" y="698"/>
                    </a:lnTo>
                    <a:lnTo>
                      <a:pt x="626" y="786"/>
                    </a:lnTo>
                    <a:lnTo>
                      <a:pt x="682" y="874"/>
                    </a:lnTo>
                    <a:lnTo>
                      <a:pt x="739" y="964"/>
                    </a:lnTo>
                    <a:lnTo>
                      <a:pt x="796" y="1056"/>
                    </a:lnTo>
                    <a:lnTo>
                      <a:pt x="855" y="1148"/>
                    </a:lnTo>
                    <a:lnTo>
                      <a:pt x="914" y="1240"/>
                    </a:lnTo>
                    <a:lnTo>
                      <a:pt x="973" y="1334"/>
                    </a:lnTo>
                    <a:lnTo>
                      <a:pt x="1032" y="1426"/>
                    </a:lnTo>
                    <a:lnTo>
                      <a:pt x="1091" y="1520"/>
                    </a:lnTo>
                    <a:lnTo>
                      <a:pt x="1151" y="1615"/>
                    </a:lnTo>
                    <a:lnTo>
                      <a:pt x="1149" y="1518"/>
                    </a:lnTo>
                    <a:lnTo>
                      <a:pt x="1147" y="1422"/>
                    </a:lnTo>
                    <a:lnTo>
                      <a:pt x="1144" y="1325"/>
                    </a:lnTo>
                    <a:lnTo>
                      <a:pt x="1141" y="1230"/>
                    </a:lnTo>
                    <a:lnTo>
                      <a:pt x="1139" y="1134"/>
                    </a:lnTo>
                    <a:lnTo>
                      <a:pt x="1137" y="1037"/>
                    </a:lnTo>
                    <a:lnTo>
                      <a:pt x="1134" y="941"/>
                    </a:lnTo>
                    <a:lnTo>
                      <a:pt x="1132" y="845"/>
                    </a:lnTo>
                    <a:lnTo>
                      <a:pt x="1130" y="749"/>
                    </a:lnTo>
                    <a:lnTo>
                      <a:pt x="1128" y="653"/>
                    </a:lnTo>
                    <a:lnTo>
                      <a:pt x="1125" y="557"/>
                    </a:lnTo>
                    <a:lnTo>
                      <a:pt x="1123" y="462"/>
                    </a:lnTo>
                    <a:lnTo>
                      <a:pt x="1121" y="367"/>
                    </a:lnTo>
                    <a:lnTo>
                      <a:pt x="1119" y="271"/>
                    </a:lnTo>
                    <a:lnTo>
                      <a:pt x="1117" y="175"/>
                    </a:lnTo>
                    <a:lnTo>
                      <a:pt x="1115" y="80"/>
                    </a:lnTo>
                    <a:lnTo>
                      <a:pt x="1197" y="70"/>
                    </a:lnTo>
                    <a:lnTo>
                      <a:pt x="1279" y="61"/>
                    </a:lnTo>
                    <a:lnTo>
                      <a:pt x="1362" y="50"/>
                    </a:lnTo>
                    <a:lnTo>
                      <a:pt x="1446" y="40"/>
                    </a:lnTo>
                    <a:lnTo>
                      <a:pt x="1531" y="31"/>
                    </a:lnTo>
                    <a:lnTo>
                      <a:pt x="1615" y="21"/>
                    </a:lnTo>
                    <a:lnTo>
                      <a:pt x="1701" y="11"/>
                    </a:lnTo>
                    <a:lnTo>
                      <a:pt x="1788" y="0"/>
                    </a:lnTo>
                    <a:lnTo>
                      <a:pt x="1794" y="229"/>
                    </a:lnTo>
                    <a:lnTo>
                      <a:pt x="1800" y="457"/>
                    </a:lnTo>
                    <a:lnTo>
                      <a:pt x="1806" y="687"/>
                    </a:lnTo>
                    <a:lnTo>
                      <a:pt x="1812" y="916"/>
                    </a:lnTo>
                    <a:lnTo>
                      <a:pt x="1819" y="1147"/>
                    </a:lnTo>
                    <a:lnTo>
                      <a:pt x="1825" y="1376"/>
                    </a:lnTo>
                    <a:lnTo>
                      <a:pt x="1831" y="1608"/>
                    </a:lnTo>
                    <a:lnTo>
                      <a:pt x="1838" y="1839"/>
                    </a:lnTo>
                    <a:lnTo>
                      <a:pt x="1844" y="2071"/>
                    </a:lnTo>
                    <a:lnTo>
                      <a:pt x="1850" y="2305"/>
                    </a:lnTo>
                    <a:lnTo>
                      <a:pt x="1856" y="2538"/>
                    </a:lnTo>
                    <a:lnTo>
                      <a:pt x="1863" y="2772"/>
                    </a:lnTo>
                    <a:lnTo>
                      <a:pt x="1870" y="3006"/>
                    </a:lnTo>
                    <a:lnTo>
                      <a:pt x="1876" y="3241"/>
                    </a:lnTo>
                    <a:lnTo>
                      <a:pt x="1882" y="3476"/>
                    </a:lnTo>
                    <a:lnTo>
                      <a:pt x="1888" y="3711"/>
                    </a:lnTo>
                    <a:lnTo>
                      <a:pt x="1847" y="3706"/>
                    </a:lnTo>
                    <a:lnTo>
                      <a:pt x="1806" y="3701"/>
                    </a:lnTo>
                    <a:lnTo>
                      <a:pt x="1766" y="3696"/>
                    </a:lnTo>
                    <a:lnTo>
                      <a:pt x="1726" y="3690"/>
                    </a:lnTo>
                    <a:lnTo>
                      <a:pt x="1686" y="3685"/>
                    </a:lnTo>
                    <a:lnTo>
                      <a:pt x="1645" y="3680"/>
                    </a:lnTo>
                    <a:lnTo>
                      <a:pt x="1605" y="3675"/>
                    </a:lnTo>
                    <a:lnTo>
                      <a:pt x="1565" y="3669"/>
                    </a:lnTo>
                    <a:lnTo>
                      <a:pt x="1503" y="3563"/>
                    </a:lnTo>
                    <a:lnTo>
                      <a:pt x="1441" y="3457"/>
                    </a:lnTo>
                    <a:lnTo>
                      <a:pt x="1378" y="3352"/>
                    </a:lnTo>
                    <a:lnTo>
                      <a:pt x="1316" y="3248"/>
                    </a:lnTo>
                    <a:lnTo>
                      <a:pt x="1255" y="3144"/>
                    </a:lnTo>
                    <a:lnTo>
                      <a:pt x="1194" y="3041"/>
                    </a:lnTo>
                    <a:lnTo>
                      <a:pt x="1132" y="2938"/>
                    </a:lnTo>
                    <a:lnTo>
                      <a:pt x="1073" y="2836"/>
                    </a:lnTo>
                    <a:lnTo>
                      <a:pt x="1015" y="2737"/>
                    </a:lnTo>
                    <a:lnTo>
                      <a:pt x="957" y="2638"/>
                    </a:lnTo>
                    <a:lnTo>
                      <a:pt x="898" y="2540"/>
                    </a:lnTo>
                    <a:lnTo>
                      <a:pt x="841" y="2443"/>
                    </a:lnTo>
                    <a:lnTo>
                      <a:pt x="783" y="2346"/>
                    </a:lnTo>
                    <a:lnTo>
                      <a:pt x="727" y="2250"/>
                    </a:lnTo>
                    <a:lnTo>
                      <a:pt x="670" y="2154"/>
                    </a:lnTo>
                    <a:lnTo>
                      <a:pt x="615" y="2059"/>
                    </a:lnTo>
                    <a:lnTo>
                      <a:pt x="617" y="2152"/>
                    </a:lnTo>
                    <a:lnTo>
                      <a:pt x="619" y="2244"/>
                    </a:lnTo>
                    <a:lnTo>
                      <a:pt x="621" y="2337"/>
                    </a:lnTo>
                    <a:lnTo>
                      <a:pt x="623" y="2430"/>
                    </a:lnTo>
                    <a:lnTo>
                      <a:pt x="625" y="2524"/>
                    </a:lnTo>
                    <a:lnTo>
                      <a:pt x="627" y="2617"/>
                    </a:lnTo>
                    <a:lnTo>
                      <a:pt x="629" y="2710"/>
                    </a:lnTo>
                    <a:lnTo>
                      <a:pt x="632" y="2802"/>
                    </a:lnTo>
                    <a:lnTo>
                      <a:pt x="634" y="2896"/>
                    </a:lnTo>
                    <a:lnTo>
                      <a:pt x="635" y="2990"/>
                    </a:lnTo>
                    <a:lnTo>
                      <a:pt x="637" y="3083"/>
                    </a:lnTo>
                    <a:lnTo>
                      <a:pt x="639" y="3177"/>
                    </a:lnTo>
                    <a:lnTo>
                      <a:pt x="641" y="3271"/>
                    </a:lnTo>
                    <a:lnTo>
                      <a:pt x="643" y="3364"/>
                    </a:lnTo>
                    <a:lnTo>
                      <a:pt x="645" y="3458"/>
                    </a:lnTo>
                    <a:lnTo>
                      <a:pt x="647" y="3552"/>
                    </a:lnTo>
                    <a:lnTo>
                      <a:pt x="572" y="3542"/>
                    </a:lnTo>
                    <a:lnTo>
                      <a:pt x="497" y="3533"/>
                    </a:lnTo>
                    <a:lnTo>
                      <a:pt x="423" y="3524"/>
                    </a:lnTo>
                    <a:lnTo>
                      <a:pt x="350" y="3513"/>
                    </a:lnTo>
                    <a:lnTo>
                      <a:pt x="277" y="3504"/>
                    </a:lnTo>
                    <a:lnTo>
                      <a:pt x="204" y="3495"/>
                    </a:lnTo>
                    <a:lnTo>
                      <a:pt x="133" y="3486"/>
                    </a:lnTo>
                    <a:lnTo>
                      <a:pt x="61" y="3477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892760" y="4859280"/>
                <a:ext cx="533160" cy="660600"/>
              </a:xfrm>
              <a:custGeom>
                <a:avLst/>
                <a:gdLst/>
                <a:ahLst/>
                <a:rect l="l" t="t" r="r" b="b"/>
                <a:pathLst>
                  <a:path w="1682" h="2081">
                    <a:moveTo>
                      <a:pt x="767" y="1"/>
                    </a:moveTo>
                    <a:lnTo>
                      <a:pt x="745" y="3"/>
                    </a:lnTo>
                    <a:lnTo>
                      <a:pt x="723" y="5"/>
                    </a:lnTo>
                    <a:lnTo>
                      <a:pt x="702" y="8"/>
                    </a:lnTo>
                    <a:lnTo>
                      <a:pt x="681" y="12"/>
                    </a:lnTo>
                    <a:lnTo>
                      <a:pt x="660" y="15"/>
                    </a:lnTo>
                    <a:lnTo>
                      <a:pt x="639" y="19"/>
                    </a:lnTo>
                    <a:lnTo>
                      <a:pt x="619" y="24"/>
                    </a:lnTo>
                    <a:lnTo>
                      <a:pt x="600" y="29"/>
                    </a:lnTo>
                    <a:lnTo>
                      <a:pt x="580" y="35"/>
                    </a:lnTo>
                    <a:lnTo>
                      <a:pt x="561" y="42"/>
                    </a:lnTo>
                    <a:lnTo>
                      <a:pt x="541" y="49"/>
                    </a:lnTo>
                    <a:lnTo>
                      <a:pt x="523" y="56"/>
                    </a:lnTo>
                    <a:lnTo>
                      <a:pt x="505" y="65"/>
                    </a:lnTo>
                    <a:lnTo>
                      <a:pt x="486" y="73"/>
                    </a:lnTo>
                    <a:lnTo>
                      <a:pt x="469" y="82"/>
                    </a:lnTo>
                    <a:lnTo>
                      <a:pt x="450" y="92"/>
                    </a:lnTo>
                    <a:lnTo>
                      <a:pt x="433" y="102"/>
                    </a:lnTo>
                    <a:lnTo>
                      <a:pt x="417" y="114"/>
                    </a:lnTo>
                    <a:lnTo>
                      <a:pt x="399" y="125"/>
                    </a:lnTo>
                    <a:lnTo>
                      <a:pt x="383" y="136"/>
                    </a:lnTo>
                    <a:lnTo>
                      <a:pt x="367" y="149"/>
                    </a:lnTo>
                    <a:lnTo>
                      <a:pt x="350" y="161"/>
                    </a:lnTo>
                    <a:lnTo>
                      <a:pt x="335" y="176"/>
                    </a:lnTo>
                    <a:lnTo>
                      <a:pt x="320" y="189"/>
                    </a:lnTo>
                    <a:lnTo>
                      <a:pt x="303" y="204"/>
                    </a:lnTo>
                    <a:lnTo>
                      <a:pt x="289" y="219"/>
                    </a:lnTo>
                    <a:lnTo>
                      <a:pt x="274" y="235"/>
                    </a:lnTo>
                    <a:lnTo>
                      <a:pt x="259" y="251"/>
                    </a:lnTo>
                    <a:lnTo>
                      <a:pt x="245" y="268"/>
                    </a:lnTo>
                    <a:lnTo>
                      <a:pt x="231" y="285"/>
                    </a:lnTo>
                    <a:lnTo>
                      <a:pt x="218" y="302"/>
                    </a:lnTo>
                    <a:lnTo>
                      <a:pt x="203" y="321"/>
                    </a:lnTo>
                    <a:lnTo>
                      <a:pt x="178" y="358"/>
                    </a:lnTo>
                    <a:lnTo>
                      <a:pt x="153" y="396"/>
                    </a:lnTo>
                    <a:lnTo>
                      <a:pt x="131" y="436"/>
                    </a:lnTo>
                    <a:lnTo>
                      <a:pt x="110" y="476"/>
                    </a:lnTo>
                    <a:lnTo>
                      <a:pt x="100" y="496"/>
                    </a:lnTo>
                    <a:lnTo>
                      <a:pt x="91" y="516"/>
                    </a:lnTo>
                    <a:lnTo>
                      <a:pt x="83" y="538"/>
                    </a:lnTo>
                    <a:lnTo>
                      <a:pt x="75" y="559"/>
                    </a:lnTo>
                    <a:lnTo>
                      <a:pt x="58" y="602"/>
                    </a:lnTo>
                    <a:lnTo>
                      <a:pt x="45" y="646"/>
                    </a:lnTo>
                    <a:lnTo>
                      <a:pt x="34" y="691"/>
                    </a:lnTo>
                    <a:lnTo>
                      <a:pt x="24" y="737"/>
                    </a:lnTo>
                    <a:lnTo>
                      <a:pt x="15" y="784"/>
                    </a:lnTo>
                    <a:lnTo>
                      <a:pt x="8" y="832"/>
                    </a:lnTo>
                    <a:lnTo>
                      <a:pt x="4" y="880"/>
                    </a:lnTo>
                    <a:lnTo>
                      <a:pt x="1" y="930"/>
                    </a:lnTo>
                    <a:lnTo>
                      <a:pt x="0" y="981"/>
                    </a:lnTo>
                    <a:lnTo>
                      <a:pt x="1" y="1033"/>
                    </a:lnTo>
                    <a:lnTo>
                      <a:pt x="3" y="1085"/>
                    </a:lnTo>
                    <a:lnTo>
                      <a:pt x="8" y="1136"/>
                    </a:lnTo>
                    <a:lnTo>
                      <a:pt x="14" y="1186"/>
                    </a:lnTo>
                    <a:lnTo>
                      <a:pt x="22" y="1236"/>
                    </a:lnTo>
                    <a:lnTo>
                      <a:pt x="32" y="1283"/>
                    </a:lnTo>
                    <a:lnTo>
                      <a:pt x="43" y="1330"/>
                    </a:lnTo>
                    <a:lnTo>
                      <a:pt x="55" y="1377"/>
                    </a:lnTo>
                    <a:lnTo>
                      <a:pt x="71" y="1422"/>
                    </a:lnTo>
                    <a:lnTo>
                      <a:pt x="87" y="1466"/>
                    </a:lnTo>
                    <a:lnTo>
                      <a:pt x="105" y="1510"/>
                    </a:lnTo>
                    <a:lnTo>
                      <a:pt x="125" y="1553"/>
                    </a:lnTo>
                    <a:lnTo>
                      <a:pt x="146" y="1594"/>
                    </a:lnTo>
                    <a:lnTo>
                      <a:pt x="170" y="1634"/>
                    </a:lnTo>
                    <a:lnTo>
                      <a:pt x="194" y="1674"/>
                    </a:lnTo>
                    <a:lnTo>
                      <a:pt x="221" y="1713"/>
                    </a:lnTo>
                    <a:lnTo>
                      <a:pt x="249" y="1751"/>
                    </a:lnTo>
                    <a:lnTo>
                      <a:pt x="264" y="1769"/>
                    </a:lnTo>
                    <a:lnTo>
                      <a:pt x="279" y="1787"/>
                    </a:lnTo>
                    <a:lnTo>
                      <a:pt x="294" y="1805"/>
                    </a:lnTo>
                    <a:lnTo>
                      <a:pt x="310" y="1822"/>
                    </a:lnTo>
                    <a:lnTo>
                      <a:pt x="325" y="1838"/>
                    </a:lnTo>
                    <a:lnTo>
                      <a:pt x="341" y="1855"/>
                    </a:lnTo>
                    <a:lnTo>
                      <a:pt x="358" y="1870"/>
                    </a:lnTo>
                    <a:lnTo>
                      <a:pt x="374" y="1884"/>
                    </a:lnTo>
                    <a:lnTo>
                      <a:pt x="390" y="1899"/>
                    </a:lnTo>
                    <a:lnTo>
                      <a:pt x="408" y="1913"/>
                    </a:lnTo>
                    <a:lnTo>
                      <a:pt x="425" y="1926"/>
                    </a:lnTo>
                    <a:lnTo>
                      <a:pt x="442" y="1939"/>
                    </a:lnTo>
                    <a:lnTo>
                      <a:pt x="460" y="1952"/>
                    </a:lnTo>
                    <a:lnTo>
                      <a:pt x="478" y="1963"/>
                    </a:lnTo>
                    <a:lnTo>
                      <a:pt x="495" y="1974"/>
                    </a:lnTo>
                    <a:lnTo>
                      <a:pt x="514" y="1984"/>
                    </a:lnTo>
                    <a:lnTo>
                      <a:pt x="533" y="1994"/>
                    </a:lnTo>
                    <a:lnTo>
                      <a:pt x="552" y="2004"/>
                    </a:lnTo>
                    <a:lnTo>
                      <a:pt x="571" y="2013"/>
                    </a:lnTo>
                    <a:lnTo>
                      <a:pt x="590" y="2021"/>
                    </a:lnTo>
                    <a:lnTo>
                      <a:pt x="610" y="2029"/>
                    </a:lnTo>
                    <a:lnTo>
                      <a:pt x="629" y="2036"/>
                    </a:lnTo>
                    <a:lnTo>
                      <a:pt x="650" y="2043"/>
                    </a:lnTo>
                    <a:lnTo>
                      <a:pt x="670" y="2049"/>
                    </a:lnTo>
                    <a:lnTo>
                      <a:pt x="690" y="2056"/>
                    </a:lnTo>
                    <a:lnTo>
                      <a:pt x="711" y="2061"/>
                    </a:lnTo>
                    <a:lnTo>
                      <a:pt x="732" y="2065"/>
                    </a:lnTo>
                    <a:lnTo>
                      <a:pt x="754" y="2069"/>
                    </a:lnTo>
                    <a:lnTo>
                      <a:pt x="775" y="2072"/>
                    </a:lnTo>
                    <a:lnTo>
                      <a:pt x="798" y="2075"/>
                    </a:lnTo>
                    <a:lnTo>
                      <a:pt x="819" y="2077"/>
                    </a:lnTo>
                    <a:lnTo>
                      <a:pt x="842" y="2079"/>
                    </a:lnTo>
                    <a:lnTo>
                      <a:pt x="864" y="2080"/>
                    </a:lnTo>
                    <a:lnTo>
                      <a:pt x="886" y="2081"/>
                    </a:lnTo>
                    <a:lnTo>
                      <a:pt x="908" y="2081"/>
                    </a:lnTo>
                    <a:lnTo>
                      <a:pt x="929" y="2080"/>
                    </a:lnTo>
                    <a:lnTo>
                      <a:pt x="951" y="2079"/>
                    </a:lnTo>
                    <a:lnTo>
                      <a:pt x="972" y="2077"/>
                    </a:lnTo>
                    <a:lnTo>
                      <a:pt x="994" y="2075"/>
                    </a:lnTo>
                    <a:lnTo>
                      <a:pt x="1014" y="2071"/>
                    </a:lnTo>
                    <a:lnTo>
                      <a:pt x="1035" y="2068"/>
                    </a:lnTo>
                    <a:lnTo>
                      <a:pt x="1056" y="2064"/>
                    </a:lnTo>
                    <a:lnTo>
                      <a:pt x="1076" y="2059"/>
                    </a:lnTo>
                    <a:lnTo>
                      <a:pt x="1096" y="2053"/>
                    </a:lnTo>
                    <a:lnTo>
                      <a:pt x="1116" y="2046"/>
                    </a:lnTo>
                    <a:lnTo>
                      <a:pt x="1136" y="2039"/>
                    </a:lnTo>
                    <a:lnTo>
                      <a:pt x="1155" y="2032"/>
                    </a:lnTo>
                    <a:lnTo>
                      <a:pt x="1175" y="2024"/>
                    </a:lnTo>
                    <a:lnTo>
                      <a:pt x="1194" y="2015"/>
                    </a:lnTo>
                    <a:lnTo>
                      <a:pt x="1212" y="2006"/>
                    </a:lnTo>
                    <a:lnTo>
                      <a:pt x="1231" y="1995"/>
                    </a:lnTo>
                    <a:lnTo>
                      <a:pt x="1249" y="1985"/>
                    </a:lnTo>
                    <a:lnTo>
                      <a:pt x="1267" y="1974"/>
                    </a:lnTo>
                    <a:lnTo>
                      <a:pt x="1286" y="1962"/>
                    </a:lnTo>
                    <a:lnTo>
                      <a:pt x="1303" y="1950"/>
                    </a:lnTo>
                    <a:lnTo>
                      <a:pt x="1321" y="1936"/>
                    </a:lnTo>
                    <a:lnTo>
                      <a:pt x="1338" y="1922"/>
                    </a:lnTo>
                    <a:lnTo>
                      <a:pt x="1355" y="1908"/>
                    </a:lnTo>
                    <a:lnTo>
                      <a:pt x="1372" y="1892"/>
                    </a:lnTo>
                    <a:lnTo>
                      <a:pt x="1388" y="1877"/>
                    </a:lnTo>
                    <a:lnTo>
                      <a:pt x="1404" y="1861"/>
                    </a:lnTo>
                    <a:lnTo>
                      <a:pt x="1421" y="1843"/>
                    </a:lnTo>
                    <a:lnTo>
                      <a:pt x="1436" y="1826"/>
                    </a:lnTo>
                    <a:lnTo>
                      <a:pt x="1452" y="1808"/>
                    </a:lnTo>
                    <a:lnTo>
                      <a:pt x="1468" y="1788"/>
                    </a:lnTo>
                    <a:lnTo>
                      <a:pt x="1482" y="1769"/>
                    </a:lnTo>
                    <a:lnTo>
                      <a:pt x="1496" y="1750"/>
                    </a:lnTo>
                    <a:lnTo>
                      <a:pt x="1509" y="1729"/>
                    </a:lnTo>
                    <a:lnTo>
                      <a:pt x="1523" y="1709"/>
                    </a:lnTo>
                    <a:lnTo>
                      <a:pt x="1536" y="1688"/>
                    </a:lnTo>
                    <a:lnTo>
                      <a:pt x="1547" y="1668"/>
                    </a:lnTo>
                    <a:lnTo>
                      <a:pt x="1560" y="1647"/>
                    </a:lnTo>
                    <a:lnTo>
                      <a:pt x="1571" y="1624"/>
                    </a:lnTo>
                    <a:lnTo>
                      <a:pt x="1581" y="1603"/>
                    </a:lnTo>
                    <a:lnTo>
                      <a:pt x="1591" y="1580"/>
                    </a:lnTo>
                    <a:lnTo>
                      <a:pt x="1600" y="1558"/>
                    </a:lnTo>
                    <a:lnTo>
                      <a:pt x="1610" y="1534"/>
                    </a:lnTo>
                    <a:lnTo>
                      <a:pt x="1618" y="1512"/>
                    </a:lnTo>
                    <a:lnTo>
                      <a:pt x="1626" y="1488"/>
                    </a:lnTo>
                    <a:lnTo>
                      <a:pt x="1633" y="1464"/>
                    </a:lnTo>
                    <a:lnTo>
                      <a:pt x="1640" y="1440"/>
                    </a:lnTo>
                    <a:lnTo>
                      <a:pt x="1646" y="1415"/>
                    </a:lnTo>
                    <a:lnTo>
                      <a:pt x="1651" y="1391"/>
                    </a:lnTo>
                    <a:lnTo>
                      <a:pt x="1658" y="1365"/>
                    </a:lnTo>
                    <a:lnTo>
                      <a:pt x="1662" y="1341"/>
                    </a:lnTo>
                    <a:lnTo>
                      <a:pt x="1667" y="1314"/>
                    </a:lnTo>
                    <a:lnTo>
                      <a:pt x="1670" y="1289"/>
                    </a:lnTo>
                    <a:lnTo>
                      <a:pt x="1673" y="1262"/>
                    </a:lnTo>
                    <a:lnTo>
                      <a:pt x="1676" y="1236"/>
                    </a:lnTo>
                    <a:lnTo>
                      <a:pt x="1678" y="1208"/>
                    </a:lnTo>
                    <a:lnTo>
                      <a:pt x="1680" y="1181"/>
                    </a:lnTo>
                    <a:lnTo>
                      <a:pt x="1681" y="1154"/>
                    </a:lnTo>
                    <a:lnTo>
                      <a:pt x="1682" y="1098"/>
                    </a:lnTo>
                    <a:lnTo>
                      <a:pt x="1680" y="1041"/>
                    </a:lnTo>
                    <a:lnTo>
                      <a:pt x="1677" y="984"/>
                    </a:lnTo>
                    <a:lnTo>
                      <a:pt x="1672" y="927"/>
                    </a:lnTo>
                    <a:lnTo>
                      <a:pt x="1665" y="873"/>
                    </a:lnTo>
                    <a:lnTo>
                      <a:pt x="1656" y="820"/>
                    </a:lnTo>
                    <a:lnTo>
                      <a:pt x="1650" y="794"/>
                    </a:lnTo>
                    <a:lnTo>
                      <a:pt x="1644" y="768"/>
                    </a:lnTo>
                    <a:lnTo>
                      <a:pt x="1638" y="743"/>
                    </a:lnTo>
                    <a:lnTo>
                      <a:pt x="1631" y="717"/>
                    </a:lnTo>
                    <a:lnTo>
                      <a:pt x="1624" y="693"/>
                    </a:lnTo>
                    <a:lnTo>
                      <a:pt x="1617" y="667"/>
                    </a:lnTo>
                    <a:lnTo>
                      <a:pt x="1609" y="644"/>
                    </a:lnTo>
                    <a:lnTo>
                      <a:pt x="1599" y="619"/>
                    </a:lnTo>
                    <a:lnTo>
                      <a:pt x="1590" y="596"/>
                    </a:lnTo>
                    <a:lnTo>
                      <a:pt x="1580" y="573"/>
                    </a:lnTo>
                    <a:lnTo>
                      <a:pt x="1570" y="549"/>
                    </a:lnTo>
                    <a:lnTo>
                      <a:pt x="1560" y="527"/>
                    </a:lnTo>
                    <a:lnTo>
                      <a:pt x="1548" y="504"/>
                    </a:lnTo>
                    <a:lnTo>
                      <a:pt x="1537" y="482"/>
                    </a:lnTo>
                    <a:lnTo>
                      <a:pt x="1525" y="459"/>
                    </a:lnTo>
                    <a:lnTo>
                      <a:pt x="1512" y="438"/>
                    </a:lnTo>
                    <a:lnTo>
                      <a:pt x="1498" y="416"/>
                    </a:lnTo>
                    <a:lnTo>
                      <a:pt x="1485" y="396"/>
                    </a:lnTo>
                    <a:lnTo>
                      <a:pt x="1471" y="375"/>
                    </a:lnTo>
                    <a:lnTo>
                      <a:pt x="1456" y="354"/>
                    </a:lnTo>
                    <a:lnTo>
                      <a:pt x="1441" y="335"/>
                    </a:lnTo>
                    <a:lnTo>
                      <a:pt x="1425" y="315"/>
                    </a:lnTo>
                    <a:lnTo>
                      <a:pt x="1409" y="296"/>
                    </a:lnTo>
                    <a:lnTo>
                      <a:pt x="1392" y="277"/>
                    </a:lnTo>
                    <a:lnTo>
                      <a:pt x="1376" y="258"/>
                    </a:lnTo>
                    <a:lnTo>
                      <a:pt x="1358" y="241"/>
                    </a:lnTo>
                    <a:lnTo>
                      <a:pt x="1342" y="224"/>
                    </a:lnTo>
                    <a:lnTo>
                      <a:pt x="1325" y="207"/>
                    </a:lnTo>
                    <a:lnTo>
                      <a:pt x="1306" y="192"/>
                    </a:lnTo>
                    <a:lnTo>
                      <a:pt x="1289" y="177"/>
                    </a:lnTo>
                    <a:lnTo>
                      <a:pt x="1272" y="162"/>
                    </a:lnTo>
                    <a:lnTo>
                      <a:pt x="1253" y="148"/>
                    </a:lnTo>
                    <a:lnTo>
                      <a:pt x="1235" y="135"/>
                    </a:lnTo>
                    <a:lnTo>
                      <a:pt x="1216" y="123"/>
                    </a:lnTo>
                    <a:lnTo>
                      <a:pt x="1198" y="110"/>
                    </a:lnTo>
                    <a:lnTo>
                      <a:pt x="1179" y="99"/>
                    </a:lnTo>
                    <a:lnTo>
                      <a:pt x="1159" y="89"/>
                    </a:lnTo>
                    <a:lnTo>
                      <a:pt x="1141" y="79"/>
                    </a:lnTo>
                    <a:lnTo>
                      <a:pt x="1121" y="69"/>
                    </a:lnTo>
                    <a:lnTo>
                      <a:pt x="1102" y="60"/>
                    </a:lnTo>
                    <a:lnTo>
                      <a:pt x="1082" y="51"/>
                    </a:lnTo>
                    <a:lnTo>
                      <a:pt x="1062" y="44"/>
                    </a:lnTo>
                    <a:lnTo>
                      <a:pt x="1042" y="37"/>
                    </a:lnTo>
                    <a:lnTo>
                      <a:pt x="1021" y="31"/>
                    </a:lnTo>
                    <a:lnTo>
                      <a:pt x="1001" y="25"/>
                    </a:lnTo>
                    <a:lnTo>
                      <a:pt x="980" y="20"/>
                    </a:lnTo>
                    <a:lnTo>
                      <a:pt x="960" y="16"/>
                    </a:lnTo>
                    <a:lnTo>
                      <a:pt x="939" y="12"/>
                    </a:lnTo>
                    <a:lnTo>
                      <a:pt x="918" y="8"/>
                    </a:lnTo>
                    <a:lnTo>
                      <a:pt x="897" y="5"/>
                    </a:lnTo>
                    <a:lnTo>
                      <a:pt x="875" y="3"/>
                    </a:lnTo>
                    <a:lnTo>
                      <a:pt x="854" y="1"/>
                    </a:lnTo>
                    <a:lnTo>
                      <a:pt x="832" y="1"/>
                    </a:lnTo>
                    <a:lnTo>
                      <a:pt x="811" y="0"/>
                    </a:lnTo>
                    <a:lnTo>
                      <a:pt x="788" y="1"/>
                    </a:lnTo>
                    <a:lnTo>
                      <a:pt x="767" y="1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633920" y="4491000"/>
                <a:ext cx="1147680" cy="1411200"/>
              </a:xfrm>
              <a:custGeom>
                <a:avLst/>
                <a:gdLst/>
                <a:ahLst/>
                <a:rect l="l" t="t" r="r" b="b"/>
                <a:pathLst>
                  <a:path w="3616" h="4444">
                    <a:moveTo>
                      <a:pt x="1535" y="12"/>
                    </a:moveTo>
                    <a:lnTo>
                      <a:pt x="1577" y="8"/>
                    </a:lnTo>
                    <a:lnTo>
                      <a:pt x="1619" y="4"/>
                    </a:lnTo>
                    <a:lnTo>
                      <a:pt x="1660" y="2"/>
                    </a:lnTo>
                    <a:lnTo>
                      <a:pt x="1702" y="1"/>
                    </a:lnTo>
                    <a:lnTo>
                      <a:pt x="1742" y="0"/>
                    </a:lnTo>
                    <a:lnTo>
                      <a:pt x="1783" y="1"/>
                    </a:lnTo>
                    <a:lnTo>
                      <a:pt x="1825" y="3"/>
                    </a:lnTo>
                    <a:lnTo>
                      <a:pt x="1866" y="6"/>
                    </a:lnTo>
                    <a:lnTo>
                      <a:pt x="1907" y="10"/>
                    </a:lnTo>
                    <a:lnTo>
                      <a:pt x="1948" y="15"/>
                    </a:lnTo>
                    <a:lnTo>
                      <a:pt x="1988" y="21"/>
                    </a:lnTo>
                    <a:lnTo>
                      <a:pt x="2029" y="28"/>
                    </a:lnTo>
                    <a:lnTo>
                      <a:pt x="2070" y="36"/>
                    </a:lnTo>
                    <a:lnTo>
                      <a:pt x="2111" y="47"/>
                    </a:lnTo>
                    <a:lnTo>
                      <a:pt x="2151" y="57"/>
                    </a:lnTo>
                    <a:lnTo>
                      <a:pt x="2192" y="69"/>
                    </a:lnTo>
                    <a:lnTo>
                      <a:pt x="2232" y="82"/>
                    </a:lnTo>
                    <a:lnTo>
                      <a:pt x="2271" y="96"/>
                    </a:lnTo>
                    <a:lnTo>
                      <a:pt x="2311" y="111"/>
                    </a:lnTo>
                    <a:lnTo>
                      <a:pt x="2350" y="127"/>
                    </a:lnTo>
                    <a:lnTo>
                      <a:pt x="2389" y="144"/>
                    </a:lnTo>
                    <a:lnTo>
                      <a:pt x="2428" y="164"/>
                    </a:lnTo>
                    <a:lnTo>
                      <a:pt x="2465" y="183"/>
                    </a:lnTo>
                    <a:lnTo>
                      <a:pt x="2503" y="204"/>
                    </a:lnTo>
                    <a:lnTo>
                      <a:pt x="2540" y="225"/>
                    </a:lnTo>
                    <a:lnTo>
                      <a:pt x="2578" y="248"/>
                    </a:lnTo>
                    <a:lnTo>
                      <a:pt x="2613" y="272"/>
                    </a:lnTo>
                    <a:lnTo>
                      <a:pt x="2649" y="297"/>
                    </a:lnTo>
                    <a:lnTo>
                      <a:pt x="2685" y="323"/>
                    </a:lnTo>
                    <a:lnTo>
                      <a:pt x="2720" y="350"/>
                    </a:lnTo>
                    <a:lnTo>
                      <a:pt x="2754" y="379"/>
                    </a:lnTo>
                    <a:lnTo>
                      <a:pt x="2788" y="409"/>
                    </a:lnTo>
                    <a:lnTo>
                      <a:pt x="2833" y="448"/>
                    </a:lnTo>
                    <a:lnTo>
                      <a:pt x="2876" y="490"/>
                    </a:lnTo>
                    <a:lnTo>
                      <a:pt x="2919" y="533"/>
                    </a:lnTo>
                    <a:lnTo>
                      <a:pt x="2960" y="577"/>
                    </a:lnTo>
                    <a:lnTo>
                      <a:pt x="3001" y="622"/>
                    </a:lnTo>
                    <a:lnTo>
                      <a:pt x="3039" y="668"/>
                    </a:lnTo>
                    <a:lnTo>
                      <a:pt x="3078" y="716"/>
                    </a:lnTo>
                    <a:lnTo>
                      <a:pt x="3115" y="764"/>
                    </a:lnTo>
                    <a:lnTo>
                      <a:pt x="3151" y="813"/>
                    </a:lnTo>
                    <a:lnTo>
                      <a:pt x="3185" y="864"/>
                    </a:lnTo>
                    <a:lnTo>
                      <a:pt x="3219" y="916"/>
                    </a:lnTo>
                    <a:lnTo>
                      <a:pt x="3252" y="969"/>
                    </a:lnTo>
                    <a:lnTo>
                      <a:pt x="3283" y="1023"/>
                    </a:lnTo>
                    <a:lnTo>
                      <a:pt x="3313" y="1078"/>
                    </a:lnTo>
                    <a:lnTo>
                      <a:pt x="3343" y="1134"/>
                    </a:lnTo>
                    <a:lnTo>
                      <a:pt x="3370" y="1191"/>
                    </a:lnTo>
                    <a:lnTo>
                      <a:pt x="3397" y="1250"/>
                    </a:lnTo>
                    <a:lnTo>
                      <a:pt x="3422" y="1310"/>
                    </a:lnTo>
                    <a:lnTo>
                      <a:pt x="3446" y="1370"/>
                    </a:lnTo>
                    <a:lnTo>
                      <a:pt x="3467" y="1432"/>
                    </a:lnTo>
                    <a:lnTo>
                      <a:pt x="3488" y="1493"/>
                    </a:lnTo>
                    <a:lnTo>
                      <a:pt x="3507" y="1555"/>
                    </a:lnTo>
                    <a:lnTo>
                      <a:pt x="3524" y="1618"/>
                    </a:lnTo>
                    <a:lnTo>
                      <a:pt x="3541" y="1681"/>
                    </a:lnTo>
                    <a:lnTo>
                      <a:pt x="3555" y="1745"/>
                    </a:lnTo>
                    <a:lnTo>
                      <a:pt x="3568" y="1809"/>
                    </a:lnTo>
                    <a:lnTo>
                      <a:pt x="3580" y="1874"/>
                    </a:lnTo>
                    <a:lnTo>
                      <a:pt x="3589" y="1939"/>
                    </a:lnTo>
                    <a:lnTo>
                      <a:pt x="3597" y="2005"/>
                    </a:lnTo>
                    <a:lnTo>
                      <a:pt x="3604" y="2071"/>
                    </a:lnTo>
                    <a:lnTo>
                      <a:pt x="3609" y="2138"/>
                    </a:lnTo>
                    <a:lnTo>
                      <a:pt x="3613" y="2205"/>
                    </a:lnTo>
                    <a:lnTo>
                      <a:pt x="3615" y="2272"/>
                    </a:lnTo>
                    <a:lnTo>
                      <a:pt x="3616" y="2339"/>
                    </a:lnTo>
                    <a:lnTo>
                      <a:pt x="3615" y="2407"/>
                    </a:lnTo>
                    <a:lnTo>
                      <a:pt x="3612" y="2472"/>
                    </a:lnTo>
                    <a:lnTo>
                      <a:pt x="3608" y="2538"/>
                    </a:lnTo>
                    <a:lnTo>
                      <a:pt x="3603" y="2604"/>
                    </a:lnTo>
                    <a:lnTo>
                      <a:pt x="3596" y="2668"/>
                    </a:lnTo>
                    <a:lnTo>
                      <a:pt x="3587" y="2732"/>
                    </a:lnTo>
                    <a:lnTo>
                      <a:pt x="3577" y="2796"/>
                    </a:lnTo>
                    <a:lnTo>
                      <a:pt x="3564" y="2860"/>
                    </a:lnTo>
                    <a:lnTo>
                      <a:pt x="3550" y="2922"/>
                    </a:lnTo>
                    <a:lnTo>
                      <a:pt x="3535" y="2984"/>
                    </a:lnTo>
                    <a:lnTo>
                      <a:pt x="3518" y="3046"/>
                    </a:lnTo>
                    <a:lnTo>
                      <a:pt x="3500" y="3108"/>
                    </a:lnTo>
                    <a:lnTo>
                      <a:pt x="3479" y="3168"/>
                    </a:lnTo>
                    <a:lnTo>
                      <a:pt x="3457" y="3228"/>
                    </a:lnTo>
                    <a:lnTo>
                      <a:pt x="3434" y="3287"/>
                    </a:lnTo>
                    <a:lnTo>
                      <a:pt x="3409" y="3345"/>
                    </a:lnTo>
                    <a:lnTo>
                      <a:pt x="3383" y="3401"/>
                    </a:lnTo>
                    <a:lnTo>
                      <a:pt x="3357" y="3457"/>
                    </a:lnTo>
                    <a:lnTo>
                      <a:pt x="3328" y="3511"/>
                    </a:lnTo>
                    <a:lnTo>
                      <a:pt x="3299" y="3564"/>
                    </a:lnTo>
                    <a:lnTo>
                      <a:pt x="3268" y="3617"/>
                    </a:lnTo>
                    <a:lnTo>
                      <a:pt x="3236" y="3668"/>
                    </a:lnTo>
                    <a:lnTo>
                      <a:pt x="3203" y="3716"/>
                    </a:lnTo>
                    <a:lnTo>
                      <a:pt x="3169" y="3765"/>
                    </a:lnTo>
                    <a:lnTo>
                      <a:pt x="3133" y="3812"/>
                    </a:lnTo>
                    <a:lnTo>
                      <a:pt x="3097" y="3858"/>
                    </a:lnTo>
                    <a:lnTo>
                      <a:pt x="3059" y="3903"/>
                    </a:lnTo>
                    <a:lnTo>
                      <a:pt x="3020" y="3947"/>
                    </a:lnTo>
                    <a:lnTo>
                      <a:pt x="2980" y="3989"/>
                    </a:lnTo>
                    <a:lnTo>
                      <a:pt x="2939" y="4031"/>
                    </a:lnTo>
                    <a:lnTo>
                      <a:pt x="2907" y="4061"/>
                    </a:lnTo>
                    <a:lnTo>
                      <a:pt x="2874" y="4090"/>
                    </a:lnTo>
                    <a:lnTo>
                      <a:pt x="2840" y="4118"/>
                    </a:lnTo>
                    <a:lnTo>
                      <a:pt x="2805" y="4145"/>
                    </a:lnTo>
                    <a:lnTo>
                      <a:pt x="2771" y="4170"/>
                    </a:lnTo>
                    <a:lnTo>
                      <a:pt x="2735" y="4195"/>
                    </a:lnTo>
                    <a:lnTo>
                      <a:pt x="2699" y="4218"/>
                    </a:lnTo>
                    <a:lnTo>
                      <a:pt x="2663" y="4241"/>
                    </a:lnTo>
                    <a:lnTo>
                      <a:pt x="2626" y="4262"/>
                    </a:lnTo>
                    <a:lnTo>
                      <a:pt x="2588" y="4282"/>
                    </a:lnTo>
                    <a:lnTo>
                      <a:pt x="2550" y="4300"/>
                    </a:lnTo>
                    <a:lnTo>
                      <a:pt x="2511" y="4318"/>
                    </a:lnTo>
                    <a:lnTo>
                      <a:pt x="2473" y="4335"/>
                    </a:lnTo>
                    <a:lnTo>
                      <a:pt x="2434" y="4350"/>
                    </a:lnTo>
                    <a:lnTo>
                      <a:pt x="2394" y="4364"/>
                    </a:lnTo>
                    <a:lnTo>
                      <a:pt x="2354" y="4376"/>
                    </a:lnTo>
                    <a:lnTo>
                      <a:pt x="2314" y="4389"/>
                    </a:lnTo>
                    <a:lnTo>
                      <a:pt x="2274" y="4400"/>
                    </a:lnTo>
                    <a:lnTo>
                      <a:pt x="2235" y="4409"/>
                    </a:lnTo>
                    <a:lnTo>
                      <a:pt x="2194" y="4417"/>
                    </a:lnTo>
                    <a:lnTo>
                      <a:pt x="2153" y="4424"/>
                    </a:lnTo>
                    <a:lnTo>
                      <a:pt x="2112" y="4430"/>
                    </a:lnTo>
                    <a:lnTo>
                      <a:pt x="2071" y="4436"/>
                    </a:lnTo>
                    <a:lnTo>
                      <a:pt x="2029" y="4440"/>
                    </a:lnTo>
                    <a:lnTo>
                      <a:pt x="1987" y="4443"/>
                    </a:lnTo>
                    <a:lnTo>
                      <a:pt x="1946" y="4444"/>
                    </a:lnTo>
                    <a:lnTo>
                      <a:pt x="1904" y="4444"/>
                    </a:lnTo>
                    <a:lnTo>
                      <a:pt x="1862" y="4444"/>
                    </a:lnTo>
                    <a:lnTo>
                      <a:pt x="1820" y="4442"/>
                    </a:lnTo>
                    <a:lnTo>
                      <a:pt x="1778" y="4439"/>
                    </a:lnTo>
                    <a:lnTo>
                      <a:pt x="1735" y="4435"/>
                    </a:lnTo>
                    <a:lnTo>
                      <a:pt x="1693" y="4429"/>
                    </a:lnTo>
                    <a:lnTo>
                      <a:pt x="1651" y="4423"/>
                    </a:lnTo>
                    <a:lnTo>
                      <a:pt x="1611" y="4416"/>
                    </a:lnTo>
                    <a:lnTo>
                      <a:pt x="1570" y="4408"/>
                    </a:lnTo>
                    <a:lnTo>
                      <a:pt x="1530" y="4399"/>
                    </a:lnTo>
                    <a:lnTo>
                      <a:pt x="1489" y="4389"/>
                    </a:lnTo>
                    <a:lnTo>
                      <a:pt x="1450" y="4377"/>
                    </a:lnTo>
                    <a:lnTo>
                      <a:pt x="1410" y="4365"/>
                    </a:lnTo>
                    <a:lnTo>
                      <a:pt x="1372" y="4353"/>
                    </a:lnTo>
                    <a:lnTo>
                      <a:pt x="1334" y="4339"/>
                    </a:lnTo>
                    <a:lnTo>
                      <a:pt x="1295" y="4323"/>
                    </a:lnTo>
                    <a:lnTo>
                      <a:pt x="1257" y="4308"/>
                    </a:lnTo>
                    <a:lnTo>
                      <a:pt x="1221" y="4291"/>
                    </a:lnTo>
                    <a:lnTo>
                      <a:pt x="1184" y="4273"/>
                    </a:lnTo>
                    <a:lnTo>
                      <a:pt x="1147" y="4254"/>
                    </a:lnTo>
                    <a:lnTo>
                      <a:pt x="1110" y="4235"/>
                    </a:lnTo>
                    <a:lnTo>
                      <a:pt x="1074" y="4214"/>
                    </a:lnTo>
                    <a:lnTo>
                      <a:pt x="1039" y="4193"/>
                    </a:lnTo>
                    <a:lnTo>
                      <a:pt x="1005" y="4171"/>
                    </a:lnTo>
                    <a:lnTo>
                      <a:pt x="970" y="4149"/>
                    </a:lnTo>
                    <a:lnTo>
                      <a:pt x="938" y="4125"/>
                    </a:lnTo>
                    <a:lnTo>
                      <a:pt x="904" y="4101"/>
                    </a:lnTo>
                    <a:lnTo>
                      <a:pt x="872" y="4076"/>
                    </a:lnTo>
                    <a:lnTo>
                      <a:pt x="841" y="4050"/>
                    </a:lnTo>
                    <a:lnTo>
                      <a:pt x="809" y="4023"/>
                    </a:lnTo>
                    <a:lnTo>
                      <a:pt x="778" y="3996"/>
                    </a:lnTo>
                    <a:lnTo>
                      <a:pt x="748" y="3968"/>
                    </a:lnTo>
                    <a:lnTo>
                      <a:pt x="718" y="3940"/>
                    </a:lnTo>
                    <a:lnTo>
                      <a:pt x="689" y="3910"/>
                    </a:lnTo>
                    <a:lnTo>
                      <a:pt x="661" y="3880"/>
                    </a:lnTo>
                    <a:lnTo>
                      <a:pt x="632" y="3849"/>
                    </a:lnTo>
                    <a:lnTo>
                      <a:pt x="605" y="3817"/>
                    </a:lnTo>
                    <a:lnTo>
                      <a:pt x="578" y="3785"/>
                    </a:lnTo>
                    <a:lnTo>
                      <a:pt x="544" y="3742"/>
                    </a:lnTo>
                    <a:lnTo>
                      <a:pt x="512" y="3699"/>
                    </a:lnTo>
                    <a:lnTo>
                      <a:pt x="480" y="3656"/>
                    </a:lnTo>
                    <a:lnTo>
                      <a:pt x="450" y="3612"/>
                    </a:lnTo>
                    <a:lnTo>
                      <a:pt x="420" y="3568"/>
                    </a:lnTo>
                    <a:lnTo>
                      <a:pt x="391" y="3523"/>
                    </a:lnTo>
                    <a:lnTo>
                      <a:pt x="364" y="3477"/>
                    </a:lnTo>
                    <a:lnTo>
                      <a:pt x="337" y="3431"/>
                    </a:lnTo>
                    <a:lnTo>
                      <a:pt x="311" y="3383"/>
                    </a:lnTo>
                    <a:lnTo>
                      <a:pt x="286" y="3336"/>
                    </a:lnTo>
                    <a:lnTo>
                      <a:pt x="263" y="3287"/>
                    </a:lnTo>
                    <a:lnTo>
                      <a:pt x="240" y="3238"/>
                    </a:lnTo>
                    <a:lnTo>
                      <a:pt x="219" y="3189"/>
                    </a:lnTo>
                    <a:lnTo>
                      <a:pt x="197" y="3139"/>
                    </a:lnTo>
                    <a:lnTo>
                      <a:pt x="178" y="3088"/>
                    </a:lnTo>
                    <a:lnTo>
                      <a:pt x="159" y="3036"/>
                    </a:lnTo>
                    <a:lnTo>
                      <a:pt x="142" y="2985"/>
                    </a:lnTo>
                    <a:lnTo>
                      <a:pt x="125" y="2934"/>
                    </a:lnTo>
                    <a:lnTo>
                      <a:pt x="109" y="2882"/>
                    </a:lnTo>
                    <a:lnTo>
                      <a:pt x="95" y="2830"/>
                    </a:lnTo>
                    <a:lnTo>
                      <a:pt x="82" y="2778"/>
                    </a:lnTo>
                    <a:lnTo>
                      <a:pt x="69" y="2726"/>
                    </a:lnTo>
                    <a:lnTo>
                      <a:pt x="57" y="2673"/>
                    </a:lnTo>
                    <a:lnTo>
                      <a:pt x="47" y="2620"/>
                    </a:lnTo>
                    <a:lnTo>
                      <a:pt x="38" y="2567"/>
                    </a:lnTo>
                    <a:lnTo>
                      <a:pt x="29" y="2514"/>
                    </a:lnTo>
                    <a:lnTo>
                      <a:pt x="22" y="2460"/>
                    </a:lnTo>
                    <a:lnTo>
                      <a:pt x="15" y="2406"/>
                    </a:lnTo>
                    <a:lnTo>
                      <a:pt x="10" y="2352"/>
                    </a:lnTo>
                    <a:lnTo>
                      <a:pt x="6" y="2298"/>
                    </a:lnTo>
                    <a:lnTo>
                      <a:pt x="3" y="2243"/>
                    </a:lnTo>
                    <a:lnTo>
                      <a:pt x="1" y="2187"/>
                    </a:lnTo>
                    <a:lnTo>
                      <a:pt x="0" y="2132"/>
                    </a:lnTo>
                    <a:lnTo>
                      <a:pt x="0" y="2078"/>
                    </a:lnTo>
                    <a:lnTo>
                      <a:pt x="1" y="2024"/>
                    </a:lnTo>
                    <a:lnTo>
                      <a:pt x="3" y="1970"/>
                    </a:lnTo>
                    <a:lnTo>
                      <a:pt x="6" y="1917"/>
                    </a:lnTo>
                    <a:lnTo>
                      <a:pt x="10" y="1863"/>
                    </a:lnTo>
                    <a:lnTo>
                      <a:pt x="15" y="1811"/>
                    </a:lnTo>
                    <a:lnTo>
                      <a:pt x="23" y="1758"/>
                    </a:lnTo>
                    <a:lnTo>
                      <a:pt x="30" y="1706"/>
                    </a:lnTo>
                    <a:lnTo>
                      <a:pt x="38" y="1654"/>
                    </a:lnTo>
                    <a:lnTo>
                      <a:pt x="47" y="1602"/>
                    </a:lnTo>
                    <a:lnTo>
                      <a:pt x="57" y="1551"/>
                    </a:lnTo>
                    <a:lnTo>
                      <a:pt x="69" y="1500"/>
                    </a:lnTo>
                    <a:lnTo>
                      <a:pt x="82" y="1449"/>
                    </a:lnTo>
                    <a:lnTo>
                      <a:pt x="95" y="1399"/>
                    </a:lnTo>
                    <a:lnTo>
                      <a:pt x="109" y="1349"/>
                    </a:lnTo>
                    <a:lnTo>
                      <a:pt x="125" y="1299"/>
                    </a:lnTo>
                    <a:lnTo>
                      <a:pt x="141" y="1250"/>
                    </a:lnTo>
                    <a:lnTo>
                      <a:pt x="158" y="1201"/>
                    </a:lnTo>
                    <a:lnTo>
                      <a:pt x="178" y="1153"/>
                    </a:lnTo>
                    <a:lnTo>
                      <a:pt x="197" y="1106"/>
                    </a:lnTo>
                    <a:lnTo>
                      <a:pt x="218" y="1059"/>
                    </a:lnTo>
                    <a:lnTo>
                      <a:pt x="239" y="1013"/>
                    </a:lnTo>
                    <a:lnTo>
                      <a:pt x="263" y="968"/>
                    </a:lnTo>
                    <a:lnTo>
                      <a:pt x="286" y="923"/>
                    </a:lnTo>
                    <a:lnTo>
                      <a:pt x="311" y="879"/>
                    </a:lnTo>
                    <a:lnTo>
                      <a:pt x="336" y="835"/>
                    </a:lnTo>
                    <a:lnTo>
                      <a:pt x="364" y="792"/>
                    </a:lnTo>
                    <a:lnTo>
                      <a:pt x="391" y="749"/>
                    </a:lnTo>
                    <a:lnTo>
                      <a:pt x="420" y="707"/>
                    </a:lnTo>
                    <a:lnTo>
                      <a:pt x="450" y="667"/>
                    </a:lnTo>
                    <a:lnTo>
                      <a:pt x="481" y="625"/>
                    </a:lnTo>
                    <a:lnTo>
                      <a:pt x="506" y="594"/>
                    </a:lnTo>
                    <a:lnTo>
                      <a:pt x="531" y="564"/>
                    </a:lnTo>
                    <a:lnTo>
                      <a:pt x="557" y="533"/>
                    </a:lnTo>
                    <a:lnTo>
                      <a:pt x="583" y="504"/>
                    </a:lnTo>
                    <a:lnTo>
                      <a:pt x="610" y="476"/>
                    </a:lnTo>
                    <a:lnTo>
                      <a:pt x="637" y="448"/>
                    </a:lnTo>
                    <a:lnTo>
                      <a:pt x="665" y="421"/>
                    </a:lnTo>
                    <a:lnTo>
                      <a:pt x="694" y="394"/>
                    </a:lnTo>
                    <a:lnTo>
                      <a:pt x="722" y="370"/>
                    </a:lnTo>
                    <a:lnTo>
                      <a:pt x="752" y="344"/>
                    </a:lnTo>
                    <a:lnTo>
                      <a:pt x="782" y="321"/>
                    </a:lnTo>
                    <a:lnTo>
                      <a:pt x="813" y="297"/>
                    </a:lnTo>
                    <a:lnTo>
                      <a:pt x="845" y="275"/>
                    </a:lnTo>
                    <a:lnTo>
                      <a:pt x="876" y="254"/>
                    </a:lnTo>
                    <a:lnTo>
                      <a:pt x="909" y="233"/>
                    </a:lnTo>
                    <a:lnTo>
                      <a:pt x="943" y="213"/>
                    </a:lnTo>
                    <a:lnTo>
                      <a:pt x="976" y="193"/>
                    </a:lnTo>
                    <a:lnTo>
                      <a:pt x="1011" y="175"/>
                    </a:lnTo>
                    <a:lnTo>
                      <a:pt x="1046" y="158"/>
                    </a:lnTo>
                    <a:lnTo>
                      <a:pt x="1081" y="140"/>
                    </a:lnTo>
                    <a:lnTo>
                      <a:pt x="1116" y="125"/>
                    </a:lnTo>
                    <a:lnTo>
                      <a:pt x="1152" y="110"/>
                    </a:lnTo>
                    <a:lnTo>
                      <a:pt x="1189" y="96"/>
                    </a:lnTo>
                    <a:lnTo>
                      <a:pt x="1226" y="83"/>
                    </a:lnTo>
                    <a:lnTo>
                      <a:pt x="1263" y="71"/>
                    </a:lnTo>
                    <a:lnTo>
                      <a:pt x="1301" y="60"/>
                    </a:lnTo>
                    <a:lnTo>
                      <a:pt x="1339" y="50"/>
                    </a:lnTo>
                    <a:lnTo>
                      <a:pt x="1378" y="40"/>
                    </a:lnTo>
                    <a:lnTo>
                      <a:pt x="1417" y="32"/>
                    </a:lnTo>
                    <a:lnTo>
                      <a:pt x="1455" y="24"/>
                    </a:lnTo>
                    <a:lnTo>
                      <a:pt x="1495" y="18"/>
                    </a:lnTo>
                    <a:lnTo>
                      <a:pt x="1535" y="12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004080" y="5570640"/>
                <a:ext cx="399960" cy="449280"/>
              </a:xfrm>
              <a:custGeom>
                <a:avLst/>
                <a:gdLst/>
                <a:ahLst/>
                <a:rect l="l" t="t" r="r" b="b"/>
                <a:pathLst>
                  <a:path w="1263" h="1417">
                    <a:moveTo>
                      <a:pt x="59" y="1262"/>
                    </a:moveTo>
                    <a:lnTo>
                      <a:pt x="52" y="1104"/>
                    </a:lnTo>
                    <a:lnTo>
                      <a:pt x="45" y="946"/>
                    </a:lnTo>
                    <a:lnTo>
                      <a:pt x="37" y="789"/>
                    </a:lnTo>
                    <a:lnTo>
                      <a:pt x="29" y="631"/>
                    </a:lnTo>
                    <a:lnTo>
                      <a:pt x="22" y="472"/>
                    </a:lnTo>
                    <a:lnTo>
                      <a:pt x="14" y="315"/>
                    </a:lnTo>
                    <a:lnTo>
                      <a:pt x="7" y="158"/>
                    </a:lnTo>
                    <a:lnTo>
                      <a:pt x="0" y="0"/>
                    </a:lnTo>
                    <a:lnTo>
                      <a:pt x="142" y="9"/>
                    </a:lnTo>
                    <a:lnTo>
                      <a:pt x="287" y="20"/>
                    </a:lnTo>
                    <a:lnTo>
                      <a:pt x="434" y="29"/>
                    </a:lnTo>
                    <a:lnTo>
                      <a:pt x="583" y="39"/>
                    </a:lnTo>
                    <a:lnTo>
                      <a:pt x="734" y="48"/>
                    </a:lnTo>
                    <a:lnTo>
                      <a:pt x="886" y="58"/>
                    </a:lnTo>
                    <a:lnTo>
                      <a:pt x="1039" y="69"/>
                    </a:lnTo>
                    <a:lnTo>
                      <a:pt x="1193" y="78"/>
                    </a:lnTo>
                    <a:lnTo>
                      <a:pt x="1202" y="245"/>
                    </a:lnTo>
                    <a:lnTo>
                      <a:pt x="1210" y="412"/>
                    </a:lnTo>
                    <a:lnTo>
                      <a:pt x="1219" y="580"/>
                    </a:lnTo>
                    <a:lnTo>
                      <a:pt x="1227" y="747"/>
                    </a:lnTo>
                    <a:lnTo>
                      <a:pt x="1237" y="914"/>
                    </a:lnTo>
                    <a:lnTo>
                      <a:pt x="1245" y="1081"/>
                    </a:lnTo>
                    <a:lnTo>
                      <a:pt x="1254" y="1250"/>
                    </a:lnTo>
                    <a:lnTo>
                      <a:pt x="1263" y="1417"/>
                    </a:lnTo>
                    <a:lnTo>
                      <a:pt x="1108" y="1398"/>
                    </a:lnTo>
                    <a:lnTo>
                      <a:pt x="954" y="1377"/>
                    </a:lnTo>
                    <a:lnTo>
                      <a:pt x="800" y="1358"/>
                    </a:lnTo>
                    <a:lnTo>
                      <a:pt x="648" y="1338"/>
                    </a:lnTo>
                    <a:lnTo>
                      <a:pt x="498" y="1319"/>
                    </a:lnTo>
                    <a:lnTo>
                      <a:pt x="349" y="1300"/>
                    </a:lnTo>
                    <a:lnTo>
                      <a:pt x="203" y="1281"/>
                    </a:lnTo>
                    <a:lnTo>
                      <a:pt x="59" y="1262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950080" y="4387680"/>
                <a:ext cx="426960" cy="1109880"/>
              </a:xfrm>
              <a:custGeom>
                <a:avLst/>
                <a:gdLst/>
                <a:ahLst/>
                <a:rect l="l" t="t" r="r" b="b"/>
                <a:pathLst>
                  <a:path w="1346" h="3495">
                    <a:moveTo>
                      <a:pt x="156" y="3435"/>
                    </a:moveTo>
                    <a:lnTo>
                      <a:pt x="145" y="3227"/>
                    </a:lnTo>
                    <a:lnTo>
                      <a:pt x="136" y="3017"/>
                    </a:lnTo>
                    <a:lnTo>
                      <a:pt x="126" y="2810"/>
                    </a:lnTo>
                    <a:lnTo>
                      <a:pt x="116" y="2602"/>
                    </a:lnTo>
                    <a:lnTo>
                      <a:pt x="107" y="2395"/>
                    </a:lnTo>
                    <a:lnTo>
                      <a:pt x="96" y="2187"/>
                    </a:lnTo>
                    <a:lnTo>
                      <a:pt x="87" y="1980"/>
                    </a:lnTo>
                    <a:lnTo>
                      <a:pt x="77" y="1774"/>
                    </a:lnTo>
                    <a:lnTo>
                      <a:pt x="68" y="1568"/>
                    </a:lnTo>
                    <a:lnTo>
                      <a:pt x="58" y="1363"/>
                    </a:lnTo>
                    <a:lnTo>
                      <a:pt x="48" y="1158"/>
                    </a:lnTo>
                    <a:lnTo>
                      <a:pt x="38" y="954"/>
                    </a:lnTo>
                    <a:lnTo>
                      <a:pt x="29" y="749"/>
                    </a:lnTo>
                    <a:lnTo>
                      <a:pt x="19" y="545"/>
                    </a:lnTo>
                    <a:lnTo>
                      <a:pt x="10" y="341"/>
                    </a:lnTo>
                    <a:lnTo>
                      <a:pt x="0" y="137"/>
                    </a:lnTo>
                    <a:lnTo>
                      <a:pt x="139" y="121"/>
                    </a:lnTo>
                    <a:lnTo>
                      <a:pt x="280" y="104"/>
                    </a:lnTo>
                    <a:lnTo>
                      <a:pt x="424" y="87"/>
                    </a:lnTo>
                    <a:lnTo>
                      <a:pt x="570" y="71"/>
                    </a:lnTo>
                    <a:lnTo>
                      <a:pt x="716" y="53"/>
                    </a:lnTo>
                    <a:lnTo>
                      <a:pt x="865" y="35"/>
                    </a:lnTo>
                    <a:lnTo>
                      <a:pt x="1014" y="18"/>
                    </a:lnTo>
                    <a:lnTo>
                      <a:pt x="1163" y="0"/>
                    </a:lnTo>
                    <a:lnTo>
                      <a:pt x="1175" y="215"/>
                    </a:lnTo>
                    <a:lnTo>
                      <a:pt x="1186" y="432"/>
                    </a:lnTo>
                    <a:lnTo>
                      <a:pt x="1198" y="648"/>
                    </a:lnTo>
                    <a:lnTo>
                      <a:pt x="1209" y="865"/>
                    </a:lnTo>
                    <a:lnTo>
                      <a:pt x="1221" y="1082"/>
                    </a:lnTo>
                    <a:lnTo>
                      <a:pt x="1232" y="1299"/>
                    </a:lnTo>
                    <a:lnTo>
                      <a:pt x="1243" y="1517"/>
                    </a:lnTo>
                    <a:lnTo>
                      <a:pt x="1254" y="1734"/>
                    </a:lnTo>
                    <a:lnTo>
                      <a:pt x="1266" y="1954"/>
                    </a:lnTo>
                    <a:lnTo>
                      <a:pt x="1278" y="2173"/>
                    </a:lnTo>
                    <a:lnTo>
                      <a:pt x="1289" y="2392"/>
                    </a:lnTo>
                    <a:lnTo>
                      <a:pt x="1300" y="2612"/>
                    </a:lnTo>
                    <a:lnTo>
                      <a:pt x="1312" y="2833"/>
                    </a:lnTo>
                    <a:lnTo>
                      <a:pt x="1324" y="3053"/>
                    </a:lnTo>
                    <a:lnTo>
                      <a:pt x="1335" y="3274"/>
                    </a:lnTo>
                    <a:lnTo>
                      <a:pt x="1346" y="3495"/>
                    </a:lnTo>
                    <a:lnTo>
                      <a:pt x="1193" y="3488"/>
                    </a:lnTo>
                    <a:lnTo>
                      <a:pt x="1041" y="3479"/>
                    </a:lnTo>
                    <a:lnTo>
                      <a:pt x="889" y="3471"/>
                    </a:lnTo>
                    <a:lnTo>
                      <a:pt x="739" y="3464"/>
                    </a:lnTo>
                    <a:lnTo>
                      <a:pt x="590" y="3456"/>
                    </a:lnTo>
                    <a:lnTo>
                      <a:pt x="443" y="3449"/>
                    </a:lnTo>
                    <a:lnTo>
                      <a:pt x="297" y="3442"/>
                    </a:lnTo>
                    <a:lnTo>
                      <a:pt x="156" y="3435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971880" y="4637160"/>
                <a:ext cx="12600" cy="647640"/>
              </a:xfrm>
              <a:custGeom>
                <a:avLst/>
                <a:gdLst/>
                <a:ahLst/>
                <a:rect l="l" t="t" r="r" b="b"/>
                <a:pathLst>
                  <a:path w="39" h="2043">
                    <a:moveTo>
                      <a:pt x="39" y="0"/>
                    </a:moveTo>
                    <a:lnTo>
                      <a:pt x="39" y="2043"/>
                    </a:lnTo>
                    <a:lnTo>
                      <a:pt x="38" y="1991"/>
                    </a:lnTo>
                    <a:lnTo>
                      <a:pt x="37" y="1938"/>
                    </a:lnTo>
                    <a:lnTo>
                      <a:pt x="36" y="1885"/>
                    </a:lnTo>
                    <a:lnTo>
                      <a:pt x="35" y="1833"/>
                    </a:lnTo>
                    <a:lnTo>
                      <a:pt x="34" y="1779"/>
                    </a:lnTo>
                    <a:lnTo>
                      <a:pt x="33" y="1727"/>
                    </a:lnTo>
                    <a:lnTo>
                      <a:pt x="31" y="1674"/>
                    </a:lnTo>
                    <a:lnTo>
                      <a:pt x="30" y="1622"/>
                    </a:lnTo>
                    <a:lnTo>
                      <a:pt x="26" y="1418"/>
                    </a:lnTo>
                    <a:lnTo>
                      <a:pt x="22" y="1215"/>
                    </a:lnTo>
                    <a:lnTo>
                      <a:pt x="19" y="1013"/>
                    </a:lnTo>
                    <a:lnTo>
                      <a:pt x="15" y="810"/>
                    </a:lnTo>
                    <a:lnTo>
                      <a:pt x="11" y="609"/>
                    </a:lnTo>
                    <a:lnTo>
                      <a:pt x="8" y="407"/>
                    </a:lnTo>
                    <a:lnTo>
                      <a:pt x="4" y="205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3" y="1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971880" y="4633920"/>
                <a:ext cx="27000" cy="1041480"/>
              </a:xfrm>
              <a:custGeom>
                <a:avLst/>
                <a:gdLst/>
                <a:ahLst/>
                <a:rect l="l" t="t" r="r" b="b"/>
                <a:pathLst>
                  <a:path w="85" h="3279">
                    <a:moveTo>
                      <a:pt x="85" y="0"/>
                    </a:moveTo>
                    <a:lnTo>
                      <a:pt x="85" y="3279"/>
                    </a:lnTo>
                    <a:lnTo>
                      <a:pt x="82" y="3279"/>
                    </a:lnTo>
                    <a:lnTo>
                      <a:pt x="79" y="3279"/>
                    </a:lnTo>
                    <a:lnTo>
                      <a:pt x="76" y="3278"/>
                    </a:lnTo>
                    <a:lnTo>
                      <a:pt x="73" y="3278"/>
                    </a:lnTo>
                    <a:lnTo>
                      <a:pt x="70" y="3277"/>
                    </a:lnTo>
                    <a:lnTo>
                      <a:pt x="67" y="3277"/>
                    </a:lnTo>
                    <a:lnTo>
                      <a:pt x="64" y="3277"/>
                    </a:lnTo>
                    <a:lnTo>
                      <a:pt x="61" y="3276"/>
                    </a:lnTo>
                    <a:lnTo>
                      <a:pt x="57" y="3069"/>
                    </a:lnTo>
                    <a:lnTo>
                      <a:pt x="53" y="2863"/>
                    </a:lnTo>
                    <a:lnTo>
                      <a:pt x="50" y="2657"/>
                    </a:lnTo>
                    <a:lnTo>
                      <a:pt x="46" y="2450"/>
                    </a:lnTo>
                    <a:lnTo>
                      <a:pt x="42" y="2244"/>
                    </a:lnTo>
                    <a:lnTo>
                      <a:pt x="38" y="2039"/>
                    </a:lnTo>
                    <a:lnTo>
                      <a:pt x="35" y="1834"/>
                    </a:lnTo>
                    <a:lnTo>
                      <a:pt x="30" y="1629"/>
                    </a:lnTo>
                    <a:lnTo>
                      <a:pt x="26" y="1425"/>
                    </a:lnTo>
                    <a:lnTo>
                      <a:pt x="22" y="1222"/>
                    </a:lnTo>
                    <a:lnTo>
                      <a:pt x="19" y="1020"/>
                    </a:lnTo>
                    <a:lnTo>
                      <a:pt x="15" y="817"/>
                    </a:lnTo>
                    <a:lnTo>
                      <a:pt x="11" y="616"/>
                    </a:lnTo>
                    <a:lnTo>
                      <a:pt x="8" y="414"/>
                    </a:lnTo>
                    <a:lnTo>
                      <a:pt x="4" y="212"/>
                    </a:lnTo>
                    <a:lnTo>
                      <a:pt x="0" y="11"/>
                    </a:lnTo>
                    <a:lnTo>
                      <a:pt x="11" y="10"/>
                    </a:lnTo>
                    <a:lnTo>
                      <a:pt x="21" y="9"/>
                    </a:lnTo>
                    <a:lnTo>
                      <a:pt x="31" y="7"/>
                    </a:lnTo>
                    <a:lnTo>
                      <a:pt x="43" y="6"/>
                    </a:lnTo>
                    <a:lnTo>
                      <a:pt x="53" y="5"/>
                    </a:lnTo>
                    <a:lnTo>
                      <a:pt x="64" y="4"/>
                    </a:lnTo>
                    <a:lnTo>
                      <a:pt x="74" y="2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984480" y="4632480"/>
                <a:ext cx="30240" cy="1044360"/>
              </a:xfrm>
              <a:custGeom>
                <a:avLst/>
                <a:gdLst/>
                <a:ahLst/>
                <a:rect l="l" t="t" r="r" b="b"/>
                <a:pathLst>
                  <a:path w="93" h="3290">
                    <a:moveTo>
                      <a:pt x="0" y="2055"/>
                    </a:moveTo>
                    <a:lnTo>
                      <a:pt x="0" y="12"/>
                    </a:lnTo>
                    <a:lnTo>
                      <a:pt x="11" y="10"/>
                    </a:lnTo>
                    <a:lnTo>
                      <a:pt x="22" y="9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3290"/>
                    </a:lnTo>
                    <a:lnTo>
                      <a:pt x="84" y="3289"/>
                    </a:lnTo>
                    <a:lnTo>
                      <a:pt x="75" y="3288"/>
                    </a:lnTo>
                    <a:lnTo>
                      <a:pt x="66" y="3287"/>
                    </a:lnTo>
                    <a:lnTo>
                      <a:pt x="58" y="3286"/>
                    </a:lnTo>
                    <a:lnTo>
                      <a:pt x="49" y="3285"/>
                    </a:lnTo>
                    <a:lnTo>
                      <a:pt x="39" y="3283"/>
                    </a:lnTo>
                    <a:lnTo>
                      <a:pt x="31" y="3282"/>
                    </a:lnTo>
                    <a:lnTo>
                      <a:pt x="22" y="3281"/>
                    </a:lnTo>
                    <a:lnTo>
                      <a:pt x="19" y="3127"/>
                    </a:lnTo>
                    <a:lnTo>
                      <a:pt x="16" y="2974"/>
                    </a:lnTo>
                    <a:lnTo>
                      <a:pt x="14" y="2820"/>
                    </a:lnTo>
                    <a:lnTo>
                      <a:pt x="11" y="2667"/>
                    </a:lnTo>
                    <a:lnTo>
                      <a:pt x="8" y="2514"/>
                    </a:lnTo>
                    <a:lnTo>
                      <a:pt x="5" y="2361"/>
                    </a:lnTo>
                    <a:lnTo>
                      <a:pt x="2" y="2208"/>
                    </a:lnTo>
                    <a:lnTo>
                      <a:pt x="0" y="205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998880" y="4630680"/>
                <a:ext cx="30240" cy="1047960"/>
              </a:xfrm>
              <a:custGeom>
                <a:avLst/>
                <a:gdLst/>
                <a:ahLst/>
                <a:rect l="l" t="t" r="r" b="b"/>
                <a:pathLst>
                  <a:path w="94" h="3302">
                    <a:moveTo>
                      <a:pt x="0" y="3290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5" y="7"/>
                    </a:lnTo>
                    <a:lnTo>
                      <a:pt x="47" y="6"/>
                    </a:lnTo>
                    <a:lnTo>
                      <a:pt x="59" y="5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302"/>
                    </a:lnTo>
                    <a:lnTo>
                      <a:pt x="82" y="3301"/>
                    </a:lnTo>
                    <a:lnTo>
                      <a:pt x="70" y="3299"/>
                    </a:lnTo>
                    <a:lnTo>
                      <a:pt x="59" y="3298"/>
                    </a:lnTo>
                    <a:lnTo>
                      <a:pt x="47" y="3296"/>
                    </a:lnTo>
                    <a:lnTo>
                      <a:pt x="35" y="3295"/>
                    </a:lnTo>
                    <a:lnTo>
                      <a:pt x="23" y="3293"/>
                    </a:lnTo>
                    <a:lnTo>
                      <a:pt x="12" y="3292"/>
                    </a:lnTo>
                    <a:lnTo>
                      <a:pt x="0" y="3290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014720" y="4629240"/>
                <a:ext cx="28800" cy="1052280"/>
              </a:xfrm>
              <a:custGeom>
                <a:avLst/>
                <a:gdLst/>
                <a:ahLst/>
                <a:rect l="l" t="t" r="r" b="b"/>
                <a:pathLst>
                  <a:path w="94" h="3313">
                    <a:moveTo>
                      <a:pt x="0" y="3301"/>
                    </a:moveTo>
                    <a:lnTo>
                      <a:pt x="0" y="11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313"/>
                    </a:lnTo>
                    <a:lnTo>
                      <a:pt x="81" y="3311"/>
                    </a:lnTo>
                    <a:lnTo>
                      <a:pt x="70" y="3310"/>
                    </a:lnTo>
                    <a:lnTo>
                      <a:pt x="58" y="3308"/>
                    </a:lnTo>
                    <a:lnTo>
                      <a:pt x="47" y="3307"/>
                    </a:lnTo>
                    <a:lnTo>
                      <a:pt x="35" y="3306"/>
                    </a:lnTo>
                    <a:lnTo>
                      <a:pt x="23" y="3304"/>
                    </a:lnTo>
                    <a:lnTo>
                      <a:pt x="12" y="3303"/>
                    </a:lnTo>
                    <a:lnTo>
                      <a:pt x="0" y="3301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029120" y="4629240"/>
                <a:ext cx="30240" cy="1054080"/>
              </a:xfrm>
              <a:custGeom>
                <a:avLst/>
                <a:gdLst/>
                <a:ahLst/>
                <a:rect l="l" t="t" r="r" b="b"/>
                <a:pathLst>
                  <a:path w="93" h="3321">
                    <a:moveTo>
                      <a:pt x="0" y="3309"/>
                    </a:moveTo>
                    <a:lnTo>
                      <a:pt x="0" y="7"/>
                    </a:lnTo>
                    <a:lnTo>
                      <a:pt x="8" y="6"/>
                    </a:lnTo>
                    <a:lnTo>
                      <a:pt x="16" y="5"/>
                    </a:lnTo>
                    <a:lnTo>
                      <a:pt x="24" y="4"/>
                    </a:lnTo>
                    <a:lnTo>
                      <a:pt x="33" y="4"/>
                    </a:lnTo>
                    <a:lnTo>
                      <a:pt x="41" y="3"/>
                    </a:lnTo>
                    <a:lnTo>
                      <a:pt x="50" y="2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69" y="5"/>
                    </a:lnTo>
                    <a:lnTo>
                      <a:pt x="73" y="10"/>
                    </a:lnTo>
                    <a:lnTo>
                      <a:pt x="76" y="15"/>
                    </a:lnTo>
                    <a:lnTo>
                      <a:pt x="79" y="22"/>
                    </a:lnTo>
                    <a:lnTo>
                      <a:pt x="83" y="27"/>
                    </a:lnTo>
                    <a:lnTo>
                      <a:pt x="86" y="32"/>
                    </a:lnTo>
                    <a:lnTo>
                      <a:pt x="89" y="38"/>
                    </a:lnTo>
                    <a:lnTo>
                      <a:pt x="93" y="43"/>
                    </a:lnTo>
                    <a:lnTo>
                      <a:pt x="93" y="3321"/>
                    </a:lnTo>
                    <a:lnTo>
                      <a:pt x="81" y="3319"/>
                    </a:lnTo>
                    <a:lnTo>
                      <a:pt x="70" y="3318"/>
                    </a:lnTo>
                    <a:lnTo>
                      <a:pt x="58" y="3316"/>
                    </a:lnTo>
                    <a:lnTo>
                      <a:pt x="47" y="3315"/>
                    </a:lnTo>
                    <a:lnTo>
                      <a:pt x="34" y="3313"/>
                    </a:lnTo>
                    <a:lnTo>
                      <a:pt x="23" y="3312"/>
                    </a:lnTo>
                    <a:lnTo>
                      <a:pt x="11" y="3311"/>
                    </a:lnTo>
                    <a:lnTo>
                      <a:pt x="0" y="3309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043520" y="4629240"/>
                <a:ext cx="29880" cy="1055520"/>
              </a:xfrm>
              <a:custGeom>
                <a:avLst/>
                <a:gdLst/>
                <a:ahLst/>
                <a:rect l="l" t="t" r="r" b="b"/>
                <a:pathLst>
                  <a:path w="93" h="3327">
                    <a:moveTo>
                      <a:pt x="0" y="3315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37" y="29"/>
                    </a:lnTo>
                    <a:lnTo>
                      <a:pt x="46" y="44"/>
                    </a:lnTo>
                    <a:lnTo>
                      <a:pt x="56" y="58"/>
                    </a:lnTo>
                    <a:lnTo>
                      <a:pt x="65" y="74"/>
                    </a:lnTo>
                    <a:lnTo>
                      <a:pt x="74" y="88"/>
                    </a:lnTo>
                    <a:lnTo>
                      <a:pt x="83" y="102"/>
                    </a:lnTo>
                    <a:lnTo>
                      <a:pt x="93" y="117"/>
                    </a:lnTo>
                    <a:lnTo>
                      <a:pt x="93" y="3327"/>
                    </a:lnTo>
                    <a:lnTo>
                      <a:pt x="81" y="3325"/>
                    </a:lnTo>
                    <a:lnTo>
                      <a:pt x="70" y="3324"/>
                    </a:lnTo>
                    <a:lnTo>
                      <a:pt x="58" y="3322"/>
                    </a:lnTo>
                    <a:lnTo>
                      <a:pt x="46" y="3321"/>
                    </a:lnTo>
                    <a:lnTo>
                      <a:pt x="34" y="3319"/>
                    </a:lnTo>
                    <a:lnTo>
                      <a:pt x="23" y="3318"/>
                    </a:lnTo>
                    <a:lnTo>
                      <a:pt x="11" y="3316"/>
                    </a:lnTo>
                    <a:lnTo>
                      <a:pt x="0" y="33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059360" y="4641840"/>
                <a:ext cx="28440" cy="1044720"/>
              </a:xfrm>
              <a:custGeom>
                <a:avLst/>
                <a:gdLst/>
                <a:ahLst/>
                <a:rect l="l" t="t" r="r" b="b"/>
                <a:pathLst>
                  <a:path w="93" h="3289">
                    <a:moveTo>
                      <a:pt x="0" y="3278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9" y="93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9"/>
                    </a:lnTo>
                    <a:lnTo>
                      <a:pt x="93" y="3289"/>
                    </a:lnTo>
                    <a:lnTo>
                      <a:pt x="82" y="3288"/>
                    </a:lnTo>
                    <a:lnTo>
                      <a:pt x="70" y="3286"/>
                    </a:lnTo>
                    <a:lnTo>
                      <a:pt x="59" y="3285"/>
                    </a:lnTo>
                    <a:lnTo>
                      <a:pt x="46" y="3284"/>
                    </a:lnTo>
                    <a:lnTo>
                      <a:pt x="35" y="3282"/>
                    </a:lnTo>
                    <a:lnTo>
                      <a:pt x="24" y="3281"/>
                    </a:lnTo>
                    <a:lnTo>
                      <a:pt x="12" y="3279"/>
                    </a:lnTo>
                    <a:lnTo>
                      <a:pt x="0" y="3278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073400" y="4665600"/>
                <a:ext cx="30240" cy="1022400"/>
              </a:xfrm>
              <a:custGeom>
                <a:avLst/>
                <a:gdLst/>
                <a:ahLst/>
                <a:rect l="l" t="t" r="r" b="b"/>
                <a:pathLst>
                  <a:path w="93" h="3222">
                    <a:moveTo>
                      <a:pt x="0" y="3210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3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9" y="92"/>
                    </a:lnTo>
                    <a:lnTo>
                      <a:pt x="70" y="112"/>
                    </a:lnTo>
                    <a:lnTo>
                      <a:pt x="82" y="130"/>
                    </a:lnTo>
                    <a:lnTo>
                      <a:pt x="93" y="148"/>
                    </a:lnTo>
                    <a:lnTo>
                      <a:pt x="93" y="3222"/>
                    </a:lnTo>
                    <a:lnTo>
                      <a:pt x="82" y="3221"/>
                    </a:lnTo>
                    <a:lnTo>
                      <a:pt x="70" y="3218"/>
                    </a:lnTo>
                    <a:lnTo>
                      <a:pt x="59" y="3217"/>
                    </a:lnTo>
                    <a:lnTo>
                      <a:pt x="46" y="3215"/>
                    </a:lnTo>
                    <a:lnTo>
                      <a:pt x="35" y="3214"/>
                    </a:lnTo>
                    <a:lnTo>
                      <a:pt x="23" y="3213"/>
                    </a:lnTo>
                    <a:lnTo>
                      <a:pt x="12" y="3211"/>
                    </a:lnTo>
                    <a:lnTo>
                      <a:pt x="0" y="3210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087800" y="4689360"/>
                <a:ext cx="30240" cy="1001880"/>
              </a:xfrm>
              <a:custGeom>
                <a:avLst/>
                <a:gdLst/>
                <a:ahLst/>
                <a:rect l="l" t="t" r="r" b="b"/>
                <a:pathLst>
                  <a:path w="94" h="3153">
                    <a:moveTo>
                      <a:pt x="0" y="3140"/>
                    </a:moveTo>
                    <a:lnTo>
                      <a:pt x="0" y="0"/>
                    </a:lnTo>
                    <a:lnTo>
                      <a:pt x="13" y="18"/>
                    </a:lnTo>
                    <a:lnTo>
                      <a:pt x="24" y="37"/>
                    </a:lnTo>
                    <a:lnTo>
                      <a:pt x="36" y="55"/>
                    </a:lnTo>
                    <a:lnTo>
                      <a:pt x="47" y="73"/>
                    </a:lnTo>
                    <a:lnTo>
                      <a:pt x="60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8"/>
                    </a:lnTo>
                    <a:lnTo>
                      <a:pt x="94" y="3153"/>
                    </a:lnTo>
                    <a:lnTo>
                      <a:pt x="82" y="3152"/>
                    </a:lnTo>
                    <a:lnTo>
                      <a:pt x="71" y="3150"/>
                    </a:lnTo>
                    <a:lnTo>
                      <a:pt x="60" y="3149"/>
                    </a:lnTo>
                    <a:lnTo>
                      <a:pt x="47" y="3147"/>
                    </a:lnTo>
                    <a:lnTo>
                      <a:pt x="36" y="3146"/>
                    </a:lnTo>
                    <a:lnTo>
                      <a:pt x="24" y="3143"/>
                    </a:lnTo>
                    <a:lnTo>
                      <a:pt x="13" y="3142"/>
                    </a:lnTo>
                    <a:lnTo>
                      <a:pt x="0" y="3140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103640" y="4713120"/>
                <a:ext cx="28800" cy="979560"/>
              </a:xfrm>
              <a:custGeom>
                <a:avLst/>
                <a:gdLst/>
                <a:ahLst/>
                <a:rect l="l" t="t" r="r" b="b"/>
                <a:pathLst>
                  <a:path w="94" h="3086">
                    <a:moveTo>
                      <a:pt x="0" y="3074"/>
                    </a:moveTo>
                    <a:lnTo>
                      <a:pt x="0" y="0"/>
                    </a:lnTo>
                    <a:lnTo>
                      <a:pt x="13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1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3086"/>
                    </a:lnTo>
                    <a:lnTo>
                      <a:pt x="82" y="3084"/>
                    </a:lnTo>
                    <a:lnTo>
                      <a:pt x="71" y="3083"/>
                    </a:lnTo>
                    <a:lnTo>
                      <a:pt x="59" y="3082"/>
                    </a:lnTo>
                    <a:lnTo>
                      <a:pt x="47" y="3080"/>
                    </a:lnTo>
                    <a:lnTo>
                      <a:pt x="35" y="3079"/>
                    </a:lnTo>
                    <a:lnTo>
                      <a:pt x="24" y="3077"/>
                    </a:lnTo>
                    <a:lnTo>
                      <a:pt x="13" y="3076"/>
                    </a:lnTo>
                    <a:lnTo>
                      <a:pt x="0" y="3074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118040" y="4737240"/>
                <a:ext cx="30240" cy="957240"/>
              </a:xfrm>
              <a:custGeom>
                <a:avLst/>
                <a:gdLst/>
                <a:ahLst/>
                <a:rect l="l" t="t" r="r" b="b"/>
                <a:pathLst>
                  <a:path w="94" h="3017">
                    <a:moveTo>
                      <a:pt x="0" y="3005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6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9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3017"/>
                    </a:lnTo>
                    <a:lnTo>
                      <a:pt x="82" y="3015"/>
                    </a:lnTo>
                    <a:lnTo>
                      <a:pt x="71" y="3014"/>
                    </a:lnTo>
                    <a:lnTo>
                      <a:pt x="59" y="3012"/>
                    </a:lnTo>
                    <a:lnTo>
                      <a:pt x="47" y="3011"/>
                    </a:lnTo>
                    <a:lnTo>
                      <a:pt x="35" y="3009"/>
                    </a:lnTo>
                    <a:lnTo>
                      <a:pt x="24" y="3008"/>
                    </a:lnTo>
                    <a:lnTo>
                      <a:pt x="12" y="3007"/>
                    </a:lnTo>
                    <a:lnTo>
                      <a:pt x="0" y="300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132440" y="4759200"/>
                <a:ext cx="29880" cy="936720"/>
              </a:xfrm>
              <a:custGeom>
                <a:avLst/>
                <a:gdLst/>
                <a:ahLst/>
                <a:rect l="l" t="t" r="r" b="b"/>
                <a:pathLst>
                  <a:path w="94" h="2950">
                    <a:moveTo>
                      <a:pt x="0" y="2938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1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2950"/>
                    </a:lnTo>
                    <a:lnTo>
                      <a:pt x="82" y="2948"/>
                    </a:lnTo>
                    <a:lnTo>
                      <a:pt x="71" y="2947"/>
                    </a:lnTo>
                    <a:lnTo>
                      <a:pt x="59" y="2945"/>
                    </a:lnTo>
                    <a:lnTo>
                      <a:pt x="47" y="2944"/>
                    </a:lnTo>
                    <a:lnTo>
                      <a:pt x="35" y="2942"/>
                    </a:lnTo>
                    <a:lnTo>
                      <a:pt x="24" y="2941"/>
                    </a:lnTo>
                    <a:lnTo>
                      <a:pt x="12" y="2939"/>
                    </a:lnTo>
                    <a:lnTo>
                      <a:pt x="0" y="2938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148280" y="4782960"/>
                <a:ext cx="28440" cy="914400"/>
              </a:xfrm>
              <a:custGeom>
                <a:avLst/>
                <a:gdLst/>
                <a:ahLst/>
                <a:rect l="l" t="t" r="r" b="b"/>
                <a:pathLst>
                  <a:path w="93" h="2881">
                    <a:moveTo>
                      <a:pt x="0" y="2870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5" y="56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0" y="111"/>
                    </a:lnTo>
                    <a:lnTo>
                      <a:pt x="82" y="130"/>
                    </a:lnTo>
                    <a:lnTo>
                      <a:pt x="93" y="149"/>
                    </a:lnTo>
                    <a:lnTo>
                      <a:pt x="93" y="1444"/>
                    </a:lnTo>
                    <a:lnTo>
                      <a:pt x="89" y="1437"/>
                    </a:lnTo>
                    <a:lnTo>
                      <a:pt x="86" y="1430"/>
                    </a:lnTo>
                    <a:lnTo>
                      <a:pt x="82" y="1424"/>
                    </a:lnTo>
                    <a:lnTo>
                      <a:pt x="78" y="1416"/>
                    </a:lnTo>
                    <a:lnTo>
                      <a:pt x="74" y="1409"/>
                    </a:lnTo>
                    <a:lnTo>
                      <a:pt x="70" y="1402"/>
                    </a:lnTo>
                    <a:lnTo>
                      <a:pt x="66" y="1396"/>
                    </a:lnTo>
                    <a:lnTo>
                      <a:pt x="62" y="1389"/>
                    </a:lnTo>
                    <a:lnTo>
                      <a:pt x="64" y="1482"/>
                    </a:lnTo>
                    <a:lnTo>
                      <a:pt x="66" y="1575"/>
                    </a:lnTo>
                    <a:lnTo>
                      <a:pt x="68" y="1667"/>
                    </a:lnTo>
                    <a:lnTo>
                      <a:pt x="70" y="1760"/>
                    </a:lnTo>
                    <a:lnTo>
                      <a:pt x="72" y="1854"/>
                    </a:lnTo>
                    <a:lnTo>
                      <a:pt x="74" y="1947"/>
                    </a:lnTo>
                    <a:lnTo>
                      <a:pt x="76" y="2040"/>
                    </a:lnTo>
                    <a:lnTo>
                      <a:pt x="79" y="2132"/>
                    </a:lnTo>
                    <a:lnTo>
                      <a:pt x="81" y="2223"/>
                    </a:lnTo>
                    <a:lnTo>
                      <a:pt x="82" y="2313"/>
                    </a:lnTo>
                    <a:lnTo>
                      <a:pt x="84" y="2403"/>
                    </a:lnTo>
                    <a:lnTo>
                      <a:pt x="86" y="2493"/>
                    </a:lnTo>
                    <a:lnTo>
                      <a:pt x="88" y="2582"/>
                    </a:lnTo>
                    <a:lnTo>
                      <a:pt x="90" y="2672"/>
                    </a:lnTo>
                    <a:lnTo>
                      <a:pt x="91" y="2763"/>
                    </a:lnTo>
                    <a:lnTo>
                      <a:pt x="93" y="2853"/>
                    </a:lnTo>
                    <a:lnTo>
                      <a:pt x="93" y="2881"/>
                    </a:lnTo>
                    <a:lnTo>
                      <a:pt x="82" y="2880"/>
                    </a:lnTo>
                    <a:lnTo>
                      <a:pt x="70" y="2879"/>
                    </a:lnTo>
                    <a:lnTo>
                      <a:pt x="59" y="2877"/>
                    </a:lnTo>
                    <a:lnTo>
                      <a:pt x="46" y="2876"/>
                    </a:lnTo>
                    <a:lnTo>
                      <a:pt x="35" y="2874"/>
                    </a:lnTo>
                    <a:lnTo>
                      <a:pt x="24" y="2873"/>
                    </a:lnTo>
                    <a:lnTo>
                      <a:pt x="12" y="2871"/>
                    </a:lnTo>
                    <a:lnTo>
                      <a:pt x="0" y="2870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162320" y="4807080"/>
                <a:ext cx="30240" cy="890280"/>
              </a:xfrm>
              <a:custGeom>
                <a:avLst/>
                <a:gdLst/>
                <a:ahLst/>
                <a:rect l="l" t="t" r="r" b="b"/>
                <a:pathLst>
                  <a:path w="93" h="2807">
                    <a:moveTo>
                      <a:pt x="0" y="2802"/>
                    </a:moveTo>
                    <a:lnTo>
                      <a:pt x="0" y="0"/>
                    </a:lnTo>
                    <a:lnTo>
                      <a:pt x="11" y="16"/>
                    </a:lnTo>
                    <a:lnTo>
                      <a:pt x="21" y="33"/>
                    </a:lnTo>
                    <a:lnTo>
                      <a:pt x="31" y="49"/>
                    </a:lnTo>
                    <a:lnTo>
                      <a:pt x="41" y="64"/>
                    </a:lnTo>
                    <a:lnTo>
                      <a:pt x="51" y="81"/>
                    </a:lnTo>
                    <a:lnTo>
                      <a:pt x="62" y="97"/>
                    </a:lnTo>
                    <a:lnTo>
                      <a:pt x="72" y="113"/>
                    </a:lnTo>
                    <a:lnTo>
                      <a:pt x="82" y="130"/>
                    </a:lnTo>
                    <a:lnTo>
                      <a:pt x="83" y="133"/>
                    </a:lnTo>
                    <a:lnTo>
                      <a:pt x="85" y="135"/>
                    </a:lnTo>
                    <a:lnTo>
                      <a:pt x="86" y="137"/>
                    </a:lnTo>
                    <a:lnTo>
                      <a:pt x="87" y="139"/>
                    </a:lnTo>
                    <a:lnTo>
                      <a:pt x="89" y="142"/>
                    </a:lnTo>
                    <a:lnTo>
                      <a:pt x="90" y="144"/>
                    </a:lnTo>
                    <a:lnTo>
                      <a:pt x="92" y="146"/>
                    </a:lnTo>
                    <a:lnTo>
                      <a:pt x="93" y="149"/>
                    </a:lnTo>
                    <a:lnTo>
                      <a:pt x="93" y="1450"/>
                    </a:lnTo>
                    <a:lnTo>
                      <a:pt x="83" y="1432"/>
                    </a:lnTo>
                    <a:lnTo>
                      <a:pt x="74" y="1416"/>
                    </a:lnTo>
                    <a:lnTo>
                      <a:pt x="64" y="1399"/>
                    </a:lnTo>
                    <a:lnTo>
                      <a:pt x="53" y="1382"/>
                    </a:lnTo>
                    <a:lnTo>
                      <a:pt x="44" y="1365"/>
                    </a:lnTo>
                    <a:lnTo>
                      <a:pt x="34" y="1349"/>
                    </a:lnTo>
                    <a:lnTo>
                      <a:pt x="25" y="1331"/>
                    </a:lnTo>
                    <a:lnTo>
                      <a:pt x="15" y="1315"/>
                    </a:lnTo>
                    <a:lnTo>
                      <a:pt x="17" y="1408"/>
                    </a:lnTo>
                    <a:lnTo>
                      <a:pt x="19" y="1501"/>
                    </a:lnTo>
                    <a:lnTo>
                      <a:pt x="21" y="1593"/>
                    </a:lnTo>
                    <a:lnTo>
                      <a:pt x="23" y="1686"/>
                    </a:lnTo>
                    <a:lnTo>
                      <a:pt x="25" y="1780"/>
                    </a:lnTo>
                    <a:lnTo>
                      <a:pt x="27" y="1873"/>
                    </a:lnTo>
                    <a:lnTo>
                      <a:pt x="29" y="1966"/>
                    </a:lnTo>
                    <a:lnTo>
                      <a:pt x="32" y="2058"/>
                    </a:lnTo>
                    <a:lnTo>
                      <a:pt x="34" y="2152"/>
                    </a:lnTo>
                    <a:lnTo>
                      <a:pt x="36" y="2246"/>
                    </a:lnTo>
                    <a:lnTo>
                      <a:pt x="37" y="2339"/>
                    </a:lnTo>
                    <a:lnTo>
                      <a:pt x="39" y="2433"/>
                    </a:lnTo>
                    <a:lnTo>
                      <a:pt x="41" y="2527"/>
                    </a:lnTo>
                    <a:lnTo>
                      <a:pt x="43" y="2620"/>
                    </a:lnTo>
                    <a:lnTo>
                      <a:pt x="45" y="2714"/>
                    </a:lnTo>
                    <a:lnTo>
                      <a:pt x="47" y="2807"/>
                    </a:lnTo>
                    <a:lnTo>
                      <a:pt x="41" y="2807"/>
                    </a:lnTo>
                    <a:lnTo>
                      <a:pt x="35" y="2806"/>
                    </a:lnTo>
                    <a:lnTo>
                      <a:pt x="29" y="2805"/>
                    </a:lnTo>
                    <a:lnTo>
                      <a:pt x="24" y="2805"/>
                    </a:lnTo>
                    <a:lnTo>
                      <a:pt x="18" y="2804"/>
                    </a:lnTo>
                    <a:lnTo>
                      <a:pt x="12" y="2803"/>
                    </a:lnTo>
                    <a:lnTo>
                      <a:pt x="5" y="2802"/>
                    </a:lnTo>
                    <a:lnTo>
                      <a:pt x="0" y="2802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176720" y="4830840"/>
                <a:ext cx="30240" cy="866520"/>
              </a:xfrm>
              <a:custGeom>
                <a:avLst/>
                <a:gdLst/>
                <a:ahLst/>
                <a:rect l="l" t="t" r="r" b="b"/>
                <a:pathLst>
                  <a:path w="94" h="2732">
                    <a:moveTo>
                      <a:pt x="0" y="2732"/>
                    </a:moveTo>
                    <a:lnTo>
                      <a:pt x="0" y="2704"/>
                    </a:lnTo>
                    <a:lnTo>
                      <a:pt x="0" y="2707"/>
                    </a:lnTo>
                    <a:lnTo>
                      <a:pt x="1" y="2711"/>
                    </a:lnTo>
                    <a:lnTo>
                      <a:pt x="1" y="2715"/>
                    </a:lnTo>
                    <a:lnTo>
                      <a:pt x="1" y="2718"/>
                    </a:lnTo>
                    <a:lnTo>
                      <a:pt x="1" y="2722"/>
                    </a:lnTo>
                    <a:lnTo>
                      <a:pt x="1" y="2725"/>
                    </a:lnTo>
                    <a:lnTo>
                      <a:pt x="1" y="2729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0" y="2732"/>
                    </a:lnTo>
                    <a:lnTo>
                      <a:pt x="0" y="2732"/>
                    </a:lnTo>
                    <a:close/>
                    <a:moveTo>
                      <a:pt x="0" y="1295"/>
                    </a:moveTo>
                    <a:lnTo>
                      <a:pt x="0" y="0"/>
                    </a:lnTo>
                    <a:lnTo>
                      <a:pt x="5" y="7"/>
                    </a:lnTo>
                    <a:lnTo>
                      <a:pt x="9" y="13"/>
                    </a:lnTo>
                    <a:lnTo>
                      <a:pt x="14" y="20"/>
                    </a:lnTo>
                    <a:lnTo>
                      <a:pt x="19" y="27"/>
                    </a:lnTo>
                    <a:lnTo>
                      <a:pt x="23" y="34"/>
                    </a:lnTo>
                    <a:lnTo>
                      <a:pt x="27" y="41"/>
                    </a:lnTo>
                    <a:lnTo>
                      <a:pt x="31" y="47"/>
                    </a:lnTo>
                    <a:lnTo>
                      <a:pt x="36" y="55"/>
                    </a:lnTo>
                    <a:lnTo>
                      <a:pt x="43" y="67"/>
                    </a:lnTo>
                    <a:lnTo>
                      <a:pt x="50" y="78"/>
                    </a:lnTo>
                    <a:lnTo>
                      <a:pt x="57" y="89"/>
                    </a:lnTo>
                    <a:lnTo>
                      <a:pt x="65" y="102"/>
                    </a:lnTo>
                    <a:lnTo>
                      <a:pt x="72" y="113"/>
                    </a:lnTo>
                    <a:lnTo>
                      <a:pt x="80" y="124"/>
                    </a:lnTo>
                    <a:lnTo>
                      <a:pt x="87" y="136"/>
                    </a:lnTo>
                    <a:lnTo>
                      <a:pt x="94" y="147"/>
                    </a:lnTo>
                    <a:lnTo>
                      <a:pt x="94" y="1454"/>
                    </a:lnTo>
                    <a:lnTo>
                      <a:pt x="82" y="1434"/>
                    </a:lnTo>
                    <a:lnTo>
                      <a:pt x="71" y="1414"/>
                    </a:lnTo>
                    <a:lnTo>
                      <a:pt x="58" y="1394"/>
                    </a:lnTo>
                    <a:lnTo>
                      <a:pt x="47" y="1373"/>
                    </a:lnTo>
                    <a:lnTo>
                      <a:pt x="36" y="1354"/>
                    </a:lnTo>
                    <a:lnTo>
                      <a:pt x="24" y="1334"/>
                    </a:lnTo>
                    <a:lnTo>
                      <a:pt x="13" y="1314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192560" y="4854600"/>
                <a:ext cx="30240" cy="461880"/>
              </a:xfrm>
              <a:custGeom>
                <a:avLst/>
                <a:gdLst/>
                <a:ahLst/>
                <a:rect l="l" t="t" r="r" b="b"/>
                <a:pathLst>
                  <a:path w="94" h="1459">
                    <a:moveTo>
                      <a:pt x="0" y="1301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8" y="92"/>
                    </a:lnTo>
                    <a:lnTo>
                      <a:pt x="71" y="110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1459"/>
                    </a:lnTo>
                    <a:lnTo>
                      <a:pt x="82" y="1439"/>
                    </a:lnTo>
                    <a:lnTo>
                      <a:pt x="71" y="1419"/>
                    </a:lnTo>
                    <a:lnTo>
                      <a:pt x="58" y="1399"/>
                    </a:lnTo>
                    <a:lnTo>
                      <a:pt x="47" y="1379"/>
                    </a:lnTo>
                    <a:lnTo>
                      <a:pt x="35" y="1360"/>
                    </a:lnTo>
                    <a:lnTo>
                      <a:pt x="24" y="1340"/>
                    </a:lnTo>
                    <a:lnTo>
                      <a:pt x="12" y="1320"/>
                    </a:lnTo>
                    <a:lnTo>
                      <a:pt x="0" y="1301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206960" y="4876920"/>
                <a:ext cx="30240" cy="465120"/>
              </a:xfrm>
              <a:custGeom>
                <a:avLst/>
                <a:gdLst/>
                <a:ahLst/>
                <a:rect l="l" t="t" r="r" b="b"/>
                <a:pathLst>
                  <a:path w="94" h="1465">
                    <a:moveTo>
                      <a:pt x="0" y="1307"/>
                    </a:moveTo>
                    <a:lnTo>
                      <a:pt x="0" y="0"/>
                    </a:lnTo>
                    <a:lnTo>
                      <a:pt x="11" y="19"/>
                    </a:lnTo>
                    <a:lnTo>
                      <a:pt x="24" y="37"/>
                    </a:lnTo>
                    <a:lnTo>
                      <a:pt x="35" y="56"/>
                    </a:lnTo>
                    <a:lnTo>
                      <a:pt x="47" y="74"/>
                    </a:lnTo>
                    <a:lnTo>
                      <a:pt x="58" y="93"/>
                    </a:lnTo>
                    <a:lnTo>
                      <a:pt x="71" y="112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1465"/>
                    </a:lnTo>
                    <a:lnTo>
                      <a:pt x="82" y="1445"/>
                    </a:lnTo>
                    <a:lnTo>
                      <a:pt x="71" y="1425"/>
                    </a:lnTo>
                    <a:lnTo>
                      <a:pt x="58" y="1405"/>
                    </a:lnTo>
                    <a:lnTo>
                      <a:pt x="47" y="1386"/>
                    </a:lnTo>
                    <a:lnTo>
                      <a:pt x="35" y="1366"/>
                    </a:lnTo>
                    <a:lnTo>
                      <a:pt x="24" y="1346"/>
                    </a:lnTo>
                    <a:lnTo>
                      <a:pt x="11" y="1326"/>
                    </a:lnTo>
                    <a:lnTo>
                      <a:pt x="0" y="1307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222800" y="4900680"/>
                <a:ext cx="28440" cy="466560"/>
              </a:xfrm>
              <a:custGeom>
                <a:avLst/>
                <a:gdLst/>
                <a:ahLst/>
                <a:rect l="l" t="t" r="r" b="b"/>
                <a:pathLst>
                  <a:path w="94" h="1469">
                    <a:moveTo>
                      <a:pt x="0" y="1311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8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1469"/>
                    </a:lnTo>
                    <a:lnTo>
                      <a:pt x="82" y="1449"/>
                    </a:lnTo>
                    <a:lnTo>
                      <a:pt x="71" y="1429"/>
                    </a:lnTo>
                    <a:lnTo>
                      <a:pt x="58" y="1410"/>
                    </a:lnTo>
                    <a:lnTo>
                      <a:pt x="47" y="1390"/>
                    </a:lnTo>
                    <a:lnTo>
                      <a:pt x="35" y="1370"/>
                    </a:lnTo>
                    <a:lnTo>
                      <a:pt x="24" y="1350"/>
                    </a:lnTo>
                    <a:lnTo>
                      <a:pt x="11" y="1331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237200" y="4924440"/>
                <a:ext cx="29880" cy="468360"/>
              </a:xfrm>
              <a:custGeom>
                <a:avLst/>
                <a:gdLst/>
                <a:ahLst/>
                <a:rect l="l" t="t" r="r" b="b"/>
                <a:pathLst>
                  <a:path w="93" h="1474">
                    <a:moveTo>
                      <a:pt x="0" y="1317"/>
                    </a:moveTo>
                    <a:lnTo>
                      <a:pt x="0" y="0"/>
                    </a:lnTo>
                    <a:lnTo>
                      <a:pt x="11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8" y="92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8"/>
                    </a:lnTo>
                    <a:lnTo>
                      <a:pt x="93" y="1474"/>
                    </a:lnTo>
                    <a:lnTo>
                      <a:pt x="82" y="1455"/>
                    </a:lnTo>
                    <a:lnTo>
                      <a:pt x="70" y="1435"/>
                    </a:lnTo>
                    <a:lnTo>
                      <a:pt x="58" y="1415"/>
                    </a:lnTo>
                    <a:lnTo>
                      <a:pt x="46" y="1396"/>
                    </a:lnTo>
                    <a:lnTo>
                      <a:pt x="35" y="1376"/>
                    </a:lnTo>
                    <a:lnTo>
                      <a:pt x="24" y="1356"/>
                    </a:lnTo>
                    <a:lnTo>
                      <a:pt x="11" y="1337"/>
                    </a:lnTo>
                    <a:lnTo>
                      <a:pt x="0" y="131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251240" y="4948200"/>
                <a:ext cx="30240" cy="469800"/>
              </a:xfrm>
              <a:custGeom>
                <a:avLst/>
                <a:gdLst/>
                <a:ahLst/>
                <a:rect l="l" t="t" r="r" b="b"/>
                <a:pathLst>
                  <a:path w="93" h="1480">
                    <a:moveTo>
                      <a:pt x="0" y="1322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23" y="37"/>
                    </a:lnTo>
                    <a:lnTo>
                      <a:pt x="35" y="55"/>
                    </a:lnTo>
                    <a:lnTo>
                      <a:pt x="46" y="73"/>
                    </a:lnTo>
                    <a:lnTo>
                      <a:pt x="58" y="92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8"/>
                    </a:lnTo>
                    <a:lnTo>
                      <a:pt x="93" y="1480"/>
                    </a:lnTo>
                    <a:lnTo>
                      <a:pt x="82" y="1460"/>
                    </a:lnTo>
                    <a:lnTo>
                      <a:pt x="70" y="1440"/>
                    </a:lnTo>
                    <a:lnTo>
                      <a:pt x="58" y="1421"/>
                    </a:lnTo>
                    <a:lnTo>
                      <a:pt x="46" y="1401"/>
                    </a:lnTo>
                    <a:lnTo>
                      <a:pt x="35" y="1381"/>
                    </a:lnTo>
                    <a:lnTo>
                      <a:pt x="23" y="1361"/>
                    </a:lnTo>
                    <a:lnTo>
                      <a:pt x="11" y="1342"/>
                    </a:lnTo>
                    <a:lnTo>
                      <a:pt x="0" y="1322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267080" y="4970520"/>
                <a:ext cx="28800" cy="471600"/>
              </a:xfrm>
              <a:custGeom>
                <a:avLst/>
                <a:gdLst/>
                <a:ahLst/>
                <a:rect l="l" t="t" r="r" b="b"/>
                <a:pathLst>
                  <a:path w="94" h="1485">
                    <a:moveTo>
                      <a:pt x="0" y="1326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6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0"/>
                    </a:lnTo>
                    <a:lnTo>
                      <a:pt x="82" y="129"/>
                    </a:lnTo>
                    <a:lnTo>
                      <a:pt x="94" y="147"/>
                    </a:lnTo>
                    <a:lnTo>
                      <a:pt x="94" y="1485"/>
                    </a:lnTo>
                    <a:lnTo>
                      <a:pt x="83" y="1466"/>
                    </a:lnTo>
                    <a:lnTo>
                      <a:pt x="71" y="1446"/>
                    </a:lnTo>
                    <a:lnTo>
                      <a:pt x="59" y="1426"/>
                    </a:lnTo>
                    <a:lnTo>
                      <a:pt x="47" y="1406"/>
                    </a:lnTo>
                    <a:lnTo>
                      <a:pt x="36" y="1386"/>
                    </a:lnTo>
                    <a:lnTo>
                      <a:pt x="24" y="1366"/>
                    </a:lnTo>
                    <a:lnTo>
                      <a:pt x="12" y="1347"/>
                    </a:lnTo>
                    <a:lnTo>
                      <a:pt x="0" y="1326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281480" y="4994280"/>
                <a:ext cx="30240" cy="473040"/>
              </a:xfrm>
              <a:custGeom>
                <a:avLst/>
                <a:gdLst/>
                <a:ahLst/>
                <a:rect l="l" t="t" r="r" b="b"/>
                <a:pathLst>
                  <a:path w="94" h="1491">
                    <a:moveTo>
                      <a:pt x="0" y="1332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6"/>
                    </a:lnTo>
                    <a:lnTo>
                      <a:pt x="36" y="55"/>
                    </a:lnTo>
                    <a:lnTo>
                      <a:pt x="47" y="73"/>
                    </a:lnTo>
                    <a:lnTo>
                      <a:pt x="58" y="91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1491"/>
                    </a:lnTo>
                    <a:lnTo>
                      <a:pt x="82" y="1472"/>
                    </a:lnTo>
                    <a:lnTo>
                      <a:pt x="71" y="1451"/>
                    </a:lnTo>
                    <a:lnTo>
                      <a:pt x="59" y="1432"/>
                    </a:lnTo>
                    <a:lnTo>
                      <a:pt x="47" y="1411"/>
                    </a:lnTo>
                    <a:lnTo>
                      <a:pt x="36" y="1392"/>
                    </a:lnTo>
                    <a:lnTo>
                      <a:pt x="24" y="1372"/>
                    </a:lnTo>
                    <a:lnTo>
                      <a:pt x="12" y="1352"/>
                    </a:lnTo>
                    <a:lnTo>
                      <a:pt x="0" y="1332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295880" y="4595760"/>
                <a:ext cx="29880" cy="898560"/>
              </a:xfrm>
              <a:custGeom>
                <a:avLst/>
                <a:gdLst/>
                <a:ahLst/>
                <a:rect l="l" t="t" r="r" b="b"/>
                <a:pathLst>
                  <a:path w="94" h="2828">
                    <a:moveTo>
                      <a:pt x="0" y="2667"/>
                    </a:moveTo>
                    <a:lnTo>
                      <a:pt x="0" y="1329"/>
                    </a:lnTo>
                    <a:lnTo>
                      <a:pt x="11" y="1347"/>
                    </a:lnTo>
                    <a:lnTo>
                      <a:pt x="24" y="1366"/>
                    </a:lnTo>
                    <a:lnTo>
                      <a:pt x="35" y="1384"/>
                    </a:lnTo>
                    <a:lnTo>
                      <a:pt x="47" y="1404"/>
                    </a:lnTo>
                    <a:lnTo>
                      <a:pt x="58" y="1422"/>
                    </a:lnTo>
                    <a:lnTo>
                      <a:pt x="71" y="1440"/>
                    </a:lnTo>
                    <a:lnTo>
                      <a:pt x="82" y="1459"/>
                    </a:lnTo>
                    <a:lnTo>
                      <a:pt x="94" y="1477"/>
                    </a:lnTo>
                    <a:lnTo>
                      <a:pt x="94" y="2828"/>
                    </a:lnTo>
                    <a:lnTo>
                      <a:pt x="89" y="2818"/>
                    </a:lnTo>
                    <a:lnTo>
                      <a:pt x="83" y="2809"/>
                    </a:lnTo>
                    <a:lnTo>
                      <a:pt x="78" y="2800"/>
                    </a:lnTo>
                    <a:lnTo>
                      <a:pt x="73" y="2792"/>
                    </a:lnTo>
                    <a:lnTo>
                      <a:pt x="67" y="2783"/>
                    </a:lnTo>
                    <a:lnTo>
                      <a:pt x="62" y="2773"/>
                    </a:lnTo>
                    <a:lnTo>
                      <a:pt x="57" y="2764"/>
                    </a:lnTo>
                    <a:lnTo>
                      <a:pt x="52" y="2756"/>
                    </a:lnTo>
                    <a:lnTo>
                      <a:pt x="45" y="2745"/>
                    </a:lnTo>
                    <a:lnTo>
                      <a:pt x="39" y="2734"/>
                    </a:lnTo>
                    <a:lnTo>
                      <a:pt x="33" y="2722"/>
                    </a:lnTo>
                    <a:lnTo>
                      <a:pt x="26" y="2711"/>
                    </a:lnTo>
                    <a:lnTo>
                      <a:pt x="19" y="2701"/>
                    </a:lnTo>
                    <a:lnTo>
                      <a:pt x="13" y="2690"/>
                    </a:lnTo>
                    <a:lnTo>
                      <a:pt x="6" y="2679"/>
                    </a:lnTo>
                    <a:lnTo>
                      <a:pt x="0" y="2667"/>
                    </a:lnTo>
                    <a:close/>
                    <a:moveTo>
                      <a:pt x="94" y="0"/>
                    </a:moveTo>
                    <a:lnTo>
                      <a:pt x="94" y="3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11720" y="4594320"/>
                <a:ext cx="30240" cy="923760"/>
              </a:xfrm>
              <a:custGeom>
                <a:avLst/>
                <a:gdLst/>
                <a:ahLst/>
                <a:rect l="l" t="t" r="r" b="b"/>
                <a:pathLst>
                  <a:path w="94" h="2913">
                    <a:moveTo>
                      <a:pt x="0" y="2753"/>
                    </a:moveTo>
                    <a:lnTo>
                      <a:pt x="0" y="1409"/>
                    </a:lnTo>
                    <a:lnTo>
                      <a:pt x="10" y="1426"/>
                    </a:lnTo>
                    <a:lnTo>
                      <a:pt x="20" y="1442"/>
                    </a:lnTo>
                    <a:lnTo>
                      <a:pt x="31" y="1459"/>
                    </a:lnTo>
                    <a:lnTo>
                      <a:pt x="42" y="1475"/>
                    </a:lnTo>
                    <a:lnTo>
                      <a:pt x="52" y="1491"/>
                    </a:lnTo>
                    <a:lnTo>
                      <a:pt x="62" y="1509"/>
                    </a:lnTo>
                    <a:lnTo>
                      <a:pt x="73" y="1525"/>
                    </a:lnTo>
                    <a:lnTo>
                      <a:pt x="83" y="1541"/>
                    </a:lnTo>
                    <a:lnTo>
                      <a:pt x="81" y="1444"/>
                    </a:lnTo>
                    <a:lnTo>
                      <a:pt x="79" y="1348"/>
                    </a:lnTo>
                    <a:lnTo>
                      <a:pt x="76" y="1251"/>
                    </a:lnTo>
                    <a:lnTo>
                      <a:pt x="74" y="1156"/>
                    </a:lnTo>
                    <a:lnTo>
                      <a:pt x="72" y="1060"/>
                    </a:lnTo>
                    <a:lnTo>
                      <a:pt x="69" y="963"/>
                    </a:lnTo>
                    <a:lnTo>
                      <a:pt x="66" y="867"/>
                    </a:lnTo>
                    <a:lnTo>
                      <a:pt x="64" y="771"/>
                    </a:lnTo>
                    <a:lnTo>
                      <a:pt x="62" y="675"/>
                    </a:lnTo>
                    <a:lnTo>
                      <a:pt x="60" y="579"/>
                    </a:lnTo>
                    <a:lnTo>
                      <a:pt x="58" y="483"/>
                    </a:lnTo>
                    <a:lnTo>
                      <a:pt x="55" y="388"/>
                    </a:lnTo>
                    <a:lnTo>
                      <a:pt x="53" y="293"/>
                    </a:lnTo>
                    <a:lnTo>
                      <a:pt x="51" y="197"/>
                    </a:lnTo>
                    <a:lnTo>
                      <a:pt x="49" y="101"/>
                    </a:lnTo>
                    <a:lnTo>
                      <a:pt x="47" y="6"/>
                    </a:lnTo>
                    <a:lnTo>
                      <a:pt x="52" y="5"/>
                    </a:lnTo>
                    <a:lnTo>
                      <a:pt x="58" y="4"/>
                    </a:lnTo>
                    <a:lnTo>
                      <a:pt x="64" y="4"/>
                    </a:lnTo>
                    <a:lnTo>
                      <a:pt x="71" y="3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8" y="1"/>
                    </a:lnTo>
                    <a:lnTo>
                      <a:pt x="94" y="0"/>
                    </a:lnTo>
                    <a:lnTo>
                      <a:pt x="94" y="2913"/>
                    </a:lnTo>
                    <a:lnTo>
                      <a:pt x="83" y="2894"/>
                    </a:lnTo>
                    <a:lnTo>
                      <a:pt x="72" y="2875"/>
                    </a:lnTo>
                    <a:lnTo>
                      <a:pt x="60" y="2856"/>
                    </a:lnTo>
                    <a:lnTo>
                      <a:pt x="49" y="2837"/>
                    </a:lnTo>
                    <a:lnTo>
                      <a:pt x="38" y="2818"/>
                    </a:lnTo>
                    <a:lnTo>
                      <a:pt x="27" y="2800"/>
                    </a:lnTo>
                    <a:lnTo>
                      <a:pt x="16" y="2780"/>
                    </a:lnTo>
                    <a:lnTo>
                      <a:pt x="5" y="2762"/>
                    </a:lnTo>
                    <a:lnTo>
                      <a:pt x="4" y="2761"/>
                    </a:lnTo>
                    <a:lnTo>
                      <a:pt x="4" y="2760"/>
                    </a:lnTo>
                    <a:lnTo>
                      <a:pt x="3" y="2759"/>
                    </a:lnTo>
                    <a:lnTo>
                      <a:pt x="2" y="2757"/>
                    </a:lnTo>
                    <a:lnTo>
                      <a:pt x="2" y="2756"/>
                    </a:lnTo>
                    <a:lnTo>
                      <a:pt x="1" y="2755"/>
                    </a:lnTo>
                    <a:lnTo>
                      <a:pt x="0" y="2754"/>
                    </a:lnTo>
                    <a:lnTo>
                      <a:pt x="0" y="2753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325760" y="4592520"/>
                <a:ext cx="30240" cy="951120"/>
              </a:xfrm>
              <a:custGeom>
                <a:avLst/>
                <a:gdLst/>
                <a:ahLst/>
                <a:rect l="l" t="t" r="r" b="b"/>
                <a:pathLst>
                  <a:path w="93" h="2997">
                    <a:moveTo>
                      <a:pt x="0" y="2839"/>
                    </a:moveTo>
                    <a:lnTo>
                      <a:pt x="0" y="1488"/>
                    </a:lnTo>
                    <a:lnTo>
                      <a:pt x="4" y="1495"/>
                    </a:lnTo>
                    <a:lnTo>
                      <a:pt x="9" y="1502"/>
                    </a:lnTo>
                    <a:lnTo>
                      <a:pt x="13" y="1510"/>
                    </a:lnTo>
                    <a:lnTo>
                      <a:pt x="17" y="1518"/>
                    </a:lnTo>
                    <a:lnTo>
                      <a:pt x="22" y="1525"/>
                    </a:lnTo>
                    <a:lnTo>
                      <a:pt x="27" y="1532"/>
                    </a:lnTo>
                    <a:lnTo>
                      <a:pt x="32" y="1539"/>
                    </a:lnTo>
                    <a:lnTo>
                      <a:pt x="36" y="1546"/>
                    </a:lnTo>
                    <a:lnTo>
                      <a:pt x="34" y="1449"/>
                    </a:lnTo>
                    <a:lnTo>
                      <a:pt x="32" y="1353"/>
                    </a:lnTo>
                    <a:lnTo>
                      <a:pt x="29" y="1256"/>
                    </a:lnTo>
                    <a:lnTo>
                      <a:pt x="27" y="1161"/>
                    </a:lnTo>
                    <a:lnTo>
                      <a:pt x="25" y="1065"/>
                    </a:lnTo>
                    <a:lnTo>
                      <a:pt x="22" y="968"/>
                    </a:lnTo>
                    <a:lnTo>
                      <a:pt x="19" y="872"/>
                    </a:lnTo>
                    <a:lnTo>
                      <a:pt x="17" y="776"/>
                    </a:lnTo>
                    <a:lnTo>
                      <a:pt x="15" y="680"/>
                    </a:lnTo>
                    <a:lnTo>
                      <a:pt x="13" y="585"/>
                    </a:lnTo>
                    <a:lnTo>
                      <a:pt x="11" y="489"/>
                    </a:lnTo>
                    <a:lnTo>
                      <a:pt x="8" y="395"/>
                    </a:lnTo>
                    <a:lnTo>
                      <a:pt x="6" y="300"/>
                    </a:lnTo>
                    <a:lnTo>
                      <a:pt x="4" y="204"/>
                    </a:lnTo>
                    <a:lnTo>
                      <a:pt x="2" y="109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1" y="9"/>
                    </a:lnTo>
                    <a:lnTo>
                      <a:pt x="24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2997"/>
                    </a:lnTo>
                    <a:lnTo>
                      <a:pt x="82" y="2977"/>
                    </a:lnTo>
                    <a:lnTo>
                      <a:pt x="69" y="2957"/>
                    </a:lnTo>
                    <a:lnTo>
                      <a:pt x="58" y="2937"/>
                    </a:lnTo>
                    <a:lnTo>
                      <a:pt x="46" y="2917"/>
                    </a:lnTo>
                    <a:lnTo>
                      <a:pt x="35" y="2898"/>
                    </a:lnTo>
                    <a:lnTo>
                      <a:pt x="22" y="2877"/>
                    </a:lnTo>
                    <a:lnTo>
                      <a:pt x="11" y="2858"/>
                    </a:lnTo>
                    <a:lnTo>
                      <a:pt x="0" y="283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341960" y="4591080"/>
                <a:ext cx="28440" cy="977760"/>
              </a:xfrm>
              <a:custGeom>
                <a:avLst/>
                <a:gdLst/>
                <a:ahLst/>
                <a:rect l="l" t="t" r="r" b="b"/>
                <a:pathLst>
                  <a:path w="93" h="3081">
                    <a:moveTo>
                      <a:pt x="0" y="2923"/>
                    </a:moveTo>
                    <a:lnTo>
                      <a:pt x="0" y="10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5" y="6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2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3081"/>
                    </a:lnTo>
                    <a:lnTo>
                      <a:pt x="82" y="3061"/>
                    </a:lnTo>
                    <a:lnTo>
                      <a:pt x="69" y="3041"/>
                    </a:lnTo>
                    <a:lnTo>
                      <a:pt x="58" y="3021"/>
                    </a:lnTo>
                    <a:lnTo>
                      <a:pt x="46" y="3002"/>
                    </a:lnTo>
                    <a:lnTo>
                      <a:pt x="35" y="2982"/>
                    </a:lnTo>
                    <a:lnTo>
                      <a:pt x="22" y="2962"/>
                    </a:lnTo>
                    <a:lnTo>
                      <a:pt x="11" y="2942"/>
                    </a:lnTo>
                    <a:lnTo>
                      <a:pt x="0" y="2923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356000" y="4589640"/>
                <a:ext cx="30240" cy="1004760"/>
              </a:xfrm>
              <a:custGeom>
                <a:avLst/>
                <a:gdLst/>
                <a:ahLst/>
                <a:rect l="l" t="t" r="r" b="b"/>
                <a:pathLst>
                  <a:path w="94" h="3166">
                    <a:moveTo>
                      <a:pt x="0" y="300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6" y="7"/>
                    </a:lnTo>
                    <a:lnTo>
                      <a:pt x="47" y="6"/>
                    </a:lnTo>
                    <a:lnTo>
                      <a:pt x="59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166"/>
                    </a:lnTo>
                    <a:lnTo>
                      <a:pt x="82" y="3145"/>
                    </a:lnTo>
                    <a:lnTo>
                      <a:pt x="70" y="3126"/>
                    </a:lnTo>
                    <a:lnTo>
                      <a:pt x="58" y="3107"/>
                    </a:lnTo>
                    <a:lnTo>
                      <a:pt x="47" y="3086"/>
                    </a:lnTo>
                    <a:lnTo>
                      <a:pt x="36" y="3067"/>
                    </a:lnTo>
                    <a:lnTo>
                      <a:pt x="23" y="3047"/>
                    </a:lnTo>
                    <a:lnTo>
                      <a:pt x="12" y="3027"/>
                    </a:lnTo>
                    <a:lnTo>
                      <a:pt x="0" y="3008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370400" y="4587840"/>
                <a:ext cx="30240" cy="1030320"/>
              </a:xfrm>
              <a:custGeom>
                <a:avLst/>
                <a:gdLst/>
                <a:ahLst/>
                <a:rect l="l" t="t" r="r" b="b"/>
                <a:pathLst>
                  <a:path w="94" h="3249">
                    <a:moveTo>
                      <a:pt x="0" y="3092"/>
                    </a:moveTo>
                    <a:lnTo>
                      <a:pt x="0" y="11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3249"/>
                    </a:lnTo>
                    <a:lnTo>
                      <a:pt x="82" y="3230"/>
                    </a:lnTo>
                    <a:lnTo>
                      <a:pt x="70" y="3209"/>
                    </a:lnTo>
                    <a:lnTo>
                      <a:pt x="58" y="3190"/>
                    </a:lnTo>
                    <a:lnTo>
                      <a:pt x="47" y="3171"/>
                    </a:lnTo>
                    <a:lnTo>
                      <a:pt x="35" y="3150"/>
                    </a:lnTo>
                    <a:lnTo>
                      <a:pt x="23" y="3131"/>
                    </a:lnTo>
                    <a:lnTo>
                      <a:pt x="12" y="3112"/>
                    </a:lnTo>
                    <a:lnTo>
                      <a:pt x="0" y="3092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386240" y="4584600"/>
                <a:ext cx="28440" cy="1059120"/>
              </a:xfrm>
              <a:custGeom>
                <a:avLst/>
                <a:gdLst/>
                <a:ahLst/>
                <a:rect l="l" t="t" r="r" b="b"/>
                <a:pathLst>
                  <a:path w="94" h="3335">
                    <a:moveTo>
                      <a:pt x="0" y="3178"/>
                    </a:moveTo>
                    <a:lnTo>
                      <a:pt x="0" y="12"/>
                    </a:lnTo>
                    <a:lnTo>
                      <a:pt x="11" y="11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7" y="7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335"/>
                    </a:lnTo>
                    <a:lnTo>
                      <a:pt x="82" y="3315"/>
                    </a:lnTo>
                    <a:lnTo>
                      <a:pt x="70" y="3296"/>
                    </a:lnTo>
                    <a:lnTo>
                      <a:pt x="58" y="3276"/>
                    </a:lnTo>
                    <a:lnTo>
                      <a:pt x="47" y="3256"/>
                    </a:lnTo>
                    <a:lnTo>
                      <a:pt x="35" y="3237"/>
                    </a:lnTo>
                    <a:lnTo>
                      <a:pt x="23" y="3216"/>
                    </a:lnTo>
                    <a:lnTo>
                      <a:pt x="11" y="3197"/>
                    </a:lnTo>
                    <a:lnTo>
                      <a:pt x="0" y="3178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400640" y="4583160"/>
                <a:ext cx="30240" cy="1085760"/>
              </a:xfrm>
              <a:custGeom>
                <a:avLst/>
                <a:gdLst/>
                <a:ahLst/>
                <a:rect l="l" t="t" r="r" b="b"/>
                <a:pathLst>
                  <a:path w="94" h="3419">
                    <a:moveTo>
                      <a:pt x="0" y="3261"/>
                    </a:moveTo>
                    <a:lnTo>
                      <a:pt x="0" y="12"/>
                    </a:lnTo>
                    <a:lnTo>
                      <a:pt x="11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3419"/>
                    </a:lnTo>
                    <a:lnTo>
                      <a:pt x="82" y="3400"/>
                    </a:lnTo>
                    <a:lnTo>
                      <a:pt x="70" y="3380"/>
                    </a:lnTo>
                    <a:lnTo>
                      <a:pt x="58" y="3360"/>
                    </a:lnTo>
                    <a:lnTo>
                      <a:pt x="47" y="3340"/>
                    </a:lnTo>
                    <a:lnTo>
                      <a:pt x="35" y="3320"/>
                    </a:lnTo>
                    <a:lnTo>
                      <a:pt x="23" y="3301"/>
                    </a:lnTo>
                    <a:lnTo>
                      <a:pt x="11" y="3282"/>
                    </a:lnTo>
                    <a:lnTo>
                      <a:pt x="0" y="3261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414680" y="4581360"/>
                <a:ext cx="30240" cy="1113120"/>
              </a:xfrm>
              <a:custGeom>
                <a:avLst/>
                <a:gdLst/>
                <a:ahLst/>
                <a:rect l="l" t="t" r="r" b="b"/>
                <a:pathLst>
                  <a:path w="93" h="3505">
                    <a:moveTo>
                      <a:pt x="0" y="3346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2" y="9"/>
                    </a:lnTo>
                    <a:lnTo>
                      <a:pt x="35" y="7"/>
                    </a:lnTo>
                    <a:lnTo>
                      <a:pt x="46" y="6"/>
                    </a:lnTo>
                    <a:lnTo>
                      <a:pt x="58" y="5"/>
                    </a:lnTo>
                    <a:lnTo>
                      <a:pt x="69" y="3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3505"/>
                    </a:lnTo>
                    <a:lnTo>
                      <a:pt x="82" y="3485"/>
                    </a:lnTo>
                    <a:lnTo>
                      <a:pt x="69" y="3465"/>
                    </a:lnTo>
                    <a:lnTo>
                      <a:pt x="58" y="3445"/>
                    </a:lnTo>
                    <a:lnTo>
                      <a:pt x="46" y="3425"/>
                    </a:lnTo>
                    <a:lnTo>
                      <a:pt x="35" y="3406"/>
                    </a:lnTo>
                    <a:lnTo>
                      <a:pt x="23" y="3386"/>
                    </a:lnTo>
                    <a:lnTo>
                      <a:pt x="11" y="3366"/>
                    </a:lnTo>
                    <a:lnTo>
                      <a:pt x="0" y="3346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430880" y="4579920"/>
                <a:ext cx="28440" cy="1139760"/>
              </a:xfrm>
              <a:custGeom>
                <a:avLst/>
                <a:gdLst/>
                <a:ahLst/>
                <a:rect l="l" t="t" r="r" b="b"/>
                <a:pathLst>
                  <a:path w="93" h="3589">
                    <a:moveTo>
                      <a:pt x="0" y="343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2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3589"/>
                    </a:lnTo>
                    <a:lnTo>
                      <a:pt x="82" y="3569"/>
                    </a:lnTo>
                    <a:lnTo>
                      <a:pt x="69" y="3550"/>
                    </a:lnTo>
                    <a:lnTo>
                      <a:pt x="58" y="3529"/>
                    </a:lnTo>
                    <a:lnTo>
                      <a:pt x="46" y="3510"/>
                    </a:lnTo>
                    <a:lnTo>
                      <a:pt x="35" y="3490"/>
                    </a:lnTo>
                    <a:lnTo>
                      <a:pt x="22" y="3470"/>
                    </a:lnTo>
                    <a:lnTo>
                      <a:pt x="11" y="3450"/>
                    </a:lnTo>
                    <a:lnTo>
                      <a:pt x="0" y="343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444920" y="4578480"/>
                <a:ext cx="30240" cy="1157040"/>
              </a:xfrm>
              <a:custGeom>
                <a:avLst/>
                <a:gdLst/>
                <a:ahLst/>
                <a:rect l="l" t="t" r="r" b="b"/>
                <a:pathLst>
                  <a:path w="94" h="3646">
                    <a:moveTo>
                      <a:pt x="0" y="3515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6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646"/>
                    </a:lnTo>
                    <a:lnTo>
                      <a:pt x="92" y="3646"/>
                    </a:lnTo>
                    <a:lnTo>
                      <a:pt x="90" y="3646"/>
                    </a:lnTo>
                    <a:lnTo>
                      <a:pt x="88" y="3646"/>
                    </a:lnTo>
                    <a:lnTo>
                      <a:pt x="86" y="3645"/>
                    </a:lnTo>
                    <a:lnTo>
                      <a:pt x="83" y="3645"/>
                    </a:lnTo>
                    <a:lnTo>
                      <a:pt x="80" y="3645"/>
                    </a:lnTo>
                    <a:lnTo>
                      <a:pt x="78" y="3645"/>
                    </a:lnTo>
                    <a:lnTo>
                      <a:pt x="76" y="3644"/>
                    </a:lnTo>
                    <a:lnTo>
                      <a:pt x="67" y="3628"/>
                    </a:lnTo>
                    <a:lnTo>
                      <a:pt x="57" y="3612"/>
                    </a:lnTo>
                    <a:lnTo>
                      <a:pt x="48" y="3595"/>
                    </a:lnTo>
                    <a:lnTo>
                      <a:pt x="39" y="3579"/>
                    </a:lnTo>
                    <a:lnTo>
                      <a:pt x="28" y="3563"/>
                    </a:lnTo>
                    <a:lnTo>
                      <a:pt x="19" y="3547"/>
                    </a:lnTo>
                    <a:lnTo>
                      <a:pt x="10" y="3531"/>
                    </a:lnTo>
                    <a:lnTo>
                      <a:pt x="0" y="35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459320" y="4576680"/>
                <a:ext cx="30240" cy="1162080"/>
              </a:xfrm>
              <a:custGeom>
                <a:avLst/>
                <a:gdLst/>
                <a:ahLst/>
                <a:rect l="l" t="t" r="r" b="b"/>
                <a:pathLst>
                  <a:path w="94" h="3659">
                    <a:moveTo>
                      <a:pt x="0" y="3600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7" y="6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2"/>
                    </a:lnTo>
                    <a:lnTo>
                      <a:pt x="94" y="0"/>
                    </a:lnTo>
                    <a:lnTo>
                      <a:pt x="94" y="3659"/>
                    </a:lnTo>
                    <a:lnTo>
                      <a:pt x="86" y="3658"/>
                    </a:lnTo>
                    <a:lnTo>
                      <a:pt x="77" y="3657"/>
                    </a:lnTo>
                    <a:lnTo>
                      <a:pt x="69" y="3656"/>
                    </a:lnTo>
                    <a:lnTo>
                      <a:pt x="62" y="3655"/>
                    </a:lnTo>
                    <a:lnTo>
                      <a:pt x="54" y="3654"/>
                    </a:lnTo>
                    <a:lnTo>
                      <a:pt x="46" y="3652"/>
                    </a:lnTo>
                    <a:lnTo>
                      <a:pt x="38" y="3651"/>
                    </a:lnTo>
                    <a:lnTo>
                      <a:pt x="29" y="3650"/>
                    </a:lnTo>
                    <a:lnTo>
                      <a:pt x="26" y="3644"/>
                    </a:lnTo>
                    <a:lnTo>
                      <a:pt x="22" y="3638"/>
                    </a:lnTo>
                    <a:lnTo>
                      <a:pt x="18" y="3632"/>
                    </a:lnTo>
                    <a:lnTo>
                      <a:pt x="15" y="3625"/>
                    </a:lnTo>
                    <a:lnTo>
                      <a:pt x="11" y="3619"/>
                    </a:lnTo>
                    <a:lnTo>
                      <a:pt x="7" y="3613"/>
                    </a:lnTo>
                    <a:lnTo>
                      <a:pt x="4" y="3607"/>
                    </a:lnTo>
                    <a:lnTo>
                      <a:pt x="0" y="360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75160" y="4575240"/>
                <a:ext cx="30240" cy="1165320"/>
              </a:xfrm>
              <a:custGeom>
                <a:avLst/>
                <a:gdLst/>
                <a:ahLst/>
                <a:rect l="l" t="t" r="r" b="b"/>
                <a:pathLst>
                  <a:path w="94" h="3670">
                    <a:moveTo>
                      <a:pt x="0" y="3657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670"/>
                    </a:lnTo>
                    <a:lnTo>
                      <a:pt x="81" y="3669"/>
                    </a:lnTo>
                    <a:lnTo>
                      <a:pt x="70" y="3667"/>
                    </a:lnTo>
                    <a:lnTo>
                      <a:pt x="58" y="3666"/>
                    </a:lnTo>
                    <a:lnTo>
                      <a:pt x="47" y="3664"/>
                    </a:lnTo>
                    <a:lnTo>
                      <a:pt x="34" y="3663"/>
                    </a:lnTo>
                    <a:lnTo>
                      <a:pt x="23" y="3661"/>
                    </a:lnTo>
                    <a:lnTo>
                      <a:pt x="11" y="3660"/>
                    </a:lnTo>
                    <a:lnTo>
                      <a:pt x="0" y="365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89560" y="4573440"/>
                <a:ext cx="29880" cy="1168560"/>
              </a:xfrm>
              <a:custGeom>
                <a:avLst/>
                <a:gdLst/>
                <a:ahLst/>
                <a:rect l="l" t="t" r="r" b="b"/>
                <a:pathLst>
                  <a:path w="94" h="3682">
                    <a:moveTo>
                      <a:pt x="0" y="367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9"/>
                    </a:lnTo>
                    <a:lnTo>
                      <a:pt x="34" y="7"/>
                    </a:lnTo>
                    <a:lnTo>
                      <a:pt x="47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2"/>
                    </a:lnTo>
                    <a:lnTo>
                      <a:pt x="94" y="0"/>
                    </a:lnTo>
                    <a:lnTo>
                      <a:pt x="94" y="3682"/>
                    </a:lnTo>
                    <a:lnTo>
                      <a:pt x="81" y="3681"/>
                    </a:lnTo>
                    <a:lnTo>
                      <a:pt x="70" y="3679"/>
                    </a:lnTo>
                    <a:lnTo>
                      <a:pt x="58" y="3678"/>
                    </a:lnTo>
                    <a:lnTo>
                      <a:pt x="47" y="3676"/>
                    </a:lnTo>
                    <a:lnTo>
                      <a:pt x="34" y="3675"/>
                    </a:lnTo>
                    <a:lnTo>
                      <a:pt x="23" y="3673"/>
                    </a:lnTo>
                    <a:lnTo>
                      <a:pt x="11" y="3672"/>
                    </a:lnTo>
                    <a:lnTo>
                      <a:pt x="0" y="367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05400" y="4572000"/>
                <a:ext cx="28440" cy="1171440"/>
              </a:xfrm>
              <a:custGeom>
                <a:avLst/>
                <a:gdLst/>
                <a:ahLst/>
                <a:rect l="l" t="t" r="r" b="b"/>
                <a:pathLst>
                  <a:path w="93" h="3693">
                    <a:moveTo>
                      <a:pt x="0" y="3681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3693"/>
                    </a:lnTo>
                    <a:lnTo>
                      <a:pt x="81" y="3692"/>
                    </a:lnTo>
                    <a:lnTo>
                      <a:pt x="69" y="3690"/>
                    </a:lnTo>
                    <a:lnTo>
                      <a:pt x="58" y="3689"/>
                    </a:lnTo>
                    <a:lnTo>
                      <a:pt x="46" y="3687"/>
                    </a:lnTo>
                    <a:lnTo>
                      <a:pt x="34" y="3686"/>
                    </a:lnTo>
                    <a:lnTo>
                      <a:pt x="23" y="3684"/>
                    </a:lnTo>
                    <a:lnTo>
                      <a:pt x="11" y="3683"/>
                    </a:lnTo>
                    <a:lnTo>
                      <a:pt x="0" y="3681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19440" y="4570560"/>
                <a:ext cx="30240" cy="1174680"/>
              </a:xfrm>
              <a:custGeom>
                <a:avLst/>
                <a:gdLst/>
                <a:ahLst/>
                <a:rect l="l" t="t" r="r" b="b"/>
                <a:pathLst>
                  <a:path w="93" h="3701">
                    <a:moveTo>
                      <a:pt x="0" y="3689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5" y="6"/>
                    </a:lnTo>
                    <a:lnTo>
                      <a:pt x="23" y="5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48" y="2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68" y="132"/>
                    </a:lnTo>
                    <a:lnTo>
                      <a:pt x="71" y="265"/>
                    </a:lnTo>
                    <a:lnTo>
                      <a:pt x="75" y="397"/>
                    </a:lnTo>
                    <a:lnTo>
                      <a:pt x="78" y="531"/>
                    </a:lnTo>
                    <a:lnTo>
                      <a:pt x="82" y="664"/>
                    </a:lnTo>
                    <a:lnTo>
                      <a:pt x="85" y="797"/>
                    </a:lnTo>
                    <a:lnTo>
                      <a:pt x="90" y="931"/>
                    </a:lnTo>
                    <a:lnTo>
                      <a:pt x="93" y="1064"/>
                    </a:lnTo>
                    <a:lnTo>
                      <a:pt x="93" y="3701"/>
                    </a:lnTo>
                    <a:lnTo>
                      <a:pt x="81" y="3699"/>
                    </a:lnTo>
                    <a:lnTo>
                      <a:pt x="69" y="3698"/>
                    </a:lnTo>
                    <a:lnTo>
                      <a:pt x="58" y="3697"/>
                    </a:lnTo>
                    <a:lnTo>
                      <a:pt x="46" y="3695"/>
                    </a:lnTo>
                    <a:lnTo>
                      <a:pt x="34" y="3694"/>
                    </a:lnTo>
                    <a:lnTo>
                      <a:pt x="22" y="3692"/>
                    </a:lnTo>
                    <a:lnTo>
                      <a:pt x="11" y="3691"/>
                    </a:lnTo>
                    <a:lnTo>
                      <a:pt x="0" y="3689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33840" y="4570560"/>
                <a:ext cx="30240" cy="1177920"/>
              </a:xfrm>
              <a:custGeom>
                <a:avLst/>
                <a:gdLst/>
                <a:ahLst/>
                <a:rect l="l" t="t" r="r" b="b"/>
                <a:pathLst>
                  <a:path w="94" h="3707">
                    <a:moveTo>
                      <a:pt x="0" y="3695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4" y="228"/>
                    </a:lnTo>
                    <a:lnTo>
                      <a:pt x="30" y="456"/>
                    </a:lnTo>
                    <a:lnTo>
                      <a:pt x="36" y="686"/>
                    </a:lnTo>
                    <a:lnTo>
                      <a:pt x="43" y="915"/>
                    </a:lnTo>
                    <a:lnTo>
                      <a:pt x="49" y="1146"/>
                    </a:lnTo>
                    <a:lnTo>
                      <a:pt x="55" y="1375"/>
                    </a:lnTo>
                    <a:lnTo>
                      <a:pt x="61" y="1606"/>
                    </a:lnTo>
                    <a:lnTo>
                      <a:pt x="68" y="1838"/>
                    </a:lnTo>
                    <a:lnTo>
                      <a:pt x="71" y="1955"/>
                    </a:lnTo>
                    <a:lnTo>
                      <a:pt x="74" y="2073"/>
                    </a:lnTo>
                    <a:lnTo>
                      <a:pt x="77" y="2190"/>
                    </a:lnTo>
                    <a:lnTo>
                      <a:pt x="80" y="2309"/>
                    </a:lnTo>
                    <a:lnTo>
                      <a:pt x="83" y="2426"/>
                    </a:lnTo>
                    <a:lnTo>
                      <a:pt x="87" y="2544"/>
                    </a:lnTo>
                    <a:lnTo>
                      <a:pt x="91" y="2663"/>
                    </a:lnTo>
                    <a:lnTo>
                      <a:pt x="94" y="2781"/>
                    </a:lnTo>
                    <a:lnTo>
                      <a:pt x="94" y="3707"/>
                    </a:lnTo>
                    <a:lnTo>
                      <a:pt x="81" y="3705"/>
                    </a:lnTo>
                    <a:lnTo>
                      <a:pt x="70" y="3704"/>
                    </a:lnTo>
                    <a:lnTo>
                      <a:pt x="59" y="3702"/>
                    </a:lnTo>
                    <a:lnTo>
                      <a:pt x="47" y="3701"/>
                    </a:lnTo>
                    <a:lnTo>
                      <a:pt x="35" y="3700"/>
                    </a:lnTo>
                    <a:lnTo>
                      <a:pt x="23" y="3698"/>
                    </a:lnTo>
                    <a:lnTo>
                      <a:pt x="12" y="3697"/>
                    </a:lnTo>
                    <a:lnTo>
                      <a:pt x="0" y="369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49680" y="4908600"/>
                <a:ext cx="22320" cy="839880"/>
              </a:xfrm>
              <a:custGeom>
                <a:avLst/>
                <a:gdLst/>
                <a:ahLst/>
                <a:rect l="l" t="t" r="r" b="b"/>
                <a:pathLst>
                  <a:path w="71" h="2646">
                    <a:moveTo>
                      <a:pt x="0" y="2637"/>
                    </a:moveTo>
                    <a:lnTo>
                      <a:pt x="0" y="0"/>
                    </a:lnTo>
                    <a:lnTo>
                      <a:pt x="3" y="96"/>
                    </a:lnTo>
                    <a:lnTo>
                      <a:pt x="5" y="193"/>
                    </a:lnTo>
                    <a:lnTo>
                      <a:pt x="8" y="290"/>
                    </a:lnTo>
                    <a:lnTo>
                      <a:pt x="10" y="386"/>
                    </a:lnTo>
                    <a:lnTo>
                      <a:pt x="13" y="483"/>
                    </a:lnTo>
                    <a:lnTo>
                      <a:pt x="15" y="580"/>
                    </a:lnTo>
                    <a:lnTo>
                      <a:pt x="18" y="677"/>
                    </a:lnTo>
                    <a:lnTo>
                      <a:pt x="21" y="774"/>
                    </a:lnTo>
                    <a:lnTo>
                      <a:pt x="27" y="1006"/>
                    </a:lnTo>
                    <a:lnTo>
                      <a:pt x="33" y="1240"/>
                    </a:lnTo>
                    <a:lnTo>
                      <a:pt x="39" y="1473"/>
                    </a:lnTo>
                    <a:lnTo>
                      <a:pt x="47" y="1707"/>
                    </a:lnTo>
                    <a:lnTo>
                      <a:pt x="53" y="1941"/>
                    </a:lnTo>
                    <a:lnTo>
                      <a:pt x="59" y="2176"/>
                    </a:lnTo>
                    <a:lnTo>
                      <a:pt x="65" y="2411"/>
                    </a:lnTo>
                    <a:lnTo>
                      <a:pt x="71" y="2646"/>
                    </a:lnTo>
                    <a:lnTo>
                      <a:pt x="62" y="2645"/>
                    </a:lnTo>
                    <a:lnTo>
                      <a:pt x="53" y="2644"/>
                    </a:lnTo>
                    <a:lnTo>
                      <a:pt x="45" y="2643"/>
                    </a:lnTo>
                    <a:lnTo>
                      <a:pt x="35" y="2641"/>
                    </a:lnTo>
                    <a:lnTo>
                      <a:pt x="26" y="2640"/>
                    </a:lnTo>
                    <a:lnTo>
                      <a:pt x="18" y="2639"/>
                    </a:lnTo>
                    <a:lnTo>
                      <a:pt x="9" y="2638"/>
                    </a:lnTo>
                    <a:lnTo>
                      <a:pt x="0" y="2637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64080" y="5452920"/>
                <a:ext cx="7920" cy="295560"/>
              </a:xfrm>
              <a:custGeom>
                <a:avLst/>
                <a:gdLst/>
                <a:ahLst/>
                <a:rect l="l" t="t" r="r" b="b"/>
                <a:pathLst>
                  <a:path w="24" h="929">
                    <a:moveTo>
                      <a:pt x="0" y="926"/>
                    </a:moveTo>
                    <a:lnTo>
                      <a:pt x="0" y="0"/>
                    </a:lnTo>
                    <a:lnTo>
                      <a:pt x="3" y="115"/>
                    </a:lnTo>
                    <a:lnTo>
                      <a:pt x="6" y="232"/>
                    </a:lnTo>
                    <a:lnTo>
                      <a:pt x="9" y="348"/>
                    </a:lnTo>
                    <a:lnTo>
                      <a:pt x="12" y="464"/>
                    </a:lnTo>
                    <a:lnTo>
                      <a:pt x="15" y="580"/>
                    </a:lnTo>
                    <a:lnTo>
                      <a:pt x="18" y="697"/>
                    </a:lnTo>
                    <a:lnTo>
                      <a:pt x="21" y="813"/>
                    </a:lnTo>
                    <a:lnTo>
                      <a:pt x="24" y="929"/>
                    </a:lnTo>
                    <a:lnTo>
                      <a:pt x="21" y="928"/>
                    </a:lnTo>
                    <a:lnTo>
                      <a:pt x="18" y="928"/>
                    </a:lnTo>
                    <a:lnTo>
                      <a:pt x="15" y="928"/>
                    </a:lnTo>
                    <a:lnTo>
                      <a:pt x="12" y="927"/>
                    </a:lnTo>
                    <a:lnTo>
                      <a:pt x="9" y="927"/>
                    </a:lnTo>
                    <a:lnTo>
                      <a:pt x="6" y="927"/>
                    </a:lnTo>
                    <a:lnTo>
                      <a:pt x="3" y="926"/>
                    </a:lnTo>
                    <a:lnTo>
                      <a:pt x="0" y="92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665600" y="5064120"/>
                <a:ext cx="1800" cy="130320"/>
              </a:xfrm>
              <a:custGeom>
                <a:avLst/>
                <a:gdLst/>
                <a:ahLst/>
                <a:rect l="l" t="t" r="r" b="b"/>
                <a:pathLst>
                  <a:path w="7" h="408">
                    <a:moveTo>
                      <a:pt x="7" y="0"/>
                    </a:moveTo>
                    <a:lnTo>
                      <a:pt x="7" y="408"/>
                    </a:lnTo>
                    <a:lnTo>
                      <a:pt x="6" y="393"/>
                    </a:lnTo>
                    <a:lnTo>
                      <a:pt x="5" y="376"/>
                    </a:lnTo>
                    <a:lnTo>
                      <a:pt x="4" y="361"/>
                    </a:lnTo>
                    <a:lnTo>
                      <a:pt x="3" y="346"/>
                    </a:lnTo>
                    <a:lnTo>
                      <a:pt x="2" y="329"/>
                    </a:lnTo>
                    <a:lnTo>
                      <a:pt x="2" y="314"/>
                    </a:lnTo>
                    <a:lnTo>
                      <a:pt x="1" y="298"/>
                    </a:lnTo>
                    <a:lnTo>
                      <a:pt x="1" y="283"/>
                    </a:lnTo>
                    <a:lnTo>
                      <a:pt x="0" y="247"/>
                    </a:lnTo>
                    <a:lnTo>
                      <a:pt x="0" y="211"/>
                    </a:lnTo>
                    <a:lnTo>
                      <a:pt x="0" y="175"/>
                    </a:lnTo>
                    <a:lnTo>
                      <a:pt x="0" y="141"/>
                    </a:lnTo>
                    <a:lnTo>
                      <a:pt x="1" y="105"/>
                    </a:lnTo>
                    <a:lnTo>
                      <a:pt x="3" y="70"/>
                    </a:lnTo>
                    <a:lnTo>
                      <a:pt x="4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665600" y="4957920"/>
                <a:ext cx="17640" cy="344160"/>
              </a:xfrm>
              <a:custGeom>
                <a:avLst/>
                <a:gdLst/>
                <a:ahLst/>
                <a:rect l="l" t="t" r="r" b="b"/>
                <a:pathLst>
                  <a:path w="54" h="1087">
                    <a:moveTo>
                      <a:pt x="54" y="0"/>
                    </a:moveTo>
                    <a:lnTo>
                      <a:pt x="54" y="1087"/>
                    </a:lnTo>
                    <a:lnTo>
                      <a:pt x="43" y="1030"/>
                    </a:lnTo>
                    <a:lnTo>
                      <a:pt x="33" y="971"/>
                    </a:lnTo>
                    <a:lnTo>
                      <a:pt x="25" y="913"/>
                    </a:lnTo>
                    <a:lnTo>
                      <a:pt x="18" y="855"/>
                    </a:lnTo>
                    <a:lnTo>
                      <a:pt x="11" y="797"/>
                    </a:lnTo>
                    <a:lnTo>
                      <a:pt x="6" y="738"/>
                    </a:lnTo>
                    <a:lnTo>
                      <a:pt x="3" y="679"/>
                    </a:lnTo>
                    <a:lnTo>
                      <a:pt x="1" y="619"/>
                    </a:lnTo>
                    <a:lnTo>
                      <a:pt x="0" y="579"/>
                    </a:lnTo>
                    <a:lnTo>
                      <a:pt x="0" y="539"/>
                    </a:lnTo>
                    <a:lnTo>
                      <a:pt x="0" y="499"/>
                    </a:lnTo>
                    <a:lnTo>
                      <a:pt x="1" y="459"/>
                    </a:lnTo>
                    <a:lnTo>
                      <a:pt x="2" y="421"/>
                    </a:lnTo>
                    <a:lnTo>
                      <a:pt x="4" y="382"/>
                    </a:lnTo>
                    <a:lnTo>
                      <a:pt x="6" y="343"/>
                    </a:lnTo>
                    <a:lnTo>
                      <a:pt x="9" y="304"/>
                    </a:lnTo>
                    <a:lnTo>
                      <a:pt x="14" y="266"/>
                    </a:lnTo>
                    <a:lnTo>
                      <a:pt x="18" y="227"/>
                    </a:lnTo>
                    <a:lnTo>
                      <a:pt x="22" y="189"/>
                    </a:lnTo>
                    <a:lnTo>
                      <a:pt x="28" y="150"/>
                    </a:lnTo>
                    <a:lnTo>
                      <a:pt x="33" y="113"/>
                    </a:lnTo>
                    <a:lnTo>
                      <a:pt x="40" y="75"/>
                    </a:lnTo>
                    <a:lnTo>
                      <a:pt x="46" y="38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667400" y="4897440"/>
                <a:ext cx="29880" cy="466560"/>
              </a:xfrm>
              <a:custGeom>
                <a:avLst/>
                <a:gdLst/>
                <a:ahLst/>
                <a:rect l="l" t="t" r="r" b="b"/>
                <a:pathLst>
                  <a:path w="93" h="1472">
                    <a:moveTo>
                      <a:pt x="0" y="934"/>
                    </a:moveTo>
                    <a:lnTo>
                      <a:pt x="0" y="526"/>
                    </a:lnTo>
                    <a:lnTo>
                      <a:pt x="5" y="459"/>
                    </a:lnTo>
                    <a:lnTo>
                      <a:pt x="14" y="391"/>
                    </a:lnTo>
                    <a:lnTo>
                      <a:pt x="23" y="325"/>
                    </a:lnTo>
                    <a:lnTo>
                      <a:pt x="34" y="259"/>
                    </a:lnTo>
                    <a:lnTo>
                      <a:pt x="46" y="193"/>
                    </a:lnTo>
                    <a:lnTo>
                      <a:pt x="61" y="128"/>
                    </a:lnTo>
                    <a:lnTo>
                      <a:pt x="76" y="64"/>
                    </a:lnTo>
                    <a:lnTo>
                      <a:pt x="93" y="0"/>
                    </a:lnTo>
                    <a:lnTo>
                      <a:pt x="93" y="1472"/>
                    </a:lnTo>
                    <a:lnTo>
                      <a:pt x="76" y="1406"/>
                    </a:lnTo>
                    <a:lnTo>
                      <a:pt x="61" y="1340"/>
                    </a:lnTo>
                    <a:lnTo>
                      <a:pt x="46" y="1274"/>
                    </a:lnTo>
                    <a:lnTo>
                      <a:pt x="34" y="1206"/>
                    </a:lnTo>
                    <a:lnTo>
                      <a:pt x="23" y="1139"/>
                    </a:lnTo>
                    <a:lnTo>
                      <a:pt x="14" y="1071"/>
                    </a:lnTo>
                    <a:lnTo>
                      <a:pt x="5" y="1002"/>
                    </a:lnTo>
                    <a:lnTo>
                      <a:pt x="0" y="93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683240" y="4849920"/>
                <a:ext cx="28440" cy="563400"/>
              </a:xfrm>
              <a:custGeom>
                <a:avLst/>
                <a:gdLst/>
                <a:ahLst/>
                <a:rect l="l" t="t" r="r" b="b"/>
                <a:pathLst>
                  <a:path w="93" h="1771">
                    <a:moveTo>
                      <a:pt x="0" y="1424"/>
                    </a:moveTo>
                    <a:lnTo>
                      <a:pt x="0" y="337"/>
                    </a:lnTo>
                    <a:lnTo>
                      <a:pt x="5" y="310"/>
                    </a:lnTo>
                    <a:lnTo>
                      <a:pt x="12" y="281"/>
                    </a:lnTo>
                    <a:lnTo>
                      <a:pt x="19" y="254"/>
                    </a:lnTo>
                    <a:lnTo>
                      <a:pt x="25" y="226"/>
                    </a:lnTo>
                    <a:lnTo>
                      <a:pt x="32" y="199"/>
                    </a:lnTo>
                    <a:lnTo>
                      <a:pt x="40" y="171"/>
                    </a:lnTo>
                    <a:lnTo>
                      <a:pt x="47" y="145"/>
                    </a:lnTo>
                    <a:lnTo>
                      <a:pt x="56" y="117"/>
                    </a:lnTo>
                    <a:lnTo>
                      <a:pt x="60" y="102"/>
                    </a:lnTo>
                    <a:lnTo>
                      <a:pt x="65" y="88"/>
                    </a:lnTo>
                    <a:lnTo>
                      <a:pt x="69" y="73"/>
                    </a:lnTo>
                    <a:lnTo>
                      <a:pt x="74" y="58"/>
                    </a:lnTo>
                    <a:lnTo>
                      <a:pt x="79" y="44"/>
                    </a:lnTo>
                    <a:lnTo>
                      <a:pt x="83" y="29"/>
                    </a:lnTo>
                    <a:lnTo>
                      <a:pt x="88" y="14"/>
                    </a:lnTo>
                    <a:lnTo>
                      <a:pt x="93" y="0"/>
                    </a:lnTo>
                    <a:lnTo>
                      <a:pt x="93" y="1771"/>
                    </a:lnTo>
                    <a:lnTo>
                      <a:pt x="79" y="1728"/>
                    </a:lnTo>
                    <a:lnTo>
                      <a:pt x="66" y="1685"/>
                    </a:lnTo>
                    <a:lnTo>
                      <a:pt x="53" y="1642"/>
                    </a:lnTo>
                    <a:lnTo>
                      <a:pt x="41" y="1598"/>
                    </a:lnTo>
                    <a:lnTo>
                      <a:pt x="30" y="1555"/>
                    </a:lnTo>
                    <a:lnTo>
                      <a:pt x="19" y="1511"/>
                    </a:lnTo>
                    <a:lnTo>
                      <a:pt x="10" y="1468"/>
                    </a:lnTo>
                    <a:lnTo>
                      <a:pt x="0" y="142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697280" y="4811760"/>
                <a:ext cx="30240" cy="641160"/>
              </a:xfrm>
              <a:custGeom>
                <a:avLst/>
                <a:gdLst/>
                <a:ahLst/>
                <a:rect l="l" t="t" r="r" b="b"/>
                <a:pathLst>
                  <a:path w="94" h="2018">
                    <a:moveTo>
                      <a:pt x="0" y="1739"/>
                    </a:moveTo>
                    <a:lnTo>
                      <a:pt x="0" y="267"/>
                    </a:lnTo>
                    <a:lnTo>
                      <a:pt x="1" y="263"/>
                    </a:lnTo>
                    <a:lnTo>
                      <a:pt x="2" y="260"/>
                    </a:lnTo>
                    <a:lnTo>
                      <a:pt x="3" y="255"/>
                    </a:lnTo>
                    <a:lnTo>
                      <a:pt x="5" y="251"/>
                    </a:lnTo>
                    <a:lnTo>
                      <a:pt x="6" y="248"/>
                    </a:lnTo>
                    <a:lnTo>
                      <a:pt x="7" y="244"/>
                    </a:lnTo>
                    <a:lnTo>
                      <a:pt x="8" y="241"/>
                    </a:lnTo>
                    <a:lnTo>
                      <a:pt x="10" y="237"/>
                    </a:lnTo>
                    <a:lnTo>
                      <a:pt x="19" y="206"/>
                    </a:lnTo>
                    <a:lnTo>
                      <a:pt x="28" y="177"/>
                    </a:lnTo>
                    <a:lnTo>
                      <a:pt x="38" y="146"/>
                    </a:lnTo>
                    <a:lnTo>
                      <a:pt x="48" y="117"/>
                    </a:lnTo>
                    <a:lnTo>
                      <a:pt x="60" y="87"/>
                    </a:lnTo>
                    <a:lnTo>
                      <a:pt x="71" y="59"/>
                    </a:lnTo>
                    <a:lnTo>
                      <a:pt x="82" y="29"/>
                    </a:lnTo>
                    <a:lnTo>
                      <a:pt x="94" y="0"/>
                    </a:lnTo>
                    <a:lnTo>
                      <a:pt x="94" y="2018"/>
                    </a:lnTo>
                    <a:lnTo>
                      <a:pt x="90" y="2007"/>
                    </a:lnTo>
                    <a:lnTo>
                      <a:pt x="85" y="1996"/>
                    </a:lnTo>
                    <a:lnTo>
                      <a:pt x="81" y="1983"/>
                    </a:lnTo>
                    <a:lnTo>
                      <a:pt x="77" y="1972"/>
                    </a:lnTo>
                    <a:lnTo>
                      <a:pt x="72" y="1960"/>
                    </a:lnTo>
                    <a:lnTo>
                      <a:pt x="68" y="1949"/>
                    </a:lnTo>
                    <a:lnTo>
                      <a:pt x="64" y="1936"/>
                    </a:lnTo>
                    <a:lnTo>
                      <a:pt x="60" y="1924"/>
                    </a:lnTo>
                    <a:lnTo>
                      <a:pt x="51" y="1902"/>
                    </a:lnTo>
                    <a:lnTo>
                      <a:pt x="43" y="1878"/>
                    </a:lnTo>
                    <a:lnTo>
                      <a:pt x="36" y="1855"/>
                    </a:lnTo>
                    <a:lnTo>
                      <a:pt x="29" y="1832"/>
                    </a:lnTo>
                    <a:lnTo>
                      <a:pt x="21" y="1809"/>
                    </a:lnTo>
                    <a:lnTo>
                      <a:pt x="15" y="1785"/>
                    </a:lnTo>
                    <a:lnTo>
                      <a:pt x="7" y="1762"/>
                    </a:lnTo>
                    <a:lnTo>
                      <a:pt x="0" y="1739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711680" y="4780080"/>
                <a:ext cx="30240" cy="707760"/>
              </a:xfrm>
              <a:custGeom>
                <a:avLst/>
                <a:gdLst/>
                <a:ahLst/>
                <a:rect l="l" t="t" r="r" b="b"/>
                <a:pathLst>
                  <a:path w="94" h="2231">
                    <a:moveTo>
                      <a:pt x="0" y="1993"/>
                    </a:moveTo>
                    <a:lnTo>
                      <a:pt x="0" y="222"/>
                    </a:lnTo>
                    <a:lnTo>
                      <a:pt x="11" y="193"/>
                    </a:lnTo>
                    <a:lnTo>
                      <a:pt x="22" y="166"/>
                    </a:lnTo>
                    <a:lnTo>
                      <a:pt x="33" y="137"/>
                    </a:lnTo>
                    <a:lnTo>
                      <a:pt x="44" y="110"/>
                    </a:lnTo>
                    <a:lnTo>
                      <a:pt x="56" y="82"/>
                    </a:lnTo>
                    <a:lnTo>
                      <a:pt x="69" y="55"/>
                    </a:lnTo>
                    <a:lnTo>
                      <a:pt x="81" y="27"/>
                    </a:lnTo>
                    <a:lnTo>
                      <a:pt x="94" y="0"/>
                    </a:lnTo>
                    <a:lnTo>
                      <a:pt x="94" y="2231"/>
                    </a:lnTo>
                    <a:lnTo>
                      <a:pt x="83" y="2206"/>
                    </a:lnTo>
                    <a:lnTo>
                      <a:pt x="72" y="2181"/>
                    </a:lnTo>
                    <a:lnTo>
                      <a:pt x="62" y="2156"/>
                    </a:lnTo>
                    <a:lnTo>
                      <a:pt x="51" y="2130"/>
                    </a:lnTo>
                    <a:lnTo>
                      <a:pt x="41" y="2105"/>
                    </a:lnTo>
                    <a:lnTo>
                      <a:pt x="31" y="2078"/>
                    </a:lnTo>
                    <a:lnTo>
                      <a:pt x="22" y="2053"/>
                    </a:lnTo>
                    <a:lnTo>
                      <a:pt x="13" y="2026"/>
                    </a:lnTo>
                    <a:lnTo>
                      <a:pt x="11" y="2022"/>
                    </a:lnTo>
                    <a:lnTo>
                      <a:pt x="9" y="2018"/>
                    </a:lnTo>
                    <a:lnTo>
                      <a:pt x="7" y="2014"/>
                    </a:lnTo>
                    <a:lnTo>
                      <a:pt x="6" y="2010"/>
                    </a:lnTo>
                    <a:lnTo>
                      <a:pt x="5" y="2006"/>
                    </a:lnTo>
                    <a:lnTo>
                      <a:pt x="3" y="2001"/>
                    </a:lnTo>
                    <a:lnTo>
                      <a:pt x="2" y="1997"/>
                    </a:lnTo>
                    <a:lnTo>
                      <a:pt x="0" y="1993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727520" y="4751280"/>
                <a:ext cx="30240" cy="768600"/>
              </a:xfrm>
              <a:custGeom>
                <a:avLst/>
                <a:gdLst/>
                <a:ahLst/>
                <a:rect l="l" t="t" r="r" b="b"/>
                <a:pathLst>
                  <a:path w="94" h="2419">
                    <a:moveTo>
                      <a:pt x="0" y="2210"/>
                    </a:moveTo>
                    <a:lnTo>
                      <a:pt x="0" y="192"/>
                    </a:lnTo>
                    <a:lnTo>
                      <a:pt x="12" y="168"/>
                    </a:lnTo>
                    <a:lnTo>
                      <a:pt x="22" y="143"/>
                    </a:lnTo>
                    <a:lnTo>
                      <a:pt x="33" y="119"/>
                    </a:lnTo>
                    <a:lnTo>
                      <a:pt x="45" y="95"/>
                    </a:lnTo>
                    <a:lnTo>
                      <a:pt x="56" y="71"/>
                    </a:lnTo>
                    <a:lnTo>
                      <a:pt x="69" y="47"/>
                    </a:lnTo>
                    <a:lnTo>
                      <a:pt x="81" y="23"/>
                    </a:lnTo>
                    <a:lnTo>
                      <a:pt x="94" y="0"/>
                    </a:lnTo>
                    <a:lnTo>
                      <a:pt x="94" y="2419"/>
                    </a:lnTo>
                    <a:lnTo>
                      <a:pt x="81" y="2394"/>
                    </a:lnTo>
                    <a:lnTo>
                      <a:pt x="69" y="2368"/>
                    </a:lnTo>
                    <a:lnTo>
                      <a:pt x="56" y="2342"/>
                    </a:lnTo>
                    <a:lnTo>
                      <a:pt x="45" y="2316"/>
                    </a:lnTo>
                    <a:lnTo>
                      <a:pt x="33" y="2290"/>
                    </a:lnTo>
                    <a:lnTo>
                      <a:pt x="22" y="2264"/>
                    </a:lnTo>
                    <a:lnTo>
                      <a:pt x="12" y="2238"/>
                    </a:lnTo>
                    <a:lnTo>
                      <a:pt x="0" y="221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741920" y="4726080"/>
                <a:ext cx="30240" cy="820800"/>
              </a:xfrm>
              <a:custGeom>
                <a:avLst/>
                <a:gdLst/>
                <a:ahLst/>
                <a:rect l="l" t="t" r="r" b="b"/>
                <a:pathLst>
                  <a:path w="94" h="2589">
                    <a:moveTo>
                      <a:pt x="0" y="2403"/>
                    </a:moveTo>
                    <a:lnTo>
                      <a:pt x="0" y="172"/>
                    </a:lnTo>
                    <a:lnTo>
                      <a:pt x="11" y="150"/>
                    </a:lnTo>
                    <a:lnTo>
                      <a:pt x="22" y="129"/>
                    </a:lnTo>
                    <a:lnTo>
                      <a:pt x="34" y="106"/>
                    </a:lnTo>
                    <a:lnTo>
                      <a:pt x="45" y="85"/>
                    </a:lnTo>
                    <a:lnTo>
                      <a:pt x="56" y="63"/>
                    </a:lnTo>
                    <a:lnTo>
                      <a:pt x="69" y="43"/>
                    </a:lnTo>
                    <a:lnTo>
                      <a:pt x="81" y="21"/>
                    </a:lnTo>
                    <a:lnTo>
                      <a:pt x="94" y="0"/>
                    </a:lnTo>
                    <a:lnTo>
                      <a:pt x="94" y="2589"/>
                    </a:lnTo>
                    <a:lnTo>
                      <a:pt x="81" y="2566"/>
                    </a:lnTo>
                    <a:lnTo>
                      <a:pt x="69" y="2543"/>
                    </a:lnTo>
                    <a:lnTo>
                      <a:pt x="56" y="2520"/>
                    </a:lnTo>
                    <a:lnTo>
                      <a:pt x="45" y="2497"/>
                    </a:lnTo>
                    <a:lnTo>
                      <a:pt x="34" y="2474"/>
                    </a:lnTo>
                    <a:lnTo>
                      <a:pt x="22" y="2450"/>
                    </a:lnTo>
                    <a:lnTo>
                      <a:pt x="11" y="2427"/>
                    </a:lnTo>
                    <a:lnTo>
                      <a:pt x="0" y="2403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757760" y="4702320"/>
                <a:ext cx="28440" cy="869760"/>
              </a:xfrm>
              <a:custGeom>
                <a:avLst/>
                <a:gdLst/>
                <a:ahLst/>
                <a:rect l="l" t="t" r="r" b="b"/>
                <a:pathLst>
                  <a:path w="93" h="2742">
                    <a:moveTo>
                      <a:pt x="0" y="2574"/>
                    </a:moveTo>
                    <a:lnTo>
                      <a:pt x="0" y="155"/>
                    </a:lnTo>
                    <a:lnTo>
                      <a:pt x="10" y="135"/>
                    </a:lnTo>
                    <a:lnTo>
                      <a:pt x="22" y="115"/>
                    </a:lnTo>
                    <a:lnTo>
                      <a:pt x="34" y="96"/>
                    </a:lnTo>
                    <a:lnTo>
                      <a:pt x="45" y="76"/>
                    </a:lnTo>
                    <a:lnTo>
                      <a:pt x="56" y="57"/>
                    </a:lnTo>
                    <a:lnTo>
                      <a:pt x="69" y="37"/>
                    </a:lnTo>
                    <a:lnTo>
                      <a:pt x="81" y="18"/>
                    </a:lnTo>
                    <a:lnTo>
                      <a:pt x="93" y="0"/>
                    </a:lnTo>
                    <a:lnTo>
                      <a:pt x="93" y="2742"/>
                    </a:lnTo>
                    <a:lnTo>
                      <a:pt x="81" y="2722"/>
                    </a:lnTo>
                    <a:lnTo>
                      <a:pt x="69" y="2701"/>
                    </a:lnTo>
                    <a:lnTo>
                      <a:pt x="56" y="2680"/>
                    </a:lnTo>
                    <a:lnTo>
                      <a:pt x="45" y="2659"/>
                    </a:lnTo>
                    <a:lnTo>
                      <a:pt x="34" y="2638"/>
                    </a:lnTo>
                    <a:lnTo>
                      <a:pt x="22" y="2617"/>
                    </a:lnTo>
                    <a:lnTo>
                      <a:pt x="11" y="2596"/>
                    </a:lnTo>
                    <a:lnTo>
                      <a:pt x="0" y="257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772160" y="4680000"/>
                <a:ext cx="29880" cy="915840"/>
              </a:xfrm>
              <a:custGeom>
                <a:avLst/>
                <a:gdLst/>
                <a:ahLst/>
                <a:rect l="l" t="t" r="r" b="b"/>
                <a:pathLst>
                  <a:path w="93" h="2885">
                    <a:moveTo>
                      <a:pt x="0" y="2731"/>
                    </a:moveTo>
                    <a:lnTo>
                      <a:pt x="0" y="142"/>
                    </a:lnTo>
                    <a:lnTo>
                      <a:pt x="10" y="125"/>
                    </a:lnTo>
                    <a:lnTo>
                      <a:pt x="22" y="106"/>
                    </a:lnTo>
                    <a:lnTo>
                      <a:pt x="34" y="88"/>
                    </a:lnTo>
                    <a:lnTo>
                      <a:pt x="45" y="71"/>
                    </a:lnTo>
                    <a:lnTo>
                      <a:pt x="57" y="53"/>
                    </a:lnTo>
                    <a:lnTo>
                      <a:pt x="69" y="35"/>
                    </a:lnTo>
                    <a:lnTo>
                      <a:pt x="81" y="18"/>
                    </a:lnTo>
                    <a:lnTo>
                      <a:pt x="93" y="0"/>
                    </a:lnTo>
                    <a:lnTo>
                      <a:pt x="93" y="2885"/>
                    </a:lnTo>
                    <a:lnTo>
                      <a:pt x="81" y="2866"/>
                    </a:lnTo>
                    <a:lnTo>
                      <a:pt x="69" y="2847"/>
                    </a:lnTo>
                    <a:lnTo>
                      <a:pt x="57" y="2829"/>
                    </a:lnTo>
                    <a:lnTo>
                      <a:pt x="45" y="2809"/>
                    </a:lnTo>
                    <a:lnTo>
                      <a:pt x="34" y="2790"/>
                    </a:lnTo>
                    <a:lnTo>
                      <a:pt x="22" y="2771"/>
                    </a:lnTo>
                    <a:lnTo>
                      <a:pt x="10" y="2750"/>
                    </a:lnTo>
                    <a:lnTo>
                      <a:pt x="0" y="2731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786200" y="4660920"/>
                <a:ext cx="30240" cy="957240"/>
              </a:xfrm>
              <a:custGeom>
                <a:avLst/>
                <a:gdLst/>
                <a:ahLst/>
                <a:rect l="l" t="t" r="r" b="b"/>
                <a:pathLst>
                  <a:path w="94" h="3017">
                    <a:moveTo>
                      <a:pt x="0" y="2874"/>
                    </a:moveTo>
                    <a:lnTo>
                      <a:pt x="0" y="132"/>
                    </a:lnTo>
                    <a:lnTo>
                      <a:pt x="11" y="114"/>
                    </a:lnTo>
                    <a:lnTo>
                      <a:pt x="23" y="98"/>
                    </a:lnTo>
                    <a:lnTo>
                      <a:pt x="35" y="82"/>
                    </a:lnTo>
                    <a:lnTo>
                      <a:pt x="46" y="65"/>
                    </a:lnTo>
                    <a:lnTo>
                      <a:pt x="58" y="49"/>
                    </a:lnTo>
                    <a:lnTo>
                      <a:pt x="70" y="32"/>
                    </a:lnTo>
                    <a:lnTo>
                      <a:pt x="82" y="16"/>
                    </a:lnTo>
                    <a:lnTo>
                      <a:pt x="94" y="0"/>
                    </a:lnTo>
                    <a:lnTo>
                      <a:pt x="94" y="3017"/>
                    </a:lnTo>
                    <a:lnTo>
                      <a:pt x="82" y="2999"/>
                    </a:lnTo>
                    <a:lnTo>
                      <a:pt x="70" y="2982"/>
                    </a:lnTo>
                    <a:lnTo>
                      <a:pt x="57" y="2964"/>
                    </a:lnTo>
                    <a:lnTo>
                      <a:pt x="46" y="2947"/>
                    </a:lnTo>
                    <a:lnTo>
                      <a:pt x="35" y="2928"/>
                    </a:lnTo>
                    <a:lnTo>
                      <a:pt x="23" y="2910"/>
                    </a:lnTo>
                    <a:lnTo>
                      <a:pt x="11" y="2893"/>
                    </a:lnTo>
                    <a:lnTo>
                      <a:pt x="0" y="287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802040" y="4641840"/>
                <a:ext cx="28800" cy="996840"/>
              </a:xfrm>
              <a:custGeom>
                <a:avLst/>
                <a:gdLst/>
                <a:ahLst/>
                <a:rect l="l" t="t" r="r" b="b"/>
                <a:pathLst>
                  <a:path w="94" h="3139">
                    <a:moveTo>
                      <a:pt x="0" y="3007"/>
                    </a:moveTo>
                    <a:lnTo>
                      <a:pt x="0" y="122"/>
                    </a:lnTo>
                    <a:lnTo>
                      <a:pt x="6" y="113"/>
                    </a:lnTo>
                    <a:lnTo>
                      <a:pt x="13" y="104"/>
                    </a:lnTo>
                    <a:lnTo>
                      <a:pt x="20" y="96"/>
                    </a:lnTo>
                    <a:lnTo>
                      <a:pt x="27" y="87"/>
                    </a:lnTo>
                    <a:lnTo>
                      <a:pt x="33" y="77"/>
                    </a:lnTo>
                    <a:lnTo>
                      <a:pt x="39" y="69"/>
                    </a:lnTo>
                    <a:lnTo>
                      <a:pt x="46" y="60"/>
                    </a:lnTo>
                    <a:lnTo>
                      <a:pt x="53" y="51"/>
                    </a:lnTo>
                    <a:lnTo>
                      <a:pt x="58" y="45"/>
                    </a:lnTo>
                    <a:lnTo>
                      <a:pt x="63" y="39"/>
                    </a:lnTo>
                    <a:lnTo>
                      <a:pt x="69" y="32"/>
                    </a:lnTo>
                    <a:lnTo>
                      <a:pt x="74" y="25"/>
                    </a:lnTo>
                    <a:lnTo>
                      <a:pt x="79" y="19"/>
                    </a:lnTo>
                    <a:lnTo>
                      <a:pt x="84" y="13"/>
                    </a:lnTo>
                    <a:lnTo>
                      <a:pt x="89" y="6"/>
                    </a:lnTo>
                    <a:lnTo>
                      <a:pt x="94" y="0"/>
                    </a:lnTo>
                    <a:lnTo>
                      <a:pt x="94" y="3139"/>
                    </a:lnTo>
                    <a:lnTo>
                      <a:pt x="82" y="3123"/>
                    </a:lnTo>
                    <a:lnTo>
                      <a:pt x="70" y="3107"/>
                    </a:lnTo>
                    <a:lnTo>
                      <a:pt x="57" y="3090"/>
                    </a:lnTo>
                    <a:lnTo>
                      <a:pt x="46" y="3074"/>
                    </a:lnTo>
                    <a:lnTo>
                      <a:pt x="34" y="3058"/>
                    </a:lnTo>
                    <a:lnTo>
                      <a:pt x="23" y="3041"/>
                    </a:lnTo>
                    <a:lnTo>
                      <a:pt x="11" y="3024"/>
                    </a:lnTo>
                    <a:lnTo>
                      <a:pt x="0" y="3007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816440" y="4624560"/>
                <a:ext cx="30240" cy="1033200"/>
              </a:xfrm>
              <a:custGeom>
                <a:avLst/>
                <a:gdLst/>
                <a:ahLst/>
                <a:rect l="l" t="t" r="r" b="b"/>
                <a:pathLst>
                  <a:path w="94" h="3254">
                    <a:moveTo>
                      <a:pt x="0" y="3130"/>
                    </a:moveTo>
                    <a:lnTo>
                      <a:pt x="0" y="113"/>
                    </a:lnTo>
                    <a:lnTo>
                      <a:pt x="1" y="112"/>
                    </a:lnTo>
                    <a:lnTo>
                      <a:pt x="1" y="111"/>
                    </a:lnTo>
                    <a:lnTo>
                      <a:pt x="2" y="110"/>
                    </a:lnTo>
                    <a:lnTo>
                      <a:pt x="3" y="109"/>
                    </a:lnTo>
                    <a:lnTo>
                      <a:pt x="3" y="108"/>
                    </a:lnTo>
                    <a:lnTo>
                      <a:pt x="4" y="107"/>
                    </a:lnTo>
                    <a:lnTo>
                      <a:pt x="5" y="106"/>
                    </a:lnTo>
                    <a:lnTo>
                      <a:pt x="6" y="105"/>
                    </a:lnTo>
                    <a:lnTo>
                      <a:pt x="16" y="92"/>
                    </a:lnTo>
                    <a:lnTo>
                      <a:pt x="28" y="78"/>
                    </a:lnTo>
                    <a:lnTo>
                      <a:pt x="38" y="65"/>
                    </a:lnTo>
                    <a:lnTo>
                      <a:pt x="49" y="52"/>
                    </a:lnTo>
                    <a:lnTo>
                      <a:pt x="60" y="39"/>
                    </a:lnTo>
                    <a:lnTo>
                      <a:pt x="72" y="25"/>
                    </a:lnTo>
                    <a:lnTo>
                      <a:pt x="83" y="12"/>
                    </a:lnTo>
                    <a:lnTo>
                      <a:pt x="94" y="0"/>
                    </a:lnTo>
                    <a:lnTo>
                      <a:pt x="94" y="3254"/>
                    </a:lnTo>
                    <a:lnTo>
                      <a:pt x="82" y="3238"/>
                    </a:lnTo>
                    <a:lnTo>
                      <a:pt x="70" y="3223"/>
                    </a:lnTo>
                    <a:lnTo>
                      <a:pt x="57" y="3208"/>
                    </a:lnTo>
                    <a:lnTo>
                      <a:pt x="46" y="3192"/>
                    </a:lnTo>
                    <a:lnTo>
                      <a:pt x="34" y="3177"/>
                    </a:lnTo>
                    <a:lnTo>
                      <a:pt x="23" y="3161"/>
                    </a:lnTo>
                    <a:lnTo>
                      <a:pt x="11" y="3146"/>
                    </a:lnTo>
                    <a:lnTo>
                      <a:pt x="0" y="313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4830840" y="4608360"/>
                <a:ext cx="30240" cy="1067040"/>
              </a:xfrm>
              <a:custGeom>
                <a:avLst/>
                <a:gdLst/>
                <a:ahLst/>
                <a:rect l="l" t="t" r="r" b="b"/>
                <a:pathLst>
                  <a:path w="94" h="3360">
                    <a:moveTo>
                      <a:pt x="0" y="3243"/>
                    </a:moveTo>
                    <a:lnTo>
                      <a:pt x="0" y="104"/>
                    </a:lnTo>
                    <a:lnTo>
                      <a:pt x="11" y="91"/>
                    </a:lnTo>
                    <a:lnTo>
                      <a:pt x="23" y="77"/>
                    </a:lnTo>
                    <a:lnTo>
                      <a:pt x="35" y="64"/>
                    </a:lnTo>
                    <a:lnTo>
                      <a:pt x="46" y="51"/>
                    </a:lnTo>
                    <a:lnTo>
                      <a:pt x="57" y="38"/>
                    </a:lnTo>
                    <a:lnTo>
                      <a:pt x="70" y="25"/>
                    </a:lnTo>
                    <a:lnTo>
                      <a:pt x="82" y="12"/>
                    </a:lnTo>
                    <a:lnTo>
                      <a:pt x="94" y="0"/>
                    </a:lnTo>
                    <a:lnTo>
                      <a:pt x="94" y="3360"/>
                    </a:lnTo>
                    <a:lnTo>
                      <a:pt x="89" y="3354"/>
                    </a:lnTo>
                    <a:lnTo>
                      <a:pt x="84" y="3349"/>
                    </a:lnTo>
                    <a:lnTo>
                      <a:pt x="80" y="3343"/>
                    </a:lnTo>
                    <a:lnTo>
                      <a:pt x="75" y="3337"/>
                    </a:lnTo>
                    <a:lnTo>
                      <a:pt x="70" y="3331"/>
                    </a:lnTo>
                    <a:lnTo>
                      <a:pt x="65" y="3326"/>
                    </a:lnTo>
                    <a:lnTo>
                      <a:pt x="60" y="3320"/>
                    </a:lnTo>
                    <a:lnTo>
                      <a:pt x="56" y="3315"/>
                    </a:lnTo>
                    <a:lnTo>
                      <a:pt x="49" y="3306"/>
                    </a:lnTo>
                    <a:lnTo>
                      <a:pt x="42" y="3296"/>
                    </a:lnTo>
                    <a:lnTo>
                      <a:pt x="35" y="3288"/>
                    </a:lnTo>
                    <a:lnTo>
                      <a:pt x="28" y="3279"/>
                    </a:lnTo>
                    <a:lnTo>
                      <a:pt x="21" y="3271"/>
                    </a:lnTo>
                    <a:lnTo>
                      <a:pt x="13" y="3262"/>
                    </a:lnTo>
                    <a:lnTo>
                      <a:pt x="7" y="3253"/>
                    </a:lnTo>
                    <a:lnTo>
                      <a:pt x="0" y="3243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846680" y="4594320"/>
                <a:ext cx="28440" cy="1096920"/>
              </a:xfrm>
              <a:custGeom>
                <a:avLst/>
                <a:gdLst/>
                <a:ahLst/>
                <a:rect l="l" t="t" r="r" b="b"/>
                <a:pathLst>
                  <a:path w="93" h="3458">
                    <a:moveTo>
                      <a:pt x="0" y="3350"/>
                    </a:moveTo>
                    <a:lnTo>
                      <a:pt x="0" y="96"/>
                    </a:lnTo>
                    <a:lnTo>
                      <a:pt x="11" y="84"/>
                    </a:lnTo>
                    <a:lnTo>
                      <a:pt x="23" y="71"/>
                    </a:lnTo>
                    <a:lnTo>
                      <a:pt x="34" y="59"/>
                    </a:lnTo>
                    <a:lnTo>
                      <a:pt x="46" y="47"/>
                    </a:lnTo>
                    <a:lnTo>
                      <a:pt x="57" y="35"/>
                    </a:lnTo>
                    <a:lnTo>
                      <a:pt x="70" y="22"/>
                    </a:lnTo>
                    <a:lnTo>
                      <a:pt x="82" y="11"/>
                    </a:lnTo>
                    <a:lnTo>
                      <a:pt x="93" y="0"/>
                    </a:lnTo>
                    <a:lnTo>
                      <a:pt x="93" y="3458"/>
                    </a:lnTo>
                    <a:lnTo>
                      <a:pt x="83" y="3447"/>
                    </a:lnTo>
                    <a:lnTo>
                      <a:pt x="72" y="3434"/>
                    </a:lnTo>
                    <a:lnTo>
                      <a:pt x="61" y="3422"/>
                    </a:lnTo>
                    <a:lnTo>
                      <a:pt x="50" y="3410"/>
                    </a:lnTo>
                    <a:lnTo>
                      <a:pt x="40" y="3398"/>
                    </a:lnTo>
                    <a:lnTo>
                      <a:pt x="30" y="3385"/>
                    </a:lnTo>
                    <a:lnTo>
                      <a:pt x="19" y="3373"/>
                    </a:lnTo>
                    <a:lnTo>
                      <a:pt x="9" y="3361"/>
                    </a:lnTo>
                    <a:lnTo>
                      <a:pt x="7" y="3359"/>
                    </a:lnTo>
                    <a:lnTo>
                      <a:pt x="6" y="3358"/>
                    </a:lnTo>
                    <a:lnTo>
                      <a:pt x="5" y="3357"/>
                    </a:lnTo>
                    <a:lnTo>
                      <a:pt x="4" y="3355"/>
                    </a:lnTo>
                    <a:lnTo>
                      <a:pt x="3" y="3354"/>
                    </a:lnTo>
                    <a:lnTo>
                      <a:pt x="2" y="3353"/>
                    </a:lnTo>
                    <a:lnTo>
                      <a:pt x="1" y="3351"/>
                    </a:lnTo>
                    <a:lnTo>
                      <a:pt x="0" y="335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861080" y="4579920"/>
                <a:ext cx="29880" cy="1127160"/>
              </a:xfrm>
              <a:custGeom>
                <a:avLst/>
                <a:gdLst/>
                <a:ahLst/>
                <a:rect l="l" t="t" r="r" b="b"/>
                <a:pathLst>
                  <a:path w="93" h="3550">
                    <a:moveTo>
                      <a:pt x="0" y="3449"/>
                    </a:moveTo>
                    <a:lnTo>
                      <a:pt x="0" y="89"/>
                    </a:lnTo>
                    <a:lnTo>
                      <a:pt x="11" y="78"/>
                    </a:lnTo>
                    <a:lnTo>
                      <a:pt x="23" y="66"/>
                    </a:lnTo>
                    <a:lnTo>
                      <a:pt x="34" y="54"/>
                    </a:lnTo>
                    <a:lnTo>
                      <a:pt x="46" y="43"/>
                    </a:lnTo>
                    <a:lnTo>
                      <a:pt x="57" y="33"/>
                    </a:lnTo>
                    <a:lnTo>
                      <a:pt x="69" y="22"/>
                    </a:lnTo>
                    <a:lnTo>
                      <a:pt x="81" y="10"/>
                    </a:lnTo>
                    <a:lnTo>
                      <a:pt x="93" y="0"/>
                    </a:lnTo>
                    <a:lnTo>
                      <a:pt x="93" y="3550"/>
                    </a:lnTo>
                    <a:lnTo>
                      <a:pt x="81" y="3537"/>
                    </a:lnTo>
                    <a:lnTo>
                      <a:pt x="69" y="3525"/>
                    </a:lnTo>
                    <a:lnTo>
                      <a:pt x="57" y="3513"/>
                    </a:lnTo>
                    <a:lnTo>
                      <a:pt x="46" y="3500"/>
                    </a:lnTo>
                    <a:lnTo>
                      <a:pt x="34" y="3487"/>
                    </a:lnTo>
                    <a:lnTo>
                      <a:pt x="23" y="3474"/>
                    </a:lnTo>
                    <a:lnTo>
                      <a:pt x="11" y="3462"/>
                    </a:lnTo>
                    <a:lnTo>
                      <a:pt x="0" y="3449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875120" y="4567320"/>
                <a:ext cx="30240" cy="1154160"/>
              </a:xfrm>
              <a:custGeom>
                <a:avLst/>
                <a:gdLst/>
                <a:ahLst/>
                <a:rect l="l" t="t" r="r" b="b"/>
                <a:pathLst>
                  <a:path w="94" h="3635">
                    <a:moveTo>
                      <a:pt x="0" y="3541"/>
                    </a:moveTo>
                    <a:lnTo>
                      <a:pt x="0" y="83"/>
                    </a:lnTo>
                    <a:lnTo>
                      <a:pt x="12" y="72"/>
                    </a:lnTo>
                    <a:lnTo>
                      <a:pt x="23" y="62"/>
                    </a:lnTo>
                    <a:lnTo>
                      <a:pt x="35" y="51"/>
                    </a:lnTo>
                    <a:lnTo>
                      <a:pt x="46" y="41"/>
                    </a:lnTo>
                    <a:lnTo>
                      <a:pt x="58" y="31"/>
                    </a:lnTo>
                    <a:lnTo>
                      <a:pt x="70" y="21"/>
                    </a:lnTo>
                    <a:lnTo>
                      <a:pt x="82" y="11"/>
                    </a:lnTo>
                    <a:lnTo>
                      <a:pt x="94" y="0"/>
                    </a:lnTo>
                    <a:lnTo>
                      <a:pt x="94" y="3635"/>
                    </a:lnTo>
                    <a:lnTo>
                      <a:pt x="82" y="3623"/>
                    </a:lnTo>
                    <a:lnTo>
                      <a:pt x="70" y="3612"/>
                    </a:lnTo>
                    <a:lnTo>
                      <a:pt x="58" y="3601"/>
                    </a:lnTo>
                    <a:lnTo>
                      <a:pt x="47" y="3589"/>
                    </a:lnTo>
                    <a:lnTo>
                      <a:pt x="35" y="3577"/>
                    </a:lnTo>
                    <a:lnTo>
                      <a:pt x="23" y="3565"/>
                    </a:lnTo>
                    <a:lnTo>
                      <a:pt x="12" y="3553"/>
                    </a:lnTo>
                    <a:lnTo>
                      <a:pt x="0" y="3541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890960" y="4556160"/>
                <a:ext cx="30240" cy="1179360"/>
              </a:xfrm>
              <a:custGeom>
                <a:avLst/>
                <a:gdLst/>
                <a:ahLst/>
                <a:rect l="l" t="t" r="r" b="b"/>
                <a:pathLst>
                  <a:path w="94" h="3712">
                    <a:moveTo>
                      <a:pt x="0" y="3625"/>
                    </a:moveTo>
                    <a:lnTo>
                      <a:pt x="0" y="75"/>
                    </a:lnTo>
                    <a:lnTo>
                      <a:pt x="11" y="65"/>
                    </a:lnTo>
                    <a:lnTo>
                      <a:pt x="23" y="56"/>
                    </a:lnTo>
                    <a:lnTo>
                      <a:pt x="35" y="46"/>
                    </a:lnTo>
                    <a:lnTo>
                      <a:pt x="46" y="36"/>
                    </a:lnTo>
                    <a:lnTo>
                      <a:pt x="58" y="27"/>
                    </a:lnTo>
                    <a:lnTo>
                      <a:pt x="69" y="18"/>
                    </a:lnTo>
                    <a:lnTo>
                      <a:pt x="82" y="9"/>
                    </a:lnTo>
                    <a:lnTo>
                      <a:pt x="94" y="0"/>
                    </a:lnTo>
                    <a:lnTo>
                      <a:pt x="94" y="3712"/>
                    </a:lnTo>
                    <a:lnTo>
                      <a:pt x="82" y="3702"/>
                    </a:lnTo>
                    <a:lnTo>
                      <a:pt x="69" y="3691"/>
                    </a:lnTo>
                    <a:lnTo>
                      <a:pt x="58" y="3681"/>
                    </a:lnTo>
                    <a:lnTo>
                      <a:pt x="46" y="3670"/>
                    </a:lnTo>
                    <a:lnTo>
                      <a:pt x="35" y="3658"/>
                    </a:lnTo>
                    <a:lnTo>
                      <a:pt x="23" y="3647"/>
                    </a:lnTo>
                    <a:lnTo>
                      <a:pt x="11" y="3636"/>
                    </a:lnTo>
                    <a:lnTo>
                      <a:pt x="0" y="362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4905360" y="4545000"/>
                <a:ext cx="30240" cy="1203480"/>
              </a:xfrm>
              <a:custGeom>
                <a:avLst/>
                <a:gdLst/>
                <a:ahLst/>
                <a:rect l="l" t="t" r="r" b="b"/>
                <a:pathLst>
                  <a:path w="94" h="3786">
                    <a:moveTo>
                      <a:pt x="0" y="3704"/>
                    </a:moveTo>
                    <a:lnTo>
                      <a:pt x="0" y="69"/>
                    </a:lnTo>
                    <a:lnTo>
                      <a:pt x="11" y="61"/>
                    </a:lnTo>
                    <a:lnTo>
                      <a:pt x="22" y="52"/>
                    </a:lnTo>
                    <a:lnTo>
                      <a:pt x="35" y="43"/>
                    </a:lnTo>
                    <a:lnTo>
                      <a:pt x="46" y="34"/>
                    </a:lnTo>
                    <a:lnTo>
                      <a:pt x="58" y="25"/>
                    </a:lnTo>
                    <a:lnTo>
                      <a:pt x="69" y="17"/>
                    </a:lnTo>
                    <a:lnTo>
                      <a:pt x="82" y="8"/>
                    </a:lnTo>
                    <a:lnTo>
                      <a:pt x="94" y="0"/>
                    </a:lnTo>
                    <a:lnTo>
                      <a:pt x="94" y="1572"/>
                    </a:lnTo>
                    <a:lnTo>
                      <a:pt x="85" y="1613"/>
                    </a:lnTo>
                    <a:lnTo>
                      <a:pt x="77" y="1654"/>
                    </a:lnTo>
                    <a:lnTo>
                      <a:pt x="70" y="1696"/>
                    </a:lnTo>
                    <a:lnTo>
                      <a:pt x="65" y="1739"/>
                    </a:lnTo>
                    <a:lnTo>
                      <a:pt x="62" y="1783"/>
                    </a:lnTo>
                    <a:lnTo>
                      <a:pt x="60" y="1827"/>
                    </a:lnTo>
                    <a:lnTo>
                      <a:pt x="59" y="1873"/>
                    </a:lnTo>
                    <a:lnTo>
                      <a:pt x="60" y="1919"/>
                    </a:lnTo>
                    <a:lnTo>
                      <a:pt x="61" y="1953"/>
                    </a:lnTo>
                    <a:lnTo>
                      <a:pt x="64" y="1987"/>
                    </a:lnTo>
                    <a:lnTo>
                      <a:pt x="67" y="2021"/>
                    </a:lnTo>
                    <a:lnTo>
                      <a:pt x="70" y="2054"/>
                    </a:lnTo>
                    <a:lnTo>
                      <a:pt x="76" y="2087"/>
                    </a:lnTo>
                    <a:lnTo>
                      <a:pt x="81" y="2120"/>
                    </a:lnTo>
                    <a:lnTo>
                      <a:pt x="87" y="2152"/>
                    </a:lnTo>
                    <a:lnTo>
                      <a:pt x="94" y="2184"/>
                    </a:lnTo>
                    <a:lnTo>
                      <a:pt x="94" y="3786"/>
                    </a:lnTo>
                    <a:lnTo>
                      <a:pt x="82" y="3776"/>
                    </a:lnTo>
                    <a:lnTo>
                      <a:pt x="69" y="3766"/>
                    </a:lnTo>
                    <a:lnTo>
                      <a:pt x="58" y="3756"/>
                    </a:lnTo>
                    <a:lnTo>
                      <a:pt x="46" y="3745"/>
                    </a:lnTo>
                    <a:lnTo>
                      <a:pt x="35" y="3735"/>
                    </a:lnTo>
                    <a:lnTo>
                      <a:pt x="22" y="3725"/>
                    </a:lnTo>
                    <a:lnTo>
                      <a:pt x="11" y="3715"/>
                    </a:lnTo>
                    <a:lnTo>
                      <a:pt x="0" y="3704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921200" y="4535640"/>
                <a:ext cx="28800" cy="1223640"/>
              </a:xfrm>
              <a:custGeom>
                <a:avLst/>
                <a:gdLst/>
                <a:ahLst/>
                <a:rect l="l" t="t" r="r" b="b"/>
                <a:pathLst>
                  <a:path w="94" h="3854">
                    <a:moveTo>
                      <a:pt x="0" y="3777"/>
                    </a:moveTo>
                    <a:lnTo>
                      <a:pt x="0" y="65"/>
                    </a:lnTo>
                    <a:lnTo>
                      <a:pt x="11" y="56"/>
                    </a:lnTo>
                    <a:lnTo>
                      <a:pt x="22" y="47"/>
                    </a:lnTo>
                    <a:lnTo>
                      <a:pt x="35" y="39"/>
                    </a:lnTo>
                    <a:lnTo>
                      <a:pt x="46" y="31"/>
                    </a:lnTo>
                    <a:lnTo>
                      <a:pt x="57" y="24"/>
                    </a:lnTo>
                    <a:lnTo>
                      <a:pt x="69" y="16"/>
                    </a:lnTo>
                    <a:lnTo>
                      <a:pt x="82" y="8"/>
                    </a:lnTo>
                    <a:lnTo>
                      <a:pt x="94" y="0"/>
                    </a:lnTo>
                    <a:lnTo>
                      <a:pt x="94" y="1458"/>
                    </a:lnTo>
                    <a:lnTo>
                      <a:pt x="83" y="1485"/>
                    </a:lnTo>
                    <a:lnTo>
                      <a:pt x="72" y="1513"/>
                    </a:lnTo>
                    <a:lnTo>
                      <a:pt x="63" y="1542"/>
                    </a:lnTo>
                    <a:lnTo>
                      <a:pt x="55" y="1570"/>
                    </a:lnTo>
                    <a:lnTo>
                      <a:pt x="47" y="1600"/>
                    </a:lnTo>
                    <a:lnTo>
                      <a:pt x="41" y="1629"/>
                    </a:lnTo>
                    <a:lnTo>
                      <a:pt x="35" y="1660"/>
                    </a:lnTo>
                    <a:lnTo>
                      <a:pt x="29" y="1691"/>
                    </a:lnTo>
                    <a:lnTo>
                      <a:pt x="24" y="1721"/>
                    </a:lnTo>
                    <a:lnTo>
                      <a:pt x="20" y="1753"/>
                    </a:lnTo>
                    <a:lnTo>
                      <a:pt x="17" y="1784"/>
                    </a:lnTo>
                    <a:lnTo>
                      <a:pt x="15" y="1816"/>
                    </a:lnTo>
                    <a:lnTo>
                      <a:pt x="13" y="1849"/>
                    </a:lnTo>
                    <a:lnTo>
                      <a:pt x="12" y="1882"/>
                    </a:lnTo>
                    <a:lnTo>
                      <a:pt x="12" y="1916"/>
                    </a:lnTo>
                    <a:lnTo>
                      <a:pt x="13" y="1950"/>
                    </a:lnTo>
                    <a:lnTo>
                      <a:pt x="14" y="1978"/>
                    </a:lnTo>
                    <a:lnTo>
                      <a:pt x="16" y="2006"/>
                    </a:lnTo>
                    <a:lnTo>
                      <a:pt x="18" y="2034"/>
                    </a:lnTo>
                    <a:lnTo>
                      <a:pt x="21" y="2062"/>
                    </a:lnTo>
                    <a:lnTo>
                      <a:pt x="24" y="2088"/>
                    </a:lnTo>
                    <a:lnTo>
                      <a:pt x="28" y="2116"/>
                    </a:lnTo>
                    <a:lnTo>
                      <a:pt x="33" y="2142"/>
                    </a:lnTo>
                    <a:lnTo>
                      <a:pt x="37" y="2169"/>
                    </a:lnTo>
                    <a:lnTo>
                      <a:pt x="42" y="2194"/>
                    </a:lnTo>
                    <a:lnTo>
                      <a:pt x="48" y="2221"/>
                    </a:lnTo>
                    <a:lnTo>
                      <a:pt x="54" y="2246"/>
                    </a:lnTo>
                    <a:lnTo>
                      <a:pt x="61" y="2272"/>
                    </a:lnTo>
                    <a:lnTo>
                      <a:pt x="68" y="2296"/>
                    </a:lnTo>
                    <a:lnTo>
                      <a:pt x="77" y="2321"/>
                    </a:lnTo>
                    <a:lnTo>
                      <a:pt x="85" y="2345"/>
                    </a:lnTo>
                    <a:lnTo>
                      <a:pt x="94" y="2370"/>
                    </a:lnTo>
                    <a:lnTo>
                      <a:pt x="94" y="3854"/>
                    </a:lnTo>
                    <a:lnTo>
                      <a:pt x="82" y="3845"/>
                    </a:lnTo>
                    <a:lnTo>
                      <a:pt x="69" y="3836"/>
                    </a:lnTo>
                    <a:lnTo>
                      <a:pt x="58" y="3826"/>
                    </a:lnTo>
                    <a:lnTo>
                      <a:pt x="46" y="3816"/>
                    </a:lnTo>
                    <a:lnTo>
                      <a:pt x="35" y="3807"/>
                    </a:lnTo>
                    <a:lnTo>
                      <a:pt x="22" y="3797"/>
                    </a:lnTo>
                    <a:lnTo>
                      <a:pt x="11" y="3788"/>
                    </a:lnTo>
                    <a:lnTo>
                      <a:pt x="0" y="3777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935600" y="4527720"/>
                <a:ext cx="30240" cy="1242720"/>
              </a:xfrm>
              <a:custGeom>
                <a:avLst/>
                <a:gdLst/>
                <a:ahLst/>
                <a:rect l="l" t="t" r="r" b="b"/>
                <a:pathLst>
                  <a:path w="93" h="3917">
                    <a:moveTo>
                      <a:pt x="0" y="3845"/>
                    </a:moveTo>
                    <a:lnTo>
                      <a:pt x="0" y="2243"/>
                    </a:lnTo>
                    <a:lnTo>
                      <a:pt x="8" y="2277"/>
                    </a:lnTo>
                    <a:lnTo>
                      <a:pt x="17" y="2311"/>
                    </a:lnTo>
                    <a:lnTo>
                      <a:pt x="27" y="2345"/>
                    </a:lnTo>
                    <a:lnTo>
                      <a:pt x="39" y="2377"/>
                    </a:lnTo>
                    <a:lnTo>
                      <a:pt x="51" y="2410"/>
                    </a:lnTo>
                    <a:lnTo>
                      <a:pt x="64" y="2442"/>
                    </a:lnTo>
                    <a:lnTo>
                      <a:pt x="79" y="2473"/>
                    </a:lnTo>
                    <a:lnTo>
                      <a:pt x="93" y="2504"/>
                    </a:lnTo>
                    <a:lnTo>
                      <a:pt x="93" y="3917"/>
                    </a:lnTo>
                    <a:lnTo>
                      <a:pt x="82" y="3907"/>
                    </a:lnTo>
                    <a:lnTo>
                      <a:pt x="69" y="3899"/>
                    </a:lnTo>
                    <a:lnTo>
                      <a:pt x="57" y="3890"/>
                    </a:lnTo>
                    <a:lnTo>
                      <a:pt x="46" y="3881"/>
                    </a:lnTo>
                    <a:lnTo>
                      <a:pt x="35" y="3873"/>
                    </a:lnTo>
                    <a:lnTo>
                      <a:pt x="22" y="3864"/>
                    </a:lnTo>
                    <a:lnTo>
                      <a:pt x="11" y="3854"/>
                    </a:lnTo>
                    <a:lnTo>
                      <a:pt x="0" y="3845"/>
                    </a:lnTo>
                    <a:close/>
                    <a:moveTo>
                      <a:pt x="0" y="1631"/>
                    </a:moveTo>
                    <a:lnTo>
                      <a:pt x="0" y="59"/>
                    </a:lnTo>
                    <a:lnTo>
                      <a:pt x="11" y="51"/>
                    </a:lnTo>
                    <a:lnTo>
                      <a:pt x="22" y="44"/>
                    </a:lnTo>
                    <a:lnTo>
                      <a:pt x="34" y="37"/>
                    </a:lnTo>
                    <a:lnTo>
                      <a:pt x="46" y="28"/>
                    </a:lnTo>
                    <a:lnTo>
                      <a:pt x="57" y="21"/>
                    </a:lnTo>
                    <a:lnTo>
                      <a:pt x="68" y="14"/>
                    </a:lnTo>
                    <a:lnTo>
                      <a:pt x="81" y="7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1386"/>
                    </a:lnTo>
                    <a:lnTo>
                      <a:pt x="79" y="1415"/>
                    </a:lnTo>
                    <a:lnTo>
                      <a:pt x="64" y="1444"/>
                    </a:lnTo>
                    <a:lnTo>
                      <a:pt x="51" y="1474"/>
                    </a:lnTo>
                    <a:lnTo>
                      <a:pt x="39" y="1504"/>
                    </a:lnTo>
                    <a:lnTo>
                      <a:pt x="27" y="1535"/>
                    </a:lnTo>
                    <a:lnTo>
                      <a:pt x="17" y="1567"/>
                    </a:lnTo>
                    <a:lnTo>
                      <a:pt x="8" y="1598"/>
                    </a:lnTo>
                    <a:lnTo>
                      <a:pt x="0" y="1631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950000" y="4518000"/>
                <a:ext cx="29880" cy="1262160"/>
              </a:xfrm>
              <a:custGeom>
                <a:avLst/>
                <a:gdLst/>
                <a:ahLst/>
                <a:rect l="l" t="t" r="r" b="b"/>
                <a:pathLst>
                  <a:path w="93" h="3975">
                    <a:moveTo>
                      <a:pt x="0" y="3909"/>
                    </a:moveTo>
                    <a:lnTo>
                      <a:pt x="0" y="2425"/>
                    </a:lnTo>
                    <a:lnTo>
                      <a:pt x="9" y="2449"/>
                    </a:lnTo>
                    <a:lnTo>
                      <a:pt x="19" y="2474"/>
                    </a:lnTo>
                    <a:lnTo>
                      <a:pt x="31" y="2498"/>
                    </a:lnTo>
                    <a:lnTo>
                      <a:pt x="42" y="2523"/>
                    </a:lnTo>
                    <a:lnTo>
                      <a:pt x="54" y="2546"/>
                    </a:lnTo>
                    <a:lnTo>
                      <a:pt x="66" y="2570"/>
                    </a:lnTo>
                    <a:lnTo>
                      <a:pt x="80" y="2593"/>
                    </a:lnTo>
                    <a:lnTo>
                      <a:pt x="93" y="2616"/>
                    </a:lnTo>
                    <a:lnTo>
                      <a:pt x="93" y="3975"/>
                    </a:lnTo>
                    <a:lnTo>
                      <a:pt x="81" y="3968"/>
                    </a:lnTo>
                    <a:lnTo>
                      <a:pt x="69" y="3960"/>
                    </a:lnTo>
                    <a:lnTo>
                      <a:pt x="57" y="3952"/>
                    </a:lnTo>
                    <a:lnTo>
                      <a:pt x="46" y="3943"/>
                    </a:lnTo>
                    <a:lnTo>
                      <a:pt x="34" y="3934"/>
                    </a:lnTo>
                    <a:lnTo>
                      <a:pt x="22" y="3926"/>
                    </a:lnTo>
                    <a:lnTo>
                      <a:pt x="11" y="3917"/>
                    </a:lnTo>
                    <a:lnTo>
                      <a:pt x="0" y="3909"/>
                    </a:lnTo>
                    <a:close/>
                    <a:moveTo>
                      <a:pt x="0" y="1513"/>
                    </a:moveTo>
                    <a:lnTo>
                      <a:pt x="0" y="55"/>
                    </a:lnTo>
                    <a:lnTo>
                      <a:pt x="5" y="51"/>
                    </a:lnTo>
                    <a:lnTo>
                      <a:pt x="11" y="48"/>
                    </a:lnTo>
                    <a:lnTo>
                      <a:pt x="16" y="44"/>
                    </a:lnTo>
                    <a:lnTo>
                      <a:pt x="22" y="41"/>
                    </a:lnTo>
                    <a:lnTo>
                      <a:pt x="28" y="37"/>
                    </a:lnTo>
                    <a:lnTo>
                      <a:pt x="34" y="34"/>
                    </a:lnTo>
                    <a:lnTo>
                      <a:pt x="40" y="31"/>
                    </a:lnTo>
                    <a:lnTo>
                      <a:pt x="46" y="27"/>
                    </a:lnTo>
                    <a:lnTo>
                      <a:pt x="51" y="24"/>
                    </a:lnTo>
                    <a:lnTo>
                      <a:pt x="57" y="20"/>
                    </a:lnTo>
                    <a:lnTo>
                      <a:pt x="63" y="17"/>
                    </a:lnTo>
                    <a:lnTo>
                      <a:pt x="69" y="14"/>
                    </a:lnTo>
                    <a:lnTo>
                      <a:pt x="75" y="10"/>
                    </a:lnTo>
                    <a:lnTo>
                      <a:pt x="81" y="6"/>
                    </a:lnTo>
                    <a:lnTo>
                      <a:pt x="87" y="3"/>
                    </a:lnTo>
                    <a:lnTo>
                      <a:pt x="93" y="0"/>
                    </a:lnTo>
                    <a:lnTo>
                      <a:pt x="93" y="1334"/>
                    </a:lnTo>
                    <a:lnTo>
                      <a:pt x="80" y="1356"/>
                    </a:lnTo>
                    <a:lnTo>
                      <a:pt x="66" y="1377"/>
                    </a:lnTo>
                    <a:lnTo>
                      <a:pt x="54" y="1399"/>
                    </a:lnTo>
                    <a:lnTo>
                      <a:pt x="42" y="1421"/>
                    </a:lnTo>
                    <a:lnTo>
                      <a:pt x="31" y="1444"/>
                    </a:lnTo>
                    <a:lnTo>
                      <a:pt x="19" y="1466"/>
                    </a:lnTo>
                    <a:lnTo>
                      <a:pt x="9" y="1489"/>
                    </a:lnTo>
                    <a:lnTo>
                      <a:pt x="0" y="1513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965840" y="4510080"/>
                <a:ext cx="28440" cy="1279440"/>
              </a:xfrm>
              <a:custGeom>
                <a:avLst/>
                <a:gdLst/>
                <a:ahLst/>
                <a:rect l="l" t="t" r="r" b="b"/>
                <a:pathLst>
                  <a:path w="94" h="4030">
                    <a:moveTo>
                      <a:pt x="0" y="3968"/>
                    </a:moveTo>
                    <a:lnTo>
                      <a:pt x="0" y="2555"/>
                    </a:lnTo>
                    <a:lnTo>
                      <a:pt x="10" y="2575"/>
                    </a:lnTo>
                    <a:lnTo>
                      <a:pt x="21" y="2596"/>
                    </a:lnTo>
                    <a:lnTo>
                      <a:pt x="33" y="2615"/>
                    </a:lnTo>
                    <a:lnTo>
                      <a:pt x="44" y="2634"/>
                    </a:lnTo>
                    <a:lnTo>
                      <a:pt x="56" y="2654"/>
                    </a:lnTo>
                    <a:lnTo>
                      <a:pt x="68" y="2673"/>
                    </a:lnTo>
                    <a:lnTo>
                      <a:pt x="81" y="2692"/>
                    </a:lnTo>
                    <a:lnTo>
                      <a:pt x="94" y="2710"/>
                    </a:lnTo>
                    <a:lnTo>
                      <a:pt x="94" y="4030"/>
                    </a:lnTo>
                    <a:lnTo>
                      <a:pt x="82" y="4022"/>
                    </a:lnTo>
                    <a:lnTo>
                      <a:pt x="70" y="4015"/>
                    </a:lnTo>
                    <a:lnTo>
                      <a:pt x="58" y="4007"/>
                    </a:lnTo>
                    <a:lnTo>
                      <a:pt x="47" y="3999"/>
                    </a:lnTo>
                    <a:lnTo>
                      <a:pt x="35" y="3991"/>
                    </a:lnTo>
                    <a:lnTo>
                      <a:pt x="23" y="3984"/>
                    </a:lnTo>
                    <a:lnTo>
                      <a:pt x="12" y="3976"/>
                    </a:lnTo>
                    <a:lnTo>
                      <a:pt x="0" y="3968"/>
                    </a:lnTo>
                    <a:close/>
                    <a:moveTo>
                      <a:pt x="0" y="1437"/>
                    </a:moveTo>
                    <a:lnTo>
                      <a:pt x="0" y="51"/>
                    </a:lnTo>
                    <a:lnTo>
                      <a:pt x="12" y="44"/>
                    </a:lnTo>
                    <a:lnTo>
                      <a:pt x="23" y="38"/>
                    </a:lnTo>
                    <a:lnTo>
                      <a:pt x="35" y="30"/>
                    </a:lnTo>
                    <a:lnTo>
                      <a:pt x="47" y="24"/>
                    </a:lnTo>
                    <a:lnTo>
                      <a:pt x="58" y="18"/>
                    </a:lnTo>
                    <a:lnTo>
                      <a:pt x="70" y="12"/>
                    </a:lnTo>
                    <a:lnTo>
                      <a:pt x="82" y="6"/>
                    </a:lnTo>
                    <a:lnTo>
                      <a:pt x="94" y="0"/>
                    </a:lnTo>
                    <a:lnTo>
                      <a:pt x="94" y="1293"/>
                    </a:lnTo>
                    <a:lnTo>
                      <a:pt x="92" y="1296"/>
                    </a:lnTo>
                    <a:lnTo>
                      <a:pt x="90" y="1299"/>
                    </a:lnTo>
                    <a:lnTo>
                      <a:pt x="87" y="1301"/>
                    </a:lnTo>
                    <a:lnTo>
                      <a:pt x="85" y="1304"/>
                    </a:lnTo>
                    <a:lnTo>
                      <a:pt x="83" y="1307"/>
                    </a:lnTo>
                    <a:lnTo>
                      <a:pt x="81" y="1311"/>
                    </a:lnTo>
                    <a:lnTo>
                      <a:pt x="78" y="1314"/>
                    </a:lnTo>
                    <a:lnTo>
                      <a:pt x="75" y="1317"/>
                    </a:lnTo>
                    <a:lnTo>
                      <a:pt x="65" y="1331"/>
                    </a:lnTo>
                    <a:lnTo>
                      <a:pt x="55" y="1346"/>
                    </a:lnTo>
                    <a:lnTo>
                      <a:pt x="46" y="1360"/>
                    </a:lnTo>
                    <a:lnTo>
                      <a:pt x="36" y="1376"/>
                    </a:lnTo>
                    <a:lnTo>
                      <a:pt x="26" y="1391"/>
                    </a:lnTo>
                    <a:lnTo>
                      <a:pt x="17" y="1406"/>
                    </a:lnTo>
                    <a:lnTo>
                      <a:pt x="9" y="1422"/>
                    </a:lnTo>
                    <a:lnTo>
                      <a:pt x="0" y="143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979880" y="4503600"/>
                <a:ext cx="30240" cy="1295640"/>
              </a:xfrm>
              <a:custGeom>
                <a:avLst/>
                <a:gdLst/>
                <a:ahLst/>
                <a:rect l="l" t="t" r="r" b="b"/>
                <a:pathLst>
                  <a:path w="94" h="4080">
                    <a:moveTo>
                      <a:pt x="0" y="4022"/>
                    </a:moveTo>
                    <a:lnTo>
                      <a:pt x="0" y="2663"/>
                    </a:lnTo>
                    <a:lnTo>
                      <a:pt x="9" y="2677"/>
                    </a:lnTo>
                    <a:lnTo>
                      <a:pt x="17" y="2690"/>
                    </a:lnTo>
                    <a:lnTo>
                      <a:pt x="26" y="2703"/>
                    </a:lnTo>
                    <a:lnTo>
                      <a:pt x="36" y="2717"/>
                    </a:lnTo>
                    <a:lnTo>
                      <a:pt x="45" y="2730"/>
                    </a:lnTo>
                    <a:lnTo>
                      <a:pt x="54" y="2743"/>
                    </a:lnTo>
                    <a:lnTo>
                      <a:pt x="64" y="2756"/>
                    </a:lnTo>
                    <a:lnTo>
                      <a:pt x="74" y="2770"/>
                    </a:lnTo>
                    <a:lnTo>
                      <a:pt x="76" y="2773"/>
                    </a:lnTo>
                    <a:lnTo>
                      <a:pt x="78" y="2776"/>
                    </a:lnTo>
                    <a:lnTo>
                      <a:pt x="82" y="2779"/>
                    </a:lnTo>
                    <a:lnTo>
                      <a:pt x="84" y="2782"/>
                    </a:lnTo>
                    <a:lnTo>
                      <a:pt x="87" y="2785"/>
                    </a:lnTo>
                    <a:lnTo>
                      <a:pt x="89" y="2788"/>
                    </a:lnTo>
                    <a:lnTo>
                      <a:pt x="91" y="2791"/>
                    </a:lnTo>
                    <a:lnTo>
                      <a:pt x="94" y="2794"/>
                    </a:lnTo>
                    <a:lnTo>
                      <a:pt x="94" y="4080"/>
                    </a:lnTo>
                    <a:lnTo>
                      <a:pt x="93" y="4080"/>
                    </a:lnTo>
                    <a:lnTo>
                      <a:pt x="92" y="4079"/>
                    </a:lnTo>
                    <a:lnTo>
                      <a:pt x="90" y="4078"/>
                    </a:lnTo>
                    <a:lnTo>
                      <a:pt x="89" y="4078"/>
                    </a:lnTo>
                    <a:lnTo>
                      <a:pt x="88" y="4077"/>
                    </a:lnTo>
                    <a:lnTo>
                      <a:pt x="87" y="4076"/>
                    </a:lnTo>
                    <a:lnTo>
                      <a:pt x="86" y="4076"/>
                    </a:lnTo>
                    <a:lnTo>
                      <a:pt x="85" y="4075"/>
                    </a:lnTo>
                    <a:lnTo>
                      <a:pt x="73" y="4069"/>
                    </a:lnTo>
                    <a:lnTo>
                      <a:pt x="63" y="4062"/>
                    </a:lnTo>
                    <a:lnTo>
                      <a:pt x="52" y="4056"/>
                    </a:lnTo>
                    <a:lnTo>
                      <a:pt x="42" y="4050"/>
                    </a:lnTo>
                    <a:lnTo>
                      <a:pt x="31" y="4043"/>
                    </a:lnTo>
                    <a:lnTo>
                      <a:pt x="21" y="4037"/>
                    </a:lnTo>
                    <a:lnTo>
                      <a:pt x="10" y="4029"/>
                    </a:lnTo>
                    <a:lnTo>
                      <a:pt x="0" y="4022"/>
                    </a:lnTo>
                    <a:close/>
                    <a:moveTo>
                      <a:pt x="0" y="1381"/>
                    </a:moveTo>
                    <a:lnTo>
                      <a:pt x="0" y="47"/>
                    </a:lnTo>
                    <a:lnTo>
                      <a:pt x="11" y="41"/>
                    </a:lnTo>
                    <a:lnTo>
                      <a:pt x="23" y="35"/>
                    </a:lnTo>
                    <a:lnTo>
                      <a:pt x="35" y="29"/>
                    </a:lnTo>
                    <a:lnTo>
                      <a:pt x="47" y="23"/>
                    </a:lnTo>
                    <a:lnTo>
                      <a:pt x="58" y="18"/>
                    </a:lnTo>
                    <a:lnTo>
                      <a:pt x="70" y="12"/>
                    </a:lnTo>
                    <a:lnTo>
                      <a:pt x="82" y="6"/>
                    </a:lnTo>
                    <a:lnTo>
                      <a:pt x="94" y="0"/>
                    </a:lnTo>
                    <a:lnTo>
                      <a:pt x="94" y="1260"/>
                    </a:lnTo>
                    <a:lnTo>
                      <a:pt x="86" y="1269"/>
                    </a:lnTo>
                    <a:lnTo>
                      <a:pt x="76" y="1278"/>
                    </a:lnTo>
                    <a:lnTo>
                      <a:pt x="68" y="1289"/>
                    </a:lnTo>
                    <a:lnTo>
                      <a:pt x="60" y="1299"/>
                    </a:lnTo>
                    <a:lnTo>
                      <a:pt x="53" y="1309"/>
                    </a:lnTo>
                    <a:lnTo>
                      <a:pt x="45" y="1319"/>
                    </a:lnTo>
                    <a:lnTo>
                      <a:pt x="37" y="1329"/>
                    </a:lnTo>
                    <a:lnTo>
                      <a:pt x="28" y="1340"/>
                    </a:lnTo>
                    <a:lnTo>
                      <a:pt x="25" y="1345"/>
                    </a:lnTo>
                    <a:lnTo>
                      <a:pt x="21" y="1350"/>
                    </a:lnTo>
                    <a:lnTo>
                      <a:pt x="18" y="1355"/>
                    </a:lnTo>
                    <a:lnTo>
                      <a:pt x="14" y="1360"/>
                    </a:lnTo>
                    <a:lnTo>
                      <a:pt x="10" y="1366"/>
                    </a:lnTo>
                    <a:lnTo>
                      <a:pt x="7" y="1371"/>
                    </a:lnTo>
                    <a:lnTo>
                      <a:pt x="4" y="1376"/>
                    </a:lnTo>
                    <a:lnTo>
                      <a:pt x="0" y="1381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994280" y="4497480"/>
                <a:ext cx="30240" cy="1309680"/>
              </a:xfrm>
              <a:custGeom>
                <a:avLst/>
                <a:gdLst/>
                <a:ahLst/>
                <a:rect l="l" t="t" r="r" b="b"/>
                <a:pathLst>
                  <a:path w="94" h="4127">
                    <a:moveTo>
                      <a:pt x="0" y="4073"/>
                    </a:moveTo>
                    <a:lnTo>
                      <a:pt x="0" y="2753"/>
                    </a:lnTo>
                    <a:lnTo>
                      <a:pt x="3" y="2758"/>
                    </a:lnTo>
                    <a:lnTo>
                      <a:pt x="7" y="2762"/>
                    </a:lnTo>
                    <a:lnTo>
                      <a:pt x="10" y="2767"/>
                    </a:lnTo>
                    <a:lnTo>
                      <a:pt x="13" y="2771"/>
                    </a:lnTo>
                    <a:lnTo>
                      <a:pt x="17" y="2776"/>
                    </a:lnTo>
                    <a:lnTo>
                      <a:pt x="20" y="2780"/>
                    </a:lnTo>
                    <a:lnTo>
                      <a:pt x="23" y="2785"/>
                    </a:lnTo>
                    <a:lnTo>
                      <a:pt x="27" y="2790"/>
                    </a:lnTo>
                    <a:lnTo>
                      <a:pt x="36" y="2800"/>
                    </a:lnTo>
                    <a:lnTo>
                      <a:pt x="44" y="2810"/>
                    </a:lnTo>
                    <a:lnTo>
                      <a:pt x="52" y="2820"/>
                    </a:lnTo>
                    <a:lnTo>
                      <a:pt x="60" y="2829"/>
                    </a:lnTo>
                    <a:lnTo>
                      <a:pt x="68" y="2840"/>
                    </a:lnTo>
                    <a:lnTo>
                      <a:pt x="76" y="2849"/>
                    </a:lnTo>
                    <a:lnTo>
                      <a:pt x="85" y="2858"/>
                    </a:lnTo>
                    <a:lnTo>
                      <a:pt x="94" y="2867"/>
                    </a:lnTo>
                    <a:lnTo>
                      <a:pt x="94" y="4127"/>
                    </a:lnTo>
                    <a:lnTo>
                      <a:pt x="87" y="4123"/>
                    </a:lnTo>
                    <a:lnTo>
                      <a:pt x="79" y="4119"/>
                    </a:lnTo>
                    <a:lnTo>
                      <a:pt x="72" y="4116"/>
                    </a:lnTo>
                    <a:lnTo>
                      <a:pt x="65" y="4112"/>
                    </a:lnTo>
                    <a:lnTo>
                      <a:pt x="58" y="4108"/>
                    </a:lnTo>
                    <a:lnTo>
                      <a:pt x="52" y="4103"/>
                    </a:lnTo>
                    <a:lnTo>
                      <a:pt x="45" y="4099"/>
                    </a:lnTo>
                    <a:lnTo>
                      <a:pt x="38" y="4095"/>
                    </a:lnTo>
                    <a:lnTo>
                      <a:pt x="32" y="4092"/>
                    </a:lnTo>
                    <a:lnTo>
                      <a:pt x="28" y="4090"/>
                    </a:lnTo>
                    <a:lnTo>
                      <a:pt x="23" y="4087"/>
                    </a:lnTo>
                    <a:lnTo>
                      <a:pt x="18" y="4084"/>
                    </a:lnTo>
                    <a:lnTo>
                      <a:pt x="14" y="4081"/>
                    </a:lnTo>
                    <a:lnTo>
                      <a:pt x="9" y="4078"/>
                    </a:lnTo>
                    <a:lnTo>
                      <a:pt x="5" y="4076"/>
                    </a:lnTo>
                    <a:lnTo>
                      <a:pt x="0" y="4073"/>
                    </a:lnTo>
                    <a:close/>
                    <a:moveTo>
                      <a:pt x="0" y="1336"/>
                    </a:moveTo>
                    <a:lnTo>
                      <a:pt x="0" y="43"/>
                    </a:lnTo>
                    <a:lnTo>
                      <a:pt x="11" y="38"/>
                    </a:lnTo>
                    <a:lnTo>
                      <a:pt x="23" y="32"/>
                    </a:lnTo>
                    <a:lnTo>
                      <a:pt x="35" y="26"/>
                    </a:lnTo>
                    <a:lnTo>
                      <a:pt x="47" y="20"/>
                    </a:lnTo>
                    <a:lnTo>
                      <a:pt x="58" y="15"/>
                    </a:lnTo>
                    <a:lnTo>
                      <a:pt x="69" y="10"/>
                    </a:lnTo>
                    <a:lnTo>
                      <a:pt x="81" y="5"/>
                    </a:lnTo>
                    <a:lnTo>
                      <a:pt x="94" y="0"/>
                    </a:lnTo>
                    <a:lnTo>
                      <a:pt x="94" y="1232"/>
                    </a:lnTo>
                    <a:lnTo>
                      <a:pt x="81" y="1244"/>
                    </a:lnTo>
                    <a:lnTo>
                      <a:pt x="69" y="1256"/>
                    </a:lnTo>
                    <a:lnTo>
                      <a:pt x="57" y="1269"/>
                    </a:lnTo>
                    <a:lnTo>
                      <a:pt x="46" y="1281"/>
                    </a:lnTo>
                    <a:lnTo>
                      <a:pt x="33" y="1294"/>
                    </a:lnTo>
                    <a:lnTo>
                      <a:pt x="22" y="1308"/>
                    </a:lnTo>
                    <a:lnTo>
                      <a:pt x="11" y="1322"/>
                    </a:lnTo>
                    <a:lnTo>
                      <a:pt x="0" y="133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10120" y="4491000"/>
                <a:ext cx="30240" cy="1324080"/>
              </a:xfrm>
              <a:custGeom>
                <a:avLst/>
                <a:gdLst/>
                <a:ahLst/>
                <a:rect l="l" t="t" r="r" b="b"/>
                <a:pathLst>
                  <a:path w="94" h="4169">
                    <a:moveTo>
                      <a:pt x="0" y="4118"/>
                    </a:moveTo>
                    <a:lnTo>
                      <a:pt x="0" y="2832"/>
                    </a:lnTo>
                    <a:lnTo>
                      <a:pt x="11" y="2845"/>
                    </a:lnTo>
                    <a:lnTo>
                      <a:pt x="22" y="2859"/>
                    </a:lnTo>
                    <a:lnTo>
                      <a:pt x="33" y="2872"/>
                    </a:lnTo>
                    <a:lnTo>
                      <a:pt x="46" y="2884"/>
                    </a:lnTo>
                    <a:lnTo>
                      <a:pt x="57" y="2896"/>
                    </a:lnTo>
                    <a:lnTo>
                      <a:pt x="69" y="2909"/>
                    </a:lnTo>
                    <a:lnTo>
                      <a:pt x="81" y="2920"/>
                    </a:lnTo>
                    <a:lnTo>
                      <a:pt x="94" y="2931"/>
                    </a:lnTo>
                    <a:lnTo>
                      <a:pt x="94" y="4169"/>
                    </a:lnTo>
                    <a:lnTo>
                      <a:pt x="81" y="4163"/>
                    </a:lnTo>
                    <a:lnTo>
                      <a:pt x="69" y="4157"/>
                    </a:lnTo>
                    <a:lnTo>
                      <a:pt x="58" y="4151"/>
                    </a:lnTo>
                    <a:lnTo>
                      <a:pt x="46" y="4145"/>
                    </a:lnTo>
                    <a:lnTo>
                      <a:pt x="34" y="4139"/>
                    </a:lnTo>
                    <a:lnTo>
                      <a:pt x="23" y="4132"/>
                    </a:lnTo>
                    <a:lnTo>
                      <a:pt x="11" y="4126"/>
                    </a:lnTo>
                    <a:lnTo>
                      <a:pt x="0" y="4118"/>
                    </a:lnTo>
                    <a:close/>
                    <a:moveTo>
                      <a:pt x="0" y="1298"/>
                    </a:moveTo>
                    <a:lnTo>
                      <a:pt x="0" y="38"/>
                    </a:lnTo>
                    <a:lnTo>
                      <a:pt x="11" y="33"/>
                    </a:lnTo>
                    <a:lnTo>
                      <a:pt x="23" y="28"/>
                    </a:lnTo>
                    <a:lnTo>
                      <a:pt x="34" y="23"/>
                    </a:lnTo>
                    <a:lnTo>
                      <a:pt x="46" y="18"/>
                    </a:lnTo>
                    <a:lnTo>
                      <a:pt x="58" y="14"/>
                    </a:lnTo>
                    <a:lnTo>
                      <a:pt x="69" y="9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209"/>
                    </a:lnTo>
                    <a:lnTo>
                      <a:pt x="81" y="1220"/>
                    </a:lnTo>
                    <a:lnTo>
                      <a:pt x="69" y="1230"/>
                    </a:lnTo>
                    <a:lnTo>
                      <a:pt x="57" y="1240"/>
                    </a:lnTo>
                    <a:lnTo>
                      <a:pt x="46" y="1251"/>
                    </a:lnTo>
                    <a:lnTo>
                      <a:pt x="33" y="1262"/>
                    </a:lnTo>
                    <a:lnTo>
                      <a:pt x="22" y="1274"/>
                    </a:lnTo>
                    <a:lnTo>
                      <a:pt x="11" y="1286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024520" y="4486320"/>
                <a:ext cx="30240" cy="1336680"/>
              </a:xfrm>
              <a:custGeom>
                <a:avLst/>
                <a:gdLst/>
                <a:ahLst/>
                <a:rect l="l" t="t" r="r" b="b"/>
                <a:pathLst>
                  <a:path w="93" h="4210">
                    <a:moveTo>
                      <a:pt x="0" y="4163"/>
                    </a:moveTo>
                    <a:lnTo>
                      <a:pt x="0" y="2903"/>
                    </a:lnTo>
                    <a:lnTo>
                      <a:pt x="11" y="2914"/>
                    </a:lnTo>
                    <a:lnTo>
                      <a:pt x="22" y="2927"/>
                    </a:lnTo>
                    <a:lnTo>
                      <a:pt x="33" y="2938"/>
                    </a:lnTo>
                    <a:lnTo>
                      <a:pt x="46" y="2948"/>
                    </a:lnTo>
                    <a:lnTo>
                      <a:pt x="57" y="2959"/>
                    </a:lnTo>
                    <a:lnTo>
                      <a:pt x="69" y="2969"/>
                    </a:lnTo>
                    <a:lnTo>
                      <a:pt x="80" y="2980"/>
                    </a:lnTo>
                    <a:lnTo>
                      <a:pt x="93" y="2989"/>
                    </a:lnTo>
                    <a:lnTo>
                      <a:pt x="93" y="4210"/>
                    </a:lnTo>
                    <a:lnTo>
                      <a:pt x="81" y="4205"/>
                    </a:lnTo>
                    <a:lnTo>
                      <a:pt x="69" y="4199"/>
                    </a:lnTo>
                    <a:lnTo>
                      <a:pt x="58" y="4192"/>
                    </a:lnTo>
                    <a:lnTo>
                      <a:pt x="46" y="4187"/>
                    </a:lnTo>
                    <a:lnTo>
                      <a:pt x="34" y="4181"/>
                    </a:lnTo>
                    <a:lnTo>
                      <a:pt x="22" y="4175"/>
                    </a:lnTo>
                    <a:lnTo>
                      <a:pt x="11" y="4169"/>
                    </a:lnTo>
                    <a:lnTo>
                      <a:pt x="0" y="4163"/>
                    </a:lnTo>
                    <a:close/>
                    <a:moveTo>
                      <a:pt x="0" y="1268"/>
                    </a:moveTo>
                    <a:lnTo>
                      <a:pt x="0" y="36"/>
                    </a:lnTo>
                    <a:lnTo>
                      <a:pt x="11" y="32"/>
                    </a:lnTo>
                    <a:lnTo>
                      <a:pt x="22" y="27"/>
                    </a:lnTo>
                    <a:lnTo>
                      <a:pt x="34" y="23"/>
                    </a:lnTo>
                    <a:lnTo>
                      <a:pt x="46" y="18"/>
                    </a:lnTo>
                    <a:lnTo>
                      <a:pt x="58" y="14"/>
                    </a:lnTo>
                    <a:lnTo>
                      <a:pt x="69" y="9"/>
                    </a:lnTo>
                    <a:lnTo>
                      <a:pt x="81" y="4"/>
                    </a:lnTo>
                    <a:lnTo>
                      <a:pt x="93" y="0"/>
                    </a:lnTo>
                    <a:lnTo>
                      <a:pt x="93" y="1193"/>
                    </a:lnTo>
                    <a:lnTo>
                      <a:pt x="80" y="1202"/>
                    </a:lnTo>
                    <a:lnTo>
                      <a:pt x="69" y="1210"/>
                    </a:lnTo>
                    <a:lnTo>
                      <a:pt x="57" y="1219"/>
                    </a:lnTo>
                    <a:lnTo>
                      <a:pt x="45" y="1228"/>
                    </a:lnTo>
                    <a:lnTo>
                      <a:pt x="33" y="1238"/>
                    </a:lnTo>
                    <a:lnTo>
                      <a:pt x="22" y="1248"/>
                    </a:lnTo>
                    <a:lnTo>
                      <a:pt x="11" y="1258"/>
                    </a:lnTo>
                    <a:lnTo>
                      <a:pt x="0" y="1268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040360" y="4481640"/>
                <a:ext cx="28440" cy="1347840"/>
              </a:xfrm>
              <a:custGeom>
                <a:avLst/>
                <a:gdLst/>
                <a:ahLst/>
                <a:rect l="l" t="t" r="r" b="b"/>
                <a:pathLst>
                  <a:path w="93" h="4244">
                    <a:moveTo>
                      <a:pt x="0" y="4201"/>
                    </a:moveTo>
                    <a:lnTo>
                      <a:pt x="0" y="2963"/>
                    </a:lnTo>
                    <a:lnTo>
                      <a:pt x="11" y="2973"/>
                    </a:lnTo>
                    <a:lnTo>
                      <a:pt x="22" y="2983"/>
                    </a:lnTo>
                    <a:lnTo>
                      <a:pt x="33" y="2993"/>
                    </a:lnTo>
                    <a:lnTo>
                      <a:pt x="45" y="3002"/>
                    </a:lnTo>
                    <a:lnTo>
                      <a:pt x="57" y="3012"/>
                    </a:lnTo>
                    <a:lnTo>
                      <a:pt x="69" y="3020"/>
                    </a:lnTo>
                    <a:lnTo>
                      <a:pt x="80" y="3029"/>
                    </a:lnTo>
                    <a:lnTo>
                      <a:pt x="93" y="3038"/>
                    </a:lnTo>
                    <a:lnTo>
                      <a:pt x="93" y="4244"/>
                    </a:lnTo>
                    <a:lnTo>
                      <a:pt x="81" y="4239"/>
                    </a:lnTo>
                    <a:lnTo>
                      <a:pt x="69" y="4234"/>
                    </a:lnTo>
                    <a:lnTo>
                      <a:pt x="58" y="4229"/>
                    </a:lnTo>
                    <a:lnTo>
                      <a:pt x="46" y="4224"/>
                    </a:lnTo>
                    <a:lnTo>
                      <a:pt x="34" y="4219"/>
                    </a:lnTo>
                    <a:lnTo>
                      <a:pt x="22" y="4213"/>
                    </a:lnTo>
                    <a:lnTo>
                      <a:pt x="11" y="4207"/>
                    </a:lnTo>
                    <a:lnTo>
                      <a:pt x="0" y="4201"/>
                    </a:lnTo>
                    <a:close/>
                    <a:moveTo>
                      <a:pt x="0" y="1241"/>
                    </a:moveTo>
                    <a:lnTo>
                      <a:pt x="0" y="32"/>
                    </a:lnTo>
                    <a:lnTo>
                      <a:pt x="11" y="28"/>
                    </a:lnTo>
                    <a:lnTo>
                      <a:pt x="22" y="23"/>
                    </a:lnTo>
                    <a:lnTo>
                      <a:pt x="34" y="19"/>
                    </a:lnTo>
                    <a:lnTo>
                      <a:pt x="46" y="15"/>
                    </a:lnTo>
                    <a:lnTo>
                      <a:pt x="57" y="11"/>
                    </a:lnTo>
                    <a:lnTo>
                      <a:pt x="69" y="7"/>
                    </a:lnTo>
                    <a:lnTo>
                      <a:pt x="81" y="3"/>
                    </a:lnTo>
                    <a:lnTo>
                      <a:pt x="93" y="0"/>
                    </a:lnTo>
                    <a:lnTo>
                      <a:pt x="93" y="1178"/>
                    </a:lnTo>
                    <a:lnTo>
                      <a:pt x="80" y="1185"/>
                    </a:lnTo>
                    <a:lnTo>
                      <a:pt x="69" y="1192"/>
                    </a:lnTo>
                    <a:lnTo>
                      <a:pt x="57" y="1201"/>
                    </a:lnTo>
                    <a:lnTo>
                      <a:pt x="45" y="1208"/>
                    </a:lnTo>
                    <a:lnTo>
                      <a:pt x="33" y="1216"/>
                    </a:lnTo>
                    <a:lnTo>
                      <a:pt x="22" y="1224"/>
                    </a:lnTo>
                    <a:lnTo>
                      <a:pt x="11" y="1233"/>
                    </a:lnTo>
                    <a:lnTo>
                      <a:pt x="0" y="1241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054760" y="4476600"/>
                <a:ext cx="29880" cy="1359000"/>
              </a:xfrm>
              <a:custGeom>
                <a:avLst/>
                <a:gdLst/>
                <a:ahLst/>
                <a:rect l="l" t="t" r="r" b="b"/>
                <a:pathLst>
                  <a:path w="94" h="4278">
                    <a:moveTo>
                      <a:pt x="0" y="4238"/>
                    </a:moveTo>
                    <a:lnTo>
                      <a:pt x="0" y="3017"/>
                    </a:lnTo>
                    <a:lnTo>
                      <a:pt x="11" y="3026"/>
                    </a:lnTo>
                    <a:lnTo>
                      <a:pt x="23" y="3034"/>
                    </a:lnTo>
                    <a:lnTo>
                      <a:pt x="34" y="3043"/>
                    </a:lnTo>
                    <a:lnTo>
                      <a:pt x="46" y="3051"/>
                    </a:lnTo>
                    <a:lnTo>
                      <a:pt x="58" y="3059"/>
                    </a:lnTo>
                    <a:lnTo>
                      <a:pt x="69" y="3067"/>
                    </a:lnTo>
                    <a:lnTo>
                      <a:pt x="81" y="3074"/>
                    </a:lnTo>
                    <a:lnTo>
                      <a:pt x="94" y="3081"/>
                    </a:lnTo>
                    <a:lnTo>
                      <a:pt x="94" y="4278"/>
                    </a:lnTo>
                    <a:lnTo>
                      <a:pt x="81" y="4272"/>
                    </a:lnTo>
                    <a:lnTo>
                      <a:pt x="70" y="4268"/>
                    </a:lnTo>
                    <a:lnTo>
                      <a:pt x="58" y="4263"/>
                    </a:lnTo>
                    <a:lnTo>
                      <a:pt x="47" y="4258"/>
                    </a:lnTo>
                    <a:lnTo>
                      <a:pt x="34" y="4253"/>
                    </a:lnTo>
                    <a:lnTo>
                      <a:pt x="23" y="4248"/>
                    </a:lnTo>
                    <a:lnTo>
                      <a:pt x="12" y="4243"/>
                    </a:lnTo>
                    <a:lnTo>
                      <a:pt x="0" y="4238"/>
                    </a:lnTo>
                    <a:close/>
                    <a:moveTo>
                      <a:pt x="0" y="1221"/>
                    </a:moveTo>
                    <a:lnTo>
                      <a:pt x="0" y="28"/>
                    </a:lnTo>
                    <a:lnTo>
                      <a:pt x="12" y="25"/>
                    </a:lnTo>
                    <a:lnTo>
                      <a:pt x="23" y="21"/>
                    </a:lnTo>
                    <a:lnTo>
                      <a:pt x="34" y="17"/>
                    </a:lnTo>
                    <a:lnTo>
                      <a:pt x="47" y="14"/>
                    </a:lnTo>
                    <a:lnTo>
                      <a:pt x="58" y="10"/>
                    </a:lnTo>
                    <a:lnTo>
                      <a:pt x="70" y="7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169"/>
                    </a:lnTo>
                    <a:lnTo>
                      <a:pt x="81" y="1174"/>
                    </a:lnTo>
                    <a:lnTo>
                      <a:pt x="69" y="1180"/>
                    </a:lnTo>
                    <a:lnTo>
                      <a:pt x="58" y="1187"/>
                    </a:lnTo>
                    <a:lnTo>
                      <a:pt x="46" y="1193"/>
                    </a:lnTo>
                    <a:lnTo>
                      <a:pt x="34" y="1199"/>
                    </a:lnTo>
                    <a:lnTo>
                      <a:pt x="23" y="1206"/>
                    </a:lnTo>
                    <a:lnTo>
                      <a:pt x="11" y="1214"/>
                    </a:lnTo>
                    <a:lnTo>
                      <a:pt x="0" y="1221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068800" y="4473720"/>
                <a:ext cx="30240" cy="1366560"/>
              </a:xfrm>
              <a:custGeom>
                <a:avLst/>
                <a:gdLst/>
                <a:ahLst/>
                <a:rect l="l" t="t" r="r" b="b"/>
                <a:pathLst>
                  <a:path w="94" h="4307">
                    <a:moveTo>
                      <a:pt x="0" y="4270"/>
                    </a:moveTo>
                    <a:lnTo>
                      <a:pt x="0" y="3064"/>
                    </a:lnTo>
                    <a:lnTo>
                      <a:pt x="11" y="3071"/>
                    </a:lnTo>
                    <a:lnTo>
                      <a:pt x="22" y="3079"/>
                    </a:lnTo>
                    <a:lnTo>
                      <a:pt x="34" y="3086"/>
                    </a:lnTo>
                    <a:lnTo>
                      <a:pt x="46" y="3092"/>
                    </a:lnTo>
                    <a:lnTo>
                      <a:pt x="58" y="3099"/>
                    </a:lnTo>
                    <a:lnTo>
                      <a:pt x="69" y="3105"/>
                    </a:lnTo>
                    <a:lnTo>
                      <a:pt x="81" y="3113"/>
                    </a:lnTo>
                    <a:lnTo>
                      <a:pt x="94" y="3118"/>
                    </a:lnTo>
                    <a:lnTo>
                      <a:pt x="94" y="4307"/>
                    </a:lnTo>
                    <a:lnTo>
                      <a:pt x="81" y="4303"/>
                    </a:lnTo>
                    <a:lnTo>
                      <a:pt x="70" y="4299"/>
                    </a:lnTo>
                    <a:lnTo>
                      <a:pt x="58" y="4294"/>
                    </a:lnTo>
                    <a:lnTo>
                      <a:pt x="47" y="4290"/>
                    </a:lnTo>
                    <a:lnTo>
                      <a:pt x="34" y="4284"/>
                    </a:lnTo>
                    <a:lnTo>
                      <a:pt x="23" y="4280"/>
                    </a:lnTo>
                    <a:lnTo>
                      <a:pt x="12" y="4275"/>
                    </a:lnTo>
                    <a:lnTo>
                      <a:pt x="0" y="4270"/>
                    </a:lnTo>
                    <a:close/>
                    <a:moveTo>
                      <a:pt x="0" y="1204"/>
                    </a:moveTo>
                    <a:lnTo>
                      <a:pt x="0" y="26"/>
                    </a:lnTo>
                    <a:lnTo>
                      <a:pt x="12" y="22"/>
                    </a:lnTo>
                    <a:lnTo>
                      <a:pt x="23" y="19"/>
                    </a:lnTo>
                    <a:lnTo>
                      <a:pt x="34" y="16"/>
                    </a:lnTo>
                    <a:lnTo>
                      <a:pt x="47" y="12"/>
                    </a:lnTo>
                    <a:lnTo>
                      <a:pt x="58" y="9"/>
                    </a:lnTo>
                    <a:lnTo>
                      <a:pt x="70" y="6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161"/>
                    </a:lnTo>
                    <a:lnTo>
                      <a:pt x="81" y="1165"/>
                    </a:lnTo>
                    <a:lnTo>
                      <a:pt x="69" y="1170"/>
                    </a:lnTo>
                    <a:lnTo>
                      <a:pt x="58" y="1176"/>
                    </a:lnTo>
                    <a:lnTo>
                      <a:pt x="46" y="1181"/>
                    </a:lnTo>
                    <a:lnTo>
                      <a:pt x="34" y="1187"/>
                    </a:lnTo>
                    <a:lnTo>
                      <a:pt x="22" y="1192"/>
                    </a:lnTo>
                    <a:lnTo>
                      <a:pt x="11" y="1198"/>
                    </a:lnTo>
                    <a:lnTo>
                      <a:pt x="0" y="1204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7" name=""/>
              <p:cNvGrpSpPr/>
              <p:nvPr/>
            </p:nvGrpSpPr>
            <p:grpSpPr>
              <a:xfrm>
                <a:off x="3971880" y="4356000"/>
                <a:ext cx="2463840" cy="1631880"/>
                <a:chOff x="3971880" y="4356000"/>
                <a:chExt cx="2463840" cy="1631880"/>
              </a:xfrm>
            </p:grpSpPr>
            <p:sp>
              <p:nvSpPr>
                <p:cNvPr id="3078" name=""/>
                <p:cNvSpPr/>
                <p:nvPr/>
              </p:nvSpPr>
              <p:spPr>
                <a:xfrm>
                  <a:off x="5084640" y="4470480"/>
                  <a:ext cx="28800" cy="1374840"/>
                </a:xfrm>
                <a:custGeom>
                  <a:avLst/>
                  <a:gdLst/>
                  <a:ahLst/>
                  <a:rect l="l" t="t" r="r" b="b"/>
                  <a:pathLst>
                    <a:path w="94" h="4333">
                      <a:moveTo>
                        <a:pt x="0" y="4300"/>
                      </a:moveTo>
                      <a:lnTo>
                        <a:pt x="0" y="3103"/>
                      </a:lnTo>
                      <a:lnTo>
                        <a:pt x="11" y="3109"/>
                      </a:lnTo>
                      <a:lnTo>
                        <a:pt x="22" y="3115"/>
                      </a:lnTo>
                      <a:lnTo>
                        <a:pt x="34" y="3121"/>
                      </a:lnTo>
                      <a:lnTo>
                        <a:pt x="46" y="3128"/>
                      </a:lnTo>
                      <a:lnTo>
                        <a:pt x="58" y="3134"/>
                      </a:lnTo>
                      <a:lnTo>
                        <a:pt x="69" y="3139"/>
                      </a:lnTo>
                      <a:lnTo>
                        <a:pt x="81" y="3144"/>
                      </a:lnTo>
                      <a:lnTo>
                        <a:pt x="94" y="3149"/>
                      </a:lnTo>
                      <a:lnTo>
                        <a:pt x="94" y="4333"/>
                      </a:lnTo>
                      <a:lnTo>
                        <a:pt x="81" y="4329"/>
                      </a:lnTo>
                      <a:lnTo>
                        <a:pt x="70" y="4325"/>
                      </a:lnTo>
                      <a:lnTo>
                        <a:pt x="58" y="4321"/>
                      </a:lnTo>
                      <a:lnTo>
                        <a:pt x="47" y="4317"/>
                      </a:lnTo>
                      <a:lnTo>
                        <a:pt x="34" y="4313"/>
                      </a:lnTo>
                      <a:lnTo>
                        <a:pt x="23" y="4309"/>
                      </a:lnTo>
                      <a:lnTo>
                        <a:pt x="11" y="4304"/>
                      </a:lnTo>
                      <a:lnTo>
                        <a:pt x="0" y="4300"/>
                      </a:lnTo>
                      <a:close/>
                      <a:moveTo>
                        <a:pt x="0" y="1191"/>
                      </a:moveTo>
                      <a:lnTo>
                        <a:pt x="0" y="22"/>
                      </a:lnTo>
                      <a:lnTo>
                        <a:pt x="11" y="19"/>
                      </a:lnTo>
                      <a:lnTo>
                        <a:pt x="23" y="17"/>
                      </a:lnTo>
                      <a:lnTo>
                        <a:pt x="34" y="14"/>
                      </a:lnTo>
                      <a:lnTo>
                        <a:pt x="47" y="10"/>
                      </a:lnTo>
                      <a:lnTo>
                        <a:pt x="58" y="7"/>
                      </a:lnTo>
                      <a:lnTo>
                        <a:pt x="69" y="5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1155"/>
                      </a:lnTo>
                      <a:lnTo>
                        <a:pt x="81" y="1159"/>
                      </a:lnTo>
                      <a:lnTo>
                        <a:pt x="69" y="1163"/>
                      </a:lnTo>
                      <a:lnTo>
                        <a:pt x="57" y="1167"/>
                      </a:lnTo>
                      <a:lnTo>
                        <a:pt x="46" y="1171"/>
                      </a:lnTo>
                      <a:lnTo>
                        <a:pt x="34" y="1175"/>
                      </a:lnTo>
                      <a:lnTo>
                        <a:pt x="22" y="1180"/>
                      </a:lnTo>
                      <a:lnTo>
                        <a:pt x="11" y="1186"/>
                      </a:lnTo>
                      <a:lnTo>
                        <a:pt x="0" y="1191"/>
                      </a:lnTo>
                      <a:close/>
                    </a:path>
                  </a:pathLst>
                </a:custGeom>
                <a:solidFill>
                  <a:srgbClr val="f0a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099040" y="4467240"/>
                  <a:ext cx="30240" cy="1382760"/>
                </a:xfrm>
                <a:custGeom>
                  <a:avLst/>
                  <a:gdLst/>
                  <a:ahLst/>
                  <a:rect l="l" t="t" r="r" b="b"/>
                  <a:pathLst>
                    <a:path w="94" h="4357">
                      <a:moveTo>
                        <a:pt x="0" y="4326"/>
                      </a:moveTo>
                      <a:lnTo>
                        <a:pt x="0" y="3137"/>
                      </a:lnTo>
                      <a:lnTo>
                        <a:pt x="11" y="3143"/>
                      </a:lnTo>
                      <a:lnTo>
                        <a:pt x="22" y="3148"/>
                      </a:lnTo>
                      <a:lnTo>
                        <a:pt x="34" y="3153"/>
                      </a:lnTo>
                      <a:lnTo>
                        <a:pt x="46" y="3158"/>
                      </a:lnTo>
                      <a:lnTo>
                        <a:pt x="57" y="3162"/>
                      </a:lnTo>
                      <a:lnTo>
                        <a:pt x="69" y="3167"/>
                      </a:lnTo>
                      <a:lnTo>
                        <a:pt x="81" y="3171"/>
                      </a:lnTo>
                      <a:lnTo>
                        <a:pt x="94" y="3175"/>
                      </a:lnTo>
                      <a:lnTo>
                        <a:pt x="94" y="4357"/>
                      </a:lnTo>
                      <a:lnTo>
                        <a:pt x="81" y="4352"/>
                      </a:lnTo>
                      <a:lnTo>
                        <a:pt x="69" y="4349"/>
                      </a:lnTo>
                      <a:lnTo>
                        <a:pt x="58" y="4345"/>
                      </a:lnTo>
                      <a:lnTo>
                        <a:pt x="46" y="4342"/>
                      </a:lnTo>
                      <a:lnTo>
                        <a:pt x="34" y="4338"/>
                      </a:lnTo>
                      <a:lnTo>
                        <a:pt x="23" y="4334"/>
                      </a:lnTo>
                      <a:lnTo>
                        <a:pt x="11" y="4330"/>
                      </a:lnTo>
                      <a:lnTo>
                        <a:pt x="0" y="4326"/>
                      </a:lnTo>
                      <a:close/>
                      <a:moveTo>
                        <a:pt x="0" y="1180"/>
                      </a:moveTo>
                      <a:lnTo>
                        <a:pt x="0" y="19"/>
                      </a:lnTo>
                      <a:lnTo>
                        <a:pt x="11" y="16"/>
                      </a:lnTo>
                      <a:lnTo>
                        <a:pt x="23" y="14"/>
                      </a:lnTo>
                      <a:lnTo>
                        <a:pt x="34" y="11"/>
                      </a:lnTo>
                      <a:lnTo>
                        <a:pt x="46" y="9"/>
                      </a:lnTo>
                      <a:lnTo>
                        <a:pt x="58" y="6"/>
                      </a:lnTo>
                      <a:lnTo>
                        <a:pt x="69" y="4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1153"/>
                      </a:lnTo>
                      <a:lnTo>
                        <a:pt x="81" y="1156"/>
                      </a:lnTo>
                      <a:lnTo>
                        <a:pt x="69" y="1158"/>
                      </a:lnTo>
                      <a:lnTo>
                        <a:pt x="57" y="1161"/>
                      </a:lnTo>
                      <a:lnTo>
                        <a:pt x="46" y="1165"/>
                      </a:lnTo>
                      <a:lnTo>
                        <a:pt x="33" y="1168"/>
                      </a:lnTo>
                      <a:lnTo>
                        <a:pt x="22" y="1172"/>
                      </a:lnTo>
                      <a:lnTo>
                        <a:pt x="11" y="1176"/>
                      </a:lnTo>
                      <a:lnTo>
                        <a:pt x="0" y="1180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5113440" y="4464000"/>
                  <a:ext cx="30240" cy="1390680"/>
                </a:xfrm>
                <a:custGeom>
                  <a:avLst/>
                  <a:gdLst/>
                  <a:ahLst/>
                  <a:rect l="l" t="t" r="r" b="b"/>
                  <a:pathLst>
                    <a:path w="93" h="4376">
                      <a:moveTo>
                        <a:pt x="0" y="4349"/>
                      </a:moveTo>
                      <a:lnTo>
                        <a:pt x="0" y="3165"/>
                      </a:lnTo>
                      <a:lnTo>
                        <a:pt x="11" y="3169"/>
                      </a:lnTo>
                      <a:lnTo>
                        <a:pt x="22" y="3174"/>
                      </a:lnTo>
                      <a:lnTo>
                        <a:pt x="33" y="3178"/>
                      </a:lnTo>
                      <a:lnTo>
                        <a:pt x="46" y="3182"/>
                      </a:lnTo>
                      <a:lnTo>
                        <a:pt x="57" y="3185"/>
                      </a:lnTo>
                      <a:lnTo>
                        <a:pt x="69" y="3190"/>
                      </a:lnTo>
                      <a:lnTo>
                        <a:pt x="81" y="3193"/>
                      </a:lnTo>
                      <a:lnTo>
                        <a:pt x="93" y="3196"/>
                      </a:lnTo>
                      <a:lnTo>
                        <a:pt x="93" y="4376"/>
                      </a:lnTo>
                      <a:lnTo>
                        <a:pt x="81" y="4373"/>
                      </a:lnTo>
                      <a:lnTo>
                        <a:pt x="69" y="4370"/>
                      </a:lnTo>
                      <a:lnTo>
                        <a:pt x="58" y="4367"/>
                      </a:lnTo>
                      <a:lnTo>
                        <a:pt x="46" y="4364"/>
                      </a:lnTo>
                      <a:lnTo>
                        <a:pt x="34" y="4359"/>
                      </a:lnTo>
                      <a:lnTo>
                        <a:pt x="22" y="4356"/>
                      </a:lnTo>
                      <a:lnTo>
                        <a:pt x="11" y="4352"/>
                      </a:lnTo>
                      <a:lnTo>
                        <a:pt x="0" y="4349"/>
                      </a:lnTo>
                      <a:close/>
                      <a:moveTo>
                        <a:pt x="0" y="1171"/>
                      </a:moveTo>
                      <a:lnTo>
                        <a:pt x="0" y="16"/>
                      </a:lnTo>
                      <a:lnTo>
                        <a:pt x="11" y="13"/>
                      </a:lnTo>
                      <a:lnTo>
                        <a:pt x="22" y="11"/>
                      </a:lnTo>
                      <a:lnTo>
                        <a:pt x="34" y="9"/>
                      </a:lnTo>
                      <a:lnTo>
                        <a:pt x="46" y="7"/>
                      </a:lnTo>
                      <a:lnTo>
                        <a:pt x="58" y="5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3" y="0"/>
                      </a:lnTo>
                      <a:lnTo>
                        <a:pt x="93" y="1151"/>
                      </a:lnTo>
                      <a:lnTo>
                        <a:pt x="80" y="1153"/>
                      </a:lnTo>
                      <a:lnTo>
                        <a:pt x="69" y="1155"/>
                      </a:lnTo>
                      <a:lnTo>
                        <a:pt x="57" y="1158"/>
                      </a:lnTo>
                      <a:lnTo>
                        <a:pt x="46" y="1160"/>
                      </a:lnTo>
                      <a:lnTo>
                        <a:pt x="33" y="1163"/>
                      </a:lnTo>
                      <a:lnTo>
                        <a:pt x="22" y="1165"/>
                      </a:lnTo>
                      <a:lnTo>
                        <a:pt x="11" y="1168"/>
                      </a:lnTo>
                      <a:lnTo>
                        <a:pt x="0" y="1171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5129280" y="4462560"/>
                  <a:ext cx="28440" cy="1395360"/>
                </a:xfrm>
                <a:custGeom>
                  <a:avLst/>
                  <a:gdLst/>
                  <a:ahLst/>
                  <a:rect l="l" t="t" r="r" b="b"/>
                  <a:pathLst>
                    <a:path w="92" h="4393">
                      <a:moveTo>
                        <a:pt x="0" y="4370"/>
                      </a:moveTo>
                      <a:lnTo>
                        <a:pt x="0" y="3188"/>
                      </a:lnTo>
                      <a:lnTo>
                        <a:pt x="11" y="3192"/>
                      </a:lnTo>
                      <a:lnTo>
                        <a:pt x="22" y="3196"/>
                      </a:lnTo>
                      <a:lnTo>
                        <a:pt x="33" y="3199"/>
                      </a:lnTo>
                      <a:lnTo>
                        <a:pt x="46" y="3202"/>
                      </a:lnTo>
                      <a:lnTo>
                        <a:pt x="57" y="3205"/>
                      </a:lnTo>
                      <a:lnTo>
                        <a:pt x="69" y="3208"/>
                      </a:lnTo>
                      <a:lnTo>
                        <a:pt x="80" y="3211"/>
                      </a:lnTo>
                      <a:lnTo>
                        <a:pt x="92" y="3213"/>
                      </a:lnTo>
                      <a:lnTo>
                        <a:pt x="92" y="4393"/>
                      </a:lnTo>
                      <a:lnTo>
                        <a:pt x="81" y="4390"/>
                      </a:lnTo>
                      <a:lnTo>
                        <a:pt x="69" y="4388"/>
                      </a:lnTo>
                      <a:lnTo>
                        <a:pt x="58" y="4385"/>
                      </a:lnTo>
                      <a:lnTo>
                        <a:pt x="46" y="4382"/>
                      </a:lnTo>
                      <a:lnTo>
                        <a:pt x="34" y="4379"/>
                      </a:lnTo>
                      <a:lnTo>
                        <a:pt x="22" y="4376"/>
                      </a:lnTo>
                      <a:lnTo>
                        <a:pt x="11" y="4373"/>
                      </a:lnTo>
                      <a:lnTo>
                        <a:pt x="0" y="4370"/>
                      </a:lnTo>
                      <a:close/>
                      <a:moveTo>
                        <a:pt x="0" y="1166"/>
                      </a:moveTo>
                      <a:lnTo>
                        <a:pt x="0" y="13"/>
                      </a:lnTo>
                      <a:lnTo>
                        <a:pt x="9" y="11"/>
                      </a:lnTo>
                      <a:lnTo>
                        <a:pt x="18" y="10"/>
                      </a:lnTo>
                      <a:lnTo>
                        <a:pt x="28" y="8"/>
                      </a:lnTo>
                      <a:lnTo>
                        <a:pt x="37" y="7"/>
                      </a:lnTo>
                      <a:lnTo>
                        <a:pt x="48" y="5"/>
                      </a:lnTo>
                      <a:lnTo>
                        <a:pt x="57" y="4"/>
                      </a:lnTo>
                      <a:lnTo>
                        <a:pt x="67" y="3"/>
                      </a:lnTo>
                      <a:lnTo>
                        <a:pt x="76" y="1"/>
                      </a:lnTo>
                      <a:lnTo>
                        <a:pt x="78" y="1"/>
                      </a:lnTo>
                      <a:lnTo>
                        <a:pt x="80" y="1"/>
                      </a:lnTo>
                      <a:lnTo>
                        <a:pt x="82" y="1"/>
                      </a:lnTo>
                      <a:lnTo>
                        <a:pt x="84" y="1"/>
                      </a:lnTo>
                      <a:lnTo>
                        <a:pt x="86" y="0"/>
                      </a:lnTo>
                      <a:lnTo>
                        <a:pt x="88" y="0"/>
                      </a:lnTo>
                      <a:lnTo>
                        <a:pt x="90" y="0"/>
                      </a:lnTo>
                      <a:lnTo>
                        <a:pt x="92" y="0"/>
                      </a:lnTo>
                      <a:lnTo>
                        <a:pt x="92" y="1151"/>
                      </a:lnTo>
                      <a:lnTo>
                        <a:pt x="80" y="1152"/>
                      </a:lnTo>
                      <a:lnTo>
                        <a:pt x="69" y="1153"/>
                      </a:lnTo>
                      <a:lnTo>
                        <a:pt x="57" y="1156"/>
                      </a:lnTo>
                      <a:lnTo>
                        <a:pt x="46" y="1157"/>
                      </a:lnTo>
                      <a:lnTo>
                        <a:pt x="33" y="1159"/>
                      </a:lnTo>
                      <a:lnTo>
                        <a:pt x="22" y="1161"/>
                      </a:lnTo>
                      <a:lnTo>
                        <a:pt x="11" y="1163"/>
                      </a:lnTo>
                      <a:lnTo>
                        <a:pt x="0" y="1166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5143680" y="4460760"/>
                  <a:ext cx="29880" cy="1400400"/>
                </a:xfrm>
                <a:custGeom>
                  <a:avLst/>
                  <a:gdLst/>
                  <a:ahLst/>
                  <a:rect l="l" t="t" r="r" b="b"/>
                  <a:pathLst>
                    <a:path w="93" h="4408">
                      <a:moveTo>
                        <a:pt x="0" y="4387"/>
                      </a:moveTo>
                      <a:lnTo>
                        <a:pt x="0" y="3207"/>
                      </a:lnTo>
                      <a:lnTo>
                        <a:pt x="12" y="3210"/>
                      </a:lnTo>
                      <a:lnTo>
                        <a:pt x="23" y="3213"/>
                      </a:lnTo>
                      <a:lnTo>
                        <a:pt x="34" y="3215"/>
                      </a:lnTo>
                      <a:lnTo>
                        <a:pt x="46" y="3218"/>
                      </a:lnTo>
                      <a:lnTo>
                        <a:pt x="58" y="3220"/>
                      </a:lnTo>
                      <a:lnTo>
                        <a:pt x="70" y="3222"/>
                      </a:lnTo>
                      <a:lnTo>
                        <a:pt x="81" y="3224"/>
                      </a:lnTo>
                      <a:lnTo>
                        <a:pt x="93" y="3225"/>
                      </a:lnTo>
                      <a:lnTo>
                        <a:pt x="93" y="4408"/>
                      </a:lnTo>
                      <a:lnTo>
                        <a:pt x="81" y="4405"/>
                      </a:lnTo>
                      <a:lnTo>
                        <a:pt x="70" y="4403"/>
                      </a:lnTo>
                      <a:lnTo>
                        <a:pt x="58" y="4401"/>
                      </a:lnTo>
                      <a:lnTo>
                        <a:pt x="46" y="4398"/>
                      </a:lnTo>
                      <a:lnTo>
                        <a:pt x="34" y="4395"/>
                      </a:lnTo>
                      <a:lnTo>
                        <a:pt x="23" y="4393"/>
                      </a:lnTo>
                      <a:lnTo>
                        <a:pt x="12" y="4390"/>
                      </a:lnTo>
                      <a:lnTo>
                        <a:pt x="0" y="4387"/>
                      </a:lnTo>
                      <a:close/>
                      <a:moveTo>
                        <a:pt x="0" y="1162"/>
                      </a:moveTo>
                      <a:lnTo>
                        <a:pt x="0" y="11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12" y="9"/>
                      </a:lnTo>
                      <a:lnTo>
                        <a:pt x="15" y="9"/>
                      </a:lnTo>
                      <a:lnTo>
                        <a:pt x="19" y="8"/>
                      </a:lnTo>
                      <a:lnTo>
                        <a:pt x="23" y="7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38" y="6"/>
                      </a:lnTo>
                      <a:lnTo>
                        <a:pt x="46" y="5"/>
                      </a:lnTo>
                      <a:lnTo>
                        <a:pt x="55" y="4"/>
                      </a:lnTo>
                      <a:lnTo>
                        <a:pt x="62" y="3"/>
                      </a:lnTo>
                      <a:lnTo>
                        <a:pt x="70" y="2"/>
                      </a:lnTo>
                      <a:lnTo>
                        <a:pt x="78" y="1"/>
                      </a:lnTo>
                      <a:lnTo>
                        <a:pt x="85" y="1"/>
                      </a:lnTo>
                      <a:lnTo>
                        <a:pt x="93" y="0"/>
                      </a:lnTo>
                      <a:lnTo>
                        <a:pt x="93" y="1153"/>
                      </a:lnTo>
                      <a:lnTo>
                        <a:pt x="91" y="1153"/>
                      </a:lnTo>
                      <a:lnTo>
                        <a:pt x="89" y="1153"/>
                      </a:lnTo>
                      <a:lnTo>
                        <a:pt x="87" y="1153"/>
                      </a:lnTo>
                      <a:lnTo>
                        <a:pt x="85" y="1153"/>
                      </a:lnTo>
                      <a:lnTo>
                        <a:pt x="83" y="1153"/>
                      </a:lnTo>
                      <a:lnTo>
                        <a:pt x="81" y="1153"/>
                      </a:lnTo>
                      <a:lnTo>
                        <a:pt x="79" y="1153"/>
                      </a:lnTo>
                      <a:lnTo>
                        <a:pt x="77" y="1153"/>
                      </a:lnTo>
                      <a:lnTo>
                        <a:pt x="67" y="1154"/>
                      </a:lnTo>
                      <a:lnTo>
                        <a:pt x="58" y="1155"/>
                      </a:lnTo>
                      <a:lnTo>
                        <a:pt x="48" y="1156"/>
                      </a:lnTo>
                      <a:lnTo>
                        <a:pt x="38" y="1157"/>
                      </a:lnTo>
                      <a:lnTo>
                        <a:pt x="28" y="1158"/>
                      </a:lnTo>
                      <a:lnTo>
                        <a:pt x="19" y="1159"/>
                      </a:lnTo>
                      <a:lnTo>
                        <a:pt x="10" y="1161"/>
                      </a:lnTo>
                      <a:lnTo>
                        <a:pt x="0" y="1162"/>
                      </a:lnTo>
                      <a:close/>
                    </a:path>
                  </a:pathLst>
                </a:custGeom>
                <a:solidFill>
                  <a:srgbClr val="f1a8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5157720" y="4460760"/>
                  <a:ext cx="30240" cy="1401840"/>
                </a:xfrm>
                <a:custGeom>
                  <a:avLst/>
                  <a:gdLst/>
                  <a:ahLst/>
                  <a:rect l="l" t="t" r="r" b="b"/>
                  <a:pathLst>
                    <a:path w="94" h="4419">
                      <a:moveTo>
                        <a:pt x="0" y="4401"/>
                      </a:moveTo>
                      <a:lnTo>
                        <a:pt x="0" y="3221"/>
                      </a:lnTo>
                      <a:lnTo>
                        <a:pt x="12" y="3223"/>
                      </a:lnTo>
                      <a:lnTo>
                        <a:pt x="24" y="3225"/>
                      </a:lnTo>
                      <a:lnTo>
                        <a:pt x="35" y="3227"/>
                      </a:lnTo>
                      <a:lnTo>
                        <a:pt x="46" y="3228"/>
                      </a:lnTo>
                      <a:lnTo>
                        <a:pt x="59" y="3230"/>
                      </a:lnTo>
                      <a:lnTo>
                        <a:pt x="70" y="3231"/>
                      </a:lnTo>
                      <a:lnTo>
                        <a:pt x="82" y="3232"/>
                      </a:lnTo>
                      <a:lnTo>
                        <a:pt x="94" y="3233"/>
                      </a:lnTo>
                      <a:lnTo>
                        <a:pt x="94" y="4419"/>
                      </a:lnTo>
                      <a:lnTo>
                        <a:pt x="82" y="4417"/>
                      </a:lnTo>
                      <a:lnTo>
                        <a:pt x="71" y="4415"/>
                      </a:lnTo>
                      <a:lnTo>
                        <a:pt x="59" y="4413"/>
                      </a:lnTo>
                      <a:lnTo>
                        <a:pt x="47" y="4411"/>
                      </a:lnTo>
                      <a:lnTo>
                        <a:pt x="35" y="4408"/>
                      </a:lnTo>
                      <a:lnTo>
                        <a:pt x="24" y="4406"/>
                      </a:lnTo>
                      <a:lnTo>
                        <a:pt x="13" y="4404"/>
                      </a:lnTo>
                      <a:lnTo>
                        <a:pt x="0" y="4401"/>
                      </a:lnTo>
                      <a:close/>
                      <a:moveTo>
                        <a:pt x="0" y="1159"/>
                      </a:moveTo>
                      <a:lnTo>
                        <a:pt x="0" y="8"/>
                      </a:lnTo>
                      <a:lnTo>
                        <a:pt x="13" y="6"/>
                      </a:lnTo>
                      <a:lnTo>
                        <a:pt x="24" y="5"/>
                      </a:lnTo>
                      <a:lnTo>
                        <a:pt x="36" y="4"/>
                      </a:lnTo>
                      <a:lnTo>
                        <a:pt x="47" y="3"/>
                      </a:lnTo>
                      <a:lnTo>
                        <a:pt x="59" y="2"/>
                      </a:lnTo>
                      <a:lnTo>
                        <a:pt x="71" y="1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1156"/>
                      </a:lnTo>
                      <a:lnTo>
                        <a:pt x="86" y="1155"/>
                      </a:lnTo>
                      <a:lnTo>
                        <a:pt x="78" y="1155"/>
                      </a:lnTo>
                      <a:lnTo>
                        <a:pt x="71" y="1155"/>
                      </a:lnTo>
                      <a:lnTo>
                        <a:pt x="63" y="1155"/>
                      </a:lnTo>
                      <a:lnTo>
                        <a:pt x="55" y="1156"/>
                      </a:lnTo>
                      <a:lnTo>
                        <a:pt x="46" y="1156"/>
                      </a:lnTo>
                      <a:lnTo>
                        <a:pt x="39" y="1156"/>
                      </a:lnTo>
                      <a:lnTo>
                        <a:pt x="31" y="1156"/>
                      </a:lnTo>
                      <a:lnTo>
                        <a:pt x="27" y="1157"/>
                      </a:lnTo>
                      <a:lnTo>
                        <a:pt x="23" y="1157"/>
                      </a:lnTo>
                      <a:lnTo>
                        <a:pt x="20" y="1157"/>
                      </a:lnTo>
                      <a:lnTo>
                        <a:pt x="16" y="1157"/>
                      </a:lnTo>
                      <a:lnTo>
                        <a:pt x="12" y="1158"/>
                      </a:lnTo>
                      <a:lnTo>
                        <a:pt x="8" y="1158"/>
                      </a:lnTo>
                      <a:lnTo>
                        <a:pt x="5" y="1158"/>
                      </a:lnTo>
                      <a:lnTo>
                        <a:pt x="0" y="1159"/>
                      </a:lnTo>
                      <a:close/>
                    </a:path>
                  </a:pathLst>
                </a:custGeom>
                <a:solidFill>
                  <a:srgbClr val="f1a8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5173560" y="4459320"/>
                  <a:ext cx="28800" cy="1406520"/>
                </a:xfrm>
                <a:custGeom>
                  <a:avLst/>
                  <a:gdLst/>
                  <a:ahLst/>
                  <a:rect l="l" t="t" r="r" b="b"/>
                  <a:pathLst>
                    <a:path w="94" h="4428">
                      <a:moveTo>
                        <a:pt x="0" y="4413"/>
                      </a:moveTo>
                      <a:lnTo>
                        <a:pt x="0" y="3230"/>
                      </a:lnTo>
                      <a:lnTo>
                        <a:pt x="8" y="3231"/>
                      </a:lnTo>
                      <a:lnTo>
                        <a:pt x="15" y="3232"/>
                      </a:lnTo>
                      <a:lnTo>
                        <a:pt x="22" y="3233"/>
                      </a:lnTo>
                      <a:lnTo>
                        <a:pt x="29" y="3234"/>
                      </a:lnTo>
                      <a:lnTo>
                        <a:pt x="36" y="3234"/>
                      </a:lnTo>
                      <a:lnTo>
                        <a:pt x="44" y="3235"/>
                      </a:lnTo>
                      <a:lnTo>
                        <a:pt x="52" y="3236"/>
                      </a:lnTo>
                      <a:lnTo>
                        <a:pt x="59" y="3236"/>
                      </a:lnTo>
                      <a:lnTo>
                        <a:pt x="63" y="3236"/>
                      </a:lnTo>
                      <a:lnTo>
                        <a:pt x="68" y="3237"/>
                      </a:lnTo>
                      <a:lnTo>
                        <a:pt x="72" y="3237"/>
                      </a:lnTo>
                      <a:lnTo>
                        <a:pt x="76" y="3237"/>
                      </a:lnTo>
                      <a:lnTo>
                        <a:pt x="81" y="3237"/>
                      </a:lnTo>
                      <a:lnTo>
                        <a:pt x="85" y="3238"/>
                      </a:lnTo>
                      <a:lnTo>
                        <a:pt x="89" y="3238"/>
                      </a:lnTo>
                      <a:lnTo>
                        <a:pt x="94" y="3238"/>
                      </a:lnTo>
                      <a:lnTo>
                        <a:pt x="94" y="4428"/>
                      </a:lnTo>
                      <a:lnTo>
                        <a:pt x="82" y="4426"/>
                      </a:lnTo>
                      <a:lnTo>
                        <a:pt x="71" y="4424"/>
                      </a:lnTo>
                      <a:lnTo>
                        <a:pt x="59" y="4423"/>
                      </a:lnTo>
                      <a:lnTo>
                        <a:pt x="47" y="4421"/>
                      </a:lnTo>
                      <a:lnTo>
                        <a:pt x="35" y="4419"/>
                      </a:lnTo>
                      <a:lnTo>
                        <a:pt x="24" y="4417"/>
                      </a:lnTo>
                      <a:lnTo>
                        <a:pt x="12" y="4415"/>
                      </a:lnTo>
                      <a:lnTo>
                        <a:pt x="0" y="4413"/>
                      </a:lnTo>
                      <a:close/>
                      <a:moveTo>
                        <a:pt x="0" y="1158"/>
                      </a:moveTo>
                      <a:lnTo>
                        <a:pt x="0" y="5"/>
                      </a:lnTo>
                      <a:lnTo>
                        <a:pt x="13" y="4"/>
                      </a:lnTo>
                      <a:lnTo>
                        <a:pt x="24" y="3"/>
                      </a:lnTo>
                      <a:lnTo>
                        <a:pt x="35" y="3"/>
                      </a:lnTo>
                      <a:lnTo>
                        <a:pt x="47" y="2"/>
                      </a:lnTo>
                      <a:lnTo>
                        <a:pt x="59" y="1"/>
                      </a:lnTo>
                      <a:lnTo>
                        <a:pt x="71" y="1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94" y="1160"/>
                      </a:lnTo>
                      <a:lnTo>
                        <a:pt x="82" y="1159"/>
                      </a:lnTo>
                      <a:lnTo>
                        <a:pt x="71" y="1158"/>
                      </a:lnTo>
                      <a:lnTo>
                        <a:pt x="60" y="1158"/>
                      </a:lnTo>
                      <a:lnTo>
                        <a:pt x="47" y="1158"/>
                      </a:lnTo>
                      <a:lnTo>
                        <a:pt x="36" y="1157"/>
                      </a:lnTo>
                      <a:lnTo>
                        <a:pt x="24" y="1157"/>
                      </a:lnTo>
                      <a:lnTo>
                        <a:pt x="13" y="1157"/>
                      </a:lnTo>
                      <a:lnTo>
                        <a:pt x="0" y="1158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5187960" y="4459320"/>
                  <a:ext cx="30240" cy="1407960"/>
                </a:xfrm>
                <a:custGeom>
                  <a:avLst/>
                  <a:gdLst/>
                  <a:ahLst/>
                  <a:rect l="l" t="t" r="r" b="b"/>
                  <a:pathLst>
                    <a:path w="94" h="4435">
                      <a:moveTo>
                        <a:pt x="0" y="4422"/>
                      </a:moveTo>
                      <a:lnTo>
                        <a:pt x="0" y="3236"/>
                      </a:lnTo>
                      <a:lnTo>
                        <a:pt x="1" y="3236"/>
                      </a:lnTo>
                      <a:lnTo>
                        <a:pt x="4" y="3237"/>
                      </a:lnTo>
                      <a:lnTo>
                        <a:pt x="5" y="3237"/>
                      </a:lnTo>
                      <a:lnTo>
                        <a:pt x="6" y="3237"/>
                      </a:lnTo>
                      <a:lnTo>
                        <a:pt x="8" y="3237"/>
                      </a:lnTo>
                      <a:lnTo>
                        <a:pt x="9" y="3237"/>
                      </a:lnTo>
                      <a:lnTo>
                        <a:pt x="11" y="3237"/>
                      </a:lnTo>
                      <a:lnTo>
                        <a:pt x="12" y="3237"/>
                      </a:lnTo>
                      <a:lnTo>
                        <a:pt x="22" y="3238"/>
                      </a:lnTo>
                      <a:lnTo>
                        <a:pt x="32" y="3238"/>
                      </a:lnTo>
                      <a:lnTo>
                        <a:pt x="42" y="3239"/>
                      </a:lnTo>
                      <a:lnTo>
                        <a:pt x="54" y="3239"/>
                      </a:lnTo>
                      <a:lnTo>
                        <a:pt x="64" y="3239"/>
                      </a:lnTo>
                      <a:lnTo>
                        <a:pt x="74" y="3239"/>
                      </a:lnTo>
                      <a:lnTo>
                        <a:pt x="84" y="3239"/>
                      </a:lnTo>
                      <a:lnTo>
                        <a:pt x="94" y="3238"/>
                      </a:lnTo>
                      <a:lnTo>
                        <a:pt x="94" y="4435"/>
                      </a:lnTo>
                      <a:lnTo>
                        <a:pt x="88" y="4435"/>
                      </a:lnTo>
                      <a:lnTo>
                        <a:pt x="82" y="4434"/>
                      </a:lnTo>
                      <a:lnTo>
                        <a:pt x="77" y="4433"/>
                      </a:lnTo>
                      <a:lnTo>
                        <a:pt x="71" y="4433"/>
                      </a:lnTo>
                      <a:lnTo>
                        <a:pt x="65" y="4432"/>
                      </a:lnTo>
                      <a:lnTo>
                        <a:pt x="60" y="4431"/>
                      </a:lnTo>
                      <a:lnTo>
                        <a:pt x="54" y="4431"/>
                      </a:lnTo>
                      <a:lnTo>
                        <a:pt x="48" y="4429"/>
                      </a:lnTo>
                      <a:lnTo>
                        <a:pt x="42" y="4428"/>
                      </a:lnTo>
                      <a:lnTo>
                        <a:pt x="36" y="4427"/>
                      </a:lnTo>
                      <a:lnTo>
                        <a:pt x="30" y="4426"/>
                      </a:lnTo>
                      <a:lnTo>
                        <a:pt x="24" y="4426"/>
                      </a:lnTo>
                      <a:lnTo>
                        <a:pt x="18" y="4425"/>
                      </a:lnTo>
                      <a:lnTo>
                        <a:pt x="12" y="4424"/>
                      </a:lnTo>
                      <a:lnTo>
                        <a:pt x="7" y="4423"/>
                      </a:lnTo>
                      <a:lnTo>
                        <a:pt x="0" y="4422"/>
                      </a:lnTo>
                      <a:close/>
                      <a:moveTo>
                        <a:pt x="0" y="1159"/>
                      </a:moveTo>
                      <a:lnTo>
                        <a:pt x="0" y="3"/>
                      </a:lnTo>
                      <a:lnTo>
                        <a:pt x="12" y="2"/>
                      </a:lnTo>
                      <a:lnTo>
                        <a:pt x="24" y="2"/>
                      </a:lnTo>
                      <a:lnTo>
                        <a:pt x="35" y="1"/>
                      </a:lnTo>
                      <a:lnTo>
                        <a:pt x="47" y="1"/>
                      </a:lnTo>
                      <a:lnTo>
                        <a:pt x="59" y="1"/>
                      </a:lnTo>
                      <a:lnTo>
                        <a:pt x="71" y="0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94" y="1167"/>
                      </a:lnTo>
                      <a:lnTo>
                        <a:pt x="82" y="1165"/>
                      </a:lnTo>
                      <a:lnTo>
                        <a:pt x="71" y="1163"/>
                      </a:lnTo>
                      <a:lnTo>
                        <a:pt x="59" y="1162"/>
                      </a:lnTo>
                      <a:lnTo>
                        <a:pt x="47" y="1161"/>
                      </a:lnTo>
                      <a:lnTo>
                        <a:pt x="35" y="1160"/>
                      </a:lnTo>
                      <a:lnTo>
                        <a:pt x="24" y="1159"/>
                      </a:lnTo>
                      <a:lnTo>
                        <a:pt x="12" y="1159"/>
                      </a:lnTo>
                      <a:lnTo>
                        <a:pt x="0" y="1159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5202360" y="4459320"/>
                  <a:ext cx="29880" cy="1409760"/>
                </a:xfrm>
                <a:custGeom>
                  <a:avLst/>
                  <a:gdLst/>
                  <a:ahLst/>
                  <a:rect l="l" t="t" r="r" b="b"/>
                  <a:pathLst>
                    <a:path w="93" h="4440">
                      <a:moveTo>
                        <a:pt x="0" y="4429"/>
                      </a:moveTo>
                      <a:lnTo>
                        <a:pt x="0" y="3239"/>
                      </a:lnTo>
                      <a:lnTo>
                        <a:pt x="12" y="3239"/>
                      </a:lnTo>
                      <a:lnTo>
                        <a:pt x="24" y="3239"/>
                      </a:lnTo>
                      <a:lnTo>
                        <a:pt x="35" y="3239"/>
                      </a:lnTo>
                      <a:lnTo>
                        <a:pt x="47" y="3238"/>
                      </a:lnTo>
                      <a:lnTo>
                        <a:pt x="59" y="3238"/>
                      </a:lnTo>
                      <a:lnTo>
                        <a:pt x="71" y="3237"/>
                      </a:lnTo>
                      <a:lnTo>
                        <a:pt x="82" y="3236"/>
                      </a:lnTo>
                      <a:lnTo>
                        <a:pt x="93" y="3235"/>
                      </a:lnTo>
                      <a:lnTo>
                        <a:pt x="93" y="4440"/>
                      </a:lnTo>
                      <a:lnTo>
                        <a:pt x="82" y="4439"/>
                      </a:lnTo>
                      <a:lnTo>
                        <a:pt x="71" y="4438"/>
                      </a:lnTo>
                      <a:lnTo>
                        <a:pt x="59" y="4437"/>
                      </a:lnTo>
                      <a:lnTo>
                        <a:pt x="47" y="4435"/>
                      </a:lnTo>
                      <a:lnTo>
                        <a:pt x="36" y="4434"/>
                      </a:lnTo>
                      <a:lnTo>
                        <a:pt x="24" y="4433"/>
                      </a:lnTo>
                      <a:lnTo>
                        <a:pt x="13" y="4431"/>
                      </a:lnTo>
                      <a:lnTo>
                        <a:pt x="1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close/>
                      <a:moveTo>
                        <a:pt x="0" y="1161"/>
                      </a:moveTo>
                      <a:lnTo>
                        <a:pt x="0" y="1"/>
                      </a:lnTo>
                      <a:lnTo>
                        <a:pt x="12" y="1"/>
                      </a:lnTo>
                      <a:lnTo>
                        <a:pt x="24" y="0"/>
                      </a:lnTo>
                      <a:lnTo>
                        <a:pt x="35" y="0"/>
                      </a:ln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70" y="1"/>
                      </a:lnTo>
                      <a:lnTo>
                        <a:pt x="82" y="1"/>
                      </a:lnTo>
                      <a:lnTo>
                        <a:pt x="93" y="1"/>
                      </a:lnTo>
                      <a:lnTo>
                        <a:pt x="93" y="1176"/>
                      </a:lnTo>
                      <a:lnTo>
                        <a:pt x="82" y="1174"/>
                      </a:lnTo>
                      <a:lnTo>
                        <a:pt x="71" y="1171"/>
                      </a:lnTo>
                      <a:lnTo>
                        <a:pt x="59" y="1169"/>
                      </a:lnTo>
                      <a:lnTo>
                        <a:pt x="47" y="1168"/>
                      </a:lnTo>
                      <a:lnTo>
                        <a:pt x="35" y="1165"/>
                      </a:lnTo>
                      <a:lnTo>
                        <a:pt x="24" y="1163"/>
                      </a:lnTo>
                      <a:lnTo>
                        <a:pt x="12" y="1162"/>
                      </a:lnTo>
                      <a:lnTo>
                        <a:pt x="0" y="1161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5218200" y="4459320"/>
                  <a:ext cx="28440" cy="1411200"/>
                </a:xfrm>
                <a:custGeom>
                  <a:avLst/>
                  <a:gdLst/>
                  <a:ahLst/>
                  <a:rect l="l" t="t" r="r" b="b"/>
                  <a:pathLst>
                    <a:path w="93" h="4443">
                      <a:moveTo>
                        <a:pt x="0" y="4435"/>
                      </a:moveTo>
                      <a:lnTo>
                        <a:pt x="0" y="3238"/>
                      </a:lnTo>
                      <a:lnTo>
                        <a:pt x="12" y="3238"/>
                      </a:lnTo>
                      <a:lnTo>
                        <a:pt x="24" y="3237"/>
                      </a:lnTo>
                      <a:lnTo>
                        <a:pt x="35" y="3236"/>
                      </a:lnTo>
                      <a:lnTo>
                        <a:pt x="47" y="3235"/>
                      </a:lnTo>
                      <a:lnTo>
                        <a:pt x="59" y="3234"/>
                      </a:lnTo>
                      <a:lnTo>
                        <a:pt x="71" y="3232"/>
                      </a:lnTo>
                      <a:lnTo>
                        <a:pt x="82" y="3231"/>
                      </a:lnTo>
                      <a:lnTo>
                        <a:pt x="93" y="3229"/>
                      </a:lnTo>
                      <a:lnTo>
                        <a:pt x="93" y="4443"/>
                      </a:lnTo>
                      <a:lnTo>
                        <a:pt x="82" y="4442"/>
                      </a:lnTo>
                      <a:lnTo>
                        <a:pt x="70" y="4441"/>
                      </a:lnTo>
                      <a:lnTo>
                        <a:pt x="59" y="4441"/>
                      </a:lnTo>
                      <a:lnTo>
                        <a:pt x="46" y="4440"/>
                      </a:lnTo>
                      <a:lnTo>
                        <a:pt x="35" y="4439"/>
                      </a:lnTo>
                      <a:lnTo>
                        <a:pt x="23" y="4438"/>
                      </a:lnTo>
                      <a:lnTo>
                        <a:pt x="12" y="4437"/>
                      </a:lnTo>
                      <a:lnTo>
                        <a:pt x="0" y="4435"/>
                      </a:lnTo>
                      <a:close/>
                      <a:moveTo>
                        <a:pt x="0" y="1167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1"/>
                      </a:lnTo>
                      <a:lnTo>
                        <a:pt x="35" y="1"/>
                      </a:lnTo>
                      <a:lnTo>
                        <a:pt x="46" y="1"/>
                      </a:lnTo>
                      <a:lnTo>
                        <a:pt x="59" y="2"/>
                      </a:lnTo>
                      <a:lnTo>
                        <a:pt x="70" y="2"/>
                      </a:lnTo>
                      <a:lnTo>
                        <a:pt x="82" y="3"/>
                      </a:lnTo>
                      <a:lnTo>
                        <a:pt x="93" y="3"/>
                      </a:lnTo>
                      <a:lnTo>
                        <a:pt x="93" y="1188"/>
                      </a:lnTo>
                      <a:lnTo>
                        <a:pt x="82" y="1185"/>
                      </a:lnTo>
                      <a:lnTo>
                        <a:pt x="71" y="1182"/>
                      </a:lnTo>
                      <a:lnTo>
                        <a:pt x="59" y="1179"/>
                      </a:lnTo>
                      <a:lnTo>
                        <a:pt x="47" y="1176"/>
                      </a:lnTo>
                      <a:lnTo>
                        <a:pt x="35" y="1174"/>
                      </a:lnTo>
                      <a:lnTo>
                        <a:pt x="24" y="1171"/>
                      </a:lnTo>
                      <a:lnTo>
                        <a:pt x="12" y="1169"/>
                      </a:lnTo>
                      <a:lnTo>
                        <a:pt x="0" y="1167"/>
                      </a:lnTo>
                      <a:close/>
                    </a:path>
                  </a:pathLst>
                </a:custGeom>
                <a:solidFill>
                  <a:srgbClr val="f2a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5232240" y="4459320"/>
                  <a:ext cx="30240" cy="1411200"/>
                </a:xfrm>
                <a:custGeom>
                  <a:avLst/>
                  <a:gdLst/>
                  <a:ahLst/>
                  <a:rect l="l" t="t" r="r" b="b"/>
                  <a:pathLst>
                    <a:path w="94" h="4443">
                      <a:moveTo>
                        <a:pt x="0" y="4439"/>
                      </a:moveTo>
                      <a:lnTo>
                        <a:pt x="0" y="3234"/>
                      </a:lnTo>
                      <a:lnTo>
                        <a:pt x="13" y="3233"/>
                      </a:lnTo>
                      <a:lnTo>
                        <a:pt x="25" y="3231"/>
                      </a:lnTo>
                      <a:lnTo>
                        <a:pt x="36" y="3230"/>
                      </a:lnTo>
                      <a:lnTo>
                        <a:pt x="48" y="3228"/>
                      </a:lnTo>
                      <a:lnTo>
                        <a:pt x="60" y="3226"/>
                      </a:lnTo>
                      <a:lnTo>
                        <a:pt x="71" y="3224"/>
                      </a:lnTo>
                      <a:lnTo>
                        <a:pt x="83" y="3221"/>
                      </a:lnTo>
                      <a:lnTo>
                        <a:pt x="94" y="3219"/>
                      </a:lnTo>
                      <a:lnTo>
                        <a:pt x="94" y="4443"/>
                      </a:lnTo>
                      <a:lnTo>
                        <a:pt x="83" y="4443"/>
                      </a:lnTo>
                      <a:lnTo>
                        <a:pt x="71" y="4443"/>
                      </a:lnTo>
                      <a:lnTo>
                        <a:pt x="60" y="4442"/>
                      </a:lnTo>
                      <a:lnTo>
                        <a:pt x="47" y="4442"/>
                      </a:lnTo>
                      <a:lnTo>
                        <a:pt x="36" y="4441"/>
                      </a:lnTo>
                      <a:lnTo>
                        <a:pt x="24" y="4440"/>
                      </a:lnTo>
                      <a:lnTo>
                        <a:pt x="13" y="4440"/>
                      </a:lnTo>
                      <a:lnTo>
                        <a:pt x="0" y="4439"/>
                      </a:lnTo>
                      <a:close/>
                      <a:moveTo>
                        <a:pt x="0" y="1175"/>
                      </a:move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24" y="1"/>
                      </a:lnTo>
                      <a:lnTo>
                        <a:pt x="36" y="2"/>
                      </a:lnTo>
                      <a:lnTo>
                        <a:pt x="47" y="2"/>
                      </a:lnTo>
                      <a:lnTo>
                        <a:pt x="60" y="3"/>
                      </a:lnTo>
                      <a:lnTo>
                        <a:pt x="71" y="4"/>
                      </a:lnTo>
                      <a:lnTo>
                        <a:pt x="83" y="5"/>
                      </a:lnTo>
                      <a:lnTo>
                        <a:pt x="94" y="6"/>
                      </a:lnTo>
                      <a:lnTo>
                        <a:pt x="94" y="1202"/>
                      </a:lnTo>
                      <a:lnTo>
                        <a:pt x="83" y="1198"/>
                      </a:lnTo>
                      <a:lnTo>
                        <a:pt x="71" y="1194"/>
                      </a:lnTo>
                      <a:lnTo>
                        <a:pt x="60" y="1190"/>
                      </a:lnTo>
                      <a:lnTo>
                        <a:pt x="48" y="1187"/>
                      </a:lnTo>
                      <a:lnTo>
                        <a:pt x="36" y="1184"/>
                      </a:lnTo>
                      <a:lnTo>
                        <a:pt x="25" y="1181"/>
                      </a:lnTo>
                      <a:lnTo>
                        <a:pt x="13" y="1178"/>
                      </a:lnTo>
                      <a:lnTo>
                        <a:pt x="0" y="1175"/>
                      </a:lnTo>
                      <a:close/>
                    </a:path>
                  </a:pathLst>
                </a:custGeom>
                <a:solidFill>
                  <a:srgbClr val="f2a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5246640" y="4460760"/>
                  <a:ext cx="30240" cy="1409760"/>
                </a:xfrm>
                <a:custGeom>
                  <a:avLst/>
                  <a:gdLst/>
                  <a:ahLst/>
                  <a:rect l="l" t="t" r="r" b="b"/>
                  <a:pathLst>
                    <a:path w="94" h="4441">
                      <a:moveTo>
                        <a:pt x="0" y="4440"/>
                      </a:moveTo>
                      <a:lnTo>
                        <a:pt x="0" y="3226"/>
                      </a:lnTo>
                      <a:lnTo>
                        <a:pt x="13" y="3224"/>
                      </a:lnTo>
                      <a:lnTo>
                        <a:pt x="24" y="3222"/>
                      </a:lnTo>
                      <a:lnTo>
                        <a:pt x="36" y="3219"/>
                      </a:lnTo>
                      <a:lnTo>
                        <a:pt x="47" y="3216"/>
                      </a:lnTo>
                      <a:lnTo>
                        <a:pt x="60" y="3214"/>
                      </a:lnTo>
                      <a:lnTo>
                        <a:pt x="71" y="3210"/>
                      </a:lnTo>
                      <a:lnTo>
                        <a:pt x="83" y="3207"/>
                      </a:lnTo>
                      <a:lnTo>
                        <a:pt x="94" y="3204"/>
                      </a:lnTo>
                      <a:lnTo>
                        <a:pt x="94" y="4441"/>
                      </a:lnTo>
                      <a:lnTo>
                        <a:pt x="82" y="4441"/>
                      </a:lnTo>
                      <a:lnTo>
                        <a:pt x="71" y="4441"/>
                      </a:lnTo>
                      <a:lnTo>
                        <a:pt x="59" y="4441"/>
                      </a:lnTo>
                      <a:lnTo>
                        <a:pt x="47" y="4441"/>
                      </a:lnTo>
                      <a:lnTo>
                        <a:pt x="36" y="4441"/>
                      </a:lnTo>
                      <a:lnTo>
                        <a:pt x="24" y="4441"/>
                      </a:lnTo>
                      <a:lnTo>
                        <a:pt x="13" y="4440"/>
                      </a:lnTo>
                      <a:lnTo>
                        <a:pt x="0" y="4440"/>
                      </a:lnTo>
                      <a:close/>
                      <a:moveTo>
                        <a:pt x="0" y="1185"/>
                      </a:moveTo>
                      <a:lnTo>
                        <a:pt x="0" y="0"/>
                      </a:lnTo>
                      <a:lnTo>
                        <a:pt x="13" y="1"/>
                      </a:lnTo>
                      <a:lnTo>
                        <a:pt x="24" y="2"/>
                      </a:lnTo>
                      <a:lnTo>
                        <a:pt x="36" y="3"/>
                      </a:lnTo>
                      <a:lnTo>
                        <a:pt x="47" y="4"/>
                      </a:lnTo>
                      <a:lnTo>
                        <a:pt x="59" y="5"/>
                      </a:lnTo>
                      <a:lnTo>
                        <a:pt x="71" y="6"/>
                      </a:lnTo>
                      <a:lnTo>
                        <a:pt x="82" y="8"/>
                      </a:lnTo>
                      <a:lnTo>
                        <a:pt x="94" y="9"/>
                      </a:lnTo>
                      <a:lnTo>
                        <a:pt x="94" y="1220"/>
                      </a:lnTo>
                      <a:lnTo>
                        <a:pt x="82" y="1215"/>
                      </a:lnTo>
                      <a:lnTo>
                        <a:pt x="71" y="1209"/>
                      </a:lnTo>
                      <a:lnTo>
                        <a:pt x="60" y="1204"/>
                      </a:lnTo>
                      <a:lnTo>
                        <a:pt x="47" y="1200"/>
                      </a:lnTo>
                      <a:lnTo>
                        <a:pt x="36" y="1196"/>
                      </a:lnTo>
                      <a:lnTo>
                        <a:pt x="24" y="1192"/>
                      </a:lnTo>
                      <a:lnTo>
                        <a:pt x="13" y="1188"/>
                      </a:lnTo>
                      <a:lnTo>
                        <a:pt x="0" y="1185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5262480" y="4460760"/>
                  <a:ext cx="30240" cy="1409760"/>
                </a:xfrm>
                <a:custGeom>
                  <a:avLst/>
                  <a:gdLst/>
                  <a:ahLst/>
                  <a:rect l="l" t="t" r="r" b="b"/>
                  <a:pathLst>
                    <a:path w="94" h="4437">
                      <a:moveTo>
                        <a:pt x="0" y="4437"/>
                      </a:moveTo>
                      <a:lnTo>
                        <a:pt x="0" y="3213"/>
                      </a:lnTo>
                      <a:lnTo>
                        <a:pt x="13" y="3210"/>
                      </a:lnTo>
                      <a:lnTo>
                        <a:pt x="24" y="3206"/>
                      </a:lnTo>
                      <a:lnTo>
                        <a:pt x="36" y="3203"/>
                      </a:lnTo>
                      <a:lnTo>
                        <a:pt x="47" y="3198"/>
                      </a:lnTo>
                      <a:lnTo>
                        <a:pt x="60" y="3195"/>
                      </a:lnTo>
                      <a:lnTo>
                        <a:pt x="71" y="3191"/>
                      </a:lnTo>
                      <a:lnTo>
                        <a:pt x="82" y="3186"/>
                      </a:lnTo>
                      <a:lnTo>
                        <a:pt x="94" y="3182"/>
                      </a:lnTo>
                      <a:lnTo>
                        <a:pt x="94" y="4436"/>
                      </a:lnTo>
                      <a:lnTo>
                        <a:pt x="82" y="4437"/>
                      </a:lnTo>
                      <a:lnTo>
                        <a:pt x="71" y="4437"/>
                      </a:lnTo>
                      <a:lnTo>
                        <a:pt x="59" y="4437"/>
                      </a:lnTo>
                      <a:lnTo>
                        <a:pt x="47" y="4437"/>
                      </a:lnTo>
                      <a:lnTo>
                        <a:pt x="35" y="4437"/>
                      </a:lnTo>
                      <a:lnTo>
                        <a:pt x="24" y="4437"/>
                      </a:lnTo>
                      <a:lnTo>
                        <a:pt x="12" y="4437"/>
                      </a:lnTo>
                      <a:lnTo>
                        <a:pt x="0" y="4437"/>
                      </a:lnTo>
                      <a:close/>
                      <a:moveTo>
                        <a:pt x="0" y="1196"/>
                      </a:moveTo>
                      <a:lnTo>
                        <a:pt x="0" y="0"/>
                      </a:lnTo>
                      <a:lnTo>
                        <a:pt x="12" y="1"/>
                      </a:lnTo>
                      <a:lnTo>
                        <a:pt x="24" y="2"/>
                      </a:lnTo>
                      <a:lnTo>
                        <a:pt x="35" y="4"/>
                      </a:lnTo>
                      <a:lnTo>
                        <a:pt x="47" y="5"/>
                      </a:lnTo>
                      <a:lnTo>
                        <a:pt x="59" y="6"/>
                      </a:lnTo>
                      <a:lnTo>
                        <a:pt x="71" y="8"/>
                      </a:lnTo>
                      <a:lnTo>
                        <a:pt x="82" y="10"/>
                      </a:lnTo>
                      <a:lnTo>
                        <a:pt x="94" y="11"/>
                      </a:lnTo>
                      <a:lnTo>
                        <a:pt x="94" y="1239"/>
                      </a:lnTo>
                      <a:lnTo>
                        <a:pt x="82" y="1233"/>
                      </a:lnTo>
                      <a:lnTo>
                        <a:pt x="71" y="1227"/>
                      </a:lnTo>
                      <a:lnTo>
                        <a:pt x="60" y="1221"/>
                      </a:lnTo>
                      <a:lnTo>
                        <a:pt x="47" y="1216"/>
                      </a:lnTo>
                      <a:lnTo>
                        <a:pt x="36" y="1211"/>
                      </a:lnTo>
                      <a:lnTo>
                        <a:pt x="24" y="1205"/>
                      </a:lnTo>
                      <a:lnTo>
                        <a:pt x="13" y="1200"/>
                      </a:lnTo>
                      <a:lnTo>
                        <a:pt x="0" y="1196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5276880" y="4462560"/>
                  <a:ext cx="30240" cy="1407960"/>
                </a:xfrm>
                <a:custGeom>
                  <a:avLst/>
                  <a:gdLst/>
                  <a:ahLst/>
                  <a:rect l="l" t="t" r="r" b="b"/>
                  <a:pathLst>
                    <a:path w="94" h="4432">
                      <a:moveTo>
                        <a:pt x="0" y="4432"/>
                      </a:moveTo>
                      <a:lnTo>
                        <a:pt x="0" y="3195"/>
                      </a:lnTo>
                      <a:lnTo>
                        <a:pt x="12" y="3190"/>
                      </a:lnTo>
                      <a:lnTo>
                        <a:pt x="24" y="3186"/>
                      </a:lnTo>
                      <a:lnTo>
                        <a:pt x="36" y="3181"/>
                      </a:lnTo>
                      <a:lnTo>
                        <a:pt x="47" y="3177"/>
                      </a:lnTo>
                      <a:lnTo>
                        <a:pt x="60" y="3172"/>
                      </a:lnTo>
                      <a:lnTo>
                        <a:pt x="71" y="3167"/>
                      </a:lnTo>
                      <a:lnTo>
                        <a:pt x="82" y="3162"/>
                      </a:lnTo>
                      <a:lnTo>
                        <a:pt x="94" y="3156"/>
                      </a:lnTo>
                      <a:lnTo>
                        <a:pt x="94" y="4429"/>
                      </a:lnTo>
                      <a:lnTo>
                        <a:pt x="82" y="4429"/>
                      </a:lnTo>
                      <a:lnTo>
                        <a:pt x="71" y="4430"/>
                      </a:lnTo>
                      <a:lnTo>
                        <a:pt x="58" y="4431"/>
                      </a:lnTo>
                      <a:lnTo>
                        <a:pt x="47" y="4431"/>
                      </a:lnTo>
                      <a:lnTo>
                        <a:pt x="35" y="4432"/>
                      </a:lnTo>
                      <a:lnTo>
                        <a:pt x="24" y="4432"/>
                      </a:lnTo>
                      <a:lnTo>
                        <a:pt x="12" y="4432"/>
                      </a:lnTo>
                      <a:lnTo>
                        <a:pt x="0" y="4432"/>
                      </a:lnTo>
                      <a:close/>
                      <a:moveTo>
                        <a:pt x="0" y="1211"/>
                      </a:moveTo>
                      <a:lnTo>
                        <a:pt x="0" y="0"/>
                      </a:lnTo>
                      <a:lnTo>
                        <a:pt x="12" y="1"/>
                      </a:lnTo>
                      <a:lnTo>
                        <a:pt x="24" y="3"/>
                      </a:lnTo>
                      <a:lnTo>
                        <a:pt x="35" y="5"/>
                      </a:lnTo>
                      <a:lnTo>
                        <a:pt x="47" y="6"/>
                      </a:lnTo>
                      <a:lnTo>
                        <a:pt x="58" y="8"/>
                      </a:lnTo>
                      <a:lnTo>
                        <a:pt x="71" y="10"/>
                      </a:lnTo>
                      <a:lnTo>
                        <a:pt x="82" y="12"/>
                      </a:lnTo>
                      <a:lnTo>
                        <a:pt x="94" y="14"/>
                      </a:lnTo>
                      <a:lnTo>
                        <a:pt x="94" y="1262"/>
                      </a:lnTo>
                      <a:lnTo>
                        <a:pt x="82" y="1254"/>
                      </a:lnTo>
                      <a:lnTo>
                        <a:pt x="71" y="1247"/>
                      </a:lnTo>
                      <a:lnTo>
                        <a:pt x="60" y="1240"/>
                      </a:lnTo>
                      <a:lnTo>
                        <a:pt x="47" y="1234"/>
                      </a:lnTo>
                      <a:lnTo>
                        <a:pt x="36" y="1228"/>
                      </a:lnTo>
                      <a:lnTo>
                        <a:pt x="24" y="1222"/>
                      </a:lnTo>
                      <a:lnTo>
                        <a:pt x="12" y="1216"/>
                      </a:lnTo>
                      <a:lnTo>
                        <a:pt x="0" y="1211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5292720" y="4465800"/>
                  <a:ext cx="28440" cy="1404720"/>
                </a:xfrm>
                <a:custGeom>
                  <a:avLst/>
                  <a:gdLst/>
                  <a:ahLst/>
                  <a:rect l="l" t="t" r="r" b="b"/>
                  <a:pathLst>
                    <a:path w="93" h="4425">
                      <a:moveTo>
                        <a:pt x="0" y="4425"/>
                      </a:moveTo>
                      <a:lnTo>
                        <a:pt x="0" y="3171"/>
                      </a:lnTo>
                      <a:lnTo>
                        <a:pt x="11" y="3166"/>
                      </a:lnTo>
                      <a:lnTo>
                        <a:pt x="24" y="3161"/>
                      </a:lnTo>
                      <a:lnTo>
                        <a:pt x="36" y="3155"/>
                      </a:lnTo>
                      <a:lnTo>
                        <a:pt x="47" y="3150"/>
                      </a:lnTo>
                      <a:lnTo>
                        <a:pt x="59" y="3144"/>
                      </a:lnTo>
                      <a:lnTo>
                        <a:pt x="71" y="3138"/>
                      </a:lnTo>
                      <a:lnTo>
                        <a:pt x="82" y="3130"/>
                      </a:lnTo>
                      <a:lnTo>
                        <a:pt x="93" y="3124"/>
                      </a:lnTo>
                      <a:lnTo>
                        <a:pt x="93" y="4419"/>
                      </a:lnTo>
                      <a:lnTo>
                        <a:pt x="82" y="4420"/>
                      </a:lnTo>
                      <a:lnTo>
                        <a:pt x="70" y="4421"/>
                      </a:lnTo>
                      <a:lnTo>
                        <a:pt x="58" y="4422"/>
                      </a:lnTo>
                      <a:lnTo>
                        <a:pt x="47" y="4423"/>
                      </a:lnTo>
                      <a:lnTo>
                        <a:pt x="35" y="4424"/>
                      </a:lnTo>
                      <a:lnTo>
                        <a:pt x="24" y="4424"/>
                      </a:lnTo>
                      <a:lnTo>
                        <a:pt x="11" y="4425"/>
                      </a:lnTo>
                      <a:lnTo>
                        <a:pt x="0" y="4425"/>
                      </a:lnTo>
                      <a:close/>
                      <a:moveTo>
                        <a:pt x="0" y="1228"/>
                      </a:moveTo>
                      <a:lnTo>
                        <a:pt x="0" y="0"/>
                      </a:lnTo>
                      <a:lnTo>
                        <a:pt x="11" y="2"/>
                      </a:lnTo>
                      <a:lnTo>
                        <a:pt x="24" y="4"/>
                      </a:lnTo>
                      <a:lnTo>
                        <a:pt x="35" y="6"/>
                      </a:lnTo>
                      <a:lnTo>
                        <a:pt x="47" y="8"/>
                      </a:lnTo>
                      <a:lnTo>
                        <a:pt x="58" y="10"/>
                      </a:lnTo>
                      <a:lnTo>
                        <a:pt x="70" y="13"/>
                      </a:lnTo>
                      <a:lnTo>
                        <a:pt x="82" y="15"/>
                      </a:lnTo>
                      <a:lnTo>
                        <a:pt x="93" y="18"/>
                      </a:lnTo>
                      <a:lnTo>
                        <a:pt x="93" y="1287"/>
                      </a:lnTo>
                      <a:lnTo>
                        <a:pt x="82" y="1279"/>
                      </a:lnTo>
                      <a:lnTo>
                        <a:pt x="71" y="1271"/>
                      </a:lnTo>
                      <a:lnTo>
                        <a:pt x="58" y="1263"/>
                      </a:lnTo>
                      <a:lnTo>
                        <a:pt x="47" y="1256"/>
                      </a:lnTo>
                      <a:lnTo>
                        <a:pt x="36" y="1248"/>
                      </a:lnTo>
                      <a:lnTo>
                        <a:pt x="24" y="1241"/>
                      </a:lnTo>
                      <a:lnTo>
                        <a:pt x="11" y="1234"/>
                      </a:lnTo>
                      <a:lnTo>
                        <a:pt x="0" y="1228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5307120" y="4467240"/>
                  <a:ext cx="29880" cy="1401840"/>
                </a:xfrm>
                <a:custGeom>
                  <a:avLst/>
                  <a:gdLst/>
                  <a:ahLst/>
                  <a:rect l="l" t="t" r="r" b="b"/>
                  <a:pathLst>
                    <a:path w="93" h="4415">
                      <a:moveTo>
                        <a:pt x="0" y="4415"/>
                      </a:moveTo>
                      <a:lnTo>
                        <a:pt x="0" y="3142"/>
                      </a:lnTo>
                      <a:lnTo>
                        <a:pt x="11" y="3136"/>
                      </a:lnTo>
                      <a:lnTo>
                        <a:pt x="24" y="3130"/>
                      </a:lnTo>
                      <a:lnTo>
                        <a:pt x="36" y="3122"/>
                      </a:lnTo>
                      <a:lnTo>
                        <a:pt x="47" y="3115"/>
                      </a:lnTo>
                      <a:lnTo>
                        <a:pt x="58" y="3108"/>
                      </a:lnTo>
                      <a:lnTo>
                        <a:pt x="71" y="3101"/>
                      </a:lnTo>
                      <a:lnTo>
                        <a:pt x="82" y="3093"/>
                      </a:lnTo>
                      <a:lnTo>
                        <a:pt x="93" y="3085"/>
                      </a:lnTo>
                      <a:lnTo>
                        <a:pt x="93" y="4405"/>
                      </a:lnTo>
                      <a:lnTo>
                        <a:pt x="82" y="4407"/>
                      </a:lnTo>
                      <a:lnTo>
                        <a:pt x="70" y="4408"/>
                      </a:lnTo>
                      <a:lnTo>
                        <a:pt x="58" y="4410"/>
                      </a:lnTo>
                      <a:lnTo>
                        <a:pt x="46" y="4411"/>
                      </a:lnTo>
                      <a:lnTo>
                        <a:pt x="35" y="4412"/>
                      </a:lnTo>
                      <a:lnTo>
                        <a:pt x="23" y="4413"/>
                      </a:lnTo>
                      <a:lnTo>
                        <a:pt x="11" y="4414"/>
                      </a:lnTo>
                      <a:lnTo>
                        <a:pt x="0" y="4415"/>
                      </a:lnTo>
                      <a:close/>
                      <a:moveTo>
                        <a:pt x="0" y="1248"/>
                      </a:moveTo>
                      <a:lnTo>
                        <a:pt x="0" y="0"/>
                      </a:lnTo>
                      <a:lnTo>
                        <a:pt x="11" y="2"/>
                      </a:lnTo>
                      <a:lnTo>
                        <a:pt x="23" y="5"/>
                      </a:lnTo>
                      <a:lnTo>
                        <a:pt x="35" y="7"/>
                      </a:lnTo>
                      <a:lnTo>
                        <a:pt x="46" y="10"/>
                      </a:lnTo>
                      <a:lnTo>
                        <a:pt x="58" y="12"/>
                      </a:lnTo>
                      <a:lnTo>
                        <a:pt x="70" y="15"/>
                      </a:lnTo>
                      <a:lnTo>
                        <a:pt x="82" y="19"/>
                      </a:lnTo>
                      <a:lnTo>
                        <a:pt x="93" y="21"/>
                      </a:lnTo>
                      <a:lnTo>
                        <a:pt x="93" y="1316"/>
                      </a:lnTo>
                      <a:lnTo>
                        <a:pt x="82" y="1307"/>
                      </a:lnTo>
                      <a:lnTo>
                        <a:pt x="71" y="1298"/>
                      </a:lnTo>
                      <a:lnTo>
                        <a:pt x="58" y="1288"/>
                      </a:lnTo>
                      <a:lnTo>
                        <a:pt x="47" y="1280"/>
                      </a:lnTo>
                      <a:lnTo>
                        <a:pt x="35" y="1271"/>
                      </a:lnTo>
                      <a:lnTo>
                        <a:pt x="24" y="1263"/>
                      </a:lnTo>
                      <a:lnTo>
                        <a:pt x="11" y="1255"/>
                      </a:lnTo>
                      <a:lnTo>
                        <a:pt x="0" y="1248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5321160" y="4470480"/>
                  <a:ext cx="30240" cy="1396800"/>
                </a:xfrm>
                <a:custGeom>
                  <a:avLst/>
                  <a:gdLst/>
                  <a:ahLst/>
                  <a:rect l="l" t="t" r="r" b="b"/>
                  <a:pathLst>
                    <a:path w="94" h="4401">
                      <a:moveTo>
                        <a:pt x="0" y="4401"/>
                      </a:moveTo>
                      <a:lnTo>
                        <a:pt x="0" y="3106"/>
                      </a:lnTo>
                      <a:lnTo>
                        <a:pt x="12" y="3098"/>
                      </a:lnTo>
                      <a:lnTo>
                        <a:pt x="25" y="3091"/>
                      </a:lnTo>
                      <a:lnTo>
                        <a:pt x="36" y="3083"/>
                      </a:lnTo>
                      <a:lnTo>
                        <a:pt x="48" y="3075"/>
                      </a:lnTo>
                      <a:lnTo>
                        <a:pt x="59" y="3066"/>
                      </a:lnTo>
                      <a:lnTo>
                        <a:pt x="72" y="3057"/>
                      </a:lnTo>
                      <a:lnTo>
                        <a:pt x="83" y="3048"/>
                      </a:lnTo>
                      <a:lnTo>
                        <a:pt x="94" y="3039"/>
                      </a:lnTo>
                      <a:lnTo>
                        <a:pt x="94" y="4387"/>
                      </a:lnTo>
                      <a:lnTo>
                        <a:pt x="83" y="4389"/>
                      </a:lnTo>
                      <a:lnTo>
                        <a:pt x="71" y="4391"/>
                      </a:lnTo>
                      <a:lnTo>
                        <a:pt x="59" y="4393"/>
                      </a:lnTo>
                      <a:lnTo>
                        <a:pt x="47" y="4395"/>
                      </a:lnTo>
                      <a:lnTo>
                        <a:pt x="36" y="4397"/>
                      </a:lnTo>
                      <a:lnTo>
                        <a:pt x="24" y="4398"/>
                      </a:lnTo>
                      <a:lnTo>
                        <a:pt x="12" y="4400"/>
                      </a:lnTo>
                      <a:lnTo>
                        <a:pt x="0" y="4401"/>
                      </a:lnTo>
                      <a:close/>
                      <a:moveTo>
                        <a:pt x="0" y="1269"/>
                      </a:moveTo>
                      <a:lnTo>
                        <a:pt x="0" y="0"/>
                      </a:lnTo>
                      <a:lnTo>
                        <a:pt x="12" y="2"/>
                      </a:lnTo>
                      <a:lnTo>
                        <a:pt x="24" y="5"/>
                      </a:lnTo>
                      <a:lnTo>
                        <a:pt x="36" y="9"/>
                      </a:lnTo>
                      <a:lnTo>
                        <a:pt x="47" y="11"/>
                      </a:lnTo>
                      <a:lnTo>
                        <a:pt x="59" y="14"/>
                      </a:lnTo>
                      <a:lnTo>
                        <a:pt x="71" y="17"/>
                      </a:lnTo>
                      <a:lnTo>
                        <a:pt x="83" y="21"/>
                      </a:lnTo>
                      <a:lnTo>
                        <a:pt x="94" y="24"/>
                      </a:lnTo>
                      <a:lnTo>
                        <a:pt x="94" y="1349"/>
                      </a:lnTo>
                      <a:lnTo>
                        <a:pt x="83" y="1339"/>
                      </a:lnTo>
                      <a:lnTo>
                        <a:pt x="72" y="1327"/>
                      </a:lnTo>
                      <a:lnTo>
                        <a:pt x="59" y="1317"/>
                      </a:lnTo>
                      <a:lnTo>
                        <a:pt x="48" y="1307"/>
                      </a:lnTo>
                      <a:lnTo>
                        <a:pt x="36" y="1297"/>
                      </a:lnTo>
                      <a:lnTo>
                        <a:pt x="25" y="1288"/>
                      </a:lnTo>
                      <a:lnTo>
                        <a:pt x="12" y="1278"/>
                      </a:lnTo>
                      <a:lnTo>
                        <a:pt x="0" y="1269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5337000" y="4473720"/>
                  <a:ext cx="28800" cy="1392120"/>
                </a:xfrm>
                <a:custGeom>
                  <a:avLst/>
                  <a:gdLst/>
                  <a:ahLst/>
                  <a:rect l="l" t="t" r="r" b="b"/>
                  <a:pathLst>
                    <a:path w="94" h="4384">
                      <a:moveTo>
                        <a:pt x="0" y="4384"/>
                      </a:moveTo>
                      <a:lnTo>
                        <a:pt x="0" y="3064"/>
                      </a:lnTo>
                      <a:lnTo>
                        <a:pt x="12" y="3055"/>
                      </a:lnTo>
                      <a:lnTo>
                        <a:pt x="25" y="3046"/>
                      </a:lnTo>
                      <a:lnTo>
                        <a:pt x="36" y="3037"/>
                      </a:lnTo>
                      <a:lnTo>
                        <a:pt x="48" y="3027"/>
                      </a:lnTo>
                      <a:lnTo>
                        <a:pt x="59" y="3017"/>
                      </a:lnTo>
                      <a:lnTo>
                        <a:pt x="72" y="3007"/>
                      </a:lnTo>
                      <a:lnTo>
                        <a:pt x="83" y="2995"/>
                      </a:lnTo>
                      <a:lnTo>
                        <a:pt x="94" y="2984"/>
                      </a:lnTo>
                      <a:lnTo>
                        <a:pt x="94" y="4368"/>
                      </a:lnTo>
                      <a:lnTo>
                        <a:pt x="82" y="4370"/>
                      </a:lnTo>
                      <a:lnTo>
                        <a:pt x="71" y="4372"/>
                      </a:lnTo>
                      <a:lnTo>
                        <a:pt x="58" y="4374"/>
                      </a:lnTo>
                      <a:lnTo>
                        <a:pt x="47" y="4376"/>
                      </a:lnTo>
                      <a:lnTo>
                        <a:pt x="36" y="4378"/>
                      </a:lnTo>
                      <a:lnTo>
                        <a:pt x="24" y="4380"/>
                      </a:lnTo>
                      <a:lnTo>
                        <a:pt x="12" y="4382"/>
                      </a:lnTo>
                      <a:lnTo>
                        <a:pt x="0" y="4384"/>
                      </a:lnTo>
                      <a:close/>
                      <a:moveTo>
                        <a:pt x="0" y="1295"/>
                      </a:moveTo>
                      <a:lnTo>
                        <a:pt x="0" y="0"/>
                      </a:lnTo>
                      <a:lnTo>
                        <a:pt x="10" y="3"/>
                      </a:lnTo>
                      <a:lnTo>
                        <a:pt x="20" y="5"/>
                      </a:lnTo>
                      <a:lnTo>
                        <a:pt x="30" y="8"/>
                      </a:lnTo>
                      <a:lnTo>
                        <a:pt x="40" y="11"/>
                      </a:lnTo>
                      <a:lnTo>
                        <a:pt x="49" y="13"/>
                      </a:lnTo>
                      <a:lnTo>
                        <a:pt x="59" y="16"/>
                      </a:lnTo>
                      <a:lnTo>
                        <a:pt x="69" y="19"/>
                      </a:lnTo>
                      <a:lnTo>
                        <a:pt x="79" y="22"/>
                      </a:lnTo>
                      <a:lnTo>
                        <a:pt x="81" y="23"/>
                      </a:lnTo>
                      <a:lnTo>
                        <a:pt x="83" y="23"/>
                      </a:lnTo>
                      <a:lnTo>
                        <a:pt x="84" y="24"/>
                      </a:lnTo>
                      <a:lnTo>
                        <a:pt x="86" y="24"/>
                      </a:lnTo>
                      <a:lnTo>
                        <a:pt x="88" y="25"/>
                      </a:lnTo>
                      <a:lnTo>
                        <a:pt x="90" y="26"/>
                      </a:lnTo>
                      <a:lnTo>
                        <a:pt x="92" y="26"/>
                      </a:lnTo>
                      <a:lnTo>
                        <a:pt x="94" y="27"/>
                      </a:lnTo>
                      <a:lnTo>
                        <a:pt x="94" y="1387"/>
                      </a:lnTo>
                      <a:lnTo>
                        <a:pt x="83" y="1375"/>
                      </a:lnTo>
                      <a:lnTo>
                        <a:pt x="71" y="1362"/>
                      </a:lnTo>
                      <a:lnTo>
                        <a:pt x="59" y="1350"/>
                      </a:lnTo>
                      <a:lnTo>
                        <a:pt x="48" y="1339"/>
                      </a:lnTo>
                      <a:lnTo>
                        <a:pt x="36" y="1328"/>
                      </a:lnTo>
                      <a:lnTo>
                        <a:pt x="25" y="1316"/>
                      </a:lnTo>
                      <a:lnTo>
                        <a:pt x="12" y="1306"/>
                      </a:lnTo>
                      <a:lnTo>
                        <a:pt x="0" y="1295"/>
                      </a:lnTo>
                      <a:close/>
                    </a:path>
                  </a:pathLst>
                </a:custGeom>
                <a:solidFill>
                  <a:srgbClr val="f3b2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5351400" y="4478400"/>
                  <a:ext cx="30240" cy="1386000"/>
                </a:xfrm>
                <a:custGeom>
                  <a:avLst/>
                  <a:gdLst/>
                  <a:ahLst/>
                  <a:rect l="l" t="t" r="r" b="b"/>
                  <a:pathLst>
                    <a:path w="94" h="4363">
                      <a:moveTo>
                        <a:pt x="0" y="4363"/>
                      </a:moveTo>
                      <a:lnTo>
                        <a:pt x="0" y="3015"/>
                      </a:lnTo>
                      <a:lnTo>
                        <a:pt x="12" y="3004"/>
                      </a:lnTo>
                      <a:lnTo>
                        <a:pt x="25" y="2994"/>
                      </a:lnTo>
                      <a:lnTo>
                        <a:pt x="36" y="2982"/>
                      </a:lnTo>
                      <a:lnTo>
                        <a:pt x="48" y="2971"/>
                      </a:lnTo>
                      <a:lnTo>
                        <a:pt x="59" y="2959"/>
                      </a:lnTo>
                      <a:lnTo>
                        <a:pt x="71" y="2947"/>
                      </a:lnTo>
                      <a:lnTo>
                        <a:pt x="83" y="2934"/>
                      </a:lnTo>
                      <a:lnTo>
                        <a:pt x="94" y="2921"/>
                      </a:lnTo>
                      <a:lnTo>
                        <a:pt x="94" y="4345"/>
                      </a:lnTo>
                      <a:lnTo>
                        <a:pt x="82" y="4347"/>
                      </a:lnTo>
                      <a:lnTo>
                        <a:pt x="71" y="4350"/>
                      </a:lnTo>
                      <a:lnTo>
                        <a:pt x="58" y="4353"/>
                      </a:lnTo>
                      <a:lnTo>
                        <a:pt x="47" y="4355"/>
                      </a:lnTo>
                      <a:lnTo>
                        <a:pt x="35" y="4357"/>
                      </a:lnTo>
                      <a:lnTo>
                        <a:pt x="24" y="4359"/>
                      </a:lnTo>
                      <a:lnTo>
                        <a:pt x="11" y="4361"/>
                      </a:lnTo>
                      <a:lnTo>
                        <a:pt x="0" y="4363"/>
                      </a:lnTo>
                      <a:close/>
                      <a:moveTo>
                        <a:pt x="0" y="1325"/>
                      </a:move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8" y="2"/>
                      </a:lnTo>
                      <a:lnTo>
                        <a:pt x="12" y="3"/>
                      </a:lnTo>
                      <a:lnTo>
                        <a:pt x="15" y="4"/>
                      </a:lnTo>
                      <a:lnTo>
                        <a:pt x="20" y="6"/>
                      </a:lnTo>
                      <a:lnTo>
                        <a:pt x="24" y="7"/>
                      </a:lnTo>
                      <a:lnTo>
                        <a:pt x="28" y="8"/>
                      </a:lnTo>
                      <a:lnTo>
                        <a:pt x="32" y="9"/>
                      </a:lnTo>
                      <a:lnTo>
                        <a:pt x="40" y="11"/>
                      </a:lnTo>
                      <a:lnTo>
                        <a:pt x="47" y="14"/>
                      </a:lnTo>
                      <a:lnTo>
                        <a:pt x="55" y="16"/>
                      </a:lnTo>
                      <a:lnTo>
                        <a:pt x="62" y="19"/>
                      </a:lnTo>
                      <a:lnTo>
                        <a:pt x="71" y="21"/>
                      </a:lnTo>
                      <a:lnTo>
                        <a:pt x="78" y="24"/>
                      </a:lnTo>
                      <a:lnTo>
                        <a:pt x="86" y="27"/>
                      </a:lnTo>
                      <a:lnTo>
                        <a:pt x="94" y="29"/>
                      </a:lnTo>
                      <a:lnTo>
                        <a:pt x="94" y="1430"/>
                      </a:lnTo>
                      <a:lnTo>
                        <a:pt x="88" y="1423"/>
                      </a:lnTo>
                      <a:lnTo>
                        <a:pt x="83" y="1416"/>
                      </a:lnTo>
                      <a:lnTo>
                        <a:pt x="77" y="1409"/>
                      </a:lnTo>
                      <a:lnTo>
                        <a:pt x="71" y="1402"/>
                      </a:lnTo>
                      <a:lnTo>
                        <a:pt x="66" y="1395"/>
                      </a:lnTo>
                      <a:lnTo>
                        <a:pt x="59" y="1388"/>
                      </a:lnTo>
                      <a:lnTo>
                        <a:pt x="53" y="1381"/>
                      </a:lnTo>
                      <a:lnTo>
                        <a:pt x="47" y="1375"/>
                      </a:lnTo>
                      <a:lnTo>
                        <a:pt x="42" y="1368"/>
                      </a:lnTo>
                      <a:lnTo>
                        <a:pt x="36" y="1362"/>
                      </a:lnTo>
                      <a:lnTo>
                        <a:pt x="30" y="1355"/>
                      </a:lnTo>
                      <a:lnTo>
                        <a:pt x="24" y="1349"/>
                      </a:lnTo>
                      <a:lnTo>
                        <a:pt x="18" y="1343"/>
                      </a:lnTo>
                      <a:lnTo>
                        <a:pt x="12" y="1337"/>
                      </a:lnTo>
                      <a:lnTo>
                        <a:pt x="6" y="1331"/>
                      </a:lnTo>
                      <a:lnTo>
                        <a:pt x="0" y="1325"/>
                      </a:lnTo>
                      <a:close/>
                    </a:path>
                  </a:pathLst>
                </a:custGeom>
                <a:solidFill>
                  <a:srgbClr val="f3b2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5365800" y="4483080"/>
                  <a:ext cx="30240" cy="1378080"/>
                </a:xfrm>
                <a:custGeom>
                  <a:avLst/>
                  <a:gdLst/>
                  <a:ahLst/>
                  <a:rect l="l" t="t" r="r" b="b"/>
                  <a:pathLst>
                    <a:path w="93" h="4341">
                      <a:moveTo>
                        <a:pt x="0" y="4341"/>
                      </a:moveTo>
                      <a:lnTo>
                        <a:pt x="0" y="2957"/>
                      </a:lnTo>
                      <a:lnTo>
                        <a:pt x="7" y="2950"/>
                      </a:lnTo>
                      <a:lnTo>
                        <a:pt x="15" y="2942"/>
                      </a:lnTo>
                      <a:lnTo>
                        <a:pt x="23" y="2934"/>
                      </a:lnTo>
                      <a:lnTo>
                        <a:pt x="31" y="2925"/>
                      </a:lnTo>
                      <a:lnTo>
                        <a:pt x="38" y="2917"/>
                      </a:lnTo>
                      <a:lnTo>
                        <a:pt x="45" y="2909"/>
                      </a:lnTo>
                      <a:lnTo>
                        <a:pt x="53" y="2900"/>
                      </a:lnTo>
                      <a:lnTo>
                        <a:pt x="60" y="2892"/>
                      </a:lnTo>
                      <a:lnTo>
                        <a:pt x="64" y="2887"/>
                      </a:lnTo>
                      <a:lnTo>
                        <a:pt x="69" y="2881"/>
                      </a:lnTo>
                      <a:lnTo>
                        <a:pt x="73" y="2875"/>
                      </a:lnTo>
                      <a:lnTo>
                        <a:pt x="77" y="2870"/>
                      </a:lnTo>
                      <a:lnTo>
                        <a:pt x="81" y="2865"/>
                      </a:lnTo>
                      <a:lnTo>
                        <a:pt x="85" y="2859"/>
                      </a:lnTo>
                      <a:lnTo>
                        <a:pt x="89" y="2854"/>
                      </a:lnTo>
                      <a:lnTo>
                        <a:pt x="93" y="2848"/>
                      </a:lnTo>
                      <a:lnTo>
                        <a:pt x="93" y="4319"/>
                      </a:lnTo>
                      <a:lnTo>
                        <a:pt x="82" y="4322"/>
                      </a:lnTo>
                      <a:lnTo>
                        <a:pt x="71" y="4325"/>
                      </a:lnTo>
                      <a:lnTo>
                        <a:pt x="58" y="4328"/>
                      </a:lnTo>
                      <a:lnTo>
                        <a:pt x="47" y="4331"/>
                      </a:lnTo>
                      <a:lnTo>
                        <a:pt x="35" y="4333"/>
                      </a:lnTo>
                      <a:lnTo>
                        <a:pt x="24" y="4336"/>
                      </a:lnTo>
                      <a:lnTo>
                        <a:pt x="11" y="4338"/>
                      </a:lnTo>
                      <a:lnTo>
                        <a:pt x="0" y="4341"/>
                      </a:lnTo>
                      <a:close/>
                      <a:moveTo>
                        <a:pt x="0" y="1360"/>
                      </a:moveTo>
                      <a:lnTo>
                        <a:pt x="0" y="0"/>
                      </a:lnTo>
                      <a:lnTo>
                        <a:pt x="11" y="4"/>
                      </a:lnTo>
                      <a:lnTo>
                        <a:pt x="24" y="7"/>
                      </a:lnTo>
                      <a:lnTo>
                        <a:pt x="35" y="11"/>
                      </a:lnTo>
                      <a:lnTo>
                        <a:pt x="47" y="15"/>
                      </a:lnTo>
                      <a:lnTo>
                        <a:pt x="58" y="20"/>
                      </a:lnTo>
                      <a:lnTo>
                        <a:pt x="71" y="25"/>
                      </a:lnTo>
                      <a:lnTo>
                        <a:pt x="82" y="29"/>
                      </a:lnTo>
                      <a:lnTo>
                        <a:pt x="93" y="33"/>
                      </a:lnTo>
                      <a:lnTo>
                        <a:pt x="93" y="1481"/>
                      </a:lnTo>
                      <a:lnTo>
                        <a:pt x="83" y="1465"/>
                      </a:lnTo>
                      <a:lnTo>
                        <a:pt x="72" y="1450"/>
                      </a:lnTo>
                      <a:lnTo>
                        <a:pt x="60" y="1434"/>
                      </a:lnTo>
                      <a:lnTo>
                        <a:pt x="49" y="1419"/>
                      </a:lnTo>
                      <a:lnTo>
                        <a:pt x="38" y="1405"/>
                      </a:lnTo>
                      <a:lnTo>
                        <a:pt x="26" y="1389"/>
                      </a:lnTo>
                      <a:lnTo>
                        <a:pt x="13" y="1375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5381640" y="4487760"/>
                  <a:ext cx="28440" cy="1370160"/>
                </a:xfrm>
                <a:custGeom>
                  <a:avLst/>
                  <a:gdLst/>
                  <a:ahLst/>
                  <a:rect l="l" t="t" r="r" b="b"/>
                  <a:pathLst>
                    <a:path w="93" h="4316">
                      <a:moveTo>
                        <a:pt x="0" y="4316"/>
                      </a:moveTo>
                      <a:lnTo>
                        <a:pt x="0" y="2892"/>
                      </a:lnTo>
                      <a:lnTo>
                        <a:pt x="1" y="2890"/>
                      </a:lnTo>
                      <a:lnTo>
                        <a:pt x="3" y="2888"/>
                      </a:lnTo>
                      <a:lnTo>
                        <a:pt x="5" y="2886"/>
                      </a:lnTo>
                      <a:lnTo>
                        <a:pt x="6" y="2885"/>
                      </a:lnTo>
                      <a:lnTo>
                        <a:pt x="8" y="2883"/>
                      </a:lnTo>
                      <a:lnTo>
                        <a:pt x="9" y="2881"/>
                      </a:lnTo>
                      <a:lnTo>
                        <a:pt x="11" y="2879"/>
                      </a:lnTo>
                      <a:lnTo>
                        <a:pt x="13" y="2877"/>
                      </a:lnTo>
                      <a:lnTo>
                        <a:pt x="24" y="2863"/>
                      </a:lnTo>
                      <a:lnTo>
                        <a:pt x="35" y="2849"/>
                      </a:lnTo>
                      <a:lnTo>
                        <a:pt x="45" y="2835"/>
                      </a:lnTo>
                      <a:lnTo>
                        <a:pt x="55" y="2821"/>
                      </a:lnTo>
                      <a:lnTo>
                        <a:pt x="65" y="2807"/>
                      </a:lnTo>
                      <a:lnTo>
                        <a:pt x="75" y="2792"/>
                      </a:lnTo>
                      <a:lnTo>
                        <a:pt x="84" y="2778"/>
                      </a:lnTo>
                      <a:lnTo>
                        <a:pt x="93" y="2764"/>
                      </a:lnTo>
                      <a:lnTo>
                        <a:pt x="93" y="4291"/>
                      </a:lnTo>
                      <a:lnTo>
                        <a:pt x="82" y="4294"/>
                      </a:lnTo>
                      <a:lnTo>
                        <a:pt x="71" y="4298"/>
                      </a:lnTo>
                      <a:lnTo>
                        <a:pt x="58" y="4301"/>
                      </a:lnTo>
                      <a:lnTo>
                        <a:pt x="47" y="4304"/>
                      </a:lnTo>
                      <a:lnTo>
                        <a:pt x="35" y="4307"/>
                      </a:lnTo>
                      <a:lnTo>
                        <a:pt x="24" y="4310"/>
                      </a:lnTo>
                      <a:lnTo>
                        <a:pt x="11" y="4313"/>
                      </a:lnTo>
                      <a:lnTo>
                        <a:pt x="0" y="4316"/>
                      </a:lnTo>
                      <a:close/>
                      <a:moveTo>
                        <a:pt x="0" y="1401"/>
                      </a:moveTo>
                      <a:lnTo>
                        <a:pt x="0" y="0"/>
                      </a:lnTo>
                      <a:lnTo>
                        <a:pt x="11" y="4"/>
                      </a:lnTo>
                      <a:lnTo>
                        <a:pt x="24" y="10"/>
                      </a:lnTo>
                      <a:lnTo>
                        <a:pt x="35" y="14"/>
                      </a:lnTo>
                      <a:lnTo>
                        <a:pt x="47" y="19"/>
                      </a:lnTo>
                      <a:lnTo>
                        <a:pt x="58" y="23"/>
                      </a:lnTo>
                      <a:lnTo>
                        <a:pt x="71" y="28"/>
                      </a:lnTo>
                      <a:lnTo>
                        <a:pt x="82" y="32"/>
                      </a:lnTo>
                      <a:lnTo>
                        <a:pt x="93" y="37"/>
                      </a:lnTo>
                      <a:lnTo>
                        <a:pt x="93" y="1543"/>
                      </a:lnTo>
                      <a:lnTo>
                        <a:pt x="83" y="1524"/>
                      </a:lnTo>
                      <a:lnTo>
                        <a:pt x="72" y="1506"/>
                      </a:lnTo>
                      <a:lnTo>
                        <a:pt x="61" y="1488"/>
                      </a:lnTo>
                      <a:lnTo>
                        <a:pt x="49" y="1470"/>
                      </a:lnTo>
                      <a:lnTo>
                        <a:pt x="38" y="1453"/>
                      </a:lnTo>
                      <a:lnTo>
                        <a:pt x="26" y="1436"/>
                      </a:lnTo>
                      <a:lnTo>
                        <a:pt x="12" y="1418"/>
                      </a:lnTo>
                      <a:lnTo>
                        <a:pt x="0" y="1401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5396040" y="4492800"/>
                  <a:ext cx="29880" cy="1361880"/>
                </a:xfrm>
                <a:custGeom>
                  <a:avLst/>
                  <a:gdLst/>
                  <a:ahLst/>
                  <a:rect l="l" t="t" r="r" b="b"/>
                  <a:pathLst>
                    <a:path w="94" h="4286">
                      <a:moveTo>
                        <a:pt x="0" y="4286"/>
                      </a:moveTo>
                      <a:lnTo>
                        <a:pt x="0" y="2815"/>
                      </a:lnTo>
                      <a:lnTo>
                        <a:pt x="13" y="2797"/>
                      </a:lnTo>
                      <a:lnTo>
                        <a:pt x="27" y="2778"/>
                      </a:lnTo>
                      <a:lnTo>
                        <a:pt x="39" y="2759"/>
                      </a:lnTo>
                      <a:lnTo>
                        <a:pt x="51" y="2738"/>
                      </a:lnTo>
                      <a:lnTo>
                        <a:pt x="62" y="2719"/>
                      </a:lnTo>
                      <a:lnTo>
                        <a:pt x="74" y="2699"/>
                      </a:lnTo>
                      <a:lnTo>
                        <a:pt x="84" y="2678"/>
                      </a:lnTo>
                      <a:lnTo>
                        <a:pt x="94" y="2658"/>
                      </a:lnTo>
                      <a:lnTo>
                        <a:pt x="94" y="4257"/>
                      </a:lnTo>
                      <a:lnTo>
                        <a:pt x="89" y="4258"/>
                      </a:lnTo>
                      <a:lnTo>
                        <a:pt x="84" y="4260"/>
                      </a:lnTo>
                      <a:lnTo>
                        <a:pt x="80" y="4262"/>
                      </a:lnTo>
                      <a:lnTo>
                        <a:pt x="75" y="4263"/>
                      </a:lnTo>
                      <a:lnTo>
                        <a:pt x="69" y="4265"/>
                      </a:lnTo>
                      <a:lnTo>
                        <a:pt x="64" y="4266"/>
                      </a:lnTo>
                      <a:lnTo>
                        <a:pt x="59" y="4268"/>
                      </a:lnTo>
                      <a:lnTo>
                        <a:pt x="54" y="4269"/>
                      </a:lnTo>
                      <a:lnTo>
                        <a:pt x="48" y="4273"/>
                      </a:lnTo>
                      <a:lnTo>
                        <a:pt x="41" y="4275"/>
                      </a:lnTo>
                      <a:lnTo>
                        <a:pt x="35" y="4277"/>
                      </a:lnTo>
                      <a:lnTo>
                        <a:pt x="28" y="4279"/>
                      </a:lnTo>
                      <a:lnTo>
                        <a:pt x="20" y="4281"/>
                      </a:lnTo>
                      <a:lnTo>
                        <a:pt x="14" y="4282"/>
                      </a:lnTo>
                      <a:lnTo>
                        <a:pt x="7" y="4284"/>
                      </a:lnTo>
                      <a:lnTo>
                        <a:pt x="0" y="4286"/>
                      </a:lnTo>
                      <a:close/>
                      <a:moveTo>
                        <a:pt x="0" y="1448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5" y="10"/>
                      </a:lnTo>
                      <a:lnTo>
                        <a:pt x="36" y="15"/>
                      </a:lnTo>
                      <a:lnTo>
                        <a:pt x="48" y="19"/>
                      </a:lnTo>
                      <a:lnTo>
                        <a:pt x="59" y="24"/>
                      </a:lnTo>
                      <a:lnTo>
                        <a:pt x="71" y="29"/>
                      </a:lnTo>
                      <a:lnTo>
                        <a:pt x="83" y="35"/>
                      </a:lnTo>
                      <a:lnTo>
                        <a:pt x="94" y="41"/>
                      </a:lnTo>
                      <a:lnTo>
                        <a:pt x="94" y="1621"/>
                      </a:lnTo>
                      <a:lnTo>
                        <a:pt x="84" y="1598"/>
                      </a:lnTo>
                      <a:lnTo>
                        <a:pt x="74" y="1576"/>
                      </a:lnTo>
                      <a:lnTo>
                        <a:pt x="62" y="1553"/>
                      </a:lnTo>
                      <a:lnTo>
                        <a:pt x="51" y="1532"/>
                      </a:lnTo>
                      <a:lnTo>
                        <a:pt x="39" y="1510"/>
                      </a:lnTo>
                      <a:lnTo>
                        <a:pt x="27" y="1489"/>
                      </a:lnTo>
                      <a:lnTo>
                        <a:pt x="13" y="1469"/>
                      </a:lnTo>
                      <a:lnTo>
                        <a:pt x="0" y="1448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5410080" y="4498920"/>
                  <a:ext cx="30240" cy="1351080"/>
                </a:xfrm>
                <a:custGeom>
                  <a:avLst/>
                  <a:gdLst/>
                  <a:ahLst/>
                  <a:rect l="l" t="t" r="r" b="b"/>
                  <a:pathLst>
                    <a:path w="94" h="4254">
                      <a:moveTo>
                        <a:pt x="0" y="4254"/>
                      </a:moveTo>
                      <a:lnTo>
                        <a:pt x="0" y="2727"/>
                      </a:lnTo>
                      <a:lnTo>
                        <a:pt x="14" y="2702"/>
                      </a:lnTo>
                      <a:lnTo>
                        <a:pt x="28" y="2677"/>
                      </a:lnTo>
                      <a:lnTo>
                        <a:pt x="41" y="2652"/>
                      </a:lnTo>
                      <a:lnTo>
                        <a:pt x="53" y="2627"/>
                      </a:lnTo>
                      <a:lnTo>
                        <a:pt x="64" y="2600"/>
                      </a:lnTo>
                      <a:lnTo>
                        <a:pt x="75" y="2574"/>
                      </a:lnTo>
                      <a:lnTo>
                        <a:pt x="85" y="2546"/>
                      </a:lnTo>
                      <a:lnTo>
                        <a:pt x="94" y="2520"/>
                      </a:lnTo>
                      <a:lnTo>
                        <a:pt x="94" y="4221"/>
                      </a:lnTo>
                      <a:lnTo>
                        <a:pt x="83" y="4225"/>
                      </a:lnTo>
                      <a:lnTo>
                        <a:pt x="73" y="4229"/>
                      </a:lnTo>
                      <a:lnTo>
                        <a:pt x="61" y="4233"/>
                      </a:lnTo>
                      <a:lnTo>
                        <a:pt x="51" y="4236"/>
                      </a:lnTo>
                      <a:lnTo>
                        <a:pt x="40" y="4240"/>
                      </a:lnTo>
                      <a:lnTo>
                        <a:pt x="30" y="4244"/>
                      </a:lnTo>
                      <a:lnTo>
                        <a:pt x="18" y="4247"/>
                      </a:lnTo>
                      <a:lnTo>
                        <a:pt x="7" y="4250"/>
                      </a:lnTo>
                      <a:lnTo>
                        <a:pt x="6" y="4251"/>
                      </a:lnTo>
                      <a:lnTo>
                        <a:pt x="6" y="4251"/>
                      </a:lnTo>
                      <a:lnTo>
                        <a:pt x="5" y="4251"/>
                      </a:lnTo>
                      <a:lnTo>
                        <a:pt x="4" y="4252"/>
                      </a:lnTo>
                      <a:lnTo>
                        <a:pt x="3" y="4252"/>
                      </a:lnTo>
                      <a:lnTo>
                        <a:pt x="2" y="4252"/>
                      </a:lnTo>
                      <a:lnTo>
                        <a:pt x="1" y="4252"/>
                      </a:lnTo>
                      <a:lnTo>
                        <a:pt x="0" y="4254"/>
                      </a:lnTo>
                      <a:close/>
                      <a:moveTo>
                        <a:pt x="0" y="1506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4" y="10"/>
                      </a:lnTo>
                      <a:lnTo>
                        <a:pt x="36" y="16"/>
                      </a:lnTo>
                      <a:lnTo>
                        <a:pt x="47" y="22"/>
                      </a:lnTo>
                      <a:lnTo>
                        <a:pt x="59" y="27"/>
                      </a:lnTo>
                      <a:lnTo>
                        <a:pt x="70" y="33"/>
                      </a:lnTo>
                      <a:lnTo>
                        <a:pt x="83" y="39"/>
                      </a:lnTo>
                      <a:lnTo>
                        <a:pt x="94" y="44"/>
                      </a:lnTo>
                      <a:lnTo>
                        <a:pt x="94" y="1730"/>
                      </a:lnTo>
                      <a:lnTo>
                        <a:pt x="85" y="1700"/>
                      </a:lnTo>
                      <a:lnTo>
                        <a:pt x="75" y="1672"/>
                      </a:lnTo>
                      <a:lnTo>
                        <a:pt x="64" y="1643"/>
                      </a:lnTo>
                      <a:lnTo>
                        <a:pt x="53" y="1615"/>
                      </a:lnTo>
                      <a:lnTo>
                        <a:pt x="41" y="1587"/>
                      </a:lnTo>
                      <a:lnTo>
                        <a:pt x="28" y="1560"/>
                      </a:lnTo>
                      <a:lnTo>
                        <a:pt x="14" y="1532"/>
                      </a:lnTo>
                      <a:lnTo>
                        <a:pt x="0" y="1506"/>
                      </a:lnTo>
                      <a:close/>
                    </a:path>
                  </a:pathLst>
                </a:custGeom>
                <a:solidFill>
                  <a:srgbClr val="f4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5425920" y="4506840"/>
                  <a:ext cx="30240" cy="1338480"/>
                </a:xfrm>
                <a:custGeom>
                  <a:avLst/>
                  <a:gdLst/>
                  <a:ahLst/>
                  <a:rect l="l" t="t" r="r" b="b"/>
                  <a:pathLst>
                    <a:path w="94" h="4216">
                      <a:moveTo>
                        <a:pt x="0" y="4216"/>
                      </a:moveTo>
                      <a:lnTo>
                        <a:pt x="0" y="2617"/>
                      </a:lnTo>
                      <a:lnTo>
                        <a:pt x="17" y="2577"/>
                      </a:lnTo>
                      <a:lnTo>
                        <a:pt x="33" y="2537"/>
                      </a:lnTo>
                      <a:lnTo>
                        <a:pt x="47" y="2496"/>
                      </a:lnTo>
                      <a:lnTo>
                        <a:pt x="59" y="2455"/>
                      </a:lnTo>
                      <a:lnTo>
                        <a:pt x="70" y="2412"/>
                      </a:lnTo>
                      <a:lnTo>
                        <a:pt x="80" y="2367"/>
                      </a:lnTo>
                      <a:lnTo>
                        <a:pt x="88" y="2323"/>
                      </a:lnTo>
                      <a:lnTo>
                        <a:pt x="94" y="2277"/>
                      </a:lnTo>
                      <a:lnTo>
                        <a:pt x="94" y="4181"/>
                      </a:lnTo>
                      <a:lnTo>
                        <a:pt x="82" y="4185"/>
                      </a:lnTo>
                      <a:lnTo>
                        <a:pt x="70" y="4190"/>
                      </a:lnTo>
                      <a:lnTo>
                        <a:pt x="59" y="4195"/>
                      </a:lnTo>
                      <a:lnTo>
                        <a:pt x="47" y="4199"/>
                      </a:lnTo>
                      <a:lnTo>
                        <a:pt x="36" y="4203"/>
                      </a:lnTo>
                      <a:lnTo>
                        <a:pt x="23" y="4208"/>
                      </a:lnTo>
                      <a:lnTo>
                        <a:pt x="12" y="4212"/>
                      </a:lnTo>
                      <a:lnTo>
                        <a:pt x="0" y="4216"/>
                      </a:lnTo>
                      <a:close/>
                      <a:moveTo>
                        <a:pt x="0" y="1580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3" y="11"/>
                      </a:lnTo>
                      <a:lnTo>
                        <a:pt x="36" y="17"/>
                      </a:lnTo>
                      <a:lnTo>
                        <a:pt x="47" y="22"/>
                      </a:lnTo>
                      <a:lnTo>
                        <a:pt x="59" y="28"/>
                      </a:lnTo>
                      <a:lnTo>
                        <a:pt x="70" y="34"/>
                      </a:lnTo>
                      <a:lnTo>
                        <a:pt x="82" y="40"/>
                      </a:lnTo>
                      <a:lnTo>
                        <a:pt x="94" y="46"/>
                      </a:lnTo>
                      <a:lnTo>
                        <a:pt x="94" y="1945"/>
                      </a:lnTo>
                      <a:lnTo>
                        <a:pt x="88" y="1896"/>
                      </a:lnTo>
                      <a:lnTo>
                        <a:pt x="80" y="1848"/>
                      </a:lnTo>
                      <a:lnTo>
                        <a:pt x="70" y="1801"/>
                      </a:lnTo>
                      <a:lnTo>
                        <a:pt x="59" y="1755"/>
                      </a:lnTo>
                      <a:lnTo>
                        <a:pt x="47" y="1709"/>
                      </a:lnTo>
                      <a:lnTo>
                        <a:pt x="33" y="1665"/>
                      </a:lnTo>
                      <a:lnTo>
                        <a:pt x="17" y="1621"/>
                      </a:lnTo>
                      <a:lnTo>
                        <a:pt x="0" y="1580"/>
                      </a:lnTo>
                      <a:close/>
                    </a:path>
                  </a:pathLst>
                </a:custGeom>
                <a:solidFill>
                  <a:srgbClr val="f4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5440320" y="4513320"/>
                  <a:ext cx="30240" cy="1325520"/>
                </a:xfrm>
                <a:custGeom>
                  <a:avLst/>
                  <a:gdLst/>
                  <a:ahLst/>
                  <a:rect l="l" t="t" r="r" b="b"/>
                  <a:pathLst>
                    <a:path w="94" h="4177">
                      <a:moveTo>
                        <a:pt x="0" y="4177"/>
                      </a:moveTo>
                      <a:lnTo>
                        <a:pt x="0" y="2476"/>
                      </a:lnTo>
                      <a:lnTo>
                        <a:pt x="8" y="2450"/>
                      </a:lnTo>
                      <a:lnTo>
                        <a:pt x="15" y="2425"/>
                      </a:lnTo>
                      <a:lnTo>
                        <a:pt x="21" y="2398"/>
                      </a:lnTo>
                      <a:lnTo>
                        <a:pt x="28" y="2371"/>
                      </a:lnTo>
                      <a:lnTo>
                        <a:pt x="33" y="2345"/>
                      </a:lnTo>
                      <a:lnTo>
                        <a:pt x="38" y="2318"/>
                      </a:lnTo>
                      <a:lnTo>
                        <a:pt x="42" y="2291"/>
                      </a:lnTo>
                      <a:lnTo>
                        <a:pt x="46" y="2262"/>
                      </a:lnTo>
                      <a:lnTo>
                        <a:pt x="49" y="2235"/>
                      </a:lnTo>
                      <a:lnTo>
                        <a:pt x="51" y="2206"/>
                      </a:lnTo>
                      <a:lnTo>
                        <a:pt x="53" y="2178"/>
                      </a:lnTo>
                      <a:lnTo>
                        <a:pt x="55" y="2148"/>
                      </a:lnTo>
                      <a:lnTo>
                        <a:pt x="55" y="2119"/>
                      </a:lnTo>
                      <a:lnTo>
                        <a:pt x="56" y="2089"/>
                      </a:lnTo>
                      <a:lnTo>
                        <a:pt x="55" y="2058"/>
                      </a:lnTo>
                      <a:lnTo>
                        <a:pt x="54" y="2029"/>
                      </a:lnTo>
                      <a:lnTo>
                        <a:pt x="52" y="1983"/>
                      </a:lnTo>
                      <a:lnTo>
                        <a:pt x="48" y="1938"/>
                      </a:lnTo>
                      <a:lnTo>
                        <a:pt x="43" y="1894"/>
                      </a:lnTo>
                      <a:lnTo>
                        <a:pt x="37" y="1851"/>
                      </a:lnTo>
                      <a:lnTo>
                        <a:pt x="30" y="1809"/>
                      </a:lnTo>
                      <a:lnTo>
                        <a:pt x="21" y="1768"/>
                      </a:lnTo>
                      <a:lnTo>
                        <a:pt x="11" y="1727"/>
                      </a:lnTo>
                      <a:lnTo>
                        <a:pt x="0" y="1686"/>
                      </a:lnTo>
                      <a:lnTo>
                        <a:pt x="0" y="0"/>
                      </a:lnTo>
                      <a:lnTo>
                        <a:pt x="12" y="6"/>
                      </a:lnTo>
                      <a:lnTo>
                        <a:pt x="23" y="12"/>
                      </a:lnTo>
                      <a:lnTo>
                        <a:pt x="36" y="19"/>
                      </a:lnTo>
                      <a:lnTo>
                        <a:pt x="47" y="25"/>
                      </a:lnTo>
                      <a:lnTo>
                        <a:pt x="58" y="32"/>
                      </a:lnTo>
                      <a:lnTo>
                        <a:pt x="70" y="39"/>
                      </a:lnTo>
                      <a:lnTo>
                        <a:pt x="82" y="45"/>
                      </a:lnTo>
                      <a:lnTo>
                        <a:pt x="94" y="52"/>
                      </a:lnTo>
                      <a:lnTo>
                        <a:pt x="94" y="4137"/>
                      </a:lnTo>
                      <a:lnTo>
                        <a:pt x="82" y="4143"/>
                      </a:lnTo>
                      <a:lnTo>
                        <a:pt x="70" y="4148"/>
                      </a:lnTo>
                      <a:lnTo>
                        <a:pt x="58" y="4153"/>
                      </a:lnTo>
                      <a:lnTo>
                        <a:pt x="47" y="4159"/>
                      </a:lnTo>
                      <a:lnTo>
                        <a:pt x="36" y="4163"/>
                      </a:lnTo>
                      <a:lnTo>
                        <a:pt x="23" y="4168"/>
                      </a:lnTo>
                      <a:lnTo>
                        <a:pt x="11" y="4173"/>
                      </a:lnTo>
                      <a:lnTo>
                        <a:pt x="0" y="4177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5456160" y="4521240"/>
                  <a:ext cx="28800" cy="1312920"/>
                </a:xfrm>
                <a:custGeom>
                  <a:avLst/>
                  <a:gdLst/>
                  <a:ahLst/>
                  <a:rect l="l" t="t" r="r" b="b"/>
                  <a:pathLst>
                    <a:path w="93" h="4135">
                      <a:moveTo>
                        <a:pt x="0" y="4135"/>
                      </a:moveTo>
                      <a:lnTo>
                        <a:pt x="0" y="2231"/>
                      </a:lnTo>
                      <a:lnTo>
                        <a:pt x="3" y="2204"/>
                      </a:lnTo>
                      <a:lnTo>
                        <a:pt x="5" y="2176"/>
                      </a:lnTo>
                      <a:lnTo>
                        <a:pt x="7" y="2149"/>
                      </a:lnTo>
                      <a:lnTo>
                        <a:pt x="8" y="2120"/>
                      </a:lnTo>
                      <a:lnTo>
                        <a:pt x="8" y="2091"/>
                      </a:lnTo>
                      <a:lnTo>
                        <a:pt x="9" y="2063"/>
                      </a:lnTo>
                      <a:lnTo>
                        <a:pt x="8" y="2033"/>
                      </a:lnTo>
                      <a:lnTo>
                        <a:pt x="7" y="2005"/>
                      </a:lnTo>
                      <a:lnTo>
                        <a:pt x="7" y="1990"/>
                      </a:lnTo>
                      <a:lnTo>
                        <a:pt x="6" y="1977"/>
                      </a:lnTo>
                      <a:lnTo>
                        <a:pt x="5" y="1964"/>
                      </a:lnTo>
                      <a:lnTo>
                        <a:pt x="4" y="1952"/>
                      </a:lnTo>
                      <a:lnTo>
                        <a:pt x="3" y="1938"/>
                      </a:lnTo>
                      <a:lnTo>
                        <a:pt x="2" y="1925"/>
                      </a:lnTo>
                      <a:lnTo>
                        <a:pt x="1" y="1912"/>
                      </a:lnTo>
                      <a:lnTo>
                        <a:pt x="0" y="1899"/>
                      </a:lnTo>
                      <a:lnTo>
                        <a:pt x="0" y="0"/>
                      </a:lnTo>
                      <a:lnTo>
                        <a:pt x="11" y="8"/>
                      </a:lnTo>
                      <a:lnTo>
                        <a:pt x="23" y="15"/>
                      </a:lnTo>
                      <a:lnTo>
                        <a:pt x="35" y="21"/>
                      </a:lnTo>
                      <a:lnTo>
                        <a:pt x="47" y="28"/>
                      </a:lnTo>
                      <a:lnTo>
                        <a:pt x="58" y="35"/>
                      </a:lnTo>
                      <a:lnTo>
                        <a:pt x="70" y="42"/>
                      </a:lnTo>
                      <a:lnTo>
                        <a:pt x="82" y="49"/>
                      </a:lnTo>
                      <a:lnTo>
                        <a:pt x="93" y="57"/>
                      </a:lnTo>
                      <a:lnTo>
                        <a:pt x="93" y="4091"/>
                      </a:lnTo>
                      <a:lnTo>
                        <a:pt x="82" y="4097"/>
                      </a:lnTo>
                      <a:lnTo>
                        <a:pt x="70" y="4103"/>
                      </a:lnTo>
                      <a:lnTo>
                        <a:pt x="58" y="4108"/>
                      </a:lnTo>
                      <a:lnTo>
                        <a:pt x="47" y="4113"/>
                      </a:lnTo>
                      <a:lnTo>
                        <a:pt x="35" y="4119"/>
                      </a:lnTo>
                      <a:lnTo>
                        <a:pt x="23" y="4124"/>
                      </a:lnTo>
                      <a:lnTo>
                        <a:pt x="11" y="4129"/>
                      </a:lnTo>
                      <a:lnTo>
                        <a:pt x="0" y="4135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5470560" y="4529160"/>
                  <a:ext cx="30240" cy="1297080"/>
                </a:xfrm>
                <a:custGeom>
                  <a:avLst/>
                  <a:gdLst/>
                  <a:ahLst/>
                  <a:rect l="l" t="t" r="r" b="b"/>
                  <a:pathLst>
                    <a:path w="93" h="4085">
                      <a:moveTo>
                        <a:pt x="0" y="4085"/>
                      </a:moveTo>
                      <a:lnTo>
                        <a:pt x="0" y="0"/>
                      </a:lnTo>
                      <a:lnTo>
                        <a:pt x="11" y="7"/>
                      </a:lnTo>
                      <a:lnTo>
                        <a:pt x="23" y="14"/>
                      </a:lnTo>
                      <a:lnTo>
                        <a:pt x="35" y="21"/>
                      </a:lnTo>
                      <a:lnTo>
                        <a:pt x="47" y="29"/>
                      </a:lnTo>
                      <a:lnTo>
                        <a:pt x="58" y="37"/>
                      </a:lnTo>
                      <a:lnTo>
                        <a:pt x="70" y="44"/>
                      </a:lnTo>
                      <a:lnTo>
                        <a:pt x="82" y="52"/>
                      </a:lnTo>
                      <a:lnTo>
                        <a:pt x="93" y="60"/>
                      </a:lnTo>
                      <a:lnTo>
                        <a:pt x="93" y="4038"/>
                      </a:lnTo>
                      <a:lnTo>
                        <a:pt x="82" y="4044"/>
                      </a:lnTo>
                      <a:lnTo>
                        <a:pt x="70" y="4050"/>
                      </a:lnTo>
                      <a:lnTo>
                        <a:pt x="58" y="4057"/>
                      </a:lnTo>
                      <a:lnTo>
                        <a:pt x="47" y="4063"/>
                      </a:lnTo>
                      <a:lnTo>
                        <a:pt x="35" y="4069"/>
                      </a:lnTo>
                      <a:lnTo>
                        <a:pt x="23" y="4075"/>
                      </a:lnTo>
                      <a:lnTo>
                        <a:pt x="11" y="4080"/>
                      </a:lnTo>
                      <a:lnTo>
                        <a:pt x="0" y="4085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5484960" y="4538520"/>
                  <a:ext cx="29880" cy="1281240"/>
                </a:xfrm>
                <a:custGeom>
                  <a:avLst/>
                  <a:gdLst/>
                  <a:ahLst/>
                  <a:rect l="l" t="t" r="r" b="b"/>
                  <a:pathLst>
                    <a:path w="94" h="4034">
                      <a:moveTo>
                        <a:pt x="0" y="4034"/>
                      </a:moveTo>
                      <a:lnTo>
                        <a:pt x="0" y="0"/>
                      </a:lnTo>
                      <a:lnTo>
                        <a:pt x="12" y="8"/>
                      </a:lnTo>
                      <a:lnTo>
                        <a:pt x="24" y="15"/>
                      </a:lnTo>
                      <a:lnTo>
                        <a:pt x="36" y="23"/>
                      </a:lnTo>
                      <a:lnTo>
                        <a:pt x="48" y="31"/>
                      </a:lnTo>
                      <a:lnTo>
                        <a:pt x="59" y="39"/>
                      </a:lnTo>
                      <a:lnTo>
                        <a:pt x="70" y="47"/>
                      </a:lnTo>
                      <a:lnTo>
                        <a:pt x="83" y="56"/>
                      </a:lnTo>
                      <a:lnTo>
                        <a:pt x="94" y="65"/>
                      </a:lnTo>
                      <a:lnTo>
                        <a:pt x="94" y="3983"/>
                      </a:lnTo>
                      <a:lnTo>
                        <a:pt x="83" y="3990"/>
                      </a:lnTo>
                      <a:lnTo>
                        <a:pt x="70" y="3996"/>
                      </a:lnTo>
                      <a:lnTo>
                        <a:pt x="59" y="4003"/>
                      </a:lnTo>
                      <a:lnTo>
                        <a:pt x="48" y="4009"/>
                      </a:lnTo>
                      <a:lnTo>
                        <a:pt x="36" y="4015"/>
                      </a:lnTo>
                      <a:lnTo>
                        <a:pt x="24" y="4021"/>
                      </a:lnTo>
                      <a:lnTo>
                        <a:pt x="12" y="4028"/>
                      </a:lnTo>
                      <a:lnTo>
                        <a:pt x="0" y="4034"/>
                      </a:lnTo>
                      <a:close/>
                    </a:path>
                  </a:pathLst>
                </a:custGeom>
                <a:solidFill>
                  <a:srgbClr val="f5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5500800" y="4548240"/>
                  <a:ext cx="28440" cy="1263600"/>
                </a:xfrm>
                <a:custGeom>
                  <a:avLst/>
                  <a:gdLst/>
                  <a:ahLst/>
                  <a:rect l="l" t="t" r="r" b="b"/>
                  <a:pathLst>
                    <a:path w="94" h="3978">
                      <a:moveTo>
                        <a:pt x="0" y="3978"/>
                      </a:moveTo>
                      <a:lnTo>
                        <a:pt x="0" y="0"/>
                      </a:lnTo>
                      <a:lnTo>
                        <a:pt x="12" y="8"/>
                      </a:lnTo>
                      <a:lnTo>
                        <a:pt x="23" y="16"/>
                      </a:lnTo>
                      <a:lnTo>
                        <a:pt x="36" y="26"/>
                      </a:lnTo>
                      <a:lnTo>
                        <a:pt x="48" y="34"/>
                      </a:lnTo>
                      <a:lnTo>
                        <a:pt x="59" y="43"/>
                      </a:lnTo>
                      <a:lnTo>
                        <a:pt x="70" y="51"/>
                      </a:lnTo>
                      <a:lnTo>
                        <a:pt x="83" y="60"/>
                      </a:lnTo>
                      <a:lnTo>
                        <a:pt x="94" y="70"/>
                      </a:lnTo>
                      <a:lnTo>
                        <a:pt x="94" y="3922"/>
                      </a:lnTo>
                      <a:lnTo>
                        <a:pt x="83" y="3929"/>
                      </a:lnTo>
                      <a:lnTo>
                        <a:pt x="70" y="3937"/>
                      </a:lnTo>
                      <a:lnTo>
                        <a:pt x="59" y="3945"/>
                      </a:lnTo>
                      <a:lnTo>
                        <a:pt x="48" y="3952"/>
                      </a:lnTo>
                      <a:lnTo>
                        <a:pt x="36" y="3958"/>
                      </a:lnTo>
                      <a:lnTo>
                        <a:pt x="23" y="3965"/>
                      </a:lnTo>
                      <a:lnTo>
                        <a:pt x="12" y="3972"/>
                      </a:lnTo>
                      <a:lnTo>
                        <a:pt x="0" y="3978"/>
                      </a:lnTo>
                      <a:close/>
                    </a:path>
                  </a:pathLst>
                </a:custGeom>
                <a:solidFill>
                  <a:srgbClr val="f5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5514840" y="4559400"/>
                  <a:ext cx="30240" cy="1244520"/>
                </a:xfrm>
                <a:custGeom>
                  <a:avLst/>
                  <a:gdLst/>
                  <a:ahLst/>
                  <a:rect l="l" t="t" r="r" b="b"/>
                  <a:pathLst>
                    <a:path w="94" h="3918">
                      <a:moveTo>
                        <a:pt x="0" y="3918"/>
                      </a:moveTo>
                      <a:lnTo>
                        <a:pt x="0" y="0"/>
                      </a:lnTo>
                      <a:lnTo>
                        <a:pt x="12" y="9"/>
                      </a:lnTo>
                      <a:lnTo>
                        <a:pt x="23" y="17"/>
                      </a:lnTo>
                      <a:lnTo>
                        <a:pt x="36" y="27"/>
                      </a:lnTo>
                      <a:lnTo>
                        <a:pt x="47" y="37"/>
                      </a:lnTo>
                      <a:lnTo>
                        <a:pt x="59" y="46"/>
                      </a:lnTo>
                      <a:lnTo>
                        <a:pt x="70" y="55"/>
                      </a:lnTo>
                      <a:lnTo>
                        <a:pt x="82" y="65"/>
                      </a:lnTo>
                      <a:lnTo>
                        <a:pt x="94" y="74"/>
                      </a:lnTo>
                      <a:lnTo>
                        <a:pt x="94" y="3856"/>
                      </a:lnTo>
                      <a:lnTo>
                        <a:pt x="82" y="3865"/>
                      </a:lnTo>
                      <a:lnTo>
                        <a:pt x="70" y="3873"/>
                      </a:lnTo>
                      <a:lnTo>
                        <a:pt x="59" y="3880"/>
                      </a:lnTo>
                      <a:lnTo>
                        <a:pt x="47" y="3888"/>
                      </a:lnTo>
                      <a:lnTo>
                        <a:pt x="36" y="3895"/>
                      </a:lnTo>
                      <a:lnTo>
                        <a:pt x="23" y="3903"/>
                      </a:lnTo>
                      <a:lnTo>
                        <a:pt x="12" y="3911"/>
                      </a:lnTo>
                      <a:lnTo>
                        <a:pt x="0" y="3918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5529240" y="4570560"/>
                  <a:ext cx="30240" cy="1223640"/>
                </a:xfrm>
                <a:custGeom>
                  <a:avLst/>
                  <a:gdLst/>
                  <a:ahLst/>
                  <a:rect l="l" t="t" r="r" b="b"/>
                  <a:pathLst>
                    <a:path w="94" h="3852">
                      <a:moveTo>
                        <a:pt x="0" y="3852"/>
                      </a:moveTo>
                      <a:lnTo>
                        <a:pt x="0" y="0"/>
                      </a:lnTo>
                      <a:lnTo>
                        <a:pt x="8" y="7"/>
                      </a:lnTo>
                      <a:lnTo>
                        <a:pt x="17" y="14"/>
                      </a:lnTo>
                      <a:lnTo>
                        <a:pt x="25" y="21"/>
                      </a:lnTo>
                      <a:lnTo>
                        <a:pt x="34" y="27"/>
                      </a:lnTo>
                      <a:lnTo>
                        <a:pt x="42" y="34"/>
                      </a:lnTo>
                      <a:lnTo>
                        <a:pt x="50" y="41"/>
                      </a:lnTo>
                      <a:lnTo>
                        <a:pt x="58" y="48"/>
                      </a:lnTo>
                      <a:lnTo>
                        <a:pt x="66" y="56"/>
                      </a:lnTo>
                      <a:lnTo>
                        <a:pt x="70" y="60"/>
                      </a:lnTo>
                      <a:lnTo>
                        <a:pt x="73" y="62"/>
                      </a:lnTo>
                      <a:lnTo>
                        <a:pt x="76" y="65"/>
                      </a:lnTo>
                      <a:lnTo>
                        <a:pt x="81" y="68"/>
                      </a:lnTo>
                      <a:lnTo>
                        <a:pt x="84" y="71"/>
                      </a:lnTo>
                      <a:lnTo>
                        <a:pt x="87" y="74"/>
                      </a:lnTo>
                      <a:lnTo>
                        <a:pt x="90" y="77"/>
                      </a:lnTo>
                      <a:lnTo>
                        <a:pt x="94" y="80"/>
                      </a:lnTo>
                      <a:lnTo>
                        <a:pt x="94" y="3786"/>
                      </a:lnTo>
                      <a:lnTo>
                        <a:pt x="82" y="3795"/>
                      </a:lnTo>
                      <a:lnTo>
                        <a:pt x="70" y="3803"/>
                      </a:lnTo>
                      <a:lnTo>
                        <a:pt x="59" y="3811"/>
                      </a:lnTo>
                      <a:lnTo>
                        <a:pt x="47" y="3820"/>
                      </a:lnTo>
                      <a:lnTo>
                        <a:pt x="36" y="3829"/>
                      </a:lnTo>
                      <a:lnTo>
                        <a:pt x="23" y="3837"/>
                      </a:lnTo>
                      <a:lnTo>
                        <a:pt x="12" y="3844"/>
                      </a:lnTo>
                      <a:lnTo>
                        <a:pt x="0" y="3852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5545080" y="4583160"/>
                  <a:ext cx="28800" cy="1200240"/>
                </a:xfrm>
                <a:custGeom>
                  <a:avLst/>
                  <a:gdLst/>
                  <a:ahLst/>
                  <a:rect l="l" t="t" r="r" b="b"/>
                  <a:pathLst>
                    <a:path w="93" h="3782">
                      <a:moveTo>
                        <a:pt x="0" y="3782"/>
                      </a:move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5" y="5"/>
                      </a:lnTo>
                      <a:lnTo>
                        <a:pt x="7" y="7"/>
                      </a:lnTo>
                      <a:lnTo>
                        <a:pt x="10" y="9"/>
                      </a:lnTo>
                      <a:lnTo>
                        <a:pt x="12" y="12"/>
                      </a:lnTo>
                      <a:lnTo>
                        <a:pt x="15" y="14"/>
                      </a:lnTo>
                      <a:lnTo>
                        <a:pt x="17" y="16"/>
                      </a:lnTo>
                      <a:lnTo>
                        <a:pt x="19" y="18"/>
                      </a:lnTo>
                      <a:lnTo>
                        <a:pt x="29" y="27"/>
                      </a:lnTo>
                      <a:lnTo>
                        <a:pt x="39" y="35"/>
                      </a:lnTo>
                      <a:lnTo>
                        <a:pt x="48" y="43"/>
                      </a:lnTo>
                      <a:lnTo>
                        <a:pt x="57" y="52"/>
                      </a:lnTo>
                      <a:lnTo>
                        <a:pt x="66" y="60"/>
                      </a:lnTo>
                      <a:lnTo>
                        <a:pt x="75" y="70"/>
                      </a:lnTo>
                      <a:lnTo>
                        <a:pt x="85" y="78"/>
                      </a:lnTo>
                      <a:lnTo>
                        <a:pt x="93" y="87"/>
                      </a:lnTo>
                      <a:lnTo>
                        <a:pt x="93" y="3710"/>
                      </a:lnTo>
                      <a:lnTo>
                        <a:pt x="81" y="3719"/>
                      </a:lnTo>
                      <a:lnTo>
                        <a:pt x="70" y="3729"/>
                      </a:lnTo>
                      <a:lnTo>
                        <a:pt x="59" y="3739"/>
                      </a:lnTo>
                      <a:lnTo>
                        <a:pt x="47" y="3748"/>
                      </a:lnTo>
                      <a:lnTo>
                        <a:pt x="36" y="3756"/>
                      </a:lnTo>
                      <a:lnTo>
                        <a:pt x="23" y="3765"/>
                      </a:lnTo>
                      <a:lnTo>
                        <a:pt x="11" y="3774"/>
                      </a:lnTo>
                      <a:lnTo>
                        <a:pt x="0" y="3782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5559480" y="4595760"/>
                  <a:ext cx="30240" cy="1177920"/>
                </a:xfrm>
                <a:custGeom>
                  <a:avLst/>
                  <a:gdLst/>
                  <a:ahLst/>
                  <a:rect l="l" t="t" r="r" b="b"/>
                  <a:pathLst>
                    <a:path w="93" h="3706">
                      <a:moveTo>
                        <a:pt x="0" y="3706"/>
                      </a:moveTo>
                      <a:lnTo>
                        <a:pt x="0" y="0"/>
                      </a:lnTo>
                      <a:lnTo>
                        <a:pt x="11" y="11"/>
                      </a:lnTo>
                      <a:lnTo>
                        <a:pt x="23" y="23"/>
                      </a:lnTo>
                      <a:lnTo>
                        <a:pt x="34" y="34"/>
                      </a:lnTo>
                      <a:lnTo>
                        <a:pt x="47" y="45"/>
                      </a:lnTo>
                      <a:lnTo>
                        <a:pt x="58" y="56"/>
                      </a:lnTo>
                      <a:lnTo>
                        <a:pt x="70" y="68"/>
                      </a:lnTo>
                      <a:lnTo>
                        <a:pt x="81" y="80"/>
                      </a:lnTo>
                      <a:lnTo>
                        <a:pt x="93" y="91"/>
                      </a:lnTo>
                      <a:lnTo>
                        <a:pt x="93" y="3626"/>
                      </a:lnTo>
                      <a:lnTo>
                        <a:pt x="81" y="3637"/>
                      </a:lnTo>
                      <a:lnTo>
                        <a:pt x="70" y="3648"/>
                      </a:lnTo>
                      <a:lnTo>
                        <a:pt x="58" y="3658"/>
                      </a:lnTo>
                      <a:lnTo>
                        <a:pt x="47" y="3667"/>
                      </a:lnTo>
                      <a:lnTo>
                        <a:pt x="36" y="3677"/>
                      </a:lnTo>
                      <a:lnTo>
                        <a:pt x="23" y="3686"/>
                      </a:lnTo>
                      <a:lnTo>
                        <a:pt x="11" y="3697"/>
                      </a:lnTo>
                      <a:lnTo>
                        <a:pt x="0" y="3706"/>
                      </a:lnTo>
                      <a:close/>
                    </a:path>
                  </a:pathLst>
                </a:custGeom>
                <a:solidFill>
                  <a:srgbClr val="f6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5573880" y="4610160"/>
                  <a:ext cx="29880" cy="1150920"/>
                </a:xfrm>
                <a:custGeom>
                  <a:avLst/>
                  <a:gdLst/>
                  <a:ahLst/>
                  <a:rect l="l" t="t" r="r" b="b"/>
                  <a:pathLst>
                    <a:path w="94" h="3623">
                      <a:moveTo>
                        <a:pt x="0" y="3623"/>
                      </a:moveTo>
                      <a:lnTo>
                        <a:pt x="0" y="0"/>
                      </a:lnTo>
                      <a:lnTo>
                        <a:pt x="12" y="11"/>
                      </a:lnTo>
                      <a:lnTo>
                        <a:pt x="24" y="23"/>
                      </a:lnTo>
                      <a:lnTo>
                        <a:pt x="35" y="35"/>
                      </a:lnTo>
                      <a:lnTo>
                        <a:pt x="48" y="47"/>
                      </a:lnTo>
                      <a:lnTo>
                        <a:pt x="59" y="59"/>
                      </a:lnTo>
                      <a:lnTo>
                        <a:pt x="71" y="71"/>
                      </a:lnTo>
                      <a:lnTo>
                        <a:pt x="82" y="84"/>
                      </a:lnTo>
                      <a:lnTo>
                        <a:pt x="94" y="96"/>
                      </a:lnTo>
                      <a:lnTo>
                        <a:pt x="94" y="3536"/>
                      </a:lnTo>
                      <a:lnTo>
                        <a:pt x="92" y="3539"/>
                      </a:lnTo>
                      <a:lnTo>
                        <a:pt x="90" y="3541"/>
                      </a:lnTo>
                      <a:lnTo>
                        <a:pt x="88" y="3543"/>
                      </a:lnTo>
                      <a:lnTo>
                        <a:pt x="86" y="3546"/>
                      </a:lnTo>
                      <a:lnTo>
                        <a:pt x="83" y="3548"/>
                      </a:lnTo>
                      <a:lnTo>
                        <a:pt x="81" y="3550"/>
                      </a:lnTo>
                      <a:lnTo>
                        <a:pt x="79" y="3552"/>
                      </a:lnTo>
                      <a:lnTo>
                        <a:pt x="77" y="3554"/>
                      </a:lnTo>
                      <a:lnTo>
                        <a:pt x="67" y="3563"/>
                      </a:lnTo>
                      <a:lnTo>
                        <a:pt x="58" y="3571"/>
                      </a:lnTo>
                      <a:lnTo>
                        <a:pt x="49" y="3580"/>
                      </a:lnTo>
                      <a:lnTo>
                        <a:pt x="39" y="3589"/>
                      </a:lnTo>
                      <a:lnTo>
                        <a:pt x="29" y="3598"/>
                      </a:lnTo>
                      <a:lnTo>
                        <a:pt x="20" y="3606"/>
                      </a:lnTo>
                      <a:lnTo>
                        <a:pt x="10" y="3615"/>
                      </a:lnTo>
                      <a:lnTo>
                        <a:pt x="0" y="3623"/>
                      </a:lnTo>
                      <a:close/>
                    </a:path>
                  </a:pathLst>
                </a:custGeom>
                <a:solidFill>
                  <a:srgbClr val="f6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5589720" y="4626000"/>
                  <a:ext cx="29880" cy="1122480"/>
                </a:xfrm>
                <a:custGeom>
                  <a:avLst/>
                  <a:gdLst/>
                  <a:ahLst/>
                  <a:rect l="l" t="t" r="r" b="b"/>
                  <a:pathLst>
                    <a:path w="94" h="3535">
                      <a:moveTo>
                        <a:pt x="0" y="3535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4" y="25"/>
                      </a:lnTo>
                      <a:lnTo>
                        <a:pt x="35" y="38"/>
                      </a:lnTo>
                      <a:lnTo>
                        <a:pt x="48" y="50"/>
                      </a:lnTo>
                      <a:lnTo>
                        <a:pt x="59" y="63"/>
                      </a:lnTo>
                      <a:lnTo>
                        <a:pt x="70" y="75"/>
                      </a:lnTo>
                      <a:lnTo>
                        <a:pt x="82" y="89"/>
                      </a:lnTo>
                      <a:lnTo>
                        <a:pt x="94" y="102"/>
                      </a:lnTo>
                      <a:lnTo>
                        <a:pt x="94" y="3442"/>
                      </a:lnTo>
                      <a:lnTo>
                        <a:pt x="85" y="3451"/>
                      </a:lnTo>
                      <a:lnTo>
                        <a:pt x="78" y="3459"/>
                      </a:lnTo>
                      <a:lnTo>
                        <a:pt x="70" y="3467"/>
                      </a:lnTo>
                      <a:lnTo>
                        <a:pt x="62" y="3475"/>
                      </a:lnTo>
                      <a:lnTo>
                        <a:pt x="54" y="3483"/>
                      </a:lnTo>
                      <a:lnTo>
                        <a:pt x="46" y="3491"/>
                      </a:lnTo>
                      <a:lnTo>
                        <a:pt x="39" y="3500"/>
                      </a:lnTo>
                      <a:lnTo>
                        <a:pt x="30" y="3508"/>
                      </a:lnTo>
                      <a:lnTo>
                        <a:pt x="26" y="3511"/>
                      </a:lnTo>
                      <a:lnTo>
                        <a:pt x="22" y="3515"/>
                      </a:lnTo>
                      <a:lnTo>
                        <a:pt x="19" y="3518"/>
                      </a:lnTo>
                      <a:lnTo>
                        <a:pt x="15" y="3522"/>
                      </a:lnTo>
                      <a:lnTo>
                        <a:pt x="11" y="3525"/>
                      </a:lnTo>
                      <a:lnTo>
                        <a:pt x="8" y="3529"/>
                      </a:lnTo>
                      <a:lnTo>
                        <a:pt x="4" y="3532"/>
                      </a:lnTo>
                      <a:lnTo>
                        <a:pt x="0" y="3535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5603760" y="4641840"/>
                  <a:ext cx="30240" cy="1092240"/>
                </a:xfrm>
                <a:custGeom>
                  <a:avLst/>
                  <a:gdLst/>
                  <a:ahLst/>
                  <a:rect l="l" t="t" r="r" b="b"/>
                  <a:pathLst>
                    <a:path w="94" h="3440">
                      <a:moveTo>
                        <a:pt x="0" y="344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4" y="25"/>
                      </a:lnTo>
                      <a:lnTo>
                        <a:pt x="35" y="40"/>
                      </a:lnTo>
                      <a:lnTo>
                        <a:pt x="48" y="53"/>
                      </a:lnTo>
                      <a:lnTo>
                        <a:pt x="59" y="66"/>
                      </a:lnTo>
                      <a:lnTo>
                        <a:pt x="70" y="79"/>
                      </a:lnTo>
                      <a:lnTo>
                        <a:pt x="82" y="94"/>
                      </a:lnTo>
                      <a:lnTo>
                        <a:pt x="94" y="107"/>
                      </a:lnTo>
                      <a:lnTo>
                        <a:pt x="94" y="3341"/>
                      </a:lnTo>
                      <a:lnTo>
                        <a:pt x="82" y="3354"/>
                      </a:lnTo>
                      <a:lnTo>
                        <a:pt x="70" y="3367"/>
                      </a:lnTo>
                      <a:lnTo>
                        <a:pt x="59" y="3379"/>
                      </a:lnTo>
                      <a:lnTo>
                        <a:pt x="48" y="3391"/>
                      </a:lnTo>
                      <a:lnTo>
                        <a:pt x="35" y="3405"/>
                      </a:lnTo>
                      <a:lnTo>
                        <a:pt x="24" y="3417"/>
                      </a:lnTo>
                      <a:lnTo>
                        <a:pt x="12" y="3429"/>
                      </a:lnTo>
                      <a:lnTo>
                        <a:pt x="0" y="3440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5619600" y="4657680"/>
                  <a:ext cx="28800" cy="1060560"/>
                </a:xfrm>
                <a:custGeom>
                  <a:avLst/>
                  <a:gdLst/>
                  <a:ahLst/>
                  <a:rect l="l" t="t" r="r" b="b"/>
                  <a:pathLst>
                    <a:path w="94" h="3340">
                      <a:moveTo>
                        <a:pt x="0" y="334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3" y="27"/>
                      </a:lnTo>
                      <a:lnTo>
                        <a:pt x="35" y="42"/>
                      </a:lnTo>
                      <a:lnTo>
                        <a:pt x="48" y="56"/>
                      </a:lnTo>
                      <a:lnTo>
                        <a:pt x="59" y="70"/>
                      </a:lnTo>
                      <a:lnTo>
                        <a:pt x="70" y="85"/>
                      </a:lnTo>
                      <a:lnTo>
                        <a:pt x="81" y="100"/>
                      </a:lnTo>
                      <a:lnTo>
                        <a:pt x="94" y="114"/>
                      </a:lnTo>
                      <a:lnTo>
                        <a:pt x="94" y="3234"/>
                      </a:lnTo>
                      <a:lnTo>
                        <a:pt x="81" y="3248"/>
                      </a:lnTo>
                      <a:lnTo>
                        <a:pt x="70" y="3262"/>
                      </a:lnTo>
                      <a:lnTo>
                        <a:pt x="59" y="3275"/>
                      </a:lnTo>
                      <a:lnTo>
                        <a:pt x="48" y="3288"/>
                      </a:lnTo>
                      <a:lnTo>
                        <a:pt x="35" y="3302"/>
                      </a:lnTo>
                      <a:lnTo>
                        <a:pt x="23" y="3315"/>
                      </a:lnTo>
                      <a:lnTo>
                        <a:pt x="12" y="3328"/>
                      </a:lnTo>
                      <a:lnTo>
                        <a:pt x="0" y="3340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5634000" y="4675320"/>
                  <a:ext cx="30240" cy="1027080"/>
                </a:xfrm>
                <a:custGeom>
                  <a:avLst/>
                  <a:gdLst/>
                  <a:ahLst/>
                  <a:rect l="l" t="t" r="r" b="b"/>
                  <a:pathLst>
                    <a:path w="93" h="3234">
                      <a:moveTo>
                        <a:pt x="0" y="3234"/>
                      </a:moveTo>
                      <a:lnTo>
                        <a:pt x="0" y="0"/>
                      </a:lnTo>
                      <a:lnTo>
                        <a:pt x="12" y="15"/>
                      </a:lnTo>
                      <a:lnTo>
                        <a:pt x="23" y="30"/>
                      </a:lnTo>
                      <a:lnTo>
                        <a:pt x="35" y="45"/>
                      </a:lnTo>
                      <a:lnTo>
                        <a:pt x="47" y="60"/>
                      </a:lnTo>
                      <a:lnTo>
                        <a:pt x="59" y="75"/>
                      </a:lnTo>
                      <a:lnTo>
                        <a:pt x="70" y="91"/>
                      </a:lnTo>
                      <a:lnTo>
                        <a:pt x="81" y="107"/>
                      </a:lnTo>
                      <a:lnTo>
                        <a:pt x="93" y="122"/>
                      </a:lnTo>
                      <a:lnTo>
                        <a:pt x="93" y="3120"/>
                      </a:lnTo>
                      <a:lnTo>
                        <a:pt x="81" y="3134"/>
                      </a:lnTo>
                      <a:lnTo>
                        <a:pt x="70" y="3149"/>
                      </a:lnTo>
                      <a:lnTo>
                        <a:pt x="59" y="3164"/>
                      </a:lnTo>
                      <a:lnTo>
                        <a:pt x="47" y="3178"/>
                      </a:lnTo>
                      <a:lnTo>
                        <a:pt x="35" y="3193"/>
                      </a:lnTo>
                      <a:lnTo>
                        <a:pt x="23" y="3207"/>
                      </a:lnTo>
                      <a:lnTo>
                        <a:pt x="12" y="3220"/>
                      </a:lnTo>
                      <a:lnTo>
                        <a:pt x="0" y="3234"/>
                      </a:lnTo>
                      <a:close/>
                    </a:path>
                  </a:pathLst>
                </a:custGeom>
                <a:solidFill>
                  <a:srgbClr val="f6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5648400" y="4694400"/>
                  <a:ext cx="30240" cy="990360"/>
                </a:xfrm>
                <a:custGeom>
                  <a:avLst/>
                  <a:gdLst/>
                  <a:ahLst/>
                  <a:rect l="l" t="t" r="r" b="b"/>
                  <a:pathLst>
                    <a:path w="93" h="3120">
                      <a:moveTo>
                        <a:pt x="0" y="3120"/>
                      </a:moveTo>
                      <a:lnTo>
                        <a:pt x="0" y="0"/>
                      </a:lnTo>
                      <a:lnTo>
                        <a:pt x="11" y="16"/>
                      </a:lnTo>
                      <a:lnTo>
                        <a:pt x="23" y="32"/>
                      </a:lnTo>
                      <a:lnTo>
                        <a:pt x="35" y="48"/>
                      </a:lnTo>
                      <a:lnTo>
                        <a:pt x="47" y="64"/>
                      </a:lnTo>
                      <a:lnTo>
                        <a:pt x="59" y="81"/>
                      </a:lnTo>
                      <a:lnTo>
                        <a:pt x="70" y="98"/>
                      </a:lnTo>
                      <a:lnTo>
                        <a:pt x="81" y="114"/>
                      </a:lnTo>
                      <a:lnTo>
                        <a:pt x="93" y="131"/>
                      </a:lnTo>
                      <a:lnTo>
                        <a:pt x="93" y="2997"/>
                      </a:lnTo>
                      <a:lnTo>
                        <a:pt x="81" y="3012"/>
                      </a:lnTo>
                      <a:lnTo>
                        <a:pt x="70" y="3029"/>
                      </a:lnTo>
                      <a:lnTo>
                        <a:pt x="59" y="3044"/>
                      </a:lnTo>
                      <a:lnTo>
                        <a:pt x="47" y="3059"/>
                      </a:lnTo>
                      <a:lnTo>
                        <a:pt x="35" y="3074"/>
                      </a:lnTo>
                      <a:lnTo>
                        <a:pt x="23" y="3090"/>
                      </a:lnTo>
                      <a:lnTo>
                        <a:pt x="11" y="3105"/>
                      </a:lnTo>
                      <a:lnTo>
                        <a:pt x="0" y="3120"/>
                      </a:lnTo>
                      <a:close/>
                    </a:path>
                  </a:pathLst>
                </a:custGeom>
                <a:solidFill>
                  <a:srgbClr val="f6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5664240" y="4713120"/>
                  <a:ext cx="28440" cy="952560"/>
                </a:xfrm>
                <a:custGeom>
                  <a:avLst/>
                  <a:gdLst/>
                  <a:ahLst/>
                  <a:rect l="l" t="t" r="r" b="b"/>
                  <a:pathLst>
                    <a:path w="94" h="2998">
                      <a:moveTo>
                        <a:pt x="0" y="2998"/>
                      </a:moveTo>
                      <a:lnTo>
                        <a:pt x="0" y="0"/>
                      </a:lnTo>
                      <a:lnTo>
                        <a:pt x="12" y="18"/>
                      </a:lnTo>
                      <a:lnTo>
                        <a:pt x="24" y="35"/>
                      </a:lnTo>
                      <a:lnTo>
                        <a:pt x="36" y="52"/>
                      </a:lnTo>
                      <a:lnTo>
                        <a:pt x="48" y="70"/>
                      </a:lnTo>
                      <a:lnTo>
                        <a:pt x="60" y="87"/>
                      </a:lnTo>
                      <a:lnTo>
                        <a:pt x="71" y="105"/>
                      </a:lnTo>
                      <a:lnTo>
                        <a:pt x="82" y="123"/>
                      </a:lnTo>
                      <a:lnTo>
                        <a:pt x="94" y="141"/>
                      </a:lnTo>
                      <a:lnTo>
                        <a:pt x="94" y="2865"/>
                      </a:lnTo>
                      <a:lnTo>
                        <a:pt x="82" y="2882"/>
                      </a:lnTo>
                      <a:lnTo>
                        <a:pt x="71" y="2899"/>
                      </a:lnTo>
                      <a:lnTo>
                        <a:pt x="60" y="2916"/>
                      </a:lnTo>
                      <a:lnTo>
                        <a:pt x="48" y="2932"/>
                      </a:lnTo>
                      <a:lnTo>
                        <a:pt x="36" y="2949"/>
                      </a:lnTo>
                      <a:lnTo>
                        <a:pt x="24" y="2966"/>
                      </a:lnTo>
                      <a:lnTo>
                        <a:pt x="12" y="2982"/>
                      </a:lnTo>
                      <a:lnTo>
                        <a:pt x="0" y="2998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5678640" y="4735440"/>
                  <a:ext cx="29880" cy="909720"/>
                </a:xfrm>
                <a:custGeom>
                  <a:avLst/>
                  <a:gdLst/>
                  <a:ahLst/>
                  <a:rect l="l" t="t" r="r" b="b"/>
                  <a:pathLst>
                    <a:path w="93" h="2866">
                      <a:moveTo>
                        <a:pt x="0" y="2866"/>
                      </a:moveTo>
                      <a:lnTo>
                        <a:pt x="0" y="0"/>
                      </a:lnTo>
                      <a:lnTo>
                        <a:pt x="12" y="19"/>
                      </a:lnTo>
                      <a:lnTo>
                        <a:pt x="24" y="37"/>
                      </a:lnTo>
                      <a:lnTo>
                        <a:pt x="36" y="56"/>
                      </a:lnTo>
                      <a:lnTo>
                        <a:pt x="48" y="75"/>
                      </a:lnTo>
                      <a:lnTo>
                        <a:pt x="60" y="95"/>
                      </a:lnTo>
                      <a:lnTo>
                        <a:pt x="71" y="114"/>
                      </a:lnTo>
                      <a:lnTo>
                        <a:pt x="82" y="133"/>
                      </a:lnTo>
                      <a:lnTo>
                        <a:pt x="93" y="153"/>
                      </a:lnTo>
                      <a:lnTo>
                        <a:pt x="93" y="2721"/>
                      </a:lnTo>
                      <a:lnTo>
                        <a:pt x="82" y="2739"/>
                      </a:lnTo>
                      <a:lnTo>
                        <a:pt x="71" y="2758"/>
                      </a:lnTo>
                      <a:lnTo>
                        <a:pt x="60" y="2776"/>
                      </a:lnTo>
                      <a:lnTo>
                        <a:pt x="48" y="2794"/>
                      </a:lnTo>
                      <a:lnTo>
                        <a:pt x="36" y="2813"/>
                      </a:lnTo>
                      <a:lnTo>
                        <a:pt x="24" y="2830"/>
                      </a:lnTo>
                      <a:lnTo>
                        <a:pt x="12" y="2849"/>
                      </a:lnTo>
                      <a:lnTo>
                        <a:pt x="0" y="2866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5692680" y="4759200"/>
                  <a:ext cx="30240" cy="863640"/>
                </a:xfrm>
                <a:custGeom>
                  <a:avLst/>
                  <a:gdLst/>
                  <a:ahLst/>
                  <a:rect l="l" t="t" r="r" b="b"/>
                  <a:pathLst>
                    <a:path w="93" h="2724">
                      <a:moveTo>
                        <a:pt x="0" y="2724"/>
                      </a:moveTo>
                      <a:lnTo>
                        <a:pt x="0" y="0"/>
                      </a:lnTo>
                      <a:lnTo>
                        <a:pt x="12" y="21"/>
                      </a:lnTo>
                      <a:lnTo>
                        <a:pt x="24" y="41"/>
                      </a:lnTo>
                      <a:lnTo>
                        <a:pt x="36" y="61"/>
                      </a:lnTo>
                      <a:lnTo>
                        <a:pt x="48" y="83"/>
                      </a:lnTo>
                      <a:lnTo>
                        <a:pt x="60" y="103"/>
                      </a:lnTo>
                      <a:lnTo>
                        <a:pt x="71" y="125"/>
                      </a:lnTo>
                      <a:lnTo>
                        <a:pt x="82" y="146"/>
                      </a:lnTo>
                      <a:lnTo>
                        <a:pt x="93" y="166"/>
                      </a:lnTo>
                      <a:lnTo>
                        <a:pt x="93" y="2564"/>
                      </a:lnTo>
                      <a:lnTo>
                        <a:pt x="82" y="2585"/>
                      </a:lnTo>
                      <a:lnTo>
                        <a:pt x="71" y="2605"/>
                      </a:lnTo>
                      <a:lnTo>
                        <a:pt x="60" y="2626"/>
                      </a:lnTo>
                      <a:lnTo>
                        <a:pt x="48" y="2646"/>
                      </a:lnTo>
                      <a:lnTo>
                        <a:pt x="36" y="2665"/>
                      </a:lnTo>
                      <a:lnTo>
                        <a:pt x="24" y="2685"/>
                      </a:lnTo>
                      <a:lnTo>
                        <a:pt x="12" y="2704"/>
                      </a:lnTo>
                      <a:lnTo>
                        <a:pt x="0" y="2724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5708520" y="4784760"/>
                  <a:ext cx="28800" cy="814320"/>
                </a:xfrm>
                <a:custGeom>
                  <a:avLst/>
                  <a:gdLst/>
                  <a:ahLst/>
                  <a:rect l="l" t="t" r="r" b="b"/>
                  <a:pathLst>
                    <a:path w="94" h="2568">
                      <a:moveTo>
                        <a:pt x="0" y="2568"/>
                      </a:moveTo>
                      <a:lnTo>
                        <a:pt x="0" y="0"/>
                      </a:lnTo>
                      <a:lnTo>
                        <a:pt x="12" y="20"/>
                      </a:lnTo>
                      <a:lnTo>
                        <a:pt x="23" y="40"/>
                      </a:lnTo>
                      <a:lnTo>
                        <a:pt x="34" y="62"/>
                      </a:lnTo>
                      <a:lnTo>
                        <a:pt x="45" y="82"/>
                      </a:lnTo>
                      <a:lnTo>
                        <a:pt x="56" y="104"/>
                      </a:lnTo>
                      <a:lnTo>
                        <a:pt x="67" y="125"/>
                      </a:lnTo>
                      <a:lnTo>
                        <a:pt x="77" y="147"/>
                      </a:lnTo>
                      <a:lnTo>
                        <a:pt x="87" y="168"/>
                      </a:lnTo>
                      <a:lnTo>
                        <a:pt x="88" y="170"/>
                      </a:lnTo>
                      <a:lnTo>
                        <a:pt x="89" y="172"/>
                      </a:lnTo>
                      <a:lnTo>
                        <a:pt x="89" y="174"/>
                      </a:lnTo>
                      <a:lnTo>
                        <a:pt x="90" y="176"/>
                      </a:lnTo>
                      <a:lnTo>
                        <a:pt x="91" y="178"/>
                      </a:lnTo>
                      <a:lnTo>
                        <a:pt x="92" y="179"/>
                      </a:lnTo>
                      <a:lnTo>
                        <a:pt x="93" y="181"/>
                      </a:lnTo>
                      <a:lnTo>
                        <a:pt x="94" y="183"/>
                      </a:lnTo>
                      <a:lnTo>
                        <a:pt x="94" y="2393"/>
                      </a:lnTo>
                      <a:lnTo>
                        <a:pt x="83" y="2415"/>
                      </a:lnTo>
                      <a:lnTo>
                        <a:pt x="72" y="2437"/>
                      </a:lnTo>
                      <a:lnTo>
                        <a:pt x="61" y="2460"/>
                      </a:lnTo>
                      <a:lnTo>
                        <a:pt x="48" y="2481"/>
                      </a:lnTo>
                      <a:lnTo>
                        <a:pt x="37" y="2504"/>
                      </a:lnTo>
                      <a:lnTo>
                        <a:pt x="25" y="2525"/>
                      </a:lnTo>
                      <a:lnTo>
                        <a:pt x="13" y="2547"/>
                      </a:lnTo>
                      <a:lnTo>
                        <a:pt x="0" y="2568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5722920" y="4811760"/>
                  <a:ext cx="30240" cy="760320"/>
                </a:xfrm>
                <a:custGeom>
                  <a:avLst/>
                  <a:gdLst/>
                  <a:ahLst/>
                  <a:rect l="l" t="t" r="r" b="b"/>
                  <a:pathLst>
                    <a:path w="93" h="2398">
                      <a:moveTo>
                        <a:pt x="0" y="2398"/>
                      </a:moveTo>
                      <a:lnTo>
                        <a:pt x="0" y="0"/>
                      </a:lnTo>
                      <a:lnTo>
                        <a:pt x="6" y="11"/>
                      </a:lnTo>
                      <a:lnTo>
                        <a:pt x="11" y="21"/>
                      </a:lnTo>
                      <a:lnTo>
                        <a:pt x="16" y="31"/>
                      </a:lnTo>
                      <a:lnTo>
                        <a:pt x="21" y="41"/>
                      </a:lnTo>
                      <a:lnTo>
                        <a:pt x="25" y="51"/>
                      </a:lnTo>
                      <a:lnTo>
                        <a:pt x="30" y="62"/>
                      </a:lnTo>
                      <a:lnTo>
                        <a:pt x="35" y="72"/>
                      </a:lnTo>
                      <a:lnTo>
                        <a:pt x="40" y="82"/>
                      </a:lnTo>
                      <a:lnTo>
                        <a:pt x="47" y="97"/>
                      </a:lnTo>
                      <a:lnTo>
                        <a:pt x="55" y="113"/>
                      </a:lnTo>
                      <a:lnTo>
                        <a:pt x="61" y="129"/>
                      </a:lnTo>
                      <a:lnTo>
                        <a:pt x="68" y="144"/>
                      </a:lnTo>
                      <a:lnTo>
                        <a:pt x="74" y="160"/>
                      </a:lnTo>
                      <a:lnTo>
                        <a:pt x="81" y="175"/>
                      </a:lnTo>
                      <a:lnTo>
                        <a:pt x="87" y="190"/>
                      </a:lnTo>
                      <a:lnTo>
                        <a:pt x="93" y="206"/>
                      </a:lnTo>
                      <a:lnTo>
                        <a:pt x="93" y="2203"/>
                      </a:lnTo>
                      <a:lnTo>
                        <a:pt x="83" y="2228"/>
                      </a:lnTo>
                      <a:lnTo>
                        <a:pt x="72" y="2253"/>
                      </a:lnTo>
                      <a:lnTo>
                        <a:pt x="61" y="2278"/>
                      </a:lnTo>
                      <a:lnTo>
                        <a:pt x="48" y="2303"/>
                      </a:lnTo>
                      <a:lnTo>
                        <a:pt x="37" y="2327"/>
                      </a:lnTo>
                      <a:lnTo>
                        <a:pt x="25" y="2351"/>
                      </a:lnTo>
                      <a:lnTo>
                        <a:pt x="13" y="2375"/>
                      </a:lnTo>
                      <a:lnTo>
                        <a:pt x="0" y="2398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5737320" y="4842000"/>
                  <a:ext cx="30240" cy="701640"/>
                </a:xfrm>
                <a:custGeom>
                  <a:avLst/>
                  <a:gdLst/>
                  <a:ahLst/>
                  <a:rect l="l" t="t" r="r" b="b"/>
                  <a:pathLst>
                    <a:path w="93" h="2210">
                      <a:moveTo>
                        <a:pt x="0" y="2210"/>
                      </a:moveTo>
                      <a:lnTo>
                        <a:pt x="0" y="0"/>
                      </a:lnTo>
                      <a:lnTo>
                        <a:pt x="13" y="29"/>
                      </a:lnTo>
                      <a:lnTo>
                        <a:pt x="26" y="58"/>
                      </a:lnTo>
                      <a:lnTo>
                        <a:pt x="38" y="87"/>
                      </a:lnTo>
                      <a:lnTo>
                        <a:pt x="49" y="117"/>
                      </a:lnTo>
                      <a:lnTo>
                        <a:pt x="61" y="145"/>
                      </a:lnTo>
                      <a:lnTo>
                        <a:pt x="72" y="175"/>
                      </a:lnTo>
                      <a:lnTo>
                        <a:pt x="83" y="204"/>
                      </a:lnTo>
                      <a:lnTo>
                        <a:pt x="93" y="234"/>
                      </a:lnTo>
                      <a:lnTo>
                        <a:pt x="93" y="1986"/>
                      </a:lnTo>
                      <a:lnTo>
                        <a:pt x="92" y="1991"/>
                      </a:lnTo>
                      <a:lnTo>
                        <a:pt x="90" y="1995"/>
                      </a:lnTo>
                      <a:lnTo>
                        <a:pt x="88" y="1999"/>
                      </a:lnTo>
                      <a:lnTo>
                        <a:pt x="87" y="2005"/>
                      </a:lnTo>
                      <a:lnTo>
                        <a:pt x="85" y="2009"/>
                      </a:lnTo>
                      <a:lnTo>
                        <a:pt x="84" y="2014"/>
                      </a:lnTo>
                      <a:lnTo>
                        <a:pt x="82" y="2018"/>
                      </a:lnTo>
                      <a:lnTo>
                        <a:pt x="80" y="2022"/>
                      </a:lnTo>
                      <a:lnTo>
                        <a:pt x="71" y="2046"/>
                      </a:lnTo>
                      <a:lnTo>
                        <a:pt x="62" y="2070"/>
                      </a:lnTo>
                      <a:lnTo>
                        <a:pt x="52" y="2093"/>
                      </a:lnTo>
                      <a:lnTo>
                        <a:pt x="42" y="2117"/>
                      </a:lnTo>
                      <a:lnTo>
                        <a:pt x="32" y="2140"/>
                      </a:lnTo>
                      <a:lnTo>
                        <a:pt x="21" y="2164"/>
                      </a:lnTo>
                      <a:lnTo>
                        <a:pt x="11" y="2186"/>
                      </a:lnTo>
                      <a:lnTo>
                        <a:pt x="0" y="2210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5753160" y="4876920"/>
                  <a:ext cx="28440" cy="633240"/>
                </a:xfrm>
                <a:custGeom>
                  <a:avLst/>
                  <a:gdLst/>
                  <a:ahLst/>
                  <a:rect l="l" t="t" r="r" b="b"/>
                  <a:pathLst>
                    <a:path w="94" h="1997">
                      <a:moveTo>
                        <a:pt x="0" y="1997"/>
                      </a:moveTo>
                      <a:lnTo>
                        <a:pt x="0" y="0"/>
                      </a:lnTo>
                      <a:lnTo>
                        <a:pt x="15" y="34"/>
                      </a:lnTo>
                      <a:lnTo>
                        <a:pt x="27" y="68"/>
                      </a:lnTo>
                      <a:lnTo>
                        <a:pt x="39" y="102"/>
                      </a:lnTo>
                      <a:lnTo>
                        <a:pt x="51" y="137"/>
                      </a:lnTo>
                      <a:lnTo>
                        <a:pt x="63" y="172"/>
                      </a:lnTo>
                      <a:lnTo>
                        <a:pt x="74" y="206"/>
                      </a:lnTo>
                      <a:lnTo>
                        <a:pt x="84" y="241"/>
                      </a:lnTo>
                      <a:lnTo>
                        <a:pt x="94" y="276"/>
                      </a:lnTo>
                      <a:lnTo>
                        <a:pt x="94" y="1733"/>
                      </a:lnTo>
                      <a:lnTo>
                        <a:pt x="87" y="1757"/>
                      </a:lnTo>
                      <a:lnTo>
                        <a:pt x="81" y="1779"/>
                      </a:lnTo>
                      <a:lnTo>
                        <a:pt x="74" y="1802"/>
                      </a:lnTo>
                      <a:lnTo>
                        <a:pt x="66" y="1824"/>
                      </a:lnTo>
                      <a:lnTo>
                        <a:pt x="59" y="1847"/>
                      </a:lnTo>
                      <a:lnTo>
                        <a:pt x="50" y="1869"/>
                      </a:lnTo>
                      <a:lnTo>
                        <a:pt x="42" y="1892"/>
                      </a:lnTo>
                      <a:lnTo>
                        <a:pt x="34" y="1913"/>
                      </a:lnTo>
                      <a:lnTo>
                        <a:pt x="30" y="1924"/>
                      </a:lnTo>
                      <a:lnTo>
                        <a:pt x="26" y="1934"/>
                      </a:lnTo>
                      <a:lnTo>
                        <a:pt x="22" y="1945"/>
                      </a:lnTo>
                      <a:lnTo>
                        <a:pt x="18" y="1955"/>
                      </a:lnTo>
                      <a:lnTo>
                        <a:pt x="14" y="1966"/>
                      </a:lnTo>
                      <a:lnTo>
                        <a:pt x="10" y="1976"/>
                      </a:lnTo>
                      <a:lnTo>
                        <a:pt x="6" y="1986"/>
                      </a:lnTo>
                      <a:lnTo>
                        <a:pt x="0" y="1997"/>
                      </a:lnTo>
                      <a:close/>
                    </a:path>
                  </a:pathLst>
                </a:custGeom>
                <a:solidFill>
                  <a:srgbClr val="f8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5767560" y="4916520"/>
                  <a:ext cx="29880" cy="555480"/>
                </a:xfrm>
                <a:custGeom>
                  <a:avLst/>
                  <a:gdLst/>
                  <a:ahLst/>
                  <a:rect l="l" t="t" r="r" b="b"/>
                  <a:pathLst>
                    <a:path w="94" h="1752">
                      <a:moveTo>
                        <a:pt x="0" y="1752"/>
                      </a:moveTo>
                      <a:lnTo>
                        <a:pt x="0" y="0"/>
                      </a:lnTo>
                      <a:lnTo>
                        <a:pt x="15" y="43"/>
                      </a:lnTo>
                      <a:lnTo>
                        <a:pt x="29" y="87"/>
                      </a:lnTo>
                      <a:lnTo>
                        <a:pt x="41" y="129"/>
                      </a:lnTo>
                      <a:lnTo>
                        <a:pt x="53" y="173"/>
                      </a:lnTo>
                      <a:lnTo>
                        <a:pt x="65" y="217"/>
                      </a:lnTo>
                      <a:lnTo>
                        <a:pt x="75" y="261"/>
                      </a:lnTo>
                      <a:lnTo>
                        <a:pt x="85" y="306"/>
                      </a:lnTo>
                      <a:lnTo>
                        <a:pt x="94" y="350"/>
                      </a:lnTo>
                      <a:lnTo>
                        <a:pt x="94" y="1420"/>
                      </a:lnTo>
                      <a:lnTo>
                        <a:pt x="85" y="1463"/>
                      </a:lnTo>
                      <a:lnTo>
                        <a:pt x="75" y="1504"/>
                      </a:lnTo>
                      <a:lnTo>
                        <a:pt x="65" y="1546"/>
                      </a:lnTo>
                      <a:lnTo>
                        <a:pt x="53" y="1588"/>
                      </a:lnTo>
                      <a:lnTo>
                        <a:pt x="41" y="1630"/>
                      </a:lnTo>
                      <a:lnTo>
                        <a:pt x="29" y="1671"/>
                      </a:lnTo>
                      <a:lnTo>
                        <a:pt x="15" y="1711"/>
                      </a:lnTo>
                      <a:lnTo>
                        <a:pt x="0" y="1752"/>
                      </a:lnTo>
                      <a:close/>
                    </a:path>
                  </a:pathLst>
                </a:custGeom>
                <a:solidFill>
                  <a:srgbClr val="f8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5781600" y="4964040"/>
                  <a:ext cx="30240" cy="463680"/>
                </a:xfrm>
                <a:custGeom>
                  <a:avLst/>
                  <a:gdLst/>
                  <a:ahLst/>
                  <a:rect l="l" t="t" r="r" b="b"/>
                  <a:pathLst>
                    <a:path w="94" h="1457">
                      <a:moveTo>
                        <a:pt x="0" y="1457"/>
                      </a:moveTo>
                      <a:lnTo>
                        <a:pt x="0" y="0"/>
                      </a:lnTo>
                      <a:lnTo>
                        <a:pt x="19" y="69"/>
                      </a:lnTo>
                      <a:lnTo>
                        <a:pt x="35" y="140"/>
                      </a:lnTo>
                      <a:lnTo>
                        <a:pt x="49" y="210"/>
                      </a:lnTo>
                      <a:lnTo>
                        <a:pt x="62" y="281"/>
                      </a:lnTo>
                      <a:lnTo>
                        <a:pt x="73" y="354"/>
                      </a:lnTo>
                      <a:lnTo>
                        <a:pt x="82" y="426"/>
                      </a:lnTo>
                      <a:lnTo>
                        <a:pt x="89" y="500"/>
                      </a:lnTo>
                      <a:lnTo>
                        <a:pt x="94" y="573"/>
                      </a:lnTo>
                      <a:lnTo>
                        <a:pt x="94" y="908"/>
                      </a:lnTo>
                      <a:lnTo>
                        <a:pt x="89" y="979"/>
                      </a:lnTo>
                      <a:lnTo>
                        <a:pt x="82" y="1049"/>
                      </a:lnTo>
                      <a:lnTo>
                        <a:pt x="73" y="1119"/>
                      </a:lnTo>
                      <a:lnTo>
                        <a:pt x="63" y="1187"/>
                      </a:lnTo>
                      <a:lnTo>
                        <a:pt x="49" y="1256"/>
                      </a:lnTo>
                      <a:lnTo>
                        <a:pt x="35" y="1324"/>
                      </a:lnTo>
                      <a:lnTo>
                        <a:pt x="19" y="1391"/>
                      </a:lnTo>
                      <a:lnTo>
                        <a:pt x="0" y="1457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5797440" y="5027760"/>
                  <a:ext cx="15840" cy="339480"/>
                </a:xfrm>
                <a:custGeom>
                  <a:avLst/>
                  <a:gdLst/>
                  <a:ahLst/>
                  <a:rect l="l" t="t" r="r" b="b"/>
                  <a:pathLst>
                    <a:path w="52" h="1070">
                      <a:moveTo>
                        <a:pt x="0" y="1070"/>
                      </a:moveTo>
                      <a:lnTo>
                        <a:pt x="0" y="0"/>
                      </a:lnTo>
                      <a:lnTo>
                        <a:pt x="10" y="51"/>
                      </a:lnTo>
                      <a:lnTo>
                        <a:pt x="18" y="102"/>
                      </a:lnTo>
                      <a:lnTo>
                        <a:pt x="26" y="154"/>
                      </a:lnTo>
                      <a:lnTo>
                        <a:pt x="32" y="205"/>
                      </a:lnTo>
                      <a:lnTo>
                        <a:pt x="38" y="257"/>
                      </a:lnTo>
                      <a:lnTo>
                        <a:pt x="42" y="310"/>
                      </a:lnTo>
                      <a:lnTo>
                        <a:pt x="46" y="362"/>
                      </a:lnTo>
                      <a:lnTo>
                        <a:pt x="49" y="415"/>
                      </a:lnTo>
                      <a:lnTo>
                        <a:pt x="50" y="458"/>
                      </a:lnTo>
                      <a:lnTo>
                        <a:pt x="51" y="500"/>
                      </a:lnTo>
                      <a:lnTo>
                        <a:pt x="52" y="541"/>
                      </a:lnTo>
                      <a:lnTo>
                        <a:pt x="51" y="583"/>
                      </a:lnTo>
                      <a:lnTo>
                        <a:pt x="50" y="625"/>
                      </a:lnTo>
                      <a:lnTo>
                        <a:pt x="49" y="666"/>
                      </a:lnTo>
                      <a:lnTo>
                        <a:pt x="47" y="708"/>
                      </a:lnTo>
                      <a:lnTo>
                        <a:pt x="44" y="748"/>
                      </a:lnTo>
                      <a:lnTo>
                        <a:pt x="41" y="789"/>
                      </a:lnTo>
                      <a:lnTo>
                        <a:pt x="37" y="830"/>
                      </a:lnTo>
                      <a:lnTo>
                        <a:pt x="33" y="870"/>
                      </a:lnTo>
                      <a:lnTo>
                        <a:pt x="27" y="911"/>
                      </a:lnTo>
                      <a:lnTo>
                        <a:pt x="22" y="950"/>
                      </a:lnTo>
                      <a:lnTo>
                        <a:pt x="15" y="990"/>
                      </a:lnTo>
                      <a:lnTo>
                        <a:pt x="7" y="1030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5811840" y="5146560"/>
                  <a:ext cx="1440" cy="106560"/>
                </a:xfrm>
                <a:custGeom>
                  <a:avLst/>
                  <a:gdLst/>
                  <a:ahLst/>
                  <a:rect l="l" t="t" r="r" b="b"/>
                  <a:pathLst>
                    <a:path w="4" h="335">
                      <a:moveTo>
                        <a:pt x="0" y="33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1" y="20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2" y="36"/>
                      </a:lnTo>
                      <a:lnTo>
                        <a:pt x="2" y="41"/>
                      </a:lnTo>
                      <a:lnTo>
                        <a:pt x="3" y="79"/>
                      </a:lnTo>
                      <a:lnTo>
                        <a:pt x="4" y="115"/>
                      </a:lnTo>
                      <a:lnTo>
                        <a:pt x="4" y="152"/>
                      </a:lnTo>
                      <a:lnTo>
                        <a:pt x="4" y="189"/>
                      </a:lnTo>
                      <a:lnTo>
                        <a:pt x="4" y="225"/>
                      </a:lnTo>
                      <a:lnTo>
                        <a:pt x="3" y="262"/>
                      </a:lnTo>
                      <a:lnTo>
                        <a:pt x="2" y="299"/>
                      </a:lnTo>
                      <a:lnTo>
                        <a:pt x="0" y="335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5981760" y="4398840"/>
                  <a:ext cx="9360" cy="196920"/>
                </a:xfrm>
                <a:custGeom>
                  <a:avLst/>
                  <a:gdLst/>
                  <a:ahLst/>
                  <a:rect l="l" t="t" r="r" b="b"/>
                  <a:pathLst>
                    <a:path w="29" h="618">
                      <a:moveTo>
                        <a:pt x="29" y="0"/>
                      </a:moveTo>
                      <a:lnTo>
                        <a:pt x="29" y="618"/>
                      </a:lnTo>
                      <a:lnTo>
                        <a:pt x="25" y="542"/>
                      </a:lnTo>
                      <a:lnTo>
                        <a:pt x="22" y="464"/>
                      </a:lnTo>
                      <a:lnTo>
                        <a:pt x="18" y="388"/>
                      </a:lnTo>
                      <a:lnTo>
                        <a:pt x="15" y="310"/>
                      </a:lnTo>
                      <a:lnTo>
                        <a:pt x="11" y="234"/>
                      </a:lnTo>
                      <a:lnTo>
                        <a:pt x="8" y="157"/>
                      </a:lnTo>
                      <a:lnTo>
                        <a:pt x="3" y="8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11" y="2"/>
                      </a:lnTo>
                      <a:lnTo>
                        <a:pt x="15" y="2"/>
                      </a:lnTo>
                      <a:lnTo>
                        <a:pt x="18" y="1"/>
                      </a:ln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a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5981760" y="4397400"/>
                  <a:ext cx="23760" cy="511200"/>
                </a:xfrm>
                <a:custGeom>
                  <a:avLst/>
                  <a:gdLst/>
                  <a:ahLst/>
                  <a:rect l="l" t="t" r="r" b="b"/>
                  <a:pathLst>
                    <a:path w="76" h="1607">
                      <a:moveTo>
                        <a:pt x="76" y="0"/>
                      </a:moveTo>
                      <a:lnTo>
                        <a:pt x="76" y="1607"/>
                      </a:lnTo>
                      <a:lnTo>
                        <a:pt x="66" y="1406"/>
                      </a:lnTo>
                      <a:lnTo>
                        <a:pt x="57" y="1206"/>
                      </a:lnTo>
                      <a:lnTo>
                        <a:pt x="46" y="1006"/>
                      </a:lnTo>
                      <a:lnTo>
                        <a:pt x="37" y="806"/>
                      </a:lnTo>
                      <a:lnTo>
                        <a:pt x="28" y="607"/>
                      </a:lnTo>
                      <a:lnTo>
                        <a:pt x="19" y="407"/>
                      </a:lnTo>
                      <a:lnTo>
                        <a:pt x="10" y="208"/>
                      </a:lnTo>
                      <a:lnTo>
                        <a:pt x="0" y="8"/>
                      </a:lnTo>
                      <a:lnTo>
                        <a:pt x="10" y="7"/>
                      </a:lnTo>
                      <a:lnTo>
                        <a:pt x="19" y="6"/>
                      </a:lnTo>
                      <a:lnTo>
                        <a:pt x="28" y="5"/>
                      </a:lnTo>
                      <a:lnTo>
                        <a:pt x="38" y="4"/>
                      </a:lnTo>
                      <a:lnTo>
                        <a:pt x="47" y="3"/>
                      </a:lnTo>
                      <a:lnTo>
                        <a:pt x="57" y="2"/>
                      </a:lnTo>
                      <a:lnTo>
                        <a:pt x="66" y="1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fa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5991120" y="4395960"/>
                  <a:ext cx="28800" cy="828360"/>
                </a:xfrm>
                <a:custGeom>
                  <a:avLst/>
                  <a:gdLst/>
                  <a:ahLst/>
                  <a:rect l="l" t="t" r="r" b="b"/>
                  <a:pathLst>
                    <a:path w="93" h="2610">
                      <a:moveTo>
                        <a:pt x="0" y="629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6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2"/>
                      </a:lnTo>
                      <a:lnTo>
                        <a:pt x="93" y="0"/>
                      </a:lnTo>
                      <a:lnTo>
                        <a:pt x="93" y="2610"/>
                      </a:lnTo>
                      <a:lnTo>
                        <a:pt x="88" y="2490"/>
                      </a:lnTo>
                      <a:lnTo>
                        <a:pt x="82" y="2370"/>
                      </a:lnTo>
                      <a:lnTo>
                        <a:pt x="77" y="2250"/>
                      </a:lnTo>
                      <a:lnTo>
                        <a:pt x="70" y="2129"/>
                      </a:lnTo>
                      <a:lnTo>
                        <a:pt x="65" y="2010"/>
                      </a:lnTo>
                      <a:lnTo>
                        <a:pt x="59" y="1890"/>
                      </a:lnTo>
                      <a:lnTo>
                        <a:pt x="54" y="1770"/>
                      </a:lnTo>
                      <a:lnTo>
                        <a:pt x="48" y="1651"/>
                      </a:lnTo>
                      <a:lnTo>
                        <a:pt x="42" y="1523"/>
                      </a:lnTo>
                      <a:lnTo>
                        <a:pt x="36" y="1395"/>
                      </a:lnTo>
                      <a:lnTo>
                        <a:pt x="30" y="1267"/>
                      </a:lnTo>
                      <a:lnTo>
                        <a:pt x="23" y="1139"/>
                      </a:lnTo>
                      <a:lnTo>
                        <a:pt x="17" y="1012"/>
                      </a:lnTo>
                      <a:lnTo>
                        <a:pt x="11" y="884"/>
                      </a:lnTo>
                      <a:lnTo>
                        <a:pt x="6" y="757"/>
                      </a:lnTo>
                      <a:lnTo>
                        <a:pt x="0" y="629"/>
                      </a:lnTo>
                      <a:close/>
                    </a:path>
                  </a:pathLst>
                </a:custGeom>
                <a:solidFill>
                  <a:srgbClr val="fa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005520" y="4394160"/>
                  <a:ext cx="30240" cy="1054080"/>
                </a:xfrm>
                <a:custGeom>
                  <a:avLst/>
                  <a:gdLst/>
                  <a:ahLst/>
                  <a:rect l="l" t="t" r="r" b="b"/>
                  <a:pathLst>
                    <a:path w="93" h="3318">
                      <a:moveTo>
                        <a:pt x="0" y="1618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1"/>
                      </a:lnTo>
                      <a:lnTo>
                        <a:pt x="93" y="0"/>
                      </a:lnTo>
                      <a:lnTo>
                        <a:pt x="93" y="3318"/>
                      </a:lnTo>
                      <a:lnTo>
                        <a:pt x="92" y="3318"/>
                      </a:lnTo>
                      <a:lnTo>
                        <a:pt x="90" y="3317"/>
                      </a:lnTo>
                      <a:lnTo>
                        <a:pt x="88" y="3317"/>
                      </a:lnTo>
                      <a:lnTo>
                        <a:pt x="86" y="3317"/>
                      </a:lnTo>
                      <a:lnTo>
                        <a:pt x="85" y="3317"/>
                      </a:lnTo>
                      <a:lnTo>
                        <a:pt x="83" y="3317"/>
                      </a:lnTo>
                      <a:lnTo>
                        <a:pt x="81" y="3317"/>
                      </a:lnTo>
                      <a:lnTo>
                        <a:pt x="80" y="3317"/>
                      </a:lnTo>
                      <a:lnTo>
                        <a:pt x="69" y="3108"/>
                      </a:lnTo>
                      <a:lnTo>
                        <a:pt x="60" y="2899"/>
                      </a:lnTo>
                      <a:lnTo>
                        <a:pt x="50" y="2692"/>
                      </a:lnTo>
                      <a:lnTo>
                        <a:pt x="40" y="2484"/>
                      </a:lnTo>
                      <a:lnTo>
                        <a:pt x="31" y="2277"/>
                      </a:lnTo>
                      <a:lnTo>
                        <a:pt x="20" y="2069"/>
                      </a:lnTo>
                      <a:lnTo>
                        <a:pt x="11" y="1862"/>
                      </a:lnTo>
                      <a:lnTo>
                        <a:pt x="1" y="1656"/>
                      </a:lnTo>
                      <a:lnTo>
                        <a:pt x="1" y="1651"/>
                      </a:lnTo>
                      <a:lnTo>
                        <a:pt x="1" y="1646"/>
                      </a:lnTo>
                      <a:lnTo>
                        <a:pt x="1" y="1642"/>
                      </a:lnTo>
                      <a:lnTo>
                        <a:pt x="0" y="1637"/>
                      </a:lnTo>
                      <a:lnTo>
                        <a:pt x="0" y="1633"/>
                      </a:lnTo>
                      <a:lnTo>
                        <a:pt x="0" y="1628"/>
                      </a:lnTo>
                      <a:lnTo>
                        <a:pt x="0" y="1622"/>
                      </a:lnTo>
                      <a:lnTo>
                        <a:pt x="0" y="1618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019920" y="4392720"/>
                  <a:ext cx="29880" cy="1457280"/>
                </a:xfrm>
                <a:custGeom>
                  <a:avLst/>
                  <a:gdLst/>
                  <a:ahLst/>
                  <a:rect l="l" t="t" r="r" b="b"/>
                  <a:pathLst>
                    <a:path w="94" h="4590">
                      <a:moveTo>
                        <a:pt x="0" y="2622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3" y="10"/>
                      </a:lnTo>
                      <a:lnTo>
                        <a:pt x="36" y="8"/>
                      </a:lnTo>
                      <a:lnTo>
                        <a:pt x="47" y="7"/>
                      </a:lnTo>
                      <a:lnTo>
                        <a:pt x="59" y="6"/>
                      </a:lnTo>
                      <a:lnTo>
                        <a:pt x="70" y="4"/>
                      </a:lnTo>
                      <a:lnTo>
                        <a:pt x="82" y="3"/>
                      </a:lnTo>
                      <a:lnTo>
                        <a:pt x="94" y="0"/>
                      </a:lnTo>
                      <a:lnTo>
                        <a:pt x="94" y="3327"/>
                      </a:lnTo>
                      <a:lnTo>
                        <a:pt x="87" y="3327"/>
                      </a:lnTo>
                      <a:lnTo>
                        <a:pt x="79" y="3326"/>
                      </a:lnTo>
                      <a:lnTo>
                        <a:pt x="71" y="3326"/>
                      </a:lnTo>
                      <a:lnTo>
                        <a:pt x="63" y="3325"/>
                      </a:lnTo>
                      <a:lnTo>
                        <a:pt x="56" y="3325"/>
                      </a:lnTo>
                      <a:lnTo>
                        <a:pt x="49" y="3325"/>
                      </a:lnTo>
                      <a:lnTo>
                        <a:pt x="41" y="3324"/>
                      </a:lnTo>
                      <a:lnTo>
                        <a:pt x="34" y="3324"/>
                      </a:lnTo>
                      <a:lnTo>
                        <a:pt x="30" y="3236"/>
                      </a:lnTo>
                      <a:lnTo>
                        <a:pt x="25" y="3148"/>
                      </a:lnTo>
                      <a:lnTo>
                        <a:pt x="21" y="3060"/>
                      </a:lnTo>
                      <a:lnTo>
                        <a:pt x="16" y="2973"/>
                      </a:lnTo>
                      <a:lnTo>
                        <a:pt x="12" y="2885"/>
                      </a:lnTo>
                      <a:lnTo>
                        <a:pt x="8" y="2797"/>
                      </a:lnTo>
                      <a:lnTo>
                        <a:pt x="4" y="2710"/>
                      </a:lnTo>
                      <a:lnTo>
                        <a:pt x="0" y="2622"/>
                      </a:lnTo>
                      <a:close/>
                      <a:moveTo>
                        <a:pt x="94" y="3613"/>
                      </a:moveTo>
                      <a:lnTo>
                        <a:pt x="94" y="4590"/>
                      </a:lnTo>
                      <a:lnTo>
                        <a:pt x="88" y="4467"/>
                      </a:lnTo>
                      <a:lnTo>
                        <a:pt x="83" y="4345"/>
                      </a:lnTo>
                      <a:lnTo>
                        <a:pt x="77" y="4222"/>
                      </a:lnTo>
                      <a:lnTo>
                        <a:pt x="70" y="4100"/>
                      </a:lnTo>
                      <a:lnTo>
                        <a:pt x="65" y="3977"/>
                      </a:lnTo>
                      <a:lnTo>
                        <a:pt x="59" y="3855"/>
                      </a:lnTo>
                      <a:lnTo>
                        <a:pt x="53" y="3733"/>
                      </a:lnTo>
                      <a:lnTo>
                        <a:pt x="48" y="3610"/>
                      </a:lnTo>
                      <a:lnTo>
                        <a:pt x="53" y="3611"/>
                      </a:lnTo>
                      <a:lnTo>
                        <a:pt x="59" y="3611"/>
                      </a:lnTo>
                      <a:lnTo>
                        <a:pt x="65" y="3611"/>
                      </a:lnTo>
                      <a:lnTo>
                        <a:pt x="70" y="3612"/>
                      </a:lnTo>
                      <a:lnTo>
                        <a:pt x="77" y="3612"/>
                      </a:lnTo>
                      <a:lnTo>
                        <a:pt x="83" y="3613"/>
                      </a:lnTo>
                      <a:lnTo>
                        <a:pt x="88" y="3613"/>
                      </a:lnTo>
                      <a:lnTo>
                        <a:pt x="94" y="3613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035760" y="4390920"/>
                  <a:ext cx="28440" cy="1549440"/>
                </a:xfrm>
                <a:custGeom>
                  <a:avLst/>
                  <a:gdLst/>
                  <a:ahLst/>
                  <a:rect l="l" t="t" r="r" b="b"/>
                  <a:pathLst>
                    <a:path w="94" h="4882">
                      <a:moveTo>
                        <a:pt x="0" y="3330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3" y="9"/>
                      </a:lnTo>
                      <a:lnTo>
                        <a:pt x="35" y="8"/>
                      </a:lnTo>
                      <a:lnTo>
                        <a:pt x="47" y="7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334"/>
                      </a:lnTo>
                      <a:lnTo>
                        <a:pt x="82" y="3334"/>
                      </a:lnTo>
                      <a:lnTo>
                        <a:pt x="70" y="3333"/>
                      </a:lnTo>
                      <a:lnTo>
                        <a:pt x="58" y="3333"/>
                      </a:lnTo>
                      <a:lnTo>
                        <a:pt x="47" y="3332"/>
                      </a:lnTo>
                      <a:lnTo>
                        <a:pt x="35" y="3331"/>
                      </a:lnTo>
                      <a:lnTo>
                        <a:pt x="23" y="3331"/>
                      </a:lnTo>
                      <a:lnTo>
                        <a:pt x="12" y="3330"/>
                      </a:lnTo>
                      <a:lnTo>
                        <a:pt x="0" y="3330"/>
                      </a:lnTo>
                      <a:close/>
                      <a:moveTo>
                        <a:pt x="94" y="3621"/>
                      </a:moveTo>
                      <a:lnTo>
                        <a:pt x="94" y="4882"/>
                      </a:lnTo>
                      <a:lnTo>
                        <a:pt x="90" y="4881"/>
                      </a:lnTo>
                      <a:lnTo>
                        <a:pt x="86" y="4881"/>
                      </a:lnTo>
                      <a:lnTo>
                        <a:pt x="82" y="4880"/>
                      </a:lnTo>
                      <a:lnTo>
                        <a:pt x="76" y="4880"/>
                      </a:lnTo>
                      <a:lnTo>
                        <a:pt x="72" y="4879"/>
                      </a:lnTo>
                      <a:lnTo>
                        <a:pt x="68" y="4878"/>
                      </a:lnTo>
                      <a:lnTo>
                        <a:pt x="64" y="4878"/>
                      </a:lnTo>
                      <a:lnTo>
                        <a:pt x="60" y="4877"/>
                      </a:lnTo>
                      <a:lnTo>
                        <a:pt x="53" y="4719"/>
                      </a:lnTo>
                      <a:lnTo>
                        <a:pt x="46" y="4561"/>
                      </a:lnTo>
                      <a:lnTo>
                        <a:pt x="38" y="4404"/>
                      </a:lnTo>
                      <a:lnTo>
                        <a:pt x="31" y="4246"/>
                      </a:lnTo>
                      <a:lnTo>
                        <a:pt x="23" y="4088"/>
                      </a:lnTo>
                      <a:lnTo>
                        <a:pt x="15" y="3930"/>
                      </a:lnTo>
                      <a:lnTo>
                        <a:pt x="8" y="3773"/>
                      </a:lnTo>
                      <a:lnTo>
                        <a:pt x="1" y="3615"/>
                      </a:lnTo>
                      <a:lnTo>
                        <a:pt x="12" y="3616"/>
                      </a:lnTo>
                      <a:lnTo>
                        <a:pt x="24" y="3617"/>
                      </a:lnTo>
                      <a:lnTo>
                        <a:pt x="36" y="3618"/>
                      </a:lnTo>
                      <a:lnTo>
                        <a:pt x="47" y="3618"/>
                      </a:lnTo>
                      <a:lnTo>
                        <a:pt x="59" y="3619"/>
                      </a:lnTo>
                      <a:lnTo>
                        <a:pt x="70" y="3620"/>
                      </a:lnTo>
                      <a:lnTo>
                        <a:pt x="82" y="3621"/>
                      </a:lnTo>
                      <a:lnTo>
                        <a:pt x="94" y="3621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049800" y="4389480"/>
                  <a:ext cx="30240" cy="1552680"/>
                </a:xfrm>
                <a:custGeom>
                  <a:avLst/>
                  <a:gdLst/>
                  <a:ahLst/>
                  <a:rect l="l" t="t" r="r" b="b"/>
                  <a:pathLst>
                    <a:path w="94" h="4893">
                      <a:moveTo>
                        <a:pt x="0" y="4600"/>
                      </a:moveTo>
                      <a:lnTo>
                        <a:pt x="0" y="3623"/>
                      </a:lnTo>
                      <a:lnTo>
                        <a:pt x="11" y="3624"/>
                      </a:lnTo>
                      <a:lnTo>
                        <a:pt x="23" y="3625"/>
                      </a:lnTo>
                      <a:lnTo>
                        <a:pt x="35" y="3626"/>
                      </a:lnTo>
                      <a:lnTo>
                        <a:pt x="47" y="3626"/>
                      </a:lnTo>
                      <a:lnTo>
                        <a:pt x="58" y="3627"/>
                      </a:lnTo>
                      <a:lnTo>
                        <a:pt x="70" y="3628"/>
                      </a:lnTo>
                      <a:lnTo>
                        <a:pt x="82" y="3628"/>
                      </a:lnTo>
                      <a:lnTo>
                        <a:pt x="94" y="3629"/>
                      </a:lnTo>
                      <a:lnTo>
                        <a:pt x="94" y="4893"/>
                      </a:lnTo>
                      <a:lnTo>
                        <a:pt x="84" y="4891"/>
                      </a:lnTo>
                      <a:lnTo>
                        <a:pt x="73" y="4890"/>
                      </a:lnTo>
                      <a:lnTo>
                        <a:pt x="63" y="4889"/>
                      </a:lnTo>
                      <a:lnTo>
                        <a:pt x="53" y="4887"/>
                      </a:lnTo>
                      <a:lnTo>
                        <a:pt x="43" y="4886"/>
                      </a:lnTo>
                      <a:lnTo>
                        <a:pt x="34" y="4885"/>
                      </a:lnTo>
                      <a:lnTo>
                        <a:pt x="23" y="4884"/>
                      </a:lnTo>
                      <a:lnTo>
                        <a:pt x="13" y="4882"/>
                      </a:lnTo>
                      <a:lnTo>
                        <a:pt x="11" y="4847"/>
                      </a:lnTo>
                      <a:lnTo>
                        <a:pt x="10" y="4812"/>
                      </a:lnTo>
                      <a:lnTo>
                        <a:pt x="8" y="4777"/>
                      </a:lnTo>
                      <a:lnTo>
                        <a:pt x="7" y="4741"/>
                      </a:lnTo>
                      <a:lnTo>
                        <a:pt x="5" y="4706"/>
                      </a:lnTo>
                      <a:lnTo>
                        <a:pt x="3" y="4671"/>
                      </a:lnTo>
                      <a:lnTo>
                        <a:pt x="2" y="4635"/>
                      </a:lnTo>
                      <a:lnTo>
                        <a:pt x="0" y="4600"/>
                      </a:lnTo>
                      <a:close/>
                      <a:moveTo>
                        <a:pt x="0" y="3337"/>
                      </a:moveTo>
                      <a:lnTo>
                        <a:pt x="0" y="10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5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2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342"/>
                      </a:lnTo>
                      <a:lnTo>
                        <a:pt x="82" y="3341"/>
                      </a:lnTo>
                      <a:lnTo>
                        <a:pt x="70" y="3340"/>
                      </a:lnTo>
                      <a:lnTo>
                        <a:pt x="58" y="3340"/>
                      </a:lnTo>
                      <a:lnTo>
                        <a:pt x="47" y="3339"/>
                      </a:lnTo>
                      <a:lnTo>
                        <a:pt x="35" y="3339"/>
                      </a:lnTo>
                      <a:lnTo>
                        <a:pt x="23" y="3338"/>
                      </a:lnTo>
                      <a:lnTo>
                        <a:pt x="11" y="3337"/>
                      </a:lnTo>
                      <a:lnTo>
                        <a:pt x="0" y="3337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064200" y="4386240"/>
                  <a:ext cx="30240" cy="1557360"/>
                </a:xfrm>
                <a:custGeom>
                  <a:avLst/>
                  <a:gdLst/>
                  <a:ahLst/>
                  <a:rect l="l" t="t" r="r" b="b"/>
                  <a:pathLst>
                    <a:path w="94" h="4904">
                      <a:moveTo>
                        <a:pt x="0" y="4893"/>
                      </a:moveTo>
                      <a:lnTo>
                        <a:pt x="0" y="3632"/>
                      </a:lnTo>
                      <a:lnTo>
                        <a:pt x="11" y="3633"/>
                      </a:lnTo>
                      <a:lnTo>
                        <a:pt x="23" y="3634"/>
                      </a:lnTo>
                      <a:lnTo>
                        <a:pt x="35" y="3635"/>
                      </a:lnTo>
                      <a:lnTo>
                        <a:pt x="47" y="3635"/>
                      </a:lnTo>
                      <a:lnTo>
                        <a:pt x="58" y="3636"/>
                      </a:lnTo>
                      <a:lnTo>
                        <a:pt x="69" y="3637"/>
                      </a:lnTo>
                      <a:lnTo>
                        <a:pt x="82" y="3639"/>
                      </a:lnTo>
                      <a:lnTo>
                        <a:pt x="94" y="3639"/>
                      </a:lnTo>
                      <a:lnTo>
                        <a:pt x="94" y="4904"/>
                      </a:lnTo>
                      <a:lnTo>
                        <a:pt x="82" y="4903"/>
                      </a:lnTo>
                      <a:lnTo>
                        <a:pt x="69" y="4902"/>
                      </a:lnTo>
                      <a:lnTo>
                        <a:pt x="58" y="4900"/>
                      </a:lnTo>
                      <a:lnTo>
                        <a:pt x="47" y="4899"/>
                      </a:lnTo>
                      <a:lnTo>
                        <a:pt x="35" y="4897"/>
                      </a:lnTo>
                      <a:lnTo>
                        <a:pt x="23" y="4896"/>
                      </a:lnTo>
                      <a:lnTo>
                        <a:pt x="11" y="4894"/>
                      </a:lnTo>
                      <a:lnTo>
                        <a:pt x="0" y="4893"/>
                      </a:lnTo>
                      <a:close/>
                      <a:moveTo>
                        <a:pt x="0" y="3345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8"/>
                      </a:lnTo>
                      <a:lnTo>
                        <a:pt x="35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350"/>
                      </a:lnTo>
                      <a:lnTo>
                        <a:pt x="82" y="3349"/>
                      </a:lnTo>
                      <a:lnTo>
                        <a:pt x="69" y="3349"/>
                      </a:lnTo>
                      <a:lnTo>
                        <a:pt x="58" y="3348"/>
                      </a:lnTo>
                      <a:lnTo>
                        <a:pt x="47" y="3348"/>
                      </a:lnTo>
                      <a:lnTo>
                        <a:pt x="35" y="3347"/>
                      </a:lnTo>
                      <a:lnTo>
                        <a:pt x="23" y="3346"/>
                      </a:lnTo>
                      <a:lnTo>
                        <a:pt x="11" y="3346"/>
                      </a:lnTo>
                      <a:lnTo>
                        <a:pt x="0" y="3345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080040" y="4384800"/>
                  <a:ext cx="28800" cy="1560240"/>
                </a:xfrm>
                <a:custGeom>
                  <a:avLst/>
                  <a:gdLst/>
                  <a:ahLst/>
                  <a:rect l="l" t="t" r="r" b="b"/>
                  <a:pathLst>
                    <a:path w="93" h="4915">
                      <a:moveTo>
                        <a:pt x="0" y="4904"/>
                      </a:moveTo>
                      <a:lnTo>
                        <a:pt x="0" y="3640"/>
                      </a:lnTo>
                      <a:lnTo>
                        <a:pt x="11" y="3641"/>
                      </a:lnTo>
                      <a:lnTo>
                        <a:pt x="22" y="3642"/>
                      </a:lnTo>
                      <a:lnTo>
                        <a:pt x="35" y="3644"/>
                      </a:lnTo>
                      <a:lnTo>
                        <a:pt x="46" y="3644"/>
                      </a:lnTo>
                      <a:lnTo>
                        <a:pt x="58" y="3645"/>
                      </a:lnTo>
                      <a:lnTo>
                        <a:pt x="69" y="3646"/>
                      </a:lnTo>
                      <a:lnTo>
                        <a:pt x="82" y="3647"/>
                      </a:lnTo>
                      <a:lnTo>
                        <a:pt x="93" y="3647"/>
                      </a:lnTo>
                      <a:lnTo>
                        <a:pt x="93" y="4915"/>
                      </a:lnTo>
                      <a:lnTo>
                        <a:pt x="82" y="4914"/>
                      </a:lnTo>
                      <a:lnTo>
                        <a:pt x="69" y="4912"/>
                      </a:lnTo>
                      <a:lnTo>
                        <a:pt x="58" y="4911"/>
                      </a:lnTo>
                      <a:lnTo>
                        <a:pt x="46" y="4909"/>
                      </a:lnTo>
                      <a:lnTo>
                        <a:pt x="35" y="4908"/>
                      </a:lnTo>
                      <a:lnTo>
                        <a:pt x="22" y="4907"/>
                      </a:lnTo>
                      <a:lnTo>
                        <a:pt x="11" y="4905"/>
                      </a:lnTo>
                      <a:lnTo>
                        <a:pt x="0" y="4904"/>
                      </a:lnTo>
                      <a:close/>
                      <a:moveTo>
                        <a:pt x="0" y="3353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1"/>
                      </a:lnTo>
                      <a:lnTo>
                        <a:pt x="93" y="0"/>
                      </a:lnTo>
                      <a:lnTo>
                        <a:pt x="93" y="3357"/>
                      </a:lnTo>
                      <a:lnTo>
                        <a:pt x="82" y="3357"/>
                      </a:lnTo>
                      <a:lnTo>
                        <a:pt x="69" y="3356"/>
                      </a:lnTo>
                      <a:lnTo>
                        <a:pt x="58" y="3355"/>
                      </a:lnTo>
                      <a:lnTo>
                        <a:pt x="46" y="3355"/>
                      </a:lnTo>
                      <a:lnTo>
                        <a:pt x="35" y="3354"/>
                      </a:lnTo>
                      <a:lnTo>
                        <a:pt x="22" y="3354"/>
                      </a:lnTo>
                      <a:lnTo>
                        <a:pt x="11" y="3353"/>
                      </a:lnTo>
                      <a:lnTo>
                        <a:pt x="0" y="3353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094440" y="4383000"/>
                  <a:ext cx="30240" cy="1565280"/>
                </a:xfrm>
                <a:custGeom>
                  <a:avLst/>
                  <a:gdLst/>
                  <a:ahLst/>
                  <a:rect l="l" t="t" r="r" b="b"/>
                  <a:pathLst>
                    <a:path w="93" h="4928">
                      <a:moveTo>
                        <a:pt x="0" y="4915"/>
                      </a:moveTo>
                      <a:lnTo>
                        <a:pt x="0" y="3650"/>
                      </a:lnTo>
                      <a:lnTo>
                        <a:pt x="11" y="3651"/>
                      </a:lnTo>
                      <a:lnTo>
                        <a:pt x="22" y="3652"/>
                      </a:lnTo>
                      <a:lnTo>
                        <a:pt x="35" y="3653"/>
                      </a:lnTo>
                      <a:lnTo>
                        <a:pt x="46" y="3653"/>
                      </a:lnTo>
                      <a:lnTo>
                        <a:pt x="58" y="3654"/>
                      </a:lnTo>
                      <a:lnTo>
                        <a:pt x="69" y="3655"/>
                      </a:lnTo>
                      <a:lnTo>
                        <a:pt x="82" y="3655"/>
                      </a:lnTo>
                      <a:lnTo>
                        <a:pt x="93" y="3656"/>
                      </a:lnTo>
                      <a:lnTo>
                        <a:pt x="93" y="4928"/>
                      </a:lnTo>
                      <a:lnTo>
                        <a:pt x="82" y="4927"/>
                      </a:lnTo>
                      <a:lnTo>
                        <a:pt x="69" y="4925"/>
                      </a:lnTo>
                      <a:lnTo>
                        <a:pt x="58" y="4923"/>
                      </a:lnTo>
                      <a:lnTo>
                        <a:pt x="46" y="4921"/>
                      </a:lnTo>
                      <a:lnTo>
                        <a:pt x="35" y="4920"/>
                      </a:lnTo>
                      <a:lnTo>
                        <a:pt x="22" y="4919"/>
                      </a:lnTo>
                      <a:lnTo>
                        <a:pt x="11" y="4917"/>
                      </a:lnTo>
                      <a:lnTo>
                        <a:pt x="0" y="4915"/>
                      </a:lnTo>
                      <a:close/>
                      <a:moveTo>
                        <a:pt x="0" y="3361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2" y="9"/>
                      </a:lnTo>
                      <a:lnTo>
                        <a:pt x="35" y="7"/>
                      </a:lnTo>
                      <a:lnTo>
                        <a:pt x="46" y="6"/>
                      </a:lnTo>
                      <a:lnTo>
                        <a:pt x="58" y="5"/>
                      </a:lnTo>
                      <a:lnTo>
                        <a:pt x="69" y="3"/>
                      </a:lnTo>
                      <a:lnTo>
                        <a:pt x="82" y="2"/>
                      </a:lnTo>
                      <a:lnTo>
                        <a:pt x="93" y="0"/>
                      </a:lnTo>
                      <a:lnTo>
                        <a:pt x="93" y="3365"/>
                      </a:lnTo>
                      <a:lnTo>
                        <a:pt x="82" y="3365"/>
                      </a:lnTo>
                      <a:lnTo>
                        <a:pt x="69" y="3364"/>
                      </a:lnTo>
                      <a:lnTo>
                        <a:pt x="58" y="3364"/>
                      </a:lnTo>
                      <a:lnTo>
                        <a:pt x="46" y="3363"/>
                      </a:lnTo>
                      <a:lnTo>
                        <a:pt x="35" y="3363"/>
                      </a:lnTo>
                      <a:lnTo>
                        <a:pt x="22" y="3362"/>
                      </a:lnTo>
                      <a:lnTo>
                        <a:pt x="11" y="3361"/>
                      </a:lnTo>
                      <a:lnTo>
                        <a:pt x="0" y="3361"/>
                      </a:lnTo>
                      <a:close/>
                    </a:path>
                  </a:pathLst>
                </a:custGeom>
                <a:solidFill>
                  <a:srgbClr val="fb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108840" y="4381560"/>
                  <a:ext cx="29880" cy="1568520"/>
                </a:xfrm>
                <a:custGeom>
                  <a:avLst/>
                  <a:gdLst/>
                  <a:ahLst/>
                  <a:rect l="l" t="t" r="r" b="b"/>
                  <a:pathLst>
                    <a:path w="94" h="4939">
                      <a:moveTo>
                        <a:pt x="0" y="4926"/>
                      </a:moveTo>
                      <a:lnTo>
                        <a:pt x="0" y="3658"/>
                      </a:lnTo>
                      <a:lnTo>
                        <a:pt x="12" y="3659"/>
                      </a:lnTo>
                      <a:lnTo>
                        <a:pt x="23" y="3660"/>
                      </a:lnTo>
                      <a:lnTo>
                        <a:pt x="36" y="3661"/>
                      </a:lnTo>
                      <a:lnTo>
                        <a:pt x="47" y="3661"/>
                      </a:lnTo>
                      <a:lnTo>
                        <a:pt x="59" y="3662"/>
                      </a:lnTo>
                      <a:lnTo>
                        <a:pt x="70" y="3663"/>
                      </a:lnTo>
                      <a:lnTo>
                        <a:pt x="81" y="3663"/>
                      </a:lnTo>
                      <a:lnTo>
                        <a:pt x="94" y="3664"/>
                      </a:lnTo>
                      <a:lnTo>
                        <a:pt x="94" y="4939"/>
                      </a:lnTo>
                      <a:lnTo>
                        <a:pt x="81" y="4938"/>
                      </a:lnTo>
                      <a:lnTo>
                        <a:pt x="70" y="4936"/>
                      </a:lnTo>
                      <a:lnTo>
                        <a:pt x="59" y="4935"/>
                      </a:lnTo>
                      <a:lnTo>
                        <a:pt x="47" y="4933"/>
                      </a:lnTo>
                      <a:lnTo>
                        <a:pt x="36" y="4932"/>
                      </a:lnTo>
                      <a:lnTo>
                        <a:pt x="23" y="4930"/>
                      </a:lnTo>
                      <a:lnTo>
                        <a:pt x="12" y="4928"/>
                      </a:lnTo>
                      <a:lnTo>
                        <a:pt x="0" y="4926"/>
                      </a:lnTo>
                      <a:close/>
                      <a:moveTo>
                        <a:pt x="0" y="3368"/>
                      </a:moveTo>
                      <a:lnTo>
                        <a:pt x="0" y="11"/>
                      </a:lnTo>
                      <a:lnTo>
                        <a:pt x="12" y="10"/>
                      </a:lnTo>
                      <a:lnTo>
                        <a:pt x="23" y="8"/>
                      </a:lnTo>
                      <a:lnTo>
                        <a:pt x="36" y="7"/>
                      </a:lnTo>
                      <a:lnTo>
                        <a:pt x="47" y="6"/>
                      </a:lnTo>
                      <a:lnTo>
                        <a:pt x="59" y="4"/>
                      </a:lnTo>
                      <a:lnTo>
                        <a:pt x="70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73"/>
                      </a:lnTo>
                      <a:lnTo>
                        <a:pt x="81" y="3372"/>
                      </a:lnTo>
                      <a:lnTo>
                        <a:pt x="70" y="3372"/>
                      </a:lnTo>
                      <a:lnTo>
                        <a:pt x="59" y="3371"/>
                      </a:lnTo>
                      <a:lnTo>
                        <a:pt x="47" y="3371"/>
                      </a:lnTo>
                      <a:lnTo>
                        <a:pt x="36" y="3370"/>
                      </a:lnTo>
                      <a:lnTo>
                        <a:pt x="23" y="3369"/>
                      </a:lnTo>
                      <a:lnTo>
                        <a:pt x="12" y="3369"/>
                      </a:lnTo>
                      <a:lnTo>
                        <a:pt x="0" y="3368"/>
                      </a:lnTo>
                      <a:close/>
                    </a:path>
                  </a:pathLst>
                </a:custGeom>
                <a:solidFill>
                  <a:srgbClr val="fb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124680" y="4379760"/>
                  <a:ext cx="29880" cy="1571760"/>
                </a:xfrm>
                <a:custGeom>
                  <a:avLst/>
                  <a:gdLst/>
                  <a:ahLst/>
                  <a:rect l="l" t="t" r="r" b="b"/>
                  <a:pathLst>
                    <a:path w="94" h="4950">
                      <a:moveTo>
                        <a:pt x="0" y="4938"/>
                      </a:moveTo>
                      <a:lnTo>
                        <a:pt x="0" y="3666"/>
                      </a:lnTo>
                      <a:lnTo>
                        <a:pt x="12" y="3667"/>
                      </a:lnTo>
                      <a:lnTo>
                        <a:pt x="23" y="3668"/>
                      </a:lnTo>
                      <a:lnTo>
                        <a:pt x="34" y="3668"/>
                      </a:lnTo>
                      <a:lnTo>
                        <a:pt x="47" y="3669"/>
                      </a:lnTo>
                      <a:lnTo>
                        <a:pt x="58" y="3670"/>
                      </a:lnTo>
                      <a:lnTo>
                        <a:pt x="70" y="3671"/>
                      </a:lnTo>
                      <a:lnTo>
                        <a:pt x="81" y="3672"/>
                      </a:lnTo>
                      <a:lnTo>
                        <a:pt x="94" y="3672"/>
                      </a:lnTo>
                      <a:lnTo>
                        <a:pt x="94" y="4950"/>
                      </a:lnTo>
                      <a:lnTo>
                        <a:pt x="81" y="4949"/>
                      </a:lnTo>
                      <a:lnTo>
                        <a:pt x="70" y="4947"/>
                      </a:lnTo>
                      <a:lnTo>
                        <a:pt x="58" y="4946"/>
                      </a:lnTo>
                      <a:lnTo>
                        <a:pt x="47" y="4944"/>
                      </a:lnTo>
                      <a:lnTo>
                        <a:pt x="34" y="4943"/>
                      </a:lnTo>
                      <a:lnTo>
                        <a:pt x="23" y="4941"/>
                      </a:lnTo>
                      <a:lnTo>
                        <a:pt x="12" y="4940"/>
                      </a:lnTo>
                      <a:lnTo>
                        <a:pt x="0" y="4938"/>
                      </a:lnTo>
                      <a:close/>
                      <a:moveTo>
                        <a:pt x="0" y="3375"/>
                      </a:moveTo>
                      <a:lnTo>
                        <a:pt x="0" y="10"/>
                      </a:lnTo>
                      <a:lnTo>
                        <a:pt x="12" y="9"/>
                      </a:lnTo>
                      <a:lnTo>
                        <a:pt x="23" y="8"/>
                      </a:lnTo>
                      <a:lnTo>
                        <a:pt x="34" y="6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2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80"/>
                      </a:lnTo>
                      <a:lnTo>
                        <a:pt x="81" y="3380"/>
                      </a:lnTo>
                      <a:lnTo>
                        <a:pt x="70" y="3379"/>
                      </a:lnTo>
                      <a:lnTo>
                        <a:pt x="58" y="3378"/>
                      </a:lnTo>
                      <a:lnTo>
                        <a:pt x="47" y="3378"/>
                      </a:lnTo>
                      <a:lnTo>
                        <a:pt x="34" y="3377"/>
                      </a:lnTo>
                      <a:lnTo>
                        <a:pt x="23" y="3377"/>
                      </a:lnTo>
                      <a:lnTo>
                        <a:pt x="12" y="3376"/>
                      </a:lnTo>
                      <a:lnTo>
                        <a:pt x="0" y="3375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138720" y="4378320"/>
                  <a:ext cx="30240" cy="1574640"/>
                </a:xfrm>
                <a:custGeom>
                  <a:avLst/>
                  <a:gdLst/>
                  <a:ahLst/>
                  <a:rect l="l" t="t" r="r" b="b"/>
                  <a:pathLst>
                    <a:path w="94" h="4962">
                      <a:moveTo>
                        <a:pt x="0" y="4950"/>
                      </a:moveTo>
                      <a:lnTo>
                        <a:pt x="0" y="3675"/>
                      </a:lnTo>
                      <a:lnTo>
                        <a:pt x="11" y="3676"/>
                      </a:lnTo>
                      <a:lnTo>
                        <a:pt x="23" y="3677"/>
                      </a:lnTo>
                      <a:lnTo>
                        <a:pt x="34" y="3678"/>
                      </a:lnTo>
                      <a:lnTo>
                        <a:pt x="47" y="3678"/>
                      </a:lnTo>
                      <a:lnTo>
                        <a:pt x="58" y="3679"/>
                      </a:lnTo>
                      <a:lnTo>
                        <a:pt x="70" y="3680"/>
                      </a:lnTo>
                      <a:lnTo>
                        <a:pt x="81" y="3681"/>
                      </a:lnTo>
                      <a:lnTo>
                        <a:pt x="94" y="3681"/>
                      </a:lnTo>
                      <a:lnTo>
                        <a:pt x="94" y="4962"/>
                      </a:lnTo>
                      <a:lnTo>
                        <a:pt x="81" y="4960"/>
                      </a:lnTo>
                      <a:lnTo>
                        <a:pt x="70" y="4959"/>
                      </a:lnTo>
                      <a:lnTo>
                        <a:pt x="58" y="4958"/>
                      </a:lnTo>
                      <a:lnTo>
                        <a:pt x="47" y="4956"/>
                      </a:lnTo>
                      <a:lnTo>
                        <a:pt x="34" y="4955"/>
                      </a:lnTo>
                      <a:lnTo>
                        <a:pt x="23" y="4953"/>
                      </a:lnTo>
                      <a:lnTo>
                        <a:pt x="11" y="4952"/>
                      </a:lnTo>
                      <a:lnTo>
                        <a:pt x="0" y="4950"/>
                      </a:lnTo>
                      <a:close/>
                      <a:moveTo>
                        <a:pt x="0" y="3384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3388"/>
                      </a:lnTo>
                      <a:lnTo>
                        <a:pt x="81" y="3388"/>
                      </a:lnTo>
                      <a:lnTo>
                        <a:pt x="70" y="3387"/>
                      </a:lnTo>
                      <a:lnTo>
                        <a:pt x="58" y="3387"/>
                      </a:lnTo>
                      <a:lnTo>
                        <a:pt x="47" y="3386"/>
                      </a:lnTo>
                      <a:lnTo>
                        <a:pt x="34" y="3386"/>
                      </a:lnTo>
                      <a:lnTo>
                        <a:pt x="23" y="3385"/>
                      </a:lnTo>
                      <a:lnTo>
                        <a:pt x="11" y="3384"/>
                      </a:lnTo>
                      <a:lnTo>
                        <a:pt x="0" y="3384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154560" y="4376880"/>
                  <a:ext cx="28800" cy="1579320"/>
                </a:xfrm>
                <a:custGeom>
                  <a:avLst/>
                  <a:gdLst/>
                  <a:ahLst/>
                  <a:rect l="l" t="t" r="r" b="b"/>
                  <a:pathLst>
                    <a:path w="94" h="4973">
                      <a:moveTo>
                        <a:pt x="0" y="4961"/>
                      </a:moveTo>
                      <a:lnTo>
                        <a:pt x="0" y="3683"/>
                      </a:lnTo>
                      <a:lnTo>
                        <a:pt x="11" y="3684"/>
                      </a:lnTo>
                      <a:lnTo>
                        <a:pt x="23" y="3685"/>
                      </a:lnTo>
                      <a:lnTo>
                        <a:pt x="34" y="3686"/>
                      </a:lnTo>
                      <a:lnTo>
                        <a:pt x="47" y="3686"/>
                      </a:lnTo>
                      <a:lnTo>
                        <a:pt x="58" y="3687"/>
                      </a:lnTo>
                      <a:lnTo>
                        <a:pt x="69" y="3688"/>
                      </a:lnTo>
                      <a:lnTo>
                        <a:pt x="81" y="3688"/>
                      </a:lnTo>
                      <a:lnTo>
                        <a:pt x="94" y="3689"/>
                      </a:lnTo>
                      <a:lnTo>
                        <a:pt x="94" y="4973"/>
                      </a:lnTo>
                      <a:lnTo>
                        <a:pt x="81" y="4971"/>
                      </a:lnTo>
                      <a:lnTo>
                        <a:pt x="69" y="4970"/>
                      </a:lnTo>
                      <a:lnTo>
                        <a:pt x="58" y="4969"/>
                      </a:lnTo>
                      <a:lnTo>
                        <a:pt x="47" y="4967"/>
                      </a:lnTo>
                      <a:lnTo>
                        <a:pt x="34" y="4966"/>
                      </a:lnTo>
                      <a:lnTo>
                        <a:pt x="23" y="4964"/>
                      </a:lnTo>
                      <a:lnTo>
                        <a:pt x="11" y="4963"/>
                      </a:lnTo>
                      <a:lnTo>
                        <a:pt x="0" y="4961"/>
                      </a:lnTo>
                      <a:close/>
                      <a:moveTo>
                        <a:pt x="0" y="3391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96"/>
                      </a:lnTo>
                      <a:lnTo>
                        <a:pt x="81" y="3395"/>
                      </a:lnTo>
                      <a:lnTo>
                        <a:pt x="69" y="3395"/>
                      </a:lnTo>
                      <a:lnTo>
                        <a:pt x="58" y="3394"/>
                      </a:lnTo>
                      <a:lnTo>
                        <a:pt x="47" y="3394"/>
                      </a:lnTo>
                      <a:lnTo>
                        <a:pt x="34" y="3393"/>
                      </a:lnTo>
                      <a:lnTo>
                        <a:pt x="23" y="3392"/>
                      </a:lnTo>
                      <a:lnTo>
                        <a:pt x="11" y="3392"/>
                      </a:lnTo>
                      <a:lnTo>
                        <a:pt x="0" y="3391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168960" y="4375080"/>
                  <a:ext cx="30240" cy="1582920"/>
                </a:xfrm>
                <a:custGeom>
                  <a:avLst/>
                  <a:gdLst/>
                  <a:ahLst/>
                  <a:rect l="l" t="t" r="r" b="b"/>
                  <a:pathLst>
                    <a:path w="93" h="4986">
                      <a:moveTo>
                        <a:pt x="0" y="4974"/>
                      </a:moveTo>
                      <a:lnTo>
                        <a:pt x="0" y="3693"/>
                      </a:lnTo>
                      <a:lnTo>
                        <a:pt x="11" y="3694"/>
                      </a:lnTo>
                      <a:lnTo>
                        <a:pt x="22" y="3695"/>
                      </a:lnTo>
                      <a:lnTo>
                        <a:pt x="34" y="3696"/>
                      </a:lnTo>
                      <a:lnTo>
                        <a:pt x="46" y="3696"/>
                      </a:lnTo>
                      <a:lnTo>
                        <a:pt x="58" y="3697"/>
                      </a:lnTo>
                      <a:lnTo>
                        <a:pt x="69" y="3698"/>
                      </a:lnTo>
                      <a:lnTo>
                        <a:pt x="81" y="3698"/>
                      </a:lnTo>
                      <a:lnTo>
                        <a:pt x="93" y="3699"/>
                      </a:lnTo>
                      <a:lnTo>
                        <a:pt x="93" y="4986"/>
                      </a:lnTo>
                      <a:lnTo>
                        <a:pt x="81" y="4984"/>
                      </a:lnTo>
                      <a:lnTo>
                        <a:pt x="69" y="4983"/>
                      </a:lnTo>
                      <a:lnTo>
                        <a:pt x="58" y="4981"/>
                      </a:lnTo>
                      <a:lnTo>
                        <a:pt x="46" y="4980"/>
                      </a:lnTo>
                      <a:lnTo>
                        <a:pt x="34" y="4978"/>
                      </a:lnTo>
                      <a:lnTo>
                        <a:pt x="22" y="4977"/>
                      </a:lnTo>
                      <a:lnTo>
                        <a:pt x="11" y="4975"/>
                      </a:lnTo>
                      <a:lnTo>
                        <a:pt x="0" y="4974"/>
                      </a:lnTo>
                      <a:close/>
                      <a:moveTo>
                        <a:pt x="0" y="3400"/>
                      </a:moveTo>
                      <a:lnTo>
                        <a:pt x="0" y="12"/>
                      </a:lnTo>
                      <a:lnTo>
                        <a:pt x="11" y="11"/>
                      </a:lnTo>
                      <a:lnTo>
                        <a:pt x="23" y="10"/>
                      </a:lnTo>
                      <a:lnTo>
                        <a:pt x="34" y="8"/>
                      </a:lnTo>
                      <a:lnTo>
                        <a:pt x="46" y="7"/>
                      </a:lnTo>
                      <a:lnTo>
                        <a:pt x="58" y="6"/>
                      </a:lnTo>
                      <a:lnTo>
                        <a:pt x="69" y="3"/>
                      </a:lnTo>
                      <a:lnTo>
                        <a:pt x="81" y="2"/>
                      </a:lnTo>
                      <a:lnTo>
                        <a:pt x="93" y="0"/>
                      </a:lnTo>
                      <a:lnTo>
                        <a:pt x="93" y="3405"/>
                      </a:lnTo>
                      <a:lnTo>
                        <a:pt x="81" y="3405"/>
                      </a:lnTo>
                      <a:lnTo>
                        <a:pt x="69" y="3404"/>
                      </a:lnTo>
                      <a:lnTo>
                        <a:pt x="58" y="3403"/>
                      </a:lnTo>
                      <a:lnTo>
                        <a:pt x="46" y="3403"/>
                      </a:lnTo>
                      <a:lnTo>
                        <a:pt x="34" y="3402"/>
                      </a:lnTo>
                      <a:lnTo>
                        <a:pt x="22" y="3402"/>
                      </a:lnTo>
                      <a:lnTo>
                        <a:pt x="11" y="3401"/>
                      </a:lnTo>
                      <a:lnTo>
                        <a:pt x="0" y="3400"/>
                      </a:lnTo>
                      <a:close/>
                    </a:path>
                  </a:pathLst>
                </a:custGeom>
                <a:solidFill>
                  <a:srgbClr val="fc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6183360" y="4373640"/>
                  <a:ext cx="30240" cy="1585800"/>
                </a:xfrm>
                <a:custGeom>
                  <a:avLst/>
                  <a:gdLst/>
                  <a:ahLst/>
                  <a:rect l="l" t="t" r="r" b="b"/>
                  <a:pathLst>
                    <a:path w="93" h="4997">
                      <a:moveTo>
                        <a:pt x="0" y="4985"/>
                      </a:moveTo>
                      <a:lnTo>
                        <a:pt x="0" y="3701"/>
                      </a:lnTo>
                      <a:lnTo>
                        <a:pt x="11" y="3702"/>
                      </a:lnTo>
                      <a:lnTo>
                        <a:pt x="22" y="3703"/>
                      </a:lnTo>
                      <a:lnTo>
                        <a:pt x="34" y="3703"/>
                      </a:lnTo>
                      <a:lnTo>
                        <a:pt x="46" y="3704"/>
                      </a:lnTo>
                      <a:lnTo>
                        <a:pt x="58" y="3705"/>
                      </a:lnTo>
                      <a:lnTo>
                        <a:pt x="69" y="3706"/>
                      </a:lnTo>
                      <a:lnTo>
                        <a:pt x="81" y="3706"/>
                      </a:lnTo>
                      <a:lnTo>
                        <a:pt x="93" y="3707"/>
                      </a:lnTo>
                      <a:lnTo>
                        <a:pt x="93" y="4997"/>
                      </a:lnTo>
                      <a:lnTo>
                        <a:pt x="81" y="4995"/>
                      </a:lnTo>
                      <a:lnTo>
                        <a:pt x="69" y="4994"/>
                      </a:lnTo>
                      <a:lnTo>
                        <a:pt x="58" y="4992"/>
                      </a:lnTo>
                      <a:lnTo>
                        <a:pt x="46" y="4991"/>
                      </a:lnTo>
                      <a:lnTo>
                        <a:pt x="34" y="4989"/>
                      </a:lnTo>
                      <a:lnTo>
                        <a:pt x="22" y="4988"/>
                      </a:lnTo>
                      <a:lnTo>
                        <a:pt x="11" y="4986"/>
                      </a:lnTo>
                      <a:lnTo>
                        <a:pt x="0" y="4985"/>
                      </a:lnTo>
                      <a:close/>
                      <a:moveTo>
                        <a:pt x="0" y="3408"/>
                      </a:moveTo>
                      <a:lnTo>
                        <a:pt x="0" y="12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4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3" y="0"/>
                      </a:lnTo>
                      <a:lnTo>
                        <a:pt x="93" y="3412"/>
                      </a:lnTo>
                      <a:lnTo>
                        <a:pt x="81" y="3412"/>
                      </a:lnTo>
                      <a:lnTo>
                        <a:pt x="69" y="3411"/>
                      </a:lnTo>
                      <a:lnTo>
                        <a:pt x="58" y="3411"/>
                      </a:lnTo>
                      <a:lnTo>
                        <a:pt x="46" y="3410"/>
                      </a:lnTo>
                      <a:lnTo>
                        <a:pt x="34" y="3410"/>
                      </a:lnTo>
                      <a:lnTo>
                        <a:pt x="22" y="3409"/>
                      </a:lnTo>
                      <a:lnTo>
                        <a:pt x="11" y="3408"/>
                      </a:lnTo>
                      <a:lnTo>
                        <a:pt x="0" y="3408"/>
                      </a:lnTo>
                      <a:close/>
                    </a:path>
                  </a:pathLst>
                </a:custGeom>
                <a:solidFill>
                  <a:srgbClr val="fc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6199200" y="4371840"/>
                  <a:ext cx="28440" cy="1589400"/>
                </a:xfrm>
                <a:custGeom>
                  <a:avLst/>
                  <a:gdLst/>
                  <a:ahLst/>
                  <a:rect l="l" t="t" r="r" b="b"/>
                  <a:pathLst>
                    <a:path w="94" h="5008">
                      <a:moveTo>
                        <a:pt x="0" y="4996"/>
                      </a:moveTo>
                      <a:lnTo>
                        <a:pt x="0" y="3709"/>
                      </a:lnTo>
                      <a:lnTo>
                        <a:pt x="12" y="3710"/>
                      </a:lnTo>
                      <a:lnTo>
                        <a:pt x="23" y="3711"/>
                      </a:lnTo>
                      <a:lnTo>
                        <a:pt x="35" y="3711"/>
                      </a:lnTo>
                      <a:lnTo>
                        <a:pt x="47" y="3712"/>
                      </a:lnTo>
                      <a:lnTo>
                        <a:pt x="59" y="3713"/>
                      </a:lnTo>
                      <a:lnTo>
                        <a:pt x="70" y="3714"/>
                      </a:lnTo>
                      <a:lnTo>
                        <a:pt x="81" y="3714"/>
                      </a:lnTo>
                      <a:lnTo>
                        <a:pt x="94" y="3715"/>
                      </a:lnTo>
                      <a:lnTo>
                        <a:pt x="94" y="5008"/>
                      </a:lnTo>
                      <a:lnTo>
                        <a:pt x="81" y="5006"/>
                      </a:lnTo>
                      <a:lnTo>
                        <a:pt x="70" y="5005"/>
                      </a:lnTo>
                      <a:lnTo>
                        <a:pt x="58" y="5003"/>
                      </a:lnTo>
                      <a:lnTo>
                        <a:pt x="47" y="5002"/>
                      </a:lnTo>
                      <a:lnTo>
                        <a:pt x="35" y="5000"/>
                      </a:lnTo>
                      <a:lnTo>
                        <a:pt x="23" y="4999"/>
                      </a:lnTo>
                      <a:lnTo>
                        <a:pt x="12" y="4997"/>
                      </a:lnTo>
                      <a:lnTo>
                        <a:pt x="0" y="4996"/>
                      </a:lnTo>
                      <a:close/>
                      <a:moveTo>
                        <a:pt x="0" y="3415"/>
                      </a:moveTo>
                      <a:lnTo>
                        <a:pt x="0" y="10"/>
                      </a:lnTo>
                      <a:lnTo>
                        <a:pt x="12" y="9"/>
                      </a:lnTo>
                      <a:lnTo>
                        <a:pt x="23" y="8"/>
                      </a:lnTo>
                      <a:lnTo>
                        <a:pt x="35" y="6"/>
                      </a:lnTo>
                      <a:lnTo>
                        <a:pt x="47" y="5"/>
                      </a:lnTo>
                      <a:lnTo>
                        <a:pt x="59" y="4"/>
                      </a:lnTo>
                      <a:lnTo>
                        <a:pt x="70" y="2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420"/>
                      </a:lnTo>
                      <a:lnTo>
                        <a:pt x="81" y="3419"/>
                      </a:lnTo>
                      <a:lnTo>
                        <a:pt x="70" y="3419"/>
                      </a:lnTo>
                      <a:lnTo>
                        <a:pt x="59" y="3418"/>
                      </a:lnTo>
                      <a:lnTo>
                        <a:pt x="47" y="3418"/>
                      </a:lnTo>
                      <a:lnTo>
                        <a:pt x="35" y="3417"/>
                      </a:lnTo>
                      <a:lnTo>
                        <a:pt x="23" y="3416"/>
                      </a:lnTo>
                      <a:lnTo>
                        <a:pt x="12" y="3416"/>
                      </a:lnTo>
                      <a:lnTo>
                        <a:pt x="0" y="3415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213600" y="4368960"/>
                  <a:ext cx="29880" cy="1593720"/>
                </a:xfrm>
                <a:custGeom>
                  <a:avLst/>
                  <a:gdLst/>
                  <a:ahLst/>
                  <a:rect l="l" t="t" r="r" b="b"/>
                  <a:pathLst>
                    <a:path w="94" h="5020">
                      <a:moveTo>
                        <a:pt x="0" y="5008"/>
                      </a:moveTo>
                      <a:lnTo>
                        <a:pt x="0" y="3718"/>
                      </a:lnTo>
                      <a:lnTo>
                        <a:pt x="12" y="3719"/>
                      </a:lnTo>
                      <a:lnTo>
                        <a:pt x="23" y="3720"/>
                      </a:lnTo>
                      <a:lnTo>
                        <a:pt x="34" y="3720"/>
                      </a:lnTo>
                      <a:lnTo>
                        <a:pt x="47" y="3721"/>
                      </a:lnTo>
                      <a:lnTo>
                        <a:pt x="58" y="3722"/>
                      </a:lnTo>
                      <a:lnTo>
                        <a:pt x="70" y="3723"/>
                      </a:lnTo>
                      <a:lnTo>
                        <a:pt x="81" y="3723"/>
                      </a:lnTo>
                      <a:lnTo>
                        <a:pt x="94" y="3724"/>
                      </a:lnTo>
                      <a:lnTo>
                        <a:pt x="94" y="5020"/>
                      </a:lnTo>
                      <a:lnTo>
                        <a:pt x="81" y="5018"/>
                      </a:lnTo>
                      <a:lnTo>
                        <a:pt x="70" y="5016"/>
                      </a:lnTo>
                      <a:lnTo>
                        <a:pt x="58" y="5015"/>
                      </a:lnTo>
                      <a:lnTo>
                        <a:pt x="47" y="5014"/>
                      </a:lnTo>
                      <a:lnTo>
                        <a:pt x="34" y="5012"/>
                      </a:lnTo>
                      <a:lnTo>
                        <a:pt x="23" y="5011"/>
                      </a:lnTo>
                      <a:lnTo>
                        <a:pt x="12" y="5009"/>
                      </a:lnTo>
                      <a:lnTo>
                        <a:pt x="0" y="5008"/>
                      </a:lnTo>
                      <a:close/>
                      <a:moveTo>
                        <a:pt x="0" y="3423"/>
                      </a:moveTo>
                      <a:lnTo>
                        <a:pt x="0" y="11"/>
                      </a:lnTo>
                      <a:lnTo>
                        <a:pt x="12" y="10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3428"/>
                      </a:lnTo>
                      <a:lnTo>
                        <a:pt x="81" y="3428"/>
                      </a:lnTo>
                      <a:lnTo>
                        <a:pt x="70" y="3427"/>
                      </a:lnTo>
                      <a:lnTo>
                        <a:pt x="58" y="3426"/>
                      </a:lnTo>
                      <a:lnTo>
                        <a:pt x="47" y="3426"/>
                      </a:lnTo>
                      <a:lnTo>
                        <a:pt x="34" y="3425"/>
                      </a:lnTo>
                      <a:lnTo>
                        <a:pt x="23" y="3425"/>
                      </a:lnTo>
                      <a:lnTo>
                        <a:pt x="12" y="3424"/>
                      </a:lnTo>
                      <a:lnTo>
                        <a:pt x="0" y="3423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6227640" y="4367160"/>
                  <a:ext cx="30240" cy="1598760"/>
                </a:xfrm>
                <a:custGeom>
                  <a:avLst/>
                  <a:gdLst/>
                  <a:ahLst/>
                  <a:rect l="l" t="t" r="r" b="b"/>
                  <a:pathLst>
                    <a:path w="94" h="5031">
                      <a:moveTo>
                        <a:pt x="0" y="5019"/>
                      </a:moveTo>
                      <a:lnTo>
                        <a:pt x="0" y="3726"/>
                      </a:lnTo>
                      <a:lnTo>
                        <a:pt x="11" y="3727"/>
                      </a:lnTo>
                      <a:lnTo>
                        <a:pt x="23" y="3728"/>
                      </a:lnTo>
                      <a:lnTo>
                        <a:pt x="34" y="3728"/>
                      </a:lnTo>
                      <a:lnTo>
                        <a:pt x="47" y="3729"/>
                      </a:lnTo>
                      <a:lnTo>
                        <a:pt x="58" y="3730"/>
                      </a:lnTo>
                      <a:lnTo>
                        <a:pt x="70" y="3731"/>
                      </a:lnTo>
                      <a:lnTo>
                        <a:pt x="81" y="3731"/>
                      </a:lnTo>
                      <a:lnTo>
                        <a:pt x="94" y="3732"/>
                      </a:lnTo>
                      <a:lnTo>
                        <a:pt x="94" y="5031"/>
                      </a:lnTo>
                      <a:lnTo>
                        <a:pt x="81" y="5030"/>
                      </a:lnTo>
                      <a:lnTo>
                        <a:pt x="70" y="5028"/>
                      </a:lnTo>
                      <a:lnTo>
                        <a:pt x="58" y="5027"/>
                      </a:lnTo>
                      <a:lnTo>
                        <a:pt x="47" y="5025"/>
                      </a:lnTo>
                      <a:lnTo>
                        <a:pt x="34" y="5023"/>
                      </a:lnTo>
                      <a:lnTo>
                        <a:pt x="23" y="5022"/>
                      </a:lnTo>
                      <a:lnTo>
                        <a:pt x="11" y="5020"/>
                      </a:lnTo>
                      <a:lnTo>
                        <a:pt x="0" y="5019"/>
                      </a:lnTo>
                      <a:close/>
                      <a:moveTo>
                        <a:pt x="0" y="3431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436"/>
                      </a:lnTo>
                      <a:lnTo>
                        <a:pt x="81" y="3435"/>
                      </a:lnTo>
                      <a:lnTo>
                        <a:pt x="70" y="3434"/>
                      </a:lnTo>
                      <a:lnTo>
                        <a:pt x="58" y="3434"/>
                      </a:lnTo>
                      <a:lnTo>
                        <a:pt x="47" y="3433"/>
                      </a:lnTo>
                      <a:lnTo>
                        <a:pt x="34" y="3433"/>
                      </a:lnTo>
                      <a:lnTo>
                        <a:pt x="23" y="3432"/>
                      </a:lnTo>
                      <a:lnTo>
                        <a:pt x="11" y="3431"/>
                      </a:lnTo>
                      <a:lnTo>
                        <a:pt x="0" y="3431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6243480" y="4365720"/>
                  <a:ext cx="28800" cy="1601640"/>
                </a:xfrm>
                <a:custGeom>
                  <a:avLst/>
                  <a:gdLst/>
                  <a:ahLst/>
                  <a:rect l="l" t="t" r="r" b="b"/>
                  <a:pathLst>
                    <a:path w="92" h="5043">
                      <a:moveTo>
                        <a:pt x="0" y="5031"/>
                      </a:moveTo>
                      <a:lnTo>
                        <a:pt x="0" y="3735"/>
                      </a:lnTo>
                      <a:lnTo>
                        <a:pt x="11" y="3736"/>
                      </a:lnTo>
                      <a:lnTo>
                        <a:pt x="23" y="3737"/>
                      </a:lnTo>
                      <a:lnTo>
                        <a:pt x="34" y="3737"/>
                      </a:lnTo>
                      <a:lnTo>
                        <a:pt x="47" y="3738"/>
                      </a:lnTo>
                      <a:lnTo>
                        <a:pt x="58" y="3739"/>
                      </a:lnTo>
                      <a:lnTo>
                        <a:pt x="70" y="3740"/>
                      </a:lnTo>
                      <a:lnTo>
                        <a:pt x="81" y="3740"/>
                      </a:lnTo>
                      <a:lnTo>
                        <a:pt x="92" y="3741"/>
                      </a:lnTo>
                      <a:lnTo>
                        <a:pt x="92" y="5043"/>
                      </a:lnTo>
                      <a:lnTo>
                        <a:pt x="81" y="5042"/>
                      </a:lnTo>
                      <a:lnTo>
                        <a:pt x="69" y="5040"/>
                      </a:lnTo>
                      <a:lnTo>
                        <a:pt x="58" y="5039"/>
                      </a:lnTo>
                      <a:lnTo>
                        <a:pt x="47" y="5037"/>
                      </a:lnTo>
                      <a:lnTo>
                        <a:pt x="34" y="5036"/>
                      </a:lnTo>
                      <a:lnTo>
                        <a:pt x="23" y="5034"/>
                      </a:lnTo>
                      <a:lnTo>
                        <a:pt x="11" y="5033"/>
                      </a:lnTo>
                      <a:lnTo>
                        <a:pt x="0" y="5031"/>
                      </a:lnTo>
                      <a:close/>
                      <a:moveTo>
                        <a:pt x="0" y="3439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9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2" y="0"/>
                      </a:lnTo>
                      <a:lnTo>
                        <a:pt x="92" y="3444"/>
                      </a:lnTo>
                      <a:lnTo>
                        <a:pt x="81" y="3443"/>
                      </a:lnTo>
                      <a:lnTo>
                        <a:pt x="70" y="3443"/>
                      </a:lnTo>
                      <a:lnTo>
                        <a:pt x="58" y="3442"/>
                      </a:lnTo>
                      <a:lnTo>
                        <a:pt x="47" y="3442"/>
                      </a:lnTo>
                      <a:lnTo>
                        <a:pt x="34" y="3441"/>
                      </a:lnTo>
                      <a:lnTo>
                        <a:pt x="23" y="3440"/>
                      </a:lnTo>
                      <a:lnTo>
                        <a:pt x="11" y="3440"/>
                      </a:lnTo>
                      <a:lnTo>
                        <a:pt x="0" y="3439"/>
                      </a:lnTo>
                      <a:close/>
                    </a:path>
                  </a:pathLst>
                </a:custGeom>
                <a:solidFill>
                  <a:srgbClr val="fc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6257880" y="4363920"/>
                  <a:ext cx="30240" cy="1605240"/>
                </a:xfrm>
                <a:custGeom>
                  <a:avLst/>
                  <a:gdLst/>
                  <a:ahLst/>
                  <a:rect l="l" t="t" r="r" b="b"/>
                  <a:pathLst>
                    <a:path w="92" h="5054">
                      <a:moveTo>
                        <a:pt x="0" y="5042"/>
                      </a:moveTo>
                      <a:lnTo>
                        <a:pt x="0" y="3743"/>
                      </a:lnTo>
                      <a:lnTo>
                        <a:pt x="11" y="3744"/>
                      </a:lnTo>
                      <a:lnTo>
                        <a:pt x="23" y="3745"/>
                      </a:lnTo>
                      <a:lnTo>
                        <a:pt x="34" y="3745"/>
                      </a:lnTo>
                      <a:lnTo>
                        <a:pt x="45" y="3746"/>
                      </a:lnTo>
                      <a:lnTo>
                        <a:pt x="58" y="3747"/>
                      </a:lnTo>
                      <a:lnTo>
                        <a:pt x="69" y="3748"/>
                      </a:lnTo>
                      <a:lnTo>
                        <a:pt x="81" y="3748"/>
                      </a:lnTo>
                      <a:lnTo>
                        <a:pt x="92" y="3749"/>
                      </a:lnTo>
                      <a:lnTo>
                        <a:pt x="92" y="5054"/>
                      </a:lnTo>
                      <a:lnTo>
                        <a:pt x="81" y="5053"/>
                      </a:lnTo>
                      <a:lnTo>
                        <a:pt x="69" y="5051"/>
                      </a:lnTo>
                      <a:lnTo>
                        <a:pt x="58" y="5050"/>
                      </a:lnTo>
                      <a:lnTo>
                        <a:pt x="45" y="5048"/>
                      </a:lnTo>
                      <a:lnTo>
                        <a:pt x="34" y="5047"/>
                      </a:lnTo>
                      <a:lnTo>
                        <a:pt x="23" y="5045"/>
                      </a:lnTo>
                      <a:lnTo>
                        <a:pt x="11" y="5044"/>
                      </a:lnTo>
                      <a:lnTo>
                        <a:pt x="0" y="5042"/>
                      </a:lnTo>
                      <a:close/>
                      <a:moveTo>
                        <a:pt x="0" y="3447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5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2" y="0"/>
                      </a:lnTo>
                      <a:lnTo>
                        <a:pt x="92" y="3451"/>
                      </a:lnTo>
                      <a:lnTo>
                        <a:pt x="81" y="3451"/>
                      </a:lnTo>
                      <a:lnTo>
                        <a:pt x="69" y="3450"/>
                      </a:lnTo>
                      <a:lnTo>
                        <a:pt x="58" y="3450"/>
                      </a:lnTo>
                      <a:lnTo>
                        <a:pt x="45" y="3449"/>
                      </a:lnTo>
                      <a:lnTo>
                        <a:pt x="34" y="3448"/>
                      </a:lnTo>
                      <a:lnTo>
                        <a:pt x="23" y="3448"/>
                      </a:lnTo>
                      <a:lnTo>
                        <a:pt x="11" y="3447"/>
                      </a:lnTo>
                      <a:lnTo>
                        <a:pt x="0" y="3447"/>
                      </a:lnTo>
                      <a:close/>
                    </a:path>
                  </a:pathLst>
                </a:custGeom>
                <a:solidFill>
                  <a:srgbClr val="fc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6272280" y="4362480"/>
                  <a:ext cx="30240" cy="1608120"/>
                </a:xfrm>
                <a:custGeom>
                  <a:avLst/>
                  <a:gdLst/>
                  <a:ahLst/>
                  <a:rect l="l" t="t" r="r" b="b"/>
                  <a:pathLst>
                    <a:path w="94" h="5065">
                      <a:moveTo>
                        <a:pt x="0" y="5053"/>
                      </a:moveTo>
                      <a:lnTo>
                        <a:pt x="0" y="3751"/>
                      </a:lnTo>
                      <a:lnTo>
                        <a:pt x="13" y="3752"/>
                      </a:lnTo>
                      <a:lnTo>
                        <a:pt x="24" y="3753"/>
                      </a:lnTo>
                      <a:lnTo>
                        <a:pt x="36" y="3753"/>
                      </a:lnTo>
                      <a:lnTo>
                        <a:pt x="47" y="3754"/>
                      </a:lnTo>
                      <a:lnTo>
                        <a:pt x="60" y="3755"/>
                      </a:lnTo>
                      <a:lnTo>
                        <a:pt x="71" y="3756"/>
                      </a:lnTo>
                      <a:lnTo>
                        <a:pt x="83" y="3756"/>
                      </a:lnTo>
                      <a:lnTo>
                        <a:pt x="94" y="3757"/>
                      </a:lnTo>
                      <a:lnTo>
                        <a:pt x="94" y="5065"/>
                      </a:lnTo>
                      <a:lnTo>
                        <a:pt x="83" y="5064"/>
                      </a:lnTo>
                      <a:lnTo>
                        <a:pt x="71" y="5062"/>
                      </a:lnTo>
                      <a:lnTo>
                        <a:pt x="60" y="5061"/>
                      </a:lnTo>
                      <a:lnTo>
                        <a:pt x="47" y="5059"/>
                      </a:lnTo>
                      <a:lnTo>
                        <a:pt x="36" y="5058"/>
                      </a:lnTo>
                      <a:lnTo>
                        <a:pt x="24" y="5056"/>
                      </a:lnTo>
                      <a:lnTo>
                        <a:pt x="13" y="5055"/>
                      </a:lnTo>
                      <a:lnTo>
                        <a:pt x="0" y="5053"/>
                      </a:lnTo>
                      <a:close/>
                      <a:moveTo>
                        <a:pt x="0" y="3454"/>
                      </a:moveTo>
                      <a:lnTo>
                        <a:pt x="0" y="10"/>
                      </a:lnTo>
                      <a:lnTo>
                        <a:pt x="13" y="9"/>
                      </a:lnTo>
                      <a:lnTo>
                        <a:pt x="24" y="8"/>
                      </a:lnTo>
                      <a:lnTo>
                        <a:pt x="36" y="6"/>
                      </a:lnTo>
                      <a:lnTo>
                        <a:pt x="47" y="5"/>
                      </a:lnTo>
                      <a:lnTo>
                        <a:pt x="60" y="4"/>
                      </a:lnTo>
                      <a:lnTo>
                        <a:pt x="71" y="2"/>
                      </a:lnTo>
                      <a:lnTo>
                        <a:pt x="83" y="1"/>
                      </a:lnTo>
                      <a:lnTo>
                        <a:pt x="94" y="0"/>
                      </a:lnTo>
                      <a:lnTo>
                        <a:pt x="94" y="3460"/>
                      </a:lnTo>
                      <a:lnTo>
                        <a:pt x="83" y="3458"/>
                      </a:lnTo>
                      <a:lnTo>
                        <a:pt x="71" y="3458"/>
                      </a:lnTo>
                      <a:lnTo>
                        <a:pt x="60" y="3457"/>
                      </a:lnTo>
                      <a:lnTo>
                        <a:pt x="47" y="3456"/>
                      </a:lnTo>
                      <a:lnTo>
                        <a:pt x="36" y="3456"/>
                      </a:lnTo>
                      <a:lnTo>
                        <a:pt x="24" y="3455"/>
                      </a:lnTo>
                      <a:lnTo>
                        <a:pt x="13" y="3455"/>
                      </a:lnTo>
                      <a:lnTo>
                        <a:pt x="0" y="3454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6288120" y="4361040"/>
                  <a:ext cx="28440" cy="1611000"/>
                </a:xfrm>
                <a:custGeom>
                  <a:avLst/>
                  <a:gdLst/>
                  <a:ahLst/>
                  <a:rect l="l" t="t" r="r" b="b"/>
                  <a:pathLst>
                    <a:path w="94" h="5077">
                      <a:moveTo>
                        <a:pt x="0" y="5065"/>
                      </a:moveTo>
                      <a:lnTo>
                        <a:pt x="0" y="3760"/>
                      </a:lnTo>
                      <a:lnTo>
                        <a:pt x="13" y="3761"/>
                      </a:lnTo>
                      <a:lnTo>
                        <a:pt x="24" y="3762"/>
                      </a:lnTo>
                      <a:lnTo>
                        <a:pt x="36" y="3762"/>
                      </a:lnTo>
                      <a:lnTo>
                        <a:pt x="47" y="3763"/>
                      </a:lnTo>
                      <a:lnTo>
                        <a:pt x="60" y="3764"/>
                      </a:lnTo>
                      <a:lnTo>
                        <a:pt x="71" y="3765"/>
                      </a:lnTo>
                      <a:lnTo>
                        <a:pt x="82" y="3765"/>
                      </a:lnTo>
                      <a:lnTo>
                        <a:pt x="94" y="3766"/>
                      </a:lnTo>
                      <a:lnTo>
                        <a:pt x="94" y="5077"/>
                      </a:lnTo>
                      <a:lnTo>
                        <a:pt x="82" y="5075"/>
                      </a:lnTo>
                      <a:lnTo>
                        <a:pt x="71" y="5074"/>
                      </a:lnTo>
                      <a:lnTo>
                        <a:pt x="60" y="5073"/>
                      </a:lnTo>
                      <a:lnTo>
                        <a:pt x="47" y="5071"/>
                      </a:lnTo>
                      <a:lnTo>
                        <a:pt x="36" y="5070"/>
                      </a:lnTo>
                      <a:lnTo>
                        <a:pt x="24" y="5068"/>
                      </a:lnTo>
                      <a:lnTo>
                        <a:pt x="13" y="5067"/>
                      </a:lnTo>
                      <a:lnTo>
                        <a:pt x="0" y="5065"/>
                      </a:lnTo>
                      <a:close/>
                      <a:moveTo>
                        <a:pt x="0" y="3462"/>
                      </a:moveTo>
                      <a:lnTo>
                        <a:pt x="0" y="11"/>
                      </a:lnTo>
                      <a:lnTo>
                        <a:pt x="13" y="10"/>
                      </a:lnTo>
                      <a:lnTo>
                        <a:pt x="24" y="8"/>
                      </a:lnTo>
                      <a:lnTo>
                        <a:pt x="36" y="7"/>
                      </a:lnTo>
                      <a:lnTo>
                        <a:pt x="47" y="6"/>
                      </a:lnTo>
                      <a:lnTo>
                        <a:pt x="60" y="4"/>
                      </a:lnTo>
                      <a:lnTo>
                        <a:pt x="71" y="3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468"/>
                      </a:lnTo>
                      <a:lnTo>
                        <a:pt x="82" y="3467"/>
                      </a:lnTo>
                      <a:lnTo>
                        <a:pt x="71" y="3467"/>
                      </a:lnTo>
                      <a:lnTo>
                        <a:pt x="60" y="3466"/>
                      </a:lnTo>
                      <a:lnTo>
                        <a:pt x="47" y="3466"/>
                      </a:lnTo>
                      <a:lnTo>
                        <a:pt x="36" y="3464"/>
                      </a:lnTo>
                      <a:lnTo>
                        <a:pt x="24" y="3463"/>
                      </a:lnTo>
                      <a:lnTo>
                        <a:pt x="13" y="3463"/>
                      </a:lnTo>
                      <a:lnTo>
                        <a:pt x="0" y="3462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6302520" y="4359240"/>
                  <a:ext cx="29880" cy="1616040"/>
                </a:xfrm>
                <a:custGeom>
                  <a:avLst/>
                  <a:gdLst/>
                  <a:ahLst/>
                  <a:rect l="l" t="t" r="r" b="b"/>
                  <a:pathLst>
                    <a:path w="94" h="5089">
                      <a:moveTo>
                        <a:pt x="0" y="5077"/>
                      </a:moveTo>
                      <a:lnTo>
                        <a:pt x="0" y="3769"/>
                      </a:lnTo>
                      <a:lnTo>
                        <a:pt x="13" y="3770"/>
                      </a:lnTo>
                      <a:lnTo>
                        <a:pt x="24" y="3771"/>
                      </a:lnTo>
                      <a:lnTo>
                        <a:pt x="35" y="3771"/>
                      </a:lnTo>
                      <a:lnTo>
                        <a:pt x="47" y="3772"/>
                      </a:lnTo>
                      <a:lnTo>
                        <a:pt x="59" y="3773"/>
                      </a:lnTo>
                      <a:lnTo>
                        <a:pt x="71" y="3774"/>
                      </a:lnTo>
                      <a:lnTo>
                        <a:pt x="82" y="3774"/>
                      </a:lnTo>
                      <a:lnTo>
                        <a:pt x="94" y="3775"/>
                      </a:lnTo>
                      <a:lnTo>
                        <a:pt x="94" y="5089"/>
                      </a:lnTo>
                      <a:lnTo>
                        <a:pt x="82" y="5087"/>
                      </a:lnTo>
                      <a:lnTo>
                        <a:pt x="71" y="5086"/>
                      </a:lnTo>
                      <a:lnTo>
                        <a:pt x="59" y="5084"/>
                      </a:lnTo>
                      <a:lnTo>
                        <a:pt x="47" y="5083"/>
                      </a:lnTo>
                      <a:lnTo>
                        <a:pt x="35" y="5081"/>
                      </a:lnTo>
                      <a:lnTo>
                        <a:pt x="24" y="5080"/>
                      </a:lnTo>
                      <a:lnTo>
                        <a:pt x="13" y="5079"/>
                      </a:lnTo>
                      <a:lnTo>
                        <a:pt x="0" y="5077"/>
                      </a:lnTo>
                      <a:close/>
                      <a:moveTo>
                        <a:pt x="0" y="3472"/>
                      </a:moveTo>
                      <a:lnTo>
                        <a:pt x="0" y="12"/>
                      </a:lnTo>
                      <a:lnTo>
                        <a:pt x="13" y="10"/>
                      </a:lnTo>
                      <a:lnTo>
                        <a:pt x="24" y="9"/>
                      </a:lnTo>
                      <a:lnTo>
                        <a:pt x="35" y="8"/>
                      </a:lnTo>
                      <a:lnTo>
                        <a:pt x="47" y="6"/>
                      </a:lnTo>
                      <a:lnTo>
                        <a:pt x="59" y="5"/>
                      </a:lnTo>
                      <a:lnTo>
                        <a:pt x="71" y="2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476"/>
                      </a:lnTo>
                      <a:lnTo>
                        <a:pt x="82" y="3476"/>
                      </a:lnTo>
                      <a:lnTo>
                        <a:pt x="71" y="3475"/>
                      </a:lnTo>
                      <a:lnTo>
                        <a:pt x="59" y="3475"/>
                      </a:lnTo>
                      <a:lnTo>
                        <a:pt x="47" y="3474"/>
                      </a:lnTo>
                      <a:lnTo>
                        <a:pt x="35" y="3473"/>
                      </a:lnTo>
                      <a:lnTo>
                        <a:pt x="24" y="3473"/>
                      </a:lnTo>
                      <a:lnTo>
                        <a:pt x="13" y="3472"/>
                      </a:lnTo>
                      <a:lnTo>
                        <a:pt x="0" y="3472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6316560" y="4357800"/>
                  <a:ext cx="30240" cy="1619280"/>
                </a:xfrm>
                <a:custGeom>
                  <a:avLst/>
                  <a:gdLst/>
                  <a:ahLst/>
                  <a:rect l="l" t="t" r="r" b="b"/>
                  <a:pathLst>
                    <a:path w="94" h="5101">
                      <a:moveTo>
                        <a:pt x="0" y="5089"/>
                      </a:moveTo>
                      <a:lnTo>
                        <a:pt x="0" y="3778"/>
                      </a:lnTo>
                      <a:lnTo>
                        <a:pt x="12" y="3779"/>
                      </a:lnTo>
                      <a:lnTo>
                        <a:pt x="24" y="3780"/>
                      </a:lnTo>
                      <a:lnTo>
                        <a:pt x="35" y="3780"/>
                      </a:lnTo>
                      <a:lnTo>
                        <a:pt x="47" y="3781"/>
                      </a:lnTo>
                      <a:lnTo>
                        <a:pt x="59" y="3782"/>
                      </a:lnTo>
                      <a:lnTo>
                        <a:pt x="71" y="3784"/>
                      </a:lnTo>
                      <a:lnTo>
                        <a:pt x="82" y="3784"/>
                      </a:lnTo>
                      <a:lnTo>
                        <a:pt x="94" y="3785"/>
                      </a:lnTo>
                      <a:lnTo>
                        <a:pt x="94" y="5101"/>
                      </a:lnTo>
                      <a:lnTo>
                        <a:pt x="82" y="5099"/>
                      </a:lnTo>
                      <a:lnTo>
                        <a:pt x="71" y="5098"/>
                      </a:lnTo>
                      <a:lnTo>
                        <a:pt x="59" y="5096"/>
                      </a:lnTo>
                      <a:lnTo>
                        <a:pt x="47" y="5095"/>
                      </a:lnTo>
                      <a:lnTo>
                        <a:pt x="35" y="5093"/>
                      </a:lnTo>
                      <a:lnTo>
                        <a:pt x="24" y="5092"/>
                      </a:lnTo>
                      <a:lnTo>
                        <a:pt x="12" y="5090"/>
                      </a:lnTo>
                      <a:lnTo>
                        <a:pt x="0" y="5089"/>
                      </a:lnTo>
                      <a:close/>
                      <a:moveTo>
                        <a:pt x="0" y="3480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4" y="8"/>
                      </a:lnTo>
                      <a:lnTo>
                        <a:pt x="35" y="7"/>
                      </a:lnTo>
                      <a:lnTo>
                        <a:pt x="47" y="6"/>
                      </a:lnTo>
                      <a:lnTo>
                        <a:pt x="59" y="4"/>
                      </a:lnTo>
                      <a:lnTo>
                        <a:pt x="71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485"/>
                      </a:lnTo>
                      <a:lnTo>
                        <a:pt x="82" y="3484"/>
                      </a:lnTo>
                      <a:lnTo>
                        <a:pt x="71" y="3484"/>
                      </a:lnTo>
                      <a:lnTo>
                        <a:pt x="59" y="3483"/>
                      </a:lnTo>
                      <a:lnTo>
                        <a:pt x="47" y="3482"/>
                      </a:lnTo>
                      <a:lnTo>
                        <a:pt x="35" y="3482"/>
                      </a:lnTo>
                      <a:lnTo>
                        <a:pt x="24" y="3481"/>
                      </a:lnTo>
                      <a:lnTo>
                        <a:pt x="12" y="3481"/>
                      </a:lnTo>
                      <a:lnTo>
                        <a:pt x="0" y="3480"/>
                      </a:lnTo>
                      <a:close/>
                    </a:path>
                  </a:pathLst>
                </a:custGeom>
                <a:solidFill>
                  <a:srgbClr val="fd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6332400" y="4356000"/>
                  <a:ext cx="28800" cy="1622520"/>
                </a:xfrm>
                <a:custGeom>
                  <a:avLst/>
                  <a:gdLst/>
                  <a:ahLst/>
                  <a:rect l="l" t="t" r="r" b="b"/>
                  <a:pathLst>
                    <a:path w="93" h="5108">
                      <a:moveTo>
                        <a:pt x="0" y="5096"/>
                      </a:moveTo>
                      <a:lnTo>
                        <a:pt x="0" y="3782"/>
                      </a:lnTo>
                      <a:lnTo>
                        <a:pt x="12" y="3783"/>
                      </a:lnTo>
                      <a:lnTo>
                        <a:pt x="24" y="3785"/>
                      </a:lnTo>
                      <a:lnTo>
                        <a:pt x="35" y="3785"/>
                      </a:lnTo>
                      <a:lnTo>
                        <a:pt x="47" y="3786"/>
                      </a:lnTo>
                      <a:lnTo>
                        <a:pt x="59" y="3787"/>
                      </a:lnTo>
                      <a:lnTo>
                        <a:pt x="71" y="3788"/>
                      </a:lnTo>
                      <a:lnTo>
                        <a:pt x="82" y="3788"/>
                      </a:lnTo>
                      <a:lnTo>
                        <a:pt x="93" y="3789"/>
                      </a:lnTo>
                      <a:lnTo>
                        <a:pt x="93" y="5108"/>
                      </a:lnTo>
                      <a:lnTo>
                        <a:pt x="82" y="5106"/>
                      </a:lnTo>
                      <a:lnTo>
                        <a:pt x="70" y="5105"/>
                      </a:lnTo>
                      <a:lnTo>
                        <a:pt x="59" y="5103"/>
                      </a:lnTo>
                      <a:lnTo>
                        <a:pt x="47" y="5102"/>
                      </a:lnTo>
                      <a:lnTo>
                        <a:pt x="35" y="5100"/>
                      </a:lnTo>
                      <a:lnTo>
                        <a:pt x="24" y="5099"/>
                      </a:lnTo>
                      <a:lnTo>
                        <a:pt x="12" y="5097"/>
                      </a:lnTo>
                      <a:lnTo>
                        <a:pt x="0" y="5096"/>
                      </a:lnTo>
                      <a:close/>
                      <a:moveTo>
                        <a:pt x="0" y="3483"/>
                      </a:moveTo>
                      <a:lnTo>
                        <a:pt x="0" y="7"/>
                      </a:lnTo>
                      <a:lnTo>
                        <a:pt x="8" y="6"/>
                      </a:lnTo>
                      <a:lnTo>
                        <a:pt x="15" y="5"/>
                      </a:lnTo>
                      <a:lnTo>
                        <a:pt x="22" y="4"/>
                      </a:lnTo>
                      <a:lnTo>
                        <a:pt x="30" y="3"/>
                      </a:lnTo>
                      <a:lnTo>
                        <a:pt x="37" y="2"/>
                      </a:lnTo>
                      <a:lnTo>
                        <a:pt x="44" y="2"/>
                      </a:lnTo>
                      <a:lnTo>
                        <a:pt x="51" y="1"/>
                      </a:lnTo>
                      <a:lnTo>
                        <a:pt x="59" y="0"/>
                      </a:lnTo>
                      <a:lnTo>
                        <a:pt x="64" y="84"/>
                      </a:lnTo>
                      <a:lnTo>
                        <a:pt x="68" y="167"/>
                      </a:lnTo>
                      <a:lnTo>
                        <a:pt x="72" y="250"/>
                      </a:lnTo>
                      <a:lnTo>
                        <a:pt x="76" y="334"/>
                      </a:lnTo>
                      <a:lnTo>
                        <a:pt x="81" y="417"/>
                      </a:lnTo>
                      <a:lnTo>
                        <a:pt x="85" y="501"/>
                      </a:lnTo>
                      <a:lnTo>
                        <a:pt x="89" y="585"/>
                      </a:lnTo>
                      <a:lnTo>
                        <a:pt x="93" y="668"/>
                      </a:lnTo>
                      <a:lnTo>
                        <a:pt x="93" y="3488"/>
                      </a:lnTo>
                      <a:lnTo>
                        <a:pt x="82" y="3487"/>
                      </a:lnTo>
                      <a:lnTo>
                        <a:pt x="71" y="3487"/>
                      </a:lnTo>
                      <a:lnTo>
                        <a:pt x="59" y="3486"/>
                      </a:lnTo>
                      <a:lnTo>
                        <a:pt x="47" y="3486"/>
                      </a:lnTo>
                      <a:lnTo>
                        <a:pt x="35" y="3485"/>
                      </a:lnTo>
                      <a:lnTo>
                        <a:pt x="24" y="3484"/>
                      </a:lnTo>
                      <a:lnTo>
                        <a:pt x="12" y="3484"/>
                      </a:lnTo>
                      <a:lnTo>
                        <a:pt x="0" y="3483"/>
                      </a:lnTo>
                      <a:close/>
                    </a:path>
                  </a:pathLst>
                </a:custGeom>
                <a:solidFill>
                  <a:srgbClr val="fd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6346800" y="4356000"/>
                  <a:ext cx="30240" cy="1623960"/>
                </a:xfrm>
                <a:custGeom>
                  <a:avLst/>
                  <a:gdLst/>
                  <a:ahLst/>
                  <a:rect l="l" t="t" r="r" b="b"/>
                  <a:pathLst>
                    <a:path w="93" h="5115">
                      <a:moveTo>
                        <a:pt x="0" y="5102"/>
                      </a:moveTo>
                      <a:lnTo>
                        <a:pt x="0" y="3786"/>
                      </a:lnTo>
                      <a:lnTo>
                        <a:pt x="12" y="3787"/>
                      </a:lnTo>
                      <a:lnTo>
                        <a:pt x="23" y="3788"/>
                      </a:lnTo>
                      <a:lnTo>
                        <a:pt x="35" y="3788"/>
                      </a:lnTo>
                      <a:lnTo>
                        <a:pt x="46" y="3789"/>
                      </a:lnTo>
                      <a:lnTo>
                        <a:pt x="59" y="3790"/>
                      </a:lnTo>
                      <a:lnTo>
                        <a:pt x="70" y="3791"/>
                      </a:lnTo>
                      <a:lnTo>
                        <a:pt x="82" y="3791"/>
                      </a:lnTo>
                      <a:lnTo>
                        <a:pt x="93" y="3792"/>
                      </a:lnTo>
                      <a:lnTo>
                        <a:pt x="93" y="5115"/>
                      </a:lnTo>
                      <a:lnTo>
                        <a:pt x="82" y="5113"/>
                      </a:lnTo>
                      <a:lnTo>
                        <a:pt x="70" y="5112"/>
                      </a:lnTo>
                      <a:lnTo>
                        <a:pt x="59" y="5109"/>
                      </a:lnTo>
                      <a:lnTo>
                        <a:pt x="46" y="5108"/>
                      </a:lnTo>
                      <a:lnTo>
                        <a:pt x="35" y="5106"/>
                      </a:lnTo>
                      <a:lnTo>
                        <a:pt x="23" y="5105"/>
                      </a:lnTo>
                      <a:lnTo>
                        <a:pt x="12" y="5103"/>
                      </a:lnTo>
                      <a:lnTo>
                        <a:pt x="0" y="5102"/>
                      </a:lnTo>
                      <a:close/>
                      <a:moveTo>
                        <a:pt x="0" y="3486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22" y="194"/>
                      </a:lnTo>
                      <a:lnTo>
                        <a:pt x="32" y="389"/>
                      </a:lnTo>
                      <a:lnTo>
                        <a:pt x="42" y="584"/>
                      </a:lnTo>
                      <a:lnTo>
                        <a:pt x="52" y="780"/>
                      </a:lnTo>
                      <a:lnTo>
                        <a:pt x="63" y="974"/>
                      </a:lnTo>
                      <a:lnTo>
                        <a:pt x="73" y="1170"/>
                      </a:lnTo>
                      <a:lnTo>
                        <a:pt x="83" y="1366"/>
                      </a:lnTo>
                      <a:lnTo>
                        <a:pt x="93" y="1562"/>
                      </a:lnTo>
                      <a:lnTo>
                        <a:pt x="93" y="3490"/>
                      </a:lnTo>
                      <a:lnTo>
                        <a:pt x="82" y="3490"/>
                      </a:lnTo>
                      <a:lnTo>
                        <a:pt x="70" y="3489"/>
                      </a:lnTo>
                      <a:lnTo>
                        <a:pt x="59" y="3489"/>
                      </a:lnTo>
                      <a:lnTo>
                        <a:pt x="46" y="3488"/>
                      </a:lnTo>
                      <a:lnTo>
                        <a:pt x="35" y="3487"/>
                      </a:lnTo>
                      <a:lnTo>
                        <a:pt x="23" y="3487"/>
                      </a:lnTo>
                      <a:lnTo>
                        <a:pt x="12" y="3486"/>
                      </a:lnTo>
                      <a:lnTo>
                        <a:pt x="0" y="3486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6361200" y="4568760"/>
                  <a:ext cx="30240" cy="1413000"/>
                </a:xfrm>
                <a:custGeom>
                  <a:avLst/>
                  <a:gdLst/>
                  <a:ahLst/>
                  <a:rect l="l" t="t" r="r" b="b"/>
                  <a:pathLst>
                    <a:path w="94" h="4452">
                      <a:moveTo>
                        <a:pt x="0" y="4440"/>
                      </a:moveTo>
                      <a:lnTo>
                        <a:pt x="0" y="3121"/>
                      </a:lnTo>
                      <a:lnTo>
                        <a:pt x="13" y="3122"/>
                      </a:lnTo>
                      <a:lnTo>
                        <a:pt x="24" y="3123"/>
                      </a:lnTo>
                      <a:lnTo>
                        <a:pt x="36" y="3123"/>
                      </a:lnTo>
                      <a:lnTo>
                        <a:pt x="47" y="3124"/>
                      </a:lnTo>
                      <a:lnTo>
                        <a:pt x="60" y="3125"/>
                      </a:lnTo>
                      <a:lnTo>
                        <a:pt x="71" y="3125"/>
                      </a:lnTo>
                      <a:lnTo>
                        <a:pt x="83" y="3126"/>
                      </a:lnTo>
                      <a:lnTo>
                        <a:pt x="94" y="3127"/>
                      </a:lnTo>
                      <a:lnTo>
                        <a:pt x="94" y="4452"/>
                      </a:lnTo>
                      <a:lnTo>
                        <a:pt x="83" y="4451"/>
                      </a:lnTo>
                      <a:lnTo>
                        <a:pt x="71" y="4450"/>
                      </a:lnTo>
                      <a:lnTo>
                        <a:pt x="60" y="4448"/>
                      </a:lnTo>
                      <a:lnTo>
                        <a:pt x="47" y="4447"/>
                      </a:lnTo>
                      <a:lnTo>
                        <a:pt x="36" y="4445"/>
                      </a:lnTo>
                      <a:lnTo>
                        <a:pt x="24" y="4444"/>
                      </a:lnTo>
                      <a:lnTo>
                        <a:pt x="13" y="4441"/>
                      </a:lnTo>
                      <a:lnTo>
                        <a:pt x="0" y="4440"/>
                      </a:lnTo>
                      <a:close/>
                      <a:moveTo>
                        <a:pt x="0" y="2820"/>
                      </a:moveTo>
                      <a:lnTo>
                        <a:pt x="0" y="0"/>
                      </a:lnTo>
                      <a:lnTo>
                        <a:pt x="7" y="133"/>
                      </a:lnTo>
                      <a:lnTo>
                        <a:pt x="15" y="267"/>
                      </a:lnTo>
                      <a:lnTo>
                        <a:pt x="22" y="399"/>
                      </a:lnTo>
                      <a:lnTo>
                        <a:pt x="29" y="533"/>
                      </a:lnTo>
                      <a:lnTo>
                        <a:pt x="36" y="665"/>
                      </a:lnTo>
                      <a:lnTo>
                        <a:pt x="42" y="799"/>
                      </a:lnTo>
                      <a:lnTo>
                        <a:pt x="49" y="933"/>
                      </a:lnTo>
                      <a:lnTo>
                        <a:pt x="56" y="1066"/>
                      </a:lnTo>
                      <a:lnTo>
                        <a:pt x="62" y="1156"/>
                      </a:lnTo>
                      <a:lnTo>
                        <a:pt x="66" y="1247"/>
                      </a:lnTo>
                      <a:lnTo>
                        <a:pt x="71" y="1337"/>
                      </a:lnTo>
                      <a:lnTo>
                        <a:pt x="76" y="1427"/>
                      </a:lnTo>
                      <a:lnTo>
                        <a:pt x="80" y="1518"/>
                      </a:lnTo>
                      <a:lnTo>
                        <a:pt x="85" y="1608"/>
                      </a:lnTo>
                      <a:lnTo>
                        <a:pt x="89" y="1699"/>
                      </a:lnTo>
                      <a:lnTo>
                        <a:pt x="94" y="1788"/>
                      </a:lnTo>
                      <a:lnTo>
                        <a:pt x="94" y="2825"/>
                      </a:lnTo>
                      <a:lnTo>
                        <a:pt x="83" y="2824"/>
                      </a:lnTo>
                      <a:lnTo>
                        <a:pt x="71" y="2824"/>
                      </a:lnTo>
                      <a:lnTo>
                        <a:pt x="60" y="2823"/>
                      </a:lnTo>
                      <a:lnTo>
                        <a:pt x="47" y="2822"/>
                      </a:lnTo>
                      <a:lnTo>
                        <a:pt x="36" y="2822"/>
                      </a:lnTo>
                      <a:lnTo>
                        <a:pt x="24" y="2821"/>
                      </a:lnTo>
                      <a:lnTo>
                        <a:pt x="13" y="2821"/>
                      </a:lnTo>
                      <a:lnTo>
                        <a:pt x="0" y="2820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6377040" y="4853160"/>
                  <a:ext cx="30240" cy="1131840"/>
                </a:xfrm>
                <a:custGeom>
                  <a:avLst/>
                  <a:gdLst/>
                  <a:ahLst/>
                  <a:rect l="l" t="t" r="r" b="b"/>
                  <a:pathLst>
                    <a:path w="94" h="3564">
                      <a:moveTo>
                        <a:pt x="0" y="3553"/>
                      </a:moveTo>
                      <a:lnTo>
                        <a:pt x="0" y="2230"/>
                      </a:lnTo>
                      <a:lnTo>
                        <a:pt x="13" y="2231"/>
                      </a:lnTo>
                      <a:lnTo>
                        <a:pt x="24" y="2231"/>
                      </a:lnTo>
                      <a:lnTo>
                        <a:pt x="36" y="2232"/>
                      </a:lnTo>
                      <a:lnTo>
                        <a:pt x="47" y="2233"/>
                      </a:lnTo>
                      <a:lnTo>
                        <a:pt x="60" y="2234"/>
                      </a:lnTo>
                      <a:lnTo>
                        <a:pt x="71" y="2234"/>
                      </a:lnTo>
                      <a:lnTo>
                        <a:pt x="82" y="2235"/>
                      </a:lnTo>
                      <a:lnTo>
                        <a:pt x="94" y="2236"/>
                      </a:lnTo>
                      <a:lnTo>
                        <a:pt x="94" y="3564"/>
                      </a:lnTo>
                      <a:lnTo>
                        <a:pt x="82" y="3563"/>
                      </a:lnTo>
                      <a:lnTo>
                        <a:pt x="71" y="3561"/>
                      </a:lnTo>
                      <a:lnTo>
                        <a:pt x="60" y="3560"/>
                      </a:lnTo>
                      <a:lnTo>
                        <a:pt x="47" y="3558"/>
                      </a:lnTo>
                      <a:lnTo>
                        <a:pt x="36" y="3557"/>
                      </a:lnTo>
                      <a:lnTo>
                        <a:pt x="24" y="3556"/>
                      </a:lnTo>
                      <a:lnTo>
                        <a:pt x="13" y="3554"/>
                      </a:lnTo>
                      <a:lnTo>
                        <a:pt x="0" y="3553"/>
                      </a:lnTo>
                      <a:close/>
                      <a:moveTo>
                        <a:pt x="0" y="1928"/>
                      </a:moveTo>
                      <a:lnTo>
                        <a:pt x="0" y="0"/>
                      </a:lnTo>
                      <a:lnTo>
                        <a:pt x="1" y="21"/>
                      </a:lnTo>
                      <a:lnTo>
                        <a:pt x="2" y="43"/>
                      </a:lnTo>
                      <a:lnTo>
                        <a:pt x="4" y="65"/>
                      </a:lnTo>
                      <a:lnTo>
                        <a:pt x="5" y="87"/>
                      </a:lnTo>
                      <a:lnTo>
                        <a:pt x="6" y="108"/>
                      </a:lnTo>
                      <a:lnTo>
                        <a:pt x="7" y="129"/>
                      </a:lnTo>
                      <a:lnTo>
                        <a:pt x="8" y="151"/>
                      </a:lnTo>
                      <a:lnTo>
                        <a:pt x="9" y="172"/>
                      </a:lnTo>
                      <a:lnTo>
                        <a:pt x="20" y="373"/>
                      </a:lnTo>
                      <a:lnTo>
                        <a:pt x="31" y="575"/>
                      </a:lnTo>
                      <a:lnTo>
                        <a:pt x="41" y="776"/>
                      </a:lnTo>
                      <a:lnTo>
                        <a:pt x="51" y="978"/>
                      </a:lnTo>
                      <a:lnTo>
                        <a:pt x="63" y="1180"/>
                      </a:lnTo>
                      <a:lnTo>
                        <a:pt x="73" y="1382"/>
                      </a:lnTo>
                      <a:lnTo>
                        <a:pt x="84" y="1585"/>
                      </a:lnTo>
                      <a:lnTo>
                        <a:pt x="94" y="1788"/>
                      </a:lnTo>
                      <a:lnTo>
                        <a:pt x="94" y="1933"/>
                      </a:lnTo>
                      <a:lnTo>
                        <a:pt x="82" y="1933"/>
                      </a:lnTo>
                      <a:lnTo>
                        <a:pt x="71" y="1932"/>
                      </a:lnTo>
                      <a:lnTo>
                        <a:pt x="60" y="1931"/>
                      </a:lnTo>
                      <a:lnTo>
                        <a:pt x="47" y="1931"/>
                      </a:lnTo>
                      <a:lnTo>
                        <a:pt x="36" y="1930"/>
                      </a:lnTo>
                      <a:lnTo>
                        <a:pt x="24" y="1930"/>
                      </a:lnTo>
                      <a:lnTo>
                        <a:pt x="13" y="1929"/>
                      </a:lnTo>
                      <a:lnTo>
                        <a:pt x="0" y="1928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391440" y="5137200"/>
                  <a:ext cx="29880" cy="849240"/>
                </a:xfrm>
                <a:custGeom>
                  <a:avLst/>
                  <a:gdLst/>
                  <a:ahLst/>
                  <a:rect l="l" t="t" r="r" b="b"/>
                  <a:pathLst>
                    <a:path w="94" h="2676">
                      <a:moveTo>
                        <a:pt x="0" y="2664"/>
                      </a:moveTo>
                      <a:lnTo>
                        <a:pt x="0" y="1339"/>
                      </a:lnTo>
                      <a:lnTo>
                        <a:pt x="9" y="1340"/>
                      </a:lnTo>
                      <a:lnTo>
                        <a:pt x="18" y="1340"/>
                      </a:lnTo>
                      <a:lnTo>
                        <a:pt x="27" y="1341"/>
                      </a:lnTo>
                      <a:lnTo>
                        <a:pt x="36" y="1341"/>
                      </a:lnTo>
                      <a:lnTo>
                        <a:pt x="44" y="1342"/>
                      </a:lnTo>
                      <a:lnTo>
                        <a:pt x="53" y="1342"/>
                      </a:lnTo>
                      <a:lnTo>
                        <a:pt x="62" y="1343"/>
                      </a:lnTo>
                      <a:lnTo>
                        <a:pt x="71" y="1343"/>
                      </a:lnTo>
                      <a:lnTo>
                        <a:pt x="74" y="1399"/>
                      </a:lnTo>
                      <a:lnTo>
                        <a:pt x="77" y="1454"/>
                      </a:lnTo>
                      <a:lnTo>
                        <a:pt x="80" y="1510"/>
                      </a:lnTo>
                      <a:lnTo>
                        <a:pt x="82" y="1565"/>
                      </a:lnTo>
                      <a:lnTo>
                        <a:pt x="85" y="1621"/>
                      </a:lnTo>
                      <a:lnTo>
                        <a:pt x="88" y="1676"/>
                      </a:lnTo>
                      <a:lnTo>
                        <a:pt x="91" y="1732"/>
                      </a:lnTo>
                      <a:lnTo>
                        <a:pt x="94" y="1788"/>
                      </a:lnTo>
                      <a:lnTo>
                        <a:pt x="94" y="2676"/>
                      </a:lnTo>
                      <a:lnTo>
                        <a:pt x="82" y="2675"/>
                      </a:lnTo>
                      <a:lnTo>
                        <a:pt x="71" y="2673"/>
                      </a:lnTo>
                      <a:lnTo>
                        <a:pt x="58" y="2672"/>
                      </a:lnTo>
                      <a:lnTo>
                        <a:pt x="47" y="2670"/>
                      </a:lnTo>
                      <a:lnTo>
                        <a:pt x="35" y="2669"/>
                      </a:lnTo>
                      <a:lnTo>
                        <a:pt x="24" y="2667"/>
                      </a:lnTo>
                      <a:lnTo>
                        <a:pt x="13" y="2666"/>
                      </a:lnTo>
                      <a:lnTo>
                        <a:pt x="0" y="2664"/>
                      </a:lnTo>
                      <a:close/>
                      <a:moveTo>
                        <a:pt x="0" y="1037"/>
                      </a:moveTo>
                      <a:lnTo>
                        <a:pt x="0" y="0"/>
                      </a:lnTo>
                      <a:lnTo>
                        <a:pt x="7" y="130"/>
                      </a:lnTo>
                      <a:lnTo>
                        <a:pt x="14" y="260"/>
                      </a:lnTo>
                      <a:lnTo>
                        <a:pt x="21" y="390"/>
                      </a:lnTo>
                      <a:lnTo>
                        <a:pt x="28" y="520"/>
                      </a:lnTo>
                      <a:lnTo>
                        <a:pt x="34" y="649"/>
                      </a:lnTo>
                      <a:lnTo>
                        <a:pt x="41" y="779"/>
                      </a:lnTo>
                      <a:lnTo>
                        <a:pt x="48" y="909"/>
                      </a:lnTo>
                      <a:lnTo>
                        <a:pt x="54" y="1039"/>
                      </a:lnTo>
                      <a:lnTo>
                        <a:pt x="48" y="1039"/>
                      </a:lnTo>
                      <a:lnTo>
                        <a:pt x="41" y="1039"/>
                      </a:lnTo>
                      <a:lnTo>
                        <a:pt x="34" y="1038"/>
                      </a:lnTo>
                      <a:lnTo>
                        <a:pt x="28" y="1038"/>
                      </a:lnTo>
                      <a:lnTo>
                        <a:pt x="21" y="1038"/>
                      </a:lnTo>
                      <a:lnTo>
                        <a:pt x="14" y="1037"/>
                      </a:lnTo>
                      <a:lnTo>
                        <a:pt x="7" y="1037"/>
                      </a:lnTo>
                      <a:lnTo>
                        <a:pt x="0" y="1037"/>
                      </a:lnTo>
                      <a:close/>
                    </a:path>
                  </a:pathLst>
                </a:custGeom>
                <a:solidFill>
                  <a:srgbClr val="fef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407280" y="5419800"/>
                  <a:ext cx="28440" cy="568080"/>
                </a:xfrm>
                <a:custGeom>
                  <a:avLst/>
                  <a:gdLst/>
                  <a:ahLst/>
                  <a:rect l="l" t="t" r="r" b="b"/>
                  <a:pathLst>
                    <a:path w="94" h="1788">
                      <a:moveTo>
                        <a:pt x="0" y="1776"/>
                      </a:moveTo>
                      <a:lnTo>
                        <a:pt x="0" y="448"/>
                      </a:lnTo>
                      <a:lnTo>
                        <a:pt x="3" y="448"/>
                      </a:lnTo>
                      <a:lnTo>
                        <a:pt x="6" y="448"/>
                      </a:lnTo>
                      <a:lnTo>
                        <a:pt x="9" y="448"/>
                      </a:lnTo>
                      <a:lnTo>
                        <a:pt x="12" y="449"/>
                      </a:lnTo>
                      <a:lnTo>
                        <a:pt x="15" y="449"/>
                      </a:lnTo>
                      <a:lnTo>
                        <a:pt x="18" y="449"/>
                      </a:lnTo>
                      <a:lnTo>
                        <a:pt x="21" y="449"/>
                      </a:lnTo>
                      <a:lnTo>
                        <a:pt x="24" y="449"/>
                      </a:lnTo>
                      <a:lnTo>
                        <a:pt x="33" y="616"/>
                      </a:lnTo>
                      <a:lnTo>
                        <a:pt x="41" y="783"/>
                      </a:lnTo>
                      <a:lnTo>
                        <a:pt x="50" y="951"/>
                      </a:lnTo>
                      <a:lnTo>
                        <a:pt x="58" y="1118"/>
                      </a:lnTo>
                      <a:lnTo>
                        <a:pt x="68" y="1285"/>
                      </a:lnTo>
                      <a:lnTo>
                        <a:pt x="76" y="1452"/>
                      </a:lnTo>
                      <a:lnTo>
                        <a:pt x="85" y="1621"/>
                      </a:lnTo>
                      <a:lnTo>
                        <a:pt x="94" y="1788"/>
                      </a:lnTo>
                      <a:lnTo>
                        <a:pt x="82" y="1787"/>
                      </a:lnTo>
                      <a:lnTo>
                        <a:pt x="71" y="1785"/>
                      </a:lnTo>
                      <a:lnTo>
                        <a:pt x="58" y="1784"/>
                      </a:lnTo>
                      <a:lnTo>
                        <a:pt x="47" y="1782"/>
                      </a:lnTo>
                      <a:lnTo>
                        <a:pt x="35" y="1781"/>
                      </a:lnTo>
                      <a:lnTo>
                        <a:pt x="24" y="1779"/>
                      </a:lnTo>
                      <a:lnTo>
                        <a:pt x="11" y="1778"/>
                      </a:lnTo>
                      <a:lnTo>
                        <a:pt x="0" y="1776"/>
                      </a:lnTo>
                      <a:close/>
                      <a:moveTo>
                        <a:pt x="0" y="145"/>
                      </a:moveTo>
                      <a:lnTo>
                        <a:pt x="0" y="0"/>
                      </a:lnTo>
                      <a:lnTo>
                        <a:pt x="1" y="17"/>
                      </a:lnTo>
                      <a:lnTo>
                        <a:pt x="2" y="36"/>
                      </a:lnTo>
                      <a:lnTo>
                        <a:pt x="3" y="54"/>
                      </a:lnTo>
                      <a:lnTo>
                        <a:pt x="4" y="72"/>
                      </a:lnTo>
                      <a:lnTo>
                        <a:pt x="5" y="91"/>
                      </a:lnTo>
                      <a:lnTo>
                        <a:pt x="6" y="109"/>
                      </a:lnTo>
                      <a:lnTo>
                        <a:pt x="7" y="127"/>
                      </a:lnTo>
                      <a:lnTo>
                        <a:pt x="7" y="145"/>
                      </a:lnTo>
                      <a:lnTo>
                        <a:pt x="7" y="145"/>
                      </a:lnTo>
                      <a:lnTo>
                        <a:pt x="6" y="145"/>
                      </a:lnTo>
                      <a:lnTo>
                        <a:pt x="5" y="145"/>
                      </a:lnTo>
                      <a:lnTo>
                        <a:pt x="4" y="145"/>
                      </a:lnTo>
                      <a:lnTo>
                        <a:pt x="3" y="145"/>
                      </a:lnTo>
                      <a:lnTo>
                        <a:pt x="2" y="145"/>
                      </a:lnTo>
                      <a:lnTo>
                        <a:pt x="1" y="145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ef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421320" y="5703840"/>
                  <a:ext cx="14400" cy="284040"/>
                </a:xfrm>
                <a:custGeom>
                  <a:avLst/>
                  <a:gdLst/>
                  <a:ahLst/>
                  <a:rect l="l" t="t" r="r" b="b"/>
                  <a:pathLst>
                    <a:path w="47" h="894">
                      <a:moveTo>
                        <a:pt x="0" y="888"/>
                      </a:moveTo>
                      <a:lnTo>
                        <a:pt x="0" y="0"/>
                      </a:lnTo>
                      <a:lnTo>
                        <a:pt x="5" y="112"/>
                      </a:lnTo>
                      <a:lnTo>
                        <a:pt x="11" y="223"/>
                      </a:lnTo>
                      <a:lnTo>
                        <a:pt x="18" y="335"/>
                      </a:lnTo>
                      <a:lnTo>
                        <a:pt x="24" y="446"/>
                      </a:lnTo>
                      <a:lnTo>
                        <a:pt x="29" y="558"/>
                      </a:lnTo>
                      <a:lnTo>
                        <a:pt x="35" y="671"/>
                      </a:lnTo>
                      <a:lnTo>
                        <a:pt x="41" y="782"/>
                      </a:lnTo>
                      <a:lnTo>
                        <a:pt x="47" y="894"/>
                      </a:lnTo>
                      <a:lnTo>
                        <a:pt x="41" y="893"/>
                      </a:lnTo>
                      <a:lnTo>
                        <a:pt x="35" y="893"/>
                      </a:lnTo>
                      <a:lnTo>
                        <a:pt x="29" y="892"/>
                      </a:lnTo>
                      <a:lnTo>
                        <a:pt x="24" y="891"/>
                      </a:lnTo>
                      <a:lnTo>
                        <a:pt x="18" y="890"/>
                      </a:lnTo>
                      <a:lnTo>
                        <a:pt x="11" y="890"/>
                      </a:lnTo>
                      <a:lnTo>
                        <a:pt x="5" y="889"/>
                      </a:lnTo>
                      <a:lnTo>
                        <a:pt x="0" y="888"/>
                      </a:lnTo>
                      <a:close/>
                    </a:path>
                  </a:pathLst>
                </a:custGeom>
                <a:solidFill>
                  <a:srgbClr val="fef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3971880" y="4570560"/>
                  <a:ext cx="600120" cy="1177920"/>
                </a:xfrm>
                <a:custGeom>
                  <a:avLst/>
                  <a:gdLst/>
                  <a:ahLst/>
                  <a:rect l="l" t="t" r="r" b="b"/>
                  <a:pathLst>
                    <a:path w="1888" h="3710">
                      <a:moveTo>
                        <a:pt x="61" y="3476"/>
                      </a:moveTo>
                      <a:lnTo>
                        <a:pt x="57" y="3269"/>
                      </a:lnTo>
                      <a:lnTo>
                        <a:pt x="53" y="3063"/>
                      </a:lnTo>
                      <a:lnTo>
                        <a:pt x="50" y="2857"/>
                      </a:lnTo>
                      <a:lnTo>
                        <a:pt x="46" y="2650"/>
                      </a:lnTo>
                      <a:lnTo>
                        <a:pt x="42" y="2444"/>
                      </a:lnTo>
                      <a:lnTo>
                        <a:pt x="38" y="2239"/>
                      </a:lnTo>
                      <a:lnTo>
                        <a:pt x="35" y="2034"/>
                      </a:lnTo>
                      <a:lnTo>
                        <a:pt x="30" y="1829"/>
                      </a:lnTo>
                      <a:lnTo>
                        <a:pt x="26" y="1625"/>
                      </a:lnTo>
                      <a:lnTo>
                        <a:pt x="22" y="1422"/>
                      </a:lnTo>
                      <a:lnTo>
                        <a:pt x="19" y="1220"/>
                      </a:lnTo>
                      <a:lnTo>
                        <a:pt x="15" y="1017"/>
                      </a:lnTo>
                      <a:lnTo>
                        <a:pt x="11" y="816"/>
                      </a:lnTo>
                      <a:lnTo>
                        <a:pt x="8" y="614"/>
                      </a:lnTo>
                      <a:lnTo>
                        <a:pt x="4" y="412"/>
                      </a:lnTo>
                      <a:lnTo>
                        <a:pt x="0" y="211"/>
                      </a:lnTo>
                      <a:lnTo>
                        <a:pt x="30" y="207"/>
                      </a:lnTo>
                      <a:lnTo>
                        <a:pt x="61" y="204"/>
                      </a:lnTo>
                      <a:lnTo>
                        <a:pt x="92" y="199"/>
                      </a:lnTo>
                      <a:lnTo>
                        <a:pt x="122" y="196"/>
                      </a:lnTo>
                      <a:lnTo>
                        <a:pt x="153" y="192"/>
                      </a:lnTo>
                      <a:lnTo>
                        <a:pt x="184" y="189"/>
                      </a:lnTo>
                      <a:lnTo>
                        <a:pt x="214" y="185"/>
                      </a:lnTo>
                      <a:lnTo>
                        <a:pt x="245" y="182"/>
                      </a:lnTo>
                      <a:lnTo>
                        <a:pt x="298" y="267"/>
                      </a:lnTo>
                      <a:lnTo>
                        <a:pt x="352" y="351"/>
                      </a:lnTo>
                      <a:lnTo>
                        <a:pt x="406" y="437"/>
                      </a:lnTo>
                      <a:lnTo>
                        <a:pt x="460" y="524"/>
                      </a:lnTo>
                      <a:lnTo>
                        <a:pt x="516" y="610"/>
                      </a:lnTo>
                      <a:lnTo>
                        <a:pt x="571" y="697"/>
                      </a:lnTo>
                      <a:lnTo>
                        <a:pt x="626" y="785"/>
                      </a:lnTo>
                      <a:lnTo>
                        <a:pt x="682" y="873"/>
                      </a:lnTo>
                      <a:lnTo>
                        <a:pt x="739" y="963"/>
                      </a:lnTo>
                      <a:lnTo>
                        <a:pt x="796" y="1055"/>
                      </a:lnTo>
                      <a:lnTo>
                        <a:pt x="855" y="1147"/>
                      </a:lnTo>
                      <a:lnTo>
                        <a:pt x="914" y="1239"/>
                      </a:lnTo>
                      <a:lnTo>
                        <a:pt x="973" y="1333"/>
                      </a:lnTo>
                      <a:lnTo>
                        <a:pt x="1032" y="1425"/>
                      </a:lnTo>
                      <a:lnTo>
                        <a:pt x="1092" y="1519"/>
                      </a:lnTo>
                      <a:lnTo>
                        <a:pt x="1151" y="1614"/>
                      </a:lnTo>
                      <a:lnTo>
                        <a:pt x="1149" y="1517"/>
                      </a:lnTo>
                      <a:lnTo>
                        <a:pt x="1147" y="1421"/>
                      </a:lnTo>
                      <a:lnTo>
                        <a:pt x="1144" y="1324"/>
                      </a:lnTo>
                      <a:lnTo>
                        <a:pt x="1142" y="1229"/>
                      </a:lnTo>
                      <a:lnTo>
                        <a:pt x="1140" y="1133"/>
                      </a:lnTo>
                      <a:lnTo>
                        <a:pt x="1137" y="1036"/>
                      </a:lnTo>
                      <a:lnTo>
                        <a:pt x="1134" y="940"/>
                      </a:lnTo>
                      <a:lnTo>
                        <a:pt x="1132" y="844"/>
                      </a:lnTo>
                      <a:lnTo>
                        <a:pt x="1130" y="748"/>
                      </a:lnTo>
                      <a:lnTo>
                        <a:pt x="1128" y="652"/>
                      </a:lnTo>
                      <a:lnTo>
                        <a:pt x="1126" y="556"/>
                      </a:lnTo>
                      <a:lnTo>
                        <a:pt x="1123" y="461"/>
                      </a:lnTo>
                      <a:lnTo>
                        <a:pt x="1121" y="366"/>
                      </a:lnTo>
                      <a:lnTo>
                        <a:pt x="1119" y="270"/>
                      </a:lnTo>
                      <a:lnTo>
                        <a:pt x="1117" y="174"/>
                      </a:lnTo>
                      <a:lnTo>
                        <a:pt x="1115" y="79"/>
                      </a:lnTo>
                      <a:lnTo>
                        <a:pt x="1197" y="69"/>
                      </a:lnTo>
                      <a:lnTo>
                        <a:pt x="1279" y="60"/>
                      </a:lnTo>
                      <a:lnTo>
                        <a:pt x="1362" y="49"/>
                      </a:lnTo>
                      <a:lnTo>
                        <a:pt x="1446" y="39"/>
                      </a:lnTo>
                      <a:lnTo>
                        <a:pt x="1531" y="30"/>
                      </a:lnTo>
                      <a:lnTo>
                        <a:pt x="1615" y="20"/>
                      </a:lnTo>
                      <a:lnTo>
                        <a:pt x="1701" y="10"/>
                      </a:lnTo>
                      <a:lnTo>
                        <a:pt x="1788" y="0"/>
                      </a:lnTo>
                      <a:lnTo>
                        <a:pt x="1794" y="228"/>
                      </a:lnTo>
                      <a:lnTo>
                        <a:pt x="1800" y="456"/>
                      </a:lnTo>
                      <a:lnTo>
                        <a:pt x="1806" y="686"/>
                      </a:lnTo>
                      <a:lnTo>
                        <a:pt x="1813" y="915"/>
                      </a:lnTo>
                      <a:lnTo>
                        <a:pt x="1819" y="1146"/>
                      </a:lnTo>
                      <a:lnTo>
                        <a:pt x="1825" y="1375"/>
                      </a:lnTo>
                      <a:lnTo>
                        <a:pt x="1831" y="1606"/>
                      </a:lnTo>
                      <a:lnTo>
                        <a:pt x="1838" y="1838"/>
                      </a:lnTo>
                      <a:lnTo>
                        <a:pt x="1844" y="2070"/>
                      </a:lnTo>
                      <a:lnTo>
                        <a:pt x="1850" y="2304"/>
                      </a:lnTo>
                      <a:lnTo>
                        <a:pt x="1856" y="2537"/>
                      </a:lnTo>
                      <a:lnTo>
                        <a:pt x="1864" y="2771"/>
                      </a:lnTo>
                      <a:lnTo>
                        <a:pt x="1870" y="3005"/>
                      </a:lnTo>
                      <a:lnTo>
                        <a:pt x="1876" y="3240"/>
                      </a:lnTo>
                      <a:lnTo>
                        <a:pt x="1882" y="3475"/>
                      </a:lnTo>
                      <a:lnTo>
                        <a:pt x="1888" y="3710"/>
                      </a:lnTo>
                      <a:lnTo>
                        <a:pt x="1847" y="3705"/>
                      </a:lnTo>
                      <a:lnTo>
                        <a:pt x="1806" y="3700"/>
                      </a:lnTo>
                      <a:lnTo>
                        <a:pt x="1767" y="3695"/>
                      </a:lnTo>
                      <a:lnTo>
                        <a:pt x="1726" y="3689"/>
                      </a:lnTo>
                      <a:lnTo>
                        <a:pt x="1686" y="3684"/>
                      </a:lnTo>
                      <a:lnTo>
                        <a:pt x="1646" y="3679"/>
                      </a:lnTo>
                      <a:lnTo>
                        <a:pt x="1605" y="3674"/>
                      </a:lnTo>
                      <a:lnTo>
                        <a:pt x="1565" y="3668"/>
                      </a:lnTo>
                      <a:lnTo>
                        <a:pt x="1503" y="3562"/>
                      </a:lnTo>
                      <a:lnTo>
                        <a:pt x="1441" y="3456"/>
                      </a:lnTo>
                      <a:lnTo>
                        <a:pt x="1378" y="3351"/>
                      </a:lnTo>
                      <a:lnTo>
                        <a:pt x="1316" y="3247"/>
                      </a:lnTo>
                      <a:lnTo>
                        <a:pt x="1255" y="3143"/>
                      </a:lnTo>
                      <a:lnTo>
                        <a:pt x="1194" y="3040"/>
                      </a:lnTo>
                      <a:lnTo>
                        <a:pt x="1132" y="2937"/>
                      </a:lnTo>
                      <a:lnTo>
                        <a:pt x="1073" y="2835"/>
                      </a:lnTo>
                      <a:lnTo>
                        <a:pt x="1015" y="2736"/>
                      </a:lnTo>
                      <a:lnTo>
                        <a:pt x="957" y="2637"/>
                      </a:lnTo>
                      <a:lnTo>
                        <a:pt x="899" y="2539"/>
                      </a:lnTo>
                      <a:lnTo>
                        <a:pt x="841" y="2442"/>
                      </a:lnTo>
                      <a:lnTo>
                        <a:pt x="783" y="2346"/>
                      </a:lnTo>
                      <a:lnTo>
                        <a:pt x="727" y="2249"/>
                      </a:lnTo>
                      <a:lnTo>
                        <a:pt x="670" y="2153"/>
                      </a:lnTo>
                      <a:lnTo>
                        <a:pt x="615" y="2058"/>
                      </a:lnTo>
                      <a:lnTo>
                        <a:pt x="617" y="2151"/>
                      </a:lnTo>
                      <a:lnTo>
                        <a:pt x="619" y="2244"/>
                      </a:lnTo>
                      <a:lnTo>
                        <a:pt x="621" y="2336"/>
                      </a:lnTo>
                      <a:lnTo>
                        <a:pt x="623" y="2429"/>
                      </a:lnTo>
                      <a:lnTo>
                        <a:pt x="625" y="2523"/>
                      </a:lnTo>
                      <a:lnTo>
                        <a:pt x="627" y="2616"/>
                      </a:lnTo>
                      <a:lnTo>
                        <a:pt x="629" y="2709"/>
                      </a:lnTo>
                      <a:lnTo>
                        <a:pt x="632" y="2801"/>
                      </a:lnTo>
                      <a:lnTo>
                        <a:pt x="634" y="2895"/>
                      </a:lnTo>
                      <a:lnTo>
                        <a:pt x="636" y="2989"/>
                      </a:lnTo>
                      <a:lnTo>
                        <a:pt x="637" y="3082"/>
                      </a:lnTo>
                      <a:lnTo>
                        <a:pt x="639" y="3176"/>
                      </a:lnTo>
                      <a:lnTo>
                        <a:pt x="641" y="3270"/>
                      </a:lnTo>
                      <a:lnTo>
                        <a:pt x="643" y="3363"/>
                      </a:lnTo>
                      <a:lnTo>
                        <a:pt x="645" y="3457"/>
                      </a:lnTo>
                      <a:lnTo>
                        <a:pt x="647" y="3550"/>
                      </a:lnTo>
                      <a:lnTo>
                        <a:pt x="572" y="3541"/>
                      </a:lnTo>
                      <a:lnTo>
                        <a:pt x="497" y="3532"/>
                      </a:lnTo>
                      <a:lnTo>
                        <a:pt x="423" y="3523"/>
                      </a:lnTo>
                      <a:lnTo>
                        <a:pt x="350" y="3512"/>
                      </a:lnTo>
                      <a:lnTo>
                        <a:pt x="277" y="3503"/>
                      </a:lnTo>
                      <a:lnTo>
                        <a:pt x="205" y="3494"/>
                      </a:lnTo>
                      <a:lnTo>
                        <a:pt x="133" y="3485"/>
                      </a:lnTo>
                      <a:lnTo>
                        <a:pt x="61" y="3476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4924440" y="4827600"/>
                  <a:ext cx="533520" cy="660240"/>
                </a:xfrm>
                <a:custGeom>
                  <a:avLst/>
                  <a:gdLst/>
                  <a:ahLst/>
                  <a:rect l="l" t="t" r="r" b="b"/>
                  <a:pathLst>
                    <a:path w="1682" h="2081">
                      <a:moveTo>
                        <a:pt x="767" y="1"/>
                      </a:moveTo>
                      <a:lnTo>
                        <a:pt x="745" y="3"/>
                      </a:lnTo>
                      <a:lnTo>
                        <a:pt x="723" y="5"/>
                      </a:lnTo>
                      <a:lnTo>
                        <a:pt x="702" y="9"/>
                      </a:lnTo>
                      <a:lnTo>
                        <a:pt x="681" y="12"/>
                      </a:lnTo>
                      <a:lnTo>
                        <a:pt x="660" y="15"/>
                      </a:lnTo>
                      <a:lnTo>
                        <a:pt x="639" y="19"/>
                      </a:lnTo>
                      <a:lnTo>
                        <a:pt x="619" y="24"/>
                      </a:lnTo>
                      <a:lnTo>
                        <a:pt x="600" y="29"/>
                      </a:lnTo>
                      <a:lnTo>
                        <a:pt x="580" y="35"/>
                      </a:lnTo>
                      <a:lnTo>
                        <a:pt x="561" y="42"/>
                      </a:lnTo>
                      <a:lnTo>
                        <a:pt x="541" y="49"/>
                      </a:lnTo>
                      <a:lnTo>
                        <a:pt x="523" y="56"/>
                      </a:lnTo>
                      <a:lnTo>
                        <a:pt x="505" y="65"/>
                      </a:lnTo>
                      <a:lnTo>
                        <a:pt x="486" y="73"/>
                      </a:lnTo>
                      <a:lnTo>
                        <a:pt x="469" y="82"/>
                      </a:lnTo>
                      <a:lnTo>
                        <a:pt x="451" y="92"/>
                      </a:lnTo>
                      <a:lnTo>
                        <a:pt x="433" y="102"/>
                      </a:lnTo>
                      <a:lnTo>
                        <a:pt x="417" y="114"/>
                      </a:lnTo>
                      <a:lnTo>
                        <a:pt x="399" y="125"/>
                      </a:lnTo>
                      <a:lnTo>
                        <a:pt x="383" y="136"/>
                      </a:lnTo>
                      <a:lnTo>
                        <a:pt x="367" y="149"/>
                      </a:lnTo>
                      <a:lnTo>
                        <a:pt x="350" y="162"/>
                      </a:lnTo>
                      <a:lnTo>
                        <a:pt x="335" y="176"/>
                      </a:lnTo>
                      <a:lnTo>
                        <a:pt x="320" y="189"/>
                      </a:lnTo>
                      <a:lnTo>
                        <a:pt x="305" y="204"/>
                      </a:lnTo>
                      <a:lnTo>
                        <a:pt x="289" y="219"/>
                      </a:lnTo>
                      <a:lnTo>
                        <a:pt x="274" y="235"/>
                      </a:lnTo>
                      <a:lnTo>
                        <a:pt x="260" y="251"/>
                      </a:lnTo>
                      <a:lnTo>
                        <a:pt x="245" y="268"/>
                      </a:lnTo>
                      <a:lnTo>
                        <a:pt x="231" y="285"/>
                      </a:lnTo>
                      <a:lnTo>
                        <a:pt x="218" y="302"/>
                      </a:lnTo>
                      <a:lnTo>
                        <a:pt x="203" y="321"/>
                      </a:lnTo>
                      <a:lnTo>
                        <a:pt x="178" y="358"/>
                      </a:lnTo>
                      <a:lnTo>
                        <a:pt x="153" y="396"/>
                      </a:lnTo>
                      <a:lnTo>
                        <a:pt x="131" y="436"/>
                      </a:lnTo>
                      <a:lnTo>
                        <a:pt x="110" y="476"/>
                      </a:lnTo>
                      <a:lnTo>
                        <a:pt x="100" y="496"/>
                      </a:lnTo>
                      <a:lnTo>
                        <a:pt x="91" y="516"/>
                      </a:lnTo>
                      <a:lnTo>
                        <a:pt x="83" y="538"/>
                      </a:lnTo>
                      <a:lnTo>
                        <a:pt x="75" y="559"/>
                      </a:lnTo>
                      <a:lnTo>
                        <a:pt x="67" y="581"/>
                      </a:lnTo>
                      <a:lnTo>
                        <a:pt x="58" y="602"/>
                      </a:lnTo>
                      <a:lnTo>
                        <a:pt x="52" y="624"/>
                      </a:lnTo>
                      <a:lnTo>
                        <a:pt x="45" y="646"/>
                      </a:lnTo>
                      <a:lnTo>
                        <a:pt x="34" y="691"/>
                      </a:lnTo>
                      <a:lnTo>
                        <a:pt x="24" y="737"/>
                      </a:lnTo>
                      <a:lnTo>
                        <a:pt x="16" y="784"/>
                      </a:lnTo>
                      <a:lnTo>
                        <a:pt x="8" y="832"/>
                      </a:lnTo>
                      <a:lnTo>
                        <a:pt x="4" y="880"/>
                      </a:lnTo>
                      <a:lnTo>
                        <a:pt x="1" y="930"/>
                      </a:lnTo>
                      <a:lnTo>
                        <a:pt x="0" y="981"/>
                      </a:lnTo>
                      <a:lnTo>
                        <a:pt x="1" y="1033"/>
                      </a:lnTo>
                      <a:lnTo>
                        <a:pt x="3" y="1085"/>
                      </a:lnTo>
                      <a:lnTo>
                        <a:pt x="8" y="1136"/>
                      </a:lnTo>
                      <a:lnTo>
                        <a:pt x="14" y="1186"/>
                      </a:lnTo>
                      <a:lnTo>
                        <a:pt x="22" y="1236"/>
                      </a:lnTo>
                      <a:lnTo>
                        <a:pt x="32" y="1284"/>
                      </a:lnTo>
                      <a:lnTo>
                        <a:pt x="43" y="1330"/>
                      </a:lnTo>
                      <a:lnTo>
                        <a:pt x="55" y="1377"/>
                      </a:lnTo>
                      <a:lnTo>
                        <a:pt x="71" y="1422"/>
                      </a:lnTo>
                      <a:lnTo>
                        <a:pt x="87" y="1466"/>
                      </a:lnTo>
                      <a:lnTo>
                        <a:pt x="105" y="1510"/>
                      </a:lnTo>
                      <a:lnTo>
                        <a:pt x="125" y="1553"/>
                      </a:lnTo>
                      <a:lnTo>
                        <a:pt x="146" y="1594"/>
                      </a:lnTo>
                      <a:lnTo>
                        <a:pt x="170" y="1634"/>
                      </a:lnTo>
                      <a:lnTo>
                        <a:pt x="194" y="1674"/>
                      </a:lnTo>
                      <a:lnTo>
                        <a:pt x="221" y="1713"/>
                      </a:lnTo>
                      <a:lnTo>
                        <a:pt x="249" y="1751"/>
                      </a:lnTo>
                      <a:lnTo>
                        <a:pt x="264" y="1769"/>
                      </a:lnTo>
                      <a:lnTo>
                        <a:pt x="279" y="1787"/>
                      </a:lnTo>
                      <a:lnTo>
                        <a:pt x="294" y="1805"/>
                      </a:lnTo>
                      <a:lnTo>
                        <a:pt x="310" y="1822"/>
                      </a:lnTo>
                      <a:lnTo>
                        <a:pt x="325" y="1838"/>
                      </a:lnTo>
                      <a:lnTo>
                        <a:pt x="341" y="1855"/>
                      </a:lnTo>
                      <a:lnTo>
                        <a:pt x="358" y="1870"/>
                      </a:lnTo>
                      <a:lnTo>
                        <a:pt x="374" y="1884"/>
                      </a:lnTo>
                      <a:lnTo>
                        <a:pt x="390" y="1899"/>
                      </a:lnTo>
                      <a:lnTo>
                        <a:pt x="408" y="1913"/>
                      </a:lnTo>
                      <a:lnTo>
                        <a:pt x="425" y="1926"/>
                      </a:lnTo>
                      <a:lnTo>
                        <a:pt x="442" y="1939"/>
                      </a:lnTo>
                      <a:lnTo>
                        <a:pt x="460" y="1952"/>
                      </a:lnTo>
                      <a:lnTo>
                        <a:pt x="478" y="1963"/>
                      </a:lnTo>
                      <a:lnTo>
                        <a:pt x="495" y="1974"/>
                      </a:lnTo>
                      <a:lnTo>
                        <a:pt x="514" y="1984"/>
                      </a:lnTo>
                      <a:lnTo>
                        <a:pt x="533" y="1994"/>
                      </a:lnTo>
                      <a:lnTo>
                        <a:pt x="552" y="2004"/>
                      </a:lnTo>
                      <a:lnTo>
                        <a:pt x="571" y="2013"/>
                      </a:lnTo>
                      <a:lnTo>
                        <a:pt x="590" y="2021"/>
                      </a:lnTo>
                      <a:lnTo>
                        <a:pt x="610" y="2029"/>
                      </a:lnTo>
                      <a:lnTo>
                        <a:pt x="629" y="2036"/>
                      </a:lnTo>
                      <a:lnTo>
                        <a:pt x="650" y="2043"/>
                      </a:lnTo>
                      <a:lnTo>
                        <a:pt x="670" y="2050"/>
                      </a:lnTo>
                      <a:lnTo>
                        <a:pt x="691" y="2056"/>
                      </a:lnTo>
                      <a:lnTo>
                        <a:pt x="711" y="2061"/>
                      </a:lnTo>
                      <a:lnTo>
                        <a:pt x="732" y="2065"/>
                      </a:lnTo>
                      <a:lnTo>
                        <a:pt x="754" y="2069"/>
                      </a:lnTo>
                      <a:lnTo>
                        <a:pt x="775" y="2072"/>
                      </a:lnTo>
                      <a:lnTo>
                        <a:pt x="798" y="2075"/>
                      </a:lnTo>
                      <a:lnTo>
                        <a:pt x="819" y="2077"/>
                      </a:lnTo>
                      <a:lnTo>
                        <a:pt x="842" y="2079"/>
                      </a:lnTo>
                      <a:lnTo>
                        <a:pt x="864" y="2080"/>
                      </a:lnTo>
                      <a:lnTo>
                        <a:pt x="886" y="2081"/>
                      </a:lnTo>
                      <a:lnTo>
                        <a:pt x="908" y="2081"/>
                      </a:lnTo>
                      <a:lnTo>
                        <a:pt x="930" y="2080"/>
                      </a:lnTo>
                      <a:lnTo>
                        <a:pt x="951" y="2079"/>
                      </a:lnTo>
                      <a:lnTo>
                        <a:pt x="972" y="2077"/>
                      </a:lnTo>
                      <a:lnTo>
                        <a:pt x="994" y="2075"/>
                      </a:lnTo>
                      <a:lnTo>
                        <a:pt x="1014" y="2071"/>
                      </a:lnTo>
                      <a:lnTo>
                        <a:pt x="1036" y="2068"/>
                      </a:lnTo>
                      <a:lnTo>
                        <a:pt x="1056" y="2063"/>
                      </a:lnTo>
                      <a:lnTo>
                        <a:pt x="1077" y="2059"/>
                      </a:lnTo>
                      <a:lnTo>
                        <a:pt x="1096" y="2053"/>
                      </a:lnTo>
                      <a:lnTo>
                        <a:pt x="1116" y="2046"/>
                      </a:lnTo>
                      <a:lnTo>
                        <a:pt x="1136" y="2039"/>
                      </a:lnTo>
                      <a:lnTo>
                        <a:pt x="1155" y="2032"/>
                      </a:lnTo>
                      <a:lnTo>
                        <a:pt x="1175" y="2024"/>
                      </a:lnTo>
                      <a:lnTo>
                        <a:pt x="1194" y="2015"/>
                      </a:lnTo>
                      <a:lnTo>
                        <a:pt x="1212" y="2006"/>
                      </a:lnTo>
                      <a:lnTo>
                        <a:pt x="1231" y="1995"/>
                      </a:lnTo>
                      <a:lnTo>
                        <a:pt x="1249" y="1985"/>
                      </a:lnTo>
                      <a:lnTo>
                        <a:pt x="1268" y="1974"/>
                      </a:lnTo>
                      <a:lnTo>
                        <a:pt x="1286" y="1962"/>
                      </a:lnTo>
                      <a:lnTo>
                        <a:pt x="1303" y="1950"/>
                      </a:lnTo>
                      <a:lnTo>
                        <a:pt x="1321" y="1936"/>
                      </a:lnTo>
                      <a:lnTo>
                        <a:pt x="1338" y="1922"/>
                      </a:lnTo>
                      <a:lnTo>
                        <a:pt x="1355" y="1908"/>
                      </a:lnTo>
                      <a:lnTo>
                        <a:pt x="1372" y="1892"/>
                      </a:lnTo>
                      <a:lnTo>
                        <a:pt x="1388" y="1877"/>
                      </a:lnTo>
                      <a:lnTo>
                        <a:pt x="1404" y="1861"/>
                      </a:lnTo>
                      <a:lnTo>
                        <a:pt x="1421" y="1843"/>
                      </a:lnTo>
                      <a:lnTo>
                        <a:pt x="1436" y="1826"/>
                      </a:lnTo>
                      <a:lnTo>
                        <a:pt x="1452" y="1808"/>
                      </a:lnTo>
                      <a:lnTo>
                        <a:pt x="1468" y="1788"/>
                      </a:lnTo>
                      <a:lnTo>
                        <a:pt x="1482" y="1769"/>
                      </a:lnTo>
                      <a:lnTo>
                        <a:pt x="1496" y="1750"/>
                      </a:lnTo>
                      <a:lnTo>
                        <a:pt x="1510" y="1729"/>
                      </a:lnTo>
                      <a:lnTo>
                        <a:pt x="1523" y="1709"/>
                      </a:lnTo>
                      <a:lnTo>
                        <a:pt x="1536" y="1688"/>
                      </a:lnTo>
                      <a:lnTo>
                        <a:pt x="1547" y="1668"/>
                      </a:lnTo>
                      <a:lnTo>
                        <a:pt x="1560" y="1647"/>
                      </a:lnTo>
                      <a:lnTo>
                        <a:pt x="1571" y="1624"/>
                      </a:lnTo>
                      <a:lnTo>
                        <a:pt x="1581" y="1603"/>
                      </a:lnTo>
                      <a:lnTo>
                        <a:pt x="1591" y="1580"/>
                      </a:lnTo>
                      <a:lnTo>
                        <a:pt x="1600" y="1558"/>
                      </a:lnTo>
                      <a:lnTo>
                        <a:pt x="1610" y="1534"/>
                      </a:lnTo>
                      <a:lnTo>
                        <a:pt x="1618" y="1512"/>
                      </a:lnTo>
                      <a:lnTo>
                        <a:pt x="1626" y="1489"/>
                      </a:lnTo>
                      <a:lnTo>
                        <a:pt x="1633" y="1464"/>
                      </a:lnTo>
                      <a:lnTo>
                        <a:pt x="1640" y="1440"/>
                      </a:lnTo>
                      <a:lnTo>
                        <a:pt x="1646" y="1415"/>
                      </a:lnTo>
                      <a:lnTo>
                        <a:pt x="1652" y="1391"/>
                      </a:lnTo>
                      <a:lnTo>
                        <a:pt x="1658" y="1365"/>
                      </a:lnTo>
                      <a:lnTo>
                        <a:pt x="1662" y="1341"/>
                      </a:lnTo>
                      <a:lnTo>
                        <a:pt x="1667" y="1314"/>
                      </a:lnTo>
                      <a:lnTo>
                        <a:pt x="1670" y="1289"/>
                      </a:lnTo>
                      <a:lnTo>
                        <a:pt x="1673" y="1262"/>
                      </a:lnTo>
                      <a:lnTo>
                        <a:pt x="1676" y="1236"/>
                      </a:lnTo>
                      <a:lnTo>
                        <a:pt x="1678" y="1208"/>
                      </a:lnTo>
                      <a:lnTo>
                        <a:pt x="1680" y="1182"/>
                      </a:lnTo>
                      <a:lnTo>
                        <a:pt x="1681" y="1154"/>
                      </a:lnTo>
                      <a:lnTo>
                        <a:pt x="1682" y="1098"/>
                      </a:lnTo>
                      <a:lnTo>
                        <a:pt x="1680" y="1041"/>
                      </a:lnTo>
                      <a:lnTo>
                        <a:pt x="1677" y="984"/>
                      </a:lnTo>
                      <a:lnTo>
                        <a:pt x="1672" y="928"/>
                      </a:lnTo>
                      <a:lnTo>
                        <a:pt x="1665" y="873"/>
                      </a:lnTo>
                      <a:lnTo>
                        <a:pt x="1656" y="820"/>
                      </a:lnTo>
                      <a:lnTo>
                        <a:pt x="1650" y="794"/>
                      </a:lnTo>
                      <a:lnTo>
                        <a:pt x="1644" y="768"/>
                      </a:lnTo>
                      <a:lnTo>
                        <a:pt x="1638" y="743"/>
                      </a:lnTo>
                      <a:lnTo>
                        <a:pt x="1631" y="717"/>
                      </a:lnTo>
                      <a:lnTo>
                        <a:pt x="1624" y="693"/>
                      </a:lnTo>
                      <a:lnTo>
                        <a:pt x="1617" y="667"/>
                      </a:lnTo>
                      <a:lnTo>
                        <a:pt x="1609" y="644"/>
                      </a:lnTo>
                      <a:lnTo>
                        <a:pt x="1599" y="619"/>
                      </a:lnTo>
                      <a:lnTo>
                        <a:pt x="1590" y="596"/>
                      </a:lnTo>
                      <a:lnTo>
                        <a:pt x="1580" y="573"/>
                      </a:lnTo>
                      <a:lnTo>
                        <a:pt x="1570" y="549"/>
                      </a:lnTo>
                      <a:lnTo>
                        <a:pt x="1560" y="527"/>
                      </a:lnTo>
                      <a:lnTo>
                        <a:pt x="1548" y="504"/>
                      </a:lnTo>
                      <a:lnTo>
                        <a:pt x="1537" y="482"/>
                      </a:lnTo>
                      <a:lnTo>
                        <a:pt x="1525" y="459"/>
                      </a:lnTo>
                      <a:lnTo>
                        <a:pt x="1512" y="438"/>
                      </a:lnTo>
                      <a:lnTo>
                        <a:pt x="1498" y="417"/>
                      </a:lnTo>
                      <a:lnTo>
                        <a:pt x="1485" y="396"/>
                      </a:lnTo>
                      <a:lnTo>
                        <a:pt x="1471" y="375"/>
                      </a:lnTo>
                      <a:lnTo>
                        <a:pt x="1456" y="354"/>
                      </a:lnTo>
                      <a:lnTo>
                        <a:pt x="1441" y="335"/>
                      </a:lnTo>
                      <a:lnTo>
                        <a:pt x="1426" y="316"/>
                      </a:lnTo>
                      <a:lnTo>
                        <a:pt x="1409" y="296"/>
                      </a:lnTo>
                      <a:lnTo>
                        <a:pt x="1392" y="277"/>
                      </a:lnTo>
                      <a:lnTo>
                        <a:pt x="1376" y="258"/>
                      </a:lnTo>
                      <a:lnTo>
                        <a:pt x="1358" y="241"/>
                      </a:lnTo>
                      <a:lnTo>
                        <a:pt x="1342" y="224"/>
                      </a:lnTo>
                      <a:lnTo>
                        <a:pt x="1325" y="207"/>
                      </a:lnTo>
                      <a:lnTo>
                        <a:pt x="1306" y="192"/>
                      </a:lnTo>
                      <a:lnTo>
                        <a:pt x="1289" y="177"/>
                      </a:lnTo>
                      <a:lnTo>
                        <a:pt x="1272" y="163"/>
                      </a:lnTo>
                      <a:lnTo>
                        <a:pt x="1253" y="148"/>
                      </a:lnTo>
                      <a:lnTo>
                        <a:pt x="1235" y="135"/>
                      </a:lnTo>
                      <a:lnTo>
                        <a:pt x="1216" y="123"/>
                      </a:lnTo>
                      <a:lnTo>
                        <a:pt x="1198" y="111"/>
                      </a:lnTo>
                      <a:lnTo>
                        <a:pt x="1179" y="99"/>
                      </a:lnTo>
                      <a:lnTo>
                        <a:pt x="1159" y="89"/>
                      </a:lnTo>
                      <a:lnTo>
                        <a:pt x="1141" y="79"/>
                      </a:lnTo>
                      <a:lnTo>
                        <a:pt x="1121" y="69"/>
                      </a:lnTo>
                      <a:lnTo>
                        <a:pt x="1102" y="61"/>
                      </a:lnTo>
                      <a:lnTo>
                        <a:pt x="1082" y="51"/>
                      </a:lnTo>
                      <a:lnTo>
                        <a:pt x="1062" y="44"/>
                      </a:lnTo>
                      <a:lnTo>
                        <a:pt x="1042" y="37"/>
                      </a:lnTo>
                      <a:lnTo>
                        <a:pt x="1021" y="31"/>
                      </a:lnTo>
                      <a:lnTo>
                        <a:pt x="1001" y="25"/>
                      </a:lnTo>
                      <a:lnTo>
                        <a:pt x="981" y="20"/>
                      </a:lnTo>
                      <a:lnTo>
                        <a:pt x="960" y="16"/>
                      </a:lnTo>
                      <a:lnTo>
                        <a:pt x="939" y="12"/>
                      </a:lnTo>
                      <a:lnTo>
                        <a:pt x="918" y="9"/>
                      </a:lnTo>
                      <a:lnTo>
                        <a:pt x="897" y="5"/>
                      </a:lnTo>
                      <a:lnTo>
                        <a:pt x="875" y="3"/>
                      </a:lnTo>
                      <a:lnTo>
                        <a:pt x="854" y="1"/>
                      </a:lnTo>
                      <a:lnTo>
                        <a:pt x="832" y="1"/>
                      </a:lnTo>
                      <a:lnTo>
                        <a:pt x="811" y="0"/>
                      </a:lnTo>
                      <a:lnTo>
                        <a:pt x="789" y="1"/>
                      </a:lnTo>
                      <a:lnTo>
                        <a:pt x="767" y="1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4665600" y="4459320"/>
                  <a:ext cx="1147680" cy="1411200"/>
                </a:xfrm>
                <a:custGeom>
                  <a:avLst/>
                  <a:gdLst/>
                  <a:ahLst/>
                  <a:rect l="l" t="t" r="r" b="b"/>
                  <a:pathLst>
                    <a:path w="3616" h="4444">
                      <a:moveTo>
                        <a:pt x="1535" y="12"/>
                      </a:moveTo>
                      <a:lnTo>
                        <a:pt x="1577" y="8"/>
                      </a:lnTo>
                      <a:lnTo>
                        <a:pt x="1619" y="4"/>
                      </a:lnTo>
                      <a:lnTo>
                        <a:pt x="1660" y="2"/>
                      </a:lnTo>
                      <a:lnTo>
                        <a:pt x="1702" y="1"/>
                      </a:lnTo>
                      <a:lnTo>
                        <a:pt x="1742" y="0"/>
                      </a:lnTo>
                      <a:lnTo>
                        <a:pt x="1784" y="1"/>
                      </a:lnTo>
                      <a:lnTo>
                        <a:pt x="1825" y="3"/>
                      </a:lnTo>
                      <a:lnTo>
                        <a:pt x="1866" y="6"/>
                      </a:lnTo>
                      <a:lnTo>
                        <a:pt x="1907" y="10"/>
                      </a:lnTo>
                      <a:lnTo>
                        <a:pt x="1948" y="15"/>
                      </a:lnTo>
                      <a:lnTo>
                        <a:pt x="1989" y="21"/>
                      </a:lnTo>
                      <a:lnTo>
                        <a:pt x="2029" y="28"/>
                      </a:lnTo>
                      <a:lnTo>
                        <a:pt x="2070" y="36"/>
                      </a:lnTo>
                      <a:lnTo>
                        <a:pt x="2111" y="47"/>
                      </a:lnTo>
                      <a:lnTo>
                        <a:pt x="2151" y="57"/>
                      </a:lnTo>
                      <a:lnTo>
                        <a:pt x="2192" y="69"/>
                      </a:lnTo>
                      <a:lnTo>
                        <a:pt x="2232" y="82"/>
                      </a:lnTo>
                      <a:lnTo>
                        <a:pt x="2271" y="97"/>
                      </a:lnTo>
                      <a:lnTo>
                        <a:pt x="2311" y="111"/>
                      </a:lnTo>
                      <a:lnTo>
                        <a:pt x="2350" y="127"/>
                      </a:lnTo>
                      <a:lnTo>
                        <a:pt x="2389" y="144"/>
                      </a:lnTo>
                      <a:lnTo>
                        <a:pt x="2428" y="164"/>
                      </a:lnTo>
                      <a:lnTo>
                        <a:pt x="2465" y="183"/>
                      </a:lnTo>
                      <a:lnTo>
                        <a:pt x="2503" y="204"/>
                      </a:lnTo>
                      <a:lnTo>
                        <a:pt x="2541" y="225"/>
                      </a:lnTo>
                      <a:lnTo>
                        <a:pt x="2578" y="249"/>
                      </a:lnTo>
                      <a:lnTo>
                        <a:pt x="2614" y="272"/>
                      </a:lnTo>
                      <a:lnTo>
                        <a:pt x="2650" y="297"/>
                      </a:lnTo>
                      <a:lnTo>
                        <a:pt x="2685" y="323"/>
                      </a:lnTo>
                      <a:lnTo>
                        <a:pt x="2720" y="351"/>
                      </a:lnTo>
                      <a:lnTo>
                        <a:pt x="2755" y="379"/>
                      </a:lnTo>
                      <a:lnTo>
                        <a:pt x="2788" y="408"/>
                      </a:lnTo>
                      <a:lnTo>
                        <a:pt x="2833" y="448"/>
                      </a:lnTo>
                      <a:lnTo>
                        <a:pt x="2876" y="490"/>
                      </a:lnTo>
                      <a:lnTo>
                        <a:pt x="2919" y="533"/>
                      </a:lnTo>
                      <a:lnTo>
                        <a:pt x="2960" y="577"/>
                      </a:lnTo>
                      <a:lnTo>
                        <a:pt x="3001" y="622"/>
                      </a:lnTo>
                      <a:lnTo>
                        <a:pt x="3039" y="668"/>
                      </a:lnTo>
                      <a:lnTo>
                        <a:pt x="3078" y="716"/>
                      </a:lnTo>
                      <a:lnTo>
                        <a:pt x="3115" y="764"/>
                      </a:lnTo>
                      <a:lnTo>
                        <a:pt x="3151" y="813"/>
                      </a:lnTo>
                      <a:lnTo>
                        <a:pt x="3185" y="864"/>
                      </a:lnTo>
                      <a:lnTo>
                        <a:pt x="3219" y="916"/>
                      </a:lnTo>
                      <a:lnTo>
                        <a:pt x="3252" y="969"/>
                      </a:lnTo>
                      <a:lnTo>
                        <a:pt x="3283" y="1023"/>
                      </a:lnTo>
                      <a:lnTo>
                        <a:pt x="3313" y="1078"/>
                      </a:lnTo>
                      <a:lnTo>
                        <a:pt x="3343" y="1134"/>
                      </a:lnTo>
                      <a:lnTo>
                        <a:pt x="3370" y="1191"/>
                      </a:lnTo>
                      <a:lnTo>
                        <a:pt x="3397" y="1250"/>
                      </a:lnTo>
                      <a:lnTo>
                        <a:pt x="3422" y="1310"/>
                      </a:lnTo>
                      <a:lnTo>
                        <a:pt x="3446" y="1371"/>
                      </a:lnTo>
                      <a:lnTo>
                        <a:pt x="3467" y="1432"/>
                      </a:lnTo>
                      <a:lnTo>
                        <a:pt x="3488" y="1493"/>
                      </a:lnTo>
                      <a:lnTo>
                        <a:pt x="3507" y="1555"/>
                      </a:lnTo>
                      <a:lnTo>
                        <a:pt x="3525" y="1618"/>
                      </a:lnTo>
                      <a:lnTo>
                        <a:pt x="3541" y="1681"/>
                      </a:lnTo>
                      <a:lnTo>
                        <a:pt x="3555" y="1745"/>
                      </a:lnTo>
                      <a:lnTo>
                        <a:pt x="3568" y="1809"/>
                      </a:lnTo>
                      <a:lnTo>
                        <a:pt x="3580" y="1874"/>
                      </a:lnTo>
                      <a:lnTo>
                        <a:pt x="3589" y="1939"/>
                      </a:lnTo>
                      <a:lnTo>
                        <a:pt x="3597" y="2005"/>
                      </a:lnTo>
                      <a:lnTo>
                        <a:pt x="3604" y="2071"/>
                      </a:lnTo>
                      <a:lnTo>
                        <a:pt x="3609" y="2138"/>
                      </a:lnTo>
                      <a:lnTo>
                        <a:pt x="3613" y="2205"/>
                      </a:lnTo>
                      <a:lnTo>
                        <a:pt x="3615" y="2272"/>
                      </a:lnTo>
                      <a:lnTo>
                        <a:pt x="3616" y="2340"/>
                      </a:lnTo>
                      <a:lnTo>
                        <a:pt x="3615" y="2407"/>
                      </a:lnTo>
                      <a:lnTo>
                        <a:pt x="3612" y="2472"/>
                      </a:lnTo>
                      <a:lnTo>
                        <a:pt x="3608" y="2538"/>
                      </a:lnTo>
                      <a:lnTo>
                        <a:pt x="3603" y="2604"/>
                      </a:lnTo>
                      <a:lnTo>
                        <a:pt x="3596" y="2668"/>
                      </a:lnTo>
                      <a:lnTo>
                        <a:pt x="3587" y="2732"/>
                      </a:lnTo>
                      <a:lnTo>
                        <a:pt x="3577" y="2796"/>
                      </a:lnTo>
                      <a:lnTo>
                        <a:pt x="3564" y="2860"/>
                      </a:lnTo>
                      <a:lnTo>
                        <a:pt x="3551" y="2922"/>
                      </a:lnTo>
                      <a:lnTo>
                        <a:pt x="3536" y="2984"/>
                      </a:lnTo>
                      <a:lnTo>
                        <a:pt x="3518" y="3046"/>
                      </a:lnTo>
                      <a:lnTo>
                        <a:pt x="3500" y="3108"/>
                      </a:lnTo>
                      <a:lnTo>
                        <a:pt x="3480" y="3168"/>
                      </a:lnTo>
                      <a:lnTo>
                        <a:pt x="3457" y="3228"/>
                      </a:lnTo>
                      <a:lnTo>
                        <a:pt x="3434" y="3287"/>
                      </a:lnTo>
                      <a:lnTo>
                        <a:pt x="3409" y="3345"/>
                      </a:lnTo>
                      <a:lnTo>
                        <a:pt x="3384" y="3401"/>
                      </a:lnTo>
                      <a:lnTo>
                        <a:pt x="3357" y="3457"/>
                      </a:lnTo>
                      <a:lnTo>
                        <a:pt x="3328" y="3511"/>
                      </a:lnTo>
                      <a:lnTo>
                        <a:pt x="3299" y="3565"/>
                      </a:lnTo>
                      <a:lnTo>
                        <a:pt x="3268" y="3617"/>
                      </a:lnTo>
                      <a:lnTo>
                        <a:pt x="3237" y="3668"/>
                      </a:lnTo>
                      <a:lnTo>
                        <a:pt x="3203" y="3717"/>
                      </a:lnTo>
                      <a:lnTo>
                        <a:pt x="3169" y="3765"/>
                      </a:lnTo>
                      <a:lnTo>
                        <a:pt x="3133" y="3812"/>
                      </a:lnTo>
                      <a:lnTo>
                        <a:pt x="3097" y="3858"/>
                      </a:lnTo>
                      <a:lnTo>
                        <a:pt x="3059" y="3903"/>
                      </a:lnTo>
                      <a:lnTo>
                        <a:pt x="3020" y="3947"/>
                      </a:lnTo>
                      <a:lnTo>
                        <a:pt x="2980" y="3989"/>
                      </a:lnTo>
                      <a:lnTo>
                        <a:pt x="2939" y="4031"/>
                      </a:lnTo>
                      <a:lnTo>
                        <a:pt x="2907" y="4061"/>
                      </a:lnTo>
                      <a:lnTo>
                        <a:pt x="2874" y="4090"/>
                      </a:lnTo>
                      <a:lnTo>
                        <a:pt x="2840" y="4118"/>
                      </a:lnTo>
                      <a:lnTo>
                        <a:pt x="2806" y="4145"/>
                      </a:lnTo>
                      <a:lnTo>
                        <a:pt x="2771" y="4170"/>
                      </a:lnTo>
                      <a:lnTo>
                        <a:pt x="2735" y="4195"/>
                      </a:lnTo>
                      <a:lnTo>
                        <a:pt x="2699" y="4218"/>
                      </a:lnTo>
                      <a:lnTo>
                        <a:pt x="2663" y="4241"/>
                      </a:lnTo>
                      <a:lnTo>
                        <a:pt x="2626" y="4262"/>
                      </a:lnTo>
                      <a:lnTo>
                        <a:pt x="2588" y="4282"/>
                      </a:lnTo>
                      <a:lnTo>
                        <a:pt x="2550" y="4300"/>
                      </a:lnTo>
                      <a:lnTo>
                        <a:pt x="2511" y="4318"/>
                      </a:lnTo>
                      <a:lnTo>
                        <a:pt x="2473" y="4335"/>
                      </a:lnTo>
                      <a:lnTo>
                        <a:pt x="2434" y="4350"/>
                      </a:lnTo>
                      <a:lnTo>
                        <a:pt x="2394" y="4364"/>
                      </a:lnTo>
                      <a:lnTo>
                        <a:pt x="2354" y="4376"/>
                      </a:lnTo>
                      <a:lnTo>
                        <a:pt x="2314" y="4389"/>
                      </a:lnTo>
                      <a:lnTo>
                        <a:pt x="2275" y="4400"/>
                      </a:lnTo>
                      <a:lnTo>
                        <a:pt x="2235" y="4409"/>
                      </a:lnTo>
                      <a:lnTo>
                        <a:pt x="2194" y="4417"/>
                      </a:lnTo>
                      <a:lnTo>
                        <a:pt x="2153" y="4424"/>
                      </a:lnTo>
                      <a:lnTo>
                        <a:pt x="2112" y="4431"/>
                      </a:lnTo>
                      <a:lnTo>
                        <a:pt x="2071" y="4436"/>
                      </a:lnTo>
                      <a:lnTo>
                        <a:pt x="2029" y="4440"/>
                      </a:lnTo>
                      <a:lnTo>
                        <a:pt x="1988" y="4443"/>
                      </a:lnTo>
                      <a:lnTo>
                        <a:pt x="1946" y="4444"/>
                      </a:lnTo>
                      <a:lnTo>
                        <a:pt x="1904" y="4444"/>
                      </a:lnTo>
                      <a:lnTo>
                        <a:pt x="1862" y="4444"/>
                      </a:lnTo>
                      <a:lnTo>
                        <a:pt x="1820" y="4442"/>
                      </a:lnTo>
                      <a:lnTo>
                        <a:pt x="1778" y="4439"/>
                      </a:lnTo>
                      <a:lnTo>
                        <a:pt x="1735" y="4435"/>
                      </a:lnTo>
                      <a:lnTo>
                        <a:pt x="1693" y="4429"/>
                      </a:lnTo>
                      <a:lnTo>
                        <a:pt x="1652" y="4423"/>
                      </a:lnTo>
                      <a:lnTo>
                        <a:pt x="1611" y="4416"/>
                      </a:lnTo>
                      <a:lnTo>
                        <a:pt x="1570" y="4408"/>
                      </a:lnTo>
                      <a:lnTo>
                        <a:pt x="1530" y="4399"/>
                      </a:lnTo>
                      <a:lnTo>
                        <a:pt x="1489" y="4389"/>
                      </a:lnTo>
                      <a:lnTo>
                        <a:pt x="1450" y="4377"/>
                      </a:lnTo>
                      <a:lnTo>
                        <a:pt x="1411" y="4365"/>
                      </a:lnTo>
                      <a:lnTo>
                        <a:pt x="1372" y="4353"/>
                      </a:lnTo>
                      <a:lnTo>
                        <a:pt x="1334" y="4339"/>
                      </a:lnTo>
                      <a:lnTo>
                        <a:pt x="1295" y="4323"/>
                      </a:lnTo>
                      <a:lnTo>
                        <a:pt x="1257" y="4308"/>
                      </a:lnTo>
                      <a:lnTo>
                        <a:pt x="1221" y="4291"/>
                      </a:lnTo>
                      <a:lnTo>
                        <a:pt x="1184" y="4273"/>
                      </a:lnTo>
                      <a:lnTo>
                        <a:pt x="1147" y="4254"/>
                      </a:lnTo>
                      <a:lnTo>
                        <a:pt x="1110" y="4235"/>
                      </a:lnTo>
                      <a:lnTo>
                        <a:pt x="1075" y="4214"/>
                      </a:lnTo>
                      <a:lnTo>
                        <a:pt x="1039" y="4193"/>
                      </a:lnTo>
                      <a:lnTo>
                        <a:pt x="1005" y="4171"/>
                      </a:lnTo>
                      <a:lnTo>
                        <a:pt x="970" y="4148"/>
                      </a:lnTo>
                      <a:lnTo>
                        <a:pt x="938" y="4125"/>
                      </a:lnTo>
                      <a:lnTo>
                        <a:pt x="904" y="4101"/>
                      </a:lnTo>
                      <a:lnTo>
                        <a:pt x="872" y="4076"/>
                      </a:lnTo>
                      <a:lnTo>
                        <a:pt x="841" y="4050"/>
                      </a:lnTo>
                      <a:lnTo>
                        <a:pt x="809" y="4024"/>
                      </a:lnTo>
                      <a:lnTo>
                        <a:pt x="778" y="3996"/>
                      </a:lnTo>
                      <a:lnTo>
                        <a:pt x="748" y="3968"/>
                      </a:lnTo>
                      <a:lnTo>
                        <a:pt x="718" y="3940"/>
                      </a:lnTo>
                      <a:lnTo>
                        <a:pt x="690" y="3910"/>
                      </a:lnTo>
                      <a:lnTo>
                        <a:pt x="661" y="3880"/>
                      </a:lnTo>
                      <a:lnTo>
                        <a:pt x="632" y="3849"/>
                      </a:lnTo>
                      <a:lnTo>
                        <a:pt x="605" y="3817"/>
                      </a:lnTo>
                      <a:lnTo>
                        <a:pt x="578" y="3785"/>
                      </a:lnTo>
                      <a:lnTo>
                        <a:pt x="545" y="3742"/>
                      </a:lnTo>
                      <a:lnTo>
                        <a:pt x="512" y="3699"/>
                      </a:lnTo>
                      <a:lnTo>
                        <a:pt x="480" y="3656"/>
                      </a:lnTo>
                      <a:lnTo>
                        <a:pt x="450" y="3612"/>
                      </a:lnTo>
                      <a:lnTo>
                        <a:pt x="420" y="3568"/>
                      </a:lnTo>
                      <a:lnTo>
                        <a:pt x="391" y="3523"/>
                      </a:lnTo>
                      <a:lnTo>
                        <a:pt x="364" y="3477"/>
                      </a:lnTo>
                      <a:lnTo>
                        <a:pt x="337" y="3431"/>
                      </a:lnTo>
                      <a:lnTo>
                        <a:pt x="311" y="3383"/>
                      </a:lnTo>
                      <a:lnTo>
                        <a:pt x="286" y="3336"/>
                      </a:lnTo>
                      <a:lnTo>
                        <a:pt x="263" y="3287"/>
                      </a:lnTo>
                      <a:lnTo>
                        <a:pt x="240" y="3238"/>
                      </a:lnTo>
                      <a:lnTo>
                        <a:pt x="219" y="3189"/>
                      </a:lnTo>
                      <a:lnTo>
                        <a:pt x="197" y="3139"/>
                      </a:lnTo>
                      <a:lnTo>
                        <a:pt x="178" y="3088"/>
                      </a:lnTo>
                      <a:lnTo>
                        <a:pt x="160" y="3036"/>
                      </a:lnTo>
                      <a:lnTo>
                        <a:pt x="142" y="2985"/>
                      </a:lnTo>
                      <a:lnTo>
                        <a:pt x="125" y="2934"/>
                      </a:lnTo>
                      <a:lnTo>
                        <a:pt x="110" y="2882"/>
                      </a:lnTo>
                      <a:lnTo>
                        <a:pt x="95" y="2830"/>
                      </a:lnTo>
                      <a:lnTo>
                        <a:pt x="82" y="2778"/>
                      </a:lnTo>
                      <a:lnTo>
                        <a:pt x="69" y="2726"/>
                      </a:lnTo>
                      <a:lnTo>
                        <a:pt x="57" y="2673"/>
                      </a:lnTo>
                      <a:lnTo>
                        <a:pt x="47" y="2620"/>
                      </a:lnTo>
                      <a:lnTo>
                        <a:pt x="38" y="2567"/>
                      </a:lnTo>
                      <a:lnTo>
                        <a:pt x="29" y="2514"/>
                      </a:lnTo>
                      <a:lnTo>
                        <a:pt x="22" y="2460"/>
                      </a:lnTo>
                      <a:lnTo>
                        <a:pt x="16" y="2406"/>
                      </a:lnTo>
                      <a:lnTo>
                        <a:pt x="10" y="2352"/>
                      </a:lnTo>
                      <a:lnTo>
                        <a:pt x="6" y="2298"/>
                      </a:lnTo>
                      <a:lnTo>
                        <a:pt x="3" y="2243"/>
                      </a:lnTo>
                      <a:lnTo>
                        <a:pt x="1" y="2188"/>
                      </a:lnTo>
                      <a:lnTo>
                        <a:pt x="0" y="2132"/>
                      </a:lnTo>
                      <a:lnTo>
                        <a:pt x="0" y="2078"/>
                      </a:lnTo>
                      <a:lnTo>
                        <a:pt x="1" y="2024"/>
                      </a:lnTo>
                      <a:lnTo>
                        <a:pt x="3" y="1970"/>
                      </a:lnTo>
                      <a:lnTo>
                        <a:pt x="6" y="1917"/>
                      </a:lnTo>
                      <a:lnTo>
                        <a:pt x="10" y="1863"/>
                      </a:lnTo>
                      <a:lnTo>
                        <a:pt x="16" y="1811"/>
                      </a:lnTo>
                      <a:lnTo>
                        <a:pt x="23" y="1758"/>
                      </a:lnTo>
                      <a:lnTo>
                        <a:pt x="30" y="1706"/>
                      </a:lnTo>
                      <a:lnTo>
                        <a:pt x="38" y="1654"/>
                      </a:lnTo>
                      <a:lnTo>
                        <a:pt x="47" y="1602"/>
                      </a:lnTo>
                      <a:lnTo>
                        <a:pt x="57" y="1551"/>
                      </a:lnTo>
                      <a:lnTo>
                        <a:pt x="69" y="1500"/>
                      </a:lnTo>
                      <a:lnTo>
                        <a:pt x="82" y="1449"/>
                      </a:lnTo>
                      <a:lnTo>
                        <a:pt x="95" y="1399"/>
                      </a:lnTo>
                      <a:lnTo>
                        <a:pt x="110" y="1349"/>
                      </a:lnTo>
                      <a:lnTo>
                        <a:pt x="125" y="1299"/>
                      </a:lnTo>
                      <a:lnTo>
                        <a:pt x="141" y="1250"/>
                      </a:lnTo>
                      <a:lnTo>
                        <a:pt x="159" y="1201"/>
                      </a:lnTo>
                      <a:lnTo>
                        <a:pt x="178" y="1153"/>
                      </a:lnTo>
                      <a:lnTo>
                        <a:pt x="197" y="1106"/>
                      </a:lnTo>
                      <a:lnTo>
                        <a:pt x="218" y="1059"/>
                      </a:lnTo>
                      <a:lnTo>
                        <a:pt x="239" y="1014"/>
                      </a:lnTo>
                      <a:lnTo>
                        <a:pt x="263" y="968"/>
                      </a:lnTo>
                      <a:lnTo>
                        <a:pt x="286" y="923"/>
                      </a:lnTo>
                      <a:lnTo>
                        <a:pt x="311" y="879"/>
                      </a:lnTo>
                      <a:lnTo>
                        <a:pt x="336" y="835"/>
                      </a:lnTo>
                      <a:lnTo>
                        <a:pt x="364" y="792"/>
                      </a:lnTo>
                      <a:lnTo>
                        <a:pt x="391" y="749"/>
                      </a:lnTo>
                      <a:lnTo>
                        <a:pt x="420" y="708"/>
                      </a:lnTo>
                      <a:lnTo>
                        <a:pt x="450" y="667"/>
                      </a:lnTo>
                      <a:lnTo>
                        <a:pt x="481" y="625"/>
                      </a:lnTo>
                      <a:lnTo>
                        <a:pt x="506" y="594"/>
                      </a:lnTo>
                      <a:lnTo>
                        <a:pt x="531" y="564"/>
                      </a:lnTo>
                      <a:lnTo>
                        <a:pt x="557" y="533"/>
                      </a:lnTo>
                      <a:lnTo>
                        <a:pt x="583" y="505"/>
                      </a:lnTo>
                      <a:lnTo>
                        <a:pt x="610" y="476"/>
                      </a:lnTo>
                      <a:lnTo>
                        <a:pt x="637" y="448"/>
                      </a:lnTo>
                      <a:lnTo>
                        <a:pt x="665" y="421"/>
                      </a:lnTo>
                      <a:lnTo>
                        <a:pt x="694" y="394"/>
                      </a:lnTo>
                      <a:lnTo>
                        <a:pt x="722" y="370"/>
                      </a:lnTo>
                      <a:lnTo>
                        <a:pt x="752" y="344"/>
                      </a:lnTo>
                      <a:lnTo>
                        <a:pt x="783" y="321"/>
                      </a:lnTo>
                      <a:lnTo>
                        <a:pt x="813" y="297"/>
                      </a:lnTo>
                      <a:lnTo>
                        <a:pt x="845" y="275"/>
                      </a:lnTo>
                      <a:lnTo>
                        <a:pt x="876" y="254"/>
                      </a:lnTo>
                      <a:lnTo>
                        <a:pt x="909" y="233"/>
                      </a:lnTo>
                      <a:lnTo>
                        <a:pt x="943" y="213"/>
                      </a:lnTo>
                      <a:lnTo>
                        <a:pt x="977" y="193"/>
                      </a:lnTo>
                      <a:lnTo>
                        <a:pt x="1011" y="175"/>
                      </a:lnTo>
                      <a:lnTo>
                        <a:pt x="1046" y="158"/>
                      </a:lnTo>
                      <a:lnTo>
                        <a:pt x="1081" y="140"/>
                      </a:lnTo>
                      <a:lnTo>
                        <a:pt x="1116" y="125"/>
                      </a:lnTo>
                      <a:lnTo>
                        <a:pt x="1152" y="110"/>
                      </a:lnTo>
                      <a:lnTo>
                        <a:pt x="1189" y="97"/>
                      </a:lnTo>
                      <a:lnTo>
                        <a:pt x="1226" y="83"/>
                      </a:lnTo>
                      <a:lnTo>
                        <a:pt x="1264" y="71"/>
                      </a:lnTo>
                      <a:lnTo>
                        <a:pt x="1301" y="60"/>
                      </a:lnTo>
                      <a:lnTo>
                        <a:pt x="1339" y="50"/>
                      </a:lnTo>
                      <a:lnTo>
                        <a:pt x="1378" y="40"/>
                      </a:lnTo>
                      <a:lnTo>
                        <a:pt x="1417" y="32"/>
                      </a:lnTo>
                      <a:lnTo>
                        <a:pt x="1455" y="24"/>
                      </a:lnTo>
                      <a:lnTo>
                        <a:pt x="1495" y="18"/>
                      </a:lnTo>
                      <a:lnTo>
                        <a:pt x="1535" y="12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035760" y="5538960"/>
                  <a:ext cx="399960" cy="448920"/>
                </a:xfrm>
                <a:custGeom>
                  <a:avLst/>
                  <a:gdLst/>
                  <a:ahLst/>
                  <a:rect l="l" t="t" r="r" b="b"/>
                  <a:pathLst>
                    <a:path w="1263" h="1417">
                      <a:moveTo>
                        <a:pt x="59" y="1262"/>
                      </a:moveTo>
                      <a:lnTo>
                        <a:pt x="52" y="1104"/>
                      </a:lnTo>
                      <a:lnTo>
                        <a:pt x="45" y="946"/>
                      </a:lnTo>
                      <a:lnTo>
                        <a:pt x="37" y="789"/>
                      </a:lnTo>
                      <a:lnTo>
                        <a:pt x="30" y="631"/>
                      </a:lnTo>
                      <a:lnTo>
                        <a:pt x="22" y="473"/>
                      </a:lnTo>
                      <a:lnTo>
                        <a:pt x="14" y="315"/>
                      </a:lnTo>
                      <a:lnTo>
                        <a:pt x="7" y="158"/>
                      </a:lnTo>
                      <a:lnTo>
                        <a:pt x="0" y="0"/>
                      </a:lnTo>
                      <a:lnTo>
                        <a:pt x="142" y="9"/>
                      </a:lnTo>
                      <a:lnTo>
                        <a:pt x="287" y="20"/>
                      </a:lnTo>
                      <a:lnTo>
                        <a:pt x="434" y="29"/>
                      </a:lnTo>
                      <a:lnTo>
                        <a:pt x="583" y="39"/>
                      </a:lnTo>
                      <a:lnTo>
                        <a:pt x="734" y="48"/>
                      </a:lnTo>
                      <a:lnTo>
                        <a:pt x="886" y="58"/>
                      </a:lnTo>
                      <a:lnTo>
                        <a:pt x="1040" y="69"/>
                      </a:lnTo>
                      <a:lnTo>
                        <a:pt x="1193" y="78"/>
                      </a:lnTo>
                      <a:lnTo>
                        <a:pt x="1202" y="245"/>
                      </a:lnTo>
                      <a:lnTo>
                        <a:pt x="1210" y="412"/>
                      </a:lnTo>
                      <a:lnTo>
                        <a:pt x="1219" y="580"/>
                      </a:lnTo>
                      <a:lnTo>
                        <a:pt x="1227" y="747"/>
                      </a:lnTo>
                      <a:lnTo>
                        <a:pt x="1237" y="914"/>
                      </a:lnTo>
                      <a:lnTo>
                        <a:pt x="1245" y="1081"/>
                      </a:lnTo>
                      <a:lnTo>
                        <a:pt x="1254" y="1250"/>
                      </a:lnTo>
                      <a:lnTo>
                        <a:pt x="1263" y="1417"/>
                      </a:lnTo>
                      <a:lnTo>
                        <a:pt x="1108" y="1398"/>
                      </a:lnTo>
                      <a:lnTo>
                        <a:pt x="954" y="1377"/>
                      </a:lnTo>
                      <a:lnTo>
                        <a:pt x="801" y="1358"/>
                      </a:lnTo>
                      <a:lnTo>
                        <a:pt x="648" y="1339"/>
                      </a:lnTo>
                      <a:lnTo>
                        <a:pt x="498" y="1319"/>
                      </a:lnTo>
                      <a:lnTo>
                        <a:pt x="349" y="1300"/>
                      </a:lnTo>
                      <a:lnTo>
                        <a:pt x="203" y="1281"/>
                      </a:lnTo>
                      <a:lnTo>
                        <a:pt x="59" y="1262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5981760" y="4356000"/>
                  <a:ext cx="426960" cy="1109880"/>
                </a:xfrm>
                <a:custGeom>
                  <a:avLst/>
                  <a:gdLst/>
                  <a:ahLst/>
                  <a:rect l="l" t="t" r="r" b="b"/>
                  <a:pathLst>
                    <a:path w="1346" h="3495">
                      <a:moveTo>
                        <a:pt x="156" y="3435"/>
                      </a:moveTo>
                      <a:lnTo>
                        <a:pt x="145" y="3226"/>
                      </a:lnTo>
                      <a:lnTo>
                        <a:pt x="136" y="3017"/>
                      </a:lnTo>
                      <a:lnTo>
                        <a:pt x="126" y="2810"/>
                      </a:lnTo>
                      <a:lnTo>
                        <a:pt x="116" y="2602"/>
                      </a:lnTo>
                      <a:lnTo>
                        <a:pt x="107" y="2395"/>
                      </a:lnTo>
                      <a:lnTo>
                        <a:pt x="96" y="2187"/>
                      </a:lnTo>
                      <a:lnTo>
                        <a:pt x="87" y="1980"/>
                      </a:lnTo>
                      <a:lnTo>
                        <a:pt x="77" y="1774"/>
                      </a:lnTo>
                      <a:lnTo>
                        <a:pt x="68" y="1568"/>
                      </a:lnTo>
                      <a:lnTo>
                        <a:pt x="58" y="1363"/>
                      </a:lnTo>
                      <a:lnTo>
                        <a:pt x="48" y="1158"/>
                      </a:lnTo>
                      <a:lnTo>
                        <a:pt x="38" y="954"/>
                      </a:lnTo>
                      <a:lnTo>
                        <a:pt x="29" y="749"/>
                      </a:lnTo>
                      <a:lnTo>
                        <a:pt x="19" y="545"/>
                      </a:lnTo>
                      <a:lnTo>
                        <a:pt x="10" y="341"/>
                      </a:lnTo>
                      <a:lnTo>
                        <a:pt x="0" y="137"/>
                      </a:lnTo>
                      <a:lnTo>
                        <a:pt x="139" y="121"/>
                      </a:lnTo>
                      <a:lnTo>
                        <a:pt x="280" y="104"/>
                      </a:lnTo>
                      <a:lnTo>
                        <a:pt x="424" y="87"/>
                      </a:lnTo>
                      <a:lnTo>
                        <a:pt x="570" y="71"/>
                      </a:lnTo>
                      <a:lnTo>
                        <a:pt x="716" y="53"/>
                      </a:lnTo>
                      <a:lnTo>
                        <a:pt x="865" y="35"/>
                      </a:lnTo>
                      <a:lnTo>
                        <a:pt x="1014" y="18"/>
                      </a:lnTo>
                      <a:lnTo>
                        <a:pt x="1164" y="0"/>
                      </a:lnTo>
                      <a:lnTo>
                        <a:pt x="1175" y="216"/>
                      </a:lnTo>
                      <a:lnTo>
                        <a:pt x="1186" y="432"/>
                      </a:lnTo>
                      <a:lnTo>
                        <a:pt x="1198" y="648"/>
                      </a:lnTo>
                      <a:lnTo>
                        <a:pt x="1210" y="865"/>
                      </a:lnTo>
                      <a:lnTo>
                        <a:pt x="1221" y="1083"/>
                      </a:lnTo>
                      <a:lnTo>
                        <a:pt x="1232" y="1299"/>
                      </a:lnTo>
                      <a:lnTo>
                        <a:pt x="1243" y="1517"/>
                      </a:lnTo>
                      <a:lnTo>
                        <a:pt x="1254" y="1734"/>
                      </a:lnTo>
                      <a:lnTo>
                        <a:pt x="1266" y="1954"/>
                      </a:lnTo>
                      <a:lnTo>
                        <a:pt x="1278" y="2173"/>
                      </a:lnTo>
                      <a:lnTo>
                        <a:pt x="1289" y="2392"/>
                      </a:lnTo>
                      <a:lnTo>
                        <a:pt x="1300" y="2613"/>
                      </a:lnTo>
                      <a:lnTo>
                        <a:pt x="1312" y="2833"/>
                      </a:lnTo>
                      <a:lnTo>
                        <a:pt x="1324" y="3053"/>
                      </a:lnTo>
                      <a:lnTo>
                        <a:pt x="1335" y="3275"/>
                      </a:lnTo>
                      <a:lnTo>
                        <a:pt x="1346" y="3495"/>
                      </a:lnTo>
                      <a:lnTo>
                        <a:pt x="1193" y="3488"/>
                      </a:lnTo>
                      <a:lnTo>
                        <a:pt x="1041" y="3480"/>
                      </a:lnTo>
                      <a:lnTo>
                        <a:pt x="889" y="3471"/>
                      </a:lnTo>
                      <a:lnTo>
                        <a:pt x="739" y="3464"/>
                      </a:lnTo>
                      <a:lnTo>
                        <a:pt x="590" y="3456"/>
                      </a:lnTo>
                      <a:lnTo>
                        <a:pt x="443" y="3449"/>
                      </a:lnTo>
                      <a:lnTo>
                        <a:pt x="298" y="3442"/>
                      </a:lnTo>
                      <a:lnTo>
                        <a:pt x="156" y="3435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mon 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dom Sen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5" name=""/>
          <p:cNvGrpSpPr/>
          <p:nvPr/>
        </p:nvGrpSpPr>
        <p:grpSpPr>
          <a:xfrm>
            <a:off x="2700360" y="838080"/>
            <a:ext cx="3759120" cy="2279880"/>
            <a:chOff x="2700360" y="838080"/>
            <a:chExt cx="3759120" cy="2279880"/>
          </a:xfrm>
        </p:grpSpPr>
        <p:sp>
          <p:nvSpPr>
            <p:cNvPr id="3166" name=""/>
            <p:cNvSpPr/>
            <p:nvPr/>
          </p:nvSpPr>
          <p:spPr>
            <a:xfrm>
              <a:off x="307188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09" y="937"/>
                  </a:moveTo>
                  <a:lnTo>
                    <a:pt x="602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0" y="947"/>
                  </a:lnTo>
                  <a:lnTo>
                    <a:pt x="552" y="948"/>
                  </a:lnTo>
                  <a:lnTo>
                    <a:pt x="545" y="949"/>
                  </a:lnTo>
                  <a:lnTo>
                    <a:pt x="537" y="950"/>
                  </a:lnTo>
                  <a:lnTo>
                    <a:pt x="529" y="950"/>
                  </a:lnTo>
                  <a:lnTo>
                    <a:pt x="522" y="951"/>
                  </a:lnTo>
                  <a:lnTo>
                    <a:pt x="512" y="951"/>
                  </a:lnTo>
                  <a:lnTo>
                    <a:pt x="504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3" y="944"/>
                  </a:lnTo>
                  <a:lnTo>
                    <a:pt x="358" y="939"/>
                  </a:lnTo>
                  <a:lnTo>
                    <a:pt x="335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8" y="866"/>
                  </a:lnTo>
                  <a:lnTo>
                    <a:pt x="169" y="852"/>
                  </a:lnTo>
                  <a:lnTo>
                    <a:pt x="151" y="838"/>
                  </a:lnTo>
                  <a:lnTo>
                    <a:pt x="135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9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2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8" y="629"/>
                  </a:lnTo>
                  <a:lnTo>
                    <a:pt x="12" y="606"/>
                  </a:lnTo>
                  <a:lnTo>
                    <a:pt x="8" y="583"/>
                  </a:lnTo>
                  <a:lnTo>
                    <a:pt x="4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4" y="407"/>
                  </a:lnTo>
                  <a:lnTo>
                    <a:pt x="8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4" y="249"/>
                  </a:lnTo>
                  <a:lnTo>
                    <a:pt x="65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6" y="172"/>
                  </a:lnTo>
                  <a:lnTo>
                    <a:pt x="122" y="154"/>
                  </a:lnTo>
                  <a:lnTo>
                    <a:pt x="139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4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5" y="43"/>
                  </a:lnTo>
                  <a:lnTo>
                    <a:pt x="298" y="34"/>
                  </a:lnTo>
                  <a:lnTo>
                    <a:pt x="320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6" y="4"/>
                  </a:lnTo>
                  <a:lnTo>
                    <a:pt x="442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7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4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4" y="4"/>
                  </a:lnTo>
                  <a:lnTo>
                    <a:pt x="561" y="5"/>
                  </a:lnTo>
                  <a:lnTo>
                    <a:pt x="569" y="6"/>
                  </a:lnTo>
                  <a:lnTo>
                    <a:pt x="576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5" y="13"/>
                  </a:lnTo>
                  <a:lnTo>
                    <a:pt x="619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1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8" y="261"/>
                  </a:lnTo>
                  <a:lnTo>
                    <a:pt x="530" y="260"/>
                  </a:lnTo>
                  <a:lnTo>
                    <a:pt x="523" y="259"/>
                  </a:lnTo>
                  <a:lnTo>
                    <a:pt x="514" y="258"/>
                  </a:lnTo>
                  <a:lnTo>
                    <a:pt x="507" y="258"/>
                  </a:lnTo>
                  <a:lnTo>
                    <a:pt x="500" y="257"/>
                  </a:lnTo>
                  <a:lnTo>
                    <a:pt x="492" y="257"/>
                  </a:lnTo>
                  <a:lnTo>
                    <a:pt x="465" y="258"/>
                  </a:lnTo>
                  <a:lnTo>
                    <a:pt x="441" y="261"/>
                  </a:lnTo>
                  <a:lnTo>
                    <a:pt x="429" y="263"/>
                  </a:lnTo>
                  <a:lnTo>
                    <a:pt x="416" y="266"/>
                  </a:lnTo>
                  <a:lnTo>
                    <a:pt x="405" y="269"/>
                  </a:lnTo>
                  <a:lnTo>
                    <a:pt x="394" y="273"/>
                  </a:lnTo>
                  <a:lnTo>
                    <a:pt x="383" y="277"/>
                  </a:lnTo>
                  <a:lnTo>
                    <a:pt x="372" y="282"/>
                  </a:lnTo>
                  <a:lnTo>
                    <a:pt x="362" y="287"/>
                  </a:lnTo>
                  <a:lnTo>
                    <a:pt x="352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5" y="318"/>
                  </a:lnTo>
                  <a:lnTo>
                    <a:pt x="307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6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4" y="388"/>
                  </a:lnTo>
                  <a:lnTo>
                    <a:pt x="260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8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0" y="550"/>
                  </a:lnTo>
                  <a:lnTo>
                    <a:pt x="264" y="560"/>
                  </a:lnTo>
                  <a:lnTo>
                    <a:pt x="268" y="569"/>
                  </a:lnTo>
                  <a:lnTo>
                    <a:pt x="273" y="580"/>
                  </a:lnTo>
                  <a:lnTo>
                    <a:pt x="280" y="589"/>
                  </a:lnTo>
                  <a:lnTo>
                    <a:pt x="286" y="597"/>
                  </a:lnTo>
                  <a:lnTo>
                    <a:pt x="292" y="606"/>
                  </a:lnTo>
                  <a:lnTo>
                    <a:pt x="299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3" y="639"/>
                  </a:lnTo>
                  <a:lnTo>
                    <a:pt x="333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0" y="664"/>
                  </a:lnTo>
                  <a:lnTo>
                    <a:pt x="370" y="669"/>
                  </a:lnTo>
                  <a:lnTo>
                    <a:pt x="381" y="674"/>
                  </a:lnTo>
                  <a:lnTo>
                    <a:pt x="391" y="678"/>
                  </a:lnTo>
                  <a:lnTo>
                    <a:pt x="402" y="682"/>
                  </a:lnTo>
                  <a:lnTo>
                    <a:pt x="412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7" y="692"/>
                  </a:lnTo>
                  <a:lnTo>
                    <a:pt x="459" y="693"/>
                  </a:lnTo>
                  <a:lnTo>
                    <a:pt x="472" y="694"/>
                  </a:lnTo>
                  <a:lnTo>
                    <a:pt x="484" y="694"/>
                  </a:lnTo>
                  <a:lnTo>
                    <a:pt x="493" y="694"/>
                  </a:lnTo>
                  <a:lnTo>
                    <a:pt x="502" y="694"/>
                  </a:lnTo>
                  <a:lnTo>
                    <a:pt x="511" y="693"/>
                  </a:lnTo>
                  <a:lnTo>
                    <a:pt x="521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7" y="687"/>
                  </a:lnTo>
                  <a:lnTo>
                    <a:pt x="556" y="685"/>
                  </a:lnTo>
                  <a:lnTo>
                    <a:pt x="565" y="683"/>
                  </a:lnTo>
                  <a:lnTo>
                    <a:pt x="575" y="680"/>
                  </a:lnTo>
                  <a:lnTo>
                    <a:pt x="584" y="676"/>
                  </a:lnTo>
                  <a:lnTo>
                    <a:pt x="592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09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289320" y="846000"/>
              <a:ext cx="28404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351" y="588"/>
                  </a:moveTo>
                  <a:lnTo>
                    <a:pt x="540" y="588"/>
                  </a:lnTo>
                  <a:lnTo>
                    <a:pt x="445" y="277"/>
                  </a:lnTo>
                  <a:lnTo>
                    <a:pt x="351" y="588"/>
                  </a:lnTo>
                  <a:close/>
                  <a:moveTo>
                    <a:pt x="0" y="922"/>
                  </a:moveTo>
                  <a:lnTo>
                    <a:pt x="323" y="0"/>
                  </a:lnTo>
                  <a:lnTo>
                    <a:pt x="592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11" y="818"/>
                  </a:lnTo>
                  <a:lnTo>
                    <a:pt x="284" y="818"/>
                  </a:lnTo>
                  <a:lnTo>
                    <a:pt x="249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600360" y="846000"/>
              <a:ext cx="217440" cy="292320"/>
            </a:xfrm>
            <a:custGeom>
              <a:avLst/>
              <a:gdLst/>
              <a:ahLst/>
              <a:rect l="l" t="t" r="r" b="b"/>
              <a:pathLst>
                <a:path w="685" h="922">
                  <a:moveTo>
                    <a:pt x="0" y="92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2"/>
                  </a:lnTo>
                  <a:lnTo>
                    <a:pt x="577" y="922"/>
                  </a:lnTo>
                  <a:lnTo>
                    <a:pt x="238" y="522"/>
                  </a:lnTo>
                  <a:lnTo>
                    <a:pt x="238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960720" y="846000"/>
              <a:ext cx="28440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350" y="588"/>
                  </a:moveTo>
                  <a:lnTo>
                    <a:pt x="540" y="588"/>
                  </a:lnTo>
                  <a:lnTo>
                    <a:pt x="445" y="277"/>
                  </a:lnTo>
                  <a:lnTo>
                    <a:pt x="350" y="588"/>
                  </a:lnTo>
                  <a:close/>
                  <a:moveTo>
                    <a:pt x="0" y="922"/>
                  </a:moveTo>
                  <a:lnTo>
                    <a:pt x="322" y="0"/>
                  </a:lnTo>
                  <a:lnTo>
                    <a:pt x="591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37364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7"/>
                  </a:moveTo>
                  <a:lnTo>
                    <a:pt x="603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4" y="945"/>
                  </a:lnTo>
                  <a:lnTo>
                    <a:pt x="567" y="946"/>
                  </a:lnTo>
                  <a:lnTo>
                    <a:pt x="560" y="947"/>
                  </a:lnTo>
                  <a:lnTo>
                    <a:pt x="553" y="948"/>
                  </a:lnTo>
                  <a:lnTo>
                    <a:pt x="545" y="949"/>
                  </a:lnTo>
                  <a:lnTo>
                    <a:pt x="538" y="950"/>
                  </a:lnTo>
                  <a:lnTo>
                    <a:pt x="530" y="950"/>
                  </a:lnTo>
                  <a:lnTo>
                    <a:pt x="521" y="951"/>
                  </a:lnTo>
                  <a:lnTo>
                    <a:pt x="513" y="951"/>
                  </a:lnTo>
                  <a:lnTo>
                    <a:pt x="505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4" y="944"/>
                  </a:lnTo>
                  <a:lnTo>
                    <a:pt x="359" y="939"/>
                  </a:lnTo>
                  <a:lnTo>
                    <a:pt x="336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7" y="866"/>
                  </a:lnTo>
                  <a:lnTo>
                    <a:pt x="169" y="852"/>
                  </a:lnTo>
                  <a:lnTo>
                    <a:pt x="152" y="838"/>
                  </a:lnTo>
                  <a:lnTo>
                    <a:pt x="134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8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9" y="629"/>
                  </a:lnTo>
                  <a:lnTo>
                    <a:pt x="13" y="606"/>
                  </a:lnTo>
                  <a:lnTo>
                    <a:pt x="8" y="583"/>
                  </a:lnTo>
                  <a:lnTo>
                    <a:pt x="5" y="558"/>
                  </a:lnTo>
                  <a:lnTo>
                    <a:pt x="2" y="534"/>
                  </a:lnTo>
                  <a:lnTo>
                    <a:pt x="1" y="508"/>
                  </a:lnTo>
                  <a:lnTo>
                    <a:pt x="0" y="483"/>
                  </a:lnTo>
                  <a:lnTo>
                    <a:pt x="1" y="457"/>
                  </a:lnTo>
                  <a:lnTo>
                    <a:pt x="2" y="432"/>
                  </a:lnTo>
                  <a:lnTo>
                    <a:pt x="5" y="407"/>
                  </a:lnTo>
                  <a:lnTo>
                    <a:pt x="9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5" y="249"/>
                  </a:lnTo>
                  <a:lnTo>
                    <a:pt x="66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7" y="172"/>
                  </a:lnTo>
                  <a:lnTo>
                    <a:pt x="122" y="154"/>
                  </a:lnTo>
                  <a:lnTo>
                    <a:pt x="140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5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6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7" y="4"/>
                  </a:lnTo>
                  <a:lnTo>
                    <a:pt x="443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5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5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6" y="13"/>
                  </a:lnTo>
                  <a:lnTo>
                    <a:pt x="618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2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9" y="261"/>
                  </a:lnTo>
                  <a:lnTo>
                    <a:pt x="531" y="260"/>
                  </a:lnTo>
                  <a:lnTo>
                    <a:pt x="522" y="259"/>
                  </a:lnTo>
                  <a:lnTo>
                    <a:pt x="515" y="258"/>
                  </a:lnTo>
                  <a:lnTo>
                    <a:pt x="508" y="258"/>
                  </a:lnTo>
                  <a:lnTo>
                    <a:pt x="500" y="257"/>
                  </a:lnTo>
                  <a:lnTo>
                    <a:pt x="493" y="257"/>
                  </a:lnTo>
                  <a:lnTo>
                    <a:pt x="466" y="258"/>
                  </a:lnTo>
                  <a:lnTo>
                    <a:pt x="441" y="261"/>
                  </a:lnTo>
                  <a:lnTo>
                    <a:pt x="428" y="263"/>
                  </a:lnTo>
                  <a:lnTo>
                    <a:pt x="417" y="266"/>
                  </a:lnTo>
                  <a:lnTo>
                    <a:pt x="406" y="269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2"/>
                  </a:lnTo>
                  <a:lnTo>
                    <a:pt x="363" y="287"/>
                  </a:lnTo>
                  <a:lnTo>
                    <a:pt x="353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6" y="318"/>
                  </a:lnTo>
                  <a:lnTo>
                    <a:pt x="308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7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9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1" y="550"/>
                  </a:lnTo>
                  <a:lnTo>
                    <a:pt x="265" y="560"/>
                  </a:lnTo>
                  <a:lnTo>
                    <a:pt x="269" y="569"/>
                  </a:lnTo>
                  <a:lnTo>
                    <a:pt x="274" y="580"/>
                  </a:lnTo>
                  <a:lnTo>
                    <a:pt x="279" y="589"/>
                  </a:lnTo>
                  <a:lnTo>
                    <a:pt x="286" y="597"/>
                  </a:lnTo>
                  <a:lnTo>
                    <a:pt x="293" y="606"/>
                  </a:lnTo>
                  <a:lnTo>
                    <a:pt x="300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4" y="639"/>
                  </a:lnTo>
                  <a:lnTo>
                    <a:pt x="332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1" y="664"/>
                  </a:lnTo>
                  <a:lnTo>
                    <a:pt x="371" y="669"/>
                  </a:lnTo>
                  <a:lnTo>
                    <a:pt x="382" y="674"/>
                  </a:lnTo>
                  <a:lnTo>
                    <a:pt x="392" y="678"/>
                  </a:lnTo>
                  <a:lnTo>
                    <a:pt x="402" y="682"/>
                  </a:lnTo>
                  <a:lnTo>
                    <a:pt x="413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4"/>
                  </a:lnTo>
                  <a:lnTo>
                    <a:pt x="512" y="693"/>
                  </a:lnTo>
                  <a:lnTo>
                    <a:pt x="520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8" y="687"/>
                  </a:lnTo>
                  <a:lnTo>
                    <a:pt x="557" y="685"/>
                  </a:lnTo>
                  <a:lnTo>
                    <a:pt x="566" y="683"/>
                  </a:lnTo>
                  <a:lnTo>
                    <a:pt x="574" y="680"/>
                  </a:lnTo>
                  <a:lnTo>
                    <a:pt x="584" y="676"/>
                  </a:lnTo>
                  <a:lnTo>
                    <a:pt x="593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10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600440" y="838080"/>
              <a:ext cx="2970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7" y="256"/>
                  </a:moveTo>
                  <a:lnTo>
                    <a:pt x="456" y="256"/>
                  </a:lnTo>
                  <a:lnTo>
                    <a:pt x="445" y="257"/>
                  </a:lnTo>
                  <a:lnTo>
                    <a:pt x="433" y="258"/>
                  </a:lnTo>
                  <a:lnTo>
                    <a:pt x="423" y="260"/>
                  </a:lnTo>
                  <a:lnTo>
                    <a:pt x="412" y="262"/>
                  </a:lnTo>
                  <a:lnTo>
                    <a:pt x="402" y="265"/>
                  </a:lnTo>
                  <a:lnTo>
                    <a:pt x="391" y="268"/>
                  </a:lnTo>
                  <a:lnTo>
                    <a:pt x="382" y="272"/>
                  </a:lnTo>
                  <a:lnTo>
                    <a:pt x="372" y="276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5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1"/>
                  </a:lnTo>
                  <a:lnTo>
                    <a:pt x="304" y="329"/>
                  </a:lnTo>
                  <a:lnTo>
                    <a:pt x="297" y="339"/>
                  </a:lnTo>
                  <a:lnTo>
                    <a:pt x="289" y="348"/>
                  </a:lnTo>
                  <a:lnTo>
                    <a:pt x="283" y="356"/>
                  </a:lnTo>
                  <a:lnTo>
                    <a:pt x="278" y="366"/>
                  </a:lnTo>
                  <a:lnTo>
                    <a:pt x="273" y="375"/>
                  </a:lnTo>
                  <a:lnTo>
                    <a:pt x="268" y="386"/>
                  </a:lnTo>
                  <a:lnTo>
                    <a:pt x="264" y="395"/>
                  </a:lnTo>
                  <a:lnTo>
                    <a:pt x="261" y="405"/>
                  </a:lnTo>
                  <a:lnTo>
                    <a:pt x="257" y="416"/>
                  </a:lnTo>
                  <a:lnTo>
                    <a:pt x="255" y="426"/>
                  </a:lnTo>
                  <a:lnTo>
                    <a:pt x="253" y="438"/>
                  </a:lnTo>
                  <a:lnTo>
                    <a:pt x="251" y="449"/>
                  </a:lnTo>
                  <a:lnTo>
                    <a:pt x="250" y="460"/>
                  </a:lnTo>
                  <a:lnTo>
                    <a:pt x="249" y="472"/>
                  </a:lnTo>
                  <a:lnTo>
                    <a:pt x="249" y="485"/>
                  </a:lnTo>
                  <a:lnTo>
                    <a:pt x="249" y="496"/>
                  </a:lnTo>
                  <a:lnTo>
                    <a:pt x="250" y="508"/>
                  </a:lnTo>
                  <a:lnTo>
                    <a:pt x="251" y="519"/>
                  </a:lnTo>
                  <a:lnTo>
                    <a:pt x="253" y="530"/>
                  </a:lnTo>
                  <a:lnTo>
                    <a:pt x="255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4" y="573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7" y="629"/>
                  </a:lnTo>
                  <a:lnTo>
                    <a:pt x="304" y="639"/>
                  </a:lnTo>
                  <a:lnTo>
                    <a:pt x="311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5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2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5" y="711"/>
                  </a:lnTo>
                  <a:lnTo>
                    <a:pt x="456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1" y="711"/>
                  </a:lnTo>
                  <a:lnTo>
                    <a:pt x="502" y="710"/>
                  </a:lnTo>
                  <a:lnTo>
                    <a:pt x="512" y="708"/>
                  </a:lnTo>
                  <a:lnTo>
                    <a:pt x="522" y="706"/>
                  </a:lnTo>
                  <a:lnTo>
                    <a:pt x="533" y="703"/>
                  </a:lnTo>
                  <a:lnTo>
                    <a:pt x="544" y="700"/>
                  </a:lnTo>
                  <a:lnTo>
                    <a:pt x="553" y="696"/>
                  </a:lnTo>
                  <a:lnTo>
                    <a:pt x="563" y="692"/>
                  </a:lnTo>
                  <a:lnTo>
                    <a:pt x="572" y="686"/>
                  </a:lnTo>
                  <a:lnTo>
                    <a:pt x="581" y="680"/>
                  </a:lnTo>
                  <a:lnTo>
                    <a:pt x="591" y="675"/>
                  </a:lnTo>
                  <a:lnTo>
                    <a:pt x="599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3" y="646"/>
                  </a:lnTo>
                  <a:lnTo>
                    <a:pt x="631" y="638"/>
                  </a:lnTo>
                  <a:lnTo>
                    <a:pt x="639" y="629"/>
                  </a:lnTo>
                  <a:lnTo>
                    <a:pt x="645" y="620"/>
                  </a:lnTo>
                  <a:lnTo>
                    <a:pt x="651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6" y="582"/>
                  </a:lnTo>
                  <a:lnTo>
                    <a:pt x="671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2"/>
                  </a:lnTo>
                  <a:lnTo>
                    <a:pt x="683" y="530"/>
                  </a:lnTo>
                  <a:lnTo>
                    <a:pt x="686" y="508"/>
                  </a:lnTo>
                  <a:lnTo>
                    <a:pt x="687" y="485"/>
                  </a:lnTo>
                  <a:lnTo>
                    <a:pt x="686" y="461"/>
                  </a:lnTo>
                  <a:lnTo>
                    <a:pt x="683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6" y="386"/>
                  </a:lnTo>
                  <a:lnTo>
                    <a:pt x="662" y="375"/>
                  </a:lnTo>
                  <a:lnTo>
                    <a:pt x="657" y="366"/>
                  </a:lnTo>
                  <a:lnTo>
                    <a:pt x="651" y="357"/>
                  </a:lnTo>
                  <a:lnTo>
                    <a:pt x="639" y="339"/>
                  </a:lnTo>
                  <a:lnTo>
                    <a:pt x="623" y="322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9" y="300"/>
                  </a:lnTo>
                  <a:lnTo>
                    <a:pt x="591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6"/>
                  </a:lnTo>
                  <a:lnTo>
                    <a:pt x="553" y="272"/>
                  </a:lnTo>
                  <a:lnTo>
                    <a:pt x="544" y="268"/>
                  </a:lnTo>
                  <a:lnTo>
                    <a:pt x="533" y="265"/>
                  </a:lnTo>
                  <a:lnTo>
                    <a:pt x="522" y="262"/>
                  </a:lnTo>
                  <a:lnTo>
                    <a:pt x="512" y="260"/>
                  </a:lnTo>
                  <a:lnTo>
                    <a:pt x="502" y="258"/>
                  </a:lnTo>
                  <a:lnTo>
                    <a:pt x="491" y="257"/>
                  </a:lnTo>
                  <a:lnTo>
                    <a:pt x="479" y="256"/>
                  </a:lnTo>
                  <a:lnTo>
                    <a:pt x="467" y="256"/>
                  </a:lnTo>
                  <a:close/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3" y="16"/>
                  </a:lnTo>
                  <a:lnTo>
                    <a:pt x="613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9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4" y="380"/>
                  </a:lnTo>
                  <a:lnTo>
                    <a:pt x="928" y="406"/>
                  </a:lnTo>
                  <a:lnTo>
                    <a:pt x="932" y="431"/>
                  </a:lnTo>
                  <a:lnTo>
                    <a:pt x="934" y="458"/>
                  </a:lnTo>
                  <a:lnTo>
                    <a:pt x="934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8" y="563"/>
                  </a:lnTo>
                  <a:lnTo>
                    <a:pt x="924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2" y="686"/>
                  </a:lnTo>
                  <a:lnTo>
                    <a:pt x="881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90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8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2" y="947"/>
                  </a:lnTo>
                  <a:lnTo>
                    <a:pt x="592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5" y="969"/>
                  </a:lnTo>
                  <a:lnTo>
                    <a:pt x="423" y="968"/>
                  </a:lnTo>
                  <a:lnTo>
                    <a:pt x="403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2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4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1" y="589"/>
                  </a:lnTo>
                  <a:lnTo>
                    <a:pt x="7" y="563"/>
                  </a:lnTo>
                  <a:lnTo>
                    <a:pt x="2" y="538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2" y="431"/>
                  </a:lnTo>
                  <a:lnTo>
                    <a:pt x="7" y="406"/>
                  </a:lnTo>
                  <a:lnTo>
                    <a:pt x="11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4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2" y="30"/>
                  </a:lnTo>
                  <a:lnTo>
                    <a:pt x="321" y="22"/>
                  </a:lnTo>
                  <a:lnTo>
                    <a:pt x="341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3" y="4"/>
                  </a:lnTo>
                  <a:lnTo>
                    <a:pt x="423" y="2"/>
                  </a:lnTo>
                  <a:lnTo>
                    <a:pt x="445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933800" y="846000"/>
              <a:ext cx="217800" cy="292320"/>
            </a:xfrm>
            <a:custGeom>
              <a:avLst/>
              <a:gdLst/>
              <a:ahLst/>
              <a:rect l="l" t="t" r="r" b="b"/>
              <a:pathLst>
                <a:path w="686" h="922">
                  <a:moveTo>
                    <a:pt x="0" y="92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8" y="403"/>
                  </a:lnTo>
                  <a:lnTo>
                    <a:pt x="448" y="0"/>
                  </a:lnTo>
                  <a:lnTo>
                    <a:pt x="686" y="0"/>
                  </a:lnTo>
                  <a:lnTo>
                    <a:pt x="686" y="922"/>
                  </a:lnTo>
                  <a:lnTo>
                    <a:pt x="578" y="922"/>
                  </a:lnTo>
                  <a:lnTo>
                    <a:pt x="239" y="522"/>
                  </a:lnTo>
                  <a:lnTo>
                    <a:pt x="239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200560" y="846000"/>
              <a:ext cx="220680" cy="292320"/>
            </a:xfrm>
            <a:custGeom>
              <a:avLst/>
              <a:gdLst/>
              <a:ahLst/>
              <a:rect l="l" t="t" r="r" b="b"/>
              <a:pathLst>
                <a:path w="692" h="922">
                  <a:moveTo>
                    <a:pt x="238" y="675"/>
                  </a:moveTo>
                  <a:lnTo>
                    <a:pt x="261" y="672"/>
                  </a:lnTo>
                  <a:lnTo>
                    <a:pt x="282" y="668"/>
                  </a:lnTo>
                  <a:lnTo>
                    <a:pt x="303" y="661"/>
                  </a:lnTo>
                  <a:lnTo>
                    <a:pt x="322" y="653"/>
                  </a:lnTo>
                  <a:lnTo>
                    <a:pt x="339" y="644"/>
                  </a:lnTo>
                  <a:lnTo>
                    <a:pt x="357" y="633"/>
                  </a:lnTo>
                  <a:lnTo>
                    <a:pt x="372" y="621"/>
                  </a:lnTo>
                  <a:lnTo>
                    <a:pt x="386" y="606"/>
                  </a:lnTo>
                  <a:lnTo>
                    <a:pt x="400" y="591"/>
                  </a:lnTo>
                  <a:lnTo>
                    <a:pt x="411" y="575"/>
                  </a:lnTo>
                  <a:lnTo>
                    <a:pt x="420" y="558"/>
                  </a:lnTo>
                  <a:lnTo>
                    <a:pt x="428" y="540"/>
                  </a:lnTo>
                  <a:lnTo>
                    <a:pt x="434" y="521"/>
                  </a:lnTo>
                  <a:lnTo>
                    <a:pt x="439" y="501"/>
                  </a:lnTo>
                  <a:lnTo>
                    <a:pt x="442" y="481"/>
                  </a:lnTo>
                  <a:lnTo>
                    <a:pt x="443" y="458"/>
                  </a:lnTo>
                  <a:lnTo>
                    <a:pt x="442" y="435"/>
                  </a:lnTo>
                  <a:lnTo>
                    <a:pt x="439" y="414"/>
                  </a:lnTo>
                  <a:lnTo>
                    <a:pt x="434" y="392"/>
                  </a:lnTo>
                  <a:lnTo>
                    <a:pt x="428" y="372"/>
                  </a:lnTo>
                  <a:lnTo>
                    <a:pt x="420" y="352"/>
                  </a:lnTo>
                  <a:lnTo>
                    <a:pt x="411" y="335"/>
                  </a:lnTo>
                  <a:lnTo>
                    <a:pt x="399" y="318"/>
                  </a:lnTo>
                  <a:lnTo>
                    <a:pt x="386" y="301"/>
                  </a:lnTo>
                  <a:lnTo>
                    <a:pt x="378" y="294"/>
                  </a:lnTo>
                  <a:lnTo>
                    <a:pt x="371" y="287"/>
                  </a:lnTo>
                  <a:lnTo>
                    <a:pt x="364" y="281"/>
                  </a:lnTo>
                  <a:lnTo>
                    <a:pt x="356" y="275"/>
                  </a:lnTo>
                  <a:lnTo>
                    <a:pt x="348" y="270"/>
                  </a:lnTo>
                  <a:lnTo>
                    <a:pt x="338" y="265"/>
                  </a:lnTo>
                  <a:lnTo>
                    <a:pt x="330" y="260"/>
                  </a:lnTo>
                  <a:lnTo>
                    <a:pt x="321" y="255"/>
                  </a:lnTo>
                  <a:lnTo>
                    <a:pt x="302" y="248"/>
                  </a:lnTo>
                  <a:lnTo>
                    <a:pt x="282" y="243"/>
                  </a:lnTo>
                  <a:lnTo>
                    <a:pt x="261" y="240"/>
                  </a:lnTo>
                  <a:lnTo>
                    <a:pt x="238" y="239"/>
                  </a:lnTo>
                  <a:lnTo>
                    <a:pt x="238" y="675"/>
                  </a:lnTo>
                  <a:close/>
                  <a:moveTo>
                    <a:pt x="139" y="0"/>
                  </a:moveTo>
                  <a:lnTo>
                    <a:pt x="171" y="0"/>
                  </a:lnTo>
                  <a:lnTo>
                    <a:pt x="202" y="2"/>
                  </a:lnTo>
                  <a:lnTo>
                    <a:pt x="230" y="3"/>
                  </a:lnTo>
                  <a:lnTo>
                    <a:pt x="258" y="5"/>
                  </a:lnTo>
                  <a:lnTo>
                    <a:pt x="283" y="7"/>
                  </a:lnTo>
                  <a:lnTo>
                    <a:pt x="307" y="10"/>
                  </a:lnTo>
                  <a:lnTo>
                    <a:pt x="329" y="14"/>
                  </a:lnTo>
                  <a:lnTo>
                    <a:pt x="350" y="17"/>
                  </a:lnTo>
                  <a:lnTo>
                    <a:pt x="368" y="22"/>
                  </a:lnTo>
                  <a:lnTo>
                    <a:pt x="387" y="27"/>
                  </a:lnTo>
                  <a:lnTo>
                    <a:pt x="406" y="33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8" y="55"/>
                  </a:lnTo>
                  <a:lnTo>
                    <a:pt x="474" y="63"/>
                  </a:lnTo>
                  <a:lnTo>
                    <a:pt x="490" y="72"/>
                  </a:lnTo>
                  <a:lnTo>
                    <a:pt x="514" y="88"/>
                  </a:lnTo>
                  <a:lnTo>
                    <a:pt x="537" y="106"/>
                  </a:lnTo>
                  <a:lnTo>
                    <a:pt x="557" y="124"/>
                  </a:lnTo>
                  <a:lnTo>
                    <a:pt x="577" y="143"/>
                  </a:lnTo>
                  <a:lnTo>
                    <a:pt x="595" y="165"/>
                  </a:lnTo>
                  <a:lnTo>
                    <a:pt x="611" y="186"/>
                  </a:lnTo>
                  <a:lnTo>
                    <a:pt x="626" y="210"/>
                  </a:lnTo>
                  <a:lnTo>
                    <a:pt x="640" y="234"/>
                  </a:lnTo>
                  <a:lnTo>
                    <a:pt x="652" y="260"/>
                  </a:lnTo>
                  <a:lnTo>
                    <a:pt x="662" y="286"/>
                  </a:lnTo>
                  <a:lnTo>
                    <a:pt x="671" y="314"/>
                  </a:lnTo>
                  <a:lnTo>
                    <a:pt x="679" y="342"/>
                  </a:lnTo>
                  <a:lnTo>
                    <a:pt x="685" y="372"/>
                  </a:lnTo>
                  <a:lnTo>
                    <a:pt x="689" y="402"/>
                  </a:lnTo>
                  <a:lnTo>
                    <a:pt x="691" y="434"/>
                  </a:lnTo>
                  <a:lnTo>
                    <a:pt x="692" y="467"/>
                  </a:lnTo>
                  <a:lnTo>
                    <a:pt x="691" y="496"/>
                  </a:lnTo>
                  <a:lnTo>
                    <a:pt x="688" y="525"/>
                  </a:lnTo>
                  <a:lnTo>
                    <a:pt x="684" y="553"/>
                  </a:lnTo>
                  <a:lnTo>
                    <a:pt x="677" y="580"/>
                  </a:lnTo>
                  <a:lnTo>
                    <a:pt x="669" y="607"/>
                  </a:lnTo>
                  <a:lnTo>
                    <a:pt x="659" y="634"/>
                  </a:lnTo>
                  <a:lnTo>
                    <a:pt x="648" y="659"/>
                  </a:lnTo>
                  <a:lnTo>
                    <a:pt x="635" y="684"/>
                  </a:lnTo>
                  <a:lnTo>
                    <a:pt x="620" y="708"/>
                  </a:lnTo>
                  <a:lnTo>
                    <a:pt x="604" y="732"/>
                  </a:lnTo>
                  <a:lnTo>
                    <a:pt x="586" y="753"/>
                  </a:lnTo>
                  <a:lnTo>
                    <a:pt x="566" y="775"/>
                  </a:lnTo>
                  <a:lnTo>
                    <a:pt x="546" y="794"/>
                  </a:lnTo>
                  <a:lnTo>
                    <a:pt x="523" y="812"/>
                  </a:lnTo>
                  <a:lnTo>
                    <a:pt x="500" y="830"/>
                  </a:lnTo>
                  <a:lnTo>
                    <a:pt x="475" y="846"/>
                  </a:lnTo>
                  <a:lnTo>
                    <a:pt x="459" y="855"/>
                  </a:lnTo>
                  <a:lnTo>
                    <a:pt x="442" y="864"/>
                  </a:lnTo>
                  <a:lnTo>
                    <a:pt x="424" y="873"/>
                  </a:lnTo>
                  <a:lnTo>
                    <a:pt x="407" y="880"/>
                  </a:lnTo>
                  <a:lnTo>
                    <a:pt x="389" y="887"/>
                  </a:lnTo>
                  <a:lnTo>
                    <a:pt x="369" y="893"/>
                  </a:lnTo>
                  <a:lnTo>
                    <a:pt x="350" y="898"/>
                  </a:lnTo>
                  <a:lnTo>
                    <a:pt x="330" y="903"/>
                  </a:lnTo>
                  <a:lnTo>
                    <a:pt x="310" y="907"/>
                  </a:lnTo>
                  <a:lnTo>
                    <a:pt x="288" y="911"/>
                  </a:lnTo>
                  <a:lnTo>
                    <a:pt x="266" y="914"/>
                  </a:lnTo>
                  <a:lnTo>
                    <a:pt x="242" y="916"/>
                  </a:lnTo>
                  <a:lnTo>
                    <a:pt x="218" y="918"/>
                  </a:lnTo>
                  <a:lnTo>
                    <a:pt x="192" y="920"/>
                  </a:lnTo>
                  <a:lnTo>
                    <a:pt x="166" y="921"/>
                  </a:lnTo>
                  <a:lnTo>
                    <a:pt x="139" y="922"/>
                  </a:lnTo>
                  <a:lnTo>
                    <a:pt x="0" y="922"/>
                  </a:lnTo>
                  <a:lnTo>
                    <a:pt x="0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443560" y="838080"/>
              <a:ext cx="2952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7" y="256"/>
                  </a:moveTo>
                  <a:lnTo>
                    <a:pt x="456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2" y="262"/>
                  </a:lnTo>
                  <a:lnTo>
                    <a:pt x="402" y="265"/>
                  </a:lnTo>
                  <a:lnTo>
                    <a:pt x="391" y="268"/>
                  </a:lnTo>
                  <a:lnTo>
                    <a:pt x="381" y="272"/>
                  </a:lnTo>
                  <a:lnTo>
                    <a:pt x="372" y="276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4" y="293"/>
                  </a:lnTo>
                  <a:lnTo>
                    <a:pt x="335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1"/>
                  </a:lnTo>
                  <a:lnTo>
                    <a:pt x="304" y="329"/>
                  </a:lnTo>
                  <a:lnTo>
                    <a:pt x="296" y="339"/>
                  </a:lnTo>
                  <a:lnTo>
                    <a:pt x="289" y="348"/>
                  </a:lnTo>
                  <a:lnTo>
                    <a:pt x="283" y="356"/>
                  </a:lnTo>
                  <a:lnTo>
                    <a:pt x="278" y="366"/>
                  </a:lnTo>
                  <a:lnTo>
                    <a:pt x="273" y="375"/>
                  </a:lnTo>
                  <a:lnTo>
                    <a:pt x="268" y="386"/>
                  </a:lnTo>
                  <a:lnTo>
                    <a:pt x="264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6"/>
                  </a:lnTo>
                  <a:lnTo>
                    <a:pt x="251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2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1" y="530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4" y="573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6" y="629"/>
                  </a:lnTo>
                  <a:lnTo>
                    <a:pt x="304" y="639"/>
                  </a:lnTo>
                  <a:lnTo>
                    <a:pt x="311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1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6" y="712"/>
                  </a:lnTo>
                  <a:lnTo>
                    <a:pt x="467" y="712"/>
                  </a:lnTo>
                  <a:lnTo>
                    <a:pt x="478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2" y="708"/>
                  </a:lnTo>
                  <a:lnTo>
                    <a:pt x="522" y="706"/>
                  </a:lnTo>
                  <a:lnTo>
                    <a:pt x="532" y="703"/>
                  </a:lnTo>
                  <a:lnTo>
                    <a:pt x="542" y="700"/>
                  </a:lnTo>
                  <a:lnTo>
                    <a:pt x="553" y="696"/>
                  </a:lnTo>
                  <a:lnTo>
                    <a:pt x="563" y="692"/>
                  </a:lnTo>
                  <a:lnTo>
                    <a:pt x="572" y="686"/>
                  </a:lnTo>
                  <a:lnTo>
                    <a:pt x="581" y="680"/>
                  </a:lnTo>
                  <a:lnTo>
                    <a:pt x="589" y="675"/>
                  </a:lnTo>
                  <a:lnTo>
                    <a:pt x="599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3" y="646"/>
                  </a:lnTo>
                  <a:lnTo>
                    <a:pt x="631" y="638"/>
                  </a:lnTo>
                  <a:lnTo>
                    <a:pt x="638" y="629"/>
                  </a:lnTo>
                  <a:lnTo>
                    <a:pt x="645" y="620"/>
                  </a:lnTo>
                  <a:lnTo>
                    <a:pt x="651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6" y="582"/>
                  </a:lnTo>
                  <a:lnTo>
                    <a:pt x="670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2"/>
                  </a:lnTo>
                  <a:lnTo>
                    <a:pt x="682" y="530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0" y="396"/>
                  </a:lnTo>
                  <a:lnTo>
                    <a:pt x="666" y="386"/>
                  </a:lnTo>
                  <a:lnTo>
                    <a:pt x="662" y="375"/>
                  </a:lnTo>
                  <a:lnTo>
                    <a:pt x="657" y="366"/>
                  </a:lnTo>
                  <a:lnTo>
                    <a:pt x="651" y="357"/>
                  </a:lnTo>
                  <a:lnTo>
                    <a:pt x="638" y="339"/>
                  </a:lnTo>
                  <a:lnTo>
                    <a:pt x="623" y="322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9" y="300"/>
                  </a:lnTo>
                  <a:lnTo>
                    <a:pt x="589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6"/>
                  </a:lnTo>
                  <a:lnTo>
                    <a:pt x="553" y="272"/>
                  </a:lnTo>
                  <a:lnTo>
                    <a:pt x="542" y="268"/>
                  </a:lnTo>
                  <a:lnTo>
                    <a:pt x="532" y="265"/>
                  </a:lnTo>
                  <a:lnTo>
                    <a:pt x="522" y="262"/>
                  </a:lnTo>
                  <a:lnTo>
                    <a:pt x="512" y="260"/>
                  </a:lnTo>
                  <a:lnTo>
                    <a:pt x="501" y="258"/>
                  </a:lnTo>
                  <a:lnTo>
                    <a:pt x="490" y="257"/>
                  </a:lnTo>
                  <a:lnTo>
                    <a:pt x="478" y="256"/>
                  </a:lnTo>
                  <a:lnTo>
                    <a:pt x="467" y="256"/>
                  </a:lnTo>
                  <a:close/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2" y="16"/>
                  </a:lnTo>
                  <a:lnTo>
                    <a:pt x="612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8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1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0" y="431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0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1" y="686"/>
                  </a:lnTo>
                  <a:lnTo>
                    <a:pt x="879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3" y="798"/>
                  </a:lnTo>
                  <a:lnTo>
                    <a:pt x="807" y="817"/>
                  </a:lnTo>
                  <a:lnTo>
                    <a:pt x="789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0" y="953"/>
                  </a:lnTo>
                  <a:lnTo>
                    <a:pt x="321" y="947"/>
                  </a:lnTo>
                  <a:lnTo>
                    <a:pt x="301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08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8"/>
                  </a:lnTo>
                  <a:lnTo>
                    <a:pt x="0" y="511"/>
                  </a:lnTo>
                  <a:lnTo>
                    <a:pt x="0" y="485"/>
                  </a:lnTo>
                  <a:lnTo>
                    <a:pt x="0" y="458"/>
                  </a:lnTo>
                  <a:lnTo>
                    <a:pt x="2" y="431"/>
                  </a:lnTo>
                  <a:lnTo>
                    <a:pt x="5" y="406"/>
                  </a:lnTo>
                  <a:lnTo>
                    <a:pt x="10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8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2"/>
                  </a:lnTo>
                  <a:lnTo>
                    <a:pt x="340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761080" y="846000"/>
              <a:ext cx="304920" cy="293760"/>
            </a:xfrm>
            <a:custGeom>
              <a:avLst/>
              <a:gdLst/>
              <a:ahLst/>
              <a:rect l="l" t="t" r="r" b="b"/>
              <a:pathLst>
                <a:path w="959" h="925">
                  <a:moveTo>
                    <a:pt x="0" y="922"/>
                  </a:moveTo>
                  <a:lnTo>
                    <a:pt x="116" y="0"/>
                  </a:lnTo>
                  <a:lnTo>
                    <a:pt x="310" y="0"/>
                  </a:lnTo>
                  <a:lnTo>
                    <a:pt x="473" y="410"/>
                  </a:lnTo>
                  <a:lnTo>
                    <a:pt x="638" y="0"/>
                  </a:lnTo>
                  <a:lnTo>
                    <a:pt x="828" y="0"/>
                  </a:lnTo>
                  <a:lnTo>
                    <a:pt x="959" y="922"/>
                  </a:lnTo>
                  <a:lnTo>
                    <a:pt x="713" y="922"/>
                  </a:lnTo>
                  <a:lnTo>
                    <a:pt x="662" y="498"/>
                  </a:lnTo>
                  <a:lnTo>
                    <a:pt x="483" y="925"/>
                  </a:lnTo>
                  <a:lnTo>
                    <a:pt x="290" y="498"/>
                  </a:lnTo>
                  <a:lnTo>
                    <a:pt x="246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249720" y="1338120"/>
              <a:ext cx="199800" cy="292320"/>
            </a:xfrm>
            <a:custGeom>
              <a:avLst/>
              <a:gdLst/>
              <a:ahLst/>
              <a:rect l="l" t="t" r="r" b="b"/>
              <a:pathLst>
                <a:path w="629" h="920">
                  <a:moveTo>
                    <a:pt x="238" y="443"/>
                  </a:moveTo>
                  <a:lnTo>
                    <a:pt x="267" y="443"/>
                  </a:lnTo>
                  <a:lnTo>
                    <a:pt x="281" y="442"/>
                  </a:lnTo>
                  <a:lnTo>
                    <a:pt x="294" y="441"/>
                  </a:lnTo>
                  <a:lnTo>
                    <a:pt x="307" y="439"/>
                  </a:lnTo>
                  <a:lnTo>
                    <a:pt x="319" y="435"/>
                  </a:lnTo>
                  <a:lnTo>
                    <a:pt x="330" y="431"/>
                  </a:lnTo>
                  <a:lnTo>
                    <a:pt x="340" y="426"/>
                  </a:lnTo>
                  <a:lnTo>
                    <a:pt x="350" y="420"/>
                  </a:lnTo>
                  <a:lnTo>
                    <a:pt x="358" y="413"/>
                  </a:lnTo>
                  <a:lnTo>
                    <a:pt x="366" y="406"/>
                  </a:lnTo>
                  <a:lnTo>
                    <a:pt x="372" y="398"/>
                  </a:lnTo>
                  <a:lnTo>
                    <a:pt x="378" y="389"/>
                  </a:lnTo>
                  <a:lnTo>
                    <a:pt x="382" y="378"/>
                  </a:lnTo>
                  <a:lnTo>
                    <a:pt x="385" y="368"/>
                  </a:lnTo>
                  <a:lnTo>
                    <a:pt x="388" y="357"/>
                  </a:lnTo>
                  <a:lnTo>
                    <a:pt x="389" y="346"/>
                  </a:lnTo>
                  <a:lnTo>
                    <a:pt x="390" y="332"/>
                  </a:lnTo>
                  <a:lnTo>
                    <a:pt x="389" y="320"/>
                  </a:lnTo>
                  <a:lnTo>
                    <a:pt x="388" y="307"/>
                  </a:lnTo>
                  <a:lnTo>
                    <a:pt x="385" y="296"/>
                  </a:lnTo>
                  <a:lnTo>
                    <a:pt x="382" y="285"/>
                  </a:lnTo>
                  <a:lnTo>
                    <a:pt x="378" y="274"/>
                  </a:lnTo>
                  <a:lnTo>
                    <a:pt x="372" y="265"/>
                  </a:lnTo>
                  <a:lnTo>
                    <a:pt x="366" y="257"/>
                  </a:lnTo>
                  <a:lnTo>
                    <a:pt x="358" y="249"/>
                  </a:lnTo>
                  <a:lnTo>
                    <a:pt x="350" y="242"/>
                  </a:lnTo>
                  <a:lnTo>
                    <a:pt x="340" y="236"/>
                  </a:lnTo>
                  <a:lnTo>
                    <a:pt x="330" y="231"/>
                  </a:lnTo>
                  <a:lnTo>
                    <a:pt x="319" y="227"/>
                  </a:lnTo>
                  <a:lnTo>
                    <a:pt x="307" y="223"/>
                  </a:lnTo>
                  <a:lnTo>
                    <a:pt x="294" y="221"/>
                  </a:lnTo>
                  <a:lnTo>
                    <a:pt x="280" y="220"/>
                  </a:lnTo>
                  <a:lnTo>
                    <a:pt x="266" y="219"/>
                  </a:lnTo>
                  <a:lnTo>
                    <a:pt x="238" y="219"/>
                  </a:lnTo>
                  <a:lnTo>
                    <a:pt x="238" y="443"/>
                  </a:lnTo>
                  <a:close/>
                  <a:moveTo>
                    <a:pt x="0" y="920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87" y="1"/>
                  </a:lnTo>
                  <a:lnTo>
                    <a:pt x="310" y="3"/>
                  </a:lnTo>
                  <a:lnTo>
                    <a:pt x="332" y="5"/>
                  </a:lnTo>
                  <a:lnTo>
                    <a:pt x="353" y="7"/>
                  </a:lnTo>
                  <a:lnTo>
                    <a:pt x="373" y="11"/>
                  </a:lnTo>
                  <a:lnTo>
                    <a:pt x="392" y="15"/>
                  </a:lnTo>
                  <a:lnTo>
                    <a:pt x="412" y="20"/>
                  </a:lnTo>
                  <a:lnTo>
                    <a:pt x="429" y="25"/>
                  </a:lnTo>
                  <a:lnTo>
                    <a:pt x="447" y="32"/>
                  </a:lnTo>
                  <a:lnTo>
                    <a:pt x="463" y="38"/>
                  </a:lnTo>
                  <a:lnTo>
                    <a:pt x="478" y="46"/>
                  </a:lnTo>
                  <a:lnTo>
                    <a:pt x="494" y="53"/>
                  </a:lnTo>
                  <a:lnTo>
                    <a:pt x="507" y="62"/>
                  </a:lnTo>
                  <a:lnTo>
                    <a:pt x="520" y="71"/>
                  </a:lnTo>
                  <a:lnTo>
                    <a:pt x="533" y="81"/>
                  </a:lnTo>
                  <a:lnTo>
                    <a:pt x="545" y="92"/>
                  </a:lnTo>
                  <a:lnTo>
                    <a:pt x="556" y="103"/>
                  </a:lnTo>
                  <a:lnTo>
                    <a:pt x="565" y="114"/>
                  </a:lnTo>
                  <a:lnTo>
                    <a:pt x="575" y="127"/>
                  </a:lnTo>
                  <a:lnTo>
                    <a:pt x="583" y="141"/>
                  </a:lnTo>
                  <a:lnTo>
                    <a:pt x="592" y="154"/>
                  </a:lnTo>
                  <a:lnTo>
                    <a:pt x="599" y="169"/>
                  </a:lnTo>
                  <a:lnTo>
                    <a:pt x="605" y="185"/>
                  </a:lnTo>
                  <a:lnTo>
                    <a:pt x="610" y="200"/>
                  </a:lnTo>
                  <a:lnTo>
                    <a:pt x="615" y="217"/>
                  </a:lnTo>
                  <a:lnTo>
                    <a:pt x="619" y="234"/>
                  </a:lnTo>
                  <a:lnTo>
                    <a:pt x="623" y="252"/>
                  </a:lnTo>
                  <a:lnTo>
                    <a:pt x="625" y="270"/>
                  </a:lnTo>
                  <a:lnTo>
                    <a:pt x="627" y="290"/>
                  </a:lnTo>
                  <a:lnTo>
                    <a:pt x="628" y="310"/>
                  </a:lnTo>
                  <a:lnTo>
                    <a:pt x="629" y="330"/>
                  </a:lnTo>
                  <a:lnTo>
                    <a:pt x="628" y="351"/>
                  </a:lnTo>
                  <a:lnTo>
                    <a:pt x="627" y="370"/>
                  </a:lnTo>
                  <a:lnTo>
                    <a:pt x="625" y="389"/>
                  </a:lnTo>
                  <a:lnTo>
                    <a:pt x="623" y="407"/>
                  </a:lnTo>
                  <a:lnTo>
                    <a:pt x="620" y="425"/>
                  </a:lnTo>
                  <a:lnTo>
                    <a:pt x="616" y="442"/>
                  </a:lnTo>
                  <a:lnTo>
                    <a:pt x="611" y="459"/>
                  </a:lnTo>
                  <a:lnTo>
                    <a:pt x="606" y="474"/>
                  </a:lnTo>
                  <a:lnTo>
                    <a:pt x="600" y="491"/>
                  </a:lnTo>
                  <a:lnTo>
                    <a:pt x="593" y="505"/>
                  </a:lnTo>
                  <a:lnTo>
                    <a:pt x="584" y="519"/>
                  </a:lnTo>
                  <a:lnTo>
                    <a:pt x="576" y="533"/>
                  </a:lnTo>
                  <a:lnTo>
                    <a:pt x="567" y="547"/>
                  </a:lnTo>
                  <a:lnTo>
                    <a:pt x="558" y="559"/>
                  </a:lnTo>
                  <a:lnTo>
                    <a:pt x="547" y="571"/>
                  </a:lnTo>
                  <a:lnTo>
                    <a:pt x="535" y="583"/>
                  </a:lnTo>
                  <a:lnTo>
                    <a:pt x="524" y="594"/>
                  </a:lnTo>
                  <a:lnTo>
                    <a:pt x="511" y="604"/>
                  </a:lnTo>
                  <a:lnTo>
                    <a:pt x="498" y="614"/>
                  </a:lnTo>
                  <a:lnTo>
                    <a:pt x="484" y="622"/>
                  </a:lnTo>
                  <a:lnTo>
                    <a:pt x="470" y="630"/>
                  </a:lnTo>
                  <a:lnTo>
                    <a:pt x="455" y="638"/>
                  </a:lnTo>
                  <a:lnTo>
                    <a:pt x="439" y="645"/>
                  </a:lnTo>
                  <a:lnTo>
                    <a:pt x="424" y="651"/>
                  </a:lnTo>
                  <a:lnTo>
                    <a:pt x="407" y="656"/>
                  </a:lnTo>
                  <a:lnTo>
                    <a:pt x="389" y="661"/>
                  </a:lnTo>
                  <a:lnTo>
                    <a:pt x="372" y="664"/>
                  </a:lnTo>
                  <a:lnTo>
                    <a:pt x="354" y="668"/>
                  </a:lnTo>
                  <a:lnTo>
                    <a:pt x="334" y="670"/>
                  </a:lnTo>
                  <a:lnTo>
                    <a:pt x="315" y="672"/>
                  </a:lnTo>
                  <a:lnTo>
                    <a:pt x="295" y="673"/>
                  </a:lnTo>
                  <a:lnTo>
                    <a:pt x="274" y="673"/>
                  </a:lnTo>
                  <a:lnTo>
                    <a:pt x="238" y="673"/>
                  </a:lnTo>
                  <a:lnTo>
                    <a:pt x="238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489480" y="1338120"/>
              <a:ext cx="220680" cy="292320"/>
            </a:xfrm>
            <a:custGeom>
              <a:avLst/>
              <a:gdLst/>
              <a:ahLst/>
              <a:rect l="l" t="t" r="r" b="b"/>
              <a:pathLst>
                <a:path w="691" h="920">
                  <a:moveTo>
                    <a:pt x="239" y="432"/>
                  </a:moveTo>
                  <a:lnTo>
                    <a:pt x="261" y="432"/>
                  </a:lnTo>
                  <a:lnTo>
                    <a:pt x="278" y="431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1" y="410"/>
                  </a:lnTo>
                  <a:lnTo>
                    <a:pt x="359" y="403"/>
                  </a:lnTo>
                  <a:lnTo>
                    <a:pt x="368" y="396"/>
                  </a:lnTo>
                  <a:lnTo>
                    <a:pt x="375" y="387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9" y="356"/>
                  </a:lnTo>
                  <a:lnTo>
                    <a:pt x="391" y="344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1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7"/>
                  </a:lnTo>
                  <a:lnTo>
                    <a:pt x="375" y="248"/>
                  </a:lnTo>
                  <a:lnTo>
                    <a:pt x="369" y="240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09" y="206"/>
                  </a:lnTo>
                  <a:lnTo>
                    <a:pt x="296" y="203"/>
                  </a:lnTo>
                  <a:lnTo>
                    <a:pt x="283" y="202"/>
                  </a:lnTo>
                  <a:lnTo>
                    <a:pt x="269" y="201"/>
                  </a:lnTo>
                  <a:lnTo>
                    <a:pt x="239" y="201"/>
                  </a:lnTo>
                  <a:lnTo>
                    <a:pt x="239" y="432"/>
                  </a:lnTo>
                  <a:close/>
                  <a:moveTo>
                    <a:pt x="0" y="92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2"/>
                  </a:lnTo>
                  <a:lnTo>
                    <a:pt x="346" y="4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8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4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5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5" y="152"/>
                  </a:lnTo>
                  <a:lnTo>
                    <a:pt x="611" y="165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0"/>
                  </a:lnTo>
                  <a:lnTo>
                    <a:pt x="633" y="256"/>
                  </a:lnTo>
                  <a:lnTo>
                    <a:pt x="634" y="273"/>
                  </a:lnTo>
                  <a:lnTo>
                    <a:pt x="634" y="291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49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1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7"/>
                  </a:lnTo>
                  <a:lnTo>
                    <a:pt x="574" y="460"/>
                  </a:lnTo>
                  <a:lnTo>
                    <a:pt x="562" y="472"/>
                  </a:lnTo>
                  <a:lnTo>
                    <a:pt x="549" y="483"/>
                  </a:lnTo>
                  <a:lnTo>
                    <a:pt x="535" y="494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0"/>
                  </a:lnTo>
                  <a:lnTo>
                    <a:pt x="429" y="920"/>
                  </a:lnTo>
                  <a:lnTo>
                    <a:pt x="239" y="526"/>
                  </a:lnTo>
                  <a:lnTo>
                    <a:pt x="239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719520" y="1330200"/>
              <a:ext cx="2970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8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3" y="261"/>
                  </a:lnTo>
                  <a:lnTo>
                    <a:pt x="411" y="263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2" y="273"/>
                  </a:lnTo>
                  <a:lnTo>
                    <a:pt x="372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7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8" y="385"/>
                  </a:lnTo>
                  <a:lnTo>
                    <a:pt x="263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4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20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2"/>
                  </a:lnTo>
                  <a:lnTo>
                    <a:pt x="263" y="574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2"/>
                  </a:lnTo>
                  <a:lnTo>
                    <a:pt x="283" y="611"/>
                  </a:lnTo>
                  <a:lnTo>
                    <a:pt x="289" y="621"/>
                  </a:lnTo>
                  <a:lnTo>
                    <a:pt x="296" y="630"/>
                  </a:lnTo>
                  <a:lnTo>
                    <a:pt x="303" y="638"/>
                  </a:lnTo>
                  <a:lnTo>
                    <a:pt x="310" y="646"/>
                  </a:lnTo>
                  <a:lnTo>
                    <a:pt x="319" y="654"/>
                  </a:lnTo>
                  <a:lnTo>
                    <a:pt x="327" y="661"/>
                  </a:lnTo>
                  <a:lnTo>
                    <a:pt x="335" y="669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2" y="691"/>
                  </a:lnTo>
                  <a:lnTo>
                    <a:pt x="381" y="695"/>
                  </a:lnTo>
                  <a:lnTo>
                    <a:pt x="391" y="699"/>
                  </a:lnTo>
                  <a:lnTo>
                    <a:pt x="401" y="703"/>
                  </a:lnTo>
                  <a:lnTo>
                    <a:pt x="411" y="705"/>
                  </a:lnTo>
                  <a:lnTo>
                    <a:pt x="423" y="708"/>
                  </a:lnTo>
                  <a:lnTo>
                    <a:pt x="433" y="709"/>
                  </a:lnTo>
                  <a:lnTo>
                    <a:pt x="444" y="711"/>
                  </a:lnTo>
                  <a:lnTo>
                    <a:pt x="455" y="711"/>
                  </a:lnTo>
                  <a:lnTo>
                    <a:pt x="468" y="711"/>
                  </a:lnTo>
                  <a:lnTo>
                    <a:pt x="479" y="711"/>
                  </a:lnTo>
                  <a:lnTo>
                    <a:pt x="490" y="711"/>
                  </a:lnTo>
                  <a:lnTo>
                    <a:pt x="501" y="709"/>
                  </a:lnTo>
                  <a:lnTo>
                    <a:pt x="512" y="708"/>
                  </a:lnTo>
                  <a:lnTo>
                    <a:pt x="523" y="705"/>
                  </a:lnTo>
                  <a:lnTo>
                    <a:pt x="533" y="703"/>
                  </a:lnTo>
                  <a:lnTo>
                    <a:pt x="543" y="699"/>
                  </a:lnTo>
                  <a:lnTo>
                    <a:pt x="552" y="695"/>
                  </a:lnTo>
                  <a:lnTo>
                    <a:pt x="563" y="691"/>
                  </a:lnTo>
                  <a:lnTo>
                    <a:pt x="572" y="686"/>
                  </a:lnTo>
                  <a:lnTo>
                    <a:pt x="581" y="681"/>
                  </a:lnTo>
                  <a:lnTo>
                    <a:pt x="590" y="675"/>
                  </a:lnTo>
                  <a:lnTo>
                    <a:pt x="598" y="669"/>
                  </a:lnTo>
                  <a:lnTo>
                    <a:pt x="608" y="661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4" y="621"/>
                  </a:lnTo>
                  <a:lnTo>
                    <a:pt x="650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1"/>
                  </a:lnTo>
                  <a:lnTo>
                    <a:pt x="682" y="531"/>
                  </a:lnTo>
                  <a:lnTo>
                    <a:pt x="685" y="507"/>
                  </a:lnTo>
                  <a:lnTo>
                    <a:pt x="686" y="484"/>
                  </a:lnTo>
                  <a:lnTo>
                    <a:pt x="685" y="460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7"/>
                  </a:lnTo>
                  <a:lnTo>
                    <a:pt x="674" y="406"/>
                  </a:lnTo>
                  <a:lnTo>
                    <a:pt x="671" y="395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7"/>
                  </a:lnTo>
                  <a:lnTo>
                    <a:pt x="650" y="357"/>
                  </a:lnTo>
                  <a:lnTo>
                    <a:pt x="638" y="339"/>
                  </a:lnTo>
                  <a:lnTo>
                    <a:pt x="624" y="322"/>
                  </a:lnTo>
                  <a:lnTo>
                    <a:pt x="616" y="315"/>
                  </a:lnTo>
                  <a:lnTo>
                    <a:pt x="608" y="306"/>
                  </a:lnTo>
                  <a:lnTo>
                    <a:pt x="598" y="299"/>
                  </a:lnTo>
                  <a:lnTo>
                    <a:pt x="590" y="293"/>
                  </a:lnTo>
                  <a:lnTo>
                    <a:pt x="581" y="287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2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3" y="263"/>
                  </a:lnTo>
                  <a:lnTo>
                    <a:pt x="512" y="261"/>
                  </a:lnTo>
                  <a:lnTo>
                    <a:pt x="501" y="259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5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6" y="66"/>
                  </a:lnTo>
                  <a:lnTo>
                    <a:pt x="723" y="77"/>
                  </a:lnTo>
                  <a:lnTo>
                    <a:pt x="739" y="88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2"/>
                  </a:lnTo>
                  <a:lnTo>
                    <a:pt x="840" y="192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0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5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8"/>
                  </a:lnTo>
                  <a:lnTo>
                    <a:pt x="738" y="882"/>
                  </a:lnTo>
                  <a:lnTo>
                    <a:pt x="722" y="893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6" y="969"/>
                  </a:lnTo>
                  <a:lnTo>
                    <a:pt x="444" y="969"/>
                  </a:lnTo>
                  <a:lnTo>
                    <a:pt x="423" y="967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0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8" y="868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6" y="817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3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0"/>
                  </a:lnTo>
                  <a:lnTo>
                    <a:pt x="0" y="484"/>
                  </a:lnTo>
                  <a:lnTo>
                    <a:pt x="1" y="457"/>
                  </a:lnTo>
                  <a:lnTo>
                    <a:pt x="3" y="432"/>
                  </a:lnTo>
                  <a:lnTo>
                    <a:pt x="6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2" y="305"/>
                  </a:lnTo>
                  <a:lnTo>
                    <a:pt x="42" y="282"/>
                  </a:lnTo>
                  <a:lnTo>
                    <a:pt x="53" y="259"/>
                  </a:lnTo>
                  <a:lnTo>
                    <a:pt x="65" y="235"/>
                  </a:lnTo>
                  <a:lnTo>
                    <a:pt x="79" y="214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8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2" y="37"/>
                  </a:lnTo>
                  <a:lnTo>
                    <a:pt x="301" y="29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0" y="12"/>
                  </a:lnTo>
                  <a:lnTo>
                    <a:pt x="382" y="8"/>
                  </a:lnTo>
                  <a:lnTo>
                    <a:pt x="402" y="5"/>
                  </a:lnTo>
                  <a:lnTo>
                    <a:pt x="423" y="1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02732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2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248000" y="1338120"/>
              <a:ext cx="18288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3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7" y="338"/>
                  </a:lnTo>
                  <a:lnTo>
                    <a:pt x="447" y="581"/>
                  </a:lnTo>
                  <a:lnTo>
                    <a:pt x="239" y="581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448160" y="1333440"/>
              <a:ext cx="200160" cy="30312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6"/>
                  </a:moveTo>
                  <a:lnTo>
                    <a:pt x="603" y="938"/>
                  </a:lnTo>
                  <a:lnTo>
                    <a:pt x="597" y="940"/>
                  </a:lnTo>
                  <a:lnTo>
                    <a:pt x="590" y="942"/>
                  </a:lnTo>
                  <a:lnTo>
                    <a:pt x="583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1" y="947"/>
                  </a:lnTo>
                  <a:lnTo>
                    <a:pt x="553" y="948"/>
                  </a:lnTo>
                  <a:lnTo>
                    <a:pt x="546" y="949"/>
                  </a:lnTo>
                  <a:lnTo>
                    <a:pt x="538" y="949"/>
                  </a:lnTo>
                  <a:lnTo>
                    <a:pt x="530" y="950"/>
                  </a:lnTo>
                  <a:lnTo>
                    <a:pt x="522" y="951"/>
                  </a:lnTo>
                  <a:lnTo>
                    <a:pt x="513" y="951"/>
                  </a:lnTo>
                  <a:lnTo>
                    <a:pt x="505" y="951"/>
                  </a:lnTo>
                  <a:lnTo>
                    <a:pt x="497" y="952"/>
                  </a:lnTo>
                  <a:lnTo>
                    <a:pt x="488" y="952"/>
                  </a:lnTo>
                  <a:lnTo>
                    <a:pt x="461" y="951"/>
                  </a:lnTo>
                  <a:lnTo>
                    <a:pt x="434" y="950"/>
                  </a:lnTo>
                  <a:lnTo>
                    <a:pt x="409" y="947"/>
                  </a:lnTo>
                  <a:lnTo>
                    <a:pt x="383" y="944"/>
                  </a:lnTo>
                  <a:lnTo>
                    <a:pt x="360" y="939"/>
                  </a:lnTo>
                  <a:lnTo>
                    <a:pt x="335" y="934"/>
                  </a:lnTo>
                  <a:lnTo>
                    <a:pt x="313" y="927"/>
                  </a:lnTo>
                  <a:lnTo>
                    <a:pt x="290" y="920"/>
                  </a:lnTo>
                  <a:lnTo>
                    <a:pt x="269" y="910"/>
                  </a:lnTo>
                  <a:lnTo>
                    <a:pt x="248" y="901"/>
                  </a:lnTo>
                  <a:lnTo>
                    <a:pt x="227" y="890"/>
                  </a:lnTo>
                  <a:lnTo>
                    <a:pt x="208" y="879"/>
                  </a:lnTo>
                  <a:lnTo>
                    <a:pt x="188" y="866"/>
                  </a:lnTo>
                  <a:lnTo>
                    <a:pt x="170" y="852"/>
                  </a:lnTo>
                  <a:lnTo>
                    <a:pt x="152" y="838"/>
                  </a:lnTo>
                  <a:lnTo>
                    <a:pt x="135" y="822"/>
                  </a:lnTo>
                  <a:lnTo>
                    <a:pt x="119" y="805"/>
                  </a:lnTo>
                  <a:lnTo>
                    <a:pt x="104" y="788"/>
                  </a:lnTo>
                  <a:lnTo>
                    <a:pt x="89" y="770"/>
                  </a:lnTo>
                  <a:lnTo>
                    <a:pt x="76" y="751"/>
                  </a:lnTo>
                  <a:lnTo>
                    <a:pt x="64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4" y="672"/>
                  </a:lnTo>
                  <a:lnTo>
                    <a:pt x="26" y="650"/>
                  </a:lnTo>
                  <a:lnTo>
                    <a:pt x="19" y="628"/>
                  </a:lnTo>
                  <a:lnTo>
                    <a:pt x="14" y="605"/>
                  </a:lnTo>
                  <a:lnTo>
                    <a:pt x="9" y="582"/>
                  </a:lnTo>
                  <a:lnTo>
                    <a:pt x="5" y="559"/>
                  </a:lnTo>
                  <a:lnTo>
                    <a:pt x="3" y="534"/>
                  </a:lnTo>
                  <a:lnTo>
                    <a:pt x="0" y="509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7"/>
                  </a:lnTo>
                  <a:lnTo>
                    <a:pt x="9" y="383"/>
                  </a:lnTo>
                  <a:lnTo>
                    <a:pt x="14" y="359"/>
                  </a:lnTo>
                  <a:lnTo>
                    <a:pt x="20" y="336"/>
                  </a:lnTo>
                  <a:lnTo>
                    <a:pt x="27" y="314"/>
                  </a:lnTo>
                  <a:lnTo>
                    <a:pt x="35" y="291"/>
                  </a:lnTo>
                  <a:lnTo>
                    <a:pt x="44" y="270"/>
                  </a:lnTo>
                  <a:lnTo>
                    <a:pt x="55" y="250"/>
                  </a:lnTo>
                  <a:lnTo>
                    <a:pt x="66" y="229"/>
                  </a:lnTo>
                  <a:lnTo>
                    <a:pt x="79" y="210"/>
                  </a:lnTo>
                  <a:lnTo>
                    <a:pt x="92" y="190"/>
                  </a:lnTo>
                  <a:lnTo>
                    <a:pt x="107" y="172"/>
                  </a:lnTo>
                  <a:lnTo>
                    <a:pt x="123" y="154"/>
                  </a:lnTo>
                  <a:lnTo>
                    <a:pt x="140" y="136"/>
                  </a:lnTo>
                  <a:lnTo>
                    <a:pt x="158" y="120"/>
                  </a:lnTo>
                  <a:lnTo>
                    <a:pt x="176" y="105"/>
                  </a:lnTo>
                  <a:lnTo>
                    <a:pt x="194" y="90"/>
                  </a:lnTo>
                  <a:lnTo>
                    <a:pt x="215" y="77"/>
                  </a:lnTo>
                  <a:lnTo>
                    <a:pt x="234" y="65"/>
                  </a:lnTo>
                  <a:lnTo>
                    <a:pt x="256" y="54"/>
                  </a:lnTo>
                  <a:lnTo>
                    <a:pt x="277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5" y="19"/>
                  </a:lnTo>
                  <a:lnTo>
                    <a:pt x="368" y="13"/>
                  </a:lnTo>
                  <a:lnTo>
                    <a:pt x="393" y="9"/>
                  </a:lnTo>
                  <a:lnTo>
                    <a:pt x="417" y="5"/>
                  </a:lnTo>
                  <a:lnTo>
                    <a:pt x="443" y="2"/>
                  </a:lnTo>
                  <a:lnTo>
                    <a:pt x="469" y="1"/>
                  </a:lnTo>
                  <a:lnTo>
                    <a:pt x="496" y="0"/>
                  </a:lnTo>
                  <a:lnTo>
                    <a:pt x="502" y="0"/>
                  </a:lnTo>
                  <a:lnTo>
                    <a:pt x="508" y="1"/>
                  </a:lnTo>
                  <a:lnTo>
                    <a:pt x="515" y="1"/>
                  </a:lnTo>
                  <a:lnTo>
                    <a:pt x="521" y="1"/>
                  </a:lnTo>
                  <a:lnTo>
                    <a:pt x="528" y="2"/>
                  </a:lnTo>
                  <a:lnTo>
                    <a:pt x="535" y="2"/>
                  </a:lnTo>
                  <a:lnTo>
                    <a:pt x="542" y="3"/>
                  </a:lnTo>
                  <a:lnTo>
                    <a:pt x="549" y="3"/>
                  </a:lnTo>
                  <a:lnTo>
                    <a:pt x="556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5" y="9"/>
                  </a:lnTo>
                  <a:lnTo>
                    <a:pt x="592" y="10"/>
                  </a:lnTo>
                  <a:lnTo>
                    <a:pt x="599" y="12"/>
                  </a:lnTo>
                  <a:lnTo>
                    <a:pt x="606" y="13"/>
                  </a:lnTo>
                  <a:lnTo>
                    <a:pt x="619" y="286"/>
                  </a:lnTo>
                  <a:lnTo>
                    <a:pt x="611" y="282"/>
                  </a:lnTo>
                  <a:lnTo>
                    <a:pt x="603" y="279"/>
                  </a:lnTo>
                  <a:lnTo>
                    <a:pt x="595" y="276"/>
                  </a:lnTo>
                  <a:lnTo>
                    <a:pt x="587" y="273"/>
                  </a:lnTo>
                  <a:lnTo>
                    <a:pt x="578" y="271"/>
                  </a:lnTo>
                  <a:lnTo>
                    <a:pt x="570" y="269"/>
                  </a:lnTo>
                  <a:lnTo>
                    <a:pt x="562" y="267"/>
                  </a:lnTo>
                  <a:lnTo>
                    <a:pt x="555" y="265"/>
                  </a:lnTo>
                  <a:lnTo>
                    <a:pt x="547" y="263"/>
                  </a:lnTo>
                  <a:lnTo>
                    <a:pt x="539" y="262"/>
                  </a:lnTo>
                  <a:lnTo>
                    <a:pt x="531" y="261"/>
                  </a:lnTo>
                  <a:lnTo>
                    <a:pt x="523" y="260"/>
                  </a:lnTo>
                  <a:lnTo>
                    <a:pt x="516" y="259"/>
                  </a:lnTo>
                  <a:lnTo>
                    <a:pt x="508" y="258"/>
                  </a:lnTo>
                  <a:lnTo>
                    <a:pt x="501" y="258"/>
                  </a:lnTo>
                  <a:lnTo>
                    <a:pt x="494" y="258"/>
                  </a:lnTo>
                  <a:lnTo>
                    <a:pt x="467" y="259"/>
                  </a:lnTo>
                  <a:lnTo>
                    <a:pt x="442" y="262"/>
                  </a:lnTo>
                  <a:lnTo>
                    <a:pt x="429" y="264"/>
                  </a:lnTo>
                  <a:lnTo>
                    <a:pt x="417" y="267"/>
                  </a:lnTo>
                  <a:lnTo>
                    <a:pt x="406" y="270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1"/>
                  </a:lnTo>
                  <a:lnTo>
                    <a:pt x="363" y="286"/>
                  </a:lnTo>
                  <a:lnTo>
                    <a:pt x="353" y="292"/>
                  </a:lnTo>
                  <a:lnTo>
                    <a:pt x="344" y="298"/>
                  </a:lnTo>
                  <a:lnTo>
                    <a:pt x="334" y="305"/>
                  </a:lnTo>
                  <a:lnTo>
                    <a:pt x="325" y="312"/>
                  </a:lnTo>
                  <a:lnTo>
                    <a:pt x="317" y="319"/>
                  </a:lnTo>
                  <a:lnTo>
                    <a:pt x="308" y="327"/>
                  </a:lnTo>
                  <a:lnTo>
                    <a:pt x="301" y="334"/>
                  </a:lnTo>
                  <a:lnTo>
                    <a:pt x="294" y="343"/>
                  </a:lnTo>
                  <a:lnTo>
                    <a:pt x="286" y="352"/>
                  </a:lnTo>
                  <a:lnTo>
                    <a:pt x="280" y="361"/>
                  </a:lnTo>
                  <a:lnTo>
                    <a:pt x="275" y="369"/>
                  </a:lnTo>
                  <a:lnTo>
                    <a:pt x="270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8" y="408"/>
                  </a:lnTo>
                  <a:lnTo>
                    <a:pt x="255" y="419"/>
                  </a:lnTo>
                  <a:lnTo>
                    <a:pt x="253" y="429"/>
                  </a:lnTo>
                  <a:lnTo>
                    <a:pt x="251" y="440"/>
                  </a:lnTo>
                  <a:lnTo>
                    <a:pt x="250" y="451"/>
                  </a:lnTo>
                  <a:lnTo>
                    <a:pt x="249" y="463"/>
                  </a:lnTo>
                  <a:lnTo>
                    <a:pt x="249" y="474"/>
                  </a:lnTo>
                  <a:lnTo>
                    <a:pt x="249" y="486"/>
                  </a:lnTo>
                  <a:lnTo>
                    <a:pt x="250" y="497"/>
                  </a:lnTo>
                  <a:lnTo>
                    <a:pt x="251" y="509"/>
                  </a:lnTo>
                  <a:lnTo>
                    <a:pt x="253" y="519"/>
                  </a:lnTo>
                  <a:lnTo>
                    <a:pt x="255" y="530"/>
                  </a:lnTo>
                  <a:lnTo>
                    <a:pt x="258" y="540"/>
                  </a:lnTo>
                  <a:lnTo>
                    <a:pt x="261" y="550"/>
                  </a:lnTo>
                  <a:lnTo>
                    <a:pt x="265" y="561"/>
                  </a:lnTo>
                  <a:lnTo>
                    <a:pt x="270" y="570"/>
                  </a:lnTo>
                  <a:lnTo>
                    <a:pt x="274" y="579"/>
                  </a:lnTo>
                  <a:lnTo>
                    <a:pt x="280" y="588"/>
                  </a:lnTo>
                  <a:lnTo>
                    <a:pt x="286" y="597"/>
                  </a:lnTo>
                  <a:lnTo>
                    <a:pt x="293" y="607"/>
                  </a:lnTo>
                  <a:lnTo>
                    <a:pt x="300" y="615"/>
                  </a:lnTo>
                  <a:lnTo>
                    <a:pt x="308" y="623"/>
                  </a:lnTo>
                  <a:lnTo>
                    <a:pt x="316" y="631"/>
                  </a:lnTo>
                  <a:lnTo>
                    <a:pt x="324" y="639"/>
                  </a:lnTo>
                  <a:lnTo>
                    <a:pt x="333" y="646"/>
                  </a:lnTo>
                  <a:lnTo>
                    <a:pt x="343" y="652"/>
                  </a:lnTo>
                  <a:lnTo>
                    <a:pt x="352" y="659"/>
                  </a:lnTo>
                  <a:lnTo>
                    <a:pt x="361" y="665"/>
                  </a:lnTo>
                  <a:lnTo>
                    <a:pt x="371" y="670"/>
                  </a:lnTo>
                  <a:lnTo>
                    <a:pt x="381" y="674"/>
                  </a:lnTo>
                  <a:lnTo>
                    <a:pt x="392" y="678"/>
                  </a:lnTo>
                  <a:lnTo>
                    <a:pt x="403" y="682"/>
                  </a:lnTo>
                  <a:lnTo>
                    <a:pt x="414" y="685"/>
                  </a:lnTo>
                  <a:lnTo>
                    <a:pt x="425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3"/>
                  </a:lnTo>
                  <a:lnTo>
                    <a:pt x="512" y="693"/>
                  </a:lnTo>
                  <a:lnTo>
                    <a:pt x="521" y="692"/>
                  </a:lnTo>
                  <a:lnTo>
                    <a:pt x="530" y="690"/>
                  </a:lnTo>
                  <a:lnTo>
                    <a:pt x="540" y="689"/>
                  </a:lnTo>
                  <a:lnTo>
                    <a:pt x="549" y="687"/>
                  </a:lnTo>
                  <a:lnTo>
                    <a:pt x="557" y="685"/>
                  </a:lnTo>
                  <a:lnTo>
                    <a:pt x="566" y="682"/>
                  </a:lnTo>
                  <a:lnTo>
                    <a:pt x="575" y="680"/>
                  </a:lnTo>
                  <a:lnTo>
                    <a:pt x="585" y="677"/>
                  </a:lnTo>
                  <a:lnTo>
                    <a:pt x="593" y="673"/>
                  </a:lnTo>
                  <a:lnTo>
                    <a:pt x="602" y="670"/>
                  </a:lnTo>
                  <a:lnTo>
                    <a:pt x="611" y="666"/>
                  </a:lnTo>
                  <a:lnTo>
                    <a:pt x="619" y="662"/>
                  </a:lnTo>
                  <a:lnTo>
                    <a:pt x="628" y="656"/>
                  </a:lnTo>
                  <a:lnTo>
                    <a:pt x="610" y="9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66560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0">
                  <a:moveTo>
                    <a:pt x="426" y="232"/>
                  </a:moveTo>
                  <a:lnTo>
                    <a:pt x="426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973760" y="1338120"/>
              <a:ext cx="239760" cy="292320"/>
            </a:xfrm>
            <a:custGeom>
              <a:avLst/>
              <a:gdLst/>
              <a:ahLst/>
              <a:rect l="l" t="t" r="r" b="b"/>
              <a:pathLst>
                <a:path w="757" h="920">
                  <a:moveTo>
                    <a:pt x="250" y="920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4" y="0"/>
                  </a:lnTo>
                  <a:lnTo>
                    <a:pt x="374" y="276"/>
                  </a:lnTo>
                  <a:lnTo>
                    <a:pt x="489" y="0"/>
                  </a:lnTo>
                  <a:lnTo>
                    <a:pt x="757" y="0"/>
                  </a:lnTo>
                  <a:lnTo>
                    <a:pt x="489" y="518"/>
                  </a:lnTo>
                  <a:lnTo>
                    <a:pt x="489" y="920"/>
                  </a:lnTo>
                  <a:lnTo>
                    <a:pt x="25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202360" y="1330200"/>
              <a:ext cx="29664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1" y="261"/>
                  </a:lnTo>
                  <a:lnTo>
                    <a:pt x="411" y="263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0" y="273"/>
                  </a:lnTo>
                  <a:lnTo>
                    <a:pt x="371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4" y="299"/>
                  </a:lnTo>
                  <a:lnTo>
                    <a:pt x="326" y="306"/>
                  </a:lnTo>
                  <a:lnTo>
                    <a:pt x="318" y="314"/>
                  </a:lnTo>
                  <a:lnTo>
                    <a:pt x="310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89" y="347"/>
                  </a:lnTo>
                  <a:lnTo>
                    <a:pt x="282" y="356"/>
                  </a:lnTo>
                  <a:lnTo>
                    <a:pt x="277" y="366"/>
                  </a:lnTo>
                  <a:lnTo>
                    <a:pt x="271" y="376"/>
                  </a:lnTo>
                  <a:lnTo>
                    <a:pt x="267" y="385"/>
                  </a:lnTo>
                  <a:lnTo>
                    <a:pt x="263" y="395"/>
                  </a:lnTo>
                  <a:lnTo>
                    <a:pt x="259" y="405"/>
                  </a:lnTo>
                  <a:lnTo>
                    <a:pt x="256" y="416"/>
                  </a:lnTo>
                  <a:lnTo>
                    <a:pt x="253" y="427"/>
                  </a:lnTo>
                  <a:lnTo>
                    <a:pt x="251" y="438"/>
                  </a:lnTo>
                  <a:lnTo>
                    <a:pt x="250" y="449"/>
                  </a:lnTo>
                  <a:lnTo>
                    <a:pt x="248" y="460"/>
                  </a:lnTo>
                  <a:lnTo>
                    <a:pt x="248" y="473"/>
                  </a:lnTo>
                  <a:lnTo>
                    <a:pt x="247" y="484"/>
                  </a:lnTo>
                  <a:lnTo>
                    <a:pt x="248" y="496"/>
                  </a:lnTo>
                  <a:lnTo>
                    <a:pt x="248" y="508"/>
                  </a:lnTo>
                  <a:lnTo>
                    <a:pt x="250" y="520"/>
                  </a:lnTo>
                  <a:lnTo>
                    <a:pt x="251" y="531"/>
                  </a:lnTo>
                  <a:lnTo>
                    <a:pt x="253" y="542"/>
                  </a:lnTo>
                  <a:lnTo>
                    <a:pt x="256" y="552"/>
                  </a:lnTo>
                  <a:lnTo>
                    <a:pt x="259" y="562"/>
                  </a:lnTo>
                  <a:lnTo>
                    <a:pt x="263" y="574"/>
                  </a:lnTo>
                  <a:lnTo>
                    <a:pt x="267" y="583"/>
                  </a:lnTo>
                  <a:lnTo>
                    <a:pt x="271" y="593"/>
                  </a:lnTo>
                  <a:lnTo>
                    <a:pt x="276" y="602"/>
                  </a:lnTo>
                  <a:lnTo>
                    <a:pt x="282" y="611"/>
                  </a:lnTo>
                  <a:lnTo>
                    <a:pt x="289" y="621"/>
                  </a:lnTo>
                  <a:lnTo>
                    <a:pt x="295" y="630"/>
                  </a:lnTo>
                  <a:lnTo>
                    <a:pt x="302" y="638"/>
                  </a:lnTo>
                  <a:lnTo>
                    <a:pt x="310" y="646"/>
                  </a:lnTo>
                  <a:lnTo>
                    <a:pt x="318" y="654"/>
                  </a:lnTo>
                  <a:lnTo>
                    <a:pt x="326" y="661"/>
                  </a:lnTo>
                  <a:lnTo>
                    <a:pt x="334" y="669"/>
                  </a:lnTo>
                  <a:lnTo>
                    <a:pt x="343" y="675"/>
                  </a:lnTo>
                  <a:lnTo>
                    <a:pt x="352" y="681"/>
                  </a:lnTo>
                  <a:lnTo>
                    <a:pt x="361" y="686"/>
                  </a:lnTo>
                  <a:lnTo>
                    <a:pt x="370" y="691"/>
                  </a:lnTo>
                  <a:lnTo>
                    <a:pt x="380" y="695"/>
                  </a:lnTo>
                  <a:lnTo>
                    <a:pt x="390" y="699"/>
                  </a:lnTo>
                  <a:lnTo>
                    <a:pt x="400" y="703"/>
                  </a:lnTo>
                  <a:lnTo>
                    <a:pt x="411" y="705"/>
                  </a:lnTo>
                  <a:lnTo>
                    <a:pt x="421" y="708"/>
                  </a:lnTo>
                  <a:lnTo>
                    <a:pt x="433" y="709"/>
                  </a:lnTo>
                  <a:lnTo>
                    <a:pt x="444" y="711"/>
                  </a:lnTo>
                  <a:lnTo>
                    <a:pt x="455" y="711"/>
                  </a:lnTo>
                  <a:lnTo>
                    <a:pt x="466" y="711"/>
                  </a:lnTo>
                  <a:lnTo>
                    <a:pt x="477" y="711"/>
                  </a:lnTo>
                  <a:lnTo>
                    <a:pt x="489" y="711"/>
                  </a:lnTo>
                  <a:lnTo>
                    <a:pt x="500" y="709"/>
                  </a:lnTo>
                  <a:lnTo>
                    <a:pt x="511" y="708"/>
                  </a:lnTo>
                  <a:lnTo>
                    <a:pt x="521" y="705"/>
                  </a:lnTo>
                  <a:lnTo>
                    <a:pt x="532" y="703"/>
                  </a:lnTo>
                  <a:lnTo>
                    <a:pt x="542" y="699"/>
                  </a:lnTo>
                  <a:lnTo>
                    <a:pt x="552" y="695"/>
                  </a:lnTo>
                  <a:lnTo>
                    <a:pt x="561" y="691"/>
                  </a:lnTo>
                  <a:lnTo>
                    <a:pt x="571" y="686"/>
                  </a:lnTo>
                  <a:lnTo>
                    <a:pt x="581" y="681"/>
                  </a:lnTo>
                  <a:lnTo>
                    <a:pt x="589" y="675"/>
                  </a:lnTo>
                  <a:lnTo>
                    <a:pt x="598" y="669"/>
                  </a:lnTo>
                  <a:lnTo>
                    <a:pt x="606" y="661"/>
                  </a:lnTo>
                  <a:lnTo>
                    <a:pt x="614" y="654"/>
                  </a:lnTo>
                  <a:lnTo>
                    <a:pt x="622" y="646"/>
                  </a:lnTo>
                  <a:lnTo>
                    <a:pt x="630" y="638"/>
                  </a:lnTo>
                  <a:lnTo>
                    <a:pt x="637" y="630"/>
                  </a:lnTo>
                  <a:lnTo>
                    <a:pt x="644" y="621"/>
                  </a:lnTo>
                  <a:lnTo>
                    <a:pt x="650" y="611"/>
                  </a:lnTo>
                  <a:lnTo>
                    <a:pt x="655" y="602"/>
                  </a:lnTo>
                  <a:lnTo>
                    <a:pt x="661" y="593"/>
                  </a:lnTo>
                  <a:lnTo>
                    <a:pt x="665" y="583"/>
                  </a:lnTo>
                  <a:lnTo>
                    <a:pt x="669" y="573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1"/>
                  </a:lnTo>
                  <a:lnTo>
                    <a:pt x="682" y="531"/>
                  </a:lnTo>
                  <a:lnTo>
                    <a:pt x="685" y="507"/>
                  </a:lnTo>
                  <a:lnTo>
                    <a:pt x="686" y="484"/>
                  </a:lnTo>
                  <a:lnTo>
                    <a:pt x="685" y="460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7"/>
                  </a:lnTo>
                  <a:lnTo>
                    <a:pt x="674" y="406"/>
                  </a:lnTo>
                  <a:lnTo>
                    <a:pt x="669" y="395"/>
                  </a:lnTo>
                  <a:lnTo>
                    <a:pt x="665" y="386"/>
                  </a:lnTo>
                  <a:lnTo>
                    <a:pt x="661" y="376"/>
                  </a:lnTo>
                  <a:lnTo>
                    <a:pt x="655" y="367"/>
                  </a:lnTo>
                  <a:lnTo>
                    <a:pt x="650" y="357"/>
                  </a:lnTo>
                  <a:lnTo>
                    <a:pt x="637" y="339"/>
                  </a:lnTo>
                  <a:lnTo>
                    <a:pt x="622" y="322"/>
                  </a:lnTo>
                  <a:lnTo>
                    <a:pt x="614" y="315"/>
                  </a:lnTo>
                  <a:lnTo>
                    <a:pt x="606" y="306"/>
                  </a:lnTo>
                  <a:lnTo>
                    <a:pt x="598" y="299"/>
                  </a:lnTo>
                  <a:lnTo>
                    <a:pt x="589" y="293"/>
                  </a:lnTo>
                  <a:lnTo>
                    <a:pt x="581" y="287"/>
                  </a:lnTo>
                  <a:lnTo>
                    <a:pt x="571" y="282"/>
                  </a:lnTo>
                  <a:lnTo>
                    <a:pt x="561" y="277"/>
                  </a:lnTo>
                  <a:lnTo>
                    <a:pt x="552" y="273"/>
                  </a:lnTo>
                  <a:lnTo>
                    <a:pt x="542" y="269"/>
                  </a:lnTo>
                  <a:lnTo>
                    <a:pt x="532" y="266"/>
                  </a:lnTo>
                  <a:lnTo>
                    <a:pt x="521" y="263"/>
                  </a:lnTo>
                  <a:lnTo>
                    <a:pt x="511" y="261"/>
                  </a:lnTo>
                  <a:lnTo>
                    <a:pt x="500" y="259"/>
                  </a:lnTo>
                  <a:lnTo>
                    <a:pt x="489" y="257"/>
                  </a:lnTo>
                  <a:lnTo>
                    <a:pt x="477" y="256"/>
                  </a:lnTo>
                  <a:lnTo>
                    <a:pt x="466" y="256"/>
                  </a:lnTo>
                  <a:close/>
                  <a:moveTo>
                    <a:pt x="465" y="0"/>
                  </a:moveTo>
                  <a:lnTo>
                    <a:pt x="487" y="0"/>
                  </a:lnTo>
                  <a:lnTo>
                    <a:pt x="508" y="2"/>
                  </a:lnTo>
                  <a:lnTo>
                    <a:pt x="530" y="5"/>
                  </a:lnTo>
                  <a:lnTo>
                    <a:pt x="550" y="8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1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69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1" y="77"/>
                  </a:lnTo>
                  <a:lnTo>
                    <a:pt x="738" y="88"/>
                  </a:lnTo>
                  <a:lnTo>
                    <a:pt x="754" y="101"/>
                  </a:lnTo>
                  <a:lnTo>
                    <a:pt x="769" y="115"/>
                  </a:lnTo>
                  <a:lnTo>
                    <a:pt x="788" y="133"/>
                  </a:lnTo>
                  <a:lnTo>
                    <a:pt x="806" y="152"/>
                  </a:lnTo>
                  <a:lnTo>
                    <a:pt x="824" y="172"/>
                  </a:lnTo>
                  <a:lnTo>
                    <a:pt x="839" y="192"/>
                  </a:lnTo>
                  <a:lnTo>
                    <a:pt x="853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0" y="306"/>
                  </a:lnTo>
                  <a:lnTo>
                    <a:pt x="909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7" y="406"/>
                  </a:lnTo>
                  <a:lnTo>
                    <a:pt x="930" y="432"/>
                  </a:lnTo>
                  <a:lnTo>
                    <a:pt x="932" y="458"/>
                  </a:lnTo>
                  <a:lnTo>
                    <a:pt x="933" y="484"/>
                  </a:lnTo>
                  <a:lnTo>
                    <a:pt x="932" y="510"/>
                  </a:lnTo>
                  <a:lnTo>
                    <a:pt x="930" y="537"/>
                  </a:lnTo>
                  <a:lnTo>
                    <a:pt x="927" y="562"/>
                  </a:lnTo>
                  <a:lnTo>
                    <a:pt x="922" y="588"/>
                  </a:lnTo>
                  <a:lnTo>
                    <a:pt x="917" y="613"/>
                  </a:lnTo>
                  <a:lnTo>
                    <a:pt x="908" y="638"/>
                  </a:lnTo>
                  <a:lnTo>
                    <a:pt x="900" y="662"/>
                  </a:lnTo>
                  <a:lnTo>
                    <a:pt x="890" y="687"/>
                  </a:lnTo>
                  <a:lnTo>
                    <a:pt x="879" y="710"/>
                  </a:lnTo>
                  <a:lnTo>
                    <a:pt x="866" y="734"/>
                  </a:lnTo>
                  <a:lnTo>
                    <a:pt x="853" y="755"/>
                  </a:lnTo>
                  <a:lnTo>
                    <a:pt x="839" y="777"/>
                  </a:lnTo>
                  <a:lnTo>
                    <a:pt x="823" y="798"/>
                  </a:lnTo>
                  <a:lnTo>
                    <a:pt x="806" y="817"/>
                  </a:lnTo>
                  <a:lnTo>
                    <a:pt x="788" y="837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2"/>
                  </a:lnTo>
                  <a:lnTo>
                    <a:pt x="721" y="893"/>
                  </a:lnTo>
                  <a:lnTo>
                    <a:pt x="704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49" y="933"/>
                  </a:lnTo>
                  <a:lnTo>
                    <a:pt x="631" y="940"/>
                  </a:lnTo>
                  <a:lnTo>
                    <a:pt x="610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29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1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7"/>
                  </a:lnTo>
                  <a:lnTo>
                    <a:pt x="125" y="817"/>
                  </a:lnTo>
                  <a:lnTo>
                    <a:pt x="108" y="798"/>
                  </a:lnTo>
                  <a:lnTo>
                    <a:pt x="92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7"/>
                  </a:lnTo>
                  <a:lnTo>
                    <a:pt x="31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7"/>
                  </a:lnTo>
                  <a:lnTo>
                    <a:pt x="0" y="510"/>
                  </a:lnTo>
                  <a:lnTo>
                    <a:pt x="0" y="484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5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5"/>
                  </a:lnTo>
                  <a:lnTo>
                    <a:pt x="41" y="282"/>
                  </a:lnTo>
                  <a:lnTo>
                    <a:pt x="52" y="259"/>
                  </a:lnTo>
                  <a:lnTo>
                    <a:pt x="64" y="235"/>
                  </a:lnTo>
                  <a:lnTo>
                    <a:pt x="77" y="214"/>
                  </a:lnTo>
                  <a:lnTo>
                    <a:pt x="92" y="192"/>
                  </a:lnTo>
                  <a:lnTo>
                    <a:pt x="108" y="172"/>
                  </a:lnTo>
                  <a:lnTo>
                    <a:pt x="124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7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1" y="37"/>
                  </a:lnTo>
                  <a:lnTo>
                    <a:pt x="301" y="29"/>
                  </a:lnTo>
                  <a:lnTo>
                    <a:pt x="320" y="23"/>
                  </a:lnTo>
                  <a:lnTo>
                    <a:pt x="340" y="17"/>
                  </a:lnTo>
                  <a:lnTo>
                    <a:pt x="360" y="12"/>
                  </a:lnTo>
                  <a:lnTo>
                    <a:pt x="380" y="8"/>
                  </a:lnTo>
                  <a:lnTo>
                    <a:pt x="401" y="5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532480" y="1338120"/>
              <a:ext cx="196920" cy="300240"/>
            </a:xfrm>
            <a:custGeom>
              <a:avLst/>
              <a:gdLst/>
              <a:ahLst/>
              <a:rect l="l" t="t" r="r" b="b"/>
              <a:pathLst>
                <a:path w="620" h="944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9" y="617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3" y="694"/>
                  </a:lnTo>
                  <a:lnTo>
                    <a:pt x="610" y="714"/>
                  </a:lnTo>
                  <a:lnTo>
                    <a:pt x="607" y="733"/>
                  </a:lnTo>
                  <a:lnTo>
                    <a:pt x="602" y="751"/>
                  </a:lnTo>
                  <a:lnTo>
                    <a:pt x="596" y="767"/>
                  </a:lnTo>
                  <a:lnTo>
                    <a:pt x="591" y="781"/>
                  </a:lnTo>
                  <a:lnTo>
                    <a:pt x="584" y="797"/>
                  </a:lnTo>
                  <a:lnTo>
                    <a:pt x="577" y="811"/>
                  </a:lnTo>
                  <a:lnTo>
                    <a:pt x="569" y="824"/>
                  </a:lnTo>
                  <a:lnTo>
                    <a:pt x="561" y="837"/>
                  </a:lnTo>
                  <a:lnTo>
                    <a:pt x="550" y="850"/>
                  </a:lnTo>
                  <a:lnTo>
                    <a:pt x="540" y="861"/>
                  </a:lnTo>
                  <a:lnTo>
                    <a:pt x="530" y="871"/>
                  </a:lnTo>
                  <a:lnTo>
                    <a:pt x="520" y="879"/>
                  </a:lnTo>
                  <a:lnTo>
                    <a:pt x="509" y="888"/>
                  </a:lnTo>
                  <a:lnTo>
                    <a:pt x="496" y="897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7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1"/>
                  </a:lnTo>
                  <a:lnTo>
                    <a:pt x="345" y="943"/>
                  </a:lnTo>
                  <a:lnTo>
                    <a:pt x="328" y="944"/>
                  </a:lnTo>
                  <a:lnTo>
                    <a:pt x="311" y="944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8" y="941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09" y="932"/>
                  </a:lnTo>
                  <a:lnTo>
                    <a:pt x="194" y="928"/>
                  </a:lnTo>
                  <a:lnTo>
                    <a:pt x="179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7"/>
                  </a:lnTo>
                  <a:lnTo>
                    <a:pt x="112" y="888"/>
                  </a:lnTo>
                  <a:lnTo>
                    <a:pt x="101" y="879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1" y="850"/>
                  </a:lnTo>
                  <a:lnTo>
                    <a:pt x="60" y="836"/>
                  </a:lnTo>
                  <a:lnTo>
                    <a:pt x="52" y="823"/>
                  </a:lnTo>
                  <a:lnTo>
                    <a:pt x="43" y="810"/>
                  </a:lnTo>
                  <a:lnTo>
                    <a:pt x="36" y="796"/>
                  </a:lnTo>
                  <a:lnTo>
                    <a:pt x="30" y="780"/>
                  </a:lnTo>
                  <a:lnTo>
                    <a:pt x="24" y="765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4" y="668"/>
                  </a:lnTo>
                  <a:lnTo>
                    <a:pt x="2" y="644"/>
                  </a:lnTo>
                  <a:lnTo>
                    <a:pt x="1" y="616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5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5"/>
                  </a:lnTo>
                  <a:lnTo>
                    <a:pt x="249" y="648"/>
                  </a:lnTo>
                  <a:lnTo>
                    <a:pt x="252" y="657"/>
                  </a:lnTo>
                  <a:lnTo>
                    <a:pt x="256" y="665"/>
                  </a:lnTo>
                  <a:lnTo>
                    <a:pt x="260" y="673"/>
                  </a:lnTo>
                  <a:lnTo>
                    <a:pt x="266" y="679"/>
                  </a:lnTo>
                  <a:lnTo>
                    <a:pt x="271" y="684"/>
                  </a:lnTo>
                  <a:lnTo>
                    <a:pt x="278" y="688"/>
                  </a:lnTo>
                  <a:lnTo>
                    <a:pt x="285" y="693"/>
                  </a:lnTo>
                  <a:lnTo>
                    <a:pt x="292" y="695"/>
                  </a:lnTo>
                  <a:lnTo>
                    <a:pt x="301" y="696"/>
                  </a:lnTo>
                  <a:lnTo>
                    <a:pt x="311" y="697"/>
                  </a:lnTo>
                  <a:lnTo>
                    <a:pt x="320" y="696"/>
                  </a:lnTo>
                  <a:lnTo>
                    <a:pt x="328" y="695"/>
                  </a:lnTo>
                  <a:lnTo>
                    <a:pt x="336" y="691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8"/>
                  </a:lnTo>
                  <a:lnTo>
                    <a:pt x="361" y="672"/>
                  </a:lnTo>
                  <a:lnTo>
                    <a:pt x="366" y="665"/>
                  </a:lnTo>
                  <a:lnTo>
                    <a:pt x="369" y="657"/>
                  </a:lnTo>
                  <a:lnTo>
                    <a:pt x="373" y="647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79" y="608"/>
                  </a:lnTo>
                  <a:lnTo>
                    <a:pt x="381" y="593"/>
                  </a:lnTo>
                  <a:lnTo>
                    <a:pt x="381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749920" y="1332000"/>
              <a:ext cx="147600" cy="298440"/>
            </a:xfrm>
            <a:custGeom>
              <a:avLst/>
              <a:gdLst/>
              <a:ahLst/>
              <a:rect l="l" t="t" r="r" b="b"/>
              <a:pathLst>
                <a:path w="467" h="944">
                  <a:moveTo>
                    <a:pt x="134" y="654"/>
                  </a:moveTo>
                  <a:lnTo>
                    <a:pt x="134" y="521"/>
                  </a:lnTo>
                  <a:lnTo>
                    <a:pt x="134" y="511"/>
                  </a:lnTo>
                  <a:lnTo>
                    <a:pt x="134" y="502"/>
                  </a:lnTo>
                  <a:lnTo>
                    <a:pt x="134" y="493"/>
                  </a:lnTo>
                  <a:lnTo>
                    <a:pt x="135" y="485"/>
                  </a:lnTo>
                  <a:lnTo>
                    <a:pt x="136" y="477"/>
                  </a:lnTo>
                  <a:lnTo>
                    <a:pt x="137" y="469"/>
                  </a:lnTo>
                  <a:lnTo>
                    <a:pt x="139" y="462"/>
                  </a:lnTo>
                  <a:lnTo>
                    <a:pt x="140" y="454"/>
                  </a:lnTo>
                  <a:lnTo>
                    <a:pt x="142" y="447"/>
                  </a:lnTo>
                  <a:lnTo>
                    <a:pt x="144" y="440"/>
                  </a:lnTo>
                  <a:lnTo>
                    <a:pt x="147" y="433"/>
                  </a:lnTo>
                  <a:lnTo>
                    <a:pt x="149" y="426"/>
                  </a:lnTo>
                  <a:lnTo>
                    <a:pt x="152" y="419"/>
                  </a:lnTo>
                  <a:lnTo>
                    <a:pt x="155" y="412"/>
                  </a:lnTo>
                  <a:lnTo>
                    <a:pt x="160" y="404"/>
                  </a:lnTo>
                  <a:lnTo>
                    <a:pt x="164" y="397"/>
                  </a:lnTo>
                  <a:lnTo>
                    <a:pt x="165" y="393"/>
                  </a:lnTo>
                  <a:lnTo>
                    <a:pt x="167" y="390"/>
                  </a:lnTo>
                  <a:lnTo>
                    <a:pt x="170" y="385"/>
                  </a:lnTo>
                  <a:lnTo>
                    <a:pt x="172" y="381"/>
                  </a:lnTo>
                  <a:lnTo>
                    <a:pt x="175" y="376"/>
                  </a:lnTo>
                  <a:lnTo>
                    <a:pt x="178" y="371"/>
                  </a:lnTo>
                  <a:lnTo>
                    <a:pt x="182" y="366"/>
                  </a:lnTo>
                  <a:lnTo>
                    <a:pt x="186" y="360"/>
                  </a:lnTo>
                  <a:lnTo>
                    <a:pt x="193" y="348"/>
                  </a:lnTo>
                  <a:lnTo>
                    <a:pt x="200" y="337"/>
                  </a:lnTo>
                  <a:lnTo>
                    <a:pt x="205" y="327"/>
                  </a:lnTo>
                  <a:lnTo>
                    <a:pt x="211" y="317"/>
                  </a:lnTo>
                  <a:lnTo>
                    <a:pt x="214" y="309"/>
                  </a:lnTo>
                  <a:lnTo>
                    <a:pt x="217" y="300"/>
                  </a:lnTo>
                  <a:lnTo>
                    <a:pt x="218" y="292"/>
                  </a:lnTo>
                  <a:lnTo>
                    <a:pt x="219" y="286"/>
                  </a:lnTo>
                  <a:lnTo>
                    <a:pt x="219" y="281"/>
                  </a:lnTo>
                  <a:lnTo>
                    <a:pt x="218" y="276"/>
                  </a:lnTo>
                  <a:lnTo>
                    <a:pt x="217" y="271"/>
                  </a:lnTo>
                  <a:lnTo>
                    <a:pt x="216" y="267"/>
                  </a:lnTo>
                  <a:lnTo>
                    <a:pt x="214" y="263"/>
                  </a:lnTo>
                  <a:lnTo>
                    <a:pt x="212" y="259"/>
                  </a:lnTo>
                  <a:lnTo>
                    <a:pt x="210" y="255"/>
                  </a:lnTo>
                  <a:lnTo>
                    <a:pt x="206" y="252"/>
                  </a:lnTo>
                  <a:lnTo>
                    <a:pt x="203" y="249"/>
                  </a:lnTo>
                  <a:lnTo>
                    <a:pt x="200" y="247"/>
                  </a:lnTo>
                  <a:lnTo>
                    <a:pt x="197" y="245"/>
                  </a:lnTo>
                  <a:lnTo>
                    <a:pt x="193" y="243"/>
                  </a:lnTo>
                  <a:lnTo>
                    <a:pt x="189" y="242"/>
                  </a:lnTo>
                  <a:lnTo>
                    <a:pt x="184" y="241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0" y="240"/>
                  </a:lnTo>
                  <a:lnTo>
                    <a:pt x="165" y="241"/>
                  </a:lnTo>
                  <a:lnTo>
                    <a:pt x="160" y="242"/>
                  </a:lnTo>
                  <a:lnTo>
                    <a:pt x="154" y="243"/>
                  </a:lnTo>
                  <a:lnTo>
                    <a:pt x="149" y="245"/>
                  </a:lnTo>
                  <a:lnTo>
                    <a:pt x="145" y="247"/>
                  </a:lnTo>
                  <a:lnTo>
                    <a:pt x="140" y="249"/>
                  </a:lnTo>
                  <a:lnTo>
                    <a:pt x="135" y="252"/>
                  </a:lnTo>
                  <a:lnTo>
                    <a:pt x="130" y="255"/>
                  </a:lnTo>
                  <a:lnTo>
                    <a:pt x="126" y="260"/>
                  </a:lnTo>
                  <a:lnTo>
                    <a:pt x="122" y="264"/>
                  </a:lnTo>
                  <a:lnTo>
                    <a:pt x="118" y="267"/>
                  </a:lnTo>
                  <a:lnTo>
                    <a:pt x="114" y="272"/>
                  </a:lnTo>
                  <a:lnTo>
                    <a:pt x="109" y="276"/>
                  </a:lnTo>
                  <a:lnTo>
                    <a:pt x="106" y="281"/>
                  </a:lnTo>
                  <a:lnTo>
                    <a:pt x="103" y="286"/>
                  </a:lnTo>
                  <a:lnTo>
                    <a:pt x="0" y="144"/>
                  </a:lnTo>
                  <a:lnTo>
                    <a:pt x="12" y="127"/>
                  </a:lnTo>
                  <a:lnTo>
                    <a:pt x="24" y="111"/>
                  </a:lnTo>
                  <a:lnTo>
                    <a:pt x="37" y="95"/>
                  </a:lnTo>
                  <a:lnTo>
                    <a:pt x="49" y="82"/>
                  </a:lnTo>
                  <a:lnTo>
                    <a:pt x="63" y="69"/>
                  </a:lnTo>
                  <a:lnTo>
                    <a:pt x="77" y="57"/>
                  </a:lnTo>
                  <a:lnTo>
                    <a:pt x="90" y="46"/>
                  </a:lnTo>
                  <a:lnTo>
                    <a:pt x="105" y="36"/>
                  </a:lnTo>
                  <a:lnTo>
                    <a:pt x="120" y="28"/>
                  </a:lnTo>
                  <a:lnTo>
                    <a:pt x="135" y="21"/>
                  </a:lnTo>
                  <a:lnTo>
                    <a:pt x="151" y="15"/>
                  </a:lnTo>
                  <a:lnTo>
                    <a:pt x="167" y="10"/>
                  </a:lnTo>
                  <a:lnTo>
                    <a:pt x="183" y="6"/>
                  </a:lnTo>
                  <a:lnTo>
                    <a:pt x="200" y="3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47" y="0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3" y="5"/>
                  </a:lnTo>
                  <a:lnTo>
                    <a:pt x="294" y="7"/>
                  </a:lnTo>
                  <a:lnTo>
                    <a:pt x="305" y="10"/>
                  </a:lnTo>
                  <a:lnTo>
                    <a:pt x="316" y="14"/>
                  </a:lnTo>
                  <a:lnTo>
                    <a:pt x="326" y="17"/>
                  </a:lnTo>
                  <a:lnTo>
                    <a:pt x="336" y="22"/>
                  </a:lnTo>
                  <a:lnTo>
                    <a:pt x="346" y="27"/>
                  </a:lnTo>
                  <a:lnTo>
                    <a:pt x="357" y="32"/>
                  </a:lnTo>
                  <a:lnTo>
                    <a:pt x="366" y="38"/>
                  </a:lnTo>
                  <a:lnTo>
                    <a:pt x="375" y="44"/>
                  </a:lnTo>
                  <a:lnTo>
                    <a:pt x="384" y="51"/>
                  </a:lnTo>
                  <a:lnTo>
                    <a:pt x="392" y="60"/>
                  </a:lnTo>
                  <a:lnTo>
                    <a:pt x="401" y="68"/>
                  </a:lnTo>
                  <a:lnTo>
                    <a:pt x="409" y="76"/>
                  </a:lnTo>
                  <a:lnTo>
                    <a:pt x="417" y="85"/>
                  </a:lnTo>
                  <a:lnTo>
                    <a:pt x="423" y="93"/>
                  </a:lnTo>
                  <a:lnTo>
                    <a:pt x="430" y="103"/>
                  </a:lnTo>
                  <a:lnTo>
                    <a:pt x="435" y="113"/>
                  </a:lnTo>
                  <a:lnTo>
                    <a:pt x="441" y="123"/>
                  </a:lnTo>
                  <a:lnTo>
                    <a:pt x="446" y="132"/>
                  </a:lnTo>
                  <a:lnTo>
                    <a:pt x="451" y="143"/>
                  </a:lnTo>
                  <a:lnTo>
                    <a:pt x="455" y="153"/>
                  </a:lnTo>
                  <a:lnTo>
                    <a:pt x="458" y="165"/>
                  </a:lnTo>
                  <a:lnTo>
                    <a:pt x="461" y="176"/>
                  </a:lnTo>
                  <a:lnTo>
                    <a:pt x="463" y="187"/>
                  </a:lnTo>
                  <a:lnTo>
                    <a:pt x="465" y="198"/>
                  </a:lnTo>
                  <a:lnTo>
                    <a:pt x="466" y="211"/>
                  </a:lnTo>
                  <a:lnTo>
                    <a:pt x="467" y="223"/>
                  </a:lnTo>
                  <a:lnTo>
                    <a:pt x="467" y="235"/>
                  </a:lnTo>
                  <a:lnTo>
                    <a:pt x="466" y="253"/>
                  </a:lnTo>
                  <a:lnTo>
                    <a:pt x="463" y="273"/>
                  </a:lnTo>
                  <a:lnTo>
                    <a:pt x="459" y="293"/>
                  </a:lnTo>
                  <a:lnTo>
                    <a:pt x="452" y="314"/>
                  </a:lnTo>
                  <a:lnTo>
                    <a:pt x="443" y="335"/>
                  </a:lnTo>
                  <a:lnTo>
                    <a:pt x="433" y="357"/>
                  </a:lnTo>
                  <a:lnTo>
                    <a:pt x="420" y="381"/>
                  </a:lnTo>
                  <a:lnTo>
                    <a:pt x="406" y="404"/>
                  </a:lnTo>
                  <a:lnTo>
                    <a:pt x="403" y="409"/>
                  </a:lnTo>
                  <a:lnTo>
                    <a:pt x="398" y="416"/>
                  </a:lnTo>
                  <a:lnTo>
                    <a:pt x="395" y="421"/>
                  </a:lnTo>
                  <a:lnTo>
                    <a:pt x="392" y="426"/>
                  </a:lnTo>
                  <a:lnTo>
                    <a:pt x="390" y="430"/>
                  </a:lnTo>
                  <a:lnTo>
                    <a:pt x="387" y="434"/>
                  </a:lnTo>
                  <a:lnTo>
                    <a:pt x="385" y="437"/>
                  </a:lnTo>
                  <a:lnTo>
                    <a:pt x="383" y="440"/>
                  </a:lnTo>
                  <a:lnTo>
                    <a:pt x="380" y="446"/>
                  </a:lnTo>
                  <a:lnTo>
                    <a:pt x="377" y="453"/>
                  </a:lnTo>
                  <a:lnTo>
                    <a:pt x="374" y="460"/>
                  </a:lnTo>
                  <a:lnTo>
                    <a:pt x="371" y="468"/>
                  </a:lnTo>
                  <a:lnTo>
                    <a:pt x="368" y="475"/>
                  </a:lnTo>
                  <a:lnTo>
                    <a:pt x="366" y="483"/>
                  </a:lnTo>
                  <a:lnTo>
                    <a:pt x="364" y="491"/>
                  </a:lnTo>
                  <a:lnTo>
                    <a:pt x="362" y="500"/>
                  </a:lnTo>
                  <a:lnTo>
                    <a:pt x="361" y="509"/>
                  </a:lnTo>
                  <a:lnTo>
                    <a:pt x="359" y="519"/>
                  </a:lnTo>
                  <a:lnTo>
                    <a:pt x="358" y="529"/>
                  </a:lnTo>
                  <a:lnTo>
                    <a:pt x="357" y="539"/>
                  </a:lnTo>
                  <a:lnTo>
                    <a:pt x="356" y="549"/>
                  </a:lnTo>
                  <a:lnTo>
                    <a:pt x="356" y="560"/>
                  </a:lnTo>
                  <a:lnTo>
                    <a:pt x="356" y="572"/>
                  </a:lnTo>
                  <a:lnTo>
                    <a:pt x="356" y="584"/>
                  </a:lnTo>
                  <a:lnTo>
                    <a:pt x="356" y="654"/>
                  </a:lnTo>
                  <a:lnTo>
                    <a:pt x="134" y="654"/>
                  </a:lnTo>
                  <a:close/>
                  <a:moveTo>
                    <a:pt x="134" y="944"/>
                  </a:moveTo>
                  <a:lnTo>
                    <a:pt x="134" y="708"/>
                  </a:lnTo>
                  <a:lnTo>
                    <a:pt x="356" y="708"/>
                  </a:lnTo>
                  <a:lnTo>
                    <a:pt x="356" y="944"/>
                  </a:lnTo>
                  <a:lnTo>
                    <a:pt x="134" y="94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825640" y="1832040"/>
              <a:ext cx="76320" cy="2919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930400" y="183204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5" y="233"/>
                  </a:moveTo>
                  <a:lnTo>
                    <a:pt x="425" y="921"/>
                  </a:lnTo>
                  <a:lnTo>
                    <a:pt x="186" y="921"/>
                  </a:lnTo>
                  <a:lnTo>
                    <a:pt x="186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7" y="0"/>
                  </a:lnTo>
                  <a:lnTo>
                    <a:pt x="613" y="233"/>
                  </a:lnTo>
                  <a:lnTo>
                    <a:pt x="425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270240" y="1832040"/>
              <a:ext cx="76320" cy="2919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87600" y="1827360"/>
              <a:ext cx="15408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8" y="937"/>
                  </a:moveTo>
                  <a:lnTo>
                    <a:pt x="12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5" y="708"/>
                  </a:lnTo>
                  <a:lnTo>
                    <a:pt x="110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5" y="703"/>
                  </a:lnTo>
                  <a:lnTo>
                    <a:pt x="154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0" y="681"/>
                  </a:lnTo>
                  <a:lnTo>
                    <a:pt x="185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2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1" y="512"/>
                  </a:lnTo>
                  <a:lnTo>
                    <a:pt x="107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3" y="473"/>
                  </a:lnTo>
                  <a:lnTo>
                    <a:pt x="63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6"/>
                  </a:lnTo>
                  <a:lnTo>
                    <a:pt x="18" y="384"/>
                  </a:lnTo>
                  <a:lnTo>
                    <a:pt x="14" y="369"/>
                  </a:lnTo>
                  <a:lnTo>
                    <a:pt x="10" y="356"/>
                  </a:lnTo>
                  <a:lnTo>
                    <a:pt x="5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9" y="211"/>
                  </a:lnTo>
                  <a:lnTo>
                    <a:pt x="13" y="197"/>
                  </a:lnTo>
                  <a:lnTo>
                    <a:pt x="17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8" y="111"/>
                  </a:lnTo>
                  <a:lnTo>
                    <a:pt x="67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10" y="61"/>
                  </a:lnTo>
                  <a:lnTo>
                    <a:pt x="121" y="53"/>
                  </a:lnTo>
                  <a:lnTo>
                    <a:pt x="133" y="45"/>
                  </a:lnTo>
                  <a:lnTo>
                    <a:pt x="146" y="38"/>
                  </a:lnTo>
                  <a:lnTo>
                    <a:pt x="160" y="32"/>
                  </a:lnTo>
                  <a:lnTo>
                    <a:pt x="173" y="26"/>
                  </a:lnTo>
                  <a:lnTo>
                    <a:pt x="186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0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4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3" y="6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1" y="11"/>
                  </a:lnTo>
                  <a:lnTo>
                    <a:pt x="430" y="13"/>
                  </a:lnTo>
                  <a:lnTo>
                    <a:pt x="439" y="15"/>
                  </a:lnTo>
                  <a:lnTo>
                    <a:pt x="449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2" y="245"/>
                  </a:lnTo>
                  <a:lnTo>
                    <a:pt x="445" y="242"/>
                  </a:lnTo>
                  <a:lnTo>
                    <a:pt x="437" y="239"/>
                  </a:lnTo>
                  <a:lnTo>
                    <a:pt x="430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5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0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4" y="222"/>
                  </a:lnTo>
                  <a:lnTo>
                    <a:pt x="343" y="222"/>
                  </a:lnTo>
                  <a:lnTo>
                    <a:pt x="333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9" y="233"/>
                  </a:lnTo>
                  <a:lnTo>
                    <a:pt x="302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2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50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0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6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1" y="720"/>
                  </a:lnTo>
                  <a:lnTo>
                    <a:pt x="478" y="735"/>
                  </a:lnTo>
                  <a:lnTo>
                    <a:pt x="474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2" y="804"/>
                  </a:lnTo>
                  <a:lnTo>
                    <a:pt x="445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7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9" y="898"/>
                  </a:lnTo>
                  <a:lnTo>
                    <a:pt x="346" y="906"/>
                  </a:lnTo>
                  <a:lnTo>
                    <a:pt x="331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4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1" y="947"/>
                  </a:lnTo>
                  <a:lnTo>
                    <a:pt x="181" y="949"/>
                  </a:lnTo>
                  <a:lnTo>
                    <a:pt x="162" y="950"/>
                  </a:lnTo>
                  <a:lnTo>
                    <a:pt x="141" y="950"/>
                  </a:lnTo>
                  <a:lnTo>
                    <a:pt x="133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70" y="946"/>
                  </a:lnTo>
                  <a:lnTo>
                    <a:pt x="63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5" y="939"/>
                  </a:lnTo>
                  <a:lnTo>
                    <a:pt x="18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3692520" y="1832040"/>
              <a:ext cx="217440" cy="291960"/>
            </a:xfrm>
            <a:custGeom>
              <a:avLst/>
              <a:gdLst/>
              <a:ahLst/>
              <a:rect l="l" t="t" r="r" b="b"/>
              <a:pathLst>
                <a:path w="686" h="921">
                  <a:moveTo>
                    <a:pt x="0" y="921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9" y="404"/>
                  </a:lnTo>
                  <a:lnTo>
                    <a:pt x="449" y="0"/>
                  </a:lnTo>
                  <a:lnTo>
                    <a:pt x="686" y="0"/>
                  </a:lnTo>
                  <a:lnTo>
                    <a:pt x="686" y="921"/>
                  </a:lnTo>
                  <a:lnTo>
                    <a:pt x="578" y="921"/>
                  </a:lnTo>
                  <a:lnTo>
                    <a:pt x="239" y="522"/>
                  </a:lnTo>
                  <a:lnTo>
                    <a:pt x="239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46680" y="1824120"/>
              <a:ext cx="29664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7" y="256"/>
                  </a:moveTo>
                  <a:lnTo>
                    <a:pt x="455" y="257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3" y="260"/>
                  </a:lnTo>
                  <a:lnTo>
                    <a:pt x="411" y="263"/>
                  </a:lnTo>
                  <a:lnTo>
                    <a:pt x="401" y="265"/>
                  </a:lnTo>
                  <a:lnTo>
                    <a:pt x="391" y="269"/>
                  </a:lnTo>
                  <a:lnTo>
                    <a:pt x="382" y="272"/>
                  </a:lnTo>
                  <a:lnTo>
                    <a:pt x="371" y="277"/>
                  </a:lnTo>
                  <a:lnTo>
                    <a:pt x="362" y="281"/>
                  </a:lnTo>
                  <a:lnTo>
                    <a:pt x="353" y="288"/>
                  </a:lnTo>
                  <a:lnTo>
                    <a:pt x="344" y="293"/>
                  </a:lnTo>
                  <a:lnTo>
                    <a:pt x="336" y="300"/>
                  </a:lnTo>
                  <a:lnTo>
                    <a:pt x="327" y="307"/>
                  </a:lnTo>
                  <a:lnTo>
                    <a:pt x="318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7"/>
                  </a:lnTo>
                  <a:lnTo>
                    <a:pt x="278" y="366"/>
                  </a:lnTo>
                  <a:lnTo>
                    <a:pt x="272" y="375"/>
                  </a:lnTo>
                  <a:lnTo>
                    <a:pt x="267" y="385"/>
                  </a:lnTo>
                  <a:lnTo>
                    <a:pt x="263" y="396"/>
                  </a:lnTo>
                  <a:lnTo>
                    <a:pt x="260" y="406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7"/>
                  </a:lnTo>
                  <a:lnTo>
                    <a:pt x="250" y="450"/>
                  </a:lnTo>
                  <a:lnTo>
                    <a:pt x="249" y="461"/>
                  </a:lnTo>
                  <a:lnTo>
                    <a:pt x="248" y="472"/>
                  </a:lnTo>
                  <a:lnTo>
                    <a:pt x="248" y="484"/>
                  </a:lnTo>
                  <a:lnTo>
                    <a:pt x="248" y="497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1"/>
                  </a:lnTo>
                  <a:lnTo>
                    <a:pt x="256" y="553"/>
                  </a:lnTo>
                  <a:lnTo>
                    <a:pt x="260" y="563"/>
                  </a:lnTo>
                  <a:lnTo>
                    <a:pt x="263" y="573"/>
                  </a:lnTo>
                  <a:lnTo>
                    <a:pt x="267" y="583"/>
                  </a:lnTo>
                  <a:lnTo>
                    <a:pt x="272" y="594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6" y="629"/>
                  </a:lnTo>
                  <a:lnTo>
                    <a:pt x="303" y="638"/>
                  </a:lnTo>
                  <a:lnTo>
                    <a:pt x="310" y="647"/>
                  </a:lnTo>
                  <a:lnTo>
                    <a:pt x="318" y="655"/>
                  </a:lnTo>
                  <a:lnTo>
                    <a:pt x="327" y="662"/>
                  </a:lnTo>
                  <a:lnTo>
                    <a:pt x="335" y="669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1" y="691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1" y="706"/>
                  </a:lnTo>
                  <a:lnTo>
                    <a:pt x="421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5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1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2" y="696"/>
                  </a:lnTo>
                  <a:lnTo>
                    <a:pt x="562" y="691"/>
                  </a:lnTo>
                  <a:lnTo>
                    <a:pt x="572" y="686"/>
                  </a:lnTo>
                  <a:lnTo>
                    <a:pt x="581" y="681"/>
                  </a:lnTo>
                  <a:lnTo>
                    <a:pt x="590" y="675"/>
                  </a:lnTo>
                  <a:lnTo>
                    <a:pt x="598" y="669"/>
                  </a:lnTo>
                  <a:lnTo>
                    <a:pt x="607" y="662"/>
                  </a:lnTo>
                  <a:lnTo>
                    <a:pt x="616" y="655"/>
                  </a:lnTo>
                  <a:lnTo>
                    <a:pt x="623" y="647"/>
                  </a:lnTo>
                  <a:lnTo>
                    <a:pt x="631" y="638"/>
                  </a:lnTo>
                  <a:lnTo>
                    <a:pt x="638" y="629"/>
                  </a:lnTo>
                  <a:lnTo>
                    <a:pt x="644" y="621"/>
                  </a:lnTo>
                  <a:lnTo>
                    <a:pt x="650" y="612"/>
                  </a:lnTo>
                  <a:lnTo>
                    <a:pt x="656" y="603"/>
                  </a:lnTo>
                  <a:lnTo>
                    <a:pt x="661" y="592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3"/>
                  </a:lnTo>
                  <a:lnTo>
                    <a:pt x="677" y="553"/>
                  </a:lnTo>
                  <a:lnTo>
                    <a:pt x="680" y="541"/>
                  </a:lnTo>
                  <a:lnTo>
                    <a:pt x="682" y="530"/>
                  </a:lnTo>
                  <a:lnTo>
                    <a:pt x="685" y="508"/>
                  </a:lnTo>
                  <a:lnTo>
                    <a:pt x="686" y="484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7" y="385"/>
                  </a:lnTo>
                  <a:lnTo>
                    <a:pt x="661" y="376"/>
                  </a:lnTo>
                  <a:lnTo>
                    <a:pt x="656" y="366"/>
                  </a:lnTo>
                  <a:lnTo>
                    <a:pt x="650" y="357"/>
                  </a:lnTo>
                  <a:lnTo>
                    <a:pt x="638" y="340"/>
                  </a:lnTo>
                  <a:lnTo>
                    <a:pt x="623" y="322"/>
                  </a:lnTo>
                  <a:lnTo>
                    <a:pt x="616" y="314"/>
                  </a:lnTo>
                  <a:lnTo>
                    <a:pt x="607" y="307"/>
                  </a:lnTo>
                  <a:lnTo>
                    <a:pt x="598" y="300"/>
                  </a:lnTo>
                  <a:lnTo>
                    <a:pt x="590" y="294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2" y="277"/>
                  </a:lnTo>
                  <a:lnTo>
                    <a:pt x="552" y="272"/>
                  </a:lnTo>
                  <a:lnTo>
                    <a:pt x="543" y="269"/>
                  </a:lnTo>
                  <a:lnTo>
                    <a:pt x="533" y="265"/>
                  </a:lnTo>
                  <a:lnTo>
                    <a:pt x="523" y="263"/>
                  </a:lnTo>
                  <a:lnTo>
                    <a:pt x="511" y="260"/>
                  </a:lnTo>
                  <a:lnTo>
                    <a:pt x="501" y="259"/>
                  </a:lnTo>
                  <a:lnTo>
                    <a:pt x="490" y="257"/>
                  </a:lnTo>
                  <a:lnTo>
                    <a:pt x="479" y="257"/>
                  </a:lnTo>
                  <a:lnTo>
                    <a:pt x="467" y="256"/>
                  </a:lnTo>
                  <a:close/>
                  <a:moveTo>
                    <a:pt x="465" y="0"/>
                  </a:moveTo>
                  <a:lnTo>
                    <a:pt x="487" y="1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29"/>
                  </a:lnTo>
                  <a:lnTo>
                    <a:pt x="651" y="38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3" y="76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4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4" y="214"/>
                  </a:lnTo>
                  <a:lnTo>
                    <a:pt x="868" y="237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1" y="307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0" y="663"/>
                  </a:lnTo>
                  <a:lnTo>
                    <a:pt x="891" y="687"/>
                  </a:lnTo>
                  <a:lnTo>
                    <a:pt x="880" y="711"/>
                  </a:lnTo>
                  <a:lnTo>
                    <a:pt x="868" y="733"/>
                  </a:lnTo>
                  <a:lnTo>
                    <a:pt x="853" y="756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6" y="818"/>
                  </a:lnTo>
                  <a:lnTo>
                    <a:pt x="789" y="837"/>
                  </a:lnTo>
                  <a:lnTo>
                    <a:pt x="770" y="856"/>
                  </a:lnTo>
                  <a:lnTo>
                    <a:pt x="754" y="869"/>
                  </a:lnTo>
                  <a:lnTo>
                    <a:pt x="738" y="881"/>
                  </a:lnTo>
                  <a:lnTo>
                    <a:pt x="722" y="893"/>
                  </a:lnTo>
                  <a:lnTo>
                    <a:pt x="704" y="905"/>
                  </a:lnTo>
                  <a:lnTo>
                    <a:pt x="687" y="915"/>
                  </a:lnTo>
                  <a:lnTo>
                    <a:pt x="669" y="924"/>
                  </a:lnTo>
                  <a:lnTo>
                    <a:pt x="650" y="932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4"/>
                  </a:lnTo>
                  <a:lnTo>
                    <a:pt x="571" y="959"/>
                  </a:lnTo>
                  <a:lnTo>
                    <a:pt x="550" y="963"/>
                  </a:lnTo>
                  <a:lnTo>
                    <a:pt x="530" y="966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6"/>
                  </a:lnTo>
                  <a:lnTo>
                    <a:pt x="381" y="963"/>
                  </a:lnTo>
                  <a:lnTo>
                    <a:pt x="360" y="959"/>
                  </a:lnTo>
                  <a:lnTo>
                    <a:pt x="341" y="954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2" y="932"/>
                  </a:lnTo>
                  <a:lnTo>
                    <a:pt x="263" y="924"/>
                  </a:lnTo>
                  <a:lnTo>
                    <a:pt x="245" y="915"/>
                  </a:lnTo>
                  <a:lnTo>
                    <a:pt x="227" y="905"/>
                  </a:lnTo>
                  <a:lnTo>
                    <a:pt x="210" y="893"/>
                  </a:lnTo>
                  <a:lnTo>
                    <a:pt x="194" y="881"/>
                  </a:lnTo>
                  <a:lnTo>
                    <a:pt x="177" y="869"/>
                  </a:lnTo>
                  <a:lnTo>
                    <a:pt x="162" y="856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9"/>
                  </a:lnTo>
                  <a:lnTo>
                    <a:pt x="93" y="777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3" y="638"/>
                  </a:lnTo>
                  <a:lnTo>
                    <a:pt x="16" y="614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4"/>
                  </a:lnTo>
                  <a:lnTo>
                    <a:pt x="1" y="458"/>
                  </a:lnTo>
                  <a:lnTo>
                    <a:pt x="3" y="431"/>
                  </a:lnTo>
                  <a:lnTo>
                    <a:pt x="6" y="406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6"/>
                  </a:lnTo>
                  <a:lnTo>
                    <a:pt x="42" y="281"/>
                  </a:lnTo>
                  <a:lnTo>
                    <a:pt x="53" y="258"/>
                  </a:lnTo>
                  <a:lnTo>
                    <a:pt x="65" y="235"/>
                  </a:lnTo>
                  <a:lnTo>
                    <a:pt x="78" y="214"/>
                  </a:lnTo>
                  <a:lnTo>
                    <a:pt x="93" y="193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9"/>
                  </a:lnTo>
                  <a:lnTo>
                    <a:pt x="210" y="76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2" y="38"/>
                  </a:lnTo>
                  <a:lnTo>
                    <a:pt x="301" y="29"/>
                  </a:lnTo>
                  <a:lnTo>
                    <a:pt x="320" y="22"/>
                  </a:lnTo>
                  <a:lnTo>
                    <a:pt x="341" y="16"/>
                  </a:lnTo>
                  <a:lnTo>
                    <a:pt x="360" y="12"/>
                  </a:lnTo>
                  <a:lnTo>
                    <a:pt x="381" y="8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1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255920" y="1832040"/>
              <a:ext cx="19368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3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79920" y="1827360"/>
              <a:ext cx="1555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2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1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4" y="486"/>
                  </a:lnTo>
                  <a:lnTo>
                    <a:pt x="73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4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7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2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3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2" y="9"/>
                  </a:lnTo>
                  <a:lnTo>
                    <a:pt x="422" y="11"/>
                  </a:lnTo>
                  <a:lnTo>
                    <a:pt x="431" y="13"/>
                  </a:lnTo>
                  <a:lnTo>
                    <a:pt x="439" y="15"/>
                  </a:lnTo>
                  <a:lnTo>
                    <a:pt x="448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3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6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5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8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1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0" y="947"/>
                  </a:lnTo>
                  <a:lnTo>
                    <a:pt x="181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6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3" y="941"/>
                  </a:lnTo>
                  <a:lnTo>
                    <a:pt x="25" y="939"/>
                  </a:lnTo>
                  <a:lnTo>
                    <a:pt x="17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4745160" y="1832040"/>
              <a:ext cx="285480" cy="291960"/>
            </a:xfrm>
            <a:custGeom>
              <a:avLst/>
              <a:gdLst/>
              <a:ahLst/>
              <a:rect l="l" t="t" r="r" b="b"/>
              <a:pathLst>
                <a:path w="896" h="921">
                  <a:moveTo>
                    <a:pt x="350" y="588"/>
                  </a:moveTo>
                  <a:lnTo>
                    <a:pt x="540" y="588"/>
                  </a:lnTo>
                  <a:lnTo>
                    <a:pt x="444" y="278"/>
                  </a:lnTo>
                  <a:lnTo>
                    <a:pt x="350" y="588"/>
                  </a:lnTo>
                  <a:close/>
                  <a:moveTo>
                    <a:pt x="0" y="921"/>
                  </a:moveTo>
                  <a:lnTo>
                    <a:pt x="321" y="0"/>
                  </a:lnTo>
                  <a:lnTo>
                    <a:pt x="591" y="0"/>
                  </a:lnTo>
                  <a:lnTo>
                    <a:pt x="896" y="921"/>
                  </a:lnTo>
                  <a:lnTo>
                    <a:pt x="643" y="921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56200" y="1832040"/>
              <a:ext cx="171360" cy="291960"/>
            </a:xfrm>
            <a:custGeom>
              <a:avLst/>
              <a:gdLst/>
              <a:ahLst/>
              <a:rect l="l" t="t" r="r" b="b"/>
              <a:pathLst>
                <a:path w="542" h="921">
                  <a:moveTo>
                    <a:pt x="0" y="921"/>
                  </a:moveTo>
                  <a:lnTo>
                    <a:pt x="0" y="0"/>
                  </a:lnTo>
                  <a:lnTo>
                    <a:pt x="505" y="0"/>
                  </a:lnTo>
                  <a:lnTo>
                    <a:pt x="542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29" y="339"/>
                  </a:lnTo>
                  <a:lnTo>
                    <a:pt x="429" y="583"/>
                  </a:lnTo>
                  <a:lnTo>
                    <a:pt x="238" y="583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25456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09" y="0"/>
                  </a:lnTo>
                  <a:lnTo>
                    <a:pt x="549" y="245"/>
                  </a:lnTo>
                  <a:lnTo>
                    <a:pt x="239" y="245"/>
                  </a:lnTo>
                  <a:lnTo>
                    <a:pt x="239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9" y="583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573880" y="1827360"/>
              <a:ext cx="1537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4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4" y="704"/>
                  </a:lnTo>
                  <a:lnTo>
                    <a:pt x="80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19" y="707"/>
                  </a:lnTo>
                  <a:lnTo>
                    <a:pt x="128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7" y="692"/>
                  </a:lnTo>
                  <a:lnTo>
                    <a:pt x="174" y="687"/>
                  </a:lnTo>
                  <a:lnTo>
                    <a:pt x="180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2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0" y="531"/>
                  </a:lnTo>
                  <a:lnTo>
                    <a:pt x="125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2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29" y="409"/>
                  </a:lnTo>
                  <a:lnTo>
                    <a:pt x="23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1" y="171"/>
                  </a:lnTo>
                  <a:lnTo>
                    <a:pt x="27" y="158"/>
                  </a:lnTo>
                  <a:lnTo>
                    <a:pt x="33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2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7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3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1" y="9"/>
                  </a:lnTo>
                  <a:lnTo>
                    <a:pt x="421" y="11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8" y="18"/>
                  </a:lnTo>
                  <a:lnTo>
                    <a:pt x="457" y="20"/>
                  </a:lnTo>
                  <a:lnTo>
                    <a:pt x="466" y="24"/>
                  </a:lnTo>
                  <a:lnTo>
                    <a:pt x="466" y="252"/>
                  </a:lnTo>
                  <a:lnTo>
                    <a:pt x="458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6" y="232"/>
                  </a:lnTo>
                  <a:lnTo>
                    <a:pt x="410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4" y="222"/>
                  </a:lnTo>
                  <a:lnTo>
                    <a:pt x="369" y="221"/>
                  </a:lnTo>
                  <a:lnTo>
                    <a:pt x="364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4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6" y="263"/>
                  </a:lnTo>
                  <a:lnTo>
                    <a:pt x="273" y="270"/>
                  </a:lnTo>
                  <a:lnTo>
                    <a:pt x="272" y="278"/>
                  </a:lnTo>
                  <a:lnTo>
                    <a:pt x="270" y="286"/>
                  </a:lnTo>
                  <a:lnTo>
                    <a:pt x="270" y="294"/>
                  </a:lnTo>
                  <a:lnTo>
                    <a:pt x="270" y="299"/>
                  </a:lnTo>
                  <a:lnTo>
                    <a:pt x="271" y="304"/>
                  </a:lnTo>
                  <a:lnTo>
                    <a:pt x="272" y="309"/>
                  </a:lnTo>
                  <a:lnTo>
                    <a:pt x="274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1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0" y="404"/>
                  </a:lnTo>
                  <a:lnTo>
                    <a:pt x="365" y="408"/>
                  </a:lnTo>
                  <a:lnTo>
                    <a:pt x="369" y="412"/>
                  </a:lnTo>
                  <a:lnTo>
                    <a:pt x="373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59" y="526"/>
                  </a:lnTo>
                  <a:lnTo>
                    <a:pt x="465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6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69" y="764"/>
                  </a:lnTo>
                  <a:lnTo>
                    <a:pt x="464" y="777"/>
                  </a:lnTo>
                  <a:lnTo>
                    <a:pt x="458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1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6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8" y="945"/>
                  </a:lnTo>
                  <a:lnTo>
                    <a:pt x="200" y="947"/>
                  </a:lnTo>
                  <a:lnTo>
                    <a:pt x="180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4" y="947"/>
                  </a:lnTo>
                  <a:lnTo>
                    <a:pt x="77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4" y="939"/>
                  </a:lnTo>
                  <a:lnTo>
                    <a:pt x="17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76252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48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8" y="583"/>
                  </a:lnTo>
                  <a:lnTo>
                    <a:pt x="238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950080" y="1832040"/>
              <a:ext cx="255600" cy="291960"/>
            </a:xfrm>
            <a:custGeom>
              <a:avLst/>
              <a:gdLst/>
              <a:ahLst/>
              <a:rect l="l" t="t" r="r" b="b"/>
              <a:pathLst>
                <a:path w="802" h="921">
                  <a:moveTo>
                    <a:pt x="0" y="921"/>
                  </a:moveTo>
                  <a:lnTo>
                    <a:pt x="265" y="456"/>
                  </a:lnTo>
                  <a:lnTo>
                    <a:pt x="16" y="0"/>
                  </a:lnTo>
                  <a:lnTo>
                    <a:pt x="282" y="0"/>
                  </a:lnTo>
                  <a:lnTo>
                    <a:pt x="404" y="257"/>
                  </a:lnTo>
                  <a:lnTo>
                    <a:pt x="525" y="0"/>
                  </a:lnTo>
                  <a:lnTo>
                    <a:pt x="798" y="0"/>
                  </a:lnTo>
                  <a:lnTo>
                    <a:pt x="539" y="459"/>
                  </a:lnTo>
                  <a:lnTo>
                    <a:pt x="802" y="921"/>
                  </a:lnTo>
                  <a:lnTo>
                    <a:pt x="530" y="921"/>
                  </a:lnTo>
                  <a:lnTo>
                    <a:pt x="405" y="662"/>
                  </a:lnTo>
                  <a:lnTo>
                    <a:pt x="27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237360" y="1832040"/>
              <a:ext cx="69840" cy="291960"/>
            </a:xfrm>
            <a:custGeom>
              <a:avLst/>
              <a:gdLst/>
              <a:ahLst/>
              <a:rect l="l" t="t" r="r" b="b"/>
              <a:pathLst>
                <a:path w="220" h="921">
                  <a:moveTo>
                    <a:pt x="0" y="921"/>
                  </a:moveTo>
                  <a:lnTo>
                    <a:pt x="0" y="686"/>
                  </a:lnTo>
                  <a:lnTo>
                    <a:pt x="220" y="686"/>
                  </a:lnTo>
                  <a:lnTo>
                    <a:pt x="220" y="921"/>
                  </a:lnTo>
                  <a:lnTo>
                    <a:pt x="0" y="921"/>
                  </a:lnTo>
                  <a:close/>
                  <a:moveTo>
                    <a:pt x="0" y="632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20" y="632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70036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9" y="674"/>
                  </a:moveTo>
                  <a:lnTo>
                    <a:pt x="261" y="671"/>
                  </a:lnTo>
                  <a:lnTo>
                    <a:pt x="282" y="667"/>
                  </a:lnTo>
                  <a:lnTo>
                    <a:pt x="303" y="661"/>
                  </a:lnTo>
                  <a:lnTo>
                    <a:pt x="322" y="653"/>
                  </a:lnTo>
                  <a:lnTo>
                    <a:pt x="340" y="643"/>
                  </a:lnTo>
                  <a:lnTo>
                    <a:pt x="356" y="632"/>
                  </a:lnTo>
                  <a:lnTo>
                    <a:pt x="372" y="620"/>
                  </a:lnTo>
                  <a:lnTo>
                    <a:pt x="387" y="606"/>
                  </a:lnTo>
                  <a:lnTo>
                    <a:pt x="400" y="590"/>
                  </a:lnTo>
                  <a:lnTo>
                    <a:pt x="411" y="574"/>
                  </a:lnTo>
                  <a:lnTo>
                    <a:pt x="420" y="558"/>
                  </a:lnTo>
                  <a:lnTo>
                    <a:pt x="428" y="539"/>
                  </a:lnTo>
                  <a:lnTo>
                    <a:pt x="435" y="520"/>
                  </a:lnTo>
                  <a:lnTo>
                    <a:pt x="439" y="501"/>
                  </a:lnTo>
                  <a:lnTo>
                    <a:pt x="441" y="480"/>
                  </a:lnTo>
                  <a:lnTo>
                    <a:pt x="442" y="458"/>
                  </a:lnTo>
                  <a:lnTo>
                    <a:pt x="441" y="434"/>
                  </a:lnTo>
                  <a:lnTo>
                    <a:pt x="439" y="413"/>
                  </a:lnTo>
                  <a:lnTo>
                    <a:pt x="434" y="391"/>
                  </a:lnTo>
                  <a:lnTo>
                    <a:pt x="427" y="371"/>
                  </a:lnTo>
                  <a:lnTo>
                    <a:pt x="420" y="352"/>
                  </a:lnTo>
                  <a:lnTo>
                    <a:pt x="410" y="334"/>
                  </a:lnTo>
                  <a:lnTo>
                    <a:pt x="399" y="317"/>
                  </a:lnTo>
                  <a:lnTo>
                    <a:pt x="386" y="301"/>
                  </a:lnTo>
                  <a:lnTo>
                    <a:pt x="378" y="294"/>
                  </a:lnTo>
                  <a:lnTo>
                    <a:pt x="371" y="286"/>
                  </a:lnTo>
                  <a:lnTo>
                    <a:pt x="363" y="280"/>
                  </a:lnTo>
                  <a:lnTo>
                    <a:pt x="355" y="274"/>
                  </a:lnTo>
                  <a:lnTo>
                    <a:pt x="347" y="269"/>
                  </a:lnTo>
                  <a:lnTo>
                    <a:pt x="339" y="264"/>
                  </a:lnTo>
                  <a:lnTo>
                    <a:pt x="329" y="259"/>
                  </a:lnTo>
                  <a:lnTo>
                    <a:pt x="320" y="255"/>
                  </a:lnTo>
                  <a:lnTo>
                    <a:pt x="302" y="248"/>
                  </a:lnTo>
                  <a:lnTo>
                    <a:pt x="281" y="243"/>
                  </a:lnTo>
                  <a:lnTo>
                    <a:pt x="261" y="239"/>
                  </a:lnTo>
                  <a:lnTo>
                    <a:pt x="239" y="238"/>
                  </a:lnTo>
                  <a:lnTo>
                    <a:pt x="239" y="674"/>
                  </a:lnTo>
                  <a:close/>
                  <a:moveTo>
                    <a:pt x="140" y="0"/>
                  </a:moveTo>
                  <a:lnTo>
                    <a:pt x="171" y="0"/>
                  </a:lnTo>
                  <a:lnTo>
                    <a:pt x="202" y="1"/>
                  </a:lnTo>
                  <a:lnTo>
                    <a:pt x="230" y="2"/>
                  </a:lnTo>
                  <a:lnTo>
                    <a:pt x="257" y="4"/>
                  </a:lnTo>
                  <a:lnTo>
                    <a:pt x="282" y="6"/>
                  </a:lnTo>
                  <a:lnTo>
                    <a:pt x="307" y="9"/>
                  </a:lnTo>
                  <a:lnTo>
                    <a:pt x="328" y="13"/>
                  </a:lnTo>
                  <a:lnTo>
                    <a:pt x="349" y="16"/>
                  </a:lnTo>
                  <a:lnTo>
                    <a:pt x="368" y="21"/>
                  </a:lnTo>
                  <a:lnTo>
                    <a:pt x="388" y="26"/>
                  </a:lnTo>
                  <a:lnTo>
                    <a:pt x="406" y="32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7" y="54"/>
                  </a:lnTo>
                  <a:lnTo>
                    <a:pt x="473" y="62"/>
                  </a:lnTo>
                  <a:lnTo>
                    <a:pt x="490" y="71"/>
                  </a:lnTo>
                  <a:lnTo>
                    <a:pt x="513" y="88"/>
                  </a:lnTo>
                  <a:lnTo>
                    <a:pt x="536" y="105"/>
                  </a:lnTo>
                  <a:lnTo>
                    <a:pt x="557" y="123"/>
                  </a:lnTo>
                  <a:lnTo>
                    <a:pt x="577" y="143"/>
                  </a:lnTo>
                  <a:lnTo>
                    <a:pt x="595" y="164"/>
                  </a:lnTo>
                  <a:lnTo>
                    <a:pt x="611" y="185"/>
                  </a:lnTo>
                  <a:lnTo>
                    <a:pt x="627" y="209"/>
                  </a:lnTo>
                  <a:lnTo>
                    <a:pt x="640" y="233"/>
                  </a:lnTo>
                  <a:lnTo>
                    <a:pt x="652" y="259"/>
                  </a:lnTo>
                  <a:lnTo>
                    <a:pt x="662" y="285"/>
                  </a:lnTo>
                  <a:lnTo>
                    <a:pt x="672" y="313"/>
                  </a:lnTo>
                  <a:lnTo>
                    <a:pt x="679" y="341"/>
                  </a:lnTo>
                  <a:lnTo>
                    <a:pt x="684" y="371"/>
                  </a:lnTo>
                  <a:lnTo>
                    <a:pt x="688" y="402"/>
                  </a:lnTo>
                  <a:lnTo>
                    <a:pt x="691" y="433"/>
                  </a:lnTo>
                  <a:lnTo>
                    <a:pt x="691" y="466"/>
                  </a:lnTo>
                  <a:lnTo>
                    <a:pt x="690" y="496"/>
                  </a:lnTo>
                  <a:lnTo>
                    <a:pt x="688" y="524"/>
                  </a:lnTo>
                  <a:lnTo>
                    <a:pt x="683" y="553"/>
                  </a:lnTo>
                  <a:lnTo>
                    <a:pt x="677" y="579"/>
                  </a:lnTo>
                  <a:lnTo>
                    <a:pt x="669" y="607"/>
                  </a:lnTo>
                  <a:lnTo>
                    <a:pt x="659" y="633"/>
                  </a:lnTo>
                  <a:lnTo>
                    <a:pt x="648" y="659"/>
                  </a:lnTo>
                  <a:lnTo>
                    <a:pt x="635" y="683"/>
                  </a:lnTo>
                  <a:lnTo>
                    <a:pt x="619" y="708"/>
                  </a:lnTo>
                  <a:lnTo>
                    <a:pt x="603" y="731"/>
                  </a:lnTo>
                  <a:lnTo>
                    <a:pt x="586" y="753"/>
                  </a:lnTo>
                  <a:lnTo>
                    <a:pt x="566" y="774"/>
                  </a:lnTo>
                  <a:lnTo>
                    <a:pt x="546" y="793"/>
                  </a:lnTo>
                  <a:lnTo>
                    <a:pt x="523" y="812"/>
                  </a:lnTo>
                  <a:lnTo>
                    <a:pt x="500" y="829"/>
                  </a:lnTo>
                  <a:lnTo>
                    <a:pt x="474" y="845"/>
                  </a:lnTo>
                  <a:lnTo>
                    <a:pt x="458" y="855"/>
                  </a:lnTo>
                  <a:lnTo>
                    <a:pt x="442" y="864"/>
                  </a:lnTo>
                  <a:lnTo>
                    <a:pt x="424" y="872"/>
                  </a:lnTo>
                  <a:lnTo>
                    <a:pt x="406" y="879"/>
                  </a:lnTo>
                  <a:lnTo>
                    <a:pt x="388" y="886"/>
                  </a:lnTo>
                  <a:lnTo>
                    <a:pt x="369" y="892"/>
                  </a:lnTo>
                  <a:lnTo>
                    <a:pt x="350" y="897"/>
                  </a:lnTo>
                  <a:lnTo>
                    <a:pt x="329" y="902"/>
                  </a:lnTo>
                  <a:lnTo>
                    <a:pt x="309" y="907"/>
                  </a:lnTo>
                  <a:lnTo>
                    <a:pt x="288" y="911"/>
                  </a:lnTo>
                  <a:lnTo>
                    <a:pt x="265" y="914"/>
                  </a:lnTo>
                  <a:lnTo>
                    <a:pt x="242" y="916"/>
                  </a:lnTo>
                  <a:lnTo>
                    <a:pt x="217" y="918"/>
                  </a:lnTo>
                  <a:lnTo>
                    <a:pt x="193" y="919"/>
                  </a:lnTo>
                  <a:lnTo>
                    <a:pt x="166" y="920"/>
                  </a:lnTo>
                  <a:lnTo>
                    <a:pt x="140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4336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5" h="970">
                  <a:moveTo>
                    <a:pt x="468" y="256"/>
                  </a:moveTo>
                  <a:lnTo>
                    <a:pt x="457" y="256"/>
                  </a:lnTo>
                  <a:lnTo>
                    <a:pt x="446" y="257"/>
                  </a:lnTo>
                  <a:lnTo>
                    <a:pt x="434" y="258"/>
                  </a:lnTo>
                  <a:lnTo>
                    <a:pt x="423" y="260"/>
                  </a:lnTo>
                  <a:lnTo>
                    <a:pt x="413" y="262"/>
                  </a:lnTo>
                  <a:lnTo>
                    <a:pt x="403" y="266"/>
                  </a:lnTo>
                  <a:lnTo>
                    <a:pt x="392" y="269"/>
                  </a:lnTo>
                  <a:lnTo>
                    <a:pt x="382" y="273"/>
                  </a:lnTo>
                  <a:lnTo>
                    <a:pt x="373" y="277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6" y="293"/>
                  </a:lnTo>
                  <a:lnTo>
                    <a:pt x="336" y="299"/>
                  </a:lnTo>
                  <a:lnTo>
                    <a:pt x="328" y="306"/>
                  </a:lnTo>
                  <a:lnTo>
                    <a:pt x="320" y="314"/>
                  </a:lnTo>
                  <a:lnTo>
                    <a:pt x="312" y="322"/>
                  </a:lnTo>
                  <a:lnTo>
                    <a:pt x="304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9" y="386"/>
                  </a:lnTo>
                  <a:lnTo>
                    <a:pt x="265" y="395"/>
                  </a:lnTo>
                  <a:lnTo>
                    <a:pt x="261" y="405"/>
                  </a:lnTo>
                  <a:lnTo>
                    <a:pt x="258" y="416"/>
                  </a:lnTo>
                  <a:lnTo>
                    <a:pt x="255" y="427"/>
                  </a:lnTo>
                  <a:lnTo>
                    <a:pt x="253" y="438"/>
                  </a:lnTo>
                  <a:lnTo>
                    <a:pt x="251" y="449"/>
                  </a:lnTo>
                  <a:lnTo>
                    <a:pt x="250" y="460"/>
                  </a:lnTo>
                  <a:lnTo>
                    <a:pt x="249" y="473"/>
                  </a:lnTo>
                  <a:lnTo>
                    <a:pt x="249" y="485"/>
                  </a:lnTo>
                  <a:lnTo>
                    <a:pt x="249" y="496"/>
                  </a:lnTo>
                  <a:lnTo>
                    <a:pt x="250" y="508"/>
                  </a:lnTo>
                  <a:lnTo>
                    <a:pt x="251" y="519"/>
                  </a:lnTo>
                  <a:lnTo>
                    <a:pt x="253" y="531"/>
                  </a:lnTo>
                  <a:lnTo>
                    <a:pt x="255" y="542"/>
                  </a:lnTo>
                  <a:lnTo>
                    <a:pt x="258" y="552"/>
                  </a:lnTo>
                  <a:lnTo>
                    <a:pt x="261" y="563"/>
                  </a:lnTo>
                  <a:lnTo>
                    <a:pt x="265" y="574"/>
                  </a:lnTo>
                  <a:lnTo>
                    <a:pt x="269" y="584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4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4" y="639"/>
                  </a:lnTo>
                  <a:lnTo>
                    <a:pt x="312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6" y="668"/>
                  </a:lnTo>
                  <a:lnTo>
                    <a:pt x="344" y="676"/>
                  </a:lnTo>
                  <a:lnTo>
                    <a:pt x="354" y="682"/>
                  </a:lnTo>
                  <a:lnTo>
                    <a:pt x="363" y="687"/>
                  </a:lnTo>
                  <a:lnTo>
                    <a:pt x="372" y="692"/>
                  </a:lnTo>
                  <a:lnTo>
                    <a:pt x="382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3" y="708"/>
                  </a:lnTo>
                  <a:lnTo>
                    <a:pt x="433" y="710"/>
                  </a:lnTo>
                  <a:lnTo>
                    <a:pt x="445" y="711"/>
                  </a:lnTo>
                  <a:lnTo>
                    <a:pt x="456" y="712"/>
                  </a:lnTo>
                  <a:lnTo>
                    <a:pt x="468" y="712"/>
                  </a:lnTo>
                  <a:lnTo>
                    <a:pt x="479" y="712"/>
                  </a:lnTo>
                  <a:lnTo>
                    <a:pt x="491" y="711"/>
                  </a:lnTo>
                  <a:lnTo>
                    <a:pt x="502" y="710"/>
                  </a:lnTo>
                  <a:lnTo>
                    <a:pt x="513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4" y="700"/>
                  </a:lnTo>
                  <a:lnTo>
                    <a:pt x="554" y="696"/>
                  </a:lnTo>
                  <a:lnTo>
                    <a:pt x="563" y="691"/>
                  </a:lnTo>
                  <a:lnTo>
                    <a:pt x="572" y="687"/>
                  </a:lnTo>
                  <a:lnTo>
                    <a:pt x="581" y="681"/>
                  </a:lnTo>
                  <a:lnTo>
                    <a:pt x="591" y="676"/>
                  </a:lnTo>
                  <a:lnTo>
                    <a:pt x="600" y="668"/>
                  </a:lnTo>
                  <a:lnTo>
                    <a:pt x="608" y="662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9" y="630"/>
                  </a:lnTo>
                  <a:lnTo>
                    <a:pt x="646" y="620"/>
                  </a:lnTo>
                  <a:lnTo>
                    <a:pt x="652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5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3" y="531"/>
                  </a:lnTo>
                  <a:lnTo>
                    <a:pt x="686" y="508"/>
                  </a:lnTo>
                  <a:lnTo>
                    <a:pt x="687" y="485"/>
                  </a:lnTo>
                  <a:lnTo>
                    <a:pt x="686" y="461"/>
                  </a:lnTo>
                  <a:lnTo>
                    <a:pt x="683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5" y="406"/>
                  </a:lnTo>
                  <a:lnTo>
                    <a:pt x="671" y="396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6"/>
                  </a:lnTo>
                  <a:lnTo>
                    <a:pt x="652" y="357"/>
                  </a:lnTo>
                  <a:lnTo>
                    <a:pt x="639" y="339"/>
                  </a:lnTo>
                  <a:lnTo>
                    <a:pt x="624" y="323"/>
                  </a:lnTo>
                  <a:lnTo>
                    <a:pt x="616" y="314"/>
                  </a:lnTo>
                  <a:lnTo>
                    <a:pt x="608" y="307"/>
                  </a:lnTo>
                  <a:lnTo>
                    <a:pt x="600" y="300"/>
                  </a:lnTo>
                  <a:lnTo>
                    <a:pt x="591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4" y="273"/>
                  </a:lnTo>
                  <a:lnTo>
                    <a:pt x="544" y="269"/>
                  </a:lnTo>
                  <a:lnTo>
                    <a:pt x="533" y="266"/>
                  </a:lnTo>
                  <a:lnTo>
                    <a:pt x="523" y="262"/>
                  </a:lnTo>
                  <a:lnTo>
                    <a:pt x="513" y="260"/>
                  </a:lnTo>
                  <a:lnTo>
                    <a:pt x="502" y="258"/>
                  </a:lnTo>
                  <a:lnTo>
                    <a:pt x="491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7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1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3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9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6" y="101"/>
                  </a:lnTo>
                  <a:lnTo>
                    <a:pt x="770" y="115"/>
                  </a:lnTo>
                  <a:lnTo>
                    <a:pt x="790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8" y="356"/>
                  </a:lnTo>
                  <a:lnTo>
                    <a:pt x="923" y="381"/>
                  </a:lnTo>
                  <a:lnTo>
                    <a:pt x="929" y="406"/>
                  </a:lnTo>
                  <a:lnTo>
                    <a:pt x="932" y="432"/>
                  </a:lnTo>
                  <a:lnTo>
                    <a:pt x="934" y="458"/>
                  </a:lnTo>
                  <a:lnTo>
                    <a:pt x="935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9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1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1" y="778"/>
                  </a:lnTo>
                  <a:lnTo>
                    <a:pt x="824" y="798"/>
                  </a:lnTo>
                  <a:lnTo>
                    <a:pt x="808" y="817"/>
                  </a:lnTo>
                  <a:lnTo>
                    <a:pt x="790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40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8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3" y="953"/>
                  </a:lnTo>
                  <a:lnTo>
                    <a:pt x="572" y="958"/>
                  </a:lnTo>
                  <a:lnTo>
                    <a:pt x="552" y="962"/>
                  </a:lnTo>
                  <a:lnTo>
                    <a:pt x="530" y="965"/>
                  </a:lnTo>
                  <a:lnTo>
                    <a:pt x="510" y="968"/>
                  </a:lnTo>
                  <a:lnTo>
                    <a:pt x="488" y="969"/>
                  </a:lnTo>
                  <a:lnTo>
                    <a:pt x="467" y="970"/>
                  </a:lnTo>
                  <a:lnTo>
                    <a:pt x="445" y="969"/>
                  </a:lnTo>
                  <a:lnTo>
                    <a:pt x="424" y="968"/>
                  </a:lnTo>
                  <a:lnTo>
                    <a:pt x="403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2" y="947"/>
                  </a:lnTo>
                  <a:lnTo>
                    <a:pt x="302" y="940"/>
                  </a:lnTo>
                  <a:lnTo>
                    <a:pt x="283" y="933"/>
                  </a:lnTo>
                  <a:lnTo>
                    <a:pt x="264" y="924"/>
                  </a:lnTo>
                  <a:lnTo>
                    <a:pt x="246" y="914"/>
                  </a:lnTo>
                  <a:lnTo>
                    <a:pt x="228" y="904"/>
                  </a:lnTo>
                  <a:lnTo>
                    <a:pt x="212" y="894"/>
                  </a:lnTo>
                  <a:lnTo>
                    <a:pt x="194" y="882"/>
                  </a:lnTo>
                  <a:lnTo>
                    <a:pt x="179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4" y="778"/>
                  </a:lnTo>
                  <a:lnTo>
                    <a:pt x="80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3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2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2" y="381"/>
                  </a:lnTo>
                  <a:lnTo>
                    <a:pt x="17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10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9" y="101"/>
                  </a:lnTo>
                  <a:lnTo>
                    <a:pt x="194" y="88"/>
                  </a:lnTo>
                  <a:lnTo>
                    <a:pt x="212" y="77"/>
                  </a:lnTo>
                  <a:lnTo>
                    <a:pt x="228" y="66"/>
                  </a:lnTo>
                  <a:lnTo>
                    <a:pt x="246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2" y="30"/>
                  </a:lnTo>
                  <a:lnTo>
                    <a:pt x="322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3" y="4"/>
                  </a:lnTo>
                  <a:lnTo>
                    <a:pt x="424" y="2"/>
                  </a:lnTo>
                  <a:lnTo>
                    <a:pt x="445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92640" y="2324160"/>
              <a:ext cx="217440" cy="291960"/>
            </a:xfrm>
            <a:custGeom>
              <a:avLst/>
              <a:gdLst/>
              <a:ahLst/>
              <a:rect l="l" t="t" r="r" b="b"/>
              <a:pathLst>
                <a:path w="685" h="921">
                  <a:moveTo>
                    <a:pt x="0" y="921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1"/>
                  </a:lnTo>
                  <a:lnTo>
                    <a:pt x="577" y="921"/>
                  </a:lnTo>
                  <a:lnTo>
                    <a:pt x="238" y="521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64500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8" y="256"/>
                  </a:moveTo>
                  <a:lnTo>
                    <a:pt x="456" y="256"/>
                  </a:lnTo>
                  <a:lnTo>
                    <a:pt x="444" y="257"/>
                  </a:lnTo>
                  <a:lnTo>
                    <a:pt x="434" y="258"/>
                  </a:lnTo>
                  <a:lnTo>
                    <a:pt x="423" y="260"/>
                  </a:lnTo>
                  <a:lnTo>
                    <a:pt x="413" y="262"/>
                  </a:lnTo>
                  <a:lnTo>
                    <a:pt x="401" y="266"/>
                  </a:lnTo>
                  <a:lnTo>
                    <a:pt x="392" y="269"/>
                  </a:lnTo>
                  <a:lnTo>
                    <a:pt x="382" y="273"/>
                  </a:lnTo>
                  <a:lnTo>
                    <a:pt x="372" y="277"/>
                  </a:lnTo>
                  <a:lnTo>
                    <a:pt x="363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8" y="306"/>
                  </a:lnTo>
                  <a:lnTo>
                    <a:pt x="320" y="314"/>
                  </a:lnTo>
                  <a:lnTo>
                    <a:pt x="312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9" y="386"/>
                  </a:lnTo>
                  <a:lnTo>
                    <a:pt x="264" y="395"/>
                  </a:lnTo>
                  <a:lnTo>
                    <a:pt x="261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1" y="563"/>
                  </a:lnTo>
                  <a:lnTo>
                    <a:pt x="264" y="574"/>
                  </a:lnTo>
                  <a:lnTo>
                    <a:pt x="268" y="584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4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3" y="639"/>
                  </a:lnTo>
                  <a:lnTo>
                    <a:pt x="312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4" y="676"/>
                  </a:lnTo>
                  <a:lnTo>
                    <a:pt x="353" y="682"/>
                  </a:lnTo>
                  <a:lnTo>
                    <a:pt x="363" y="687"/>
                  </a:lnTo>
                  <a:lnTo>
                    <a:pt x="372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2" y="706"/>
                  </a:lnTo>
                  <a:lnTo>
                    <a:pt x="423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6" y="712"/>
                  </a:lnTo>
                  <a:lnTo>
                    <a:pt x="468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2" y="710"/>
                  </a:lnTo>
                  <a:lnTo>
                    <a:pt x="512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4" y="696"/>
                  </a:lnTo>
                  <a:lnTo>
                    <a:pt x="563" y="691"/>
                  </a:lnTo>
                  <a:lnTo>
                    <a:pt x="572" y="687"/>
                  </a:lnTo>
                  <a:lnTo>
                    <a:pt x="581" y="681"/>
                  </a:lnTo>
                  <a:lnTo>
                    <a:pt x="590" y="676"/>
                  </a:lnTo>
                  <a:lnTo>
                    <a:pt x="599" y="668"/>
                  </a:lnTo>
                  <a:lnTo>
                    <a:pt x="608" y="662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6" y="620"/>
                  </a:lnTo>
                  <a:lnTo>
                    <a:pt x="652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2" y="531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6"/>
                  </a:lnTo>
                  <a:lnTo>
                    <a:pt x="652" y="357"/>
                  </a:lnTo>
                  <a:lnTo>
                    <a:pt x="638" y="339"/>
                  </a:lnTo>
                  <a:lnTo>
                    <a:pt x="624" y="323"/>
                  </a:lnTo>
                  <a:lnTo>
                    <a:pt x="616" y="314"/>
                  </a:lnTo>
                  <a:lnTo>
                    <a:pt x="608" y="307"/>
                  </a:lnTo>
                  <a:lnTo>
                    <a:pt x="599" y="300"/>
                  </a:lnTo>
                  <a:lnTo>
                    <a:pt x="590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4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3" y="262"/>
                  </a:lnTo>
                  <a:lnTo>
                    <a:pt x="512" y="260"/>
                  </a:lnTo>
                  <a:lnTo>
                    <a:pt x="502" y="258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8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0" y="778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2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8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2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2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6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954600" y="2324160"/>
              <a:ext cx="19512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2"/>
                  </a:moveTo>
                  <a:lnTo>
                    <a:pt x="427" y="921"/>
                  </a:lnTo>
                  <a:lnTo>
                    <a:pt x="188" y="921"/>
                  </a:lnTo>
                  <a:lnTo>
                    <a:pt x="188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2670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6" y="232"/>
                  </a:moveTo>
                  <a:lnTo>
                    <a:pt x="426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48632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9" y="432"/>
                  </a:moveTo>
                  <a:lnTo>
                    <a:pt x="261" y="432"/>
                  </a:lnTo>
                  <a:lnTo>
                    <a:pt x="278" y="432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1" y="410"/>
                  </a:lnTo>
                  <a:lnTo>
                    <a:pt x="359" y="403"/>
                  </a:lnTo>
                  <a:lnTo>
                    <a:pt x="368" y="396"/>
                  </a:lnTo>
                  <a:lnTo>
                    <a:pt x="375" y="386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9" y="356"/>
                  </a:lnTo>
                  <a:lnTo>
                    <a:pt x="391" y="345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2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8"/>
                  </a:lnTo>
                  <a:lnTo>
                    <a:pt x="375" y="248"/>
                  </a:lnTo>
                  <a:lnTo>
                    <a:pt x="369" y="239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09" y="206"/>
                  </a:lnTo>
                  <a:lnTo>
                    <a:pt x="296" y="204"/>
                  </a:lnTo>
                  <a:lnTo>
                    <a:pt x="283" y="202"/>
                  </a:lnTo>
                  <a:lnTo>
                    <a:pt x="269" y="202"/>
                  </a:lnTo>
                  <a:lnTo>
                    <a:pt x="239" y="202"/>
                  </a:lnTo>
                  <a:lnTo>
                    <a:pt x="239" y="432"/>
                  </a:lnTo>
                  <a:close/>
                  <a:moveTo>
                    <a:pt x="0" y="921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4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49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9" y="526"/>
                  </a:lnTo>
                  <a:lnTo>
                    <a:pt x="239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729320" y="2324160"/>
              <a:ext cx="196560" cy="299880"/>
            </a:xfrm>
            <a:custGeom>
              <a:avLst/>
              <a:gdLst/>
              <a:ahLst/>
              <a:rect l="l" t="t" r="r" b="b"/>
              <a:pathLst>
                <a:path w="620" h="945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8" y="618"/>
                  </a:lnTo>
                  <a:lnTo>
                    <a:pt x="617" y="645"/>
                  </a:lnTo>
                  <a:lnTo>
                    <a:pt x="615" y="670"/>
                  </a:lnTo>
                  <a:lnTo>
                    <a:pt x="612" y="693"/>
                  </a:lnTo>
                  <a:lnTo>
                    <a:pt x="609" y="715"/>
                  </a:lnTo>
                  <a:lnTo>
                    <a:pt x="606" y="734"/>
                  </a:lnTo>
                  <a:lnTo>
                    <a:pt x="602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69" y="824"/>
                  </a:lnTo>
                  <a:lnTo>
                    <a:pt x="560" y="837"/>
                  </a:lnTo>
                  <a:lnTo>
                    <a:pt x="550" y="849"/>
                  </a:lnTo>
                  <a:lnTo>
                    <a:pt x="540" y="861"/>
                  </a:lnTo>
                  <a:lnTo>
                    <a:pt x="531" y="871"/>
                  </a:lnTo>
                  <a:lnTo>
                    <a:pt x="519" y="880"/>
                  </a:lnTo>
                  <a:lnTo>
                    <a:pt x="508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0" y="911"/>
                  </a:lnTo>
                  <a:lnTo>
                    <a:pt x="456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2" y="942"/>
                  </a:lnTo>
                  <a:lnTo>
                    <a:pt x="345" y="943"/>
                  </a:lnTo>
                  <a:lnTo>
                    <a:pt x="327" y="944"/>
                  </a:lnTo>
                  <a:lnTo>
                    <a:pt x="310" y="945"/>
                  </a:lnTo>
                  <a:lnTo>
                    <a:pt x="293" y="944"/>
                  </a:lnTo>
                  <a:lnTo>
                    <a:pt x="275" y="943"/>
                  </a:lnTo>
                  <a:lnTo>
                    <a:pt x="258" y="942"/>
                  </a:lnTo>
                  <a:lnTo>
                    <a:pt x="242" y="939"/>
                  </a:lnTo>
                  <a:lnTo>
                    <a:pt x="225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78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4" y="896"/>
                  </a:lnTo>
                  <a:lnTo>
                    <a:pt x="112" y="888"/>
                  </a:lnTo>
                  <a:lnTo>
                    <a:pt x="101" y="880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0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5" y="795"/>
                  </a:lnTo>
                  <a:lnTo>
                    <a:pt x="29" y="781"/>
                  </a:lnTo>
                  <a:lnTo>
                    <a:pt x="23" y="766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1" y="617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6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0" y="673"/>
                  </a:lnTo>
                  <a:lnTo>
                    <a:pt x="265" y="679"/>
                  </a:lnTo>
                  <a:lnTo>
                    <a:pt x="271" y="684"/>
                  </a:lnTo>
                  <a:lnTo>
                    <a:pt x="277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0" y="696"/>
                  </a:lnTo>
                  <a:lnTo>
                    <a:pt x="319" y="696"/>
                  </a:lnTo>
                  <a:lnTo>
                    <a:pt x="328" y="694"/>
                  </a:lnTo>
                  <a:lnTo>
                    <a:pt x="336" y="692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9"/>
                  </a:lnTo>
                  <a:lnTo>
                    <a:pt x="361" y="673"/>
                  </a:lnTo>
                  <a:lnTo>
                    <a:pt x="365" y="665"/>
                  </a:lnTo>
                  <a:lnTo>
                    <a:pt x="369" y="657"/>
                  </a:lnTo>
                  <a:lnTo>
                    <a:pt x="372" y="646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962600" y="2319480"/>
              <a:ext cx="155520" cy="301320"/>
            </a:xfrm>
            <a:custGeom>
              <a:avLst/>
              <a:gdLst/>
              <a:ahLst/>
              <a:rect l="l" t="t" r="r" b="b"/>
              <a:pathLst>
                <a:path w="488" h="949">
                  <a:moveTo>
                    <a:pt x="18" y="937"/>
                  </a:moveTo>
                  <a:lnTo>
                    <a:pt x="12" y="684"/>
                  </a:lnTo>
                  <a:lnTo>
                    <a:pt x="18" y="686"/>
                  </a:lnTo>
                  <a:lnTo>
                    <a:pt x="25" y="689"/>
                  </a:lnTo>
                  <a:lnTo>
                    <a:pt x="32" y="691"/>
                  </a:lnTo>
                  <a:lnTo>
                    <a:pt x="38" y="693"/>
                  </a:lnTo>
                  <a:lnTo>
                    <a:pt x="45" y="695"/>
                  </a:lnTo>
                  <a:lnTo>
                    <a:pt x="51" y="697"/>
                  </a:lnTo>
                  <a:lnTo>
                    <a:pt x="57" y="699"/>
                  </a:lnTo>
                  <a:lnTo>
                    <a:pt x="63" y="700"/>
                  </a:lnTo>
                  <a:lnTo>
                    <a:pt x="69" y="702"/>
                  </a:lnTo>
                  <a:lnTo>
                    <a:pt x="75" y="703"/>
                  </a:lnTo>
                  <a:lnTo>
                    <a:pt x="82" y="704"/>
                  </a:lnTo>
                  <a:lnTo>
                    <a:pt x="87" y="705"/>
                  </a:lnTo>
                  <a:lnTo>
                    <a:pt x="93" y="706"/>
                  </a:lnTo>
                  <a:lnTo>
                    <a:pt x="99" y="706"/>
                  </a:lnTo>
                  <a:lnTo>
                    <a:pt x="104" y="706"/>
                  </a:lnTo>
                  <a:lnTo>
                    <a:pt x="110" y="706"/>
                  </a:lnTo>
                  <a:lnTo>
                    <a:pt x="119" y="706"/>
                  </a:lnTo>
                  <a:lnTo>
                    <a:pt x="129" y="705"/>
                  </a:lnTo>
                  <a:lnTo>
                    <a:pt x="138" y="703"/>
                  </a:lnTo>
                  <a:lnTo>
                    <a:pt x="146" y="701"/>
                  </a:lnTo>
                  <a:lnTo>
                    <a:pt x="154" y="698"/>
                  </a:lnTo>
                  <a:lnTo>
                    <a:pt x="161" y="695"/>
                  </a:lnTo>
                  <a:lnTo>
                    <a:pt x="168" y="691"/>
                  </a:lnTo>
                  <a:lnTo>
                    <a:pt x="175" y="686"/>
                  </a:lnTo>
                  <a:lnTo>
                    <a:pt x="181" y="681"/>
                  </a:lnTo>
                  <a:lnTo>
                    <a:pt x="186" y="675"/>
                  </a:lnTo>
                  <a:lnTo>
                    <a:pt x="190" y="669"/>
                  </a:lnTo>
                  <a:lnTo>
                    <a:pt x="194" y="663"/>
                  </a:lnTo>
                  <a:lnTo>
                    <a:pt x="196" y="656"/>
                  </a:lnTo>
                  <a:lnTo>
                    <a:pt x="198" y="649"/>
                  </a:lnTo>
                  <a:lnTo>
                    <a:pt x="199" y="642"/>
                  </a:lnTo>
                  <a:lnTo>
                    <a:pt x="200" y="634"/>
                  </a:lnTo>
                  <a:lnTo>
                    <a:pt x="199" y="624"/>
                  </a:lnTo>
                  <a:lnTo>
                    <a:pt x="196" y="613"/>
                  </a:lnTo>
                  <a:lnTo>
                    <a:pt x="190" y="600"/>
                  </a:lnTo>
                  <a:lnTo>
                    <a:pt x="183" y="588"/>
                  </a:lnTo>
                  <a:lnTo>
                    <a:pt x="174" y="575"/>
                  </a:lnTo>
                  <a:lnTo>
                    <a:pt x="161" y="561"/>
                  </a:lnTo>
                  <a:lnTo>
                    <a:pt x="147" y="546"/>
                  </a:lnTo>
                  <a:lnTo>
                    <a:pt x="132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6"/>
                  </a:lnTo>
                  <a:lnTo>
                    <a:pt x="110" y="512"/>
                  </a:lnTo>
                  <a:lnTo>
                    <a:pt x="106" y="507"/>
                  </a:lnTo>
                  <a:lnTo>
                    <a:pt x="102" y="503"/>
                  </a:lnTo>
                  <a:lnTo>
                    <a:pt x="99" y="500"/>
                  </a:lnTo>
                  <a:lnTo>
                    <a:pt x="96" y="496"/>
                  </a:lnTo>
                  <a:lnTo>
                    <a:pt x="84" y="484"/>
                  </a:lnTo>
                  <a:lnTo>
                    <a:pt x="72" y="472"/>
                  </a:lnTo>
                  <a:lnTo>
                    <a:pt x="62" y="460"/>
                  </a:lnTo>
                  <a:lnTo>
                    <a:pt x="53" y="447"/>
                  </a:lnTo>
                  <a:lnTo>
                    <a:pt x="45" y="434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5"/>
                  </a:lnTo>
                  <a:lnTo>
                    <a:pt x="18" y="382"/>
                  </a:lnTo>
                  <a:lnTo>
                    <a:pt x="13" y="369"/>
                  </a:lnTo>
                  <a:lnTo>
                    <a:pt x="9" y="355"/>
                  </a:lnTo>
                  <a:lnTo>
                    <a:pt x="6" y="341"/>
                  </a:lnTo>
                  <a:lnTo>
                    <a:pt x="3" y="327"/>
                  </a:lnTo>
                  <a:lnTo>
                    <a:pt x="2" y="313"/>
                  </a:lnTo>
                  <a:lnTo>
                    <a:pt x="1" y="298"/>
                  </a:lnTo>
                  <a:lnTo>
                    <a:pt x="0" y="283"/>
                  </a:lnTo>
                  <a:lnTo>
                    <a:pt x="1" y="268"/>
                  </a:lnTo>
                  <a:lnTo>
                    <a:pt x="2" y="252"/>
                  </a:lnTo>
                  <a:lnTo>
                    <a:pt x="3" y="238"/>
                  </a:lnTo>
                  <a:lnTo>
                    <a:pt x="6" y="224"/>
                  </a:lnTo>
                  <a:lnTo>
                    <a:pt x="9" y="210"/>
                  </a:lnTo>
                  <a:lnTo>
                    <a:pt x="12" y="196"/>
                  </a:lnTo>
                  <a:lnTo>
                    <a:pt x="17" y="183"/>
                  </a:lnTo>
                  <a:lnTo>
                    <a:pt x="22" y="170"/>
                  </a:lnTo>
                  <a:lnTo>
                    <a:pt x="28" y="158"/>
                  </a:lnTo>
                  <a:lnTo>
                    <a:pt x="35" y="145"/>
                  </a:lnTo>
                  <a:lnTo>
                    <a:pt x="41" y="133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99"/>
                  </a:lnTo>
                  <a:lnTo>
                    <a:pt x="77" y="89"/>
                  </a:lnTo>
                  <a:lnTo>
                    <a:pt x="87" y="79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4"/>
                  </a:lnTo>
                  <a:lnTo>
                    <a:pt x="146" y="37"/>
                  </a:lnTo>
                  <a:lnTo>
                    <a:pt x="159" y="31"/>
                  </a:lnTo>
                  <a:lnTo>
                    <a:pt x="173" y="25"/>
                  </a:lnTo>
                  <a:lnTo>
                    <a:pt x="187" y="19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1"/>
                  </a:lnTo>
                  <a:lnTo>
                    <a:pt x="295" y="0"/>
                  </a:lnTo>
                  <a:lnTo>
                    <a:pt x="311" y="0"/>
                  </a:lnTo>
                  <a:lnTo>
                    <a:pt x="323" y="0"/>
                  </a:lnTo>
                  <a:lnTo>
                    <a:pt x="333" y="0"/>
                  </a:lnTo>
                  <a:lnTo>
                    <a:pt x="344" y="1"/>
                  </a:lnTo>
                  <a:lnTo>
                    <a:pt x="354" y="1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5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2" y="10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9" y="17"/>
                  </a:lnTo>
                  <a:lnTo>
                    <a:pt x="457" y="20"/>
                  </a:lnTo>
                  <a:lnTo>
                    <a:pt x="467" y="23"/>
                  </a:lnTo>
                  <a:lnTo>
                    <a:pt x="467" y="251"/>
                  </a:lnTo>
                  <a:lnTo>
                    <a:pt x="459" y="247"/>
                  </a:lnTo>
                  <a:lnTo>
                    <a:pt x="452" y="244"/>
                  </a:lnTo>
                  <a:lnTo>
                    <a:pt x="445" y="240"/>
                  </a:lnTo>
                  <a:lnTo>
                    <a:pt x="438" y="238"/>
                  </a:lnTo>
                  <a:lnTo>
                    <a:pt x="431" y="235"/>
                  </a:lnTo>
                  <a:lnTo>
                    <a:pt x="424" y="232"/>
                  </a:lnTo>
                  <a:lnTo>
                    <a:pt x="418" y="230"/>
                  </a:lnTo>
                  <a:lnTo>
                    <a:pt x="411" y="228"/>
                  </a:lnTo>
                  <a:lnTo>
                    <a:pt x="404" y="227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6" y="221"/>
                  </a:lnTo>
                  <a:lnTo>
                    <a:pt x="370" y="221"/>
                  </a:lnTo>
                  <a:lnTo>
                    <a:pt x="364" y="221"/>
                  </a:lnTo>
                  <a:lnTo>
                    <a:pt x="354" y="221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6"/>
                  </a:lnTo>
                  <a:lnTo>
                    <a:pt x="316" y="228"/>
                  </a:lnTo>
                  <a:lnTo>
                    <a:pt x="308" y="231"/>
                  </a:lnTo>
                  <a:lnTo>
                    <a:pt x="301" y="235"/>
                  </a:lnTo>
                  <a:lnTo>
                    <a:pt x="295" y="239"/>
                  </a:lnTo>
                  <a:lnTo>
                    <a:pt x="290" y="244"/>
                  </a:lnTo>
                  <a:lnTo>
                    <a:pt x="285" y="250"/>
                  </a:lnTo>
                  <a:lnTo>
                    <a:pt x="281" y="256"/>
                  </a:lnTo>
                  <a:lnTo>
                    <a:pt x="277" y="263"/>
                  </a:lnTo>
                  <a:lnTo>
                    <a:pt x="275" y="270"/>
                  </a:lnTo>
                  <a:lnTo>
                    <a:pt x="273" y="277"/>
                  </a:lnTo>
                  <a:lnTo>
                    <a:pt x="272" y="285"/>
                  </a:lnTo>
                  <a:lnTo>
                    <a:pt x="271" y="293"/>
                  </a:lnTo>
                  <a:lnTo>
                    <a:pt x="272" y="298"/>
                  </a:lnTo>
                  <a:lnTo>
                    <a:pt x="272" y="303"/>
                  </a:lnTo>
                  <a:lnTo>
                    <a:pt x="274" y="309"/>
                  </a:lnTo>
                  <a:lnTo>
                    <a:pt x="276" y="314"/>
                  </a:lnTo>
                  <a:lnTo>
                    <a:pt x="281" y="324"/>
                  </a:lnTo>
                  <a:lnTo>
                    <a:pt x="288" y="335"/>
                  </a:lnTo>
                  <a:lnTo>
                    <a:pt x="297" y="347"/>
                  </a:lnTo>
                  <a:lnTo>
                    <a:pt x="308" y="359"/>
                  </a:lnTo>
                  <a:lnTo>
                    <a:pt x="322" y="371"/>
                  </a:lnTo>
                  <a:lnTo>
                    <a:pt x="337" y="384"/>
                  </a:lnTo>
                  <a:lnTo>
                    <a:pt x="344" y="389"/>
                  </a:lnTo>
                  <a:lnTo>
                    <a:pt x="349" y="394"/>
                  </a:lnTo>
                  <a:lnTo>
                    <a:pt x="355" y="399"/>
                  </a:lnTo>
                  <a:lnTo>
                    <a:pt x="360" y="403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5" y="415"/>
                  </a:lnTo>
                  <a:lnTo>
                    <a:pt x="378" y="418"/>
                  </a:lnTo>
                  <a:lnTo>
                    <a:pt x="391" y="430"/>
                  </a:lnTo>
                  <a:lnTo>
                    <a:pt x="403" y="442"/>
                  </a:lnTo>
                  <a:lnTo>
                    <a:pt x="415" y="455"/>
                  </a:lnTo>
                  <a:lnTo>
                    <a:pt x="425" y="468"/>
                  </a:lnTo>
                  <a:lnTo>
                    <a:pt x="435" y="482"/>
                  </a:lnTo>
                  <a:lnTo>
                    <a:pt x="444" y="495"/>
                  </a:lnTo>
                  <a:lnTo>
                    <a:pt x="452" y="511"/>
                  </a:lnTo>
                  <a:lnTo>
                    <a:pt x="459" y="525"/>
                  </a:lnTo>
                  <a:lnTo>
                    <a:pt x="467" y="540"/>
                  </a:lnTo>
                  <a:lnTo>
                    <a:pt x="472" y="555"/>
                  </a:lnTo>
                  <a:lnTo>
                    <a:pt x="477" y="572"/>
                  </a:lnTo>
                  <a:lnTo>
                    <a:pt x="481" y="587"/>
                  </a:lnTo>
                  <a:lnTo>
                    <a:pt x="484" y="603"/>
                  </a:lnTo>
                  <a:lnTo>
                    <a:pt x="486" y="620"/>
                  </a:lnTo>
                  <a:lnTo>
                    <a:pt x="487" y="637"/>
                  </a:lnTo>
                  <a:lnTo>
                    <a:pt x="488" y="653"/>
                  </a:lnTo>
                  <a:lnTo>
                    <a:pt x="487" y="671"/>
                  </a:lnTo>
                  <a:lnTo>
                    <a:pt x="486" y="687"/>
                  </a:lnTo>
                  <a:lnTo>
                    <a:pt x="484" y="703"/>
                  </a:lnTo>
                  <a:lnTo>
                    <a:pt x="482" y="719"/>
                  </a:lnTo>
                  <a:lnTo>
                    <a:pt x="479" y="734"/>
                  </a:lnTo>
                  <a:lnTo>
                    <a:pt x="475" y="749"/>
                  </a:lnTo>
                  <a:lnTo>
                    <a:pt x="470" y="763"/>
                  </a:lnTo>
                  <a:lnTo>
                    <a:pt x="465" y="777"/>
                  </a:lnTo>
                  <a:lnTo>
                    <a:pt x="458" y="790"/>
                  </a:lnTo>
                  <a:lnTo>
                    <a:pt x="452" y="803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39"/>
                  </a:lnTo>
                  <a:lnTo>
                    <a:pt x="418" y="850"/>
                  </a:lnTo>
                  <a:lnTo>
                    <a:pt x="407" y="860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89"/>
                  </a:lnTo>
                  <a:lnTo>
                    <a:pt x="359" y="897"/>
                  </a:lnTo>
                  <a:lnTo>
                    <a:pt x="346" y="904"/>
                  </a:lnTo>
                  <a:lnTo>
                    <a:pt x="332" y="911"/>
                  </a:lnTo>
                  <a:lnTo>
                    <a:pt x="318" y="919"/>
                  </a:lnTo>
                  <a:lnTo>
                    <a:pt x="302" y="924"/>
                  </a:lnTo>
                  <a:lnTo>
                    <a:pt x="287" y="929"/>
                  </a:lnTo>
                  <a:lnTo>
                    <a:pt x="271" y="934"/>
                  </a:lnTo>
                  <a:lnTo>
                    <a:pt x="254" y="938"/>
                  </a:lnTo>
                  <a:lnTo>
                    <a:pt x="237" y="941"/>
                  </a:lnTo>
                  <a:lnTo>
                    <a:pt x="218" y="944"/>
                  </a:lnTo>
                  <a:lnTo>
                    <a:pt x="200" y="946"/>
                  </a:lnTo>
                  <a:lnTo>
                    <a:pt x="182" y="947"/>
                  </a:lnTo>
                  <a:lnTo>
                    <a:pt x="162" y="948"/>
                  </a:lnTo>
                  <a:lnTo>
                    <a:pt x="142" y="949"/>
                  </a:lnTo>
                  <a:lnTo>
                    <a:pt x="134" y="948"/>
                  </a:lnTo>
                  <a:lnTo>
                    <a:pt x="126" y="948"/>
                  </a:lnTo>
                  <a:lnTo>
                    <a:pt x="117" y="948"/>
                  </a:lnTo>
                  <a:lnTo>
                    <a:pt x="109" y="948"/>
                  </a:lnTo>
                  <a:lnTo>
                    <a:pt x="101" y="947"/>
                  </a:lnTo>
                  <a:lnTo>
                    <a:pt x="93" y="947"/>
                  </a:lnTo>
                  <a:lnTo>
                    <a:pt x="86" y="946"/>
                  </a:lnTo>
                  <a:lnTo>
                    <a:pt x="78" y="945"/>
                  </a:lnTo>
                  <a:lnTo>
                    <a:pt x="70" y="945"/>
                  </a:lnTo>
                  <a:lnTo>
                    <a:pt x="62" y="944"/>
                  </a:lnTo>
                  <a:lnTo>
                    <a:pt x="55" y="943"/>
                  </a:lnTo>
                  <a:lnTo>
                    <a:pt x="47" y="942"/>
                  </a:lnTo>
                  <a:lnTo>
                    <a:pt x="40" y="941"/>
                  </a:lnTo>
                  <a:lnTo>
                    <a:pt x="33" y="940"/>
                  </a:lnTo>
                  <a:lnTo>
                    <a:pt x="25" y="938"/>
                  </a:lnTo>
                  <a:lnTo>
                    <a:pt x="18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1274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7" y="232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35640" y="2324160"/>
              <a:ext cx="239760" cy="291960"/>
            </a:xfrm>
            <a:custGeom>
              <a:avLst/>
              <a:gdLst/>
              <a:ahLst/>
              <a:rect l="l" t="t" r="r" b="b"/>
              <a:pathLst>
                <a:path w="758" h="921">
                  <a:moveTo>
                    <a:pt x="250" y="921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374" y="276"/>
                  </a:lnTo>
                  <a:lnTo>
                    <a:pt x="490" y="0"/>
                  </a:lnTo>
                  <a:lnTo>
                    <a:pt x="758" y="0"/>
                  </a:lnTo>
                  <a:lnTo>
                    <a:pt x="490" y="519"/>
                  </a:lnTo>
                  <a:lnTo>
                    <a:pt x="490" y="921"/>
                  </a:lnTo>
                  <a:lnTo>
                    <a:pt x="25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5664240" y="2316240"/>
              <a:ext cx="29520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7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2" y="262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2" y="273"/>
                  </a:lnTo>
                  <a:lnTo>
                    <a:pt x="371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8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3" y="356"/>
                  </a:lnTo>
                  <a:lnTo>
                    <a:pt x="277" y="366"/>
                  </a:lnTo>
                  <a:lnTo>
                    <a:pt x="272" y="376"/>
                  </a:lnTo>
                  <a:lnTo>
                    <a:pt x="267" y="386"/>
                  </a:lnTo>
                  <a:lnTo>
                    <a:pt x="263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3" y="574"/>
                  </a:lnTo>
                  <a:lnTo>
                    <a:pt x="267" y="584"/>
                  </a:lnTo>
                  <a:lnTo>
                    <a:pt x="272" y="593"/>
                  </a:lnTo>
                  <a:lnTo>
                    <a:pt x="277" y="603"/>
                  </a:lnTo>
                  <a:lnTo>
                    <a:pt x="283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3" y="639"/>
                  </a:lnTo>
                  <a:lnTo>
                    <a:pt x="310" y="647"/>
                  </a:lnTo>
                  <a:lnTo>
                    <a:pt x="318" y="654"/>
                  </a:lnTo>
                  <a:lnTo>
                    <a:pt x="326" y="662"/>
                  </a:lnTo>
                  <a:lnTo>
                    <a:pt x="335" y="668"/>
                  </a:lnTo>
                  <a:lnTo>
                    <a:pt x="344" y="676"/>
                  </a:lnTo>
                  <a:lnTo>
                    <a:pt x="353" y="682"/>
                  </a:lnTo>
                  <a:lnTo>
                    <a:pt x="362" y="687"/>
                  </a:lnTo>
                  <a:lnTo>
                    <a:pt x="371" y="692"/>
                  </a:lnTo>
                  <a:lnTo>
                    <a:pt x="380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1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5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1" y="708"/>
                  </a:lnTo>
                  <a:lnTo>
                    <a:pt x="522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2" y="696"/>
                  </a:lnTo>
                  <a:lnTo>
                    <a:pt x="562" y="691"/>
                  </a:lnTo>
                  <a:lnTo>
                    <a:pt x="571" y="687"/>
                  </a:lnTo>
                  <a:lnTo>
                    <a:pt x="581" y="681"/>
                  </a:lnTo>
                  <a:lnTo>
                    <a:pt x="590" y="676"/>
                  </a:lnTo>
                  <a:lnTo>
                    <a:pt x="598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4" y="620"/>
                  </a:lnTo>
                  <a:lnTo>
                    <a:pt x="650" y="611"/>
                  </a:lnTo>
                  <a:lnTo>
                    <a:pt x="656" y="602"/>
                  </a:lnTo>
                  <a:lnTo>
                    <a:pt x="661" y="593"/>
                  </a:lnTo>
                  <a:lnTo>
                    <a:pt x="666" y="583"/>
                  </a:lnTo>
                  <a:lnTo>
                    <a:pt x="670" y="573"/>
                  </a:lnTo>
                  <a:lnTo>
                    <a:pt x="674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2" y="531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4" y="406"/>
                  </a:lnTo>
                  <a:lnTo>
                    <a:pt x="670" y="396"/>
                  </a:lnTo>
                  <a:lnTo>
                    <a:pt x="666" y="386"/>
                  </a:lnTo>
                  <a:lnTo>
                    <a:pt x="661" y="376"/>
                  </a:lnTo>
                  <a:lnTo>
                    <a:pt x="656" y="366"/>
                  </a:lnTo>
                  <a:lnTo>
                    <a:pt x="650" y="357"/>
                  </a:lnTo>
                  <a:lnTo>
                    <a:pt x="638" y="339"/>
                  </a:lnTo>
                  <a:lnTo>
                    <a:pt x="624" y="323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8" y="300"/>
                  </a:lnTo>
                  <a:lnTo>
                    <a:pt x="590" y="293"/>
                  </a:lnTo>
                  <a:lnTo>
                    <a:pt x="581" y="288"/>
                  </a:lnTo>
                  <a:lnTo>
                    <a:pt x="571" y="282"/>
                  </a:lnTo>
                  <a:lnTo>
                    <a:pt x="562" y="277"/>
                  </a:lnTo>
                  <a:lnTo>
                    <a:pt x="552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2" y="262"/>
                  </a:lnTo>
                  <a:lnTo>
                    <a:pt x="511" y="260"/>
                  </a:lnTo>
                  <a:lnTo>
                    <a:pt x="501" y="258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7" y="256"/>
                  </a:lnTo>
                  <a:close/>
                  <a:moveTo>
                    <a:pt x="465" y="0"/>
                  </a:moveTo>
                  <a:lnTo>
                    <a:pt x="488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30"/>
                  </a:lnTo>
                  <a:lnTo>
                    <a:pt x="651" y="38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3"/>
                  </a:lnTo>
                  <a:lnTo>
                    <a:pt x="840" y="193"/>
                  </a:lnTo>
                  <a:lnTo>
                    <a:pt x="854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3"/>
                  </a:lnTo>
                  <a:lnTo>
                    <a:pt x="901" y="306"/>
                  </a:lnTo>
                  <a:lnTo>
                    <a:pt x="909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09" y="638"/>
                  </a:lnTo>
                  <a:lnTo>
                    <a:pt x="901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4" y="756"/>
                  </a:lnTo>
                  <a:lnTo>
                    <a:pt x="839" y="778"/>
                  </a:lnTo>
                  <a:lnTo>
                    <a:pt x="824" y="798"/>
                  </a:lnTo>
                  <a:lnTo>
                    <a:pt x="806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4" y="869"/>
                  </a:lnTo>
                  <a:lnTo>
                    <a:pt x="738" y="882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2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4"/>
                  </a:lnTo>
                  <a:lnTo>
                    <a:pt x="194" y="882"/>
                  </a:lnTo>
                  <a:lnTo>
                    <a:pt x="177" y="869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8"/>
                  </a:lnTo>
                  <a:lnTo>
                    <a:pt x="32" y="663"/>
                  </a:lnTo>
                  <a:lnTo>
                    <a:pt x="23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3" y="331"/>
                  </a:lnTo>
                  <a:lnTo>
                    <a:pt x="32" y="306"/>
                  </a:lnTo>
                  <a:lnTo>
                    <a:pt x="41" y="282"/>
                  </a:lnTo>
                  <a:lnTo>
                    <a:pt x="53" y="258"/>
                  </a:lnTo>
                  <a:lnTo>
                    <a:pt x="65" y="236"/>
                  </a:lnTo>
                  <a:lnTo>
                    <a:pt x="78" y="213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7"/>
                  </a:lnTo>
                  <a:lnTo>
                    <a:pt x="227" y="66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1" y="37"/>
                  </a:lnTo>
                  <a:lnTo>
                    <a:pt x="301" y="30"/>
                  </a:lnTo>
                  <a:lnTo>
                    <a:pt x="320" y="23"/>
                  </a:lnTo>
                  <a:lnTo>
                    <a:pt x="341" y="17"/>
                  </a:lnTo>
                  <a:lnTo>
                    <a:pt x="361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994360" y="2324160"/>
              <a:ext cx="196920" cy="299880"/>
            </a:xfrm>
            <a:custGeom>
              <a:avLst/>
              <a:gdLst/>
              <a:ahLst/>
              <a:rect l="l" t="t" r="r" b="b"/>
              <a:pathLst>
                <a:path w="621" h="945">
                  <a:moveTo>
                    <a:pt x="382" y="557"/>
                  </a:moveTo>
                  <a:lnTo>
                    <a:pt x="382" y="0"/>
                  </a:lnTo>
                  <a:lnTo>
                    <a:pt x="621" y="0"/>
                  </a:lnTo>
                  <a:lnTo>
                    <a:pt x="621" y="557"/>
                  </a:lnTo>
                  <a:lnTo>
                    <a:pt x="620" y="588"/>
                  </a:lnTo>
                  <a:lnTo>
                    <a:pt x="620" y="618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4" y="693"/>
                  </a:lnTo>
                  <a:lnTo>
                    <a:pt x="611" y="715"/>
                  </a:lnTo>
                  <a:lnTo>
                    <a:pt x="607" y="734"/>
                  </a:lnTo>
                  <a:lnTo>
                    <a:pt x="603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70" y="824"/>
                  </a:lnTo>
                  <a:lnTo>
                    <a:pt x="561" y="837"/>
                  </a:lnTo>
                  <a:lnTo>
                    <a:pt x="552" y="849"/>
                  </a:lnTo>
                  <a:lnTo>
                    <a:pt x="541" y="861"/>
                  </a:lnTo>
                  <a:lnTo>
                    <a:pt x="531" y="871"/>
                  </a:lnTo>
                  <a:lnTo>
                    <a:pt x="521" y="880"/>
                  </a:lnTo>
                  <a:lnTo>
                    <a:pt x="510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8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2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2"/>
                  </a:lnTo>
                  <a:lnTo>
                    <a:pt x="346" y="943"/>
                  </a:lnTo>
                  <a:lnTo>
                    <a:pt x="329" y="944"/>
                  </a:lnTo>
                  <a:lnTo>
                    <a:pt x="311" y="945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9" y="942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80" y="923"/>
                  </a:lnTo>
                  <a:lnTo>
                    <a:pt x="165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6"/>
                  </a:lnTo>
                  <a:lnTo>
                    <a:pt x="112" y="888"/>
                  </a:lnTo>
                  <a:lnTo>
                    <a:pt x="102" y="880"/>
                  </a:lnTo>
                  <a:lnTo>
                    <a:pt x="91" y="871"/>
                  </a:lnTo>
                  <a:lnTo>
                    <a:pt x="82" y="861"/>
                  </a:lnTo>
                  <a:lnTo>
                    <a:pt x="72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7" y="795"/>
                  </a:lnTo>
                  <a:lnTo>
                    <a:pt x="30" y="781"/>
                  </a:lnTo>
                  <a:lnTo>
                    <a:pt x="24" y="766"/>
                  </a:lnTo>
                  <a:lnTo>
                    <a:pt x="20" y="749"/>
                  </a:lnTo>
                  <a:lnTo>
                    <a:pt x="14" y="732"/>
                  </a:lnTo>
                  <a:lnTo>
                    <a:pt x="11" y="713"/>
                  </a:lnTo>
                  <a:lnTo>
                    <a:pt x="8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2" y="617"/>
                  </a:lnTo>
                  <a:lnTo>
                    <a:pt x="1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1" y="576"/>
                  </a:lnTo>
                  <a:lnTo>
                    <a:pt x="241" y="593"/>
                  </a:lnTo>
                  <a:lnTo>
                    <a:pt x="243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1" y="673"/>
                  </a:lnTo>
                  <a:lnTo>
                    <a:pt x="266" y="679"/>
                  </a:lnTo>
                  <a:lnTo>
                    <a:pt x="272" y="684"/>
                  </a:lnTo>
                  <a:lnTo>
                    <a:pt x="278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2" y="696"/>
                  </a:lnTo>
                  <a:lnTo>
                    <a:pt x="321" y="696"/>
                  </a:lnTo>
                  <a:lnTo>
                    <a:pt x="329" y="694"/>
                  </a:lnTo>
                  <a:lnTo>
                    <a:pt x="337" y="692"/>
                  </a:lnTo>
                  <a:lnTo>
                    <a:pt x="344" y="688"/>
                  </a:lnTo>
                  <a:lnTo>
                    <a:pt x="350" y="684"/>
                  </a:lnTo>
                  <a:lnTo>
                    <a:pt x="357" y="679"/>
                  </a:lnTo>
                  <a:lnTo>
                    <a:pt x="362" y="673"/>
                  </a:lnTo>
                  <a:lnTo>
                    <a:pt x="366" y="665"/>
                  </a:lnTo>
                  <a:lnTo>
                    <a:pt x="370" y="657"/>
                  </a:lnTo>
                  <a:lnTo>
                    <a:pt x="373" y="646"/>
                  </a:lnTo>
                  <a:lnTo>
                    <a:pt x="376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240600" y="2324160"/>
              <a:ext cx="2188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8" y="432"/>
                  </a:moveTo>
                  <a:lnTo>
                    <a:pt x="262" y="432"/>
                  </a:lnTo>
                  <a:lnTo>
                    <a:pt x="277" y="432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0" y="410"/>
                  </a:lnTo>
                  <a:lnTo>
                    <a:pt x="360" y="403"/>
                  </a:lnTo>
                  <a:lnTo>
                    <a:pt x="368" y="396"/>
                  </a:lnTo>
                  <a:lnTo>
                    <a:pt x="374" y="386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8" y="356"/>
                  </a:lnTo>
                  <a:lnTo>
                    <a:pt x="391" y="345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2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8"/>
                  </a:lnTo>
                  <a:lnTo>
                    <a:pt x="375" y="248"/>
                  </a:lnTo>
                  <a:lnTo>
                    <a:pt x="369" y="239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10" y="206"/>
                  </a:lnTo>
                  <a:lnTo>
                    <a:pt x="296" y="204"/>
                  </a:lnTo>
                  <a:lnTo>
                    <a:pt x="283" y="202"/>
                  </a:lnTo>
                  <a:lnTo>
                    <a:pt x="268" y="202"/>
                  </a:lnTo>
                  <a:lnTo>
                    <a:pt x="238" y="202"/>
                  </a:lnTo>
                  <a:lnTo>
                    <a:pt x="238" y="432"/>
                  </a:lnTo>
                  <a:close/>
                  <a:moveTo>
                    <a:pt x="0" y="921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5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6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50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5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8" y="526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611520" y="2817720"/>
              <a:ext cx="184320" cy="292320"/>
            </a:xfrm>
            <a:custGeom>
              <a:avLst/>
              <a:gdLst/>
              <a:ahLst/>
              <a:rect l="l" t="t" r="r" b="b"/>
              <a:pathLst>
                <a:path w="580" h="920">
                  <a:moveTo>
                    <a:pt x="580" y="667"/>
                  </a:moveTo>
                  <a:lnTo>
                    <a:pt x="504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667"/>
                  </a:lnTo>
                  <a:lnTo>
                    <a:pt x="580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825720" y="2817720"/>
              <a:ext cx="74880" cy="292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954600" y="2817720"/>
              <a:ext cx="171360" cy="292320"/>
            </a:xfrm>
            <a:custGeom>
              <a:avLst/>
              <a:gdLst/>
              <a:ahLst/>
              <a:rect l="l" t="t" r="r" b="b"/>
              <a:pathLst>
                <a:path w="542" h="920">
                  <a:moveTo>
                    <a:pt x="0" y="920"/>
                  </a:moveTo>
                  <a:lnTo>
                    <a:pt x="0" y="0"/>
                  </a:lnTo>
                  <a:lnTo>
                    <a:pt x="506" y="0"/>
                  </a:lnTo>
                  <a:lnTo>
                    <a:pt x="542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29" y="338"/>
                  </a:lnTo>
                  <a:lnTo>
                    <a:pt x="429" y="582"/>
                  </a:lnTo>
                  <a:lnTo>
                    <a:pt x="239" y="582"/>
                  </a:lnTo>
                  <a:lnTo>
                    <a:pt x="239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152960" y="2817720"/>
              <a:ext cx="18252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2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6" y="338"/>
                  </a:lnTo>
                  <a:lnTo>
                    <a:pt x="446" y="582"/>
                  </a:lnTo>
                  <a:lnTo>
                    <a:pt x="239" y="582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459320" y="2817720"/>
              <a:ext cx="19512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665600" y="2809800"/>
              <a:ext cx="2952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255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1" y="262"/>
                  </a:lnTo>
                  <a:lnTo>
                    <a:pt x="401" y="265"/>
                  </a:lnTo>
                  <a:lnTo>
                    <a:pt x="391" y="268"/>
                  </a:lnTo>
                  <a:lnTo>
                    <a:pt x="381" y="272"/>
                  </a:lnTo>
                  <a:lnTo>
                    <a:pt x="371" y="276"/>
                  </a:lnTo>
                  <a:lnTo>
                    <a:pt x="362" y="281"/>
                  </a:lnTo>
                  <a:lnTo>
                    <a:pt x="353" y="286"/>
                  </a:lnTo>
                  <a:lnTo>
                    <a:pt x="344" y="292"/>
                  </a:lnTo>
                  <a:lnTo>
                    <a:pt x="336" y="299"/>
                  </a:lnTo>
                  <a:lnTo>
                    <a:pt x="326" y="306"/>
                  </a:lnTo>
                  <a:lnTo>
                    <a:pt x="318" y="313"/>
                  </a:lnTo>
                  <a:lnTo>
                    <a:pt x="310" y="321"/>
                  </a:lnTo>
                  <a:lnTo>
                    <a:pt x="303" y="329"/>
                  </a:lnTo>
                  <a:lnTo>
                    <a:pt x="296" y="338"/>
                  </a:lnTo>
                  <a:lnTo>
                    <a:pt x="289" y="347"/>
                  </a:lnTo>
                  <a:lnTo>
                    <a:pt x="282" y="356"/>
                  </a:lnTo>
                  <a:lnTo>
                    <a:pt x="277" y="365"/>
                  </a:lnTo>
                  <a:lnTo>
                    <a:pt x="272" y="375"/>
                  </a:lnTo>
                  <a:lnTo>
                    <a:pt x="267" y="384"/>
                  </a:lnTo>
                  <a:lnTo>
                    <a:pt x="263" y="394"/>
                  </a:lnTo>
                  <a:lnTo>
                    <a:pt x="259" y="405"/>
                  </a:lnTo>
                  <a:lnTo>
                    <a:pt x="256" y="415"/>
                  </a:lnTo>
                  <a:lnTo>
                    <a:pt x="254" y="426"/>
                  </a:lnTo>
                  <a:lnTo>
                    <a:pt x="252" y="437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2"/>
                  </a:lnTo>
                  <a:lnTo>
                    <a:pt x="248" y="483"/>
                  </a:lnTo>
                  <a:lnTo>
                    <a:pt x="248" y="495"/>
                  </a:lnTo>
                  <a:lnTo>
                    <a:pt x="249" y="507"/>
                  </a:lnTo>
                  <a:lnTo>
                    <a:pt x="250" y="519"/>
                  </a:lnTo>
                  <a:lnTo>
                    <a:pt x="252" y="530"/>
                  </a:lnTo>
                  <a:lnTo>
                    <a:pt x="254" y="541"/>
                  </a:lnTo>
                  <a:lnTo>
                    <a:pt x="256" y="552"/>
                  </a:lnTo>
                  <a:lnTo>
                    <a:pt x="259" y="562"/>
                  </a:lnTo>
                  <a:lnTo>
                    <a:pt x="263" y="572"/>
                  </a:lnTo>
                  <a:lnTo>
                    <a:pt x="267" y="582"/>
                  </a:lnTo>
                  <a:lnTo>
                    <a:pt x="272" y="592"/>
                  </a:lnTo>
                  <a:lnTo>
                    <a:pt x="277" y="602"/>
                  </a:lnTo>
                  <a:lnTo>
                    <a:pt x="282" y="611"/>
                  </a:lnTo>
                  <a:lnTo>
                    <a:pt x="289" y="620"/>
                  </a:lnTo>
                  <a:lnTo>
                    <a:pt x="296" y="629"/>
                  </a:lnTo>
                  <a:lnTo>
                    <a:pt x="303" y="637"/>
                  </a:lnTo>
                  <a:lnTo>
                    <a:pt x="310" y="645"/>
                  </a:lnTo>
                  <a:lnTo>
                    <a:pt x="318" y="654"/>
                  </a:lnTo>
                  <a:lnTo>
                    <a:pt x="326" y="661"/>
                  </a:lnTo>
                  <a:lnTo>
                    <a:pt x="334" y="668"/>
                  </a:lnTo>
                  <a:lnTo>
                    <a:pt x="344" y="674"/>
                  </a:lnTo>
                  <a:lnTo>
                    <a:pt x="352" y="680"/>
                  </a:lnTo>
                  <a:lnTo>
                    <a:pt x="361" y="685"/>
                  </a:lnTo>
                  <a:lnTo>
                    <a:pt x="371" y="690"/>
                  </a:lnTo>
                  <a:lnTo>
                    <a:pt x="380" y="694"/>
                  </a:lnTo>
                  <a:lnTo>
                    <a:pt x="391" y="698"/>
                  </a:lnTo>
                  <a:lnTo>
                    <a:pt x="401" y="702"/>
                  </a:lnTo>
                  <a:lnTo>
                    <a:pt x="411" y="705"/>
                  </a:lnTo>
                  <a:lnTo>
                    <a:pt x="421" y="707"/>
                  </a:lnTo>
                  <a:lnTo>
                    <a:pt x="433" y="709"/>
                  </a:lnTo>
                  <a:lnTo>
                    <a:pt x="444" y="710"/>
                  </a:lnTo>
                  <a:lnTo>
                    <a:pt x="455" y="711"/>
                  </a:lnTo>
                  <a:lnTo>
                    <a:pt x="466" y="711"/>
                  </a:lnTo>
                  <a:lnTo>
                    <a:pt x="478" y="711"/>
                  </a:lnTo>
                  <a:lnTo>
                    <a:pt x="490" y="710"/>
                  </a:lnTo>
                  <a:lnTo>
                    <a:pt x="500" y="709"/>
                  </a:lnTo>
                  <a:lnTo>
                    <a:pt x="511" y="707"/>
                  </a:lnTo>
                  <a:lnTo>
                    <a:pt x="521" y="705"/>
                  </a:lnTo>
                  <a:lnTo>
                    <a:pt x="533" y="702"/>
                  </a:lnTo>
                  <a:lnTo>
                    <a:pt x="542" y="698"/>
                  </a:lnTo>
                  <a:lnTo>
                    <a:pt x="552" y="694"/>
                  </a:lnTo>
                  <a:lnTo>
                    <a:pt x="562" y="690"/>
                  </a:lnTo>
                  <a:lnTo>
                    <a:pt x="571" y="685"/>
                  </a:lnTo>
                  <a:lnTo>
                    <a:pt x="581" y="680"/>
                  </a:lnTo>
                  <a:lnTo>
                    <a:pt x="590" y="674"/>
                  </a:lnTo>
                  <a:lnTo>
                    <a:pt x="598" y="668"/>
                  </a:lnTo>
                  <a:lnTo>
                    <a:pt x="606" y="661"/>
                  </a:lnTo>
                  <a:lnTo>
                    <a:pt x="614" y="654"/>
                  </a:lnTo>
                  <a:lnTo>
                    <a:pt x="622" y="645"/>
                  </a:lnTo>
                  <a:lnTo>
                    <a:pt x="631" y="637"/>
                  </a:lnTo>
                  <a:lnTo>
                    <a:pt x="638" y="628"/>
                  </a:lnTo>
                  <a:lnTo>
                    <a:pt x="644" y="620"/>
                  </a:lnTo>
                  <a:lnTo>
                    <a:pt x="650" y="611"/>
                  </a:lnTo>
                  <a:lnTo>
                    <a:pt x="656" y="602"/>
                  </a:lnTo>
                  <a:lnTo>
                    <a:pt x="661" y="592"/>
                  </a:lnTo>
                  <a:lnTo>
                    <a:pt x="665" y="582"/>
                  </a:lnTo>
                  <a:lnTo>
                    <a:pt x="670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0"/>
                  </a:lnTo>
                  <a:lnTo>
                    <a:pt x="682" y="530"/>
                  </a:lnTo>
                  <a:lnTo>
                    <a:pt x="685" y="507"/>
                  </a:lnTo>
                  <a:lnTo>
                    <a:pt x="686" y="483"/>
                  </a:lnTo>
                  <a:lnTo>
                    <a:pt x="685" y="460"/>
                  </a:lnTo>
                  <a:lnTo>
                    <a:pt x="682" y="437"/>
                  </a:lnTo>
                  <a:lnTo>
                    <a:pt x="680" y="426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0" y="394"/>
                  </a:lnTo>
                  <a:lnTo>
                    <a:pt x="665" y="385"/>
                  </a:lnTo>
                  <a:lnTo>
                    <a:pt x="661" y="375"/>
                  </a:lnTo>
                  <a:lnTo>
                    <a:pt x="656" y="366"/>
                  </a:lnTo>
                  <a:lnTo>
                    <a:pt x="650" y="356"/>
                  </a:lnTo>
                  <a:lnTo>
                    <a:pt x="638" y="338"/>
                  </a:lnTo>
                  <a:lnTo>
                    <a:pt x="622" y="321"/>
                  </a:lnTo>
                  <a:lnTo>
                    <a:pt x="614" y="314"/>
                  </a:lnTo>
                  <a:lnTo>
                    <a:pt x="606" y="306"/>
                  </a:lnTo>
                  <a:lnTo>
                    <a:pt x="598" y="299"/>
                  </a:lnTo>
                  <a:lnTo>
                    <a:pt x="590" y="292"/>
                  </a:lnTo>
                  <a:lnTo>
                    <a:pt x="581" y="286"/>
                  </a:lnTo>
                  <a:lnTo>
                    <a:pt x="571" y="281"/>
                  </a:lnTo>
                  <a:lnTo>
                    <a:pt x="562" y="276"/>
                  </a:lnTo>
                  <a:lnTo>
                    <a:pt x="552" y="272"/>
                  </a:lnTo>
                  <a:lnTo>
                    <a:pt x="542" y="268"/>
                  </a:lnTo>
                  <a:lnTo>
                    <a:pt x="533" y="265"/>
                  </a:lnTo>
                  <a:lnTo>
                    <a:pt x="521" y="262"/>
                  </a:lnTo>
                  <a:lnTo>
                    <a:pt x="511" y="260"/>
                  </a:lnTo>
                  <a:lnTo>
                    <a:pt x="500" y="258"/>
                  </a:lnTo>
                  <a:lnTo>
                    <a:pt x="490" y="257"/>
                  </a:lnTo>
                  <a:lnTo>
                    <a:pt x="478" y="256"/>
                  </a:lnTo>
                  <a:lnTo>
                    <a:pt x="466" y="255"/>
                  </a:lnTo>
                  <a:close/>
                  <a:moveTo>
                    <a:pt x="465" y="0"/>
                  </a:moveTo>
                  <a:lnTo>
                    <a:pt x="487" y="0"/>
                  </a:lnTo>
                  <a:lnTo>
                    <a:pt x="508" y="1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1"/>
                  </a:lnTo>
                  <a:lnTo>
                    <a:pt x="592" y="16"/>
                  </a:lnTo>
                  <a:lnTo>
                    <a:pt x="611" y="22"/>
                  </a:lnTo>
                  <a:lnTo>
                    <a:pt x="632" y="29"/>
                  </a:lnTo>
                  <a:lnTo>
                    <a:pt x="651" y="36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5"/>
                  </a:lnTo>
                  <a:lnTo>
                    <a:pt x="723" y="76"/>
                  </a:lnTo>
                  <a:lnTo>
                    <a:pt x="739" y="87"/>
                  </a:lnTo>
                  <a:lnTo>
                    <a:pt x="754" y="101"/>
                  </a:lnTo>
                  <a:lnTo>
                    <a:pt x="769" y="114"/>
                  </a:lnTo>
                  <a:lnTo>
                    <a:pt x="789" y="132"/>
                  </a:lnTo>
                  <a:lnTo>
                    <a:pt x="806" y="152"/>
                  </a:lnTo>
                  <a:lnTo>
                    <a:pt x="824" y="171"/>
                  </a:lnTo>
                  <a:lnTo>
                    <a:pt x="839" y="192"/>
                  </a:lnTo>
                  <a:lnTo>
                    <a:pt x="854" y="213"/>
                  </a:lnTo>
                  <a:lnTo>
                    <a:pt x="868" y="235"/>
                  </a:lnTo>
                  <a:lnTo>
                    <a:pt x="880" y="258"/>
                  </a:lnTo>
                  <a:lnTo>
                    <a:pt x="891" y="281"/>
                  </a:lnTo>
                  <a:lnTo>
                    <a:pt x="901" y="306"/>
                  </a:lnTo>
                  <a:lnTo>
                    <a:pt x="909" y="330"/>
                  </a:lnTo>
                  <a:lnTo>
                    <a:pt x="917" y="355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1" y="431"/>
                  </a:lnTo>
                  <a:lnTo>
                    <a:pt x="933" y="458"/>
                  </a:lnTo>
                  <a:lnTo>
                    <a:pt x="933" y="483"/>
                  </a:lnTo>
                  <a:lnTo>
                    <a:pt x="933" y="510"/>
                  </a:lnTo>
                  <a:lnTo>
                    <a:pt x="931" y="536"/>
                  </a:lnTo>
                  <a:lnTo>
                    <a:pt x="927" y="562"/>
                  </a:lnTo>
                  <a:lnTo>
                    <a:pt x="923" y="587"/>
                  </a:lnTo>
                  <a:lnTo>
                    <a:pt x="917" y="613"/>
                  </a:lnTo>
                  <a:lnTo>
                    <a:pt x="909" y="637"/>
                  </a:lnTo>
                  <a:lnTo>
                    <a:pt x="900" y="662"/>
                  </a:lnTo>
                  <a:lnTo>
                    <a:pt x="891" y="686"/>
                  </a:lnTo>
                  <a:lnTo>
                    <a:pt x="880" y="710"/>
                  </a:lnTo>
                  <a:lnTo>
                    <a:pt x="867" y="733"/>
                  </a:lnTo>
                  <a:lnTo>
                    <a:pt x="853" y="755"/>
                  </a:lnTo>
                  <a:lnTo>
                    <a:pt x="839" y="776"/>
                  </a:lnTo>
                  <a:lnTo>
                    <a:pt x="824" y="797"/>
                  </a:lnTo>
                  <a:lnTo>
                    <a:pt x="806" y="817"/>
                  </a:lnTo>
                  <a:lnTo>
                    <a:pt x="788" y="836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1"/>
                  </a:lnTo>
                  <a:lnTo>
                    <a:pt x="722" y="892"/>
                  </a:lnTo>
                  <a:lnTo>
                    <a:pt x="704" y="903"/>
                  </a:lnTo>
                  <a:lnTo>
                    <a:pt x="687" y="914"/>
                  </a:lnTo>
                  <a:lnTo>
                    <a:pt x="668" y="923"/>
                  </a:lnTo>
                  <a:lnTo>
                    <a:pt x="650" y="932"/>
                  </a:lnTo>
                  <a:lnTo>
                    <a:pt x="631" y="939"/>
                  </a:lnTo>
                  <a:lnTo>
                    <a:pt x="611" y="946"/>
                  </a:lnTo>
                  <a:lnTo>
                    <a:pt x="591" y="952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2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2"/>
                  </a:lnTo>
                  <a:lnTo>
                    <a:pt x="320" y="946"/>
                  </a:lnTo>
                  <a:lnTo>
                    <a:pt x="301" y="939"/>
                  </a:lnTo>
                  <a:lnTo>
                    <a:pt x="281" y="932"/>
                  </a:lnTo>
                  <a:lnTo>
                    <a:pt x="263" y="923"/>
                  </a:lnTo>
                  <a:lnTo>
                    <a:pt x="245" y="914"/>
                  </a:lnTo>
                  <a:lnTo>
                    <a:pt x="227" y="903"/>
                  </a:lnTo>
                  <a:lnTo>
                    <a:pt x="210" y="892"/>
                  </a:lnTo>
                  <a:lnTo>
                    <a:pt x="194" y="881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6"/>
                  </a:lnTo>
                  <a:lnTo>
                    <a:pt x="125" y="817"/>
                  </a:lnTo>
                  <a:lnTo>
                    <a:pt x="109" y="797"/>
                  </a:lnTo>
                  <a:lnTo>
                    <a:pt x="92" y="777"/>
                  </a:lnTo>
                  <a:lnTo>
                    <a:pt x="78" y="756"/>
                  </a:lnTo>
                  <a:lnTo>
                    <a:pt x="65" y="733"/>
                  </a:lnTo>
                  <a:lnTo>
                    <a:pt x="53" y="711"/>
                  </a:lnTo>
                  <a:lnTo>
                    <a:pt x="41" y="686"/>
                  </a:lnTo>
                  <a:lnTo>
                    <a:pt x="31" y="663"/>
                  </a:lnTo>
                  <a:lnTo>
                    <a:pt x="23" y="638"/>
                  </a:lnTo>
                  <a:lnTo>
                    <a:pt x="16" y="613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2" y="536"/>
                  </a:lnTo>
                  <a:lnTo>
                    <a:pt x="0" y="510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1"/>
                  </a:lnTo>
                  <a:lnTo>
                    <a:pt x="6" y="405"/>
                  </a:lnTo>
                  <a:lnTo>
                    <a:pt x="10" y="379"/>
                  </a:lnTo>
                  <a:lnTo>
                    <a:pt x="16" y="355"/>
                  </a:lnTo>
                  <a:lnTo>
                    <a:pt x="23" y="329"/>
                  </a:lnTo>
                  <a:lnTo>
                    <a:pt x="31" y="305"/>
                  </a:lnTo>
                  <a:lnTo>
                    <a:pt x="41" y="281"/>
                  </a:lnTo>
                  <a:lnTo>
                    <a:pt x="53" y="258"/>
                  </a:lnTo>
                  <a:lnTo>
                    <a:pt x="65" y="234"/>
                  </a:lnTo>
                  <a:lnTo>
                    <a:pt x="78" y="213"/>
                  </a:lnTo>
                  <a:lnTo>
                    <a:pt x="92" y="192"/>
                  </a:lnTo>
                  <a:lnTo>
                    <a:pt x="108" y="171"/>
                  </a:lnTo>
                  <a:lnTo>
                    <a:pt x="125" y="151"/>
                  </a:lnTo>
                  <a:lnTo>
                    <a:pt x="143" y="132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7"/>
                  </a:lnTo>
                  <a:lnTo>
                    <a:pt x="210" y="75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5"/>
                  </a:lnTo>
                  <a:lnTo>
                    <a:pt x="281" y="36"/>
                  </a:lnTo>
                  <a:lnTo>
                    <a:pt x="301" y="28"/>
                  </a:lnTo>
                  <a:lnTo>
                    <a:pt x="320" y="22"/>
                  </a:lnTo>
                  <a:lnTo>
                    <a:pt x="340" y="16"/>
                  </a:lnTo>
                  <a:lnTo>
                    <a:pt x="360" y="11"/>
                  </a:lnTo>
                  <a:lnTo>
                    <a:pt x="380" y="7"/>
                  </a:lnTo>
                  <a:lnTo>
                    <a:pt x="402" y="4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116680" y="2817720"/>
              <a:ext cx="75960" cy="292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222880" y="2817720"/>
              <a:ext cx="1936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8" y="920"/>
                  </a:lnTo>
                  <a:lnTo>
                    <a:pt x="188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448240" y="2817720"/>
              <a:ext cx="69840" cy="292320"/>
            </a:xfrm>
            <a:custGeom>
              <a:avLst/>
              <a:gdLst/>
              <a:ahLst/>
              <a:rect l="l" t="t" r="r" b="b"/>
              <a:pathLst>
                <a:path w="220" h="920">
                  <a:moveTo>
                    <a:pt x="0" y="920"/>
                  </a:moveTo>
                  <a:lnTo>
                    <a:pt x="0" y="685"/>
                  </a:lnTo>
                  <a:lnTo>
                    <a:pt x="220" y="685"/>
                  </a:lnTo>
                  <a:lnTo>
                    <a:pt x="220" y="920"/>
                  </a:lnTo>
                  <a:lnTo>
                    <a:pt x="0" y="920"/>
                  </a:lnTo>
                  <a:close/>
                  <a:moveTo>
                    <a:pt x="0" y="631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20" y="631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07188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09" y="937"/>
                  </a:moveTo>
                  <a:lnTo>
                    <a:pt x="602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0" y="947"/>
                  </a:lnTo>
                  <a:lnTo>
                    <a:pt x="552" y="948"/>
                  </a:lnTo>
                  <a:lnTo>
                    <a:pt x="545" y="949"/>
                  </a:lnTo>
                  <a:lnTo>
                    <a:pt x="537" y="950"/>
                  </a:lnTo>
                  <a:lnTo>
                    <a:pt x="529" y="950"/>
                  </a:lnTo>
                  <a:lnTo>
                    <a:pt x="522" y="951"/>
                  </a:lnTo>
                  <a:lnTo>
                    <a:pt x="512" y="951"/>
                  </a:lnTo>
                  <a:lnTo>
                    <a:pt x="504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3" y="944"/>
                  </a:lnTo>
                  <a:lnTo>
                    <a:pt x="358" y="939"/>
                  </a:lnTo>
                  <a:lnTo>
                    <a:pt x="335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8" y="866"/>
                  </a:lnTo>
                  <a:lnTo>
                    <a:pt x="169" y="852"/>
                  </a:lnTo>
                  <a:lnTo>
                    <a:pt x="151" y="838"/>
                  </a:lnTo>
                  <a:lnTo>
                    <a:pt x="135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9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2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8" y="629"/>
                  </a:lnTo>
                  <a:lnTo>
                    <a:pt x="12" y="606"/>
                  </a:lnTo>
                  <a:lnTo>
                    <a:pt x="8" y="583"/>
                  </a:lnTo>
                  <a:lnTo>
                    <a:pt x="4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4" y="407"/>
                  </a:lnTo>
                  <a:lnTo>
                    <a:pt x="8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4" y="249"/>
                  </a:lnTo>
                  <a:lnTo>
                    <a:pt x="65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6" y="172"/>
                  </a:lnTo>
                  <a:lnTo>
                    <a:pt x="122" y="154"/>
                  </a:lnTo>
                  <a:lnTo>
                    <a:pt x="139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4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5" y="43"/>
                  </a:lnTo>
                  <a:lnTo>
                    <a:pt x="298" y="34"/>
                  </a:lnTo>
                  <a:lnTo>
                    <a:pt x="320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6" y="4"/>
                  </a:lnTo>
                  <a:lnTo>
                    <a:pt x="442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7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4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4" y="4"/>
                  </a:lnTo>
                  <a:lnTo>
                    <a:pt x="561" y="5"/>
                  </a:lnTo>
                  <a:lnTo>
                    <a:pt x="569" y="6"/>
                  </a:lnTo>
                  <a:lnTo>
                    <a:pt x="576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5" y="13"/>
                  </a:lnTo>
                  <a:lnTo>
                    <a:pt x="619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1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8" y="261"/>
                  </a:lnTo>
                  <a:lnTo>
                    <a:pt x="530" y="260"/>
                  </a:lnTo>
                  <a:lnTo>
                    <a:pt x="523" y="259"/>
                  </a:lnTo>
                  <a:lnTo>
                    <a:pt x="514" y="258"/>
                  </a:lnTo>
                  <a:lnTo>
                    <a:pt x="507" y="258"/>
                  </a:lnTo>
                  <a:lnTo>
                    <a:pt x="500" y="257"/>
                  </a:lnTo>
                  <a:lnTo>
                    <a:pt x="492" y="257"/>
                  </a:lnTo>
                  <a:lnTo>
                    <a:pt x="465" y="258"/>
                  </a:lnTo>
                  <a:lnTo>
                    <a:pt x="441" y="261"/>
                  </a:lnTo>
                  <a:lnTo>
                    <a:pt x="429" y="263"/>
                  </a:lnTo>
                  <a:lnTo>
                    <a:pt x="416" y="266"/>
                  </a:lnTo>
                  <a:lnTo>
                    <a:pt x="405" y="269"/>
                  </a:lnTo>
                  <a:lnTo>
                    <a:pt x="394" y="273"/>
                  </a:lnTo>
                  <a:lnTo>
                    <a:pt x="383" y="277"/>
                  </a:lnTo>
                  <a:lnTo>
                    <a:pt x="372" y="282"/>
                  </a:lnTo>
                  <a:lnTo>
                    <a:pt x="362" y="287"/>
                  </a:lnTo>
                  <a:lnTo>
                    <a:pt x="352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5" y="318"/>
                  </a:lnTo>
                  <a:lnTo>
                    <a:pt x="307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6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4" y="388"/>
                  </a:lnTo>
                  <a:lnTo>
                    <a:pt x="260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8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0" y="550"/>
                  </a:lnTo>
                  <a:lnTo>
                    <a:pt x="264" y="560"/>
                  </a:lnTo>
                  <a:lnTo>
                    <a:pt x="268" y="569"/>
                  </a:lnTo>
                  <a:lnTo>
                    <a:pt x="273" y="580"/>
                  </a:lnTo>
                  <a:lnTo>
                    <a:pt x="280" y="589"/>
                  </a:lnTo>
                  <a:lnTo>
                    <a:pt x="286" y="597"/>
                  </a:lnTo>
                  <a:lnTo>
                    <a:pt x="292" y="606"/>
                  </a:lnTo>
                  <a:lnTo>
                    <a:pt x="299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3" y="639"/>
                  </a:lnTo>
                  <a:lnTo>
                    <a:pt x="333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0" y="664"/>
                  </a:lnTo>
                  <a:lnTo>
                    <a:pt x="370" y="669"/>
                  </a:lnTo>
                  <a:lnTo>
                    <a:pt x="381" y="674"/>
                  </a:lnTo>
                  <a:lnTo>
                    <a:pt x="391" y="678"/>
                  </a:lnTo>
                  <a:lnTo>
                    <a:pt x="402" y="682"/>
                  </a:lnTo>
                  <a:lnTo>
                    <a:pt x="412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7" y="692"/>
                  </a:lnTo>
                  <a:lnTo>
                    <a:pt x="459" y="693"/>
                  </a:lnTo>
                  <a:lnTo>
                    <a:pt x="472" y="694"/>
                  </a:lnTo>
                  <a:lnTo>
                    <a:pt x="484" y="694"/>
                  </a:lnTo>
                  <a:lnTo>
                    <a:pt x="493" y="694"/>
                  </a:lnTo>
                  <a:lnTo>
                    <a:pt x="502" y="694"/>
                  </a:lnTo>
                  <a:lnTo>
                    <a:pt x="511" y="693"/>
                  </a:lnTo>
                  <a:lnTo>
                    <a:pt x="521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7" y="687"/>
                  </a:lnTo>
                  <a:lnTo>
                    <a:pt x="556" y="685"/>
                  </a:lnTo>
                  <a:lnTo>
                    <a:pt x="565" y="683"/>
                  </a:lnTo>
                  <a:lnTo>
                    <a:pt x="575" y="680"/>
                  </a:lnTo>
                  <a:lnTo>
                    <a:pt x="584" y="676"/>
                  </a:lnTo>
                  <a:lnTo>
                    <a:pt x="592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09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400560" y="933480"/>
              <a:ext cx="60120" cy="98280"/>
            </a:xfrm>
            <a:custGeom>
              <a:avLst/>
              <a:gdLst/>
              <a:ahLst/>
              <a:rect l="l" t="t" r="r" b="b"/>
              <a:pathLst>
                <a:path w="189" h="311">
                  <a:moveTo>
                    <a:pt x="0" y="311"/>
                  </a:moveTo>
                  <a:lnTo>
                    <a:pt x="189" y="311"/>
                  </a:lnTo>
                  <a:lnTo>
                    <a:pt x="94" y="0"/>
                  </a:lnTo>
                  <a:lnTo>
                    <a:pt x="0" y="31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289320" y="846000"/>
              <a:ext cx="28404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0" y="922"/>
                  </a:moveTo>
                  <a:lnTo>
                    <a:pt x="323" y="0"/>
                  </a:lnTo>
                  <a:lnTo>
                    <a:pt x="592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11" y="818"/>
                  </a:lnTo>
                  <a:lnTo>
                    <a:pt x="284" y="818"/>
                  </a:lnTo>
                  <a:lnTo>
                    <a:pt x="249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600360" y="846000"/>
              <a:ext cx="217440" cy="292320"/>
            </a:xfrm>
            <a:custGeom>
              <a:avLst/>
              <a:gdLst/>
              <a:ahLst/>
              <a:rect l="l" t="t" r="r" b="b"/>
              <a:pathLst>
                <a:path w="685" h="922">
                  <a:moveTo>
                    <a:pt x="0" y="92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2"/>
                  </a:lnTo>
                  <a:lnTo>
                    <a:pt x="577" y="922"/>
                  </a:lnTo>
                  <a:lnTo>
                    <a:pt x="238" y="522"/>
                  </a:lnTo>
                  <a:lnTo>
                    <a:pt x="238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071960" y="933480"/>
              <a:ext cx="60480" cy="98280"/>
            </a:xfrm>
            <a:custGeom>
              <a:avLst/>
              <a:gdLst/>
              <a:ahLst/>
              <a:rect l="l" t="t" r="r" b="b"/>
              <a:pathLst>
                <a:path w="190" h="311">
                  <a:moveTo>
                    <a:pt x="0" y="311"/>
                  </a:moveTo>
                  <a:lnTo>
                    <a:pt x="190" y="311"/>
                  </a:lnTo>
                  <a:lnTo>
                    <a:pt x="95" y="0"/>
                  </a:lnTo>
                  <a:lnTo>
                    <a:pt x="0" y="31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960720" y="846000"/>
              <a:ext cx="28440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0" y="922"/>
                  </a:moveTo>
                  <a:lnTo>
                    <a:pt x="322" y="0"/>
                  </a:lnTo>
                  <a:lnTo>
                    <a:pt x="591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37364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7"/>
                  </a:moveTo>
                  <a:lnTo>
                    <a:pt x="603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4" y="945"/>
                  </a:lnTo>
                  <a:lnTo>
                    <a:pt x="567" y="946"/>
                  </a:lnTo>
                  <a:lnTo>
                    <a:pt x="560" y="947"/>
                  </a:lnTo>
                  <a:lnTo>
                    <a:pt x="553" y="948"/>
                  </a:lnTo>
                  <a:lnTo>
                    <a:pt x="545" y="949"/>
                  </a:lnTo>
                  <a:lnTo>
                    <a:pt x="538" y="950"/>
                  </a:lnTo>
                  <a:lnTo>
                    <a:pt x="530" y="950"/>
                  </a:lnTo>
                  <a:lnTo>
                    <a:pt x="521" y="951"/>
                  </a:lnTo>
                  <a:lnTo>
                    <a:pt x="513" y="951"/>
                  </a:lnTo>
                  <a:lnTo>
                    <a:pt x="505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4" y="944"/>
                  </a:lnTo>
                  <a:lnTo>
                    <a:pt x="359" y="939"/>
                  </a:lnTo>
                  <a:lnTo>
                    <a:pt x="336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7" y="866"/>
                  </a:lnTo>
                  <a:lnTo>
                    <a:pt x="169" y="852"/>
                  </a:lnTo>
                  <a:lnTo>
                    <a:pt x="152" y="838"/>
                  </a:lnTo>
                  <a:lnTo>
                    <a:pt x="134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8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9" y="629"/>
                  </a:lnTo>
                  <a:lnTo>
                    <a:pt x="13" y="606"/>
                  </a:lnTo>
                  <a:lnTo>
                    <a:pt x="8" y="583"/>
                  </a:lnTo>
                  <a:lnTo>
                    <a:pt x="5" y="558"/>
                  </a:lnTo>
                  <a:lnTo>
                    <a:pt x="2" y="534"/>
                  </a:lnTo>
                  <a:lnTo>
                    <a:pt x="1" y="508"/>
                  </a:lnTo>
                  <a:lnTo>
                    <a:pt x="0" y="483"/>
                  </a:lnTo>
                  <a:lnTo>
                    <a:pt x="1" y="457"/>
                  </a:lnTo>
                  <a:lnTo>
                    <a:pt x="2" y="432"/>
                  </a:lnTo>
                  <a:lnTo>
                    <a:pt x="5" y="407"/>
                  </a:lnTo>
                  <a:lnTo>
                    <a:pt x="9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5" y="249"/>
                  </a:lnTo>
                  <a:lnTo>
                    <a:pt x="66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7" y="172"/>
                  </a:lnTo>
                  <a:lnTo>
                    <a:pt x="122" y="154"/>
                  </a:lnTo>
                  <a:lnTo>
                    <a:pt x="140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5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6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7" y="4"/>
                  </a:lnTo>
                  <a:lnTo>
                    <a:pt x="443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5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5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6" y="13"/>
                  </a:lnTo>
                  <a:lnTo>
                    <a:pt x="618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2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9" y="261"/>
                  </a:lnTo>
                  <a:lnTo>
                    <a:pt x="531" y="260"/>
                  </a:lnTo>
                  <a:lnTo>
                    <a:pt x="522" y="259"/>
                  </a:lnTo>
                  <a:lnTo>
                    <a:pt x="515" y="258"/>
                  </a:lnTo>
                  <a:lnTo>
                    <a:pt x="508" y="258"/>
                  </a:lnTo>
                  <a:lnTo>
                    <a:pt x="500" y="257"/>
                  </a:lnTo>
                  <a:lnTo>
                    <a:pt x="493" y="257"/>
                  </a:lnTo>
                  <a:lnTo>
                    <a:pt x="466" y="258"/>
                  </a:lnTo>
                  <a:lnTo>
                    <a:pt x="441" y="261"/>
                  </a:lnTo>
                  <a:lnTo>
                    <a:pt x="428" y="263"/>
                  </a:lnTo>
                  <a:lnTo>
                    <a:pt x="417" y="266"/>
                  </a:lnTo>
                  <a:lnTo>
                    <a:pt x="406" y="269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2"/>
                  </a:lnTo>
                  <a:lnTo>
                    <a:pt x="363" y="287"/>
                  </a:lnTo>
                  <a:lnTo>
                    <a:pt x="353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6" y="318"/>
                  </a:lnTo>
                  <a:lnTo>
                    <a:pt x="308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7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9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1" y="550"/>
                  </a:lnTo>
                  <a:lnTo>
                    <a:pt x="265" y="560"/>
                  </a:lnTo>
                  <a:lnTo>
                    <a:pt x="269" y="569"/>
                  </a:lnTo>
                  <a:lnTo>
                    <a:pt x="274" y="580"/>
                  </a:lnTo>
                  <a:lnTo>
                    <a:pt x="279" y="589"/>
                  </a:lnTo>
                  <a:lnTo>
                    <a:pt x="286" y="597"/>
                  </a:lnTo>
                  <a:lnTo>
                    <a:pt x="293" y="606"/>
                  </a:lnTo>
                  <a:lnTo>
                    <a:pt x="300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4" y="639"/>
                  </a:lnTo>
                  <a:lnTo>
                    <a:pt x="332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1" y="664"/>
                  </a:lnTo>
                  <a:lnTo>
                    <a:pt x="371" y="669"/>
                  </a:lnTo>
                  <a:lnTo>
                    <a:pt x="382" y="674"/>
                  </a:lnTo>
                  <a:lnTo>
                    <a:pt x="392" y="678"/>
                  </a:lnTo>
                  <a:lnTo>
                    <a:pt x="402" y="682"/>
                  </a:lnTo>
                  <a:lnTo>
                    <a:pt x="413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4"/>
                  </a:lnTo>
                  <a:lnTo>
                    <a:pt x="512" y="693"/>
                  </a:lnTo>
                  <a:lnTo>
                    <a:pt x="520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8" y="687"/>
                  </a:lnTo>
                  <a:lnTo>
                    <a:pt x="557" y="685"/>
                  </a:lnTo>
                  <a:lnTo>
                    <a:pt x="566" y="683"/>
                  </a:lnTo>
                  <a:lnTo>
                    <a:pt x="574" y="680"/>
                  </a:lnTo>
                  <a:lnTo>
                    <a:pt x="584" y="676"/>
                  </a:lnTo>
                  <a:lnTo>
                    <a:pt x="593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10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680000" y="91908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8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4" y="2"/>
                  </a:lnTo>
                  <a:lnTo>
                    <a:pt x="174" y="4"/>
                  </a:lnTo>
                  <a:lnTo>
                    <a:pt x="163" y="6"/>
                  </a:lnTo>
                  <a:lnTo>
                    <a:pt x="153" y="9"/>
                  </a:lnTo>
                  <a:lnTo>
                    <a:pt x="142" y="12"/>
                  </a:lnTo>
                  <a:lnTo>
                    <a:pt x="133" y="16"/>
                  </a:lnTo>
                  <a:lnTo>
                    <a:pt x="123" y="20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7" y="43"/>
                  </a:lnTo>
                  <a:lnTo>
                    <a:pt x="78" y="50"/>
                  </a:lnTo>
                  <a:lnTo>
                    <a:pt x="70" y="58"/>
                  </a:lnTo>
                  <a:lnTo>
                    <a:pt x="62" y="65"/>
                  </a:lnTo>
                  <a:lnTo>
                    <a:pt x="55" y="73"/>
                  </a:lnTo>
                  <a:lnTo>
                    <a:pt x="48" y="83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9" y="110"/>
                  </a:lnTo>
                  <a:lnTo>
                    <a:pt x="24" y="119"/>
                  </a:lnTo>
                  <a:lnTo>
                    <a:pt x="19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8" y="160"/>
                  </a:lnTo>
                  <a:lnTo>
                    <a:pt x="6" y="170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4"/>
                  </a:lnTo>
                  <a:lnTo>
                    <a:pt x="6" y="286"/>
                  </a:lnTo>
                  <a:lnTo>
                    <a:pt x="8" y="296"/>
                  </a:lnTo>
                  <a:lnTo>
                    <a:pt x="11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4" y="356"/>
                  </a:lnTo>
                  <a:lnTo>
                    <a:pt x="40" y="365"/>
                  </a:lnTo>
                  <a:lnTo>
                    <a:pt x="48" y="373"/>
                  </a:lnTo>
                  <a:lnTo>
                    <a:pt x="55" y="383"/>
                  </a:lnTo>
                  <a:lnTo>
                    <a:pt x="62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6" y="412"/>
                  </a:lnTo>
                  <a:lnTo>
                    <a:pt x="96" y="419"/>
                  </a:lnTo>
                  <a:lnTo>
                    <a:pt x="104" y="425"/>
                  </a:lnTo>
                  <a:lnTo>
                    <a:pt x="113" y="430"/>
                  </a:lnTo>
                  <a:lnTo>
                    <a:pt x="123" y="436"/>
                  </a:lnTo>
                  <a:lnTo>
                    <a:pt x="132" y="440"/>
                  </a:lnTo>
                  <a:lnTo>
                    <a:pt x="142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4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8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3" y="450"/>
                  </a:lnTo>
                  <a:lnTo>
                    <a:pt x="284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6"/>
                  </a:lnTo>
                  <a:lnTo>
                    <a:pt x="323" y="430"/>
                  </a:lnTo>
                  <a:lnTo>
                    <a:pt x="332" y="424"/>
                  </a:lnTo>
                  <a:lnTo>
                    <a:pt x="342" y="419"/>
                  </a:lnTo>
                  <a:lnTo>
                    <a:pt x="350" y="412"/>
                  </a:lnTo>
                  <a:lnTo>
                    <a:pt x="358" y="406"/>
                  </a:lnTo>
                  <a:lnTo>
                    <a:pt x="366" y="398"/>
                  </a:lnTo>
                  <a:lnTo>
                    <a:pt x="374" y="390"/>
                  </a:lnTo>
                  <a:lnTo>
                    <a:pt x="382" y="382"/>
                  </a:lnTo>
                  <a:lnTo>
                    <a:pt x="390" y="373"/>
                  </a:lnTo>
                  <a:lnTo>
                    <a:pt x="396" y="364"/>
                  </a:lnTo>
                  <a:lnTo>
                    <a:pt x="402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7" y="326"/>
                  </a:lnTo>
                  <a:lnTo>
                    <a:pt x="422" y="316"/>
                  </a:lnTo>
                  <a:lnTo>
                    <a:pt x="425" y="306"/>
                  </a:lnTo>
                  <a:lnTo>
                    <a:pt x="428" y="296"/>
                  </a:lnTo>
                  <a:lnTo>
                    <a:pt x="431" y="286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1" y="171"/>
                  </a:lnTo>
                  <a:lnTo>
                    <a:pt x="428" y="160"/>
                  </a:lnTo>
                  <a:lnTo>
                    <a:pt x="425" y="150"/>
                  </a:lnTo>
                  <a:lnTo>
                    <a:pt x="422" y="140"/>
                  </a:lnTo>
                  <a:lnTo>
                    <a:pt x="417" y="130"/>
                  </a:lnTo>
                  <a:lnTo>
                    <a:pt x="413" y="119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4" y="66"/>
                  </a:lnTo>
                  <a:lnTo>
                    <a:pt x="366" y="58"/>
                  </a:lnTo>
                  <a:lnTo>
                    <a:pt x="358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2" y="32"/>
                  </a:lnTo>
                  <a:lnTo>
                    <a:pt x="323" y="26"/>
                  </a:lnTo>
                  <a:lnTo>
                    <a:pt x="314" y="20"/>
                  </a:lnTo>
                  <a:lnTo>
                    <a:pt x="304" y="16"/>
                  </a:lnTo>
                  <a:lnTo>
                    <a:pt x="295" y="12"/>
                  </a:lnTo>
                  <a:lnTo>
                    <a:pt x="284" y="9"/>
                  </a:lnTo>
                  <a:lnTo>
                    <a:pt x="273" y="6"/>
                  </a:lnTo>
                  <a:lnTo>
                    <a:pt x="263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600440" y="838080"/>
              <a:ext cx="2970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3" y="16"/>
                  </a:lnTo>
                  <a:lnTo>
                    <a:pt x="613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9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4" y="380"/>
                  </a:lnTo>
                  <a:lnTo>
                    <a:pt x="928" y="406"/>
                  </a:lnTo>
                  <a:lnTo>
                    <a:pt x="932" y="431"/>
                  </a:lnTo>
                  <a:lnTo>
                    <a:pt x="934" y="458"/>
                  </a:lnTo>
                  <a:lnTo>
                    <a:pt x="934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8" y="563"/>
                  </a:lnTo>
                  <a:lnTo>
                    <a:pt x="924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2" y="686"/>
                  </a:lnTo>
                  <a:lnTo>
                    <a:pt x="881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90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8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2" y="947"/>
                  </a:lnTo>
                  <a:lnTo>
                    <a:pt x="592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5" y="969"/>
                  </a:lnTo>
                  <a:lnTo>
                    <a:pt x="423" y="968"/>
                  </a:lnTo>
                  <a:lnTo>
                    <a:pt x="403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2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4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1" y="589"/>
                  </a:lnTo>
                  <a:lnTo>
                    <a:pt x="7" y="563"/>
                  </a:lnTo>
                  <a:lnTo>
                    <a:pt x="2" y="538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2" y="431"/>
                  </a:lnTo>
                  <a:lnTo>
                    <a:pt x="7" y="406"/>
                  </a:lnTo>
                  <a:lnTo>
                    <a:pt x="11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4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2" y="30"/>
                  </a:lnTo>
                  <a:lnTo>
                    <a:pt x="321" y="22"/>
                  </a:lnTo>
                  <a:lnTo>
                    <a:pt x="341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3" y="4"/>
                  </a:lnTo>
                  <a:lnTo>
                    <a:pt x="423" y="2"/>
                  </a:lnTo>
                  <a:lnTo>
                    <a:pt x="445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933800" y="846000"/>
              <a:ext cx="217800" cy="292320"/>
            </a:xfrm>
            <a:custGeom>
              <a:avLst/>
              <a:gdLst/>
              <a:ahLst/>
              <a:rect l="l" t="t" r="r" b="b"/>
              <a:pathLst>
                <a:path w="686" h="922">
                  <a:moveTo>
                    <a:pt x="0" y="92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8" y="403"/>
                  </a:lnTo>
                  <a:lnTo>
                    <a:pt x="448" y="0"/>
                  </a:lnTo>
                  <a:lnTo>
                    <a:pt x="686" y="0"/>
                  </a:lnTo>
                  <a:lnTo>
                    <a:pt x="686" y="922"/>
                  </a:lnTo>
                  <a:lnTo>
                    <a:pt x="578" y="922"/>
                  </a:lnTo>
                  <a:lnTo>
                    <a:pt x="239" y="522"/>
                  </a:lnTo>
                  <a:lnTo>
                    <a:pt x="239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276880" y="922320"/>
              <a:ext cx="65160" cy="138240"/>
            </a:xfrm>
            <a:custGeom>
              <a:avLst/>
              <a:gdLst/>
              <a:ahLst/>
              <a:rect l="l" t="t" r="r" b="b"/>
              <a:pathLst>
                <a:path w="205" h="436">
                  <a:moveTo>
                    <a:pt x="0" y="436"/>
                  </a:moveTo>
                  <a:lnTo>
                    <a:pt x="23" y="433"/>
                  </a:lnTo>
                  <a:lnTo>
                    <a:pt x="44" y="429"/>
                  </a:lnTo>
                  <a:lnTo>
                    <a:pt x="65" y="422"/>
                  </a:lnTo>
                  <a:lnTo>
                    <a:pt x="84" y="414"/>
                  </a:lnTo>
                  <a:lnTo>
                    <a:pt x="101" y="405"/>
                  </a:lnTo>
                  <a:lnTo>
                    <a:pt x="119" y="394"/>
                  </a:lnTo>
                  <a:lnTo>
                    <a:pt x="134" y="382"/>
                  </a:lnTo>
                  <a:lnTo>
                    <a:pt x="148" y="367"/>
                  </a:lnTo>
                  <a:lnTo>
                    <a:pt x="162" y="352"/>
                  </a:lnTo>
                  <a:lnTo>
                    <a:pt x="173" y="336"/>
                  </a:lnTo>
                  <a:lnTo>
                    <a:pt x="182" y="319"/>
                  </a:lnTo>
                  <a:lnTo>
                    <a:pt x="190" y="301"/>
                  </a:lnTo>
                  <a:lnTo>
                    <a:pt x="196" y="282"/>
                  </a:lnTo>
                  <a:lnTo>
                    <a:pt x="201" y="262"/>
                  </a:lnTo>
                  <a:lnTo>
                    <a:pt x="204" y="242"/>
                  </a:lnTo>
                  <a:lnTo>
                    <a:pt x="205" y="219"/>
                  </a:lnTo>
                  <a:lnTo>
                    <a:pt x="204" y="196"/>
                  </a:lnTo>
                  <a:lnTo>
                    <a:pt x="201" y="175"/>
                  </a:lnTo>
                  <a:lnTo>
                    <a:pt x="196" y="153"/>
                  </a:lnTo>
                  <a:lnTo>
                    <a:pt x="190" y="133"/>
                  </a:lnTo>
                  <a:lnTo>
                    <a:pt x="182" y="113"/>
                  </a:lnTo>
                  <a:lnTo>
                    <a:pt x="173" y="96"/>
                  </a:lnTo>
                  <a:lnTo>
                    <a:pt x="161" y="79"/>
                  </a:lnTo>
                  <a:lnTo>
                    <a:pt x="148" y="62"/>
                  </a:lnTo>
                  <a:lnTo>
                    <a:pt x="140" y="55"/>
                  </a:lnTo>
                  <a:lnTo>
                    <a:pt x="133" y="48"/>
                  </a:lnTo>
                  <a:lnTo>
                    <a:pt x="126" y="42"/>
                  </a:lnTo>
                  <a:lnTo>
                    <a:pt x="118" y="36"/>
                  </a:lnTo>
                  <a:lnTo>
                    <a:pt x="110" y="31"/>
                  </a:lnTo>
                  <a:lnTo>
                    <a:pt x="100" y="26"/>
                  </a:lnTo>
                  <a:lnTo>
                    <a:pt x="92" y="21"/>
                  </a:lnTo>
                  <a:lnTo>
                    <a:pt x="83" y="16"/>
                  </a:lnTo>
                  <a:lnTo>
                    <a:pt x="64" y="9"/>
                  </a:lnTo>
                  <a:lnTo>
                    <a:pt x="44" y="4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200560" y="846000"/>
              <a:ext cx="220680" cy="292320"/>
            </a:xfrm>
            <a:custGeom>
              <a:avLst/>
              <a:gdLst/>
              <a:ahLst/>
              <a:rect l="l" t="t" r="r" b="b"/>
              <a:pathLst>
                <a:path w="692" h="922">
                  <a:moveTo>
                    <a:pt x="139" y="0"/>
                  </a:moveTo>
                  <a:lnTo>
                    <a:pt x="171" y="0"/>
                  </a:lnTo>
                  <a:lnTo>
                    <a:pt x="202" y="2"/>
                  </a:lnTo>
                  <a:lnTo>
                    <a:pt x="230" y="3"/>
                  </a:lnTo>
                  <a:lnTo>
                    <a:pt x="258" y="5"/>
                  </a:lnTo>
                  <a:lnTo>
                    <a:pt x="283" y="7"/>
                  </a:lnTo>
                  <a:lnTo>
                    <a:pt x="307" y="10"/>
                  </a:lnTo>
                  <a:lnTo>
                    <a:pt x="329" y="14"/>
                  </a:lnTo>
                  <a:lnTo>
                    <a:pt x="350" y="17"/>
                  </a:lnTo>
                  <a:lnTo>
                    <a:pt x="368" y="22"/>
                  </a:lnTo>
                  <a:lnTo>
                    <a:pt x="387" y="27"/>
                  </a:lnTo>
                  <a:lnTo>
                    <a:pt x="406" y="33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8" y="55"/>
                  </a:lnTo>
                  <a:lnTo>
                    <a:pt x="474" y="63"/>
                  </a:lnTo>
                  <a:lnTo>
                    <a:pt x="490" y="72"/>
                  </a:lnTo>
                  <a:lnTo>
                    <a:pt x="514" y="88"/>
                  </a:lnTo>
                  <a:lnTo>
                    <a:pt x="537" y="106"/>
                  </a:lnTo>
                  <a:lnTo>
                    <a:pt x="557" y="124"/>
                  </a:lnTo>
                  <a:lnTo>
                    <a:pt x="577" y="143"/>
                  </a:lnTo>
                  <a:lnTo>
                    <a:pt x="595" y="165"/>
                  </a:lnTo>
                  <a:lnTo>
                    <a:pt x="611" y="186"/>
                  </a:lnTo>
                  <a:lnTo>
                    <a:pt x="626" y="210"/>
                  </a:lnTo>
                  <a:lnTo>
                    <a:pt x="640" y="234"/>
                  </a:lnTo>
                  <a:lnTo>
                    <a:pt x="652" y="260"/>
                  </a:lnTo>
                  <a:lnTo>
                    <a:pt x="662" y="286"/>
                  </a:lnTo>
                  <a:lnTo>
                    <a:pt x="671" y="314"/>
                  </a:lnTo>
                  <a:lnTo>
                    <a:pt x="679" y="342"/>
                  </a:lnTo>
                  <a:lnTo>
                    <a:pt x="685" y="372"/>
                  </a:lnTo>
                  <a:lnTo>
                    <a:pt x="689" y="402"/>
                  </a:lnTo>
                  <a:lnTo>
                    <a:pt x="691" y="434"/>
                  </a:lnTo>
                  <a:lnTo>
                    <a:pt x="692" y="467"/>
                  </a:lnTo>
                  <a:lnTo>
                    <a:pt x="691" y="496"/>
                  </a:lnTo>
                  <a:lnTo>
                    <a:pt x="688" y="525"/>
                  </a:lnTo>
                  <a:lnTo>
                    <a:pt x="684" y="553"/>
                  </a:lnTo>
                  <a:lnTo>
                    <a:pt x="677" y="580"/>
                  </a:lnTo>
                  <a:lnTo>
                    <a:pt x="669" y="607"/>
                  </a:lnTo>
                  <a:lnTo>
                    <a:pt x="659" y="634"/>
                  </a:lnTo>
                  <a:lnTo>
                    <a:pt x="648" y="659"/>
                  </a:lnTo>
                  <a:lnTo>
                    <a:pt x="635" y="684"/>
                  </a:lnTo>
                  <a:lnTo>
                    <a:pt x="620" y="708"/>
                  </a:lnTo>
                  <a:lnTo>
                    <a:pt x="604" y="732"/>
                  </a:lnTo>
                  <a:lnTo>
                    <a:pt x="586" y="753"/>
                  </a:lnTo>
                  <a:lnTo>
                    <a:pt x="566" y="775"/>
                  </a:lnTo>
                  <a:lnTo>
                    <a:pt x="546" y="794"/>
                  </a:lnTo>
                  <a:lnTo>
                    <a:pt x="523" y="812"/>
                  </a:lnTo>
                  <a:lnTo>
                    <a:pt x="500" y="830"/>
                  </a:lnTo>
                  <a:lnTo>
                    <a:pt x="475" y="846"/>
                  </a:lnTo>
                  <a:lnTo>
                    <a:pt x="459" y="855"/>
                  </a:lnTo>
                  <a:lnTo>
                    <a:pt x="442" y="864"/>
                  </a:lnTo>
                  <a:lnTo>
                    <a:pt x="424" y="873"/>
                  </a:lnTo>
                  <a:lnTo>
                    <a:pt x="407" y="880"/>
                  </a:lnTo>
                  <a:lnTo>
                    <a:pt x="389" y="887"/>
                  </a:lnTo>
                  <a:lnTo>
                    <a:pt x="369" y="893"/>
                  </a:lnTo>
                  <a:lnTo>
                    <a:pt x="350" y="898"/>
                  </a:lnTo>
                  <a:lnTo>
                    <a:pt x="330" y="903"/>
                  </a:lnTo>
                  <a:lnTo>
                    <a:pt x="310" y="907"/>
                  </a:lnTo>
                  <a:lnTo>
                    <a:pt x="288" y="911"/>
                  </a:lnTo>
                  <a:lnTo>
                    <a:pt x="266" y="914"/>
                  </a:lnTo>
                  <a:lnTo>
                    <a:pt x="242" y="916"/>
                  </a:lnTo>
                  <a:lnTo>
                    <a:pt x="218" y="918"/>
                  </a:lnTo>
                  <a:lnTo>
                    <a:pt x="192" y="920"/>
                  </a:lnTo>
                  <a:lnTo>
                    <a:pt x="166" y="921"/>
                  </a:lnTo>
                  <a:lnTo>
                    <a:pt x="139" y="922"/>
                  </a:lnTo>
                  <a:lnTo>
                    <a:pt x="0" y="922"/>
                  </a:lnTo>
                  <a:lnTo>
                    <a:pt x="0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521320" y="91908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8" y="0"/>
                  </a:lnTo>
                  <a:lnTo>
                    <a:pt x="196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4" y="9"/>
                  </a:lnTo>
                  <a:lnTo>
                    <a:pt x="143" y="12"/>
                  </a:lnTo>
                  <a:lnTo>
                    <a:pt x="133" y="16"/>
                  </a:lnTo>
                  <a:lnTo>
                    <a:pt x="124" y="20"/>
                  </a:lnTo>
                  <a:lnTo>
                    <a:pt x="115" y="26"/>
                  </a:lnTo>
                  <a:lnTo>
                    <a:pt x="106" y="31"/>
                  </a:lnTo>
                  <a:lnTo>
                    <a:pt x="96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5"/>
                  </a:lnTo>
                  <a:lnTo>
                    <a:pt x="56" y="73"/>
                  </a:lnTo>
                  <a:lnTo>
                    <a:pt x="48" y="83"/>
                  </a:lnTo>
                  <a:lnTo>
                    <a:pt x="41" y="92"/>
                  </a:lnTo>
                  <a:lnTo>
                    <a:pt x="35" y="100"/>
                  </a:lnTo>
                  <a:lnTo>
                    <a:pt x="30" y="110"/>
                  </a:lnTo>
                  <a:lnTo>
                    <a:pt x="25" y="119"/>
                  </a:lnTo>
                  <a:lnTo>
                    <a:pt x="20" y="130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0"/>
                  </a:lnTo>
                  <a:lnTo>
                    <a:pt x="3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3" y="274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6" y="317"/>
                  </a:lnTo>
                  <a:lnTo>
                    <a:pt x="20" y="327"/>
                  </a:lnTo>
                  <a:lnTo>
                    <a:pt x="25" y="337"/>
                  </a:lnTo>
                  <a:lnTo>
                    <a:pt x="30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8" y="373"/>
                  </a:lnTo>
                  <a:lnTo>
                    <a:pt x="56" y="383"/>
                  </a:lnTo>
                  <a:lnTo>
                    <a:pt x="63" y="391"/>
                  </a:lnTo>
                  <a:lnTo>
                    <a:pt x="71" y="398"/>
                  </a:lnTo>
                  <a:lnTo>
                    <a:pt x="79" y="406"/>
                  </a:lnTo>
                  <a:lnTo>
                    <a:pt x="87" y="412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6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4" y="447"/>
                  </a:lnTo>
                  <a:lnTo>
                    <a:pt x="164" y="450"/>
                  </a:lnTo>
                  <a:lnTo>
                    <a:pt x="174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8" y="456"/>
                  </a:lnTo>
                  <a:lnTo>
                    <a:pt x="219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4" y="452"/>
                  </a:lnTo>
                  <a:lnTo>
                    <a:pt x="274" y="450"/>
                  </a:lnTo>
                  <a:lnTo>
                    <a:pt x="284" y="447"/>
                  </a:lnTo>
                  <a:lnTo>
                    <a:pt x="294" y="444"/>
                  </a:lnTo>
                  <a:lnTo>
                    <a:pt x="305" y="440"/>
                  </a:lnTo>
                  <a:lnTo>
                    <a:pt x="315" y="436"/>
                  </a:lnTo>
                  <a:lnTo>
                    <a:pt x="324" y="430"/>
                  </a:lnTo>
                  <a:lnTo>
                    <a:pt x="333" y="424"/>
                  </a:lnTo>
                  <a:lnTo>
                    <a:pt x="341" y="419"/>
                  </a:lnTo>
                  <a:lnTo>
                    <a:pt x="351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7" y="364"/>
                  </a:lnTo>
                  <a:lnTo>
                    <a:pt x="403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8" y="326"/>
                  </a:lnTo>
                  <a:lnTo>
                    <a:pt x="422" y="316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2" y="286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4" y="119"/>
                  </a:lnTo>
                  <a:lnTo>
                    <a:pt x="409" y="110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6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1" y="44"/>
                  </a:lnTo>
                  <a:lnTo>
                    <a:pt x="341" y="37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5" y="20"/>
                  </a:lnTo>
                  <a:lnTo>
                    <a:pt x="305" y="16"/>
                  </a:lnTo>
                  <a:lnTo>
                    <a:pt x="294" y="12"/>
                  </a:lnTo>
                  <a:lnTo>
                    <a:pt x="284" y="9"/>
                  </a:lnTo>
                  <a:lnTo>
                    <a:pt x="274" y="6"/>
                  </a:lnTo>
                  <a:lnTo>
                    <a:pt x="264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443560" y="838080"/>
              <a:ext cx="2952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2" y="16"/>
                  </a:lnTo>
                  <a:lnTo>
                    <a:pt x="612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8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1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0" y="431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0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1" y="686"/>
                  </a:lnTo>
                  <a:lnTo>
                    <a:pt x="879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3" y="798"/>
                  </a:lnTo>
                  <a:lnTo>
                    <a:pt x="807" y="817"/>
                  </a:lnTo>
                  <a:lnTo>
                    <a:pt x="789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0" y="953"/>
                  </a:lnTo>
                  <a:lnTo>
                    <a:pt x="321" y="947"/>
                  </a:lnTo>
                  <a:lnTo>
                    <a:pt x="301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08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8"/>
                  </a:lnTo>
                  <a:lnTo>
                    <a:pt x="0" y="511"/>
                  </a:lnTo>
                  <a:lnTo>
                    <a:pt x="0" y="485"/>
                  </a:lnTo>
                  <a:lnTo>
                    <a:pt x="0" y="458"/>
                  </a:lnTo>
                  <a:lnTo>
                    <a:pt x="2" y="431"/>
                  </a:lnTo>
                  <a:lnTo>
                    <a:pt x="5" y="406"/>
                  </a:lnTo>
                  <a:lnTo>
                    <a:pt x="10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8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2"/>
                  </a:lnTo>
                  <a:lnTo>
                    <a:pt x="340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5761080" y="846000"/>
              <a:ext cx="304920" cy="293760"/>
            </a:xfrm>
            <a:custGeom>
              <a:avLst/>
              <a:gdLst/>
              <a:ahLst/>
              <a:rect l="l" t="t" r="r" b="b"/>
              <a:pathLst>
                <a:path w="959" h="925">
                  <a:moveTo>
                    <a:pt x="0" y="922"/>
                  </a:moveTo>
                  <a:lnTo>
                    <a:pt x="116" y="0"/>
                  </a:lnTo>
                  <a:lnTo>
                    <a:pt x="310" y="0"/>
                  </a:lnTo>
                  <a:lnTo>
                    <a:pt x="473" y="410"/>
                  </a:lnTo>
                  <a:lnTo>
                    <a:pt x="638" y="0"/>
                  </a:lnTo>
                  <a:lnTo>
                    <a:pt x="828" y="0"/>
                  </a:lnTo>
                  <a:lnTo>
                    <a:pt x="959" y="922"/>
                  </a:lnTo>
                  <a:lnTo>
                    <a:pt x="713" y="922"/>
                  </a:lnTo>
                  <a:lnTo>
                    <a:pt x="662" y="498"/>
                  </a:lnTo>
                  <a:lnTo>
                    <a:pt x="483" y="925"/>
                  </a:lnTo>
                  <a:lnTo>
                    <a:pt x="290" y="498"/>
                  </a:lnTo>
                  <a:lnTo>
                    <a:pt x="246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324240" y="1407960"/>
              <a:ext cx="49320" cy="716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0" y="224"/>
                  </a:moveTo>
                  <a:lnTo>
                    <a:pt x="29" y="224"/>
                  </a:lnTo>
                  <a:lnTo>
                    <a:pt x="43" y="223"/>
                  </a:lnTo>
                  <a:lnTo>
                    <a:pt x="56" y="222"/>
                  </a:lnTo>
                  <a:lnTo>
                    <a:pt x="69" y="220"/>
                  </a:lnTo>
                  <a:lnTo>
                    <a:pt x="81" y="216"/>
                  </a:lnTo>
                  <a:lnTo>
                    <a:pt x="92" y="212"/>
                  </a:lnTo>
                  <a:lnTo>
                    <a:pt x="102" y="207"/>
                  </a:lnTo>
                  <a:lnTo>
                    <a:pt x="112" y="201"/>
                  </a:lnTo>
                  <a:lnTo>
                    <a:pt x="120" y="194"/>
                  </a:lnTo>
                  <a:lnTo>
                    <a:pt x="128" y="187"/>
                  </a:lnTo>
                  <a:lnTo>
                    <a:pt x="134" y="179"/>
                  </a:lnTo>
                  <a:lnTo>
                    <a:pt x="140" y="170"/>
                  </a:lnTo>
                  <a:lnTo>
                    <a:pt x="144" y="159"/>
                  </a:lnTo>
                  <a:lnTo>
                    <a:pt x="147" y="149"/>
                  </a:lnTo>
                  <a:lnTo>
                    <a:pt x="150" y="138"/>
                  </a:lnTo>
                  <a:lnTo>
                    <a:pt x="151" y="127"/>
                  </a:lnTo>
                  <a:lnTo>
                    <a:pt x="152" y="113"/>
                  </a:lnTo>
                  <a:lnTo>
                    <a:pt x="151" y="101"/>
                  </a:lnTo>
                  <a:lnTo>
                    <a:pt x="150" y="88"/>
                  </a:lnTo>
                  <a:lnTo>
                    <a:pt x="147" y="77"/>
                  </a:lnTo>
                  <a:lnTo>
                    <a:pt x="144" y="66"/>
                  </a:lnTo>
                  <a:lnTo>
                    <a:pt x="140" y="55"/>
                  </a:lnTo>
                  <a:lnTo>
                    <a:pt x="134" y="46"/>
                  </a:lnTo>
                  <a:lnTo>
                    <a:pt x="128" y="38"/>
                  </a:lnTo>
                  <a:lnTo>
                    <a:pt x="120" y="30"/>
                  </a:lnTo>
                  <a:lnTo>
                    <a:pt x="112" y="23"/>
                  </a:lnTo>
                  <a:lnTo>
                    <a:pt x="102" y="17"/>
                  </a:lnTo>
                  <a:lnTo>
                    <a:pt x="92" y="12"/>
                  </a:lnTo>
                  <a:lnTo>
                    <a:pt x="81" y="8"/>
                  </a:lnTo>
                  <a:lnTo>
                    <a:pt x="69" y="4"/>
                  </a:lnTo>
                  <a:lnTo>
                    <a:pt x="56" y="2"/>
                  </a:lnTo>
                  <a:lnTo>
                    <a:pt x="42" y="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249720" y="1338120"/>
              <a:ext cx="199800" cy="292320"/>
            </a:xfrm>
            <a:custGeom>
              <a:avLst/>
              <a:gdLst/>
              <a:ahLst/>
              <a:rect l="l" t="t" r="r" b="b"/>
              <a:pathLst>
                <a:path w="629" h="920">
                  <a:moveTo>
                    <a:pt x="0" y="920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87" y="1"/>
                  </a:lnTo>
                  <a:lnTo>
                    <a:pt x="310" y="3"/>
                  </a:lnTo>
                  <a:lnTo>
                    <a:pt x="332" y="5"/>
                  </a:lnTo>
                  <a:lnTo>
                    <a:pt x="353" y="7"/>
                  </a:lnTo>
                  <a:lnTo>
                    <a:pt x="373" y="11"/>
                  </a:lnTo>
                  <a:lnTo>
                    <a:pt x="392" y="15"/>
                  </a:lnTo>
                  <a:lnTo>
                    <a:pt x="412" y="20"/>
                  </a:lnTo>
                  <a:lnTo>
                    <a:pt x="429" y="25"/>
                  </a:lnTo>
                  <a:lnTo>
                    <a:pt x="447" y="32"/>
                  </a:lnTo>
                  <a:lnTo>
                    <a:pt x="463" y="38"/>
                  </a:lnTo>
                  <a:lnTo>
                    <a:pt x="478" y="46"/>
                  </a:lnTo>
                  <a:lnTo>
                    <a:pt x="494" y="53"/>
                  </a:lnTo>
                  <a:lnTo>
                    <a:pt x="507" y="62"/>
                  </a:lnTo>
                  <a:lnTo>
                    <a:pt x="520" y="71"/>
                  </a:lnTo>
                  <a:lnTo>
                    <a:pt x="533" y="81"/>
                  </a:lnTo>
                  <a:lnTo>
                    <a:pt x="545" y="92"/>
                  </a:lnTo>
                  <a:lnTo>
                    <a:pt x="556" y="103"/>
                  </a:lnTo>
                  <a:lnTo>
                    <a:pt x="565" y="114"/>
                  </a:lnTo>
                  <a:lnTo>
                    <a:pt x="575" y="127"/>
                  </a:lnTo>
                  <a:lnTo>
                    <a:pt x="583" y="141"/>
                  </a:lnTo>
                  <a:lnTo>
                    <a:pt x="592" y="154"/>
                  </a:lnTo>
                  <a:lnTo>
                    <a:pt x="599" y="169"/>
                  </a:lnTo>
                  <a:lnTo>
                    <a:pt x="605" y="185"/>
                  </a:lnTo>
                  <a:lnTo>
                    <a:pt x="610" y="200"/>
                  </a:lnTo>
                  <a:lnTo>
                    <a:pt x="615" y="217"/>
                  </a:lnTo>
                  <a:lnTo>
                    <a:pt x="619" y="234"/>
                  </a:lnTo>
                  <a:lnTo>
                    <a:pt x="623" y="252"/>
                  </a:lnTo>
                  <a:lnTo>
                    <a:pt x="625" y="270"/>
                  </a:lnTo>
                  <a:lnTo>
                    <a:pt x="627" y="290"/>
                  </a:lnTo>
                  <a:lnTo>
                    <a:pt x="628" y="310"/>
                  </a:lnTo>
                  <a:lnTo>
                    <a:pt x="629" y="330"/>
                  </a:lnTo>
                  <a:lnTo>
                    <a:pt x="628" y="351"/>
                  </a:lnTo>
                  <a:lnTo>
                    <a:pt x="627" y="370"/>
                  </a:lnTo>
                  <a:lnTo>
                    <a:pt x="625" y="389"/>
                  </a:lnTo>
                  <a:lnTo>
                    <a:pt x="623" y="407"/>
                  </a:lnTo>
                  <a:lnTo>
                    <a:pt x="620" y="425"/>
                  </a:lnTo>
                  <a:lnTo>
                    <a:pt x="616" y="442"/>
                  </a:lnTo>
                  <a:lnTo>
                    <a:pt x="611" y="459"/>
                  </a:lnTo>
                  <a:lnTo>
                    <a:pt x="606" y="474"/>
                  </a:lnTo>
                  <a:lnTo>
                    <a:pt x="600" y="491"/>
                  </a:lnTo>
                  <a:lnTo>
                    <a:pt x="593" y="505"/>
                  </a:lnTo>
                  <a:lnTo>
                    <a:pt x="584" y="519"/>
                  </a:lnTo>
                  <a:lnTo>
                    <a:pt x="576" y="533"/>
                  </a:lnTo>
                  <a:lnTo>
                    <a:pt x="567" y="547"/>
                  </a:lnTo>
                  <a:lnTo>
                    <a:pt x="558" y="559"/>
                  </a:lnTo>
                  <a:lnTo>
                    <a:pt x="547" y="571"/>
                  </a:lnTo>
                  <a:lnTo>
                    <a:pt x="535" y="583"/>
                  </a:lnTo>
                  <a:lnTo>
                    <a:pt x="524" y="594"/>
                  </a:lnTo>
                  <a:lnTo>
                    <a:pt x="511" y="604"/>
                  </a:lnTo>
                  <a:lnTo>
                    <a:pt x="498" y="614"/>
                  </a:lnTo>
                  <a:lnTo>
                    <a:pt x="484" y="622"/>
                  </a:lnTo>
                  <a:lnTo>
                    <a:pt x="470" y="630"/>
                  </a:lnTo>
                  <a:lnTo>
                    <a:pt x="455" y="638"/>
                  </a:lnTo>
                  <a:lnTo>
                    <a:pt x="439" y="645"/>
                  </a:lnTo>
                  <a:lnTo>
                    <a:pt x="424" y="651"/>
                  </a:lnTo>
                  <a:lnTo>
                    <a:pt x="407" y="656"/>
                  </a:lnTo>
                  <a:lnTo>
                    <a:pt x="389" y="661"/>
                  </a:lnTo>
                  <a:lnTo>
                    <a:pt x="372" y="664"/>
                  </a:lnTo>
                  <a:lnTo>
                    <a:pt x="354" y="668"/>
                  </a:lnTo>
                  <a:lnTo>
                    <a:pt x="334" y="670"/>
                  </a:lnTo>
                  <a:lnTo>
                    <a:pt x="315" y="672"/>
                  </a:lnTo>
                  <a:lnTo>
                    <a:pt x="295" y="673"/>
                  </a:lnTo>
                  <a:lnTo>
                    <a:pt x="274" y="673"/>
                  </a:lnTo>
                  <a:lnTo>
                    <a:pt x="238" y="673"/>
                  </a:lnTo>
                  <a:lnTo>
                    <a:pt x="238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565440" y="1403280"/>
              <a:ext cx="49320" cy="73080"/>
            </a:xfrm>
            <a:custGeom>
              <a:avLst/>
              <a:gdLst/>
              <a:ahLst/>
              <a:rect l="l" t="t" r="r" b="b"/>
              <a:pathLst>
                <a:path w="154" h="231">
                  <a:moveTo>
                    <a:pt x="0" y="231"/>
                  </a:moveTo>
                  <a:lnTo>
                    <a:pt x="22" y="231"/>
                  </a:lnTo>
                  <a:lnTo>
                    <a:pt x="39" y="230"/>
                  </a:lnTo>
                  <a:lnTo>
                    <a:pt x="53" y="229"/>
                  </a:lnTo>
                  <a:lnTo>
                    <a:pt x="66" y="227"/>
                  </a:lnTo>
                  <a:lnTo>
                    <a:pt x="80" y="224"/>
                  </a:lnTo>
                  <a:lnTo>
                    <a:pt x="91" y="220"/>
                  </a:lnTo>
                  <a:lnTo>
                    <a:pt x="102" y="215"/>
                  </a:lnTo>
                  <a:lnTo>
                    <a:pt x="112" y="209"/>
                  </a:lnTo>
                  <a:lnTo>
                    <a:pt x="120" y="202"/>
                  </a:lnTo>
                  <a:lnTo>
                    <a:pt x="129" y="195"/>
                  </a:lnTo>
                  <a:lnTo>
                    <a:pt x="136" y="186"/>
                  </a:lnTo>
                  <a:lnTo>
                    <a:pt x="141" y="176"/>
                  </a:lnTo>
                  <a:lnTo>
                    <a:pt x="146" y="166"/>
                  </a:lnTo>
                  <a:lnTo>
                    <a:pt x="150" y="155"/>
                  </a:lnTo>
                  <a:lnTo>
                    <a:pt x="152" y="143"/>
                  </a:lnTo>
                  <a:lnTo>
                    <a:pt x="154" y="130"/>
                  </a:lnTo>
                  <a:lnTo>
                    <a:pt x="154" y="117"/>
                  </a:lnTo>
                  <a:lnTo>
                    <a:pt x="154" y="103"/>
                  </a:lnTo>
                  <a:lnTo>
                    <a:pt x="152" y="90"/>
                  </a:lnTo>
                  <a:lnTo>
                    <a:pt x="150" y="78"/>
                  </a:lnTo>
                  <a:lnTo>
                    <a:pt x="146" y="67"/>
                  </a:lnTo>
                  <a:lnTo>
                    <a:pt x="142" y="56"/>
                  </a:lnTo>
                  <a:lnTo>
                    <a:pt x="136" y="47"/>
                  </a:lnTo>
                  <a:lnTo>
                    <a:pt x="130" y="39"/>
                  </a:lnTo>
                  <a:lnTo>
                    <a:pt x="122" y="30"/>
                  </a:lnTo>
                  <a:lnTo>
                    <a:pt x="113" y="23"/>
                  </a:lnTo>
                  <a:lnTo>
                    <a:pt x="104" y="17"/>
                  </a:lnTo>
                  <a:lnTo>
                    <a:pt x="94" y="12"/>
                  </a:lnTo>
                  <a:lnTo>
                    <a:pt x="83" y="8"/>
                  </a:lnTo>
                  <a:lnTo>
                    <a:pt x="70" y="5"/>
                  </a:lnTo>
                  <a:lnTo>
                    <a:pt x="57" y="2"/>
                  </a:lnTo>
                  <a:lnTo>
                    <a:pt x="44" y="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489480" y="1338120"/>
              <a:ext cx="220680" cy="292320"/>
            </a:xfrm>
            <a:custGeom>
              <a:avLst/>
              <a:gdLst/>
              <a:ahLst/>
              <a:rect l="l" t="t" r="r" b="b"/>
              <a:pathLst>
                <a:path w="691" h="920">
                  <a:moveTo>
                    <a:pt x="0" y="92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2"/>
                  </a:lnTo>
                  <a:lnTo>
                    <a:pt x="346" y="4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8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4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5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5" y="152"/>
                  </a:lnTo>
                  <a:lnTo>
                    <a:pt x="611" y="165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0"/>
                  </a:lnTo>
                  <a:lnTo>
                    <a:pt x="633" y="256"/>
                  </a:lnTo>
                  <a:lnTo>
                    <a:pt x="634" y="273"/>
                  </a:lnTo>
                  <a:lnTo>
                    <a:pt x="634" y="291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49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1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7"/>
                  </a:lnTo>
                  <a:lnTo>
                    <a:pt x="574" y="460"/>
                  </a:lnTo>
                  <a:lnTo>
                    <a:pt x="562" y="472"/>
                  </a:lnTo>
                  <a:lnTo>
                    <a:pt x="549" y="483"/>
                  </a:lnTo>
                  <a:lnTo>
                    <a:pt x="535" y="494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0"/>
                  </a:lnTo>
                  <a:lnTo>
                    <a:pt x="429" y="920"/>
                  </a:lnTo>
                  <a:lnTo>
                    <a:pt x="239" y="526"/>
                  </a:lnTo>
                  <a:lnTo>
                    <a:pt x="239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798720" y="1413000"/>
              <a:ext cx="138240" cy="144360"/>
            </a:xfrm>
            <a:custGeom>
              <a:avLst/>
              <a:gdLst/>
              <a:ahLst/>
              <a:rect l="l" t="t" r="r" b="b"/>
              <a:pathLst>
                <a:path w="438" h="455">
                  <a:moveTo>
                    <a:pt x="220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5" y="3"/>
                  </a:lnTo>
                  <a:lnTo>
                    <a:pt x="175" y="5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4" y="17"/>
                  </a:lnTo>
                  <a:lnTo>
                    <a:pt x="124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1"/>
                  </a:lnTo>
                  <a:lnTo>
                    <a:pt x="36" y="100"/>
                  </a:lnTo>
                  <a:lnTo>
                    <a:pt x="30" y="110"/>
                  </a:lnTo>
                  <a:lnTo>
                    <a:pt x="25" y="120"/>
                  </a:lnTo>
                  <a:lnTo>
                    <a:pt x="20" y="129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6"/>
                  </a:lnTo>
                  <a:lnTo>
                    <a:pt x="15" y="318"/>
                  </a:lnTo>
                  <a:lnTo>
                    <a:pt x="20" y="327"/>
                  </a:lnTo>
                  <a:lnTo>
                    <a:pt x="25" y="337"/>
                  </a:lnTo>
                  <a:lnTo>
                    <a:pt x="30" y="346"/>
                  </a:lnTo>
                  <a:lnTo>
                    <a:pt x="35" y="355"/>
                  </a:lnTo>
                  <a:lnTo>
                    <a:pt x="41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2" y="390"/>
                  </a:lnTo>
                  <a:lnTo>
                    <a:pt x="71" y="398"/>
                  </a:lnTo>
                  <a:lnTo>
                    <a:pt x="79" y="405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4" y="435"/>
                  </a:lnTo>
                  <a:lnTo>
                    <a:pt x="133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3" y="449"/>
                  </a:lnTo>
                  <a:lnTo>
                    <a:pt x="175" y="452"/>
                  </a:lnTo>
                  <a:lnTo>
                    <a:pt x="185" y="453"/>
                  </a:lnTo>
                  <a:lnTo>
                    <a:pt x="196" y="455"/>
                  </a:lnTo>
                  <a:lnTo>
                    <a:pt x="207" y="455"/>
                  </a:lnTo>
                  <a:lnTo>
                    <a:pt x="220" y="455"/>
                  </a:lnTo>
                  <a:lnTo>
                    <a:pt x="231" y="455"/>
                  </a:lnTo>
                  <a:lnTo>
                    <a:pt x="242" y="455"/>
                  </a:lnTo>
                  <a:lnTo>
                    <a:pt x="253" y="453"/>
                  </a:lnTo>
                  <a:lnTo>
                    <a:pt x="264" y="452"/>
                  </a:lnTo>
                  <a:lnTo>
                    <a:pt x="275" y="449"/>
                  </a:lnTo>
                  <a:lnTo>
                    <a:pt x="285" y="447"/>
                  </a:lnTo>
                  <a:lnTo>
                    <a:pt x="295" y="443"/>
                  </a:lnTo>
                  <a:lnTo>
                    <a:pt x="304" y="439"/>
                  </a:lnTo>
                  <a:lnTo>
                    <a:pt x="315" y="435"/>
                  </a:lnTo>
                  <a:lnTo>
                    <a:pt x="324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60" y="405"/>
                  </a:lnTo>
                  <a:lnTo>
                    <a:pt x="368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6" y="365"/>
                  </a:lnTo>
                  <a:lnTo>
                    <a:pt x="402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2" y="285"/>
                  </a:lnTo>
                  <a:lnTo>
                    <a:pt x="434" y="275"/>
                  </a:lnTo>
                  <a:lnTo>
                    <a:pt x="437" y="251"/>
                  </a:lnTo>
                  <a:lnTo>
                    <a:pt x="438" y="228"/>
                  </a:lnTo>
                  <a:lnTo>
                    <a:pt x="437" y="204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1"/>
                  </a:lnTo>
                  <a:lnTo>
                    <a:pt x="426" y="150"/>
                  </a:lnTo>
                  <a:lnTo>
                    <a:pt x="423" y="139"/>
                  </a:lnTo>
                  <a:lnTo>
                    <a:pt x="419" y="130"/>
                  </a:lnTo>
                  <a:lnTo>
                    <a:pt x="414" y="120"/>
                  </a:lnTo>
                  <a:lnTo>
                    <a:pt x="409" y="111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6" y="66"/>
                  </a:lnTo>
                  <a:lnTo>
                    <a:pt x="368" y="59"/>
                  </a:lnTo>
                  <a:lnTo>
                    <a:pt x="360" y="50"/>
                  </a:lnTo>
                  <a:lnTo>
                    <a:pt x="350" y="43"/>
                  </a:lnTo>
                  <a:lnTo>
                    <a:pt x="342" y="37"/>
                  </a:lnTo>
                  <a:lnTo>
                    <a:pt x="333" y="31"/>
                  </a:lnTo>
                  <a:lnTo>
                    <a:pt x="324" y="26"/>
                  </a:lnTo>
                  <a:lnTo>
                    <a:pt x="315" y="21"/>
                  </a:lnTo>
                  <a:lnTo>
                    <a:pt x="304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5" y="7"/>
                  </a:lnTo>
                  <a:lnTo>
                    <a:pt x="264" y="5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719520" y="1330200"/>
              <a:ext cx="2970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5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6" y="66"/>
                  </a:lnTo>
                  <a:lnTo>
                    <a:pt x="723" y="77"/>
                  </a:lnTo>
                  <a:lnTo>
                    <a:pt x="739" y="88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2"/>
                  </a:lnTo>
                  <a:lnTo>
                    <a:pt x="840" y="192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0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5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8"/>
                  </a:lnTo>
                  <a:lnTo>
                    <a:pt x="738" y="882"/>
                  </a:lnTo>
                  <a:lnTo>
                    <a:pt x="722" y="893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6" y="969"/>
                  </a:lnTo>
                  <a:lnTo>
                    <a:pt x="444" y="969"/>
                  </a:lnTo>
                  <a:lnTo>
                    <a:pt x="423" y="967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0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8" y="868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6" y="817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3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0"/>
                  </a:lnTo>
                  <a:lnTo>
                    <a:pt x="0" y="484"/>
                  </a:lnTo>
                  <a:lnTo>
                    <a:pt x="1" y="457"/>
                  </a:lnTo>
                  <a:lnTo>
                    <a:pt x="3" y="432"/>
                  </a:lnTo>
                  <a:lnTo>
                    <a:pt x="6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2" y="305"/>
                  </a:lnTo>
                  <a:lnTo>
                    <a:pt x="42" y="282"/>
                  </a:lnTo>
                  <a:lnTo>
                    <a:pt x="53" y="259"/>
                  </a:lnTo>
                  <a:lnTo>
                    <a:pt x="65" y="235"/>
                  </a:lnTo>
                  <a:lnTo>
                    <a:pt x="79" y="214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8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2" y="37"/>
                  </a:lnTo>
                  <a:lnTo>
                    <a:pt x="301" y="29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0" y="12"/>
                  </a:lnTo>
                  <a:lnTo>
                    <a:pt x="382" y="8"/>
                  </a:lnTo>
                  <a:lnTo>
                    <a:pt x="402" y="5"/>
                  </a:lnTo>
                  <a:lnTo>
                    <a:pt x="423" y="1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02732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2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248000" y="1338120"/>
              <a:ext cx="18288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3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7" y="338"/>
                  </a:lnTo>
                  <a:lnTo>
                    <a:pt x="447" y="581"/>
                  </a:lnTo>
                  <a:lnTo>
                    <a:pt x="239" y="581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448160" y="1333440"/>
              <a:ext cx="200160" cy="30312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6"/>
                  </a:moveTo>
                  <a:lnTo>
                    <a:pt x="603" y="938"/>
                  </a:lnTo>
                  <a:lnTo>
                    <a:pt x="597" y="940"/>
                  </a:lnTo>
                  <a:lnTo>
                    <a:pt x="590" y="942"/>
                  </a:lnTo>
                  <a:lnTo>
                    <a:pt x="583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1" y="947"/>
                  </a:lnTo>
                  <a:lnTo>
                    <a:pt x="553" y="948"/>
                  </a:lnTo>
                  <a:lnTo>
                    <a:pt x="546" y="949"/>
                  </a:lnTo>
                  <a:lnTo>
                    <a:pt x="538" y="949"/>
                  </a:lnTo>
                  <a:lnTo>
                    <a:pt x="530" y="950"/>
                  </a:lnTo>
                  <a:lnTo>
                    <a:pt x="522" y="951"/>
                  </a:lnTo>
                  <a:lnTo>
                    <a:pt x="513" y="951"/>
                  </a:lnTo>
                  <a:lnTo>
                    <a:pt x="505" y="951"/>
                  </a:lnTo>
                  <a:lnTo>
                    <a:pt x="497" y="952"/>
                  </a:lnTo>
                  <a:lnTo>
                    <a:pt x="488" y="952"/>
                  </a:lnTo>
                  <a:lnTo>
                    <a:pt x="461" y="951"/>
                  </a:lnTo>
                  <a:lnTo>
                    <a:pt x="434" y="950"/>
                  </a:lnTo>
                  <a:lnTo>
                    <a:pt x="409" y="947"/>
                  </a:lnTo>
                  <a:lnTo>
                    <a:pt x="383" y="944"/>
                  </a:lnTo>
                  <a:lnTo>
                    <a:pt x="360" y="939"/>
                  </a:lnTo>
                  <a:lnTo>
                    <a:pt x="335" y="934"/>
                  </a:lnTo>
                  <a:lnTo>
                    <a:pt x="313" y="927"/>
                  </a:lnTo>
                  <a:lnTo>
                    <a:pt x="290" y="920"/>
                  </a:lnTo>
                  <a:lnTo>
                    <a:pt x="269" y="910"/>
                  </a:lnTo>
                  <a:lnTo>
                    <a:pt x="248" y="901"/>
                  </a:lnTo>
                  <a:lnTo>
                    <a:pt x="227" y="890"/>
                  </a:lnTo>
                  <a:lnTo>
                    <a:pt x="208" y="879"/>
                  </a:lnTo>
                  <a:lnTo>
                    <a:pt x="188" y="866"/>
                  </a:lnTo>
                  <a:lnTo>
                    <a:pt x="170" y="852"/>
                  </a:lnTo>
                  <a:lnTo>
                    <a:pt x="152" y="838"/>
                  </a:lnTo>
                  <a:lnTo>
                    <a:pt x="135" y="822"/>
                  </a:lnTo>
                  <a:lnTo>
                    <a:pt x="119" y="805"/>
                  </a:lnTo>
                  <a:lnTo>
                    <a:pt x="104" y="788"/>
                  </a:lnTo>
                  <a:lnTo>
                    <a:pt x="89" y="770"/>
                  </a:lnTo>
                  <a:lnTo>
                    <a:pt x="76" y="751"/>
                  </a:lnTo>
                  <a:lnTo>
                    <a:pt x="64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4" y="672"/>
                  </a:lnTo>
                  <a:lnTo>
                    <a:pt x="26" y="650"/>
                  </a:lnTo>
                  <a:lnTo>
                    <a:pt x="19" y="628"/>
                  </a:lnTo>
                  <a:lnTo>
                    <a:pt x="14" y="605"/>
                  </a:lnTo>
                  <a:lnTo>
                    <a:pt x="9" y="582"/>
                  </a:lnTo>
                  <a:lnTo>
                    <a:pt x="5" y="559"/>
                  </a:lnTo>
                  <a:lnTo>
                    <a:pt x="3" y="534"/>
                  </a:lnTo>
                  <a:lnTo>
                    <a:pt x="0" y="509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7"/>
                  </a:lnTo>
                  <a:lnTo>
                    <a:pt x="9" y="383"/>
                  </a:lnTo>
                  <a:lnTo>
                    <a:pt x="14" y="359"/>
                  </a:lnTo>
                  <a:lnTo>
                    <a:pt x="20" y="336"/>
                  </a:lnTo>
                  <a:lnTo>
                    <a:pt x="27" y="314"/>
                  </a:lnTo>
                  <a:lnTo>
                    <a:pt x="35" y="291"/>
                  </a:lnTo>
                  <a:lnTo>
                    <a:pt x="44" y="270"/>
                  </a:lnTo>
                  <a:lnTo>
                    <a:pt x="55" y="250"/>
                  </a:lnTo>
                  <a:lnTo>
                    <a:pt x="66" y="229"/>
                  </a:lnTo>
                  <a:lnTo>
                    <a:pt x="79" y="210"/>
                  </a:lnTo>
                  <a:lnTo>
                    <a:pt x="92" y="190"/>
                  </a:lnTo>
                  <a:lnTo>
                    <a:pt x="107" y="172"/>
                  </a:lnTo>
                  <a:lnTo>
                    <a:pt x="123" y="154"/>
                  </a:lnTo>
                  <a:lnTo>
                    <a:pt x="140" y="136"/>
                  </a:lnTo>
                  <a:lnTo>
                    <a:pt x="158" y="120"/>
                  </a:lnTo>
                  <a:lnTo>
                    <a:pt x="176" y="105"/>
                  </a:lnTo>
                  <a:lnTo>
                    <a:pt x="194" y="90"/>
                  </a:lnTo>
                  <a:lnTo>
                    <a:pt x="215" y="77"/>
                  </a:lnTo>
                  <a:lnTo>
                    <a:pt x="234" y="65"/>
                  </a:lnTo>
                  <a:lnTo>
                    <a:pt x="256" y="54"/>
                  </a:lnTo>
                  <a:lnTo>
                    <a:pt x="277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5" y="19"/>
                  </a:lnTo>
                  <a:lnTo>
                    <a:pt x="368" y="13"/>
                  </a:lnTo>
                  <a:lnTo>
                    <a:pt x="393" y="9"/>
                  </a:lnTo>
                  <a:lnTo>
                    <a:pt x="417" y="5"/>
                  </a:lnTo>
                  <a:lnTo>
                    <a:pt x="443" y="2"/>
                  </a:lnTo>
                  <a:lnTo>
                    <a:pt x="469" y="1"/>
                  </a:lnTo>
                  <a:lnTo>
                    <a:pt x="496" y="0"/>
                  </a:lnTo>
                  <a:lnTo>
                    <a:pt x="502" y="0"/>
                  </a:lnTo>
                  <a:lnTo>
                    <a:pt x="508" y="1"/>
                  </a:lnTo>
                  <a:lnTo>
                    <a:pt x="515" y="1"/>
                  </a:lnTo>
                  <a:lnTo>
                    <a:pt x="521" y="1"/>
                  </a:lnTo>
                  <a:lnTo>
                    <a:pt x="528" y="2"/>
                  </a:lnTo>
                  <a:lnTo>
                    <a:pt x="535" y="2"/>
                  </a:lnTo>
                  <a:lnTo>
                    <a:pt x="542" y="3"/>
                  </a:lnTo>
                  <a:lnTo>
                    <a:pt x="549" y="3"/>
                  </a:lnTo>
                  <a:lnTo>
                    <a:pt x="556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5" y="9"/>
                  </a:lnTo>
                  <a:lnTo>
                    <a:pt x="592" y="10"/>
                  </a:lnTo>
                  <a:lnTo>
                    <a:pt x="599" y="12"/>
                  </a:lnTo>
                  <a:lnTo>
                    <a:pt x="606" y="13"/>
                  </a:lnTo>
                  <a:lnTo>
                    <a:pt x="619" y="286"/>
                  </a:lnTo>
                  <a:lnTo>
                    <a:pt x="611" y="282"/>
                  </a:lnTo>
                  <a:lnTo>
                    <a:pt x="603" y="279"/>
                  </a:lnTo>
                  <a:lnTo>
                    <a:pt x="595" y="276"/>
                  </a:lnTo>
                  <a:lnTo>
                    <a:pt x="587" y="273"/>
                  </a:lnTo>
                  <a:lnTo>
                    <a:pt x="578" y="271"/>
                  </a:lnTo>
                  <a:lnTo>
                    <a:pt x="570" y="269"/>
                  </a:lnTo>
                  <a:lnTo>
                    <a:pt x="562" y="267"/>
                  </a:lnTo>
                  <a:lnTo>
                    <a:pt x="555" y="265"/>
                  </a:lnTo>
                  <a:lnTo>
                    <a:pt x="547" y="263"/>
                  </a:lnTo>
                  <a:lnTo>
                    <a:pt x="539" y="262"/>
                  </a:lnTo>
                  <a:lnTo>
                    <a:pt x="531" y="261"/>
                  </a:lnTo>
                  <a:lnTo>
                    <a:pt x="523" y="260"/>
                  </a:lnTo>
                  <a:lnTo>
                    <a:pt x="516" y="259"/>
                  </a:lnTo>
                  <a:lnTo>
                    <a:pt x="508" y="258"/>
                  </a:lnTo>
                  <a:lnTo>
                    <a:pt x="501" y="258"/>
                  </a:lnTo>
                  <a:lnTo>
                    <a:pt x="494" y="258"/>
                  </a:lnTo>
                  <a:lnTo>
                    <a:pt x="467" y="259"/>
                  </a:lnTo>
                  <a:lnTo>
                    <a:pt x="442" y="262"/>
                  </a:lnTo>
                  <a:lnTo>
                    <a:pt x="429" y="264"/>
                  </a:lnTo>
                  <a:lnTo>
                    <a:pt x="417" y="267"/>
                  </a:lnTo>
                  <a:lnTo>
                    <a:pt x="406" y="270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1"/>
                  </a:lnTo>
                  <a:lnTo>
                    <a:pt x="363" y="286"/>
                  </a:lnTo>
                  <a:lnTo>
                    <a:pt x="353" y="292"/>
                  </a:lnTo>
                  <a:lnTo>
                    <a:pt x="344" y="298"/>
                  </a:lnTo>
                  <a:lnTo>
                    <a:pt x="334" y="305"/>
                  </a:lnTo>
                  <a:lnTo>
                    <a:pt x="325" y="312"/>
                  </a:lnTo>
                  <a:lnTo>
                    <a:pt x="317" y="319"/>
                  </a:lnTo>
                  <a:lnTo>
                    <a:pt x="308" y="327"/>
                  </a:lnTo>
                  <a:lnTo>
                    <a:pt x="301" y="334"/>
                  </a:lnTo>
                  <a:lnTo>
                    <a:pt x="294" y="343"/>
                  </a:lnTo>
                  <a:lnTo>
                    <a:pt x="286" y="352"/>
                  </a:lnTo>
                  <a:lnTo>
                    <a:pt x="280" y="361"/>
                  </a:lnTo>
                  <a:lnTo>
                    <a:pt x="275" y="369"/>
                  </a:lnTo>
                  <a:lnTo>
                    <a:pt x="270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8" y="408"/>
                  </a:lnTo>
                  <a:lnTo>
                    <a:pt x="255" y="419"/>
                  </a:lnTo>
                  <a:lnTo>
                    <a:pt x="253" y="429"/>
                  </a:lnTo>
                  <a:lnTo>
                    <a:pt x="251" y="440"/>
                  </a:lnTo>
                  <a:lnTo>
                    <a:pt x="250" y="451"/>
                  </a:lnTo>
                  <a:lnTo>
                    <a:pt x="249" y="463"/>
                  </a:lnTo>
                  <a:lnTo>
                    <a:pt x="249" y="474"/>
                  </a:lnTo>
                  <a:lnTo>
                    <a:pt x="249" y="486"/>
                  </a:lnTo>
                  <a:lnTo>
                    <a:pt x="250" y="497"/>
                  </a:lnTo>
                  <a:lnTo>
                    <a:pt x="251" y="509"/>
                  </a:lnTo>
                  <a:lnTo>
                    <a:pt x="253" y="519"/>
                  </a:lnTo>
                  <a:lnTo>
                    <a:pt x="255" y="530"/>
                  </a:lnTo>
                  <a:lnTo>
                    <a:pt x="258" y="540"/>
                  </a:lnTo>
                  <a:lnTo>
                    <a:pt x="261" y="550"/>
                  </a:lnTo>
                  <a:lnTo>
                    <a:pt x="265" y="561"/>
                  </a:lnTo>
                  <a:lnTo>
                    <a:pt x="270" y="570"/>
                  </a:lnTo>
                  <a:lnTo>
                    <a:pt x="274" y="579"/>
                  </a:lnTo>
                  <a:lnTo>
                    <a:pt x="280" y="588"/>
                  </a:lnTo>
                  <a:lnTo>
                    <a:pt x="286" y="597"/>
                  </a:lnTo>
                  <a:lnTo>
                    <a:pt x="293" y="607"/>
                  </a:lnTo>
                  <a:lnTo>
                    <a:pt x="300" y="615"/>
                  </a:lnTo>
                  <a:lnTo>
                    <a:pt x="308" y="623"/>
                  </a:lnTo>
                  <a:lnTo>
                    <a:pt x="316" y="631"/>
                  </a:lnTo>
                  <a:lnTo>
                    <a:pt x="324" y="639"/>
                  </a:lnTo>
                  <a:lnTo>
                    <a:pt x="333" y="646"/>
                  </a:lnTo>
                  <a:lnTo>
                    <a:pt x="343" y="652"/>
                  </a:lnTo>
                  <a:lnTo>
                    <a:pt x="352" y="659"/>
                  </a:lnTo>
                  <a:lnTo>
                    <a:pt x="361" y="665"/>
                  </a:lnTo>
                  <a:lnTo>
                    <a:pt x="371" y="670"/>
                  </a:lnTo>
                  <a:lnTo>
                    <a:pt x="381" y="674"/>
                  </a:lnTo>
                  <a:lnTo>
                    <a:pt x="392" y="678"/>
                  </a:lnTo>
                  <a:lnTo>
                    <a:pt x="403" y="682"/>
                  </a:lnTo>
                  <a:lnTo>
                    <a:pt x="414" y="685"/>
                  </a:lnTo>
                  <a:lnTo>
                    <a:pt x="425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3"/>
                  </a:lnTo>
                  <a:lnTo>
                    <a:pt x="512" y="693"/>
                  </a:lnTo>
                  <a:lnTo>
                    <a:pt x="521" y="692"/>
                  </a:lnTo>
                  <a:lnTo>
                    <a:pt x="530" y="690"/>
                  </a:lnTo>
                  <a:lnTo>
                    <a:pt x="540" y="689"/>
                  </a:lnTo>
                  <a:lnTo>
                    <a:pt x="549" y="687"/>
                  </a:lnTo>
                  <a:lnTo>
                    <a:pt x="557" y="685"/>
                  </a:lnTo>
                  <a:lnTo>
                    <a:pt x="566" y="682"/>
                  </a:lnTo>
                  <a:lnTo>
                    <a:pt x="575" y="680"/>
                  </a:lnTo>
                  <a:lnTo>
                    <a:pt x="585" y="677"/>
                  </a:lnTo>
                  <a:lnTo>
                    <a:pt x="593" y="673"/>
                  </a:lnTo>
                  <a:lnTo>
                    <a:pt x="602" y="670"/>
                  </a:lnTo>
                  <a:lnTo>
                    <a:pt x="611" y="666"/>
                  </a:lnTo>
                  <a:lnTo>
                    <a:pt x="619" y="662"/>
                  </a:lnTo>
                  <a:lnTo>
                    <a:pt x="628" y="656"/>
                  </a:lnTo>
                  <a:lnTo>
                    <a:pt x="610" y="9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66560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0">
                  <a:moveTo>
                    <a:pt x="426" y="232"/>
                  </a:moveTo>
                  <a:lnTo>
                    <a:pt x="426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973760" y="1338120"/>
              <a:ext cx="239760" cy="292320"/>
            </a:xfrm>
            <a:custGeom>
              <a:avLst/>
              <a:gdLst/>
              <a:ahLst/>
              <a:rect l="l" t="t" r="r" b="b"/>
              <a:pathLst>
                <a:path w="757" h="920">
                  <a:moveTo>
                    <a:pt x="250" y="920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4" y="0"/>
                  </a:lnTo>
                  <a:lnTo>
                    <a:pt x="374" y="276"/>
                  </a:lnTo>
                  <a:lnTo>
                    <a:pt x="489" y="0"/>
                  </a:lnTo>
                  <a:lnTo>
                    <a:pt x="757" y="0"/>
                  </a:lnTo>
                  <a:lnTo>
                    <a:pt x="489" y="518"/>
                  </a:lnTo>
                  <a:lnTo>
                    <a:pt x="489" y="920"/>
                  </a:lnTo>
                  <a:lnTo>
                    <a:pt x="25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281560" y="1413000"/>
              <a:ext cx="138240" cy="144360"/>
            </a:xfrm>
            <a:custGeom>
              <a:avLst/>
              <a:gdLst/>
              <a:ahLst/>
              <a:rect l="l" t="t" r="r" b="b"/>
              <a:pathLst>
                <a:path w="439" h="455">
                  <a:moveTo>
                    <a:pt x="219" y="0"/>
                  </a:moveTo>
                  <a:lnTo>
                    <a:pt x="208" y="0"/>
                  </a:lnTo>
                  <a:lnTo>
                    <a:pt x="197" y="1"/>
                  </a:lnTo>
                  <a:lnTo>
                    <a:pt x="186" y="3"/>
                  </a:lnTo>
                  <a:lnTo>
                    <a:pt x="174" y="5"/>
                  </a:lnTo>
                  <a:lnTo>
                    <a:pt x="164" y="7"/>
                  </a:lnTo>
                  <a:lnTo>
                    <a:pt x="154" y="10"/>
                  </a:lnTo>
                  <a:lnTo>
                    <a:pt x="144" y="13"/>
                  </a:lnTo>
                  <a:lnTo>
                    <a:pt x="133" y="17"/>
                  </a:lnTo>
                  <a:lnTo>
                    <a:pt x="124" y="21"/>
                  </a:lnTo>
                  <a:lnTo>
                    <a:pt x="115" y="26"/>
                  </a:lnTo>
                  <a:lnTo>
                    <a:pt x="106" y="31"/>
                  </a:lnTo>
                  <a:lnTo>
                    <a:pt x="97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6" y="74"/>
                  </a:lnTo>
                  <a:lnTo>
                    <a:pt x="49" y="83"/>
                  </a:lnTo>
                  <a:lnTo>
                    <a:pt x="42" y="91"/>
                  </a:lnTo>
                  <a:lnTo>
                    <a:pt x="35" y="100"/>
                  </a:lnTo>
                  <a:lnTo>
                    <a:pt x="30" y="110"/>
                  </a:lnTo>
                  <a:lnTo>
                    <a:pt x="24" y="120"/>
                  </a:lnTo>
                  <a:lnTo>
                    <a:pt x="20" y="129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3" y="193"/>
                  </a:lnTo>
                  <a:lnTo>
                    <a:pt x="1" y="204"/>
                  </a:lnTo>
                  <a:lnTo>
                    <a:pt x="1" y="217"/>
                  </a:lnTo>
                  <a:lnTo>
                    <a:pt x="0" y="228"/>
                  </a:lnTo>
                  <a:lnTo>
                    <a:pt x="1" y="240"/>
                  </a:lnTo>
                  <a:lnTo>
                    <a:pt x="1" y="252"/>
                  </a:lnTo>
                  <a:lnTo>
                    <a:pt x="3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6"/>
                  </a:lnTo>
                  <a:lnTo>
                    <a:pt x="16" y="318"/>
                  </a:lnTo>
                  <a:lnTo>
                    <a:pt x="20" y="327"/>
                  </a:lnTo>
                  <a:lnTo>
                    <a:pt x="24" y="337"/>
                  </a:lnTo>
                  <a:lnTo>
                    <a:pt x="29" y="346"/>
                  </a:lnTo>
                  <a:lnTo>
                    <a:pt x="35" y="355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3" y="390"/>
                  </a:lnTo>
                  <a:lnTo>
                    <a:pt x="71" y="398"/>
                  </a:lnTo>
                  <a:lnTo>
                    <a:pt x="79" y="405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5"/>
                  </a:lnTo>
                  <a:lnTo>
                    <a:pt x="133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4" y="449"/>
                  </a:lnTo>
                  <a:lnTo>
                    <a:pt x="174" y="452"/>
                  </a:lnTo>
                  <a:lnTo>
                    <a:pt x="186" y="453"/>
                  </a:lnTo>
                  <a:lnTo>
                    <a:pt x="197" y="455"/>
                  </a:lnTo>
                  <a:lnTo>
                    <a:pt x="208" y="455"/>
                  </a:lnTo>
                  <a:lnTo>
                    <a:pt x="219" y="455"/>
                  </a:lnTo>
                  <a:lnTo>
                    <a:pt x="230" y="455"/>
                  </a:lnTo>
                  <a:lnTo>
                    <a:pt x="242" y="455"/>
                  </a:lnTo>
                  <a:lnTo>
                    <a:pt x="253" y="453"/>
                  </a:lnTo>
                  <a:lnTo>
                    <a:pt x="264" y="452"/>
                  </a:lnTo>
                  <a:lnTo>
                    <a:pt x="274" y="449"/>
                  </a:lnTo>
                  <a:lnTo>
                    <a:pt x="285" y="447"/>
                  </a:lnTo>
                  <a:lnTo>
                    <a:pt x="295" y="443"/>
                  </a:lnTo>
                  <a:lnTo>
                    <a:pt x="305" y="439"/>
                  </a:lnTo>
                  <a:lnTo>
                    <a:pt x="314" y="435"/>
                  </a:lnTo>
                  <a:lnTo>
                    <a:pt x="324" y="430"/>
                  </a:lnTo>
                  <a:lnTo>
                    <a:pt x="334" y="425"/>
                  </a:lnTo>
                  <a:lnTo>
                    <a:pt x="342" y="419"/>
                  </a:lnTo>
                  <a:lnTo>
                    <a:pt x="351" y="413"/>
                  </a:lnTo>
                  <a:lnTo>
                    <a:pt x="359" y="405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7" y="365"/>
                  </a:lnTo>
                  <a:lnTo>
                    <a:pt x="403" y="355"/>
                  </a:lnTo>
                  <a:lnTo>
                    <a:pt x="408" y="346"/>
                  </a:lnTo>
                  <a:lnTo>
                    <a:pt x="414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7" y="306"/>
                  </a:lnTo>
                  <a:lnTo>
                    <a:pt x="430" y="296"/>
                  </a:lnTo>
                  <a:lnTo>
                    <a:pt x="433" y="285"/>
                  </a:lnTo>
                  <a:lnTo>
                    <a:pt x="435" y="275"/>
                  </a:lnTo>
                  <a:lnTo>
                    <a:pt x="438" y="251"/>
                  </a:lnTo>
                  <a:lnTo>
                    <a:pt x="439" y="228"/>
                  </a:lnTo>
                  <a:lnTo>
                    <a:pt x="438" y="204"/>
                  </a:lnTo>
                  <a:lnTo>
                    <a:pt x="435" y="182"/>
                  </a:lnTo>
                  <a:lnTo>
                    <a:pt x="433" y="171"/>
                  </a:lnTo>
                  <a:lnTo>
                    <a:pt x="430" y="161"/>
                  </a:lnTo>
                  <a:lnTo>
                    <a:pt x="427" y="150"/>
                  </a:lnTo>
                  <a:lnTo>
                    <a:pt x="422" y="139"/>
                  </a:lnTo>
                  <a:lnTo>
                    <a:pt x="418" y="130"/>
                  </a:lnTo>
                  <a:lnTo>
                    <a:pt x="414" y="120"/>
                  </a:lnTo>
                  <a:lnTo>
                    <a:pt x="408" y="111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6"/>
                  </a:lnTo>
                  <a:lnTo>
                    <a:pt x="367" y="59"/>
                  </a:lnTo>
                  <a:lnTo>
                    <a:pt x="359" y="50"/>
                  </a:lnTo>
                  <a:lnTo>
                    <a:pt x="351" y="43"/>
                  </a:lnTo>
                  <a:lnTo>
                    <a:pt x="342" y="37"/>
                  </a:lnTo>
                  <a:lnTo>
                    <a:pt x="334" y="31"/>
                  </a:lnTo>
                  <a:lnTo>
                    <a:pt x="324" y="26"/>
                  </a:lnTo>
                  <a:lnTo>
                    <a:pt x="314" y="21"/>
                  </a:lnTo>
                  <a:lnTo>
                    <a:pt x="305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4" y="7"/>
                  </a:lnTo>
                  <a:lnTo>
                    <a:pt x="264" y="5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202360" y="1330200"/>
              <a:ext cx="29664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5" y="0"/>
                  </a:moveTo>
                  <a:lnTo>
                    <a:pt x="487" y="0"/>
                  </a:lnTo>
                  <a:lnTo>
                    <a:pt x="508" y="2"/>
                  </a:lnTo>
                  <a:lnTo>
                    <a:pt x="530" y="5"/>
                  </a:lnTo>
                  <a:lnTo>
                    <a:pt x="550" y="8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1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69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1" y="77"/>
                  </a:lnTo>
                  <a:lnTo>
                    <a:pt x="738" y="88"/>
                  </a:lnTo>
                  <a:lnTo>
                    <a:pt x="754" y="101"/>
                  </a:lnTo>
                  <a:lnTo>
                    <a:pt x="769" y="115"/>
                  </a:lnTo>
                  <a:lnTo>
                    <a:pt x="788" y="133"/>
                  </a:lnTo>
                  <a:lnTo>
                    <a:pt x="806" y="152"/>
                  </a:lnTo>
                  <a:lnTo>
                    <a:pt x="824" y="172"/>
                  </a:lnTo>
                  <a:lnTo>
                    <a:pt x="839" y="192"/>
                  </a:lnTo>
                  <a:lnTo>
                    <a:pt x="853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0" y="306"/>
                  </a:lnTo>
                  <a:lnTo>
                    <a:pt x="909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7" y="406"/>
                  </a:lnTo>
                  <a:lnTo>
                    <a:pt x="930" y="432"/>
                  </a:lnTo>
                  <a:lnTo>
                    <a:pt x="932" y="458"/>
                  </a:lnTo>
                  <a:lnTo>
                    <a:pt x="933" y="484"/>
                  </a:lnTo>
                  <a:lnTo>
                    <a:pt x="932" y="510"/>
                  </a:lnTo>
                  <a:lnTo>
                    <a:pt x="930" y="537"/>
                  </a:lnTo>
                  <a:lnTo>
                    <a:pt x="927" y="562"/>
                  </a:lnTo>
                  <a:lnTo>
                    <a:pt x="922" y="588"/>
                  </a:lnTo>
                  <a:lnTo>
                    <a:pt x="917" y="613"/>
                  </a:lnTo>
                  <a:lnTo>
                    <a:pt x="908" y="638"/>
                  </a:lnTo>
                  <a:lnTo>
                    <a:pt x="900" y="662"/>
                  </a:lnTo>
                  <a:lnTo>
                    <a:pt x="890" y="687"/>
                  </a:lnTo>
                  <a:lnTo>
                    <a:pt x="879" y="710"/>
                  </a:lnTo>
                  <a:lnTo>
                    <a:pt x="866" y="734"/>
                  </a:lnTo>
                  <a:lnTo>
                    <a:pt x="853" y="755"/>
                  </a:lnTo>
                  <a:lnTo>
                    <a:pt x="839" y="777"/>
                  </a:lnTo>
                  <a:lnTo>
                    <a:pt x="823" y="798"/>
                  </a:lnTo>
                  <a:lnTo>
                    <a:pt x="806" y="817"/>
                  </a:lnTo>
                  <a:lnTo>
                    <a:pt x="788" y="837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2"/>
                  </a:lnTo>
                  <a:lnTo>
                    <a:pt x="721" y="893"/>
                  </a:lnTo>
                  <a:lnTo>
                    <a:pt x="704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49" y="933"/>
                  </a:lnTo>
                  <a:lnTo>
                    <a:pt x="631" y="940"/>
                  </a:lnTo>
                  <a:lnTo>
                    <a:pt x="610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29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1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7"/>
                  </a:lnTo>
                  <a:lnTo>
                    <a:pt x="125" y="817"/>
                  </a:lnTo>
                  <a:lnTo>
                    <a:pt x="108" y="798"/>
                  </a:lnTo>
                  <a:lnTo>
                    <a:pt x="92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7"/>
                  </a:lnTo>
                  <a:lnTo>
                    <a:pt x="31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7"/>
                  </a:lnTo>
                  <a:lnTo>
                    <a:pt x="0" y="510"/>
                  </a:lnTo>
                  <a:lnTo>
                    <a:pt x="0" y="484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5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5"/>
                  </a:lnTo>
                  <a:lnTo>
                    <a:pt x="41" y="282"/>
                  </a:lnTo>
                  <a:lnTo>
                    <a:pt x="52" y="259"/>
                  </a:lnTo>
                  <a:lnTo>
                    <a:pt x="64" y="235"/>
                  </a:lnTo>
                  <a:lnTo>
                    <a:pt x="77" y="214"/>
                  </a:lnTo>
                  <a:lnTo>
                    <a:pt x="92" y="192"/>
                  </a:lnTo>
                  <a:lnTo>
                    <a:pt x="108" y="172"/>
                  </a:lnTo>
                  <a:lnTo>
                    <a:pt x="124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7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1" y="37"/>
                  </a:lnTo>
                  <a:lnTo>
                    <a:pt x="301" y="29"/>
                  </a:lnTo>
                  <a:lnTo>
                    <a:pt x="320" y="23"/>
                  </a:lnTo>
                  <a:lnTo>
                    <a:pt x="340" y="17"/>
                  </a:lnTo>
                  <a:lnTo>
                    <a:pt x="360" y="12"/>
                  </a:lnTo>
                  <a:lnTo>
                    <a:pt x="380" y="8"/>
                  </a:lnTo>
                  <a:lnTo>
                    <a:pt x="401" y="5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532480" y="1338120"/>
              <a:ext cx="196920" cy="300240"/>
            </a:xfrm>
            <a:custGeom>
              <a:avLst/>
              <a:gdLst/>
              <a:ahLst/>
              <a:rect l="l" t="t" r="r" b="b"/>
              <a:pathLst>
                <a:path w="620" h="944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9" y="617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3" y="694"/>
                  </a:lnTo>
                  <a:lnTo>
                    <a:pt x="610" y="714"/>
                  </a:lnTo>
                  <a:lnTo>
                    <a:pt x="607" y="733"/>
                  </a:lnTo>
                  <a:lnTo>
                    <a:pt x="602" y="751"/>
                  </a:lnTo>
                  <a:lnTo>
                    <a:pt x="596" y="767"/>
                  </a:lnTo>
                  <a:lnTo>
                    <a:pt x="591" y="781"/>
                  </a:lnTo>
                  <a:lnTo>
                    <a:pt x="584" y="797"/>
                  </a:lnTo>
                  <a:lnTo>
                    <a:pt x="577" y="811"/>
                  </a:lnTo>
                  <a:lnTo>
                    <a:pt x="569" y="824"/>
                  </a:lnTo>
                  <a:lnTo>
                    <a:pt x="561" y="837"/>
                  </a:lnTo>
                  <a:lnTo>
                    <a:pt x="550" y="850"/>
                  </a:lnTo>
                  <a:lnTo>
                    <a:pt x="540" y="861"/>
                  </a:lnTo>
                  <a:lnTo>
                    <a:pt x="530" y="871"/>
                  </a:lnTo>
                  <a:lnTo>
                    <a:pt x="520" y="879"/>
                  </a:lnTo>
                  <a:lnTo>
                    <a:pt x="509" y="888"/>
                  </a:lnTo>
                  <a:lnTo>
                    <a:pt x="496" y="897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7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1"/>
                  </a:lnTo>
                  <a:lnTo>
                    <a:pt x="345" y="943"/>
                  </a:lnTo>
                  <a:lnTo>
                    <a:pt x="328" y="944"/>
                  </a:lnTo>
                  <a:lnTo>
                    <a:pt x="311" y="944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8" y="941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09" y="932"/>
                  </a:lnTo>
                  <a:lnTo>
                    <a:pt x="194" y="928"/>
                  </a:lnTo>
                  <a:lnTo>
                    <a:pt x="179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7"/>
                  </a:lnTo>
                  <a:lnTo>
                    <a:pt x="112" y="888"/>
                  </a:lnTo>
                  <a:lnTo>
                    <a:pt x="101" y="879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1" y="850"/>
                  </a:lnTo>
                  <a:lnTo>
                    <a:pt x="60" y="836"/>
                  </a:lnTo>
                  <a:lnTo>
                    <a:pt x="52" y="823"/>
                  </a:lnTo>
                  <a:lnTo>
                    <a:pt x="43" y="810"/>
                  </a:lnTo>
                  <a:lnTo>
                    <a:pt x="36" y="796"/>
                  </a:lnTo>
                  <a:lnTo>
                    <a:pt x="30" y="780"/>
                  </a:lnTo>
                  <a:lnTo>
                    <a:pt x="24" y="765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4" y="668"/>
                  </a:lnTo>
                  <a:lnTo>
                    <a:pt x="2" y="644"/>
                  </a:lnTo>
                  <a:lnTo>
                    <a:pt x="1" y="616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5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5"/>
                  </a:lnTo>
                  <a:lnTo>
                    <a:pt x="249" y="648"/>
                  </a:lnTo>
                  <a:lnTo>
                    <a:pt x="252" y="657"/>
                  </a:lnTo>
                  <a:lnTo>
                    <a:pt x="256" y="665"/>
                  </a:lnTo>
                  <a:lnTo>
                    <a:pt x="260" y="673"/>
                  </a:lnTo>
                  <a:lnTo>
                    <a:pt x="266" y="679"/>
                  </a:lnTo>
                  <a:lnTo>
                    <a:pt x="271" y="684"/>
                  </a:lnTo>
                  <a:lnTo>
                    <a:pt x="278" y="688"/>
                  </a:lnTo>
                  <a:lnTo>
                    <a:pt x="285" y="693"/>
                  </a:lnTo>
                  <a:lnTo>
                    <a:pt x="292" y="695"/>
                  </a:lnTo>
                  <a:lnTo>
                    <a:pt x="301" y="696"/>
                  </a:lnTo>
                  <a:lnTo>
                    <a:pt x="311" y="697"/>
                  </a:lnTo>
                  <a:lnTo>
                    <a:pt x="320" y="696"/>
                  </a:lnTo>
                  <a:lnTo>
                    <a:pt x="328" y="695"/>
                  </a:lnTo>
                  <a:lnTo>
                    <a:pt x="336" y="691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8"/>
                  </a:lnTo>
                  <a:lnTo>
                    <a:pt x="361" y="672"/>
                  </a:lnTo>
                  <a:lnTo>
                    <a:pt x="366" y="665"/>
                  </a:lnTo>
                  <a:lnTo>
                    <a:pt x="369" y="657"/>
                  </a:lnTo>
                  <a:lnTo>
                    <a:pt x="373" y="647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79" y="608"/>
                  </a:lnTo>
                  <a:lnTo>
                    <a:pt x="381" y="593"/>
                  </a:lnTo>
                  <a:lnTo>
                    <a:pt x="381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749920" y="1332000"/>
              <a:ext cx="147600" cy="206280"/>
            </a:xfrm>
            <a:custGeom>
              <a:avLst/>
              <a:gdLst/>
              <a:ahLst/>
              <a:rect l="l" t="t" r="r" b="b"/>
              <a:pathLst>
                <a:path w="467" h="654">
                  <a:moveTo>
                    <a:pt x="134" y="654"/>
                  </a:moveTo>
                  <a:lnTo>
                    <a:pt x="134" y="521"/>
                  </a:lnTo>
                  <a:lnTo>
                    <a:pt x="134" y="511"/>
                  </a:lnTo>
                  <a:lnTo>
                    <a:pt x="134" y="502"/>
                  </a:lnTo>
                  <a:lnTo>
                    <a:pt x="134" y="493"/>
                  </a:lnTo>
                  <a:lnTo>
                    <a:pt x="135" y="485"/>
                  </a:lnTo>
                  <a:lnTo>
                    <a:pt x="136" y="477"/>
                  </a:lnTo>
                  <a:lnTo>
                    <a:pt x="137" y="469"/>
                  </a:lnTo>
                  <a:lnTo>
                    <a:pt x="139" y="462"/>
                  </a:lnTo>
                  <a:lnTo>
                    <a:pt x="140" y="454"/>
                  </a:lnTo>
                  <a:lnTo>
                    <a:pt x="142" y="447"/>
                  </a:lnTo>
                  <a:lnTo>
                    <a:pt x="144" y="440"/>
                  </a:lnTo>
                  <a:lnTo>
                    <a:pt x="147" y="433"/>
                  </a:lnTo>
                  <a:lnTo>
                    <a:pt x="149" y="426"/>
                  </a:lnTo>
                  <a:lnTo>
                    <a:pt x="152" y="419"/>
                  </a:lnTo>
                  <a:lnTo>
                    <a:pt x="155" y="412"/>
                  </a:lnTo>
                  <a:lnTo>
                    <a:pt x="160" y="404"/>
                  </a:lnTo>
                  <a:lnTo>
                    <a:pt x="164" y="397"/>
                  </a:lnTo>
                  <a:lnTo>
                    <a:pt x="165" y="393"/>
                  </a:lnTo>
                  <a:lnTo>
                    <a:pt x="167" y="390"/>
                  </a:lnTo>
                  <a:lnTo>
                    <a:pt x="170" y="385"/>
                  </a:lnTo>
                  <a:lnTo>
                    <a:pt x="172" y="381"/>
                  </a:lnTo>
                  <a:lnTo>
                    <a:pt x="175" y="376"/>
                  </a:lnTo>
                  <a:lnTo>
                    <a:pt x="178" y="371"/>
                  </a:lnTo>
                  <a:lnTo>
                    <a:pt x="182" y="366"/>
                  </a:lnTo>
                  <a:lnTo>
                    <a:pt x="186" y="360"/>
                  </a:lnTo>
                  <a:lnTo>
                    <a:pt x="193" y="348"/>
                  </a:lnTo>
                  <a:lnTo>
                    <a:pt x="200" y="337"/>
                  </a:lnTo>
                  <a:lnTo>
                    <a:pt x="205" y="327"/>
                  </a:lnTo>
                  <a:lnTo>
                    <a:pt x="211" y="317"/>
                  </a:lnTo>
                  <a:lnTo>
                    <a:pt x="214" y="309"/>
                  </a:lnTo>
                  <a:lnTo>
                    <a:pt x="217" y="300"/>
                  </a:lnTo>
                  <a:lnTo>
                    <a:pt x="218" y="292"/>
                  </a:lnTo>
                  <a:lnTo>
                    <a:pt x="219" y="286"/>
                  </a:lnTo>
                  <a:lnTo>
                    <a:pt x="219" y="281"/>
                  </a:lnTo>
                  <a:lnTo>
                    <a:pt x="218" y="276"/>
                  </a:lnTo>
                  <a:lnTo>
                    <a:pt x="217" y="271"/>
                  </a:lnTo>
                  <a:lnTo>
                    <a:pt x="216" y="267"/>
                  </a:lnTo>
                  <a:lnTo>
                    <a:pt x="214" y="263"/>
                  </a:lnTo>
                  <a:lnTo>
                    <a:pt x="212" y="259"/>
                  </a:lnTo>
                  <a:lnTo>
                    <a:pt x="210" y="255"/>
                  </a:lnTo>
                  <a:lnTo>
                    <a:pt x="206" y="252"/>
                  </a:lnTo>
                  <a:lnTo>
                    <a:pt x="203" y="249"/>
                  </a:lnTo>
                  <a:lnTo>
                    <a:pt x="200" y="247"/>
                  </a:lnTo>
                  <a:lnTo>
                    <a:pt x="197" y="245"/>
                  </a:lnTo>
                  <a:lnTo>
                    <a:pt x="193" y="243"/>
                  </a:lnTo>
                  <a:lnTo>
                    <a:pt x="189" y="242"/>
                  </a:lnTo>
                  <a:lnTo>
                    <a:pt x="184" y="241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0" y="240"/>
                  </a:lnTo>
                  <a:lnTo>
                    <a:pt x="165" y="241"/>
                  </a:lnTo>
                  <a:lnTo>
                    <a:pt x="160" y="242"/>
                  </a:lnTo>
                  <a:lnTo>
                    <a:pt x="154" y="243"/>
                  </a:lnTo>
                  <a:lnTo>
                    <a:pt x="149" y="245"/>
                  </a:lnTo>
                  <a:lnTo>
                    <a:pt x="145" y="247"/>
                  </a:lnTo>
                  <a:lnTo>
                    <a:pt x="140" y="249"/>
                  </a:lnTo>
                  <a:lnTo>
                    <a:pt x="135" y="252"/>
                  </a:lnTo>
                  <a:lnTo>
                    <a:pt x="130" y="255"/>
                  </a:lnTo>
                  <a:lnTo>
                    <a:pt x="126" y="260"/>
                  </a:lnTo>
                  <a:lnTo>
                    <a:pt x="122" y="264"/>
                  </a:lnTo>
                  <a:lnTo>
                    <a:pt x="118" y="267"/>
                  </a:lnTo>
                  <a:lnTo>
                    <a:pt x="114" y="272"/>
                  </a:lnTo>
                  <a:lnTo>
                    <a:pt x="109" y="276"/>
                  </a:lnTo>
                  <a:lnTo>
                    <a:pt x="106" y="281"/>
                  </a:lnTo>
                  <a:lnTo>
                    <a:pt x="103" y="286"/>
                  </a:lnTo>
                  <a:lnTo>
                    <a:pt x="0" y="144"/>
                  </a:lnTo>
                  <a:lnTo>
                    <a:pt x="12" y="127"/>
                  </a:lnTo>
                  <a:lnTo>
                    <a:pt x="24" y="111"/>
                  </a:lnTo>
                  <a:lnTo>
                    <a:pt x="37" y="95"/>
                  </a:lnTo>
                  <a:lnTo>
                    <a:pt x="49" y="82"/>
                  </a:lnTo>
                  <a:lnTo>
                    <a:pt x="63" y="69"/>
                  </a:lnTo>
                  <a:lnTo>
                    <a:pt x="77" y="57"/>
                  </a:lnTo>
                  <a:lnTo>
                    <a:pt x="90" y="46"/>
                  </a:lnTo>
                  <a:lnTo>
                    <a:pt x="105" y="36"/>
                  </a:lnTo>
                  <a:lnTo>
                    <a:pt x="120" y="28"/>
                  </a:lnTo>
                  <a:lnTo>
                    <a:pt x="135" y="21"/>
                  </a:lnTo>
                  <a:lnTo>
                    <a:pt x="151" y="15"/>
                  </a:lnTo>
                  <a:lnTo>
                    <a:pt x="167" y="10"/>
                  </a:lnTo>
                  <a:lnTo>
                    <a:pt x="183" y="6"/>
                  </a:lnTo>
                  <a:lnTo>
                    <a:pt x="200" y="3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47" y="0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3" y="5"/>
                  </a:lnTo>
                  <a:lnTo>
                    <a:pt x="294" y="7"/>
                  </a:lnTo>
                  <a:lnTo>
                    <a:pt x="305" y="10"/>
                  </a:lnTo>
                  <a:lnTo>
                    <a:pt x="316" y="14"/>
                  </a:lnTo>
                  <a:lnTo>
                    <a:pt x="326" y="17"/>
                  </a:lnTo>
                  <a:lnTo>
                    <a:pt x="336" y="22"/>
                  </a:lnTo>
                  <a:lnTo>
                    <a:pt x="346" y="27"/>
                  </a:lnTo>
                  <a:lnTo>
                    <a:pt x="357" y="32"/>
                  </a:lnTo>
                  <a:lnTo>
                    <a:pt x="366" y="38"/>
                  </a:lnTo>
                  <a:lnTo>
                    <a:pt x="375" y="44"/>
                  </a:lnTo>
                  <a:lnTo>
                    <a:pt x="384" y="51"/>
                  </a:lnTo>
                  <a:lnTo>
                    <a:pt x="392" y="60"/>
                  </a:lnTo>
                  <a:lnTo>
                    <a:pt x="401" y="68"/>
                  </a:lnTo>
                  <a:lnTo>
                    <a:pt x="409" y="76"/>
                  </a:lnTo>
                  <a:lnTo>
                    <a:pt x="417" y="85"/>
                  </a:lnTo>
                  <a:lnTo>
                    <a:pt x="423" y="93"/>
                  </a:lnTo>
                  <a:lnTo>
                    <a:pt x="430" y="103"/>
                  </a:lnTo>
                  <a:lnTo>
                    <a:pt x="435" y="113"/>
                  </a:lnTo>
                  <a:lnTo>
                    <a:pt x="441" y="123"/>
                  </a:lnTo>
                  <a:lnTo>
                    <a:pt x="446" y="132"/>
                  </a:lnTo>
                  <a:lnTo>
                    <a:pt x="451" y="143"/>
                  </a:lnTo>
                  <a:lnTo>
                    <a:pt x="455" y="153"/>
                  </a:lnTo>
                  <a:lnTo>
                    <a:pt x="458" y="165"/>
                  </a:lnTo>
                  <a:lnTo>
                    <a:pt x="461" y="176"/>
                  </a:lnTo>
                  <a:lnTo>
                    <a:pt x="463" y="187"/>
                  </a:lnTo>
                  <a:lnTo>
                    <a:pt x="465" y="198"/>
                  </a:lnTo>
                  <a:lnTo>
                    <a:pt x="466" y="211"/>
                  </a:lnTo>
                  <a:lnTo>
                    <a:pt x="467" y="223"/>
                  </a:lnTo>
                  <a:lnTo>
                    <a:pt x="467" y="235"/>
                  </a:lnTo>
                  <a:lnTo>
                    <a:pt x="466" y="253"/>
                  </a:lnTo>
                  <a:lnTo>
                    <a:pt x="463" y="273"/>
                  </a:lnTo>
                  <a:lnTo>
                    <a:pt x="459" y="293"/>
                  </a:lnTo>
                  <a:lnTo>
                    <a:pt x="452" y="314"/>
                  </a:lnTo>
                  <a:lnTo>
                    <a:pt x="443" y="335"/>
                  </a:lnTo>
                  <a:lnTo>
                    <a:pt x="433" y="357"/>
                  </a:lnTo>
                  <a:lnTo>
                    <a:pt x="420" y="381"/>
                  </a:lnTo>
                  <a:lnTo>
                    <a:pt x="406" y="404"/>
                  </a:lnTo>
                  <a:lnTo>
                    <a:pt x="403" y="409"/>
                  </a:lnTo>
                  <a:lnTo>
                    <a:pt x="398" y="416"/>
                  </a:lnTo>
                  <a:lnTo>
                    <a:pt x="395" y="421"/>
                  </a:lnTo>
                  <a:lnTo>
                    <a:pt x="392" y="426"/>
                  </a:lnTo>
                  <a:lnTo>
                    <a:pt x="390" y="430"/>
                  </a:lnTo>
                  <a:lnTo>
                    <a:pt x="387" y="434"/>
                  </a:lnTo>
                  <a:lnTo>
                    <a:pt x="385" y="437"/>
                  </a:lnTo>
                  <a:lnTo>
                    <a:pt x="383" y="440"/>
                  </a:lnTo>
                  <a:lnTo>
                    <a:pt x="380" y="446"/>
                  </a:lnTo>
                  <a:lnTo>
                    <a:pt x="377" y="453"/>
                  </a:lnTo>
                  <a:lnTo>
                    <a:pt x="374" y="460"/>
                  </a:lnTo>
                  <a:lnTo>
                    <a:pt x="371" y="468"/>
                  </a:lnTo>
                  <a:lnTo>
                    <a:pt x="368" y="475"/>
                  </a:lnTo>
                  <a:lnTo>
                    <a:pt x="366" y="483"/>
                  </a:lnTo>
                  <a:lnTo>
                    <a:pt x="364" y="491"/>
                  </a:lnTo>
                  <a:lnTo>
                    <a:pt x="362" y="500"/>
                  </a:lnTo>
                  <a:lnTo>
                    <a:pt x="361" y="509"/>
                  </a:lnTo>
                  <a:lnTo>
                    <a:pt x="359" y="519"/>
                  </a:lnTo>
                  <a:lnTo>
                    <a:pt x="358" y="529"/>
                  </a:lnTo>
                  <a:lnTo>
                    <a:pt x="357" y="539"/>
                  </a:lnTo>
                  <a:lnTo>
                    <a:pt x="356" y="549"/>
                  </a:lnTo>
                  <a:lnTo>
                    <a:pt x="356" y="560"/>
                  </a:lnTo>
                  <a:lnTo>
                    <a:pt x="356" y="572"/>
                  </a:lnTo>
                  <a:lnTo>
                    <a:pt x="356" y="584"/>
                  </a:lnTo>
                  <a:lnTo>
                    <a:pt x="356" y="654"/>
                  </a:lnTo>
                  <a:lnTo>
                    <a:pt x="134" y="6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792760" y="1555920"/>
              <a:ext cx="69840" cy="745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825640" y="1832040"/>
              <a:ext cx="76320" cy="291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930400" y="183204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5" y="233"/>
                  </a:moveTo>
                  <a:lnTo>
                    <a:pt x="425" y="921"/>
                  </a:lnTo>
                  <a:lnTo>
                    <a:pt x="186" y="921"/>
                  </a:lnTo>
                  <a:lnTo>
                    <a:pt x="186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7" y="0"/>
                  </a:lnTo>
                  <a:lnTo>
                    <a:pt x="613" y="233"/>
                  </a:lnTo>
                  <a:lnTo>
                    <a:pt x="425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270240" y="1832040"/>
              <a:ext cx="76320" cy="291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387600" y="1827360"/>
              <a:ext cx="15408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8" y="937"/>
                  </a:moveTo>
                  <a:lnTo>
                    <a:pt x="12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5" y="708"/>
                  </a:lnTo>
                  <a:lnTo>
                    <a:pt x="110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5" y="703"/>
                  </a:lnTo>
                  <a:lnTo>
                    <a:pt x="154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0" y="681"/>
                  </a:lnTo>
                  <a:lnTo>
                    <a:pt x="185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2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1" y="512"/>
                  </a:lnTo>
                  <a:lnTo>
                    <a:pt x="107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3" y="473"/>
                  </a:lnTo>
                  <a:lnTo>
                    <a:pt x="63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6"/>
                  </a:lnTo>
                  <a:lnTo>
                    <a:pt x="18" y="384"/>
                  </a:lnTo>
                  <a:lnTo>
                    <a:pt x="14" y="369"/>
                  </a:lnTo>
                  <a:lnTo>
                    <a:pt x="10" y="356"/>
                  </a:lnTo>
                  <a:lnTo>
                    <a:pt x="5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9" y="211"/>
                  </a:lnTo>
                  <a:lnTo>
                    <a:pt x="13" y="197"/>
                  </a:lnTo>
                  <a:lnTo>
                    <a:pt x="17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8" y="111"/>
                  </a:lnTo>
                  <a:lnTo>
                    <a:pt x="67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10" y="61"/>
                  </a:lnTo>
                  <a:lnTo>
                    <a:pt x="121" y="53"/>
                  </a:lnTo>
                  <a:lnTo>
                    <a:pt x="133" y="45"/>
                  </a:lnTo>
                  <a:lnTo>
                    <a:pt x="146" y="38"/>
                  </a:lnTo>
                  <a:lnTo>
                    <a:pt x="160" y="32"/>
                  </a:lnTo>
                  <a:lnTo>
                    <a:pt x="173" y="26"/>
                  </a:lnTo>
                  <a:lnTo>
                    <a:pt x="186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0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4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3" y="6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1" y="11"/>
                  </a:lnTo>
                  <a:lnTo>
                    <a:pt x="430" y="13"/>
                  </a:lnTo>
                  <a:lnTo>
                    <a:pt x="439" y="15"/>
                  </a:lnTo>
                  <a:lnTo>
                    <a:pt x="449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2" y="245"/>
                  </a:lnTo>
                  <a:lnTo>
                    <a:pt x="445" y="242"/>
                  </a:lnTo>
                  <a:lnTo>
                    <a:pt x="437" y="239"/>
                  </a:lnTo>
                  <a:lnTo>
                    <a:pt x="430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5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0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4" y="222"/>
                  </a:lnTo>
                  <a:lnTo>
                    <a:pt x="343" y="222"/>
                  </a:lnTo>
                  <a:lnTo>
                    <a:pt x="333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9" y="233"/>
                  </a:lnTo>
                  <a:lnTo>
                    <a:pt x="302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2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50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0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6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1" y="720"/>
                  </a:lnTo>
                  <a:lnTo>
                    <a:pt x="478" y="735"/>
                  </a:lnTo>
                  <a:lnTo>
                    <a:pt x="474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2" y="804"/>
                  </a:lnTo>
                  <a:lnTo>
                    <a:pt x="445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7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9" y="898"/>
                  </a:lnTo>
                  <a:lnTo>
                    <a:pt x="346" y="906"/>
                  </a:lnTo>
                  <a:lnTo>
                    <a:pt x="331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4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1" y="947"/>
                  </a:lnTo>
                  <a:lnTo>
                    <a:pt x="181" y="949"/>
                  </a:lnTo>
                  <a:lnTo>
                    <a:pt x="162" y="950"/>
                  </a:lnTo>
                  <a:lnTo>
                    <a:pt x="141" y="950"/>
                  </a:lnTo>
                  <a:lnTo>
                    <a:pt x="133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70" y="946"/>
                  </a:lnTo>
                  <a:lnTo>
                    <a:pt x="63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5" y="939"/>
                  </a:lnTo>
                  <a:lnTo>
                    <a:pt x="18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692520" y="1832040"/>
              <a:ext cx="217440" cy="291960"/>
            </a:xfrm>
            <a:custGeom>
              <a:avLst/>
              <a:gdLst/>
              <a:ahLst/>
              <a:rect l="l" t="t" r="r" b="b"/>
              <a:pathLst>
                <a:path w="686" h="921">
                  <a:moveTo>
                    <a:pt x="0" y="921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9" y="404"/>
                  </a:lnTo>
                  <a:lnTo>
                    <a:pt x="449" y="0"/>
                  </a:lnTo>
                  <a:lnTo>
                    <a:pt x="686" y="0"/>
                  </a:lnTo>
                  <a:lnTo>
                    <a:pt x="686" y="921"/>
                  </a:lnTo>
                  <a:lnTo>
                    <a:pt x="578" y="921"/>
                  </a:lnTo>
                  <a:lnTo>
                    <a:pt x="239" y="522"/>
                  </a:lnTo>
                  <a:lnTo>
                    <a:pt x="239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4025880" y="1905120"/>
              <a:ext cx="138240" cy="14436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7" y="1"/>
                  </a:lnTo>
                  <a:lnTo>
                    <a:pt x="196" y="1"/>
                  </a:lnTo>
                  <a:lnTo>
                    <a:pt x="185" y="3"/>
                  </a:lnTo>
                  <a:lnTo>
                    <a:pt x="175" y="4"/>
                  </a:lnTo>
                  <a:lnTo>
                    <a:pt x="163" y="7"/>
                  </a:lnTo>
                  <a:lnTo>
                    <a:pt x="153" y="9"/>
                  </a:lnTo>
                  <a:lnTo>
                    <a:pt x="143" y="13"/>
                  </a:lnTo>
                  <a:lnTo>
                    <a:pt x="134" y="16"/>
                  </a:lnTo>
                  <a:lnTo>
                    <a:pt x="123" y="21"/>
                  </a:lnTo>
                  <a:lnTo>
                    <a:pt x="114" y="25"/>
                  </a:lnTo>
                  <a:lnTo>
                    <a:pt x="105" y="32"/>
                  </a:lnTo>
                  <a:lnTo>
                    <a:pt x="96" y="37"/>
                  </a:lnTo>
                  <a:lnTo>
                    <a:pt x="88" y="44"/>
                  </a:lnTo>
                  <a:lnTo>
                    <a:pt x="79" y="51"/>
                  </a:lnTo>
                  <a:lnTo>
                    <a:pt x="70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6" y="101"/>
                  </a:lnTo>
                  <a:lnTo>
                    <a:pt x="30" y="110"/>
                  </a:lnTo>
                  <a:lnTo>
                    <a:pt x="24" y="119"/>
                  </a:lnTo>
                  <a:lnTo>
                    <a:pt x="19" y="129"/>
                  </a:lnTo>
                  <a:lnTo>
                    <a:pt x="15" y="140"/>
                  </a:lnTo>
                  <a:lnTo>
                    <a:pt x="12" y="150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1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0" y="241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5"/>
                  </a:lnTo>
                  <a:lnTo>
                    <a:pt x="8" y="297"/>
                  </a:lnTo>
                  <a:lnTo>
                    <a:pt x="12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8"/>
                  </a:lnTo>
                  <a:lnTo>
                    <a:pt x="30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2" y="391"/>
                  </a:lnTo>
                  <a:lnTo>
                    <a:pt x="70" y="399"/>
                  </a:lnTo>
                  <a:lnTo>
                    <a:pt x="79" y="406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5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5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5"/>
                  </a:lnTo>
                  <a:lnTo>
                    <a:pt x="324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59" y="406"/>
                  </a:lnTo>
                  <a:lnTo>
                    <a:pt x="368" y="399"/>
                  </a:lnTo>
                  <a:lnTo>
                    <a:pt x="375" y="391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6" y="365"/>
                  </a:lnTo>
                  <a:lnTo>
                    <a:pt x="402" y="356"/>
                  </a:lnTo>
                  <a:lnTo>
                    <a:pt x="408" y="347"/>
                  </a:lnTo>
                  <a:lnTo>
                    <a:pt x="413" y="336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7"/>
                  </a:lnTo>
                  <a:lnTo>
                    <a:pt x="429" y="297"/>
                  </a:lnTo>
                  <a:lnTo>
                    <a:pt x="432" y="285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8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3" y="140"/>
                  </a:lnTo>
                  <a:lnTo>
                    <a:pt x="419" y="129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4"/>
                  </a:lnTo>
                  <a:lnTo>
                    <a:pt x="375" y="66"/>
                  </a:lnTo>
                  <a:lnTo>
                    <a:pt x="368" y="58"/>
                  </a:lnTo>
                  <a:lnTo>
                    <a:pt x="359" y="51"/>
                  </a:lnTo>
                  <a:lnTo>
                    <a:pt x="350" y="44"/>
                  </a:lnTo>
                  <a:lnTo>
                    <a:pt x="342" y="38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4" y="21"/>
                  </a:lnTo>
                  <a:lnTo>
                    <a:pt x="304" y="16"/>
                  </a:lnTo>
                  <a:lnTo>
                    <a:pt x="295" y="13"/>
                  </a:lnTo>
                  <a:lnTo>
                    <a:pt x="285" y="9"/>
                  </a:lnTo>
                  <a:lnTo>
                    <a:pt x="275" y="7"/>
                  </a:lnTo>
                  <a:lnTo>
                    <a:pt x="263" y="4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1" y="1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946680" y="1824120"/>
              <a:ext cx="29664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5" y="0"/>
                  </a:moveTo>
                  <a:lnTo>
                    <a:pt x="487" y="1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29"/>
                  </a:lnTo>
                  <a:lnTo>
                    <a:pt x="651" y="38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3" y="76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4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4" y="214"/>
                  </a:lnTo>
                  <a:lnTo>
                    <a:pt x="868" y="237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1" y="307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0" y="663"/>
                  </a:lnTo>
                  <a:lnTo>
                    <a:pt x="891" y="687"/>
                  </a:lnTo>
                  <a:lnTo>
                    <a:pt x="880" y="711"/>
                  </a:lnTo>
                  <a:lnTo>
                    <a:pt x="868" y="733"/>
                  </a:lnTo>
                  <a:lnTo>
                    <a:pt x="853" y="756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6" y="818"/>
                  </a:lnTo>
                  <a:lnTo>
                    <a:pt x="789" y="837"/>
                  </a:lnTo>
                  <a:lnTo>
                    <a:pt x="770" y="856"/>
                  </a:lnTo>
                  <a:lnTo>
                    <a:pt x="754" y="869"/>
                  </a:lnTo>
                  <a:lnTo>
                    <a:pt x="738" y="881"/>
                  </a:lnTo>
                  <a:lnTo>
                    <a:pt x="722" y="893"/>
                  </a:lnTo>
                  <a:lnTo>
                    <a:pt x="704" y="905"/>
                  </a:lnTo>
                  <a:lnTo>
                    <a:pt x="687" y="915"/>
                  </a:lnTo>
                  <a:lnTo>
                    <a:pt x="669" y="924"/>
                  </a:lnTo>
                  <a:lnTo>
                    <a:pt x="650" y="932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4"/>
                  </a:lnTo>
                  <a:lnTo>
                    <a:pt x="571" y="959"/>
                  </a:lnTo>
                  <a:lnTo>
                    <a:pt x="550" y="963"/>
                  </a:lnTo>
                  <a:lnTo>
                    <a:pt x="530" y="966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6"/>
                  </a:lnTo>
                  <a:lnTo>
                    <a:pt x="381" y="963"/>
                  </a:lnTo>
                  <a:lnTo>
                    <a:pt x="360" y="959"/>
                  </a:lnTo>
                  <a:lnTo>
                    <a:pt x="341" y="954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2" y="932"/>
                  </a:lnTo>
                  <a:lnTo>
                    <a:pt x="263" y="924"/>
                  </a:lnTo>
                  <a:lnTo>
                    <a:pt x="245" y="915"/>
                  </a:lnTo>
                  <a:lnTo>
                    <a:pt x="227" y="905"/>
                  </a:lnTo>
                  <a:lnTo>
                    <a:pt x="210" y="893"/>
                  </a:lnTo>
                  <a:lnTo>
                    <a:pt x="194" y="881"/>
                  </a:lnTo>
                  <a:lnTo>
                    <a:pt x="177" y="869"/>
                  </a:lnTo>
                  <a:lnTo>
                    <a:pt x="162" y="856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9"/>
                  </a:lnTo>
                  <a:lnTo>
                    <a:pt x="93" y="777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3" y="638"/>
                  </a:lnTo>
                  <a:lnTo>
                    <a:pt x="16" y="614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4"/>
                  </a:lnTo>
                  <a:lnTo>
                    <a:pt x="1" y="458"/>
                  </a:lnTo>
                  <a:lnTo>
                    <a:pt x="3" y="431"/>
                  </a:lnTo>
                  <a:lnTo>
                    <a:pt x="6" y="406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6"/>
                  </a:lnTo>
                  <a:lnTo>
                    <a:pt x="42" y="281"/>
                  </a:lnTo>
                  <a:lnTo>
                    <a:pt x="53" y="258"/>
                  </a:lnTo>
                  <a:lnTo>
                    <a:pt x="65" y="235"/>
                  </a:lnTo>
                  <a:lnTo>
                    <a:pt x="78" y="214"/>
                  </a:lnTo>
                  <a:lnTo>
                    <a:pt x="93" y="193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9"/>
                  </a:lnTo>
                  <a:lnTo>
                    <a:pt x="210" y="76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2" y="38"/>
                  </a:lnTo>
                  <a:lnTo>
                    <a:pt x="301" y="29"/>
                  </a:lnTo>
                  <a:lnTo>
                    <a:pt x="320" y="22"/>
                  </a:lnTo>
                  <a:lnTo>
                    <a:pt x="341" y="16"/>
                  </a:lnTo>
                  <a:lnTo>
                    <a:pt x="360" y="12"/>
                  </a:lnTo>
                  <a:lnTo>
                    <a:pt x="381" y="8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1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255920" y="1832040"/>
              <a:ext cx="19368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3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579920" y="1827360"/>
              <a:ext cx="1555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2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1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4" y="486"/>
                  </a:lnTo>
                  <a:lnTo>
                    <a:pt x="73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4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7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2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3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2" y="9"/>
                  </a:lnTo>
                  <a:lnTo>
                    <a:pt x="422" y="11"/>
                  </a:lnTo>
                  <a:lnTo>
                    <a:pt x="431" y="13"/>
                  </a:lnTo>
                  <a:lnTo>
                    <a:pt x="439" y="15"/>
                  </a:lnTo>
                  <a:lnTo>
                    <a:pt x="448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3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6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5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8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1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0" y="947"/>
                  </a:lnTo>
                  <a:lnTo>
                    <a:pt x="181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6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3" y="941"/>
                  </a:lnTo>
                  <a:lnTo>
                    <a:pt x="25" y="939"/>
                  </a:lnTo>
                  <a:lnTo>
                    <a:pt x="17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856040" y="1919160"/>
              <a:ext cx="60480" cy="98640"/>
            </a:xfrm>
            <a:custGeom>
              <a:avLst/>
              <a:gdLst/>
              <a:ahLst/>
              <a:rect l="l" t="t" r="r" b="b"/>
              <a:pathLst>
                <a:path w="190" h="310">
                  <a:moveTo>
                    <a:pt x="0" y="310"/>
                  </a:moveTo>
                  <a:lnTo>
                    <a:pt x="190" y="310"/>
                  </a:lnTo>
                  <a:lnTo>
                    <a:pt x="94" y="0"/>
                  </a:lnTo>
                  <a:lnTo>
                    <a:pt x="0" y="31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745160" y="1832040"/>
              <a:ext cx="285480" cy="291960"/>
            </a:xfrm>
            <a:custGeom>
              <a:avLst/>
              <a:gdLst/>
              <a:ahLst/>
              <a:rect l="l" t="t" r="r" b="b"/>
              <a:pathLst>
                <a:path w="896" h="921">
                  <a:moveTo>
                    <a:pt x="0" y="921"/>
                  </a:moveTo>
                  <a:lnTo>
                    <a:pt x="321" y="0"/>
                  </a:lnTo>
                  <a:lnTo>
                    <a:pt x="591" y="0"/>
                  </a:lnTo>
                  <a:lnTo>
                    <a:pt x="896" y="921"/>
                  </a:lnTo>
                  <a:lnTo>
                    <a:pt x="643" y="921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056200" y="1832040"/>
              <a:ext cx="171360" cy="291960"/>
            </a:xfrm>
            <a:custGeom>
              <a:avLst/>
              <a:gdLst/>
              <a:ahLst/>
              <a:rect l="l" t="t" r="r" b="b"/>
              <a:pathLst>
                <a:path w="542" h="921">
                  <a:moveTo>
                    <a:pt x="0" y="921"/>
                  </a:moveTo>
                  <a:lnTo>
                    <a:pt x="0" y="0"/>
                  </a:lnTo>
                  <a:lnTo>
                    <a:pt x="505" y="0"/>
                  </a:lnTo>
                  <a:lnTo>
                    <a:pt x="542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29" y="339"/>
                  </a:lnTo>
                  <a:lnTo>
                    <a:pt x="429" y="583"/>
                  </a:lnTo>
                  <a:lnTo>
                    <a:pt x="238" y="583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25456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09" y="0"/>
                  </a:lnTo>
                  <a:lnTo>
                    <a:pt x="549" y="245"/>
                  </a:lnTo>
                  <a:lnTo>
                    <a:pt x="239" y="245"/>
                  </a:lnTo>
                  <a:lnTo>
                    <a:pt x="239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9" y="583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573880" y="1827360"/>
              <a:ext cx="1537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4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4" y="704"/>
                  </a:lnTo>
                  <a:lnTo>
                    <a:pt x="80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19" y="707"/>
                  </a:lnTo>
                  <a:lnTo>
                    <a:pt x="128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7" y="692"/>
                  </a:lnTo>
                  <a:lnTo>
                    <a:pt x="174" y="687"/>
                  </a:lnTo>
                  <a:lnTo>
                    <a:pt x="180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2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0" y="531"/>
                  </a:lnTo>
                  <a:lnTo>
                    <a:pt x="125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2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29" y="409"/>
                  </a:lnTo>
                  <a:lnTo>
                    <a:pt x="23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1" y="171"/>
                  </a:lnTo>
                  <a:lnTo>
                    <a:pt x="27" y="158"/>
                  </a:lnTo>
                  <a:lnTo>
                    <a:pt x="33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2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7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3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1" y="9"/>
                  </a:lnTo>
                  <a:lnTo>
                    <a:pt x="421" y="11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8" y="18"/>
                  </a:lnTo>
                  <a:lnTo>
                    <a:pt x="457" y="20"/>
                  </a:lnTo>
                  <a:lnTo>
                    <a:pt x="466" y="24"/>
                  </a:lnTo>
                  <a:lnTo>
                    <a:pt x="466" y="252"/>
                  </a:lnTo>
                  <a:lnTo>
                    <a:pt x="458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6" y="232"/>
                  </a:lnTo>
                  <a:lnTo>
                    <a:pt x="410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4" y="222"/>
                  </a:lnTo>
                  <a:lnTo>
                    <a:pt x="369" y="221"/>
                  </a:lnTo>
                  <a:lnTo>
                    <a:pt x="364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4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6" y="263"/>
                  </a:lnTo>
                  <a:lnTo>
                    <a:pt x="273" y="270"/>
                  </a:lnTo>
                  <a:lnTo>
                    <a:pt x="272" y="278"/>
                  </a:lnTo>
                  <a:lnTo>
                    <a:pt x="270" y="286"/>
                  </a:lnTo>
                  <a:lnTo>
                    <a:pt x="270" y="294"/>
                  </a:lnTo>
                  <a:lnTo>
                    <a:pt x="270" y="299"/>
                  </a:lnTo>
                  <a:lnTo>
                    <a:pt x="271" y="304"/>
                  </a:lnTo>
                  <a:lnTo>
                    <a:pt x="272" y="309"/>
                  </a:lnTo>
                  <a:lnTo>
                    <a:pt x="274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1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0" y="404"/>
                  </a:lnTo>
                  <a:lnTo>
                    <a:pt x="365" y="408"/>
                  </a:lnTo>
                  <a:lnTo>
                    <a:pt x="369" y="412"/>
                  </a:lnTo>
                  <a:lnTo>
                    <a:pt x="373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59" y="526"/>
                  </a:lnTo>
                  <a:lnTo>
                    <a:pt x="465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6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69" y="764"/>
                  </a:lnTo>
                  <a:lnTo>
                    <a:pt x="464" y="777"/>
                  </a:lnTo>
                  <a:lnTo>
                    <a:pt x="458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1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6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8" y="945"/>
                  </a:lnTo>
                  <a:lnTo>
                    <a:pt x="200" y="947"/>
                  </a:lnTo>
                  <a:lnTo>
                    <a:pt x="180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4" y="947"/>
                  </a:lnTo>
                  <a:lnTo>
                    <a:pt x="77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4" y="939"/>
                  </a:lnTo>
                  <a:lnTo>
                    <a:pt x="17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76252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48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8" y="583"/>
                  </a:lnTo>
                  <a:lnTo>
                    <a:pt x="238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950080" y="1832040"/>
              <a:ext cx="255600" cy="291960"/>
            </a:xfrm>
            <a:custGeom>
              <a:avLst/>
              <a:gdLst/>
              <a:ahLst/>
              <a:rect l="l" t="t" r="r" b="b"/>
              <a:pathLst>
                <a:path w="802" h="921">
                  <a:moveTo>
                    <a:pt x="0" y="921"/>
                  </a:moveTo>
                  <a:lnTo>
                    <a:pt x="265" y="456"/>
                  </a:lnTo>
                  <a:lnTo>
                    <a:pt x="16" y="0"/>
                  </a:lnTo>
                  <a:lnTo>
                    <a:pt x="282" y="0"/>
                  </a:lnTo>
                  <a:lnTo>
                    <a:pt x="404" y="257"/>
                  </a:lnTo>
                  <a:lnTo>
                    <a:pt x="525" y="0"/>
                  </a:lnTo>
                  <a:lnTo>
                    <a:pt x="798" y="0"/>
                  </a:lnTo>
                  <a:lnTo>
                    <a:pt x="539" y="459"/>
                  </a:lnTo>
                  <a:lnTo>
                    <a:pt x="802" y="921"/>
                  </a:lnTo>
                  <a:lnTo>
                    <a:pt x="530" y="921"/>
                  </a:lnTo>
                  <a:lnTo>
                    <a:pt x="405" y="662"/>
                  </a:lnTo>
                  <a:lnTo>
                    <a:pt x="27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237360" y="2049480"/>
              <a:ext cx="69840" cy="745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237360" y="1832040"/>
              <a:ext cx="69840" cy="19980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76680" y="2400480"/>
              <a:ext cx="64800" cy="137880"/>
            </a:xfrm>
            <a:custGeom>
              <a:avLst/>
              <a:gdLst/>
              <a:ahLst/>
              <a:rect l="l" t="t" r="r" b="b"/>
              <a:pathLst>
                <a:path w="203" h="436">
                  <a:moveTo>
                    <a:pt x="0" y="436"/>
                  </a:moveTo>
                  <a:lnTo>
                    <a:pt x="22" y="433"/>
                  </a:lnTo>
                  <a:lnTo>
                    <a:pt x="43" y="429"/>
                  </a:lnTo>
                  <a:lnTo>
                    <a:pt x="64" y="423"/>
                  </a:lnTo>
                  <a:lnTo>
                    <a:pt x="83" y="415"/>
                  </a:lnTo>
                  <a:lnTo>
                    <a:pt x="101" y="405"/>
                  </a:lnTo>
                  <a:lnTo>
                    <a:pt x="117" y="394"/>
                  </a:lnTo>
                  <a:lnTo>
                    <a:pt x="133" y="382"/>
                  </a:lnTo>
                  <a:lnTo>
                    <a:pt x="148" y="368"/>
                  </a:lnTo>
                  <a:lnTo>
                    <a:pt x="161" y="352"/>
                  </a:lnTo>
                  <a:lnTo>
                    <a:pt x="172" y="336"/>
                  </a:lnTo>
                  <a:lnTo>
                    <a:pt x="181" y="320"/>
                  </a:lnTo>
                  <a:lnTo>
                    <a:pt x="189" y="301"/>
                  </a:lnTo>
                  <a:lnTo>
                    <a:pt x="196" y="282"/>
                  </a:lnTo>
                  <a:lnTo>
                    <a:pt x="200" y="263"/>
                  </a:lnTo>
                  <a:lnTo>
                    <a:pt x="202" y="242"/>
                  </a:lnTo>
                  <a:lnTo>
                    <a:pt x="203" y="220"/>
                  </a:lnTo>
                  <a:lnTo>
                    <a:pt x="202" y="196"/>
                  </a:lnTo>
                  <a:lnTo>
                    <a:pt x="200" y="175"/>
                  </a:lnTo>
                  <a:lnTo>
                    <a:pt x="195" y="153"/>
                  </a:lnTo>
                  <a:lnTo>
                    <a:pt x="188" y="133"/>
                  </a:lnTo>
                  <a:lnTo>
                    <a:pt x="181" y="114"/>
                  </a:lnTo>
                  <a:lnTo>
                    <a:pt x="171" y="96"/>
                  </a:lnTo>
                  <a:lnTo>
                    <a:pt x="160" y="79"/>
                  </a:lnTo>
                  <a:lnTo>
                    <a:pt x="147" y="63"/>
                  </a:lnTo>
                  <a:lnTo>
                    <a:pt x="139" y="56"/>
                  </a:lnTo>
                  <a:lnTo>
                    <a:pt x="132" y="48"/>
                  </a:lnTo>
                  <a:lnTo>
                    <a:pt x="124" y="42"/>
                  </a:lnTo>
                  <a:lnTo>
                    <a:pt x="116" y="36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0" y="21"/>
                  </a:lnTo>
                  <a:lnTo>
                    <a:pt x="81" y="17"/>
                  </a:lnTo>
                  <a:lnTo>
                    <a:pt x="63" y="10"/>
                  </a:lnTo>
                  <a:lnTo>
                    <a:pt x="42" y="5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0036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140" y="0"/>
                  </a:moveTo>
                  <a:lnTo>
                    <a:pt x="171" y="0"/>
                  </a:lnTo>
                  <a:lnTo>
                    <a:pt x="202" y="1"/>
                  </a:lnTo>
                  <a:lnTo>
                    <a:pt x="230" y="2"/>
                  </a:lnTo>
                  <a:lnTo>
                    <a:pt x="257" y="4"/>
                  </a:lnTo>
                  <a:lnTo>
                    <a:pt x="282" y="6"/>
                  </a:lnTo>
                  <a:lnTo>
                    <a:pt x="307" y="9"/>
                  </a:lnTo>
                  <a:lnTo>
                    <a:pt x="328" y="13"/>
                  </a:lnTo>
                  <a:lnTo>
                    <a:pt x="349" y="16"/>
                  </a:lnTo>
                  <a:lnTo>
                    <a:pt x="368" y="21"/>
                  </a:lnTo>
                  <a:lnTo>
                    <a:pt x="388" y="26"/>
                  </a:lnTo>
                  <a:lnTo>
                    <a:pt x="406" y="32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7" y="54"/>
                  </a:lnTo>
                  <a:lnTo>
                    <a:pt x="473" y="62"/>
                  </a:lnTo>
                  <a:lnTo>
                    <a:pt x="490" y="71"/>
                  </a:lnTo>
                  <a:lnTo>
                    <a:pt x="513" y="88"/>
                  </a:lnTo>
                  <a:lnTo>
                    <a:pt x="536" y="105"/>
                  </a:lnTo>
                  <a:lnTo>
                    <a:pt x="557" y="123"/>
                  </a:lnTo>
                  <a:lnTo>
                    <a:pt x="577" y="143"/>
                  </a:lnTo>
                  <a:lnTo>
                    <a:pt x="595" y="164"/>
                  </a:lnTo>
                  <a:lnTo>
                    <a:pt x="611" y="185"/>
                  </a:lnTo>
                  <a:lnTo>
                    <a:pt x="627" y="209"/>
                  </a:lnTo>
                  <a:lnTo>
                    <a:pt x="640" y="233"/>
                  </a:lnTo>
                  <a:lnTo>
                    <a:pt x="652" y="259"/>
                  </a:lnTo>
                  <a:lnTo>
                    <a:pt x="662" y="285"/>
                  </a:lnTo>
                  <a:lnTo>
                    <a:pt x="672" y="313"/>
                  </a:lnTo>
                  <a:lnTo>
                    <a:pt x="679" y="341"/>
                  </a:lnTo>
                  <a:lnTo>
                    <a:pt x="684" y="371"/>
                  </a:lnTo>
                  <a:lnTo>
                    <a:pt x="688" y="402"/>
                  </a:lnTo>
                  <a:lnTo>
                    <a:pt x="691" y="433"/>
                  </a:lnTo>
                  <a:lnTo>
                    <a:pt x="691" y="466"/>
                  </a:lnTo>
                  <a:lnTo>
                    <a:pt x="690" y="496"/>
                  </a:lnTo>
                  <a:lnTo>
                    <a:pt x="688" y="524"/>
                  </a:lnTo>
                  <a:lnTo>
                    <a:pt x="683" y="553"/>
                  </a:lnTo>
                  <a:lnTo>
                    <a:pt x="677" y="579"/>
                  </a:lnTo>
                  <a:lnTo>
                    <a:pt x="669" y="607"/>
                  </a:lnTo>
                  <a:lnTo>
                    <a:pt x="659" y="633"/>
                  </a:lnTo>
                  <a:lnTo>
                    <a:pt x="648" y="659"/>
                  </a:lnTo>
                  <a:lnTo>
                    <a:pt x="635" y="683"/>
                  </a:lnTo>
                  <a:lnTo>
                    <a:pt x="619" y="708"/>
                  </a:lnTo>
                  <a:lnTo>
                    <a:pt x="603" y="731"/>
                  </a:lnTo>
                  <a:lnTo>
                    <a:pt x="586" y="753"/>
                  </a:lnTo>
                  <a:lnTo>
                    <a:pt x="566" y="774"/>
                  </a:lnTo>
                  <a:lnTo>
                    <a:pt x="546" y="793"/>
                  </a:lnTo>
                  <a:lnTo>
                    <a:pt x="523" y="812"/>
                  </a:lnTo>
                  <a:lnTo>
                    <a:pt x="500" y="829"/>
                  </a:lnTo>
                  <a:lnTo>
                    <a:pt x="474" y="845"/>
                  </a:lnTo>
                  <a:lnTo>
                    <a:pt x="458" y="855"/>
                  </a:lnTo>
                  <a:lnTo>
                    <a:pt x="442" y="864"/>
                  </a:lnTo>
                  <a:lnTo>
                    <a:pt x="424" y="872"/>
                  </a:lnTo>
                  <a:lnTo>
                    <a:pt x="406" y="879"/>
                  </a:lnTo>
                  <a:lnTo>
                    <a:pt x="388" y="886"/>
                  </a:lnTo>
                  <a:lnTo>
                    <a:pt x="369" y="892"/>
                  </a:lnTo>
                  <a:lnTo>
                    <a:pt x="350" y="897"/>
                  </a:lnTo>
                  <a:lnTo>
                    <a:pt x="329" y="902"/>
                  </a:lnTo>
                  <a:lnTo>
                    <a:pt x="309" y="907"/>
                  </a:lnTo>
                  <a:lnTo>
                    <a:pt x="288" y="911"/>
                  </a:lnTo>
                  <a:lnTo>
                    <a:pt x="265" y="914"/>
                  </a:lnTo>
                  <a:lnTo>
                    <a:pt x="242" y="916"/>
                  </a:lnTo>
                  <a:lnTo>
                    <a:pt x="217" y="918"/>
                  </a:lnTo>
                  <a:lnTo>
                    <a:pt x="193" y="919"/>
                  </a:lnTo>
                  <a:lnTo>
                    <a:pt x="166" y="920"/>
                  </a:lnTo>
                  <a:lnTo>
                    <a:pt x="140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02112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8" y="0"/>
                  </a:lnTo>
                  <a:lnTo>
                    <a:pt x="197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4" y="10"/>
                  </a:lnTo>
                  <a:lnTo>
                    <a:pt x="143" y="13"/>
                  </a:lnTo>
                  <a:lnTo>
                    <a:pt x="133" y="17"/>
                  </a:lnTo>
                  <a:lnTo>
                    <a:pt x="124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7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7" y="83"/>
                  </a:lnTo>
                  <a:lnTo>
                    <a:pt x="41" y="92"/>
                  </a:lnTo>
                  <a:lnTo>
                    <a:pt x="35" y="100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20" y="130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6" y="318"/>
                  </a:lnTo>
                  <a:lnTo>
                    <a:pt x="20" y="328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7" y="374"/>
                  </a:lnTo>
                  <a:lnTo>
                    <a:pt x="55" y="383"/>
                  </a:lnTo>
                  <a:lnTo>
                    <a:pt x="63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7" y="412"/>
                  </a:lnTo>
                  <a:lnTo>
                    <a:pt x="95" y="420"/>
                  </a:lnTo>
                  <a:lnTo>
                    <a:pt x="105" y="426"/>
                  </a:lnTo>
                  <a:lnTo>
                    <a:pt x="114" y="431"/>
                  </a:lnTo>
                  <a:lnTo>
                    <a:pt x="123" y="436"/>
                  </a:lnTo>
                  <a:lnTo>
                    <a:pt x="133" y="440"/>
                  </a:lnTo>
                  <a:lnTo>
                    <a:pt x="142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4" y="452"/>
                  </a:lnTo>
                  <a:lnTo>
                    <a:pt x="184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4" y="452"/>
                  </a:lnTo>
                  <a:lnTo>
                    <a:pt x="274" y="450"/>
                  </a:lnTo>
                  <a:lnTo>
                    <a:pt x="284" y="447"/>
                  </a:lnTo>
                  <a:lnTo>
                    <a:pt x="295" y="444"/>
                  </a:lnTo>
                  <a:lnTo>
                    <a:pt x="305" y="440"/>
                  </a:lnTo>
                  <a:lnTo>
                    <a:pt x="314" y="435"/>
                  </a:lnTo>
                  <a:lnTo>
                    <a:pt x="323" y="431"/>
                  </a:lnTo>
                  <a:lnTo>
                    <a:pt x="332" y="425"/>
                  </a:lnTo>
                  <a:lnTo>
                    <a:pt x="342" y="420"/>
                  </a:lnTo>
                  <a:lnTo>
                    <a:pt x="351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2" y="382"/>
                  </a:lnTo>
                  <a:lnTo>
                    <a:pt x="390" y="374"/>
                  </a:lnTo>
                  <a:lnTo>
                    <a:pt x="397" y="364"/>
                  </a:lnTo>
                  <a:lnTo>
                    <a:pt x="403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1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1" y="172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7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1" y="44"/>
                  </a:lnTo>
                  <a:lnTo>
                    <a:pt x="342" y="37"/>
                  </a:lnTo>
                  <a:lnTo>
                    <a:pt x="332" y="32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5" y="17"/>
                  </a:lnTo>
                  <a:lnTo>
                    <a:pt x="295" y="13"/>
                  </a:lnTo>
                  <a:lnTo>
                    <a:pt x="284" y="10"/>
                  </a:lnTo>
                  <a:lnTo>
                    <a:pt x="274" y="6"/>
                  </a:lnTo>
                  <a:lnTo>
                    <a:pt x="264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94336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5" h="970">
                  <a:moveTo>
                    <a:pt x="467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1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3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9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6" y="101"/>
                  </a:lnTo>
                  <a:lnTo>
                    <a:pt x="770" y="115"/>
                  </a:lnTo>
                  <a:lnTo>
                    <a:pt x="790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8" y="356"/>
                  </a:lnTo>
                  <a:lnTo>
                    <a:pt x="923" y="381"/>
                  </a:lnTo>
                  <a:lnTo>
                    <a:pt x="929" y="406"/>
                  </a:lnTo>
                  <a:lnTo>
                    <a:pt x="932" y="432"/>
                  </a:lnTo>
                  <a:lnTo>
                    <a:pt x="934" y="458"/>
                  </a:lnTo>
                  <a:lnTo>
                    <a:pt x="935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9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1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1" y="778"/>
                  </a:lnTo>
                  <a:lnTo>
                    <a:pt x="824" y="798"/>
                  </a:lnTo>
                  <a:lnTo>
                    <a:pt x="808" y="817"/>
                  </a:lnTo>
                  <a:lnTo>
                    <a:pt x="790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40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8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3" y="953"/>
                  </a:lnTo>
                  <a:lnTo>
                    <a:pt x="572" y="958"/>
                  </a:lnTo>
                  <a:lnTo>
                    <a:pt x="552" y="962"/>
                  </a:lnTo>
                  <a:lnTo>
                    <a:pt x="530" y="965"/>
                  </a:lnTo>
                  <a:lnTo>
                    <a:pt x="510" y="968"/>
                  </a:lnTo>
                  <a:lnTo>
                    <a:pt x="488" y="969"/>
                  </a:lnTo>
                  <a:lnTo>
                    <a:pt x="467" y="970"/>
                  </a:lnTo>
                  <a:lnTo>
                    <a:pt x="445" y="969"/>
                  </a:lnTo>
                  <a:lnTo>
                    <a:pt x="424" y="968"/>
                  </a:lnTo>
                  <a:lnTo>
                    <a:pt x="403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2" y="947"/>
                  </a:lnTo>
                  <a:lnTo>
                    <a:pt x="302" y="940"/>
                  </a:lnTo>
                  <a:lnTo>
                    <a:pt x="283" y="933"/>
                  </a:lnTo>
                  <a:lnTo>
                    <a:pt x="264" y="924"/>
                  </a:lnTo>
                  <a:lnTo>
                    <a:pt x="246" y="914"/>
                  </a:lnTo>
                  <a:lnTo>
                    <a:pt x="228" y="904"/>
                  </a:lnTo>
                  <a:lnTo>
                    <a:pt x="212" y="894"/>
                  </a:lnTo>
                  <a:lnTo>
                    <a:pt x="194" y="882"/>
                  </a:lnTo>
                  <a:lnTo>
                    <a:pt x="179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4" y="778"/>
                  </a:lnTo>
                  <a:lnTo>
                    <a:pt x="80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3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2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2" y="381"/>
                  </a:lnTo>
                  <a:lnTo>
                    <a:pt x="17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10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9" y="101"/>
                  </a:lnTo>
                  <a:lnTo>
                    <a:pt x="194" y="88"/>
                  </a:lnTo>
                  <a:lnTo>
                    <a:pt x="212" y="77"/>
                  </a:lnTo>
                  <a:lnTo>
                    <a:pt x="228" y="66"/>
                  </a:lnTo>
                  <a:lnTo>
                    <a:pt x="246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2" y="30"/>
                  </a:lnTo>
                  <a:lnTo>
                    <a:pt x="322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3" y="4"/>
                  </a:lnTo>
                  <a:lnTo>
                    <a:pt x="424" y="2"/>
                  </a:lnTo>
                  <a:lnTo>
                    <a:pt x="445" y="0"/>
                  </a:lnTo>
                  <a:lnTo>
                    <a:pt x="46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392640" y="2324160"/>
              <a:ext cx="217440" cy="291960"/>
            </a:xfrm>
            <a:custGeom>
              <a:avLst/>
              <a:gdLst/>
              <a:ahLst/>
              <a:rect l="l" t="t" r="r" b="b"/>
              <a:pathLst>
                <a:path w="685" h="921">
                  <a:moveTo>
                    <a:pt x="0" y="921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1"/>
                  </a:lnTo>
                  <a:lnTo>
                    <a:pt x="577" y="921"/>
                  </a:lnTo>
                  <a:lnTo>
                    <a:pt x="238" y="521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72420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20" y="0"/>
                  </a:moveTo>
                  <a:lnTo>
                    <a:pt x="208" y="0"/>
                  </a:lnTo>
                  <a:lnTo>
                    <a:pt x="196" y="1"/>
                  </a:lnTo>
                  <a:lnTo>
                    <a:pt x="186" y="2"/>
                  </a:lnTo>
                  <a:lnTo>
                    <a:pt x="175" y="4"/>
                  </a:lnTo>
                  <a:lnTo>
                    <a:pt x="165" y="6"/>
                  </a:lnTo>
                  <a:lnTo>
                    <a:pt x="153" y="10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4" y="21"/>
                  </a:lnTo>
                  <a:lnTo>
                    <a:pt x="115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80" y="50"/>
                  </a:lnTo>
                  <a:lnTo>
                    <a:pt x="72" y="58"/>
                  </a:lnTo>
                  <a:lnTo>
                    <a:pt x="64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6" y="100"/>
                  </a:lnTo>
                  <a:lnTo>
                    <a:pt x="30" y="110"/>
                  </a:lnTo>
                  <a:lnTo>
                    <a:pt x="25" y="120"/>
                  </a:lnTo>
                  <a:lnTo>
                    <a:pt x="21" y="130"/>
                  </a:lnTo>
                  <a:lnTo>
                    <a:pt x="16" y="139"/>
                  </a:lnTo>
                  <a:lnTo>
                    <a:pt x="13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3" y="307"/>
                  </a:lnTo>
                  <a:lnTo>
                    <a:pt x="16" y="318"/>
                  </a:lnTo>
                  <a:lnTo>
                    <a:pt x="20" y="328"/>
                  </a:lnTo>
                  <a:lnTo>
                    <a:pt x="25" y="337"/>
                  </a:lnTo>
                  <a:lnTo>
                    <a:pt x="30" y="347"/>
                  </a:lnTo>
                  <a:lnTo>
                    <a:pt x="36" y="356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3"/>
                  </a:lnTo>
                  <a:lnTo>
                    <a:pt x="64" y="391"/>
                  </a:lnTo>
                  <a:lnTo>
                    <a:pt x="71" y="398"/>
                  </a:lnTo>
                  <a:lnTo>
                    <a:pt x="79" y="406"/>
                  </a:lnTo>
                  <a:lnTo>
                    <a:pt x="87" y="412"/>
                  </a:lnTo>
                  <a:lnTo>
                    <a:pt x="96" y="420"/>
                  </a:lnTo>
                  <a:lnTo>
                    <a:pt x="105" y="426"/>
                  </a:lnTo>
                  <a:lnTo>
                    <a:pt x="115" y="431"/>
                  </a:lnTo>
                  <a:lnTo>
                    <a:pt x="124" y="436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4" y="450"/>
                  </a:lnTo>
                  <a:lnTo>
                    <a:pt x="175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8" y="456"/>
                  </a:lnTo>
                  <a:lnTo>
                    <a:pt x="220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4" y="454"/>
                  </a:lnTo>
                  <a:lnTo>
                    <a:pt x="264" y="452"/>
                  </a:lnTo>
                  <a:lnTo>
                    <a:pt x="275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6" y="440"/>
                  </a:lnTo>
                  <a:lnTo>
                    <a:pt x="315" y="435"/>
                  </a:lnTo>
                  <a:lnTo>
                    <a:pt x="324" y="431"/>
                  </a:lnTo>
                  <a:lnTo>
                    <a:pt x="333" y="425"/>
                  </a:lnTo>
                  <a:lnTo>
                    <a:pt x="342" y="420"/>
                  </a:lnTo>
                  <a:lnTo>
                    <a:pt x="351" y="412"/>
                  </a:lnTo>
                  <a:lnTo>
                    <a:pt x="360" y="406"/>
                  </a:lnTo>
                  <a:lnTo>
                    <a:pt x="368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8" y="364"/>
                  </a:lnTo>
                  <a:lnTo>
                    <a:pt x="404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6"/>
                  </a:lnTo>
                  <a:lnTo>
                    <a:pt x="430" y="296"/>
                  </a:lnTo>
                  <a:lnTo>
                    <a:pt x="432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2"/>
                  </a:lnTo>
                  <a:lnTo>
                    <a:pt x="430" y="160"/>
                  </a:lnTo>
                  <a:lnTo>
                    <a:pt x="426" y="150"/>
                  </a:lnTo>
                  <a:lnTo>
                    <a:pt x="423" y="140"/>
                  </a:lnTo>
                  <a:lnTo>
                    <a:pt x="419" y="130"/>
                  </a:lnTo>
                  <a:lnTo>
                    <a:pt x="414" y="120"/>
                  </a:lnTo>
                  <a:lnTo>
                    <a:pt x="409" y="110"/>
                  </a:lnTo>
                  <a:lnTo>
                    <a:pt x="404" y="101"/>
                  </a:lnTo>
                  <a:lnTo>
                    <a:pt x="390" y="83"/>
                  </a:lnTo>
                  <a:lnTo>
                    <a:pt x="376" y="67"/>
                  </a:lnTo>
                  <a:lnTo>
                    <a:pt x="368" y="58"/>
                  </a:lnTo>
                  <a:lnTo>
                    <a:pt x="360" y="51"/>
                  </a:lnTo>
                  <a:lnTo>
                    <a:pt x="351" y="44"/>
                  </a:lnTo>
                  <a:lnTo>
                    <a:pt x="342" y="37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5" y="21"/>
                  </a:lnTo>
                  <a:lnTo>
                    <a:pt x="306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5" y="6"/>
                  </a:lnTo>
                  <a:lnTo>
                    <a:pt x="264" y="4"/>
                  </a:lnTo>
                  <a:lnTo>
                    <a:pt x="254" y="2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64500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8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0" y="778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2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8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2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2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6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954600" y="2324160"/>
              <a:ext cx="19512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2"/>
                  </a:moveTo>
                  <a:lnTo>
                    <a:pt x="427" y="921"/>
                  </a:lnTo>
                  <a:lnTo>
                    <a:pt x="188" y="921"/>
                  </a:lnTo>
                  <a:lnTo>
                    <a:pt x="188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2670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6" y="232"/>
                  </a:moveTo>
                  <a:lnTo>
                    <a:pt x="426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562640" y="2389320"/>
              <a:ext cx="48960" cy="72720"/>
            </a:xfrm>
            <a:custGeom>
              <a:avLst/>
              <a:gdLst/>
              <a:ahLst/>
              <a:rect l="l" t="t" r="r" b="b"/>
              <a:pathLst>
                <a:path w="154" h="230">
                  <a:moveTo>
                    <a:pt x="0" y="230"/>
                  </a:moveTo>
                  <a:lnTo>
                    <a:pt x="22" y="230"/>
                  </a:lnTo>
                  <a:lnTo>
                    <a:pt x="39" y="230"/>
                  </a:lnTo>
                  <a:lnTo>
                    <a:pt x="53" y="228"/>
                  </a:lnTo>
                  <a:lnTo>
                    <a:pt x="66" y="226"/>
                  </a:lnTo>
                  <a:lnTo>
                    <a:pt x="80" y="223"/>
                  </a:lnTo>
                  <a:lnTo>
                    <a:pt x="91" y="219"/>
                  </a:lnTo>
                  <a:lnTo>
                    <a:pt x="102" y="214"/>
                  </a:lnTo>
                  <a:lnTo>
                    <a:pt x="112" y="208"/>
                  </a:lnTo>
                  <a:lnTo>
                    <a:pt x="120" y="201"/>
                  </a:lnTo>
                  <a:lnTo>
                    <a:pt x="129" y="194"/>
                  </a:lnTo>
                  <a:lnTo>
                    <a:pt x="136" y="184"/>
                  </a:lnTo>
                  <a:lnTo>
                    <a:pt x="141" y="175"/>
                  </a:lnTo>
                  <a:lnTo>
                    <a:pt x="146" y="165"/>
                  </a:lnTo>
                  <a:lnTo>
                    <a:pt x="150" y="154"/>
                  </a:lnTo>
                  <a:lnTo>
                    <a:pt x="152" y="143"/>
                  </a:lnTo>
                  <a:lnTo>
                    <a:pt x="154" y="129"/>
                  </a:lnTo>
                  <a:lnTo>
                    <a:pt x="154" y="116"/>
                  </a:lnTo>
                  <a:lnTo>
                    <a:pt x="154" y="102"/>
                  </a:lnTo>
                  <a:lnTo>
                    <a:pt x="152" y="90"/>
                  </a:lnTo>
                  <a:lnTo>
                    <a:pt x="150" y="77"/>
                  </a:lnTo>
                  <a:lnTo>
                    <a:pt x="146" y="66"/>
                  </a:lnTo>
                  <a:lnTo>
                    <a:pt x="142" y="56"/>
                  </a:lnTo>
                  <a:lnTo>
                    <a:pt x="136" y="46"/>
                  </a:lnTo>
                  <a:lnTo>
                    <a:pt x="130" y="37"/>
                  </a:lnTo>
                  <a:lnTo>
                    <a:pt x="122" y="29"/>
                  </a:lnTo>
                  <a:lnTo>
                    <a:pt x="113" y="22"/>
                  </a:lnTo>
                  <a:lnTo>
                    <a:pt x="104" y="16"/>
                  </a:lnTo>
                  <a:lnTo>
                    <a:pt x="94" y="11"/>
                  </a:lnTo>
                  <a:lnTo>
                    <a:pt x="83" y="7"/>
                  </a:lnTo>
                  <a:lnTo>
                    <a:pt x="70" y="4"/>
                  </a:lnTo>
                  <a:lnTo>
                    <a:pt x="57" y="2"/>
                  </a:lnTo>
                  <a:lnTo>
                    <a:pt x="44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48632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0" y="921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4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49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9" y="526"/>
                  </a:lnTo>
                  <a:lnTo>
                    <a:pt x="239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729320" y="2324160"/>
              <a:ext cx="196560" cy="299880"/>
            </a:xfrm>
            <a:custGeom>
              <a:avLst/>
              <a:gdLst/>
              <a:ahLst/>
              <a:rect l="l" t="t" r="r" b="b"/>
              <a:pathLst>
                <a:path w="620" h="945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8" y="618"/>
                  </a:lnTo>
                  <a:lnTo>
                    <a:pt x="617" y="645"/>
                  </a:lnTo>
                  <a:lnTo>
                    <a:pt x="615" y="670"/>
                  </a:lnTo>
                  <a:lnTo>
                    <a:pt x="612" y="693"/>
                  </a:lnTo>
                  <a:lnTo>
                    <a:pt x="609" y="715"/>
                  </a:lnTo>
                  <a:lnTo>
                    <a:pt x="606" y="734"/>
                  </a:lnTo>
                  <a:lnTo>
                    <a:pt x="602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69" y="824"/>
                  </a:lnTo>
                  <a:lnTo>
                    <a:pt x="560" y="837"/>
                  </a:lnTo>
                  <a:lnTo>
                    <a:pt x="550" y="849"/>
                  </a:lnTo>
                  <a:lnTo>
                    <a:pt x="540" y="861"/>
                  </a:lnTo>
                  <a:lnTo>
                    <a:pt x="531" y="871"/>
                  </a:lnTo>
                  <a:lnTo>
                    <a:pt x="519" y="880"/>
                  </a:lnTo>
                  <a:lnTo>
                    <a:pt x="508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0" y="911"/>
                  </a:lnTo>
                  <a:lnTo>
                    <a:pt x="456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2" y="942"/>
                  </a:lnTo>
                  <a:lnTo>
                    <a:pt x="345" y="943"/>
                  </a:lnTo>
                  <a:lnTo>
                    <a:pt x="327" y="944"/>
                  </a:lnTo>
                  <a:lnTo>
                    <a:pt x="310" y="945"/>
                  </a:lnTo>
                  <a:lnTo>
                    <a:pt x="293" y="944"/>
                  </a:lnTo>
                  <a:lnTo>
                    <a:pt x="275" y="943"/>
                  </a:lnTo>
                  <a:lnTo>
                    <a:pt x="258" y="942"/>
                  </a:lnTo>
                  <a:lnTo>
                    <a:pt x="242" y="939"/>
                  </a:lnTo>
                  <a:lnTo>
                    <a:pt x="225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78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4" y="896"/>
                  </a:lnTo>
                  <a:lnTo>
                    <a:pt x="112" y="888"/>
                  </a:lnTo>
                  <a:lnTo>
                    <a:pt x="101" y="880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0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5" y="795"/>
                  </a:lnTo>
                  <a:lnTo>
                    <a:pt x="29" y="781"/>
                  </a:lnTo>
                  <a:lnTo>
                    <a:pt x="23" y="766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1" y="617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6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0" y="673"/>
                  </a:lnTo>
                  <a:lnTo>
                    <a:pt x="265" y="679"/>
                  </a:lnTo>
                  <a:lnTo>
                    <a:pt x="271" y="684"/>
                  </a:lnTo>
                  <a:lnTo>
                    <a:pt x="277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0" y="696"/>
                  </a:lnTo>
                  <a:lnTo>
                    <a:pt x="319" y="696"/>
                  </a:lnTo>
                  <a:lnTo>
                    <a:pt x="328" y="694"/>
                  </a:lnTo>
                  <a:lnTo>
                    <a:pt x="336" y="692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9"/>
                  </a:lnTo>
                  <a:lnTo>
                    <a:pt x="361" y="673"/>
                  </a:lnTo>
                  <a:lnTo>
                    <a:pt x="365" y="665"/>
                  </a:lnTo>
                  <a:lnTo>
                    <a:pt x="369" y="657"/>
                  </a:lnTo>
                  <a:lnTo>
                    <a:pt x="372" y="646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962600" y="2319480"/>
              <a:ext cx="155520" cy="301320"/>
            </a:xfrm>
            <a:custGeom>
              <a:avLst/>
              <a:gdLst/>
              <a:ahLst/>
              <a:rect l="l" t="t" r="r" b="b"/>
              <a:pathLst>
                <a:path w="488" h="949">
                  <a:moveTo>
                    <a:pt x="18" y="937"/>
                  </a:moveTo>
                  <a:lnTo>
                    <a:pt x="12" y="684"/>
                  </a:lnTo>
                  <a:lnTo>
                    <a:pt x="18" y="686"/>
                  </a:lnTo>
                  <a:lnTo>
                    <a:pt x="25" y="689"/>
                  </a:lnTo>
                  <a:lnTo>
                    <a:pt x="32" y="691"/>
                  </a:lnTo>
                  <a:lnTo>
                    <a:pt x="38" y="693"/>
                  </a:lnTo>
                  <a:lnTo>
                    <a:pt x="45" y="695"/>
                  </a:lnTo>
                  <a:lnTo>
                    <a:pt x="51" y="697"/>
                  </a:lnTo>
                  <a:lnTo>
                    <a:pt x="57" y="699"/>
                  </a:lnTo>
                  <a:lnTo>
                    <a:pt x="63" y="700"/>
                  </a:lnTo>
                  <a:lnTo>
                    <a:pt x="69" y="702"/>
                  </a:lnTo>
                  <a:lnTo>
                    <a:pt x="75" y="703"/>
                  </a:lnTo>
                  <a:lnTo>
                    <a:pt x="82" y="704"/>
                  </a:lnTo>
                  <a:lnTo>
                    <a:pt x="87" y="705"/>
                  </a:lnTo>
                  <a:lnTo>
                    <a:pt x="93" y="706"/>
                  </a:lnTo>
                  <a:lnTo>
                    <a:pt x="99" y="706"/>
                  </a:lnTo>
                  <a:lnTo>
                    <a:pt x="104" y="706"/>
                  </a:lnTo>
                  <a:lnTo>
                    <a:pt x="110" y="706"/>
                  </a:lnTo>
                  <a:lnTo>
                    <a:pt x="119" y="706"/>
                  </a:lnTo>
                  <a:lnTo>
                    <a:pt x="129" y="705"/>
                  </a:lnTo>
                  <a:lnTo>
                    <a:pt x="138" y="703"/>
                  </a:lnTo>
                  <a:lnTo>
                    <a:pt x="146" y="701"/>
                  </a:lnTo>
                  <a:lnTo>
                    <a:pt x="154" y="698"/>
                  </a:lnTo>
                  <a:lnTo>
                    <a:pt x="161" y="695"/>
                  </a:lnTo>
                  <a:lnTo>
                    <a:pt x="168" y="691"/>
                  </a:lnTo>
                  <a:lnTo>
                    <a:pt x="175" y="686"/>
                  </a:lnTo>
                  <a:lnTo>
                    <a:pt x="181" y="681"/>
                  </a:lnTo>
                  <a:lnTo>
                    <a:pt x="186" y="675"/>
                  </a:lnTo>
                  <a:lnTo>
                    <a:pt x="190" y="669"/>
                  </a:lnTo>
                  <a:lnTo>
                    <a:pt x="194" y="663"/>
                  </a:lnTo>
                  <a:lnTo>
                    <a:pt x="196" y="656"/>
                  </a:lnTo>
                  <a:lnTo>
                    <a:pt x="198" y="649"/>
                  </a:lnTo>
                  <a:lnTo>
                    <a:pt x="199" y="642"/>
                  </a:lnTo>
                  <a:lnTo>
                    <a:pt x="200" y="634"/>
                  </a:lnTo>
                  <a:lnTo>
                    <a:pt x="199" y="624"/>
                  </a:lnTo>
                  <a:lnTo>
                    <a:pt x="196" y="613"/>
                  </a:lnTo>
                  <a:lnTo>
                    <a:pt x="190" y="600"/>
                  </a:lnTo>
                  <a:lnTo>
                    <a:pt x="183" y="588"/>
                  </a:lnTo>
                  <a:lnTo>
                    <a:pt x="174" y="575"/>
                  </a:lnTo>
                  <a:lnTo>
                    <a:pt x="161" y="561"/>
                  </a:lnTo>
                  <a:lnTo>
                    <a:pt x="147" y="546"/>
                  </a:lnTo>
                  <a:lnTo>
                    <a:pt x="132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6"/>
                  </a:lnTo>
                  <a:lnTo>
                    <a:pt x="110" y="512"/>
                  </a:lnTo>
                  <a:lnTo>
                    <a:pt x="106" y="507"/>
                  </a:lnTo>
                  <a:lnTo>
                    <a:pt x="102" y="503"/>
                  </a:lnTo>
                  <a:lnTo>
                    <a:pt x="99" y="500"/>
                  </a:lnTo>
                  <a:lnTo>
                    <a:pt x="96" y="496"/>
                  </a:lnTo>
                  <a:lnTo>
                    <a:pt x="84" y="484"/>
                  </a:lnTo>
                  <a:lnTo>
                    <a:pt x="72" y="472"/>
                  </a:lnTo>
                  <a:lnTo>
                    <a:pt x="62" y="460"/>
                  </a:lnTo>
                  <a:lnTo>
                    <a:pt x="53" y="447"/>
                  </a:lnTo>
                  <a:lnTo>
                    <a:pt x="45" y="434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5"/>
                  </a:lnTo>
                  <a:lnTo>
                    <a:pt x="18" y="382"/>
                  </a:lnTo>
                  <a:lnTo>
                    <a:pt x="13" y="369"/>
                  </a:lnTo>
                  <a:lnTo>
                    <a:pt x="9" y="355"/>
                  </a:lnTo>
                  <a:lnTo>
                    <a:pt x="6" y="341"/>
                  </a:lnTo>
                  <a:lnTo>
                    <a:pt x="3" y="327"/>
                  </a:lnTo>
                  <a:lnTo>
                    <a:pt x="2" y="313"/>
                  </a:lnTo>
                  <a:lnTo>
                    <a:pt x="1" y="298"/>
                  </a:lnTo>
                  <a:lnTo>
                    <a:pt x="0" y="283"/>
                  </a:lnTo>
                  <a:lnTo>
                    <a:pt x="1" y="268"/>
                  </a:lnTo>
                  <a:lnTo>
                    <a:pt x="2" y="252"/>
                  </a:lnTo>
                  <a:lnTo>
                    <a:pt x="3" y="238"/>
                  </a:lnTo>
                  <a:lnTo>
                    <a:pt x="6" y="224"/>
                  </a:lnTo>
                  <a:lnTo>
                    <a:pt x="9" y="210"/>
                  </a:lnTo>
                  <a:lnTo>
                    <a:pt x="12" y="196"/>
                  </a:lnTo>
                  <a:lnTo>
                    <a:pt x="17" y="183"/>
                  </a:lnTo>
                  <a:lnTo>
                    <a:pt x="22" y="170"/>
                  </a:lnTo>
                  <a:lnTo>
                    <a:pt x="28" y="158"/>
                  </a:lnTo>
                  <a:lnTo>
                    <a:pt x="35" y="145"/>
                  </a:lnTo>
                  <a:lnTo>
                    <a:pt x="41" y="133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99"/>
                  </a:lnTo>
                  <a:lnTo>
                    <a:pt x="77" y="89"/>
                  </a:lnTo>
                  <a:lnTo>
                    <a:pt x="87" y="79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4"/>
                  </a:lnTo>
                  <a:lnTo>
                    <a:pt x="146" y="37"/>
                  </a:lnTo>
                  <a:lnTo>
                    <a:pt x="159" y="31"/>
                  </a:lnTo>
                  <a:lnTo>
                    <a:pt x="173" y="25"/>
                  </a:lnTo>
                  <a:lnTo>
                    <a:pt x="187" y="19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1"/>
                  </a:lnTo>
                  <a:lnTo>
                    <a:pt x="295" y="0"/>
                  </a:lnTo>
                  <a:lnTo>
                    <a:pt x="311" y="0"/>
                  </a:lnTo>
                  <a:lnTo>
                    <a:pt x="323" y="0"/>
                  </a:lnTo>
                  <a:lnTo>
                    <a:pt x="333" y="0"/>
                  </a:lnTo>
                  <a:lnTo>
                    <a:pt x="344" y="1"/>
                  </a:lnTo>
                  <a:lnTo>
                    <a:pt x="354" y="1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5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2" y="10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9" y="17"/>
                  </a:lnTo>
                  <a:lnTo>
                    <a:pt x="457" y="20"/>
                  </a:lnTo>
                  <a:lnTo>
                    <a:pt x="467" y="23"/>
                  </a:lnTo>
                  <a:lnTo>
                    <a:pt x="467" y="251"/>
                  </a:lnTo>
                  <a:lnTo>
                    <a:pt x="459" y="247"/>
                  </a:lnTo>
                  <a:lnTo>
                    <a:pt x="452" y="244"/>
                  </a:lnTo>
                  <a:lnTo>
                    <a:pt x="445" y="240"/>
                  </a:lnTo>
                  <a:lnTo>
                    <a:pt x="438" y="238"/>
                  </a:lnTo>
                  <a:lnTo>
                    <a:pt x="431" y="235"/>
                  </a:lnTo>
                  <a:lnTo>
                    <a:pt x="424" y="232"/>
                  </a:lnTo>
                  <a:lnTo>
                    <a:pt x="418" y="230"/>
                  </a:lnTo>
                  <a:lnTo>
                    <a:pt x="411" y="228"/>
                  </a:lnTo>
                  <a:lnTo>
                    <a:pt x="404" y="227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6" y="221"/>
                  </a:lnTo>
                  <a:lnTo>
                    <a:pt x="370" y="221"/>
                  </a:lnTo>
                  <a:lnTo>
                    <a:pt x="364" y="221"/>
                  </a:lnTo>
                  <a:lnTo>
                    <a:pt x="354" y="221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6"/>
                  </a:lnTo>
                  <a:lnTo>
                    <a:pt x="316" y="228"/>
                  </a:lnTo>
                  <a:lnTo>
                    <a:pt x="308" y="231"/>
                  </a:lnTo>
                  <a:lnTo>
                    <a:pt x="301" y="235"/>
                  </a:lnTo>
                  <a:lnTo>
                    <a:pt x="295" y="239"/>
                  </a:lnTo>
                  <a:lnTo>
                    <a:pt x="290" y="244"/>
                  </a:lnTo>
                  <a:lnTo>
                    <a:pt x="285" y="250"/>
                  </a:lnTo>
                  <a:lnTo>
                    <a:pt x="281" y="256"/>
                  </a:lnTo>
                  <a:lnTo>
                    <a:pt x="277" y="263"/>
                  </a:lnTo>
                  <a:lnTo>
                    <a:pt x="275" y="270"/>
                  </a:lnTo>
                  <a:lnTo>
                    <a:pt x="273" y="277"/>
                  </a:lnTo>
                  <a:lnTo>
                    <a:pt x="272" y="285"/>
                  </a:lnTo>
                  <a:lnTo>
                    <a:pt x="271" y="293"/>
                  </a:lnTo>
                  <a:lnTo>
                    <a:pt x="272" y="298"/>
                  </a:lnTo>
                  <a:lnTo>
                    <a:pt x="272" y="303"/>
                  </a:lnTo>
                  <a:lnTo>
                    <a:pt x="274" y="309"/>
                  </a:lnTo>
                  <a:lnTo>
                    <a:pt x="276" y="314"/>
                  </a:lnTo>
                  <a:lnTo>
                    <a:pt x="281" y="324"/>
                  </a:lnTo>
                  <a:lnTo>
                    <a:pt x="288" y="335"/>
                  </a:lnTo>
                  <a:lnTo>
                    <a:pt x="297" y="347"/>
                  </a:lnTo>
                  <a:lnTo>
                    <a:pt x="308" y="359"/>
                  </a:lnTo>
                  <a:lnTo>
                    <a:pt x="322" y="371"/>
                  </a:lnTo>
                  <a:lnTo>
                    <a:pt x="337" y="384"/>
                  </a:lnTo>
                  <a:lnTo>
                    <a:pt x="344" y="389"/>
                  </a:lnTo>
                  <a:lnTo>
                    <a:pt x="349" y="394"/>
                  </a:lnTo>
                  <a:lnTo>
                    <a:pt x="355" y="399"/>
                  </a:lnTo>
                  <a:lnTo>
                    <a:pt x="360" y="403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5" y="415"/>
                  </a:lnTo>
                  <a:lnTo>
                    <a:pt x="378" y="418"/>
                  </a:lnTo>
                  <a:lnTo>
                    <a:pt x="391" y="430"/>
                  </a:lnTo>
                  <a:lnTo>
                    <a:pt x="403" y="442"/>
                  </a:lnTo>
                  <a:lnTo>
                    <a:pt x="415" y="455"/>
                  </a:lnTo>
                  <a:lnTo>
                    <a:pt x="425" y="468"/>
                  </a:lnTo>
                  <a:lnTo>
                    <a:pt x="435" y="482"/>
                  </a:lnTo>
                  <a:lnTo>
                    <a:pt x="444" y="495"/>
                  </a:lnTo>
                  <a:lnTo>
                    <a:pt x="452" y="511"/>
                  </a:lnTo>
                  <a:lnTo>
                    <a:pt x="459" y="525"/>
                  </a:lnTo>
                  <a:lnTo>
                    <a:pt x="467" y="540"/>
                  </a:lnTo>
                  <a:lnTo>
                    <a:pt x="472" y="555"/>
                  </a:lnTo>
                  <a:lnTo>
                    <a:pt x="477" y="572"/>
                  </a:lnTo>
                  <a:lnTo>
                    <a:pt x="481" y="587"/>
                  </a:lnTo>
                  <a:lnTo>
                    <a:pt x="484" y="603"/>
                  </a:lnTo>
                  <a:lnTo>
                    <a:pt x="486" y="620"/>
                  </a:lnTo>
                  <a:lnTo>
                    <a:pt x="487" y="637"/>
                  </a:lnTo>
                  <a:lnTo>
                    <a:pt x="488" y="653"/>
                  </a:lnTo>
                  <a:lnTo>
                    <a:pt x="487" y="671"/>
                  </a:lnTo>
                  <a:lnTo>
                    <a:pt x="486" y="687"/>
                  </a:lnTo>
                  <a:lnTo>
                    <a:pt x="484" y="703"/>
                  </a:lnTo>
                  <a:lnTo>
                    <a:pt x="482" y="719"/>
                  </a:lnTo>
                  <a:lnTo>
                    <a:pt x="479" y="734"/>
                  </a:lnTo>
                  <a:lnTo>
                    <a:pt x="475" y="749"/>
                  </a:lnTo>
                  <a:lnTo>
                    <a:pt x="470" y="763"/>
                  </a:lnTo>
                  <a:lnTo>
                    <a:pt x="465" y="777"/>
                  </a:lnTo>
                  <a:lnTo>
                    <a:pt x="458" y="790"/>
                  </a:lnTo>
                  <a:lnTo>
                    <a:pt x="452" y="803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39"/>
                  </a:lnTo>
                  <a:lnTo>
                    <a:pt x="418" y="850"/>
                  </a:lnTo>
                  <a:lnTo>
                    <a:pt x="407" y="860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89"/>
                  </a:lnTo>
                  <a:lnTo>
                    <a:pt x="359" y="897"/>
                  </a:lnTo>
                  <a:lnTo>
                    <a:pt x="346" y="904"/>
                  </a:lnTo>
                  <a:lnTo>
                    <a:pt x="332" y="911"/>
                  </a:lnTo>
                  <a:lnTo>
                    <a:pt x="318" y="919"/>
                  </a:lnTo>
                  <a:lnTo>
                    <a:pt x="302" y="924"/>
                  </a:lnTo>
                  <a:lnTo>
                    <a:pt x="287" y="929"/>
                  </a:lnTo>
                  <a:lnTo>
                    <a:pt x="271" y="934"/>
                  </a:lnTo>
                  <a:lnTo>
                    <a:pt x="254" y="938"/>
                  </a:lnTo>
                  <a:lnTo>
                    <a:pt x="237" y="941"/>
                  </a:lnTo>
                  <a:lnTo>
                    <a:pt x="218" y="944"/>
                  </a:lnTo>
                  <a:lnTo>
                    <a:pt x="200" y="946"/>
                  </a:lnTo>
                  <a:lnTo>
                    <a:pt x="182" y="947"/>
                  </a:lnTo>
                  <a:lnTo>
                    <a:pt x="162" y="948"/>
                  </a:lnTo>
                  <a:lnTo>
                    <a:pt x="142" y="949"/>
                  </a:lnTo>
                  <a:lnTo>
                    <a:pt x="134" y="948"/>
                  </a:lnTo>
                  <a:lnTo>
                    <a:pt x="126" y="948"/>
                  </a:lnTo>
                  <a:lnTo>
                    <a:pt x="117" y="948"/>
                  </a:lnTo>
                  <a:lnTo>
                    <a:pt x="109" y="948"/>
                  </a:lnTo>
                  <a:lnTo>
                    <a:pt x="101" y="947"/>
                  </a:lnTo>
                  <a:lnTo>
                    <a:pt x="93" y="947"/>
                  </a:lnTo>
                  <a:lnTo>
                    <a:pt x="86" y="946"/>
                  </a:lnTo>
                  <a:lnTo>
                    <a:pt x="78" y="945"/>
                  </a:lnTo>
                  <a:lnTo>
                    <a:pt x="70" y="945"/>
                  </a:lnTo>
                  <a:lnTo>
                    <a:pt x="62" y="944"/>
                  </a:lnTo>
                  <a:lnTo>
                    <a:pt x="55" y="943"/>
                  </a:lnTo>
                  <a:lnTo>
                    <a:pt x="47" y="942"/>
                  </a:lnTo>
                  <a:lnTo>
                    <a:pt x="40" y="941"/>
                  </a:lnTo>
                  <a:lnTo>
                    <a:pt x="33" y="940"/>
                  </a:lnTo>
                  <a:lnTo>
                    <a:pt x="25" y="938"/>
                  </a:lnTo>
                  <a:lnTo>
                    <a:pt x="18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1274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7" y="232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435640" y="2324160"/>
              <a:ext cx="239760" cy="291960"/>
            </a:xfrm>
            <a:custGeom>
              <a:avLst/>
              <a:gdLst/>
              <a:ahLst/>
              <a:rect l="l" t="t" r="r" b="b"/>
              <a:pathLst>
                <a:path w="758" h="921">
                  <a:moveTo>
                    <a:pt x="250" y="921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374" y="276"/>
                  </a:lnTo>
                  <a:lnTo>
                    <a:pt x="490" y="0"/>
                  </a:lnTo>
                  <a:lnTo>
                    <a:pt x="758" y="0"/>
                  </a:lnTo>
                  <a:lnTo>
                    <a:pt x="490" y="519"/>
                  </a:lnTo>
                  <a:lnTo>
                    <a:pt x="490" y="921"/>
                  </a:lnTo>
                  <a:lnTo>
                    <a:pt x="25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74200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4" y="17"/>
                  </a:lnTo>
                  <a:lnTo>
                    <a:pt x="123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79" y="50"/>
                  </a:lnTo>
                  <a:lnTo>
                    <a:pt x="70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5" y="100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19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5" y="318"/>
                  </a:lnTo>
                  <a:lnTo>
                    <a:pt x="19" y="328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5" y="356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3"/>
                  </a:lnTo>
                  <a:lnTo>
                    <a:pt x="62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7" y="412"/>
                  </a:lnTo>
                  <a:lnTo>
                    <a:pt x="96" y="420"/>
                  </a:lnTo>
                  <a:lnTo>
                    <a:pt x="105" y="426"/>
                  </a:lnTo>
                  <a:lnTo>
                    <a:pt x="114" y="431"/>
                  </a:lnTo>
                  <a:lnTo>
                    <a:pt x="123" y="436"/>
                  </a:lnTo>
                  <a:lnTo>
                    <a:pt x="132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4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4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5"/>
                  </a:lnTo>
                  <a:lnTo>
                    <a:pt x="323" y="431"/>
                  </a:lnTo>
                  <a:lnTo>
                    <a:pt x="333" y="425"/>
                  </a:lnTo>
                  <a:lnTo>
                    <a:pt x="342" y="420"/>
                  </a:lnTo>
                  <a:lnTo>
                    <a:pt x="350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6" y="364"/>
                  </a:lnTo>
                  <a:lnTo>
                    <a:pt x="402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6" y="306"/>
                  </a:lnTo>
                  <a:lnTo>
                    <a:pt x="430" y="296"/>
                  </a:lnTo>
                  <a:lnTo>
                    <a:pt x="432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2"/>
                  </a:lnTo>
                  <a:lnTo>
                    <a:pt x="430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6" y="67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3" y="32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4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4" y="6"/>
                  </a:lnTo>
                  <a:lnTo>
                    <a:pt x="263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664240" y="2316240"/>
              <a:ext cx="29520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5" y="0"/>
                  </a:moveTo>
                  <a:lnTo>
                    <a:pt x="488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30"/>
                  </a:lnTo>
                  <a:lnTo>
                    <a:pt x="651" y="38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3"/>
                  </a:lnTo>
                  <a:lnTo>
                    <a:pt x="840" y="193"/>
                  </a:lnTo>
                  <a:lnTo>
                    <a:pt x="854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3"/>
                  </a:lnTo>
                  <a:lnTo>
                    <a:pt x="901" y="306"/>
                  </a:lnTo>
                  <a:lnTo>
                    <a:pt x="909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09" y="638"/>
                  </a:lnTo>
                  <a:lnTo>
                    <a:pt x="901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4" y="756"/>
                  </a:lnTo>
                  <a:lnTo>
                    <a:pt x="839" y="778"/>
                  </a:lnTo>
                  <a:lnTo>
                    <a:pt x="824" y="798"/>
                  </a:lnTo>
                  <a:lnTo>
                    <a:pt x="806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4" y="869"/>
                  </a:lnTo>
                  <a:lnTo>
                    <a:pt x="738" y="882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2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4"/>
                  </a:lnTo>
                  <a:lnTo>
                    <a:pt x="194" y="882"/>
                  </a:lnTo>
                  <a:lnTo>
                    <a:pt x="177" y="869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8"/>
                  </a:lnTo>
                  <a:lnTo>
                    <a:pt x="32" y="663"/>
                  </a:lnTo>
                  <a:lnTo>
                    <a:pt x="23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3" y="331"/>
                  </a:lnTo>
                  <a:lnTo>
                    <a:pt x="32" y="306"/>
                  </a:lnTo>
                  <a:lnTo>
                    <a:pt x="41" y="282"/>
                  </a:lnTo>
                  <a:lnTo>
                    <a:pt x="53" y="258"/>
                  </a:lnTo>
                  <a:lnTo>
                    <a:pt x="65" y="236"/>
                  </a:lnTo>
                  <a:lnTo>
                    <a:pt x="78" y="213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7"/>
                  </a:lnTo>
                  <a:lnTo>
                    <a:pt x="227" y="66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1" y="37"/>
                  </a:lnTo>
                  <a:lnTo>
                    <a:pt x="301" y="30"/>
                  </a:lnTo>
                  <a:lnTo>
                    <a:pt x="320" y="23"/>
                  </a:lnTo>
                  <a:lnTo>
                    <a:pt x="341" y="17"/>
                  </a:lnTo>
                  <a:lnTo>
                    <a:pt x="361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994360" y="2324160"/>
              <a:ext cx="196920" cy="299880"/>
            </a:xfrm>
            <a:custGeom>
              <a:avLst/>
              <a:gdLst/>
              <a:ahLst/>
              <a:rect l="l" t="t" r="r" b="b"/>
              <a:pathLst>
                <a:path w="621" h="945">
                  <a:moveTo>
                    <a:pt x="382" y="557"/>
                  </a:moveTo>
                  <a:lnTo>
                    <a:pt x="382" y="0"/>
                  </a:lnTo>
                  <a:lnTo>
                    <a:pt x="621" y="0"/>
                  </a:lnTo>
                  <a:lnTo>
                    <a:pt x="621" y="557"/>
                  </a:lnTo>
                  <a:lnTo>
                    <a:pt x="620" y="588"/>
                  </a:lnTo>
                  <a:lnTo>
                    <a:pt x="620" y="618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4" y="693"/>
                  </a:lnTo>
                  <a:lnTo>
                    <a:pt x="611" y="715"/>
                  </a:lnTo>
                  <a:lnTo>
                    <a:pt x="607" y="734"/>
                  </a:lnTo>
                  <a:lnTo>
                    <a:pt x="603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70" y="824"/>
                  </a:lnTo>
                  <a:lnTo>
                    <a:pt x="561" y="837"/>
                  </a:lnTo>
                  <a:lnTo>
                    <a:pt x="552" y="849"/>
                  </a:lnTo>
                  <a:lnTo>
                    <a:pt x="541" y="861"/>
                  </a:lnTo>
                  <a:lnTo>
                    <a:pt x="531" y="871"/>
                  </a:lnTo>
                  <a:lnTo>
                    <a:pt x="521" y="880"/>
                  </a:lnTo>
                  <a:lnTo>
                    <a:pt x="510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8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2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2"/>
                  </a:lnTo>
                  <a:lnTo>
                    <a:pt x="346" y="943"/>
                  </a:lnTo>
                  <a:lnTo>
                    <a:pt x="329" y="944"/>
                  </a:lnTo>
                  <a:lnTo>
                    <a:pt x="311" y="945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9" y="942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80" y="923"/>
                  </a:lnTo>
                  <a:lnTo>
                    <a:pt x="165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6"/>
                  </a:lnTo>
                  <a:lnTo>
                    <a:pt x="112" y="888"/>
                  </a:lnTo>
                  <a:lnTo>
                    <a:pt x="102" y="880"/>
                  </a:lnTo>
                  <a:lnTo>
                    <a:pt x="91" y="871"/>
                  </a:lnTo>
                  <a:lnTo>
                    <a:pt x="82" y="861"/>
                  </a:lnTo>
                  <a:lnTo>
                    <a:pt x="72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7" y="795"/>
                  </a:lnTo>
                  <a:lnTo>
                    <a:pt x="30" y="781"/>
                  </a:lnTo>
                  <a:lnTo>
                    <a:pt x="24" y="766"/>
                  </a:lnTo>
                  <a:lnTo>
                    <a:pt x="20" y="749"/>
                  </a:lnTo>
                  <a:lnTo>
                    <a:pt x="14" y="732"/>
                  </a:lnTo>
                  <a:lnTo>
                    <a:pt x="11" y="713"/>
                  </a:lnTo>
                  <a:lnTo>
                    <a:pt x="8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2" y="617"/>
                  </a:lnTo>
                  <a:lnTo>
                    <a:pt x="1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1" y="576"/>
                  </a:lnTo>
                  <a:lnTo>
                    <a:pt x="241" y="593"/>
                  </a:lnTo>
                  <a:lnTo>
                    <a:pt x="243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1" y="673"/>
                  </a:lnTo>
                  <a:lnTo>
                    <a:pt x="266" y="679"/>
                  </a:lnTo>
                  <a:lnTo>
                    <a:pt x="272" y="684"/>
                  </a:lnTo>
                  <a:lnTo>
                    <a:pt x="278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2" y="696"/>
                  </a:lnTo>
                  <a:lnTo>
                    <a:pt x="321" y="696"/>
                  </a:lnTo>
                  <a:lnTo>
                    <a:pt x="329" y="694"/>
                  </a:lnTo>
                  <a:lnTo>
                    <a:pt x="337" y="692"/>
                  </a:lnTo>
                  <a:lnTo>
                    <a:pt x="344" y="688"/>
                  </a:lnTo>
                  <a:lnTo>
                    <a:pt x="350" y="684"/>
                  </a:lnTo>
                  <a:lnTo>
                    <a:pt x="357" y="679"/>
                  </a:lnTo>
                  <a:lnTo>
                    <a:pt x="362" y="673"/>
                  </a:lnTo>
                  <a:lnTo>
                    <a:pt x="366" y="665"/>
                  </a:lnTo>
                  <a:lnTo>
                    <a:pt x="370" y="657"/>
                  </a:lnTo>
                  <a:lnTo>
                    <a:pt x="373" y="646"/>
                  </a:lnTo>
                  <a:lnTo>
                    <a:pt x="376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315120" y="2389320"/>
              <a:ext cx="49320" cy="72720"/>
            </a:xfrm>
            <a:custGeom>
              <a:avLst/>
              <a:gdLst/>
              <a:ahLst/>
              <a:rect l="l" t="t" r="r" b="b"/>
              <a:pathLst>
                <a:path w="155" h="230">
                  <a:moveTo>
                    <a:pt x="0" y="230"/>
                  </a:moveTo>
                  <a:lnTo>
                    <a:pt x="24" y="230"/>
                  </a:lnTo>
                  <a:lnTo>
                    <a:pt x="39" y="230"/>
                  </a:lnTo>
                  <a:lnTo>
                    <a:pt x="54" y="228"/>
                  </a:lnTo>
                  <a:lnTo>
                    <a:pt x="67" y="226"/>
                  </a:lnTo>
                  <a:lnTo>
                    <a:pt x="81" y="223"/>
                  </a:lnTo>
                  <a:lnTo>
                    <a:pt x="92" y="219"/>
                  </a:lnTo>
                  <a:lnTo>
                    <a:pt x="103" y="214"/>
                  </a:lnTo>
                  <a:lnTo>
                    <a:pt x="112" y="208"/>
                  </a:lnTo>
                  <a:lnTo>
                    <a:pt x="122" y="201"/>
                  </a:lnTo>
                  <a:lnTo>
                    <a:pt x="130" y="194"/>
                  </a:lnTo>
                  <a:lnTo>
                    <a:pt x="136" y="184"/>
                  </a:lnTo>
                  <a:lnTo>
                    <a:pt x="142" y="175"/>
                  </a:lnTo>
                  <a:lnTo>
                    <a:pt x="147" y="165"/>
                  </a:lnTo>
                  <a:lnTo>
                    <a:pt x="150" y="154"/>
                  </a:lnTo>
                  <a:lnTo>
                    <a:pt x="153" y="143"/>
                  </a:lnTo>
                  <a:lnTo>
                    <a:pt x="155" y="129"/>
                  </a:lnTo>
                  <a:lnTo>
                    <a:pt x="155" y="116"/>
                  </a:lnTo>
                  <a:lnTo>
                    <a:pt x="155" y="102"/>
                  </a:lnTo>
                  <a:lnTo>
                    <a:pt x="153" y="90"/>
                  </a:lnTo>
                  <a:lnTo>
                    <a:pt x="151" y="77"/>
                  </a:lnTo>
                  <a:lnTo>
                    <a:pt x="147" y="66"/>
                  </a:lnTo>
                  <a:lnTo>
                    <a:pt x="143" y="56"/>
                  </a:lnTo>
                  <a:lnTo>
                    <a:pt x="137" y="46"/>
                  </a:lnTo>
                  <a:lnTo>
                    <a:pt x="131" y="37"/>
                  </a:lnTo>
                  <a:lnTo>
                    <a:pt x="123" y="29"/>
                  </a:lnTo>
                  <a:lnTo>
                    <a:pt x="114" y="22"/>
                  </a:lnTo>
                  <a:lnTo>
                    <a:pt x="105" y="16"/>
                  </a:lnTo>
                  <a:lnTo>
                    <a:pt x="95" y="11"/>
                  </a:lnTo>
                  <a:lnTo>
                    <a:pt x="84" y="7"/>
                  </a:lnTo>
                  <a:lnTo>
                    <a:pt x="72" y="4"/>
                  </a:lnTo>
                  <a:lnTo>
                    <a:pt x="58" y="2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240600" y="2324160"/>
              <a:ext cx="2188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0" y="921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5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6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50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5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8" y="526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611520" y="2817720"/>
              <a:ext cx="184320" cy="292320"/>
            </a:xfrm>
            <a:custGeom>
              <a:avLst/>
              <a:gdLst/>
              <a:ahLst/>
              <a:rect l="l" t="t" r="r" b="b"/>
              <a:pathLst>
                <a:path w="580" h="920">
                  <a:moveTo>
                    <a:pt x="580" y="667"/>
                  </a:moveTo>
                  <a:lnTo>
                    <a:pt x="504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667"/>
                  </a:lnTo>
                  <a:lnTo>
                    <a:pt x="580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825720" y="2817720"/>
              <a:ext cx="74880" cy="292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954600" y="2817720"/>
              <a:ext cx="171360" cy="292320"/>
            </a:xfrm>
            <a:custGeom>
              <a:avLst/>
              <a:gdLst/>
              <a:ahLst/>
              <a:rect l="l" t="t" r="r" b="b"/>
              <a:pathLst>
                <a:path w="542" h="920">
                  <a:moveTo>
                    <a:pt x="0" y="920"/>
                  </a:moveTo>
                  <a:lnTo>
                    <a:pt x="0" y="0"/>
                  </a:lnTo>
                  <a:lnTo>
                    <a:pt x="506" y="0"/>
                  </a:lnTo>
                  <a:lnTo>
                    <a:pt x="542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29" y="338"/>
                  </a:lnTo>
                  <a:lnTo>
                    <a:pt x="429" y="582"/>
                  </a:lnTo>
                  <a:lnTo>
                    <a:pt x="239" y="582"/>
                  </a:lnTo>
                  <a:lnTo>
                    <a:pt x="239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152960" y="2817720"/>
              <a:ext cx="18252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2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6" y="338"/>
                  </a:lnTo>
                  <a:lnTo>
                    <a:pt x="446" y="582"/>
                  </a:lnTo>
                  <a:lnTo>
                    <a:pt x="239" y="582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59320" y="2817720"/>
              <a:ext cx="19512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743360" y="2890800"/>
              <a:ext cx="139680" cy="14436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8" y="0"/>
                  </a:moveTo>
                  <a:lnTo>
                    <a:pt x="207" y="1"/>
                  </a:lnTo>
                  <a:lnTo>
                    <a:pt x="196" y="2"/>
                  </a:lnTo>
                  <a:lnTo>
                    <a:pt x="185" y="3"/>
                  </a:lnTo>
                  <a:lnTo>
                    <a:pt x="174" y="5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3" y="17"/>
                  </a:lnTo>
                  <a:lnTo>
                    <a:pt x="123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4"/>
                  </a:lnTo>
                  <a:lnTo>
                    <a:pt x="78" y="51"/>
                  </a:lnTo>
                  <a:lnTo>
                    <a:pt x="70" y="58"/>
                  </a:lnTo>
                  <a:lnTo>
                    <a:pt x="62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1" y="92"/>
                  </a:lnTo>
                  <a:lnTo>
                    <a:pt x="34" y="101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19" y="129"/>
                  </a:lnTo>
                  <a:lnTo>
                    <a:pt x="15" y="139"/>
                  </a:lnTo>
                  <a:lnTo>
                    <a:pt x="11" y="150"/>
                  </a:lnTo>
                  <a:lnTo>
                    <a:pt x="8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7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8" y="297"/>
                  </a:lnTo>
                  <a:lnTo>
                    <a:pt x="11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4" y="356"/>
                  </a:lnTo>
                  <a:lnTo>
                    <a:pt x="41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2" y="390"/>
                  </a:lnTo>
                  <a:lnTo>
                    <a:pt x="70" y="399"/>
                  </a:lnTo>
                  <a:lnTo>
                    <a:pt x="78" y="406"/>
                  </a:lnTo>
                  <a:lnTo>
                    <a:pt x="86" y="413"/>
                  </a:lnTo>
                  <a:lnTo>
                    <a:pt x="96" y="419"/>
                  </a:lnTo>
                  <a:lnTo>
                    <a:pt x="104" y="425"/>
                  </a:lnTo>
                  <a:lnTo>
                    <a:pt x="113" y="430"/>
                  </a:lnTo>
                  <a:lnTo>
                    <a:pt x="123" y="435"/>
                  </a:lnTo>
                  <a:lnTo>
                    <a:pt x="132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8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2" y="454"/>
                  </a:lnTo>
                  <a:lnTo>
                    <a:pt x="263" y="452"/>
                  </a:lnTo>
                  <a:lnTo>
                    <a:pt x="273" y="450"/>
                  </a:lnTo>
                  <a:lnTo>
                    <a:pt x="285" y="447"/>
                  </a:lnTo>
                  <a:lnTo>
                    <a:pt x="294" y="443"/>
                  </a:lnTo>
                  <a:lnTo>
                    <a:pt x="304" y="439"/>
                  </a:lnTo>
                  <a:lnTo>
                    <a:pt x="314" y="435"/>
                  </a:lnTo>
                  <a:lnTo>
                    <a:pt x="323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58" y="406"/>
                  </a:lnTo>
                  <a:lnTo>
                    <a:pt x="366" y="399"/>
                  </a:lnTo>
                  <a:lnTo>
                    <a:pt x="374" y="390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6" y="365"/>
                  </a:lnTo>
                  <a:lnTo>
                    <a:pt x="402" y="356"/>
                  </a:lnTo>
                  <a:lnTo>
                    <a:pt x="408" y="347"/>
                  </a:lnTo>
                  <a:lnTo>
                    <a:pt x="413" y="337"/>
                  </a:lnTo>
                  <a:lnTo>
                    <a:pt x="417" y="327"/>
                  </a:lnTo>
                  <a:lnTo>
                    <a:pt x="422" y="317"/>
                  </a:lnTo>
                  <a:lnTo>
                    <a:pt x="426" y="307"/>
                  </a:lnTo>
                  <a:lnTo>
                    <a:pt x="429" y="297"/>
                  </a:lnTo>
                  <a:lnTo>
                    <a:pt x="432" y="285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8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1"/>
                  </a:lnTo>
                  <a:lnTo>
                    <a:pt x="426" y="151"/>
                  </a:lnTo>
                  <a:lnTo>
                    <a:pt x="422" y="139"/>
                  </a:lnTo>
                  <a:lnTo>
                    <a:pt x="417" y="130"/>
                  </a:lnTo>
                  <a:lnTo>
                    <a:pt x="413" y="120"/>
                  </a:lnTo>
                  <a:lnTo>
                    <a:pt x="408" y="111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4" y="66"/>
                  </a:lnTo>
                  <a:lnTo>
                    <a:pt x="366" y="59"/>
                  </a:lnTo>
                  <a:lnTo>
                    <a:pt x="358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3" y="31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4" y="17"/>
                  </a:lnTo>
                  <a:lnTo>
                    <a:pt x="294" y="13"/>
                  </a:lnTo>
                  <a:lnTo>
                    <a:pt x="285" y="10"/>
                  </a:lnTo>
                  <a:lnTo>
                    <a:pt x="273" y="7"/>
                  </a:lnTo>
                  <a:lnTo>
                    <a:pt x="263" y="5"/>
                  </a:lnTo>
                  <a:lnTo>
                    <a:pt x="252" y="3"/>
                  </a:lnTo>
                  <a:lnTo>
                    <a:pt x="242" y="2"/>
                  </a:lnTo>
                  <a:lnTo>
                    <a:pt x="230" y="1"/>
                  </a:lnTo>
                  <a:lnTo>
                    <a:pt x="21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665600" y="2809800"/>
              <a:ext cx="2952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5" y="0"/>
                  </a:moveTo>
                  <a:lnTo>
                    <a:pt x="487" y="0"/>
                  </a:lnTo>
                  <a:lnTo>
                    <a:pt x="508" y="1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1"/>
                  </a:lnTo>
                  <a:lnTo>
                    <a:pt x="592" y="16"/>
                  </a:lnTo>
                  <a:lnTo>
                    <a:pt x="611" y="22"/>
                  </a:lnTo>
                  <a:lnTo>
                    <a:pt x="632" y="29"/>
                  </a:lnTo>
                  <a:lnTo>
                    <a:pt x="651" y="36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5"/>
                  </a:lnTo>
                  <a:lnTo>
                    <a:pt x="723" y="76"/>
                  </a:lnTo>
                  <a:lnTo>
                    <a:pt x="739" y="87"/>
                  </a:lnTo>
                  <a:lnTo>
                    <a:pt x="754" y="101"/>
                  </a:lnTo>
                  <a:lnTo>
                    <a:pt x="769" y="114"/>
                  </a:lnTo>
                  <a:lnTo>
                    <a:pt x="789" y="132"/>
                  </a:lnTo>
                  <a:lnTo>
                    <a:pt x="806" y="152"/>
                  </a:lnTo>
                  <a:lnTo>
                    <a:pt x="824" y="171"/>
                  </a:lnTo>
                  <a:lnTo>
                    <a:pt x="839" y="192"/>
                  </a:lnTo>
                  <a:lnTo>
                    <a:pt x="854" y="213"/>
                  </a:lnTo>
                  <a:lnTo>
                    <a:pt x="868" y="235"/>
                  </a:lnTo>
                  <a:lnTo>
                    <a:pt x="880" y="258"/>
                  </a:lnTo>
                  <a:lnTo>
                    <a:pt x="891" y="281"/>
                  </a:lnTo>
                  <a:lnTo>
                    <a:pt x="901" y="306"/>
                  </a:lnTo>
                  <a:lnTo>
                    <a:pt x="909" y="330"/>
                  </a:lnTo>
                  <a:lnTo>
                    <a:pt x="917" y="355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1" y="431"/>
                  </a:lnTo>
                  <a:lnTo>
                    <a:pt x="933" y="458"/>
                  </a:lnTo>
                  <a:lnTo>
                    <a:pt x="933" y="483"/>
                  </a:lnTo>
                  <a:lnTo>
                    <a:pt x="933" y="510"/>
                  </a:lnTo>
                  <a:lnTo>
                    <a:pt x="931" y="536"/>
                  </a:lnTo>
                  <a:lnTo>
                    <a:pt x="927" y="562"/>
                  </a:lnTo>
                  <a:lnTo>
                    <a:pt x="923" y="587"/>
                  </a:lnTo>
                  <a:lnTo>
                    <a:pt x="917" y="613"/>
                  </a:lnTo>
                  <a:lnTo>
                    <a:pt x="909" y="637"/>
                  </a:lnTo>
                  <a:lnTo>
                    <a:pt x="900" y="662"/>
                  </a:lnTo>
                  <a:lnTo>
                    <a:pt x="891" y="686"/>
                  </a:lnTo>
                  <a:lnTo>
                    <a:pt x="880" y="710"/>
                  </a:lnTo>
                  <a:lnTo>
                    <a:pt x="867" y="733"/>
                  </a:lnTo>
                  <a:lnTo>
                    <a:pt x="853" y="755"/>
                  </a:lnTo>
                  <a:lnTo>
                    <a:pt x="839" y="776"/>
                  </a:lnTo>
                  <a:lnTo>
                    <a:pt x="824" y="797"/>
                  </a:lnTo>
                  <a:lnTo>
                    <a:pt x="806" y="817"/>
                  </a:lnTo>
                  <a:lnTo>
                    <a:pt x="788" y="836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1"/>
                  </a:lnTo>
                  <a:lnTo>
                    <a:pt x="722" y="892"/>
                  </a:lnTo>
                  <a:lnTo>
                    <a:pt x="704" y="903"/>
                  </a:lnTo>
                  <a:lnTo>
                    <a:pt x="687" y="914"/>
                  </a:lnTo>
                  <a:lnTo>
                    <a:pt x="668" y="923"/>
                  </a:lnTo>
                  <a:lnTo>
                    <a:pt x="650" y="932"/>
                  </a:lnTo>
                  <a:lnTo>
                    <a:pt x="631" y="939"/>
                  </a:lnTo>
                  <a:lnTo>
                    <a:pt x="611" y="946"/>
                  </a:lnTo>
                  <a:lnTo>
                    <a:pt x="591" y="952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2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2"/>
                  </a:lnTo>
                  <a:lnTo>
                    <a:pt x="320" y="946"/>
                  </a:lnTo>
                  <a:lnTo>
                    <a:pt x="301" y="939"/>
                  </a:lnTo>
                  <a:lnTo>
                    <a:pt x="281" y="932"/>
                  </a:lnTo>
                  <a:lnTo>
                    <a:pt x="263" y="923"/>
                  </a:lnTo>
                  <a:lnTo>
                    <a:pt x="245" y="914"/>
                  </a:lnTo>
                  <a:lnTo>
                    <a:pt x="227" y="903"/>
                  </a:lnTo>
                  <a:lnTo>
                    <a:pt x="210" y="892"/>
                  </a:lnTo>
                  <a:lnTo>
                    <a:pt x="194" y="881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6"/>
                  </a:lnTo>
                  <a:lnTo>
                    <a:pt x="125" y="817"/>
                  </a:lnTo>
                  <a:lnTo>
                    <a:pt x="109" y="797"/>
                  </a:lnTo>
                  <a:lnTo>
                    <a:pt x="92" y="777"/>
                  </a:lnTo>
                  <a:lnTo>
                    <a:pt x="78" y="756"/>
                  </a:lnTo>
                  <a:lnTo>
                    <a:pt x="65" y="733"/>
                  </a:lnTo>
                  <a:lnTo>
                    <a:pt x="53" y="711"/>
                  </a:lnTo>
                  <a:lnTo>
                    <a:pt x="41" y="686"/>
                  </a:lnTo>
                  <a:lnTo>
                    <a:pt x="31" y="663"/>
                  </a:lnTo>
                  <a:lnTo>
                    <a:pt x="23" y="638"/>
                  </a:lnTo>
                  <a:lnTo>
                    <a:pt x="16" y="613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2" y="536"/>
                  </a:lnTo>
                  <a:lnTo>
                    <a:pt x="0" y="510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1"/>
                  </a:lnTo>
                  <a:lnTo>
                    <a:pt x="6" y="405"/>
                  </a:lnTo>
                  <a:lnTo>
                    <a:pt x="10" y="379"/>
                  </a:lnTo>
                  <a:lnTo>
                    <a:pt x="16" y="355"/>
                  </a:lnTo>
                  <a:lnTo>
                    <a:pt x="23" y="329"/>
                  </a:lnTo>
                  <a:lnTo>
                    <a:pt x="31" y="305"/>
                  </a:lnTo>
                  <a:lnTo>
                    <a:pt x="41" y="281"/>
                  </a:lnTo>
                  <a:lnTo>
                    <a:pt x="53" y="258"/>
                  </a:lnTo>
                  <a:lnTo>
                    <a:pt x="65" y="234"/>
                  </a:lnTo>
                  <a:lnTo>
                    <a:pt x="78" y="213"/>
                  </a:lnTo>
                  <a:lnTo>
                    <a:pt x="92" y="192"/>
                  </a:lnTo>
                  <a:lnTo>
                    <a:pt x="108" y="171"/>
                  </a:lnTo>
                  <a:lnTo>
                    <a:pt x="125" y="151"/>
                  </a:lnTo>
                  <a:lnTo>
                    <a:pt x="143" y="132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7"/>
                  </a:lnTo>
                  <a:lnTo>
                    <a:pt x="210" y="75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5"/>
                  </a:lnTo>
                  <a:lnTo>
                    <a:pt x="281" y="36"/>
                  </a:lnTo>
                  <a:lnTo>
                    <a:pt x="301" y="28"/>
                  </a:lnTo>
                  <a:lnTo>
                    <a:pt x="320" y="22"/>
                  </a:lnTo>
                  <a:lnTo>
                    <a:pt x="340" y="16"/>
                  </a:lnTo>
                  <a:lnTo>
                    <a:pt x="360" y="11"/>
                  </a:lnTo>
                  <a:lnTo>
                    <a:pt x="380" y="7"/>
                  </a:lnTo>
                  <a:lnTo>
                    <a:pt x="402" y="4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116680" y="2817720"/>
              <a:ext cx="75960" cy="292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222880" y="2817720"/>
              <a:ext cx="1936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8" y="920"/>
                  </a:lnTo>
                  <a:lnTo>
                    <a:pt x="188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448240" y="3035160"/>
              <a:ext cx="69840" cy="74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448240" y="2817720"/>
              <a:ext cx="69840" cy="200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5" name=""/>
          <p:cNvGrpSpPr/>
          <p:nvPr/>
        </p:nvGrpSpPr>
        <p:grpSpPr>
          <a:xfrm>
            <a:off x="1219320" y="3589200"/>
            <a:ext cx="5083920" cy="366120"/>
            <a:chOff x="1219320" y="3589200"/>
            <a:chExt cx="5083920" cy="366120"/>
          </a:xfrm>
        </p:grpSpPr>
        <p:sp>
          <p:nvSpPr>
            <p:cNvPr id="3306" name=""/>
            <p:cNvSpPr/>
            <p:nvPr/>
          </p:nvSpPr>
          <p:spPr>
            <a:xfrm>
              <a:off x="1290240" y="3589200"/>
              <a:ext cx="501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It is a trap to make you feel secu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219320" y="365760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219320" y="365760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1164960" y="4253040"/>
            <a:ext cx="6963840" cy="731880"/>
            <a:chOff x="1164960" y="4253040"/>
            <a:chExt cx="6963840" cy="731880"/>
          </a:xfrm>
        </p:grpSpPr>
        <p:sp>
          <p:nvSpPr>
            <p:cNvPr id="3310" name=""/>
            <p:cNvSpPr/>
            <p:nvPr/>
          </p:nvSpPr>
          <p:spPr>
            <a:xfrm>
              <a:off x="1164960" y="4253040"/>
              <a:ext cx="6963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HIV virus is 50 x smaller than that of a condom'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microscopic po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219320" y="432756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219320" y="432756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3" name=""/>
          <p:cNvGrpSpPr/>
          <p:nvPr/>
        </p:nvGrpSpPr>
        <p:grpSpPr>
          <a:xfrm>
            <a:off x="1158120" y="5197320"/>
            <a:ext cx="7450200" cy="366120"/>
            <a:chOff x="1158120" y="5197320"/>
            <a:chExt cx="7450200" cy="366120"/>
          </a:xfrm>
        </p:grpSpPr>
        <p:sp>
          <p:nvSpPr>
            <p:cNvPr id="3314" name=""/>
            <p:cNvSpPr/>
            <p:nvPr/>
          </p:nvSpPr>
          <p:spPr>
            <a:xfrm>
              <a:off x="1158120" y="5197320"/>
              <a:ext cx="745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HIV virus is 500 x smaller than that of a male sper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219320" y="5299200"/>
              <a:ext cx="174600" cy="137880"/>
            </a:xfrm>
            <a:custGeom>
              <a:avLst/>
              <a:gdLst/>
              <a:ahLst/>
              <a:rect l="l" t="t" r="r" b="b"/>
              <a:pathLst>
                <a:path w="550" h="435">
                  <a:moveTo>
                    <a:pt x="0" y="435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1219320" y="5299200"/>
              <a:ext cx="174600" cy="137880"/>
            </a:xfrm>
            <a:custGeom>
              <a:avLst/>
              <a:gdLst/>
              <a:ahLst/>
              <a:rect l="l" t="t" r="r" b="b"/>
              <a:pathLst>
                <a:path w="550" h="435">
                  <a:moveTo>
                    <a:pt x="0" y="435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"/>
          <p:cNvSpPr/>
          <p:nvPr/>
        </p:nvSpPr>
        <p:spPr>
          <a:xfrm rot="16200000">
            <a:off x="2276280" y="2680920"/>
            <a:ext cx="4238640" cy="2038680"/>
          </a:xfrm>
          <a:custGeom>
            <a:avLst/>
            <a:gdLst>
              <a:gd name="textAreaLeft" fmla="*/ 662040 w 4238640"/>
              <a:gd name="textAreaRight" fmla="*/ 3709080 w 4238640"/>
              <a:gd name="textAreaTop" fmla="*/ 509760 h 2038680"/>
              <a:gd name="textAreaBottom" fmla="*/ 1529280 h 203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785680" y="708120"/>
            <a:ext cx="3772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AIDS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9" name=""/>
          <p:cNvGrpSpPr/>
          <p:nvPr/>
        </p:nvGrpSpPr>
        <p:grpSpPr>
          <a:xfrm>
            <a:off x="2105280" y="5133960"/>
            <a:ext cx="5746320" cy="730440"/>
            <a:chOff x="2105280" y="5133960"/>
            <a:chExt cx="5746320" cy="730440"/>
          </a:xfrm>
        </p:grpSpPr>
        <p:sp>
          <p:nvSpPr>
            <p:cNvPr id="3320" name=""/>
            <p:cNvSpPr/>
            <p:nvPr/>
          </p:nvSpPr>
          <p:spPr>
            <a:xfrm>
              <a:off x="5227920" y="5133960"/>
              <a:ext cx="26236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- Abstin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- A long term monogam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  </a:t>
              </a: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relationship (marria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105280" y="5438880"/>
              <a:ext cx="851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NO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2" name=""/>
          <p:cNvGrpSpPr/>
          <p:nvPr/>
        </p:nvGrpSpPr>
        <p:grpSpPr>
          <a:xfrm>
            <a:off x="2091240" y="1927080"/>
            <a:ext cx="5899680" cy="711360"/>
            <a:chOff x="2091240" y="1927080"/>
            <a:chExt cx="5899680" cy="711360"/>
          </a:xfrm>
        </p:grpSpPr>
        <p:sp>
          <p:nvSpPr>
            <p:cNvPr id="3323" name=""/>
            <p:cNvSpPr/>
            <p:nvPr/>
          </p:nvSpPr>
          <p:spPr>
            <a:xfrm>
              <a:off x="5272920" y="1933560"/>
              <a:ext cx="2718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Numerous partners withou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the use of cond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091240" y="1927080"/>
              <a:ext cx="1067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HIGH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24200" y="263844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2059920" y="3000240"/>
            <a:ext cx="5598000" cy="762120"/>
            <a:chOff x="2059920" y="3000240"/>
            <a:chExt cx="5598000" cy="762120"/>
          </a:xfrm>
        </p:grpSpPr>
        <p:sp>
          <p:nvSpPr>
            <p:cNvPr id="3327" name=""/>
            <p:cNvSpPr/>
            <p:nvPr/>
          </p:nvSpPr>
          <p:spPr>
            <a:xfrm>
              <a:off x="5310360" y="3000240"/>
              <a:ext cx="23475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Several partners and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use of cond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059920" y="3094200"/>
              <a:ext cx="142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MEDIUM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824200" y="3762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2098800" y="4067280"/>
            <a:ext cx="5618880" cy="838080"/>
            <a:chOff x="2098800" y="4067280"/>
            <a:chExt cx="5618880" cy="838080"/>
          </a:xfrm>
        </p:grpSpPr>
        <p:sp>
          <p:nvSpPr>
            <p:cNvPr id="3331" name=""/>
            <p:cNvSpPr/>
            <p:nvPr/>
          </p:nvSpPr>
          <p:spPr>
            <a:xfrm>
              <a:off x="5338080" y="4067280"/>
              <a:ext cx="2379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A known partner and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use of a cond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098800" y="4178160"/>
              <a:ext cx="100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LOW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824200" y="4905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3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4" name=""/>
          <p:cNvGrpSpPr/>
          <p:nvPr/>
        </p:nvGrpSpPr>
        <p:grpSpPr>
          <a:xfrm>
            <a:off x="312120" y="1066680"/>
            <a:ext cx="7736400" cy="1755720"/>
            <a:chOff x="312120" y="1066680"/>
            <a:chExt cx="7736400" cy="1755720"/>
          </a:xfrm>
        </p:grpSpPr>
        <p:sp>
          <p:nvSpPr>
            <p:cNvPr id="3335" name=""/>
            <p:cNvSpPr/>
            <p:nvPr/>
          </p:nvSpPr>
          <p:spPr>
            <a:xfrm>
              <a:off x="5473800" y="1066680"/>
              <a:ext cx="776160" cy="1603440"/>
            </a:xfrm>
            <a:custGeom>
              <a:avLst/>
              <a:gdLst/>
              <a:ahLst/>
              <a:rect l="l" t="t" r="r" b="b"/>
              <a:pathLst>
                <a:path w="1807" h="3724">
                  <a:moveTo>
                    <a:pt x="1352" y="798"/>
                  </a:moveTo>
                  <a:lnTo>
                    <a:pt x="422" y="798"/>
                  </a:lnTo>
                  <a:lnTo>
                    <a:pt x="409" y="798"/>
                  </a:lnTo>
                  <a:lnTo>
                    <a:pt x="389" y="805"/>
                  </a:lnTo>
                  <a:lnTo>
                    <a:pt x="369" y="812"/>
                  </a:lnTo>
                  <a:lnTo>
                    <a:pt x="356" y="819"/>
                  </a:lnTo>
                  <a:lnTo>
                    <a:pt x="336" y="825"/>
                  </a:lnTo>
                  <a:lnTo>
                    <a:pt x="323" y="838"/>
                  </a:lnTo>
                  <a:lnTo>
                    <a:pt x="303" y="851"/>
                  </a:lnTo>
                  <a:lnTo>
                    <a:pt x="290" y="865"/>
                  </a:lnTo>
                  <a:lnTo>
                    <a:pt x="277" y="878"/>
                  </a:lnTo>
                  <a:lnTo>
                    <a:pt x="263" y="897"/>
                  </a:lnTo>
                  <a:lnTo>
                    <a:pt x="250" y="910"/>
                  </a:lnTo>
                  <a:lnTo>
                    <a:pt x="244" y="931"/>
                  </a:lnTo>
                  <a:lnTo>
                    <a:pt x="237" y="944"/>
                  </a:lnTo>
                  <a:lnTo>
                    <a:pt x="224" y="963"/>
                  </a:lnTo>
                  <a:lnTo>
                    <a:pt x="224" y="983"/>
                  </a:lnTo>
                  <a:lnTo>
                    <a:pt x="218" y="996"/>
                  </a:lnTo>
                  <a:lnTo>
                    <a:pt x="0" y="2159"/>
                  </a:lnTo>
                  <a:lnTo>
                    <a:pt x="0" y="2172"/>
                  </a:lnTo>
                  <a:lnTo>
                    <a:pt x="0" y="2192"/>
                  </a:lnTo>
                  <a:lnTo>
                    <a:pt x="0" y="2205"/>
                  </a:lnTo>
                  <a:lnTo>
                    <a:pt x="0" y="2224"/>
                  </a:lnTo>
                  <a:lnTo>
                    <a:pt x="7" y="2237"/>
                  </a:lnTo>
                  <a:lnTo>
                    <a:pt x="13" y="2251"/>
                  </a:lnTo>
                  <a:lnTo>
                    <a:pt x="20" y="2264"/>
                  </a:lnTo>
                  <a:lnTo>
                    <a:pt x="26" y="2277"/>
                  </a:lnTo>
                  <a:lnTo>
                    <a:pt x="39" y="2291"/>
                  </a:lnTo>
                  <a:lnTo>
                    <a:pt x="46" y="2304"/>
                  </a:lnTo>
                  <a:lnTo>
                    <a:pt x="60" y="2311"/>
                  </a:lnTo>
                  <a:lnTo>
                    <a:pt x="73" y="2317"/>
                  </a:lnTo>
                  <a:lnTo>
                    <a:pt x="85" y="2330"/>
                  </a:lnTo>
                  <a:lnTo>
                    <a:pt x="98" y="2330"/>
                  </a:lnTo>
                  <a:lnTo>
                    <a:pt x="112" y="2337"/>
                  </a:lnTo>
                  <a:lnTo>
                    <a:pt x="125" y="2344"/>
                  </a:lnTo>
                  <a:lnTo>
                    <a:pt x="145" y="2344"/>
                  </a:lnTo>
                  <a:lnTo>
                    <a:pt x="159" y="2344"/>
                  </a:lnTo>
                  <a:lnTo>
                    <a:pt x="172" y="2344"/>
                  </a:lnTo>
                  <a:lnTo>
                    <a:pt x="185" y="2344"/>
                  </a:lnTo>
                  <a:lnTo>
                    <a:pt x="204" y="2337"/>
                  </a:lnTo>
                  <a:lnTo>
                    <a:pt x="218" y="2330"/>
                  </a:lnTo>
                  <a:lnTo>
                    <a:pt x="231" y="2324"/>
                  </a:lnTo>
                  <a:lnTo>
                    <a:pt x="244" y="2317"/>
                  </a:lnTo>
                  <a:lnTo>
                    <a:pt x="257" y="2304"/>
                  </a:lnTo>
                  <a:lnTo>
                    <a:pt x="271" y="2291"/>
                  </a:lnTo>
                  <a:lnTo>
                    <a:pt x="284" y="2271"/>
                  </a:lnTo>
                  <a:lnTo>
                    <a:pt x="297" y="2251"/>
                  </a:lnTo>
                  <a:lnTo>
                    <a:pt x="303" y="2231"/>
                  </a:lnTo>
                  <a:lnTo>
                    <a:pt x="316" y="2212"/>
                  </a:lnTo>
                  <a:lnTo>
                    <a:pt x="323" y="2185"/>
                  </a:lnTo>
                  <a:lnTo>
                    <a:pt x="330" y="2159"/>
                  </a:lnTo>
                  <a:lnTo>
                    <a:pt x="488" y="1412"/>
                  </a:lnTo>
                  <a:lnTo>
                    <a:pt x="573" y="1815"/>
                  </a:lnTo>
                  <a:lnTo>
                    <a:pt x="145" y="3724"/>
                  </a:lnTo>
                  <a:lnTo>
                    <a:pt x="535" y="3724"/>
                  </a:lnTo>
                  <a:lnTo>
                    <a:pt x="903" y="2496"/>
                  </a:lnTo>
                  <a:lnTo>
                    <a:pt x="1279" y="3724"/>
                  </a:lnTo>
                  <a:lnTo>
                    <a:pt x="1682" y="3724"/>
                  </a:lnTo>
                  <a:lnTo>
                    <a:pt x="1247" y="1828"/>
                  </a:lnTo>
                  <a:lnTo>
                    <a:pt x="1306" y="1433"/>
                  </a:lnTo>
                  <a:lnTo>
                    <a:pt x="1477" y="2159"/>
                  </a:lnTo>
                  <a:lnTo>
                    <a:pt x="1484" y="2185"/>
                  </a:lnTo>
                  <a:lnTo>
                    <a:pt x="1490" y="2205"/>
                  </a:lnTo>
                  <a:lnTo>
                    <a:pt x="1498" y="2224"/>
                  </a:lnTo>
                  <a:lnTo>
                    <a:pt x="1511" y="2245"/>
                  </a:lnTo>
                  <a:lnTo>
                    <a:pt x="1524" y="2264"/>
                  </a:lnTo>
                  <a:lnTo>
                    <a:pt x="1530" y="2277"/>
                  </a:lnTo>
                  <a:lnTo>
                    <a:pt x="1543" y="2291"/>
                  </a:lnTo>
                  <a:lnTo>
                    <a:pt x="1557" y="2304"/>
                  </a:lnTo>
                  <a:lnTo>
                    <a:pt x="1576" y="2311"/>
                  </a:lnTo>
                  <a:lnTo>
                    <a:pt x="1589" y="2317"/>
                  </a:lnTo>
                  <a:lnTo>
                    <a:pt x="1602" y="2324"/>
                  </a:lnTo>
                  <a:lnTo>
                    <a:pt x="1616" y="2330"/>
                  </a:lnTo>
                  <a:lnTo>
                    <a:pt x="1636" y="2330"/>
                  </a:lnTo>
                  <a:lnTo>
                    <a:pt x="1649" y="2337"/>
                  </a:lnTo>
                  <a:lnTo>
                    <a:pt x="1663" y="2330"/>
                  </a:lnTo>
                  <a:lnTo>
                    <a:pt x="1676" y="2330"/>
                  </a:lnTo>
                  <a:lnTo>
                    <a:pt x="1695" y="2330"/>
                  </a:lnTo>
                  <a:lnTo>
                    <a:pt x="1708" y="2324"/>
                  </a:lnTo>
                  <a:lnTo>
                    <a:pt x="1722" y="2317"/>
                  </a:lnTo>
                  <a:lnTo>
                    <a:pt x="1735" y="2311"/>
                  </a:lnTo>
                  <a:lnTo>
                    <a:pt x="1748" y="2304"/>
                  </a:lnTo>
                  <a:lnTo>
                    <a:pt x="1761" y="2298"/>
                  </a:lnTo>
                  <a:lnTo>
                    <a:pt x="1768" y="2284"/>
                  </a:lnTo>
                  <a:lnTo>
                    <a:pt x="1781" y="2271"/>
                  </a:lnTo>
                  <a:lnTo>
                    <a:pt x="1788" y="2264"/>
                  </a:lnTo>
                  <a:lnTo>
                    <a:pt x="1794" y="2251"/>
                  </a:lnTo>
                  <a:lnTo>
                    <a:pt x="1801" y="2237"/>
                  </a:lnTo>
                  <a:lnTo>
                    <a:pt x="1801" y="2218"/>
                  </a:lnTo>
                  <a:lnTo>
                    <a:pt x="1807" y="2205"/>
                  </a:lnTo>
                  <a:lnTo>
                    <a:pt x="1807" y="2192"/>
                  </a:lnTo>
                  <a:lnTo>
                    <a:pt x="1807" y="2172"/>
                  </a:lnTo>
                  <a:lnTo>
                    <a:pt x="1807" y="2159"/>
                  </a:lnTo>
                  <a:lnTo>
                    <a:pt x="1563" y="957"/>
                  </a:lnTo>
                  <a:lnTo>
                    <a:pt x="1557" y="944"/>
                  </a:lnTo>
                  <a:lnTo>
                    <a:pt x="1550" y="931"/>
                  </a:lnTo>
                  <a:lnTo>
                    <a:pt x="1543" y="910"/>
                  </a:lnTo>
                  <a:lnTo>
                    <a:pt x="1530" y="897"/>
                  </a:lnTo>
                  <a:lnTo>
                    <a:pt x="1524" y="884"/>
                  </a:lnTo>
                  <a:lnTo>
                    <a:pt x="1511" y="871"/>
                  </a:lnTo>
                  <a:lnTo>
                    <a:pt x="1498" y="857"/>
                  </a:lnTo>
                  <a:lnTo>
                    <a:pt x="1484" y="851"/>
                  </a:lnTo>
                  <a:lnTo>
                    <a:pt x="1471" y="838"/>
                  </a:lnTo>
                  <a:lnTo>
                    <a:pt x="1451" y="825"/>
                  </a:lnTo>
                  <a:lnTo>
                    <a:pt x="1437" y="819"/>
                  </a:lnTo>
                  <a:lnTo>
                    <a:pt x="1418" y="812"/>
                  </a:lnTo>
                  <a:lnTo>
                    <a:pt x="1405" y="805"/>
                  </a:lnTo>
                  <a:lnTo>
                    <a:pt x="1385" y="805"/>
                  </a:lnTo>
                  <a:lnTo>
                    <a:pt x="1372" y="798"/>
                  </a:lnTo>
                  <a:lnTo>
                    <a:pt x="1352" y="798"/>
                  </a:lnTo>
                  <a:close/>
                  <a:moveTo>
                    <a:pt x="890" y="0"/>
                  </a:moveTo>
                  <a:lnTo>
                    <a:pt x="911" y="0"/>
                  </a:lnTo>
                  <a:lnTo>
                    <a:pt x="930" y="0"/>
                  </a:lnTo>
                  <a:lnTo>
                    <a:pt x="943" y="0"/>
                  </a:lnTo>
                  <a:lnTo>
                    <a:pt x="963" y="6"/>
                  </a:lnTo>
                  <a:lnTo>
                    <a:pt x="983" y="6"/>
                  </a:lnTo>
                  <a:lnTo>
                    <a:pt x="996" y="13"/>
                  </a:lnTo>
                  <a:lnTo>
                    <a:pt x="1016" y="19"/>
                  </a:lnTo>
                  <a:lnTo>
                    <a:pt x="1036" y="26"/>
                  </a:lnTo>
                  <a:lnTo>
                    <a:pt x="1049" y="32"/>
                  </a:lnTo>
                  <a:lnTo>
                    <a:pt x="1062" y="39"/>
                  </a:lnTo>
                  <a:lnTo>
                    <a:pt x="1082" y="53"/>
                  </a:lnTo>
                  <a:lnTo>
                    <a:pt x="1095" y="59"/>
                  </a:lnTo>
                  <a:lnTo>
                    <a:pt x="1108" y="72"/>
                  </a:lnTo>
                  <a:lnTo>
                    <a:pt x="1121" y="79"/>
                  </a:lnTo>
                  <a:lnTo>
                    <a:pt x="1135" y="92"/>
                  </a:lnTo>
                  <a:lnTo>
                    <a:pt x="1148" y="105"/>
                  </a:lnTo>
                  <a:lnTo>
                    <a:pt x="1161" y="118"/>
                  </a:lnTo>
                  <a:lnTo>
                    <a:pt x="1174" y="131"/>
                  </a:lnTo>
                  <a:lnTo>
                    <a:pt x="1181" y="144"/>
                  </a:lnTo>
                  <a:lnTo>
                    <a:pt x="1194" y="158"/>
                  </a:lnTo>
                  <a:lnTo>
                    <a:pt x="1200" y="171"/>
                  </a:lnTo>
                  <a:lnTo>
                    <a:pt x="1213" y="191"/>
                  </a:lnTo>
                  <a:lnTo>
                    <a:pt x="1220" y="205"/>
                  </a:lnTo>
                  <a:lnTo>
                    <a:pt x="1226" y="218"/>
                  </a:lnTo>
                  <a:lnTo>
                    <a:pt x="1234" y="237"/>
                  </a:lnTo>
                  <a:lnTo>
                    <a:pt x="1240" y="257"/>
                  </a:lnTo>
                  <a:lnTo>
                    <a:pt x="1247" y="270"/>
                  </a:lnTo>
                  <a:lnTo>
                    <a:pt x="1247" y="290"/>
                  </a:lnTo>
                  <a:lnTo>
                    <a:pt x="1253" y="310"/>
                  </a:lnTo>
                  <a:lnTo>
                    <a:pt x="1253" y="323"/>
                  </a:lnTo>
                  <a:lnTo>
                    <a:pt x="1253" y="343"/>
                  </a:lnTo>
                  <a:lnTo>
                    <a:pt x="1253" y="363"/>
                  </a:lnTo>
                  <a:lnTo>
                    <a:pt x="1253" y="382"/>
                  </a:lnTo>
                  <a:lnTo>
                    <a:pt x="1253" y="402"/>
                  </a:lnTo>
                  <a:lnTo>
                    <a:pt x="1253" y="416"/>
                  </a:lnTo>
                  <a:lnTo>
                    <a:pt x="1247" y="435"/>
                  </a:lnTo>
                  <a:lnTo>
                    <a:pt x="1247" y="456"/>
                  </a:lnTo>
                  <a:lnTo>
                    <a:pt x="1240" y="469"/>
                  </a:lnTo>
                  <a:lnTo>
                    <a:pt x="1234" y="488"/>
                  </a:lnTo>
                  <a:lnTo>
                    <a:pt x="1226" y="508"/>
                  </a:lnTo>
                  <a:lnTo>
                    <a:pt x="1220" y="521"/>
                  </a:lnTo>
                  <a:lnTo>
                    <a:pt x="1213" y="534"/>
                  </a:lnTo>
                  <a:lnTo>
                    <a:pt x="1200" y="554"/>
                  </a:lnTo>
                  <a:lnTo>
                    <a:pt x="1194" y="568"/>
                  </a:lnTo>
                  <a:lnTo>
                    <a:pt x="1181" y="581"/>
                  </a:lnTo>
                  <a:lnTo>
                    <a:pt x="1174" y="594"/>
                  </a:lnTo>
                  <a:lnTo>
                    <a:pt x="1161" y="606"/>
                  </a:lnTo>
                  <a:lnTo>
                    <a:pt x="1148" y="620"/>
                  </a:lnTo>
                  <a:lnTo>
                    <a:pt x="1135" y="633"/>
                  </a:lnTo>
                  <a:lnTo>
                    <a:pt x="1121" y="646"/>
                  </a:lnTo>
                  <a:lnTo>
                    <a:pt x="1108" y="653"/>
                  </a:lnTo>
                  <a:lnTo>
                    <a:pt x="1095" y="667"/>
                  </a:lnTo>
                  <a:lnTo>
                    <a:pt x="1082" y="673"/>
                  </a:lnTo>
                  <a:lnTo>
                    <a:pt x="1062" y="686"/>
                  </a:lnTo>
                  <a:lnTo>
                    <a:pt x="1049" y="693"/>
                  </a:lnTo>
                  <a:lnTo>
                    <a:pt x="1036" y="699"/>
                  </a:lnTo>
                  <a:lnTo>
                    <a:pt x="1016" y="706"/>
                  </a:lnTo>
                  <a:lnTo>
                    <a:pt x="996" y="713"/>
                  </a:lnTo>
                  <a:lnTo>
                    <a:pt x="983" y="720"/>
                  </a:lnTo>
                  <a:lnTo>
                    <a:pt x="963" y="720"/>
                  </a:lnTo>
                  <a:lnTo>
                    <a:pt x="943" y="726"/>
                  </a:lnTo>
                  <a:lnTo>
                    <a:pt x="930" y="726"/>
                  </a:lnTo>
                  <a:lnTo>
                    <a:pt x="911" y="726"/>
                  </a:lnTo>
                  <a:lnTo>
                    <a:pt x="890" y="726"/>
                  </a:lnTo>
                  <a:lnTo>
                    <a:pt x="871" y="726"/>
                  </a:lnTo>
                  <a:lnTo>
                    <a:pt x="850" y="726"/>
                  </a:lnTo>
                  <a:lnTo>
                    <a:pt x="837" y="726"/>
                  </a:lnTo>
                  <a:lnTo>
                    <a:pt x="818" y="720"/>
                  </a:lnTo>
                  <a:lnTo>
                    <a:pt x="798" y="720"/>
                  </a:lnTo>
                  <a:lnTo>
                    <a:pt x="785" y="713"/>
                  </a:lnTo>
                  <a:lnTo>
                    <a:pt x="765" y="706"/>
                  </a:lnTo>
                  <a:lnTo>
                    <a:pt x="752" y="699"/>
                  </a:lnTo>
                  <a:lnTo>
                    <a:pt x="732" y="693"/>
                  </a:lnTo>
                  <a:lnTo>
                    <a:pt x="719" y="686"/>
                  </a:lnTo>
                  <a:lnTo>
                    <a:pt x="699" y="673"/>
                  </a:lnTo>
                  <a:lnTo>
                    <a:pt x="686" y="667"/>
                  </a:lnTo>
                  <a:lnTo>
                    <a:pt x="673" y="653"/>
                  </a:lnTo>
                  <a:lnTo>
                    <a:pt x="660" y="646"/>
                  </a:lnTo>
                  <a:lnTo>
                    <a:pt x="647" y="633"/>
                  </a:lnTo>
                  <a:lnTo>
                    <a:pt x="633" y="620"/>
                  </a:lnTo>
                  <a:lnTo>
                    <a:pt x="620" y="606"/>
                  </a:lnTo>
                  <a:lnTo>
                    <a:pt x="607" y="594"/>
                  </a:lnTo>
                  <a:lnTo>
                    <a:pt x="600" y="581"/>
                  </a:lnTo>
                  <a:lnTo>
                    <a:pt x="586" y="568"/>
                  </a:lnTo>
                  <a:lnTo>
                    <a:pt x="580" y="554"/>
                  </a:lnTo>
                  <a:lnTo>
                    <a:pt x="567" y="534"/>
                  </a:lnTo>
                  <a:lnTo>
                    <a:pt x="561" y="521"/>
                  </a:lnTo>
                  <a:lnTo>
                    <a:pt x="554" y="508"/>
                  </a:lnTo>
                  <a:lnTo>
                    <a:pt x="548" y="488"/>
                  </a:lnTo>
                  <a:lnTo>
                    <a:pt x="541" y="469"/>
                  </a:lnTo>
                  <a:lnTo>
                    <a:pt x="535" y="456"/>
                  </a:lnTo>
                  <a:lnTo>
                    <a:pt x="535" y="435"/>
                  </a:lnTo>
                  <a:lnTo>
                    <a:pt x="527" y="416"/>
                  </a:lnTo>
                  <a:lnTo>
                    <a:pt x="527" y="402"/>
                  </a:lnTo>
                  <a:lnTo>
                    <a:pt x="527" y="382"/>
                  </a:lnTo>
                  <a:lnTo>
                    <a:pt x="527" y="363"/>
                  </a:lnTo>
                  <a:lnTo>
                    <a:pt x="527" y="343"/>
                  </a:lnTo>
                  <a:lnTo>
                    <a:pt x="527" y="323"/>
                  </a:lnTo>
                  <a:lnTo>
                    <a:pt x="527" y="310"/>
                  </a:lnTo>
                  <a:lnTo>
                    <a:pt x="535" y="290"/>
                  </a:lnTo>
                  <a:lnTo>
                    <a:pt x="535" y="270"/>
                  </a:lnTo>
                  <a:lnTo>
                    <a:pt x="541" y="257"/>
                  </a:lnTo>
                  <a:lnTo>
                    <a:pt x="548" y="237"/>
                  </a:lnTo>
                  <a:lnTo>
                    <a:pt x="554" y="218"/>
                  </a:lnTo>
                  <a:lnTo>
                    <a:pt x="561" y="205"/>
                  </a:lnTo>
                  <a:lnTo>
                    <a:pt x="567" y="191"/>
                  </a:lnTo>
                  <a:lnTo>
                    <a:pt x="580" y="171"/>
                  </a:lnTo>
                  <a:lnTo>
                    <a:pt x="586" y="158"/>
                  </a:lnTo>
                  <a:lnTo>
                    <a:pt x="600" y="144"/>
                  </a:lnTo>
                  <a:lnTo>
                    <a:pt x="607" y="131"/>
                  </a:lnTo>
                  <a:lnTo>
                    <a:pt x="620" y="118"/>
                  </a:lnTo>
                  <a:lnTo>
                    <a:pt x="633" y="105"/>
                  </a:lnTo>
                  <a:lnTo>
                    <a:pt x="647" y="92"/>
                  </a:lnTo>
                  <a:lnTo>
                    <a:pt x="660" y="79"/>
                  </a:lnTo>
                  <a:lnTo>
                    <a:pt x="673" y="72"/>
                  </a:lnTo>
                  <a:lnTo>
                    <a:pt x="686" y="59"/>
                  </a:lnTo>
                  <a:lnTo>
                    <a:pt x="699" y="53"/>
                  </a:lnTo>
                  <a:lnTo>
                    <a:pt x="719" y="39"/>
                  </a:lnTo>
                  <a:lnTo>
                    <a:pt x="732" y="32"/>
                  </a:lnTo>
                  <a:lnTo>
                    <a:pt x="752" y="26"/>
                  </a:lnTo>
                  <a:lnTo>
                    <a:pt x="765" y="19"/>
                  </a:lnTo>
                  <a:lnTo>
                    <a:pt x="785" y="13"/>
                  </a:lnTo>
                  <a:lnTo>
                    <a:pt x="798" y="6"/>
                  </a:lnTo>
                  <a:lnTo>
                    <a:pt x="818" y="6"/>
                  </a:lnTo>
                  <a:lnTo>
                    <a:pt x="837" y="0"/>
                  </a:lnTo>
                  <a:lnTo>
                    <a:pt x="850" y="0"/>
                  </a:lnTo>
                  <a:lnTo>
                    <a:pt x="871" y="0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272360" y="1066680"/>
              <a:ext cx="776160" cy="1603440"/>
            </a:xfrm>
            <a:custGeom>
              <a:avLst/>
              <a:gdLst/>
              <a:ahLst/>
              <a:rect l="l" t="t" r="r" b="b"/>
              <a:pathLst>
                <a:path w="1807" h="3724">
                  <a:moveTo>
                    <a:pt x="1352" y="798"/>
                  </a:moveTo>
                  <a:lnTo>
                    <a:pt x="421" y="798"/>
                  </a:lnTo>
                  <a:lnTo>
                    <a:pt x="408" y="798"/>
                  </a:lnTo>
                  <a:lnTo>
                    <a:pt x="389" y="805"/>
                  </a:lnTo>
                  <a:lnTo>
                    <a:pt x="369" y="812"/>
                  </a:lnTo>
                  <a:lnTo>
                    <a:pt x="356" y="819"/>
                  </a:lnTo>
                  <a:lnTo>
                    <a:pt x="336" y="825"/>
                  </a:lnTo>
                  <a:lnTo>
                    <a:pt x="323" y="838"/>
                  </a:lnTo>
                  <a:lnTo>
                    <a:pt x="303" y="851"/>
                  </a:lnTo>
                  <a:lnTo>
                    <a:pt x="290" y="865"/>
                  </a:lnTo>
                  <a:lnTo>
                    <a:pt x="277" y="878"/>
                  </a:lnTo>
                  <a:lnTo>
                    <a:pt x="264" y="897"/>
                  </a:lnTo>
                  <a:lnTo>
                    <a:pt x="250" y="910"/>
                  </a:lnTo>
                  <a:lnTo>
                    <a:pt x="244" y="931"/>
                  </a:lnTo>
                  <a:lnTo>
                    <a:pt x="237" y="944"/>
                  </a:lnTo>
                  <a:lnTo>
                    <a:pt x="224" y="963"/>
                  </a:lnTo>
                  <a:lnTo>
                    <a:pt x="224" y="983"/>
                  </a:lnTo>
                  <a:lnTo>
                    <a:pt x="218" y="996"/>
                  </a:lnTo>
                  <a:lnTo>
                    <a:pt x="0" y="2159"/>
                  </a:lnTo>
                  <a:lnTo>
                    <a:pt x="0" y="2172"/>
                  </a:lnTo>
                  <a:lnTo>
                    <a:pt x="0" y="2192"/>
                  </a:lnTo>
                  <a:lnTo>
                    <a:pt x="0" y="2205"/>
                  </a:lnTo>
                  <a:lnTo>
                    <a:pt x="0" y="2224"/>
                  </a:lnTo>
                  <a:lnTo>
                    <a:pt x="7" y="2237"/>
                  </a:lnTo>
                  <a:lnTo>
                    <a:pt x="13" y="2251"/>
                  </a:lnTo>
                  <a:lnTo>
                    <a:pt x="19" y="2264"/>
                  </a:lnTo>
                  <a:lnTo>
                    <a:pt x="26" y="2277"/>
                  </a:lnTo>
                  <a:lnTo>
                    <a:pt x="39" y="2291"/>
                  </a:lnTo>
                  <a:lnTo>
                    <a:pt x="45" y="2304"/>
                  </a:lnTo>
                  <a:lnTo>
                    <a:pt x="59" y="2311"/>
                  </a:lnTo>
                  <a:lnTo>
                    <a:pt x="72" y="2317"/>
                  </a:lnTo>
                  <a:lnTo>
                    <a:pt x="85" y="2330"/>
                  </a:lnTo>
                  <a:lnTo>
                    <a:pt x="98" y="2330"/>
                  </a:lnTo>
                  <a:lnTo>
                    <a:pt x="112" y="2337"/>
                  </a:lnTo>
                  <a:lnTo>
                    <a:pt x="125" y="2344"/>
                  </a:lnTo>
                  <a:lnTo>
                    <a:pt x="144" y="2344"/>
                  </a:lnTo>
                  <a:lnTo>
                    <a:pt x="158" y="2344"/>
                  </a:lnTo>
                  <a:lnTo>
                    <a:pt x="171" y="2344"/>
                  </a:lnTo>
                  <a:lnTo>
                    <a:pt x="184" y="2344"/>
                  </a:lnTo>
                  <a:lnTo>
                    <a:pt x="204" y="2337"/>
                  </a:lnTo>
                  <a:lnTo>
                    <a:pt x="218" y="2330"/>
                  </a:lnTo>
                  <a:lnTo>
                    <a:pt x="231" y="2324"/>
                  </a:lnTo>
                  <a:lnTo>
                    <a:pt x="244" y="2317"/>
                  </a:lnTo>
                  <a:lnTo>
                    <a:pt x="257" y="2304"/>
                  </a:lnTo>
                  <a:lnTo>
                    <a:pt x="270" y="2291"/>
                  </a:lnTo>
                  <a:lnTo>
                    <a:pt x="283" y="2271"/>
                  </a:lnTo>
                  <a:lnTo>
                    <a:pt x="296" y="2251"/>
                  </a:lnTo>
                  <a:lnTo>
                    <a:pt x="303" y="2231"/>
                  </a:lnTo>
                  <a:lnTo>
                    <a:pt x="316" y="2212"/>
                  </a:lnTo>
                  <a:lnTo>
                    <a:pt x="323" y="2185"/>
                  </a:lnTo>
                  <a:lnTo>
                    <a:pt x="330" y="2159"/>
                  </a:lnTo>
                  <a:lnTo>
                    <a:pt x="488" y="1412"/>
                  </a:lnTo>
                  <a:lnTo>
                    <a:pt x="573" y="1815"/>
                  </a:lnTo>
                  <a:lnTo>
                    <a:pt x="144" y="3724"/>
                  </a:lnTo>
                  <a:lnTo>
                    <a:pt x="534" y="3724"/>
                  </a:lnTo>
                  <a:lnTo>
                    <a:pt x="903" y="2496"/>
                  </a:lnTo>
                  <a:lnTo>
                    <a:pt x="1279" y="3724"/>
                  </a:lnTo>
                  <a:lnTo>
                    <a:pt x="1682" y="3724"/>
                  </a:lnTo>
                  <a:lnTo>
                    <a:pt x="1247" y="1828"/>
                  </a:lnTo>
                  <a:lnTo>
                    <a:pt x="1306" y="1433"/>
                  </a:lnTo>
                  <a:lnTo>
                    <a:pt x="1477" y="2159"/>
                  </a:lnTo>
                  <a:lnTo>
                    <a:pt x="1484" y="2185"/>
                  </a:lnTo>
                  <a:lnTo>
                    <a:pt x="1490" y="2205"/>
                  </a:lnTo>
                  <a:lnTo>
                    <a:pt x="1498" y="2224"/>
                  </a:lnTo>
                  <a:lnTo>
                    <a:pt x="1510" y="2245"/>
                  </a:lnTo>
                  <a:lnTo>
                    <a:pt x="1523" y="2264"/>
                  </a:lnTo>
                  <a:lnTo>
                    <a:pt x="1530" y="2277"/>
                  </a:lnTo>
                  <a:lnTo>
                    <a:pt x="1543" y="2291"/>
                  </a:lnTo>
                  <a:lnTo>
                    <a:pt x="1557" y="2304"/>
                  </a:lnTo>
                  <a:lnTo>
                    <a:pt x="1576" y="2311"/>
                  </a:lnTo>
                  <a:lnTo>
                    <a:pt x="1589" y="2317"/>
                  </a:lnTo>
                  <a:lnTo>
                    <a:pt x="1603" y="2324"/>
                  </a:lnTo>
                  <a:lnTo>
                    <a:pt x="1616" y="2330"/>
                  </a:lnTo>
                  <a:lnTo>
                    <a:pt x="1635" y="2330"/>
                  </a:lnTo>
                  <a:lnTo>
                    <a:pt x="1648" y="2337"/>
                  </a:lnTo>
                  <a:lnTo>
                    <a:pt x="1662" y="2330"/>
                  </a:lnTo>
                  <a:lnTo>
                    <a:pt x="1675" y="2330"/>
                  </a:lnTo>
                  <a:lnTo>
                    <a:pt x="1695" y="2330"/>
                  </a:lnTo>
                  <a:lnTo>
                    <a:pt x="1708" y="2324"/>
                  </a:lnTo>
                  <a:lnTo>
                    <a:pt x="1722" y="2317"/>
                  </a:lnTo>
                  <a:lnTo>
                    <a:pt x="1735" y="2311"/>
                  </a:lnTo>
                  <a:lnTo>
                    <a:pt x="1747" y="2304"/>
                  </a:lnTo>
                  <a:lnTo>
                    <a:pt x="1760" y="2298"/>
                  </a:lnTo>
                  <a:lnTo>
                    <a:pt x="1768" y="2284"/>
                  </a:lnTo>
                  <a:lnTo>
                    <a:pt x="1781" y="2271"/>
                  </a:lnTo>
                  <a:lnTo>
                    <a:pt x="1787" y="2264"/>
                  </a:lnTo>
                  <a:lnTo>
                    <a:pt x="1794" y="2251"/>
                  </a:lnTo>
                  <a:lnTo>
                    <a:pt x="1800" y="2237"/>
                  </a:lnTo>
                  <a:lnTo>
                    <a:pt x="1800" y="2218"/>
                  </a:lnTo>
                  <a:lnTo>
                    <a:pt x="1807" y="2205"/>
                  </a:lnTo>
                  <a:lnTo>
                    <a:pt x="1807" y="2192"/>
                  </a:lnTo>
                  <a:lnTo>
                    <a:pt x="1807" y="2172"/>
                  </a:lnTo>
                  <a:lnTo>
                    <a:pt x="1807" y="2159"/>
                  </a:lnTo>
                  <a:lnTo>
                    <a:pt x="1563" y="957"/>
                  </a:lnTo>
                  <a:lnTo>
                    <a:pt x="1557" y="944"/>
                  </a:lnTo>
                  <a:lnTo>
                    <a:pt x="1550" y="931"/>
                  </a:lnTo>
                  <a:lnTo>
                    <a:pt x="1543" y="910"/>
                  </a:lnTo>
                  <a:lnTo>
                    <a:pt x="1530" y="897"/>
                  </a:lnTo>
                  <a:lnTo>
                    <a:pt x="1523" y="884"/>
                  </a:lnTo>
                  <a:lnTo>
                    <a:pt x="1510" y="871"/>
                  </a:lnTo>
                  <a:lnTo>
                    <a:pt x="1498" y="857"/>
                  </a:lnTo>
                  <a:lnTo>
                    <a:pt x="1484" y="851"/>
                  </a:lnTo>
                  <a:lnTo>
                    <a:pt x="1471" y="838"/>
                  </a:lnTo>
                  <a:lnTo>
                    <a:pt x="1451" y="825"/>
                  </a:lnTo>
                  <a:lnTo>
                    <a:pt x="1437" y="819"/>
                  </a:lnTo>
                  <a:lnTo>
                    <a:pt x="1418" y="812"/>
                  </a:lnTo>
                  <a:lnTo>
                    <a:pt x="1405" y="805"/>
                  </a:lnTo>
                  <a:lnTo>
                    <a:pt x="1384" y="805"/>
                  </a:lnTo>
                  <a:lnTo>
                    <a:pt x="1372" y="798"/>
                  </a:lnTo>
                  <a:lnTo>
                    <a:pt x="1352" y="798"/>
                  </a:lnTo>
                  <a:close/>
                  <a:moveTo>
                    <a:pt x="890" y="0"/>
                  </a:moveTo>
                  <a:lnTo>
                    <a:pt x="910" y="0"/>
                  </a:lnTo>
                  <a:lnTo>
                    <a:pt x="930" y="0"/>
                  </a:lnTo>
                  <a:lnTo>
                    <a:pt x="943" y="0"/>
                  </a:lnTo>
                  <a:lnTo>
                    <a:pt x="963" y="6"/>
                  </a:lnTo>
                  <a:lnTo>
                    <a:pt x="983" y="6"/>
                  </a:lnTo>
                  <a:lnTo>
                    <a:pt x="996" y="13"/>
                  </a:lnTo>
                  <a:lnTo>
                    <a:pt x="1016" y="19"/>
                  </a:lnTo>
                  <a:lnTo>
                    <a:pt x="1035" y="26"/>
                  </a:lnTo>
                  <a:lnTo>
                    <a:pt x="1048" y="32"/>
                  </a:lnTo>
                  <a:lnTo>
                    <a:pt x="1061" y="39"/>
                  </a:lnTo>
                  <a:lnTo>
                    <a:pt x="1082" y="53"/>
                  </a:lnTo>
                  <a:lnTo>
                    <a:pt x="1095" y="59"/>
                  </a:lnTo>
                  <a:lnTo>
                    <a:pt x="1108" y="72"/>
                  </a:lnTo>
                  <a:lnTo>
                    <a:pt x="1122" y="79"/>
                  </a:lnTo>
                  <a:lnTo>
                    <a:pt x="1134" y="92"/>
                  </a:lnTo>
                  <a:lnTo>
                    <a:pt x="1147" y="105"/>
                  </a:lnTo>
                  <a:lnTo>
                    <a:pt x="1160" y="118"/>
                  </a:lnTo>
                  <a:lnTo>
                    <a:pt x="1173" y="131"/>
                  </a:lnTo>
                  <a:lnTo>
                    <a:pt x="1181" y="144"/>
                  </a:lnTo>
                  <a:lnTo>
                    <a:pt x="1194" y="158"/>
                  </a:lnTo>
                  <a:lnTo>
                    <a:pt x="1200" y="171"/>
                  </a:lnTo>
                  <a:lnTo>
                    <a:pt x="1213" y="191"/>
                  </a:lnTo>
                  <a:lnTo>
                    <a:pt x="1220" y="205"/>
                  </a:lnTo>
                  <a:lnTo>
                    <a:pt x="1226" y="218"/>
                  </a:lnTo>
                  <a:lnTo>
                    <a:pt x="1234" y="237"/>
                  </a:lnTo>
                  <a:lnTo>
                    <a:pt x="1240" y="257"/>
                  </a:lnTo>
                  <a:lnTo>
                    <a:pt x="1247" y="270"/>
                  </a:lnTo>
                  <a:lnTo>
                    <a:pt x="1247" y="290"/>
                  </a:lnTo>
                  <a:lnTo>
                    <a:pt x="1253" y="310"/>
                  </a:lnTo>
                  <a:lnTo>
                    <a:pt x="1253" y="323"/>
                  </a:lnTo>
                  <a:lnTo>
                    <a:pt x="1253" y="343"/>
                  </a:lnTo>
                  <a:lnTo>
                    <a:pt x="1253" y="363"/>
                  </a:lnTo>
                  <a:lnTo>
                    <a:pt x="1253" y="382"/>
                  </a:lnTo>
                  <a:lnTo>
                    <a:pt x="1253" y="402"/>
                  </a:lnTo>
                  <a:lnTo>
                    <a:pt x="1253" y="416"/>
                  </a:lnTo>
                  <a:lnTo>
                    <a:pt x="1247" y="435"/>
                  </a:lnTo>
                  <a:lnTo>
                    <a:pt x="1247" y="456"/>
                  </a:lnTo>
                  <a:lnTo>
                    <a:pt x="1240" y="469"/>
                  </a:lnTo>
                  <a:lnTo>
                    <a:pt x="1234" y="488"/>
                  </a:lnTo>
                  <a:lnTo>
                    <a:pt x="1226" y="508"/>
                  </a:lnTo>
                  <a:lnTo>
                    <a:pt x="1220" y="521"/>
                  </a:lnTo>
                  <a:lnTo>
                    <a:pt x="1213" y="534"/>
                  </a:lnTo>
                  <a:lnTo>
                    <a:pt x="1200" y="554"/>
                  </a:lnTo>
                  <a:lnTo>
                    <a:pt x="1194" y="568"/>
                  </a:lnTo>
                  <a:lnTo>
                    <a:pt x="1181" y="581"/>
                  </a:lnTo>
                  <a:lnTo>
                    <a:pt x="1173" y="594"/>
                  </a:lnTo>
                  <a:lnTo>
                    <a:pt x="1160" y="606"/>
                  </a:lnTo>
                  <a:lnTo>
                    <a:pt x="1147" y="620"/>
                  </a:lnTo>
                  <a:lnTo>
                    <a:pt x="1134" y="633"/>
                  </a:lnTo>
                  <a:lnTo>
                    <a:pt x="1122" y="646"/>
                  </a:lnTo>
                  <a:lnTo>
                    <a:pt x="1108" y="653"/>
                  </a:lnTo>
                  <a:lnTo>
                    <a:pt x="1095" y="667"/>
                  </a:lnTo>
                  <a:lnTo>
                    <a:pt x="1082" y="673"/>
                  </a:lnTo>
                  <a:lnTo>
                    <a:pt x="1061" y="686"/>
                  </a:lnTo>
                  <a:lnTo>
                    <a:pt x="1048" y="693"/>
                  </a:lnTo>
                  <a:lnTo>
                    <a:pt x="1035" y="699"/>
                  </a:lnTo>
                  <a:lnTo>
                    <a:pt x="1016" y="706"/>
                  </a:lnTo>
                  <a:lnTo>
                    <a:pt x="996" y="713"/>
                  </a:lnTo>
                  <a:lnTo>
                    <a:pt x="983" y="720"/>
                  </a:lnTo>
                  <a:lnTo>
                    <a:pt x="963" y="720"/>
                  </a:lnTo>
                  <a:lnTo>
                    <a:pt x="943" y="726"/>
                  </a:lnTo>
                  <a:lnTo>
                    <a:pt x="930" y="726"/>
                  </a:lnTo>
                  <a:lnTo>
                    <a:pt x="910" y="726"/>
                  </a:lnTo>
                  <a:lnTo>
                    <a:pt x="890" y="726"/>
                  </a:lnTo>
                  <a:lnTo>
                    <a:pt x="871" y="726"/>
                  </a:lnTo>
                  <a:lnTo>
                    <a:pt x="850" y="726"/>
                  </a:lnTo>
                  <a:lnTo>
                    <a:pt x="837" y="726"/>
                  </a:lnTo>
                  <a:lnTo>
                    <a:pt x="818" y="720"/>
                  </a:lnTo>
                  <a:lnTo>
                    <a:pt x="797" y="720"/>
                  </a:lnTo>
                  <a:lnTo>
                    <a:pt x="784" y="713"/>
                  </a:lnTo>
                  <a:lnTo>
                    <a:pt x="765" y="706"/>
                  </a:lnTo>
                  <a:lnTo>
                    <a:pt x="752" y="699"/>
                  </a:lnTo>
                  <a:lnTo>
                    <a:pt x="732" y="693"/>
                  </a:lnTo>
                  <a:lnTo>
                    <a:pt x="719" y="686"/>
                  </a:lnTo>
                  <a:lnTo>
                    <a:pt x="699" y="673"/>
                  </a:lnTo>
                  <a:lnTo>
                    <a:pt x="685" y="667"/>
                  </a:lnTo>
                  <a:lnTo>
                    <a:pt x="672" y="653"/>
                  </a:lnTo>
                  <a:lnTo>
                    <a:pt x="659" y="646"/>
                  </a:lnTo>
                  <a:lnTo>
                    <a:pt x="646" y="633"/>
                  </a:lnTo>
                  <a:lnTo>
                    <a:pt x="633" y="620"/>
                  </a:lnTo>
                  <a:lnTo>
                    <a:pt x="620" y="606"/>
                  </a:lnTo>
                  <a:lnTo>
                    <a:pt x="607" y="594"/>
                  </a:lnTo>
                  <a:lnTo>
                    <a:pt x="600" y="581"/>
                  </a:lnTo>
                  <a:lnTo>
                    <a:pt x="587" y="568"/>
                  </a:lnTo>
                  <a:lnTo>
                    <a:pt x="580" y="554"/>
                  </a:lnTo>
                  <a:lnTo>
                    <a:pt x="567" y="534"/>
                  </a:lnTo>
                  <a:lnTo>
                    <a:pt x="560" y="521"/>
                  </a:lnTo>
                  <a:lnTo>
                    <a:pt x="554" y="508"/>
                  </a:lnTo>
                  <a:lnTo>
                    <a:pt x="547" y="488"/>
                  </a:lnTo>
                  <a:lnTo>
                    <a:pt x="541" y="469"/>
                  </a:lnTo>
                  <a:lnTo>
                    <a:pt x="534" y="456"/>
                  </a:lnTo>
                  <a:lnTo>
                    <a:pt x="534" y="435"/>
                  </a:lnTo>
                  <a:lnTo>
                    <a:pt x="527" y="416"/>
                  </a:lnTo>
                  <a:lnTo>
                    <a:pt x="527" y="402"/>
                  </a:lnTo>
                  <a:lnTo>
                    <a:pt x="527" y="382"/>
                  </a:lnTo>
                  <a:lnTo>
                    <a:pt x="527" y="363"/>
                  </a:lnTo>
                  <a:lnTo>
                    <a:pt x="527" y="343"/>
                  </a:lnTo>
                  <a:lnTo>
                    <a:pt x="527" y="323"/>
                  </a:lnTo>
                  <a:lnTo>
                    <a:pt x="527" y="310"/>
                  </a:lnTo>
                  <a:lnTo>
                    <a:pt x="534" y="290"/>
                  </a:lnTo>
                  <a:lnTo>
                    <a:pt x="534" y="270"/>
                  </a:lnTo>
                  <a:lnTo>
                    <a:pt x="541" y="257"/>
                  </a:lnTo>
                  <a:lnTo>
                    <a:pt x="547" y="237"/>
                  </a:lnTo>
                  <a:lnTo>
                    <a:pt x="554" y="218"/>
                  </a:lnTo>
                  <a:lnTo>
                    <a:pt x="560" y="205"/>
                  </a:lnTo>
                  <a:lnTo>
                    <a:pt x="567" y="191"/>
                  </a:lnTo>
                  <a:lnTo>
                    <a:pt x="580" y="171"/>
                  </a:lnTo>
                  <a:lnTo>
                    <a:pt x="587" y="158"/>
                  </a:lnTo>
                  <a:lnTo>
                    <a:pt x="600" y="144"/>
                  </a:lnTo>
                  <a:lnTo>
                    <a:pt x="607" y="131"/>
                  </a:lnTo>
                  <a:lnTo>
                    <a:pt x="620" y="118"/>
                  </a:lnTo>
                  <a:lnTo>
                    <a:pt x="633" y="105"/>
                  </a:lnTo>
                  <a:lnTo>
                    <a:pt x="646" y="92"/>
                  </a:lnTo>
                  <a:lnTo>
                    <a:pt x="659" y="79"/>
                  </a:lnTo>
                  <a:lnTo>
                    <a:pt x="672" y="72"/>
                  </a:lnTo>
                  <a:lnTo>
                    <a:pt x="685" y="59"/>
                  </a:lnTo>
                  <a:lnTo>
                    <a:pt x="699" y="53"/>
                  </a:lnTo>
                  <a:lnTo>
                    <a:pt x="719" y="39"/>
                  </a:lnTo>
                  <a:lnTo>
                    <a:pt x="732" y="32"/>
                  </a:lnTo>
                  <a:lnTo>
                    <a:pt x="752" y="26"/>
                  </a:lnTo>
                  <a:lnTo>
                    <a:pt x="765" y="19"/>
                  </a:lnTo>
                  <a:lnTo>
                    <a:pt x="784" y="13"/>
                  </a:lnTo>
                  <a:lnTo>
                    <a:pt x="797" y="6"/>
                  </a:lnTo>
                  <a:lnTo>
                    <a:pt x="818" y="6"/>
                  </a:lnTo>
                  <a:lnTo>
                    <a:pt x="837" y="0"/>
                  </a:lnTo>
                  <a:lnTo>
                    <a:pt x="850" y="0"/>
                  </a:lnTo>
                  <a:lnTo>
                    <a:pt x="871" y="0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491160" y="1952640"/>
              <a:ext cx="519120" cy="104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12120" y="1066680"/>
              <a:ext cx="5038920" cy="17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When you have sex with someon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you are having sex with every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they have had sex with, and wi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560" y="2790720"/>
            <a:ext cx="7438680" cy="514440"/>
            <a:chOff x="727560" y="2790720"/>
            <a:chExt cx="7438680" cy="514440"/>
          </a:xfrm>
        </p:grpSpPr>
        <p:sp>
          <p:nvSpPr>
            <p:cNvPr id="3340" name=""/>
            <p:cNvSpPr/>
            <p:nvPr/>
          </p:nvSpPr>
          <p:spPr>
            <a:xfrm>
              <a:off x="7848720" y="2790720"/>
              <a:ext cx="317520" cy="511200"/>
            </a:xfrm>
            <a:custGeom>
              <a:avLst/>
              <a:gdLst/>
              <a:ahLst/>
              <a:rect l="l" t="t" r="r" b="b"/>
              <a:pathLst>
                <a:path w="741" h="1194">
                  <a:moveTo>
                    <a:pt x="741" y="1089"/>
                  </a:moveTo>
                  <a:lnTo>
                    <a:pt x="524" y="1194"/>
                  </a:lnTo>
                  <a:lnTo>
                    <a:pt x="0" y="105"/>
                  </a:lnTo>
                  <a:lnTo>
                    <a:pt x="217" y="0"/>
                  </a:lnTo>
                  <a:lnTo>
                    <a:pt x="741" y="10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162920" y="2790720"/>
              <a:ext cx="318960" cy="514440"/>
            </a:xfrm>
            <a:custGeom>
              <a:avLst/>
              <a:gdLst/>
              <a:ahLst/>
              <a:rect l="l" t="t" r="r" b="b"/>
              <a:pathLst>
                <a:path w="742" h="1195">
                  <a:moveTo>
                    <a:pt x="525" y="0"/>
                  </a:moveTo>
                  <a:lnTo>
                    <a:pt x="742" y="106"/>
                  </a:lnTo>
                  <a:lnTo>
                    <a:pt x="217" y="1195"/>
                  </a:lnTo>
                  <a:lnTo>
                    <a:pt x="0" y="109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19920" y="2790720"/>
              <a:ext cx="318960" cy="511200"/>
            </a:xfrm>
            <a:custGeom>
              <a:avLst/>
              <a:gdLst/>
              <a:ahLst/>
              <a:rect l="l" t="t" r="r" b="b"/>
              <a:pathLst>
                <a:path w="741" h="1194">
                  <a:moveTo>
                    <a:pt x="741" y="1089"/>
                  </a:moveTo>
                  <a:lnTo>
                    <a:pt x="524" y="1194"/>
                  </a:lnTo>
                  <a:lnTo>
                    <a:pt x="0" y="105"/>
                  </a:lnTo>
                  <a:lnTo>
                    <a:pt x="217" y="0"/>
                  </a:lnTo>
                  <a:lnTo>
                    <a:pt x="741" y="10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334120" y="2790720"/>
              <a:ext cx="317520" cy="514440"/>
            </a:xfrm>
            <a:custGeom>
              <a:avLst/>
              <a:gdLst/>
              <a:ahLst/>
              <a:rect l="l" t="t" r="r" b="b"/>
              <a:pathLst>
                <a:path w="742" h="1195">
                  <a:moveTo>
                    <a:pt x="525" y="0"/>
                  </a:moveTo>
                  <a:lnTo>
                    <a:pt x="742" y="106"/>
                  </a:lnTo>
                  <a:lnTo>
                    <a:pt x="217" y="1195"/>
                  </a:lnTo>
                  <a:lnTo>
                    <a:pt x="0" y="109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560" y="2941560"/>
              <a:ext cx="415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912960" y="3346560"/>
            <a:ext cx="7408800" cy="815760"/>
            <a:chOff x="912960" y="3346560"/>
            <a:chExt cx="7408800" cy="815760"/>
          </a:xfrm>
        </p:grpSpPr>
        <p:sp>
          <p:nvSpPr>
            <p:cNvPr id="3346" name=""/>
            <p:cNvSpPr/>
            <p:nvPr/>
          </p:nvSpPr>
          <p:spPr>
            <a:xfrm>
              <a:off x="5208480" y="3346560"/>
              <a:ext cx="397080" cy="815760"/>
            </a:xfrm>
            <a:custGeom>
              <a:avLst/>
              <a:gdLst/>
              <a:ahLst/>
              <a:rect l="l" t="t" r="r" b="b"/>
              <a:pathLst>
                <a:path w="920" h="1897">
                  <a:moveTo>
                    <a:pt x="689" y="407"/>
                  </a:moveTo>
                  <a:lnTo>
                    <a:pt x="215" y="407"/>
                  </a:lnTo>
                  <a:lnTo>
                    <a:pt x="208" y="407"/>
                  </a:lnTo>
                  <a:lnTo>
                    <a:pt x="198" y="410"/>
                  </a:lnTo>
                  <a:lnTo>
                    <a:pt x="187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4" y="427"/>
                  </a:lnTo>
                  <a:lnTo>
                    <a:pt x="154" y="434"/>
                  </a:lnTo>
                  <a:lnTo>
                    <a:pt x="148" y="441"/>
                  </a:lnTo>
                  <a:lnTo>
                    <a:pt x="141" y="447"/>
                  </a:lnTo>
                  <a:lnTo>
                    <a:pt x="133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0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0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6" y="1147"/>
                  </a:lnTo>
                  <a:lnTo>
                    <a:pt x="9" y="1154"/>
                  </a:lnTo>
                  <a:lnTo>
                    <a:pt x="13" y="1160"/>
                  </a:lnTo>
                  <a:lnTo>
                    <a:pt x="19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7" y="1180"/>
                  </a:lnTo>
                  <a:lnTo>
                    <a:pt x="43" y="1187"/>
                  </a:lnTo>
                  <a:lnTo>
                    <a:pt x="50" y="1187"/>
                  </a:lnTo>
                  <a:lnTo>
                    <a:pt x="57" y="1190"/>
                  </a:lnTo>
                  <a:lnTo>
                    <a:pt x="63" y="1193"/>
                  </a:lnTo>
                  <a:lnTo>
                    <a:pt x="73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4" y="1193"/>
                  </a:lnTo>
                  <a:lnTo>
                    <a:pt x="104" y="1190"/>
                  </a:lnTo>
                  <a:lnTo>
                    <a:pt x="110" y="1187"/>
                  </a:lnTo>
                  <a:lnTo>
                    <a:pt x="117" y="1184"/>
                  </a:lnTo>
                  <a:lnTo>
                    <a:pt x="124" y="1180"/>
                  </a:lnTo>
                  <a:lnTo>
                    <a:pt x="130" y="1174"/>
                  </a:lnTo>
                  <a:lnTo>
                    <a:pt x="138" y="1167"/>
                  </a:lnTo>
                  <a:lnTo>
                    <a:pt x="144" y="1157"/>
                  </a:lnTo>
                  <a:lnTo>
                    <a:pt x="151" y="1147"/>
                  </a:lnTo>
                  <a:lnTo>
                    <a:pt x="154" y="1136"/>
                  </a:lnTo>
                  <a:lnTo>
                    <a:pt x="161" y="1127"/>
                  </a:lnTo>
                  <a:lnTo>
                    <a:pt x="164" y="1113"/>
                  </a:lnTo>
                  <a:lnTo>
                    <a:pt x="167" y="1100"/>
                  </a:lnTo>
                  <a:lnTo>
                    <a:pt x="249" y="720"/>
                  </a:lnTo>
                  <a:lnTo>
                    <a:pt x="291" y="925"/>
                  </a:lnTo>
                  <a:lnTo>
                    <a:pt x="73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1" y="1897"/>
                  </a:lnTo>
                  <a:lnTo>
                    <a:pt x="856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2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2" y="1133"/>
                  </a:lnTo>
                  <a:lnTo>
                    <a:pt x="769" y="1143"/>
                  </a:lnTo>
                  <a:lnTo>
                    <a:pt x="775" y="1154"/>
                  </a:lnTo>
                  <a:lnTo>
                    <a:pt x="780" y="1160"/>
                  </a:lnTo>
                  <a:lnTo>
                    <a:pt x="786" y="1167"/>
                  </a:lnTo>
                  <a:lnTo>
                    <a:pt x="793" y="1174"/>
                  </a:lnTo>
                  <a:lnTo>
                    <a:pt x="803" y="1177"/>
                  </a:lnTo>
                  <a:lnTo>
                    <a:pt x="809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2" y="1187"/>
                  </a:lnTo>
                  <a:lnTo>
                    <a:pt x="840" y="1190"/>
                  </a:lnTo>
                  <a:lnTo>
                    <a:pt x="847" y="1187"/>
                  </a:lnTo>
                  <a:lnTo>
                    <a:pt x="853" y="1187"/>
                  </a:lnTo>
                  <a:lnTo>
                    <a:pt x="863" y="1187"/>
                  </a:lnTo>
                  <a:lnTo>
                    <a:pt x="870" y="1184"/>
                  </a:lnTo>
                  <a:lnTo>
                    <a:pt x="876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7" y="1170"/>
                  </a:lnTo>
                  <a:lnTo>
                    <a:pt x="900" y="1164"/>
                  </a:lnTo>
                  <a:lnTo>
                    <a:pt x="907" y="1157"/>
                  </a:lnTo>
                  <a:lnTo>
                    <a:pt x="910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0" y="1123"/>
                  </a:lnTo>
                  <a:lnTo>
                    <a:pt x="920" y="1117"/>
                  </a:lnTo>
                  <a:lnTo>
                    <a:pt x="920" y="1107"/>
                  </a:lnTo>
                  <a:lnTo>
                    <a:pt x="920" y="1100"/>
                  </a:lnTo>
                  <a:lnTo>
                    <a:pt x="796" y="488"/>
                  </a:lnTo>
                  <a:lnTo>
                    <a:pt x="793" y="480"/>
                  </a:lnTo>
                  <a:lnTo>
                    <a:pt x="790" y="474"/>
                  </a:lnTo>
                  <a:lnTo>
                    <a:pt x="786" y="464"/>
                  </a:lnTo>
                  <a:lnTo>
                    <a:pt x="780" y="457"/>
                  </a:lnTo>
                  <a:lnTo>
                    <a:pt x="775" y="451"/>
                  </a:lnTo>
                  <a:lnTo>
                    <a:pt x="769" y="444"/>
                  </a:lnTo>
                  <a:lnTo>
                    <a:pt x="762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39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5" y="410"/>
                  </a:lnTo>
                  <a:lnTo>
                    <a:pt x="705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4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90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7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0" y="27"/>
                  </a:lnTo>
                  <a:lnTo>
                    <a:pt x="557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8" y="47"/>
                  </a:lnTo>
                  <a:lnTo>
                    <a:pt x="584" y="54"/>
                  </a:lnTo>
                  <a:lnTo>
                    <a:pt x="591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7" y="81"/>
                  </a:lnTo>
                  <a:lnTo>
                    <a:pt x="611" y="88"/>
                  </a:lnTo>
                  <a:lnTo>
                    <a:pt x="617" y="97"/>
                  </a:lnTo>
                  <a:lnTo>
                    <a:pt x="622" y="104"/>
                  </a:lnTo>
                  <a:lnTo>
                    <a:pt x="625" y="111"/>
                  </a:lnTo>
                  <a:lnTo>
                    <a:pt x="628" y="121"/>
                  </a:lnTo>
                  <a:lnTo>
                    <a:pt x="632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8" y="158"/>
                  </a:lnTo>
                  <a:lnTo>
                    <a:pt x="638" y="164"/>
                  </a:lnTo>
                  <a:lnTo>
                    <a:pt x="638" y="174"/>
                  </a:lnTo>
                  <a:lnTo>
                    <a:pt x="638" y="185"/>
                  </a:lnTo>
                  <a:lnTo>
                    <a:pt x="638" y="195"/>
                  </a:lnTo>
                  <a:lnTo>
                    <a:pt x="638" y="205"/>
                  </a:lnTo>
                  <a:lnTo>
                    <a:pt x="638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2" y="239"/>
                  </a:lnTo>
                  <a:lnTo>
                    <a:pt x="628" y="249"/>
                  </a:lnTo>
                  <a:lnTo>
                    <a:pt x="625" y="259"/>
                  </a:lnTo>
                  <a:lnTo>
                    <a:pt x="622" y="265"/>
                  </a:lnTo>
                  <a:lnTo>
                    <a:pt x="617" y="272"/>
                  </a:lnTo>
                  <a:lnTo>
                    <a:pt x="611" y="283"/>
                  </a:lnTo>
                  <a:lnTo>
                    <a:pt x="607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1" y="309"/>
                  </a:lnTo>
                  <a:lnTo>
                    <a:pt x="584" y="316"/>
                  </a:lnTo>
                  <a:lnTo>
                    <a:pt x="578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7" y="340"/>
                  </a:lnTo>
                  <a:lnTo>
                    <a:pt x="550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7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0" y="366"/>
                  </a:lnTo>
                  <a:lnTo>
                    <a:pt x="480" y="370"/>
                  </a:lnTo>
                  <a:lnTo>
                    <a:pt x="474" y="370"/>
                  </a:lnTo>
                  <a:lnTo>
                    <a:pt x="464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3" y="370"/>
                  </a:lnTo>
                  <a:lnTo>
                    <a:pt x="426" y="370"/>
                  </a:lnTo>
                  <a:lnTo>
                    <a:pt x="417" y="366"/>
                  </a:lnTo>
                  <a:lnTo>
                    <a:pt x="407" y="366"/>
                  </a:lnTo>
                  <a:lnTo>
                    <a:pt x="399" y="363"/>
                  </a:lnTo>
                  <a:lnTo>
                    <a:pt x="389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6" y="350"/>
                  </a:lnTo>
                  <a:lnTo>
                    <a:pt x="356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5" y="330"/>
                  </a:lnTo>
                  <a:lnTo>
                    <a:pt x="329" y="322"/>
                  </a:lnTo>
                  <a:lnTo>
                    <a:pt x="322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6" y="296"/>
                  </a:lnTo>
                  <a:lnTo>
                    <a:pt x="299" y="289"/>
                  </a:lnTo>
                  <a:lnTo>
                    <a:pt x="295" y="283"/>
                  </a:lnTo>
                  <a:lnTo>
                    <a:pt x="288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8" y="249"/>
                  </a:lnTo>
                  <a:lnTo>
                    <a:pt x="275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8" y="212"/>
                  </a:lnTo>
                  <a:lnTo>
                    <a:pt x="268" y="205"/>
                  </a:lnTo>
                  <a:lnTo>
                    <a:pt x="268" y="195"/>
                  </a:lnTo>
                  <a:lnTo>
                    <a:pt x="268" y="185"/>
                  </a:lnTo>
                  <a:lnTo>
                    <a:pt x="268" y="174"/>
                  </a:lnTo>
                  <a:lnTo>
                    <a:pt x="268" y="164"/>
                  </a:lnTo>
                  <a:lnTo>
                    <a:pt x="268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5" y="131"/>
                  </a:lnTo>
                  <a:lnTo>
                    <a:pt x="278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8" y="97"/>
                  </a:lnTo>
                  <a:lnTo>
                    <a:pt x="295" y="88"/>
                  </a:lnTo>
                  <a:lnTo>
                    <a:pt x="299" y="81"/>
                  </a:lnTo>
                  <a:lnTo>
                    <a:pt x="306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2" y="54"/>
                  </a:lnTo>
                  <a:lnTo>
                    <a:pt x="329" y="47"/>
                  </a:lnTo>
                  <a:lnTo>
                    <a:pt x="335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6" y="27"/>
                  </a:lnTo>
                  <a:lnTo>
                    <a:pt x="366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89" y="10"/>
                  </a:lnTo>
                  <a:lnTo>
                    <a:pt x="399" y="6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6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126120" y="3346560"/>
              <a:ext cx="395280" cy="815760"/>
            </a:xfrm>
            <a:custGeom>
              <a:avLst/>
              <a:gdLst/>
              <a:ahLst/>
              <a:rect l="l" t="t" r="r" b="b"/>
              <a:pathLst>
                <a:path w="921" h="1897">
                  <a:moveTo>
                    <a:pt x="689" y="407"/>
                  </a:moveTo>
                  <a:lnTo>
                    <a:pt x="215" y="407"/>
                  </a:lnTo>
                  <a:lnTo>
                    <a:pt x="209" y="407"/>
                  </a:lnTo>
                  <a:lnTo>
                    <a:pt x="198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5" y="427"/>
                  </a:lnTo>
                  <a:lnTo>
                    <a:pt x="155" y="434"/>
                  </a:lnTo>
                  <a:lnTo>
                    <a:pt x="147" y="441"/>
                  </a:lnTo>
                  <a:lnTo>
                    <a:pt x="141" y="447"/>
                  </a:lnTo>
                  <a:lnTo>
                    <a:pt x="134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3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6" y="1180"/>
                  </a:lnTo>
                  <a:lnTo>
                    <a:pt x="44" y="1187"/>
                  </a:lnTo>
                  <a:lnTo>
                    <a:pt x="51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4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3" y="1193"/>
                  </a:lnTo>
                  <a:lnTo>
                    <a:pt x="104" y="1190"/>
                  </a:lnTo>
                  <a:lnTo>
                    <a:pt x="111" y="1187"/>
                  </a:lnTo>
                  <a:lnTo>
                    <a:pt x="118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7" y="1167"/>
                  </a:lnTo>
                  <a:lnTo>
                    <a:pt x="144" y="1157"/>
                  </a:lnTo>
                  <a:lnTo>
                    <a:pt x="152" y="1147"/>
                  </a:lnTo>
                  <a:lnTo>
                    <a:pt x="155" y="1136"/>
                  </a:lnTo>
                  <a:lnTo>
                    <a:pt x="161" y="1127"/>
                  </a:lnTo>
                  <a:lnTo>
                    <a:pt x="165" y="1113"/>
                  </a:lnTo>
                  <a:lnTo>
                    <a:pt x="168" y="1100"/>
                  </a:lnTo>
                  <a:lnTo>
                    <a:pt x="248" y="720"/>
                  </a:lnTo>
                  <a:lnTo>
                    <a:pt x="292" y="925"/>
                  </a:lnTo>
                  <a:lnTo>
                    <a:pt x="74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3" y="1133"/>
                  </a:lnTo>
                  <a:lnTo>
                    <a:pt x="769" y="1143"/>
                  </a:lnTo>
                  <a:lnTo>
                    <a:pt x="776" y="1154"/>
                  </a:lnTo>
                  <a:lnTo>
                    <a:pt x="779" y="1160"/>
                  </a:lnTo>
                  <a:lnTo>
                    <a:pt x="786" y="1167"/>
                  </a:lnTo>
                  <a:lnTo>
                    <a:pt x="792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3" y="1187"/>
                  </a:lnTo>
                  <a:lnTo>
                    <a:pt x="840" y="1190"/>
                  </a:lnTo>
                  <a:lnTo>
                    <a:pt x="847" y="1187"/>
                  </a:lnTo>
                  <a:lnTo>
                    <a:pt x="854" y="1187"/>
                  </a:lnTo>
                  <a:lnTo>
                    <a:pt x="864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7" y="1170"/>
                  </a:lnTo>
                  <a:lnTo>
                    <a:pt x="901" y="1164"/>
                  </a:lnTo>
                  <a:lnTo>
                    <a:pt x="908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1" y="1123"/>
                  </a:lnTo>
                  <a:lnTo>
                    <a:pt x="921" y="1117"/>
                  </a:lnTo>
                  <a:lnTo>
                    <a:pt x="921" y="1107"/>
                  </a:lnTo>
                  <a:lnTo>
                    <a:pt x="921" y="1100"/>
                  </a:lnTo>
                  <a:lnTo>
                    <a:pt x="797" y="488"/>
                  </a:lnTo>
                  <a:lnTo>
                    <a:pt x="792" y="480"/>
                  </a:lnTo>
                  <a:lnTo>
                    <a:pt x="789" y="474"/>
                  </a:lnTo>
                  <a:lnTo>
                    <a:pt x="786" y="464"/>
                  </a:lnTo>
                  <a:lnTo>
                    <a:pt x="779" y="457"/>
                  </a:lnTo>
                  <a:lnTo>
                    <a:pt x="776" y="451"/>
                  </a:lnTo>
                  <a:lnTo>
                    <a:pt x="769" y="444"/>
                  </a:lnTo>
                  <a:lnTo>
                    <a:pt x="763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40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6" y="410"/>
                  </a:lnTo>
                  <a:lnTo>
                    <a:pt x="706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3" y="0"/>
                  </a:lnTo>
                  <a:lnTo>
                    <a:pt x="474" y="0"/>
                  </a:lnTo>
                  <a:lnTo>
                    <a:pt x="481" y="0"/>
                  </a:lnTo>
                  <a:lnTo>
                    <a:pt x="491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8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8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7" y="47"/>
                  </a:lnTo>
                  <a:lnTo>
                    <a:pt x="585" y="54"/>
                  </a:lnTo>
                  <a:lnTo>
                    <a:pt x="592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8" y="81"/>
                  </a:lnTo>
                  <a:lnTo>
                    <a:pt x="611" y="88"/>
                  </a:lnTo>
                  <a:lnTo>
                    <a:pt x="618" y="97"/>
                  </a:lnTo>
                  <a:lnTo>
                    <a:pt x="621" y="104"/>
                  </a:lnTo>
                  <a:lnTo>
                    <a:pt x="624" y="111"/>
                  </a:lnTo>
                  <a:lnTo>
                    <a:pt x="628" y="121"/>
                  </a:lnTo>
                  <a:lnTo>
                    <a:pt x="631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9" y="158"/>
                  </a:lnTo>
                  <a:lnTo>
                    <a:pt x="639" y="164"/>
                  </a:lnTo>
                  <a:lnTo>
                    <a:pt x="639" y="174"/>
                  </a:lnTo>
                  <a:lnTo>
                    <a:pt x="639" y="185"/>
                  </a:lnTo>
                  <a:lnTo>
                    <a:pt x="639" y="195"/>
                  </a:lnTo>
                  <a:lnTo>
                    <a:pt x="639" y="205"/>
                  </a:lnTo>
                  <a:lnTo>
                    <a:pt x="639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1" y="239"/>
                  </a:lnTo>
                  <a:lnTo>
                    <a:pt x="628" y="249"/>
                  </a:lnTo>
                  <a:lnTo>
                    <a:pt x="624" y="259"/>
                  </a:lnTo>
                  <a:lnTo>
                    <a:pt x="621" y="265"/>
                  </a:lnTo>
                  <a:lnTo>
                    <a:pt x="618" y="272"/>
                  </a:lnTo>
                  <a:lnTo>
                    <a:pt x="611" y="283"/>
                  </a:lnTo>
                  <a:lnTo>
                    <a:pt x="608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2" y="309"/>
                  </a:lnTo>
                  <a:lnTo>
                    <a:pt x="585" y="316"/>
                  </a:lnTo>
                  <a:lnTo>
                    <a:pt x="577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8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8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1" y="366"/>
                  </a:lnTo>
                  <a:lnTo>
                    <a:pt x="481" y="370"/>
                  </a:lnTo>
                  <a:lnTo>
                    <a:pt x="474" y="370"/>
                  </a:lnTo>
                  <a:lnTo>
                    <a:pt x="463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4" y="370"/>
                  </a:lnTo>
                  <a:lnTo>
                    <a:pt x="427" y="370"/>
                  </a:lnTo>
                  <a:lnTo>
                    <a:pt x="416" y="366"/>
                  </a:lnTo>
                  <a:lnTo>
                    <a:pt x="406" y="366"/>
                  </a:lnTo>
                  <a:lnTo>
                    <a:pt x="400" y="363"/>
                  </a:lnTo>
                  <a:lnTo>
                    <a:pt x="390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7" y="350"/>
                  </a:lnTo>
                  <a:lnTo>
                    <a:pt x="356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6" y="330"/>
                  </a:lnTo>
                  <a:lnTo>
                    <a:pt x="329" y="322"/>
                  </a:lnTo>
                  <a:lnTo>
                    <a:pt x="323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5" y="296"/>
                  </a:lnTo>
                  <a:lnTo>
                    <a:pt x="299" y="289"/>
                  </a:lnTo>
                  <a:lnTo>
                    <a:pt x="295" y="283"/>
                  </a:lnTo>
                  <a:lnTo>
                    <a:pt x="289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6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6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9" y="97"/>
                  </a:lnTo>
                  <a:lnTo>
                    <a:pt x="295" y="88"/>
                  </a:lnTo>
                  <a:lnTo>
                    <a:pt x="299" y="81"/>
                  </a:lnTo>
                  <a:lnTo>
                    <a:pt x="305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3" y="54"/>
                  </a:lnTo>
                  <a:lnTo>
                    <a:pt x="329" y="47"/>
                  </a:lnTo>
                  <a:lnTo>
                    <a:pt x="336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6" y="27"/>
                  </a:lnTo>
                  <a:lnTo>
                    <a:pt x="367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90" y="10"/>
                  </a:lnTo>
                  <a:lnTo>
                    <a:pt x="400" y="6"/>
                  </a:lnTo>
                  <a:lnTo>
                    <a:pt x="406" y="3"/>
                  </a:lnTo>
                  <a:lnTo>
                    <a:pt x="416" y="3"/>
                  </a:lnTo>
                  <a:lnTo>
                    <a:pt x="427" y="0"/>
                  </a:lnTo>
                  <a:lnTo>
                    <a:pt x="434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715000" y="3803760"/>
              <a:ext cx="222120" cy="42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008840" y="3346560"/>
              <a:ext cx="395280" cy="815760"/>
            </a:xfrm>
            <a:custGeom>
              <a:avLst/>
              <a:gdLst/>
              <a:ahLst/>
              <a:rect l="l" t="t" r="r" b="b"/>
              <a:pathLst>
                <a:path w="921" h="1897">
                  <a:moveTo>
                    <a:pt x="689" y="407"/>
                  </a:moveTo>
                  <a:lnTo>
                    <a:pt x="215" y="407"/>
                  </a:lnTo>
                  <a:lnTo>
                    <a:pt x="209" y="407"/>
                  </a:lnTo>
                  <a:lnTo>
                    <a:pt x="199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2" y="420"/>
                  </a:lnTo>
                  <a:lnTo>
                    <a:pt x="165" y="427"/>
                  </a:lnTo>
                  <a:lnTo>
                    <a:pt x="155" y="434"/>
                  </a:lnTo>
                  <a:lnTo>
                    <a:pt x="148" y="441"/>
                  </a:lnTo>
                  <a:lnTo>
                    <a:pt x="142" y="447"/>
                  </a:lnTo>
                  <a:lnTo>
                    <a:pt x="134" y="457"/>
                  </a:lnTo>
                  <a:lnTo>
                    <a:pt x="128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4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4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1" y="1177"/>
                  </a:lnTo>
                  <a:lnTo>
                    <a:pt x="38" y="1180"/>
                  </a:lnTo>
                  <a:lnTo>
                    <a:pt x="44" y="1187"/>
                  </a:lnTo>
                  <a:lnTo>
                    <a:pt x="51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4" y="1193"/>
                  </a:lnTo>
                  <a:lnTo>
                    <a:pt x="81" y="1193"/>
                  </a:lnTo>
                  <a:lnTo>
                    <a:pt x="88" y="1193"/>
                  </a:lnTo>
                  <a:lnTo>
                    <a:pt x="95" y="1193"/>
                  </a:lnTo>
                  <a:lnTo>
                    <a:pt x="105" y="1190"/>
                  </a:lnTo>
                  <a:lnTo>
                    <a:pt x="111" y="1187"/>
                  </a:lnTo>
                  <a:lnTo>
                    <a:pt x="118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9" y="1167"/>
                  </a:lnTo>
                  <a:lnTo>
                    <a:pt x="145" y="1157"/>
                  </a:lnTo>
                  <a:lnTo>
                    <a:pt x="152" y="1147"/>
                  </a:lnTo>
                  <a:lnTo>
                    <a:pt x="155" y="1136"/>
                  </a:lnTo>
                  <a:lnTo>
                    <a:pt x="162" y="1127"/>
                  </a:lnTo>
                  <a:lnTo>
                    <a:pt x="165" y="1113"/>
                  </a:lnTo>
                  <a:lnTo>
                    <a:pt x="168" y="1100"/>
                  </a:lnTo>
                  <a:lnTo>
                    <a:pt x="249" y="720"/>
                  </a:lnTo>
                  <a:lnTo>
                    <a:pt x="292" y="925"/>
                  </a:lnTo>
                  <a:lnTo>
                    <a:pt x="74" y="1897"/>
                  </a:lnTo>
                  <a:lnTo>
                    <a:pt x="272" y="1897"/>
                  </a:lnTo>
                  <a:lnTo>
                    <a:pt x="461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6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60" y="1123"/>
                  </a:lnTo>
                  <a:lnTo>
                    <a:pt x="763" y="1133"/>
                  </a:lnTo>
                  <a:lnTo>
                    <a:pt x="770" y="1143"/>
                  </a:lnTo>
                  <a:lnTo>
                    <a:pt x="776" y="1154"/>
                  </a:lnTo>
                  <a:lnTo>
                    <a:pt x="780" y="1160"/>
                  </a:lnTo>
                  <a:lnTo>
                    <a:pt x="787" y="1167"/>
                  </a:lnTo>
                  <a:lnTo>
                    <a:pt x="794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7" y="1184"/>
                  </a:lnTo>
                  <a:lnTo>
                    <a:pt x="823" y="1187"/>
                  </a:lnTo>
                  <a:lnTo>
                    <a:pt x="834" y="1187"/>
                  </a:lnTo>
                  <a:lnTo>
                    <a:pt x="841" y="1190"/>
                  </a:lnTo>
                  <a:lnTo>
                    <a:pt x="847" y="1187"/>
                  </a:lnTo>
                  <a:lnTo>
                    <a:pt x="854" y="1187"/>
                  </a:lnTo>
                  <a:lnTo>
                    <a:pt x="864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4" y="1177"/>
                  </a:lnTo>
                  <a:lnTo>
                    <a:pt x="891" y="1174"/>
                  </a:lnTo>
                  <a:lnTo>
                    <a:pt x="898" y="1170"/>
                  </a:lnTo>
                  <a:lnTo>
                    <a:pt x="901" y="1164"/>
                  </a:lnTo>
                  <a:lnTo>
                    <a:pt x="908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8" y="1140"/>
                  </a:lnTo>
                  <a:lnTo>
                    <a:pt x="918" y="1130"/>
                  </a:lnTo>
                  <a:lnTo>
                    <a:pt x="921" y="1123"/>
                  </a:lnTo>
                  <a:lnTo>
                    <a:pt x="921" y="1117"/>
                  </a:lnTo>
                  <a:lnTo>
                    <a:pt x="921" y="1107"/>
                  </a:lnTo>
                  <a:lnTo>
                    <a:pt x="921" y="1100"/>
                  </a:lnTo>
                  <a:lnTo>
                    <a:pt x="797" y="488"/>
                  </a:lnTo>
                  <a:lnTo>
                    <a:pt x="794" y="480"/>
                  </a:lnTo>
                  <a:lnTo>
                    <a:pt x="790" y="474"/>
                  </a:lnTo>
                  <a:lnTo>
                    <a:pt x="787" y="464"/>
                  </a:lnTo>
                  <a:lnTo>
                    <a:pt x="780" y="457"/>
                  </a:lnTo>
                  <a:lnTo>
                    <a:pt x="776" y="451"/>
                  </a:lnTo>
                  <a:lnTo>
                    <a:pt x="770" y="444"/>
                  </a:lnTo>
                  <a:lnTo>
                    <a:pt x="763" y="437"/>
                  </a:lnTo>
                  <a:lnTo>
                    <a:pt x="756" y="434"/>
                  </a:lnTo>
                  <a:lnTo>
                    <a:pt x="750" y="427"/>
                  </a:lnTo>
                  <a:lnTo>
                    <a:pt x="740" y="420"/>
                  </a:lnTo>
                  <a:lnTo>
                    <a:pt x="733" y="417"/>
                  </a:lnTo>
                  <a:lnTo>
                    <a:pt x="722" y="413"/>
                  </a:lnTo>
                  <a:lnTo>
                    <a:pt x="716" y="410"/>
                  </a:lnTo>
                  <a:lnTo>
                    <a:pt x="706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4" y="0"/>
                  </a:moveTo>
                  <a:lnTo>
                    <a:pt x="464" y="0"/>
                  </a:lnTo>
                  <a:lnTo>
                    <a:pt x="474" y="0"/>
                  </a:lnTo>
                  <a:lnTo>
                    <a:pt x="481" y="0"/>
                  </a:lnTo>
                  <a:lnTo>
                    <a:pt x="491" y="3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18" y="10"/>
                  </a:lnTo>
                  <a:lnTo>
                    <a:pt x="528" y="13"/>
                  </a:lnTo>
                  <a:lnTo>
                    <a:pt x="535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8" y="30"/>
                  </a:lnTo>
                  <a:lnTo>
                    <a:pt x="565" y="37"/>
                  </a:lnTo>
                  <a:lnTo>
                    <a:pt x="572" y="40"/>
                  </a:lnTo>
                  <a:lnTo>
                    <a:pt x="579" y="47"/>
                  </a:lnTo>
                  <a:lnTo>
                    <a:pt x="585" y="54"/>
                  </a:lnTo>
                  <a:lnTo>
                    <a:pt x="592" y="60"/>
                  </a:lnTo>
                  <a:lnTo>
                    <a:pt x="598" y="67"/>
                  </a:lnTo>
                  <a:lnTo>
                    <a:pt x="602" y="73"/>
                  </a:lnTo>
                  <a:lnTo>
                    <a:pt x="608" y="81"/>
                  </a:lnTo>
                  <a:lnTo>
                    <a:pt x="612" y="88"/>
                  </a:lnTo>
                  <a:lnTo>
                    <a:pt x="619" y="97"/>
                  </a:lnTo>
                  <a:lnTo>
                    <a:pt x="622" y="104"/>
                  </a:lnTo>
                  <a:lnTo>
                    <a:pt x="626" y="111"/>
                  </a:lnTo>
                  <a:lnTo>
                    <a:pt x="629" y="121"/>
                  </a:lnTo>
                  <a:lnTo>
                    <a:pt x="632" y="131"/>
                  </a:lnTo>
                  <a:lnTo>
                    <a:pt x="636" y="138"/>
                  </a:lnTo>
                  <a:lnTo>
                    <a:pt x="636" y="148"/>
                  </a:lnTo>
                  <a:lnTo>
                    <a:pt x="639" y="158"/>
                  </a:lnTo>
                  <a:lnTo>
                    <a:pt x="639" y="164"/>
                  </a:lnTo>
                  <a:lnTo>
                    <a:pt x="639" y="174"/>
                  </a:lnTo>
                  <a:lnTo>
                    <a:pt x="639" y="185"/>
                  </a:lnTo>
                  <a:lnTo>
                    <a:pt x="639" y="195"/>
                  </a:lnTo>
                  <a:lnTo>
                    <a:pt x="639" y="205"/>
                  </a:lnTo>
                  <a:lnTo>
                    <a:pt x="639" y="212"/>
                  </a:lnTo>
                  <a:lnTo>
                    <a:pt x="636" y="221"/>
                  </a:lnTo>
                  <a:lnTo>
                    <a:pt x="636" y="232"/>
                  </a:lnTo>
                  <a:lnTo>
                    <a:pt x="632" y="239"/>
                  </a:lnTo>
                  <a:lnTo>
                    <a:pt x="629" y="249"/>
                  </a:lnTo>
                  <a:lnTo>
                    <a:pt x="626" y="259"/>
                  </a:lnTo>
                  <a:lnTo>
                    <a:pt x="622" y="265"/>
                  </a:lnTo>
                  <a:lnTo>
                    <a:pt x="619" y="272"/>
                  </a:lnTo>
                  <a:lnTo>
                    <a:pt x="612" y="283"/>
                  </a:lnTo>
                  <a:lnTo>
                    <a:pt x="608" y="289"/>
                  </a:lnTo>
                  <a:lnTo>
                    <a:pt x="602" y="296"/>
                  </a:lnTo>
                  <a:lnTo>
                    <a:pt x="598" y="303"/>
                  </a:lnTo>
                  <a:lnTo>
                    <a:pt x="592" y="309"/>
                  </a:lnTo>
                  <a:lnTo>
                    <a:pt x="585" y="316"/>
                  </a:lnTo>
                  <a:lnTo>
                    <a:pt x="579" y="322"/>
                  </a:lnTo>
                  <a:lnTo>
                    <a:pt x="572" y="330"/>
                  </a:lnTo>
                  <a:lnTo>
                    <a:pt x="565" y="333"/>
                  </a:lnTo>
                  <a:lnTo>
                    <a:pt x="558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5" y="353"/>
                  </a:lnTo>
                  <a:lnTo>
                    <a:pt x="528" y="356"/>
                  </a:lnTo>
                  <a:lnTo>
                    <a:pt x="518" y="360"/>
                  </a:lnTo>
                  <a:lnTo>
                    <a:pt x="507" y="363"/>
                  </a:lnTo>
                  <a:lnTo>
                    <a:pt x="501" y="366"/>
                  </a:lnTo>
                  <a:lnTo>
                    <a:pt x="491" y="366"/>
                  </a:lnTo>
                  <a:lnTo>
                    <a:pt x="481" y="370"/>
                  </a:lnTo>
                  <a:lnTo>
                    <a:pt x="474" y="370"/>
                  </a:lnTo>
                  <a:lnTo>
                    <a:pt x="464" y="370"/>
                  </a:lnTo>
                  <a:lnTo>
                    <a:pt x="454" y="370"/>
                  </a:lnTo>
                  <a:lnTo>
                    <a:pt x="444" y="370"/>
                  </a:lnTo>
                  <a:lnTo>
                    <a:pt x="434" y="370"/>
                  </a:lnTo>
                  <a:lnTo>
                    <a:pt x="427" y="370"/>
                  </a:lnTo>
                  <a:lnTo>
                    <a:pt x="417" y="366"/>
                  </a:lnTo>
                  <a:lnTo>
                    <a:pt x="407" y="366"/>
                  </a:lnTo>
                  <a:lnTo>
                    <a:pt x="400" y="363"/>
                  </a:lnTo>
                  <a:lnTo>
                    <a:pt x="390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7" y="350"/>
                  </a:lnTo>
                  <a:lnTo>
                    <a:pt x="357" y="343"/>
                  </a:lnTo>
                  <a:lnTo>
                    <a:pt x="349" y="340"/>
                  </a:lnTo>
                  <a:lnTo>
                    <a:pt x="343" y="333"/>
                  </a:lnTo>
                  <a:lnTo>
                    <a:pt x="336" y="330"/>
                  </a:lnTo>
                  <a:lnTo>
                    <a:pt x="330" y="322"/>
                  </a:lnTo>
                  <a:lnTo>
                    <a:pt x="323" y="316"/>
                  </a:lnTo>
                  <a:lnTo>
                    <a:pt x="316" y="309"/>
                  </a:lnTo>
                  <a:lnTo>
                    <a:pt x="310" y="303"/>
                  </a:lnTo>
                  <a:lnTo>
                    <a:pt x="306" y="296"/>
                  </a:lnTo>
                  <a:lnTo>
                    <a:pt x="300" y="289"/>
                  </a:lnTo>
                  <a:lnTo>
                    <a:pt x="297" y="283"/>
                  </a:lnTo>
                  <a:lnTo>
                    <a:pt x="289" y="272"/>
                  </a:lnTo>
                  <a:lnTo>
                    <a:pt x="286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6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6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6" y="104"/>
                  </a:lnTo>
                  <a:lnTo>
                    <a:pt x="289" y="97"/>
                  </a:lnTo>
                  <a:lnTo>
                    <a:pt x="297" y="88"/>
                  </a:lnTo>
                  <a:lnTo>
                    <a:pt x="300" y="81"/>
                  </a:lnTo>
                  <a:lnTo>
                    <a:pt x="306" y="73"/>
                  </a:lnTo>
                  <a:lnTo>
                    <a:pt x="310" y="67"/>
                  </a:lnTo>
                  <a:lnTo>
                    <a:pt x="316" y="60"/>
                  </a:lnTo>
                  <a:lnTo>
                    <a:pt x="323" y="54"/>
                  </a:lnTo>
                  <a:lnTo>
                    <a:pt x="330" y="47"/>
                  </a:lnTo>
                  <a:lnTo>
                    <a:pt x="336" y="40"/>
                  </a:lnTo>
                  <a:lnTo>
                    <a:pt x="343" y="37"/>
                  </a:lnTo>
                  <a:lnTo>
                    <a:pt x="349" y="30"/>
                  </a:lnTo>
                  <a:lnTo>
                    <a:pt x="357" y="27"/>
                  </a:lnTo>
                  <a:lnTo>
                    <a:pt x="367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90" y="10"/>
                  </a:lnTo>
                  <a:lnTo>
                    <a:pt x="400" y="6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7" y="0"/>
                  </a:lnTo>
                  <a:lnTo>
                    <a:pt x="434" y="0"/>
                  </a:lnTo>
                  <a:lnTo>
                    <a:pt x="444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924680" y="3346560"/>
              <a:ext cx="397080" cy="815760"/>
            </a:xfrm>
            <a:custGeom>
              <a:avLst/>
              <a:gdLst/>
              <a:ahLst/>
              <a:rect l="l" t="t" r="r" b="b"/>
              <a:pathLst>
                <a:path w="920" h="1897">
                  <a:moveTo>
                    <a:pt x="689" y="407"/>
                  </a:moveTo>
                  <a:lnTo>
                    <a:pt x="215" y="407"/>
                  </a:lnTo>
                  <a:lnTo>
                    <a:pt x="208" y="407"/>
                  </a:lnTo>
                  <a:lnTo>
                    <a:pt x="197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4" y="427"/>
                  </a:lnTo>
                  <a:lnTo>
                    <a:pt x="155" y="434"/>
                  </a:lnTo>
                  <a:lnTo>
                    <a:pt x="147" y="441"/>
                  </a:lnTo>
                  <a:lnTo>
                    <a:pt x="140" y="447"/>
                  </a:lnTo>
                  <a:lnTo>
                    <a:pt x="134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3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6" y="1180"/>
                  </a:lnTo>
                  <a:lnTo>
                    <a:pt x="44" y="1187"/>
                  </a:lnTo>
                  <a:lnTo>
                    <a:pt x="50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3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3" y="1193"/>
                  </a:lnTo>
                  <a:lnTo>
                    <a:pt x="104" y="1190"/>
                  </a:lnTo>
                  <a:lnTo>
                    <a:pt x="111" y="1187"/>
                  </a:lnTo>
                  <a:lnTo>
                    <a:pt x="117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7" y="1167"/>
                  </a:lnTo>
                  <a:lnTo>
                    <a:pt x="144" y="1157"/>
                  </a:lnTo>
                  <a:lnTo>
                    <a:pt x="151" y="1147"/>
                  </a:lnTo>
                  <a:lnTo>
                    <a:pt x="155" y="1136"/>
                  </a:lnTo>
                  <a:lnTo>
                    <a:pt x="161" y="1127"/>
                  </a:lnTo>
                  <a:lnTo>
                    <a:pt x="164" y="1113"/>
                  </a:lnTo>
                  <a:lnTo>
                    <a:pt x="168" y="1100"/>
                  </a:lnTo>
                  <a:lnTo>
                    <a:pt x="248" y="720"/>
                  </a:lnTo>
                  <a:lnTo>
                    <a:pt x="292" y="925"/>
                  </a:lnTo>
                  <a:lnTo>
                    <a:pt x="73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2" y="1133"/>
                  </a:lnTo>
                  <a:lnTo>
                    <a:pt x="769" y="1143"/>
                  </a:lnTo>
                  <a:lnTo>
                    <a:pt x="776" y="1154"/>
                  </a:lnTo>
                  <a:lnTo>
                    <a:pt x="779" y="1160"/>
                  </a:lnTo>
                  <a:lnTo>
                    <a:pt x="786" y="1167"/>
                  </a:lnTo>
                  <a:lnTo>
                    <a:pt x="793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3" y="1187"/>
                  </a:lnTo>
                  <a:lnTo>
                    <a:pt x="839" y="1190"/>
                  </a:lnTo>
                  <a:lnTo>
                    <a:pt x="847" y="1187"/>
                  </a:lnTo>
                  <a:lnTo>
                    <a:pt x="853" y="1187"/>
                  </a:lnTo>
                  <a:lnTo>
                    <a:pt x="863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6" y="1170"/>
                  </a:lnTo>
                  <a:lnTo>
                    <a:pt x="901" y="1164"/>
                  </a:lnTo>
                  <a:lnTo>
                    <a:pt x="907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0" y="1123"/>
                  </a:lnTo>
                  <a:lnTo>
                    <a:pt x="920" y="1117"/>
                  </a:lnTo>
                  <a:lnTo>
                    <a:pt x="920" y="1107"/>
                  </a:lnTo>
                  <a:lnTo>
                    <a:pt x="920" y="1100"/>
                  </a:lnTo>
                  <a:lnTo>
                    <a:pt x="796" y="488"/>
                  </a:lnTo>
                  <a:lnTo>
                    <a:pt x="793" y="480"/>
                  </a:lnTo>
                  <a:lnTo>
                    <a:pt x="789" y="474"/>
                  </a:lnTo>
                  <a:lnTo>
                    <a:pt x="786" y="464"/>
                  </a:lnTo>
                  <a:lnTo>
                    <a:pt x="779" y="457"/>
                  </a:lnTo>
                  <a:lnTo>
                    <a:pt x="776" y="451"/>
                  </a:lnTo>
                  <a:lnTo>
                    <a:pt x="769" y="444"/>
                  </a:lnTo>
                  <a:lnTo>
                    <a:pt x="762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39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5" y="410"/>
                  </a:lnTo>
                  <a:lnTo>
                    <a:pt x="705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3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90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8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7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8" y="47"/>
                  </a:lnTo>
                  <a:lnTo>
                    <a:pt x="585" y="54"/>
                  </a:lnTo>
                  <a:lnTo>
                    <a:pt x="591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8" y="81"/>
                  </a:lnTo>
                  <a:lnTo>
                    <a:pt x="611" y="88"/>
                  </a:lnTo>
                  <a:lnTo>
                    <a:pt x="618" y="97"/>
                  </a:lnTo>
                  <a:lnTo>
                    <a:pt x="621" y="104"/>
                  </a:lnTo>
                  <a:lnTo>
                    <a:pt x="624" y="111"/>
                  </a:lnTo>
                  <a:lnTo>
                    <a:pt x="628" y="121"/>
                  </a:lnTo>
                  <a:lnTo>
                    <a:pt x="632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8" y="158"/>
                  </a:lnTo>
                  <a:lnTo>
                    <a:pt x="638" y="164"/>
                  </a:lnTo>
                  <a:lnTo>
                    <a:pt x="638" y="174"/>
                  </a:lnTo>
                  <a:lnTo>
                    <a:pt x="638" y="185"/>
                  </a:lnTo>
                  <a:lnTo>
                    <a:pt x="638" y="195"/>
                  </a:lnTo>
                  <a:lnTo>
                    <a:pt x="638" y="205"/>
                  </a:lnTo>
                  <a:lnTo>
                    <a:pt x="638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2" y="239"/>
                  </a:lnTo>
                  <a:lnTo>
                    <a:pt x="628" y="249"/>
                  </a:lnTo>
                  <a:lnTo>
                    <a:pt x="624" y="259"/>
                  </a:lnTo>
                  <a:lnTo>
                    <a:pt x="621" y="265"/>
                  </a:lnTo>
                  <a:lnTo>
                    <a:pt x="618" y="272"/>
                  </a:lnTo>
                  <a:lnTo>
                    <a:pt x="611" y="283"/>
                  </a:lnTo>
                  <a:lnTo>
                    <a:pt x="608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1" y="309"/>
                  </a:lnTo>
                  <a:lnTo>
                    <a:pt x="585" y="316"/>
                  </a:lnTo>
                  <a:lnTo>
                    <a:pt x="578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7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8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0" y="366"/>
                  </a:lnTo>
                  <a:lnTo>
                    <a:pt x="480" y="370"/>
                  </a:lnTo>
                  <a:lnTo>
                    <a:pt x="474" y="370"/>
                  </a:lnTo>
                  <a:lnTo>
                    <a:pt x="463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3" y="370"/>
                  </a:lnTo>
                  <a:lnTo>
                    <a:pt x="427" y="370"/>
                  </a:lnTo>
                  <a:lnTo>
                    <a:pt x="417" y="366"/>
                  </a:lnTo>
                  <a:lnTo>
                    <a:pt x="406" y="366"/>
                  </a:lnTo>
                  <a:lnTo>
                    <a:pt x="399" y="363"/>
                  </a:lnTo>
                  <a:lnTo>
                    <a:pt x="389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6" y="350"/>
                  </a:lnTo>
                  <a:lnTo>
                    <a:pt x="355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6" y="330"/>
                  </a:lnTo>
                  <a:lnTo>
                    <a:pt x="329" y="322"/>
                  </a:lnTo>
                  <a:lnTo>
                    <a:pt x="322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5" y="296"/>
                  </a:lnTo>
                  <a:lnTo>
                    <a:pt x="298" y="289"/>
                  </a:lnTo>
                  <a:lnTo>
                    <a:pt x="295" y="283"/>
                  </a:lnTo>
                  <a:lnTo>
                    <a:pt x="289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5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5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9" y="97"/>
                  </a:lnTo>
                  <a:lnTo>
                    <a:pt x="295" y="88"/>
                  </a:lnTo>
                  <a:lnTo>
                    <a:pt x="298" y="81"/>
                  </a:lnTo>
                  <a:lnTo>
                    <a:pt x="305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2" y="54"/>
                  </a:lnTo>
                  <a:lnTo>
                    <a:pt x="329" y="47"/>
                  </a:lnTo>
                  <a:lnTo>
                    <a:pt x="336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5" y="27"/>
                  </a:lnTo>
                  <a:lnTo>
                    <a:pt x="366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89" y="10"/>
                  </a:lnTo>
                  <a:lnTo>
                    <a:pt x="399" y="6"/>
                  </a:lnTo>
                  <a:lnTo>
                    <a:pt x="406" y="3"/>
                  </a:lnTo>
                  <a:lnTo>
                    <a:pt x="417" y="3"/>
                  </a:lnTo>
                  <a:lnTo>
                    <a:pt x="427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543800" y="3803760"/>
              <a:ext cx="222120" cy="42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912960" y="3429000"/>
              <a:ext cx="37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1099440" y="3886200"/>
            <a:ext cx="7282440" cy="609480"/>
            <a:chOff x="1099440" y="3886200"/>
            <a:chExt cx="7282440" cy="609480"/>
          </a:xfrm>
        </p:grpSpPr>
        <p:sp>
          <p:nvSpPr>
            <p:cNvPr id="3354" name=""/>
            <p:cNvSpPr/>
            <p:nvPr/>
          </p:nvSpPr>
          <p:spPr>
            <a:xfrm>
              <a:off x="5504040" y="4267080"/>
              <a:ext cx="13464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2" y="507"/>
                  </a:lnTo>
                  <a:lnTo>
                    <a:pt x="0" y="44"/>
                  </a:lnTo>
                  <a:lnTo>
                    <a:pt x="91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199120" y="4267080"/>
              <a:ext cx="135000" cy="217440"/>
            </a:xfrm>
            <a:custGeom>
              <a:avLst/>
              <a:gdLst/>
              <a:ahLst/>
              <a:rect l="l" t="t" r="r" b="b"/>
              <a:pathLst>
                <a:path w="316" h="508">
                  <a:moveTo>
                    <a:pt x="223" y="0"/>
                  </a:moveTo>
                  <a:lnTo>
                    <a:pt x="316" y="45"/>
                  </a:lnTo>
                  <a:lnTo>
                    <a:pt x="93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6400800" y="4275000"/>
              <a:ext cx="13500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4" y="507"/>
                  </a:lnTo>
                  <a:lnTo>
                    <a:pt x="0" y="44"/>
                  </a:lnTo>
                  <a:lnTo>
                    <a:pt x="93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095880" y="4275000"/>
              <a:ext cx="136800" cy="217800"/>
            </a:xfrm>
            <a:custGeom>
              <a:avLst/>
              <a:gdLst/>
              <a:ahLst/>
              <a:rect l="l" t="t" r="r" b="b"/>
              <a:pathLst>
                <a:path w="315" h="508">
                  <a:moveTo>
                    <a:pt x="222" y="0"/>
                  </a:moveTo>
                  <a:lnTo>
                    <a:pt x="315" y="45"/>
                  </a:lnTo>
                  <a:lnTo>
                    <a:pt x="91" y="508"/>
                  </a:lnTo>
                  <a:lnTo>
                    <a:pt x="0" y="463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315200" y="4267080"/>
              <a:ext cx="136440" cy="220680"/>
            </a:xfrm>
            <a:custGeom>
              <a:avLst/>
              <a:gdLst/>
              <a:ahLst/>
              <a:rect l="l" t="t" r="r" b="b"/>
              <a:pathLst>
                <a:path w="316" h="507">
                  <a:moveTo>
                    <a:pt x="316" y="463"/>
                  </a:moveTo>
                  <a:lnTo>
                    <a:pt x="223" y="507"/>
                  </a:lnTo>
                  <a:lnTo>
                    <a:pt x="0" y="44"/>
                  </a:lnTo>
                  <a:lnTo>
                    <a:pt x="92" y="0"/>
                  </a:lnTo>
                  <a:lnTo>
                    <a:pt x="316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934320" y="4267080"/>
              <a:ext cx="136440" cy="217440"/>
            </a:xfrm>
            <a:custGeom>
              <a:avLst/>
              <a:gdLst/>
              <a:ahLst/>
              <a:rect l="l" t="t" r="r" b="b"/>
              <a:pathLst>
                <a:path w="315" h="508">
                  <a:moveTo>
                    <a:pt x="223" y="0"/>
                  </a:moveTo>
                  <a:lnTo>
                    <a:pt x="315" y="45"/>
                  </a:lnTo>
                  <a:lnTo>
                    <a:pt x="92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247240" y="4275000"/>
              <a:ext cx="13464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4" y="507"/>
                  </a:lnTo>
                  <a:lnTo>
                    <a:pt x="0" y="44"/>
                  </a:lnTo>
                  <a:lnTo>
                    <a:pt x="92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866000" y="4267080"/>
              <a:ext cx="135000" cy="217440"/>
            </a:xfrm>
            <a:custGeom>
              <a:avLst/>
              <a:gdLst/>
              <a:ahLst/>
              <a:rect l="l" t="t" r="r" b="b"/>
              <a:pathLst>
                <a:path w="316" h="508">
                  <a:moveTo>
                    <a:pt x="223" y="0"/>
                  </a:moveTo>
                  <a:lnTo>
                    <a:pt x="316" y="45"/>
                  </a:lnTo>
                  <a:lnTo>
                    <a:pt x="92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1099440" y="3886200"/>
              <a:ext cx="340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1291320" y="4267080"/>
            <a:ext cx="7166880" cy="685800"/>
            <a:chOff x="1291320" y="4267080"/>
            <a:chExt cx="7166880" cy="685800"/>
          </a:xfrm>
        </p:grpSpPr>
        <p:sp>
          <p:nvSpPr>
            <p:cNvPr id="3364" name=""/>
            <p:cNvSpPr/>
            <p:nvPr/>
          </p:nvSpPr>
          <p:spPr>
            <a:xfrm>
              <a:off x="510228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5" y="204"/>
                  </a:lnTo>
                  <a:lnTo>
                    <a:pt x="100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6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1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9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7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8" y="597"/>
                  </a:lnTo>
                  <a:lnTo>
                    <a:pt x="53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6" y="574"/>
                  </a:lnTo>
                  <a:lnTo>
                    <a:pt x="77" y="569"/>
                  </a:lnTo>
                  <a:lnTo>
                    <a:pt x="81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7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7" y="587"/>
                  </a:lnTo>
                  <a:lnTo>
                    <a:pt x="402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1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9" y="585"/>
                  </a:lnTo>
                  <a:lnTo>
                    <a:pt x="450" y="582"/>
                  </a:lnTo>
                  <a:lnTo>
                    <a:pt x="454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9" y="570"/>
                  </a:lnTo>
                  <a:lnTo>
                    <a:pt x="459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7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8" y="206"/>
                  </a:lnTo>
                  <a:lnTo>
                    <a:pt x="353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8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6" y="30"/>
                  </a:lnTo>
                  <a:lnTo>
                    <a:pt x="299" y="33"/>
                  </a:lnTo>
                  <a:lnTo>
                    <a:pt x="301" y="37"/>
                  </a:lnTo>
                  <a:lnTo>
                    <a:pt x="304" y="40"/>
                  </a:lnTo>
                  <a:lnTo>
                    <a:pt x="306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20" y="79"/>
                  </a:lnTo>
                  <a:lnTo>
                    <a:pt x="320" y="82"/>
                  </a:lnTo>
                  <a:lnTo>
                    <a:pt x="320" y="87"/>
                  </a:lnTo>
                  <a:lnTo>
                    <a:pt x="320" y="92"/>
                  </a:lnTo>
                  <a:lnTo>
                    <a:pt x="320" y="97"/>
                  </a:lnTo>
                  <a:lnTo>
                    <a:pt x="320" y="103"/>
                  </a:lnTo>
                  <a:lnTo>
                    <a:pt x="320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6" y="141"/>
                  </a:lnTo>
                  <a:lnTo>
                    <a:pt x="304" y="144"/>
                  </a:lnTo>
                  <a:lnTo>
                    <a:pt x="301" y="148"/>
                  </a:lnTo>
                  <a:lnTo>
                    <a:pt x="299" y="152"/>
                  </a:lnTo>
                  <a:lnTo>
                    <a:pt x="296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8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3" y="183"/>
                  </a:lnTo>
                  <a:lnTo>
                    <a:pt x="200" y="182"/>
                  </a:lnTo>
                  <a:lnTo>
                    <a:pt x="195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2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49" y="144"/>
                  </a:lnTo>
                  <a:lnTo>
                    <a:pt x="148" y="141"/>
                  </a:lnTo>
                  <a:lnTo>
                    <a:pt x="144" y="136"/>
                  </a:lnTo>
                  <a:lnTo>
                    <a:pt x="143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8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8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3" y="53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49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2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5" y="5"/>
                  </a:lnTo>
                  <a:lnTo>
                    <a:pt x="200" y="4"/>
                  </a:lnTo>
                  <a:lnTo>
                    <a:pt x="203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56092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3" y="204"/>
                  </a:lnTo>
                  <a:lnTo>
                    <a:pt x="98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7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6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3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4" y="61"/>
                  </a:lnTo>
                  <a:lnTo>
                    <a:pt x="315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8" y="79"/>
                  </a:lnTo>
                  <a:lnTo>
                    <a:pt x="318" y="82"/>
                  </a:lnTo>
                  <a:lnTo>
                    <a:pt x="318" y="87"/>
                  </a:lnTo>
                  <a:lnTo>
                    <a:pt x="318" y="92"/>
                  </a:lnTo>
                  <a:lnTo>
                    <a:pt x="318" y="97"/>
                  </a:lnTo>
                  <a:lnTo>
                    <a:pt x="318" y="103"/>
                  </a:lnTo>
                  <a:lnTo>
                    <a:pt x="318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5" y="119"/>
                  </a:lnTo>
                  <a:lnTo>
                    <a:pt x="314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3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8" y="183"/>
                  </a:lnTo>
                  <a:lnTo>
                    <a:pt x="203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7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7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3" y="2"/>
                  </a:lnTo>
                  <a:lnTo>
                    <a:pt x="208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353200" y="4767120"/>
              <a:ext cx="14580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00228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5" y="204"/>
                  </a:lnTo>
                  <a:lnTo>
                    <a:pt x="100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1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7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7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1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9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8" y="206"/>
                  </a:lnTo>
                  <a:lnTo>
                    <a:pt x="353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20" y="79"/>
                  </a:lnTo>
                  <a:lnTo>
                    <a:pt x="320" y="82"/>
                  </a:lnTo>
                  <a:lnTo>
                    <a:pt x="320" y="87"/>
                  </a:lnTo>
                  <a:lnTo>
                    <a:pt x="320" y="92"/>
                  </a:lnTo>
                  <a:lnTo>
                    <a:pt x="320" y="97"/>
                  </a:lnTo>
                  <a:lnTo>
                    <a:pt x="320" y="103"/>
                  </a:lnTo>
                  <a:lnTo>
                    <a:pt x="320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3" y="183"/>
                  </a:lnTo>
                  <a:lnTo>
                    <a:pt x="200" y="182"/>
                  </a:lnTo>
                  <a:lnTo>
                    <a:pt x="195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8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8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5" y="5"/>
                  </a:lnTo>
                  <a:lnTo>
                    <a:pt x="200" y="4"/>
                  </a:lnTo>
                  <a:lnTo>
                    <a:pt x="203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61280" y="4543560"/>
              <a:ext cx="1965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7" y="466"/>
                  </a:lnTo>
                  <a:lnTo>
                    <a:pt x="333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5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3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5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5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3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3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3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25320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902280" y="4543560"/>
              <a:ext cx="1969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9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0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1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1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4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50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0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359480" y="4543560"/>
              <a:ext cx="1987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3" y="550"/>
                  </a:lnTo>
                  <a:lnTo>
                    <a:pt x="124" y="360"/>
                  </a:lnTo>
                  <a:lnTo>
                    <a:pt x="145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8" y="466"/>
                  </a:lnTo>
                  <a:lnTo>
                    <a:pt x="332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2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6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4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5" y="209"/>
                  </a:lnTo>
                  <a:lnTo>
                    <a:pt x="360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0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8" y="33"/>
                  </a:lnTo>
                  <a:lnTo>
                    <a:pt x="300" y="37"/>
                  </a:lnTo>
                  <a:lnTo>
                    <a:pt x="303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5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5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3" y="144"/>
                  </a:lnTo>
                  <a:lnTo>
                    <a:pt x="300" y="148"/>
                  </a:lnTo>
                  <a:lnTo>
                    <a:pt x="298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0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6" y="185"/>
                  </a:lnTo>
                  <a:lnTo>
                    <a:pt x="231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2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4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0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0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4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2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15320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800840" y="4543560"/>
              <a:ext cx="1987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9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7" y="593"/>
                  </a:lnTo>
                  <a:lnTo>
                    <a:pt x="420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1" y="53"/>
                  </a:lnTo>
                  <a:lnTo>
                    <a:pt x="313" y="56"/>
                  </a:lnTo>
                  <a:lnTo>
                    <a:pt x="314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4" y="124"/>
                  </a:lnTo>
                  <a:lnTo>
                    <a:pt x="313" y="129"/>
                  </a:lnTo>
                  <a:lnTo>
                    <a:pt x="311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9" y="183"/>
                  </a:lnTo>
                  <a:lnTo>
                    <a:pt x="204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50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0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25984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7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3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3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1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6" y="580"/>
                  </a:lnTo>
                  <a:lnTo>
                    <a:pt x="10" y="584"/>
                  </a:lnTo>
                  <a:lnTo>
                    <a:pt x="11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39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8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3" y="550"/>
                  </a:lnTo>
                  <a:lnTo>
                    <a:pt x="124" y="360"/>
                  </a:lnTo>
                  <a:lnTo>
                    <a:pt x="145" y="463"/>
                  </a:lnTo>
                  <a:lnTo>
                    <a:pt x="36" y="948"/>
                  </a:lnTo>
                  <a:lnTo>
                    <a:pt x="135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7" y="466"/>
                  </a:lnTo>
                  <a:lnTo>
                    <a:pt x="332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79" y="562"/>
                  </a:lnTo>
                  <a:lnTo>
                    <a:pt x="381" y="567"/>
                  </a:lnTo>
                  <a:lnTo>
                    <a:pt x="384" y="572"/>
                  </a:lnTo>
                  <a:lnTo>
                    <a:pt x="388" y="577"/>
                  </a:lnTo>
                  <a:lnTo>
                    <a:pt x="389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7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1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6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4" y="237"/>
                  </a:lnTo>
                  <a:lnTo>
                    <a:pt x="393" y="232"/>
                  </a:lnTo>
                  <a:lnTo>
                    <a:pt x="389" y="229"/>
                  </a:lnTo>
                  <a:lnTo>
                    <a:pt x="388" y="225"/>
                  </a:lnTo>
                  <a:lnTo>
                    <a:pt x="384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5" y="209"/>
                  </a:lnTo>
                  <a:lnTo>
                    <a:pt x="360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6" y="0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49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0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8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8" y="33"/>
                  </a:lnTo>
                  <a:lnTo>
                    <a:pt x="300" y="37"/>
                  </a:lnTo>
                  <a:lnTo>
                    <a:pt x="303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6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6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3" y="144"/>
                  </a:lnTo>
                  <a:lnTo>
                    <a:pt x="300" y="148"/>
                  </a:lnTo>
                  <a:lnTo>
                    <a:pt x="298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8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0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49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6" y="185"/>
                  </a:lnTo>
                  <a:lnTo>
                    <a:pt x="231" y="185"/>
                  </a:lnTo>
                  <a:lnTo>
                    <a:pt x="226" y="185"/>
                  </a:lnTo>
                  <a:lnTo>
                    <a:pt x="221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2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4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4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0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5" y="116"/>
                  </a:lnTo>
                  <a:lnTo>
                    <a:pt x="135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5" y="74"/>
                  </a:lnTo>
                  <a:lnTo>
                    <a:pt x="135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0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4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4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2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05176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1291320" y="4267080"/>
              <a:ext cx="302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7" name=""/>
          <p:cNvGrpSpPr/>
          <p:nvPr/>
        </p:nvGrpSpPr>
        <p:grpSpPr>
          <a:xfrm>
            <a:off x="1478160" y="4648320"/>
            <a:ext cx="7034040" cy="485640"/>
            <a:chOff x="1478160" y="4648320"/>
            <a:chExt cx="7034040" cy="485640"/>
          </a:xfrm>
        </p:grpSpPr>
        <p:sp>
          <p:nvSpPr>
            <p:cNvPr id="3378" name=""/>
            <p:cNvSpPr/>
            <p:nvPr/>
          </p:nvSpPr>
          <p:spPr>
            <a:xfrm>
              <a:off x="52578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0482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7150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5054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1722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9626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66294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64198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058160" y="4989600"/>
              <a:ext cx="9180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6848640" y="498960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2472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31520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96608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75656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42004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21052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1478160" y="4648320"/>
              <a:ext cx="264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5" name=""/>
          <p:cNvGrpSpPr/>
          <p:nvPr/>
        </p:nvGrpSpPr>
        <p:grpSpPr>
          <a:xfrm>
            <a:off x="1665720" y="4998960"/>
            <a:ext cx="6897240" cy="395280"/>
            <a:chOff x="1665720" y="4998960"/>
            <a:chExt cx="6897240" cy="395280"/>
          </a:xfrm>
        </p:grpSpPr>
        <p:sp>
          <p:nvSpPr>
            <p:cNvPr id="3396" name=""/>
            <p:cNvSpPr/>
            <p:nvPr/>
          </p:nvSpPr>
          <p:spPr>
            <a:xfrm>
              <a:off x="5038560" y="5181480"/>
              <a:ext cx="10656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9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5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4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7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28012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4" y="119"/>
                  </a:lnTo>
                  <a:lnTo>
                    <a:pt x="32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3" y="306"/>
                  </a:lnTo>
                  <a:lnTo>
                    <a:pt x="35" y="305"/>
                  </a:lnTo>
                  <a:lnTo>
                    <a:pt x="37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7" y="292"/>
                  </a:lnTo>
                  <a:lnTo>
                    <a:pt x="198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8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2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0" y="5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0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2" y="88"/>
                  </a:lnTo>
                  <a:lnTo>
                    <a:pt x="90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5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0" y="7"/>
                  </a:lnTo>
                  <a:lnTo>
                    <a:pt x="92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15304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5101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8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74992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1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4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624640" y="5291280"/>
              <a:ext cx="11880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94360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8" y="108"/>
                  </a:lnTo>
                  <a:lnTo>
                    <a:pt x="47" y="108"/>
                  </a:lnTo>
                  <a:lnTo>
                    <a:pt x="44" y="109"/>
                  </a:lnTo>
                  <a:lnTo>
                    <a:pt x="42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2" y="290"/>
                  </a:lnTo>
                  <a:lnTo>
                    <a:pt x="43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0" y="298"/>
                  </a:lnTo>
                  <a:lnTo>
                    <a:pt x="202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7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2" y="117"/>
                  </a:lnTo>
                  <a:lnTo>
                    <a:pt x="200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0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6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6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0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1" y="93"/>
                  </a:lnTo>
                  <a:lnTo>
                    <a:pt x="99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1815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6058080" y="5291280"/>
              <a:ext cx="1173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41520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6531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1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1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3" y="495"/>
                  </a:lnTo>
                  <a:lnTo>
                    <a:pt x="165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2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59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5" y="57"/>
                  </a:lnTo>
                  <a:lnTo>
                    <a:pt x="165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59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8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52608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8468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1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4" y="109"/>
                  </a:lnTo>
                  <a:lnTo>
                    <a:pt x="43" y="111"/>
                  </a:lnTo>
                  <a:lnTo>
                    <a:pt x="39" y="113"/>
                  </a:lnTo>
                  <a:lnTo>
                    <a:pt x="37" y="114"/>
                  </a:lnTo>
                  <a:lnTo>
                    <a:pt x="36" y="116"/>
                  </a:lnTo>
                  <a:lnTo>
                    <a:pt x="34" y="119"/>
                  </a:lnTo>
                  <a:lnTo>
                    <a:pt x="32" y="121"/>
                  </a:lnTo>
                  <a:lnTo>
                    <a:pt x="31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2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1" y="308"/>
                  </a:lnTo>
                  <a:lnTo>
                    <a:pt x="33" y="306"/>
                  </a:lnTo>
                  <a:lnTo>
                    <a:pt x="35" y="305"/>
                  </a:lnTo>
                  <a:lnTo>
                    <a:pt x="37" y="301"/>
                  </a:lnTo>
                  <a:lnTo>
                    <a:pt x="38" y="298"/>
                  </a:lnTo>
                  <a:lnTo>
                    <a:pt x="39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0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5" y="242"/>
                  </a:lnTo>
                  <a:lnTo>
                    <a:pt x="173" y="190"/>
                  </a:lnTo>
                  <a:lnTo>
                    <a:pt x="196" y="286"/>
                  </a:lnTo>
                  <a:lnTo>
                    <a:pt x="196" y="290"/>
                  </a:lnTo>
                  <a:lnTo>
                    <a:pt x="197" y="292"/>
                  </a:lnTo>
                  <a:lnTo>
                    <a:pt x="198" y="295"/>
                  </a:lnTo>
                  <a:lnTo>
                    <a:pt x="200" y="298"/>
                  </a:lnTo>
                  <a:lnTo>
                    <a:pt x="203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2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8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4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3" y="117"/>
                  </a:lnTo>
                  <a:lnTo>
                    <a:pt x="200" y="115"/>
                  </a:lnTo>
                  <a:lnTo>
                    <a:pt x="198" y="114"/>
                  </a:lnTo>
                  <a:lnTo>
                    <a:pt x="196" y="113"/>
                  </a:lnTo>
                  <a:lnTo>
                    <a:pt x="195" y="111"/>
                  </a:lnTo>
                  <a:lnTo>
                    <a:pt x="192" y="109"/>
                  </a:lnTo>
                  <a:lnTo>
                    <a:pt x="190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3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0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0" y="5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59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5" y="57"/>
                  </a:lnTo>
                  <a:lnTo>
                    <a:pt x="165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59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0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7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0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8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1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2" y="88"/>
                  </a:lnTo>
                  <a:lnTo>
                    <a:pt x="90" y="88"/>
                  </a:lnTo>
                  <a:lnTo>
                    <a:pt x="88" y="86"/>
                  </a:lnTo>
                  <a:lnTo>
                    <a:pt x="87" y="85"/>
                  </a:lnTo>
                  <a:lnTo>
                    <a:pt x="85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6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0" y="60"/>
                  </a:lnTo>
                  <a:lnTo>
                    <a:pt x="70" y="57"/>
                  </a:lnTo>
                  <a:lnTo>
                    <a:pt x="69" y="55"/>
                  </a:lnTo>
                  <a:lnTo>
                    <a:pt x="69" y="53"/>
                  </a:lnTo>
                  <a:lnTo>
                    <a:pt x="69" y="51"/>
                  </a:lnTo>
                  <a:lnTo>
                    <a:pt x="69" y="48"/>
                  </a:lnTo>
                  <a:lnTo>
                    <a:pt x="69" y="44"/>
                  </a:lnTo>
                  <a:lnTo>
                    <a:pt x="69" y="42"/>
                  </a:lnTo>
                  <a:lnTo>
                    <a:pt x="69" y="40"/>
                  </a:lnTo>
                  <a:lnTo>
                    <a:pt x="70" y="38"/>
                  </a:lnTo>
                  <a:lnTo>
                    <a:pt x="70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6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0"/>
                  </a:lnTo>
                  <a:lnTo>
                    <a:pt x="88" y="9"/>
                  </a:lnTo>
                  <a:lnTo>
                    <a:pt x="90" y="7"/>
                  </a:lnTo>
                  <a:lnTo>
                    <a:pt x="92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1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08660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8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2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5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1" y="297"/>
                  </a:lnTo>
                  <a:lnTo>
                    <a:pt x="241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7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90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4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4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9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7" y="70"/>
                  </a:lnTo>
                  <a:lnTo>
                    <a:pt x="76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6961320" y="5291280"/>
              <a:ext cx="11880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3166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3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554960" y="5181480"/>
              <a:ext cx="10620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2" y="297"/>
                  </a:lnTo>
                  <a:lnTo>
                    <a:pt x="3" y="298"/>
                  </a:lnTo>
                  <a:lnTo>
                    <a:pt x="4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7" y="306"/>
                  </a:lnTo>
                  <a:lnTo>
                    <a:pt x="9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5" y="495"/>
                  </a:lnTo>
                  <a:lnTo>
                    <a:pt x="167" y="242"/>
                  </a:lnTo>
                  <a:lnTo>
                    <a:pt x="175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6" y="310"/>
                  </a:lnTo>
                  <a:lnTo>
                    <a:pt x="219" y="310"/>
                  </a:lnTo>
                  <a:lnTo>
                    <a:pt x="220" y="311"/>
                  </a:lnTo>
                  <a:lnTo>
                    <a:pt x="222" y="310"/>
                  </a:lnTo>
                  <a:lnTo>
                    <a:pt x="224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1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6" y="33"/>
                  </a:lnTo>
                  <a:lnTo>
                    <a:pt x="167" y="35"/>
                  </a:lnTo>
                  <a:lnTo>
                    <a:pt x="167" y="38"/>
                  </a:lnTo>
                  <a:lnTo>
                    <a:pt x="168" y="40"/>
                  </a:lnTo>
                  <a:lnTo>
                    <a:pt x="168" y="42"/>
                  </a:lnTo>
                  <a:lnTo>
                    <a:pt x="168" y="44"/>
                  </a:lnTo>
                  <a:lnTo>
                    <a:pt x="168" y="48"/>
                  </a:lnTo>
                  <a:lnTo>
                    <a:pt x="168" y="51"/>
                  </a:lnTo>
                  <a:lnTo>
                    <a:pt x="168" y="53"/>
                  </a:lnTo>
                  <a:lnTo>
                    <a:pt x="168" y="55"/>
                  </a:lnTo>
                  <a:lnTo>
                    <a:pt x="167" y="57"/>
                  </a:lnTo>
                  <a:lnTo>
                    <a:pt x="167" y="60"/>
                  </a:lnTo>
                  <a:lnTo>
                    <a:pt x="166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7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10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431120" y="5291280"/>
              <a:ext cx="1173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75188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9898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86276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22024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8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3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8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2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5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5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7" y="310"/>
                  </a:lnTo>
                  <a:lnTo>
                    <a:pt x="229" y="309"/>
                  </a:lnTo>
                  <a:lnTo>
                    <a:pt x="230" y="308"/>
                  </a:lnTo>
                  <a:lnTo>
                    <a:pt x="232" y="307"/>
                  </a:lnTo>
                  <a:lnTo>
                    <a:pt x="234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1" y="297"/>
                  </a:lnTo>
                  <a:lnTo>
                    <a:pt x="241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7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90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4" y="106"/>
                  </a:lnTo>
                  <a:lnTo>
                    <a:pt x="181" y="106"/>
                  </a:lnTo>
                  <a:close/>
                  <a:moveTo>
                    <a:pt x="120" y="0"/>
                  </a:move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4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7" y="95"/>
                  </a:lnTo>
                  <a:lnTo>
                    <a:pt x="125" y="95"/>
                  </a:lnTo>
                  <a:lnTo>
                    <a:pt x="122" y="95"/>
                  </a:lnTo>
                  <a:lnTo>
                    <a:pt x="120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9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7" y="70"/>
                  </a:lnTo>
                  <a:lnTo>
                    <a:pt x="76" y="69"/>
                  </a:lnTo>
                  <a:lnTo>
                    <a:pt x="75" y="67"/>
                  </a:lnTo>
                  <a:lnTo>
                    <a:pt x="74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4596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2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2" y="290"/>
                  </a:lnTo>
                  <a:lnTo>
                    <a:pt x="43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2" y="300"/>
                  </a:lnTo>
                  <a:lnTo>
                    <a:pt x="203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3" y="119"/>
                  </a:lnTo>
                  <a:lnTo>
                    <a:pt x="202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0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0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33436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665720" y="4998960"/>
              <a:ext cx="226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1" name=""/>
          <p:cNvGrpSpPr/>
          <p:nvPr/>
        </p:nvGrpSpPr>
        <p:grpSpPr>
          <a:xfrm>
            <a:off x="1858320" y="5334120"/>
            <a:ext cx="6765120" cy="220680"/>
            <a:chOff x="1858320" y="5334120"/>
            <a:chExt cx="6765120" cy="220680"/>
          </a:xfrm>
        </p:grpSpPr>
        <p:sp>
          <p:nvSpPr>
            <p:cNvPr id="3422" name=""/>
            <p:cNvSpPr/>
            <p:nvPr/>
          </p:nvSpPr>
          <p:spPr>
            <a:xfrm>
              <a:off x="51084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9910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34996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2322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57856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460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813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6959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0166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8993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245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127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4864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691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7150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5977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918480" y="5410080"/>
              <a:ext cx="9180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80076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1532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035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388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270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6230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056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813800" y="5410080"/>
              <a:ext cx="9180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69608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0676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9502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2962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8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531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413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858320" y="5334120"/>
              <a:ext cx="188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2040480" y="5589720"/>
            <a:ext cx="6582960" cy="144360"/>
            <a:chOff x="2040480" y="5589720"/>
            <a:chExt cx="6582960" cy="144360"/>
          </a:xfrm>
        </p:grpSpPr>
        <p:grpSp>
          <p:nvGrpSpPr>
            <p:cNvPr id="3456" name=""/>
            <p:cNvGrpSpPr/>
            <p:nvPr/>
          </p:nvGrpSpPr>
          <p:grpSpPr>
            <a:xfrm>
              <a:off x="4965840" y="5589720"/>
              <a:ext cx="228600" cy="144360"/>
              <a:chOff x="4965840" y="5589720"/>
              <a:chExt cx="228600" cy="144360"/>
            </a:xfrm>
          </p:grpSpPr>
          <p:sp>
            <p:nvSpPr>
              <p:cNvPr id="3457" name=""/>
              <p:cNvSpPr/>
              <p:nvPr/>
            </p:nvSpPr>
            <p:spPr>
              <a:xfrm>
                <a:off x="49658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1260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0418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0" name=""/>
            <p:cNvGrpSpPr/>
            <p:nvPr/>
          </p:nvGrpSpPr>
          <p:grpSpPr>
            <a:xfrm>
              <a:off x="5218200" y="5589720"/>
              <a:ext cx="228600" cy="144360"/>
              <a:chOff x="5218200" y="5589720"/>
              <a:chExt cx="228600" cy="144360"/>
            </a:xfrm>
          </p:grpSpPr>
          <p:sp>
            <p:nvSpPr>
              <p:cNvPr id="3461" name=""/>
              <p:cNvSpPr/>
              <p:nvPr/>
            </p:nvSpPr>
            <p:spPr>
              <a:xfrm>
                <a:off x="52182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784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2941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4" name=""/>
            <p:cNvGrpSpPr/>
            <p:nvPr/>
          </p:nvGrpSpPr>
          <p:grpSpPr>
            <a:xfrm>
              <a:off x="5446800" y="5589720"/>
              <a:ext cx="228600" cy="144360"/>
              <a:chOff x="5446800" y="5589720"/>
              <a:chExt cx="228600" cy="144360"/>
            </a:xfrm>
          </p:grpSpPr>
          <p:sp>
            <p:nvSpPr>
              <p:cNvPr id="3465" name=""/>
              <p:cNvSpPr/>
              <p:nvPr/>
            </p:nvSpPr>
            <p:spPr>
              <a:xfrm>
                <a:off x="54468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6070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5227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8" name=""/>
            <p:cNvGrpSpPr/>
            <p:nvPr/>
          </p:nvGrpSpPr>
          <p:grpSpPr>
            <a:xfrm>
              <a:off x="5680080" y="5589720"/>
              <a:ext cx="228600" cy="144360"/>
              <a:chOff x="5680080" y="5589720"/>
              <a:chExt cx="228600" cy="144360"/>
            </a:xfrm>
          </p:grpSpPr>
          <p:sp>
            <p:nvSpPr>
              <p:cNvPr id="3469" name=""/>
              <p:cNvSpPr/>
              <p:nvPr/>
            </p:nvSpPr>
            <p:spPr>
              <a:xfrm>
                <a:off x="568008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84028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75604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2" name=""/>
            <p:cNvGrpSpPr/>
            <p:nvPr/>
          </p:nvGrpSpPr>
          <p:grpSpPr>
            <a:xfrm>
              <a:off x="5904000" y="5589720"/>
              <a:ext cx="228600" cy="144360"/>
              <a:chOff x="5904000" y="5589720"/>
              <a:chExt cx="228600" cy="144360"/>
            </a:xfrm>
          </p:grpSpPr>
          <p:sp>
            <p:nvSpPr>
              <p:cNvPr id="3473" name=""/>
              <p:cNvSpPr/>
              <p:nvPr/>
            </p:nvSpPr>
            <p:spPr>
              <a:xfrm>
                <a:off x="59040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0642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9799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6" name=""/>
            <p:cNvGrpSpPr/>
            <p:nvPr/>
          </p:nvGrpSpPr>
          <p:grpSpPr>
            <a:xfrm>
              <a:off x="6127920" y="5589720"/>
              <a:ext cx="228600" cy="144360"/>
              <a:chOff x="6127920" y="5589720"/>
              <a:chExt cx="228600" cy="144360"/>
            </a:xfrm>
          </p:grpSpPr>
          <p:sp>
            <p:nvSpPr>
              <p:cNvPr id="3477" name=""/>
              <p:cNvSpPr/>
              <p:nvPr/>
            </p:nvSpPr>
            <p:spPr>
              <a:xfrm>
                <a:off x="61279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2881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2038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0" name=""/>
            <p:cNvGrpSpPr/>
            <p:nvPr/>
          </p:nvGrpSpPr>
          <p:grpSpPr>
            <a:xfrm>
              <a:off x="6356520" y="5589720"/>
              <a:ext cx="228600" cy="144360"/>
              <a:chOff x="6356520" y="5589720"/>
              <a:chExt cx="228600" cy="144360"/>
            </a:xfrm>
          </p:grpSpPr>
          <p:sp>
            <p:nvSpPr>
              <p:cNvPr id="3481" name=""/>
              <p:cNvSpPr/>
              <p:nvPr/>
            </p:nvSpPr>
            <p:spPr>
              <a:xfrm>
                <a:off x="63565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5167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4324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4" name=""/>
            <p:cNvGrpSpPr/>
            <p:nvPr/>
          </p:nvGrpSpPr>
          <p:grpSpPr>
            <a:xfrm>
              <a:off x="6585120" y="5589720"/>
              <a:ext cx="228600" cy="144360"/>
              <a:chOff x="6585120" y="5589720"/>
              <a:chExt cx="228600" cy="144360"/>
            </a:xfrm>
          </p:grpSpPr>
          <p:sp>
            <p:nvSpPr>
              <p:cNvPr id="3485" name=""/>
              <p:cNvSpPr/>
              <p:nvPr/>
            </p:nvSpPr>
            <p:spPr>
              <a:xfrm>
                <a:off x="65851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7453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6610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8" name=""/>
            <p:cNvGrpSpPr/>
            <p:nvPr/>
          </p:nvGrpSpPr>
          <p:grpSpPr>
            <a:xfrm>
              <a:off x="6818400" y="5589720"/>
              <a:ext cx="228600" cy="144360"/>
              <a:chOff x="6818400" y="5589720"/>
              <a:chExt cx="228600" cy="144360"/>
            </a:xfrm>
          </p:grpSpPr>
          <p:sp>
            <p:nvSpPr>
              <p:cNvPr id="3489" name=""/>
              <p:cNvSpPr/>
              <p:nvPr/>
            </p:nvSpPr>
            <p:spPr>
              <a:xfrm>
                <a:off x="68184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9786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8943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2" name=""/>
            <p:cNvGrpSpPr/>
            <p:nvPr/>
          </p:nvGrpSpPr>
          <p:grpSpPr>
            <a:xfrm>
              <a:off x="7042320" y="5589720"/>
              <a:ext cx="228600" cy="144360"/>
              <a:chOff x="7042320" y="5589720"/>
              <a:chExt cx="228600" cy="144360"/>
            </a:xfrm>
          </p:grpSpPr>
          <p:sp>
            <p:nvSpPr>
              <p:cNvPr id="3493" name=""/>
              <p:cNvSpPr/>
              <p:nvPr/>
            </p:nvSpPr>
            <p:spPr>
              <a:xfrm>
                <a:off x="70423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2025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1182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7261200" y="5589720"/>
              <a:ext cx="228600" cy="144360"/>
              <a:chOff x="7261200" y="5589720"/>
              <a:chExt cx="228600" cy="144360"/>
            </a:xfrm>
          </p:grpSpPr>
          <p:sp>
            <p:nvSpPr>
              <p:cNvPr id="3497" name=""/>
              <p:cNvSpPr/>
              <p:nvPr/>
            </p:nvSpPr>
            <p:spPr>
              <a:xfrm>
                <a:off x="72612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4214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3371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0" name=""/>
            <p:cNvGrpSpPr/>
            <p:nvPr/>
          </p:nvGrpSpPr>
          <p:grpSpPr>
            <a:xfrm>
              <a:off x="7480440" y="5589720"/>
              <a:ext cx="228600" cy="144360"/>
              <a:chOff x="7480440" y="5589720"/>
              <a:chExt cx="228600" cy="144360"/>
            </a:xfrm>
          </p:grpSpPr>
          <p:sp>
            <p:nvSpPr>
              <p:cNvPr id="3501" name=""/>
              <p:cNvSpPr/>
              <p:nvPr/>
            </p:nvSpPr>
            <p:spPr>
              <a:xfrm>
                <a:off x="74804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6406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5564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4" name=""/>
            <p:cNvGrpSpPr/>
            <p:nvPr/>
          </p:nvGrpSpPr>
          <p:grpSpPr>
            <a:xfrm>
              <a:off x="7699320" y="5589720"/>
              <a:ext cx="228600" cy="144360"/>
              <a:chOff x="7699320" y="5589720"/>
              <a:chExt cx="228600" cy="144360"/>
            </a:xfrm>
          </p:grpSpPr>
          <p:sp>
            <p:nvSpPr>
              <p:cNvPr id="3505" name=""/>
              <p:cNvSpPr/>
              <p:nvPr/>
            </p:nvSpPr>
            <p:spPr>
              <a:xfrm>
                <a:off x="76993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8595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7752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8" name=""/>
            <p:cNvGrpSpPr/>
            <p:nvPr/>
          </p:nvGrpSpPr>
          <p:grpSpPr>
            <a:xfrm>
              <a:off x="7932600" y="5589720"/>
              <a:ext cx="228600" cy="144360"/>
              <a:chOff x="7932600" y="5589720"/>
              <a:chExt cx="228600" cy="144360"/>
            </a:xfrm>
          </p:grpSpPr>
          <p:sp>
            <p:nvSpPr>
              <p:cNvPr id="3509" name=""/>
              <p:cNvSpPr/>
              <p:nvPr/>
            </p:nvSpPr>
            <p:spPr>
              <a:xfrm>
                <a:off x="79326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80928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80085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2" name=""/>
            <p:cNvGrpSpPr/>
            <p:nvPr/>
          </p:nvGrpSpPr>
          <p:grpSpPr>
            <a:xfrm>
              <a:off x="8156520" y="5589720"/>
              <a:ext cx="228600" cy="144360"/>
              <a:chOff x="8156520" y="5589720"/>
              <a:chExt cx="228600" cy="144360"/>
            </a:xfrm>
          </p:grpSpPr>
          <p:sp>
            <p:nvSpPr>
              <p:cNvPr id="3513" name=""/>
              <p:cNvSpPr/>
              <p:nvPr/>
            </p:nvSpPr>
            <p:spPr>
              <a:xfrm>
                <a:off x="81565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83167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82324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6" name=""/>
            <p:cNvGrpSpPr/>
            <p:nvPr/>
          </p:nvGrpSpPr>
          <p:grpSpPr>
            <a:xfrm>
              <a:off x="8394840" y="5589720"/>
              <a:ext cx="228600" cy="144360"/>
              <a:chOff x="8394840" y="5589720"/>
              <a:chExt cx="228600" cy="144360"/>
            </a:xfrm>
          </p:grpSpPr>
          <p:sp>
            <p:nvSpPr>
              <p:cNvPr id="3517" name=""/>
              <p:cNvSpPr/>
              <p:nvPr/>
            </p:nvSpPr>
            <p:spPr>
              <a:xfrm>
                <a:off x="83948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85550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84708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0" name=""/>
            <p:cNvSpPr/>
            <p:nvPr/>
          </p:nvSpPr>
          <p:spPr>
            <a:xfrm>
              <a:off x="2040480" y="5592600"/>
              <a:ext cx="1517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"/>
          <p:cNvSpPr/>
          <p:nvPr/>
        </p:nvSpPr>
        <p:spPr>
          <a:xfrm>
            <a:off x="5813280" y="797040"/>
            <a:ext cx="144720" cy="468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813280" y="795240"/>
            <a:ext cx="144720" cy="504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813280" y="792000"/>
            <a:ext cx="144720" cy="5040"/>
          </a:xfrm>
          <a:prstGeom prst="rect">
            <a:avLst/>
          </a:prstGeom>
          <a:solidFill>
            <a:srgbClr val="fc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813280" y="777960"/>
            <a:ext cx="144720" cy="468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5813280" y="776160"/>
            <a:ext cx="144720" cy="504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5813280" y="773280"/>
            <a:ext cx="144720" cy="4680"/>
          </a:xfrm>
          <a:prstGeom prst="rect">
            <a:avLst/>
          </a:prstGeom>
          <a:solidFill>
            <a:srgbClr val="fd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5813280" y="763560"/>
            <a:ext cx="144720" cy="3240"/>
          </a:xfrm>
          <a:prstGeom prst="rect">
            <a:avLst/>
          </a:prstGeom>
          <a:solidFill>
            <a:srgbClr val="fe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8" name=""/>
          <p:cNvGrpSpPr/>
          <p:nvPr/>
        </p:nvGrpSpPr>
        <p:grpSpPr>
          <a:xfrm>
            <a:off x="2895480" y="923760"/>
            <a:ext cx="3352680" cy="4181040"/>
            <a:chOff x="2895480" y="923760"/>
            <a:chExt cx="3352680" cy="4181040"/>
          </a:xfrm>
        </p:grpSpPr>
        <p:sp>
          <p:nvSpPr>
            <p:cNvPr id="3529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728" y="1224"/>
                  </a:moveTo>
                  <a:lnTo>
                    <a:pt x="1123" y="1224"/>
                  </a:lnTo>
                  <a:lnTo>
                    <a:pt x="925" y="577"/>
                  </a:lnTo>
                  <a:lnTo>
                    <a:pt x="728" y="1224"/>
                  </a:lnTo>
                  <a:close/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061680" y="941400"/>
              <a:ext cx="174600" cy="677880"/>
            </a:xfrm>
            <a:custGeom>
              <a:avLst/>
              <a:gdLst/>
              <a:ahLst/>
              <a:rect l="l" t="t" r="r" b="b"/>
              <a:pathLst>
                <a:path w="458" h="1919">
                  <a:moveTo>
                    <a:pt x="0" y="1919"/>
                  </a:moveTo>
                  <a:lnTo>
                    <a:pt x="0" y="1427"/>
                  </a:lnTo>
                  <a:lnTo>
                    <a:pt x="458" y="1427"/>
                  </a:lnTo>
                  <a:lnTo>
                    <a:pt x="458" y="1919"/>
                  </a:lnTo>
                  <a:lnTo>
                    <a:pt x="0" y="1919"/>
                  </a:lnTo>
                  <a:close/>
                  <a:moveTo>
                    <a:pt x="0" y="1315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315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932640" y="1144800"/>
              <a:ext cx="151560" cy="22824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7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061680" y="1445760"/>
              <a:ext cx="17460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061680" y="941400"/>
              <a:ext cx="17460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482360" y="2028600"/>
              <a:ext cx="115200" cy="10080"/>
            </a:xfrm>
            <a:custGeom>
              <a:avLst/>
              <a:gdLst/>
              <a:ahLst/>
              <a:rect l="l" t="t" r="r" b="b"/>
              <a:pathLst>
                <a:path w="300" h="28">
                  <a:moveTo>
                    <a:pt x="108" y="0"/>
                  </a:moveTo>
                  <a:lnTo>
                    <a:pt x="165" y="0"/>
                  </a:lnTo>
                  <a:lnTo>
                    <a:pt x="244" y="20"/>
                  </a:lnTo>
                  <a:lnTo>
                    <a:pt x="300" y="28"/>
                  </a:lnTo>
                  <a:lnTo>
                    <a:pt x="0" y="28"/>
                  </a:lnTo>
                  <a:lnTo>
                    <a:pt x="49" y="1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453560" y="2028600"/>
              <a:ext cx="234360" cy="19080"/>
            </a:xfrm>
            <a:custGeom>
              <a:avLst/>
              <a:gdLst/>
              <a:ahLst/>
              <a:rect l="l" t="t" r="r" b="b"/>
              <a:pathLst>
                <a:path w="610" h="55">
                  <a:moveTo>
                    <a:pt x="180" y="0"/>
                  </a:moveTo>
                  <a:lnTo>
                    <a:pt x="237" y="0"/>
                  </a:lnTo>
                  <a:lnTo>
                    <a:pt x="316" y="20"/>
                  </a:lnTo>
                  <a:lnTo>
                    <a:pt x="393" y="31"/>
                  </a:lnTo>
                  <a:lnTo>
                    <a:pt x="482" y="31"/>
                  </a:lnTo>
                  <a:lnTo>
                    <a:pt x="569" y="42"/>
                  </a:lnTo>
                  <a:lnTo>
                    <a:pt x="610" y="55"/>
                  </a:lnTo>
                  <a:lnTo>
                    <a:pt x="0" y="55"/>
                  </a:lnTo>
                  <a:lnTo>
                    <a:pt x="5" y="50"/>
                  </a:lnTo>
                  <a:lnTo>
                    <a:pt x="64" y="31"/>
                  </a:lnTo>
                  <a:lnTo>
                    <a:pt x="121" y="1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443840" y="2039040"/>
              <a:ext cx="276480" cy="19080"/>
            </a:xfrm>
            <a:custGeom>
              <a:avLst/>
              <a:gdLst/>
              <a:ahLst/>
              <a:rect l="l" t="t" r="r" b="b"/>
              <a:pathLst>
                <a:path w="720" h="54">
                  <a:moveTo>
                    <a:pt x="96" y="0"/>
                  </a:moveTo>
                  <a:lnTo>
                    <a:pt x="396" y="0"/>
                  </a:lnTo>
                  <a:lnTo>
                    <a:pt x="417" y="3"/>
                  </a:lnTo>
                  <a:lnTo>
                    <a:pt x="506" y="3"/>
                  </a:lnTo>
                  <a:lnTo>
                    <a:pt x="593" y="14"/>
                  </a:lnTo>
                  <a:lnTo>
                    <a:pt x="717" y="52"/>
                  </a:lnTo>
                  <a:lnTo>
                    <a:pt x="720" y="54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29" y="22"/>
                  </a:lnTo>
                  <a:lnTo>
                    <a:pt x="88" y="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439880" y="2047680"/>
              <a:ext cx="295560" cy="19440"/>
            </a:xfrm>
            <a:custGeom>
              <a:avLst/>
              <a:gdLst/>
              <a:ahLst/>
              <a:rect l="l" t="t" r="r" b="b"/>
              <a:pathLst>
                <a:path w="770" h="54">
                  <a:moveTo>
                    <a:pt x="38" y="0"/>
                  </a:moveTo>
                  <a:lnTo>
                    <a:pt x="648" y="0"/>
                  </a:lnTo>
                  <a:lnTo>
                    <a:pt x="731" y="25"/>
                  </a:lnTo>
                  <a:lnTo>
                    <a:pt x="769" y="53"/>
                  </a:lnTo>
                  <a:lnTo>
                    <a:pt x="770" y="54"/>
                  </a:lnTo>
                  <a:lnTo>
                    <a:pt x="0" y="54"/>
                  </a:lnTo>
                  <a:lnTo>
                    <a:pt x="15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736800" y="2058120"/>
              <a:ext cx="1008720" cy="19440"/>
            </a:xfrm>
            <a:custGeom>
              <a:avLst/>
              <a:gdLst/>
              <a:ahLst/>
              <a:rect l="l" t="t" r="r" b="b"/>
              <a:pathLst>
                <a:path w="2623" h="54">
                  <a:moveTo>
                    <a:pt x="1840" y="0"/>
                  </a:moveTo>
                  <a:lnTo>
                    <a:pt x="2560" y="0"/>
                  </a:lnTo>
                  <a:lnTo>
                    <a:pt x="2595" y="26"/>
                  </a:lnTo>
                  <a:lnTo>
                    <a:pt x="2623" y="54"/>
                  </a:lnTo>
                  <a:lnTo>
                    <a:pt x="1812" y="54"/>
                  </a:lnTo>
                  <a:lnTo>
                    <a:pt x="1840" y="0"/>
                  </a:lnTo>
                  <a:close/>
                  <a:moveTo>
                    <a:pt x="230" y="54"/>
                  </a:moveTo>
                  <a:lnTo>
                    <a:pt x="0" y="54"/>
                  </a:lnTo>
                  <a:lnTo>
                    <a:pt x="4" y="53"/>
                  </a:lnTo>
                  <a:lnTo>
                    <a:pt x="71" y="46"/>
                  </a:lnTo>
                  <a:lnTo>
                    <a:pt x="186" y="46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702240" y="2067480"/>
              <a:ext cx="1046880" cy="19080"/>
            </a:xfrm>
            <a:custGeom>
              <a:avLst/>
              <a:gdLst/>
              <a:ahLst/>
              <a:rect l="l" t="t" r="r" b="b"/>
              <a:pathLst>
                <a:path w="2727" h="54">
                  <a:moveTo>
                    <a:pt x="1918" y="0"/>
                  </a:moveTo>
                  <a:lnTo>
                    <a:pt x="2688" y="0"/>
                  </a:lnTo>
                  <a:lnTo>
                    <a:pt x="2716" y="28"/>
                  </a:lnTo>
                  <a:lnTo>
                    <a:pt x="2727" y="54"/>
                  </a:lnTo>
                  <a:lnTo>
                    <a:pt x="1893" y="54"/>
                  </a:lnTo>
                  <a:lnTo>
                    <a:pt x="1894" y="48"/>
                  </a:lnTo>
                  <a:lnTo>
                    <a:pt x="1918" y="0"/>
                  </a:lnTo>
                  <a:close/>
                  <a:moveTo>
                    <a:pt x="417" y="54"/>
                  </a:moveTo>
                  <a:lnTo>
                    <a:pt x="0" y="54"/>
                  </a:lnTo>
                  <a:lnTo>
                    <a:pt x="30" y="37"/>
                  </a:lnTo>
                  <a:lnTo>
                    <a:pt x="96" y="26"/>
                  </a:lnTo>
                  <a:lnTo>
                    <a:pt x="163" y="19"/>
                  </a:lnTo>
                  <a:lnTo>
                    <a:pt x="278" y="19"/>
                  </a:lnTo>
                  <a:lnTo>
                    <a:pt x="377" y="37"/>
                  </a:lnTo>
                  <a:lnTo>
                    <a:pt x="417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688920" y="2077920"/>
              <a:ext cx="1065960" cy="17640"/>
            </a:xfrm>
            <a:custGeom>
              <a:avLst/>
              <a:gdLst/>
              <a:ahLst/>
              <a:rect l="l" t="t" r="r" b="b"/>
              <a:pathLst>
                <a:path w="2774" h="54">
                  <a:moveTo>
                    <a:pt x="127" y="0"/>
                  </a:moveTo>
                  <a:lnTo>
                    <a:pt x="357" y="0"/>
                  </a:lnTo>
                  <a:lnTo>
                    <a:pt x="412" y="10"/>
                  </a:lnTo>
                  <a:lnTo>
                    <a:pt x="510" y="50"/>
                  </a:lnTo>
                  <a:lnTo>
                    <a:pt x="520" y="54"/>
                  </a:lnTo>
                  <a:lnTo>
                    <a:pt x="0" y="54"/>
                  </a:lnTo>
                  <a:lnTo>
                    <a:pt x="14" y="39"/>
                  </a:lnTo>
                  <a:lnTo>
                    <a:pt x="65" y="10"/>
                  </a:lnTo>
                  <a:lnTo>
                    <a:pt x="127" y="0"/>
                  </a:lnTo>
                  <a:close/>
                  <a:moveTo>
                    <a:pt x="1939" y="0"/>
                  </a:moveTo>
                  <a:lnTo>
                    <a:pt x="2750" y="0"/>
                  </a:lnTo>
                  <a:lnTo>
                    <a:pt x="2751" y="1"/>
                  </a:lnTo>
                  <a:lnTo>
                    <a:pt x="2774" y="54"/>
                  </a:lnTo>
                  <a:lnTo>
                    <a:pt x="1923" y="54"/>
                  </a:lnTo>
                  <a:lnTo>
                    <a:pt x="1929" y="21"/>
                  </a:lnTo>
                  <a:lnTo>
                    <a:pt x="1939" y="0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679200" y="2086560"/>
              <a:ext cx="1079640" cy="19440"/>
            </a:xfrm>
            <a:custGeom>
              <a:avLst/>
              <a:gdLst/>
              <a:ahLst/>
              <a:rect l="l" t="t" r="r" b="b"/>
              <a:pathLst>
                <a:path w="2807" h="54">
                  <a:moveTo>
                    <a:pt x="59" y="0"/>
                  </a:moveTo>
                  <a:lnTo>
                    <a:pt x="476" y="0"/>
                  </a:lnTo>
                  <a:lnTo>
                    <a:pt x="534" y="23"/>
                  </a:lnTo>
                  <a:lnTo>
                    <a:pt x="609" y="51"/>
                  </a:lnTo>
                  <a:lnTo>
                    <a:pt x="612" y="54"/>
                  </a:lnTo>
                  <a:lnTo>
                    <a:pt x="0" y="54"/>
                  </a:lnTo>
                  <a:lnTo>
                    <a:pt x="2" y="51"/>
                  </a:lnTo>
                  <a:lnTo>
                    <a:pt x="38" y="12"/>
                  </a:lnTo>
                  <a:lnTo>
                    <a:pt x="59" y="0"/>
                  </a:lnTo>
                  <a:close/>
                  <a:moveTo>
                    <a:pt x="1952" y="0"/>
                  </a:moveTo>
                  <a:lnTo>
                    <a:pt x="2786" y="0"/>
                  </a:lnTo>
                  <a:lnTo>
                    <a:pt x="2804" y="41"/>
                  </a:lnTo>
                  <a:lnTo>
                    <a:pt x="2807" y="54"/>
                  </a:lnTo>
                  <a:lnTo>
                    <a:pt x="1949" y="54"/>
                  </a:lnTo>
                  <a:lnTo>
                    <a:pt x="1944" y="41"/>
                  </a:lnTo>
                  <a:lnTo>
                    <a:pt x="1952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673440" y="2095560"/>
              <a:ext cx="1087560" cy="19440"/>
            </a:xfrm>
            <a:custGeom>
              <a:avLst/>
              <a:gdLst/>
              <a:ahLst/>
              <a:rect l="l" t="t" r="r" b="b"/>
              <a:pathLst>
                <a:path w="2833" h="54">
                  <a:moveTo>
                    <a:pt x="42" y="0"/>
                  </a:moveTo>
                  <a:lnTo>
                    <a:pt x="562" y="0"/>
                  </a:lnTo>
                  <a:lnTo>
                    <a:pt x="627" y="24"/>
                  </a:lnTo>
                  <a:lnTo>
                    <a:pt x="657" y="54"/>
                  </a:lnTo>
                  <a:lnTo>
                    <a:pt x="0" y="54"/>
                  </a:lnTo>
                  <a:lnTo>
                    <a:pt x="20" y="24"/>
                  </a:lnTo>
                  <a:lnTo>
                    <a:pt x="42" y="0"/>
                  </a:lnTo>
                  <a:close/>
                  <a:moveTo>
                    <a:pt x="1965" y="0"/>
                  </a:moveTo>
                  <a:lnTo>
                    <a:pt x="2816" y="0"/>
                  </a:lnTo>
                  <a:lnTo>
                    <a:pt x="2822" y="14"/>
                  </a:lnTo>
                  <a:lnTo>
                    <a:pt x="2833" y="54"/>
                  </a:lnTo>
                  <a:lnTo>
                    <a:pt x="1975" y="54"/>
                  </a:lnTo>
                  <a:lnTo>
                    <a:pt x="1962" y="14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665520" y="2106360"/>
              <a:ext cx="1096920" cy="17640"/>
            </a:xfrm>
            <a:custGeom>
              <a:avLst/>
              <a:gdLst/>
              <a:ahLst/>
              <a:rect l="l" t="t" r="r" b="b"/>
              <a:pathLst>
                <a:path w="2857" h="53">
                  <a:moveTo>
                    <a:pt x="36" y="0"/>
                  </a:moveTo>
                  <a:lnTo>
                    <a:pt x="648" y="0"/>
                  </a:lnTo>
                  <a:lnTo>
                    <a:pt x="693" y="44"/>
                  </a:lnTo>
                  <a:lnTo>
                    <a:pt x="704" y="53"/>
                  </a:lnTo>
                  <a:lnTo>
                    <a:pt x="0" y="53"/>
                  </a:lnTo>
                  <a:lnTo>
                    <a:pt x="36" y="0"/>
                  </a:lnTo>
                  <a:close/>
                  <a:moveTo>
                    <a:pt x="1985" y="0"/>
                  </a:moveTo>
                  <a:lnTo>
                    <a:pt x="2843" y="0"/>
                  </a:lnTo>
                  <a:lnTo>
                    <a:pt x="2857" y="53"/>
                  </a:lnTo>
                  <a:lnTo>
                    <a:pt x="2005" y="53"/>
                  </a:lnTo>
                  <a:lnTo>
                    <a:pt x="1998" y="44"/>
                  </a:lnTo>
                  <a:lnTo>
                    <a:pt x="198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661920" y="2115000"/>
              <a:ext cx="1106640" cy="19080"/>
            </a:xfrm>
            <a:custGeom>
              <a:avLst/>
              <a:gdLst/>
              <a:ahLst/>
              <a:rect l="l" t="t" r="r" b="b"/>
              <a:pathLst>
                <a:path w="2881" h="54">
                  <a:moveTo>
                    <a:pt x="30" y="0"/>
                  </a:moveTo>
                  <a:lnTo>
                    <a:pt x="687" y="0"/>
                  </a:lnTo>
                  <a:lnTo>
                    <a:pt x="705" y="17"/>
                  </a:lnTo>
                  <a:lnTo>
                    <a:pt x="748" y="54"/>
                  </a:lnTo>
                  <a:lnTo>
                    <a:pt x="0" y="54"/>
                  </a:lnTo>
                  <a:lnTo>
                    <a:pt x="10" y="30"/>
                  </a:lnTo>
                  <a:lnTo>
                    <a:pt x="30" y="0"/>
                  </a:lnTo>
                  <a:close/>
                  <a:moveTo>
                    <a:pt x="2005" y="0"/>
                  </a:moveTo>
                  <a:lnTo>
                    <a:pt x="2863" y="0"/>
                  </a:lnTo>
                  <a:lnTo>
                    <a:pt x="2872" y="39"/>
                  </a:lnTo>
                  <a:lnTo>
                    <a:pt x="2881" y="54"/>
                  </a:lnTo>
                  <a:lnTo>
                    <a:pt x="2033" y="54"/>
                  </a:lnTo>
                  <a:lnTo>
                    <a:pt x="2030" y="47"/>
                  </a:lnTo>
                  <a:lnTo>
                    <a:pt x="2010" y="17"/>
                  </a:lnTo>
                  <a:lnTo>
                    <a:pt x="200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660120" y="2124000"/>
              <a:ext cx="1113840" cy="19080"/>
            </a:xfrm>
            <a:custGeom>
              <a:avLst/>
              <a:gdLst/>
              <a:ahLst/>
              <a:rect l="l" t="t" r="r" b="b"/>
              <a:pathLst>
                <a:path w="2896" h="55">
                  <a:moveTo>
                    <a:pt x="13" y="0"/>
                  </a:moveTo>
                  <a:lnTo>
                    <a:pt x="717" y="0"/>
                  </a:lnTo>
                  <a:lnTo>
                    <a:pt x="777" y="51"/>
                  </a:lnTo>
                  <a:lnTo>
                    <a:pt x="781" y="55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11" y="4"/>
                  </a:lnTo>
                  <a:lnTo>
                    <a:pt x="13" y="0"/>
                  </a:lnTo>
                  <a:close/>
                  <a:moveTo>
                    <a:pt x="2018" y="0"/>
                  </a:moveTo>
                  <a:lnTo>
                    <a:pt x="2870" y="0"/>
                  </a:lnTo>
                  <a:lnTo>
                    <a:pt x="2873" y="13"/>
                  </a:lnTo>
                  <a:lnTo>
                    <a:pt x="2896" y="55"/>
                  </a:lnTo>
                  <a:lnTo>
                    <a:pt x="2041" y="55"/>
                  </a:lnTo>
                  <a:lnTo>
                    <a:pt x="2041" y="40"/>
                  </a:lnTo>
                  <a:lnTo>
                    <a:pt x="2031" y="2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660120" y="2134440"/>
              <a:ext cx="1119960" cy="19440"/>
            </a:xfrm>
            <a:custGeom>
              <a:avLst/>
              <a:gdLst/>
              <a:ahLst/>
              <a:rect l="l" t="t" r="r" b="b"/>
              <a:pathLst>
                <a:path w="2912" h="54">
                  <a:moveTo>
                    <a:pt x="1" y="0"/>
                  </a:moveTo>
                  <a:lnTo>
                    <a:pt x="749" y="0"/>
                  </a:lnTo>
                  <a:lnTo>
                    <a:pt x="777" y="23"/>
                  </a:lnTo>
                  <a:lnTo>
                    <a:pt x="804" y="54"/>
                  </a:lnTo>
                  <a:lnTo>
                    <a:pt x="15" y="54"/>
                  </a:lnTo>
                  <a:lnTo>
                    <a:pt x="11" y="50"/>
                  </a:lnTo>
                  <a:lnTo>
                    <a:pt x="0" y="34"/>
                  </a:lnTo>
                  <a:lnTo>
                    <a:pt x="0" y="3"/>
                  </a:lnTo>
                  <a:lnTo>
                    <a:pt x="1" y="0"/>
                  </a:lnTo>
                  <a:close/>
                  <a:moveTo>
                    <a:pt x="2034" y="0"/>
                  </a:moveTo>
                  <a:lnTo>
                    <a:pt x="2882" y="0"/>
                  </a:lnTo>
                  <a:lnTo>
                    <a:pt x="2911" y="52"/>
                  </a:lnTo>
                  <a:lnTo>
                    <a:pt x="2912" y="54"/>
                  </a:lnTo>
                  <a:lnTo>
                    <a:pt x="2041" y="54"/>
                  </a:lnTo>
                  <a:lnTo>
                    <a:pt x="2041" y="12"/>
                  </a:lnTo>
                  <a:lnTo>
                    <a:pt x="2034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660120" y="2143080"/>
              <a:ext cx="1127520" cy="19440"/>
            </a:xfrm>
            <a:custGeom>
              <a:avLst/>
              <a:gdLst/>
              <a:ahLst/>
              <a:rect l="l" t="t" r="r" b="b"/>
              <a:pathLst>
                <a:path w="2932" h="54">
                  <a:moveTo>
                    <a:pt x="0" y="0"/>
                  </a:moveTo>
                  <a:lnTo>
                    <a:pt x="781" y="0"/>
                  </a:lnTo>
                  <a:lnTo>
                    <a:pt x="824" y="51"/>
                  </a:lnTo>
                  <a:lnTo>
                    <a:pt x="825" y="54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24" y="35"/>
                  </a:lnTo>
                  <a:lnTo>
                    <a:pt x="11" y="23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041" y="0"/>
                  </a:moveTo>
                  <a:lnTo>
                    <a:pt x="2896" y="0"/>
                  </a:lnTo>
                  <a:lnTo>
                    <a:pt x="2911" y="25"/>
                  </a:lnTo>
                  <a:lnTo>
                    <a:pt x="2930" y="53"/>
                  </a:lnTo>
                  <a:lnTo>
                    <a:pt x="2932" y="54"/>
                  </a:lnTo>
                  <a:lnTo>
                    <a:pt x="2041" y="54"/>
                  </a:lnTo>
                  <a:lnTo>
                    <a:pt x="2041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656160" y="2154240"/>
              <a:ext cx="1144800" cy="19080"/>
            </a:xfrm>
            <a:custGeom>
              <a:avLst/>
              <a:gdLst/>
              <a:ahLst/>
              <a:rect l="l" t="t" r="r" b="b"/>
              <a:pathLst>
                <a:path w="2979" h="54">
                  <a:moveTo>
                    <a:pt x="25" y="0"/>
                  </a:moveTo>
                  <a:lnTo>
                    <a:pt x="814" y="0"/>
                  </a:lnTo>
                  <a:lnTo>
                    <a:pt x="834" y="24"/>
                  </a:lnTo>
                  <a:lnTo>
                    <a:pt x="840" y="54"/>
                  </a:lnTo>
                  <a:lnTo>
                    <a:pt x="0" y="54"/>
                  </a:lnTo>
                  <a:lnTo>
                    <a:pt x="21" y="24"/>
                  </a:lnTo>
                  <a:lnTo>
                    <a:pt x="34" y="8"/>
                  </a:lnTo>
                  <a:lnTo>
                    <a:pt x="25" y="0"/>
                  </a:lnTo>
                  <a:close/>
                  <a:moveTo>
                    <a:pt x="2051" y="0"/>
                  </a:moveTo>
                  <a:lnTo>
                    <a:pt x="2922" y="0"/>
                  </a:lnTo>
                  <a:lnTo>
                    <a:pt x="2940" y="26"/>
                  </a:lnTo>
                  <a:lnTo>
                    <a:pt x="2970" y="48"/>
                  </a:lnTo>
                  <a:lnTo>
                    <a:pt x="2979" y="54"/>
                  </a:lnTo>
                  <a:lnTo>
                    <a:pt x="2051" y="54"/>
                  </a:lnTo>
                  <a:lnTo>
                    <a:pt x="2051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650400" y="2162880"/>
              <a:ext cx="1165680" cy="19080"/>
            </a:xfrm>
            <a:custGeom>
              <a:avLst/>
              <a:gdLst/>
              <a:ahLst/>
              <a:rect l="l" t="t" r="r" b="b"/>
              <a:pathLst>
                <a:path w="3036" h="54">
                  <a:moveTo>
                    <a:pt x="38" y="0"/>
                  </a:moveTo>
                  <a:lnTo>
                    <a:pt x="854" y="0"/>
                  </a:lnTo>
                  <a:lnTo>
                    <a:pt x="864" y="54"/>
                  </a:lnTo>
                  <a:lnTo>
                    <a:pt x="0" y="54"/>
                  </a:lnTo>
                  <a:lnTo>
                    <a:pt x="9" y="41"/>
                  </a:lnTo>
                  <a:lnTo>
                    <a:pt x="38" y="0"/>
                  </a:lnTo>
                  <a:close/>
                  <a:moveTo>
                    <a:pt x="2070" y="0"/>
                  </a:moveTo>
                  <a:lnTo>
                    <a:pt x="2961" y="0"/>
                  </a:lnTo>
                  <a:lnTo>
                    <a:pt x="2989" y="21"/>
                  </a:lnTo>
                  <a:lnTo>
                    <a:pt x="3026" y="48"/>
                  </a:lnTo>
                  <a:lnTo>
                    <a:pt x="3036" y="54"/>
                  </a:lnTo>
                  <a:lnTo>
                    <a:pt x="2070" y="54"/>
                  </a:lnTo>
                  <a:lnTo>
                    <a:pt x="2070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642480" y="2173320"/>
              <a:ext cx="1189440" cy="17640"/>
            </a:xfrm>
            <a:custGeom>
              <a:avLst/>
              <a:gdLst/>
              <a:ahLst/>
              <a:rect l="l" t="t" r="r" b="b"/>
              <a:pathLst>
                <a:path w="3096" h="54">
                  <a:moveTo>
                    <a:pt x="37" y="0"/>
                  </a:moveTo>
                  <a:lnTo>
                    <a:pt x="877" y="0"/>
                  </a:lnTo>
                  <a:lnTo>
                    <a:pt x="888" y="54"/>
                  </a:lnTo>
                  <a:lnTo>
                    <a:pt x="0" y="54"/>
                  </a:lnTo>
                  <a:lnTo>
                    <a:pt x="27" y="14"/>
                  </a:lnTo>
                  <a:lnTo>
                    <a:pt x="37" y="0"/>
                  </a:lnTo>
                  <a:close/>
                  <a:moveTo>
                    <a:pt x="2088" y="0"/>
                  </a:moveTo>
                  <a:lnTo>
                    <a:pt x="3016" y="0"/>
                  </a:lnTo>
                  <a:lnTo>
                    <a:pt x="3044" y="21"/>
                  </a:lnTo>
                  <a:lnTo>
                    <a:pt x="3094" y="50"/>
                  </a:lnTo>
                  <a:lnTo>
                    <a:pt x="3096" y="54"/>
                  </a:lnTo>
                  <a:lnTo>
                    <a:pt x="2088" y="5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637080" y="2182320"/>
              <a:ext cx="1202400" cy="19440"/>
            </a:xfrm>
            <a:custGeom>
              <a:avLst/>
              <a:gdLst/>
              <a:ahLst/>
              <a:rect l="l" t="t" r="r" b="b"/>
              <a:pathLst>
                <a:path w="3133" h="54">
                  <a:moveTo>
                    <a:pt x="35" y="0"/>
                  </a:moveTo>
                  <a:lnTo>
                    <a:pt x="899" y="0"/>
                  </a:lnTo>
                  <a:lnTo>
                    <a:pt x="908" y="41"/>
                  </a:lnTo>
                  <a:lnTo>
                    <a:pt x="912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05" y="0"/>
                  </a:moveTo>
                  <a:lnTo>
                    <a:pt x="3071" y="0"/>
                  </a:lnTo>
                  <a:lnTo>
                    <a:pt x="3111" y="23"/>
                  </a:lnTo>
                  <a:lnTo>
                    <a:pt x="3133" y="54"/>
                  </a:lnTo>
                  <a:lnTo>
                    <a:pt x="2105" y="54"/>
                  </a:lnTo>
                  <a:lnTo>
                    <a:pt x="2105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629160" y="2190960"/>
              <a:ext cx="1218240" cy="19440"/>
            </a:xfrm>
            <a:custGeom>
              <a:avLst/>
              <a:gdLst/>
              <a:ahLst/>
              <a:rect l="l" t="t" r="r" b="b"/>
              <a:pathLst>
                <a:path w="3171" h="54">
                  <a:moveTo>
                    <a:pt x="35" y="0"/>
                  </a:moveTo>
                  <a:lnTo>
                    <a:pt x="923" y="0"/>
                  </a:lnTo>
                  <a:lnTo>
                    <a:pt x="926" y="14"/>
                  </a:lnTo>
                  <a:lnTo>
                    <a:pt x="938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23" y="0"/>
                  </a:moveTo>
                  <a:lnTo>
                    <a:pt x="3131" y="0"/>
                  </a:lnTo>
                  <a:lnTo>
                    <a:pt x="3171" y="54"/>
                  </a:lnTo>
                  <a:lnTo>
                    <a:pt x="2123" y="54"/>
                  </a:lnTo>
                  <a:lnTo>
                    <a:pt x="2123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625200" y="2201760"/>
              <a:ext cx="1227600" cy="17640"/>
            </a:xfrm>
            <a:custGeom>
              <a:avLst/>
              <a:gdLst/>
              <a:ahLst/>
              <a:rect l="l" t="t" r="r" b="b"/>
              <a:pathLst>
                <a:path w="3196" h="53">
                  <a:moveTo>
                    <a:pt x="27" y="0"/>
                  </a:moveTo>
                  <a:lnTo>
                    <a:pt x="939" y="0"/>
                  </a:lnTo>
                  <a:lnTo>
                    <a:pt x="955" y="47"/>
                  </a:lnTo>
                  <a:lnTo>
                    <a:pt x="955" y="53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27" y="0"/>
                  </a:lnTo>
                  <a:close/>
                  <a:moveTo>
                    <a:pt x="2132" y="0"/>
                  </a:moveTo>
                  <a:lnTo>
                    <a:pt x="3160" y="0"/>
                  </a:lnTo>
                  <a:lnTo>
                    <a:pt x="3187" y="37"/>
                  </a:lnTo>
                  <a:lnTo>
                    <a:pt x="3196" y="53"/>
                  </a:lnTo>
                  <a:lnTo>
                    <a:pt x="2141" y="53"/>
                  </a:lnTo>
                  <a:lnTo>
                    <a:pt x="2132" y="27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623400" y="2210760"/>
              <a:ext cx="1235160" cy="19080"/>
            </a:xfrm>
            <a:custGeom>
              <a:avLst/>
              <a:gdLst/>
              <a:ahLst/>
              <a:rect l="l" t="t" r="r" b="b"/>
              <a:pathLst>
                <a:path w="3215" h="54">
                  <a:moveTo>
                    <a:pt x="13" y="0"/>
                  </a:moveTo>
                  <a:lnTo>
                    <a:pt x="951" y="0"/>
                  </a:lnTo>
                  <a:lnTo>
                    <a:pt x="959" y="20"/>
                  </a:lnTo>
                  <a:lnTo>
                    <a:pt x="959" y="54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7" y="8"/>
                  </a:lnTo>
                  <a:lnTo>
                    <a:pt x="13" y="0"/>
                  </a:lnTo>
                  <a:close/>
                  <a:moveTo>
                    <a:pt x="2136" y="0"/>
                  </a:moveTo>
                  <a:lnTo>
                    <a:pt x="3184" y="0"/>
                  </a:lnTo>
                  <a:lnTo>
                    <a:pt x="3191" y="10"/>
                  </a:lnTo>
                  <a:lnTo>
                    <a:pt x="3215" y="54"/>
                  </a:lnTo>
                  <a:lnTo>
                    <a:pt x="2155" y="54"/>
                  </a:lnTo>
                  <a:lnTo>
                    <a:pt x="2136" y="0"/>
                  </a:lnTo>
                  <a:lnTo>
                    <a:pt x="2136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623400" y="2219400"/>
              <a:ext cx="1241280" cy="19080"/>
            </a:xfrm>
            <a:custGeom>
              <a:avLst/>
              <a:gdLst/>
              <a:ahLst/>
              <a:rect l="l" t="t" r="r" b="b"/>
              <a:pathLst>
                <a:path w="3230" h="55">
                  <a:moveTo>
                    <a:pt x="4" y="0"/>
                  </a:moveTo>
                  <a:lnTo>
                    <a:pt x="959" y="0"/>
                  </a:lnTo>
                  <a:lnTo>
                    <a:pt x="959" y="33"/>
                  </a:lnTo>
                  <a:lnTo>
                    <a:pt x="949" y="55"/>
                  </a:lnTo>
                  <a:lnTo>
                    <a:pt x="5" y="55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4" y="0"/>
                  </a:lnTo>
                  <a:close/>
                  <a:moveTo>
                    <a:pt x="2145" y="0"/>
                  </a:moveTo>
                  <a:lnTo>
                    <a:pt x="3200" y="0"/>
                  </a:lnTo>
                  <a:lnTo>
                    <a:pt x="3230" y="55"/>
                  </a:lnTo>
                  <a:lnTo>
                    <a:pt x="3054" y="55"/>
                  </a:lnTo>
                  <a:lnTo>
                    <a:pt x="3047" y="53"/>
                  </a:lnTo>
                  <a:lnTo>
                    <a:pt x="3048" y="55"/>
                  </a:lnTo>
                  <a:lnTo>
                    <a:pt x="2163" y="55"/>
                  </a:lnTo>
                  <a:lnTo>
                    <a:pt x="2164" y="53"/>
                  </a:lnTo>
                  <a:lnTo>
                    <a:pt x="2145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619440" y="2229840"/>
              <a:ext cx="1250640" cy="19440"/>
            </a:xfrm>
            <a:custGeom>
              <a:avLst/>
              <a:gdLst/>
              <a:ahLst/>
              <a:rect l="l" t="t" r="r" b="b"/>
              <a:pathLst>
                <a:path w="3257" h="53">
                  <a:moveTo>
                    <a:pt x="14" y="0"/>
                  </a:moveTo>
                  <a:lnTo>
                    <a:pt x="973" y="0"/>
                  </a:lnTo>
                  <a:lnTo>
                    <a:pt x="973" y="5"/>
                  </a:lnTo>
                  <a:lnTo>
                    <a:pt x="961" y="32"/>
                  </a:lnTo>
                  <a:lnTo>
                    <a:pt x="945" y="53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21" y="32"/>
                  </a:lnTo>
                  <a:lnTo>
                    <a:pt x="14" y="13"/>
                  </a:lnTo>
                  <a:lnTo>
                    <a:pt x="14" y="0"/>
                  </a:lnTo>
                  <a:close/>
                  <a:moveTo>
                    <a:pt x="2169" y="0"/>
                  </a:moveTo>
                  <a:lnTo>
                    <a:pt x="3229" y="0"/>
                  </a:lnTo>
                  <a:lnTo>
                    <a:pt x="3252" y="43"/>
                  </a:lnTo>
                  <a:lnTo>
                    <a:pt x="3257" y="53"/>
                  </a:lnTo>
                  <a:lnTo>
                    <a:pt x="3151" y="53"/>
                  </a:lnTo>
                  <a:lnTo>
                    <a:pt x="3126" y="43"/>
                  </a:lnTo>
                  <a:lnTo>
                    <a:pt x="3061" y="25"/>
                  </a:lnTo>
                  <a:lnTo>
                    <a:pt x="3078" y="53"/>
                  </a:lnTo>
                  <a:lnTo>
                    <a:pt x="2169" y="53"/>
                  </a:lnTo>
                  <a:lnTo>
                    <a:pt x="2178" y="25"/>
                  </a:lnTo>
                  <a:lnTo>
                    <a:pt x="2169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608280" y="2238840"/>
              <a:ext cx="1266120" cy="19440"/>
            </a:xfrm>
            <a:custGeom>
              <a:avLst/>
              <a:gdLst/>
              <a:ahLst/>
              <a:rect l="l" t="t" r="r" b="b"/>
              <a:pathLst>
                <a:path w="3298" h="54">
                  <a:moveTo>
                    <a:pt x="49" y="0"/>
                  </a:moveTo>
                  <a:lnTo>
                    <a:pt x="993" y="0"/>
                  </a:lnTo>
                  <a:lnTo>
                    <a:pt x="991" y="5"/>
                  </a:lnTo>
                  <a:lnTo>
                    <a:pt x="963" y="45"/>
                  </a:lnTo>
                  <a:lnTo>
                    <a:pt x="961" y="54"/>
                  </a:lnTo>
                  <a:lnTo>
                    <a:pt x="0" y="54"/>
                  </a:lnTo>
                  <a:lnTo>
                    <a:pt x="33" y="25"/>
                  </a:lnTo>
                  <a:lnTo>
                    <a:pt x="51" y="5"/>
                  </a:lnTo>
                  <a:lnTo>
                    <a:pt x="49" y="0"/>
                  </a:lnTo>
                  <a:close/>
                  <a:moveTo>
                    <a:pt x="2207" y="0"/>
                  </a:moveTo>
                  <a:lnTo>
                    <a:pt x="3092" y="0"/>
                  </a:lnTo>
                  <a:lnTo>
                    <a:pt x="3118" y="45"/>
                  </a:lnTo>
                  <a:lnTo>
                    <a:pt x="3127" y="54"/>
                  </a:lnTo>
                  <a:lnTo>
                    <a:pt x="2191" y="54"/>
                  </a:lnTo>
                  <a:lnTo>
                    <a:pt x="2207" y="0"/>
                  </a:lnTo>
                  <a:close/>
                  <a:moveTo>
                    <a:pt x="3098" y="0"/>
                  </a:moveTo>
                  <a:lnTo>
                    <a:pt x="3274" y="0"/>
                  </a:lnTo>
                  <a:lnTo>
                    <a:pt x="3282" y="16"/>
                  </a:lnTo>
                  <a:lnTo>
                    <a:pt x="3298" y="54"/>
                  </a:lnTo>
                  <a:lnTo>
                    <a:pt x="3234" y="54"/>
                  </a:lnTo>
                  <a:lnTo>
                    <a:pt x="3223" y="45"/>
                  </a:lnTo>
                  <a:lnTo>
                    <a:pt x="3156" y="16"/>
                  </a:lnTo>
                  <a:lnTo>
                    <a:pt x="3098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598560" y="2249640"/>
              <a:ext cx="1279440" cy="19080"/>
            </a:xfrm>
            <a:custGeom>
              <a:avLst/>
              <a:gdLst/>
              <a:ahLst/>
              <a:rect l="l" t="t" r="r" b="b"/>
              <a:pathLst>
                <a:path w="3333" h="55">
                  <a:moveTo>
                    <a:pt x="55" y="0"/>
                  </a:moveTo>
                  <a:lnTo>
                    <a:pt x="1000" y="0"/>
                  </a:lnTo>
                  <a:lnTo>
                    <a:pt x="988" y="19"/>
                  </a:lnTo>
                  <a:lnTo>
                    <a:pt x="979" y="55"/>
                  </a:lnTo>
                  <a:lnTo>
                    <a:pt x="0" y="55"/>
                  </a:lnTo>
                  <a:lnTo>
                    <a:pt x="22" y="31"/>
                  </a:lnTo>
                  <a:lnTo>
                    <a:pt x="55" y="0"/>
                  </a:lnTo>
                  <a:close/>
                  <a:moveTo>
                    <a:pt x="2224" y="0"/>
                  </a:moveTo>
                  <a:lnTo>
                    <a:pt x="3133" y="0"/>
                  </a:lnTo>
                  <a:lnTo>
                    <a:pt x="3143" y="19"/>
                  </a:lnTo>
                  <a:lnTo>
                    <a:pt x="3178" y="55"/>
                  </a:lnTo>
                  <a:lnTo>
                    <a:pt x="2208" y="55"/>
                  </a:lnTo>
                  <a:lnTo>
                    <a:pt x="2224" y="0"/>
                  </a:lnTo>
                  <a:close/>
                  <a:moveTo>
                    <a:pt x="3206" y="0"/>
                  </a:moveTo>
                  <a:lnTo>
                    <a:pt x="3312" y="0"/>
                  </a:lnTo>
                  <a:lnTo>
                    <a:pt x="3333" y="55"/>
                  </a:lnTo>
                  <a:lnTo>
                    <a:pt x="3291" y="55"/>
                  </a:lnTo>
                  <a:lnTo>
                    <a:pt x="3248" y="19"/>
                  </a:lnTo>
                  <a:lnTo>
                    <a:pt x="320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588840" y="2258640"/>
              <a:ext cx="1292760" cy="19080"/>
            </a:xfrm>
            <a:custGeom>
              <a:avLst/>
              <a:gdLst/>
              <a:ahLst/>
              <a:rect l="l" t="t" r="r" b="b"/>
              <a:pathLst>
                <a:path w="3365" h="54">
                  <a:moveTo>
                    <a:pt x="49" y="0"/>
                  </a:moveTo>
                  <a:lnTo>
                    <a:pt x="1010" y="0"/>
                  </a:lnTo>
                  <a:lnTo>
                    <a:pt x="1000" y="39"/>
                  </a:lnTo>
                  <a:lnTo>
                    <a:pt x="1000" y="54"/>
                  </a:lnTo>
                  <a:lnTo>
                    <a:pt x="0" y="54"/>
                  </a:lnTo>
                  <a:lnTo>
                    <a:pt x="6" y="47"/>
                  </a:lnTo>
                  <a:lnTo>
                    <a:pt x="46" y="3"/>
                  </a:lnTo>
                  <a:lnTo>
                    <a:pt x="49" y="0"/>
                  </a:lnTo>
                  <a:close/>
                  <a:moveTo>
                    <a:pt x="2240" y="0"/>
                  </a:moveTo>
                  <a:lnTo>
                    <a:pt x="3176" y="0"/>
                  </a:lnTo>
                  <a:lnTo>
                    <a:pt x="3205" y="31"/>
                  </a:lnTo>
                  <a:lnTo>
                    <a:pt x="3247" y="54"/>
                  </a:lnTo>
                  <a:lnTo>
                    <a:pt x="2224" y="54"/>
                  </a:lnTo>
                  <a:lnTo>
                    <a:pt x="2240" y="0"/>
                  </a:lnTo>
                  <a:close/>
                  <a:moveTo>
                    <a:pt x="3283" y="0"/>
                  </a:moveTo>
                  <a:lnTo>
                    <a:pt x="3347" y="0"/>
                  </a:lnTo>
                  <a:lnTo>
                    <a:pt x="3359" y="31"/>
                  </a:lnTo>
                  <a:lnTo>
                    <a:pt x="3365" y="54"/>
                  </a:lnTo>
                  <a:lnTo>
                    <a:pt x="3342" y="54"/>
                  </a:lnTo>
                  <a:lnTo>
                    <a:pt x="3331" y="41"/>
                  </a:lnTo>
                  <a:lnTo>
                    <a:pt x="3283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81280" y="2269080"/>
              <a:ext cx="1302840" cy="176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45" y="0"/>
                  </a:moveTo>
                  <a:lnTo>
                    <a:pt x="1024" y="0"/>
                  </a:lnTo>
                  <a:lnTo>
                    <a:pt x="1021" y="12"/>
                  </a:lnTo>
                  <a:lnTo>
                    <a:pt x="1021" y="54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27" y="20"/>
                  </a:lnTo>
                  <a:lnTo>
                    <a:pt x="45" y="0"/>
                  </a:lnTo>
                  <a:close/>
                  <a:moveTo>
                    <a:pt x="2253" y="0"/>
                  </a:moveTo>
                  <a:lnTo>
                    <a:pt x="3223" y="0"/>
                  </a:lnTo>
                  <a:lnTo>
                    <a:pt x="3226" y="4"/>
                  </a:lnTo>
                  <a:lnTo>
                    <a:pt x="3317" y="54"/>
                  </a:lnTo>
                  <a:lnTo>
                    <a:pt x="2237" y="54"/>
                  </a:lnTo>
                  <a:lnTo>
                    <a:pt x="2253" y="0"/>
                  </a:lnTo>
                  <a:close/>
                  <a:moveTo>
                    <a:pt x="3336" y="0"/>
                  </a:moveTo>
                  <a:lnTo>
                    <a:pt x="3378" y="0"/>
                  </a:lnTo>
                  <a:lnTo>
                    <a:pt x="3380" y="4"/>
                  </a:lnTo>
                  <a:lnTo>
                    <a:pt x="3392" y="51"/>
                  </a:lnTo>
                  <a:lnTo>
                    <a:pt x="3392" y="54"/>
                  </a:lnTo>
                  <a:lnTo>
                    <a:pt x="3385" y="54"/>
                  </a:lnTo>
                  <a:lnTo>
                    <a:pt x="3352" y="14"/>
                  </a:lnTo>
                  <a:lnTo>
                    <a:pt x="333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581280" y="2277720"/>
              <a:ext cx="1302840" cy="194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21" y="0"/>
                  </a:moveTo>
                  <a:lnTo>
                    <a:pt x="1021" y="0"/>
                  </a:lnTo>
                  <a:lnTo>
                    <a:pt x="1021" y="36"/>
                  </a:lnTo>
                  <a:lnTo>
                    <a:pt x="1029" y="54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21" y="0"/>
                  </a:lnTo>
                  <a:close/>
                  <a:moveTo>
                    <a:pt x="2245" y="0"/>
                  </a:moveTo>
                  <a:lnTo>
                    <a:pt x="3268" y="0"/>
                  </a:lnTo>
                  <a:lnTo>
                    <a:pt x="3334" y="36"/>
                  </a:lnTo>
                  <a:lnTo>
                    <a:pt x="3359" y="54"/>
                  </a:lnTo>
                  <a:lnTo>
                    <a:pt x="2276" y="54"/>
                  </a:lnTo>
                  <a:lnTo>
                    <a:pt x="2232" y="43"/>
                  </a:lnTo>
                  <a:lnTo>
                    <a:pt x="2245" y="0"/>
                  </a:lnTo>
                  <a:close/>
                  <a:moveTo>
                    <a:pt x="3363" y="0"/>
                  </a:moveTo>
                  <a:lnTo>
                    <a:pt x="3386" y="0"/>
                  </a:lnTo>
                  <a:lnTo>
                    <a:pt x="3392" y="24"/>
                  </a:lnTo>
                  <a:lnTo>
                    <a:pt x="3392" y="3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581280" y="2286720"/>
              <a:ext cx="1304280" cy="19440"/>
            </a:xfrm>
            <a:custGeom>
              <a:avLst/>
              <a:gdLst/>
              <a:ahLst/>
              <a:rect l="l" t="t" r="r" b="b"/>
              <a:pathLst>
                <a:path w="3397" h="54">
                  <a:moveTo>
                    <a:pt x="0" y="0"/>
                  </a:moveTo>
                  <a:lnTo>
                    <a:pt x="1021" y="0"/>
                  </a:lnTo>
                  <a:lnTo>
                    <a:pt x="1021" y="9"/>
                  </a:lnTo>
                  <a:lnTo>
                    <a:pt x="1033" y="36"/>
                  </a:lnTo>
                  <a:lnTo>
                    <a:pt x="1033" y="54"/>
                  </a:lnTo>
                  <a:lnTo>
                    <a:pt x="28" y="54"/>
                  </a:lnTo>
                  <a:lnTo>
                    <a:pt x="15" y="4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237" y="0"/>
                  </a:moveTo>
                  <a:lnTo>
                    <a:pt x="3317" y="0"/>
                  </a:lnTo>
                  <a:lnTo>
                    <a:pt x="3334" y="9"/>
                  </a:lnTo>
                  <a:lnTo>
                    <a:pt x="3397" y="54"/>
                  </a:lnTo>
                  <a:lnTo>
                    <a:pt x="2323" y="54"/>
                  </a:lnTo>
                  <a:lnTo>
                    <a:pt x="2319" y="36"/>
                  </a:lnTo>
                  <a:lnTo>
                    <a:pt x="2232" y="16"/>
                  </a:lnTo>
                  <a:lnTo>
                    <a:pt x="2237" y="0"/>
                  </a:lnTo>
                  <a:close/>
                  <a:moveTo>
                    <a:pt x="3385" y="0"/>
                  </a:moveTo>
                  <a:lnTo>
                    <a:pt x="3392" y="0"/>
                  </a:lnTo>
                  <a:lnTo>
                    <a:pt x="3392" y="9"/>
                  </a:lnTo>
                  <a:lnTo>
                    <a:pt x="338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581280" y="2297520"/>
              <a:ext cx="1319760" cy="17640"/>
            </a:xfrm>
            <a:custGeom>
              <a:avLst/>
              <a:gdLst/>
              <a:ahLst/>
              <a:rect l="l" t="t" r="r" b="b"/>
              <a:pathLst>
                <a:path w="3434" h="53">
                  <a:moveTo>
                    <a:pt x="0" y="0"/>
                  </a:moveTo>
                  <a:lnTo>
                    <a:pt x="1028" y="0"/>
                  </a:lnTo>
                  <a:lnTo>
                    <a:pt x="1032" y="9"/>
                  </a:lnTo>
                  <a:lnTo>
                    <a:pt x="1032" y="38"/>
                  </a:lnTo>
                  <a:lnTo>
                    <a:pt x="1029" y="53"/>
                  </a:lnTo>
                  <a:lnTo>
                    <a:pt x="48" y="53"/>
                  </a:lnTo>
                  <a:lnTo>
                    <a:pt x="53" y="38"/>
                  </a:lnTo>
                  <a:lnTo>
                    <a:pt x="42" y="38"/>
                  </a:lnTo>
                  <a:lnTo>
                    <a:pt x="14" y="18"/>
                  </a:lnTo>
                  <a:lnTo>
                    <a:pt x="0" y="0"/>
                  </a:lnTo>
                  <a:close/>
                  <a:moveTo>
                    <a:pt x="2275" y="0"/>
                  </a:moveTo>
                  <a:lnTo>
                    <a:pt x="3358" y="0"/>
                  </a:lnTo>
                  <a:lnTo>
                    <a:pt x="3434" y="53"/>
                  </a:lnTo>
                  <a:lnTo>
                    <a:pt x="2330" y="53"/>
                  </a:lnTo>
                  <a:lnTo>
                    <a:pt x="2318" y="9"/>
                  </a:lnTo>
                  <a:lnTo>
                    <a:pt x="227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590640" y="2306160"/>
              <a:ext cx="1320120" cy="1908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0" y="0"/>
                  </a:moveTo>
                  <a:lnTo>
                    <a:pt x="1005" y="0"/>
                  </a:lnTo>
                  <a:lnTo>
                    <a:pt x="1005" y="11"/>
                  </a:lnTo>
                  <a:lnTo>
                    <a:pt x="996" y="54"/>
                  </a:lnTo>
                  <a:lnTo>
                    <a:pt x="15" y="54"/>
                  </a:lnTo>
                  <a:lnTo>
                    <a:pt x="15" y="42"/>
                  </a:lnTo>
                  <a:lnTo>
                    <a:pt x="26" y="11"/>
                  </a:lnTo>
                  <a:lnTo>
                    <a:pt x="15" y="11"/>
                  </a:lnTo>
                  <a:lnTo>
                    <a:pt x="0" y="0"/>
                  </a:lnTo>
                  <a:close/>
                  <a:moveTo>
                    <a:pt x="2295" y="0"/>
                  </a:moveTo>
                  <a:lnTo>
                    <a:pt x="3369" y="0"/>
                  </a:lnTo>
                  <a:lnTo>
                    <a:pt x="3411" y="30"/>
                  </a:lnTo>
                  <a:lnTo>
                    <a:pt x="3434" y="54"/>
                  </a:lnTo>
                  <a:lnTo>
                    <a:pt x="2363" y="54"/>
                  </a:lnTo>
                  <a:lnTo>
                    <a:pt x="2366" y="50"/>
                  </a:lnTo>
                  <a:lnTo>
                    <a:pt x="2309" y="50"/>
                  </a:lnTo>
                  <a:lnTo>
                    <a:pt x="2295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596400" y="2315160"/>
              <a:ext cx="1321920" cy="19080"/>
            </a:xfrm>
            <a:custGeom>
              <a:avLst/>
              <a:gdLst/>
              <a:ahLst/>
              <a:rect l="l" t="t" r="r" b="b"/>
              <a:pathLst>
                <a:path w="3438" h="55">
                  <a:moveTo>
                    <a:pt x="6" y="0"/>
                  </a:moveTo>
                  <a:lnTo>
                    <a:pt x="987" y="0"/>
                  </a:lnTo>
                  <a:lnTo>
                    <a:pt x="978" y="44"/>
                  </a:lnTo>
                  <a:lnTo>
                    <a:pt x="973" y="55"/>
                  </a:lnTo>
                  <a:lnTo>
                    <a:pt x="0" y="55"/>
                  </a:lnTo>
                  <a:lnTo>
                    <a:pt x="0" y="16"/>
                  </a:lnTo>
                  <a:lnTo>
                    <a:pt x="6" y="0"/>
                  </a:lnTo>
                  <a:close/>
                  <a:moveTo>
                    <a:pt x="2288" y="0"/>
                  </a:moveTo>
                  <a:lnTo>
                    <a:pt x="3392" y="0"/>
                  </a:lnTo>
                  <a:lnTo>
                    <a:pt x="3396" y="4"/>
                  </a:lnTo>
                  <a:lnTo>
                    <a:pt x="3436" y="46"/>
                  </a:lnTo>
                  <a:lnTo>
                    <a:pt x="3438" y="55"/>
                  </a:lnTo>
                  <a:lnTo>
                    <a:pt x="3363" y="55"/>
                  </a:lnTo>
                  <a:lnTo>
                    <a:pt x="3358" y="53"/>
                  </a:lnTo>
                  <a:lnTo>
                    <a:pt x="3349" y="53"/>
                  </a:lnTo>
                  <a:lnTo>
                    <a:pt x="3352" y="55"/>
                  </a:lnTo>
                  <a:lnTo>
                    <a:pt x="2333" y="55"/>
                  </a:lnTo>
                  <a:lnTo>
                    <a:pt x="2351" y="24"/>
                  </a:lnTo>
                  <a:lnTo>
                    <a:pt x="2294" y="24"/>
                  </a:lnTo>
                  <a:lnTo>
                    <a:pt x="2288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596400" y="2325600"/>
              <a:ext cx="1325880" cy="19440"/>
            </a:xfrm>
            <a:custGeom>
              <a:avLst/>
              <a:gdLst/>
              <a:ahLst/>
              <a:rect l="l" t="t" r="r" b="b"/>
              <a:pathLst>
                <a:path w="3447" h="53">
                  <a:moveTo>
                    <a:pt x="0" y="0"/>
                  </a:moveTo>
                  <a:lnTo>
                    <a:pt x="981" y="0"/>
                  </a:lnTo>
                  <a:lnTo>
                    <a:pt x="978" y="16"/>
                  </a:lnTo>
                  <a:lnTo>
                    <a:pt x="960" y="53"/>
                  </a:lnTo>
                  <a:lnTo>
                    <a:pt x="6" y="53"/>
                  </a:lnTo>
                  <a:lnTo>
                    <a:pt x="0" y="43"/>
                  </a:lnTo>
                  <a:lnTo>
                    <a:pt x="0" y="0"/>
                  </a:lnTo>
                  <a:close/>
                  <a:moveTo>
                    <a:pt x="2348" y="0"/>
                  </a:moveTo>
                  <a:lnTo>
                    <a:pt x="3419" y="0"/>
                  </a:lnTo>
                  <a:lnTo>
                    <a:pt x="3436" y="18"/>
                  </a:lnTo>
                  <a:lnTo>
                    <a:pt x="3447" y="53"/>
                  </a:lnTo>
                  <a:lnTo>
                    <a:pt x="3416" y="53"/>
                  </a:lnTo>
                  <a:lnTo>
                    <a:pt x="3378" y="33"/>
                  </a:lnTo>
                  <a:lnTo>
                    <a:pt x="3358" y="25"/>
                  </a:lnTo>
                  <a:lnTo>
                    <a:pt x="3349" y="25"/>
                  </a:lnTo>
                  <a:lnTo>
                    <a:pt x="3367" y="33"/>
                  </a:lnTo>
                  <a:lnTo>
                    <a:pt x="3382" y="53"/>
                  </a:lnTo>
                  <a:lnTo>
                    <a:pt x="2331" y="53"/>
                  </a:lnTo>
                  <a:lnTo>
                    <a:pt x="2321" y="45"/>
                  </a:lnTo>
                  <a:lnTo>
                    <a:pt x="2348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596400" y="2334240"/>
              <a:ext cx="1327320" cy="19440"/>
            </a:xfrm>
            <a:custGeom>
              <a:avLst/>
              <a:gdLst/>
              <a:ahLst/>
              <a:rect l="l" t="t" r="r" b="b"/>
              <a:pathLst>
                <a:path w="3453" h="54">
                  <a:moveTo>
                    <a:pt x="0" y="0"/>
                  </a:moveTo>
                  <a:lnTo>
                    <a:pt x="973" y="0"/>
                  </a:lnTo>
                  <a:lnTo>
                    <a:pt x="951" y="47"/>
                  </a:lnTo>
                  <a:lnTo>
                    <a:pt x="946" y="54"/>
                  </a:lnTo>
                  <a:lnTo>
                    <a:pt x="43" y="54"/>
                  </a:lnTo>
                  <a:lnTo>
                    <a:pt x="31" y="47"/>
                  </a:lnTo>
                  <a:lnTo>
                    <a:pt x="11" y="3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333" y="0"/>
                  </a:moveTo>
                  <a:lnTo>
                    <a:pt x="3352" y="0"/>
                  </a:lnTo>
                  <a:lnTo>
                    <a:pt x="3367" y="6"/>
                  </a:lnTo>
                  <a:lnTo>
                    <a:pt x="3396" y="47"/>
                  </a:lnTo>
                  <a:lnTo>
                    <a:pt x="3403" y="54"/>
                  </a:lnTo>
                  <a:lnTo>
                    <a:pt x="2359" y="54"/>
                  </a:lnTo>
                  <a:lnTo>
                    <a:pt x="2321" y="18"/>
                  </a:lnTo>
                  <a:lnTo>
                    <a:pt x="2333" y="0"/>
                  </a:lnTo>
                  <a:close/>
                  <a:moveTo>
                    <a:pt x="3363" y="0"/>
                  </a:moveTo>
                  <a:lnTo>
                    <a:pt x="3438" y="0"/>
                  </a:lnTo>
                  <a:lnTo>
                    <a:pt x="3453" y="47"/>
                  </a:lnTo>
                  <a:lnTo>
                    <a:pt x="3378" y="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598560" y="2345040"/>
              <a:ext cx="1325160" cy="19080"/>
            </a:xfrm>
            <a:custGeom>
              <a:avLst/>
              <a:gdLst/>
              <a:ahLst/>
              <a:rect l="l" t="t" r="r" b="b"/>
              <a:pathLst>
                <a:path w="3447" h="55">
                  <a:moveTo>
                    <a:pt x="0" y="0"/>
                  </a:moveTo>
                  <a:lnTo>
                    <a:pt x="954" y="0"/>
                  </a:lnTo>
                  <a:lnTo>
                    <a:pt x="945" y="21"/>
                  </a:lnTo>
                  <a:lnTo>
                    <a:pt x="919" y="55"/>
                  </a:lnTo>
                  <a:lnTo>
                    <a:pt x="1" y="55"/>
                  </a:lnTo>
                  <a:lnTo>
                    <a:pt x="54" y="37"/>
                  </a:lnTo>
                  <a:lnTo>
                    <a:pt x="25" y="21"/>
                  </a:lnTo>
                  <a:lnTo>
                    <a:pt x="5" y="10"/>
                  </a:lnTo>
                  <a:lnTo>
                    <a:pt x="0" y="0"/>
                  </a:lnTo>
                  <a:close/>
                  <a:moveTo>
                    <a:pt x="2325" y="0"/>
                  </a:moveTo>
                  <a:lnTo>
                    <a:pt x="3376" y="0"/>
                  </a:lnTo>
                  <a:lnTo>
                    <a:pt x="3390" y="21"/>
                  </a:lnTo>
                  <a:lnTo>
                    <a:pt x="3420" y="51"/>
                  </a:lnTo>
                  <a:lnTo>
                    <a:pt x="3420" y="55"/>
                  </a:lnTo>
                  <a:lnTo>
                    <a:pt x="3349" y="55"/>
                  </a:lnTo>
                  <a:lnTo>
                    <a:pt x="3331" y="51"/>
                  </a:lnTo>
                  <a:lnTo>
                    <a:pt x="3217" y="51"/>
                  </a:lnTo>
                  <a:lnTo>
                    <a:pt x="3225" y="55"/>
                  </a:lnTo>
                  <a:lnTo>
                    <a:pt x="2370" y="55"/>
                  </a:lnTo>
                  <a:lnTo>
                    <a:pt x="2364" y="39"/>
                  </a:lnTo>
                  <a:lnTo>
                    <a:pt x="2325" y="0"/>
                  </a:lnTo>
                  <a:close/>
                  <a:moveTo>
                    <a:pt x="3410" y="0"/>
                  </a:moveTo>
                  <a:lnTo>
                    <a:pt x="3441" y="0"/>
                  </a:lnTo>
                  <a:lnTo>
                    <a:pt x="3447" y="21"/>
                  </a:lnTo>
                  <a:lnTo>
                    <a:pt x="3410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596400" y="2354040"/>
              <a:ext cx="1316160" cy="19080"/>
            </a:xfrm>
            <a:custGeom>
              <a:avLst/>
              <a:gdLst/>
              <a:ahLst/>
              <a:rect l="l" t="t" r="r" b="b"/>
              <a:pathLst>
                <a:path w="3429" h="54">
                  <a:moveTo>
                    <a:pt x="46" y="0"/>
                  </a:moveTo>
                  <a:lnTo>
                    <a:pt x="949" y="0"/>
                  </a:lnTo>
                  <a:lnTo>
                    <a:pt x="926" y="29"/>
                  </a:lnTo>
                  <a:lnTo>
                    <a:pt x="901" y="54"/>
                  </a:lnTo>
                  <a:lnTo>
                    <a:pt x="0" y="54"/>
                  </a:lnTo>
                  <a:lnTo>
                    <a:pt x="3" y="29"/>
                  </a:lnTo>
                  <a:lnTo>
                    <a:pt x="63" y="9"/>
                  </a:lnTo>
                  <a:lnTo>
                    <a:pt x="46" y="0"/>
                  </a:lnTo>
                  <a:close/>
                  <a:moveTo>
                    <a:pt x="2362" y="0"/>
                  </a:moveTo>
                  <a:lnTo>
                    <a:pt x="3406" y="0"/>
                  </a:lnTo>
                  <a:lnTo>
                    <a:pt x="3429" y="23"/>
                  </a:lnTo>
                  <a:lnTo>
                    <a:pt x="3429" y="54"/>
                  </a:lnTo>
                  <a:lnTo>
                    <a:pt x="3418" y="54"/>
                  </a:lnTo>
                  <a:lnTo>
                    <a:pt x="3381" y="31"/>
                  </a:lnTo>
                  <a:lnTo>
                    <a:pt x="3340" y="23"/>
                  </a:lnTo>
                  <a:lnTo>
                    <a:pt x="3226" y="23"/>
                  </a:lnTo>
                  <a:lnTo>
                    <a:pt x="3245" y="31"/>
                  </a:lnTo>
                  <a:lnTo>
                    <a:pt x="3290" y="54"/>
                  </a:lnTo>
                  <a:lnTo>
                    <a:pt x="2387" y="54"/>
                  </a:lnTo>
                  <a:lnTo>
                    <a:pt x="2373" y="11"/>
                  </a:lnTo>
                  <a:lnTo>
                    <a:pt x="2362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594600" y="2364480"/>
              <a:ext cx="1317960" cy="176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15" y="0"/>
                  </a:moveTo>
                  <a:lnTo>
                    <a:pt x="933" y="0"/>
                  </a:lnTo>
                  <a:lnTo>
                    <a:pt x="931" y="2"/>
                  </a:lnTo>
                  <a:lnTo>
                    <a:pt x="880" y="54"/>
                  </a:lnTo>
                  <a:lnTo>
                    <a:pt x="879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2"/>
                  </a:lnTo>
                  <a:lnTo>
                    <a:pt x="15" y="0"/>
                  </a:lnTo>
                  <a:close/>
                  <a:moveTo>
                    <a:pt x="2384" y="0"/>
                  </a:moveTo>
                  <a:lnTo>
                    <a:pt x="3239" y="0"/>
                  </a:lnTo>
                  <a:lnTo>
                    <a:pt x="3250" y="4"/>
                  </a:lnTo>
                  <a:lnTo>
                    <a:pt x="3348" y="54"/>
                  </a:lnTo>
                  <a:lnTo>
                    <a:pt x="2495" y="54"/>
                  </a:lnTo>
                  <a:lnTo>
                    <a:pt x="2495" y="54"/>
                  </a:lnTo>
                  <a:lnTo>
                    <a:pt x="2401" y="54"/>
                  </a:lnTo>
                  <a:lnTo>
                    <a:pt x="2384" y="0"/>
                  </a:lnTo>
                  <a:close/>
                  <a:moveTo>
                    <a:pt x="3363" y="0"/>
                  </a:moveTo>
                  <a:lnTo>
                    <a:pt x="3434" y="0"/>
                  </a:lnTo>
                  <a:lnTo>
                    <a:pt x="3434" y="34"/>
                  </a:lnTo>
                  <a:lnTo>
                    <a:pt x="3386" y="4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594600" y="2373120"/>
              <a:ext cx="1317960" cy="194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5" y="0"/>
                  </a:moveTo>
                  <a:lnTo>
                    <a:pt x="906" y="0"/>
                  </a:lnTo>
                  <a:lnTo>
                    <a:pt x="880" y="27"/>
                  </a:lnTo>
                  <a:lnTo>
                    <a:pt x="860" y="54"/>
                  </a:lnTo>
                  <a:lnTo>
                    <a:pt x="0" y="54"/>
                  </a:lnTo>
                  <a:lnTo>
                    <a:pt x="8" y="42"/>
                  </a:lnTo>
                  <a:lnTo>
                    <a:pt x="0" y="27"/>
                  </a:lnTo>
                  <a:lnTo>
                    <a:pt x="5" y="0"/>
                  </a:lnTo>
                  <a:close/>
                  <a:moveTo>
                    <a:pt x="2392" y="0"/>
                  </a:moveTo>
                  <a:lnTo>
                    <a:pt x="3295" y="0"/>
                  </a:lnTo>
                  <a:lnTo>
                    <a:pt x="3366" y="36"/>
                  </a:lnTo>
                  <a:lnTo>
                    <a:pt x="3391" y="54"/>
                  </a:lnTo>
                  <a:lnTo>
                    <a:pt x="2503" y="54"/>
                  </a:lnTo>
                  <a:lnTo>
                    <a:pt x="2495" y="27"/>
                  </a:lnTo>
                  <a:lnTo>
                    <a:pt x="2401" y="27"/>
                  </a:lnTo>
                  <a:lnTo>
                    <a:pt x="2392" y="0"/>
                  </a:lnTo>
                  <a:close/>
                  <a:moveTo>
                    <a:pt x="3423" y="0"/>
                  </a:moveTo>
                  <a:lnTo>
                    <a:pt x="3434" y="0"/>
                  </a:lnTo>
                  <a:lnTo>
                    <a:pt x="3434" y="7"/>
                  </a:lnTo>
                  <a:lnTo>
                    <a:pt x="3423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590640" y="2382120"/>
              <a:ext cx="1310040" cy="19440"/>
            </a:xfrm>
            <a:custGeom>
              <a:avLst/>
              <a:gdLst/>
              <a:ahLst/>
              <a:rect l="l" t="t" r="r" b="b"/>
              <a:pathLst>
                <a:path w="3411" h="54">
                  <a:moveTo>
                    <a:pt x="7" y="0"/>
                  </a:moveTo>
                  <a:lnTo>
                    <a:pt x="886" y="0"/>
                  </a:lnTo>
                  <a:lnTo>
                    <a:pt x="848" y="54"/>
                  </a:lnTo>
                  <a:lnTo>
                    <a:pt x="0" y="54"/>
                  </a:lnTo>
                  <a:lnTo>
                    <a:pt x="7" y="27"/>
                  </a:lnTo>
                  <a:lnTo>
                    <a:pt x="15" y="15"/>
                  </a:lnTo>
                  <a:lnTo>
                    <a:pt x="7" y="0"/>
                  </a:lnTo>
                  <a:close/>
                  <a:moveTo>
                    <a:pt x="2502" y="0"/>
                  </a:moveTo>
                  <a:lnTo>
                    <a:pt x="3355" y="0"/>
                  </a:lnTo>
                  <a:lnTo>
                    <a:pt x="3373" y="9"/>
                  </a:lnTo>
                  <a:lnTo>
                    <a:pt x="3411" y="37"/>
                  </a:lnTo>
                  <a:lnTo>
                    <a:pt x="3404" y="54"/>
                  </a:lnTo>
                  <a:lnTo>
                    <a:pt x="2520" y="54"/>
                  </a:lnTo>
                  <a:lnTo>
                    <a:pt x="2502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590640" y="2392920"/>
              <a:ext cx="1310040" cy="19080"/>
            </a:xfrm>
            <a:custGeom>
              <a:avLst/>
              <a:gdLst/>
              <a:ahLst/>
              <a:rect l="l" t="t" r="r" b="b"/>
              <a:pathLst>
                <a:path w="3412" h="54">
                  <a:moveTo>
                    <a:pt x="8" y="0"/>
                  </a:moveTo>
                  <a:lnTo>
                    <a:pt x="868" y="0"/>
                  </a:lnTo>
                  <a:lnTo>
                    <a:pt x="840" y="40"/>
                  </a:lnTo>
                  <a:lnTo>
                    <a:pt x="828" y="54"/>
                  </a:lnTo>
                  <a:lnTo>
                    <a:pt x="0" y="54"/>
                  </a:lnTo>
                  <a:lnTo>
                    <a:pt x="0" y="31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2511" y="0"/>
                  </a:moveTo>
                  <a:lnTo>
                    <a:pt x="3399" y="0"/>
                  </a:lnTo>
                  <a:lnTo>
                    <a:pt x="3412" y="10"/>
                  </a:lnTo>
                  <a:lnTo>
                    <a:pt x="3403" y="31"/>
                  </a:lnTo>
                  <a:lnTo>
                    <a:pt x="3353" y="47"/>
                  </a:lnTo>
                  <a:lnTo>
                    <a:pt x="3334" y="54"/>
                  </a:lnTo>
                  <a:lnTo>
                    <a:pt x="2468" y="54"/>
                  </a:lnTo>
                  <a:lnTo>
                    <a:pt x="2483" y="47"/>
                  </a:lnTo>
                  <a:lnTo>
                    <a:pt x="2512" y="40"/>
                  </a:lnTo>
                  <a:lnTo>
                    <a:pt x="2525" y="40"/>
                  </a:lnTo>
                  <a:lnTo>
                    <a:pt x="2511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590640" y="2401920"/>
              <a:ext cx="1308240" cy="19080"/>
            </a:xfrm>
            <a:custGeom>
              <a:avLst/>
              <a:gdLst/>
              <a:ahLst/>
              <a:rect l="l" t="t" r="r" b="b"/>
              <a:pathLst>
                <a:path w="3405" h="54">
                  <a:moveTo>
                    <a:pt x="1" y="0"/>
                  </a:moveTo>
                  <a:lnTo>
                    <a:pt x="849" y="0"/>
                  </a:lnTo>
                  <a:lnTo>
                    <a:pt x="840" y="13"/>
                  </a:lnTo>
                  <a:lnTo>
                    <a:pt x="806" y="54"/>
                  </a:lnTo>
                  <a:lnTo>
                    <a:pt x="4" y="54"/>
                  </a:lnTo>
                  <a:lnTo>
                    <a:pt x="0" y="40"/>
                  </a:lnTo>
                  <a:lnTo>
                    <a:pt x="0" y="4"/>
                  </a:lnTo>
                  <a:lnTo>
                    <a:pt x="1" y="0"/>
                  </a:lnTo>
                  <a:close/>
                  <a:moveTo>
                    <a:pt x="2521" y="0"/>
                  </a:moveTo>
                  <a:lnTo>
                    <a:pt x="3405" y="0"/>
                  </a:lnTo>
                  <a:lnTo>
                    <a:pt x="3403" y="4"/>
                  </a:lnTo>
                  <a:lnTo>
                    <a:pt x="3353" y="20"/>
                  </a:lnTo>
                  <a:lnTo>
                    <a:pt x="3316" y="33"/>
                  </a:lnTo>
                  <a:lnTo>
                    <a:pt x="3296" y="33"/>
                  </a:lnTo>
                  <a:lnTo>
                    <a:pt x="3316" y="50"/>
                  </a:lnTo>
                  <a:lnTo>
                    <a:pt x="3319" y="54"/>
                  </a:lnTo>
                  <a:lnTo>
                    <a:pt x="2402" y="54"/>
                  </a:lnTo>
                  <a:lnTo>
                    <a:pt x="2483" y="20"/>
                  </a:lnTo>
                  <a:lnTo>
                    <a:pt x="2512" y="13"/>
                  </a:lnTo>
                  <a:lnTo>
                    <a:pt x="2525" y="13"/>
                  </a:lnTo>
                  <a:lnTo>
                    <a:pt x="2521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590640" y="2412360"/>
              <a:ext cx="1285200" cy="18000"/>
            </a:xfrm>
            <a:custGeom>
              <a:avLst/>
              <a:gdLst/>
              <a:ahLst/>
              <a:rect l="l" t="t" r="r" b="b"/>
              <a:pathLst>
                <a:path w="3346" h="54">
                  <a:moveTo>
                    <a:pt x="0" y="0"/>
                  </a:moveTo>
                  <a:lnTo>
                    <a:pt x="828" y="0"/>
                  </a:lnTo>
                  <a:lnTo>
                    <a:pt x="801" y="33"/>
                  </a:lnTo>
                  <a:lnTo>
                    <a:pt x="774" y="53"/>
                  </a:lnTo>
                  <a:lnTo>
                    <a:pt x="772" y="54"/>
                  </a:lnTo>
                  <a:lnTo>
                    <a:pt x="32" y="54"/>
                  </a:lnTo>
                  <a:lnTo>
                    <a:pt x="8" y="40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468" y="0"/>
                  </a:moveTo>
                  <a:lnTo>
                    <a:pt x="3334" y="0"/>
                  </a:lnTo>
                  <a:lnTo>
                    <a:pt x="3316" y="6"/>
                  </a:lnTo>
                  <a:lnTo>
                    <a:pt x="3296" y="6"/>
                  </a:lnTo>
                  <a:lnTo>
                    <a:pt x="3316" y="23"/>
                  </a:lnTo>
                  <a:lnTo>
                    <a:pt x="3346" y="54"/>
                  </a:lnTo>
                  <a:lnTo>
                    <a:pt x="2337" y="54"/>
                  </a:lnTo>
                  <a:lnTo>
                    <a:pt x="2468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592440" y="2421000"/>
              <a:ext cx="1295280" cy="19440"/>
            </a:xfrm>
            <a:custGeom>
              <a:avLst/>
              <a:gdLst/>
              <a:ahLst/>
              <a:rect l="l" t="t" r="r" b="b"/>
              <a:pathLst>
                <a:path w="3369" h="53">
                  <a:moveTo>
                    <a:pt x="0" y="0"/>
                  </a:moveTo>
                  <a:lnTo>
                    <a:pt x="802" y="0"/>
                  </a:lnTo>
                  <a:lnTo>
                    <a:pt x="797" y="6"/>
                  </a:lnTo>
                  <a:lnTo>
                    <a:pt x="770" y="26"/>
                  </a:lnTo>
                  <a:lnTo>
                    <a:pt x="750" y="45"/>
                  </a:lnTo>
                  <a:lnTo>
                    <a:pt x="746" y="53"/>
                  </a:lnTo>
                  <a:lnTo>
                    <a:pt x="116" y="53"/>
                  </a:lnTo>
                  <a:lnTo>
                    <a:pt x="110" y="45"/>
                  </a:lnTo>
                  <a:lnTo>
                    <a:pt x="63" y="45"/>
                  </a:lnTo>
                  <a:lnTo>
                    <a:pt x="4" y="13"/>
                  </a:lnTo>
                  <a:lnTo>
                    <a:pt x="0" y="0"/>
                  </a:lnTo>
                  <a:close/>
                  <a:moveTo>
                    <a:pt x="2398" y="0"/>
                  </a:moveTo>
                  <a:lnTo>
                    <a:pt x="3315" y="0"/>
                  </a:lnTo>
                  <a:lnTo>
                    <a:pt x="3369" y="53"/>
                  </a:lnTo>
                  <a:lnTo>
                    <a:pt x="2280" y="53"/>
                  </a:lnTo>
                  <a:lnTo>
                    <a:pt x="2288" y="45"/>
                  </a:lnTo>
                  <a:lnTo>
                    <a:pt x="2398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602520" y="2430360"/>
              <a:ext cx="1294920" cy="19080"/>
            </a:xfrm>
            <a:custGeom>
              <a:avLst/>
              <a:gdLst/>
              <a:ahLst/>
              <a:rect l="l" t="t" r="r" b="b"/>
              <a:pathLst>
                <a:path w="3369" h="54">
                  <a:moveTo>
                    <a:pt x="0" y="0"/>
                  </a:moveTo>
                  <a:lnTo>
                    <a:pt x="740" y="0"/>
                  </a:lnTo>
                  <a:lnTo>
                    <a:pt x="722" y="18"/>
                  </a:lnTo>
                  <a:lnTo>
                    <a:pt x="707" y="54"/>
                  </a:lnTo>
                  <a:lnTo>
                    <a:pt x="101" y="54"/>
                  </a:lnTo>
                  <a:lnTo>
                    <a:pt x="94" y="38"/>
                  </a:lnTo>
                  <a:lnTo>
                    <a:pt x="82" y="18"/>
                  </a:lnTo>
                  <a:lnTo>
                    <a:pt x="35" y="18"/>
                  </a:lnTo>
                  <a:lnTo>
                    <a:pt x="0" y="0"/>
                  </a:lnTo>
                  <a:close/>
                  <a:moveTo>
                    <a:pt x="2305" y="0"/>
                  </a:moveTo>
                  <a:lnTo>
                    <a:pt x="3314" y="0"/>
                  </a:lnTo>
                  <a:lnTo>
                    <a:pt x="3342" y="28"/>
                  </a:lnTo>
                  <a:lnTo>
                    <a:pt x="3369" y="54"/>
                  </a:lnTo>
                  <a:lnTo>
                    <a:pt x="2226" y="54"/>
                  </a:lnTo>
                  <a:lnTo>
                    <a:pt x="2231" y="48"/>
                  </a:lnTo>
                  <a:lnTo>
                    <a:pt x="2260" y="18"/>
                  </a:lnTo>
                  <a:lnTo>
                    <a:pt x="2305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637080" y="2440800"/>
              <a:ext cx="1270080" cy="19080"/>
            </a:xfrm>
            <a:custGeom>
              <a:avLst/>
              <a:gdLst/>
              <a:ahLst/>
              <a:rect l="l" t="t" r="r" b="b"/>
              <a:pathLst>
                <a:path w="3307" h="55">
                  <a:moveTo>
                    <a:pt x="0" y="0"/>
                  </a:moveTo>
                  <a:lnTo>
                    <a:pt x="630" y="0"/>
                  </a:lnTo>
                  <a:lnTo>
                    <a:pt x="614" y="39"/>
                  </a:lnTo>
                  <a:lnTo>
                    <a:pt x="620" y="55"/>
                  </a:lnTo>
                  <a:lnTo>
                    <a:pt x="26" y="55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164" y="0"/>
                  </a:moveTo>
                  <a:lnTo>
                    <a:pt x="3253" y="0"/>
                  </a:lnTo>
                  <a:lnTo>
                    <a:pt x="3254" y="2"/>
                  </a:lnTo>
                  <a:lnTo>
                    <a:pt x="3307" y="55"/>
                  </a:lnTo>
                  <a:lnTo>
                    <a:pt x="2122" y="55"/>
                  </a:lnTo>
                  <a:lnTo>
                    <a:pt x="2123" y="52"/>
                  </a:lnTo>
                  <a:lnTo>
                    <a:pt x="2143" y="22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642480" y="2449440"/>
              <a:ext cx="1275480" cy="19440"/>
            </a:xfrm>
            <a:custGeom>
              <a:avLst/>
              <a:gdLst/>
              <a:ahLst/>
              <a:rect l="l" t="t" r="r" b="b"/>
              <a:pathLst>
                <a:path w="3321" h="53">
                  <a:moveTo>
                    <a:pt x="0" y="0"/>
                  </a:moveTo>
                  <a:lnTo>
                    <a:pt x="606" y="0"/>
                  </a:lnTo>
                  <a:lnTo>
                    <a:pt x="601" y="11"/>
                  </a:lnTo>
                  <a:lnTo>
                    <a:pt x="609" y="31"/>
                  </a:lnTo>
                  <a:lnTo>
                    <a:pt x="641" y="44"/>
                  </a:lnTo>
                  <a:lnTo>
                    <a:pt x="688" y="51"/>
                  </a:lnTo>
                  <a:lnTo>
                    <a:pt x="696" y="53"/>
                  </a:lnTo>
                  <a:lnTo>
                    <a:pt x="25" y="53"/>
                  </a:lnTo>
                  <a:lnTo>
                    <a:pt x="21" y="44"/>
                  </a:lnTo>
                  <a:lnTo>
                    <a:pt x="0" y="0"/>
                  </a:lnTo>
                  <a:close/>
                  <a:moveTo>
                    <a:pt x="2125" y="0"/>
                  </a:moveTo>
                  <a:lnTo>
                    <a:pt x="3268" y="0"/>
                  </a:lnTo>
                  <a:lnTo>
                    <a:pt x="3321" y="53"/>
                  </a:lnTo>
                  <a:lnTo>
                    <a:pt x="2103" y="53"/>
                  </a:lnTo>
                  <a:lnTo>
                    <a:pt x="2110" y="24"/>
                  </a:lnTo>
                  <a:lnTo>
                    <a:pt x="2125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646440" y="2459880"/>
              <a:ext cx="1281240" cy="18000"/>
            </a:xfrm>
            <a:custGeom>
              <a:avLst/>
              <a:gdLst/>
              <a:ahLst/>
              <a:rect l="l" t="t" r="r" b="b"/>
              <a:pathLst>
                <a:path w="3333" h="54">
                  <a:moveTo>
                    <a:pt x="0" y="0"/>
                  </a:moveTo>
                  <a:lnTo>
                    <a:pt x="594" y="0"/>
                  </a:lnTo>
                  <a:lnTo>
                    <a:pt x="596" y="4"/>
                  </a:lnTo>
                  <a:lnTo>
                    <a:pt x="628" y="17"/>
                  </a:lnTo>
                  <a:lnTo>
                    <a:pt x="675" y="24"/>
                  </a:lnTo>
                  <a:lnTo>
                    <a:pt x="742" y="44"/>
                  </a:lnTo>
                  <a:lnTo>
                    <a:pt x="766" y="54"/>
                  </a:lnTo>
                  <a:lnTo>
                    <a:pt x="24" y="54"/>
                  </a:lnTo>
                  <a:lnTo>
                    <a:pt x="8" y="17"/>
                  </a:lnTo>
                  <a:lnTo>
                    <a:pt x="0" y="0"/>
                  </a:lnTo>
                  <a:close/>
                  <a:moveTo>
                    <a:pt x="2096" y="0"/>
                  </a:moveTo>
                  <a:lnTo>
                    <a:pt x="3281" y="0"/>
                  </a:lnTo>
                  <a:lnTo>
                    <a:pt x="3316" y="34"/>
                  </a:lnTo>
                  <a:lnTo>
                    <a:pt x="3333" y="54"/>
                  </a:lnTo>
                  <a:lnTo>
                    <a:pt x="2085" y="54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652200" y="2469240"/>
              <a:ext cx="1285200" cy="19080"/>
            </a:xfrm>
            <a:custGeom>
              <a:avLst/>
              <a:gdLst/>
              <a:ahLst/>
              <a:rect l="l" t="t" r="r" b="b"/>
              <a:pathLst>
                <a:path w="3345" h="55">
                  <a:moveTo>
                    <a:pt x="0" y="0"/>
                  </a:moveTo>
                  <a:lnTo>
                    <a:pt x="671" y="0"/>
                  </a:lnTo>
                  <a:lnTo>
                    <a:pt x="730" y="18"/>
                  </a:lnTo>
                  <a:lnTo>
                    <a:pt x="820" y="55"/>
                  </a:lnTo>
                  <a:lnTo>
                    <a:pt x="23" y="55"/>
                  </a:lnTo>
                  <a:lnTo>
                    <a:pt x="0" y="0"/>
                  </a:lnTo>
                  <a:close/>
                  <a:moveTo>
                    <a:pt x="2078" y="0"/>
                  </a:moveTo>
                  <a:lnTo>
                    <a:pt x="3296" y="0"/>
                  </a:lnTo>
                  <a:lnTo>
                    <a:pt x="3304" y="8"/>
                  </a:lnTo>
                  <a:lnTo>
                    <a:pt x="3345" y="55"/>
                  </a:lnTo>
                  <a:lnTo>
                    <a:pt x="2067" y="55"/>
                  </a:lnTo>
                  <a:lnTo>
                    <a:pt x="2078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656160" y="2478240"/>
              <a:ext cx="1289160" cy="19080"/>
            </a:xfrm>
            <a:custGeom>
              <a:avLst/>
              <a:gdLst/>
              <a:ahLst/>
              <a:rect l="l" t="t" r="r" b="b"/>
              <a:pathLst>
                <a:path w="3357" h="54">
                  <a:moveTo>
                    <a:pt x="0" y="0"/>
                  </a:moveTo>
                  <a:lnTo>
                    <a:pt x="742" y="0"/>
                  </a:lnTo>
                  <a:lnTo>
                    <a:pt x="864" y="49"/>
                  </a:lnTo>
                  <a:lnTo>
                    <a:pt x="871" y="54"/>
                  </a:lnTo>
                  <a:lnTo>
                    <a:pt x="22" y="54"/>
                  </a:lnTo>
                  <a:lnTo>
                    <a:pt x="0" y="0"/>
                  </a:lnTo>
                  <a:close/>
                  <a:moveTo>
                    <a:pt x="2061" y="0"/>
                  </a:moveTo>
                  <a:lnTo>
                    <a:pt x="3309" y="0"/>
                  </a:lnTo>
                  <a:lnTo>
                    <a:pt x="3357" y="54"/>
                  </a:lnTo>
                  <a:lnTo>
                    <a:pt x="2052" y="54"/>
                  </a:lnTo>
                  <a:lnTo>
                    <a:pt x="2053" y="37"/>
                  </a:lnTo>
                  <a:lnTo>
                    <a:pt x="2061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660120" y="2488680"/>
              <a:ext cx="1294920" cy="19440"/>
            </a:xfrm>
            <a:custGeom>
              <a:avLst/>
              <a:gdLst/>
              <a:ahLst/>
              <a:rect l="l" t="t" r="r" b="b"/>
              <a:pathLst>
                <a:path w="3370" h="54">
                  <a:moveTo>
                    <a:pt x="0" y="0"/>
                  </a:moveTo>
                  <a:lnTo>
                    <a:pt x="797" y="0"/>
                  </a:lnTo>
                  <a:lnTo>
                    <a:pt x="853" y="22"/>
                  </a:lnTo>
                  <a:lnTo>
                    <a:pt x="906" y="54"/>
                  </a:lnTo>
                  <a:lnTo>
                    <a:pt x="23" y="54"/>
                  </a:lnTo>
                  <a:lnTo>
                    <a:pt x="0" y="0"/>
                  </a:lnTo>
                  <a:close/>
                  <a:moveTo>
                    <a:pt x="2044" y="0"/>
                  </a:moveTo>
                  <a:lnTo>
                    <a:pt x="3322" y="0"/>
                  </a:lnTo>
                  <a:lnTo>
                    <a:pt x="3370" y="54"/>
                  </a:lnTo>
                  <a:lnTo>
                    <a:pt x="2039" y="54"/>
                  </a:lnTo>
                  <a:lnTo>
                    <a:pt x="2042" y="10"/>
                  </a:lnTo>
                  <a:lnTo>
                    <a:pt x="2044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664080" y="2497320"/>
              <a:ext cx="1300320" cy="19440"/>
            </a:xfrm>
            <a:custGeom>
              <a:avLst/>
              <a:gdLst/>
              <a:ahLst/>
              <a:rect l="l" t="t" r="r" b="b"/>
              <a:pathLst>
                <a:path w="3384" h="54">
                  <a:moveTo>
                    <a:pt x="0" y="0"/>
                  </a:moveTo>
                  <a:lnTo>
                    <a:pt x="849" y="0"/>
                  </a:lnTo>
                  <a:lnTo>
                    <a:pt x="921" y="42"/>
                  </a:lnTo>
                  <a:lnTo>
                    <a:pt x="931" y="54"/>
                  </a:lnTo>
                  <a:lnTo>
                    <a:pt x="14" y="54"/>
                  </a:lnTo>
                  <a:lnTo>
                    <a:pt x="14" y="31"/>
                  </a:lnTo>
                  <a:lnTo>
                    <a:pt x="0" y="0"/>
                  </a:lnTo>
                  <a:close/>
                  <a:moveTo>
                    <a:pt x="2030" y="0"/>
                  </a:moveTo>
                  <a:lnTo>
                    <a:pt x="3335" y="0"/>
                  </a:lnTo>
                  <a:lnTo>
                    <a:pt x="3364" y="33"/>
                  </a:lnTo>
                  <a:lnTo>
                    <a:pt x="3384" y="54"/>
                  </a:lnTo>
                  <a:lnTo>
                    <a:pt x="2025" y="54"/>
                  </a:lnTo>
                  <a:lnTo>
                    <a:pt x="2030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660120" y="2508120"/>
              <a:ext cx="1314000" cy="17640"/>
            </a:xfrm>
            <a:custGeom>
              <a:avLst/>
              <a:gdLst/>
              <a:ahLst/>
              <a:rect l="l" t="t" r="r" b="b"/>
              <a:pathLst>
                <a:path w="3419" h="54">
                  <a:moveTo>
                    <a:pt x="22" y="0"/>
                  </a:moveTo>
                  <a:lnTo>
                    <a:pt x="905" y="0"/>
                  </a:lnTo>
                  <a:lnTo>
                    <a:pt x="931" y="15"/>
                  </a:lnTo>
                  <a:lnTo>
                    <a:pt x="969" y="54"/>
                  </a:lnTo>
                  <a:lnTo>
                    <a:pt x="0" y="54"/>
                  </a:lnTo>
                  <a:lnTo>
                    <a:pt x="24" y="44"/>
                  </a:lnTo>
                  <a:lnTo>
                    <a:pt x="24" y="4"/>
                  </a:lnTo>
                  <a:lnTo>
                    <a:pt x="22" y="0"/>
                  </a:lnTo>
                  <a:close/>
                  <a:moveTo>
                    <a:pt x="2038" y="0"/>
                  </a:moveTo>
                  <a:lnTo>
                    <a:pt x="3369" y="0"/>
                  </a:lnTo>
                  <a:lnTo>
                    <a:pt x="3374" y="6"/>
                  </a:lnTo>
                  <a:lnTo>
                    <a:pt x="3419" y="54"/>
                  </a:lnTo>
                  <a:lnTo>
                    <a:pt x="2034" y="54"/>
                  </a:lnTo>
                  <a:lnTo>
                    <a:pt x="2038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640680" y="2517120"/>
              <a:ext cx="1344960" cy="19080"/>
            </a:xfrm>
            <a:custGeom>
              <a:avLst/>
              <a:gdLst/>
              <a:ahLst/>
              <a:rect l="l" t="t" r="r" b="b"/>
              <a:pathLst>
                <a:path w="3497" h="53">
                  <a:moveTo>
                    <a:pt x="75" y="0"/>
                  </a:moveTo>
                  <a:lnTo>
                    <a:pt x="992" y="0"/>
                  </a:lnTo>
                  <a:lnTo>
                    <a:pt x="1047" y="53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75" y="17"/>
                  </a:lnTo>
                  <a:lnTo>
                    <a:pt x="75" y="0"/>
                  </a:lnTo>
                  <a:close/>
                  <a:moveTo>
                    <a:pt x="2086" y="0"/>
                  </a:moveTo>
                  <a:lnTo>
                    <a:pt x="3445" y="0"/>
                  </a:lnTo>
                  <a:lnTo>
                    <a:pt x="3497" y="53"/>
                  </a:lnTo>
                  <a:lnTo>
                    <a:pt x="2083" y="53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629160" y="2525760"/>
              <a:ext cx="1366200" cy="19080"/>
            </a:xfrm>
            <a:custGeom>
              <a:avLst/>
              <a:gdLst/>
              <a:ahLst/>
              <a:rect l="l" t="t" r="r" b="b"/>
              <a:pathLst>
                <a:path w="3554" h="54">
                  <a:moveTo>
                    <a:pt x="83" y="0"/>
                  </a:moveTo>
                  <a:lnTo>
                    <a:pt x="1052" y="0"/>
                  </a:lnTo>
                  <a:lnTo>
                    <a:pt x="1081" y="29"/>
                  </a:lnTo>
                  <a:lnTo>
                    <a:pt x="1098" y="54"/>
                  </a:lnTo>
                  <a:lnTo>
                    <a:pt x="0" y="54"/>
                  </a:lnTo>
                  <a:lnTo>
                    <a:pt x="15" y="37"/>
                  </a:lnTo>
                  <a:lnTo>
                    <a:pt x="63" y="9"/>
                  </a:lnTo>
                  <a:lnTo>
                    <a:pt x="83" y="0"/>
                  </a:lnTo>
                  <a:close/>
                  <a:moveTo>
                    <a:pt x="2117" y="0"/>
                  </a:moveTo>
                  <a:lnTo>
                    <a:pt x="3502" y="0"/>
                  </a:lnTo>
                  <a:lnTo>
                    <a:pt x="3554" y="54"/>
                  </a:lnTo>
                  <a:lnTo>
                    <a:pt x="2113" y="54"/>
                  </a:lnTo>
                  <a:lnTo>
                    <a:pt x="2114" y="39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619440" y="2536200"/>
              <a:ext cx="1385280" cy="19440"/>
            </a:xfrm>
            <a:custGeom>
              <a:avLst/>
              <a:gdLst/>
              <a:ahLst/>
              <a:rect l="l" t="t" r="r" b="b"/>
              <a:pathLst>
                <a:path w="3605" h="55">
                  <a:moveTo>
                    <a:pt x="58" y="0"/>
                  </a:moveTo>
                  <a:lnTo>
                    <a:pt x="1105" y="0"/>
                  </a:lnTo>
                  <a:lnTo>
                    <a:pt x="1107" y="3"/>
                  </a:lnTo>
                  <a:lnTo>
                    <a:pt x="1144" y="55"/>
                  </a:lnTo>
                  <a:lnTo>
                    <a:pt x="0" y="55"/>
                  </a:lnTo>
                  <a:lnTo>
                    <a:pt x="41" y="11"/>
                  </a:lnTo>
                  <a:lnTo>
                    <a:pt x="58" y="0"/>
                  </a:lnTo>
                  <a:close/>
                  <a:moveTo>
                    <a:pt x="2141" y="0"/>
                  </a:moveTo>
                  <a:lnTo>
                    <a:pt x="3555" y="0"/>
                  </a:lnTo>
                  <a:lnTo>
                    <a:pt x="3605" y="55"/>
                  </a:lnTo>
                  <a:lnTo>
                    <a:pt x="2136" y="55"/>
                  </a:lnTo>
                  <a:lnTo>
                    <a:pt x="2140" y="13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610080" y="2545200"/>
              <a:ext cx="1404720" cy="19440"/>
            </a:xfrm>
            <a:custGeom>
              <a:avLst/>
              <a:gdLst/>
              <a:ahLst/>
              <a:rect l="l" t="t" r="r" b="b"/>
              <a:pathLst>
                <a:path w="3652" h="53">
                  <a:moveTo>
                    <a:pt x="47" y="0"/>
                  </a:moveTo>
                  <a:lnTo>
                    <a:pt x="1145" y="0"/>
                  </a:lnTo>
                  <a:lnTo>
                    <a:pt x="1184" y="53"/>
                  </a:lnTo>
                  <a:lnTo>
                    <a:pt x="0" y="53"/>
                  </a:lnTo>
                  <a:lnTo>
                    <a:pt x="8" y="42"/>
                  </a:lnTo>
                  <a:lnTo>
                    <a:pt x="47" y="0"/>
                  </a:lnTo>
                  <a:close/>
                  <a:moveTo>
                    <a:pt x="2160" y="0"/>
                  </a:moveTo>
                  <a:lnTo>
                    <a:pt x="3601" y="0"/>
                  </a:lnTo>
                  <a:lnTo>
                    <a:pt x="3652" y="53"/>
                  </a:lnTo>
                  <a:lnTo>
                    <a:pt x="2155" y="53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606120" y="2556000"/>
              <a:ext cx="1418040" cy="17640"/>
            </a:xfrm>
            <a:custGeom>
              <a:avLst/>
              <a:gdLst/>
              <a:ahLst/>
              <a:rect l="l" t="t" r="r" b="b"/>
              <a:pathLst>
                <a:path w="3691" h="54">
                  <a:moveTo>
                    <a:pt x="35" y="0"/>
                  </a:moveTo>
                  <a:lnTo>
                    <a:pt x="1179" y="0"/>
                  </a:lnTo>
                  <a:lnTo>
                    <a:pt x="1217" y="54"/>
                  </a:lnTo>
                  <a:lnTo>
                    <a:pt x="0" y="54"/>
                  </a:lnTo>
                  <a:lnTo>
                    <a:pt x="22" y="15"/>
                  </a:lnTo>
                  <a:lnTo>
                    <a:pt x="35" y="0"/>
                  </a:lnTo>
                  <a:close/>
                  <a:moveTo>
                    <a:pt x="2171" y="0"/>
                  </a:moveTo>
                  <a:lnTo>
                    <a:pt x="3640" y="0"/>
                  </a:lnTo>
                  <a:lnTo>
                    <a:pt x="3691" y="54"/>
                  </a:lnTo>
                  <a:lnTo>
                    <a:pt x="2167" y="54"/>
                  </a:lnTo>
                  <a:lnTo>
                    <a:pt x="2171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600360" y="2564640"/>
              <a:ext cx="1433520" cy="19080"/>
            </a:xfrm>
            <a:custGeom>
              <a:avLst/>
              <a:gdLst/>
              <a:ahLst/>
              <a:rect l="l" t="t" r="r" b="b"/>
              <a:pathLst>
                <a:path w="3732" h="55">
                  <a:moveTo>
                    <a:pt x="29" y="0"/>
                  </a:moveTo>
                  <a:lnTo>
                    <a:pt x="1213" y="0"/>
                  </a:lnTo>
                  <a:lnTo>
                    <a:pt x="1251" y="55"/>
                  </a:lnTo>
                  <a:lnTo>
                    <a:pt x="0" y="55"/>
                  </a:lnTo>
                  <a:lnTo>
                    <a:pt x="29" y="0"/>
                  </a:lnTo>
                  <a:close/>
                  <a:moveTo>
                    <a:pt x="2184" y="0"/>
                  </a:moveTo>
                  <a:lnTo>
                    <a:pt x="3681" y="0"/>
                  </a:lnTo>
                  <a:lnTo>
                    <a:pt x="3732" y="55"/>
                  </a:lnTo>
                  <a:lnTo>
                    <a:pt x="2179" y="55"/>
                  </a:lnTo>
                  <a:lnTo>
                    <a:pt x="2184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596400" y="2573640"/>
              <a:ext cx="1446840" cy="19080"/>
            </a:xfrm>
            <a:custGeom>
              <a:avLst/>
              <a:gdLst/>
              <a:ahLst/>
              <a:rect l="l" t="t" r="r" b="b"/>
              <a:pathLst>
                <a:path w="3766" h="54">
                  <a:moveTo>
                    <a:pt x="23" y="0"/>
                  </a:moveTo>
                  <a:lnTo>
                    <a:pt x="1240" y="0"/>
                  </a:lnTo>
                  <a:lnTo>
                    <a:pt x="1277" y="54"/>
                  </a:lnTo>
                  <a:lnTo>
                    <a:pt x="0" y="54"/>
                  </a:lnTo>
                  <a:lnTo>
                    <a:pt x="1" y="40"/>
                  </a:lnTo>
                  <a:lnTo>
                    <a:pt x="23" y="0"/>
                  </a:lnTo>
                  <a:close/>
                  <a:moveTo>
                    <a:pt x="2190" y="0"/>
                  </a:moveTo>
                  <a:lnTo>
                    <a:pt x="3714" y="0"/>
                  </a:lnTo>
                  <a:lnTo>
                    <a:pt x="3766" y="54"/>
                  </a:lnTo>
                  <a:lnTo>
                    <a:pt x="2185" y="54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594600" y="2584080"/>
              <a:ext cx="1458360" cy="19440"/>
            </a:xfrm>
            <a:custGeom>
              <a:avLst/>
              <a:gdLst/>
              <a:ahLst/>
              <a:rect l="l" t="t" r="r" b="b"/>
              <a:pathLst>
                <a:path w="3795" h="54">
                  <a:moveTo>
                    <a:pt x="12" y="0"/>
                  </a:moveTo>
                  <a:lnTo>
                    <a:pt x="1263" y="0"/>
                  </a:lnTo>
                  <a:lnTo>
                    <a:pt x="1282" y="28"/>
                  </a:lnTo>
                  <a:lnTo>
                    <a:pt x="1294" y="54"/>
                  </a:lnTo>
                  <a:lnTo>
                    <a:pt x="0" y="54"/>
                  </a:lnTo>
                  <a:lnTo>
                    <a:pt x="5" y="13"/>
                  </a:lnTo>
                  <a:lnTo>
                    <a:pt x="12" y="0"/>
                  </a:lnTo>
                  <a:close/>
                  <a:moveTo>
                    <a:pt x="2191" y="0"/>
                  </a:moveTo>
                  <a:lnTo>
                    <a:pt x="3744" y="0"/>
                  </a:lnTo>
                  <a:lnTo>
                    <a:pt x="3795" y="54"/>
                  </a:lnTo>
                  <a:lnTo>
                    <a:pt x="2186" y="54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3594600" y="2592720"/>
              <a:ext cx="1467720" cy="19440"/>
            </a:xfrm>
            <a:custGeom>
              <a:avLst/>
              <a:gdLst/>
              <a:ahLst/>
              <a:rect l="l" t="t" r="r" b="b"/>
              <a:pathLst>
                <a:path w="3824" h="54">
                  <a:moveTo>
                    <a:pt x="7" y="0"/>
                  </a:moveTo>
                  <a:lnTo>
                    <a:pt x="1284" y="0"/>
                  </a:lnTo>
                  <a:lnTo>
                    <a:pt x="1285" y="1"/>
                  </a:lnTo>
                  <a:lnTo>
                    <a:pt x="131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92" y="0"/>
                  </a:moveTo>
                  <a:lnTo>
                    <a:pt x="3773" y="0"/>
                  </a:lnTo>
                  <a:lnTo>
                    <a:pt x="3824" y="54"/>
                  </a:lnTo>
                  <a:lnTo>
                    <a:pt x="3383" y="54"/>
                  </a:lnTo>
                  <a:lnTo>
                    <a:pt x="3375" y="45"/>
                  </a:lnTo>
                  <a:lnTo>
                    <a:pt x="3366" y="33"/>
                  </a:lnTo>
                  <a:lnTo>
                    <a:pt x="3366" y="53"/>
                  </a:lnTo>
                  <a:lnTo>
                    <a:pt x="3366" y="54"/>
                  </a:lnTo>
                  <a:lnTo>
                    <a:pt x="2186" y="54"/>
                  </a:lnTo>
                  <a:lnTo>
                    <a:pt x="2192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594600" y="2603880"/>
              <a:ext cx="1477440" cy="17640"/>
            </a:xfrm>
            <a:custGeom>
              <a:avLst/>
              <a:gdLst/>
              <a:ahLst/>
              <a:rect l="l" t="t" r="r" b="b"/>
              <a:pathLst>
                <a:path w="3849" h="54">
                  <a:moveTo>
                    <a:pt x="3" y="0"/>
                  </a:moveTo>
                  <a:lnTo>
                    <a:pt x="1297" y="0"/>
                  </a:lnTo>
                  <a:lnTo>
                    <a:pt x="1321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3" y="0"/>
                  </a:lnTo>
                  <a:close/>
                  <a:moveTo>
                    <a:pt x="2189" y="0"/>
                  </a:moveTo>
                  <a:lnTo>
                    <a:pt x="3798" y="0"/>
                  </a:lnTo>
                  <a:lnTo>
                    <a:pt x="3849" y="54"/>
                  </a:lnTo>
                  <a:lnTo>
                    <a:pt x="3413" y="54"/>
                  </a:lnTo>
                  <a:lnTo>
                    <a:pt x="3404" y="48"/>
                  </a:lnTo>
                  <a:lnTo>
                    <a:pt x="3375" y="18"/>
                  </a:lnTo>
                  <a:lnTo>
                    <a:pt x="3366" y="6"/>
                  </a:lnTo>
                  <a:lnTo>
                    <a:pt x="3366" y="26"/>
                  </a:lnTo>
                  <a:lnTo>
                    <a:pt x="3361" y="54"/>
                  </a:lnTo>
                  <a:lnTo>
                    <a:pt x="2184" y="54"/>
                  </a:lnTo>
                  <a:lnTo>
                    <a:pt x="2189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594600" y="2612520"/>
              <a:ext cx="1488600" cy="19080"/>
            </a:xfrm>
            <a:custGeom>
              <a:avLst/>
              <a:gdLst/>
              <a:ahLst/>
              <a:rect l="l" t="t" r="r" b="b"/>
              <a:pathLst>
                <a:path w="3875" h="53">
                  <a:moveTo>
                    <a:pt x="0" y="0"/>
                  </a:moveTo>
                  <a:lnTo>
                    <a:pt x="1310" y="0"/>
                  </a:lnTo>
                  <a:lnTo>
                    <a:pt x="1333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86" y="0"/>
                  </a:moveTo>
                  <a:lnTo>
                    <a:pt x="3366" y="0"/>
                  </a:lnTo>
                  <a:lnTo>
                    <a:pt x="3357" y="48"/>
                  </a:lnTo>
                  <a:lnTo>
                    <a:pt x="3356" y="53"/>
                  </a:lnTo>
                  <a:lnTo>
                    <a:pt x="2182" y="53"/>
                  </a:lnTo>
                  <a:lnTo>
                    <a:pt x="2186" y="0"/>
                  </a:lnTo>
                  <a:close/>
                  <a:moveTo>
                    <a:pt x="3383" y="0"/>
                  </a:moveTo>
                  <a:lnTo>
                    <a:pt x="3824" y="0"/>
                  </a:lnTo>
                  <a:lnTo>
                    <a:pt x="3875" y="53"/>
                  </a:lnTo>
                  <a:lnTo>
                    <a:pt x="3448" y="53"/>
                  </a:lnTo>
                  <a:lnTo>
                    <a:pt x="3404" y="21"/>
                  </a:lnTo>
                  <a:lnTo>
                    <a:pt x="3383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594600" y="2621520"/>
              <a:ext cx="1498320" cy="19080"/>
            </a:xfrm>
            <a:custGeom>
              <a:avLst/>
              <a:gdLst/>
              <a:ahLst/>
              <a:rect l="l" t="t" r="r" b="b"/>
              <a:pathLst>
                <a:path w="3900" h="54">
                  <a:moveTo>
                    <a:pt x="0" y="0"/>
                  </a:moveTo>
                  <a:lnTo>
                    <a:pt x="1321" y="0"/>
                  </a:lnTo>
                  <a:lnTo>
                    <a:pt x="134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84" y="0"/>
                  </a:moveTo>
                  <a:lnTo>
                    <a:pt x="3361" y="0"/>
                  </a:lnTo>
                  <a:lnTo>
                    <a:pt x="3357" y="21"/>
                  </a:lnTo>
                  <a:lnTo>
                    <a:pt x="3350" y="54"/>
                  </a:lnTo>
                  <a:lnTo>
                    <a:pt x="2179" y="54"/>
                  </a:lnTo>
                  <a:lnTo>
                    <a:pt x="2184" y="0"/>
                  </a:lnTo>
                  <a:close/>
                  <a:moveTo>
                    <a:pt x="3413" y="0"/>
                  </a:moveTo>
                  <a:lnTo>
                    <a:pt x="3849" y="0"/>
                  </a:lnTo>
                  <a:lnTo>
                    <a:pt x="3900" y="54"/>
                  </a:lnTo>
                  <a:lnTo>
                    <a:pt x="3480" y="54"/>
                  </a:lnTo>
                  <a:lnTo>
                    <a:pt x="3454" y="31"/>
                  </a:lnTo>
                  <a:lnTo>
                    <a:pt x="3413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594600" y="2631960"/>
              <a:ext cx="1508040" cy="19440"/>
            </a:xfrm>
            <a:custGeom>
              <a:avLst/>
              <a:gdLst/>
              <a:ahLst/>
              <a:rect l="l" t="t" r="r" b="b"/>
              <a:pathLst>
                <a:path w="3926" h="55">
                  <a:moveTo>
                    <a:pt x="0" y="0"/>
                  </a:moveTo>
                  <a:lnTo>
                    <a:pt x="1333" y="0"/>
                  </a:lnTo>
                  <a:lnTo>
                    <a:pt x="1357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2182" y="0"/>
                  </a:moveTo>
                  <a:lnTo>
                    <a:pt x="3356" y="0"/>
                  </a:lnTo>
                  <a:lnTo>
                    <a:pt x="3343" y="55"/>
                  </a:lnTo>
                  <a:lnTo>
                    <a:pt x="2177" y="55"/>
                  </a:lnTo>
                  <a:lnTo>
                    <a:pt x="2182" y="0"/>
                  </a:lnTo>
                  <a:close/>
                  <a:moveTo>
                    <a:pt x="3448" y="0"/>
                  </a:moveTo>
                  <a:lnTo>
                    <a:pt x="3875" y="0"/>
                  </a:lnTo>
                  <a:lnTo>
                    <a:pt x="3926" y="55"/>
                  </a:lnTo>
                  <a:lnTo>
                    <a:pt x="3511" y="55"/>
                  </a:lnTo>
                  <a:lnTo>
                    <a:pt x="3454" y="5"/>
                  </a:lnTo>
                  <a:lnTo>
                    <a:pt x="3448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594600" y="2640600"/>
              <a:ext cx="1517760" cy="19440"/>
            </a:xfrm>
            <a:custGeom>
              <a:avLst/>
              <a:gdLst/>
              <a:ahLst/>
              <a:rect l="l" t="t" r="r" b="b"/>
              <a:pathLst>
                <a:path w="3951" h="53">
                  <a:moveTo>
                    <a:pt x="0" y="0"/>
                  </a:moveTo>
                  <a:lnTo>
                    <a:pt x="1345" y="0"/>
                  </a:lnTo>
                  <a:lnTo>
                    <a:pt x="1365" y="44"/>
                  </a:lnTo>
                  <a:lnTo>
                    <a:pt x="1368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79" y="0"/>
                  </a:moveTo>
                  <a:lnTo>
                    <a:pt x="3350" y="0"/>
                  </a:lnTo>
                  <a:lnTo>
                    <a:pt x="3337" y="53"/>
                  </a:lnTo>
                  <a:lnTo>
                    <a:pt x="2175" y="53"/>
                  </a:lnTo>
                  <a:lnTo>
                    <a:pt x="2176" y="44"/>
                  </a:lnTo>
                  <a:lnTo>
                    <a:pt x="2179" y="0"/>
                  </a:lnTo>
                  <a:close/>
                  <a:moveTo>
                    <a:pt x="3480" y="0"/>
                  </a:moveTo>
                  <a:lnTo>
                    <a:pt x="3900" y="0"/>
                  </a:lnTo>
                  <a:lnTo>
                    <a:pt x="3951" y="53"/>
                  </a:lnTo>
                  <a:lnTo>
                    <a:pt x="3546" y="53"/>
                  </a:lnTo>
                  <a:lnTo>
                    <a:pt x="3521" y="34"/>
                  </a:lnTo>
                  <a:lnTo>
                    <a:pt x="3480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594600" y="2651400"/>
              <a:ext cx="1527480" cy="17640"/>
            </a:xfrm>
            <a:custGeom>
              <a:avLst/>
              <a:gdLst/>
              <a:ahLst/>
              <a:rect l="l" t="t" r="r" b="b"/>
              <a:pathLst>
                <a:path w="3978" h="54">
                  <a:moveTo>
                    <a:pt x="0" y="0"/>
                  </a:moveTo>
                  <a:lnTo>
                    <a:pt x="1357" y="0"/>
                  </a:lnTo>
                  <a:lnTo>
                    <a:pt x="1365" y="17"/>
                  </a:lnTo>
                  <a:lnTo>
                    <a:pt x="1379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77" y="0"/>
                  </a:moveTo>
                  <a:lnTo>
                    <a:pt x="3343" y="0"/>
                  </a:lnTo>
                  <a:lnTo>
                    <a:pt x="3337" y="27"/>
                  </a:lnTo>
                  <a:lnTo>
                    <a:pt x="3332" y="54"/>
                  </a:lnTo>
                  <a:lnTo>
                    <a:pt x="2171" y="54"/>
                  </a:lnTo>
                  <a:lnTo>
                    <a:pt x="2176" y="17"/>
                  </a:lnTo>
                  <a:lnTo>
                    <a:pt x="2177" y="0"/>
                  </a:lnTo>
                  <a:close/>
                  <a:moveTo>
                    <a:pt x="3511" y="0"/>
                  </a:moveTo>
                  <a:lnTo>
                    <a:pt x="3926" y="0"/>
                  </a:lnTo>
                  <a:lnTo>
                    <a:pt x="3978" y="54"/>
                  </a:lnTo>
                  <a:lnTo>
                    <a:pt x="3581" y="54"/>
                  </a:lnTo>
                  <a:lnTo>
                    <a:pt x="3521" y="7"/>
                  </a:lnTo>
                  <a:lnTo>
                    <a:pt x="351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592440" y="2660400"/>
              <a:ext cx="1539360" cy="19080"/>
            </a:xfrm>
            <a:custGeom>
              <a:avLst/>
              <a:gdLst/>
              <a:ahLst/>
              <a:rect l="l" t="t" r="r" b="b"/>
              <a:pathLst>
                <a:path w="4004" h="55">
                  <a:moveTo>
                    <a:pt x="1" y="0"/>
                  </a:moveTo>
                  <a:lnTo>
                    <a:pt x="1369" y="0"/>
                  </a:lnTo>
                  <a:lnTo>
                    <a:pt x="1390" y="55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1" y="0"/>
                  </a:lnTo>
                  <a:close/>
                  <a:moveTo>
                    <a:pt x="2176" y="0"/>
                  </a:moveTo>
                  <a:lnTo>
                    <a:pt x="3338" y="0"/>
                  </a:lnTo>
                  <a:lnTo>
                    <a:pt x="3338" y="1"/>
                  </a:lnTo>
                  <a:lnTo>
                    <a:pt x="3328" y="55"/>
                  </a:lnTo>
                  <a:lnTo>
                    <a:pt x="2168" y="55"/>
                  </a:lnTo>
                  <a:lnTo>
                    <a:pt x="2176" y="0"/>
                  </a:lnTo>
                  <a:close/>
                  <a:moveTo>
                    <a:pt x="3547" y="0"/>
                  </a:moveTo>
                  <a:lnTo>
                    <a:pt x="3952" y="0"/>
                  </a:lnTo>
                  <a:lnTo>
                    <a:pt x="4004" y="55"/>
                  </a:lnTo>
                  <a:lnTo>
                    <a:pt x="3615" y="55"/>
                  </a:lnTo>
                  <a:lnTo>
                    <a:pt x="3608" y="49"/>
                  </a:lnTo>
                  <a:lnTo>
                    <a:pt x="354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592440" y="2669040"/>
              <a:ext cx="1548720" cy="19080"/>
            </a:xfrm>
            <a:custGeom>
              <a:avLst/>
              <a:gdLst/>
              <a:ahLst/>
              <a:rect l="l" t="t" r="r" b="b"/>
              <a:pathLst>
                <a:path w="4031" h="54">
                  <a:moveTo>
                    <a:pt x="3" y="0"/>
                  </a:moveTo>
                  <a:lnTo>
                    <a:pt x="1382" y="0"/>
                  </a:lnTo>
                  <a:lnTo>
                    <a:pt x="1403" y="54"/>
                  </a:lnTo>
                  <a:lnTo>
                    <a:pt x="0" y="54"/>
                  </a:lnTo>
                  <a:lnTo>
                    <a:pt x="3" y="19"/>
                  </a:lnTo>
                  <a:lnTo>
                    <a:pt x="3" y="0"/>
                  </a:lnTo>
                  <a:close/>
                  <a:moveTo>
                    <a:pt x="2174" y="0"/>
                  </a:moveTo>
                  <a:lnTo>
                    <a:pt x="3335" y="0"/>
                  </a:lnTo>
                  <a:lnTo>
                    <a:pt x="3323" y="54"/>
                  </a:lnTo>
                  <a:lnTo>
                    <a:pt x="2167" y="54"/>
                  </a:lnTo>
                  <a:lnTo>
                    <a:pt x="2174" y="0"/>
                  </a:lnTo>
                  <a:close/>
                  <a:moveTo>
                    <a:pt x="3584" y="0"/>
                  </a:moveTo>
                  <a:lnTo>
                    <a:pt x="3981" y="0"/>
                  </a:lnTo>
                  <a:lnTo>
                    <a:pt x="4031" y="54"/>
                  </a:lnTo>
                  <a:lnTo>
                    <a:pt x="3649" y="54"/>
                  </a:lnTo>
                  <a:lnTo>
                    <a:pt x="3610" y="21"/>
                  </a:lnTo>
                  <a:lnTo>
                    <a:pt x="3584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590640" y="2679480"/>
              <a:ext cx="1560240" cy="19440"/>
            </a:xfrm>
            <a:custGeom>
              <a:avLst/>
              <a:gdLst/>
              <a:ahLst/>
              <a:rect l="l" t="t" r="r" b="b"/>
              <a:pathLst>
                <a:path w="4059" h="54">
                  <a:moveTo>
                    <a:pt x="5" y="0"/>
                  </a:moveTo>
                  <a:lnTo>
                    <a:pt x="1395" y="0"/>
                  </a:lnTo>
                  <a:lnTo>
                    <a:pt x="1416" y="54"/>
                  </a:lnTo>
                  <a:lnTo>
                    <a:pt x="0" y="54"/>
                  </a:lnTo>
                  <a:lnTo>
                    <a:pt x="5" y="0"/>
                  </a:lnTo>
                  <a:close/>
                  <a:moveTo>
                    <a:pt x="2173" y="0"/>
                  </a:moveTo>
                  <a:lnTo>
                    <a:pt x="3333" y="0"/>
                  </a:lnTo>
                  <a:lnTo>
                    <a:pt x="3323" y="43"/>
                  </a:lnTo>
                  <a:lnTo>
                    <a:pt x="3321" y="54"/>
                  </a:lnTo>
                  <a:lnTo>
                    <a:pt x="2167" y="54"/>
                  </a:lnTo>
                  <a:lnTo>
                    <a:pt x="2173" y="0"/>
                  </a:lnTo>
                  <a:close/>
                  <a:moveTo>
                    <a:pt x="3620" y="0"/>
                  </a:moveTo>
                  <a:lnTo>
                    <a:pt x="4009" y="0"/>
                  </a:lnTo>
                  <a:lnTo>
                    <a:pt x="4050" y="43"/>
                  </a:lnTo>
                  <a:lnTo>
                    <a:pt x="4059" y="54"/>
                  </a:lnTo>
                  <a:lnTo>
                    <a:pt x="3682" y="54"/>
                  </a:lnTo>
                  <a:lnTo>
                    <a:pt x="36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590640" y="2688480"/>
              <a:ext cx="1569600" cy="19440"/>
            </a:xfrm>
            <a:custGeom>
              <a:avLst/>
              <a:gdLst/>
              <a:ahLst/>
              <a:rect l="l" t="t" r="r" b="b"/>
              <a:pathLst>
                <a:path w="4086" h="54">
                  <a:moveTo>
                    <a:pt x="5" y="0"/>
                  </a:moveTo>
                  <a:lnTo>
                    <a:pt x="1408" y="0"/>
                  </a:lnTo>
                  <a:lnTo>
                    <a:pt x="1429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8" y="0"/>
                  </a:lnTo>
                  <a:lnTo>
                    <a:pt x="3325" y="16"/>
                  </a:lnTo>
                  <a:lnTo>
                    <a:pt x="3319" y="54"/>
                  </a:lnTo>
                  <a:lnTo>
                    <a:pt x="2166" y="54"/>
                  </a:lnTo>
                  <a:lnTo>
                    <a:pt x="2172" y="0"/>
                  </a:lnTo>
                  <a:close/>
                  <a:moveTo>
                    <a:pt x="3654" y="0"/>
                  </a:moveTo>
                  <a:lnTo>
                    <a:pt x="4036" y="0"/>
                  </a:lnTo>
                  <a:lnTo>
                    <a:pt x="4052" y="16"/>
                  </a:lnTo>
                  <a:lnTo>
                    <a:pt x="4086" y="54"/>
                  </a:lnTo>
                  <a:lnTo>
                    <a:pt x="3715" y="54"/>
                  </a:lnTo>
                  <a:lnTo>
                    <a:pt x="3714" y="53"/>
                  </a:lnTo>
                  <a:lnTo>
                    <a:pt x="3654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588840" y="2699280"/>
              <a:ext cx="1581120" cy="17640"/>
            </a:xfrm>
            <a:custGeom>
              <a:avLst/>
              <a:gdLst/>
              <a:ahLst/>
              <a:rect l="l" t="t" r="r" b="b"/>
              <a:pathLst>
                <a:path w="4113" h="54">
                  <a:moveTo>
                    <a:pt x="5" y="0"/>
                  </a:moveTo>
                  <a:lnTo>
                    <a:pt x="1421" y="0"/>
                  </a:lnTo>
                  <a:lnTo>
                    <a:pt x="1435" y="36"/>
                  </a:lnTo>
                  <a:lnTo>
                    <a:pt x="1447" y="54"/>
                  </a:lnTo>
                  <a:lnTo>
                    <a:pt x="0" y="54"/>
                  </a:lnTo>
                  <a:lnTo>
                    <a:pt x="3" y="25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6" y="0"/>
                  </a:lnTo>
                  <a:lnTo>
                    <a:pt x="3318" y="54"/>
                  </a:lnTo>
                  <a:lnTo>
                    <a:pt x="2166" y="54"/>
                  </a:lnTo>
                  <a:lnTo>
                    <a:pt x="2167" y="46"/>
                  </a:lnTo>
                  <a:lnTo>
                    <a:pt x="2172" y="0"/>
                  </a:lnTo>
                  <a:close/>
                  <a:moveTo>
                    <a:pt x="3687" y="0"/>
                  </a:moveTo>
                  <a:lnTo>
                    <a:pt x="4064" y="0"/>
                  </a:lnTo>
                  <a:lnTo>
                    <a:pt x="4113" y="54"/>
                  </a:lnTo>
                  <a:lnTo>
                    <a:pt x="3758" y="54"/>
                  </a:lnTo>
                  <a:lnTo>
                    <a:pt x="3717" y="26"/>
                  </a:lnTo>
                  <a:lnTo>
                    <a:pt x="368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588840" y="2708280"/>
              <a:ext cx="1590840" cy="19080"/>
            </a:xfrm>
            <a:custGeom>
              <a:avLst/>
              <a:gdLst/>
              <a:ahLst/>
              <a:rect l="l" t="t" r="r" b="b"/>
              <a:pathLst>
                <a:path w="4143" h="53">
                  <a:moveTo>
                    <a:pt x="7" y="0"/>
                  </a:moveTo>
                  <a:lnTo>
                    <a:pt x="1436" y="0"/>
                  </a:lnTo>
                  <a:lnTo>
                    <a:pt x="1439" y="9"/>
                  </a:lnTo>
                  <a:lnTo>
                    <a:pt x="1468" y="53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73" y="0"/>
                  </a:moveTo>
                  <a:lnTo>
                    <a:pt x="3326" y="0"/>
                  </a:lnTo>
                  <a:lnTo>
                    <a:pt x="3316" y="53"/>
                  </a:lnTo>
                  <a:lnTo>
                    <a:pt x="2169" y="53"/>
                  </a:lnTo>
                  <a:lnTo>
                    <a:pt x="2171" y="19"/>
                  </a:lnTo>
                  <a:lnTo>
                    <a:pt x="2173" y="0"/>
                  </a:lnTo>
                  <a:close/>
                  <a:moveTo>
                    <a:pt x="3722" y="0"/>
                  </a:moveTo>
                  <a:lnTo>
                    <a:pt x="4093" y="0"/>
                  </a:lnTo>
                  <a:lnTo>
                    <a:pt x="4143" y="53"/>
                  </a:lnTo>
                  <a:lnTo>
                    <a:pt x="3801" y="53"/>
                  </a:lnTo>
                  <a:lnTo>
                    <a:pt x="3722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586680" y="2716920"/>
              <a:ext cx="1602360" cy="19080"/>
            </a:xfrm>
            <a:custGeom>
              <a:avLst/>
              <a:gdLst/>
              <a:ahLst/>
              <a:rect l="l" t="t" r="r" b="b"/>
              <a:pathLst>
                <a:path w="4171" h="54">
                  <a:moveTo>
                    <a:pt x="8" y="0"/>
                  </a:moveTo>
                  <a:lnTo>
                    <a:pt x="1455" y="0"/>
                  </a:lnTo>
                  <a:lnTo>
                    <a:pt x="1490" y="54"/>
                  </a:lnTo>
                  <a:lnTo>
                    <a:pt x="0" y="54"/>
                  </a:lnTo>
                  <a:lnTo>
                    <a:pt x="8" y="0"/>
                  </a:lnTo>
                  <a:close/>
                  <a:moveTo>
                    <a:pt x="2174" y="0"/>
                  </a:moveTo>
                  <a:lnTo>
                    <a:pt x="3326" y="0"/>
                  </a:lnTo>
                  <a:lnTo>
                    <a:pt x="3316" y="54"/>
                  </a:lnTo>
                  <a:lnTo>
                    <a:pt x="2172" y="54"/>
                  </a:lnTo>
                  <a:lnTo>
                    <a:pt x="2174" y="0"/>
                  </a:lnTo>
                  <a:close/>
                  <a:moveTo>
                    <a:pt x="3766" y="0"/>
                  </a:moveTo>
                  <a:lnTo>
                    <a:pt x="4121" y="0"/>
                  </a:lnTo>
                  <a:lnTo>
                    <a:pt x="4169" y="51"/>
                  </a:lnTo>
                  <a:lnTo>
                    <a:pt x="4171" y="54"/>
                  </a:lnTo>
                  <a:lnTo>
                    <a:pt x="3845" y="54"/>
                  </a:lnTo>
                  <a:lnTo>
                    <a:pt x="3841" y="51"/>
                  </a:lnTo>
                  <a:lnTo>
                    <a:pt x="3766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585240" y="2727360"/>
              <a:ext cx="1612080" cy="19440"/>
            </a:xfrm>
            <a:custGeom>
              <a:avLst/>
              <a:gdLst/>
              <a:ahLst/>
              <a:rect l="l" t="t" r="r" b="b"/>
              <a:pathLst>
                <a:path w="4196" h="55">
                  <a:moveTo>
                    <a:pt x="7" y="0"/>
                  </a:moveTo>
                  <a:lnTo>
                    <a:pt x="1475" y="0"/>
                  </a:lnTo>
                  <a:lnTo>
                    <a:pt x="1512" y="55"/>
                  </a:lnTo>
                  <a:lnTo>
                    <a:pt x="0" y="55"/>
                  </a:lnTo>
                  <a:lnTo>
                    <a:pt x="7" y="0"/>
                  </a:lnTo>
                  <a:close/>
                  <a:moveTo>
                    <a:pt x="2176" y="0"/>
                  </a:moveTo>
                  <a:lnTo>
                    <a:pt x="3323" y="0"/>
                  </a:lnTo>
                  <a:lnTo>
                    <a:pt x="3314" y="55"/>
                  </a:lnTo>
                  <a:lnTo>
                    <a:pt x="2173" y="55"/>
                  </a:lnTo>
                  <a:lnTo>
                    <a:pt x="2176" y="0"/>
                  </a:lnTo>
                  <a:close/>
                  <a:moveTo>
                    <a:pt x="3808" y="0"/>
                  </a:moveTo>
                  <a:lnTo>
                    <a:pt x="4150" y="0"/>
                  </a:lnTo>
                  <a:lnTo>
                    <a:pt x="4172" y="25"/>
                  </a:lnTo>
                  <a:lnTo>
                    <a:pt x="4196" y="55"/>
                  </a:lnTo>
                  <a:lnTo>
                    <a:pt x="3886" y="55"/>
                  </a:lnTo>
                  <a:lnTo>
                    <a:pt x="3844" y="25"/>
                  </a:lnTo>
                  <a:lnTo>
                    <a:pt x="3808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585240" y="2736360"/>
              <a:ext cx="1621440" cy="19440"/>
            </a:xfrm>
            <a:custGeom>
              <a:avLst/>
              <a:gdLst/>
              <a:ahLst/>
              <a:rect l="l" t="t" r="r" b="b"/>
              <a:pathLst>
                <a:path w="4221" h="53">
                  <a:moveTo>
                    <a:pt x="6" y="0"/>
                  </a:moveTo>
                  <a:lnTo>
                    <a:pt x="1496" y="0"/>
                  </a:lnTo>
                  <a:lnTo>
                    <a:pt x="1528" y="46"/>
                  </a:lnTo>
                  <a:lnTo>
                    <a:pt x="1534" y="53"/>
                  </a:lnTo>
                  <a:lnTo>
                    <a:pt x="0" y="53"/>
                  </a:lnTo>
                  <a:lnTo>
                    <a:pt x="6" y="0"/>
                  </a:lnTo>
                  <a:close/>
                  <a:moveTo>
                    <a:pt x="2178" y="0"/>
                  </a:moveTo>
                  <a:lnTo>
                    <a:pt x="3322" y="0"/>
                  </a:lnTo>
                  <a:lnTo>
                    <a:pt x="3313" y="53"/>
                  </a:lnTo>
                  <a:lnTo>
                    <a:pt x="2175" y="53"/>
                  </a:lnTo>
                  <a:lnTo>
                    <a:pt x="2178" y="0"/>
                  </a:lnTo>
                  <a:close/>
                  <a:moveTo>
                    <a:pt x="3851" y="0"/>
                  </a:moveTo>
                  <a:lnTo>
                    <a:pt x="4177" y="0"/>
                  </a:lnTo>
                  <a:lnTo>
                    <a:pt x="4221" y="53"/>
                  </a:lnTo>
                  <a:lnTo>
                    <a:pt x="3926" y="53"/>
                  </a:lnTo>
                  <a:lnTo>
                    <a:pt x="385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582720" y="2747160"/>
              <a:ext cx="1631160" cy="17640"/>
            </a:xfrm>
            <a:custGeom>
              <a:avLst/>
              <a:gdLst/>
              <a:ahLst/>
              <a:rect l="l" t="t" r="r" b="b"/>
              <a:pathLst>
                <a:path w="4246" h="54">
                  <a:moveTo>
                    <a:pt x="6" y="0"/>
                  </a:moveTo>
                  <a:lnTo>
                    <a:pt x="1518" y="0"/>
                  </a:lnTo>
                  <a:lnTo>
                    <a:pt x="1531" y="19"/>
                  </a:lnTo>
                  <a:lnTo>
                    <a:pt x="1558" y="54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6" y="0"/>
                  </a:lnTo>
                  <a:close/>
                  <a:moveTo>
                    <a:pt x="2179" y="0"/>
                  </a:moveTo>
                  <a:lnTo>
                    <a:pt x="3320" y="0"/>
                  </a:lnTo>
                  <a:lnTo>
                    <a:pt x="3310" y="54"/>
                  </a:lnTo>
                  <a:lnTo>
                    <a:pt x="2498" y="54"/>
                  </a:lnTo>
                  <a:lnTo>
                    <a:pt x="2496" y="49"/>
                  </a:lnTo>
                  <a:lnTo>
                    <a:pt x="2496" y="54"/>
                  </a:lnTo>
                  <a:lnTo>
                    <a:pt x="2175" y="54"/>
                  </a:lnTo>
                  <a:lnTo>
                    <a:pt x="2175" y="49"/>
                  </a:lnTo>
                  <a:lnTo>
                    <a:pt x="2179" y="0"/>
                  </a:lnTo>
                  <a:close/>
                  <a:moveTo>
                    <a:pt x="3892" y="0"/>
                  </a:moveTo>
                  <a:lnTo>
                    <a:pt x="4202" y="0"/>
                  </a:lnTo>
                  <a:lnTo>
                    <a:pt x="4246" y="54"/>
                  </a:lnTo>
                  <a:lnTo>
                    <a:pt x="3967" y="54"/>
                  </a:lnTo>
                  <a:lnTo>
                    <a:pt x="3892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582720" y="2755800"/>
              <a:ext cx="1640880" cy="19080"/>
            </a:xfrm>
            <a:custGeom>
              <a:avLst/>
              <a:gdLst/>
              <a:ahLst/>
              <a:rect l="l" t="t" r="r" b="b"/>
              <a:pathLst>
                <a:path w="4268" h="55">
                  <a:moveTo>
                    <a:pt x="3" y="0"/>
                  </a:moveTo>
                  <a:lnTo>
                    <a:pt x="1537" y="0"/>
                  </a:lnTo>
                  <a:lnTo>
                    <a:pt x="1580" y="55"/>
                  </a:lnTo>
                  <a:lnTo>
                    <a:pt x="3" y="55"/>
                  </a:lnTo>
                  <a:lnTo>
                    <a:pt x="0" y="21"/>
                  </a:lnTo>
                  <a:lnTo>
                    <a:pt x="3" y="0"/>
                  </a:lnTo>
                  <a:close/>
                  <a:moveTo>
                    <a:pt x="2178" y="0"/>
                  </a:moveTo>
                  <a:lnTo>
                    <a:pt x="3316" y="0"/>
                  </a:lnTo>
                  <a:lnTo>
                    <a:pt x="3306" y="55"/>
                  </a:lnTo>
                  <a:lnTo>
                    <a:pt x="2513" y="55"/>
                  </a:lnTo>
                  <a:lnTo>
                    <a:pt x="2503" y="39"/>
                  </a:lnTo>
                  <a:lnTo>
                    <a:pt x="2496" y="23"/>
                  </a:lnTo>
                  <a:lnTo>
                    <a:pt x="2496" y="31"/>
                  </a:lnTo>
                  <a:lnTo>
                    <a:pt x="2489" y="55"/>
                  </a:lnTo>
                  <a:lnTo>
                    <a:pt x="2172" y="55"/>
                  </a:lnTo>
                  <a:lnTo>
                    <a:pt x="2175" y="23"/>
                  </a:lnTo>
                  <a:lnTo>
                    <a:pt x="2178" y="0"/>
                  </a:lnTo>
                  <a:close/>
                  <a:moveTo>
                    <a:pt x="3929" y="0"/>
                  </a:moveTo>
                  <a:lnTo>
                    <a:pt x="4224" y="0"/>
                  </a:lnTo>
                  <a:lnTo>
                    <a:pt x="4265" y="51"/>
                  </a:lnTo>
                  <a:lnTo>
                    <a:pt x="4268" y="55"/>
                  </a:lnTo>
                  <a:lnTo>
                    <a:pt x="3993" y="55"/>
                  </a:lnTo>
                  <a:lnTo>
                    <a:pt x="3982" y="39"/>
                  </a:lnTo>
                  <a:lnTo>
                    <a:pt x="3929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582720" y="2764800"/>
              <a:ext cx="1648800" cy="19080"/>
            </a:xfrm>
            <a:custGeom>
              <a:avLst/>
              <a:gdLst/>
              <a:ahLst/>
              <a:rect l="l" t="t" r="r" b="b"/>
              <a:pathLst>
                <a:path w="4289" h="53">
                  <a:moveTo>
                    <a:pt x="0" y="0"/>
                  </a:moveTo>
                  <a:lnTo>
                    <a:pt x="1557" y="0"/>
                  </a:lnTo>
                  <a:lnTo>
                    <a:pt x="1601" y="53"/>
                  </a:lnTo>
                  <a:lnTo>
                    <a:pt x="5" y="53"/>
                  </a:lnTo>
                  <a:lnTo>
                    <a:pt x="0" y="0"/>
                  </a:lnTo>
                  <a:close/>
                  <a:moveTo>
                    <a:pt x="2174" y="0"/>
                  </a:moveTo>
                  <a:lnTo>
                    <a:pt x="2495" y="0"/>
                  </a:lnTo>
                  <a:lnTo>
                    <a:pt x="2495" y="3"/>
                  </a:lnTo>
                  <a:lnTo>
                    <a:pt x="2484" y="41"/>
                  </a:lnTo>
                  <a:lnTo>
                    <a:pt x="2482" y="53"/>
                  </a:lnTo>
                  <a:lnTo>
                    <a:pt x="2168" y="53"/>
                  </a:lnTo>
                  <a:lnTo>
                    <a:pt x="2174" y="0"/>
                  </a:lnTo>
                  <a:close/>
                  <a:moveTo>
                    <a:pt x="2497" y="0"/>
                  </a:moveTo>
                  <a:lnTo>
                    <a:pt x="3309" y="0"/>
                  </a:lnTo>
                  <a:lnTo>
                    <a:pt x="3301" y="53"/>
                  </a:lnTo>
                  <a:lnTo>
                    <a:pt x="2528" y="53"/>
                  </a:lnTo>
                  <a:lnTo>
                    <a:pt x="2502" y="11"/>
                  </a:lnTo>
                  <a:lnTo>
                    <a:pt x="2497" y="0"/>
                  </a:lnTo>
                  <a:close/>
                  <a:moveTo>
                    <a:pt x="3966" y="0"/>
                  </a:moveTo>
                  <a:lnTo>
                    <a:pt x="4245" y="0"/>
                  </a:lnTo>
                  <a:lnTo>
                    <a:pt x="4264" y="23"/>
                  </a:lnTo>
                  <a:lnTo>
                    <a:pt x="4289" y="53"/>
                  </a:lnTo>
                  <a:lnTo>
                    <a:pt x="4011" y="53"/>
                  </a:lnTo>
                  <a:lnTo>
                    <a:pt x="3981" y="11"/>
                  </a:lnTo>
                  <a:lnTo>
                    <a:pt x="396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585240" y="2775240"/>
              <a:ext cx="1654200" cy="19440"/>
            </a:xfrm>
            <a:custGeom>
              <a:avLst/>
              <a:gdLst/>
              <a:ahLst/>
              <a:rect l="l" t="t" r="r" b="b"/>
              <a:pathLst>
                <a:path w="4309" h="54">
                  <a:moveTo>
                    <a:pt x="0" y="0"/>
                  </a:moveTo>
                  <a:lnTo>
                    <a:pt x="1577" y="0"/>
                  </a:lnTo>
                  <a:lnTo>
                    <a:pt x="1620" y="54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0" y="0"/>
                  </a:lnTo>
                  <a:close/>
                  <a:moveTo>
                    <a:pt x="2169" y="0"/>
                  </a:moveTo>
                  <a:lnTo>
                    <a:pt x="2486" y="0"/>
                  </a:lnTo>
                  <a:lnTo>
                    <a:pt x="2482" y="14"/>
                  </a:lnTo>
                  <a:lnTo>
                    <a:pt x="2475" y="54"/>
                  </a:lnTo>
                  <a:lnTo>
                    <a:pt x="2163" y="54"/>
                  </a:lnTo>
                  <a:lnTo>
                    <a:pt x="2169" y="0"/>
                  </a:lnTo>
                  <a:close/>
                  <a:moveTo>
                    <a:pt x="2510" y="0"/>
                  </a:moveTo>
                  <a:lnTo>
                    <a:pt x="3303" y="0"/>
                  </a:lnTo>
                  <a:lnTo>
                    <a:pt x="3294" y="54"/>
                  </a:lnTo>
                  <a:lnTo>
                    <a:pt x="2538" y="54"/>
                  </a:lnTo>
                  <a:lnTo>
                    <a:pt x="2529" y="34"/>
                  </a:lnTo>
                  <a:lnTo>
                    <a:pt x="2510" y="0"/>
                  </a:lnTo>
                  <a:close/>
                  <a:moveTo>
                    <a:pt x="3990" y="0"/>
                  </a:moveTo>
                  <a:lnTo>
                    <a:pt x="4265" y="0"/>
                  </a:lnTo>
                  <a:lnTo>
                    <a:pt x="4309" y="54"/>
                  </a:lnTo>
                  <a:lnTo>
                    <a:pt x="4027" y="54"/>
                  </a:lnTo>
                  <a:lnTo>
                    <a:pt x="3990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585240" y="2783880"/>
              <a:ext cx="1663920" cy="19440"/>
            </a:xfrm>
            <a:custGeom>
              <a:avLst/>
              <a:gdLst/>
              <a:ahLst/>
              <a:rect l="l" t="t" r="r" b="b"/>
              <a:pathLst>
                <a:path w="4328" h="55">
                  <a:moveTo>
                    <a:pt x="0" y="0"/>
                  </a:moveTo>
                  <a:lnTo>
                    <a:pt x="1596" y="0"/>
                  </a:lnTo>
                  <a:lnTo>
                    <a:pt x="1639" y="55"/>
                  </a:lnTo>
                  <a:lnTo>
                    <a:pt x="9" y="55"/>
                  </a:lnTo>
                  <a:lnTo>
                    <a:pt x="2" y="26"/>
                  </a:lnTo>
                  <a:lnTo>
                    <a:pt x="0" y="0"/>
                  </a:lnTo>
                  <a:close/>
                  <a:moveTo>
                    <a:pt x="2163" y="0"/>
                  </a:moveTo>
                  <a:lnTo>
                    <a:pt x="2477" y="0"/>
                  </a:lnTo>
                  <a:lnTo>
                    <a:pt x="2468" y="55"/>
                  </a:lnTo>
                  <a:lnTo>
                    <a:pt x="2160" y="55"/>
                  </a:lnTo>
                  <a:lnTo>
                    <a:pt x="2160" y="29"/>
                  </a:lnTo>
                  <a:lnTo>
                    <a:pt x="2163" y="0"/>
                  </a:lnTo>
                  <a:close/>
                  <a:moveTo>
                    <a:pt x="2523" y="0"/>
                  </a:moveTo>
                  <a:lnTo>
                    <a:pt x="3296" y="0"/>
                  </a:lnTo>
                  <a:lnTo>
                    <a:pt x="3287" y="55"/>
                  </a:lnTo>
                  <a:lnTo>
                    <a:pt x="2546" y="55"/>
                  </a:lnTo>
                  <a:lnTo>
                    <a:pt x="2526" y="8"/>
                  </a:lnTo>
                  <a:lnTo>
                    <a:pt x="2523" y="0"/>
                  </a:lnTo>
                  <a:close/>
                  <a:moveTo>
                    <a:pt x="4006" y="0"/>
                  </a:moveTo>
                  <a:lnTo>
                    <a:pt x="4284" y="0"/>
                  </a:lnTo>
                  <a:lnTo>
                    <a:pt x="4328" y="55"/>
                  </a:lnTo>
                  <a:lnTo>
                    <a:pt x="4043" y="55"/>
                  </a:lnTo>
                  <a:lnTo>
                    <a:pt x="400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586680" y="2794680"/>
              <a:ext cx="1669680" cy="17640"/>
            </a:xfrm>
            <a:custGeom>
              <a:avLst/>
              <a:gdLst/>
              <a:ahLst/>
              <a:rect l="l" t="t" r="r" b="b"/>
              <a:pathLst>
                <a:path w="4345" h="54">
                  <a:moveTo>
                    <a:pt x="0" y="0"/>
                  </a:moveTo>
                  <a:lnTo>
                    <a:pt x="1615" y="0"/>
                  </a:lnTo>
                  <a:lnTo>
                    <a:pt x="1653" y="46"/>
                  </a:lnTo>
                  <a:lnTo>
                    <a:pt x="1658" y="54"/>
                  </a:lnTo>
                  <a:lnTo>
                    <a:pt x="13" y="54"/>
                  </a:lnTo>
                  <a:lnTo>
                    <a:pt x="0" y="0"/>
                  </a:lnTo>
                  <a:close/>
                  <a:moveTo>
                    <a:pt x="2158" y="0"/>
                  </a:moveTo>
                  <a:lnTo>
                    <a:pt x="2470" y="0"/>
                  </a:lnTo>
                  <a:lnTo>
                    <a:pt x="2460" y="54"/>
                  </a:lnTo>
                  <a:lnTo>
                    <a:pt x="2143" y="54"/>
                  </a:lnTo>
                  <a:lnTo>
                    <a:pt x="2146" y="46"/>
                  </a:lnTo>
                  <a:lnTo>
                    <a:pt x="2158" y="38"/>
                  </a:lnTo>
                  <a:lnTo>
                    <a:pt x="2158" y="1"/>
                  </a:lnTo>
                  <a:lnTo>
                    <a:pt x="2158" y="0"/>
                  </a:lnTo>
                  <a:close/>
                  <a:moveTo>
                    <a:pt x="2533" y="0"/>
                  </a:moveTo>
                  <a:lnTo>
                    <a:pt x="3289" y="0"/>
                  </a:lnTo>
                  <a:lnTo>
                    <a:pt x="3279" y="54"/>
                  </a:lnTo>
                  <a:lnTo>
                    <a:pt x="2557" y="54"/>
                  </a:lnTo>
                  <a:lnTo>
                    <a:pt x="2553" y="46"/>
                  </a:lnTo>
                  <a:lnTo>
                    <a:pt x="2533" y="0"/>
                  </a:lnTo>
                  <a:close/>
                  <a:moveTo>
                    <a:pt x="4022" y="0"/>
                  </a:moveTo>
                  <a:lnTo>
                    <a:pt x="4304" y="0"/>
                  </a:lnTo>
                  <a:lnTo>
                    <a:pt x="4336" y="38"/>
                  </a:lnTo>
                  <a:lnTo>
                    <a:pt x="4345" y="54"/>
                  </a:lnTo>
                  <a:lnTo>
                    <a:pt x="4058" y="54"/>
                  </a:lnTo>
                  <a:lnTo>
                    <a:pt x="4053" y="46"/>
                  </a:lnTo>
                  <a:lnTo>
                    <a:pt x="4022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588840" y="2803680"/>
              <a:ext cx="1673640" cy="19080"/>
            </a:xfrm>
            <a:custGeom>
              <a:avLst/>
              <a:gdLst/>
              <a:ahLst/>
              <a:rect l="l" t="t" r="r" b="b"/>
              <a:pathLst>
                <a:path w="4356" h="53">
                  <a:moveTo>
                    <a:pt x="0" y="0"/>
                  </a:moveTo>
                  <a:lnTo>
                    <a:pt x="1630" y="0"/>
                  </a:lnTo>
                  <a:lnTo>
                    <a:pt x="1646" y="19"/>
                  </a:lnTo>
                  <a:lnTo>
                    <a:pt x="1669" y="53"/>
                  </a:lnTo>
                  <a:lnTo>
                    <a:pt x="1206" y="53"/>
                  </a:lnTo>
                  <a:lnTo>
                    <a:pt x="1185" y="39"/>
                  </a:lnTo>
                  <a:lnTo>
                    <a:pt x="1177" y="31"/>
                  </a:lnTo>
                  <a:lnTo>
                    <a:pt x="1177" y="39"/>
                  </a:lnTo>
                  <a:lnTo>
                    <a:pt x="1168" y="53"/>
                  </a:lnTo>
                  <a:lnTo>
                    <a:pt x="12" y="53"/>
                  </a:lnTo>
                  <a:lnTo>
                    <a:pt x="0" y="0"/>
                  </a:lnTo>
                  <a:close/>
                  <a:moveTo>
                    <a:pt x="2151" y="0"/>
                  </a:moveTo>
                  <a:lnTo>
                    <a:pt x="2459" y="0"/>
                  </a:lnTo>
                  <a:lnTo>
                    <a:pt x="2451" y="41"/>
                  </a:lnTo>
                  <a:lnTo>
                    <a:pt x="2447" y="53"/>
                  </a:lnTo>
                  <a:lnTo>
                    <a:pt x="2118" y="53"/>
                  </a:lnTo>
                  <a:lnTo>
                    <a:pt x="2131" y="41"/>
                  </a:lnTo>
                  <a:lnTo>
                    <a:pt x="2139" y="19"/>
                  </a:lnTo>
                  <a:lnTo>
                    <a:pt x="2151" y="11"/>
                  </a:lnTo>
                  <a:lnTo>
                    <a:pt x="2151" y="0"/>
                  </a:lnTo>
                  <a:close/>
                  <a:moveTo>
                    <a:pt x="2537" y="0"/>
                  </a:moveTo>
                  <a:lnTo>
                    <a:pt x="3278" y="0"/>
                  </a:lnTo>
                  <a:lnTo>
                    <a:pt x="3268" y="53"/>
                  </a:lnTo>
                  <a:lnTo>
                    <a:pt x="2565" y="53"/>
                  </a:lnTo>
                  <a:lnTo>
                    <a:pt x="2546" y="19"/>
                  </a:lnTo>
                  <a:lnTo>
                    <a:pt x="2537" y="0"/>
                  </a:lnTo>
                  <a:close/>
                  <a:moveTo>
                    <a:pt x="4034" y="0"/>
                  </a:moveTo>
                  <a:lnTo>
                    <a:pt x="4319" y="0"/>
                  </a:lnTo>
                  <a:lnTo>
                    <a:pt x="4329" y="11"/>
                  </a:lnTo>
                  <a:lnTo>
                    <a:pt x="4356" y="53"/>
                  </a:lnTo>
                  <a:lnTo>
                    <a:pt x="4072" y="53"/>
                  </a:lnTo>
                  <a:lnTo>
                    <a:pt x="4046" y="19"/>
                  </a:lnTo>
                  <a:lnTo>
                    <a:pt x="4034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590640" y="2812320"/>
              <a:ext cx="1679040" cy="19440"/>
            </a:xfrm>
            <a:custGeom>
              <a:avLst/>
              <a:gdLst/>
              <a:ahLst/>
              <a:rect l="l" t="t" r="r" b="b"/>
              <a:pathLst>
                <a:path w="4368" h="54">
                  <a:moveTo>
                    <a:pt x="0" y="0"/>
                  </a:moveTo>
                  <a:lnTo>
                    <a:pt x="1645" y="0"/>
                  </a:lnTo>
                  <a:lnTo>
                    <a:pt x="1682" y="54"/>
                  </a:lnTo>
                  <a:lnTo>
                    <a:pt x="1234" y="54"/>
                  </a:lnTo>
                  <a:lnTo>
                    <a:pt x="1218" y="40"/>
                  </a:lnTo>
                  <a:lnTo>
                    <a:pt x="1179" y="12"/>
                  </a:lnTo>
                  <a:lnTo>
                    <a:pt x="1171" y="4"/>
                  </a:lnTo>
                  <a:lnTo>
                    <a:pt x="1171" y="12"/>
                  </a:lnTo>
                  <a:lnTo>
                    <a:pt x="1159" y="32"/>
                  </a:lnTo>
                  <a:lnTo>
                    <a:pt x="1156" y="54"/>
                  </a:lnTo>
                  <a:lnTo>
                    <a:pt x="14" y="54"/>
                  </a:lnTo>
                  <a:lnTo>
                    <a:pt x="7" y="32"/>
                  </a:lnTo>
                  <a:lnTo>
                    <a:pt x="0" y="0"/>
                  </a:lnTo>
                  <a:close/>
                  <a:moveTo>
                    <a:pt x="2130" y="0"/>
                  </a:moveTo>
                  <a:lnTo>
                    <a:pt x="2447" y="0"/>
                  </a:lnTo>
                  <a:lnTo>
                    <a:pt x="2445" y="14"/>
                  </a:lnTo>
                  <a:lnTo>
                    <a:pt x="2434" y="54"/>
                  </a:lnTo>
                  <a:lnTo>
                    <a:pt x="2084" y="54"/>
                  </a:lnTo>
                  <a:lnTo>
                    <a:pt x="2125" y="14"/>
                  </a:lnTo>
                  <a:lnTo>
                    <a:pt x="2130" y="0"/>
                  </a:lnTo>
                  <a:close/>
                  <a:moveTo>
                    <a:pt x="2544" y="0"/>
                  </a:moveTo>
                  <a:lnTo>
                    <a:pt x="3266" y="0"/>
                  </a:lnTo>
                  <a:lnTo>
                    <a:pt x="3257" y="54"/>
                  </a:lnTo>
                  <a:lnTo>
                    <a:pt x="2574" y="54"/>
                  </a:lnTo>
                  <a:lnTo>
                    <a:pt x="2544" y="0"/>
                  </a:lnTo>
                  <a:close/>
                  <a:moveTo>
                    <a:pt x="4045" y="0"/>
                  </a:moveTo>
                  <a:lnTo>
                    <a:pt x="4332" y="0"/>
                  </a:lnTo>
                  <a:lnTo>
                    <a:pt x="4368" y="54"/>
                  </a:lnTo>
                  <a:lnTo>
                    <a:pt x="4086" y="54"/>
                  </a:lnTo>
                  <a:lnTo>
                    <a:pt x="4045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592440" y="2822760"/>
              <a:ext cx="1683000" cy="19440"/>
            </a:xfrm>
            <a:custGeom>
              <a:avLst/>
              <a:gdLst/>
              <a:ahLst/>
              <a:rect l="l" t="t" r="r" b="b"/>
              <a:pathLst>
                <a:path w="4379" h="55">
                  <a:moveTo>
                    <a:pt x="0" y="0"/>
                  </a:moveTo>
                  <a:lnTo>
                    <a:pt x="1156" y="0"/>
                  </a:lnTo>
                  <a:lnTo>
                    <a:pt x="1153" y="6"/>
                  </a:lnTo>
                  <a:lnTo>
                    <a:pt x="1146" y="55"/>
                  </a:lnTo>
                  <a:lnTo>
                    <a:pt x="15" y="55"/>
                  </a:lnTo>
                  <a:lnTo>
                    <a:pt x="1" y="6"/>
                  </a:lnTo>
                  <a:lnTo>
                    <a:pt x="0" y="0"/>
                  </a:lnTo>
                  <a:close/>
                  <a:moveTo>
                    <a:pt x="1194" y="0"/>
                  </a:moveTo>
                  <a:lnTo>
                    <a:pt x="1657" y="0"/>
                  </a:lnTo>
                  <a:lnTo>
                    <a:pt x="1694" y="55"/>
                  </a:lnTo>
                  <a:lnTo>
                    <a:pt x="1257" y="55"/>
                  </a:lnTo>
                  <a:lnTo>
                    <a:pt x="1212" y="14"/>
                  </a:lnTo>
                  <a:lnTo>
                    <a:pt x="1194" y="0"/>
                  </a:lnTo>
                  <a:close/>
                  <a:moveTo>
                    <a:pt x="2106" y="0"/>
                  </a:moveTo>
                  <a:lnTo>
                    <a:pt x="2435" y="0"/>
                  </a:lnTo>
                  <a:lnTo>
                    <a:pt x="2420" y="55"/>
                  </a:lnTo>
                  <a:lnTo>
                    <a:pt x="2051" y="55"/>
                  </a:lnTo>
                  <a:lnTo>
                    <a:pt x="2052" y="53"/>
                  </a:lnTo>
                  <a:lnTo>
                    <a:pt x="2106" y="0"/>
                  </a:lnTo>
                  <a:close/>
                  <a:moveTo>
                    <a:pt x="2553" y="0"/>
                  </a:moveTo>
                  <a:lnTo>
                    <a:pt x="3256" y="0"/>
                  </a:lnTo>
                  <a:lnTo>
                    <a:pt x="3247" y="55"/>
                  </a:lnTo>
                  <a:lnTo>
                    <a:pt x="2583" y="55"/>
                  </a:lnTo>
                  <a:lnTo>
                    <a:pt x="2583" y="53"/>
                  </a:lnTo>
                  <a:lnTo>
                    <a:pt x="2553" y="0"/>
                  </a:lnTo>
                  <a:close/>
                  <a:moveTo>
                    <a:pt x="4060" y="0"/>
                  </a:moveTo>
                  <a:lnTo>
                    <a:pt x="4344" y="0"/>
                  </a:lnTo>
                  <a:lnTo>
                    <a:pt x="4373" y="46"/>
                  </a:lnTo>
                  <a:lnTo>
                    <a:pt x="4379" y="55"/>
                  </a:lnTo>
                  <a:lnTo>
                    <a:pt x="4100" y="55"/>
                  </a:lnTo>
                  <a:lnTo>
                    <a:pt x="406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596400" y="2832120"/>
              <a:ext cx="1685160" cy="19080"/>
            </a:xfrm>
            <a:custGeom>
              <a:avLst/>
              <a:gdLst/>
              <a:ahLst/>
              <a:rect l="l" t="t" r="r" b="b"/>
              <a:pathLst>
                <a:path w="4386" h="53">
                  <a:moveTo>
                    <a:pt x="0" y="0"/>
                  </a:moveTo>
                  <a:lnTo>
                    <a:pt x="1142" y="0"/>
                  </a:lnTo>
                  <a:lnTo>
                    <a:pt x="1135" y="53"/>
                  </a:lnTo>
                  <a:lnTo>
                    <a:pt x="20" y="53"/>
                  </a:lnTo>
                  <a:lnTo>
                    <a:pt x="12" y="45"/>
                  </a:lnTo>
                  <a:lnTo>
                    <a:pt x="0" y="0"/>
                  </a:lnTo>
                  <a:close/>
                  <a:moveTo>
                    <a:pt x="1220" y="0"/>
                  </a:moveTo>
                  <a:lnTo>
                    <a:pt x="1668" y="0"/>
                  </a:lnTo>
                  <a:lnTo>
                    <a:pt x="1704" y="53"/>
                  </a:lnTo>
                  <a:lnTo>
                    <a:pt x="1278" y="53"/>
                  </a:lnTo>
                  <a:lnTo>
                    <a:pt x="1220" y="0"/>
                  </a:lnTo>
                  <a:close/>
                  <a:moveTo>
                    <a:pt x="2070" y="0"/>
                  </a:moveTo>
                  <a:lnTo>
                    <a:pt x="2420" y="0"/>
                  </a:lnTo>
                  <a:lnTo>
                    <a:pt x="2405" y="53"/>
                  </a:lnTo>
                  <a:lnTo>
                    <a:pt x="2016" y="53"/>
                  </a:lnTo>
                  <a:lnTo>
                    <a:pt x="2044" y="25"/>
                  </a:lnTo>
                  <a:lnTo>
                    <a:pt x="2070" y="0"/>
                  </a:lnTo>
                  <a:close/>
                  <a:moveTo>
                    <a:pt x="2560" y="0"/>
                  </a:moveTo>
                  <a:lnTo>
                    <a:pt x="3243" y="0"/>
                  </a:lnTo>
                  <a:lnTo>
                    <a:pt x="3235" y="53"/>
                  </a:lnTo>
                  <a:lnTo>
                    <a:pt x="2586" y="53"/>
                  </a:lnTo>
                  <a:lnTo>
                    <a:pt x="2575" y="25"/>
                  </a:lnTo>
                  <a:lnTo>
                    <a:pt x="2560" y="0"/>
                  </a:lnTo>
                  <a:close/>
                  <a:moveTo>
                    <a:pt x="4072" y="0"/>
                  </a:moveTo>
                  <a:lnTo>
                    <a:pt x="4354" y="0"/>
                  </a:lnTo>
                  <a:lnTo>
                    <a:pt x="4365" y="18"/>
                  </a:lnTo>
                  <a:lnTo>
                    <a:pt x="4386" y="53"/>
                  </a:lnTo>
                  <a:lnTo>
                    <a:pt x="4112" y="53"/>
                  </a:lnTo>
                  <a:lnTo>
                    <a:pt x="4072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598560" y="2842560"/>
              <a:ext cx="1688760" cy="1764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131" y="0"/>
                  </a:lnTo>
                  <a:lnTo>
                    <a:pt x="1126" y="38"/>
                  </a:lnTo>
                  <a:lnTo>
                    <a:pt x="1122" y="54"/>
                  </a:lnTo>
                  <a:lnTo>
                    <a:pt x="35" y="54"/>
                  </a:lnTo>
                  <a:lnTo>
                    <a:pt x="5" y="18"/>
                  </a:lnTo>
                  <a:lnTo>
                    <a:pt x="0" y="0"/>
                  </a:lnTo>
                  <a:close/>
                  <a:moveTo>
                    <a:pt x="1242" y="0"/>
                  </a:moveTo>
                  <a:lnTo>
                    <a:pt x="1679" y="0"/>
                  </a:lnTo>
                  <a:lnTo>
                    <a:pt x="1716" y="54"/>
                  </a:lnTo>
                  <a:lnTo>
                    <a:pt x="1299" y="54"/>
                  </a:lnTo>
                  <a:lnTo>
                    <a:pt x="1284" y="38"/>
                  </a:lnTo>
                  <a:lnTo>
                    <a:pt x="1242" y="0"/>
                  </a:lnTo>
                  <a:close/>
                  <a:moveTo>
                    <a:pt x="2036" y="0"/>
                  </a:moveTo>
                  <a:lnTo>
                    <a:pt x="2405" y="0"/>
                  </a:lnTo>
                  <a:lnTo>
                    <a:pt x="2394" y="40"/>
                  </a:lnTo>
                  <a:lnTo>
                    <a:pt x="2392" y="54"/>
                  </a:lnTo>
                  <a:lnTo>
                    <a:pt x="1981" y="54"/>
                  </a:lnTo>
                  <a:lnTo>
                    <a:pt x="2036" y="0"/>
                  </a:lnTo>
                  <a:close/>
                  <a:moveTo>
                    <a:pt x="2568" y="0"/>
                  </a:moveTo>
                  <a:lnTo>
                    <a:pt x="3232" y="0"/>
                  </a:lnTo>
                  <a:lnTo>
                    <a:pt x="3222" y="54"/>
                  </a:lnTo>
                  <a:lnTo>
                    <a:pt x="2589" y="54"/>
                  </a:lnTo>
                  <a:lnTo>
                    <a:pt x="2568" y="0"/>
                  </a:lnTo>
                  <a:close/>
                  <a:moveTo>
                    <a:pt x="4085" y="0"/>
                  </a:moveTo>
                  <a:lnTo>
                    <a:pt x="4364" y="0"/>
                  </a:lnTo>
                  <a:lnTo>
                    <a:pt x="4394" y="54"/>
                  </a:lnTo>
                  <a:lnTo>
                    <a:pt x="4126" y="54"/>
                  </a:lnTo>
                  <a:lnTo>
                    <a:pt x="4106" y="27"/>
                  </a:lnTo>
                  <a:lnTo>
                    <a:pt x="4085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604320" y="2851560"/>
              <a:ext cx="1688760" cy="19440"/>
            </a:xfrm>
            <a:custGeom>
              <a:avLst/>
              <a:gdLst/>
              <a:ahLst/>
              <a:rect l="l" t="t" r="r" b="b"/>
              <a:pathLst>
                <a:path w="4397" h="55">
                  <a:moveTo>
                    <a:pt x="0" y="0"/>
                  </a:moveTo>
                  <a:lnTo>
                    <a:pt x="1115" y="0"/>
                  </a:lnTo>
                  <a:lnTo>
                    <a:pt x="1113" y="12"/>
                  </a:lnTo>
                  <a:lnTo>
                    <a:pt x="1103" y="55"/>
                  </a:lnTo>
                  <a:lnTo>
                    <a:pt x="33" y="55"/>
                  </a:lnTo>
                  <a:lnTo>
                    <a:pt x="32" y="43"/>
                  </a:lnTo>
                  <a:lnTo>
                    <a:pt x="25" y="31"/>
                  </a:lnTo>
                  <a:lnTo>
                    <a:pt x="0" y="0"/>
                  </a:lnTo>
                  <a:close/>
                  <a:moveTo>
                    <a:pt x="1258" y="0"/>
                  </a:moveTo>
                  <a:lnTo>
                    <a:pt x="1684" y="0"/>
                  </a:lnTo>
                  <a:lnTo>
                    <a:pt x="1705" y="31"/>
                  </a:lnTo>
                  <a:lnTo>
                    <a:pt x="1717" y="55"/>
                  </a:lnTo>
                  <a:lnTo>
                    <a:pt x="1312" y="55"/>
                  </a:lnTo>
                  <a:lnTo>
                    <a:pt x="1271" y="12"/>
                  </a:lnTo>
                  <a:lnTo>
                    <a:pt x="1258" y="0"/>
                  </a:lnTo>
                  <a:close/>
                  <a:moveTo>
                    <a:pt x="1996" y="0"/>
                  </a:moveTo>
                  <a:lnTo>
                    <a:pt x="2385" y="0"/>
                  </a:lnTo>
                  <a:lnTo>
                    <a:pt x="2381" y="14"/>
                  </a:lnTo>
                  <a:lnTo>
                    <a:pt x="2375" y="55"/>
                  </a:lnTo>
                  <a:lnTo>
                    <a:pt x="1942" y="55"/>
                  </a:lnTo>
                  <a:lnTo>
                    <a:pt x="1996" y="0"/>
                  </a:lnTo>
                  <a:close/>
                  <a:moveTo>
                    <a:pt x="2566" y="0"/>
                  </a:moveTo>
                  <a:lnTo>
                    <a:pt x="3215" y="0"/>
                  </a:lnTo>
                  <a:lnTo>
                    <a:pt x="3205" y="55"/>
                  </a:lnTo>
                  <a:lnTo>
                    <a:pt x="2587" y="55"/>
                  </a:lnTo>
                  <a:lnTo>
                    <a:pt x="2566" y="0"/>
                  </a:lnTo>
                  <a:close/>
                  <a:moveTo>
                    <a:pt x="4092" y="0"/>
                  </a:moveTo>
                  <a:lnTo>
                    <a:pt x="4366" y="0"/>
                  </a:lnTo>
                  <a:lnTo>
                    <a:pt x="4383" y="31"/>
                  </a:lnTo>
                  <a:lnTo>
                    <a:pt x="4397" y="55"/>
                  </a:lnTo>
                  <a:lnTo>
                    <a:pt x="4135" y="55"/>
                  </a:lnTo>
                  <a:lnTo>
                    <a:pt x="4093" y="1"/>
                  </a:lnTo>
                  <a:lnTo>
                    <a:pt x="4092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612240" y="2860200"/>
              <a:ext cx="1688760" cy="19440"/>
            </a:xfrm>
            <a:custGeom>
              <a:avLst/>
              <a:gdLst/>
              <a:ahLst/>
              <a:rect l="l" t="t" r="r" b="b"/>
              <a:pathLst>
                <a:path w="4392" h="53">
                  <a:moveTo>
                    <a:pt x="0" y="0"/>
                  </a:moveTo>
                  <a:lnTo>
                    <a:pt x="1087" y="0"/>
                  </a:lnTo>
                  <a:lnTo>
                    <a:pt x="1075" y="53"/>
                  </a:lnTo>
                  <a:lnTo>
                    <a:pt x="15" y="53"/>
                  </a:lnTo>
                  <a:lnTo>
                    <a:pt x="10" y="15"/>
                  </a:lnTo>
                  <a:lnTo>
                    <a:pt x="3" y="3"/>
                  </a:lnTo>
                  <a:lnTo>
                    <a:pt x="0" y="0"/>
                  </a:lnTo>
                  <a:close/>
                  <a:moveTo>
                    <a:pt x="1264" y="0"/>
                  </a:moveTo>
                  <a:lnTo>
                    <a:pt x="1681" y="0"/>
                  </a:lnTo>
                  <a:lnTo>
                    <a:pt x="1683" y="3"/>
                  </a:lnTo>
                  <a:lnTo>
                    <a:pt x="1709" y="53"/>
                  </a:lnTo>
                  <a:lnTo>
                    <a:pt x="1316" y="53"/>
                  </a:lnTo>
                  <a:lnTo>
                    <a:pt x="1264" y="0"/>
                  </a:lnTo>
                  <a:close/>
                  <a:moveTo>
                    <a:pt x="1946" y="0"/>
                  </a:moveTo>
                  <a:lnTo>
                    <a:pt x="2357" y="0"/>
                  </a:lnTo>
                  <a:lnTo>
                    <a:pt x="2352" y="33"/>
                  </a:lnTo>
                  <a:lnTo>
                    <a:pt x="2335" y="53"/>
                  </a:lnTo>
                  <a:lnTo>
                    <a:pt x="1894" y="53"/>
                  </a:lnTo>
                  <a:lnTo>
                    <a:pt x="1903" y="43"/>
                  </a:lnTo>
                  <a:lnTo>
                    <a:pt x="1946" y="0"/>
                  </a:lnTo>
                  <a:close/>
                  <a:moveTo>
                    <a:pt x="2554" y="0"/>
                  </a:moveTo>
                  <a:lnTo>
                    <a:pt x="3187" y="0"/>
                  </a:lnTo>
                  <a:lnTo>
                    <a:pt x="3182" y="33"/>
                  </a:lnTo>
                  <a:lnTo>
                    <a:pt x="3186" y="53"/>
                  </a:lnTo>
                  <a:lnTo>
                    <a:pt x="2574" y="53"/>
                  </a:lnTo>
                  <a:lnTo>
                    <a:pt x="2554" y="0"/>
                  </a:lnTo>
                  <a:close/>
                  <a:moveTo>
                    <a:pt x="4091" y="0"/>
                  </a:moveTo>
                  <a:lnTo>
                    <a:pt x="4359" y="0"/>
                  </a:lnTo>
                  <a:lnTo>
                    <a:pt x="4361" y="3"/>
                  </a:lnTo>
                  <a:lnTo>
                    <a:pt x="4391" y="52"/>
                  </a:lnTo>
                  <a:lnTo>
                    <a:pt x="4392" y="53"/>
                  </a:lnTo>
                  <a:lnTo>
                    <a:pt x="4134" y="53"/>
                  </a:lnTo>
                  <a:lnTo>
                    <a:pt x="4091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617640" y="2871000"/>
              <a:ext cx="1686960" cy="1908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070" y="0"/>
                  </a:lnTo>
                  <a:lnTo>
                    <a:pt x="1057" y="54"/>
                  </a:lnTo>
                  <a:lnTo>
                    <a:pt x="8" y="54"/>
                  </a:lnTo>
                  <a:lnTo>
                    <a:pt x="0" y="0"/>
                  </a:lnTo>
                  <a:close/>
                  <a:moveTo>
                    <a:pt x="1279" y="0"/>
                  </a:moveTo>
                  <a:lnTo>
                    <a:pt x="1684" y="0"/>
                  </a:lnTo>
                  <a:lnTo>
                    <a:pt x="1713" y="54"/>
                  </a:lnTo>
                  <a:lnTo>
                    <a:pt x="1330" y="54"/>
                  </a:lnTo>
                  <a:lnTo>
                    <a:pt x="1279" y="0"/>
                  </a:lnTo>
                  <a:close/>
                  <a:moveTo>
                    <a:pt x="1909" y="0"/>
                  </a:moveTo>
                  <a:lnTo>
                    <a:pt x="2342" y="0"/>
                  </a:lnTo>
                  <a:lnTo>
                    <a:pt x="2341" y="6"/>
                  </a:lnTo>
                  <a:lnTo>
                    <a:pt x="2318" y="34"/>
                  </a:lnTo>
                  <a:lnTo>
                    <a:pt x="2299" y="54"/>
                  </a:lnTo>
                  <a:lnTo>
                    <a:pt x="1858" y="54"/>
                  </a:lnTo>
                  <a:lnTo>
                    <a:pt x="1892" y="16"/>
                  </a:lnTo>
                  <a:lnTo>
                    <a:pt x="1909" y="0"/>
                  </a:lnTo>
                  <a:close/>
                  <a:moveTo>
                    <a:pt x="2554" y="0"/>
                  </a:moveTo>
                  <a:lnTo>
                    <a:pt x="3172" y="0"/>
                  </a:lnTo>
                  <a:lnTo>
                    <a:pt x="3171" y="6"/>
                  </a:lnTo>
                  <a:lnTo>
                    <a:pt x="3180" y="54"/>
                  </a:lnTo>
                  <a:lnTo>
                    <a:pt x="2574" y="54"/>
                  </a:lnTo>
                  <a:lnTo>
                    <a:pt x="2554" y="0"/>
                  </a:lnTo>
                  <a:close/>
                  <a:moveTo>
                    <a:pt x="4102" y="0"/>
                  </a:moveTo>
                  <a:lnTo>
                    <a:pt x="4364" y="0"/>
                  </a:lnTo>
                  <a:lnTo>
                    <a:pt x="4380" y="25"/>
                  </a:lnTo>
                  <a:lnTo>
                    <a:pt x="4394" y="54"/>
                  </a:lnTo>
                  <a:lnTo>
                    <a:pt x="4144" y="54"/>
                  </a:lnTo>
                  <a:lnTo>
                    <a:pt x="4102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617640" y="2880000"/>
              <a:ext cx="1706040" cy="19080"/>
            </a:xfrm>
            <a:custGeom>
              <a:avLst/>
              <a:gdLst/>
              <a:ahLst/>
              <a:rect l="l" t="t" r="r" b="b"/>
              <a:pathLst>
                <a:path w="4437" h="55">
                  <a:moveTo>
                    <a:pt x="0" y="0"/>
                  </a:moveTo>
                  <a:lnTo>
                    <a:pt x="1060" y="0"/>
                  </a:lnTo>
                  <a:lnTo>
                    <a:pt x="1048" y="49"/>
                  </a:lnTo>
                  <a:lnTo>
                    <a:pt x="1046" y="55"/>
                  </a:lnTo>
                  <a:lnTo>
                    <a:pt x="8" y="55"/>
                  </a:lnTo>
                  <a:lnTo>
                    <a:pt x="0" y="0"/>
                  </a:lnTo>
                  <a:close/>
                  <a:moveTo>
                    <a:pt x="1301" y="0"/>
                  </a:moveTo>
                  <a:lnTo>
                    <a:pt x="1694" y="0"/>
                  </a:lnTo>
                  <a:lnTo>
                    <a:pt x="1723" y="55"/>
                  </a:lnTo>
                  <a:lnTo>
                    <a:pt x="1351" y="55"/>
                  </a:lnTo>
                  <a:lnTo>
                    <a:pt x="1329" y="30"/>
                  </a:lnTo>
                  <a:lnTo>
                    <a:pt x="1301" y="0"/>
                  </a:lnTo>
                  <a:close/>
                  <a:moveTo>
                    <a:pt x="1879" y="0"/>
                  </a:moveTo>
                  <a:lnTo>
                    <a:pt x="2320" y="0"/>
                  </a:lnTo>
                  <a:lnTo>
                    <a:pt x="2314" y="8"/>
                  </a:lnTo>
                  <a:lnTo>
                    <a:pt x="2267" y="55"/>
                  </a:lnTo>
                  <a:lnTo>
                    <a:pt x="1828" y="55"/>
                  </a:lnTo>
                  <a:lnTo>
                    <a:pt x="1879" y="0"/>
                  </a:lnTo>
                  <a:close/>
                  <a:moveTo>
                    <a:pt x="2559" y="0"/>
                  </a:moveTo>
                  <a:lnTo>
                    <a:pt x="3171" y="0"/>
                  </a:lnTo>
                  <a:lnTo>
                    <a:pt x="3176" y="30"/>
                  </a:lnTo>
                  <a:lnTo>
                    <a:pt x="3190" y="55"/>
                  </a:lnTo>
                  <a:lnTo>
                    <a:pt x="2580" y="55"/>
                  </a:lnTo>
                  <a:lnTo>
                    <a:pt x="2559" y="0"/>
                  </a:lnTo>
                  <a:close/>
                  <a:moveTo>
                    <a:pt x="4119" y="0"/>
                  </a:moveTo>
                  <a:lnTo>
                    <a:pt x="4377" y="0"/>
                  </a:lnTo>
                  <a:lnTo>
                    <a:pt x="4395" y="37"/>
                  </a:lnTo>
                  <a:lnTo>
                    <a:pt x="4405" y="49"/>
                  </a:lnTo>
                  <a:lnTo>
                    <a:pt x="4425" y="49"/>
                  </a:lnTo>
                  <a:lnTo>
                    <a:pt x="4437" y="55"/>
                  </a:lnTo>
                  <a:lnTo>
                    <a:pt x="4161" y="55"/>
                  </a:lnTo>
                  <a:lnTo>
                    <a:pt x="41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619440" y="2890440"/>
              <a:ext cx="1761840" cy="17640"/>
            </a:xfrm>
            <a:custGeom>
              <a:avLst/>
              <a:gdLst/>
              <a:ahLst/>
              <a:rect l="l" t="t" r="r" b="b"/>
              <a:pathLst>
                <a:path w="4585" h="54">
                  <a:moveTo>
                    <a:pt x="0" y="0"/>
                  </a:moveTo>
                  <a:lnTo>
                    <a:pt x="1049" y="0"/>
                  </a:lnTo>
                  <a:lnTo>
                    <a:pt x="1044" y="21"/>
                  </a:lnTo>
                  <a:lnTo>
                    <a:pt x="1033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22" y="0"/>
                  </a:moveTo>
                  <a:lnTo>
                    <a:pt x="1705" y="0"/>
                  </a:lnTo>
                  <a:lnTo>
                    <a:pt x="1731" y="49"/>
                  </a:lnTo>
                  <a:lnTo>
                    <a:pt x="1732" y="54"/>
                  </a:lnTo>
                  <a:lnTo>
                    <a:pt x="1361" y="54"/>
                  </a:lnTo>
                  <a:lnTo>
                    <a:pt x="1356" y="36"/>
                  </a:lnTo>
                  <a:lnTo>
                    <a:pt x="1325" y="2"/>
                  </a:lnTo>
                  <a:lnTo>
                    <a:pt x="1322" y="0"/>
                  </a:lnTo>
                  <a:close/>
                  <a:moveTo>
                    <a:pt x="1850" y="0"/>
                  </a:moveTo>
                  <a:lnTo>
                    <a:pt x="2291" y="0"/>
                  </a:lnTo>
                  <a:lnTo>
                    <a:pt x="2237" y="54"/>
                  </a:lnTo>
                  <a:lnTo>
                    <a:pt x="1799" y="54"/>
                  </a:lnTo>
                  <a:lnTo>
                    <a:pt x="1850" y="0"/>
                  </a:lnTo>
                  <a:close/>
                  <a:moveTo>
                    <a:pt x="2566" y="0"/>
                  </a:moveTo>
                  <a:lnTo>
                    <a:pt x="3172" y="0"/>
                  </a:lnTo>
                  <a:lnTo>
                    <a:pt x="3172" y="2"/>
                  </a:lnTo>
                  <a:lnTo>
                    <a:pt x="3200" y="54"/>
                  </a:lnTo>
                  <a:lnTo>
                    <a:pt x="2588" y="54"/>
                  </a:lnTo>
                  <a:lnTo>
                    <a:pt x="2581" y="38"/>
                  </a:lnTo>
                  <a:lnTo>
                    <a:pt x="2566" y="0"/>
                  </a:lnTo>
                  <a:close/>
                  <a:moveTo>
                    <a:pt x="4136" y="0"/>
                  </a:moveTo>
                  <a:lnTo>
                    <a:pt x="4386" y="0"/>
                  </a:lnTo>
                  <a:lnTo>
                    <a:pt x="4391" y="9"/>
                  </a:lnTo>
                  <a:lnTo>
                    <a:pt x="4401" y="21"/>
                  </a:lnTo>
                  <a:lnTo>
                    <a:pt x="4421" y="21"/>
                  </a:lnTo>
                  <a:lnTo>
                    <a:pt x="4459" y="38"/>
                  </a:lnTo>
                  <a:lnTo>
                    <a:pt x="4575" y="51"/>
                  </a:lnTo>
                  <a:lnTo>
                    <a:pt x="4585" y="54"/>
                  </a:lnTo>
                  <a:lnTo>
                    <a:pt x="4178" y="54"/>
                  </a:lnTo>
                  <a:lnTo>
                    <a:pt x="413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621600" y="2899080"/>
              <a:ext cx="1778760" cy="19440"/>
            </a:xfrm>
            <a:custGeom>
              <a:avLst/>
              <a:gdLst/>
              <a:ahLst/>
              <a:rect l="l" t="t" r="r" b="b"/>
              <a:pathLst>
                <a:path w="4629" h="53">
                  <a:moveTo>
                    <a:pt x="0" y="0"/>
                  </a:moveTo>
                  <a:lnTo>
                    <a:pt x="1038" y="0"/>
                  </a:lnTo>
                  <a:lnTo>
                    <a:pt x="1019" y="53"/>
                  </a:lnTo>
                  <a:lnTo>
                    <a:pt x="7" y="53"/>
                  </a:lnTo>
                  <a:lnTo>
                    <a:pt x="0" y="0"/>
                  </a:lnTo>
                  <a:close/>
                  <a:moveTo>
                    <a:pt x="1343" y="0"/>
                  </a:moveTo>
                  <a:lnTo>
                    <a:pt x="1715" y="0"/>
                  </a:lnTo>
                  <a:lnTo>
                    <a:pt x="1727" y="22"/>
                  </a:lnTo>
                  <a:lnTo>
                    <a:pt x="1735" y="53"/>
                  </a:lnTo>
                  <a:lnTo>
                    <a:pt x="1352" y="53"/>
                  </a:lnTo>
                  <a:lnTo>
                    <a:pt x="1359" y="38"/>
                  </a:lnTo>
                  <a:lnTo>
                    <a:pt x="1352" y="9"/>
                  </a:lnTo>
                  <a:lnTo>
                    <a:pt x="1343" y="0"/>
                  </a:lnTo>
                  <a:close/>
                  <a:moveTo>
                    <a:pt x="1820" y="0"/>
                  </a:moveTo>
                  <a:lnTo>
                    <a:pt x="2259" y="0"/>
                  </a:lnTo>
                  <a:lnTo>
                    <a:pt x="2220" y="40"/>
                  </a:lnTo>
                  <a:lnTo>
                    <a:pt x="2205" y="53"/>
                  </a:lnTo>
                  <a:lnTo>
                    <a:pt x="1771" y="53"/>
                  </a:lnTo>
                  <a:lnTo>
                    <a:pt x="1820" y="0"/>
                  </a:lnTo>
                  <a:close/>
                  <a:moveTo>
                    <a:pt x="2572" y="0"/>
                  </a:moveTo>
                  <a:lnTo>
                    <a:pt x="3182" y="0"/>
                  </a:lnTo>
                  <a:lnTo>
                    <a:pt x="3198" y="31"/>
                  </a:lnTo>
                  <a:lnTo>
                    <a:pt x="3214" y="53"/>
                  </a:lnTo>
                  <a:lnTo>
                    <a:pt x="2595" y="53"/>
                  </a:lnTo>
                  <a:lnTo>
                    <a:pt x="2577" y="11"/>
                  </a:lnTo>
                  <a:lnTo>
                    <a:pt x="2572" y="0"/>
                  </a:lnTo>
                  <a:close/>
                  <a:moveTo>
                    <a:pt x="4153" y="0"/>
                  </a:moveTo>
                  <a:lnTo>
                    <a:pt x="4429" y="0"/>
                  </a:lnTo>
                  <a:lnTo>
                    <a:pt x="4455" y="11"/>
                  </a:lnTo>
                  <a:lnTo>
                    <a:pt x="4571" y="24"/>
                  </a:lnTo>
                  <a:lnTo>
                    <a:pt x="4621" y="40"/>
                  </a:lnTo>
                  <a:lnTo>
                    <a:pt x="4629" y="53"/>
                  </a:lnTo>
                  <a:lnTo>
                    <a:pt x="4196" y="53"/>
                  </a:lnTo>
                  <a:lnTo>
                    <a:pt x="4194" y="51"/>
                  </a:lnTo>
                  <a:lnTo>
                    <a:pt x="4153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623400" y="2908080"/>
              <a:ext cx="1782720" cy="19440"/>
            </a:xfrm>
            <a:custGeom>
              <a:avLst/>
              <a:gdLst/>
              <a:ahLst/>
              <a:rect l="l" t="t" r="r" b="b"/>
              <a:pathLst>
                <a:path w="4642" h="54">
                  <a:moveTo>
                    <a:pt x="0" y="0"/>
                  </a:moveTo>
                  <a:lnTo>
                    <a:pt x="1026" y="0"/>
                  </a:lnTo>
                  <a:lnTo>
                    <a:pt x="1007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54" y="0"/>
                  </a:moveTo>
                  <a:lnTo>
                    <a:pt x="1725" y="0"/>
                  </a:lnTo>
                  <a:lnTo>
                    <a:pt x="1740" y="54"/>
                  </a:lnTo>
                  <a:lnTo>
                    <a:pt x="1323" y="54"/>
                  </a:lnTo>
                  <a:lnTo>
                    <a:pt x="1341" y="42"/>
                  </a:lnTo>
                  <a:lnTo>
                    <a:pt x="1356" y="11"/>
                  </a:lnTo>
                  <a:lnTo>
                    <a:pt x="1354" y="0"/>
                  </a:lnTo>
                  <a:close/>
                  <a:moveTo>
                    <a:pt x="1792" y="0"/>
                  </a:moveTo>
                  <a:lnTo>
                    <a:pt x="2230" y="0"/>
                  </a:lnTo>
                  <a:lnTo>
                    <a:pt x="2217" y="13"/>
                  </a:lnTo>
                  <a:lnTo>
                    <a:pt x="2172" y="54"/>
                  </a:lnTo>
                  <a:lnTo>
                    <a:pt x="1740" y="54"/>
                  </a:lnTo>
                  <a:lnTo>
                    <a:pt x="1753" y="42"/>
                  </a:lnTo>
                  <a:lnTo>
                    <a:pt x="1792" y="0"/>
                  </a:lnTo>
                  <a:close/>
                  <a:moveTo>
                    <a:pt x="2581" y="0"/>
                  </a:moveTo>
                  <a:lnTo>
                    <a:pt x="3193" y="0"/>
                  </a:lnTo>
                  <a:lnTo>
                    <a:pt x="3195" y="4"/>
                  </a:lnTo>
                  <a:lnTo>
                    <a:pt x="3230" y="54"/>
                  </a:lnTo>
                  <a:lnTo>
                    <a:pt x="2604" y="54"/>
                  </a:lnTo>
                  <a:lnTo>
                    <a:pt x="2581" y="0"/>
                  </a:lnTo>
                  <a:close/>
                  <a:moveTo>
                    <a:pt x="4171" y="0"/>
                  </a:moveTo>
                  <a:lnTo>
                    <a:pt x="4578" y="0"/>
                  </a:lnTo>
                  <a:lnTo>
                    <a:pt x="4618" y="13"/>
                  </a:lnTo>
                  <a:lnTo>
                    <a:pt x="4642" y="54"/>
                  </a:lnTo>
                  <a:lnTo>
                    <a:pt x="4214" y="54"/>
                  </a:lnTo>
                  <a:lnTo>
                    <a:pt x="4191" y="24"/>
                  </a:lnTo>
                  <a:lnTo>
                    <a:pt x="4171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623400" y="2918880"/>
              <a:ext cx="1786680" cy="19080"/>
            </a:xfrm>
            <a:custGeom>
              <a:avLst/>
              <a:gdLst/>
              <a:ahLst/>
              <a:rect l="l" t="t" r="r" b="b"/>
              <a:pathLst>
                <a:path w="4649" h="55">
                  <a:moveTo>
                    <a:pt x="0" y="0"/>
                  </a:moveTo>
                  <a:lnTo>
                    <a:pt x="1012" y="0"/>
                  </a:lnTo>
                  <a:lnTo>
                    <a:pt x="993" y="55"/>
                  </a:lnTo>
                  <a:lnTo>
                    <a:pt x="6" y="55"/>
                  </a:lnTo>
                  <a:lnTo>
                    <a:pt x="0" y="0"/>
                  </a:lnTo>
                  <a:close/>
                  <a:moveTo>
                    <a:pt x="1345" y="0"/>
                  </a:moveTo>
                  <a:lnTo>
                    <a:pt x="1728" y="0"/>
                  </a:lnTo>
                  <a:lnTo>
                    <a:pt x="1736" y="28"/>
                  </a:lnTo>
                  <a:lnTo>
                    <a:pt x="1749" y="16"/>
                  </a:lnTo>
                  <a:lnTo>
                    <a:pt x="1764" y="0"/>
                  </a:lnTo>
                  <a:lnTo>
                    <a:pt x="2198" y="0"/>
                  </a:lnTo>
                  <a:lnTo>
                    <a:pt x="2139" y="55"/>
                  </a:lnTo>
                  <a:lnTo>
                    <a:pt x="1275" y="55"/>
                  </a:lnTo>
                  <a:lnTo>
                    <a:pt x="1294" y="44"/>
                  </a:lnTo>
                  <a:lnTo>
                    <a:pt x="1337" y="16"/>
                  </a:lnTo>
                  <a:lnTo>
                    <a:pt x="1345" y="0"/>
                  </a:lnTo>
                  <a:close/>
                  <a:moveTo>
                    <a:pt x="2588" y="0"/>
                  </a:moveTo>
                  <a:lnTo>
                    <a:pt x="3207" y="0"/>
                  </a:lnTo>
                  <a:lnTo>
                    <a:pt x="3238" y="46"/>
                  </a:lnTo>
                  <a:lnTo>
                    <a:pt x="3245" y="55"/>
                  </a:lnTo>
                  <a:lnTo>
                    <a:pt x="2605" y="55"/>
                  </a:lnTo>
                  <a:lnTo>
                    <a:pt x="2600" y="28"/>
                  </a:lnTo>
                  <a:lnTo>
                    <a:pt x="2588" y="0"/>
                  </a:lnTo>
                  <a:close/>
                  <a:moveTo>
                    <a:pt x="4189" y="0"/>
                  </a:moveTo>
                  <a:lnTo>
                    <a:pt x="4622" y="0"/>
                  </a:lnTo>
                  <a:lnTo>
                    <a:pt x="4643" y="36"/>
                  </a:lnTo>
                  <a:lnTo>
                    <a:pt x="4649" y="55"/>
                  </a:lnTo>
                  <a:lnTo>
                    <a:pt x="4232" y="55"/>
                  </a:lnTo>
                  <a:lnTo>
                    <a:pt x="4189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615480" y="2927880"/>
              <a:ext cx="1798560" cy="19080"/>
            </a:xfrm>
            <a:custGeom>
              <a:avLst/>
              <a:gdLst/>
              <a:ahLst/>
              <a:rect l="l" t="t" r="r" b="b"/>
              <a:pathLst>
                <a:path w="4680" h="53">
                  <a:moveTo>
                    <a:pt x="23" y="0"/>
                  </a:moveTo>
                  <a:lnTo>
                    <a:pt x="1023" y="0"/>
                  </a:lnTo>
                  <a:lnTo>
                    <a:pt x="1006" y="47"/>
                  </a:lnTo>
                  <a:lnTo>
                    <a:pt x="1004" y="53"/>
                  </a:lnTo>
                  <a:lnTo>
                    <a:pt x="0" y="53"/>
                  </a:lnTo>
                  <a:lnTo>
                    <a:pt x="9" y="47"/>
                  </a:lnTo>
                  <a:lnTo>
                    <a:pt x="27" y="35"/>
                  </a:lnTo>
                  <a:lnTo>
                    <a:pt x="23" y="0"/>
                  </a:lnTo>
                  <a:close/>
                  <a:moveTo>
                    <a:pt x="1339" y="0"/>
                  </a:moveTo>
                  <a:lnTo>
                    <a:pt x="1756" y="0"/>
                  </a:lnTo>
                  <a:lnTo>
                    <a:pt x="1756" y="0"/>
                  </a:lnTo>
                  <a:lnTo>
                    <a:pt x="1756" y="0"/>
                  </a:lnTo>
                  <a:lnTo>
                    <a:pt x="2188" y="0"/>
                  </a:lnTo>
                  <a:lnTo>
                    <a:pt x="2130" y="53"/>
                  </a:lnTo>
                  <a:lnTo>
                    <a:pt x="1246" y="53"/>
                  </a:lnTo>
                  <a:lnTo>
                    <a:pt x="1314" y="16"/>
                  </a:lnTo>
                  <a:lnTo>
                    <a:pt x="1339" y="0"/>
                  </a:lnTo>
                  <a:close/>
                  <a:moveTo>
                    <a:pt x="2620" y="0"/>
                  </a:moveTo>
                  <a:lnTo>
                    <a:pt x="3246" y="0"/>
                  </a:lnTo>
                  <a:lnTo>
                    <a:pt x="3258" y="18"/>
                  </a:lnTo>
                  <a:lnTo>
                    <a:pt x="3284" y="53"/>
                  </a:lnTo>
                  <a:lnTo>
                    <a:pt x="2630" y="53"/>
                  </a:lnTo>
                  <a:lnTo>
                    <a:pt x="2620" y="0"/>
                  </a:lnTo>
                  <a:lnTo>
                    <a:pt x="2620" y="0"/>
                  </a:lnTo>
                  <a:close/>
                  <a:moveTo>
                    <a:pt x="4230" y="0"/>
                  </a:moveTo>
                  <a:lnTo>
                    <a:pt x="4658" y="0"/>
                  </a:lnTo>
                  <a:lnTo>
                    <a:pt x="4663" y="8"/>
                  </a:lnTo>
                  <a:lnTo>
                    <a:pt x="4680" y="53"/>
                  </a:lnTo>
                  <a:lnTo>
                    <a:pt x="4274" y="53"/>
                  </a:lnTo>
                  <a:lnTo>
                    <a:pt x="423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602520" y="2938320"/>
              <a:ext cx="1817280" cy="17640"/>
            </a:xfrm>
            <a:custGeom>
              <a:avLst/>
              <a:gdLst/>
              <a:ahLst/>
              <a:rect l="l" t="t" r="r" b="b"/>
              <a:pathLst>
                <a:path w="4730" h="54">
                  <a:moveTo>
                    <a:pt x="64" y="0"/>
                  </a:moveTo>
                  <a:lnTo>
                    <a:pt x="1051" y="0"/>
                  </a:lnTo>
                  <a:lnTo>
                    <a:pt x="1044" y="20"/>
                  </a:lnTo>
                  <a:lnTo>
                    <a:pt x="1035" y="54"/>
                  </a:lnTo>
                  <a:lnTo>
                    <a:pt x="0" y="54"/>
                  </a:lnTo>
                  <a:lnTo>
                    <a:pt x="11" y="47"/>
                  </a:lnTo>
                  <a:lnTo>
                    <a:pt x="47" y="20"/>
                  </a:lnTo>
                  <a:lnTo>
                    <a:pt x="65" y="8"/>
                  </a:lnTo>
                  <a:lnTo>
                    <a:pt x="64" y="0"/>
                  </a:lnTo>
                  <a:close/>
                  <a:moveTo>
                    <a:pt x="1333" y="0"/>
                  </a:moveTo>
                  <a:lnTo>
                    <a:pt x="2197" y="0"/>
                  </a:lnTo>
                  <a:lnTo>
                    <a:pt x="2164" y="31"/>
                  </a:lnTo>
                  <a:lnTo>
                    <a:pt x="2131" y="54"/>
                  </a:lnTo>
                  <a:lnTo>
                    <a:pt x="1237" y="54"/>
                  </a:lnTo>
                  <a:lnTo>
                    <a:pt x="1333" y="0"/>
                  </a:lnTo>
                  <a:close/>
                  <a:moveTo>
                    <a:pt x="2663" y="0"/>
                  </a:moveTo>
                  <a:lnTo>
                    <a:pt x="3303" y="0"/>
                  </a:lnTo>
                  <a:lnTo>
                    <a:pt x="3342" y="54"/>
                  </a:lnTo>
                  <a:lnTo>
                    <a:pt x="2670" y="54"/>
                  </a:lnTo>
                  <a:lnTo>
                    <a:pt x="2669" y="31"/>
                  </a:lnTo>
                  <a:lnTo>
                    <a:pt x="2663" y="0"/>
                  </a:lnTo>
                  <a:close/>
                  <a:moveTo>
                    <a:pt x="4290" y="0"/>
                  </a:moveTo>
                  <a:lnTo>
                    <a:pt x="4707" y="0"/>
                  </a:lnTo>
                  <a:lnTo>
                    <a:pt x="4719" y="31"/>
                  </a:lnTo>
                  <a:lnTo>
                    <a:pt x="4730" y="47"/>
                  </a:lnTo>
                  <a:lnTo>
                    <a:pt x="4730" y="54"/>
                  </a:lnTo>
                  <a:lnTo>
                    <a:pt x="4335" y="54"/>
                  </a:lnTo>
                  <a:lnTo>
                    <a:pt x="429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585240" y="2946960"/>
              <a:ext cx="1834560" cy="19440"/>
            </a:xfrm>
            <a:custGeom>
              <a:avLst/>
              <a:gdLst/>
              <a:ahLst/>
              <a:rect l="l" t="t" r="r" b="b"/>
              <a:pathLst>
                <a:path w="4775" h="55">
                  <a:moveTo>
                    <a:pt x="83" y="0"/>
                  </a:moveTo>
                  <a:lnTo>
                    <a:pt x="1087" y="0"/>
                  </a:lnTo>
                  <a:lnTo>
                    <a:pt x="1071" y="55"/>
                  </a:lnTo>
                  <a:lnTo>
                    <a:pt x="0" y="55"/>
                  </a:lnTo>
                  <a:lnTo>
                    <a:pt x="56" y="21"/>
                  </a:lnTo>
                  <a:lnTo>
                    <a:pt x="83" y="0"/>
                  </a:lnTo>
                  <a:close/>
                  <a:moveTo>
                    <a:pt x="1329" y="0"/>
                  </a:moveTo>
                  <a:lnTo>
                    <a:pt x="2213" y="0"/>
                  </a:lnTo>
                  <a:lnTo>
                    <a:pt x="2209" y="5"/>
                  </a:lnTo>
                  <a:lnTo>
                    <a:pt x="2137" y="55"/>
                  </a:lnTo>
                  <a:lnTo>
                    <a:pt x="1234" y="55"/>
                  </a:lnTo>
                  <a:lnTo>
                    <a:pt x="1329" y="0"/>
                  </a:lnTo>
                  <a:close/>
                  <a:moveTo>
                    <a:pt x="2713" y="0"/>
                  </a:moveTo>
                  <a:lnTo>
                    <a:pt x="3367" y="0"/>
                  </a:lnTo>
                  <a:lnTo>
                    <a:pt x="3399" y="43"/>
                  </a:lnTo>
                  <a:lnTo>
                    <a:pt x="3407" y="55"/>
                  </a:lnTo>
                  <a:lnTo>
                    <a:pt x="2716" y="55"/>
                  </a:lnTo>
                  <a:lnTo>
                    <a:pt x="2714" y="5"/>
                  </a:lnTo>
                  <a:lnTo>
                    <a:pt x="2713" y="0"/>
                  </a:lnTo>
                  <a:close/>
                  <a:moveTo>
                    <a:pt x="4357" y="0"/>
                  </a:moveTo>
                  <a:lnTo>
                    <a:pt x="4763" y="0"/>
                  </a:lnTo>
                  <a:lnTo>
                    <a:pt x="4764" y="5"/>
                  </a:lnTo>
                  <a:lnTo>
                    <a:pt x="4775" y="21"/>
                  </a:lnTo>
                  <a:lnTo>
                    <a:pt x="4775" y="55"/>
                  </a:lnTo>
                  <a:lnTo>
                    <a:pt x="4402" y="55"/>
                  </a:lnTo>
                  <a:lnTo>
                    <a:pt x="4357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567600" y="2955960"/>
              <a:ext cx="1852200" cy="19440"/>
            </a:xfrm>
            <a:custGeom>
              <a:avLst/>
              <a:gdLst/>
              <a:ahLst/>
              <a:rect l="l" t="t" r="r" b="b"/>
              <a:pathLst>
                <a:path w="4820" h="53">
                  <a:moveTo>
                    <a:pt x="90" y="0"/>
                  </a:moveTo>
                  <a:lnTo>
                    <a:pt x="1125" y="0"/>
                  </a:lnTo>
                  <a:lnTo>
                    <a:pt x="1114" y="33"/>
                  </a:lnTo>
                  <a:lnTo>
                    <a:pt x="1110" y="53"/>
                  </a:lnTo>
                  <a:lnTo>
                    <a:pt x="0" y="53"/>
                  </a:lnTo>
                  <a:lnTo>
                    <a:pt x="34" y="33"/>
                  </a:lnTo>
                  <a:lnTo>
                    <a:pt x="90" y="0"/>
                  </a:lnTo>
                  <a:close/>
                  <a:moveTo>
                    <a:pt x="1327" y="0"/>
                  </a:moveTo>
                  <a:lnTo>
                    <a:pt x="2221" y="0"/>
                  </a:lnTo>
                  <a:lnTo>
                    <a:pt x="2144" y="53"/>
                  </a:lnTo>
                  <a:lnTo>
                    <a:pt x="1232" y="53"/>
                  </a:lnTo>
                  <a:lnTo>
                    <a:pt x="1233" y="53"/>
                  </a:lnTo>
                  <a:lnTo>
                    <a:pt x="1327" y="0"/>
                  </a:lnTo>
                  <a:close/>
                  <a:moveTo>
                    <a:pt x="2760" y="0"/>
                  </a:moveTo>
                  <a:lnTo>
                    <a:pt x="3432" y="0"/>
                  </a:lnTo>
                  <a:lnTo>
                    <a:pt x="3444" y="15"/>
                  </a:lnTo>
                  <a:lnTo>
                    <a:pt x="3473" y="53"/>
                  </a:lnTo>
                  <a:lnTo>
                    <a:pt x="2762" y="53"/>
                  </a:lnTo>
                  <a:lnTo>
                    <a:pt x="2760" y="0"/>
                  </a:lnTo>
                  <a:close/>
                  <a:moveTo>
                    <a:pt x="4425" y="0"/>
                  </a:moveTo>
                  <a:lnTo>
                    <a:pt x="4820" y="0"/>
                  </a:lnTo>
                  <a:lnTo>
                    <a:pt x="4820" y="53"/>
                  </a:lnTo>
                  <a:lnTo>
                    <a:pt x="4467" y="53"/>
                  </a:lnTo>
                  <a:lnTo>
                    <a:pt x="4459" y="43"/>
                  </a:lnTo>
                  <a:lnTo>
                    <a:pt x="4425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550320" y="2966760"/>
              <a:ext cx="1869480" cy="19080"/>
            </a:xfrm>
            <a:custGeom>
              <a:avLst/>
              <a:gdLst/>
              <a:ahLst/>
              <a:rect l="l" t="t" r="r" b="b"/>
              <a:pathLst>
                <a:path w="4865" h="54">
                  <a:moveTo>
                    <a:pt x="90" y="0"/>
                  </a:moveTo>
                  <a:lnTo>
                    <a:pt x="1161" y="0"/>
                  </a:lnTo>
                  <a:lnTo>
                    <a:pt x="1159" y="6"/>
                  </a:lnTo>
                  <a:lnTo>
                    <a:pt x="1150" y="54"/>
                  </a:lnTo>
                  <a:lnTo>
                    <a:pt x="0" y="54"/>
                  </a:lnTo>
                  <a:lnTo>
                    <a:pt x="79" y="6"/>
                  </a:lnTo>
                  <a:lnTo>
                    <a:pt x="90" y="0"/>
                  </a:lnTo>
                  <a:close/>
                  <a:moveTo>
                    <a:pt x="1324" y="0"/>
                  </a:moveTo>
                  <a:lnTo>
                    <a:pt x="2227" y="0"/>
                  </a:lnTo>
                  <a:lnTo>
                    <a:pt x="2150" y="54"/>
                  </a:lnTo>
                  <a:lnTo>
                    <a:pt x="1250" y="54"/>
                  </a:lnTo>
                  <a:lnTo>
                    <a:pt x="1278" y="26"/>
                  </a:lnTo>
                  <a:lnTo>
                    <a:pt x="1324" y="0"/>
                  </a:lnTo>
                  <a:close/>
                  <a:moveTo>
                    <a:pt x="2806" y="0"/>
                  </a:moveTo>
                  <a:lnTo>
                    <a:pt x="3497" y="0"/>
                  </a:lnTo>
                  <a:lnTo>
                    <a:pt x="3539" y="54"/>
                  </a:lnTo>
                  <a:lnTo>
                    <a:pt x="2808" y="54"/>
                  </a:lnTo>
                  <a:lnTo>
                    <a:pt x="2806" y="0"/>
                  </a:lnTo>
                  <a:close/>
                  <a:moveTo>
                    <a:pt x="4492" y="0"/>
                  </a:moveTo>
                  <a:lnTo>
                    <a:pt x="4865" y="0"/>
                  </a:lnTo>
                  <a:lnTo>
                    <a:pt x="4865" y="54"/>
                  </a:lnTo>
                  <a:lnTo>
                    <a:pt x="4528" y="54"/>
                  </a:lnTo>
                  <a:lnTo>
                    <a:pt x="4504" y="16"/>
                  </a:lnTo>
                  <a:lnTo>
                    <a:pt x="4492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530880" y="2975400"/>
              <a:ext cx="1891080" cy="19080"/>
            </a:xfrm>
            <a:custGeom>
              <a:avLst/>
              <a:gdLst/>
              <a:ahLst/>
              <a:rect l="l" t="t" r="r" b="b"/>
              <a:pathLst>
                <a:path w="4923" h="55">
                  <a:moveTo>
                    <a:pt x="96" y="0"/>
                  </a:moveTo>
                  <a:lnTo>
                    <a:pt x="1206" y="0"/>
                  </a:lnTo>
                  <a:lnTo>
                    <a:pt x="1195" y="55"/>
                  </a:lnTo>
                  <a:lnTo>
                    <a:pt x="0" y="55"/>
                  </a:lnTo>
                  <a:lnTo>
                    <a:pt x="51" y="28"/>
                  </a:lnTo>
                  <a:lnTo>
                    <a:pt x="96" y="0"/>
                  </a:lnTo>
                  <a:close/>
                  <a:moveTo>
                    <a:pt x="1328" y="0"/>
                  </a:moveTo>
                  <a:lnTo>
                    <a:pt x="2240" y="0"/>
                  </a:lnTo>
                  <a:lnTo>
                    <a:pt x="2162" y="55"/>
                  </a:lnTo>
                  <a:lnTo>
                    <a:pt x="1777" y="55"/>
                  </a:lnTo>
                  <a:lnTo>
                    <a:pt x="1794" y="39"/>
                  </a:lnTo>
                  <a:lnTo>
                    <a:pt x="1756" y="55"/>
                  </a:lnTo>
                  <a:lnTo>
                    <a:pt x="1278" y="55"/>
                  </a:lnTo>
                  <a:lnTo>
                    <a:pt x="1289" y="39"/>
                  </a:lnTo>
                  <a:lnTo>
                    <a:pt x="1328" y="0"/>
                  </a:lnTo>
                  <a:close/>
                  <a:moveTo>
                    <a:pt x="2858" y="0"/>
                  </a:moveTo>
                  <a:lnTo>
                    <a:pt x="3569" y="0"/>
                  </a:lnTo>
                  <a:lnTo>
                    <a:pt x="3611" y="55"/>
                  </a:lnTo>
                  <a:lnTo>
                    <a:pt x="2859" y="55"/>
                  </a:lnTo>
                  <a:lnTo>
                    <a:pt x="2858" y="0"/>
                  </a:lnTo>
                  <a:close/>
                  <a:moveTo>
                    <a:pt x="4563" y="0"/>
                  </a:moveTo>
                  <a:lnTo>
                    <a:pt x="4916" y="0"/>
                  </a:lnTo>
                  <a:lnTo>
                    <a:pt x="4916" y="39"/>
                  </a:lnTo>
                  <a:lnTo>
                    <a:pt x="4923" y="55"/>
                  </a:lnTo>
                  <a:lnTo>
                    <a:pt x="4597" y="55"/>
                  </a:lnTo>
                  <a:lnTo>
                    <a:pt x="4563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510000" y="2985840"/>
              <a:ext cx="1915200" cy="17640"/>
            </a:xfrm>
            <a:custGeom>
              <a:avLst/>
              <a:gdLst/>
              <a:ahLst/>
              <a:rect l="l" t="t" r="r" b="b"/>
              <a:pathLst>
                <a:path w="4985" h="53">
                  <a:moveTo>
                    <a:pt x="102" y="0"/>
                  </a:moveTo>
                  <a:lnTo>
                    <a:pt x="1252" y="0"/>
                  </a:lnTo>
                  <a:lnTo>
                    <a:pt x="1242" y="47"/>
                  </a:lnTo>
                  <a:lnTo>
                    <a:pt x="1241" y="53"/>
                  </a:lnTo>
                  <a:lnTo>
                    <a:pt x="0" y="53"/>
                  </a:lnTo>
                  <a:lnTo>
                    <a:pt x="102" y="0"/>
                  </a:lnTo>
                  <a:lnTo>
                    <a:pt x="102" y="0"/>
                  </a:lnTo>
                  <a:close/>
                  <a:moveTo>
                    <a:pt x="1352" y="0"/>
                  </a:moveTo>
                  <a:lnTo>
                    <a:pt x="2252" y="0"/>
                  </a:lnTo>
                  <a:lnTo>
                    <a:pt x="2176" y="53"/>
                  </a:lnTo>
                  <a:lnTo>
                    <a:pt x="1798" y="53"/>
                  </a:lnTo>
                  <a:lnTo>
                    <a:pt x="1845" y="11"/>
                  </a:lnTo>
                  <a:lnTo>
                    <a:pt x="1740" y="53"/>
                  </a:lnTo>
                  <a:lnTo>
                    <a:pt x="1316" y="53"/>
                  </a:lnTo>
                  <a:lnTo>
                    <a:pt x="1321" y="39"/>
                  </a:lnTo>
                  <a:lnTo>
                    <a:pt x="1340" y="11"/>
                  </a:lnTo>
                  <a:lnTo>
                    <a:pt x="1352" y="0"/>
                  </a:lnTo>
                  <a:close/>
                  <a:moveTo>
                    <a:pt x="2910" y="0"/>
                  </a:moveTo>
                  <a:lnTo>
                    <a:pt x="3641" y="0"/>
                  </a:lnTo>
                  <a:lnTo>
                    <a:pt x="3684" y="53"/>
                  </a:lnTo>
                  <a:lnTo>
                    <a:pt x="2912" y="53"/>
                  </a:lnTo>
                  <a:lnTo>
                    <a:pt x="2910" y="0"/>
                  </a:lnTo>
                  <a:close/>
                  <a:moveTo>
                    <a:pt x="4630" y="0"/>
                  </a:moveTo>
                  <a:lnTo>
                    <a:pt x="4967" y="0"/>
                  </a:lnTo>
                  <a:lnTo>
                    <a:pt x="4967" y="11"/>
                  </a:lnTo>
                  <a:lnTo>
                    <a:pt x="4985" y="53"/>
                  </a:lnTo>
                  <a:lnTo>
                    <a:pt x="4665" y="53"/>
                  </a:lnTo>
                  <a:lnTo>
                    <a:pt x="463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490920" y="2994840"/>
              <a:ext cx="1940400" cy="19440"/>
            </a:xfrm>
            <a:custGeom>
              <a:avLst/>
              <a:gdLst/>
              <a:ahLst/>
              <a:rect l="l" t="t" r="r" b="b"/>
              <a:pathLst>
                <a:path w="5047" h="53">
                  <a:moveTo>
                    <a:pt x="101" y="0"/>
                  </a:moveTo>
                  <a:lnTo>
                    <a:pt x="1296" y="0"/>
                  </a:lnTo>
                  <a:lnTo>
                    <a:pt x="1292" y="20"/>
                  </a:lnTo>
                  <a:lnTo>
                    <a:pt x="1288" y="53"/>
                  </a:lnTo>
                  <a:lnTo>
                    <a:pt x="0" y="53"/>
                  </a:lnTo>
                  <a:lnTo>
                    <a:pt x="101" y="0"/>
                  </a:lnTo>
                  <a:close/>
                  <a:moveTo>
                    <a:pt x="1379" y="0"/>
                  </a:moveTo>
                  <a:lnTo>
                    <a:pt x="1857" y="0"/>
                  </a:lnTo>
                  <a:lnTo>
                    <a:pt x="1777" y="31"/>
                  </a:lnTo>
                  <a:lnTo>
                    <a:pt x="1739" y="53"/>
                  </a:lnTo>
                  <a:lnTo>
                    <a:pt x="1356" y="53"/>
                  </a:lnTo>
                  <a:lnTo>
                    <a:pt x="1371" y="12"/>
                  </a:lnTo>
                  <a:lnTo>
                    <a:pt x="1379" y="0"/>
                  </a:lnTo>
                  <a:close/>
                  <a:moveTo>
                    <a:pt x="1878" y="0"/>
                  </a:moveTo>
                  <a:lnTo>
                    <a:pt x="2263" y="0"/>
                  </a:lnTo>
                  <a:lnTo>
                    <a:pt x="2200" y="44"/>
                  </a:lnTo>
                  <a:lnTo>
                    <a:pt x="2186" y="53"/>
                  </a:lnTo>
                  <a:lnTo>
                    <a:pt x="1816" y="53"/>
                  </a:lnTo>
                  <a:lnTo>
                    <a:pt x="1842" y="31"/>
                  </a:lnTo>
                  <a:lnTo>
                    <a:pt x="1878" y="0"/>
                  </a:lnTo>
                  <a:close/>
                  <a:moveTo>
                    <a:pt x="2960" y="0"/>
                  </a:moveTo>
                  <a:lnTo>
                    <a:pt x="3712" y="0"/>
                  </a:lnTo>
                  <a:lnTo>
                    <a:pt x="3755" y="53"/>
                  </a:lnTo>
                  <a:lnTo>
                    <a:pt x="2963" y="53"/>
                  </a:lnTo>
                  <a:lnTo>
                    <a:pt x="2960" y="0"/>
                  </a:lnTo>
                  <a:close/>
                  <a:moveTo>
                    <a:pt x="4698" y="0"/>
                  </a:moveTo>
                  <a:lnTo>
                    <a:pt x="5024" y="0"/>
                  </a:lnTo>
                  <a:lnTo>
                    <a:pt x="5047" y="53"/>
                  </a:lnTo>
                  <a:lnTo>
                    <a:pt x="4732" y="53"/>
                  </a:lnTo>
                  <a:lnTo>
                    <a:pt x="4698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469680" y="3003480"/>
              <a:ext cx="1963800" cy="19440"/>
            </a:xfrm>
            <a:custGeom>
              <a:avLst/>
              <a:gdLst/>
              <a:ahLst/>
              <a:rect l="l" t="t" r="r" b="b"/>
              <a:pathLst>
                <a:path w="5110" h="55">
                  <a:moveTo>
                    <a:pt x="105" y="0"/>
                  </a:moveTo>
                  <a:lnTo>
                    <a:pt x="1346" y="0"/>
                  </a:lnTo>
                  <a:lnTo>
                    <a:pt x="1339" y="55"/>
                  </a:lnTo>
                  <a:lnTo>
                    <a:pt x="0" y="55"/>
                  </a:lnTo>
                  <a:lnTo>
                    <a:pt x="21" y="45"/>
                  </a:lnTo>
                  <a:lnTo>
                    <a:pt x="105" y="0"/>
                  </a:lnTo>
                  <a:close/>
                  <a:moveTo>
                    <a:pt x="1421" y="0"/>
                  </a:moveTo>
                  <a:lnTo>
                    <a:pt x="1845" y="0"/>
                  </a:lnTo>
                  <a:lnTo>
                    <a:pt x="1832" y="5"/>
                  </a:lnTo>
                  <a:lnTo>
                    <a:pt x="1765" y="45"/>
                  </a:lnTo>
                  <a:lnTo>
                    <a:pt x="1754" y="55"/>
                  </a:lnTo>
                  <a:lnTo>
                    <a:pt x="1402" y="55"/>
                  </a:lnTo>
                  <a:lnTo>
                    <a:pt x="1406" y="45"/>
                  </a:lnTo>
                  <a:lnTo>
                    <a:pt x="1421" y="0"/>
                  </a:lnTo>
                  <a:close/>
                  <a:moveTo>
                    <a:pt x="1903" y="0"/>
                  </a:moveTo>
                  <a:lnTo>
                    <a:pt x="2281" y="0"/>
                  </a:lnTo>
                  <a:lnTo>
                    <a:pt x="2255" y="18"/>
                  </a:lnTo>
                  <a:lnTo>
                    <a:pt x="2200" y="55"/>
                  </a:lnTo>
                  <a:lnTo>
                    <a:pt x="1838" y="55"/>
                  </a:lnTo>
                  <a:lnTo>
                    <a:pt x="1897" y="5"/>
                  </a:lnTo>
                  <a:lnTo>
                    <a:pt x="1903" y="0"/>
                  </a:lnTo>
                  <a:close/>
                  <a:moveTo>
                    <a:pt x="3017" y="0"/>
                  </a:moveTo>
                  <a:lnTo>
                    <a:pt x="3789" y="0"/>
                  </a:lnTo>
                  <a:lnTo>
                    <a:pt x="3831" y="55"/>
                  </a:lnTo>
                  <a:lnTo>
                    <a:pt x="3019" y="55"/>
                  </a:lnTo>
                  <a:lnTo>
                    <a:pt x="3017" y="0"/>
                  </a:lnTo>
                  <a:close/>
                  <a:moveTo>
                    <a:pt x="4770" y="0"/>
                  </a:moveTo>
                  <a:lnTo>
                    <a:pt x="5090" y="0"/>
                  </a:lnTo>
                  <a:lnTo>
                    <a:pt x="5110" y="45"/>
                  </a:lnTo>
                  <a:lnTo>
                    <a:pt x="5110" y="55"/>
                  </a:lnTo>
                  <a:lnTo>
                    <a:pt x="4805" y="55"/>
                  </a:lnTo>
                  <a:lnTo>
                    <a:pt x="477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446640" y="3014280"/>
              <a:ext cx="1990800" cy="19080"/>
            </a:xfrm>
            <a:custGeom>
              <a:avLst/>
              <a:gdLst/>
              <a:ahLst/>
              <a:rect l="l" t="t" r="r" b="b"/>
              <a:pathLst>
                <a:path w="5179" h="55">
                  <a:moveTo>
                    <a:pt x="118" y="0"/>
                  </a:moveTo>
                  <a:lnTo>
                    <a:pt x="1406" y="0"/>
                  </a:lnTo>
                  <a:lnTo>
                    <a:pt x="1399" y="55"/>
                  </a:lnTo>
                  <a:lnTo>
                    <a:pt x="0" y="55"/>
                  </a:lnTo>
                  <a:lnTo>
                    <a:pt x="84" y="18"/>
                  </a:lnTo>
                  <a:lnTo>
                    <a:pt x="118" y="0"/>
                  </a:lnTo>
                  <a:close/>
                  <a:moveTo>
                    <a:pt x="1474" y="0"/>
                  </a:moveTo>
                  <a:lnTo>
                    <a:pt x="1857" y="0"/>
                  </a:lnTo>
                  <a:lnTo>
                    <a:pt x="1828" y="18"/>
                  </a:lnTo>
                  <a:lnTo>
                    <a:pt x="1788" y="55"/>
                  </a:lnTo>
                  <a:lnTo>
                    <a:pt x="1453" y="55"/>
                  </a:lnTo>
                  <a:lnTo>
                    <a:pt x="1469" y="18"/>
                  </a:lnTo>
                  <a:lnTo>
                    <a:pt x="1474" y="0"/>
                  </a:lnTo>
                  <a:close/>
                  <a:moveTo>
                    <a:pt x="1934" y="0"/>
                  </a:moveTo>
                  <a:lnTo>
                    <a:pt x="2304" y="0"/>
                  </a:lnTo>
                  <a:lnTo>
                    <a:pt x="2222" y="55"/>
                  </a:lnTo>
                  <a:lnTo>
                    <a:pt x="1874" y="55"/>
                  </a:lnTo>
                  <a:lnTo>
                    <a:pt x="1900" y="28"/>
                  </a:lnTo>
                  <a:lnTo>
                    <a:pt x="1934" y="0"/>
                  </a:lnTo>
                  <a:close/>
                  <a:moveTo>
                    <a:pt x="3081" y="0"/>
                  </a:moveTo>
                  <a:lnTo>
                    <a:pt x="3873" y="0"/>
                  </a:lnTo>
                  <a:lnTo>
                    <a:pt x="3894" y="28"/>
                  </a:lnTo>
                  <a:lnTo>
                    <a:pt x="3913" y="55"/>
                  </a:lnTo>
                  <a:lnTo>
                    <a:pt x="3086" y="55"/>
                  </a:lnTo>
                  <a:lnTo>
                    <a:pt x="3082" y="36"/>
                  </a:lnTo>
                  <a:lnTo>
                    <a:pt x="3081" y="0"/>
                  </a:lnTo>
                  <a:close/>
                  <a:moveTo>
                    <a:pt x="4850" y="0"/>
                  </a:moveTo>
                  <a:lnTo>
                    <a:pt x="5165" y="0"/>
                  </a:lnTo>
                  <a:lnTo>
                    <a:pt x="5173" y="18"/>
                  </a:lnTo>
                  <a:lnTo>
                    <a:pt x="5173" y="28"/>
                  </a:lnTo>
                  <a:lnTo>
                    <a:pt x="5179" y="55"/>
                  </a:lnTo>
                  <a:lnTo>
                    <a:pt x="5026" y="55"/>
                  </a:lnTo>
                  <a:lnTo>
                    <a:pt x="5007" y="48"/>
                  </a:lnTo>
                  <a:lnTo>
                    <a:pt x="4969" y="48"/>
                  </a:lnTo>
                  <a:lnTo>
                    <a:pt x="4961" y="55"/>
                  </a:lnTo>
                  <a:lnTo>
                    <a:pt x="4884" y="55"/>
                  </a:lnTo>
                  <a:lnTo>
                    <a:pt x="4873" y="36"/>
                  </a:lnTo>
                  <a:lnTo>
                    <a:pt x="485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421800" y="3023280"/>
              <a:ext cx="2015640" cy="19080"/>
            </a:xfrm>
            <a:custGeom>
              <a:avLst/>
              <a:gdLst/>
              <a:ahLst/>
              <a:rect l="l" t="t" r="r" b="b"/>
              <a:pathLst>
                <a:path w="5242" h="53">
                  <a:moveTo>
                    <a:pt x="125" y="0"/>
                  </a:moveTo>
                  <a:lnTo>
                    <a:pt x="1464" y="0"/>
                  </a:lnTo>
                  <a:lnTo>
                    <a:pt x="1457" y="53"/>
                  </a:lnTo>
                  <a:lnTo>
                    <a:pt x="0" y="53"/>
                  </a:lnTo>
                  <a:lnTo>
                    <a:pt x="125" y="0"/>
                  </a:lnTo>
                  <a:close/>
                  <a:moveTo>
                    <a:pt x="1527" y="0"/>
                  </a:moveTo>
                  <a:lnTo>
                    <a:pt x="1879" y="0"/>
                  </a:lnTo>
                  <a:lnTo>
                    <a:pt x="1839" y="38"/>
                  </a:lnTo>
                  <a:lnTo>
                    <a:pt x="1838" y="53"/>
                  </a:lnTo>
                  <a:lnTo>
                    <a:pt x="1505" y="53"/>
                  </a:lnTo>
                  <a:lnTo>
                    <a:pt x="1527" y="0"/>
                  </a:lnTo>
                  <a:close/>
                  <a:moveTo>
                    <a:pt x="1963" y="0"/>
                  </a:moveTo>
                  <a:lnTo>
                    <a:pt x="2325" y="0"/>
                  </a:lnTo>
                  <a:lnTo>
                    <a:pt x="2267" y="38"/>
                  </a:lnTo>
                  <a:lnTo>
                    <a:pt x="2239" y="53"/>
                  </a:lnTo>
                  <a:lnTo>
                    <a:pt x="1903" y="53"/>
                  </a:lnTo>
                  <a:lnTo>
                    <a:pt x="1926" y="38"/>
                  </a:lnTo>
                  <a:lnTo>
                    <a:pt x="1962" y="0"/>
                  </a:lnTo>
                  <a:lnTo>
                    <a:pt x="1963" y="0"/>
                  </a:lnTo>
                  <a:close/>
                  <a:moveTo>
                    <a:pt x="3144" y="0"/>
                  </a:moveTo>
                  <a:lnTo>
                    <a:pt x="3956" y="0"/>
                  </a:lnTo>
                  <a:lnTo>
                    <a:pt x="3956" y="0"/>
                  </a:lnTo>
                  <a:lnTo>
                    <a:pt x="3993" y="53"/>
                  </a:lnTo>
                  <a:lnTo>
                    <a:pt x="3152" y="53"/>
                  </a:lnTo>
                  <a:lnTo>
                    <a:pt x="3144" y="8"/>
                  </a:lnTo>
                  <a:lnTo>
                    <a:pt x="3144" y="0"/>
                  </a:lnTo>
                  <a:close/>
                  <a:moveTo>
                    <a:pt x="4930" y="0"/>
                  </a:moveTo>
                  <a:lnTo>
                    <a:pt x="5235" y="0"/>
                  </a:lnTo>
                  <a:lnTo>
                    <a:pt x="5235" y="0"/>
                  </a:lnTo>
                  <a:lnTo>
                    <a:pt x="5242" y="30"/>
                  </a:lnTo>
                  <a:lnTo>
                    <a:pt x="5236" y="53"/>
                  </a:lnTo>
                  <a:lnTo>
                    <a:pt x="5143" y="53"/>
                  </a:lnTo>
                  <a:lnTo>
                    <a:pt x="5119" y="38"/>
                  </a:lnTo>
                  <a:lnTo>
                    <a:pt x="5069" y="20"/>
                  </a:lnTo>
                  <a:lnTo>
                    <a:pt x="5031" y="20"/>
                  </a:lnTo>
                  <a:lnTo>
                    <a:pt x="4994" y="49"/>
                  </a:lnTo>
                  <a:lnTo>
                    <a:pt x="4964" y="49"/>
                  </a:lnTo>
                  <a:lnTo>
                    <a:pt x="4953" y="38"/>
                  </a:lnTo>
                  <a:lnTo>
                    <a:pt x="4935" y="8"/>
                  </a:lnTo>
                  <a:lnTo>
                    <a:pt x="493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314160" y="3033720"/>
              <a:ext cx="2123280" cy="17640"/>
            </a:xfrm>
            <a:custGeom>
              <a:avLst/>
              <a:gdLst/>
              <a:ahLst/>
              <a:rect l="l" t="t" r="r" b="b"/>
              <a:pathLst>
                <a:path w="5525" h="54">
                  <a:moveTo>
                    <a:pt x="345" y="0"/>
                  </a:moveTo>
                  <a:lnTo>
                    <a:pt x="1744" y="0"/>
                  </a:lnTo>
                  <a:lnTo>
                    <a:pt x="1738" y="38"/>
                  </a:lnTo>
                  <a:lnTo>
                    <a:pt x="1736" y="54"/>
                  </a:lnTo>
                  <a:lnTo>
                    <a:pt x="0" y="54"/>
                  </a:lnTo>
                  <a:lnTo>
                    <a:pt x="3" y="51"/>
                  </a:lnTo>
                  <a:lnTo>
                    <a:pt x="43" y="38"/>
                  </a:lnTo>
                  <a:lnTo>
                    <a:pt x="256" y="38"/>
                  </a:lnTo>
                  <a:lnTo>
                    <a:pt x="345" y="0"/>
                  </a:lnTo>
                  <a:close/>
                  <a:moveTo>
                    <a:pt x="1798" y="0"/>
                  </a:moveTo>
                  <a:lnTo>
                    <a:pt x="2133" y="0"/>
                  </a:lnTo>
                  <a:lnTo>
                    <a:pt x="2122" y="11"/>
                  </a:lnTo>
                  <a:lnTo>
                    <a:pt x="2119" y="53"/>
                  </a:lnTo>
                  <a:lnTo>
                    <a:pt x="2171" y="40"/>
                  </a:lnTo>
                  <a:lnTo>
                    <a:pt x="2180" y="31"/>
                  </a:lnTo>
                  <a:lnTo>
                    <a:pt x="2209" y="11"/>
                  </a:lnTo>
                  <a:lnTo>
                    <a:pt x="2219" y="0"/>
                  </a:lnTo>
                  <a:lnTo>
                    <a:pt x="2567" y="0"/>
                  </a:lnTo>
                  <a:lnTo>
                    <a:pt x="2550" y="11"/>
                  </a:lnTo>
                  <a:lnTo>
                    <a:pt x="2474" y="54"/>
                  </a:lnTo>
                  <a:lnTo>
                    <a:pt x="1781" y="54"/>
                  </a:lnTo>
                  <a:lnTo>
                    <a:pt x="1782" y="38"/>
                  </a:lnTo>
                  <a:lnTo>
                    <a:pt x="1798" y="0"/>
                  </a:lnTo>
                  <a:close/>
                  <a:moveTo>
                    <a:pt x="3431" y="0"/>
                  </a:moveTo>
                  <a:lnTo>
                    <a:pt x="4258" y="0"/>
                  </a:lnTo>
                  <a:lnTo>
                    <a:pt x="4295" y="54"/>
                  </a:lnTo>
                  <a:lnTo>
                    <a:pt x="3440" y="54"/>
                  </a:lnTo>
                  <a:lnTo>
                    <a:pt x="3431" y="0"/>
                  </a:lnTo>
                  <a:close/>
                  <a:moveTo>
                    <a:pt x="5229" y="0"/>
                  </a:moveTo>
                  <a:lnTo>
                    <a:pt x="5306" y="0"/>
                  </a:lnTo>
                  <a:lnTo>
                    <a:pt x="5277" y="22"/>
                  </a:lnTo>
                  <a:lnTo>
                    <a:pt x="5247" y="22"/>
                  </a:lnTo>
                  <a:lnTo>
                    <a:pt x="5236" y="11"/>
                  </a:lnTo>
                  <a:lnTo>
                    <a:pt x="5229" y="0"/>
                  </a:lnTo>
                  <a:close/>
                  <a:moveTo>
                    <a:pt x="5371" y="0"/>
                  </a:moveTo>
                  <a:lnTo>
                    <a:pt x="5524" y="0"/>
                  </a:lnTo>
                  <a:lnTo>
                    <a:pt x="5525" y="3"/>
                  </a:lnTo>
                  <a:lnTo>
                    <a:pt x="5518" y="31"/>
                  </a:lnTo>
                  <a:lnTo>
                    <a:pt x="5496" y="53"/>
                  </a:lnTo>
                  <a:lnTo>
                    <a:pt x="5431" y="31"/>
                  </a:lnTo>
                  <a:lnTo>
                    <a:pt x="5402" y="11"/>
                  </a:lnTo>
                  <a:lnTo>
                    <a:pt x="537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304440" y="3042720"/>
              <a:ext cx="2130480" cy="19440"/>
            </a:xfrm>
            <a:custGeom>
              <a:avLst/>
              <a:gdLst/>
              <a:ahLst/>
              <a:rect l="l" t="t" r="r" b="b"/>
              <a:pathLst>
                <a:path w="5544" h="55">
                  <a:moveTo>
                    <a:pt x="308" y="0"/>
                  </a:moveTo>
                  <a:lnTo>
                    <a:pt x="1765" y="0"/>
                  </a:lnTo>
                  <a:lnTo>
                    <a:pt x="1763" y="12"/>
                  </a:lnTo>
                  <a:lnTo>
                    <a:pt x="1757" y="55"/>
                  </a:lnTo>
                  <a:lnTo>
                    <a:pt x="0" y="55"/>
                  </a:lnTo>
                  <a:lnTo>
                    <a:pt x="28" y="25"/>
                  </a:lnTo>
                  <a:lnTo>
                    <a:pt x="68" y="12"/>
                  </a:lnTo>
                  <a:lnTo>
                    <a:pt x="281" y="12"/>
                  </a:lnTo>
                  <a:lnTo>
                    <a:pt x="308" y="0"/>
                  </a:lnTo>
                  <a:close/>
                  <a:moveTo>
                    <a:pt x="1813" y="0"/>
                  </a:moveTo>
                  <a:lnTo>
                    <a:pt x="2146" y="0"/>
                  </a:lnTo>
                  <a:lnTo>
                    <a:pt x="2144" y="27"/>
                  </a:lnTo>
                  <a:lnTo>
                    <a:pt x="2196" y="14"/>
                  </a:lnTo>
                  <a:lnTo>
                    <a:pt x="2205" y="5"/>
                  </a:lnTo>
                  <a:lnTo>
                    <a:pt x="2211" y="0"/>
                  </a:lnTo>
                  <a:lnTo>
                    <a:pt x="2547" y="0"/>
                  </a:lnTo>
                  <a:lnTo>
                    <a:pt x="2474" y="42"/>
                  </a:lnTo>
                  <a:lnTo>
                    <a:pt x="2456" y="55"/>
                  </a:lnTo>
                  <a:lnTo>
                    <a:pt x="1804" y="55"/>
                  </a:lnTo>
                  <a:lnTo>
                    <a:pt x="1807" y="12"/>
                  </a:lnTo>
                  <a:lnTo>
                    <a:pt x="1813" y="0"/>
                  </a:lnTo>
                  <a:close/>
                  <a:moveTo>
                    <a:pt x="3460" y="0"/>
                  </a:moveTo>
                  <a:lnTo>
                    <a:pt x="4301" y="0"/>
                  </a:lnTo>
                  <a:lnTo>
                    <a:pt x="4324" y="34"/>
                  </a:lnTo>
                  <a:lnTo>
                    <a:pt x="4332" y="55"/>
                  </a:lnTo>
                  <a:lnTo>
                    <a:pt x="3471" y="55"/>
                  </a:lnTo>
                  <a:lnTo>
                    <a:pt x="3460" y="0"/>
                  </a:lnTo>
                  <a:close/>
                  <a:moveTo>
                    <a:pt x="5451" y="0"/>
                  </a:moveTo>
                  <a:lnTo>
                    <a:pt x="5544" y="0"/>
                  </a:lnTo>
                  <a:lnTo>
                    <a:pt x="5543" y="5"/>
                  </a:lnTo>
                  <a:lnTo>
                    <a:pt x="5521" y="27"/>
                  </a:lnTo>
                  <a:lnTo>
                    <a:pt x="5456" y="5"/>
                  </a:lnTo>
                  <a:lnTo>
                    <a:pt x="545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294720" y="3051360"/>
              <a:ext cx="1677240" cy="19440"/>
            </a:xfrm>
            <a:custGeom>
              <a:avLst/>
              <a:gdLst/>
              <a:ahLst/>
              <a:rect l="l" t="t" r="r" b="b"/>
              <a:pathLst>
                <a:path w="4366" h="53">
                  <a:moveTo>
                    <a:pt x="49" y="0"/>
                  </a:moveTo>
                  <a:lnTo>
                    <a:pt x="1785" y="0"/>
                  </a:lnTo>
                  <a:lnTo>
                    <a:pt x="1778" y="53"/>
                  </a:lnTo>
                  <a:lnTo>
                    <a:pt x="0" y="53"/>
                  </a:lnTo>
                  <a:lnTo>
                    <a:pt x="17" y="35"/>
                  </a:lnTo>
                  <a:lnTo>
                    <a:pt x="49" y="0"/>
                  </a:lnTo>
                  <a:close/>
                  <a:moveTo>
                    <a:pt x="1830" y="0"/>
                  </a:moveTo>
                  <a:lnTo>
                    <a:pt x="2523" y="0"/>
                  </a:lnTo>
                  <a:lnTo>
                    <a:pt x="2498" y="14"/>
                  </a:lnTo>
                  <a:lnTo>
                    <a:pt x="2444" y="53"/>
                  </a:lnTo>
                  <a:lnTo>
                    <a:pt x="1826" y="53"/>
                  </a:lnTo>
                  <a:lnTo>
                    <a:pt x="1830" y="0"/>
                  </a:lnTo>
                  <a:close/>
                  <a:moveTo>
                    <a:pt x="3489" y="0"/>
                  </a:moveTo>
                  <a:lnTo>
                    <a:pt x="4344" y="0"/>
                  </a:lnTo>
                  <a:lnTo>
                    <a:pt x="4348" y="6"/>
                  </a:lnTo>
                  <a:lnTo>
                    <a:pt x="4366" y="53"/>
                  </a:lnTo>
                  <a:lnTo>
                    <a:pt x="3500" y="53"/>
                  </a:lnTo>
                  <a:lnTo>
                    <a:pt x="348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285360" y="3062160"/>
              <a:ext cx="1690560" cy="19080"/>
            </a:xfrm>
            <a:custGeom>
              <a:avLst/>
              <a:gdLst/>
              <a:ahLst/>
              <a:rect l="l" t="t" r="r" b="b"/>
              <a:pathLst>
                <a:path w="4402" h="54">
                  <a:moveTo>
                    <a:pt x="49" y="0"/>
                  </a:moveTo>
                  <a:lnTo>
                    <a:pt x="1806" y="0"/>
                  </a:lnTo>
                  <a:lnTo>
                    <a:pt x="1799" y="54"/>
                  </a:lnTo>
                  <a:lnTo>
                    <a:pt x="874" y="54"/>
                  </a:lnTo>
                  <a:lnTo>
                    <a:pt x="871" y="28"/>
                  </a:lnTo>
                  <a:lnTo>
                    <a:pt x="767" y="54"/>
                  </a:lnTo>
                  <a:lnTo>
                    <a:pt x="0" y="54"/>
                  </a:lnTo>
                  <a:lnTo>
                    <a:pt x="42" y="8"/>
                  </a:lnTo>
                  <a:lnTo>
                    <a:pt x="49" y="0"/>
                  </a:lnTo>
                  <a:close/>
                  <a:moveTo>
                    <a:pt x="1853" y="0"/>
                  </a:moveTo>
                  <a:lnTo>
                    <a:pt x="2505" y="0"/>
                  </a:lnTo>
                  <a:lnTo>
                    <a:pt x="2465" y="28"/>
                  </a:lnTo>
                  <a:lnTo>
                    <a:pt x="2448" y="37"/>
                  </a:lnTo>
                  <a:lnTo>
                    <a:pt x="2436" y="37"/>
                  </a:lnTo>
                  <a:lnTo>
                    <a:pt x="2430" y="54"/>
                  </a:lnTo>
                  <a:lnTo>
                    <a:pt x="1848" y="54"/>
                  </a:lnTo>
                  <a:lnTo>
                    <a:pt x="1853" y="0"/>
                  </a:lnTo>
                  <a:close/>
                  <a:moveTo>
                    <a:pt x="3520" y="0"/>
                  </a:moveTo>
                  <a:lnTo>
                    <a:pt x="4381" y="0"/>
                  </a:lnTo>
                  <a:lnTo>
                    <a:pt x="4402" y="54"/>
                  </a:lnTo>
                  <a:lnTo>
                    <a:pt x="3529" y="54"/>
                  </a:lnTo>
                  <a:lnTo>
                    <a:pt x="3520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275640" y="3071160"/>
              <a:ext cx="1703880" cy="19080"/>
            </a:xfrm>
            <a:custGeom>
              <a:avLst/>
              <a:gdLst/>
              <a:ahLst/>
              <a:rect l="l" t="t" r="r" b="b"/>
              <a:pathLst>
                <a:path w="4436" h="55">
                  <a:moveTo>
                    <a:pt x="49" y="0"/>
                  </a:moveTo>
                  <a:lnTo>
                    <a:pt x="1827" y="0"/>
                  </a:lnTo>
                  <a:lnTo>
                    <a:pt x="1818" y="55"/>
                  </a:lnTo>
                  <a:lnTo>
                    <a:pt x="902" y="55"/>
                  </a:lnTo>
                  <a:lnTo>
                    <a:pt x="895" y="2"/>
                  </a:lnTo>
                  <a:lnTo>
                    <a:pt x="681" y="55"/>
                  </a:lnTo>
                  <a:lnTo>
                    <a:pt x="0" y="55"/>
                  </a:lnTo>
                  <a:lnTo>
                    <a:pt x="49" y="0"/>
                  </a:lnTo>
                  <a:close/>
                  <a:moveTo>
                    <a:pt x="1875" y="0"/>
                  </a:moveTo>
                  <a:lnTo>
                    <a:pt x="2493" y="0"/>
                  </a:lnTo>
                  <a:lnTo>
                    <a:pt x="2489" y="2"/>
                  </a:lnTo>
                  <a:lnTo>
                    <a:pt x="2472" y="11"/>
                  </a:lnTo>
                  <a:lnTo>
                    <a:pt x="2460" y="11"/>
                  </a:lnTo>
                  <a:lnTo>
                    <a:pt x="2453" y="32"/>
                  </a:lnTo>
                  <a:lnTo>
                    <a:pt x="2434" y="55"/>
                  </a:lnTo>
                  <a:lnTo>
                    <a:pt x="1874" y="55"/>
                  </a:lnTo>
                  <a:lnTo>
                    <a:pt x="1872" y="30"/>
                  </a:lnTo>
                  <a:lnTo>
                    <a:pt x="1875" y="0"/>
                  </a:lnTo>
                  <a:close/>
                  <a:moveTo>
                    <a:pt x="3549" y="0"/>
                  </a:moveTo>
                  <a:lnTo>
                    <a:pt x="4415" y="0"/>
                  </a:lnTo>
                  <a:lnTo>
                    <a:pt x="4434" y="50"/>
                  </a:lnTo>
                  <a:lnTo>
                    <a:pt x="4436" y="55"/>
                  </a:lnTo>
                  <a:lnTo>
                    <a:pt x="3558" y="55"/>
                  </a:lnTo>
                  <a:lnTo>
                    <a:pt x="354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267720" y="3081600"/>
              <a:ext cx="1713960" cy="17640"/>
            </a:xfrm>
            <a:custGeom>
              <a:avLst/>
              <a:gdLst/>
              <a:ahLst/>
              <a:rect l="l" t="t" r="r" b="b"/>
              <a:pathLst>
                <a:path w="4464" h="53">
                  <a:moveTo>
                    <a:pt x="47" y="0"/>
                  </a:moveTo>
                  <a:lnTo>
                    <a:pt x="814" y="0"/>
                  </a:lnTo>
                  <a:lnTo>
                    <a:pt x="594" y="53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7" y="0"/>
                  </a:lnTo>
                  <a:close/>
                  <a:moveTo>
                    <a:pt x="921" y="0"/>
                  </a:moveTo>
                  <a:lnTo>
                    <a:pt x="1846" y="0"/>
                  </a:lnTo>
                  <a:lnTo>
                    <a:pt x="1837" y="53"/>
                  </a:lnTo>
                  <a:lnTo>
                    <a:pt x="928" y="53"/>
                  </a:lnTo>
                  <a:lnTo>
                    <a:pt x="921" y="0"/>
                  </a:lnTo>
                  <a:close/>
                  <a:moveTo>
                    <a:pt x="1895" y="0"/>
                  </a:moveTo>
                  <a:lnTo>
                    <a:pt x="2477" y="0"/>
                  </a:lnTo>
                  <a:lnTo>
                    <a:pt x="2476" y="4"/>
                  </a:lnTo>
                  <a:lnTo>
                    <a:pt x="2438" y="49"/>
                  </a:lnTo>
                  <a:lnTo>
                    <a:pt x="2435" y="53"/>
                  </a:lnTo>
                  <a:lnTo>
                    <a:pt x="1899" y="53"/>
                  </a:lnTo>
                  <a:lnTo>
                    <a:pt x="1895" y="2"/>
                  </a:lnTo>
                  <a:lnTo>
                    <a:pt x="1895" y="0"/>
                  </a:lnTo>
                  <a:close/>
                  <a:moveTo>
                    <a:pt x="3576" y="0"/>
                  </a:moveTo>
                  <a:lnTo>
                    <a:pt x="4449" y="0"/>
                  </a:lnTo>
                  <a:lnTo>
                    <a:pt x="4457" y="22"/>
                  </a:lnTo>
                  <a:lnTo>
                    <a:pt x="4464" y="53"/>
                  </a:lnTo>
                  <a:lnTo>
                    <a:pt x="3586" y="53"/>
                  </a:lnTo>
                  <a:lnTo>
                    <a:pt x="3585" y="49"/>
                  </a:lnTo>
                  <a:lnTo>
                    <a:pt x="3576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262320" y="3090240"/>
              <a:ext cx="1723680" cy="19440"/>
            </a:xfrm>
            <a:custGeom>
              <a:avLst/>
              <a:gdLst/>
              <a:ahLst/>
              <a:rect l="l" t="t" r="r" b="b"/>
              <a:pathLst>
                <a:path w="4485" h="53">
                  <a:moveTo>
                    <a:pt x="37" y="0"/>
                  </a:moveTo>
                  <a:lnTo>
                    <a:pt x="718" y="0"/>
                  </a:lnTo>
                  <a:lnTo>
                    <a:pt x="544" y="42"/>
                  </a:lnTo>
                  <a:lnTo>
                    <a:pt x="537" y="50"/>
                  </a:lnTo>
                  <a:lnTo>
                    <a:pt x="535" y="53"/>
                  </a:lnTo>
                  <a:lnTo>
                    <a:pt x="0" y="53"/>
                  </a:lnTo>
                  <a:lnTo>
                    <a:pt x="16" y="22"/>
                  </a:lnTo>
                  <a:lnTo>
                    <a:pt x="37" y="0"/>
                  </a:lnTo>
                  <a:close/>
                  <a:moveTo>
                    <a:pt x="939" y="0"/>
                  </a:moveTo>
                  <a:lnTo>
                    <a:pt x="1855" y="0"/>
                  </a:lnTo>
                  <a:lnTo>
                    <a:pt x="1850" y="35"/>
                  </a:lnTo>
                  <a:lnTo>
                    <a:pt x="1855" y="53"/>
                  </a:lnTo>
                  <a:lnTo>
                    <a:pt x="946" y="53"/>
                  </a:lnTo>
                  <a:lnTo>
                    <a:pt x="939" y="0"/>
                  </a:lnTo>
                  <a:close/>
                  <a:moveTo>
                    <a:pt x="1911" y="0"/>
                  </a:moveTo>
                  <a:lnTo>
                    <a:pt x="2471" y="0"/>
                  </a:lnTo>
                  <a:lnTo>
                    <a:pt x="2452" y="22"/>
                  </a:lnTo>
                  <a:lnTo>
                    <a:pt x="2427" y="53"/>
                  </a:lnTo>
                  <a:lnTo>
                    <a:pt x="1916" y="53"/>
                  </a:lnTo>
                  <a:lnTo>
                    <a:pt x="1911" y="0"/>
                  </a:lnTo>
                  <a:close/>
                  <a:moveTo>
                    <a:pt x="3595" y="0"/>
                  </a:moveTo>
                  <a:lnTo>
                    <a:pt x="4473" y="0"/>
                  </a:lnTo>
                  <a:lnTo>
                    <a:pt x="4485" y="53"/>
                  </a:lnTo>
                  <a:lnTo>
                    <a:pt x="3608" y="53"/>
                  </a:lnTo>
                  <a:lnTo>
                    <a:pt x="3599" y="22"/>
                  </a:lnTo>
                  <a:lnTo>
                    <a:pt x="359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260520" y="3099240"/>
              <a:ext cx="1726920" cy="19440"/>
            </a:xfrm>
            <a:custGeom>
              <a:avLst/>
              <a:gdLst/>
              <a:ahLst/>
              <a:rect l="l" t="t" r="r" b="b"/>
              <a:pathLst>
                <a:path w="4495" h="55">
                  <a:moveTo>
                    <a:pt x="18" y="0"/>
                  </a:moveTo>
                  <a:lnTo>
                    <a:pt x="612" y="0"/>
                  </a:lnTo>
                  <a:lnTo>
                    <a:pt x="548" y="16"/>
                  </a:lnTo>
                  <a:lnTo>
                    <a:pt x="541" y="24"/>
                  </a:lnTo>
                  <a:lnTo>
                    <a:pt x="522" y="55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18" y="0"/>
                  </a:lnTo>
                  <a:close/>
                  <a:moveTo>
                    <a:pt x="946" y="0"/>
                  </a:moveTo>
                  <a:lnTo>
                    <a:pt x="1855" y="0"/>
                  </a:lnTo>
                  <a:lnTo>
                    <a:pt x="1854" y="9"/>
                  </a:lnTo>
                  <a:lnTo>
                    <a:pt x="1866" y="55"/>
                  </a:lnTo>
                  <a:lnTo>
                    <a:pt x="954" y="55"/>
                  </a:lnTo>
                  <a:lnTo>
                    <a:pt x="946" y="0"/>
                  </a:lnTo>
                  <a:close/>
                  <a:moveTo>
                    <a:pt x="1917" y="0"/>
                  </a:moveTo>
                  <a:lnTo>
                    <a:pt x="2453" y="0"/>
                  </a:lnTo>
                  <a:lnTo>
                    <a:pt x="2410" y="55"/>
                  </a:lnTo>
                  <a:lnTo>
                    <a:pt x="1928" y="55"/>
                  </a:lnTo>
                  <a:lnTo>
                    <a:pt x="1921" y="44"/>
                  </a:lnTo>
                  <a:lnTo>
                    <a:pt x="1917" y="0"/>
                  </a:lnTo>
                  <a:close/>
                  <a:moveTo>
                    <a:pt x="3604" y="0"/>
                  </a:moveTo>
                  <a:lnTo>
                    <a:pt x="4482" y="0"/>
                  </a:lnTo>
                  <a:lnTo>
                    <a:pt x="4495" y="55"/>
                  </a:lnTo>
                  <a:lnTo>
                    <a:pt x="3619" y="55"/>
                  </a:lnTo>
                  <a:lnTo>
                    <a:pt x="3604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260520" y="3110040"/>
              <a:ext cx="1728720" cy="19080"/>
            </a:xfrm>
            <a:custGeom>
              <a:avLst/>
              <a:gdLst/>
              <a:ahLst/>
              <a:rect l="l" t="t" r="r" b="b"/>
              <a:pathLst>
                <a:path w="4498" h="55">
                  <a:moveTo>
                    <a:pt x="4" y="0"/>
                  </a:moveTo>
                  <a:lnTo>
                    <a:pt x="539" y="0"/>
                  </a:lnTo>
                  <a:lnTo>
                    <a:pt x="521" y="29"/>
                  </a:lnTo>
                  <a:lnTo>
                    <a:pt x="490" y="5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9"/>
                  </a:lnTo>
                  <a:lnTo>
                    <a:pt x="4" y="0"/>
                  </a:lnTo>
                  <a:close/>
                  <a:moveTo>
                    <a:pt x="950" y="0"/>
                  </a:moveTo>
                  <a:lnTo>
                    <a:pt x="1859" y="0"/>
                  </a:lnTo>
                  <a:lnTo>
                    <a:pt x="1872" y="55"/>
                  </a:lnTo>
                  <a:lnTo>
                    <a:pt x="958" y="55"/>
                  </a:lnTo>
                  <a:lnTo>
                    <a:pt x="950" y="0"/>
                  </a:lnTo>
                  <a:close/>
                  <a:moveTo>
                    <a:pt x="1920" y="0"/>
                  </a:moveTo>
                  <a:lnTo>
                    <a:pt x="2431" y="0"/>
                  </a:lnTo>
                  <a:lnTo>
                    <a:pt x="2388" y="55"/>
                  </a:lnTo>
                  <a:lnTo>
                    <a:pt x="1945" y="55"/>
                  </a:lnTo>
                  <a:lnTo>
                    <a:pt x="1921" y="17"/>
                  </a:lnTo>
                  <a:lnTo>
                    <a:pt x="1920" y="0"/>
                  </a:lnTo>
                  <a:close/>
                  <a:moveTo>
                    <a:pt x="3612" y="0"/>
                  </a:moveTo>
                  <a:lnTo>
                    <a:pt x="4489" y="0"/>
                  </a:lnTo>
                  <a:lnTo>
                    <a:pt x="4495" y="29"/>
                  </a:lnTo>
                  <a:lnTo>
                    <a:pt x="4498" y="55"/>
                  </a:lnTo>
                  <a:lnTo>
                    <a:pt x="3627" y="55"/>
                  </a:lnTo>
                  <a:lnTo>
                    <a:pt x="3625" y="49"/>
                  </a:lnTo>
                  <a:lnTo>
                    <a:pt x="3612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2" name=""/>
            <p:cNvGrpSpPr/>
            <p:nvPr/>
          </p:nvGrpSpPr>
          <p:grpSpPr>
            <a:xfrm>
              <a:off x="2989440" y="1472400"/>
              <a:ext cx="2881440" cy="3632400"/>
              <a:chOff x="2989440" y="1472400"/>
              <a:chExt cx="2881440" cy="3632400"/>
            </a:xfrm>
          </p:grpSpPr>
          <p:sp>
            <p:nvSpPr>
              <p:cNvPr id="3663" name=""/>
              <p:cNvSpPr/>
              <p:nvPr/>
            </p:nvSpPr>
            <p:spPr>
              <a:xfrm>
                <a:off x="3260160" y="3118680"/>
                <a:ext cx="1728720" cy="19080"/>
              </a:xfrm>
              <a:custGeom>
                <a:avLst/>
                <a:gdLst/>
                <a:ahLst/>
                <a:rect l="l" t="t" r="r" b="b"/>
                <a:pathLst>
                  <a:path w="4501" h="53">
                    <a:moveTo>
                      <a:pt x="0" y="0"/>
                    </a:moveTo>
                    <a:lnTo>
                      <a:pt x="522" y="0"/>
                    </a:lnTo>
                    <a:lnTo>
                      <a:pt x="521" y="1"/>
                    </a:lnTo>
                    <a:lnTo>
                      <a:pt x="460" y="53"/>
                    </a:lnTo>
                    <a:lnTo>
                      <a:pt x="14" y="53"/>
                    </a:lnTo>
                    <a:lnTo>
                      <a:pt x="8" y="4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6" y="0"/>
                    </a:lnTo>
                    <a:lnTo>
                      <a:pt x="1877" y="48"/>
                    </a:lnTo>
                    <a:lnTo>
                      <a:pt x="1879" y="53"/>
                    </a:lnTo>
                    <a:lnTo>
                      <a:pt x="962" y="53"/>
                    </a:lnTo>
                    <a:lnTo>
                      <a:pt x="954" y="0"/>
                    </a:lnTo>
                    <a:close/>
                    <a:moveTo>
                      <a:pt x="1928" y="0"/>
                    </a:moveTo>
                    <a:lnTo>
                      <a:pt x="2410" y="0"/>
                    </a:lnTo>
                    <a:lnTo>
                      <a:pt x="2377" y="40"/>
                    </a:lnTo>
                    <a:lnTo>
                      <a:pt x="2359" y="53"/>
                    </a:lnTo>
                    <a:lnTo>
                      <a:pt x="1952" y="53"/>
                    </a:lnTo>
                    <a:lnTo>
                      <a:pt x="1959" y="44"/>
                    </a:lnTo>
                    <a:lnTo>
                      <a:pt x="1953" y="40"/>
                    </a:lnTo>
                    <a:lnTo>
                      <a:pt x="1928" y="0"/>
                    </a:lnTo>
                    <a:close/>
                    <a:moveTo>
                      <a:pt x="3619" y="0"/>
                    </a:moveTo>
                    <a:lnTo>
                      <a:pt x="4495" y="0"/>
                    </a:lnTo>
                    <a:lnTo>
                      <a:pt x="4495" y="1"/>
                    </a:lnTo>
                    <a:lnTo>
                      <a:pt x="4501" y="53"/>
                    </a:lnTo>
                    <a:lnTo>
                      <a:pt x="3630" y="53"/>
                    </a:lnTo>
                    <a:lnTo>
                      <a:pt x="3625" y="21"/>
                    </a:lnTo>
                    <a:lnTo>
                      <a:pt x="3619" y="0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3261960" y="3129120"/>
                <a:ext cx="1729080" cy="17640"/>
              </a:xfrm>
              <a:custGeom>
                <a:avLst/>
                <a:gdLst/>
                <a:ahLst/>
                <a:rect l="l" t="t" r="r" b="b"/>
                <a:pathLst>
                  <a:path w="4500" h="54">
                    <a:moveTo>
                      <a:pt x="0" y="0"/>
                    </a:moveTo>
                    <a:lnTo>
                      <a:pt x="486" y="0"/>
                    </a:lnTo>
                    <a:lnTo>
                      <a:pt x="430" y="48"/>
                    </a:lnTo>
                    <a:lnTo>
                      <a:pt x="417" y="54"/>
                    </a:lnTo>
                    <a:lnTo>
                      <a:pt x="19" y="54"/>
                    </a:lnTo>
                    <a:lnTo>
                      <a:pt x="16" y="41"/>
                    </a:lnTo>
                    <a:lnTo>
                      <a:pt x="4" y="13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8" y="0"/>
                    </a:lnTo>
                    <a:lnTo>
                      <a:pt x="1873" y="21"/>
                    </a:lnTo>
                    <a:lnTo>
                      <a:pt x="1886" y="54"/>
                    </a:lnTo>
                    <a:lnTo>
                      <a:pt x="962" y="54"/>
                    </a:lnTo>
                    <a:lnTo>
                      <a:pt x="954" y="0"/>
                    </a:lnTo>
                    <a:close/>
                    <a:moveTo>
                      <a:pt x="1941" y="0"/>
                    </a:moveTo>
                    <a:lnTo>
                      <a:pt x="2384" y="0"/>
                    </a:lnTo>
                    <a:lnTo>
                      <a:pt x="2373" y="13"/>
                    </a:lnTo>
                    <a:lnTo>
                      <a:pt x="2321" y="54"/>
                    </a:lnTo>
                    <a:lnTo>
                      <a:pt x="1937" y="54"/>
                    </a:lnTo>
                    <a:lnTo>
                      <a:pt x="1937" y="43"/>
                    </a:lnTo>
                    <a:lnTo>
                      <a:pt x="1955" y="17"/>
                    </a:lnTo>
                    <a:lnTo>
                      <a:pt x="1949" y="13"/>
                    </a:lnTo>
                    <a:lnTo>
                      <a:pt x="1941" y="0"/>
                    </a:lnTo>
                    <a:close/>
                    <a:moveTo>
                      <a:pt x="3623" y="0"/>
                    </a:moveTo>
                    <a:lnTo>
                      <a:pt x="4494" y="0"/>
                    </a:lnTo>
                    <a:lnTo>
                      <a:pt x="4500" y="54"/>
                    </a:lnTo>
                    <a:lnTo>
                      <a:pt x="3630" y="54"/>
                    </a:lnTo>
                    <a:lnTo>
                      <a:pt x="3629" y="51"/>
                    </a:lnTo>
                    <a:lnTo>
                      <a:pt x="3623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3265920" y="3137760"/>
                <a:ext cx="1725120" cy="19440"/>
              </a:xfrm>
              <a:custGeom>
                <a:avLst/>
                <a:gdLst/>
                <a:ahLst/>
                <a:rect l="l" t="t" r="r" b="b"/>
                <a:pathLst>
                  <a:path w="4491" h="55">
                    <a:moveTo>
                      <a:pt x="0" y="0"/>
                    </a:moveTo>
                    <a:lnTo>
                      <a:pt x="446" y="0"/>
                    </a:lnTo>
                    <a:lnTo>
                      <a:pt x="420" y="22"/>
                    </a:lnTo>
                    <a:lnTo>
                      <a:pt x="334" y="55"/>
                    </a:lnTo>
                    <a:lnTo>
                      <a:pt x="16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948" y="0"/>
                    </a:moveTo>
                    <a:lnTo>
                      <a:pt x="1865" y="0"/>
                    </a:lnTo>
                    <a:lnTo>
                      <a:pt x="1885" y="55"/>
                    </a:lnTo>
                    <a:lnTo>
                      <a:pt x="953" y="55"/>
                    </a:lnTo>
                    <a:lnTo>
                      <a:pt x="953" y="34"/>
                    </a:lnTo>
                    <a:lnTo>
                      <a:pt x="948" y="0"/>
                    </a:lnTo>
                    <a:close/>
                    <a:moveTo>
                      <a:pt x="1938" y="0"/>
                    </a:moveTo>
                    <a:lnTo>
                      <a:pt x="2345" y="0"/>
                    </a:lnTo>
                    <a:lnTo>
                      <a:pt x="2276" y="54"/>
                    </a:lnTo>
                    <a:lnTo>
                      <a:pt x="2275" y="55"/>
                    </a:lnTo>
                    <a:lnTo>
                      <a:pt x="1927" y="55"/>
                    </a:lnTo>
                    <a:lnTo>
                      <a:pt x="1927" y="17"/>
                    </a:lnTo>
                    <a:lnTo>
                      <a:pt x="1938" y="0"/>
                    </a:lnTo>
                    <a:close/>
                    <a:moveTo>
                      <a:pt x="3616" y="0"/>
                    </a:moveTo>
                    <a:lnTo>
                      <a:pt x="4487" y="0"/>
                    </a:lnTo>
                    <a:lnTo>
                      <a:pt x="4491" y="34"/>
                    </a:lnTo>
                    <a:lnTo>
                      <a:pt x="4491" y="55"/>
                    </a:lnTo>
                    <a:lnTo>
                      <a:pt x="3631" y="55"/>
                    </a:lnTo>
                    <a:lnTo>
                      <a:pt x="3619" y="25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3269880" y="3146760"/>
                <a:ext cx="1721160" cy="19440"/>
              </a:xfrm>
              <a:custGeom>
                <a:avLst/>
                <a:gdLst/>
                <a:ahLst/>
                <a:rect l="l" t="t" r="r" b="b"/>
                <a:pathLst>
                  <a:path w="4482" h="53">
                    <a:moveTo>
                      <a:pt x="0" y="0"/>
                    </a:moveTo>
                    <a:lnTo>
                      <a:pt x="398" y="0"/>
                    </a:lnTo>
                    <a:lnTo>
                      <a:pt x="305" y="34"/>
                    </a:lnTo>
                    <a:lnTo>
                      <a:pt x="265" y="46"/>
                    </a:lnTo>
                    <a:lnTo>
                      <a:pt x="246" y="46"/>
                    </a:lnTo>
                    <a:lnTo>
                      <a:pt x="237" y="53"/>
                    </a:lnTo>
                    <a:lnTo>
                      <a:pt x="19" y="53"/>
                    </a:lnTo>
                    <a:lnTo>
                      <a:pt x="13" y="46"/>
                    </a:lnTo>
                    <a:lnTo>
                      <a:pt x="0" y="0"/>
                    </a:lnTo>
                    <a:close/>
                    <a:moveTo>
                      <a:pt x="943" y="0"/>
                    </a:moveTo>
                    <a:lnTo>
                      <a:pt x="1867" y="0"/>
                    </a:lnTo>
                    <a:lnTo>
                      <a:pt x="1887" y="53"/>
                    </a:lnTo>
                    <a:lnTo>
                      <a:pt x="942" y="53"/>
                    </a:lnTo>
                    <a:lnTo>
                      <a:pt x="944" y="46"/>
                    </a:lnTo>
                    <a:lnTo>
                      <a:pt x="944" y="6"/>
                    </a:lnTo>
                    <a:lnTo>
                      <a:pt x="943" y="0"/>
                    </a:lnTo>
                    <a:close/>
                    <a:moveTo>
                      <a:pt x="1918" y="0"/>
                    </a:moveTo>
                    <a:lnTo>
                      <a:pt x="2302" y="0"/>
                    </a:lnTo>
                    <a:lnTo>
                      <a:pt x="2267" y="26"/>
                    </a:lnTo>
                    <a:lnTo>
                      <a:pt x="2255" y="30"/>
                    </a:lnTo>
                    <a:lnTo>
                      <a:pt x="2222" y="53"/>
                    </a:lnTo>
                    <a:lnTo>
                      <a:pt x="1949" y="53"/>
                    </a:lnTo>
                    <a:lnTo>
                      <a:pt x="1928" y="46"/>
                    </a:lnTo>
                    <a:lnTo>
                      <a:pt x="1918" y="36"/>
                    </a:lnTo>
                    <a:lnTo>
                      <a:pt x="1918" y="0"/>
                    </a:lnTo>
                    <a:close/>
                    <a:moveTo>
                      <a:pt x="3611" y="0"/>
                    </a:moveTo>
                    <a:lnTo>
                      <a:pt x="4481" y="0"/>
                    </a:lnTo>
                    <a:lnTo>
                      <a:pt x="4482" y="6"/>
                    </a:lnTo>
                    <a:lnTo>
                      <a:pt x="4482" y="53"/>
                    </a:lnTo>
                    <a:lnTo>
                      <a:pt x="3630" y="53"/>
                    </a:lnTo>
                    <a:lnTo>
                      <a:pt x="3630" y="46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3271680" y="3157560"/>
                <a:ext cx="1719360" cy="19080"/>
              </a:xfrm>
              <a:custGeom>
                <a:avLst/>
                <a:gdLst/>
                <a:ahLst/>
                <a:rect l="l" t="t" r="r" b="b"/>
                <a:pathLst>
                  <a:path w="4475" h="54">
                    <a:moveTo>
                      <a:pt x="0" y="0"/>
                    </a:moveTo>
                    <a:lnTo>
                      <a:pt x="318" y="0"/>
                    </a:lnTo>
                    <a:lnTo>
                      <a:pt x="298" y="7"/>
                    </a:lnTo>
                    <a:lnTo>
                      <a:pt x="258" y="19"/>
                    </a:lnTo>
                    <a:lnTo>
                      <a:pt x="239" y="19"/>
                    </a:lnTo>
                    <a:lnTo>
                      <a:pt x="223" y="35"/>
                    </a:lnTo>
                    <a:lnTo>
                      <a:pt x="200" y="54"/>
                    </a:lnTo>
                    <a:lnTo>
                      <a:pt x="49" y="54"/>
                    </a:lnTo>
                    <a:lnTo>
                      <a:pt x="17" y="35"/>
                    </a:lnTo>
                    <a:lnTo>
                      <a:pt x="6" y="19"/>
                    </a:lnTo>
                    <a:lnTo>
                      <a:pt x="0" y="0"/>
                    </a:lnTo>
                    <a:close/>
                    <a:moveTo>
                      <a:pt x="937" y="0"/>
                    </a:moveTo>
                    <a:lnTo>
                      <a:pt x="1869" y="0"/>
                    </a:lnTo>
                    <a:lnTo>
                      <a:pt x="1889" y="54"/>
                    </a:lnTo>
                    <a:lnTo>
                      <a:pt x="931" y="54"/>
                    </a:lnTo>
                    <a:lnTo>
                      <a:pt x="937" y="19"/>
                    </a:lnTo>
                    <a:lnTo>
                      <a:pt x="937" y="0"/>
                    </a:lnTo>
                    <a:close/>
                    <a:moveTo>
                      <a:pt x="1911" y="0"/>
                    </a:moveTo>
                    <a:lnTo>
                      <a:pt x="2259" y="0"/>
                    </a:lnTo>
                    <a:lnTo>
                      <a:pt x="2248" y="3"/>
                    </a:lnTo>
                    <a:lnTo>
                      <a:pt x="2203" y="35"/>
                    </a:lnTo>
                    <a:lnTo>
                      <a:pt x="2162" y="54"/>
                    </a:lnTo>
                    <a:lnTo>
                      <a:pt x="2034" y="54"/>
                    </a:lnTo>
                    <a:lnTo>
                      <a:pt x="2024" y="37"/>
                    </a:lnTo>
                    <a:lnTo>
                      <a:pt x="1948" y="28"/>
                    </a:lnTo>
                    <a:lnTo>
                      <a:pt x="1921" y="19"/>
                    </a:lnTo>
                    <a:lnTo>
                      <a:pt x="1911" y="9"/>
                    </a:lnTo>
                    <a:lnTo>
                      <a:pt x="1911" y="0"/>
                    </a:lnTo>
                    <a:close/>
                    <a:moveTo>
                      <a:pt x="3615" y="0"/>
                    </a:moveTo>
                    <a:lnTo>
                      <a:pt x="4475" y="0"/>
                    </a:lnTo>
                    <a:lnTo>
                      <a:pt x="4475" y="48"/>
                    </a:lnTo>
                    <a:lnTo>
                      <a:pt x="4474" y="54"/>
                    </a:lnTo>
                    <a:lnTo>
                      <a:pt x="3590" y="54"/>
                    </a:lnTo>
                    <a:lnTo>
                      <a:pt x="3603" y="37"/>
                    </a:lnTo>
                    <a:lnTo>
                      <a:pt x="3623" y="28"/>
                    </a:lnTo>
                    <a:lnTo>
                      <a:pt x="3623" y="19"/>
                    </a:lnTo>
                    <a:lnTo>
                      <a:pt x="3615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3275640" y="3166200"/>
                <a:ext cx="1715760" cy="19080"/>
              </a:xfrm>
              <a:custGeom>
                <a:avLst/>
                <a:gdLst/>
                <a:ahLst/>
                <a:rect l="l" t="t" r="r" b="b"/>
                <a:pathLst>
                  <a:path w="4463" h="55">
                    <a:moveTo>
                      <a:pt x="0" y="0"/>
                    </a:moveTo>
                    <a:lnTo>
                      <a:pt x="218" y="0"/>
                    </a:lnTo>
                    <a:lnTo>
                      <a:pt x="211" y="9"/>
                    </a:lnTo>
                    <a:lnTo>
                      <a:pt x="160" y="52"/>
                    </a:lnTo>
                    <a:lnTo>
                      <a:pt x="112" y="52"/>
                    </a:lnTo>
                    <a:lnTo>
                      <a:pt x="81" y="40"/>
                    </a:lnTo>
                    <a:lnTo>
                      <a:pt x="72" y="40"/>
                    </a:lnTo>
                    <a:lnTo>
                      <a:pt x="45" y="33"/>
                    </a:lnTo>
                    <a:lnTo>
                      <a:pt x="5" y="9"/>
                    </a:lnTo>
                    <a:lnTo>
                      <a:pt x="0" y="0"/>
                    </a:lnTo>
                    <a:close/>
                    <a:moveTo>
                      <a:pt x="923" y="0"/>
                    </a:moveTo>
                    <a:lnTo>
                      <a:pt x="1868" y="0"/>
                    </a:lnTo>
                    <a:lnTo>
                      <a:pt x="1879" y="33"/>
                    </a:lnTo>
                    <a:lnTo>
                      <a:pt x="1890" y="55"/>
                    </a:lnTo>
                    <a:lnTo>
                      <a:pt x="915" y="55"/>
                    </a:lnTo>
                    <a:lnTo>
                      <a:pt x="923" y="0"/>
                    </a:lnTo>
                    <a:close/>
                    <a:moveTo>
                      <a:pt x="1930" y="0"/>
                    </a:moveTo>
                    <a:lnTo>
                      <a:pt x="2203" y="0"/>
                    </a:lnTo>
                    <a:lnTo>
                      <a:pt x="2191" y="9"/>
                    </a:lnTo>
                    <a:lnTo>
                      <a:pt x="2124" y="40"/>
                    </a:lnTo>
                    <a:lnTo>
                      <a:pt x="2084" y="52"/>
                    </a:lnTo>
                    <a:lnTo>
                      <a:pt x="2025" y="33"/>
                    </a:lnTo>
                    <a:lnTo>
                      <a:pt x="2012" y="11"/>
                    </a:lnTo>
                    <a:lnTo>
                      <a:pt x="1936" y="2"/>
                    </a:lnTo>
                    <a:lnTo>
                      <a:pt x="1930" y="0"/>
                    </a:lnTo>
                    <a:close/>
                    <a:moveTo>
                      <a:pt x="3611" y="0"/>
                    </a:moveTo>
                    <a:lnTo>
                      <a:pt x="4463" y="0"/>
                    </a:lnTo>
                    <a:lnTo>
                      <a:pt x="4463" y="22"/>
                    </a:lnTo>
                    <a:lnTo>
                      <a:pt x="4458" y="55"/>
                    </a:lnTo>
                    <a:lnTo>
                      <a:pt x="3558" y="55"/>
                    </a:lnTo>
                    <a:lnTo>
                      <a:pt x="3591" y="11"/>
                    </a:lnTo>
                    <a:lnTo>
                      <a:pt x="3611" y="2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3290760" y="3176640"/>
                <a:ext cx="1700280" cy="18000"/>
              </a:xfrm>
              <a:custGeom>
                <a:avLst/>
                <a:gdLst/>
                <a:ahLst/>
                <a:rect l="l" t="t" r="r" b="b"/>
                <a:pathLst>
                  <a:path w="4425" h="53">
                    <a:moveTo>
                      <a:pt x="0" y="0"/>
                    </a:moveTo>
                    <a:lnTo>
                      <a:pt x="151" y="0"/>
                    </a:lnTo>
                    <a:lnTo>
                      <a:pt x="123" y="24"/>
                    </a:lnTo>
                    <a:lnTo>
                      <a:pt x="75" y="24"/>
                    </a:lnTo>
                    <a:lnTo>
                      <a:pt x="44" y="12"/>
                    </a:lnTo>
                    <a:lnTo>
                      <a:pt x="35" y="12"/>
                    </a:lnTo>
                    <a:lnTo>
                      <a:pt x="8" y="5"/>
                    </a:lnTo>
                    <a:lnTo>
                      <a:pt x="0" y="0"/>
                    </a:lnTo>
                    <a:close/>
                    <a:moveTo>
                      <a:pt x="882" y="0"/>
                    </a:moveTo>
                    <a:lnTo>
                      <a:pt x="1840" y="0"/>
                    </a:lnTo>
                    <a:lnTo>
                      <a:pt x="1842" y="5"/>
                    </a:lnTo>
                    <a:lnTo>
                      <a:pt x="1867" y="53"/>
                    </a:lnTo>
                    <a:lnTo>
                      <a:pt x="875" y="53"/>
                    </a:lnTo>
                    <a:lnTo>
                      <a:pt x="875" y="40"/>
                    </a:lnTo>
                    <a:lnTo>
                      <a:pt x="882" y="0"/>
                    </a:lnTo>
                    <a:close/>
                    <a:moveTo>
                      <a:pt x="1985" y="0"/>
                    </a:moveTo>
                    <a:lnTo>
                      <a:pt x="2113" y="0"/>
                    </a:lnTo>
                    <a:lnTo>
                      <a:pt x="2087" y="12"/>
                    </a:lnTo>
                    <a:lnTo>
                      <a:pt x="2047" y="24"/>
                    </a:lnTo>
                    <a:lnTo>
                      <a:pt x="1988" y="5"/>
                    </a:lnTo>
                    <a:lnTo>
                      <a:pt x="1985" y="0"/>
                    </a:lnTo>
                    <a:close/>
                    <a:moveTo>
                      <a:pt x="3541" y="0"/>
                    </a:moveTo>
                    <a:lnTo>
                      <a:pt x="4425" y="0"/>
                    </a:lnTo>
                    <a:lnTo>
                      <a:pt x="4416" y="53"/>
                    </a:lnTo>
                    <a:lnTo>
                      <a:pt x="3496" y="53"/>
                    </a:lnTo>
                    <a:lnTo>
                      <a:pt x="3517" y="32"/>
                    </a:lnTo>
                    <a:lnTo>
                      <a:pt x="3541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3627000" y="3185640"/>
                <a:ext cx="1361880" cy="19440"/>
              </a:xfrm>
              <a:custGeom>
                <a:avLst/>
                <a:gdLst/>
                <a:ahLst/>
                <a:rect l="l" t="t" r="r" b="b"/>
                <a:pathLst>
                  <a:path w="3547" h="53">
                    <a:moveTo>
                      <a:pt x="4" y="0"/>
                    </a:moveTo>
                    <a:lnTo>
                      <a:pt x="979" y="0"/>
                    </a:lnTo>
                    <a:lnTo>
                      <a:pt x="1006" y="53"/>
                    </a:lnTo>
                    <a:lnTo>
                      <a:pt x="0" y="53"/>
                    </a:lnTo>
                    <a:lnTo>
                      <a:pt x="1" y="13"/>
                    </a:lnTo>
                    <a:lnTo>
                      <a:pt x="4" y="0"/>
                    </a:lnTo>
                    <a:close/>
                    <a:moveTo>
                      <a:pt x="2647" y="0"/>
                    </a:moveTo>
                    <a:lnTo>
                      <a:pt x="3547" y="0"/>
                    </a:lnTo>
                    <a:lnTo>
                      <a:pt x="3542" y="27"/>
                    </a:lnTo>
                    <a:lnTo>
                      <a:pt x="3531" y="53"/>
                    </a:lnTo>
                    <a:lnTo>
                      <a:pt x="2596" y="53"/>
                    </a:lnTo>
                    <a:lnTo>
                      <a:pt x="2643" y="5"/>
                    </a:lnTo>
                    <a:lnTo>
                      <a:pt x="2647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3624840" y="319500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3" h="55">
                    <a:moveTo>
                      <a:pt x="2" y="0"/>
                    </a:moveTo>
                    <a:lnTo>
                      <a:pt x="994" y="0"/>
                    </a:lnTo>
                    <a:lnTo>
                      <a:pt x="1021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623" y="0"/>
                    </a:moveTo>
                    <a:lnTo>
                      <a:pt x="3543" y="0"/>
                    </a:lnTo>
                    <a:lnTo>
                      <a:pt x="3543" y="1"/>
                    </a:lnTo>
                    <a:lnTo>
                      <a:pt x="3522" y="55"/>
                    </a:lnTo>
                    <a:lnTo>
                      <a:pt x="2572" y="55"/>
                    </a:lnTo>
                    <a:lnTo>
                      <a:pt x="2586" y="38"/>
                    </a:lnTo>
                    <a:lnTo>
                      <a:pt x="2623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3624840" y="3205440"/>
                <a:ext cx="1358280" cy="19080"/>
              </a:xfrm>
              <a:custGeom>
                <a:avLst/>
                <a:gdLst/>
                <a:ahLst/>
                <a:rect l="l" t="t" r="r" b="b"/>
                <a:pathLst>
                  <a:path w="3533" h="55">
                    <a:moveTo>
                      <a:pt x="2" y="0"/>
                    </a:moveTo>
                    <a:lnTo>
                      <a:pt x="1008" y="0"/>
                    </a:lnTo>
                    <a:lnTo>
                      <a:pt x="1036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98" y="0"/>
                    </a:moveTo>
                    <a:lnTo>
                      <a:pt x="3533" y="0"/>
                    </a:lnTo>
                    <a:lnTo>
                      <a:pt x="3514" y="49"/>
                    </a:lnTo>
                    <a:lnTo>
                      <a:pt x="3508" y="55"/>
                    </a:lnTo>
                    <a:lnTo>
                      <a:pt x="2548" y="55"/>
                    </a:lnTo>
                    <a:lnTo>
                      <a:pt x="2587" y="11"/>
                    </a:lnTo>
                    <a:lnTo>
                      <a:pt x="2598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3624840" y="3214080"/>
                <a:ext cx="1354320" cy="19440"/>
              </a:xfrm>
              <a:custGeom>
                <a:avLst/>
                <a:gdLst/>
                <a:ahLst/>
                <a:rect l="l" t="t" r="r" b="b"/>
                <a:pathLst>
                  <a:path w="3524" h="53">
                    <a:moveTo>
                      <a:pt x="2" y="0"/>
                    </a:moveTo>
                    <a:lnTo>
                      <a:pt x="1023" y="0"/>
                    </a:lnTo>
                    <a:lnTo>
                      <a:pt x="1042" y="3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74" y="0"/>
                    </a:moveTo>
                    <a:lnTo>
                      <a:pt x="3524" y="0"/>
                    </a:lnTo>
                    <a:lnTo>
                      <a:pt x="3515" y="21"/>
                    </a:lnTo>
                    <a:lnTo>
                      <a:pt x="3496" y="41"/>
                    </a:lnTo>
                    <a:lnTo>
                      <a:pt x="3496" y="50"/>
                    </a:lnTo>
                    <a:lnTo>
                      <a:pt x="3500" y="53"/>
                    </a:lnTo>
                    <a:lnTo>
                      <a:pt x="2524" y="53"/>
                    </a:lnTo>
                    <a:lnTo>
                      <a:pt x="2574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3624840" y="3224520"/>
                <a:ext cx="1352520" cy="18000"/>
              </a:xfrm>
              <a:custGeom>
                <a:avLst/>
                <a:gdLst/>
                <a:ahLst/>
                <a:rect l="l" t="t" r="r" b="b"/>
                <a:pathLst>
                  <a:path w="3520" h="54">
                    <a:moveTo>
                      <a:pt x="2" y="0"/>
                    </a:moveTo>
                    <a:lnTo>
                      <a:pt x="1038" y="0"/>
                    </a:lnTo>
                    <a:lnTo>
                      <a:pt x="1043" y="12"/>
                    </a:lnTo>
                    <a:lnTo>
                      <a:pt x="1055" y="54"/>
                    </a:lnTo>
                    <a:lnTo>
                      <a:pt x="0" y="54"/>
                    </a:lnTo>
                    <a:lnTo>
                      <a:pt x="2" y="0"/>
                    </a:lnTo>
                    <a:close/>
                    <a:moveTo>
                      <a:pt x="2550" y="0"/>
                    </a:moveTo>
                    <a:lnTo>
                      <a:pt x="3510" y="0"/>
                    </a:lnTo>
                    <a:lnTo>
                      <a:pt x="3497" y="14"/>
                    </a:lnTo>
                    <a:lnTo>
                      <a:pt x="3497" y="23"/>
                    </a:lnTo>
                    <a:lnTo>
                      <a:pt x="3509" y="33"/>
                    </a:lnTo>
                    <a:lnTo>
                      <a:pt x="3516" y="51"/>
                    </a:lnTo>
                    <a:lnTo>
                      <a:pt x="3520" y="54"/>
                    </a:lnTo>
                    <a:lnTo>
                      <a:pt x="2501" y="54"/>
                    </a:lnTo>
                    <a:lnTo>
                      <a:pt x="2511" y="43"/>
                    </a:lnTo>
                    <a:lnTo>
                      <a:pt x="2550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3624840" y="323388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7" h="55">
                    <a:moveTo>
                      <a:pt x="2" y="0"/>
                    </a:moveTo>
                    <a:lnTo>
                      <a:pt x="1048" y="0"/>
                    </a:lnTo>
                    <a:lnTo>
                      <a:pt x="1064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26" y="0"/>
                    </a:moveTo>
                    <a:lnTo>
                      <a:pt x="3502" y="0"/>
                    </a:lnTo>
                    <a:lnTo>
                      <a:pt x="3510" y="7"/>
                    </a:lnTo>
                    <a:lnTo>
                      <a:pt x="3517" y="25"/>
                    </a:lnTo>
                    <a:lnTo>
                      <a:pt x="3547" y="55"/>
                    </a:lnTo>
                    <a:lnTo>
                      <a:pt x="3547" y="55"/>
                    </a:lnTo>
                    <a:lnTo>
                      <a:pt x="2478" y="55"/>
                    </a:lnTo>
                    <a:lnTo>
                      <a:pt x="2512" y="17"/>
                    </a:lnTo>
                    <a:lnTo>
                      <a:pt x="2526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3623040" y="3242520"/>
                <a:ext cx="1369800" cy="19080"/>
              </a:xfrm>
              <a:custGeom>
                <a:avLst/>
                <a:gdLst/>
                <a:ahLst/>
                <a:rect l="l" t="t" r="r" b="b"/>
                <a:pathLst>
                  <a:path w="3565" h="53">
                    <a:moveTo>
                      <a:pt x="2" y="0"/>
                    </a:moveTo>
                    <a:lnTo>
                      <a:pt x="1057" y="0"/>
                    </a:lnTo>
                    <a:lnTo>
                      <a:pt x="1072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03" y="0"/>
                    </a:moveTo>
                    <a:lnTo>
                      <a:pt x="3522" y="0"/>
                    </a:lnTo>
                    <a:lnTo>
                      <a:pt x="3548" y="27"/>
                    </a:lnTo>
                    <a:lnTo>
                      <a:pt x="3565" y="53"/>
                    </a:lnTo>
                    <a:lnTo>
                      <a:pt x="2455" y="53"/>
                    </a:lnTo>
                    <a:lnTo>
                      <a:pt x="2503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3623040" y="3252960"/>
                <a:ext cx="1375200" cy="19440"/>
              </a:xfrm>
              <a:custGeom>
                <a:avLst/>
                <a:gdLst/>
                <a:ahLst/>
                <a:rect l="l" t="t" r="r" b="b"/>
                <a:pathLst>
                  <a:path w="3580" h="54">
                    <a:moveTo>
                      <a:pt x="1" y="0"/>
                    </a:moveTo>
                    <a:lnTo>
                      <a:pt x="1065" y="0"/>
                    </a:lnTo>
                    <a:lnTo>
                      <a:pt x="1073" y="29"/>
                    </a:lnTo>
                    <a:lnTo>
                      <a:pt x="1079" y="54"/>
                    </a:lnTo>
                    <a:lnTo>
                      <a:pt x="1" y="54"/>
                    </a:lnTo>
                    <a:lnTo>
                      <a:pt x="0" y="29"/>
                    </a:lnTo>
                    <a:lnTo>
                      <a:pt x="1" y="0"/>
                    </a:lnTo>
                    <a:close/>
                    <a:moveTo>
                      <a:pt x="2479" y="0"/>
                    </a:moveTo>
                    <a:lnTo>
                      <a:pt x="3548" y="0"/>
                    </a:lnTo>
                    <a:lnTo>
                      <a:pt x="3577" y="48"/>
                    </a:lnTo>
                    <a:lnTo>
                      <a:pt x="3580" y="54"/>
                    </a:lnTo>
                    <a:lnTo>
                      <a:pt x="2431" y="54"/>
                    </a:lnTo>
                    <a:lnTo>
                      <a:pt x="2479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3623040" y="3261960"/>
                <a:ext cx="1383120" cy="19440"/>
              </a:xfrm>
              <a:custGeom>
                <a:avLst/>
                <a:gdLst/>
                <a:ahLst/>
                <a:rect l="l" t="t" r="r" b="b"/>
                <a:pathLst>
                  <a:path w="3598" h="55">
                    <a:moveTo>
                      <a:pt x="0" y="0"/>
                    </a:moveTo>
                    <a:lnTo>
                      <a:pt x="1072" y="0"/>
                    </a:lnTo>
                    <a:lnTo>
                      <a:pt x="1073" y="3"/>
                    </a:lnTo>
                    <a:lnTo>
                      <a:pt x="1087" y="55"/>
                    </a:lnTo>
                    <a:lnTo>
                      <a:pt x="3" y="5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455" y="0"/>
                    </a:moveTo>
                    <a:lnTo>
                      <a:pt x="3565" y="0"/>
                    </a:lnTo>
                    <a:lnTo>
                      <a:pt x="3577" y="22"/>
                    </a:lnTo>
                    <a:lnTo>
                      <a:pt x="3598" y="55"/>
                    </a:lnTo>
                    <a:lnTo>
                      <a:pt x="2407" y="55"/>
                    </a:lnTo>
                    <a:lnTo>
                      <a:pt x="2455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3624840" y="3272760"/>
                <a:ext cx="1387080" cy="17640"/>
              </a:xfrm>
              <a:custGeom>
                <a:avLst/>
                <a:gdLst/>
                <a:ahLst/>
                <a:rect l="l" t="t" r="r" b="b"/>
                <a:pathLst>
                  <a:path w="3614" h="53">
                    <a:moveTo>
                      <a:pt x="0" y="0"/>
                    </a:moveTo>
                    <a:lnTo>
                      <a:pt x="1078" y="0"/>
                    </a:lnTo>
                    <a:lnTo>
                      <a:pt x="1093" y="53"/>
                    </a:lnTo>
                    <a:lnTo>
                      <a:pt x="4" y="53"/>
                    </a:lnTo>
                    <a:lnTo>
                      <a:pt x="0" y="0"/>
                    </a:lnTo>
                    <a:close/>
                    <a:moveTo>
                      <a:pt x="2430" y="0"/>
                    </a:moveTo>
                    <a:lnTo>
                      <a:pt x="3579" y="0"/>
                    </a:lnTo>
                    <a:lnTo>
                      <a:pt x="3614" y="53"/>
                    </a:lnTo>
                    <a:lnTo>
                      <a:pt x="2381" y="53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3624840" y="3281400"/>
                <a:ext cx="1395000" cy="19080"/>
              </a:xfrm>
              <a:custGeom>
                <a:avLst/>
                <a:gdLst/>
                <a:ahLst/>
                <a:rect l="l" t="t" r="r" b="b"/>
                <a:pathLst>
                  <a:path w="3629" h="53">
                    <a:moveTo>
                      <a:pt x="0" y="0"/>
                    </a:moveTo>
                    <a:lnTo>
                      <a:pt x="1084" y="0"/>
                    </a:lnTo>
                    <a:lnTo>
                      <a:pt x="1098" y="53"/>
                    </a:lnTo>
                    <a:lnTo>
                      <a:pt x="3" y="53"/>
                    </a:lnTo>
                    <a:lnTo>
                      <a:pt x="0" y="0"/>
                    </a:lnTo>
                    <a:close/>
                    <a:moveTo>
                      <a:pt x="2404" y="0"/>
                    </a:moveTo>
                    <a:lnTo>
                      <a:pt x="3595" y="0"/>
                    </a:lnTo>
                    <a:lnTo>
                      <a:pt x="3629" y="53"/>
                    </a:lnTo>
                    <a:lnTo>
                      <a:pt x="2355" y="53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624840" y="3290400"/>
                <a:ext cx="1400760" cy="19080"/>
              </a:xfrm>
              <a:custGeom>
                <a:avLst/>
                <a:gdLst/>
                <a:ahLst/>
                <a:rect l="l" t="t" r="r" b="b"/>
                <a:pathLst>
                  <a:path w="3645" h="55">
                    <a:moveTo>
                      <a:pt x="0" y="0"/>
                    </a:moveTo>
                    <a:lnTo>
                      <a:pt x="1089" y="0"/>
                    </a:lnTo>
                    <a:lnTo>
                      <a:pt x="1100" y="37"/>
                    </a:lnTo>
                    <a:lnTo>
                      <a:pt x="1101" y="55"/>
                    </a:lnTo>
                    <a:lnTo>
                      <a:pt x="3" y="55"/>
                    </a:lnTo>
                    <a:lnTo>
                      <a:pt x="2" y="49"/>
                    </a:lnTo>
                    <a:lnTo>
                      <a:pt x="0" y="0"/>
                    </a:lnTo>
                    <a:close/>
                    <a:moveTo>
                      <a:pt x="2377" y="0"/>
                    </a:moveTo>
                    <a:lnTo>
                      <a:pt x="3610" y="0"/>
                    </a:lnTo>
                    <a:lnTo>
                      <a:pt x="3645" y="55"/>
                    </a:lnTo>
                    <a:lnTo>
                      <a:pt x="2329" y="55"/>
                    </a:lnTo>
                    <a:lnTo>
                      <a:pt x="2334" y="49"/>
                    </a:lnTo>
                    <a:lnTo>
                      <a:pt x="2377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3627000" y="3300840"/>
                <a:ext cx="1404000" cy="17640"/>
              </a:xfrm>
              <a:custGeom>
                <a:avLst/>
                <a:gdLst/>
                <a:ahLst/>
                <a:rect l="l" t="t" r="r" b="b"/>
                <a:pathLst>
                  <a:path w="3659" h="54">
                    <a:moveTo>
                      <a:pt x="0" y="0"/>
                    </a:moveTo>
                    <a:lnTo>
                      <a:pt x="1095" y="0"/>
                    </a:lnTo>
                    <a:lnTo>
                      <a:pt x="1099" y="10"/>
                    </a:lnTo>
                    <a:lnTo>
                      <a:pt x="1101" y="54"/>
                    </a:lnTo>
                    <a:lnTo>
                      <a:pt x="8" y="54"/>
                    </a:lnTo>
                    <a:lnTo>
                      <a:pt x="1" y="22"/>
                    </a:lnTo>
                    <a:lnTo>
                      <a:pt x="0" y="0"/>
                    </a:lnTo>
                    <a:close/>
                    <a:moveTo>
                      <a:pt x="2352" y="0"/>
                    </a:moveTo>
                    <a:lnTo>
                      <a:pt x="3626" y="0"/>
                    </a:lnTo>
                    <a:lnTo>
                      <a:pt x="3651" y="39"/>
                    </a:lnTo>
                    <a:lnTo>
                      <a:pt x="3659" y="54"/>
                    </a:lnTo>
                    <a:lnTo>
                      <a:pt x="2308" y="54"/>
                    </a:lnTo>
                    <a:lnTo>
                      <a:pt x="2333" y="22"/>
                    </a:lnTo>
                    <a:lnTo>
                      <a:pt x="2352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3627000" y="3309480"/>
                <a:ext cx="1411920" cy="19440"/>
              </a:xfrm>
              <a:custGeom>
                <a:avLst/>
                <a:gdLst/>
                <a:ahLst/>
                <a:rect l="l" t="t" r="r" b="b"/>
                <a:pathLst>
                  <a:path w="3673" h="53">
                    <a:moveTo>
                      <a:pt x="0" y="0"/>
                    </a:moveTo>
                    <a:lnTo>
                      <a:pt x="1098" y="0"/>
                    </a:lnTo>
                    <a:lnTo>
                      <a:pt x="110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  <a:moveTo>
                      <a:pt x="2326" y="0"/>
                    </a:moveTo>
                    <a:lnTo>
                      <a:pt x="3642" y="0"/>
                    </a:lnTo>
                    <a:lnTo>
                      <a:pt x="3649" y="11"/>
                    </a:lnTo>
                    <a:lnTo>
                      <a:pt x="3673" y="53"/>
                    </a:lnTo>
                    <a:lnTo>
                      <a:pt x="2286" y="53"/>
                    </a:lnTo>
                    <a:lnTo>
                      <a:pt x="2326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628800" y="3318480"/>
                <a:ext cx="1415880" cy="19440"/>
              </a:xfrm>
              <a:custGeom>
                <a:avLst/>
                <a:gdLst/>
                <a:ahLst/>
                <a:rect l="l" t="t" r="r" b="b"/>
                <a:pathLst>
                  <a:path w="3682" h="55">
                    <a:moveTo>
                      <a:pt x="0" y="0"/>
                    </a:moveTo>
                    <a:lnTo>
                      <a:pt x="1093" y="0"/>
                    </a:lnTo>
                    <a:lnTo>
                      <a:pt x="1096" y="55"/>
                    </a:lnTo>
                    <a:lnTo>
                      <a:pt x="10" y="55"/>
                    </a:lnTo>
                    <a:lnTo>
                      <a:pt x="0" y="0"/>
                    </a:lnTo>
                    <a:close/>
                    <a:moveTo>
                      <a:pt x="2300" y="0"/>
                    </a:moveTo>
                    <a:lnTo>
                      <a:pt x="3651" y="0"/>
                    </a:lnTo>
                    <a:lnTo>
                      <a:pt x="3682" y="55"/>
                    </a:lnTo>
                    <a:lnTo>
                      <a:pt x="2259" y="55"/>
                    </a:lnTo>
                    <a:lnTo>
                      <a:pt x="2300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3630960" y="3329280"/>
                <a:ext cx="1419480" cy="19080"/>
              </a:xfrm>
              <a:custGeom>
                <a:avLst/>
                <a:gdLst/>
                <a:ahLst/>
                <a:rect l="l" t="t" r="r" b="b"/>
                <a:pathLst>
                  <a:path w="3693" h="55">
                    <a:moveTo>
                      <a:pt x="0" y="0"/>
                    </a:moveTo>
                    <a:lnTo>
                      <a:pt x="1090" y="0"/>
                    </a:lnTo>
                    <a:lnTo>
                      <a:pt x="1092" y="55"/>
                    </a:lnTo>
                    <a:lnTo>
                      <a:pt x="10" y="55"/>
                    </a:lnTo>
                    <a:lnTo>
                      <a:pt x="8" y="43"/>
                    </a:lnTo>
                    <a:lnTo>
                      <a:pt x="0" y="0"/>
                    </a:lnTo>
                    <a:close/>
                    <a:moveTo>
                      <a:pt x="2275" y="0"/>
                    </a:moveTo>
                    <a:lnTo>
                      <a:pt x="3662" y="0"/>
                    </a:lnTo>
                    <a:lnTo>
                      <a:pt x="3693" y="55"/>
                    </a:lnTo>
                    <a:lnTo>
                      <a:pt x="2234" y="55"/>
                    </a:lnTo>
                    <a:lnTo>
                      <a:pt x="2275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632760" y="3338280"/>
                <a:ext cx="1423800" cy="19080"/>
              </a:xfrm>
              <a:custGeom>
                <a:avLst/>
                <a:gdLst/>
                <a:ahLst/>
                <a:rect l="l" t="t" r="r" b="b"/>
                <a:pathLst>
                  <a:path w="3703" h="53">
                    <a:moveTo>
                      <a:pt x="0" y="0"/>
                    </a:moveTo>
                    <a:lnTo>
                      <a:pt x="1086" y="0"/>
                    </a:lnTo>
                    <a:lnTo>
                      <a:pt x="1088" y="47"/>
                    </a:lnTo>
                    <a:lnTo>
                      <a:pt x="1088" y="53"/>
                    </a:lnTo>
                    <a:lnTo>
                      <a:pt x="11" y="53"/>
                    </a:lnTo>
                    <a:lnTo>
                      <a:pt x="3" y="15"/>
                    </a:lnTo>
                    <a:lnTo>
                      <a:pt x="0" y="0"/>
                    </a:lnTo>
                    <a:close/>
                    <a:moveTo>
                      <a:pt x="2249" y="0"/>
                    </a:moveTo>
                    <a:lnTo>
                      <a:pt x="3672" y="0"/>
                    </a:lnTo>
                    <a:lnTo>
                      <a:pt x="3703" y="53"/>
                    </a:lnTo>
                    <a:lnTo>
                      <a:pt x="2208" y="53"/>
                    </a:lnTo>
                    <a:lnTo>
                      <a:pt x="2249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3634560" y="3348720"/>
                <a:ext cx="1427760" cy="19440"/>
              </a:xfrm>
              <a:custGeom>
                <a:avLst/>
                <a:gdLst/>
                <a:ahLst/>
                <a:rect l="l" t="t" r="r" b="b"/>
                <a:pathLst>
                  <a:path w="3713" h="54">
                    <a:moveTo>
                      <a:pt x="0" y="0"/>
                    </a:moveTo>
                    <a:lnTo>
                      <a:pt x="1082" y="0"/>
                    </a:lnTo>
                    <a:lnTo>
                      <a:pt x="1083" y="20"/>
                    </a:lnTo>
                    <a:lnTo>
                      <a:pt x="1083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2224" y="0"/>
                    </a:moveTo>
                    <a:lnTo>
                      <a:pt x="3683" y="0"/>
                    </a:lnTo>
                    <a:lnTo>
                      <a:pt x="3713" y="54"/>
                    </a:lnTo>
                    <a:lnTo>
                      <a:pt x="2183" y="54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3636720" y="3357360"/>
                <a:ext cx="1431000" cy="19440"/>
              </a:xfrm>
              <a:custGeom>
                <a:avLst/>
                <a:gdLst/>
                <a:ahLst/>
                <a:rect l="l" t="t" r="r" b="b"/>
                <a:pathLst>
                  <a:path w="3723" h="55">
                    <a:moveTo>
                      <a:pt x="0" y="0"/>
                    </a:moveTo>
                    <a:lnTo>
                      <a:pt x="1077" y="0"/>
                    </a:lnTo>
                    <a:lnTo>
                      <a:pt x="1077" y="55"/>
                    </a:lnTo>
                    <a:lnTo>
                      <a:pt x="11" y="55"/>
                    </a:lnTo>
                    <a:lnTo>
                      <a:pt x="0" y="0"/>
                    </a:lnTo>
                    <a:close/>
                    <a:moveTo>
                      <a:pt x="2197" y="0"/>
                    </a:moveTo>
                    <a:lnTo>
                      <a:pt x="3692" y="0"/>
                    </a:lnTo>
                    <a:lnTo>
                      <a:pt x="3717" y="43"/>
                    </a:lnTo>
                    <a:lnTo>
                      <a:pt x="3723" y="55"/>
                    </a:lnTo>
                    <a:lnTo>
                      <a:pt x="2157" y="55"/>
                    </a:lnTo>
                    <a:lnTo>
                      <a:pt x="2197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640680" y="3368160"/>
                <a:ext cx="1432800" cy="17640"/>
              </a:xfrm>
              <a:custGeom>
                <a:avLst/>
                <a:gdLst/>
                <a:ahLst/>
                <a:rect l="l" t="t" r="r" b="b"/>
                <a:pathLst>
                  <a:path w="3732" h="53">
                    <a:moveTo>
                      <a:pt x="0" y="0"/>
                    </a:moveTo>
                    <a:lnTo>
                      <a:pt x="1071" y="0"/>
                    </a:lnTo>
                    <a:lnTo>
                      <a:pt x="1071" y="53"/>
                    </a:lnTo>
                    <a:lnTo>
                      <a:pt x="8" y="53"/>
                    </a:lnTo>
                    <a:lnTo>
                      <a:pt x="6" y="33"/>
                    </a:lnTo>
                    <a:lnTo>
                      <a:pt x="0" y="0"/>
                    </a:lnTo>
                    <a:close/>
                    <a:moveTo>
                      <a:pt x="2171" y="0"/>
                    </a:moveTo>
                    <a:lnTo>
                      <a:pt x="3701" y="0"/>
                    </a:lnTo>
                    <a:lnTo>
                      <a:pt x="3711" y="15"/>
                    </a:lnTo>
                    <a:lnTo>
                      <a:pt x="3732" y="53"/>
                    </a:lnTo>
                    <a:lnTo>
                      <a:pt x="2996" y="53"/>
                    </a:lnTo>
                    <a:lnTo>
                      <a:pt x="2994" y="52"/>
                    </a:lnTo>
                    <a:lnTo>
                      <a:pt x="2994" y="45"/>
                    </a:lnTo>
                    <a:lnTo>
                      <a:pt x="2986" y="53"/>
                    </a:lnTo>
                    <a:lnTo>
                      <a:pt x="2130" y="53"/>
                    </a:lnTo>
                    <a:lnTo>
                      <a:pt x="2171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3642480" y="3377160"/>
                <a:ext cx="1437120" cy="19080"/>
              </a:xfrm>
              <a:custGeom>
                <a:avLst/>
                <a:gdLst/>
                <a:ahLst/>
                <a:rect l="l" t="t" r="r" b="b"/>
                <a:pathLst>
                  <a:path w="3741" h="54">
                    <a:moveTo>
                      <a:pt x="0" y="0"/>
                    </a:moveTo>
                    <a:lnTo>
                      <a:pt x="1066" y="0"/>
                    </a:lnTo>
                    <a:lnTo>
                      <a:pt x="1066" y="54"/>
                    </a:lnTo>
                    <a:lnTo>
                      <a:pt x="7" y="54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  <a:moveTo>
                      <a:pt x="2146" y="0"/>
                    </a:moveTo>
                    <a:lnTo>
                      <a:pt x="3712" y="0"/>
                    </a:lnTo>
                    <a:lnTo>
                      <a:pt x="3741" y="54"/>
                    </a:lnTo>
                    <a:lnTo>
                      <a:pt x="3008" y="54"/>
                    </a:lnTo>
                    <a:lnTo>
                      <a:pt x="2989" y="25"/>
                    </a:lnTo>
                    <a:lnTo>
                      <a:pt x="2989" y="18"/>
                    </a:lnTo>
                    <a:lnTo>
                      <a:pt x="2955" y="54"/>
                    </a:lnTo>
                    <a:lnTo>
                      <a:pt x="2105" y="54"/>
                    </a:lnTo>
                    <a:lnTo>
                      <a:pt x="2118" y="38"/>
                    </a:lnTo>
                    <a:lnTo>
                      <a:pt x="2146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642480" y="3385800"/>
                <a:ext cx="1442880" cy="19080"/>
              </a:xfrm>
              <a:custGeom>
                <a:avLst/>
                <a:gdLst/>
                <a:ahLst/>
                <a:rect l="l" t="t" r="r" b="b"/>
                <a:pathLst>
                  <a:path w="3753" h="55">
                    <a:moveTo>
                      <a:pt x="0" y="0"/>
                    </a:moveTo>
                    <a:lnTo>
                      <a:pt x="1063" y="0"/>
                    </a:lnTo>
                    <a:lnTo>
                      <a:pt x="1063" y="55"/>
                    </a:lnTo>
                    <a:lnTo>
                      <a:pt x="7" y="55"/>
                    </a:lnTo>
                    <a:lnTo>
                      <a:pt x="0" y="0"/>
                    </a:lnTo>
                    <a:close/>
                    <a:moveTo>
                      <a:pt x="2122" y="0"/>
                    </a:moveTo>
                    <a:lnTo>
                      <a:pt x="2978" y="0"/>
                    </a:lnTo>
                    <a:lnTo>
                      <a:pt x="2927" y="55"/>
                    </a:lnTo>
                    <a:lnTo>
                      <a:pt x="2084" y="55"/>
                    </a:lnTo>
                    <a:lnTo>
                      <a:pt x="2115" y="12"/>
                    </a:lnTo>
                    <a:lnTo>
                      <a:pt x="2122" y="0"/>
                    </a:lnTo>
                    <a:close/>
                    <a:moveTo>
                      <a:pt x="2988" y="0"/>
                    </a:moveTo>
                    <a:lnTo>
                      <a:pt x="3724" y="0"/>
                    </a:lnTo>
                    <a:lnTo>
                      <a:pt x="3753" y="55"/>
                    </a:lnTo>
                    <a:lnTo>
                      <a:pt x="3018" y="55"/>
                    </a:lnTo>
                    <a:lnTo>
                      <a:pt x="3006" y="30"/>
                    </a:lnTo>
                    <a:lnTo>
                      <a:pt x="2988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644640" y="3396240"/>
                <a:ext cx="1446480" cy="17640"/>
              </a:xfrm>
              <a:custGeom>
                <a:avLst/>
                <a:gdLst/>
                <a:ahLst/>
                <a:rect l="l" t="t" r="r" b="b"/>
                <a:pathLst>
                  <a:path w="3764" h="53">
                    <a:moveTo>
                      <a:pt x="0" y="0"/>
                    </a:moveTo>
                    <a:lnTo>
                      <a:pt x="1059" y="0"/>
                    </a:lnTo>
                    <a:lnTo>
                      <a:pt x="1059" y="31"/>
                    </a:lnTo>
                    <a:lnTo>
                      <a:pt x="1056" y="53"/>
                    </a:lnTo>
                    <a:lnTo>
                      <a:pt x="6" y="53"/>
                    </a:lnTo>
                    <a:lnTo>
                      <a:pt x="0" y="0"/>
                    </a:lnTo>
                    <a:close/>
                    <a:moveTo>
                      <a:pt x="2098" y="0"/>
                    </a:moveTo>
                    <a:lnTo>
                      <a:pt x="2948" y="0"/>
                    </a:lnTo>
                    <a:lnTo>
                      <a:pt x="2896" y="53"/>
                    </a:lnTo>
                    <a:lnTo>
                      <a:pt x="2061" y="53"/>
                    </a:lnTo>
                    <a:lnTo>
                      <a:pt x="2098" y="0"/>
                    </a:lnTo>
                    <a:close/>
                    <a:moveTo>
                      <a:pt x="3001" y="0"/>
                    </a:moveTo>
                    <a:lnTo>
                      <a:pt x="3734" y="0"/>
                    </a:lnTo>
                    <a:lnTo>
                      <a:pt x="3764" y="53"/>
                    </a:lnTo>
                    <a:lnTo>
                      <a:pt x="3029" y="53"/>
                    </a:lnTo>
                    <a:lnTo>
                      <a:pt x="3021" y="43"/>
                    </a:lnTo>
                    <a:lnTo>
                      <a:pt x="3002" y="2"/>
                    </a:lnTo>
                    <a:lnTo>
                      <a:pt x="300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646440" y="3405240"/>
                <a:ext cx="1450440" cy="19440"/>
              </a:xfrm>
              <a:custGeom>
                <a:avLst/>
                <a:gdLst/>
                <a:ahLst/>
                <a:rect l="l" t="t" r="r" b="b"/>
                <a:pathLst>
                  <a:path w="3776" h="53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4"/>
                    </a:lnTo>
                    <a:lnTo>
                      <a:pt x="1049" y="53"/>
                    </a:lnTo>
                    <a:lnTo>
                      <a:pt x="0" y="53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  <a:moveTo>
                      <a:pt x="2077" y="0"/>
                    </a:moveTo>
                    <a:lnTo>
                      <a:pt x="2920" y="0"/>
                    </a:lnTo>
                    <a:lnTo>
                      <a:pt x="2867" y="53"/>
                    </a:lnTo>
                    <a:lnTo>
                      <a:pt x="2038" y="53"/>
                    </a:lnTo>
                    <a:lnTo>
                      <a:pt x="2077" y="0"/>
                    </a:lnTo>
                    <a:close/>
                    <a:moveTo>
                      <a:pt x="3011" y="0"/>
                    </a:moveTo>
                    <a:lnTo>
                      <a:pt x="3746" y="0"/>
                    </a:lnTo>
                    <a:lnTo>
                      <a:pt x="3776" y="53"/>
                    </a:lnTo>
                    <a:lnTo>
                      <a:pt x="3044" y="53"/>
                    </a:lnTo>
                    <a:lnTo>
                      <a:pt x="3018" y="16"/>
                    </a:lnTo>
                    <a:lnTo>
                      <a:pt x="301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3644640" y="3413880"/>
                <a:ext cx="1457640" cy="19440"/>
              </a:xfrm>
              <a:custGeom>
                <a:avLst/>
                <a:gdLst/>
                <a:ahLst/>
                <a:rect l="l" t="t" r="r" b="b"/>
                <a:pathLst>
                  <a:path w="3794" h="55">
                    <a:moveTo>
                      <a:pt x="6" y="0"/>
                    </a:moveTo>
                    <a:lnTo>
                      <a:pt x="1056" y="0"/>
                    </a:lnTo>
                    <a:lnTo>
                      <a:pt x="1047" y="55"/>
                    </a:lnTo>
                    <a:lnTo>
                      <a:pt x="0" y="55"/>
                    </a:lnTo>
                    <a:lnTo>
                      <a:pt x="6" y="5"/>
                    </a:lnTo>
                    <a:lnTo>
                      <a:pt x="6" y="0"/>
                    </a:lnTo>
                    <a:close/>
                    <a:moveTo>
                      <a:pt x="2061" y="0"/>
                    </a:moveTo>
                    <a:lnTo>
                      <a:pt x="2896" y="0"/>
                    </a:lnTo>
                    <a:lnTo>
                      <a:pt x="2845" y="55"/>
                    </a:lnTo>
                    <a:lnTo>
                      <a:pt x="2025" y="55"/>
                    </a:lnTo>
                    <a:lnTo>
                      <a:pt x="2035" y="35"/>
                    </a:lnTo>
                    <a:lnTo>
                      <a:pt x="2061" y="0"/>
                    </a:lnTo>
                    <a:close/>
                    <a:moveTo>
                      <a:pt x="3029" y="0"/>
                    </a:moveTo>
                    <a:lnTo>
                      <a:pt x="3764" y="0"/>
                    </a:lnTo>
                    <a:lnTo>
                      <a:pt x="3794" y="55"/>
                    </a:lnTo>
                    <a:lnTo>
                      <a:pt x="3063" y="55"/>
                    </a:lnTo>
                    <a:lnTo>
                      <a:pt x="3059" y="46"/>
                    </a:lnTo>
                    <a:lnTo>
                      <a:pt x="3029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642480" y="3425040"/>
                <a:ext cx="1465920" cy="19080"/>
              </a:xfrm>
              <a:custGeom>
                <a:avLst/>
                <a:gdLst/>
                <a:ahLst/>
                <a:rect l="l" t="t" r="r" b="b"/>
                <a:pathLst>
                  <a:path w="3814" h="55">
                    <a:moveTo>
                      <a:pt x="8" y="0"/>
                    </a:moveTo>
                    <a:lnTo>
                      <a:pt x="1057" y="0"/>
                    </a:lnTo>
                    <a:lnTo>
                      <a:pt x="1048" y="55"/>
                    </a:lnTo>
                    <a:lnTo>
                      <a:pt x="0" y="55"/>
                    </a:lnTo>
                    <a:lnTo>
                      <a:pt x="8" y="0"/>
                    </a:lnTo>
                    <a:close/>
                    <a:moveTo>
                      <a:pt x="2046" y="0"/>
                    </a:moveTo>
                    <a:lnTo>
                      <a:pt x="2875" y="0"/>
                    </a:lnTo>
                    <a:lnTo>
                      <a:pt x="2824" y="55"/>
                    </a:lnTo>
                    <a:lnTo>
                      <a:pt x="2014" y="55"/>
                    </a:lnTo>
                    <a:lnTo>
                      <a:pt x="2040" y="8"/>
                    </a:lnTo>
                    <a:lnTo>
                      <a:pt x="2046" y="0"/>
                    </a:lnTo>
                    <a:close/>
                    <a:moveTo>
                      <a:pt x="3052" y="0"/>
                    </a:moveTo>
                    <a:lnTo>
                      <a:pt x="3784" y="0"/>
                    </a:lnTo>
                    <a:lnTo>
                      <a:pt x="3814" y="55"/>
                    </a:lnTo>
                    <a:lnTo>
                      <a:pt x="3085" y="55"/>
                    </a:lnTo>
                    <a:lnTo>
                      <a:pt x="3064" y="19"/>
                    </a:lnTo>
                    <a:lnTo>
                      <a:pt x="3052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640680" y="3433680"/>
                <a:ext cx="1473480" cy="19080"/>
              </a:xfrm>
              <a:custGeom>
                <a:avLst/>
                <a:gdLst/>
                <a:ahLst/>
                <a:rect l="l" t="t" r="r" b="b"/>
                <a:pathLst>
                  <a:path w="3831" h="53">
                    <a:moveTo>
                      <a:pt x="8" y="0"/>
                    </a:moveTo>
                    <a:lnTo>
                      <a:pt x="1055" y="0"/>
                    </a:lnTo>
                    <a:lnTo>
                      <a:pt x="1048" y="4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8" y="0"/>
                    </a:lnTo>
                    <a:close/>
                    <a:moveTo>
                      <a:pt x="2033" y="0"/>
                    </a:moveTo>
                    <a:lnTo>
                      <a:pt x="2853" y="0"/>
                    </a:lnTo>
                    <a:lnTo>
                      <a:pt x="2801" y="53"/>
                    </a:lnTo>
                    <a:lnTo>
                      <a:pt x="2001" y="53"/>
                    </a:lnTo>
                    <a:lnTo>
                      <a:pt x="2033" y="0"/>
                    </a:lnTo>
                    <a:close/>
                    <a:moveTo>
                      <a:pt x="3071" y="0"/>
                    </a:moveTo>
                    <a:lnTo>
                      <a:pt x="3802" y="0"/>
                    </a:lnTo>
                    <a:lnTo>
                      <a:pt x="3831" y="53"/>
                    </a:lnTo>
                    <a:lnTo>
                      <a:pt x="3104" y="53"/>
                    </a:lnTo>
                    <a:lnTo>
                      <a:pt x="3071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640680" y="3444120"/>
                <a:ext cx="1478880" cy="19440"/>
              </a:xfrm>
              <a:custGeom>
                <a:avLst/>
                <a:gdLst/>
                <a:ahLst/>
                <a:rect l="l" t="t" r="r" b="b"/>
                <a:pathLst>
                  <a:path w="3850" h="54">
                    <a:moveTo>
                      <a:pt x="7" y="0"/>
                    </a:moveTo>
                    <a:lnTo>
                      <a:pt x="1055" y="0"/>
                    </a:lnTo>
                    <a:lnTo>
                      <a:pt x="1052" y="22"/>
                    </a:lnTo>
                    <a:lnTo>
                      <a:pt x="1043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  <a:moveTo>
                      <a:pt x="2021" y="0"/>
                    </a:moveTo>
                    <a:lnTo>
                      <a:pt x="2831" y="0"/>
                    </a:lnTo>
                    <a:lnTo>
                      <a:pt x="2779" y="54"/>
                    </a:lnTo>
                    <a:lnTo>
                      <a:pt x="1991" y="54"/>
                    </a:lnTo>
                    <a:lnTo>
                      <a:pt x="1998" y="40"/>
                    </a:lnTo>
                    <a:lnTo>
                      <a:pt x="2021" y="0"/>
                    </a:lnTo>
                    <a:close/>
                    <a:moveTo>
                      <a:pt x="3092" y="0"/>
                    </a:moveTo>
                    <a:lnTo>
                      <a:pt x="3821" y="0"/>
                    </a:lnTo>
                    <a:lnTo>
                      <a:pt x="3850" y="54"/>
                    </a:lnTo>
                    <a:lnTo>
                      <a:pt x="3125" y="54"/>
                    </a:lnTo>
                    <a:lnTo>
                      <a:pt x="3111" y="32"/>
                    </a:lnTo>
                    <a:lnTo>
                      <a:pt x="3092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638520" y="3453120"/>
                <a:ext cx="1486800" cy="19440"/>
              </a:xfrm>
              <a:custGeom>
                <a:avLst/>
                <a:gdLst/>
                <a:ahLst/>
                <a:rect l="l" t="t" r="r" b="b"/>
                <a:pathLst>
                  <a:path w="3870" h="55">
                    <a:moveTo>
                      <a:pt x="9" y="0"/>
                    </a:moveTo>
                    <a:lnTo>
                      <a:pt x="1055" y="0"/>
                    </a:lnTo>
                    <a:lnTo>
                      <a:pt x="1040" y="55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9" y="0"/>
                    </a:lnTo>
                    <a:close/>
                    <a:moveTo>
                      <a:pt x="2010" y="0"/>
                    </a:moveTo>
                    <a:lnTo>
                      <a:pt x="2810" y="0"/>
                    </a:lnTo>
                    <a:lnTo>
                      <a:pt x="2759" y="55"/>
                    </a:lnTo>
                    <a:lnTo>
                      <a:pt x="1981" y="55"/>
                    </a:lnTo>
                    <a:lnTo>
                      <a:pt x="2003" y="14"/>
                    </a:lnTo>
                    <a:lnTo>
                      <a:pt x="2010" y="0"/>
                    </a:lnTo>
                    <a:close/>
                    <a:moveTo>
                      <a:pt x="3113" y="0"/>
                    </a:moveTo>
                    <a:lnTo>
                      <a:pt x="3840" y="0"/>
                    </a:lnTo>
                    <a:lnTo>
                      <a:pt x="3870" y="55"/>
                    </a:lnTo>
                    <a:lnTo>
                      <a:pt x="3148" y="55"/>
                    </a:lnTo>
                    <a:lnTo>
                      <a:pt x="3116" y="6"/>
                    </a:lnTo>
                    <a:lnTo>
                      <a:pt x="3113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634560" y="3463920"/>
                <a:ext cx="1496880" cy="17640"/>
              </a:xfrm>
              <a:custGeom>
                <a:avLst/>
                <a:gdLst/>
                <a:ahLst/>
                <a:rect l="l" t="t" r="r" b="b"/>
                <a:pathLst>
                  <a:path w="3895" h="53">
                    <a:moveTo>
                      <a:pt x="15" y="0"/>
                    </a:moveTo>
                    <a:lnTo>
                      <a:pt x="1058" y="0"/>
                    </a:lnTo>
                    <a:lnTo>
                      <a:pt x="1043" y="53"/>
                    </a:lnTo>
                    <a:lnTo>
                      <a:pt x="0" y="53"/>
                    </a:lnTo>
                    <a:lnTo>
                      <a:pt x="13" y="15"/>
                    </a:lnTo>
                    <a:lnTo>
                      <a:pt x="15" y="0"/>
                    </a:lnTo>
                    <a:close/>
                    <a:moveTo>
                      <a:pt x="2006" y="0"/>
                    </a:moveTo>
                    <a:lnTo>
                      <a:pt x="2794" y="0"/>
                    </a:lnTo>
                    <a:lnTo>
                      <a:pt x="2743" y="53"/>
                    </a:lnTo>
                    <a:lnTo>
                      <a:pt x="1976" y="53"/>
                    </a:lnTo>
                    <a:lnTo>
                      <a:pt x="2006" y="0"/>
                    </a:lnTo>
                    <a:close/>
                    <a:moveTo>
                      <a:pt x="3140" y="0"/>
                    </a:moveTo>
                    <a:lnTo>
                      <a:pt x="3865" y="0"/>
                    </a:lnTo>
                    <a:lnTo>
                      <a:pt x="3895" y="53"/>
                    </a:lnTo>
                    <a:lnTo>
                      <a:pt x="3175" y="53"/>
                    </a:lnTo>
                    <a:lnTo>
                      <a:pt x="3140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630960" y="3472560"/>
                <a:ext cx="1505880" cy="19080"/>
              </a:xfrm>
              <a:custGeom>
                <a:avLst/>
                <a:gdLst/>
                <a:ahLst/>
                <a:rect l="l" t="t" r="r" b="b"/>
                <a:pathLst>
                  <a:path w="3918" h="54">
                    <a:moveTo>
                      <a:pt x="18" y="0"/>
                    </a:moveTo>
                    <a:lnTo>
                      <a:pt x="1058" y="0"/>
                    </a:lnTo>
                    <a:lnTo>
                      <a:pt x="1044" y="54"/>
                    </a:lnTo>
                    <a:lnTo>
                      <a:pt x="0" y="54"/>
                    </a:lnTo>
                    <a:lnTo>
                      <a:pt x="18" y="0"/>
                    </a:lnTo>
                    <a:close/>
                    <a:moveTo>
                      <a:pt x="1999" y="0"/>
                    </a:moveTo>
                    <a:lnTo>
                      <a:pt x="2777" y="0"/>
                    </a:lnTo>
                    <a:lnTo>
                      <a:pt x="2725" y="54"/>
                    </a:lnTo>
                    <a:lnTo>
                      <a:pt x="1970" y="54"/>
                    </a:lnTo>
                    <a:lnTo>
                      <a:pt x="1999" y="0"/>
                    </a:lnTo>
                    <a:close/>
                    <a:moveTo>
                      <a:pt x="3166" y="0"/>
                    </a:moveTo>
                    <a:lnTo>
                      <a:pt x="3888" y="0"/>
                    </a:lnTo>
                    <a:lnTo>
                      <a:pt x="3918" y="54"/>
                    </a:lnTo>
                    <a:lnTo>
                      <a:pt x="3204" y="54"/>
                    </a:lnTo>
                    <a:lnTo>
                      <a:pt x="3191" y="38"/>
                    </a:lnTo>
                    <a:lnTo>
                      <a:pt x="3166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3627000" y="3481560"/>
                <a:ext cx="1515600" cy="19080"/>
              </a:xfrm>
              <a:custGeom>
                <a:avLst/>
                <a:gdLst/>
                <a:ahLst/>
                <a:rect l="l" t="t" r="r" b="b"/>
                <a:pathLst>
                  <a:path w="3943" h="55">
                    <a:moveTo>
                      <a:pt x="18" y="0"/>
                    </a:moveTo>
                    <a:lnTo>
                      <a:pt x="1061" y="0"/>
                    </a:lnTo>
                    <a:lnTo>
                      <a:pt x="1053" y="30"/>
                    </a:lnTo>
                    <a:lnTo>
                      <a:pt x="1046" y="55"/>
                    </a:lnTo>
                    <a:lnTo>
                      <a:pt x="0" y="55"/>
                    </a:lnTo>
                    <a:lnTo>
                      <a:pt x="18" y="0"/>
                    </a:lnTo>
                    <a:close/>
                    <a:moveTo>
                      <a:pt x="1994" y="0"/>
                    </a:moveTo>
                    <a:lnTo>
                      <a:pt x="2761" y="0"/>
                    </a:lnTo>
                    <a:lnTo>
                      <a:pt x="2709" y="55"/>
                    </a:lnTo>
                    <a:lnTo>
                      <a:pt x="1966" y="55"/>
                    </a:lnTo>
                    <a:lnTo>
                      <a:pt x="1994" y="0"/>
                    </a:lnTo>
                    <a:close/>
                    <a:moveTo>
                      <a:pt x="3193" y="0"/>
                    </a:moveTo>
                    <a:lnTo>
                      <a:pt x="3913" y="0"/>
                    </a:lnTo>
                    <a:lnTo>
                      <a:pt x="3943" y="55"/>
                    </a:lnTo>
                    <a:lnTo>
                      <a:pt x="3236" y="55"/>
                    </a:lnTo>
                    <a:lnTo>
                      <a:pt x="3201" y="12"/>
                    </a:lnTo>
                    <a:lnTo>
                      <a:pt x="3193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3623040" y="3492000"/>
                <a:ext cx="1525320" cy="17640"/>
              </a:xfrm>
              <a:custGeom>
                <a:avLst/>
                <a:gdLst/>
                <a:ahLst/>
                <a:rect l="l" t="t" r="r" b="b"/>
                <a:pathLst>
                  <a:path w="3970" h="53">
                    <a:moveTo>
                      <a:pt x="18" y="0"/>
                    </a:moveTo>
                    <a:lnTo>
                      <a:pt x="1062" y="0"/>
                    </a:lnTo>
                    <a:lnTo>
                      <a:pt x="1061" y="2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8" y="0"/>
                    </a:lnTo>
                    <a:close/>
                    <a:moveTo>
                      <a:pt x="1988" y="0"/>
                    </a:moveTo>
                    <a:lnTo>
                      <a:pt x="2743" y="0"/>
                    </a:lnTo>
                    <a:lnTo>
                      <a:pt x="2691" y="53"/>
                    </a:lnTo>
                    <a:lnTo>
                      <a:pt x="1959" y="53"/>
                    </a:lnTo>
                    <a:lnTo>
                      <a:pt x="1960" y="51"/>
                    </a:lnTo>
                    <a:lnTo>
                      <a:pt x="1988" y="0"/>
                    </a:lnTo>
                    <a:close/>
                    <a:moveTo>
                      <a:pt x="3222" y="0"/>
                    </a:moveTo>
                    <a:lnTo>
                      <a:pt x="3936" y="0"/>
                    </a:lnTo>
                    <a:lnTo>
                      <a:pt x="3954" y="33"/>
                    </a:lnTo>
                    <a:lnTo>
                      <a:pt x="3970" y="53"/>
                    </a:lnTo>
                    <a:lnTo>
                      <a:pt x="3268" y="53"/>
                    </a:lnTo>
                    <a:lnTo>
                      <a:pt x="3222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621600" y="3500640"/>
                <a:ext cx="1534680" cy="19440"/>
              </a:xfrm>
              <a:custGeom>
                <a:avLst/>
                <a:gdLst/>
                <a:ahLst/>
                <a:rect l="l" t="t" r="r" b="b"/>
                <a:pathLst>
                  <a:path w="3998" h="53">
                    <a:moveTo>
                      <a:pt x="17" y="0"/>
                    </a:moveTo>
                    <a:lnTo>
                      <a:pt x="1063" y="0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7" y="0"/>
                    </a:lnTo>
                    <a:close/>
                    <a:moveTo>
                      <a:pt x="1983" y="0"/>
                    </a:moveTo>
                    <a:lnTo>
                      <a:pt x="2726" y="0"/>
                    </a:lnTo>
                    <a:lnTo>
                      <a:pt x="2675" y="53"/>
                    </a:lnTo>
                    <a:lnTo>
                      <a:pt x="1957" y="53"/>
                    </a:lnTo>
                    <a:lnTo>
                      <a:pt x="1969" y="24"/>
                    </a:lnTo>
                    <a:lnTo>
                      <a:pt x="1983" y="0"/>
                    </a:lnTo>
                    <a:close/>
                    <a:moveTo>
                      <a:pt x="3253" y="0"/>
                    </a:moveTo>
                    <a:lnTo>
                      <a:pt x="3960" y="0"/>
                    </a:lnTo>
                    <a:lnTo>
                      <a:pt x="3963" y="6"/>
                    </a:lnTo>
                    <a:lnTo>
                      <a:pt x="3998" y="53"/>
                    </a:lnTo>
                    <a:lnTo>
                      <a:pt x="3300" y="53"/>
                    </a:lnTo>
                    <a:lnTo>
                      <a:pt x="3253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617640" y="3509640"/>
                <a:ext cx="1546560" cy="19440"/>
              </a:xfrm>
              <a:custGeom>
                <a:avLst/>
                <a:gdLst/>
                <a:ahLst/>
                <a:rect l="l" t="t" r="r" b="b"/>
                <a:pathLst>
                  <a:path w="4027" h="55">
                    <a:moveTo>
                      <a:pt x="19" y="0"/>
                    </a:moveTo>
                    <a:lnTo>
                      <a:pt x="1066" y="0"/>
                    </a:lnTo>
                    <a:lnTo>
                      <a:pt x="1052" y="47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8" y="36"/>
                    </a:lnTo>
                    <a:lnTo>
                      <a:pt x="19" y="0"/>
                    </a:lnTo>
                    <a:close/>
                    <a:moveTo>
                      <a:pt x="1978" y="0"/>
                    </a:moveTo>
                    <a:lnTo>
                      <a:pt x="2710" y="0"/>
                    </a:lnTo>
                    <a:lnTo>
                      <a:pt x="2659" y="55"/>
                    </a:lnTo>
                    <a:lnTo>
                      <a:pt x="1955" y="55"/>
                    </a:lnTo>
                    <a:lnTo>
                      <a:pt x="1978" y="0"/>
                    </a:lnTo>
                    <a:close/>
                    <a:moveTo>
                      <a:pt x="3287" y="0"/>
                    </a:moveTo>
                    <a:lnTo>
                      <a:pt x="3989" y="0"/>
                    </a:lnTo>
                    <a:lnTo>
                      <a:pt x="4023" y="47"/>
                    </a:lnTo>
                    <a:lnTo>
                      <a:pt x="4027" y="55"/>
                    </a:lnTo>
                    <a:lnTo>
                      <a:pt x="3332" y="55"/>
                    </a:lnTo>
                    <a:lnTo>
                      <a:pt x="3287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613680" y="3520440"/>
                <a:ext cx="1556280" cy="19080"/>
              </a:xfrm>
              <a:custGeom>
                <a:avLst/>
                <a:gdLst/>
                <a:ahLst/>
                <a:rect l="l" t="t" r="r" b="b"/>
                <a:pathLst>
                  <a:path w="4050" h="54">
                    <a:moveTo>
                      <a:pt x="20" y="0"/>
                    </a:moveTo>
                    <a:lnTo>
                      <a:pt x="1067" y="0"/>
                    </a:lnTo>
                    <a:lnTo>
                      <a:pt x="1062" y="20"/>
                    </a:lnTo>
                    <a:lnTo>
                      <a:pt x="1051" y="54"/>
                    </a:lnTo>
                    <a:lnTo>
                      <a:pt x="0" y="54"/>
                    </a:lnTo>
                    <a:lnTo>
                      <a:pt x="18" y="9"/>
                    </a:lnTo>
                    <a:lnTo>
                      <a:pt x="20" y="0"/>
                    </a:lnTo>
                    <a:close/>
                    <a:moveTo>
                      <a:pt x="1977" y="0"/>
                    </a:moveTo>
                    <a:lnTo>
                      <a:pt x="2695" y="0"/>
                    </a:lnTo>
                    <a:lnTo>
                      <a:pt x="2643" y="54"/>
                    </a:lnTo>
                    <a:lnTo>
                      <a:pt x="1955" y="54"/>
                    </a:lnTo>
                    <a:lnTo>
                      <a:pt x="1977" y="0"/>
                    </a:lnTo>
                    <a:close/>
                    <a:moveTo>
                      <a:pt x="3320" y="0"/>
                    </a:moveTo>
                    <a:lnTo>
                      <a:pt x="4018" y="0"/>
                    </a:lnTo>
                    <a:lnTo>
                      <a:pt x="4033" y="20"/>
                    </a:lnTo>
                    <a:lnTo>
                      <a:pt x="4050" y="54"/>
                    </a:lnTo>
                    <a:lnTo>
                      <a:pt x="3365" y="54"/>
                    </a:lnTo>
                    <a:lnTo>
                      <a:pt x="3320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3607920" y="3529080"/>
                <a:ext cx="1565640" cy="19080"/>
              </a:xfrm>
              <a:custGeom>
                <a:avLst/>
                <a:gdLst/>
                <a:ahLst/>
                <a:rect l="l" t="t" r="r" b="b"/>
                <a:pathLst>
                  <a:path w="4075" h="53">
                    <a:moveTo>
                      <a:pt x="21" y="0"/>
                    </a:moveTo>
                    <a:lnTo>
                      <a:pt x="1071" y="0"/>
                    </a:lnTo>
                    <a:lnTo>
                      <a:pt x="1052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80" y="0"/>
                    </a:lnTo>
                    <a:lnTo>
                      <a:pt x="2628" y="53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53" y="0"/>
                    </a:moveTo>
                    <a:lnTo>
                      <a:pt x="4048" y="0"/>
                    </a:lnTo>
                    <a:lnTo>
                      <a:pt x="4073" y="49"/>
                    </a:lnTo>
                    <a:lnTo>
                      <a:pt x="4075" y="53"/>
                    </a:lnTo>
                    <a:lnTo>
                      <a:pt x="3399" y="53"/>
                    </a:lnTo>
                    <a:lnTo>
                      <a:pt x="3395" y="49"/>
                    </a:lnTo>
                    <a:lnTo>
                      <a:pt x="3353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603960" y="3539520"/>
                <a:ext cx="1761840" cy="19440"/>
              </a:xfrm>
              <a:custGeom>
                <a:avLst/>
                <a:gdLst/>
                <a:ahLst/>
                <a:rect l="l" t="t" r="r" b="b"/>
                <a:pathLst>
                  <a:path w="4583" h="55">
                    <a:moveTo>
                      <a:pt x="21" y="0"/>
                    </a:moveTo>
                    <a:lnTo>
                      <a:pt x="1072" y="0"/>
                    </a:lnTo>
                    <a:lnTo>
                      <a:pt x="1056" y="45"/>
                    </a:lnTo>
                    <a:lnTo>
                      <a:pt x="1052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64" y="0"/>
                    </a:lnTo>
                    <a:lnTo>
                      <a:pt x="2613" y="55"/>
                    </a:lnTo>
                    <a:lnTo>
                      <a:pt x="1953" y="55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86" y="0"/>
                    </a:moveTo>
                    <a:lnTo>
                      <a:pt x="4071" y="0"/>
                    </a:lnTo>
                    <a:lnTo>
                      <a:pt x="4083" y="23"/>
                    </a:lnTo>
                    <a:lnTo>
                      <a:pt x="4094" y="55"/>
                    </a:lnTo>
                    <a:lnTo>
                      <a:pt x="3432" y="55"/>
                    </a:lnTo>
                    <a:lnTo>
                      <a:pt x="3405" y="23"/>
                    </a:lnTo>
                    <a:lnTo>
                      <a:pt x="3386" y="0"/>
                    </a:lnTo>
                    <a:close/>
                    <a:moveTo>
                      <a:pt x="4583" y="55"/>
                    </a:moveTo>
                    <a:lnTo>
                      <a:pt x="4197" y="55"/>
                    </a:lnTo>
                    <a:lnTo>
                      <a:pt x="4227" y="45"/>
                    </a:lnTo>
                    <a:lnTo>
                      <a:pt x="4294" y="34"/>
                    </a:lnTo>
                    <a:lnTo>
                      <a:pt x="4470" y="34"/>
                    </a:lnTo>
                    <a:lnTo>
                      <a:pt x="4576" y="53"/>
                    </a:lnTo>
                    <a:lnTo>
                      <a:pt x="4583" y="5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600000" y="3548520"/>
                <a:ext cx="1805760" cy="19440"/>
              </a:xfrm>
              <a:custGeom>
                <a:avLst/>
                <a:gdLst/>
                <a:ahLst/>
                <a:rect l="l" t="t" r="r" b="b"/>
                <a:pathLst>
                  <a:path w="4698" h="55">
                    <a:moveTo>
                      <a:pt x="21" y="0"/>
                    </a:moveTo>
                    <a:lnTo>
                      <a:pt x="1073" y="0"/>
                    </a:lnTo>
                    <a:lnTo>
                      <a:pt x="1067" y="18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5" y="0"/>
                    </a:moveTo>
                    <a:lnTo>
                      <a:pt x="2649" y="0"/>
                    </a:lnTo>
                    <a:lnTo>
                      <a:pt x="2598" y="55"/>
                    </a:lnTo>
                    <a:lnTo>
                      <a:pt x="1952" y="55"/>
                    </a:lnTo>
                    <a:lnTo>
                      <a:pt x="1965" y="26"/>
                    </a:lnTo>
                    <a:lnTo>
                      <a:pt x="1975" y="0"/>
                    </a:lnTo>
                    <a:close/>
                    <a:moveTo>
                      <a:pt x="3420" y="0"/>
                    </a:moveTo>
                    <a:lnTo>
                      <a:pt x="4096" y="0"/>
                    </a:lnTo>
                    <a:lnTo>
                      <a:pt x="4112" y="45"/>
                    </a:lnTo>
                    <a:lnTo>
                      <a:pt x="4122" y="55"/>
                    </a:lnTo>
                    <a:lnTo>
                      <a:pt x="3467" y="55"/>
                    </a:lnTo>
                    <a:lnTo>
                      <a:pt x="3420" y="0"/>
                    </a:lnTo>
                    <a:close/>
                    <a:moveTo>
                      <a:pt x="4698" y="55"/>
                    </a:moveTo>
                    <a:lnTo>
                      <a:pt x="4134" y="55"/>
                    </a:lnTo>
                    <a:lnTo>
                      <a:pt x="4152" y="45"/>
                    </a:lnTo>
                    <a:lnTo>
                      <a:pt x="4238" y="18"/>
                    </a:lnTo>
                    <a:lnTo>
                      <a:pt x="4305" y="7"/>
                    </a:lnTo>
                    <a:lnTo>
                      <a:pt x="4481" y="7"/>
                    </a:lnTo>
                    <a:lnTo>
                      <a:pt x="4587" y="26"/>
                    </a:lnTo>
                    <a:lnTo>
                      <a:pt x="4698" y="5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3596040" y="3559320"/>
                <a:ext cx="1846440" cy="17640"/>
              </a:xfrm>
              <a:custGeom>
                <a:avLst/>
                <a:gdLst/>
                <a:ahLst/>
                <a:rect l="l" t="t" r="r" b="b"/>
                <a:pathLst>
                  <a:path w="4804" h="53">
                    <a:moveTo>
                      <a:pt x="21" y="0"/>
                    </a:moveTo>
                    <a:lnTo>
                      <a:pt x="1073" y="0"/>
                    </a:lnTo>
                    <a:lnTo>
                      <a:pt x="1057" y="33"/>
                    </a:lnTo>
                    <a:lnTo>
                      <a:pt x="1045" y="53"/>
                    </a:lnTo>
                    <a:lnTo>
                      <a:pt x="104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4" y="0"/>
                    </a:moveTo>
                    <a:lnTo>
                      <a:pt x="2634" y="0"/>
                    </a:lnTo>
                    <a:lnTo>
                      <a:pt x="2581" y="53"/>
                    </a:lnTo>
                    <a:lnTo>
                      <a:pt x="1949" y="53"/>
                    </a:lnTo>
                    <a:lnTo>
                      <a:pt x="1974" y="0"/>
                    </a:lnTo>
                    <a:close/>
                    <a:moveTo>
                      <a:pt x="3453" y="0"/>
                    </a:moveTo>
                    <a:lnTo>
                      <a:pt x="4115" y="0"/>
                    </a:lnTo>
                    <a:lnTo>
                      <a:pt x="4122" y="17"/>
                    </a:lnTo>
                    <a:lnTo>
                      <a:pt x="4133" y="28"/>
                    </a:lnTo>
                    <a:lnTo>
                      <a:pt x="4142" y="28"/>
                    </a:lnTo>
                    <a:lnTo>
                      <a:pt x="4162" y="17"/>
                    </a:lnTo>
                    <a:lnTo>
                      <a:pt x="4218" y="0"/>
                    </a:lnTo>
                    <a:lnTo>
                      <a:pt x="4604" y="0"/>
                    </a:lnTo>
                    <a:lnTo>
                      <a:pt x="4788" y="47"/>
                    </a:lnTo>
                    <a:lnTo>
                      <a:pt x="4804" y="53"/>
                    </a:lnTo>
                    <a:lnTo>
                      <a:pt x="3501" y="53"/>
                    </a:lnTo>
                    <a:lnTo>
                      <a:pt x="3453" y="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3594600" y="3568320"/>
                <a:ext cx="1875240" cy="19080"/>
              </a:xfrm>
              <a:custGeom>
                <a:avLst/>
                <a:gdLst/>
                <a:ahLst/>
                <a:rect l="l" t="t" r="r" b="b"/>
                <a:pathLst>
                  <a:path w="4881" h="54">
                    <a:moveTo>
                      <a:pt x="16" y="0"/>
                    </a:moveTo>
                    <a:lnTo>
                      <a:pt x="1066" y="0"/>
                    </a:lnTo>
                    <a:lnTo>
                      <a:pt x="1063" y="6"/>
                    </a:lnTo>
                    <a:lnTo>
                      <a:pt x="1051" y="26"/>
                    </a:lnTo>
                    <a:lnTo>
                      <a:pt x="1034" y="54"/>
                    </a:lnTo>
                    <a:lnTo>
                      <a:pt x="0" y="54"/>
                    </a:lnTo>
                    <a:lnTo>
                      <a:pt x="6" y="26"/>
                    </a:lnTo>
                    <a:lnTo>
                      <a:pt x="16" y="0"/>
                    </a:lnTo>
                    <a:close/>
                    <a:moveTo>
                      <a:pt x="1968" y="0"/>
                    </a:moveTo>
                    <a:lnTo>
                      <a:pt x="2614" y="0"/>
                    </a:lnTo>
                    <a:lnTo>
                      <a:pt x="2562" y="54"/>
                    </a:lnTo>
                    <a:lnTo>
                      <a:pt x="1942" y="54"/>
                    </a:lnTo>
                    <a:lnTo>
                      <a:pt x="1950" y="38"/>
                    </a:lnTo>
                    <a:lnTo>
                      <a:pt x="1968" y="0"/>
                    </a:lnTo>
                    <a:close/>
                    <a:moveTo>
                      <a:pt x="3483" y="0"/>
                    </a:moveTo>
                    <a:lnTo>
                      <a:pt x="4138" y="0"/>
                    </a:lnTo>
                    <a:lnTo>
                      <a:pt x="4139" y="1"/>
                    </a:lnTo>
                    <a:lnTo>
                      <a:pt x="4148" y="1"/>
                    </a:lnTo>
                    <a:lnTo>
                      <a:pt x="4150" y="0"/>
                    </a:lnTo>
                    <a:lnTo>
                      <a:pt x="4714" y="0"/>
                    </a:lnTo>
                    <a:lnTo>
                      <a:pt x="4794" y="20"/>
                    </a:lnTo>
                    <a:lnTo>
                      <a:pt x="4881" y="54"/>
                    </a:lnTo>
                    <a:lnTo>
                      <a:pt x="3528" y="54"/>
                    </a:lnTo>
                    <a:lnTo>
                      <a:pt x="3508" y="28"/>
                    </a:lnTo>
                    <a:lnTo>
                      <a:pt x="348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592440" y="3576960"/>
                <a:ext cx="1903680" cy="19440"/>
              </a:xfrm>
              <a:custGeom>
                <a:avLst/>
                <a:gdLst/>
                <a:ahLst/>
                <a:rect l="l" t="t" r="r" b="b"/>
                <a:pathLst>
                  <a:path w="4956" h="55">
                    <a:moveTo>
                      <a:pt x="12" y="0"/>
                    </a:moveTo>
                    <a:lnTo>
                      <a:pt x="1057" y="0"/>
                    </a:lnTo>
                    <a:lnTo>
                      <a:pt x="1023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61" y="0"/>
                    </a:moveTo>
                    <a:lnTo>
                      <a:pt x="2593" y="0"/>
                    </a:lnTo>
                    <a:lnTo>
                      <a:pt x="2542" y="55"/>
                    </a:lnTo>
                    <a:lnTo>
                      <a:pt x="1933" y="55"/>
                    </a:lnTo>
                    <a:lnTo>
                      <a:pt x="1956" y="12"/>
                    </a:lnTo>
                    <a:lnTo>
                      <a:pt x="1961" y="0"/>
                    </a:lnTo>
                    <a:close/>
                    <a:moveTo>
                      <a:pt x="3513" y="0"/>
                    </a:moveTo>
                    <a:lnTo>
                      <a:pt x="4816" y="0"/>
                    </a:lnTo>
                    <a:lnTo>
                      <a:pt x="4956" y="55"/>
                    </a:lnTo>
                    <a:lnTo>
                      <a:pt x="3554" y="55"/>
                    </a:lnTo>
                    <a:lnTo>
                      <a:pt x="3514" y="2"/>
                    </a:lnTo>
                    <a:lnTo>
                      <a:pt x="351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3590640" y="3587400"/>
                <a:ext cx="1932480" cy="18000"/>
              </a:xfrm>
              <a:custGeom>
                <a:avLst/>
                <a:gdLst/>
                <a:ahLst/>
                <a:rect l="l" t="t" r="r" b="b"/>
                <a:pathLst>
                  <a:path w="5030" h="53">
                    <a:moveTo>
                      <a:pt x="12" y="0"/>
                    </a:moveTo>
                    <a:lnTo>
                      <a:pt x="1046" y="0"/>
                    </a:lnTo>
                    <a:lnTo>
                      <a:pt x="10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574" y="0"/>
                    </a:lnTo>
                    <a:lnTo>
                      <a:pt x="2523" y="53"/>
                    </a:lnTo>
                    <a:lnTo>
                      <a:pt x="1925" y="53"/>
                    </a:lnTo>
                    <a:lnTo>
                      <a:pt x="1925" y="53"/>
                    </a:lnTo>
                    <a:lnTo>
                      <a:pt x="1954" y="0"/>
                    </a:lnTo>
                    <a:close/>
                    <a:moveTo>
                      <a:pt x="3540" y="0"/>
                    </a:moveTo>
                    <a:lnTo>
                      <a:pt x="4893" y="0"/>
                    </a:lnTo>
                    <a:lnTo>
                      <a:pt x="4980" y="33"/>
                    </a:lnTo>
                    <a:lnTo>
                      <a:pt x="5030" y="53"/>
                    </a:lnTo>
                    <a:lnTo>
                      <a:pt x="3580" y="53"/>
                    </a:lnTo>
                    <a:lnTo>
                      <a:pt x="3540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588840" y="3596760"/>
                <a:ext cx="1959480" cy="19080"/>
              </a:xfrm>
              <a:custGeom>
                <a:avLst/>
                <a:gdLst/>
                <a:ahLst/>
                <a:rect l="l" t="t" r="r" b="b"/>
                <a:pathLst>
                  <a:path w="5101" h="53">
                    <a:moveTo>
                      <a:pt x="11" y="0"/>
                    </a:moveTo>
                    <a:lnTo>
                      <a:pt x="1034" y="0"/>
                    </a:lnTo>
                    <a:lnTo>
                      <a:pt x="999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4" y="0"/>
                    </a:moveTo>
                    <a:lnTo>
                      <a:pt x="2553" y="0"/>
                    </a:lnTo>
                    <a:lnTo>
                      <a:pt x="2502" y="53"/>
                    </a:lnTo>
                    <a:lnTo>
                      <a:pt x="1924" y="53"/>
                    </a:lnTo>
                    <a:lnTo>
                      <a:pt x="1930" y="26"/>
                    </a:lnTo>
                    <a:lnTo>
                      <a:pt x="1944" y="0"/>
                    </a:lnTo>
                    <a:close/>
                    <a:moveTo>
                      <a:pt x="3565" y="0"/>
                    </a:moveTo>
                    <a:lnTo>
                      <a:pt x="4967" y="0"/>
                    </a:lnTo>
                    <a:lnTo>
                      <a:pt x="4985" y="6"/>
                    </a:lnTo>
                    <a:lnTo>
                      <a:pt x="5101" y="53"/>
                    </a:lnTo>
                    <a:lnTo>
                      <a:pt x="3609" y="53"/>
                    </a:lnTo>
                    <a:lnTo>
                      <a:pt x="3593" y="36"/>
                    </a:lnTo>
                    <a:lnTo>
                      <a:pt x="3565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3584880" y="3605400"/>
                <a:ext cx="1992240" cy="19080"/>
              </a:xfrm>
              <a:custGeom>
                <a:avLst/>
                <a:gdLst/>
                <a:ahLst/>
                <a:rect l="l" t="t" r="r" b="b"/>
                <a:pathLst>
                  <a:path w="5182" h="55">
                    <a:moveTo>
                      <a:pt x="12" y="0"/>
                    </a:moveTo>
                    <a:lnTo>
                      <a:pt x="1024" y="0"/>
                    </a:lnTo>
                    <a:lnTo>
                      <a:pt x="989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37" y="0"/>
                    </a:moveTo>
                    <a:lnTo>
                      <a:pt x="2535" y="0"/>
                    </a:lnTo>
                    <a:lnTo>
                      <a:pt x="2483" y="55"/>
                    </a:lnTo>
                    <a:lnTo>
                      <a:pt x="1932" y="55"/>
                    </a:lnTo>
                    <a:lnTo>
                      <a:pt x="1929" y="38"/>
                    </a:lnTo>
                    <a:lnTo>
                      <a:pt x="1937" y="0"/>
                    </a:lnTo>
                    <a:close/>
                    <a:moveTo>
                      <a:pt x="3592" y="0"/>
                    </a:moveTo>
                    <a:lnTo>
                      <a:pt x="5042" y="0"/>
                    </a:lnTo>
                    <a:lnTo>
                      <a:pt x="5158" y="47"/>
                    </a:lnTo>
                    <a:lnTo>
                      <a:pt x="5182" y="55"/>
                    </a:lnTo>
                    <a:lnTo>
                      <a:pt x="3642" y="55"/>
                    </a:lnTo>
                    <a:lnTo>
                      <a:pt x="3600" y="10"/>
                    </a:lnTo>
                    <a:lnTo>
                      <a:pt x="3592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3582720" y="3615840"/>
                <a:ext cx="2028960" cy="19440"/>
              </a:xfrm>
              <a:custGeom>
                <a:avLst/>
                <a:gdLst/>
                <a:ahLst/>
                <a:rect l="l" t="t" r="r" b="b"/>
                <a:pathLst>
                  <a:path w="5280" h="54">
                    <a:moveTo>
                      <a:pt x="13" y="0"/>
                    </a:moveTo>
                    <a:lnTo>
                      <a:pt x="1012" y="0"/>
                    </a:lnTo>
                    <a:lnTo>
                      <a:pt x="977" y="54"/>
                    </a:lnTo>
                    <a:lnTo>
                      <a:pt x="0" y="54"/>
                    </a:lnTo>
                    <a:lnTo>
                      <a:pt x="13" y="0"/>
                    </a:lnTo>
                    <a:close/>
                    <a:moveTo>
                      <a:pt x="1937" y="0"/>
                    </a:moveTo>
                    <a:lnTo>
                      <a:pt x="2515" y="0"/>
                    </a:lnTo>
                    <a:lnTo>
                      <a:pt x="2463" y="54"/>
                    </a:lnTo>
                    <a:lnTo>
                      <a:pt x="1942" y="54"/>
                    </a:lnTo>
                    <a:lnTo>
                      <a:pt x="1935" y="11"/>
                    </a:lnTo>
                    <a:lnTo>
                      <a:pt x="1937" y="0"/>
                    </a:lnTo>
                    <a:close/>
                    <a:moveTo>
                      <a:pt x="3622" y="0"/>
                    </a:moveTo>
                    <a:lnTo>
                      <a:pt x="5114" y="0"/>
                    </a:lnTo>
                    <a:lnTo>
                      <a:pt x="5164" y="20"/>
                    </a:lnTo>
                    <a:lnTo>
                      <a:pt x="5280" y="54"/>
                    </a:lnTo>
                    <a:lnTo>
                      <a:pt x="3674" y="54"/>
                    </a:lnTo>
                    <a:lnTo>
                      <a:pt x="3622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580920" y="3624840"/>
                <a:ext cx="2211480" cy="19440"/>
              </a:xfrm>
              <a:custGeom>
                <a:avLst/>
                <a:gdLst/>
                <a:ahLst/>
                <a:rect l="l" t="t" r="r" b="b"/>
                <a:pathLst>
                  <a:path w="5757" h="53">
                    <a:moveTo>
                      <a:pt x="11" y="0"/>
                    </a:moveTo>
                    <a:lnTo>
                      <a:pt x="1000" y="0"/>
                    </a:lnTo>
                    <a:lnTo>
                      <a:pt x="966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3" y="0"/>
                    </a:moveTo>
                    <a:lnTo>
                      <a:pt x="2494" y="0"/>
                    </a:lnTo>
                    <a:lnTo>
                      <a:pt x="2463" y="32"/>
                    </a:lnTo>
                    <a:lnTo>
                      <a:pt x="2463" y="42"/>
                    </a:lnTo>
                    <a:lnTo>
                      <a:pt x="2466" y="53"/>
                    </a:lnTo>
                    <a:lnTo>
                      <a:pt x="1955" y="53"/>
                    </a:lnTo>
                    <a:lnTo>
                      <a:pt x="1948" y="32"/>
                    </a:lnTo>
                    <a:lnTo>
                      <a:pt x="1943" y="0"/>
                    </a:lnTo>
                    <a:close/>
                    <a:moveTo>
                      <a:pt x="3653" y="0"/>
                    </a:moveTo>
                    <a:lnTo>
                      <a:pt x="5193" y="0"/>
                    </a:lnTo>
                    <a:lnTo>
                      <a:pt x="5364" y="50"/>
                    </a:lnTo>
                    <a:lnTo>
                      <a:pt x="5394" y="53"/>
                    </a:lnTo>
                    <a:lnTo>
                      <a:pt x="3704" y="53"/>
                    </a:lnTo>
                    <a:lnTo>
                      <a:pt x="3653" y="0"/>
                    </a:lnTo>
                    <a:close/>
                    <a:moveTo>
                      <a:pt x="5757" y="53"/>
                    </a:moveTo>
                    <a:lnTo>
                      <a:pt x="5571" y="53"/>
                    </a:lnTo>
                    <a:lnTo>
                      <a:pt x="5635" y="42"/>
                    </a:lnTo>
                    <a:lnTo>
                      <a:pt x="5701" y="32"/>
                    </a:lnTo>
                    <a:lnTo>
                      <a:pt x="5741" y="42"/>
                    </a:lnTo>
                    <a:lnTo>
                      <a:pt x="5757" y="53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3579120" y="3635640"/>
                <a:ext cx="2226240" cy="19080"/>
              </a:xfrm>
              <a:custGeom>
                <a:avLst/>
                <a:gdLst/>
                <a:ahLst/>
                <a:rect l="l" t="t" r="r" b="b"/>
                <a:pathLst>
                  <a:path w="5796" h="55">
                    <a:moveTo>
                      <a:pt x="12" y="0"/>
                    </a:moveTo>
                    <a:lnTo>
                      <a:pt x="989" y="0"/>
                    </a:lnTo>
                    <a:lnTo>
                      <a:pt x="956" y="55"/>
                    </a:lnTo>
                    <a:lnTo>
                      <a:pt x="0" y="55"/>
                    </a:lnTo>
                    <a:lnTo>
                      <a:pt x="5" y="36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475" y="0"/>
                    </a:lnTo>
                    <a:lnTo>
                      <a:pt x="2470" y="6"/>
                    </a:lnTo>
                    <a:lnTo>
                      <a:pt x="2470" y="16"/>
                    </a:lnTo>
                    <a:lnTo>
                      <a:pt x="2478" y="43"/>
                    </a:lnTo>
                    <a:lnTo>
                      <a:pt x="2478" y="55"/>
                    </a:lnTo>
                    <a:lnTo>
                      <a:pt x="1969" y="55"/>
                    </a:lnTo>
                    <a:lnTo>
                      <a:pt x="1955" y="6"/>
                    </a:lnTo>
                    <a:lnTo>
                      <a:pt x="1954" y="0"/>
                    </a:lnTo>
                    <a:close/>
                    <a:moveTo>
                      <a:pt x="3686" y="0"/>
                    </a:moveTo>
                    <a:lnTo>
                      <a:pt x="5292" y="0"/>
                    </a:lnTo>
                    <a:lnTo>
                      <a:pt x="5371" y="24"/>
                    </a:lnTo>
                    <a:lnTo>
                      <a:pt x="5465" y="36"/>
                    </a:lnTo>
                    <a:lnTo>
                      <a:pt x="5533" y="36"/>
                    </a:lnTo>
                    <a:lnTo>
                      <a:pt x="5642" y="16"/>
                    </a:lnTo>
                    <a:lnTo>
                      <a:pt x="5708" y="6"/>
                    </a:lnTo>
                    <a:lnTo>
                      <a:pt x="5748" y="16"/>
                    </a:lnTo>
                    <a:lnTo>
                      <a:pt x="5786" y="43"/>
                    </a:lnTo>
                    <a:lnTo>
                      <a:pt x="5796" y="55"/>
                    </a:lnTo>
                    <a:lnTo>
                      <a:pt x="3736" y="55"/>
                    </a:lnTo>
                    <a:lnTo>
                      <a:pt x="3686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576960" y="3644640"/>
                <a:ext cx="2238480" cy="19080"/>
              </a:xfrm>
              <a:custGeom>
                <a:avLst/>
                <a:gdLst/>
                <a:ahLst/>
                <a:rect l="l" t="t" r="r" b="b"/>
                <a:pathLst>
                  <a:path w="5825" h="55">
                    <a:moveTo>
                      <a:pt x="11" y="0"/>
                    </a:moveTo>
                    <a:lnTo>
                      <a:pt x="977" y="0"/>
                    </a:lnTo>
                    <a:lnTo>
                      <a:pt x="942" y="55"/>
                    </a:lnTo>
                    <a:lnTo>
                      <a:pt x="0" y="55"/>
                    </a:lnTo>
                    <a:lnTo>
                      <a:pt x="9" y="9"/>
                    </a:lnTo>
                    <a:lnTo>
                      <a:pt x="11" y="0"/>
                    </a:lnTo>
                    <a:close/>
                    <a:moveTo>
                      <a:pt x="1966" y="0"/>
                    </a:moveTo>
                    <a:lnTo>
                      <a:pt x="2477" y="0"/>
                    </a:lnTo>
                    <a:lnTo>
                      <a:pt x="2482" y="16"/>
                    </a:lnTo>
                    <a:lnTo>
                      <a:pt x="2482" y="55"/>
                    </a:lnTo>
                    <a:lnTo>
                      <a:pt x="1981" y="55"/>
                    </a:lnTo>
                    <a:lnTo>
                      <a:pt x="1978" y="47"/>
                    </a:lnTo>
                    <a:lnTo>
                      <a:pt x="1966" y="0"/>
                    </a:lnTo>
                    <a:close/>
                    <a:moveTo>
                      <a:pt x="3715" y="0"/>
                    </a:moveTo>
                    <a:lnTo>
                      <a:pt x="5405" y="0"/>
                    </a:lnTo>
                    <a:lnTo>
                      <a:pt x="5469" y="9"/>
                    </a:lnTo>
                    <a:lnTo>
                      <a:pt x="5537" y="9"/>
                    </a:lnTo>
                    <a:lnTo>
                      <a:pt x="5582" y="0"/>
                    </a:lnTo>
                    <a:lnTo>
                      <a:pt x="5768" y="0"/>
                    </a:lnTo>
                    <a:lnTo>
                      <a:pt x="5790" y="16"/>
                    </a:lnTo>
                    <a:lnTo>
                      <a:pt x="5825" y="55"/>
                    </a:lnTo>
                    <a:lnTo>
                      <a:pt x="3767" y="55"/>
                    </a:lnTo>
                    <a:lnTo>
                      <a:pt x="3758" y="47"/>
                    </a:lnTo>
                    <a:lnTo>
                      <a:pt x="371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3575160" y="3655080"/>
                <a:ext cx="2245680" cy="17640"/>
              </a:xfrm>
              <a:custGeom>
                <a:avLst/>
                <a:gdLst/>
                <a:ahLst/>
                <a:rect l="l" t="t" r="r" b="b"/>
                <a:pathLst>
                  <a:path w="5846" h="53">
                    <a:moveTo>
                      <a:pt x="9" y="0"/>
                    </a:moveTo>
                    <a:lnTo>
                      <a:pt x="965" y="0"/>
                    </a:lnTo>
                    <a:lnTo>
                      <a:pt x="930" y="53"/>
                    </a:lnTo>
                    <a:lnTo>
                      <a:pt x="905" y="53"/>
                    </a:lnTo>
                    <a:lnTo>
                      <a:pt x="842" y="48"/>
                    </a:lnTo>
                    <a:lnTo>
                      <a:pt x="842" y="53"/>
                    </a:lnTo>
                    <a:lnTo>
                      <a:pt x="0" y="53"/>
                    </a:lnTo>
                    <a:lnTo>
                      <a:pt x="9" y="0"/>
                    </a:lnTo>
                    <a:close/>
                    <a:moveTo>
                      <a:pt x="1978" y="0"/>
                    </a:moveTo>
                    <a:lnTo>
                      <a:pt x="2487" y="0"/>
                    </a:lnTo>
                    <a:lnTo>
                      <a:pt x="2487" y="37"/>
                    </a:lnTo>
                    <a:lnTo>
                      <a:pt x="2488" y="53"/>
                    </a:lnTo>
                    <a:lnTo>
                      <a:pt x="1996" y="53"/>
                    </a:lnTo>
                    <a:lnTo>
                      <a:pt x="1983" y="19"/>
                    </a:lnTo>
                    <a:lnTo>
                      <a:pt x="1978" y="0"/>
                    </a:lnTo>
                    <a:close/>
                    <a:moveTo>
                      <a:pt x="3745" y="0"/>
                    </a:moveTo>
                    <a:lnTo>
                      <a:pt x="5805" y="0"/>
                    </a:lnTo>
                    <a:lnTo>
                      <a:pt x="5831" y="28"/>
                    </a:lnTo>
                    <a:lnTo>
                      <a:pt x="5846" y="53"/>
                    </a:lnTo>
                    <a:lnTo>
                      <a:pt x="3801" y="53"/>
                    </a:lnTo>
                    <a:lnTo>
                      <a:pt x="3763" y="19"/>
                    </a:lnTo>
                    <a:lnTo>
                      <a:pt x="374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3573000" y="3663720"/>
                <a:ext cx="2251800" cy="19440"/>
              </a:xfrm>
              <a:custGeom>
                <a:avLst/>
                <a:gdLst/>
                <a:ahLst/>
                <a:rect l="l" t="t" r="r" b="b"/>
                <a:pathLst>
                  <a:path w="5860" h="54">
                    <a:moveTo>
                      <a:pt x="10" y="0"/>
                    </a:moveTo>
                    <a:lnTo>
                      <a:pt x="952" y="0"/>
                    </a:lnTo>
                    <a:lnTo>
                      <a:pt x="934" y="28"/>
                    </a:lnTo>
                    <a:lnTo>
                      <a:pt x="847" y="21"/>
                    </a:lnTo>
                    <a:lnTo>
                      <a:pt x="847" y="28"/>
                    </a:lnTo>
                    <a:lnTo>
                      <a:pt x="839" y="48"/>
                    </a:lnTo>
                    <a:lnTo>
                      <a:pt x="838" y="54"/>
                    </a:lnTo>
                    <a:lnTo>
                      <a:pt x="0" y="54"/>
                    </a:lnTo>
                    <a:lnTo>
                      <a:pt x="10" y="0"/>
                    </a:lnTo>
                    <a:close/>
                    <a:moveTo>
                      <a:pt x="1991" y="0"/>
                    </a:moveTo>
                    <a:lnTo>
                      <a:pt x="2492" y="0"/>
                    </a:lnTo>
                    <a:lnTo>
                      <a:pt x="2492" y="10"/>
                    </a:lnTo>
                    <a:lnTo>
                      <a:pt x="2498" y="54"/>
                    </a:lnTo>
                    <a:lnTo>
                      <a:pt x="2010" y="54"/>
                    </a:lnTo>
                    <a:lnTo>
                      <a:pt x="1991" y="0"/>
                    </a:lnTo>
                    <a:close/>
                    <a:moveTo>
                      <a:pt x="3777" y="0"/>
                    </a:moveTo>
                    <a:lnTo>
                      <a:pt x="5835" y="0"/>
                    </a:lnTo>
                    <a:lnTo>
                      <a:pt x="5836" y="1"/>
                    </a:lnTo>
                    <a:lnTo>
                      <a:pt x="5858" y="41"/>
                    </a:lnTo>
                    <a:lnTo>
                      <a:pt x="5860" y="54"/>
                    </a:lnTo>
                    <a:lnTo>
                      <a:pt x="3835" y="54"/>
                    </a:lnTo>
                    <a:lnTo>
                      <a:pt x="3777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569760" y="3672720"/>
                <a:ext cx="2255400" cy="19440"/>
              </a:xfrm>
              <a:custGeom>
                <a:avLst/>
                <a:gdLst/>
                <a:ahLst/>
                <a:rect l="l" t="t" r="r" b="b"/>
                <a:pathLst>
                  <a:path w="5873" h="55">
                    <a:moveTo>
                      <a:pt x="15" y="0"/>
                    </a:moveTo>
                    <a:lnTo>
                      <a:pt x="857" y="0"/>
                    </a:lnTo>
                    <a:lnTo>
                      <a:pt x="857" y="2"/>
                    </a:lnTo>
                    <a:lnTo>
                      <a:pt x="849" y="22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9" y="31"/>
                    </a:lnTo>
                    <a:lnTo>
                      <a:pt x="15" y="0"/>
                    </a:lnTo>
                    <a:close/>
                    <a:moveTo>
                      <a:pt x="920" y="0"/>
                    </a:moveTo>
                    <a:lnTo>
                      <a:pt x="945" y="0"/>
                    </a:lnTo>
                    <a:lnTo>
                      <a:pt x="944" y="2"/>
                    </a:lnTo>
                    <a:lnTo>
                      <a:pt x="920" y="0"/>
                    </a:lnTo>
                    <a:close/>
                    <a:moveTo>
                      <a:pt x="2011" y="0"/>
                    </a:moveTo>
                    <a:lnTo>
                      <a:pt x="2503" y="0"/>
                    </a:lnTo>
                    <a:lnTo>
                      <a:pt x="2510" y="44"/>
                    </a:lnTo>
                    <a:lnTo>
                      <a:pt x="2510" y="55"/>
                    </a:lnTo>
                    <a:lnTo>
                      <a:pt x="2029" y="55"/>
                    </a:lnTo>
                    <a:lnTo>
                      <a:pt x="2029" y="52"/>
                    </a:lnTo>
                    <a:lnTo>
                      <a:pt x="2011" y="0"/>
                    </a:lnTo>
                    <a:close/>
                    <a:moveTo>
                      <a:pt x="3816" y="0"/>
                    </a:moveTo>
                    <a:lnTo>
                      <a:pt x="5861" y="0"/>
                    </a:lnTo>
                    <a:lnTo>
                      <a:pt x="5868" y="15"/>
                    </a:lnTo>
                    <a:lnTo>
                      <a:pt x="5873" y="55"/>
                    </a:lnTo>
                    <a:lnTo>
                      <a:pt x="3875" y="55"/>
                    </a:lnTo>
                    <a:lnTo>
                      <a:pt x="3816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3565800" y="3683520"/>
                <a:ext cx="2261160" cy="17640"/>
              </a:xfrm>
              <a:custGeom>
                <a:avLst/>
                <a:gdLst/>
                <a:ahLst/>
                <a:rect l="l" t="t" r="r" b="b"/>
                <a:pathLst>
                  <a:path w="5885" h="53">
                    <a:moveTo>
                      <a:pt x="20" y="0"/>
                    </a:moveTo>
                    <a:lnTo>
                      <a:pt x="858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9" y="3"/>
                    </a:lnTo>
                    <a:lnTo>
                      <a:pt x="20" y="0"/>
                    </a:lnTo>
                    <a:close/>
                    <a:moveTo>
                      <a:pt x="2030" y="0"/>
                    </a:moveTo>
                    <a:lnTo>
                      <a:pt x="2518" y="0"/>
                    </a:lnTo>
                    <a:lnTo>
                      <a:pt x="2520" y="16"/>
                    </a:lnTo>
                    <a:lnTo>
                      <a:pt x="2520" y="53"/>
                    </a:lnTo>
                    <a:lnTo>
                      <a:pt x="2048" y="53"/>
                    </a:lnTo>
                    <a:lnTo>
                      <a:pt x="2039" y="24"/>
                    </a:lnTo>
                    <a:lnTo>
                      <a:pt x="2030" y="0"/>
                    </a:lnTo>
                    <a:close/>
                    <a:moveTo>
                      <a:pt x="3855" y="0"/>
                    </a:moveTo>
                    <a:lnTo>
                      <a:pt x="5880" y="0"/>
                    </a:lnTo>
                    <a:lnTo>
                      <a:pt x="5885" y="53"/>
                    </a:lnTo>
                    <a:lnTo>
                      <a:pt x="3914" y="53"/>
                    </a:lnTo>
                    <a:lnTo>
                      <a:pt x="3855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561840" y="3692160"/>
                <a:ext cx="2265120" cy="19080"/>
              </a:xfrm>
              <a:custGeom>
                <a:avLst/>
                <a:gdLst/>
                <a:ahLst/>
                <a:rect l="l" t="t" r="r" b="b"/>
                <a:pathLst>
                  <a:path w="5897" h="53">
                    <a:moveTo>
                      <a:pt x="20" y="0"/>
                    </a:moveTo>
                    <a:lnTo>
                      <a:pt x="861" y="0"/>
                    </a:lnTo>
                    <a:lnTo>
                      <a:pt x="850" y="46"/>
                    </a:lnTo>
                    <a:lnTo>
                      <a:pt x="848" y="53"/>
                    </a:lnTo>
                    <a:lnTo>
                      <a:pt x="0" y="53"/>
                    </a:lnTo>
                    <a:lnTo>
                      <a:pt x="20" y="0"/>
                    </a:lnTo>
                    <a:close/>
                    <a:moveTo>
                      <a:pt x="2049" y="0"/>
                    </a:moveTo>
                    <a:lnTo>
                      <a:pt x="2530" y="0"/>
                    </a:lnTo>
                    <a:lnTo>
                      <a:pt x="2530" y="53"/>
                    </a:lnTo>
                    <a:lnTo>
                      <a:pt x="2067" y="53"/>
                    </a:lnTo>
                    <a:lnTo>
                      <a:pt x="2049" y="0"/>
                    </a:lnTo>
                    <a:close/>
                    <a:moveTo>
                      <a:pt x="3895" y="0"/>
                    </a:moveTo>
                    <a:lnTo>
                      <a:pt x="5893" y="0"/>
                    </a:lnTo>
                    <a:lnTo>
                      <a:pt x="5897" y="46"/>
                    </a:lnTo>
                    <a:lnTo>
                      <a:pt x="5896" y="53"/>
                    </a:lnTo>
                    <a:lnTo>
                      <a:pt x="3961" y="53"/>
                    </a:lnTo>
                    <a:lnTo>
                      <a:pt x="3924" y="26"/>
                    </a:lnTo>
                    <a:lnTo>
                      <a:pt x="3895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557880" y="3701160"/>
                <a:ext cx="2269080" cy="19080"/>
              </a:xfrm>
              <a:custGeom>
                <a:avLst/>
                <a:gdLst/>
                <a:ahLst/>
                <a:rect l="l" t="t" r="r" b="b"/>
                <a:pathLst>
                  <a:path w="5904" h="55">
                    <a:moveTo>
                      <a:pt x="17" y="0"/>
                    </a:moveTo>
                    <a:lnTo>
                      <a:pt x="861" y="0"/>
                    </a:lnTo>
                    <a:lnTo>
                      <a:pt x="857" y="20"/>
                    </a:lnTo>
                    <a:lnTo>
                      <a:pt x="847" y="55"/>
                    </a:lnTo>
                    <a:lnTo>
                      <a:pt x="0" y="55"/>
                    </a:lnTo>
                    <a:lnTo>
                      <a:pt x="4" y="36"/>
                    </a:lnTo>
                    <a:lnTo>
                      <a:pt x="17" y="0"/>
                    </a:lnTo>
                    <a:close/>
                    <a:moveTo>
                      <a:pt x="2065" y="0"/>
                    </a:moveTo>
                    <a:lnTo>
                      <a:pt x="2537" y="0"/>
                    </a:lnTo>
                    <a:lnTo>
                      <a:pt x="2537" y="55"/>
                    </a:lnTo>
                    <a:lnTo>
                      <a:pt x="2082" y="55"/>
                    </a:lnTo>
                    <a:lnTo>
                      <a:pt x="2065" y="0"/>
                    </a:lnTo>
                    <a:close/>
                    <a:moveTo>
                      <a:pt x="3931" y="0"/>
                    </a:moveTo>
                    <a:lnTo>
                      <a:pt x="5902" y="0"/>
                    </a:lnTo>
                    <a:lnTo>
                      <a:pt x="5904" y="20"/>
                    </a:lnTo>
                    <a:lnTo>
                      <a:pt x="5901" y="55"/>
                    </a:lnTo>
                    <a:lnTo>
                      <a:pt x="4885" y="55"/>
                    </a:lnTo>
                    <a:lnTo>
                      <a:pt x="4801" y="49"/>
                    </a:lnTo>
                    <a:lnTo>
                      <a:pt x="4685" y="49"/>
                    </a:lnTo>
                    <a:lnTo>
                      <a:pt x="4624" y="55"/>
                    </a:lnTo>
                    <a:lnTo>
                      <a:pt x="4003" y="55"/>
                    </a:lnTo>
                    <a:lnTo>
                      <a:pt x="3931" y="0"/>
                    </a:lnTo>
                    <a:lnTo>
                      <a:pt x="3931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3556080" y="3711600"/>
                <a:ext cx="2270520" cy="19440"/>
              </a:xfrm>
              <a:custGeom>
                <a:avLst/>
                <a:gdLst/>
                <a:ahLst/>
                <a:rect l="l" t="t" r="r" b="b"/>
                <a:pathLst>
                  <a:path w="5908" h="54">
                    <a:moveTo>
                      <a:pt x="12" y="0"/>
                    </a:moveTo>
                    <a:lnTo>
                      <a:pt x="860" y="0"/>
                    </a:lnTo>
                    <a:lnTo>
                      <a:pt x="844" y="54"/>
                    </a:lnTo>
                    <a:lnTo>
                      <a:pt x="0" y="54"/>
                    </a:lnTo>
                    <a:lnTo>
                      <a:pt x="9" y="9"/>
                    </a:lnTo>
                    <a:lnTo>
                      <a:pt x="12" y="0"/>
                    </a:lnTo>
                    <a:close/>
                    <a:moveTo>
                      <a:pt x="2079" y="0"/>
                    </a:moveTo>
                    <a:lnTo>
                      <a:pt x="2542" y="0"/>
                    </a:lnTo>
                    <a:lnTo>
                      <a:pt x="2542" y="54"/>
                    </a:lnTo>
                    <a:lnTo>
                      <a:pt x="2096" y="54"/>
                    </a:lnTo>
                    <a:lnTo>
                      <a:pt x="2079" y="0"/>
                    </a:lnTo>
                    <a:close/>
                    <a:moveTo>
                      <a:pt x="3973" y="0"/>
                    </a:moveTo>
                    <a:lnTo>
                      <a:pt x="5908" y="0"/>
                    </a:lnTo>
                    <a:lnTo>
                      <a:pt x="5904" y="54"/>
                    </a:lnTo>
                    <a:lnTo>
                      <a:pt x="5120" y="54"/>
                    </a:lnTo>
                    <a:lnTo>
                      <a:pt x="5108" y="53"/>
                    </a:lnTo>
                    <a:lnTo>
                      <a:pt x="4952" y="31"/>
                    </a:lnTo>
                    <a:lnTo>
                      <a:pt x="4806" y="22"/>
                    </a:lnTo>
                    <a:lnTo>
                      <a:pt x="4690" y="22"/>
                    </a:lnTo>
                    <a:lnTo>
                      <a:pt x="4585" y="31"/>
                    </a:lnTo>
                    <a:lnTo>
                      <a:pt x="4419" y="53"/>
                    </a:lnTo>
                    <a:lnTo>
                      <a:pt x="4411" y="54"/>
                    </a:lnTo>
                    <a:lnTo>
                      <a:pt x="4045" y="54"/>
                    </a:lnTo>
                    <a:lnTo>
                      <a:pt x="3973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3553920" y="3720240"/>
                <a:ext cx="2273040" cy="19440"/>
              </a:xfrm>
              <a:custGeom>
                <a:avLst/>
                <a:gdLst/>
                <a:ahLst/>
                <a:rect l="l" t="t" r="r" b="b"/>
                <a:pathLst>
                  <a:path w="5913" h="53">
                    <a:moveTo>
                      <a:pt x="12" y="0"/>
                    </a:moveTo>
                    <a:lnTo>
                      <a:pt x="859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2094" y="0"/>
                    </a:moveTo>
                    <a:lnTo>
                      <a:pt x="2549" y="0"/>
                    </a:lnTo>
                    <a:lnTo>
                      <a:pt x="2549" y="53"/>
                    </a:lnTo>
                    <a:lnTo>
                      <a:pt x="2109" y="53"/>
                    </a:lnTo>
                    <a:lnTo>
                      <a:pt x="2105" y="32"/>
                    </a:lnTo>
                    <a:lnTo>
                      <a:pt x="2094" y="0"/>
                    </a:lnTo>
                    <a:close/>
                    <a:moveTo>
                      <a:pt x="4015" y="0"/>
                    </a:moveTo>
                    <a:lnTo>
                      <a:pt x="4636" y="0"/>
                    </a:lnTo>
                    <a:lnTo>
                      <a:pt x="4592" y="3"/>
                    </a:lnTo>
                    <a:lnTo>
                      <a:pt x="4426" y="25"/>
                    </a:lnTo>
                    <a:lnTo>
                      <a:pt x="4310" y="52"/>
                    </a:lnTo>
                    <a:lnTo>
                      <a:pt x="4303" y="53"/>
                    </a:lnTo>
                    <a:lnTo>
                      <a:pt x="4092" y="53"/>
                    </a:lnTo>
                    <a:lnTo>
                      <a:pt x="4087" y="52"/>
                    </a:lnTo>
                    <a:lnTo>
                      <a:pt x="4015" y="0"/>
                    </a:lnTo>
                    <a:close/>
                    <a:moveTo>
                      <a:pt x="4897" y="0"/>
                    </a:moveTo>
                    <a:lnTo>
                      <a:pt x="5913" y="0"/>
                    </a:lnTo>
                    <a:lnTo>
                      <a:pt x="5909" y="53"/>
                    </a:lnTo>
                    <a:lnTo>
                      <a:pt x="5295" y="53"/>
                    </a:lnTo>
                    <a:lnTo>
                      <a:pt x="5288" y="52"/>
                    </a:lnTo>
                    <a:lnTo>
                      <a:pt x="5115" y="25"/>
                    </a:lnTo>
                    <a:lnTo>
                      <a:pt x="4959" y="3"/>
                    </a:lnTo>
                    <a:lnTo>
                      <a:pt x="4897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552120" y="3731040"/>
                <a:ext cx="2273040" cy="19080"/>
              </a:xfrm>
              <a:custGeom>
                <a:avLst/>
                <a:gdLst/>
                <a:ahLst/>
                <a:rect l="l" t="t" r="r" b="b"/>
                <a:pathLst>
                  <a:path w="5916" h="55">
                    <a:moveTo>
                      <a:pt x="12" y="0"/>
                    </a:moveTo>
                    <a:lnTo>
                      <a:pt x="856" y="0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2108" y="0"/>
                    </a:moveTo>
                    <a:lnTo>
                      <a:pt x="2554" y="0"/>
                    </a:lnTo>
                    <a:lnTo>
                      <a:pt x="2554" y="55"/>
                    </a:lnTo>
                    <a:lnTo>
                      <a:pt x="2092" y="55"/>
                    </a:lnTo>
                    <a:lnTo>
                      <a:pt x="2116" y="40"/>
                    </a:lnTo>
                    <a:lnTo>
                      <a:pt x="2110" y="6"/>
                    </a:lnTo>
                    <a:lnTo>
                      <a:pt x="2108" y="0"/>
                    </a:lnTo>
                    <a:close/>
                    <a:moveTo>
                      <a:pt x="4057" y="0"/>
                    </a:moveTo>
                    <a:lnTo>
                      <a:pt x="4423" y="0"/>
                    </a:lnTo>
                    <a:lnTo>
                      <a:pt x="4315" y="26"/>
                    </a:lnTo>
                    <a:lnTo>
                      <a:pt x="4220" y="44"/>
                    </a:lnTo>
                    <a:lnTo>
                      <a:pt x="4152" y="44"/>
                    </a:lnTo>
                    <a:lnTo>
                      <a:pt x="4092" y="26"/>
                    </a:lnTo>
                    <a:lnTo>
                      <a:pt x="4057" y="0"/>
                    </a:lnTo>
                    <a:close/>
                    <a:moveTo>
                      <a:pt x="5132" y="0"/>
                    </a:moveTo>
                    <a:lnTo>
                      <a:pt x="5916" y="0"/>
                    </a:lnTo>
                    <a:lnTo>
                      <a:pt x="5912" y="36"/>
                    </a:lnTo>
                    <a:lnTo>
                      <a:pt x="5916" y="55"/>
                    </a:lnTo>
                    <a:lnTo>
                      <a:pt x="5439" y="55"/>
                    </a:lnTo>
                    <a:lnTo>
                      <a:pt x="5293" y="26"/>
                    </a:lnTo>
                    <a:lnTo>
                      <a:pt x="5132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3549960" y="3740040"/>
                <a:ext cx="2276640" cy="19080"/>
              </a:xfrm>
              <a:custGeom>
                <a:avLst/>
                <a:gdLst/>
                <a:ahLst/>
                <a:rect l="l" t="t" r="r" b="b"/>
                <a:pathLst>
                  <a:path w="5925" h="55">
                    <a:moveTo>
                      <a:pt x="10" y="0"/>
                    </a:moveTo>
                    <a:lnTo>
                      <a:pt x="854" y="0"/>
                    </a:lnTo>
                    <a:lnTo>
                      <a:pt x="839" y="55"/>
                    </a:lnTo>
                    <a:lnTo>
                      <a:pt x="0" y="55"/>
                    </a:lnTo>
                    <a:lnTo>
                      <a:pt x="10" y="0"/>
                    </a:lnTo>
                    <a:close/>
                    <a:moveTo>
                      <a:pt x="2119" y="0"/>
                    </a:moveTo>
                    <a:lnTo>
                      <a:pt x="2559" y="0"/>
                    </a:lnTo>
                    <a:lnTo>
                      <a:pt x="2559" y="29"/>
                    </a:lnTo>
                    <a:lnTo>
                      <a:pt x="2557" y="55"/>
                    </a:lnTo>
                    <a:lnTo>
                      <a:pt x="2047" y="55"/>
                    </a:lnTo>
                    <a:lnTo>
                      <a:pt x="2065" y="47"/>
                    </a:lnTo>
                    <a:lnTo>
                      <a:pt x="2121" y="13"/>
                    </a:lnTo>
                    <a:lnTo>
                      <a:pt x="2119" y="0"/>
                    </a:lnTo>
                    <a:close/>
                    <a:moveTo>
                      <a:pt x="4102" y="0"/>
                    </a:moveTo>
                    <a:lnTo>
                      <a:pt x="4313" y="0"/>
                    </a:lnTo>
                    <a:lnTo>
                      <a:pt x="4225" y="17"/>
                    </a:lnTo>
                    <a:lnTo>
                      <a:pt x="4157" y="17"/>
                    </a:lnTo>
                    <a:lnTo>
                      <a:pt x="4102" y="0"/>
                    </a:lnTo>
                    <a:close/>
                    <a:moveTo>
                      <a:pt x="5305" y="0"/>
                    </a:moveTo>
                    <a:lnTo>
                      <a:pt x="5919" y="0"/>
                    </a:lnTo>
                    <a:lnTo>
                      <a:pt x="5917" y="9"/>
                    </a:lnTo>
                    <a:lnTo>
                      <a:pt x="5925" y="55"/>
                    </a:lnTo>
                    <a:lnTo>
                      <a:pt x="5538" y="55"/>
                    </a:lnTo>
                    <a:lnTo>
                      <a:pt x="5502" y="38"/>
                    </a:lnTo>
                    <a:lnTo>
                      <a:pt x="5305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546360" y="3750480"/>
                <a:ext cx="2282040" cy="17640"/>
              </a:xfrm>
              <a:custGeom>
                <a:avLst/>
                <a:gdLst/>
                <a:ahLst/>
                <a:rect l="l" t="t" r="r" b="b"/>
                <a:pathLst>
                  <a:path w="5940" h="53">
                    <a:moveTo>
                      <a:pt x="15" y="0"/>
                    </a:moveTo>
                    <a:lnTo>
                      <a:pt x="856" y="0"/>
                    </a:lnTo>
                    <a:lnTo>
                      <a:pt x="841" y="53"/>
                    </a:lnTo>
                    <a:lnTo>
                      <a:pt x="0" y="53"/>
                    </a:lnTo>
                    <a:lnTo>
                      <a:pt x="9" y="30"/>
                    </a:lnTo>
                    <a:lnTo>
                      <a:pt x="15" y="0"/>
                    </a:lnTo>
                    <a:close/>
                    <a:moveTo>
                      <a:pt x="2107" y="0"/>
                    </a:moveTo>
                    <a:lnTo>
                      <a:pt x="2569" y="0"/>
                    </a:lnTo>
                    <a:lnTo>
                      <a:pt x="2569" y="1"/>
                    </a:lnTo>
                    <a:lnTo>
                      <a:pt x="2566" y="53"/>
                    </a:lnTo>
                    <a:lnTo>
                      <a:pt x="1995" y="53"/>
                    </a:lnTo>
                    <a:lnTo>
                      <a:pt x="2075" y="19"/>
                    </a:lnTo>
                    <a:lnTo>
                      <a:pt x="2107" y="0"/>
                    </a:lnTo>
                    <a:close/>
                    <a:moveTo>
                      <a:pt x="5454" y="0"/>
                    </a:moveTo>
                    <a:lnTo>
                      <a:pt x="5931" y="0"/>
                    </a:lnTo>
                    <a:lnTo>
                      <a:pt x="5940" y="53"/>
                    </a:lnTo>
                    <a:lnTo>
                      <a:pt x="5603" y="53"/>
                    </a:lnTo>
                    <a:lnTo>
                      <a:pt x="5598" y="48"/>
                    </a:lnTo>
                    <a:lnTo>
                      <a:pt x="5512" y="10"/>
                    </a:lnTo>
                    <a:lnTo>
                      <a:pt x="5454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542760" y="3759120"/>
                <a:ext cx="2288160" cy="19440"/>
              </a:xfrm>
              <a:custGeom>
                <a:avLst/>
                <a:gdLst/>
                <a:ahLst/>
                <a:rect l="l" t="t" r="r" b="b"/>
                <a:pathLst>
                  <a:path w="5952" h="54">
                    <a:moveTo>
                      <a:pt x="18" y="0"/>
                    </a:moveTo>
                    <a:lnTo>
                      <a:pt x="857" y="0"/>
                    </a:lnTo>
                    <a:lnTo>
                      <a:pt x="842" y="54"/>
                    </a:lnTo>
                    <a:lnTo>
                      <a:pt x="0" y="54"/>
                    </a:lnTo>
                    <a:lnTo>
                      <a:pt x="17" y="3"/>
                    </a:lnTo>
                    <a:lnTo>
                      <a:pt x="18" y="0"/>
                    </a:lnTo>
                    <a:close/>
                    <a:moveTo>
                      <a:pt x="2065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1941" y="54"/>
                    </a:lnTo>
                    <a:lnTo>
                      <a:pt x="2065" y="0"/>
                    </a:lnTo>
                    <a:close/>
                    <a:moveTo>
                      <a:pt x="5556" y="0"/>
                    </a:moveTo>
                    <a:lnTo>
                      <a:pt x="5943" y="0"/>
                    </a:lnTo>
                    <a:lnTo>
                      <a:pt x="5952" y="54"/>
                    </a:lnTo>
                    <a:lnTo>
                      <a:pt x="5637" y="54"/>
                    </a:lnTo>
                    <a:lnTo>
                      <a:pt x="5606" y="21"/>
                    </a:lnTo>
                    <a:lnTo>
                      <a:pt x="5556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3540600" y="3768120"/>
                <a:ext cx="2292120" cy="19440"/>
              </a:xfrm>
              <a:custGeom>
                <a:avLst/>
                <a:gdLst/>
                <a:ahLst/>
                <a:rect l="l" t="t" r="r" b="b"/>
                <a:pathLst>
                  <a:path w="5968" h="55">
                    <a:moveTo>
                      <a:pt x="17" y="0"/>
                    </a:moveTo>
                    <a:lnTo>
                      <a:pt x="858" y="0"/>
                    </a:lnTo>
                    <a:lnTo>
                      <a:pt x="846" y="44"/>
                    </a:lnTo>
                    <a:lnTo>
                      <a:pt x="1252" y="44"/>
                    </a:lnTo>
                    <a:lnTo>
                      <a:pt x="1316" y="55"/>
                    </a:lnTo>
                    <a:lnTo>
                      <a:pt x="0" y="55"/>
                    </a:lnTo>
                    <a:lnTo>
                      <a:pt x="17" y="0"/>
                    </a:lnTo>
                    <a:close/>
                    <a:moveTo>
                      <a:pt x="2012" y="0"/>
                    </a:moveTo>
                    <a:lnTo>
                      <a:pt x="2583" y="0"/>
                    </a:lnTo>
                    <a:lnTo>
                      <a:pt x="2578" y="55"/>
                    </a:lnTo>
                    <a:lnTo>
                      <a:pt x="1875" y="55"/>
                    </a:lnTo>
                    <a:lnTo>
                      <a:pt x="1939" y="33"/>
                    </a:lnTo>
                    <a:lnTo>
                      <a:pt x="2012" y="0"/>
                    </a:lnTo>
                    <a:close/>
                    <a:moveTo>
                      <a:pt x="5620" y="0"/>
                    </a:moveTo>
                    <a:lnTo>
                      <a:pt x="5957" y="0"/>
                    </a:lnTo>
                    <a:lnTo>
                      <a:pt x="5964" y="44"/>
                    </a:lnTo>
                    <a:lnTo>
                      <a:pt x="5968" y="55"/>
                    </a:lnTo>
                    <a:lnTo>
                      <a:pt x="5673" y="55"/>
                    </a:lnTo>
                    <a:lnTo>
                      <a:pt x="5620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3537000" y="3778920"/>
                <a:ext cx="2299320" cy="17640"/>
              </a:xfrm>
              <a:custGeom>
                <a:avLst/>
                <a:gdLst/>
                <a:ahLst/>
                <a:rect l="l" t="t" r="r" b="b"/>
                <a:pathLst>
                  <a:path w="5983" h="53">
                    <a:moveTo>
                      <a:pt x="15" y="0"/>
                    </a:moveTo>
                    <a:lnTo>
                      <a:pt x="857" y="0"/>
                    </a:lnTo>
                    <a:lnTo>
                      <a:pt x="852" y="16"/>
                    </a:lnTo>
                    <a:lnTo>
                      <a:pt x="1258" y="16"/>
                    </a:lnTo>
                    <a:lnTo>
                      <a:pt x="1384" y="36"/>
                    </a:lnTo>
                    <a:lnTo>
                      <a:pt x="1444" y="44"/>
                    </a:lnTo>
                    <a:lnTo>
                      <a:pt x="1491" y="52"/>
                    </a:lnTo>
                    <a:lnTo>
                      <a:pt x="1500" y="53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5" y="0"/>
                    </a:lnTo>
                    <a:close/>
                    <a:moveTo>
                      <a:pt x="1956" y="0"/>
                    </a:moveTo>
                    <a:lnTo>
                      <a:pt x="2586" y="0"/>
                    </a:lnTo>
                    <a:lnTo>
                      <a:pt x="2582" y="53"/>
                    </a:lnTo>
                    <a:lnTo>
                      <a:pt x="1801" y="53"/>
                    </a:lnTo>
                    <a:lnTo>
                      <a:pt x="1945" y="5"/>
                    </a:lnTo>
                    <a:lnTo>
                      <a:pt x="1956" y="0"/>
                    </a:lnTo>
                    <a:close/>
                    <a:moveTo>
                      <a:pt x="5652" y="0"/>
                    </a:moveTo>
                    <a:lnTo>
                      <a:pt x="5967" y="0"/>
                    </a:lnTo>
                    <a:lnTo>
                      <a:pt x="5970" y="16"/>
                    </a:lnTo>
                    <a:lnTo>
                      <a:pt x="5983" y="53"/>
                    </a:lnTo>
                    <a:lnTo>
                      <a:pt x="5701" y="53"/>
                    </a:lnTo>
                    <a:lnTo>
                      <a:pt x="5688" y="36"/>
                    </a:lnTo>
                    <a:lnTo>
                      <a:pt x="5652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3537000" y="3787920"/>
                <a:ext cx="2303280" cy="19080"/>
              </a:xfrm>
              <a:custGeom>
                <a:avLst/>
                <a:gdLst/>
                <a:ahLst/>
                <a:rect l="l" t="t" r="r" b="b"/>
                <a:pathLst>
                  <a:path w="5992" h="53">
                    <a:moveTo>
                      <a:pt x="6" y="0"/>
                    </a:moveTo>
                    <a:lnTo>
                      <a:pt x="1322" y="0"/>
                    </a:lnTo>
                    <a:lnTo>
                      <a:pt x="1384" y="9"/>
                    </a:lnTo>
                    <a:lnTo>
                      <a:pt x="1444" y="17"/>
                    </a:lnTo>
                    <a:lnTo>
                      <a:pt x="1491" y="25"/>
                    </a:lnTo>
                    <a:lnTo>
                      <a:pt x="1606" y="45"/>
                    </a:lnTo>
                    <a:lnTo>
                      <a:pt x="1684" y="45"/>
                    </a:lnTo>
                    <a:lnTo>
                      <a:pt x="1772" y="37"/>
                    </a:lnTo>
                    <a:lnTo>
                      <a:pt x="1881" y="0"/>
                    </a:lnTo>
                    <a:lnTo>
                      <a:pt x="2584" y="0"/>
                    </a:lnTo>
                    <a:lnTo>
                      <a:pt x="2581" y="53"/>
                    </a:lnTo>
                    <a:lnTo>
                      <a:pt x="6" y="53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  <a:moveTo>
                      <a:pt x="5679" y="0"/>
                    </a:moveTo>
                    <a:lnTo>
                      <a:pt x="5974" y="0"/>
                    </a:lnTo>
                    <a:lnTo>
                      <a:pt x="5992" y="53"/>
                    </a:lnTo>
                    <a:lnTo>
                      <a:pt x="5721" y="53"/>
                    </a:lnTo>
                    <a:lnTo>
                      <a:pt x="5688" y="9"/>
                    </a:lnTo>
                    <a:lnTo>
                      <a:pt x="5679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3538800" y="3796560"/>
                <a:ext cx="2305440" cy="19080"/>
              </a:xfrm>
              <a:custGeom>
                <a:avLst/>
                <a:gdLst/>
                <a:ahLst/>
                <a:rect l="l" t="t" r="r" b="b"/>
                <a:pathLst>
                  <a:path w="6001" h="55">
                    <a:moveTo>
                      <a:pt x="0" y="0"/>
                    </a:moveTo>
                    <a:lnTo>
                      <a:pt x="1499" y="0"/>
                    </a:lnTo>
                    <a:lnTo>
                      <a:pt x="1605" y="19"/>
                    </a:lnTo>
                    <a:lnTo>
                      <a:pt x="1683" y="19"/>
                    </a:lnTo>
                    <a:lnTo>
                      <a:pt x="1771" y="11"/>
                    </a:lnTo>
                    <a:lnTo>
                      <a:pt x="1800" y="0"/>
                    </a:lnTo>
                    <a:lnTo>
                      <a:pt x="2581" y="0"/>
                    </a:lnTo>
                    <a:lnTo>
                      <a:pt x="2578" y="55"/>
                    </a:lnTo>
                    <a:lnTo>
                      <a:pt x="9" y="55"/>
                    </a:lnTo>
                    <a:lnTo>
                      <a:pt x="0" y="0"/>
                    </a:lnTo>
                    <a:close/>
                    <a:moveTo>
                      <a:pt x="5700" y="0"/>
                    </a:moveTo>
                    <a:lnTo>
                      <a:pt x="5982" y="0"/>
                    </a:lnTo>
                    <a:lnTo>
                      <a:pt x="5999" y="51"/>
                    </a:lnTo>
                    <a:lnTo>
                      <a:pt x="6001" y="55"/>
                    </a:lnTo>
                    <a:lnTo>
                      <a:pt x="5738" y="55"/>
                    </a:lnTo>
                    <a:lnTo>
                      <a:pt x="5700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3540600" y="3807000"/>
                <a:ext cx="2307240" cy="19440"/>
              </a:xfrm>
              <a:custGeom>
                <a:avLst/>
                <a:gdLst/>
                <a:ahLst/>
                <a:rect l="l" t="t" r="r" b="b"/>
                <a:pathLst>
                  <a:path w="6008" h="54">
                    <a:moveTo>
                      <a:pt x="0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9" y="54"/>
                    </a:lnTo>
                    <a:lnTo>
                      <a:pt x="6" y="42"/>
                    </a:lnTo>
                    <a:lnTo>
                      <a:pt x="0" y="0"/>
                    </a:lnTo>
                    <a:close/>
                    <a:moveTo>
                      <a:pt x="5715" y="0"/>
                    </a:moveTo>
                    <a:lnTo>
                      <a:pt x="5986" y="0"/>
                    </a:lnTo>
                    <a:lnTo>
                      <a:pt x="5994" y="24"/>
                    </a:lnTo>
                    <a:lnTo>
                      <a:pt x="6008" y="54"/>
                    </a:lnTo>
                    <a:lnTo>
                      <a:pt x="5753" y="54"/>
                    </a:lnTo>
                    <a:lnTo>
                      <a:pt x="5715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540600" y="3816000"/>
                <a:ext cx="2313360" cy="194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69" y="0"/>
                    </a:lnTo>
                    <a:lnTo>
                      <a:pt x="2566" y="45"/>
                    </a:lnTo>
                    <a:lnTo>
                      <a:pt x="2565" y="53"/>
                    </a:lnTo>
                    <a:lnTo>
                      <a:pt x="13" y="53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  <a:moveTo>
                      <a:pt x="5729" y="0"/>
                    </a:moveTo>
                    <a:lnTo>
                      <a:pt x="5992" y="0"/>
                    </a:lnTo>
                    <a:lnTo>
                      <a:pt x="6017" y="52"/>
                    </a:lnTo>
                    <a:lnTo>
                      <a:pt x="6018" y="53"/>
                    </a:lnTo>
                    <a:lnTo>
                      <a:pt x="5768" y="53"/>
                    </a:lnTo>
                    <a:lnTo>
                      <a:pt x="572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542760" y="3826800"/>
                <a:ext cx="2316960" cy="1908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62" y="0"/>
                    </a:lnTo>
                    <a:lnTo>
                      <a:pt x="2561" y="19"/>
                    </a:lnTo>
                    <a:lnTo>
                      <a:pt x="2558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5744" y="0"/>
                    </a:moveTo>
                    <a:lnTo>
                      <a:pt x="5999" y="0"/>
                    </a:lnTo>
                    <a:lnTo>
                      <a:pt x="6012" y="26"/>
                    </a:lnTo>
                    <a:lnTo>
                      <a:pt x="6029" y="55"/>
                    </a:lnTo>
                    <a:lnTo>
                      <a:pt x="5783" y="55"/>
                    </a:lnTo>
                    <a:lnTo>
                      <a:pt x="5744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546360" y="3835440"/>
                <a:ext cx="2318760" cy="19080"/>
              </a:xfrm>
              <a:custGeom>
                <a:avLst/>
                <a:gdLst/>
                <a:ahLst/>
                <a:rect l="l" t="t" r="r" b="b"/>
                <a:pathLst>
                  <a:path w="6036" h="54">
                    <a:moveTo>
                      <a:pt x="0" y="0"/>
                    </a:moveTo>
                    <a:lnTo>
                      <a:pt x="2552" y="0"/>
                    </a:lnTo>
                    <a:lnTo>
                      <a:pt x="254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5755" y="0"/>
                    </a:moveTo>
                    <a:lnTo>
                      <a:pt x="6005" y="0"/>
                    </a:lnTo>
                    <a:lnTo>
                      <a:pt x="6035" y="49"/>
                    </a:lnTo>
                    <a:lnTo>
                      <a:pt x="6036" y="54"/>
                    </a:lnTo>
                    <a:lnTo>
                      <a:pt x="5794" y="54"/>
                    </a:lnTo>
                    <a:lnTo>
                      <a:pt x="5782" y="37"/>
                    </a:lnTo>
                    <a:lnTo>
                      <a:pt x="5755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549960" y="3845880"/>
                <a:ext cx="2317320" cy="17640"/>
              </a:xfrm>
              <a:custGeom>
                <a:avLst/>
                <a:gdLst/>
                <a:ahLst/>
                <a:rect l="l" t="t" r="r" b="b"/>
                <a:pathLst>
                  <a:path w="6032" h="53">
                    <a:moveTo>
                      <a:pt x="0" y="0"/>
                    </a:moveTo>
                    <a:lnTo>
                      <a:pt x="2541" y="0"/>
                    </a:lnTo>
                    <a:lnTo>
                      <a:pt x="2534" y="53"/>
                    </a:lnTo>
                    <a:lnTo>
                      <a:pt x="17" y="53"/>
                    </a:lnTo>
                    <a:lnTo>
                      <a:pt x="0" y="0"/>
                    </a:lnTo>
                    <a:close/>
                    <a:moveTo>
                      <a:pt x="5766" y="0"/>
                    </a:moveTo>
                    <a:lnTo>
                      <a:pt x="6012" y="0"/>
                    </a:lnTo>
                    <a:lnTo>
                      <a:pt x="6026" y="21"/>
                    </a:lnTo>
                    <a:lnTo>
                      <a:pt x="6032" y="53"/>
                    </a:lnTo>
                    <a:lnTo>
                      <a:pt x="5803" y="53"/>
                    </a:lnTo>
                    <a:lnTo>
                      <a:pt x="5773" y="9"/>
                    </a:lnTo>
                    <a:lnTo>
                      <a:pt x="5766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552120" y="3854880"/>
                <a:ext cx="2316960" cy="1944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30" y="0"/>
                    </a:lnTo>
                    <a:lnTo>
                      <a:pt x="2524" y="54"/>
                    </a:lnTo>
                    <a:lnTo>
                      <a:pt x="2524" y="55"/>
                    </a:lnTo>
                    <a:lnTo>
                      <a:pt x="16" y="55"/>
                    </a:lnTo>
                    <a:lnTo>
                      <a:pt x="0" y="0"/>
                    </a:lnTo>
                    <a:close/>
                    <a:moveTo>
                      <a:pt x="5777" y="0"/>
                    </a:moveTo>
                    <a:lnTo>
                      <a:pt x="6019" y="0"/>
                    </a:lnTo>
                    <a:lnTo>
                      <a:pt x="6029" y="55"/>
                    </a:lnTo>
                    <a:lnTo>
                      <a:pt x="5814" y="55"/>
                    </a:lnTo>
                    <a:lnTo>
                      <a:pt x="5814" y="54"/>
                    </a:lnTo>
                    <a:lnTo>
                      <a:pt x="5777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556080" y="3863520"/>
                <a:ext cx="2314800" cy="19440"/>
              </a:xfrm>
              <a:custGeom>
                <a:avLst/>
                <a:gdLst/>
                <a:ahLst/>
                <a:rect l="l" t="t" r="r" b="b"/>
                <a:pathLst>
                  <a:path w="6025" h="55">
                    <a:moveTo>
                      <a:pt x="0" y="0"/>
                    </a:moveTo>
                    <a:lnTo>
                      <a:pt x="2517" y="0"/>
                    </a:lnTo>
                    <a:lnTo>
                      <a:pt x="2515" y="27"/>
                    </a:lnTo>
                    <a:lnTo>
                      <a:pt x="2510" y="55"/>
                    </a:lnTo>
                    <a:lnTo>
                      <a:pt x="15" y="55"/>
                    </a:lnTo>
                    <a:lnTo>
                      <a:pt x="0" y="0"/>
                    </a:lnTo>
                    <a:close/>
                    <a:moveTo>
                      <a:pt x="5786" y="0"/>
                    </a:moveTo>
                    <a:lnTo>
                      <a:pt x="6015" y="0"/>
                    </a:lnTo>
                    <a:lnTo>
                      <a:pt x="6025" y="55"/>
                    </a:lnTo>
                    <a:lnTo>
                      <a:pt x="5823" y="55"/>
                    </a:lnTo>
                    <a:lnTo>
                      <a:pt x="5805" y="27"/>
                    </a:lnTo>
                    <a:lnTo>
                      <a:pt x="5786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3559680" y="3874320"/>
                <a:ext cx="2311200" cy="176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08" y="0"/>
                    </a:lnTo>
                    <a:lnTo>
                      <a:pt x="2498" y="53"/>
                    </a:lnTo>
                    <a:lnTo>
                      <a:pt x="19" y="53"/>
                    </a:lnTo>
                    <a:lnTo>
                      <a:pt x="12" y="34"/>
                    </a:lnTo>
                    <a:lnTo>
                      <a:pt x="0" y="0"/>
                    </a:lnTo>
                    <a:close/>
                    <a:moveTo>
                      <a:pt x="5798" y="0"/>
                    </a:moveTo>
                    <a:lnTo>
                      <a:pt x="6013" y="0"/>
                    </a:lnTo>
                    <a:lnTo>
                      <a:pt x="6018" y="27"/>
                    </a:lnTo>
                    <a:lnTo>
                      <a:pt x="6016" y="53"/>
                    </a:lnTo>
                    <a:lnTo>
                      <a:pt x="5834" y="53"/>
                    </a:lnTo>
                    <a:lnTo>
                      <a:pt x="5798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3561840" y="3883320"/>
                <a:ext cx="2309040" cy="19080"/>
              </a:xfrm>
              <a:custGeom>
                <a:avLst/>
                <a:gdLst/>
                <a:ahLst/>
                <a:rect l="l" t="t" r="r" b="b"/>
                <a:pathLst>
                  <a:path w="6010" h="53">
                    <a:moveTo>
                      <a:pt x="0" y="0"/>
                    </a:moveTo>
                    <a:lnTo>
                      <a:pt x="2495" y="0"/>
                    </a:lnTo>
                    <a:lnTo>
                      <a:pt x="2485" y="53"/>
                    </a:lnTo>
                    <a:lnTo>
                      <a:pt x="1968" y="53"/>
                    </a:lnTo>
                    <a:lnTo>
                      <a:pt x="1940" y="47"/>
                    </a:lnTo>
                    <a:lnTo>
                      <a:pt x="1834" y="47"/>
                    </a:lnTo>
                    <a:lnTo>
                      <a:pt x="1804" y="53"/>
                    </a:lnTo>
                    <a:lnTo>
                      <a:pt x="22" y="53"/>
                    </a:lnTo>
                    <a:lnTo>
                      <a:pt x="4" y="7"/>
                    </a:lnTo>
                    <a:lnTo>
                      <a:pt x="0" y="0"/>
                    </a:lnTo>
                    <a:close/>
                    <a:moveTo>
                      <a:pt x="5808" y="0"/>
                    </a:moveTo>
                    <a:lnTo>
                      <a:pt x="6010" y="0"/>
                    </a:lnTo>
                    <a:lnTo>
                      <a:pt x="6010" y="0"/>
                    </a:lnTo>
                    <a:lnTo>
                      <a:pt x="6006" y="53"/>
                    </a:lnTo>
                    <a:lnTo>
                      <a:pt x="5841" y="53"/>
                    </a:lnTo>
                    <a:lnTo>
                      <a:pt x="5828" y="29"/>
                    </a:lnTo>
                    <a:lnTo>
                      <a:pt x="5808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3565800" y="3892320"/>
                <a:ext cx="2305080" cy="19080"/>
              </a:xfrm>
              <a:custGeom>
                <a:avLst/>
                <a:gdLst/>
                <a:ahLst/>
                <a:rect l="l" t="t" r="r" b="b"/>
                <a:pathLst>
                  <a:path w="5997" h="55">
                    <a:moveTo>
                      <a:pt x="0" y="0"/>
                    </a:moveTo>
                    <a:lnTo>
                      <a:pt x="2479" y="0"/>
                    </a:lnTo>
                    <a:lnTo>
                      <a:pt x="2472" y="41"/>
                    </a:lnTo>
                    <a:lnTo>
                      <a:pt x="2469" y="55"/>
                    </a:lnTo>
                    <a:lnTo>
                      <a:pt x="2046" y="55"/>
                    </a:lnTo>
                    <a:lnTo>
                      <a:pt x="2016" y="41"/>
                    </a:lnTo>
                    <a:lnTo>
                      <a:pt x="1929" y="21"/>
                    </a:lnTo>
                    <a:lnTo>
                      <a:pt x="1823" y="21"/>
                    </a:lnTo>
                    <a:lnTo>
                      <a:pt x="1672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5815" y="0"/>
                    </a:moveTo>
                    <a:lnTo>
                      <a:pt x="5997" y="0"/>
                    </a:lnTo>
                    <a:lnTo>
                      <a:pt x="5993" y="55"/>
                    </a:lnTo>
                    <a:lnTo>
                      <a:pt x="5846" y="55"/>
                    </a:lnTo>
                    <a:lnTo>
                      <a:pt x="5846" y="51"/>
                    </a:lnTo>
                    <a:lnTo>
                      <a:pt x="5838" y="41"/>
                    </a:lnTo>
                    <a:lnTo>
                      <a:pt x="5817" y="3"/>
                    </a:lnTo>
                    <a:lnTo>
                      <a:pt x="5815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571200" y="3902760"/>
                <a:ext cx="2297880" cy="19440"/>
              </a:xfrm>
              <a:custGeom>
                <a:avLst/>
                <a:gdLst/>
                <a:ahLst/>
                <a:rect l="l" t="t" r="r" b="b"/>
                <a:pathLst>
                  <a:path w="5984" h="54">
                    <a:moveTo>
                      <a:pt x="0" y="0"/>
                    </a:moveTo>
                    <a:lnTo>
                      <a:pt x="1782" y="0"/>
                    </a:lnTo>
                    <a:lnTo>
                      <a:pt x="1598" y="41"/>
                    </a:lnTo>
                    <a:lnTo>
                      <a:pt x="1545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946" y="0"/>
                    </a:moveTo>
                    <a:lnTo>
                      <a:pt x="2463" y="0"/>
                    </a:lnTo>
                    <a:lnTo>
                      <a:pt x="2461" y="14"/>
                    </a:lnTo>
                    <a:lnTo>
                      <a:pt x="2453" y="54"/>
                    </a:lnTo>
                    <a:lnTo>
                      <a:pt x="2088" y="54"/>
                    </a:lnTo>
                    <a:lnTo>
                      <a:pt x="2084" y="49"/>
                    </a:lnTo>
                    <a:lnTo>
                      <a:pt x="2005" y="14"/>
                    </a:lnTo>
                    <a:lnTo>
                      <a:pt x="1946" y="0"/>
                    </a:lnTo>
                    <a:close/>
                    <a:moveTo>
                      <a:pt x="5819" y="0"/>
                    </a:moveTo>
                    <a:lnTo>
                      <a:pt x="5984" y="0"/>
                    </a:lnTo>
                    <a:lnTo>
                      <a:pt x="5981" y="44"/>
                    </a:lnTo>
                    <a:lnTo>
                      <a:pt x="5979" y="54"/>
                    </a:lnTo>
                    <a:lnTo>
                      <a:pt x="5840" y="54"/>
                    </a:lnTo>
                    <a:lnTo>
                      <a:pt x="5835" y="35"/>
                    </a:lnTo>
                    <a:lnTo>
                      <a:pt x="5835" y="24"/>
                    </a:lnTo>
                    <a:lnTo>
                      <a:pt x="5827" y="14"/>
                    </a:lnTo>
                    <a:lnTo>
                      <a:pt x="5819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575160" y="3911400"/>
                <a:ext cx="2293920" cy="19440"/>
              </a:xfrm>
              <a:custGeom>
                <a:avLst/>
                <a:gdLst/>
                <a:ahLst/>
                <a:rect l="l" t="t" r="r" b="b"/>
                <a:pathLst>
                  <a:path w="5970" h="53">
                    <a:moveTo>
                      <a:pt x="0" y="0"/>
                    </a:moveTo>
                    <a:lnTo>
                      <a:pt x="1649" y="0"/>
                    </a:lnTo>
                    <a:lnTo>
                      <a:pt x="1586" y="13"/>
                    </a:lnTo>
                    <a:lnTo>
                      <a:pt x="1424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2023" y="0"/>
                    </a:moveTo>
                    <a:lnTo>
                      <a:pt x="2446" y="0"/>
                    </a:lnTo>
                    <a:lnTo>
                      <a:pt x="2437" y="53"/>
                    </a:lnTo>
                    <a:lnTo>
                      <a:pt x="2101" y="53"/>
                    </a:lnTo>
                    <a:lnTo>
                      <a:pt x="2072" y="21"/>
                    </a:lnTo>
                    <a:lnTo>
                      <a:pt x="2023" y="0"/>
                    </a:lnTo>
                    <a:close/>
                    <a:moveTo>
                      <a:pt x="5823" y="0"/>
                    </a:moveTo>
                    <a:lnTo>
                      <a:pt x="5970" y="0"/>
                    </a:lnTo>
                    <a:lnTo>
                      <a:pt x="5969" y="16"/>
                    </a:lnTo>
                    <a:lnTo>
                      <a:pt x="5961" y="53"/>
                    </a:lnTo>
                    <a:lnTo>
                      <a:pt x="5834" y="53"/>
                    </a:lnTo>
                    <a:lnTo>
                      <a:pt x="5830" y="35"/>
                    </a:lnTo>
                    <a:lnTo>
                      <a:pt x="5823" y="7"/>
                    </a:lnTo>
                    <a:lnTo>
                      <a:pt x="5823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579120" y="3922200"/>
                <a:ext cx="2288160" cy="19080"/>
              </a:xfrm>
              <a:custGeom>
                <a:avLst/>
                <a:gdLst/>
                <a:ahLst/>
                <a:rect l="l" t="t" r="r" b="b"/>
                <a:pathLst>
                  <a:path w="5955" h="55">
                    <a:moveTo>
                      <a:pt x="0" y="0"/>
                    </a:moveTo>
                    <a:lnTo>
                      <a:pt x="1521" y="0"/>
                    </a:lnTo>
                    <a:lnTo>
                      <a:pt x="1334" y="46"/>
                    </a:lnTo>
                    <a:lnTo>
                      <a:pt x="1289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2064" y="0"/>
                    </a:moveTo>
                    <a:lnTo>
                      <a:pt x="2429" y="0"/>
                    </a:lnTo>
                    <a:lnTo>
                      <a:pt x="2421" y="50"/>
                    </a:lnTo>
                    <a:lnTo>
                      <a:pt x="2422" y="55"/>
                    </a:lnTo>
                    <a:lnTo>
                      <a:pt x="2097" y="55"/>
                    </a:lnTo>
                    <a:lnTo>
                      <a:pt x="2097" y="37"/>
                    </a:lnTo>
                    <a:lnTo>
                      <a:pt x="2064" y="0"/>
                    </a:lnTo>
                    <a:close/>
                    <a:moveTo>
                      <a:pt x="5816" y="0"/>
                    </a:moveTo>
                    <a:lnTo>
                      <a:pt x="5955" y="0"/>
                    </a:lnTo>
                    <a:lnTo>
                      <a:pt x="5942" y="55"/>
                    </a:lnTo>
                    <a:lnTo>
                      <a:pt x="5826" y="55"/>
                    </a:lnTo>
                    <a:lnTo>
                      <a:pt x="5818" y="9"/>
                    </a:lnTo>
                    <a:lnTo>
                      <a:pt x="5816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584880" y="3931200"/>
                <a:ext cx="2280240" cy="19080"/>
              </a:xfrm>
              <a:custGeom>
                <a:avLst/>
                <a:gdLst/>
                <a:ahLst/>
                <a:rect l="l" t="t" r="r" b="b"/>
                <a:pathLst>
                  <a:path w="5938" h="54">
                    <a:moveTo>
                      <a:pt x="0" y="0"/>
                    </a:moveTo>
                    <a:lnTo>
                      <a:pt x="1401" y="0"/>
                    </a:lnTo>
                    <a:lnTo>
                      <a:pt x="1323" y="19"/>
                    </a:lnTo>
                    <a:lnTo>
                      <a:pt x="1125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2078" y="0"/>
                    </a:moveTo>
                    <a:lnTo>
                      <a:pt x="2414" y="0"/>
                    </a:lnTo>
                    <a:lnTo>
                      <a:pt x="2410" y="23"/>
                    </a:lnTo>
                    <a:lnTo>
                      <a:pt x="2419" y="54"/>
                    </a:lnTo>
                    <a:lnTo>
                      <a:pt x="2086" y="54"/>
                    </a:lnTo>
                    <a:lnTo>
                      <a:pt x="2086" y="10"/>
                    </a:lnTo>
                    <a:lnTo>
                      <a:pt x="2078" y="0"/>
                    </a:lnTo>
                    <a:close/>
                    <a:moveTo>
                      <a:pt x="5811" y="0"/>
                    </a:moveTo>
                    <a:lnTo>
                      <a:pt x="5938" y="0"/>
                    </a:lnTo>
                    <a:lnTo>
                      <a:pt x="5925" y="54"/>
                    </a:lnTo>
                    <a:lnTo>
                      <a:pt x="5819" y="54"/>
                    </a:lnTo>
                    <a:lnTo>
                      <a:pt x="5811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588840" y="3941640"/>
                <a:ext cx="2274480" cy="18000"/>
              </a:xfrm>
              <a:custGeom>
                <a:avLst/>
                <a:gdLst/>
                <a:ahLst/>
                <a:rect l="l" t="t" r="r" b="b"/>
                <a:pathLst>
                  <a:path w="5919" h="53">
                    <a:moveTo>
                      <a:pt x="0" y="0"/>
                    </a:moveTo>
                    <a:lnTo>
                      <a:pt x="1266" y="0"/>
                    </a:lnTo>
                    <a:lnTo>
                      <a:pt x="1086" y="31"/>
                    </a:lnTo>
                    <a:lnTo>
                      <a:pt x="905" y="51"/>
                    </a:lnTo>
                    <a:lnTo>
                      <a:pt x="885" y="53"/>
                    </a:lnTo>
                    <a:lnTo>
                      <a:pt x="25" y="53"/>
                    </a:lnTo>
                    <a:lnTo>
                      <a:pt x="13" y="31"/>
                    </a:lnTo>
                    <a:lnTo>
                      <a:pt x="0" y="0"/>
                    </a:lnTo>
                    <a:close/>
                    <a:moveTo>
                      <a:pt x="2074" y="0"/>
                    </a:moveTo>
                    <a:lnTo>
                      <a:pt x="2399" y="0"/>
                    </a:lnTo>
                    <a:lnTo>
                      <a:pt x="2416" y="53"/>
                    </a:lnTo>
                    <a:lnTo>
                      <a:pt x="2074" y="53"/>
                    </a:lnTo>
                    <a:lnTo>
                      <a:pt x="2074" y="0"/>
                    </a:lnTo>
                    <a:close/>
                    <a:moveTo>
                      <a:pt x="5803" y="0"/>
                    </a:moveTo>
                    <a:lnTo>
                      <a:pt x="5919" y="0"/>
                    </a:lnTo>
                    <a:lnTo>
                      <a:pt x="5912" y="31"/>
                    </a:lnTo>
                    <a:lnTo>
                      <a:pt x="5904" y="53"/>
                    </a:lnTo>
                    <a:lnTo>
                      <a:pt x="5816" y="53"/>
                    </a:lnTo>
                    <a:lnTo>
                      <a:pt x="5808" y="31"/>
                    </a:lnTo>
                    <a:lnTo>
                      <a:pt x="5803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592440" y="3950280"/>
                <a:ext cx="2269080" cy="19440"/>
              </a:xfrm>
              <a:custGeom>
                <a:avLst/>
                <a:gdLst/>
                <a:ahLst/>
                <a:rect l="l" t="t" r="r" b="b"/>
                <a:pathLst>
                  <a:path w="5902" h="55">
                    <a:moveTo>
                      <a:pt x="0" y="0"/>
                    </a:moveTo>
                    <a:lnTo>
                      <a:pt x="1102" y="0"/>
                    </a:lnTo>
                    <a:lnTo>
                      <a:pt x="1075" y="5"/>
                    </a:lnTo>
                    <a:lnTo>
                      <a:pt x="894" y="25"/>
                    </a:lnTo>
                    <a:lnTo>
                      <a:pt x="748" y="44"/>
                    </a:lnTo>
                    <a:lnTo>
                      <a:pt x="649" y="52"/>
                    </a:lnTo>
                    <a:lnTo>
                      <a:pt x="622" y="52"/>
                    </a:lnTo>
                    <a:lnTo>
                      <a:pt x="622" y="55"/>
                    </a:lnTo>
                    <a:lnTo>
                      <a:pt x="28" y="5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  <a:moveTo>
                      <a:pt x="2063" y="0"/>
                    </a:moveTo>
                    <a:lnTo>
                      <a:pt x="2396" y="0"/>
                    </a:lnTo>
                    <a:lnTo>
                      <a:pt x="2414" y="55"/>
                    </a:lnTo>
                    <a:lnTo>
                      <a:pt x="2063" y="55"/>
                    </a:lnTo>
                    <a:lnTo>
                      <a:pt x="2063" y="0"/>
                    </a:lnTo>
                    <a:close/>
                    <a:moveTo>
                      <a:pt x="5796" y="0"/>
                    </a:moveTo>
                    <a:lnTo>
                      <a:pt x="5902" y="0"/>
                    </a:lnTo>
                    <a:lnTo>
                      <a:pt x="5901" y="5"/>
                    </a:lnTo>
                    <a:lnTo>
                      <a:pt x="5881" y="55"/>
                    </a:lnTo>
                    <a:lnTo>
                      <a:pt x="5816" y="55"/>
                    </a:lnTo>
                    <a:lnTo>
                      <a:pt x="5797" y="5"/>
                    </a:lnTo>
                    <a:lnTo>
                      <a:pt x="5796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598200" y="3959640"/>
                <a:ext cx="2259360" cy="19080"/>
              </a:xfrm>
              <a:custGeom>
                <a:avLst/>
                <a:gdLst/>
                <a:ahLst/>
                <a:rect l="l" t="t" r="r" b="b"/>
                <a:pathLst>
                  <a:path w="5879" h="55">
                    <a:moveTo>
                      <a:pt x="0" y="0"/>
                    </a:moveTo>
                    <a:lnTo>
                      <a:pt x="860" y="0"/>
                    </a:lnTo>
                    <a:lnTo>
                      <a:pt x="734" y="17"/>
                    </a:lnTo>
                    <a:lnTo>
                      <a:pt x="635" y="25"/>
                    </a:lnTo>
                    <a:lnTo>
                      <a:pt x="608" y="25"/>
                    </a:lnTo>
                    <a:lnTo>
                      <a:pt x="608" y="33"/>
                    </a:lnTo>
                    <a:lnTo>
                      <a:pt x="617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49" y="0"/>
                    </a:moveTo>
                    <a:lnTo>
                      <a:pt x="2391" y="0"/>
                    </a:lnTo>
                    <a:lnTo>
                      <a:pt x="2408" y="55"/>
                    </a:lnTo>
                    <a:lnTo>
                      <a:pt x="2048" y="55"/>
                    </a:lnTo>
                    <a:lnTo>
                      <a:pt x="2049" y="48"/>
                    </a:lnTo>
                    <a:lnTo>
                      <a:pt x="2049" y="0"/>
                    </a:lnTo>
                    <a:close/>
                    <a:moveTo>
                      <a:pt x="5791" y="0"/>
                    </a:moveTo>
                    <a:lnTo>
                      <a:pt x="5879" y="0"/>
                    </a:lnTo>
                    <a:lnTo>
                      <a:pt x="5860" y="48"/>
                    </a:lnTo>
                    <a:lnTo>
                      <a:pt x="5853" y="55"/>
                    </a:lnTo>
                    <a:lnTo>
                      <a:pt x="5812" y="55"/>
                    </a:lnTo>
                    <a:lnTo>
                      <a:pt x="5791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603960" y="3970080"/>
                <a:ext cx="2247480" cy="17640"/>
              </a:xfrm>
              <a:custGeom>
                <a:avLst/>
                <a:gdLst/>
                <a:ahLst/>
                <a:rect l="l" t="t" r="r" b="b"/>
                <a:pathLst>
                  <a:path w="5853" h="53">
                    <a:moveTo>
                      <a:pt x="0" y="0"/>
                    </a:moveTo>
                    <a:lnTo>
                      <a:pt x="594" y="0"/>
                    </a:lnTo>
                    <a:lnTo>
                      <a:pt x="594" y="5"/>
                    </a:lnTo>
                    <a:lnTo>
                      <a:pt x="613" y="49"/>
                    </a:lnTo>
                    <a:lnTo>
                      <a:pt x="614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35" y="0"/>
                    </a:moveTo>
                    <a:lnTo>
                      <a:pt x="2386" y="0"/>
                    </a:lnTo>
                    <a:lnTo>
                      <a:pt x="2403" y="53"/>
                    </a:lnTo>
                    <a:lnTo>
                      <a:pt x="2032" y="53"/>
                    </a:lnTo>
                    <a:lnTo>
                      <a:pt x="2035" y="20"/>
                    </a:lnTo>
                    <a:lnTo>
                      <a:pt x="2035" y="0"/>
                    </a:lnTo>
                    <a:close/>
                    <a:moveTo>
                      <a:pt x="5788" y="0"/>
                    </a:moveTo>
                    <a:lnTo>
                      <a:pt x="5853" y="0"/>
                    </a:lnTo>
                    <a:lnTo>
                      <a:pt x="5846" y="20"/>
                    </a:lnTo>
                    <a:lnTo>
                      <a:pt x="5818" y="53"/>
                    </a:lnTo>
                    <a:lnTo>
                      <a:pt x="5806" y="53"/>
                    </a:lnTo>
                    <a:lnTo>
                      <a:pt x="5798" y="27"/>
                    </a:lnTo>
                    <a:lnTo>
                      <a:pt x="5788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607920" y="3978720"/>
                <a:ext cx="2239920" cy="19440"/>
              </a:xfrm>
              <a:custGeom>
                <a:avLst/>
                <a:gdLst/>
                <a:ahLst/>
                <a:rect l="l" t="t" r="r" b="b"/>
                <a:pathLst>
                  <a:path w="5826" h="53">
                    <a:moveTo>
                      <a:pt x="0" y="0"/>
                    </a:moveTo>
                    <a:lnTo>
                      <a:pt x="590" y="0"/>
                    </a:lnTo>
                    <a:lnTo>
                      <a:pt x="600" y="22"/>
                    </a:lnTo>
                    <a:lnTo>
                      <a:pt x="603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21" y="0"/>
                    </a:moveTo>
                    <a:lnTo>
                      <a:pt x="2381" y="0"/>
                    </a:lnTo>
                    <a:lnTo>
                      <a:pt x="2391" y="29"/>
                    </a:lnTo>
                    <a:lnTo>
                      <a:pt x="2392" y="53"/>
                    </a:lnTo>
                    <a:lnTo>
                      <a:pt x="2017" y="53"/>
                    </a:lnTo>
                    <a:lnTo>
                      <a:pt x="2021" y="0"/>
                    </a:lnTo>
                    <a:close/>
                    <a:moveTo>
                      <a:pt x="5785" y="0"/>
                    </a:moveTo>
                    <a:lnTo>
                      <a:pt x="5826" y="0"/>
                    </a:lnTo>
                    <a:lnTo>
                      <a:pt x="5803" y="29"/>
                    </a:lnTo>
                    <a:lnTo>
                      <a:pt x="5793" y="29"/>
                    </a:lnTo>
                    <a:lnTo>
                      <a:pt x="5785" y="0"/>
                    </a:lnTo>
                    <a:lnTo>
                      <a:pt x="5785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613680" y="3987720"/>
                <a:ext cx="2224440" cy="19440"/>
              </a:xfrm>
              <a:custGeom>
                <a:avLst/>
                <a:gdLst/>
                <a:ahLst/>
                <a:rect l="l" t="t" r="r" b="b"/>
                <a:pathLst>
                  <a:path w="5791" h="55">
                    <a:moveTo>
                      <a:pt x="0" y="0"/>
                    </a:moveTo>
                    <a:lnTo>
                      <a:pt x="587" y="0"/>
                    </a:lnTo>
                    <a:lnTo>
                      <a:pt x="591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05" y="0"/>
                    </a:moveTo>
                    <a:lnTo>
                      <a:pt x="2376" y="0"/>
                    </a:lnTo>
                    <a:lnTo>
                      <a:pt x="2377" y="3"/>
                    </a:lnTo>
                    <a:lnTo>
                      <a:pt x="2379" y="55"/>
                    </a:lnTo>
                    <a:lnTo>
                      <a:pt x="2001" y="55"/>
                    </a:lnTo>
                    <a:lnTo>
                      <a:pt x="2005" y="0"/>
                    </a:lnTo>
                    <a:close/>
                    <a:moveTo>
                      <a:pt x="5779" y="0"/>
                    </a:moveTo>
                    <a:lnTo>
                      <a:pt x="5791" y="0"/>
                    </a:lnTo>
                    <a:lnTo>
                      <a:pt x="5789" y="3"/>
                    </a:lnTo>
                    <a:lnTo>
                      <a:pt x="5779" y="3"/>
                    </a:lnTo>
                    <a:lnTo>
                      <a:pt x="5779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619440" y="3998520"/>
                <a:ext cx="908640" cy="19080"/>
              </a:xfrm>
              <a:custGeom>
                <a:avLst/>
                <a:gdLst/>
                <a:ahLst/>
                <a:rect l="l" t="t" r="r" b="b"/>
                <a:pathLst>
                  <a:path w="2368" h="54">
                    <a:moveTo>
                      <a:pt x="0" y="0"/>
                    </a:moveTo>
                    <a:lnTo>
                      <a:pt x="576" y="0"/>
                    </a:lnTo>
                    <a:lnTo>
                      <a:pt x="581" y="54"/>
                    </a:lnTo>
                    <a:lnTo>
                      <a:pt x="28" y="54"/>
                    </a:lnTo>
                    <a:lnTo>
                      <a:pt x="0" y="0"/>
                    </a:lnTo>
                    <a:close/>
                    <a:moveTo>
                      <a:pt x="1990" y="0"/>
                    </a:moveTo>
                    <a:lnTo>
                      <a:pt x="2365" y="0"/>
                    </a:lnTo>
                    <a:lnTo>
                      <a:pt x="2368" y="54"/>
                    </a:lnTo>
                    <a:lnTo>
                      <a:pt x="1985" y="54"/>
                    </a:lnTo>
                    <a:lnTo>
                      <a:pt x="1990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624840" y="4007520"/>
                <a:ext cx="904680" cy="19080"/>
              </a:xfrm>
              <a:custGeom>
                <a:avLst/>
                <a:gdLst/>
                <a:ahLst/>
                <a:rect l="l" t="t" r="r" b="b"/>
                <a:pathLst>
                  <a:path w="2355" h="53">
                    <a:moveTo>
                      <a:pt x="0" y="0"/>
                    </a:moveTo>
                    <a:lnTo>
                      <a:pt x="564" y="0"/>
                    </a:lnTo>
                    <a:lnTo>
                      <a:pt x="567" y="27"/>
                    </a:lnTo>
                    <a:lnTo>
                      <a:pt x="577" y="53"/>
                    </a:lnTo>
                    <a:lnTo>
                      <a:pt x="27" y="53"/>
                    </a:lnTo>
                    <a:lnTo>
                      <a:pt x="19" y="36"/>
                    </a:lnTo>
                    <a:lnTo>
                      <a:pt x="0" y="0"/>
                    </a:lnTo>
                    <a:close/>
                    <a:moveTo>
                      <a:pt x="1974" y="0"/>
                    </a:moveTo>
                    <a:lnTo>
                      <a:pt x="2352" y="0"/>
                    </a:lnTo>
                    <a:lnTo>
                      <a:pt x="2355" y="53"/>
                    </a:lnTo>
                    <a:lnTo>
                      <a:pt x="1969" y="53"/>
                    </a:lnTo>
                    <a:lnTo>
                      <a:pt x="1971" y="27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628800" y="4017960"/>
                <a:ext cx="900720" cy="19440"/>
              </a:xfrm>
              <a:custGeom>
                <a:avLst/>
                <a:gdLst/>
                <a:ahLst/>
                <a:rect l="l" t="t" r="r" b="b"/>
                <a:pathLst>
                  <a:path w="2342" h="55">
                    <a:moveTo>
                      <a:pt x="0" y="0"/>
                    </a:moveTo>
                    <a:lnTo>
                      <a:pt x="553" y="0"/>
                    </a:lnTo>
                    <a:lnTo>
                      <a:pt x="553" y="1"/>
                    </a:lnTo>
                    <a:lnTo>
                      <a:pt x="572" y="55"/>
                    </a:lnTo>
                    <a:lnTo>
                      <a:pt x="26" y="55"/>
                    </a:lnTo>
                    <a:lnTo>
                      <a:pt x="5" y="10"/>
                    </a:lnTo>
                    <a:lnTo>
                      <a:pt x="0" y="0"/>
                    </a:lnTo>
                    <a:close/>
                    <a:moveTo>
                      <a:pt x="1957" y="0"/>
                    </a:moveTo>
                    <a:lnTo>
                      <a:pt x="2340" y="0"/>
                    </a:lnTo>
                    <a:lnTo>
                      <a:pt x="2342" y="55"/>
                    </a:lnTo>
                    <a:lnTo>
                      <a:pt x="1952" y="55"/>
                    </a:lnTo>
                    <a:lnTo>
                      <a:pt x="1957" y="1"/>
                    </a:lnTo>
                    <a:lnTo>
                      <a:pt x="1957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634560" y="4026600"/>
                <a:ext cx="895320" cy="19440"/>
              </a:xfrm>
              <a:custGeom>
                <a:avLst/>
                <a:gdLst/>
                <a:ahLst/>
                <a:rect l="l" t="t" r="r" b="b"/>
                <a:pathLst>
                  <a:path w="2331" h="54">
                    <a:moveTo>
                      <a:pt x="0" y="0"/>
                    </a:moveTo>
                    <a:lnTo>
                      <a:pt x="550" y="0"/>
                    </a:lnTo>
                    <a:lnTo>
                      <a:pt x="560" y="30"/>
                    </a:lnTo>
                    <a:lnTo>
                      <a:pt x="563" y="54"/>
                    </a:lnTo>
                    <a:lnTo>
                      <a:pt x="26" y="54"/>
                    </a:lnTo>
                    <a:lnTo>
                      <a:pt x="0" y="0"/>
                    </a:lnTo>
                    <a:close/>
                    <a:moveTo>
                      <a:pt x="1942" y="0"/>
                    </a:moveTo>
                    <a:lnTo>
                      <a:pt x="2328" y="0"/>
                    </a:lnTo>
                    <a:lnTo>
                      <a:pt x="2331" y="50"/>
                    </a:lnTo>
                    <a:lnTo>
                      <a:pt x="2330" y="54"/>
                    </a:lnTo>
                    <a:lnTo>
                      <a:pt x="1935" y="54"/>
                    </a:lnTo>
                    <a:lnTo>
                      <a:pt x="1942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640680" y="4037400"/>
                <a:ext cx="889200" cy="17640"/>
              </a:xfrm>
              <a:custGeom>
                <a:avLst/>
                <a:gdLst/>
                <a:ahLst/>
                <a:rect l="l" t="t" r="r" b="b"/>
                <a:pathLst>
                  <a:path w="2318" h="53">
                    <a:moveTo>
                      <a:pt x="0" y="0"/>
                    </a:moveTo>
                    <a:lnTo>
                      <a:pt x="546" y="0"/>
                    </a:lnTo>
                    <a:lnTo>
                      <a:pt x="547" y="2"/>
                    </a:lnTo>
                    <a:lnTo>
                      <a:pt x="554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926" y="0"/>
                    </a:moveTo>
                    <a:lnTo>
                      <a:pt x="2316" y="0"/>
                    </a:lnTo>
                    <a:lnTo>
                      <a:pt x="2318" y="22"/>
                    </a:lnTo>
                    <a:lnTo>
                      <a:pt x="2314" y="53"/>
                    </a:lnTo>
                    <a:lnTo>
                      <a:pt x="1919" y="5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3644640" y="4046400"/>
                <a:ext cx="885240" cy="19080"/>
              </a:xfrm>
              <a:custGeom>
                <a:avLst/>
                <a:gdLst/>
                <a:ahLst/>
                <a:rect l="l" t="t" r="r" b="b"/>
                <a:pathLst>
                  <a:path w="2304" h="55">
                    <a:moveTo>
                      <a:pt x="0" y="0"/>
                    </a:moveTo>
                    <a:lnTo>
                      <a:pt x="537" y="0"/>
                    </a:lnTo>
                    <a:lnTo>
                      <a:pt x="546" y="50"/>
                    </a:lnTo>
                    <a:lnTo>
                      <a:pt x="546" y="55"/>
                    </a:lnTo>
                    <a:lnTo>
                      <a:pt x="26" y="55"/>
                    </a:lnTo>
                    <a:lnTo>
                      <a:pt x="0" y="0"/>
                    </a:lnTo>
                    <a:close/>
                    <a:moveTo>
                      <a:pt x="1909" y="0"/>
                    </a:moveTo>
                    <a:lnTo>
                      <a:pt x="2304" y="0"/>
                    </a:lnTo>
                    <a:lnTo>
                      <a:pt x="2298" y="55"/>
                    </a:lnTo>
                    <a:lnTo>
                      <a:pt x="1903" y="55"/>
                    </a:lnTo>
                    <a:lnTo>
                      <a:pt x="1909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3650040" y="4055040"/>
                <a:ext cx="877680" cy="19080"/>
              </a:xfrm>
              <a:custGeom>
                <a:avLst/>
                <a:gdLst/>
                <a:ahLst/>
                <a:rect l="l" t="t" r="r" b="b"/>
                <a:pathLst>
                  <a:path w="2288" h="54">
                    <a:moveTo>
                      <a:pt x="0" y="0"/>
                    </a:moveTo>
                    <a:lnTo>
                      <a:pt x="528" y="0"/>
                    </a:lnTo>
                    <a:lnTo>
                      <a:pt x="533" y="23"/>
                    </a:lnTo>
                    <a:lnTo>
                      <a:pt x="537" y="54"/>
                    </a:lnTo>
                    <a:lnTo>
                      <a:pt x="25" y="54"/>
                    </a:lnTo>
                    <a:lnTo>
                      <a:pt x="0" y="0"/>
                    </a:lnTo>
                    <a:close/>
                    <a:moveTo>
                      <a:pt x="1893" y="0"/>
                    </a:moveTo>
                    <a:lnTo>
                      <a:pt x="2288" y="0"/>
                    </a:lnTo>
                    <a:lnTo>
                      <a:pt x="2284" y="36"/>
                    </a:lnTo>
                    <a:lnTo>
                      <a:pt x="2277" y="54"/>
                    </a:lnTo>
                    <a:lnTo>
                      <a:pt x="1887" y="54"/>
                    </a:lnTo>
                    <a:lnTo>
                      <a:pt x="1893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654000" y="4065480"/>
                <a:ext cx="873720" cy="17640"/>
              </a:xfrm>
              <a:custGeom>
                <a:avLst/>
                <a:gdLst/>
                <a:ahLst/>
                <a:rect l="l" t="t" r="r" b="b"/>
                <a:pathLst>
                  <a:path w="2272" h="53">
                    <a:moveTo>
                      <a:pt x="0" y="0"/>
                    </a:moveTo>
                    <a:lnTo>
                      <a:pt x="520" y="0"/>
                    </a:lnTo>
                    <a:lnTo>
                      <a:pt x="528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877" y="0"/>
                    </a:moveTo>
                    <a:lnTo>
                      <a:pt x="2272" y="0"/>
                    </a:lnTo>
                    <a:lnTo>
                      <a:pt x="2271" y="8"/>
                    </a:lnTo>
                    <a:lnTo>
                      <a:pt x="2252" y="53"/>
                    </a:lnTo>
                    <a:lnTo>
                      <a:pt x="2151" y="53"/>
                    </a:lnTo>
                    <a:lnTo>
                      <a:pt x="2147" y="49"/>
                    </a:lnTo>
                    <a:lnTo>
                      <a:pt x="2146" y="53"/>
                    </a:lnTo>
                    <a:lnTo>
                      <a:pt x="1868" y="53"/>
                    </a:lnTo>
                    <a:lnTo>
                      <a:pt x="1873" y="40"/>
                    </a:lnTo>
                    <a:lnTo>
                      <a:pt x="1877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3659760" y="4074480"/>
                <a:ext cx="864360" cy="19440"/>
              </a:xfrm>
              <a:custGeom>
                <a:avLst/>
                <a:gdLst/>
                <a:ahLst/>
                <a:rect l="l" t="t" r="r" b="b"/>
                <a:pathLst>
                  <a:path w="2252" h="54">
                    <a:moveTo>
                      <a:pt x="0" y="0"/>
                    </a:moveTo>
                    <a:lnTo>
                      <a:pt x="512" y="0"/>
                    </a:lnTo>
                    <a:lnTo>
                      <a:pt x="519" y="54"/>
                    </a:lnTo>
                    <a:lnTo>
                      <a:pt x="26" y="54"/>
                    </a:lnTo>
                    <a:lnTo>
                      <a:pt x="14" y="29"/>
                    </a:lnTo>
                    <a:lnTo>
                      <a:pt x="0" y="0"/>
                    </a:lnTo>
                    <a:close/>
                    <a:moveTo>
                      <a:pt x="1862" y="0"/>
                    </a:moveTo>
                    <a:lnTo>
                      <a:pt x="2252" y="0"/>
                    </a:lnTo>
                    <a:lnTo>
                      <a:pt x="2239" y="29"/>
                    </a:lnTo>
                    <a:lnTo>
                      <a:pt x="2207" y="54"/>
                    </a:lnTo>
                    <a:lnTo>
                      <a:pt x="2179" y="54"/>
                    </a:lnTo>
                    <a:lnTo>
                      <a:pt x="2160" y="49"/>
                    </a:lnTo>
                    <a:lnTo>
                      <a:pt x="2135" y="23"/>
                    </a:lnTo>
                    <a:lnTo>
                      <a:pt x="2130" y="54"/>
                    </a:lnTo>
                    <a:lnTo>
                      <a:pt x="1848" y="54"/>
                    </a:lnTo>
                    <a:lnTo>
                      <a:pt x="1861" y="14"/>
                    </a:lnTo>
                    <a:lnTo>
                      <a:pt x="1862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3665520" y="4083120"/>
                <a:ext cx="854640" cy="19440"/>
              </a:xfrm>
              <a:custGeom>
                <a:avLst/>
                <a:gdLst/>
                <a:ahLst/>
                <a:rect l="l" t="t" r="r" b="b"/>
                <a:pathLst>
                  <a:path w="2226" h="55">
                    <a:moveTo>
                      <a:pt x="0" y="0"/>
                    </a:moveTo>
                    <a:lnTo>
                      <a:pt x="502" y="0"/>
                    </a:lnTo>
                    <a:lnTo>
                      <a:pt x="509" y="55"/>
                    </a:lnTo>
                    <a:lnTo>
                      <a:pt x="23" y="5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1842" y="0"/>
                    </a:moveTo>
                    <a:lnTo>
                      <a:pt x="2120" y="0"/>
                    </a:lnTo>
                    <a:lnTo>
                      <a:pt x="2112" y="55"/>
                    </a:lnTo>
                    <a:lnTo>
                      <a:pt x="1826" y="55"/>
                    </a:lnTo>
                    <a:lnTo>
                      <a:pt x="1842" y="0"/>
                    </a:lnTo>
                    <a:close/>
                    <a:moveTo>
                      <a:pt x="2125" y="0"/>
                    </a:moveTo>
                    <a:lnTo>
                      <a:pt x="2226" y="0"/>
                    </a:lnTo>
                    <a:lnTo>
                      <a:pt x="2225" y="2"/>
                    </a:lnTo>
                    <a:lnTo>
                      <a:pt x="2186" y="34"/>
                    </a:lnTo>
                    <a:lnTo>
                      <a:pt x="2146" y="22"/>
                    </a:lnTo>
                    <a:lnTo>
                      <a:pt x="2125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3669480" y="4093920"/>
                <a:ext cx="837360" cy="19080"/>
              </a:xfrm>
              <a:custGeom>
                <a:avLst/>
                <a:gdLst/>
                <a:ahLst/>
                <a:rect l="l" t="t" r="r" b="b"/>
                <a:pathLst>
                  <a:path w="2181" h="54">
                    <a:moveTo>
                      <a:pt x="0" y="0"/>
                    </a:moveTo>
                    <a:lnTo>
                      <a:pt x="493" y="0"/>
                    </a:lnTo>
                    <a:lnTo>
                      <a:pt x="502" y="54"/>
                    </a:lnTo>
                    <a:lnTo>
                      <a:pt x="50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822" y="0"/>
                    </a:moveTo>
                    <a:lnTo>
                      <a:pt x="2104" y="0"/>
                    </a:lnTo>
                    <a:lnTo>
                      <a:pt x="2095" y="54"/>
                    </a:lnTo>
                    <a:lnTo>
                      <a:pt x="1806" y="54"/>
                    </a:lnTo>
                    <a:lnTo>
                      <a:pt x="1822" y="0"/>
                    </a:lnTo>
                    <a:close/>
                    <a:moveTo>
                      <a:pt x="2153" y="0"/>
                    </a:moveTo>
                    <a:lnTo>
                      <a:pt x="2181" y="0"/>
                    </a:lnTo>
                    <a:lnTo>
                      <a:pt x="2174" y="7"/>
                    </a:lnTo>
                    <a:lnTo>
                      <a:pt x="2153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673440" y="4102920"/>
                <a:ext cx="802800" cy="19080"/>
              </a:xfrm>
              <a:custGeom>
                <a:avLst/>
                <a:gdLst/>
                <a:ahLst/>
                <a:rect l="l" t="t" r="r" b="b"/>
                <a:pathLst>
                  <a:path w="2089" h="53">
                    <a:moveTo>
                      <a:pt x="0" y="0"/>
                    </a:moveTo>
                    <a:lnTo>
                      <a:pt x="486" y="0"/>
                    </a:lnTo>
                    <a:lnTo>
                      <a:pt x="491" y="26"/>
                    </a:lnTo>
                    <a:lnTo>
                      <a:pt x="492" y="53"/>
                    </a:lnTo>
                    <a:lnTo>
                      <a:pt x="24" y="53"/>
                    </a:lnTo>
                    <a:lnTo>
                      <a:pt x="0" y="0"/>
                    </a:lnTo>
                    <a:close/>
                    <a:moveTo>
                      <a:pt x="1803" y="0"/>
                    </a:moveTo>
                    <a:lnTo>
                      <a:pt x="2089" y="0"/>
                    </a:lnTo>
                    <a:lnTo>
                      <a:pt x="2084" y="28"/>
                    </a:lnTo>
                    <a:lnTo>
                      <a:pt x="2080" y="53"/>
                    </a:lnTo>
                    <a:lnTo>
                      <a:pt x="1786" y="53"/>
                    </a:lnTo>
                    <a:lnTo>
                      <a:pt x="180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678840" y="4113360"/>
                <a:ext cx="795240" cy="19440"/>
              </a:xfrm>
              <a:custGeom>
                <a:avLst/>
                <a:gdLst/>
                <a:ahLst/>
                <a:rect l="l" t="t" r="r" b="b"/>
                <a:pathLst>
                  <a:path w="2072" h="55">
                    <a:moveTo>
                      <a:pt x="0" y="0"/>
                    </a:moveTo>
                    <a:lnTo>
                      <a:pt x="479" y="0"/>
                    </a:lnTo>
                    <a:lnTo>
                      <a:pt x="482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783" y="0"/>
                    </a:moveTo>
                    <a:lnTo>
                      <a:pt x="2072" y="0"/>
                    </a:lnTo>
                    <a:lnTo>
                      <a:pt x="2072" y="2"/>
                    </a:lnTo>
                    <a:lnTo>
                      <a:pt x="2064" y="55"/>
                    </a:lnTo>
                    <a:lnTo>
                      <a:pt x="1764" y="55"/>
                    </a:lnTo>
                    <a:lnTo>
                      <a:pt x="1774" y="29"/>
                    </a:lnTo>
                    <a:lnTo>
                      <a:pt x="178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682800" y="4122360"/>
                <a:ext cx="789480" cy="19440"/>
              </a:xfrm>
              <a:custGeom>
                <a:avLst/>
                <a:gdLst/>
                <a:ahLst/>
                <a:rect l="l" t="t" r="r" b="b"/>
                <a:pathLst>
                  <a:path w="2056" h="54">
                    <a:moveTo>
                      <a:pt x="0" y="0"/>
                    </a:moveTo>
                    <a:lnTo>
                      <a:pt x="468" y="0"/>
                    </a:lnTo>
                    <a:lnTo>
                      <a:pt x="47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762" y="0"/>
                    </a:moveTo>
                    <a:lnTo>
                      <a:pt x="2056" y="0"/>
                    </a:lnTo>
                    <a:lnTo>
                      <a:pt x="2048" y="54"/>
                    </a:lnTo>
                    <a:lnTo>
                      <a:pt x="1740" y="54"/>
                    </a:lnTo>
                    <a:lnTo>
                      <a:pt x="1762" y="2"/>
                    </a:lnTo>
                    <a:lnTo>
                      <a:pt x="1762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3686760" y="4133160"/>
                <a:ext cx="783720" cy="17640"/>
              </a:xfrm>
              <a:custGeom>
                <a:avLst/>
                <a:gdLst/>
                <a:ahLst/>
                <a:rect l="l" t="t" r="r" b="b"/>
                <a:pathLst>
                  <a:path w="2040" h="53">
                    <a:moveTo>
                      <a:pt x="0" y="0"/>
                    </a:moveTo>
                    <a:lnTo>
                      <a:pt x="458" y="0"/>
                    </a:lnTo>
                    <a:lnTo>
                      <a:pt x="461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740" y="0"/>
                    </a:moveTo>
                    <a:lnTo>
                      <a:pt x="2040" y="0"/>
                    </a:lnTo>
                    <a:lnTo>
                      <a:pt x="2031" y="53"/>
                    </a:lnTo>
                    <a:lnTo>
                      <a:pt x="1717" y="53"/>
                    </a:lnTo>
                    <a:lnTo>
                      <a:pt x="1740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3692520" y="4141800"/>
                <a:ext cx="777960" cy="19080"/>
              </a:xfrm>
              <a:custGeom>
                <a:avLst/>
                <a:gdLst/>
                <a:ahLst/>
                <a:rect l="l" t="t" r="r" b="b"/>
                <a:pathLst>
                  <a:path w="2025" h="55">
                    <a:moveTo>
                      <a:pt x="0" y="0"/>
                    </a:moveTo>
                    <a:lnTo>
                      <a:pt x="449" y="0"/>
                    </a:lnTo>
                    <a:lnTo>
                      <a:pt x="451" y="45"/>
                    </a:lnTo>
                    <a:lnTo>
                      <a:pt x="452" y="55"/>
                    </a:lnTo>
                    <a:lnTo>
                      <a:pt x="25" y="55"/>
                    </a:lnTo>
                    <a:lnTo>
                      <a:pt x="0" y="0"/>
                    </a:lnTo>
                    <a:close/>
                    <a:moveTo>
                      <a:pt x="1717" y="0"/>
                    </a:moveTo>
                    <a:lnTo>
                      <a:pt x="2025" y="0"/>
                    </a:lnTo>
                    <a:lnTo>
                      <a:pt x="2017" y="45"/>
                    </a:lnTo>
                    <a:lnTo>
                      <a:pt x="2016" y="55"/>
                    </a:lnTo>
                    <a:lnTo>
                      <a:pt x="1694" y="55"/>
                    </a:lnTo>
                    <a:lnTo>
                      <a:pt x="1717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3696480" y="4150800"/>
                <a:ext cx="771840" cy="19080"/>
              </a:xfrm>
              <a:custGeom>
                <a:avLst/>
                <a:gdLst/>
                <a:ahLst/>
                <a:rect l="l" t="t" r="r" b="b"/>
                <a:pathLst>
                  <a:path w="2008" h="54">
                    <a:moveTo>
                      <a:pt x="0" y="0"/>
                    </a:moveTo>
                    <a:lnTo>
                      <a:pt x="438" y="0"/>
                    </a:lnTo>
                    <a:lnTo>
                      <a:pt x="439" y="18"/>
                    </a:lnTo>
                    <a:lnTo>
                      <a:pt x="444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694" y="0"/>
                    </a:moveTo>
                    <a:lnTo>
                      <a:pt x="2008" y="0"/>
                    </a:lnTo>
                    <a:lnTo>
                      <a:pt x="2005" y="18"/>
                    </a:lnTo>
                    <a:lnTo>
                      <a:pt x="2002" y="54"/>
                    </a:lnTo>
                    <a:lnTo>
                      <a:pt x="1665" y="54"/>
                    </a:lnTo>
                    <a:lnTo>
                      <a:pt x="1678" y="38"/>
                    </a:lnTo>
                    <a:lnTo>
                      <a:pt x="1694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3702240" y="4161240"/>
                <a:ext cx="764640" cy="17640"/>
              </a:xfrm>
              <a:custGeom>
                <a:avLst/>
                <a:gdLst/>
                <a:ahLst/>
                <a:rect l="l" t="t" r="r" b="b"/>
                <a:pathLst>
                  <a:path w="1991" h="53">
                    <a:moveTo>
                      <a:pt x="0" y="0"/>
                    </a:moveTo>
                    <a:lnTo>
                      <a:pt x="427" y="0"/>
                    </a:lnTo>
                    <a:lnTo>
                      <a:pt x="435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669" y="0"/>
                    </a:moveTo>
                    <a:lnTo>
                      <a:pt x="1991" y="0"/>
                    </a:lnTo>
                    <a:lnTo>
                      <a:pt x="1987" y="53"/>
                    </a:lnTo>
                    <a:lnTo>
                      <a:pt x="1624" y="53"/>
                    </a:lnTo>
                    <a:lnTo>
                      <a:pt x="1635" y="48"/>
                    </a:lnTo>
                    <a:lnTo>
                      <a:pt x="1665" y="10"/>
                    </a:lnTo>
                    <a:lnTo>
                      <a:pt x="1669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705840" y="4169880"/>
                <a:ext cx="758520" cy="19440"/>
              </a:xfrm>
              <a:custGeom>
                <a:avLst/>
                <a:gdLst/>
                <a:ahLst/>
                <a:rect l="l" t="t" r="r" b="b"/>
                <a:pathLst>
                  <a:path w="1978" h="54">
                    <a:moveTo>
                      <a:pt x="0" y="0"/>
                    </a:moveTo>
                    <a:lnTo>
                      <a:pt x="420" y="0"/>
                    </a:lnTo>
                    <a:lnTo>
                      <a:pt x="427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641" y="0"/>
                    </a:moveTo>
                    <a:lnTo>
                      <a:pt x="1978" y="0"/>
                    </a:lnTo>
                    <a:lnTo>
                      <a:pt x="1974" y="54"/>
                    </a:lnTo>
                    <a:lnTo>
                      <a:pt x="1555" y="54"/>
                    </a:lnTo>
                    <a:lnTo>
                      <a:pt x="1567" y="51"/>
                    </a:lnTo>
                    <a:lnTo>
                      <a:pt x="1624" y="22"/>
                    </a:lnTo>
                    <a:lnTo>
                      <a:pt x="1641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709440" y="4178880"/>
                <a:ext cx="754920" cy="19440"/>
              </a:xfrm>
              <a:custGeom>
                <a:avLst/>
                <a:gdLst/>
                <a:ahLst/>
                <a:rect l="l" t="t" r="r" b="b"/>
                <a:pathLst>
                  <a:path w="1964" h="55">
                    <a:moveTo>
                      <a:pt x="0" y="0"/>
                    </a:moveTo>
                    <a:lnTo>
                      <a:pt x="412" y="0"/>
                    </a:lnTo>
                    <a:lnTo>
                      <a:pt x="420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601" y="0"/>
                    </a:moveTo>
                    <a:lnTo>
                      <a:pt x="1964" y="0"/>
                    </a:lnTo>
                    <a:lnTo>
                      <a:pt x="1961" y="36"/>
                    </a:lnTo>
                    <a:lnTo>
                      <a:pt x="1961" y="55"/>
                    </a:lnTo>
                    <a:lnTo>
                      <a:pt x="1442" y="55"/>
                    </a:lnTo>
                    <a:lnTo>
                      <a:pt x="1555" y="24"/>
                    </a:lnTo>
                    <a:lnTo>
                      <a:pt x="1601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3713400" y="4189680"/>
                <a:ext cx="750960" cy="19080"/>
              </a:xfrm>
              <a:custGeom>
                <a:avLst/>
                <a:gdLst/>
                <a:ahLst/>
                <a:rect l="l" t="t" r="r" b="b"/>
                <a:pathLst>
                  <a:path w="1951" h="54">
                    <a:moveTo>
                      <a:pt x="0" y="0"/>
                    </a:moveTo>
                    <a:lnTo>
                      <a:pt x="404" y="0"/>
                    </a:lnTo>
                    <a:lnTo>
                      <a:pt x="412" y="52"/>
                    </a:lnTo>
                    <a:lnTo>
                      <a:pt x="412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951" y="0"/>
                    </a:lnTo>
                    <a:lnTo>
                      <a:pt x="1950" y="9"/>
                    </a:lnTo>
                    <a:lnTo>
                      <a:pt x="1950" y="54"/>
                    </a:lnTo>
                    <a:lnTo>
                      <a:pt x="1306" y="54"/>
                    </a:lnTo>
                    <a:lnTo>
                      <a:pt x="1390" y="38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3719160" y="4198320"/>
                <a:ext cx="743400" cy="19080"/>
              </a:xfrm>
              <a:custGeom>
                <a:avLst/>
                <a:gdLst/>
                <a:ahLst/>
                <a:rect l="l" t="t" r="r" b="b"/>
                <a:pathLst>
                  <a:path w="1937" h="53">
                    <a:moveTo>
                      <a:pt x="0" y="0"/>
                    </a:moveTo>
                    <a:lnTo>
                      <a:pt x="396" y="0"/>
                    </a:lnTo>
                    <a:lnTo>
                      <a:pt x="399" y="24"/>
                    </a:lnTo>
                    <a:lnTo>
                      <a:pt x="406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418" y="0"/>
                    </a:moveTo>
                    <a:lnTo>
                      <a:pt x="1937" y="0"/>
                    </a:lnTo>
                    <a:lnTo>
                      <a:pt x="1937" y="53"/>
                    </a:lnTo>
                    <a:lnTo>
                      <a:pt x="1033" y="53"/>
                    </a:lnTo>
                    <a:lnTo>
                      <a:pt x="1046" y="48"/>
                    </a:lnTo>
                    <a:lnTo>
                      <a:pt x="1174" y="48"/>
                    </a:lnTo>
                    <a:lnTo>
                      <a:pt x="1189" y="48"/>
                    </a:lnTo>
                    <a:lnTo>
                      <a:pt x="1231" y="39"/>
                    </a:lnTo>
                    <a:lnTo>
                      <a:pt x="1377" y="10"/>
                    </a:lnTo>
                    <a:lnTo>
                      <a:pt x="1418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3723120" y="4208760"/>
                <a:ext cx="739800" cy="19440"/>
              </a:xfrm>
              <a:custGeom>
                <a:avLst/>
                <a:gdLst/>
                <a:ahLst/>
                <a:rect l="l" t="t" r="r" b="b"/>
                <a:pathLst>
                  <a:path w="1926" h="55">
                    <a:moveTo>
                      <a:pt x="0" y="0"/>
                    </a:moveTo>
                    <a:lnTo>
                      <a:pt x="388" y="0"/>
                    </a:lnTo>
                    <a:lnTo>
                      <a:pt x="401" y="55"/>
                    </a:lnTo>
                    <a:lnTo>
                      <a:pt x="20" y="55"/>
                    </a:lnTo>
                    <a:lnTo>
                      <a:pt x="13" y="29"/>
                    </a:lnTo>
                    <a:lnTo>
                      <a:pt x="0" y="0"/>
                    </a:lnTo>
                    <a:close/>
                    <a:moveTo>
                      <a:pt x="1282" y="0"/>
                    </a:moveTo>
                    <a:lnTo>
                      <a:pt x="1926" y="0"/>
                    </a:lnTo>
                    <a:lnTo>
                      <a:pt x="1926" y="55"/>
                    </a:lnTo>
                    <a:lnTo>
                      <a:pt x="978" y="55"/>
                    </a:lnTo>
                    <a:lnTo>
                      <a:pt x="976" y="49"/>
                    </a:lnTo>
                    <a:lnTo>
                      <a:pt x="987" y="42"/>
                    </a:lnTo>
                    <a:lnTo>
                      <a:pt x="1035" y="22"/>
                    </a:lnTo>
                    <a:lnTo>
                      <a:pt x="1163" y="22"/>
                    </a:lnTo>
                    <a:lnTo>
                      <a:pt x="1178" y="22"/>
                    </a:lnTo>
                    <a:lnTo>
                      <a:pt x="1220" y="13"/>
                    </a:lnTo>
                    <a:lnTo>
                      <a:pt x="1282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3729240" y="4217760"/>
                <a:ext cx="733680" cy="19440"/>
              </a:xfrm>
              <a:custGeom>
                <a:avLst/>
                <a:gdLst/>
                <a:ahLst/>
                <a:rect l="l" t="t" r="r" b="b"/>
                <a:pathLst>
                  <a:path w="1914" h="54">
                    <a:moveTo>
                      <a:pt x="0" y="0"/>
                    </a:moveTo>
                    <a:lnTo>
                      <a:pt x="383" y="0"/>
                    </a:lnTo>
                    <a:lnTo>
                      <a:pt x="396" y="51"/>
                    </a:lnTo>
                    <a:lnTo>
                      <a:pt x="397" y="54"/>
                    </a:lnTo>
                    <a:lnTo>
                      <a:pt x="18" y="54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  <a:moveTo>
                      <a:pt x="1010" y="0"/>
                    </a:moveTo>
                    <a:lnTo>
                      <a:pt x="1914" y="0"/>
                    </a:lnTo>
                    <a:lnTo>
                      <a:pt x="1914" y="54"/>
                    </a:lnTo>
                    <a:lnTo>
                      <a:pt x="984" y="54"/>
                    </a:lnTo>
                    <a:lnTo>
                      <a:pt x="975" y="45"/>
                    </a:lnTo>
                    <a:lnTo>
                      <a:pt x="964" y="22"/>
                    </a:lnTo>
                    <a:lnTo>
                      <a:pt x="975" y="15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3730680" y="4228560"/>
                <a:ext cx="731880" cy="17640"/>
              </a:xfrm>
              <a:custGeom>
                <a:avLst/>
                <a:gdLst/>
                <a:ahLst/>
                <a:rect l="l" t="t" r="r" b="b"/>
                <a:pathLst>
                  <a:path w="1906" h="53">
                    <a:moveTo>
                      <a:pt x="0" y="0"/>
                    </a:moveTo>
                    <a:lnTo>
                      <a:pt x="381" y="0"/>
                    </a:lnTo>
                    <a:lnTo>
                      <a:pt x="388" y="23"/>
                    </a:lnTo>
                    <a:lnTo>
                      <a:pt x="397" y="53"/>
                    </a:lnTo>
                    <a:lnTo>
                      <a:pt x="18" y="53"/>
                    </a:lnTo>
                    <a:lnTo>
                      <a:pt x="0" y="0"/>
                    </a:lnTo>
                    <a:close/>
                    <a:moveTo>
                      <a:pt x="958" y="0"/>
                    </a:moveTo>
                    <a:lnTo>
                      <a:pt x="1906" y="0"/>
                    </a:lnTo>
                    <a:lnTo>
                      <a:pt x="1906" y="53"/>
                    </a:lnTo>
                    <a:lnTo>
                      <a:pt x="1000" y="53"/>
                    </a:lnTo>
                    <a:lnTo>
                      <a:pt x="967" y="17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3734640" y="4237560"/>
                <a:ext cx="727920" cy="19080"/>
              </a:xfrm>
              <a:custGeom>
                <a:avLst/>
                <a:gdLst/>
                <a:ahLst/>
                <a:rect l="l" t="t" r="r" b="b"/>
                <a:pathLst>
                  <a:path w="1896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6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966" y="0"/>
                    </a:moveTo>
                    <a:lnTo>
                      <a:pt x="1896" y="0"/>
                    </a:lnTo>
                    <a:lnTo>
                      <a:pt x="1896" y="47"/>
                    </a:lnTo>
                    <a:lnTo>
                      <a:pt x="1896" y="55"/>
                    </a:lnTo>
                    <a:lnTo>
                      <a:pt x="1021" y="55"/>
                    </a:lnTo>
                    <a:lnTo>
                      <a:pt x="997" y="36"/>
                    </a:lnTo>
                    <a:lnTo>
                      <a:pt x="966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738600" y="4246200"/>
                <a:ext cx="723960" cy="19080"/>
              </a:xfrm>
              <a:custGeom>
                <a:avLst/>
                <a:gdLst/>
                <a:ahLst/>
                <a:rect l="l" t="t" r="r" b="b"/>
                <a:pathLst>
                  <a:path w="188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982" y="0"/>
                    </a:moveTo>
                    <a:lnTo>
                      <a:pt x="1888" y="0"/>
                    </a:lnTo>
                    <a:lnTo>
                      <a:pt x="1888" y="20"/>
                    </a:lnTo>
                    <a:lnTo>
                      <a:pt x="1886" y="54"/>
                    </a:lnTo>
                    <a:lnTo>
                      <a:pt x="1048" y="54"/>
                    </a:lnTo>
                    <a:lnTo>
                      <a:pt x="989" y="9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3742200" y="4256640"/>
                <a:ext cx="720360" cy="17640"/>
              </a:xfrm>
              <a:custGeom>
                <a:avLst/>
                <a:gdLst/>
                <a:ahLst/>
                <a:rect l="l" t="t" r="r" b="b"/>
                <a:pathLst>
                  <a:path w="1879" h="53">
                    <a:moveTo>
                      <a:pt x="0" y="0"/>
                    </a:moveTo>
                    <a:lnTo>
                      <a:pt x="379" y="0"/>
                    </a:lnTo>
                    <a:lnTo>
                      <a:pt x="392" y="40"/>
                    </a:lnTo>
                    <a:lnTo>
                      <a:pt x="395" y="53"/>
                    </a:lnTo>
                    <a:lnTo>
                      <a:pt x="16" y="53"/>
                    </a:lnTo>
                    <a:lnTo>
                      <a:pt x="0" y="0"/>
                    </a:lnTo>
                    <a:close/>
                    <a:moveTo>
                      <a:pt x="1004" y="0"/>
                    </a:moveTo>
                    <a:lnTo>
                      <a:pt x="1879" y="0"/>
                    </a:lnTo>
                    <a:lnTo>
                      <a:pt x="1875" y="53"/>
                    </a:lnTo>
                    <a:lnTo>
                      <a:pt x="1080" y="53"/>
                    </a:lnTo>
                    <a:lnTo>
                      <a:pt x="1057" y="40"/>
                    </a:lnTo>
                    <a:lnTo>
                      <a:pt x="1004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3744360" y="4265640"/>
                <a:ext cx="718200" cy="19440"/>
              </a:xfrm>
              <a:custGeom>
                <a:avLst/>
                <a:gdLst/>
                <a:ahLst/>
                <a:rect l="l" t="t" r="r" b="b"/>
                <a:pathLst>
                  <a:path w="1869" h="54">
                    <a:moveTo>
                      <a:pt x="0" y="0"/>
                    </a:moveTo>
                    <a:lnTo>
                      <a:pt x="380" y="0"/>
                    </a:lnTo>
                    <a:lnTo>
                      <a:pt x="384" y="14"/>
                    </a:lnTo>
                    <a:lnTo>
                      <a:pt x="396" y="54"/>
                    </a:lnTo>
                    <a:lnTo>
                      <a:pt x="17" y="54"/>
                    </a:lnTo>
                    <a:lnTo>
                      <a:pt x="14" y="42"/>
                    </a:lnTo>
                    <a:lnTo>
                      <a:pt x="0" y="0"/>
                    </a:lnTo>
                    <a:close/>
                    <a:moveTo>
                      <a:pt x="1031" y="0"/>
                    </a:moveTo>
                    <a:lnTo>
                      <a:pt x="1869" y="0"/>
                    </a:lnTo>
                    <a:lnTo>
                      <a:pt x="1865" y="54"/>
                    </a:lnTo>
                    <a:lnTo>
                      <a:pt x="1446" y="54"/>
                    </a:lnTo>
                    <a:lnTo>
                      <a:pt x="1444" y="53"/>
                    </a:lnTo>
                    <a:lnTo>
                      <a:pt x="1386" y="42"/>
                    </a:lnTo>
                    <a:lnTo>
                      <a:pt x="1339" y="53"/>
                    </a:lnTo>
                    <a:lnTo>
                      <a:pt x="1336" y="54"/>
                    </a:lnTo>
                    <a:lnTo>
                      <a:pt x="1119" y="54"/>
                    </a:lnTo>
                    <a:lnTo>
                      <a:pt x="1049" y="14"/>
                    </a:lnTo>
                    <a:lnTo>
                      <a:pt x="1031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3748320" y="4274280"/>
                <a:ext cx="714240" cy="19440"/>
              </a:xfrm>
              <a:custGeom>
                <a:avLst/>
                <a:gdLst/>
                <a:ahLst/>
                <a:rect l="l" t="t" r="r" b="b"/>
                <a:pathLst>
                  <a:path w="1859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5" y="55"/>
                    </a:lnTo>
                    <a:lnTo>
                      <a:pt x="15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1064" y="0"/>
                    </a:moveTo>
                    <a:lnTo>
                      <a:pt x="1859" y="0"/>
                    </a:lnTo>
                    <a:lnTo>
                      <a:pt x="1855" y="55"/>
                    </a:lnTo>
                    <a:lnTo>
                      <a:pt x="1511" y="55"/>
                    </a:lnTo>
                    <a:lnTo>
                      <a:pt x="1494" y="44"/>
                    </a:lnTo>
                    <a:lnTo>
                      <a:pt x="1436" y="26"/>
                    </a:lnTo>
                    <a:lnTo>
                      <a:pt x="1378" y="15"/>
                    </a:lnTo>
                    <a:lnTo>
                      <a:pt x="1331" y="26"/>
                    </a:lnTo>
                    <a:lnTo>
                      <a:pt x="1261" y="44"/>
                    </a:lnTo>
                    <a:lnTo>
                      <a:pt x="1213" y="55"/>
                    </a:lnTo>
                    <a:lnTo>
                      <a:pt x="1162" y="55"/>
                    </a:lnTo>
                    <a:lnTo>
                      <a:pt x="1128" y="36"/>
                    </a:lnTo>
                    <a:lnTo>
                      <a:pt x="1064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3751560" y="4285080"/>
                <a:ext cx="709200" cy="19080"/>
              </a:xfrm>
              <a:custGeom>
                <a:avLst/>
                <a:gdLst/>
                <a:ahLst/>
                <a:rect l="l" t="t" r="r" b="b"/>
                <a:pathLst>
                  <a:path w="184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102" y="0"/>
                    </a:moveTo>
                    <a:lnTo>
                      <a:pt x="1319" y="0"/>
                    </a:lnTo>
                    <a:lnTo>
                      <a:pt x="1252" y="17"/>
                    </a:lnTo>
                    <a:lnTo>
                      <a:pt x="1196" y="29"/>
                    </a:lnTo>
                    <a:lnTo>
                      <a:pt x="1156" y="29"/>
                    </a:lnTo>
                    <a:lnTo>
                      <a:pt x="1119" y="9"/>
                    </a:lnTo>
                    <a:lnTo>
                      <a:pt x="1102" y="0"/>
                    </a:lnTo>
                    <a:close/>
                    <a:moveTo>
                      <a:pt x="1429" y="0"/>
                    </a:moveTo>
                    <a:lnTo>
                      <a:pt x="1848" y="0"/>
                    </a:lnTo>
                    <a:lnTo>
                      <a:pt x="1845" y="37"/>
                    </a:lnTo>
                    <a:lnTo>
                      <a:pt x="1837" y="54"/>
                    </a:lnTo>
                    <a:lnTo>
                      <a:pt x="1544" y="54"/>
                    </a:lnTo>
                    <a:lnTo>
                      <a:pt x="1535" y="47"/>
                    </a:lnTo>
                    <a:lnTo>
                      <a:pt x="1485" y="17"/>
                    </a:lnTo>
                    <a:lnTo>
                      <a:pt x="1429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3754080" y="4294080"/>
                <a:ext cx="707040" cy="19080"/>
              </a:xfrm>
              <a:custGeom>
                <a:avLst/>
                <a:gdLst/>
                <a:ahLst/>
                <a:rect l="l" t="t" r="r" b="b"/>
                <a:pathLst>
                  <a:path w="1840" h="53">
                    <a:moveTo>
                      <a:pt x="0" y="0"/>
                    </a:moveTo>
                    <a:lnTo>
                      <a:pt x="380" y="0"/>
                    </a:lnTo>
                    <a:lnTo>
                      <a:pt x="389" y="30"/>
                    </a:lnTo>
                    <a:lnTo>
                      <a:pt x="397" y="53"/>
                    </a:lnTo>
                    <a:lnTo>
                      <a:pt x="13" y="53"/>
                    </a:lnTo>
                    <a:lnTo>
                      <a:pt x="0" y="0"/>
                    </a:lnTo>
                    <a:close/>
                    <a:moveTo>
                      <a:pt x="1147" y="0"/>
                    </a:moveTo>
                    <a:lnTo>
                      <a:pt x="1198" y="0"/>
                    </a:lnTo>
                    <a:lnTo>
                      <a:pt x="1190" y="1"/>
                    </a:lnTo>
                    <a:lnTo>
                      <a:pt x="1150" y="1"/>
                    </a:lnTo>
                    <a:lnTo>
                      <a:pt x="1147" y="0"/>
                    </a:lnTo>
                    <a:close/>
                    <a:moveTo>
                      <a:pt x="1496" y="0"/>
                    </a:moveTo>
                    <a:lnTo>
                      <a:pt x="1840" y="0"/>
                    </a:lnTo>
                    <a:lnTo>
                      <a:pt x="1839" y="9"/>
                    </a:lnTo>
                    <a:lnTo>
                      <a:pt x="1821" y="53"/>
                    </a:lnTo>
                    <a:lnTo>
                      <a:pt x="1572" y="53"/>
                    </a:lnTo>
                    <a:lnTo>
                      <a:pt x="1529" y="19"/>
                    </a:lnTo>
                    <a:lnTo>
                      <a:pt x="1496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3755520" y="4304520"/>
                <a:ext cx="701280" cy="19440"/>
              </a:xfrm>
              <a:custGeom>
                <a:avLst/>
                <a:gdLst/>
                <a:ahLst/>
                <a:rect l="l" t="t" r="r" b="b"/>
                <a:pathLst>
                  <a:path w="1825" h="55">
                    <a:moveTo>
                      <a:pt x="0" y="0"/>
                    </a:moveTo>
                    <a:lnTo>
                      <a:pt x="382" y="0"/>
                    </a:lnTo>
                    <a:lnTo>
                      <a:pt x="383" y="4"/>
                    </a:lnTo>
                    <a:lnTo>
                      <a:pt x="401" y="55"/>
                    </a:lnTo>
                    <a:lnTo>
                      <a:pt x="13" y="55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825" y="0"/>
                    </a:lnTo>
                    <a:lnTo>
                      <a:pt x="1813" y="33"/>
                    </a:lnTo>
                    <a:lnTo>
                      <a:pt x="1795" y="55"/>
                    </a:lnTo>
                    <a:lnTo>
                      <a:pt x="1593" y="55"/>
                    </a:lnTo>
                    <a:lnTo>
                      <a:pt x="1572" y="33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3757680" y="4313160"/>
                <a:ext cx="695160" cy="19440"/>
              </a:xfrm>
              <a:custGeom>
                <a:avLst/>
                <a:gdLst/>
                <a:ahLst/>
                <a:rect l="l" t="t" r="r" b="b"/>
                <a:pathLst>
                  <a:path w="1808" h="54">
                    <a:moveTo>
                      <a:pt x="0" y="0"/>
                    </a:moveTo>
                    <a:lnTo>
                      <a:pt x="384" y="0"/>
                    </a:lnTo>
                    <a:lnTo>
                      <a:pt x="403" y="53"/>
                    </a:lnTo>
                    <a:lnTo>
                      <a:pt x="40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559" y="0"/>
                    </a:moveTo>
                    <a:lnTo>
                      <a:pt x="1808" y="0"/>
                    </a:lnTo>
                    <a:lnTo>
                      <a:pt x="1806" y="6"/>
                    </a:lnTo>
                    <a:lnTo>
                      <a:pt x="1768" y="53"/>
                    </a:lnTo>
                    <a:lnTo>
                      <a:pt x="1766" y="54"/>
                    </a:lnTo>
                    <a:lnTo>
                      <a:pt x="1625" y="54"/>
                    </a:lnTo>
                    <a:lnTo>
                      <a:pt x="1603" y="45"/>
                    </a:lnTo>
                    <a:lnTo>
                      <a:pt x="1565" y="6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3761640" y="4323960"/>
                <a:ext cx="683280" cy="17640"/>
              </a:xfrm>
              <a:custGeom>
                <a:avLst/>
                <a:gdLst/>
                <a:ahLst/>
                <a:rect l="l" t="t" r="r" b="b"/>
                <a:pathLst>
                  <a:path w="1782" h="53">
                    <a:moveTo>
                      <a:pt x="0" y="0"/>
                    </a:moveTo>
                    <a:lnTo>
                      <a:pt x="388" y="0"/>
                    </a:lnTo>
                    <a:lnTo>
                      <a:pt x="397" y="25"/>
                    </a:lnTo>
                    <a:lnTo>
                      <a:pt x="413" y="53"/>
                    </a:lnTo>
                    <a:lnTo>
                      <a:pt x="4" y="53"/>
                    </a:lnTo>
                    <a:lnTo>
                      <a:pt x="10" y="45"/>
                    </a:lnTo>
                    <a:lnTo>
                      <a:pt x="0" y="0"/>
                    </a:lnTo>
                    <a:close/>
                    <a:moveTo>
                      <a:pt x="1580" y="0"/>
                    </a:moveTo>
                    <a:lnTo>
                      <a:pt x="1782" y="0"/>
                    </a:lnTo>
                    <a:lnTo>
                      <a:pt x="1762" y="25"/>
                    </a:lnTo>
                    <a:lnTo>
                      <a:pt x="1722" y="53"/>
                    </a:lnTo>
                    <a:lnTo>
                      <a:pt x="1681" y="53"/>
                    </a:lnTo>
                    <a:lnTo>
                      <a:pt x="1597" y="17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3754080" y="4332960"/>
                <a:ext cx="684000" cy="19080"/>
              </a:xfrm>
              <a:custGeom>
                <a:avLst/>
                <a:gdLst/>
                <a:ahLst/>
                <a:rect l="l" t="t" r="r" b="b"/>
                <a:pathLst>
                  <a:path w="1777" h="55">
                    <a:moveTo>
                      <a:pt x="23" y="0"/>
                    </a:moveTo>
                    <a:lnTo>
                      <a:pt x="415" y="0"/>
                    </a:lnTo>
                    <a:lnTo>
                      <a:pt x="444" y="55"/>
                    </a:lnTo>
                    <a:lnTo>
                      <a:pt x="0" y="55"/>
                    </a:lnTo>
                    <a:lnTo>
                      <a:pt x="8" y="46"/>
                    </a:lnTo>
                    <a:lnTo>
                      <a:pt x="27" y="19"/>
                    </a:lnTo>
                    <a:lnTo>
                      <a:pt x="23" y="0"/>
                    </a:lnTo>
                    <a:close/>
                    <a:moveTo>
                      <a:pt x="1636" y="0"/>
                    </a:moveTo>
                    <a:lnTo>
                      <a:pt x="1777" y="0"/>
                    </a:lnTo>
                    <a:lnTo>
                      <a:pt x="1738" y="28"/>
                    </a:lnTo>
                    <a:lnTo>
                      <a:pt x="1700" y="28"/>
                    </a:lnTo>
                    <a:lnTo>
                      <a:pt x="1636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3744360" y="4341960"/>
                <a:ext cx="677880" cy="19440"/>
              </a:xfrm>
              <a:custGeom>
                <a:avLst/>
                <a:gdLst/>
                <a:ahLst/>
                <a:rect l="l" t="t" r="r" b="b"/>
                <a:pathLst>
                  <a:path w="1766" h="54">
                    <a:moveTo>
                      <a:pt x="48" y="0"/>
                    </a:moveTo>
                    <a:lnTo>
                      <a:pt x="457" y="0"/>
                    </a:lnTo>
                    <a:lnTo>
                      <a:pt x="485" y="54"/>
                    </a:lnTo>
                    <a:lnTo>
                      <a:pt x="0" y="54"/>
                    </a:lnTo>
                    <a:lnTo>
                      <a:pt x="35" y="19"/>
                    </a:lnTo>
                    <a:lnTo>
                      <a:pt x="48" y="0"/>
                    </a:lnTo>
                    <a:close/>
                    <a:moveTo>
                      <a:pt x="1725" y="0"/>
                    </a:moveTo>
                    <a:lnTo>
                      <a:pt x="1766" y="0"/>
                    </a:lnTo>
                    <a:lnTo>
                      <a:pt x="1765" y="1"/>
                    </a:lnTo>
                    <a:lnTo>
                      <a:pt x="1727" y="1"/>
                    </a:lnTo>
                    <a:lnTo>
                      <a:pt x="1725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727080" y="4352400"/>
                <a:ext cx="209520" cy="18000"/>
              </a:xfrm>
              <a:custGeom>
                <a:avLst/>
                <a:gdLst/>
                <a:ahLst/>
                <a:rect l="l" t="t" r="r" b="b"/>
                <a:pathLst>
                  <a:path w="543" h="53">
                    <a:moveTo>
                      <a:pt x="70" y="0"/>
                    </a:moveTo>
                    <a:lnTo>
                      <a:pt x="514" y="0"/>
                    </a:lnTo>
                    <a:lnTo>
                      <a:pt x="543" y="53"/>
                    </a:lnTo>
                    <a:lnTo>
                      <a:pt x="0" y="53"/>
                    </a:lnTo>
                    <a:lnTo>
                      <a:pt x="39" y="3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709440" y="4361400"/>
                <a:ext cx="232560" cy="19080"/>
              </a:xfrm>
              <a:custGeom>
                <a:avLst/>
                <a:gdLst/>
                <a:ahLst/>
                <a:rect l="l" t="t" r="r" b="b"/>
                <a:pathLst>
                  <a:path w="603" h="55">
                    <a:moveTo>
                      <a:pt x="89" y="0"/>
                    </a:moveTo>
                    <a:lnTo>
                      <a:pt x="574" y="0"/>
                    </a:lnTo>
                    <a:lnTo>
                      <a:pt x="597" y="44"/>
                    </a:lnTo>
                    <a:lnTo>
                      <a:pt x="603" y="55"/>
                    </a:lnTo>
                    <a:lnTo>
                      <a:pt x="0" y="55"/>
                    </a:lnTo>
                    <a:lnTo>
                      <a:pt x="85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692520" y="4370400"/>
                <a:ext cx="255240" cy="19080"/>
              </a:xfrm>
              <a:custGeom>
                <a:avLst/>
                <a:gdLst/>
                <a:ahLst/>
                <a:rect l="l" t="t" r="r" b="b"/>
                <a:pathLst>
                  <a:path w="663" h="54">
                    <a:moveTo>
                      <a:pt x="91" y="0"/>
                    </a:moveTo>
                    <a:lnTo>
                      <a:pt x="634" y="0"/>
                    </a:lnTo>
                    <a:lnTo>
                      <a:pt x="642" y="17"/>
                    </a:lnTo>
                    <a:lnTo>
                      <a:pt x="663" y="54"/>
                    </a:lnTo>
                    <a:lnTo>
                      <a:pt x="0" y="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674880" y="4380840"/>
                <a:ext cx="276480" cy="19440"/>
              </a:xfrm>
              <a:custGeom>
                <a:avLst/>
                <a:gdLst/>
                <a:ahLst/>
                <a:rect l="l" t="t" r="r" b="b"/>
                <a:pathLst>
                  <a:path w="724" h="53">
                    <a:moveTo>
                      <a:pt x="92" y="0"/>
                    </a:moveTo>
                    <a:lnTo>
                      <a:pt x="695" y="0"/>
                    </a:lnTo>
                    <a:lnTo>
                      <a:pt x="724" y="53"/>
                    </a:lnTo>
                    <a:lnTo>
                      <a:pt x="0" y="53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655800" y="4389480"/>
                <a:ext cx="301320" cy="19440"/>
              </a:xfrm>
              <a:custGeom>
                <a:avLst/>
                <a:gdLst/>
                <a:ahLst/>
                <a:rect l="l" t="t" r="r" b="b"/>
                <a:pathLst>
                  <a:path w="784" h="54">
                    <a:moveTo>
                      <a:pt x="93" y="0"/>
                    </a:moveTo>
                    <a:lnTo>
                      <a:pt x="756" y="0"/>
                    </a:lnTo>
                    <a:lnTo>
                      <a:pt x="784" y="54"/>
                    </a:lnTo>
                    <a:lnTo>
                      <a:pt x="0" y="5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638520" y="4400280"/>
                <a:ext cx="322560" cy="19080"/>
              </a:xfrm>
              <a:custGeom>
                <a:avLst/>
                <a:gdLst/>
                <a:ahLst/>
                <a:rect l="l" t="t" r="r" b="b"/>
                <a:pathLst>
                  <a:path w="836" h="55">
                    <a:moveTo>
                      <a:pt x="91" y="0"/>
                    </a:moveTo>
                    <a:lnTo>
                      <a:pt x="815" y="0"/>
                    </a:lnTo>
                    <a:lnTo>
                      <a:pt x="832" y="31"/>
                    </a:lnTo>
                    <a:lnTo>
                      <a:pt x="836" y="55"/>
                    </a:lnTo>
                    <a:lnTo>
                      <a:pt x="0" y="5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3617640" y="4409280"/>
                <a:ext cx="343440" cy="19080"/>
              </a:xfrm>
              <a:custGeom>
                <a:avLst/>
                <a:gdLst/>
                <a:ahLst/>
                <a:rect l="l" t="t" r="r" b="b"/>
                <a:pathLst>
                  <a:path w="899" h="54">
                    <a:moveTo>
                      <a:pt x="104" y="0"/>
                    </a:moveTo>
                    <a:lnTo>
                      <a:pt x="888" y="0"/>
                    </a:lnTo>
                    <a:lnTo>
                      <a:pt x="891" y="4"/>
                    </a:lnTo>
                    <a:lnTo>
                      <a:pt x="899" y="54"/>
                    </a:lnTo>
                    <a:lnTo>
                      <a:pt x="0" y="54"/>
                    </a:lnTo>
                    <a:lnTo>
                      <a:pt x="19" y="43"/>
                    </a:lnTo>
                    <a:lnTo>
                      <a:pt x="58" y="28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3569760" y="4419720"/>
                <a:ext cx="391680" cy="17640"/>
              </a:xfrm>
              <a:custGeom>
                <a:avLst/>
                <a:gdLst/>
                <a:ahLst/>
                <a:rect l="l" t="t" r="r" b="b"/>
                <a:pathLst>
                  <a:path w="1021" h="53">
                    <a:moveTo>
                      <a:pt x="181" y="0"/>
                    </a:moveTo>
                    <a:lnTo>
                      <a:pt x="1017" y="0"/>
                    </a:lnTo>
                    <a:lnTo>
                      <a:pt x="1021" y="27"/>
                    </a:lnTo>
                    <a:lnTo>
                      <a:pt x="1016" y="53"/>
                    </a:lnTo>
                    <a:lnTo>
                      <a:pt x="0" y="53"/>
                    </a:lnTo>
                    <a:lnTo>
                      <a:pt x="70" y="34"/>
                    </a:lnTo>
                    <a:lnTo>
                      <a:pt x="114" y="27"/>
                    </a:lnTo>
                    <a:lnTo>
                      <a:pt x="121" y="27"/>
                    </a:lnTo>
                    <a:lnTo>
                      <a:pt x="141" y="15"/>
                    </a:lnTo>
                    <a:lnTo>
                      <a:pt x="180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3559680" y="4428360"/>
                <a:ext cx="401400" cy="19440"/>
              </a:xfrm>
              <a:custGeom>
                <a:avLst/>
                <a:gdLst/>
                <a:ahLst/>
                <a:rect l="l" t="t" r="r" b="b"/>
                <a:pathLst>
                  <a:path w="1046" h="55">
                    <a:moveTo>
                      <a:pt x="147" y="0"/>
                    </a:moveTo>
                    <a:lnTo>
                      <a:pt x="1046" y="0"/>
                    </a:lnTo>
                    <a:lnTo>
                      <a:pt x="1046" y="1"/>
                    </a:lnTo>
                    <a:lnTo>
                      <a:pt x="1038" y="48"/>
                    </a:lnTo>
                    <a:lnTo>
                      <a:pt x="1034" y="55"/>
                    </a:lnTo>
                    <a:lnTo>
                      <a:pt x="0" y="55"/>
                    </a:lnTo>
                    <a:lnTo>
                      <a:pt x="0" y="37"/>
                    </a:lnTo>
                    <a:lnTo>
                      <a:pt x="20" y="28"/>
                    </a:lnTo>
                    <a:lnTo>
                      <a:pt x="95" y="8"/>
                    </a:lnTo>
                    <a:lnTo>
                      <a:pt x="139" y="1"/>
                    </a:lnTo>
                    <a:lnTo>
                      <a:pt x="146" y="1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3559680" y="4437360"/>
                <a:ext cx="399960" cy="19440"/>
              </a:xfrm>
              <a:custGeom>
                <a:avLst/>
                <a:gdLst/>
                <a:ahLst/>
                <a:rect l="l" t="t" r="r" b="b"/>
                <a:pathLst>
                  <a:path w="1041" h="54">
                    <a:moveTo>
                      <a:pt x="25" y="0"/>
                    </a:moveTo>
                    <a:lnTo>
                      <a:pt x="1041" y="0"/>
                    </a:lnTo>
                    <a:lnTo>
                      <a:pt x="1038" y="21"/>
                    </a:lnTo>
                    <a:lnTo>
                      <a:pt x="1021" y="54"/>
                    </a:lnTo>
                    <a:lnTo>
                      <a:pt x="8" y="54"/>
                    </a:lnTo>
                    <a:lnTo>
                      <a:pt x="0" y="49"/>
                    </a:lnTo>
                    <a:lnTo>
                      <a:pt x="0" y="10"/>
                    </a:lnTo>
                    <a:lnTo>
                      <a:pt x="20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3559680" y="4448160"/>
                <a:ext cx="397440" cy="17640"/>
              </a:xfrm>
              <a:custGeom>
                <a:avLst/>
                <a:gdLst/>
                <a:ahLst/>
                <a:rect l="l" t="t" r="r" b="b"/>
                <a:pathLst>
                  <a:path w="1034" h="53">
                    <a:moveTo>
                      <a:pt x="0" y="0"/>
                    </a:moveTo>
                    <a:lnTo>
                      <a:pt x="1034" y="0"/>
                    </a:lnTo>
                    <a:lnTo>
                      <a:pt x="1018" y="33"/>
                    </a:lnTo>
                    <a:lnTo>
                      <a:pt x="1001" y="53"/>
                    </a:lnTo>
                    <a:lnTo>
                      <a:pt x="47" y="53"/>
                    </a:lnTo>
                    <a:lnTo>
                      <a:pt x="40" y="49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3563640" y="4457160"/>
                <a:ext cx="388080" cy="19080"/>
              </a:xfrm>
              <a:custGeom>
                <a:avLst/>
                <a:gdLst/>
                <a:ahLst/>
                <a:rect l="l" t="t" r="r" b="b"/>
                <a:pathLst>
                  <a:path w="1013" h="55">
                    <a:moveTo>
                      <a:pt x="0" y="0"/>
                    </a:moveTo>
                    <a:lnTo>
                      <a:pt x="1013" y="0"/>
                    </a:lnTo>
                    <a:lnTo>
                      <a:pt x="1010" y="7"/>
                    </a:lnTo>
                    <a:lnTo>
                      <a:pt x="986" y="35"/>
                    </a:lnTo>
                    <a:lnTo>
                      <a:pt x="923" y="55"/>
                    </a:lnTo>
                    <a:lnTo>
                      <a:pt x="813" y="46"/>
                    </a:lnTo>
                    <a:lnTo>
                      <a:pt x="659" y="35"/>
                    </a:lnTo>
                    <a:lnTo>
                      <a:pt x="505" y="35"/>
                    </a:lnTo>
                    <a:lnTo>
                      <a:pt x="363" y="46"/>
                    </a:lnTo>
                    <a:lnTo>
                      <a:pt x="245" y="55"/>
                    </a:lnTo>
                    <a:lnTo>
                      <a:pt x="118" y="55"/>
                    </a:lnTo>
                    <a:lnTo>
                      <a:pt x="71" y="46"/>
                    </a:lnTo>
                    <a:lnTo>
                      <a:pt x="32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579120" y="4465800"/>
                <a:ext cx="364680" cy="10080"/>
              </a:xfrm>
              <a:custGeom>
                <a:avLst/>
                <a:gdLst/>
                <a:ahLst/>
                <a:rect l="l" t="t" r="r" b="b"/>
                <a:pathLst>
                  <a:path w="954" h="28">
                    <a:moveTo>
                      <a:pt x="0" y="0"/>
                    </a:moveTo>
                    <a:lnTo>
                      <a:pt x="954" y="0"/>
                    </a:lnTo>
                    <a:lnTo>
                      <a:pt x="947" y="8"/>
                    </a:lnTo>
                    <a:lnTo>
                      <a:pt x="884" y="28"/>
                    </a:lnTo>
                    <a:lnTo>
                      <a:pt x="774" y="19"/>
                    </a:lnTo>
                    <a:lnTo>
                      <a:pt x="620" y="8"/>
                    </a:lnTo>
                    <a:lnTo>
                      <a:pt x="466" y="8"/>
                    </a:lnTo>
                    <a:lnTo>
                      <a:pt x="324" y="19"/>
                    </a:lnTo>
                    <a:lnTo>
                      <a:pt x="206" y="28"/>
                    </a:lnTo>
                    <a:lnTo>
                      <a:pt x="79" y="28"/>
                    </a:lnTo>
                    <a:lnTo>
                      <a:pt x="3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3260160" y="2028240"/>
                <a:ext cx="2610360" cy="2448000"/>
              </a:xfrm>
              <a:custGeom>
                <a:avLst/>
                <a:gdLst/>
                <a:ahLst/>
                <a:rect l="l" t="t" r="r" b="b"/>
                <a:pathLst>
                  <a:path w="6796" h="6913">
                    <a:moveTo>
                      <a:pt x="1066" y="360"/>
                    </a:moveTo>
                    <a:lnTo>
                      <a:pt x="1053" y="376"/>
                    </a:lnTo>
                    <a:lnTo>
                      <a:pt x="1022" y="420"/>
                    </a:lnTo>
                    <a:lnTo>
                      <a:pt x="954" y="522"/>
                    </a:lnTo>
                    <a:lnTo>
                      <a:pt x="947" y="561"/>
                    </a:lnTo>
                    <a:lnTo>
                      <a:pt x="947" y="581"/>
                    </a:lnTo>
                    <a:lnTo>
                      <a:pt x="954" y="600"/>
                    </a:lnTo>
                    <a:lnTo>
                      <a:pt x="936" y="620"/>
                    </a:lnTo>
                    <a:lnTo>
                      <a:pt x="900" y="652"/>
                    </a:lnTo>
                    <a:lnTo>
                      <a:pt x="860" y="696"/>
                    </a:lnTo>
                    <a:lnTo>
                      <a:pt x="833" y="727"/>
                    </a:lnTo>
                    <a:lnTo>
                      <a:pt x="833" y="755"/>
                    </a:lnTo>
                    <a:lnTo>
                      <a:pt x="848" y="775"/>
                    </a:lnTo>
                    <a:lnTo>
                      <a:pt x="876" y="795"/>
                    </a:lnTo>
                    <a:lnTo>
                      <a:pt x="887" y="795"/>
                    </a:lnTo>
                    <a:lnTo>
                      <a:pt x="876" y="826"/>
                    </a:lnTo>
                    <a:lnTo>
                      <a:pt x="876" y="881"/>
                    </a:lnTo>
                    <a:lnTo>
                      <a:pt x="887" y="901"/>
                    </a:lnTo>
                    <a:lnTo>
                      <a:pt x="907" y="912"/>
                    </a:lnTo>
                    <a:lnTo>
                      <a:pt x="936" y="928"/>
                    </a:lnTo>
                    <a:lnTo>
                      <a:pt x="876" y="948"/>
                    </a:lnTo>
                    <a:lnTo>
                      <a:pt x="868" y="1000"/>
                    </a:lnTo>
                    <a:lnTo>
                      <a:pt x="876" y="1015"/>
                    </a:lnTo>
                    <a:lnTo>
                      <a:pt x="868" y="1027"/>
                    </a:lnTo>
                    <a:lnTo>
                      <a:pt x="860" y="1058"/>
                    </a:lnTo>
                    <a:lnTo>
                      <a:pt x="860" y="1094"/>
                    </a:lnTo>
                    <a:lnTo>
                      <a:pt x="868" y="1121"/>
                    </a:lnTo>
                    <a:lnTo>
                      <a:pt x="927" y="1153"/>
                    </a:lnTo>
                    <a:lnTo>
                      <a:pt x="974" y="1153"/>
                    </a:lnTo>
                    <a:lnTo>
                      <a:pt x="986" y="1173"/>
                    </a:lnTo>
                    <a:lnTo>
                      <a:pt x="1014" y="1233"/>
                    </a:lnTo>
                    <a:lnTo>
                      <a:pt x="1066" y="1355"/>
                    </a:lnTo>
                    <a:lnTo>
                      <a:pt x="1066" y="1395"/>
                    </a:lnTo>
                    <a:lnTo>
                      <a:pt x="1022" y="1414"/>
                    </a:lnTo>
                    <a:lnTo>
                      <a:pt x="974" y="1442"/>
                    </a:lnTo>
                    <a:lnTo>
                      <a:pt x="920" y="1501"/>
                    </a:lnTo>
                    <a:lnTo>
                      <a:pt x="876" y="1580"/>
                    </a:lnTo>
                    <a:lnTo>
                      <a:pt x="868" y="1647"/>
                    </a:lnTo>
                    <a:lnTo>
                      <a:pt x="868" y="1829"/>
                    </a:lnTo>
                    <a:lnTo>
                      <a:pt x="860" y="1916"/>
                    </a:lnTo>
                    <a:lnTo>
                      <a:pt x="840" y="2073"/>
                    </a:lnTo>
                    <a:lnTo>
                      <a:pt x="848" y="2159"/>
                    </a:lnTo>
                    <a:lnTo>
                      <a:pt x="868" y="2247"/>
                    </a:lnTo>
                    <a:lnTo>
                      <a:pt x="887" y="2314"/>
                    </a:lnTo>
                    <a:lnTo>
                      <a:pt x="920" y="2353"/>
                    </a:lnTo>
                    <a:lnTo>
                      <a:pt x="927" y="2365"/>
                    </a:lnTo>
                    <a:lnTo>
                      <a:pt x="954" y="2574"/>
                    </a:lnTo>
                    <a:lnTo>
                      <a:pt x="936" y="2586"/>
                    </a:lnTo>
                    <a:lnTo>
                      <a:pt x="900" y="2613"/>
                    </a:lnTo>
                    <a:lnTo>
                      <a:pt x="833" y="2653"/>
                    </a:lnTo>
                    <a:lnTo>
                      <a:pt x="754" y="2701"/>
                    </a:lnTo>
                    <a:lnTo>
                      <a:pt x="568" y="2799"/>
                    </a:lnTo>
                    <a:lnTo>
                      <a:pt x="395" y="2874"/>
                    </a:lnTo>
                    <a:lnTo>
                      <a:pt x="182" y="2874"/>
                    </a:lnTo>
                    <a:lnTo>
                      <a:pt x="142" y="2887"/>
                    </a:lnTo>
                    <a:lnTo>
                      <a:pt x="107" y="2925"/>
                    </a:lnTo>
                    <a:lnTo>
                      <a:pt x="20" y="3020"/>
                    </a:lnTo>
                    <a:lnTo>
                      <a:pt x="0" y="3060"/>
                    </a:lnTo>
                    <a:lnTo>
                      <a:pt x="0" y="3091"/>
                    </a:lnTo>
                    <a:lnTo>
                      <a:pt x="8" y="3119"/>
                    </a:lnTo>
                    <a:lnTo>
                      <a:pt x="20" y="3147"/>
                    </a:lnTo>
                    <a:lnTo>
                      <a:pt x="36" y="3206"/>
                    </a:lnTo>
                    <a:lnTo>
                      <a:pt x="47" y="3222"/>
                    </a:lnTo>
                    <a:lnTo>
                      <a:pt x="87" y="3246"/>
                    </a:lnTo>
                    <a:lnTo>
                      <a:pt x="114" y="3253"/>
                    </a:lnTo>
                    <a:lnTo>
                      <a:pt x="123" y="3253"/>
                    </a:lnTo>
                    <a:lnTo>
                      <a:pt x="154" y="3265"/>
                    </a:lnTo>
                    <a:lnTo>
                      <a:pt x="202" y="3265"/>
                    </a:lnTo>
                    <a:lnTo>
                      <a:pt x="253" y="3222"/>
                    </a:lnTo>
                    <a:lnTo>
                      <a:pt x="269" y="3206"/>
                    </a:lnTo>
                    <a:lnTo>
                      <a:pt x="288" y="3206"/>
                    </a:lnTo>
                    <a:lnTo>
                      <a:pt x="328" y="3194"/>
                    </a:lnTo>
                    <a:lnTo>
                      <a:pt x="434" y="3154"/>
                    </a:lnTo>
                    <a:lnTo>
                      <a:pt x="521" y="3080"/>
                    </a:lnTo>
                    <a:lnTo>
                      <a:pt x="541" y="3048"/>
                    </a:lnTo>
                    <a:lnTo>
                      <a:pt x="548" y="3040"/>
                    </a:lnTo>
                    <a:lnTo>
                      <a:pt x="936" y="2945"/>
                    </a:lnTo>
                    <a:lnTo>
                      <a:pt x="967" y="3166"/>
                    </a:lnTo>
                    <a:lnTo>
                      <a:pt x="967" y="3206"/>
                    </a:lnTo>
                    <a:lnTo>
                      <a:pt x="954" y="3281"/>
                    </a:lnTo>
                    <a:lnTo>
                      <a:pt x="947" y="3486"/>
                    </a:lnTo>
                    <a:lnTo>
                      <a:pt x="954" y="3613"/>
                    </a:lnTo>
                    <a:lnTo>
                      <a:pt x="974" y="3715"/>
                    </a:lnTo>
                    <a:lnTo>
                      <a:pt x="994" y="3814"/>
                    </a:lnTo>
                    <a:lnTo>
                      <a:pt x="1006" y="3920"/>
                    </a:lnTo>
                    <a:lnTo>
                      <a:pt x="986" y="4066"/>
                    </a:lnTo>
                    <a:lnTo>
                      <a:pt x="936" y="4221"/>
                    </a:lnTo>
                    <a:lnTo>
                      <a:pt x="876" y="4374"/>
                    </a:lnTo>
                    <a:lnTo>
                      <a:pt x="833" y="4572"/>
                    </a:lnTo>
                    <a:lnTo>
                      <a:pt x="813" y="4675"/>
                    </a:lnTo>
                    <a:lnTo>
                      <a:pt x="781" y="4761"/>
                    </a:lnTo>
                    <a:lnTo>
                      <a:pt x="754" y="4891"/>
                    </a:lnTo>
                    <a:lnTo>
                      <a:pt x="722" y="4986"/>
                    </a:lnTo>
                    <a:lnTo>
                      <a:pt x="734" y="5064"/>
                    </a:lnTo>
                    <a:lnTo>
                      <a:pt x="790" y="5246"/>
                    </a:lnTo>
                    <a:lnTo>
                      <a:pt x="868" y="5432"/>
                    </a:lnTo>
                    <a:lnTo>
                      <a:pt x="967" y="5626"/>
                    </a:lnTo>
                    <a:lnTo>
                      <a:pt x="1053" y="5807"/>
                    </a:lnTo>
                    <a:lnTo>
                      <a:pt x="1219" y="6185"/>
                    </a:lnTo>
                    <a:lnTo>
                      <a:pt x="1275" y="6360"/>
                    </a:lnTo>
                    <a:lnTo>
                      <a:pt x="1313" y="6526"/>
                    </a:lnTo>
                    <a:lnTo>
                      <a:pt x="1294" y="6553"/>
                    </a:lnTo>
                    <a:lnTo>
                      <a:pt x="1255" y="6592"/>
                    </a:lnTo>
                    <a:lnTo>
                      <a:pt x="986" y="6751"/>
                    </a:lnTo>
                    <a:lnTo>
                      <a:pt x="947" y="6766"/>
                    </a:lnTo>
                    <a:lnTo>
                      <a:pt x="927" y="6778"/>
                    </a:lnTo>
                    <a:lnTo>
                      <a:pt x="920" y="6778"/>
                    </a:lnTo>
                    <a:lnTo>
                      <a:pt x="876" y="6785"/>
                    </a:lnTo>
                    <a:lnTo>
                      <a:pt x="801" y="6805"/>
                    </a:lnTo>
                    <a:lnTo>
                      <a:pt x="781" y="6814"/>
                    </a:lnTo>
                    <a:lnTo>
                      <a:pt x="781" y="6853"/>
                    </a:lnTo>
                    <a:lnTo>
                      <a:pt x="821" y="6881"/>
                    </a:lnTo>
                    <a:lnTo>
                      <a:pt x="860" y="6904"/>
                    </a:lnTo>
                    <a:lnTo>
                      <a:pt x="907" y="6913"/>
                    </a:lnTo>
                    <a:lnTo>
                      <a:pt x="1034" y="6913"/>
                    </a:lnTo>
                    <a:lnTo>
                      <a:pt x="1152" y="6904"/>
                    </a:lnTo>
                    <a:lnTo>
                      <a:pt x="1294" y="6893"/>
                    </a:lnTo>
                    <a:lnTo>
                      <a:pt x="1448" y="6893"/>
                    </a:lnTo>
                    <a:lnTo>
                      <a:pt x="1602" y="6904"/>
                    </a:lnTo>
                    <a:lnTo>
                      <a:pt x="1712" y="6913"/>
                    </a:lnTo>
                    <a:lnTo>
                      <a:pt x="1775" y="6893"/>
                    </a:lnTo>
                    <a:lnTo>
                      <a:pt x="1799" y="6865"/>
                    </a:lnTo>
                    <a:lnTo>
                      <a:pt x="1819" y="6825"/>
                    </a:lnTo>
                    <a:lnTo>
                      <a:pt x="1827" y="6778"/>
                    </a:lnTo>
                    <a:lnTo>
                      <a:pt x="1819" y="6727"/>
                    </a:lnTo>
                    <a:lnTo>
                      <a:pt x="1767" y="6632"/>
                    </a:lnTo>
                    <a:lnTo>
                      <a:pt x="1700" y="6506"/>
                    </a:lnTo>
                    <a:lnTo>
                      <a:pt x="1673" y="6430"/>
                    </a:lnTo>
                    <a:lnTo>
                      <a:pt x="1645" y="6332"/>
                    </a:lnTo>
                    <a:lnTo>
                      <a:pt x="1614" y="6234"/>
                    </a:lnTo>
                    <a:lnTo>
                      <a:pt x="1594" y="6154"/>
                    </a:lnTo>
                    <a:lnTo>
                      <a:pt x="1574" y="6012"/>
                    </a:lnTo>
                    <a:lnTo>
                      <a:pt x="1567" y="5886"/>
                    </a:lnTo>
                    <a:lnTo>
                      <a:pt x="1547" y="5747"/>
                    </a:lnTo>
                    <a:lnTo>
                      <a:pt x="1535" y="5673"/>
                    </a:lnTo>
                    <a:lnTo>
                      <a:pt x="1515" y="5617"/>
                    </a:lnTo>
                    <a:lnTo>
                      <a:pt x="1507" y="5531"/>
                    </a:lnTo>
                    <a:lnTo>
                      <a:pt x="1488" y="5487"/>
                    </a:lnTo>
                    <a:lnTo>
                      <a:pt x="1488" y="5479"/>
                    </a:lnTo>
                    <a:lnTo>
                      <a:pt x="1515" y="5479"/>
                    </a:lnTo>
                    <a:lnTo>
                      <a:pt x="1614" y="5471"/>
                    </a:lnTo>
                    <a:lnTo>
                      <a:pt x="1760" y="5452"/>
                    </a:lnTo>
                    <a:lnTo>
                      <a:pt x="1941" y="5432"/>
                    </a:lnTo>
                    <a:lnTo>
                      <a:pt x="2166" y="5392"/>
                    </a:lnTo>
                    <a:lnTo>
                      <a:pt x="2406" y="5333"/>
                    </a:lnTo>
                    <a:lnTo>
                      <a:pt x="2620" y="5286"/>
                    </a:lnTo>
                    <a:lnTo>
                      <a:pt x="2726" y="5286"/>
                    </a:lnTo>
                    <a:lnTo>
                      <a:pt x="2813" y="5306"/>
                    </a:lnTo>
                    <a:lnTo>
                      <a:pt x="2892" y="5341"/>
                    </a:lnTo>
                    <a:lnTo>
                      <a:pt x="2929" y="5383"/>
                    </a:lnTo>
                    <a:lnTo>
                      <a:pt x="2929" y="5502"/>
                    </a:lnTo>
                    <a:lnTo>
                      <a:pt x="2919" y="5617"/>
                    </a:lnTo>
                    <a:lnTo>
                      <a:pt x="2900" y="5792"/>
                    </a:lnTo>
                    <a:lnTo>
                      <a:pt x="2862" y="5915"/>
                    </a:lnTo>
                    <a:lnTo>
                      <a:pt x="2813" y="6032"/>
                    </a:lnTo>
                    <a:lnTo>
                      <a:pt x="2783" y="6070"/>
                    </a:lnTo>
                    <a:lnTo>
                      <a:pt x="2726" y="6099"/>
                    </a:lnTo>
                    <a:lnTo>
                      <a:pt x="2572" y="6140"/>
                    </a:lnTo>
                    <a:lnTo>
                      <a:pt x="2426" y="6169"/>
                    </a:lnTo>
                    <a:lnTo>
                      <a:pt x="2384" y="6178"/>
                    </a:lnTo>
                    <a:lnTo>
                      <a:pt x="2369" y="6178"/>
                    </a:lnTo>
                    <a:lnTo>
                      <a:pt x="2241" y="6178"/>
                    </a:lnTo>
                    <a:lnTo>
                      <a:pt x="2193" y="6198"/>
                    </a:lnTo>
                    <a:lnTo>
                      <a:pt x="2182" y="6205"/>
                    </a:lnTo>
                    <a:lnTo>
                      <a:pt x="2193" y="6228"/>
                    </a:lnTo>
                    <a:lnTo>
                      <a:pt x="2233" y="6273"/>
                    </a:lnTo>
                    <a:lnTo>
                      <a:pt x="2310" y="6332"/>
                    </a:lnTo>
                    <a:lnTo>
                      <a:pt x="2397" y="6381"/>
                    </a:lnTo>
                    <a:lnTo>
                      <a:pt x="2434" y="6401"/>
                    </a:lnTo>
                    <a:lnTo>
                      <a:pt x="2474" y="6401"/>
                    </a:lnTo>
                    <a:lnTo>
                      <a:pt x="2530" y="6389"/>
                    </a:lnTo>
                    <a:lnTo>
                      <a:pt x="2600" y="6371"/>
                    </a:lnTo>
                    <a:lnTo>
                      <a:pt x="2647" y="6360"/>
                    </a:lnTo>
                    <a:lnTo>
                      <a:pt x="2705" y="6371"/>
                    </a:lnTo>
                    <a:lnTo>
                      <a:pt x="2763" y="6389"/>
                    </a:lnTo>
                    <a:lnTo>
                      <a:pt x="2813" y="6419"/>
                    </a:lnTo>
                    <a:lnTo>
                      <a:pt x="2862" y="6459"/>
                    </a:lnTo>
                    <a:lnTo>
                      <a:pt x="2900" y="6498"/>
                    </a:lnTo>
                    <a:lnTo>
                      <a:pt x="2986" y="6535"/>
                    </a:lnTo>
                    <a:lnTo>
                      <a:pt x="3024" y="6535"/>
                    </a:lnTo>
                    <a:lnTo>
                      <a:pt x="3065" y="6506"/>
                    </a:lnTo>
                    <a:lnTo>
                      <a:pt x="3103" y="6459"/>
                    </a:lnTo>
                    <a:lnTo>
                      <a:pt x="3123" y="6409"/>
                    </a:lnTo>
                    <a:lnTo>
                      <a:pt x="3132" y="6284"/>
                    </a:lnTo>
                    <a:lnTo>
                      <a:pt x="3132" y="6111"/>
                    </a:lnTo>
                    <a:lnTo>
                      <a:pt x="3140" y="6012"/>
                    </a:lnTo>
                    <a:lnTo>
                      <a:pt x="3160" y="5888"/>
                    </a:lnTo>
                    <a:lnTo>
                      <a:pt x="3174" y="5801"/>
                    </a:lnTo>
                    <a:lnTo>
                      <a:pt x="3199" y="5827"/>
                    </a:lnTo>
                    <a:lnTo>
                      <a:pt x="3239" y="5839"/>
                    </a:lnTo>
                    <a:lnTo>
                      <a:pt x="3278" y="5807"/>
                    </a:lnTo>
                    <a:lnTo>
                      <a:pt x="3298" y="5760"/>
                    </a:lnTo>
                    <a:lnTo>
                      <a:pt x="3306" y="5693"/>
                    </a:lnTo>
                    <a:lnTo>
                      <a:pt x="3298" y="5538"/>
                    </a:lnTo>
                    <a:lnTo>
                      <a:pt x="3253" y="5396"/>
                    </a:lnTo>
                    <a:lnTo>
                      <a:pt x="3269" y="5306"/>
                    </a:lnTo>
                    <a:lnTo>
                      <a:pt x="3286" y="5211"/>
                    </a:lnTo>
                    <a:lnTo>
                      <a:pt x="3298" y="5095"/>
                    </a:lnTo>
                    <a:lnTo>
                      <a:pt x="3314" y="4862"/>
                    </a:lnTo>
                    <a:lnTo>
                      <a:pt x="3314" y="4688"/>
                    </a:lnTo>
                    <a:lnTo>
                      <a:pt x="3306" y="4628"/>
                    </a:lnTo>
                    <a:lnTo>
                      <a:pt x="3306" y="4579"/>
                    </a:lnTo>
                    <a:lnTo>
                      <a:pt x="3298" y="4552"/>
                    </a:lnTo>
                    <a:lnTo>
                      <a:pt x="3298" y="4542"/>
                    </a:lnTo>
                    <a:lnTo>
                      <a:pt x="3982" y="3826"/>
                    </a:lnTo>
                    <a:lnTo>
                      <a:pt x="3982" y="3833"/>
                    </a:lnTo>
                    <a:lnTo>
                      <a:pt x="4002" y="3864"/>
                    </a:lnTo>
                    <a:lnTo>
                      <a:pt x="4021" y="3905"/>
                    </a:lnTo>
                    <a:lnTo>
                      <a:pt x="4059" y="3961"/>
                    </a:lnTo>
                    <a:lnTo>
                      <a:pt x="4099" y="4029"/>
                    </a:lnTo>
                    <a:lnTo>
                      <a:pt x="4156" y="4116"/>
                    </a:lnTo>
                    <a:lnTo>
                      <a:pt x="4302" y="4289"/>
                    </a:lnTo>
                    <a:lnTo>
                      <a:pt x="4378" y="4376"/>
                    </a:lnTo>
                    <a:lnTo>
                      <a:pt x="4446" y="4465"/>
                    </a:lnTo>
                    <a:lnTo>
                      <a:pt x="4582" y="4610"/>
                    </a:lnTo>
                    <a:lnTo>
                      <a:pt x="4708" y="4725"/>
                    </a:lnTo>
                    <a:lnTo>
                      <a:pt x="4852" y="4832"/>
                    </a:lnTo>
                    <a:lnTo>
                      <a:pt x="4912" y="4850"/>
                    </a:lnTo>
                    <a:lnTo>
                      <a:pt x="4980" y="4850"/>
                    </a:lnTo>
                    <a:lnTo>
                      <a:pt x="5075" y="4832"/>
                    </a:lnTo>
                    <a:lnTo>
                      <a:pt x="5191" y="4805"/>
                    </a:lnTo>
                    <a:lnTo>
                      <a:pt x="5357" y="4783"/>
                    </a:lnTo>
                    <a:lnTo>
                      <a:pt x="5462" y="4774"/>
                    </a:lnTo>
                    <a:lnTo>
                      <a:pt x="5578" y="4774"/>
                    </a:lnTo>
                    <a:lnTo>
                      <a:pt x="5724" y="4783"/>
                    </a:lnTo>
                    <a:lnTo>
                      <a:pt x="5880" y="4805"/>
                    </a:lnTo>
                    <a:lnTo>
                      <a:pt x="6053" y="4832"/>
                    </a:lnTo>
                    <a:lnTo>
                      <a:pt x="6257" y="4871"/>
                    </a:lnTo>
                    <a:lnTo>
                      <a:pt x="6343" y="4909"/>
                    </a:lnTo>
                    <a:lnTo>
                      <a:pt x="6410" y="4978"/>
                    </a:lnTo>
                    <a:lnTo>
                      <a:pt x="6527" y="5140"/>
                    </a:lnTo>
                    <a:lnTo>
                      <a:pt x="6576" y="5211"/>
                    </a:lnTo>
                    <a:lnTo>
                      <a:pt x="6614" y="5268"/>
                    </a:lnTo>
                    <a:lnTo>
                      <a:pt x="6635" y="5306"/>
                    </a:lnTo>
                    <a:lnTo>
                      <a:pt x="6643" y="5316"/>
                    </a:lnTo>
                    <a:lnTo>
                      <a:pt x="6643" y="5327"/>
                    </a:lnTo>
                    <a:lnTo>
                      <a:pt x="6650" y="5355"/>
                    </a:lnTo>
                    <a:lnTo>
                      <a:pt x="6663" y="5432"/>
                    </a:lnTo>
                    <a:lnTo>
                      <a:pt x="6692" y="5509"/>
                    </a:lnTo>
                    <a:lnTo>
                      <a:pt x="6700" y="5538"/>
                    </a:lnTo>
                    <a:lnTo>
                      <a:pt x="6710" y="5538"/>
                    </a:lnTo>
                    <a:lnTo>
                      <a:pt x="6740" y="5502"/>
                    </a:lnTo>
                    <a:lnTo>
                      <a:pt x="6767" y="5432"/>
                    </a:lnTo>
                    <a:lnTo>
                      <a:pt x="6789" y="5336"/>
                    </a:lnTo>
                    <a:lnTo>
                      <a:pt x="6796" y="5239"/>
                    </a:lnTo>
                    <a:lnTo>
                      <a:pt x="6780" y="5152"/>
                    </a:lnTo>
                    <a:lnTo>
                      <a:pt x="6749" y="5102"/>
                    </a:lnTo>
                    <a:lnTo>
                      <a:pt x="6722" y="5046"/>
                    </a:lnTo>
                    <a:lnTo>
                      <a:pt x="6692" y="4958"/>
                    </a:lnTo>
                    <a:lnTo>
                      <a:pt x="6672" y="4842"/>
                    </a:lnTo>
                    <a:lnTo>
                      <a:pt x="6681" y="4745"/>
                    </a:lnTo>
                    <a:lnTo>
                      <a:pt x="6672" y="4659"/>
                    </a:lnTo>
                    <a:lnTo>
                      <a:pt x="6650" y="4619"/>
                    </a:lnTo>
                    <a:lnTo>
                      <a:pt x="6614" y="4579"/>
                    </a:lnTo>
                    <a:lnTo>
                      <a:pt x="6576" y="4552"/>
                    </a:lnTo>
                    <a:lnTo>
                      <a:pt x="6536" y="4542"/>
                    </a:lnTo>
                    <a:lnTo>
                      <a:pt x="6470" y="4552"/>
                    </a:lnTo>
                    <a:lnTo>
                      <a:pt x="6361" y="4572"/>
                    </a:lnTo>
                    <a:lnTo>
                      <a:pt x="6293" y="4572"/>
                    </a:lnTo>
                    <a:lnTo>
                      <a:pt x="6199" y="4560"/>
                    </a:lnTo>
                    <a:lnTo>
                      <a:pt x="6004" y="4502"/>
                    </a:lnTo>
                    <a:lnTo>
                      <a:pt x="5838" y="4435"/>
                    </a:lnTo>
                    <a:lnTo>
                      <a:pt x="5664" y="4368"/>
                    </a:lnTo>
                    <a:lnTo>
                      <a:pt x="5473" y="4319"/>
                    </a:lnTo>
                    <a:lnTo>
                      <a:pt x="5367" y="4300"/>
                    </a:lnTo>
                    <a:lnTo>
                      <a:pt x="5191" y="4300"/>
                    </a:lnTo>
                    <a:lnTo>
                      <a:pt x="5124" y="4311"/>
                    </a:lnTo>
                    <a:lnTo>
                      <a:pt x="5038" y="4338"/>
                    </a:lnTo>
                    <a:lnTo>
                      <a:pt x="5018" y="4349"/>
                    </a:lnTo>
                    <a:lnTo>
                      <a:pt x="5009" y="4349"/>
                    </a:lnTo>
                    <a:lnTo>
                      <a:pt x="4998" y="4338"/>
                    </a:lnTo>
                    <a:lnTo>
                      <a:pt x="4980" y="4289"/>
                    </a:lnTo>
                    <a:lnTo>
                      <a:pt x="4951" y="4232"/>
                    </a:lnTo>
                    <a:lnTo>
                      <a:pt x="4901" y="4165"/>
                    </a:lnTo>
                    <a:lnTo>
                      <a:pt x="4699" y="3796"/>
                    </a:lnTo>
                    <a:lnTo>
                      <a:pt x="4604" y="3630"/>
                    </a:lnTo>
                    <a:lnTo>
                      <a:pt x="4524" y="3505"/>
                    </a:lnTo>
                    <a:lnTo>
                      <a:pt x="4495" y="3457"/>
                    </a:lnTo>
                    <a:lnTo>
                      <a:pt x="4465" y="3427"/>
                    </a:lnTo>
                    <a:lnTo>
                      <a:pt x="4458" y="3409"/>
                    </a:lnTo>
                    <a:lnTo>
                      <a:pt x="4446" y="3399"/>
                    </a:lnTo>
                    <a:lnTo>
                      <a:pt x="4446" y="3390"/>
                    </a:lnTo>
                    <a:lnTo>
                      <a:pt x="4465" y="3370"/>
                    </a:lnTo>
                    <a:lnTo>
                      <a:pt x="4495" y="3295"/>
                    </a:lnTo>
                    <a:lnTo>
                      <a:pt x="4505" y="3235"/>
                    </a:lnTo>
                    <a:lnTo>
                      <a:pt x="4505" y="3166"/>
                    </a:lnTo>
                    <a:lnTo>
                      <a:pt x="4495" y="3080"/>
                    </a:lnTo>
                    <a:lnTo>
                      <a:pt x="4475" y="2993"/>
                    </a:lnTo>
                    <a:lnTo>
                      <a:pt x="4438" y="2896"/>
                    </a:lnTo>
                    <a:lnTo>
                      <a:pt x="4378" y="2809"/>
                    </a:lnTo>
                    <a:lnTo>
                      <a:pt x="4243" y="2635"/>
                    </a:lnTo>
                    <a:lnTo>
                      <a:pt x="4185" y="2557"/>
                    </a:lnTo>
                    <a:lnTo>
                      <a:pt x="4138" y="2489"/>
                    </a:lnTo>
                    <a:lnTo>
                      <a:pt x="4108" y="2433"/>
                    </a:lnTo>
                    <a:lnTo>
                      <a:pt x="4099" y="2383"/>
                    </a:lnTo>
                    <a:lnTo>
                      <a:pt x="4185" y="1880"/>
                    </a:lnTo>
                    <a:lnTo>
                      <a:pt x="4205" y="1783"/>
                    </a:lnTo>
                    <a:lnTo>
                      <a:pt x="4225" y="1696"/>
                    </a:lnTo>
                    <a:lnTo>
                      <a:pt x="4234" y="1647"/>
                    </a:lnTo>
                    <a:lnTo>
                      <a:pt x="4234" y="1627"/>
                    </a:lnTo>
                    <a:lnTo>
                      <a:pt x="4243" y="1639"/>
                    </a:lnTo>
                    <a:lnTo>
                      <a:pt x="4272" y="1669"/>
                    </a:lnTo>
                    <a:lnTo>
                      <a:pt x="4322" y="1706"/>
                    </a:lnTo>
                    <a:lnTo>
                      <a:pt x="4389" y="1763"/>
                    </a:lnTo>
                    <a:lnTo>
                      <a:pt x="4475" y="1831"/>
                    </a:lnTo>
                    <a:lnTo>
                      <a:pt x="4574" y="1917"/>
                    </a:lnTo>
                    <a:lnTo>
                      <a:pt x="4690" y="1996"/>
                    </a:lnTo>
                    <a:lnTo>
                      <a:pt x="4822" y="2091"/>
                    </a:lnTo>
                    <a:lnTo>
                      <a:pt x="4901" y="2207"/>
                    </a:lnTo>
                    <a:lnTo>
                      <a:pt x="4988" y="2323"/>
                    </a:lnTo>
                    <a:lnTo>
                      <a:pt x="5134" y="2509"/>
                    </a:lnTo>
                    <a:lnTo>
                      <a:pt x="5258" y="2663"/>
                    </a:lnTo>
                    <a:lnTo>
                      <a:pt x="5357" y="2817"/>
                    </a:lnTo>
                    <a:lnTo>
                      <a:pt x="5375" y="2847"/>
                    </a:lnTo>
                    <a:lnTo>
                      <a:pt x="5386" y="2858"/>
                    </a:lnTo>
                    <a:lnTo>
                      <a:pt x="5416" y="2858"/>
                    </a:lnTo>
                    <a:lnTo>
                      <a:pt x="5453" y="2829"/>
                    </a:lnTo>
                    <a:lnTo>
                      <a:pt x="5491" y="2829"/>
                    </a:lnTo>
                    <a:lnTo>
                      <a:pt x="5541" y="2847"/>
                    </a:lnTo>
                    <a:lnTo>
                      <a:pt x="5570" y="2867"/>
                    </a:lnTo>
                    <a:lnTo>
                      <a:pt x="5635" y="2889"/>
                    </a:lnTo>
                    <a:lnTo>
                      <a:pt x="5657" y="2867"/>
                    </a:lnTo>
                    <a:lnTo>
                      <a:pt x="5664" y="2839"/>
                    </a:lnTo>
                    <a:lnTo>
                      <a:pt x="5657" y="2809"/>
                    </a:lnTo>
                    <a:lnTo>
                      <a:pt x="5657" y="2799"/>
                    </a:lnTo>
                    <a:lnTo>
                      <a:pt x="5619" y="2712"/>
                    </a:lnTo>
                    <a:lnTo>
                      <a:pt x="5619" y="2613"/>
                    </a:lnTo>
                    <a:lnTo>
                      <a:pt x="5608" y="2597"/>
                    </a:lnTo>
                    <a:lnTo>
                      <a:pt x="5590" y="2547"/>
                    </a:lnTo>
                    <a:lnTo>
                      <a:pt x="5561" y="2498"/>
                    </a:lnTo>
                    <a:lnTo>
                      <a:pt x="5511" y="2482"/>
                    </a:lnTo>
                    <a:lnTo>
                      <a:pt x="5395" y="2469"/>
                    </a:lnTo>
                    <a:lnTo>
                      <a:pt x="5357" y="2452"/>
                    </a:lnTo>
                    <a:lnTo>
                      <a:pt x="5337" y="2452"/>
                    </a:lnTo>
                    <a:lnTo>
                      <a:pt x="5327" y="2440"/>
                    </a:lnTo>
                    <a:lnTo>
                      <a:pt x="5308" y="2402"/>
                    </a:lnTo>
                    <a:lnTo>
                      <a:pt x="5278" y="2353"/>
                    </a:lnTo>
                    <a:lnTo>
                      <a:pt x="5240" y="2287"/>
                    </a:lnTo>
                    <a:lnTo>
                      <a:pt x="5184" y="2199"/>
                    </a:lnTo>
                    <a:lnTo>
                      <a:pt x="5105" y="2103"/>
                    </a:lnTo>
                    <a:lnTo>
                      <a:pt x="5018" y="1996"/>
                    </a:lnTo>
                    <a:lnTo>
                      <a:pt x="4912" y="1880"/>
                    </a:lnTo>
                    <a:lnTo>
                      <a:pt x="4416" y="1357"/>
                    </a:lnTo>
                    <a:lnTo>
                      <a:pt x="4322" y="1250"/>
                    </a:lnTo>
                    <a:lnTo>
                      <a:pt x="4234" y="1163"/>
                    </a:lnTo>
                    <a:lnTo>
                      <a:pt x="4176" y="1104"/>
                    </a:lnTo>
                    <a:lnTo>
                      <a:pt x="4156" y="1087"/>
                    </a:lnTo>
                    <a:lnTo>
                      <a:pt x="4176" y="1087"/>
                    </a:lnTo>
                    <a:lnTo>
                      <a:pt x="4213" y="1074"/>
                    </a:lnTo>
                    <a:lnTo>
                      <a:pt x="4263" y="1058"/>
                    </a:lnTo>
                    <a:lnTo>
                      <a:pt x="4272" y="1037"/>
                    </a:lnTo>
                    <a:lnTo>
                      <a:pt x="4234" y="1009"/>
                    </a:lnTo>
                    <a:lnTo>
                      <a:pt x="4118" y="950"/>
                    </a:lnTo>
                    <a:lnTo>
                      <a:pt x="4099" y="942"/>
                    </a:lnTo>
                    <a:lnTo>
                      <a:pt x="4213" y="942"/>
                    </a:lnTo>
                    <a:lnTo>
                      <a:pt x="4254" y="950"/>
                    </a:lnTo>
                    <a:lnTo>
                      <a:pt x="4302" y="980"/>
                    </a:lnTo>
                    <a:lnTo>
                      <a:pt x="4302" y="942"/>
                    </a:lnTo>
                    <a:lnTo>
                      <a:pt x="4272" y="912"/>
                    </a:lnTo>
                    <a:lnTo>
                      <a:pt x="4243" y="871"/>
                    </a:lnTo>
                    <a:lnTo>
                      <a:pt x="4225" y="863"/>
                    </a:lnTo>
                    <a:lnTo>
                      <a:pt x="4234" y="863"/>
                    </a:lnTo>
                    <a:lnTo>
                      <a:pt x="4254" y="871"/>
                    </a:lnTo>
                    <a:lnTo>
                      <a:pt x="4329" y="912"/>
                    </a:lnTo>
                    <a:lnTo>
                      <a:pt x="4312" y="856"/>
                    </a:lnTo>
                    <a:lnTo>
                      <a:pt x="4272" y="814"/>
                    </a:lnTo>
                    <a:lnTo>
                      <a:pt x="4167" y="739"/>
                    </a:lnTo>
                    <a:lnTo>
                      <a:pt x="4059" y="680"/>
                    </a:lnTo>
                    <a:lnTo>
                      <a:pt x="4021" y="640"/>
                    </a:lnTo>
                    <a:lnTo>
                      <a:pt x="3994" y="593"/>
                    </a:lnTo>
                    <a:lnTo>
                      <a:pt x="4059" y="611"/>
                    </a:lnTo>
                    <a:lnTo>
                      <a:pt x="4126" y="640"/>
                    </a:lnTo>
                    <a:lnTo>
                      <a:pt x="4185" y="690"/>
                    </a:lnTo>
                    <a:lnTo>
                      <a:pt x="4225" y="739"/>
                    </a:lnTo>
                    <a:lnTo>
                      <a:pt x="4225" y="727"/>
                    </a:lnTo>
                    <a:lnTo>
                      <a:pt x="4213" y="680"/>
                    </a:lnTo>
                    <a:lnTo>
                      <a:pt x="4185" y="611"/>
                    </a:lnTo>
                    <a:lnTo>
                      <a:pt x="4138" y="524"/>
                    </a:lnTo>
                    <a:lnTo>
                      <a:pt x="4089" y="456"/>
                    </a:lnTo>
                    <a:lnTo>
                      <a:pt x="4039" y="427"/>
                    </a:lnTo>
                    <a:lnTo>
                      <a:pt x="4002" y="400"/>
                    </a:lnTo>
                    <a:lnTo>
                      <a:pt x="3972" y="378"/>
                    </a:lnTo>
                    <a:lnTo>
                      <a:pt x="3953" y="350"/>
                    </a:lnTo>
                    <a:lnTo>
                      <a:pt x="3915" y="283"/>
                    </a:lnTo>
                    <a:lnTo>
                      <a:pt x="3895" y="204"/>
                    </a:lnTo>
                    <a:lnTo>
                      <a:pt x="3866" y="137"/>
                    </a:lnTo>
                    <a:lnTo>
                      <a:pt x="3837" y="108"/>
                    </a:lnTo>
                    <a:lnTo>
                      <a:pt x="3799" y="80"/>
                    </a:lnTo>
                    <a:lnTo>
                      <a:pt x="3675" y="42"/>
                    </a:lnTo>
                    <a:lnTo>
                      <a:pt x="3588" y="31"/>
                    </a:lnTo>
                    <a:lnTo>
                      <a:pt x="3499" y="31"/>
                    </a:lnTo>
                    <a:lnTo>
                      <a:pt x="3422" y="20"/>
                    </a:lnTo>
                    <a:lnTo>
                      <a:pt x="3343" y="0"/>
                    </a:lnTo>
                    <a:lnTo>
                      <a:pt x="3286" y="0"/>
                    </a:lnTo>
                    <a:lnTo>
                      <a:pt x="3227" y="13"/>
                    </a:lnTo>
                    <a:lnTo>
                      <a:pt x="3170" y="31"/>
                    </a:lnTo>
                    <a:lnTo>
                      <a:pt x="3111" y="50"/>
                    </a:lnTo>
                    <a:lnTo>
                      <a:pt x="3083" y="80"/>
                    </a:lnTo>
                    <a:lnTo>
                      <a:pt x="3044" y="157"/>
                    </a:lnTo>
                    <a:lnTo>
                      <a:pt x="3035" y="204"/>
                    </a:lnTo>
                    <a:lnTo>
                      <a:pt x="3053" y="261"/>
                    </a:lnTo>
                    <a:lnTo>
                      <a:pt x="3073" y="291"/>
                    </a:lnTo>
                    <a:lnTo>
                      <a:pt x="3083" y="310"/>
                    </a:lnTo>
                    <a:lnTo>
                      <a:pt x="3083" y="514"/>
                    </a:lnTo>
                    <a:lnTo>
                      <a:pt x="3111" y="593"/>
                    </a:lnTo>
                    <a:lnTo>
                      <a:pt x="3065" y="746"/>
                    </a:lnTo>
                    <a:lnTo>
                      <a:pt x="3152" y="766"/>
                    </a:lnTo>
                    <a:lnTo>
                      <a:pt x="3170" y="834"/>
                    </a:lnTo>
                    <a:lnTo>
                      <a:pt x="3227" y="834"/>
                    </a:lnTo>
                    <a:lnTo>
                      <a:pt x="3197" y="883"/>
                    </a:lnTo>
                    <a:lnTo>
                      <a:pt x="3246" y="930"/>
                    </a:lnTo>
                    <a:lnTo>
                      <a:pt x="3269" y="1000"/>
                    </a:lnTo>
                    <a:lnTo>
                      <a:pt x="3363" y="1000"/>
                    </a:lnTo>
                    <a:lnTo>
                      <a:pt x="3385" y="1067"/>
                    </a:lnTo>
                    <a:lnTo>
                      <a:pt x="3372" y="1067"/>
                    </a:lnTo>
                    <a:lnTo>
                      <a:pt x="3343" y="1074"/>
                    </a:lnTo>
                    <a:lnTo>
                      <a:pt x="3152" y="1153"/>
                    </a:lnTo>
                    <a:lnTo>
                      <a:pt x="3123" y="1183"/>
                    </a:lnTo>
                    <a:lnTo>
                      <a:pt x="3103" y="1213"/>
                    </a:lnTo>
                    <a:lnTo>
                      <a:pt x="3083" y="1307"/>
                    </a:lnTo>
                    <a:lnTo>
                      <a:pt x="3073" y="1444"/>
                    </a:lnTo>
                    <a:lnTo>
                      <a:pt x="3044" y="1773"/>
                    </a:lnTo>
                    <a:lnTo>
                      <a:pt x="3024" y="1937"/>
                    </a:lnTo>
                    <a:lnTo>
                      <a:pt x="3015" y="2075"/>
                    </a:lnTo>
                    <a:lnTo>
                      <a:pt x="3006" y="2162"/>
                    </a:lnTo>
                    <a:lnTo>
                      <a:pt x="3006" y="2199"/>
                    </a:lnTo>
                    <a:lnTo>
                      <a:pt x="2994" y="2207"/>
                    </a:lnTo>
                    <a:lnTo>
                      <a:pt x="2986" y="2229"/>
                    </a:lnTo>
                    <a:lnTo>
                      <a:pt x="2919" y="2294"/>
                    </a:lnTo>
                    <a:lnTo>
                      <a:pt x="2820" y="2393"/>
                    </a:lnTo>
                    <a:lnTo>
                      <a:pt x="2696" y="2527"/>
                    </a:lnTo>
                    <a:lnTo>
                      <a:pt x="2683" y="2539"/>
                    </a:lnTo>
                    <a:lnTo>
                      <a:pt x="2667" y="2480"/>
                    </a:lnTo>
                    <a:lnTo>
                      <a:pt x="2600" y="2353"/>
                    </a:lnTo>
                    <a:lnTo>
                      <a:pt x="2501" y="2207"/>
                    </a:lnTo>
                    <a:lnTo>
                      <a:pt x="2371" y="2045"/>
                    </a:lnTo>
                    <a:lnTo>
                      <a:pt x="2292" y="1927"/>
                    </a:lnTo>
                    <a:lnTo>
                      <a:pt x="2233" y="1773"/>
                    </a:lnTo>
                    <a:lnTo>
                      <a:pt x="2153" y="1595"/>
                    </a:lnTo>
                    <a:lnTo>
                      <a:pt x="2040" y="1434"/>
                    </a:lnTo>
                    <a:lnTo>
                      <a:pt x="1973" y="1366"/>
                    </a:lnTo>
                    <a:lnTo>
                      <a:pt x="1894" y="1319"/>
                    </a:lnTo>
                    <a:lnTo>
                      <a:pt x="1748" y="1260"/>
                    </a:lnTo>
                    <a:lnTo>
                      <a:pt x="1681" y="1240"/>
                    </a:lnTo>
                    <a:lnTo>
                      <a:pt x="1634" y="1233"/>
                    </a:lnTo>
                    <a:lnTo>
                      <a:pt x="1602" y="1220"/>
                    </a:lnTo>
                    <a:lnTo>
                      <a:pt x="1594" y="1200"/>
                    </a:lnTo>
                    <a:lnTo>
                      <a:pt x="1614" y="1153"/>
                    </a:lnTo>
                    <a:lnTo>
                      <a:pt x="1634" y="1134"/>
                    </a:lnTo>
                    <a:lnTo>
                      <a:pt x="1661" y="1114"/>
                    </a:lnTo>
                    <a:lnTo>
                      <a:pt x="1700" y="1067"/>
                    </a:lnTo>
                    <a:lnTo>
                      <a:pt x="1748" y="1000"/>
                    </a:lnTo>
                    <a:lnTo>
                      <a:pt x="1799" y="948"/>
                    </a:lnTo>
                    <a:lnTo>
                      <a:pt x="1827" y="912"/>
                    </a:lnTo>
                    <a:lnTo>
                      <a:pt x="1854" y="854"/>
                    </a:lnTo>
                    <a:lnTo>
                      <a:pt x="1866" y="795"/>
                    </a:lnTo>
                    <a:lnTo>
                      <a:pt x="1866" y="766"/>
                    </a:lnTo>
                    <a:lnTo>
                      <a:pt x="1854" y="739"/>
                    </a:lnTo>
                    <a:lnTo>
                      <a:pt x="1854" y="688"/>
                    </a:lnTo>
                    <a:lnTo>
                      <a:pt x="1866" y="640"/>
                    </a:lnTo>
                    <a:lnTo>
                      <a:pt x="1894" y="600"/>
                    </a:lnTo>
                    <a:lnTo>
                      <a:pt x="1906" y="573"/>
                    </a:lnTo>
                    <a:lnTo>
                      <a:pt x="1906" y="534"/>
                    </a:lnTo>
                    <a:lnTo>
                      <a:pt x="1886" y="474"/>
                    </a:lnTo>
                    <a:lnTo>
                      <a:pt x="1866" y="376"/>
                    </a:lnTo>
                    <a:lnTo>
                      <a:pt x="1819" y="321"/>
                    </a:lnTo>
                    <a:lnTo>
                      <a:pt x="1748" y="261"/>
                    </a:lnTo>
                    <a:lnTo>
                      <a:pt x="1700" y="214"/>
                    </a:lnTo>
                    <a:lnTo>
                      <a:pt x="1625" y="186"/>
                    </a:lnTo>
                    <a:lnTo>
                      <a:pt x="1527" y="146"/>
                    </a:lnTo>
                    <a:lnTo>
                      <a:pt x="1428" y="128"/>
                    </a:lnTo>
                    <a:lnTo>
                      <a:pt x="1313" y="128"/>
                    </a:lnTo>
                    <a:lnTo>
                      <a:pt x="1246" y="135"/>
                    </a:lnTo>
                    <a:lnTo>
                      <a:pt x="1180" y="146"/>
                    </a:lnTo>
                    <a:lnTo>
                      <a:pt x="1129" y="175"/>
                    </a:lnTo>
                    <a:lnTo>
                      <a:pt x="1093" y="214"/>
                    </a:lnTo>
                    <a:lnTo>
                      <a:pt x="1053" y="274"/>
                    </a:lnTo>
                    <a:lnTo>
                      <a:pt x="1042" y="301"/>
                    </a:lnTo>
                    <a:lnTo>
                      <a:pt x="1042" y="332"/>
                    </a:lnTo>
                    <a:lnTo>
                      <a:pt x="1053" y="348"/>
                    </a:lnTo>
                    <a:lnTo>
                      <a:pt x="1066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3865320" y="2763000"/>
                <a:ext cx="798840" cy="1040400"/>
              </a:xfrm>
              <a:custGeom>
                <a:avLst/>
                <a:gdLst/>
                <a:ahLst/>
                <a:rect l="l" t="t" r="r" b="b"/>
                <a:pathLst>
                  <a:path w="2079" h="2939">
                    <a:moveTo>
                      <a:pt x="1302" y="2771"/>
                    </a:moveTo>
                    <a:lnTo>
                      <a:pt x="1246" y="2805"/>
                    </a:lnTo>
                    <a:lnTo>
                      <a:pt x="1093" y="2872"/>
                    </a:lnTo>
                    <a:lnTo>
                      <a:pt x="920" y="2931"/>
                    </a:lnTo>
                    <a:lnTo>
                      <a:pt x="832" y="2939"/>
                    </a:lnTo>
                    <a:lnTo>
                      <a:pt x="754" y="2939"/>
                    </a:lnTo>
                    <a:lnTo>
                      <a:pt x="639" y="2919"/>
                    </a:lnTo>
                    <a:lnTo>
                      <a:pt x="592" y="2911"/>
                    </a:lnTo>
                    <a:lnTo>
                      <a:pt x="532" y="2903"/>
                    </a:lnTo>
                    <a:lnTo>
                      <a:pt x="406" y="2883"/>
                    </a:lnTo>
                    <a:lnTo>
                      <a:pt x="0" y="2883"/>
                    </a:lnTo>
                    <a:lnTo>
                      <a:pt x="60" y="2670"/>
                    </a:lnTo>
                    <a:lnTo>
                      <a:pt x="79" y="2591"/>
                    </a:lnTo>
                    <a:lnTo>
                      <a:pt x="87" y="2571"/>
                    </a:lnTo>
                    <a:lnTo>
                      <a:pt x="87" y="2564"/>
                    </a:lnTo>
                    <a:lnTo>
                      <a:pt x="174" y="2571"/>
                    </a:lnTo>
                    <a:lnTo>
                      <a:pt x="347" y="2299"/>
                    </a:lnTo>
                    <a:lnTo>
                      <a:pt x="359" y="2279"/>
                    </a:lnTo>
                    <a:lnTo>
                      <a:pt x="379" y="2236"/>
                    </a:lnTo>
                    <a:lnTo>
                      <a:pt x="406" y="2157"/>
                    </a:lnTo>
                    <a:lnTo>
                      <a:pt x="434" y="2059"/>
                    </a:lnTo>
                    <a:lnTo>
                      <a:pt x="466" y="1944"/>
                    </a:lnTo>
                    <a:lnTo>
                      <a:pt x="485" y="1818"/>
                    </a:lnTo>
                    <a:lnTo>
                      <a:pt x="485" y="1672"/>
                    </a:lnTo>
                    <a:lnTo>
                      <a:pt x="478" y="1526"/>
                    </a:lnTo>
                    <a:lnTo>
                      <a:pt x="446" y="1411"/>
                    </a:lnTo>
                    <a:lnTo>
                      <a:pt x="418" y="1313"/>
                    </a:lnTo>
                    <a:lnTo>
                      <a:pt x="347" y="1171"/>
                    </a:lnTo>
                    <a:lnTo>
                      <a:pt x="303" y="1052"/>
                    </a:lnTo>
                    <a:lnTo>
                      <a:pt x="280" y="958"/>
                    </a:lnTo>
                    <a:lnTo>
                      <a:pt x="303" y="799"/>
                    </a:lnTo>
                    <a:lnTo>
                      <a:pt x="320" y="673"/>
                    </a:lnTo>
                    <a:lnTo>
                      <a:pt x="339" y="578"/>
                    </a:lnTo>
                    <a:lnTo>
                      <a:pt x="359" y="511"/>
                    </a:lnTo>
                    <a:lnTo>
                      <a:pt x="406" y="377"/>
                    </a:lnTo>
                    <a:lnTo>
                      <a:pt x="434" y="259"/>
                    </a:lnTo>
                    <a:lnTo>
                      <a:pt x="446" y="172"/>
                    </a:lnTo>
                    <a:lnTo>
                      <a:pt x="458" y="152"/>
                    </a:lnTo>
                    <a:lnTo>
                      <a:pt x="458" y="144"/>
                    </a:lnTo>
                    <a:lnTo>
                      <a:pt x="466" y="152"/>
                    </a:lnTo>
                    <a:lnTo>
                      <a:pt x="505" y="180"/>
                    </a:lnTo>
                    <a:lnTo>
                      <a:pt x="592" y="259"/>
                    </a:lnTo>
                    <a:lnTo>
                      <a:pt x="687" y="358"/>
                    </a:lnTo>
                    <a:lnTo>
                      <a:pt x="718" y="392"/>
                    </a:lnTo>
                    <a:lnTo>
                      <a:pt x="725" y="421"/>
                    </a:lnTo>
                    <a:lnTo>
                      <a:pt x="710" y="452"/>
                    </a:lnTo>
                    <a:lnTo>
                      <a:pt x="667" y="480"/>
                    </a:lnTo>
                    <a:lnTo>
                      <a:pt x="458" y="598"/>
                    </a:lnTo>
                    <a:lnTo>
                      <a:pt x="418" y="637"/>
                    </a:lnTo>
                    <a:lnTo>
                      <a:pt x="399" y="665"/>
                    </a:lnTo>
                    <a:lnTo>
                      <a:pt x="379" y="724"/>
                    </a:lnTo>
                    <a:lnTo>
                      <a:pt x="347" y="799"/>
                    </a:lnTo>
                    <a:lnTo>
                      <a:pt x="339" y="898"/>
                    </a:lnTo>
                    <a:lnTo>
                      <a:pt x="347" y="993"/>
                    </a:lnTo>
                    <a:lnTo>
                      <a:pt x="379" y="1044"/>
                    </a:lnTo>
                    <a:lnTo>
                      <a:pt x="385" y="1048"/>
                    </a:lnTo>
                    <a:lnTo>
                      <a:pt x="367" y="1074"/>
                    </a:lnTo>
                    <a:lnTo>
                      <a:pt x="367" y="1121"/>
                    </a:lnTo>
                    <a:lnTo>
                      <a:pt x="377" y="1131"/>
                    </a:lnTo>
                    <a:lnTo>
                      <a:pt x="404" y="1140"/>
                    </a:lnTo>
                    <a:lnTo>
                      <a:pt x="480" y="1149"/>
                    </a:lnTo>
                    <a:lnTo>
                      <a:pt x="493" y="1171"/>
                    </a:lnTo>
                    <a:lnTo>
                      <a:pt x="552" y="1190"/>
                    </a:lnTo>
                    <a:lnTo>
                      <a:pt x="592" y="1178"/>
                    </a:lnTo>
                    <a:lnTo>
                      <a:pt x="659" y="1147"/>
                    </a:lnTo>
                    <a:lnTo>
                      <a:pt x="704" y="1115"/>
                    </a:lnTo>
                    <a:lnTo>
                      <a:pt x="716" y="1111"/>
                    </a:lnTo>
                    <a:lnTo>
                      <a:pt x="803" y="1044"/>
                    </a:lnTo>
                    <a:lnTo>
                      <a:pt x="882" y="945"/>
                    </a:lnTo>
                    <a:lnTo>
                      <a:pt x="920" y="900"/>
                    </a:lnTo>
                    <a:lnTo>
                      <a:pt x="927" y="879"/>
                    </a:lnTo>
                    <a:lnTo>
                      <a:pt x="939" y="879"/>
                    </a:lnTo>
                    <a:lnTo>
                      <a:pt x="956" y="870"/>
                    </a:lnTo>
                    <a:lnTo>
                      <a:pt x="1014" y="829"/>
                    </a:lnTo>
                    <a:lnTo>
                      <a:pt x="1115" y="772"/>
                    </a:lnTo>
                    <a:lnTo>
                      <a:pt x="1228" y="697"/>
                    </a:lnTo>
                    <a:lnTo>
                      <a:pt x="1479" y="522"/>
                    </a:lnTo>
                    <a:lnTo>
                      <a:pt x="1586" y="423"/>
                    </a:lnTo>
                    <a:lnTo>
                      <a:pt x="1672" y="336"/>
                    </a:lnTo>
                    <a:lnTo>
                      <a:pt x="1695" y="308"/>
                    </a:lnTo>
                    <a:lnTo>
                      <a:pt x="1702" y="261"/>
                    </a:lnTo>
                    <a:lnTo>
                      <a:pt x="1732" y="154"/>
                    </a:lnTo>
                    <a:lnTo>
                      <a:pt x="1751" y="46"/>
                    </a:lnTo>
                    <a:lnTo>
                      <a:pt x="1762" y="8"/>
                    </a:lnTo>
                    <a:lnTo>
                      <a:pt x="1762" y="0"/>
                    </a:lnTo>
                    <a:lnTo>
                      <a:pt x="1769" y="16"/>
                    </a:lnTo>
                    <a:lnTo>
                      <a:pt x="1798" y="66"/>
                    </a:lnTo>
                    <a:lnTo>
                      <a:pt x="1827" y="132"/>
                    </a:lnTo>
                    <a:lnTo>
                      <a:pt x="1876" y="219"/>
                    </a:lnTo>
                    <a:lnTo>
                      <a:pt x="1943" y="394"/>
                    </a:lnTo>
                    <a:lnTo>
                      <a:pt x="1973" y="464"/>
                    </a:lnTo>
                    <a:lnTo>
                      <a:pt x="1984" y="522"/>
                    </a:lnTo>
                    <a:lnTo>
                      <a:pt x="1992" y="742"/>
                    </a:lnTo>
                    <a:lnTo>
                      <a:pt x="2029" y="945"/>
                    </a:lnTo>
                    <a:lnTo>
                      <a:pt x="2051" y="1025"/>
                    </a:lnTo>
                    <a:lnTo>
                      <a:pt x="2059" y="1082"/>
                    </a:lnTo>
                    <a:lnTo>
                      <a:pt x="2079" y="1131"/>
                    </a:lnTo>
                    <a:lnTo>
                      <a:pt x="2079" y="1140"/>
                    </a:lnTo>
                    <a:lnTo>
                      <a:pt x="2059" y="1149"/>
                    </a:lnTo>
                    <a:lnTo>
                      <a:pt x="2022" y="1198"/>
                    </a:lnTo>
                    <a:lnTo>
                      <a:pt x="1964" y="1257"/>
                    </a:lnTo>
                    <a:lnTo>
                      <a:pt x="1886" y="1344"/>
                    </a:lnTo>
                    <a:lnTo>
                      <a:pt x="1712" y="1538"/>
                    </a:lnTo>
                    <a:lnTo>
                      <a:pt x="1537" y="1771"/>
                    </a:lnTo>
                    <a:lnTo>
                      <a:pt x="1461" y="1875"/>
                    </a:lnTo>
                    <a:lnTo>
                      <a:pt x="1412" y="1962"/>
                    </a:lnTo>
                    <a:lnTo>
                      <a:pt x="1333" y="2108"/>
                    </a:lnTo>
                    <a:lnTo>
                      <a:pt x="1277" y="2244"/>
                    </a:lnTo>
                    <a:lnTo>
                      <a:pt x="1246" y="2311"/>
                    </a:lnTo>
                    <a:lnTo>
                      <a:pt x="1209" y="2380"/>
                    </a:lnTo>
                    <a:lnTo>
                      <a:pt x="1201" y="2418"/>
                    </a:lnTo>
                    <a:lnTo>
                      <a:pt x="1209" y="2467"/>
                    </a:lnTo>
                    <a:lnTo>
                      <a:pt x="1228" y="2535"/>
                    </a:lnTo>
                    <a:lnTo>
                      <a:pt x="1259" y="2621"/>
                    </a:lnTo>
                    <a:lnTo>
                      <a:pt x="1296" y="2737"/>
                    </a:lnTo>
                    <a:lnTo>
                      <a:pt x="1302" y="27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128480" y="2989440"/>
                <a:ext cx="90000" cy="61560"/>
              </a:xfrm>
              <a:custGeom>
                <a:avLst/>
                <a:gdLst/>
                <a:ahLst/>
                <a:rect l="l" t="t" r="r" b="b"/>
                <a:pathLst>
                  <a:path w="239" h="177">
                    <a:moveTo>
                      <a:pt x="0" y="177"/>
                    </a:moveTo>
                    <a:lnTo>
                      <a:pt x="3" y="135"/>
                    </a:lnTo>
                    <a:lnTo>
                      <a:pt x="54" y="87"/>
                    </a:lnTo>
                    <a:lnTo>
                      <a:pt x="121" y="47"/>
                    </a:lnTo>
                    <a:lnTo>
                      <a:pt x="239" y="0"/>
                    </a:lnTo>
                    <a:lnTo>
                      <a:pt x="186" y="47"/>
                    </a:lnTo>
                    <a:lnTo>
                      <a:pt x="126" y="97"/>
                    </a:lnTo>
                    <a:lnTo>
                      <a:pt x="90" y="135"/>
                    </a:lnTo>
                    <a:lnTo>
                      <a:pt x="61" y="155"/>
                    </a:lnTo>
                    <a:lnTo>
                      <a:pt x="52" y="164"/>
                    </a:lnTo>
                    <a:lnTo>
                      <a:pt x="0" y="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010320" y="1605240"/>
                <a:ext cx="559080" cy="2880"/>
              </a:xfrm>
              <a:custGeom>
                <a:avLst/>
                <a:gdLst/>
                <a:ahLst/>
                <a:rect l="l" t="t" r="r" b="b"/>
                <a:pathLst>
                  <a:path w="1459" h="8">
                    <a:moveTo>
                      <a:pt x="1458" y="8"/>
                    </a:moveTo>
                    <a:lnTo>
                      <a:pt x="1068" y="8"/>
                    </a:lnTo>
                    <a:lnTo>
                      <a:pt x="1065" y="0"/>
                    </a:lnTo>
                    <a:lnTo>
                      <a:pt x="1459" y="0"/>
                    </a:lnTo>
                    <a:lnTo>
                      <a:pt x="1458" y="8"/>
                    </a:lnTo>
                    <a:close/>
                    <a:moveTo>
                      <a:pt x="379" y="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382" y="0"/>
                    </a:lnTo>
                    <a:lnTo>
                      <a:pt x="379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008520" y="16030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1" h="16">
                    <a:moveTo>
                      <a:pt x="1459" y="16"/>
                    </a:moveTo>
                    <a:lnTo>
                      <a:pt x="1069" y="16"/>
                    </a:lnTo>
                    <a:lnTo>
                      <a:pt x="1062" y="0"/>
                    </a:lnTo>
                    <a:lnTo>
                      <a:pt x="1461" y="0"/>
                    </a:lnTo>
                    <a:lnTo>
                      <a:pt x="1459" y="16"/>
                    </a:lnTo>
                    <a:close/>
                    <a:moveTo>
                      <a:pt x="3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385" y="0"/>
                    </a:lnTo>
                    <a:lnTo>
                      <a:pt x="380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008520" y="1599480"/>
                <a:ext cx="562680" cy="540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1" y="15"/>
                    </a:moveTo>
                    <a:lnTo>
                      <a:pt x="1067" y="15"/>
                    </a:lnTo>
                    <a:lnTo>
                      <a:pt x="1060" y="0"/>
                    </a:lnTo>
                    <a:lnTo>
                      <a:pt x="1464" y="0"/>
                    </a:lnTo>
                    <a:lnTo>
                      <a:pt x="1461" y="15"/>
                    </a:lnTo>
                    <a:close/>
                    <a:moveTo>
                      <a:pt x="3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384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008520" y="15980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6" h="14">
                    <a:moveTo>
                      <a:pt x="1463" y="14"/>
                    </a:moveTo>
                    <a:lnTo>
                      <a:pt x="1064" y="14"/>
                    </a:lnTo>
                    <a:lnTo>
                      <a:pt x="1058" y="0"/>
                    </a:lnTo>
                    <a:lnTo>
                      <a:pt x="1466" y="0"/>
                    </a:lnTo>
                    <a:lnTo>
                      <a:pt x="1463" y="14"/>
                    </a:lnTo>
                    <a:close/>
                    <a:moveTo>
                      <a:pt x="3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394" y="0"/>
                    </a:lnTo>
                    <a:lnTo>
                      <a:pt x="38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008520" y="15944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8" h="15">
                    <a:moveTo>
                      <a:pt x="1466" y="15"/>
                    </a:moveTo>
                    <a:lnTo>
                      <a:pt x="1062" y="15"/>
                    </a:lnTo>
                    <a:lnTo>
                      <a:pt x="1056" y="0"/>
                    </a:lnTo>
                    <a:lnTo>
                      <a:pt x="1468" y="0"/>
                    </a:lnTo>
                    <a:lnTo>
                      <a:pt x="1466" y="15"/>
                    </a:lnTo>
                    <a:close/>
                    <a:moveTo>
                      <a:pt x="39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98" y="0"/>
                    </a:lnTo>
                    <a:lnTo>
                      <a:pt x="391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3008520" y="1592640"/>
                <a:ext cx="564480" cy="5040"/>
              </a:xfrm>
              <a:custGeom>
                <a:avLst/>
                <a:gdLst/>
                <a:ahLst/>
                <a:rect l="l" t="t" r="r" b="b"/>
                <a:pathLst>
                  <a:path w="1470" h="16">
                    <a:moveTo>
                      <a:pt x="1468" y="16"/>
                    </a:moveTo>
                    <a:lnTo>
                      <a:pt x="1060" y="16"/>
                    </a:lnTo>
                    <a:lnTo>
                      <a:pt x="1054" y="0"/>
                    </a:lnTo>
                    <a:lnTo>
                      <a:pt x="1470" y="0"/>
                    </a:lnTo>
                    <a:lnTo>
                      <a:pt x="1468" y="16"/>
                    </a:lnTo>
                    <a:close/>
                    <a:moveTo>
                      <a:pt x="3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02" y="0"/>
                    </a:lnTo>
                    <a:lnTo>
                      <a:pt x="39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006360" y="15890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2" h="15">
                    <a:moveTo>
                      <a:pt x="1470" y="15"/>
                    </a:moveTo>
                    <a:lnTo>
                      <a:pt x="1058" y="15"/>
                    </a:lnTo>
                    <a:lnTo>
                      <a:pt x="1052" y="0"/>
                    </a:lnTo>
                    <a:lnTo>
                      <a:pt x="1472" y="0"/>
                    </a:lnTo>
                    <a:lnTo>
                      <a:pt x="1470" y="15"/>
                    </a:lnTo>
                    <a:close/>
                    <a:moveTo>
                      <a:pt x="4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06" y="0"/>
                    </a:lnTo>
                    <a:lnTo>
                      <a:pt x="400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006360" y="1586880"/>
                <a:ext cx="566640" cy="5400"/>
              </a:xfrm>
              <a:custGeom>
                <a:avLst/>
                <a:gdLst/>
                <a:ahLst/>
                <a:rect l="l" t="t" r="r" b="b"/>
                <a:pathLst>
                  <a:path w="1474" h="15">
                    <a:moveTo>
                      <a:pt x="1472" y="15"/>
                    </a:moveTo>
                    <a:lnTo>
                      <a:pt x="1056" y="15"/>
                    </a:lnTo>
                    <a:lnTo>
                      <a:pt x="1050" y="0"/>
                    </a:lnTo>
                    <a:lnTo>
                      <a:pt x="1474" y="0"/>
                    </a:lnTo>
                    <a:lnTo>
                      <a:pt x="1472" y="15"/>
                    </a:lnTo>
                    <a:close/>
                    <a:moveTo>
                      <a:pt x="4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0" y="0"/>
                    </a:lnTo>
                    <a:lnTo>
                      <a:pt x="404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006360" y="158400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6" h="15">
                    <a:moveTo>
                      <a:pt x="1474" y="15"/>
                    </a:moveTo>
                    <a:lnTo>
                      <a:pt x="1054" y="15"/>
                    </a:lnTo>
                    <a:lnTo>
                      <a:pt x="1047" y="0"/>
                    </a:lnTo>
                    <a:lnTo>
                      <a:pt x="1476" y="0"/>
                    </a:lnTo>
                    <a:lnTo>
                      <a:pt x="1474" y="15"/>
                    </a:lnTo>
                    <a:close/>
                    <a:moveTo>
                      <a:pt x="4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3" y="0"/>
                    </a:lnTo>
                    <a:lnTo>
                      <a:pt x="408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3006360" y="15818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8" h="14">
                    <a:moveTo>
                      <a:pt x="1476" y="14"/>
                    </a:moveTo>
                    <a:lnTo>
                      <a:pt x="1052" y="14"/>
                    </a:lnTo>
                    <a:lnTo>
                      <a:pt x="1046" y="0"/>
                    </a:lnTo>
                    <a:lnTo>
                      <a:pt x="1478" y="0"/>
                    </a:lnTo>
                    <a:lnTo>
                      <a:pt x="1476" y="14"/>
                    </a:lnTo>
                    <a:close/>
                    <a:moveTo>
                      <a:pt x="41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3004560" y="157824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1" h="16">
                    <a:moveTo>
                      <a:pt x="1479" y="16"/>
                    </a:moveTo>
                    <a:lnTo>
                      <a:pt x="1050" y="16"/>
                    </a:lnTo>
                    <a:lnTo>
                      <a:pt x="1045" y="0"/>
                    </a:lnTo>
                    <a:lnTo>
                      <a:pt x="1481" y="0"/>
                    </a:lnTo>
                    <a:lnTo>
                      <a:pt x="1479" y="16"/>
                    </a:lnTo>
                    <a:close/>
                    <a:moveTo>
                      <a:pt x="416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3" y="0"/>
                    </a:lnTo>
                    <a:lnTo>
                      <a:pt x="416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004560" y="15764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3" h="16">
                    <a:moveTo>
                      <a:pt x="1481" y="16"/>
                    </a:moveTo>
                    <a:lnTo>
                      <a:pt x="1049" y="16"/>
                    </a:lnTo>
                    <a:lnTo>
                      <a:pt x="1043" y="0"/>
                    </a:lnTo>
                    <a:lnTo>
                      <a:pt x="1483" y="0"/>
                    </a:lnTo>
                    <a:lnTo>
                      <a:pt x="1481" y="16"/>
                    </a:lnTo>
                    <a:close/>
                    <a:moveTo>
                      <a:pt x="420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7" y="0"/>
                    </a:lnTo>
                    <a:lnTo>
                      <a:pt x="420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3004560" y="15728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5" h="15">
                    <a:moveTo>
                      <a:pt x="1483" y="15"/>
                    </a:moveTo>
                    <a:lnTo>
                      <a:pt x="1047" y="15"/>
                    </a:lnTo>
                    <a:lnTo>
                      <a:pt x="1041" y="0"/>
                    </a:lnTo>
                    <a:lnTo>
                      <a:pt x="1485" y="0"/>
                    </a:lnTo>
                    <a:lnTo>
                      <a:pt x="1483" y="15"/>
                    </a:lnTo>
                    <a:close/>
                    <a:moveTo>
                      <a:pt x="42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1" y="0"/>
                    </a:lnTo>
                    <a:lnTo>
                      <a:pt x="425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004560" y="15714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7" h="15">
                    <a:moveTo>
                      <a:pt x="1485" y="15"/>
                    </a:moveTo>
                    <a:lnTo>
                      <a:pt x="1045" y="15"/>
                    </a:lnTo>
                    <a:lnTo>
                      <a:pt x="1039" y="0"/>
                    </a:lnTo>
                    <a:lnTo>
                      <a:pt x="1487" y="0"/>
                    </a:lnTo>
                    <a:lnTo>
                      <a:pt x="1485" y="15"/>
                    </a:lnTo>
                    <a:close/>
                    <a:moveTo>
                      <a:pt x="4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5" y="0"/>
                    </a:lnTo>
                    <a:lnTo>
                      <a:pt x="429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3004560" y="15678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8" h="14">
                    <a:moveTo>
                      <a:pt x="1487" y="14"/>
                    </a:moveTo>
                    <a:lnTo>
                      <a:pt x="1043" y="14"/>
                    </a:lnTo>
                    <a:lnTo>
                      <a:pt x="1037" y="0"/>
                    </a:lnTo>
                    <a:lnTo>
                      <a:pt x="1488" y="0"/>
                    </a:lnTo>
                    <a:lnTo>
                      <a:pt x="1487" y="14"/>
                    </a:lnTo>
                    <a:close/>
                    <a:moveTo>
                      <a:pt x="4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38" y="0"/>
                    </a:lnTo>
                    <a:lnTo>
                      <a:pt x="433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3002760" y="156600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89" y="15"/>
                    </a:moveTo>
                    <a:lnTo>
                      <a:pt x="1041" y="15"/>
                    </a:lnTo>
                    <a:lnTo>
                      <a:pt x="1034" y="0"/>
                    </a:lnTo>
                    <a:lnTo>
                      <a:pt x="1490" y="0"/>
                    </a:lnTo>
                    <a:lnTo>
                      <a:pt x="1489" y="15"/>
                    </a:lnTo>
                    <a:close/>
                    <a:moveTo>
                      <a:pt x="43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42" y="0"/>
                    </a:lnTo>
                    <a:lnTo>
                      <a:pt x="437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3002760" y="15624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2" h="16">
                    <a:moveTo>
                      <a:pt x="1490" y="16"/>
                    </a:moveTo>
                    <a:lnTo>
                      <a:pt x="1039" y="16"/>
                    </a:lnTo>
                    <a:lnTo>
                      <a:pt x="1032" y="0"/>
                    </a:lnTo>
                    <a:lnTo>
                      <a:pt x="1492" y="0"/>
                    </a:lnTo>
                    <a:lnTo>
                      <a:pt x="1490" y="16"/>
                    </a:lnTo>
                    <a:close/>
                    <a:moveTo>
                      <a:pt x="44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46" y="0"/>
                    </a:lnTo>
                    <a:lnTo>
                      <a:pt x="440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3002760" y="1560600"/>
                <a:ext cx="574200" cy="5400"/>
              </a:xfrm>
              <a:custGeom>
                <a:avLst/>
                <a:gdLst/>
                <a:ahLst/>
                <a:rect l="l" t="t" r="r" b="b"/>
                <a:pathLst>
                  <a:path w="1494" h="15">
                    <a:moveTo>
                      <a:pt x="1492" y="15"/>
                    </a:moveTo>
                    <a:lnTo>
                      <a:pt x="1036" y="15"/>
                    </a:lnTo>
                    <a:lnTo>
                      <a:pt x="1030" y="0"/>
                    </a:lnTo>
                    <a:lnTo>
                      <a:pt x="1494" y="0"/>
                    </a:lnTo>
                    <a:lnTo>
                      <a:pt x="1492" y="15"/>
                    </a:lnTo>
                    <a:close/>
                    <a:moveTo>
                      <a:pt x="44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1" y="0"/>
                    </a:lnTo>
                    <a:lnTo>
                      <a:pt x="444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3002760" y="155736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6" h="15">
                    <a:moveTo>
                      <a:pt x="1494" y="15"/>
                    </a:moveTo>
                    <a:lnTo>
                      <a:pt x="1034" y="15"/>
                    </a:lnTo>
                    <a:lnTo>
                      <a:pt x="1028" y="0"/>
                    </a:lnTo>
                    <a:lnTo>
                      <a:pt x="1496" y="0"/>
                    </a:lnTo>
                    <a:lnTo>
                      <a:pt x="1494" y="15"/>
                    </a:lnTo>
                    <a:close/>
                    <a:moveTo>
                      <a:pt x="4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5" y="0"/>
                    </a:lnTo>
                    <a:lnTo>
                      <a:pt x="448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3002760" y="15552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8" h="15">
                    <a:moveTo>
                      <a:pt x="1496" y="15"/>
                    </a:moveTo>
                    <a:lnTo>
                      <a:pt x="1032" y="15"/>
                    </a:lnTo>
                    <a:lnTo>
                      <a:pt x="1026" y="0"/>
                    </a:lnTo>
                    <a:lnTo>
                      <a:pt x="1498" y="0"/>
                    </a:lnTo>
                    <a:lnTo>
                      <a:pt x="1496" y="15"/>
                    </a:lnTo>
                    <a:close/>
                    <a:moveTo>
                      <a:pt x="4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9" y="0"/>
                    </a:lnTo>
                    <a:lnTo>
                      <a:pt x="453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3000600" y="155160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500" h="14">
                    <a:moveTo>
                      <a:pt x="1498" y="14"/>
                    </a:moveTo>
                    <a:lnTo>
                      <a:pt x="1030" y="14"/>
                    </a:lnTo>
                    <a:lnTo>
                      <a:pt x="1024" y="0"/>
                    </a:lnTo>
                    <a:lnTo>
                      <a:pt x="1500" y="0"/>
                    </a:lnTo>
                    <a:lnTo>
                      <a:pt x="1498" y="14"/>
                    </a:lnTo>
                    <a:close/>
                    <a:moveTo>
                      <a:pt x="45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63" y="0"/>
                    </a:lnTo>
                    <a:lnTo>
                      <a:pt x="457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3000600" y="1550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2" h="16">
                    <a:moveTo>
                      <a:pt x="1500" y="16"/>
                    </a:moveTo>
                    <a:lnTo>
                      <a:pt x="1028" y="16"/>
                    </a:lnTo>
                    <a:lnTo>
                      <a:pt x="1023" y="0"/>
                    </a:lnTo>
                    <a:lnTo>
                      <a:pt x="1502" y="0"/>
                    </a:lnTo>
                    <a:lnTo>
                      <a:pt x="1500" y="16"/>
                    </a:lnTo>
                    <a:close/>
                    <a:moveTo>
                      <a:pt x="4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66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3000600" y="15465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4" h="16">
                    <a:moveTo>
                      <a:pt x="1502" y="16"/>
                    </a:moveTo>
                    <a:lnTo>
                      <a:pt x="1026" y="16"/>
                    </a:lnTo>
                    <a:lnTo>
                      <a:pt x="1020" y="0"/>
                    </a:lnTo>
                    <a:lnTo>
                      <a:pt x="1504" y="0"/>
                    </a:lnTo>
                    <a:lnTo>
                      <a:pt x="1502" y="16"/>
                    </a:lnTo>
                    <a:close/>
                    <a:moveTo>
                      <a:pt x="46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0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3000600" y="15447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7" h="15">
                    <a:moveTo>
                      <a:pt x="1504" y="15"/>
                    </a:moveTo>
                    <a:lnTo>
                      <a:pt x="1025" y="15"/>
                    </a:lnTo>
                    <a:lnTo>
                      <a:pt x="1018" y="0"/>
                    </a:lnTo>
                    <a:lnTo>
                      <a:pt x="1507" y="0"/>
                    </a:lnTo>
                    <a:lnTo>
                      <a:pt x="1504" y="15"/>
                    </a:lnTo>
                    <a:close/>
                    <a:moveTo>
                      <a:pt x="46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3000600" y="1541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9" h="15">
                    <a:moveTo>
                      <a:pt x="1506" y="15"/>
                    </a:moveTo>
                    <a:lnTo>
                      <a:pt x="1022" y="15"/>
                    </a:lnTo>
                    <a:lnTo>
                      <a:pt x="1016" y="0"/>
                    </a:lnTo>
                    <a:lnTo>
                      <a:pt x="1509" y="0"/>
                    </a:lnTo>
                    <a:lnTo>
                      <a:pt x="1506" y="15"/>
                    </a:lnTo>
                    <a:close/>
                    <a:moveTo>
                      <a:pt x="47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998800" y="1539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1" h="14">
                    <a:moveTo>
                      <a:pt x="1509" y="14"/>
                    </a:moveTo>
                    <a:lnTo>
                      <a:pt x="1020" y="14"/>
                    </a:lnTo>
                    <a:lnTo>
                      <a:pt x="1014" y="0"/>
                    </a:lnTo>
                    <a:lnTo>
                      <a:pt x="1511" y="0"/>
                    </a:lnTo>
                    <a:lnTo>
                      <a:pt x="150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998800" y="15361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3" h="16">
                    <a:moveTo>
                      <a:pt x="1511" y="16"/>
                    </a:moveTo>
                    <a:lnTo>
                      <a:pt x="1018" y="16"/>
                    </a:lnTo>
                    <a:lnTo>
                      <a:pt x="1012" y="0"/>
                    </a:lnTo>
                    <a:lnTo>
                      <a:pt x="1513" y="0"/>
                    </a:lnTo>
                    <a:lnTo>
                      <a:pt x="1511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998800" y="153396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6">
                    <a:moveTo>
                      <a:pt x="1513" y="16"/>
                    </a:moveTo>
                    <a:lnTo>
                      <a:pt x="1016" y="16"/>
                    </a:lnTo>
                    <a:lnTo>
                      <a:pt x="1010" y="0"/>
                    </a:lnTo>
                    <a:lnTo>
                      <a:pt x="1515" y="0"/>
                    </a:lnTo>
                    <a:lnTo>
                      <a:pt x="1513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998800" y="1530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7" h="14">
                    <a:moveTo>
                      <a:pt x="1515" y="14"/>
                    </a:moveTo>
                    <a:lnTo>
                      <a:pt x="1014" y="14"/>
                    </a:lnTo>
                    <a:lnTo>
                      <a:pt x="1008" y="0"/>
                    </a:lnTo>
                    <a:lnTo>
                      <a:pt x="1517" y="0"/>
                    </a:lnTo>
                    <a:lnTo>
                      <a:pt x="1515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998800" y="1528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8" h="15">
                    <a:moveTo>
                      <a:pt x="1517" y="15"/>
                    </a:moveTo>
                    <a:lnTo>
                      <a:pt x="1012" y="15"/>
                    </a:lnTo>
                    <a:lnTo>
                      <a:pt x="1005" y="0"/>
                    </a:lnTo>
                    <a:lnTo>
                      <a:pt x="1518" y="0"/>
                    </a:lnTo>
                    <a:lnTo>
                      <a:pt x="1517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996640" y="15253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1" h="15">
                    <a:moveTo>
                      <a:pt x="1520" y="15"/>
                    </a:moveTo>
                    <a:lnTo>
                      <a:pt x="1011" y="15"/>
                    </a:lnTo>
                    <a:lnTo>
                      <a:pt x="1004" y="0"/>
                    </a:lnTo>
                    <a:lnTo>
                      <a:pt x="1521" y="0"/>
                    </a:lnTo>
                    <a:lnTo>
                      <a:pt x="1520" y="15"/>
                    </a:lnTo>
                    <a:close/>
                    <a:moveTo>
                      <a:pt x="497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3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996640" y="15235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3" h="15">
                    <a:moveTo>
                      <a:pt x="1521" y="15"/>
                    </a:moveTo>
                    <a:lnTo>
                      <a:pt x="1008" y="15"/>
                    </a:lnTo>
                    <a:lnTo>
                      <a:pt x="1002" y="0"/>
                    </a:lnTo>
                    <a:lnTo>
                      <a:pt x="1523" y="0"/>
                    </a:lnTo>
                    <a:lnTo>
                      <a:pt x="1521" y="15"/>
                    </a:lnTo>
                    <a:close/>
                    <a:moveTo>
                      <a:pt x="50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8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996640" y="15199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3" y="16"/>
                    </a:moveTo>
                    <a:lnTo>
                      <a:pt x="1006" y="16"/>
                    </a:lnTo>
                    <a:lnTo>
                      <a:pt x="1001" y="0"/>
                    </a:lnTo>
                    <a:lnTo>
                      <a:pt x="1525" y="0"/>
                    </a:lnTo>
                    <a:lnTo>
                      <a:pt x="1523" y="16"/>
                    </a:lnTo>
                    <a:close/>
                    <a:moveTo>
                      <a:pt x="50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996640" y="151848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7" h="15">
                    <a:moveTo>
                      <a:pt x="1525" y="15"/>
                    </a:moveTo>
                    <a:lnTo>
                      <a:pt x="1004" y="15"/>
                    </a:lnTo>
                    <a:lnTo>
                      <a:pt x="999" y="0"/>
                    </a:lnTo>
                    <a:lnTo>
                      <a:pt x="1527" y="0"/>
                    </a:lnTo>
                    <a:lnTo>
                      <a:pt x="1525" y="15"/>
                    </a:lnTo>
                    <a:close/>
                    <a:moveTo>
                      <a:pt x="5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6" y="0"/>
                    </a:lnTo>
                    <a:lnTo>
                      <a:pt x="51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994840" y="151488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29" h="15">
                    <a:moveTo>
                      <a:pt x="1527" y="15"/>
                    </a:moveTo>
                    <a:lnTo>
                      <a:pt x="1003" y="15"/>
                    </a:lnTo>
                    <a:lnTo>
                      <a:pt x="997" y="0"/>
                    </a:lnTo>
                    <a:lnTo>
                      <a:pt x="1529" y="0"/>
                    </a:lnTo>
                    <a:lnTo>
                      <a:pt x="1527" y="15"/>
                    </a:lnTo>
                    <a:close/>
                    <a:moveTo>
                      <a:pt x="5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9" y="0"/>
                    </a:lnTo>
                    <a:lnTo>
                      <a:pt x="514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994840" y="1512720"/>
                <a:ext cx="587520" cy="540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29" y="15"/>
                    </a:moveTo>
                    <a:lnTo>
                      <a:pt x="1001" y="15"/>
                    </a:lnTo>
                    <a:lnTo>
                      <a:pt x="995" y="0"/>
                    </a:lnTo>
                    <a:lnTo>
                      <a:pt x="1531" y="0"/>
                    </a:lnTo>
                    <a:lnTo>
                      <a:pt x="1529" y="15"/>
                    </a:lnTo>
                    <a:close/>
                    <a:moveTo>
                      <a:pt x="5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3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994840" y="150912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3" h="15">
                    <a:moveTo>
                      <a:pt x="1531" y="15"/>
                    </a:moveTo>
                    <a:lnTo>
                      <a:pt x="999" y="15"/>
                    </a:lnTo>
                    <a:lnTo>
                      <a:pt x="992" y="0"/>
                    </a:lnTo>
                    <a:lnTo>
                      <a:pt x="1533" y="0"/>
                    </a:lnTo>
                    <a:lnTo>
                      <a:pt x="1531" y="15"/>
                    </a:lnTo>
                    <a:close/>
                    <a:moveTo>
                      <a:pt x="52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7" y="0"/>
                    </a:lnTo>
                    <a:lnTo>
                      <a:pt x="521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994840" y="1505880"/>
                <a:ext cx="589680" cy="6480"/>
              </a:xfrm>
              <a:custGeom>
                <a:avLst/>
                <a:gdLst/>
                <a:ahLst/>
                <a:rect l="l" t="t" r="r" b="b"/>
                <a:pathLst>
                  <a:path w="1535" h="16">
                    <a:moveTo>
                      <a:pt x="1533" y="16"/>
                    </a:moveTo>
                    <a:lnTo>
                      <a:pt x="997" y="16"/>
                    </a:lnTo>
                    <a:lnTo>
                      <a:pt x="990" y="0"/>
                    </a:lnTo>
                    <a:lnTo>
                      <a:pt x="1535" y="0"/>
                    </a:lnTo>
                    <a:lnTo>
                      <a:pt x="1533" y="16"/>
                    </a:lnTo>
                    <a:close/>
                    <a:moveTo>
                      <a:pt x="52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31" y="0"/>
                    </a:lnTo>
                    <a:lnTo>
                      <a:pt x="525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994840" y="1504080"/>
                <a:ext cx="589680" cy="5040"/>
              </a:xfrm>
              <a:custGeom>
                <a:avLst/>
                <a:gdLst/>
                <a:ahLst/>
                <a:rect l="l" t="t" r="r" b="b"/>
                <a:pathLst>
                  <a:path w="1537" h="15">
                    <a:moveTo>
                      <a:pt x="1535" y="15"/>
                    </a:moveTo>
                    <a:lnTo>
                      <a:pt x="994" y="15"/>
                    </a:lnTo>
                    <a:lnTo>
                      <a:pt x="988" y="0"/>
                    </a:lnTo>
                    <a:lnTo>
                      <a:pt x="1537" y="0"/>
                    </a:lnTo>
                    <a:lnTo>
                      <a:pt x="1535" y="15"/>
                    </a:lnTo>
                    <a:close/>
                    <a:moveTo>
                      <a:pt x="5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29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993040" y="1502280"/>
                <a:ext cx="591480" cy="3600"/>
              </a:xfrm>
              <a:custGeom>
                <a:avLst/>
                <a:gdLst/>
                <a:ahLst/>
                <a:rect l="l" t="t" r="r" b="b"/>
                <a:pathLst>
                  <a:path w="1539" h="14">
                    <a:moveTo>
                      <a:pt x="1537" y="14"/>
                    </a:moveTo>
                    <a:lnTo>
                      <a:pt x="992" y="14"/>
                    </a:lnTo>
                    <a:lnTo>
                      <a:pt x="986" y="0"/>
                    </a:lnTo>
                    <a:lnTo>
                      <a:pt x="1539" y="0"/>
                    </a:lnTo>
                    <a:lnTo>
                      <a:pt x="1537" y="14"/>
                    </a:lnTo>
                    <a:close/>
                    <a:moveTo>
                      <a:pt x="5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33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993040" y="149868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1" h="15">
                    <a:moveTo>
                      <a:pt x="1539" y="15"/>
                    </a:moveTo>
                    <a:lnTo>
                      <a:pt x="990" y="15"/>
                    </a:lnTo>
                    <a:lnTo>
                      <a:pt x="984" y="0"/>
                    </a:lnTo>
                    <a:lnTo>
                      <a:pt x="1541" y="0"/>
                    </a:lnTo>
                    <a:lnTo>
                      <a:pt x="1539" y="15"/>
                    </a:lnTo>
                    <a:close/>
                    <a:moveTo>
                      <a:pt x="5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43" y="0"/>
                    </a:lnTo>
                    <a:lnTo>
                      <a:pt x="538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993040" y="1495080"/>
                <a:ext cx="593280" cy="7200"/>
              </a:xfrm>
              <a:custGeom>
                <a:avLst/>
                <a:gdLst/>
                <a:ahLst/>
                <a:rect l="l" t="t" r="r" b="b"/>
                <a:pathLst>
                  <a:path w="1543" h="16">
                    <a:moveTo>
                      <a:pt x="1541" y="16"/>
                    </a:moveTo>
                    <a:lnTo>
                      <a:pt x="988" y="16"/>
                    </a:lnTo>
                    <a:lnTo>
                      <a:pt x="982" y="0"/>
                    </a:lnTo>
                    <a:lnTo>
                      <a:pt x="1543" y="0"/>
                    </a:lnTo>
                    <a:lnTo>
                      <a:pt x="1541" y="16"/>
                    </a:lnTo>
                    <a:close/>
                    <a:moveTo>
                      <a:pt x="54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542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993040" y="14936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5" h="15">
                    <a:moveTo>
                      <a:pt x="1543" y="15"/>
                    </a:moveTo>
                    <a:lnTo>
                      <a:pt x="986" y="15"/>
                    </a:lnTo>
                    <a:lnTo>
                      <a:pt x="979" y="0"/>
                    </a:lnTo>
                    <a:lnTo>
                      <a:pt x="1545" y="0"/>
                    </a:lnTo>
                    <a:lnTo>
                      <a:pt x="1543" y="15"/>
                    </a:lnTo>
                    <a:close/>
                    <a:moveTo>
                      <a:pt x="54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1" y="0"/>
                    </a:lnTo>
                    <a:lnTo>
                      <a:pt x="545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993040" y="14900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7" h="15">
                    <a:moveTo>
                      <a:pt x="1545" y="15"/>
                    </a:moveTo>
                    <a:lnTo>
                      <a:pt x="984" y="15"/>
                    </a:lnTo>
                    <a:lnTo>
                      <a:pt x="978" y="0"/>
                    </a:lnTo>
                    <a:lnTo>
                      <a:pt x="1547" y="0"/>
                    </a:lnTo>
                    <a:lnTo>
                      <a:pt x="1545" y="15"/>
                    </a:lnTo>
                    <a:close/>
                    <a:moveTo>
                      <a:pt x="54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5" y="0"/>
                    </a:lnTo>
                    <a:lnTo>
                      <a:pt x="5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990880" y="14882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0" h="15">
                    <a:moveTo>
                      <a:pt x="1547" y="15"/>
                    </a:moveTo>
                    <a:lnTo>
                      <a:pt x="981" y="15"/>
                    </a:lnTo>
                    <a:lnTo>
                      <a:pt x="976" y="0"/>
                    </a:lnTo>
                    <a:lnTo>
                      <a:pt x="1550" y="0"/>
                    </a:lnTo>
                    <a:lnTo>
                      <a:pt x="1547" y="15"/>
                    </a:lnTo>
                    <a:close/>
                    <a:moveTo>
                      <a:pt x="5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990880" y="14846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1" h="15">
                    <a:moveTo>
                      <a:pt x="1549" y="15"/>
                    </a:moveTo>
                    <a:lnTo>
                      <a:pt x="980" y="15"/>
                    </a:lnTo>
                    <a:lnTo>
                      <a:pt x="974" y="0"/>
                    </a:lnTo>
                    <a:lnTo>
                      <a:pt x="1551" y="0"/>
                    </a:lnTo>
                    <a:lnTo>
                      <a:pt x="1549" y="15"/>
                    </a:lnTo>
                    <a:close/>
                    <a:moveTo>
                      <a:pt x="55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64" y="0"/>
                    </a:lnTo>
                    <a:lnTo>
                      <a:pt x="557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990880" y="1482480"/>
                <a:ext cx="597600" cy="5400"/>
              </a:xfrm>
              <a:custGeom>
                <a:avLst/>
                <a:gdLst/>
                <a:ahLst/>
                <a:rect l="l" t="t" r="r" b="b"/>
                <a:pathLst>
                  <a:path w="1553" h="16">
                    <a:moveTo>
                      <a:pt x="1552" y="16"/>
                    </a:moveTo>
                    <a:lnTo>
                      <a:pt x="978" y="16"/>
                    </a:lnTo>
                    <a:lnTo>
                      <a:pt x="972" y="0"/>
                    </a:lnTo>
                    <a:lnTo>
                      <a:pt x="1553" y="0"/>
                    </a:lnTo>
                    <a:lnTo>
                      <a:pt x="1552" y="16"/>
                    </a:lnTo>
                    <a:close/>
                    <a:moveTo>
                      <a:pt x="5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68" y="0"/>
                    </a:lnTo>
                    <a:lnTo>
                      <a:pt x="561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990880" y="147960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5" h="15">
                    <a:moveTo>
                      <a:pt x="1553" y="15"/>
                    </a:moveTo>
                    <a:lnTo>
                      <a:pt x="976" y="15"/>
                    </a:lnTo>
                    <a:lnTo>
                      <a:pt x="970" y="0"/>
                    </a:lnTo>
                    <a:lnTo>
                      <a:pt x="1555" y="0"/>
                    </a:lnTo>
                    <a:lnTo>
                      <a:pt x="1553" y="15"/>
                    </a:lnTo>
                    <a:close/>
                    <a:moveTo>
                      <a:pt x="56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1" y="0"/>
                    </a:lnTo>
                    <a:lnTo>
                      <a:pt x="566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990880" y="147744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7" h="15">
                    <a:moveTo>
                      <a:pt x="1555" y="15"/>
                    </a:moveTo>
                    <a:lnTo>
                      <a:pt x="974" y="15"/>
                    </a:lnTo>
                    <a:lnTo>
                      <a:pt x="968" y="0"/>
                    </a:lnTo>
                    <a:lnTo>
                      <a:pt x="1557" y="0"/>
                    </a:lnTo>
                    <a:lnTo>
                      <a:pt x="1555" y="15"/>
                    </a:lnTo>
                    <a:close/>
                    <a:moveTo>
                      <a:pt x="57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5" y="0"/>
                    </a:lnTo>
                    <a:lnTo>
                      <a:pt x="570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989440" y="1473840"/>
                <a:ext cx="599400" cy="5400"/>
              </a:xfrm>
              <a:custGeom>
                <a:avLst/>
                <a:gdLst/>
                <a:ahLst/>
                <a:rect l="l" t="t" r="r" b="b"/>
                <a:pathLst>
                  <a:path w="1559" h="15">
                    <a:moveTo>
                      <a:pt x="1557" y="15"/>
                    </a:moveTo>
                    <a:lnTo>
                      <a:pt x="972" y="15"/>
                    </a:lnTo>
                    <a:lnTo>
                      <a:pt x="965" y="0"/>
                    </a:lnTo>
                    <a:lnTo>
                      <a:pt x="1559" y="0"/>
                    </a:lnTo>
                    <a:lnTo>
                      <a:pt x="1557" y="15"/>
                    </a:lnTo>
                    <a:close/>
                    <a:moveTo>
                      <a:pt x="57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9" y="0"/>
                    </a:lnTo>
                    <a:lnTo>
                      <a:pt x="57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989440" y="147240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2" h="14">
                    <a:moveTo>
                      <a:pt x="1560" y="14"/>
                    </a:moveTo>
                    <a:lnTo>
                      <a:pt x="971" y="14"/>
                    </a:lnTo>
                    <a:lnTo>
                      <a:pt x="964" y="0"/>
                    </a:lnTo>
                    <a:lnTo>
                      <a:pt x="1562" y="0"/>
                    </a:lnTo>
                    <a:lnTo>
                      <a:pt x="1560" y="14"/>
                    </a:lnTo>
                    <a:close/>
                    <a:moveTo>
                      <a:pt x="578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584" y="0"/>
                    </a:lnTo>
                    <a:lnTo>
                      <a:pt x="578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3" name=""/>
            <p:cNvGrpSpPr/>
            <p:nvPr/>
          </p:nvGrpSpPr>
          <p:grpSpPr>
            <a:xfrm>
              <a:off x="2908800" y="937800"/>
              <a:ext cx="756360" cy="535680"/>
              <a:chOff x="2908800" y="937800"/>
              <a:chExt cx="756360" cy="535680"/>
            </a:xfrm>
          </p:grpSpPr>
          <p:sp>
            <p:nvSpPr>
              <p:cNvPr id="3864" name=""/>
              <p:cNvSpPr/>
              <p:nvPr/>
            </p:nvSpPr>
            <p:spPr>
              <a:xfrm>
                <a:off x="2989080" y="14684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4" h="15">
                    <a:moveTo>
                      <a:pt x="1562" y="15"/>
                    </a:moveTo>
                    <a:lnTo>
                      <a:pt x="968" y="15"/>
                    </a:lnTo>
                    <a:lnTo>
                      <a:pt x="962" y="0"/>
                    </a:lnTo>
                    <a:lnTo>
                      <a:pt x="1564" y="0"/>
                    </a:lnTo>
                    <a:lnTo>
                      <a:pt x="1562" y="15"/>
                    </a:lnTo>
                    <a:close/>
                    <a:moveTo>
                      <a:pt x="5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88" y="0"/>
                    </a:lnTo>
                    <a:lnTo>
                      <a:pt x="582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2989080" y="14666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6" h="16">
                    <a:moveTo>
                      <a:pt x="1564" y="16"/>
                    </a:moveTo>
                    <a:lnTo>
                      <a:pt x="966" y="16"/>
                    </a:lnTo>
                    <a:lnTo>
                      <a:pt x="960" y="0"/>
                    </a:lnTo>
                    <a:lnTo>
                      <a:pt x="1566" y="0"/>
                    </a:lnTo>
                    <a:lnTo>
                      <a:pt x="1564" y="16"/>
                    </a:lnTo>
                    <a:close/>
                    <a:moveTo>
                      <a:pt x="58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93" y="0"/>
                    </a:lnTo>
                    <a:lnTo>
                      <a:pt x="586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2986920" y="146304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68" h="15">
                    <a:moveTo>
                      <a:pt x="1566" y="15"/>
                    </a:moveTo>
                    <a:lnTo>
                      <a:pt x="964" y="15"/>
                    </a:lnTo>
                    <a:lnTo>
                      <a:pt x="958" y="0"/>
                    </a:lnTo>
                    <a:lnTo>
                      <a:pt x="1568" y="0"/>
                    </a:lnTo>
                    <a:lnTo>
                      <a:pt x="1566" y="15"/>
                    </a:lnTo>
                    <a:close/>
                    <a:moveTo>
                      <a:pt x="5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590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2986920" y="1461240"/>
                <a:ext cx="603000" cy="5400"/>
              </a:xfrm>
              <a:custGeom>
                <a:avLst/>
                <a:gdLst/>
                <a:ahLst/>
                <a:rect l="l" t="t" r="r" b="b"/>
                <a:pathLst>
                  <a:path w="1570" h="15">
                    <a:moveTo>
                      <a:pt x="1568" y="15"/>
                    </a:moveTo>
                    <a:lnTo>
                      <a:pt x="962" y="15"/>
                    </a:lnTo>
                    <a:lnTo>
                      <a:pt x="957" y="0"/>
                    </a:lnTo>
                    <a:lnTo>
                      <a:pt x="1570" y="0"/>
                    </a:lnTo>
                    <a:lnTo>
                      <a:pt x="1568" y="15"/>
                    </a:lnTo>
                    <a:close/>
                    <a:moveTo>
                      <a:pt x="5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5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2986920" y="145800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0" y="15"/>
                    </a:moveTo>
                    <a:lnTo>
                      <a:pt x="960" y="15"/>
                    </a:lnTo>
                    <a:lnTo>
                      <a:pt x="955" y="0"/>
                    </a:lnTo>
                    <a:lnTo>
                      <a:pt x="1572" y="0"/>
                    </a:lnTo>
                    <a:lnTo>
                      <a:pt x="1570" y="15"/>
                    </a:lnTo>
                    <a:close/>
                    <a:moveTo>
                      <a:pt x="5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4" y="0"/>
                    </a:lnTo>
                    <a:lnTo>
                      <a:pt x="598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2986920" y="1455840"/>
                <a:ext cx="604800" cy="5040"/>
              </a:xfrm>
              <a:custGeom>
                <a:avLst/>
                <a:gdLst/>
                <a:ahLst/>
                <a:rect l="l" t="t" r="r" b="b"/>
                <a:pathLst>
                  <a:path w="1574" h="15">
                    <a:moveTo>
                      <a:pt x="1572" y="15"/>
                    </a:moveTo>
                    <a:lnTo>
                      <a:pt x="959" y="15"/>
                    </a:lnTo>
                    <a:lnTo>
                      <a:pt x="952" y="0"/>
                    </a:lnTo>
                    <a:lnTo>
                      <a:pt x="1574" y="0"/>
                    </a:lnTo>
                    <a:lnTo>
                      <a:pt x="1572" y="15"/>
                    </a:lnTo>
                    <a:close/>
                    <a:moveTo>
                      <a:pt x="60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2986920" y="145224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4" y="16"/>
                    </a:moveTo>
                    <a:lnTo>
                      <a:pt x="957" y="16"/>
                    </a:lnTo>
                    <a:lnTo>
                      <a:pt x="950" y="0"/>
                    </a:lnTo>
                    <a:lnTo>
                      <a:pt x="1576" y="0"/>
                    </a:lnTo>
                    <a:lnTo>
                      <a:pt x="1574" y="16"/>
                    </a:lnTo>
                    <a:close/>
                    <a:moveTo>
                      <a:pt x="60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12" y="0"/>
                    </a:lnTo>
                    <a:lnTo>
                      <a:pt x="60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2985120" y="1450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78" h="15">
                    <a:moveTo>
                      <a:pt x="1576" y="15"/>
                    </a:moveTo>
                    <a:lnTo>
                      <a:pt x="954" y="15"/>
                    </a:lnTo>
                    <a:lnTo>
                      <a:pt x="948" y="0"/>
                    </a:lnTo>
                    <a:lnTo>
                      <a:pt x="1578" y="0"/>
                    </a:lnTo>
                    <a:lnTo>
                      <a:pt x="1576" y="15"/>
                    </a:lnTo>
                    <a:close/>
                    <a:moveTo>
                      <a:pt x="6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610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2985120" y="1447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0" h="15">
                    <a:moveTo>
                      <a:pt x="1578" y="15"/>
                    </a:moveTo>
                    <a:lnTo>
                      <a:pt x="952" y="15"/>
                    </a:lnTo>
                    <a:lnTo>
                      <a:pt x="946" y="0"/>
                    </a:lnTo>
                    <a:lnTo>
                      <a:pt x="1580" y="0"/>
                    </a:lnTo>
                    <a:lnTo>
                      <a:pt x="1578" y="15"/>
                    </a:lnTo>
                    <a:close/>
                    <a:moveTo>
                      <a:pt x="6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1" y="0"/>
                    </a:lnTo>
                    <a:lnTo>
                      <a:pt x="614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2985120" y="14454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1" h="15">
                    <a:moveTo>
                      <a:pt x="1580" y="15"/>
                    </a:moveTo>
                    <a:lnTo>
                      <a:pt x="950" y="15"/>
                    </a:lnTo>
                    <a:lnTo>
                      <a:pt x="944" y="0"/>
                    </a:lnTo>
                    <a:lnTo>
                      <a:pt x="1581" y="0"/>
                    </a:lnTo>
                    <a:lnTo>
                      <a:pt x="1580" y="15"/>
                    </a:lnTo>
                    <a:close/>
                    <a:moveTo>
                      <a:pt x="6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4" y="0"/>
                    </a:lnTo>
                    <a:lnTo>
                      <a:pt x="618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2985120" y="1441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3" h="14">
                    <a:moveTo>
                      <a:pt x="1582" y="14"/>
                    </a:moveTo>
                    <a:lnTo>
                      <a:pt x="948" y="14"/>
                    </a:lnTo>
                    <a:lnTo>
                      <a:pt x="942" y="0"/>
                    </a:lnTo>
                    <a:lnTo>
                      <a:pt x="1583" y="0"/>
                    </a:lnTo>
                    <a:lnTo>
                      <a:pt x="1582" y="14"/>
                    </a:lnTo>
                    <a:close/>
                    <a:moveTo>
                      <a:pt x="6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23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2985120" y="1440000"/>
                <a:ext cx="608760" cy="5400"/>
              </a:xfrm>
              <a:custGeom>
                <a:avLst/>
                <a:gdLst/>
                <a:ahLst/>
                <a:rect l="l" t="t" r="r" b="b"/>
                <a:pathLst>
                  <a:path w="1585" h="16">
                    <a:moveTo>
                      <a:pt x="1583" y="16"/>
                    </a:moveTo>
                    <a:lnTo>
                      <a:pt x="946" y="16"/>
                    </a:lnTo>
                    <a:lnTo>
                      <a:pt x="940" y="0"/>
                    </a:lnTo>
                    <a:lnTo>
                      <a:pt x="1585" y="0"/>
                    </a:lnTo>
                    <a:lnTo>
                      <a:pt x="1583" y="16"/>
                    </a:lnTo>
                    <a:close/>
                    <a:moveTo>
                      <a:pt x="62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26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2983680" y="143676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7" h="16">
                    <a:moveTo>
                      <a:pt x="1585" y="16"/>
                    </a:moveTo>
                    <a:lnTo>
                      <a:pt x="944" y="16"/>
                    </a:lnTo>
                    <a:lnTo>
                      <a:pt x="937" y="0"/>
                    </a:lnTo>
                    <a:lnTo>
                      <a:pt x="1587" y="0"/>
                    </a:lnTo>
                    <a:lnTo>
                      <a:pt x="1585" y="16"/>
                    </a:lnTo>
                    <a:close/>
                    <a:moveTo>
                      <a:pt x="6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0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2983680" y="143460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9" h="14">
                    <a:moveTo>
                      <a:pt x="1587" y="14"/>
                    </a:moveTo>
                    <a:lnTo>
                      <a:pt x="942" y="14"/>
                    </a:lnTo>
                    <a:lnTo>
                      <a:pt x="935" y="0"/>
                    </a:lnTo>
                    <a:lnTo>
                      <a:pt x="1589" y="0"/>
                    </a:lnTo>
                    <a:lnTo>
                      <a:pt x="1587" y="14"/>
                    </a:lnTo>
                    <a:close/>
                    <a:moveTo>
                      <a:pt x="63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34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2983680" y="1431000"/>
                <a:ext cx="610560" cy="5400"/>
              </a:xfrm>
              <a:custGeom>
                <a:avLst/>
                <a:gdLst/>
                <a:ahLst/>
                <a:rect l="l" t="t" r="r" b="b"/>
                <a:pathLst>
                  <a:path w="1591" h="15">
                    <a:moveTo>
                      <a:pt x="1589" y="15"/>
                    </a:moveTo>
                    <a:lnTo>
                      <a:pt x="939" y="15"/>
                    </a:lnTo>
                    <a:lnTo>
                      <a:pt x="934" y="0"/>
                    </a:lnTo>
                    <a:lnTo>
                      <a:pt x="1591" y="0"/>
                    </a:lnTo>
                    <a:lnTo>
                      <a:pt x="1589" y="15"/>
                    </a:lnTo>
                    <a:close/>
                    <a:moveTo>
                      <a:pt x="6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2983680" y="14295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4" h="15">
                    <a:moveTo>
                      <a:pt x="1591" y="15"/>
                    </a:moveTo>
                    <a:lnTo>
                      <a:pt x="937" y="15"/>
                    </a:lnTo>
                    <a:lnTo>
                      <a:pt x="932" y="0"/>
                    </a:lnTo>
                    <a:lnTo>
                      <a:pt x="1594" y="0"/>
                    </a:lnTo>
                    <a:lnTo>
                      <a:pt x="1591" y="15"/>
                    </a:lnTo>
                    <a:close/>
                    <a:moveTo>
                      <a:pt x="64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2983680" y="14259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6" h="16">
                    <a:moveTo>
                      <a:pt x="1593" y="16"/>
                    </a:moveTo>
                    <a:lnTo>
                      <a:pt x="936" y="16"/>
                    </a:lnTo>
                    <a:lnTo>
                      <a:pt x="930" y="0"/>
                    </a:lnTo>
                    <a:lnTo>
                      <a:pt x="1596" y="0"/>
                    </a:lnTo>
                    <a:lnTo>
                      <a:pt x="1593" y="16"/>
                    </a:lnTo>
                    <a:close/>
                    <a:moveTo>
                      <a:pt x="64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46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2981520" y="14241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598" h="16">
                    <a:moveTo>
                      <a:pt x="1596" y="16"/>
                    </a:moveTo>
                    <a:lnTo>
                      <a:pt x="934" y="16"/>
                    </a:lnTo>
                    <a:lnTo>
                      <a:pt x="928" y="0"/>
                    </a:lnTo>
                    <a:lnTo>
                      <a:pt x="1598" y="0"/>
                    </a:lnTo>
                    <a:lnTo>
                      <a:pt x="1596" y="16"/>
                    </a:lnTo>
                    <a:close/>
                    <a:moveTo>
                      <a:pt x="65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6" y="0"/>
                    </a:lnTo>
                    <a:lnTo>
                      <a:pt x="651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2981520" y="14205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0" h="14">
                    <a:moveTo>
                      <a:pt x="1598" y="14"/>
                    </a:moveTo>
                    <a:lnTo>
                      <a:pt x="932" y="14"/>
                    </a:lnTo>
                    <a:lnTo>
                      <a:pt x="926" y="0"/>
                    </a:lnTo>
                    <a:lnTo>
                      <a:pt x="1600" y="0"/>
                    </a:lnTo>
                    <a:lnTo>
                      <a:pt x="1598" y="14"/>
                    </a:lnTo>
                    <a:close/>
                    <a:moveTo>
                      <a:pt x="65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60" y="0"/>
                    </a:lnTo>
                    <a:lnTo>
                      <a:pt x="654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2981520" y="141912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3" h="15">
                    <a:moveTo>
                      <a:pt x="1601" y="15"/>
                    </a:moveTo>
                    <a:lnTo>
                      <a:pt x="931" y="15"/>
                    </a:lnTo>
                    <a:lnTo>
                      <a:pt x="924" y="0"/>
                    </a:lnTo>
                    <a:lnTo>
                      <a:pt x="1603" y="0"/>
                    </a:lnTo>
                    <a:lnTo>
                      <a:pt x="1601" y="15"/>
                    </a:lnTo>
                    <a:close/>
                    <a:moveTo>
                      <a:pt x="659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5" y="0"/>
                    </a:lnTo>
                    <a:lnTo>
                      <a:pt x="65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2981520" y="1415520"/>
                <a:ext cx="616680" cy="5040"/>
              </a:xfrm>
              <a:custGeom>
                <a:avLst/>
                <a:gdLst/>
                <a:ahLst/>
                <a:rect l="l" t="t" r="r" b="b"/>
                <a:pathLst>
                  <a:path w="1605" h="15">
                    <a:moveTo>
                      <a:pt x="1603" y="15"/>
                    </a:moveTo>
                    <a:lnTo>
                      <a:pt x="929" y="15"/>
                    </a:lnTo>
                    <a:lnTo>
                      <a:pt x="922" y="0"/>
                    </a:lnTo>
                    <a:lnTo>
                      <a:pt x="1605" y="0"/>
                    </a:lnTo>
                    <a:lnTo>
                      <a:pt x="1603" y="15"/>
                    </a:lnTo>
                    <a:close/>
                    <a:moveTo>
                      <a:pt x="663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9" y="0"/>
                    </a:lnTo>
                    <a:lnTo>
                      <a:pt x="663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2979720" y="141336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07" h="15">
                    <a:moveTo>
                      <a:pt x="1605" y="15"/>
                    </a:moveTo>
                    <a:lnTo>
                      <a:pt x="926" y="15"/>
                    </a:lnTo>
                    <a:lnTo>
                      <a:pt x="920" y="0"/>
                    </a:lnTo>
                    <a:lnTo>
                      <a:pt x="1607" y="0"/>
                    </a:lnTo>
                    <a:lnTo>
                      <a:pt x="1605" y="15"/>
                    </a:lnTo>
                    <a:close/>
                    <a:moveTo>
                      <a:pt x="66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73" y="0"/>
                    </a:lnTo>
                    <a:lnTo>
                      <a:pt x="667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2979720" y="14101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9" h="16">
                    <a:moveTo>
                      <a:pt x="1607" y="16"/>
                    </a:moveTo>
                    <a:lnTo>
                      <a:pt x="924" y="16"/>
                    </a:lnTo>
                    <a:lnTo>
                      <a:pt x="918" y="0"/>
                    </a:lnTo>
                    <a:lnTo>
                      <a:pt x="1609" y="0"/>
                    </a:lnTo>
                    <a:lnTo>
                      <a:pt x="1607" y="16"/>
                    </a:lnTo>
                    <a:close/>
                    <a:moveTo>
                      <a:pt x="67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77" y="0"/>
                    </a:lnTo>
                    <a:lnTo>
                      <a:pt x="671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2979720" y="14083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1" h="15">
                    <a:moveTo>
                      <a:pt x="1609" y="15"/>
                    </a:moveTo>
                    <a:lnTo>
                      <a:pt x="922" y="15"/>
                    </a:lnTo>
                    <a:lnTo>
                      <a:pt x="916" y="0"/>
                    </a:lnTo>
                    <a:lnTo>
                      <a:pt x="1611" y="0"/>
                    </a:lnTo>
                    <a:lnTo>
                      <a:pt x="1609" y="15"/>
                    </a:lnTo>
                    <a:close/>
                    <a:moveTo>
                      <a:pt x="6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1" y="0"/>
                    </a:lnTo>
                    <a:lnTo>
                      <a:pt x="675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2979720" y="140472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12" h="14">
                    <a:moveTo>
                      <a:pt x="1611" y="14"/>
                    </a:moveTo>
                    <a:lnTo>
                      <a:pt x="920" y="14"/>
                    </a:lnTo>
                    <a:lnTo>
                      <a:pt x="914" y="0"/>
                    </a:lnTo>
                    <a:lnTo>
                      <a:pt x="1612" y="0"/>
                    </a:lnTo>
                    <a:lnTo>
                      <a:pt x="1611" y="14"/>
                    </a:lnTo>
                    <a:close/>
                    <a:moveTo>
                      <a:pt x="6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85" y="0"/>
                    </a:lnTo>
                    <a:lnTo>
                      <a:pt x="679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2979720" y="14029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4" h="15">
                    <a:moveTo>
                      <a:pt x="1613" y="15"/>
                    </a:moveTo>
                    <a:lnTo>
                      <a:pt x="918" y="15"/>
                    </a:lnTo>
                    <a:lnTo>
                      <a:pt x="912" y="0"/>
                    </a:lnTo>
                    <a:lnTo>
                      <a:pt x="1614" y="0"/>
                    </a:lnTo>
                    <a:lnTo>
                      <a:pt x="1613" y="15"/>
                    </a:lnTo>
                    <a:close/>
                    <a:moveTo>
                      <a:pt x="6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9" y="0"/>
                    </a:lnTo>
                    <a:lnTo>
                      <a:pt x="683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2977560" y="139932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16" h="16">
                    <a:moveTo>
                      <a:pt x="1614" y="16"/>
                    </a:moveTo>
                    <a:lnTo>
                      <a:pt x="916" y="16"/>
                    </a:lnTo>
                    <a:lnTo>
                      <a:pt x="910" y="0"/>
                    </a:lnTo>
                    <a:lnTo>
                      <a:pt x="1616" y="0"/>
                    </a:lnTo>
                    <a:lnTo>
                      <a:pt x="1614" y="16"/>
                    </a:lnTo>
                    <a:close/>
                    <a:moveTo>
                      <a:pt x="6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87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2977560" y="1395720"/>
                <a:ext cx="622440" cy="7200"/>
              </a:xfrm>
              <a:custGeom>
                <a:avLst/>
                <a:gdLst/>
                <a:ahLst/>
                <a:rect l="l" t="t" r="r" b="b"/>
                <a:pathLst>
                  <a:path w="1618" h="16">
                    <a:moveTo>
                      <a:pt x="1616" y="16"/>
                    </a:moveTo>
                    <a:lnTo>
                      <a:pt x="914" y="16"/>
                    </a:lnTo>
                    <a:lnTo>
                      <a:pt x="908" y="0"/>
                    </a:lnTo>
                    <a:lnTo>
                      <a:pt x="1618" y="0"/>
                    </a:lnTo>
                    <a:lnTo>
                      <a:pt x="1616" y="16"/>
                    </a:lnTo>
                    <a:close/>
                    <a:moveTo>
                      <a:pt x="69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7" y="0"/>
                    </a:lnTo>
                    <a:lnTo>
                      <a:pt x="691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2977560" y="13942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0" h="15">
                    <a:moveTo>
                      <a:pt x="1618" y="15"/>
                    </a:moveTo>
                    <a:lnTo>
                      <a:pt x="912" y="15"/>
                    </a:lnTo>
                    <a:lnTo>
                      <a:pt x="906" y="0"/>
                    </a:lnTo>
                    <a:lnTo>
                      <a:pt x="1620" y="0"/>
                    </a:lnTo>
                    <a:lnTo>
                      <a:pt x="1618" y="15"/>
                    </a:lnTo>
                    <a:close/>
                    <a:moveTo>
                      <a:pt x="6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695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2977560" y="1392120"/>
                <a:ext cx="622440" cy="3600"/>
              </a:xfrm>
              <a:custGeom>
                <a:avLst/>
                <a:gdLst/>
                <a:ahLst/>
                <a:rect l="l" t="t" r="r" b="b"/>
                <a:pathLst>
                  <a:path w="1622" h="14">
                    <a:moveTo>
                      <a:pt x="1620" y="14"/>
                    </a:moveTo>
                    <a:lnTo>
                      <a:pt x="910" y="14"/>
                    </a:lnTo>
                    <a:lnTo>
                      <a:pt x="904" y="0"/>
                    </a:lnTo>
                    <a:lnTo>
                      <a:pt x="1622" y="0"/>
                    </a:lnTo>
                    <a:lnTo>
                      <a:pt x="1620" y="14"/>
                    </a:lnTo>
                    <a:close/>
                    <a:moveTo>
                      <a:pt x="69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99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2977560" y="13888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4" h="15">
                    <a:moveTo>
                      <a:pt x="1622" y="15"/>
                    </a:moveTo>
                    <a:lnTo>
                      <a:pt x="908" y="15"/>
                    </a:lnTo>
                    <a:lnTo>
                      <a:pt x="902" y="0"/>
                    </a:lnTo>
                    <a:lnTo>
                      <a:pt x="1624" y="0"/>
                    </a:lnTo>
                    <a:lnTo>
                      <a:pt x="1622" y="15"/>
                    </a:lnTo>
                    <a:close/>
                    <a:moveTo>
                      <a:pt x="70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2975760" y="1387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26" h="15">
                    <a:moveTo>
                      <a:pt x="1624" y="15"/>
                    </a:moveTo>
                    <a:lnTo>
                      <a:pt x="906" y="15"/>
                    </a:lnTo>
                    <a:lnTo>
                      <a:pt x="900" y="0"/>
                    </a:lnTo>
                    <a:lnTo>
                      <a:pt x="1626" y="0"/>
                    </a:lnTo>
                    <a:lnTo>
                      <a:pt x="1624" y="15"/>
                    </a:lnTo>
                    <a:close/>
                    <a:moveTo>
                      <a:pt x="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707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2975760" y="1383480"/>
                <a:ext cx="626040" cy="540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6" y="15"/>
                    </a:moveTo>
                    <a:lnTo>
                      <a:pt x="904" y="15"/>
                    </a:lnTo>
                    <a:lnTo>
                      <a:pt x="898" y="0"/>
                    </a:lnTo>
                    <a:lnTo>
                      <a:pt x="1628" y="0"/>
                    </a:lnTo>
                    <a:lnTo>
                      <a:pt x="1626" y="15"/>
                    </a:lnTo>
                    <a:close/>
                    <a:moveTo>
                      <a:pt x="7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7" y="0"/>
                    </a:lnTo>
                    <a:lnTo>
                      <a:pt x="711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2975760" y="1380240"/>
                <a:ext cx="626040" cy="6480"/>
              </a:xfrm>
              <a:custGeom>
                <a:avLst/>
                <a:gdLst/>
                <a:ahLst/>
                <a:rect l="l" t="t" r="r" b="b"/>
                <a:pathLst>
                  <a:path w="1630" h="16">
                    <a:moveTo>
                      <a:pt x="1628" y="16"/>
                    </a:moveTo>
                    <a:lnTo>
                      <a:pt x="902" y="16"/>
                    </a:lnTo>
                    <a:lnTo>
                      <a:pt x="895" y="0"/>
                    </a:lnTo>
                    <a:lnTo>
                      <a:pt x="1630" y="0"/>
                    </a:lnTo>
                    <a:lnTo>
                      <a:pt x="1628" y="16"/>
                    </a:lnTo>
                    <a:close/>
                    <a:moveTo>
                      <a:pt x="7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21" y="0"/>
                    </a:lnTo>
                    <a:lnTo>
                      <a:pt x="715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2975760" y="1378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32" h="15">
                    <a:moveTo>
                      <a:pt x="1630" y="15"/>
                    </a:moveTo>
                    <a:lnTo>
                      <a:pt x="900" y="15"/>
                    </a:lnTo>
                    <a:lnTo>
                      <a:pt x="893" y="0"/>
                    </a:lnTo>
                    <a:lnTo>
                      <a:pt x="1632" y="0"/>
                    </a:lnTo>
                    <a:lnTo>
                      <a:pt x="1630" y="15"/>
                    </a:lnTo>
                    <a:close/>
                    <a:moveTo>
                      <a:pt x="71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25" y="0"/>
                    </a:lnTo>
                    <a:lnTo>
                      <a:pt x="719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2975760" y="1376640"/>
                <a:ext cx="626040" cy="3600"/>
              </a:xfrm>
              <a:custGeom>
                <a:avLst/>
                <a:gdLst/>
                <a:ahLst/>
                <a:rect l="l" t="t" r="r" b="b"/>
                <a:pathLst>
                  <a:path w="1634" h="14">
                    <a:moveTo>
                      <a:pt x="1632" y="14"/>
                    </a:moveTo>
                    <a:lnTo>
                      <a:pt x="897" y="14"/>
                    </a:lnTo>
                    <a:lnTo>
                      <a:pt x="891" y="0"/>
                    </a:lnTo>
                    <a:lnTo>
                      <a:pt x="1634" y="0"/>
                    </a:lnTo>
                    <a:lnTo>
                      <a:pt x="1632" y="14"/>
                    </a:lnTo>
                    <a:close/>
                    <a:moveTo>
                      <a:pt x="7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28" y="0"/>
                    </a:lnTo>
                    <a:lnTo>
                      <a:pt x="723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2973960" y="1373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37" h="15">
                    <a:moveTo>
                      <a:pt x="1634" y="15"/>
                    </a:moveTo>
                    <a:lnTo>
                      <a:pt x="895" y="15"/>
                    </a:lnTo>
                    <a:lnTo>
                      <a:pt x="889" y="0"/>
                    </a:lnTo>
                    <a:lnTo>
                      <a:pt x="1637" y="0"/>
                    </a:lnTo>
                    <a:lnTo>
                      <a:pt x="1634" y="15"/>
                    </a:lnTo>
                    <a:close/>
                    <a:moveTo>
                      <a:pt x="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33" y="0"/>
                    </a:lnTo>
                    <a:lnTo>
                      <a:pt x="727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2973960" y="1369440"/>
                <a:ext cx="629640" cy="7200"/>
              </a:xfrm>
              <a:custGeom>
                <a:avLst/>
                <a:gdLst/>
                <a:ahLst/>
                <a:rect l="l" t="t" r="r" b="b"/>
                <a:pathLst>
                  <a:path w="1639" h="16">
                    <a:moveTo>
                      <a:pt x="1636" y="16"/>
                    </a:moveTo>
                    <a:lnTo>
                      <a:pt x="893" y="16"/>
                    </a:lnTo>
                    <a:lnTo>
                      <a:pt x="888" y="0"/>
                    </a:lnTo>
                    <a:lnTo>
                      <a:pt x="1639" y="0"/>
                    </a:lnTo>
                    <a:lnTo>
                      <a:pt x="1636" y="16"/>
                    </a:lnTo>
                    <a:close/>
                    <a:moveTo>
                      <a:pt x="7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37" y="0"/>
                    </a:lnTo>
                    <a:lnTo>
                      <a:pt x="730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2973960" y="13676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1" h="16">
                    <a:moveTo>
                      <a:pt x="1639" y="16"/>
                    </a:moveTo>
                    <a:lnTo>
                      <a:pt x="891" y="16"/>
                    </a:lnTo>
                    <a:lnTo>
                      <a:pt x="886" y="0"/>
                    </a:lnTo>
                    <a:lnTo>
                      <a:pt x="1641" y="0"/>
                    </a:lnTo>
                    <a:lnTo>
                      <a:pt x="1639" y="16"/>
                    </a:lnTo>
                    <a:close/>
                    <a:moveTo>
                      <a:pt x="73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41" y="0"/>
                    </a:lnTo>
                    <a:lnTo>
                      <a:pt x="735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973960" y="1364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2" y="15"/>
                    </a:moveTo>
                    <a:lnTo>
                      <a:pt x="891" y="15"/>
                    </a:lnTo>
                    <a:lnTo>
                      <a:pt x="885" y="0"/>
                    </a:lnTo>
                    <a:lnTo>
                      <a:pt x="1643" y="0"/>
                    </a:lnTo>
                    <a:lnTo>
                      <a:pt x="1642" y="15"/>
                    </a:lnTo>
                    <a:close/>
                    <a:moveTo>
                      <a:pt x="74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0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971800" y="1362240"/>
                <a:ext cx="631800" cy="5400"/>
              </a:xfrm>
              <a:custGeom>
                <a:avLst/>
                <a:gdLst/>
                <a:ahLst/>
                <a:rect l="l" t="t" r="r" b="b"/>
                <a:pathLst>
                  <a:path w="1645" h="14">
                    <a:moveTo>
                      <a:pt x="1644" y="14"/>
                    </a:moveTo>
                    <a:lnTo>
                      <a:pt x="889" y="14"/>
                    </a:lnTo>
                    <a:lnTo>
                      <a:pt x="882" y="0"/>
                    </a:lnTo>
                    <a:lnTo>
                      <a:pt x="1645" y="0"/>
                    </a:lnTo>
                    <a:lnTo>
                      <a:pt x="1644" y="14"/>
                    </a:lnTo>
                    <a:close/>
                    <a:moveTo>
                      <a:pt x="744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750" y="0"/>
                    </a:lnTo>
                    <a:lnTo>
                      <a:pt x="744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971800" y="13590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7" h="15">
                    <a:moveTo>
                      <a:pt x="1645" y="15"/>
                    </a:moveTo>
                    <a:lnTo>
                      <a:pt x="887" y="15"/>
                    </a:lnTo>
                    <a:lnTo>
                      <a:pt x="880" y="0"/>
                    </a:lnTo>
                    <a:lnTo>
                      <a:pt x="1647" y="0"/>
                    </a:lnTo>
                    <a:lnTo>
                      <a:pt x="1645" y="15"/>
                    </a:lnTo>
                    <a:close/>
                    <a:moveTo>
                      <a:pt x="7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54" y="0"/>
                    </a:lnTo>
                    <a:lnTo>
                      <a:pt x="748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2971800" y="13568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6">
                    <a:moveTo>
                      <a:pt x="1647" y="16"/>
                    </a:moveTo>
                    <a:lnTo>
                      <a:pt x="884" y="16"/>
                    </a:lnTo>
                    <a:lnTo>
                      <a:pt x="878" y="0"/>
                    </a:lnTo>
                    <a:lnTo>
                      <a:pt x="1649" y="0"/>
                    </a:lnTo>
                    <a:lnTo>
                      <a:pt x="1647" y="16"/>
                    </a:lnTo>
                    <a:close/>
                    <a:moveTo>
                      <a:pt x="75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57" y="0"/>
                    </a:lnTo>
                    <a:lnTo>
                      <a:pt x="752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2971800" y="1353240"/>
                <a:ext cx="633600" cy="5400"/>
              </a:xfrm>
              <a:custGeom>
                <a:avLst/>
                <a:gdLst/>
                <a:ahLst/>
                <a:rect l="l" t="t" r="r" b="b"/>
                <a:pathLst>
                  <a:path w="1651" h="15">
                    <a:moveTo>
                      <a:pt x="1649" y="15"/>
                    </a:moveTo>
                    <a:lnTo>
                      <a:pt x="882" y="15"/>
                    </a:lnTo>
                    <a:lnTo>
                      <a:pt x="876" y="0"/>
                    </a:lnTo>
                    <a:lnTo>
                      <a:pt x="1651" y="0"/>
                    </a:lnTo>
                    <a:lnTo>
                      <a:pt x="1649" y="15"/>
                    </a:lnTo>
                    <a:close/>
                    <a:moveTo>
                      <a:pt x="75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5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971800" y="13518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3" h="15">
                    <a:moveTo>
                      <a:pt x="1651" y="15"/>
                    </a:moveTo>
                    <a:lnTo>
                      <a:pt x="880" y="15"/>
                    </a:lnTo>
                    <a:lnTo>
                      <a:pt x="874" y="0"/>
                    </a:lnTo>
                    <a:lnTo>
                      <a:pt x="1653" y="0"/>
                    </a:lnTo>
                    <a:lnTo>
                      <a:pt x="1651" y="15"/>
                    </a:lnTo>
                    <a:close/>
                    <a:moveTo>
                      <a:pt x="75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6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2970000" y="1348200"/>
                <a:ext cx="635400" cy="5040"/>
              </a:xfrm>
              <a:custGeom>
                <a:avLst/>
                <a:gdLst/>
                <a:ahLst/>
                <a:rect l="l" t="t" r="r" b="b"/>
                <a:pathLst>
                  <a:path w="1655" h="15">
                    <a:moveTo>
                      <a:pt x="1653" y="15"/>
                    </a:moveTo>
                    <a:lnTo>
                      <a:pt x="878" y="15"/>
                    </a:lnTo>
                    <a:lnTo>
                      <a:pt x="872" y="0"/>
                    </a:lnTo>
                    <a:lnTo>
                      <a:pt x="1655" y="0"/>
                    </a:lnTo>
                    <a:lnTo>
                      <a:pt x="1653" y="15"/>
                    </a:lnTo>
                    <a:close/>
                    <a:moveTo>
                      <a:pt x="76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70" y="0"/>
                    </a:lnTo>
                    <a:lnTo>
                      <a:pt x="764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970000" y="13464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7" h="14">
                    <a:moveTo>
                      <a:pt x="1655" y="14"/>
                    </a:moveTo>
                    <a:lnTo>
                      <a:pt x="876" y="14"/>
                    </a:lnTo>
                    <a:lnTo>
                      <a:pt x="869" y="0"/>
                    </a:lnTo>
                    <a:lnTo>
                      <a:pt x="1657" y="0"/>
                    </a:lnTo>
                    <a:lnTo>
                      <a:pt x="1655" y="14"/>
                    </a:lnTo>
                    <a:close/>
                    <a:moveTo>
                      <a:pt x="76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74" y="0"/>
                    </a:lnTo>
                    <a:lnTo>
                      <a:pt x="768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2970000" y="13428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7" y="16"/>
                    </a:moveTo>
                    <a:lnTo>
                      <a:pt x="874" y="16"/>
                    </a:lnTo>
                    <a:lnTo>
                      <a:pt x="867" y="0"/>
                    </a:lnTo>
                    <a:lnTo>
                      <a:pt x="1659" y="0"/>
                    </a:lnTo>
                    <a:lnTo>
                      <a:pt x="1657" y="16"/>
                    </a:lnTo>
                    <a:close/>
                    <a:moveTo>
                      <a:pt x="77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78" y="0"/>
                    </a:lnTo>
                    <a:lnTo>
                      <a:pt x="772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970000" y="13413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1" h="16">
                    <a:moveTo>
                      <a:pt x="1659" y="16"/>
                    </a:moveTo>
                    <a:lnTo>
                      <a:pt x="871" y="16"/>
                    </a:lnTo>
                    <a:lnTo>
                      <a:pt x="866" y="0"/>
                    </a:lnTo>
                    <a:lnTo>
                      <a:pt x="1661" y="0"/>
                    </a:lnTo>
                    <a:lnTo>
                      <a:pt x="1659" y="16"/>
                    </a:lnTo>
                    <a:close/>
                    <a:moveTo>
                      <a:pt x="77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82" y="0"/>
                    </a:lnTo>
                    <a:lnTo>
                      <a:pt x="77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2970000" y="13377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3" h="15">
                    <a:moveTo>
                      <a:pt x="1661" y="15"/>
                    </a:moveTo>
                    <a:lnTo>
                      <a:pt x="869" y="15"/>
                    </a:lnTo>
                    <a:lnTo>
                      <a:pt x="864" y="0"/>
                    </a:lnTo>
                    <a:lnTo>
                      <a:pt x="1663" y="0"/>
                    </a:lnTo>
                    <a:lnTo>
                      <a:pt x="1661" y="15"/>
                    </a:lnTo>
                    <a:close/>
                    <a:moveTo>
                      <a:pt x="7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85" y="0"/>
                    </a:lnTo>
                    <a:lnTo>
                      <a:pt x="780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967840" y="1335600"/>
                <a:ext cx="639720" cy="5400"/>
              </a:xfrm>
              <a:custGeom>
                <a:avLst/>
                <a:gdLst/>
                <a:ahLst/>
                <a:rect l="l" t="t" r="r" b="b"/>
                <a:pathLst>
                  <a:path w="1665" h="15">
                    <a:moveTo>
                      <a:pt x="1663" y="15"/>
                    </a:moveTo>
                    <a:lnTo>
                      <a:pt x="868" y="15"/>
                    </a:lnTo>
                    <a:lnTo>
                      <a:pt x="862" y="0"/>
                    </a:lnTo>
                    <a:lnTo>
                      <a:pt x="1665" y="0"/>
                    </a:lnTo>
                    <a:lnTo>
                      <a:pt x="1663" y="15"/>
                    </a:lnTo>
                    <a:close/>
                    <a:moveTo>
                      <a:pt x="7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90" y="0"/>
                    </a:lnTo>
                    <a:lnTo>
                      <a:pt x="7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2967840" y="1332000"/>
                <a:ext cx="641520" cy="5400"/>
              </a:xfrm>
              <a:custGeom>
                <a:avLst/>
                <a:gdLst/>
                <a:ahLst/>
                <a:rect l="l" t="t" r="r" b="b"/>
                <a:pathLst>
                  <a:path w="1667" h="14">
                    <a:moveTo>
                      <a:pt x="1665" y="14"/>
                    </a:moveTo>
                    <a:lnTo>
                      <a:pt x="866" y="14"/>
                    </a:lnTo>
                    <a:lnTo>
                      <a:pt x="860" y="0"/>
                    </a:lnTo>
                    <a:lnTo>
                      <a:pt x="1667" y="0"/>
                    </a:lnTo>
                    <a:lnTo>
                      <a:pt x="1665" y="14"/>
                    </a:lnTo>
                    <a:close/>
                    <a:moveTo>
                      <a:pt x="7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787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2967840" y="13305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69" h="16">
                    <a:moveTo>
                      <a:pt x="1667" y="16"/>
                    </a:moveTo>
                    <a:lnTo>
                      <a:pt x="864" y="16"/>
                    </a:lnTo>
                    <a:lnTo>
                      <a:pt x="858" y="0"/>
                    </a:lnTo>
                    <a:lnTo>
                      <a:pt x="1669" y="0"/>
                    </a:lnTo>
                    <a:lnTo>
                      <a:pt x="1667" y="16"/>
                    </a:lnTo>
                    <a:close/>
                    <a:moveTo>
                      <a:pt x="7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98" y="0"/>
                    </a:lnTo>
                    <a:lnTo>
                      <a:pt x="792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2967840" y="13269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1" h="16">
                    <a:moveTo>
                      <a:pt x="1669" y="16"/>
                    </a:moveTo>
                    <a:lnTo>
                      <a:pt x="862" y="16"/>
                    </a:lnTo>
                    <a:lnTo>
                      <a:pt x="855" y="0"/>
                    </a:lnTo>
                    <a:lnTo>
                      <a:pt x="1671" y="0"/>
                    </a:lnTo>
                    <a:lnTo>
                      <a:pt x="1669" y="16"/>
                    </a:lnTo>
                    <a:close/>
                    <a:moveTo>
                      <a:pt x="7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96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2967840" y="13251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2" h="14">
                    <a:moveTo>
                      <a:pt x="1671" y="14"/>
                    </a:moveTo>
                    <a:lnTo>
                      <a:pt x="860" y="14"/>
                    </a:lnTo>
                    <a:lnTo>
                      <a:pt x="853" y="0"/>
                    </a:lnTo>
                    <a:lnTo>
                      <a:pt x="1672" y="0"/>
                    </a:lnTo>
                    <a:lnTo>
                      <a:pt x="1671" y="14"/>
                    </a:lnTo>
                    <a:close/>
                    <a:moveTo>
                      <a:pt x="80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806" y="0"/>
                    </a:lnTo>
                    <a:lnTo>
                      <a:pt x="800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966040" y="132156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4" h="15">
                    <a:moveTo>
                      <a:pt x="1673" y="15"/>
                    </a:moveTo>
                    <a:lnTo>
                      <a:pt x="857" y="15"/>
                    </a:lnTo>
                    <a:lnTo>
                      <a:pt x="851" y="0"/>
                    </a:lnTo>
                    <a:lnTo>
                      <a:pt x="1674" y="0"/>
                    </a:lnTo>
                    <a:lnTo>
                      <a:pt x="1673" y="15"/>
                    </a:lnTo>
                    <a:close/>
                    <a:moveTo>
                      <a:pt x="8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09" y="0"/>
                    </a:lnTo>
                    <a:lnTo>
                      <a:pt x="804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966040" y="132012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6" h="15">
                    <a:moveTo>
                      <a:pt x="1674" y="15"/>
                    </a:moveTo>
                    <a:lnTo>
                      <a:pt x="855" y="15"/>
                    </a:lnTo>
                    <a:lnTo>
                      <a:pt x="849" y="0"/>
                    </a:lnTo>
                    <a:lnTo>
                      <a:pt x="1676" y="0"/>
                    </a:lnTo>
                    <a:lnTo>
                      <a:pt x="1674" y="15"/>
                    </a:lnTo>
                    <a:close/>
                    <a:moveTo>
                      <a:pt x="8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3" y="0"/>
                    </a:lnTo>
                    <a:lnTo>
                      <a:pt x="808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966040" y="1316520"/>
                <a:ext cx="645480" cy="5040"/>
              </a:xfrm>
              <a:custGeom>
                <a:avLst/>
                <a:gdLst/>
                <a:ahLst/>
                <a:rect l="l" t="t" r="r" b="b"/>
                <a:pathLst>
                  <a:path w="1678" h="15">
                    <a:moveTo>
                      <a:pt x="1676" y="15"/>
                    </a:moveTo>
                    <a:lnTo>
                      <a:pt x="853" y="15"/>
                    </a:lnTo>
                    <a:lnTo>
                      <a:pt x="847" y="0"/>
                    </a:lnTo>
                    <a:lnTo>
                      <a:pt x="1678" y="0"/>
                    </a:lnTo>
                    <a:lnTo>
                      <a:pt x="1676" y="15"/>
                    </a:lnTo>
                    <a:close/>
                    <a:moveTo>
                      <a:pt x="8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8" y="0"/>
                    </a:lnTo>
                    <a:lnTo>
                      <a:pt x="81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966040" y="1314360"/>
                <a:ext cx="645480" cy="5400"/>
              </a:xfrm>
              <a:custGeom>
                <a:avLst/>
                <a:gdLst/>
                <a:ahLst/>
                <a:rect l="l" t="t" r="r" b="b"/>
                <a:pathLst>
                  <a:path w="1681" h="16">
                    <a:moveTo>
                      <a:pt x="1678" y="16"/>
                    </a:moveTo>
                    <a:lnTo>
                      <a:pt x="851" y="16"/>
                    </a:lnTo>
                    <a:lnTo>
                      <a:pt x="845" y="0"/>
                    </a:lnTo>
                    <a:lnTo>
                      <a:pt x="1681" y="0"/>
                    </a:lnTo>
                    <a:lnTo>
                      <a:pt x="1678" y="16"/>
                    </a:lnTo>
                    <a:close/>
                    <a:moveTo>
                      <a:pt x="8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22" y="0"/>
                    </a:lnTo>
                    <a:lnTo>
                      <a:pt x="815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963880" y="131112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1" y="15"/>
                    </a:moveTo>
                    <a:lnTo>
                      <a:pt x="850" y="15"/>
                    </a:lnTo>
                    <a:lnTo>
                      <a:pt x="844" y="0"/>
                    </a:lnTo>
                    <a:lnTo>
                      <a:pt x="1684" y="0"/>
                    </a:lnTo>
                    <a:lnTo>
                      <a:pt x="1681" y="15"/>
                    </a:lnTo>
                    <a:close/>
                    <a:moveTo>
                      <a:pt x="82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82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963880" y="130896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6" h="15">
                    <a:moveTo>
                      <a:pt x="1684" y="15"/>
                    </a:moveTo>
                    <a:lnTo>
                      <a:pt x="848" y="15"/>
                    </a:lnTo>
                    <a:lnTo>
                      <a:pt x="843" y="0"/>
                    </a:lnTo>
                    <a:lnTo>
                      <a:pt x="1686" y="0"/>
                    </a:lnTo>
                    <a:lnTo>
                      <a:pt x="1684" y="15"/>
                    </a:lnTo>
                    <a:close/>
                    <a:moveTo>
                      <a:pt x="825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25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963880" y="130536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88" h="15">
                    <a:moveTo>
                      <a:pt x="1686" y="15"/>
                    </a:moveTo>
                    <a:lnTo>
                      <a:pt x="846" y="15"/>
                    </a:lnTo>
                    <a:lnTo>
                      <a:pt x="840" y="0"/>
                    </a:lnTo>
                    <a:lnTo>
                      <a:pt x="1688" y="0"/>
                    </a:lnTo>
                    <a:lnTo>
                      <a:pt x="1686" y="15"/>
                    </a:lnTo>
                    <a:close/>
                    <a:moveTo>
                      <a:pt x="8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35" y="0"/>
                    </a:lnTo>
                    <a:lnTo>
                      <a:pt x="829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963880" y="13039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0" h="14">
                    <a:moveTo>
                      <a:pt x="1688" y="14"/>
                    </a:moveTo>
                    <a:lnTo>
                      <a:pt x="845" y="14"/>
                    </a:lnTo>
                    <a:lnTo>
                      <a:pt x="838" y="0"/>
                    </a:lnTo>
                    <a:lnTo>
                      <a:pt x="833" y="14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690" y="0"/>
                    </a:lnTo>
                    <a:lnTo>
                      <a:pt x="1688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963880" y="13003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2" h="16">
                    <a:moveTo>
                      <a:pt x="1690" y="16"/>
                    </a:moveTo>
                    <a:lnTo>
                      <a:pt x="842" y="16"/>
                    </a:lnTo>
                    <a:lnTo>
                      <a:pt x="839" y="9"/>
                    </a:lnTo>
                    <a:lnTo>
                      <a:pt x="837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692" y="0"/>
                    </a:lnTo>
                    <a:lnTo>
                      <a:pt x="169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962080" y="12985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4" h="16">
                    <a:moveTo>
                      <a:pt x="16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692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962080" y="12949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6" h="14">
                    <a:moveTo>
                      <a:pt x="16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4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962080" y="1293120"/>
                <a:ext cx="652680" cy="5400"/>
              </a:xfrm>
              <a:custGeom>
                <a:avLst/>
                <a:gdLst/>
                <a:ahLst/>
                <a:rect l="l" t="t" r="r" b="b"/>
                <a:pathLst>
                  <a:path w="1698" h="15">
                    <a:moveTo>
                      <a:pt x="169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6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962080" y="128988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6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9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962080" y="128772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2" h="15">
                    <a:moveTo>
                      <a:pt x="17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960280" y="1284120"/>
                <a:ext cx="654480" cy="5400"/>
              </a:xfrm>
              <a:custGeom>
                <a:avLst/>
                <a:gdLst/>
                <a:ahLst/>
                <a:rect l="l" t="t" r="r" b="b"/>
                <a:pathLst>
                  <a:path w="1704" h="16">
                    <a:moveTo>
                      <a:pt x="170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04" y="0"/>
                    </a:lnTo>
                    <a:lnTo>
                      <a:pt x="1702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960280" y="12826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5">
                    <a:moveTo>
                      <a:pt x="17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5" y="0"/>
                    </a:lnTo>
                    <a:lnTo>
                      <a:pt x="1704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960280" y="12790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7" h="15">
                    <a:moveTo>
                      <a:pt x="170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7" y="0"/>
                    </a:lnTo>
                    <a:lnTo>
                      <a:pt x="1706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960280" y="12772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09" h="15">
                    <a:moveTo>
                      <a:pt x="1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0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960280" y="12736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1" h="15">
                    <a:moveTo>
                      <a:pt x="170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1" y="0"/>
                    </a:lnTo>
                    <a:lnTo>
                      <a:pt x="1709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958120" y="1270080"/>
                <a:ext cx="658800" cy="7200"/>
              </a:xfrm>
              <a:custGeom>
                <a:avLst/>
                <a:gdLst/>
                <a:ahLst/>
                <a:rect l="l" t="t" r="r" b="b"/>
                <a:pathLst>
                  <a:path w="1713" h="16">
                    <a:moveTo>
                      <a:pt x="171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13" y="0"/>
                    </a:lnTo>
                    <a:lnTo>
                      <a:pt x="1711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958120" y="126864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5" h="15">
                    <a:moveTo>
                      <a:pt x="171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5" y="0"/>
                    </a:lnTo>
                    <a:lnTo>
                      <a:pt x="1713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958120" y="1266480"/>
                <a:ext cx="658800" cy="3600"/>
              </a:xfrm>
              <a:custGeom>
                <a:avLst/>
                <a:gdLst/>
                <a:ahLst/>
                <a:rect l="l" t="t" r="r" b="b"/>
                <a:pathLst>
                  <a:path w="1717" h="14">
                    <a:moveTo>
                      <a:pt x="171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717" y="0"/>
                    </a:lnTo>
                    <a:lnTo>
                      <a:pt x="171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958120" y="126324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19" h="15">
                    <a:moveTo>
                      <a:pt x="171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9" y="0"/>
                    </a:lnTo>
                    <a:lnTo>
                      <a:pt x="1717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2958120" y="1259640"/>
                <a:ext cx="660600" cy="6480"/>
              </a:xfrm>
              <a:custGeom>
                <a:avLst/>
                <a:gdLst/>
                <a:ahLst/>
                <a:rect l="l" t="t" r="r" b="b"/>
                <a:pathLst>
                  <a:path w="1721" h="16">
                    <a:moveTo>
                      <a:pt x="171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21" y="0"/>
                    </a:lnTo>
                    <a:lnTo>
                      <a:pt x="1719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956680" y="12578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5">
                    <a:moveTo>
                      <a:pt x="172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5" y="0"/>
                    </a:lnTo>
                    <a:lnTo>
                      <a:pt x="172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956680" y="12542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7" h="15">
                    <a:moveTo>
                      <a:pt x="1724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7" y="0"/>
                    </a:lnTo>
                    <a:lnTo>
                      <a:pt x="172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956680" y="12524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29" h="15">
                    <a:moveTo>
                      <a:pt x="1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29" y="0"/>
                    </a:lnTo>
                    <a:lnTo>
                      <a:pt x="1727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956680" y="12488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5">
                    <a:moveTo>
                      <a:pt x="17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31" y="0"/>
                    </a:lnTo>
                    <a:lnTo>
                      <a:pt x="1729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954520" y="1247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3" h="16">
                    <a:moveTo>
                      <a:pt x="173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1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954520" y="12438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5" h="15">
                    <a:moveTo>
                      <a:pt x="173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2" y="0"/>
                    </a:lnTo>
                    <a:lnTo>
                      <a:pt x="473" y="4"/>
                    </a:lnTo>
                    <a:lnTo>
                      <a:pt x="474" y="0"/>
                    </a:lnTo>
                    <a:lnTo>
                      <a:pt x="1242" y="0"/>
                    </a:lnTo>
                    <a:lnTo>
                      <a:pt x="1243" y="4"/>
                    </a:lnTo>
                    <a:lnTo>
                      <a:pt x="1244" y="0"/>
                    </a:lnTo>
                    <a:lnTo>
                      <a:pt x="1735" y="0"/>
                    </a:lnTo>
                    <a:lnTo>
                      <a:pt x="1733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954520" y="12420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5">
                    <a:moveTo>
                      <a:pt x="173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2"/>
                    </a:lnTo>
                    <a:lnTo>
                      <a:pt x="478" y="0"/>
                    </a:lnTo>
                    <a:lnTo>
                      <a:pt x="1240" y="0"/>
                    </a:lnTo>
                    <a:lnTo>
                      <a:pt x="1244" y="12"/>
                    </a:lnTo>
                    <a:lnTo>
                      <a:pt x="1246" y="0"/>
                    </a:lnTo>
                    <a:lnTo>
                      <a:pt x="1736" y="0"/>
                    </a:lnTo>
                    <a:lnTo>
                      <a:pt x="1735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954520" y="1238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8" h="15">
                    <a:moveTo>
                      <a:pt x="1737" y="15"/>
                    </a:moveTo>
                    <a:lnTo>
                      <a:pt x="1246" y="15"/>
                    </a:lnTo>
                    <a:lnTo>
                      <a:pt x="1249" y="0"/>
                    </a:lnTo>
                    <a:lnTo>
                      <a:pt x="1738" y="0"/>
                    </a:lnTo>
                    <a:lnTo>
                      <a:pt x="1737" y="15"/>
                    </a:lnTo>
                    <a:close/>
                    <a:moveTo>
                      <a:pt x="1244" y="15"/>
                    </a:moveTo>
                    <a:lnTo>
                      <a:pt x="476" y="15"/>
                    </a:lnTo>
                    <a:lnTo>
                      <a:pt x="48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954520" y="123660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0" h="14">
                    <a:moveTo>
                      <a:pt x="1738" y="14"/>
                    </a:moveTo>
                    <a:lnTo>
                      <a:pt x="1248" y="14"/>
                    </a:lnTo>
                    <a:lnTo>
                      <a:pt x="1251" y="0"/>
                    </a:lnTo>
                    <a:lnTo>
                      <a:pt x="1740" y="0"/>
                    </a:lnTo>
                    <a:lnTo>
                      <a:pt x="1738" y="14"/>
                    </a:lnTo>
                    <a:close/>
                    <a:moveTo>
                      <a:pt x="1242" y="14"/>
                    </a:moveTo>
                    <a:lnTo>
                      <a:pt x="480" y="14"/>
                    </a:lnTo>
                    <a:lnTo>
                      <a:pt x="486" y="0"/>
                    </a:lnTo>
                    <a:lnTo>
                      <a:pt x="1236" y="0"/>
                    </a:lnTo>
                    <a:lnTo>
                      <a:pt x="1242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952720" y="12333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2" h="16">
                    <a:moveTo>
                      <a:pt x="1740" y="16"/>
                    </a:moveTo>
                    <a:lnTo>
                      <a:pt x="1251" y="16"/>
                    </a:lnTo>
                    <a:lnTo>
                      <a:pt x="1253" y="0"/>
                    </a:lnTo>
                    <a:lnTo>
                      <a:pt x="1742" y="0"/>
                    </a:lnTo>
                    <a:lnTo>
                      <a:pt x="1740" y="16"/>
                    </a:lnTo>
                    <a:close/>
                    <a:moveTo>
                      <a:pt x="1240" y="16"/>
                    </a:moveTo>
                    <a:lnTo>
                      <a:pt x="484" y="16"/>
                    </a:lnTo>
                    <a:lnTo>
                      <a:pt x="490" y="0"/>
                    </a:lnTo>
                    <a:lnTo>
                      <a:pt x="1234" y="0"/>
                    </a:lnTo>
                    <a:lnTo>
                      <a:pt x="1240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952720" y="123120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4" h="16">
                    <a:moveTo>
                      <a:pt x="1742" y="16"/>
                    </a:moveTo>
                    <a:lnTo>
                      <a:pt x="1253" y="16"/>
                    </a:lnTo>
                    <a:lnTo>
                      <a:pt x="1255" y="0"/>
                    </a:lnTo>
                    <a:lnTo>
                      <a:pt x="1744" y="0"/>
                    </a:lnTo>
                    <a:lnTo>
                      <a:pt x="1742" y="16"/>
                    </a:lnTo>
                    <a:close/>
                    <a:moveTo>
                      <a:pt x="1238" y="16"/>
                    </a:moveTo>
                    <a:lnTo>
                      <a:pt x="488" y="16"/>
                    </a:lnTo>
                    <a:lnTo>
                      <a:pt x="496" y="0"/>
                    </a:lnTo>
                    <a:lnTo>
                      <a:pt x="1232" y="0"/>
                    </a:lnTo>
                    <a:lnTo>
                      <a:pt x="1238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952720" y="1227600"/>
                <a:ext cx="670320" cy="5400"/>
              </a:xfrm>
              <a:custGeom>
                <a:avLst/>
                <a:gdLst/>
                <a:ahLst/>
                <a:rect l="l" t="t" r="r" b="b"/>
                <a:pathLst>
                  <a:path w="1746" h="14">
                    <a:moveTo>
                      <a:pt x="1744" y="14"/>
                    </a:moveTo>
                    <a:lnTo>
                      <a:pt x="1255" y="14"/>
                    </a:lnTo>
                    <a:lnTo>
                      <a:pt x="1257" y="0"/>
                    </a:lnTo>
                    <a:lnTo>
                      <a:pt x="1746" y="0"/>
                    </a:lnTo>
                    <a:lnTo>
                      <a:pt x="1744" y="14"/>
                    </a:lnTo>
                    <a:close/>
                    <a:moveTo>
                      <a:pt x="1236" y="14"/>
                    </a:moveTo>
                    <a:lnTo>
                      <a:pt x="492" y="14"/>
                    </a:lnTo>
                    <a:lnTo>
                      <a:pt x="500" y="0"/>
                    </a:lnTo>
                    <a:lnTo>
                      <a:pt x="1229" y="0"/>
                    </a:lnTo>
                    <a:lnTo>
                      <a:pt x="1236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952720" y="1226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8" h="15">
                    <a:moveTo>
                      <a:pt x="1746" y="15"/>
                    </a:moveTo>
                    <a:lnTo>
                      <a:pt x="1257" y="15"/>
                    </a:lnTo>
                    <a:lnTo>
                      <a:pt x="1259" y="0"/>
                    </a:lnTo>
                    <a:lnTo>
                      <a:pt x="1748" y="0"/>
                    </a:lnTo>
                    <a:lnTo>
                      <a:pt x="1746" y="15"/>
                    </a:lnTo>
                    <a:close/>
                    <a:moveTo>
                      <a:pt x="1234" y="15"/>
                    </a:moveTo>
                    <a:lnTo>
                      <a:pt x="498" y="15"/>
                    </a:lnTo>
                    <a:lnTo>
                      <a:pt x="504" y="0"/>
                    </a:lnTo>
                    <a:lnTo>
                      <a:pt x="1227" y="0"/>
                    </a:lnTo>
                    <a:lnTo>
                      <a:pt x="1234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952720" y="12225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0" h="15">
                    <a:moveTo>
                      <a:pt x="1748" y="15"/>
                    </a:moveTo>
                    <a:lnTo>
                      <a:pt x="1259" y="15"/>
                    </a:lnTo>
                    <a:lnTo>
                      <a:pt x="1260" y="0"/>
                    </a:lnTo>
                    <a:lnTo>
                      <a:pt x="1750" y="0"/>
                    </a:lnTo>
                    <a:lnTo>
                      <a:pt x="1748" y="15"/>
                    </a:lnTo>
                    <a:close/>
                    <a:moveTo>
                      <a:pt x="1231" y="15"/>
                    </a:moveTo>
                    <a:lnTo>
                      <a:pt x="502" y="15"/>
                    </a:lnTo>
                    <a:lnTo>
                      <a:pt x="508" y="0"/>
                    </a:lnTo>
                    <a:lnTo>
                      <a:pt x="1225" y="0"/>
                    </a:lnTo>
                    <a:lnTo>
                      <a:pt x="1231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950920" y="12207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2" h="15">
                    <a:moveTo>
                      <a:pt x="1750" y="15"/>
                    </a:moveTo>
                    <a:lnTo>
                      <a:pt x="1261" y="15"/>
                    </a:lnTo>
                    <a:lnTo>
                      <a:pt x="1262" y="0"/>
                    </a:lnTo>
                    <a:lnTo>
                      <a:pt x="1752" y="0"/>
                    </a:lnTo>
                    <a:lnTo>
                      <a:pt x="1750" y="15"/>
                    </a:lnTo>
                    <a:close/>
                    <a:moveTo>
                      <a:pt x="1229" y="15"/>
                    </a:moveTo>
                    <a:lnTo>
                      <a:pt x="506" y="15"/>
                    </a:lnTo>
                    <a:lnTo>
                      <a:pt x="512" y="0"/>
                    </a:lnTo>
                    <a:lnTo>
                      <a:pt x="1223" y="0"/>
                    </a:lnTo>
                    <a:lnTo>
                      <a:pt x="1229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950920" y="12171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4" h="16">
                    <a:moveTo>
                      <a:pt x="1752" y="16"/>
                    </a:moveTo>
                    <a:lnTo>
                      <a:pt x="1262" y="16"/>
                    </a:lnTo>
                    <a:lnTo>
                      <a:pt x="1264" y="0"/>
                    </a:lnTo>
                    <a:lnTo>
                      <a:pt x="1754" y="0"/>
                    </a:lnTo>
                    <a:lnTo>
                      <a:pt x="1752" y="16"/>
                    </a:lnTo>
                    <a:close/>
                    <a:moveTo>
                      <a:pt x="1227" y="16"/>
                    </a:moveTo>
                    <a:lnTo>
                      <a:pt x="510" y="16"/>
                    </a:lnTo>
                    <a:lnTo>
                      <a:pt x="516" y="0"/>
                    </a:lnTo>
                    <a:lnTo>
                      <a:pt x="1221" y="0"/>
                    </a:lnTo>
                    <a:lnTo>
                      <a:pt x="1227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950920" y="1215360"/>
                <a:ext cx="673560" cy="5400"/>
              </a:xfrm>
              <a:custGeom>
                <a:avLst/>
                <a:gdLst/>
                <a:ahLst/>
                <a:rect l="l" t="t" r="r" b="b"/>
                <a:pathLst>
                  <a:path w="1756" h="15">
                    <a:moveTo>
                      <a:pt x="1754" y="15"/>
                    </a:moveTo>
                    <a:lnTo>
                      <a:pt x="1264" y="15"/>
                    </a:lnTo>
                    <a:lnTo>
                      <a:pt x="1266" y="0"/>
                    </a:lnTo>
                    <a:lnTo>
                      <a:pt x="1756" y="0"/>
                    </a:lnTo>
                    <a:lnTo>
                      <a:pt x="1754" y="15"/>
                    </a:lnTo>
                    <a:close/>
                    <a:moveTo>
                      <a:pt x="1225" y="15"/>
                    </a:moveTo>
                    <a:lnTo>
                      <a:pt x="514" y="15"/>
                    </a:lnTo>
                    <a:lnTo>
                      <a:pt x="520" y="0"/>
                    </a:lnTo>
                    <a:lnTo>
                      <a:pt x="1219" y="0"/>
                    </a:lnTo>
                    <a:lnTo>
                      <a:pt x="1225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950920" y="121212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8" h="15">
                    <a:moveTo>
                      <a:pt x="1756" y="15"/>
                    </a:moveTo>
                    <a:lnTo>
                      <a:pt x="1266" y="15"/>
                    </a:lnTo>
                    <a:lnTo>
                      <a:pt x="1268" y="0"/>
                    </a:lnTo>
                    <a:lnTo>
                      <a:pt x="1758" y="0"/>
                    </a:lnTo>
                    <a:lnTo>
                      <a:pt x="1756" y="15"/>
                    </a:lnTo>
                    <a:close/>
                    <a:moveTo>
                      <a:pt x="1223" y="15"/>
                    </a:moveTo>
                    <a:lnTo>
                      <a:pt x="518" y="15"/>
                    </a:lnTo>
                    <a:lnTo>
                      <a:pt x="525" y="0"/>
                    </a:lnTo>
                    <a:lnTo>
                      <a:pt x="1217" y="0"/>
                    </a:lnTo>
                    <a:lnTo>
                      <a:pt x="1223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950920" y="1209960"/>
                <a:ext cx="675720" cy="5040"/>
              </a:xfrm>
              <a:custGeom>
                <a:avLst/>
                <a:gdLst/>
                <a:ahLst/>
                <a:rect l="l" t="t" r="r" b="b"/>
                <a:pathLst>
                  <a:path w="1760" h="15">
                    <a:moveTo>
                      <a:pt x="1758" y="15"/>
                    </a:moveTo>
                    <a:lnTo>
                      <a:pt x="1268" y="15"/>
                    </a:lnTo>
                    <a:lnTo>
                      <a:pt x="1270" y="0"/>
                    </a:lnTo>
                    <a:lnTo>
                      <a:pt x="1760" y="0"/>
                    </a:lnTo>
                    <a:lnTo>
                      <a:pt x="1758" y="15"/>
                    </a:lnTo>
                    <a:close/>
                    <a:moveTo>
                      <a:pt x="1221" y="15"/>
                    </a:moveTo>
                    <a:lnTo>
                      <a:pt x="522" y="15"/>
                    </a:lnTo>
                    <a:lnTo>
                      <a:pt x="529" y="0"/>
                    </a:lnTo>
                    <a:lnTo>
                      <a:pt x="1214" y="0"/>
                    </a:lnTo>
                    <a:lnTo>
                      <a:pt x="1221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948760" y="1206360"/>
                <a:ext cx="677880" cy="5400"/>
              </a:xfrm>
              <a:custGeom>
                <a:avLst/>
                <a:gdLst/>
                <a:ahLst/>
                <a:rect l="l" t="t" r="r" b="b"/>
                <a:pathLst>
                  <a:path w="1762" h="14">
                    <a:moveTo>
                      <a:pt x="1760" y="14"/>
                    </a:moveTo>
                    <a:lnTo>
                      <a:pt x="1270" y="14"/>
                    </a:lnTo>
                    <a:lnTo>
                      <a:pt x="1272" y="0"/>
                    </a:lnTo>
                    <a:lnTo>
                      <a:pt x="1762" y="0"/>
                    </a:lnTo>
                    <a:lnTo>
                      <a:pt x="1760" y="14"/>
                    </a:lnTo>
                    <a:close/>
                    <a:moveTo>
                      <a:pt x="1219" y="14"/>
                    </a:moveTo>
                    <a:lnTo>
                      <a:pt x="527" y="14"/>
                    </a:lnTo>
                    <a:lnTo>
                      <a:pt x="533" y="0"/>
                    </a:lnTo>
                    <a:lnTo>
                      <a:pt x="1212" y="0"/>
                    </a:lnTo>
                    <a:lnTo>
                      <a:pt x="121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5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948760" y="12049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5" h="16">
                    <a:moveTo>
                      <a:pt x="1763" y="16"/>
                    </a:moveTo>
                    <a:lnTo>
                      <a:pt x="1273" y="16"/>
                    </a:lnTo>
                    <a:lnTo>
                      <a:pt x="1275" y="0"/>
                    </a:lnTo>
                    <a:lnTo>
                      <a:pt x="1765" y="0"/>
                    </a:lnTo>
                    <a:lnTo>
                      <a:pt x="1763" y="16"/>
                    </a:lnTo>
                    <a:close/>
                    <a:moveTo>
                      <a:pt x="1217" y="16"/>
                    </a:moveTo>
                    <a:lnTo>
                      <a:pt x="532" y="16"/>
                    </a:lnTo>
                    <a:lnTo>
                      <a:pt x="538" y="0"/>
                    </a:lnTo>
                    <a:lnTo>
                      <a:pt x="1211" y="0"/>
                    </a:lnTo>
                    <a:lnTo>
                      <a:pt x="1217" y="16"/>
                    </a:lnTo>
                    <a:close/>
                    <a:moveTo>
                      <a:pt x="47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948760" y="12013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6" h="16">
                    <a:moveTo>
                      <a:pt x="1765" y="16"/>
                    </a:moveTo>
                    <a:lnTo>
                      <a:pt x="1275" y="16"/>
                    </a:lnTo>
                    <a:lnTo>
                      <a:pt x="1277" y="0"/>
                    </a:lnTo>
                    <a:lnTo>
                      <a:pt x="1766" y="0"/>
                    </a:lnTo>
                    <a:lnTo>
                      <a:pt x="1765" y="16"/>
                    </a:lnTo>
                    <a:close/>
                    <a:moveTo>
                      <a:pt x="1215" y="16"/>
                    </a:moveTo>
                    <a:lnTo>
                      <a:pt x="536" y="16"/>
                    </a:lnTo>
                    <a:lnTo>
                      <a:pt x="542" y="0"/>
                    </a:lnTo>
                    <a:lnTo>
                      <a:pt x="1209" y="0"/>
                    </a:lnTo>
                    <a:lnTo>
                      <a:pt x="1215" y="16"/>
                    </a:lnTo>
                    <a:close/>
                    <a:moveTo>
                      <a:pt x="478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948760" y="11995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9" h="14">
                    <a:moveTo>
                      <a:pt x="1767" y="14"/>
                    </a:moveTo>
                    <a:lnTo>
                      <a:pt x="1277" y="14"/>
                    </a:lnTo>
                    <a:lnTo>
                      <a:pt x="1279" y="0"/>
                    </a:lnTo>
                    <a:lnTo>
                      <a:pt x="1769" y="0"/>
                    </a:lnTo>
                    <a:lnTo>
                      <a:pt x="1767" y="14"/>
                    </a:lnTo>
                    <a:close/>
                    <a:moveTo>
                      <a:pt x="1213" y="14"/>
                    </a:moveTo>
                    <a:lnTo>
                      <a:pt x="540" y="14"/>
                    </a:lnTo>
                    <a:lnTo>
                      <a:pt x="546" y="0"/>
                    </a:lnTo>
                    <a:lnTo>
                      <a:pt x="1207" y="0"/>
                    </a:lnTo>
                    <a:lnTo>
                      <a:pt x="1213" y="14"/>
                    </a:lnTo>
                    <a:close/>
                    <a:moveTo>
                      <a:pt x="47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946960" y="119592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1" h="15">
                    <a:moveTo>
                      <a:pt x="1768" y="15"/>
                    </a:moveTo>
                    <a:lnTo>
                      <a:pt x="1279" y="15"/>
                    </a:lnTo>
                    <a:lnTo>
                      <a:pt x="1281" y="0"/>
                    </a:lnTo>
                    <a:lnTo>
                      <a:pt x="1771" y="0"/>
                    </a:lnTo>
                    <a:lnTo>
                      <a:pt x="1768" y="15"/>
                    </a:lnTo>
                    <a:close/>
                    <a:moveTo>
                      <a:pt x="1211" y="15"/>
                    </a:moveTo>
                    <a:lnTo>
                      <a:pt x="544" y="15"/>
                    </a:lnTo>
                    <a:lnTo>
                      <a:pt x="552" y="0"/>
                    </a:lnTo>
                    <a:lnTo>
                      <a:pt x="1205" y="0"/>
                    </a:lnTo>
                    <a:lnTo>
                      <a:pt x="1211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946960" y="11944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1" y="15"/>
                    </a:moveTo>
                    <a:lnTo>
                      <a:pt x="1281" y="15"/>
                    </a:lnTo>
                    <a:lnTo>
                      <a:pt x="1283" y="0"/>
                    </a:lnTo>
                    <a:lnTo>
                      <a:pt x="1773" y="0"/>
                    </a:lnTo>
                    <a:lnTo>
                      <a:pt x="1771" y="15"/>
                    </a:lnTo>
                    <a:close/>
                    <a:moveTo>
                      <a:pt x="1209" y="15"/>
                    </a:moveTo>
                    <a:lnTo>
                      <a:pt x="548" y="15"/>
                    </a:lnTo>
                    <a:lnTo>
                      <a:pt x="556" y="0"/>
                    </a:lnTo>
                    <a:lnTo>
                      <a:pt x="1202" y="0"/>
                    </a:lnTo>
                    <a:lnTo>
                      <a:pt x="1209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946960" y="11908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5" h="16">
                    <a:moveTo>
                      <a:pt x="1773" y="16"/>
                    </a:moveTo>
                    <a:lnTo>
                      <a:pt x="1283" y="16"/>
                    </a:lnTo>
                    <a:lnTo>
                      <a:pt x="1285" y="0"/>
                    </a:lnTo>
                    <a:lnTo>
                      <a:pt x="1775" y="0"/>
                    </a:lnTo>
                    <a:lnTo>
                      <a:pt x="1773" y="16"/>
                    </a:lnTo>
                    <a:close/>
                    <a:moveTo>
                      <a:pt x="1207" y="16"/>
                    </a:moveTo>
                    <a:lnTo>
                      <a:pt x="554" y="16"/>
                    </a:lnTo>
                    <a:lnTo>
                      <a:pt x="560" y="0"/>
                    </a:lnTo>
                    <a:lnTo>
                      <a:pt x="1200" y="0"/>
                    </a:lnTo>
                    <a:lnTo>
                      <a:pt x="1207" y="16"/>
                    </a:lnTo>
                    <a:close/>
                    <a:moveTo>
                      <a:pt x="47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946960" y="11887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7" h="16">
                    <a:moveTo>
                      <a:pt x="1775" y="16"/>
                    </a:moveTo>
                    <a:lnTo>
                      <a:pt x="1285" y="16"/>
                    </a:lnTo>
                    <a:lnTo>
                      <a:pt x="1287" y="0"/>
                    </a:lnTo>
                    <a:lnTo>
                      <a:pt x="1777" y="0"/>
                    </a:lnTo>
                    <a:lnTo>
                      <a:pt x="1775" y="16"/>
                    </a:lnTo>
                    <a:close/>
                    <a:moveTo>
                      <a:pt x="1204" y="16"/>
                    </a:moveTo>
                    <a:lnTo>
                      <a:pt x="558" y="16"/>
                    </a:lnTo>
                    <a:lnTo>
                      <a:pt x="564" y="0"/>
                    </a:lnTo>
                    <a:lnTo>
                      <a:pt x="1197" y="0"/>
                    </a:lnTo>
                    <a:lnTo>
                      <a:pt x="1204" y="16"/>
                    </a:lnTo>
                    <a:close/>
                    <a:moveTo>
                      <a:pt x="47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946960" y="11851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9" h="14">
                    <a:moveTo>
                      <a:pt x="1777" y="14"/>
                    </a:moveTo>
                    <a:lnTo>
                      <a:pt x="1287" y="14"/>
                    </a:lnTo>
                    <a:lnTo>
                      <a:pt x="1289" y="0"/>
                    </a:lnTo>
                    <a:lnTo>
                      <a:pt x="1779" y="0"/>
                    </a:lnTo>
                    <a:lnTo>
                      <a:pt x="1777" y="14"/>
                    </a:lnTo>
                    <a:close/>
                    <a:moveTo>
                      <a:pt x="1202" y="14"/>
                    </a:moveTo>
                    <a:lnTo>
                      <a:pt x="562" y="14"/>
                    </a:lnTo>
                    <a:lnTo>
                      <a:pt x="568" y="0"/>
                    </a:lnTo>
                    <a:lnTo>
                      <a:pt x="1195" y="0"/>
                    </a:lnTo>
                    <a:lnTo>
                      <a:pt x="1202" y="14"/>
                    </a:lnTo>
                    <a:close/>
                    <a:moveTo>
                      <a:pt x="4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944800" y="1183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1" h="15">
                    <a:moveTo>
                      <a:pt x="1779" y="15"/>
                    </a:moveTo>
                    <a:lnTo>
                      <a:pt x="1289" y="15"/>
                    </a:lnTo>
                    <a:lnTo>
                      <a:pt x="1292" y="0"/>
                    </a:lnTo>
                    <a:lnTo>
                      <a:pt x="1781" y="0"/>
                    </a:lnTo>
                    <a:lnTo>
                      <a:pt x="1779" y="15"/>
                    </a:lnTo>
                    <a:close/>
                    <a:moveTo>
                      <a:pt x="1199" y="15"/>
                    </a:moveTo>
                    <a:lnTo>
                      <a:pt x="566" y="15"/>
                    </a:lnTo>
                    <a:lnTo>
                      <a:pt x="572" y="0"/>
                    </a:lnTo>
                    <a:lnTo>
                      <a:pt x="1193" y="0"/>
                    </a:lnTo>
                    <a:lnTo>
                      <a:pt x="1199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2944800" y="11800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3" h="15">
                    <a:moveTo>
                      <a:pt x="1781" y="15"/>
                    </a:moveTo>
                    <a:lnTo>
                      <a:pt x="1291" y="15"/>
                    </a:lnTo>
                    <a:lnTo>
                      <a:pt x="1294" y="0"/>
                    </a:lnTo>
                    <a:lnTo>
                      <a:pt x="1783" y="0"/>
                    </a:lnTo>
                    <a:lnTo>
                      <a:pt x="1781" y="15"/>
                    </a:lnTo>
                    <a:close/>
                    <a:moveTo>
                      <a:pt x="1197" y="15"/>
                    </a:moveTo>
                    <a:lnTo>
                      <a:pt x="570" y="15"/>
                    </a:lnTo>
                    <a:lnTo>
                      <a:pt x="576" y="0"/>
                    </a:lnTo>
                    <a:lnTo>
                      <a:pt x="1191" y="0"/>
                    </a:lnTo>
                    <a:lnTo>
                      <a:pt x="1197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944800" y="11782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5" h="15">
                    <a:moveTo>
                      <a:pt x="1783" y="15"/>
                    </a:moveTo>
                    <a:lnTo>
                      <a:pt x="1294" y="15"/>
                    </a:lnTo>
                    <a:lnTo>
                      <a:pt x="1296" y="0"/>
                    </a:lnTo>
                    <a:lnTo>
                      <a:pt x="1785" y="0"/>
                    </a:lnTo>
                    <a:lnTo>
                      <a:pt x="1783" y="15"/>
                    </a:lnTo>
                    <a:close/>
                    <a:moveTo>
                      <a:pt x="1195" y="15"/>
                    </a:moveTo>
                    <a:lnTo>
                      <a:pt x="574" y="15"/>
                    </a:lnTo>
                    <a:lnTo>
                      <a:pt x="581" y="0"/>
                    </a:lnTo>
                    <a:lnTo>
                      <a:pt x="1189" y="0"/>
                    </a:lnTo>
                    <a:lnTo>
                      <a:pt x="1195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944800" y="1174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7" h="16">
                    <a:moveTo>
                      <a:pt x="1785" y="16"/>
                    </a:moveTo>
                    <a:lnTo>
                      <a:pt x="1296" y="16"/>
                    </a:lnTo>
                    <a:lnTo>
                      <a:pt x="1298" y="0"/>
                    </a:lnTo>
                    <a:lnTo>
                      <a:pt x="1787" y="0"/>
                    </a:lnTo>
                    <a:lnTo>
                      <a:pt x="1785" y="16"/>
                    </a:lnTo>
                    <a:close/>
                    <a:moveTo>
                      <a:pt x="1193" y="16"/>
                    </a:moveTo>
                    <a:lnTo>
                      <a:pt x="578" y="16"/>
                    </a:lnTo>
                    <a:lnTo>
                      <a:pt x="585" y="0"/>
                    </a:lnTo>
                    <a:lnTo>
                      <a:pt x="1186" y="0"/>
                    </a:lnTo>
                    <a:lnTo>
                      <a:pt x="1193" y="16"/>
                    </a:lnTo>
                    <a:close/>
                    <a:moveTo>
                      <a:pt x="4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944800" y="117324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9" h="15">
                    <a:moveTo>
                      <a:pt x="1787" y="15"/>
                    </a:moveTo>
                    <a:lnTo>
                      <a:pt x="1298" y="15"/>
                    </a:lnTo>
                    <a:lnTo>
                      <a:pt x="1300" y="0"/>
                    </a:lnTo>
                    <a:lnTo>
                      <a:pt x="1789" y="0"/>
                    </a:lnTo>
                    <a:lnTo>
                      <a:pt x="1787" y="15"/>
                    </a:lnTo>
                    <a:close/>
                    <a:moveTo>
                      <a:pt x="1191" y="15"/>
                    </a:moveTo>
                    <a:lnTo>
                      <a:pt x="583" y="15"/>
                    </a:lnTo>
                    <a:lnTo>
                      <a:pt x="589" y="0"/>
                    </a:lnTo>
                    <a:lnTo>
                      <a:pt x="1184" y="0"/>
                    </a:lnTo>
                    <a:lnTo>
                      <a:pt x="1191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943000" y="11696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1" h="14">
                    <a:moveTo>
                      <a:pt x="1789" y="14"/>
                    </a:moveTo>
                    <a:lnTo>
                      <a:pt x="1300" y="14"/>
                    </a:lnTo>
                    <a:lnTo>
                      <a:pt x="1302" y="0"/>
                    </a:lnTo>
                    <a:lnTo>
                      <a:pt x="1791" y="0"/>
                    </a:lnTo>
                    <a:lnTo>
                      <a:pt x="1789" y="14"/>
                    </a:lnTo>
                    <a:close/>
                    <a:moveTo>
                      <a:pt x="1188" y="14"/>
                    </a:moveTo>
                    <a:lnTo>
                      <a:pt x="587" y="14"/>
                    </a:lnTo>
                    <a:lnTo>
                      <a:pt x="593" y="0"/>
                    </a:lnTo>
                    <a:lnTo>
                      <a:pt x="1182" y="0"/>
                    </a:lnTo>
                    <a:lnTo>
                      <a:pt x="118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2943000" y="116748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3" h="15">
                    <a:moveTo>
                      <a:pt x="1791" y="15"/>
                    </a:moveTo>
                    <a:lnTo>
                      <a:pt x="1302" y="15"/>
                    </a:lnTo>
                    <a:lnTo>
                      <a:pt x="1304" y="0"/>
                    </a:lnTo>
                    <a:lnTo>
                      <a:pt x="1793" y="0"/>
                    </a:lnTo>
                    <a:lnTo>
                      <a:pt x="1791" y="15"/>
                    </a:lnTo>
                    <a:close/>
                    <a:moveTo>
                      <a:pt x="1186" y="15"/>
                    </a:moveTo>
                    <a:lnTo>
                      <a:pt x="591" y="15"/>
                    </a:lnTo>
                    <a:lnTo>
                      <a:pt x="597" y="0"/>
                    </a:lnTo>
                    <a:lnTo>
                      <a:pt x="1180" y="0"/>
                    </a:lnTo>
                    <a:lnTo>
                      <a:pt x="1186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2943000" y="11642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5" h="16">
                    <a:moveTo>
                      <a:pt x="1793" y="16"/>
                    </a:moveTo>
                    <a:lnTo>
                      <a:pt x="1304" y="16"/>
                    </a:lnTo>
                    <a:lnTo>
                      <a:pt x="1306" y="0"/>
                    </a:lnTo>
                    <a:lnTo>
                      <a:pt x="1795" y="0"/>
                    </a:lnTo>
                    <a:lnTo>
                      <a:pt x="1793" y="16"/>
                    </a:lnTo>
                    <a:close/>
                    <a:moveTo>
                      <a:pt x="1184" y="16"/>
                    </a:moveTo>
                    <a:lnTo>
                      <a:pt x="595" y="16"/>
                    </a:lnTo>
                    <a:lnTo>
                      <a:pt x="601" y="0"/>
                    </a:lnTo>
                    <a:lnTo>
                      <a:pt x="1178" y="0"/>
                    </a:lnTo>
                    <a:lnTo>
                      <a:pt x="1184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943000" y="1160640"/>
                <a:ext cx="689400" cy="6480"/>
              </a:xfrm>
              <a:custGeom>
                <a:avLst/>
                <a:gdLst/>
                <a:ahLst/>
                <a:rect l="l" t="t" r="r" b="b"/>
                <a:pathLst>
                  <a:path w="1796" h="16">
                    <a:moveTo>
                      <a:pt x="1795" y="16"/>
                    </a:moveTo>
                    <a:lnTo>
                      <a:pt x="1306" y="16"/>
                    </a:lnTo>
                    <a:lnTo>
                      <a:pt x="1308" y="0"/>
                    </a:lnTo>
                    <a:lnTo>
                      <a:pt x="1796" y="0"/>
                    </a:lnTo>
                    <a:lnTo>
                      <a:pt x="1795" y="16"/>
                    </a:lnTo>
                    <a:close/>
                    <a:moveTo>
                      <a:pt x="1182" y="16"/>
                    </a:moveTo>
                    <a:lnTo>
                      <a:pt x="599" y="16"/>
                    </a:lnTo>
                    <a:lnTo>
                      <a:pt x="607" y="0"/>
                    </a:lnTo>
                    <a:lnTo>
                      <a:pt x="1176" y="0"/>
                    </a:lnTo>
                    <a:lnTo>
                      <a:pt x="1182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2943000" y="115884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8" h="15">
                    <a:moveTo>
                      <a:pt x="1797" y="15"/>
                    </a:moveTo>
                    <a:lnTo>
                      <a:pt x="1308" y="15"/>
                    </a:lnTo>
                    <a:lnTo>
                      <a:pt x="1309" y="0"/>
                    </a:lnTo>
                    <a:lnTo>
                      <a:pt x="1798" y="0"/>
                    </a:lnTo>
                    <a:lnTo>
                      <a:pt x="1797" y="15"/>
                    </a:lnTo>
                    <a:close/>
                    <a:moveTo>
                      <a:pt x="1180" y="15"/>
                    </a:moveTo>
                    <a:lnTo>
                      <a:pt x="603" y="15"/>
                    </a:lnTo>
                    <a:lnTo>
                      <a:pt x="611" y="0"/>
                    </a:lnTo>
                    <a:lnTo>
                      <a:pt x="1173" y="0"/>
                    </a:lnTo>
                    <a:lnTo>
                      <a:pt x="1180" y="15"/>
                    </a:lnTo>
                    <a:close/>
                    <a:moveTo>
                      <a:pt x="48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2941200" y="1157040"/>
                <a:ext cx="691200" cy="3600"/>
              </a:xfrm>
              <a:custGeom>
                <a:avLst/>
                <a:gdLst/>
                <a:ahLst/>
                <a:rect l="l" t="t" r="r" b="b"/>
                <a:pathLst>
                  <a:path w="1800" h="14">
                    <a:moveTo>
                      <a:pt x="1798" y="14"/>
                    </a:moveTo>
                    <a:lnTo>
                      <a:pt x="1310" y="14"/>
                    </a:lnTo>
                    <a:lnTo>
                      <a:pt x="1311" y="0"/>
                    </a:lnTo>
                    <a:lnTo>
                      <a:pt x="1800" y="0"/>
                    </a:lnTo>
                    <a:lnTo>
                      <a:pt x="1798" y="14"/>
                    </a:lnTo>
                    <a:close/>
                    <a:moveTo>
                      <a:pt x="1178" y="14"/>
                    </a:moveTo>
                    <a:lnTo>
                      <a:pt x="609" y="14"/>
                    </a:lnTo>
                    <a:lnTo>
                      <a:pt x="615" y="0"/>
                    </a:lnTo>
                    <a:lnTo>
                      <a:pt x="1171" y="0"/>
                    </a:lnTo>
                    <a:lnTo>
                      <a:pt x="117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2941200" y="115344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0" y="15"/>
                    </a:moveTo>
                    <a:lnTo>
                      <a:pt x="1311" y="15"/>
                    </a:lnTo>
                    <a:lnTo>
                      <a:pt x="1313" y="0"/>
                    </a:lnTo>
                    <a:lnTo>
                      <a:pt x="1802" y="0"/>
                    </a:lnTo>
                    <a:lnTo>
                      <a:pt x="1800" y="15"/>
                    </a:lnTo>
                    <a:close/>
                    <a:moveTo>
                      <a:pt x="1175" y="15"/>
                    </a:moveTo>
                    <a:lnTo>
                      <a:pt x="613" y="15"/>
                    </a:lnTo>
                    <a:lnTo>
                      <a:pt x="619" y="0"/>
                    </a:lnTo>
                    <a:lnTo>
                      <a:pt x="1169" y="0"/>
                    </a:lnTo>
                    <a:lnTo>
                      <a:pt x="1175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2941200" y="1149840"/>
                <a:ext cx="693000" cy="7200"/>
              </a:xfrm>
              <a:custGeom>
                <a:avLst/>
                <a:gdLst/>
                <a:ahLst/>
                <a:rect l="l" t="t" r="r" b="b"/>
                <a:pathLst>
                  <a:path w="1805" h="16">
                    <a:moveTo>
                      <a:pt x="1803" y="16"/>
                    </a:moveTo>
                    <a:lnTo>
                      <a:pt x="1314" y="16"/>
                    </a:lnTo>
                    <a:lnTo>
                      <a:pt x="1316" y="0"/>
                    </a:lnTo>
                    <a:lnTo>
                      <a:pt x="1805" y="0"/>
                    </a:lnTo>
                    <a:lnTo>
                      <a:pt x="1803" y="16"/>
                    </a:lnTo>
                    <a:close/>
                    <a:moveTo>
                      <a:pt x="1174" y="16"/>
                    </a:moveTo>
                    <a:lnTo>
                      <a:pt x="618" y="16"/>
                    </a:lnTo>
                    <a:lnTo>
                      <a:pt x="624" y="0"/>
                    </a:lnTo>
                    <a:lnTo>
                      <a:pt x="1168" y="0"/>
                    </a:lnTo>
                    <a:lnTo>
                      <a:pt x="1174" y="16"/>
                    </a:lnTo>
                    <a:close/>
                    <a:moveTo>
                      <a:pt x="482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2941200" y="114840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7" h="15">
                    <a:moveTo>
                      <a:pt x="1805" y="15"/>
                    </a:moveTo>
                    <a:lnTo>
                      <a:pt x="1316" y="15"/>
                    </a:lnTo>
                    <a:lnTo>
                      <a:pt x="1318" y="0"/>
                    </a:lnTo>
                    <a:lnTo>
                      <a:pt x="1807" y="0"/>
                    </a:lnTo>
                    <a:lnTo>
                      <a:pt x="1805" y="15"/>
                    </a:lnTo>
                    <a:close/>
                    <a:moveTo>
                      <a:pt x="1172" y="15"/>
                    </a:moveTo>
                    <a:lnTo>
                      <a:pt x="622" y="15"/>
                    </a:lnTo>
                    <a:lnTo>
                      <a:pt x="628" y="0"/>
                    </a:lnTo>
                    <a:lnTo>
                      <a:pt x="1166" y="0"/>
                    </a:lnTo>
                    <a:lnTo>
                      <a:pt x="1172" y="15"/>
                    </a:lnTo>
                    <a:close/>
                    <a:moveTo>
                      <a:pt x="4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2939040" y="1144800"/>
                <a:ext cx="695160" cy="5040"/>
              </a:xfrm>
              <a:custGeom>
                <a:avLst/>
                <a:gdLst/>
                <a:ahLst/>
                <a:rect l="l" t="t" r="r" b="b"/>
                <a:pathLst>
                  <a:path w="1809" h="15">
                    <a:moveTo>
                      <a:pt x="1807" y="15"/>
                    </a:moveTo>
                    <a:lnTo>
                      <a:pt x="1318" y="15"/>
                    </a:lnTo>
                    <a:lnTo>
                      <a:pt x="1320" y="0"/>
                    </a:lnTo>
                    <a:lnTo>
                      <a:pt x="1809" y="0"/>
                    </a:lnTo>
                    <a:lnTo>
                      <a:pt x="1807" y="15"/>
                    </a:lnTo>
                    <a:close/>
                    <a:moveTo>
                      <a:pt x="1170" y="15"/>
                    </a:moveTo>
                    <a:lnTo>
                      <a:pt x="626" y="15"/>
                    </a:lnTo>
                    <a:lnTo>
                      <a:pt x="632" y="0"/>
                    </a:lnTo>
                    <a:lnTo>
                      <a:pt x="1164" y="0"/>
                    </a:lnTo>
                    <a:lnTo>
                      <a:pt x="1170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2939040" y="114300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2" h="15">
                    <a:moveTo>
                      <a:pt x="1809" y="15"/>
                    </a:moveTo>
                    <a:lnTo>
                      <a:pt x="1320" y="15"/>
                    </a:lnTo>
                    <a:lnTo>
                      <a:pt x="1322" y="0"/>
                    </a:lnTo>
                    <a:lnTo>
                      <a:pt x="1812" y="0"/>
                    </a:lnTo>
                    <a:lnTo>
                      <a:pt x="1809" y="15"/>
                    </a:lnTo>
                    <a:close/>
                    <a:moveTo>
                      <a:pt x="1168" y="15"/>
                    </a:moveTo>
                    <a:lnTo>
                      <a:pt x="630" y="15"/>
                    </a:lnTo>
                    <a:lnTo>
                      <a:pt x="637" y="0"/>
                    </a:lnTo>
                    <a:lnTo>
                      <a:pt x="1162" y="0"/>
                    </a:lnTo>
                    <a:lnTo>
                      <a:pt x="1168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2939040" y="1141200"/>
                <a:ext cx="697320" cy="3600"/>
              </a:xfrm>
              <a:custGeom>
                <a:avLst/>
                <a:gdLst/>
                <a:ahLst/>
                <a:rect l="l" t="t" r="r" b="b"/>
                <a:pathLst>
                  <a:path w="1814" h="14">
                    <a:moveTo>
                      <a:pt x="1811" y="14"/>
                    </a:moveTo>
                    <a:lnTo>
                      <a:pt x="1322" y="14"/>
                    </a:lnTo>
                    <a:lnTo>
                      <a:pt x="1324" y="0"/>
                    </a:lnTo>
                    <a:lnTo>
                      <a:pt x="1814" y="0"/>
                    </a:lnTo>
                    <a:lnTo>
                      <a:pt x="1811" y="14"/>
                    </a:lnTo>
                    <a:close/>
                    <a:moveTo>
                      <a:pt x="1166" y="14"/>
                    </a:moveTo>
                    <a:lnTo>
                      <a:pt x="634" y="14"/>
                    </a:lnTo>
                    <a:lnTo>
                      <a:pt x="641" y="0"/>
                    </a:lnTo>
                    <a:lnTo>
                      <a:pt x="1159" y="0"/>
                    </a:lnTo>
                    <a:lnTo>
                      <a:pt x="1166" y="14"/>
                    </a:lnTo>
                    <a:close/>
                    <a:moveTo>
                      <a:pt x="48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2939040" y="1137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6" h="15">
                    <a:moveTo>
                      <a:pt x="1814" y="15"/>
                    </a:moveTo>
                    <a:lnTo>
                      <a:pt x="1324" y="15"/>
                    </a:lnTo>
                    <a:lnTo>
                      <a:pt x="1326" y="0"/>
                    </a:lnTo>
                    <a:lnTo>
                      <a:pt x="1816" y="0"/>
                    </a:lnTo>
                    <a:lnTo>
                      <a:pt x="1814" y="15"/>
                    </a:lnTo>
                    <a:close/>
                    <a:moveTo>
                      <a:pt x="1164" y="15"/>
                    </a:moveTo>
                    <a:lnTo>
                      <a:pt x="639" y="15"/>
                    </a:lnTo>
                    <a:lnTo>
                      <a:pt x="645" y="0"/>
                    </a:lnTo>
                    <a:lnTo>
                      <a:pt x="1157" y="0"/>
                    </a:lnTo>
                    <a:lnTo>
                      <a:pt x="1164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2939040" y="1134360"/>
                <a:ext cx="697320" cy="6480"/>
              </a:xfrm>
              <a:custGeom>
                <a:avLst/>
                <a:gdLst/>
                <a:ahLst/>
                <a:rect l="l" t="t" r="r" b="b"/>
                <a:pathLst>
                  <a:path w="1818" h="16">
                    <a:moveTo>
                      <a:pt x="1816" y="16"/>
                    </a:moveTo>
                    <a:lnTo>
                      <a:pt x="1326" y="16"/>
                    </a:lnTo>
                    <a:lnTo>
                      <a:pt x="1328" y="0"/>
                    </a:lnTo>
                    <a:lnTo>
                      <a:pt x="1818" y="0"/>
                    </a:lnTo>
                    <a:lnTo>
                      <a:pt x="1816" y="16"/>
                    </a:lnTo>
                    <a:close/>
                    <a:moveTo>
                      <a:pt x="1161" y="16"/>
                    </a:moveTo>
                    <a:lnTo>
                      <a:pt x="643" y="16"/>
                    </a:lnTo>
                    <a:lnTo>
                      <a:pt x="649" y="0"/>
                    </a:lnTo>
                    <a:lnTo>
                      <a:pt x="1155" y="0"/>
                    </a:lnTo>
                    <a:lnTo>
                      <a:pt x="1161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2937240" y="1132200"/>
                <a:ext cx="699120" cy="5040"/>
              </a:xfrm>
              <a:custGeom>
                <a:avLst/>
                <a:gdLst/>
                <a:ahLst/>
                <a:rect l="l" t="t" r="r" b="b"/>
                <a:pathLst>
                  <a:path w="1820" h="16">
                    <a:moveTo>
                      <a:pt x="1818" y="16"/>
                    </a:moveTo>
                    <a:lnTo>
                      <a:pt x="1328" y="16"/>
                    </a:lnTo>
                    <a:lnTo>
                      <a:pt x="1330" y="0"/>
                    </a:lnTo>
                    <a:lnTo>
                      <a:pt x="1820" y="0"/>
                    </a:lnTo>
                    <a:lnTo>
                      <a:pt x="1818" y="16"/>
                    </a:lnTo>
                    <a:close/>
                    <a:moveTo>
                      <a:pt x="1159" y="16"/>
                    </a:moveTo>
                    <a:lnTo>
                      <a:pt x="647" y="16"/>
                    </a:lnTo>
                    <a:lnTo>
                      <a:pt x="653" y="0"/>
                    </a:lnTo>
                    <a:lnTo>
                      <a:pt x="1153" y="0"/>
                    </a:lnTo>
                    <a:lnTo>
                      <a:pt x="1159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2937240" y="1128600"/>
                <a:ext cx="700560" cy="5400"/>
              </a:xfrm>
              <a:custGeom>
                <a:avLst/>
                <a:gdLst/>
                <a:ahLst/>
                <a:rect l="l" t="t" r="r" b="b"/>
                <a:pathLst>
                  <a:path w="1822" h="15">
                    <a:moveTo>
                      <a:pt x="1820" y="15"/>
                    </a:moveTo>
                    <a:lnTo>
                      <a:pt x="1330" y="15"/>
                    </a:lnTo>
                    <a:lnTo>
                      <a:pt x="1332" y="0"/>
                    </a:lnTo>
                    <a:lnTo>
                      <a:pt x="1822" y="0"/>
                    </a:lnTo>
                    <a:lnTo>
                      <a:pt x="1820" y="15"/>
                    </a:lnTo>
                    <a:close/>
                    <a:moveTo>
                      <a:pt x="1157" y="15"/>
                    </a:moveTo>
                    <a:lnTo>
                      <a:pt x="651" y="15"/>
                    </a:lnTo>
                    <a:lnTo>
                      <a:pt x="657" y="0"/>
                    </a:lnTo>
                    <a:lnTo>
                      <a:pt x="1151" y="0"/>
                    </a:lnTo>
                    <a:lnTo>
                      <a:pt x="1157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2937240" y="11271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4" h="14">
                    <a:moveTo>
                      <a:pt x="1822" y="14"/>
                    </a:moveTo>
                    <a:lnTo>
                      <a:pt x="1332" y="14"/>
                    </a:lnTo>
                    <a:lnTo>
                      <a:pt x="1335" y="0"/>
                    </a:lnTo>
                    <a:lnTo>
                      <a:pt x="1824" y="0"/>
                    </a:lnTo>
                    <a:lnTo>
                      <a:pt x="1822" y="14"/>
                    </a:lnTo>
                    <a:close/>
                    <a:moveTo>
                      <a:pt x="1155" y="14"/>
                    </a:moveTo>
                    <a:lnTo>
                      <a:pt x="655" y="14"/>
                    </a:lnTo>
                    <a:lnTo>
                      <a:pt x="662" y="0"/>
                    </a:lnTo>
                    <a:lnTo>
                      <a:pt x="1149" y="0"/>
                    </a:lnTo>
                    <a:lnTo>
                      <a:pt x="1155" y="14"/>
                    </a:lnTo>
                    <a:close/>
                    <a:moveTo>
                      <a:pt x="48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2937240" y="112320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6" h="15">
                    <a:moveTo>
                      <a:pt x="1824" y="15"/>
                    </a:moveTo>
                    <a:lnTo>
                      <a:pt x="1334" y="15"/>
                    </a:lnTo>
                    <a:lnTo>
                      <a:pt x="1337" y="0"/>
                    </a:lnTo>
                    <a:lnTo>
                      <a:pt x="1826" y="0"/>
                    </a:lnTo>
                    <a:lnTo>
                      <a:pt x="1824" y="15"/>
                    </a:lnTo>
                    <a:close/>
                    <a:moveTo>
                      <a:pt x="1153" y="15"/>
                    </a:moveTo>
                    <a:lnTo>
                      <a:pt x="659" y="15"/>
                    </a:lnTo>
                    <a:lnTo>
                      <a:pt x="667" y="0"/>
                    </a:lnTo>
                    <a:lnTo>
                      <a:pt x="1147" y="0"/>
                    </a:lnTo>
                    <a:lnTo>
                      <a:pt x="1153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2937240" y="11217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7" h="16">
                    <a:moveTo>
                      <a:pt x="1826" y="16"/>
                    </a:moveTo>
                    <a:lnTo>
                      <a:pt x="1337" y="16"/>
                    </a:lnTo>
                    <a:lnTo>
                      <a:pt x="1339" y="0"/>
                    </a:lnTo>
                    <a:lnTo>
                      <a:pt x="1827" y="0"/>
                    </a:lnTo>
                    <a:lnTo>
                      <a:pt x="1826" y="16"/>
                    </a:lnTo>
                    <a:close/>
                    <a:moveTo>
                      <a:pt x="1151" y="16"/>
                    </a:moveTo>
                    <a:lnTo>
                      <a:pt x="664" y="16"/>
                    </a:lnTo>
                    <a:lnTo>
                      <a:pt x="671" y="0"/>
                    </a:lnTo>
                    <a:lnTo>
                      <a:pt x="1144" y="0"/>
                    </a:lnTo>
                    <a:lnTo>
                      <a:pt x="1151" y="16"/>
                    </a:lnTo>
                    <a:close/>
                    <a:moveTo>
                      <a:pt x="48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2935080" y="111816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8" y="15"/>
                    </a:moveTo>
                    <a:lnTo>
                      <a:pt x="1339" y="15"/>
                    </a:lnTo>
                    <a:lnTo>
                      <a:pt x="1341" y="0"/>
                    </a:lnTo>
                    <a:lnTo>
                      <a:pt x="1829" y="0"/>
                    </a:lnTo>
                    <a:lnTo>
                      <a:pt x="1828" y="15"/>
                    </a:lnTo>
                    <a:close/>
                    <a:moveTo>
                      <a:pt x="1149" y="15"/>
                    </a:moveTo>
                    <a:lnTo>
                      <a:pt x="669" y="15"/>
                    </a:lnTo>
                    <a:lnTo>
                      <a:pt x="675" y="0"/>
                    </a:lnTo>
                    <a:lnTo>
                      <a:pt x="1142" y="0"/>
                    </a:lnTo>
                    <a:lnTo>
                      <a:pt x="1149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2935080" y="111672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31" h="15">
                    <a:moveTo>
                      <a:pt x="1829" y="15"/>
                    </a:moveTo>
                    <a:lnTo>
                      <a:pt x="1341" y="15"/>
                    </a:lnTo>
                    <a:lnTo>
                      <a:pt x="1343" y="0"/>
                    </a:lnTo>
                    <a:lnTo>
                      <a:pt x="1831" y="0"/>
                    </a:lnTo>
                    <a:lnTo>
                      <a:pt x="1829" y="15"/>
                    </a:lnTo>
                    <a:close/>
                    <a:moveTo>
                      <a:pt x="1146" y="15"/>
                    </a:moveTo>
                    <a:lnTo>
                      <a:pt x="673" y="15"/>
                    </a:lnTo>
                    <a:lnTo>
                      <a:pt x="679" y="0"/>
                    </a:lnTo>
                    <a:lnTo>
                      <a:pt x="1140" y="0"/>
                    </a:lnTo>
                    <a:lnTo>
                      <a:pt x="1146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2935080" y="111312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1" y="15"/>
                    </a:moveTo>
                    <a:lnTo>
                      <a:pt x="1343" y="15"/>
                    </a:lnTo>
                    <a:lnTo>
                      <a:pt x="1345" y="0"/>
                    </a:lnTo>
                    <a:lnTo>
                      <a:pt x="1833" y="0"/>
                    </a:lnTo>
                    <a:lnTo>
                      <a:pt x="1831" y="15"/>
                    </a:lnTo>
                    <a:close/>
                    <a:moveTo>
                      <a:pt x="1144" y="15"/>
                    </a:moveTo>
                    <a:lnTo>
                      <a:pt x="677" y="15"/>
                    </a:lnTo>
                    <a:lnTo>
                      <a:pt x="683" y="0"/>
                    </a:lnTo>
                    <a:lnTo>
                      <a:pt x="1138" y="0"/>
                    </a:lnTo>
                    <a:lnTo>
                      <a:pt x="1144" y="15"/>
                    </a:lnTo>
                    <a:close/>
                    <a:moveTo>
                      <a:pt x="48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2935080" y="11109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5" h="14">
                    <a:moveTo>
                      <a:pt x="1833" y="14"/>
                    </a:moveTo>
                    <a:lnTo>
                      <a:pt x="1345" y="14"/>
                    </a:lnTo>
                    <a:lnTo>
                      <a:pt x="1347" y="0"/>
                    </a:lnTo>
                    <a:lnTo>
                      <a:pt x="1835" y="0"/>
                    </a:lnTo>
                    <a:lnTo>
                      <a:pt x="1833" y="14"/>
                    </a:lnTo>
                    <a:close/>
                    <a:moveTo>
                      <a:pt x="1142" y="14"/>
                    </a:moveTo>
                    <a:lnTo>
                      <a:pt x="681" y="14"/>
                    </a:lnTo>
                    <a:lnTo>
                      <a:pt x="687" y="0"/>
                    </a:lnTo>
                    <a:lnTo>
                      <a:pt x="1136" y="0"/>
                    </a:lnTo>
                    <a:lnTo>
                      <a:pt x="1142" y="14"/>
                    </a:lnTo>
                    <a:close/>
                    <a:moveTo>
                      <a:pt x="48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2935080" y="11073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7" h="16">
                    <a:moveTo>
                      <a:pt x="1835" y="16"/>
                    </a:moveTo>
                    <a:lnTo>
                      <a:pt x="1347" y="16"/>
                    </a:lnTo>
                    <a:lnTo>
                      <a:pt x="1349" y="0"/>
                    </a:lnTo>
                    <a:lnTo>
                      <a:pt x="1837" y="0"/>
                    </a:lnTo>
                    <a:lnTo>
                      <a:pt x="1835" y="16"/>
                    </a:lnTo>
                    <a:close/>
                    <a:moveTo>
                      <a:pt x="1140" y="16"/>
                    </a:moveTo>
                    <a:lnTo>
                      <a:pt x="685" y="16"/>
                    </a:lnTo>
                    <a:lnTo>
                      <a:pt x="692" y="0"/>
                    </a:lnTo>
                    <a:lnTo>
                      <a:pt x="1134" y="0"/>
                    </a:lnTo>
                    <a:lnTo>
                      <a:pt x="1140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2933280" y="11055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39" h="16">
                    <a:moveTo>
                      <a:pt x="1837" y="16"/>
                    </a:moveTo>
                    <a:lnTo>
                      <a:pt x="1349" y="16"/>
                    </a:lnTo>
                    <a:lnTo>
                      <a:pt x="1351" y="0"/>
                    </a:lnTo>
                    <a:lnTo>
                      <a:pt x="1839" y="0"/>
                    </a:lnTo>
                    <a:lnTo>
                      <a:pt x="1837" y="16"/>
                    </a:lnTo>
                    <a:close/>
                    <a:moveTo>
                      <a:pt x="1138" y="16"/>
                    </a:moveTo>
                    <a:lnTo>
                      <a:pt x="689" y="16"/>
                    </a:lnTo>
                    <a:lnTo>
                      <a:pt x="696" y="0"/>
                    </a:lnTo>
                    <a:lnTo>
                      <a:pt x="1131" y="0"/>
                    </a:lnTo>
                    <a:lnTo>
                      <a:pt x="1138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933280" y="11019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41" h="15">
                    <a:moveTo>
                      <a:pt x="1839" y="15"/>
                    </a:moveTo>
                    <a:lnTo>
                      <a:pt x="1351" y="15"/>
                    </a:lnTo>
                    <a:lnTo>
                      <a:pt x="1353" y="0"/>
                    </a:lnTo>
                    <a:lnTo>
                      <a:pt x="1841" y="0"/>
                    </a:lnTo>
                    <a:lnTo>
                      <a:pt x="1839" y="15"/>
                    </a:lnTo>
                    <a:close/>
                    <a:moveTo>
                      <a:pt x="1136" y="15"/>
                    </a:moveTo>
                    <a:lnTo>
                      <a:pt x="694" y="15"/>
                    </a:lnTo>
                    <a:lnTo>
                      <a:pt x="700" y="0"/>
                    </a:lnTo>
                    <a:lnTo>
                      <a:pt x="1129" y="0"/>
                    </a:lnTo>
                    <a:lnTo>
                      <a:pt x="1136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933280" y="11005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5">
                    <a:moveTo>
                      <a:pt x="1841" y="15"/>
                    </a:moveTo>
                    <a:lnTo>
                      <a:pt x="1353" y="15"/>
                    </a:lnTo>
                    <a:lnTo>
                      <a:pt x="1355" y="0"/>
                    </a:lnTo>
                    <a:lnTo>
                      <a:pt x="1843" y="0"/>
                    </a:lnTo>
                    <a:lnTo>
                      <a:pt x="1841" y="15"/>
                    </a:lnTo>
                    <a:close/>
                    <a:moveTo>
                      <a:pt x="1133" y="15"/>
                    </a:moveTo>
                    <a:lnTo>
                      <a:pt x="698" y="15"/>
                    </a:lnTo>
                    <a:lnTo>
                      <a:pt x="704" y="0"/>
                    </a:lnTo>
                    <a:lnTo>
                      <a:pt x="1127" y="0"/>
                    </a:lnTo>
                    <a:lnTo>
                      <a:pt x="1133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933280" y="10969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6" h="14">
                    <a:moveTo>
                      <a:pt x="1844" y="14"/>
                    </a:moveTo>
                    <a:lnTo>
                      <a:pt x="1356" y="14"/>
                    </a:lnTo>
                    <a:lnTo>
                      <a:pt x="1357" y="0"/>
                    </a:lnTo>
                    <a:lnTo>
                      <a:pt x="1846" y="0"/>
                    </a:lnTo>
                    <a:lnTo>
                      <a:pt x="1844" y="14"/>
                    </a:lnTo>
                    <a:close/>
                    <a:moveTo>
                      <a:pt x="1132" y="14"/>
                    </a:moveTo>
                    <a:lnTo>
                      <a:pt x="703" y="14"/>
                    </a:lnTo>
                    <a:lnTo>
                      <a:pt x="709" y="0"/>
                    </a:lnTo>
                    <a:lnTo>
                      <a:pt x="1126" y="0"/>
                    </a:lnTo>
                    <a:lnTo>
                      <a:pt x="1132" y="14"/>
                    </a:lnTo>
                    <a:close/>
                    <a:moveTo>
                      <a:pt x="487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2931840" y="10951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48" h="16">
                    <a:moveTo>
                      <a:pt x="1846" y="16"/>
                    </a:moveTo>
                    <a:lnTo>
                      <a:pt x="1358" y="16"/>
                    </a:lnTo>
                    <a:lnTo>
                      <a:pt x="1359" y="0"/>
                    </a:lnTo>
                    <a:lnTo>
                      <a:pt x="1848" y="0"/>
                    </a:lnTo>
                    <a:lnTo>
                      <a:pt x="1846" y="16"/>
                    </a:lnTo>
                    <a:close/>
                    <a:moveTo>
                      <a:pt x="1130" y="16"/>
                    </a:moveTo>
                    <a:lnTo>
                      <a:pt x="707" y="16"/>
                    </a:lnTo>
                    <a:lnTo>
                      <a:pt x="713" y="0"/>
                    </a:lnTo>
                    <a:lnTo>
                      <a:pt x="1124" y="0"/>
                    </a:lnTo>
                    <a:lnTo>
                      <a:pt x="1130" y="16"/>
                    </a:lnTo>
                    <a:close/>
                    <a:moveTo>
                      <a:pt x="48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2931840" y="10915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50" h="16">
                    <a:moveTo>
                      <a:pt x="1848" y="16"/>
                    </a:moveTo>
                    <a:lnTo>
                      <a:pt x="1359" y="16"/>
                    </a:lnTo>
                    <a:lnTo>
                      <a:pt x="1361" y="0"/>
                    </a:lnTo>
                    <a:lnTo>
                      <a:pt x="1850" y="0"/>
                    </a:lnTo>
                    <a:lnTo>
                      <a:pt x="1848" y="16"/>
                    </a:lnTo>
                    <a:close/>
                    <a:moveTo>
                      <a:pt x="1128" y="16"/>
                    </a:moveTo>
                    <a:lnTo>
                      <a:pt x="711" y="16"/>
                    </a:lnTo>
                    <a:lnTo>
                      <a:pt x="718" y="0"/>
                    </a:lnTo>
                    <a:lnTo>
                      <a:pt x="1122" y="0"/>
                    </a:lnTo>
                    <a:lnTo>
                      <a:pt x="1128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2931840" y="1089720"/>
                <a:ext cx="710280" cy="5400"/>
              </a:xfrm>
              <a:custGeom>
                <a:avLst/>
                <a:gdLst/>
                <a:ahLst/>
                <a:rect l="l" t="t" r="r" b="b"/>
                <a:pathLst>
                  <a:path w="1852" h="14">
                    <a:moveTo>
                      <a:pt x="1850" y="14"/>
                    </a:moveTo>
                    <a:lnTo>
                      <a:pt x="1361" y="14"/>
                    </a:lnTo>
                    <a:lnTo>
                      <a:pt x="1363" y="0"/>
                    </a:lnTo>
                    <a:lnTo>
                      <a:pt x="1852" y="0"/>
                    </a:lnTo>
                    <a:lnTo>
                      <a:pt x="1850" y="14"/>
                    </a:lnTo>
                    <a:close/>
                    <a:moveTo>
                      <a:pt x="1126" y="14"/>
                    </a:moveTo>
                    <a:lnTo>
                      <a:pt x="715" y="14"/>
                    </a:lnTo>
                    <a:lnTo>
                      <a:pt x="722" y="0"/>
                    </a:lnTo>
                    <a:lnTo>
                      <a:pt x="1120" y="0"/>
                    </a:lnTo>
                    <a:lnTo>
                      <a:pt x="1126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2931840" y="10864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5">
                    <a:moveTo>
                      <a:pt x="1852" y="15"/>
                    </a:moveTo>
                    <a:lnTo>
                      <a:pt x="1363" y="15"/>
                    </a:lnTo>
                    <a:lnTo>
                      <a:pt x="1365" y="0"/>
                    </a:lnTo>
                    <a:lnTo>
                      <a:pt x="1855" y="0"/>
                    </a:lnTo>
                    <a:lnTo>
                      <a:pt x="1852" y="15"/>
                    </a:lnTo>
                    <a:close/>
                    <a:moveTo>
                      <a:pt x="1124" y="15"/>
                    </a:moveTo>
                    <a:lnTo>
                      <a:pt x="720" y="15"/>
                    </a:lnTo>
                    <a:lnTo>
                      <a:pt x="727" y="0"/>
                    </a:lnTo>
                    <a:lnTo>
                      <a:pt x="1117" y="0"/>
                    </a:lnTo>
                    <a:lnTo>
                      <a:pt x="1124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2931840" y="108432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7" h="15">
                    <a:moveTo>
                      <a:pt x="1854" y="15"/>
                    </a:moveTo>
                    <a:lnTo>
                      <a:pt x="1365" y="15"/>
                    </a:lnTo>
                    <a:lnTo>
                      <a:pt x="1367" y="0"/>
                    </a:lnTo>
                    <a:lnTo>
                      <a:pt x="1857" y="0"/>
                    </a:lnTo>
                    <a:lnTo>
                      <a:pt x="1854" y="15"/>
                    </a:lnTo>
                    <a:close/>
                    <a:moveTo>
                      <a:pt x="1122" y="15"/>
                    </a:moveTo>
                    <a:lnTo>
                      <a:pt x="724" y="15"/>
                    </a:lnTo>
                    <a:lnTo>
                      <a:pt x="731" y="0"/>
                    </a:lnTo>
                    <a:lnTo>
                      <a:pt x="1115" y="0"/>
                    </a:lnTo>
                    <a:lnTo>
                      <a:pt x="1122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2929680" y="1080720"/>
                <a:ext cx="714600" cy="5400"/>
              </a:xfrm>
              <a:custGeom>
                <a:avLst/>
                <a:gdLst/>
                <a:ahLst/>
                <a:rect l="l" t="t" r="r" b="b"/>
                <a:pathLst>
                  <a:path w="1858" h="16">
                    <a:moveTo>
                      <a:pt x="1857" y="16"/>
                    </a:moveTo>
                    <a:lnTo>
                      <a:pt x="1367" y="16"/>
                    </a:lnTo>
                    <a:lnTo>
                      <a:pt x="1369" y="0"/>
                    </a:lnTo>
                    <a:lnTo>
                      <a:pt x="1858" y="0"/>
                    </a:lnTo>
                    <a:lnTo>
                      <a:pt x="1857" y="16"/>
                    </a:lnTo>
                    <a:close/>
                    <a:moveTo>
                      <a:pt x="1119" y="16"/>
                    </a:moveTo>
                    <a:lnTo>
                      <a:pt x="729" y="16"/>
                    </a:lnTo>
                    <a:lnTo>
                      <a:pt x="735" y="0"/>
                    </a:lnTo>
                    <a:lnTo>
                      <a:pt x="1113" y="0"/>
                    </a:lnTo>
                    <a:lnTo>
                      <a:pt x="1119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2929680" y="10792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0" h="16">
                    <a:moveTo>
                      <a:pt x="1859" y="16"/>
                    </a:moveTo>
                    <a:lnTo>
                      <a:pt x="1369" y="16"/>
                    </a:lnTo>
                    <a:lnTo>
                      <a:pt x="1371" y="0"/>
                    </a:lnTo>
                    <a:lnTo>
                      <a:pt x="1860" y="0"/>
                    </a:lnTo>
                    <a:lnTo>
                      <a:pt x="1859" y="16"/>
                    </a:lnTo>
                    <a:close/>
                    <a:moveTo>
                      <a:pt x="1117" y="16"/>
                    </a:moveTo>
                    <a:lnTo>
                      <a:pt x="733" y="16"/>
                    </a:lnTo>
                    <a:lnTo>
                      <a:pt x="739" y="0"/>
                    </a:lnTo>
                    <a:lnTo>
                      <a:pt x="1110" y="0"/>
                    </a:lnTo>
                    <a:lnTo>
                      <a:pt x="1117" y="16"/>
                    </a:lnTo>
                    <a:close/>
                    <a:moveTo>
                      <a:pt x="48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2929680" y="10756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2" h="14">
                    <a:moveTo>
                      <a:pt x="1860" y="14"/>
                    </a:moveTo>
                    <a:lnTo>
                      <a:pt x="1371" y="14"/>
                    </a:lnTo>
                    <a:lnTo>
                      <a:pt x="1373" y="0"/>
                    </a:lnTo>
                    <a:lnTo>
                      <a:pt x="1862" y="0"/>
                    </a:lnTo>
                    <a:lnTo>
                      <a:pt x="1860" y="14"/>
                    </a:lnTo>
                    <a:close/>
                    <a:moveTo>
                      <a:pt x="1115" y="14"/>
                    </a:moveTo>
                    <a:lnTo>
                      <a:pt x="737" y="14"/>
                    </a:lnTo>
                    <a:lnTo>
                      <a:pt x="743" y="0"/>
                    </a:lnTo>
                    <a:lnTo>
                      <a:pt x="1108" y="0"/>
                    </a:lnTo>
                    <a:lnTo>
                      <a:pt x="1115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2929680" y="10738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5">
                    <a:moveTo>
                      <a:pt x="1862" y="15"/>
                    </a:moveTo>
                    <a:lnTo>
                      <a:pt x="1373" y="15"/>
                    </a:lnTo>
                    <a:lnTo>
                      <a:pt x="1375" y="0"/>
                    </a:lnTo>
                    <a:lnTo>
                      <a:pt x="1864" y="0"/>
                    </a:lnTo>
                    <a:lnTo>
                      <a:pt x="1862" y="15"/>
                    </a:lnTo>
                    <a:close/>
                    <a:moveTo>
                      <a:pt x="1112" y="15"/>
                    </a:moveTo>
                    <a:lnTo>
                      <a:pt x="741" y="15"/>
                    </a:lnTo>
                    <a:lnTo>
                      <a:pt x="748" y="0"/>
                    </a:lnTo>
                    <a:lnTo>
                      <a:pt x="1106" y="0"/>
                    </a:lnTo>
                    <a:lnTo>
                      <a:pt x="1112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2929680" y="10702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6" h="15">
                    <a:moveTo>
                      <a:pt x="1864" y="15"/>
                    </a:moveTo>
                    <a:lnTo>
                      <a:pt x="1375" y="15"/>
                    </a:lnTo>
                    <a:lnTo>
                      <a:pt x="1378" y="0"/>
                    </a:lnTo>
                    <a:lnTo>
                      <a:pt x="1866" y="0"/>
                    </a:lnTo>
                    <a:lnTo>
                      <a:pt x="1864" y="15"/>
                    </a:lnTo>
                    <a:close/>
                    <a:moveTo>
                      <a:pt x="1110" y="15"/>
                    </a:moveTo>
                    <a:lnTo>
                      <a:pt x="745" y="15"/>
                    </a:lnTo>
                    <a:lnTo>
                      <a:pt x="752" y="0"/>
                    </a:lnTo>
                    <a:lnTo>
                      <a:pt x="1103" y="0"/>
                    </a:lnTo>
                    <a:lnTo>
                      <a:pt x="1110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2927880" y="1068480"/>
                <a:ext cx="718200" cy="5400"/>
              </a:xfrm>
              <a:custGeom>
                <a:avLst/>
                <a:gdLst/>
                <a:ahLst/>
                <a:rect l="l" t="t" r="r" b="b"/>
                <a:pathLst>
                  <a:path w="1868" h="15">
                    <a:moveTo>
                      <a:pt x="1866" y="15"/>
                    </a:moveTo>
                    <a:lnTo>
                      <a:pt x="1377" y="15"/>
                    </a:lnTo>
                    <a:lnTo>
                      <a:pt x="1380" y="0"/>
                    </a:lnTo>
                    <a:lnTo>
                      <a:pt x="1868" y="0"/>
                    </a:lnTo>
                    <a:lnTo>
                      <a:pt x="1866" y="15"/>
                    </a:lnTo>
                    <a:close/>
                    <a:moveTo>
                      <a:pt x="1108" y="15"/>
                    </a:moveTo>
                    <a:lnTo>
                      <a:pt x="750" y="15"/>
                    </a:lnTo>
                    <a:lnTo>
                      <a:pt x="756" y="0"/>
                    </a:lnTo>
                    <a:lnTo>
                      <a:pt x="1101" y="0"/>
                    </a:lnTo>
                    <a:lnTo>
                      <a:pt x="1108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2927880" y="106524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0" h="16">
                    <a:moveTo>
                      <a:pt x="1868" y="16"/>
                    </a:moveTo>
                    <a:lnTo>
                      <a:pt x="1380" y="16"/>
                    </a:lnTo>
                    <a:lnTo>
                      <a:pt x="1382" y="0"/>
                    </a:lnTo>
                    <a:lnTo>
                      <a:pt x="1870" y="0"/>
                    </a:lnTo>
                    <a:lnTo>
                      <a:pt x="1868" y="16"/>
                    </a:lnTo>
                    <a:close/>
                    <a:moveTo>
                      <a:pt x="1105" y="16"/>
                    </a:moveTo>
                    <a:lnTo>
                      <a:pt x="754" y="16"/>
                    </a:lnTo>
                    <a:lnTo>
                      <a:pt x="760" y="0"/>
                    </a:lnTo>
                    <a:lnTo>
                      <a:pt x="1099" y="0"/>
                    </a:lnTo>
                    <a:lnTo>
                      <a:pt x="1105" y="16"/>
                    </a:lnTo>
                    <a:close/>
                    <a:moveTo>
                      <a:pt x="48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2927880" y="106308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2" h="15">
                    <a:moveTo>
                      <a:pt x="1870" y="15"/>
                    </a:moveTo>
                    <a:lnTo>
                      <a:pt x="1382" y="15"/>
                    </a:lnTo>
                    <a:lnTo>
                      <a:pt x="1384" y="0"/>
                    </a:lnTo>
                    <a:lnTo>
                      <a:pt x="1872" y="0"/>
                    </a:lnTo>
                    <a:lnTo>
                      <a:pt x="1870" y="15"/>
                    </a:lnTo>
                    <a:close/>
                    <a:moveTo>
                      <a:pt x="1103" y="15"/>
                    </a:moveTo>
                    <a:lnTo>
                      <a:pt x="758" y="15"/>
                    </a:lnTo>
                    <a:lnTo>
                      <a:pt x="764" y="0"/>
                    </a:lnTo>
                    <a:lnTo>
                      <a:pt x="1097" y="0"/>
                    </a:lnTo>
                    <a:lnTo>
                      <a:pt x="1103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2927880" y="1059480"/>
                <a:ext cx="720000" cy="5400"/>
              </a:xfrm>
              <a:custGeom>
                <a:avLst/>
                <a:gdLst/>
                <a:ahLst/>
                <a:rect l="l" t="t" r="r" b="b"/>
                <a:pathLst>
                  <a:path w="1874" h="14">
                    <a:moveTo>
                      <a:pt x="1872" y="14"/>
                    </a:moveTo>
                    <a:lnTo>
                      <a:pt x="1384" y="14"/>
                    </a:lnTo>
                    <a:lnTo>
                      <a:pt x="1386" y="0"/>
                    </a:lnTo>
                    <a:lnTo>
                      <a:pt x="1874" y="0"/>
                    </a:lnTo>
                    <a:lnTo>
                      <a:pt x="1872" y="14"/>
                    </a:lnTo>
                    <a:close/>
                    <a:moveTo>
                      <a:pt x="1101" y="14"/>
                    </a:moveTo>
                    <a:lnTo>
                      <a:pt x="762" y="14"/>
                    </a:lnTo>
                    <a:lnTo>
                      <a:pt x="768" y="0"/>
                    </a:lnTo>
                    <a:lnTo>
                      <a:pt x="1095" y="0"/>
                    </a:lnTo>
                    <a:lnTo>
                      <a:pt x="1101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2927880" y="1058040"/>
                <a:ext cx="720000" cy="5040"/>
              </a:xfrm>
              <a:custGeom>
                <a:avLst/>
                <a:gdLst/>
                <a:ahLst/>
                <a:rect l="l" t="t" r="r" b="b"/>
                <a:pathLst>
                  <a:path w="1876" h="15">
                    <a:moveTo>
                      <a:pt x="1874" y="15"/>
                    </a:moveTo>
                    <a:lnTo>
                      <a:pt x="1386" y="15"/>
                    </a:lnTo>
                    <a:lnTo>
                      <a:pt x="1388" y="0"/>
                    </a:lnTo>
                    <a:lnTo>
                      <a:pt x="1876" y="0"/>
                    </a:lnTo>
                    <a:lnTo>
                      <a:pt x="1874" y="15"/>
                    </a:lnTo>
                    <a:close/>
                    <a:moveTo>
                      <a:pt x="1099" y="15"/>
                    </a:moveTo>
                    <a:lnTo>
                      <a:pt x="766" y="15"/>
                    </a:lnTo>
                    <a:lnTo>
                      <a:pt x="773" y="0"/>
                    </a:lnTo>
                    <a:lnTo>
                      <a:pt x="1093" y="0"/>
                    </a:lnTo>
                    <a:lnTo>
                      <a:pt x="1099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2925720" y="10544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78" h="15">
                    <a:moveTo>
                      <a:pt x="1876" y="15"/>
                    </a:moveTo>
                    <a:lnTo>
                      <a:pt x="1388" y="15"/>
                    </a:lnTo>
                    <a:lnTo>
                      <a:pt x="1390" y="0"/>
                    </a:lnTo>
                    <a:lnTo>
                      <a:pt x="1878" y="0"/>
                    </a:lnTo>
                    <a:lnTo>
                      <a:pt x="1876" y="15"/>
                    </a:lnTo>
                    <a:close/>
                    <a:moveTo>
                      <a:pt x="1097" y="15"/>
                    </a:moveTo>
                    <a:lnTo>
                      <a:pt x="770" y="15"/>
                    </a:lnTo>
                    <a:lnTo>
                      <a:pt x="777" y="0"/>
                    </a:lnTo>
                    <a:lnTo>
                      <a:pt x="1091" y="0"/>
                    </a:lnTo>
                    <a:lnTo>
                      <a:pt x="1097" y="15"/>
                    </a:lnTo>
                    <a:close/>
                    <a:moveTo>
                      <a:pt x="4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2925720" y="1050840"/>
                <a:ext cx="722160" cy="7200"/>
              </a:xfrm>
              <a:custGeom>
                <a:avLst/>
                <a:gdLst/>
                <a:ahLst/>
                <a:rect l="l" t="t" r="r" b="b"/>
                <a:pathLst>
                  <a:path w="1880" h="16">
                    <a:moveTo>
                      <a:pt x="1878" y="16"/>
                    </a:moveTo>
                    <a:lnTo>
                      <a:pt x="1390" y="16"/>
                    </a:lnTo>
                    <a:lnTo>
                      <a:pt x="1392" y="0"/>
                    </a:lnTo>
                    <a:lnTo>
                      <a:pt x="1880" y="0"/>
                    </a:lnTo>
                    <a:lnTo>
                      <a:pt x="1878" y="16"/>
                    </a:lnTo>
                    <a:close/>
                    <a:moveTo>
                      <a:pt x="1095" y="16"/>
                    </a:moveTo>
                    <a:lnTo>
                      <a:pt x="775" y="16"/>
                    </a:lnTo>
                    <a:lnTo>
                      <a:pt x="782" y="0"/>
                    </a:lnTo>
                    <a:lnTo>
                      <a:pt x="1088" y="0"/>
                    </a:lnTo>
                    <a:lnTo>
                      <a:pt x="1095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2925720" y="10490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82" h="16">
                    <a:moveTo>
                      <a:pt x="1880" y="16"/>
                    </a:moveTo>
                    <a:lnTo>
                      <a:pt x="1392" y="16"/>
                    </a:lnTo>
                    <a:lnTo>
                      <a:pt x="1394" y="0"/>
                    </a:lnTo>
                    <a:lnTo>
                      <a:pt x="1882" y="0"/>
                    </a:lnTo>
                    <a:lnTo>
                      <a:pt x="1880" y="16"/>
                    </a:lnTo>
                    <a:close/>
                    <a:moveTo>
                      <a:pt x="1093" y="16"/>
                    </a:moveTo>
                    <a:lnTo>
                      <a:pt x="779" y="16"/>
                    </a:lnTo>
                    <a:lnTo>
                      <a:pt x="786" y="0"/>
                    </a:lnTo>
                    <a:lnTo>
                      <a:pt x="1086" y="0"/>
                    </a:lnTo>
                    <a:lnTo>
                      <a:pt x="1093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2925720" y="1047600"/>
                <a:ext cx="724320" cy="2880"/>
              </a:xfrm>
              <a:custGeom>
                <a:avLst/>
                <a:gdLst/>
                <a:ahLst/>
                <a:rect l="l" t="t" r="r" b="b"/>
                <a:pathLst>
                  <a:path w="1884" h="14">
                    <a:moveTo>
                      <a:pt x="1882" y="14"/>
                    </a:moveTo>
                    <a:lnTo>
                      <a:pt x="1394" y="14"/>
                    </a:lnTo>
                    <a:lnTo>
                      <a:pt x="1396" y="0"/>
                    </a:lnTo>
                    <a:lnTo>
                      <a:pt x="1884" y="0"/>
                    </a:lnTo>
                    <a:lnTo>
                      <a:pt x="1882" y="14"/>
                    </a:lnTo>
                    <a:close/>
                    <a:moveTo>
                      <a:pt x="1090" y="14"/>
                    </a:moveTo>
                    <a:lnTo>
                      <a:pt x="784" y="14"/>
                    </a:lnTo>
                    <a:lnTo>
                      <a:pt x="790" y="0"/>
                    </a:lnTo>
                    <a:lnTo>
                      <a:pt x="1084" y="0"/>
                    </a:lnTo>
                    <a:lnTo>
                      <a:pt x="1090" y="14"/>
                    </a:lnTo>
                    <a:close/>
                    <a:moveTo>
                      <a:pt x="49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9" y="0"/>
                    </a:lnTo>
                    <a:lnTo>
                      <a:pt x="490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2923920" y="10440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87" h="15">
                    <a:moveTo>
                      <a:pt x="1885" y="15"/>
                    </a:moveTo>
                    <a:lnTo>
                      <a:pt x="1397" y="15"/>
                    </a:lnTo>
                    <a:lnTo>
                      <a:pt x="1399" y="0"/>
                    </a:lnTo>
                    <a:lnTo>
                      <a:pt x="1887" y="0"/>
                    </a:lnTo>
                    <a:lnTo>
                      <a:pt x="1885" y="15"/>
                    </a:lnTo>
                    <a:close/>
                    <a:moveTo>
                      <a:pt x="1089" y="15"/>
                    </a:moveTo>
                    <a:lnTo>
                      <a:pt x="789" y="15"/>
                    </a:lnTo>
                    <a:lnTo>
                      <a:pt x="795" y="0"/>
                    </a:lnTo>
                    <a:lnTo>
                      <a:pt x="1083" y="0"/>
                    </a:lnTo>
                    <a:lnTo>
                      <a:pt x="1089" y="15"/>
                    </a:lnTo>
                    <a:close/>
                    <a:moveTo>
                      <a:pt x="49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2923920" y="10418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89" h="15">
                    <a:moveTo>
                      <a:pt x="1887" y="15"/>
                    </a:moveTo>
                    <a:lnTo>
                      <a:pt x="1399" y="15"/>
                    </a:lnTo>
                    <a:lnTo>
                      <a:pt x="1401" y="0"/>
                    </a:lnTo>
                    <a:lnTo>
                      <a:pt x="1889" y="0"/>
                    </a:lnTo>
                    <a:lnTo>
                      <a:pt x="1887" y="15"/>
                    </a:lnTo>
                    <a:close/>
                    <a:moveTo>
                      <a:pt x="1087" y="15"/>
                    </a:moveTo>
                    <a:lnTo>
                      <a:pt x="793" y="15"/>
                    </a:lnTo>
                    <a:lnTo>
                      <a:pt x="799" y="0"/>
                    </a:lnTo>
                    <a:lnTo>
                      <a:pt x="1081" y="0"/>
                    </a:lnTo>
                    <a:lnTo>
                      <a:pt x="1087" y="15"/>
                    </a:lnTo>
                    <a:close/>
                    <a:moveTo>
                      <a:pt x="49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2923920" y="10382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90" h="15">
                    <a:moveTo>
                      <a:pt x="1889" y="15"/>
                    </a:moveTo>
                    <a:lnTo>
                      <a:pt x="1401" y="15"/>
                    </a:lnTo>
                    <a:lnTo>
                      <a:pt x="1403" y="0"/>
                    </a:lnTo>
                    <a:lnTo>
                      <a:pt x="1890" y="0"/>
                    </a:lnTo>
                    <a:lnTo>
                      <a:pt x="1889" y="15"/>
                    </a:lnTo>
                    <a:close/>
                    <a:moveTo>
                      <a:pt x="1085" y="15"/>
                    </a:moveTo>
                    <a:lnTo>
                      <a:pt x="797" y="15"/>
                    </a:lnTo>
                    <a:lnTo>
                      <a:pt x="804" y="0"/>
                    </a:lnTo>
                    <a:lnTo>
                      <a:pt x="1079" y="0"/>
                    </a:lnTo>
                    <a:lnTo>
                      <a:pt x="1085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2923920" y="1035000"/>
                <a:ext cx="726120" cy="6480"/>
              </a:xfrm>
              <a:custGeom>
                <a:avLst/>
                <a:gdLst/>
                <a:ahLst/>
                <a:rect l="l" t="t" r="r" b="b"/>
                <a:pathLst>
                  <a:path w="1892" h="16">
                    <a:moveTo>
                      <a:pt x="1891" y="16"/>
                    </a:moveTo>
                    <a:lnTo>
                      <a:pt x="1403" y="16"/>
                    </a:lnTo>
                    <a:lnTo>
                      <a:pt x="1405" y="0"/>
                    </a:lnTo>
                    <a:lnTo>
                      <a:pt x="1892" y="0"/>
                    </a:lnTo>
                    <a:lnTo>
                      <a:pt x="1891" y="16"/>
                    </a:lnTo>
                    <a:close/>
                    <a:moveTo>
                      <a:pt x="1083" y="16"/>
                    </a:moveTo>
                    <a:lnTo>
                      <a:pt x="801" y="16"/>
                    </a:lnTo>
                    <a:lnTo>
                      <a:pt x="808" y="0"/>
                    </a:lnTo>
                    <a:lnTo>
                      <a:pt x="1077" y="0"/>
                    </a:lnTo>
                    <a:lnTo>
                      <a:pt x="1083" y="16"/>
                    </a:lnTo>
                    <a:close/>
                    <a:moveTo>
                      <a:pt x="4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2923920" y="10332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94" h="15">
                    <a:moveTo>
                      <a:pt x="1892" y="15"/>
                    </a:moveTo>
                    <a:lnTo>
                      <a:pt x="1405" y="15"/>
                    </a:lnTo>
                    <a:lnTo>
                      <a:pt x="1406" y="0"/>
                    </a:lnTo>
                    <a:lnTo>
                      <a:pt x="1894" y="0"/>
                    </a:lnTo>
                    <a:lnTo>
                      <a:pt x="1892" y="15"/>
                    </a:lnTo>
                    <a:close/>
                    <a:moveTo>
                      <a:pt x="1081" y="15"/>
                    </a:moveTo>
                    <a:lnTo>
                      <a:pt x="806" y="15"/>
                    </a:lnTo>
                    <a:lnTo>
                      <a:pt x="812" y="0"/>
                    </a:lnTo>
                    <a:lnTo>
                      <a:pt x="1074" y="0"/>
                    </a:lnTo>
                    <a:lnTo>
                      <a:pt x="1081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2921760" y="1031400"/>
                <a:ext cx="729720" cy="3600"/>
              </a:xfrm>
              <a:custGeom>
                <a:avLst/>
                <a:gdLst/>
                <a:ahLst/>
                <a:rect l="l" t="t" r="r" b="b"/>
                <a:pathLst>
                  <a:path w="1896" h="14">
                    <a:moveTo>
                      <a:pt x="1894" y="14"/>
                    </a:moveTo>
                    <a:lnTo>
                      <a:pt x="1407" y="14"/>
                    </a:lnTo>
                    <a:lnTo>
                      <a:pt x="1408" y="0"/>
                    </a:lnTo>
                    <a:lnTo>
                      <a:pt x="1896" y="0"/>
                    </a:lnTo>
                    <a:lnTo>
                      <a:pt x="1894" y="14"/>
                    </a:lnTo>
                    <a:close/>
                    <a:moveTo>
                      <a:pt x="1079" y="14"/>
                    </a:moveTo>
                    <a:lnTo>
                      <a:pt x="810" y="14"/>
                    </a:lnTo>
                    <a:lnTo>
                      <a:pt x="816" y="0"/>
                    </a:lnTo>
                    <a:lnTo>
                      <a:pt x="1072" y="0"/>
                    </a:lnTo>
                    <a:lnTo>
                      <a:pt x="1079" y="14"/>
                    </a:lnTo>
                    <a:close/>
                    <a:moveTo>
                      <a:pt x="49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2921760" y="102780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899" h="15">
                    <a:moveTo>
                      <a:pt x="1896" y="15"/>
                    </a:moveTo>
                    <a:lnTo>
                      <a:pt x="1408" y="15"/>
                    </a:lnTo>
                    <a:lnTo>
                      <a:pt x="1410" y="0"/>
                    </a:lnTo>
                    <a:lnTo>
                      <a:pt x="1899" y="0"/>
                    </a:lnTo>
                    <a:lnTo>
                      <a:pt x="1896" y="15"/>
                    </a:lnTo>
                    <a:close/>
                    <a:moveTo>
                      <a:pt x="1076" y="15"/>
                    </a:moveTo>
                    <a:lnTo>
                      <a:pt x="814" y="15"/>
                    </a:lnTo>
                    <a:lnTo>
                      <a:pt x="820" y="0"/>
                    </a:lnTo>
                    <a:lnTo>
                      <a:pt x="1070" y="0"/>
                    </a:lnTo>
                    <a:lnTo>
                      <a:pt x="107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2921760" y="1024200"/>
                <a:ext cx="729720" cy="7200"/>
              </a:xfrm>
              <a:custGeom>
                <a:avLst/>
                <a:gdLst/>
                <a:ahLst/>
                <a:rect l="l" t="t" r="r" b="b"/>
                <a:pathLst>
                  <a:path w="1901" h="16">
                    <a:moveTo>
                      <a:pt x="1898" y="16"/>
                    </a:moveTo>
                    <a:lnTo>
                      <a:pt x="1410" y="16"/>
                    </a:lnTo>
                    <a:lnTo>
                      <a:pt x="1412" y="0"/>
                    </a:lnTo>
                    <a:lnTo>
                      <a:pt x="1901" y="0"/>
                    </a:lnTo>
                    <a:lnTo>
                      <a:pt x="1898" y="16"/>
                    </a:lnTo>
                    <a:close/>
                    <a:moveTo>
                      <a:pt x="1074" y="16"/>
                    </a:moveTo>
                    <a:lnTo>
                      <a:pt x="818" y="16"/>
                    </a:lnTo>
                    <a:lnTo>
                      <a:pt x="824" y="0"/>
                    </a:lnTo>
                    <a:lnTo>
                      <a:pt x="1068" y="0"/>
                    </a:lnTo>
                    <a:lnTo>
                      <a:pt x="1074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2921760" y="102276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903" h="16">
                    <a:moveTo>
                      <a:pt x="1901" y="16"/>
                    </a:moveTo>
                    <a:lnTo>
                      <a:pt x="1412" y="16"/>
                    </a:lnTo>
                    <a:lnTo>
                      <a:pt x="1414" y="0"/>
                    </a:lnTo>
                    <a:lnTo>
                      <a:pt x="1903" y="0"/>
                    </a:lnTo>
                    <a:lnTo>
                      <a:pt x="1901" y="16"/>
                    </a:lnTo>
                    <a:close/>
                    <a:moveTo>
                      <a:pt x="1072" y="16"/>
                    </a:moveTo>
                    <a:lnTo>
                      <a:pt x="822" y="16"/>
                    </a:lnTo>
                    <a:lnTo>
                      <a:pt x="829" y="0"/>
                    </a:lnTo>
                    <a:lnTo>
                      <a:pt x="1066" y="0"/>
                    </a:lnTo>
                    <a:lnTo>
                      <a:pt x="1072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2921760" y="1019160"/>
                <a:ext cx="732240" cy="5040"/>
              </a:xfrm>
              <a:custGeom>
                <a:avLst/>
                <a:gdLst/>
                <a:ahLst/>
                <a:rect l="l" t="t" r="r" b="b"/>
                <a:pathLst>
                  <a:path w="1905" h="15">
                    <a:moveTo>
                      <a:pt x="1903" y="15"/>
                    </a:moveTo>
                    <a:lnTo>
                      <a:pt x="1414" y="15"/>
                    </a:lnTo>
                    <a:lnTo>
                      <a:pt x="1416" y="0"/>
                    </a:lnTo>
                    <a:lnTo>
                      <a:pt x="1905" y="0"/>
                    </a:lnTo>
                    <a:lnTo>
                      <a:pt x="1903" y="15"/>
                    </a:lnTo>
                    <a:close/>
                    <a:moveTo>
                      <a:pt x="1070" y="15"/>
                    </a:moveTo>
                    <a:lnTo>
                      <a:pt x="826" y="15"/>
                    </a:lnTo>
                    <a:lnTo>
                      <a:pt x="833" y="0"/>
                    </a:lnTo>
                    <a:lnTo>
                      <a:pt x="1064" y="0"/>
                    </a:lnTo>
                    <a:lnTo>
                      <a:pt x="1070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2919960" y="10173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7" h="14">
                    <a:moveTo>
                      <a:pt x="1905" y="14"/>
                    </a:moveTo>
                    <a:lnTo>
                      <a:pt x="1416" y="14"/>
                    </a:lnTo>
                    <a:lnTo>
                      <a:pt x="1418" y="0"/>
                    </a:lnTo>
                    <a:lnTo>
                      <a:pt x="1907" y="0"/>
                    </a:lnTo>
                    <a:lnTo>
                      <a:pt x="1905" y="14"/>
                    </a:lnTo>
                    <a:close/>
                    <a:moveTo>
                      <a:pt x="1068" y="14"/>
                    </a:moveTo>
                    <a:lnTo>
                      <a:pt x="831" y="14"/>
                    </a:lnTo>
                    <a:lnTo>
                      <a:pt x="837" y="0"/>
                    </a:lnTo>
                    <a:lnTo>
                      <a:pt x="1061" y="0"/>
                    </a:lnTo>
                    <a:lnTo>
                      <a:pt x="1068" y="14"/>
                    </a:lnTo>
                    <a:close/>
                    <a:moveTo>
                      <a:pt x="49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2919960" y="10137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9" h="15">
                    <a:moveTo>
                      <a:pt x="1907" y="15"/>
                    </a:moveTo>
                    <a:lnTo>
                      <a:pt x="1418" y="15"/>
                    </a:lnTo>
                    <a:lnTo>
                      <a:pt x="1421" y="0"/>
                    </a:lnTo>
                    <a:lnTo>
                      <a:pt x="1909" y="0"/>
                    </a:lnTo>
                    <a:lnTo>
                      <a:pt x="1907" y="15"/>
                    </a:lnTo>
                    <a:close/>
                    <a:moveTo>
                      <a:pt x="1066" y="15"/>
                    </a:moveTo>
                    <a:lnTo>
                      <a:pt x="835" y="15"/>
                    </a:lnTo>
                    <a:lnTo>
                      <a:pt x="842" y="0"/>
                    </a:lnTo>
                    <a:lnTo>
                      <a:pt x="1059" y="0"/>
                    </a:lnTo>
                    <a:lnTo>
                      <a:pt x="106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2919960" y="1011960"/>
                <a:ext cx="733680" cy="5400"/>
              </a:xfrm>
              <a:custGeom>
                <a:avLst/>
                <a:gdLst/>
                <a:ahLst/>
                <a:rect l="l" t="t" r="r" b="b"/>
                <a:pathLst>
                  <a:path w="1911" h="16">
                    <a:moveTo>
                      <a:pt x="1909" y="16"/>
                    </a:moveTo>
                    <a:lnTo>
                      <a:pt x="1420" y="16"/>
                    </a:lnTo>
                    <a:lnTo>
                      <a:pt x="1423" y="0"/>
                    </a:lnTo>
                    <a:lnTo>
                      <a:pt x="1911" y="0"/>
                    </a:lnTo>
                    <a:lnTo>
                      <a:pt x="1909" y="16"/>
                    </a:lnTo>
                    <a:close/>
                    <a:moveTo>
                      <a:pt x="1063" y="16"/>
                    </a:moveTo>
                    <a:lnTo>
                      <a:pt x="839" y="16"/>
                    </a:lnTo>
                    <a:lnTo>
                      <a:pt x="846" y="0"/>
                    </a:lnTo>
                    <a:lnTo>
                      <a:pt x="1057" y="0"/>
                    </a:lnTo>
                    <a:lnTo>
                      <a:pt x="1063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2919960" y="100872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13" h="15">
                    <a:moveTo>
                      <a:pt x="1911" y="15"/>
                    </a:moveTo>
                    <a:lnTo>
                      <a:pt x="1423" y="15"/>
                    </a:lnTo>
                    <a:lnTo>
                      <a:pt x="1425" y="0"/>
                    </a:lnTo>
                    <a:lnTo>
                      <a:pt x="1913" y="0"/>
                    </a:lnTo>
                    <a:lnTo>
                      <a:pt x="1911" y="15"/>
                    </a:lnTo>
                    <a:close/>
                    <a:moveTo>
                      <a:pt x="1061" y="15"/>
                    </a:moveTo>
                    <a:lnTo>
                      <a:pt x="844" y="15"/>
                    </a:lnTo>
                    <a:lnTo>
                      <a:pt x="850" y="0"/>
                    </a:lnTo>
                    <a:lnTo>
                      <a:pt x="1055" y="0"/>
                    </a:lnTo>
                    <a:lnTo>
                      <a:pt x="1061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2919960" y="1006560"/>
                <a:ext cx="735480" cy="5040"/>
              </a:xfrm>
              <a:custGeom>
                <a:avLst/>
                <a:gdLst/>
                <a:ahLst/>
                <a:rect l="l" t="t" r="r" b="b"/>
                <a:pathLst>
                  <a:path w="1915" h="15">
                    <a:moveTo>
                      <a:pt x="1913" y="15"/>
                    </a:moveTo>
                    <a:lnTo>
                      <a:pt x="1425" y="15"/>
                    </a:lnTo>
                    <a:lnTo>
                      <a:pt x="1427" y="0"/>
                    </a:lnTo>
                    <a:lnTo>
                      <a:pt x="1915" y="0"/>
                    </a:lnTo>
                    <a:lnTo>
                      <a:pt x="1913" y="15"/>
                    </a:lnTo>
                    <a:close/>
                    <a:moveTo>
                      <a:pt x="1059" y="15"/>
                    </a:moveTo>
                    <a:lnTo>
                      <a:pt x="848" y="15"/>
                    </a:lnTo>
                    <a:lnTo>
                      <a:pt x="854" y="0"/>
                    </a:lnTo>
                    <a:lnTo>
                      <a:pt x="1053" y="0"/>
                    </a:lnTo>
                    <a:lnTo>
                      <a:pt x="1059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2918160" y="1002960"/>
                <a:ext cx="737280" cy="5400"/>
              </a:xfrm>
              <a:custGeom>
                <a:avLst/>
                <a:gdLst/>
                <a:ahLst/>
                <a:rect l="l" t="t" r="r" b="b"/>
                <a:pathLst>
                  <a:path w="1917" h="15">
                    <a:moveTo>
                      <a:pt x="1915" y="15"/>
                    </a:moveTo>
                    <a:lnTo>
                      <a:pt x="1427" y="15"/>
                    </a:lnTo>
                    <a:lnTo>
                      <a:pt x="1429" y="0"/>
                    </a:lnTo>
                    <a:lnTo>
                      <a:pt x="1917" y="0"/>
                    </a:lnTo>
                    <a:lnTo>
                      <a:pt x="1915" y="15"/>
                    </a:lnTo>
                    <a:close/>
                    <a:moveTo>
                      <a:pt x="1057" y="15"/>
                    </a:moveTo>
                    <a:lnTo>
                      <a:pt x="852" y="15"/>
                    </a:lnTo>
                    <a:lnTo>
                      <a:pt x="859" y="0"/>
                    </a:lnTo>
                    <a:lnTo>
                      <a:pt x="1051" y="0"/>
                    </a:lnTo>
                    <a:lnTo>
                      <a:pt x="1057" y="15"/>
                    </a:lnTo>
                    <a:close/>
                    <a:moveTo>
                      <a:pt x="49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2918160" y="1001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19" h="14">
                    <a:moveTo>
                      <a:pt x="1917" y="14"/>
                    </a:moveTo>
                    <a:lnTo>
                      <a:pt x="1429" y="14"/>
                    </a:lnTo>
                    <a:lnTo>
                      <a:pt x="1431" y="0"/>
                    </a:lnTo>
                    <a:lnTo>
                      <a:pt x="1919" y="0"/>
                    </a:lnTo>
                    <a:lnTo>
                      <a:pt x="1917" y="14"/>
                    </a:lnTo>
                    <a:close/>
                    <a:moveTo>
                      <a:pt x="1055" y="14"/>
                    </a:moveTo>
                    <a:lnTo>
                      <a:pt x="856" y="14"/>
                    </a:lnTo>
                    <a:lnTo>
                      <a:pt x="863" y="0"/>
                    </a:lnTo>
                    <a:lnTo>
                      <a:pt x="1049" y="0"/>
                    </a:lnTo>
                    <a:lnTo>
                      <a:pt x="1055" y="14"/>
                    </a:lnTo>
                    <a:close/>
                    <a:moveTo>
                      <a:pt x="4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2918160" y="9979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0" h="16">
                    <a:moveTo>
                      <a:pt x="1919" y="16"/>
                    </a:moveTo>
                    <a:lnTo>
                      <a:pt x="1431" y="16"/>
                    </a:lnTo>
                    <a:lnTo>
                      <a:pt x="1433" y="0"/>
                    </a:lnTo>
                    <a:lnTo>
                      <a:pt x="1920" y="0"/>
                    </a:lnTo>
                    <a:lnTo>
                      <a:pt x="1919" y="16"/>
                    </a:lnTo>
                    <a:close/>
                    <a:moveTo>
                      <a:pt x="1053" y="16"/>
                    </a:moveTo>
                    <a:lnTo>
                      <a:pt x="861" y="16"/>
                    </a:lnTo>
                    <a:lnTo>
                      <a:pt x="867" y="0"/>
                    </a:lnTo>
                    <a:lnTo>
                      <a:pt x="1046" y="0"/>
                    </a:lnTo>
                    <a:lnTo>
                      <a:pt x="1053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2918160" y="9961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2" h="16">
                    <a:moveTo>
                      <a:pt x="1921" y="16"/>
                    </a:moveTo>
                    <a:lnTo>
                      <a:pt x="1433" y="16"/>
                    </a:lnTo>
                    <a:lnTo>
                      <a:pt x="1435" y="0"/>
                    </a:lnTo>
                    <a:lnTo>
                      <a:pt x="1922" y="0"/>
                    </a:lnTo>
                    <a:lnTo>
                      <a:pt x="1921" y="16"/>
                    </a:lnTo>
                    <a:close/>
                    <a:moveTo>
                      <a:pt x="1051" y="16"/>
                    </a:moveTo>
                    <a:lnTo>
                      <a:pt x="865" y="16"/>
                    </a:lnTo>
                    <a:lnTo>
                      <a:pt x="871" y="0"/>
                    </a:lnTo>
                    <a:lnTo>
                      <a:pt x="1044" y="0"/>
                    </a:lnTo>
                    <a:lnTo>
                      <a:pt x="1051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2918160" y="992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4" h="15">
                    <a:moveTo>
                      <a:pt x="1922" y="15"/>
                    </a:moveTo>
                    <a:lnTo>
                      <a:pt x="1435" y="15"/>
                    </a:lnTo>
                    <a:lnTo>
                      <a:pt x="1437" y="0"/>
                    </a:lnTo>
                    <a:lnTo>
                      <a:pt x="1924" y="0"/>
                    </a:lnTo>
                    <a:lnTo>
                      <a:pt x="1922" y="15"/>
                    </a:lnTo>
                    <a:close/>
                    <a:moveTo>
                      <a:pt x="1048" y="15"/>
                    </a:moveTo>
                    <a:lnTo>
                      <a:pt x="869" y="15"/>
                    </a:lnTo>
                    <a:lnTo>
                      <a:pt x="875" y="0"/>
                    </a:lnTo>
                    <a:lnTo>
                      <a:pt x="1042" y="0"/>
                    </a:lnTo>
                    <a:lnTo>
                      <a:pt x="1048" y="15"/>
                    </a:lnTo>
                    <a:close/>
                    <a:moveTo>
                      <a:pt x="4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5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2916000" y="990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27" h="15">
                    <a:moveTo>
                      <a:pt x="1925" y="15"/>
                    </a:moveTo>
                    <a:lnTo>
                      <a:pt x="1438" y="15"/>
                    </a:lnTo>
                    <a:lnTo>
                      <a:pt x="1440" y="0"/>
                    </a:lnTo>
                    <a:lnTo>
                      <a:pt x="1927" y="0"/>
                    </a:lnTo>
                    <a:lnTo>
                      <a:pt x="1925" y="15"/>
                    </a:lnTo>
                    <a:close/>
                    <a:moveTo>
                      <a:pt x="1047" y="15"/>
                    </a:moveTo>
                    <a:lnTo>
                      <a:pt x="874" y="15"/>
                    </a:lnTo>
                    <a:lnTo>
                      <a:pt x="880" y="0"/>
                    </a:lnTo>
                    <a:lnTo>
                      <a:pt x="1041" y="0"/>
                    </a:lnTo>
                    <a:lnTo>
                      <a:pt x="1047" y="15"/>
                    </a:lnTo>
                    <a:close/>
                    <a:moveTo>
                      <a:pt x="496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2916000" y="98748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29" h="14">
                    <a:moveTo>
                      <a:pt x="1927" y="14"/>
                    </a:moveTo>
                    <a:lnTo>
                      <a:pt x="1440" y="14"/>
                    </a:lnTo>
                    <a:lnTo>
                      <a:pt x="1442" y="0"/>
                    </a:lnTo>
                    <a:lnTo>
                      <a:pt x="1929" y="0"/>
                    </a:lnTo>
                    <a:lnTo>
                      <a:pt x="1927" y="14"/>
                    </a:lnTo>
                    <a:close/>
                    <a:moveTo>
                      <a:pt x="1045" y="14"/>
                    </a:moveTo>
                    <a:lnTo>
                      <a:pt x="878" y="14"/>
                    </a:lnTo>
                    <a:lnTo>
                      <a:pt x="885" y="0"/>
                    </a:lnTo>
                    <a:lnTo>
                      <a:pt x="1039" y="0"/>
                    </a:lnTo>
                    <a:lnTo>
                      <a:pt x="1045" y="14"/>
                    </a:lnTo>
                    <a:close/>
                    <a:moveTo>
                      <a:pt x="496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2916000" y="98532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31" h="16">
                    <a:moveTo>
                      <a:pt x="1929" y="16"/>
                    </a:moveTo>
                    <a:lnTo>
                      <a:pt x="1442" y="16"/>
                    </a:lnTo>
                    <a:lnTo>
                      <a:pt x="1444" y="0"/>
                    </a:lnTo>
                    <a:lnTo>
                      <a:pt x="1931" y="0"/>
                    </a:lnTo>
                    <a:lnTo>
                      <a:pt x="1929" y="16"/>
                    </a:lnTo>
                    <a:close/>
                    <a:moveTo>
                      <a:pt x="1043" y="16"/>
                    </a:moveTo>
                    <a:lnTo>
                      <a:pt x="882" y="16"/>
                    </a:lnTo>
                    <a:lnTo>
                      <a:pt x="889" y="0"/>
                    </a:lnTo>
                    <a:lnTo>
                      <a:pt x="1037" y="0"/>
                    </a:lnTo>
                    <a:lnTo>
                      <a:pt x="1043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2916000" y="981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33" h="16">
                    <a:moveTo>
                      <a:pt x="1931" y="16"/>
                    </a:moveTo>
                    <a:lnTo>
                      <a:pt x="1444" y="16"/>
                    </a:lnTo>
                    <a:lnTo>
                      <a:pt x="1446" y="0"/>
                    </a:lnTo>
                    <a:lnTo>
                      <a:pt x="1933" y="0"/>
                    </a:lnTo>
                    <a:lnTo>
                      <a:pt x="1931" y="16"/>
                    </a:lnTo>
                    <a:close/>
                    <a:moveTo>
                      <a:pt x="1041" y="16"/>
                    </a:moveTo>
                    <a:lnTo>
                      <a:pt x="887" y="16"/>
                    </a:lnTo>
                    <a:lnTo>
                      <a:pt x="893" y="0"/>
                    </a:lnTo>
                    <a:lnTo>
                      <a:pt x="1035" y="0"/>
                    </a:lnTo>
                    <a:lnTo>
                      <a:pt x="1041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2914200" y="980280"/>
                <a:ext cx="743040" cy="5040"/>
              </a:xfrm>
              <a:custGeom>
                <a:avLst/>
                <a:gdLst/>
                <a:ahLst/>
                <a:rect l="l" t="t" r="r" b="b"/>
                <a:pathLst>
                  <a:path w="1935" h="14">
                    <a:moveTo>
                      <a:pt x="1933" y="14"/>
                    </a:moveTo>
                    <a:lnTo>
                      <a:pt x="1446" y="14"/>
                    </a:lnTo>
                    <a:lnTo>
                      <a:pt x="1448" y="0"/>
                    </a:lnTo>
                    <a:lnTo>
                      <a:pt x="1935" y="0"/>
                    </a:lnTo>
                    <a:lnTo>
                      <a:pt x="1933" y="14"/>
                    </a:lnTo>
                    <a:close/>
                    <a:moveTo>
                      <a:pt x="1039" y="14"/>
                    </a:moveTo>
                    <a:lnTo>
                      <a:pt x="891" y="14"/>
                    </a:lnTo>
                    <a:lnTo>
                      <a:pt x="898" y="0"/>
                    </a:lnTo>
                    <a:lnTo>
                      <a:pt x="1032" y="0"/>
                    </a:lnTo>
                    <a:lnTo>
                      <a:pt x="1039" y="14"/>
                    </a:lnTo>
                    <a:close/>
                    <a:moveTo>
                      <a:pt x="49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2914200" y="9766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7" h="15">
                    <a:moveTo>
                      <a:pt x="1935" y="15"/>
                    </a:moveTo>
                    <a:lnTo>
                      <a:pt x="1448" y="15"/>
                    </a:lnTo>
                    <a:lnTo>
                      <a:pt x="1450" y="0"/>
                    </a:lnTo>
                    <a:lnTo>
                      <a:pt x="1937" y="0"/>
                    </a:lnTo>
                    <a:lnTo>
                      <a:pt x="1935" y="15"/>
                    </a:lnTo>
                    <a:close/>
                    <a:moveTo>
                      <a:pt x="1037" y="15"/>
                    </a:moveTo>
                    <a:lnTo>
                      <a:pt x="895" y="15"/>
                    </a:lnTo>
                    <a:lnTo>
                      <a:pt x="902" y="0"/>
                    </a:lnTo>
                    <a:lnTo>
                      <a:pt x="1030" y="0"/>
                    </a:lnTo>
                    <a:lnTo>
                      <a:pt x="1037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2914200" y="9748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9" h="15">
                    <a:moveTo>
                      <a:pt x="1937" y="15"/>
                    </a:moveTo>
                    <a:lnTo>
                      <a:pt x="1450" y="15"/>
                    </a:lnTo>
                    <a:lnTo>
                      <a:pt x="1452" y="0"/>
                    </a:lnTo>
                    <a:lnTo>
                      <a:pt x="1939" y="0"/>
                    </a:lnTo>
                    <a:lnTo>
                      <a:pt x="1937" y="15"/>
                    </a:lnTo>
                    <a:close/>
                    <a:moveTo>
                      <a:pt x="1034" y="15"/>
                    </a:moveTo>
                    <a:lnTo>
                      <a:pt x="900" y="15"/>
                    </a:lnTo>
                    <a:lnTo>
                      <a:pt x="906" y="0"/>
                    </a:lnTo>
                    <a:lnTo>
                      <a:pt x="1028" y="0"/>
                    </a:lnTo>
                    <a:lnTo>
                      <a:pt x="1034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2914200" y="9712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2" h="15">
                    <a:moveTo>
                      <a:pt x="1939" y="15"/>
                    </a:moveTo>
                    <a:lnTo>
                      <a:pt x="1452" y="15"/>
                    </a:lnTo>
                    <a:lnTo>
                      <a:pt x="1454" y="0"/>
                    </a:lnTo>
                    <a:lnTo>
                      <a:pt x="1942" y="0"/>
                    </a:lnTo>
                    <a:lnTo>
                      <a:pt x="1939" y="15"/>
                    </a:lnTo>
                    <a:close/>
                    <a:moveTo>
                      <a:pt x="1032" y="15"/>
                    </a:moveTo>
                    <a:lnTo>
                      <a:pt x="904" y="15"/>
                    </a:lnTo>
                    <a:lnTo>
                      <a:pt x="910" y="0"/>
                    </a:lnTo>
                    <a:lnTo>
                      <a:pt x="1025" y="0"/>
                    </a:lnTo>
                    <a:lnTo>
                      <a:pt x="1032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2914200" y="96984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4" h="16">
                    <a:moveTo>
                      <a:pt x="1941" y="16"/>
                    </a:moveTo>
                    <a:lnTo>
                      <a:pt x="1454" y="16"/>
                    </a:lnTo>
                    <a:lnTo>
                      <a:pt x="1455" y="0"/>
                    </a:lnTo>
                    <a:lnTo>
                      <a:pt x="1944" y="0"/>
                    </a:lnTo>
                    <a:lnTo>
                      <a:pt x="1941" y="16"/>
                    </a:lnTo>
                    <a:close/>
                    <a:moveTo>
                      <a:pt x="1030" y="16"/>
                    </a:moveTo>
                    <a:lnTo>
                      <a:pt x="908" y="16"/>
                    </a:lnTo>
                    <a:lnTo>
                      <a:pt x="915" y="0"/>
                    </a:lnTo>
                    <a:lnTo>
                      <a:pt x="1024" y="0"/>
                    </a:lnTo>
                    <a:lnTo>
                      <a:pt x="1030" y="16"/>
                    </a:lnTo>
                    <a:close/>
                    <a:moveTo>
                      <a:pt x="49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2912040" y="9662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46" h="15">
                    <a:moveTo>
                      <a:pt x="1944" y="15"/>
                    </a:moveTo>
                    <a:lnTo>
                      <a:pt x="1456" y="15"/>
                    </a:lnTo>
                    <a:lnTo>
                      <a:pt x="1457" y="0"/>
                    </a:lnTo>
                    <a:lnTo>
                      <a:pt x="1946" y="0"/>
                    </a:lnTo>
                    <a:lnTo>
                      <a:pt x="1944" y="15"/>
                    </a:lnTo>
                    <a:close/>
                    <a:moveTo>
                      <a:pt x="1027" y="15"/>
                    </a:moveTo>
                    <a:lnTo>
                      <a:pt x="912" y="15"/>
                    </a:lnTo>
                    <a:lnTo>
                      <a:pt x="919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2912040" y="9640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48" h="15">
                    <a:moveTo>
                      <a:pt x="1946" y="15"/>
                    </a:moveTo>
                    <a:lnTo>
                      <a:pt x="1457" y="15"/>
                    </a:lnTo>
                    <a:lnTo>
                      <a:pt x="1459" y="0"/>
                    </a:lnTo>
                    <a:lnTo>
                      <a:pt x="1948" y="0"/>
                    </a:lnTo>
                    <a:lnTo>
                      <a:pt x="1946" y="15"/>
                    </a:lnTo>
                    <a:close/>
                    <a:moveTo>
                      <a:pt x="1026" y="15"/>
                    </a:moveTo>
                    <a:lnTo>
                      <a:pt x="917" y="15"/>
                    </a:lnTo>
                    <a:lnTo>
                      <a:pt x="923" y="0"/>
                    </a:lnTo>
                    <a:lnTo>
                      <a:pt x="1018" y="0"/>
                    </a:lnTo>
                    <a:lnTo>
                      <a:pt x="1026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2912040" y="9604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50" h="15">
                    <a:moveTo>
                      <a:pt x="1948" y="15"/>
                    </a:moveTo>
                    <a:lnTo>
                      <a:pt x="1459" y="15"/>
                    </a:lnTo>
                    <a:lnTo>
                      <a:pt x="1461" y="0"/>
                    </a:lnTo>
                    <a:lnTo>
                      <a:pt x="1950" y="0"/>
                    </a:lnTo>
                    <a:lnTo>
                      <a:pt x="1948" y="15"/>
                    </a:lnTo>
                    <a:close/>
                    <a:moveTo>
                      <a:pt x="1023" y="15"/>
                    </a:moveTo>
                    <a:lnTo>
                      <a:pt x="921" y="15"/>
                    </a:lnTo>
                    <a:lnTo>
                      <a:pt x="927" y="0"/>
                    </a:lnTo>
                    <a:lnTo>
                      <a:pt x="1016" y="0"/>
                    </a:lnTo>
                    <a:lnTo>
                      <a:pt x="1023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2912040" y="9590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1" h="14">
                    <a:moveTo>
                      <a:pt x="1950" y="14"/>
                    </a:moveTo>
                    <a:lnTo>
                      <a:pt x="1461" y="14"/>
                    </a:lnTo>
                    <a:lnTo>
                      <a:pt x="1464" y="0"/>
                    </a:lnTo>
                    <a:lnTo>
                      <a:pt x="1951" y="0"/>
                    </a:lnTo>
                    <a:lnTo>
                      <a:pt x="1950" y="14"/>
                    </a:lnTo>
                    <a:close/>
                    <a:moveTo>
                      <a:pt x="1020" y="14"/>
                    </a:moveTo>
                    <a:lnTo>
                      <a:pt x="925" y="14"/>
                    </a:lnTo>
                    <a:lnTo>
                      <a:pt x="931" y="0"/>
                    </a:lnTo>
                    <a:lnTo>
                      <a:pt x="1014" y="0"/>
                    </a:lnTo>
                    <a:lnTo>
                      <a:pt x="1020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2912040" y="9554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3" h="16">
                    <a:moveTo>
                      <a:pt x="1952" y="16"/>
                    </a:moveTo>
                    <a:lnTo>
                      <a:pt x="1463" y="16"/>
                    </a:lnTo>
                    <a:lnTo>
                      <a:pt x="1466" y="0"/>
                    </a:lnTo>
                    <a:lnTo>
                      <a:pt x="1953" y="0"/>
                    </a:lnTo>
                    <a:lnTo>
                      <a:pt x="1952" y="16"/>
                    </a:lnTo>
                    <a:close/>
                    <a:moveTo>
                      <a:pt x="1018" y="16"/>
                    </a:moveTo>
                    <a:lnTo>
                      <a:pt x="929" y="16"/>
                    </a:lnTo>
                    <a:lnTo>
                      <a:pt x="935" y="0"/>
                    </a:lnTo>
                    <a:lnTo>
                      <a:pt x="1012" y="0"/>
                    </a:lnTo>
                    <a:lnTo>
                      <a:pt x="1018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2910240" y="953640"/>
                <a:ext cx="750960" cy="5040"/>
              </a:xfrm>
              <a:custGeom>
                <a:avLst/>
                <a:gdLst/>
                <a:ahLst/>
                <a:rect l="l" t="t" r="r" b="b"/>
                <a:pathLst>
                  <a:path w="1955" h="16">
                    <a:moveTo>
                      <a:pt x="1953" y="16"/>
                    </a:moveTo>
                    <a:lnTo>
                      <a:pt x="1466" y="16"/>
                    </a:lnTo>
                    <a:lnTo>
                      <a:pt x="1468" y="0"/>
                    </a:lnTo>
                    <a:lnTo>
                      <a:pt x="1955" y="0"/>
                    </a:lnTo>
                    <a:lnTo>
                      <a:pt x="1953" y="16"/>
                    </a:lnTo>
                    <a:close/>
                    <a:moveTo>
                      <a:pt x="1016" y="16"/>
                    </a:moveTo>
                    <a:lnTo>
                      <a:pt x="933" y="16"/>
                    </a:lnTo>
                    <a:lnTo>
                      <a:pt x="940" y="0"/>
                    </a:lnTo>
                    <a:lnTo>
                      <a:pt x="1010" y="0"/>
                    </a:lnTo>
                    <a:lnTo>
                      <a:pt x="1016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2910240" y="95004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7" h="14">
                    <a:moveTo>
                      <a:pt x="1955" y="14"/>
                    </a:moveTo>
                    <a:lnTo>
                      <a:pt x="1468" y="14"/>
                    </a:lnTo>
                    <a:lnTo>
                      <a:pt x="1470" y="0"/>
                    </a:lnTo>
                    <a:lnTo>
                      <a:pt x="1957" y="0"/>
                    </a:lnTo>
                    <a:lnTo>
                      <a:pt x="1955" y="14"/>
                    </a:lnTo>
                    <a:close/>
                    <a:moveTo>
                      <a:pt x="1014" y="14"/>
                    </a:moveTo>
                    <a:lnTo>
                      <a:pt x="937" y="14"/>
                    </a:lnTo>
                    <a:lnTo>
                      <a:pt x="944" y="0"/>
                    </a:lnTo>
                    <a:lnTo>
                      <a:pt x="1008" y="0"/>
                    </a:lnTo>
                    <a:lnTo>
                      <a:pt x="1014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2910240" y="9486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9" h="15">
                    <a:moveTo>
                      <a:pt x="1957" y="15"/>
                    </a:moveTo>
                    <a:lnTo>
                      <a:pt x="1470" y="15"/>
                    </a:lnTo>
                    <a:lnTo>
                      <a:pt x="1472" y="0"/>
                    </a:lnTo>
                    <a:lnTo>
                      <a:pt x="1959" y="0"/>
                    </a:lnTo>
                    <a:lnTo>
                      <a:pt x="1957" y="15"/>
                    </a:lnTo>
                    <a:close/>
                    <a:moveTo>
                      <a:pt x="1012" y="15"/>
                    </a:moveTo>
                    <a:lnTo>
                      <a:pt x="942" y="15"/>
                    </a:lnTo>
                    <a:lnTo>
                      <a:pt x="948" y="0"/>
                    </a:lnTo>
                    <a:lnTo>
                      <a:pt x="1006" y="0"/>
                    </a:lnTo>
                    <a:lnTo>
                      <a:pt x="1012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2910240" y="9450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61" h="15">
                    <a:moveTo>
                      <a:pt x="1959" y="15"/>
                    </a:moveTo>
                    <a:lnTo>
                      <a:pt x="1472" y="15"/>
                    </a:lnTo>
                    <a:lnTo>
                      <a:pt x="1474" y="0"/>
                    </a:lnTo>
                    <a:lnTo>
                      <a:pt x="1961" y="0"/>
                    </a:lnTo>
                    <a:lnTo>
                      <a:pt x="1959" y="15"/>
                    </a:lnTo>
                    <a:close/>
                    <a:moveTo>
                      <a:pt x="1010" y="15"/>
                    </a:moveTo>
                    <a:lnTo>
                      <a:pt x="946" y="15"/>
                    </a:lnTo>
                    <a:lnTo>
                      <a:pt x="952" y="0"/>
                    </a:lnTo>
                    <a:lnTo>
                      <a:pt x="1003" y="0"/>
                    </a:lnTo>
                    <a:lnTo>
                      <a:pt x="1010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2910240" y="942840"/>
                <a:ext cx="753120" cy="5400"/>
              </a:xfrm>
              <a:custGeom>
                <a:avLst/>
                <a:gdLst/>
                <a:ahLst/>
                <a:rect l="l" t="t" r="r" b="b"/>
                <a:pathLst>
                  <a:path w="1963" h="15">
                    <a:moveTo>
                      <a:pt x="1961" y="15"/>
                    </a:moveTo>
                    <a:lnTo>
                      <a:pt x="1474" y="15"/>
                    </a:lnTo>
                    <a:lnTo>
                      <a:pt x="1476" y="0"/>
                    </a:lnTo>
                    <a:lnTo>
                      <a:pt x="1963" y="0"/>
                    </a:lnTo>
                    <a:lnTo>
                      <a:pt x="1961" y="15"/>
                    </a:lnTo>
                    <a:close/>
                    <a:moveTo>
                      <a:pt x="1008" y="15"/>
                    </a:moveTo>
                    <a:lnTo>
                      <a:pt x="950" y="15"/>
                    </a:lnTo>
                    <a:lnTo>
                      <a:pt x="957" y="0"/>
                    </a:lnTo>
                    <a:lnTo>
                      <a:pt x="1001" y="0"/>
                    </a:lnTo>
                    <a:lnTo>
                      <a:pt x="1008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2908800" y="939600"/>
                <a:ext cx="754560" cy="5040"/>
              </a:xfrm>
              <a:custGeom>
                <a:avLst/>
                <a:gdLst/>
                <a:ahLst/>
                <a:rect l="l" t="t" r="r" b="b"/>
                <a:pathLst>
                  <a:path w="1965" h="16">
                    <a:moveTo>
                      <a:pt x="1963" y="16"/>
                    </a:moveTo>
                    <a:lnTo>
                      <a:pt x="1476" y="16"/>
                    </a:lnTo>
                    <a:lnTo>
                      <a:pt x="1478" y="0"/>
                    </a:lnTo>
                    <a:lnTo>
                      <a:pt x="1965" y="0"/>
                    </a:lnTo>
                    <a:lnTo>
                      <a:pt x="1963" y="16"/>
                    </a:lnTo>
                    <a:close/>
                    <a:moveTo>
                      <a:pt x="1005" y="16"/>
                    </a:moveTo>
                    <a:lnTo>
                      <a:pt x="954" y="16"/>
                    </a:lnTo>
                    <a:lnTo>
                      <a:pt x="961" y="0"/>
                    </a:lnTo>
                    <a:lnTo>
                      <a:pt x="999" y="0"/>
                    </a:lnTo>
                    <a:lnTo>
                      <a:pt x="1005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2908800" y="937800"/>
                <a:ext cx="756360" cy="5040"/>
              </a:xfrm>
              <a:custGeom>
                <a:avLst/>
                <a:gdLst/>
                <a:ahLst/>
                <a:rect l="l" t="t" r="r" b="b"/>
                <a:pathLst>
                  <a:path w="1968" h="15">
                    <a:moveTo>
                      <a:pt x="1966" y="15"/>
                    </a:moveTo>
                    <a:lnTo>
                      <a:pt x="1479" y="15"/>
                    </a:lnTo>
                    <a:lnTo>
                      <a:pt x="1481" y="0"/>
                    </a:lnTo>
                    <a:lnTo>
                      <a:pt x="1968" y="0"/>
                    </a:lnTo>
                    <a:lnTo>
                      <a:pt x="1966" y="15"/>
                    </a:lnTo>
                    <a:close/>
                    <a:moveTo>
                      <a:pt x="1004" y="15"/>
                    </a:moveTo>
                    <a:lnTo>
                      <a:pt x="960" y="15"/>
                    </a:lnTo>
                    <a:lnTo>
                      <a:pt x="966" y="0"/>
                    </a:lnTo>
                    <a:lnTo>
                      <a:pt x="998" y="0"/>
                    </a:lnTo>
                    <a:lnTo>
                      <a:pt x="1004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4" name=""/>
            <p:cNvGrpSpPr/>
            <p:nvPr/>
          </p:nvGrpSpPr>
          <p:grpSpPr>
            <a:xfrm>
              <a:off x="2906640" y="923760"/>
              <a:ext cx="1475280" cy="684360"/>
              <a:chOff x="2906640" y="923760"/>
              <a:chExt cx="1475280" cy="684360"/>
            </a:xfrm>
          </p:grpSpPr>
          <p:sp>
            <p:nvSpPr>
              <p:cNvPr id="4065" name=""/>
              <p:cNvSpPr/>
              <p:nvPr/>
            </p:nvSpPr>
            <p:spPr>
              <a:xfrm>
                <a:off x="2908800" y="933840"/>
                <a:ext cx="756720" cy="5400"/>
              </a:xfrm>
              <a:custGeom>
                <a:avLst/>
                <a:gdLst/>
                <a:ahLst/>
                <a:rect l="l" t="t" r="r" b="b"/>
                <a:pathLst>
                  <a:path w="1970" h="15">
                    <a:moveTo>
                      <a:pt x="1968" y="15"/>
                    </a:moveTo>
                    <a:lnTo>
                      <a:pt x="1481" y="15"/>
                    </a:lnTo>
                    <a:lnTo>
                      <a:pt x="1483" y="0"/>
                    </a:lnTo>
                    <a:lnTo>
                      <a:pt x="1970" y="0"/>
                    </a:lnTo>
                    <a:lnTo>
                      <a:pt x="1968" y="15"/>
                    </a:lnTo>
                    <a:close/>
                    <a:moveTo>
                      <a:pt x="1002" y="15"/>
                    </a:moveTo>
                    <a:lnTo>
                      <a:pt x="964" y="15"/>
                    </a:lnTo>
                    <a:lnTo>
                      <a:pt x="971" y="0"/>
                    </a:lnTo>
                    <a:lnTo>
                      <a:pt x="996" y="0"/>
                    </a:lnTo>
                    <a:lnTo>
                      <a:pt x="1002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2908800" y="932400"/>
                <a:ext cx="756720" cy="5040"/>
              </a:xfrm>
              <a:custGeom>
                <a:avLst/>
                <a:gdLst/>
                <a:ahLst/>
                <a:rect l="l" t="t" r="r" b="b"/>
                <a:pathLst>
                  <a:path w="1972" h="15">
                    <a:moveTo>
                      <a:pt x="1970" y="15"/>
                    </a:moveTo>
                    <a:lnTo>
                      <a:pt x="1483" y="15"/>
                    </a:lnTo>
                    <a:lnTo>
                      <a:pt x="1485" y="0"/>
                    </a:lnTo>
                    <a:lnTo>
                      <a:pt x="1972" y="0"/>
                    </a:lnTo>
                    <a:lnTo>
                      <a:pt x="1970" y="15"/>
                    </a:lnTo>
                    <a:close/>
                    <a:moveTo>
                      <a:pt x="1000" y="15"/>
                    </a:moveTo>
                    <a:lnTo>
                      <a:pt x="968" y="15"/>
                    </a:lnTo>
                    <a:lnTo>
                      <a:pt x="975" y="0"/>
                    </a:lnTo>
                    <a:lnTo>
                      <a:pt x="994" y="0"/>
                    </a:lnTo>
                    <a:lnTo>
                      <a:pt x="1000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2906640" y="928800"/>
                <a:ext cx="758880" cy="5040"/>
              </a:xfrm>
              <a:custGeom>
                <a:avLst/>
                <a:gdLst/>
                <a:ahLst/>
                <a:rect l="l" t="t" r="r" b="b"/>
                <a:pathLst>
                  <a:path w="1974" h="15">
                    <a:moveTo>
                      <a:pt x="1972" y="15"/>
                    </a:moveTo>
                    <a:lnTo>
                      <a:pt x="1485" y="15"/>
                    </a:lnTo>
                    <a:lnTo>
                      <a:pt x="1487" y="2"/>
                    </a:lnTo>
                    <a:lnTo>
                      <a:pt x="1974" y="2"/>
                    </a:lnTo>
                    <a:lnTo>
                      <a:pt x="1972" y="15"/>
                    </a:lnTo>
                    <a:close/>
                    <a:moveTo>
                      <a:pt x="998" y="15"/>
                    </a:moveTo>
                    <a:lnTo>
                      <a:pt x="973" y="15"/>
                    </a:lnTo>
                    <a:lnTo>
                      <a:pt x="979" y="0"/>
                    </a:lnTo>
                    <a:lnTo>
                      <a:pt x="992" y="0"/>
                    </a:lnTo>
                    <a:lnTo>
                      <a:pt x="998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2"/>
                    </a:lnTo>
                    <a:lnTo>
                      <a:pt x="499" y="2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2906640" y="925200"/>
                <a:ext cx="758880" cy="7200"/>
              </a:xfrm>
              <a:custGeom>
                <a:avLst/>
                <a:gdLst/>
                <a:ahLst/>
                <a:rect l="l" t="t" r="r" b="b"/>
                <a:pathLst>
                  <a:path w="1974" h="16">
                    <a:moveTo>
                      <a:pt x="1973" y="16"/>
                    </a:moveTo>
                    <a:lnTo>
                      <a:pt x="1486" y="16"/>
                    </a:lnTo>
                    <a:lnTo>
                      <a:pt x="1487" y="10"/>
                    </a:lnTo>
                    <a:lnTo>
                      <a:pt x="1974" y="10"/>
                    </a:lnTo>
                    <a:lnTo>
                      <a:pt x="1973" y="16"/>
                    </a:lnTo>
                    <a:close/>
                    <a:moveTo>
                      <a:pt x="995" y="16"/>
                    </a:moveTo>
                    <a:lnTo>
                      <a:pt x="976" y="16"/>
                    </a:lnTo>
                    <a:lnTo>
                      <a:pt x="982" y="0"/>
                    </a:lnTo>
                    <a:lnTo>
                      <a:pt x="988" y="0"/>
                    </a:lnTo>
                    <a:lnTo>
                      <a:pt x="995" y="16"/>
                    </a:lnTo>
                    <a:close/>
                    <a:moveTo>
                      <a:pt x="500" y="16"/>
                    </a:moveTo>
                    <a:lnTo>
                      <a:pt x="1" y="16"/>
                    </a:lnTo>
                    <a:lnTo>
                      <a:pt x="0" y="10"/>
                    </a:lnTo>
                    <a:lnTo>
                      <a:pt x="499" y="10"/>
                    </a:lnTo>
                    <a:lnTo>
                      <a:pt x="500" y="1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3282840" y="9237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3285000" y="923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3665520" y="1604880"/>
                <a:ext cx="716400" cy="2880"/>
              </a:xfrm>
              <a:custGeom>
                <a:avLst/>
                <a:gdLst/>
                <a:ahLst/>
                <a:rect l="l" t="t" r="r" b="b"/>
                <a:pathLst>
                  <a:path w="1864" h="8">
                    <a:moveTo>
                      <a:pt x="1864" y="8"/>
                    </a:moveTo>
                    <a:lnTo>
                      <a:pt x="1338" y="8"/>
                    </a:lnTo>
                    <a:lnTo>
                      <a:pt x="1336" y="0"/>
                    </a:lnTo>
                    <a:lnTo>
                      <a:pt x="1862" y="0"/>
                    </a:lnTo>
                    <a:lnTo>
                      <a:pt x="1864" y="8"/>
                    </a:lnTo>
                    <a:close/>
                    <a:moveTo>
                      <a:pt x="517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520" y="0"/>
                    </a:lnTo>
                    <a:lnTo>
                      <a:pt x="517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3665520" y="16030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6">
                    <a:moveTo>
                      <a:pt x="1864" y="16"/>
                    </a:moveTo>
                    <a:lnTo>
                      <a:pt x="1338" y="16"/>
                    </a:lnTo>
                    <a:lnTo>
                      <a:pt x="1333" y="0"/>
                    </a:lnTo>
                    <a:lnTo>
                      <a:pt x="1860" y="0"/>
                    </a:lnTo>
                    <a:lnTo>
                      <a:pt x="186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3665520" y="1599480"/>
                <a:ext cx="714240" cy="5400"/>
              </a:xfrm>
              <a:custGeom>
                <a:avLst/>
                <a:gdLst/>
                <a:ahLst/>
                <a:rect l="l" t="t" r="r" b="b"/>
                <a:pathLst>
                  <a:path w="1860" h="15">
                    <a:moveTo>
                      <a:pt x="1860" y="15"/>
                    </a:moveTo>
                    <a:lnTo>
                      <a:pt x="1334" y="15"/>
                    </a:lnTo>
                    <a:lnTo>
                      <a:pt x="1328" y="0"/>
                    </a:lnTo>
                    <a:lnTo>
                      <a:pt x="1855" y="0"/>
                    </a:lnTo>
                    <a:lnTo>
                      <a:pt x="1860" y="15"/>
                    </a:lnTo>
                    <a:close/>
                    <a:moveTo>
                      <a:pt x="51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3666960" y="15976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4">
                    <a:moveTo>
                      <a:pt x="1855" y="14"/>
                    </a:moveTo>
                    <a:lnTo>
                      <a:pt x="1328" y="14"/>
                    </a:lnTo>
                    <a:lnTo>
                      <a:pt x="1323" y="0"/>
                    </a:lnTo>
                    <a:lnTo>
                      <a:pt x="1849" y="0"/>
                    </a:lnTo>
                    <a:lnTo>
                      <a:pt x="1855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3669120" y="159408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9" h="15">
                    <a:moveTo>
                      <a:pt x="1849" y="15"/>
                    </a:moveTo>
                    <a:lnTo>
                      <a:pt x="1322" y="15"/>
                    </a:lnTo>
                    <a:lnTo>
                      <a:pt x="1317" y="0"/>
                    </a:lnTo>
                    <a:lnTo>
                      <a:pt x="1843" y="0"/>
                    </a:lnTo>
                    <a:lnTo>
                      <a:pt x="1849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3669120" y="159264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6">
                    <a:moveTo>
                      <a:pt x="1843" y="16"/>
                    </a:moveTo>
                    <a:lnTo>
                      <a:pt x="1317" y="16"/>
                    </a:lnTo>
                    <a:lnTo>
                      <a:pt x="1312" y="0"/>
                    </a:lnTo>
                    <a:lnTo>
                      <a:pt x="1838" y="0"/>
                    </a:lnTo>
                    <a:lnTo>
                      <a:pt x="1843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3670920" y="158904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8" h="15">
                    <a:moveTo>
                      <a:pt x="1838" y="15"/>
                    </a:moveTo>
                    <a:lnTo>
                      <a:pt x="1312" y="15"/>
                    </a:lnTo>
                    <a:lnTo>
                      <a:pt x="1308" y="0"/>
                    </a:lnTo>
                    <a:lnTo>
                      <a:pt x="1834" y="0"/>
                    </a:lnTo>
                    <a:lnTo>
                      <a:pt x="183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3670920" y="158688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3" y="15"/>
                    </a:moveTo>
                    <a:lnTo>
                      <a:pt x="1307" y="15"/>
                    </a:lnTo>
                    <a:lnTo>
                      <a:pt x="1302" y="0"/>
                    </a:lnTo>
                    <a:lnTo>
                      <a:pt x="1828" y="0"/>
                    </a:lnTo>
                    <a:lnTo>
                      <a:pt x="1833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3673080" y="15836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9" y="15"/>
                    </a:moveTo>
                    <a:lnTo>
                      <a:pt x="1303" y="15"/>
                    </a:lnTo>
                    <a:lnTo>
                      <a:pt x="1298" y="0"/>
                    </a:lnTo>
                    <a:lnTo>
                      <a:pt x="1824" y="0"/>
                    </a:lnTo>
                    <a:lnTo>
                      <a:pt x="1829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673080" y="15818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3" h="14">
                    <a:moveTo>
                      <a:pt x="1823" y="14"/>
                    </a:moveTo>
                    <a:lnTo>
                      <a:pt x="1297" y="14"/>
                    </a:lnTo>
                    <a:lnTo>
                      <a:pt x="1293" y="0"/>
                    </a:lnTo>
                    <a:lnTo>
                      <a:pt x="1819" y="0"/>
                    </a:lnTo>
                    <a:lnTo>
                      <a:pt x="1823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674880" y="1578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9" h="16">
                    <a:moveTo>
                      <a:pt x="1819" y="16"/>
                    </a:moveTo>
                    <a:lnTo>
                      <a:pt x="1293" y="16"/>
                    </a:lnTo>
                    <a:lnTo>
                      <a:pt x="1288" y="0"/>
                    </a:lnTo>
                    <a:lnTo>
                      <a:pt x="1814" y="0"/>
                    </a:lnTo>
                    <a:lnTo>
                      <a:pt x="1819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674880" y="157644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4" h="16">
                    <a:moveTo>
                      <a:pt x="1814" y="16"/>
                    </a:moveTo>
                    <a:lnTo>
                      <a:pt x="1288" y="16"/>
                    </a:lnTo>
                    <a:lnTo>
                      <a:pt x="1282" y="0"/>
                    </a:lnTo>
                    <a:lnTo>
                      <a:pt x="1808" y="0"/>
                    </a:lnTo>
                    <a:lnTo>
                      <a:pt x="181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3676680" y="157284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8" h="15">
                    <a:moveTo>
                      <a:pt x="1808" y="15"/>
                    </a:moveTo>
                    <a:lnTo>
                      <a:pt x="1282" y="15"/>
                    </a:lnTo>
                    <a:lnTo>
                      <a:pt x="1277" y="0"/>
                    </a:lnTo>
                    <a:lnTo>
                      <a:pt x="1802" y="0"/>
                    </a:lnTo>
                    <a:lnTo>
                      <a:pt x="180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676680" y="157140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2" y="15"/>
                    </a:moveTo>
                    <a:lnTo>
                      <a:pt x="1276" y="15"/>
                    </a:lnTo>
                    <a:lnTo>
                      <a:pt x="1272" y="0"/>
                    </a:lnTo>
                    <a:lnTo>
                      <a:pt x="1797" y="0"/>
                    </a:lnTo>
                    <a:lnTo>
                      <a:pt x="180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678840" y="15678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7" h="14">
                    <a:moveTo>
                      <a:pt x="1797" y="14"/>
                    </a:moveTo>
                    <a:lnTo>
                      <a:pt x="1272" y="14"/>
                    </a:lnTo>
                    <a:lnTo>
                      <a:pt x="1267" y="0"/>
                    </a:lnTo>
                    <a:lnTo>
                      <a:pt x="1793" y="0"/>
                    </a:lnTo>
                    <a:lnTo>
                      <a:pt x="179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678840" y="15660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2" h="15">
                    <a:moveTo>
                      <a:pt x="1792" y="15"/>
                    </a:moveTo>
                    <a:lnTo>
                      <a:pt x="1267" y="15"/>
                    </a:lnTo>
                    <a:lnTo>
                      <a:pt x="1262" y="0"/>
                    </a:lnTo>
                    <a:lnTo>
                      <a:pt x="1787" y="0"/>
                    </a:lnTo>
                    <a:lnTo>
                      <a:pt x="1792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680640" y="156240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8" h="16">
                    <a:moveTo>
                      <a:pt x="1788" y="16"/>
                    </a:moveTo>
                    <a:lnTo>
                      <a:pt x="1262" y="16"/>
                    </a:lnTo>
                    <a:lnTo>
                      <a:pt x="1258" y="0"/>
                    </a:lnTo>
                    <a:lnTo>
                      <a:pt x="1783" y="0"/>
                    </a:lnTo>
                    <a:lnTo>
                      <a:pt x="1788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680640" y="1560600"/>
                <a:ext cx="685800" cy="5400"/>
              </a:xfrm>
              <a:custGeom>
                <a:avLst/>
                <a:gdLst/>
                <a:ahLst/>
                <a:rect l="l" t="t" r="r" b="b"/>
                <a:pathLst>
                  <a:path w="1782" h="15">
                    <a:moveTo>
                      <a:pt x="1782" y="15"/>
                    </a:moveTo>
                    <a:lnTo>
                      <a:pt x="1257" y="15"/>
                    </a:lnTo>
                    <a:lnTo>
                      <a:pt x="1252" y="0"/>
                    </a:lnTo>
                    <a:lnTo>
                      <a:pt x="1778" y="0"/>
                    </a:lnTo>
                    <a:lnTo>
                      <a:pt x="178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682800" y="155736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8" h="15">
                    <a:moveTo>
                      <a:pt x="1778" y="15"/>
                    </a:moveTo>
                    <a:lnTo>
                      <a:pt x="1253" y="15"/>
                    </a:lnTo>
                    <a:lnTo>
                      <a:pt x="1248" y="0"/>
                    </a:lnTo>
                    <a:lnTo>
                      <a:pt x="1773" y="0"/>
                    </a:lnTo>
                    <a:lnTo>
                      <a:pt x="1778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682800" y="155520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3" y="15"/>
                    </a:moveTo>
                    <a:lnTo>
                      <a:pt x="1247" y="15"/>
                    </a:lnTo>
                    <a:lnTo>
                      <a:pt x="1243" y="0"/>
                    </a:lnTo>
                    <a:lnTo>
                      <a:pt x="1768" y="0"/>
                    </a:lnTo>
                    <a:lnTo>
                      <a:pt x="1773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684600" y="1551600"/>
                <a:ext cx="678240" cy="5400"/>
              </a:xfrm>
              <a:custGeom>
                <a:avLst/>
                <a:gdLst/>
                <a:ahLst/>
                <a:rect l="l" t="t" r="r" b="b"/>
                <a:pathLst>
                  <a:path w="1767" h="14">
                    <a:moveTo>
                      <a:pt x="1767" y="14"/>
                    </a:moveTo>
                    <a:lnTo>
                      <a:pt x="1242" y="14"/>
                    </a:lnTo>
                    <a:lnTo>
                      <a:pt x="1236" y="0"/>
                    </a:lnTo>
                    <a:lnTo>
                      <a:pt x="1761" y="0"/>
                    </a:lnTo>
                    <a:lnTo>
                      <a:pt x="176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3686760" y="1550160"/>
                <a:ext cx="676080" cy="5040"/>
              </a:xfrm>
              <a:custGeom>
                <a:avLst/>
                <a:gdLst/>
                <a:ahLst/>
                <a:rect l="l" t="t" r="r" b="b"/>
                <a:pathLst>
                  <a:path w="1762" h="16">
                    <a:moveTo>
                      <a:pt x="1762" y="16"/>
                    </a:moveTo>
                    <a:lnTo>
                      <a:pt x="1237" y="16"/>
                    </a:lnTo>
                    <a:lnTo>
                      <a:pt x="1231" y="0"/>
                    </a:lnTo>
                    <a:lnTo>
                      <a:pt x="1756" y="0"/>
                    </a:lnTo>
                    <a:lnTo>
                      <a:pt x="1762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3686760" y="1546560"/>
                <a:ext cx="673920" cy="5040"/>
              </a:xfrm>
              <a:custGeom>
                <a:avLst/>
                <a:gdLst/>
                <a:ahLst/>
                <a:rect l="l" t="t" r="r" b="b"/>
                <a:pathLst>
                  <a:path w="1755" h="16">
                    <a:moveTo>
                      <a:pt x="1755" y="16"/>
                    </a:moveTo>
                    <a:lnTo>
                      <a:pt x="1230" y="16"/>
                    </a:lnTo>
                    <a:lnTo>
                      <a:pt x="1226" y="0"/>
                    </a:lnTo>
                    <a:lnTo>
                      <a:pt x="1751" y="0"/>
                    </a:lnTo>
                    <a:lnTo>
                      <a:pt x="1755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88560" y="15447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1" h="15">
                    <a:moveTo>
                      <a:pt x="1751" y="15"/>
                    </a:moveTo>
                    <a:lnTo>
                      <a:pt x="1226" y="15"/>
                    </a:lnTo>
                    <a:lnTo>
                      <a:pt x="1221" y="0"/>
                    </a:lnTo>
                    <a:lnTo>
                      <a:pt x="1746" y="0"/>
                    </a:lnTo>
                    <a:lnTo>
                      <a:pt x="1751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3688560" y="1541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6" h="15">
                    <a:moveTo>
                      <a:pt x="1746" y="15"/>
                    </a:moveTo>
                    <a:lnTo>
                      <a:pt x="1221" y="15"/>
                    </a:lnTo>
                    <a:lnTo>
                      <a:pt x="1216" y="0"/>
                    </a:lnTo>
                    <a:lnTo>
                      <a:pt x="1741" y="0"/>
                    </a:lnTo>
                    <a:lnTo>
                      <a:pt x="1746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3690360" y="153936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1" h="14">
                    <a:moveTo>
                      <a:pt x="1741" y="14"/>
                    </a:moveTo>
                    <a:lnTo>
                      <a:pt x="1216" y="14"/>
                    </a:lnTo>
                    <a:lnTo>
                      <a:pt x="1212" y="0"/>
                    </a:lnTo>
                    <a:lnTo>
                      <a:pt x="1736" y="0"/>
                    </a:lnTo>
                    <a:lnTo>
                      <a:pt x="1741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3690360" y="153612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6">
                    <a:moveTo>
                      <a:pt x="1736" y="16"/>
                    </a:moveTo>
                    <a:lnTo>
                      <a:pt x="1211" y="16"/>
                    </a:lnTo>
                    <a:lnTo>
                      <a:pt x="1206" y="0"/>
                    </a:lnTo>
                    <a:lnTo>
                      <a:pt x="1731" y="0"/>
                    </a:lnTo>
                    <a:lnTo>
                      <a:pt x="1736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3692520" y="153396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6">
                    <a:moveTo>
                      <a:pt x="1731" y="16"/>
                    </a:moveTo>
                    <a:lnTo>
                      <a:pt x="1207" y="16"/>
                    </a:lnTo>
                    <a:lnTo>
                      <a:pt x="1202" y="0"/>
                    </a:lnTo>
                    <a:lnTo>
                      <a:pt x="1727" y="0"/>
                    </a:lnTo>
                    <a:lnTo>
                      <a:pt x="1731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692520" y="153036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4">
                    <a:moveTo>
                      <a:pt x="1725" y="14"/>
                    </a:moveTo>
                    <a:lnTo>
                      <a:pt x="1200" y="14"/>
                    </a:lnTo>
                    <a:lnTo>
                      <a:pt x="1197" y="4"/>
                    </a:lnTo>
                    <a:lnTo>
                      <a:pt x="518" y="4"/>
                    </a:lnTo>
                    <a:lnTo>
                      <a:pt x="514" y="14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719" y="0"/>
                    </a:lnTo>
                    <a:lnTo>
                      <a:pt x="1725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693960" y="152892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21" h="15">
                    <a:moveTo>
                      <a:pt x="1721" y="15"/>
                    </a:moveTo>
                    <a:lnTo>
                      <a:pt x="1196" y="15"/>
                    </a:lnTo>
                    <a:lnTo>
                      <a:pt x="1195" y="12"/>
                    </a:lnTo>
                    <a:lnTo>
                      <a:pt x="516" y="12"/>
                    </a:lnTo>
                    <a:lnTo>
                      <a:pt x="515" y="15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715" y="0"/>
                    </a:lnTo>
                    <a:lnTo>
                      <a:pt x="1721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693960" y="152532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4" h="15">
                    <a:moveTo>
                      <a:pt x="171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10" y="0"/>
                    </a:lnTo>
                    <a:lnTo>
                      <a:pt x="1714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696480" y="152352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0" h="15">
                    <a:moveTo>
                      <a:pt x="17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05" y="0"/>
                    </a:lnTo>
                    <a:lnTo>
                      <a:pt x="1710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3696480" y="151992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6">
                    <a:moveTo>
                      <a:pt x="17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700" y="0"/>
                    </a:lnTo>
                    <a:lnTo>
                      <a:pt x="17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3697920" y="1518480"/>
                <a:ext cx="65304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7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95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3697920" y="1514880"/>
                <a:ext cx="651240" cy="5040"/>
              </a:xfrm>
              <a:custGeom>
                <a:avLst/>
                <a:gdLst/>
                <a:ahLst/>
                <a:rect l="l" t="t" r="r" b="b"/>
                <a:pathLst>
                  <a:path w="1695" h="15">
                    <a:moveTo>
                      <a:pt x="169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90" y="0"/>
                    </a:lnTo>
                    <a:lnTo>
                      <a:pt x="1695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3699720" y="151272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90" h="15">
                    <a:moveTo>
                      <a:pt x="16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86" y="0"/>
                    </a:lnTo>
                    <a:lnTo>
                      <a:pt x="1690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3701880" y="1509120"/>
                <a:ext cx="645120" cy="540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78" y="0"/>
                    </a:lnTo>
                    <a:lnTo>
                      <a:pt x="1684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3701880" y="1505880"/>
                <a:ext cx="645120" cy="6480"/>
              </a:xfrm>
              <a:custGeom>
                <a:avLst/>
                <a:gdLst/>
                <a:ahLst/>
                <a:rect l="l" t="t" r="r" b="b"/>
                <a:pathLst>
                  <a:path w="1680" h="16">
                    <a:moveTo>
                      <a:pt x="168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74" y="0"/>
                    </a:lnTo>
                    <a:lnTo>
                      <a:pt x="1680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3703680" y="150408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3" h="15">
                    <a:moveTo>
                      <a:pt x="16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69" y="0"/>
                    </a:lnTo>
                    <a:lnTo>
                      <a:pt x="1673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3703680" y="1502280"/>
                <a:ext cx="641520" cy="3600"/>
              </a:xfrm>
              <a:custGeom>
                <a:avLst/>
                <a:gdLst/>
                <a:ahLst/>
                <a:rect l="l" t="t" r="r" b="b"/>
                <a:pathLst>
                  <a:path w="1669" h="14">
                    <a:moveTo>
                      <a:pt x="16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664" y="0"/>
                    </a:lnTo>
                    <a:lnTo>
                      <a:pt x="1669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3705840" y="149868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4" h="15">
                    <a:moveTo>
                      <a:pt x="16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59" y="0"/>
                    </a:lnTo>
                    <a:lnTo>
                      <a:pt x="1664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3705840" y="1495080"/>
                <a:ext cx="637560" cy="720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54" y="0"/>
                    </a:lnTo>
                    <a:lnTo>
                      <a:pt x="1659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3707640" y="14936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4" h="15">
                    <a:moveTo>
                      <a:pt x="165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9" y="0"/>
                    </a:lnTo>
                    <a:lnTo>
                      <a:pt x="1654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3707640" y="14900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5">
                    <a:moveTo>
                      <a:pt x="16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5" y="0"/>
                    </a:lnTo>
                    <a:lnTo>
                      <a:pt x="16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3709440" y="14882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8" y="0"/>
                    </a:lnTo>
                    <a:lnTo>
                      <a:pt x="164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3709440" y="14846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39" h="15">
                    <a:moveTo>
                      <a:pt x="163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3" y="0"/>
                    </a:lnTo>
                    <a:lnTo>
                      <a:pt x="1639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3711600" y="1482480"/>
                <a:ext cx="625680" cy="5400"/>
              </a:xfrm>
              <a:custGeom>
                <a:avLst/>
                <a:gdLst/>
                <a:ahLst/>
                <a:rect l="l" t="t" r="r" b="b"/>
                <a:pathLst>
                  <a:path w="1633" h="16">
                    <a:moveTo>
                      <a:pt x="163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28" y="0"/>
                    </a:lnTo>
                    <a:lnTo>
                      <a:pt x="1633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3711600" y="1479600"/>
                <a:ext cx="625680" cy="504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23" y="0"/>
                    </a:lnTo>
                    <a:lnTo>
                      <a:pt x="162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3713400" y="147744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3" h="15">
                    <a:moveTo>
                      <a:pt x="16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8" y="0"/>
                    </a:lnTo>
                    <a:lnTo>
                      <a:pt x="162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3713400" y="1473840"/>
                <a:ext cx="622440" cy="5400"/>
              </a:xfrm>
              <a:custGeom>
                <a:avLst/>
                <a:gdLst/>
                <a:ahLst/>
                <a:rect l="l" t="t" r="r" b="b"/>
                <a:pathLst>
                  <a:path w="1618" h="15">
                    <a:moveTo>
                      <a:pt x="16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3" y="0"/>
                    </a:lnTo>
                    <a:lnTo>
                      <a:pt x="161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3715560" y="14720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3" h="14">
                    <a:moveTo>
                      <a:pt x="1613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608" y="0"/>
                    </a:lnTo>
                    <a:lnTo>
                      <a:pt x="1613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3715560" y="14684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8" h="15">
                    <a:moveTo>
                      <a:pt x="1608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1604" y="0"/>
                    </a:lnTo>
                    <a:lnTo>
                      <a:pt x="1608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3717360" y="146700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2" h="16">
                    <a:moveTo>
                      <a:pt x="160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97" y="0"/>
                    </a:lnTo>
                    <a:lnTo>
                      <a:pt x="1602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3718800" y="1463400"/>
                <a:ext cx="612720" cy="5040"/>
              </a:xfrm>
              <a:custGeom>
                <a:avLst/>
                <a:gdLst/>
                <a:ahLst/>
                <a:rect l="l" t="t" r="r" b="b"/>
                <a:pathLst>
                  <a:path w="1597" h="15">
                    <a:moveTo>
                      <a:pt x="159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91" y="0"/>
                    </a:lnTo>
                    <a:lnTo>
                      <a:pt x="1597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3718800" y="1461240"/>
                <a:ext cx="610920" cy="5400"/>
              </a:xfrm>
              <a:custGeom>
                <a:avLst/>
                <a:gdLst/>
                <a:ahLst/>
                <a:rect l="l" t="t" r="r" b="b"/>
                <a:pathLst>
                  <a:path w="1592" h="15">
                    <a:moveTo>
                      <a:pt x="159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7" y="0"/>
                    </a:lnTo>
                    <a:lnTo>
                      <a:pt x="1592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3720960" y="1458000"/>
                <a:ext cx="608760" cy="5040"/>
              </a:xfrm>
              <a:custGeom>
                <a:avLst/>
                <a:gdLst/>
                <a:ahLst/>
                <a:rect l="l" t="t" r="r" b="b"/>
                <a:pathLst>
                  <a:path w="1586" h="15">
                    <a:moveTo>
                      <a:pt x="15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1" y="0"/>
                    </a:lnTo>
                    <a:lnTo>
                      <a:pt x="1586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3720960" y="1456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2" h="15">
                    <a:moveTo>
                      <a:pt x="158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77" y="0"/>
                    </a:lnTo>
                    <a:lnTo>
                      <a:pt x="158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3722760" y="145260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71" y="0"/>
                    </a:lnTo>
                    <a:lnTo>
                      <a:pt x="157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3722760" y="1450800"/>
                <a:ext cx="60336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7" y="0"/>
                    </a:lnTo>
                    <a:lnTo>
                      <a:pt x="1572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3724920" y="1447200"/>
                <a:ext cx="601200" cy="5040"/>
              </a:xfrm>
              <a:custGeom>
                <a:avLst/>
                <a:gdLst/>
                <a:ahLst/>
                <a:rect l="l" t="t" r="r" b="b"/>
                <a:pathLst>
                  <a:path w="1566" h="15">
                    <a:moveTo>
                      <a:pt x="15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2" y="0"/>
                    </a:lnTo>
                    <a:lnTo>
                      <a:pt x="1566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3724920" y="144576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1" h="15">
                    <a:moveTo>
                      <a:pt x="15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56" y="0"/>
                    </a:lnTo>
                    <a:lnTo>
                      <a:pt x="1561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3726720" y="144216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6" h="14">
                    <a:moveTo>
                      <a:pt x="155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51" y="0"/>
                    </a:lnTo>
                    <a:lnTo>
                      <a:pt x="1556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3726720" y="1440000"/>
                <a:ext cx="595440" cy="5400"/>
              </a:xfrm>
              <a:custGeom>
                <a:avLst/>
                <a:gdLst/>
                <a:ahLst/>
                <a:rect l="l" t="t" r="r" b="b"/>
                <a:pathLst>
                  <a:path w="1551" h="16">
                    <a:moveTo>
                      <a:pt x="155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5" y="0"/>
                    </a:lnTo>
                    <a:lnTo>
                      <a:pt x="1551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3728880" y="143676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6" h="16">
                    <a:moveTo>
                      <a:pt x="154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0" y="0"/>
                    </a:lnTo>
                    <a:lnTo>
                      <a:pt x="1546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3728880" y="143496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0" h="14">
                    <a:moveTo>
                      <a:pt x="154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36" y="0"/>
                    </a:lnTo>
                    <a:lnTo>
                      <a:pt x="1540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3730680" y="143136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5" h="15">
                    <a:moveTo>
                      <a:pt x="153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30" y="0"/>
                    </a:lnTo>
                    <a:lnTo>
                      <a:pt x="1535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3730680" y="142956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31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26" y="0"/>
                    </a:lnTo>
                    <a:lnTo>
                      <a:pt x="1531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3732480" y="142596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521" y="0"/>
                    </a:lnTo>
                    <a:lnTo>
                      <a:pt x="1525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3732480" y="14245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0" h="16">
                    <a:moveTo>
                      <a:pt x="15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15" y="0"/>
                    </a:lnTo>
                    <a:lnTo>
                      <a:pt x="1520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3734640" y="1420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4">
                    <a:moveTo>
                      <a:pt x="151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10" y="0"/>
                    </a:lnTo>
                    <a:lnTo>
                      <a:pt x="1515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3734640" y="1419120"/>
                <a:ext cx="579960" cy="5040"/>
              </a:xfrm>
              <a:custGeom>
                <a:avLst/>
                <a:gdLst/>
                <a:ahLst/>
                <a:rect l="l" t="t" r="r" b="b"/>
                <a:pathLst>
                  <a:path w="1510" h="15">
                    <a:moveTo>
                      <a:pt x="15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04" y="0"/>
                    </a:lnTo>
                    <a:lnTo>
                      <a:pt x="1510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3736440" y="141552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5" h="15">
                    <a:moveTo>
                      <a:pt x="150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9" y="0"/>
                    </a:lnTo>
                    <a:lnTo>
                      <a:pt x="1505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3736440" y="141372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499" h="15">
                    <a:moveTo>
                      <a:pt x="149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5" y="0"/>
                    </a:lnTo>
                    <a:lnTo>
                      <a:pt x="149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3738600" y="1410480"/>
                <a:ext cx="573840" cy="5040"/>
              </a:xfrm>
              <a:custGeom>
                <a:avLst/>
                <a:gdLst/>
                <a:ahLst/>
                <a:rect l="l" t="t" r="r" b="b"/>
                <a:pathLst>
                  <a:path w="1494" h="16">
                    <a:moveTo>
                      <a:pt x="149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89" y="0"/>
                    </a:lnTo>
                    <a:lnTo>
                      <a:pt x="1494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3738600" y="140832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85" y="0"/>
                    </a:lnTo>
                    <a:lnTo>
                      <a:pt x="1490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3740400" y="140472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4" h="14">
                    <a:moveTo>
                      <a:pt x="1484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480" y="0"/>
                    </a:lnTo>
                    <a:lnTo>
                      <a:pt x="1484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3742200" y="14032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9" h="15">
                    <a:moveTo>
                      <a:pt x="14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74" y="0"/>
                    </a:lnTo>
                    <a:lnTo>
                      <a:pt x="1479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3742200" y="13996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4" h="16">
                    <a:moveTo>
                      <a:pt x="1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9" y="0"/>
                    </a:lnTo>
                    <a:lnTo>
                      <a:pt x="1474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3744360" y="1396080"/>
                <a:ext cx="562680" cy="7200"/>
              </a:xfrm>
              <a:custGeom>
                <a:avLst/>
                <a:gdLst/>
                <a:ahLst/>
                <a:rect l="l" t="t" r="r" b="b"/>
                <a:pathLst>
                  <a:path w="1469" h="16">
                    <a:moveTo>
                      <a:pt x="146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3" y="0"/>
                    </a:lnTo>
                    <a:lnTo>
                      <a:pt x="1469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3744360" y="13942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58" y="0"/>
                    </a:lnTo>
                    <a:lnTo>
                      <a:pt x="1464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3745800" y="1392480"/>
                <a:ext cx="558720" cy="3600"/>
              </a:xfrm>
              <a:custGeom>
                <a:avLst/>
                <a:gdLst/>
                <a:ahLst/>
                <a:rect l="l" t="t" r="r" b="b"/>
                <a:pathLst>
                  <a:path w="1458" h="14">
                    <a:moveTo>
                      <a:pt x="1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54" y="0"/>
                    </a:lnTo>
                    <a:lnTo>
                      <a:pt x="1458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745800" y="1389240"/>
                <a:ext cx="558720" cy="5040"/>
              </a:xfrm>
              <a:custGeom>
                <a:avLst/>
                <a:gdLst/>
                <a:ahLst/>
                <a:rect l="l" t="t" r="r" b="b"/>
                <a:pathLst>
                  <a:path w="1453" h="15">
                    <a:moveTo>
                      <a:pt x="145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48" y="0"/>
                    </a:lnTo>
                    <a:lnTo>
                      <a:pt x="145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3748320" y="1387080"/>
                <a:ext cx="554760" cy="5040"/>
              </a:xfrm>
              <a:custGeom>
                <a:avLst/>
                <a:gdLst/>
                <a:ahLst/>
                <a:rect l="l" t="t" r="r" b="b"/>
                <a:pathLst>
                  <a:path w="1449" h="15">
                    <a:moveTo>
                      <a:pt x="14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44" y="0"/>
                    </a:lnTo>
                    <a:lnTo>
                      <a:pt x="1449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3748320" y="1383480"/>
                <a:ext cx="554760" cy="5400"/>
              </a:xfrm>
              <a:custGeom>
                <a:avLst/>
                <a:gdLst/>
                <a:ahLst/>
                <a:rect l="l" t="t" r="r" b="b"/>
                <a:pathLst>
                  <a:path w="1443" h="15">
                    <a:moveTo>
                      <a:pt x="144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39" y="0"/>
                    </a:lnTo>
                    <a:lnTo>
                      <a:pt x="144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3749760" y="1380240"/>
                <a:ext cx="551520" cy="6480"/>
              </a:xfrm>
              <a:custGeom>
                <a:avLst/>
                <a:gdLst/>
                <a:ahLst/>
                <a:rect l="l" t="t" r="r" b="b"/>
                <a:pathLst>
                  <a:path w="1438" h="16">
                    <a:moveTo>
                      <a:pt x="1438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433" y="0"/>
                    </a:lnTo>
                    <a:lnTo>
                      <a:pt x="1438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3749760" y="1378440"/>
                <a:ext cx="551520" cy="5040"/>
              </a:xfrm>
              <a:custGeom>
                <a:avLst/>
                <a:gdLst/>
                <a:ahLst/>
                <a:rect l="l" t="t" r="r" b="b"/>
                <a:pathLst>
                  <a:path w="1433" h="15">
                    <a:moveTo>
                      <a:pt x="143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28" y="0"/>
                    </a:lnTo>
                    <a:lnTo>
                      <a:pt x="143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3751560" y="1376640"/>
                <a:ext cx="547560" cy="3600"/>
              </a:xfrm>
              <a:custGeom>
                <a:avLst/>
                <a:gdLst/>
                <a:ahLst/>
                <a:rect l="l" t="t" r="r" b="b"/>
                <a:pathLst>
                  <a:path w="1427" h="14">
                    <a:moveTo>
                      <a:pt x="142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22" y="0"/>
                    </a:lnTo>
                    <a:lnTo>
                      <a:pt x="1427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3751560" y="1373040"/>
                <a:ext cx="547560" cy="5040"/>
              </a:xfrm>
              <a:custGeom>
                <a:avLst/>
                <a:gdLst/>
                <a:ahLst/>
                <a:rect l="l" t="t" r="r" b="b"/>
                <a:pathLst>
                  <a:path w="1423" h="15">
                    <a:moveTo>
                      <a:pt x="14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17" y="0"/>
                    </a:lnTo>
                    <a:lnTo>
                      <a:pt x="1423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3753720" y="1369440"/>
                <a:ext cx="543600" cy="7200"/>
              </a:xfrm>
              <a:custGeom>
                <a:avLst/>
                <a:gdLst/>
                <a:ahLst/>
                <a:rect l="l" t="t" r="r" b="b"/>
                <a:pathLst>
                  <a:path w="1417" h="16">
                    <a:moveTo>
                      <a:pt x="14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12" y="0"/>
                    </a:lnTo>
                    <a:lnTo>
                      <a:pt x="1417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3753720" y="1368000"/>
                <a:ext cx="543600" cy="5040"/>
              </a:xfrm>
              <a:custGeom>
                <a:avLst/>
                <a:gdLst/>
                <a:ahLst/>
                <a:rect l="l" t="t" r="r" b="b"/>
                <a:pathLst>
                  <a:path w="1412" h="16">
                    <a:moveTo>
                      <a:pt x="141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07" y="0"/>
                    </a:lnTo>
                    <a:lnTo>
                      <a:pt x="1412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3755520" y="1364400"/>
                <a:ext cx="539640" cy="5040"/>
              </a:xfrm>
              <a:custGeom>
                <a:avLst/>
                <a:gdLst/>
                <a:ahLst/>
                <a:rect l="l" t="t" r="r" b="b"/>
                <a:pathLst>
                  <a:path w="1407" h="15">
                    <a:moveTo>
                      <a:pt x="140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02" y="0"/>
                    </a:lnTo>
                    <a:lnTo>
                      <a:pt x="1407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3755520" y="1362240"/>
                <a:ext cx="539640" cy="5400"/>
              </a:xfrm>
              <a:custGeom>
                <a:avLst/>
                <a:gdLst/>
                <a:ahLst/>
                <a:rect l="l" t="t" r="r" b="b"/>
                <a:pathLst>
                  <a:path w="1402" h="14">
                    <a:moveTo>
                      <a:pt x="140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93" y="0"/>
                    </a:lnTo>
                    <a:lnTo>
                      <a:pt x="492" y="1"/>
                    </a:lnTo>
                    <a:lnTo>
                      <a:pt x="887" y="1"/>
                    </a:lnTo>
                    <a:lnTo>
                      <a:pt x="886" y="0"/>
                    </a:lnTo>
                    <a:lnTo>
                      <a:pt x="1398" y="0"/>
                    </a:lnTo>
                    <a:lnTo>
                      <a:pt x="1402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3757680" y="1359000"/>
                <a:ext cx="535680" cy="5040"/>
              </a:xfrm>
              <a:custGeom>
                <a:avLst/>
                <a:gdLst/>
                <a:ahLst/>
                <a:rect l="l" t="t" r="r" b="b"/>
                <a:pathLst>
                  <a:path w="1396" h="15">
                    <a:moveTo>
                      <a:pt x="13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8" y="9"/>
                    </a:lnTo>
                    <a:lnTo>
                      <a:pt x="883" y="9"/>
                    </a:lnTo>
                    <a:lnTo>
                      <a:pt x="880" y="0"/>
                    </a:lnTo>
                    <a:lnTo>
                      <a:pt x="1391" y="0"/>
                    </a:lnTo>
                    <a:lnTo>
                      <a:pt x="1396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759480" y="1357200"/>
                <a:ext cx="533880" cy="5040"/>
              </a:xfrm>
              <a:custGeom>
                <a:avLst/>
                <a:gdLst/>
                <a:ahLst/>
                <a:rect l="l" t="t" r="r" b="b"/>
                <a:pathLst>
                  <a:path w="1392" h="16">
                    <a:moveTo>
                      <a:pt x="1392" y="16"/>
                    </a:moveTo>
                    <a:lnTo>
                      <a:pt x="880" y="16"/>
                    </a:lnTo>
                    <a:lnTo>
                      <a:pt x="875" y="0"/>
                    </a:lnTo>
                    <a:lnTo>
                      <a:pt x="1387" y="0"/>
                    </a:lnTo>
                    <a:lnTo>
                      <a:pt x="1392" y="16"/>
                    </a:lnTo>
                    <a:close/>
                    <a:moveTo>
                      <a:pt x="4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3759480" y="1353240"/>
                <a:ext cx="532080" cy="5400"/>
              </a:xfrm>
              <a:custGeom>
                <a:avLst/>
                <a:gdLst/>
                <a:ahLst/>
                <a:rect l="l" t="t" r="r" b="b"/>
                <a:pathLst>
                  <a:path w="1386" h="15">
                    <a:moveTo>
                      <a:pt x="1386" y="15"/>
                    </a:moveTo>
                    <a:lnTo>
                      <a:pt x="875" y="15"/>
                    </a:lnTo>
                    <a:lnTo>
                      <a:pt x="870" y="0"/>
                    </a:lnTo>
                    <a:lnTo>
                      <a:pt x="1381" y="0"/>
                    </a:lnTo>
                    <a:lnTo>
                      <a:pt x="1386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3761640" y="1351800"/>
                <a:ext cx="529920" cy="5040"/>
              </a:xfrm>
              <a:custGeom>
                <a:avLst/>
                <a:gdLst/>
                <a:ahLst/>
                <a:rect l="l" t="t" r="r" b="b"/>
                <a:pathLst>
                  <a:path w="1382" h="15">
                    <a:moveTo>
                      <a:pt x="1382" y="15"/>
                    </a:moveTo>
                    <a:lnTo>
                      <a:pt x="870" y="15"/>
                    </a:lnTo>
                    <a:lnTo>
                      <a:pt x="866" y="0"/>
                    </a:lnTo>
                    <a:lnTo>
                      <a:pt x="1376" y="0"/>
                    </a:lnTo>
                    <a:lnTo>
                      <a:pt x="1382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761640" y="1348200"/>
                <a:ext cx="527760" cy="5040"/>
              </a:xfrm>
              <a:custGeom>
                <a:avLst/>
                <a:gdLst/>
                <a:ahLst/>
                <a:rect l="l" t="t" r="r" b="b"/>
                <a:pathLst>
                  <a:path w="1376" h="15">
                    <a:moveTo>
                      <a:pt x="1376" y="15"/>
                    </a:moveTo>
                    <a:lnTo>
                      <a:pt x="865" y="15"/>
                    </a:lnTo>
                    <a:lnTo>
                      <a:pt x="860" y="0"/>
                    </a:lnTo>
                    <a:lnTo>
                      <a:pt x="1371" y="0"/>
                    </a:lnTo>
                    <a:lnTo>
                      <a:pt x="1376" y="15"/>
                    </a:lnTo>
                    <a:close/>
                    <a:moveTo>
                      <a:pt x="4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9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3763440" y="1346760"/>
                <a:ext cx="525960" cy="5040"/>
              </a:xfrm>
              <a:custGeom>
                <a:avLst/>
                <a:gdLst/>
                <a:ahLst/>
                <a:rect l="l" t="t" r="r" b="b"/>
                <a:pathLst>
                  <a:path w="1371" h="14">
                    <a:moveTo>
                      <a:pt x="1371" y="14"/>
                    </a:moveTo>
                    <a:lnTo>
                      <a:pt x="861" y="14"/>
                    </a:lnTo>
                    <a:lnTo>
                      <a:pt x="856" y="0"/>
                    </a:lnTo>
                    <a:lnTo>
                      <a:pt x="1366" y="0"/>
                    </a:lnTo>
                    <a:lnTo>
                      <a:pt x="1371" y="14"/>
                    </a:lnTo>
                    <a:close/>
                    <a:moveTo>
                      <a:pt x="48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3763440" y="1342800"/>
                <a:ext cx="524520" cy="5040"/>
              </a:xfrm>
              <a:custGeom>
                <a:avLst/>
                <a:gdLst/>
                <a:ahLst/>
                <a:rect l="l" t="t" r="r" b="b"/>
                <a:pathLst>
                  <a:path w="1366" h="16">
                    <a:moveTo>
                      <a:pt x="1366" y="16"/>
                    </a:moveTo>
                    <a:lnTo>
                      <a:pt x="855" y="16"/>
                    </a:lnTo>
                    <a:lnTo>
                      <a:pt x="851" y="0"/>
                    </a:lnTo>
                    <a:lnTo>
                      <a:pt x="1361" y="0"/>
                    </a:lnTo>
                    <a:lnTo>
                      <a:pt x="1366" y="16"/>
                    </a:lnTo>
                    <a:close/>
                    <a:moveTo>
                      <a:pt x="48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3765240" y="1341360"/>
                <a:ext cx="522720" cy="5040"/>
              </a:xfrm>
              <a:custGeom>
                <a:avLst/>
                <a:gdLst/>
                <a:ahLst/>
                <a:rect l="l" t="t" r="r" b="b"/>
                <a:pathLst>
                  <a:path w="1361" h="16">
                    <a:moveTo>
                      <a:pt x="1361" y="16"/>
                    </a:moveTo>
                    <a:lnTo>
                      <a:pt x="851" y="16"/>
                    </a:lnTo>
                    <a:lnTo>
                      <a:pt x="847" y="0"/>
                    </a:lnTo>
                    <a:lnTo>
                      <a:pt x="1356" y="0"/>
                    </a:lnTo>
                    <a:lnTo>
                      <a:pt x="1361" y="16"/>
                    </a:lnTo>
                    <a:close/>
                    <a:moveTo>
                      <a:pt x="48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3765240" y="1337760"/>
                <a:ext cx="520560" cy="5040"/>
              </a:xfrm>
              <a:custGeom>
                <a:avLst/>
                <a:gdLst/>
                <a:ahLst/>
                <a:rect l="l" t="t" r="r" b="b"/>
                <a:pathLst>
                  <a:path w="1355" h="15">
                    <a:moveTo>
                      <a:pt x="1355" y="15"/>
                    </a:moveTo>
                    <a:lnTo>
                      <a:pt x="845" y="15"/>
                    </a:lnTo>
                    <a:lnTo>
                      <a:pt x="841" y="0"/>
                    </a:lnTo>
                    <a:lnTo>
                      <a:pt x="1350" y="0"/>
                    </a:lnTo>
                    <a:lnTo>
                      <a:pt x="1355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767400" y="1335600"/>
                <a:ext cx="518400" cy="5400"/>
              </a:xfrm>
              <a:custGeom>
                <a:avLst/>
                <a:gdLst/>
                <a:ahLst/>
                <a:rect l="l" t="t" r="r" b="b"/>
                <a:pathLst>
                  <a:path w="1350" h="15">
                    <a:moveTo>
                      <a:pt x="1350" y="15"/>
                    </a:moveTo>
                    <a:lnTo>
                      <a:pt x="841" y="15"/>
                    </a:lnTo>
                    <a:lnTo>
                      <a:pt x="836" y="0"/>
                    </a:lnTo>
                    <a:lnTo>
                      <a:pt x="1346" y="0"/>
                    </a:lnTo>
                    <a:lnTo>
                      <a:pt x="1350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3767400" y="1332000"/>
                <a:ext cx="516600" cy="5400"/>
              </a:xfrm>
              <a:custGeom>
                <a:avLst/>
                <a:gdLst/>
                <a:ahLst/>
                <a:rect l="l" t="t" r="r" b="b"/>
                <a:pathLst>
                  <a:path w="1345" h="14">
                    <a:moveTo>
                      <a:pt x="1345" y="14"/>
                    </a:moveTo>
                    <a:lnTo>
                      <a:pt x="836" y="14"/>
                    </a:lnTo>
                    <a:lnTo>
                      <a:pt x="830" y="0"/>
                    </a:lnTo>
                    <a:lnTo>
                      <a:pt x="1340" y="0"/>
                    </a:lnTo>
                    <a:lnTo>
                      <a:pt x="1345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769200" y="1330560"/>
                <a:ext cx="514800" cy="5040"/>
              </a:xfrm>
              <a:custGeom>
                <a:avLst/>
                <a:gdLst/>
                <a:ahLst/>
                <a:rect l="l" t="t" r="r" b="b"/>
                <a:pathLst>
                  <a:path w="1341" h="16">
                    <a:moveTo>
                      <a:pt x="1341" y="16"/>
                    </a:moveTo>
                    <a:lnTo>
                      <a:pt x="831" y="16"/>
                    </a:lnTo>
                    <a:lnTo>
                      <a:pt x="826" y="0"/>
                    </a:lnTo>
                    <a:lnTo>
                      <a:pt x="1336" y="0"/>
                    </a:lnTo>
                    <a:lnTo>
                      <a:pt x="1341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3769200" y="1326960"/>
                <a:ext cx="513000" cy="5040"/>
              </a:xfrm>
              <a:custGeom>
                <a:avLst/>
                <a:gdLst/>
                <a:ahLst/>
                <a:rect l="l" t="t" r="r" b="b"/>
                <a:pathLst>
                  <a:path w="1335" h="16">
                    <a:moveTo>
                      <a:pt x="1335" y="16"/>
                    </a:moveTo>
                    <a:lnTo>
                      <a:pt x="825" y="16"/>
                    </a:lnTo>
                    <a:lnTo>
                      <a:pt x="821" y="0"/>
                    </a:lnTo>
                    <a:lnTo>
                      <a:pt x="1330" y="0"/>
                    </a:lnTo>
                    <a:lnTo>
                      <a:pt x="1335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771360" y="1325160"/>
                <a:ext cx="510840" cy="5040"/>
              </a:xfrm>
              <a:custGeom>
                <a:avLst/>
                <a:gdLst/>
                <a:ahLst/>
                <a:rect l="l" t="t" r="r" b="b"/>
                <a:pathLst>
                  <a:path w="1331" h="14">
                    <a:moveTo>
                      <a:pt x="1331" y="14"/>
                    </a:moveTo>
                    <a:lnTo>
                      <a:pt x="821" y="14"/>
                    </a:lnTo>
                    <a:lnTo>
                      <a:pt x="817" y="0"/>
                    </a:lnTo>
                    <a:lnTo>
                      <a:pt x="1325" y="0"/>
                    </a:lnTo>
                    <a:lnTo>
                      <a:pt x="1331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771360" y="1321560"/>
                <a:ext cx="508680" cy="5040"/>
              </a:xfrm>
              <a:custGeom>
                <a:avLst/>
                <a:gdLst/>
                <a:ahLst/>
                <a:rect l="l" t="t" r="r" b="b"/>
                <a:pathLst>
                  <a:path w="1325" h="15">
                    <a:moveTo>
                      <a:pt x="1325" y="15"/>
                    </a:moveTo>
                    <a:lnTo>
                      <a:pt x="816" y="15"/>
                    </a:lnTo>
                    <a:lnTo>
                      <a:pt x="811" y="0"/>
                    </a:lnTo>
                    <a:lnTo>
                      <a:pt x="1320" y="0"/>
                    </a:lnTo>
                    <a:lnTo>
                      <a:pt x="1325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3772800" y="1320120"/>
                <a:ext cx="506880" cy="5040"/>
              </a:xfrm>
              <a:custGeom>
                <a:avLst/>
                <a:gdLst/>
                <a:ahLst/>
                <a:rect l="l" t="t" r="r" b="b"/>
                <a:pathLst>
                  <a:path w="1320" h="15">
                    <a:moveTo>
                      <a:pt x="1320" y="15"/>
                    </a:moveTo>
                    <a:lnTo>
                      <a:pt x="812" y="15"/>
                    </a:lnTo>
                    <a:lnTo>
                      <a:pt x="807" y="0"/>
                    </a:lnTo>
                    <a:lnTo>
                      <a:pt x="1315" y="0"/>
                    </a:lnTo>
                    <a:lnTo>
                      <a:pt x="1320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774600" y="1316520"/>
                <a:ext cx="503280" cy="5040"/>
              </a:xfrm>
              <a:custGeom>
                <a:avLst/>
                <a:gdLst/>
                <a:ahLst/>
                <a:rect l="l" t="t" r="r" b="b"/>
                <a:pathLst>
                  <a:path w="1314" h="15">
                    <a:moveTo>
                      <a:pt x="1314" y="15"/>
                    </a:moveTo>
                    <a:lnTo>
                      <a:pt x="805" y="15"/>
                    </a:lnTo>
                    <a:lnTo>
                      <a:pt x="801" y="0"/>
                    </a:lnTo>
                    <a:lnTo>
                      <a:pt x="1309" y="0"/>
                    </a:lnTo>
                    <a:lnTo>
                      <a:pt x="131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774600" y="1314360"/>
                <a:ext cx="503280" cy="5400"/>
              </a:xfrm>
              <a:custGeom>
                <a:avLst/>
                <a:gdLst/>
                <a:ahLst/>
                <a:rect l="l" t="t" r="r" b="b"/>
                <a:pathLst>
                  <a:path w="1309" h="16">
                    <a:moveTo>
                      <a:pt x="1309" y="16"/>
                    </a:moveTo>
                    <a:lnTo>
                      <a:pt x="801" y="16"/>
                    </a:lnTo>
                    <a:lnTo>
                      <a:pt x="797" y="0"/>
                    </a:lnTo>
                    <a:lnTo>
                      <a:pt x="1305" y="0"/>
                    </a:lnTo>
                    <a:lnTo>
                      <a:pt x="1309" y="16"/>
                    </a:lnTo>
                    <a:close/>
                    <a:moveTo>
                      <a:pt x="48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3776760" y="13111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4" h="15">
                    <a:moveTo>
                      <a:pt x="1304" y="15"/>
                    </a:moveTo>
                    <a:lnTo>
                      <a:pt x="796" y="15"/>
                    </a:lnTo>
                    <a:lnTo>
                      <a:pt x="792" y="0"/>
                    </a:lnTo>
                    <a:lnTo>
                      <a:pt x="1299" y="0"/>
                    </a:lnTo>
                    <a:lnTo>
                      <a:pt x="130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3776760" y="13093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0" h="15">
                    <a:moveTo>
                      <a:pt x="1300" y="15"/>
                    </a:moveTo>
                    <a:lnTo>
                      <a:pt x="792" y="15"/>
                    </a:lnTo>
                    <a:lnTo>
                      <a:pt x="786" y="0"/>
                    </a:lnTo>
                    <a:lnTo>
                      <a:pt x="1295" y="0"/>
                    </a:lnTo>
                    <a:lnTo>
                      <a:pt x="1300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3778560" y="1305720"/>
                <a:ext cx="495720" cy="5400"/>
              </a:xfrm>
              <a:custGeom>
                <a:avLst/>
                <a:gdLst/>
                <a:ahLst/>
                <a:rect l="l" t="t" r="r" b="b"/>
                <a:pathLst>
                  <a:path w="1294" h="15">
                    <a:moveTo>
                      <a:pt x="1294" y="15"/>
                    </a:moveTo>
                    <a:lnTo>
                      <a:pt x="787" y="15"/>
                    </a:lnTo>
                    <a:lnTo>
                      <a:pt x="781" y="0"/>
                    </a:lnTo>
                    <a:lnTo>
                      <a:pt x="1289" y="0"/>
                    </a:lnTo>
                    <a:lnTo>
                      <a:pt x="1294" y="15"/>
                    </a:lnTo>
                    <a:close/>
                    <a:moveTo>
                      <a:pt x="48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4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3778560" y="1303920"/>
                <a:ext cx="495720" cy="5040"/>
              </a:xfrm>
              <a:custGeom>
                <a:avLst/>
                <a:gdLst/>
                <a:ahLst/>
                <a:rect l="l" t="t" r="r" b="b"/>
                <a:pathLst>
                  <a:path w="1290" h="14">
                    <a:moveTo>
                      <a:pt x="1290" y="14"/>
                    </a:moveTo>
                    <a:lnTo>
                      <a:pt x="781" y="14"/>
                    </a:lnTo>
                    <a:lnTo>
                      <a:pt x="777" y="0"/>
                    </a:lnTo>
                    <a:lnTo>
                      <a:pt x="1284" y="0"/>
                    </a:lnTo>
                    <a:lnTo>
                      <a:pt x="1290" y="14"/>
                    </a:lnTo>
                    <a:close/>
                    <a:moveTo>
                      <a:pt x="48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3780720" y="130032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84" h="16">
                    <a:moveTo>
                      <a:pt x="1284" y="16"/>
                    </a:moveTo>
                    <a:lnTo>
                      <a:pt x="776" y="16"/>
                    </a:lnTo>
                    <a:lnTo>
                      <a:pt x="772" y="0"/>
                    </a:lnTo>
                    <a:lnTo>
                      <a:pt x="1279" y="0"/>
                    </a:lnTo>
                    <a:lnTo>
                      <a:pt x="1284" y="16"/>
                    </a:lnTo>
                    <a:close/>
                    <a:moveTo>
                      <a:pt x="47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84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780720" y="129888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79" h="16">
                    <a:moveTo>
                      <a:pt x="1279" y="16"/>
                    </a:moveTo>
                    <a:lnTo>
                      <a:pt x="772" y="16"/>
                    </a:lnTo>
                    <a:lnTo>
                      <a:pt x="768" y="0"/>
                    </a:lnTo>
                    <a:lnTo>
                      <a:pt x="1274" y="0"/>
                    </a:lnTo>
                    <a:lnTo>
                      <a:pt x="1279" y="16"/>
                    </a:lnTo>
                    <a:close/>
                    <a:moveTo>
                      <a:pt x="480" y="16"/>
                    </a:moveTo>
                    <a:lnTo>
                      <a:pt x="0" y="16"/>
                    </a:lnTo>
                    <a:lnTo>
                      <a:pt x="7" y="0"/>
                    </a:lnTo>
                    <a:lnTo>
                      <a:pt x="485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782520" y="12952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3" h="14">
                    <a:moveTo>
                      <a:pt x="1273" y="14"/>
                    </a:moveTo>
                    <a:lnTo>
                      <a:pt x="766" y="14"/>
                    </a:lnTo>
                    <a:lnTo>
                      <a:pt x="761" y="0"/>
                    </a:lnTo>
                    <a:lnTo>
                      <a:pt x="1268" y="0"/>
                    </a:lnTo>
                    <a:lnTo>
                      <a:pt x="1273" y="14"/>
                    </a:lnTo>
                    <a:close/>
                    <a:moveTo>
                      <a:pt x="47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3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782520" y="12931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5">
                    <a:moveTo>
                      <a:pt x="1267" y="15"/>
                    </a:moveTo>
                    <a:lnTo>
                      <a:pt x="761" y="15"/>
                    </a:lnTo>
                    <a:lnTo>
                      <a:pt x="756" y="0"/>
                    </a:lnTo>
                    <a:lnTo>
                      <a:pt x="1263" y="0"/>
                    </a:lnTo>
                    <a:lnTo>
                      <a:pt x="1267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3784320" y="1289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756" y="15"/>
                    </a:lnTo>
                    <a:lnTo>
                      <a:pt x="752" y="0"/>
                    </a:lnTo>
                    <a:lnTo>
                      <a:pt x="1258" y="0"/>
                    </a:lnTo>
                    <a:lnTo>
                      <a:pt x="1263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3784320" y="1288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5">
                    <a:moveTo>
                      <a:pt x="1258" y="15"/>
                    </a:moveTo>
                    <a:lnTo>
                      <a:pt x="751" y="15"/>
                    </a:lnTo>
                    <a:lnTo>
                      <a:pt x="747" y="0"/>
                    </a:lnTo>
                    <a:lnTo>
                      <a:pt x="1253" y="0"/>
                    </a:lnTo>
                    <a:lnTo>
                      <a:pt x="125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3786480" y="1284480"/>
                <a:ext cx="479880" cy="5400"/>
              </a:xfrm>
              <a:custGeom>
                <a:avLst/>
                <a:gdLst/>
                <a:ahLst/>
                <a:rect l="l" t="t" r="r" b="b"/>
                <a:pathLst>
                  <a:path w="1253" h="16">
                    <a:moveTo>
                      <a:pt x="1253" y="16"/>
                    </a:moveTo>
                    <a:lnTo>
                      <a:pt x="747" y="16"/>
                    </a:lnTo>
                    <a:lnTo>
                      <a:pt x="742" y="0"/>
                    </a:lnTo>
                    <a:lnTo>
                      <a:pt x="1249" y="0"/>
                    </a:lnTo>
                    <a:lnTo>
                      <a:pt x="1253" y="16"/>
                    </a:lnTo>
                    <a:close/>
                    <a:moveTo>
                      <a:pt x="4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786480" y="128268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8" h="15">
                    <a:moveTo>
                      <a:pt x="1248" y="15"/>
                    </a:moveTo>
                    <a:lnTo>
                      <a:pt x="742" y="15"/>
                    </a:lnTo>
                    <a:lnTo>
                      <a:pt x="736" y="0"/>
                    </a:lnTo>
                    <a:lnTo>
                      <a:pt x="1242" y="0"/>
                    </a:lnTo>
                    <a:lnTo>
                      <a:pt x="124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788280" y="127908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4" h="15">
                    <a:moveTo>
                      <a:pt x="1244" y="15"/>
                    </a:moveTo>
                    <a:lnTo>
                      <a:pt x="737" y="15"/>
                    </a:lnTo>
                    <a:lnTo>
                      <a:pt x="73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790440" y="1277640"/>
                <a:ext cx="474120" cy="5040"/>
              </a:xfrm>
              <a:custGeom>
                <a:avLst/>
                <a:gdLst/>
                <a:ahLst/>
                <a:rect l="l" t="t" r="r" b="b"/>
                <a:pathLst>
                  <a:path w="1236" h="15">
                    <a:moveTo>
                      <a:pt x="1236" y="15"/>
                    </a:moveTo>
                    <a:lnTo>
                      <a:pt x="730" y="15"/>
                    </a:lnTo>
                    <a:lnTo>
                      <a:pt x="726" y="0"/>
                    </a:lnTo>
                    <a:lnTo>
                      <a:pt x="1231" y="0"/>
                    </a:lnTo>
                    <a:lnTo>
                      <a:pt x="1236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3790440" y="127404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2" h="15">
                    <a:moveTo>
                      <a:pt x="1232" y="15"/>
                    </a:moveTo>
                    <a:lnTo>
                      <a:pt x="726" y="15"/>
                    </a:lnTo>
                    <a:lnTo>
                      <a:pt x="722" y="0"/>
                    </a:lnTo>
                    <a:lnTo>
                      <a:pt x="1227" y="0"/>
                    </a:lnTo>
                    <a:lnTo>
                      <a:pt x="123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1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792240" y="1270440"/>
                <a:ext cx="470160" cy="7200"/>
              </a:xfrm>
              <a:custGeom>
                <a:avLst/>
                <a:gdLst/>
                <a:ahLst/>
                <a:rect l="l" t="t" r="r" b="b"/>
                <a:pathLst>
                  <a:path w="1226" h="16">
                    <a:moveTo>
                      <a:pt x="1226" y="16"/>
                    </a:moveTo>
                    <a:lnTo>
                      <a:pt x="721" y="16"/>
                    </a:lnTo>
                    <a:lnTo>
                      <a:pt x="717" y="0"/>
                    </a:lnTo>
                    <a:lnTo>
                      <a:pt x="1222" y="0"/>
                    </a:lnTo>
                    <a:lnTo>
                      <a:pt x="1226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3792240" y="1268640"/>
                <a:ext cx="46872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717" y="15"/>
                    </a:lnTo>
                    <a:lnTo>
                      <a:pt x="712" y="0"/>
                    </a:lnTo>
                    <a:lnTo>
                      <a:pt x="1217" y="0"/>
                    </a:lnTo>
                    <a:lnTo>
                      <a:pt x="1222" y="15"/>
                    </a:lnTo>
                    <a:close/>
                    <a:moveTo>
                      <a:pt x="47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3794040" y="1266840"/>
                <a:ext cx="466920" cy="3600"/>
              </a:xfrm>
              <a:custGeom>
                <a:avLst/>
                <a:gdLst/>
                <a:ahLst/>
                <a:rect l="l" t="t" r="r" b="b"/>
                <a:pathLst>
                  <a:path w="1217" h="14">
                    <a:moveTo>
                      <a:pt x="1217" y="14"/>
                    </a:moveTo>
                    <a:lnTo>
                      <a:pt x="712" y="14"/>
                    </a:lnTo>
                    <a:lnTo>
                      <a:pt x="707" y="0"/>
                    </a:lnTo>
                    <a:lnTo>
                      <a:pt x="1212" y="0"/>
                    </a:lnTo>
                    <a:lnTo>
                      <a:pt x="1217" y="14"/>
                    </a:lnTo>
                    <a:close/>
                    <a:moveTo>
                      <a:pt x="47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3794040" y="126360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707" y="15"/>
                    </a:lnTo>
                    <a:lnTo>
                      <a:pt x="703" y="0"/>
                    </a:lnTo>
                    <a:lnTo>
                      <a:pt x="1208" y="0"/>
                    </a:lnTo>
                    <a:lnTo>
                      <a:pt x="121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3796200" y="1260000"/>
                <a:ext cx="462960" cy="6480"/>
              </a:xfrm>
              <a:custGeom>
                <a:avLst/>
                <a:gdLst/>
                <a:ahLst/>
                <a:rect l="l" t="t" r="r" b="b"/>
                <a:pathLst>
                  <a:path w="1207" h="16">
                    <a:moveTo>
                      <a:pt x="1207" y="16"/>
                    </a:moveTo>
                    <a:lnTo>
                      <a:pt x="702" y="16"/>
                    </a:lnTo>
                    <a:lnTo>
                      <a:pt x="697" y="0"/>
                    </a:lnTo>
                    <a:lnTo>
                      <a:pt x="1201" y="0"/>
                    </a:lnTo>
                    <a:lnTo>
                      <a:pt x="1207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8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3796200" y="1257840"/>
                <a:ext cx="462960" cy="540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698" y="15"/>
                    </a:lnTo>
                    <a:lnTo>
                      <a:pt x="693" y="0"/>
                    </a:lnTo>
                    <a:lnTo>
                      <a:pt x="1197" y="0"/>
                    </a:lnTo>
                    <a:lnTo>
                      <a:pt x="1203" y="15"/>
                    </a:lnTo>
                    <a:close/>
                    <a:moveTo>
                      <a:pt x="47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9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3797640" y="125424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691" y="15"/>
                    </a:lnTo>
                    <a:lnTo>
                      <a:pt x="686" y="0"/>
                    </a:lnTo>
                    <a:lnTo>
                      <a:pt x="1190" y="0"/>
                    </a:lnTo>
                    <a:lnTo>
                      <a:pt x="119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3797640" y="125280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1" h="15">
                    <a:moveTo>
                      <a:pt x="1191" y="15"/>
                    </a:moveTo>
                    <a:lnTo>
                      <a:pt x="687" y="15"/>
                    </a:lnTo>
                    <a:lnTo>
                      <a:pt x="682" y="0"/>
                    </a:lnTo>
                    <a:lnTo>
                      <a:pt x="1186" y="0"/>
                    </a:lnTo>
                    <a:lnTo>
                      <a:pt x="1191" y="15"/>
                    </a:lnTo>
                    <a:close/>
                    <a:moveTo>
                      <a:pt x="4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3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3800160" y="1249200"/>
                <a:ext cx="455040" cy="5040"/>
              </a:xfrm>
              <a:custGeom>
                <a:avLst/>
                <a:gdLst/>
                <a:ahLst/>
                <a:rect l="l" t="t" r="r" b="b"/>
                <a:pathLst>
                  <a:path w="1185" h="15">
                    <a:moveTo>
                      <a:pt x="1185" y="15"/>
                    </a:moveTo>
                    <a:lnTo>
                      <a:pt x="681" y="15"/>
                    </a:lnTo>
                    <a:lnTo>
                      <a:pt x="677" y="0"/>
                    </a:lnTo>
                    <a:lnTo>
                      <a:pt x="1181" y="0"/>
                    </a:lnTo>
                    <a:lnTo>
                      <a:pt x="118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800160" y="1247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677" y="16"/>
                    </a:lnTo>
                    <a:lnTo>
                      <a:pt x="673" y="0"/>
                    </a:lnTo>
                    <a:lnTo>
                      <a:pt x="1176" y="0"/>
                    </a:lnTo>
                    <a:lnTo>
                      <a:pt x="1181" y="16"/>
                    </a:lnTo>
                    <a:close/>
                    <a:moveTo>
                      <a:pt x="47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801600" y="1243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672" y="15"/>
                    </a:lnTo>
                    <a:lnTo>
                      <a:pt x="668" y="0"/>
                    </a:lnTo>
                    <a:lnTo>
                      <a:pt x="1171" y="0"/>
                    </a:lnTo>
                    <a:lnTo>
                      <a:pt x="1176" y="15"/>
                    </a:lnTo>
                    <a:close/>
                    <a:moveTo>
                      <a:pt x="47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1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801600" y="1242360"/>
                <a:ext cx="449280" cy="5040"/>
              </a:xfrm>
              <a:custGeom>
                <a:avLst/>
                <a:gdLst/>
                <a:ahLst/>
                <a:rect l="l" t="t" r="r" b="b"/>
                <a:pathLst>
                  <a:path w="1171" h="15">
                    <a:moveTo>
                      <a:pt x="1171" y="15"/>
                    </a:moveTo>
                    <a:lnTo>
                      <a:pt x="668" y="15"/>
                    </a:lnTo>
                    <a:lnTo>
                      <a:pt x="663" y="0"/>
                    </a:lnTo>
                    <a:lnTo>
                      <a:pt x="1167" y="0"/>
                    </a:lnTo>
                    <a:lnTo>
                      <a:pt x="1171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803760" y="1238760"/>
                <a:ext cx="447120" cy="5040"/>
              </a:xfrm>
              <a:custGeom>
                <a:avLst/>
                <a:gdLst/>
                <a:ahLst/>
                <a:rect l="l" t="t" r="r" b="b"/>
                <a:pathLst>
                  <a:path w="1166" h="15">
                    <a:moveTo>
                      <a:pt x="1166" y="15"/>
                    </a:moveTo>
                    <a:lnTo>
                      <a:pt x="663" y="15"/>
                    </a:lnTo>
                    <a:lnTo>
                      <a:pt x="658" y="0"/>
                    </a:lnTo>
                    <a:lnTo>
                      <a:pt x="1160" y="0"/>
                    </a:lnTo>
                    <a:lnTo>
                      <a:pt x="1166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803760" y="1236600"/>
                <a:ext cx="447120" cy="5400"/>
              </a:xfrm>
              <a:custGeom>
                <a:avLst/>
                <a:gdLst/>
                <a:ahLst/>
                <a:rect l="l" t="t" r="r" b="b"/>
                <a:pathLst>
                  <a:path w="1162" h="14">
                    <a:moveTo>
                      <a:pt x="1162" y="14"/>
                    </a:moveTo>
                    <a:lnTo>
                      <a:pt x="658" y="14"/>
                    </a:lnTo>
                    <a:lnTo>
                      <a:pt x="653" y="0"/>
                    </a:lnTo>
                    <a:lnTo>
                      <a:pt x="1156" y="0"/>
                    </a:lnTo>
                    <a:lnTo>
                      <a:pt x="1162" y="14"/>
                    </a:lnTo>
                    <a:close/>
                    <a:moveTo>
                      <a:pt x="47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805560" y="1233360"/>
                <a:ext cx="443880" cy="5040"/>
              </a:xfrm>
              <a:custGeom>
                <a:avLst/>
                <a:gdLst/>
                <a:ahLst/>
                <a:rect l="l" t="t" r="r" b="b"/>
                <a:pathLst>
                  <a:path w="1154" h="16">
                    <a:moveTo>
                      <a:pt x="1154" y="16"/>
                    </a:moveTo>
                    <a:lnTo>
                      <a:pt x="652" y="16"/>
                    </a:lnTo>
                    <a:lnTo>
                      <a:pt x="647" y="0"/>
                    </a:lnTo>
                    <a:lnTo>
                      <a:pt x="1149" y="0"/>
                    </a:lnTo>
                    <a:lnTo>
                      <a:pt x="1154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805560" y="1231560"/>
                <a:ext cx="441720" cy="5040"/>
              </a:xfrm>
              <a:custGeom>
                <a:avLst/>
                <a:gdLst/>
                <a:ahLst/>
                <a:rect l="l" t="t" r="r" b="b"/>
                <a:pathLst>
                  <a:path w="1150" h="16">
                    <a:moveTo>
                      <a:pt x="1150" y="16"/>
                    </a:moveTo>
                    <a:lnTo>
                      <a:pt x="647" y="16"/>
                    </a:lnTo>
                    <a:lnTo>
                      <a:pt x="643" y="0"/>
                    </a:lnTo>
                    <a:lnTo>
                      <a:pt x="1145" y="0"/>
                    </a:lnTo>
                    <a:lnTo>
                      <a:pt x="1150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807360" y="1227960"/>
                <a:ext cx="439920" cy="5400"/>
              </a:xfrm>
              <a:custGeom>
                <a:avLst/>
                <a:gdLst/>
                <a:ahLst/>
                <a:rect l="l" t="t" r="r" b="b"/>
                <a:pathLst>
                  <a:path w="1144" h="14">
                    <a:moveTo>
                      <a:pt x="1144" y="14"/>
                    </a:moveTo>
                    <a:lnTo>
                      <a:pt x="642" y="14"/>
                    </a:lnTo>
                    <a:lnTo>
                      <a:pt x="637" y="0"/>
                    </a:lnTo>
                    <a:lnTo>
                      <a:pt x="1140" y="0"/>
                    </a:lnTo>
                    <a:lnTo>
                      <a:pt x="1144" y="14"/>
                    </a:lnTo>
                    <a:close/>
                    <a:moveTo>
                      <a:pt x="4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807360" y="1226160"/>
                <a:ext cx="438120" cy="5040"/>
              </a:xfrm>
              <a:custGeom>
                <a:avLst/>
                <a:gdLst/>
                <a:ahLst/>
                <a:rect l="l" t="t" r="r" b="b"/>
                <a:pathLst>
                  <a:path w="1140" h="15">
                    <a:moveTo>
                      <a:pt x="1140" y="15"/>
                    </a:moveTo>
                    <a:lnTo>
                      <a:pt x="638" y="15"/>
                    </a:lnTo>
                    <a:lnTo>
                      <a:pt x="633" y="0"/>
                    </a:lnTo>
                    <a:lnTo>
                      <a:pt x="1135" y="0"/>
                    </a:lnTo>
                    <a:lnTo>
                      <a:pt x="114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809520" y="1222560"/>
                <a:ext cx="435960" cy="5040"/>
              </a:xfrm>
              <a:custGeom>
                <a:avLst/>
                <a:gdLst/>
                <a:ahLst/>
                <a:rect l="l" t="t" r="r" b="b"/>
                <a:pathLst>
                  <a:path w="1135" h="15">
                    <a:moveTo>
                      <a:pt x="1135" y="15"/>
                    </a:moveTo>
                    <a:lnTo>
                      <a:pt x="632" y="15"/>
                    </a:lnTo>
                    <a:lnTo>
                      <a:pt x="628" y="0"/>
                    </a:lnTo>
                    <a:lnTo>
                      <a:pt x="1130" y="0"/>
                    </a:lnTo>
                    <a:lnTo>
                      <a:pt x="1135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809520" y="1221120"/>
                <a:ext cx="433800" cy="5040"/>
              </a:xfrm>
              <a:custGeom>
                <a:avLst/>
                <a:gdLst/>
                <a:ahLst/>
                <a:rect l="l" t="t" r="r" b="b"/>
                <a:pathLst>
                  <a:path w="1130" h="15">
                    <a:moveTo>
                      <a:pt x="1130" y="15"/>
                    </a:moveTo>
                    <a:lnTo>
                      <a:pt x="628" y="15"/>
                    </a:lnTo>
                    <a:lnTo>
                      <a:pt x="624" y="0"/>
                    </a:lnTo>
                    <a:lnTo>
                      <a:pt x="1125" y="0"/>
                    </a:lnTo>
                    <a:lnTo>
                      <a:pt x="113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811320" y="1217520"/>
                <a:ext cx="432000" cy="5040"/>
              </a:xfrm>
              <a:custGeom>
                <a:avLst/>
                <a:gdLst/>
                <a:ahLst/>
                <a:rect l="l" t="t" r="r" b="b"/>
                <a:pathLst>
                  <a:path w="1125" h="16">
                    <a:moveTo>
                      <a:pt x="1125" y="16"/>
                    </a:moveTo>
                    <a:lnTo>
                      <a:pt x="623" y="16"/>
                    </a:lnTo>
                    <a:lnTo>
                      <a:pt x="618" y="0"/>
                    </a:lnTo>
                    <a:lnTo>
                      <a:pt x="1120" y="0"/>
                    </a:lnTo>
                    <a:lnTo>
                      <a:pt x="1125" y="16"/>
                    </a:lnTo>
                    <a:close/>
                    <a:moveTo>
                      <a:pt x="46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3" y="0"/>
                    </a:lnTo>
                    <a:lnTo>
                      <a:pt x="469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811320" y="1215360"/>
                <a:ext cx="430200" cy="5400"/>
              </a:xfrm>
              <a:custGeom>
                <a:avLst/>
                <a:gdLst/>
                <a:ahLst/>
                <a:rect l="l" t="t" r="r" b="b"/>
                <a:pathLst>
                  <a:path w="1120" h="15">
                    <a:moveTo>
                      <a:pt x="1120" y="15"/>
                    </a:moveTo>
                    <a:lnTo>
                      <a:pt x="619" y="15"/>
                    </a:lnTo>
                    <a:lnTo>
                      <a:pt x="614" y="0"/>
                    </a:lnTo>
                    <a:lnTo>
                      <a:pt x="1115" y="0"/>
                    </a:lnTo>
                    <a:lnTo>
                      <a:pt x="112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813480" y="1212120"/>
                <a:ext cx="428040" cy="5040"/>
              </a:xfrm>
              <a:custGeom>
                <a:avLst/>
                <a:gdLst/>
                <a:ahLst/>
                <a:rect l="l" t="t" r="r" b="b"/>
                <a:pathLst>
                  <a:path w="1114" h="15">
                    <a:moveTo>
                      <a:pt x="1114" y="15"/>
                    </a:moveTo>
                    <a:lnTo>
                      <a:pt x="612" y="15"/>
                    </a:lnTo>
                    <a:lnTo>
                      <a:pt x="607" y="0"/>
                    </a:lnTo>
                    <a:lnTo>
                      <a:pt x="1108" y="0"/>
                    </a:lnTo>
                    <a:lnTo>
                      <a:pt x="1114" y="15"/>
                    </a:lnTo>
                    <a:close/>
                    <a:moveTo>
                      <a:pt x="4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2" y="0"/>
                    </a:lnTo>
                    <a:lnTo>
                      <a:pt x="467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815280" y="1209960"/>
                <a:ext cx="424440" cy="5040"/>
              </a:xfrm>
              <a:custGeom>
                <a:avLst/>
                <a:gdLst/>
                <a:ahLst/>
                <a:rect l="l" t="t" r="r" b="b"/>
                <a:pathLst>
                  <a:path w="1109" h="15">
                    <a:moveTo>
                      <a:pt x="1109" y="15"/>
                    </a:moveTo>
                    <a:lnTo>
                      <a:pt x="608" y="15"/>
                    </a:lnTo>
                    <a:lnTo>
                      <a:pt x="603" y="0"/>
                    </a:lnTo>
                    <a:lnTo>
                      <a:pt x="1104" y="0"/>
                    </a:lnTo>
                    <a:lnTo>
                      <a:pt x="1109" y="15"/>
                    </a:lnTo>
                    <a:close/>
                    <a:moveTo>
                      <a:pt x="46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2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815280" y="1206360"/>
                <a:ext cx="424440" cy="5400"/>
              </a:xfrm>
              <a:custGeom>
                <a:avLst/>
                <a:gdLst/>
                <a:ahLst/>
                <a:rect l="l" t="t" r="r" b="b"/>
                <a:pathLst>
                  <a:path w="1103" h="14">
                    <a:moveTo>
                      <a:pt x="1103" y="14"/>
                    </a:moveTo>
                    <a:lnTo>
                      <a:pt x="602" y="14"/>
                    </a:lnTo>
                    <a:lnTo>
                      <a:pt x="598" y="0"/>
                    </a:lnTo>
                    <a:lnTo>
                      <a:pt x="1099" y="0"/>
                    </a:lnTo>
                    <a:lnTo>
                      <a:pt x="1103" y="14"/>
                    </a:lnTo>
                    <a:close/>
                    <a:moveTo>
                      <a:pt x="46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7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817080" y="12049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8" h="16">
                    <a:moveTo>
                      <a:pt x="1098" y="16"/>
                    </a:moveTo>
                    <a:lnTo>
                      <a:pt x="597" y="16"/>
                    </a:lnTo>
                    <a:lnTo>
                      <a:pt x="592" y="0"/>
                    </a:lnTo>
                    <a:lnTo>
                      <a:pt x="1093" y="0"/>
                    </a:lnTo>
                    <a:lnTo>
                      <a:pt x="1098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817080" y="12013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4" h="16">
                    <a:moveTo>
                      <a:pt x="1094" y="16"/>
                    </a:moveTo>
                    <a:lnTo>
                      <a:pt x="593" y="16"/>
                    </a:lnTo>
                    <a:lnTo>
                      <a:pt x="588" y="0"/>
                    </a:lnTo>
                    <a:lnTo>
                      <a:pt x="1089" y="0"/>
                    </a:lnTo>
                    <a:lnTo>
                      <a:pt x="1094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819240" y="11995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8" h="14">
                    <a:moveTo>
                      <a:pt x="1088" y="14"/>
                    </a:moveTo>
                    <a:lnTo>
                      <a:pt x="587" y="14"/>
                    </a:lnTo>
                    <a:lnTo>
                      <a:pt x="583" y="0"/>
                    </a:lnTo>
                    <a:lnTo>
                      <a:pt x="1083" y="0"/>
                    </a:lnTo>
                    <a:lnTo>
                      <a:pt x="1088" y="14"/>
                    </a:lnTo>
                    <a:close/>
                    <a:moveTo>
                      <a:pt x="46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5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819240" y="11959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4" h="15">
                    <a:moveTo>
                      <a:pt x="1084" y="15"/>
                    </a:moveTo>
                    <a:lnTo>
                      <a:pt x="583" y="15"/>
                    </a:lnTo>
                    <a:lnTo>
                      <a:pt x="579" y="0"/>
                    </a:lnTo>
                    <a:lnTo>
                      <a:pt x="1079" y="0"/>
                    </a:lnTo>
                    <a:lnTo>
                      <a:pt x="1084" y="15"/>
                    </a:lnTo>
                    <a:close/>
                    <a:moveTo>
                      <a:pt x="46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1" y="0"/>
                    </a:lnTo>
                    <a:lnTo>
                      <a:pt x="465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821040" y="11944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8" h="15">
                    <a:moveTo>
                      <a:pt x="1078" y="15"/>
                    </a:moveTo>
                    <a:lnTo>
                      <a:pt x="578" y="15"/>
                    </a:lnTo>
                    <a:lnTo>
                      <a:pt x="574" y="0"/>
                    </a:lnTo>
                    <a:lnTo>
                      <a:pt x="1073" y="0"/>
                    </a:lnTo>
                    <a:lnTo>
                      <a:pt x="1078" y="15"/>
                    </a:lnTo>
                    <a:close/>
                    <a:moveTo>
                      <a:pt x="4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0" y="0"/>
                    </a:lnTo>
                    <a:lnTo>
                      <a:pt x="466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821040" y="11908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3" h="16">
                    <a:moveTo>
                      <a:pt x="1073" y="16"/>
                    </a:moveTo>
                    <a:lnTo>
                      <a:pt x="573" y="16"/>
                    </a:lnTo>
                    <a:lnTo>
                      <a:pt x="568" y="0"/>
                    </a:lnTo>
                    <a:lnTo>
                      <a:pt x="1067" y="0"/>
                    </a:lnTo>
                    <a:lnTo>
                      <a:pt x="1073" y="16"/>
                    </a:lnTo>
                    <a:close/>
                    <a:moveTo>
                      <a:pt x="46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823200" y="11887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7" h="16">
                    <a:moveTo>
                      <a:pt x="1067" y="16"/>
                    </a:moveTo>
                    <a:lnTo>
                      <a:pt x="568" y="16"/>
                    </a:lnTo>
                    <a:lnTo>
                      <a:pt x="562" y="0"/>
                    </a:lnTo>
                    <a:lnTo>
                      <a:pt x="1062" y="0"/>
                    </a:lnTo>
                    <a:lnTo>
                      <a:pt x="1067" y="16"/>
                    </a:lnTo>
                    <a:close/>
                    <a:moveTo>
                      <a:pt x="46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823200" y="11851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2" h="14">
                    <a:moveTo>
                      <a:pt x="1062" y="14"/>
                    </a:moveTo>
                    <a:lnTo>
                      <a:pt x="563" y="14"/>
                    </a:lnTo>
                    <a:lnTo>
                      <a:pt x="558" y="0"/>
                    </a:lnTo>
                    <a:lnTo>
                      <a:pt x="1058" y="0"/>
                    </a:lnTo>
                    <a:lnTo>
                      <a:pt x="1062" y="14"/>
                    </a:lnTo>
                    <a:close/>
                    <a:moveTo>
                      <a:pt x="4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4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825000" y="11836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7" h="15">
                    <a:moveTo>
                      <a:pt x="1057" y="15"/>
                    </a:moveTo>
                    <a:lnTo>
                      <a:pt x="557" y="15"/>
                    </a:lnTo>
                    <a:lnTo>
                      <a:pt x="553" y="0"/>
                    </a:lnTo>
                    <a:lnTo>
                      <a:pt x="1052" y="0"/>
                    </a:lnTo>
                    <a:lnTo>
                      <a:pt x="105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825000" y="11800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3" h="15">
                    <a:moveTo>
                      <a:pt x="1053" y="15"/>
                    </a:moveTo>
                    <a:lnTo>
                      <a:pt x="553" y="15"/>
                    </a:lnTo>
                    <a:lnTo>
                      <a:pt x="549" y="0"/>
                    </a:lnTo>
                    <a:lnTo>
                      <a:pt x="1048" y="0"/>
                    </a:lnTo>
                    <a:lnTo>
                      <a:pt x="1053" y="15"/>
                    </a:lnTo>
                    <a:close/>
                    <a:moveTo>
                      <a:pt x="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3826440" y="11782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7" h="15">
                    <a:moveTo>
                      <a:pt x="1047" y="15"/>
                    </a:moveTo>
                    <a:lnTo>
                      <a:pt x="548" y="15"/>
                    </a:lnTo>
                    <a:lnTo>
                      <a:pt x="543" y="0"/>
                    </a:lnTo>
                    <a:lnTo>
                      <a:pt x="1042" y="0"/>
                    </a:lnTo>
                    <a:lnTo>
                      <a:pt x="104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3826440" y="11746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3" h="16">
                    <a:moveTo>
                      <a:pt x="1043" y="16"/>
                    </a:moveTo>
                    <a:lnTo>
                      <a:pt x="544" y="16"/>
                    </a:lnTo>
                    <a:lnTo>
                      <a:pt x="539" y="0"/>
                    </a:lnTo>
                    <a:lnTo>
                      <a:pt x="1038" y="0"/>
                    </a:lnTo>
                    <a:lnTo>
                      <a:pt x="1043" y="16"/>
                    </a:lnTo>
                    <a:close/>
                    <a:moveTo>
                      <a:pt x="46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8" y="0"/>
                    </a:lnTo>
                    <a:lnTo>
                      <a:pt x="463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3828600" y="1173240"/>
                <a:ext cx="397440" cy="5040"/>
              </a:xfrm>
              <a:custGeom>
                <a:avLst/>
                <a:gdLst/>
                <a:ahLst/>
                <a:rect l="l" t="t" r="r" b="b"/>
                <a:pathLst>
                  <a:path w="1037" h="15">
                    <a:moveTo>
                      <a:pt x="1037" y="15"/>
                    </a:moveTo>
                    <a:lnTo>
                      <a:pt x="538" y="15"/>
                    </a:lnTo>
                    <a:lnTo>
                      <a:pt x="534" y="0"/>
                    </a:lnTo>
                    <a:lnTo>
                      <a:pt x="1033" y="0"/>
                    </a:lnTo>
                    <a:lnTo>
                      <a:pt x="1037" y="15"/>
                    </a:lnTo>
                    <a:close/>
                    <a:moveTo>
                      <a:pt x="46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7" y="0"/>
                    </a:lnTo>
                    <a:lnTo>
                      <a:pt x="462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3830400" y="1169640"/>
                <a:ext cx="396000" cy="5040"/>
              </a:xfrm>
              <a:custGeom>
                <a:avLst/>
                <a:gdLst/>
                <a:ahLst/>
                <a:rect l="l" t="t" r="r" b="b"/>
                <a:pathLst>
                  <a:path w="1032" h="14">
                    <a:moveTo>
                      <a:pt x="1032" y="14"/>
                    </a:moveTo>
                    <a:lnTo>
                      <a:pt x="533" y="14"/>
                    </a:lnTo>
                    <a:lnTo>
                      <a:pt x="529" y="0"/>
                    </a:lnTo>
                    <a:lnTo>
                      <a:pt x="1026" y="0"/>
                    </a:lnTo>
                    <a:lnTo>
                      <a:pt x="1032" y="14"/>
                    </a:lnTo>
                    <a:close/>
                    <a:moveTo>
                      <a:pt x="46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2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3830400" y="1167480"/>
                <a:ext cx="396000" cy="5400"/>
              </a:xfrm>
              <a:custGeom>
                <a:avLst/>
                <a:gdLst/>
                <a:ahLst/>
                <a:rect l="l" t="t" r="r" b="b"/>
                <a:pathLst>
                  <a:path w="1027" h="15">
                    <a:moveTo>
                      <a:pt x="1027" y="15"/>
                    </a:moveTo>
                    <a:lnTo>
                      <a:pt x="528" y="15"/>
                    </a:lnTo>
                    <a:lnTo>
                      <a:pt x="524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832560" y="1164240"/>
                <a:ext cx="391320" cy="5040"/>
              </a:xfrm>
              <a:custGeom>
                <a:avLst/>
                <a:gdLst/>
                <a:ahLst/>
                <a:rect l="l" t="t" r="r" b="b"/>
                <a:pathLst>
                  <a:path w="1021" h="16">
                    <a:moveTo>
                      <a:pt x="1021" y="16"/>
                    </a:moveTo>
                    <a:lnTo>
                      <a:pt x="524" y="16"/>
                    </a:lnTo>
                    <a:lnTo>
                      <a:pt x="518" y="0"/>
                    </a:lnTo>
                    <a:lnTo>
                      <a:pt x="1017" y="0"/>
                    </a:lnTo>
                    <a:lnTo>
                      <a:pt x="1021" y="16"/>
                    </a:lnTo>
                    <a:close/>
                    <a:moveTo>
                      <a:pt x="46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2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832560" y="1160640"/>
                <a:ext cx="389880" cy="6480"/>
              </a:xfrm>
              <a:custGeom>
                <a:avLst/>
                <a:gdLst/>
                <a:ahLst/>
                <a:rect l="l" t="t" r="r" b="b"/>
                <a:pathLst>
                  <a:path w="1016" h="16">
                    <a:moveTo>
                      <a:pt x="1016" y="16"/>
                    </a:moveTo>
                    <a:lnTo>
                      <a:pt x="519" y="16"/>
                    </a:lnTo>
                    <a:lnTo>
                      <a:pt x="513" y="0"/>
                    </a:lnTo>
                    <a:lnTo>
                      <a:pt x="1011" y="0"/>
                    </a:lnTo>
                    <a:lnTo>
                      <a:pt x="1016" y="16"/>
                    </a:lnTo>
                    <a:close/>
                    <a:moveTo>
                      <a:pt x="46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3834360" y="1158840"/>
                <a:ext cx="388080" cy="5400"/>
              </a:xfrm>
              <a:custGeom>
                <a:avLst/>
                <a:gdLst/>
                <a:ahLst/>
                <a:rect l="l" t="t" r="r" b="b"/>
                <a:pathLst>
                  <a:path w="1012" h="15">
                    <a:moveTo>
                      <a:pt x="1012" y="15"/>
                    </a:moveTo>
                    <a:lnTo>
                      <a:pt x="513" y="15"/>
                    </a:lnTo>
                    <a:lnTo>
                      <a:pt x="509" y="0"/>
                    </a:lnTo>
                    <a:lnTo>
                      <a:pt x="1007" y="0"/>
                    </a:lnTo>
                    <a:lnTo>
                      <a:pt x="1012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3834360" y="1157040"/>
                <a:ext cx="385920" cy="3600"/>
              </a:xfrm>
              <a:custGeom>
                <a:avLst/>
                <a:gdLst/>
                <a:ahLst/>
                <a:rect l="l" t="t" r="r" b="b"/>
                <a:pathLst>
                  <a:path w="1006" h="14">
                    <a:moveTo>
                      <a:pt x="1006" y="14"/>
                    </a:moveTo>
                    <a:lnTo>
                      <a:pt x="508" y="14"/>
                    </a:lnTo>
                    <a:lnTo>
                      <a:pt x="504" y="0"/>
                    </a:lnTo>
                    <a:lnTo>
                      <a:pt x="1001" y="0"/>
                    </a:lnTo>
                    <a:lnTo>
                      <a:pt x="1006" y="14"/>
                    </a:lnTo>
                    <a:close/>
                    <a:moveTo>
                      <a:pt x="46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3836160" y="1153440"/>
                <a:ext cx="384120" cy="5040"/>
              </a:xfrm>
              <a:custGeom>
                <a:avLst/>
                <a:gdLst/>
                <a:ahLst/>
                <a:rect l="l" t="t" r="r" b="b"/>
                <a:pathLst>
                  <a:path w="1002" h="15">
                    <a:moveTo>
                      <a:pt x="1002" y="15"/>
                    </a:moveTo>
                    <a:lnTo>
                      <a:pt x="504" y="15"/>
                    </a:lnTo>
                    <a:lnTo>
                      <a:pt x="500" y="0"/>
                    </a:lnTo>
                    <a:lnTo>
                      <a:pt x="997" y="0"/>
                    </a:lnTo>
                    <a:lnTo>
                      <a:pt x="1002" y="15"/>
                    </a:lnTo>
                    <a:close/>
                    <a:moveTo>
                      <a:pt x="46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836160" y="1149840"/>
                <a:ext cx="382320" cy="7200"/>
              </a:xfrm>
              <a:custGeom>
                <a:avLst/>
                <a:gdLst/>
                <a:ahLst/>
                <a:rect l="l" t="t" r="r" b="b"/>
                <a:pathLst>
                  <a:path w="996" h="16">
                    <a:moveTo>
                      <a:pt x="996" y="16"/>
                    </a:moveTo>
                    <a:lnTo>
                      <a:pt x="499" y="16"/>
                    </a:lnTo>
                    <a:lnTo>
                      <a:pt x="494" y="0"/>
                    </a:lnTo>
                    <a:lnTo>
                      <a:pt x="992" y="0"/>
                    </a:lnTo>
                    <a:lnTo>
                      <a:pt x="996" y="16"/>
                    </a:lnTo>
                    <a:close/>
                    <a:moveTo>
                      <a:pt x="460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838320" y="11484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91" h="15">
                    <a:moveTo>
                      <a:pt x="991" y="15"/>
                    </a:moveTo>
                    <a:lnTo>
                      <a:pt x="494" y="15"/>
                    </a:lnTo>
                    <a:lnTo>
                      <a:pt x="489" y="0"/>
                    </a:lnTo>
                    <a:lnTo>
                      <a:pt x="985" y="0"/>
                    </a:lnTo>
                    <a:lnTo>
                      <a:pt x="991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4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838320" y="11448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86" h="15">
                    <a:moveTo>
                      <a:pt x="986" y="15"/>
                    </a:moveTo>
                    <a:lnTo>
                      <a:pt x="488" y="15"/>
                    </a:lnTo>
                    <a:lnTo>
                      <a:pt x="484" y="0"/>
                    </a:lnTo>
                    <a:lnTo>
                      <a:pt x="980" y="0"/>
                    </a:lnTo>
                    <a:lnTo>
                      <a:pt x="986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840120" y="1143000"/>
                <a:ext cx="376560" cy="5040"/>
              </a:xfrm>
              <a:custGeom>
                <a:avLst/>
                <a:gdLst/>
                <a:ahLst/>
                <a:rect l="l" t="t" r="r" b="b"/>
                <a:pathLst>
                  <a:path w="980" h="15">
                    <a:moveTo>
                      <a:pt x="980" y="15"/>
                    </a:moveTo>
                    <a:lnTo>
                      <a:pt x="484" y="15"/>
                    </a:lnTo>
                    <a:lnTo>
                      <a:pt x="480" y="0"/>
                    </a:lnTo>
                    <a:lnTo>
                      <a:pt x="975" y="0"/>
                    </a:lnTo>
                    <a:lnTo>
                      <a:pt x="980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840120" y="1141200"/>
                <a:ext cx="374400" cy="3600"/>
              </a:xfrm>
              <a:custGeom>
                <a:avLst/>
                <a:gdLst/>
                <a:ahLst/>
                <a:rect l="l" t="t" r="r" b="b"/>
                <a:pathLst>
                  <a:path w="975" h="14">
                    <a:moveTo>
                      <a:pt x="975" y="14"/>
                    </a:moveTo>
                    <a:lnTo>
                      <a:pt x="479" y="14"/>
                    </a:lnTo>
                    <a:lnTo>
                      <a:pt x="475" y="0"/>
                    </a:lnTo>
                    <a:lnTo>
                      <a:pt x="970" y="0"/>
                    </a:lnTo>
                    <a:lnTo>
                      <a:pt x="975" y="14"/>
                    </a:lnTo>
                    <a:close/>
                    <a:moveTo>
                      <a:pt x="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842280" y="1137600"/>
                <a:ext cx="372240" cy="5400"/>
              </a:xfrm>
              <a:custGeom>
                <a:avLst/>
                <a:gdLst/>
                <a:ahLst/>
                <a:rect l="l" t="t" r="r" b="b"/>
                <a:pathLst>
                  <a:path w="970" h="15">
                    <a:moveTo>
                      <a:pt x="970" y="15"/>
                    </a:moveTo>
                    <a:lnTo>
                      <a:pt x="475" y="15"/>
                    </a:lnTo>
                    <a:lnTo>
                      <a:pt x="469" y="0"/>
                    </a:lnTo>
                    <a:lnTo>
                      <a:pt x="966" y="0"/>
                    </a:lnTo>
                    <a:lnTo>
                      <a:pt x="970" y="15"/>
                    </a:lnTo>
                    <a:close/>
                    <a:moveTo>
                      <a:pt x="45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842280" y="1134360"/>
                <a:ext cx="370440" cy="6480"/>
              </a:xfrm>
              <a:custGeom>
                <a:avLst/>
                <a:gdLst/>
                <a:ahLst/>
                <a:rect l="l" t="t" r="r" b="b"/>
                <a:pathLst>
                  <a:path w="965" h="16">
                    <a:moveTo>
                      <a:pt x="965" y="16"/>
                    </a:moveTo>
                    <a:lnTo>
                      <a:pt x="470" y="16"/>
                    </a:lnTo>
                    <a:lnTo>
                      <a:pt x="464" y="0"/>
                    </a:lnTo>
                    <a:lnTo>
                      <a:pt x="960" y="0"/>
                    </a:lnTo>
                    <a:lnTo>
                      <a:pt x="965" y="16"/>
                    </a:lnTo>
                    <a:close/>
                    <a:moveTo>
                      <a:pt x="45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2" y="0"/>
                    </a:lnTo>
                    <a:lnTo>
                      <a:pt x="458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844080" y="1132200"/>
                <a:ext cx="369000" cy="5040"/>
              </a:xfrm>
              <a:custGeom>
                <a:avLst/>
                <a:gdLst/>
                <a:ahLst/>
                <a:rect l="l" t="t" r="r" b="b"/>
                <a:pathLst>
                  <a:path w="961" h="16">
                    <a:moveTo>
                      <a:pt x="961" y="16"/>
                    </a:moveTo>
                    <a:lnTo>
                      <a:pt x="464" y="16"/>
                    </a:lnTo>
                    <a:lnTo>
                      <a:pt x="461" y="5"/>
                    </a:lnTo>
                    <a:lnTo>
                      <a:pt x="458" y="16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956" y="0"/>
                    </a:lnTo>
                    <a:lnTo>
                      <a:pt x="961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844080" y="1128600"/>
                <a:ext cx="366480" cy="5400"/>
              </a:xfrm>
              <a:custGeom>
                <a:avLst/>
                <a:gdLst/>
                <a:ahLst/>
                <a:rect l="l" t="t" r="r" b="b"/>
                <a:pathLst>
                  <a:path w="955" h="15">
                    <a:moveTo>
                      <a:pt x="955" y="15"/>
                    </a:moveTo>
                    <a:lnTo>
                      <a:pt x="459" y="15"/>
                    </a:lnTo>
                    <a:lnTo>
                      <a:pt x="458" y="12"/>
                    </a:lnTo>
                    <a:lnTo>
                      <a:pt x="457" y="15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51" y="0"/>
                    </a:lnTo>
                    <a:lnTo>
                      <a:pt x="955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846240" y="1127160"/>
                <a:ext cx="364320" cy="5040"/>
              </a:xfrm>
              <a:custGeom>
                <a:avLst/>
                <a:gdLst/>
                <a:ahLst/>
                <a:rect l="l" t="t" r="r" b="b"/>
                <a:pathLst>
                  <a:path w="949" h="14">
                    <a:moveTo>
                      <a:pt x="94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943" y="0"/>
                    </a:lnTo>
                    <a:lnTo>
                      <a:pt x="949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848040" y="112356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945" h="15">
                    <a:moveTo>
                      <a:pt x="94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39" y="0"/>
                    </a:lnTo>
                    <a:lnTo>
                      <a:pt x="945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848040" y="1121760"/>
                <a:ext cx="361080" cy="5040"/>
              </a:xfrm>
              <a:custGeom>
                <a:avLst/>
                <a:gdLst/>
                <a:ahLst/>
                <a:rect l="l" t="t" r="r" b="b"/>
                <a:pathLst>
                  <a:path w="938" h="16">
                    <a:moveTo>
                      <a:pt x="93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33" y="0"/>
                    </a:lnTo>
                    <a:lnTo>
                      <a:pt x="938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849480" y="111816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34" h="15">
                    <a:moveTo>
                      <a:pt x="9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9" y="0"/>
                    </a:lnTo>
                    <a:lnTo>
                      <a:pt x="93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849480" y="111672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28" h="15">
                    <a:moveTo>
                      <a:pt x="9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4" y="0"/>
                    </a:lnTo>
                    <a:lnTo>
                      <a:pt x="928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852000" y="1113120"/>
                <a:ext cx="353160" cy="5040"/>
              </a:xfrm>
              <a:custGeom>
                <a:avLst/>
                <a:gdLst/>
                <a:ahLst/>
                <a:rect l="l" t="t" r="r" b="b"/>
                <a:pathLst>
                  <a:path w="924" h="15">
                    <a:moveTo>
                      <a:pt x="92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19" y="0"/>
                    </a:lnTo>
                    <a:lnTo>
                      <a:pt x="92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3852000" y="1110960"/>
                <a:ext cx="353160" cy="5400"/>
              </a:xfrm>
              <a:custGeom>
                <a:avLst/>
                <a:gdLst/>
                <a:ahLst/>
                <a:rect l="l" t="t" r="r" b="b"/>
                <a:pathLst>
                  <a:path w="919" h="14">
                    <a:moveTo>
                      <a:pt x="919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914" y="0"/>
                    </a:lnTo>
                    <a:lnTo>
                      <a:pt x="919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853440" y="1107360"/>
                <a:ext cx="349560" cy="5400"/>
              </a:xfrm>
              <a:custGeom>
                <a:avLst/>
                <a:gdLst/>
                <a:ahLst/>
                <a:rect l="l" t="t" r="r" b="b"/>
                <a:pathLst>
                  <a:path w="914" h="16">
                    <a:moveTo>
                      <a:pt x="91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910" y="0"/>
                    </a:lnTo>
                    <a:lnTo>
                      <a:pt x="914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853440" y="1105920"/>
                <a:ext cx="349560" cy="5040"/>
              </a:xfrm>
              <a:custGeom>
                <a:avLst/>
                <a:gdLst/>
                <a:ahLst/>
                <a:rect l="l" t="t" r="r" b="b"/>
                <a:pathLst>
                  <a:path w="908" h="16">
                    <a:moveTo>
                      <a:pt x="90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03" y="0"/>
                    </a:lnTo>
                    <a:lnTo>
                      <a:pt x="908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855600" y="1102320"/>
                <a:ext cx="347400" cy="5040"/>
              </a:xfrm>
              <a:custGeom>
                <a:avLst/>
                <a:gdLst/>
                <a:ahLst/>
                <a:rect l="l" t="t" r="r" b="b"/>
                <a:pathLst>
                  <a:path w="904" h="15">
                    <a:moveTo>
                      <a:pt x="90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8" y="0"/>
                    </a:lnTo>
                    <a:lnTo>
                      <a:pt x="904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855600" y="1100520"/>
                <a:ext cx="345240" cy="5040"/>
              </a:xfrm>
              <a:custGeom>
                <a:avLst/>
                <a:gdLst/>
                <a:ahLst/>
                <a:rect l="l" t="t" r="r" b="b"/>
                <a:pathLst>
                  <a:path w="898" h="15">
                    <a:moveTo>
                      <a:pt x="89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2" y="0"/>
                    </a:lnTo>
                    <a:lnTo>
                      <a:pt x="898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3857400" y="109692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93" h="14">
                    <a:moveTo>
                      <a:pt x="89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88" y="0"/>
                    </a:lnTo>
                    <a:lnTo>
                      <a:pt x="893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3857400" y="109548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87" h="16">
                    <a:moveTo>
                      <a:pt x="8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83" y="0"/>
                    </a:lnTo>
                    <a:lnTo>
                      <a:pt x="8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3859200" y="1091880"/>
                <a:ext cx="338400" cy="5040"/>
              </a:xfrm>
              <a:custGeom>
                <a:avLst/>
                <a:gdLst/>
                <a:ahLst/>
                <a:rect l="l" t="t" r="r" b="b"/>
                <a:pathLst>
                  <a:path w="883" h="16">
                    <a:moveTo>
                      <a:pt x="8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78" y="0"/>
                    </a:lnTo>
                    <a:lnTo>
                      <a:pt x="883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3859200" y="1089720"/>
                <a:ext cx="338400" cy="5400"/>
              </a:xfrm>
              <a:custGeom>
                <a:avLst/>
                <a:gdLst/>
                <a:ahLst/>
                <a:rect l="l" t="t" r="r" b="b"/>
                <a:pathLst>
                  <a:path w="878" h="14">
                    <a:moveTo>
                      <a:pt x="87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873" y="0"/>
                    </a:lnTo>
                    <a:lnTo>
                      <a:pt x="87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3861720" y="928800"/>
              <a:ext cx="783360" cy="679320"/>
              <a:chOff x="3861720" y="928800"/>
              <a:chExt cx="783360" cy="679320"/>
            </a:xfrm>
          </p:grpSpPr>
          <p:sp>
            <p:nvSpPr>
              <p:cNvPr id="4266" name=""/>
              <p:cNvSpPr/>
              <p:nvPr/>
            </p:nvSpPr>
            <p:spPr>
              <a:xfrm>
                <a:off x="3861720" y="1086480"/>
                <a:ext cx="334080" cy="5040"/>
              </a:xfrm>
              <a:custGeom>
                <a:avLst/>
                <a:gdLst/>
                <a:ahLst/>
                <a:rect l="l" t="t" r="r" b="b"/>
                <a:pathLst>
                  <a:path w="873" h="15">
                    <a:moveTo>
                      <a:pt x="87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69" y="0"/>
                    </a:lnTo>
                    <a:lnTo>
                      <a:pt x="873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3863160" y="1084320"/>
                <a:ext cx="332280" cy="5040"/>
              </a:xfrm>
              <a:custGeom>
                <a:avLst/>
                <a:gdLst/>
                <a:ahLst/>
                <a:rect l="l" t="t" r="r" b="b"/>
                <a:pathLst>
                  <a:path w="867" h="15">
                    <a:moveTo>
                      <a:pt x="8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62" y="0"/>
                    </a:lnTo>
                    <a:lnTo>
                      <a:pt x="86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3863160" y="1080720"/>
                <a:ext cx="332280" cy="5400"/>
              </a:xfrm>
              <a:custGeom>
                <a:avLst/>
                <a:gdLst/>
                <a:ahLst/>
                <a:rect l="l" t="t" r="r" b="b"/>
                <a:pathLst>
                  <a:path w="863" h="16">
                    <a:moveTo>
                      <a:pt x="86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7" y="0"/>
                    </a:lnTo>
                    <a:lnTo>
                      <a:pt x="863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3865320" y="1079280"/>
                <a:ext cx="328320" cy="5040"/>
              </a:xfrm>
              <a:custGeom>
                <a:avLst/>
                <a:gdLst/>
                <a:ahLst/>
                <a:rect l="l" t="t" r="r" b="b"/>
                <a:pathLst>
                  <a:path w="857" h="16">
                    <a:moveTo>
                      <a:pt x="85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1" y="0"/>
                    </a:lnTo>
                    <a:lnTo>
                      <a:pt x="85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3865320" y="1075680"/>
                <a:ext cx="326160" cy="5040"/>
              </a:xfrm>
              <a:custGeom>
                <a:avLst/>
                <a:gdLst/>
                <a:ahLst/>
                <a:rect l="l" t="t" r="r" b="b"/>
                <a:pathLst>
                  <a:path w="852" h="14">
                    <a:moveTo>
                      <a:pt x="85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47" y="0"/>
                    </a:lnTo>
                    <a:lnTo>
                      <a:pt x="852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3867120" y="1073880"/>
                <a:ext cx="324360" cy="5040"/>
              </a:xfrm>
              <a:custGeom>
                <a:avLst/>
                <a:gdLst/>
                <a:ahLst/>
                <a:rect l="l" t="t" r="r" b="b"/>
                <a:pathLst>
                  <a:path w="846" h="15">
                    <a:moveTo>
                      <a:pt x="84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42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3867120" y="1070280"/>
                <a:ext cx="322560" cy="5040"/>
              </a:xfrm>
              <a:custGeom>
                <a:avLst/>
                <a:gdLst/>
                <a:ahLst/>
                <a:rect l="l" t="t" r="r" b="b"/>
                <a:pathLst>
                  <a:path w="842" h="15">
                    <a:moveTo>
                      <a:pt x="8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37" y="0"/>
                    </a:lnTo>
                    <a:lnTo>
                      <a:pt x="842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3868920" y="1068480"/>
                <a:ext cx="320760" cy="5400"/>
              </a:xfrm>
              <a:custGeom>
                <a:avLst/>
                <a:gdLst/>
                <a:ahLst/>
                <a:rect l="l" t="t" r="r" b="b"/>
                <a:pathLst>
                  <a:path w="837" h="15">
                    <a:moveTo>
                      <a:pt x="83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32" y="0"/>
                    </a:lnTo>
                    <a:lnTo>
                      <a:pt x="837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3868920" y="1065240"/>
                <a:ext cx="318600" cy="5040"/>
              </a:xfrm>
              <a:custGeom>
                <a:avLst/>
                <a:gdLst/>
                <a:ahLst/>
                <a:rect l="l" t="t" r="r" b="b"/>
                <a:pathLst>
                  <a:path w="832" h="16">
                    <a:moveTo>
                      <a:pt x="832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827" y="0"/>
                    </a:lnTo>
                    <a:lnTo>
                      <a:pt x="832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3871080" y="1063080"/>
                <a:ext cx="316440" cy="5040"/>
              </a:xfrm>
              <a:custGeom>
                <a:avLst/>
                <a:gdLst/>
                <a:ahLst/>
                <a:rect l="l" t="t" r="r" b="b"/>
                <a:pathLst>
                  <a:path w="826" h="15">
                    <a:moveTo>
                      <a:pt x="82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21" y="0"/>
                    </a:lnTo>
                    <a:lnTo>
                      <a:pt x="826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3871080" y="1059480"/>
                <a:ext cx="314640" cy="5400"/>
              </a:xfrm>
              <a:custGeom>
                <a:avLst/>
                <a:gdLst/>
                <a:ahLst/>
                <a:rect l="l" t="t" r="r" b="b"/>
                <a:pathLst>
                  <a:path w="821" h="14">
                    <a:moveTo>
                      <a:pt x="821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17" y="0"/>
                    </a:lnTo>
                    <a:lnTo>
                      <a:pt x="821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3872880" y="10580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6" h="15">
                    <a:moveTo>
                      <a:pt x="8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10" y="0"/>
                    </a:lnTo>
                    <a:lnTo>
                      <a:pt x="816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3872880" y="10544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2" h="15">
                    <a:moveTo>
                      <a:pt x="81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06" y="0"/>
                    </a:lnTo>
                    <a:lnTo>
                      <a:pt x="812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3875040" y="1050480"/>
                <a:ext cx="309240" cy="7200"/>
              </a:xfrm>
              <a:custGeom>
                <a:avLst/>
                <a:gdLst/>
                <a:ahLst/>
                <a:rect l="l" t="t" r="r" b="b"/>
                <a:pathLst>
                  <a:path w="805" h="16">
                    <a:moveTo>
                      <a:pt x="8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01" y="0"/>
                    </a:lnTo>
                    <a:lnTo>
                      <a:pt x="805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3875040" y="1049040"/>
                <a:ext cx="307080" cy="5040"/>
              </a:xfrm>
              <a:custGeom>
                <a:avLst/>
                <a:gdLst/>
                <a:ahLst/>
                <a:rect l="l" t="t" r="r" b="b"/>
                <a:pathLst>
                  <a:path w="801" h="16">
                    <a:moveTo>
                      <a:pt x="80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96" y="0"/>
                    </a:lnTo>
                    <a:lnTo>
                      <a:pt x="801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3876840" y="1047600"/>
                <a:ext cx="305280" cy="2880"/>
              </a:xfrm>
              <a:custGeom>
                <a:avLst/>
                <a:gdLst/>
                <a:ahLst/>
                <a:rect l="l" t="t" r="r" b="b"/>
                <a:pathLst>
                  <a:path w="796" h="14">
                    <a:moveTo>
                      <a:pt x="79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91" y="0"/>
                    </a:lnTo>
                    <a:lnTo>
                      <a:pt x="796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3876840" y="1044000"/>
                <a:ext cx="303480" cy="5040"/>
              </a:xfrm>
              <a:custGeom>
                <a:avLst/>
                <a:gdLst/>
                <a:ahLst/>
                <a:rect l="l" t="t" r="r" b="b"/>
                <a:pathLst>
                  <a:path w="791" h="15">
                    <a:moveTo>
                      <a:pt x="791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786" y="0"/>
                    </a:lnTo>
                    <a:lnTo>
                      <a:pt x="7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3879000" y="1041840"/>
                <a:ext cx="301320" cy="5400"/>
              </a:xfrm>
              <a:custGeom>
                <a:avLst/>
                <a:gdLst/>
                <a:ahLst/>
                <a:rect l="l" t="t" r="r" b="b"/>
                <a:pathLst>
                  <a:path w="785" h="15">
                    <a:moveTo>
                      <a:pt x="7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80" y="0"/>
                    </a:lnTo>
                    <a:lnTo>
                      <a:pt x="785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880800" y="1038240"/>
                <a:ext cx="297360" cy="5400"/>
              </a:xfrm>
              <a:custGeom>
                <a:avLst/>
                <a:gdLst/>
                <a:ahLst/>
                <a:rect l="l" t="t" r="r" b="b"/>
                <a:pathLst>
                  <a:path w="779" h="15">
                    <a:moveTo>
                      <a:pt x="7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75" y="0"/>
                    </a:lnTo>
                    <a:lnTo>
                      <a:pt x="779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3880800" y="1035000"/>
                <a:ext cx="297360" cy="6480"/>
              </a:xfrm>
              <a:custGeom>
                <a:avLst/>
                <a:gdLst/>
                <a:ahLst/>
                <a:rect l="l" t="t" r="r" b="b"/>
                <a:pathLst>
                  <a:path w="775" h="16">
                    <a:moveTo>
                      <a:pt x="77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69" y="0"/>
                    </a:lnTo>
                    <a:lnTo>
                      <a:pt x="775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3882600" y="1032840"/>
                <a:ext cx="295560" cy="5040"/>
              </a:xfrm>
              <a:custGeom>
                <a:avLst/>
                <a:gdLst/>
                <a:ahLst/>
                <a:rect l="l" t="t" r="r" b="b"/>
                <a:pathLst>
                  <a:path w="770" h="15">
                    <a:moveTo>
                      <a:pt x="77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64" y="0"/>
                    </a:lnTo>
                    <a:lnTo>
                      <a:pt x="770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3882600" y="1031400"/>
                <a:ext cx="293760" cy="3600"/>
              </a:xfrm>
              <a:custGeom>
                <a:avLst/>
                <a:gdLst/>
                <a:ahLst/>
                <a:rect l="l" t="t" r="r" b="b"/>
                <a:pathLst>
                  <a:path w="764" h="14">
                    <a:moveTo>
                      <a:pt x="7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60" y="0"/>
                    </a:lnTo>
                    <a:lnTo>
                      <a:pt x="764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3884760" y="1027800"/>
                <a:ext cx="289800" cy="5040"/>
              </a:xfrm>
              <a:custGeom>
                <a:avLst/>
                <a:gdLst/>
                <a:ahLst/>
                <a:rect l="l" t="t" r="r" b="b"/>
                <a:pathLst>
                  <a:path w="759" h="15">
                    <a:moveTo>
                      <a:pt x="7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54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3884760" y="1024200"/>
                <a:ext cx="289800" cy="7200"/>
              </a:xfrm>
              <a:custGeom>
                <a:avLst/>
                <a:gdLst/>
                <a:ahLst/>
                <a:rect l="l" t="t" r="r" b="b"/>
                <a:pathLst>
                  <a:path w="755" h="16">
                    <a:moveTo>
                      <a:pt x="75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50" y="0"/>
                    </a:lnTo>
                    <a:lnTo>
                      <a:pt x="755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3886200" y="10224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9" h="16">
                    <a:moveTo>
                      <a:pt x="74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44" y="0"/>
                    </a:lnTo>
                    <a:lnTo>
                      <a:pt x="749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3886200" y="10188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4" h="15">
                    <a:moveTo>
                      <a:pt x="74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39" y="0"/>
                    </a:lnTo>
                    <a:lnTo>
                      <a:pt x="744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3888720" y="10173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8" h="14">
                    <a:moveTo>
                      <a:pt x="73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34" y="0"/>
                    </a:lnTo>
                    <a:lnTo>
                      <a:pt x="73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3888720" y="10137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4" h="15">
                    <a:moveTo>
                      <a:pt x="7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28" y="0"/>
                    </a:lnTo>
                    <a:lnTo>
                      <a:pt x="734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3890160" y="1011600"/>
                <a:ext cx="280440" cy="5400"/>
              </a:xfrm>
              <a:custGeom>
                <a:avLst/>
                <a:gdLst/>
                <a:ahLst/>
                <a:rect l="l" t="t" r="r" b="b"/>
                <a:pathLst>
                  <a:path w="729" h="16">
                    <a:moveTo>
                      <a:pt x="72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23" y="0"/>
                    </a:lnTo>
                    <a:lnTo>
                      <a:pt x="729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3890160" y="1008360"/>
                <a:ext cx="278280" cy="5040"/>
              </a:xfrm>
              <a:custGeom>
                <a:avLst/>
                <a:gdLst/>
                <a:ahLst/>
                <a:rect l="l" t="t" r="r" b="b"/>
                <a:pathLst>
                  <a:path w="723" h="15">
                    <a:moveTo>
                      <a:pt x="7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9" y="0"/>
                    </a:lnTo>
                    <a:lnTo>
                      <a:pt x="7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3891960" y="1006560"/>
                <a:ext cx="274680" cy="5040"/>
              </a:xfrm>
              <a:custGeom>
                <a:avLst/>
                <a:gdLst/>
                <a:ahLst/>
                <a:rect l="l" t="t" r="r" b="b"/>
                <a:pathLst>
                  <a:path w="718" h="15">
                    <a:moveTo>
                      <a:pt x="7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3" y="0"/>
                    </a:lnTo>
                    <a:lnTo>
                      <a:pt x="718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3891960" y="1002960"/>
                <a:ext cx="274680" cy="5400"/>
              </a:xfrm>
              <a:custGeom>
                <a:avLst/>
                <a:gdLst/>
                <a:ahLst/>
                <a:rect l="l" t="t" r="r" b="b"/>
                <a:pathLst>
                  <a:path w="714" h="15">
                    <a:moveTo>
                      <a:pt x="71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709" y="0"/>
                    </a:lnTo>
                    <a:lnTo>
                      <a:pt x="71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3894120" y="10011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8" h="14">
                    <a:moveTo>
                      <a:pt x="70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03" y="0"/>
                    </a:lnTo>
                    <a:lnTo>
                      <a:pt x="70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3894120" y="9975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3" h="16">
                    <a:moveTo>
                      <a:pt x="70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8" y="0"/>
                    </a:lnTo>
                    <a:lnTo>
                      <a:pt x="703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3895920" y="9961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7" h="16">
                    <a:moveTo>
                      <a:pt x="69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3" y="0"/>
                    </a:lnTo>
                    <a:lnTo>
                      <a:pt x="697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3895920" y="9925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3" h="15">
                    <a:moveTo>
                      <a:pt x="69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8" y="0"/>
                    </a:lnTo>
                    <a:lnTo>
                      <a:pt x="693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3898080" y="990360"/>
                <a:ext cx="264600" cy="5400"/>
              </a:xfrm>
              <a:custGeom>
                <a:avLst/>
                <a:gdLst/>
                <a:ahLst/>
                <a:rect l="l" t="t" r="r" b="b"/>
                <a:pathLst>
                  <a:path w="688" h="15">
                    <a:moveTo>
                      <a:pt x="68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2" y="0"/>
                    </a:lnTo>
                    <a:lnTo>
                      <a:pt x="688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3898080" y="987120"/>
                <a:ext cx="262800" cy="5040"/>
              </a:xfrm>
              <a:custGeom>
                <a:avLst/>
                <a:gdLst/>
                <a:ahLst/>
                <a:rect l="l" t="t" r="r" b="b"/>
                <a:pathLst>
                  <a:path w="683" h="14">
                    <a:moveTo>
                      <a:pt x="6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78" y="0"/>
                    </a:lnTo>
                    <a:lnTo>
                      <a:pt x="683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899880" y="985320"/>
                <a:ext cx="258840" cy="5040"/>
              </a:xfrm>
              <a:custGeom>
                <a:avLst/>
                <a:gdLst/>
                <a:ahLst/>
                <a:rect l="l" t="t" r="r" b="b"/>
                <a:pathLst>
                  <a:path w="677" h="16">
                    <a:moveTo>
                      <a:pt x="6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72" y="0"/>
                    </a:lnTo>
                    <a:lnTo>
                      <a:pt x="677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3899880" y="981720"/>
                <a:ext cx="258840" cy="5400"/>
              </a:xfrm>
              <a:custGeom>
                <a:avLst/>
                <a:gdLst/>
                <a:ahLst/>
                <a:rect l="l" t="t" r="r" b="b"/>
                <a:pathLst>
                  <a:path w="673" h="16">
                    <a:moveTo>
                      <a:pt x="67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668" y="0"/>
                    </a:lnTo>
                    <a:lnTo>
                      <a:pt x="673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3901680" y="979920"/>
                <a:ext cx="255600" cy="5040"/>
              </a:xfrm>
              <a:custGeom>
                <a:avLst/>
                <a:gdLst/>
                <a:ahLst/>
                <a:rect l="l" t="t" r="r" b="b"/>
                <a:pathLst>
                  <a:path w="667" h="14">
                    <a:moveTo>
                      <a:pt x="66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62" y="0"/>
                    </a:lnTo>
                    <a:lnTo>
                      <a:pt x="66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3903840" y="976320"/>
                <a:ext cx="253440" cy="5040"/>
              </a:xfrm>
              <a:custGeom>
                <a:avLst/>
                <a:gdLst/>
                <a:ahLst/>
                <a:rect l="l" t="t" r="r" b="b"/>
                <a:pathLst>
                  <a:path w="662" h="15">
                    <a:moveTo>
                      <a:pt x="66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7" y="0"/>
                    </a:lnTo>
                    <a:lnTo>
                      <a:pt x="662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3903840" y="974880"/>
                <a:ext cx="251640" cy="5040"/>
              </a:xfrm>
              <a:custGeom>
                <a:avLst/>
                <a:gdLst/>
                <a:ahLst/>
                <a:rect l="l" t="t" r="r" b="b"/>
                <a:pathLst>
                  <a:path w="656" h="15">
                    <a:moveTo>
                      <a:pt x="65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2" y="0"/>
                    </a:lnTo>
                    <a:lnTo>
                      <a:pt x="656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905640" y="9712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52" h="15">
                    <a:moveTo>
                      <a:pt x="65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47" y="0"/>
                    </a:lnTo>
                    <a:lnTo>
                      <a:pt x="65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905640" y="9694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47" h="16">
                    <a:moveTo>
                      <a:pt x="64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41" y="0"/>
                    </a:lnTo>
                    <a:lnTo>
                      <a:pt x="647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3907800" y="965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642" h="15">
                    <a:moveTo>
                      <a:pt x="6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7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3907800" y="964080"/>
                <a:ext cx="243720" cy="5400"/>
              </a:xfrm>
              <a:custGeom>
                <a:avLst/>
                <a:gdLst/>
                <a:ahLst/>
                <a:rect l="l" t="t" r="r" b="b"/>
                <a:pathLst>
                  <a:path w="636" h="15">
                    <a:moveTo>
                      <a:pt x="63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1" y="0"/>
                    </a:lnTo>
                    <a:lnTo>
                      <a:pt x="63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3909600" y="960480"/>
                <a:ext cx="241920" cy="5400"/>
              </a:xfrm>
              <a:custGeom>
                <a:avLst/>
                <a:gdLst/>
                <a:ahLst/>
                <a:rect l="l" t="t" r="r" b="b"/>
                <a:pathLst>
                  <a:path w="632" h="15">
                    <a:moveTo>
                      <a:pt x="632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627" y="0"/>
                    </a:lnTo>
                    <a:lnTo>
                      <a:pt x="632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909600" y="958680"/>
                <a:ext cx="239760" cy="5040"/>
              </a:xfrm>
              <a:custGeom>
                <a:avLst/>
                <a:gdLst/>
                <a:ahLst/>
                <a:rect l="l" t="t" r="r" b="b"/>
                <a:pathLst>
                  <a:path w="626" h="14">
                    <a:moveTo>
                      <a:pt x="62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21" y="0"/>
                    </a:lnTo>
                    <a:lnTo>
                      <a:pt x="626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3911040" y="955080"/>
                <a:ext cx="237960" cy="5040"/>
              </a:xfrm>
              <a:custGeom>
                <a:avLst/>
                <a:gdLst/>
                <a:ahLst/>
                <a:rect l="l" t="t" r="r" b="b"/>
                <a:pathLst>
                  <a:path w="620" h="16">
                    <a:moveTo>
                      <a:pt x="6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5" y="0"/>
                    </a:lnTo>
                    <a:lnTo>
                      <a:pt x="62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3911040" y="953640"/>
                <a:ext cx="236520" cy="5040"/>
              </a:xfrm>
              <a:custGeom>
                <a:avLst/>
                <a:gdLst/>
                <a:ahLst/>
                <a:rect l="l" t="t" r="r" b="b"/>
                <a:pathLst>
                  <a:path w="615" h="16">
                    <a:moveTo>
                      <a:pt x="6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1" y="0"/>
                    </a:lnTo>
                    <a:lnTo>
                      <a:pt x="615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3913200" y="9500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10" h="14">
                    <a:moveTo>
                      <a:pt x="61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05" y="0"/>
                    </a:lnTo>
                    <a:lnTo>
                      <a:pt x="610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913200" y="9482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06" h="15">
                    <a:moveTo>
                      <a:pt x="60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01" y="0"/>
                    </a:lnTo>
                    <a:lnTo>
                      <a:pt x="60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3915000" y="944640"/>
                <a:ext cx="230400" cy="5040"/>
              </a:xfrm>
              <a:custGeom>
                <a:avLst/>
                <a:gdLst/>
                <a:ahLst/>
                <a:rect l="l" t="t" r="r" b="b"/>
                <a:pathLst>
                  <a:path w="600" h="15">
                    <a:moveTo>
                      <a:pt x="6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4" y="0"/>
                    </a:lnTo>
                    <a:lnTo>
                      <a:pt x="600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3915000" y="942840"/>
                <a:ext cx="230400" cy="5400"/>
              </a:xfrm>
              <a:custGeom>
                <a:avLst/>
                <a:gdLst/>
                <a:ahLst/>
                <a:rect l="l" t="t" r="r" b="b"/>
                <a:pathLst>
                  <a:path w="596" h="15">
                    <a:moveTo>
                      <a:pt x="5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0" y="0"/>
                    </a:lnTo>
                    <a:lnTo>
                      <a:pt x="59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3917160" y="939600"/>
                <a:ext cx="226440" cy="5040"/>
              </a:xfrm>
              <a:custGeom>
                <a:avLst/>
                <a:gdLst/>
                <a:ahLst/>
                <a:rect l="l" t="t" r="r" b="b"/>
                <a:pathLst>
                  <a:path w="589" h="16">
                    <a:moveTo>
                      <a:pt x="58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85" y="0"/>
                    </a:lnTo>
                    <a:lnTo>
                      <a:pt x="58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3917160" y="937440"/>
                <a:ext cx="224640" cy="5040"/>
              </a:xfrm>
              <a:custGeom>
                <a:avLst/>
                <a:gdLst/>
                <a:ahLst/>
                <a:rect l="l" t="t" r="r" b="b"/>
                <a:pathLst>
                  <a:path w="585" h="15">
                    <a:moveTo>
                      <a:pt x="58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80" y="0"/>
                    </a:lnTo>
                    <a:lnTo>
                      <a:pt x="585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3918960" y="933840"/>
                <a:ext cx="222840" cy="5400"/>
              </a:xfrm>
              <a:custGeom>
                <a:avLst/>
                <a:gdLst/>
                <a:ahLst/>
                <a:rect l="l" t="t" r="r" b="b"/>
                <a:pathLst>
                  <a:path w="579" h="15">
                    <a:moveTo>
                      <a:pt x="5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4" y="0"/>
                    </a:lnTo>
                    <a:lnTo>
                      <a:pt x="579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3921120" y="9324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74" h="15">
                    <a:moveTo>
                      <a:pt x="57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0" y="0"/>
                    </a:lnTo>
                    <a:lnTo>
                      <a:pt x="574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3921120" y="9288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69" h="13">
                    <a:moveTo>
                      <a:pt x="569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65" y="0"/>
                    </a:lnTo>
                    <a:lnTo>
                      <a:pt x="569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3922920" y="928800"/>
                <a:ext cx="216720" cy="3600"/>
              </a:xfrm>
              <a:custGeom>
                <a:avLst/>
                <a:gdLst/>
                <a:ahLst/>
                <a:rect l="l" t="t" r="r" b="b"/>
                <a:pathLst>
                  <a:path w="565" h="6">
                    <a:moveTo>
                      <a:pt x="565" y="6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63" y="0"/>
                    </a:lnTo>
                    <a:lnTo>
                      <a:pt x="565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455000" y="1604880"/>
                <a:ext cx="19008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455000" y="16030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455000" y="1599480"/>
                <a:ext cx="19008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455000" y="15976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455000" y="159408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455000" y="15926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455000" y="15890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455000" y="1586880"/>
                <a:ext cx="19008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455000" y="1583640"/>
                <a:ext cx="19008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455000" y="15818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455000" y="1578240"/>
                <a:ext cx="19008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455000" y="15764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455000" y="157284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455000" y="157140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4455000" y="15678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4455000" y="15660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455000" y="15624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455000" y="1560600"/>
                <a:ext cx="19008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455000" y="1557360"/>
                <a:ext cx="19008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4455000" y="155520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4455000" y="1551600"/>
                <a:ext cx="19008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4455000" y="155016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4455000" y="15465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455000" y="15447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4455000" y="154116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4455000" y="1539360"/>
                <a:ext cx="19008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4455000" y="153612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4455000" y="153396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4455000" y="1530360"/>
                <a:ext cx="19008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4455000" y="152892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4455000" y="15253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4455000" y="15235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4455000" y="151992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4455000" y="15184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4455000" y="15148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4455000" y="15127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455000" y="15091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4455000" y="1505880"/>
                <a:ext cx="19008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4455000" y="1503720"/>
                <a:ext cx="19008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4455000" y="1502280"/>
                <a:ext cx="19008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455000" y="1498680"/>
                <a:ext cx="19008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455000" y="1495080"/>
                <a:ext cx="19008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455000" y="14932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455000" y="14896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455000" y="148824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455000" y="1484640"/>
                <a:ext cx="19008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455000" y="1482480"/>
                <a:ext cx="19008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4455000" y="14792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4455000" y="14774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4455000" y="1473840"/>
                <a:ext cx="19008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4455000" y="14720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455000" y="14684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4455000" y="14670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4455000" y="14634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4455000" y="1461240"/>
                <a:ext cx="19008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4455000" y="14580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455000" y="14562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455000" y="1452600"/>
                <a:ext cx="19008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455000" y="14508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455000" y="14472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4455000" y="14457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4455000" y="14421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4455000" y="1440000"/>
                <a:ext cx="19008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4455000" y="14367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4455000" y="14349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4455000" y="1431360"/>
                <a:ext cx="19008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4455000" y="14295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4455000" y="14259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455000" y="14245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455000" y="14209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455000" y="14191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4455000" y="14155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4455000" y="1413720"/>
                <a:ext cx="19008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4455000" y="141048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4455000" y="140832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4455000" y="1404720"/>
                <a:ext cx="19008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4455000" y="14032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4455000" y="13996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4455000" y="1395720"/>
                <a:ext cx="19008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4455000" y="1394280"/>
                <a:ext cx="19008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455000" y="1392120"/>
                <a:ext cx="19008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455000" y="138924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455000" y="138708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4455000" y="1383480"/>
                <a:ext cx="19008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4455000" y="1380240"/>
                <a:ext cx="19008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4455000" y="1378080"/>
                <a:ext cx="19008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4455000" y="1376640"/>
                <a:ext cx="19008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4455000" y="1373040"/>
                <a:ext cx="19008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455000" y="1369440"/>
                <a:ext cx="19008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4455000" y="13676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4455000" y="13640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455000" y="1362240"/>
                <a:ext cx="19008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4455000" y="1359000"/>
                <a:ext cx="19008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455000" y="135684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455000" y="1353240"/>
                <a:ext cx="19008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4455000" y="135180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4455000" y="13482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4455000" y="13464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455000" y="134280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4455000" y="13413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4455000" y="13377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4455000" y="13356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4455000" y="13320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4455000" y="13305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4455000" y="13269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4455000" y="13251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4455000" y="132156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455000" y="13201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4455000" y="13165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4455000" y="1314360"/>
                <a:ext cx="19008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4455000" y="1311120"/>
                <a:ext cx="19008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4455000" y="13093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4455000" y="1305720"/>
                <a:ext cx="19008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4455000" y="13039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455000" y="130032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4455000" y="129888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4455000" y="12952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4455000" y="1293120"/>
                <a:ext cx="19008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4455000" y="12898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4455000" y="1288080"/>
                <a:ext cx="19008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455000" y="1284120"/>
                <a:ext cx="19008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455000" y="12826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4455000" y="12790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455000" y="127764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455000" y="1273680"/>
                <a:ext cx="19008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455000" y="1270080"/>
                <a:ext cx="19008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4455000" y="126864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4455000" y="1266480"/>
                <a:ext cx="19008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455000" y="126360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455000" y="1259640"/>
                <a:ext cx="19008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455000" y="12578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455000" y="12542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455000" y="12524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455000" y="12488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455000" y="12474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455000" y="12438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455000" y="12420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4455000" y="1238400"/>
                <a:ext cx="19008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4455000" y="1236600"/>
                <a:ext cx="19008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6" name=""/>
            <p:cNvGrpSpPr/>
            <p:nvPr/>
          </p:nvGrpSpPr>
          <p:grpSpPr>
            <a:xfrm>
              <a:off x="4455360" y="928800"/>
              <a:ext cx="604800" cy="679320"/>
              <a:chOff x="4455360" y="928800"/>
              <a:chExt cx="604800" cy="679320"/>
            </a:xfrm>
          </p:grpSpPr>
          <p:sp>
            <p:nvSpPr>
              <p:cNvPr id="4467" name=""/>
              <p:cNvSpPr/>
              <p:nvPr/>
            </p:nvSpPr>
            <p:spPr>
              <a:xfrm>
                <a:off x="4455360" y="123336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455360" y="123120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455360" y="1227600"/>
                <a:ext cx="19008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4455360" y="12261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455360" y="12225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455360" y="12207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4455360" y="12171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455360" y="1215360"/>
                <a:ext cx="19008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455360" y="121212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4455360" y="120996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455360" y="1206360"/>
                <a:ext cx="19008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455360" y="12049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455360" y="12013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4455360" y="11995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4455360" y="11959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4455360" y="11944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4455360" y="11908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4455360" y="1188720"/>
                <a:ext cx="19008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4455360" y="1185120"/>
                <a:ext cx="19008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4455360" y="11836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4455360" y="11800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4455360" y="11782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4455360" y="11746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4455360" y="11732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4455360" y="11696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4455360" y="1167480"/>
                <a:ext cx="19008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4455360" y="1164240"/>
                <a:ext cx="19008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4455360" y="1160640"/>
                <a:ext cx="19008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4455360" y="1158480"/>
                <a:ext cx="19008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455360" y="1157040"/>
                <a:ext cx="19008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4455360" y="1153440"/>
                <a:ext cx="19008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455360" y="1149840"/>
                <a:ext cx="19008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455360" y="1148040"/>
                <a:ext cx="19008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455360" y="114444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455360" y="114300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4455360" y="1140840"/>
                <a:ext cx="19008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455360" y="1137240"/>
                <a:ext cx="19008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4455360" y="1134000"/>
                <a:ext cx="19008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4455360" y="11322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455360" y="1128600"/>
                <a:ext cx="19008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4455360" y="11268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4455360" y="112320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4455360" y="11217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4455360" y="11181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4455360" y="11163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4455360" y="11127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4455360" y="11109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455360" y="11073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455360" y="1105560"/>
                <a:ext cx="19008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455360" y="110196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455360" y="110052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455360" y="10969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455360" y="10951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455360" y="10915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455360" y="1089720"/>
                <a:ext cx="19008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455360" y="1086480"/>
                <a:ext cx="19008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4455360" y="108432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4455360" y="1080720"/>
                <a:ext cx="19008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4455360" y="107928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455360" y="10756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455360" y="10738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4455360" y="107028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455360" y="1068480"/>
                <a:ext cx="19008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455360" y="106524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455360" y="1063080"/>
                <a:ext cx="19008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4455360" y="1059480"/>
                <a:ext cx="19008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455360" y="10580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455360" y="10544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4455360" y="1050480"/>
                <a:ext cx="19008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4455360" y="104904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4455360" y="1047600"/>
                <a:ext cx="19008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455360" y="104400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455360" y="10418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455360" y="10382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4455360" y="1035000"/>
                <a:ext cx="19008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4455360" y="1032840"/>
                <a:ext cx="19008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4455360" y="1031400"/>
                <a:ext cx="19008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4455360" y="1027800"/>
                <a:ext cx="19008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4455360" y="1024200"/>
                <a:ext cx="19008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4455360" y="10224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4455360" y="10188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4455360" y="101736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4455360" y="1013760"/>
                <a:ext cx="19008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4455360" y="1011600"/>
                <a:ext cx="19008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4455360" y="10083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4455360" y="10065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4455360" y="1002960"/>
                <a:ext cx="19008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4455360" y="10011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4455360" y="9975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4455360" y="9961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4455360" y="9925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4455360" y="990360"/>
                <a:ext cx="19008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4455360" y="9871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4455360" y="9853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4455360" y="981720"/>
                <a:ext cx="19008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4455360" y="9799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4455360" y="9763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4455360" y="9748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4455360" y="9712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4455360" y="9694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4455360" y="965880"/>
                <a:ext cx="190080" cy="504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4455360" y="964080"/>
                <a:ext cx="190080" cy="540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4455360" y="960480"/>
                <a:ext cx="190080" cy="540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4455360" y="9586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4455360" y="9550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4455360" y="9536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4455360" y="9500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4455360" y="9482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4455360" y="9446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4455360" y="942840"/>
                <a:ext cx="190080" cy="540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4455360" y="93960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4455360" y="93744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4455360" y="933840"/>
                <a:ext cx="190080" cy="540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4455360" y="9324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4455360" y="9288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4455360" y="928800"/>
                <a:ext cx="190080" cy="3600"/>
              </a:xfrm>
              <a:prstGeom prst="rect">
                <a:avLst/>
              </a:pr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4868640" y="1604880"/>
                <a:ext cx="19152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4868640" y="16030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4868640" y="1599480"/>
                <a:ext cx="19152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4868640" y="15976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4868640" y="159408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4868640" y="15926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4868640" y="15890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4868640" y="1586880"/>
                <a:ext cx="19152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868640" y="1583640"/>
                <a:ext cx="19152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4868640" y="15818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4868640" y="1578240"/>
                <a:ext cx="19152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4868640" y="15764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868640" y="157284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4868640" y="157140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4868640" y="15678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4868640" y="15660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4868640" y="15624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4868640" y="1560600"/>
                <a:ext cx="19152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4868640" y="1557360"/>
                <a:ext cx="19152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868640" y="155520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868640" y="1551600"/>
                <a:ext cx="19152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4868640" y="155016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4868640" y="15465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4868640" y="15447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4868640" y="154116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4868640" y="1539360"/>
                <a:ext cx="19152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4868640" y="153612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4868640" y="153396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868640" y="1530360"/>
                <a:ext cx="19152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868640" y="152892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868640" y="15253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868640" y="15235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868640" y="151992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868640" y="15184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868640" y="15148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868640" y="15127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868640" y="15091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4868640" y="1505880"/>
                <a:ext cx="19152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868640" y="1503720"/>
                <a:ext cx="19152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868640" y="1502280"/>
                <a:ext cx="19152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4868640" y="1498680"/>
                <a:ext cx="19152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4868640" y="1495080"/>
                <a:ext cx="19152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868640" y="14932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4868640" y="14896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4868640" y="148824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4868640" y="1484640"/>
                <a:ext cx="19152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4868640" y="1482480"/>
                <a:ext cx="19152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4868640" y="14792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4868640" y="14774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4868640" y="1473840"/>
                <a:ext cx="19152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4868640" y="14720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4868640" y="14684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4868640" y="14670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4868640" y="14634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4868640" y="1461240"/>
                <a:ext cx="19152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4868640" y="14580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4868640" y="14562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4868640" y="1452600"/>
                <a:ext cx="19152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868640" y="14508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868640" y="14472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868640" y="14457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4868640" y="14421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4868640" y="1440000"/>
                <a:ext cx="19152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868640" y="14367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4868640" y="14349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868640" y="1431360"/>
                <a:ext cx="19152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868640" y="14295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868640" y="14259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4868640" y="14245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4868640" y="14209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4868640" y="14191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4868640" y="14155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4868640" y="1413720"/>
                <a:ext cx="19152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4868640" y="141048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4868640" y="140832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4868640" y="1404720"/>
                <a:ext cx="19152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4868640" y="14032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4868640" y="13996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4868640" y="1395720"/>
                <a:ext cx="19152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4868640" y="1394280"/>
                <a:ext cx="19152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4868640" y="1392120"/>
                <a:ext cx="19152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4868640" y="138924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4868640" y="138708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4868640" y="1383480"/>
                <a:ext cx="19152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7" name=""/>
            <p:cNvGrpSpPr/>
            <p:nvPr/>
          </p:nvGrpSpPr>
          <p:grpSpPr>
            <a:xfrm>
              <a:off x="4720680" y="928800"/>
              <a:ext cx="627840" cy="679320"/>
              <a:chOff x="4720680" y="928800"/>
              <a:chExt cx="627840" cy="679320"/>
            </a:xfrm>
          </p:grpSpPr>
          <p:sp>
            <p:nvSpPr>
              <p:cNvPr id="4668" name=""/>
              <p:cNvSpPr/>
              <p:nvPr/>
            </p:nvSpPr>
            <p:spPr>
              <a:xfrm>
                <a:off x="4868640" y="1380240"/>
                <a:ext cx="19152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4868640" y="1378080"/>
                <a:ext cx="19152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4868640" y="1376640"/>
                <a:ext cx="19152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4868640" y="1373040"/>
                <a:ext cx="19152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4868640" y="1369440"/>
                <a:ext cx="19152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868640" y="13676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4868640" y="13640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4868640" y="1362240"/>
                <a:ext cx="19152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4868640" y="1359000"/>
                <a:ext cx="19152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4868640" y="135684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4868640" y="1353240"/>
                <a:ext cx="19152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4868640" y="135180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868640" y="13482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4868640" y="13464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4868640" y="134280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4868640" y="13413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4868640" y="13377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4868640" y="13356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4868640" y="13320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4868640" y="13305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4868640" y="13269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4868640" y="13251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4868640" y="132156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868640" y="13201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868640" y="13165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868640" y="1314360"/>
                <a:ext cx="19152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868640" y="1311120"/>
                <a:ext cx="19152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4868640" y="13093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4868640" y="1305720"/>
                <a:ext cx="19152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868640" y="13039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868640" y="130032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4868640" y="129888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4868640" y="12952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4868640" y="1293120"/>
                <a:ext cx="19152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4868640" y="12898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4868640" y="1288080"/>
                <a:ext cx="19152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4868640" y="1284120"/>
                <a:ext cx="19152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4868640" y="12826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4868640" y="12790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4868640" y="127764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4868640" y="1273680"/>
                <a:ext cx="19152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868640" y="1270080"/>
                <a:ext cx="19152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4868640" y="126864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4868640" y="1266480"/>
                <a:ext cx="19152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868640" y="126360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4868640" y="1259640"/>
                <a:ext cx="19152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4868640" y="12578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868640" y="12542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4868640" y="12524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4868640" y="12488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4868640" y="12474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868640" y="12438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4868640" y="12420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4868640" y="1238400"/>
                <a:ext cx="19152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4868640" y="1236600"/>
                <a:ext cx="19152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4868640" y="123336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4868640" y="123120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4868640" y="1227600"/>
                <a:ext cx="19152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4868640" y="12261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4868640" y="12225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4868640" y="12207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4868640" y="12171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4868640" y="1215360"/>
                <a:ext cx="19152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4868640" y="121212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4868640" y="120996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4868640" y="1206360"/>
                <a:ext cx="19152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4868640" y="12049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4868640" y="12013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4868640" y="11995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4868640" y="11959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4868640" y="11944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4868640" y="11908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4868640" y="1188720"/>
                <a:ext cx="19152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4868640" y="1185120"/>
                <a:ext cx="19152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4868640" y="11836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4868640" y="11800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4868640" y="11782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868640" y="11746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4868640" y="11732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4868640" y="11696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4868640" y="1167480"/>
                <a:ext cx="19152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4868640" y="1164240"/>
                <a:ext cx="19152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4868640" y="1160640"/>
                <a:ext cx="19152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4868640" y="1158480"/>
                <a:ext cx="19152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4868640" y="1157040"/>
                <a:ext cx="19152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868640" y="1153440"/>
                <a:ext cx="19152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4868640" y="1149840"/>
                <a:ext cx="19152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4868640" y="1148040"/>
                <a:ext cx="19152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4868640" y="114444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4868640" y="114300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4868640" y="1140840"/>
                <a:ext cx="19152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4868640" y="1137240"/>
                <a:ext cx="19152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4868640" y="1134000"/>
                <a:ext cx="19152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4868640" y="11322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4868640" y="1128600"/>
                <a:ext cx="19152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4868640" y="11268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4868640" y="112320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4868640" y="11217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4868640" y="11181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4868640" y="11163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4868640" y="11127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868640" y="11109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868640" y="11073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868640" y="1105560"/>
                <a:ext cx="19152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4868640" y="1101960"/>
                <a:ext cx="19152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4720680" y="1100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5">
                    <a:moveTo>
                      <a:pt x="887" y="15"/>
                    </a:moveTo>
                    <a:lnTo>
                      <a:pt x="388" y="15"/>
                    </a:lnTo>
                    <a:lnTo>
                      <a:pt x="38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276" y="2"/>
                    </a:lnTo>
                    <a:lnTo>
                      <a:pt x="887" y="2"/>
                    </a:lnTo>
                    <a:lnTo>
                      <a:pt x="887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4720680" y="10969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4">
                    <a:moveTo>
                      <a:pt x="887" y="14"/>
                    </a:moveTo>
                    <a:lnTo>
                      <a:pt x="388" y="14"/>
                    </a:lnTo>
                    <a:lnTo>
                      <a:pt x="388" y="9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275" y="0"/>
                    </a:lnTo>
                    <a:lnTo>
                      <a:pt x="1276" y="9"/>
                    </a:lnTo>
                    <a:lnTo>
                      <a:pt x="887" y="9"/>
                    </a:lnTo>
                    <a:lnTo>
                      <a:pt x="8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720680" y="10951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5" h="16">
                    <a:moveTo>
                      <a:pt x="1275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4" y="0"/>
                    </a:lnTo>
                    <a:lnTo>
                      <a:pt x="1275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4720680" y="1091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4" h="16">
                    <a:moveTo>
                      <a:pt x="1274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2" y="0"/>
                    </a:lnTo>
                    <a:lnTo>
                      <a:pt x="1274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720680" y="1089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72" h="14">
                    <a:moveTo>
                      <a:pt x="127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70" y="0"/>
                    </a:lnTo>
                    <a:lnTo>
                      <a:pt x="1272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720680" y="10864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0" h="15">
                    <a:moveTo>
                      <a:pt x="1270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68" y="0"/>
                    </a:lnTo>
                    <a:lnTo>
                      <a:pt x="1270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4720680" y="108432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69" h="15">
                    <a:moveTo>
                      <a:pt x="126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8" y="0"/>
                    </a:lnTo>
                    <a:lnTo>
                      <a:pt x="1269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4720680" y="1080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6">
                    <a:moveTo>
                      <a:pt x="1267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66" y="0"/>
                    </a:lnTo>
                    <a:lnTo>
                      <a:pt x="126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4722120" y="10792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6" h="16">
                    <a:moveTo>
                      <a:pt x="1266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64" y="0"/>
                    </a:lnTo>
                    <a:lnTo>
                      <a:pt x="1266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722120" y="10756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4" h="14">
                    <a:moveTo>
                      <a:pt x="1264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62" y="0"/>
                    </a:lnTo>
                    <a:lnTo>
                      <a:pt x="1264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722120" y="1073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1" y="0"/>
                    </a:lnTo>
                    <a:lnTo>
                      <a:pt x="1263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722120" y="10702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1" h="15">
                    <a:moveTo>
                      <a:pt x="1261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0" y="0"/>
                    </a:lnTo>
                    <a:lnTo>
                      <a:pt x="1261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4722120" y="1068480"/>
                <a:ext cx="484200" cy="5400"/>
              </a:xfrm>
              <a:custGeom>
                <a:avLst/>
                <a:gdLst/>
                <a:ahLst/>
                <a:rect l="l" t="t" r="r" b="b"/>
                <a:pathLst>
                  <a:path w="1259" h="15">
                    <a:moveTo>
                      <a:pt x="125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8" y="0"/>
                    </a:lnTo>
                    <a:lnTo>
                      <a:pt x="1259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4722120" y="106524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6">
                    <a:moveTo>
                      <a:pt x="1258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56" y="0"/>
                    </a:lnTo>
                    <a:lnTo>
                      <a:pt x="1258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4722120" y="1063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7" h="15">
                    <a:moveTo>
                      <a:pt x="1257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55" y="0"/>
                    </a:lnTo>
                    <a:lnTo>
                      <a:pt x="1257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4724280" y="1059480"/>
                <a:ext cx="482040" cy="5400"/>
              </a:xfrm>
              <a:custGeom>
                <a:avLst/>
                <a:gdLst/>
                <a:ahLst/>
                <a:rect l="l" t="t" r="r" b="b"/>
                <a:pathLst>
                  <a:path w="1255" h="14">
                    <a:moveTo>
                      <a:pt x="1255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53" y="0"/>
                    </a:lnTo>
                    <a:lnTo>
                      <a:pt x="1255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724280" y="1058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3" h="15">
                    <a:moveTo>
                      <a:pt x="125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2" y="0"/>
                    </a:lnTo>
                    <a:lnTo>
                      <a:pt x="1253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724280" y="10544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1" h="15">
                    <a:moveTo>
                      <a:pt x="1251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0" y="0"/>
                    </a:lnTo>
                    <a:lnTo>
                      <a:pt x="1251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724280" y="1050480"/>
                <a:ext cx="479880" cy="7200"/>
              </a:xfrm>
              <a:custGeom>
                <a:avLst/>
                <a:gdLst/>
                <a:ahLst/>
                <a:rect l="l" t="t" r="r" b="b"/>
                <a:pathLst>
                  <a:path w="1251" h="16">
                    <a:moveTo>
                      <a:pt x="125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9" y="0"/>
                    </a:lnTo>
                    <a:lnTo>
                      <a:pt x="1251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724280" y="1049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9" h="16">
                    <a:moveTo>
                      <a:pt x="124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7" y="0"/>
                    </a:lnTo>
                    <a:lnTo>
                      <a:pt x="1249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4724280" y="1047600"/>
                <a:ext cx="479880" cy="2880"/>
              </a:xfrm>
              <a:custGeom>
                <a:avLst/>
                <a:gdLst/>
                <a:ahLst/>
                <a:rect l="l" t="t" r="r" b="b"/>
                <a:pathLst>
                  <a:path w="1247" h="14">
                    <a:moveTo>
                      <a:pt x="124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45" y="0"/>
                    </a:lnTo>
                    <a:lnTo>
                      <a:pt x="1247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726080" y="104400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5" h="15">
                    <a:moveTo>
                      <a:pt x="1245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44" y="0"/>
                    </a:lnTo>
                    <a:lnTo>
                      <a:pt x="1245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726080" y="10418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42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726080" y="10382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240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4726080" y="1035000"/>
                <a:ext cx="476280" cy="6480"/>
              </a:xfrm>
              <a:custGeom>
                <a:avLst/>
                <a:gdLst/>
                <a:ahLst/>
                <a:rect l="l" t="t" r="r" b="b"/>
                <a:pathLst>
                  <a:path w="1240" h="16">
                    <a:moveTo>
                      <a:pt x="124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7" y="0"/>
                    </a:lnTo>
                    <a:lnTo>
                      <a:pt x="1240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726080" y="1032840"/>
                <a:ext cx="476280" cy="5040"/>
              </a:xfrm>
              <a:custGeom>
                <a:avLst/>
                <a:gdLst/>
                <a:ahLst/>
                <a:rect l="l" t="t" r="r" b="b"/>
                <a:pathLst>
                  <a:path w="1237" h="15">
                    <a:moveTo>
                      <a:pt x="1237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35" y="0"/>
                    </a:lnTo>
                    <a:lnTo>
                      <a:pt x="1237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4728240" y="1031400"/>
                <a:ext cx="474120" cy="3600"/>
              </a:xfrm>
              <a:custGeom>
                <a:avLst/>
                <a:gdLst/>
                <a:ahLst/>
                <a:rect l="l" t="t" r="r" b="b"/>
                <a:pathLst>
                  <a:path w="1235" h="14">
                    <a:moveTo>
                      <a:pt x="1235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34" y="0"/>
                    </a:lnTo>
                    <a:lnTo>
                      <a:pt x="1235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728240" y="1027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4" h="15">
                    <a:moveTo>
                      <a:pt x="123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33" y="0"/>
                    </a:lnTo>
                    <a:lnTo>
                      <a:pt x="1234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4728240" y="1024200"/>
                <a:ext cx="471960" cy="7200"/>
              </a:xfrm>
              <a:custGeom>
                <a:avLst/>
                <a:gdLst/>
                <a:ahLst/>
                <a:rect l="l" t="t" r="r" b="b"/>
                <a:pathLst>
                  <a:path w="1233" h="16">
                    <a:moveTo>
                      <a:pt x="1233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1" y="0"/>
                    </a:lnTo>
                    <a:lnTo>
                      <a:pt x="123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4728240" y="10224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1" h="16">
                    <a:moveTo>
                      <a:pt x="1231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9" y="0"/>
                    </a:lnTo>
                    <a:lnTo>
                      <a:pt x="1231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4728240" y="1018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9" h="15">
                    <a:moveTo>
                      <a:pt x="122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7" y="0"/>
                    </a:lnTo>
                    <a:lnTo>
                      <a:pt x="1229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4728240" y="10173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8" h="14">
                    <a:moveTo>
                      <a:pt x="1228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27" y="0"/>
                    </a:lnTo>
                    <a:lnTo>
                      <a:pt x="122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4728240" y="10137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6" h="15">
                    <a:moveTo>
                      <a:pt x="1226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5" y="0"/>
                    </a:lnTo>
                    <a:lnTo>
                      <a:pt x="1226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4730040" y="1011600"/>
                <a:ext cx="470160" cy="5400"/>
              </a:xfrm>
              <a:custGeom>
                <a:avLst/>
                <a:gdLst/>
                <a:ahLst/>
                <a:rect l="l" t="t" r="r" b="b"/>
                <a:pathLst>
                  <a:path w="1225" h="16">
                    <a:moveTo>
                      <a:pt x="1225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3" y="0"/>
                    </a:lnTo>
                    <a:lnTo>
                      <a:pt x="1225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4730040" y="10083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3" h="15">
                    <a:moveTo>
                      <a:pt x="122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1" y="0"/>
                    </a:lnTo>
                    <a:lnTo>
                      <a:pt x="12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4730040" y="1006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0" y="0"/>
                    </a:lnTo>
                    <a:lnTo>
                      <a:pt x="1222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4730040" y="1002960"/>
                <a:ext cx="468360" cy="5400"/>
              </a:xfrm>
              <a:custGeom>
                <a:avLst/>
                <a:gdLst/>
                <a:ahLst/>
                <a:rect l="l" t="t" r="r" b="b"/>
                <a:pathLst>
                  <a:path w="1220" h="15">
                    <a:moveTo>
                      <a:pt x="1220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9" y="0"/>
                    </a:lnTo>
                    <a:lnTo>
                      <a:pt x="1220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4730040" y="10011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8" h="14">
                    <a:moveTo>
                      <a:pt x="1218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17" y="0"/>
                    </a:lnTo>
                    <a:lnTo>
                      <a:pt x="121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4730040" y="997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7" h="16">
                    <a:moveTo>
                      <a:pt x="1217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15" y="0"/>
                    </a:lnTo>
                    <a:lnTo>
                      <a:pt x="1217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4730040" y="99612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6" h="16">
                    <a:moveTo>
                      <a:pt x="1216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14" y="0"/>
                    </a:lnTo>
                    <a:lnTo>
                      <a:pt x="1216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4731840" y="9925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4" h="15">
                    <a:moveTo>
                      <a:pt x="121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2" y="0"/>
                    </a:lnTo>
                    <a:lnTo>
                      <a:pt x="1214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4731840" y="99036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11" y="0"/>
                    </a:lnTo>
                    <a:lnTo>
                      <a:pt x="1212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4731840" y="9871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4">
                    <a:moveTo>
                      <a:pt x="1210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9" y="0"/>
                    </a:lnTo>
                    <a:lnTo>
                      <a:pt x="1210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4731840" y="9853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6">
                    <a:moveTo>
                      <a:pt x="121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8" y="0"/>
                    </a:lnTo>
                    <a:lnTo>
                      <a:pt x="1210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4731840" y="98172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08" h="16">
                    <a:moveTo>
                      <a:pt x="1208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6" y="0"/>
                    </a:lnTo>
                    <a:lnTo>
                      <a:pt x="1208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731840" y="9799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06" h="14">
                    <a:moveTo>
                      <a:pt x="1206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4" y="0"/>
                    </a:lnTo>
                    <a:lnTo>
                      <a:pt x="1206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4734000" y="97632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4" h="15">
                    <a:moveTo>
                      <a:pt x="120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03" y="0"/>
                    </a:lnTo>
                    <a:lnTo>
                      <a:pt x="1204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4734000" y="974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02" y="0"/>
                    </a:lnTo>
                    <a:lnTo>
                      <a:pt x="1203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4734000" y="9712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2" h="15">
                    <a:moveTo>
                      <a:pt x="1202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199" y="0"/>
                    </a:lnTo>
                    <a:lnTo>
                      <a:pt x="120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4734000" y="9694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0" h="16">
                    <a:moveTo>
                      <a:pt x="120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97" y="0"/>
                    </a:lnTo>
                    <a:lnTo>
                      <a:pt x="1200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734000" y="965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196" h="15">
                    <a:moveTo>
                      <a:pt x="119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95" y="0"/>
                    </a:lnTo>
                    <a:lnTo>
                      <a:pt x="119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734000" y="96408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4" y="0"/>
                    </a:lnTo>
                    <a:lnTo>
                      <a:pt x="1195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4735800" y="960480"/>
                <a:ext cx="457200" cy="5400"/>
              </a:xfrm>
              <a:custGeom>
                <a:avLst/>
                <a:gdLst/>
                <a:ahLst/>
                <a:rect l="l" t="t" r="r" b="b"/>
                <a:pathLst>
                  <a:path w="1194" h="15">
                    <a:moveTo>
                      <a:pt x="119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2" y="0"/>
                    </a:lnTo>
                    <a:lnTo>
                      <a:pt x="1194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4735800" y="9586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2" h="14">
                    <a:moveTo>
                      <a:pt x="119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190" y="0"/>
                    </a:lnTo>
                    <a:lnTo>
                      <a:pt x="1192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4735800" y="9550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0" h="16">
                    <a:moveTo>
                      <a:pt x="1190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188" y="0"/>
                    </a:lnTo>
                    <a:lnTo>
                      <a:pt x="119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4735800" y="9536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9" h="16">
                    <a:moveTo>
                      <a:pt x="118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8" y="0"/>
                    </a:lnTo>
                    <a:lnTo>
                      <a:pt x="118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4735800" y="9500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7" h="14">
                    <a:moveTo>
                      <a:pt x="118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186" y="0"/>
                    </a:lnTo>
                    <a:lnTo>
                      <a:pt x="1187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4735800" y="9482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6" h="15">
                    <a:moveTo>
                      <a:pt x="118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4" y="0"/>
                    </a:lnTo>
                    <a:lnTo>
                      <a:pt x="118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4737960" y="9446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4" h="15">
                    <a:moveTo>
                      <a:pt x="118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2" y="0"/>
                    </a:lnTo>
                    <a:lnTo>
                      <a:pt x="1184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4737960" y="942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83" h="15">
                    <a:moveTo>
                      <a:pt x="118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81" y="0"/>
                    </a:lnTo>
                    <a:lnTo>
                      <a:pt x="1183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4737960" y="9396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0" y="0"/>
                    </a:lnTo>
                    <a:lnTo>
                      <a:pt x="1181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737960" y="9374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9" h="15">
                    <a:moveTo>
                      <a:pt x="117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78" y="0"/>
                    </a:lnTo>
                    <a:lnTo>
                      <a:pt x="1179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4737960" y="933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78" h="15">
                    <a:moveTo>
                      <a:pt x="1178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6" y="0"/>
                    </a:lnTo>
                    <a:lnTo>
                      <a:pt x="1178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4737960" y="932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4" y="0"/>
                    </a:lnTo>
                    <a:lnTo>
                      <a:pt x="1176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737960" y="928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5" h="13">
                    <a:moveTo>
                      <a:pt x="1175" y="13"/>
                    </a:moveTo>
                    <a:lnTo>
                      <a:pt x="0" y="13"/>
                    </a:lnTo>
                    <a:lnTo>
                      <a:pt x="2" y="0"/>
                    </a:lnTo>
                    <a:lnTo>
                      <a:pt x="1174" y="0"/>
                    </a:lnTo>
                    <a:lnTo>
                      <a:pt x="1175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739760" y="928800"/>
                <a:ext cx="449280" cy="3600"/>
              </a:xfrm>
              <a:custGeom>
                <a:avLst/>
                <a:gdLst/>
                <a:ahLst/>
                <a:rect l="l" t="t" r="r" b="b"/>
                <a:pathLst>
                  <a:path w="1173" h="6">
                    <a:moveTo>
                      <a:pt x="1173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1173" y="0"/>
                    </a:lnTo>
                    <a:lnTo>
                      <a:pt x="1173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5175720" y="1604880"/>
                <a:ext cx="1728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5175720" y="16030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175720" y="1599480"/>
                <a:ext cx="1728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175720" y="15976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175720" y="159408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5175720" y="15926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5175720" y="15890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5175720" y="1586880"/>
                <a:ext cx="1728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5175720" y="1583640"/>
                <a:ext cx="1728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175720" y="15818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175720" y="1578240"/>
                <a:ext cx="1728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175720" y="15764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5175720" y="157284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5175720" y="157140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175720" y="15678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175720" y="15660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175720" y="15624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175720" y="1560600"/>
                <a:ext cx="1728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175720" y="1557360"/>
                <a:ext cx="1728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175720" y="155520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175720" y="1551600"/>
                <a:ext cx="1728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5175720" y="155016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5175720" y="15465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5175720" y="15447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5175720" y="154116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5175720" y="1539360"/>
                <a:ext cx="1728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5175720" y="153612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5175720" y="15339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5175720" y="1530360"/>
                <a:ext cx="1728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8" name=""/>
            <p:cNvGrpSpPr/>
            <p:nvPr/>
          </p:nvGrpSpPr>
          <p:grpSpPr>
            <a:xfrm>
              <a:off x="5176080" y="1431360"/>
              <a:ext cx="1071720" cy="176400"/>
              <a:chOff x="5176080" y="1431360"/>
              <a:chExt cx="1071720" cy="176400"/>
            </a:xfrm>
          </p:grpSpPr>
          <p:sp>
            <p:nvSpPr>
              <p:cNvPr id="4869" name=""/>
              <p:cNvSpPr/>
              <p:nvPr/>
            </p:nvSpPr>
            <p:spPr>
              <a:xfrm>
                <a:off x="5176080" y="15285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5176080" y="152496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176080" y="152352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176080" y="15199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5176080" y="15181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5176080" y="15145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5176080" y="15123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5176080" y="15087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176080" y="1505880"/>
                <a:ext cx="1728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176080" y="1503720"/>
                <a:ext cx="1728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5176080" y="1502280"/>
                <a:ext cx="1728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5176080" y="1498680"/>
                <a:ext cx="1728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176080" y="1494720"/>
                <a:ext cx="1728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5176080" y="14932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5176080" y="14896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5176080" y="148824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5176080" y="1484640"/>
                <a:ext cx="1728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5176080" y="1482480"/>
                <a:ext cx="1728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5176080" y="14792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5176080" y="14774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76080" y="1473480"/>
                <a:ext cx="1728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176080" y="14720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5176080" y="14684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5176080" y="14670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176080" y="14634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176080" y="1461240"/>
                <a:ext cx="1728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176080" y="14580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5176080" y="14562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5176080" y="1452240"/>
                <a:ext cx="1728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176080" y="14508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5176080" y="14472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5176080" y="14457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5176080" y="14421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176080" y="1440000"/>
                <a:ext cx="1728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76080" y="14367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176080" y="14349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176080" y="1431360"/>
                <a:ext cx="1728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176080" y="1431360"/>
                <a:ext cx="1728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5176080" y="1431360"/>
                <a:ext cx="1728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546768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546768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546768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546768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546768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546768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46768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46768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546768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46768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46768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46768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546768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46768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46768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46768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46768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46768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46768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546768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546768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546768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546768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546768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546768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5467680" y="1539000"/>
                <a:ext cx="17496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5467680" y="153576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467680" y="153360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467680" y="1530000"/>
                <a:ext cx="17496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467680" y="152856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5467680" y="152496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467680" y="152352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467680" y="15199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5467680" y="15181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5467680" y="15145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5467680" y="15123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5467680" y="15087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5467680" y="1505880"/>
                <a:ext cx="17496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467680" y="1503720"/>
                <a:ext cx="17496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5467680" y="1502280"/>
                <a:ext cx="17496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5467680" y="1498680"/>
                <a:ext cx="17496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467680" y="1494720"/>
                <a:ext cx="17496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467680" y="14932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467680" y="14896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467680" y="148824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467680" y="1484640"/>
                <a:ext cx="17496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5467680" y="1482480"/>
                <a:ext cx="17496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5467680" y="14792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5467680" y="14774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5467680" y="1473480"/>
                <a:ext cx="17496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5467680" y="14720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467680" y="14684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5467680" y="14670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467680" y="14634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5467680" y="1461240"/>
                <a:ext cx="17496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5467680" y="14580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5467680" y="14562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5467680" y="1452240"/>
                <a:ext cx="17496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5467680" y="14508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467680" y="14472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5467680" y="14457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5467680" y="14421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5467680" y="1440000"/>
                <a:ext cx="17496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5467680" y="14367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5467680" y="14349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5467680" y="1431360"/>
                <a:ext cx="17496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5467680" y="1431360"/>
                <a:ext cx="17496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5467680" y="1431360"/>
                <a:ext cx="17496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5761800" y="1604520"/>
                <a:ext cx="1746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5761800" y="16027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5761800" y="1599120"/>
                <a:ext cx="1746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5761800" y="15973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5761800" y="159372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5761800" y="15922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761800" y="15886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761800" y="1586520"/>
                <a:ext cx="1746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761800" y="1583280"/>
                <a:ext cx="1746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761800" y="15814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761800" y="1577880"/>
                <a:ext cx="1746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761800" y="15760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761800" y="157248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761800" y="157104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761800" y="15674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761800" y="156600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761800" y="15620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761800" y="1560240"/>
                <a:ext cx="1746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761800" y="1557000"/>
                <a:ext cx="1746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761800" y="155484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761800" y="1551240"/>
                <a:ext cx="1746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761800" y="154980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761800" y="154620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761800" y="154476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761800" y="154080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7618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7618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7618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7618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7618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7618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761800" y="152352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761800" y="15199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7618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7618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7618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7618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761800" y="150588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7618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761800" y="150228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761800" y="149868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7618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7618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7618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761800" y="148824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761800" y="148464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7618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7618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761800" y="14774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7618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7618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7618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761800" y="14670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761800" y="14634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7618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7618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761800" y="14562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7618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7618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7618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761800" y="14457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61800" y="14421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761800" y="144000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7618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761800" y="14349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761800" y="1431360"/>
                <a:ext cx="1746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761800" y="1431360"/>
                <a:ext cx="1746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761800" y="143136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607284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607284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607284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607284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607284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607284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607284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607284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607284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07284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07284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07284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07284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07284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07284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07284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07284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07284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07284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07284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07284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7284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7284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7284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7284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9" name=""/>
            <p:cNvGrpSpPr/>
            <p:nvPr/>
          </p:nvGrpSpPr>
          <p:grpSpPr>
            <a:xfrm>
              <a:off x="6073200" y="974880"/>
              <a:ext cx="174600" cy="569520"/>
              <a:chOff x="6073200" y="974880"/>
              <a:chExt cx="174600" cy="569520"/>
            </a:xfrm>
          </p:grpSpPr>
          <p:sp>
            <p:nvSpPr>
              <p:cNvPr id="5070" name=""/>
              <p:cNvSpPr/>
              <p:nvPr/>
            </p:nvSpPr>
            <p:spPr>
              <a:xfrm>
                <a:off x="60732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732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0732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0732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0732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0732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073200" y="15231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073200" y="151956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0732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0732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0732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0732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073200" y="150552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0732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073200" y="150192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073200" y="149832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0732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0732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0732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073200" y="14878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073200" y="148428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0732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0732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073200" y="147708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0732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0732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0732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073200" y="14666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073200" y="14630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0732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0732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073200" y="145584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0732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0732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0732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073200" y="14454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073200" y="14418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073200" y="143964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0732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073200" y="143460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073200" y="1434600"/>
                <a:ext cx="174600" cy="18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073200" y="143460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073200" y="1393920"/>
                <a:ext cx="174600" cy="36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073200" y="1392120"/>
                <a:ext cx="174600" cy="18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073200" y="138888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073200" y="138672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073200" y="1383120"/>
                <a:ext cx="17460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073200" y="1379880"/>
                <a:ext cx="17460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073200" y="1378080"/>
                <a:ext cx="17460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073200" y="1376280"/>
                <a:ext cx="17460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073200" y="1372680"/>
                <a:ext cx="17460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073200" y="1369080"/>
                <a:ext cx="17460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073200" y="13676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073200" y="13640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073200" y="1361880"/>
                <a:ext cx="17460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073200" y="1358640"/>
                <a:ext cx="17460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073200" y="13568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6073200" y="1353240"/>
                <a:ext cx="17460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6073200" y="13514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073200" y="134784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073200" y="134640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073200" y="13428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073200" y="13410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073200" y="13374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073200" y="13356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073200" y="13320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073200" y="13302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6073200" y="13266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6073200" y="132516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6073200" y="13215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073200" y="13197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6073200" y="13161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6073200" y="1314360"/>
                <a:ext cx="17460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6073200" y="1311120"/>
                <a:ext cx="17460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073200" y="130896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6073200" y="1305360"/>
                <a:ext cx="17460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6073200" y="130392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6073200" y="13003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6073200" y="12985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6073200" y="129492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6073200" y="1292760"/>
                <a:ext cx="17460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6073200" y="128988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6073200" y="1287720"/>
                <a:ext cx="17460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6073200" y="1284120"/>
                <a:ext cx="17460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6073200" y="12823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6073200" y="12787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6073200" y="127728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6073200" y="1273680"/>
                <a:ext cx="17460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6073200" y="1270080"/>
                <a:ext cx="17460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6073200" y="126828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073200" y="1266480"/>
                <a:ext cx="17460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6073200" y="126324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6073200" y="1259640"/>
                <a:ext cx="17460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6073200" y="12574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6073200" y="12538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6073200" y="12524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073200" y="12488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073200" y="12470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6073200" y="12434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6073200" y="124200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6073200" y="1238400"/>
                <a:ext cx="17460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6073200" y="1236240"/>
                <a:ext cx="17460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6073200" y="12330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6073200" y="12312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6073200" y="1227600"/>
                <a:ext cx="17460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6073200" y="12258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6073200" y="12222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6073200" y="12207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6073200" y="12171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6073200" y="1215000"/>
                <a:ext cx="17460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073200" y="12117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6073200" y="12099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6073200" y="1206360"/>
                <a:ext cx="17460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073200" y="12045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6073200" y="12009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6073200" y="11995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073200" y="11959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6073200" y="11941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6073200" y="11905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6073200" y="1188720"/>
                <a:ext cx="17460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6073200" y="1185120"/>
                <a:ext cx="17460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6073200" y="11833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6073200" y="11797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6073200" y="11782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6073200" y="11746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6073200" y="11728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6073200" y="11692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6073200" y="1167480"/>
                <a:ext cx="17460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6073200" y="1164240"/>
                <a:ext cx="17460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6073200" y="1160640"/>
                <a:ext cx="17460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6073200" y="1158480"/>
                <a:ext cx="17460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073200" y="1157040"/>
                <a:ext cx="17460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6073200" y="1153440"/>
                <a:ext cx="17460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073200" y="1149840"/>
                <a:ext cx="17460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6073200" y="1148040"/>
                <a:ext cx="17460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6073200" y="114444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6073200" y="114300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6073200" y="1140840"/>
                <a:ext cx="17460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073200" y="1137240"/>
                <a:ext cx="17460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073200" y="1134000"/>
                <a:ext cx="17460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6073200" y="113184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6073200" y="1128240"/>
                <a:ext cx="17460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6073200" y="112680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6073200" y="11232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6073200" y="11214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073200" y="11178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073200" y="11163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073200" y="11127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6073200" y="11106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6073200" y="11070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6073200" y="1105560"/>
                <a:ext cx="17460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6073200" y="11019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6073200" y="11001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073200" y="109656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6073200" y="10951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6073200" y="10915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6073200" y="1089360"/>
                <a:ext cx="17460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6073200" y="1086120"/>
                <a:ext cx="17460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6073200" y="10843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6073200" y="1080720"/>
                <a:ext cx="17460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6073200" y="10789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6073200" y="107532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6073200" y="107388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6073200" y="10702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6073200" y="1068120"/>
                <a:ext cx="17460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6073200" y="10648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6073200" y="1063080"/>
                <a:ext cx="17460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6073200" y="1059480"/>
                <a:ext cx="17460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6073200" y="10576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6073200" y="10540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6073200" y="1050480"/>
                <a:ext cx="17460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6073200" y="10490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6073200" y="1047240"/>
                <a:ext cx="17460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6073200" y="10436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073200" y="10418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6073200" y="10382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6073200" y="1035000"/>
                <a:ext cx="17460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6073200" y="1032840"/>
                <a:ext cx="17460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073200" y="1031400"/>
                <a:ext cx="17460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6073200" y="1027800"/>
                <a:ext cx="17460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6073200" y="1024200"/>
                <a:ext cx="17460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6073200" y="10224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6073200" y="10188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6073200" y="101736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6073200" y="1013760"/>
                <a:ext cx="17460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6073200" y="1011600"/>
                <a:ext cx="17460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6073200" y="10083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6073200" y="10065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073200" y="1002960"/>
                <a:ext cx="17460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6073200" y="10011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073200" y="9975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073200" y="9961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073200" y="9925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073200" y="990360"/>
                <a:ext cx="17460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073200" y="98712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073200" y="98496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073200" y="981360"/>
                <a:ext cx="17460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073200" y="9799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073200" y="9763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073200" y="974880"/>
                <a:ext cx="17460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0" name=""/>
            <p:cNvSpPr/>
            <p:nvPr/>
          </p:nvSpPr>
          <p:spPr>
            <a:xfrm>
              <a:off x="6073200" y="9590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6073200" y="9554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6073200" y="953640"/>
              <a:ext cx="174960" cy="50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6073200" y="937800"/>
              <a:ext cx="174960" cy="504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6073200" y="933840"/>
              <a:ext cx="174960" cy="540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6073200" y="932400"/>
              <a:ext cx="174960" cy="504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906640" y="923760"/>
              <a:ext cx="758880" cy="684720"/>
            </a:xfrm>
            <a:custGeom>
              <a:avLst/>
              <a:gdLst/>
              <a:ahLst/>
              <a:rect l="l" t="t" r="r" b="b"/>
              <a:pathLst>
                <a:path w="1974" h="1935">
                  <a:moveTo>
                    <a:pt x="267" y="1935"/>
                  </a:moveTo>
                  <a:lnTo>
                    <a:pt x="0" y="17"/>
                  </a:lnTo>
                  <a:lnTo>
                    <a:pt x="499" y="17"/>
                  </a:lnTo>
                  <a:lnTo>
                    <a:pt x="597" y="911"/>
                  </a:lnTo>
                  <a:lnTo>
                    <a:pt x="985" y="0"/>
                  </a:lnTo>
                  <a:lnTo>
                    <a:pt x="1367" y="911"/>
                  </a:lnTo>
                  <a:lnTo>
                    <a:pt x="1487" y="17"/>
                  </a:lnTo>
                  <a:lnTo>
                    <a:pt x="1974" y="17"/>
                  </a:lnTo>
                  <a:lnTo>
                    <a:pt x="1724" y="1935"/>
                  </a:lnTo>
                  <a:lnTo>
                    <a:pt x="1334" y="1935"/>
                  </a:lnTo>
                  <a:lnTo>
                    <a:pt x="985" y="1074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3946320" y="1134360"/>
              <a:ext cx="151560" cy="22788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6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665520" y="928800"/>
              <a:ext cx="716760" cy="679680"/>
            </a:xfrm>
            <a:custGeom>
              <a:avLst/>
              <a:gdLst/>
              <a:ahLst/>
              <a:rect l="l" t="t" r="r" b="b"/>
              <a:pathLst>
                <a:path w="1864" h="1918">
                  <a:moveTo>
                    <a:pt x="0" y="1918"/>
                  </a:moveTo>
                  <a:lnTo>
                    <a:pt x="670" y="0"/>
                  </a:lnTo>
                  <a:lnTo>
                    <a:pt x="1231" y="0"/>
                  </a:lnTo>
                  <a:lnTo>
                    <a:pt x="1864" y="1918"/>
                  </a:lnTo>
                  <a:lnTo>
                    <a:pt x="1338" y="1918"/>
                  </a:lnTo>
                  <a:lnTo>
                    <a:pt x="1269" y="1703"/>
                  </a:lnTo>
                  <a:lnTo>
                    <a:pt x="590" y="1703"/>
                  </a:lnTo>
                  <a:lnTo>
                    <a:pt x="517" y="1918"/>
                  </a:lnTo>
                  <a:lnTo>
                    <a:pt x="0" y="191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4455360" y="928800"/>
              <a:ext cx="190080" cy="679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4720680" y="928800"/>
              <a:ext cx="489600" cy="679680"/>
            </a:xfrm>
            <a:custGeom>
              <a:avLst/>
              <a:gdLst/>
              <a:ahLst/>
              <a:rect l="l" t="t" r="r" b="b"/>
              <a:pathLst>
                <a:path w="1276" h="1918">
                  <a:moveTo>
                    <a:pt x="887" y="484"/>
                  </a:moveTo>
                  <a:lnTo>
                    <a:pt x="887" y="1918"/>
                  </a:lnTo>
                  <a:lnTo>
                    <a:pt x="388" y="1918"/>
                  </a:lnTo>
                  <a:lnTo>
                    <a:pt x="388" y="484"/>
                  </a:lnTo>
                  <a:lnTo>
                    <a:pt x="0" y="484"/>
                  </a:lnTo>
                  <a:lnTo>
                    <a:pt x="51" y="0"/>
                  </a:lnTo>
                  <a:lnTo>
                    <a:pt x="1223" y="0"/>
                  </a:lnTo>
                  <a:lnTo>
                    <a:pt x="1276" y="484"/>
                  </a:lnTo>
                  <a:lnTo>
                    <a:pt x="887" y="4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176080" y="1431360"/>
              <a:ext cx="1728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468040" y="1431360"/>
              <a:ext cx="17496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762160" y="1431360"/>
              <a:ext cx="1746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073200" y="1434960"/>
              <a:ext cx="17496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6073200" y="928800"/>
              <a:ext cx="17496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6" name=""/>
          <p:cNvSpPr/>
          <p:nvPr/>
        </p:nvSpPr>
        <p:spPr>
          <a:xfrm>
            <a:off x="685800" y="5303880"/>
            <a:ext cx="7772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...SAVE YOURSELF IN SEX UNTIL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9" dur="500"/>
                                        <p:tgtEl>
                                          <p:spTgt spid="3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7" name=""/>
          <p:cNvSpPr/>
          <p:nvPr/>
        </p:nvSpPr>
        <p:spPr>
          <a:xfrm>
            <a:off x="1864440" y="914400"/>
            <a:ext cx="545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ONE MA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ONE WOMAN FOR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8" name=""/>
          <p:cNvGrpSpPr/>
          <p:nvPr/>
        </p:nvGrpSpPr>
        <p:grpSpPr>
          <a:xfrm>
            <a:off x="3351240" y="2819520"/>
            <a:ext cx="2452680" cy="3016080"/>
            <a:chOff x="3351240" y="2819520"/>
            <a:chExt cx="2452680" cy="3016080"/>
          </a:xfrm>
        </p:grpSpPr>
        <p:sp>
          <p:nvSpPr>
            <p:cNvPr id="5289" name=""/>
            <p:cNvSpPr/>
            <p:nvPr/>
          </p:nvSpPr>
          <p:spPr>
            <a:xfrm>
              <a:off x="3521880" y="2819520"/>
              <a:ext cx="2140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1f1a17"/>
                  </a:solidFill>
                  <a:latin typeface="Geometr231 Hv BT"/>
                </a:rPr>
                <a:t>SAFE SE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3375000" y="3576600"/>
              <a:ext cx="2403360" cy="2235240"/>
            </a:xfrm>
            <a:custGeom>
              <a:avLst/>
              <a:gdLst/>
              <a:ahLst/>
              <a:rect l="l" t="t" r="r" b="b"/>
              <a:pathLst>
                <a:path w="7572" h="7041">
                  <a:moveTo>
                    <a:pt x="0" y="0"/>
                  </a:moveTo>
                  <a:lnTo>
                    <a:pt x="867" y="1"/>
                  </a:lnTo>
                  <a:lnTo>
                    <a:pt x="1801" y="5"/>
                  </a:lnTo>
                  <a:lnTo>
                    <a:pt x="2782" y="11"/>
                  </a:lnTo>
                  <a:lnTo>
                    <a:pt x="3786" y="16"/>
                  </a:lnTo>
                  <a:lnTo>
                    <a:pt x="4790" y="22"/>
                  </a:lnTo>
                  <a:lnTo>
                    <a:pt x="5771" y="26"/>
                  </a:lnTo>
                  <a:lnTo>
                    <a:pt x="6706" y="31"/>
                  </a:lnTo>
                  <a:lnTo>
                    <a:pt x="7572" y="32"/>
                  </a:lnTo>
                  <a:lnTo>
                    <a:pt x="7572" y="940"/>
                  </a:lnTo>
                  <a:lnTo>
                    <a:pt x="7572" y="1820"/>
                  </a:lnTo>
                  <a:lnTo>
                    <a:pt x="7572" y="2682"/>
                  </a:lnTo>
                  <a:lnTo>
                    <a:pt x="7572" y="3534"/>
                  </a:lnTo>
                  <a:lnTo>
                    <a:pt x="7572" y="4387"/>
                  </a:lnTo>
                  <a:lnTo>
                    <a:pt x="7572" y="5249"/>
                  </a:lnTo>
                  <a:lnTo>
                    <a:pt x="7572" y="6131"/>
                  </a:lnTo>
                  <a:lnTo>
                    <a:pt x="7572" y="7041"/>
                  </a:lnTo>
                  <a:lnTo>
                    <a:pt x="6710" y="7040"/>
                  </a:lnTo>
                  <a:lnTo>
                    <a:pt x="5785" y="7038"/>
                  </a:lnTo>
                  <a:lnTo>
                    <a:pt x="4819" y="7035"/>
                  </a:lnTo>
                  <a:lnTo>
                    <a:pt x="3832" y="7031"/>
                  </a:lnTo>
                  <a:lnTo>
                    <a:pt x="2845" y="7027"/>
                  </a:lnTo>
                  <a:lnTo>
                    <a:pt x="1879" y="7024"/>
                  </a:lnTo>
                  <a:lnTo>
                    <a:pt x="955" y="7021"/>
                  </a:lnTo>
                  <a:lnTo>
                    <a:pt x="93" y="7020"/>
                  </a:lnTo>
                  <a:lnTo>
                    <a:pt x="92" y="6561"/>
                  </a:lnTo>
                  <a:lnTo>
                    <a:pt x="88" y="6109"/>
                  </a:lnTo>
                  <a:lnTo>
                    <a:pt x="84" y="5665"/>
                  </a:lnTo>
                  <a:lnTo>
                    <a:pt x="78" y="5227"/>
                  </a:lnTo>
                  <a:lnTo>
                    <a:pt x="71" y="4792"/>
                  </a:lnTo>
                  <a:lnTo>
                    <a:pt x="63" y="4362"/>
                  </a:lnTo>
                  <a:lnTo>
                    <a:pt x="55" y="3934"/>
                  </a:lnTo>
                  <a:lnTo>
                    <a:pt x="46" y="3507"/>
                  </a:lnTo>
                  <a:lnTo>
                    <a:pt x="38" y="3081"/>
                  </a:lnTo>
                  <a:lnTo>
                    <a:pt x="30" y="2653"/>
                  </a:lnTo>
                  <a:lnTo>
                    <a:pt x="21" y="2223"/>
                  </a:lnTo>
                  <a:lnTo>
                    <a:pt x="15" y="1789"/>
                  </a:lnTo>
                  <a:lnTo>
                    <a:pt x="9" y="1353"/>
                  </a:lnTo>
                  <a:lnTo>
                    <a:pt x="4" y="908"/>
                  </a:lnTo>
                  <a:lnTo>
                    <a:pt x="1" y="4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3375000" y="3552840"/>
              <a:ext cx="2427480" cy="57240"/>
            </a:xfrm>
            <a:custGeom>
              <a:avLst/>
              <a:gdLst/>
              <a:ahLst/>
              <a:rect l="l" t="t" r="r" b="b"/>
              <a:pathLst>
                <a:path w="7647" h="180">
                  <a:moveTo>
                    <a:pt x="7647" y="106"/>
                  </a:moveTo>
                  <a:lnTo>
                    <a:pt x="7572" y="31"/>
                  </a:lnTo>
                  <a:lnTo>
                    <a:pt x="6706" y="30"/>
                  </a:lnTo>
                  <a:lnTo>
                    <a:pt x="5771" y="26"/>
                  </a:lnTo>
                  <a:lnTo>
                    <a:pt x="4791" y="22"/>
                  </a:lnTo>
                  <a:lnTo>
                    <a:pt x="3787" y="15"/>
                  </a:lnTo>
                  <a:lnTo>
                    <a:pt x="2782" y="10"/>
                  </a:lnTo>
                  <a:lnTo>
                    <a:pt x="1801" y="5"/>
                  </a:lnTo>
                  <a:lnTo>
                    <a:pt x="867" y="1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867" y="150"/>
                  </a:lnTo>
                  <a:lnTo>
                    <a:pt x="1801" y="154"/>
                  </a:lnTo>
                  <a:lnTo>
                    <a:pt x="2782" y="158"/>
                  </a:lnTo>
                  <a:lnTo>
                    <a:pt x="3786" y="164"/>
                  </a:lnTo>
                  <a:lnTo>
                    <a:pt x="4790" y="170"/>
                  </a:lnTo>
                  <a:lnTo>
                    <a:pt x="5770" y="176"/>
                  </a:lnTo>
                  <a:lnTo>
                    <a:pt x="6706" y="179"/>
                  </a:lnTo>
                  <a:lnTo>
                    <a:pt x="7572" y="180"/>
                  </a:lnTo>
                  <a:lnTo>
                    <a:pt x="7498" y="106"/>
                  </a:lnTo>
                  <a:lnTo>
                    <a:pt x="7572" y="180"/>
                  </a:lnTo>
                  <a:lnTo>
                    <a:pt x="7581" y="180"/>
                  </a:lnTo>
                  <a:lnTo>
                    <a:pt x="7589" y="179"/>
                  </a:lnTo>
                  <a:lnTo>
                    <a:pt x="7598" y="177"/>
                  </a:lnTo>
                  <a:lnTo>
                    <a:pt x="7605" y="174"/>
                  </a:lnTo>
                  <a:lnTo>
                    <a:pt x="7611" y="171"/>
                  </a:lnTo>
                  <a:lnTo>
                    <a:pt x="7618" y="167"/>
                  </a:lnTo>
                  <a:lnTo>
                    <a:pt x="7623" y="162"/>
                  </a:lnTo>
                  <a:lnTo>
                    <a:pt x="7628" y="157"/>
                  </a:lnTo>
                  <a:lnTo>
                    <a:pt x="7632" y="152"/>
                  </a:lnTo>
                  <a:lnTo>
                    <a:pt x="7636" y="146"/>
                  </a:lnTo>
                  <a:lnTo>
                    <a:pt x="7640" y="140"/>
                  </a:lnTo>
                  <a:lnTo>
                    <a:pt x="7642" y="133"/>
                  </a:lnTo>
                  <a:lnTo>
                    <a:pt x="7644" y="127"/>
                  </a:lnTo>
                  <a:lnTo>
                    <a:pt x="7646" y="119"/>
                  </a:lnTo>
                  <a:lnTo>
                    <a:pt x="7647" y="113"/>
                  </a:lnTo>
                  <a:lnTo>
                    <a:pt x="7647" y="106"/>
                  </a:lnTo>
                  <a:lnTo>
                    <a:pt x="7647" y="99"/>
                  </a:lnTo>
                  <a:lnTo>
                    <a:pt x="7646" y="92"/>
                  </a:lnTo>
                  <a:lnTo>
                    <a:pt x="7644" y="85"/>
                  </a:lnTo>
                  <a:lnTo>
                    <a:pt x="7642" y="78"/>
                  </a:lnTo>
                  <a:lnTo>
                    <a:pt x="7640" y="72"/>
                  </a:lnTo>
                  <a:lnTo>
                    <a:pt x="7636" y="66"/>
                  </a:lnTo>
                  <a:lnTo>
                    <a:pt x="7632" y="60"/>
                  </a:lnTo>
                  <a:lnTo>
                    <a:pt x="7628" y="54"/>
                  </a:lnTo>
                  <a:lnTo>
                    <a:pt x="7623" y="50"/>
                  </a:lnTo>
                  <a:lnTo>
                    <a:pt x="7618" y="45"/>
                  </a:lnTo>
                  <a:lnTo>
                    <a:pt x="7611" y="41"/>
                  </a:lnTo>
                  <a:lnTo>
                    <a:pt x="7605" y="37"/>
                  </a:lnTo>
                  <a:lnTo>
                    <a:pt x="7598" y="35"/>
                  </a:lnTo>
                  <a:lnTo>
                    <a:pt x="7589" y="33"/>
                  </a:lnTo>
                  <a:lnTo>
                    <a:pt x="7581" y="31"/>
                  </a:lnTo>
                  <a:lnTo>
                    <a:pt x="7572" y="31"/>
                  </a:lnTo>
                  <a:lnTo>
                    <a:pt x="7647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56400" y="3586320"/>
              <a:ext cx="46080" cy="2249280"/>
            </a:xfrm>
            <a:custGeom>
              <a:avLst/>
              <a:gdLst/>
              <a:ahLst/>
              <a:rect l="l" t="t" r="r" b="b"/>
              <a:pathLst>
                <a:path w="149" h="7084">
                  <a:moveTo>
                    <a:pt x="74" y="7084"/>
                  </a:moveTo>
                  <a:lnTo>
                    <a:pt x="149" y="7009"/>
                  </a:lnTo>
                  <a:lnTo>
                    <a:pt x="149" y="6099"/>
                  </a:lnTo>
                  <a:lnTo>
                    <a:pt x="149" y="5217"/>
                  </a:lnTo>
                  <a:lnTo>
                    <a:pt x="149" y="4355"/>
                  </a:lnTo>
                  <a:lnTo>
                    <a:pt x="149" y="3502"/>
                  </a:lnTo>
                  <a:lnTo>
                    <a:pt x="149" y="2650"/>
                  </a:lnTo>
                  <a:lnTo>
                    <a:pt x="149" y="1788"/>
                  </a:lnTo>
                  <a:lnTo>
                    <a:pt x="149" y="908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908"/>
                  </a:lnTo>
                  <a:lnTo>
                    <a:pt x="0" y="1788"/>
                  </a:lnTo>
                  <a:lnTo>
                    <a:pt x="0" y="2650"/>
                  </a:lnTo>
                  <a:lnTo>
                    <a:pt x="0" y="3502"/>
                  </a:lnTo>
                  <a:lnTo>
                    <a:pt x="0" y="4355"/>
                  </a:lnTo>
                  <a:lnTo>
                    <a:pt x="0" y="5217"/>
                  </a:lnTo>
                  <a:lnTo>
                    <a:pt x="0" y="6099"/>
                  </a:lnTo>
                  <a:lnTo>
                    <a:pt x="0" y="7009"/>
                  </a:lnTo>
                  <a:lnTo>
                    <a:pt x="74" y="6935"/>
                  </a:lnTo>
                  <a:lnTo>
                    <a:pt x="0" y="7009"/>
                  </a:lnTo>
                  <a:lnTo>
                    <a:pt x="0" y="7019"/>
                  </a:lnTo>
                  <a:lnTo>
                    <a:pt x="1" y="7027"/>
                  </a:lnTo>
                  <a:lnTo>
                    <a:pt x="3" y="7035"/>
                  </a:lnTo>
                  <a:lnTo>
                    <a:pt x="6" y="7042"/>
                  </a:lnTo>
                  <a:lnTo>
                    <a:pt x="9" y="7049"/>
                  </a:lnTo>
                  <a:lnTo>
                    <a:pt x="13" y="7055"/>
                  </a:lnTo>
                  <a:lnTo>
                    <a:pt x="18" y="7061"/>
                  </a:lnTo>
                  <a:lnTo>
                    <a:pt x="23" y="7065"/>
                  </a:lnTo>
                  <a:lnTo>
                    <a:pt x="28" y="7070"/>
                  </a:lnTo>
                  <a:lnTo>
                    <a:pt x="34" y="7073"/>
                  </a:lnTo>
                  <a:lnTo>
                    <a:pt x="40" y="7077"/>
                  </a:lnTo>
                  <a:lnTo>
                    <a:pt x="47" y="7080"/>
                  </a:lnTo>
                  <a:lnTo>
                    <a:pt x="53" y="7082"/>
                  </a:lnTo>
                  <a:lnTo>
                    <a:pt x="60" y="7083"/>
                  </a:lnTo>
                  <a:lnTo>
                    <a:pt x="67" y="7084"/>
                  </a:lnTo>
                  <a:lnTo>
                    <a:pt x="74" y="7084"/>
                  </a:lnTo>
                  <a:lnTo>
                    <a:pt x="81" y="7084"/>
                  </a:lnTo>
                  <a:lnTo>
                    <a:pt x="88" y="7083"/>
                  </a:lnTo>
                  <a:lnTo>
                    <a:pt x="94" y="7082"/>
                  </a:lnTo>
                  <a:lnTo>
                    <a:pt x="102" y="7080"/>
                  </a:lnTo>
                  <a:lnTo>
                    <a:pt x="108" y="7077"/>
                  </a:lnTo>
                  <a:lnTo>
                    <a:pt x="114" y="7073"/>
                  </a:lnTo>
                  <a:lnTo>
                    <a:pt x="120" y="7070"/>
                  </a:lnTo>
                  <a:lnTo>
                    <a:pt x="126" y="7065"/>
                  </a:lnTo>
                  <a:lnTo>
                    <a:pt x="130" y="7061"/>
                  </a:lnTo>
                  <a:lnTo>
                    <a:pt x="135" y="7055"/>
                  </a:lnTo>
                  <a:lnTo>
                    <a:pt x="139" y="7049"/>
                  </a:lnTo>
                  <a:lnTo>
                    <a:pt x="143" y="7042"/>
                  </a:lnTo>
                  <a:lnTo>
                    <a:pt x="145" y="7035"/>
                  </a:lnTo>
                  <a:lnTo>
                    <a:pt x="147" y="7027"/>
                  </a:lnTo>
                  <a:lnTo>
                    <a:pt x="148" y="7019"/>
                  </a:lnTo>
                  <a:lnTo>
                    <a:pt x="149" y="7009"/>
                  </a:lnTo>
                  <a:lnTo>
                    <a:pt x="74" y="70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3381480" y="5781600"/>
              <a:ext cx="2396880" cy="54000"/>
            </a:xfrm>
            <a:custGeom>
              <a:avLst/>
              <a:gdLst/>
              <a:ahLst/>
              <a:rect l="l" t="t" r="r" b="b"/>
              <a:pathLst>
                <a:path w="7554" h="170">
                  <a:moveTo>
                    <a:pt x="0" y="74"/>
                  </a:moveTo>
                  <a:lnTo>
                    <a:pt x="75" y="149"/>
                  </a:lnTo>
                  <a:lnTo>
                    <a:pt x="937" y="150"/>
                  </a:lnTo>
                  <a:lnTo>
                    <a:pt x="1861" y="152"/>
                  </a:lnTo>
                  <a:lnTo>
                    <a:pt x="2827" y="155"/>
                  </a:lnTo>
                  <a:lnTo>
                    <a:pt x="3814" y="159"/>
                  </a:lnTo>
                  <a:lnTo>
                    <a:pt x="4801" y="164"/>
                  </a:lnTo>
                  <a:lnTo>
                    <a:pt x="5767" y="167"/>
                  </a:lnTo>
                  <a:lnTo>
                    <a:pt x="6692" y="169"/>
                  </a:lnTo>
                  <a:lnTo>
                    <a:pt x="7554" y="170"/>
                  </a:lnTo>
                  <a:lnTo>
                    <a:pt x="7554" y="21"/>
                  </a:lnTo>
                  <a:lnTo>
                    <a:pt x="6692" y="20"/>
                  </a:lnTo>
                  <a:lnTo>
                    <a:pt x="5767" y="18"/>
                  </a:lnTo>
                  <a:lnTo>
                    <a:pt x="4801" y="15"/>
                  </a:lnTo>
                  <a:lnTo>
                    <a:pt x="3815" y="10"/>
                  </a:lnTo>
                  <a:lnTo>
                    <a:pt x="2827" y="6"/>
                  </a:lnTo>
                  <a:lnTo>
                    <a:pt x="1861" y="3"/>
                  </a:lnTo>
                  <a:lnTo>
                    <a:pt x="937" y="1"/>
                  </a:lnTo>
                  <a:lnTo>
                    <a:pt x="75" y="0"/>
                  </a:lnTo>
                  <a:lnTo>
                    <a:pt x="149" y="74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49" y="3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1" y="114"/>
                  </a:lnTo>
                  <a:lnTo>
                    <a:pt x="14" y="121"/>
                  </a:lnTo>
                  <a:lnTo>
                    <a:pt x="19" y="126"/>
                  </a:lnTo>
                  <a:lnTo>
                    <a:pt x="23" y="131"/>
                  </a:lnTo>
                  <a:lnTo>
                    <a:pt x="28" y="135"/>
                  </a:lnTo>
                  <a:lnTo>
                    <a:pt x="35" y="140"/>
                  </a:lnTo>
                  <a:lnTo>
                    <a:pt x="42" y="143"/>
                  </a:lnTo>
                  <a:lnTo>
                    <a:pt x="49" y="145"/>
                  </a:lnTo>
                  <a:lnTo>
                    <a:pt x="57" y="147"/>
                  </a:lnTo>
                  <a:lnTo>
                    <a:pt x="65" y="149"/>
                  </a:lnTo>
                  <a:lnTo>
                    <a:pt x="75" y="1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351240" y="3552840"/>
              <a:ext cx="76320" cy="2252880"/>
            </a:xfrm>
            <a:custGeom>
              <a:avLst/>
              <a:gdLst/>
              <a:ahLst/>
              <a:rect l="l" t="t" r="r" b="b"/>
              <a:pathLst>
                <a:path w="241" h="7094">
                  <a:moveTo>
                    <a:pt x="74" y="0"/>
                  </a:moveTo>
                  <a:lnTo>
                    <a:pt x="0" y="74"/>
                  </a:lnTo>
                  <a:lnTo>
                    <a:pt x="1" y="533"/>
                  </a:lnTo>
                  <a:lnTo>
                    <a:pt x="4" y="983"/>
                  </a:lnTo>
                  <a:lnTo>
                    <a:pt x="8" y="1427"/>
                  </a:lnTo>
                  <a:lnTo>
                    <a:pt x="14" y="1864"/>
                  </a:lnTo>
                  <a:lnTo>
                    <a:pt x="21" y="2298"/>
                  </a:lnTo>
                  <a:lnTo>
                    <a:pt x="29" y="2729"/>
                  </a:lnTo>
                  <a:lnTo>
                    <a:pt x="37" y="3156"/>
                  </a:lnTo>
                  <a:lnTo>
                    <a:pt x="46" y="3583"/>
                  </a:lnTo>
                  <a:lnTo>
                    <a:pt x="54" y="4010"/>
                  </a:lnTo>
                  <a:lnTo>
                    <a:pt x="63" y="4438"/>
                  </a:lnTo>
                  <a:lnTo>
                    <a:pt x="71" y="4867"/>
                  </a:lnTo>
                  <a:lnTo>
                    <a:pt x="77" y="5301"/>
                  </a:lnTo>
                  <a:lnTo>
                    <a:pt x="84" y="5740"/>
                  </a:lnTo>
                  <a:lnTo>
                    <a:pt x="88" y="6184"/>
                  </a:lnTo>
                  <a:lnTo>
                    <a:pt x="91" y="6636"/>
                  </a:lnTo>
                  <a:lnTo>
                    <a:pt x="92" y="7094"/>
                  </a:lnTo>
                  <a:lnTo>
                    <a:pt x="241" y="7094"/>
                  </a:lnTo>
                  <a:lnTo>
                    <a:pt x="240" y="6635"/>
                  </a:lnTo>
                  <a:lnTo>
                    <a:pt x="237" y="6183"/>
                  </a:lnTo>
                  <a:lnTo>
                    <a:pt x="233" y="5738"/>
                  </a:lnTo>
                  <a:lnTo>
                    <a:pt x="226" y="5300"/>
                  </a:lnTo>
                  <a:lnTo>
                    <a:pt x="219" y="4865"/>
                  </a:lnTo>
                  <a:lnTo>
                    <a:pt x="212" y="4435"/>
                  </a:lnTo>
                  <a:lnTo>
                    <a:pt x="203" y="4006"/>
                  </a:lnTo>
                  <a:lnTo>
                    <a:pt x="195" y="3580"/>
                  </a:lnTo>
                  <a:lnTo>
                    <a:pt x="185" y="3154"/>
                  </a:lnTo>
                  <a:lnTo>
                    <a:pt x="177" y="2726"/>
                  </a:lnTo>
                  <a:lnTo>
                    <a:pt x="170" y="2296"/>
                  </a:lnTo>
                  <a:lnTo>
                    <a:pt x="162" y="1863"/>
                  </a:lnTo>
                  <a:lnTo>
                    <a:pt x="157" y="1425"/>
                  </a:lnTo>
                  <a:lnTo>
                    <a:pt x="152" y="982"/>
                  </a:lnTo>
                  <a:lnTo>
                    <a:pt x="150" y="532"/>
                  </a:lnTo>
                  <a:lnTo>
                    <a:pt x="149" y="74"/>
                  </a:lnTo>
                  <a:lnTo>
                    <a:pt x="74" y="149"/>
                  </a:lnTo>
                  <a:lnTo>
                    <a:pt x="149" y="74"/>
                  </a:lnTo>
                  <a:lnTo>
                    <a:pt x="149" y="65"/>
                  </a:lnTo>
                  <a:lnTo>
                    <a:pt x="147" y="56"/>
                  </a:lnTo>
                  <a:lnTo>
                    <a:pt x="145" y="49"/>
                  </a:lnTo>
                  <a:lnTo>
                    <a:pt x="142" y="42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3"/>
                  </a:lnTo>
                  <a:lnTo>
                    <a:pt x="126" y="18"/>
                  </a:lnTo>
                  <a:lnTo>
                    <a:pt x="119" y="14"/>
                  </a:lnTo>
                  <a:lnTo>
                    <a:pt x="114" y="10"/>
                  </a:lnTo>
                  <a:lnTo>
                    <a:pt x="108" y="7"/>
                  </a:lnTo>
                  <a:lnTo>
                    <a:pt x="101" y="4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17" y="23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402000" y="3575160"/>
              <a:ext cx="2346480" cy="561960"/>
            </a:xfrm>
            <a:prstGeom prst="rect">
              <a:avLst/>
            </a:prstGeom>
            <a:solidFill>
              <a:srgbClr val="b78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402000" y="3551400"/>
              <a:ext cx="2368440" cy="47520"/>
            </a:xfrm>
            <a:custGeom>
              <a:avLst/>
              <a:gdLst/>
              <a:ahLst/>
              <a:rect l="l" t="t" r="r" b="b"/>
              <a:pathLst>
                <a:path w="7462" h="149">
                  <a:moveTo>
                    <a:pt x="7462" y="75"/>
                  </a:moveTo>
                  <a:lnTo>
                    <a:pt x="7388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7388" y="149"/>
                  </a:lnTo>
                  <a:lnTo>
                    <a:pt x="7462" y="75"/>
                  </a:lnTo>
                  <a:lnTo>
                    <a:pt x="7388" y="149"/>
                  </a:lnTo>
                  <a:lnTo>
                    <a:pt x="7397" y="149"/>
                  </a:lnTo>
                  <a:lnTo>
                    <a:pt x="7405" y="148"/>
                  </a:lnTo>
                  <a:lnTo>
                    <a:pt x="7413" y="146"/>
                  </a:lnTo>
                  <a:lnTo>
                    <a:pt x="7420" y="143"/>
                  </a:lnTo>
                  <a:lnTo>
                    <a:pt x="7426" y="140"/>
                  </a:lnTo>
                  <a:lnTo>
                    <a:pt x="7433" y="136"/>
                  </a:lnTo>
                  <a:lnTo>
                    <a:pt x="7439" y="132"/>
                  </a:lnTo>
                  <a:lnTo>
                    <a:pt x="7443" y="126"/>
                  </a:lnTo>
                  <a:lnTo>
                    <a:pt x="7447" y="121"/>
                  </a:lnTo>
                  <a:lnTo>
                    <a:pt x="7452" y="115"/>
                  </a:lnTo>
                  <a:lnTo>
                    <a:pt x="7455" y="110"/>
                  </a:lnTo>
                  <a:lnTo>
                    <a:pt x="7458" y="102"/>
                  </a:lnTo>
                  <a:lnTo>
                    <a:pt x="7460" y="96"/>
                  </a:lnTo>
                  <a:lnTo>
                    <a:pt x="7461" y="89"/>
                  </a:lnTo>
                  <a:lnTo>
                    <a:pt x="7462" y="82"/>
                  </a:lnTo>
                  <a:lnTo>
                    <a:pt x="7462" y="75"/>
                  </a:lnTo>
                  <a:lnTo>
                    <a:pt x="7462" y="69"/>
                  </a:lnTo>
                  <a:lnTo>
                    <a:pt x="7461" y="61"/>
                  </a:lnTo>
                  <a:lnTo>
                    <a:pt x="7460" y="54"/>
                  </a:lnTo>
                  <a:lnTo>
                    <a:pt x="7458" y="48"/>
                  </a:lnTo>
                  <a:lnTo>
                    <a:pt x="7455" y="41"/>
                  </a:lnTo>
                  <a:lnTo>
                    <a:pt x="7452" y="35"/>
                  </a:lnTo>
                  <a:lnTo>
                    <a:pt x="7447" y="30"/>
                  </a:lnTo>
                  <a:lnTo>
                    <a:pt x="7443" y="23"/>
                  </a:lnTo>
                  <a:lnTo>
                    <a:pt x="7439" y="19"/>
                  </a:lnTo>
                  <a:lnTo>
                    <a:pt x="7433" y="14"/>
                  </a:lnTo>
                  <a:lnTo>
                    <a:pt x="7426" y="10"/>
                  </a:lnTo>
                  <a:lnTo>
                    <a:pt x="7420" y="7"/>
                  </a:lnTo>
                  <a:lnTo>
                    <a:pt x="7413" y="5"/>
                  </a:lnTo>
                  <a:lnTo>
                    <a:pt x="7405" y="2"/>
                  </a:lnTo>
                  <a:lnTo>
                    <a:pt x="7397" y="0"/>
                  </a:lnTo>
                  <a:lnTo>
                    <a:pt x="7388" y="0"/>
                  </a:lnTo>
                  <a:lnTo>
                    <a:pt x="7462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24360" y="3575160"/>
              <a:ext cx="46080" cy="585720"/>
            </a:xfrm>
            <a:custGeom>
              <a:avLst/>
              <a:gdLst/>
              <a:ahLst/>
              <a:rect l="l" t="t" r="r" b="b"/>
              <a:pathLst>
                <a:path w="149" h="1845">
                  <a:moveTo>
                    <a:pt x="75" y="1845"/>
                  </a:moveTo>
                  <a:lnTo>
                    <a:pt x="149" y="1770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1770"/>
                  </a:lnTo>
                  <a:lnTo>
                    <a:pt x="75" y="1845"/>
                  </a:lnTo>
                  <a:lnTo>
                    <a:pt x="0" y="1770"/>
                  </a:lnTo>
                  <a:lnTo>
                    <a:pt x="0" y="1780"/>
                  </a:lnTo>
                  <a:lnTo>
                    <a:pt x="1" y="1788"/>
                  </a:lnTo>
                  <a:lnTo>
                    <a:pt x="3" y="1795"/>
                  </a:lnTo>
                  <a:lnTo>
                    <a:pt x="6" y="1803"/>
                  </a:lnTo>
                  <a:lnTo>
                    <a:pt x="10" y="1810"/>
                  </a:lnTo>
                  <a:lnTo>
                    <a:pt x="14" y="1816"/>
                  </a:lnTo>
                  <a:lnTo>
                    <a:pt x="18" y="1822"/>
                  </a:lnTo>
                  <a:lnTo>
                    <a:pt x="23" y="1826"/>
                  </a:lnTo>
                  <a:lnTo>
                    <a:pt x="28" y="1831"/>
                  </a:lnTo>
                  <a:lnTo>
                    <a:pt x="35" y="1834"/>
                  </a:lnTo>
                  <a:lnTo>
                    <a:pt x="41" y="1837"/>
                  </a:lnTo>
                  <a:lnTo>
                    <a:pt x="47" y="1841"/>
                  </a:lnTo>
                  <a:lnTo>
                    <a:pt x="54" y="1843"/>
                  </a:lnTo>
                  <a:lnTo>
                    <a:pt x="61" y="1844"/>
                  </a:lnTo>
                  <a:lnTo>
                    <a:pt x="67" y="1845"/>
                  </a:lnTo>
                  <a:lnTo>
                    <a:pt x="75" y="1845"/>
                  </a:lnTo>
                  <a:lnTo>
                    <a:pt x="82" y="1845"/>
                  </a:lnTo>
                  <a:lnTo>
                    <a:pt x="88" y="1844"/>
                  </a:lnTo>
                  <a:lnTo>
                    <a:pt x="96" y="1843"/>
                  </a:lnTo>
                  <a:lnTo>
                    <a:pt x="102" y="1841"/>
                  </a:lnTo>
                  <a:lnTo>
                    <a:pt x="108" y="1837"/>
                  </a:lnTo>
                  <a:lnTo>
                    <a:pt x="115" y="1834"/>
                  </a:lnTo>
                  <a:lnTo>
                    <a:pt x="121" y="1831"/>
                  </a:lnTo>
                  <a:lnTo>
                    <a:pt x="126" y="1826"/>
                  </a:lnTo>
                  <a:lnTo>
                    <a:pt x="131" y="1822"/>
                  </a:lnTo>
                  <a:lnTo>
                    <a:pt x="136" y="1816"/>
                  </a:lnTo>
                  <a:lnTo>
                    <a:pt x="140" y="1810"/>
                  </a:lnTo>
                  <a:lnTo>
                    <a:pt x="143" y="1803"/>
                  </a:lnTo>
                  <a:lnTo>
                    <a:pt x="146" y="1795"/>
                  </a:lnTo>
                  <a:lnTo>
                    <a:pt x="147" y="1788"/>
                  </a:lnTo>
                  <a:lnTo>
                    <a:pt x="149" y="1780"/>
                  </a:lnTo>
                  <a:lnTo>
                    <a:pt x="149" y="1770"/>
                  </a:lnTo>
                  <a:lnTo>
                    <a:pt x="75" y="18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378240" y="4113360"/>
              <a:ext cx="2370240" cy="47520"/>
            </a:xfrm>
            <a:custGeom>
              <a:avLst/>
              <a:gdLst/>
              <a:ahLst/>
              <a:rect l="l" t="t" r="r" b="b"/>
              <a:pathLst>
                <a:path w="7462" h="149">
                  <a:moveTo>
                    <a:pt x="0" y="74"/>
                  </a:moveTo>
                  <a:lnTo>
                    <a:pt x="74" y="149"/>
                  </a:lnTo>
                  <a:lnTo>
                    <a:pt x="7462" y="149"/>
                  </a:lnTo>
                  <a:lnTo>
                    <a:pt x="7462" y="0"/>
                  </a:lnTo>
                  <a:lnTo>
                    <a:pt x="74" y="0"/>
                  </a:lnTo>
                  <a:lnTo>
                    <a:pt x="0" y="74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9" y="13"/>
                  </a:lnTo>
                  <a:lnTo>
                    <a:pt x="23" y="19"/>
                  </a:lnTo>
                  <a:lnTo>
                    <a:pt x="19" y="23"/>
                  </a:lnTo>
                  <a:lnTo>
                    <a:pt x="14" y="29"/>
                  </a:lnTo>
                  <a:lnTo>
                    <a:pt x="10" y="34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6"/>
                  </a:lnTo>
                  <a:lnTo>
                    <a:pt x="23" y="131"/>
                  </a:lnTo>
                  <a:lnTo>
                    <a:pt x="29" y="135"/>
                  </a:lnTo>
                  <a:lnTo>
                    <a:pt x="35" y="139"/>
                  </a:lnTo>
                  <a:lnTo>
                    <a:pt x="42" y="142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5" y="149"/>
                  </a:lnTo>
                  <a:lnTo>
                    <a:pt x="74" y="1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378240" y="3551400"/>
              <a:ext cx="47520" cy="585720"/>
            </a:xfrm>
            <a:custGeom>
              <a:avLst/>
              <a:gdLst/>
              <a:ahLst/>
              <a:rect l="l" t="t" r="r" b="b"/>
              <a:pathLst>
                <a:path w="149" h="1845">
                  <a:moveTo>
                    <a:pt x="74" y="0"/>
                  </a:moveTo>
                  <a:lnTo>
                    <a:pt x="0" y="75"/>
                  </a:lnTo>
                  <a:lnTo>
                    <a:pt x="0" y="1845"/>
                  </a:lnTo>
                  <a:lnTo>
                    <a:pt x="149" y="1845"/>
                  </a:lnTo>
                  <a:lnTo>
                    <a:pt x="149" y="75"/>
                  </a:lnTo>
                  <a:lnTo>
                    <a:pt x="74" y="0"/>
                  </a:lnTo>
                  <a:lnTo>
                    <a:pt x="149" y="75"/>
                  </a:lnTo>
                  <a:lnTo>
                    <a:pt x="149" y="67"/>
                  </a:lnTo>
                  <a:lnTo>
                    <a:pt x="148" y="58"/>
                  </a:lnTo>
                  <a:lnTo>
                    <a:pt x="146" y="50"/>
                  </a:lnTo>
                  <a:lnTo>
                    <a:pt x="142" y="42"/>
                  </a:lnTo>
                  <a:lnTo>
                    <a:pt x="139" y="36"/>
                  </a:lnTo>
                  <a:lnTo>
                    <a:pt x="135" y="30"/>
                  </a:lnTo>
                  <a:lnTo>
                    <a:pt x="131" y="25"/>
                  </a:lnTo>
                  <a:lnTo>
                    <a:pt x="126" y="19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08" y="8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4"/>
                  </a:lnTo>
                  <a:lnTo>
                    <a:pt x="47" y="6"/>
                  </a:lnTo>
                  <a:lnTo>
                    <a:pt x="41" y="8"/>
                  </a:lnTo>
                  <a:lnTo>
                    <a:pt x="34" y="11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8" y="25"/>
                  </a:lnTo>
                  <a:lnTo>
                    <a:pt x="13" y="30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549600" y="4245120"/>
              <a:ext cx="1011240" cy="1566720"/>
            </a:xfrm>
            <a:custGeom>
              <a:avLst/>
              <a:gdLst/>
              <a:ahLst/>
              <a:rect l="l" t="t" r="r" b="b"/>
              <a:pathLst>
                <a:path w="3183" h="4934">
                  <a:moveTo>
                    <a:pt x="2066" y="129"/>
                  </a:moveTo>
                  <a:lnTo>
                    <a:pt x="2089" y="167"/>
                  </a:lnTo>
                  <a:lnTo>
                    <a:pt x="2113" y="206"/>
                  </a:lnTo>
                  <a:lnTo>
                    <a:pt x="2138" y="245"/>
                  </a:lnTo>
                  <a:lnTo>
                    <a:pt x="2166" y="285"/>
                  </a:lnTo>
                  <a:lnTo>
                    <a:pt x="2221" y="364"/>
                  </a:lnTo>
                  <a:lnTo>
                    <a:pt x="2280" y="444"/>
                  </a:lnTo>
                  <a:lnTo>
                    <a:pt x="2340" y="524"/>
                  </a:lnTo>
                  <a:lnTo>
                    <a:pt x="2401" y="605"/>
                  </a:lnTo>
                  <a:lnTo>
                    <a:pt x="2462" y="687"/>
                  </a:lnTo>
                  <a:lnTo>
                    <a:pt x="2521" y="770"/>
                  </a:lnTo>
                  <a:lnTo>
                    <a:pt x="2549" y="812"/>
                  </a:lnTo>
                  <a:lnTo>
                    <a:pt x="2576" y="854"/>
                  </a:lnTo>
                  <a:lnTo>
                    <a:pt x="2604" y="896"/>
                  </a:lnTo>
                  <a:lnTo>
                    <a:pt x="2629" y="938"/>
                  </a:lnTo>
                  <a:lnTo>
                    <a:pt x="2653" y="981"/>
                  </a:lnTo>
                  <a:lnTo>
                    <a:pt x="2676" y="1024"/>
                  </a:lnTo>
                  <a:lnTo>
                    <a:pt x="2697" y="1067"/>
                  </a:lnTo>
                  <a:lnTo>
                    <a:pt x="2717" y="1110"/>
                  </a:lnTo>
                  <a:lnTo>
                    <a:pt x="2735" y="1154"/>
                  </a:lnTo>
                  <a:lnTo>
                    <a:pt x="2752" y="1197"/>
                  </a:lnTo>
                  <a:lnTo>
                    <a:pt x="2765" y="1242"/>
                  </a:lnTo>
                  <a:lnTo>
                    <a:pt x="2777" y="1286"/>
                  </a:lnTo>
                  <a:lnTo>
                    <a:pt x="2786" y="1331"/>
                  </a:lnTo>
                  <a:lnTo>
                    <a:pt x="2793" y="1375"/>
                  </a:lnTo>
                  <a:lnTo>
                    <a:pt x="2798" y="1420"/>
                  </a:lnTo>
                  <a:lnTo>
                    <a:pt x="2799" y="1465"/>
                  </a:lnTo>
                  <a:lnTo>
                    <a:pt x="2777" y="1475"/>
                  </a:lnTo>
                  <a:lnTo>
                    <a:pt x="2752" y="1488"/>
                  </a:lnTo>
                  <a:lnTo>
                    <a:pt x="2722" y="1505"/>
                  </a:lnTo>
                  <a:lnTo>
                    <a:pt x="2692" y="1523"/>
                  </a:lnTo>
                  <a:lnTo>
                    <a:pt x="2624" y="1565"/>
                  </a:lnTo>
                  <a:lnTo>
                    <a:pt x="2552" y="1609"/>
                  </a:lnTo>
                  <a:lnTo>
                    <a:pt x="2517" y="1631"/>
                  </a:lnTo>
                  <a:lnTo>
                    <a:pt x="2483" y="1651"/>
                  </a:lnTo>
                  <a:lnTo>
                    <a:pt x="2449" y="1670"/>
                  </a:lnTo>
                  <a:lnTo>
                    <a:pt x="2418" y="1687"/>
                  </a:lnTo>
                  <a:lnTo>
                    <a:pt x="2389" y="1701"/>
                  </a:lnTo>
                  <a:lnTo>
                    <a:pt x="2363" y="1712"/>
                  </a:lnTo>
                  <a:lnTo>
                    <a:pt x="2352" y="1716"/>
                  </a:lnTo>
                  <a:lnTo>
                    <a:pt x="2341" y="1718"/>
                  </a:lnTo>
                  <a:lnTo>
                    <a:pt x="2331" y="1720"/>
                  </a:lnTo>
                  <a:lnTo>
                    <a:pt x="2322" y="1721"/>
                  </a:lnTo>
                  <a:lnTo>
                    <a:pt x="2322" y="1742"/>
                  </a:lnTo>
                  <a:lnTo>
                    <a:pt x="2322" y="1763"/>
                  </a:lnTo>
                  <a:lnTo>
                    <a:pt x="2322" y="1785"/>
                  </a:lnTo>
                  <a:lnTo>
                    <a:pt x="2322" y="1808"/>
                  </a:lnTo>
                  <a:lnTo>
                    <a:pt x="2322" y="1830"/>
                  </a:lnTo>
                  <a:lnTo>
                    <a:pt x="2322" y="1852"/>
                  </a:lnTo>
                  <a:lnTo>
                    <a:pt x="2322" y="1875"/>
                  </a:lnTo>
                  <a:lnTo>
                    <a:pt x="2322" y="1899"/>
                  </a:lnTo>
                  <a:lnTo>
                    <a:pt x="2410" y="1894"/>
                  </a:lnTo>
                  <a:lnTo>
                    <a:pt x="2499" y="1888"/>
                  </a:lnTo>
                  <a:lnTo>
                    <a:pt x="2587" y="1883"/>
                  </a:lnTo>
                  <a:lnTo>
                    <a:pt x="2675" y="1878"/>
                  </a:lnTo>
                  <a:lnTo>
                    <a:pt x="2764" y="1873"/>
                  </a:lnTo>
                  <a:lnTo>
                    <a:pt x="2854" y="1867"/>
                  </a:lnTo>
                  <a:lnTo>
                    <a:pt x="2943" y="1861"/>
                  </a:lnTo>
                  <a:lnTo>
                    <a:pt x="3033" y="1856"/>
                  </a:lnTo>
                  <a:lnTo>
                    <a:pt x="3031" y="1880"/>
                  </a:lnTo>
                  <a:lnTo>
                    <a:pt x="3028" y="1904"/>
                  </a:lnTo>
                  <a:lnTo>
                    <a:pt x="3026" y="1928"/>
                  </a:lnTo>
                  <a:lnTo>
                    <a:pt x="3023" y="1952"/>
                  </a:lnTo>
                  <a:lnTo>
                    <a:pt x="3020" y="1977"/>
                  </a:lnTo>
                  <a:lnTo>
                    <a:pt x="3017" y="2001"/>
                  </a:lnTo>
                  <a:lnTo>
                    <a:pt x="3015" y="2024"/>
                  </a:lnTo>
                  <a:lnTo>
                    <a:pt x="3012" y="2048"/>
                  </a:lnTo>
                  <a:lnTo>
                    <a:pt x="2996" y="2049"/>
                  </a:lnTo>
                  <a:lnTo>
                    <a:pt x="2981" y="2051"/>
                  </a:lnTo>
                  <a:lnTo>
                    <a:pt x="2966" y="2054"/>
                  </a:lnTo>
                  <a:lnTo>
                    <a:pt x="2952" y="2058"/>
                  </a:lnTo>
                  <a:lnTo>
                    <a:pt x="2924" y="2068"/>
                  </a:lnTo>
                  <a:lnTo>
                    <a:pt x="2898" y="2081"/>
                  </a:lnTo>
                  <a:lnTo>
                    <a:pt x="2871" y="2092"/>
                  </a:lnTo>
                  <a:lnTo>
                    <a:pt x="2847" y="2103"/>
                  </a:lnTo>
                  <a:lnTo>
                    <a:pt x="2835" y="2107"/>
                  </a:lnTo>
                  <a:lnTo>
                    <a:pt x="2823" y="2110"/>
                  </a:lnTo>
                  <a:lnTo>
                    <a:pt x="2810" y="2111"/>
                  </a:lnTo>
                  <a:lnTo>
                    <a:pt x="2799" y="2112"/>
                  </a:lnTo>
                  <a:lnTo>
                    <a:pt x="2799" y="2133"/>
                  </a:lnTo>
                  <a:lnTo>
                    <a:pt x="2799" y="2155"/>
                  </a:lnTo>
                  <a:lnTo>
                    <a:pt x="2799" y="2176"/>
                  </a:lnTo>
                  <a:lnTo>
                    <a:pt x="2799" y="2197"/>
                  </a:lnTo>
                  <a:lnTo>
                    <a:pt x="2799" y="2219"/>
                  </a:lnTo>
                  <a:lnTo>
                    <a:pt x="2799" y="2240"/>
                  </a:lnTo>
                  <a:lnTo>
                    <a:pt x="2799" y="2261"/>
                  </a:lnTo>
                  <a:lnTo>
                    <a:pt x="2799" y="2283"/>
                  </a:lnTo>
                  <a:lnTo>
                    <a:pt x="2828" y="2282"/>
                  </a:lnTo>
                  <a:lnTo>
                    <a:pt x="2856" y="2280"/>
                  </a:lnTo>
                  <a:lnTo>
                    <a:pt x="2881" y="2277"/>
                  </a:lnTo>
                  <a:lnTo>
                    <a:pt x="2905" y="2273"/>
                  </a:lnTo>
                  <a:lnTo>
                    <a:pt x="2927" y="2268"/>
                  </a:lnTo>
                  <a:lnTo>
                    <a:pt x="2949" y="2262"/>
                  </a:lnTo>
                  <a:lnTo>
                    <a:pt x="2970" y="2257"/>
                  </a:lnTo>
                  <a:lnTo>
                    <a:pt x="2991" y="2251"/>
                  </a:lnTo>
                  <a:lnTo>
                    <a:pt x="3032" y="2239"/>
                  </a:lnTo>
                  <a:lnTo>
                    <a:pt x="3077" y="2229"/>
                  </a:lnTo>
                  <a:lnTo>
                    <a:pt x="3100" y="2224"/>
                  </a:lnTo>
                  <a:lnTo>
                    <a:pt x="3125" y="2221"/>
                  </a:lnTo>
                  <a:lnTo>
                    <a:pt x="3153" y="2219"/>
                  </a:lnTo>
                  <a:lnTo>
                    <a:pt x="3183" y="2219"/>
                  </a:lnTo>
                  <a:lnTo>
                    <a:pt x="3182" y="2259"/>
                  </a:lnTo>
                  <a:lnTo>
                    <a:pt x="3180" y="2297"/>
                  </a:lnTo>
                  <a:lnTo>
                    <a:pt x="3178" y="2333"/>
                  </a:lnTo>
                  <a:lnTo>
                    <a:pt x="3174" y="2366"/>
                  </a:lnTo>
                  <a:lnTo>
                    <a:pt x="3167" y="2398"/>
                  </a:lnTo>
                  <a:lnTo>
                    <a:pt x="3160" y="2426"/>
                  </a:lnTo>
                  <a:lnTo>
                    <a:pt x="3156" y="2440"/>
                  </a:lnTo>
                  <a:lnTo>
                    <a:pt x="3151" y="2452"/>
                  </a:lnTo>
                  <a:lnTo>
                    <a:pt x="3145" y="2464"/>
                  </a:lnTo>
                  <a:lnTo>
                    <a:pt x="3140" y="2475"/>
                  </a:lnTo>
                  <a:lnTo>
                    <a:pt x="3134" y="2487"/>
                  </a:lnTo>
                  <a:lnTo>
                    <a:pt x="3127" y="2496"/>
                  </a:lnTo>
                  <a:lnTo>
                    <a:pt x="3120" y="2506"/>
                  </a:lnTo>
                  <a:lnTo>
                    <a:pt x="3112" y="2515"/>
                  </a:lnTo>
                  <a:lnTo>
                    <a:pt x="3103" y="2524"/>
                  </a:lnTo>
                  <a:lnTo>
                    <a:pt x="3094" y="2531"/>
                  </a:lnTo>
                  <a:lnTo>
                    <a:pt x="3085" y="2537"/>
                  </a:lnTo>
                  <a:lnTo>
                    <a:pt x="3075" y="2544"/>
                  </a:lnTo>
                  <a:lnTo>
                    <a:pt x="3064" y="2549"/>
                  </a:lnTo>
                  <a:lnTo>
                    <a:pt x="3052" y="2554"/>
                  </a:lnTo>
                  <a:lnTo>
                    <a:pt x="3040" y="2558"/>
                  </a:lnTo>
                  <a:lnTo>
                    <a:pt x="3028" y="2561"/>
                  </a:lnTo>
                  <a:lnTo>
                    <a:pt x="3014" y="2564"/>
                  </a:lnTo>
                  <a:lnTo>
                    <a:pt x="2999" y="2566"/>
                  </a:lnTo>
                  <a:lnTo>
                    <a:pt x="2985" y="2567"/>
                  </a:lnTo>
                  <a:lnTo>
                    <a:pt x="2969" y="2567"/>
                  </a:lnTo>
                  <a:lnTo>
                    <a:pt x="2903" y="2643"/>
                  </a:lnTo>
                  <a:lnTo>
                    <a:pt x="2842" y="2720"/>
                  </a:lnTo>
                  <a:lnTo>
                    <a:pt x="2786" y="2797"/>
                  </a:lnTo>
                  <a:lnTo>
                    <a:pt x="2736" y="2872"/>
                  </a:lnTo>
                  <a:lnTo>
                    <a:pt x="2691" y="2949"/>
                  </a:lnTo>
                  <a:lnTo>
                    <a:pt x="2651" y="3024"/>
                  </a:lnTo>
                  <a:lnTo>
                    <a:pt x="2615" y="3100"/>
                  </a:lnTo>
                  <a:lnTo>
                    <a:pt x="2586" y="3176"/>
                  </a:lnTo>
                  <a:lnTo>
                    <a:pt x="2559" y="3251"/>
                  </a:lnTo>
                  <a:lnTo>
                    <a:pt x="2540" y="3327"/>
                  </a:lnTo>
                  <a:lnTo>
                    <a:pt x="2523" y="3401"/>
                  </a:lnTo>
                  <a:lnTo>
                    <a:pt x="2511" y="3477"/>
                  </a:lnTo>
                  <a:lnTo>
                    <a:pt x="2504" y="3552"/>
                  </a:lnTo>
                  <a:lnTo>
                    <a:pt x="2500" y="3626"/>
                  </a:lnTo>
                  <a:lnTo>
                    <a:pt x="2501" y="3701"/>
                  </a:lnTo>
                  <a:lnTo>
                    <a:pt x="2506" y="3775"/>
                  </a:lnTo>
                  <a:lnTo>
                    <a:pt x="2514" y="3849"/>
                  </a:lnTo>
                  <a:lnTo>
                    <a:pt x="2526" y="3923"/>
                  </a:lnTo>
                  <a:lnTo>
                    <a:pt x="2543" y="3997"/>
                  </a:lnTo>
                  <a:lnTo>
                    <a:pt x="2562" y="4070"/>
                  </a:lnTo>
                  <a:lnTo>
                    <a:pt x="2585" y="4143"/>
                  </a:lnTo>
                  <a:lnTo>
                    <a:pt x="2611" y="4216"/>
                  </a:lnTo>
                  <a:lnTo>
                    <a:pt x="2640" y="4289"/>
                  </a:lnTo>
                  <a:lnTo>
                    <a:pt x="2674" y="4362"/>
                  </a:lnTo>
                  <a:lnTo>
                    <a:pt x="2709" y="4435"/>
                  </a:lnTo>
                  <a:lnTo>
                    <a:pt x="2747" y="4506"/>
                  </a:lnTo>
                  <a:lnTo>
                    <a:pt x="2788" y="4578"/>
                  </a:lnTo>
                  <a:lnTo>
                    <a:pt x="2833" y="4650"/>
                  </a:lnTo>
                  <a:lnTo>
                    <a:pt x="2880" y="4721"/>
                  </a:lnTo>
                  <a:lnTo>
                    <a:pt x="2928" y="4793"/>
                  </a:lnTo>
                  <a:lnTo>
                    <a:pt x="2980" y="4864"/>
                  </a:lnTo>
                  <a:lnTo>
                    <a:pt x="3033" y="4934"/>
                  </a:lnTo>
                  <a:lnTo>
                    <a:pt x="2804" y="4934"/>
                  </a:lnTo>
                  <a:lnTo>
                    <a:pt x="2576" y="4934"/>
                  </a:lnTo>
                  <a:lnTo>
                    <a:pt x="2347" y="4934"/>
                  </a:lnTo>
                  <a:lnTo>
                    <a:pt x="2120" y="4934"/>
                  </a:lnTo>
                  <a:lnTo>
                    <a:pt x="1892" y="4934"/>
                  </a:lnTo>
                  <a:lnTo>
                    <a:pt x="1664" y="4934"/>
                  </a:lnTo>
                  <a:lnTo>
                    <a:pt x="1435" y="4934"/>
                  </a:lnTo>
                  <a:lnTo>
                    <a:pt x="1206" y="4934"/>
                  </a:lnTo>
                  <a:lnTo>
                    <a:pt x="1272" y="4702"/>
                  </a:lnTo>
                  <a:lnTo>
                    <a:pt x="1309" y="4471"/>
                  </a:lnTo>
                  <a:lnTo>
                    <a:pt x="1319" y="4241"/>
                  </a:lnTo>
                  <a:lnTo>
                    <a:pt x="1307" y="4013"/>
                  </a:lnTo>
                  <a:lnTo>
                    <a:pt x="1273" y="3786"/>
                  </a:lnTo>
                  <a:lnTo>
                    <a:pt x="1222" y="3562"/>
                  </a:lnTo>
                  <a:lnTo>
                    <a:pt x="1153" y="3341"/>
                  </a:lnTo>
                  <a:lnTo>
                    <a:pt x="1073" y="3122"/>
                  </a:lnTo>
                  <a:lnTo>
                    <a:pt x="981" y="2907"/>
                  </a:lnTo>
                  <a:lnTo>
                    <a:pt x="883" y="2697"/>
                  </a:lnTo>
                  <a:lnTo>
                    <a:pt x="777" y="2491"/>
                  </a:lnTo>
                  <a:lnTo>
                    <a:pt x="670" y="2289"/>
                  </a:lnTo>
                  <a:lnTo>
                    <a:pt x="562" y="2094"/>
                  </a:lnTo>
                  <a:lnTo>
                    <a:pt x="457" y="1905"/>
                  </a:lnTo>
                  <a:lnTo>
                    <a:pt x="356" y="1721"/>
                  </a:lnTo>
                  <a:lnTo>
                    <a:pt x="263" y="1545"/>
                  </a:lnTo>
                  <a:lnTo>
                    <a:pt x="180" y="1376"/>
                  </a:lnTo>
                  <a:lnTo>
                    <a:pt x="110" y="1214"/>
                  </a:lnTo>
                  <a:lnTo>
                    <a:pt x="55" y="1061"/>
                  </a:lnTo>
                  <a:lnTo>
                    <a:pt x="17" y="916"/>
                  </a:lnTo>
                  <a:lnTo>
                    <a:pt x="0" y="780"/>
                  </a:lnTo>
                  <a:lnTo>
                    <a:pt x="6" y="653"/>
                  </a:lnTo>
                  <a:lnTo>
                    <a:pt x="37" y="536"/>
                  </a:lnTo>
                  <a:lnTo>
                    <a:pt x="97" y="430"/>
                  </a:lnTo>
                  <a:lnTo>
                    <a:pt x="187" y="334"/>
                  </a:lnTo>
                  <a:lnTo>
                    <a:pt x="311" y="249"/>
                  </a:lnTo>
                  <a:lnTo>
                    <a:pt x="471" y="176"/>
                  </a:lnTo>
                  <a:lnTo>
                    <a:pt x="668" y="115"/>
                  </a:lnTo>
                  <a:lnTo>
                    <a:pt x="908" y="67"/>
                  </a:lnTo>
                  <a:lnTo>
                    <a:pt x="1190" y="31"/>
                  </a:lnTo>
                  <a:lnTo>
                    <a:pt x="1519" y="9"/>
                  </a:lnTo>
                  <a:lnTo>
                    <a:pt x="1896" y="0"/>
                  </a:lnTo>
                  <a:lnTo>
                    <a:pt x="1900" y="9"/>
                  </a:lnTo>
                  <a:lnTo>
                    <a:pt x="1905" y="16"/>
                  </a:lnTo>
                  <a:lnTo>
                    <a:pt x="1911" y="25"/>
                  </a:lnTo>
                  <a:lnTo>
                    <a:pt x="1917" y="33"/>
                  </a:lnTo>
                  <a:lnTo>
                    <a:pt x="1923" y="40"/>
                  </a:lnTo>
                  <a:lnTo>
                    <a:pt x="1930" y="49"/>
                  </a:lnTo>
                  <a:lnTo>
                    <a:pt x="1940" y="57"/>
                  </a:lnTo>
                  <a:lnTo>
                    <a:pt x="1949" y="65"/>
                  </a:lnTo>
                  <a:lnTo>
                    <a:pt x="1960" y="73"/>
                  </a:lnTo>
                  <a:lnTo>
                    <a:pt x="1971" y="80"/>
                  </a:lnTo>
                  <a:lnTo>
                    <a:pt x="1984" y="89"/>
                  </a:lnTo>
                  <a:lnTo>
                    <a:pt x="1998" y="97"/>
                  </a:lnTo>
                  <a:lnTo>
                    <a:pt x="2012" y="104"/>
                  </a:lnTo>
                  <a:lnTo>
                    <a:pt x="2029" y="113"/>
                  </a:lnTo>
                  <a:lnTo>
                    <a:pt x="2047" y="120"/>
                  </a:lnTo>
                  <a:lnTo>
                    <a:pt x="2066" y="12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4184640" y="4273560"/>
              <a:ext cx="277920" cy="460440"/>
            </a:xfrm>
            <a:custGeom>
              <a:avLst/>
              <a:gdLst/>
              <a:ahLst/>
              <a:rect l="l" t="t" r="r" b="b"/>
              <a:pathLst>
                <a:path w="871" h="1448">
                  <a:moveTo>
                    <a:pt x="824" y="1443"/>
                  </a:moveTo>
                  <a:lnTo>
                    <a:pt x="871" y="1373"/>
                  </a:lnTo>
                  <a:lnTo>
                    <a:pt x="871" y="1348"/>
                  </a:lnTo>
                  <a:lnTo>
                    <a:pt x="869" y="1323"/>
                  </a:lnTo>
                  <a:lnTo>
                    <a:pt x="867" y="1299"/>
                  </a:lnTo>
                  <a:lnTo>
                    <a:pt x="865" y="1275"/>
                  </a:lnTo>
                  <a:lnTo>
                    <a:pt x="862" y="1249"/>
                  </a:lnTo>
                  <a:lnTo>
                    <a:pt x="858" y="1225"/>
                  </a:lnTo>
                  <a:lnTo>
                    <a:pt x="853" y="1201"/>
                  </a:lnTo>
                  <a:lnTo>
                    <a:pt x="847" y="1176"/>
                  </a:lnTo>
                  <a:lnTo>
                    <a:pt x="835" y="1129"/>
                  </a:lnTo>
                  <a:lnTo>
                    <a:pt x="820" y="1081"/>
                  </a:lnTo>
                  <a:lnTo>
                    <a:pt x="802" y="1035"/>
                  </a:lnTo>
                  <a:lnTo>
                    <a:pt x="783" y="989"/>
                  </a:lnTo>
                  <a:lnTo>
                    <a:pt x="763" y="943"/>
                  </a:lnTo>
                  <a:lnTo>
                    <a:pt x="740" y="898"/>
                  </a:lnTo>
                  <a:lnTo>
                    <a:pt x="716" y="853"/>
                  </a:lnTo>
                  <a:lnTo>
                    <a:pt x="691" y="809"/>
                  </a:lnTo>
                  <a:lnTo>
                    <a:pt x="665" y="765"/>
                  </a:lnTo>
                  <a:lnTo>
                    <a:pt x="637" y="722"/>
                  </a:lnTo>
                  <a:lnTo>
                    <a:pt x="609" y="678"/>
                  </a:lnTo>
                  <a:lnTo>
                    <a:pt x="580" y="636"/>
                  </a:lnTo>
                  <a:lnTo>
                    <a:pt x="520" y="552"/>
                  </a:lnTo>
                  <a:lnTo>
                    <a:pt x="459" y="469"/>
                  </a:lnTo>
                  <a:lnTo>
                    <a:pt x="398" y="387"/>
                  </a:lnTo>
                  <a:lnTo>
                    <a:pt x="338" y="307"/>
                  </a:lnTo>
                  <a:lnTo>
                    <a:pt x="279" y="229"/>
                  </a:lnTo>
                  <a:lnTo>
                    <a:pt x="225" y="150"/>
                  </a:lnTo>
                  <a:lnTo>
                    <a:pt x="198" y="112"/>
                  </a:lnTo>
                  <a:lnTo>
                    <a:pt x="174" y="74"/>
                  </a:lnTo>
                  <a:lnTo>
                    <a:pt x="151" y="37"/>
                  </a:lnTo>
                  <a:lnTo>
                    <a:pt x="129" y="0"/>
                  </a:lnTo>
                  <a:lnTo>
                    <a:pt x="0" y="73"/>
                  </a:lnTo>
                  <a:lnTo>
                    <a:pt x="23" y="114"/>
                  </a:lnTo>
                  <a:lnTo>
                    <a:pt x="48" y="154"/>
                  </a:lnTo>
                  <a:lnTo>
                    <a:pt x="74" y="194"/>
                  </a:lnTo>
                  <a:lnTo>
                    <a:pt x="102" y="235"/>
                  </a:lnTo>
                  <a:lnTo>
                    <a:pt x="158" y="315"/>
                  </a:lnTo>
                  <a:lnTo>
                    <a:pt x="218" y="396"/>
                  </a:lnTo>
                  <a:lnTo>
                    <a:pt x="279" y="477"/>
                  </a:lnTo>
                  <a:lnTo>
                    <a:pt x="339" y="557"/>
                  </a:lnTo>
                  <a:lnTo>
                    <a:pt x="399" y="639"/>
                  </a:lnTo>
                  <a:lnTo>
                    <a:pt x="458" y="721"/>
                  </a:lnTo>
                  <a:lnTo>
                    <a:pt x="485" y="761"/>
                  </a:lnTo>
                  <a:lnTo>
                    <a:pt x="512" y="802"/>
                  </a:lnTo>
                  <a:lnTo>
                    <a:pt x="538" y="843"/>
                  </a:lnTo>
                  <a:lnTo>
                    <a:pt x="563" y="884"/>
                  </a:lnTo>
                  <a:lnTo>
                    <a:pt x="586" y="925"/>
                  </a:lnTo>
                  <a:lnTo>
                    <a:pt x="608" y="966"/>
                  </a:lnTo>
                  <a:lnTo>
                    <a:pt x="628" y="1007"/>
                  </a:lnTo>
                  <a:lnTo>
                    <a:pt x="647" y="1048"/>
                  </a:lnTo>
                  <a:lnTo>
                    <a:pt x="664" y="1089"/>
                  </a:lnTo>
                  <a:lnTo>
                    <a:pt x="678" y="1130"/>
                  </a:lnTo>
                  <a:lnTo>
                    <a:pt x="692" y="1171"/>
                  </a:lnTo>
                  <a:lnTo>
                    <a:pt x="702" y="1212"/>
                  </a:lnTo>
                  <a:lnTo>
                    <a:pt x="707" y="1231"/>
                  </a:lnTo>
                  <a:lnTo>
                    <a:pt x="711" y="1251"/>
                  </a:lnTo>
                  <a:lnTo>
                    <a:pt x="714" y="1272"/>
                  </a:lnTo>
                  <a:lnTo>
                    <a:pt x="717" y="1292"/>
                  </a:lnTo>
                  <a:lnTo>
                    <a:pt x="719" y="1312"/>
                  </a:lnTo>
                  <a:lnTo>
                    <a:pt x="721" y="1332"/>
                  </a:lnTo>
                  <a:lnTo>
                    <a:pt x="721" y="1353"/>
                  </a:lnTo>
                  <a:lnTo>
                    <a:pt x="722" y="1373"/>
                  </a:lnTo>
                  <a:lnTo>
                    <a:pt x="770" y="1304"/>
                  </a:lnTo>
                  <a:lnTo>
                    <a:pt x="722" y="1373"/>
                  </a:lnTo>
                  <a:lnTo>
                    <a:pt x="722" y="1383"/>
                  </a:lnTo>
                  <a:lnTo>
                    <a:pt x="723" y="1391"/>
                  </a:lnTo>
                  <a:lnTo>
                    <a:pt x="726" y="1398"/>
                  </a:lnTo>
                  <a:lnTo>
                    <a:pt x="729" y="1406"/>
                  </a:lnTo>
                  <a:lnTo>
                    <a:pt x="732" y="1413"/>
                  </a:lnTo>
                  <a:lnTo>
                    <a:pt x="736" y="1418"/>
                  </a:lnTo>
                  <a:lnTo>
                    <a:pt x="740" y="1425"/>
                  </a:lnTo>
                  <a:lnTo>
                    <a:pt x="745" y="1429"/>
                  </a:lnTo>
                  <a:lnTo>
                    <a:pt x="751" y="1433"/>
                  </a:lnTo>
                  <a:lnTo>
                    <a:pt x="757" y="1437"/>
                  </a:lnTo>
                  <a:lnTo>
                    <a:pt x="763" y="1440"/>
                  </a:lnTo>
                  <a:lnTo>
                    <a:pt x="770" y="1444"/>
                  </a:lnTo>
                  <a:lnTo>
                    <a:pt x="776" y="1446"/>
                  </a:lnTo>
                  <a:lnTo>
                    <a:pt x="783" y="1447"/>
                  </a:lnTo>
                  <a:lnTo>
                    <a:pt x="790" y="1448"/>
                  </a:lnTo>
                  <a:lnTo>
                    <a:pt x="797" y="1448"/>
                  </a:lnTo>
                  <a:lnTo>
                    <a:pt x="803" y="1448"/>
                  </a:lnTo>
                  <a:lnTo>
                    <a:pt x="811" y="1447"/>
                  </a:lnTo>
                  <a:lnTo>
                    <a:pt x="818" y="1446"/>
                  </a:lnTo>
                  <a:lnTo>
                    <a:pt x="824" y="1444"/>
                  </a:lnTo>
                  <a:lnTo>
                    <a:pt x="831" y="1440"/>
                  </a:lnTo>
                  <a:lnTo>
                    <a:pt x="837" y="1437"/>
                  </a:lnTo>
                  <a:lnTo>
                    <a:pt x="843" y="1433"/>
                  </a:lnTo>
                  <a:lnTo>
                    <a:pt x="848" y="1429"/>
                  </a:lnTo>
                  <a:lnTo>
                    <a:pt x="853" y="1425"/>
                  </a:lnTo>
                  <a:lnTo>
                    <a:pt x="858" y="1418"/>
                  </a:lnTo>
                  <a:lnTo>
                    <a:pt x="862" y="1413"/>
                  </a:lnTo>
                  <a:lnTo>
                    <a:pt x="865" y="1406"/>
                  </a:lnTo>
                  <a:lnTo>
                    <a:pt x="867" y="1398"/>
                  </a:lnTo>
                  <a:lnTo>
                    <a:pt x="869" y="1391"/>
                  </a:lnTo>
                  <a:lnTo>
                    <a:pt x="871" y="1383"/>
                  </a:lnTo>
                  <a:lnTo>
                    <a:pt x="871" y="1373"/>
                  </a:lnTo>
                  <a:lnTo>
                    <a:pt x="824" y="1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4264200" y="4687920"/>
              <a:ext cx="182520" cy="127080"/>
            </a:xfrm>
            <a:custGeom>
              <a:avLst/>
              <a:gdLst/>
              <a:ahLst/>
              <a:rect l="l" t="t" r="r" b="b"/>
              <a:pathLst>
                <a:path w="578" h="400">
                  <a:moveTo>
                    <a:pt x="149" y="325"/>
                  </a:moveTo>
                  <a:lnTo>
                    <a:pt x="74" y="400"/>
                  </a:lnTo>
                  <a:lnTo>
                    <a:pt x="93" y="399"/>
                  </a:lnTo>
                  <a:lnTo>
                    <a:pt x="109" y="396"/>
                  </a:lnTo>
                  <a:lnTo>
                    <a:pt x="125" y="391"/>
                  </a:lnTo>
                  <a:lnTo>
                    <a:pt x="142" y="385"/>
                  </a:lnTo>
                  <a:lnTo>
                    <a:pt x="172" y="373"/>
                  </a:lnTo>
                  <a:lnTo>
                    <a:pt x="203" y="357"/>
                  </a:lnTo>
                  <a:lnTo>
                    <a:pt x="237" y="340"/>
                  </a:lnTo>
                  <a:lnTo>
                    <a:pt x="272" y="320"/>
                  </a:lnTo>
                  <a:lnTo>
                    <a:pt x="307" y="299"/>
                  </a:lnTo>
                  <a:lnTo>
                    <a:pt x="344" y="276"/>
                  </a:lnTo>
                  <a:lnTo>
                    <a:pt x="414" y="232"/>
                  </a:lnTo>
                  <a:lnTo>
                    <a:pt x="483" y="191"/>
                  </a:lnTo>
                  <a:lnTo>
                    <a:pt x="512" y="173"/>
                  </a:lnTo>
                  <a:lnTo>
                    <a:pt x="538" y="157"/>
                  </a:lnTo>
                  <a:lnTo>
                    <a:pt x="561" y="146"/>
                  </a:lnTo>
                  <a:lnTo>
                    <a:pt x="578" y="139"/>
                  </a:lnTo>
                  <a:lnTo>
                    <a:pt x="524" y="0"/>
                  </a:lnTo>
                  <a:lnTo>
                    <a:pt x="496" y="13"/>
                  </a:lnTo>
                  <a:lnTo>
                    <a:pt x="468" y="27"/>
                  </a:lnTo>
                  <a:lnTo>
                    <a:pt x="438" y="44"/>
                  </a:lnTo>
                  <a:lnTo>
                    <a:pt x="405" y="64"/>
                  </a:lnTo>
                  <a:lnTo>
                    <a:pt x="337" y="106"/>
                  </a:lnTo>
                  <a:lnTo>
                    <a:pt x="265" y="150"/>
                  </a:lnTo>
                  <a:lnTo>
                    <a:pt x="231" y="171"/>
                  </a:lnTo>
                  <a:lnTo>
                    <a:pt x="197" y="191"/>
                  </a:lnTo>
                  <a:lnTo>
                    <a:pt x="166" y="209"/>
                  </a:lnTo>
                  <a:lnTo>
                    <a:pt x="136" y="225"/>
                  </a:lnTo>
                  <a:lnTo>
                    <a:pt x="110" y="237"/>
                  </a:lnTo>
                  <a:lnTo>
                    <a:pt x="88" y="247"/>
                  </a:lnTo>
                  <a:lnTo>
                    <a:pt x="82" y="249"/>
                  </a:lnTo>
                  <a:lnTo>
                    <a:pt x="76" y="250"/>
                  </a:lnTo>
                  <a:lnTo>
                    <a:pt x="73" y="251"/>
                  </a:lnTo>
                  <a:lnTo>
                    <a:pt x="74" y="251"/>
                  </a:lnTo>
                  <a:lnTo>
                    <a:pt x="0" y="325"/>
                  </a:lnTo>
                  <a:lnTo>
                    <a:pt x="74" y="251"/>
                  </a:lnTo>
                  <a:lnTo>
                    <a:pt x="66" y="251"/>
                  </a:lnTo>
                  <a:lnTo>
                    <a:pt x="57" y="252"/>
                  </a:lnTo>
                  <a:lnTo>
                    <a:pt x="49" y="254"/>
                  </a:lnTo>
                  <a:lnTo>
                    <a:pt x="42" y="257"/>
                  </a:lnTo>
                  <a:lnTo>
                    <a:pt x="35" y="260"/>
                  </a:lnTo>
                  <a:lnTo>
                    <a:pt x="29" y="265"/>
                  </a:lnTo>
                  <a:lnTo>
                    <a:pt x="24" y="269"/>
                  </a:lnTo>
                  <a:lnTo>
                    <a:pt x="19" y="274"/>
                  </a:lnTo>
                  <a:lnTo>
                    <a:pt x="14" y="279"/>
                  </a:lnTo>
                  <a:lnTo>
                    <a:pt x="10" y="286"/>
                  </a:lnTo>
                  <a:lnTo>
                    <a:pt x="7" y="292"/>
                  </a:lnTo>
                  <a:lnTo>
                    <a:pt x="5" y="298"/>
                  </a:lnTo>
                  <a:lnTo>
                    <a:pt x="3" y="304"/>
                  </a:lnTo>
                  <a:lnTo>
                    <a:pt x="1" y="311"/>
                  </a:lnTo>
                  <a:lnTo>
                    <a:pt x="0" y="318"/>
                  </a:lnTo>
                  <a:lnTo>
                    <a:pt x="0" y="325"/>
                  </a:lnTo>
                  <a:lnTo>
                    <a:pt x="0" y="332"/>
                  </a:lnTo>
                  <a:lnTo>
                    <a:pt x="1" y="339"/>
                  </a:lnTo>
                  <a:lnTo>
                    <a:pt x="3" y="346"/>
                  </a:lnTo>
                  <a:lnTo>
                    <a:pt x="5" y="353"/>
                  </a:lnTo>
                  <a:lnTo>
                    <a:pt x="7" y="359"/>
                  </a:lnTo>
                  <a:lnTo>
                    <a:pt x="10" y="365"/>
                  </a:lnTo>
                  <a:lnTo>
                    <a:pt x="14" y="371"/>
                  </a:lnTo>
                  <a:lnTo>
                    <a:pt x="19" y="377"/>
                  </a:lnTo>
                  <a:lnTo>
                    <a:pt x="24" y="381"/>
                  </a:lnTo>
                  <a:lnTo>
                    <a:pt x="29" y="386"/>
                  </a:lnTo>
                  <a:lnTo>
                    <a:pt x="35" y="391"/>
                  </a:lnTo>
                  <a:lnTo>
                    <a:pt x="42" y="394"/>
                  </a:lnTo>
                  <a:lnTo>
                    <a:pt x="49" y="396"/>
                  </a:lnTo>
                  <a:lnTo>
                    <a:pt x="57" y="398"/>
                  </a:lnTo>
                  <a:lnTo>
                    <a:pt x="66" y="399"/>
                  </a:lnTo>
                  <a:lnTo>
                    <a:pt x="74" y="400"/>
                  </a:lnTo>
                  <a:lnTo>
                    <a:pt x="149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4264200" y="4791240"/>
              <a:ext cx="45720" cy="81000"/>
            </a:xfrm>
            <a:custGeom>
              <a:avLst/>
              <a:gdLst/>
              <a:ahLst/>
              <a:rect l="l" t="t" r="r" b="b"/>
              <a:pathLst>
                <a:path w="149" h="252">
                  <a:moveTo>
                    <a:pt x="70" y="103"/>
                  </a:moveTo>
                  <a:lnTo>
                    <a:pt x="149" y="178"/>
                  </a:lnTo>
                  <a:lnTo>
                    <a:pt x="149" y="154"/>
                  </a:lnTo>
                  <a:lnTo>
                    <a:pt x="149" y="131"/>
                  </a:lnTo>
                  <a:lnTo>
                    <a:pt x="149" y="109"/>
                  </a:lnTo>
                  <a:lnTo>
                    <a:pt x="149" y="87"/>
                  </a:lnTo>
                  <a:lnTo>
                    <a:pt x="149" y="64"/>
                  </a:lnTo>
                  <a:lnTo>
                    <a:pt x="149" y="42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54"/>
                  </a:lnTo>
                  <a:lnTo>
                    <a:pt x="0" y="178"/>
                  </a:lnTo>
                  <a:lnTo>
                    <a:pt x="78" y="252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2" y="196"/>
                  </a:lnTo>
                  <a:lnTo>
                    <a:pt x="4" y="203"/>
                  </a:lnTo>
                  <a:lnTo>
                    <a:pt x="6" y="210"/>
                  </a:lnTo>
                  <a:lnTo>
                    <a:pt x="9" y="218"/>
                  </a:lnTo>
                  <a:lnTo>
                    <a:pt x="13" y="223"/>
                  </a:lnTo>
                  <a:lnTo>
                    <a:pt x="19" y="229"/>
                  </a:lnTo>
                  <a:lnTo>
                    <a:pt x="23" y="234"/>
                  </a:lnTo>
                  <a:lnTo>
                    <a:pt x="28" y="239"/>
                  </a:lnTo>
                  <a:lnTo>
                    <a:pt x="34" y="242"/>
                  </a:lnTo>
                  <a:lnTo>
                    <a:pt x="41" y="245"/>
                  </a:lnTo>
                  <a:lnTo>
                    <a:pt x="47" y="248"/>
                  </a:lnTo>
                  <a:lnTo>
                    <a:pt x="53" y="250"/>
                  </a:lnTo>
                  <a:lnTo>
                    <a:pt x="61" y="251"/>
                  </a:lnTo>
                  <a:lnTo>
                    <a:pt x="68" y="252"/>
                  </a:lnTo>
                  <a:lnTo>
                    <a:pt x="74" y="252"/>
                  </a:lnTo>
                  <a:lnTo>
                    <a:pt x="82" y="252"/>
                  </a:lnTo>
                  <a:lnTo>
                    <a:pt x="88" y="251"/>
                  </a:lnTo>
                  <a:lnTo>
                    <a:pt x="95" y="250"/>
                  </a:lnTo>
                  <a:lnTo>
                    <a:pt x="101" y="248"/>
                  </a:lnTo>
                  <a:lnTo>
                    <a:pt x="108" y="245"/>
                  </a:lnTo>
                  <a:lnTo>
                    <a:pt x="114" y="242"/>
                  </a:lnTo>
                  <a:lnTo>
                    <a:pt x="120" y="239"/>
                  </a:lnTo>
                  <a:lnTo>
                    <a:pt x="126" y="234"/>
                  </a:lnTo>
                  <a:lnTo>
                    <a:pt x="131" y="229"/>
                  </a:lnTo>
                  <a:lnTo>
                    <a:pt x="135" y="223"/>
                  </a:lnTo>
                  <a:lnTo>
                    <a:pt x="139" y="218"/>
                  </a:lnTo>
                  <a:lnTo>
                    <a:pt x="142" y="210"/>
                  </a:lnTo>
                  <a:lnTo>
                    <a:pt x="146" y="203"/>
                  </a:lnTo>
                  <a:lnTo>
                    <a:pt x="148" y="196"/>
                  </a:lnTo>
                  <a:lnTo>
                    <a:pt x="149" y="187"/>
                  </a:lnTo>
                  <a:lnTo>
                    <a:pt x="149" y="178"/>
                  </a:lnTo>
                  <a:lnTo>
                    <a:pt x="70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4286160" y="4810320"/>
              <a:ext cx="250920" cy="61920"/>
            </a:xfrm>
            <a:custGeom>
              <a:avLst/>
              <a:gdLst/>
              <a:ahLst/>
              <a:rect l="l" t="t" r="r" b="b"/>
              <a:pathLst>
                <a:path w="790" h="192">
                  <a:moveTo>
                    <a:pt x="790" y="83"/>
                  </a:moveTo>
                  <a:lnTo>
                    <a:pt x="711" y="1"/>
                  </a:lnTo>
                  <a:lnTo>
                    <a:pt x="621" y="7"/>
                  </a:lnTo>
                  <a:lnTo>
                    <a:pt x="531" y="12"/>
                  </a:lnTo>
                  <a:lnTo>
                    <a:pt x="442" y="17"/>
                  </a:lnTo>
                  <a:lnTo>
                    <a:pt x="353" y="22"/>
                  </a:lnTo>
                  <a:lnTo>
                    <a:pt x="265" y="28"/>
                  </a:lnTo>
                  <a:lnTo>
                    <a:pt x="176" y="33"/>
                  </a:lnTo>
                  <a:lnTo>
                    <a:pt x="88" y="38"/>
                  </a:lnTo>
                  <a:lnTo>
                    <a:pt x="0" y="43"/>
                  </a:lnTo>
                  <a:lnTo>
                    <a:pt x="8" y="192"/>
                  </a:lnTo>
                  <a:lnTo>
                    <a:pt x="97" y="187"/>
                  </a:lnTo>
                  <a:lnTo>
                    <a:pt x="185" y="182"/>
                  </a:lnTo>
                  <a:lnTo>
                    <a:pt x="273" y="177"/>
                  </a:lnTo>
                  <a:lnTo>
                    <a:pt x="361" y="171"/>
                  </a:lnTo>
                  <a:lnTo>
                    <a:pt x="450" y="165"/>
                  </a:lnTo>
                  <a:lnTo>
                    <a:pt x="540" y="160"/>
                  </a:lnTo>
                  <a:lnTo>
                    <a:pt x="629" y="155"/>
                  </a:lnTo>
                  <a:lnTo>
                    <a:pt x="720" y="149"/>
                  </a:lnTo>
                  <a:lnTo>
                    <a:pt x="642" y="67"/>
                  </a:lnTo>
                  <a:lnTo>
                    <a:pt x="720" y="149"/>
                  </a:lnTo>
                  <a:lnTo>
                    <a:pt x="729" y="148"/>
                  </a:lnTo>
                  <a:lnTo>
                    <a:pt x="737" y="147"/>
                  </a:lnTo>
                  <a:lnTo>
                    <a:pt x="744" y="144"/>
                  </a:lnTo>
                  <a:lnTo>
                    <a:pt x="752" y="141"/>
                  </a:lnTo>
                  <a:lnTo>
                    <a:pt x="758" y="138"/>
                  </a:lnTo>
                  <a:lnTo>
                    <a:pt x="764" y="134"/>
                  </a:lnTo>
                  <a:lnTo>
                    <a:pt x="770" y="128"/>
                  </a:lnTo>
                  <a:lnTo>
                    <a:pt x="774" y="123"/>
                  </a:lnTo>
                  <a:lnTo>
                    <a:pt x="778" y="118"/>
                  </a:lnTo>
                  <a:lnTo>
                    <a:pt x="781" y="112"/>
                  </a:lnTo>
                  <a:lnTo>
                    <a:pt x="784" y="105"/>
                  </a:lnTo>
                  <a:lnTo>
                    <a:pt x="786" y="98"/>
                  </a:lnTo>
                  <a:lnTo>
                    <a:pt x="789" y="92"/>
                  </a:lnTo>
                  <a:lnTo>
                    <a:pt x="790" y="84"/>
                  </a:lnTo>
                  <a:lnTo>
                    <a:pt x="790" y="78"/>
                  </a:lnTo>
                  <a:lnTo>
                    <a:pt x="790" y="71"/>
                  </a:lnTo>
                  <a:lnTo>
                    <a:pt x="789" y="64"/>
                  </a:lnTo>
                  <a:lnTo>
                    <a:pt x="788" y="57"/>
                  </a:lnTo>
                  <a:lnTo>
                    <a:pt x="785" y="51"/>
                  </a:lnTo>
                  <a:lnTo>
                    <a:pt x="783" y="43"/>
                  </a:lnTo>
                  <a:lnTo>
                    <a:pt x="780" y="38"/>
                  </a:lnTo>
                  <a:lnTo>
                    <a:pt x="777" y="32"/>
                  </a:lnTo>
                  <a:lnTo>
                    <a:pt x="773" y="27"/>
                  </a:lnTo>
                  <a:lnTo>
                    <a:pt x="769" y="21"/>
                  </a:lnTo>
                  <a:lnTo>
                    <a:pt x="763" y="16"/>
                  </a:lnTo>
                  <a:lnTo>
                    <a:pt x="757" y="12"/>
                  </a:lnTo>
                  <a:lnTo>
                    <a:pt x="751" y="9"/>
                  </a:lnTo>
                  <a:lnTo>
                    <a:pt x="743" y="6"/>
                  </a:lnTo>
                  <a:lnTo>
                    <a:pt x="736" y="3"/>
                  </a:lnTo>
                  <a:lnTo>
                    <a:pt x="729" y="1"/>
                  </a:lnTo>
                  <a:lnTo>
                    <a:pt x="720" y="0"/>
                  </a:lnTo>
                  <a:lnTo>
                    <a:pt x="711" y="1"/>
                  </a:lnTo>
                  <a:lnTo>
                    <a:pt x="79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4483080" y="4832280"/>
              <a:ext cx="54000" cy="87480"/>
            </a:xfrm>
            <a:custGeom>
              <a:avLst/>
              <a:gdLst/>
              <a:ahLst/>
              <a:rect l="l" t="t" r="r" b="b"/>
              <a:pathLst>
                <a:path w="170" h="275">
                  <a:moveTo>
                    <a:pt x="74" y="275"/>
                  </a:moveTo>
                  <a:lnTo>
                    <a:pt x="149" y="208"/>
                  </a:lnTo>
                  <a:lnTo>
                    <a:pt x="151" y="184"/>
                  </a:lnTo>
                  <a:lnTo>
                    <a:pt x="154" y="160"/>
                  </a:lnTo>
                  <a:lnTo>
                    <a:pt x="156" y="136"/>
                  </a:lnTo>
                  <a:lnTo>
                    <a:pt x="159" y="113"/>
                  </a:lnTo>
                  <a:lnTo>
                    <a:pt x="161" y="89"/>
                  </a:lnTo>
                  <a:lnTo>
                    <a:pt x="164" y="65"/>
                  </a:lnTo>
                  <a:lnTo>
                    <a:pt x="166" y="40"/>
                  </a:lnTo>
                  <a:lnTo>
                    <a:pt x="170" y="16"/>
                  </a:lnTo>
                  <a:lnTo>
                    <a:pt x="22" y="0"/>
                  </a:lnTo>
                  <a:lnTo>
                    <a:pt x="18" y="24"/>
                  </a:lnTo>
                  <a:lnTo>
                    <a:pt x="16" y="48"/>
                  </a:lnTo>
                  <a:lnTo>
                    <a:pt x="13" y="72"/>
                  </a:lnTo>
                  <a:lnTo>
                    <a:pt x="11" y="96"/>
                  </a:lnTo>
                  <a:lnTo>
                    <a:pt x="8" y="120"/>
                  </a:lnTo>
                  <a:lnTo>
                    <a:pt x="5" y="144"/>
                  </a:lnTo>
                  <a:lnTo>
                    <a:pt x="3" y="168"/>
                  </a:lnTo>
                  <a:lnTo>
                    <a:pt x="0" y="192"/>
                  </a:lnTo>
                  <a:lnTo>
                    <a:pt x="74" y="125"/>
                  </a:lnTo>
                  <a:lnTo>
                    <a:pt x="0" y="192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1" y="218"/>
                  </a:lnTo>
                  <a:lnTo>
                    <a:pt x="3" y="225"/>
                  </a:lnTo>
                  <a:lnTo>
                    <a:pt x="6" y="233"/>
                  </a:lnTo>
                  <a:lnTo>
                    <a:pt x="9" y="239"/>
                  </a:lnTo>
                  <a:lnTo>
                    <a:pt x="12" y="245"/>
                  </a:lnTo>
                  <a:lnTo>
                    <a:pt x="17" y="250"/>
                  </a:lnTo>
                  <a:lnTo>
                    <a:pt x="22" y="256"/>
                  </a:lnTo>
                  <a:lnTo>
                    <a:pt x="27" y="260"/>
                  </a:lnTo>
                  <a:lnTo>
                    <a:pt x="33" y="263"/>
                  </a:lnTo>
                  <a:lnTo>
                    <a:pt x="39" y="266"/>
                  </a:lnTo>
                  <a:lnTo>
                    <a:pt x="46" y="269"/>
                  </a:lnTo>
                  <a:lnTo>
                    <a:pt x="52" y="271"/>
                  </a:lnTo>
                  <a:lnTo>
                    <a:pt x="59" y="273"/>
                  </a:lnTo>
                  <a:lnTo>
                    <a:pt x="66" y="275"/>
                  </a:lnTo>
                  <a:lnTo>
                    <a:pt x="73" y="275"/>
                  </a:lnTo>
                  <a:lnTo>
                    <a:pt x="79" y="275"/>
                  </a:lnTo>
                  <a:lnTo>
                    <a:pt x="87" y="273"/>
                  </a:lnTo>
                  <a:lnTo>
                    <a:pt x="94" y="272"/>
                  </a:lnTo>
                  <a:lnTo>
                    <a:pt x="100" y="270"/>
                  </a:lnTo>
                  <a:lnTo>
                    <a:pt x="107" y="268"/>
                  </a:lnTo>
                  <a:lnTo>
                    <a:pt x="113" y="265"/>
                  </a:lnTo>
                  <a:lnTo>
                    <a:pt x="119" y="261"/>
                  </a:lnTo>
                  <a:lnTo>
                    <a:pt x="124" y="257"/>
                  </a:lnTo>
                  <a:lnTo>
                    <a:pt x="130" y="252"/>
                  </a:lnTo>
                  <a:lnTo>
                    <a:pt x="134" y="246"/>
                  </a:lnTo>
                  <a:lnTo>
                    <a:pt x="138" y="240"/>
                  </a:lnTo>
                  <a:lnTo>
                    <a:pt x="141" y="234"/>
                  </a:lnTo>
                  <a:lnTo>
                    <a:pt x="144" y="225"/>
                  </a:lnTo>
                  <a:lnTo>
                    <a:pt x="147" y="217"/>
                  </a:lnTo>
                  <a:lnTo>
                    <a:pt x="149" y="208"/>
                  </a:lnTo>
                  <a:lnTo>
                    <a:pt x="74" y="2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414680" y="4872240"/>
              <a:ext cx="90720" cy="66600"/>
            </a:xfrm>
            <a:custGeom>
              <a:avLst/>
              <a:gdLst/>
              <a:ahLst/>
              <a:rect l="l" t="t" r="r" b="b"/>
              <a:pathLst>
                <a:path w="288" h="214">
                  <a:moveTo>
                    <a:pt x="149" y="139"/>
                  </a:moveTo>
                  <a:lnTo>
                    <a:pt x="75" y="214"/>
                  </a:lnTo>
                  <a:lnTo>
                    <a:pt x="95" y="213"/>
                  </a:lnTo>
                  <a:lnTo>
                    <a:pt x="114" y="209"/>
                  </a:lnTo>
                  <a:lnTo>
                    <a:pt x="133" y="205"/>
                  </a:lnTo>
                  <a:lnTo>
                    <a:pt x="149" y="199"/>
                  </a:lnTo>
                  <a:lnTo>
                    <a:pt x="178" y="187"/>
                  </a:lnTo>
                  <a:lnTo>
                    <a:pt x="204" y="175"/>
                  </a:lnTo>
                  <a:lnTo>
                    <a:pt x="228" y="164"/>
                  </a:lnTo>
                  <a:lnTo>
                    <a:pt x="251" y="156"/>
                  </a:lnTo>
                  <a:lnTo>
                    <a:pt x="260" y="154"/>
                  </a:lnTo>
                  <a:lnTo>
                    <a:pt x="269" y="152"/>
                  </a:lnTo>
                  <a:lnTo>
                    <a:pt x="279" y="151"/>
                  </a:lnTo>
                  <a:lnTo>
                    <a:pt x="288" y="150"/>
                  </a:lnTo>
                  <a:lnTo>
                    <a:pt x="288" y="0"/>
                  </a:lnTo>
                  <a:lnTo>
                    <a:pt x="266" y="1"/>
                  </a:lnTo>
                  <a:lnTo>
                    <a:pt x="244" y="5"/>
                  </a:lnTo>
                  <a:lnTo>
                    <a:pt x="224" y="9"/>
                  </a:lnTo>
                  <a:lnTo>
                    <a:pt x="204" y="14"/>
                  </a:lnTo>
                  <a:lnTo>
                    <a:pt x="172" y="27"/>
                  </a:lnTo>
                  <a:lnTo>
                    <a:pt x="143" y="39"/>
                  </a:lnTo>
                  <a:lnTo>
                    <a:pt x="118" y="51"/>
                  </a:lnTo>
                  <a:lnTo>
                    <a:pt x="96" y="60"/>
                  </a:lnTo>
                  <a:lnTo>
                    <a:pt x="90" y="61"/>
                  </a:lnTo>
                  <a:lnTo>
                    <a:pt x="83" y="63"/>
                  </a:lnTo>
                  <a:lnTo>
                    <a:pt x="79" y="64"/>
                  </a:lnTo>
                  <a:lnTo>
                    <a:pt x="75" y="64"/>
                  </a:lnTo>
                  <a:lnTo>
                    <a:pt x="0" y="139"/>
                  </a:lnTo>
                  <a:lnTo>
                    <a:pt x="75" y="64"/>
                  </a:lnTo>
                  <a:lnTo>
                    <a:pt x="65" y="64"/>
                  </a:lnTo>
                  <a:lnTo>
                    <a:pt x="57" y="67"/>
                  </a:lnTo>
                  <a:lnTo>
                    <a:pt x="50" y="69"/>
                  </a:lnTo>
                  <a:lnTo>
                    <a:pt x="42" y="71"/>
                  </a:lnTo>
                  <a:lnTo>
                    <a:pt x="35" y="74"/>
                  </a:lnTo>
                  <a:lnTo>
                    <a:pt x="30" y="78"/>
                  </a:lnTo>
                  <a:lnTo>
                    <a:pt x="23" y="83"/>
                  </a:lnTo>
                  <a:lnTo>
                    <a:pt x="19" y="88"/>
                  </a:lnTo>
                  <a:lnTo>
                    <a:pt x="14" y="93"/>
                  </a:lnTo>
                  <a:lnTo>
                    <a:pt x="11" y="99"/>
                  </a:lnTo>
                  <a:lnTo>
                    <a:pt x="8" y="105"/>
                  </a:lnTo>
                  <a:lnTo>
                    <a:pt x="5" y="112"/>
                  </a:lnTo>
                  <a:lnTo>
                    <a:pt x="2" y="118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1" y="153"/>
                  </a:lnTo>
                  <a:lnTo>
                    <a:pt x="2" y="160"/>
                  </a:lnTo>
                  <a:lnTo>
                    <a:pt x="5" y="166"/>
                  </a:lnTo>
                  <a:lnTo>
                    <a:pt x="8" y="173"/>
                  </a:lnTo>
                  <a:lnTo>
                    <a:pt x="11" y="179"/>
                  </a:lnTo>
                  <a:lnTo>
                    <a:pt x="14" y="185"/>
                  </a:lnTo>
                  <a:lnTo>
                    <a:pt x="19" y="190"/>
                  </a:lnTo>
                  <a:lnTo>
                    <a:pt x="23" y="196"/>
                  </a:lnTo>
                  <a:lnTo>
                    <a:pt x="30" y="200"/>
                  </a:lnTo>
                  <a:lnTo>
                    <a:pt x="35" y="204"/>
                  </a:lnTo>
                  <a:lnTo>
                    <a:pt x="42" y="207"/>
                  </a:lnTo>
                  <a:lnTo>
                    <a:pt x="50" y="210"/>
                  </a:lnTo>
                  <a:lnTo>
                    <a:pt x="57" y="213"/>
                  </a:lnTo>
                  <a:lnTo>
                    <a:pt x="65" y="214"/>
                  </a:lnTo>
                  <a:lnTo>
                    <a:pt x="75" y="214"/>
                  </a:lnTo>
                  <a:lnTo>
                    <a:pt x="14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414680" y="4915080"/>
              <a:ext cx="47880" cy="79200"/>
            </a:xfrm>
            <a:custGeom>
              <a:avLst/>
              <a:gdLst/>
              <a:ahLst/>
              <a:rect l="l" t="t" r="r" b="b"/>
              <a:pathLst>
                <a:path w="149" h="246">
                  <a:moveTo>
                    <a:pt x="75" y="96"/>
                  </a:moveTo>
                  <a:lnTo>
                    <a:pt x="149" y="171"/>
                  </a:lnTo>
                  <a:lnTo>
                    <a:pt x="149" y="149"/>
                  </a:lnTo>
                  <a:lnTo>
                    <a:pt x="149" y="128"/>
                  </a:lnTo>
                  <a:lnTo>
                    <a:pt x="149" y="107"/>
                  </a:lnTo>
                  <a:lnTo>
                    <a:pt x="149" y="85"/>
                  </a:lnTo>
                  <a:lnTo>
                    <a:pt x="149" y="64"/>
                  </a:lnTo>
                  <a:lnTo>
                    <a:pt x="149" y="43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75" y="246"/>
                  </a:lnTo>
                  <a:lnTo>
                    <a:pt x="0" y="171"/>
                  </a:lnTo>
                  <a:lnTo>
                    <a:pt x="0" y="180"/>
                  </a:lnTo>
                  <a:lnTo>
                    <a:pt x="1" y="188"/>
                  </a:lnTo>
                  <a:lnTo>
                    <a:pt x="4" y="196"/>
                  </a:lnTo>
                  <a:lnTo>
                    <a:pt x="7" y="204"/>
                  </a:lnTo>
                  <a:lnTo>
                    <a:pt x="10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3" y="227"/>
                  </a:lnTo>
                  <a:lnTo>
                    <a:pt x="29" y="231"/>
                  </a:lnTo>
                  <a:lnTo>
                    <a:pt x="35" y="235"/>
                  </a:lnTo>
                  <a:lnTo>
                    <a:pt x="41" y="238"/>
                  </a:lnTo>
                  <a:lnTo>
                    <a:pt x="48" y="240"/>
                  </a:lnTo>
                  <a:lnTo>
                    <a:pt x="54" y="243"/>
                  </a:lnTo>
                  <a:lnTo>
                    <a:pt x="61" y="245"/>
                  </a:lnTo>
                  <a:lnTo>
                    <a:pt x="68" y="245"/>
                  </a:lnTo>
                  <a:lnTo>
                    <a:pt x="75" y="246"/>
                  </a:lnTo>
                  <a:lnTo>
                    <a:pt x="81" y="245"/>
                  </a:lnTo>
                  <a:lnTo>
                    <a:pt x="89" y="245"/>
                  </a:lnTo>
                  <a:lnTo>
                    <a:pt x="96" y="243"/>
                  </a:lnTo>
                  <a:lnTo>
                    <a:pt x="102" y="240"/>
                  </a:lnTo>
                  <a:lnTo>
                    <a:pt x="109" y="238"/>
                  </a:lnTo>
                  <a:lnTo>
                    <a:pt x="115" y="235"/>
                  </a:lnTo>
                  <a:lnTo>
                    <a:pt x="121" y="231"/>
                  </a:lnTo>
                  <a:lnTo>
                    <a:pt x="126" y="227"/>
                  </a:lnTo>
                  <a:lnTo>
                    <a:pt x="131" y="222"/>
                  </a:lnTo>
                  <a:lnTo>
                    <a:pt x="136" y="216"/>
                  </a:lnTo>
                  <a:lnTo>
                    <a:pt x="140" y="210"/>
                  </a:lnTo>
                  <a:lnTo>
                    <a:pt x="143" y="204"/>
                  </a:lnTo>
                  <a:lnTo>
                    <a:pt x="145" y="196"/>
                  </a:lnTo>
                  <a:lnTo>
                    <a:pt x="147" y="188"/>
                  </a:lnTo>
                  <a:lnTo>
                    <a:pt x="149" y="180"/>
                  </a:lnTo>
                  <a:lnTo>
                    <a:pt x="149" y="171"/>
                  </a:lnTo>
                  <a:lnTo>
                    <a:pt x="75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438800" y="4926240"/>
              <a:ext cx="145800" cy="68040"/>
            </a:xfrm>
            <a:custGeom>
              <a:avLst/>
              <a:gdLst/>
              <a:ahLst/>
              <a:rect l="l" t="t" r="r" b="b"/>
              <a:pathLst>
                <a:path w="459" h="213">
                  <a:moveTo>
                    <a:pt x="459" y="74"/>
                  </a:moveTo>
                  <a:lnTo>
                    <a:pt x="384" y="0"/>
                  </a:lnTo>
                  <a:lnTo>
                    <a:pt x="351" y="1"/>
                  </a:lnTo>
                  <a:lnTo>
                    <a:pt x="320" y="3"/>
                  </a:lnTo>
                  <a:lnTo>
                    <a:pt x="291" y="6"/>
                  </a:lnTo>
                  <a:lnTo>
                    <a:pt x="262" y="11"/>
                  </a:lnTo>
                  <a:lnTo>
                    <a:pt x="215" y="22"/>
                  </a:lnTo>
                  <a:lnTo>
                    <a:pt x="171" y="34"/>
                  </a:lnTo>
                  <a:lnTo>
                    <a:pt x="151" y="41"/>
                  </a:lnTo>
                  <a:lnTo>
                    <a:pt x="131" y="46"/>
                  </a:lnTo>
                  <a:lnTo>
                    <a:pt x="111" y="50"/>
                  </a:lnTo>
                  <a:lnTo>
                    <a:pt x="91" y="54"/>
                  </a:lnTo>
                  <a:lnTo>
                    <a:pt x="71" y="58"/>
                  </a:lnTo>
                  <a:lnTo>
                    <a:pt x="49" y="60"/>
                  </a:lnTo>
                  <a:lnTo>
                    <a:pt x="26" y="63"/>
                  </a:lnTo>
                  <a:lnTo>
                    <a:pt x="0" y="63"/>
                  </a:lnTo>
                  <a:lnTo>
                    <a:pt x="0" y="213"/>
                  </a:lnTo>
                  <a:lnTo>
                    <a:pt x="32" y="212"/>
                  </a:lnTo>
                  <a:lnTo>
                    <a:pt x="64" y="210"/>
                  </a:lnTo>
                  <a:lnTo>
                    <a:pt x="92" y="205"/>
                  </a:lnTo>
                  <a:lnTo>
                    <a:pt x="120" y="201"/>
                  </a:lnTo>
                  <a:lnTo>
                    <a:pt x="145" y="196"/>
                  </a:lnTo>
                  <a:lnTo>
                    <a:pt x="169" y="190"/>
                  </a:lnTo>
                  <a:lnTo>
                    <a:pt x="191" y="183"/>
                  </a:lnTo>
                  <a:lnTo>
                    <a:pt x="212" y="177"/>
                  </a:lnTo>
                  <a:lnTo>
                    <a:pt x="252" y="167"/>
                  </a:lnTo>
                  <a:lnTo>
                    <a:pt x="293" y="157"/>
                  </a:lnTo>
                  <a:lnTo>
                    <a:pt x="313" y="154"/>
                  </a:lnTo>
                  <a:lnTo>
                    <a:pt x="334" y="151"/>
                  </a:lnTo>
                  <a:lnTo>
                    <a:pt x="358" y="149"/>
                  </a:lnTo>
                  <a:lnTo>
                    <a:pt x="384" y="149"/>
                  </a:lnTo>
                  <a:lnTo>
                    <a:pt x="309" y="74"/>
                  </a:lnTo>
                  <a:lnTo>
                    <a:pt x="384" y="149"/>
                  </a:lnTo>
                  <a:lnTo>
                    <a:pt x="393" y="148"/>
                  </a:lnTo>
                  <a:lnTo>
                    <a:pt x="401" y="147"/>
                  </a:lnTo>
                  <a:lnTo>
                    <a:pt x="409" y="144"/>
                  </a:lnTo>
                  <a:lnTo>
                    <a:pt x="417" y="142"/>
                  </a:lnTo>
                  <a:lnTo>
                    <a:pt x="423" y="138"/>
                  </a:lnTo>
                  <a:lnTo>
                    <a:pt x="429" y="135"/>
                  </a:lnTo>
                  <a:lnTo>
                    <a:pt x="435" y="130"/>
                  </a:lnTo>
                  <a:lnTo>
                    <a:pt x="440" y="126"/>
                  </a:lnTo>
                  <a:lnTo>
                    <a:pt x="444" y="119"/>
                  </a:lnTo>
                  <a:lnTo>
                    <a:pt x="448" y="114"/>
                  </a:lnTo>
                  <a:lnTo>
                    <a:pt x="451" y="108"/>
                  </a:lnTo>
                  <a:lnTo>
                    <a:pt x="454" y="101"/>
                  </a:lnTo>
                  <a:lnTo>
                    <a:pt x="456" y="94"/>
                  </a:lnTo>
                  <a:lnTo>
                    <a:pt x="457" y="88"/>
                  </a:lnTo>
                  <a:lnTo>
                    <a:pt x="458" y="80"/>
                  </a:lnTo>
                  <a:lnTo>
                    <a:pt x="459" y="74"/>
                  </a:lnTo>
                  <a:lnTo>
                    <a:pt x="458" y="67"/>
                  </a:lnTo>
                  <a:lnTo>
                    <a:pt x="457" y="59"/>
                  </a:lnTo>
                  <a:lnTo>
                    <a:pt x="456" y="53"/>
                  </a:lnTo>
                  <a:lnTo>
                    <a:pt x="454" y="47"/>
                  </a:lnTo>
                  <a:lnTo>
                    <a:pt x="451" y="39"/>
                  </a:lnTo>
                  <a:lnTo>
                    <a:pt x="448" y="34"/>
                  </a:lnTo>
                  <a:lnTo>
                    <a:pt x="444" y="28"/>
                  </a:lnTo>
                  <a:lnTo>
                    <a:pt x="440" y="23"/>
                  </a:lnTo>
                  <a:lnTo>
                    <a:pt x="435" y="17"/>
                  </a:lnTo>
                  <a:lnTo>
                    <a:pt x="429" y="13"/>
                  </a:lnTo>
                  <a:lnTo>
                    <a:pt x="423" y="9"/>
                  </a:lnTo>
                  <a:lnTo>
                    <a:pt x="417" y="6"/>
                  </a:lnTo>
                  <a:lnTo>
                    <a:pt x="409" y="3"/>
                  </a:lnTo>
                  <a:lnTo>
                    <a:pt x="401" y="1"/>
                  </a:lnTo>
                  <a:lnTo>
                    <a:pt x="393" y="0"/>
                  </a:lnTo>
                  <a:lnTo>
                    <a:pt x="384" y="0"/>
                  </a:lnTo>
                  <a:lnTo>
                    <a:pt x="459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4468680" y="4950000"/>
              <a:ext cx="115920" cy="133200"/>
            </a:xfrm>
            <a:custGeom>
              <a:avLst/>
              <a:gdLst/>
              <a:ahLst/>
              <a:rect l="l" t="t" r="r" b="b"/>
              <a:pathLst>
                <a:path w="364" h="423">
                  <a:moveTo>
                    <a:pt x="131" y="398"/>
                  </a:moveTo>
                  <a:lnTo>
                    <a:pt x="75" y="423"/>
                  </a:lnTo>
                  <a:lnTo>
                    <a:pt x="95" y="422"/>
                  </a:lnTo>
                  <a:lnTo>
                    <a:pt x="114" y="421"/>
                  </a:lnTo>
                  <a:lnTo>
                    <a:pt x="132" y="418"/>
                  </a:lnTo>
                  <a:lnTo>
                    <a:pt x="150" y="415"/>
                  </a:lnTo>
                  <a:lnTo>
                    <a:pt x="167" y="411"/>
                  </a:lnTo>
                  <a:lnTo>
                    <a:pt x="184" y="404"/>
                  </a:lnTo>
                  <a:lnTo>
                    <a:pt x="201" y="398"/>
                  </a:lnTo>
                  <a:lnTo>
                    <a:pt x="217" y="390"/>
                  </a:lnTo>
                  <a:lnTo>
                    <a:pt x="231" y="381"/>
                  </a:lnTo>
                  <a:lnTo>
                    <a:pt x="246" y="371"/>
                  </a:lnTo>
                  <a:lnTo>
                    <a:pt x="260" y="359"/>
                  </a:lnTo>
                  <a:lnTo>
                    <a:pt x="271" y="348"/>
                  </a:lnTo>
                  <a:lnTo>
                    <a:pt x="283" y="334"/>
                  </a:lnTo>
                  <a:lnTo>
                    <a:pt x="293" y="320"/>
                  </a:lnTo>
                  <a:lnTo>
                    <a:pt x="303" y="307"/>
                  </a:lnTo>
                  <a:lnTo>
                    <a:pt x="311" y="292"/>
                  </a:lnTo>
                  <a:lnTo>
                    <a:pt x="320" y="276"/>
                  </a:lnTo>
                  <a:lnTo>
                    <a:pt x="326" y="261"/>
                  </a:lnTo>
                  <a:lnTo>
                    <a:pt x="332" y="245"/>
                  </a:lnTo>
                  <a:lnTo>
                    <a:pt x="338" y="227"/>
                  </a:lnTo>
                  <a:lnTo>
                    <a:pt x="347" y="194"/>
                  </a:lnTo>
                  <a:lnTo>
                    <a:pt x="353" y="159"/>
                  </a:lnTo>
                  <a:lnTo>
                    <a:pt x="358" y="121"/>
                  </a:lnTo>
                  <a:lnTo>
                    <a:pt x="361" y="82"/>
                  </a:lnTo>
                  <a:lnTo>
                    <a:pt x="363" y="42"/>
                  </a:lnTo>
                  <a:lnTo>
                    <a:pt x="364" y="0"/>
                  </a:lnTo>
                  <a:lnTo>
                    <a:pt x="214" y="0"/>
                  </a:lnTo>
                  <a:lnTo>
                    <a:pt x="214" y="38"/>
                  </a:lnTo>
                  <a:lnTo>
                    <a:pt x="213" y="74"/>
                  </a:lnTo>
                  <a:lnTo>
                    <a:pt x="209" y="106"/>
                  </a:lnTo>
                  <a:lnTo>
                    <a:pt x="205" y="136"/>
                  </a:lnTo>
                  <a:lnTo>
                    <a:pt x="201" y="162"/>
                  </a:lnTo>
                  <a:lnTo>
                    <a:pt x="195" y="187"/>
                  </a:lnTo>
                  <a:lnTo>
                    <a:pt x="192" y="195"/>
                  </a:lnTo>
                  <a:lnTo>
                    <a:pt x="188" y="205"/>
                  </a:lnTo>
                  <a:lnTo>
                    <a:pt x="184" y="213"/>
                  </a:lnTo>
                  <a:lnTo>
                    <a:pt x="180" y="222"/>
                  </a:lnTo>
                  <a:lnTo>
                    <a:pt x="177" y="228"/>
                  </a:lnTo>
                  <a:lnTo>
                    <a:pt x="173" y="234"/>
                  </a:lnTo>
                  <a:lnTo>
                    <a:pt x="168" y="240"/>
                  </a:lnTo>
                  <a:lnTo>
                    <a:pt x="164" y="245"/>
                  </a:lnTo>
                  <a:lnTo>
                    <a:pt x="160" y="249"/>
                  </a:lnTo>
                  <a:lnTo>
                    <a:pt x="155" y="253"/>
                  </a:lnTo>
                  <a:lnTo>
                    <a:pt x="150" y="256"/>
                  </a:lnTo>
                  <a:lnTo>
                    <a:pt x="145" y="259"/>
                  </a:lnTo>
                  <a:lnTo>
                    <a:pt x="139" y="263"/>
                  </a:lnTo>
                  <a:lnTo>
                    <a:pt x="133" y="265"/>
                  </a:lnTo>
                  <a:lnTo>
                    <a:pt x="125" y="268"/>
                  </a:lnTo>
                  <a:lnTo>
                    <a:pt x="117" y="270"/>
                  </a:lnTo>
                  <a:lnTo>
                    <a:pt x="109" y="271"/>
                  </a:lnTo>
                  <a:lnTo>
                    <a:pt x="98" y="272"/>
                  </a:lnTo>
                  <a:lnTo>
                    <a:pt x="88" y="273"/>
                  </a:lnTo>
                  <a:lnTo>
                    <a:pt x="75" y="273"/>
                  </a:lnTo>
                  <a:lnTo>
                    <a:pt x="20" y="298"/>
                  </a:lnTo>
                  <a:lnTo>
                    <a:pt x="75" y="273"/>
                  </a:lnTo>
                  <a:lnTo>
                    <a:pt x="67" y="274"/>
                  </a:lnTo>
                  <a:lnTo>
                    <a:pt x="58" y="275"/>
                  </a:lnTo>
                  <a:lnTo>
                    <a:pt x="50" y="277"/>
                  </a:lnTo>
                  <a:lnTo>
                    <a:pt x="42" y="279"/>
                  </a:lnTo>
                  <a:lnTo>
                    <a:pt x="36" y="284"/>
                  </a:lnTo>
                  <a:lnTo>
                    <a:pt x="30" y="287"/>
                  </a:lnTo>
                  <a:lnTo>
                    <a:pt x="25" y="292"/>
                  </a:lnTo>
                  <a:lnTo>
                    <a:pt x="19" y="297"/>
                  </a:lnTo>
                  <a:lnTo>
                    <a:pt x="15" y="303"/>
                  </a:lnTo>
                  <a:lnTo>
                    <a:pt x="11" y="308"/>
                  </a:lnTo>
                  <a:lnTo>
                    <a:pt x="8" y="314"/>
                  </a:lnTo>
                  <a:lnTo>
                    <a:pt x="6" y="320"/>
                  </a:lnTo>
                  <a:lnTo>
                    <a:pt x="4" y="328"/>
                  </a:lnTo>
                  <a:lnTo>
                    <a:pt x="2" y="334"/>
                  </a:lnTo>
                  <a:lnTo>
                    <a:pt x="2" y="341"/>
                  </a:lnTo>
                  <a:lnTo>
                    <a:pt x="0" y="348"/>
                  </a:lnTo>
                  <a:lnTo>
                    <a:pt x="2" y="355"/>
                  </a:lnTo>
                  <a:lnTo>
                    <a:pt x="2" y="362"/>
                  </a:lnTo>
                  <a:lnTo>
                    <a:pt x="4" y="369"/>
                  </a:lnTo>
                  <a:lnTo>
                    <a:pt x="6" y="376"/>
                  </a:lnTo>
                  <a:lnTo>
                    <a:pt x="8" y="382"/>
                  </a:lnTo>
                  <a:lnTo>
                    <a:pt x="11" y="389"/>
                  </a:lnTo>
                  <a:lnTo>
                    <a:pt x="15" y="394"/>
                  </a:lnTo>
                  <a:lnTo>
                    <a:pt x="19" y="399"/>
                  </a:lnTo>
                  <a:lnTo>
                    <a:pt x="25" y="404"/>
                  </a:lnTo>
                  <a:lnTo>
                    <a:pt x="30" y="409"/>
                  </a:lnTo>
                  <a:lnTo>
                    <a:pt x="36" y="413"/>
                  </a:lnTo>
                  <a:lnTo>
                    <a:pt x="42" y="416"/>
                  </a:lnTo>
                  <a:lnTo>
                    <a:pt x="50" y="419"/>
                  </a:lnTo>
                  <a:lnTo>
                    <a:pt x="58" y="421"/>
                  </a:lnTo>
                  <a:lnTo>
                    <a:pt x="67" y="422"/>
                  </a:lnTo>
                  <a:lnTo>
                    <a:pt x="75" y="423"/>
                  </a:lnTo>
                  <a:lnTo>
                    <a:pt x="131" y="3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4319640" y="5043600"/>
              <a:ext cx="217440" cy="792000"/>
            </a:xfrm>
            <a:custGeom>
              <a:avLst/>
              <a:gdLst/>
              <a:ahLst/>
              <a:rect l="l" t="t" r="r" b="b"/>
              <a:pathLst>
                <a:path w="684" h="2493">
                  <a:moveTo>
                    <a:pt x="608" y="2492"/>
                  </a:moveTo>
                  <a:lnTo>
                    <a:pt x="667" y="2372"/>
                  </a:lnTo>
                  <a:lnTo>
                    <a:pt x="614" y="2303"/>
                  </a:lnTo>
                  <a:lnTo>
                    <a:pt x="564" y="2233"/>
                  </a:lnTo>
                  <a:lnTo>
                    <a:pt x="540" y="2198"/>
                  </a:lnTo>
                  <a:lnTo>
                    <a:pt x="517" y="2163"/>
                  </a:lnTo>
                  <a:lnTo>
                    <a:pt x="494" y="2129"/>
                  </a:lnTo>
                  <a:lnTo>
                    <a:pt x="471" y="2093"/>
                  </a:lnTo>
                  <a:lnTo>
                    <a:pt x="450" y="2058"/>
                  </a:lnTo>
                  <a:lnTo>
                    <a:pt x="429" y="2024"/>
                  </a:lnTo>
                  <a:lnTo>
                    <a:pt x="408" y="1988"/>
                  </a:lnTo>
                  <a:lnTo>
                    <a:pt x="388" y="1953"/>
                  </a:lnTo>
                  <a:lnTo>
                    <a:pt x="369" y="1919"/>
                  </a:lnTo>
                  <a:lnTo>
                    <a:pt x="350" y="1883"/>
                  </a:lnTo>
                  <a:lnTo>
                    <a:pt x="333" y="1848"/>
                  </a:lnTo>
                  <a:lnTo>
                    <a:pt x="316" y="1813"/>
                  </a:lnTo>
                  <a:lnTo>
                    <a:pt x="299" y="1778"/>
                  </a:lnTo>
                  <a:lnTo>
                    <a:pt x="285" y="1743"/>
                  </a:lnTo>
                  <a:lnTo>
                    <a:pt x="270" y="1708"/>
                  </a:lnTo>
                  <a:lnTo>
                    <a:pt x="256" y="1673"/>
                  </a:lnTo>
                  <a:lnTo>
                    <a:pt x="243" y="1637"/>
                  </a:lnTo>
                  <a:lnTo>
                    <a:pt x="230" y="1603"/>
                  </a:lnTo>
                  <a:lnTo>
                    <a:pt x="220" y="1568"/>
                  </a:lnTo>
                  <a:lnTo>
                    <a:pt x="208" y="1532"/>
                  </a:lnTo>
                  <a:lnTo>
                    <a:pt x="199" y="1497"/>
                  </a:lnTo>
                  <a:lnTo>
                    <a:pt x="190" y="1462"/>
                  </a:lnTo>
                  <a:lnTo>
                    <a:pt x="182" y="1427"/>
                  </a:lnTo>
                  <a:lnTo>
                    <a:pt x="174" y="1392"/>
                  </a:lnTo>
                  <a:lnTo>
                    <a:pt x="168" y="1357"/>
                  </a:lnTo>
                  <a:lnTo>
                    <a:pt x="163" y="1322"/>
                  </a:lnTo>
                  <a:lnTo>
                    <a:pt x="159" y="1287"/>
                  </a:lnTo>
                  <a:lnTo>
                    <a:pt x="154" y="1252"/>
                  </a:lnTo>
                  <a:lnTo>
                    <a:pt x="152" y="1216"/>
                  </a:lnTo>
                  <a:lnTo>
                    <a:pt x="150" y="1181"/>
                  </a:lnTo>
                  <a:lnTo>
                    <a:pt x="149" y="1146"/>
                  </a:lnTo>
                  <a:lnTo>
                    <a:pt x="149" y="1110"/>
                  </a:lnTo>
                  <a:lnTo>
                    <a:pt x="150" y="1076"/>
                  </a:lnTo>
                  <a:lnTo>
                    <a:pt x="152" y="1040"/>
                  </a:lnTo>
                  <a:lnTo>
                    <a:pt x="155" y="1004"/>
                  </a:lnTo>
                  <a:lnTo>
                    <a:pt x="160" y="969"/>
                  </a:lnTo>
                  <a:lnTo>
                    <a:pt x="165" y="934"/>
                  </a:lnTo>
                  <a:lnTo>
                    <a:pt x="171" y="899"/>
                  </a:lnTo>
                  <a:lnTo>
                    <a:pt x="179" y="863"/>
                  </a:lnTo>
                  <a:lnTo>
                    <a:pt x="186" y="828"/>
                  </a:lnTo>
                  <a:lnTo>
                    <a:pt x="195" y="792"/>
                  </a:lnTo>
                  <a:lnTo>
                    <a:pt x="206" y="756"/>
                  </a:lnTo>
                  <a:lnTo>
                    <a:pt x="217" y="721"/>
                  </a:lnTo>
                  <a:lnTo>
                    <a:pt x="230" y="685"/>
                  </a:lnTo>
                  <a:lnTo>
                    <a:pt x="244" y="649"/>
                  </a:lnTo>
                  <a:lnTo>
                    <a:pt x="259" y="612"/>
                  </a:lnTo>
                  <a:lnTo>
                    <a:pt x="275" y="577"/>
                  </a:lnTo>
                  <a:lnTo>
                    <a:pt x="292" y="541"/>
                  </a:lnTo>
                  <a:lnTo>
                    <a:pt x="311" y="504"/>
                  </a:lnTo>
                  <a:lnTo>
                    <a:pt x="331" y="469"/>
                  </a:lnTo>
                  <a:lnTo>
                    <a:pt x="352" y="432"/>
                  </a:lnTo>
                  <a:lnTo>
                    <a:pt x="374" y="395"/>
                  </a:lnTo>
                  <a:lnTo>
                    <a:pt x="398" y="358"/>
                  </a:lnTo>
                  <a:lnTo>
                    <a:pt x="422" y="322"/>
                  </a:lnTo>
                  <a:lnTo>
                    <a:pt x="448" y="285"/>
                  </a:lnTo>
                  <a:lnTo>
                    <a:pt x="476" y="248"/>
                  </a:lnTo>
                  <a:lnTo>
                    <a:pt x="505" y="211"/>
                  </a:lnTo>
                  <a:lnTo>
                    <a:pt x="535" y="175"/>
                  </a:lnTo>
                  <a:lnTo>
                    <a:pt x="567" y="137"/>
                  </a:lnTo>
                  <a:lnTo>
                    <a:pt x="600" y="100"/>
                  </a:lnTo>
                  <a:lnTo>
                    <a:pt x="489" y="0"/>
                  </a:lnTo>
                  <a:lnTo>
                    <a:pt x="454" y="40"/>
                  </a:lnTo>
                  <a:lnTo>
                    <a:pt x="421" y="79"/>
                  </a:lnTo>
                  <a:lnTo>
                    <a:pt x="389" y="119"/>
                  </a:lnTo>
                  <a:lnTo>
                    <a:pt x="358" y="158"/>
                  </a:lnTo>
                  <a:lnTo>
                    <a:pt x="329" y="198"/>
                  </a:lnTo>
                  <a:lnTo>
                    <a:pt x="300" y="237"/>
                  </a:lnTo>
                  <a:lnTo>
                    <a:pt x="273" y="276"/>
                  </a:lnTo>
                  <a:lnTo>
                    <a:pt x="248" y="316"/>
                  </a:lnTo>
                  <a:lnTo>
                    <a:pt x="224" y="356"/>
                  </a:lnTo>
                  <a:lnTo>
                    <a:pt x="201" y="395"/>
                  </a:lnTo>
                  <a:lnTo>
                    <a:pt x="180" y="435"/>
                  </a:lnTo>
                  <a:lnTo>
                    <a:pt x="159" y="475"/>
                  </a:lnTo>
                  <a:lnTo>
                    <a:pt x="140" y="515"/>
                  </a:lnTo>
                  <a:lnTo>
                    <a:pt x="122" y="554"/>
                  </a:lnTo>
                  <a:lnTo>
                    <a:pt x="106" y="594"/>
                  </a:lnTo>
                  <a:lnTo>
                    <a:pt x="90" y="633"/>
                  </a:lnTo>
                  <a:lnTo>
                    <a:pt x="77" y="673"/>
                  </a:lnTo>
                  <a:lnTo>
                    <a:pt x="64" y="712"/>
                  </a:lnTo>
                  <a:lnTo>
                    <a:pt x="53" y="752"/>
                  </a:lnTo>
                  <a:lnTo>
                    <a:pt x="42" y="792"/>
                  </a:lnTo>
                  <a:lnTo>
                    <a:pt x="33" y="832"/>
                  </a:lnTo>
                  <a:lnTo>
                    <a:pt x="24" y="871"/>
                  </a:lnTo>
                  <a:lnTo>
                    <a:pt x="18" y="911"/>
                  </a:lnTo>
                  <a:lnTo>
                    <a:pt x="13" y="951"/>
                  </a:lnTo>
                  <a:lnTo>
                    <a:pt x="7" y="990"/>
                  </a:lnTo>
                  <a:lnTo>
                    <a:pt x="4" y="1029"/>
                  </a:lnTo>
                  <a:lnTo>
                    <a:pt x="2" y="1069"/>
                  </a:lnTo>
                  <a:lnTo>
                    <a:pt x="0" y="1108"/>
                  </a:lnTo>
                  <a:lnTo>
                    <a:pt x="0" y="1147"/>
                  </a:lnTo>
                  <a:lnTo>
                    <a:pt x="1" y="1187"/>
                  </a:lnTo>
                  <a:lnTo>
                    <a:pt x="3" y="1226"/>
                  </a:lnTo>
                  <a:lnTo>
                    <a:pt x="6" y="1265"/>
                  </a:lnTo>
                  <a:lnTo>
                    <a:pt x="11" y="1303"/>
                  </a:lnTo>
                  <a:lnTo>
                    <a:pt x="15" y="1342"/>
                  </a:lnTo>
                  <a:lnTo>
                    <a:pt x="21" y="1381"/>
                  </a:lnTo>
                  <a:lnTo>
                    <a:pt x="28" y="1420"/>
                  </a:lnTo>
                  <a:lnTo>
                    <a:pt x="36" y="1459"/>
                  </a:lnTo>
                  <a:lnTo>
                    <a:pt x="45" y="1497"/>
                  </a:lnTo>
                  <a:lnTo>
                    <a:pt x="55" y="1535"/>
                  </a:lnTo>
                  <a:lnTo>
                    <a:pt x="65" y="1573"/>
                  </a:lnTo>
                  <a:lnTo>
                    <a:pt x="77" y="1612"/>
                  </a:lnTo>
                  <a:lnTo>
                    <a:pt x="89" y="1650"/>
                  </a:lnTo>
                  <a:lnTo>
                    <a:pt x="103" y="1688"/>
                  </a:lnTo>
                  <a:lnTo>
                    <a:pt x="117" y="1725"/>
                  </a:lnTo>
                  <a:lnTo>
                    <a:pt x="131" y="1763"/>
                  </a:lnTo>
                  <a:lnTo>
                    <a:pt x="147" y="1801"/>
                  </a:lnTo>
                  <a:lnTo>
                    <a:pt x="164" y="1839"/>
                  </a:lnTo>
                  <a:lnTo>
                    <a:pt x="181" y="1877"/>
                  </a:lnTo>
                  <a:lnTo>
                    <a:pt x="199" y="1913"/>
                  </a:lnTo>
                  <a:lnTo>
                    <a:pt x="217" y="1951"/>
                  </a:lnTo>
                  <a:lnTo>
                    <a:pt x="237" y="1988"/>
                  </a:lnTo>
                  <a:lnTo>
                    <a:pt x="257" y="2026"/>
                  </a:lnTo>
                  <a:lnTo>
                    <a:pt x="278" y="2063"/>
                  </a:lnTo>
                  <a:lnTo>
                    <a:pt x="299" y="2099"/>
                  </a:lnTo>
                  <a:lnTo>
                    <a:pt x="321" y="2136"/>
                  </a:lnTo>
                  <a:lnTo>
                    <a:pt x="345" y="2173"/>
                  </a:lnTo>
                  <a:lnTo>
                    <a:pt x="369" y="2210"/>
                  </a:lnTo>
                  <a:lnTo>
                    <a:pt x="393" y="2246"/>
                  </a:lnTo>
                  <a:lnTo>
                    <a:pt x="417" y="2282"/>
                  </a:lnTo>
                  <a:lnTo>
                    <a:pt x="443" y="2319"/>
                  </a:lnTo>
                  <a:lnTo>
                    <a:pt x="495" y="2391"/>
                  </a:lnTo>
                  <a:lnTo>
                    <a:pt x="549" y="2463"/>
                  </a:lnTo>
                  <a:lnTo>
                    <a:pt x="608" y="2343"/>
                  </a:lnTo>
                  <a:lnTo>
                    <a:pt x="549" y="2463"/>
                  </a:lnTo>
                  <a:lnTo>
                    <a:pt x="556" y="2470"/>
                  </a:lnTo>
                  <a:lnTo>
                    <a:pt x="562" y="2476"/>
                  </a:lnTo>
                  <a:lnTo>
                    <a:pt x="568" y="2480"/>
                  </a:lnTo>
                  <a:lnTo>
                    <a:pt x="574" y="2485"/>
                  </a:lnTo>
                  <a:lnTo>
                    <a:pt x="581" y="2488"/>
                  </a:lnTo>
                  <a:lnTo>
                    <a:pt x="588" y="2491"/>
                  </a:lnTo>
                  <a:lnTo>
                    <a:pt x="595" y="2492"/>
                  </a:lnTo>
                  <a:lnTo>
                    <a:pt x="602" y="2493"/>
                  </a:lnTo>
                  <a:lnTo>
                    <a:pt x="609" y="2493"/>
                  </a:lnTo>
                  <a:lnTo>
                    <a:pt x="615" y="2493"/>
                  </a:lnTo>
                  <a:lnTo>
                    <a:pt x="623" y="2491"/>
                  </a:lnTo>
                  <a:lnTo>
                    <a:pt x="629" y="2490"/>
                  </a:lnTo>
                  <a:lnTo>
                    <a:pt x="635" y="2487"/>
                  </a:lnTo>
                  <a:lnTo>
                    <a:pt x="642" y="2484"/>
                  </a:lnTo>
                  <a:lnTo>
                    <a:pt x="648" y="2480"/>
                  </a:lnTo>
                  <a:lnTo>
                    <a:pt x="654" y="2476"/>
                  </a:lnTo>
                  <a:lnTo>
                    <a:pt x="660" y="2472"/>
                  </a:lnTo>
                  <a:lnTo>
                    <a:pt x="664" y="2467"/>
                  </a:lnTo>
                  <a:lnTo>
                    <a:pt x="669" y="2462"/>
                  </a:lnTo>
                  <a:lnTo>
                    <a:pt x="673" y="2456"/>
                  </a:lnTo>
                  <a:lnTo>
                    <a:pt x="676" y="2450"/>
                  </a:lnTo>
                  <a:lnTo>
                    <a:pt x="679" y="2444"/>
                  </a:lnTo>
                  <a:lnTo>
                    <a:pt x="682" y="2437"/>
                  </a:lnTo>
                  <a:lnTo>
                    <a:pt x="683" y="2430"/>
                  </a:lnTo>
                  <a:lnTo>
                    <a:pt x="684" y="2424"/>
                  </a:lnTo>
                  <a:lnTo>
                    <a:pt x="684" y="2416"/>
                  </a:lnTo>
                  <a:lnTo>
                    <a:pt x="684" y="2409"/>
                  </a:lnTo>
                  <a:lnTo>
                    <a:pt x="683" y="2402"/>
                  </a:lnTo>
                  <a:lnTo>
                    <a:pt x="679" y="2394"/>
                  </a:lnTo>
                  <a:lnTo>
                    <a:pt x="676" y="2387"/>
                  </a:lnTo>
                  <a:lnTo>
                    <a:pt x="672" y="2380"/>
                  </a:lnTo>
                  <a:lnTo>
                    <a:pt x="667" y="2372"/>
                  </a:lnTo>
                  <a:lnTo>
                    <a:pt x="608" y="24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908520" y="5788080"/>
              <a:ext cx="604800" cy="47520"/>
            </a:xfrm>
            <a:custGeom>
              <a:avLst/>
              <a:gdLst/>
              <a:ahLst/>
              <a:rect l="l" t="t" r="r" b="b"/>
              <a:pathLst>
                <a:path w="1902" h="149">
                  <a:moveTo>
                    <a:pt x="5" y="50"/>
                  </a:moveTo>
                  <a:lnTo>
                    <a:pt x="75" y="149"/>
                  </a:lnTo>
                  <a:lnTo>
                    <a:pt x="304" y="149"/>
                  </a:lnTo>
                  <a:lnTo>
                    <a:pt x="533" y="149"/>
                  </a:lnTo>
                  <a:lnTo>
                    <a:pt x="761" y="149"/>
                  </a:lnTo>
                  <a:lnTo>
                    <a:pt x="989" y="149"/>
                  </a:lnTo>
                  <a:lnTo>
                    <a:pt x="1216" y="149"/>
                  </a:lnTo>
                  <a:lnTo>
                    <a:pt x="1445" y="149"/>
                  </a:lnTo>
                  <a:lnTo>
                    <a:pt x="1673" y="149"/>
                  </a:lnTo>
                  <a:lnTo>
                    <a:pt x="1902" y="149"/>
                  </a:lnTo>
                  <a:lnTo>
                    <a:pt x="1902" y="0"/>
                  </a:lnTo>
                  <a:lnTo>
                    <a:pt x="1673" y="0"/>
                  </a:lnTo>
                  <a:lnTo>
                    <a:pt x="1445" y="0"/>
                  </a:lnTo>
                  <a:lnTo>
                    <a:pt x="1216" y="0"/>
                  </a:lnTo>
                  <a:lnTo>
                    <a:pt x="989" y="0"/>
                  </a:lnTo>
                  <a:lnTo>
                    <a:pt x="761" y="0"/>
                  </a:lnTo>
                  <a:lnTo>
                    <a:pt x="533" y="0"/>
                  </a:lnTo>
                  <a:lnTo>
                    <a:pt x="304" y="0"/>
                  </a:lnTo>
                  <a:lnTo>
                    <a:pt x="75" y="0"/>
                  </a:lnTo>
                  <a:lnTo>
                    <a:pt x="145" y="99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8" y="2"/>
                  </a:lnTo>
                  <a:lnTo>
                    <a:pt x="50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0" y="14"/>
                  </a:lnTo>
                  <a:lnTo>
                    <a:pt x="25" y="19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4" y="95"/>
                  </a:lnTo>
                  <a:lnTo>
                    <a:pt x="6" y="102"/>
                  </a:lnTo>
                  <a:lnTo>
                    <a:pt x="8" y="108"/>
                  </a:lnTo>
                  <a:lnTo>
                    <a:pt x="11" y="114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5" y="131"/>
                  </a:lnTo>
                  <a:lnTo>
                    <a:pt x="30" y="135"/>
                  </a:lnTo>
                  <a:lnTo>
                    <a:pt x="36" y="140"/>
                  </a:lnTo>
                  <a:lnTo>
                    <a:pt x="42" y="143"/>
                  </a:lnTo>
                  <a:lnTo>
                    <a:pt x="50" y="146"/>
                  </a:lnTo>
                  <a:lnTo>
                    <a:pt x="58" y="148"/>
                  </a:lnTo>
                  <a:lnTo>
                    <a:pt x="67" y="149"/>
                  </a:lnTo>
                  <a:lnTo>
                    <a:pt x="75" y="149"/>
                  </a:lnTo>
                  <a:lnTo>
                    <a:pt x="5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525840" y="4221360"/>
              <a:ext cx="649440" cy="1598400"/>
            </a:xfrm>
            <a:custGeom>
              <a:avLst/>
              <a:gdLst/>
              <a:ahLst/>
              <a:rect l="l" t="t" r="r" b="b"/>
              <a:pathLst>
                <a:path w="2045" h="5033">
                  <a:moveTo>
                    <a:pt x="2038" y="41"/>
                  </a:moveTo>
                  <a:lnTo>
                    <a:pt x="1971" y="0"/>
                  </a:lnTo>
                  <a:lnTo>
                    <a:pt x="1871" y="1"/>
                  </a:lnTo>
                  <a:lnTo>
                    <a:pt x="1774" y="3"/>
                  </a:lnTo>
                  <a:lnTo>
                    <a:pt x="1681" y="5"/>
                  </a:lnTo>
                  <a:lnTo>
                    <a:pt x="1591" y="8"/>
                  </a:lnTo>
                  <a:lnTo>
                    <a:pt x="1502" y="13"/>
                  </a:lnTo>
                  <a:lnTo>
                    <a:pt x="1418" y="18"/>
                  </a:lnTo>
                  <a:lnTo>
                    <a:pt x="1337" y="24"/>
                  </a:lnTo>
                  <a:lnTo>
                    <a:pt x="1258" y="31"/>
                  </a:lnTo>
                  <a:lnTo>
                    <a:pt x="1182" y="39"/>
                  </a:lnTo>
                  <a:lnTo>
                    <a:pt x="1109" y="47"/>
                  </a:lnTo>
                  <a:lnTo>
                    <a:pt x="1038" y="57"/>
                  </a:lnTo>
                  <a:lnTo>
                    <a:pt x="971" y="67"/>
                  </a:lnTo>
                  <a:lnTo>
                    <a:pt x="905" y="79"/>
                  </a:lnTo>
                  <a:lnTo>
                    <a:pt x="843" y="90"/>
                  </a:lnTo>
                  <a:lnTo>
                    <a:pt x="783" y="104"/>
                  </a:lnTo>
                  <a:lnTo>
                    <a:pt x="725" y="116"/>
                  </a:lnTo>
                  <a:lnTo>
                    <a:pt x="671" y="131"/>
                  </a:lnTo>
                  <a:lnTo>
                    <a:pt x="617" y="147"/>
                  </a:lnTo>
                  <a:lnTo>
                    <a:pt x="568" y="164"/>
                  </a:lnTo>
                  <a:lnTo>
                    <a:pt x="520" y="181"/>
                  </a:lnTo>
                  <a:lnTo>
                    <a:pt x="473" y="198"/>
                  </a:lnTo>
                  <a:lnTo>
                    <a:pt x="430" y="217"/>
                  </a:lnTo>
                  <a:lnTo>
                    <a:pt x="389" y="237"/>
                  </a:lnTo>
                  <a:lnTo>
                    <a:pt x="351" y="258"/>
                  </a:lnTo>
                  <a:lnTo>
                    <a:pt x="313" y="280"/>
                  </a:lnTo>
                  <a:lnTo>
                    <a:pt x="278" y="302"/>
                  </a:lnTo>
                  <a:lnTo>
                    <a:pt x="246" y="326"/>
                  </a:lnTo>
                  <a:lnTo>
                    <a:pt x="214" y="351"/>
                  </a:lnTo>
                  <a:lnTo>
                    <a:pt x="186" y="377"/>
                  </a:lnTo>
                  <a:lnTo>
                    <a:pt x="159" y="403"/>
                  </a:lnTo>
                  <a:lnTo>
                    <a:pt x="134" y="431"/>
                  </a:lnTo>
                  <a:lnTo>
                    <a:pt x="112" y="460"/>
                  </a:lnTo>
                  <a:lnTo>
                    <a:pt x="92" y="489"/>
                  </a:lnTo>
                  <a:lnTo>
                    <a:pt x="73" y="520"/>
                  </a:lnTo>
                  <a:lnTo>
                    <a:pt x="58" y="550"/>
                  </a:lnTo>
                  <a:lnTo>
                    <a:pt x="44" y="583"/>
                  </a:lnTo>
                  <a:lnTo>
                    <a:pt x="31" y="615"/>
                  </a:lnTo>
                  <a:lnTo>
                    <a:pt x="22" y="648"/>
                  </a:lnTo>
                  <a:lnTo>
                    <a:pt x="13" y="681"/>
                  </a:lnTo>
                  <a:lnTo>
                    <a:pt x="7" y="716"/>
                  </a:lnTo>
                  <a:lnTo>
                    <a:pt x="3" y="751"/>
                  </a:lnTo>
                  <a:lnTo>
                    <a:pt x="1" y="786"/>
                  </a:lnTo>
                  <a:lnTo>
                    <a:pt x="0" y="821"/>
                  </a:lnTo>
                  <a:lnTo>
                    <a:pt x="1" y="857"/>
                  </a:lnTo>
                  <a:lnTo>
                    <a:pt x="3" y="892"/>
                  </a:lnTo>
                  <a:lnTo>
                    <a:pt x="7" y="929"/>
                  </a:lnTo>
                  <a:lnTo>
                    <a:pt x="12" y="967"/>
                  </a:lnTo>
                  <a:lnTo>
                    <a:pt x="19" y="1004"/>
                  </a:lnTo>
                  <a:lnTo>
                    <a:pt x="27" y="1042"/>
                  </a:lnTo>
                  <a:lnTo>
                    <a:pt x="37" y="1079"/>
                  </a:lnTo>
                  <a:lnTo>
                    <a:pt x="47" y="1118"/>
                  </a:lnTo>
                  <a:lnTo>
                    <a:pt x="59" y="1157"/>
                  </a:lnTo>
                  <a:lnTo>
                    <a:pt x="71" y="1196"/>
                  </a:lnTo>
                  <a:lnTo>
                    <a:pt x="85" y="1236"/>
                  </a:lnTo>
                  <a:lnTo>
                    <a:pt x="100" y="1276"/>
                  </a:lnTo>
                  <a:lnTo>
                    <a:pt x="115" y="1316"/>
                  </a:lnTo>
                  <a:lnTo>
                    <a:pt x="132" y="1357"/>
                  </a:lnTo>
                  <a:lnTo>
                    <a:pt x="150" y="1397"/>
                  </a:lnTo>
                  <a:lnTo>
                    <a:pt x="168" y="1439"/>
                  </a:lnTo>
                  <a:lnTo>
                    <a:pt x="188" y="1481"/>
                  </a:lnTo>
                  <a:lnTo>
                    <a:pt x="229" y="1567"/>
                  </a:lnTo>
                  <a:lnTo>
                    <a:pt x="272" y="1653"/>
                  </a:lnTo>
                  <a:lnTo>
                    <a:pt x="318" y="1741"/>
                  </a:lnTo>
                  <a:lnTo>
                    <a:pt x="365" y="1831"/>
                  </a:lnTo>
                  <a:lnTo>
                    <a:pt x="416" y="1922"/>
                  </a:lnTo>
                  <a:lnTo>
                    <a:pt x="467" y="2015"/>
                  </a:lnTo>
                  <a:lnTo>
                    <a:pt x="572" y="2205"/>
                  </a:lnTo>
                  <a:lnTo>
                    <a:pt x="680" y="2399"/>
                  </a:lnTo>
                  <a:lnTo>
                    <a:pt x="734" y="2499"/>
                  </a:lnTo>
                  <a:lnTo>
                    <a:pt x="786" y="2600"/>
                  </a:lnTo>
                  <a:lnTo>
                    <a:pt x="839" y="2702"/>
                  </a:lnTo>
                  <a:lnTo>
                    <a:pt x="890" y="2803"/>
                  </a:lnTo>
                  <a:lnTo>
                    <a:pt x="941" y="2907"/>
                  </a:lnTo>
                  <a:lnTo>
                    <a:pt x="989" y="3012"/>
                  </a:lnTo>
                  <a:lnTo>
                    <a:pt x="1012" y="3064"/>
                  </a:lnTo>
                  <a:lnTo>
                    <a:pt x="1035" y="3117"/>
                  </a:lnTo>
                  <a:lnTo>
                    <a:pt x="1057" y="3170"/>
                  </a:lnTo>
                  <a:lnTo>
                    <a:pt x="1079" y="3223"/>
                  </a:lnTo>
                  <a:lnTo>
                    <a:pt x="1099" y="3277"/>
                  </a:lnTo>
                  <a:lnTo>
                    <a:pt x="1120" y="3331"/>
                  </a:lnTo>
                  <a:lnTo>
                    <a:pt x="1139" y="3384"/>
                  </a:lnTo>
                  <a:lnTo>
                    <a:pt x="1158" y="3438"/>
                  </a:lnTo>
                  <a:lnTo>
                    <a:pt x="1176" y="3492"/>
                  </a:lnTo>
                  <a:lnTo>
                    <a:pt x="1193" y="3546"/>
                  </a:lnTo>
                  <a:lnTo>
                    <a:pt x="1208" y="3600"/>
                  </a:lnTo>
                  <a:lnTo>
                    <a:pt x="1224" y="3655"/>
                  </a:lnTo>
                  <a:lnTo>
                    <a:pt x="1239" y="3710"/>
                  </a:lnTo>
                  <a:lnTo>
                    <a:pt x="1252" y="3764"/>
                  </a:lnTo>
                  <a:lnTo>
                    <a:pt x="1264" y="3819"/>
                  </a:lnTo>
                  <a:lnTo>
                    <a:pt x="1275" y="3874"/>
                  </a:lnTo>
                  <a:lnTo>
                    <a:pt x="1285" y="3929"/>
                  </a:lnTo>
                  <a:lnTo>
                    <a:pt x="1294" y="3984"/>
                  </a:lnTo>
                  <a:lnTo>
                    <a:pt x="1301" y="4039"/>
                  </a:lnTo>
                  <a:lnTo>
                    <a:pt x="1307" y="4094"/>
                  </a:lnTo>
                  <a:lnTo>
                    <a:pt x="1312" y="4150"/>
                  </a:lnTo>
                  <a:lnTo>
                    <a:pt x="1317" y="4205"/>
                  </a:lnTo>
                  <a:lnTo>
                    <a:pt x="1319" y="4260"/>
                  </a:lnTo>
                  <a:lnTo>
                    <a:pt x="1320" y="4315"/>
                  </a:lnTo>
                  <a:lnTo>
                    <a:pt x="1319" y="4371"/>
                  </a:lnTo>
                  <a:lnTo>
                    <a:pt x="1318" y="4427"/>
                  </a:lnTo>
                  <a:lnTo>
                    <a:pt x="1315" y="4482"/>
                  </a:lnTo>
                  <a:lnTo>
                    <a:pt x="1309" y="4538"/>
                  </a:lnTo>
                  <a:lnTo>
                    <a:pt x="1303" y="4594"/>
                  </a:lnTo>
                  <a:lnTo>
                    <a:pt x="1295" y="4649"/>
                  </a:lnTo>
                  <a:lnTo>
                    <a:pt x="1285" y="4705"/>
                  </a:lnTo>
                  <a:lnTo>
                    <a:pt x="1274" y="4761"/>
                  </a:lnTo>
                  <a:lnTo>
                    <a:pt x="1261" y="4816"/>
                  </a:lnTo>
                  <a:lnTo>
                    <a:pt x="1246" y="4873"/>
                  </a:lnTo>
                  <a:lnTo>
                    <a:pt x="1229" y="4929"/>
                  </a:lnTo>
                  <a:lnTo>
                    <a:pt x="1211" y="4984"/>
                  </a:lnTo>
                  <a:lnTo>
                    <a:pt x="1351" y="5033"/>
                  </a:lnTo>
                  <a:lnTo>
                    <a:pt x="1371" y="4973"/>
                  </a:lnTo>
                  <a:lnTo>
                    <a:pt x="1389" y="4913"/>
                  </a:lnTo>
                  <a:lnTo>
                    <a:pt x="1405" y="4853"/>
                  </a:lnTo>
                  <a:lnTo>
                    <a:pt x="1420" y="4792"/>
                  </a:lnTo>
                  <a:lnTo>
                    <a:pt x="1431" y="4732"/>
                  </a:lnTo>
                  <a:lnTo>
                    <a:pt x="1442" y="4672"/>
                  </a:lnTo>
                  <a:lnTo>
                    <a:pt x="1451" y="4613"/>
                  </a:lnTo>
                  <a:lnTo>
                    <a:pt x="1457" y="4553"/>
                  </a:lnTo>
                  <a:lnTo>
                    <a:pt x="1463" y="4493"/>
                  </a:lnTo>
                  <a:lnTo>
                    <a:pt x="1467" y="4434"/>
                  </a:lnTo>
                  <a:lnTo>
                    <a:pt x="1469" y="4374"/>
                  </a:lnTo>
                  <a:lnTo>
                    <a:pt x="1469" y="4315"/>
                  </a:lnTo>
                  <a:lnTo>
                    <a:pt x="1468" y="4257"/>
                  </a:lnTo>
                  <a:lnTo>
                    <a:pt x="1465" y="4197"/>
                  </a:lnTo>
                  <a:lnTo>
                    <a:pt x="1462" y="4138"/>
                  </a:lnTo>
                  <a:lnTo>
                    <a:pt x="1455" y="4079"/>
                  </a:lnTo>
                  <a:lnTo>
                    <a:pt x="1449" y="4020"/>
                  </a:lnTo>
                  <a:lnTo>
                    <a:pt x="1441" y="3963"/>
                  </a:lnTo>
                  <a:lnTo>
                    <a:pt x="1432" y="3905"/>
                  </a:lnTo>
                  <a:lnTo>
                    <a:pt x="1422" y="3846"/>
                  </a:lnTo>
                  <a:lnTo>
                    <a:pt x="1410" y="3788"/>
                  </a:lnTo>
                  <a:lnTo>
                    <a:pt x="1396" y="3731"/>
                  </a:lnTo>
                  <a:lnTo>
                    <a:pt x="1383" y="3674"/>
                  </a:lnTo>
                  <a:lnTo>
                    <a:pt x="1368" y="3616"/>
                  </a:lnTo>
                  <a:lnTo>
                    <a:pt x="1352" y="3559"/>
                  </a:lnTo>
                  <a:lnTo>
                    <a:pt x="1336" y="3503"/>
                  </a:lnTo>
                  <a:lnTo>
                    <a:pt x="1318" y="3447"/>
                  </a:lnTo>
                  <a:lnTo>
                    <a:pt x="1299" y="3390"/>
                  </a:lnTo>
                  <a:lnTo>
                    <a:pt x="1280" y="3335"/>
                  </a:lnTo>
                  <a:lnTo>
                    <a:pt x="1260" y="3279"/>
                  </a:lnTo>
                  <a:lnTo>
                    <a:pt x="1239" y="3223"/>
                  </a:lnTo>
                  <a:lnTo>
                    <a:pt x="1217" y="3169"/>
                  </a:lnTo>
                  <a:lnTo>
                    <a:pt x="1195" y="3113"/>
                  </a:lnTo>
                  <a:lnTo>
                    <a:pt x="1172" y="3059"/>
                  </a:lnTo>
                  <a:lnTo>
                    <a:pt x="1149" y="3005"/>
                  </a:lnTo>
                  <a:lnTo>
                    <a:pt x="1124" y="2950"/>
                  </a:lnTo>
                  <a:lnTo>
                    <a:pt x="1075" y="2843"/>
                  </a:lnTo>
                  <a:lnTo>
                    <a:pt x="1024" y="2738"/>
                  </a:lnTo>
                  <a:lnTo>
                    <a:pt x="972" y="2633"/>
                  </a:lnTo>
                  <a:lnTo>
                    <a:pt x="919" y="2530"/>
                  </a:lnTo>
                  <a:lnTo>
                    <a:pt x="865" y="2429"/>
                  </a:lnTo>
                  <a:lnTo>
                    <a:pt x="810" y="2329"/>
                  </a:lnTo>
                  <a:lnTo>
                    <a:pt x="702" y="2132"/>
                  </a:lnTo>
                  <a:lnTo>
                    <a:pt x="597" y="1942"/>
                  </a:lnTo>
                  <a:lnTo>
                    <a:pt x="546" y="1851"/>
                  </a:lnTo>
                  <a:lnTo>
                    <a:pt x="497" y="1761"/>
                  </a:lnTo>
                  <a:lnTo>
                    <a:pt x="449" y="1672"/>
                  </a:lnTo>
                  <a:lnTo>
                    <a:pt x="404" y="1585"/>
                  </a:lnTo>
                  <a:lnTo>
                    <a:pt x="362" y="1501"/>
                  </a:lnTo>
                  <a:lnTo>
                    <a:pt x="322" y="1418"/>
                  </a:lnTo>
                  <a:lnTo>
                    <a:pt x="304" y="1379"/>
                  </a:lnTo>
                  <a:lnTo>
                    <a:pt x="286" y="1339"/>
                  </a:lnTo>
                  <a:lnTo>
                    <a:pt x="270" y="1300"/>
                  </a:lnTo>
                  <a:lnTo>
                    <a:pt x="254" y="1261"/>
                  </a:lnTo>
                  <a:lnTo>
                    <a:pt x="239" y="1223"/>
                  </a:lnTo>
                  <a:lnTo>
                    <a:pt x="225" y="1185"/>
                  </a:lnTo>
                  <a:lnTo>
                    <a:pt x="212" y="1149"/>
                  </a:lnTo>
                  <a:lnTo>
                    <a:pt x="200" y="1113"/>
                  </a:lnTo>
                  <a:lnTo>
                    <a:pt x="190" y="1077"/>
                  </a:lnTo>
                  <a:lnTo>
                    <a:pt x="180" y="1043"/>
                  </a:lnTo>
                  <a:lnTo>
                    <a:pt x="172" y="1009"/>
                  </a:lnTo>
                  <a:lnTo>
                    <a:pt x="166" y="975"/>
                  </a:lnTo>
                  <a:lnTo>
                    <a:pt x="159" y="943"/>
                  </a:lnTo>
                  <a:lnTo>
                    <a:pt x="155" y="911"/>
                  </a:lnTo>
                  <a:lnTo>
                    <a:pt x="152" y="881"/>
                  </a:lnTo>
                  <a:lnTo>
                    <a:pt x="150" y="850"/>
                  </a:lnTo>
                  <a:lnTo>
                    <a:pt x="149" y="821"/>
                  </a:lnTo>
                  <a:lnTo>
                    <a:pt x="150" y="793"/>
                  </a:lnTo>
                  <a:lnTo>
                    <a:pt x="151" y="764"/>
                  </a:lnTo>
                  <a:lnTo>
                    <a:pt x="155" y="738"/>
                  </a:lnTo>
                  <a:lnTo>
                    <a:pt x="159" y="712"/>
                  </a:lnTo>
                  <a:lnTo>
                    <a:pt x="166" y="687"/>
                  </a:lnTo>
                  <a:lnTo>
                    <a:pt x="173" y="662"/>
                  </a:lnTo>
                  <a:lnTo>
                    <a:pt x="181" y="638"/>
                  </a:lnTo>
                  <a:lnTo>
                    <a:pt x="192" y="615"/>
                  </a:lnTo>
                  <a:lnTo>
                    <a:pt x="204" y="592"/>
                  </a:lnTo>
                  <a:lnTo>
                    <a:pt x="217" y="570"/>
                  </a:lnTo>
                  <a:lnTo>
                    <a:pt x="232" y="548"/>
                  </a:lnTo>
                  <a:lnTo>
                    <a:pt x="249" y="527"/>
                  </a:lnTo>
                  <a:lnTo>
                    <a:pt x="268" y="506"/>
                  </a:lnTo>
                  <a:lnTo>
                    <a:pt x="288" y="485"/>
                  </a:lnTo>
                  <a:lnTo>
                    <a:pt x="311" y="465"/>
                  </a:lnTo>
                  <a:lnTo>
                    <a:pt x="336" y="445"/>
                  </a:lnTo>
                  <a:lnTo>
                    <a:pt x="362" y="426"/>
                  </a:lnTo>
                  <a:lnTo>
                    <a:pt x="392" y="406"/>
                  </a:lnTo>
                  <a:lnTo>
                    <a:pt x="422" y="388"/>
                  </a:lnTo>
                  <a:lnTo>
                    <a:pt x="456" y="371"/>
                  </a:lnTo>
                  <a:lnTo>
                    <a:pt x="492" y="353"/>
                  </a:lnTo>
                  <a:lnTo>
                    <a:pt x="531" y="336"/>
                  </a:lnTo>
                  <a:lnTo>
                    <a:pt x="572" y="320"/>
                  </a:lnTo>
                  <a:lnTo>
                    <a:pt x="615" y="304"/>
                  </a:lnTo>
                  <a:lnTo>
                    <a:pt x="661" y="290"/>
                  </a:lnTo>
                  <a:lnTo>
                    <a:pt x="710" y="275"/>
                  </a:lnTo>
                  <a:lnTo>
                    <a:pt x="761" y="261"/>
                  </a:lnTo>
                  <a:lnTo>
                    <a:pt x="816" y="249"/>
                  </a:lnTo>
                  <a:lnTo>
                    <a:pt x="872" y="236"/>
                  </a:lnTo>
                  <a:lnTo>
                    <a:pt x="931" y="225"/>
                  </a:lnTo>
                  <a:lnTo>
                    <a:pt x="994" y="214"/>
                  </a:lnTo>
                  <a:lnTo>
                    <a:pt x="1059" y="205"/>
                  </a:lnTo>
                  <a:lnTo>
                    <a:pt x="1128" y="195"/>
                  </a:lnTo>
                  <a:lnTo>
                    <a:pt x="1198" y="187"/>
                  </a:lnTo>
                  <a:lnTo>
                    <a:pt x="1271" y="179"/>
                  </a:lnTo>
                  <a:lnTo>
                    <a:pt x="1348" y="173"/>
                  </a:lnTo>
                  <a:lnTo>
                    <a:pt x="1428" y="167"/>
                  </a:lnTo>
                  <a:lnTo>
                    <a:pt x="1511" y="162"/>
                  </a:lnTo>
                  <a:lnTo>
                    <a:pt x="1597" y="157"/>
                  </a:lnTo>
                  <a:lnTo>
                    <a:pt x="1685" y="154"/>
                  </a:lnTo>
                  <a:lnTo>
                    <a:pt x="1778" y="151"/>
                  </a:lnTo>
                  <a:lnTo>
                    <a:pt x="1872" y="150"/>
                  </a:lnTo>
                  <a:lnTo>
                    <a:pt x="1971" y="149"/>
                  </a:lnTo>
                  <a:lnTo>
                    <a:pt x="1904" y="108"/>
                  </a:lnTo>
                  <a:lnTo>
                    <a:pt x="1971" y="149"/>
                  </a:lnTo>
                  <a:lnTo>
                    <a:pt x="1980" y="149"/>
                  </a:lnTo>
                  <a:lnTo>
                    <a:pt x="1989" y="148"/>
                  </a:lnTo>
                  <a:lnTo>
                    <a:pt x="1996" y="146"/>
                  </a:lnTo>
                  <a:lnTo>
                    <a:pt x="2003" y="143"/>
                  </a:lnTo>
                  <a:lnTo>
                    <a:pt x="2010" y="140"/>
                  </a:lnTo>
                  <a:lnTo>
                    <a:pt x="2016" y="135"/>
                  </a:lnTo>
                  <a:lnTo>
                    <a:pt x="2022" y="131"/>
                  </a:lnTo>
                  <a:lnTo>
                    <a:pt x="2026" y="126"/>
                  </a:lnTo>
                  <a:lnTo>
                    <a:pt x="2031" y="121"/>
                  </a:lnTo>
                  <a:lnTo>
                    <a:pt x="2035" y="114"/>
                  </a:lnTo>
                  <a:lnTo>
                    <a:pt x="2038" y="108"/>
                  </a:lnTo>
                  <a:lnTo>
                    <a:pt x="2041" y="102"/>
                  </a:lnTo>
                  <a:lnTo>
                    <a:pt x="2043" y="95"/>
                  </a:lnTo>
                  <a:lnTo>
                    <a:pt x="2044" y="88"/>
                  </a:lnTo>
                  <a:lnTo>
                    <a:pt x="2045" y="82"/>
                  </a:lnTo>
                  <a:lnTo>
                    <a:pt x="2045" y="74"/>
                  </a:lnTo>
                  <a:lnTo>
                    <a:pt x="2045" y="68"/>
                  </a:lnTo>
                  <a:lnTo>
                    <a:pt x="2044" y="61"/>
                  </a:lnTo>
                  <a:lnTo>
                    <a:pt x="2043" y="53"/>
                  </a:lnTo>
                  <a:lnTo>
                    <a:pt x="2041" y="47"/>
                  </a:lnTo>
                  <a:lnTo>
                    <a:pt x="2038" y="41"/>
                  </a:lnTo>
                  <a:lnTo>
                    <a:pt x="2035" y="35"/>
                  </a:lnTo>
                  <a:lnTo>
                    <a:pt x="2031" y="29"/>
                  </a:lnTo>
                  <a:lnTo>
                    <a:pt x="2026" y="23"/>
                  </a:lnTo>
                  <a:lnTo>
                    <a:pt x="2022" y="19"/>
                  </a:lnTo>
                  <a:lnTo>
                    <a:pt x="2016" y="14"/>
                  </a:lnTo>
                  <a:lnTo>
                    <a:pt x="2010" y="9"/>
                  </a:lnTo>
                  <a:lnTo>
                    <a:pt x="2003" y="6"/>
                  </a:lnTo>
                  <a:lnTo>
                    <a:pt x="1996" y="4"/>
                  </a:lnTo>
                  <a:lnTo>
                    <a:pt x="1989" y="2"/>
                  </a:lnTo>
                  <a:lnTo>
                    <a:pt x="1980" y="0"/>
                  </a:lnTo>
                  <a:lnTo>
                    <a:pt x="1971" y="0"/>
                  </a:lnTo>
                  <a:lnTo>
                    <a:pt x="203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4130640" y="4233960"/>
              <a:ext cx="98640" cy="76320"/>
            </a:xfrm>
            <a:custGeom>
              <a:avLst/>
              <a:gdLst/>
              <a:ahLst/>
              <a:rect l="l" t="t" r="r" b="b"/>
              <a:pathLst>
                <a:path w="313" h="237">
                  <a:moveTo>
                    <a:pt x="302" y="125"/>
                  </a:moveTo>
                  <a:lnTo>
                    <a:pt x="265" y="92"/>
                  </a:lnTo>
                  <a:lnTo>
                    <a:pt x="247" y="85"/>
                  </a:lnTo>
                  <a:lnTo>
                    <a:pt x="232" y="79"/>
                  </a:lnTo>
                  <a:lnTo>
                    <a:pt x="217" y="71"/>
                  </a:lnTo>
                  <a:lnTo>
                    <a:pt x="204" y="64"/>
                  </a:lnTo>
                  <a:lnTo>
                    <a:pt x="194" y="58"/>
                  </a:lnTo>
                  <a:lnTo>
                    <a:pt x="183" y="51"/>
                  </a:lnTo>
                  <a:lnTo>
                    <a:pt x="174" y="45"/>
                  </a:lnTo>
                  <a:lnTo>
                    <a:pt x="167" y="40"/>
                  </a:lnTo>
                  <a:lnTo>
                    <a:pt x="160" y="33"/>
                  </a:lnTo>
                  <a:lnTo>
                    <a:pt x="154" y="28"/>
                  </a:lnTo>
                  <a:lnTo>
                    <a:pt x="150" y="23"/>
                  </a:lnTo>
                  <a:lnTo>
                    <a:pt x="146" y="19"/>
                  </a:lnTo>
                  <a:lnTo>
                    <a:pt x="141" y="15"/>
                  </a:lnTo>
                  <a:lnTo>
                    <a:pt x="138" y="9"/>
                  </a:lnTo>
                  <a:lnTo>
                    <a:pt x="136" y="5"/>
                  </a:lnTo>
                  <a:lnTo>
                    <a:pt x="134" y="0"/>
                  </a:lnTo>
                  <a:lnTo>
                    <a:pt x="0" y="67"/>
                  </a:lnTo>
                  <a:lnTo>
                    <a:pt x="6" y="79"/>
                  </a:lnTo>
                  <a:lnTo>
                    <a:pt x="13" y="89"/>
                  </a:lnTo>
                  <a:lnTo>
                    <a:pt x="21" y="101"/>
                  </a:lnTo>
                  <a:lnTo>
                    <a:pt x="30" y="112"/>
                  </a:lnTo>
                  <a:lnTo>
                    <a:pt x="40" y="124"/>
                  </a:lnTo>
                  <a:lnTo>
                    <a:pt x="50" y="134"/>
                  </a:lnTo>
                  <a:lnTo>
                    <a:pt x="62" y="146"/>
                  </a:lnTo>
                  <a:lnTo>
                    <a:pt x="74" y="156"/>
                  </a:lnTo>
                  <a:lnTo>
                    <a:pt x="87" y="166"/>
                  </a:lnTo>
                  <a:lnTo>
                    <a:pt x="101" y="176"/>
                  </a:lnTo>
                  <a:lnTo>
                    <a:pt x="116" y="186"/>
                  </a:lnTo>
                  <a:lnTo>
                    <a:pt x="133" y="195"/>
                  </a:lnTo>
                  <a:lnTo>
                    <a:pt x="151" y="205"/>
                  </a:lnTo>
                  <a:lnTo>
                    <a:pt x="169" y="213"/>
                  </a:lnTo>
                  <a:lnTo>
                    <a:pt x="189" y="222"/>
                  </a:lnTo>
                  <a:lnTo>
                    <a:pt x="210" y="231"/>
                  </a:lnTo>
                  <a:lnTo>
                    <a:pt x="173" y="198"/>
                  </a:lnTo>
                  <a:lnTo>
                    <a:pt x="210" y="231"/>
                  </a:lnTo>
                  <a:lnTo>
                    <a:pt x="218" y="234"/>
                  </a:lnTo>
                  <a:lnTo>
                    <a:pt x="226" y="236"/>
                  </a:lnTo>
                  <a:lnTo>
                    <a:pt x="235" y="237"/>
                  </a:lnTo>
                  <a:lnTo>
                    <a:pt x="242" y="237"/>
                  </a:lnTo>
                  <a:lnTo>
                    <a:pt x="250" y="236"/>
                  </a:lnTo>
                  <a:lnTo>
                    <a:pt x="257" y="235"/>
                  </a:lnTo>
                  <a:lnTo>
                    <a:pt x="264" y="233"/>
                  </a:lnTo>
                  <a:lnTo>
                    <a:pt x="271" y="230"/>
                  </a:lnTo>
                  <a:lnTo>
                    <a:pt x="276" y="227"/>
                  </a:lnTo>
                  <a:lnTo>
                    <a:pt x="282" y="222"/>
                  </a:lnTo>
                  <a:lnTo>
                    <a:pt x="287" y="218"/>
                  </a:lnTo>
                  <a:lnTo>
                    <a:pt x="292" y="213"/>
                  </a:lnTo>
                  <a:lnTo>
                    <a:pt x="297" y="208"/>
                  </a:lnTo>
                  <a:lnTo>
                    <a:pt x="300" y="201"/>
                  </a:lnTo>
                  <a:lnTo>
                    <a:pt x="304" y="196"/>
                  </a:lnTo>
                  <a:lnTo>
                    <a:pt x="306" y="189"/>
                  </a:lnTo>
                  <a:lnTo>
                    <a:pt x="308" y="183"/>
                  </a:lnTo>
                  <a:lnTo>
                    <a:pt x="310" y="176"/>
                  </a:lnTo>
                  <a:lnTo>
                    <a:pt x="312" y="169"/>
                  </a:lnTo>
                  <a:lnTo>
                    <a:pt x="313" y="163"/>
                  </a:lnTo>
                  <a:lnTo>
                    <a:pt x="313" y="155"/>
                  </a:lnTo>
                  <a:lnTo>
                    <a:pt x="312" y="148"/>
                  </a:lnTo>
                  <a:lnTo>
                    <a:pt x="310" y="142"/>
                  </a:lnTo>
                  <a:lnTo>
                    <a:pt x="308" y="135"/>
                  </a:lnTo>
                  <a:lnTo>
                    <a:pt x="305" y="128"/>
                  </a:lnTo>
                  <a:lnTo>
                    <a:pt x="302" y="123"/>
                  </a:lnTo>
                  <a:lnTo>
                    <a:pt x="298" y="116"/>
                  </a:lnTo>
                  <a:lnTo>
                    <a:pt x="293" y="110"/>
                  </a:lnTo>
                  <a:lnTo>
                    <a:pt x="287" y="105"/>
                  </a:lnTo>
                  <a:lnTo>
                    <a:pt x="281" y="101"/>
                  </a:lnTo>
                  <a:lnTo>
                    <a:pt x="274" y="96"/>
                  </a:lnTo>
                  <a:lnTo>
                    <a:pt x="265" y="92"/>
                  </a:lnTo>
                  <a:lnTo>
                    <a:pt x="302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4632480" y="4245120"/>
              <a:ext cx="1008000" cy="1566720"/>
            </a:xfrm>
            <a:custGeom>
              <a:avLst/>
              <a:gdLst/>
              <a:ahLst/>
              <a:rect l="l" t="t" r="r" b="b"/>
              <a:pathLst>
                <a:path w="3174" h="4934">
                  <a:moveTo>
                    <a:pt x="1107" y="129"/>
                  </a:moveTo>
                  <a:lnTo>
                    <a:pt x="1085" y="167"/>
                  </a:lnTo>
                  <a:lnTo>
                    <a:pt x="1061" y="206"/>
                  </a:lnTo>
                  <a:lnTo>
                    <a:pt x="1036" y="245"/>
                  </a:lnTo>
                  <a:lnTo>
                    <a:pt x="1008" y="285"/>
                  </a:lnTo>
                  <a:lnTo>
                    <a:pt x="953" y="364"/>
                  </a:lnTo>
                  <a:lnTo>
                    <a:pt x="894" y="444"/>
                  </a:lnTo>
                  <a:lnTo>
                    <a:pt x="834" y="524"/>
                  </a:lnTo>
                  <a:lnTo>
                    <a:pt x="773" y="605"/>
                  </a:lnTo>
                  <a:lnTo>
                    <a:pt x="712" y="687"/>
                  </a:lnTo>
                  <a:lnTo>
                    <a:pt x="653" y="770"/>
                  </a:lnTo>
                  <a:lnTo>
                    <a:pt x="625" y="812"/>
                  </a:lnTo>
                  <a:lnTo>
                    <a:pt x="597" y="854"/>
                  </a:lnTo>
                  <a:lnTo>
                    <a:pt x="570" y="896"/>
                  </a:lnTo>
                  <a:lnTo>
                    <a:pt x="545" y="938"/>
                  </a:lnTo>
                  <a:lnTo>
                    <a:pt x="521" y="981"/>
                  </a:lnTo>
                  <a:lnTo>
                    <a:pt x="498" y="1024"/>
                  </a:lnTo>
                  <a:lnTo>
                    <a:pt x="476" y="1067"/>
                  </a:lnTo>
                  <a:lnTo>
                    <a:pt x="457" y="1110"/>
                  </a:lnTo>
                  <a:lnTo>
                    <a:pt x="438" y="1154"/>
                  </a:lnTo>
                  <a:lnTo>
                    <a:pt x="422" y="1197"/>
                  </a:lnTo>
                  <a:lnTo>
                    <a:pt x="409" y="1242"/>
                  </a:lnTo>
                  <a:lnTo>
                    <a:pt x="397" y="1286"/>
                  </a:lnTo>
                  <a:lnTo>
                    <a:pt x="388" y="1331"/>
                  </a:lnTo>
                  <a:lnTo>
                    <a:pt x="380" y="1375"/>
                  </a:lnTo>
                  <a:lnTo>
                    <a:pt x="376" y="1420"/>
                  </a:lnTo>
                  <a:lnTo>
                    <a:pt x="375" y="1465"/>
                  </a:lnTo>
                  <a:lnTo>
                    <a:pt x="397" y="1475"/>
                  </a:lnTo>
                  <a:lnTo>
                    <a:pt x="422" y="1488"/>
                  </a:lnTo>
                  <a:lnTo>
                    <a:pt x="452" y="1505"/>
                  </a:lnTo>
                  <a:lnTo>
                    <a:pt x="482" y="1523"/>
                  </a:lnTo>
                  <a:lnTo>
                    <a:pt x="550" y="1565"/>
                  </a:lnTo>
                  <a:lnTo>
                    <a:pt x="621" y="1609"/>
                  </a:lnTo>
                  <a:lnTo>
                    <a:pt x="656" y="1631"/>
                  </a:lnTo>
                  <a:lnTo>
                    <a:pt x="691" y="1651"/>
                  </a:lnTo>
                  <a:lnTo>
                    <a:pt x="725" y="1670"/>
                  </a:lnTo>
                  <a:lnTo>
                    <a:pt x="756" y="1687"/>
                  </a:lnTo>
                  <a:lnTo>
                    <a:pt x="785" y="1701"/>
                  </a:lnTo>
                  <a:lnTo>
                    <a:pt x="811" y="1712"/>
                  </a:lnTo>
                  <a:lnTo>
                    <a:pt x="822" y="1716"/>
                  </a:lnTo>
                  <a:lnTo>
                    <a:pt x="833" y="1718"/>
                  </a:lnTo>
                  <a:lnTo>
                    <a:pt x="842" y="1720"/>
                  </a:lnTo>
                  <a:lnTo>
                    <a:pt x="852" y="1721"/>
                  </a:lnTo>
                  <a:lnTo>
                    <a:pt x="852" y="1742"/>
                  </a:lnTo>
                  <a:lnTo>
                    <a:pt x="852" y="1763"/>
                  </a:lnTo>
                  <a:lnTo>
                    <a:pt x="852" y="1785"/>
                  </a:lnTo>
                  <a:lnTo>
                    <a:pt x="852" y="1808"/>
                  </a:lnTo>
                  <a:lnTo>
                    <a:pt x="852" y="1830"/>
                  </a:lnTo>
                  <a:lnTo>
                    <a:pt x="852" y="1852"/>
                  </a:lnTo>
                  <a:lnTo>
                    <a:pt x="852" y="1875"/>
                  </a:lnTo>
                  <a:lnTo>
                    <a:pt x="852" y="1899"/>
                  </a:lnTo>
                  <a:lnTo>
                    <a:pt x="764" y="1894"/>
                  </a:lnTo>
                  <a:lnTo>
                    <a:pt x="675" y="1888"/>
                  </a:lnTo>
                  <a:lnTo>
                    <a:pt x="587" y="1883"/>
                  </a:lnTo>
                  <a:lnTo>
                    <a:pt x="499" y="1878"/>
                  </a:lnTo>
                  <a:lnTo>
                    <a:pt x="410" y="1873"/>
                  </a:lnTo>
                  <a:lnTo>
                    <a:pt x="320" y="1867"/>
                  </a:lnTo>
                  <a:lnTo>
                    <a:pt x="231" y="1861"/>
                  </a:lnTo>
                  <a:lnTo>
                    <a:pt x="141" y="1856"/>
                  </a:lnTo>
                  <a:lnTo>
                    <a:pt x="143" y="1880"/>
                  </a:lnTo>
                  <a:lnTo>
                    <a:pt x="146" y="1904"/>
                  </a:lnTo>
                  <a:lnTo>
                    <a:pt x="148" y="1928"/>
                  </a:lnTo>
                  <a:lnTo>
                    <a:pt x="151" y="1952"/>
                  </a:lnTo>
                  <a:lnTo>
                    <a:pt x="153" y="1977"/>
                  </a:lnTo>
                  <a:lnTo>
                    <a:pt x="157" y="2001"/>
                  </a:lnTo>
                  <a:lnTo>
                    <a:pt x="159" y="2024"/>
                  </a:lnTo>
                  <a:lnTo>
                    <a:pt x="162" y="2048"/>
                  </a:lnTo>
                  <a:lnTo>
                    <a:pt x="178" y="2049"/>
                  </a:lnTo>
                  <a:lnTo>
                    <a:pt x="192" y="2051"/>
                  </a:lnTo>
                  <a:lnTo>
                    <a:pt x="208" y="2054"/>
                  </a:lnTo>
                  <a:lnTo>
                    <a:pt x="222" y="2058"/>
                  </a:lnTo>
                  <a:lnTo>
                    <a:pt x="250" y="2068"/>
                  </a:lnTo>
                  <a:lnTo>
                    <a:pt x="276" y="2081"/>
                  </a:lnTo>
                  <a:lnTo>
                    <a:pt x="302" y="2092"/>
                  </a:lnTo>
                  <a:lnTo>
                    <a:pt x="327" y="2103"/>
                  </a:lnTo>
                  <a:lnTo>
                    <a:pt x="339" y="2107"/>
                  </a:lnTo>
                  <a:lnTo>
                    <a:pt x="351" y="2110"/>
                  </a:lnTo>
                  <a:lnTo>
                    <a:pt x="363" y="2111"/>
                  </a:lnTo>
                  <a:lnTo>
                    <a:pt x="375" y="2112"/>
                  </a:lnTo>
                  <a:lnTo>
                    <a:pt x="375" y="2133"/>
                  </a:lnTo>
                  <a:lnTo>
                    <a:pt x="375" y="2155"/>
                  </a:lnTo>
                  <a:lnTo>
                    <a:pt x="375" y="2176"/>
                  </a:lnTo>
                  <a:lnTo>
                    <a:pt x="375" y="2197"/>
                  </a:lnTo>
                  <a:lnTo>
                    <a:pt x="375" y="2219"/>
                  </a:lnTo>
                  <a:lnTo>
                    <a:pt x="375" y="2240"/>
                  </a:lnTo>
                  <a:lnTo>
                    <a:pt x="375" y="2261"/>
                  </a:lnTo>
                  <a:lnTo>
                    <a:pt x="375" y="2283"/>
                  </a:lnTo>
                  <a:lnTo>
                    <a:pt x="319" y="2283"/>
                  </a:lnTo>
                  <a:lnTo>
                    <a:pt x="272" y="2283"/>
                  </a:lnTo>
                  <a:lnTo>
                    <a:pt x="231" y="2283"/>
                  </a:lnTo>
                  <a:lnTo>
                    <a:pt x="193" y="2283"/>
                  </a:lnTo>
                  <a:lnTo>
                    <a:pt x="156" y="2283"/>
                  </a:lnTo>
                  <a:lnTo>
                    <a:pt x="115" y="2283"/>
                  </a:lnTo>
                  <a:lnTo>
                    <a:pt x="68" y="2283"/>
                  </a:lnTo>
                  <a:lnTo>
                    <a:pt x="13" y="2283"/>
                  </a:lnTo>
                  <a:lnTo>
                    <a:pt x="5" y="2322"/>
                  </a:lnTo>
                  <a:lnTo>
                    <a:pt x="1" y="2359"/>
                  </a:lnTo>
                  <a:lnTo>
                    <a:pt x="0" y="2375"/>
                  </a:lnTo>
                  <a:lnTo>
                    <a:pt x="0" y="2391"/>
                  </a:lnTo>
                  <a:lnTo>
                    <a:pt x="0" y="2406"/>
                  </a:lnTo>
                  <a:lnTo>
                    <a:pt x="0" y="2420"/>
                  </a:lnTo>
                  <a:lnTo>
                    <a:pt x="1" y="2433"/>
                  </a:lnTo>
                  <a:lnTo>
                    <a:pt x="3" y="2446"/>
                  </a:lnTo>
                  <a:lnTo>
                    <a:pt x="6" y="2459"/>
                  </a:lnTo>
                  <a:lnTo>
                    <a:pt x="10" y="2470"/>
                  </a:lnTo>
                  <a:lnTo>
                    <a:pt x="13" y="2481"/>
                  </a:lnTo>
                  <a:lnTo>
                    <a:pt x="18" y="2490"/>
                  </a:lnTo>
                  <a:lnTo>
                    <a:pt x="22" y="2499"/>
                  </a:lnTo>
                  <a:lnTo>
                    <a:pt x="29" y="2508"/>
                  </a:lnTo>
                  <a:lnTo>
                    <a:pt x="35" y="2515"/>
                  </a:lnTo>
                  <a:lnTo>
                    <a:pt x="42" y="2523"/>
                  </a:lnTo>
                  <a:lnTo>
                    <a:pt x="50" y="2529"/>
                  </a:lnTo>
                  <a:lnTo>
                    <a:pt x="58" y="2535"/>
                  </a:lnTo>
                  <a:lnTo>
                    <a:pt x="66" y="2540"/>
                  </a:lnTo>
                  <a:lnTo>
                    <a:pt x="76" y="2546"/>
                  </a:lnTo>
                  <a:lnTo>
                    <a:pt x="85" y="2550"/>
                  </a:lnTo>
                  <a:lnTo>
                    <a:pt x="97" y="2554"/>
                  </a:lnTo>
                  <a:lnTo>
                    <a:pt x="107" y="2557"/>
                  </a:lnTo>
                  <a:lnTo>
                    <a:pt x="120" y="2559"/>
                  </a:lnTo>
                  <a:lnTo>
                    <a:pt x="132" y="2562"/>
                  </a:lnTo>
                  <a:lnTo>
                    <a:pt x="145" y="2564"/>
                  </a:lnTo>
                  <a:lnTo>
                    <a:pt x="173" y="2567"/>
                  </a:lnTo>
                  <a:lnTo>
                    <a:pt x="205" y="2567"/>
                  </a:lnTo>
                  <a:lnTo>
                    <a:pt x="271" y="2643"/>
                  </a:lnTo>
                  <a:lnTo>
                    <a:pt x="332" y="2720"/>
                  </a:lnTo>
                  <a:lnTo>
                    <a:pt x="388" y="2797"/>
                  </a:lnTo>
                  <a:lnTo>
                    <a:pt x="438" y="2872"/>
                  </a:lnTo>
                  <a:lnTo>
                    <a:pt x="483" y="2949"/>
                  </a:lnTo>
                  <a:lnTo>
                    <a:pt x="523" y="3024"/>
                  </a:lnTo>
                  <a:lnTo>
                    <a:pt x="558" y="3100"/>
                  </a:lnTo>
                  <a:lnTo>
                    <a:pt x="588" y="3176"/>
                  </a:lnTo>
                  <a:lnTo>
                    <a:pt x="613" y="3251"/>
                  </a:lnTo>
                  <a:lnTo>
                    <a:pt x="634" y="3327"/>
                  </a:lnTo>
                  <a:lnTo>
                    <a:pt x="651" y="3401"/>
                  </a:lnTo>
                  <a:lnTo>
                    <a:pt x="663" y="3477"/>
                  </a:lnTo>
                  <a:lnTo>
                    <a:pt x="670" y="3552"/>
                  </a:lnTo>
                  <a:lnTo>
                    <a:pt x="673" y="3626"/>
                  </a:lnTo>
                  <a:lnTo>
                    <a:pt x="673" y="3701"/>
                  </a:lnTo>
                  <a:lnTo>
                    <a:pt x="668" y="3775"/>
                  </a:lnTo>
                  <a:lnTo>
                    <a:pt x="660" y="3849"/>
                  </a:lnTo>
                  <a:lnTo>
                    <a:pt x="647" y="3923"/>
                  </a:lnTo>
                  <a:lnTo>
                    <a:pt x="631" y="3997"/>
                  </a:lnTo>
                  <a:lnTo>
                    <a:pt x="612" y="4070"/>
                  </a:lnTo>
                  <a:lnTo>
                    <a:pt x="589" y="4144"/>
                  </a:lnTo>
                  <a:lnTo>
                    <a:pt x="563" y="4216"/>
                  </a:lnTo>
                  <a:lnTo>
                    <a:pt x="533" y="4289"/>
                  </a:lnTo>
                  <a:lnTo>
                    <a:pt x="500" y="4362"/>
                  </a:lnTo>
                  <a:lnTo>
                    <a:pt x="464" y="4435"/>
                  </a:lnTo>
                  <a:lnTo>
                    <a:pt x="427" y="4506"/>
                  </a:lnTo>
                  <a:lnTo>
                    <a:pt x="384" y="4578"/>
                  </a:lnTo>
                  <a:lnTo>
                    <a:pt x="341" y="4650"/>
                  </a:lnTo>
                  <a:lnTo>
                    <a:pt x="294" y="4721"/>
                  </a:lnTo>
                  <a:lnTo>
                    <a:pt x="246" y="4793"/>
                  </a:lnTo>
                  <a:lnTo>
                    <a:pt x="194" y="4864"/>
                  </a:lnTo>
                  <a:lnTo>
                    <a:pt x="141" y="4934"/>
                  </a:lnTo>
                  <a:lnTo>
                    <a:pt x="370" y="4934"/>
                  </a:lnTo>
                  <a:lnTo>
                    <a:pt x="598" y="4934"/>
                  </a:lnTo>
                  <a:lnTo>
                    <a:pt x="827" y="4934"/>
                  </a:lnTo>
                  <a:lnTo>
                    <a:pt x="1054" y="4934"/>
                  </a:lnTo>
                  <a:lnTo>
                    <a:pt x="1282" y="4934"/>
                  </a:lnTo>
                  <a:lnTo>
                    <a:pt x="1510" y="4934"/>
                  </a:lnTo>
                  <a:lnTo>
                    <a:pt x="1739" y="4934"/>
                  </a:lnTo>
                  <a:lnTo>
                    <a:pt x="1968" y="4934"/>
                  </a:lnTo>
                  <a:lnTo>
                    <a:pt x="1902" y="4702"/>
                  </a:lnTo>
                  <a:lnTo>
                    <a:pt x="1865" y="4471"/>
                  </a:lnTo>
                  <a:lnTo>
                    <a:pt x="1855" y="4241"/>
                  </a:lnTo>
                  <a:lnTo>
                    <a:pt x="1867" y="4013"/>
                  </a:lnTo>
                  <a:lnTo>
                    <a:pt x="1901" y="3786"/>
                  </a:lnTo>
                  <a:lnTo>
                    <a:pt x="1952" y="3562"/>
                  </a:lnTo>
                  <a:lnTo>
                    <a:pt x="2021" y="3341"/>
                  </a:lnTo>
                  <a:lnTo>
                    <a:pt x="2101" y="3122"/>
                  </a:lnTo>
                  <a:lnTo>
                    <a:pt x="2192" y="2907"/>
                  </a:lnTo>
                  <a:lnTo>
                    <a:pt x="2291" y="2697"/>
                  </a:lnTo>
                  <a:lnTo>
                    <a:pt x="2396" y="2491"/>
                  </a:lnTo>
                  <a:lnTo>
                    <a:pt x="2504" y="2291"/>
                  </a:lnTo>
                  <a:lnTo>
                    <a:pt x="2612" y="2094"/>
                  </a:lnTo>
                  <a:lnTo>
                    <a:pt x="2717" y="1905"/>
                  </a:lnTo>
                  <a:lnTo>
                    <a:pt x="2818" y="1721"/>
                  </a:lnTo>
                  <a:lnTo>
                    <a:pt x="2911" y="1545"/>
                  </a:lnTo>
                  <a:lnTo>
                    <a:pt x="2994" y="1376"/>
                  </a:lnTo>
                  <a:lnTo>
                    <a:pt x="3064" y="1214"/>
                  </a:lnTo>
                  <a:lnTo>
                    <a:pt x="3119" y="1061"/>
                  </a:lnTo>
                  <a:lnTo>
                    <a:pt x="3157" y="916"/>
                  </a:lnTo>
                  <a:lnTo>
                    <a:pt x="3174" y="780"/>
                  </a:lnTo>
                  <a:lnTo>
                    <a:pt x="3167" y="653"/>
                  </a:lnTo>
                  <a:lnTo>
                    <a:pt x="3136" y="536"/>
                  </a:lnTo>
                  <a:lnTo>
                    <a:pt x="3077" y="430"/>
                  </a:lnTo>
                  <a:lnTo>
                    <a:pt x="2987" y="334"/>
                  </a:lnTo>
                  <a:lnTo>
                    <a:pt x="2863" y="249"/>
                  </a:lnTo>
                  <a:lnTo>
                    <a:pt x="2703" y="176"/>
                  </a:lnTo>
                  <a:lnTo>
                    <a:pt x="2506" y="115"/>
                  </a:lnTo>
                  <a:lnTo>
                    <a:pt x="2266" y="67"/>
                  </a:lnTo>
                  <a:lnTo>
                    <a:pt x="1984" y="31"/>
                  </a:lnTo>
                  <a:lnTo>
                    <a:pt x="1655" y="9"/>
                  </a:lnTo>
                  <a:lnTo>
                    <a:pt x="1278" y="0"/>
                  </a:lnTo>
                  <a:lnTo>
                    <a:pt x="1269" y="16"/>
                  </a:lnTo>
                  <a:lnTo>
                    <a:pt x="1257" y="33"/>
                  </a:lnTo>
                  <a:lnTo>
                    <a:pt x="1251" y="40"/>
                  </a:lnTo>
                  <a:lnTo>
                    <a:pt x="1242" y="49"/>
                  </a:lnTo>
                  <a:lnTo>
                    <a:pt x="1234" y="57"/>
                  </a:lnTo>
                  <a:lnTo>
                    <a:pt x="1225" y="65"/>
                  </a:lnTo>
                  <a:lnTo>
                    <a:pt x="1214" y="73"/>
                  </a:lnTo>
                  <a:lnTo>
                    <a:pt x="1203" y="80"/>
                  </a:lnTo>
                  <a:lnTo>
                    <a:pt x="1190" y="89"/>
                  </a:lnTo>
                  <a:lnTo>
                    <a:pt x="1176" y="97"/>
                  </a:lnTo>
                  <a:lnTo>
                    <a:pt x="1161" y="104"/>
                  </a:lnTo>
                  <a:lnTo>
                    <a:pt x="1145" y="113"/>
                  </a:lnTo>
                  <a:lnTo>
                    <a:pt x="1127" y="120"/>
                  </a:lnTo>
                  <a:lnTo>
                    <a:pt x="1107" y="12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4727520" y="4273560"/>
              <a:ext cx="277920" cy="460440"/>
            </a:xfrm>
            <a:custGeom>
              <a:avLst/>
              <a:gdLst/>
              <a:ahLst/>
              <a:rect l="l" t="t" r="r" b="b"/>
              <a:pathLst>
                <a:path w="872" h="1448">
                  <a:moveTo>
                    <a:pt x="102" y="1304"/>
                  </a:moveTo>
                  <a:lnTo>
                    <a:pt x="150" y="1373"/>
                  </a:lnTo>
                  <a:lnTo>
                    <a:pt x="150" y="1352"/>
                  </a:lnTo>
                  <a:lnTo>
                    <a:pt x="151" y="1332"/>
                  </a:lnTo>
                  <a:lnTo>
                    <a:pt x="153" y="1312"/>
                  </a:lnTo>
                  <a:lnTo>
                    <a:pt x="155" y="1292"/>
                  </a:lnTo>
                  <a:lnTo>
                    <a:pt x="158" y="1271"/>
                  </a:lnTo>
                  <a:lnTo>
                    <a:pt x="161" y="1251"/>
                  </a:lnTo>
                  <a:lnTo>
                    <a:pt x="164" y="1231"/>
                  </a:lnTo>
                  <a:lnTo>
                    <a:pt x="170" y="1212"/>
                  </a:lnTo>
                  <a:lnTo>
                    <a:pt x="175" y="1191"/>
                  </a:lnTo>
                  <a:lnTo>
                    <a:pt x="180" y="1171"/>
                  </a:lnTo>
                  <a:lnTo>
                    <a:pt x="186" y="1151"/>
                  </a:lnTo>
                  <a:lnTo>
                    <a:pt x="193" y="1131"/>
                  </a:lnTo>
                  <a:lnTo>
                    <a:pt x="208" y="1089"/>
                  </a:lnTo>
                  <a:lnTo>
                    <a:pt x="225" y="1048"/>
                  </a:lnTo>
                  <a:lnTo>
                    <a:pt x="243" y="1007"/>
                  </a:lnTo>
                  <a:lnTo>
                    <a:pt x="264" y="966"/>
                  </a:lnTo>
                  <a:lnTo>
                    <a:pt x="286" y="925"/>
                  </a:lnTo>
                  <a:lnTo>
                    <a:pt x="309" y="884"/>
                  </a:lnTo>
                  <a:lnTo>
                    <a:pt x="333" y="843"/>
                  </a:lnTo>
                  <a:lnTo>
                    <a:pt x="360" y="802"/>
                  </a:lnTo>
                  <a:lnTo>
                    <a:pt x="387" y="761"/>
                  </a:lnTo>
                  <a:lnTo>
                    <a:pt x="414" y="721"/>
                  </a:lnTo>
                  <a:lnTo>
                    <a:pt x="472" y="639"/>
                  </a:lnTo>
                  <a:lnTo>
                    <a:pt x="532" y="557"/>
                  </a:lnTo>
                  <a:lnTo>
                    <a:pt x="593" y="477"/>
                  </a:lnTo>
                  <a:lnTo>
                    <a:pt x="654" y="396"/>
                  </a:lnTo>
                  <a:lnTo>
                    <a:pt x="714" y="315"/>
                  </a:lnTo>
                  <a:lnTo>
                    <a:pt x="770" y="235"/>
                  </a:lnTo>
                  <a:lnTo>
                    <a:pt x="798" y="194"/>
                  </a:lnTo>
                  <a:lnTo>
                    <a:pt x="824" y="154"/>
                  </a:lnTo>
                  <a:lnTo>
                    <a:pt x="849" y="114"/>
                  </a:lnTo>
                  <a:lnTo>
                    <a:pt x="872" y="73"/>
                  </a:lnTo>
                  <a:lnTo>
                    <a:pt x="743" y="0"/>
                  </a:lnTo>
                  <a:lnTo>
                    <a:pt x="721" y="37"/>
                  </a:lnTo>
                  <a:lnTo>
                    <a:pt x="698" y="74"/>
                  </a:lnTo>
                  <a:lnTo>
                    <a:pt x="673" y="112"/>
                  </a:lnTo>
                  <a:lnTo>
                    <a:pt x="647" y="150"/>
                  </a:lnTo>
                  <a:lnTo>
                    <a:pt x="593" y="229"/>
                  </a:lnTo>
                  <a:lnTo>
                    <a:pt x="534" y="307"/>
                  </a:lnTo>
                  <a:lnTo>
                    <a:pt x="474" y="387"/>
                  </a:lnTo>
                  <a:lnTo>
                    <a:pt x="413" y="469"/>
                  </a:lnTo>
                  <a:lnTo>
                    <a:pt x="351" y="552"/>
                  </a:lnTo>
                  <a:lnTo>
                    <a:pt x="292" y="636"/>
                  </a:lnTo>
                  <a:lnTo>
                    <a:pt x="263" y="678"/>
                  </a:lnTo>
                  <a:lnTo>
                    <a:pt x="235" y="722"/>
                  </a:lnTo>
                  <a:lnTo>
                    <a:pt x="207" y="765"/>
                  </a:lnTo>
                  <a:lnTo>
                    <a:pt x="181" y="809"/>
                  </a:lnTo>
                  <a:lnTo>
                    <a:pt x="155" y="853"/>
                  </a:lnTo>
                  <a:lnTo>
                    <a:pt x="132" y="898"/>
                  </a:lnTo>
                  <a:lnTo>
                    <a:pt x="109" y="943"/>
                  </a:lnTo>
                  <a:lnTo>
                    <a:pt x="89" y="989"/>
                  </a:lnTo>
                  <a:lnTo>
                    <a:pt x="69" y="1035"/>
                  </a:lnTo>
                  <a:lnTo>
                    <a:pt x="52" y="1081"/>
                  </a:lnTo>
                  <a:lnTo>
                    <a:pt x="45" y="1105"/>
                  </a:lnTo>
                  <a:lnTo>
                    <a:pt x="37" y="1129"/>
                  </a:lnTo>
                  <a:lnTo>
                    <a:pt x="30" y="1153"/>
                  </a:lnTo>
                  <a:lnTo>
                    <a:pt x="25" y="1177"/>
                  </a:lnTo>
                  <a:lnTo>
                    <a:pt x="19" y="1201"/>
                  </a:lnTo>
                  <a:lnTo>
                    <a:pt x="14" y="1225"/>
                  </a:lnTo>
                  <a:lnTo>
                    <a:pt x="10" y="1249"/>
                  </a:lnTo>
                  <a:lnTo>
                    <a:pt x="7" y="1275"/>
                  </a:lnTo>
                  <a:lnTo>
                    <a:pt x="5" y="1299"/>
                  </a:lnTo>
                  <a:lnTo>
                    <a:pt x="3" y="1323"/>
                  </a:lnTo>
                  <a:lnTo>
                    <a:pt x="0" y="1348"/>
                  </a:lnTo>
                  <a:lnTo>
                    <a:pt x="0" y="1373"/>
                  </a:lnTo>
                  <a:lnTo>
                    <a:pt x="48" y="1443"/>
                  </a:lnTo>
                  <a:lnTo>
                    <a:pt x="0" y="1373"/>
                  </a:lnTo>
                  <a:lnTo>
                    <a:pt x="0" y="1383"/>
                  </a:lnTo>
                  <a:lnTo>
                    <a:pt x="2" y="1391"/>
                  </a:lnTo>
                  <a:lnTo>
                    <a:pt x="4" y="1398"/>
                  </a:lnTo>
                  <a:lnTo>
                    <a:pt x="7" y="1406"/>
                  </a:lnTo>
                  <a:lnTo>
                    <a:pt x="10" y="1413"/>
                  </a:lnTo>
                  <a:lnTo>
                    <a:pt x="14" y="1418"/>
                  </a:lnTo>
                  <a:lnTo>
                    <a:pt x="18" y="1425"/>
                  </a:lnTo>
                  <a:lnTo>
                    <a:pt x="24" y="1429"/>
                  </a:lnTo>
                  <a:lnTo>
                    <a:pt x="29" y="1433"/>
                  </a:lnTo>
                  <a:lnTo>
                    <a:pt x="35" y="1437"/>
                  </a:lnTo>
                  <a:lnTo>
                    <a:pt x="41" y="1440"/>
                  </a:lnTo>
                  <a:lnTo>
                    <a:pt x="48" y="1444"/>
                  </a:lnTo>
                  <a:lnTo>
                    <a:pt x="54" y="1446"/>
                  </a:lnTo>
                  <a:lnTo>
                    <a:pt x="61" y="1447"/>
                  </a:lnTo>
                  <a:lnTo>
                    <a:pt x="68" y="1448"/>
                  </a:lnTo>
                  <a:lnTo>
                    <a:pt x="75" y="1448"/>
                  </a:lnTo>
                  <a:lnTo>
                    <a:pt x="82" y="1448"/>
                  </a:lnTo>
                  <a:lnTo>
                    <a:pt x="89" y="1447"/>
                  </a:lnTo>
                  <a:lnTo>
                    <a:pt x="96" y="1446"/>
                  </a:lnTo>
                  <a:lnTo>
                    <a:pt x="102" y="1444"/>
                  </a:lnTo>
                  <a:lnTo>
                    <a:pt x="109" y="1440"/>
                  </a:lnTo>
                  <a:lnTo>
                    <a:pt x="115" y="1437"/>
                  </a:lnTo>
                  <a:lnTo>
                    <a:pt x="121" y="1433"/>
                  </a:lnTo>
                  <a:lnTo>
                    <a:pt x="127" y="1429"/>
                  </a:lnTo>
                  <a:lnTo>
                    <a:pt x="132" y="1425"/>
                  </a:lnTo>
                  <a:lnTo>
                    <a:pt x="136" y="1418"/>
                  </a:lnTo>
                  <a:lnTo>
                    <a:pt x="140" y="1413"/>
                  </a:lnTo>
                  <a:lnTo>
                    <a:pt x="143" y="1406"/>
                  </a:lnTo>
                  <a:lnTo>
                    <a:pt x="146" y="1398"/>
                  </a:lnTo>
                  <a:lnTo>
                    <a:pt x="149" y="1391"/>
                  </a:lnTo>
                  <a:lnTo>
                    <a:pt x="150" y="1383"/>
                  </a:lnTo>
                  <a:lnTo>
                    <a:pt x="150" y="1373"/>
                  </a:lnTo>
                  <a:lnTo>
                    <a:pt x="102" y="13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4743360" y="4687920"/>
              <a:ext cx="184320" cy="127080"/>
            </a:xfrm>
            <a:custGeom>
              <a:avLst/>
              <a:gdLst/>
              <a:ahLst/>
              <a:rect l="l" t="t" r="r" b="b"/>
              <a:pathLst>
                <a:path w="578" h="400">
                  <a:moveTo>
                    <a:pt x="578" y="325"/>
                  </a:moveTo>
                  <a:lnTo>
                    <a:pt x="504" y="251"/>
                  </a:lnTo>
                  <a:lnTo>
                    <a:pt x="505" y="251"/>
                  </a:lnTo>
                  <a:lnTo>
                    <a:pt x="502" y="250"/>
                  </a:lnTo>
                  <a:lnTo>
                    <a:pt x="496" y="249"/>
                  </a:lnTo>
                  <a:lnTo>
                    <a:pt x="490" y="247"/>
                  </a:lnTo>
                  <a:lnTo>
                    <a:pt x="467" y="237"/>
                  </a:lnTo>
                  <a:lnTo>
                    <a:pt x="442" y="225"/>
                  </a:lnTo>
                  <a:lnTo>
                    <a:pt x="412" y="209"/>
                  </a:lnTo>
                  <a:lnTo>
                    <a:pt x="381" y="191"/>
                  </a:lnTo>
                  <a:lnTo>
                    <a:pt x="347" y="171"/>
                  </a:lnTo>
                  <a:lnTo>
                    <a:pt x="313" y="150"/>
                  </a:lnTo>
                  <a:lnTo>
                    <a:pt x="241" y="106"/>
                  </a:lnTo>
                  <a:lnTo>
                    <a:pt x="173" y="64"/>
                  </a:lnTo>
                  <a:lnTo>
                    <a:pt x="140" y="44"/>
                  </a:lnTo>
                  <a:lnTo>
                    <a:pt x="110" y="27"/>
                  </a:lnTo>
                  <a:lnTo>
                    <a:pt x="82" y="13"/>
                  </a:lnTo>
                  <a:lnTo>
                    <a:pt x="54" y="0"/>
                  </a:lnTo>
                  <a:lnTo>
                    <a:pt x="0" y="139"/>
                  </a:lnTo>
                  <a:lnTo>
                    <a:pt x="17" y="146"/>
                  </a:lnTo>
                  <a:lnTo>
                    <a:pt x="39" y="157"/>
                  </a:lnTo>
                  <a:lnTo>
                    <a:pt x="66" y="173"/>
                  </a:lnTo>
                  <a:lnTo>
                    <a:pt x="95" y="191"/>
                  </a:lnTo>
                  <a:lnTo>
                    <a:pt x="163" y="232"/>
                  </a:lnTo>
                  <a:lnTo>
                    <a:pt x="234" y="276"/>
                  </a:lnTo>
                  <a:lnTo>
                    <a:pt x="270" y="299"/>
                  </a:lnTo>
                  <a:lnTo>
                    <a:pt x="306" y="320"/>
                  </a:lnTo>
                  <a:lnTo>
                    <a:pt x="341" y="340"/>
                  </a:lnTo>
                  <a:lnTo>
                    <a:pt x="375" y="357"/>
                  </a:lnTo>
                  <a:lnTo>
                    <a:pt x="406" y="373"/>
                  </a:lnTo>
                  <a:lnTo>
                    <a:pt x="436" y="385"/>
                  </a:lnTo>
                  <a:lnTo>
                    <a:pt x="453" y="391"/>
                  </a:lnTo>
                  <a:lnTo>
                    <a:pt x="469" y="396"/>
                  </a:lnTo>
                  <a:lnTo>
                    <a:pt x="485" y="399"/>
                  </a:lnTo>
                  <a:lnTo>
                    <a:pt x="504" y="400"/>
                  </a:lnTo>
                  <a:lnTo>
                    <a:pt x="429" y="325"/>
                  </a:lnTo>
                  <a:lnTo>
                    <a:pt x="504" y="400"/>
                  </a:lnTo>
                  <a:lnTo>
                    <a:pt x="512" y="399"/>
                  </a:lnTo>
                  <a:lnTo>
                    <a:pt x="521" y="398"/>
                  </a:lnTo>
                  <a:lnTo>
                    <a:pt x="529" y="396"/>
                  </a:lnTo>
                  <a:lnTo>
                    <a:pt x="536" y="394"/>
                  </a:lnTo>
                  <a:lnTo>
                    <a:pt x="543" y="391"/>
                  </a:lnTo>
                  <a:lnTo>
                    <a:pt x="549" y="386"/>
                  </a:lnTo>
                  <a:lnTo>
                    <a:pt x="554" y="381"/>
                  </a:lnTo>
                  <a:lnTo>
                    <a:pt x="559" y="377"/>
                  </a:lnTo>
                  <a:lnTo>
                    <a:pt x="564" y="371"/>
                  </a:lnTo>
                  <a:lnTo>
                    <a:pt x="568" y="365"/>
                  </a:lnTo>
                  <a:lnTo>
                    <a:pt x="571" y="359"/>
                  </a:lnTo>
                  <a:lnTo>
                    <a:pt x="573" y="353"/>
                  </a:lnTo>
                  <a:lnTo>
                    <a:pt x="575" y="346"/>
                  </a:lnTo>
                  <a:lnTo>
                    <a:pt x="577" y="339"/>
                  </a:lnTo>
                  <a:lnTo>
                    <a:pt x="577" y="332"/>
                  </a:lnTo>
                  <a:lnTo>
                    <a:pt x="578" y="325"/>
                  </a:lnTo>
                  <a:lnTo>
                    <a:pt x="577" y="318"/>
                  </a:lnTo>
                  <a:lnTo>
                    <a:pt x="577" y="311"/>
                  </a:lnTo>
                  <a:lnTo>
                    <a:pt x="575" y="304"/>
                  </a:lnTo>
                  <a:lnTo>
                    <a:pt x="573" y="298"/>
                  </a:lnTo>
                  <a:lnTo>
                    <a:pt x="571" y="292"/>
                  </a:lnTo>
                  <a:lnTo>
                    <a:pt x="568" y="286"/>
                  </a:lnTo>
                  <a:lnTo>
                    <a:pt x="564" y="279"/>
                  </a:lnTo>
                  <a:lnTo>
                    <a:pt x="559" y="274"/>
                  </a:lnTo>
                  <a:lnTo>
                    <a:pt x="554" y="269"/>
                  </a:lnTo>
                  <a:lnTo>
                    <a:pt x="549" y="265"/>
                  </a:lnTo>
                  <a:lnTo>
                    <a:pt x="543" y="260"/>
                  </a:lnTo>
                  <a:lnTo>
                    <a:pt x="536" y="257"/>
                  </a:lnTo>
                  <a:lnTo>
                    <a:pt x="529" y="254"/>
                  </a:lnTo>
                  <a:lnTo>
                    <a:pt x="521" y="252"/>
                  </a:lnTo>
                  <a:lnTo>
                    <a:pt x="512" y="251"/>
                  </a:lnTo>
                  <a:lnTo>
                    <a:pt x="504" y="251"/>
                  </a:lnTo>
                  <a:lnTo>
                    <a:pt x="578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4879800" y="4791240"/>
              <a:ext cx="47880" cy="81000"/>
            </a:xfrm>
            <a:custGeom>
              <a:avLst/>
              <a:gdLst/>
              <a:ahLst/>
              <a:rect l="l" t="t" r="r" b="b"/>
              <a:pathLst>
                <a:path w="149" h="252">
                  <a:moveTo>
                    <a:pt x="71" y="252"/>
                  </a:moveTo>
                  <a:lnTo>
                    <a:pt x="149" y="178"/>
                  </a:lnTo>
                  <a:lnTo>
                    <a:pt x="149" y="154"/>
                  </a:lnTo>
                  <a:lnTo>
                    <a:pt x="149" y="131"/>
                  </a:lnTo>
                  <a:lnTo>
                    <a:pt x="149" y="109"/>
                  </a:lnTo>
                  <a:lnTo>
                    <a:pt x="149" y="87"/>
                  </a:lnTo>
                  <a:lnTo>
                    <a:pt x="149" y="64"/>
                  </a:lnTo>
                  <a:lnTo>
                    <a:pt x="149" y="42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54"/>
                  </a:lnTo>
                  <a:lnTo>
                    <a:pt x="0" y="178"/>
                  </a:lnTo>
                  <a:lnTo>
                    <a:pt x="79" y="103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1" y="196"/>
                  </a:lnTo>
                  <a:lnTo>
                    <a:pt x="3" y="203"/>
                  </a:lnTo>
                  <a:lnTo>
                    <a:pt x="7" y="210"/>
                  </a:lnTo>
                  <a:lnTo>
                    <a:pt x="10" y="218"/>
                  </a:lnTo>
                  <a:lnTo>
                    <a:pt x="14" y="223"/>
                  </a:lnTo>
                  <a:lnTo>
                    <a:pt x="18" y="229"/>
                  </a:lnTo>
                  <a:lnTo>
                    <a:pt x="23" y="234"/>
                  </a:lnTo>
                  <a:lnTo>
                    <a:pt x="29" y="239"/>
                  </a:lnTo>
                  <a:lnTo>
                    <a:pt x="34" y="242"/>
                  </a:lnTo>
                  <a:lnTo>
                    <a:pt x="40" y="245"/>
                  </a:lnTo>
                  <a:lnTo>
                    <a:pt x="47" y="248"/>
                  </a:lnTo>
                  <a:lnTo>
                    <a:pt x="54" y="250"/>
                  </a:lnTo>
                  <a:lnTo>
                    <a:pt x="60" y="251"/>
                  </a:lnTo>
                  <a:lnTo>
                    <a:pt x="67" y="252"/>
                  </a:lnTo>
                  <a:lnTo>
                    <a:pt x="75" y="252"/>
                  </a:lnTo>
                  <a:lnTo>
                    <a:pt x="81" y="252"/>
                  </a:lnTo>
                  <a:lnTo>
                    <a:pt x="88" y="251"/>
                  </a:lnTo>
                  <a:lnTo>
                    <a:pt x="95" y="250"/>
                  </a:lnTo>
                  <a:lnTo>
                    <a:pt x="102" y="248"/>
                  </a:lnTo>
                  <a:lnTo>
                    <a:pt x="108" y="245"/>
                  </a:lnTo>
                  <a:lnTo>
                    <a:pt x="115" y="242"/>
                  </a:lnTo>
                  <a:lnTo>
                    <a:pt x="120" y="239"/>
                  </a:lnTo>
                  <a:lnTo>
                    <a:pt x="126" y="234"/>
                  </a:lnTo>
                  <a:lnTo>
                    <a:pt x="130" y="229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43" y="210"/>
                  </a:lnTo>
                  <a:lnTo>
                    <a:pt x="145" y="203"/>
                  </a:lnTo>
                  <a:lnTo>
                    <a:pt x="147" y="196"/>
                  </a:lnTo>
                  <a:lnTo>
                    <a:pt x="148" y="187"/>
                  </a:lnTo>
                  <a:lnTo>
                    <a:pt x="149" y="178"/>
                  </a:lnTo>
                  <a:lnTo>
                    <a:pt x="71" y="2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654440" y="4810320"/>
              <a:ext cx="250920" cy="61920"/>
            </a:xfrm>
            <a:custGeom>
              <a:avLst/>
              <a:gdLst/>
              <a:ahLst/>
              <a:rect l="l" t="t" r="r" b="b"/>
              <a:pathLst>
                <a:path w="790" h="192">
                  <a:moveTo>
                    <a:pt x="148" y="67"/>
                  </a:moveTo>
                  <a:lnTo>
                    <a:pt x="70" y="149"/>
                  </a:lnTo>
                  <a:lnTo>
                    <a:pt x="160" y="155"/>
                  </a:lnTo>
                  <a:lnTo>
                    <a:pt x="250" y="160"/>
                  </a:lnTo>
                  <a:lnTo>
                    <a:pt x="340" y="165"/>
                  </a:lnTo>
                  <a:lnTo>
                    <a:pt x="428" y="171"/>
                  </a:lnTo>
                  <a:lnTo>
                    <a:pt x="517" y="177"/>
                  </a:lnTo>
                  <a:lnTo>
                    <a:pt x="605" y="182"/>
                  </a:lnTo>
                  <a:lnTo>
                    <a:pt x="693" y="187"/>
                  </a:lnTo>
                  <a:lnTo>
                    <a:pt x="782" y="192"/>
                  </a:lnTo>
                  <a:lnTo>
                    <a:pt x="790" y="43"/>
                  </a:lnTo>
                  <a:lnTo>
                    <a:pt x="702" y="38"/>
                  </a:lnTo>
                  <a:lnTo>
                    <a:pt x="614" y="33"/>
                  </a:lnTo>
                  <a:lnTo>
                    <a:pt x="525" y="28"/>
                  </a:lnTo>
                  <a:lnTo>
                    <a:pt x="437" y="22"/>
                  </a:lnTo>
                  <a:lnTo>
                    <a:pt x="348" y="17"/>
                  </a:lnTo>
                  <a:lnTo>
                    <a:pt x="259" y="12"/>
                  </a:lnTo>
                  <a:lnTo>
                    <a:pt x="169" y="7"/>
                  </a:lnTo>
                  <a:lnTo>
                    <a:pt x="79" y="1"/>
                  </a:lnTo>
                  <a:lnTo>
                    <a:pt x="0" y="83"/>
                  </a:lnTo>
                  <a:lnTo>
                    <a:pt x="79" y="1"/>
                  </a:lnTo>
                  <a:lnTo>
                    <a:pt x="70" y="0"/>
                  </a:lnTo>
                  <a:lnTo>
                    <a:pt x="61" y="1"/>
                  </a:lnTo>
                  <a:lnTo>
                    <a:pt x="53" y="3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7" y="16"/>
                  </a:lnTo>
                  <a:lnTo>
                    <a:pt x="21" y="21"/>
                  </a:lnTo>
                  <a:lnTo>
                    <a:pt x="17" y="27"/>
                  </a:lnTo>
                  <a:lnTo>
                    <a:pt x="13" y="32"/>
                  </a:lnTo>
                  <a:lnTo>
                    <a:pt x="10" y="38"/>
                  </a:lnTo>
                  <a:lnTo>
                    <a:pt x="7" y="43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6" y="105"/>
                  </a:lnTo>
                  <a:lnTo>
                    <a:pt x="8" y="112"/>
                  </a:lnTo>
                  <a:lnTo>
                    <a:pt x="12" y="118"/>
                  </a:lnTo>
                  <a:lnTo>
                    <a:pt x="16" y="123"/>
                  </a:lnTo>
                  <a:lnTo>
                    <a:pt x="20" y="128"/>
                  </a:lnTo>
                  <a:lnTo>
                    <a:pt x="26" y="134"/>
                  </a:lnTo>
                  <a:lnTo>
                    <a:pt x="32" y="138"/>
                  </a:lnTo>
                  <a:lnTo>
                    <a:pt x="38" y="141"/>
                  </a:lnTo>
                  <a:lnTo>
                    <a:pt x="45" y="144"/>
                  </a:lnTo>
                  <a:lnTo>
                    <a:pt x="53" y="147"/>
                  </a:lnTo>
                  <a:lnTo>
                    <a:pt x="61" y="148"/>
                  </a:lnTo>
                  <a:lnTo>
                    <a:pt x="70" y="149"/>
                  </a:lnTo>
                  <a:lnTo>
                    <a:pt x="148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4654440" y="4832280"/>
              <a:ext cx="54000" cy="87480"/>
            </a:xfrm>
            <a:custGeom>
              <a:avLst/>
              <a:gdLst/>
              <a:ahLst/>
              <a:rect l="l" t="t" r="r" b="b"/>
              <a:pathLst>
                <a:path w="170" h="275">
                  <a:moveTo>
                    <a:pt x="96" y="125"/>
                  </a:moveTo>
                  <a:lnTo>
                    <a:pt x="169" y="192"/>
                  </a:lnTo>
                  <a:lnTo>
                    <a:pt x="167" y="168"/>
                  </a:lnTo>
                  <a:lnTo>
                    <a:pt x="164" y="144"/>
                  </a:lnTo>
                  <a:lnTo>
                    <a:pt x="162" y="120"/>
                  </a:lnTo>
                  <a:lnTo>
                    <a:pt x="159" y="96"/>
                  </a:lnTo>
                  <a:lnTo>
                    <a:pt x="157" y="72"/>
                  </a:lnTo>
                  <a:lnTo>
                    <a:pt x="154" y="49"/>
                  </a:lnTo>
                  <a:lnTo>
                    <a:pt x="152" y="25"/>
                  </a:lnTo>
                  <a:lnTo>
                    <a:pt x="148" y="0"/>
                  </a:lnTo>
                  <a:lnTo>
                    <a:pt x="0" y="16"/>
                  </a:lnTo>
                  <a:lnTo>
                    <a:pt x="3" y="40"/>
                  </a:lnTo>
                  <a:lnTo>
                    <a:pt x="6" y="65"/>
                  </a:lnTo>
                  <a:lnTo>
                    <a:pt x="9" y="89"/>
                  </a:lnTo>
                  <a:lnTo>
                    <a:pt x="11" y="113"/>
                  </a:lnTo>
                  <a:lnTo>
                    <a:pt x="14" y="136"/>
                  </a:lnTo>
                  <a:lnTo>
                    <a:pt x="16" y="160"/>
                  </a:lnTo>
                  <a:lnTo>
                    <a:pt x="19" y="184"/>
                  </a:lnTo>
                  <a:lnTo>
                    <a:pt x="21" y="208"/>
                  </a:lnTo>
                  <a:lnTo>
                    <a:pt x="96" y="275"/>
                  </a:lnTo>
                  <a:lnTo>
                    <a:pt x="21" y="208"/>
                  </a:lnTo>
                  <a:lnTo>
                    <a:pt x="23" y="217"/>
                  </a:lnTo>
                  <a:lnTo>
                    <a:pt x="26" y="225"/>
                  </a:lnTo>
                  <a:lnTo>
                    <a:pt x="28" y="234"/>
                  </a:lnTo>
                  <a:lnTo>
                    <a:pt x="32" y="240"/>
                  </a:lnTo>
                  <a:lnTo>
                    <a:pt x="36" y="246"/>
                  </a:lnTo>
                  <a:lnTo>
                    <a:pt x="40" y="252"/>
                  </a:lnTo>
                  <a:lnTo>
                    <a:pt x="45" y="257"/>
                  </a:lnTo>
                  <a:lnTo>
                    <a:pt x="51" y="261"/>
                  </a:lnTo>
                  <a:lnTo>
                    <a:pt x="57" y="265"/>
                  </a:lnTo>
                  <a:lnTo>
                    <a:pt x="63" y="268"/>
                  </a:lnTo>
                  <a:lnTo>
                    <a:pt x="70" y="270"/>
                  </a:lnTo>
                  <a:lnTo>
                    <a:pt x="76" y="272"/>
                  </a:lnTo>
                  <a:lnTo>
                    <a:pt x="83" y="273"/>
                  </a:lnTo>
                  <a:lnTo>
                    <a:pt x="90" y="275"/>
                  </a:lnTo>
                  <a:lnTo>
                    <a:pt x="97" y="275"/>
                  </a:lnTo>
                  <a:lnTo>
                    <a:pt x="104" y="275"/>
                  </a:lnTo>
                  <a:lnTo>
                    <a:pt x="111" y="273"/>
                  </a:lnTo>
                  <a:lnTo>
                    <a:pt x="118" y="271"/>
                  </a:lnTo>
                  <a:lnTo>
                    <a:pt x="124" y="269"/>
                  </a:lnTo>
                  <a:lnTo>
                    <a:pt x="131" y="266"/>
                  </a:lnTo>
                  <a:lnTo>
                    <a:pt x="137" y="263"/>
                  </a:lnTo>
                  <a:lnTo>
                    <a:pt x="142" y="260"/>
                  </a:lnTo>
                  <a:lnTo>
                    <a:pt x="147" y="256"/>
                  </a:lnTo>
                  <a:lnTo>
                    <a:pt x="153" y="250"/>
                  </a:lnTo>
                  <a:lnTo>
                    <a:pt x="157" y="245"/>
                  </a:lnTo>
                  <a:lnTo>
                    <a:pt x="161" y="239"/>
                  </a:lnTo>
                  <a:lnTo>
                    <a:pt x="164" y="233"/>
                  </a:lnTo>
                  <a:lnTo>
                    <a:pt x="167" y="225"/>
                  </a:lnTo>
                  <a:lnTo>
                    <a:pt x="169" y="218"/>
                  </a:lnTo>
                  <a:lnTo>
                    <a:pt x="170" y="209"/>
                  </a:lnTo>
                  <a:lnTo>
                    <a:pt x="170" y="201"/>
                  </a:lnTo>
                  <a:lnTo>
                    <a:pt x="169" y="192"/>
                  </a:lnTo>
                  <a:lnTo>
                    <a:pt x="96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4684680" y="4872240"/>
              <a:ext cx="90360" cy="66600"/>
            </a:xfrm>
            <a:custGeom>
              <a:avLst/>
              <a:gdLst/>
              <a:ahLst/>
              <a:rect l="l" t="t" r="r" b="b"/>
              <a:pathLst>
                <a:path w="288" h="214">
                  <a:moveTo>
                    <a:pt x="288" y="139"/>
                  </a:moveTo>
                  <a:lnTo>
                    <a:pt x="213" y="64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198" y="61"/>
                  </a:lnTo>
                  <a:lnTo>
                    <a:pt x="192" y="60"/>
                  </a:lnTo>
                  <a:lnTo>
                    <a:pt x="170" y="51"/>
                  </a:lnTo>
                  <a:lnTo>
                    <a:pt x="145" y="39"/>
                  </a:lnTo>
                  <a:lnTo>
                    <a:pt x="115" y="27"/>
                  </a:lnTo>
                  <a:lnTo>
                    <a:pt x="84" y="14"/>
                  </a:lnTo>
                  <a:lnTo>
                    <a:pt x="63" y="9"/>
                  </a:lnTo>
                  <a:lnTo>
                    <a:pt x="43" y="5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18" y="152"/>
                  </a:lnTo>
                  <a:lnTo>
                    <a:pt x="28" y="154"/>
                  </a:lnTo>
                  <a:lnTo>
                    <a:pt x="37" y="156"/>
                  </a:lnTo>
                  <a:lnTo>
                    <a:pt x="60" y="164"/>
                  </a:lnTo>
                  <a:lnTo>
                    <a:pt x="84" y="175"/>
                  </a:lnTo>
                  <a:lnTo>
                    <a:pt x="110" y="187"/>
                  </a:lnTo>
                  <a:lnTo>
                    <a:pt x="137" y="199"/>
                  </a:lnTo>
                  <a:lnTo>
                    <a:pt x="155" y="205"/>
                  </a:lnTo>
                  <a:lnTo>
                    <a:pt x="173" y="209"/>
                  </a:lnTo>
                  <a:lnTo>
                    <a:pt x="193" y="213"/>
                  </a:lnTo>
                  <a:lnTo>
                    <a:pt x="213" y="214"/>
                  </a:lnTo>
                  <a:lnTo>
                    <a:pt x="138" y="139"/>
                  </a:lnTo>
                  <a:lnTo>
                    <a:pt x="213" y="214"/>
                  </a:lnTo>
                  <a:lnTo>
                    <a:pt x="222" y="214"/>
                  </a:lnTo>
                  <a:lnTo>
                    <a:pt x="231" y="213"/>
                  </a:lnTo>
                  <a:lnTo>
                    <a:pt x="238" y="210"/>
                  </a:lnTo>
                  <a:lnTo>
                    <a:pt x="246" y="207"/>
                  </a:lnTo>
                  <a:lnTo>
                    <a:pt x="252" y="204"/>
                  </a:lnTo>
                  <a:lnTo>
                    <a:pt x="258" y="200"/>
                  </a:lnTo>
                  <a:lnTo>
                    <a:pt x="265" y="196"/>
                  </a:lnTo>
                  <a:lnTo>
                    <a:pt x="269" y="190"/>
                  </a:lnTo>
                  <a:lnTo>
                    <a:pt x="273" y="185"/>
                  </a:lnTo>
                  <a:lnTo>
                    <a:pt x="277" y="179"/>
                  </a:lnTo>
                  <a:lnTo>
                    <a:pt x="280" y="173"/>
                  </a:lnTo>
                  <a:lnTo>
                    <a:pt x="283" y="166"/>
                  </a:lnTo>
                  <a:lnTo>
                    <a:pt x="286" y="160"/>
                  </a:lnTo>
                  <a:lnTo>
                    <a:pt x="287" y="153"/>
                  </a:lnTo>
                  <a:lnTo>
                    <a:pt x="288" y="146"/>
                  </a:lnTo>
                  <a:lnTo>
                    <a:pt x="288" y="139"/>
                  </a:lnTo>
                  <a:lnTo>
                    <a:pt x="288" y="133"/>
                  </a:lnTo>
                  <a:lnTo>
                    <a:pt x="287" y="125"/>
                  </a:lnTo>
                  <a:lnTo>
                    <a:pt x="286" y="118"/>
                  </a:lnTo>
                  <a:lnTo>
                    <a:pt x="283" y="112"/>
                  </a:lnTo>
                  <a:lnTo>
                    <a:pt x="280" y="105"/>
                  </a:lnTo>
                  <a:lnTo>
                    <a:pt x="277" y="99"/>
                  </a:lnTo>
                  <a:lnTo>
                    <a:pt x="273" y="93"/>
                  </a:lnTo>
                  <a:lnTo>
                    <a:pt x="269" y="88"/>
                  </a:lnTo>
                  <a:lnTo>
                    <a:pt x="265" y="83"/>
                  </a:lnTo>
                  <a:lnTo>
                    <a:pt x="258" y="78"/>
                  </a:lnTo>
                  <a:lnTo>
                    <a:pt x="252" y="74"/>
                  </a:lnTo>
                  <a:lnTo>
                    <a:pt x="246" y="71"/>
                  </a:lnTo>
                  <a:lnTo>
                    <a:pt x="238" y="69"/>
                  </a:lnTo>
                  <a:lnTo>
                    <a:pt x="231" y="67"/>
                  </a:lnTo>
                  <a:lnTo>
                    <a:pt x="222" y="64"/>
                  </a:lnTo>
                  <a:lnTo>
                    <a:pt x="213" y="64"/>
                  </a:lnTo>
                  <a:lnTo>
                    <a:pt x="288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4727520" y="4915080"/>
              <a:ext cx="47520" cy="79200"/>
            </a:xfrm>
            <a:custGeom>
              <a:avLst/>
              <a:gdLst/>
              <a:ahLst/>
              <a:rect l="l" t="t" r="r" b="b"/>
              <a:pathLst>
                <a:path w="150" h="246">
                  <a:moveTo>
                    <a:pt x="75" y="246"/>
                  </a:moveTo>
                  <a:lnTo>
                    <a:pt x="150" y="171"/>
                  </a:lnTo>
                  <a:lnTo>
                    <a:pt x="150" y="149"/>
                  </a:lnTo>
                  <a:lnTo>
                    <a:pt x="150" y="128"/>
                  </a:lnTo>
                  <a:lnTo>
                    <a:pt x="150" y="107"/>
                  </a:lnTo>
                  <a:lnTo>
                    <a:pt x="150" y="85"/>
                  </a:lnTo>
                  <a:lnTo>
                    <a:pt x="150" y="64"/>
                  </a:lnTo>
                  <a:lnTo>
                    <a:pt x="150" y="43"/>
                  </a:lnTo>
                  <a:lnTo>
                    <a:pt x="150" y="21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75" y="96"/>
                  </a:lnTo>
                  <a:lnTo>
                    <a:pt x="0" y="171"/>
                  </a:lnTo>
                  <a:lnTo>
                    <a:pt x="0" y="180"/>
                  </a:lnTo>
                  <a:lnTo>
                    <a:pt x="2" y="188"/>
                  </a:lnTo>
                  <a:lnTo>
                    <a:pt x="4" y="196"/>
                  </a:lnTo>
                  <a:lnTo>
                    <a:pt x="7" y="204"/>
                  </a:lnTo>
                  <a:lnTo>
                    <a:pt x="10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4" y="227"/>
                  </a:lnTo>
                  <a:lnTo>
                    <a:pt x="29" y="231"/>
                  </a:lnTo>
                  <a:lnTo>
                    <a:pt x="35" y="235"/>
                  </a:lnTo>
                  <a:lnTo>
                    <a:pt x="41" y="238"/>
                  </a:lnTo>
                  <a:lnTo>
                    <a:pt x="48" y="240"/>
                  </a:lnTo>
                  <a:lnTo>
                    <a:pt x="54" y="243"/>
                  </a:lnTo>
                  <a:lnTo>
                    <a:pt x="61" y="245"/>
                  </a:lnTo>
                  <a:lnTo>
                    <a:pt x="68" y="245"/>
                  </a:lnTo>
                  <a:lnTo>
                    <a:pt x="75" y="246"/>
                  </a:lnTo>
                  <a:lnTo>
                    <a:pt x="82" y="245"/>
                  </a:lnTo>
                  <a:lnTo>
                    <a:pt x="89" y="245"/>
                  </a:lnTo>
                  <a:lnTo>
                    <a:pt x="96" y="243"/>
                  </a:lnTo>
                  <a:lnTo>
                    <a:pt x="102" y="240"/>
                  </a:lnTo>
                  <a:lnTo>
                    <a:pt x="109" y="238"/>
                  </a:lnTo>
                  <a:lnTo>
                    <a:pt x="115" y="235"/>
                  </a:lnTo>
                  <a:lnTo>
                    <a:pt x="121" y="231"/>
                  </a:lnTo>
                  <a:lnTo>
                    <a:pt x="127" y="227"/>
                  </a:lnTo>
                  <a:lnTo>
                    <a:pt x="132" y="222"/>
                  </a:lnTo>
                  <a:lnTo>
                    <a:pt x="136" y="216"/>
                  </a:lnTo>
                  <a:lnTo>
                    <a:pt x="140" y="210"/>
                  </a:lnTo>
                  <a:lnTo>
                    <a:pt x="143" y="204"/>
                  </a:lnTo>
                  <a:lnTo>
                    <a:pt x="146" y="196"/>
                  </a:lnTo>
                  <a:lnTo>
                    <a:pt x="149" y="188"/>
                  </a:lnTo>
                  <a:lnTo>
                    <a:pt x="150" y="180"/>
                  </a:lnTo>
                  <a:lnTo>
                    <a:pt x="150" y="171"/>
                  </a:lnTo>
                  <a:lnTo>
                    <a:pt x="75" y="2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4613400" y="4946760"/>
              <a:ext cx="137880" cy="47520"/>
            </a:xfrm>
            <a:custGeom>
              <a:avLst/>
              <a:gdLst/>
              <a:ahLst/>
              <a:rect l="l" t="t" r="r" b="b"/>
              <a:pathLst>
                <a:path w="437" h="150">
                  <a:moveTo>
                    <a:pt x="147" y="89"/>
                  </a:moveTo>
                  <a:lnTo>
                    <a:pt x="75" y="150"/>
                  </a:lnTo>
                  <a:lnTo>
                    <a:pt x="130" y="150"/>
                  </a:lnTo>
                  <a:lnTo>
                    <a:pt x="177" y="150"/>
                  </a:lnTo>
                  <a:lnTo>
                    <a:pt x="218" y="150"/>
                  </a:lnTo>
                  <a:lnTo>
                    <a:pt x="255" y="150"/>
                  </a:lnTo>
                  <a:lnTo>
                    <a:pt x="293" y="150"/>
                  </a:lnTo>
                  <a:lnTo>
                    <a:pt x="334" y="150"/>
                  </a:lnTo>
                  <a:lnTo>
                    <a:pt x="381" y="150"/>
                  </a:lnTo>
                  <a:lnTo>
                    <a:pt x="437" y="150"/>
                  </a:lnTo>
                  <a:lnTo>
                    <a:pt x="437" y="0"/>
                  </a:lnTo>
                  <a:lnTo>
                    <a:pt x="381" y="0"/>
                  </a:lnTo>
                  <a:lnTo>
                    <a:pt x="334" y="0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18" y="0"/>
                  </a:lnTo>
                  <a:lnTo>
                    <a:pt x="177" y="0"/>
                  </a:lnTo>
                  <a:lnTo>
                    <a:pt x="130" y="0"/>
                  </a:lnTo>
                  <a:lnTo>
                    <a:pt x="75" y="0"/>
                  </a:lnTo>
                  <a:lnTo>
                    <a:pt x="1" y="6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7" y="2"/>
                  </a:lnTo>
                  <a:lnTo>
                    <a:pt x="50" y="4"/>
                  </a:lnTo>
                  <a:lnTo>
                    <a:pt x="42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3" y="18"/>
                  </a:lnTo>
                  <a:lnTo>
                    <a:pt x="18" y="24"/>
                  </a:lnTo>
                  <a:lnTo>
                    <a:pt x="14" y="29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9"/>
                  </a:lnTo>
                  <a:lnTo>
                    <a:pt x="11" y="115"/>
                  </a:lnTo>
                  <a:lnTo>
                    <a:pt x="14" y="120"/>
                  </a:lnTo>
                  <a:lnTo>
                    <a:pt x="18" y="126"/>
                  </a:lnTo>
                  <a:lnTo>
                    <a:pt x="23" y="131"/>
                  </a:lnTo>
                  <a:lnTo>
                    <a:pt x="29" y="136"/>
                  </a:lnTo>
                  <a:lnTo>
                    <a:pt x="35" y="139"/>
                  </a:lnTo>
                  <a:lnTo>
                    <a:pt x="42" y="143"/>
                  </a:lnTo>
                  <a:lnTo>
                    <a:pt x="50" y="146"/>
                  </a:lnTo>
                  <a:lnTo>
                    <a:pt x="57" y="148"/>
                  </a:lnTo>
                  <a:lnTo>
                    <a:pt x="65" y="149"/>
                  </a:lnTo>
                  <a:lnTo>
                    <a:pt x="75" y="150"/>
                  </a:lnTo>
                  <a:lnTo>
                    <a:pt x="147" y="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4608360" y="4965840"/>
              <a:ext cx="113040" cy="117360"/>
            </a:xfrm>
            <a:custGeom>
              <a:avLst/>
              <a:gdLst/>
              <a:ahLst/>
              <a:rect l="l" t="t" r="r" b="b"/>
              <a:pathLst>
                <a:path w="354" h="374">
                  <a:moveTo>
                    <a:pt x="335" y="249"/>
                  </a:moveTo>
                  <a:lnTo>
                    <a:pt x="280" y="224"/>
                  </a:lnTo>
                  <a:lnTo>
                    <a:pt x="253" y="224"/>
                  </a:lnTo>
                  <a:lnTo>
                    <a:pt x="228" y="222"/>
                  </a:lnTo>
                  <a:lnTo>
                    <a:pt x="219" y="221"/>
                  </a:lnTo>
                  <a:lnTo>
                    <a:pt x="210" y="219"/>
                  </a:lnTo>
                  <a:lnTo>
                    <a:pt x="201" y="217"/>
                  </a:lnTo>
                  <a:lnTo>
                    <a:pt x="194" y="215"/>
                  </a:lnTo>
                  <a:lnTo>
                    <a:pt x="188" y="213"/>
                  </a:lnTo>
                  <a:lnTo>
                    <a:pt x="182" y="210"/>
                  </a:lnTo>
                  <a:lnTo>
                    <a:pt x="178" y="207"/>
                  </a:lnTo>
                  <a:lnTo>
                    <a:pt x="174" y="205"/>
                  </a:lnTo>
                  <a:lnTo>
                    <a:pt x="171" y="203"/>
                  </a:lnTo>
                  <a:lnTo>
                    <a:pt x="169" y="201"/>
                  </a:lnTo>
                  <a:lnTo>
                    <a:pt x="165" y="199"/>
                  </a:lnTo>
                  <a:lnTo>
                    <a:pt x="163" y="196"/>
                  </a:lnTo>
                  <a:lnTo>
                    <a:pt x="161" y="193"/>
                  </a:lnTo>
                  <a:lnTo>
                    <a:pt x="159" y="188"/>
                  </a:lnTo>
                  <a:lnTo>
                    <a:pt x="157" y="184"/>
                  </a:lnTo>
                  <a:lnTo>
                    <a:pt x="155" y="179"/>
                  </a:lnTo>
                  <a:lnTo>
                    <a:pt x="154" y="173"/>
                  </a:lnTo>
                  <a:lnTo>
                    <a:pt x="152" y="165"/>
                  </a:lnTo>
                  <a:lnTo>
                    <a:pt x="151" y="157"/>
                  </a:lnTo>
                  <a:lnTo>
                    <a:pt x="150" y="146"/>
                  </a:lnTo>
                  <a:lnTo>
                    <a:pt x="150" y="136"/>
                  </a:lnTo>
                  <a:lnTo>
                    <a:pt x="150" y="124"/>
                  </a:lnTo>
                  <a:lnTo>
                    <a:pt x="150" y="111"/>
                  </a:lnTo>
                  <a:lnTo>
                    <a:pt x="151" y="98"/>
                  </a:lnTo>
                  <a:lnTo>
                    <a:pt x="155" y="66"/>
                  </a:lnTo>
                  <a:lnTo>
                    <a:pt x="160" y="29"/>
                  </a:lnTo>
                  <a:lnTo>
                    <a:pt x="14" y="0"/>
                  </a:lnTo>
                  <a:lnTo>
                    <a:pt x="7" y="44"/>
                  </a:lnTo>
                  <a:lnTo>
                    <a:pt x="3" y="82"/>
                  </a:lnTo>
                  <a:lnTo>
                    <a:pt x="1" y="103"/>
                  </a:lnTo>
                  <a:lnTo>
                    <a:pt x="0" y="121"/>
                  </a:lnTo>
                  <a:lnTo>
                    <a:pt x="0" y="140"/>
                  </a:lnTo>
                  <a:lnTo>
                    <a:pt x="1" y="157"/>
                  </a:lnTo>
                  <a:lnTo>
                    <a:pt x="3" y="175"/>
                  </a:lnTo>
                  <a:lnTo>
                    <a:pt x="5" y="192"/>
                  </a:lnTo>
                  <a:lnTo>
                    <a:pt x="9" y="208"/>
                  </a:lnTo>
                  <a:lnTo>
                    <a:pt x="13" y="224"/>
                  </a:lnTo>
                  <a:lnTo>
                    <a:pt x="20" y="240"/>
                  </a:lnTo>
                  <a:lnTo>
                    <a:pt x="26" y="256"/>
                  </a:lnTo>
                  <a:lnTo>
                    <a:pt x="34" y="270"/>
                  </a:lnTo>
                  <a:lnTo>
                    <a:pt x="44" y="284"/>
                  </a:lnTo>
                  <a:lnTo>
                    <a:pt x="54" y="297"/>
                  </a:lnTo>
                  <a:lnTo>
                    <a:pt x="65" y="308"/>
                  </a:lnTo>
                  <a:lnTo>
                    <a:pt x="77" y="320"/>
                  </a:lnTo>
                  <a:lnTo>
                    <a:pt x="91" y="329"/>
                  </a:lnTo>
                  <a:lnTo>
                    <a:pt x="105" y="338"/>
                  </a:lnTo>
                  <a:lnTo>
                    <a:pt x="119" y="345"/>
                  </a:lnTo>
                  <a:lnTo>
                    <a:pt x="134" y="351"/>
                  </a:lnTo>
                  <a:lnTo>
                    <a:pt x="149" y="356"/>
                  </a:lnTo>
                  <a:lnTo>
                    <a:pt x="163" y="361"/>
                  </a:lnTo>
                  <a:lnTo>
                    <a:pt x="179" y="365"/>
                  </a:lnTo>
                  <a:lnTo>
                    <a:pt x="196" y="368"/>
                  </a:lnTo>
                  <a:lnTo>
                    <a:pt x="213" y="370"/>
                  </a:lnTo>
                  <a:lnTo>
                    <a:pt x="245" y="373"/>
                  </a:lnTo>
                  <a:lnTo>
                    <a:pt x="280" y="374"/>
                  </a:lnTo>
                  <a:lnTo>
                    <a:pt x="224" y="349"/>
                  </a:lnTo>
                  <a:lnTo>
                    <a:pt x="280" y="374"/>
                  </a:lnTo>
                  <a:lnTo>
                    <a:pt x="288" y="373"/>
                  </a:lnTo>
                  <a:lnTo>
                    <a:pt x="297" y="372"/>
                  </a:lnTo>
                  <a:lnTo>
                    <a:pt x="305" y="370"/>
                  </a:lnTo>
                  <a:lnTo>
                    <a:pt x="312" y="367"/>
                  </a:lnTo>
                  <a:lnTo>
                    <a:pt x="319" y="364"/>
                  </a:lnTo>
                  <a:lnTo>
                    <a:pt x="325" y="360"/>
                  </a:lnTo>
                  <a:lnTo>
                    <a:pt x="330" y="355"/>
                  </a:lnTo>
                  <a:lnTo>
                    <a:pt x="336" y="350"/>
                  </a:lnTo>
                  <a:lnTo>
                    <a:pt x="340" y="345"/>
                  </a:lnTo>
                  <a:lnTo>
                    <a:pt x="344" y="340"/>
                  </a:lnTo>
                  <a:lnTo>
                    <a:pt x="347" y="333"/>
                  </a:lnTo>
                  <a:lnTo>
                    <a:pt x="349" y="327"/>
                  </a:lnTo>
                  <a:lnTo>
                    <a:pt x="351" y="320"/>
                  </a:lnTo>
                  <a:lnTo>
                    <a:pt x="352" y="313"/>
                  </a:lnTo>
                  <a:lnTo>
                    <a:pt x="353" y="306"/>
                  </a:lnTo>
                  <a:lnTo>
                    <a:pt x="354" y="299"/>
                  </a:lnTo>
                  <a:lnTo>
                    <a:pt x="353" y="292"/>
                  </a:lnTo>
                  <a:lnTo>
                    <a:pt x="352" y="285"/>
                  </a:lnTo>
                  <a:lnTo>
                    <a:pt x="351" y="279"/>
                  </a:lnTo>
                  <a:lnTo>
                    <a:pt x="349" y="271"/>
                  </a:lnTo>
                  <a:lnTo>
                    <a:pt x="347" y="265"/>
                  </a:lnTo>
                  <a:lnTo>
                    <a:pt x="344" y="259"/>
                  </a:lnTo>
                  <a:lnTo>
                    <a:pt x="340" y="254"/>
                  </a:lnTo>
                  <a:lnTo>
                    <a:pt x="336" y="248"/>
                  </a:lnTo>
                  <a:lnTo>
                    <a:pt x="330" y="243"/>
                  </a:lnTo>
                  <a:lnTo>
                    <a:pt x="325" y="238"/>
                  </a:lnTo>
                  <a:lnTo>
                    <a:pt x="319" y="235"/>
                  </a:lnTo>
                  <a:lnTo>
                    <a:pt x="312" y="230"/>
                  </a:lnTo>
                  <a:lnTo>
                    <a:pt x="305" y="228"/>
                  </a:lnTo>
                  <a:lnTo>
                    <a:pt x="297" y="226"/>
                  </a:lnTo>
                  <a:lnTo>
                    <a:pt x="288" y="225"/>
                  </a:lnTo>
                  <a:lnTo>
                    <a:pt x="280" y="224"/>
                  </a:lnTo>
                  <a:lnTo>
                    <a:pt x="335" y="2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4653000" y="5043600"/>
              <a:ext cx="217440" cy="792000"/>
            </a:xfrm>
            <a:custGeom>
              <a:avLst/>
              <a:gdLst/>
              <a:ahLst/>
              <a:rect l="l" t="t" r="r" b="b"/>
              <a:pathLst>
                <a:path w="685" h="2493">
                  <a:moveTo>
                    <a:pt x="77" y="2343"/>
                  </a:moveTo>
                  <a:lnTo>
                    <a:pt x="136" y="2463"/>
                  </a:lnTo>
                  <a:lnTo>
                    <a:pt x="190" y="2391"/>
                  </a:lnTo>
                  <a:lnTo>
                    <a:pt x="242" y="2319"/>
                  </a:lnTo>
                  <a:lnTo>
                    <a:pt x="267" y="2282"/>
                  </a:lnTo>
                  <a:lnTo>
                    <a:pt x="292" y="2246"/>
                  </a:lnTo>
                  <a:lnTo>
                    <a:pt x="316" y="2210"/>
                  </a:lnTo>
                  <a:lnTo>
                    <a:pt x="340" y="2173"/>
                  </a:lnTo>
                  <a:lnTo>
                    <a:pt x="363" y="2136"/>
                  </a:lnTo>
                  <a:lnTo>
                    <a:pt x="385" y="2099"/>
                  </a:lnTo>
                  <a:lnTo>
                    <a:pt x="407" y="2063"/>
                  </a:lnTo>
                  <a:lnTo>
                    <a:pt x="428" y="2026"/>
                  </a:lnTo>
                  <a:lnTo>
                    <a:pt x="448" y="1988"/>
                  </a:lnTo>
                  <a:lnTo>
                    <a:pt x="466" y="1951"/>
                  </a:lnTo>
                  <a:lnTo>
                    <a:pt x="485" y="1914"/>
                  </a:lnTo>
                  <a:lnTo>
                    <a:pt x="504" y="1877"/>
                  </a:lnTo>
                  <a:lnTo>
                    <a:pt x="521" y="1839"/>
                  </a:lnTo>
                  <a:lnTo>
                    <a:pt x="538" y="1801"/>
                  </a:lnTo>
                  <a:lnTo>
                    <a:pt x="554" y="1763"/>
                  </a:lnTo>
                  <a:lnTo>
                    <a:pt x="568" y="1725"/>
                  </a:lnTo>
                  <a:lnTo>
                    <a:pt x="582" y="1688"/>
                  </a:lnTo>
                  <a:lnTo>
                    <a:pt x="596" y="1650"/>
                  </a:lnTo>
                  <a:lnTo>
                    <a:pt x="608" y="1612"/>
                  </a:lnTo>
                  <a:lnTo>
                    <a:pt x="620" y="1573"/>
                  </a:lnTo>
                  <a:lnTo>
                    <a:pt x="630" y="1535"/>
                  </a:lnTo>
                  <a:lnTo>
                    <a:pt x="640" y="1497"/>
                  </a:lnTo>
                  <a:lnTo>
                    <a:pt x="649" y="1459"/>
                  </a:lnTo>
                  <a:lnTo>
                    <a:pt x="657" y="1420"/>
                  </a:lnTo>
                  <a:lnTo>
                    <a:pt x="664" y="1381"/>
                  </a:lnTo>
                  <a:lnTo>
                    <a:pt x="669" y="1342"/>
                  </a:lnTo>
                  <a:lnTo>
                    <a:pt x="674" y="1303"/>
                  </a:lnTo>
                  <a:lnTo>
                    <a:pt x="679" y="1265"/>
                  </a:lnTo>
                  <a:lnTo>
                    <a:pt x="682" y="1226"/>
                  </a:lnTo>
                  <a:lnTo>
                    <a:pt x="684" y="1187"/>
                  </a:lnTo>
                  <a:lnTo>
                    <a:pt x="685" y="1147"/>
                  </a:lnTo>
                  <a:lnTo>
                    <a:pt x="685" y="1108"/>
                  </a:lnTo>
                  <a:lnTo>
                    <a:pt x="683" y="1069"/>
                  </a:lnTo>
                  <a:lnTo>
                    <a:pt x="681" y="1029"/>
                  </a:lnTo>
                  <a:lnTo>
                    <a:pt x="678" y="990"/>
                  </a:lnTo>
                  <a:lnTo>
                    <a:pt x="672" y="951"/>
                  </a:lnTo>
                  <a:lnTo>
                    <a:pt x="667" y="911"/>
                  </a:lnTo>
                  <a:lnTo>
                    <a:pt x="660" y="871"/>
                  </a:lnTo>
                  <a:lnTo>
                    <a:pt x="652" y="832"/>
                  </a:lnTo>
                  <a:lnTo>
                    <a:pt x="643" y="792"/>
                  </a:lnTo>
                  <a:lnTo>
                    <a:pt x="632" y="752"/>
                  </a:lnTo>
                  <a:lnTo>
                    <a:pt x="621" y="712"/>
                  </a:lnTo>
                  <a:lnTo>
                    <a:pt x="608" y="673"/>
                  </a:lnTo>
                  <a:lnTo>
                    <a:pt x="595" y="633"/>
                  </a:lnTo>
                  <a:lnTo>
                    <a:pt x="579" y="594"/>
                  </a:lnTo>
                  <a:lnTo>
                    <a:pt x="563" y="554"/>
                  </a:lnTo>
                  <a:lnTo>
                    <a:pt x="545" y="515"/>
                  </a:lnTo>
                  <a:lnTo>
                    <a:pt x="526" y="475"/>
                  </a:lnTo>
                  <a:lnTo>
                    <a:pt x="505" y="435"/>
                  </a:lnTo>
                  <a:lnTo>
                    <a:pt x="484" y="395"/>
                  </a:lnTo>
                  <a:lnTo>
                    <a:pt x="461" y="356"/>
                  </a:lnTo>
                  <a:lnTo>
                    <a:pt x="437" y="316"/>
                  </a:lnTo>
                  <a:lnTo>
                    <a:pt x="412" y="276"/>
                  </a:lnTo>
                  <a:lnTo>
                    <a:pt x="385" y="237"/>
                  </a:lnTo>
                  <a:lnTo>
                    <a:pt x="356" y="198"/>
                  </a:lnTo>
                  <a:lnTo>
                    <a:pt x="327" y="158"/>
                  </a:lnTo>
                  <a:lnTo>
                    <a:pt x="296" y="119"/>
                  </a:lnTo>
                  <a:lnTo>
                    <a:pt x="264" y="79"/>
                  </a:lnTo>
                  <a:lnTo>
                    <a:pt x="230" y="40"/>
                  </a:lnTo>
                  <a:lnTo>
                    <a:pt x="196" y="0"/>
                  </a:lnTo>
                  <a:lnTo>
                    <a:pt x="85" y="100"/>
                  </a:lnTo>
                  <a:lnTo>
                    <a:pt x="118" y="137"/>
                  </a:lnTo>
                  <a:lnTo>
                    <a:pt x="149" y="175"/>
                  </a:lnTo>
                  <a:lnTo>
                    <a:pt x="180" y="211"/>
                  </a:lnTo>
                  <a:lnTo>
                    <a:pt x="209" y="248"/>
                  </a:lnTo>
                  <a:lnTo>
                    <a:pt x="236" y="285"/>
                  </a:lnTo>
                  <a:lnTo>
                    <a:pt x="263" y="322"/>
                  </a:lnTo>
                  <a:lnTo>
                    <a:pt x="287" y="358"/>
                  </a:lnTo>
                  <a:lnTo>
                    <a:pt x="311" y="395"/>
                  </a:lnTo>
                  <a:lnTo>
                    <a:pt x="333" y="432"/>
                  </a:lnTo>
                  <a:lnTo>
                    <a:pt x="354" y="469"/>
                  </a:lnTo>
                  <a:lnTo>
                    <a:pt x="374" y="504"/>
                  </a:lnTo>
                  <a:lnTo>
                    <a:pt x="392" y="541"/>
                  </a:lnTo>
                  <a:lnTo>
                    <a:pt x="410" y="577"/>
                  </a:lnTo>
                  <a:lnTo>
                    <a:pt x="426" y="612"/>
                  </a:lnTo>
                  <a:lnTo>
                    <a:pt x="440" y="649"/>
                  </a:lnTo>
                  <a:lnTo>
                    <a:pt x="454" y="685"/>
                  </a:lnTo>
                  <a:lnTo>
                    <a:pt x="468" y="721"/>
                  </a:lnTo>
                  <a:lnTo>
                    <a:pt x="479" y="756"/>
                  </a:lnTo>
                  <a:lnTo>
                    <a:pt x="490" y="792"/>
                  </a:lnTo>
                  <a:lnTo>
                    <a:pt x="498" y="828"/>
                  </a:lnTo>
                  <a:lnTo>
                    <a:pt x="506" y="863"/>
                  </a:lnTo>
                  <a:lnTo>
                    <a:pt x="514" y="899"/>
                  </a:lnTo>
                  <a:lnTo>
                    <a:pt x="520" y="934"/>
                  </a:lnTo>
                  <a:lnTo>
                    <a:pt x="525" y="969"/>
                  </a:lnTo>
                  <a:lnTo>
                    <a:pt x="529" y="1004"/>
                  </a:lnTo>
                  <a:lnTo>
                    <a:pt x="532" y="1040"/>
                  </a:lnTo>
                  <a:lnTo>
                    <a:pt x="535" y="1076"/>
                  </a:lnTo>
                  <a:lnTo>
                    <a:pt x="535" y="1110"/>
                  </a:lnTo>
                  <a:lnTo>
                    <a:pt x="535" y="1146"/>
                  </a:lnTo>
                  <a:lnTo>
                    <a:pt x="535" y="1181"/>
                  </a:lnTo>
                  <a:lnTo>
                    <a:pt x="533" y="1216"/>
                  </a:lnTo>
                  <a:lnTo>
                    <a:pt x="531" y="1252"/>
                  </a:lnTo>
                  <a:lnTo>
                    <a:pt x="526" y="1287"/>
                  </a:lnTo>
                  <a:lnTo>
                    <a:pt x="522" y="1322"/>
                  </a:lnTo>
                  <a:lnTo>
                    <a:pt x="517" y="1357"/>
                  </a:lnTo>
                  <a:lnTo>
                    <a:pt x="511" y="1392"/>
                  </a:lnTo>
                  <a:lnTo>
                    <a:pt x="503" y="1427"/>
                  </a:lnTo>
                  <a:lnTo>
                    <a:pt x="495" y="1462"/>
                  </a:lnTo>
                  <a:lnTo>
                    <a:pt x="486" y="1498"/>
                  </a:lnTo>
                  <a:lnTo>
                    <a:pt x="476" y="1532"/>
                  </a:lnTo>
                  <a:lnTo>
                    <a:pt x="465" y="1568"/>
                  </a:lnTo>
                  <a:lnTo>
                    <a:pt x="454" y="1603"/>
                  </a:lnTo>
                  <a:lnTo>
                    <a:pt x="442" y="1637"/>
                  </a:lnTo>
                  <a:lnTo>
                    <a:pt x="429" y="1673"/>
                  </a:lnTo>
                  <a:lnTo>
                    <a:pt x="415" y="1708"/>
                  </a:lnTo>
                  <a:lnTo>
                    <a:pt x="400" y="1743"/>
                  </a:lnTo>
                  <a:lnTo>
                    <a:pt x="386" y="1778"/>
                  </a:lnTo>
                  <a:lnTo>
                    <a:pt x="369" y="1813"/>
                  </a:lnTo>
                  <a:lnTo>
                    <a:pt x="352" y="1848"/>
                  </a:lnTo>
                  <a:lnTo>
                    <a:pt x="334" y="1883"/>
                  </a:lnTo>
                  <a:lnTo>
                    <a:pt x="316" y="1919"/>
                  </a:lnTo>
                  <a:lnTo>
                    <a:pt x="297" y="1953"/>
                  </a:lnTo>
                  <a:lnTo>
                    <a:pt x="277" y="1988"/>
                  </a:lnTo>
                  <a:lnTo>
                    <a:pt x="256" y="2024"/>
                  </a:lnTo>
                  <a:lnTo>
                    <a:pt x="235" y="2058"/>
                  </a:lnTo>
                  <a:lnTo>
                    <a:pt x="214" y="2093"/>
                  </a:lnTo>
                  <a:lnTo>
                    <a:pt x="191" y="2129"/>
                  </a:lnTo>
                  <a:lnTo>
                    <a:pt x="168" y="2163"/>
                  </a:lnTo>
                  <a:lnTo>
                    <a:pt x="145" y="2198"/>
                  </a:lnTo>
                  <a:lnTo>
                    <a:pt x="121" y="2233"/>
                  </a:lnTo>
                  <a:lnTo>
                    <a:pt x="71" y="2303"/>
                  </a:lnTo>
                  <a:lnTo>
                    <a:pt x="18" y="2372"/>
                  </a:lnTo>
                  <a:lnTo>
                    <a:pt x="77" y="2492"/>
                  </a:lnTo>
                  <a:lnTo>
                    <a:pt x="18" y="2372"/>
                  </a:lnTo>
                  <a:lnTo>
                    <a:pt x="13" y="2380"/>
                  </a:lnTo>
                  <a:lnTo>
                    <a:pt x="9" y="2387"/>
                  </a:lnTo>
                  <a:lnTo>
                    <a:pt x="5" y="2394"/>
                  </a:lnTo>
                  <a:lnTo>
                    <a:pt x="2" y="2402"/>
                  </a:lnTo>
                  <a:lnTo>
                    <a:pt x="1" y="2409"/>
                  </a:lnTo>
                  <a:lnTo>
                    <a:pt x="0" y="2416"/>
                  </a:lnTo>
                  <a:lnTo>
                    <a:pt x="1" y="2424"/>
                  </a:lnTo>
                  <a:lnTo>
                    <a:pt x="2" y="2430"/>
                  </a:lnTo>
                  <a:lnTo>
                    <a:pt x="3" y="2437"/>
                  </a:lnTo>
                  <a:lnTo>
                    <a:pt x="5" y="2444"/>
                  </a:lnTo>
                  <a:lnTo>
                    <a:pt x="9" y="2450"/>
                  </a:lnTo>
                  <a:lnTo>
                    <a:pt x="12" y="2456"/>
                  </a:lnTo>
                  <a:lnTo>
                    <a:pt x="16" y="2462"/>
                  </a:lnTo>
                  <a:lnTo>
                    <a:pt x="20" y="2467"/>
                  </a:lnTo>
                  <a:lnTo>
                    <a:pt x="25" y="2472"/>
                  </a:lnTo>
                  <a:lnTo>
                    <a:pt x="31" y="2476"/>
                  </a:lnTo>
                  <a:lnTo>
                    <a:pt x="37" y="2480"/>
                  </a:lnTo>
                  <a:lnTo>
                    <a:pt x="42" y="2484"/>
                  </a:lnTo>
                  <a:lnTo>
                    <a:pt x="49" y="2487"/>
                  </a:lnTo>
                  <a:lnTo>
                    <a:pt x="56" y="2490"/>
                  </a:lnTo>
                  <a:lnTo>
                    <a:pt x="62" y="2491"/>
                  </a:lnTo>
                  <a:lnTo>
                    <a:pt x="68" y="2493"/>
                  </a:lnTo>
                  <a:lnTo>
                    <a:pt x="76" y="2493"/>
                  </a:lnTo>
                  <a:lnTo>
                    <a:pt x="83" y="2493"/>
                  </a:lnTo>
                  <a:lnTo>
                    <a:pt x="89" y="2492"/>
                  </a:lnTo>
                  <a:lnTo>
                    <a:pt x="97" y="2491"/>
                  </a:lnTo>
                  <a:lnTo>
                    <a:pt x="103" y="2488"/>
                  </a:lnTo>
                  <a:lnTo>
                    <a:pt x="110" y="2485"/>
                  </a:lnTo>
                  <a:lnTo>
                    <a:pt x="117" y="2480"/>
                  </a:lnTo>
                  <a:lnTo>
                    <a:pt x="123" y="2476"/>
                  </a:lnTo>
                  <a:lnTo>
                    <a:pt x="129" y="2470"/>
                  </a:lnTo>
                  <a:lnTo>
                    <a:pt x="136" y="2463"/>
                  </a:lnTo>
                  <a:lnTo>
                    <a:pt x="77" y="23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4678200" y="5788080"/>
              <a:ext cx="603360" cy="47520"/>
            </a:xfrm>
            <a:custGeom>
              <a:avLst/>
              <a:gdLst/>
              <a:ahLst/>
              <a:rect l="l" t="t" r="r" b="b"/>
              <a:pathLst>
                <a:path w="1902" h="149">
                  <a:moveTo>
                    <a:pt x="1757" y="99"/>
                  </a:moveTo>
                  <a:lnTo>
                    <a:pt x="1827" y="0"/>
                  </a:lnTo>
                  <a:lnTo>
                    <a:pt x="1598" y="0"/>
                  </a:lnTo>
                  <a:lnTo>
                    <a:pt x="1369" y="0"/>
                  </a:lnTo>
                  <a:lnTo>
                    <a:pt x="1141" y="0"/>
                  </a:lnTo>
                  <a:lnTo>
                    <a:pt x="913" y="0"/>
                  </a:lnTo>
                  <a:lnTo>
                    <a:pt x="686" y="0"/>
                  </a:lnTo>
                  <a:lnTo>
                    <a:pt x="457" y="0"/>
                  </a:lnTo>
                  <a:lnTo>
                    <a:pt x="229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229" y="149"/>
                  </a:lnTo>
                  <a:lnTo>
                    <a:pt x="457" y="149"/>
                  </a:lnTo>
                  <a:lnTo>
                    <a:pt x="686" y="149"/>
                  </a:lnTo>
                  <a:lnTo>
                    <a:pt x="913" y="149"/>
                  </a:lnTo>
                  <a:lnTo>
                    <a:pt x="1141" y="149"/>
                  </a:lnTo>
                  <a:lnTo>
                    <a:pt x="1369" y="149"/>
                  </a:lnTo>
                  <a:lnTo>
                    <a:pt x="1598" y="149"/>
                  </a:lnTo>
                  <a:lnTo>
                    <a:pt x="1827" y="149"/>
                  </a:lnTo>
                  <a:lnTo>
                    <a:pt x="1897" y="50"/>
                  </a:lnTo>
                  <a:lnTo>
                    <a:pt x="1827" y="149"/>
                  </a:lnTo>
                  <a:lnTo>
                    <a:pt x="1835" y="149"/>
                  </a:lnTo>
                  <a:lnTo>
                    <a:pt x="1844" y="148"/>
                  </a:lnTo>
                  <a:lnTo>
                    <a:pt x="1852" y="146"/>
                  </a:lnTo>
                  <a:lnTo>
                    <a:pt x="1860" y="143"/>
                  </a:lnTo>
                  <a:lnTo>
                    <a:pt x="1866" y="140"/>
                  </a:lnTo>
                  <a:lnTo>
                    <a:pt x="1872" y="135"/>
                  </a:lnTo>
                  <a:lnTo>
                    <a:pt x="1877" y="131"/>
                  </a:lnTo>
                  <a:lnTo>
                    <a:pt x="1883" y="126"/>
                  </a:lnTo>
                  <a:lnTo>
                    <a:pt x="1887" y="121"/>
                  </a:lnTo>
                  <a:lnTo>
                    <a:pt x="1891" y="114"/>
                  </a:lnTo>
                  <a:lnTo>
                    <a:pt x="1894" y="108"/>
                  </a:lnTo>
                  <a:lnTo>
                    <a:pt x="1896" y="102"/>
                  </a:lnTo>
                  <a:lnTo>
                    <a:pt x="1898" y="95"/>
                  </a:lnTo>
                  <a:lnTo>
                    <a:pt x="1901" y="88"/>
                  </a:lnTo>
                  <a:lnTo>
                    <a:pt x="1901" y="82"/>
                  </a:lnTo>
                  <a:lnTo>
                    <a:pt x="1902" y="74"/>
                  </a:lnTo>
                  <a:lnTo>
                    <a:pt x="1901" y="68"/>
                  </a:lnTo>
                  <a:lnTo>
                    <a:pt x="1901" y="61"/>
                  </a:lnTo>
                  <a:lnTo>
                    <a:pt x="1898" y="53"/>
                  </a:lnTo>
                  <a:lnTo>
                    <a:pt x="1896" y="47"/>
                  </a:lnTo>
                  <a:lnTo>
                    <a:pt x="1894" y="41"/>
                  </a:lnTo>
                  <a:lnTo>
                    <a:pt x="1891" y="35"/>
                  </a:lnTo>
                  <a:lnTo>
                    <a:pt x="1887" y="28"/>
                  </a:lnTo>
                  <a:lnTo>
                    <a:pt x="1883" y="23"/>
                  </a:lnTo>
                  <a:lnTo>
                    <a:pt x="1877" y="19"/>
                  </a:lnTo>
                  <a:lnTo>
                    <a:pt x="1872" y="14"/>
                  </a:lnTo>
                  <a:lnTo>
                    <a:pt x="1866" y="9"/>
                  </a:lnTo>
                  <a:lnTo>
                    <a:pt x="1860" y="6"/>
                  </a:lnTo>
                  <a:lnTo>
                    <a:pt x="1852" y="4"/>
                  </a:lnTo>
                  <a:lnTo>
                    <a:pt x="1844" y="2"/>
                  </a:lnTo>
                  <a:lnTo>
                    <a:pt x="1835" y="0"/>
                  </a:lnTo>
                  <a:lnTo>
                    <a:pt x="1827" y="0"/>
                  </a:lnTo>
                  <a:lnTo>
                    <a:pt x="1757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014800" y="4221360"/>
              <a:ext cx="649440" cy="1598400"/>
            </a:xfrm>
            <a:custGeom>
              <a:avLst/>
              <a:gdLst/>
              <a:ahLst/>
              <a:rect l="l" t="t" r="r" b="b"/>
              <a:pathLst>
                <a:path w="2045" h="5033">
                  <a:moveTo>
                    <a:pt x="141" y="108"/>
                  </a:moveTo>
                  <a:lnTo>
                    <a:pt x="74" y="149"/>
                  </a:lnTo>
                  <a:lnTo>
                    <a:pt x="172" y="150"/>
                  </a:lnTo>
                  <a:lnTo>
                    <a:pt x="267" y="151"/>
                  </a:lnTo>
                  <a:lnTo>
                    <a:pt x="360" y="154"/>
                  </a:lnTo>
                  <a:lnTo>
                    <a:pt x="448" y="157"/>
                  </a:lnTo>
                  <a:lnTo>
                    <a:pt x="534" y="162"/>
                  </a:lnTo>
                  <a:lnTo>
                    <a:pt x="617" y="167"/>
                  </a:lnTo>
                  <a:lnTo>
                    <a:pt x="697" y="173"/>
                  </a:lnTo>
                  <a:lnTo>
                    <a:pt x="773" y="179"/>
                  </a:lnTo>
                  <a:lnTo>
                    <a:pt x="847" y="187"/>
                  </a:lnTo>
                  <a:lnTo>
                    <a:pt x="917" y="195"/>
                  </a:lnTo>
                  <a:lnTo>
                    <a:pt x="986" y="205"/>
                  </a:lnTo>
                  <a:lnTo>
                    <a:pt x="1051" y="214"/>
                  </a:lnTo>
                  <a:lnTo>
                    <a:pt x="1113" y="225"/>
                  </a:lnTo>
                  <a:lnTo>
                    <a:pt x="1173" y="236"/>
                  </a:lnTo>
                  <a:lnTo>
                    <a:pt x="1229" y="249"/>
                  </a:lnTo>
                  <a:lnTo>
                    <a:pt x="1283" y="261"/>
                  </a:lnTo>
                  <a:lnTo>
                    <a:pt x="1334" y="275"/>
                  </a:lnTo>
                  <a:lnTo>
                    <a:pt x="1384" y="290"/>
                  </a:lnTo>
                  <a:lnTo>
                    <a:pt x="1430" y="304"/>
                  </a:lnTo>
                  <a:lnTo>
                    <a:pt x="1473" y="320"/>
                  </a:lnTo>
                  <a:lnTo>
                    <a:pt x="1514" y="336"/>
                  </a:lnTo>
                  <a:lnTo>
                    <a:pt x="1553" y="353"/>
                  </a:lnTo>
                  <a:lnTo>
                    <a:pt x="1588" y="371"/>
                  </a:lnTo>
                  <a:lnTo>
                    <a:pt x="1622" y="388"/>
                  </a:lnTo>
                  <a:lnTo>
                    <a:pt x="1653" y="406"/>
                  </a:lnTo>
                  <a:lnTo>
                    <a:pt x="1683" y="426"/>
                  </a:lnTo>
                  <a:lnTo>
                    <a:pt x="1709" y="445"/>
                  </a:lnTo>
                  <a:lnTo>
                    <a:pt x="1734" y="465"/>
                  </a:lnTo>
                  <a:lnTo>
                    <a:pt x="1756" y="485"/>
                  </a:lnTo>
                  <a:lnTo>
                    <a:pt x="1777" y="506"/>
                  </a:lnTo>
                  <a:lnTo>
                    <a:pt x="1795" y="527"/>
                  </a:lnTo>
                  <a:lnTo>
                    <a:pt x="1812" y="548"/>
                  </a:lnTo>
                  <a:lnTo>
                    <a:pt x="1828" y="570"/>
                  </a:lnTo>
                  <a:lnTo>
                    <a:pt x="1841" y="592"/>
                  </a:lnTo>
                  <a:lnTo>
                    <a:pt x="1853" y="615"/>
                  </a:lnTo>
                  <a:lnTo>
                    <a:pt x="1863" y="638"/>
                  </a:lnTo>
                  <a:lnTo>
                    <a:pt x="1872" y="661"/>
                  </a:lnTo>
                  <a:lnTo>
                    <a:pt x="1879" y="687"/>
                  </a:lnTo>
                  <a:lnTo>
                    <a:pt x="1886" y="712"/>
                  </a:lnTo>
                  <a:lnTo>
                    <a:pt x="1890" y="738"/>
                  </a:lnTo>
                  <a:lnTo>
                    <a:pt x="1893" y="764"/>
                  </a:lnTo>
                  <a:lnTo>
                    <a:pt x="1895" y="793"/>
                  </a:lnTo>
                  <a:lnTo>
                    <a:pt x="1896" y="821"/>
                  </a:lnTo>
                  <a:lnTo>
                    <a:pt x="1895" y="850"/>
                  </a:lnTo>
                  <a:lnTo>
                    <a:pt x="1893" y="881"/>
                  </a:lnTo>
                  <a:lnTo>
                    <a:pt x="1890" y="911"/>
                  </a:lnTo>
                  <a:lnTo>
                    <a:pt x="1886" y="943"/>
                  </a:lnTo>
                  <a:lnTo>
                    <a:pt x="1879" y="975"/>
                  </a:lnTo>
                  <a:lnTo>
                    <a:pt x="1872" y="1009"/>
                  </a:lnTo>
                  <a:lnTo>
                    <a:pt x="1865" y="1043"/>
                  </a:lnTo>
                  <a:lnTo>
                    <a:pt x="1854" y="1077"/>
                  </a:lnTo>
                  <a:lnTo>
                    <a:pt x="1844" y="1113"/>
                  </a:lnTo>
                  <a:lnTo>
                    <a:pt x="1832" y="1149"/>
                  </a:lnTo>
                  <a:lnTo>
                    <a:pt x="1819" y="1185"/>
                  </a:lnTo>
                  <a:lnTo>
                    <a:pt x="1806" y="1223"/>
                  </a:lnTo>
                  <a:lnTo>
                    <a:pt x="1791" y="1261"/>
                  </a:lnTo>
                  <a:lnTo>
                    <a:pt x="1775" y="1299"/>
                  </a:lnTo>
                  <a:lnTo>
                    <a:pt x="1758" y="1339"/>
                  </a:lnTo>
                  <a:lnTo>
                    <a:pt x="1741" y="1379"/>
                  </a:lnTo>
                  <a:lnTo>
                    <a:pt x="1723" y="1418"/>
                  </a:lnTo>
                  <a:lnTo>
                    <a:pt x="1683" y="1501"/>
                  </a:lnTo>
                  <a:lnTo>
                    <a:pt x="1641" y="1585"/>
                  </a:lnTo>
                  <a:lnTo>
                    <a:pt x="1596" y="1672"/>
                  </a:lnTo>
                  <a:lnTo>
                    <a:pt x="1548" y="1761"/>
                  </a:lnTo>
                  <a:lnTo>
                    <a:pt x="1499" y="1851"/>
                  </a:lnTo>
                  <a:lnTo>
                    <a:pt x="1448" y="1942"/>
                  </a:lnTo>
                  <a:lnTo>
                    <a:pt x="1343" y="2132"/>
                  </a:lnTo>
                  <a:lnTo>
                    <a:pt x="1234" y="2329"/>
                  </a:lnTo>
                  <a:lnTo>
                    <a:pt x="1180" y="2429"/>
                  </a:lnTo>
                  <a:lnTo>
                    <a:pt x="1126" y="2530"/>
                  </a:lnTo>
                  <a:lnTo>
                    <a:pt x="1073" y="2633"/>
                  </a:lnTo>
                  <a:lnTo>
                    <a:pt x="1020" y="2738"/>
                  </a:lnTo>
                  <a:lnTo>
                    <a:pt x="970" y="2843"/>
                  </a:lnTo>
                  <a:lnTo>
                    <a:pt x="920" y="2950"/>
                  </a:lnTo>
                  <a:lnTo>
                    <a:pt x="896" y="3005"/>
                  </a:lnTo>
                  <a:lnTo>
                    <a:pt x="873" y="3059"/>
                  </a:lnTo>
                  <a:lnTo>
                    <a:pt x="850" y="3113"/>
                  </a:lnTo>
                  <a:lnTo>
                    <a:pt x="828" y="3169"/>
                  </a:lnTo>
                  <a:lnTo>
                    <a:pt x="806" y="3223"/>
                  </a:lnTo>
                  <a:lnTo>
                    <a:pt x="785" y="3279"/>
                  </a:lnTo>
                  <a:lnTo>
                    <a:pt x="765" y="3335"/>
                  </a:lnTo>
                  <a:lnTo>
                    <a:pt x="745" y="3390"/>
                  </a:lnTo>
                  <a:lnTo>
                    <a:pt x="727" y="3447"/>
                  </a:lnTo>
                  <a:lnTo>
                    <a:pt x="709" y="3503"/>
                  </a:lnTo>
                  <a:lnTo>
                    <a:pt x="693" y="3559"/>
                  </a:lnTo>
                  <a:lnTo>
                    <a:pt x="677" y="3616"/>
                  </a:lnTo>
                  <a:lnTo>
                    <a:pt x="662" y="3674"/>
                  </a:lnTo>
                  <a:lnTo>
                    <a:pt x="647" y="3731"/>
                  </a:lnTo>
                  <a:lnTo>
                    <a:pt x="635" y="3788"/>
                  </a:lnTo>
                  <a:lnTo>
                    <a:pt x="623" y="3846"/>
                  </a:lnTo>
                  <a:lnTo>
                    <a:pt x="613" y="3905"/>
                  </a:lnTo>
                  <a:lnTo>
                    <a:pt x="603" y="3963"/>
                  </a:lnTo>
                  <a:lnTo>
                    <a:pt x="596" y="4021"/>
                  </a:lnTo>
                  <a:lnTo>
                    <a:pt x="589" y="4079"/>
                  </a:lnTo>
                  <a:lnTo>
                    <a:pt x="583" y="4138"/>
                  </a:lnTo>
                  <a:lnTo>
                    <a:pt x="579" y="4197"/>
                  </a:lnTo>
                  <a:lnTo>
                    <a:pt x="577" y="4257"/>
                  </a:lnTo>
                  <a:lnTo>
                    <a:pt x="576" y="4315"/>
                  </a:lnTo>
                  <a:lnTo>
                    <a:pt x="576" y="4374"/>
                  </a:lnTo>
                  <a:lnTo>
                    <a:pt x="578" y="4434"/>
                  </a:lnTo>
                  <a:lnTo>
                    <a:pt x="582" y="4493"/>
                  </a:lnTo>
                  <a:lnTo>
                    <a:pt x="588" y="4553"/>
                  </a:lnTo>
                  <a:lnTo>
                    <a:pt x="594" y="4613"/>
                  </a:lnTo>
                  <a:lnTo>
                    <a:pt x="602" y="4672"/>
                  </a:lnTo>
                  <a:lnTo>
                    <a:pt x="613" y="4732"/>
                  </a:lnTo>
                  <a:lnTo>
                    <a:pt x="625" y="4792"/>
                  </a:lnTo>
                  <a:lnTo>
                    <a:pt x="639" y="4853"/>
                  </a:lnTo>
                  <a:lnTo>
                    <a:pt x="656" y="4913"/>
                  </a:lnTo>
                  <a:lnTo>
                    <a:pt x="674" y="4973"/>
                  </a:lnTo>
                  <a:lnTo>
                    <a:pt x="694" y="5033"/>
                  </a:lnTo>
                  <a:lnTo>
                    <a:pt x="834" y="4984"/>
                  </a:lnTo>
                  <a:lnTo>
                    <a:pt x="815" y="4929"/>
                  </a:lnTo>
                  <a:lnTo>
                    <a:pt x="799" y="4873"/>
                  </a:lnTo>
                  <a:lnTo>
                    <a:pt x="784" y="4816"/>
                  </a:lnTo>
                  <a:lnTo>
                    <a:pt x="771" y="4761"/>
                  </a:lnTo>
                  <a:lnTo>
                    <a:pt x="760" y="4705"/>
                  </a:lnTo>
                  <a:lnTo>
                    <a:pt x="749" y="4649"/>
                  </a:lnTo>
                  <a:lnTo>
                    <a:pt x="742" y="4594"/>
                  </a:lnTo>
                  <a:lnTo>
                    <a:pt x="736" y="4538"/>
                  </a:lnTo>
                  <a:lnTo>
                    <a:pt x="730" y="4482"/>
                  </a:lnTo>
                  <a:lnTo>
                    <a:pt x="727" y="4427"/>
                  </a:lnTo>
                  <a:lnTo>
                    <a:pt x="725" y="4371"/>
                  </a:lnTo>
                  <a:lnTo>
                    <a:pt x="725" y="4315"/>
                  </a:lnTo>
                  <a:lnTo>
                    <a:pt x="726" y="4260"/>
                  </a:lnTo>
                  <a:lnTo>
                    <a:pt x="728" y="4205"/>
                  </a:lnTo>
                  <a:lnTo>
                    <a:pt x="733" y="4150"/>
                  </a:lnTo>
                  <a:lnTo>
                    <a:pt x="738" y="4095"/>
                  </a:lnTo>
                  <a:lnTo>
                    <a:pt x="744" y="4039"/>
                  </a:lnTo>
                  <a:lnTo>
                    <a:pt x="751" y="3984"/>
                  </a:lnTo>
                  <a:lnTo>
                    <a:pt x="760" y="3929"/>
                  </a:lnTo>
                  <a:lnTo>
                    <a:pt x="770" y="3873"/>
                  </a:lnTo>
                  <a:lnTo>
                    <a:pt x="781" y="3819"/>
                  </a:lnTo>
                  <a:lnTo>
                    <a:pt x="793" y="3764"/>
                  </a:lnTo>
                  <a:lnTo>
                    <a:pt x="806" y="3710"/>
                  </a:lnTo>
                  <a:lnTo>
                    <a:pt x="821" y="3655"/>
                  </a:lnTo>
                  <a:lnTo>
                    <a:pt x="835" y="3600"/>
                  </a:lnTo>
                  <a:lnTo>
                    <a:pt x="851" y="3546"/>
                  </a:lnTo>
                  <a:lnTo>
                    <a:pt x="869" y="3492"/>
                  </a:lnTo>
                  <a:lnTo>
                    <a:pt x="887" y="3438"/>
                  </a:lnTo>
                  <a:lnTo>
                    <a:pt x="906" y="3384"/>
                  </a:lnTo>
                  <a:lnTo>
                    <a:pt x="925" y="3331"/>
                  </a:lnTo>
                  <a:lnTo>
                    <a:pt x="945" y="3277"/>
                  </a:lnTo>
                  <a:lnTo>
                    <a:pt x="966" y="3223"/>
                  </a:lnTo>
                  <a:lnTo>
                    <a:pt x="988" y="3170"/>
                  </a:lnTo>
                  <a:lnTo>
                    <a:pt x="1010" y="3117"/>
                  </a:lnTo>
                  <a:lnTo>
                    <a:pt x="1033" y="3065"/>
                  </a:lnTo>
                  <a:lnTo>
                    <a:pt x="1056" y="3012"/>
                  </a:lnTo>
                  <a:lnTo>
                    <a:pt x="1104" y="2907"/>
                  </a:lnTo>
                  <a:lnTo>
                    <a:pt x="1155" y="2803"/>
                  </a:lnTo>
                  <a:lnTo>
                    <a:pt x="1206" y="2702"/>
                  </a:lnTo>
                  <a:lnTo>
                    <a:pt x="1258" y="2600"/>
                  </a:lnTo>
                  <a:lnTo>
                    <a:pt x="1311" y="2499"/>
                  </a:lnTo>
                  <a:lnTo>
                    <a:pt x="1365" y="2399"/>
                  </a:lnTo>
                  <a:lnTo>
                    <a:pt x="1473" y="2205"/>
                  </a:lnTo>
                  <a:lnTo>
                    <a:pt x="1578" y="2015"/>
                  </a:lnTo>
                  <a:lnTo>
                    <a:pt x="1629" y="1922"/>
                  </a:lnTo>
                  <a:lnTo>
                    <a:pt x="1679" y="1831"/>
                  </a:lnTo>
                  <a:lnTo>
                    <a:pt x="1727" y="1741"/>
                  </a:lnTo>
                  <a:lnTo>
                    <a:pt x="1773" y="1653"/>
                  </a:lnTo>
                  <a:lnTo>
                    <a:pt x="1816" y="1567"/>
                  </a:lnTo>
                  <a:lnTo>
                    <a:pt x="1857" y="1481"/>
                  </a:lnTo>
                  <a:lnTo>
                    <a:pt x="1876" y="1439"/>
                  </a:lnTo>
                  <a:lnTo>
                    <a:pt x="1895" y="1397"/>
                  </a:lnTo>
                  <a:lnTo>
                    <a:pt x="1913" y="1357"/>
                  </a:lnTo>
                  <a:lnTo>
                    <a:pt x="1930" y="1316"/>
                  </a:lnTo>
                  <a:lnTo>
                    <a:pt x="1945" y="1276"/>
                  </a:lnTo>
                  <a:lnTo>
                    <a:pt x="1960" y="1236"/>
                  </a:lnTo>
                  <a:lnTo>
                    <a:pt x="1974" y="1196"/>
                  </a:lnTo>
                  <a:lnTo>
                    <a:pt x="1986" y="1157"/>
                  </a:lnTo>
                  <a:lnTo>
                    <a:pt x="1998" y="1118"/>
                  </a:lnTo>
                  <a:lnTo>
                    <a:pt x="2008" y="1079"/>
                  </a:lnTo>
                  <a:lnTo>
                    <a:pt x="2018" y="1042"/>
                  </a:lnTo>
                  <a:lnTo>
                    <a:pt x="2026" y="1004"/>
                  </a:lnTo>
                  <a:lnTo>
                    <a:pt x="2033" y="967"/>
                  </a:lnTo>
                  <a:lnTo>
                    <a:pt x="2038" y="929"/>
                  </a:lnTo>
                  <a:lnTo>
                    <a:pt x="2042" y="893"/>
                  </a:lnTo>
                  <a:lnTo>
                    <a:pt x="2044" y="857"/>
                  </a:lnTo>
                  <a:lnTo>
                    <a:pt x="2045" y="821"/>
                  </a:lnTo>
                  <a:lnTo>
                    <a:pt x="2044" y="786"/>
                  </a:lnTo>
                  <a:lnTo>
                    <a:pt x="2041" y="751"/>
                  </a:lnTo>
                  <a:lnTo>
                    <a:pt x="2038" y="716"/>
                  </a:lnTo>
                  <a:lnTo>
                    <a:pt x="2031" y="681"/>
                  </a:lnTo>
                  <a:lnTo>
                    <a:pt x="2023" y="648"/>
                  </a:lnTo>
                  <a:lnTo>
                    <a:pt x="2013" y="615"/>
                  </a:lnTo>
                  <a:lnTo>
                    <a:pt x="2001" y="583"/>
                  </a:lnTo>
                  <a:lnTo>
                    <a:pt x="1987" y="550"/>
                  </a:lnTo>
                  <a:lnTo>
                    <a:pt x="1971" y="520"/>
                  </a:lnTo>
                  <a:lnTo>
                    <a:pt x="1953" y="489"/>
                  </a:lnTo>
                  <a:lnTo>
                    <a:pt x="1933" y="460"/>
                  </a:lnTo>
                  <a:lnTo>
                    <a:pt x="1910" y="431"/>
                  </a:lnTo>
                  <a:lnTo>
                    <a:pt x="1886" y="403"/>
                  </a:lnTo>
                  <a:lnTo>
                    <a:pt x="1859" y="377"/>
                  </a:lnTo>
                  <a:lnTo>
                    <a:pt x="1830" y="351"/>
                  </a:lnTo>
                  <a:lnTo>
                    <a:pt x="1799" y="326"/>
                  </a:lnTo>
                  <a:lnTo>
                    <a:pt x="1767" y="302"/>
                  </a:lnTo>
                  <a:lnTo>
                    <a:pt x="1732" y="280"/>
                  </a:lnTo>
                  <a:lnTo>
                    <a:pt x="1694" y="258"/>
                  </a:lnTo>
                  <a:lnTo>
                    <a:pt x="1656" y="237"/>
                  </a:lnTo>
                  <a:lnTo>
                    <a:pt x="1615" y="217"/>
                  </a:lnTo>
                  <a:lnTo>
                    <a:pt x="1572" y="198"/>
                  </a:lnTo>
                  <a:lnTo>
                    <a:pt x="1525" y="181"/>
                  </a:lnTo>
                  <a:lnTo>
                    <a:pt x="1477" y="164"/>
                  </a:lnTo>
                  <a:lnTo>
                    <a:pt x="1427" y="147"/>
                  </a:lnTo>
                  <a:lnTo>
                    <a:pt x="1374" y="131"/>
                  </a:lnTo>
                  <a:lnTo>
                    <a:pt x="1320" y="116"/>
                  </a:lnTo>
                  <a:lnTo>
                    <a:pt x="1262" y="104"/>
                  </a:lnTo>
                  <a:lnTo>
                    <a:pt x="1202" y="90"/>
                  </a:lnTo>
                  <a:lnTo>
                    <a:pt x="1139" y="79"/>
                  </a:lnTo>
                  <a:lnTo>
                    <a:pt x="1074" y="67"/>
                  </a:lnTo>
                  <a:lnTo>
                    <a:pt x="1007" y="57"/>
                  </a:lnTo>
                  <a:lnTo>
                    <a:pt x="936" y="47"/>
                  </a:lnTo>
                  <a:lnTo>
                    <a:pt x="863" y="39"/>
                  </a:lnTo>
                  <a:lnTo>
                    <a:pt x="787" y="31"/>
                  </a:lnTo>
                  <a:lnTo>
                    <a:pt x="708" y="24"/>
                  </a:lnTo>
                  <a:lnTo>
                    <a:pt x="626" y="18"/>
                  </a:lnTo>
                  <a:lnTo>
                    <a:pt x="542" y="13"/>
                  </a:lnTo>
                  <a:lnTo>
                    <a:pt x="454" y="8"/>
                  </a:lnTo>
                  <a:lnTo>
                    <a:pt x="364" y="5"/>
                  </a:lnTo>
                  <a:lnTo>
                    <a:pt x="270" y="3"/>
                  </a:lnTo>
                  <a:lnTo>
                    <a:pt x="174" y="1"/>
                  </a:lnTo>
                  <a:lnTo>
                    <a:pt x="74" y="0"/>
                  </a:lnTo>
                  <a:lnTo>
                    <a:pt x="7" y="41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4" y="9"/>
                  </a:lnTo>
                  <a:lnTo>
                    <a:pt x="29" y="14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10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3" y="121"/>
                  </a:lnTo>
                  <a:lnTo>
                    <a:pt x="18" y="126"/>
                  </a:lnTo>
                  <a:lnTo>
                    <a:pt x="23" y="131"/>
                  </a:lnTo>
                  <a:lnTo>
                    <a:pt x="29" y="135"/>
                  </a:lnTo>
                  <a:lnTo>
                    <a:pt x="34" y="140"/>
                  </a:lnTo>
                  <a:lnTo>
                    <a:pt x="42" y="143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5" y="149"/>
                  </a:lnTo>
                  <a:lnTo>
                    <a:pt x="74" y="149"/>
                  </a:lnTo>
                  <a:lnTo>
                    <a:pt x="14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4960800" y="4233960"/>
              <a:ext cx="98640" cy="76320"/>
            </a:xfrm>
            <a:custGeom>
              <a:avLst/>
              <a:gdLst/>
              <a:ahLst/>
              <a:rect l="l" t="t" r="r" b="b"/>
              <a:pathLst>
                <a:path w="313" h="237">
                  <a:moveTo>
                    <a:pt x="140" y="198"/>
                  </a:moveTo>
                  <a:lnTo>
                    <a:pt x="103" y="231"/>
                  </a:lnTo>
                  <a:lnTo>
                    <a:pt x="124" y="222"/>
                  </a:lnTo>
                  <a:lnTo>
                    <a:pt x="144" y="213"/>
                  </a:lnTo>
                  <a:lnTo>
                    <a:pt x="162" y="205"/>
                  </a:lnTo>
                  <a:lnTo>
                    <a:pt x="180" y="195"/>
                  </a:lnTo>
                  <a:lnTo>
                    <a:pt x="197" y="186"/>
                  </a:lnTo>
                  <a:lnTo>
                    <a:pt x="211" y="176"/>
                  </a:lnTo>
                  <a:lnTo>
                    <a:pt x="226" y="166"/>
                  </a:lnTo>
                  <a:lnTo>
                    <a:pt x="239" y="156"/>
                  </a:lnTo>
                  <a:lnTo>
                    <a:pt x="251" y="146"/>
                  </a:lnTo>
                  <a:lnTo>
                    <a:pt x="263" y="134"/>
                  </a:lnTo>
                  <a:lnTo>
                    <a:pt x="273" y="124"/>
                  </a:lnTo>
                  <a:lnTo>
                    <a:pt x="285" y="111"/>
                  </a:lnTo>
                  <a:lnTo>
                    <a:pt x="300" y="90"/>
                  </a:lnTo>
                  <a:lnTo>
                    <a:pt x="313" y="67"/>
                  </a:lnTo>
                  <a:lnTo>
                    <a:pt x="179" y="0"/>
                  </a:lnTo>
                  <a:lnTo>
                    <a:pt x="175" y="9"/>
                  </a:lnTo>
                  <a:lnTo>
                    <a:pt x="166" y="20"/>
                  </a:lnTo>
                  <a:lnTo>
                    <a:pt x="163" y="23"/>
                  </a:lnTo>
                  <a:lnTo>
                    <a:pt x="159" y="28"/>
                  </a:lnTo>
                  <a:lnTo>
                    <a:pt x="153" y="33"/>
                  </a:lnTo>
                  <a:lnTo>
                    <a:pt x="146" y="40"/>
                  </a:lnTo>
                  <a:lnTo>
                    <a:pt x="138" y="45"/>
                  </a:lnTo>
                  <a:lnTo>
                    <a:pt x="130" y="51"/>
                  </a:lnTo>
                  <a:lnTo>
                    <a:pt x="119" y="58"/>
                  </a:lnTo>
                  <a:lnTo>
                    <a:pt x="109" y="64"/>
                  </a:lnTo>
                  <a:lnTo>
                    <a:pt x="95" y="71"/>
                  </a:lnTo>
                  <a:lnTo>
                    <a:pt x="81" y="79"/>
                  </a:lnTo>
                  <a:lnTo>
                    <a:pt x="66" y="85"/>
                  </a:lnTo>
                  <a:lnTo>
                    <a:pt x="48" y="92"/>
                  </a:lnTo>
                  <a:lnTo>
                    <a:pt x="11" y="125"/>
                  </a:lnTo>
                  <a:lnTo>
                    <a:pt x="48" y="92"/>
                  </a:lnTo>
                  <a:lnTo>
                    <a:pt x="39" y="96"/>
                  </a:lnTo>
                  <a:lnTo>
                    <a:pt x="32" y="101"/>
                  </a:lnTo>
                  <a:lnTo>
                    <a:pt x="26" y="105"/>
                  </a:lnTo>
                  <a:lnTo>
                    <a:pt x="20" y="110"/>
                  </a:lnTo>
                  <a:lnTo>
                    <a:pt x="15" y="116"/>
                  </a:lnTo>
                  <a:lnTo>
                    <a:pt x="11" y="123"/>
                  </a:lnTo>
                  <a:lnTo>
                    <a:pt x="7" y="128"/>
                  </a:lnTo>
                  <a:lnTo>
                    <a:pt x="5" y="135"/>
                  </a:lnTo>
                  <a:lnTo>
                    <a:pt x="3" y="142"/>
                  </a:lnTo>
                  <a:lnTo>
                    <a:pt x="1" y="148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3" y="176"/>
                  </a:lnTo>
                  <a:lnTo>
                    <a:pt x="4" y="183"/>
                  </a:lnTo>
                  <a:lnTo>
                    <a:pt x="7" y="189"/>
                  </a:lnTo>
                  <a:lnTo>
                    <a:pt x="9" y="196"/>
                  </a:lnTo>
                  <a:lnTo>
                    <a:pt x="13" y="201"/>
                  </a:lnTo>
                  <a:lnTo>
                    <a:pt x="16" y="208"/>
                  </a:lnTo>
                  <a:lnTo>
                    <a:pt x="20" y="213"/>
                  </a:lnTo>
                  <a:lnTo>
                    <a:pt x="26" y="218"/>
                  </a:lnTo>
                  <a:lnTo>
                    <a:pt x="31" y="222"/>
                  </a:lnTo>
                  <a:lnTo>
                    <a:pt x="36" y="227"/>
                  </a:lnTo>
                  <a:lnTo>
                    <a:pt x="42" y="230"/>
                  </a:lnTo>
                  <a:lnTo>
                    <a:pt x="49" y="233"/>
                  </a:lnTo>
                  <a:lnTo>
                    <a:pt x="56" y="235"/>
                  </a:lnTo>
                  <a:lnTo>
                    <a:pt x="63" y="236"/>
                  </a:lnTo>
                  <a:lnTo>
                    <a:pt x="71" y="237"/>
                  </a:lnTo>
                  <a:lnTo>
                    <a:pt x="78" y="237"/>
                  </a:lnTo>
                  <a:lnTo>
                    <a:pt x="87" y="236"/>
                  </a:lnTo>
                  <a:lnTo>
                    <a:pt x="95" y="234"/>
                  </a:lnTo>
                  <a:lnTo>
                    <a:pt x="103" y="231"/>
                  </a:lnTo>
                  <a:lnTo>
                    <a:pt x="140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4251240" y="4481640"/>
              <a:ext cx="46080" cy="30240"/>
            </a:xfrm>
            <a:custGeom>
              <a:avLst/>
              <a:gdLst/>
              <a:ahLst/>
              <a:rect l="l" t="t" r="r" b="b"/>
              <a:pathLst>
                <a:path w="146" h="98">
                  <a:moveTo>
                    <a:pt x="142" y="98"/>
                  </a:moveTo>
                  <a:lnTo>
                    <a:pt x="144" y="89"/>
                  </a:lnTo>
                  <a:lnTo>
                    <a:pt x="146" y="81"/>
                  </a:lnTo>
                  <a:lnTo>
                    <a:pt x="146" y="72"/>
                  </a:lnTo>
                  <a:lnTo>
                    <a:pt x="146" y="65"/>
                  </a:lnTo>
                  <a:lnTo>
                    <a:pt x="145" y="58"/>
                  </a:lnTo>
                  <a:lnTo>
                    <a:pt x="143" y="50"/>
                  </a:lnTo>
                  <a:lnTo>
                    <a:pt x="139" y="44"/>
                  </a:lnTo>
                  <a:lnTo>
                    <a:pt x="136" y="38"/>
                  </a:lnTo>
                  <a:lnTo>
                    <a:pt x="133" y="31"/>
                  </a:lnTo>
                  <a:lnTo>
                    <a:pt x="129" y="26"/>
                  </a:lnTo>
                  <a:lnTo>
                    <a:pt x="124" y="21"/>
                  </a:lnTo>
                  <a:lnTo>
                    <a:pt x="118" y="17"/>
                  </a:lnTo>
                  <a:lnTo>
                    <a:pt x="113" y="12"/>
                  </a:lnTo>
                  <a:lnTo>
                    <a:pt x="107" y="9"/>
                  </a:lnTo>
                  <a:lnTo>
                    <a:pt x="101" y="6"/>
                  </a:lnTo>
                  <a:lnTo>
                    <a:pt x="94" y="4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6" y="3"/>
                  </a:lnTo>
                  <a:lnTo>
                    <a:pt x="40" y="5"/>
                  </a:lnTo>
                  <a:lnTo>
                    <a:pt x="33" y="8"/>
                  </a:lnTo>
                  <a:lnTo>
                    <a:pt x="27" y="12"/>
                  </a:lnTo>
                  <a:lnTo>
                    <a:pt x="22" y="17"/>
                  </a:lnTo>
                  <a:lnTo>
                    <a:pt x="17" y="22"/>
                  </a:lnTo>
                  <a:lnTo>
                    <a:pt x="11" y="28"/>
                  </a:lnTo>
                  <a:lnTo>
                    <a:pt x="7" y="35"/>
                  </a:lnTo>
                  <a:lnTo>
                    <a:pt x="3" y="43"/>
                  </a:lnTo>
                  <a:lnTo>
                    <a:pt x="0" y="51"/>
                  </a:lnTo>
                  <a:lnTo>
                    <a:pt x="142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4097160" y="4497480"/>
              <a:ext cx="198720" cy="155520"/>
            </a:xfrm>
            <a:custGeom>
              <a:avLst/>
              <a:gdLst/>
              <a:ahLst/>
              <a:rect l="l" t="t" r="r" b="b"/>
              <a:pathLst>
                <a:path w="625" h="489">
                  <a:moveTo>
                    <a:pt x="0" y="489"/>
                  </a:moveTo>
                  <a:lnTo>
                    <a:pt x="24" y="488"/>
                  </a:lnTo>
                  <a:lnTo>
                    <a:pt x="48" y="486"/>
                  </a:lnTo>
                  <a:lnTo>
                    <a:pt x="72" y="482"/>
                  </a:lnTo>
                  <a:lnTo>
                    <a:pt x="96" y="478"/>
                  </a:lnTo>
                  <a:lnTo>
                    <a:pt x="120" y="473"/>
                  </a:lnTo>
                  <a:lnTo>
                    <a:pt x="145" y="467"/>
                  </a:lnTo>
                  <a:lnTo>
                    <a:pt x="169" y="458"/>
                  </a:lnTo>
                  <a:lnTo>
                    <a:pt x="193" y="450"/>
                  </a:lnTo>
                  <a:lnTo>
                    <a:pt x="217" y="440"/>
                  </a:lnTo>
                  <a:lnTo>
                    <a:pt x="240" y="430"/>
                  </a:lnTo>
                  <a:lnTo>
                    <a:pt x="263" y="418"/>
                  </a:lnTo>
                  <a:lnTo>
                    <a:pt x="286" y="407"/>
                  </a:lnTo>
                  <a:lnTo>
                    <a:pt x="309" y="394"/>
                  </a:lnTo>
                  <a:lnTo>
                    <a:pt x="332" y="380"/>
                  </a:lnTo>
                  <a:lnTo>
                    <a:pt x="354" y="367"/>
                  </a:lnTo>
                  <a:lnTo>
                    <a:pt x="376" y="351"/>
                  </a:lnTo>
                  <a:lnTo>
                    <a:pt x="397" y="336"/>
                  </a:lnTo>
                  <a:lnTo>
                    <a:pt x="418" y="320"/>
                  </a:lnTo>
                  <a:lnTo>
                    <a:pt x="438" y="304"/>
                  </a:lnTo>
                  <a:lnTo>
                    <a:pt x="457" y="286"/>
                  </a:lnTo>
                  <a:lnTo>
                    <a:pt x="475" y="269"/>
                  </a:lnTo>
                  <a:lnTo>
                    <a:pt x="493" y="250"/>
                  </a:lnTo>
                  <a:lnTo>
                    <a:pt x="511" y="232"/>
                  </a:lnTo>
                  <a:lnTo>
                    <a:pt x="527" y="213"/>
                  </a:lnTo>
                  <a:lnTo>
                    <a:pt x="543" y="194"/>
                  </a:lnTo>
                  <a:lnTo>
                    <a:pt x="557" y="174"/>
                  </a:lnTo>
                  <a:lnTo>
                    <a:pt x="572" y="154"/>
                  </a:lnTo>
                  <a:lnTo>
                    <a:pt x="585" y="133"/>
                  </a:lnTo>
                  <a:lnTo>
                    <a:pt x="596" y="112"/>
                  </a:lnTo>
                  <a:lnTo>
                    <a:pt x="607" y="91"/>
                  </a:lnTo>
                  <a:lnTo>
                    <a:pt x="616" y="69"/>
                  </a:lnTo>
                  <a:lnTo>
                    <a:pt x="625" y="47"/>
                  </a:lnTo>
                  <a:lnTo>
                    <a:pt x="483" y="0"/>
                  </a:lnTo>
                  <a:lnTo>
                    <a:pt x="478" y="14"/>
                  </a:lnTo>
                  <a:lnTo>
                    <a:pt x="472" y="28"/>
                  </a:lnTo>
                  <a:lnTo>
                    <a:pt x="465" y="42"/>
                  </a:lnTo>
                  <a:lnTo>
                    <a:pt x="457" y="57"/>
                  </a:lnTo>
                  <a:lnTo>
                    <a:pt x="447" y="72"/>
                  </a:lnTo>
                  <a:lnTo>
                    <a:pt x="437" y="87"/>
                  </a:lnTo>
                  <a:lnTo>
                    <a:pt x="425" y="102"/>
                  </a:lnTo>
                  <a:lnTo>
                    <a:pt x="413" y="118"/>
                  </a:lnTo>
                  <a:lnTo>
                    <a:pt x="400" y="133"/>
                  </a:lnTo>
                  <a:lnTo>
                    <a:pt x="386" y="147"/>
                  </a:lnTo>
                  <a:lnTo>
                    <a:pt x="371" y="162"/>
                  </a:lnTo>
                  <a:lnTo>
                    <a:pt x="357" y="177"/>
                  </a:lnTo>
                  <a:lnTo>
                    <a:pt x="340" y="190"/>
                  </a:lnTo>
                  <a:lnTo>
                    <a:pt x="324" y="204"/>
                  </a:lnTo>
                  <a:lnTo>
                    <a:pt x="306" y="217"/>
                  </a:lnTo>
                  <a:lnTo>
                    <a:pt x="290" y="230"/>
                  </a:lnTo>
                  <a:lnTo>
                    <a:pt x="272" y="242"/>
                  </a:lnTo>
                  <a:lnTo>
                    <a:pt x="253" y="254"/>
                  </a:lnTo>
                  <a:lnTo>
                    <a:pt x="235" y="265"/>
                  </a:lnTo>
                  <a:lnTo>
                    <a:pt x="216" y="275"/>
                  </a:lnTo>
                  <a:lnTo>
                    <a:pt x="197" y="286"/>
                  </a:lnTo>
                  <a:lnTo>
                    <a:pt x="178" y="294"/>
                  </a:lnTo>
                  <a:lnTo>
                    <a:pt x="159" y="303"/>
                  </a:lnTo>
                  <a:lnTo>
                    <a:pt x="140" y="310"/>
                  </a:lnTo>
                  <a:lnTo>
                    <a:pt x="122" y="317"/>
                  </a:lnTo>
                  <a:lnTo>
                    <a:pt x="103" y="323"/>
                  </a:lnTo>
                  <a:lnTo>
                    <a:pt x="85" y="328"/>
                  </a:lnTo>
                  <a:lnTo>
                    <a:pt x="67" y="332"/>
                  </a:lnTo>
                  <a:lnTo>
                    <a:pt x="49" y="335"/>
                  </a:lnTo>
                  <a:lnTo>
                    <a:pt x="32" y="337"/>
                  </a:lnTo>
                  <a:lnTo>
                    <a:pt x="15" y="339"/>
                  </a:lnTo>
                  <a:lnTo>
                    <a:pt x="0" y="339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4073400" y="4605480"/>
              <a:ext cx="23760" cy="47520"/>
            </a:xfrm>
            <a:custGeom>
              <a:avLst/>
              <a:gdLst/>
              <a:ahLst/>
              <a:rect l="l" t="t" r="r" b="b"/>
              <a:pathLst>
                <a:path w="76" h="150">
                  <a:moveTo>
                    <a:pt x="76" y="0"/>
                  </a:moveTo>
                  <a:lnTo>
                    <a:pt x="66" y="0"/>
                  </a:lnTo>
                  <a:lnTo>
                    <a:pt x="58" y="3"/>
                  </a:lnTo>
                  <a:lnTo>
                    <a:pt x="49" y="5"/>
                  </a:lnTo>
                  <a:lnTo>
                    <a:pt x="42" y="7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4" y="19"/>
                  </a:lnTo>
                  <a:lnTo>
                    <a:pt x="19" y="24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5" y="102"/>
                  </a:lnTo>
                  <a:lnTo>
                    <a:pt x="7" y="110"/>
                  </a:lnTo>
                  <a:lnTo>
                    <a:pt x="11" y="115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4" y="132"/>
                  </a:lnTo>
                  <a:lnTo>
                    <a:pt x="30" y="136"/>
                  </a:lnTo>
                  <a:lnTo>
                    <a:pt x="36" y="140"/>
                  </a:lnTo>
                  <a:lnTo>
                    <a:pt x="42" y="143"/>
                  </a:lnTo>
                  <a:lnTo>
                    <a:pt x="49" y="146"/>
                  </a:lnTo>
                  <a:lnTo>
                    <a:pt x="58" y="149"/>
                  </a:lnTo>
                  <a:lnTo>
                    <a:pt x="66" y="150"/>
                  </a:lnTo>
                  <a:lnTo>
                    <a:pt x="76" y="15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4892760" y="4481640"/>
              <a:ext cx="46080" cy="30240"/>
            </a:xfrm>
            <a:custGeom>
              <a:avLst/>
              <a:gdLst/>
              <a:ahLst/>
              <a:rect l="l" t="t" r="r" b="b"/>
              <a:pathLst>
                <a:path w="146" h="98">
                  <a:moveTo>
                    <a:pt x="146" y="51"/>
                  </a:moveTo>
                  <a:lnTo>
                    <a:pt x="142" y="43"/>
                  </a:lnTo>
                  <a:lnTo>
                    <a:pt x="139" y="35"/>
                  </a:lnTo>
                  <a:lnTo>
                    <a:pt x="135" y="28"/>
                  </a:lnTo>
                  <a:lnTo>
                    <a:pt x="129" y="22"/>
                  </a:lnTo>
                  <a:lnTo>
                    <a:pt x="124" y="17"/>
                  </a:lnTo>
                  <a:lnTo>
                    <a:pt x="119" y="12"/>
                  </a:lnTo>
                  <a:lnTo>
                    <a:pt x="113" y="8"/>
                  </a:lnTo>
                  <a:lnTo>
                    <a:pt x="106" y="5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2" y="4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9" y="38"/>
                  </a:lnTo>
                  <a:lnTo>
                    <a:pt x="5" y="44"/>
                  </a:lnTo>
                  <a:lnTo>
                    <a:pt x="3" y="50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2" y="89"/>
                  </a:lnTo>
                  <a:lnTo>
                    <a:pt x="4" y="98"/>
                  </a:lnTo>
                  <a:lnTo>
                    <a:pt x="146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4894200" y="4497480"/>
              <a:ext cx="198360" cy="155520"/>
            </a:xfrm>
            <a:custGeom>
              <a:avLst/>
              <a:gdLst/>
              <a:ahLst/>
              <a:rect l="l" t="t" r="r" b="b"/>
              <a:pathLst>
                <a:path w="625" h="489">
                  <a:moveTo>
                    <a:pt x="625" y="339"/>
                  </a:moveTo>
                  <a:lnTo>
                    <a:pt x="609" y="339"/>
                  </a:lnTo>
                  <a:lnTo>
                    <a:pt x="593" y="337"/>
                  </a:lnTo>
                  <a:lnTo>
                    <a:pt x="576" y="335"/>
                  </a:lnTo>
                  <a:lnTo>
                    <a:pt x="558" y="332"/>
                  </a:lnTo>
                  <a:lnTo>
                    <a:pt x="540" y="328"/>
                  </a:lnTo>
                  <a:lnTo>
                    <a:pt x="521" y="323"/>
                  </a:lnTo>
                  <a:lnTo>
                    <a:pt x="503" y="317"/>
                  </a:lnTo>
                  <a:lnTo>
                    <a:pt x="485" y="310"/>
                  </a:lnTo>
                  <a:lnTo>
                    <a:pt x="466" y="303"/>
                  </a:lnTo>
                  <a:lnTo>
                    <a:pt x="447" y="294"/>
                  </a:lnTo>
                  <a:lnTo>
                    <a:pt x="428" y="286"/>
                  </a:lnTo>
                  <a:lnTo>
                    <a:pt x="409" y="275"/>
                  </a:lnTo>
                  <a:lnTo>
                    <a:pt x="390" y="265"/>
                  </a:lnTo>
                  <a:lnTo>
                    <a:pt x="371" y="254"/>
                  </a:lnTo>
                  <a:lnTo>
                    <a:pt x="353" y="243"/>
                  </a:lnTo>
                  <a:lnTo>
                    <a:pt x="335" y="230"/>
                  </a:lnTo>
                  <a:lnTo>
                    <a:pt x="318" y="217"/>
                  </a:lnTo>
                  <a:lnTo>
                    <a:pt x="301" y="204"/>
                  </a:lnTo>
                  <a:lnTo>
                    <a:pt x="284" y="190"/>
                  </a:lnTo>
                  <a:lnTo>
                    <a:pt x="268" y="177"/>
                  </a:lnTo>
                  <a:lnTo>
                    <a:pt x="254" y="162"/>
                  </a:lnTo>
                  <a:lnTo>
                    <a:pt x="239" y="147"/>
                  </a:lnTo>
                  <a:lnTo>
                    <a:pt x="225" y="133"/>
                  </a:lnTo>
                  <a:lnTo>
                    <a:pt x="212" y="118"/>
                  </a:lnTo>
                  <a:lnTo>
                    <a:pt x="199" y="102"/>
                  </a:lnTo>
                  <a:lnTo>
                    <a:pt x="188" y="87"/>
                  </a:lnTo>
                  <a:lnTo>
                    <a:pt x="178" y="72"/>
                  </a:lnTo>
                  <a:lnTo>
                    <a:pt x="168" y="57"/>
                  </a:lnTo>
                  <a:lnTo>
                    <a:pt x="160" y="42"/>
                  </a:lnTo>
                  <a:lnTo>
                    <a:pt x="153" y="28"/>
                  </a:lnTo>
                  <a:lnTo>
                    <a:pt x="146" y="14"/>
                  </a:lnTo>
                  <a:lnTo>
                    <a:pt x="142" y="0"/>
                  </a:lnTo>
                  <a:lnTo>
                    <a:pt x="0" y="47"/>
                  </a:lnTo>
                  <a:lnTo>
                    <a:pt x="9" y="69"/>
                  </a:lnTo>
                  <a:lnTo>
                    <a:pt x="18" y="91"/>
                  </a:lnTo>
                  <a:lnTo>
                    <a:pt x="29" y="112"/>
                  </a:lnTo>
                  <a:lnTo>
                    <a:pt x="40" y="133"/>
                  </a:lnTo>
                  <a:lnTo>
                    <a:pt x="53" y="154"/>
                  </a:lnTo>
                  <a:lnTo>
                    <a:pt x="67" y="174"/>
                  </a:lnTo>
                  <a:lnTo>
                    <a:pt x="82" y="194"/>
                  </a:lnTo>
                  <a:lnTo>
                    <a:pt x="98" y="213"/>
                  </a:lnTo>
                  <a:lnTo>
                    <a:pt x="114" y="232"/>
                  </a:lnTo>
                  <a:lnTo>
                    <a:pt x="132" y="250"/>
                  </a:lnTo>
                  <a:lnTo>
                    <a:pt x="150" y="269"/>
                  </a:lnTo>
                  <a:lnTo>
                    <a:pt x="168" y="286"/>
                  </a:lnTo>
                  <a:lnTo>
                    <a:pt x="187" y="304"/>
                  </a:lnTo>
                  <a:lnTo>
                    <a:pt x="207" y="320"/>
                  </a:lnTo>
                  <a:lnTo>
                    <a:pt x="228" y="336"/>
                  </a:lnTo>
                  <a:lnTo>
                    <a:pt x="249" y="351"/>
                  </a:lnTo>
                  <a:lnTo>
                    <a:pt x="270" y="366"/>
                  </a:lnTo>
                  <a:lnTo>
                    <a:pt x="292" y="380"/>
                  </a:lnTo>
                  <a:lnTo>
                    <a:pt x="315" y="394"/>
                  </a:lnTo>
                  <a:lnTo>
                    <a:pt x="338" y="407"/>
                  </a:lnTo>
                  <a:lnTo>
                    <a:pt x="361" y="418"/>
                  </a:lnTo>
                  <a:lnTo>
                    <a:pt x="384" y="430"/>
                  </a:lnTo>
                  <a:lnTo>
                    <a:pt x="408" y="440"/>
                  </a:lnTo>
                  <a:lnTo>
                    <a:pt x="432" y="450"/>
                  </a:lnTo>
                  <a:lnTo>
                    <a:pt x="455" y="458"/>
                  </a:lnTo>
                  <a:lnTo>
                    <a:pt x="479" y="467"/>
                  </a:lnTo>
                  <a:lnTo>
                    <a:pt x="503" y="473"/>
                  </a:lnTo>
                  <a:lnTo>
                    <a:pt x="529" y="478"/>
                  </a:lnTo>
                  <a:lnTo>
                    <a:pt x="553" y="482"/>
                  </a:lnTo>
                  <a:lnTo>
                    <a:pt x="577" y="486"/>
                  </a:lnTo>
                  <a:lnTo>
                    <a:pt x="601" y="488"/>
                  </a:lnTo>
                  <a:lnTo>
                    <a:pt x="625" y="489"/>
                  </a:lnTo>
                  <a:lnTo>
                    <a:pt x="625" y="3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092560" y="4605480"/>
              <a:ext cx="24120" cy="47520"/>
            </a:xfrm>
            <a:custGeom>
              <a:avLst/>
              <a:gdLst/>
              <a:ahLst/>
              <a:rect l="l" t="t" r="r" b="b"/>
              <a:pathLst>
                <a:path w="76" h="150">
                  <a:moveTo>
                    <a:pt x="0" y="150"/>
                  </a:moveTo>
                  <a:lnTo>
                    <a:pt x="10" y="150"/>
                  </a:lnTo>
                  <a:lnTo>
                    <a:pt x="18" y="149"/>
                  </a:lnTo>
                  <a:lnTo>
                    <a:pt x="26" y="146"/>
                  </a:lnTo>
                  <a:lnTo>
                    <a:pt x="33" y="143"/>
                  </a:lnTo>
                  <a:lnTo>
                    <a:pt x="40" y="140"/>
                  </a:lnTo>
                  <a:lnTo>
                    <a:pt x="46" y="136"/>
                  </a:lnTo>
                  <a:lnTo>
                    <a:pt x="52" y="132"/>
                  </a:lnTo>
                  <a:lnTo>
                    <a:pt x="57" y="126"/>
                  </a:lnTo>
                  <a:lnTo>
                    <a:pt x="61" y="121"/>
                  </a:lnTo>
                  <a:lnTo>
                    <a:pt x="64" y="115"/>
                  </a:lnTo>
                  <a:lnTo>
                    <a:pt x="68" y="110"/>
                  </a:lnTo>
                  <a:lnTo>
                    <a:pt x="71" y="102"/>
                  </a:lnTo>
                  <a:lnTo>
                    <a:pt x="73" y="96"/>
                  </a:lnTo>
                  <a:lnTo>
                    <a:pt x="74" y="89"/>
                  </a:lnTo>
                  <a:lnTo>
                    <a:pt x="75" y="82"/>
                  </a:lnTo>
                  <a:lnTo>
                    <a:pt x="76" y="75"/>
                  </a:lnTo>
                  <a:lnTo>
                    <a:pt x="75" y="69"/>
                  </a:lnTo>
                  <a:lnTo>
                    <a:pt x="74" y="61"/>
                  </a:lnTo>
                  <a:lnTo>
                    <a:pt x="73" y="54"/>
                  </a:lnTo>
                  <a:lnTo>
                    <a:pt x="71" y="48"/>
                  </a:lnTo>
                  <a:lnTo>
                    <a:pt x="68" y="41"/>
                  </a:lnTo>
                  <a:lnTo>
                    <a:pt x="64" y="35"/>
                  </a:lnTo>
                  <a:lnTo>
                    <a:pt x="61" y="30"/>
                  </a:lnTo>
                  <a:lnTo>
                    <a:pt x="57" y="24"/>
                  </a:lnTo>
                  <a:lnTo>
                    <a:pt x="52" y="19"/>
                  </a:lnTo>
                  <a:lnTo>
                    <a:pt x="46" y="14"/>
                  </a:lnTo>
                  <a:lnTo>
                    <a:pt x="40" y="10"/>
                  </a:lnTo>
                  <a:lnTo>
                    <a:pt x="33" y="7"/>
                  </a:lnTo>
                  <a:lnTo>
                    <a:pt x="26" y="5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3384720" y="4014720"/>
              <a:ext cx="874440" cy="1360800"/>
            </a:xfrm>
            <a:custGeom>
              <a:avLst/>
              <a:gdLst/>
              <a:ahLst/>
              <a:rect l="l" t="t" r="r" b="b"/>
              <a:pathLst>
                <a:path w="2758" h="4289">
                  <a:moveTo>
                    <a:pt x="0" y="735"/>
                  </a:moveTo>
                  <a:lnTo>
                    <a:pt x="5" y="1052"/>
                  </a:lnTo>
                  <a:lnTo>
                    <a:pt x="11" y="1367"/>
                  </a:lnTo>
                  <a:lnTo>
                    <a:pt x="17" y="1682"/>
                  </a:lnTo>
                  <a:lnTo>
                    <a:pt x="24" y="1997"/>
                  </a:lnTo>
                  <a:lnTo>
                    <a:pt x="29" y="2311"/>
                  </a:lnTo>
                  <a:lnTo>
                    <a:pt x="34" y="2626"/>
                  </a:lnTo>
                  <a:lnTo>
                    <a:pt x="38" y="2942"/>
                  </a:lnTo>
                  <a:lnTo>
                    <a:pt x="43" y="3259"/>
                  </a:lnTo>
                  <a:lnTo>
                    <a:pt x="89" y="3297"/>
                  </a:lnTo>
                  <a:lnTo>
                    <a:pt x="136" y="3336"/>
                  </a:lnTo>
                  <a:lnTo>
                    <a:pt x="185" y="3373"/>
                  </a:lnTo>
                  <a:lnTo>
                    <a:pt x="235" y="3411"/>
                  </a:lnTo>
                  <a:lnTo>
                    <a:pt x="337" y="3487"/>
                  </a:lnTo>
                  <a:lnTo>
                    <a:pt x="435" y="3560"/>
                  </a:lnTo>
                  <a:lnTo>
                    <a:pt x="484" y="3597"/>
                  </a:lnTo>
                  <a:lnTo>
                    <a:pt x="531" y="3634"/>
                  </a:lnTo>
                  <a:lnTo>
                    <a:pt x="576" y="3670"/>
                  </a:lnTo>
                  <a:lnTo>
                    <a:pt x="619" y="3704"/>
                  </a:lnTo>
                  <a:lnTo>
                    <a:pt x="659" y="3740"/>
                  </a:lnTo>
                  <a:lnTo>
                    <a:pt x="697" y="3774"/>
                  </a:lnTo>
                  <a:lnTo>
                    <a:pt x="714" y="3791"/>
                  </a:lnTo>
                  <a:lnTo>
                    <a:pt x="730" y="3808"/>
                  </a:lnTo>
                  <a:lnTo>
                    <a:pt x="745" y="3825"/>
                  </a:lnTo>
                  <a:lnTo>
                    <a:pt x="760" y="3842"/>
                  </a:lnTo>
                  <a:lnTo>
                    <a:pt x="789" y="3872"/>
                  </a:lnTo>
                  <a:lnTo>
                    <a:pt x="822" y="3904"/>
                  </a:lnTo>
                  <a:lnTo>
                    <a:pt x="860" y="3936"/>
                  </a:lnTo>
                  <a:lnTo>
                    <a:pt x="902" y="3969"/>
                  </a:lnTo>
                  <a:lnTo>
                    <a:pt x="947" y="4001"/>
                  </a:lnTo>
                  <a:lnTo>
                    <a:pt x="995" y="4034"/>
                  </a:lnTo>
                  <a:lnTo>
                    <a:pt x="1045" y="4066"/>
                  </a:lnTo>
                  <a:lnTo>
                    <a:pt x="1099" y="4097"/>
                  </a:lnTo>
                  <a:lnTo>
                    <a:pt x="1154" y="4127"/>
                  </a:lnTo>
                  <a:lnTo>
                    <a:pt x="1209" y="4156"/>
                  </a:lnTo>
                  <a:lnTo>
                    <a:pt x="1266" y="4182"/>
                  </a:lnTo>
                  <a:lnTo>
                    <a:pt x="1323" y="4206"/>
                  </a:lnTo>
                  <a:lnTo>
                    <a:pt x="1379" y="4228"/>
                  </a:lnTo>
                  <a:lnTo>
                    <a:pt x="1436" y="4247"/>
                  </a:lnTo>
                  <a:lnTo>
                    <a:pt x="1492" y="4263"/>
                  </a:lnTo>
                  <a:lnTo>
                    <a:pt x="1545" y="4275"/>
                  </a:lnTo>
                  <a:lnTo>
                    <a:pt x="1597" y="4284"/>
                  </a:lnTo>
                  <a:lnTo>
                    <a:pt x="1646" y="4289"/>
                  </a:lnTo>
                  <a:lnTo>
                    <a:pt x="1692" y="4289"/>
                  </a:lnTo>
                  <a:lnTo>
                    <a:pt x="1736" y="4285"/>
                  </a:lnTo>
                  <a:lnTo>
                    <a:pt x="1775" y="4275"/>
                  </a:lnTo>
                  <a:lnTo>
                    <a:pt x="1811" y="4261"/>
                  </a:lnTo>
                  <a:lnTo>
                    <a:pt x="1841" y="4240"/>
                  </a:lnTo>
                  <a:lnTo>
                    <a:pt x="1867" y="4213"/>
                  </a:lnTo>
                  <a:lnTo>
                    <a:pt x="1887" y="4181"/>
                  </a:lnTo>
                  <a:lnTo>
                    <a:pt x="1901" y="4141"/>
                  </a:lnTo>
                  <a:lnTo>
                    <a:pt x="1909" y="4095"/>
                  </a:lnTo>
                  <a:lnTo>
                    <a:pt x="1910" y="4041"/>
                  </a:lnTo>
                  <a:lnTo>
                    <a:pt x="1902" y="3980"/>
                  </a:lnTo>
                  <a:lnTo>
                    <a:pt x="1888" y="3912"/>
                  </a:lnTo>
                  <a:lnTo>
                    <a:pt x="1866" y="3834"/>
                  </a:lnTo>
                  <a:lnTo>
                    <a:pt x="1834" y="3749"/>
                  </a:lnTo>
                  <a:lnTo>
                    <a:pt x="1826" y="3728"/>
                  </a:lnTo>
                  <a:lnTo>
                    <a:pt x="1815" y="3708"/>
                  </a:lnTo>
                  <a:lnTo>
                    <a:pt x="1803" y="3692"/>
                  </a:lnTo>
                  <a:lnTo>
                    <a:pt x="1789" y="3675"/>
                  </a:lnTo>
                  <a:lnTo>
                    <a:pt x="1774" y="3660"/>
                  </a:lnTo>
                  <a:lnTo>
                    <a:pt x="1757" y="3646"/>
                  </a:lnTo>
                  <a:lnTo>
                    <a:pt x="1740" y="3634"/>
                  </a:lnTo>
                  <a:lnTo>
                    <a:pt x="1721" y="3622"/>
                  </a:lnTo>
                  <a:lnTo>
                    <a:pt x="1701" y="3611"/>
                  </a:lnTo>
                  <a:lnTo>
                    <a:pt x="1681" y="3600"/>
                  </a:lnTo>
                  <a:lnTo>
                    <a:pt x="1659" y="3591"/>
                  </a:lnTo>
                  <a:lnTo>
                    <a:pt x="1638" y="3581"/>
                  </a:lnTo>
                  <a:lnTo>
                    <a:pt x="1593" y="3562"/>
                  </a:lnTo>
                  <a:lnTo>
                    <a:pt x="1548" y="3543"/>
                  </a:lnTo>
                  <a:lnTo>
                    <a:pt x="1526" y="3533"/>
                  </a:lnTo>
                  <a:lnTo>
                    <a:pt x="1504" y="3522"/>
                  </a:lnTo>
                  <a:lnTo>
                    <a:pt x="1483" y="3511"/>
                  </a:lnTo>
                  <a:lnTo>
                    <a:pt x="1463" y="3498"/>
                  </a:lnTo>
                  <a:lnTo>
                    <a:pt x="1443" y="3485"/>
                  </a:lnTo>
                  <a:lnTo>
                    <a:pt x="1425" y="3470"/>
                  </a:lnTo>
                  <a:lnTo>
                    <a:pt x="1407" y="3454"/>
                  </a:lnTo>
                  <a:lnTo>
                    <a:pt x="1391" y="3438"/>
                  </a:lnTo>
                  <a:lnTo>
                    <a:pt x="1376" y="3419"/>
                  </a:lnTo>
                  <a:lnTo>
                    <a:pt x="1363" y="3398"/>
                  </a:lnTo>
                  <a:lnTo>
                    <a:pt x="1351" y="3376"/>
                  </a:lnTo>
                  <a:lnTo>
                    <a:pt x="1340" y="3351"/>
                  </a:lnTo>
                  <a:lnTo>
                    <a:pt x="1332" y="3324"/>
                  </a:lnTo>
                  <a:lnTo>
                    <a:pt x="1327" y="3296"/>
                  </a:lnTo>
                  <a:lnTo>
                    <a:pt x="1323" y="3264"/>
                  </a:lnTo>
                  <a:lnTo>
                    <a:pt x="1322" y="3230"/>
                  </a:lnTo>
                  <a:lnTo>
                    <a:pt x="2033" y="3173"/>
                  </a:lnTo>
                  <a:lnTo>
                    <a:pt x="2031" y="3120"/>
                  </a:lnTo>
                  <a:lnTo>
                    <a:pt x="2029" y="3071"/>
                  </a:lnTo>
                  <a:lnTo>
                    <a:pt x="2024" y="3025"/>
                  </a:lnTo>
                  <a:lnTo>
                    <a:pt x="2018" y="2981"/>
                  </a:lnTo>
                  <a:lnTo>
                    <a:pt x="2009" y="2940"/>
                  </a:lnTo>
                  <a:lnTo>
                    <a:pt x="2000" y="2902"/>
                  </a:lnTo>
                  <a:lnTo>
                    <a:pt x="1988" y="2866"/>
                  </a:lnTo>
                  <a:lnTo>
                    <a:pt x="1976" y="2833"/>
                  </a:lnTo>
                  <a:lnTo>
                    <a:pt x="1962" y="2801"/>
                  </a:lnTo>
                  <a:lnTo>
                    <a:pt x="1947" y="2771"/>
                  </a:lnTo>
                  <a:lnTo>
                    <a:pt x="1932" y="2742"/>
                  </a:lnTo>
                  <a:lnTo>
                    <a:pt x="1915" y="2716"/>
                  </a:lnTo>
                  <a:lnTo>
                    <a:pt x="1897" y="2690"/>
                  </a:lnTo>
                  <a:lnTo>
                    <a:pt x="1878" y="2666"/>
                  </a:lnTo>
                  <a:lnTo>
                    <a:pt x="1859" y="2642"/>
                  </a:lnTo>
                  <a:lnTo>
                    <a:pt x="1840" y="2617"/>
                  </a:lnTo>
                  <a:lnTo>
                    <a:pt x="1799" y="2572"/>
                  </a:lnTo>
                  <a:lnTo>
                    <a:pt x="1758" y="2526"/>
                  </a:lnTo>
                  <a:lnTo>
                    <a:pt x="1737" y="2503"/>
                  </a:lnTo>
                  <a:lnTo>
                    <a:pt x="1716" y="2479"/>
                  </a:lnTo>
                  <a:lnTo>
                    <a:pt x="1696" y="2455"/>
                  </a:lnTo>
                  <a:lnTo>
                    <a:pt x="1675" y="2428"/>
                  </a:lnTo>
                  <a:lnTo>
                    <a:pt x="1656" y="2401"/>
                  </a:lnTo>
                  <a:lnTo>
                    <a:pt x="1637" y="2373"/>
                  </a:lnTo>
                  <a:lnTo>
                    <a:pt x="1618" y="2343"/>
                  </a:lnTo>
                  <a:lnTo>
                    <a:pt x="1600" y="2312"/>
                  </a:lnTo>
                  <a:lnTo>
                    <a:pt x="1582" y="2278"/>
                  </a:lnTo>
                  <a:lnTo>
                    <a:pt x="1565" y="2243"/>
                  </a:lnTo>
                  <a:lnTo>
                    <a:pt x="1549" y="2205"/>
                  </a:lnTo>
                  <a:lnTo>
                    <a:pt x="1535" y="2164"/>
                  </a:lnTo>
                  <a:lnTo>
                    <a:pt x="1514" y="2092"/>
                  </a:lnTo>
                  <a:lnTo>
                    <a:pt x="1500" y="2026"/>
                  </a:lnTo>
                  <a:lnTo>
                    <a:pt x="1494" y="1964"/>
                  </a:lnTo>
                  <a:lnTo>
                    <a:pt x="1495" y="1906"/>
                  </a:lnTo>
                  <a:lnTo>
                    <a:pt x="1503" y="1852"/>
                  </a:lnTo>
                  <a:lnTo>
                    <a:pt x="1518" y="1801"/>
                  </a:lnTo>
                  <a:lnTo>
                    <a:pt x="1538" y="1754"/>
                  </a:lnTo>
                  <a:lnTo>
                    <a:pt x="1564" y="1710"/>
                  </a:lnTo>
                  <a:lnTo>
                    <a:pt x="1596" y="1669"/>
                  </a:lnTo>
                  <a:lnTo>
                    <a:pt x="1631" y="1630"/>
                  </a:lnTo>
                  <a:lnTo>
                    <a:pt x="1671" y="1596"/>
                  </a:lnTo>
                  <a:lnTo>
                    <a:pt x="1715" y="1562"/>
                  </a:lnTo>
                  <a:lnTo>
                    <a:pt x="1764" y="1531"/>
                  </a:lnTo>
                  <a:lnTo>
                    <a:pt x="1814" y="1502"/>
                  </a:lnTo>
                  <a:lnTo>
                    <a:pt x="1868" y="1475"/>
                  </a:lnTo>
                  <a:lnTo>
                    <a:pt x="1922" y="1449"/>
                  </a:lnTo>
                  <a:lnTo>
                    <a:pt x="1980" y="1425"/>
                  </a:lnTo>
                  <a:lnTo>
                    <a:pt x="2038" y="1402"/>
                  </a:lnTo>
                  <a:lnTo>
                    <a:pt x="2098" y="1380"/>
                  </a:lnTo>
                  <a:lnTo>
                    <a:pt x="2157" y="1357"/>
                  </a:lnTo>
                  <a:lnTo>
                    <a:pt x="2277" y="1315"/>
                  </a:lnTo>
                  <a:lnTo>
                    <a:pt x="2393" y="1273"/>
                  </a:lnTo>
                  <a:lnTo>
                    <a:pt x="2448" y="1252"/>
                  </a:lnTo>
                  <a:lnTo>
                    <a:pt x="2503" y="1230"/>
                  </a:lnTo>
                  <a:lnTo>
                    <a:pt x="2554" y="1208"/>
                  </a:lnTo>
                  <a:lnTo>
                    <a:pt x="2603" y="1184"/>
                  </a:lnTo>
                  <a:lnTo>
                    <a:pt x="2647" y="1160"/>
                  </a:lnTo>
                  <a:lnTo>
                    <a:pt x="2689" y="1134"/>
                  </a:lnTo>
                  <a:lnTo>
                    <a:pt x="2726" y="1105"/>
                  </a:lnTo>
                  <a:lnTo>
                    <a:pt x="2758" y="1076"/>
                  </a:lnTo>
                  <a:lnTo>
                    <a:pt x="2758" y="1068"/>
                  </a:lnTo>
                  <a:lnTo>
                    <a:pt x="2757" y="1055"/>
                  </a:lnTo>
                  <a:lnTo>
                    <a:pt x="2756" y="1049"/>
                  </a:lnTo>
                  <a:lnTo>
                    <a:pt x="2755" y="1041"/>
                  </a:lnTo>
                  <a:lnTo>
                    <a:pt x="2753" y="1036"/>
                  </a:lnTo>
                  <a:lnTo>
                    <a:pt x="2751" y="1031"/>
                  </a:lnTo>
                  <a:lnTo>
                    <a:pt x="2748" y="1027"/>
                  </a:lnTo>
                  <a:lnTo>
                    <a:pt x="2744" y="1026"/>
                  </a:lnTo>
                  <a:lnTo>
                    <a:pt x="2742" y="1026"/>
                  </a:lnTo>
                  <a:lnTo>
                    <a:pt x="2739" y="1026"/>
                  </a:lnTo>
                  <a:lnTo>
                    <a:pt x="2737" y="1027"/>
                  </a:lnTo>
                  <a:lnTo>
                    <a:pt x="2734" y="1029"/>
                  </a:lnTo>
                  <a:lnTo>
                    <a:pt x="2728" y="1035"/>
                  </a:lnTo>
                  <a:lnTo>
                    <a:pt x="2720" y="1045"/>
                  </a:lnTo>
                  <a:lnTo>
                    <a:pt x="2711" y="1058"/>
                  </a:lnTo>
                  <a:lnTo>
                    <a:pt x="2701" y="1076"/>
                  </a:lnTo>
                  <a:lnTo>
                    <a:pt x="2708" y="1055"/>
                  </a:lnTo>
                  <a:lnTo>
                    <a:pt x="2715" y="1033"/>
                  </a:lnTo>
                  <a:lnTo>
                    <a:pt x="2720" y="1010"/>
                  </a:lnTo>
                  <a:lnTo>
                    <a:pt x="2726" y="985"/>
                  </a:lnTo>
                  <a:lnTo>
                    <a:pt x="2730" y="960"/>
                  </a:lnTo>
                  <a:lnTo>
                    <a:pt x="2734" y="932"/>
                  </a:lnTo>
                  <a:lnTo>
                    <a:pt x="2737" y="904"/>
                  </a:lnTo>
                  <a:lnTo>
                    <a:pt x="2740" y="876"/>
                  </a:lnTo>
                  <a:lnTo>
                    <a:pt x="2741" y="846"/>
                  </a:lnTo>
                  <a:lnTo>
                    <a:pt x="2743" y="817"/>
                  </a:lnTo>
                  <a:lnTo>
                    <a:pt x="2743" y="786"/>
                  </a:lnTo>
                  <a:lnTo>
                    <a:pt x="2743" y="756"/>
                  </a:lnTo>
                  <a:lnTo>
                    <a:pt x="2742" y="724"/>
                  </a:lnTo>
                  <a:lnTo>
                    <a:pt x="2740" y="693"/>
                  </a:lnTo>
                  <a:lnTo>
                    <a:pt x="2737" y="662"/>
                  </a:lnTo>
                  <a:lnTo>
                    <a:pt x="2734" y="631"/>
                  </a:lnTo>
                  <a:lnTo>
                    <a:pt x="2730" y="599"/>
                  </a:lnTo>
                  <a:lnTo>
                    <a:pt x="2725" y="569"/>
                  </a:lnTo>
                  <a:lnTo>
                    <a:pt x="2719" y="538"/>
                  </a:lnTo>
                  <a:lnTo>
                    <a:pt x="2712" y="508"/>
                  </a:lnTo>
                  <a:lnTo>
                    <a:pt x="2705" y="479"/>
                  </a:lnTo>
                  <a:lnTo>
                    <a:pt x="2696" y="450"/>
                  </a:lnTo>
                  <a:lnTo>
                    <a:pt x="2687" y="422"/>
                  </a:lnTo>
                  <a:lnTo>
                    <a:pt x="2676" y="396"/>
                  </a:lnTo>
                  <a:lnTo>
                    <a:pt x="2665" y="369"/>
                  </a:lnTo>
                  <a:lnTo>
                    <a:pt x="2653" y="344"/>
                  </a:lnTo>
                  <a:lnTo>
                    <a:pt x="2639" y="320"/>
                  </a:lnTo>
                  <a:lnTo>
                    <a:pt x="2626" y="298"/>
                  </a:lnTo>
                  <a:lnTo>
                    <a:pt x="2610" y="277"/>
                  </a:lnTo>
                  <a:lnTo>
                    <a:pt x="2594" y="257"/>
                  </a:lnTo>
                  <a:lnTo>
                    <a:pt x="2578" y="239"/>
                  </a:lnTo>
                  <a:lnTo>
                    <a:pt x="2559" y="222"/>
                  </a:lnTo>
                  <a:lnTo>
                    <a:pt x="2523" y="193"/>
                  </a:lnTo>
                  <a:lnTo>
                    <a:pt x="2482" y="165"/>
                  </a:lnTo>
                  <a:lnTo>
                    <a:pt x="2437" y="139"/>
                  </a:lnTo>
                  <a:lnTo>
                    <a:pt x="2386" y="116"/>
                  </a:lnTo>
                  <a:lnTo>
                    <a:pt x="2332" y="96"/>
                  </a:lnTo>
                  <a:lnTo>
                    <a:pt x="2274" y="78"/>
                  </a:lnTo>
                  <a:lnTo>
                    <a:pt x="2213" y="61"/>
                  </a:lnTo>
                  <a:lnTo>
                    <a:pt x="2149" y="46"/>
                  </a:lnTo>
                  <a:lnTo>
                    <a:pt x="2082" y="34"/>
                  </a:lnTo>
                  <a:lnTo>
                    <a:pt x="2013" y="24"/>
                  </a:lnTo>
                  <a:lnTo>
                    <a:pt x="1940" y="16"/>
                  </a:lnTo>
                  <a:lnTo>
                    <a:pt x="1868" y="9"/>
                  </a:lnTo>
                  <a:lnTo>
                    <a:pt x="1793" y="4"/>
                  </a:lnTo>
                  <a:lnTo>
                    <a:pt x="1716" y="2"/>
                  </a:lnTo>
                  <a:lnTo>
                    <a:pt x="1641" y="0"/>
                  </a:lnTo>
                  <a:lnTo>
                    <a:pt x="1563" y="1"/>
                  </a:lnTo>
                  <a:lnTo>
                    <a:pt x="1486" y="3"/>
                  </a:lnTo>
                  <a:lnTo>
                    <a:pt x="1410" y="6"/>
                  </a:lnTo>
                  <a:lnTo>
                    <a:pt x="1333" y="11"/>
                  </a:lnTo>
                  <a:lnTo>
                    <a:pt x="1259" y="19"/>
                  </a:lnTo>
                  <a:lnTo>
                    <a:pt x="1184" y="27"/>
                  </a:lnTo>
                  <a:lnTo>
                    <a:pt x="1112" y="37"/>
                  </a:lnTo>
                  <a:lnTo>
                    <a:pt x="1041" y="47"/>
                  </a:lnTo>
                  <a:lnTo>
                    <a:pt x="973" y="59"/>
                  </a:lnTo>
                  <a:lnTo>
                    <a:pt x="908" y="72"/>
                  </a:lnTo>
                  <a:lnTo>
                    <a:pt x="845" y="87"/>
                  </a:lnTo>
                  <a:lnTo>
                    <a:pt x="785" y="102"/>
                  </a:lnTo>
                  <a:lnTo>
                    <a:pt x="729" y="118"/>
                  </a:lnTo>
                  <a:lnTo>
                    <a:pt x="677" y="136"/>
                  </a:lnTo>
                  <a:lnTo>
                    <a:pt x="629" y="155"/>
                  </a:lnTo>
                  <a:lnTo>
                    <a:pt x="585" y="174"/>
                  </a:lnTo>
                  <a:lnTo>
                    <a:pt x="547" y="194"/>
                  </a:lnTo>
                  <a:lnTo>
                    <a:pt x="507" y="219"/>
                  </a:lnTo>
                  <a:lnTo>
                    <a:pt x="468" y="246"/>
                  </a:lnTo>
                  <a:lnTo>
                    <a:pt x="430" y="273"/>
                  </a:lnTo>
                  <a:lnTo>
                    <a:pt x="392" y="301"/>
                  </a:lnTo>
                  <a:lnTo>
                    <a:pt x="356" y="331"/>
                  </a:lnTo>
                  <a:lnTo>
                    <a:pt x="320" y="362"/>
                  </a:lnTo>
                  <a:lnTo>
                    <a:pt x="284" y="394"/>
                  </a:lnTo>
                  <a:lnTo>
                    <a:pt x="249" y="427"/>
                  </a:lnTo>
                  <a:lnTo>
                    <a:pt x="215" y="462"/>
                  </a:lnTo>
                  <a:lnTo>
                    <a:pt x="182" y="498"/>
                  </a:lnTo>
                  <a:lnTo>
                    <a:pt x="150" y="534"/>
                  </a:lnTo>
                  <a:lnTo>
                    <a:pt x="118" y="572"/>
                  </a:lnTo>
                  <a:lnTo>
                    <a:pt x="87" y="611"/>
                  </a:lnTo>
                  <a:lnTo>
                    <a:pt x="57" y="652"/>
                  </a:lnTo>
                  <a:lnTo>
                    <a:pt x="28" y="693"/>
                  </a:lnTo>
                  <a:lnTo>
                    <a:pt x="0" y="735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360600" y="4246560"/>
              <a:ext cx="60480" cy="825480"/>
            </a:xfrm>
            <a:custGeom>
              <a:avLst/>
              <a:gdLst/>
              <a:ahLst/>
              <a:rect l="l" t="t" r="r" b="b"/>
              <a:pathLst>
                <a:path w="191" h="2599">
                  <a:moveTo>
                    <a:pt x="166" y="2468"/>
                  </a:moveTo>
                  <a:lnTo>
                    <a:pt x="191" y="2524"/>
                  </a:lnTo>
                  <a:lnTo>
                    <a:pt x="188" y="2207"/>
                  </a:lnTo>
                  <a:lnTo>
                    <a:pt x="184" y="1892"/>
                  </a:lnTo>
                  <a:lnTo>
                    <a:pt x="178" y="1576"/>
                  </a:lnTo>
                  <a:lnTo>
                    <a:pt x="173" y="1262"/>
                  </a:lnTo>
                  <a:lnTo>
                    <a:pt x="167" y="947"/>
                  </a:lnTo>
                  <a:lnTo>
                    <a:pt x="161" y="632"/>
                  </a:lnTo>
                  <a:lnTo>
                    <a:pt x="154" y="316"/>
                  </a:lnTo>
                  <a:lnTo>
                    <a:pt x="149" y="0"/>
                  </a:lnTo>
                  <a:lnTo>
                    <a:pt x="0" y="2"/>
                  </a:lnTo>
                  <a:lnTo>
                    <a:pt x="5" y="319"/>
                  </a:lnTo>
                  <a:lnTo>
                    <a:pt x="12" y="634"/>
                  </a:lnTo>
                  <a:lnTo>
                    <a:pt x="18" y="950"/>
                  </a:lnTo>
                  <a:lnTo>
                    <a:pt x="24" y="1264"/>
                  </a:lnTo>
                  <a:lnTo>
                    <a:pt x="29" y="1579"/>
                  </a:lnTo>
                  <a:lnTo>
                    <a:pt x="35" y="1893"/>
                  </a:lnTo>
                  <a:lnTo>
                    <a:pt x="40" y="2209"/>
                  </a:lnTo>
                  <a:lnTo>
                    <a:pt x="43" y="2525"/>
                  </a:lnTo>
                  <a:lnTo>
                    <a:pt x="68" y="2581"/>
                  </a:lnTo>
                  <a:lnTo>
                    <a:pt x="43" y="2525"/>
                  </a:lnTo>
                  <a:lnTo>
                    <a:pt x="43" y="2534"/>
                  </a:lnTo>
                  <a:lnTo>
                    <a:pt x="44" y="2543"/>
                  </a:lnTo>
                  <a:lnTo>
                    <a:pt x="46" y="2550"/>
                  </a:lnTo>
                  <a:lnTo>
                    <a:pt x="49" y="2558"/>
                  </a:lnTo>
                  <a:lnTo>
                    <a:pt x="52" y="2564"/>
                  </a:lnTo>
                  <a:lnTo>
                    <a:pt x="57" y="2570"/>
                  </a:lnTo>
                  <a:lnTo>
                    <a:pt x="61" y="2575"/>
                  </a:lnTo>
                  <a:lnTo>
                    <a:pt x="66" y="2581"/>
                  </a:lnTo>
                  <a:lnTo>
                    <a:pt x="71" y="2585"/>
                  </a:lnTo>
                  <a:lnTo>
                    <a:pt x="78" y="2589"/>
                  </a:lnTo>
                  <a:lnTo>
                    <a:pt x="84" y="2592"/>
                  </a:lnTo>
                  <a:lnTo>
                    <a:pt x="90" y="2594"/>
                  </a:lnTo>
                  <a:lnTo>
                    <a:pt x="97" y="2596"/>
                  </a:lnTo>
                  <a:lnTo>
                    <a:pt x="104" y="2597"/>
                  </a:lnTo>
                  <a:lnTo>
                    <a:pt x="110" y="2599"/>
                  </a:lnTo>
                  <a:lnTo>
                    <a:pt x="118" y="2599"/>
                  </a:lnTo>
                  <a:lnTo>
                    <a:pt x="125" y="2599"/>
                  </a:lnTo>
                  <a:lnTo>
                    <a:pt x="131" y="2597"/>
                  </a:lnTo>
                  <a:lnTo>
                    <a:pt x="139" y="2596"/>
                  </a:lnTo>
                  <a:lnTo>
                    <a:pt x="145" y="2594"/>
                  </a:lnTo>
                  <a:lnTo>
                    <a:pt x="151" y="2591"/>
                  </a:lnTo>
                  <a:lnTo>
                    <a:pt x="157" y="2588"/>
                  </a:lnTo>
                  <a:lnTo>
                    <a:pt x="163" y="2585"/>
                  </a:lnTo>
                  <a:lnTo>
                    <a:pt x="169" y="2580"/>
                  </a:lnTo>
                  <a:lnTo>
                    <a:pt x="173" y="2575"/>
                  </a:lnTo>
                  <a:lnTo>
                    <a:pt x="178" y="2569"/>
                  </a:lnTo>
                  <a:lnTo>
                    <a:pt x="182" y="2564"/>
                  </a:lnTo>
                  <a:lnTo>
                    <a:pt x="185" y="2557"/>
                  </a:lnTo>
                  <a:lnTo>
                    <a:pt x="188" y="2549"/>
                  </a:lnTo>
                  <a:lnTo>
                    <a:pt x="190" y="2542"/>
                  </a:lnTo>
                  <a:lnTo>
                    <a:pt x="191" y="2533"/>
                  </a:lnTo>
                  <a:lnTo>
                    <a:pt x="191" y="2524"/>
                  </a:lnTo>
                  <a:lnTo>
                    <a:pt x="166" y="24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3381480" y="5031000"/>
              <a:ext cx="268200" cy="226800"/>
            </a:xfrm>
            <a:custGeom>
              <a:avLst/>
              <a:gdLst/>
              <a:ahLst/>
              <a:rect l="l" t="t" r="r" b="b"/>
              <a:pathLst>
                <a:path w="843" h="715">
                  <a:moveTo>
                    <a:pt x="823" y="590"/>
                  </a:moveTo>
                  <a:lnTo>
                    <a:pt x="825" y="591"/>
                  </a:lnTo>
                  <a:lnTo>
                    <a:pt x="808" y="573"/>
                  </a:lnTo>
                  <a:lnTo>
                    <a:pt x="791" y="555"/>
                  </a:lnTo>
                  <a:lnTo>
                    <a:pt x="773" y="537"/>
                  </a:lnTo>
                  <a:lnTo>
                    <a:pt x="754" y="518"/>
                  </a:lnTo>
                  <a:lnTo>
                    <a:pt x="716" y="482"/>
                  </a:lnTo>
                  <a:lnTo>
                    <a:pt x="674" y="446"/>
                  </a:lnTo>
                  <a:lnTo>
                    <a:pt x="629" y="409"/>
                  </a:lnTo>
                  <a:lnTo>
                    <a:pt x="584" y="373"/>
                  </a:lnTo>
                  <a:lnTo>
                    <a:pt x="537" y="336"/>
                  </a:lnTo>
                  <a:lnTo>
                    <a:pt x="487" y="299"/>
                  </a:lnTo>
                  <a:lnTo>
                    <a:pt x="388" y="225"/>
                  </a:lnTo>
                  <a:lnTo>
                    <a:pt x="287" y="150"/>
                  </a:lnTo>
                  <a:lnTo>
                    <a:pt x="238" y="113"/>
                  </a:lnTo>
                  <a:lnTo>
                    <a:pt x="189" y="75"/>
                  </a:lnTo>
                  <a:lnTo>
                    <a:pt x="143" y="37"/>
                  </a:lnTo>
                  <a:lnTo>
                    <a:pt x="98" y="0"/>
                  </a:lnTo>
                  <a:lnTo>
                    <a:pt x="0" y="113"/>
                  </a:lnTo>
                  <a:lnTo>
                    <a:pt x="49" y="153"/>
                  </a:lnTo>
                  <a:lnTo>
                    <a:pt x="97" y="191"/>
                  </a:lnTo>
                  <a:lnTo>
                    <a:pt x="147" y="230"/>
                  </a:lnTo>
                  <a:lnTo>
                    <a:pt x="198" y="269"/>
                  </a:lnTo>
                  <a:lnTo>
                    <a:pt x="298" y="345"/>
                  </a:lnTo>
                  <a:lnTo>
                    <a:pt x="398" y="418"/>
                  </a:lnTo>
                  <a:lnTo>
                    <a:pt x="445" y="455"/>
                  </a:lnTo>
                  <a:lnTo>
                    <a:pt x="493" y="490"/>
                  </a:lnTo>
                  <a:lnTo>
                    <a:pt x="537" y="525"/>
                  </a:lnTo>
                  <a:lnTo>
                    <a:pt x="578" y="559"/>
                  </a:lnTo>
                  <a:lnTo>
                    <a:pt x="617" y="593"/>
                  </a:lnTo>
                  <a:lnTo>
                    <a:pt x="652" y="626"/>
                  </a:lnTo>
                  <a:lnTo>
                    <a:pt x="668" y="642"/>
                  </a:lnTo>
                  <a:lnTo>
                    <a:pt x="683" y="658"/>
                  </a:lnTo>
                  <a:lnTo>
                    <a:pt x="697" y="672"/>
                  </a:lnTo>
                  <a:lnTo>
                    <a:pt x="710" y="687"/>
                  </a:lnTo>
                  <a:lnTo>
                    <a:pt x="711" y="688"/>
                  </a:lnTo>
                  <a:lnTo>
                    <a:pt x="710" y="687"/>
                  </a:lnTo>
                  <a:lnTo>
                    <a:pt x="716" y="694"/>
                  </a:lnTo>
                  <a:lnTo>
                    <a:pt x="723" y="700"/>
                  </a:lnTo>
                  <a:lnTo>
                    <a:pt x="729" y="705"/>
                  </a:lnTo>
                  <a:lnTo>
                    <a:pt x="736" y="708"/>
                  </a:lnTo>
                  <a:lnTo>
                    <a:pt x="743" y="711"/>
                  </a:lnTo>
                  <a:lnTo>
                    <a:pt x="750" y="713"/>
                  </a:lnTo>
                  <a:lnTo>
                    <a:pt x="756" y="714"/>
                  </a:lnTo>
                  <a:lnTo>
                    <a:pt x="764" y="715"/>
                  </a:lnTo>
                  <a:lnTo>
                    <a:pt x="771" y="715"/>
                  </a:lnTo>
                  <a:lnTo>
                    <a:pt x="777" y="714"/>
                  </a:lnTo>
                  <a:lnTo>
                    <a:pt x="785" y="713"/>
                  </a:lnTo>
                  <a:lnTo>
                    <a:pt x="791" y="711"/>
                  </a:lnTo>
                  <a:lnTo>
                    <a:pt x="797" y="708"/>
                  </a:lnTo>
                  <a:lnTo>
                    <a:pt x="804" y="705"/>
                  </a:lnTo>
                  <a:lnTo>
                    <a:pt x="810" y="701"/>
                  </a:lnTo>
                  <a:lnTo>
                    <a:pt x="815" y="696"/>
                  </a:lnTo>
                  <a:lnTo>
                    <a:pt x="820" y="692"/>
                  </a:lnTo>
                  <a:lnTo>
                    <a:pt x="825" y="687"/>
                  </a:lnTo>
                  <a:lnTo>
                    <a:pt x="829" y="682"/>
                  </a:lnTo>
                  <a:lnTo>
                    <a:pt x="833" y="675"/>
                  </a:lnTo>
                  <a:lnTo>
                    <a:pt x="836" y="669"/>
                  </a:lnTo>
                  <a:lnTo>
                    <a:pt x="839" y="663"/>
                  </a:lnTo>
                  <a:lnTo>
                    <a:pt x="841" y="657"/>
                  </a:lnTo>
                  <a:lnTo>
                    <a:pt x="842" y="649"/>
                  </a:lnTo>
                  <a:lnTo>
                    <a:pt x="843" y="643"/>
                  </a:lnTo>
                  <a:lnTo>
                    <a:pt x="842" y="636"/>
                  </a:lnTo>
                  <a:lnTo>
                    <a:pt x="842" y="628"/>
                  </a:lnTo>
                  <a:lnTo>
                    <a:pt x="840" y="621"/>
                  </a:lnTo>
                  <a:lnTo>
                    <a:pt x="838" y="614"/>
                  </a:lnTo>
                  <a:lnTo>
                    <a:pt x="834" y="606"/>
                  </a:lnTo>
                  <a:lnTo>
                    <a:pt x="830" y="599"/>
                  </a:lnTo>
                  <a:lnTo>
                    <a:pt x="825" y="591"/>
                  </a:lnTo>
                  <a:lnTo>
                    <a:pt x="823" y="5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3608280" y="5180040"/>
              <a:ext cx="406440" cy="219240"/>
            </a:xfrm>
            <a:custGeom>
              <a:avLst/>
              <a:gdLst/>
              <a:ahLst/>
              <a:rect l="l" t="t" r="r" b="b"/>
              <a:pathLst>
                <a:path w="1280" h="690">
                  <a:moveTo>
                    <a:pt x="1060" y="98"/>
                  </a:moveTo>
                  <a:lnTo>
                    <a:pt x="1061" y="103"/>
                  </a:lnTo>
                  <a:lnTo>
                    <a:pt x="1076" y="145"/>
                  </a:lnTo>
                  <a:lnTo>
                    <a:pt x="1091" y="185"/>
                  </a:lnTo>
                  <a:lnTo>
                    <a:pt x="1103" y="221"/>
                  </a:lnTo>
                  <a:lnTo>
                    <a:pt x="1112" y="256"/>
                  </a:lnTo>
                  <a:lnTo>
                    <a:pt x="1120" y="289"/>
                  </a:lnTo>
                  <a:lnTo>
                    <a:pt x="1125" y="319"/>
                  </a:lnTo>
                  <a:lnTo>
                    <a:pt x="1129" y="346"/>
                  </a:lnTo>
                  <a:lnTo>
                    <a:pt x="1131" y="371"/>
                  </a:lnTo>
                  <a:lnTo>
                    <a:pt x="1131" y="395"/>
                  </a:lnTo>
                  <a:lnTo>
                    <a:pt x="1130" y="416"/>
                  </a:lnTo>
                  <a:lnTo>
                    <a:pt x="1128" y="433"/>
                  </a:lnTo>
                  <a:lnTo>
                    <a:pt x="1125" y="449"/>
                  </a:lnTo>
                  <a:lnTo>
                    <a:pt x="1121" y="463"/>
                  </a:lnTo>
                  <a:lnTo>
                    <a:pt x="1115" y="475"/>
                  </a:lnTo>
                  <a:lnTo>
                    <a:pt x="1110" y="485"/>
                  </a:lnTo>
                  <a:lnTo>
                    <a:pt x="1104" y="494"/>
                  </a:lnTo>
                  <a:lnTo>
                    <a:pt x="1097" y="502"/>
                  </a:lnTo>
                  <a:lnTo>
                    <a:pt x="1090" y="508"/>
                  </a:lnTo>
                  <a:lnTo>
                    <a:pt x="1082" y="514"/>
                  </a:lnTo>
                  <a:lnTo>
                    <a:pt x="1071" y="521"/>
                  </a:lnTo>
                  <a:lnTo>
                    <a:pt x="1061" y="526"/>
                  </a:lnTo>
                  <a:lnTo>
                    <a:pt x="1048" y="530"/>
                  </a:lnTo>
                  <a:lnTo>
                    <a:pt x="1034" y="534"/>
                  </a:lnTo>
                  <a:lnTo>
                    <a:pt x="1020" y="537"/>
                  </a:lnTo>
                  <a:lnTo>
                    <a:pt x="1003" y="539"/>
                  </a:lnTo>
                  <a:lnTo>
                    <a:pt x="985" y="541"/>
                  </a:lnTo>
                  <a:lnTo>
                    <a:pt x="966" y="541"/>
                  </a:lnTo>
                  <a:lnTo>
                    <a:pt x="946" y="541"/>
                  </a:lnTo>
                  <a:lnTo>
                    <a:pt x="924" y="538"/>
                  </a:lnTo>
                  <a:lnTo>
                    <a:pt x="902" y="536"/>
                  </a:lnTo>
                  <a:lnTo>
                    <a:pt x="879" y="532"/>
                  </a:lnTo>
                  <a:lnTo>
                    <a:pt x="856" y="528"/>
                  </a:lnTo>
                  <a:lnTo>
                    <a:pt x="831" y="523"/>
                  </a:lnTo>
                  <a:lnTo>
                    <a:pt x="806" y="516"/>
                  </a:lnTo>
                  <a:lnTo>
                    <a:pt x="780" y="509"/>
                  </a:lnTo>
                  <a:lnTo>
                    <a:pt x="754" y="502"/>
                  </a:lnTo>
                  <a:lnTo>
                    <a:pt x="728" y="493"/>
                  </a:lnTo>
                  <a:lnTo>
                    <a:pt x="702" y="484"/>
                  </a:lnTo>
                  <a:lnTo>
                    <a:pt x="674" y="474"/>
                  </a:lnTo>
                  <a:lnTo>
                    <a:pt x="647" y="463"/>
                  </a:lnTo>
                  <a:lnTo>
                    <a:pt x="620" y="451"/>
                  </a:lnTo>
                  <a:lnTo>
                    <a:pt x="592" y="440"/>
                  </a:lnTo>
                  <a:lnTo>
                    <a:pt x="565" y="427"/>
                  </a:lnTo>
                  <a:lnTo>
                    <a:pt x="539" y="415"/>
                  </a:lnTo>
                  <a:lnTo>
                    <a:pt x="484" y="387"/>
                  </a:lnTo>
                  <a:lnTo>
                    <a:pt x="432" y="359"/>
                  </a:lnTo>
                  <a:lnTo>
                    <a:pt x="380" y="328"/>
                  </a:lnTo>
                  <a:lnTo>
                    <a:pt x="332" y="298"/>
                  </a:lnTo>
                  <a:lnTo>
                    <a:pt x="286" y="266"/>
                  </a:lnTo>
                  <a:lnTo>
                    <a:pt x="242" y="235"/>
                  </a:lnTo>
                  <a:lnTo>
                    <a:pt x="222" y="220"/>
                  </a:lnTo>
                  <a:lnTo>
                    <a:pt x="203" y="205"/>
                  </a:lnTo>
                  <a:lnTo>
                    <a:pt x="185" y="190"/>
                  </a:lnTo>
                  <a:lnTo>
                    <a:pt x="168" y="174"/>
                  </a:lnTo>
                  <a:lnTo>
                    <a:pt x="152" y="160"/>
                  </a:lnTo>
                  <a:lnTo>
                    <a:pt x="138" y="146"/>
                  </a:lnTo>
                  <a:lnTo>
                    <a:pt x="124" y="132"/>
                  </a:lnTo>
                  <a:lnTo>
                    <a:pt x="112" y="118"/>
                  </a:lnTo>
                  <a:lnTo>
                    <a:pt x="0" y="216"/>
                  </a:lnTo>
                  <a:lnTo>
                    <a:pt x="15" y="234"/>
                  </a:lnTo>
                  <a:lnTo>
                    <a:pt x="32" y="251"/>
                  </a:lnTo>
                  <a:lnTo>
                    <a:pt x="49" y="268"/>
                  </a:lnTo>
                  <a:lnTo>
                    <a:pt x="68" y="285"/>
                  </a:lnTo>
                  <a:lnTo>
                    <a:pt x="88" y="302"/>
                  </a:lnTo>
                  <a:lnTo>
                    <a:pt x="108" y="320"/>
                  </a:lnTo>
                  <a:lnTo>
                    <a:pt x="130" y="337"/>
                  </a:lnTo>
                  <a:lnTo>
                    <a:pt x="153" y="355"/>
                  </a:lnTo>
                  <a:lnTo>
                    <a:pt x="201" y="388"/>
                  </a:lnTo>
                  <a:lnTo>
                    <a:pt x="250" y="423"/>
                  </a:lnTo>
                  <a:lnTo>
                    <a:pt x="304" y="455"/>
                  </a:lnTo>
                  <a:lnTo>
                    <a:pt x="358" y="488"/>
                  </a:lnTo>
                  <a:lnTo>
                    <a:pt x="415" y="518"/>
                  </a:lnTo>
                  <a:lnTo>
                    <a:pt x="472" y="548"/>
                  </a:lnTo>
                  <a:lnTo>
                    <a:pt x="502" y="563"/>
                  </a:lnTo>
                  <a:lnTo>
                    <a:pt x="531" y="575"/>
                  </a:lnTo>
                  <a:lnTo>
                    <a:pt x="561" y="589"/>
                  </a:lnTo>
                  <a:lnTo>
                    <a:pt x="591" y="601"/>
                  </a:lnTo>
                  <a:lnTo>
                    <a:pt x="621" y="613"/>
                  </a:lnTo>
                  <a:lnTo>
                    <a:pt x="650" y="623"/>
                  </a:lnTo>
                  <a:lnTo>
                    <a:pt x="681" y="634"/>
                  </a:lnTo>
                  <a:lnTo>
                    <a:pt x="710" y="644"/>
                  </a:lnTo>
                  <a:lnTo>
                    <a:pt x="739" y="653"/>
                  </a:lnTo>
                  <a:lnTo>
                    <a:pt x="769" y="661"/>
                  </a:lnTo>
                  <a:lnTo>
                    <a:pt x="797" y="669"/>
                  </a:lnTo>
                  <a:lnTo>
                    <a:pt x="827" y="675"/>
                  </a:lnTo>
                  <a:lnTo>
                    <a:pt x="855" y="679"/>
                  </a:lnTo>
                  <a:lnTo>
                    <a:pt x="883" y="683"/>
                  </a:lnTo>
                  <a:lnTo>
                    <a:pt x="911" y="688"/>
                  </a:lnTo>
                  <a:lnTo>
                    <a:pt x="938" y="689"/>
                  </a:lnTo>
                  <a:lnTo>
                    <a:pt x="965" y="690"/>
                  </a:lnTo>
                  <a:lnTo>
                    <a:pt x="991" y="690"/>
                  </a:lnTo>
                  <a:lnTo>
                    <a:pt x="1019" y="688"/>
                  </a:lnTo>
                  <a:lnTo>
                    <a:pt x="1044" y="684"/>
                  </a:lnTo>
                  <a:lnTo>
                    <a:pt x="1069" y="679"/>
                  </a:lnTo>
                  <a:lnTo>
                    <a:pt x="1094" y="672"/>
                  </a:lnTo>
                  <a:lnTo>
                    <a:pt x="1118" y="663"/>
                  </a:lnTo>
                  <a:lnTo>
                    <a:pt x="1142" y="652"/>
                  </a:lnTo>
                  <a:lnTo>
                    <a:pt x="1164" y="639"/>
                  </a:lnTo>
                  <a:lnTo>
                    <a:pt x="1185" y="623"/>
                  </a:lnTo>
                  <a:lnTo>
                    <a:pt x="1205" y="606"/>
                  </a:lnTo>
                  <a:lnTo>
                    <a:pt x="1221" y="585"/>
                  </a:lnTo>
                  <a:lnTo>
                    <a:pt x="1237" y="563"/>
                  </a:lnTo>
                  <a:lnTo>
                    <a:pt x="1251" y="538"/>
                  </a:lnTo>
                  <a:lnTo>
                    <a:pt x="1261" y="513"/>
                  </a:lnTo>
                  <a:lnTo>
                    <a:pt x="1270" y="486"/>
                  </a:lnTo>
                  <a:lnTo>
                    <a:pt x="1275" y="458"/>
                  </a:lnTo>
                  <a:lnTo>
                    <a:pt x="1279" y="427"/>
                  </a:lnTo>
                  <a:lnTo>
                    <a:pt x="1280" y="397"/>
                  </a:lnTo>
                  <a:lnTo>
                    <a:pt x="1279" y="364"/>
                  </a:lnTo>
                  <a:lnTo>
                    <a:pt x="1277" y="331"/>
                  </a:lnTo>
                  <a:lnTo>
                    <a:pt x="1272" y="295"/>
                  </a:lnTo>
                  <a:lnTo>
                    <a:pt x="1265" y="258"/>
                  </a:lnTo>
                  <a:lnTo>
                    <a:pt x="1256" y="219"/>
                  </a:lnTo>
                  <a:lnTo>
                    <a:pt x="1246" y="179"/>
                  </a:lnTo>
                  <a:lnTo>
                    <a:pt x="1232" y="137"/>
                  </a:lnTo>
                  <a:lnTo>
                    <a:pt x="1216" y="93"/>
                  </a:lnTo>
                  <a:lnTo>
                    <a:pt x="1199" y="47"/>
                  </a:lnTo>
                  <a:lnTo>
                    <a:pt x="1200" y="52"/>
                  </a:lnTo>
                  <a:lnTo>
                    <a:pt x="1199" y="47"/>
                  </a:lnTo>
                  <a:lnTo>
                    <a:pt x="1195" y="40"/>
                  </a:lnTo>
                  <a:lnTo>
                    <a:pt x="1191" y="32"/>
                  </a:lnTo>
                  <a:lnTo>
                    <a:pt x="1186" y="25"/>
                  </a:lnTo>
                  <a:lnTo>
                    <a:pt x="1180" y="20"/>
                  </a:lnTo>
                  <a:lnTo>
                    <a:pt x="1175" y="14"/>
                  </a:lnTo>
                  <a:lnTo>
                    <a:pt x="1169" y="10"/>
                  </a:lnTo>
                  <a:lnTo>
                    <a:pt x="1163" y="7"/>
                  </a:lnTo>
                  <a:lnTo>
                    <a:pt x="1156" y="4"/>
                  </a:lnTo>
                  <a:lnTo>
                    <a:pt x="1150" y="2"/>
                  </a:lnTo>
                  <a:lnTo>
                    <a:pt x="1143" y="1"/>
                  </a:lnTo>
                  <a:lnTo>
                    <a:pt x="1136" y="0"/>
                  </a:lnTo>
                  <a:lnTo>
                    <a:pt x="1129" y="0"/>
                  </a:lnTo>
                  <a:lnTo>
                    <a:pt x="1123" y="1"/>
                  </a:lnTo>
                  <a:lnTo>
                    <a:pt x="1115" y="2"/>
                  </a:lnTo>
                  <a:lnTo>
                    <a:pt x="1109" y="4"/>
                  </a:lnTo>
                  <a:lnTo>
                    <a:pt x="1102" y="6"/>
                  </a:lnTo>
                  <a:lnTo>
                    <a:pt x="1095" y="9"/>
                  </a:lnTo>
                  <a:lnTo>
                    <a:pt x="1089" y="12"/>
                  </a:lnTo>
                  <a:lnTo>
                    <a:pt x="1084" y="17"/>
                  </a:lnTo>
                  <a:lnTo>
                    <a:pt x="1079" y="21"/>
                  </a:lnTo>
                  <a:lnTo>
                    <a:pt x="1073" y="25"/>
                  </a:lnTo>
                  <a:lnTo>
                    <a:pt x="1069" y="30"/>
                  </a:lnTo>
                  <a:lnTo>
                    <a:pt x="1065" y="37"/>
                  </a:lnTo>
                  <a:lnTo>
                    <a:pt x="1062" y="43"/>
                  </a:lnTo>
                  <a:lnTo>
                    <a:pt x="1059" y="49"/>
                  </a:lnTo>
                  <a:lnTo>
                    <a:pt x="1057" y="55"/>
                  </a:lnTo>
                  <a:lnTo>
                    <a:pt x="1055" y="63"/>
                  </a:lnTo>
                  <a:lnTo>
                    <a:pt x="1054" y="70"/>
                  </a:lnTo>
                  <a:lnTo>
                    <a:pt x="1054" y="79"/>
                  </a:lnTo>
                  <a:lnTo>
                    <a:pt x="1055" y="86"/>
                  </a:lnTo>
                  <a:lnTo>
                    <a:pt x="1058" y="94"/>
                  </a:lnTo>
                  <a:lnTo>
                    <a:pt x="1061" y="103"/>
                  </a:lnTo>
                  <a:lnTo>
                    <a:pt x="1060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3780000" y="5016600"/>
              <a:ext cx="209520" cy="195120"/>
            </a:xfrm>
            <a:custGeom>
              <a:avLst/>
              <a:gdLst/>
              <a:ahLst/>
              <a:rect l="l" t="t" r="r" b="b"/>
              <a:pathLst>
                <a:path w="657" h="617">
                  <a:moveTo>
                    <a:pt x="69" y="1"/>
                  </a:moveTo>
                  <a:lnTo>
                    <a:pt x="0" y="75"/>
                  </a:lnTo>
                  <a:lnTo>
                    <a:pt x="0" y="96"/>
                  </a:lnTo>
                  <a:lnTo>
                    <a:pt x="2" y="115"/>
                  </a:lnTo>
                  <a:lnTo>
                    <a:pt x="3" y="133"/>
                  </a:lnTo>
                  <a:lnTo>
                    <a:pt x="6" y="152"/>
                  </a:lnTo>
                  <a:lnTo>
                    <a:pt x="9" y="170"/>
                  </a:lnTo>
                  <a:lnTo>
                    <a:pt x="14" y="188"/>
                  </a:lnTo>
                  <a:lnTo>
                    <a:pt x="18" y="205"/>
                  </a:lnTo>
                  <a:lnTo>
                    <a:pt x="23" y="221"/>
                  </a:lnTo>
                  <a:lnTo>
                    <a:pt x="29" y="236"/>
                  </a:lnTo>
                  <a:lnTo>
                    <a:pt x="36" y="252"/>
                  </a:lnTo>
                  <a:lnTo>
                    <a:pt x="43" y="267"/>
                  </a:lnTo>
                  <a:lnTo>
                    <a:pt x="51" y="280"/>
                  </a:lnTo>
                  <a:lnTo>
                    <a:pt x="60" y="294"/>
                  </a:lnTo>
                  <a:lnTo>
                    <a:pt x="68" y="307"/>
                  </a:lnTo>
                  <a:lnTo>
                    <a:pt x="78" y="319"/>
                  </a:lnTo>
                  <a:lnTo>
                    <a:pt x="88" y="333"/>
                  </a:lnTo>
                  <a:lnTo>
                    <a:pt x="108" y="353"/>
                  </a:lnTo>
                  <a:lnTo>
                    <a:pt x="130" y="373"/>
                  </a:lnTo>
                  <a:lnTo>
                    <a:pt x="152" y="391"/>
                  </a:lnTo>
                  <a:lnTo>
                    <a:pt x="175" y="405"/>
                  </a:lnTo>
                  <a:lnTo>
                    <a:pt x="200" y="420"/>
                  </a:lnTo>
                  <a:lnTo>
                    <a:pt x="224" y="433"/>
                  </a:lnTo>
                  <a:lnTo>
                    <a:pt x="248" y="445"/>
                  </a:lnTo>
                  <a:lnTo>
                    <a:pt x="271" y="456"/>
                  </a:lnTo>
                  <a:lnTo>
                    <a:pt x="316" y="476"/>
                  </a:lnTo>
                  <a:lnTo>
                    <a:pt x="361" y="495"/>
                  </a:lnTo>
                  <a:lnTo>
                    <a:pt x="381" y="504"/>
                  </a:lnTo>
                  <a:lnTo>
                    <a:pt x="401" y="512"/>
                  </a:lnTo>
                  <a:lnTo>
                    <a:pt x="419" y="522"/>
                  </a:lnTo>
                  <a:lnTo>
                    <a:pt x="436" y="531"/>
                  </a:lnTo>
                  <a:lnTo>
                    <a:pt x="452" y="541"/>
                  </a:lnTo>
                  <a:lnTo>
                    <a:pt x="465" y="550"/>
                  </a:lnTo>
                  <a:lnTo>
                    <a:pt x="478" y="561"/>
                  </a:lnTo>
                  <a:lnTo>
                    <a:pt x="487" y="570"/>
                  </a:lnTo>
                  <a:lnTo>
                    <a:pt x="497" y="582"/>
                  </a:lnTo>
                  <a:lnTo>
                    <a:pt x="505" y="594"/>
                  </a:lnTo>
                  <a:lnTo>
                    <a:pt x="507" y="599"/>
                  </a:lnTo>
                  <a:lnTo>
                    <a:pt x="510" y="604"/>
                  </a:lnTo>
                  <a:lnTo>
                    <a:pt x="514" y="611"/>
                  </a:lnTo>
                  <a:lnTo>
                    <a:pt x="517" y="617"/>
                  </a:lnTo>
                  <a:lnTo>
                    <a:pt x="657" y="571"/>
                  </a:lnTo>
                  <a:lnTo>
                    <a:pt x="652" y="556"/>
                  </a:lnTo>
                  <a:lnTo>
                    <a:pt x="646" y="542"/>
                  </a:lnTo>
                  <a:lnTo>
                    <a:pt x="640" y="528"/>
                  </a:lnTo>
                  <a:lnTo>
                    <a:pt x="631" y="514"/>
                  </a:lnTo>
                  <a:lnTo>
                    <a:pt x="615" y="491"/>
                  </a:lnTo>
                  <a:lnTo>
                    <a:pt x="596" y="469"/>
                  </a:lnTo>
                  <a:lnTo>
                    <a:pt x="577" y="449"/>
                  </a:lnTo>
                  <a:lnTo>
                    <a:pt x="556" y="433"/>
                  </a:lnTo>
                  <a:lnTo>
                    <a:pt x="533" y="417"/>
                  </a:lnTo>
                  <a:lnTo>
                    <a:pt x="511" y="403"/>
                  </a:lnTo>
                  <a:lnTo>
                    <a:pt x="488" y="391"/>
                  </a:lnTo>
                  <a:lnTo>
                    <a:pt x="465" y="379"/>
                  </a:lnTo>
                  <a:lnTo>
                    <a:pt x="443" y="368"/>
                  </a:lnTo>
                  <a:lnTo>
                    <a:pt x="420" y="358"/>
                  </a:lnTo>
                  <a:lnTo>
                    <a:pt x="376" y="339"/>
                  </a:lnTo>
                  <a:lnTo>
                    <a:pt x="332" y="320"/>
                  </a:lnTo>
                  <a:lnTo>
                    <a:pt x="312" y="311"/>
                  </a:lnTo>
                  <a:lnTo>
                    <a:pt x="292" y="300"/>
                  </a:lnTo>
                  <a:lnTo>
                    <a:pt x="274" y="291"/>
                  </a:lnTo>
                  <a:lnTo>
                    <a:pt x="256" y="280"/>
                  </a:lnTo>
                  <a:lnTo>
                    <a:pt x="241" y="270"/>
                  </a:lnTo>
                  <a:lnTo>
                    <a:pt x="226" y="258"/>
                  </a:lnTo>
                  <a:lnTo>
                    <a:pt x="212" y="246"/>
                  </a:lnTo>
                  <a:lnTo>
                    <a:pt x="199" y="232"/>
                  </a:lnTo>
                  <a:lnTo>
                    <a:pt x="194" y="227"/>
                  </a:lnTo>
                  <a:lnTo>
                    <a:pt x="189" y="220"/>
                  </a:lnTo>
                  <a:lnTo>
                    <a:pt x="184" y="212"/>
                  </a:lnTo>
                  <a:lnTo>
                    <a:pt x="180" y="205"/>
                  </a:lnTo>
                  <a:lnTo>
                    <a:pt x="175" y="197"/>
                  </a:lnTo>
                  <a:lnTo>
                    <a:pt x="171" y="189"/>
                  </a:lnTo>
                  <a:lnTo>
                    <a:pt x="167" y="181"/>
                  </a:lnTo>
                  <a:lnTo>
                    <a:pt x="164" y="171"/>
                  </a:lnTo>
                  <a:lnTo>
                    <a:pt x="161" y="162"/>
                  </a:lnTo>
                  <a:lnTo>
                    <a:pt x="158" y="151"/>
                  </a:lnTo>
                  <a:lnTo>
                    <a:pt x="155" y="141"/>
                  </a:lnTo>
                  <a:lnTo>
                    <a:pt x="153" y="129"/>
                  </a:lnTo>
                  <a:lnTo>
                    <a:pt x="151" y="117"/>
                  </a:lnTo>
                  <a:lnTo>
                    <a:pt x="150" y="104"/>
                  </a:lnTo>
                  <a:lnTo>
                    <a:pt x="150" y="90"/>
                  </a:lnTo>
                  <a:lnTo>
                    <a:pt x="149" y="75"/>
                  </a:lnTo>
                  <a:lnTo>
                    <a:pt x="81" y="149"/>
                  </a:lnTo>
                  <a:lnTo>
                    <a:pt x="149" y="75"/>
                  </a:lnTo>
                  <a:lnTo>
                    <a:pt x="149" y="66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3" y="42"/>
                  </a:lnTo>
                  <a:lnTo>
                    <a:pt x="140" y="36"/>
                  </a:lnTo>
                  <a:lnTo>
                    <a:pt x="135" y="29"/>
                  </a:lnTo>
                  <a:lnTo>
                    <a:pt x="131" y="24"/>
                  </a:lnTo>
                  <a:lnTo>
                    <a:pt x="126" y="19"/>
                  </a:lnTo>
                  <a:lnTo>
                    <a:pt x="121" y="15"/>
                  </a:lnTo>
                  <a:lnTo>
                    <a:pt x="114" y="11"/>
                  </a:lnTo>
                  <a:lnTo>
                    <a:pt x="108" y="7"/>
                  </a:lnTo>
                  <a:lnTo>
                    <a:pt x="102" y="5"/>
                  </a:lnTo>
                  <a:lnTo>
                    <a:pt x="96" y="3"/>
                  </a:lnTo>
                  <a:lnTo>
                    <a:pt x="88" y="2"/>
                  </a:lnTo>
                  <a:lnTo>
                    <a:pt x="82" y="1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7" y="5"/>
                  </a:lnTo>
                  <a:lnTo>
                    <a:pt x="41" y="7"/>
                  </a:lnTo>
                  <a:lnTo>
                    <a:pt x="35" y="11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4" y="49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801960" y="4997520"/>
              <a:ext cx="250920" cy="65160"/>
            </a:xfrm>
            <a:custGeom>
              <a:avLst/>
              <a:gdLst/>
              <a:ahLst/>
              <a:rect l="l" t="t" r="r" b="b"/>
              <a:pathLst>
                <a:path w="791" h="206">
                  <a:moveTo>
                    <a:pt x="791" y="75"/>
                  </a:moveTo>
                  <a:lnTo>
                    <a:pt x="711" y="0"/>
                  </a:lnTo>
                  <a:lnTo>
                    <a:pt x="0" y="58"/>
                  </a:lnTo>
                  <a:lnTo>
                    <a:pt x="12" y="206"/>
                  </a:lnTo>
                  <a:lnTo>
                    <a:pt x="723" y="149"/>
                  </a:lnTo>
                  <a:lnTo>
                    <a:pt x="791" y="75"/>
                  </a:lnTo>
                  <a:lnTo>
                    <a:pt x="723" y="149"/>
                  </a:lnTo>
                  <a:lnTo>
                    <a:pt x="731" y="148"/>
                  </a:lnTo>
                  <a:lnTo>
                    <a:pt x="740" y="146"/>
                  </a:lnTo>
                  <a:lnTo>
                    <a:pt x="748" y="144"/>
                  </a:lnTo>
                  <a:lnTo>
                    <a:pt x="754" y="141"/>
                  </a:lnTo>
                  <a:lnTo>
                    <a:pt x="761" y="137"/>
                  </a:lnTo>
                  <a:lnTo>
                    <a:pt x="767" y="133"/>
                  </a:lnTo>
                  <a:lnTo>
                    <a:pt x="772" y="127"/>
                  </a:lnTo>
                  <a:lnTo>
                    <a:pt x="776" y="122"/>
                  </a:lnTo>
                  <a:lnTo>
                    <a:pt x="781" y="116"/>
                  </a:lnTo>
                  <a:lnTo>
                    <a:pt x="784" y="111"/>
                  </a:lnTo>
                  <a:lnTo>
                    <a:pt x="787" y="103"/>
                  </a:lnTo>
                  <a:lnTo>
                    <a:pt x="789" y="97"/>
                  </a:lnTo>
                  <a:lnTo>
                    <a:pt x="790" y="91"/>
                  </a:lnTo>
                  <a:lnTo>
                    <a:pt x="791" y="83"/>
                  </a:lnTo>
                  <a:lnTo>
                    <a:pt x="791" y="76"/>
                  </a:lnTo>
                  <a:lnTo>
                    <a:pt x="791" y="70"/>
                  </a:lnTo>
                  <a:lnTo>
                    <a:pt x="790" y="62"/>
                  </a:lnTo>
                  <a:lnTo>
                    <a:pt x="789" y="56"/>
                  </a:lnTo>
                  <a:lnTo>
                    <a:pt x="787" y="49"/>
                  </a:lnTo>
                  <a:lnTo>
                    <a:pt x="785" y="42"/>
                  </a:lnTo>
                  <a:lnTo>
                    <a:pt x="782" y="36"/>
                  </a:lnTo>
                  <a:lnTo>
                    <a:pt x="777" y="31"/>
                  </a:lnTo>
                  <a:lnTo>
                    <a:pt x="773" y="25"/>
                  </a:lnTo>
                  <a:lnTo>
                    <a:pt x="769" y="19"/>
                  </a:lnTo>
                  <a:lnTo>
                    <a:pt x="764" y="15"/>
                  </a:lnTo>
                  <a:lnTo>
                    <a:pt x="757" y="11"/>
                  </a:lnTo>
                  <a:lnTo>
                    <a:pt x="751" y="8"/>
                  </a:lnTo>
                  <a:lnTo>
                    <a:pt x="744" y="5"/>
                  </a:lnTo>
                  <a:lnTo>
                    <a:pt x="736" y="2"/>
                  </a:lnTo>
                  <a:lnTo>
                    <a:pt x="729" y="1"/>
                  </a:lnTo>
                  <a:lnTo>
                    <a:pt x="720" y="0"/>
                  </a:lnTo>
                  <a:lnTo>
                    <a:pt x="711" y="0"/>
                  </a:lnTo>
                  <a:lnTo>
                    <a:pt x="791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848040" y="4676760"/>
              <a:ext cx="204840" cy="344520"/>
            </a:xfrm>
            <a:custGeom>
              <a:avLst/>
              <a:gdLst/>
              <a:ahLst/>
              <a:rect l="l" t="t" r="r" b="b"/>
              <a:pathLst>
                <a:path w="647" h="1084">
                  <a:moveTo>
                    <a:pt x="5" y="99"/>
                  </a:moveTo>
                  <a:lnTo>
                    <a:pt x="4" y="98"/>
                  </a:lnTo>
                  <a:lnTo>
                    <a:pt x="20" y="142"/>
                  </a:lnTo>
                  <a:lnTo>
                    <a:pt x="37" y="183"/>
                  </a:lnTo>
                  <a:lnTo>
                    <a:pt x="55" y="222"/>
                  </a:lnTo>
                  <a:lnTo>
                    <a:pt x="74" y="259"/>
                  </a:lnTo>
                  <a:lnTo>
                    <a:pt x="94" y="293"/>
                  </a:lnTo>
                  <a:lnTo>
                    <a:pt x="115" y="325"/>
                  </a:lnTo>
                  <a:lnTo>
                    <a:pt x="136" y="355"/>
                  </a:lnTo>
                  <a:lnTo>
                    <a:pt x="157" y="385"/>
                  </a:lnTo>
                  <a:lnTo>
                    <a:pt x="178" y="412"/>
                  </a:lnTo>
                  <a:lnTo>
                    <a:pt x="200" y="438"/>
                  </a:lnTo>
                  <a:lnTo>
                    <a:pt x="222" y="463"/>
                  </a:lnTo>
                  <a:lnTo>
                    <a:pt x="243" y="488"/>
                  </a:lnTo>
                  <a:lnTo>
                    <a:pt x="284" y="533"/>
                  </a:lnTo>
                  <a:lnTo>
                    <a:pt x="324" y="578"/>
                  </a:lnTo>
                  <a:lnTo>
                    <a:pt x="341" y="599"/>
                  </a:lnTo>
                  <a:lnTo>
                    <a:pt x="359" y="622"/>
                  </a:lnTo>
                  <a:lnTo>
                    <a:pt x="376" y="644"/>
                  </a:lnTo>
                  <a:lnTo>
                    <a:pt x="392" y="668"/>
                  </a:lnTo>
                  <a:lnTo>
                    <a:pt x="408" y="691"/>
                  </a:lnTo>
                  <a:lnTo>
                    <a:pt x="421" y="716"/>
                  </a:lnTo>
                  <a:lnTo>
                    <a:pt x="435" y="744"/>
                  </a:lnTo>
                  <a:lnTo>
                    <a:pt x="448" y="771"/>
                  </a:lnTo>
                  <a:lnTo>
                    <a:pt x="458" y="801"/>
                  </a:lnTo>
                  <a:lnTo>
                    <a:pt x="467" y="833"/>
                  </a:lnTo>
                  <a:lnTo>
                    <a:pt x="477" y="868"/>
                  </a:lnTo>
                  <a:lnTo>
                    <a:pt x="484" y="904"/>
                  </a:lnTo>
                  <a:lnTo>
                    <a:pt x="490" y="944"/>
                  </a:lnTo>
                  <a:lnTo>
                    <a:pt x="495" y="987"/>
                  </a:lnTo>
                  <a:lnTo>
                    <a:pt x="498" y="1034"/>
                  </a:lnTo>
                  <a:lnTo>
                    <a:pt x="498" y="1084"/>
                  </a:lnTo>
                  <a:lnTo>
                    <a:pt x="647" y="1084"/>
                  </a:lnTo>
                  <a:lnTo>
                    <a:pt x="646" y="1028"/>
                  </a:lnTo>
                  <a:lnTo>
                    <a:pt x="643" y="976"/>
                  </a:lnTo>
                  <a:lnTo>
                    <a:pt x="639" y="926"/>
                  </a:lnTo>
                  <a:lnTo>
                    <a:pt x="631" y="879"/>
                  </a:lnTo>
                  <a:lnTo>
                    <a:pt x="622" y="835"/>
                  </a:lnTo>
                  <a:lnTo>
                    <a:pt x="611" y="793"/>
                  </a:lnTo>
                  <a:lnTo>
                    <a:pt x="599" y="753"/>
                  </a:lnTo>
                  <a:lnTo>
                    <a:pt x="585" y="715"/>
                  </a:lnTo>
                  <a:lnTo>
                    <a:pt x="570" y="681"/>
                  </a:lnTo>
                  <a:lnTo>
                    <a:pt x="554" y="647"/>
                  </a:lnTo>
                  <a:lnTo>
                    <a:pt x="536" y="616"/>
                  </a:lnTo>
                  <a:lnTo>
                    <a:pt x="517" y="586"/>
                  </a:lnTo>
                  <a:lnTo>
                    <a:pt x="498" y="558"/>
                  </a:lnTo>
                  <a:lnTo>
                    <a:pt x="478" y="531"/>
                  </a:lnTo>
                  <a:lnTo>
                    <a:pt x="457" y="505"/>
                  </a:lnTo>
                  <a:lnTo>
                    <a:pt x="436" y="480"/>
                  </a:lnTo>
                  <a:lnTo>
                    <a:pt x="395" y="434"/>
                  </a:lnTo>
                  <a:lnTo>
                    <a:pt x="354" y="388"/>
                  </a:lnTo>
                  <a:lnTo>
                    <a:pt x="333" y="365"/>
                  </a:lnTo>
                  <a:lnTo>
                    <a:pt x="313" y="342"/>
                  </a:lnTo>
                  <a:lnTo>
                    <a:pt x="294" y="318"/>
                  </a:lnTo>
                  <a:lnTo>
                    <a:pt x="275" y="294"/>
                  </a:lnTo>
                  <a:lnTo>
                    <a:pt x="256" y="269"/>
                  </a:lnTo>
                  <a:lnTo>
                    <a:pt x="239" y="244"/>
                  </a:lnTo>
                  <a:lnTo>
                    <a:pt x="222" y="216"/>
                  </a:lnTo>
                  <a:lnTo>
                    <a:pt x="205" y="187"/>
                  </a:lnTo>
                  <a:lnTo>
                    <a:pt x="188" y="157"/>
                  </a:lnTo>
                  <a:lnTo>
                    <a:pt x="173" y="124"/>
                  </a:lnTo>
                  <a:lnTo>
                    <a:pt x="160" y="89"/>
                  </a:lnTo>
                  <a:lnTo>
                    <a:pt x="146" y="52"/>
                  </a:lnTo>
                  <a:lnTo>
                    <a:pt x="145" y="50"/>
                  </a:lnTo>
                  <a:lnTo>
                    <a:pt x="146" y="52"/>
                  </a:lnTo>
                  <a:lnTo>
                    <a:pt x="143" y="43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29" y="22"/>
                  </a:lnTo>
                  <a:lnTo>
                    <a:pt x="124" y="17"/>
                  </a:lnTo>
                  <a:lnTo>
                    <a:pt x="119" y="13"/>
                  </a:lnTo>
                  <a:lnTo>
                    <a:pt x="113" y="9"/>
                  </a:lnTo>
                  <a:lnTo>
                    <a:pt x="106" y="6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39" y="10"/>
                  </a:lnTo>
                  <a:lnTo>
                    <a:pt x="33" y="13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7"/>
                  </a:lnTo>
                  <a:lnTo>
                    <a:pt x="13" y="32"/>
                  </a:lnTo>
                  <a:lnTo>
                    <a:pt x="10" y="38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4" y="98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3835440" y="4332240"/>
              <a:ext cx="449280" cy="376200"/>
            </a:xfrm>
            <a:custGeom>
              <a:avLst/>
              <a:gdLst/>
              <a:ahLst/>
              <a:rect l="l" t="t" r="r" b="b"/>
              <a:pathLst>
                <a:path w="1415" h="1188">
                  <a:moveTo>
                    <a:pt x="1265" y="76"/>
                  </a:moveTo>
                  <a:lnTo>
                    <a:pt x="1286" y="24"/>
                  </a:lnTo>
                  <a:lnTo>
                    <a:pt x="1273" y="36"/>
                  </a:lnTo>
                  <a:lnTo>
                    <a:pt x="1259" y="48"/>
                  </a:lnTo>
                  <a:lnTo>
                    <a:pt x="1244" y="60"/>
                  </a:lnTo>
                  <a:lnTo>
                    <a:pt x="1228" y="72"/>
                  </a:lnTo>
                  <a:lnTo>
                    <a:pt x="1209" y="83"/>
                  </a:lnTo>
                  <a:lnTo>
                    <a:pt x="1190" y="96"/>
                  </a:lnTo>
                  <a:lnTo>
                    <a:pt x="1170" y="108"/>
                  </a:lnTo>
                  <a:lnTo>
                    <a:pt x="1149" y="118"/>
                  </a:lnTo>
                  <a:lnTo>
                    <a:pt x="1127" y="130"/>
                  </a:lnTo>
                  <a:lnTo>
                    <a:pt x="1104" y="140"/>
                  </a:lnTo>
                  <a:lnTo>
                    <a:pt x="1080" y="152"/>
                  </a:lnTo>
                  <a:lnTo>
                    <a:pt x="1055" y="162"/>
                  </a:lnTo>
                  <a:lnTo>
                    <a:pt x="1003" y="183"/>
                  </a:lnTo>
                  <a:lnTo>
                    <a:pt x="948" y="204"/>
                  </a:lnTo>
                  <a:lnTo>
                    <a:pt x="833" y="245"/>
                  </a:lnTo>
                  <a:lnTo>
                    <a:pt x="713" y="287"/>
                  </a:lnTo>
                  <a:lnTo>
                    <a:pt x="653" y="309"/>
                  </a:lnTo>
                  <a:lnTo>
                    <a:pt x="593" y="332"/>
                  </a:lnTo>
                  <a:lnTo>
                    <a:pt x="533" y="356"/>
                  </a:lnTo>
                  <a:lnTo>
                    <a:pt x="474" y="381"/>
                  </a:lnTo>
                  <a:lnTo>
                    <a:pt x="444" y="394"/>
                  </a:lnTo>
                  <a:lnTo>
                    <a:pt x="416" y="408"/>
                  </a:lnTo>
                  <a:lnTo>
                    <a:pt x="388" y="423"/>
                  </a:lnTo>
                  <a:lnTo>
                    <a:pt x="359" y="436"/>
                  </a:lnTo>
                  <a:lnTo>
                    <a:pt x="332" y="452"/>
                  </a:lnTo>
                  <a:lnTo>
                    <a:pt x="306" y="468"/>
                  </a:lnTo>
                  <a:lnTo>
                    <a:pt x="280" y="485"/>
                  </a:lnTo>
                  <a:lnTo>
                    <a:pt x="254" y="501"/>
                  </a:lnTo>
                  <a:lnTo>
                    <a:pt x="229" y="519"/>
                  </a:lnTo>
                  <a:lnTo>
                    <a:pt x="206" y="538"/>
                  </a:lnTo>
                  <a:lnTo>
                    <a:pt x="183" y="557"/>
                  </a:lnTo>
                  <a:lnTo>
                    <a:pt x="161" y="577"/>
                  </a:lnTo>
                  <a:lnTo>
                    <a:pt x="140" y="599"/>
                  </a:lnTo>
                  <a:lnTo>
                    <a:pt x="120" y="621"/>
                  </a:lnTo>
                  <a:lnTo>
                    <a:pt x="101" y="644"/>
                  </a:lnTo>
                  <a:lnTo>
                    <a:pt x="83" y="668"/>
                  </a:lnTo>
                  <a:lnTo>
                    <a:pt x="67" y="693"/>
                  </a:lnTo>
                  <a:lnTo>
                    <a:pt x="53" y="720"/>
                  </a:lnTo>
                  <a:lnTo>
                    <a:pt x="40" y="747"/>
                  </a:lnTo>
                  <a:lnTo>
                    <a:pt x="29" y="776"/>
                  </a:lnTo>
                  <a:lnTo>
                    <a:pt x="19" y="806"/>
                  </a:lnTo>
                  <a:lnTo>
                    <a:pt x="11" y="836"/>
                  </a:lnTo>
                  <a:lnTo>
                    <a:pt x="6" y="868"/>
                  </a:lnTo>
                  <a:lnTo>
                    <a:pt x="1" y="899"/>
                  </a:lnTo>
                  <a:lnTo>
                    <a:pt x="0" y="933"/>
                  </a:lnTo>
                  <a:lnTo>
                    <a:pt x="0" y="966"/>
                  </a:lnTo>
                  <a:lnTo>
                    <a:pt x="2" y="1001"/>
                  </a:lnTo>
                  <a:lnTo>
                    <a:pt x="7" y="1037"/>
                  </a:lnTo>
                  <a:lnTo>
                    <a:pt x="14" y="1074"/>
                  </a:lnTo>
                  <a:lnTo>
                    <a:pt x="22" y="1111"/>
                  </a:lnTo>
                  <a:lnTo>
                    <a:pt x="33" y="1149"/>
                  </a:lnTo>
                  <a:lnTo>
                    <a:pt x="46" y="1188"/>
                  </a:lnTo>
                  <a:lnTo>
                    <a:pt x="186" y="1139"/>
                  </a:lnTo>
                  <a:lnTo>
                    <a:pt x="176" y="1106"/>
                  </a:lnTo>
                  <a:lnTo>
                    <a:pt x="166" y="1075"/>
                  </a:lnTo>
                  <a:lnTo>
                    <a:pt x="160" y="1044"/>
                  </a:lnTo>
                  <a:lnTo>
                    <a:pt x="155" y="1015"/>
                  </a:lnTo>
                  <a:lnTo>
                    <a:pt x="150" y="987"/>
                  </a:lnTo>
                  <a:lnTo>
                    <a:pt x="149" y="961"/>
                  </a:lnTo>
                  <a:lnTo>
                    <a:pt x="149" y="936"/>
                  </a:lnTo>
                  <a:lnTo>
                    <a:pt x="150" y="912"/>
                  </a:lnTo>
                  <a:lnTo>
                    <a:pt x="153" y="889"/>
                  </a:lnTo>
                  <a:lnTo>
                    <a:pt x="157" y="868"/>
                  </a:lnTo>
                  <a:lnTo>
                    <a:pt x="162" y="847"/>
                  </a:lnTo>
                  <a:lnTo>
                    <a:pt x="168" y="826"/>
                  </a:lnTo>
                  <a:lnTo>
                    <a:pt x="177" y="807"/>
                  </a:lnTo>
                  <a:lnTo>
                    <a:pt x="185" y="788"/>
                  </a:lnTo>
                  <a:lnTo>
                    <a:pt x="196" y="769"/>
                  </a:lnTo>
                  <a:lnTo>
                    <a:pt x="207" y="751"/>
                  </a:lnTo>
                  <a:lnTo>
                    <a:pt x="220" y="734"/>
                  </a:lnTo>
                  <a:lnTo>
                    <a:pt x="233" y="718"/>
                  </a:lnTo>
                  <a:lnTo>
                    <a:pt x="248" y="701"/>
                  </a:lnTo>
                  <a:lnTo>
                    <a:pt x="264" y="684"/>
                  </a:lnTo>
                  <a:lnTo>
                    <a:pt x="282" y="669"/>
                  </a:lnTo>
                  <a:lnTo>
                    <a:pt x="300" y="654"/>
                  </a:lnTo>
                  <a:lnTo>
                    <a:pt x="318" y="638"/>
                  </a:lnTo>
                  <a:lnTo>
                    <a:pt x="339" y="623"/>
                  </a:lnTo>
                  <a:lnTo>
                    <a:pt x="360" y="608"/>
                  </a:lnTo>
                  <a:lnTo>
                    <a:pt x="384" y="595"/>
                  </a:lnTo>
                  <a:lnTo>
                    <a:pt x="407" y="581"/>
                  </a:lnTo>
                  <a:lnTo>
                    <a:pt x="431" y="567"/>
                  </a:lnTo>
                  <a:lnTo>
                    <a:pt x="455" y="555"/>
                  </a:lnTo>
                  <a:lnTo>
                    <a:pt x="480" y="542"/>
                  </a:lnTo>
                  <a:lnTo>
                    <a:pt x="506" y="530"/>
                  </a:lnTo>
                  <a:lnTo>
                    <a:pt x="534" y="517"/>
                  </a:lnTo>
                  <a:lnTo>
                    <a:pt x="589" y="494"/>
                  </a:lnTo>
                  <a:lnTo>
                    <a:pt x="646" y="471"/>
                  </a:lnTo>
                  <a:lnTo>
                    <a:pt x="704" y="450"/>
                  </a:lnTo>
                  <a:lnTo>
                    <a:pt x="764" y="428"/>
                  </a:lnTo>
                  <a:lnTo>
                    <a:pt x="882" y="386"/>
                  </a:lnTo>
                  <a:lnTo>
                    <a:pt x="1000" y="344"/>
                  </a:lnTo>
                  <a:lnTo>
                    <a:pt x="1057" y="322"/>
                  </a:lnTo>
                  <a:lnTo>
                    <a:pt x="1112" y="300"/>
                  </a:lnTo>
                  <a:lnTo>
                    <a:pt x="1140" y="288"/>
                  </a:lnTo>
                  <a:lnTo>
                    <a:pt x="1166" y="276"/>
                  </a:lnTo>
                  <a:lnTo>
                    <a:pt x="1192" y="264"/>
                  </a:lnTo>
                  <a:lnTo>
                    <a:pt x="1217" y="250"/>
                  </a:lnTo>
                  <a:lnTo>
                    <a:pt x="1243" y="238"/>
                  </a:lnTo>
                  <a:lnTo>
                    <a:pt x="1267" y="224"/>
                  </a:lnTo>
                  <a:lnTo>
                    <a:pt x="1290" y="209"/>
                  </a:lnTo>
                  <a:lnTo>
                    <a:pt x="1312" y="195"/>
                  </a:lnTo>
                  <a:lnTo>
                    <a:pt x="1333" y="179"/>
                  </a:lnTo>
                  <a:lnTo>
                    <a:pt x="1354" y="163"/>
                  </a:lnTo>
                  <a:lnTo>
                    <a:pt x="1374" y="146"/>
                  </a:lnTo>
                  <a:lnTo>
                    <a:pt x="1393" y="129"/>
                  </a:lnTo>
                  <a:lnTo>
                    <a:pt x="1414" y="76"/>
                  </a:lnTo>
                  <a:lnTo>
                    <a:pt x="1393" y="129"/>
                  </a:lnTo>
                  <a:lnTo>
                    <a:pt x="1398" y="121"/>
                  </a:lnTo>
                  <a:lnTo>
                    <a:pt x="1403" y="115"/>
                  </a:lnTo>
                  <a:lnTo>
                    <a:pt x="1407" y="108"/>
                  </a:lnTo>
                  <a:lnTo>
                    <a:pt x="1411" y="100"/>
                  </a:lnTo>
                  <a:lnTo>
                    <a:pt x="1413" y="94"/>
                  </a:lnTo>
                  <a:lnTo>
                    <a:pt x="1414" y="87"/>
                  </a:lnTo>
                  <a:lnTo>
                    <a:pt x="1415" y="79"/>
                  </a:lnTo>
                  <a:lnTo>
                    <a:pt x="1415" y="72"/>
                  </a:lnTo>
                  <a:lnTo>
                    <a:pt x="1414" y="66"/>
                  </a:lnTo>
                  <a:lnTo>
                    <a:pt x="1413" y="58"/>
                  </a:lnTo>
                  <a:lnTo>
                    <a:pt x="1411" y="52"/>
                  </a:lnTo>
                  <a:lnTo>
                    <a:pt x="1407" y="46"/>
                  </a:lnTo>
                  <a:lnTo>
                    <a:pt x="1404" y="39"/>
                  </a:lnTo>
                  <a:lnTo>
                    <a:pt x="1400" y="34"/>
                  </a:lnTo>
                  <a:lnTo>
                    <a:pt x="1396" y="28"/>
                  </a:lnTo>
                  <a:lnTo>
                    <a:pt x="1392" y="23"/>
                  </a:lnTo>
                  <a:lnTo>
                    <a:pt x="1386" y="18"/>
                  </a:lnTo>
                  <a:lnTo>
                    <a:pt x="1380" y="14"/>
                  </a:lnTo>
                  <a:lnTo>
                    <a:pt x="1375" y="10"/>
                  </a:lnTo>
                  <a:lnTo>
                    <a:pt x="1369" y="7"/>
                  </a:lnTo>
                  <a:lnTo>
                    <a:pt x="1362" y="5"/>
                  </a:lnTo>
                  <a:lnTo>
                    <a:pt x="1356" y="3"/>
                  </a:lnTo>
                  <a:lnTo>
                    <a:pt x="1349" y="2"/>
                  </a:lnTo>
                  <a:lnTo>
                    <a:pt x="1342" y="0"/>
                  </a:lnTo>
                  <a:lnTo>
                    <a:pt x="1335" y="0"/>
                  </a:lnTo>
                  <a:lnTo>
                    <a:pt x="1328" y="2"/>
                  </a:lnTo>
                  <a:lnTo>
                    <a:pt x="1320" y="3"/>
                  </a:lnTo>
                  <a:lnTo>
                    <a:pt x="1314" y="5"/>
                  </a:lnTo>
                  <a:lnTo>
                    <a:pt x="1307" y="9"/>
                  </a:lnTo>
                  <a:lnTo>
                    <a:pt x="1299" y="13"/>
                  </a:lnTo>
                  <a:lnTo>
                    <a:pt x="1293" y="17"/>
                  </a:lnTo>
                  <a:lnTo>
                    <a:pt x="1286" y="24"/>
                  </a:lnTo>
                  <a:lnTo>
                    <a:pt x="126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4218120" y="4316400"/>
              <a:ext cx="64800" cy="63720"/>
            </a:xfrm>
            <a:custGeom>
              <a:avLst/>
              <a:gdLst/>
              <a:ahLst/>
              <a:rect l="l" t="t" r="r" b="b"/>
              <a:pathLst>
                <a:path w="207" h="201">
                  <a:moveTo>
                    <a:pt x="5" y="99"/>
                  </a:moveTo>
                  <a:lnTo>
                    <a:pt x="141" y="160"/>
                  </a:lnTo>
                  <a:lnTo>
                    <a:pt x="149" y="145"/>
                  </a:lnTo>
                  <a:lnTo>
                    <a:pt x="155" y="137"/>
                  </a:lnTo>
                  <a:lnTo>
                    <a:pt x="157" y="135"/>
                  </a:lnTo>
                  <a:lnTo>
                    <a:pt x="157" y="135"/>
                  </a:lnTo>
                  <a:lnTo>
                    <a:pt x="148" y="141"/>
                  </a:lnTo>
                  <a:lnTo>
                    <a:pt x="138" y="145"/>
                  </a:lnTo>
                  <a:lnTo>
                    <a:pt x="124" y="149"/>
                  </a:lnTo>
                  <a:lnTo>
                    <a:pt x="96" y="146"/>
                  </a:lnTo>
                  <a:lnTo>
                    <a:pt x="76" y="136"/>
                  </a:lnTo>
                  <a:lnTo>
                    <a:pt x="62" y="120"/>
                  </a:lnTo>
                  <a:lnTo>
                    <a:pt x="58" y="110"/>
                  </a:lnTo>
                  <a:lnTo>
                    <a:pt x="57" y="108"/>
                  </a:lnTo>
                  <a:lnTo>
                    <a:pt x="57" y="109"/>
                  </a:lnTo>
                  <a:lnTo>
                    <a:pt x="57" y="110"/>
                  </a:lnTo>
                  <a:lnTo>
                    <a:pt x="58" y="120"/>
                  </a:lnTo>
                  <a:lnTo>
                    <a:pt x="58" y="125"/>
                  </a:lnTo>
                  <a:lnTo>
                    <a:pt x="207" y="125"/>
                  </a:lnTo>
                  <a:lnTo>
                    <a:pt x="207" y="114"/>
                  </a:lnTo>
                  <a:lnTo>
                    <a:pt x="206" y="98"/>
                  </a:lnTo>
                  <a:lnTo>
                    <a:pt x="204" y="85"/>
                  </a:lnTo>
                  <a:lnTo>
                    <a:pt x="201" y="74"/>
                  </a:lnTo>
                  <a:lnTo>
                    <a:pt x="197" y="59"/>
                  </a:lnTo>
                  <a:lnTo>
                    <a:pt x="188" y="40"/>
                  </a:lnTo>
                  <a:lnTo>
                    <a:pt x="168" y="17"/>
                  </a:lnTo>
                  <a:lnTo>
                    <a:pt x="139" y="3"/>
                  </a:lnTo>
                  <a:lnTo>
                    <a:pt x="108" y="0"/>
                  </a:lnTo>
                  <a:lnTo>
                    <a:pt x="89" y="4"/>
                  </a:lnTo>
                  <a:lnTo>
                    <a:pt x="74" y="12"/>
                  </a:lnTo>
                  <a:lnTo>
                    <a:pt x="60" y="21"/>
                  </a:lnTo>
                  <a:lnTo>
                    <a:pt x="46" y="35"/>
                  </a:lnTo>
                  <a:lnTo>
                    <a:pt x="33" y="51"/>
                  </a:lnTo>
                  <a:lnTo>
                    <a:pt x="22" y="69"/>
                  </a:lnTo>
                  <a:lnTo>
                    <a:pt x="9" y="90"/>
                  </a:lnTo>
                  <a:lnTo>
                    <a:pt x="145" y="150"/>
                  </a:lnTo>
                  <a:lnTo>
                    <a:pt x="9" y="90"/>
                  </a:lnTo>
                  <a:lnTo>
                    <a:pt x="6" y="98"/>
                  </a:lnTo>
                  <a:lnTo>
                    <a:pt x="3" y="106"/>
                  </a:lnTo>
                  <a:lnTo>
                    <a:pt x="1" y="115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6" y="157"/>
                  </a:lnTo>
                  <a:lnTo>
                    <a:pt x="10" y="163"/>
                  </a:lnTo>
                  <a:lnTo>
                    <a:pt x="13" y="168"/>
                  </a:lnTo>
                  <a:lnTo>
                    <a:pt x="19" y="173"/>
                  </a:lnTo>
                  <a:lnTo>
                    <a:pt x="23" y="179"/>
                  </a:lnTo>
                  <a:lnTo>
                    <a:pt x="28" y="183"/>
                  </a:lnTo>
                  <a:lnTo>
                    <a:pt x="34" y="187"/>
                  </a:lnTo>
                  <a:lnTo>
                    <a:pt x="41" y="190"/>
                  </a:lnTo>
                  <a:lnTo>
                    <a:pt x="46" y="193"/>
                  </a:lnTo>
                  <a:lnTo>
                    <a:pt x="53" y="196"/>
                  </a:lnTo>
                  <a:lnTo>
                    <a:pt x="60" y="199"/>
                  </a:lnTo>
                  <a:lnTo>
                    <a:pt x="67" y="200"/>
                  </a:lnTo>
                  <a:lnTo>
                    <a:pt x="73" y="201"/>
                  </a:lnTo>
                  <a:lnTo>
                    <a:pt x="81" y="201"/>
                  </a:lnTo>
                  <a:lnTo>
                    <a:pt x="87" y="200"/>
                  </a:lnTo>
                  <a:lnTo>
                    <a:pt x="94" y="199"/>
                  </a:lnTo>
                  <a:lnTo>
                    <a:pt x="101" y="196"/>
                  </a:lnTo>
                  <a:lnTo>
                    <a:pt x="107" y="193"/>
                  </a:lnTo>
                  <a:lnTo>
                    <a:pt x="113" y="190"/>
                  </a:lnTo>
                  <a:lnTo>
                    <a:pt x="120" y="186"/>
                  </a:lnTo>
                  <a:lnTo>
                    <a:pt x="126" y="181"/>
                  </a:lnTo>
                  <a:lnTo>
                    <a:pt x="131" y="174"/>
                  </a:lnTo>
                  <a:lnTo>
                    <a:pt x="136" y="168"/>
                  </a:lnTo>
                  <a:lnTo>
                    <a:pt x="141" y="160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4172040" y="4060800"/>
              <a:ext cx="106200" cy="303480"/>
            </a:xfrm>
            <a:custGeom>
              <a:avLst/>
              <a:gdLst/>
              <a:ahLst/>
              <a:rect l="l" t="t" r="r" b="b"/>
              <a:pathLst>
                <a:path w="335" h="954">
                  <a:moveTo>
                    <a:pt x="25" y="130"/>
                  </a:moveTo>
                  <a:lnTo>
                    <a:pt x="28" y="133"/>
                  </a:lnTo>
                  <a:lnTo>
                    <a:pt x="42" y="146"/>
                  </a:lnTo>
                  <a:lnTo>
                    <a:pt x="56" y="159"/>
                  </a:lnTo>
                  <a:lnTo>
                    <a:pt x="68" y="175"/>
                  </a:lnTo>
                  <a:lnTo>
                    <a:pt x="81" y="192"/>
                  </a:lnTo>
                  <a:lnTo>
                    <a:pt x="92" y="211"/>
                  </a:lnTo>
                  <a:lnTo>
                    <a:pt x="104" y="231"/>
                  </a:lnTo>
                  <a:lnTo>
                    <a:pt x="114" y="253"/>
                  </a:lnTo>
                  <a:lnTo>
                    <a:pt x="124" y="276"/>
                  </a:lnTo>
                  <a:lnTo>
                    <a:pt x="133" y="300"/>
                  </a:lnTo>
                  <a:lnTo>
                    <a:pt x="142" y="325"/>
                  </a:lnTo>
                  <a:lnTo>
                    <a:pt x="150" y="352"/>
                  </a:lnTo>
                  <a:lnTo>
                    <a:pt x="156" y="379"/>
                  </a:lnTo>
                  <a:lnTo>
                    <a:pt x="163" y="406"/>
                  </a:lnTo>
                  <a:lnTo>
                    <a:pt x="169" y="436"/>
                  </a:lnTo>
                  <a:lnTo>
                    <a:pt x="173" y="464"/>
                  </a:lnTo>
                  <a:lnTo>
                    <a:pt x="177" y="492"/>
                  </a:lnTo>
                  <a:lnTo>
                    <a:pt x="181" y="522"/>
                  </a:lnTo>
                  <a:lnTo>
                    <a:pt x="183" y="551"/>
                  </a:lnTo>
                  <a:lnTo>
                    <a:pt x="185" y="582"/>
                  </a:lnTo>
                  <a:lnTo>
                    <a:pt x="186" y="610"/>
                  </a:lnTo>
                  <a:lnTo>
                    <a:pt x="186" y="639"/>
                  </a:lnTo>
                  <a:lnTo>
                    <a:pt x="185" y="668"/>
                  </a:lnTo>
                  <a:lnTo>
                    <a:pt x="185" y="696"/>
                  </a:lnTo>
                  <a:lnTo>
                    <a:pt x="183" y="723"/>
                  </a:lnTo>
                  <a:lnTo>
                    <a:pt x="181" y="750"/>
                  </a:lnTo>
                  <a:lnTo>
                    <a:pt x="177" y="776"/>
                  </a:lnTo>
                  <a:lnTo>
                    <a:pt x="173" y="800"/>
                  </a:lnTo>
                  <a:lnTo>
                    <a:pt x="169" y="824"/>
                  </a:lnTo>
                  <a:lnTo>
                    <a:pt x="165" y="846"/>
                  </a:lnTo>
                  <a:lnTo>
                    <a:pt x="160" y="867"/>
                  </a:lnTo>
                  <a:lnTo>
                    <a:pt x="154" y="886"/>
                  </a:lnTo>
                  <a:lnTo>
                    <a:pt x="148" y="903"/>
                  </a:lnTo>
                  <a:lnTo>
                    <a:pt x="288" y="954"/>
                  </a:lnTo>
                  <a:lnTo>
                    <a:pt x="296" y="930"/>
                  </a:lnTo>
                  <a:lnTo>
                    <a:pt x="303" y="905"/>
                  </a:lnTo>
                  <a:lnTo>
                    <a:pt x="310" y="880"/>
                  </a:lnTo>
                  <a:lnTo>
                    <a:pt x="316" y="851"/>
                  </a:lnTo>
                  <a:lnTo>
                    <a:pt x="320" y="824"/>
                  </a:lnTo>
                  <a:lnTo>
                    <a:pt x="324" y="795"/>
                  </a:lnTo>
                  <a:lnTo>
                    <a:pt x="329" y="765"/>
                  </a:lnTo>
                  <a:lnTo>
                    <a:pt x="332" y="734"/>
                  </a:lnTo>
                  <a:lnTo>
                    <a:pt x="333" y="703"/>
                  </a:lnTo>
                  <a:lnTo>
                    <a:pt x="335" y="672"/>
                  </a:lnTo>
                  <a:lnTo>
                    <a:pt x="335" y="639"/>
                  </a:lnTo>
                  <a:lnTo>
                    <a:pt x="335" y="607"/>
                  </a:lnTo>
                  <a:lnTo>
                    <a:pt x="333" y="574"/>
                  </a:lnTo>
                  <a:lnTo>
                    <a:pt x="332" y="541"/>
                  </a:lnTo>
                  <a:lnTo>
                    <a:pt x="329" y="508"/>
                  </a:lnTo>
                  <a:lnTo>
                    <a:pt x="326" y="474"/>
                  </a:lnTo>
                  <a:lnTo>
                    <a:pt x="320" y="442"/>
                  </a:lnTo>
                  <a:lnTo>
                    <a:pt x="315" y="409"/>
                  </a:lnTo>
                  <a:lnTo>
                    <a:pt x="309" y="377"/>
                  </a:lnTo>
                  <a:lnTo>
                    <a:pt x="301" y="344"/>
                  </a:lnTo>
                  <a:lnTo>
                    <a:pt x="293" y="313"/>
                  </a:lnTo>
                  <a:lnTo>
                    <a:pt x="285" y="281"/>
                  </a:lnTo>
                  <a:lnTo>
                    <a:pt x="274" y="251"/>
                  </a:lnTo>
                  <a:lnTo>
                    <a:pt x="263" y="220"/>
                  </a:lnTo>
                  <a:lnTo>
                    <a:pt x="250" y="191"/>
                  </a:lnTo>
                  <a:lnTo>
                    <a:pt x="236" y="163"/>
                  </a:lnTo>
                  <a:lnTo>
                    <a:pt x="221" y="135"/>
                  </a:lnTo>
                  <a:lnTo>
                    <a:pt x="205" y="109"/>
                  </a:lnTo>
                  <a:lnTo>
                    <a:pt x="187" y="85"/>
                  </a:lnTo>
                  <a:lnTo>
                    <a:pt x="167" y="61"/>
                  </a:lnTo>
                  <a:lnTo>
                    <a:pt x="146" y="39"/>
                  </a:lnTo>
                  <a:lnTo>
                    <a:pt x="123" y="19"/>
                  </a:lnTo>
                  <a:lnTo>
                    <a:pt x="127" y="22"/>
                  </a:lnTo>
                  <a:lnTo>
                    <a:pt x="123" y="19"/>
                  </a:lnTo>
                  <a:lnTo>
                    <a:pt x="117" y="13"/>
                  </a:lnTo>
                  <a:lnTo>
                    <a:pt x="109" y="8"/>
                  </a:lnTo>
                  <a:lnTo>
                    <a:pt x="102" y="5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4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4" y="15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5" y="34"/>
                  </a:lnTo>
                  <a:lnTo>
                    <a:pt x="10" y="40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4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2" y="114"/>
                  </a:lnTo>
                  <a:lnTo>
                    <a:pt x="17" y="121"/>
                  </a:lnTo>
                  <a:lnTo>
                    <a:pt x="22" y="127"/>
                  </a:lnTo>
                  <a:lnTo>
                    <a:pt x="28" y="133"/>
                  </a:lnTo>
                  <a:lnTo>
                    <a:pt x="25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533760" y="3990960"/>
              <a:ext cx="679320" cy="111240"/>
            </a:xfrm>
            <a:custGeom>
              <a:avLst/>
              <a:gdLst/>
              <a:ahLst/>
              <a:rect l="l" t="t" r="r" b="b"/>
              <a:pathLst>
                <a:path w="2139" h="352">
                  <a:moveTo>
                    <a:pt x="114" y="333"/>
                  </a:moveTo>
                  <a:lnTo>
                    <a:pt x="113" y="334"/>
                  </a:lnTo>
                  <a:lnTo>
                    <a:pt x="129" y="325"/>
                  </a:lnTo>
                  <a:lnTo>
                    <a:pt x="147" y="316"/>
                  </a:lnTo>
                  <a:lnTo>
                    <a:pt x="166" y="307"/>
                  </a:lnTo>
                  <a:lnTo>
                    <a:pt x="187" y="298"/>
                  </a:lnTo>
                  <a:lnTo>
                    <a:pt x="208" y="290"/>
                  </a:lnTo>
                  <a:lnTo>
                    <a:pt x="231" y="282"/>
                  </a:lnTo>
                  <a:lnTo>
                    <a:pt x="255" y="273"/>
                  </a:lnTo>
                  <a:lnTo>
                    <a:pt x="279" y="265"/>
                  </a:lnTo>
                  <a:lnTo>
                    <a:pt x="334" y="249"/>
                  </a:lnTo>
                  <a:lnTo>
                    <a:pt x="391" y="234"/>
                  </a:lnTo>
                  <a:lnTo>
                    <a:pt x="452" y="220"/>
                  </a:lnTo>
                  <a:lnTo>
                    <a:pt x="516" y="207"/>
                  </a:lnTo>
                  <a:lnTo>
                    <a:pt x="583" y="196"/>
                  </a:lnTo>
                  <a:lnTo>
                    <a:pt x="651" y="185"/>
                  </a:lnTo>
                  <a:lnTo>
                    <a:pt x="722" y="176"/>
                  </a:lnTo>
                  <a:lnTo>
                    <a:pt x="795" y="167"/>
                  </a:lnTo>
                  <a:lnTo>
                    <a:pt x="868" y="161"/>
                  </a:lnTo>
                  <a:lnTo>
                    <a:pt x="943" y="156"/>
                  </a:lnTo>
                  <a:lnTo>
                    <a:pt x="1019" y="153"/>
                  </a:lnTo>
                  <a:lnTo>
                    <a:pt x="1094" y="150"/>
                  </a:lnTo>
                  <a:lnTo>
                    <a:pt x="1169" y="149"/>
                  </a:lnTo>
                  <a:lnTo>
                    <a:pt x="1244" y="150"/>
                  </a:lnTo>
                  <a:lnTo>
                    <a:pt x="1318" y="154"/>
                  </a:lnTo>
                  <a:lnTo>
                    <a:pt x="1390" y="159"/>
                  </a:lnTo>
                  <a:lnTo>
                    <a:pt x="1462" y="164"/>
                  </a:lnTo>
                  <a:lnTo>
                    <a:pt x="1532" y="172"/>
                  </a:lnTo>
                  <a:lnTo>
                    <a:pt x="1566" y="178"/>
                  </a:lnTo>
                  <a:lnTo>
                    <a:pt x="1598" y="183"/>
                  </a:lnTo>
                  <a:lnTo>
                    <a:pt x="1631" y="188"/>
                  </a:lnTo>
                  <a:lnTo>
                    <a:pt x="1662" y="195"/>
                  </a:lnTo>
                  <a:lnTo>
                    <a:pt x="1694" y="201"/>
                  </a:lnTo>
                  <a:lnTo>
                    <a:pt x="1724" y="208"/>
                  </a:lnTo>
                  <a:lnTo>
                    <a:pt x="1754" y="216"/>
                  </a:lnTo>
                  <a:lnTo>
                    <a:pt x="1782" y="224"/>
                  </a:lnTo>
                  <a:lnTo>
                    <a:pt x="1809" y="232"/>
                  </a:lnTo>
                  <a:lnTo>
                    <a:pt x="1837" y="241"/>
                  </a:lnTo>
                  <a:lnTo>
                    <a:pt x="1862" y="251"/>
                  </a:lnTo>
                  <a:lnTo>
                    <a:pt x="1887" y="261"/>
                  </a:lnTo>
                  <a:lnTo>
                    <a:pt x="1909" y="270"/>
                  </a:lnTo>
                  <a:lnTo>
                    <a:pt x="1932" y="282"/>
                  </a:lnTo>
                  <a:lnTo>
                    <a:pt x="1953" y="292"/>
                  </a:lnTo>
                  <a:lnTo>
                    <a:pt x="1972" y="304"/>
                  </a:lnTo>
                  <a:lnTo>
                    <a:pt x="1991" y="315"/>
                  </a:lnTo>
                  <a:lnTo>
                    <a:pt x="2008" y="327"/>
                  </a:lnTo>
                  <a:lnTo>
                    <a:pt x="2022" y="339"/>
                  </a:lnTo>
                  <a:lnTo>
                    <a:pt x="2037" y="352"/>
                  </a:lnTo>
                  <a:lnTo>
                    <a:pt x="2139" y="244"/>
                  </a:lnTo>
                  <a:lnTo>
                    <a:pt x="2118" y="225"/>
                  </a:lnTo>
                  <a:lnTo>
                    <a:pt x="2097" y="208"/>
                  </a:lnTo>
                  <a:lnTo>
                    <a:pt x="2074" y="191"/>
                  </a:lnTo>
                  <a:lnTo>
                    <a:pt x="2050" y="177"/>
                  </a:lnTo>
                  <a:lnTo>
                    <a:pt x="2025" y="162"/>
                  </a:lnTo>
                  <a:lnTo>
                    <a:pt x="1998" y="148"/>
                  </a:lnTo>
                  <a:lnTo>
                    <a:pt x="1972" y="136"/>
                  </a:lnTo>
                  <a:lnTo>
                    <a:pt x="1944" y="123"/>
                  </a:lnTo>
                  <a:lnTo>
                    <a:pt x="1915" y="112"/>
                  </a:lnTo>
                  <a:lnTo>
                    <a:pt x="1886" y="101"/>
                  </a:lnTo>
                  <a:lnTo>
                    <a:pt x="1856" y="91"/>
                  </a:lnTo>
                  <a:lnTo>
                    <a:pt x="1824" y="81"/>
                  </a:lnTo>
                  <a:lnTo>
                    <a:pt x="1793" y="72"/>
                  </a:lnTo>
                  <a:lnTo>
                    <a:pt x="1759" y="63"/>
                  </a:lnTo>
                  <a:lnTo>
                    <a:pt x="1726" y="56"/>
                  </a:lnTo>
                  <a:lnTo>
                    <a:pt x="1693" y="49"/>
                  </a:lnTo>
                  <a:lnTo>
                    <a:pt x="1658" y="42"/>
                  </a:lnTo>
                  <a:lnTo>
                    <a:pt x="1622" y="36"/>
                  </a:lnTo>
                  <a:lnTo>
                    <a:pt x="1587" y="30"/>
                  </a:lnTo>
                  <a:lnTo>
                    <a:pt x="1550" y="24"/>
                  </a:lnTo>
                  <a:lnTo>
                    <a:pt x="1477" y="16"/>
                  </a:lnTo>
                  <a:lnTo>
                    <a:pt x="1402" y="10"/>
                  </a:lnTo>
                  <a:lnTo>
                    <a:pt x="1325" y="4"/>
                  </a:lnTo>
                  <a:lnTo>
                    <a:pt x="1248" y="2"/>
                  </a:lnTo>
                  <a:lnTo>
                    <a:pt x="1170" y="0"/>
                  </a:lnTo>
                  <a:lnTo>
                    <a:pt x="1091" y="1"/>
                  </a:lnTo>
                  <a:lnTo>
                    <a:pt x="1013" y="3"/>
                  </a:lnTo>
                  <a:lnTo>
                    <a:pt x="935" y="8"/>
                  </a:lnTo>
                  <a:lnTo>
                    <a:pt x="857" y="13"/>
                  </a:lnTo>
                  <a:lnTo>
                    <a:pt x="780" y="19"/>
                  </a:lnTo>
                  <a:lnTo>
                    <a:pt x="705" y="28"/>
                  </a:lnTo>
                  <a:lnTo>
                    <a:pt x="631" y="37"/>
                  </a:lnTo>
                  <a:lnTo>
                    <a:pt x="559" y="49"/>
                  </a:lnTo>
                  <a:lnTo>
                    <a:pt x="488" y="61"/>
                  </a:lnTo>
                  <a:lnTo>
                    <a:pt x="421" y="75"/>
                  </a:lnTo>
                  <a:lnTo>
                    <a:pt x="356" y="90"/>
                  </a:lnTo>
                  <a:lnTo>
                    <a:pt x="294" y="105"/>
                  </a:lnTo>
                  <a:lnTo>
                    <a:pt x="236" y="122"/>
                  </a:lnTo>
                  <a:lnTo>
                    <a:pt x="208" y="132"/>
                  </a:lnTo>
                  <a:lnTo>
                    <a:pt x="181" y="141"/>
                  </a:lnTo>
                  <a:lnTo>
                    <a:pt x="154" y="151"/>
                  </a:lnTo>
                  <a:lnTo>
                    <a:pt x="129" y="161"/>
                  </a:lnTo>
                  <a:lnTo>
                    <a:pt x="105" y="171"/>
                  </a:lnTo>
                  <a:lnTo>
                    <a:pt x="82" y="182"/>
                  </a:lnTo>
                  <a:lnTo>
                    <a:pt x="60" y="193"/>
                  </a:lnTo>
                  <a:lnTo>
                    <a:pt x="39" y="205"/>
                  </a:lnTo>
                  <a:lnTo>
                    <a:pt x="38" y="205"/>
                  </a:lnTo>
                  <a:lnTo>
                    <a:pt x="39" y="205"/>
                  </a:lnTo>
                  <a:lnTo>
                    <a:pt x="32" y="209"/>
                  </a:lnTo>
                  <a:lnTo>
                    <a:pt x="24" y="214"/>
                  </a:lnTo>
                  <a:lnTo>
                    <a:pt x="19" y="221"/>
                  </a:lnTo>
                  <a:lnTo>
                    <a:pt x="14" y="226"/>
                  </a:lnTo>
                  <a:lnTo>
                    <a:pt x="9" y="232"/>
                  </a:lnTo>
                  <a:lnTo>
                    <a:pt x="6" y="240"/>
                  </a:lnTo>
                  <a:lnTo>
                    <a:pt x="3" y="246"/>
                  </a:lnTo>
                  <a:lnTo>
                    <a:pt x="2" y="252"/>
                  </a:lnTo>
                  <a:lnTo>
                    <a:pt x="1" y="260"/>
                  </a:lnTo>
                  <a:lnTo>
                    <a:pt x="0" y="267"/>
                  </a:lnTo>
                  <a:lnTo>
                    <a:pt x="1" y="273"/>
                  </a:lnTo>
                  <a:lnTo>
                    <a:pt x="1" y="281"/>
                  </a:lnTo>
                  <a:lnTo>
                    <a:pt x="3" y="287"/>
                  </a:lnTo>
                  <a:lnTo>
                    <a:pt x="5" y="294"/>
                  </a:lnTo>
                  <a:lnTo>
                    <a:pt x="8" y="301"/>
                  </a:lnTo>
                  <a:lnTo>
                    <a:pt x="12" y="307"/>
                  </a:lnTo>
                  <a:lnTo>
                    <a:pt x="15" y="312"/>
                  </a:lnTo>
                  <a:lnTo>
                    <a:pt x="19" y="318"/>
                  </a:lnTo>
                  <a:lnTo>
                    <a:pt x="23" y="324"/>
                  </a:lnTo>
                  <a:lnTo>
                    <a:pt x="28" y="328"/>
                  </a:lnTo>
                  <a:lnTo>
                    <a:pt x="35" y="332"/>
                  </a:lnTo>
                  <a:lnTo>
                    <a:pt x="40" y="336"/>
                  </a:lnTo>
                  <a:lnTo>
                    <a:pt x="46" y="339"/>
                  </a:lnTo>
                  <a:lnTo>
                    <a:pt x="53" y="342"/>
                  </a:lnTo>
                  <a:lnTo>
                    <a:pt x="60" y="344"/>
                  </a:lnTo>
                  <a:lnTo>
                    <a:pt x="66" y="345"/>
                  </a:lnTo>
                  <a:lnTo>
                    <a:pt x="74" y="346"/>
                  </a:lnTo>
                  <a:lnTo>
                    <a:pt x="82" y="345"/>
                  </a:lnTo>
                  <a:lnTo>
                    <a:pt x="89" y="344"/>
                  </a:lnTo>
                  <a:lnTo>
                    <a:pt x="97" y="342"/>
                  </a:lnTo>
                  <a:lnTo>
                    <a:pt x="105" y="338"/>
                  </a:lnTo>
                  <a:lnTo>
                    <a:pt x="113" y="334"/>
                  </a:lnTo>
                  <a:lnTo>
                    <a:pt x="11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360600" y="4056120"/>
              <a:ext cx="209520" cy="216000"/>
            </a:xfrm>
            <a:custGeom>
              <a:avLst/>
              <a:gdLst/>
              <a:ahLst/>
              <a:rect l="l" t="t" r="r" b="b"/>
              <a:pathLst>
                <a:path w="661" h="680">
                  <a:moveTo>
                    <a:pt x="150" y="604"/>
                  </a:moveTo>
                  <a:lnTo>
                    <a:pt x="137" y="646"/>
                  </a:lnTo>
                  <a:lnTo>
                    <a:pt x="165" y="605"/>
                  </a:lnTo>
                  <a:lnTo>
                    <a:pt x="193" y="565"/>
                  </a:lnTo>
                  <a:lnTo>
                    <a:pt x="221" y="527"/>
                  </a:lnTo>
                  <a:lnTo>
                    <a:pt x="252" y="489"/>
                  </a:lnTo>
                  <a:lnTo>
                    <a:pt x="282" y="453"/>
                  </a:lnTo>
                  <a:lnTo>
                    <a:pt x="313" y="418"/>
                  </a:lnTo>
                  <a:lnTo>
                    <a:pt x="345" y="383"/>
                  </a:lnTo>
                  <a:lnTo>
                    <a:pt x="378" y="350"/>
                  </a:lnTo>
                  <a:lnTo>
                    <a:pt x="411" y="318"/>
                  </a:lnTo>
                  <a:lnTo>
                    <a:pt x="444" y="288"/>
                  </a:lnTo>
                  <a:lnTo>
                    <a:pt x="479" y="258"/>
                  </a:lnTo>
                  <a:lnTo>
                    <a:pt x="514" y="230"/>
                  </a:lnTo>
                  <a:lnTo>
                    <a:pt x="550" y="203"/>
                  </a:lnTo>
                  <a:lnTo>
                    <a:pt x="587" y="176"/>
                  </a:lnTo>
                  <a:lnTo>
                    <a:pt x="624" y="152"/>
                  </a:lnTo>
                  <a:lnTo>
                    <a:pt x="661" y="128"/>
                  </a:lnTo>
                  <a:lnTo>
                    <a:pt x="585" y="0"/>
                  </a:lnTo>
                  <a:lnTo>
                    <a:pt x="543" y="26"/>
                  </a:lnTo>
                  <a:lnTo>
                    <a:pt x="502" y="54"/>
                  </a:lnTo>
                  <a:lnTo>
                    <a:pt x="462" y="82"/>
                  </a:lnTo>
                  <a:lnTo>
                    <a:pt x="422" y="112"/>
                  </a:lnTo>
                  <a:lnTo>
                    <a:pt x="384" y="144"/>
                  </a:lnTo>
                  <a:lnTo>
                    <a:pt x="346" y="176"/>
                  </a:lnTo>
                  <a:lnTo>
                    <a:pt x="309" y="209"/>
                  </a:lnTo>
                  <a:lnTo>
                    <a:pt x="273" y="245"/>
                  </a:lnTo>
                  <a:lnTo>
                    <a:pt x="237" y="280"/>
                  </a:lnTo>
                  <a:lnTo>
                    <a:pt x="203" y="318"/>
                  </a:lnTo>
                  <a:lnTo>
                    <a:pt x="169" y="356"/>
                  </a:lnTo>
                  <a:lnTo>
                    <a:pt x="136" y="396"/>
                  </a:lnTo>
                  <a:lnTo>
                    <a:pt x="104" y="436"/>
                  </a:lnTo>
                  <a:lnTo>
                    <a:pt x="73" y="478"/>
                  </a:lnTo>
                  <a:lnTo>
                    <a:pt x="43" y="521"/>
                  </a:lnTo>
                  <a:lnTo>
                    <a:pt x="13" y="564"/>
                  </a:lnTo>
                  <a:lnTo>
                    <a:pt x="1" y="606"/>
                  </a:lnTo>
                  <a:lnTo>
                    <a:pt x="13" y="564"/>
                  </a:lnTo>
                  <a:lnTo>
                    <a:pt x="8" y="571"/>
                  </a:lnTo>
                  <a:lnTo>
                    <a:pt x="5" y="580"/>
                  </a:lnTo>
                  <a:lnTo>
                    <a:pt x="2" y="587"/>
                  </a:lnTo>
                  <a:lnTo>
                    <a:pt x="1" y="594"/>
                  </a:lnTo>
                  <a:lnTo>
                    <a:pt x="0" y="603"/>
                  </a:lnTo>
                  <a:lnTo>
                    <a:pt x="0" y="609"/>
                  </a:lnTo>
                  <a:lnTo>
                    <a:pt x="0" y="616"/>
                  </a:lnTo>
                  <a:lnTo>
                    <a:pt x="2" y="624"/>
                  </a:lnTo>
                  <a:lnTo>
                    <a:pt x="4" y="630"/>
                  </a:lnTo>
                  <a:lnTo>
                    <a:pt x="7" y="636"/>
                  </a:lnTo>
                  <a:lnTo>
                    <a:pt x="10" y="643"/>
                  </a:lnTo>
                  <a:lnTo>
                    <a:pt x="15" y="648"/>
                  </a:lnTo>
                  <a:lnTo>
                    <a:pt x="19" y="654"/>
                  </a:lnTo>
                  <a:lnTo>
                    <a:pt x="23" y="658"/>
                  </a:lnTo>
                  <a:lnTo>
                    <a:pt x="29" y="664"/>
                  </a:lnTo>
                  <a:lnTo>
                    <a:pt x="35" y="667"/>
                  </a:lnTo>
                  <a:lnTo>
                    <a:pt x="41" y="671"/>
                  </a:lnTo>
                  <a:lnTo>
                    <a:pt x="47" y="674"/>
                  </a:lnTo>
                  <a:lnTo>
                    <a:pt x="53" y="676"/>
                  </a:lnTo>
                  <a:lnTo>
                    <a:pt x="60" y="678"/>
                  </a:lnTo>
                  <a:lnTo>
                    <a:pt x="67" y="679"/>
                  </a:lnTo>
                  <a:lnTo>
                    <a:pt x="73" y="680"/>
                  </a:lnTo>
                  <a:lnTo>
                    <a:pt x="81" y="680"/>
                  </a:lnTo>
                  <a:lnTo>
                    <a:pt x="88" y="679"/>
                  </a:lnTo>
                  <a:lnTo>
                    <a:pt x="94" y="678"/>
                  </a:lnTo>
                  <a:lnTo>
                    <a:pt x="102" y="676"/>
                  </a:lnTo>
                  <a:lnTo>
                    <a:pt x="108" y="673"/>
                  </a:lnTo>
                  <a:lnTo>
                    <a:pt x="114" y="669"/>
                  </a:lnTo>
                  <a:lnTo>
                    <a:pt x="121" y="665"/>
                  </a:lnTo>
                  <a:lnTo>
                    <a:pt x="127" y="659"/>
                  </a:lnTo>
                  <a:lnTo>
                    <a:pt x="132" y="653"/>
                  </a:lnTo>
                  <a:lnTo>
                    <a:pt x="137" y="646"/>
                  </a:lnTo>
                  <a:lnTo>
                    <a:pt x="150" y="6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4927680" y="4014720"/>
              <a:ext cx="850680" cy="1613160"/>
            </a:xfrm>
            <a:custGeom>
              <a:avLst/>
              <a:gdLst/>
              <a:ahLst/>
              <a:rect l="l" t="t" r="r" b="b"/>
              <a:pathLst>
                <a:path w="2681" h="5080">
                  <a:moveTo>
                    <a:pt x="2681" y="3273"/>
                  </a:moveTo>
                  <a:lnTo>
                    <a:pt x="2681" y="2945"/>
                  </a:lnTo>
                  <a:lnTo>
                    <a:pt x="2681" y="2615"/>
                  </a:lnTo>
                  <a:lnTo>
                    <a:pt x="2681" y="2287"/>
                  </a:lnTo>
                  <a:lnTo>
                    <a:pt x="2681" y="1958"/>
                  </a:lnTo>
                  <a:lnTo>
                    <a:pt x="2681" y="1628"/>
                  </a:lnTo>
                  <a:lnTo>
                    <a:pt x="2681" y="1300"/>
                  </a:lnTo>
                  <a:lnTo>
                    <a:pt x="2681" y="971"/>
                  </a:lnTo>
                  <a:lnTo>
                    <a:pt x="2681" y="642"/>
                  </a:lnTo>
                  <a:lnTo>
                    <a:pt x="2655" y="608"/>
                  </a:lnTo>
                  <a:lnTo>
                    <a:pt x="2630" y="574"/>
                  </a:lnTo>
                  <a:lnTo>
                    <a:pt x="2603" y="542"/>
                  </a:lnTo>
                  <a:lnTo>
                    <a:pt x="2575" y="509"/>
                  </a:lnTo>
                  <a:lnTo>
                    <a:pt x="2548" y="478"/>
                  </a:lnTo>
                  <a:lnTo>
                    <a:pt x="2520" y="447"/>
                  </a:lnTo>
                  <a:lnTo>
                    <a:pt x="2491" y="418"/>
                  </a:lnTo>
                  <a:lnTo>
                    <a:pt x="2463" y="389"/>
                  </a:lnTo>
                  <a:lnTo>
                    <a:pt x="2433" y="361"/>
                  </a:lnTo>
                  <a:lnTo>
                    <a:pt x="2403" y="335"/>
                  </a:lnTo>
                  <a:lnTo>
                    <a:pt x="2373" y="309"/>
                  </a:lnTo>
                  <a:lnTo>
                    <a:pt x="2341" y="283"/>
                  </a:lnTo>
                  <a:lnTo>
                    <a:pt x="2310" y="259"/>
                  </a:lnTo>
                  <a:lnTo>
                    <a:pt x="2277" y="237"/>
                  </a:lnTo>
                  <a:lnTo>
                    <a:pt x="2245" y="215"/>
                  </a:lnTo>
                  <a:lnTo>
                    <a:pt x="2212" y="194"/>
                  </a:lnTo>
                  <a:lnTo>
                    <a:pt x="2173" y="174"/>
                  </a:lnTo>
                  <a:lnTo>
                    <a:pt x="2130" y="155"/>
                  </a:lnTo>
                  <a:lnTo>
                    <a:pt x="2082" y="136"/>
                  </a:lnTo>
                  <a:lnTo>
                    <a:pt x="2029" y="118"/>
                  </a:lnTo>
                  <a:lnTo>
                    <a:pt x="1974" y="102"/>
                  </a:lnTo>
                  <a:lnTo>
                    <a:pt x="1914" y="87"/>
                  </a:lnTo>
                  <a:lnTo>
                    <a:pt x="1851" y="72"/>
                  </a:lnTo>
                  <a:lnTo>
                    <a:pt x="1786" y="59"/>
                  </a:lnTo>
                  <a:lnTo>
                    <a:pt x="1717" y="47"/>
                  </a:lnTo>
                  <a:lnTo>
                    <a:pt x="1647" y="37"/>
                  </a:lnTo>
                  <a:lnTo>
                    <a:pt x="1575" y="27"/>
                  </a:lnTo>
                  <a:lnTo>
                    <a:pt x="1500" y="19"/>
                  </a:lnTo>
                  <a:lnTo>
                    <a:pt x="1424" y="11"/>
                  </a:lnTo>
                  <a:lnTo>
                    <a:pt x="1349" y="6"/>
                  </a:lnTo>
                  <a:lnTo>
                    <a:pt x="1272" y="3"/>
                  </a:lnTo>
                  <a:lnTo>
                    <a:pt x="1195" y="1"/>
                  </a:lnTo>
                  <a:lnTo>
                    <a:pt x="1118" y="0"/>
                  </a:lnTo>
                  <a:lnTo>
                    <a:pt x="1042" y="2"/>
                  </a:lnTo>
                  <a:lnTo>
                    <a:pt x="966" y="4"/>
                  </a:lnTo>
                  <a:lnTo>
                    <a:pt x="891" y="9"/>
                  </a:lnTo>
                  <a:lnTo>
                    <a:pt x="819" y="16"/>
                  </a:lnTo>
                  <a:lnTo>
                    <a:pt x="746" y="24"/>
                  </a:lnTo>
                  <a:lnTo>
                    <a:pt x="677" y="34"/>
                  </a:lnTo>
                  <a:lnTo>
                    <a:pt x="611" y="46"/>
                  </a:lnTo>
                  <a:lnTo>
                    <a:pt x="545" y="61"/>
                  </a:lnTo>
                  <a:lnTo>
                    <a:pt x="485" y="78"/>
                  </a:lnTo>
                  <a:lnTo>
                    <a:pt x="427" y="96"/>
                  </a:lnTo>
                  <a:lnTo>
                    <a:pt x="372" y="116"/>
                  </a:lnTo>
                  <a:lnTo>
                    <a:pt x="323" y="139"/>
                  </a:lnTo>
                  <a:lnTo>
                    <a:pt x="277" y="165"/>
                  </a:lnTo>
                  <a:lnTo>
                    <a:pt x="236" y="193"/>
                  </a:lnTo>
                  <a:lnTo>
                    <a:pt x="200" y="222"/>
                  </a:lnTo>
                  <a:lnTo>
                    <a:pt x="181" y="239"/>
                  </a:lnTo>
                  <a:lnTo>
                    <a:pt x="164" y="257"/>
                  </a:lnTo>
                  <a:lnTo>
                    <a:pt x="149" y="277"/>
                  </a:lnTo>
                  <a:lnTo>
                    <a:pt x="133" y="298"/>
                  </a:lnTo>
                  <a:lnTo>
                    <a:pt x="119" y="320"/>
                  </a:lnTo>
                  <a:lnTo>
                    <a:pt x="106" y="344"/>
                  </a:lnTo>
                  <a:lnTo>
                    <a:pt x="94" y="369"/>
                  </a:lnTo>
                  <a:lnTo>
                    <a:pt x="82" y="396"/>
                  </a:lnTo>
                  <a:lnTo>
                    <a:pt x="72" y="422"/>
                  </a:lnTo>
                  <a:lnTo>
                    <a:pt x="62" y="450"/>
                  </a:lnTo>
                  <a:lnTo>
                    <a:pt x="54" y="479"/>
                  </a:lnTo>
                  <a:lnTo>
                    <a:pt x="47" y="508"/>
                  </a:lnTo>
                  <a:lnTo>
                    <a:pt x="39" y="538"/>
                  </a:lnTo>
                  <a:lnTo>
                    <a:pt x="34" y="569"/>
                  </a:lnTo>
                  <a:lnTo>
                    <a:pt x="29" y="599"/>
                  </a:lnTo>
                  <a:lnTo>
                    <a:pt x="25" y="631"/>
                  </a:lnTo>
                  <a:lnTo>
                    <a:pt x="21" y="662"/>
                  </a:lnTo>
                  <a:lnTo>
                    <a:pt x="18" y="693"/>
                  </a:lnTo>
                  <a:lnTo>
                    <a:pt x="16" y="724"/>
                  </a:lnTo>
                  <a:lnTo>
                    <a:pt x="15" y="756"/>
                  </a:lnTo>
                  <a:lnTo>
                    <a:pt x="15" y="786"/>
                  </a:lnTo>
                  <a:lnTo>
                    <a:pt x="15" y="817"/>
                  </a:lnTo>
                  <a:lnTo>
                    <a:pt x="17" y="846"/>
                  </a:lnTo>
                  <a:lnTo>
                    <a:pt x="18" y="876"/>
                  </a:lnTo>
                  <a:lnTo>
                    <a:pt x="21" y="904"/>
                  </a:lnTo>
                  <a:lnTo>
                    <a:pt x="25" y="932"/>
                  </a:lnTo>
                  <a:lnTo>
                    <a:pt x="29" y="960"/>
                  </a:lnTo>
                  <a:lnTo>
                    <a:pt x="33" y="985"/>
                  </a:lnTo>
                  <a:lnTo>
                    <a:pt x="38" y="1010"/>
                  </a:lnTo>
                  <a:lnTo>
                    <a:pt x="44" y="1033"/>
                  </a:lnTo>
                  <a:lnTo>
                    <a:pt x="51" y="1055"/>
                  </a:lnTo>
                  <a:lnTo>
                    <a:pt x="57" y="1076"/>
                  </a:lnTo>
                  <a:lnTo>
                    <a:pt x="48" y="1058"/>
                  </a:lnTo>
                  <a:lnTo>
                    <a:pt x="38" y="1045"/>
                  </a:lnTo>
                  <a:lnTo>
                    <a:pt x="31" y="1035"/>
                  </a:lnTo>
                  <a:lnTo>
                    <a:pt x="25" y="1029"/>
                  </a:lnTo>
                  <a:lnTo>
                    <a:pt x="19" y="1026"/>
                  </a:lnTo>
                  <a:lnTo>
                    <a:pt x="14" y="1026"/>
                  </a:lnTo>
                  <a:lnTo>
                    <a:pt x="11" y="1027"/>
                  </a:lnTo>
                  <a:lnTo>
                    <a:pt x="8" y="1031"/>
                  </a:lnTo>
                  <a:lnTo>
                    <a:pt x="6" y="1036"/>
                  </a:lnTo>
                  <a:lnTo>
                    <a:pt x="4" y="1041"/>
                  </a:lnTo>
                  <a:lnTo>
                    <a:pt x="3" y="1049"/>
                  </a:lnTo>
                  <a:lnTo>
                    <a:pt x="2" y="1055"/>
                  </a:lnTo>
                  <a:lnTo>
                    <a:pt x="0" y="1068"/>
                  </a:lnTo>
                  <a:lnTo>
                    <a:pt x="0" y="1076"/>
                  </a:lnTo>
                  <a:lnTo>
                    <a:pt x="33" y="1105"/>
                  </a:lnTo>
                  <a:lnTo>
                    <a:pt x="70" y="1134"/>
                  </a:lnTo>
                  <a:lnTo>
                    <a:pt x="112" y="1160"/>
                  </a:lnTo>
                  <a:lnTo>
                    <a:pt x="156" y="1184"/>
                  </a:lnTo>
                  <a:lnTo>
                    <a:pt x="205" y="1208"/>
                  </a:lnTo>
                  <a:lnTo>
                    <a:pt x="256" y="1230"/>
                  </a:lnTo>
                  <a:lnTo>
                    <a:pt x="310" y="1252"/>
                  </a:lnTo>
                  <a:lnTo>
                    <a:pt x="366" y="1273"/>
                  </a:lnTo>
                  <a:lnTo>
                    <a:pt x="481" y="1315"/>
                  </a:lnTo>
                  <a:lnTo>
                    <a:pt x="601" y="1357"/>
                  </a:lnTo>
                  <a:lnTo>
                    <a:pt x="661" y="1380"/>
                  </a:lnTo>
                  <a:lnTo>
                    <a:pt x="721" y="1402"/>
                  </a:lnTo>
                  <a:lnTo>
                    <a:pt x="779" y="1425"/>
                  </a:lnTo>
                  <a:lnTo>
                    <a:pt x="836" y="1449"/>
                  </a:lnTo>
                  <a:lnTo>
                    <a:pt x="891" y="1475"/>
                  </a:lnTo>
                  <a:lnTo>
                    <a:pt x="945" y="1502"/>
                  </a:lnTo>
                  <a:lnTo>
                    <a:pt x="995" y="1531"/>
                  </a:lnTo>
                  <a:lnTo>
                    <a:pt x="1043" y="1562"/>
                  </a:lnTo>
                  <a:lnTo>
                    <a:pt x="1087" y="1596"/>
                  </a:lnTo>
                  <a:lnTo>
                    <a:pt x="1127" y="1630"/>
                  </a:lnTo>
                  <a:lnTo>
                    <a:pt x="1163" y="1669"/>
                  </a:lnTo>
                  <a:lnTo>
                    <a:pt x="1194" y="1710"/>
                  </a:lnTo>
                  <a:lnTo>
                    <a:pt x="1221" y="1754"/>
                  </a:lnTo>
                  <a:lnTo>
                    <a:pt x="1241" y="1801"/>
                  </a:lnTo>
                  <a:lnTo>
                    <a:pt x="1255" y="1852"/>
                  </a:lnTo>
                  <a:lnTo>
                    <a:pt x="1264" y="1906"/>
                  </a:lnTo>
                  <a:lnTo>
                    <a:pt x="1265" y="1964"/>
                  </a:lnTo>
                  <a:lnTo>
                    <a:pt x="1259" y="2026"/>
                  </a:lnTo>
                  <a:lnTo>
                    <a:pt x="1245" y="2092"/>
                  </a:lnTo>
                  <a:lnTo>
                    <a:pt x="1224" y="2164"/>
                  </a:lnTo>
                  <a:lnTo>
                    <a:pt x="1209" y="2205"/>
                  </a:lnTo>
                  <a:lnTo>
                    <a:pt x="1193" y="2243"/>
                  </a:lnTo>
                  <a:lnTo>
                    <a:pt x="1177" y="2278"/>
                  </a:lnTo>
                  <a:lnTo>
                    <a:pt x="1159" y="2312"/>
                  </a:lnTo>
                  <a:lnTo>
                    <a:pt x="1141" y="2343"/>
                  </a:lnTo>
                  <a:lnTo>
                    <a:pt x="1122" y="2373"/>
                  </a:lnTo>
                  <a:lnTo>
                    <a:pt x="1103" y="2401"/>
                  </a:lnTo>
                  <a:lnTo>
                    <a:pt x="1083" y="2428"/>
                  </a:lnTo>
                  <a:lnTo>
                    <a:pt x="1062" y="2455"/>
                  </a:lnTo>
                  <a:lnTo>
                    <a:pt x="1042" y="2479"/>
                  </a:lnTo>
                  <a:lnTo>
                    <a:pt x="1021" y="2503"/>
                  </a:lnTo>
                  <a:lnTo>
                    <a:pt x="1000" y="2526"/>
                  </a:lnTo>
                  <a:lnTo>
                    <a:pt x="959" y="2572"/>
                  </a:lnTo>
                  <a:lnTo>
                    <a:pt x="918" y="2617"/>
                  </a:lnTo>
                  <a:lnTo>
                    <a:pt x="899" y="2642"/>
                  </a:lnTo>
                  <a:lnTo>
                    <a:pt x="880" y="2666"/>
                  </a:lnTo>
                  <a:lnTo>
                    <a:pt x="862" y="2690"/>
                  </a:lnTo>
                  <a:lnTo>
                    <a:pt x="844" y="2716"/>
                  </a:lnTo>
                  <a:lnTo>
                    <a:pt x="827" y="2742"/>
                  </a:lnTo>
                  <a:lnTo>
                    <a:pt x="811" y="2771"/>
                  </a:lnTo>
                  <a:lnTo>
                    <a:pt x="796" y="2801"/>
                  </a:lnTo>
                  <a:lnTo>
                    <a:pt x="783" y="2833"/>
                  </a:lnTo>
                  <a:lnTo>
                    <a:pt x="770" y="2866"/>
                  </a:lnTo>
                  <a:lnTo>
                    <a:pt x="759" y="2902"/>
                  </a:lnTo>
                  <a:lnTo>
                    <a:pt x="749" y="2940"/>
                  </a:lnTo>
                  <a:lnTo>
                    <a:pt x="741" y="2981"/>
                  </a:lnTo>
                  <a:lnTo>
                    <a:pt x="735" y="3025"/>
                  </a:lnTo>
                  <a:lnTo>
                    <a:pt x="730" y="3071"/>
                  </a:lnTo>
                  <a:lnTo>
                    <a:pt x="727" y="3120"/>
                  </a:lnTo>
                  <a:lnTo>
                    <a:pt x="726" y="3173"/>
                  </a:lnTo>
                  <a:lnTo>
                    <a:pt x="1437" y="3230"/>
                  </a:lnTo>
                  <a:lnTo>
                    <a:pt x="1436" y="3264"/>
                  </a:lnTo>
                  <a:lnTo>
                    <a:pt x="1432" y="3296"/>
                  </a:lnTo>
                  <a:lnTo>
                    <a:pt x="1427" y="3324"/>
                  </a:lnTo>
                  <a:lnTo>
                    <a:pt x="1418" y="3351"/>
                  </a:lnTo>
                  <a:lnTo>
                    <a:pt x="1408" y="3376"/>
                  </a:lnTo>
                  <a:lnTo>
                    <a:pt x="1396" y="3398"/>
                  </a:lnTo>
                  <a:lnTo>
                    <a:pt x="1382" y="3419"/>
                  </a:lnTo>
                  <a:lnTo>
                    <a:pt x="1368" y="3438"/>
                  </a:lnTo>
                  <a:lnTo>
                    <a:pt x="1352" y="3454"/>
                  </a:lnTo>
                  <a:lnTo>
                    <a:pt x="1334" y="3470"/>
                  </a:lnTo>
                  <a:lnTo>
                    <a:pt x="1315" y="3485"/>
                  </a:lnTo>
                  <a:lnTo>
                    <a:pt x="1295" y="3498"/>
                  </a:lnTo>
                  <a:lnTo>
                    <a:pt x="1275" y="3511"/>
                  </a:lnTo>
                  <a:lnTo>
                    <a:pt x="1254" y="3522"/>
                  </a:lnTo>
                  <a:lnTo>
                    <a:pt x="1232" y="3533"/>
                  </a:lnTo>
                  <a:lnTo>
                    <a:pt x="1210" y="3543"/>
                  </a:lnTo>
                  <a:lnTo>
                    <a:pt x="1166" y="3562"/>
                  </a:lnTo>
                  <a:lnTo>
                    <a:pt x="1121" y="3581"/>
                  </a:lnTo>
                  <a:lnTo>
                    <a:pt x="1100" y="3591"/>
                  </a:lnTo>
                  <a:lnTo>
                    <a:pt x="1078" y="3600"/>
                  </a:lnTo>
                  <a:lnTo>
                    <a:pt x="1058" y="3611"/>
                  </a:lnTo>
                  <a:lnTo>
                    <a:pt x="1038" y="3622"/>
                  </a:lnTo>
                  <a:lnTo>
                    <a:pt x="1019" y="3634"/>
                  </a:lnTo>
                  <a:lnTo>
                    <a:pt x="1001" y="3646"/>
                  </a:lnTo>
                  <a:lnTo>
                    <a:pt x="984" y="3660"/>
                  </a:lnTo>
                  <a:lnTo>
                    <a:pt x="970" y="3675"/>
                  </a:lnTo>
                  <a:lnTo>
                    <a:pt x="956" y="3692"/>
                  </a:lnTo>
                  <a:lnTo>
                    <a:pt x="943" y="3708"/>
                  </a:lnTo>
                  <a:lnTo>
                    <a:pt x="933" y="3728"/>
                  </a:lnTo>
                  <a:lnTo>
                    <a:pt x="925" y="3749"/>
                  </a:lnTo>
                  <a:lnTo>
                    <a:pt x="895" y="3838"/>
                  </a:lnTo>
                  <a:lnTo>
                    <a:pt x="876" y="3925"/>
                  </a:lnTo>
                  <a:lnTo>
                    <a:pt x="869" y="4010"/>
                  </a:lnTo>
                  <a:lnTo>
                    <a:pt x="872" y="4092"/>
                  </a:lnTo>
                  <a:lnTo>
                    <a:pt x="885" y="4170"/>
                  </a:lnTo>
                  <a:lnTo>
                    <a:pt x="906" y="4248"/>
                  </a:lnTo>
                  <a:lnTo>
                    <a:pt x="936" y="4322"/>
                  </a:lnTo>
                  <a:lnTo>
                    <a:pt x="974" y="4393"/>
                  </a:lnTo>
                  <a:lnTo>
                    <a:pt x="1018" y="4462"/>
                  </a:lnTo>
                  <a:lnTo>
                    <a:pt x="1069" y="4527"/>
                  </a:lnTo>
                  <a:lnTo>
                    <a:pt x="1126" y="4590"/>
                  </a:lnTo>
                  <a:lnTo>
                    <a:pt x="1188" y="4649"/>
                  </a:lnTo>
                  <a:lnTo>
                    <a:pt x="1255" y="4705"/>
                  </a:lnTo>
                  <a:lnTo>
                    <a:pt x="1326" y="4757"/>
                  </a:lnTo>
                  <a:lnTo>
                    <a:pt x="1399" y="4806"/>
                  </a:lnTo>
                  <a:lnTo>
                    <a:pt x="1476" y="4851"/>
                  </a:lnTo>
                  <a:lnTo>
                    <a:pt x="1554" y="4893"/>
                  </a:lnTo>
                  <a:lnTo>
                    <a:pt x="1633" y="4931"/>
                  </a:lnTo>
                  <a:lnTo>
                    <a:pt x="1713" y="4964"/>
                  </a:lnTo>
                  <a:lnTo>
                    <a:pt x="1794" y="4994"/>
                  </a:lnTo>
                  <a:lnTo>
                    <a:pt x="1873" y="5019"/>
                  </a:lnTo>
                  <a:lnTo>
                    <a:pt x="1952" y="5040"/>
                  </a:lnTo>
                  <a:lnTo>
                    <a:pt x="2028" y="5057"/>
                  </a:lnTo>
                  <a:lnTo>
                    <a:pt x="2102" y="5069"/>
                  </a:lnTo>
                  <a:lnTo>
                    <a:pt x="2172" y="5077"/>
                  </a:lnTo>
                  <a:lnTo>
                    <a:pt x="2239" y="5080"/>
                  </a:lnTo>
                  <a:lnTo>
                    <a:pt x="2301" y="5079"/>
                  </a:lnTo>
                  <a:lnTo>
                    <a:pt x="2358" y="5071"/>
                  </a:lnTo>
                  <a:lnTo>
                    <a:pt x="2409" y="5060"/>
                  </a:lnTo>
                  <a:lnTo>
                    <a:pt x="2455" y="5043"/>
                  </a:lnTo>
                  <a:lnTo>
                    <a:pt x="2492" y="5021"/>
                  </a:lnTo>
                  <a:lnTo>
                    <a:pt x="2523" y="4994"/>
                  </a:lnTo>
                  <a:lnTo>
                    <a:pt x="2534" y="4975"/>
                  </a:lnTo>
                  <a:lnTo>
                    <a:pt x="2544" y="4948"/>
                  </a:lnTo>
                  <a:lnTo>
                    <a:pt x="2552" y="4917"/>
                  </a:lnTo>
                  <a:lnTo>
                    <a:pt x="2559" y="4879"/>
                  </a:lnTo>
                  <a:lnTo>
                    <a:pt x="2564" y="4836"/>
                  </a:lnTo>
                  <a:lnTo>
                    <a:pt x="2567" y="4789"/>
                  </a:lnTo>
                  <a:lnTo>
                    <a:pt x="2569" y="4736"/>
                  </a:lnTo>
                  <a:lnTo>
                    <a:pt x="2571" y="4681"/>
                  </a:lnTo>
                  <a:lnTo>
                    <a:pt x="2572" y="4622"/>
                  </a:lnTo>
                  <a:lnTo>
                    <a:pt x="2572" y="4559"/>
                  </a:lnTo>
                  <a:lnTo>
                    <a:pt x="2571" y="4494"/>
                  </a:lnTo>
                  <a:lnTo>
                    <a:pt x="2570" y="4427"/>
                  </a:lnTo>
                  <a:lnTo>
                    <a:pt x="2567" y="4287"/>
                  </a:lnTo>
                  <a:lnTo>
                    <a:pt x="2565" y="4144"/>
                  </a:lnTo>
                  <a:lnTo>
                    <a:pt x="2564" y="4072"/>
                  </a:lnTo>
                  <a:lnTo>
                    <a:pt x="2563" y="4000"/>
                  </a:lnTo>
                  <a:lnTo>
                    <a:pt x="2563" y="3930"/>
                  </a:lnTo>
                  <a:lnTo>
                    <a:pt x="2564" y="3860"/>
                  </a:lnTo>
                  <a:lnTo>
                    <a:pt x="2565" y="3791"/>
                  </a:lnTo>
                  <a:lnTo>
                    <a:pt x="2568" y="3726"/>
                  </a:lnTo>
                  <a:lnTo>
                    <a:pt x="2571" y="3662"/>
                  </a:lnTo>
                  <a:lnTo>
                    <a:pt x="2576" y="3601"/>
                  </a:lnTo>
                  <a:lnTo>
                    <a:pt x="2583" y="3545"/>
                  </a:lnTo>
                  <a:lnTo>
                    <a:pt x="2591" y="3491"/>
                  </a:lnTo>
                  <a:lnTo>
                    <a:pt x="2601" y="3442"/>
                  </a:lnTo>
                  <a:lnTo>
                    <a:pt x="2612" y="3397"/>
                  </a:lnTo>
                  <a:lnTo>
                    <a:pt x="2626" y="3358"/>
                  </a:lnTo>
                  <a:lnTo>
                    <a:pt x="2643" y="3323"/>
                  </a:lnTo>
                  <a:lnTo>
                    <a:pt x="2660" y="3295"/>
                  </a:lnTo>
                  <a:lnTo>
                    <a:pt x="2681" y="3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5756400" y="4194360"/>
              <a:ext cx="46080" cy="858600"/>
            </a:xfrm>
            <a:custGeom>
              <a:avLst/>
              <a:gdLst/>
              <a:ahLst/>
              <a:rect l="l" t="t" r="r" b="b"/>
              <a:pathLst>
                <a:path w="149" h="2705">
                  <a:moveTo>
                    <a:pt x="15" y="119"/>
                  </a:moveTo>
                  <a:lnTo>
                    <a:pt x="0" y="74"/>
                  </a:lnTo>
                  <a:lnTo>
                    <a:pt x="0" y="403"/>
                  </a:lnTo>
                  <a:lnTo>
                    <a:pt x="0" y="732"/>
                  </a:lnTo>
                  <a:lnTo>
                    <a:pt x="0" y="1060"/>
                  </a:lnTo>
                  <a:lnTo>
                    <a:pt x="0" y="1390"/>
                  </a:lnTo>
                  <a:lnTo>
                    <a:pt x="0" y="1719"/>
                  </a:lnTo>
                  <a:lnTo>
                    <a:pt x="0" y="2047"/>
                  </a:lnTo>
                  <a:lnTo>
                    <a:pt x="0" y="2377"/>
                  </a:lnTo>
                  <a:lnTo>
                    <a:pt x="0" y="2705"/>
                  </a:lnTo>
                  <a:lnTo>
                    <a:pt x="149" y="2705"/>
                  </a:lnTo>
                  <a:lnTo>
                    <a:pt x="149" y="2377"/>
                  </a:lnTo>
                  <a:lnTo>
                    <a:pt x="149" y="2047"/>
                  </a:lnTo>
                  <a:lnTo>
                    <a:pt x="149" y="1719"/>
                  </a:lnTo>
                  <a:lnTo>
                    <a:pt x="149" y="1390"/>
                  </a:lnTo>
                  <a:lnTo>
                    <a:pt x="149" y="1060"/>
                  </a:lnTo>
                  <a:lnTo>
                    <a:pt x="149" y="732"/>
                  </a:lnTo>
                  <a:lnTo>
                    <a:pt x="149" y="403"/>
                  </a:lnTo>
                  <a:lnTo>
                    <a:pt x="149" y="74"/>
                  </a:lnTo>
                  <a:lnTo>
                    <a:pt x="134" y="30"/>
                  </a:lnTo>
                  <a:lnTo>
                    <a:pt x="149" y="74"/>
                  </a:lnTo>
                  <a:lnTo>
                    <a:pt x="148" y="65"/>
                  </a:lnTo>
                  <a:lnTo>
                    <a:pt x="147" y="57"/>
                  </a:lnTo>
                  <a:lnTo>
                    <a:pt x="145" y="49"/>
                  </a:lnTo>
                  <a:lnTo>
                    <a:pt x="143" y="42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3"/>
                  </a:lnTo>
                  <a:lnTo>
                    <a:pt x="126" y="19"/>
                  </a:lnTo>
                  <a:lnTo>
                    <a:pt x="120" y="14"/>
                  </a:lnTo>
                  <a:lnTo>
                    <a:pt x="114" y="10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605560" y="4051440"/>
              <a:ext cx="191880" cy="181080"/>
            </a:xfrm>
            <a:custGeom>
              <a:avLst/>
              <a:gdLst/>
              <a:ahLst/>
              <a:rect l="l" t="t" r="r" b="b"/>
              <a:pathLst>
                <a:path w="605" h="569">
                  <a:moveTo>
                    <a:pt x="39" y="141"/>
                  </a:moveTo>
                  <a:lnTo>
                    <a:pt x="38" y="140"/>
                  </a:lnTo>
                  <a:lnTo>
                    <a:pt x="69" y="160"/>
                  </a:lnTo>
                  <a:lnTo>
                    <a:pt x="99" y="180"/>
                  </a:lnTo>
                  <a:lnTo>
                    <a:pt x="130" y="202"/>
                  </a:lnTo>
                  <a:lnTo>
                    <a:pt x="159" y="224"/>
                  </a:lnTo>
                  <a:lnTo>
                    <a:pt x="189" y="248"/>
                  </a:lnTo>
                  <a:lnTo>
                    <a:pt x="218" y="272"/>
                  </a:lnTo>
                  <a:lnTo>
                    <a:pt x="246" y="298"/>
                  </a:lnTo>
                  <a:lnTo>
                    <a:pt x="274" y="325"/>
                  </a:lnTo>
                  <a:lnTo>
                    <a:pt x="303" y="352"/>
                  </a:lnTo>
                  <a:lnTo>
                    <a:pt x="330" y="381"/>
                  </a:lnTo>
                  <a:lnTo>
                    <a:pt x="356" y="410"/>
                  </a:lnTo>
                  <a:lnTo>
                    <a:pt x="384" y="439"/>
                  </a:lnTo>
                  <a:lnTo>
                    <a:pt x="409" y="471"/>
                  </a:lnTo>
                  <a:lnTo>
                    <a:pt x="435" y="502"/>
                  </a:lnTo>
                  <a:lnTo>
                    <a:pt x="460" y="535"/>
                  </a:lnTo>
                  <a:lnTo>
                    <a:pt x="486" y="569"/>
                  </a:lnTo>
                  <a:lnTo>
                    <a:pt x="605" y="480"/>
                  </a:lnTo>
                  <a:lnTo>
                    <a:pt x="579" y="445"/>
                  </a:lnTo>
                  <a:lnTo>
                    <a:pt x="552" y="410"/>
                  </a:lnTo>
                  <a:lnTo>
                    <a:pt x="524" y="376"/>
                  </a:lnTo>
                  <a:lnTo>
                    <a:pt x="496" y="343"/>
                  </a:lnTo>
                  <a:lnTo>
                    <a:pt x="468" y="310"/>
                  </a:lnTo>
                  <a:lnTo>
                    <a:pt x="438" y="279"/>
                  </a:lnTo>
                  <a:lnTo>
                    <a:pt x="409" y="247"/>
                  </a:lnTo>
                  <a:lnTo>
                    <a:pt x="378" y="218"/>
                  </a:lnTo>
                  <a:lnTo>
                    <a:pt x="347" y="188"/>
                  </a:lnTo>
                  <a:lnTo>
                    <a:pt x="315" y="160"/>
                  </a:lnTo>
                  <a:lnTo>
                    <a:pt x="284" y="133"/>
                  </a:lnTo>
                  <a:lnTo>
                    <a:pt x="251" y="107"/>
                  </a:lnTo>
                  <a:lnTo>
                    <a:pt x="218" y="81"/>
                  </a:lnTo>
                  <a:lnTo>
                    <a:pt x="184" y="57"/>
                  </a:lnTo>
                  <a:lnTo>
                    <a:pt x="149" y="34"/>
                  </a:lnTo>
                  <a:lnTo>
                    <a:pt x="114" y="12"/>
                  </a:lnTo>
                  <a:lnTo>
                    <a:pt x="113" y="12"/>
                  </a:lnTo>
                  <a:lnTo>
                    <a:pt x="114" y="12"/>
                  </a:lnTo>
                  <a:lnTo>
                    <a:pt x="106" y="8"/>
                  </a:lnTo>
                  <a:lnTo>
                    <a:pt x="98" y="5"/>
                  </a:lnTo>
                  <a:lnTo>
                    <a:pt x="91" y="3"/>
                  </a:lnTo>
                  <a:lnTo>
                    <a:pt x="82" y="2"/>
                  </a:lnTo>
                  <a:lnTo>
                    <a:pt x="75" y="0"/>
                  </a:lnTo>
                  <a:lnTo>
                    <a:pt x="68" y="2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8" y="7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5" y="21"/>
                  </a:lnTo>
                  <a:lnTo>
                    <a:pt x="20" y="27"/>
                  </a:lnTo>
                  <a:lnTo>
                    <a:pt x="16" y="32"/>
                  </a:lnTo>
                  <a:lnTo>
                    <a:pt x="12" y="38"/>
                  </a:lnTo>
                  <a:lnTo>
                    <a:pt x="9" y="45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4" y="98"/>
                  </a:lnTo>
                  <a:lnTo>
                    <a:pt x="6" y="105"/>
                  </a:lnTo>
                  <a:lnTo>
                    <a:pt x="9" y="112"/>
                  </a:lnTo>
                  <a:lnTo>
                    <a:pt x="13" y="118"/>
                  </a:lnTo>
                  <a:lnTo>
                    <a:pt x="18" y="124"/>
                  </a:lnTo>
                  <a:lnTo>
                    <a:pt x="23" y="130"/>
                  </a:lnTo>
                  <a:lnTo>
                    <a:pt x="30" y="135"/>
                  </a:lnTo>
                  <a:lnTo>
                    <a:pt x="38" y="140"/>
                  </a:lnTo>
                  <a:lnTo>
                    <a:pt x="39" y="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4967280" y="3990960"/>
              <a:ext cx="674640" cy="117720"/>
            </a:xfrm>
            <a:custGeom>
              <a:avLst/>
              <a:gdLst/>
              <a:ahLst/>
              <a:rect l="l" t="t" r="r" b="b"/>
              <a:pathLst>
                <a:path w="2125" h="374">
                  <a:moveTo>
                    <a:pt x="123" y="355"/>
                  </a:moveTo>
                  <a:lnTo>
                    <a:pt x="126" y="352"/>
                  </a:lnTo>
                  <a:lnTo>
                    <a:pt x="141" y="339"/>
                  </a:lnTo>
                  <a:lnTo>
                    <a:pt x="156" y="327"/>
                  </a:lnTo>
                  <a:lnTo>
                    <a:pt x="174" y="315"/>
                  </a:lnTo>
                  <a:lnTo>
                    <a:pt x="192" y="304"/>
                  </a:lnTo>
                  <a:lnTo>
                    <a:pt x="211" y="292"/>
                  </a:lnTo>
                  <a:lnTo>
                    <a:pt x="231" y="282"/>
                  </a:lnTo>
                  <a:lnTo>
                    <a:pt x="255" y="270"/>
                  </a:lnTo>
                  <a:lnTo>
                    <a:pt x="278" y="261"/>
                  </a:lnTo>
                  <a:lnTo>
                    <a:pt x="302" y="251"/>
                  </a:lnTo>
                  <a:lnTo>
                    <a:pt x="327" y="241"/>
                  </a:lnTo>
                  <a:lnTo>
                    <a:pt x="354" y="232"/>
                  </a:lnTo>
                  <a:lnTo>
                    <a:pt x="382" y="224"/>
                  </a:lnTo>
                  <a:lnTo>
                    <a:pt x="410" y="216"/>
                  </a:lnTo>
                  <a:lnTo>
                    <a:pt x="439" y="208"/>
                  </a:lnTo>
                  <a:lnTo>
                    <a:pt x="470" y="201"/>
                  </a:lnTo>
                  <a:lnTo>
                    <a:pt x="501" y="195"/>
                  </a:lnTo>
                  <a:lnTo>
                    <a:pt x="533" y="188"/>
                  </a:lnTo>
                  <a:lnTo>
                    <a:pt x="565" y="183"/>
                  </a:lnTo>
                  <a:lnTo>
                    <a:pt x="598" y="178"/>
                  </a:lnTo>
                  <a:lnTo>
                    <a:pt x="632" y="172"/>
                  </a:lnTo>
                  <a:lnTo>
                    <a:pt x="702" y="164"/>
                  </a:lnTo>
                  <a:lnTo>
                    <a:pt x="773" y="159"/>
                  </a:lnTo>
                  <a:lnTo>
                    <a:pt x="846" y="154"/>
                  </a:lnTo>
                  <a:lnTo>
                    <a:pt x="919" y="150"/>
                  </a:lnTo>
                  <a:lnTo>
                    <a:pt x="995" y="149"/>
                  </a:lnTo>
                  <a:lnTo>
                    <a:pt x="1070" y="150"/>
                  </a:lnTo>
                  <a:lnTo>
                    <a:pt x="1145" y="153"/>
                  </a:lnTo>
                  <a:lnTo>
                    <a:pt x="1221" y="156"/>
                  </a:lnTo>
                  <a:lnTo>
                    <a:pt x="1295" y="161"/>
                  </a:lnTo>
                  <a:lnTo>
                    <a:pt x="1369" y="167"/>
                  </a:lnTo>
                  <a:lnTo>
                    <a:pt x="1441" y="176"/>
                  </a:lnTo>
                  <a:lnTo>
                    <a:pt x="1513" y="185"/>
                  </a:lnTo>
                  <a:lnTo>
                    <a:pt x="1581" y="196"/>
                  </a:lnTo>
                  <a:lnTo>
                    <a:pt x="1648" y="207"/>
                  </a:lnTo>
                  <a:lnTo>
                    <a:pt x="1712" y="220"/>
                  </a:lnTo>
                  <a:lnTo>
                    <a:pt x="1773" y="234"/>
                  </a:lnTo>
                  <a:lnTo>
                    <a:pt x="1830" y="249"/>
                  </a:lnTo>
                  <a:lnTo>
                    <a:pt x="1884" y="265"/>
                  </a:lnTo>
                  <a:lnTo>
                    <a:pt x="1908" y="273"/>
                  </a:lnTo>
                  <a:lnTo>
                    <a:pt x="1933" y="282"/>
                  </a:lnTo>
                  <a:lnTo>
                    <a:pt x="1956" y="290"/>
                  </a:lnTo>
                  <a:lnTo>
                    <a:pt x="1978" y="298"/>
                  </a:lnTo>
                  <a:lnTo>
                    <a:pt x="1998" y="307"/>
                  </a:lnTo>
                  <a:lnTo>
                    <a:pt x="2017" y="316"/>
                  </a:lnTo>
                  <a:lnTo>
                    <a:pt x="2034" y="325"/>
                  </a:lnTo>
                  <a:lnTo>
                    <a:pt x="2051" y="334"/>
                  </a:lnTo>
                  <a:lnTo>
                    <a:pt x="2125" y="205"/>
                  </a:lnTo>
                  <a:lnTo>
                    <a:pt x="2104" y="193"/>
                  </a:lnTo>
                  <a:lnTo>
                    <a:pt x="2082" y="182"/>
                  </a:lnTo>
                  <a:lnTo>
                    <a:pt x="2059" y="171"/>
                  </a:lnTo>
                  <a:lnTo>
                    <a:pt x="2034" y="161"/>
                  </a:lnTo>
                  <a:lnTo>
                    <a:pt x="2009" y="151"/>
                  </a:lnTo>
                  <a:lnTo>
                    <a:pt x="1983" y="141"/>
                  </a:lnTo>
                  <a:lnTo>
                    <a:pt x="1956" y="132"/>
                  </a:lnTo>
                  <a:lnTo>
                    <a:pt x="1927" y="122"/>
                  </a:lnTo>
                  <a:lnTo>
                    <a:pt x="1870" y="105"/>
                  </a:lnTo>
                  <a:lnTo>
                    <a:pt x="1808" y="90"/>
                  </a:lnTo>
                  <a:lnTo>
                    <a:pt x="1743" y="75"/>
                  </a:lnTo>
                  <a:lnTo>
                    <a:pt x="1675" y="61"/>
                  </a:lnTo>
                  <a:lnTo>
                    <a:pt x="1605" y="49"/>
                  </a:lnTo>
                  <a:lnTo>
                    <a:pt x="1532" y="37"/>
                  </a:lnTo>
                  <a:lnTo>
                    <a:pt x="1459" y="28"/>
                  </a:lnTo>
                  <a:lnTo>
                    <a:pt x="1383" y="19"/>
                  </a:lnTo>
                  <a:lnTo>
                    <a:pt x="1307" y="13"/>
                  </a:lnTo>
                  <a:lnTo>
                    <a:pt x="1229" y="8"/>
                  </a:lnTo>
                  <a:lnTo>
                    <a:pt x="1150" y="3"/>
                  </a:lnTo>
                  <a:lnTo>
                    <a:pt x="1073" y="1"/>
                  </a:lnTo>
                  <a:lnTo>
                    <a:pt x="994" y="0"/>
                  </a:lnTo>
                  <a:lnTo>
                    <a:pt x="916" y="2"/>
                  </a:lnTo>
                  <a:lnTo>
                    <a:pt x="838" y="4"/>
                  </a:lnTo>
                  <a:lnTo>
                    <a:pt x="762" y="10"/>
                  </a:lnTo>
                  <a:lnTo>
                    <a:pt x="686" y="16"/>
                  </a:lnTo>
                  <a:lnTo>
                    <a:pt x="614" y="24"/>
                  </a:lnTo>
                  <a:lnTo>
                    <a:pt x="577" y="30"/>
                  </a:lnTo>
                  <a:lnTo>
                    <a:pt x="541" y="36"/>
                  </a:lnTo>
                  <a:lnTo>
                    <a:pt x="505" y="42"/>
                  </a:lnTo>
                  <a:lnTo>
                    <a:pt x="471" y="49"/>
                  </a:lnTo>
                  <a:lnTo>
                    <a:pt x="437" y="56"/>
                  </a:lnTo>
                  <a:lnTo>
                    <a:pt x="405" y="63"/>
                  </a:lnTo>
                  <a:lnTo>
                    <a:pt x="371" y="72"/>
                  </a:lnTo>
                  <a:lnTo>
                    <a:pt x="340" y="81"/>
                  </a:lnTo>
                  <a:lnTo>
                    <a:pt x="308" y="91"/>
                  </a:lnTo>
                  <a:lnTo>
                    <a:pt x="278" y="101"/>
                  </a:lnTo>
                  <a:lnTo>
                    <a:pt x="248" y="112"/>
                  </a:lnTo>
                  <a:lnTo>
                    <a:pt x="220" y="123"/>
                  </a:lnTo>
                  <a:lnTo>
                    <a:pt x="192" y="136"/>
                  </a:lnTo>
                  <a:lnTo>
                    <a:pt x="165" y="148"/>
                  </a:lnTo>
                  <a:lnTo>
                    <a:pt x="139" y="162"/>
                  </a:lnTo>
                  <a:lnTo>
                    <a:pt x="114" y="177"/>
                  </a:lnTo>
                  <a:lnTo>
                    <a:pt x="90" y="191"/>
                  </a:lnTo>
                  <a:lnTo>
                    <a:pt x="67" y="208"/>
                  </a:lnTo>
                  <a:lnTo>
                    <a:pt x="46" y="225"/>
                  </a:lnTo>
                  <a:lnTo>
                    <a:pt x="25" y="244"/>
                  </a:lnTo>
                  <a:lnTo>
                    <a:pt x="29" y="241"/>
                  </a:lnTo>
                  <a:lnTo>
                    <a:pt x="25" y="244"/>
                  </a:lnTo>
                  <a:lnTo>
                    <a:pt x="18" y="250"/>
                  </a:lnTo>
                  <a:lnTo>
                    <a:pt x="13" y="256"/>
                  </a:lnTo>
                  <a:lnTo>
                    <a:pt x="9" y="264"/>
                  </a:lnTo>
                  <a:lnTo>
                    <a:pt x="6" y="271"/>
                  </a:lnTo>
                  <a:lnTo>
                    <a:pt x="3" y="277"/>
                  </a:lnTo>
                  <a:lnTo>
                    <a:pt x="1" y="285"/>
                  </a:lnTo>
                  <a:lnTo>
                    <a:pt x="0" y="292"/>
                  </a:lnTo>
                  <a:lnTo>
                    <a:pt x="0" y="298"/>
                  </a:lnTo>
                  <a:lnTo>
                    <a:pt x="0" y="306"/>
                  </a:lnTo>
                  <a:lnTo>
                    <a:pt x="1" y="313"/>
                  </a:lnTo>
                  <a:lnTo>
                    <a:pt x="4" y="319"/>
                  </a:lnTo>
                  <a:lnTo>
                    <a:pt x="6" y="326"/>
                  </a:lnTo>
                  <a:lnTo>
                    <a:pt x="9" y="332"/>
                  </a:lnTo>
                  <a:lnTo>
                    <a:pt x="13" y="338"/>
                  </a:lnTo>
                  <a:lnTo>
                    <a:pt x="17" y="344"/>
                  </a:lnTo>
                  <a:lnTo>
                    <a:pt x="21" y="349"/>
                  </a:lnTo>
                  <a:lnTo>
                    <a:pt x="27" y="354"/>
                  </a:lnTo>
                  <a:lnTo>
                    <a:pt x="32" y="358"/>
                  </a:lnTo>
                  <a:lnTo>
                    <a:pt x="37" y="363"/>
                  </a:lnTo>
                  <a:lnTo>
                    <a:pt x="43" y="366"/>
                  </a:lnTo>
                  <a:lnTo>
                    <a:pt x="50" y="369"/>
                  </a:lnTo>
                  <a:lnTo>
                    <a:pt x="56" y="371"/>
                  </a:lnTo>
                  <a:lnTo>
                    <a:pt x="63" y="372"/>
                  </a:lnTo>
                  <a:lnTo>
                    <a:pt x="70" y="373"/>
                  </a:lnTo>
                  <a:lnTo>
                    <a:pt x="77" y="374"/>
                  </a:lnTo>
                  <a:lnTo>
                    <a:pt x="84" y="373"/>
                  </a:lnTo>
                  <a:lnTo>
                    <a:pt x="92" y="372"/>
                  </a:lnTo>
                  <a:lnTo>
                    <a:pt x="99" y="370"/>
                  </a:lnTo>
                  <a:lnTo>
                    <a:pt x="105" y="367"/>
                  </a:lnTo>
                  <a:lnTo>
                    <a:pt x="113" y="363"/>
                  </a:lnTo>
                  <a:lnTo>
                    <a:pt x="120" y="358"/>
                  </a:lnTo>
                  <a:lnTo>
                    <a:pt x="126" y="352"/>
                  </a:lnTo>
                  <a:lnTo>
                    <a:pt x="123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4908600" y="4067280"/>
              <a:ext cx="98280" cy="312840"/>
            </a:xfrm>
            <a:custGeom>
              <a:avLst/>
              <a:gdLst/>
              <a:ahLst/>
              <a:rect l="l" t="t" r="r" b="b"/>
              <a:pathLst>
                <a:path w="306" h="985">
                  <a:moveTo>
                    <a:pt x="51" y="945"/>
                  </a:moveTo>
                  <a:lnTo>
                    <a:pt x="187" y="884"/>
                  </a:lnTo>
                  <a:lnTo>
                    <a:pt x="180" y="867"/>
                  </a:lnTo>
                  <a:lnTo>
                    <a:pt x="175" y="848"/>
                  </a:lnTo>
                  <a:lnTo>
                    <a:pt x="170" y="827"/>
                  </a:lnTo>
                  <a:lnTo>
                    <a:pt x="166" y="805"/>
                  </a:lnTo>
                  <a:lnTo>
                    <a:pt x="161" y="781"/>
                  </a:lnTo>
                  <a:lnTo>
                    <a:pt x="157" y="757"/>
                  </a:lnTo>
                  <a:lnTo>
                    <a:pt x="154" y="731"/>
                  </a:lnTo>
                  <a:lnTo>
                    <a:pt x="152" y="704"/>
                  </a:lnTo>
                  <a:lnTo>
                    <a:pt x="150" y="677"/>
                  </a:lnTo>
                  <a:lnTo>
                    <a:pt x="150" y="649"/>
                  </a:lnTo>
                  <a:lnTo>
                    <a:pt x="149" y="620"/>
                  </a:lnTo>
                  <a:lnTo>
                    <a:pt x="150" y="591"/>
                  </a:lnTo>
                  <a:lnTo>
                    <a:pt x="150" y="563"/>
                  </a:lnTo>
                  <a:lnTo>
                    <a:pt x="152" y="532"/>
                  </a:lnTo>
                  <a:lnTo>
                    <a:pt x="154" y="503"/>
                  </a:lnTo>
                  <a:lnTo>
                    <a:pt x="158" y="473"/>
                  </a:lnTo>
                  <a:lnTo>
                    <a:pt x="161" y="445"/>
                  </a:lnTo>
                  <a:lnTo>
                    <a:pt x="167" y="417"/>
                  </a:lnTo>
                  <a:lnTo>
                    <a:pt x="172" y="387"/>
                  </a:lnTo>
                  <a:lnTo>
                    <a:pt x="178" y="360"/>
                  </a:lnTo>
                  <a:lnTo>
                    <a:pt x="184" y="333"/>
                  </a:lnTo>
                  <a:lnTo>
                    <a:pt x="193" y="306"/>
                  </a:lnTo>
                  <a:lnTo>
                    <a:pt x="201" y="281"/>
                  </a:lnTo>
                  <a:lnTo>
                    <a:pt x="211" y="257"/>
                  </a:lnTo>
                  <a:lnTo>
                    <a:pt x="220" y="234"/>
                  </a:lnTo>
                  <a:lnTo>
                    <a:pt x="231" y="212"/>
                  </a:lnTo>
                  <a:lnTo>
                    <a:pt x="242" y="192"/>
                  </a:lnTo>
                  <a:lnTo>
                    <a:pt x="254" y="173"/>
                  </a:lnTo>
                  <a:lnTo>
                    <a:pt x="266" y="156"/>
                  </a:lnTo>
                  <a:lnTo>
                    <a:pt x="279" y="140"/>
                  </a:lnTo>
                  <a:lnTo>
                    <a:pt x="293" y="127"/>
                  </a:lnTo>
                  <a:lnTo>
                    <a:pt x="306" y="114"/>
                  </a:lnTo>
                  <a:lnTo>
                    <a:pt x="212" y="0"/>
                  </a:lnTo>
                  <a:lnTo>
                    <a:pt x="189" y="20"/>
                  </a:lnTo>
                  <a:lnTo>
                    <a:pt x="168" y="42"/>
                  </a:lnTo>
                  <a:lnTo>
                    <a:pt x="148" y="66"/>
                  </a:lnTo>
                  <a:lnTo>
                    <a:pt x="131" y="90"/>
                  </a:lnTo>
                  <a:lnTo>
                    <a:pt x="114" y="116"/>
                  </a:lnTo>
                  <a:lnTo>
                    <a:pt x="98" y="144"/>
                  </a:lnTo>
                  <a:lnTo>
                    <a:pt x="85" y="172"/>
                  </a:lnTo>
                  <a:lnTo>
                    <a:pt x="72" y="201"/>
                  </a:lnTo>
                  <a:lnTo>
                    <a:pt x="62" y="232"/>
                  </a:lnTo>
                  <a:lnTo>
                    <a:pt x="51" y="262"/>
                  </a:lnTo>
                  <a:lnTo>
                    <a:pt x="42" y="294"/>
                  </a:lnTo>
                  <a:lnTo>
                    <a:pt x="33" y="325"/>
                  </a:lnTo>
                  <a:lnTo>
                    <a:pt x="26" y="358"/>
                  </a:lnTo>
                  <a:lnTo>
                    <a:pt x="20" y="390"/>
                  </a:lnTo>
                  <a:lnTo>
                    <a:pt x="14" y="423"/>
                  </a:lnTo>
                  <a:lnTo>
                    <a:pt x="9" y="455"/>
                  </a:lnTo>
                  <a:lnTo>
                    <a:pt x="6" y="489"/>
                  </a:lnTo>
                  <a:lnTo>
                    <a:pt x="3" y="522"/>
                  </a:lnTo>
                  <a:lnTo>
                    <a:pt x="2" y="555"/>
                  </a:lnTo>
                  <a:lnTo>
                    <a:pt x="0" y="588"/>
                  </a:lnTo>
                  <a:lnTo>
                    <a:pt x="0" y="620"/>
                  </a:lnTo>
                  <a:lnTo>
                    <a:pt x="0" y="653"/>
                  </a:lnTo>
                  <a:lnTo>
                    <a:pt x="2" y="684"/>
                  </a:lnTo>
                  <a:lnTo>
                    <a:pt x="4" y="715"/>
                  </a:lnTo>
                  <a:lnTo>
                    <a:pt x="6" y="746"/>
                  </a:lnTo>
                  <a:lnTo>
                    <a:pt x="10" y="776"/>
                  </a:lnTo>
                  <a:lnTo>
                    <a:pt x="14" y="805"/>
                  </a:lnTo>
                  <a:lnTo>
                    <a:pt x="19" y="832"/>
                  </a:lnTo>
                  <a:lnTo>
                    <a:pt x="25" y="861"/>
                  </a:lnTo>
                  <a:lnTo>
                    <a:pt x="31" y="886"/>
                  </a:lnTo>
                  <a:lnTo>
                    <a:pt x="38" y="911"/>
                  </a:lnTo>
                  <a:lnTo>
                    <a:pt x="47" y="935"/>
                  </a:lnTo>
                  <a:lnTo>
                    <a:pt x="182" y="875"/>
                  </a:lnTo>
                  <a:lnTo>
                    <a:pt x="47" y="935"/>
                  </a:lnTo>
                  <a:lnTo>
                    <a:pt x="50" y="944"/>
                  </a:lnTo>
                  <a:lnTo>
                    <a:pt x="54" y="951"/>
                  </a:lnTo>
                  <a:lnTo>
                    <a:pt x="58" y="958"/>
                  </a:lnTo>
                  <a:lnTo>
                    <a:pt x="64" y="964"/>
                  </a:lnTo>
                  <a:lnTo>
                    <a:pt x="69" y="969"/>
                  </a:lnTo>
                  <a:lnTo>
                    <a:pt x="75" y="974"/>
                  </a:lnTo>
                  <a:lnTo>
                    <a:pt x="82" y="977"/>
                  </a:lnTo>
                  <a:lnTo>
                    <a:pt x="88" y="980"/>
                  </a:lnTo>
                  <a:lnTo>
                    <a:pt x="94" y="983"/>
                  </a:lnTo>
                  <a:lnTo>
                    <a:pt x="101" y="984"/>
                  </a:lnTo>
                  <a:lnTo>
                    <a:pt x="108" y="985"/>
                  </a:lnTo>
                  <a:lnTo>
                    <a:pt x="115" y="985"/>
                  </a:lnTo>
                  <a:lnTo>
                    <a:pt x="121" y="985"/>
                  </a:lnTo>
                  <a:lnTo>
                    <a:pt x="129" y="984"/>
                  </a:lnTo>
                  <a:lnTo>
                    <a:pt x="135" y="983"/>
                  </a:lnTo>
                  <a:lnTo>
                    <a:pt x="142" y="980"/>
                  </a:lnTo>
                  <a:lnTo>
                    <a:pt x="149" y="977"/>
                  </a:lnTo>
                  <a:lnTo>
                    <a:pt x="155" y="974"/>
                  </a:lnTo>
                  <a:lnTo>
                    <a:pt x="160" y="971"/>
                  </a:lnTo>
                  <a:lnTo>
                    <a:pt x="167" y="966"/>
                  </a:lnTo>
                  <a:lnTo>
                    <a:pt x="172" y="962"/>
                  </a:lnTo>
                  <a:lnTo>
                    <a:pt x="176" y="956"/>
                  </a:lnTo>
                  <a:lnTo>
                    <a:pt x="180" y="951"/>
                  </a:lnTo>
                  <a:lnTo>
                    <a:pt x="183" y="945"/>
                  </a:lnTo>
                  <a:lnTo>
                    <a:pt x="187" y="938"/>
                  </a:lnTo>
                  <a:lnTo>
                    <a:pt x="190" y="932"/>
                  </a:lnTo>
                  <a:lnTo>
                    <a:pt x="191" y="925"/>
                  </a:lnTo>
                  <a:lnTo>
                    <a:pt x="192" y="917"/>
                  </a:lnTo>
                  <a:lnTo>
                    <a:pt x="192" y="909"/>
                  </a:lnTo>
                  <a:lnTo>
                    <a:pt x="191" y="902"/>
                  </a:lnTo>
                  <a:lnTo>
                    <a:pt x="190" y="893"/>
                  </a:lnTo>
                  <a:lnTo>
                    <a:pt x="187" y="884"/>
                  </a:lnTo>
                  <a:lnTo>
                    <a:pt x="51" y="9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4903920" y="4316400"/>
              <a:ext cx="63360" cy="63720"/>
            </a:xfrm>
            <a:custGeom>
              <a:avLst/>
              <a:gdLst/>
              <a:ahLst/>
              <a:rect l="l" t="t" r="r" b="b"/>
              <a:pathLst>
                <a:path w="197" h="200">
                  <a:moveTo>
                    <a:pt x="128" y="73"/>
                  </a:moveTo>
                  <a:lnTo>
                    <a:pt x="149" y="125"/>
                  </a:lnTo>
                  <a:lnTo>
                    <a:pt x="149" y="120"/>
                  </a:lnTo>
                  <a:lnTo>
                    <a:pt x="150" y="110"/>
                  </a:lnTo>
                  <a:lnTo>
                    <a:pt x="150" y="108"/>
                  </a:lnTo>
                  <a:lnTo>
                    <a:pt x="150" y="108"/>
                  </a:lnTo>
                  <a:lnTo>
                    <a:pt x="149" y="111"/>
                  </a:lnTo>
                  <a:lnTo>
                    <a:pt x="145" y="120"/>
                  </a:lnTo>
                  <a:lnTo>
                    <a:pt x="130" y="136"/>
                  </a:lnTo>
                  <a:lnTo>
                    <a:pt x="100" y="148"/>
                  </a:lnTo>
                  <a:lnTo>
                    <a:pt x="68" y="145"/>
                  </a:lnTo>
                  <a:lnTo>
                    <a:pt x="53" y="137"/>
                  </a:lnTo>
                  <a:lnTo>
                    <a:pt x="49" y="133"/>
                  </a:lnTo>
                  <a:lnTo>
                    <a:pt x="52" y="137"/>
                  </a:lnTo>
                  <a:lnTo>
                    <a:pt x="58" y="146"/>
                  </a:lnTo>
                  <a:lnTo>
                    <a:pt x="66" y="160"/>
                  </a:lnTo>
                  <a:lnTo>
                    <a:pt x="197" y="90"/>
                  </a:lnTo>
                  <a:lnTo>
                    <a:pt x="186" y="68"/>
                  </a:lnTo>
                  <a:lnTo>
                    <a:pt x="173" y="51"/>
                  </a:lnTo>
                  <a:lnTo>
                    <a:pt x="161" y="35"/>
                  </a:lnTo>
                  <a:lnTo>
                    <a:pt x="144" y="19"/>
                  </a:lnTo>
                  <a:lnTo>
                    <a:pt x="119" y="4"/>
                  </a:lnTo>
                  <a:lnTo>
                    <a:pt x="78" y="0"/>
                  </a:lnTo>
                  <a:lnTo>
                    <a:pt x="39" y="17"/>
                  </a:lnTo>
                  <a:lnTo>
                    <a:pt x="19" y="40"/>
                  </a:lnTo>
                  <a:lnTo>
                    <a:pt x="9" y="59"/>
                  </a:lnTo>
                  <a:lnTo>
                    <a:pt x="5" y="74"/>
                  </a:lnTo>
                  <a:lnTo>
                    <a:pt x="3" y="86"/>
                  </a:lnTo>
                  <a:lnTo>
                    <a:pt x="1" y="98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22" y="178"/>
                  </a:lnTo>
                  <a:lnTo>
                    <a:pt x="0" y="125"/>
                  </a:lnTo>
                  <a:lnTo>
                    <a:pt x="0" y="135"/>
                  </a:lnTo>
                  <a:lnTo>
                    <a:pt x="2" y="143"/>
                  </a:lnTo>
                  <a:lnTo>
                    <a:pt x="4" y="150"/>
                  </a:lnTo>
                  <a:lnTo>
                    <a:pt x="6" y="158"/>
                  </a:lnTo>
                  <a:lnTo>
                    <a:pt x="9" y="165"/>
                  </a:lnTo>
                  <a:lnTo>
                    <a:pt x="14" y="170"/>
                  </a:lnTo>
                  <a:lnTo>
                    <a:pt x="18" y="177"/>
                  </a:lnTo>
                  <a:lnTo>
                    <a:pt x="23" y="181"/>
                  </a:lnTo>
                  <a:lnTo>
                    <a:pt x="28" y="185"/>
                  </a:lnTo>
                  <a:lnTo>
                    <a:pt x="35" y="189"/>
                  </a:lnTo>
                  <a:lnTo>
                    <a:pt x="41" y="192"/>
                  </a:lnTo>
                  <a:lnTo>
                    <a:pt x="47" y="195"/>
                  </a:lnTo>
                  <a:lnTo>
                    <a:pt x="53" y="198"/>
                  </a:lnTo>
                  <a:lnTo>
                    <a:pt x="61" y="199"/>
                  </a:lnTo>
                  <a:lnTo>
                    <a:pt x="67" y="200"/>
                  </a:lnTo>
                  <a:lnTo>
                    <a:pt x="74" y="200"/>
                  </a:lnTo>
                  <a:lnTo>
                    <a:pt x="82" y="200"/>
                  </a:lnTo>
                  <a:lnTo>
                    <a:pt x="88" y="199"/>
                  </a:lnTo>
                  <a:lnTo>
                    <a:pt x="95" y="198"/>
                  </a:lnTo>
                  <a:lnTo>
                    <a:pt x="102" y="195"/>
                  </a:lnTo>
                  <a:lnTo>
                    <a:pt x="108" y="192"/>
                  </a:lnTo>
                  <a:lnTo>
                    <a:pt x="114" y="189"/>
                  </a:lnTo>
                  <a:lnTo>
                    <a:pt x="121" y="185"/>
                  </a:lnTo>
                  <a:lnTo>
                    <a:pt x="126" y="181"/>
                  </a:lnTo>
                  <a:lnTo>
                    <a:pt x="131" y="177"/>
                  </a:lnTo>
                  <a:lnTo>
                    <a:pt x="135" y="170"/>
                  </a:lnTo>
                  <a:lnTo>
                    <a:pt x="140" y="165"/>
                  </a:lnTo>
                  <a:lnTo>
                    <a:pt x="143" y="158"/>
                  </a:lnTo>
                  <a:lnTo>
                    <a:pt x="146" y="150"/>
                  </a:lnTo>
                  <a:lnTo>
                    <a:pt x="148" y="143"/>
                  </a:lnTo>
                  <a:lnTo>
                    <a:pt x="149" y="135"/>
                  </a:lnTo>
                  <a:lnTo>
                    <a:pt x="149" y="125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4911840" y="4338720"/>
              <a:ext cx="441360" cy="385920"/>
            </a:xfrm>
            <a:custGeom>
              <a:avLst/>
              <a:gdLst/>
              <a:ahLst/>
              <a:rect l="l" t="t" r="r" b="b"/>
              <a:pathLst>
                <a:path w="1391" h="1214">
                  <a:moveTo>
                    <a:pt x="1346" y="1163"/>
                  </a:moveTo>
                  <a:lnTo>
                    <a:pt x="1346" y="1164"/>
                  </a:lnTo>
                  <a:lnTo>
                    <a:pt x="1359" y="1125"/>
                  </a:lnTo>
                  <a:lnTo>
                    <a:pt x="1369" y="1087"/>
                  </a:lnTo>
                  <a:lnTo>
                    <a:pt x="1378" y="1050"/>
                  </a:lnTo>
                  <a:lnTo>
                    <a:pt x="1385" y="1013"/>
                  </a:lnTo>
                  <a:lnTo>
                    <a:pt x="1389" y="977"/>
                  </a:lnTo>
                  <a:lnTo>
                    <a:pt x="1391" y="942"/>
                  </a:lnTo>
                  <a:lnTo>
                    <a:pt x="1391" y="909"/>
                  </a:lnTo>
                  <a:lnTo>
                    <a:pt x="1390" y="875"/>
                  </a:lnTo>
                  <a:lnTo>
                    <a:pt x="1386" y="843"/>
                  </a:lnTo>
                  <a:lnTo>
                    <a:pt x="1381" y="812"/>
                  </a:lnTo>
                  <a:lnTo>
                    <a:pt x="1372" y="782"/>
                  </a:lnTo>
                  <a:lnTo>
                    <a:pt x="1363" y="752"/>
                  </a:lnTo>
                  <a:lnTo>
                    <a:pt x="1351" y="723"/>
                  </a:lnTo>
                  <a:lnTo>
                    <a:pt x="1339" y="696"/>
                  </a:lnTo>
                  <a:lnTo>
                    <a:pt x="1324" y="669"/>
                  </a:lnTo>
                  <a:lnTo>
                    <a:pt x="1308" y="644"/>
                  </a:lnTo>
                  <a:lnTo>
                    <a:pt x="1291" y="620"/>
                  </a:lnTo>
                  <a:lnTo>
                    <a:pt x="1272" y="597"/>
                  </a:lnTo>
                  <a:lnTo>
                    <a:pt x="1252" y="575"/>
                  </a:lnTo>
                  <a:lnTo>
                    <a:pt x="1231" y="553"/>
                  </a:lnTo>
                  <a:lnTo>
                    <a:pt x="1209" y="533"/>
                  </a:lnTo>
                  <a:lnTo>
                    <a:pt x="1186" y="514"/>
                  </a:lnTo>
                  <a:lnTo>
                    <a:pt x="1161" y="495"/>
                  </a:lnTo>
                  <a:lnTo>
                    <a:pt x="1137" y="477"/>
                  </a:lnTo>
                  <a:lnTo>
                    <a:pt x="1112" y="461"/>
                  </a:lnTo>
                  <a:lnTo>
                    <a:pt x="1086" y="444"/>
                  </a:lnTo>
                  <a:lnTo>
                    <a:pt x="1060" y="428"/>
                  </a:lnTo>
                  <a:lnTo>
                    <a:pt x="1032" y="412"/>
                  </a:lnTo>
                  <a:lnTo>
                    <a:pt x="1004" y="399"/>
                  </a:lnTo>
                  <a:lnTo>
                    <a:pt x="976" y="384"/>
                  </a:lnTo>
                  <a:lnTo>
                    <a:pt x="947" y="370"/>
                  </a:lnTo>
                  <a:lnTo>
                    <a:pt x="918" y="357"/>
                  </a:lnTo>
                  <a:lnTo>
                    <a:pt x="859" y="332"/>
                  </a:lnTo>
                  <a:lnTo>
                    <a:pt x="799" y="308"/>
                  </a:lnTo>
                  <a:lnTo>
                    <a:pt x="739" y="285"/>
                  </a:lnTo>
                  <a:lnTo>
                    <a:pt x="678" y="263"/>
                  </a:lnTo>
                  <a:lnTo>
                    <a:pt x="559" y="221"/>
                  </a:lnTo>
                  <a:lnTo>
                    <a:pt x="443" y="180"/>
                  </a:lnTo>
                  <a:lnTo>
                    <a:pt x="389" y="159"/>
                  </a:lnTo>
                  <a:lnTo>
                    <a:pt x="337" y="138"/>
                  </a:lnTo>
                  <a:lnTo>
                    <a:pt x="312" y="128"/>
                  </a:lnTo>
                  <a:lnTo>
                    <a:pt x="288" y="116"/>
                  </a:lnTo>
                  <a:lnTo>
                    <a:pt x="265" y="106"/>
                  </a:lnTo>
                  <a:lnTo>
                    <a:pt x="243" y="94"/>
                  </a:lnTo>
                  <a:lnTo>
                    <a:pt x="222" y="84"/>
                  </a:lnTo>
                  <a:lnTo>
                    <a:pt x="202" y="72"/>
                  </a:lnTo>
                  <a:lnTo>
                    <a:pt x="182" y="60"/>
                  </a:lnTo>
                  <a:lnTo>
                    <a:pt x="165" y="48"/>
                  </a:lnTo>
                  <a:lnTo>
                    <a:pt x="148" y="36"/>
                  </a:lnTo>
                  <a:lnTo>
                    <a:pt x="132" y="24"/>
                  </a:lnTo>
                  <a:lnTo>
                    <a:pt x="119" y="12"/>
                  </a:lnTo>
                  <a:lnTo>
                    <a:pt x="106" y="0"/>
                  </a:lnTo>
                  <a:lnTo>
                    <a:pt x="0" y="105"/>
                  </a:lnTo>
                  <a:lnTo>
                    <a:pt x="18" y="121"/>
                  </a:lnTo>
                  <a:lnTo>
                    <a:pt x="38" y="139"/>
                  </a:lnTo>
                  <a:lnTo>
                    <a:pt x="59" y="155"/>
                  </a:lnTo>
                  <a:lnTo>
                    <a:pt x="80" y="171"/>
                  </a:lnTo>
                  <a:lnTo>
                    <a:pt x="102" y="185"/>
                  </a:lnTo>
                  <a:lnTo>
                    <a:pt x="125" y="200"/>
                  </a:lnTo>
                  <a:lnTo>
                    <a:pt x="149" y="214"/>
                  </a:lnTo>
                  <a:lnTo>
                    <a:pt x="174" y="226"/>
                  </a:lnTo>
                  <a:lnTo>
                    <a:pt x="200" y="240"/>
                  </a:lnTo>
                  <a:lnTo>
                    <a:pt x="226" y="252"/>
                  </a:lnTo>
                  <a:lnTo>
                    <a:pt x="252" y="264"/>
                  </a:lnTo>
                  <a:lnTo>
                    <a:pt x="279" y="276"/>
                  </a:lnTo>
                  <a:lnTo>
                    <a:pt x="335" y="298"/>
                  </a:lnTo>
                  <a:lnTo>
                    <a:pt x="392" y="320"/>
                  </a:lnTo>
                  <a:lnTo>
                    <a:pt x="509" y="362"/>
                  </a:lnTo>
                  <a:lnTo>
                    <a:pt x="629" y="404"/>
                  </a:lnTo>
                  <a:lnTo>
                    <a:pt x="688" y="426"/>
                  </a:lnTo>
                  <a:lnTo>
                    <a:pt x="746" y="447"/>
                  </a:lnTo>
                  <a:lnTo>
                    <a:pt x="802" y="470"/>
                  </a:lnTo>
                  <a:lnTo>
                    <a:pt x="858" y="493"/>
                  </a:lnTo>
                  <a:lnTo>
                    <a:pt x="884" y="506"/>
                  </a:lnTo>
                  <a:lnTo>
                    <a:pt x="911" y="518"/>
                  </a:lnTo>
                  <a:lnTo>
                    <a:pt x="937" y="531"/>
                  </a:lnTo>
                  <a:lnTo>
                    <a:pt x="961" y="543"/>
                  </a:lnTo>
                  <a:lnTo>
                    <a:pt x="985" y="557"/>
                  </a:lnTo>
                  <a:lnTo>
                    <a:pt x="1008" y="571"/>
                  </a:lnTo>
                  <a:lnTo>
                    <a:pt x="1031" y="584"/>
                  </a:lnTo>
                  <a:lnTo>
                    <a:pt x="1052" y="599"/>
                  </a:lnTo>
                  <a:lnTo>
                    <a:pt x="1073" y="614"/>
                  </a:lnTo>
                  <a:lnTo>
                    <a:pt x="1092" y="630"/>
                  </a:lnTo>
                  <a:lnTo>
                    <a:pt x="1110" y="645"/>
                  </a:lnTo>
                  <a:lnTo>
                    <a:pt x="1128" y="660"/>
                  </a:lnTo>
                  <a:lnTo>
                    <a:pt x="1144" y="677"/>
                  </a:lnTo>
                  <a:lnTo>
                    <a:pt x="1158" y="694"/>
                  </a:lnTo>
                  <a:lnTo>
                    <a:pt x="1172" y="710"/>
                  </a:lnTo>
                  <a:lnTo>
                    <a:pt x="1184" y="727"/>
                  </a:lnTo>
                  <a:lnTo>
                    <a:pt x="1196" y="745"/>
                  </a:lnTo>
                  <a:lnTo>
                    <a:pt x="1207" y="764"/>
                  </a:lnTo>
                  <a:lnTo>
                    <a:pt x="1215" y="783"/>
                  </a:lnTo>
                  <a:lnTo>
                    <a:pt x="1223" y="802"/>
                  </a:lnTo>
                  <a:lnTo>
                    <a:pt x="1230" y="823"/>
                  </a:lnTo>
                  <a:lnTo>
                    <a:pt x="1235" y="844"/>
                  </a:lnTo>
                  <a:lnTo>
                    <a:pt x="1239" y="866"/>
                  </a:lnTo>
                  <a:lnTo>
                    <a:pt x="1241" y="888"/>
                  </a:lnTo>
                  <a:lnTo>
                    <a:pt x="1242" y="912"/>
                  </a:lnTo>
                  <a:lnTo>
                    <a:pt x="1242" y="937"/>
                  </a:lnTo>
                  <a:lnTo>
                    <a:pt x="1241" y="963"/>
                  </a:lnTo>
                  <a:lnTo>
                    <a:pt x="1237" y="991"/>
                  </a:lnTo>
                  <a:lnTo>
                    <a:pt x="1232" y="1020"/>
                  </a:lnTo>
                  <a:lnTo>
                    <a:pt x="1225" y="1051"/>
                  </a:lnTo>
                  <a:lnTo>
                    <a:pt x="1216" y="1082"/>
                  </a:lnTo>
                  <a:lnTo>
                    <a:pt x="1205" y="1115"/>
                  </a:lnTo>
                  <a:lnTo>
                    <a:pt x="1205" y="1117"/>
                  </a:lnTo>
                  <a:lnTo>
                    <a:pt x="1205" y="1115"/>
                  </a:lnTo>
                  <a:lnTo>
                    <a:pt x="1202" y="1124"/>
                  </a:lnTo>
                  <a:lnTo>
                    <a:pt x="1201" y="1131"/>
                  </a:lnTo>
                  <a:lnTo>
                    <a:pt x="1200" y="1140"/>
                  </a:lnTo>
                  <a:lnTo>
                    <a:pt x="1200" y="1148"/>
                  </a:lnTo>
                  <a:lnTo>
                    <a:pt x="1201" y="1156"/>
                  </a:lnTo>
                  <a:lnTo>
                    <a:pt x="1203" y="1162"/>
                  </a:lnTo>
                  <a:lnTo>
                    <a:pt x="1205" y="1169"/>
                  </a:lnTo>
                  <a:lnTo>
                    <a:pt x="1209" y="1176"/>
                  </a:lnTo>
                  <a:lnTo>
                    <a:pt x="1212" y="1182"/>
                  </a:lnTo>
                  <a:lnTo>
                    <a:pt x="1217" y="1187"/>
                  </a:lnTo>
                  <a:lnTo>
                    <a:pt x="1221" y="1192"/>
                  </a:lnTo>
                  <a:lnTo>
                    <a:pt x="1226" y="1197"/>
                  </a:lnTo>
                  <a:lnTo>
                    <a:pt x="1232" y="1201"/>
                  </a:lnTo>
                  <a:lnTo>
                    <a:pt x="1238" y="1204"/>
                  </a:lnTo>
                  <a:lnTo>
                    <a:pt x="1244" y="1207"/>
                  </a:lnTo>
                  <a:lnTo>
                    <a:pt x="1251" y="1210"/>
                  </a:lnTo>
                  <a:lnTo>
                    <a:pt x="1257" y="1212"/>
                  </a:lnTo>
                  <a:lnTo>
                    <a:pt x="1264" y="1213"/>
                  </a:lnTo>
                  <a:lnTo>
                    <a:pt x="1271" y="1214"/>
                  </a:lnTo>
                  <a:lnTo>
                    <a:pt x="1278" y="1214"/>
                  </a:lnTo>
                  <a:lnTo>
                    <a:pt x="1285" y="1214"/>
                  </a:lnTo>
                  <a:lnTo>
                    <a:pt x="1292" y="1213"/>
                  </a:lnTo>
                  <a:lnTo>
                    <a:pt x="1299" y="1211"/>
                  </a:lnTo>
                  <a:lnTo>
                    <a:pt x="1305" y="1209"/>
                  </a:lnTo>
                  <a:lnTo>
                    <a:pt x="1312" y="1206"/>
                  </a:lnTo>
                  <a:lnTo>
                    <a:pt x="1318" y="1203"/>
                  </a:lnTo>
                  <a:lnTo>
                    <a:pt x="1323" y="1199"/>
                  </a:lnTo>
                  <a:lnTo>
                    <a:pt x="1329" y="1193"/>
                  </a:lnTo>
                  <a:lnTo>
                    <a:pt x="1334" y="1187"/>
                  </a:lnTo>
                  <a:lnTo>
                    <a:pt x="1339" y="1181"/>
                  </a:lnTo>
                  <a:lnTo>
                    <a:pt x="1342" y="1172"/>
                  </a:lnTo>
                  <a:lnTo>
                    <a:pt x="1346" y="1164"/>
                  </a:lnTo>
                  <a:lnTo>
                    <a:pt x="1346" y="1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135400" y="4694400"/>
              <a:ext cx="203400" cy="350640"/>
            </a:xfrm>
            <a:custGeom>
              <a:avLst/>
              <a:gdLst/>
              <a:ahLst/>
              <a:rect l="l" t="t" r="r" b="b"/>
              <a:pathLst>
                <a:path w="642" h="1106">
                  <a:moveTo>
                    <a:pt x="79" y="957"/>
                  </a:moveTo>
                  <a:lnTo>
                    <a:pt x="149" y="1032"/>
                  </a:lnTo>
                  <a:lnTo>
                    <a:pt x="150" y="982"/>
                  </a:lnTo>
                  <a:lnTo>
                    <a:pt x="152" y="934"/>
                  </a:lnTo>
                  <a:lnTo>
                    <a:pt x="154" y="914"/>
                  </a:lnTo>
                  <a:lnTo>
                    <a:pt x="157" y="892"/>
                  </a:lnTo>
                  <a:lnTo>
                    <a:pt x="159" y="872"/>
                  </a:lnTo>
                  <a:lnTo>
                    <a:pt x="162" y="852"/>
                  </a:lnTo>
                  <a:lnTo>
                    <a:pt x="167" y="833"/>
                  </a:lnTo>
                  <a:lnTo>
                    <a:pt x="170" y="816"/>
                  </a:lnTo>
                  <a:lnTo>
                    <a:pt x="174" y="798"/>
                  </a:lnTo>
                  <a:lnTo>
                    <a:pt x="178" y="782"/>
                  </a:lnTo>
                  <a:lnTo>
                    <a:pt x="189" y="749"/>
                  </a:lnTo>
                  <a:lnTo>
                    <a:pt x="200" y="719"/>
                  </a:lnTo>
                  <a:lnTo>
                    <a:pt x="212" y="691"/>
                  </a:lnTo>
                  <a:lnTo>
                    <a:pt x="225" y="664"/>
                  </a:lnTo>
                  <a:lnTo>
                    <a:pt x="239" y="639"/>
                  </a:lnTo>
                  <a:lnTo>
                    <a:pt x="255" y="616"/>
                  </a:lnTo>
                  <a:lnTo>
                    <a:pt x="270" y="592"/>
                  </a:lnTo>
                  <a:lnTo>
                    <a:pt x="287" y="570"/>
                  </a:lnTo>
                  <a:lnTo>
                    <a:pt x="305" y="547"/>
                  </a:lnTo>
                  <a:lnTo>
                    <a:pt x="323" y="526"/>
                  </a:lnTo>
                  <a:lnTo>
                    <a:pt x="363" y="481"/>
                  </a:lnTo>
                  <a:lnTo>
                    <a:pt x="404" y="436"/>
                  </a:lnTo>
                  <a:lnTo>
                    <a:pt x="425" y="411"/>
                  </a:lnTo>
                  <a:lnTo>
                    <a:pt x="447" y="386"/>
                  </a:lnTo>
                  <a:lnTo>
                    <a:pt x="469" y="360"/>
                  </a:lnTo>
                  <a:lnTo>
                    <a:pt x="490" y="333"/>
                  </a:lnTo>
                  <a:lnTo>
                    <a:pt x="511" y="303"/>
                  </a:lnTo>
                  <a:lnTo>
                    <a:pt x="532" y="273"/>
                  </a:lnTo>
                  <a:lnTo>
                    <a:pt x="553" y="241"/>
                  </a:lnTo>
                  <a:lnTo>
                    <a:pt x="573" y="207"/>
                  </a:lnTo>
                  <a:lnTo>
                    <a:pt x="592" y="170"/>
                  </a:lnTo>
                  <a:lnTo>
                    <a:pt x="610" y="131"/>
                  </a:lnTo>
                  <a:lnTo>
                    <a:pt x="626" y="90"/>
                  </a:lnTo>
                  <a:lnTo>
                    <a:pt x="642" y="46"/>
                  </a:lnTo>
                  <a:lnTo>
                    <a:pt x="501" y="0"/>
                  </a:lnTo>
                  <a:lnTo>
                    <a:pt x="487" y="37"/>
                  </a:lnTo>
                  <a:lnTo>
                    <a:pt x="473" y="72"/>
                  </a:lnTo>
                  <a:lnTo>
                    <a:pt x="458" y="105"/>
                  </a:lnTo>
                  <a:lnTo>
                    <a:pt x="442" y="135"/>
                  </a:lnTo>
                  <a:lnTo>
                    <a:pt x="425" y="164"/>
                  </a:lnTo>
                  <a:lnTo>
                    <a:pt x="408" y="192"/>
                  </a:lnTo>
                  <a:lnTo>
                    <a:pt x="390" y="217"/>
                  </a:lnTo>
                  <a:lnTo>
                    <a:pt x="371" y="242"/>
                  </a:lnTo>
                  <a:lnTo>
                    <a:pt x="352" y="266"/>
                  </a:lnTo>
                  <a:lnTo>
                    <a:pt x="333" y="290"/>
                  </a:lnTo>
                  <a:lnTo>
                    <a:pt x="314" y="313"/>
                  </a:lnTo>
                  <a:lnTo>
                    <a:pt x="293" y="336"/>
                  </a:lnTo>
                  <a:lnTo>
                    <a:pt x="252" y="382"/>
                  </a:lnTo>
                  <a:lnTo>
                    <a:pt x="211" y="428"/>
                  </a:lnTo>
                  <a:lnTo>
                    <a:pt x="190" y="453"/>
                  </a:lnTo>
                  <a:lnTo>
                    <a:pt x="169" y="479"/>
                  </a:lnTo>
                  <a:lnTo>
                    <a:pt x="149" y="506"/>
                  </a:lnTo>
                  <a:lnTo>
                    <a:pt x="130" y="534"/>
                  </a:lnTo>
                  <a:lnTo>
                    <a:pt x="111" y="564"/>
                  </a:lnTo>
                  <a:lnTo>
                    <a:pt x="93" y="595"/>
                  </a:lnTo>
                  <a:lnTo>
                    <a:pt x="76" y="629"/>
                  </a:lnTo>
                  <a:lnTo>
                    <a:pt x="62" y="663"/>
                  </a:lnTo>
                  <a:lnTo>
                    <a:pt x="48" y="701"/>
                  </a:lnTo>
                  <a:lnTo>
                    <a:pt x="35" y="740"/>
                  </a:lnTo>
                  <a:lnTo>
                    <a:pt x="30" y="761"/>
                  </a:lnTo>
                  <a:lnTo>
                    <a:pt x="25" y="783"/>
                  </a:lnTo>
                  <a:lnTo>
                    <a:pt x="20" y="805"/>
                  </a:lnTo>
                  <a:lnTo>
                    <a:pt x="15" y="827"/>
                  </a:lnTo>
                  <a:lnTo>
                    <a:pt x="12" y="850"/>
                  </a:lnTo>
                  <a:lnTo>
                    <a:pt x="8" y="874"/>
                  </a:lnTo>
                  <a:lnTo>
                    <a:pt x="6" y="899"/>
                  </a:lnTo>
                  <a:lnTo>
                    <a:pt x="4" y="925"/>
                  </a:lnTo>
                  <a:lnTo>
                    <a:pt x="1" y="976"/>
                  </a:lnTo>
                  <a:lnTo>
                    <a:pt x="0" y="1032"/>
                  </a:lnTo>
                  <a:lnTo>
                    <a:pt x="68" y="1106"/>
                  </a:lnTo>
                  <a:lnTo>
                    <a:pt x="0" y="1032"/>
                  </a:lnTo>
                  <a:lnTo>
                    <a:pt x="0" y="1041"/>
                  </a:lnTo>
                  <a:lnTo>
                    <a:pt x="1" y="1050"/>
                  </a:lnTo>
                  <a:lnTo>
                    <a:pt x="3" y="1058"/>
                  </a:lnTo>
                  <a:lnTo>
                    <a:pt x="6" y="1064"/>
                  </a:lnTo>
                  <a:lnTo>
                    <a:pt x="9" y="1072"/>
                  </a:lnTo>
                  <a:lnTo>
                    <a:pt x="13" y="1078"/>
                  </a:lnTo>
                  <a:lnTo>
                    <a:pt x="17" y="1083"/>
                  </a:lnTo>
                  <a:lnTo>
                    <a:pt x="23" y="1089"/>
                  </a:lnTo>
                  <a:lnTo>
                    <a:pt x="28" y="1093"/>
                  </a:lnTo>
                  <a:lnTo>
                    <a:pt x="34" y="1096"/>
                  </a:lnTo>
                  <a:lnTo>
                    <a:pt x="39" y="1100"/>
                  </a:lnTo>
                  <a:lnTo>
                    <a:pt x="47" y="1102"/>
                  </a:lnTo>
                  <a:lnTo>
                    <a:pt x="53" y="1104"/>
                  </a:lnTo>
                  <a:lnTo>
                    <a:pt x="59" y="1105"/>
                  </a:lnTo>
                  <a:lnTo>
                    <a:pt x="67" y="1106"/>
                  </a:lnTo>
                  <a:lnTo>
                    <a:pt x="74" y="1106"/>
                  </a:lnTo>
                  <a:lnTo>
                    <a:pt x="80" y="1106"/>
                  </a:lnTo>
                  <a:lnTo>
                    <a:pt x="88" y="1105"/>
                  </a:lnTo>
                  <a:lnTo>
                    <a:pt x="94" y="1104"/>
                  </a:lnTo>
                  <a:lnTo>
                    <a:pt x="101" y="1102"/>
                  </a:lnTo>
                  <a:lnTo>
                    <a:pt x="108" y="1100"/>
                  </a:lnTo>
                  <a:lnTo>
                    <a:pt x="114" y="1096"/>
                  </a:lnTo>
                  <a:lnTo>
                    <a:pt x="119" y="1093"/>
                  </a:lnTo>
                  <a:lnTo>
                    <a:pt x="126" y="1089"/>
                  </a:lnTo>
                  <a:lnTo>
                    <a:pt x="130" y="1083"/>
                  </a:lnTo>
                  <a:lnTo>
                    <a:pt x="135" y="1078"/>
                  </a:lnTo>
                  <a:lnTo>
                    <a:pt x="139" y="1072"/>
                  </a:lnTo>
                  <a:lnTo>
                    <a:pt x="142" y="1064"/>
                  </a:lnTo>
                  <a:lnTo>
                    <a:pt x="144" y="1058"/>
                  </a:lnTo>
                  <a:lnTo>
                    <a:pt x="147" y="1050"/>
                  </a:lnTo>
                  <a:lnTo>
                    <a:pt x="148" y="1041"/>
                  </a:lnTo>
                  <a:lnTo>
                    <a:pt x="149" y="1032"/>
                  </a:lnTo>
                  <a:lnTo>
                    <a:pt x="79" y="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156280" y="4997520"/>
              <a:ext cx="252360" cy="66600"/>
            </a:xfrm>
            <a:custGeom>
              <a:avLst/>
              <a:gdLst/>
              <a:ahLst/>
              <a:rect l="l" t="t" r="r" b="b"/>
              <a:pathLst>
                <a:path w="792" h="207">
                  <a:moveTo>
                    <a:pt x="792" y="132"/>
                  </a:moveTo>
                  <a:lnTo>
                    <a:pt x="722" y="58"/>
                  </a:lnTo>
                  <a:lnTo>
                    <a:pt x="11" y="0"/>
                  </a:lnTo>
                  <a:lnTo>
                    <a:pt x="0" y="149"/>
                  </a:lnTo>
                  <a:lnTo>
                    <a:pt x="711" y="206"/>
                  </a:lnTo>
                  <a:lnTo>
                    <a:pt x="792" y="132"/>
                  </a:lnTo>
                  <a:lnTo>
                    <a:pt x="711" y="206"/>
                  </a:lnTo>
                  <a:lnTo>
                    <a:pt x="720" y="207"/>
                  </a:lnTo>
                  <a:lnTo>
                    <a:pt x="729" y="206"/>
                  </a:lnTo>
                  <a:lnTo>
                    <a:pt x="737" y="205"/>
                  </a:lnTo>
                  <a:lnTo>
                    <a:pt x="744" y="203"/>
                  </a:lnTo>
                  <a:lnTo>
                    <a:pt x="751" y="200"/>
                  </a:lnTo>
                  <a:lnTo>
                    <a:pt x="757" y="197"/>
                  </a:lnTo>
                  <a:lnTo>
                    <a:pt x="763" y="193"/>
                  </a:lnTo>
                  <a:lnTo>
                    <a:pt x="768" y="187"/>
                  </a:lnTo>
                  <a:lnTo>
                    <a:pt x="774" y="183"/>
                  </a:lnTo>
                  <a:lnTo>
                    <a:pt x="778" y="177"/>
                  </a:lnTo>
                  <a:lnTo>
                    <a:pt x="781" y="172"/>
                  </a:lnTo>
                  <a:lnTo>
                    <a:pt x="784" y="165"/>
                  </a:lnTo>
                  <a:lnTo>
                    <a:pt x="787" y="159"/>
                  </a:lnTo>
                  <a:lnTo>
                    <a:pt x="789" y="152"/>
                  </a:lnTo>
                  <a:lnTo>
                    <a:pt x="791" y="145"/>
                  </a:lnTo>
                  <a:lnTo>
                    <a:pt x="792" y="138"/>
                  </a:lnTo>
                  <a:lnTo>
                    <a:pt x="792" y="131"/>
                  </a:lnTo>
                  <a:lnTo>
                    <a:pt x="792" y="124"/>
                  </a:lnTo>
                  <a:lnTo>
                    <a:pt x="791" y="117"/>
                  </a:lnTo>
                  <a:lnTo>
                    <a:pt x="788" y="111"/>
                  </a:lnTo>
                  <a:lnTo>
                    <a:pt x="786" y="103"/>
                  </a:lnTo>
                  <a:lnTo>
                    <a:pt x="784" y="97"/>
                  </a:lnTo>
                  <a:lnTo>
                    <a:pt x="781" y="92"/>
                  </a:lnTo>
                  <a:lnTo>
                    <a:pt x="777" y="85"/>
                  </a:lnTo>
                  <a:lnTo>
                    <a:pt x="772" y="80"/>
                  </a:lnTo>
                  <a:lnTo>
                    <a:pt x="767" y="75"/>
                  </a:lnTo>
                  <a:lnTo>
                    <a:pt x="761" y="71"/>
                  </a:lnTo>
                  <a:lnTo>
                    <a:pt x="755" y="67"/>
                  </a:lnTo>
                  <a:lnTo>
                    <a:pt x="747" y="63"/>
                  </a:lnTo>
                  <a:lnTo>
                    <a:pt x="740" y="61"/>
                  </a:lnTo>
                  <a:lnTo>
                    <a:pt x="732" y="59"/>
                  </a:lnTo>
                  <a:lnTo>
                    <a:pt x="722" y="58"/>
                  </a:lnTo>
                  <a:lnTo>
                    <a:pt x="792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197320" y="5040360"/>
              <a:ext cx="211320" cy="187200"/>
            </a:xfrm>
            <a:custGeom>
              <a:avLst/>
              <a:gdLst/>
              <a:ahLst/>
              <a:rect l="l" t="t" r="r" b="b"/>
              <a:pathLst>
                <a:path w="662" h="594">
                  <a:moveTo>
                    <a:pt x="144" y="547"/>
                  </a:moveTo>
                  <a:lnTo>
                    <a:pt x="146" y="542"/>
                  </a:lnTo>
                  <a:lnTo>
                    <a:pt x="148" y="536"/>
                  </a:lnTo>
                  <a:lnTo>
                    <a:pt x="151" y="529"/>
                  </a:lnTo>
                  <a:lnTo>
                    <a:pt x="154" y="524"/>
                  </a:lnTo>
                  <a:lnTo>
                    <a:pt x="158" y="517"/>
                  </a:lnTo>
                  <a:lnTo>
                    <a:pt x="161" y="512"/>
                  </a:lnTo>
                  <a:lnTo>
                    <a:pt x="165" y="507"/>
                  </a:lnTo>
                  <a:lnTo>
                    <a:pt x="169" y="502"/>
                  </a:lnTo>
                  <a:lnTo>
                    <a:pt x="172" y="497"/>
                  </a:lnTo>
                  <a:lnTo>
                    <a:pt x="184" y="486"/>
                  </a:lnTo>
                  <a:lnTo>
                    <a:pt x="196" y="475"/>
                  </a:lnTo>
                  <a:lnTo>
                    <a:pt x="210" y="466"/>
                  </a:lnTo>
                  <a:lnTo>
                    <a:pt x="226" y="456"/>
                  </a:lnTo>
                  <a:lnTo>
                    <a:pt x="243" y="447"/>
                  </a:lnTo>
                  <a:lnTo>
                    <a:pt x="260" y="437"/>
                  </a:lnTo>
                  <a:lnTo>
                    <a:pt x="280" y="429"/>
                  </a:lnTo>
                  <a:lnTo>
                    <a:pt x="300" y="420"/>
                  </a:lnTo>
                  <a:lnTo>
                    <a:pt x="345" y="401"/>
                  </a:lnTo>
                  <a:lnTo>
                    <a:pt x="391" y="381"/>
                  </a:lnTo>
                  <a:lnTo>
                    <a:pt x="415" y="370"/>
                  </a:lnTo>
                  <a:lnTo>
                    <a:pt x="438" y="358"/>
                  </a:lnTo>
                  <a:lnTo>
                    <a:pt x="462" y="345"/>
                  </a:lnTo>
                  <a:lnTo>
                    <a:pt x="486" y="330"/>
                  </a:lnTo>
                  <a:lnTo>
                    <a:pt x="509" y="316"/>
                  </a:lnTo>
                  <a:lnTo>
                    <a:pt x="531" y="298"/>
                  </a:lnTo>
                  <a:lnTo>
                    <a:pt x="553" y="278"/>
                  </a:lnTo>
                  <a:lnTo>
                    <a:pt x="573" y="258"/>
                  </a:lnTo>
                  <a:lnTo>
                    <a:pt x="584" y="244"/>
                  </a:lnTo>
                  <a:lnTo>
                    <a:pt x="593" y="232"/>
                  </a:lnTo>
                  <a:lnTo>
                    <a:pt x="602" y="219"/>
                  </a:lnTo>
                  <a:lnTo>
                    <a:pt x="610" y="205"/>
                  </a:lnTo>
                  <a:lnTo>
                    <a:pt x="619" y="192"/>
                  </a:lnTo>
                  <a:lnTo>
                    <a:pt x="626" y="177"/>
                  </a:lnTo>
                  <a:lnTo>
                    <a:pt x="632" y="161"/>
                  </a:lnTo>
                  <a:lnTo>
                    <a:pt x="638" y="146"/>
                  </a:lnTo>
                  <a:lnTo>
                    <a:pt x="644" y="130"/>
                  </a:lnTo>
                  <a:lnTo>
                    <a:pt x="648" y="113"/>
                  </a:lnTo>
                  <a:lnTo>
                    <a:pt x="652" y="95"/>
                  </a:lnTo>
                  <a:lnTo>
                    <a:pt x="655" y="77"/>
                  </a:lnTo>
                  <a:lnTo>
                    <a:pt x="658" y="58"/>
                  </a:lnTo>
                  <a:lnTo>
                    <a:pt x="661" y="40"/>
                  </a:lnTo>
                  <a:lnTo>
                    <a:pt x="662" y="21"/>
                  </a:lnTo>
                  <a:lnTo>
                    <a:pt x="662" y="0"/>
                  </a:lnTo>
                  <a:lnTo>
                    <a:pt x="512" y="0"/>
                  </a:lnTo>
                  <a:lnTo>
                    <a:pt x="511" y="15"/>
                  </a:lnTo>
                  <a:lnTo>
                    <a:pt x="511" y="29"/>
                  </a:lnTo>
                  <a:lnTo>
                    <a:pt x="510" y="42"/>
                  </a:lnTo>
                  <a:lnTo>
                    <a:pt x="508" y="54"/>
                  </a:lnTo>
                  <a:lnTo>
                    <a:pt x="506" y="66"/>
                  </a:lnTo>
                  <a:lnTo>
                    <a:pt x="504" y="76"/>
                  </a:lnTo>
                  <a:lnTo>
                    <a:pt x="501" y="87"/>
                  </a:lnTo>
                  <a:lnTo>
                    <a:pt x="498" y="96"/>
                  </a:lnTo>
                  <a:lnTo>
                    <a:pt x="495" y="106"/>
                  </a:lnTo>
                  <a:lnTo>
                    <a:pt x="490" y="114"/>
                  </a:lnTo>
                  <a:lnTo>
                    <a:pt x="486" y="122"/>
                  </a:lnTo>
                  <a:lnTo>
                    <a:pt x="482" y="130"/>
                  </a:lnTo>
                  <a:lnTo>
                    <a:pt x="478" y="137"/>
                  </a:lnTo>
                  <a:lnTo>
                    <a:pt x="473" y="145"/>
                  </a:lnTo>
                  <a:lnTo>
                    <a:pt x="467" y="152"/>
                  </a:lnTo>
                  <a:lnTo>
                    <a:pt x="463" y="157"/>
                  </a:lnTo>
                  <a:lnTo>
                    <a:pt x="449" y="171"/>
                  </a:lnTo>
                  <a:lnTo>
                    <a:pt x="436" y="183"/>
                  </a:lnTo>
                  <a:lnTo>
                    <a:pt x="421" y="195"/>
                  </a:lnTo>
                  <a:lnTo>
                    <a:pt x="405" y="205"/>
                  </a:lnTo>
                  <a:lnTo>
                    <a:pt x="388" y="216"/>
                  </a:lnTo>
                  <a:lnTo>
                    <a:pt x="370" y="225"/>
                  </a:lnTo>
                  <a:lnTo>
                    <a:pt x="350" y="236"/>
                  </a:lnTo>
                  <a:lnTo>
                    <a:pt x="330" y="245"/>
                  </a:lnTo>
                  <a:lnTo>
                    <a:pt x="287" y="264"/>
                  </a:lnTo>
                  <a:lnTo>
                    <a:pt x="242" y="283"/>
                  </a:lnTo>
                  <a:lnTo>
                    <a:pt x="218" y="293"/>
                  </a:lnTo>
                  <a:lnTo>
                    <a:pt x="196" y="304"/>
                  </a:lnTo>
                  <a:lnTo>
                    <a:pt x="173" y="316"/>
                  </a:lnTo>
                  <a:lnTo>
                    <a:pt x="150" y="328"/>
                  </a:lnTo>
                  <a:lnTo>
                    <a:pt x="128" y="342"/>
                  </a:lnTo>
                  <a:lnTo>
                    <a:pt x="106" y="358"/>
                  </a:lnTo>
                  <a:lnTo>
                    <a:pt x="85" y="374"/>
                  </a:lnTo>
                  <a:lnTo>
                    <a:pt x="66" y="392"/>
                  </a:lnTo>
                  <a:lnTo>
                    <a:pt x="56" y="405"/>
                  </a:lnTo>
                  <a:lnTo>
                    <a:pt x="46" y="416"/>
                  </a:lnTo>
                  <a:lnTo>
                    <a:pt x="38" y="428"/>
                  </a:lnTo>
                  <a:lnTo>
                    <a:pt x="30" y="441"/>
                  </a:lnTo>
                  <a:lnTo>
                    <a:pt x="22" y="453"/>
                  </a:lnTo>
                  <a:lnTo>
                    <a:pt x="16" y="467"/>
                  </a:lnTo>
                  <a:lnTo>
                    <a:pt x="9" y="481"/>
                  </a:lnTo>
                  <a:lnTo>
                    <a:pt x="4" y="496"/>
                  </a:lnTo>
                  <a:lnTo>
                    <a:pt x="6" y="491"/>
                  </a:lnTo>
                  <a:lnTo>
                    <a:pt x="4" y="496"/>
                  </a:lnTo>
                  <a:lnTo>
                    <a:pt x="2" y="505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9"/>
                  </a:lnTo>
                  <a:lnTo>
                    <a:pt x="1" y="536"/>
                  </a:lnTo>
                  <a:lnTo>
                    <a:pt x="3" y="544"/>
                  </a:lnTo>
                  <a:lnTo>
                    <a:pt x="5" y="550"/>
                  </a:lnTo>
                  <a:lnTo>
                    <a:pt x="9" y="556"/>
                  </a:lnTo>
                  <a:lnTo>
                    <a:pt x="13" y="562"/>
                  </a:lnTo>
                  <a:lnTo>
                    <a:pt x="17" y="568"/>
                  </a:lnTo>
                  <a:lnTo>
                    <a:pt x="22" y="572"/>
                  </a:lnTo>
                  <a:lnTo>
                    <a:pt x="27" y="577"/>
                  </a:lnTo>
                  <a:lnTo>
                    <a:pt x="33" y="580"/>
                  </a:lnTo>
                  <a:lnTo>
                    <a:pt x="39" y="584"/>
                  </a:lnTo>
                  <a:lnTo>
                    <a:pt x="45" y="588"/>
                  </a:lnTo>
                  <a:lnTo>
                    <a:pt x="51" y="590"/>
                  </a:lnTo>
                  <a:lnTo>
                    <a:pt x="59" y="592"/>
                  </a:lnTo>
                  <a:lnTo>
                    <a:pt x="65" y="593"/>
                  </a:lnTo>
                  <a:lnTo>
                    <a:pt x="72" y="594"/>
                  </a:lnTo>
                  <a:lnTo>
                    <a:pt x="79" y="594"/>
                  </a:lnTo>
                  <a:lnTo>
                    <a:pt x="86" y="594"/>
                  </a:lnTo>
                  <a:lnTo>
                    <a:pt x="92" y="592"/>
                  </a:lnTo>
                  <a:lnTo>
                    <a:pt x="100" y="591"/>
                  </a:lnTo>
                  <a:lnTo>
                    <a:pt x="106" y="588"/>
                  </a:lnTo>
                  <a:lnTo>
                    <a:pt x="112" y="586"/>
                  </a:lnTo>
                  <a:lnTo>
                    <a:pt x="119" y="581"/>
                  </a:lnTo>
                  <a:lnTo>
                    <a:pt x="124" y="577"/>
                  </a:lnTo>
                  <a:lnTo>
                    <a:pt x="129" y="571"/>
                  </a:lnTo>
                  <a:lnTo>
                    <a:pt x="134" y="566"/>
                  </a:lnTo>
                  <a:lnTo>
                    <a:pt x="139" y="558"/>
                  </a:lnTo>
                  <a:lnTo>
                    <a:pt x="142" y="551"/>
                  </a:lnTo>
                  <a:lnTo>
                    <a:pt x="146" y="542"/>
                  </a:lnTo>
                  <a:lnTo>
                    <a:pt x="144" y="5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180040" y="5195880"/>
              <a:ext cx="573120" cy="453960"/>
            </a:xfrm>
            <a:custGeom>
              <a:avLst/>
              <a:gdLst/>
              <a:ahLst/>
              <a:rect l="l" t="t" r="r" b="b"/>
              <a:pathLst>
                <a:path w="1804" h="1433">
                  <a:moveTo>
                    <a:pt x="1670" y="1226"/>
                  </a:moveTo>
                  <a:lnTo>
                    <a:pt x="1672" y="1224"/>
                  </a:lnTo>
                  <a:lnTo>
                    <a:pt x="1669" y="1227"/>
                  </a:lnTo>
                  <a:lnTo>
                    <a:pt x="1664" y="1232"/>
                  </a:lnTo>
                  <a:lnTo>
                    <a:pt x="1660" y="1236"/>
                  </a:lnTo>
                  <a:lnTo>
                    <a:pt x="1656" y="1238"/>
                  </a:lnTo>
                  <a:lnTo>
                    <a:pt x="1643" y="1247"/>
                  </a:lnTo>
                  <a:lnTo>
                    <a:pt x="1629" y="1255"/>
                  </a:lnTo>
                  <a:lnTo>
                    <a:pt x="1613" y="1261"/>
                  </a:lnTo>
                  <a:lnTo>
                    <a:pt x="1594" y="1267"/>
                  </a:lnTo>
                  <a:lnTo>
                    <a:pt x="1574" y="1273"/>
                  </a:lnTo>
                  <a:lnTo>
                    <a:pt x="1552" y="1277"/>
                  </a:lnTo>
                  <a:lnTo>
                    <a:pt x="1528" y="1280"/>
                  </a:lnTo>
                  <a:lnTo>
                    <a:pt x="1502" y="1283"/>
                  </a:lnTo>
                  <a:lnTo>
                    <a:pt x="1475" y="1284"/>
                  </a:lnTo>
                  <a:lnTo>
                    <a:pt x="1445" y="1284"/>
                  </a:lnTo>
                  <a:lnTo>
                    <a:pt x="1415" y="1284"/>
                  </a:lnTo>
                  <a:lnTo>
                    <a:pt x="1383" y="1281"/>
                  </a:lnTo>
                  <a:lnTo>
                    <a:pt x="1351" y="1279"/>
                  </a:lnTo>
                  <a:lnTo>
                    <a:pt x="1318" y="1275"/>
                  </a:lnTo>
                  <a:lnTo>
                    <a:pt x="1284" y="1269"/>
                  </a:lnTo>
                  <a:lnTo>
                    <a:pt x="1248" y="1263"/>
                  </a:lnTo>
                  <a:lnTo>
                    <a:pt x="1212" y="1255"/>
                  </a:lnTo>
                  <a:lnTo>
                    <a:pt x="1175" y="1246"/>
                  </a:lnTo>
                  <a:lnTo>
                    <a:pt x="1138" y="1237"/>
                  </a:lnTo>
                  <a:lnTo>
                    <a:pt x="1100" y="1226"/>
                  </a:lnTo>
                  <a:lnTo>
                    <a:pt x="1062" y="1215"/>
                  </a:lnTo>
                  <a:lnTo>
                    <a:pt x="1024" y="1202"/>
                  </a:lnTo>
                  <a:lnTo>
                    <a:pt x="985" y="1189"/>
                  </a:lnTo>
                  <a:lnTo>
                    <a:pt x="946" y="1174"/>
                  </a:lnTo>
                  <a:lnTo>
                    <a:pt x="909" y="1158"/>
                  </a:lnTo>
                  <a:lnTo>
                    <a:pt x="870" y="1141"/>
                  </a:lnTo>
                  <a:lnTo>
                    <a:pt x="831" y="1124"/>
                  </a:lnTo>
                  <a:lnTo>
                    <a:pt x="793" y="1106"/>
                  </a:lnTo>
                  <a:lnTo>
                    <a:pt x="755" y="1086"/>
                  </a:lnTo>
                  <a:lnTo>
                    <a:pt x="719" y="1066"/>
                  </a:lnTo>
                  <a:lnTo>
                    <a:pt x="681" y="1044"/>
                  </a:lnTo>
                  <a:lnTo>
                    <a:pt x="645" y="1022"/>
                  </a:lnTo>
                  <a:lnTo>
                    <a:pt x="609" y="999"/>
                  </a:lnTo>
                  <a:lnTo>
                    <a:pt x="574" y="975"/>
                  </a:lnTo>
                  <a:lnTo>
                    <a:pt x="540" y="951"/>
                  </a:lnTo>
                  <a:lnTo>
                    <a:pt x="508" y="925"/>
                  </a:lnTo>
                  <a:lnTo>
                    <a:pt x="475" y="899"/>
                  </a:lnTo>
                  <a:lnTo>
                    <a:pt x="445" y="873"/>
                  </a:lnTo>
                  <a:lnTo>
                    <a:pt x="414" y="845"/>
                  </a:lnTo>
                  <a:lnTo>
                    <a:pt x="386" y="817"/>
                  </a:lnTo>
                  <a:lnTo>
                    <a:pt x="358" y="788"/>
                  </a:lnTo>
                  <a:lnTo>
                    <a:pt x="332" y="758"/>
                  </a:lnTo>
                  <a:lnTo>
                    <a:pt x="308" y="729"/>
                  </a:lnTo>
                  <a:lnTo>
                    <a:pt x="285" y="697"/>
                  </a:lnTo>
                  <a:lnTo>
                    <a:pt x="264" y="667"/>
                  </a:lnTo>
                  <a:lnTo>
                    <a:pt x="244" y="635"/>
                  </a:lnTo>
                  <a:lnTo>
                    <a:pt x="226" y="603"/>
                  </a:lnTo>
                  <a:lnTo>
                    <a:pt x="209" y="569"/>
                  </a:lnTo>
                  <a:lnTo>
                    <a:pt x="202" y="553"/>
                  </a:lnTo>
                  <a:lnTo>
                    <a:pt x="195" y="537"/>
                  </a:lnTo>
                  <a:lnTo>
                    <a:pt x="188" y="520"/>
                  </a:lnTo>
                  <a:lnTo>
                    <a:pt x="182" y="503"/>
                  </a:lnTo>
                  <a:lnTo>
                    <a:pt x="177" y="486"/>
                  </a:lnTo>
                  <a:lnTo>
                    <a:pt x="172" y="469"/>
                  </a:lnTo>
                  <a:lnTo>
                    <a:pt x="167" y="452"/>
                  </a:lnTo>
                  <a:lnTo>
                    <a:pt x="163" y="434"/>
                  </a:lnTo>
                  <a:lnTo>
                    <a:pt x="160" y="417"/>
                  </a:lnTo>
                  <a:lnTo>
                    <a:pt x="157" y="399"/>
                  </a:lnTo>
                  <a:lnTo>
                    <a:pt x="155" y="381"/>
                  </a:lnTo>
                  <a:lnTo>
                    <a:pt x="152" y="363"/>
                  </a:lnTo>
                  <a:lnTo>
                    <a:pt x="151" y="345"/>
                  </a:lnTo>
                  <a:lnTo>
                    <a:pt x="149" y="328"/>
                  </a:lnTo>
                  <a:lnTo>
                    <a:pt x="149" y="309"/>
                  </a:lnTo>
                  <a:lnTo>
                    <a:pt x="149" y="290"/>
                  </a:lnTo>
                  <a:lnTo>
                    <a:pt x="151" y="272"/>
                  </a:lnTo>
                  <a:lnTo>
                    <a:pt x="152" y="253"/>
                  </a:lnTo>
                  <a:lnTo>
                    <a:pt x="154" y="234"/>
                  </a:lnTo>
                  <a:lnTo>
                    <a:pt x="157" y="214"/>
                  </a:lnTo>
                  <a:lnTo>
                    <a:pt x="160" y="195"/>
                  </a:lnTo>
                  <a:lnTo>
                    <a:pt x="163" y="176"/>
                  </a:lnTo>
                  <a:lnTo>
                    <a:pt x="167" y="156"/>
                  </a:lnTo>
                  <a:lnTo>
                    <a:pt x="173" y="137"/>
                  </a:lnTo>
                  <a:lnTo>
                    <a:pt x="179" y="117"/>
                  </a:lnTo>
                  <a:lnTo>
                    <a:pt x="185" y="97"/>
                  </a:lnTo>
                  <a:lnTo>
                    <a:pt x="193" y="77"/>
                  </a:lnTo>
                  <a:lnTo>
                    <a:pt x="200" y="56"/>
                  </a:lnTo>
                  <a:lnTo>
                    <a:pt x="62" y="0"/>
                  </a:lnTo>
                  <a:lnTo>
                    <a:pt x="52" y="25"/>
                  </a:lnTo>
                  <a:lnTo>
                    <a:pt x="43" y="49"/>
                  </a:lnTo>
                  <a:lnTo>
                    <a:pt x="36" y="74"/>
                  </a:lnTo>
                  <a:lnTo>
                    <a:pt x="29" y="98"/>
                  </a:lnTo>
                  <a:lnTo>
                    <a:pt x="22" y="122"/>
                  </a:lnTo>
                  <a:lnTo>
                    <a:pt x="17" y="146"/>
                  </a:lnTo>
                  <a:lnTo>
                    <a:pt x="13" y="169"/>
                  </a:lnTo>
                  <a:lnTo>
                    <a:pt x="9" y="193"/>
                  </a:lnTo>
                  <a:lnTo>
                    <a:pt x="6" y="216"/>
                  </a:lnTo>
                  <a:lnTo>
                    <a:pt x="4" y="240"/>
                  </a:lnTo>
                  <a:lnTo>
                    <a:pt x="1" y="264"/>
                  </a:lnTo>
                  <a:lnTo>
                    <a:pt x="0" y="287"/>
                  </a:lnTo>
                  <a:lnTo>
                    <a:pt x="0" y="310"/>
                  </a:lnTo>
                  <a:lnTo>
                    <a:pt x="0" y="332"/>
                  </a:lnTo>
                  <a:lnTo>
                    <a:pt x="1" y="355"/>
                  </a:lnTo>
                  <a:lnTo>
                    <a:pt x="4" y="377"/>
                  </a:lnTo>
                  <a:lnTo>
                    <a:pt x="6" y="399"/>
                  </a:lnTo>
                  <a:lnTo>
                    <a:pt x="10" y="422"/>
                  </a:lnTo>
                  <a:lnTo>
                    <a:pt x="13" y="444"/>
                  </a:lnTo>
                  <a:lnTo>
                    <a:pt x="17" y="465"/>
                  </a:lnTo>
                  <a:lnTo>
                    <a:pt x="22" y="487"/>
                  </a:lnTo>
                  <a:lnTo>
                    <a:pt x="29" y="508"/>
                  </a:lnTo>
                  <a:lnTo>
                    <a:pt x="35" y="530"/>
                  </a:lnTo>
                  <a:lnTo>
                    <a:pt x="41" y="551"/>
                  </a:lnTo>
                  <a:lnTo>
                    <a:pt x="49" y="571"/>
                  </a:lnTo>
                  <a:lnTo>
                    <a:pt x="57" y="592"/>
                  </a:lnTo>
                  <a:lnTo>
                    <a:pt x="65" y="612"/>
                  </a:lnTo>
                  <a:lnTo>
                    <a:pt x="75" y="633"/>
                  </a:lnTo>
                  <a:lnTo>
                    <a:pt x="94" y="672"/>
                  </a:lnTo>
                  <a:lnTo>
                    <a:pt x="116" y="710"/>
                  </a:lnTo>
                  <a:lnTo>
                    <a:pt x="139" y="748"/>
                  </a:lnTo>
                  <a:lnTo>
                    <a:pt x="163" y="784"/>
                  </a:lnTo>
                  <a:lnTo>
                    <a:pt x="190" y="820"/>
                  </a:lnTo>
                  <a:lnTo>
                    <a:pt x="219" y="855"/>
                  </a:lnTo>
                  <a:lnTo>
                    <a:pt x="248" y="888"/>
                  </a:lnTo>
                  <a:lnTo>
                    <a:pt x="280" y="921"/>
                  </a:lnTo>
                  <a:lnTo>
                    <a:pt x="311" y="952"/>
                  </a:lnTo>
                  <a:lnTo>
                    <a:pt x="345" y="984"/>
                  </a:lnTo>
                  <a:lnTo>
                    <a:pt x="379" y="1013"/>
                  </a:lnTo>
                  <a:lnTo>
                    <a:pt x="415" y="1043"/>
                  </a:lnTo>
                  <a:lnTo>
                    <a:pt x="452" y="1070"/>
                  </a:lnTo>
                  <a:lnTo>
                    <a:pt x="489" y="1097"/>
                  </a:lnTo>
                  <a:lnTo>
                    <a:pt x="526" y="1124"/>
                  </a:lnTo>
                  <a:lnTo>
                    <a:pt x="566" y="1149"/>
                  </a:lnTo>
                  <a:lnTo>
                    <a:pt x="605" y="1172"/>
                  </a:lnTo>
                  <a:lnTo>
                    <a:pt x="645" y="1195"/>
                  </a:lnTo>
                  <a:lnTo>
                    <a:pt x="685" y="1217"/>
                  </a:lnTo>
                  <a:lnTo>
                    <a:pt x="727" y="1238"/>
                  </a:lnTo>
                  <a:lnTo>
                    <a:pt x="768" y="1258"/>
                  </a:lnTo>
                  <a:lnTo>
                    <a:pt x="809" y="1277"/>
                  </a:lnTo>
                  <a:lnTo>
                    <a:pt x="851" y="1296"/>
                  </a:lnTo>
                  <a:lnTo>
                    <a:pt x="893" y="1313"/>
                  </a:lnTo>
                  <a:lnTo>
                    <a:pt x="934" y="1328"/>
                  </a:lnTo>
                  <a:lnTo>
                    <a:pt x="976" y="1343"/>
                  </a:lnTo>
                  <a:lnTo>
                    <a:pt x="1017" y="1357"/>
                  </a:lnTo>
                  <a:lnTo>
                    <a:pt x="1059" y="1369"/>
                  </a:lnTo>
                  <a:lnTo>
                    <a:pt x="1100" y="1381"/>
                  </a:lnTo>
                  <a:lnTo>
                    <a:pt x="1140" y="1391"/>
                  </a:lnTo>
                  <a:lnTo>
                    <a:pt x="1181" y="1401"/>
                  </a:lnTo>
                  <a:lnTo>
                    <a:pt x="1220" y="1409"/>
                  </a:lnTo>
                  <a:lnTo>
                    <a:pt x="1259" y="1416"/>
                  </a:lnTo>
                  <a:lnTo>
                    <a:pt x="1297" y="1422"/>
                  </a:lnTo>
                  <a:lnTo>
                    <a:pt x="1335" y="1427"/>
                  </a:lnTo>
                  <a:lnTo>
                    <a:pt x="1373" y="1430"/>
                  </a:lnTo>
                  <a:lnTo>
                    <a:pt x="1409" y="1432"/>
                  </a:lnTo>
                  <a:lnTo>
                    <a:pt x="1444" y="1433"/>
                  </a:lnTo>
                  <a:lnTo>
                    <a:pt x="1479" y="1433"/>
                  </a:lnTo>
                  <a:lnTo>
                    <a:pt x="1512" y="1431"/>
                  </a:lnTo>
                  <a:lnTo>
                    <a:pt x="1545" y="1428"/>
                  </a:lnTo>
                  <a:lnTo>
                    <a:pt x="1577" y="1424"/>
                  </a:lnTo>
                  <a:lnTo>
                    <a:pt x="1607" y="1418"/>
                  </a:lnTo>
                  <a:lnTo>
                    <a:pt x="1636" y="1410"/>
                  </a:lnTo>
                  <a:lnTo>
                    <a:pt x="1665" y="1401"/>
                  </a:lnTo>
                  <a:lnTo>
                    <a:pt x="1692" y="1389"/>
                  </a:lnTo>
                  <a:lnTo>
                    <a:pt x="1717" y="1377"/>
                  </a:lnTo>
                  <a:lnTo>
                    <a:pt x="1740" y="1362"/>
                  </a:lnTo>
                  <a:lnTo>
                    <a:pt x="1753" y="1351"/>
                  </a:lnTo>
                  <a:lnTo>
                    <a:pt x="1765" y="1342"/>
                  </a:lnTo>
                  <a:lnTo>
                    <a:pt x="1775" y="1332"/>
                  </a:lnTo>
                  <a:lnTo>
                    <a:pt x="1784" y="1321"/>
                  </a:lnTo>
                  <a:lnTo>
                    <a:pt x="1787" y="1319"/>
                  </a:lnTo>
                  <a:lnTo>
                    <a:pt x="1784" y="1321"/>
                  </a:lnTo>
                  <a:lnTo>
                    <a:pt x="1790" y="1315"/>
                  </a:lnTo>
                  <a:lnTo>
                    <a:pt x="1795" y="1307"/>
                  </a:lnTo>
                  <a:lnTo>
                    <a:pt x="1798" y="1300"/>
                  </a:lnTo>
                  <a:lnTo>
                    <a:pt x="1801" y="1293"/>
                  </a:lnTo>
                  <a:lnTo>
                    <a:pt x="1803" y="1285"/>
                  </a:lnTo>
                  <a:lnTo>
                    <a:pt x="1803" y="1278"/>
                  </a:lnTo>
                  <a:lnTo>
                    <a:pt x="1804" y="1271"/>
                  </a:lnTo>
                  <a:lnTo>
                    <a:pt x="1803" y="1264"/>
                  </a:lnTo>
                  <a:lnTo>
                    <a:pt x="1802" y="1257"/>
                  </a:lnTo>
                  <a:lnTo>
                    <a:pt x="1800" y="1251"/>
                  </a:lnTo>
                  <a:lnTo>
                    <a:pt x="1798" y="1244"/>
                  </a:lnTo>
                  <a:lnTo>
                    <a:pt x="1795" y="1238"/>
                  </a:lnTo>
                  <a:lnTo>
                    <a:pt x="1791" y="1232"/>
                  </a:lnTo>
                  <a:lnTo>
                    <a:pt x="1787" y="1226"/>
                  </a:lnTo>
                  <a:lnTo>
                    <a:pt x="1782" y="1221"/>
                  </a:lnTo>
                  <a:lnTo>
                    <a:pt x="1777" y="1216"/>
                  </a:lnTo>
                  <a:lnTo>
                    <a:pt x="1772" y="1212"/>
                  </a:lnTo>
                  <a:lnTo>
                    <a:pt x="1766" y="1209"/>
                  </a:lnTo>
                  <a:lnTo>
                    <a:pt x="1759" y="1205"/>
                  </a:lnTo>
                  <a:lnTo>
                    <a:pt x="1753" y="1202"/>
                  </a:lnTo>
                  <a:lnTo>
                    <a:pt x="1747" y="1200"/>
                  </a:lnTo>
                  <a:lnTo>
                    <a:pt x="1740" y="1198"/>
                  </a:lnTo>
                  <a:lnTo>
                    <a:pt x="1733" y="1197"/>
                  </a:lnTo>
                  <a:lnTo>
                    <a:pt x="1726" y="1197"/>
                  </a:lnTo>
                  <a:lnTo>
                    <a:pt x="1719" y="1197"/>
                  </a:lnTo>
                  <a:lnTo>
                    <a:pt x="1712" y="1199"/>
                  </a:lnTo>
                  <a:lnTo>
                    <a:pt x="1705" y="1201"/>
                  </a:lnTo>
                  <a:lnTo>
                    <a:pt x="1698" y="1203"/>
                  </a:lnTo>
                  <a:lnTo>
                    <a:pt x="1691" y="1208"/>
                  </a:lnTo>
                  <a:lnTo>
                    <a:pt x="1685" y="1212"/>
                  </a:lnTo>
                  <a:lnTo>
                    <a:pt x="1678" y="1217"/>
                  </a:lnTo>
                  <a:lnTo>
                    <a:pt x="1672" y="1224"/>
                  </a:lnTo>
                  <a:lnTo>
                    <a:pt x="1670" y="1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710320" y="5029200"/>
              <a:ext cx="93600" cy="585720"/>
            </a:xfrm>
            <a:custGeom>
              <a:avLst/>
              <a:gdLst/>
              <a:ahLst/>
              <a:rect l="l" t="t" r="r" b="b"/>
              <a:pathLst>
                <a:path w="293" h="1843">
                  <a:moveTo>
                    <a:pt x="143" y="76"/>
                  </a:moveTo>
                  <a:lnTo>
                    <a:pt x="169" y="19"/>
                  </a:lnTo>
                  <a:lnTo>
                    <a:pt x="152" y="35"/>
                  </a:lnTo>
                  <a:lnTo>
                    <a:pt x="138" y="53"/>
                  </a:lnTo>
                  <a:lnTo>
                    <a:pt x="124" y="71"/>
                  </a:lnTo>
                  <a:lnTo>
                    <a:pt x="112" y="90"/>
                  </a:lnTo>
                  <a:lnTo>
                    <a:pt x="102" y="111"/>
                  </a:lnTo>
                  <a:lnTo>
                    <a:pt x="93" y="132"/>
                  </a:lnTo>
                  <a:lnTo>
                    <a:pt x="85" y="155"/>
                  </a:lnTo>
                  <a:lnTo>
                    <a:pt x="77" y="179"/>
                  </a:lnTo>
                  <a:lnTo>
                    <a:pt x="70" y="203"/>
                  </a:lnTo>
                  <a:lnTo>
                    <a:pt x="64" y="228"/>
                  </a:lnTo>
                  <a:lnTo>
                    <a:pt x="59" y="254"/>
                  </a:lnTo>
                  <a:lnTo>
                    <a:pt x="54" y="283"/>
                  </a:lnTo>
                  <a:lnTo>
                    <a:pt x="45" y="338"/>
                  </a:lnTo>
                  <a:lnTo>
                    <a:pt x="38" y="398"/>
                  </a:lnTo>
                  <a:lnTo>
                    <a:pt x="33" y="460"/>
                  </a:lnTo>
                  <a:lnTo>
                    <a:pt x="29" y="525"/>
                  </a:lnTo>
                  <a:lnTo>
                    <a:pt x="26" y="592"/>
                  </a:lnTo>
                  <a:lnTo>
                    <a:pt x="25" y="662"/>
                  </a:lnTo>
                  <a:lnTo>
                    <a:pt x="24" y="732"/>
                  </a:lnTo>
                  <a:lnTo>
                    <a:pt x="24" y="803"/>
                  </a:lnTo>
                  <a:lnTo>
                    <a:pt x="24" y="876"/>
                  </a:lnTo>
                  <a:lnTo>
                    <a:pt x="26" y="948"/>
                  </a:lnTo>
                  <a:lnTo>
                    <a:pt x="28" y="1092"/>
                  </a:lnTo>
                  <a:lnTo>
                    <a:pt x="32" y="1231"/>
                  </a:lnTo>
                  <a:lnTo>
                    <a:pt x="33" y="1298"/>
                  </a:lnTo>
                  <a:lnTo>
                    <a:pt x="33" y="1362"/>
                  </a:lnTo>
                  <a:lnTo>
                    <a:pt x="33" y="1424"/>
                  </a:lnTo>
                  <a:lnTo>
                    <a:pt x="33" y="1483"/>
                  </a:lnTo>
                  <a:lnTo>
                    <a:pt x="32" y="1537"/>
                  </a:lnTo>
                  <a:lnTo>
                    <a:pt x="28" y="1587"/>
                  </a:lnTo>
                  <a:lnTo>
                    <a:pt x="25" y="1632"/>
                  </a:lnTo>
                  <a:lnTo>
                    <a:pt x="21" y="1673"/>
                  </a:lnTo>
                  <a:lnTo>
                    <a:pt x="18" y="1688"/>
                  </a:lnTo>
                  <a:lnTo>
                    <a:pt x="15" y="1704"/>
                  </a:lnTo>
                  <a:lnTo>
                    <a:pt x="12" y="1718"/>
                  </a:lnTo>
                  <a:lnTo>
                    <a:pt x="8" y="1729"/>
                  </a:lnTo>
                  <a:lnTo>
                    <a:pt x="5" y="1739"/>
                  </a:lnTo>
                  <a:lnTo>
                    <a:pt x="2" y="1746"/>
                  </a:lnTo>
                  <a:lnTo>
                    <a:pt x="0" y="1749"/>
                  </a:lnTo>
                  <a:lnTo>
                    <a:pt x="0" y="1750"/>
                  </a:lnTo>
                  <a:lnTo>
                    <a:pt x="117" y="1843"/>
                  </a:lnTo>
                  <a:lnTo>
                    <a:pt x="128" y="1826"/>
                  </a:lnTo>
                  <a:lnTo>
                    <a:pt x="138" y="1809"/>
                  </a:lnTo>
                  <a:lnTo>
                    <a:pt x="145" y="1791"/>
                  </a:lnTo>
                  <a:lnTo>
                    <a:pt x="151" y="1774"/>
                  </a:lnTo>
                  <a:lnTo>
                    <a:pt x="156" y="1755"/>
                  </a:lnTo>
                  <a:lnTo>
                    <a:pt x="161" y="1735"/>
                  </a:lnTo>
                  <a:lnTo>
                    <a:pt x="165" y="1714"/>
                  </a:lnTo>
                  <a:lnTo>
                    <a:pt x="168" y="1692"/>
                  </a:lnTo>
                  <a:lnTo>
                    <a:pt x="173" y="1646"/>
                  </a:lnTo>
                  <a:lnTo>
                    <a:pt x="177" y="1596"/>
                  </a:lnTo>
                  <a:lnTo>
                    <a:pt x="180" y="1543"/>
                  </a:lnTo>
                  <a:lnTo>
                    <a:pt x="182" y="1485"/>
                  </a:lnTo>
                  <a:lnTo>
                    <a:pt x="183" y="1425"/>
                  </a:lnTo>
                  <a:lnTo>
                    <a:pt x="183" y="1362"/>
                  </a:lnTo>
                  <a:lnTo>
                    <a:pt x="182" y="1296"/>
                  </a:lnTo>
                  <a:lnTo>
                    <a:pt x="181" y="1229"/>
                  </a:lnTo>
                  <a:lnTo>
                    <a:pt x="177" y="1089"/>
                  </a:lnTo>
                  <a:lnTo>
                    <a:pt x="174" y="946"/>
                  </a:lnTo>
                  <a:lnTo>
                    <a:pt x="174" y="874"/>
                  </a:lnTo>
                  <a:lnTo>
                    <a:pt x="173" y="803"/>
                  </a:lnTo>
                  <a:lnTo>
                    <a:pt x="173" y="733"/>
                  </a:lnTo>
                  <a:lnTo>
                    <a:pt x="174" y="664"/>
                  </a:lnTo>
                  <a:lnTo>
                    <a:pt x="175" y="596"/>
                  </a:lnTo>
                  <a:lnTo>
                    <a:pt x="177" y="532"/>
                  </a:lnTo>
                  <a:lnTo>
                    <a:pt x="182" y="470"/>
                  </a:lnTo>
                  <a:lnTo>
                    <a:pt x="186" y="412"/>
                  </a:lnTo>
                  <a:lnTo>
                    <a:pt x="192" y="357"/>
                  </a:lnTo>
                  <a:lnTo>
                    <a:pt x="201" y="306"/>
                  </a:lnTo>
                  <a:lnTo>
                    <a:pt x="205" y="284"/>
                  </a:lnTo>
                  <a:lnTo>
                    <a:pt x="209" y="262"/>
                  </a:lnTo>
                  <a:lnTo>
                    <a:pt x="214" y="241"/>
                  </a:lnTo>
                  <a:lnTo>
                    <a:pt x="219" y="222"/>
                  </a:lnTo>
                  <a:lnTo>
                    <a:pt x="226" y="204"/>
                  </a:lnTo>
                  <a:lnTo>
                    <a:pt x="231" y="188"/>
                  </a:lnTo>
                  <a:lnTo>
                    <a:pt x="237" y="174"/>
                  </a:lnTo>
                  <a:lnTo>
                    <a:pt x="244" y="162"/>
                  </a:lnTo>
                  <a:lnTo>
                    <a:pt x="250" y="151"/>
                  </a:lnTo>
                  <a:lnTo>
                    <a:pt x="255" y="143"/>
                  </a:lnTo>
                  <a:lnTo>
                    <a:pt x="260" y="137"/>
                  </a:lnTo>
                  <a:lnTo>
                    <a:pt x="266" y="132"/>
                  </a:lnTo>
                  <a:lnTo>
                    <a:pt x="292" y="76"/>
                  </a:lnTo>
                  <a:lnTo>
                    <a:pt x="266" y="132"/>
                  </a:lnTo>
                  <a:lnTo>
                    <a:pt x="272" y="126"/>
                  </a:lnTo>
                  <a:lnTo>
                    <a:pt x="277" y="120"/>
                  </a:lnTo>
                  <a:lnTo>
                    <a:pt x="282" y="113"/>
                  </a:lnTo>
                  <a:lnTo>
                    <a:pt x="286" y="107"/>
                  </a:lnTo>
                  <a:lnTo>
                    <a:pt x="289" y="100"/>
                  </a:lnTo>
                  <a:lnTo>
                    <a:pt x="291" y="92"/>
                  </a:lnTo>
                  <a:lnTo>
                    <a:pt x="292" y="86"/>
                  </a:lnTo>
                  <a:lnTo>
                    <a:pt x="293" y="79"/>
                  </a:lnTo>
                  <a:lnTo>
                    <a:pt x="293" y="71"/>
                  </a:lnTo>
                  <a:lnTo>
                    <a:pt x="292" y="65"/>
                  </a:lnTo>
                  <a:lnTo>
                    <a:pt x="290" y="58"/>
                  </a:lnTo>
                  <a:lnTo>
                    <a:pt x="288" y="52"/>
                  </a:lnTo>
                  <a:lnTo>
                    <a:pt x="286" y="45"/>
                  </a:lnTo>
                  <a:lnTo>
                    <a:pt x="282" y="39"/>
                  </a:lnTo>
                  <a:lnTo>
                    <a:pt x="278" y="34"/>
                  </a:lnTo>
                  <a:lnTo>
                    <a:pt x="274" y="27"/>
                  </a:lnTo>
                  <a:lnTo>
                    <a:pt x="269" y="22"/>
                  </a:lnTo>
                  <a:lnTo>
                    <a:pt x="264" y="18"/>
                  </a:lnTo>
                  <a:lnTo>
                    <a:pt x="258" y="14"/>
                  </a:lnTo>
                  <a:lnTo>
                    <a:pt x="253" y="10"/>
                  </a:lnTo>
                  <a:lnTo>
                    <a:pt x="247" y="6"/>
                  </a:lnTo>
                  <a:lnTo>
                    <a:pt x="240" y="4"/>
                  </a:lnTo>
                  <a:lnTo>
                    <a:pt x="233" y="2"/>
                  </a:lnTo>
                  <a:lnTo>
                    <a:pt x="227" y="1"/>
                  </a:lnTo>
                  <a:lnTo>
                    <a:pt x="219" y="0"/>
                  </a:lnTo>
                  <a:lnTo>
                    <a:pt x="212" y="0"/>
                  </a:lnTo>
                  <a:lnTo>
                    <a:pt x="205" y="1"/>
                  </a:lnTo>
                  <a:lnTo>
                    <a:pt x="198" y="3"/>
                  </a:lnTo>
                  <a:lnTo>
                    <a:pt x="191" y="5"/>
                  </a:lnTo>
                  <a:lnTo>
                    <a:pt x="184" y="8"/>
                  </a:lnTo>
                  <a:lnTo>
                    <a:pt x="176" y="14"/>
                  </a:lnTo>
                  <a:lnTo>
                    <a:pt x="169" y="19"/>
                  </a:lnTo>
                  <a:lnTo>
                    <a:pt x="143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4403880" y="4218120"/>
              <a:ext cx="358560" cy="295200"/>
            </a:xfrm>
            <a:custGeom>
              <a:avLst/>
              <a:gdLst/>
              <a:ahLst/>
              <a:rect l="l" t="t" r="r" b="b"/>
              <a:pathLst>
                <a:path w="1129" h="932">
                  <a:moveTo>
                    <a:pt x="608" y="306"/>
                  </a:moveTo>
                  <a:lnTo>
                    <a:pt x="617" y="281"/>
                  </a:lnTo>
                  <a:lnTo>
                    <a:pt x="628" y="258"/>
                  </a:lnTo>
                  <a:lnTo>
                    <a:pt x="638" y="236"/>
                  </a:lnTo>
                  <a:lnTo>
                    <a:pt x="649" y="215"/>
                  </a:lnTo>
                  <a:lnTo>
                    <a:pt x="659" y="196"/>
                  </a:lnTo>
                  <a:lnTo>
                    <a:pt x="671" y="178"/>
                  </a:lnTo>
                  <a:lnTo>
                    <a:pt x="681" y="161"/>
                  </a:lnTo>
                  <a:lnTo>
                    <a:pt x="693" y="145"/>
                  </a:lnTo>
                  <a:lnTo>
                    <a:pt x="705" y="132"/>
                  </a:lnTo>
                  <a:lnTo>
                    <a:pt x="717" y="119"/>
                  </a:lnTo>
                  <a:lnTo>
                    <a:pt x="729" y="108"/>
                  </a:lnTo>
                  <a:lnTo>
                    <a:pt x="742" y="96"/>
                  </a:lnTo>
                  <a:lnTo>
                    <a:pt x="755" y="87"/>
                  </a:lnTo>
                  <a:lnTo>
                    <a:pt x="768" y="78"/>
                  </a:lnTo>
                  <a:lnTo>
                    <a:pt x="782" y="71"/>
                  </a:lnTo>
                  <a:lnTo>
                    <a:pt x="797" y="63"/>
                  </a:lnTo>
                  <a:lnTo>
                    <a:pt x="811" y="57"/>
                  </a:lnTo>
                  <a:lnTo>
                    <a:pt x="827" y="52"/>
                  </a:lnTo>
                  <a:lnTo>
                    <a:pt x="842" y="48"/>
                  </a:lnTo>
                  <a:lnTo>
                    <a:pt x="859" y="43"/>
                  </a:lnTo>
                  <a:lnTo>
                    <a:pt x="875" y="40"/>
                  </a:lnTo>
                  <a:lnTo>
                    <a:pt x="892" y="37"/>
                  </a:lnTo>
                  <a:lnTo>
                    <a:pt x="910" y="35"/>
                  </a:lnTo>
                  <a:lnTo>
                    <a:pt x="928" y="33"/>
                  </a:lnTo>
                  <a:lnTo>
                    <a:pt x="967" y="31"/>
                  </a:lnTo>
                  <a:lnTo>
                    <a:pt x="1008" y="29"/>
                  </a:lnTo>
                  <a:lnTo>
                    <a:pt x="1052" y="29"/>
                  </a:lnTo>
                  <a:lnTo>
                    <a:pt x="1098" y="29"/>
                  </a:lnTo>
                  <a:lnTo>
                    <a:pt x="1112" y="66"/>
                  </a:lnTo>
                  <a:lnTo>
                    <a:pt x="1121" y="101"/>
                  </a:lnTo>
                  <a:lnTo>
                    <a:pt x="1126" y="137"/>
                  </a:lnTo>
                  <a:lnTo>
                    <a:pt x="1129" y="173"/>
                  </a:lnTo>
                  <a:lnTo>
                    <a:pt x="1126" y="208"/>
                  </a:lnTo>
                  <a:lnTo>
                    <a:pt x="1120" y="243"/>
                  </a:lnTo>
                  <a:lnTo>
                    <a:pt x="1112" y="277"/>
                  </a:lnTo>
                  <a:lnTo>
                    <a:pt x="1100" y="311"/>
                  </a:lnTo>
                  <a:lnTo>
                    <a:pt x="1085" y="344"/>
                  </a:lnTo>
                  <a:lnTo>
                    <a:pt x="1068" y="377"/>
                  </a:lnTo>
                  <a:lnTo>
                    <a:pt x="1049" y="410"/>
                  </a:lnTo>
                  <a:lnTo>
                    <a:pt x="1028" y="441"/>
                  </a:lnTo>
                  <a:lnTo>
                    <a:pt x="1004" y="473"/>
                  </a:lnTo>
                  <a:lnTo>
                    <a:pt x="978" y="503"/>
                  </a:lnTo>
                  <a:lnTo>
                    <a:pt x="952" y="534"/>
                  </a:lnTo>
                  <a:lnTo>
                    <a:pt x="925" y="563"/>
                  </a:lnTo>
                  <a:lnTo>
                    <a:pt x="896" y="592"/>
                  </a:lnTo>
                  <a:lnTo>
                    <a:pt x="867" y="620"/>
                  </a:lnTo>
                  <a:lnTo>
                    <a:pt x="837" y="647"/>
                  </a:lnTo>
                  <a:lnTo>
                    <a:pt x="806" y="675"/>
                  </a:lnTo>
                  <a:lnTo>
                    <a:pt x="746" y="726"/>
                  </a:lnTo>
                  <a:lnTo>
                    <a:pt x="687" y="773"/>
                  </a:lnTo>
                  <a:lnTo>
                    <a:pt x="631" y="818"/>
                  </a:lnTo>
                  <a:lnTo>
                    <a:pt x="580" y="860"/>
                  </a:lnTo>
                  <a:lnTo>
                    <a:pt x="557" y="879"/>
                  </a:lnTo>
                  <a:lnTo>
                    <a:pt x="536" y="898"/>
                  </a:lnTo>
                  <a:lnTo>
                    <a:pt x="517" y="915"/>
                  </a:lnTo>
                  <a:lnTo>
                    <a:pt x="501" y="932"/>
                  </a:lnTo>
                  <a:lnTo>
                    <a:pt x="462" y="889"/>
                  </a:lnTo>
                  <a:lnTo>
                    <a:pt x="413" y="834"/>
                  </a:lnTo>
                  <a:lnTo>
                    <a:pt x="357" y="772"/>
                  </a:lnTo>
                  <a:lnTo>
                    <a:pt x="298" y="702"/>
                  </a:lnTo>
                  <a:lnTo>
                    <a:pt x="266" y="665"/>
                  </a:lnTo>
                  <a:lnTo>
                    <a:pt x="236" y="627"/>
                  </a:lnTo>
                  <a:lnTo>
                    <a:pt x="207" y="588"/>
                  </a:lnTo>
                  <a:lnTo>
                    <a:pt x="177" y="550"/>
                  </a:lnTo>
                  <a:lnTo>
                    <a:pt x="149" y="510"/>
                  </a:lnTo>
                  <a:lnTo>
                    <a:pt x="121" y="470"/>
                  </a:lnTo>
                  <a:lnTo>
                    <a:pt x="96" y="431"/>
                  </a:lnTo>
                  <a:lnTo>
                    <a:pt x="73" y="391"/>
                  </a:lnTo>
                  <a:lnTo>
                    <a:pt x="53" y="353"/>
                  </a:lnTo>
                  <a:lnTo>
                    <a:pt x="35" y="314"/>
                  </a:lnTo>
                  <a:lnTo>
                    <a:pt x="21" y="278"/>
                  </a:lnTo>
                  <a:lnTo>
                    <a:pt x="9" y="243"/>
                  </a:lnTo>
                  <a:lnTo>
                    <a:pt x="3" y="208"/>
                  </a:lnTo>
                  <a:lnTo>
                    <a:pt x="0" y="176"/>
                  </a:lnTo>
                  <a:lnTo>
                    <a:pt x="2" y="146"/>
                  </a:lnTo>
                  <a:lnTo>
                    <a:pt x="8" y="118"/>
                  </a:lnTo>
                  <a:lnTo>
                    <a:pt x="20" y="92"/>
                  </a:lnTo>
                  <a:lnTo>
                    <a:pt x="37" y="70"/>
                  </a:lnTo>
                  <a:lnTo>
                    <a:pt x="61" y="49"/>
                  </a:lnTo>
                  <a:lnTo>
                    <a:pt x="91" y="32"/>
                  </a:lnTo>
                  <a:lnTo>
                    <a:pt x="127" y="18"/>
                  </a:lnTo>
                  <a:lnTo>
                    <a:pt x="171" y="9"/>
                  </a:lnTo>
                  <a:lnTo>
                    <a:pt x="221" y="3"/>
                  </a:lnTo>
                  <a:lnTo>
                    <a:pt x="280" y="0"/>
                  </a:lnTo>
                  <a:lnTo>
                    <a:pt x="285" y="10"/>
                  </a:lnTo>
                  <a:lnTo>
                    <a:pt x="291" y="20"/>
                  </a:lnTo>
                  <a:lnTo>
                    <a:pt x="297" y="30"/>
                  </a:lnTo>
                  <a:lnTo>
                    <a:pt x="305" y="40"/>
                  </a:lnTo>
                  <a:lnTo>
                    <a:pt x="314" y="50"/>
                  </a:lnTo>
                  <a:lnTo>
                    <a:pt x="323" y="59"/>
                  </a:lnTo>
                  <a:lnTo>
                    <a:pt x="333" y="70"/>
                  </a:lnTo>
                  <a:lnTo>
                    <a:pt x="343" y="79"/>
                  </a:lnTo>
                  <a:lnTo>
                    <a:pt x="366" y="98"/>
                  </a:lnTo>
                  <a:lnTo>
                    <a:pt x="391" y="118"/>
                  </a:lnTo>
                  <a:lnTo>
                    <a:pt x="418" y="137"/>
                  </a:lnTo>
                  <a:lnTo>
                    <a:pt x="444" y="156"/>
                  </a:lnTo>
                  <a:lnTo>
                    <a:pt x="470" y="175"/>
                  </a:lnTo>
                  <a:lnTo>
                    <a:pt x="496" y="194"/>
                  </a:lnTo>
                  <a:lnTo>
                    <a:pt x="522" y="213"/>
                  </a:lnTo>
                  <a:lnTo>
                    <a:pt x="545" y="231"/>
                  </a:lnTo>
                  <a:lnTo>
                    <a:pt x="565" y="250"/>
                  </a:lnTo>
                  <a:lnTo>
                    <a:pt x="582" y="269"/>
                  </a:lnTo>
                  <a:lnTo>
                    <a:pt x="591" y="278"/>
                  </a:lnTo>
                  <a:lnTo>
                    <a:pt x="597" y="287"/>
                  </a:lnTo>
                  <a:lnTo>
                    <a:pt x="602" y="297"/>
                  </a:lnTo>
                  <a:lnTo>
                    <a:pt x="608" y="30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4573440" y="4203720"/>
              <a:ext cx="201600" cy="119160"/>
            </a:xfrm>
            <a:custGeom>
              <a:avLst/>
              <a:gdLst/>
              <a:ahLst/>
              <a:rect l="l" t="t" r="r" b="b"/>
              <a:pathLst>
                <a:path w="635" h="378">
                  <a:moveTo>
                    <a:pt x="628" y="45"/>
                  </a:moveTo>
                  <a:lnTo>
                    <a:pt x="560" y="0"/>
                  </a:lnTo>
                  <a:lnTo>
                    <a:pt x="513" y="0"/>
                  </a:lnTo>
                  <a:lnTo>
                    <a:pt x="469" y="0"/>
                  </a:lnTo>
                  <a:lnTo>
                    <a:pt x="426" y="2"/>
                  </a:lnTo>
                  <a:lnTo>
                    <a:pt x="385" y="4"/>
                  </a:lnTo>
                  <a:lnTo>
                    <a:pt x="364" y="7"/>
                  </a:lnTo>
                  <a:lnTo>
                    <a:pt x="344" y="10"/>
                  </a:lnTo>
                  <a:lnTo>
                    <a:pt x="324" y="13"/>
                  </a:lnTo>
                  <a:lnTo>
                    <a:pt x="304" y="17"/>
                  </a:lnTo>
                  <a:lnTo>
                    <a:pt x="285" y="21"/>
                  </a:lnTo>
                  <a:lnTo>
                    <a:pt x="266" y="28"/>
                  </a:lnTo>
                  <a:lnTo>
                    <a:pt x="247" y="34"/>
                  </a:lnTo>
                  <a:lnTo>
                    <a:pt x="228" y="41"/>
                  </a:lnTo>
                  <a:lnTo>
                    <a:pt x="210" y="51"/>
                  </a:lnTo>
                  <a:lnTo>
                    <a:pt x="193" y="60"/>
                  </a:lnTo>
                  <a:lnTo>
                    <a:pt x="175" y="72"/>
                  </a:lnTo>
                  <a:lnTo>
                    <a:pt x="158" y="84"/>
                  </a:lnTo>
                  <a:lnTo>
                    <a:pt x="142" y="98"/>
                  </a:lnTo>
                  <a:lnTo>
                    <a:pt x="126" y="113"/>
                  </a:lnTo>
                  <a:lnTo>
                    <a:pt x="112" y="128"/>
                  </a:lnTo>
                  <a:lnTo>
                    <a:pt x="97" y="145"/>
                  </a:lnTo>
                  <a:lnTo>
                    <a:pt x="83" y="164"/>
                  </a:lnTo>
                  <a:lnTo>
                    <a:pt x="70" y="183"/>
                  </a:lnTo>
                  <a:lnTo>
                    <a:pt x="57" y="204"/>
                  </a:lnTo>
                  <a:lnTo>
                    <a:pt x="46" y="225"/>
                  </a:lnTo>
                  <a:lnTo>
                    <a:pt x="33" y="248"/>
                  </a:lnTo>
                  <a:lnTo>
                    <a:pt x="21" y="273"/>
                  </a:lnTo>
                  <a:lnTo>
                    <a:pt x="11" y="298"/>
                  </a:lnTo>
                  <a:lnTo>
                    <a:pt x="0" y="326"/>
                  </a:lnTo>
                  <a:lnTo>
                    <a:pt x="139" y="378"/>
                  </a:lnTo>
                  <a:lnTo>
                    <a:pt x="148" y="355"/>
                  </a:lnTo>
                  <a:lnTo>
                    <a:pt x="158" y="333"/>
                  </a:lnTo>
                  <a:lnTo>
                    <a:pt x="167" y="314"/>
                  </a:lnTo>
                  <a:lnTo>
                    <a:pt x="177" y="295"/>
                  </a:lnTo>
                  <a:lnTo>
                    <a:pt x="185" y="278"/>
                  </a:lnTo>
                  <a:lnTo>
                    <a:pt x="195" y="264"/>
                  </a:lnTo>
                  <a:lnTo>
                    <a:pt x="204" y="250"/>
                  </a:lnTo>
                  <a:lnTo>
                    <a:pt x="214" y="239"/>
                  </a:lnTo>
                  <a:lnTo>
                    <a:pt x="223" y="227"/>
                  </a:lnTo>
                  <a:lnTo>
                    <a:pt x="231" y="218"/>
                  </a:lnTo>
                  <a:lnTo>
                    <a:pt x="241" y="209"/>
                  </a:lnTo>
                  <a:lnTo>
                    <a:pt x="250" y="201"/>
                  </a:lnTo>
                  <a:lnTo>
                    <a:pt x="260" y="194"/>
                  </a:lnTo>
                  <a:lnTo>
                    <a:pt x="269" y="188"/>
                  </a:lnTo>
                  <a:lnTo>
                    <a:pt x="279" y="182"/>
                  </a:lnTo>
                  <a:lnTo>
                    <a:pt x="289" y="178"/>
                  </a:lnTo>
                  <a:lnTo>
                    <a:pt x="300" y="173"/>
                  </a:lnTo>
                  <a:lnTo>
                    <a:pt x="311" y="169"/>
                  </a:lnTo>
                  <a:lnTo>
                    <a:pt x="324" y="165"/>
                  </a:lnTo>
                  <a:lnTo>
                    <a:pt x="336" y="162"/>
                  </a:lnTo>
                  <a:lnTo>
                    <a:pt x="350" y="160"/>
                  </a:lnTo>
                  <a:lnTo>
                    <a:pt x="365" y="157"/>
                  </a:lnTo>
                  <a:lnTo>
                    <a:pt x="380" y="155"/>
                  </a:lnTo>
                  <a:lnTo>
                    <a:pt x="396" y="154"/>
                  </a:lnTo>
                  <a:lnTo>
                    <a:pt x="432" y="151"/>
                  </a:lnTo>
                  <a:lnTo>
                    <a:pt x="472" y="150"/>
                  </a:lnTo>
                  <a:lnTo>
                    <a:pt x="514" y="149"/>
                  </a:lnTo>
                  <a:lnTo>
                    <a:pt x="560" y="149"/>
                  </a:lnTo>
                  <a:lnTo>
                    <a:pt x="492" y="104"/>
                  </a:lnTo>
                  <a:lnTo>
                    <a:pt x="560" y="149"/>
                  </a:lnTo>
                  <a:lnTo>
                    <a:pt x="569" y="149"/>
                  </a:lnTo>
                  <a:lnTo>
                    <a:pt x="578" y="148"/>
                  </a:lnTo>
                  <a:lnTo>
                    <a:pt x="585" y="146"/>
                  </a:lnTo>
                  <a:lnTo>
                    <a:pt x="593" y="143"/>
                  </a:lnTo>
                  <a:lnTo>
                    <a:pt x="599" y="140"/>
                  </a:lnTo>
                  <a:lnTo>
                    <a:pt x="605" y="136"/>
                  </a:lnTo>
                  <a:lnTo>
                    <a:pt x="612" y="131"/>
                  </a:lnTo>
                  <a:lnTo>
                    <a:pt x="616" y="126"/>
                  </a:lnTo>
                  <a:lnTo>
                    <a:pt x="620" y="121"/>
                  </a:lnTo>
                  <a:lnTo>
                    <a:pt x="624" y="115"/>
                  </a:lnTo>
                  <a:lnTo>
                    <a:pt x="627" y="108"/>
                  </a:lnTo>
                  <a:lnTo>
                    <a:pt x="630" y="102"/>
                  </a:lnTo>
                  <a:lnTo>
                    <a:pt x="633" y="96"/>
                  </a:lnTo>
                  <a:lnTo>
                    <a:pt x="634" y="88"/>
                  </a:lnTo>
                  <a:lnTo>
                    <a:pt x="635" y="82"/>
                  </a:lnTo>
                  <a:lnTo>
                    <a:pt x="635" y="75"/>
                  </a:lnTo>
                  <a:lnTo>
                    <a:pt x="635" y="67"/>
                  </a:lnTo>
                  <a:lnTo>
                    <a:pt x="634" y="61"/>
                  </a:lnTo>
                  <a:lnTo>
                    <a:pt x="633" y="54"/>
                  </a:lnTo>
                  <a:lnTo>
                    <a:pt x="630" y="47"/>
                  </a:lnTo>
                  <a:lnTo>
                    <a:pt x="627" y="41"/>
                  </a:lnTo>
                  <a:lnTo>
                    <a:pt x="624" y="35"/>
                  </a:lnTo>
                  <a:lnTo>
                    <a:pt x="620" y="29"/>
                  </a:lnTo>
                  <a:lnTo>
                    <a:pt x="616" y="23"/>
                  </a:lnTo>
                  <a:lnTo>
                    <a:pt x="612" y="18"/>
                  </a:lnTo>
                  <a:lnTo>
                    <a:pt x="605" y="14"/>
                  </a:lnTo>
                  <a:lnTo>
                    <a:pt x="599" y="10"/>
                  </a:lnTo>
                  <a:lnTo>
                    <a:pt x="593" y="7"/>
                  </a:lnTo>
                  <a:lnTo>
                    <a:pt x="585" y="3"/>
                  </a:lnTo>
                  <a:lnTo>
                    <a:pt x="578" y="1"/>
                  </a:lnTo>
                  <a:lnTo>
                    <a:pt x="569" y="0"/>
                  </a:lnTo>
                  <a:lnTo>
                    <a:pt x="560" y="0"/>
                  </a:lnTo>
                  <a:lnTo>
                    <a:pt x="628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4538520" y="4218120"/>
              <a:ext cx="246240" cy="318960"/>
            </a:xfrm>
            <a:custGeom>
              <a:avLst/>
              <a:gdLst/>
              <a:ahLst/>
              <a:rect l="l" t="t" r="r" b="b"/>
              <a:pathLst>
                <a:path w="778" h="1008">
                  <a:moveTo>
                    <a:pt x="21" y="982"/>
                  </a:moveTo>
                  <a:lnTo>
                    <a:pt x="129" y="984"/>
                  </a:lnTo>
                  <a:lnTo>
                    <a:pt x="144" y="971"/>
                  </a:lnTo>
                  <a:lnTo>
                    <a:pt x="161" y="954"/>
                  </a:lnTo>
                  <a:lnTo>
                    <a:pt x="181" y="937"/>
                  </a:lnTo>
                  <a:lnTo>
                    <a:pt x="203" y="918"/>
                  </a:lnTo>
                  <a:lnTo>
                    <a:pt x="253" y="877"/>
                  </a:lnTo>
                  <a:lnTo>
                    <a:pt x="309" y="832"/>
                  </a:lnTo>
                  <a:lnTo>
                    <a:pt x="369" y="784"/>
                  </a:lnTo>
                  <a:lnTo>
                    <a:pt x="430" y="731"/>
                  </a:lnTo>
                  <a:lnTo>
                    <a:pt x="462" y="704"/>
                  </a:lnTo>
                  <a:lnTo>
                    <a:pt x="492" y="676"/>
                  </a:lnTo>
                  <a:lnTo>
                    <a:pt x="523" y="646"/>
                  </a:lnTo>
                  <a:lnTo>
                    <a:pt x="553" y="616"/>
                  </a:lnTo>
                  <a:lnTo>
                    <a:pt x="583" y="584"/>
                  </a:lnTo>
                  <a:lnTo>
                    <a:pt x="611" y="553"/>
                  </a:lnTo>
                  <a:lnTo>
                    <a:pt x="637" y="519"/>
                  </a:lnTo>
                  <a:lnTo>
                    <a:pt x="663" y="485"/>
                  </a:lnTo>
                  <a:lnTo>
                    <a:pt x="687" y="451"/>
                  </a:lnTo>
                  <a:lnTo>
                    <a:pt x="708" y="415"/>
                  </a:lnTo>
                  <a:lnTo>
                    <a:pt x="718" y="396"/>
                  </a:lnTo>
                  <a:lnTo>
                    <a:pt x="728" y="377"/>
                  </a:lnTo>
                  <a:lnTo>
                    <a:pt x="736" y="358"/>
                  </a:lnTo>
                  <a:lnTo>
                    <a:pt x="744" y="338"/>
                  </a:lnTo>
                  <a:lnTo>
                    <a:pt x="751" y="320"/>
                  </a:lnTo>
                  <a:lnTo>
                    <a:pt x="758" y="300"/>
                  </a:lnTo>
                  <a:lnTo>
                    <a:pt x="763" y="280"/>
                  </a:lnTo>
                  <a:lnTo>
                    <a:pt x="769" y="259"/>
                  </a:lnTo>
                  <a:lnTo>
                    <a:pt x="772" y="238"/>
                  </a:lnTo>
                  <a:lnTo>
                    <a:pt x="775" y="217"/>
                  </a:lnTo>
                  <a:lnTo>
                    <a:pt x="777" y="196"/>
                  </a:lnTo>
                  <a:lnTo>
                    <a:pt x="778" y="175"/>
                  </a:lnTo>
                  <a:lnTo>
                    <a:pt x="777" y="154"/>
                  </a:lnTo>
                  <a:lnTo>
                    <a:pt x="776" y="132"/>
                  </a:lnTo>
                  <a:lnTo>
                    <a:pt x="773" y="110"/>
                  </a:lnTo>
                  <a:lnTo>
                    <a:pt x="770" y="88"/>
                  </a:lnTo>
                  <a:lnTo>
                    <a:pt x="764" y="65"/>
                  </a:lnTo>
                  <a:lnTo>
                    <a:pt x="758" y="43"/>
                  </a:lnTo>
                  <a:lnTo>
                    <a:pt x="750" y="22"/>
                  </a:lnTo>
                  <a:lnTo>
                    <a:pt x="741" y="0"/>
                  </a:lnTo>
                  <a:lnTo>
                    <a:pt x="605" y="59"/>
                  </a:lnTo>
                  <a:lnTo>
                    <a:pt x="611" y="74"/>
                  </a:lnTo>
                  <a:lnTo>
                    <a:pt x="616" y="89"/>
                  </a:lnTo>
                  <a:lnTo>
                    <a:pt x="621" y="103"/>
                  </a:lnTo>
                  <a:lnTo>
                    <a:pt x="624" y="117"/>
                  </a:lnTo>
                  <a:lnTo>
                    <a:pt x="626" y="132"/>
                  </a:lnTo>
                  <a:lnTo>
                    <a:pt x="627" y="145"/>
                  </a:lnTo>
                  <a:lnTo>
                    <a:pt x="628" y="159"/>
                  </a:lnTo>
                  <a:lnTo>
                    <a:pt x="629" y="174"/>
                  </a:lnTo>
                  <a:lnTo>
                    <a:pt x="628" y="187"/>
                  </a:lnTo>
                  <a:lnTo>
                    <a:pt x="627" y="201"/>
                  </a:lnTo>
                  <a:lnTo>
                    <a:pt x="625" y="215"/>
                  </a:lnTo>
                  <a:lnTo>
                    <a:pt x="623" y="228"/>
                  </a:lnTo>
                  <a:lnTo>
                    <a:pt x="618" y="243"/>
                  </a:lnTo>
                  <a:lnTo>
                    <a:pt x="615" y="257"/>
                  </a:lnTo>
                  <a:lnTo>
                    <a:pt x="611" y="270"/>
                  </a:lnTo>
                  <a:lnTo>
                    <a:pt x="606" y="285"/>
                  </a:lnTo>
                  <a:lnTo>
                    <a:pt x="600" y="299"/>
                  </a:lnTo>
                  <a:lnTo>
                    <a:pt x="593" y="313"/>
                  </a:lnTo>
                  <a:lnTo>
                    <a:pt x="586" y="327"/>
                  </a:lnTo>
                  <a:lnTo>
                    <a:pt x="579" y="341"/>
                  </a:lnTo>
                  <a:lnTo>
                    <a:pt x="561" y="371"/>
                  </a:lnTo>
                  <a:lnTo>
                    <a:pt x="542" y="399"/>
                  </a:lnTo>
                  <a:lnTo>
                    <a:pt x="520" y="428"/>
                  </a:lnTo>
                  <a:lnTo>
                    <a:pt x="497" y="456"/>
                  </a:lnTo>
                  <a:lnTo>
                    <a:pt x="472" y="484"/>
                  </a:lnTo>
                  <a:lnTo>
                    <a:pt x="446" y="512"/>
                  </a:lnTo>
                  <a:lnTo>
                    <a:pt x="419" y="540"/>
                  </a:lnTo>
                  <a:lnTo>
                    <a:pt x="391" y="566"/>
                  </a:lnTo>
                  <a:lnTo>
                    <a:pt x="362" y="593"/>
                  </a:lnTo>
                  <a:lnTo>
                    <a:pt x="333" y="619"/>
                  </a:lnTo>
                  <a:lnTo>
                    <a:pt x="274" y="669"/>
                  </a:lnTo>
                  <a:lnTo>
                    <a:pt x="215" y="716"/>
                  </a:lnTo>
                  <a:lnTo>
                    <a:pt x="160" y="762"/>
                  </a:lnTo>
                  <a:lnTo>
                    <a:pt x="108" y="804"/>
                  </a:lnTo>
                  <a:lnTo>
                    <a:pt x="84" y="824"/>
                  </a:lnTo>
                  <a:lnTo>
                    <a:pt x="62" y="844"/>
                  </a:lnTo>
                  <a:lnTo>
                    <a:pt x="41" y="862"/>
                  </a:lnTo>
                  <a:lnTo>
                    <a:pt x="22" y="881"/>
                  </a:lnTo>
                  <a:lnTo>
                    <a:pt x="131" y="883"/>
                  </a:lnTo>
                  <a:lnTo>
                    <a:pt x="22" y="881"/>
                  </a:lnTo>
                  <a:lnTo>
                    <a:pt x="16" y="888"/>
                  </a:lnTo>
                  <a:lnTo>
                    <a:pt x="11" y="895"/>
                  </a:lnTo>
                  <a:lnTo>
                    <a:pt x="7" y="902"/>
                  </a:lnTo>
                  <a:lnTo>
                    <a:pt x="4" y="909"/>
                  </a:lnTo>
                  <a:lnTo>
                    <a:pt x="2" y="916"/>
                  </a:lnTo>
                  <a:lnTo>
                    <a:pt x="1" y="923"/>
                  </a:lnTo>
                  <a:lnTo>
                    <a:pt x="0" y="931"/>
                  </a:lnTo>
                  <a:lnTo>
                    <a:pt x="0" y="937"/>
                  </a:lnTo>
                  <a:lnTo>
                    <a:pt x="1" y="944"/>
                  </a:lnTo>
                  <a:lnTo>
                    <a:pt x="3" y="951"/>
                  </a:lnTo>
                  <a:lnTo>
                    <a:pt x="5" y="958"/>
                  </a:lnTo>
                  <a:lnTo>
                    <a:pt x="7" y="964"/>
                  </a:lnTo>
                  <a:lnTo>
                    <a:pt x="11" y="971"/>
                  </a:lnTo>
                  <a:lnTo>
                    <a:pt x="15" y="976"/>
                  </a:lnTo>
                  <a:lnTo>
                    <a:pt x="19" y="981"/>
                  </a:lnTo>
                  <a:lnTo>
                    <a:pt x="24" y="986"/>
                  </a:lnTo>
                  <a:lnTo>
                    <a:pt x="29" y="991"/>
                  </a:lnTo>
                  <a:lnTo>
                    <a:pt x="35" y="995"/>
                  </a:lnTo>
                  <a:lnTo>
                    <a:pt x="41" y="999"/>
                  </a:lnTo>
                  <a:lnTo>
                    <a:pt x="47" y="1002"/>
                  </a:lnTo>
                  <a:lnTo>
                    <a:pt x="53" y="1004"/>
                  </a:lnTo>
                  <a:lnTo>
                    <a:pt x="60" y="1006"/>
                  </a:lnTo>
                  <a:lnTo>
                    <a:pt x="67" y="1007"/>
                  </a:lnTo>
                  <a:lnTo>
                    <a:pt x="74" y="1008"/>
                  </a:lnTo>
                  <a:lnTo>
                    <a:pt x="81" y="1008"/>
                  </a:lnTo>
                  <a:lnTo>
                    <a:pt x="88" y="1007"/>
                  </a:lnTo>
                  <a:lnTo>
                    <a:pt x="95" y="1006"/>
                  </a:lnTo>
                  <a:lnTo>
                    <a:pt x="102" y="1003"/>
                  </a:lnTo>
                  <a:lnTo>
                    <a:pt x="109" y="1000"/>
                  </a:lnTo>
                  <a:lnTo>
                    <a:pt x="117" y="996"/>
                  </a:lnTo>
                  <a:lnTo>
                    <a:pt x="123" y="991"/>
                  </a:lnTo>
                  <a:lnTo>
                    <a:pt x="129" y="984"/>
                  </a:lnTo>
                  <a:lnTo>
                    <a:pt x="21" y="9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4379760" y="4194360"/>
              <a:ext cx="200160" cy="334800"/>
            </a:xfrm>
            <a:custGeom>
              <a:avLst/>
              <a:gdLst/>
              <a:ahLst/>
              <a:rect l="l" t="t" r="r" b="b"/>
              <a:pathLst>
                <a:path w="631" h="1055">
                  <a:moveTo>
                    <a:pt x="424" y="46"/>
                  </a:moveTo>
                  <a:lnTo>
                    <a:pt x="355" y="0"/>
                  </a:lnTo>
                  <a:lnTo>
                    <a:pt x="322" y="1"/>
                  </a:lnTo>
                  <a:lnTo>
                    <a:pt x="291" y="2"/>
                  </a:lnTo>
                  <a:lnTo>
                    <a:pt x="262" y="5"/>
                  </a:lnTo>
                  <a:lnTo>
                    <a:pt x="233" y="9"/>
                  </a:lnTo>
                  <a:lnTo>
                    <a:pt x="207" y="15"/>
                  </a:lnTo>
                  <a:lnTo>
                    <a:pt x="181" y="21"/>
                  </a:lnTo>
                  <a:lnTo>
                    <a:pt x="158" y="29"/>
                  </a:lnTo>
                  <a:lnTo>
                    <a:pt x="135" y="39"/>
                  </a:lnTo>
                  <a:lnTo>
                    <a:pt x="114" y="49"/>
                  </a:lnTo>
                  <a:lnTo>
                    <a:pt x="94" y="62"/>
                  </a:lnTo>
                  <a:lnTo>
                    <a:pt x="75" y="77"/>
                  </a:lnTo>
                  <a:lnTo>
                    <a:pt x="59" y="92"/>
                  </a:lnTo>
                  <a:lnTo>
                    <a:pt x="43" y="109"/>
                  </a:lnTo>
                  <a:lnTo>
                    <a:pt x="31" y="128"/>
                  </a:lnTo>
                  <a:lnTo>
                    <a:pt x="20" y="147"/>
                  </a:lnTo>
                  <a:lnTo>
                    <a:pt x="13" y="168"/>
                  </a:lnTo>
                  <a:lnTo>
                    <a:pt x="6" y="189"/>
                  </a:lnTo>
                  <a:lnTo>
                    <a:pt x="2" y="210"/>
                  </a:lnTo>
                  <a:lnTo>
                    <a:pt x="0" y="231"/>
                  </a:lnTo>
                  <a:lnTo>
                    <a:pt x="0" y="252"/>
                  </a:lnTo>
                  <a:lnTo>
                    <a:pt x="1" y="273"/>
                  </a:lnTo>
                  <a:lnTo>
                    <a:pt x="3" y="294"/>
                  </a:lnTo>
                  <a:lnTo>
                    <a:pt x="7" y="315"/>
                  </a:lnTo>
                  <a:lnTo>
                    <a:pt x="13" y="335"/>
                  </a:lnTo>
                  <a:lnTo>
                    <a:pt x="18" y="356"/>
                  </a:lnTo>
                  <a:lnTo>
                    <a:pt x="25" y="377"/>
                  </a:lnTo>
                  <a:lnTo>
                    <a:pt x="33" y="398"/>
                  </a:lnTo>
                  <a:lnTo>
                    <a:pt x="42" y="419"/>
                  </a:lnTo>
                  <a:lnTo>
                    <a:pt x="52" y="439"/>
                  </a:lnTo>
                  <a:lnTo>
                    <a:pt x="61" y="460"/>
                  </a:lnTo>
                  <a:lnTo>
                    <a:pt x="72" y="481"/>
                  </a:lnTo>
                  <a:lnTo>
                    <a:pt x="84" y="503"/>
                  </a:lnTo>
                  <a:lnTo>
                    <a:pt x="108" y="544"/>
                  </a:lnTo>
                  <a:lnTo>
                    <a:pt x="135" y="585"/>
                  </a:lnTo>
                  <a:lnTo>
                    <a:pt x="162" y="627"/>
                  </a:lnTo>
                  <a:lnTo>
                    <a:pt x="191" y="668"/>
                  </a:lnTo>
                  <a:lnTo>
                    <a:pt x="222" y="708"/>
                  </a:lnTo>
                  <a:lnTo>
                    <a:pt x="253" y="747"/>
                  </a:lnTo>
                  <a:lnTo>
                    <a:pt x="284" y="786"/>
                  </a:lnTo>
                  <a:lnTo>
                    <a:pt x="315" y="824"/>
                  </a:lnTo>
                  <a:lnTo>
                    <a:pt x="376" y="894"/>
                  </a:lnTo>
                  <a:lnTo>
                    <a:pt x="433" y="959"/>
                  </a:lnTo>
                  <a:lnTo>
                    <a:pt x="482" y="1012"/>
                  </a:lnTo>
                  <a:lnTo>
                    <a:pt x="521" y="1055"/>
                  </a:lnTo>
                  <a:lnTo>
                    <a:pt x="631" y="956"/>
                  </a:lnTo>
                  <a:lnTo>
                    <a:pt x="591" y="912"/>
                  </a:lnTo>
                  <a:lnTo>
                    <a:pt x="543" y="859"/>
                  </a:lnTo>
                  <a:lnTo>
                    <a:pt x="488" y="797"/>
                  </a:lnTo>
                  <a:lnTo>
                    <a:pt x="430" y="729"/>
                  </a:lnTo>
                  <a:lnTo>
                    <a:pt x="399" y="692"/>
                  </a:lnTo>
                  <a:lnTo>
                    <a:pt x="370" y="655"/>
                  </a:lnTo>
                  <a:lnTo>
                    <a:pt x="340" y="617"/>
                  </a:lnTo>
                  <a:lnTo>
                    <a:pt x="312" y="579"/>
                  </a:lnTo>
                  <a:lnTo>
                    <a:pt x="285" y="542"/>
                  </a:lnTo>
                  <a:lnTo>
                    <a:pt x="258" y="504"/>
                  </a:lnTo>
                  <a:lnTo>
                    <a:pt x="235" y="466"/>
                  </a:lnTo>
                  <a:lnTo>
                    <a:pt x="213" y="428"/>
                  </a:lnTo>
                  <a:lnTo>
                    <a:pt x="204" y="411"/>
                  </a:lnTo>
                  <a:lnTo>
                    <a:pt x="194" y="394"/>
                  </a:lnTo>
                  <a:lnTo>
                    <a:pt x="186" y="376"/>
                  </a:lnTo>
                  <a:lnTo>
                    <a:pt x="179" y="359"/>
                  </a:lnTo>
                  <a:lnTo>
                    <a:pt x="171" y="343"/>
                  </a:lnTo>
                  <a:lnTo>
                    <a:pt x="166" y="327"/>
                  </a:lnTo>
                  <a:lnTo>
                    <a:pt x="161" y="313"/>
                  </a:lnTo>
                  <a:lnTo>
                    <a:pt x="157" y="298"/>
                  </a:lnTo>
                  <a:lnTo>
                    <a:pt x="153" y="284"/>
                  </a:lnTo>
                  <a:lnTo>
                    <a:pt x="151" y="272"/>
                  </a:lnTo>
                  <a:lnTo>
                    <a:pt x="150" y="260"/>
                  </a:lnTo>
                  <a:lnTo>
                    <a:pt x="149" y="249"/>
                  </a:lnTo>
                  <a:lnTo>
                    <a:pt x="149" y="239"/>
                  </a:lnTo>
                  <a:lnTo>
                    <a:pt x="150" y="231"/>
                  </a:lnTo>
                  <a:lnTo>
                    <a:pt x="151" y="222"/>
                  </a:lnTo>
                  <a:lnTo>
                    <a:pt x="153" y="216"/>
                  </a:lnTo>
                  <a:lnTo>
                    <a:pt x="156" y="210"/>
                  </a:lnTo>
                  <a:lnTo>
                    <a:pt x="159" y="205"/>
                  </a:lnTo>
                  <a:lnTo>
                    <a:pt x="162" y="199"/>
                  </a:lnTo>
                  <a:lnTo>
                    <a:pt x="166" y="194"/>
                  </a:lnTo>
                  <a:lnTo>
                    <a:pt x="171" y="190"/>
                  </a:lnTo>
                  <a:lnTo>
                    <a:pt x="179" y="185"/>
                  </a:lnTo>
                  <a:lnTo>
                    <a:pt x="187" y="179"/>
                  </a:lnTo>
                  <a:lnTo>
                    <a:pt x="196" y="174"/>
                  </a:lnTo>
                  <a:lnTo>
                    <a:pt x="209" y="169"/>
                  </a:lnTo>
                  <a:lnTo>
                    <a:pt x="223" y="164"/>
                  </a:lnTo>
                  <a:lnTo>
                    <a:pt x="240" y="159"/>
                  </a:lnTo>
                  <a:lnTo>
                    <a:pt x="258" y="156"/>
                  </a:lnTo>
                  <a:lnTo>
                    <a:pt x="279" y="153"/>
                  </a:lnTo>
                  <a:lnTo>
                    <a:pt x="303" y="151"/>
                  </a:lnTo>
                  <a:lnTo>
                    <a:pt x="328" y="149"/>
                  </a:lnTo>
                  <a:lnTo>
                    <a:pt x="355" y="149"/>
                  </a:lnTo>
                  <a:lnTo>
                    <a:pt x="287" y="102"/>
                  </a:lnTo>
                  <a:lnTo>
                    <a:pt x="355" y="149"/>
                  </a:lnTo>
                  <a:lnTo>
                    <a:pt x="364" y="149"/>
                  </a:lnTo>
                  <a:lnTo>
                    <a:pt x="373" y="147"/>
                  </a:lnTo>
                  <a:lnTo>
                    <a:pt x="381" y="146"/>
                  </a:lnTo>
                  <a:lnTo>
                    <a:pt x="388" y="143"/>
                  </a:lnTo>
                  <a:lnTo>
                    <a:pt x="395" y="140"/>
                  </a:lnTo>
                  <a:lnTo>
                    <a:pt x="401" y="135"/>
                  </a:lnTo>
                  <a:lnTo>
                    <a:pt x="406" y="131"/>
                  </a:lnTo>
                  <a:lnTo>
                    <a:pt x="412" y="126"/>
                  </a:lnTo>
                  <a:lnTo>
                    <a:pt x="416" y="121"/>
                  </a:lnTo>
                  <a:lnTo>
                    <a:pt x="419" y="114"/>
                  </a:lnTo>
                  <a:lnTo>
                    <a:pt x="422" y="108"/>
                  </a:lnTo>
                  <a:lnTo>
                    <a:pt x="425" y="102"/>
                  </a:lnTo>
                  <a:lnTo>
                    <a:pt x="427" y="95"/>
                  </a:lnTo>
                  <a:lnTo>
                    <a:pt x="429" y="88"/>
                  </a:lnTo>
                  <a:lnTo>
                    <a:pt x="430" y="82"/>
                  </a:lnTo>
                  <a:lnTo>
                    <a:pt x="430" y="74"/>
                  </a:lnTo>
                  <a:lnTo>
                    <a:pt x="430" y="67"/>
                  </a:lnTo>
                  <a:lnTo>
                    <a:pt x="429" y="61"/>
                  </a:lnTo>
                  <a:lnTo>
                    <a:pt x="427" y="53"/>
                  </a:lnTo>
                  <a:lnTo>
                    <a:pt x="425" y="47"/>
                  </a:lnTo>
                  <a:lnTo>
                    <a:pt x="422" y="41"/>
                  </a:lnTo>
                  <a:lnTo>
                    <a:pt x="419" y="35"/>
                  </a:lnTo>
                  <a:lnTo>
                    <a:pt x="416" y="28"/>
                  </a:lnTo>
                  <a:lnTo>
                    <a:pt x="412" y="23"/>
                  </a:lnTo>
                  <a:lnTo>
                    <a:pt x="406" y="18"/>
                  </a:lnTo>
                  <a:lnTo>
                    <a:pt x="401" y="14"/>
                  </a:lnTo>
                  <a:lnTo>
                    <a:pt x="395" y="9"/>
                  </a:lnTo>
                  <a:lnTo>
                    <a:pt x="388" y="6"/>
                  </a:lnTo>
                  <a:lnTo>
                    <a:pt x="381" y="3"/>
                  </a:lnTo>
                  <a:lnTo>
                    <a:pt x="373" y="1"/>
                  </a:lnTo>
                  <a:lnTo>
                    <a:pt x="364" y="0"/>
                  </a:lnTo>
                  <a:lnTo>
                    <a:pt x="355" y="0"/>
                  </a:lnTo>
                  <a:lnTo>
                    <a:pt x="424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470480" y="4208400"/>
              <a:ext cx="149040" cy="130320"/>
            </a:xfrm>
            <a:custGeom>
              <a:avLst/>
              <a:gdLst/>
              <a:ahLst/>
              <a:rect l="l" t="t" r="r" b="b"/>
              <a:pathLst>
                <a:path w="471" h="410">
                  <a:moveTo>
                    <a:pt x="326" y="308"/>
                  </a:moveTo>
                  <a:lnTo>
                    <a:pt x="464" y="305"/>
                  </a:lnTo>
                  <a:lnTo>
                    <a:pt x="457" y="289"/>
                  </a:lnTo>
                  <a:lnTo>
                    <a:pt x="447" y="274"/>
                  </a:lnTo>
                  <a:lnTo>
                    <a:pt x="438" y="260"/>
                  </a:lnTo>
                  <a:lnTo>
                    <a:pt x="426" y="247"/>
                  </a:lnTo>
                  <a:lnTo>
                    <a:pt x="405" y="225"/>
                  </a:lnTo>
                  <a:lnTo>
                    <a:pt x="381" y="203"/>
                  </a:lnTo>
                  <a:lnTo>
                    <a:pt x="356" y="182"/>
                  </a:lnTo>
                  <a:lnTo>
                    <a:pt x="328" y="162"/>
                  </a:lnTo>
                  <a:lnTo>
                    <a:pt x="302" y="143"/>
                  </a:lnTo>
                  <a:lnTo>
                    <a:pt x="275" y="123"/>
                  </a:lnTo>
                  <a:lnTo>
                    <a:pt x="249" y="104"/>
                  </a:lnTo>
                  <a:lnTo>
                    <a:pt x="224" y="86"/>
                  </a:lnTo>
                  <a:lnTo>
                    <a:pt x="201" y="68"/>
                  </a:lnTo>
                  <a:lnTo>
                    <a:pt x="180" y="50"/>
                  </a:lnTo>
                  <a:lnTo>
                    <a:pt x="172" y="43"/>
                  </a:lnTo>
                  <a:lnTo>
                    <a:pt x="164" y="35"/>
                  </a:lnTo>
                  <a:lnTo>
                    <a:pt x="156" y="27"/>
                  </a:lnTo>
                  <a:lnTo>
                    <a:pt x="151" y="21"/>
                  </a:lnTo>
                  <a:lnTo>
                    <a:pt x="146" y="15"/>
                  </a:lnTo>
                  <a:lnTo>
                    <a:pt x="142" y="8"/>
                  </a:lnTo>
                  <a:lnTo>
                    <a:pt x="139" y="4"/>
                  </a:lnTo>
                  <a:lnTo>
                    <a:pt x="137" y="0"/>
                  </a:lnTo>
                  <a:lnTo>
                    <a:pt x="0" y="56"/>
                  </a:lnTo>
                  <a:lnTo>
                    <a:pt x="6" y="73"/>
                  </a:lnTo>
                  <a:lnTo>
                    <a:pt x="16" y="87"/>
                  </a:lnTo>
                  <a:lnTo>
                    <a:pt x="25" y="102"/>
                  </a:lnTo>
                  <a:lnTo>
                    <a:pt x="35" y="116"/>
                  </a:lnTo>
                  <a:lnTo>
                    <a:pt x="46" y="128"/>
                  </a:lnTo>
                  <a:lnTo>
                    <a:pt x="58" y="140"/>
                  </a:lnTo>
                  <a:lnTo>
                    <a:pt x="70" y="151"/>
                  </a:lnTo>
                  <a:lnTo>
                    <a:pt x="83" y="164"/>
                  </a:lnTo>
                  <a:lnTo>
                    <a:pt x="108" y="185"/>
                  </a:lnTo>
                  <a:lnTo>
                    <a:pt x="134" y="205"/>
                  </a:lnTo>
                  <a:lnTo>
                    <a:pt x="161" y="225"/>
                  </a:lnTo>
                  <a:lnTo>
                    <a:pt x="189" y="245"/>
                  </a:lnTo>
                  <a:lnTo>
                    <a:pt x="215" y="264"/>
                  </a:lnTo>
                  <a:lnTo>
                    <a:pt x="240" y="281"/>
                  </a:lnTo>
                  <a:lnTo>
                    <a:pt x="263" y="299"/>
                  </a:lnTo>
                  <a:lnTo>
                    <a:pt x="284" y="316"/>
                  </a:lnTo>
                  <a:lnTo>
                    <a:pt x="301" y="332"/>
                  </a:lnTo>
                  <a:lnTo>
                    <a:pt x="316" y="347"/>
                  </a:lnTo>
                  <a:lnTo>
                    <a:pt x="320" y="352"/>
                  </a:lnTo>
                  <a:lnTo>
                    <a:pt x="323" y="356"/>
                  </a:lnTo>
                  <a:lnTo>
                    <a:pt x="325" y="360"/>
                  </a:lnTo>
                  <a:lnTo>
                    <a:pt x="327" y="363"/>
                  </a:lnTo>
                  <a:lnTo>
                    <a:pt x="465" y="360"/>
                  </a:lnTo>
                  <a:lnTo>
                    <a:pt x="327" y="363"/>
                  </a:lnTo>
                  <a:lnTo>
                    <a:pt x="331" y="372"/>
                  </a:lnTo>
                  <a:lnTo>
                    <a:pt x="336" y="379"/>
                  </a:lnTo>
                  <a:lnTo>
                    <a:pt x="340" y="385"/>
                  </a:lnTo>
                  <a:lnTo>
                    <a:pt x="345" y="391"/>
                  </a:lnTo>
                  <a:lnTo>
                    <a:pt x="352" y="396"/>
                  </a:lnTo>
                  <a:lnTo>
                    <a:pt x="358" y="400"/>
                  </a:lnTo>
                  <a:lnTo>
                    <a:pt x="364" y="403"/>
                  </a:lnTo>
                  <a:lnTo>
                    <a:pt x="370" y="405"/>
                  </a:lnTo>
                  <a:lnTo>
                    <a:pt x="377" y="407"/>
                  </a:lnTo>
                  <a:lnTo>
                    <a:pt x="384" y="409"/>
                  </a:lnTo>
                  <a:lnTo>
                    <a:pt x="390" y="410"/>
                  </a:lnTo>
                  <a:lnTo>
                    <a:pt x="398" y="409"/>
                  </a:lnTo>
                  <a:lnTo>
                    <a:pt x="404" y="409"/>
                  </a:lnTo>
                  <a:lnTo>
                    <a:pt x="411" y="407"/>
                  </a:lnTo>
                  <a:lnTo>
                    <a:pt x="418" y="405"/>
                  </a:lnTo>
                  <a:lnTo>
                    <a:pt x="425" y="402"/>
                  </a:lnTo>
                  <a:lnTo>
                    <a:pt x="431" y="400"/>
                  </a:lnTo>
                  <a:lnTo>
                    <a:pt x="437" y="396"/>
                  </a:lnTo>
                  <a:lnTo>
                    <a:pt x="443" y="392"/>
                  </a:lnTo>
                  <a:lnTo>
                    <a:pt x="448" y="388"/>
                  </a:lnTo>
                  <a:lnTo>
                    <a:pt x="452" y="382"/>
                  </a:lnTo>
                  <a:lnTo>
                    <a:pt x="458" y="377"/>
                  </a:lnTo>
                  <a:lnTo>
                    <a:pt x="461" y="372"/>
                  </a:lnTo>
                  <a:lnTo>
                    <a:pt x="465" y="365"/>
                  </a:lnTo>
                  <a:lnTo>
                    <a:pt x="467" y="359"/>
                  </a:lnTo>
                  <a:lnTo>
                    <a:pt x="469" y="352"/>
                  </a:lnTo>
                  <a:lnTo>
                    <a:pt x="470" y="344"/>
                  </a:lnTo>
                  <a:lnTo>
                    <a:pt x="471" y="337"/>
                  </a:lnTo>
                  <a:lnTo>
                    <a:pt x="470" y="330"/>
                  </a:lnTo>
                  <a:lnTo>
                    <a:pt x="469" y="321"/>
                  </a:lnTo>
                  <a:lnTo>
                    <a:pt x="467" y="313"/>
                  </a:lnTo>
                  <a:lnTo>
                    <a:pt x="464" y="305"/>
                  </a:lnTo>
                  <a:lnTo>
                    <a:pt x="326" y="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3624120" y="3686400"/>
              <a:ext cx="1924200" cy="299880"/>
            </a:xfrm>
            <a:custGeom>
              <a:avLst/>
              <a:gdLst/>
              <a:ahLst/>
              <a:rect l="l" t="t" r="r" b="b"/>
              <a:pathLst>
                <a:path w="6058" h="946">
                  <a:moveTo>
                    <a:pt x="372" y="544"/>
                  </a:moveTo>
                  <a:lnTo>
                    <a:pt x="366" y="508"/>
                  </a:lnTo>
                  <a:lnTo>
                    <a:pt x="358" y="470"/>
                  </a:lnTo>
                  <a:lnTo>
                    <a:pt x="347" y="431"/>
                  </a:lnTo>
                  <a:lnTo>
                    <a:pt x="335" y="390"/>
                  </a:lnTo>
                  <a:lnTo>
                    <a:pt x="321" y="348"/>
                  </a:lnTo>
                  <a:lnTo>
                    <a:pt x="305" y="304"/>
                  </a:lnTo>
                  <a:lnTo>
                    <a:pt x="287" y="258"/>
                  </a:lnTo>
                  <a:lnTo>
                    <a:pt x="267" y="211"/>
                  </a:lnTo>
                  <a:lnTo>
                    <a:pt x="250" y="250"/>
                  </a:lnTo>
                  <a:lnTo>
                    <a:pt x="233" y="288"/>
                  </a:lnTo>
                  <a:lnTo>
                    <a:pt x="217" y="327"/>
                  </a:lnTo>
                  <a:lnTo>
                    <a:pt x="202" y="367"/>
                  </a:lnTo>
                  <a:lnTo>
                    <a:pt x="190" y="408"/>
                  </a:lnTo>
                  <a:lnTo>
                    <a:pt x="177" y="449"/>
                  </a:lnTo>
                  <a:lnTo>
                    <a:pt x="166" y="491"/>
                  </a:lnTo>
                  <a:lnTo>
                    <a:pt x="156" y="534"/>
                  </a:lnTo>
                  <a:lnTo>
                    <a:pt x="147" y="576"/>
                  </a:lnTo>
                  <a:lnTo>
                    <a:pt x="139" y="619"/>
                  </a:lnTo>
                  <a:lnTo>
                    <a:pt x="133" y="662"/>
                  </a:lnTo>
                  <a:lnTo>
                    <a:pt x="127" y="706"/>
                  </a:lnTo>
                  <a:lnTo>
                    <a:pt x="123" y="749"/>
                  </a:lnTo>
                  <a:lnTo>
                    <a:pt x="120" y="793"/>
                  </a:lnTo>
                  <a:lnTo>
                    <a:pt x="118" y="837"/>
                  </a:lnTo>
                  <a:lnTo>
                    <a:pt x="117" y="881"/>
                  </a:lnTo>
                  <a:lnTo>
                    <a:pt x="117" y="887"/>
                  </a:lnTo>
                  <a:lnTo>
                    <a:pt x="116" y="893"/>
                  </a:lnTo>
                  <a:lnTo>
                    <a:pt x="115" y="898"/>
                  </a:lnTo>
                  <a:lnTo>
                    <a:pt x="113" y="904"/>
                  </a:lnTo>
                  <a:lnTo>
                    <a:pt x="111" y="909"/>
                  </a:lnTo>
                  <a:lnTo>
                    <a:pt x="108" y="914"/>
                  </a:lnTo>
                  <a:lnTo>
                    <a:pt x="105" y="918"/>
                  </a:lnTo>
                  <a:lnTo>
                    <a:pt x="101" y="922"/>
                  </a:lnTo>
                  <a:lnTo>
                    <a:pt x="95" y="926"/>
                  </a:lnTo>
                  <a:lnTo>
                    <a:pt x="91" y="929"/>
                  </a:lnTo>
                  <a:lnTo>
                    <a:pt x="86" y="931"/>
                  </a:lnTo>
                  <a:lnTo>
                    <a:pt x="81" y="933"/>
                  </a:lnTo>
                  <a:lnTo>
                    <a:pt x="75" y="935"/>
                  </a:lnTo>
                  <a:lnTo>
                    <a:pt x="70" y="936"/>
                  </a:lnTo>
                  <a:lnTo>
                    <a:pt x="65" y="937"/>
                  </a:lnTo>
                  <a:lnTo>
                    <a:pt x="58" y="937"/>
                  </a:lnTo>
                  <a:lnTo>
                    <a:pt x="52" y="937"/>
                  </a:lnTo>
                  <a:lnTo>
                    <a:pt x="47" y="936"/>
                  </a:lnTo>
                  <a:lnTo>
                    <a:pt x="42" y="935"/>
                  </a:lnTo>
                  <a:lnTo>
                    <a:pt x="36" y="933"/>
                  </a:lnTo>
                  <a:lnTo>
                    <a:pt x="31" y="931"/>
                  </a:lnTo>
                  <a:lnTo>
                    <a:pt x="27" y="929"/>
                  </a:lnTo>
                  <a:lnTo>
                    <a:pt x="22" y="926"/>
                  </a:lnTo>
                  <a:lnTo>
                    <a:pt x="18" y="922"/>
                  </a:lnTo>
                  <a:lnTo>
                    <a:pt x="13" y="917"/>
                  </a:lnTo>
                  <a:lnTo>
                    <a:pt x="9" y="913"/>
                  </a:lnTo>
                  <a:lnTo>
                    <a:pt x="6" y="909"/>
                  </a:lnTo>
                  <a:lnTo>
                    <a:pt x="4" y="904"/>
                  </a:lnTo>
                  <a:lnTo>
                    <a:pt x="2" y="898"/>
                  </a:lnTo>
                  <a:lnTo>
                    <a:pt x="1" y="893"/>
                  </a:lnTo>
                  <a:lnTo>
                    <a:pt x="0" y="887"/>
                  </a:lnTo>
                  <a:lnTo>
                    <a:pt x="0" y="881"/>
                  </a:lnTo>
                  <a:lnTo>
                    <a:pt x="0" y="852"/>
                  </a:lnTo>
                  <a:lnTo>
                    <a:pt x="1" y="825"/>
                  </a:lnTo>
                  <a:lnTo>
                    <a:pt x="2" y="797"/>
                  </a:lnTo>
                  <a:lnTo>
                    <a:pt x="3" y="769"/>
                  </a:lnTo>
                  <a:lnTo>
                    <a:pt x="5" y="742"/>
                  </a:lnTo>
                  <a:lnTo>
                    <a:pt x="7" y="715"/>
                  </a:lnTo>
                  <a:lnTo>
                    <a:pt x="10" y="688"/>
                  </a:lnTo>
                  <a:lnTo>
                    <a:pt x="13" y="661"/>
                  </a:lnTo>
                  <a:lnTo>
                    <a:pt x="16" y="635"/>
                  </a:lnTo>
                  <a:lnTo>
                    <a:pt x="21" y="609"/>
                  </a:lnTo>
                  <a:lnTo>
                    <a:pt x="25" y="582"/>
                  </a:lnTo>
                  <a:lnTo>
                    <a:pt x="30" y="556"/>
                  </a:lnTo>
                  <a:lnTo>
                    <a:pt x="35" y="530"/>
                  </a:lnTo>
                  <a:lnTo>
                    <a:pt x="42" y="504"/>
                  </a:lnTo>
                  <a:lnTo>
                    <a:pt x="48" y="478"/>
                  </a:lnTo>
                  <a:lnTo>
                    <a:pt x="54" y="452"/>
                  </a:lnTo>
                  <a:lnTo>
                    <a:pt x="61" y="427"/>
                  </a:lnTo>
                  <a:lnTo>
                    <a:pt x="69" y="402"/>
                  </a:lnTo>
                  <a:lnTo>
                    <a:pt x="76" y="377"/>
                  </a:lnTo>
                  <a:lnTo>
                    <a:pt x="85" y="351"/>
                  </a:lnTo>
                  <a:lnTo>
                    <a:pt x="93" y="326"/>
                  </a:lnTo>
                  <a:lnTo>
                    <a:pt x="103" y="301"/>
                  </a:lnTo>
                  <a:lnTo>
                    <a:pt x="112" y="276"/>
                  </a:lnTo>
                  <a:lnTo>
                    <a:pt x="123" y="252"/>
                  </a:lnTo>
                  <a:lnTo>
                    <a:pt x="133" y="226"/>
                  </a:lnTo>
                  <a:lnTo>
                    <a:pt x="144" y="201"/>
                  </a:lnTo>
                  <a:lnTo>
                    <a:pt x="155" y="177"/>
                  </a:lnTo>
                  <a:lnTo>
                    <a:pt x="167" y="152"/>
                  </a:lnTo>
                  <a:lnTo>
                    <a:pt x="179" y="128"/>
                  </a:lnTo>
                  <a:lnTo>
                    <a:pt x="192" y="103"/>
                  </a:lnTo>
                  <a:lnTo>
                    <a:pt x="204" y="78"/>
                  </a:lnTo>
                  <a:lnTo>
                    <a:pt x="218" y="54"/>
                  </a:lnTo>
                  <a:lnTo>
                    <a:pt x="223" y="47"/>
                  </a:lnTo>
                  <a:lnTo>
                    <a:pt x="229" y="41"/>
                  </a:lnTo>
                  <a:lnTo>
                    <a:pt x="234" y="36"/>
                  </a:lnTo>
                  <a:lnTo>
                    <a:pt x="240" y="32"/>
                  </a:lnTo>
                  <a:lnTo>
                    <a:pt x="246" y="29"/>
                  </a:lnTo>
                  <a:lnTo>
                    <a:pt x="253" y="26"/>
                  </a:lnTo>
                  <a:lnTo>
                    <a:pt x="260" y="25"/>
                  </a:lnTo>
                  <a:lnTo>
                    <a:pt x="267" y="25"/>
                  </a:lnTo>
                  <a:lnTo>
                    <a:pt x="276" y="25"/>
                  </a:lnTo>
                  <a:lnTo>
                    <a:pt x="283" y="26"/>
                  </a:lnTo>
                  <a:lnTo>
                    <a:pt x="290" y="29"/>
                  </a:lnTo>
                  <a:lnTo>
                    <a:pt x="297" y="32"/>
                  </a:lnTo>
                  <a:lnTo>
                    <a:pt x="302" y="36"/>
                  </a:lnTo>
                  <a:lnTo>
                    <a:pt x="307" y="41"/>
                  </a:lnTo>
                  <a:lnTo>
                    <a:pt x="313" y="47"/>
                  </a:lnTo>
                  <a:lnTo>
                    <a:pt x="317" y="54"/>
                  </a:lnTo>
                  <a:lnTo>
                    <a:pt x="335" y="87"/>
                  </a:lnTo>
                  <a:lnTo>
                    <a:pt x="351" y="118"/>
                  </a:lnTo>
                  <a:lnTo>
                    <a:pt x="367" y="150"/>
                  </a:lnTo>
                  <a:lnTo>
                    <a:pt x="382" y="180"/>
                  </a:lnTo>
                  <a:lnTo>
                    <a:pt x="395" y="211"/>
                  </a:lnTo>
                  <a:lnTo>
                    <a:pt x="407" y="240"/>
                  </a:lnTo>
                  <a:lnTo>
                    <a:pt x="418" y="270"/>
                  </a:lnTo>
                  <a:lnTo>
                    <a:pt x="427" y="298"/>
                  </a:lnTo>
                  <a:lnTo>
                    <a:pt x="433" y="279"/>
                  </a:lnTo>
                  <a:lnTo>
                    <a:pt x="441" y="260"/>
                  </a:lnTo>
                  <a:lnTo>
                    <a:pt x="447" y="242"/>
                  </a:lnTo>
                  <a:lnTo>
                    <a:pt x="453" y="225"/>
                  </a:lnTo>
                  <a:lnTo>
                    <a:pt x="460" y="210"/>
                  </a:lnTo>
                  <a:lnTo>
                    <a:pt x="466" y="194"/>
                  </a:lnTo>
                  <a:lnTo>
                    <a:pt x="472" y="179"/>
                  </a:lnTo>
                  <a:lnTo>
                    <a:pt x="477" y="166"/>
                  </a:lnTo>
                  <a:lnTo>
                    <a:pt x="484" y="152"/>
                  </a:lnTo>
                  <a:lnTo>
                    <a:pt x="490" y="138"/>
                  </a:lnTo>
                  <a:lnTo>
                    <a:pt x="497" y="125"/>
                  </a:lnTo>
                  <a:lnTo>
                    <a:pt x="505" y="110"/>
                  </a:lnTo>
                  <a:lnTo>
                    <a:pt x="512" y="95"/>
                  </a:lnTo>
                  <a:lnTo>
                    <a:pt x="521" y="81"/>
                  </a:lnTo>
                  <a:lnTo>
                    <a:pt x="529" y="66"/>
                  </a:lnTo>
                  <a:lnTo>
                    <a:pt x="538" y="51"/>
                  </a:lnTo>
                  <a:lnTo>
                    <a:pt x="543" y="45"/>
                  </a:lnTo>
                  <a:lnTo>
                    <a:pt x="548" y="40"/>
                  </a:lnTo>
                  <a:lnTo>
                    <a:pt x="553" y="35"/>
                  </a:lnTo>
                  <a:lnTo>
                    <a:pt x="558" y="31"/>
                  </a:lnTo>
                  <a:lnTo>
                    <a:pt x="565" y="28"/>
                  </a:lnTo>
                  <a:lnTo>
                    <a:pt x="572" y="26"/>
                  </a:lnTo>
                  <a:lnTo>
                    <a:pt x="579" y="25"/>
                  </a:lnTo>
                  <a:lnTo>
                    <a:pt x="588" y="25"/>
                  </a:lnTo>
                  <a:lnTo>
                    <a:pt x="597" y="25"/>
                  </a:lnTo>
                  <a:lnTo>
                    <a:pt x="607" y="27"/>
                  </a:lnTo>
                  <a:lnTo>
                    <a:pt x="615" y="30"/>
                  </a:lnTo>
                  <a:lnTo>
                    <a:pt x="622" y="33"/>
                  </a:lnTo>
                  <a:lnTo>
                    <a:pt x="629" y="39"/>
                  </a:lnTo>
                  <a:lnTo>
                    <a:pt x="634" y="45"/>
                  </a:lnTo>
                  <a:lnTo>
                    <a:pt x="638" y="52"/>
                  </a:lnTo>
                  <a:lnTo>
                    <a:pt x="641" y="61"/>
                  </a:lnTo>
                  <a:lnTo>
                    <a:pt x="661" y="113"/>
                  </a:lnTo>
                  <a:lnTo>
                    <a:pt x="681" y="165"/>
                  </a:lnTo>
                  <a:lnTo>
                    <a:pt x="699" y="216"/>
                  </a:lnTo>
                  <a:lnTo>
                    <a:pt x="716" y="266"/>
                  </a:lnTo>
                  <a:lnTo>
                    <a:pt x="732" y="318"/>
                  </a:lnTo>
                  <a:lnTo>
                    <a:pt x="746" y="368"/>
                  </a:lnTo>
                  <a:lnTo>
                    <a:pt x="759" y="418"/>
                  </a:lnTo>
                  <a:lnTo>
                    <a:pt x="772" y="468"/>
                  </a:lnTo>
                  <a:lnTo>
                    <a:pt x="783" y="517"/>
                  </a:lnTo>
                  <a:lnTo>
                    <a:pt x="793" y="567"/>
                  </a:lnTo>
                  <a:lnTo>
                    <a:pt x="801" y="615"/>
                  </a:lnTo>
                  <a:lnTo>
                    <a:pt x="808" y="664"/>
                  </a:lnTo>
                  <a:lnTo>
                    <a:pt x="815" y="713"/>
                  </a:lnTo>
                  <a:lnTo>
                    <a:pt x="820" y="760"/>
                  </a:lnTo>
                  <a:lnTo>
                    <a:pt x="824" y="808"/>
                  </a:lnTo>
                  <a:lnTo>
                    <a:pt x="826" y="855"/>
                  </a:lnTo>
                  <a:lnTo>
                    <a:pt x="826" y="862"/>
                  </a:lnTo>
                  <a:lnTo>
                    <a:pt x="825" y="868"/>
                  </a:lnTo>
                  <a:lnTo>
                    <a:pt x="824" y="874"/>
                  </a:lnTo>
                  <a:lnTo>
                    <a:pt x="822" y="881"/>
                  </a:lnTo>
                  <a:lnTo>
                    <a:pt x="819" y="886"/>
                  </a:lnTo>
                  <a:lnTo>
                    <a:pt x="816" y="891"/>
                  </a:lnTo>
                  <a:lnTo>
                    <a:pt x="812" y="895"/>
                  </a:lnTo>
                  <a:lnTo>
                    <a:pt x="808" y="900"/>
                  </a:lnTo>
                  <a:lnTo>
                    <a:pt x="803" y="904"/>
                  </a:lnTo>
                  <a:lnTo>
                    <a:pt x="798" y="908"/>
                  </a:lnTo>
                  <a:lnTo>
                    <a:pt x="794" y="910"/>
                  </a:lnTo>
                  <a:lnTo>
                    <a:pt x="787" y="913"/>
                  </a:lnTo>
                  <a:lnTo>
                    <a:pt x="782" y="914"/>
                  </a:lnTo>
                  <a:lnTo>
                    <a:pt x="777" y="916"/>
                  </a:lnTo>
                  <a:lnTo>
                    <a:pt x="770" y="916"/>
                  </a:lnTo>
                  <a:lnTo>
                    <a:pt x="764" y="917"/>
                  </a:lnTo>
                  <a:lnTo>
                    <a:pt x="759" y="916"/>
                  </a:lnTo>
                  <a:lnTo>
                    <a:pt x="753" y="916"/>
                  </a:lnTo>
                  <a:lnTo>
                    <a:pt x="747" y="915"/>
                  </a:lnTo>
                  <a:lnTo>
                    <a:pt x="742" y="913"/>
                  </a:lnTo>
                  <a:lnTo>
                    <a:pt x="738" y="912"/>
                  </a:lnTo>
                  <a:lnTo>
                    <a:pt x="733" y="909"/>
                  </a:lnTo>
                  <a:lnTo>
                    <a:pt x="728" y="906"/>
                  </a:lnTo>
                  <a:lnTo>
                    <a:pt x="724" y="903"/>
                  </a:lnTo>
                  <a:lnTo>
                    <a:pt x="720" y="900"/>
                  </a:lnTo>
                  <a:lnTo>
                    <a:pt x="717" y="895"/>
                  </a:lnTo>
                  <a:lnTo>
                    <a:pt x="715" y="891"/>
                  </a:lnTo>
                  <a:lnTo>
                    <a:pt x="712" y="887"/>
                  </a:lnTo>
                  <a:lnTo>
                    <a:pt x="711" y="882"/>
                  </a:lnTo>
                  <a:lnTo>
                    <a:pt x="710" y="876"/>
                  </a:lnTo>
                  <a:lnTo>
                    <a:pt x="709" y="871"/>
                  </a:lnTo>
                  <a:lnTo>
                    <a:pt x="709" y="865"/>
                  </a:lnTo>
                  <a:lnTo>
                    <a:pt x="706" y="825"/>
                  </a:lnTo>
                  <a:lnTo>
                    <a:pt x="703" y="785"/>
                  </a:lnTo>
                  <a:lnTo>
                    <a:pt x="700" y="745"/>
                  </a:lnTo>
                  <a:lnTo>
                    <a:pt x="696" y="705"/>
                  </a:lnTo>
                  <a:lnTo>
                    <a:pt x="691" y="666"/>
                  </a:lnTo>
                  <a:lnTo>
                    <a:pt x="684" y="627"/>
                  </a:lnTo>
                  <a:lnTo>
                    <a:pt x="678" y="588"/>
                  </a:lnTo>
                  <a:lnTo>
                    <a:pt x="671" y="549"/>
                  </a:lnTo>
                  <a:lnTo>
                    <a:pt x="661" y="510"/>
                  </a:lnTo>
                  <a:lnTo>
                    <a:pt x="653" y="471"/>
                  </a:lnTo>
                  <a:lnTo>
                    <a:pt x="642" y="431"/>
                  </a:lnTo>
                  <a:lnTo>
                    <a:pt x="632" y="390"/>
                  </a:lnTo>
                  <a:lnTo>
                    <a:pt x="619" y="348"/>
                  </a:lnTo>
                  <a:lnTo>
                    <a:pt x="607" y="306"/>
                  </a:lnTo>
                  <a:lnTo>
                    <a:pt x="594" y="264"/>
                  </a:lnTo>
                  <a:lnTo>
                    <a:pt x="579" y="221"/>
                  </a:lnTo>
                  <a:lnTo>
                    <a:pt x="575" y="232"/>
                  </a:lnTo>
                  <a:lnTo>
                    <a:pt x="570" y="243"/>
                  </a:lnTo>
                  <a:lnTo>
                    <a:pt x="566" y="256"/>
                  </a:lnTo>
                  <a:lnTo>
                    <a:pt x="561" y="267"/>
                  </a:lnTo>
                  <a:lnTo>
                    <a:pt x="556" y="281"/>
                  </a:lnTo>
                  <a:lnTo>
                    <a:pt x="552" y="294"/>
                  </a:lnTo>
                  <a:lnTo>
                    <a:pt x="547" y="307"/>
                  </a:lnTo>
                  <a:lnTo>
                    <a:pt x="543" y="322"/>
                  </a:lnTo>
                  <a:lnTo>
                    <a:pt x="537" y="337"/>
                  </a:lnTo>
                  <a:lnTo>
                    <a:pt x="533" y="351"/>
                  </a:lnTo>
                  <a:lnTo>
                    <a:pt x="529" y="366"/>
                  </a:lnTo>
                  <a:lnTo>
                    <a:pt x="525" y="380"/>
                  </a:lnTo>
                  <a:lnTo>
                    <a:pt x="521" y="394"/>
                  </a:lnTo>
                  <a:lnTo>
                    <a:pt x="516" y="409"/>
                  </a:lnTo>
                  <a:lnTo>
                    <a:pt x="513" y="424"/>
                  </a:lnTo>
                  <a:lnTo>
                    <a:pt x="509" y="439"/>
                  </a:lnTo>
                  <a:lnTo>
                    <a:pt x="506" y="453"/>
                  </a:lnTo>
                  <a:lnTo>
                    <a:pt x="503" y="467"/>
                  </a:lnTo>
                  <a:lnTo>
                    <a:pt x="500" y="482"/>
                  </a:lnTo>
                  <a:lnTo>
                    <a:pt x="497" y="494"/>
                  </a:lnTo>
                  <a:lnTo>
                    <a:pt x="494" y="508"/>
                  </a:lnTo>
                  <a:lnTo>
                    <a:pt x="492" y="520"/>
                  </a:lnTo>
                  <a:lnTo>
                    <a:pt x="490" y="533"/>
                  </a:lnTo>
                  <a:lnTo>
                    <a:pt x="489" y="546"/>
                  </a:lnTo>
                  <a:lnTo>
                    <a:pt x="493" y="570"/>
                  </a:lnTo>
                  <a:lnTo>
                    <a:pt x="496" y="592"/>
                  </a:lnTo>
                  <a:lnTo>
                    <a:pt x="500" y="614"/>
                  </a:lnTo>
                  <a:lnTo>
                    <a:pt x="502" y="636"/>
                  </a:lnTo>
                  <a:lnTo>
                    <a:pt x="504" y="656"/>
                  </a:lnTo>
                  <a:lnTo>
                    <a:pt x="505" y="676"/>
                  </a:lnTo>
                  <a:lnTo>
                    <a:pt x="506" y="695"/>
                  </a:lnTo>
                  <a:lnTo>
                    <a:pt x="507" y="714"/>
                  </a:lnTo>
                  <a:lnTo>
                    <a:pt x="506" y="718"/>
                  </a:lnTo>
                  <a:lnTo>
                    <a:pt x="506" y="723"/>
                  </a:lnTo>
                  <a:lnTo>
                    <a:pt x="506" y="727"/>
                  </a:lnTo>
                  <a:lnTo>
                    <a:pt x="506" y="733"/>
                  </a:lnTo>
                  <a:lnTo>
                    <a:pt x="506" y="738"/>
                  </a:lnTo>
                  <a:lnTo>
                    <a:pt x="506" y="743"/>
                  </a:lnTo>
                  <a:lnTo>
                    <a:pt x="506" y="749"/>
                  </a:lnTo>
                  <a:lnTo>
                    <a:pt x="505" y="755"/>
                  </a:lnTo>
                  <a:lnTo>
                    <a:pt x="505" y="760"/>
                  </a:lnTo>
                  <a:lnTo>
                    <a:pt x="505" y="765"/>
                  </a:lnTo>
                  <a:lnTo>
                    <a:pt x="504" y="770"/>
                  </a:lnTo>
                  <a:lnTo>
                    <a:pt x="504" y="775"/>
                  </a:lnTo>
                  <a:lnTo>
                    <a:pt x="504" y="779"/>
                  </a:lnTo>
                  <a:lnTo>
                    <a:pt x="504" y="783"/>
                  </a:lnTo>
                  <a:lnTo>
                    <a:pt x="503" y="786"/>
                  </a:lnTo>
                  <a:lnTo>
                    <a:pt x="503" y="789"/>
                  </a:lnTo>
                  <a:lnTo>
                    <a:pt x="503" y="792"/>
                  </a:lnTo>
                  <a:lnTo>
                    <a:pt x="502" y="797"/>
                  </a:lnTo>
                  <a:lnTo>
                    <a:pt x="502" y="801"/>
                  </a:lnTo>
                  <a:lnTo>
                    <a:pt x="502" y="805"/>
                  </a:lnTo>
                  <a:lnTo>
                    <a:pt x="501" y="809"/>
                  </a:lnTo>
                  <a:lnTo>
                    <a:pt x="501" y="814"/>
                  </a:lnTo>
                  <a:lnTo>
                    <a:pt x="500" y="821"/>
                  </a:lnTo>
                  <a:lnTo>
                    <a:pt x="498" y="826"/>
                  </a:lnTo>
                  <a:lnTo>
                    <a:pt x="500" y="827"/>
                  </a:lnTo>
                  <a:lnTo>
                    <a:pt x="500" y="829"/>
                  </a:lnTo>
                  <a:lnTo>
                    <a:pt x="501" y="830"/>
                  </a:lnTo>
                  <a:lnTo>
                    <a:pt x="501" y="831"/>
                  </a:lnTo>
                  <a:lnTo>
                    <a:pt x="501" y="832"/>
                  </a:lnTo>
                  <a:lnTo>
                    <a:pt x="502" y="833"/>
                  </a:lnTo>
                  <a:lnTo>
                    <a:pt x="502" y="834"/>
                  </a:lnTo>
                  <a:lnTo>
                    <a:pt x="502" y="835"/>
                  </a:lnTo>
                  <a:lnTo>
                    <a:pt x="502" y="840"/>
                  </a:lnTo>
                  <a:lnTo>
                    <a:pt x="501" y="845"/>
                  </a:lnTo>
                  <a:lnTo>
                    <a:pt x="500" y="849"/>
                  </a:lnTo>
                  <a:lnTo>
                    <a:pt x="497" y="853"/>
                  </a:lnTo>
                  <a:lnTo>
                    <a:pt x="495" y="856"/>
                  </a:lnTo>
                  <a:lnTo>
                    <a:pt x="492" y="861"/>
                  </a:lnTo>
                  <a:lnTo>
                    <a:pt x="489" y="864"/>
                  </a:lnTo>
                  <a:lnTo>
                    <a:pt x="485" y="867"/>
                  </a:lnTo>
                  <a:lnTo>
                    <a:pt x="481" y="869"/>
                  </a:lnTo>
                  <a:lnTo>
                    <a:pt x="476" y="872"/>
                  </a:lnTo>
                  <a:lnTo>
                    <a:pt x="471" y="874"/>
                  </a:lnTo>
                  <a:lnTo>
                    <a:pt x="466" y="876"/>
                  </a:lnTo>
                  <a:lnTo>
                    <a:pt x="461" y="877"/>
                  </a:lnTo>
                  <a:lnTo>
                    <a:pt x="454" y="879"/>
                  </a:lnTo>
                  <a:lnTo>
                    <a:pt x="449" y="880"/>
                  </a:lnTo>
                  <a:lnTo>
                    <a:pt x="443" y="881"/>
                  </a:lnTo>
                  <a:lnTo>
                    <a:pt x="429" y="879"/>
                  </a:lnTo>
                  <a:lnTo>
                    <a:pt x="418" y="876"/>
                  </a:lnTo>
                  <a:lnTo>
                    <a:pt x="408" y="872"/>
                  </a:lnTo>
                  <a:lnTo>
                    <a:pt x="400" y="868"/>
                  </a:lnTo>
                  <a:lnTo>
                    <a:pt x="393" y="863"/>
                  </a:lnTo>
                  <a:lnTo>
                    <a:pt x="389" y="856"/>
                  </a:lnTo>
                  <a:lnTo>
                    <a:pt x="386" y="849"/>
                  </a:lnTo>
                  <a:lnTo>
                    <a:pt x="386" y="841"/>
                  </a:lnTo>
                  <a:lnTo>
                    <a:pt x="385" y="837"/>
                  </a:lnTo>
                  <a:lnTo>
                    <a:pt x="385" y="831"/>
                  </a:lnTo>
                  <a:lnTo>
                    <a:pt x="384" y="826"/>
                  </a:lnTo>
                  <a:lnTo>
                    <a:pt x="383" y="818"/>
                  </a:lnTo>
                  <a:lnTo>
                    <a:pt x="382" y="809"/>
                  </a:lnTo>
                  <a:lnTo>
                    <a:pt x="380" y="799"/>
                  </a:lnTo>
                  <a:lnTo>
                    <a:pt x="378" y="788"/>
                  </a:lnTo>
                  <a:lnTo>
                    <a:pt x="376" y="776"/>
                  </a:lnTo>
                  <a:lnTo>
                    <a:pt x="372" y="762"/>
                  </a:lnTo>
                  <a:lnTo>
                    <a:pt x="370" y="748"/>
                  </a:lnTo>
                  <a:lnTo>
                    <a:pt x="368" y="735"/>
                  </a:lnTo>
                  <a:lnTo>
                    <a:pt x="367" y="721"/>
                  </a:lnTo>
                  <a:lnTo>
                    <a:pt x="365" y="707"/>
                  </a:lnTo>
                  <a:lnTo>
                    <a:pt x="364" y="694"/>
                  </a:lnTo>
                  <a:lnTo>
                    <a:pt x="363" y="680"/>
                  </a:lnTo>
                  <a:lnTo>
                    <a:pt x="363" y="666"/>
                  </a:lnTo>
                  <a:lnTo>
                    <a:pt x="364" y="645"/>
                  </a:lnTo>
                  <a:lnTo>
                    <a:pt x="366" y="625"/>
                  </a:lnTo>
                  <a:lnTo>
                    <a:pt x="367" y="608"/>
                  </a:lnTo>
                  <a:lnTo>
                    <a:pt x="368" y="591"/>
                  </a:lnTo>
                  <a:lnTo>
                    <a:pt x="369" y="577"/>
                  </a:lnTo>
                  <a:lnTo>
                    <a:pt x="371" y="564"/>
                  </a:lnTo>
                  <a:lnTo>
                    <a:pt x="372" y="553"/>
                  </a:lnTo>
                  <a:lnTo>
                    <a:pt x="372" y="544"/>
                  </a:lnTo>
                  <a:close/>
                  <a:moveTo>
                    <a:pt x="1109" y="622"/>
                  </a:moveTo>
                  <a:lnTo>
                    <a:pt x="1121" y="585"/>
                  </a:lnTo>
                  <a:lnTo>
                    <a:pt x="1134" y="546"/>
                  </a:lnTo>
                  <a:lnTo>
                    <a:pt x="1147" y="508"/>
                  </a:lnTo>
                  <a:lnTo>
                    <a:pt x="1161" y="471"/>
                  </a:lnTo>
                  <a:lnTo>
                    <a:pt x="1177" y="433"/>
                  </a:lnTo>
                  <a:lnTo>
                    <a:pt x="1192" y="397"/>
                  </a:lnTo>
                  <a:lnTo>
                    <a:pt x="1208" y="361"/>
                  </a:lnTo>
                  <a:lnTo>
                    <a:pt x="1225" y="324"/>
                  </a:lnTo>
                  <a:lnTo>
                    <a:pt x="1243" y="288"/>
                  </a:lnTo>
                  <a:lnTo>
                    <a:pt x="1261" y="254"/>
                  </a:lnTo>
                  <a:lnTo>
                    <a:pt x="1280" y="218"/>
                  </a:lnTo>
                  <a:lnTo>
                    <a:pt x="1300" y="183"/>
                  </a:lnTo>
                  <a:lnTo>
                    <a:pt x="1320" y="150"/>
                  </a:lnTo>
                  <a:lnTo>
                    <a:pt x="1341" y="115"/>
                  </a:lnTo>
                  <a:lnTo>
                    <a:pt x="1362" y="82"/>
                  </a:lnTo>
                  <a:lnTo>
                    <a:pt x="1384" y="48"/>
                  </a:lnTo>
                  <a:lnTo>
                    <a:pt x="1388" y="43"/>
                  </a:lnTo>
                  <a:lnTo>
                    <a:pt x="1391" y="39"/>
                  </a:lnTo>
                  <a:lnTo>
                    <a:pt x="1396" y="34"/>
                  </a:lnTo>
                  <a:lnTo>
                    <a:pt x="1402" y="30"/>
                  </a:lnTo>
                  <a:lnTo>
                    <a:pt x="1407" y="28"/>
                  </a:lnTo>
                  <a:lnTo>
                    <a:pt x="1413" y="26"/>
                  </a:lnTo>
                  <a:lnTo>
                    <a:pt x="1420" y="25"/>
                  </a:lnTo>
                  <a:lnTo>
                    <a:pt x="1428" y="25"/>
                  </a:lnTo>
                  <a:lnTo>
                    <a:pt x="1433" y="25"/>
                  </a:lnTo>
                  <a:lnTo>
                    <a:pt x="1437" y="25"/>
                  </a:lnTo>
                  <a:lnTo>
                    <a:pt x="1443" y="26"/>
                  </a:lnTo>
                  <a:lnTo>
                    <a:pt x="1447" y="27"/>
                  </a:lnTo>
                  <a:lnTo>
                    <a:pt x="1451" y="28"/>
                  </a:lnTo>
                  <a:lnTo>
                    <a:pt x="1456" y="30"/>
                  </a:lnTo>
                  <a:lnTo>
                    <a:pt x="1460" y="32"/>
                  </a:lnTo>
                  <a:lnTo>
                    <a:pt x="1465" y="34"/>
                  </a:lnTo>
                  <a:lnTo>
                    <a:pt x="1478" y="44"/>
                  </a:lnTo>
                  <a:lnTo>
                    <a:pt x="1492" y="53"/>
                  </a:lnTo>
                  <a:lnTo>
                    <a:pt x="1504" y="63"/>
                  </a:lnTo>
                  <a:lnTo>
                    <a:pt x="1517" y="73"/>
                  </a:lnTo>
                  <a:lnTo>
                    <a:pt x="1530" y="84"/>
                  </a:lnTo>
                  <a:lnTo>
                    <a:pt x="1540" y="95"/>
                  </a:lnTo>
                  <a:lnTo>
                    <a:pt x="1552" y="106"/>
                  </a:lnTo>
                  <a:lnTo>
                    <a:pt x="1562" y="118"/>
                  </a:lnTo>
                  <a:lnTo>
                    <a:pt x="1572" y="130"/>
                  </a:lnTo>
                  <a:lnTo>
                    <a:pt x="1581" y="142"/>
                  </a:lnTo>
                  <a:lnTo>
                    <a:pt x="1591" y="155"/>
                  </a:lnTo>
                  <a:lnTo>
                    <a:pt x="1599" y="169"/>
                  </a:lnTo>
                  <a:lnTo>
                    <a:pt x="1607" y="181"/>
                  </a:lnTo>
                  <a:lnTo>
                    <a:pt x="1615" y="196"/>
                  </a:lnTo>
                  <a:lnTo>
                    <a:pt x="1622" y="210"/>
                  </a:lnTo>
                  <a:lnTo>
                    <a:pt x="1628" y="224"/>
                  </a:lnTo>
                  <a:lnTo>
                    <a:pt x="1640" y="255"/>
                  </a:lnTo>
                  <a:lnTo>
                    <a:pt x="1650" y="285"/>
                  </a:lnTo>
                  <a:lnTo>
                    <a:pt x="1659" y="318"/>
                  </a:lnTo>
                  <a:lnTo>
                    <a:pt x="1666" y="350"/>
                  </a:lnTo>
                  <a:lnTo>
                    <a:pt x="1671" y="384"/>
                  </a:lnTo>
                  <a:lnTo>
                    <a:pt x="1676" y="420"/>
                  </a:lnTo>
                  <a:lnTo>
                    <a:pt x="1678" y="455"/>
                  </a:lnTo>
                  <a:lnTo>
                    <a:pt x="1679" y="492"/>
                  </a:lnTo>
                  <a:lnTo>
                    <a:pt x="1683" y="493"/>
                  </a:lnTo>
                  <a:lnTo>
                    <a:pt x="1688" y="494"/>
                  </a:lnTo>
                  <a:lnTo>
                    <a:pt x="1692" y="496"/>
                  </a:lnTo>
                  <a:lnTo>
                    <a:pt x="1696" y="498"/>
                  </a:lnTo>
                  <a:lnTo>
                    <a:pt x="1700" y="502"/>
                  </a:lnTo>
                  <a:lnTo>
                    <a:pt x="1703" y="504"/>
                  </a:lnTo>
                  <a:lnTo>
                    <a:pt x="1706" y="508"/>
                  </a:lnTo>
                  <a:lnTo>
                    <a:pt x="1709" y="511"/>
                  </a:lnTo>
                  <a:lnTo>
                    <a:pt x="1711" y="515"/>
                  </a:lnTo>
                  <a:lnTo>
                    <a:pt x="1713" y="520"/>
                  </a:lnTo>
                  <a:lnTo>
                    <a:pt x="1716" y="525"/>
                  </a:lnTo>
                  <a:lnTo>
                    <a:pt x="1718" y="530"/>
                  </a:lnTo>
                  <a:lnTo>
                    <a:pt x="1719" y="534"/>
                  </a:lnTo>
                  <a:lnTo>
                    <a:pt x="1720" y="539"/>
                  </a:lnTo>
                  <a:lnTo>
                    <a:pt x="1720" y="545"/>
                  </a:lnTo>
                  <a:lnTo>
                    <a:pt x="1720" y="551"/>
                  </a:lnTo>
                  <a:lnTo>
                    <a:pt x="1720" y="556"/>
                  </a:lnTo>
                  <a:lnTo>
                    <a:pt x="1720" y="561"/>
                  </a:lnTo>
                  <a:lnTo>
                    <a:pt x="1718" y="566"/>
                  </a:lnTo>
                  <a:lnTo>
                    <a:pt x="1717" y="571"/>
                  </a:lnTo>
                  <a:lnTo>
                    <a:pt x="1714" y="575"/>
                  </a:lnTo>
                  <a:lnTo>
                    <a:pt x="1712" y="580"/>
                  </a:lnTo>
                  <a:lnTo>
                    <a:pt x="1710" y="585"/>
                  </a:lnTo>
                  <a:lnTo>
                    <a:pt x="1707" y="589"/>
                  </a:lnTo>
                  <a:lnTo>
                    <a:pt x="1703" y="593"/>
                  </a:lnTo>
                  <a:lnTo>
                    <a:pt x="1700" y="596"/>
                  </a:lnTo>
                  <a:lnTo>
                    <a:pt x="1696" y="599"/>
                  </a:lnTo>
                  <a:lnTo>
                    <a:pt x="1691" y="602"/>
                  </a:lnTo>
                  <a:lnTo>
                    <a:pt x="1686" y="604"/>
                  </a:lnTo>
                  <a:lnTo>
                    <a:pt x="1682" y="606"/>
                  </a:lnTo>
                  <a:lnTo>
                    <a:pt x="1677" y="607"/>
                  </a:lnTo>
                  <a:lnTo>
                    <a:pt x="1671" y="608"/>
                  </a:lnTo>
                  <a:lnTo>
                    <a:pt x="1671" y="871"/>
                  </a:lnTo>
                  <a:lnTo>
                    <a:pt x="1670" y="877"/>
                  </a:lnTo>
                  <a:lnTo>
                    <a:pt x="1670" y="883"/>
                  </a:lnTo>
                  <a:lnTo>
                    <a:pt x="1668" y="889"/>
                  </a:lnTo>
                  <a:lnTo>
                    <a:pt x="1667" y="894"/>
                  </a:lnTo>
                  <a:lnTo>
                    <a:pt x="1665" y="900"/>
                  </a:lnTo>
                  <a:lnTo>
                    <a:pt x="1662" y="904"/>
                  </a:lnTo>
                  <a:lnTo>
                    <a:pt x="1659" y="908"/>
                  </a:lnTo>
                  <a:lnTo>
                    <a:pt x="1655" y="912"/>
                  </a:lnTo>
                  <a:lnTo>
                    <a:pt x="1650" y="915"/>
                  </a:lnTo>
                  <a:lnTo>
                    <a:pt x="1645" y="918"/>
                  </a:lnTo>
                  <a:lnTo>
                    <a:pt x="1641" y="922"/>
                  </a:lnTo>
                  <a:lnTo>
                    <a:pt x="1636" y="924"/>
                  </a:lnTo>
                  <a:lnTo>
                    <a:pt x="1629" y="925"/>
                  </a:lnTo>
                  <a:lnTo>
                    <a:pt x="1624" y="926"/>
                  </a:lnTo>
                  <a:lnTo>
                    <a:pt x="1618" y="927"/>
                  </a:lnTo>
                  <a:lnTo>
                    <a:pt x="1612" y="927"/>
                  </a:lnTo>
                  <a:lnTo>
                    <a:pt x="1606" y="927"/>
                  </a:lnTo>
                  <a:lnTo>
                    <a:pt x="1601" y="926"/>
                  </a:lnTo>
                  <a:lnTo>
                    <a:pt x="1596" y="925"/>
                  </a:lnTo>
                  <a:lnTo>
                    <a:pt x="1591" y="924"/>
                  </a:lnTo>
                  <a:lnTo>
                    <a:pt x="1585" y="922"/>
                  </a:lnTo>
                  <a:lnTo>
                    <a:pt x="1581" y="918"/>
                  </a:lnTo>
                  <a:lnTo>
                    <a:pt x="1576" y="915"/>
                  </a:lnTo>
                  <a:lnTo>
                    <a:pt x="1572" y="911"/>
                  </a:lnTo>
                  <a:lnTo>
                    <a:pt x="1569" y="908"/>
                  </a:lnTo>
                  <a:lnTo>
                    <a:pt x="1564" y="904"/>
                  </a:lnTo>
                  <a:lnTo>
                    <a:pt x="1562" y="898"/>
                  </a:lnTo>
                  <a:lnTo>
                    <a:pt x="1559" y="893"/>
                  </a:lnTo>
                  <a:lnTo>
                    <a:pt x="1558" y="888"/>
                  </a:lnTo>
                  <a:lnTo>
                    <a:pt x="1556" y="883"/>
                  </a:lnTo>
                  <a:lnTo>
                    <a:pt x="1556" y="876"/>
                  </a:lnTo>
                  <a:lnTo>
                    <a:pt x="1555" y="871"/>
                  </a:lnTo>
                  <a:lnTo>
                    <a:pt x="1555" y="613"/>
                  </a:lnTo>
                  <a:lnTo>
                    <a:pt x="1537" y="613"/>
                  </a:lnTo>
                  <a:lnTo>
                    <a:pt x="1518" y="614"/>
                  </a:lnTo>
                  <a:lnTo>
                    <a:pt x="1498" y="616"/>
                  </a:lnTo>
                  <a:lnTo>
                    <a:pt x="1479" y="618"/>
                  </a:lnTo>
                  <a:lnTo>
                    <a:pt x="1458" y="621"/>
                  </a:lnTo>
                  <a:lnTo>
                    <a:pt x="1438" y="624"/>
                  </a:lnTo>
                  <a:lnTo>
                    <a:pt x="1417" y="629"/>
                  </a:lnTo>
                  <a:lnTo>
                    <a:pt x="1395" y="634"/>
                  </a:lnTo>
                  <a:lnTo>
                    <a:pt x="1351" y="646"/>
                  </a:lnTo>
                  <a:lnTo>
                    <a:pt x="1306" y="661"/>
                  </a:lnTo>
                  <a:lnTo>
                    <a:pt x="1258" y="678"/>
                  </a:lnTo>
                  <a:lnTo>
                    <a:pt x="1209" y="698"/>
                  </a:lnTo>
                  <a:lnTo>
                    <a:pt x="1205" y="716"/>
                  </a:lnTo>
                  <a:lnTo>
                    <a:pt x="1201" y="735"/>
                  </a:lnTo>
                  <a:lnTo>
                    <a:pt x="1197" y="755"/>
                  </a:lnTo>
                  <a:lnTo>
                    <a:pt x="1193" y="776"/>
                  </a:lnTo>
                  <a:lnTo>
                    <a:pt x="1189" y="798"/>
                  </a:lnTo>
                  <a:lnTo>
                    <a:pt x="1185" y="822"/>
                  </a:lnTo>
                  <a:lnTo>
                    <a:pt x="1181" y="847"/>
                  </a:lnTo>
                  <a:lnTo>
                    <a:pt x="1178" y="873"/>
                  </a:lnTo>
                  <a:lnTo>
                    <a:pt x="1177" y="879"/>
                  </a:lnTo>
                  <a:lnTo>
                    <a:pt x="1176" y="884"/>
                  </a:lnTo>
                  <a:lnTo>
                    <a:pt x="1174" y="889"/>
                  </a:lnTo>
                  <a:lnTo>
                    <a:pt x="1172" y="894"/>
                  </a:lnTo>
                  <a:lnTo>
                    <a:pt x="1169" y="898"/>
                  </a:lnTo>
                  <a:lnTo>
                    <a:pt x="1166" y="903"/>
                  </a:lnTo>
                  <a:lnTo>
                    <a:pt x="1163" y="906"/>
                  </a:lnTo>
                  <a:lnTo>
                    <a:pt x="1159" y="909"/>
                  </a:lnTo>
                  <a:lnTo>
                    <a:pt x="1155" y="912"/>
                  </a:lnTo>
                  <a:lnTo>
                    <a:pt x="1151" y="915"/>
                  </a:lnTo>
                  <a:lnTo>
                    <a:pt x="1146" y="917"/>
                  </a:lnTo>
                  <a:lnTo>
                    <a:pt x="1141" y="918"/>
                  </a:lnTo>
                  <a:lnTo>
                    <a:pt x="1137" y="921"/>
                  </a:lnTo>
                  <a:lnTo>
                    <a:pt x="1132" y="922"/>
                  </a:lnTo>
                  <a:lnTo>
                    <a:pt x="1126" y="922"/>
                  </a:lnTo>
                  <a:lnTo>
                    <a:pt x="1121" y="922"/>
                  </a:lnTo>
                  <a:lnTo>
                    <a:pt x="1115" y="922"/>
                  </a:lnTo>
                  <a:lnTo>
                    <a:pt x="1109" y="921"/>
                  </a:lnTo>
                  <a:lnTo>
                    <a:pt x="1103" y="919"/>
                  </a:lnTo>
                  <a:lnTo>
                    <a:pt x="1098" y="917"/>
                  </a:lnTo>
                  <a:lnTo>
                    <a:pt x="1093" y="915"/>
                  </a:lnTo>
                  <a:lnTo>
                    <a:pt x="1088" y="912"/>
                  </a:lnTo>
                  <a:lnTo>
                    <a:pt x="1083" y="909"/>
                  </a:lnTo>
                  <a:lnTo>
                    <a:pt x="1079" y="905"/>
                  </a:lnTo>
                  <a:lnTo>
                    <a:pt x="1075" y="900"/>
                  </a:lnTo>
                  <a:lnTo>
                    <a:pt x="1071" y="894"/>
                  </a:lnTo>
                  <a:lnTo>
                    <a:pt x="1069" y="889"/>
                  </a:lnTo>
                  <a:lnTo>
                    <a:pt x="1066" y="884"/>
                  </a:lnTo>
                  <a:lnTo>
                    <a:pt x="1064" y="877"/>
                  </a:lnTo>
                  <a:lnTo>
                    <a:pt x="1062" y="871"/>
                  </a:lnTo>
                  <a:lnTo>
                    <a:pt x="1062" y="865"/>
                  </a:lnTo>
                  <a:lnTo>
                    <a:pt x="1061" y="858"/>
                  </a:lnTo>
                  <a:lnTo>
                    <a:pt x="1062" y="854"/>
                  </a:lnTo>
                  <a:lnTo>
                    <a:pt x="1062" y="850"/>
                  </a:lnTo>
                  <a:lnTo>
                    <a:pt x="1063" y="845"/>
                  </a:lnTo>
                  <a:lnTo>
                    <a:pt x="1063" y="840"/>
                  </a:lnTo>
                  <a:lnTo>
                    <a:pt x="1064" y="834"/>
                  </a:lnTo>
                  <a:lnTo>
                    <a:pt x="1066" y="829"/>
                  </a:lnTo>
                  <a:lnTo>
                    <a:pt x="1067" y="823"/>
                  </a:lnTo>
                  <a:lnTo>
                    <a:pt x="1068" y="817"/>
                  </a:lnTo>
                  <a:lnTo>
                    <a:pt x="1069" y="810"/>
                  </a:lnTo>
                  <a:lnTo>
                    <a:pt x="1070" y="804"/>
                  </a:lnTo>
                  <a:lnTo>
                    <a:pt x="1071" y="799"/>
                  </a:lnTo>
                  <a:lnTo>
                    <a:pt x="1072" y="792"/>
                  </a:lnTo>
                  <a:lnTo>
                    <a:pt x="1072" y="788"/>
                  </a:lnTo>
                  <a:lnTo>
                    <a:pt x="1073" y="783"/>
                  </a:lnTo>
                  <a:lnTo>
                    <a:pt x="1073" y="779"/>
                  </a:lnTo>
                  <a:lnTo>
                    <a:pt x="1073" y="775"/>
                  </a:lnTo>
                  <a:lnTo>
                    <a:pt x="1070" y="777"/>
                  </a:lnTo>
                  <a:lnTo>
                    <a:pt x="1066" y="779"/>
                  </a:lnTo>
                  <a:lnTo>
                    <a:pt x="1061" y="780"/>
                  </a:lnTo>
                  <a:lnTo>
                    <a:pt x="1057" y="781"/>
                  </a:lnTo>
                  <a:lnTo>
                    <a:pt x="1052" y="783"/>
                  </a:lnTo>
                  <a:lnTo>
                    <a:pt x="1047" y="784"/>
                  </a:lnTo>
                  <a:lnTo>
                    <a:pt x="1040" y="785"/>
                  </a:lnTo>
                  <a:lnTo>
                    <a:pt x="1034" y="786"/>
                  </a:lnTo>
                  <a:lnTo>
                    <a:pt x="1029" y="786"/>
                  </a:lnTo>
                  <a:lnTo>
                    <a:pt x="1024" y="785"/>
                  </a:lnTo>
                  <a:lnTo>
                    <a:pt x="1018" y="784"/>
                  </a:lnTo>
                  <a:lnTo>
                    <a:pt x="1013" y="782"/>
                  </a:lnTo>
                  <a:lnTo>
                    <a:pt x="1009" y="780"/>
                  </a:lnTo>
                  <a:lnTo>
                    <a:pt x="1004" y="777"/>
                  </a:lnTo>
                  <a:lnTo>
                    <a:pt x="999" y="772"/>
                  </a:lnTo>
                  <a:lnTo>
                    <a:pt x="995" y="769"/>
                  </a:lnTo>
                  <a:lnTo>
                    <a:pt x="991" y="765"/>
                  </a:lnTo>
                  <a:lnTo>
                    <a:pt x="987" y="760"/>
                  </a:lnTo>
                  <a:lnTo>
                    <a:pt x="984" y="756"/>
                  </a:lnTo>
                  <a:lnTo>
                    <a:pt x="980" y="750"/>
                  </a:lnTo>
                  <a:lnTo>
                    <a:pt x="978" y="745"/>
                  </a:lnTo>
                  <a:lnTo>
                    <a:pt x="977" y="741"/>
                  </a:lnTo>
                  <a:lnTo>
                    <a:pt x="976" y="735"/>
                  </a:lnTo>
                  <a:lnTo>
                    <a:pt x="975" y="729"/>
                  </a:lnTo>
                  <a:lnTo>
                    <a:pt x="976" y="725"/>
                  </a:lnTo>
                  <a:lnTo>
                    <a:pt x="977" y="720"/>
                  </a:lnTo>
                  <a:lnTo>
                    <a:pt x="978" y="716"/>
                  </a:lnTo>
                  <a:lnTo>
                    <a:pt x="980" y="711"/>
                  </a:lnTo>
                  <a:lnTo>
                    <a:pt x="983" y="706"/>
                  </a:lnTo>
                  <a:lnTo>
                    <a:pt x="986" y="702"/>
                  </a:lnTo>
                  <a:lnTo>
                    <a:pt x="989" y="698"/>
                  </a:lnTo>
                  <a:lnTo>
                    <a:pt x="992" y="694"/>
                  </a:lnTo>
                  <a:lnTo>
                    <a:pt x="996" y="690"/>
                  </a:lnTo>
                  <a:lnTo>
                    <a:pt x="999" y="685"/>
                  </a:lnTo>
                  <a:lnTo>
                    <a:pt x="1004" y="681"/>
                  </a:lnTo>
                  <a:lnTo>
                    <a:pt x="1008" y="678"/>
                  </a:lnTo>
                  <a:lnTo>
                    <a:pt x="1012" y="674"/>
                  </a:lnTo>
                  <a:lnTo>
                    <a:pt x="1017" y="671"/>
                  </a:lnTo>
                  <a:lnTo>
                    <a:pt x="1021" y="667"/>
                  </a:lnTo>
                  <a:lnTo>
                    <a:pt x="1027" y="664"/>
                  </a:lnTo>
                  <a:lnTo>
                    <a:pt x="1031" y="661"/>
                  </a:lnTo>
                  <a:lnTo>
                    <a:pt x="1036" y="658"/>
                  </a:lnTo>
                  <a:lnTo>
                    <a:pt x="1041" y="655"/>
                  </a:lnTo>
                  <a:lnTo>
                    <a:pt x="1048" y="652"/>
                  </a:lnTo>
                  <a:lnTo>
                    <a:pt x="1053" y="649"/>
                  </a:lnTo>
                  <a:lnTo>
                    <a:pt x="1059" y="645"/>
                  </a:lnTo>
                  <a:lnTo>
                    <a:pt x="1066" y="643"/>
                  </a:lnTo>
                  <a:lnTo>
                    <a:pt x="1072" y="640"/>
                  </a:lnTo>
                  <a:lnTo>
                    <a:pt x="1078" y="637"/>
                  </a:lnTo>
                  <a:lnTo>
                    <a:pt x="1083" y="634"/>
                  </a:lnTo>
                  <a:lnTo>
                    <a:pt x="1089" y="632"/>
                  </a:lnTo>
                  <a:lnTo>
                    <a:pt x="1094" y="630"/>
                  </a:lnTo>
                  <a:lnTo>
                    <a:pt x="1098" y="628"/>
                  </a:lnTo>
                  <a:lnTo>
                    <a:pt x="1102" y="625"/>
                  </a:lnTo>
                  <a:lnTo>
                    <a:pt x="1105" y="624"/>
                  </a:lnTo>
                  <a:lnTo>
                    <a:pt x="1109" y="622"/>
                  </a:lnTo>
                  <a:close/>
                  <a:moveTo>
                    <a:pt x="1563" y="494"/>
                  </a:moveTo>
                  <a:lnTo>
                    <a:pt x="1562" y="470"/>
                  </a:lnTo>
                  <a:lnTo>
                    <a:pt x="1562" y="448"/>
                  </a:lnTo>
                  <a:lnTo>
                    <a:pt x="1561" y="426"/>
                  </a:lnTo>
                  <a:lnTo>
                    <a:pt x="1560" y="406"/>
                  </a:lnTo>
                  <a:lnTo>
                    <a:pt x="1559" y="388"/>
                  </a:lnTo>
                  <a:lnTo>
                    <a:pt x="1557" y="370"/>
                  </a:lnTo>
                  <a:lnTo>
                    <a:pt x="1555" y="355"/>
                  </a:lnTo>
                  <a:lnTo>
                    <a:pt x="1553" y="339"/>
                  </a:lnTo>
                  <a:lnTo>
                    <a:pt x="1550" y="325"/>
                  </a:lnTo>
                  <a:lnTo>
                    <a:pt x="1546" y="312"/>
                  </a:lnTo>
                  <a:lnTo>
                    <a:pt x="1541" y="297"/>
                  </a:lnTo>
                  <a:lnTo>
                    <a:pt x="1536" y="283"/>
                  </a:lnTo>
                  <a:lnTo>
                    <a:pt x="1530" y="270"/>
                  </a:lnTo>
                  <a:lnTo>
                    <a:pt x="1521" y="256"/>
                  </a:lnTo>
                  <a:lnTo>
                    <a:pt x="1513" y="242"/>
                  </a:lnTo>
                  <a:lnTo>
                    <a:pt x="1503" y="229"/>
                  </a:lnTo>
                  <a:lnTo>
                    <a:pt x="1498" y="221"/>
                  </a:lnTo>
                  <a:lnTo>
                    <a:pt x="1492" y="214"/>
                  </a:lnTo>
                  <a:lnTo>
                    <a:pt x="1486" y="207"/>
                  </a:lnTo>
                  <a:lnTo>
                    <a:pt x="1479" y="199"/>
                  </a:lnTo>
                  <a:lnTo>
                    <a:pt x="1472" y="191"/>
                  </a:lnTo>
                  <a:lnTo>
                    <a:pt x="1465" y="183"/>
                  </a:lnTo>
                  <a:lnTo>
                    <a:pt x="1457" y="175"/>
                  </a:lnTo>
                  <a:lnTo>
                    <a:pt x="1450" y="167"/>
                  </a:lnTo>
                  <a:lnTo>
                    <a:pt x="1419" y="215"/>
                  </a:lnTo>
                  <a:lnTo>
                    <a:pt x="1390" y="263"/>
                  </a:lnTo>
                  <a:lnTo>
                    <a:pt x="1363" y="312"/>
                  </a:lnTo>
                  <a:lnTo>
                    <a:pt x="1338" y="361"/>
                  </a:lnTo>
                  <a:lnTo>
                    <a:pt x="1313" y="409"/>
                  </a:lnTo>
                  <a:lnTo>
                    <a:pt x="1291" y="459"/>
                  </a:lnTo>
                  <a:lnTo>
                    <a:pt x="1270" y="509"/>
                  </a:lnTo>
                  <a:lnTo>
                    <a:pt x="1250" y="558"/>
                  </a:lnTo>
                  <a:lnTo>
                    <a:pt x="1269" y="551"/>
                  </a:lnTo>
                  <a:lnTo>
                    <a:pt x="1288" y="545"/>
                  </a:lnTo>
                  <a:lnTo>
                    <a:pt x="1307" y="538"/>
                  </a:lnTo>
                  <a:lnTo>
                    <a:pt x="1327" y="532"/>
                  </a:lnTo>
                  <a:lnTo>
                    <a:pt x="1346" y="526"/>
                  </a:lnTo>
                  <a:lnTo>
                    <a:pt x="1366" y="520"/>
                  </a:lnTo>
                  <a:lnTo>
                    <a:pt x="1386" y="516"/>
                  </a:lnTo>
                  <a:lnTo>
                    <a:pt x="1406" y="511"/>
                  </a:lnTo>
                  <a:lnTo>
                    <a:pt x="1427" y="508"/>
                  </a:lnTo>
                  <a:lnTo>
                    <a:pt x="1447" y="504"/>
                  </a:lnTo>
                  <a:lnTo>
                    <a:pt x="1466" y="501"/>
                  </a:lnTo>
                  <a:lnTo>
                    <a:pt x="1486" y="498"/>
                  </a:lnTo>
                  <a:lnTo>
                    <a:pt x="1506" y="496"/>
                  </a:lnTo>
                  <a:lnTo>
                    <a:pt x="1524" y="495"/>
                  </a:lnTo>
                  <a:lnTo>
                    <a:pt x="1543" y="494"/>
                  </a:lnTo>
                  <a:lnTo>
                    <a:pt x="1563" y="494"/>
                  </a:lnTo>
                  <a:close/>
                  <a:moveTo>
                    <a:pt x="2045" y="159"/>
                  </a:moveTo>
                  <a:lnTo>
                    <a:pt x="2058" y="505"/>
                  </a:lnTo>
                  <a:lnTo>
                    <a:pt x="2156" y="467"/>
                  </a:lnTo>
                  <a:lnTo>
                    <a:pt x="2167" y="462"/>
                  </a:lnTo>
                  <a:lnTo>
                    <a:pt x="2179" y="456"/>
                  </a:lnTo>
                  <a:lnTo>
                    <a:pt x="2190" y="450"/>
                  </a:lnTo>
                  <a:lnTo>
                    <a:pt x="2201" y="443"/>
                  </a:lnTo>
                  <a:lnTo>
                    <a:pt x="2211" y="434"/>
                  </a:lnTo>
                  <a:lnTo>
                    <a:pt x="2222" y="426"/>
                  </a:lnTo>
                  <a:lnTo>
                    <a:pt x="2232" y="415"/>
                  </a:lnTo>
                  <a:lnTo>
                    <a:pt x="2243" y="405"/>
                  </a:lnTo>
                  <a:lnTo>
                    <a:pt x="2252" y="394"/>
                  </a:lnTo>
                  <a:lnTo>
                    <a:pt x="2262" y="383"/>
                  </a:lnTo>
                  <a:lnTo>
                    <a:pt x="2270" y="371"/>
                  </a:lnTo>
                  <a:lnTo>
                    <a:pt x="2278" y="360"/>
                  </a:lnTo>
                  <a:lnTo>
                    <a:pt x="2287" y="348"/>
                  </a:lnTo>
                  <a:lnTo>
                    <a:pt x="2294" y="336"/>
                  </a:lnTo>
                  <a:lnTo>
                    <a:pt x="2300" y="323"/>
                  </a:lnTo>
                  <a:lnTo>
                    <a:pt x="2307" y="310"/>
                  </a:lnTo>
                  <a:lnTo>
                    <a:pt x="2312" y="298"/>
                  </a:lnTo>
                  <a:lnTo>
                    <a:pt x="2317" y="286"/>
                  </a:lnTo>
                  <a:lnTo>
                    <a:pt x="2321" y="275"/>
                  </a:lnTo>
                  <a:lnTo>
                    <a:pt x="2325" y="263"/>
                  </a:lnTo>
                  <a:lnTo>
                    <a:pt x="2328" y="253"/>
                  </a:lnTo>
                  <a:lnTo>
                    <a:pt x="2329" y="242"/>
                  </a:lnTo>
                  <a:lnTo>
                    <a:pt x="2330" y="233"/>
                  </a:lnTo>
                  <a:lnTo>
                    <a:pt x="2331" y="223"/>
                  </a:lnTo>
                  <a:lnTo>
                    <a:pt x="2330" y="214"/>
                  </a:lnTo>
                  <a:lnTo>
                    <a:pt x="2328" y="205"/>
                  </a:lnTo>
                  <a:lnTo>
                    <a:pt x="2325" y="197"/>
                  </a:lnTo>
                  <a:lnTo>
                    <a:pt x="2320" y="190"/>
                  </a:lnTo>
                  <a:lnTo>
                    <a:pt x="2314" y="183"/>
                  </a:lnTo>
                  <a:lnTo>
                    <a:pt x="2307" y="177"/>
                  </a:lnTo>
                  <a:lnTo>
                    <a:pt x="2298" y="171"/>
                  </a:lnTo>
                  <a:lnTo>
                    <a:pt x="2288" y="167"/>
                  </a:lnTo>
                  <a:lnTo>
                    <a:pt x="2277" y="162"/>
                  </a:lnTo>
                  <a:lnTo>
                    <a:pt x="2266" y="158"/>
                  </a:lnTo>
                  <a:lnTo>
                    <a:pt x="2254" y="155"/>
                  </a:lnTo>
                  <a:lnTo>
                    <a:pt x="2243" y="153"/>
                  </a:lnTo>
                  <a:lnTo>
                    <a:pt x="2230" y="151"/>
                  </a:lnTo>
                  <a:lnTo>
                    <a:pt x="2216" y="149"/>
                  </a:lnTo>
                  <a:lnTo>
                    <a:pt x="2204" y="149"/>
                  </a:lnTo>
                  <a:lnTo>
                    <a:pt x="2190" y="148"/>
                  </a:lnTo>
                  <a:lnTo>
                    <a:pt x="2164" y="148"/>
                  </a:lnTo>
                  <a:lnTo>
                    <a:pt x="2045" y="159"/>
                  </a:lnTo>
                  <a:close/>
                  <a:moveTo>
                    <a:pt x="2058" y="632"/>
                  </a:moveTo>
                  <a:lnTo>
                    <a:pt x="2065" y="886"/>
                  </a:lnTo>
                  <a:lnTo>
                    <a:pt x="2065" y="892"/>
                  </a:lnTo>
                  <a:lnTo>
                    <a:pt x="2064" y="898"/>
                  </a:lnTo>
                  <a:lnTo>
                    <a:pt x="2063" y="905"/>
                  </a:lnTo>
                  <a:lnTo>
                    <a:pt x="2061" y="910"/>
                  </a:lnTo>
                  <a:lnTo>
                    <a:pt x="2059" y="915"/>
                  </a:lnTo>
                  <a:lnTo>
                    <a:pt x="2056" y="921"/>
                  </a:lnTo>
                  <a:lnTo>
                    <a:pt x="2053" y="925"/>
                  </a:lnTo>
                  <a:lnTo>
                    <a:pt x="2048" y="928"/>
                  </a:lnTo>
                  <a:lnTo>
                    <a:pt x="2044" y="932"/>
                  </a:lnTo>
                  <a:lnTo>
                    <a:pt x="2039" y="935"/>
                  </a:lnTo>
                  <a:lnTo>
                    <a:pt x="2035" y="937"/>
                  </a:lnTo>
                  <a:lnTo>
                    <a:pt x="2030" y="939"/>
                  </a:lnTo>
                  <a:lnTo>
                    <a:pt x="2024" y="942"/>
                  </a:lnTo>
                  <a:lnTo>
                    <a:pt x="2018" y="943"/>
                  </a:lnTo>
                  <a:lnTo>
                    <a:pt x="2013" y="944"/>
                  </a:lnTo>
                  <a:lnTo>
                    <a:pt x="2006" y="944"/>
                  </a:lnTo>
                  <a:lnTo>
                    <a:pt x="2000" y="944"/>
                  </a:lnTo>
                  <a:lnTo>
                    <a:pt x="1995" y="943"/>
                  </a:lnTo>
                  <a:lnTo>
                    <a:pt x="1990" y="942"/>
                  </a:lnTo>
                  <a:lnTo>
                    <a:pt x="1984" y="939"/>
                  </a:lnTo>
                  <a:lnTo>
                    <a:pt x="1980" y="937"/>
                  </a:lnTo>
                  <a:lnTo>
                    <a:pt x="1975" y="935"/>
                  </a:lnTo>
                  <a:lnTo>
                    <a:pt x="1971" y="932"/>
                  </a:lnTo>
                  <a:lnTo>
                    <a:pt x="1967" y="928"/>
                  </a:lnTo>
                  <a:lnTo>
                    <a:pt x="1962" y="924"/>
                  </a:lnTo>
                  <a:lnTo>
                    <a:pt x="1959" y="919"/>
                  </a:lnTo>
                  <a:lnTo>
                    <a:pt x="1956" y="915"/>
                  </a:lnTo>
                  <a:lnTo>
                    <a:pt x="1954" y="910"/>
                  </a:lnTo>
                  <a:lnTo>
                    <a:pt x="1952" y="905"/>
                  </a:lnTo>
                  <a:lnTo>
                    <a:pt x="1951" y="900"/>
                  </a:lnTo>
                  <a:lnTo>
                    <a:pt x="1950" y="893"/>
                  </a:lnTo>
                  <a:lnTo>
                    <a:pt x="1950" y="887"/>
                  </a:lnTo>
                  <a:lnTo>
                    <a:pt x="1949" y="873"/>
                  </a:lnTo>
                  <a:lnTo>
                    <a:pt x="1949" y="859"/>
                  </a:lnTo>
                  <a:lnTo>
                    <a:pt x="1948" y="844"/>
                  </a:lnTo>
                  <a:lnTo>
                    <a:pt x="1948" y="828"/>
                  </a:lnTo>
                  <a:lnTo>
                    <a:pt x="1947" y="811"/>
                  </a:lnTo>
                  <a:lnTo>
                    <a:pt x="1946" y="793"/>
                  </a:lnTo>
                  <a:lnTo>
                    <a:pt x="1946" y="776"/>
                  </a:lnTo>
                  <a:lnTo>
                    <a:pt x="1944" y="756"/>
                  </a:lnTo>
                  <a:lnTo>
                    <a:pt x="1944" y="738"/>
                  </a:lnTo>
                  <a:lnTo>
                    <a:pt x="1943" y="721"/>
                  </a:lnTo>
                  <a:lnTo>
                    <a:pt x="1943" y="707"/>
                  </a:lnTo>
                  <a:lnTo>
                    <a:pt x="1942" y="696"/>
                  </a:lnTo>
                  <a:lnTo>
                    <a:pt x="1942" y="687"/>
                  </a:lnTo>
                  <a:lnTo>
                    <a:pt x="1942" y="681"/>
                  </a:lnTo>
                  <a:lnTo>
                    <a:pt x="1942" y="677"/>
                  </a:lnTo>
                  <a:lnTo>
                    <a:pt x="1942" y="676"/>
                  </a:lnTo>
                  <a:lnTo>
                    <a:pt x="1936" y="675"/>
                  </a:lnTo>
                  <a:lnTo>
                    <a:pt x="1930" y="675"/>
                  </a:lnTo>
                  <a:lnTo>
                    <a:pt x="1925" y="674"/>
                  </a:lnTo>
                  <a:lnTo>
                    <a:pt x="1919" y="672"/>
                  </a:lnTo>
                  <a:lnTo>
                    <a:pt x="1914" y="670"/>
                  </a:lnTo>
                  <a:lnTo>
                    <a:pt x="1910" y="666"/>
                  </a:lnTo>
                  <a:lnTo>
                    <a:pt x="1905" y="663"/>
                  </a:lnTo>
                  <a:lnTo>
                    <a:pt x="1900" y="660"/>
                  </a:lnTo>
                  <a:lnTo>
                    <a:pt x="1897" y="656"/>
                  </a:lnTo>
                  <a:lnTo>
                    <a:pt x="1893" y="652"/>
                  </a:lnTo>
                  <a:lnTo>
                    <a:pt x="1891" y="648"/>
                  </a:lnTo>
                  <a:lnTo>
                    <a:pt x="1888" y="643"/>
                  </a:lnTo>
                  <a:lnTo>
                    <a:pt x="1886" y="638"/>
                  </a:lnTo>
                  <a:lnTo>
                    <a:pt x="1885" y="633"/>
                  </a:lnTo>
                  <a:lnTo>
                    <a:pt x="1884" y="628"/>
                  </a:lnTo>
                  <a:lnTo>
                    <a:pt x="1883" y="622"/>
                  </a:lnTo>
                  <a:lnTo>
                    <a:pt x="1884" y="613"/>
                  </a:lnTo>
                  <a:lnTo>
                    <a:pt x="1887" y="603"/>
                  </a:lnTo>
                  <a:lnTo>
                    <a:pt x="1890" y="595"/>
                  </a:lnTo>
                  <a:lnTo>
                    <a:pt x="1893" y="588"/>
                  </a:lnTo>
                  <a:lnTo>
                    <a:pt x="1898" y="581"/>
                  </a:lnTo>
                  <a:lnTo>
                    <a:pt x="1904" y="575"/>
                  </a:lnTo>
                  <a:lnTo>
                    <a:pt x="1911" y="570"/>
                  </a:lnTo>
                  <a:lnTo>
                    <a:pt x="1918" y="566"/>
                  </a:lnTo>
                  <a:lnTo>
                    <a:pt x="1939" y="553"/>
                  </a:lnTo>
                  <a:lnTo>
                    <a:pt x="1939" y="552"/>
                  </a:lnTo>
                  <a:lnTo>
                    <a:pt x="1938" y="547"/>
                  </a:lnTo>
                  <a:lnTo>
                    <a:pt x="1938" y="539"/>
                  </a:lnTo>
                  <a:lnTo>
                    <a:pt x="1938" y="528"/>
                  </a:lnTo>
                  <a:lnTo>
                    <a:pt x="1937" y="514"/>
                  </a:lnTo>
                  <a:lnTo>
                    <a:pt x="1937" y="496"/>
                  </a:lnTo>
                  <a:lnTo>
                    <a:pt x="1936" y="476"/>
                  </a:lnTo>
                  <a:lnTo>
                    <a:pt x="1936" y="453"/>
                  </a:lnTo>
                  <a:lnTo>
                    <a:pt x="1935" y="428"/>
                  </a:lnTo>
                  <a:lnTo>
                    <a:pt x="1934" y="405"/>
                  </a:lnTo>
                  <a:lnTo>
                    <a:pt x="1934" y="382"/>
                  </a:lnTo>
                  <a:lnTo>
                    <a:pt x="1933" y="360"/>
                  </a:lnTo>
                  <a:lnTo>
                    <a:pt x="1933" y="339"/>
                  </a:lnTo>
                  <a:lnTo>
                    <a:pt x="1932" y="319"/>
                  </a:lnTo>
                  <a:lnTo>
                    <a:pt x="1932" y="300"/>
                  </a:lnTo>
                  <a:lnTo>
                    <a:pt x="1932" y="282"/>
                  </a:lnTo>
                  <a:lnTo>
                    <a:pt x="1931" y="265"/>
                  </a:lnTo>
                  <a:lnTo>
                    <a:pt x="1931" y="249"/>
                  </a:lnTo>
                  <a:lnTo>
                    <a:pt x="1931" y="233"/>
                  </a:lnTo>
                  <a:lnTo>
                    <a:pt x="1931" y="219"/>
                  </a:lnTo>
                  <a:lnTo>
                    <a:pt x="1930" y="205"/>
                  </a:lnTo>
                  <a:lnTo>
                    <a:pt x="1930" y="192"/>
                  </a:lnTo>
                  <a:lnTo>
                    <a:pt x="1930" y="180"/>
                  </a:lnTo>
                  <a:lnTo>
                    <a:pt x="1930" y="169"/>
                  </a:lnTo>
                  <a:lnTo>
                    <a:pt x="1923" y="169"/>
                  </a:lnTo>
                  <a:lnTo>
                    <a:pt x="1918" y="169"/>
                  </a:lnTo>
                  <a:lnTo>
                    <a:pt x="1914" y="167"/>
                  </a:lnTo>
                  <a:lnTo>
                    <a:pt x="1909" y="166"/>
                  </a:lnTo>
                  <a:lnTo>
                    <a:pt x="1905" y="162"/>
                  </a:lnTo>
                  <a:lnTo>
                    <a:pt x="1900" y="160"/>
                  </a:lnTo>
                  <a:lnTo>
                    <a:pt x="1896" y="156"/>
                  </a:lnTo>
                  <a:lnTo>
                    <a:pt x="1892" y="153"/>
                  </a:lnTo>
                  <a:lnTo>
                    <a:pt x="1889" y="149"/>
                  </a:lnTo>
                  <a:lnTo>
                    <a:pt x="1886" y="145"/>
                  </a:lnTo>
                  <a:lnTo>
                    <a:pt x="1883" y="139"/>
                  </a:lnTo>
                  <a:lnTo>
                    <a:pt x="1880" y="134"/>
                  </a:lnTo>
                  <a:lnTo>
                    <a:pt x="1878" y="130"/>
                  </a:lnTo>
                  <a:lnTo>
                    <a:pt x="1877" y="124"/>
                  </a:lnTo>
                  <a:lnTo>
                    <a:pt x="1876" y="118"/>
                  </a:lnTo>
                  <a:lnTo>
                    <a:pt x="1875" y="113"/>
                  </a:lnTo>
                  <a:lnTo>
                    <a:pt x="1877" y="100"/>
                  </a:lnTo>
                  <a:lnTo>
                    <a:pt x="1879" y="90"/>
                  </a:lnTo>
                  <a:lnTo>
                    <a:pt x="1884" y="81"/>
                  </a:lnTo>
                  <a:lnTo>
                    <a:pt x="1889" y="72"/>
                  </a:lnTo>
                  <a:lnTo>
                    <a:pt x="1895" y="66"/>
                  </a:lnTo>
                  <a:lnTo>
                    <a:pt x="1902" y="60"/>
                  </a:lnTo>
                  <a:lnTo>
                    <a:pt x="1912" y="56"/>
                  </a:lnTo>
                  <a:lnTo>
                    <a:pt x="1921" y="53"/>
                  </a:lnTo>
                  <a:lnTo>
                    <a:pt x="1922" y="47"/>
                  </a:lnTo>
                  <a:lnTo>
                    <a:pt x="1922" y="42"/>
                  </a:lnTo>
                  <a:lnTo>
                    <a:pt x="1925" y="36"/>
                  </a:lnTo>
                  <a:lnTo>
                    <a:pt x="1927" y="31"/>
                  </a:lnTo>
                  <a:lnTo>
                    <a:pt x="1929" y="26"/>
                  </a:lnTo>
                  <a:lnTo>
                    <a:pt x="1932" y="22"/>
                  </a:lnTo>
                  <a:lnTo>
                    <a:pt x="1935" y="18"/>
                  </a:lnTo>
                  <a:lnTo>
                    <a:pt x="1939" y="13"/>
                  </a:lnTo>
                  <a:lnTo>
                    <a:pt x="1944" y="10"/>
                  </a:lnTo>
                  <a:lnTo>
                    <a:pt x="1949" y="7"/>
                  </a:lnTo>
                  <a:lnTo>
                    <a:pt x="1954" y="5"/>
                  </a:lnTo>
                  <a:lnTo>
                    <a:pt x="1959" y="3"/>
                  </a:lnTo>
                  <a:lnTo>
                    <a:pt x="1965" y="2"/>
                  </a:lnTo>
                  <a:lnTo>
                    <a:pt x="1971" y="1"/>
                  </a:lnTo>
                  <a:lnTo>
                    <a:pt x="1977" y="0"/>
                  </a:lnTo>
                  <a:lnTo>
                    <a:pt x="1983" y="0"/>
                  </a:lnTo>
                  <a:lnTo>
                    <a:pt x="1989" y="0"/>
                  </a:lnTo>
                  <a:lnTo>
                    <a:pt x="1994" y="0"/>
                  </a:lnTo>
                  <a:lnTo>
                    <a:pt x="1999" y="1"/>
                  </a:lnTo>
                  <a:lnTo>
                    <a:pt x="2004" y="2"/>
                  </a:lnTo>
                  <a:lnTo>
                    <a:pt x="2010" y="4"/>
                  </a:lnTo>
                  <a:lnTo>
                    <a:pt x="2014" y="5"/>
                  </a:lnTo>
                  <a:lnTo>
                    <a:pt x="2018" y="7"/>
                  </a:lnTo>
                  <a:lnTo>
                    <a:pt x="2022" y="10"/>
                  </a:lnTo>
                  <a:lnTo>
                    <a:pt x="2025" y="12"/>
                  </a:lnTo>
                  <a:lnTo>
                    <a:pt x="2030" y="15"/>
                  </a:lnTo>
                  <a:lnTo>
                    <a:pt x="2032" y="20"/>
                  </a:lnTo>
                  <a:lnTo>
                    <a:pt x="2035" y="24"/>
                  </a:lnTo>
                  <a:lnTo>
                    <a:pt x="2037" y="28"/>
                  </a:lnTo>
                  <a:lnTo>
                    <a:pt x="2038" y="32"/>
                  </a:lnTo>
                  <a:lnTo>
                    <a:pt x="2039" y="37"/>
                  </a:lnTo>
                  <a:lnTo>
                    <a:pt x="2040" y="43"/>
                  </a:lnTo>
                  <a:lnTo>
                    <a:pt x="2159" y="32"/>
                  </a:lnTo>
                  <a:lnTo>
                    <a:pt x="2161" y="32"/>
                  </a:lnTo>
                  <a:lnTo>
                    <a:pt x="2165" y="32"/>
                  </a:lnTo>
                  <a:lnTo>
                    <a:pt x="2168" y="31"/>
                  </a:lnTo>
                  <a:lnTo>
                    <a:pt x="2172" y="31"/>
                  </a:lnTo>
                  <a:lnTo>
                    <a:pt x="2177" y="31"/>
                  </a:lnTo>
                  <a:lnTo>
                    <a:pt x="2181" y="31"/>
                  </a:lnTo>
                  <a:lnTo>
                    <a:pt x="2186" y="31"/>
                  </a:lnTo>
                  <a:lnTo>
                    <a:pt x="2191" y="31"/>
                  </a:lnTo>
                  <a:lnTo>
                    <a:pt x="2217" y="32"/>
                  </a:lnTo>
                  <a:lnTo>
                    <a:pt x="2243" y="34"/>
                  </a:lnTo>
                  <a:lnTo>
                    <a:pt x="2267" y="39"/>
                  </a:lnTo>
                  <a:lnTo>
                    <a:pt x="2290" y="45"/>
                  </a:lnTo>
                  <a:lnTo>
                    <a:pt x="2311" y="53"/>
                  </a:lnTo>
                  <a:lnTo>
                    <a:pt x="2332" y="63"/>
                  </a:lnTo>
                  <a:lnTo>
                    <a:pt x="2352" y="74"/>
                  </a:lnTo>
                  <a:lnTo>
                    <a:pt x="2370" y="87"/>
                  </a:lnTo>
                  <a:lnTo>
                    <a:pt x="2379" y="94"/>
                  </a:lnTo>
                  <a:lnTo>
                    <a:pt x="2388" y="102"/>
                  </a:lnTo>
                  <a:lnTo>
                    <a:pt x="2395" y="110"/>
                  </a:lnTo>
                  <a:lnTo>
                    <a:pt x="2402" y="118"/>
                  </a:lnTo>
                  <a:lnTo>
                    <a:pt x="2409" y="127"/>
                  </a:lnTo>
                  <a:lnTo>
                    <a:pt x="2414" y="135"/>
                  </a:lnTo>
                  <a:lnTo>
                    <a:pt x="2420" y="145"/>
                  </a:lnTo>
                  <a:lnTo>
                    <a:pt x="2424" y="155"/>
                  </a:lnTo>
                  <a:lnTo>
                    <a:pt x="2429" y="165"/>
                  </a:lnTo>
                  <a:lnTo>
                    <a:pt x="2433" y="175"/>
                  </a:lnTo>
                  <a:lnTo>
                    <a:pt x="2436" y="187"/>
                  </a:lnTo>
                  <a:lnTo>
                    <a:pt x="2439" y="197"/>
                  </a:lnTo>
                  <a:lnTo>
                    <a:pt x="2441" y="209"/>
                  </a:lnTo>
                  <a:lnTo>
                    <a:pt x="2442" y="221"/>
                  </a:lnTo>
                  <a:lnTo>
                    <a:pt x="2443" y="234"/>
                  </a:lnTo>
                  <a:lnTo>
                    <a:pt x="2444" y="246"/>
                  </a:lnTo>
                  <a:lnTo>
                    <a:pt x="2443" y="261"/>
                  </a:lnTo>
                  <a:lnTo>
                    <a:pt x="2442" y="276"/>
                  </a:lnTo>
                  <a:lnTo>
                    <a:pt x="2440" y="291"/>
                  </a:lnTo>
                  <a:lnTo>
                    <a:pt x="2437" y="306"/>
                  </a:lnTo>
                  <a:lnTo>
                    <a:pt x="2433" y="321"/>
                  </a:lnTo>
                  <a:lnTo>
                    <a:pt x="2428" y="336"/>
                  </a:lnTo>
                  <a:lnTo>
                    <a:pt x="2421" y="351"/>
                  </a:lnTo>
                  <a:lnTo>
                    <a:pt x="2415" y="366"/>
                  </a:lnTo>
                  <a:lnTo>
                    <a:pt x="2407" y="382"/>
                  </a:lnTo>
                  <a:lnTo>
                    <a:pt x="2398" y="397"/>
                  </a:lnTo>
                  <a:lnTo>
                    <a:pt x="2390" y="410"/>
                  </a:lnTo>
                  <a:lnTo>
                    <a:pt x="2380" y="424"/>
                  </a:lnTo>
                  <a:lnTo>
                    <a:pt x="2370" y="438"/>
                  </a:lnTo>
                  <a:lnTo>
                    <a:pt x="2358" y="451"/>
                  </a:lnTo>
                  <a:lnTo>
                    <a:pt x="2348" y="464"/>
                  </a:lnTo>
                  <a:lnTo>
                    <a:pt x="2335" y="476"/>
                  </a:lnTo>
                  <a:lnTo>
                    <a:pt x="2322" y="489"/>
                  </a:lnTo>
                  <a:lnTo>
                    <a:pt x="2310" y="501"/>
                  </a:lnTo>
                  <a:lnTo>
                    <a:pt x="2297" y="512"/>
                  </a:lnTo>
                  <a:lnTo>
                    <a:pt x="2284" y="523"/>
                  </a:lnTo>
                  <a:lnTo>
                    <a:pt x="2270" y="532"/>
                  </a:lnTo>
                  <a:lnTo>
                    <a:pt x="2256" y="541"/>
                  </a:lnTo>
                  <a:lnTo>
                    <a:pt x="2242" y="550"/>
                  </a:lnTo>
                  <a:lnTo>
                    <a:pt x="2228" y="558"/>
                  </a:lnTo>
                  <a:lnTo>
                    <a:pt x="2245" y="571"/>
                  </a:lnTo>
                  <a:lnTo>
                    <a:pt x="2263" y="585"/>
                  </a:lnTo>
                  <a:lnTo>
                    <a:pt x="2279" y="599"/>
                  </a:lnTo>
                  <a:lnTo>
                    <a:pt x="2295" y="614"/>
                  </a:lnTo>
                  <a:lnTo>
                    <a:pt x="2311" y="631"/>
                  </a:lnTo>
                  <a:lnTo>
                    <a:pt x="2327" y="648"/>
                  </a:lnTo>
                  <a:lnTo>
                    <a:pt x="2341" y="665"/>
                  </a:lnTo>
                  <a:lnTo>
                    <a:pt x="2356" y="684"/>
                  </a:lnTo>
                  <a:lnTo>
                    <a:pt x="2370" y="704"/>
                  </a:lnTo>
                  <a:lnTo>
                    <a:pt x="2382" y="724"/>
                  </a:lnTo>
                  <a:lnTo>
                    <a:pt x="2394" y="744"/>
                  </a:lnTo>
                  <a:lnTo>
                    <a:pt x="2405" y="764"/>
                  </a:lnTo>
                  <a:lnTo>
                    <a:pt x="2415" y="784"/>
                  </a:lnTo>
                  <a:lnTo>
                    <a:pt x="2424" y="804"/>
                  </a:lnTo>
                  <a:lnTo>
                    <a:pt x="2432" y="825"/>
                  </a:lnTo>
                  <a:lnTo>
                    <a:pt x="2439" y="845"/>
                  </a:lnTo>
                  <a:lnTo>
                    <a:pt x="2440" y="848"/>
                  </a:lnTo>
                  <a:lnTo>
                    <a:pt x="2440" y="851"/>
                  </a:lnTo>
                  <a:lnTo>
                    <a:pt x="2440" y="853"/>
                  </a:lnTo>
                  <a:lnTo>
                    <a:pt x="2441" y="855"/>
                  </a:lnTo>
                  <a:lnTo>
                    <a:pt x="2441" y="858"/>
                  </a:lnTo>
                  <a:lnTo>
                    <a:pt x="2441" y="860"/>
                  </a:lnTo>
                  <a:lnTo>
                    <a:pt x="2441" y="861"/>
                  </a:lnTo>
                  <a:lnTo>
                    <a:pt x="2441" y="862"/>
                  </a:lnTo>
                  <a:lnTo>
                    <a:pt x="2441" y="868"/>
                  </a:lnTo>
                  <a:lnTo>
                    <a:pt x="2440" y="874"/>
                  </a:lnTo>
                  <a:lnTo>
                    <a:pt x="2439" y="880"/>
                  </a:lnTo>
                  <a:lnTo>
                    <a:pt x="2437" y="885"/>
                  </a:lnTo>
                  <a:lnTo>
                    <a:pt x="2434" y="890"/>
                  </a:lnTo>
                  <a:lnTo>
                    <a:pt x="2431" y="894"/>
                  </a:lnTo>
                  <a:lnTo>
                    <a:pt x="2428" y="900"/>
                  </a:lnTo>
                  <a:lnTo>
                    <a:pt x="2422" y="904"/>
                  </a:lnTo>
                  <a:lnTo>
                    <a:pt x="2418" y="907"/>
                  </a:lnTo>
                  <a:lnTo>
                    <a:pt x="2413" y="910"/>
                  </a:lnTo>
                  <a:lnTo>
                    <a:pt x="2408" y="913"/>
                  </a:lnTo>
                  <a:lnTo>
                    <a:pt x="2402" y="915"/>
                  </a:lnTo>
                  <a:lnTo>
                    <a:pt x="2397" y="917"/>
                  </a:lnTo>
                  <a:lnTo>
                    <a:pt x="2392" y="918"/>
                  </a:lnTo>
                  <a:lnTo>
                    <a:pt x="2385" y="919"/>
                  </a:lnTo>
                  <a:lnTo>
                    <a:pt x="2380" y="919"/>
                  </a:lnTo>
                  <a:lnTo>
                    <a:pt x="2370" y="919"/>
                  </a:lnTo>
                  <a:lnTo>
                    <a:pt x="2360" y="917"/>
                  </a:lnTo>
                  <a:lnTo>
                    <a:pt x="2352" y="914"/>
                  </a:lnTo>
                  <a:lnTo>
                    <a:pt x="2345" y="910"/>
                  </a:lnTo>
                  <a:lnTo>
                    <a:pt x="2338" y="905"/>
                  </a:lnTo>
                  <a:lnTo>
                    <a:pt x="2333" y="897"/>
                  </a:lnTo>
                  <a:lnTo>
                    <a:pt x="2329" y="890"/>
                  </a:lnTo>
                  <a:lnTo>
                    <a:pt x="2326" y="881"/>
                  </a:lnTo>
                  <a:lnTo>
                    <a:pt x="2321" y="867"/>
                  </a:lnTo>
                  <a:lnTo>
                    <a:pt x="2316" y="854"/>
                  </a:lnTo>
                  <a:lnTo>
                    <a:pt x="2310" y="841"/>
                  </a:lnTo>
                  <a:lnTo>
                    <a:pt x="2304" y="827"/>
                  </a:lnTo>
                  <a:lnTo>
                    <a:pt x="2297" y="814"/>
                  </a:lnTo>
                  <a:lnTo>
                    <a:pt x="2290" y="801"/>
                  </a:lnTo>
                  <a:lnTo>
                    <a:pt x="2283" y="788"/>
                  </a:lnTo>
                  <a:lnTo>
                    <a:pt x="2275" y="776"/>
                  </a:lnTo>
                  <a:lnTo>
                    <a:pt x="2267" y="763"/>
                  </a:lnTo>
                  <a:lnTo>
                    <a:pt x="2257" y="750"/>
                  </a:lnTo>
                  <a:lnTo>
                    <a:pt x="2249" y="738"/>
                  </a:lnTo>
                  <a:lnTo>
                    <a:pt x="2240" y="726"/>
                  </a:lnTo>
                  <a:lnTo>
                    <a:pt x="2229" y="715"/>
                  </a:lnTo>
                  <a:lnTo>
                    <a:pt x="2219" y="704"/>
                  </a:lnTo>
                  <a:lnTo>
                    <a:pt x="2208" y="694"/>
                  </a:lnTo>
                  <a:lnTo>
                    <a:pt x="2198" y="683"/>
                  </a:lnTo>
                  <a:lnTo>
                    <a:pt x="2186" y="673"/>
                  </a:lnTo>
                  <a:lnTo>
                    <a:pt x="2174" y="663"/>
                  </a:lnTo>
                  <a:lnTo>
                    <a:pt x="2164" y="655"/>
                  </a:lnTo>
                  <a:lnTo>
                    <a:pt x="2152" y="646"/>
                  </a:lnTo>
                  <a:lnTo>
                    <a:pt x="2140" y="639"/>
                  </a:lnTo>
                  <a:lnTo>
                    <a:pt x="2128" y="632"/>
                  </a:lnTo>
                  <a:lnTo>
                    <a:pt x="2117" y="625"/>
                  </a:lnTo>
                  <a:lnTo>
                    <a:pt x="2104" y="620"/>
                  </a:lnTo>
                  <a:lnTo>
                    <a:pt x="2094" y="623"/>
                  </a:lnTo>
                  <a:lnTo>
                    <a:pt x="2084" y="625"/>
                  </a:lnTo>
                  <a:lnTo>
                    <a:pt x="2076" y="628"/>
                  </a:lnTo>
                  <a:lnTo>
                    <a:pt x="2069" y="629"/>
                  </a:lnTo>
                  <a:lnTo>
                    <a:pt x="2064" y="630"/>
                  </a:lnTo>
                  <a:lnTo>
                    <a:pt x="2060" y="631"/>
                  </a:lnTo>
                  <a:lnTo>
                    <a:pt x="2058" y="632"/>
                  </a:lnTo>
                  <a:lnTo>
                    <a:pt x="2058" y="632"/>
                  </a:lnTo>
                  <a:close/>
                  <a:moveTo>
                    <a:pt x="2760" y="159"/>
                  </a:moveTo>
                  <a:lnTo>
                    <a:pt x="2773" y="505"/>
                  </a:lnTo>
                  <a:lnTo>
                    <a:pt x="2871" y="467"/>
                  </a:lnTo>
                  <a:lnTo>
                    <a:pt x="2882" y="462"/>
                  </a:lnTo>
                  <a:lnTo>
                    <a:pt x="2894" y="456"/>
                  </a:lnTo>
                  <a:lnTo>
                    <a:pt x="2905" y="450"/>
                  </a:lnTo>
                  <a:lnTo>
                    <a:pt x="2916" y="443"/>
                  </a:lnTo>
                  <a:lnTo>
                    <a:pt x="2926" y="434"/>
                  </a:lnTo>
                  <a:lnTo>
                    <a:pt x="2937" y="426"/>
                  </a:lnTo>
                  <a:lnTo>
                    <a:pt x="2947" y="415"/>
                  </a:lnTo>
                  <a:lnTo>
                    <a:pt x="2958" y="405"/>
                  </a:lnTo>
                  <a:lnTo>
                    <a:pt x="2967" y="394"/>
                  </a:lnTo>
                  <a:lnTo>
                    <a:pt x="2977" y="383"/>
                  </a:lnTo>
                  <a:lnTo>
                    <a:pt x="2985" y="371"/>
                  </a:lnTo>
                  <a:lnTo>
                    <a:pt x="2994" y="360"/>
                  </a:lnTo>
                  <a:lnTo>
                    <a:pt x="3002" y="348"/>
                  </a:lnTo>
                  <a:lnTo>
                    <a:pt x="3009" y="336"/>
                  </a:lnTo>
                  <a:lnTo>
                    <a:pt x="3016" y="323"/>
                  </a:lnTo>
                  <a:lnTo>
                    <a:pt x="3022" y="310"/>
                  </a:lnTo>
                  <a:lnTo>
                    <a:pt x="3027" y="298"/>
                  </a:lnTo>
                  <a:lnTo>
                    <a:pt x="3032" y="286"/>
                  </a:lnTo>
                  <a:lnTo>
                    <a:pt x="3037" y="275"/>
                  </a:lnTo>
                  <a:lnTo>
                    <a:pt x="3040" y="263"/>
                  </a:lnTo>
                  <a:lnTo>
                    <a:pt x="3043" y="253"/>
                  </a:lnTo>
                  <a:lnTo>
                    <a:pt x="3044" y="242"/>
                  </a:lnTo>
                  <a:lnTo>
                    <a:pt x="3046" y="233"/>
                  </a:lnTo>
                  <a:lnTo>
                    <a:pt x="3046" y="223"/>
                  </a:lnTo>
                  <a:lnTo>
                    <a:pt x="3045" y="214"/>
                  </a:lnTo>
                  <a:lnTo>
                    <a:pt x="3043" y="205"/>
                  </a:lnTo>
                  <a:lnTo>
                    <a:pt x="3040" y="197"/>
                  </a:lnTo>
                  <a:lnTo>
                    <a:pt x="3036" y="190"/>
                  </a:lnTo>
                  <a:lnTo>
                    <a:pt x="3029" y="183"/>
                  </a:lnTo>
                  <a:lnTo>
                    <a:pt x="3022" y="177"/>
                  </a:lnTo>
                  <a:lnTo>
                    <a:pt x="3013" y="171"/>
                  </a:lnTo>
                  <a:lnTo>
                    <a:pt x="3003" y="167"/>
                  </a:lnTo>
                  <a:lnTo>
                    <a:pt x="2992" y="162"/>
                  </a:lnTo>
                  <a:lnTo>
                    <a:pt x="2981" y="158"/>
                  </a:lnTo>
                  <a:lnTo>
                    <a:pt x="2969" y="155"/>
                  </a:lnTo>
                  <a:lnTo>
                    <a:pt x="2958" y="153"/>
                  </a:lnTo>
                  <a:lnTo>
                    <a:pt x="2945" y="151"/>
                  </a:lnTo>
                  <a:lnTo>
                    <a:pt x="2932" y="149"/>
                  </a:lnTo>
                  <a:lnTo>
                    <a:pt x="2919" y="149"/>
                  </a:lnTo>
                  <a:lnTo>
                    <a:pt x="2905" y="148"/>
                  </a:lnTo>
                  <a:lnTo>
                    <a:pt x="2879" y="148"/>
                  </a:lnTo>
                  <a:lnTo>
                    <a:pt x="2760" y="159"/>
                  </a:lnTo>
                  <a:close/>
                  <a:moveTo>
                    <a:pt x="2773" y="632"/>
                  </a:moveTo>
                  <a:lnTo>
                    <a:pt x="2780" y="886"/>
                  </a:lnTo>
                  <a:lnTo>
                    <a:pt x="2780" y="892"/>
                  </a:lnTo>
                  <a:lnTo>
                    <a:pt x="2779" y="898"/>
                  </a:lnTo>
                  <a:lnTo>
                    <a:pt x="2778" y="905"/>
                  </a:lnTo>
                  <a:lnTo>
                    <a:pt x="2776" y="910"/>
                  </a:lnTo>
                  <a:lnTo>
                    <a:pt x="2774" y="915"/>
                  </a:lnTo>
                  <a:lnTo>
                    <a:pt x="2771" y="921"/>
                  </a:lnTo>
                  <a:lnTo>
                    <a:pt x="2768" y="925"/>
                  </a:lnTo>
                  <a:lnTo>
                    <a:pt x="2764" y="928"/>
                  </a:lnTo>
                  <a:lnTo>
                    <a:pt x="2759" y="932"/>
                  </a:lnTo>
                  <a:lnTo>
                    <a:pt x="2754" y="935"/>
                  </a:lnTo>
                  <a:lnTo>
                    <a:pt x="2750" y="937"/>
                  </a:lnTo>
                  <a:lnTo>
                    <a:pt x="2745" y="939"/>
                  </a:lnTo>
                  <a:lnTo>
                    <a:pt x="2739" y="942"/>
                  </a:lnTo>
                  <a:lnTo>
                    <a:pt x="2733" y="943"/>
                  </a:lnTo>
                  <a:lnTo>
                    <a:pt x="2728" y="944"/>
                  </a:lnTo>
                  <a:lnTo>
                    <a:pt x="2722" y="944"/>
                  </a:lnTo>
                  <a:lnTo>
                    <a:pt x="2715" y="944"/>
                  </a:lnTo>
                  <a:lnTo>
                    <a:pt x="2710" y="943"/>
                  </a:lnTo>
                  <a:lnTo>
                    <a:pt x="2705" y="942"/>
                  </a:lnTo>
                  <a:lnTo>
                    <a:pt x="2699" y="939"/>
                  </a:lnTo>
                  <a:lnTo>
                    <a:pt x="2695" y="937"/>
                  </a:lnTo>
                  <a:lnTo>
                    <a:pt x="2690" y="935"/>
                  </a:lnTo>
                  <a:lnTo>
                    <a:pt x="2686" y="932"/>
                  </a:lnTo>
                  <a:lnTo>
                    <a:pt x="2682" y="928"/>
                  </a:lnTo>
                  <a:lnTo>
                    <a:pt x="2677" y="924"/>
                  </a:lnTo>
                  <a:lnTo>
                    <a:pt x="2674" y="919"/>
                  </a:lnTo>
                  <a:lnTo>
                    <a:pt x="2671" y="915"/>
                  </a:lnTo>
                  <a:lnTo>
                    <a:pt x="2669" y="910"/>
                  </a:lnTo>
                  <a:lnTo>
                    <a:pt x="2667" y="905"/>
                  </a:lnTo>
                  <a:lnTo>
                    <a:pt x="2666" y="900"/>
                  </a:lnTo>
                  <a:lnTo>
                    <a:pt x="2665" y="893"/>
                  </a:lnTo>
                  <a:lnTo>
                    <a:pt x="2665" y="887"/>
                  </a:lnTo>
                  <a:lnTo>
                    <a:pt x="2664" y="873"/>
                  </a:lnTo>
                  <a:lnTo>
                    <a:pt x="2664" y="859"/>
                  </a:lnTo>
                  <a:lnTo>
                    <a:pt x="2663" y="844"/>
                  </a:lnTo>
                  <a:lnTo>
                    <a:pt x="2663" y="828"/>
                  </a:lnTo>
                  <a:lnTo>
                    <a:pt x="2662" y="811"/>
                  </a:lnTo>
                  <a:lnTo>
                    <a:pt x="2661" y="793"/>
                  </a:lnTo>
                  <a:lnTo>
                    <a:pt x="2661" y="776"/>
                  </a:lnTo>
                  <a:lnTo>
                    <a:pt x="2660" y="756"/>
                  </a:lnTo>
                  <a:lnTo>
                    <a:pt x="2660" y="738"/>
                  </a:lnTo>
                  <a:lnTo>
                    <a:pt x="2659" y="721"/>
                  </a:lnTo>
                  <a:lnTo>
                    <a:pt x="2659" y="707"/>
                  </a:lnTo>
                  <a:lnTo>
                    <a:pt x="2657" y="696"/>
                  </a:lnTo>
                  <a:lnTo>
                    <a:pt x="2657" y="687"/>
                  </a:lnTo>
                  <a:lnTo>
                    <a:pt x="2657" y="681"/>
                  </a:lnTo>
                  <a:lnTo>
                    <a:pt x="2657" y="677"/>
                  </a:lnTo>
                  <a:lnTo>
                    <a:pt x="2657" y="676"/>
                  </a:lnTo>
                  <a:lnTo>
                    <a:pt x="2651" y="675"/>
                  </a:lnTo>
                  <a:lnTo>
                    <a:pt x="2645" y="675"/>
                  </a:lnTo>
                  <a:lnTo>
                    <a:pt x="2640" y="674"/>
                  </a:lnTo>
                  <a:lnTo>
                    <a:pt x="2634" y="672"/>
                  </a:lnTo>
                  <a:lnTo>
                    <a:pt x="2629" y="670"/>
                  </a:lnTo>
                  <a:lnTo>
                    <a:pt x="2625" y="666"/>
                  </a:lnTo>
                  <a:lnTo>
                    <a:pt x="2620" y="663"/>
                  </a:lnTo>
                  <a:lnTo>
                    <a:pt x="2615" y="660"/>
                  </a:lnTo>
                  <a:lnTo>
                    <a:pt x="2612" y="656"/>
                  </a:lnTo>
                  <a:lnTo>
                    <a:pt x="2608" y="652"/>
                  </a:lnTo>
                  <a:lnTo>
                    <a:pt x="2606" y="648"/>
                  </a:lnTo>
                  <a:lnTo>
                    <a:pt x="2603" y="643"/>
                  </a:lnTo>
                  <a:lnTo>
                    <a:pt x="2601" y="638"/>
                  </a:lnTo>
                  <a:lnTo>
                    <a:pt x="2600" y="633"/>
                  </a:lnTo>
                  <a:lnTo>
                    <a:pt x="2599" y="628"/>
                  </a:lnTo>
                  <a:lnTo>
                    <a:pt x="2598" y="622"/>
                  </a:lnTo>
                  <a:lnTo>
                    <a:pt x="2599" y="613"/>
                  </a:lnTo>
                  <a:lnTo>
                    <a:pt x="2602" y="603"/>
                  </a:lnTo>
                  <a:lnTo>
                    <a:pt x="2605" y="595"/>
                  </a:lnTo>
                  <a:lnTo>
                    <a:pt x="2608" y="588"/>
                  </a:lnTo>
                  <a:lnTo>
                    <a:pt x="2613" y="581"/>
                  </a:lnTo>
                  <a:lnTo>
                    <a:pt x="2619" y="575"/>
                  </a:lnTo>
                  <a:lnTo>
                    <a:pt x="2626" y="570"/>
                  </a:lnTo>
                  <a:lnTo>
                    <a:pt x="2633" y="566"/>
                  </a:lnTo>
                  <a:lnTo>
                    <a:pt x="2654" y="553"/>
                  </a:lnTo>
                  <a:lnTo>
                    <a:pt x="2654" y="552"/>
                  </a:lnTo>
                  <a:lnTo>
                    <a:pt x="2653" y="547"/>
                  </a:lnTo>
                  <a:lnTo>
                    <a:pt x="2653" y="539"/>
                  </a:lnTo>
                  <a:lnTo>
                    <a:pt x="2653" y="528"/>
                  </a:lnTo>
                  <a:lnTo>
                    <a:pt x="2652" y="514"/>
                  </a:lnTo>
                  <a:lnTo>
                    <a:pt x="2652" y="496"/>
                  </a:lnTo>
                  <a:lnTo>
                    <a:pt x="2651" y="476"/>
                  </a:lnTo>
                  <a:lnTo>
                    <a:pt x="2651" y="453"/>
                  </a:lnTo>
                  <a:lnTo>
                    <a:pt x="2650" y="428"/>
                  </a:lnTo>
                  <a:lnTo>
                    <a:pt x="2649" y="405"/>
                  </a:lnTo>
                  <a:lnTo>
                    <a:pt x="2649" y="382"/>
                  </a:lnTo>
                  <a:lnTo>
                    <a:pt x="2648" y="360"/>
                  </a:lnTo>
                  <a:lnTo>
                    <a:pt x="2648" y="339"/>
                  </a:lnTo>
                  <a:lnTo>
                    <a:pt x="2647" y="319"/>
                  </a:lnTo>
                  <a:lnTo>
                    <a:pt x="2647" y="300"/>
                  </a:lnTo>
                  <a:lnTo>
                    <a:pt x="2647" y="282"/>
                  </a:lnTo>
                  <a:lnTo>
                    <a:pt x="2646" y="265"/>
                  </a:lnTo>
                  <a:lnTo>
                    <a:pt x="2646" y="249"/>
                  </a:lnTo>
                  <a:lnTo>
                    <a:pt x="2646" y="233"/>
                  </a:lnTo>
                  <a:lnTo>
                    <a:pt x="2646" y="219"/>
                  </a:lnTo>
                  <a:lnTo>
                    <a:pt x="2645" y="205"/>
                  </a:lnTo>
                  <a:lnTo>
                    <a:pt x="2645" y="192"/>
                  </a:lnTo>
                  <a:lnTo>
                    <a:pt x="2645" y="180"/>
                  </a:lnTo>
                  <a:lnTo>
                    <a:pt x="2645" y="169"/>
                  </a:lnTo>
                  <a:lnTo>
                    <a:pt x="2639" y="169"/>
                  </a:lnTo>
                  <a:lnTo>
                    <a:pt x="2634" y="169"/>
                  </a:lnTo>
                  <a:lnTo>
                    <a:pt x="2629" y="167"/>
                  </a:lnTo>
                  <a:lnTo>
                    <a:pt x="2624" y="166"/>
                  </a:lnTo>
                  <a:lnTo>
                    <a:pt x="2620" y="162"/>
                  </a:lnTo>
                  <a:lnTo>
                    <a:pt x="2615" y="160"/>
                  </a:lnTo>
                  <a:lnTo>
                    <a:pt x="2611" y="156"/>
                  </a:lnTo>
                  <a:lnTo>
                    <a:pt x="2607" y="153"/>
                  </a:lnTo>
                  <a:lnTo>
                    <a:pt x="2604" y="149"/>
                  </a:lnTo>
                  <a:lnTo>
                    <a:pt x="2601" y="145"/>
                  </a:lnTo>
                  <a:lnTo>
                    <a:pt x="2598" y="139"/>
                  </a:lnTo>
                  <a:lnTo>
                    <a:pt x="2596" y="134"/>
                  </a:lnTo>
                  <a:lnTo>
                    <a:pt x="2593" y="130"/>
                  </a:lnTo>
                  <a:lnTo>
                    <a:pt x="2592" y="124"/>
                  </a:lnTo>
                  <a:lnTo>
                    <a:pt x="2591" y="118"/>
                  </a:lnTo>
                  <a:lnTo>
                    <a:pt x="2590" y="113"/>
                  </a:lnTo>
                  <a:lnTo>
                    <a:pt x="2592" y="100"/>
                  </a:lnTo>
                  <a:lnTo>
                    <a:pt x="2594" y="90"/>
                  </a:lnTo>
                  <a:lnTo>
                    <a:pt x="2599" y="81"/>
                  </a:lnTo>
                  <a:lnTo>
                    <a:pt x="2604" y="72"/>
                  </a:lnTo>
                  <a:lnTo>
                    <a:pt x="2610" y="66"/>
                  </a:lnTo>
                  <a:lnTo>
                    <a:pt x="2618" y="60"/>
                  </a:lnTo>
                  <a:lnTo>
                    <a:pt x="2627" y="56"/>
                  </a:lnTo>
                  <a:lnTo>
                    <a:pt x="2636" y="53"/>
                  </a:lnTo>
                  <a:lnTo>
                    <a:pt x="2638" y="47"/>
                  </a:lnTo>
                  <a:lnTo>
                    <a:pt x="2638" y="42"/>
                  </a:lnTo>
                  <a:lnTo>
                    <a:pt x="2640" y="36"/>
                  </a:lnTo>
                  <a:lnTo>
                    <a:pt x="2642" y="31"/>
                  </a:lnTo>
                  <a:lnTo>
                    <a:pt x="2644" y="26"/>
                  </a:lnTo>
                  <a:lnTo>
                    <a:pt x="2647" y="22"/>
                  </a:lnTo>
                  <a:lnTo>
                    <a:pt x="2650" y="18"/>
                  </a:lnTo>
                  <a:lnTo>
                    <a:pt x="2654" y="13"/>
                  </a:lnTo>
                  <a:lnTo>
                    <a:pt x="2660" y="10"/>
                  </a:lnTo>
                  <a:lnTo>
                    <a:pt x="2664" y="7"/>
                  </a:lnTo>
                  <a:lnTo>
                    <a:pt x="2669" y="5"/>
                  </a:lnTo>
                  <a:lnTo>
                    <a:pt x="2674" y="3"/>
                  </a:lnTo>
                  <a:lnTo>
                    <a:pt x="2681" y="2"/>
                  </a:lnTo>
                  <a:lnTo>
                    <a:pt x="2686" y="1"/>
                  </a:lnTo>
                  <a:lnTo>
                    <a:pt x="2692" y="0"/>
                  </a:lnTo>
                  <a:lnTo>
                    <a:pt x="2698" y="0"/>
                  </a:lnTo>
                  <a:lnTo>
                    <a:pt x="2704" y="0"/>
                  </a:lnTo>
                  <a:lnTo>
                    <a:pt x="2709" y="0"/>
                  </a:lnTo>
                  <a:lnTo>
                    <a:pt x="2714" y="1"/>
                  </a:lnTo>
                  <a:lnTo>
                    <a:pt x="2719" y="2"/>
                  </a:lnTo>
                  <a:lnTo>
                    <a:pt x="2725" y="4"/>
                  </a:lnTo>
                  <a:lnTo>
                    <a:pt x="2729" y="5"/>
                  </a:lnTo>
                  <a:lnTo>
                    <a:pt x="2733" y="7"/>
                  </a:lnTo>
                  <a:lnTo>
                    <a:pt x="2737" y="10"/>
                  </a:lnTo>
                  <a:lnTo>
                    <a:pt x="2740" y="12"/>
                  </a:lnTo>
                  <a:lnTo>
                    <a:pt x="2745" y="15"/>
                  </a:lnTo>
                  <a:lnTo>
                    <a:pt x="2747" y="20"/>
                  </a:lnTo>
                  <a:lnTo>
                    <a:pt x="2750" y="24"/>
                  </a:lnTo>
                  <a:lnTo>
                    <a:pt x="2752" y="28"/>
                  </a:lnTo>
                  <a:lnTo>
                    <a:pt x="2753" y="32"/>
                  </a:lnTo>
                  <a:lnTo>
                    <a:pt x="2754" y="37"/>
                  </a:lnTo>
                  <a:lnTo>
                    <a:pt x="2755" y="43"/>
                  </a:lnTo>
                  <a:lnTo>
                    <a:pt x="2874" y="32"/>
                  </a:lnTo>
                  <a:lnTo>
                    <a:pt x="2876" y="32"/>
                  </a:lnTo>
                  <a:lnTo>
                    <a:pt x="2880" y="32"/>
                  </a:lnTo>
                  <a:lnTo>
                    <a:pt x="2883" y="31"/>
                  </a:lnTo>
                  <a:lnTo>
                    <a:pt x="2887" y="31"/>
                  </a:lnTo>
                  <a:lnTo>
                    <a:pt x="2892" y="31"/>
                  </a:lnTo>
                  <a:lnTo>
                    <a:pt x="2896" y="31"/>
                  </a:lnTo>
                  <a:lnTo>
                    <a:pt x="2901" y="31"/>
                  </a:lnTo>
                  <a:lnTo>
                    <a:pt x="2906" y="31"/>
                  </a:lnTo>
                  <a:lnTo>
                    <a:pt x="2933" y="32"/>
                  </a:lnTo>
                  <a:lnTo>
                    <a:pt x="2958" y="34"/>
                  </a:lnTo>
                  <a:lnTo>
                    <a:pt x="2982" y="39"/>
                  </a:lnTo>
                  <a:lnTo>
                    <a:pt x="3005" y="45"/>
                  </a:lnTo>
                  <a:lnTo>
                    <a:pt x="3026" y="53"/>
                  </a:lnTo>
                  <a:lnTo>
                    <a:pt x="3047" y="63"/>
                  </a:lnTo>
                  <a:lnTo>
                    <a:pt x="3067" y="74"/>
                  </a:lnTo>
                  <a:lnTo>
                    <a:pt x="3085" y="87"/>
                  </a:lnTo>
                  <a:lnTo>
                    <a:pt x="3094" y="94"/>
                  </a:lnTo>
                  <a:lnTo>
                    <a:pt x="3103" y="102"/>
                  </a:lnTo>
                  <a:lnTo>
                    <a:pt x="3110" y="110"/>
                  </a:lnTo>
                  <a:lnTo>
                    <a:pt x="3117" y="118"/>
                  </a:lnTo>
                  <a:lnTo>
                    <a:pt x="3124" y="127"/>
                  </a:lnTo>
                  <a:lnTo>
                    <a:pt x="3129" y="135"/>
                  </a:lnTo>
                  <a:lnTo>
                    <a:pt x="3135" y="145"/>
                  </a:lnTo>
                  <a:lnTo>
                    <a:pt x="3139" y="155"/>
                  </a:lnTo>
                  <a:lnTo>
                    <a:pt x="3144" y="165"/>
                  </a:lnTo>
                  <a:lnTo>
                    <a:pt x="3148" y="175"/>
                  </a:lnTo>
                  <a:lnTo>
                    <a:pt x="3151" y="187"/>
                  </a:lnTo>
                  <a:lnTo>
                    <a:pt x="3154" y="197"/>
                  </a:lnTo>
                  <a:lnTo>
                    <a:pt x="3156" y="209"/>
                  </a:lnTo>
                  <a:lnTo>
                    <a:pt x="3157" y="221"/>
                  </a:lnTo>
                  <a:lnTo>
                    <a:pt x="3158" y="234"/>
                  </a:lnTo>
                  <a:lnTo>
                    <a:pt x="3159" y="246"/>
                  </a:lnTo>
                  <a:lnTo>
                    <a:pt x="3158" y="261"/>
                  </a:lnTo>
                  <a:lnTo>
                    <a:pt x="3157" y="276"/>
                  </a:lnTo>
                  <a:lnTo>
                    <a:pt x="3155" y="291"/>
                  </a:lnTo>
                  <a:lnTo>
                    <a:pt x="3152" y="306"/>
                  </a:lnTo>
                  <a:lnTo>
                    <a:pt x="3148" y="321"/>
                  </a:lnTo>
                  <a:lnTo>
                    <a:pt x="3143" y="336"/>
                  </a:lnTo>
                  <a:lnTo>
                    <a:pt x="3136" y="351"/>
                  </a:lnTo>
                  <a:lnTo>
                    <a:pt x="3130" y="366"/>
                  </a:lnTo>
                  <a:lnTo>
                    <a:pt x="3122" y="382"/>
                  </a:lnTo>
                  <a:lnTo>
                    <a:pt x="3113" y="397"/>
                  </a:lnTo>
                  <a:lnTo>
                    <a:pt x="3105" y="410"/>
                  </a:lnTo>
                  <a:lnTo>
                    <a:pt x="3095" y="424"/>
                  </a:lnTo>
                  <a:lnTo>
                    <a:pt x="3085" y="438"/>
                  </a:lnTo>
                  <a:lnTo>
                    <a:pt x="3074" y="451"/>
                  </a:lnTo>
                  <a:lnTo>
                    <a:pt x="3063" y="464"/>
                  </a:lnTo>
                  <a:lnTo>
                    <a:pt x="3050" y="476"/>
                  </a:lnTo>
                  <a:lnTo>
                    <a:pt x="3038" y="489"/>
                  </a:lnTo>
                  <a:lnTo>
                    <a:pt x="3025" y="501"/>
                  </a:lnTo>
                  <a:lnTo>
                    <a:pt x="3012" y="512"/>
                  </a:lnTo>
                  <a:lnTo>
                    <a:pt x="2999" y="523"/>
                  </a:lnTo>
                  <a:lnTo>
                    <a:pt x="2985" y="532"/>
                  </a:lnTo>
                  <a:lnTo>
                    <a:pt x="2971" y="541"/>
                  </a:lnTo>
                  <a:lnTo>
                    <a:pt x="2957" y="550"/>
                  </a:lnTo>
                  <a:lnTo>
                    <a:pt x="2943" y="558"/>
                  </a:lnTo>
                  <a:lnTo>
                    <a:pt x="2960" y="571"/>
                  </a:lnTo>
                  <a:lnTo>
                    <a:pt x="2978" y="585"/>
                  </a:lnTo>
                  <a:lnTo>
                    <a:pt x="2995" y="599"/>
                  </a:lnTo>
                  <a:lnTo>
                    <a:pt x="3010" y="614"/>
                  </a:lnTo>
                  <a:lnTo>
                    <a:pt x="3026" y="631"/>
                  </a:lnTo>
                  <a:lnTo>
                    <a:pt x="3042" y="648"/>
                  </a:lnTo>
                  <a:lnTo>
                    <a:pt x="3057" y="665"/>
                  </a:lnTo>
                  <a:lnTo>
                    <a:pt x="3071" y="684"/>
                  </a:lnTo>
                  <a:lnTo>
                    <a:pt x="3085" y="704"/>
                  </a:lnTo>
                  <a:lnTo>
                    <a:pt x="3097" y="724"/>
                  </a:lnTo>
                  <a:lnTo>
                    <a:pt x="3109" y="744"/>
                  </a:lnTo>
                  <a:lnTo>
                    <a:pt x="3121" y="764"/>
                  </a:lnTo>
                  <a:lnTo>
                    <a:pt x="3130" y="784"/>
                  </a:lnTo>
                  <a:lnTo>
                    <a:pt x="3139" y="804"/>
                  </a:lnTo>
                  <a:lnTo>
                    <a:pt x="3147" y="825"/>
                  </a:lnTo>
                  <a:lnTo>
                    <a:pt x="3154" y="845"/>
                  </a:lnTo>
                  <a:lnTo>
                    <a:pt x="3155" y="848"/>
                  </a:lnTo>
                  <a:lnTo>
                    <a:pt x="3155" y="851"/>
                  </a:lnTo>
                  <a:lnTo>
                    <a:pt x="3155" y="853"/>
                  </a:lnTo>
                  <a:lnTo>
                    <a:pt x="3156" y="855"/>
                  </a:lnTo>
                  <a:lnTo>
                    <a:pt x="3156" y="858"/>
                  </a:lnTo>
                  <a:lnTo>
                    <a:pt x="3156" y="860"/>
                  </a:lnTo>
                  <a:lnTo>
                    <a:pt x="3156" y="861"/>
                  </a:lnTo>
                  <a:lnTo>
                    <a:pt x="3156" y="862"/>
                  </a:lnTo>
                  <a:lnTo>
                    <a:pt x="3156" y="868"/>
                  </a:lnTo>
                  <a:lnTo>
                    <a:pt x="3155" y="874"/>
                  </a:lnTo>
                  <a:lnTo>
                    <a:pt x="3154" y="880"/>
                  </a:lnTo>
                  <a:lnTo>
                    <a:pt x="3152" y="885"/>
                  </a:lnTo>
                  <a:lnTo>
                    <a:pt x="3149" y="890"/>
                  </a:lnTo>
                  <a:lnTo>
                    <a:pt x="3146" y="894"/>
                  </a:lnTo>
                  <a:lnTo>
                    <a:pt x="3143" y="900"/>
                  </a:lnTo>
                  <a:lnTo>
                    <a:pt x="3137" y="904"/>
                  </a:lnTo>
                  <a:lnTo>
                    <a:pt x="3133" y="907"/>
                  </a:lnTo>
                  <a:lnTo>
                    <a:pt x="3128" y="910"/>
                  </a:lnTo>
                  <a:lnTo>
                    <a:pt x="3123" y="913"/>
                  </a:lnTo>
                  <a:lnTo>
                    <a:pt x="3117" y="915"/>
                  </a:lnTo>
                  <a:lnTo>
                    <a:pt x="3112" y="917"/>
                  </a:lnTo>
                  <a:lnTo>
                    <a:pt x="3107" y="918"/>
                  </a:lnTo>
                  <a:lnTo>
                    <a:pt x="3101" y="919"/>
                  </a:lnTo>
                  <a:lnTo>
                    <a:pt x="3095" y="919"/>
                  </a:lnTo>
                  <a:lnTo>
                    <a:pt x="3085" y="919"/>
                  </a:lnTo>
                  <a:lnTo>
                    <a:pt x="3075" y="917"/>
                  </a:lnTo>
                  <a:lnTo>
                    <a:pt x="3067" y="914"/>
                  </a:lnTo>
                  <a:lnTo>
                    <a:pt x="3060" y="910"/>
                  </a:lnTo>
                  <a:lnTo>
                    <a:pt x="3053" y="905"/>
                  </a:lnTo>
                  <a:lnTo>
                    <a:pt x="3048" y="897"/>
                  </a:lnTo>
                  <a:lnTo>
                    <a:pt x="3044" y="890"/>
                  </a:lnTo>
                  <a:lnTo>
                    <a:pt x="3041" y="881"/>
                  </a:lnTo>
                  <a:lnTo>
                    <a:pt x="3037" y="867"/>
                  </a:lnTo>
                  <a:lnTo>
                    <a:pt x="3031" y="854"/>
                  </a:lnTo>
                  <a:lnTo>
                    <a:pt x="3025" y="841"/>
                  </a:lnTo>
                  <a:lnTo>
                    <a:pt x="3020" y="827"/>
                  </a:lnTo>
                  <a:lnTo>
                    <a:pt x="3012" y="814"/>
                  </a:lnTo>
                  <a:lnTo>
                    <a:pt x="3006" y="801"/>
                  </a:lnTo>
                  <a:lnTo>
                    <a:pt x="2998" y="788"/>
                  </a:lnTo>
                  <a:lnTo>
                    <a:pt x="2990" y="776"/>
                  </a:lnTo>
                  <a:lnTo>
                    <a:pt x="2982" y="763"/>
                  </a:lnTo>
                  <a:lnTo>
                    <a:pt x="2972" y="750"/>
                  </a:lnTo>
                  <a:lnTo>
                    <a:pt x="2964" y="738"/>
                  </a:lnTo>
                  <a:lnTo>
                    <a:pt x="2955" y="726"/>
                  </a:lnTo>
                  <a:lnTo>
                    <a:pt x="2944" y="715"/>
                  </a:lnTo>
                  <a:lnTo>
                    <a:pt x="2934" y="704"/>
                  </a:lnTo>
                  <a:lnTo>
                    <a:pt x="2923" y="694"/>
                  </a:lnTo>
                  <a:lnTo>
                    <a:pt x="2913" y="683"/>
                  </a:lnTo>
                  <a:lnTo>
                    <a:pt x="2901" y="673"/>
                  </a:lnTo>
                  <a:lnTo>
                    <a:pt x="2891" y="663"/>
                  </a:lnTo>
                  <a:lnTo>
                    <a:pt x="2879" y="655"/>
                  </a:lnTo>
                  <a:lnTo>
                    <a:pt x="2867" y="646"/>
                  </a:lnTo>
                  <a:lnTo>
                    <a:pt x="2855" y="639"/>
                  </a:lnTo>
                  <a:lnTo>
                    <a:pt x="2843" y="632"/>
                  </a:lnTo>
                  <a:lnTo>
                    <a:pt x="2832" y="625"/>
                  </a:lnTo>
                  <a:lnTo>
                    <a:pt x="2819" y="620"/>
                  </a:lnTo>
                  <a:lnTo>
                    <a:pt x="2809" y="623"/>
                  </a:lnTo>
                  <a:lnTo>
                    <a:pt x="2799" y="625"/>
                  </a:lnTo>
                  <a:lnTo>
                    <a:pt x="2791" y="628"/>
                  </a:lnTo>
                  <a:lnTo>
                    <a:pt x="2785" y="629"/>
                  </a:lnTo>
                  <a:lnTo>
                    <a:pt x="2779" y="630"/>
                  </a:lnTo>
                  <a:lnTo>
                    <a:pt x="2775" y="631"/>
                  </a:lnTo>
                  <a:lnTo>
                    <a:pt x="2773" y="632"/>
                  </a:lnTo>
                  <a:lnTo>
                    <a:pt x="2773" y="632"/>
                  </a:lnTo>
                  <a:close/>
                  <a:moveTo>
                    <a:pt x="3387" y="883"/>
                  </a:moveTo>
                  <a:lnTo>
                    <a:pt x="3364" y="69"/>
                  </a:lnTo>
                  <a:lnTo>
                    <a:pt x="3365" y="63"/>
                  </a:lnTo>
                  <a:lnTo>
                    <a:pt x="3365" y="56"/>
                  </a:lnTo>
                  <a:lnTo>
                    <a:pt x="3366" y="50"/>
                  </a:lnTo>
                  <a:lnTo>
                    <a:pt x="3368" y="44"/>
                  </a:lnTo>
                  <a:lnTo>
                    <a:pt x="3370" y="39"/>
                  </a:lnTo>
                  <a:lnTo>
                    <a:pt x="3374" y="34"/>
                  </a:lnTo>
                  <a:lnTo>
                    <a:pt x="3377" y="30"/>
                  </a:lnTo>
                  <a:lnTo>
                    <a:pt x="3381" y="26"/>
                  </a:lnTo>
                  <a:lnTo>
                    <a:pt x="3385" y="22"/>
                  </a:lnTo>
                  <a:lnTo>
                    <a:pt x="3389" y="19"/>
                  </a:lnTo>
                  <a:lnTo>
                    <a:pt x="3395" y="15"/>
                  </a:lnTo>
                  <a:lnTo>
                    <a:pt x="3399" y="13"/>
                  </a:lnTo>
                  <a:lnTo>
                    <a:pt x="3404" y="12"/>
                  </a:lnTo>
                  <a:lnTo>
                    <a:pt x="3409" y="10"/>
                  </a:lnTo>
                  <a:lnTo>
                    <a:pt x="3416" y="10"/>
                  </a:lnTo>
                  <a:lnTo>
                    <a:pt x="3421" y="9"/>
                  </a:lnTo>
                  <a:lnTo>
                    <a:pt x="3427" y="10"/>
                  </a:lnTo>
                  <a:lnTo>
                    <a:pt x="3432" y="10"/>
                  </a:lnTo>
                  <a:lnTo>
                    <a:pt x="3439" y="12"/>
                  </a:lnTo>
                  <a:lnTo>
                    <a:pt x="3444" y="13"/>
                  </a:lnTo>
                  <a:lnTo>
                    <a:pt x="3449" y="15"/>
                  </a:lnTo>
                  <a:lnTo>
                    <a:pt x="3453" y="19"/>
                  </a:lnTo>
                  <a:lnTo>
                    <a:pt x="3459" y="22"/>
                  </a:lnTo>
                  <a:lnTo>
                    <a:pt x="3463" y="25"/>
                  </a:lnTo>
                  <a:lnTo>
                    <a:pt x="3467" y="29"/>
                  </a:lnTo>
                  <a:lnTo>
                    <a:pt x="3470" y="33"/>
                  </a:lnTo>
                  <a:lnTo>
                    <a:pt x="3473" y="37"/>
                  </a:lnTo>
                  <a:lnTo>
                    <a:pt x="3477" y="43"/>
                  </a:lnTo>
                  <a:lnTo>
                    <a:pt x="3478" y="48"/>
                  </a:lnTo>
                  <a:lnTo>
                    <a:pt x="3480" y="54"/>
                  </a:lnTo>
                  <a:lnTo>
                    <a:pt x="3480" y="60"/>
                  </a:lnTo>
                  <a:lnTo>
                    <a:pt x="3481" y="66"/>
                  </a:lnTo>
                  <a:lnTo>
                    <a:pt x="3503" y="881"/>
                  </a:lnTo>
                  <a:lnTo>
                    <a:pt x="3503" y="887"/>
                  </a:lnTo>
                  <a:lnTo>
                    <a:pt x="3502" y="893"/>
                  </a:lnTo>
                  <a:lnTo>
                    <a:pt x="3501" y="898"/>
                  </a:lnTo>
                  <a:lnTo>
                    <a:pt x="3499" y="905"/>
                  </a:lnTo>
                  <a:lnTo>
                    <a:pt x="3496" y="909"/>
                  </a:lnTo>
                  <a:lnTo>
                    <a:pt x="3493" y="914"/>
                  </a:lnTo>
                  <a:lnTo>
                    <a:pt x="3490" y="918"/>
                  </a:lnTo>
                  <a:lnTo>
                    <a:pt x="3486" y="923"/>
                  </a:lnTo>
                  <a:lnTo>
                    <a:pt x="3481" y="927"/>
                  </a:lnTo>
                  <a:lnTo>
                    <a:pt x="3477" y="930"/>
                  </a:lnTo>
                  <a:lnTo>
                    <a:pt x="3471" y="932"/>
                  </a:lnTo>
                  <a:lnTo>
                    <a:pt x="3466" y="934"/>
                  </a:lnTo>
                  <a:lnTo>
                    <a:pt x="3461" y="936"/>
                  </a:lnTo>
                  <a:lnTo>
                    <a:pt x="3456" y="937"/>
                  </a:lnTo>
                  <a:lnTo>
                    <a:pt x="3449" y="938"/>
                  </a:lnTo>
                  <a:lnTo>
                    <a:pt x="3444" y="938"/>
                  </a:lnTo>
                  <a:lnTo>
                    <a:pt x="3438" y="938"/>
                  </a:lnTo>
                  <a:lnTo>
                    <a:pt x="3432" y="937"/>
                  </a:lnTo>
                  <a:lnTo>
                    <a:pt x="3427" y="936"/>
                  </a:lnTo>
                  <a:lnTo>
                    <a:pt x="3422" y="935"/>
                  </a:lnTo>
                  <a:lnTo>
                    <a:pt x="3417" y="933"/>
                  </a:lnTo>
                  <a:lnTo>
                    <a:pt x="3412" y="930"/>
                  </a:lnTo>
                  <a:lnTo>
                    <a:pt x="3407" y="927"/>
                  </a:lnTo>
                  <a:lnTo>
                    <a:pt x="3404" y="924"/>
                  </a:lnTo>
                  <a:lnTo>
                    <a:pt x="3400" y="919"/>
                  </a:lnTo>
                  <a:lnTo>
                    <a:pt x="3397" y="915"/>
                  </a:lnTo>
                  <a:lnTo>
                    <a:pt x="3394" y="911"/>
                  </a:lnTo>
                  <a:lnTo>
                    <a:pt x="3391" y="906"/>
                  </a:lnTo>
                  <a:lnTo>
                    <a:pt x="3389" y="901"/>
                  </a:lnTo>
                  <a:lnTo>
                    <a:pt x="3388" y="895"/>
                  </a:lnTo>
                  <a:lnTo>
                    <a:pt x="3387" y="889"/>
                  </a:lnTo>
                  <a:lnTo>
                    <a:pt x="3387" y="883"/>
                  </a:lnTo>
                  <a:close/>
                  <a:moveTo>
                    <a:pt x="3842" y="622"/>
                  </a:moveTo>
                  <a:lnTo>
                    <a:pt x="3855" y="585"/>
                  </a:lnTo>
                  <a:lnTo>
                    <a:pt x="3867" y="546"/>
                  </a:lnTo>
                  <a:lnTo>
                    <a:pt x="3881" y="508"/>
                  </a:lnTo>
                  <a:lnTo>
                    <a:pt x="3894" y="471"/>
                  </a:lnTo>
                  <a:lnTo>
                    <a:pt x="3910" y="433"/>
                  </a:lnTo>
                  <a:lnTo>
                    <a:pt x="3925" y="397"/>
                  </a:lnTo>
                  <a:lnTo>
                    <a:pt x="3942" y="361"/>
                  </a:lnTo>
                  <a:lnTo>
                    <a:pt x="3959" y="324"/>
                  </a:lnTo>
                  <a:lnTo>
                    <a:pt x="3976" y="288"/>
                  </a:lnTo>
                  <a:lnTo>
                    <a:pt x="3994" y="254"/>
                  </a:lnTo>
                  <a:lnTo>
                    <a:pt x="4013" y="218"/>
                  </a:lnTo>
                  <a:lnTo>
                    <a:pt x="4033" y="183"/>
                  </a:lnTo>
                  <a:lnTo>
                    <a:pt x="4053" y="150"/>
                  </a:lnTo>
                  <a:lnTo>
                    <a:pt x="4074" y="115"/>
                  </a:lnTo>
                  <a:lnTo>
                    <a:pt x="4095" y="82"/>
                  </a:lnTo>
                  <a:lnTo>
                    <a:pt x="4117" y="48"/>
                  </a:lnTo>
                  <a:lnTo>
                    <a:pt x="4121" y="43"/>
                  </a:lnTo>
                  <a:lnTo>
                    <a:pt x="4124" y="39"/>
                  </a:lnTo>
                  <a:lnTo>
                    <a:pt x="4130" y="34"/>
                  </a:lnTo>
                  <a:lnTo>
                    <a:pt x="4135" y="30"/>
                  </a:lnTo>
                  <a:lnTo>
                    <a:pt x="4140" y="28"/>
                  </a:lnTo>
                  <a:lnTo>
                    <a:pt x="4146" y="26"/>
                  </a:lnTo>
                  <a:lnTo>
                    <a:pt x="4154" y="25"/>
                  </a:lnTo>
                  <a:lnTo>
                    <a:pt x="4161" y="25"/>
                  </a:lnTo>
                  <a:lnTo>
                    <a:pt x="4166" y="25"/>
                  </a:lnTo>
                  <a:lnTo>
                    <a:pt x="4171" y="25"/>
                  </a:lnTo>
                  <a:lnTo>
                    <a:pt x="4176" y="26"/>
                  </a:lnTo>
                  <a:lnTo>
                    <a:pt x="4180" y="27"/>
                  </a:lnTo>
                  <a:lnTo>
                    <a:pt x="4184" y="28"/>
                  </a:lnTo>
                  <a:lnTo>
                    <a:pt x="4190" y="30"/>
                  </a:lnTo>
                  <a:lnTo>
                    <a:pt x="4194" y="32"/>
                  </a:lnTo>
                  <a:lnTo>
                    <a:pt x="4198" y="34"/>
                  </a:lnTo>
                  <a:lnTo>
                    <a:pt x="4212" y="44"/>
                  </a:lnTo>
                  <a:lnTo>
                    <a:pt x="4225" y="53"/>
                  </a:lnTo>
                  <a:lnTo>
                    <a:pt x="4238" y="63"/>
                  </a:lnTo>
                  <a:lnTo>
                    <a:pt x="4250" y="73"/>
                  </a:lnTo>
                  <a:lnTo>
                    <a:pt x="4263" y="84"/>
                  </a:lnTo>
                  <a:lnTo>
                    <a:pt x="4274" y="95"/>
                  </a:lnTo>
                  <a:lnTo>
                    <a:pt x="4285" y="106"/>
                  </a:lnTo>
                  <a:lnTo>
                    <a:pt x="4296" y="118"/>
                  </a:lnTo>
                  <a:lnTo>
                    <a:pt x="4305" y="130"/>
                  </a:lnTo>
                  <a:lnTo>
                    <a:pt x="4315" y="142"/>
                  </a:lnTo>
                  <a:lnTo>
                    <a:pt x="4324" y="155"/>
                  </a:lnTo>
                  <a:lnTo>
                    <a:pt x="4332" y="169"/>
                  </a:lnTo>
                  <a:lnTo>
                    <a:pt x="4341" y="181"/>
                  </a:lnTo>
                  <a:lnTo>
                    <a:pt x="4348" y="196"/>
                  </a:lnTo>
                  <a:lnTo>
                    <a:pt x="4355" y="210"/>
                  </a:lnTo>
                  <a:lnTo>
                    <a:pt x="4362" y="224"/>
                  </a:lnTo>
                  <a:lnTo>
                    <a:pt x="4373" y="255"/>
                  </a:lnTo>
                  <a:lnTo>
                    <a:pt x="4384" y="285"/>
                  </a:lnTo>
                  <a:lnTo>
                    <a:pt x="4392" y="318"/>
                  </a:lnTo>
                  <a:lnTo>
                    <a:pt x="4400" y="350"/>
                  </a:lnTo>
                  <a:lnTo>
                    <a:pt x="4405" y="384"/>
                  </a:lnTo>
                  <a:lnTo>
                    <a:pt x="4409" y="420"/>
                  </a:lnTo>
                  <a:lnTo>
                    <a:pt x="4411" y="455"/>
                  </a:lnTo>
                  <a:lnTo>
                    <a:pt x="4412" y="492"/>
                  </a:lnTo>
                  <a:lnTo>
                    <a:pt x="4416" y="493"/>
                  </a:lnTo>
                  <a:lnTo>
                    <a:pt x="4422" y="494"/>
                  </a:lnTo>
                  <a:lnTo>
                    <a:pt x="4426" y="496"/>
                  </a:lnTo>
                  <a:lnTo>
                    <a:pt x="4429" y="498"/>
                  </a:lnTo>
                  <a:lnTo>
                    <a:pt x="4433" y="502"/>
                  </a:lnTo>
                  <a:lnTo>
                    <a:pt x="4436" y="504"/>
                  </a:lnTo>
                  <a:lnTo>
                    <a:pt x="4439" y="508"/>
                  </a:lnTo>
                  <a:lnTo>
                    <a:pt x="4443" y="511"/>
                  </a:lnTo>
                  <a:lnTo>
                    <a:pt x="4445" y="515"/>
                  </a:lnTo>
                  <a:lnTo>
                    <a:pt x="4447" y="520"/>
                  </a:lnTo>
                  <a:lnTo>
                    <a:pt x="4449" y="525"/>
                  </a:lnTo>
                  <a:lnTo>
                    <a:pt x="4451" y="530"/>
                  </a:lnTo>
                  <a:lnTo>
                    <a:pt x="4452" y="534"/>
                  </a:lnTo>
                  <a:lnTo>
                    <a:pt x="4453" y="539"/>
                  </a:lnTo>
                  <a:lnTo>
                    <a:pt x="4453" y="545"/>
                  </a:lnTo>
                  <a:lnTo>
                    <a:pt x="4453" y="551"/>
                  </a:lnTo>
                  <a:lnTo>
                    <a:pt x="4453" y="556"/>
                  </a:lnTo>
                  <a:lnTo>
                    <a:pt x="4452" y="561"/>
                  </a:lnTo>
                  <a:lnTo>
                    <a:pt x="4451" y="566"/>
                  </a:lnTo>
                  <a:lnTo>
                    <a:pt x="4450" y="571"/>
                  </a:lnTo>
                  <a:lnTo>
                    <a:pt x="4448" y="575"/>
                  </a:lnTo>
                  <a:lnTo>
                    <a:pt x="4446" y="580"/>
                  </a:lnTo>
                  <a:lnTo>
                    <a:pt x="4444" y="585"/>
                  </a:lnTo>
                  <a:lnTo>
                    <a:pt x="4441" y="589"/>
                  </a:lnTo>
                  <a:lnTo>
                    <a:pt x="4436" y="593"/>
                  </a:lnTo>
                  <a:lnTo>
                    <a:pt x="4433" y="596"/>
                  </a:lnTo>
                  <a:lnTo>
                    <a:pt x="4429" y="599"/>
                  </a:lnTo>
                  <a:lnTo>
                    <a:pt x="4425" y="602"/>
                  </a:lnTo>
                  <a:lnTo>
                    <a:pt x="4420" y="604"/>
                  </a:lnTo>
                  <a:lnTo>
                    <a:pt x="4415" y="606"/>
                  </a:lnTo>
                  <a:lnTo>
                    <a:pt x="4410" y="607"/>
                  </a:lnTo>
                  <a:lnTo>
                    <a:pt x="4405" y="608"/>
                  </a:lnTo>
                  <a:lnTo>
                    <a:pt x="4405" y="871"/>
                  </a:lnTo>
                  <a:lnTo>
                    <a:pt x="4404" y="877"/>
                  </a:lnTo>
                  <a:lnTo>
                    <a:pt x="4404" y="883"/>
                  </a:lnTo>
                  <a:lnTo>
                    <a:pt x="4402" y="889"/>
                  </a:lnTo>
                  <a:lnTo>
                    <a:pt x="4401" y="894"/>
                  </a:lnTo>
                  <a:lnTo>
                    <a:pt x="4399" y="900"/>
                  </a:lnTo>
                  <a:lnTo>
                    <a:pt x="4395" y="904"/>
                  </a:lnTo>
                  <a:lnTo>
                    <a:pt x="4392" y="908"/>
                  </a:lnTo>
                  <a:lnTo>
                    <a:pt x="4388" y="912"/>
                  </a:lnTo>
                  <a:lnTo>
                    <a:pt x="4384" y="915"/>
                  </a:lnTo>
                  <a:lnTo>
                    <a:pt x="4379" y="918"/>
                  </a:lnTo>
                  <a:lnTo>
                    <a:pt x="4374" y="922"/>
                  </a:lnTo>
                  <a:lnTo>
                    <a:pt x="4369" y="924"/>
                  </a:lnTo>
                  <a:lnTo>
                    <a:pt x="4363" y="925"/>
                  </a:lnTo>
                  <a:lnTo>
                    <a:pt x="4358" y="926"/>
                  </a:lnTo>
                  <a:lnTo>
                    <a:pt x="4351" y="927"/>
                  </a:lnTo>
                  <a:lnTo>
                    <a:pt x="4345" y="927"/>
                  </a:lnTo>
                  <a:lnTo>
                    <a:pt x="4340" y="927"/>
                  </a:lnTo>
                  <a:lnTo>
                    <a:pt x="4334" y="926"/>
                  </a:lnTo>
                  <a:lnTo>
                    <a:pt x="4329" y="925"/>
                  </a:lnTo>
                  <a:lnTo>
                    <a:pt x="4324" y="924"/>
                  </a:lnTo>
                  <a:lnTo>
                    <a:pt x="4319" y="922"/>
                  </a:lnTo>
                  <a:lnTo>
                    <a:pt x="4315" y="918"/>
                  </a:lnTo>
                  <a:lnTo>
                    <a:pt x="4309" y="915"/>
                  </a:lnTo>
                  <a:lnTo>
                    <a:pt x="4305" y="911"/>
                  </a:lnTo>
                  <a:lnTo>
                    <a:pt x="4302" y="908"/>
                  </a:lnTo>
                  <a:lnTo>
                    <a:pt x="4298" y="904"/>
                  </a:lnTo>
                  <a:lnTo>
                    <a:pt x="4296" y="898"/>
                  </a:lnTo>
                  <a:lnTo>
                    <a:pt x="4292" y="893"/>
                  </a:lnTo>
                  <a:lnTo>
                    <a:pt x="4291" y="888"/>
                  </a:lnTo>
                  <a:lnTo>
                    <a:pt x="4289" y="883"/>
                  </a:lnTo>
                  <a:lnTo>
                    <a:pt x="4289" y="876"/>
                  </a:lnTo>
                  <a:lnTo>
                    <a:pt x="4288" y="871"/>
                  </a:lnTo>
                  <a:lnTo>
                    <a:pt x="4288" y="613"/>
                  </a:lnTo>
                  <a:lnTo>
                    <a:pt x="4270" y="613"/>
                  </a:lnTo>
                  <a:lnTo>
                    <a:pt x="4252" y="614"/>
                  </a:lnTo>
                  <a:lnTo>
                    <a:pt x="4232" y="616"/>
                  </a:lnTo>
                  <a:lnTo>
                    <a:pt x="4213" y="618"/>
                  </a:lnTo>
                  <a:lnTo>
                    <a:pt x="4192" y="621"/>
                  </a:lnTo>
                  <a:lnTo>
                    <a:pt x="4172" y="624"/>
                  </a:lnTo>
                  <a:lnTo>
                    <a:pt x="4151" y="629"/>
                  </a:lnTo>
                  <a:lnTo>
                    <a:pt x="4129" y="634"/>
                  </a:lnTo>
                  <a:lnTo>
                    <a:pt x="4085" y="646"/>
                  </a:lnTo>
                  <a:lnTo>
                    <a:pt x="4039" y="661"/>
                  </a:lnTo>
                  <a:lnTo>
                    <a:pt x="3991" y="678"/>
                  </a:lnTo>
                  <a:lnTo>
                    <a:pt x="3943" y="698"/>
                  </a:lnTo>
                  <a:lnTo>
                    <a:pt x="3939" y="716"/>
                  </a:lnTo>
                  <a:lnTo>
                    <a:pt x="3934" y="735"/>
                  </a:lnTo>
                  <a:lnTo>
                    <a:pt x="3930" y="755"/>
                  </a:lnTo>
                  <a:lnTo>
                    <a:pt x="3926" y="776"/>
                  </a:lnTo>
                  <a:lnTo>
                    <a:pt x="3923" y="798"/>
                  </a:lnTo>
                  <a:lnTo>
                    <a:pt x="3919" y="822"/>
                  </a:lnTo>
                  <a:lnTo>
                    <a:pt x="3914" y="847"/>
                  </a:lnTo>
                  <a:lnTo>
                    <a:pt x="3911" y="873"/>
                  </a:lnTo>
                  <a:lnTo>
                    <a:pt x="3910" y="879"/>
                  </a:lnTo>
                  <a:lnTo>
                    <a:pt x="3909" y="884"/>
                  </a:lnTo>
                  <a:lnTo>
                    <a:pt x="3907" y="889"/>
                  </a:lnTo>
                  <a:lnTo>
                    <a:pt x="3905" y="894"/>
                  </a:lnTo>
                  <a:lnTo>
                    <a:pt x="3903" y="898"/>
                  </a:lnTo>
                  <a:lnTo>
                    <a:pt x="3900" y="903"/>
                  </a:lnTo>
                  <a:lnTo>
                    <a:pt x="3897" y="906"/>
                  </a:lnTo>
                  <a:lnTo>
                    <a:pt x="3892" y="909"/>
                  </a:lnTo>
                  <a:lnTo>
                    <a:pt x="3888" y="912"/>
                  </a:lnTo>
                  <a:lnTo>
                    <a:pt x="3884" y="915"/>
                  </a:lnTo>
                  <a:lnTo>
                    <a:pt x="3880" y="917"/>
                  </a:lnTo>
                  <a:lnTo>
                    <a:pt x="3875" y="918"/>
                  </a:lnTo>
                  <a:lnTo>
                    <a:pt x="3870" y="921"/>
                  </a:lnTo>
                  <a:lnTo>
                    <a:pt x="3865" y="922"/>
                  </a:lnTo>
                  <a:lnTo>
                    <a:pt x="3860" y="922"/>
                  </a:lnTo>
                  <a:lnTo>
                    <a:pt x="3855" y="922"/>
                  </a:lnTo>
                  <a:lnTo>
                    <a:pt x="3848" y="922"/>
                  </a:lnTo>
                  <a:lnTo>
                    <a:pt x="3842" y="921"/>
                  </a:lnTo>
                  <a:lnTo>
                    <a:pt x="3837" y="919"/>
                  </a:lnTo>
                  <a:lnTo>
                    <a:pt x="3831" y="917"/>
                  </a:lnTo>
                  <a:lnTo>
                    <a:pt x="3826" y="915"/>
                  </a:lnTo>
                  <a:lnTo>
                    <a:pt x="3821" y="912"/>
                  </a:lnTo>
                  <a:lnTo>
                    <a:pt x="3817" y="909"/>
                  </a:lnTo>
                  <a:lnTo>
                    <a:pt x="3813" y="905"/>
                  </a:lnTo>
                  <a:lnTo>
                    <a:pt x="3808" y="900"/>
                  </a:lnTo>
                  <a:lnTo>
                    <a:pt x="3804" y="894"/>
                  </a:lnTo>
                  <a:lnTo>
                    <a:pt x="3802" y="889"/>
                  </a:lnTo>
                  <a:lnTo>
                    <a:pt x="3799" y="884"/>
                  </a:lnTo>
                  <a:lnTo>
                    <a:pt x="3798" y="877"/>
                  </a:lnTo>
                  <a:lnTo>
                    <a:pt x="3796" y="871"/>
                  </a:lnTo>
                  <a:lnTo>
                    <a:pt x="3796" y="865"/>
                  </a:lnTo>
                  <a:lnTo>
                    <a:pt x="3795" y="858"/>
                  </a:lnTo>
                  <a:lnTo>
                    <a:pt x="3796" y="854"/>
                  </a:lnTo>
                  <a:lnTo>
                    <a:pt x="3796" y="850"/>
                  </a:lnTo>
                  <a:lnTo>
                    <a:pt x="3797" y="845"/>
                  </a:lnTo>
                  <a:lnTo>
                    <a:pt x="3797" y="840"/>
                  </a:lnTo>
                  <a:lnTo>
                    <a:pt x="3798" y="834"/>
                  </a:lnTo>
                  <a:lnTo>
                    <a:pt x="3799" y="829"/>
                  </a:lnTo>
                  <a:lnTo>
                    <a:pt x="3800" y="823"/>
                  </a:lnTo>
                  <a:lnTo>
                    <a:pt x="3801" y="817"/>
                  </a:lnTo>
                  <a:lnTo>
                    <a:pt x="3802" y="810"/>
                  </a:lnTo>
                  <a:lnTo>
                    <a:pt x="3803" y="804"/>
                  </a:lnTo>
                  <a:lnTo>
                    <a:pt x="3804" y="799"/>
                  </a:lnTo>
                  <a:lnTo>
                    <a:pt x="3805" y="792"/>
                  </a:lnTo>
                  <a:lnTo>
                    <a:pt x="3805" y="788"/>
                  </a:lnTo>
                  <a:lnTo>
                    <a:pt x="3806" y="783"/>
                  </a:lnTo>
                  <a:lnTo>
                    <a:pt x="3806" y="779"/>
                  </a:lnTo>
                  <a:lnTo>
                    <a:pt x="3806" y="775"/>
                  </a:lnTo>
                  <a:lnTo>
                    <a:pt x="3803" y="777"/>
                  </a:lnTo>
                  <a:lnTo>
                    <a:pt x="3799" y="779"/>
                  </a:lnTo>
                  <a:lnTo>
                    <a:pt x="3795" y="780"/>
                  </a:lnTo>
                  <a:lnTo>
                    <a:pt x="3791" y="781"/>
                  </a:lnTo>
                  <a:lnTo>
                    <a:pt x="3785" y="783"/>
                  </a:lnTo>
                  <a:lnTo>
                    <a:pt x="3780" y="784"/>
                  </a:lnTo>
                  <a:lnTo>
                    <a:pt x="3774" y="785"/>
                  </a:lnTo>
                  <a:lnTo>
                    <a:pt x="3767" y="786"/>
                  </a:lnTo>
                  <a:lnTo>
                    <a:pt x="3762" y="786"/>
                  </a:lnTo>
                  <a:lnTo>
                    <a:pt x="3757" y="785"/>
                  </a:lnTo>
                  <a:lnTo>
                    <a:pt x="3752" y="784"/>
                  </a:lnTo>
                  <a:lnTo>
                    <a:pt x="3746" y="782"/>
                  </a:lnTo>
                  <a:lnTo>
                    <a:pt x="3742" y="780"/>
                  </a:lnTo>
                  <a:lnTo>
                    <a:pt x="3737" y="777"/>
                  </a:lnTo>
                  <a:lnTo>
                    <a:pt x="3733" y="772"/>
                  </a:lnTo>
                  <a:lnTo>
                    <a:pt x="3729" y="769"/>
                  </a:lnTo>
                  <a:lnTo>
                    <a:pt x="3724" y="765"/>
                  </a:lnTo>
                  <a:lnTo>
                    <a:pt x="3720" y="760"/>
                  </a:lnTo>
                  <a:lnTo>
                    <a:pt x="3717" y="756"/>
                  </a:lnTo>
                  <a:lnTo>
                    <a:pt x="3714" y="750"/>
                  </a:lnTo>
                  <a:lnTo>
                    <a:pt x="3712" y="745"/>
                  </a:lnTo>
                  <a:lnTo>
                    <a:pt x="3711" y="741"/>
                  </a:lnTo>
                  <a:lnTo>
                    <a:pt x="3710" y="735"/>
                  </a:lnTo>
                  <a:lnTo>
                    <a:pt x="3709" y="729"/>
                  </a:lnTo>
                  <a:lnTo>
                    <a:pt x="3710" y="725"/>
                  </a:lnTo>
                  <a:lnTo>
                    <a:pt x="3711" y="720"/>
                  </a:lnTo>
                  <a:lnTo>
                    <a:pt x="3712" y="716"/>
                  </a:lnTo>
                  <a:lnTo>
                    <a:pt x="3714" y="711"/>
                  </a:lnTo>
                  <a:lnTo>
                    <a:pt x="3716" y="706"/>
                  </a:lnTo>
                  <a:lnTo>
                    <a:pt x="3719" y="702"/>
                  </a:lnTo>
                  <a:lnTo>
                    <a:pt x="3722" y="698"/>
                  </a:lnTo>
                  <a:lnTo>
                    <a:pt x="3725" y="694"/>
                  </a:lnTo>
                  <a:lnTo>
                    <a:pt x="3730" y="690"/>
                  </a:lnTo>
                  <a:lnTo>
                    <a:pt x="3733" y="685"/>
                  </a:lnTo>
                  <a:lnTo>
                    <a:pt x="3737" y="681"/>
                  </a:lnTo>
                  <a:lnTo>
                    <a:pt x="3741" y="678"/>
                  </a:lnTo>
                  <a:lnTo>
                    <a:pt x="3745" y="674"/>
                  </a:lnTo>
                  <a:lnTo>
                    <a:pt x="3751" y="671"/>
                  </a:lnTo>
                  <a:lnTo>
                    <a:pt x="3755" y="667"/>
                  </a:lnTo>
                  <a:lnTo>
                    <a:pt x="3760" y="664"/>
                  </a:lnTo>
                  <a:lnTo>
                    <a:pt x="3764" y="661"/>
                  </a:lnTo>
                  <a:lnTo>
                    <a:pt x="3770" y="658"/>
                  </a:lnTo>
                  <a:lnTo>
                    <a:pt x="3775" y="655"/>
                  </a:lnTo>
                  <a:lnTo>
                    <a:pt x="3781" y="652"/>
                  </a:lnTo>
                  <a:lnTo>
                    <a:pt x="3786" y="649"/>
                  </a:lnTo>
                  <a:lnTo>
                    <a:pt x="3793" y="645"/>
                  </a:lnTo>
                  <a:lnTo>
                    <a:pt x="3799" y="643"/>
                  </a:lnTo>
                  <a:lnTo>
                    <a:pt x="3805" y="640"/>
                  </a:lnTo>
                  <a:lnTo>
                    <a:pt x="3812" y="637"/>
                  </a:lnTo>
                  <a:lnTo>
                    <a:pt x="3817" y="634"/>
                  </a:lnTo>
                  <a:lnTo>
                    <a:pt x="3822" y="632"/>
                  </a:lnTo>
                  <a:lnTo>
                    <a:pt x="3827" y="630"/>
                  </a:lnTo>
                  <a:lnTo>
                    <a:pt x="3831" y="628"/>
                  </a:lnTo>
                  <a:lnTo>
                    <a:pt x="3836" y="625"/>
                  </a:lnTo>
                  <a:lnTo>
                    <a:pt x="3839" y="624"/>
                  </a:lnTo>
                  <a:lnTo>
                    <a:pt x="3842" y="622"/>
                  </a:lnTo>
                  <a:close/>
                  <a:moveTo>
                    <a:pt x="4297" y="494"/>
                  </a:moveTo>
                  <a:lnTo>
                    <a:pt x="4296" y="470"/>
                  </a:lnTo>
                  <a:lnTo>
                    <a:pt x="4296" y="448"/>
                  </a:lnTo>
                  <a:lnTo>
                    <a:pt x="4295" y="426"/>
                  </a:lnTo>
                  <a:lnTo>
                    <a:pt x="4294" y="406"/>
                  </a:lnTo>
                  <a:lnTo>
                    <a:pt x="4292" y="388"/>
                  </a:lnTo>
                  <a:lnTo>
                    <a:pt x="4290" y="370"/>
                  </a:lnTo>
                  <a:lnTo>
                    <a:pt x="4288" y="355"/>
                  </a:lnTo>
                  <a:lnTo>
                    <a:pt x="4286" y="339"/>
                  </a:lnTo>
                  <a:lnTo>
                    <a:pt x="4283" y="325"/>
                  </a:lnTo>
                  <a:lnTo>
                    <a:pt x="4280" y="312"/>
                  </a:lnTo>
                  <a:lnTo>
                    <a:pt x="4275" y="297"/>
                  </a:lnTo>
                  <a:lnTo>
                    <a:pt x="4269" y="283"/>
                  </a:lnTo>
                  <a:lnTo>
                    <a:pt x="4263" y="270"/>
                  </a:lnTo>
                  <a:lnTo>
                    <a:pt x="4255" y="256"/>
                  </a:lnTo>
                  <a:lnTo>
                    <a:pt x="4246" y="242"/>
                  </a:lnTo>
                  <a:lnTo>
                    <a:pt x="4237" y="229"/>
                  </a:lnTo>
                  <a:lnTo>
                    <a:pt x="4232" y="221"/>
                  </a:lnTo>
                  <a:lnTo>
                    <a:pt x="4225" y="214"/>
                  </a:lnTo>
                  <a:lnTo>
                    <a:pt x="4219" y="207"/>
                  </a:lnTo>
                  <a:lnTo>
                    <a:pt x="4213" y="199"/>
                  </a:lnTo>
                  <a:lnTo>
                    <a:pt x="4205" y="191"/>
                  </a:lnTo>
                  <a:lnTo>
                    <a:pt x="4198" y="183"/>
                  </a:lnTo>
                  <a:lnTo>
                    <a:pt x="4191" y="175"/>
                  </a:lnTo>
                  <a:lnTo>
                    <a:pt x="4183" y="167"/>
                  </a:lnTo>
                  <a:lnTo>
                    <a:pt x="4153" y="215"/>
                  </a:lnTo>
                  <a:lnTo>
                    <a:pt x="4123" y="263"/>
                  </a:lnTo>
                  <a:lnTo>
                    <a:pt x="4096" y="312"/>
                  </a:lnTo>
                  <a:lnTo>
                    <a:pt x="4071" y="361"/>
                  </a:lnTo>
                  <a:lnTo>
                    <a:pt x="4047" y="409"/>
                  </a:lnTo>
                  <a:lnTo>
                    <a:pt x="4025" y="459"/>
                  </a:lnTo>
                  <a:lnTo>
                    <a:pt x="4004" y="509"/>
                  </a:lnTo>
                  <a:lnTo>
                    <a:pt x="3984" y="558"/>
                  </a:lnTo>
                  <a:lnTo>
                    <a:pt x="4003" y="551"/>
                  </a:lnTo>
                  <a:lnTo>
                    <a:pt x="4022" y="545"/>
                  </a:lnTo>
                  <a:lnTo>
                    <a:pt x="4040" y="538"/>
                  </a:lnTo>
                  <a:lnTo>
                    <a:pt x="4060" y="532"/>
                  </a:lnTo>
                  <a:lnTo>
                    <a:pt x="4079" y="526"/>
                  </a:lnTo>
                  <a:lnTo>
                    <a:pt x="4099" y="520"/>
                  </a:lnTo>
                  <a:lnTo>
                    <a:pt x="4119" y="516"/>
                  </a:lnTo>
                  <a:lnTo>
                    <a:pt x="4139" y="511"/>
                  </a:lnTo>
                  <a:lnTo>
                    <a:pt x="4160" y="508"/>
                  </a:lnTo>
                  <a:lnTo>
                    <a:pt x="4180" y="504"/>
                  </a:lnTo>
                  <a:lnTo>
                    <a:pt x="4199" y="501"/>
                  </a:lnTo>
                  <a:lnTo>
                    <a:pt x="4219" y="498"/>
                  </a:lnTo>
                  <a:lnTo>
                    <a:pt x="4239" y="496"/>
                  </a:lnTo>
                  <a:lnTo>
                    <a:pt x="4258" y="495"/>
                  </a:lnTo>
                  <a:lnTo>
                    <a:pt x="4277" y="494"/>
                  </a:lnTo>
                  <a:lnTo>
                    <a:pt x="4297" y="494"/>
                  </a:lnTo>
                  <a:close/>
                  <a:moveTo>
                    <a:pt x="5155" y="190"/>
                  </a:moveTo>
                  <a:lnTo>
                    <a:pt x="5137" y="180"/>
                  </a:lnTo>
                  <a:lnTo>
                    <a:pt x="5120" y="172"/>
                  </a:lnTo>
                  <a:lnTo>
                    <a:pt x="5102" y="165"/>
                  </a:lnTo>
                  <a:lnTo>
                    <a:pt x="5083" y="158"/>
                  </a:lnTo>
                  <a:lnTo>
                    <a:pt x="5065" y="154"/>
                  </a:lnTo>
                  <a:lnTo>
                    <a:pt x="5047" y="151"/>
                  </a:lnTo>
                  <a:lnTo>
                    <a:pt x="5029" y="149"/>
                  </a:lnTo>
                  <a:lnTo>
                    <a:pt x="5010" y="148"/>
                  </a:lnTo>
                  <a:lnTo>
                    <a:pt x="4989" y="149"/>
                  </a:lnTo>
                  <a:lnTo>
                    <a:pt x="4969" y="151"/>
                  </a:lnTo>
                  <a:lnTo>
                    <a:pt x="4949" y="155"/>
                  </a:lnTo>
                  <a:lnTo>
                    <a:pt x="4930" y="159"/>
                  </a:lnTo>
                  <a:lnTo>
                    <a:pt x="4912" y="167"/>
                  </a:lnTo>
                  <a:lnTo>
                    <a:pt x="4894" y="174"/>
                  </a:lnTo>
                  <a:lnTo>
                    <a:pt x="4876" y="183"/>
                  </a:lnTo>
                  <a:lnTo>
                    <a:pt x="4860" y="194"/>
                  </a:lnTo>
                  <a:lnTo>
                    <a:pt x="4844" y="207"/>
                  </a:lnTo>
                  <a:lnTo>
                    <a:pt x="4828" y="219"/>
                  </a:lnTo>
                  <a:lnTo>
                    <a:pt x="4814" y="233"/>
                  </a:lnTo>
                  <a:lnTo>
                    <a:pt x="4801" y="247"/>
                  </a:lnTo>
                  <a:lnTo>
                    <a:pt x="4788" y="263"/>
                  </a:lnTo>
                  <a:lnTo>
                    <a:pt x="4778" y="279"/>
                  </a:lnTo>
                  <a:lnTo>
                    <a:pt x="4767" y="297"/>
                  </a:lnTo>
                  <a:lnTo>
                    <a:pt x="4758" y="315"/>
                  </a:lnTo>
                  <a:lnTo>
                    <a:pt x="4748" y="334"/>
                  </a:lnTo>
                  <a:lnTo>
                    <a:pt x="4741" y="354"/>
                  </a:lnTo>
                  <a:lnTo>
                    <a:pt x="4735" y="372"/>
                  </a:lnTo>
                  <a:lnTo>
                    <a:pt x="4729" y="392"/>
                  </a:lnTo>
                  <a:lnTo>
                    <a:pt x="4725" y="412"/>
                  </a:lnTo>
                  <a:lnTo>
                    <a:pt x="4722" y="432"/>
                  </a:lnTo>
                  <a:lnTo>
                    <a:pt x="4720" y="453"/>
                  </a:lnTo>
                  <a:lnTo>
                    <a:pt x="4719" y="474"/>
                  </a:lnTo>
                  <a:lnTo>
                    <a:pt x="4721" y="495"/>
                  </a:lnTo>
                  <a:lnTo>
                    <a:pt x="4724" y="516"/>
                  </a:lnTo>
                  <a:lnTo>
                    <a:pt x="4728" y="537"/>
                  </a:lnTo>
                  <a:lnTo>
                    <a:pt x="4732" y="557"/>
                  </a:lnTo>
                  <a:lnTo>
                    <a:pt x="4738" y="578"/>
                  </a:lnTo>
                  <a:lnTo>
                    <a:pt x="4744" y="597"/>
                  </a:lnTo>
                  <a:lnTo>
                    <a:pt x="4751" y="617"/>
                  </a:lnTo>
                  <a:lnTo>
                    <a:pt x="4759" y="637"/>
                  </a:lnTo>
                  <a:lnTo>
                    <a:pt x="4767" y="656"/>
                  </a:lnTo>
                  <a:lnTo>
                    <a:pt x="4778" y="674"/>
                  </a:lnTo>
                  <a:lnTo>
                    <a:pt x="4788" y="691"/>
                  </a:lnTo>
                  <a:lnTo>
                    <a:pt x="4799" y="707"/>
                  </a:lnTo>
                  <a:lnTo>
                    <a:pt x="4811" y="723"/>
                  </a:lnTo>
                  <a:lnTo>
                    <a:pt x="4824" y="738"/>
                  </a:lnTo>
                  <a:lnTo>
                    <a:pt x="4839" y="751"/>
                  </a:lnTo>
                  <a:lnTo>
                    <a:pt x="4853" y="764"/>
                  </a:lnTo>
                  <a:lnTo>
                    <a:pt x="4869" y="776"/>
                  </a:lnTo>
                  <a:lnTo>
                    <a:pt x="4886" y="786"/>
                  </a:lnTo>
                  <a:lnTo>
                    <a:pt x="4904" y="795"/>
                  </a:lnTo>
                  <a:lnTo>
                    <a:pt x="4921" y="802"/>
                  </a:lnTo>
                  <a:lnTo>
                    <a:pt x="4940" y="807"/>
                  </a:lnTo>
                  <a:lnTo>
                    <a:pt x="4960" y="810"/>
                  </a:lnTo>
                  <a:lnTo>
                    <a:pt x="4981" y="813"/>
                  </a:lnTo>
                  <a:lnTo>
                    <a:pt x="5002" y="813"/>
                  </a:lnTo>
                  <a:lnTo>
                    <a:pt x="5030" y="812"/>
                  </a:lnTo>
                  <a:lnTo>
                    <a:pt x="5055" y="810"/>
                  </a:lnTo>
                  <a:lnTo>
                    <a:pt x="5079" y="808"/>
                  </a:lnTo>
                  <a:lnTo>
                    <a:pt x="5101" y="804"/>
                  </a:lnTo>
                  <a:lnTo>
                    <a:pt x="5121" y="799"/>
                  </a:lnTo>
                  <a:lnTo>
                    <a:pt x="5140" y="793"/>
                  </a:lnTo>
                  <a:lnTo>
                    <a:pt x="5157" y="786"/>
                  </a:lnTo>
                  <a:lnTo>
                    <a:pt x="5171" y="779"/>
                  </a:lnTo>
                  <a:lnTo>
                    <a:pt x="5185" y="770"/>
                  </a:lnTo>
                  <a:lnTo>
                    <a:pt x="5196" y="760"/>
                  </a:lnTo>
                  <a:lnTo>
                    <a:pt x="5206" y="749"/>
                  </a:lnTo>
                  <a:lnTo>
                    <a:pt x="5213" y="739"/>
                  </a:lnTo>
                  <a:lnTo>
                    <a:pt x="5220" y="726"/>
                  </a:lnTo>
                  <a:lnTo>
                    <a:pt x="5224" y="713"/>
                  </a:lnTo>
                  <a:lnTo>
                    <a:pt x="5227" y="698"/>
                  </a:lnTo>
                  <a:lnTo>
                    <a:pt x="5228" y="683"/>
                  </a:lnTo>
                  <a:lnTo>
                    <a:pt x="5228" y="679"/>
                  </a:lnTo>
                  <a:lnTo>
                    <a:pt x="5227" y="675"/>
                  </a:lnTo>
                  <a:lnTo>
                    <a:pt x="5227" y="671"/>
                  </a:lnTo>
                  <a:lnTo>
                    <a:pt x="5227" y="666"/>
                  </a:lnTo>
                  <a:lnTo>
                    <a:pt x="5226" y="662"/>
                  </a:lnTo>
                  <a:lnTo>
                    <a:pt x="5226" y="658"/>
                  </a:lnTo>
                  <a:lnTo>
                    <a:pt x="5225" y="654"/>
                  </a:lnTo>
                  <a:lnTo>
                    <a:pt x="5224" y="649"/>
                  </a:lnTo>
                  <a:lnTo>
                    <a:pt x="5222" y="642"/>
                  </a:lnTo>
                  <a:lnTo>
                    <a:pt x="5220" y="637"/>
                  </a:lnTo>
                  <a:lnTo>
                    <a:pt x="5217" y="632"/>
                  </a:lnTo>
                  <a:lnTo>
                    <a:pt x="5212" y="627"/>
                  </a:lnTo>
                  <a:lnTo>
                    <a:pt x="5208" y="621"/>
                  </a:lnTo>
                  <a:lnTo>
                    <a:pt x="5204" y="617"/>
                  </a:lnTo>
                  <a:lnTo>
                    <a:pt x="5199" y="614"/>
                  </a:lnTo>
                  <a:lnTo>
                    <a:pt x="5192" y="611"/>
                  </a:lnTo>
                  <a:lnTo>
                    <a:pt x="5186" y="608"/>
                  </a:lnTo>
                  <a:lnTo>
                    <a:pt x="5180" y="604"/>
                  </a:lnTo>
                  <a:lnTo>
                    <a:pt x="5171" y="602"/>
                  </a:lnTo>
                  <a:lnTo>
                    <a:pt x="5164" y="600"/>
                  </a:lnTo>
                  <a:lnTo>
                    <a:pt x="5146" y="598"/>
                  </a:lnTo>
                  <a:lnTo>
                    <a:pt x="5126" y="597"/>
                  </a:lnTo>
                  <a:lnTo>
                    <a:pt x="5119" y="597"/>
                  </a:lnTo>
                  <a:lnTo>
                    <a:pt x="5112" y="598"/>
                  </a:lnTo>
                  <a:lnTo>
                    <a:pt x="5105" y="598"/>
                  </a:lnTo>
                  <a:lnTo>
                    <a:pt x="5098" y="599"/>
                  </a:lnTo>
                  <a:lnTo>
                    <a:pt x="5092" y="600"/>
                  </a:lnTo>
                  <a:lnTo>
                    <a:pt x="5084" y="601"/>
                  </a:lnTo>
                  <a:lnTo>
                    <a:pt x="5078" y="602"/>
                  </a:lnTo>
                  <a:lnTo>
                    <a:pt x="5072" y="604"/>
                  </a:lnTo>
                  <a:lnTo>
                    <a:pt x="5064" y="606"/>
                  </a:lnTo>
                  <a:lnTo>
                    <a:pt x="5057" y="608"/>
                  </a:lnTo>
                  <a:lnTo>
                    <a:pt x="5050" y="610"/>
                  </a:lnTo>
                  <a:lnTo>
                    <a:pt x="5042" y="613"/>
                  </a:lnTo>
                  <a:lnTo>
                    <a:pt x="5034" y="615"/>
                  </a:lnTo>
                  <a:lnTo>
                    <a:pt x="5025" y="618"/>
                  </a:lnTo>
                  <a:lnTo>
                    <a:pt x="5017" y="621"/>
                  </a:lnTo>
                  <a:lnTo>
                    <a:pt x="5008" y="624"/>
                  </a:lnTo>
                  <a:lnTo>
                    <a:pt x="4998" y="628"/>
                  </a:lnTo>
                  <a:lnTo>
                    <a:pt x="4990" y="630"/>
                  </a:lnTo>
                  <a:lnTo>
                    <a:pt x="4982" y="633"/>
                  </a:lnTo>
                  <a:lnTo>
                    <a:pt x="4975" y="635"/>
                  </a:lnTo>
                  <a:lnTo>
                    <a:pt x="4968" y="638"/>
                  </a:lnTo>
                  <a:lnTo>
                    <a:pt x="4961" y="639"/>
                  </a:lnTo>
                  <a:lnTo>
                    <a:pt x="4956" y="641"/>
                  </a:lnTo>
                  <a:lnTo>
                    <a:pt x="4951" y="643"/>
                  </a:lnTo>
                  <a:lnTo>
                    <a:pt x="4947" y="644"/>
                  </a:lnTo>
                  <a:lnTo>
                    <a:pt x="4941" y="645"/>
                  </a:lnTo>
                  <a:lnTo>
                    <a:pt x="4936" y="648"/>
                  </a:lnTo>
                  <a:lnTo>
                    <a:pt x="4930" y="649"/>
                  </a:lnTo>
                  <a:lnTo>
                    <a:pt x="4925" y="650"/>
                  </a:lnTo>
                  <a:lnTo>
                    <a:pt x="4919" y="650"/>
                  </a:lnTo>
                  <a:lnTo>
                    <a:pt x="4913" y="651"/>
                  </a:lnTo>
                  <a:lnTo>
                    <a:pt x="4907" y="652"/>
                  </a:lnTo>
                  <a:lnTo>
                    <a:pt x="4897" y="650"/>
                  </a:lnTo>
                  <a:lnTo>
                    <a:pt x="4889" y="645"/>
                  </a:lnTo>
                  <a:lnTo>
                    <a:pt x="4882" y="641"/>
                  </a:lnTo>
                  <a:lnTo>
                    <a:pt x="4875" y="636"/>
                  </a:lnTo>
                  <a:lnTo>
                    <a:pt x="4870" y="629"/>
                  </a:lnTo>
                  <a:lnTo>
                    <a:pt x="4865" y="620"/>
                  </a:lnTo>
                  <a:lnTo>
                    <a:pt x="4861" y="611"/>
                  </a:lnTo>
                  <a:lnTo>
                    <a:pt x="4857" y="600"/>
                  </a:lnTo>
                  <a:lnTo>
                    <a:pt x="4860" y="592"/>
                  </a:lnTo>
                  <a:lnTo>
                    <a:pt x="4862" y="585"/>
                  </a:lnTo>
                  <a:lnTo>
                    <a:pt x="4865" y="577"/>
                  </a:lnTo>
                  <a:lnTo>
                    <a:pt x="4868" y="571"/>
                  </a:lnTo>
                  <a:lnTo>
                    <a:pt x="4873" y="565"/>
                  </a:lnTo>
                  <a:lnTo>
                    <a:pt x="4878" y="559"/>
                  </a:lnTo>
                  <a:lnTo>
                    <a:pt x="4885" y="555"/>
                  </a:lnTo>
                  <a:lnTo>
                    <a:pt x="4892" y="551"/>
                  </a:lnTo>
                  <a:lnTo>
                    <a:pt x="4920" y="534"/>
                  </a:lnTo>
                  <a:lnTo>
                    <a:pt x="4949" y="519"/>
                  </a:lnTo>
                  <a:lnTo>
                    <a:pt x="4977" y="507"/>
                  </a:lnTo>
                  <a:lnTo>
                    <a:pt x="5004" y="497"/>
                  </a:lnTo>
                  <a:lnTo>
                    <a:pt x="5033" y="489"/>
                  </a:lnTo>
                  <a:lnTo>
                    <a:pt x="5060" y="484"/>
                  </a:lnTo>
                  <a:lnTo>
                    <a:pt x="5073" y="482"/>
                  </a:lnTo>
                  <a:lnTo>
                    <a:pt x="5086" y="481"/>
                  </a:lnTo>
                  <a:lnTo>
                    <a:pt x="5100" y="480"/>
                  </a:lnTo>
                  <a:lnTo>
                    <a:pt x="5114" y="480"/>
                  </a:lnTo>
                  <a:lnTo>
                    <a:pt x="5128" y="480"/>
                  </a:lnTo>
                  <a:lnTo>
                    <a:pt x="5143" y="481"/>
                  </a:lnTo>
                  <a:lnTo>
                    <a:pt x="5158" y="483"/>
                  </a:lnTo>
                  <a:lnTo>
                    <a:pt x="5172" y="486"/>
                  </a:lnTo>
                  <a:lnTo>
                    <a:pt x="5186" y="490"/>
                  </a:lnTo>
                  <a:lnTo>
                    <a:pt x="5200" y="494"/>
                  </a:lnTo>
                  <a:lnTo>
                    <a:pt x="5213" y="501"/>
                  </a:lnTo>
                  <a:lnTo>
                    <a:pt x="5227" y="507"/>
                  </a:lnTo>
                  <a:lnTo>
                    <a:pt x="5241" y="514"/>
                  </a:lnTo>
                  <a:lnTo>
                    <a:pt x="5253" y="522"/>
                  </a:lnTo>
                  <a:lnTo>
                    <a:pt x="5265" y="530"/>
                  </a:lnTo>
                  <a:lnTo>
                    <a:pt x="5276" y="539"/>
                  </a:lnTo>
                  <a:lnTo>
                    <a:pt x="5286" y="549"/>
                  </a:lnTo>
                  <a:lnTo>
                    <a:pt x="5296" y="559"/>
                  </a:lnTo>
                  <a:lnTo>
                    <a:pt x="5305" y="571"/>
                  </a:lnTo>
                  <a:lnTo>
                    <a:pt x="5314" y="582"/>
                  </a:lnTo>
                  <a:lnTo>
                    <a:pt x="5322" y="595"/>
                  </a:lnTo>
                  <a:lnTo>
                    <a:pt x="5328" y="608"/>
                  </a:lnTo>
                  <a:lnTo>
                    <a:pt x="5333" y="621"/>
                  </a:lnTo>
                  <a:lnTo>
                    <a:pt x="5338" y="634"/>
                  </a:lnTo>
                  <a:lnTo>
                    <a:pt x="5342" y="648"/>
                  </a:lnTo>
                  <a:lnTo>
                    <a:pt x="5344" y="661"/>
                  </a:lnTo>
                  <a:lnTo>
                    <a:pt x="5346" y="676"/>
                  </a:lnTo>
                  <a:lnTo>
                    <a:pt x="5346" y="691"/>
                  </a:lnTo>
                  <a:lnTo>
                    <a:pt x="5346" y="703"/>
                  </a:lnTo>
                  <a:lnTo>
                    <a:pt x="5345" y="716"/>
                  </a:lnTo>
                  <a:lnTo>
                    <a:pt x="5343" y="728"/>
                  </a:lnTo>
                  <a:lnTo>
                    <a:pt x="5339" y="740"/>
                  </a:lnTo>
                  <a:lnTo>
                    <a:pt x="5336" y="751"/>
                  </a:lnTo>
                  <a:lnTo>
                    <a:pt x="5331" y="763"/>
                  </a:lnTo>
                  <a:lnTo>
                    <a:pt x="5326" y="775"/>
                  </a:lnTo>
                  <a:lnTo>
                    <a:pt x="5321" y="785"/>
                  </a:lnTo>
                  <a:lnTo>
                    <a:pt x="5313" y="797"/>
                  </a:lnTo>
                  <a:lnTo>
                    <a:pt x="5306" y="806"/>
                  </a:lnTo>
                  <a:lnTo>
                    <a:pt x="5297" y="817"/>
                  </a:lnTo>
                  <a:lnTo>
                    <a:pt x="5289" y="826"/>
                  </a:lnTo>
                  <a:lnTo>
                    <a:pt x="5280" y="835"/>
                  </a:lnTo>
                  <a:lnTo>
                    <a:pt x="5269" y="844"/>
                  </a:lnTo>
                  <a:lnTo>
                    <a:pt x="5259" y="852"/>
                  </a:lnTo>
                  <a:lnTo>
                    <a:pt x="5247" y="861"/>
                  </a:lnTo>
                  <a:lnTo>
                    <a:pt x="5235" y="868"/>
                  </a:lnTo>
                  <a:lnTo>
                    <a:pt x="5223" y="875"/>
                  </a:lnTo>
                  <a:lnTo>
                    <a:pt x="5209" y="883"/>
                  </a:lnTo>
                  <a:lnTo>
                    <a:pt x="5197" y="889"/>
                  </a:lnTo>
                  <a:lnTo>
                    <a:pt x="5182" y="894"/>
                  </a:lnTo>
                  <a:lnTo>
                    <a:pt x="5167" y="901"/>
                  </a:lnTo>
                  <a:lnTo>
                    <a:pt x="5152" y="905"/>
                  </a:lnTo>
                  <a:lnTo>
                    <a:pt x="5137" y="910"/>
                  </a:lnTo>
                  <a:lnTo>
                    <a:pt x="5121" y="914"/>
                  </a:lnTo>
                  <a:lnTo>
                    <a:pt x="5105" y="917"/>
                  </a:lnTo>
                  <a:lnTo>
                    <a:pt x="5088" y="921"/>
                  </a:lnTo>
                  <a:lnTo>
                    <a:pt x="5072" y="923"/>
                  </a:lnTo>
                  <a:lnTo>
                    <a:pt x="5055" y="925"/>
                  </a:lnTo>
                  <a:lnTo>
                    <a:pt x="5038" y="926"/>
                  </a:lnTo>
                  <a:lnTo>
                    <a:pt x="5020" y="927"/>
                  </a:lnTo>
                  <a:lnTo>
                    <a:pt x="5002" y="927"/>
                  </a:lnTo>
                  <a:lnTo>
                    <a:pt x="4986" y="927"/>
                  </a:lnTo>
                  <a:lnTo>
                    <a:pt x="4968" y="925"/>
                  </a:lnTo>
                  <a:lnTo>
                    <a:pt x="4951" y="923"/>
                  </a:lnTo>
                  <a:lnTo>
                    <a:pt x="4934" y="919"/>
                  </a:lnTo>
                  <a:lnTo>
                    <a:pt x="4918" y="916"/>
                  </a:lnTo>
                  <a:lnTo>
                    <a:pt x="4902" y="912"/>
                  </a:lnTo>
                  <a:lnTo>
                    <a:pt x="4886" y="907"/>
                  </a:lnTo>
                  <a:lnTo>
                    <a:pt x="4871" y="902"/>
                  </a:lnTo>
                  <a:lnTo>
                    <a:pt x="4856" y="895"/>
                  </a:lnTo>
                  <a:lnTo>
                    <a:pt x="4842" y="888"/>
                  </a:lnTo>
                  <a:lnTo>
                    <a:pt x="4827" y="880"/>
                  </a:lnTo>
                  <a:lnTo>
                    <a:pt x="4813" y="871"/>
                  </a:lnTo>
                  <a:lnTo>
                    <a:pt x="4800" y="863"/>
                  </a:lnTo>
                  <a:lnTo>
                    <a:pt x="4786" y="852"/>
                  </a:lnTo>
                  <a:lnTo>
                    <a:pt x="4773" y="842"/>
                  </a:lnTo>
                  <a:lnTo>
                    <a:pt x="4761" y="830"/>
                  </a:lnTo>
                  <a:lnTo>
                    <a:pt x="4748" y="819"/>
                  </a:lnTo>
                  <a:lnTo>
                    <a:pt x="4737" y="806"/>
                  </a:lnTo>
                  <a:lnTo>
                    <a:pt x="4725" y="793"/>
                  </a:lnTo>
                  <a:lnTo>
                    <a:pt x="4714" y="781"/>
                  </a:lnTo>
                  <a:lnTo>
                    <a:pt x="4704" y="767"/>
                  </a:lnTo>
                  <a:lnTo>
                    <a:pt x="4694" y="754"/>
                  </a:lnTo>
                  <a:lnTo>
                    <a:pt x="4684" y="740"/>
                  </a:lnTo>
                  <a:lnTo>
                    <a:pt x="4676" y="725"/>
                  </a:lnTo>
                  <a:lnTo>
                    <a:pt x="4667" y="711"/>
                  </a:lnTo>
                  <a:lnTo>
                    <a:pt x="4659" y="696"/>
                  </a:lnTo>
                  <a:lnTo>
                    <a:pt x="4652" y="680"/>
                  </a:lnTo>
                  <a:lnTo>
                    <a:pt x="4644" y="664"/>
                  </a:lnTo>
                  <a:lnTo>
                    <a:pt x="4638" y="649"/>
                  </a:lnTo>
                  <a:lnTo>
                    <a:pt x="4632" y="632"/>
                  </a:lnTo>
                  <a:lnTo>
                    <a:pt x="4626" y="615"/>
                  </a:lnTo>
                  <a:lnTo>
                    <a:pt x="4621" y="597"/>
                  </a:lnTo>
                  <a:lnTo>
                    <a:pt x="4618" y="583"/>
                  </a:lnTo>
                  <a:lnTo>
                    <a:pt x="4615" y="570"/>
                  </a:lnTo>
                  <a:lnTo>
                    <a:pt x="4612" y="554"/>
                  </a:lnTo>
                  <a:lnTo>
                    <a:pt x="4610" y="538"/>
                  </a:lnTo>
                  <a:lnTo>
                    <a:pt x="4607" y="523"/>
                  </a:lnTo>
                  <a:lnTo>
                    <a:pt x="4606" y="505"/>
                  </a:lnTo>
                  <a:lnTo>
                    <a:pt x="4604" y="488"/>
                  </a:lnTo>
                  <a:lnTo>
                    <a:pt x="4603" y="469"/>
                  </a:lnTo>
                  <a:lnTo>
                    <a:pt x="4604" y="451"/>
                  </a:lnTo>
                  <a:lnTo>
                    <a:pt x="4605" y="432"/>
                  </a:lnTo>
                  <a:lnTo>
                    <a:pt x="4606" y="414"/>
                  </a:lnTo>
                  <a:lnTo>
                    <a:pt x="4610" y="397"/>
                  </a:lnTo>
                  <a:lnTo>
                    <a:pt x="4613" y="379"/>
                  </a:lnTo>
                  <a:lnTo>
                    <a:pt x="4616" y="361"/>
                  </a:lnTo>
                  <a:lnTo>
                    <a:pt x="4620" y="343"/>
                  </a:lnTo>
                  <a:lnTo>
                    <a:pt x="4625" y="325"/>
                  </a:lnTo>
                  <a:lnTo>
                    <a:pt x="4631" y="307"/>
                  </a:lnTo>
                  <a:lnTo>
                    <a:pt x="4637" y="291"/>
                  </a:lnTo>
                  <a:lnTo>
                    <a:pt x="4644" y="274"/>
                  </a:lnTo>
                  <a:lnTo>
                    <a:pt x="4652" y="257"/>
                  </a:lnTo>
                  <a:lnTo>
                    <a:pt x="4659" y="241"/>
                  </a:lnTo>
                  <a:lnTo>
                    <a:pt x="4667" y="225"/>
                  </a:lnTo>
                  <a:lnTo>
                    <a:pt x="4677" y="211"/>
                  </a:lnTo>
                  <a:lnTo>
                    <a:pt x="4686" y="196"/>
                  </a:lnTo>
                  <a:lnTo>
                    <a:pt x="4697" y="181"/>
                  </a:lnTo>
                  <a:lnTo>
                    <a:pt x="4707" y="168"/>
                  </a:lnTo>
                  <a:lnTo>
                    <a:pt x="4719" y="154"/>
                  </a:lnTo>
                  <a:lnTo>
                    <a:pt x="4730" y="141"/>
                  </a:lnTo>
                  <a:lnTo>
                    <a:pt x="4743" y="129"/>
                  </a:lnTo>
                  <a:lnTo>
                    <a:pt x="4757" y="117"/>
                  </a:lnTo>
                  <a:lnTo>
                    <a:pt x="4770" y="107"/>
                  </a:lnTo>
                  <a:lnTo>
                    <a:pt x="4785" y="96"/>
                  </a:lnTo>
                  <a:lnTo>
                    <a:pt x="4800" y="86"/>
                  </a:lnTo>
                  <a:lnTo>
                    <a:pt x="4815" y="77"/>
                  </a:lnTo>
                  <a:lnTo>
                    <a:pt x="4831" y="69"/>
                  </a:lnTo>
                  <a:lnTo>
                    <a:pt x="4847" y="62"/>
                  </a:lnTo>
                  <a:lnTo>
                    <a:pt x="4864" y="55"/>
                  </a:lnTo>
                  <a:lnTo>
                    <a:pt x="4882" y="49"/>
                  </a:lnTo>
                  <a:lnTo>
                    <a:pt x="4898" y="44"/>
                  </a:lnTo>
                  <a:lnTo>
                    <a:pt x="4917" y="40"/>
                  </a:lnTo>
                  <a:lnTo>
                    <a:pt x="4928" y="37"/>
                  </a:lnTo>
                  <a:lnTo>
                    <a:pt x="4938" y="35"/>
                  </a:lnTo>
                  <a:lnTo>
                    <a:pt x="4950" y="33"/>
                  </a:lnTo>
                  <a:lnTo>
                    <a:pt x="4961" y="32"/>
                  </a:lnTo>
                  <a:lnTo>
                    <a:pt x="4974" y="31"/>
                  </a:lnTo>
                  <a:lnTo>
                    <a:pt x="4987" y="30"/>
                  </a:lnTo>
                  <a:lnTo>
                    <a:pt x="4999" y="30"/>
                  </a:lnTo>
                  <a:lnTo>
                    <a:pt x="5013" y="30"/>
                  </a:lnTo>
                  <a:lnTo>
                    <a:pt x="5030" y="30"/>
                  </a:lnTo>
                  <a:lnTo>
                    <a:pt x="5046" y="31"/>
                  </a:lnTo>
                  <a:lnTo>
                    <a:pt x="5063" y="33"/>
                  </a:lnTo>
                  <a:lnTo>
                    <a:pt x="5080" y="35"/>
                  </a:lnTo>
                  <a:lnTo>
                    <a:pt x="5096" y="39"/>
                  </a:lnTo>
                  <a:lnTo>
                    <a:pt x="5113" y="42"/>
                  </a:lnTo>
                  <a:lnTo>
                    <a:pt x="5128" y="46"/>
                  </a:lnTo>
                  <a:lnTo>
                    <a:pt x="5144" y="51"/>
                  </a:lnTo>
                  <a:lnTo>
                    <a:pt x="5146" y="46"/>
                  </a:lnTo>
                  <a:lnTo>
                    <a:pt x="5149" y="41"/>
                  </a:lnTo>
                  <a:lnTo>
                    <a:pt x="5151" y="36"/>
                  </a:lnTo>
                  <a:lnTo>
                    <a:pt x="5155" y="31"/>
                  </a:lnTo>
                  <a:lnTo>
                    <a:pt x="5158" y="28"/>
                  </a:lnTo>
                  <a:lnTo>
                    <a:pt x="5162" y="24"/>
                  </a:lnTo>
                  <a:lnTo>
                    <a:pt x="5166" y="21"/>
                  </a:lnTo>
                  <a:lnTo>
                    <a:pt x="5170" y="16"/>
                  </a:lnTo>
                  <a:lnTo>
                    <a:pt x="5175" y="14"/>
                  </a:lnTo>
                  <a:lnTo>
                    <a:pt x="5179" y="11"/>
                  </a:lnTo>
                  <a:lnTo>
                    <a:pt x="5184" y="9"/>
                  </a:lnTo>
                  <a:lnTo>
                    <a:pt x="5188" y="8"/>
                  </a:lnTo>
                  <a:lnTo>
                    <a:pt x="5193" y="6"/>
                  </a:lnTo>
                  <a:lnTo>
                    <a:pt x="5199" y="5"/>
                  </a:lnTo>
                  <a:lnTo>
                    <a:pt x="5204" y="5"/>
                  </a:lnTo>
                  <a:lnTo>
                    <a:pt x="5209" y="5"/>
                  </a:lnTo>
                  <a:lnTo>
                    <a:pt x="5220" y="5"/>
                  </a:lnTo>
                  <a:lnTo>
                    <a:pt x="5230" y="8"/>
                  </a:lnTo>
                  <a:lnTo>
                    <a:pt x="5239" y="11"/>
                  </a:lnTo>
                  <a:lnTo>
                    <a:pt x="5246" y="16"/>
                  </a:lnTo>
                  <a:lnTo>
                    <a:pt x="5251" y="24"/>
                  </a:lnTo>
                  <a:lnTo>
                    <a:pt x="5255" y="32"/>
                  </a:lnTo>
                  <a:lnTo>
                    <a:pt x="5259" y="43"/>
                  </a:lnTo>
                  <a:lnTo>
                    <a:pt x="5261" y="54"/>
                  </a:lnTo>
                  <a:lnTo>
                    <a:pt x="5278" y="216"/>
                  </a:lnTo>
                  <a:lnTo>
                    <a:pt x="5277" y="223"/>
                  </a:lnTo>
                  <a:lnTo>
                    <a:pt x="5277" y="230"/>
                  </a:lnTo>
                  <a:lnTo>
                    <a:pt x="5275" y="236"/>
                  </a:lnTo>
                  <a:lnTo>
                    <a:pt x="5273" y="242"/>
                  </a:lnTo>
                  <a:lnTo>
                    <a:pt x="5271" y="247"/>
                  </a:lnTo>
                  <a:lnTo>
                    <a:pt x="5268" y="253"/>
                  </a:lnTo>
                  <a:lnTo>
                    <a:pt x="5265" y="257"/>
                  </a:lnTo>
                  <a:lnTo>
                    <a:pt x="5261" y="261"/>
                  </a:lnTo>
                  <a:lnTo>
                    <a:pt x="5255" y="265"/>
                  </a:lnTo>
                  <a:lnTo>
                    <a:pt x="5251" y="270"/>
                  </a:lnTo>
                  <a:lnTo>
                    <a:pt x="5246" y="273"/>
                  </a:lnTo>
                  <a:lnTo>
                    <a:pt x="5241" y="275"/>
                  </a:lnTo>
                  <a:lnTo>
                    <a:pt x="5235" y="277"/>
                  </a:lnTo>
                  <a:lnTo>
                    <a:pt x="5229" y="279"/>
                  </a:lnTo>
                  <a:lnTo>
                    <a:pt x="5223" y="280"/>
                  </a:lnTo>
                  <a:lnTo>
                    <a:pt x="5217" y="280"/>
                  </a:lnTo>
                  <a:lnTo>
                    <a:pt x="5211" y="280"/>
                  </a:lnTo>
                  <a:lnTo>
                    <a:pt x="5206" y="279"/>
                  </a:lnTo>
                  <a:lnTo>
                    <a:pt x="5201" y="277"/>
                  </a:lnTo>
                  <a:lnTo>
                    <a:pt x="5196" y="276"/>
                  </a:lnTo>
                  <a:lnTo>
                    <a:pt x="5191" y="274"/>
                  </a:lnTo>
                  <a:lnTo>
                    <a:pt x="5187" y="271"/>
                  </a:lnTo>
                  <a:lnTo>
                    <a:pt x="5182" y="268"/>
                  </a:lnTo>
                  <a:lnTo>
                    <a:pt x="5179" y="264"/>
                  </a:lnTo>
                  <a:lnTo>
                    <a:pt x="5175" y="261"/>
                  </a:lnTo>
                  <a:lnTo>
                    <a:pt x="5170" y="257"/>
                  </a:lnTo>
                  <a:lnTo>
                    <a:pt x="5168" y="253"/>
                  </a:lnTo>
                  <a:lnTo>
                    <a:pt x="5165" y="249"/>
                  </a:lnTo>
                  <a:lnTo>
                    <a:pt x="5163" y="244"/>
                  </a:lnTo>
                  <a:lnTo>
                    <a:pt x="5162" y="239"/>
                  </a:lnTo>
                  <a:lnTo>
                    <a:pt x="5161" y="234"/>
                  </a:lnTo>
                  <a:lnTo>
                    <a:pt x="5160" y="229"/>
                  </a:lnTo>
                  <a:lnTo>
                    <a:pt x="5160" y="226"/>
                  </a:lnTo>
                  <a:lnTo>
                    <a:pt x="5160" y="223"/>
                  </a:lnTo>
                  <a:lnTo>
                    <a:pt x="5159" y="221"/>
                  </a:lnTo>
                  <a:lnTo>
                    <a:pt x="5159" y="218"/>
                  </a:lnTo>
                  <a:lnTo>
                    <a:pt x="5159" y="215"/>
                  </a:lnTo>
                  <a:lnTo>
                    <a:pt x="5159" y="212"/>
                  </a:lnTo>
                  <a:lnTo>
                    <a:pt x="5158" y="208"/>
                  </a:lnTo>
                  <a:lnTo>
                    <a:pt x="5158" y="204"/>
                  </a:lnTo>
                  <a:lnTo>
                    <a:pt x="5158" y="201"/>
                  </a:lnTo>
                  <a:lnTo>
                    <a:pt x="5157" y="198"/>
                  </a:lnTo>
                  <a:lnTo>
                    <a:pt x="5157" y="195"/>
                  </a:lnTo>
                  <a:lnTo>
                    <a:pt x="5157" y="193"/>
                  </a:lnTo>
                  <a:lnTo>
                    <a:pt x="5156" y="192"/>
                  </a:lnTo>
                  <a:lnTo>
                    <a:pt x="5156" y="191"/>
                  </a:lnTo>
                  <a:lnTo>
                    <a:pt x="5155" y="190"/>
                  </a:lnTo>
                  <a:lnTo>
                    <a:pt x="5155" y="190"/>
                  </a:lnTo>
                  <a:close/>
                  <a:moveTo>
                    <a:pt x="5646" y="151"/>
                  </a:moveTo>
                  <a:lnTo>
                    <a:pt x="5650" y="457"/>
                  </a:lnTo>
                  <a:lnTo>
                    <a:pt x="5668" y="453"/>
                  </a:lnTo>
                  <a:lnTo>
                    <a:pt x="5686" y="449"/>
                  </a:lnTo>
                  <a:lnTo>
                    <a:pt x="5705" y="446"/>
                  </a:lnTo>
                  <a:lnTo>
                    <a:pt x="5724" y="442"/>
                  </a:lnTo>
                  <a:lnTo>
                    <a:pt x="5745" y="438"/>
                  </a:lnTo>
                  <a:lnTo>
                    <a:pt x="5766" y="434"/>
                  </a:lnTo>
                  <a:lnTo>
                    <a:pt x="5787" y="431"/>
                  </a:lnTo>
                  <a:lnTo>
                    <a:pt x="5810" y="427"/>
                  </a:lnTo>
                  <a:lnTo>
                    <a:pt x="5832" y="424"/>
                  </a:lnTo>
                  <a:lnTo>
                    <a:pt x="5854" y="422"/>
                  </a:lnTo>
                  <a:lnTo>
                    <a:pt x="5876" y="419"/>
                  </a:lnTo>
                  <a:lnTo>
                    <a:pt x="5897" y="417"/>
                  </a:lnTo>
                  <a:lnTo>
                    <a:pt x="5917" y="415"/>
                  </a:lnTo>
                  <a:lnTo>
                    <a:pt x="5937" y="414"/>
                  </a:lnTo>
                  <a:lnTo>
                    <a:pt x="5957" y="413"/>
                  </a:lnTo>
                  <a:lnTo>
                    <a:pt x="5976" y="413"/>
                  </a:lnTo>
                  <a:lnTo>
                    <a:pt x="5982" y="414"/>
                  </a:lnTo>
                  <a:lnTo>
                    <a:pt x="5989" y="414"/>
                  </a:lnTo>
                  <a:lnTo>
                    <a:pt x="5995" y="415"/>
                  </a:lnTo>
                  <a:lnTo>
                    <a:pt x="6001" y="418"/>
                  </a:lnTo>
                  <a:lnTo>
                    <a:pt x="6006" y="420"/>
                  </a:lnTo>
                  <a:lnTo>
                    <a:pt x="6010" y="423"/>
                  </a:lnTo>
                  <a:lnTo>
                    <a:pt x="6016" y="426"/>
                  </a:lnTo>
                  <a:lnTo>
                    <a:pt x="6020" y="430"/>
                  </a:lnTo>
                  <a:lnTo>
                    <a:pt x="6023" y="434"/>
                  </a:lnTo>
                  <a:lnTo>
                    <a:pt x="6026" y="439"/>
                  </a:lnTo>
                  <a:lnTo>
                    <a:pt x="6028" y="444"/>
                  </a:lnTo>
                  <a:lnTo>
                    <a:pt x="6030" y="449"/>
                  </a:lnTo>
                  <a:lnTo>
                    <a:pt x="6032" y="454"/>
                  </a:lnTo>
                  <a:lnTo>
                    <a:pt x="6034" y="460"/>
                  </a:lnTo>
                  <a:lnTo>
                    <a:pt x="6035" y="465"/>
                  </a:lnTo>
                  <a:lnTo>
                    <a:pt x="6035" y="471"/>
                  </a:lnTo>
                  <a:lnTo>
                    <a:pt x="6035" y="477"/>
                  </a:lnTo>
                  <a:lnTo>
                    <a:pt x="6034" y="483"/>
                  </a:lnTo>
                  <a:lnTo>
                    <a:pt x="6032" y="489"/>
                  </a:lnTo>
                  <a:lnTo>
                    <a:pt x="6030" y="493"/>
                  </a:lnTo>
                  <a:lnTo>
                    <a:pt x="6028" y="498"/>
                  </a:lnTo>
                  <a:lnTo>
                    <a:pt x="6026" y="504"/>
                  </a:lnTo>
                  <a:lnTo>
                    <a:pt x="6023" y="508"/>
                  </a:lnTo>
                  <a:lnTo>
                    <a:pt x="6019" y="512"/>
                  </a:lnTo>
                  <a:lnTo>
                    <a:pt x="6015" y="516"/>
                  </a:lnTo>
                  <a:lnTo>
                    <a:pt x="6010" y="519"/>
                  </a:lnTo>
                  <a:lnTo>
                    <a:pt x="6005" y="522"/>
                  </a:lnTo>
                  <a:lnTo>
                    <a:pt x="6000" y="524"/>
                  </a:lnTo>
                  <a:lnTo>
                    <a:pt x="5995" y="526"/>
                  </a:lnTo>
                  <a:lnTo>
                    <a:pt x="5988" y="527"/>
                  </a:lnTo>
                  <a:lnTo>
                    <a:pt x="5982" y="528"/>
                  </a:lnTo>
                  <a:lnTo>
                    <a:pt x="5976" y="528"/>
                  </a:lnTo>
                  <a:lnTo>
                    <a:pt x="5942" y="529"/>
                  </a:lnTo>
                  <a:lnTo>
                    <a:pt x="5906" y="531"/>
                  </a:lnTo>
                  <a:lnTo>
                    <a:pt x="5870" y="535"/>
                  </a:lnTo>
                  <a:lnTo>
                    <a:pt x="5831" y="539"/>
                  </a:lnTo>
                  <a:lnTo>
                    <a:pt x="5790" y="547"/>
                  </a:lnTo>
                  <a:lnTo>
                    <a:pt x="5747" y="554"/>
                  </a:lnTo>
                  <a:lnTo>
                    <a:pt x="5702" y="564"/>
                  </a:lnTo>
                  <a:lnTo>
                    <a:pt x="5655" y="574"/>
                  </a:lnTo>
                  <a:lnTo>
                    <a:pt x="5661" y="814"/>
                  </a:lnTo>
                  <a:lnTo>
                    <a:pt x="5688" y="806"/>
                  </a:lnTo>
                  <a:lnTo>
                    <a:pt x="5717" y="800"/>
                  </a:lnTo>
                  <a:lnTo>
                    <a:pt x="5748" y="795"/>
                  </a:lnTo>
                  <a:lnTo>
                    <a:pt x="5780" y="789"/>
                  </a:lnTo>
                  <a:lnTo>
                    <a:pt x="5813" y="786"/>
                  </a:lnTo>
                  <a:lnTo>
                    <a:pt x="5848" y="783"/>
                  </a:lnTo>
                  <a:lnTo>
                    <a:pt x="5884" y="782"/>
                  </a:lnTo>
                  <a:lnTo>
                    <a:pt x="5921" y="781"/>
                  </a:lnTo>
                  <a:lnTo>
                    <a:pt x="5930" y="781"/>
                  </a:lnTo>
                  <a:lnTo>
                    <a:pt x="5938" y="781"/>
                  </a:lnTo>
                  <a:lnTo>
                    <a:pt x="5945" y="781"/>
                  </a:lnTo>
                  <a:lnTo>
                    <a:pt x="5953" y="781"/>
                  </a:lnTo>
                  <a:lnTo>
                    <a:pt x="5959" y="782"/>
                  </a:lnTo>
                  <a:lnTo>
                    <a:pt x="5965" y="782"/>
                  </a:lnTo>
                  <a:lnTo>
                    <a:pt x="5972" y="782"/>
                  </a:lnTo>
                  <a:lnTo>
                    <a:pt x="5977" y="782"/>
                  </a:lnTo>
                  <a:lnTo>
                    <a:pt x="5982" y="782"/>
                  </a:lnTo>
                  <a:lnTo>
                    <a:pt x="5986" y="783"/>
                  </a:lnTo>
                  <a:lnTo>
                    <a:pt x="5990" y="783"/>
                  </a:lnTo>
                  <a:lnTo>
                    <a:pt x="5995" y="783"/>
                  </a:lnTo>
                  <a:lnTo>
                    <a:pt x="5998" y="783"/>
                  </a:lnTo>
                  <a:lnTo>
                    <a:pt x="6001" y="783"/>
                  </a:lnTo>
                  <a:lnTo>
                    <a:pt x="6004" y="784"/>
                  </a:lnTo>
                  <a:lnTo>
                    <a:pt x="6006" y="784"/>
                  </a:lnTo>
                  <a:lnTo>
                    <a:pt x="6011" y="784"/>
                  </a:lnTo>
                  <a:lnTo>
                    <a:pt x="6018" y="785"/>
                  </a:lnTo>
                  <a:lnTo>
                    <a:pt x="6023" y="786"/>
                  </a:lnTo>
                  <a:lnTo>
                    <a:pt x="6028" y="787"/>
                  </a:lnTo>
                  <a:lnTo>
                    <a:pt x="6032" y="789"/>
                  </a:lnTo>
                  <a:lnTo>
                    <a:pt x="6037" y="791"/>
                  </a:lnTo>
                  <a:lnTo>
                    <a:pt x="6041" y="795"/>
                  </a:lnTo>
                  <a:lnTo>
                    <a:pt x="6044" y="798"/>
                  </a:lnTo>
                  <a:lnTo>
                    <a:pt x="6047" y="802"/>
                  </a:lnTo>
                  <a:lnTo>
                    <a:pt x="6050" y="806"/>
                  </a:lnTo>
                  <a:lnTo>
                    <a:pt x="6052" y="810"/>
                  </a:lnTo>
                  <a:lnTo>
                    <a:pt x="6053" y="814"/>
                  </a:lnTo>
                  <a:lnTo>
                    <a:pt x="6056" y="820"/>
                  </a:lnTo>
                  <a:lnTo>
                    <a:pt x="6057" y="824"/>
                  </a:lnTo>
                  <a:lnTo>
                    <a:pt x="6057" y="830"/>
                  </a:lnTo>
                  <a:lnTo>
                    <a:pt x="6058" y="835"/>
                  </a:lnTo>
                  <a:lnTo>
                    <a:pt x="6057" y="842"/>
                  </a:lnTo>
                  <a:lnTo>
                    <a:pt x="6057" y="848"/>
                  </a:lnTo>
                  <a:lnTo>
                    <a:pt x="6055" y="854"/>
                  </a:lnTo>
                  <a:lnTo>
                    <a:pt x="6052" y="860"/>
                  </a:lnTo>
                  <a:lnTo>
                    <a:pt x="6050" y="865"/>
                  </a:lnTo>
                  <a:lnTo>
                    <a:pt x="6047" y="871"/>
                  </a:lnTo>
                  <a:lnTo>
                    <a:pt x="6044" y="875"/>
                  </a:lnTo>
                  <a:lnTo>
                    <a:pt x="6040" y="881"/>
                  </a:lnTo>
                  <a:lnTo>
                    <a:pt x="6036" y="885"/>
                  </a:lnTo>
                  <a:lnTo>
                    <a:pt x="6030" y="889"/>
                  </a:lnTo>
                  <a:lnTo>
                    <a:pt x="6025" y="892"/>
                  </a:lnTo>
                  <a:lnTo>
                    <a:pt x="6020" y="894"/>
                  </a:lnTo>
                  <a:lnTo>
                    <a:pt x="6014" y="896"/>
                  </a:lnTo>
                  <a:lnTo>
                    <a:pt x="6007" y="898"/>
                  </a:lnTo>
                  <a:lnTo>
                    <a:pt x="6000" y="900"/>
                  </a:lnTo>
                  <a:lnTo>
                    <a:pt x="5994" y="900"/>
                  </a:lnTo>
                  <a:lnTo>
                    <a:pt x="5990" y="900"/>
                  </a:lnTo>
                  <a:lnTo>
                    <a:pt x="5988" y="900"/>
                  </a:lnTo>
                  <a:lnTo>
                    <a:pt x="5985" y="898"/>
                  </a:lnTo>
                  <a:lnTo>
                    <a:pt x="5982" y="898"/>
                  </a:lnTo>
                  <a:lnTo>
                    <a:pt x="5978" y="898"/>
                  </a:lnTo>
                  <a:lnTo>
                    <a:pt x="5974" y="898"/>
                  </a:lnTo>
                  <a:lnTo>
                    <a:pt x="5968" y="898"/>
                  </a:lnTo>
                  <a:lnTo>
                    <a:pt x="5964" y="897"/>
                  </a:lnTo>
                  <a:lnTo>
                    <a:pt x="5958" y="897"/>
                  </a:lnTo>
                  <a:lnTo>
                    <a:pt x="5953" y="897"/>
                  </a:lnTo>
                  <a:lnTo>
                    <a:pt x="5946" y="897"/>
                  </a:lnTo>
                  <a:lnTo>
                    <a:pt x="5940" y="897"/>
                  </a:lnTo>
                  <a:lnTo>
                    <a:pt x="5933" y="897"/>
                  </a:lnTo>
                  <a:lnTo>
                    <a:pt x="5926" y="897"/>
                  </a:lnTo>
                  <a:lnTo>
                    <a:pt x="5919" y="897"/>
                  </a:lnTo>
                  <a:lnTo>
                    <a:pt x="5912" y="897"/>
                  </a:lnTo>
                  <a:lnTo>
                    <a:pt x="5897" y="897"/>
                  </a:lnTo>
                  <a:lnTo>
                    <a:pt x="5882" y="897"/>
                  </a:lnTo>
                  <a:lnTo>
                    <a:pt x="5868" y="898"/>
                  </a:lnTo>
                  <a:lnTo>
                    <a:pt x="5853" y="898"/>
                  </a:lnTo>
                  <a:lnTo>
                    <a:pt x="5838" y="900"/>
                  </a:lnTo>
                  <a:lnTo>
                    <a:pt x="5822" y="902"/>
                  </a:lnTo>
                  <a:lnTo>
                    <a:pt x="5807" y="903"/>
                  </a:lnTo>
                  <a:lnTo>
                    <a:pt x="5792" y="905"/>
                  </a:lnTo>
                  <a:lnTo>
                    <a:pt x="5786" y="906"/>
                  </a:lnTo>
                  <a:lnTo>
                    <a:pt x="5777" y="907"/>
                  </a:lnTo>
                  <a:lnTo>
                    <a:pt x="5768" y="909"/>
                  </a:lnTo>
                  <a:lnTo>
                    <a:pt x="5757" y="912"/>
                  </a:lnTo>
                  <a:lnTo>
                    <a:pt x="5746" y="915"/>
                  </a:lnTo>
                  <a:lnTo>
                    <a:pt x="5732" y="918"/>
                  </a:lnTo>
                  <a:lnTo>
                    <a:pt x="5716" y="923"/>
                  </a:lnTo>
                  <a:lnTo>
                    <a:pt x="5701" y="927"/>
                  </a:lnTo>
                  <a:lnTo>
                    <a:pt x="5684" y="931"/>
                  </a:lnTo>
                  <a:lnTo>
                    <a:pt x="5668" y="935"/>
                  </a:lnTo>
                  <a:lnTo>
                    <a:pt x="5653" y="938"/>
                  </a:lnTo>
                  <a:lnTo>
                    <a:pt x="5640" y="942"/>
                  </a:lnTo>
                  <a:lnTo>
                    <a:pt x="5627" y="944"/>
                  </a:lnTo>
                  <a:lnTo>
                    <a:pt x="5617" y="945"/>
                  </a:lnTo>
                  <a:lnTo>
                    <a:pt x="5606" y="946"/>
                  </a:lnTo>
                  <a:lnTo>
                    <a:pt x="5597" y="946"/>
                  </a:lnTo>
                  <a:lnTo>
                    <a:pt x="5590" y="946"/>
                  </a:lnTo>
                  <a:lnTo>
                    <a:pt x="5585" y="945"/>
                  </a:lnTo>
                  <a:lnTo>
                    <a:pt x="5580" y="944"/>
                  </a:lnTo>
                  <a:lnTo>
                    <a:pt x="5576" y="943"/>
                  </a:lnTo>
                  <a:lnTo>
                    <a:pt x="5571" y="940"/>
                  </a:lnTo>
                  <a:lnTo>
                    <a:pt x="5567" y="937"/>
                  </a:lnTo>
                  <a:lnTo>
                    <a:pt x="5563" y="934"/>
                  </a:lnTo>
                  <a:lnTo>
                    <a:pt x="5559" y="931"/>
                  </a:lnTo>
                  <a:lnTo>
                    <a:pt x="5556" y="927"/>
                  </a:lnTo>
                  <a:lnTo>
                    <a:pt x="5553" y="923"/>
                  </a:lnTo>
                  <a:lnTo>
                    <a:pt x="5550" y="917"/>
                  </a:lnTo>
                  <a:lnTo>
                    <a:pt x="5548" y="913"/>
                  </a:lnTo>
                  <a:lnTo>
                    <a:pt x="5547" y="908"/>
                  </a:lnTo>
                  <a:lnTo>
                    <a:pt x="5546" y="902"/>
                  </a:lnTo>
                  <a:lnTo>
                    <a:pt x="5545" y="895"/>
                  </a:lnTo>
                  <a:lnTo>
                    <a:pt x="5545" y="889"/>
                  </a:lnTo>
                  <a:lnTo>
                    <a:pt x="5537" y="612"/>
                  </a:lnTo>
                  <a:lnTo>
                    <a:pt x="5532" y="612"/>
                  </a:lnTo>
                  <a:lnTo>
                    <a:pt x="5526" y="611"/>
                  </a:lnTo>
                  <a:lnTo>
                    <a:pt x="5521" y="609"/>
                  </a:lnTo>
                  <a:lnTo>
                    <a:pt x="5516" y="607"/>
                  </a:lnTo>
                  <a:lnTo>
                    <a:pt x="5512" y="604"/>
                  </a:lnTo>
                  <a:lnTo>
                    <a:pt x="5507" y="601"/>
                  </a:lnTo>
                  <a:lnTo>
                    <a:pt x="5503" y="598"/>
                  </a:lnTo>
                  <a:lnTo>
                    <a:pt x="5499" y="594"/>
                  </a:lnTo>
                  <a:lnTo>
                    <a:pt x="5496" y="590"/>
                  </a:lnTo>
                  <a:lnTo>
                    <a:pt x="5493" y="586"/>
                  </a:lnTo>
                  <a:lnTo>
                    <a:pt x="5491" y="580"/>
                  </a:lnTo>
                  <a:lnTo>
                    <a:pt x="5489" y="576"/>
                  </a:lnTo>
                  <a:lnTo>
                    <a:pt x="5486" y="571"/>
                  </a:lnTo>
                  <a:lnTo>
                    <a:pt x="5485" y="567"/>
                  </a:lnTo>
                  <a:lnTo>
                    <a:pt x="5484" y="561"/>
                  </a:lnTo>
                  <a:lnTo>
                    <a:pt x="5483" y="556"/>
                  </a:lnTo>
                  <a:lnTo>
                    <a:pt x="5483" y="550"/>
                  </a:lnTo>
                  <a:lnTo>
                    <a:pt x="5484" y="545"/>
                  </a:lnTo>
                  <a:lnTo>
                    <a:pt x="5486" y="538"/>
                  </a:lnTo>
                  <a:lnTo>
                    <a:pt x="5489" y="533"/>
                  </a:lnTo>
                  <a:lnTo>
                    <a:pt x="5491" y="528"/>
                  </a:lnTo>
                  <a:lnTo>
                    <a:pt x="5493" y="524"/>
                  </a:lnTo>
                  <a:lnTo>
                    <a:pt x="5496" y="518"/>
                  </a:lnTo>
                  <a:lnTo>
                    <a:pt x="5499" y="514"/>
                  </a:lnTo>
                  <a:lnTo>
                    <a:pt x="5503" y="510"/>
                  </a:lnTo>
                  <a:lnTo>
                    <a:pt x="5506" y="506"/>
                  </a:lnTo>
                  <a:lnTo>
                    <a:pt x="5511" y="503"/>
                  </a:lnTo>
                  <a:lnTo>
                    <a:pt x="5516" y="499"/>
                  </a:lnTo>
                  <a:lnTo>
                    <a:pt x="5521" y="497"/>
                  </a:lnTo>
                  <a:lnTo>
                    <a:pt x="5526" y="496"/>
                  </a:lnTo>
                  <a:lnTo>
                    <a:pt x="5532" y="495"/>
                  </a:lnTo>
                  <a:lnTo>
                    <a:pt x="5537" y="494"/>
                  </a:lnTo>
                  <a:lnTo>
                    <a:pt x="5532" y="184"/>
                  </a:lnTo>
                  <a:lnTo>
                    <a:pt x="5522" y="181"/>
                  </a:lnTo>
                  <a:lnTo>
                    <a:pt x="5515" y="177"/>
                  </a:lnTo>
                  <a:lnTo>
                    <a:pt x="5507" y="172"/>
                  </a:lnTo>
                  <a:lnTo>
                    <a:pt x="5501" y="166"/>
                  </a:lnTo>
                  <a:lnTo>
                    <a:pt x="5497" y="158"/>
                  </a:lnTo>
                  <a:lnTo>
                    <a:pt x="5493" y="149"/>
                  </a:lnTo>
                  <a:lnTo>
                    <a:pt x="5490" y="139"/>
                  </a:lnTo>
                  <a:lnTo>
                    <a:pt x="5489" y="128"/>
                  </a:lnTo>
                  <a:lnTo>
                    <a:pt x="5489" y="123"/>
                  </a:lnTo>
                  <a:lnTo>
                    <a:pt x="5490" y="116"/>
                  </a:lnTo>
                  <a:lnTo>
                    <a:pt x="5491" y="111"/>
                  </a:lnTo>
                  <a:lnTo>
                    <a:pt x="5493" y="107"/>
                  </a:lnTo>
                  <a:lnTo>
                    <a:pt x="5494" y="102"/>
                  </a:lnTo>
                  <a:lnTo>
                    <a:pt x="5496" y="97"/>
                  </a:lnTo>
                  <a:lnTo>
                    <a:pt x="5499" y="93"/>
                  </a:lnTo>
                  <a:lnTo>
                    <a:pt x="5501" y="89"/>
                  </a:lnTo>
                  <a:lnTo>
                    <a:pt x="5504" y="86"/>
                  </a:lnTo>
                  <a:lnTo>
                    <a:pt x="5507" y="83"/>
                  </a:lnTo>
                  <a:lnTo>
                    <a:pt x="5511" y="79"/>
                  </a:lnTo>
                  <a:lnTo>
                    <a:pt x="5515" y="77"/>
                  </a:lnTo>
                  <a:lnTo>
                    <a:pt x="5518" y="76"/>
                  </a:lnTo>
                  <a:lnTo>
                    <a:pt x="5522" y="74"/>
                  </a:lnTo>
                  <a:lnTo>
                    <a:pt x="5526" y="74"/>
                  </a:lnTo>
                  <a:lnTo>
                    <a:pt x="5532" y="74"/>
                  </a:lnTo>
                  <a:lnTo>
                    <a:pt x="5532" y="69"/>
                  </a:lnTo>
                  <a:lnTo>
                    <a:pt x="5534" y="64"/>
                  </a:lnTo>
                  <a:lnTo>
                    <a:pt x="5535" y="60"/>
                  </a:lnTo>
                  <a:lnTo>
                    <a:pt x="5537" y="55"/>
                  </a:lnTo>
                  <a:lnTo>
                    <a:pt x="5540" y="52"/>
                  </a:lnTo>
                  <a:lnTo>
                    <a:pt x="5543" y="48"/>
                  </a:lnTo>
                  <a:lnTo>
                    <a:pt x="5546" y="45"/>
                  </a:lnTo>
                  <a:lnTo>
                    <a:pt x="5550" y="42"/>
                  </a:lnTo>
                  <a:lnTo>
                    <a:pt x="5555" y="39"/>
                  </a:lnTo>
                  <a:lnTo>
                    <a:pt x="5559" y="36"/>
                  </a:lnTo>
                  <a:lnTo>
                    <a:pt x="5563" y="34"/>
                  </a:lnTo>
                  <a:lnTo>
                    <a:pt x="5567" y="33"/>
                  </a:lnTo>
                  <a:lnTo>
                    <a:pt x="5573" y="31"/>
                  </a:lnTo>
                  <a:lnTo>
                    <a:pt x="5577" y="30"/>
                  </a:lnTo>
                  <a:lnTo>
                    <a:pt x="5582" y="30"/>
                  </a:lnTo>
                  <a:lnTo>
                    <a:pt x="5586" y="30"/>
                  </a:lnTo>
                  <a:lnTo>
                    <a:pt x="5592" y="30"/>
                  </a:lnTo>
                  <a:lnTo>
                    <a:pt x="5598" y="30"/>
                  </a:lnTo>
                  <a:lnTo>
                    <a:pt x="5603" y="31"/>
                  </a:lnTo>
                  <a:lnTo>
                    <a:pt x="5607" y="32"/>
                  </a:lnTo>
                  <a:lnTo>
                    <a:pt x="5611" y="33"/>
                  </a:lnTo>
                  <a:lnTo>
                    <a:pt x="5616" y="34"/>
                  </a:lnTo>
                  <a:lnTo>
                    <a:pt x="5619" y="35"/>
                  </a:lnTo>
                  <a:lnTo>
                    <a:pt x="5622" y="37"/>
                  </a:lnTo>
                  <a:lnTo>
                    <a:pt x="5634" y="33"/>
                  </a:lnTo>
                  <a:lnTo>
                    <a:pt x="5650" y="31"/>
                  </a:lnTo>
                  <a:lnTo>
                    <a:pt x="5667" y="28"/>
                  </a:lnTo>
                  <a:lnTo>
                    <a:pt x="5688" y="26"/>
                  </a:lnTo>
                  <a:lnTo>
                    <a:pt x="5710" y="24"/>
                  </a:lnTo>
                  <a:lnTo>
                    <a:pt x="5735" y="23"/>
                  </a:lnTo>
                  <a:lnTo>
                    <a:pt x="5762" y="23"/>
                  </a:lnTo>
                  <a:lnTo>
                    <a:pt x="5792" y="22"/>
                  </a:lnTo>
                  <a:lnTo>
                    <a:pt x="5811" y="23"/>
                  </a:lnTo>
                  <a:lnTo>
                    <a:pt x="5829" y="23"/>
                  </a:lnTo>
                  <a:lnTo>
                    <a:pt x="5846" y="23"/>
                  </a:lnTo>
                  <a:lnTo>
                    <a:pt x="5860" y="24"/>
                  </a:lnTo>
                  <a:lnTo>
                    <a:pt x="5874" y="24"/>
                  </a:lnTo>
                  <a:lnTo>
                    <a:pt x="5885" y="25"/>
                  </a:lnTo>
                  <a:lnTo>
                    <a:pt x="5895" y="26"/>
                  </a:lnTo>
                  <a:lnTo>
                    <a:pt x="5903" y="27"/>
                  </a:lnTo>
                  <a:lnTo>
                    <a:pt x="5916" y="30"/>
                  </a:lnTo>
                  <a:lnTo>
                    <a:pt x="5925" y="33"/>
                  </a:lnTo>
                  <a:lnTo>
                    <a:pt x="5935" y="39"/>
                  </a:lnTo>
                  <a:lnTo>
                    <a:pt x="5941" y="46"/>
                  </a:lnTo>
                  <a:lnTo>
                    <a:pt x="5947" y="54"/>
                  </a:lnTo>
                  <a:lnTo>
                    <a:pt x="5951" y="64"/>
                  </a:lnTo>
                  <a:lnTo>
                    <a:pt x="5954" y="74"/>
                  </a:lnTo>
                  <a:lnTo>
                    <a:pt x="5954" y="87"/>
                  </a:lnTo>
                  <a:lnTo>
                    <a:pt x="5954" y="92"/>
                  </a:lnTo>
                  <a:lnTo>
                    <a:pt x="5953" y="97"/>
                  </a:lnTo>
                  <a:lnTo>
                    <a:pt x="5952" y="103"/>
                  </a:lnTo>
                  <a:lnTo>
                    <a:pt x="5950" y="108"/>
                  </a:lnTo>
                  <a:lnTo>
                    <a:pt x="5946" y="113"/>
                  </a:lnTo>
                  <a:lnTo>
                    <a:pt x="5943" y="117"/>
                  </a:lnTo>
                  <a:lnTo>
                    <a:pt x="5940" y="121"/>
                  </a:lnTo>
                  <a:lnTo>
                    <a:pt x="5936" y="126"/>
                  </a:lnTo>
                  <a:lnTo>
                    <a:pt x="5931" y="130"/>
                  </a:lnTo>
                  <a:lnTo>
                    <a:pt x="5925" y="133"/>
                  </a:lnTo>
                  <a:lnTo>
                    <a:pt x="5920" y="136"/>
                  </a:lnTo>
                  <a:lnTo>
                    <a:pt x="5914" y="138"/>
                  </a:lnTo>
                  <a:lnTo>
                    <a:pt x="5906" y="140"/>
                  </a:lnTo>
                  <a:lnTo>
                    <a:pt x="5900" y="141"/>
                  </a:lnTo>
                  <a:lnTo>
                    <a:pt x="5893" y="142"/>
                  </a:lnTo>
                  <a:lnTo>
                    <a:pt x="5884" y="142"/>
                  </a:lnTo>
                  <a:lnTo>
                    <a:pt x="5868" y="141"/>
                  </a:lnTo>
                  <a:lnTo>
                    <a:pt x="5852" y="139"/>
                  </a:lnTo>
                  <a:lnTo>
                    <a:pt x="5836" y="138"/>
                  </a:lnTo>
                  <a:lnTo>
                    <a:pt x="5821" y="137"/>
                  </a:lnTo>
                  <a:lnTo>
                    <a:pt x="5807" y="136"/>
                  </a:lnTo>
                  <a:lnTo>
                    <a:pt x="5793" y="136"/>
                  </a:lnTo>
                  <a:lnTo>
                    <a:pt x="5779" y="135"/>
                  </a:lnTo>
                  <a:lnTo>
                    <a:pt x="5767" y="135"/>
                  </a:lnTo>
                  <a:lnTo>
                    <a:pt x="5746" y="136"/>
                  </a:lnTo>
                  <a:lnTo>
                    <a:pt x="5728" y="136"/>
                  </a:lnTo>
                  <a:lnTo>
                    <a:pt x="5710" y="137"/>
                  </a:lnTo>
                  <a:lnTo>
                    <a:pt x="5694" y="139"/>
                  </a:lnTo>
                  <a:lnTo>
                    <a:pt x="5680" y="141"/>
                  </a:lnTo>
                  <a:lnTo>
                    <a:pt x="5667" y="144"/>
                  </a:lnTo>
                  <a:lnTo>
                    <a:pt x="5655" y="147"/>
                  </a:lnTo>
                  <a:lnTo>
                    <a:pt x="5646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"/>
          <p:cNvSpPr/>
          <p:nvPr/>
        </p:nvSpPr>
        <p:spPr>
          <a:xfrm>
            <a:off x="2896200" y="941400"/>
            <a:ext cx="3665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LEARN TO 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2187720" y="2516040"/>
            <a:ext cx="505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BEFORE MARRIAGE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>
            <a:off x="2818080" y="1600200"/>
            <a:ext cx="388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02444"/>
                </a:solidFill>
                <a:latin typeface="Geometr231 Hv BT"/>
              </a:rPr>
              <a:t>NO TO SE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7" name=""/>
          <p:cNvGrpSpPr/>
          <p:nvPr/>
        </p:nvGrpSpPr>
        <p:grpSpPr>
          <a:xfrm>
            <a:off x="2684520" y="3327480"/>
            <a:ext cx="3773520" cy="2457360"/>
            <a:chOff x="2684520" y="3327480"/>
            <a:chExt cx="3773520" cy="2457360"/>
          </a:xfrm>
        </p:grpSpPr>
        <p:sp>
          <p:nvSpPr>
            <p:cNvPr id="5368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3598920" y="3886200"/>
              <a:ext cx="2011320" cy="1324080"/>
            </a:xfrm>
            <a:custGeom>
              <a:avLst/>
              <a:gdLst/>
              <a:ahLst/>
              <a:rect l="l" t="t" r="r" b="b"/>
              <a:pathLst>
                <a:path w="7602" h="5009">
                  <a:moveTo>
                    <a:pt x="904" y="5009"/>
                  </a:moveTo>
                  <a:lnTo>
                    <a:pt x="848" y="4823"/>
                  </a:lnTo>
                  <a:lnTo>
                    <a:pt x="791" y="4639"/>
                  </a:lnTo>
                  <a:lnTo>
                    <a:pt x="735" y="4454"/>
                  </a:lnTo>
                  <a:lnTo>
                    <a:pt x="678" y="4268"/>
                  </a:lnTo>
                  <a:lnTo>
                    <a:pt x="622" y="4084"/>
                  </a:lnTo>
                  <a:lnTo>
                    <a:pt x="565" y="3898"/>
                  </a:lnTo>
                  <a:lnTo>
                    <a:pt x="509" y="3713"/>
                  </a:lnTo>
                  <a:lnTo>
                    <a:pt x="453" y="3528"/>
                  </a:lnTo>
                  <a:lnTo>
                    <a:pt x="396" y="3342"/>
                  </a:lnTo>
                  <a:lnTo>
                    <a:pt x="340" y="3158"/>
                  </a:lnTo>
                  <a:lnTo>
                    <a:pt x="283" y="2973"/>
                  </a:lnTo>
                  <a:lnTo>
                    <a:pt x="226" y="2787"/>
                  </a:lnTo>
                  <a:lnTo>
                    <a:pt x="169" y="2602"/>
                  </a:lnTo>
                  <a:lnTo>
                    <a:pt x="113" y="2416"/>
                  </a:lnTo>
                  <a:lnTo>
                    <a:pt x="56" y="2232"/>
                  </a:lnTo>
                  <a:lnTo>
                    <a:pt x="0" y="2047"/>
                  </a:lnTo>
                  <a:lnTo>
                    <a:pt x="41" y="2034"/>
                  </a:lnTo>
                  <a:lnTo>
                    <a:pt x="84" y="2021"/>
                  </a:lnTo>
                  <a:lnTo>
                    <a:pt x="125" y="2009"/>
                  </a:lnTo>
                  <a:lnTo>
                    <a:pt x="168" y="1995"/>
                  </a:lnTo>
                  <a:lnTo>
                    <a:pt x="209" y="1982"/>
                  </a:lnTo>
                  <a:lnTo>
                    <a:pt x="251" y="1969"/>
                  </a:lnTo>
                  <a:lnTo>
                    <a:pt x="294" y="1957"/>
                  </a:lnTo>
                  <a:lnTo>
                    <a:pt x="335" y="1944"/>
                  </a:lnTo>
                  <a:lnTo>
                    <a:pt x="430" y="2004"/>
                  </a:lnTo>
                  <a:lnTo>
                    <a:pt x="523" y="2064"/>
                  </a:lnTo>
                  <a:lnTo>
                    <a:pt x="616" y="2124"/>
                  </a:lnTo>
                  <a:lnTo>
                    <a:pt x="709" y="2184"/>
                  </a:lnTo>
                  <a:lnTo>
                    <a:pt x="804" y="2245"/>
                  </a:lnTo>
                  <a:lnTo>
                    <a:pt x="897" y="2305"/>
                  </a:lnTo>
                  <a:lnTo>
                    <a:pt x="991" y="2364"/>
                  </a:lnTo>
                  <a:lnTo>
                    <a:pt x="1084" y="2424"/>
                  </a:lnTo>
                  <a:lnTo>
                    <a:pt x="1178" y="2484"/>
                  </a:lnTo>
                  <a:lnTo>
                    <a:pt x="1272" y="2544"/>
                  </a:lnTo>
                  <a:lnTo>
                    <a:pt x="1365" y="2604"/>
                  </a:lnTo>
                  <a:lnTo>
                    <a:pt x="1459" y="2664"/>
                  </a:lnTo>
                  <a:lnTo>
                    <a:pt x="1553" y="2724"/>
                  </a:lnTo>
                  <a:lnTo>
                    <a:pt x="1647" y="2784"/>
                  </a:lnTo>
                  <a:lnTo>
                    <a:pt x="1740" y="2844"/>
                  </a:lnTo>
                  <a:lnTo>
                    <a:pt x="1835" y="2903"/>
                  </a:lnTo>
                  <a:lnTo>
                    <a:pt x="1810" y="2823"/>
                  </a:lnTo>
                  <a:lnTo>
                    <a:pt x="1785" y="2741"/>
                  </a:lnTo>
                  <a:lnTo>
                    <a:pt x="1760" y="2660"/>
                  </a:lnTo>
                  <a:lnTo>
                    <a:pt x="1736" y="2580"/>
                  </a:lnTo>
                  <a:lnTo>
                    <a:pt x="1711" y="2498"/>
                  </a:lnTo>
                  <a:lnTo>
                    <a:pt x="1686" y="2417"/>
                  </a:lnTo>
                  <a:lnTo>
                    <a:pt x="1662" y="2337"/>
                  </a:lnTo>
                  <a:lnTo>
                    <a:pt x="1637" y="2255"/>
                  </a:lnTo>
                  <a:lnTo>
                    <a:pt x="1613" y="2174"/>
                  </a:lnTo>
                  <a:lnTo>
                    <a:pt x="1587" y="2093"/>
                  </a:lnTo>
                  <a:lnTo>
                    <a:pt x="1563" y="2012"/>
                  </a:lnTo>
                  <a:lnTo>
                    <a:pt x="1538" y="1931"/>
                  </a:lnTo>
                  <a:lnTo>
                    <a:pt x="1514" y="1850"/>
                  </a:lnTo>
                  <a:lnTo>
                    <a:pt x="1488" y="1769"/>
                  </a:lnTo>
                  <a:lnTo>
                    <a:pt x="1464" y="1687"/>
                  </a:lnTo>
                  <a:lnTo>
                    <a:pt x="1439" y="1607"/>
                  </a:lnTo>
                  <a:lnTo>
                    <a:pt x="1534" y="1578"/>
                  </a:lnTo>
                  <a:lnTo>
                    <a:pt x="1630" y="1549"/>
                  </a:lnTo>
                  <a:lnTo>
                    <a:pt x="1724" y="1519"/>
                  </a:lnTo>
                  <a:lnTo>
                    <a:pt x="1820" y="1490"/>
                  </a:lnTo>
                  <a:lnTo>
                    <a:pt x="1916" y="1462"/>
                  </a:lnTo>
                  <a:lnTo>
                    <a:pt x="2011" y="1432"/>
                  </a:lnTo>
                  <a:lnTo>
                    <a:pt x="2107" y="1403"/>
                  </a:lnTo>
                  <a:lnTo>
                    <a:pt x="2204" y="1373"/>
                  </a:lnTo>
                  <a:lnTo>
                    <a:pt x="2260" y="1558"/>
                  </a:lnTo>
                  <a:lnTo>
                    <a:pt x="2316" y="1744"/>
                  </a:lnTo>
                  <a:lnTo>
                    <a:pt x="2373" y="1929"/>
                  </a:lnTo>
                  <a:lnTo>
                    <a:pt x="2429" y="2113"/>
                  </a:lnTo>
                  <a:lnTo>
                    <a:pt x="2486" y="2299"/>
                  </a:lnTo>
                  <a:lnTo>
                    <a:pt x="2542" y="2484"/>
                  </a:lnTo>
                  <a:lnTo>
                    <a:pt x="2599" y="2670"/>
                  </a:lnTo>
                  <a:lnTo>
                    <a:pt x="2655" y="2854"/>
                  </a:lnTo>
                  <a:lnTo>
                    <a:pt x="2712" y="3039"/>
                  </a:lnTo>
                  <a:lnTo>
                    <a:pt x="2768" y="3225"/>
                  </a:lnTo>
                  <a:lnTo>
                    <a:pt x="2825" y="3410"/>
                  </a:lnTo>
                  <a:lnTo>
                    <a:pt x="2881" y="3594"/>
                  </a:lnTo>
                  <a:lnTo>
                    <a:pt x="2937" y="3780"/>
                  </a:lnTo>
                  <a:lnTo>
                    <a:pt x="2994" y="3965"/>
                  </a:lnTo>
                  <a:lnTo>
                    <a:pt x="3050" y="4150"/>
                  </a:lnTo>
                  <a:lnTo>
                    <a:pt x="3108" y="4335"/>
                  </a:lnTo>
                  <a:lnTo>
                    <a:pt x="3064" y="4349"/>
                  </a:lnTo>
                  <a:lnTo>
                    <a:pt x="3020" y="4361"/>
                  </a:lnTo>
                  <a:lnTo>
                    <a:pt x="2977" y="4375"/>
                  </a:lnTo>
                  <a:lnTo>
                    <a:pt x="2933" y="4388"/>
                  </a:lnTo>
                  <a:lnTo>
                    <a:pt x="2889" y="4402"/>
                  </a:lnTo>
                  <a:lnTo>
                    <a:pt x="2846" y="4414"/>
                  </a:lnTo>
                  <a:lnTo>
                    <a:pt x="2803" y="4428"/>
                  </a:lnTo>
                  <a:lnTo>
                    <a:pt x="2759" y="4441"/>
                  </a:lnTo>
                  <a:lnTo>
                    <a:pt x="2667" y="4382"/>
                  </a:lnTo>
                  <a:lnTo>
                    <a:pt x="2573" y="4322"/>
                  </a:lnTo>
                  <a:lnTo>
                    <a:pt x="2481" y="4264"/>
                  </a:lnTo>
                  <a:lnTo>
                    <a:pt x="2389" y="4204"/>
                  </a:lnTo>
                  <a:lnTo>
                    <a:pt x="2297" y="4145"/>
                  </a:lnTo>
                  <a:lnTo>
                    <a:pt x="2204" y="4085"/>
                  </a:lnTo>
                  <a:lnTo>
                    <a:pt x="2111" y="4025"/>
                  </a:lnTo>
                  <a:lnTo>
                    <a:pt x="2019" y="3966"/>
                  </a:lnTo>
                  <a:lnTo>
                    <a:pt x="1926" y="3907"/>
                  </a:lnTo>
                  <a:lnTo>
                    <a:pt x="1834" y="3848"/>
                  </a:lnTo>
                  <a:lnTo>
                    <a:pt x="1742" y="3788"/>
                  </a:lnTo>
                  <a:lnTo>
                    <a:pt x="1648" y="3728"/>
                  </a:lnTo>
                  <a:lnTo>
                    <a:pt x="1556" y="3668"/>
                  </a:lnTo>
                  <a:lnTo>
                    <a:pt x="1463" y="3609"/>
                  </a:lnTo>
                  <a:lnTo>
                    <a:pt x="1371" y="3550"/>
                  </a:lnTo>
                  <a:lnTo>
                    <a:pt x="1279" y="3490"/>
                  </a:lnTo>
                  <a:lnTo>
                    <a:pt x="1303" y="3570"/>
                  </a:lnTo>
                  <a:lnTo>
                    <a:pt x="1327" y="3651"/>
                  </a:lnTo>
                  <a:lnTo>
                    <a:pt x="1352" y="3731"/>
                  </a:lnTo>
                  <a:lnTo>
                    <a:pt x="1376" y="3811"/>
                  </a:lnTo>
                  <a:lnTo>
                    <a:pt x="1401" y="3892"/>
                  </a:lnTo>
                  <a:lnTo>
                    <a:pt x="1426" y="3972"/>
                  </a:lnTo>
                  <a:lnTo>
                    <a:pt x="1450" y="4053"/>
                  </a:lnTo>
                  <a:lnTo>
                    <a:pt x="1474" y="4132"/>
                  </a:lnTo>
                  <a:lnTo>
                    <a:pt x="1499" y="4213"/>
                  </a:lnTo>
                  <a:lnTo>
                    <a:pt x="1524" y="4293"/>
                  </a:lnTo>
                  <a:lnTo>
                    <a:pt x="1548" y="4373"/>
                  </a:lnTo>
                  <a:lnTo>
                    <a:pt x="1572" y="4454"/>
                  </a:lnTo>
                  <a:lnTo>
                    <a:pt x="1596" y="4534"/>
                  </a:lnTo>
                  <a:lnTo>
                    <a:pt x="1621" y="4614"/>
                  </a:lnTo>
                  <a:lnTo>
                    <a:pt x="1646" y="4694"/>
                  </a:lnTo>
                  <a:lnTo>
                    <a:pt x="1670" y="4775"/>
                  </a:lnTo>
                  <a:lnTo>
                    <a:pt x="1575" y="4804"/>
                  </a:lnTo>
                  <a:lnTo>
                    <a:pt x="1478" y="4834"/>
                  </a:lnTo>
                  <a:lnTo>
                    <a:pt x="1382" y="4862"/>
                  </a:lnTo>
                  <a:lnTo>
                    <a:pt x="1287" y="4891"/>
                  </a:lnTo>
                  <a:lnTo>
                    <a:pt x="1191" y="4921"/>
                  </a:lnTo>
                  <a:lnTo>
                    <a:pt x="1095" y="4950"/>
                  </a:lnTo>
                  <a:lnTo>
                    <a:pt x="1000" y="4980"/>
                  </a:lnTo>
                  <a:lnTo>
                    <a:pt x="904" y="5009"/>
                  </a:lnTo>
                  <a:close/>
                  <a:moveTo>
                    <a:pt x="4297" y="1548"/>
                  </a:moveTo>
                  <a:lnTo>
                    <a:pt x="4260" y="1559"/>
                  </a:lnTo>
                  <a:lnTo>
                    <a:pt x="4224" y="1573"/>
                  </a:lnTo>
                  <a:lnTo>
                    <a:pt x="4190" y="1588"/>
                  </a:lnTo>
                  <a:lnTo>
                    <a:pt x="4156" y="1604"/>
                  </a:lnTo>
                  <a:lnTo>
                    <a:pt x="4125" y="1623"/>
                  </a:lnTo>
                  <a:lnTo>
                    <a:pt x="4094" y="1641"/>
                  </a:lnTo>
                  <a:lnTo>
                    <a:pt x="4065" y="1662"/>
                  </a:lnTo>
                  <a:lnTo>
                    <a:pt x="4038" y="1684"/>
                  </a:lnTo>
                  <a:lnTo>
                    <a:pt x="4011" y="1708"/>
                  </a:lnTo>
                  <a:lnTo>
                    <a:pt x="3985" y="1732"/>
                  </a:lnTo>
                  <a:lnTo>
                    <a:pt x="3960" y="1759"/>
                  </a:lnTo>
                  <a:lnTo>
                    <a:pt x="3939" y="1786"/>
                  </a:lnTo>
                  <a:lnTo>
                    <a:pt x="3917" y="1816"/>
                  </a:lnTo>
                  <a:lnTo>
                    <a:pt x="3896" y="1846"/>
                  </a:lnTo>
                  <a:lnTo>
                    <a:pt x="3876" y="1878"/>
                  </a:lnTo>
                  <a:lnTo>
                    <a:pt x="3859" y="1912"/>
                  </a:lnTo>
                  <a:lnTo>
                    <a:pt x="3843" y="1946"/>
                  </a:lnTo>
                  <a:lnTo>
                    <a:pt x="3828" y="1981"/>
                  </a:lnTo>
                  <a:lnTo>
                    <a:pt x="3815" y="2016"/>
                  </a:lnTo>
                  <a:lnTo>
                    <a:pt x="3805" y="2051"/>
                  </a:lnTo>
                  <a:lnTo>
                    <a:pt x="3796" y="2087"/>
                  </a:lnTo>
                  <a:lnTo>
                    <a:pt x="3789" y="2123"/>
                  </a:lnTo>
                  <a:lnTo>
                    <a:pt x="3783" y="2158"/>
                  </a:lnTo>
                  <a:lnTo>
                    <a:pt x="3780" y="2195"/>
                  </a:lnTo>
                  <a:lnTo>
                    <a:pt x="3778" y="2232"/>
                  </a:lnTo>
                  <a:lnTo>
                    <a:pt x="3778" y="2269"/>
                  </a:lnTo>
                  <a:lnTo>
                    <a:pt x="3781" y="2306"/>
                  </a:lnTo>
                  <a:lnTo>
                    <a:pt x="3784" y="2344"/>
                  </a:lnTo>
                  <a:lnTo>
                    <a:pt x="3790" y="2381"/>
                  </a:lnTo>
                  <a:lnTo>
                    <a:pt x="3797" y="2420"/>
                  </a:lnTo>
                  <a:lnTo>
                    <a:pt x="3806" y="2458"/>
                  </a:lnTo>
                  <a:lnTo>
                    <a:pt x="3818" y="2496"/>
                  </a:lnTo>
                  <a:lnTo>
                    <a:pt x="3829" y="2535"/>
                  </a:lnTo>
                  <a:lnTo>
                    <a:pt x="3844" y="2572"/>
                  </a:lnTo>
                  <a:lnTo>
                    <a:pt x="3859" y="2607"/>
                  </a:lnTo>
                  <a:lnTo>
                    <a:pt x="3875" y="2642"/>
                  </a:lnTo>
                  <a:lnTo>
                    <a:pt x="3894" y="2675"/>
                  </a:lnTo>
                  <a:lnTo>
                    <a:pt x="3913" y="2708"/>
                  </a:lnTo>
                  <a:lnTo>
                    <a:pt x="3933" y="2738"/>
                  </a:lnTo>
                  <a:lnTo>
                    <a:pt x="3955" y="2768"/>
                  </a:lnTo>
                  <a:lnTo>
                    <a:pt x="3979" y="2795"/>
                  </a:lnTo>
                  <a:lnTo>
                    <a:pt x="4003" y="2822"/>
                  </a:lnTo>
                  <a:lnTo>
                    <a:pt x="4028" y="2848"/>
                  </a:lnTo>
                  <a:lnTo>
                    <a:pt x="4056" y="2872"/>
                  </a:lnTo>
                  <a:lnTo>
                    <a:pt x="4085" y="2895"/>
                  </a:lnTo>
                  <a:lnTo>
                    <a:pt x="4115" y="2917"/>
                  </a:lnTo>
                  <a:lnTo>
                    <a:pt x="4146" y="2937"/>
                  </a:lnTo>
                  <a:lnTo>
                    <a:pt x="4178" y="2956"/>
                  </a:lnTo>
                  <a:lnTo>
                    <a:pt x="4212" y="2974"/>
                  </a:lnTo>
                  <a:lnTo>
                    <a:pt x="4245" y="2990"/>
                  </a:lnTo>
                  <a:lnTo>
                    <a:pt x="4278" y="3004"/>
                  </a:lnTo>
                  <a:lnTo>
                    <a:pt x="4313" y="3016"/>
                  </a:lnTo>
                  <a:lnTo>
                    <a:pt x="4347" y="3026"/>
                  </a:lnTo>
                  <a:lnTo>
                    <a:pt x="4382" y="3035"/>
                  </a:lnTo>
                  <a:lnTo>
                    <a:pt x="4417" y="3040"/>
                  </a:lnTo>
                  <a:lnTo>
                    <a:pt x="4452" y="3045"/>
                  </a:lnTo>
                  <a:lnTo>
                    <a:pt x="4488" y="3047"/>
                  </a:lnTo>
                  <a:lnTo>
                    <a:pt x="4524" y="3049"/>
                  </a:lnTo>
                  <a:lnTo>
                    <a:pt x="4559" y="3047"/>
                  </a:lnTo>
                  <a:lnTo>
                    <a:pt x="4596" y="3044"/>
                  </a:lnTo>
                  <a:lnTo>
                    <a:pt x="4633" y="3039"/>
                  </a:lnTo>
                  <a:lnTo>
                    <a:pt x="4670" y="3032"/>
                  </a:lnTo>
                  <a:lnTo>
                    <a:pt x="4707" y="3024"/>
                  </a:lnTo>
                  <a:lnTo>
                    <a:pt x="4745" y="3013"/>
                  </a:lnTo>
                  <a:lnTo>
                    <a:pt x="4782" y="3001"/>
                  </a:lnTo>
                  <a:lnTo>
                    <a:pt x="4817" y="2988"/>
                  </a:lnTo>
                  <a:lnTo>
                    <a:pt x="4851" y="2973"/>
                  </a:lnTo>
                  <a:lnTo>
                    <a:pt x="4884" y="2956"/>
                  </a:lnTo>
                  <a:lnTo>
                    <a:pt x="4917" y="2938"/>
                  </a:lnTo>
                  <a:lnTo>
                    <a:pt x="4947" y="2920"/>
                  </a:lnTo>
                  <a:lnTo>
                    <a:pt x="4976" y="2899"/>
                  </a:lnTo>
                  <a:lnTo>
                    <a:pt x="5004" y="2877"/>
                  </a:lnTo>
                  <a:lnTo>
                    <a:pt x="5031" y="2853"/>
                  </a:lnTo>
                  <a:lnTo>
                    <a:pt x="5057" y="2829"/>
                  </a:lnTo>
                  <a:lnTo>
                    <a:pt x="5081" y="2802"/>
                  </a:lnTo>
                  <a:lnTo>
                    <a:pt x="5104" y="2774"/>
                  </a:lnTo>
                  <a:lnTo>
                    <a:pt x="5126" y="2745"/>
                  </a:lnTo>
                  <a:lnTo>
                    <a:pt x="5147" y="2715"/>
                  </a:lnTo>
                  <a:lnTo>
                    <a:pt x="5165" y="2682"/>
                  </a:lnTo>
                  <a:lnTo>
                    <a:pt x="5184" y="2649"/>
                  </a:lnTo>
                  <a:lnTo>
                    <a:pt x="5200" y="2614"/>
                  </a:lnTo>
                  <a:lnTo>
                    <a:pt x="5214" y="2580"/>
                  </a:lnTo>
                  <a:lnTo>
                    <a:pt x="5226" y="2545"/>
                  </a:lnTo>
                  <a:lnTo>
                    <a:pt x="5238" y="2511"/>
                  </a:lnTo>
                  <a:lnTo>
                    <a:pt x="5246" y="2475"/>
                  </a:lnTo>
                  <a:lnTo>
                    <a:pt x="5254" y="2439"/>
                  </a:lnTo>
                  <a:lnTo>
                    <a:pt x="5259" y="2404"/>
                  </a:lnTo>
                  <a:lnTo>
                    <a:pt x="5262" y="2367"/>
                  </a:lnTo>
                  <a:lnTo>
                    <a:pt x="5264" y="2330"/>
                  </a:lnTo>
                  <a:lnTo>
                    <a:pt x="5264" y="2293"/>
                  </a:lnTo>
                  <a:lnTo>
                    <a:pt x="5262" y="2256"/>
                  </a:lnTo>
                  <a:lnTo>
                    <a:pt x="5259" y="2218"/>
                  </a:lnTo>
                  <a:lnTo>
                    <a:pt x="5253" y="2180"/>
                  </a:lnTo>
                  <a:lnTo>
                    <a:pt x="5246" y="2142"/>
                  </a:lnTo>
                  <a:lnTo>
                    <a:pt x="5237" y="2104"/>
                  </a:lnTo>
                  <a:lnTo>
                    <a:pt x="5225" y="2066"/>
                  </a:lnTo>
                  <a:lnTo>
                    <a:pt x="5214" y="2028"/>
                  </a:lnTo>
                  <a:lnTo>
                    <a:pt x="5200" y="1991"/>
                  </a:lnTo>
                  <a:lnTo>
                    <a:pt x="5184" y="1956"/>
                  </a:lnTo>
                  <a:lnTo>
                    <a:pt x="5168" y="1921"/>
                  </a:lnTo>
                  <a:lnTo>
                    <a:pt x="5149" y="1889"/>
                  </a:lnTo>
                  <a:lnTo>
                    <a:pt x="5131" y="1857"/>
                  </a:lnTo>
                  <a:lnTo>
                    <a:pt x="5110" y="1826"/>
                  </a:lnTo>
                  <a:lnTo>
                    <a:pt x="5088" y="1797"/>
                  </a:lnTo>
                  <a:lnTo>
                    <a:pt x="5064" y="1769"/>
                  </a:lnTo>
                  <a:lnTo>
                    <a:pt x="5040" y="1741"/>
                  </a:lnTo>
                  <a:lnTo>
                    <a:pt x="5014" y="1716"/>
                  </a:lnTo>
                  <a:lnTo>
                    <a:pt x="4987" y="1692"/>
                  </a:lnTo>
                  <a:lnTo>
                    <a:pt x="4958" y="1669"/>
                  </a:lnTo>
                  <a:lnTo>
                    <a:pt x="4928" y="1647"/>
                  </a:lnTo>
                  <a:lnTo>
                    <a:pt x="4897" y="1626"/>
                  </a:lnTo>
                  <a:lnTo>
                    <a:pt x="4864" y="1607"/>
                  </a:lnTo>
                  <a:lnTo>
                    <a:pt x="4830" y="1589"/>
                  </a:lnTo>
                  <a:lnTo>
                    <a:pt x="4797" y="1573"/>
                  </a:lnTo>
                  <a:lnTo>
                    <a:pt x="4762" y="1558"/>
                  </a:lnTo>
                  <a:lnTo>
                    <a:pt x="4728" y="1547"/>
                  </a:lnTo>
                  <a:lnTo>
                    <a:pt x="4693" y="1536"/>
                  </a:lnTo>
                  <a:lnTo>
                    <a:pt x="4659" y="1528"/>
                  </a:lnTo>
                  <a:lnTo>
                    <a:pt x="4624" y="1521"/>
                  </a:lnTo>
                  <a:lnTo>
                    <a:pt x="4588" y="1517"/>
                  </a:lnTo>
                  <a:lnTo>
                    <a:pt x="4553" y="1515"/>
                  </a:lnTo>
                  <a:lnTo>
                    <a:pt x="4517" y="1513"/>
                  </a:lnTo>
                  <a:lnTo>
                    <a:pt x="4480" y="1515"/>
                  </a:lnTo>
                  <a:lnTo>
                    <a:pt x="4444" y="1517"/>
                  </a:lnTo>
                  <a:lnTo>
                    <a:pt x="4407" y="1521"/>
                  </a:lnTo>
                  <a:lnTo>
                    <a:pt x="4371" y="1528"/>
                  </a:lnTo>
                  <a:lnTo>
                    <a:pt x="4334" y="1538"/>
                  </a:lnTo>
                  <a:lnTo>
                    <a:pt x="4297" y="1548"/>
                  </a:lnTo>
                  <a:close/>
                  <a:moveTo>
                    <a:pt x="4040" y="726"/>
                  </a:moveTo>
                  <a:lnTo>
                    <a:pt x="4076" y="715"/>
                  </a:lnTo>
                  <a:lnTo>
                    <a:pt x="4110" y="705"/>
                  </a:lnTo>
                  <a:lnTo>
                    <a:pt x="4146" y="697"/>
                  </a:lnTo>
                  <a:lnTo>
                    <a:pt x="4180" y="689"/>
                  </a:lnTo>
                  <a:lnTo>
                    <a:pt x="4216" y="682"/>
                  </a:lnTo>
                  <a:lnTo>
                    <a:pt x="4252" y="676"/>
                  </a:lnTo>
                  <a:lnTo>
                    <a:pt x="4286" y="670"/>
                  </a:lnTo>
                  <a:lnTo>
                    <a:pt x="4322" y="666"/>
                  </a:lnTo>
                  <a:lnTo>
                    <a:pt x="4357" y="662"/>
                  </a:lnTo>
                  <a:lnTo>
                    <a:pt x="4392" y="659"/>
                  </a:lnTo>
                  <a:lnTo>
                    <a:pt x="4427" y="657"/>
                  </a:lnTo>
                  <a:lnTo>
                    <a:pt x="4463" y="655"/>
                  </a:lnTo>
                  <a:lnTo>
                    <a:pt x="4497" y="655"/>
                  </a:lnTo>
                  <a:lnTo>
                    <a:pt x="4533" y="655"/>
                  </a:lnTo>
                  <a:lnTo>
                    <a:pt x="4569" y="657"/>
                  </a:lnTo>
                  <a:lnTo>
                    <a:pt x="4603" y="658"/>
                  </a:lnTo>
                  <a:lnTo>
                    <a:pt x="4639" y="660"/>
                  </a:lnTo>
                  <a:lnTo>
                    <a:pt x="4673" y="664"/>
                  </a:lnTo>
                  <a:lnTo>
                    <a:pt x="4708" y="668"/>
                  </a:lnTo>
                  <a:lnTo>
                    <a:pt x="4743" y="673"/>
                  </a:lnTo>
                  <a:lnTo>
                    <a:pt x="4776" y="680"/>
                  </a:lnTo>
                  <a:lnTo>
                    <a:pt x="4809" y="685"/>
                  </a:lnTo>
                  <a:lnTo>
                    <a:pt x="4843" y="693"/>
                  </a:lnTo>
                  <a:lnTo>
                    <a:pt x="4876" y="702"/>
                  </a:lnTo>
                  <a:lnTo>
                    <a:pt x="4910" y="711"/>
                  </a:lnTo>
                  <a:lnTo>
                    <a:pt x="4942" y="720"/>
                  </a:lnTo>
                  <a:lnTo>
                    <a:pt x="4974" y="730"/>
                  </a:lnTo>
                  <a:lnTo>
                    <a:pt x="5006" y="742"/>
                  </a:lnTo>
                  <a:lnTo>
                    <a:pt x="5038" y="754"/>
                  </a:lnTo>
                  <a:lnTo>
                    <a:pt x="5069" y="767"/>
                  </a:lnTo>
                  <a:lnTo>
                    <a:pt x="5100" y="781"/>
                  </a:lnTo>
                  <a:lnTo>
                    <a:pt x="5131" y="795"/>
                  </a:lnTo>
                  <a:lnTo>
                    <a:pt x="5171" y="816"/>
                  </a:lnTo>
                  <a:lnTo>
                    <a:pt x="5210" y="836"/>
                  </a:lnTo>
                  <a:lnTo>
                    <a:pt x="5249" y="858"/>
                  </a:lnTo>
                  <a:lnTo>
                    <a:pt x="5287" y="880"/>
                  </a:lnTo>
                  <a:lnTo>
                    <a:pt x="5324" y="904"/>
                  </a:lnTo>
                  <a:lnTo>
                    <a:pt x="5361" y="927"/>
                  </a:lnTo>
                  <a:lnTo>
                    <a:pt x="5397" y="953"/>
                  </a:lnTo>
                  <a:lnTo>
                    <a:pt x="5433" y="978"/>
                  </a:lnTo>
                  <a:lnTo>
                    <a:pt x="5466" y="1006"/>
                  </a:lnTo>
                  <a:lnTo>
                    <a:pt x="5501" y="1032"/>
                  </a:lnTo>
                  <a:lnTo>
                    <a:pt x="5533" y="1061"/>
                  </a:lnTo>
                  <a:lnTo>
                    <a:pt x="5565" y="1090"/>
                  </a:lnTo>
                  <a:lnTo>
                    <a:pt x="5597" y="1121"/>
                  </a:lnTo>
                  <a:lnTo>
                    <a:pt x="5627" y="1151"/>
                  </a:lnTo>
                  <a:lnTo>
                    <a:pt x="5657" y="1183"/>
                  </a:lnTo>
                  <a:lnTo>
                    <a:pt x="5686" y="1216"/>
                  </a:lnTo>
                  <a:lnTo>
                    <a:pt x="5715" y="1250"/>
                  </a:lnTo>
                  <a:lnTo>
                    <a:pt x="5743" y="1283"/>
                  </a:lnTo>
                  <a:lnTo>
                    <a:pt x="5768" y="1319"/>
                  </a:lnTo>
                  <a:lnTo>
                    <a:pt x="5793" y="1353"/>
                  </a:lnTo>
                  <a:lnTo>
                    <a:pt x="5817" y="1390"/>
                  </a:lnTo>
                  <a:lnTo>
                    <a:pt x="5842" y="1426"/>
                  </a:lnTo>
                  <a:lnTo>
                    <a:pt x="5863" y="1463"/>
                  </a:lnTo>
                  <a:lnTo>
                    <a:pt x="5885" y="1501"/>
                  </a:lnTo>
                  <a:lnTo>
                    <a:pt x="5905" y="1539"/>
                  </a:lnTo>
                  <a:lnTo>
                    <a:pt x="5925" y="1578"/>
                  </a:lnTo>
                  <a:lnTo>
                    <a:pt x="5943" y="1617"/>
                  </a:lnTo>
                  <a:lnTo>
                    <a:pt x="5960" y="1657"/>
                  </a:lnTo>
                  <a:lnTo>
                    <a:pt x="5978" y="1698"/>
                  </a:lnTo>
                  <a:lnTo>
                    <a:pt x="5993" y="1739"/>
                  </a:lnTo>
                  <a:lnTo>
                    <a:pt x="6007" y="1782"/>
                  </a:lnTo>
                  <a:lnTo>
                    <a:pt x="6021" y="1823"/>
                  </a:lnTo>
                  <a:lnTo>
                    <a:pt x="6033" y="1866"/>
                  </a:lnTo>
                  <a:lnTo>
                    <a:pt x="6044" y="1910"/>
                  </a:lnTo>
                  <a:lnTo>
                    <a:pt x="6055" y="1952"/>
                  </a:lnTo>
                  <a:lnTo>
                    <a:pt x="6064" y="1995"/>
                  </a:lnTo>
                  <a:lnTo>
                    <a:pt x="6072" y="2039"/>
                  </a:lnTo>
                  <a:lnTo>
                    <a:pt x="6079" y="2081"/>
                  </a:lnTo>
                  <a:lnTo>
                    <a:pt x="6084" y="2125"/>
                  </a:lnTo>
                  <a:lnTo>
                    <a:pt x="6088" y="2168"/>
                  </a:lnTo>
                  <a:lnTo>
                    <a:pt x="6092" y="2211"/>
                  </a:lnTo>
                  <a:lnTo>
                    <a:pt x="6094" y="2254"/>
                  </a:lnTo>
                  <a:lnTo>
                    <a:pt x="6095" y="2298"/>
                  </a:lnTo>
                  <a:lnTo>
                    <a:pt x="6095" y="2341"/>
                  </a:lnTo>
                  <a:lnTo>
                    <a:pt x="6094" y="2385"/>
                  </a:lnTo>
                  <a:lnTo>
                    <a:pt x="6092" y="2429"/>
                  </a:lnTo>
                  <a:lnTo>
                    <a:pt x="6088" y="2473"/>
                  </a:lnTo>
                  <a:lnTo>
                    <a:pt x="6084" y="2515"/>
                  </a:lnTo>
                  <a:lnTo>
                    <a:pt x="6078" y="2560"/>
                  </a:lnTo>
                  <a:lnTo>
                    <a:pt x="6071" y="2603"/>
                  </a:lnTo>
                  <a:lnTo>
                    <a:pt x="6063" y="2647"/>
                  </a:lnTo>
                  <a:lnTo>
                    <a:pt x="6054" y="2689"/>
                  </a:lnTo>
                  <a:lnTo>
                    <a:pt x="6043" y="2732"/>
                  </a:lnTo>
                  <a:lnTo>
                    <a:pt x="6033" y="2773"/>
                  </a:lnTo>
                  <a:lnTo>
                    <a:pt x="6020" y="2816"/>
                  </a:lnTo>
                  <a:lnTo>
                    <a:pt x="6006" y="2857"/>
                  </a:lnTo>
                  <a:lnTo>
                    <a:pt x="5993" y="2898"/>
                  </a:lnTo>
                  <a:lnTo>
                    <a:pt x="5976" y="2939"/>
                  </a:lnTo>
                  <a:lnTo>
                    <a:pt x="5960" y="2979"/>
                  </a:lnTo>
                  <a:lnTo>
                    <a:pt x="5942" y="3020"/>
                  </a:lnTo>
                  <a:lnTo>
                    <a:pt x="5923" y="3059"/>
                  </a:lnTo>
                  <a:lnTo>
                    <a:pt x="5904" y="3099"/>
                  </a:lnTo>
                  <a:lnTo>
                    <a:pt x="5883" y="3138"/>
                  </a:lnTo>
                  <a:lnTo>
                    <a:pt x="5860" y="3176"/>
                  </a:lnTo>
                  <a:lnTo>
                    <a:pt x="5843" y="3206"/>
                  </a:lnTo>
                  <a:lnTo>
                    <a:pt x="5824" y="3235"/>
                  </a:lnTo>
                  <a:lnTo>
                    <a:pt x="5805" y="3264"/>
                  </a:lnTo>
                  <a:lnTo>
                    <a:pt x="5785" y="3292"/>
                  </a:lnTo>
                  <a:lnTo>
                    <a:pt x="5766" y="3319"/>
                  </a:lnTo>
                  <a:lnTo>
                    <a:pt x="5744" y="3346"/>
                  </a:lnTo>
                  <a:lnTo>
                    <a:pt x="5722" y="3372"/>
                  </a:lnTo>
                  <a:lnTo>
                    <a:pt x="5700" y="3397"/>
                  </a:lnTo>
                  <a:lnTo>
                    <a:pt x="5677" y="3424"/>
                  </a:lnTo>
                  <a:lnTo>
                    <a:pt x="5653" y="3448"/>
                  </a:lnTo>
                  <a:lnTo>
                    <a:pt x="5628" y="3472"/>
                  </a:lnTo>
                  <a:lnTo>
                    <a:pt x="5603" y="3497"/>
                  </a:lnTo>
                  <a:lnTo>
                    <a:pt x="5578" y="3520"/>
                  </a:lnTo>
                  <a:lnTo>
                    <a:pt x="5551" y="3543"/>
                  </a:lnTo>
                  <a:lnTo>
                    <a:pt x="5525" y="3564"/>
                  </a:lnTo>
                  <a:lnTo>
                    <a:pt x="5497" y="3586"/>
                  </a:lnTo>
                  <a:lnTo>
                    <a:pt x="5468" y="3607"/>
                  </a:lnTo>
                  <a:lnTo>
                    <a:pt x="5441" y="3628"/>
                  </a:lnTo>
                  <a:lnTo>
                    <a:pt x="5412" y="3647"/>
                  </a:lnTo>
                  <a:lnTo>
                    <a:pt x="5382" y="3667"/>
                  </a:lnTo>
                  <a:lnTo>
                    <a:pt x="5352" y="3685"/>
                  </a:lnTo>
                  <a:lnTo>
                    <a:pt x="5322" y="3703"/>
                  </a:lnTo>
                  <a:lnTo>
                    <a:pt x="5291" y="3720"/>
                  </a:lnTo>
                  <a:lnTo>
                    <a:pt x="5260" y="3737"/>
                  </a:lnTo>
                  <a:lnTo>
                    <a:pt x="5229" y="3752"/>
                  </a:lnTo>
                  <a:lnTo>
                    <a:pt x="5196" y="3767"/>
                  </a:lnTo>
                  <a:lnTo>
                    <a:pt x="5164" y="3782"/>
                  </a:lnTo>
                  <a:lnTo>
                    <a:pt x="5131" y="3796"/>
                  </a:lnTo>
                  <a:lnTo>
                    <a:pt x="5097" y="3809"/>
                  </a:lnTo>
                  <a:lnTo>
                    <a:pt x="5064" y="3821"/>
                  </a:lnTo>
                  <a:lnTo>
                    <a:pt x="5029" y="3833"/>
                  </a:lnTo>
                  <a:lnTo>
                    <a:pt x="4994" y="3844"/>
                  </a:lnTo>
                  <a:lnTo>
                    <a:pt x="4959" y="3855"/>
                  </a:lnTo>
                  <a:lnTo>
                    <a:pt x="4925" y="3864"/>
                  </a:lnTo>
                  <a:lnTo>
                    <a:pt x="4890" y="3873"/>
                  </a:lnTo>
                  <a:lnTo>
                    <a:pt x="4854" y="3880"/>
                  </a:lnTo>
                  <a:lnTo>
                    <a:pt x="4820" y="3887"/>
                  </a:lnTo>
                  <a:lnTo>
                    <a:pt x="4785" y="3894"/>
                  </a:lnTo>
                  <a:lnTo>
                    <a:pt x="4751" y="3898"/>
                  </a:lnTo>
                  <a:lnTo>
                    <a:pt x="4715" y="3903"/>
                  </a:lnTo>
                  <a:lnTo>
                    <a:pt x="4680" y="3907"/>
                  </a:lnTo>
                  <a:lnTo>
                    <a:pt x="4646" y="3910"/>
                  </a:lnTo>
                  <a:lnTo>
                    <a:pt x="4611" y="3912"/>
                  </a:lnTo>
                  <a:lnTo>
                    <a:pt x="4577" y="3913"/>
                  </a:lnTo>
                  <a:lnTo>
                    <a:pt x="4541" y="3913"/>
                  </a:lnTo>
                  <a:lnTo>
                    <a:pt x="4506" y="3913"/>
                  </a:lnTo>
                  <a:lnTo>
                    <a:pt x="4472" y="3912"/>
                  </a:lnTo>
                  <a:lnTo>
                    <a:pt x="4437" y="3910"/>
                  </a:lnTo>
                  <a:lnTo>
                    <a:pt x="4403" y="3908"/>
                  </a:lnTo>
                  <a:lnTo>
                    <a:pt x="4368" y="3904"/>
                  </a:lnTo>
                  <a:lnTo>
                    <a:pt x="4334" y="3900"/>
                  </a:lnTo>
                  <a:lnTo>
                    <a:pt x="4299" y="3895"/>
                  </a:lnTo>
                  <a:lnTo>
                    <a:pt x="4266" y="3889"/>
                  </a:lnTo>
                  <a:lnTo>
                    <a:pt x="4232" y="3882"/>
                  </a:lnTo>
                  <a:lnTo>
                    <a:pt x="4199" y="3875"/>
                  </a:lnTo>
                  <a:lnTo>
                    <a:pt x="4165" y="3867"/>
                  </a:lnTo>
                  <a:lnTo>
                    <a:pt x="4132" y="3858"/>
                  </a:lnTo>
                  <a:lnTo>
                    <a:pt x="4100" y="3849"/>
                  </a:lnTo>
                  <a:lnTo>
                    <a:pt x="4066" y="3839"/>
                  </a:lnTo>
                  <a:lnTo>
                    <a:pt x="4034" y="3827"/>
                  </a:lnTo>
                  <a:lnTo>
                    <a:pt x="4002" y="3816"/>
                  </a:lnTo>
                  <a:lnTo>
                    <a:pt x="3971" y="3802"/>
                  </a:lnTo>
                  <a:lnTo>
                    <a:pt x="3939" y="3788"/>
                  </a:lnTo>
                  <a:lnTo>
                    <a:pt x="3907" y="3774"/>
                  </a:lnTo>
                  <a:lnTo>
                    <a:pt x="3867" y="3755"/>
                  </a:lnTo>
                  <a:lnTo>
                    <a:pt x="3828" y="3734"/>
                  </a:lnTo>
                  <a:lnTo>
                    <a:pt x="3790" y="3713"/>
                  </a:lnTo>
                  <a:lnTo>
                    <a:pt x="3752" y="3690"/>
                  </a:lnTo>
                  <a:lnTo>
                    <a:pt x="3715" y="3667"/>
                  </a:lnTo>
                  <a:lnTo>
                    <a:pt x="3679" y="3643"/>
                  </a:lnTo>
                  <a:lnTo>
                    <a:pt x="3644" y="3619"/>
                  </a:lnTo>
                  <a:lnTo>
                    <a:pt x="3608" y="3592"/>
                  </a:lnTo>
                  <a:lnTo>
                    <a:pt x="3574" y="3566"/>
                  </a:lnTo>
                  <a:lnTo>
                    <a:pt x="3541" y="3538"/>
                  </a:lnTo>
                  <a:lnTo>
                    <a:pt x="3508" y="3509"/>
                  </a:lnTo>
                  <a:lnTo>
                    <a:pt x="3475" y="3479"/>
                  </a:lnTo>
                  <a:lnTo>
                    <a:pt x="3444" y="3449"/>
                  </a:lnTo>
                  <a:lnTo>
                    <a:pt x="3414" y="3418"/>
                  </a:lnTo>
                  <a:lnTo>
                    <a:pt x="3384" y="3386"/>
                  </a:lnTo>
                  <a:lnTo>
                    <a:pt x="3356" y="3353"/>
                  </a:lnTo>
                  <a:lnTo>
                    <a:pt x="3327" y="3319"/>
                  </a:lnTo>
                  <a:lnTo>
                    <a:pt x="3299" y="3285"/>
                  </a:lnTo>
                  <a:lnTo>
                    <a:pt x="3273" y="3249"/>
                  </a:lnTo>
                  <a:lnTo>
                    <a:pt x="3247" y="3213"/>
                  </a:lnTo>
                  <a:lnTo>
                    <a:pt x="3223" y="3178"/>
                  </a:lnTo>
                  <a:lnTo>
                    <a:pt x="3200" y="3141"/>
                  </a:lnTo>
                  <a:lnTo>
                    <a:pt x="3177" y="3104"/>
                  </a:lnTo>
                  <a:lnTo>
                    <a:pt x="3156" y="3066"/>
                  </a:lnTo>
                  <a:lnTo>
                    <a:pt x="3136" y="3027"/>
                  </a:lnTo>
                  <a:lnTo>
                    <a:pt x="3116" y="2988"/>
                  </a:lnTo>
                  <a:lnTo>
                    <a:pt x="3098" y="2948"/>
                  </a:lnTo>
                  <a:lnTo>
                    <a:pt x="3080" y="2908"/>
                  </a:lnTo>
                  <a:lnTo>
                    <a:pt x="3063" y="2868"/>
                  </a:lnTo>
                  <a:lnTo>
                    <a:pt x="3048" y="2825"/>
                  </a:lnTo>
                  <a:lnTo>
                    <a:pt x="3033" y="2784"/>
                  </a:lnTo>
                  <a:lnTo>
                    <a:pt x="3019" y="2741"/>
                  </a:lnTo>
                  <a:lnTo>
                    <a:pt x="3007" y="2697"/>
                  </a:lnTo>
                  <a:lnTo>
                    <a:pt x="2996" y="2655"/>
                  </a:lnTo>
                  <a:lnTo>
                    <a:pt x="2986" y="2612"/>
                  </a:lnTo>
                  <a:lnTo>
                    <a:pt x="2977" y="2568"/>
                  </a:lnTo>
                  <a:lnTo>
                    <a:pt x="2969" y="2526"/>
                  </a:lnTo>
                  <a:lnTo>
                    <a:pt x="2962" y="2482"/>
                  </a:lnTo>
                  <a:lnTo>
                    <a:pt x="2956" y="2439"/>
                  </a:lnTo>
                  <a:lnTo>
                    <a:pt x="2951" y="2396"/>
                  </a:lnTo>
                  <a:lnTo>
                    <a:pt x="2948" y="2352"/>
                  </a:lnTo>
                  <a:lnTo>
                    <a:pt x="2945" y="2309"/>
                  </a:lnTo>
                  <a:lnTo>
                    <a:pt x="2944" y="2265"/>
                  </a:lnTo>
                  <a:lnTo>
                    <a:pt x="2944" y="2222"/>
                  </a:lnTo>
                  <a:lnTo>
                    <a:pt x="2945" y="2179"/>
                  </a:lnTo>
                  <a:lnTo>
                    <a:pt x="2948" y="2135"/>
                  </a:lnTo>
                  <a:lnTo>
                    <a:pt x="2951" y="2092"/>
                  </a:lnTo>
                  <a:lnTo>
                    <a:pt x="2956" y="2048"/>
                  </a:lnTo>
                  <a:lnTo>
                    <a:pt x="2960" y="2004"/>
                  </a:lnTo>
                  <a:lnTo>
                    <a:pt x="2967" y="1961"/>
                  </a:lnTo>
                  <a:lnTo>
                    <a:pt x="2975" y="1919"/>
                  </a:lnTo>
                  <a:lnTo>
                    <a:pt x="2985" y="1876"/>
                  </a:lnTo>
                  <a:lnTo>
                    <a:pt x="2995" y="1834"/>
                  </a:lnTo>
                  <a:lnTo>
                    <a:pt x="3007" y="1792"/>
                  </a:lnTo>
                  <a:lnTo>
                    <a:pt x="3018" y="1751"/>
                  </a:lnTo>
                  <a:lnTo>
                    <a:pt x="3032" y="1709"/>
                  </a:lnTo>
                  <a:lnTo>
                    <a:pt x="3047" y="1669"/>
                  </a:lnTo>
                  <a:lnTo>
                    <a:pt x="3062" y="1629"/>
                  </a:lnTo>
                  <a:lnTo>
                    <a:pt x="3079" y="1588"/>
                  </a:lnTo>
                  <a:lnTo>
                    <a:pt x="3096" y="1548"/>
                  </a:lnTo>
                  <a:lnTo>
                    <a:pt x="3116" y="1509"/>
                  </a:lnTo>
                  <a:lnTo>
                    <a:pt x="3136" y="1470"/>
                  </a:lnTo>
                  <a:lnTo>
                    <a:pt x="3156" y="1430"/>
                  </a:lnTo>
                  <a:lnTo>
                    <a:pt x="3179" y="1391"/>
                  </a:lnTo>
                  <a:lnTo>
                    <a:pt x="3197" y="1361"/>
                  </a:lnTo>
                  <a:lnTo>
                    <a:pt x="3215" y="1333"/>
                  </a:lnTo>
                  <a:lnTo>
                    <a:pt x="3235" y="1304"/>
                  </a:lnTo>
                  <a:lnTo>
                    <a:pt x="3254" y="1276"/>
                  </a:lnTo>
                  <a:lnTo>
                    <a:pt x="3275" y="1249"/>
                  </a:lnTo>
                  <a:lnTo>
                    <a:pt x="3296" y="1221"/>
                  </a:lnTo>
                  <a:lnTo>
                    <a:pt x="3318" y="1196"/>
                  </a:lnTo>
                  <a:lnTo>
                    <a:pt x="3339" y="1169"/>
                  </a:lnTo>
                  <a:lnTo>
                    <a:pt x="3363" y="1144"/>
                  </a:lnTo>
                  <a:lnTo>
                    <a:pt x="3387" y="1118"/>
                  </a:lnTo>
                  <a:lnTo>
                    <a:pt x="3411" y="1094"/>
                  </a:lnTo>
                  <a:lnTo>
                    <a:pt x="3435" y="1071"/>
                  </a:lnTo>
                  <a:lnTo>
                    <a:pt x="3460" y="1047"/>
                  </a:lnTo>
                  <a:lnTo>
                    <a:pt x="3487" y="1025"/>
                  </a:lnTo>
                  <a:lnTo>
                    <a:pt x="3513" y="1002"/>
                  </a:lnTo>
                  <a:lnTo>
                    <a:pt x="3541" y="981"/>
                  </a:lnTo>
                  <a:lnTo>
                    <a:pt x="3569" y="961"/>
                  </a:lnTo>
                  <a:lnTo>
                    <a:pt x="3596" y="940"/>
                  </a:lnTo>
                  <a:lnTo>
                    <a:pt x="3625" y="920"/>
                  </a:lnTo>
                  <a:lnTo>
                    <a:pt x="3654" y="901"/>
                  </a:lnTo>
                  <a:lnTo>
                    <a:pt x="3684" y="882"/>
                  </a:lnTo>
                  <a:lnTo>
                    <a:pt x="3714" y="865"/>
                  </a:lnTo>
                  <a:lnTo>
                    <a:pt x="3745" y="848"/>
                  </a:lnTo>
                  <a:lnTo>
                    <a:pt x="3776" y="832"/>
                  </a:lnTo>
                  <a:lnTo>
                    <a:pt x="3807" y="817"/>
                  </a:lnTo>
                  <a:lnTo>
                    <a:pt x="3839" y="802"/>
                  </a:lnTo>
                  <a:lnTo>
                    <a:pt x="3872" y="787"/>
                  </a:lnTo>
                  <a:lnTo>
                    <a:pt x="3904" y="773"/>
                  </a:lnTo>
                  <a:lnTo>
                    <a:pt x="3937" y="760"/>
                  </a:lnTo>
                  <a:lnTo>
                    <a:pt x="3972" y="748"/>
                  </a:lnTo>
                  <a:lnTo>
                    <a:pt x="4005" y="736"/>
                  </a:lnTo>
                  <a:lnTo>
                    <a:pt x="4040" y="726"/>
                  </a:lnTo>
                  <a:close/>
                  <a:moveTo>
                    <a:pt x="6895" y="3178"/>
                  </a:moveTo>
                  <a:lnTo>
                    <a:pt x="6865" y="3082"/>
                  </a:lnTo>
                  <a:lnTo>
                    <a:pt x="6836" y="2988"/>
                  </a:lnTo>
                  <a:lnTo>
                    <a:pt x="6807" y="2893"/>
                  </a:lnTo>
                  <a:lnTo>
                    <a:pt x="6778" y="2797"/>
                  </a:lnTo>
                  <a:lnTo>
                    <a:pt x="6749" y="2703"/>
                  </a:lnTo>
                  <a:lnTo>
                    <a:pt x="6719" y="2609"/>
                  </a:lnTo>
                  <a:lnTo>
                    <a:pt x="6691" y="2513"/>
                  </a:lnTo>
                  <a:lnTo>
                    <a:pt x="6662" y="2419"/>
                  </a:lnTo>
                  <a:lnTo>
                    <a:pt x="6751" y="2391"/>
                  </a:lnTo>
                  <a:lnTo>
                    <a:pt x="6838" y="2364"/>
                  </a:lnTo>
                  <a:lnTo>
                    <a:pt x="6927" y="2337"/>
                  </a:lnTo>
                  <a:lnTo>
                    <a:pt x="7015" y="2310"/>
                  </a:lnTo>
                  <a:lnTo>
                    <a:pt x="7104" y="2283"/>
                  </a:lnTo>
                  <a:lnTo>
                    <a:pt x="7193" y="2256"/>
                  </a:lnTo>
                  <a:lnTo>
                    <a:pt x="7280" y="2229"/>
                  </a:lnTo>
                  <a:lnTo>
                    <a:pt x="7369" y="2202"/>
                  </a:lnTo>
                  <a:lnTo>
                    <a:pt x="7399" y="2297"/>
                  </a:lnTo>
                  <a:lnTo>
                    <a:pt x="7428" y="2392"/>
                  </a:lnTo>
                  <a:lnTo>
                    <a:pt x="7457" y="2487"/>
                  </a:lnTo>
                  <a:lnTo>
                    <a:pt x="7486" y="2581"/>
                  </a:lnTo>
                  <a:lnTo>
                    <a:pt x="7514" y="2677"/>
                  </a:lnTo>
                  <a:lnTo>
                    <a:pt x="7544" y="2771"/>
                  </a:lnTo>
                  <a:lnTo>
                    <a:pt x="7573" y="2867"/>
                  </a:lnTo>
                  <a:lnTo>
                    <a:pt x="7602" y="2961"/>
                  </a:lnTo>
                  <a:lnTo>
                    <a:pt x="7513" y="2988"/>
                  </a:lnTo>
                  <a:lnTo>
                    <a:pt x="7424" y="3015"/>
                  </a:lnTo>
                  <a:lnTo>
                    <a:pt x="7336" y="3042"/>
                  </a:lnTo>
                  <a:lnTo>
                    <a:pt x="7247" y="3069"/>
                  </a:lnTo>
                  <a:lnTo>
                    <a:pt x="7159" y="3096"/>
                  </a:lnTo>
                  <a:lnTo>
                    <a:pt x="7071" y="3123"/>
                  </a:lnTo>
                  <a:lnTo>
                    <a:pt x="6982" y="3150"/>
                  </a:lnTo>
                  <a:lnTo>
                    <a:pt x="6895" y="3178"/>
                  </a:lnTo>
                  <a:close/>
                  <a:moveTo>
                    <a:pt x="6608" y="2245"/>
                  </a:moveTo>
                  <a:lnTo>
                    <a:pt x="6570" y="2118"/>
                  </a:lnTo>
                  <a:lnTo>
                    <a:pt x="6531" y="1991"/>
                  </a:lnTo>
                  <a:lnTo>
                    <a:pt x="6491" y="1865"/>
                  </a:lnTo>
                  <a:lnTo>
                    <a:pt x="6453" y="1738"/>
                  </a:lnTo>
                  <a:lnTo>
                    <a:pt x="6414" y="1611"/>
                  </a:lnTo>
                  <a:lnTo>
                    <a:pt x="6376" y="1485"/>
                  </a:lnTo>
                  <a:lnTo>
                    <a:pt x="6337" y="1358"/>
                  </a:lnTo>
                  <a:lnTo>
                    <a:pt x="6298" y="1231"/>
                  </a:lnTo>
                  <a:lnTo>
                    <a:pt x="6260" y="1105"/>
                  </a:lnTo>
                  <a:lnTo>
                    <a:pt x="6221" y="978"/>
                  </a:lnTo>
                  <a:lnTo>
                    <a:pt x="6181" y="851"/>
                  </a:lnTo>
                  <a:lnTo>
                    <a:pt x="6142" y="725"/>
                  </a:lnTo>
                  <a:lnTo>
                    <a:pt x="6104" y="598"/>
                  </a:lnTo>
                  <a:lnTo>
                    <a:pt x="6065" y="471"/>
                  </a:lnTo>
                  <a:lnTo>
                    <a:pt x="6026" y="344"/>
                  </a:lnTo>
                  <a:lnTo>
                    <a:pt x="5987" y="217"/>
                  </a:lnTo>
                  <a:lnTo>
                    <a:pt x="6075" y="190"/>
                  </a:lnTo>
                  <a:lnTo>
                    <a:pt x="6164" y="164"/>
                  </a:lnTo>
                  <a:lnTo>
                    <a:pt x="6253" y="136"/>
                  </a:lnTo>
                  <a:lnTo>
                    <a:pt x="6342" y="110"/>
                  </a:lnTo>
                  <a:lnTo>
                    <a:pt x="6430" y="82"/>
                  </a:lnTo>
                  <a:lnTo>
                    <a:pt x="6519" y="54"/>
                  </a:lnTo>
                  <a:lnTo>
                    <a:pt x="6608" y="28"/>
                  </a:lnTo>
                  <a:lnTo>
                    <a:pt x="6696" y="0"/>
                  </a:lnTo>
                  <a:lnTo>
                    <a:pt x="6736" y="128"/>
                  </a:lnTo>
                  <a:lnTo>
                    <a:pt x="6774" y="255"/>
                  </a:lnTo>
                  <a:lnTo>
                    <a:pt x="6813" y="381"/>
                  </a:lnTo>
                  <a:lnTo>
                    <a:pt x="6852" y="508"/>
                  </a:lnTo>
                  <a:lnTo>
                    <a:pt x="6890" y="635"/>
                  </a:lnTo>
                  <a:lnTo>
                    <a:pt x="6929" y="761"/>
                  </a:lnTo>
                  <a:lnTo>
                    <a:pt x="6968" y="888"/>
                  </a:lnTo>
                  <a:lnTo>
                    <a:pt x="7006" y="1015"/>
                  </a:lnTo>
                  <a:lnTo>
                    <a:pt x="7045" y="1141"/>
                  </a:lnTo>
                  <a:lnTo>
                    <a:pt x="7085" y="1268"/>
                  </a:lnTo>
                  <a:lnTo>
                    <a:pt x="7123" y="1395"/>
                  </a:lnTo>
                  <a:lnTo>
                    <a:pt x="7162" y="1521"/>
                  </a:lnTo>
                  <a:lnTo>
                    <a:pt x="7200" y="1648"/>
                  </a:lnTo>
                  <a:lnTo>
                    <a:pt x="7239" y="1775"/>
                  </a:lnTo>
                  <a:lnTo>
                    <a:pt x="7278" y="1902"/>
                  </a:lnTo>
                  <a:lnTo>
                    <a:pt x="7316" y="2028"/>
                  </a:lnTo>
                  <a:lnTo>
                    <a:pt x="7227" y="2056"/>
                  </a:lnTo>
                  <a:lnTo>
                    <a:pt x="7139" y="2082"/>
                  </a:lnTo>
                  <a:lnTo>
                    <a:pt x="7051" y="2110"/>
                  </a:lnTo>
                  <a:lnTo>
                    <a:pt x="6963" y="2136"/>
                  </a:lnTo>
                  <a:lnTo>
                    <a:pt x="6874" y="2164"/>
                  </a:lnTo>
                  <a:lnTo>
                    <a:pt x="6785" y="2191"/>
                  </a:lnTo>
                  <a:lnTo>
                    <a:pt x="6696" y="2217"/>
                  </a:lnTo>
                  <a:lnTo>
                    <a:pt x="6608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3598920" y="4248000"/>
              <a:ext cx="822240" cy="962280"/>
            </a:xfrm>
            <a:custGeom>
              <a:avLst/>
              <a:gdLst/>
              <a:ahLst/>
              <a:rect l="l" t="t" r="r" b="b"/>
              <a:pathLst>
                <a:path w="3108" h="3636">
                  <a:moveTo>
                    <a:pt x="904" y="3636"/>
                  </a:moveTo>
                  <a:lnTo>
                    <a:pt x="848" y="3450"/>
                  </a:lnTo>
                  <a:lnTo>
                    <a:pt x="791" y="3266"/>
                  </a:lnTo>
                  <a:lnTo>
                    <a:pt x="735" y="3081"/>
                  </a:lnTo>
                  <a:lnTo>
                    <a:pt x="678" y="2895"/>
                  </a:lnTo>
                  <a:lnTo>
                    <a:pt x="622" y="2711"/>
                  </a:lnTo>
                  <a:lnTo>
                    <a:pt x="565" y="2525"/>
                  </a:lnTo>
                  <a:lnTo>
                    <a:pt x="509" y="2340"/>
                  </a:lnTo>
                  <a:lnTo>
                    <a:pt x="453" y="2155"/>
                  </a:lnTo>
                  <a:lnTo>
                    <a:pt x="396" y="1969"/>
                  </a:lnTo>
                  <a:lnTo>
                    <a:pt x="340" y="1785"/>
                  </a:lnTo>
                  <a:lnTo>
                    <a:pt x="283" y="1600"/>
                  </a:lnTo>
                  <a:lnTo>
                    <a:pt x="226" y="1414"/>
                  </a:lnTo>
                  <a:lnTo>
                    <a:pt x="169" y="1229"/>
                  </a:lnTo>
                  <a:lnTo>
                    <a:pt x="113" y="1043"/>
                  </a:lnTo>
                  <a:lnTo>
                    <a:pt x="56" y="859"/>
                  </a:lnTo>
                  <a:lnTo>
                    <a:pt x="0" y="674"/>
                  </a:lnTo>
                  <a:lnTo>
                    <a:pt x="41" y="661"/>
                  </a:lnTo>
                  <a:lnTo>
                    <a:pt x="84" y="648"/>
                  </a:lnTo>
                  <a:lnTo>
                    <a:pt x="125" y="636"/>
                  </a:lnTo>
                  <a:lnTo>
                    <a:pt x="168" y="622"/>
                  </a:lnTo>
                  <a:lnTo>
                    <a:pt x="209" y="609"/>
                  </a:lnTo>
                  <a:lnTo>
                    <a:pt x="251" y="596"/>
                  </a:lnTo>
                  <a:lnTo>
                    <a:pt x="294" y="584"/>
                  </a:lnTo>
                  <a:lnTo>
                    <a:pt x="335" y="571"/>
                  </a:lnTo>
                  <a:lnTo>
                    <a:pt x="430" y="631"/>
                  </a:lnTo>
                  <a:lnTo>
                    <a:pt x="523" y="691"/>
                  </a:lnTo>
                  <a:lnTo>
                    <a:pt x="616" y="751"/>
                  </a:lnTo>
                  <a:lnTo>
                    <a:pt x="709" y="811"/>
                  </a:lnTo>
                  <a:lnTo>
                    <a:pt x="804" y="872"/>
                  </a:lnTo>
                  <a:lnTo>
                    <a:pt x="897" y="932"/>
                  </a:lnTo>
                  <a:lnTo>
                    <a:pt x="991" y="991"/>
                  </a:lnTo>
                  <a:lnTo>
                    <a:pt x="1084" y="1051"/>
                  </a:lnTo>
                  <a:lnTo>
                    <a:pt x="1178" y="1111"/>
                  </a:lnTo>
                  <a:lnTo>
                    <a:pt x="1272" y="1171"/>
                  </a:lnTo>
                  <a:lnTo>
                    <a:pt x="1365" y="1231"/>
                  </a:lnTo>
                  <a:lnTo>
                    <a:pt x="1459" y="1291"/>
                  </a:lnTo>
                  <a:lnTo>
                    <a:pt x="1553" y="1351"/>
                  </a:lnTo>
                  <a:lnTo>
                    <a:pt x="1647" y="1411"/>
                  </a:lnTo>
                  <a:lnTo>
                    <a:pt x="1740" y="1471"/>
                  </a:lnTo>
                  <a:lnTo>
                    <a:pt x="1835" y="1530"/>
                  </a:lnTo>
                  <a:lnTo>
                    <a:pt x="1810" y="1450"/>
                  </a:lnTo>
                  <a:lnTo>
                    <a:pt x="1785" y="1368"/>
                  </a:lnTo>
                  <a:lnTo>
                    <a:pt x="1760" y="1287"/>
                  </a:lnTo>
                  <a:lnTo>
                    <a:pt x="1736" y="1207"/>
                  </a:lnTo>
                  <a:lnTo>
                    <a:pt x="1711" y="1125"/>
                  </a:lnTo>
                  <a:lnTo>
                    <a:pt x="1686" y="1044"/>
                  </a:lnTo>
                  <a:lnTo>
                    <a:pt x="1662" y="964"/>
                  </a:lnTo>
                  <a:lnTo>
                    <a:pt x="1637" y="882"/>
                  </a:lnTo>
                  <a:lnTo>
                    <a:pt x="1613" y="801"/>
                  </a:lnTo>
                  <a:lnTo>
                    <a:pt x="1587" y="720"/>
                  </a:lnTo>
                  <a:lnTo>
                    <a:pt x="1563" y="639"/>
                  </a:lnTo>
                  <a:lnTo>
                    <a:pt x="1538" y="558"/>
                  </a:lnTo>
                  <a:lnTo>
                    <a:pt x="1514" y="477"/>
                  </a:lnTo>
                  <a:lnTo>
                    <a:pt x="1488" y="396"/>
                  </a:lnTo>
                  <a:lnTo>
                    <a:pt x="1464" y="314"/>
                  </a:lnTo>
                  <a:lnTo>
                    <a:pt x="1439" y="234"/>
                  </a:lnTo>
                  <a:lnTo>
                    <a:pt x="1534" y="205"/>
                  </a:lnTo>
                  <a:lnTo>
                    <a:pt x="1630" y="176"/>
                  </a:lnTo>
                  <a:lnTo>
                    <a:pt x="1724" y="146"/>
                  </a:lnTo>
                  <a:lnTo>
                    <a:pt x="1820" y="117"/>
                  </a:lnTo>
                  <a:lnTo>
                    <a:pt x="1916" y="89"/>
                  </a:lnTo>
                  <a:lnTo>
                    <a:pt x="2011" y="59"/>
                  </a:lnTo>
                  <a:lnTo>
                    <a:pt x="2107" y="30"/>
                  </a:lnTo>
                  <a:lnTo>
                    <a:pt x="2204" y="0"/>
                  </a:lnTo>
                  <a:lnTo>
                    <a:pt x="2260" y="185"/>
                  </a:lnTo>
                  <a:lnTo>
                    <a:pt x="2316" y="371"/>
                  </a:lnTo>
                  <a:lnTo>
                    <a:pt x="2373" y="556"/>
                  </a:lnTo>
                  <a:lnTo>
                    <a:pt x="2429" y="740"/>
                  </a:lnTo>
                  <a:lnTo>
                    <a:pt x="2486" y="926"/>
                  </a:lnTo>
                  <a:lnTo>
                    <a:pt x="2542" y="1111"/>
                  </a:lnTo>
                  <a:lnTo>
                    <a:pt x="2599" y="1297"/>
                  </a:lnTo>
                  <a:lnTo>
                    <a:pt x="2655" y="1481"/>
                  </a:lnTo>
                  <a:lnTo>
                    <a:pt x="2712" y="1666"/>
                  </a:lnTo>
                  <a:lnTo>
                    <a:pt x="2768" y="1852"/>
                  </a:lnTo>
                  <a:lnTo>
                    <a:pt x="2825" y="2037"/>
                  </a:lnTo>
                  <a:lnTo>
                    <a:pt x="2881" y="2221"/>
                  </a:lnTo>
                  <a:lnTo>
                    <a:pt x="2937" y="2407"/>
                  </a:lnTo>
                  <a:lnTo>
                    <a:pt x="2994" y="2592"/>
                  </a:lnTo>
                  <a:lnTo>
                    <a:pt x="3050" y="2777"/>
                  </a:lnTo>
                  <a:lnTo>
                    <a:pt x="3108" y="2962"/>
                  </a:lnTo>
                  <a:lnTo>
                    <a:pt x="3064" y="2976"/>
                  </a:lnTo>
                  <a:lnTo>
                    <a:pt x="3020" y="2988"/>
                  </a:lnTo>
                  <a:lnTo>
                    <a:pt x="2977" y="3002"/>
                  </a:lnTo>
                  <a:lnTo>
                    <a:pt x="2933" y="3015"/>
                  </a:lnTo>
                  <a:lnTo>
                    <a:pt x="2889" y="3029"/>
                  </a:lnTo>
                  <a:lnTo>
                    <a:pt x="2846" y="3041"/>
                  </a:lnTo>
                  <a:lnTo>
                    <a:pt x="2803" y="3055"/>
                  </a:lnTo>
                  <a:lnTo>
                    <a:pt x="2759" y="3068"/>
                  </a:lnTo>
                  <a:lnTo>
                    <a:pt x="2667" y="3009"/>
                  </a:lnTo>
                  <a:lnTo>
                    <a:pt x="2573" y="2949"/>
                  </a:lnTo>
                  <a:lnTo>
                    <a:pt x="2481" y="2891"/>
                  </a:lnTo>
                  <a:lnTo>
                    <a:pt x="2389" y="2831"/>
                  </a:lnTo>
                  <a:lnTo>
                    <a:pt x="2297" y="2772"/>
                  </a:lnTo>
                  <a:lnTo>
                    <a:pt x="2204" y="2712"/>
                  </a:lnTo>
                  <a:lnTo>
                    <a:pt x="2111" y="2652"/>
                  </a:lnTo>
                  <a:lnTo>
                    <a:pt x="2019" y="2593"/>
                  </a:lnTo>
                  <a:lnTo>
                    <a:pt x="1926" y="2534"/>
                  </a:lnTo>
                  <a:lnTo>
                    <a:pt x="1834" y="2475"/>
                  </a:lnTo>
                  <a:lnTo>
                    <a:pt x="1742" y="2415"/>
                  </a:lnTo>
                  <a:lnTo>
                    <a:pt x="1648" y="2355"/>
                  </a:lnTo>
                  <a:lnTo>
                    <a:pt x="1556" y="2295"/>
                  </a:lnTo>
                  <a:lnTo>
                    <a:pt x="1463" y="2236"/>
                  </a:lnTo>
                  <a:lnTo>
                    <a:pt x="1371" y="2177"/>
                  </a:lnTo>
                  <a:lnTo>
                    <a:pt x="1279" y="2117"/>
                  </a:lnTo>
                  <a:lnTo>
                    <a:pt x="1303" y="2197"/>
                  </a:lnTo>
                  <a:lnTo>
                    <a:pt x="1327" y="2278"/>
                  </a:lnTo>
                  <a:lnTo>
                    <a:pt x="1352" y="2358"/>
                  </a:lnTo>
                  <a:lnTo>
                    <a:pt x="1376" y="2438"/>
                  </a:lnTo>
                  <a:lnTo>
                    <a:pt x="1401" y="2519"/>
                  </a:lnTo>
                  <a:lnTo>
                    <a:pt x="1426" y="2599"/>
                  </a:lnTo>
                  <a:lnTo>
                    <a:pt x="1450" y="2680"/>
                  </a:lnTo>
                  <a:lnTo>
                    <a:pt x="1474" y="2759"/>
                  </a:lnTo>
                  <a:lnTo>
                    <a:pt x="1499" y="2840"/>
                  </a:lnTo>
                  <a:lnTo>
                    <a:pt x="1524" y="2920"/>
                  </a:lnTo>
                  <a:lnTo>
                    <a:pt x="1548" y="3000"/>
                  </a:lnTo>
                  <a:lnTo>
                    <a:pt x="1572" y="3081"/>
                  </a:lnTo>
                  <a:lnTo>
                    <a:pt x="1596" y="3161"/>
                  </a:lnTo>
                  <a:lnTo>
                    <a:pt x="1621" y="3241"/>
                  </a:lnTo>
                  <a:lnTo>
                    <a:pt x="1646" y="3321"/>
                  </a:lnTo>
                  <a:lnTo>
                    <a:pt x="1670" y="3402"/>
                  </a:lnTo>
                  <a:lnTo>
                    <a:pt x="1575" y="3431"/>
                  </a:lnTo>
                  <a:lnTo>
                    <a:pt x="1478" y="3461"/>
                  </a:lnTo>
                  <a:lnTo>
                    <a:pt x="1382" y="3489"/>
                  </a:lnTo>
                  <a:lnTo>
                    <a:pt x="1287" y="3518"/>
                  </a:lnTo>
                  <a:lnTo>
                    <a:pt x="1191" y="3548"/>
                  </a:lnTo>
                  <a:lnTo>
                    <a:pt x="1095" y="3577"/>
                  </a:lnTo>
                  <a:lnTo>
                    <a:pt x="1000" y="3607"/>
                  </a:lnTo>
                  <a:lnTo>
                    <a:pt x="904" y="363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599000" y="4286160"/>
              <a:ext cx="393840" cy="406440"/>
            </a:xfrm>
            <a:custGeom>
              <a:avLst/>
              <a:gdLst/>
              <a:ahLst/>
              <a:rect l="l" t="t" r="r" b="b"/>
              <a:pathLst>
                <a:path w="1486" h="1536">
                  <a:moveTo>
                    <a:pt x="519" y="35"/>
                  </a:moveTo>
                  <a:lnTo>
                    <a:pt x="482" y="46"/>
                  </a:lnTo>
                  <a:lnTo>
                    <a:pt x="446" y="60"/>
                  </a:lnTo>
                  <a:lnTo>
                    <a:pt x="412" y="75"/>
                  </a:lnTo>
                  <a:lnTo>
                    <a:pt x="378" y="91"/>
                  </a:lnTo>
                  <a:lnTo>
                    <a:pt x="347" y="110"/>
                  </a:lnTo>
                  <a:lnTo>
                    <a:pt x="316" y="128"/>
                  </a:lnTo>
                  <a:lnTo>
                    <a:pt x="287" y="149"/>
                  </a:lnTo>
                  <a:lnTo>
                    <a:pt x="260" y="171"/>
                  </a:lnTo>
                  <a:lnTo>
                    <a:pt x="233" y="195"/>
                  </a:lnTo>
                  <a:lnTo>
                    <a:pt x="207" y="219"/>
                  </a:lnTo>
                  <a:lnTo>
                    <a:pt x="182" y="246"/>
                  </a:lnTo>
                  <a:lnTo>
                    <a:pt x="161" y="273"/>
                  </a:lnTo>
                  <a:lnTo>
                    <a:pt x="139" y="303"/>
                  </a:lnTo>
                  <a:lnTo>
                    <a:pt x="118" y="333"/>
                  </a:lnTo>
                  <a:lnTo>
                    <a:pt x="98" y="365"/>
                  </a:lnTo>
                  <a:lnTo>
                    <a:pt x="81" y="399"/>
                  </a:lnTo>
                  <a:lnTo>
                    <a:pt x="65" y="433"/>
                  </a:lnTo>
                  <a:lnTo>
                    <a:pt x="50" y="468"/>
                  </a:lnTo>
                  <a:lnTo>
                    <a:pt x="37" y="503"/>
                  </a:lnTo>
                  <a:lnTo>
                    <a:pt x="27" y="538"/>
                  </a:lnTo>
                  <a:lnTo>
                    <a:pt x="18" y="574"/>
                  </a:lnTo>
                  <a:lnTo>
                    <a:pt x="11" y="610"/>
                  </a:lnTo>
                  <a:lnTo>
                    <a:pt x="5" y="645"/>
                  </a:lnTo>
                  <a:lnTo>
                    <a:pt x="2" y="682"/>
                  </a:lnTo>
                  <a:lnTo>
                    <a:pt x="0" y="719"/>
                  </a:lnTo>
                  <a:lnTo>
                    <a:pt x="0" y="756"/>
                  </a:lnTo>
                  <a:lnTo>
                    <a:pt x="3" y="793"/>
                  </a:lnTo>
                  <a:lnTo>
                    <a:pt x="6" y="831"/>
                  </a:lnTo>
                  <a:lnTo>
                    <a:pt x="12" y="868"/>
                  </a:lnTo>
                  <a:lnTo>
                    <a:pt x="19" y="907"/>
                  </a:lnTo>
                  <a:lnTo>
                    <a:pt x="28" y="945"/>
                  </a:lnTo>
                  <a:lnTo>
                    <a:pt x="40" y="983"/>
                  </a:lnTo>
                  <a:lnTo>
                    <a:pt x="51" y="1022"/>
                  </a:lnTo>
                  <a:lnTo>
                    <a:pt x="66" y="1059"/>
                  </a:lnTo>
                  <a:lnTo>
                    <a:pt x="81" y="1094"/>
                  </a:lnTo>
                  <a:lnTo>
                    <a:pt x="97" y="1129"/>
                  </a:lnTo>
                  <a:lnTo>
                    <a:pt x="116" y="1162"/>
                  </a:lnTo>
                  <a:lnTo>
                    <a:pt x="135" y="1195"/>
                  </a:lnTo>
                  <a:lnTo>
                    <a:pt x="155" y="1225"/>
                  </a:lnTo>
                  <a:lnTo>
                    <a:pt x="177" y="1255"/>
                  </a:lnTo>
                  <a:lnTo>
                    <a:pt x="201" y="1282"/>
                  </a:lnTo>
                  <a:lnTo>
                    <a:pt x="225" y="1309"/>
                  </a:lnTo>
                  <a:lnTo>
                    <a:pt x="250" y="1335"/>
                  </a:lnTo>
                  <a:lnTo>
                    <a:pt x="278" y="1359"/>
                  </a:lnTo>
                  <a:lnTo>
                    <a:pt x="307" y="1382"/>
                  </a:lnTo>
                  <a:lnTo>
                    <a:pt x="337" y="1404"/>
                  </a:lnTo>
                  <a:lnTo>
                    <a:pt x="368" y="1424"/>
                  </a:lnTo>
                  <a:lnTo>
                    <a:pt x="400" y="1443"/>
                  </a:lnTo>
                  <a:lnTo>
                    <a:pt x="434" y="1461"/>
                  </a:lnTo>
                  <a:lnTo>
                    <a:pt x="467" y="1477"/>
                  </a:lnTo>
                  <a:lnTo>
                    <a:pt x="500" y="1491"/>
                  </a:lnTo>
                  <a:lnTo>
                    <a:pt x="535" y="1503"/>
                  </a:lnTo>
                  <a:lnTo>
                    <a:pt x="569" y="1513"/>
                  </a:lnTo>
                  <a:lnTo>
                    <a:pt x="604" y="1522"/>
                  </a:lnTo>
                  <a:lnTo>
                    <a:pt x="639" y="1527"/>
                  </a:lnTo>
                  <a:lnTo>
                    <a:pt x="674" y="1532"/>
                  </a:lnTo>
                  <a:lnTo>
                    <a:pt x="710" y="1534"/>
                  </a:lnTo>
                  <a:lnTo>
                    <a:pt x="746" y="1536"/>
                  </a:lnTo>
                  <a:lnTo>
                    <a:pt x="781" y="1534"/>
                  </a:lnTo>
                  <a:lnTo>
                    <a:pt x="818" y="1531"/>
                  </a:lnTo>
                  <a:lnTo>
                    <a:pt x="855" y="1526"/>
                  </a:lnTo>
                  <a:lnTo>
                    <a:pt x="892" y="1519"/>
                  </a:lnTo>
                  <a:lnTo>
                    <a:pt x="929" y="1511"/>
                  </a:lnTo>
                  <a:lnTo>
                    <a:pt x="967" y="1500"/>
                  </a:lnTo>
                  <a:lnTo>
                    <a:pt x="1004" y="1488"/>
                  </a:lnTo>
                  <a:lnTo>
                    <a:pt x="1039" y="1475"/>
                  </a:lnTo>
                  <a:lnTo>
                    <a:pt x="1073" y="1460"/>
                  </a:lnTo>
                  <a:lnTo>
                    <a:pt x="1106" y="1443"/>
                  </a:lnTo>
                  <a:lnTo>
                    <a:pt x="1139" y="1425"/>
                  </a:lnTo>
                  <a:lnTo>
                    <a:pt x="1169" y="1407"/>
                  </a:lnTo>
                  <a:lnTo>
                    <a:pt x="1198" y="1386"/>
                  </a:lnTo>
                  <a:lnTo>
                    <a:pt x="1226" y="1364"/>
                  </a:lnTo>
                  <a:lnTo>
                    <a:pt x="1253" y="1340"/>
                  </a:lnTo>
                  <a:lnTo>
                    <a:pt x="1279" y="1316"/>
                  </a:lnTo>
                  <a:lnTo>
                    <a:pt x="1303" y="1289"/>
                  </a:lnTo>
                  <a:lnTo>
                    <a:pt x="1326" y="1261"/>
                  </a:lnTo>
                  <a:lnTo>
                    <a:pt x="1348" y="1232"/>
                  </a:lnTo>
                  <a:lnTo>
                    <a:pt x="1369" y="1202"/>
                  </a:lnTo>
                  <a:lnTo>
                    <a:pt x="1387" y="1169"/>
                  </a:lnTo>
                  <a:lnTo>
                    <a:pt x="1406" y="1136"/>
                  </a:lnTo>
                  <a:lnTo>
                    <a:pt x="1422" y="1101"/>
                  </a:lnTo>
                  <a:lnTo>
                    <a:pt x="1436" y="1067"/>
                  </a:lnTo>
                  <a:lnTo>
                    <a:pt x="1448" y="1032"/>
                  </a:lnTo>
                  <a:lnTo>
                    <a:pt x="1460" y="998"/>
                  </a:lnTo>
                  <a:lnTo>
                    <a:pt x="1468" y="962"/>
                  </a:lnTo>
                  <a:lnTo>
                    <a:pt x="1476" y="926"/>
                  </a:lnTo>
                  <a:lnTo>
                    <a:pt x="1481" y="891"/>
                  </a:lnTo>
                  <a:lnTo>
                    <a:pt x="1484" y="854"/>
                  </a:lnTo>
                  <a:lnTo>
                    <a:pt x="1486" y="817"/>
                  </a:lnTo>
                  <a:lnTo>
                    <a:pt x="1486" y="780"/>
                  </a:lnTo>
                  <a:lnTo>
                    <a:pt x="1484" y="743"/>
                  </a:lnTo>
                  <a:lnTo>
                    <a:pt x="1481" y="705"/>
                  </a:lnTo>
                  <a:lnTo>
                    <a:pt x="1475" y="667"/>
                  </a:lnTo>
                  <a:lnTo>
                    <a:pt x="1468" y="629"/>
                  </a:lnTo>
                  <a:lnTo>
                    <a:pt x="1459" y="591"/>
                  </a:lnTo>
                  <a:lnTo>
                    <a:pt x="1447" y="553"/>
                  </a:lnTo>
                  <a:lnTo>
                    <a:pt x="1436" y="515"/>
                  </a:lnTo>
                  <a:lnTo>
                    <a:pt x="1422" y="478"/>
                  </a:lnTo>
                  <a:lnTo>
                    <a:pt x="1406" y="443"/>
                  </a:lnTo>
                  <a:lnTo>
                    <a:pt x="1390" y="408"/>
                  </a:lnTo>
                  <a:lnTo>
                    <a:pt x="1371" y="376"/>
                  </a:lnTo>
                  <a:lnTo>
                    <a:pt x="1353" y="344"/>
                  </a:lnTo>
                  <a:lnTo>
                    <a:pt x="1332" y="313"/>
                  </a:lnTo>
                  <a:lnTo>
                    <a:pt x="1310" y="284"/>
                  </a:lnTo>
                  <a:lnTo>
                    <a:pt x="1286" y="256"/>
                  </a:lnTo>
                  <a:lnTo>
                    <a:pt x="1262" y="228"/>
                  </a:lnTo>
                  <a:lnTo>
                    <a:pt x="1236" y="203"/>
                  </a:lnTo>
                  <a:lnTo>
                    <a:pt x="1209" y="179"/>
                  </a:lnTo>
                  <a:lnTo>
                    <a:pt x="1180" y="156"/>
                  </a:lnTo>
                  <a:lnTo>
                    <a:pt x="1150" y="134"/>
                  </a:lnTo>
                  <a:lnTo>
                    <a:pt x="1119" y="113"/>
                  </a:lnTo>
                  <a:lnTo>
                    <a:pt x="1086" y="94"/>
                  </a:lnTo>
                  <a:lnTo>
                    <a:pt x="1052" y="76"/>
                  </a:lnTo>
                  <a:lnTo>
                    <a:pt x="1019" y="60"/>
                  </a:lnTo>
                  <a:lnTo>
                    <a:pt x="984" y="45"/>
                  </a:lnTo>
                  <a:lnTo>
                    <a:pt x="950" y="34"/>
                  </a:lnTo>
                  <a:lnTo>
                    <a:pt x="915" y="23"/>
                  </a:lnTo>
                  <a:lnTo>
                    <a:pt x="881" y="15"/>
                  </a:lnTo>
                  <a:lnTo>
                    <a:pt x="846" y="8"/>
                  </a:lnTo>
                  <a:lnTo>
                    <a:pt x="810" y="4"/>
                  </a:lnTo>
                  <a:lnTo>
                    <a:pt x="775" y="2"/>
                  </a:lnTo>
                  <a:lnTo>
                    <a:pt x="739" y="0"/>
                  </a:lnTo>
                  <a:lnTo>
                    <a:pt x="702" y="2"/>
                  </a:lnTo>
                  <a:lnTo>
                    <a:pt x="666" y="4"/>
                  </a:lnTo>
                  <a:lnTo>
                    <a:pt x="629" y="8"/>
                  </a:lnTo>
                  <a:lnTo>
                    <a:pt x="593" y="15"/>
                  </a:lnTo>
                  <a:lnTo>
                    <a:pt x="556" y="25"/>
                  </a:lnTo>
                  <a:lnTo>
                    <a:pt x="519" y="3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378320" y="4059360"/>
              <a:ext cx="833400" cy="861840"/>
            </a:xfrm>
            <a:custGeom>
              <a:avLst/>
              <a:gdLst/>
              <a:ahLst/>
              <a:rect l="l" t="t" r="r" b="b"/>
              <a:pathLst>
                <a:path w="3151" h="3258">
                  <a:moveTo>
                    <a:pt x="1096" y="71"/>
                  </a:moveTo>
                  <a:lnTo>
                    <a:pt x="1132" y="60"/>
                  </a:lnTo>
                  <a:lnTo>
                    <a:pt x="1166" y="50"/>
                  </a:lnTo>
                  <a:lnTo>
                    <a:pt x="1202" y="42"/>
                  </a:lnTo>
                  <a:lnTo>
                    <a:pt x="1236" y="34"/>
                  </a:lnTo>
                  <a:lnTo>
                    <a:pt x="1272" y="27"/>
                  </a:lnTo>
                  <a:lnTo>
                    <a:pt x="1308" y="21"/>
                  </a:lnTo>
                  <a:lnTo>
                    <a:pt x="1342" y="15"/>
                  </a:lnTo>
                  <a:lnTo>
                    <a:pt x="1378" y="11"/>
                  </a:lnTo>
                  <a:lnTo>
                    <a:pt x="1413" y="7"/>
                  </a:lnTo>
                  <a:lnTo>
                    <a:pt x="1448" y="4"/>
                  </a:lnTo>
                  <a:lnTo>
                    <a:pt x="1483" y="2"/>
                  </a:lnTo>
                  <a:lnTo>
                    <a:pt x="1519" y="0"/>
                  </a:lnTo>
                  <a:lnTo>
                    <a:pt x="1553" y="0"/>
                  </a:lnTo>
                  <a:lnTo>
                    <a:pt x="1589" y="0"/>
                  </a:lnTo>
                  <a:lnTo>
                    <a:pt x="1625" y="2"/>
                  </a:lnTo>
                  <a:lnTo>
                    <a:pt x="1659" y="3"/>
                  </a:lnTo>
                  <a:lnTo>
                    <a:pt x="1695" y="5"/>
                  </a:lnTo>
                  <a:lnTo>
                    <a:pt x="1729" y="9"/>
                  </a:lnTo>
                  <a:lnTo>
                    <a:pt x="1764" y="13"/>
                  </a:lnTo>
                  <a:lnTo>
                    <a:pt x="1799" y="18"/>
                  </a:lnTo>
                  <a:lnTo>
                    <a:pt x="1832" y="25"/>
                  </a:lnTo>
                  <a:lnTo>
                    <a:pt x="1865" y="30"/>
                  </a:lnTo>
                  <a:lnTo>
                    <a:pt x="1899" y="38"/>
                  </a:lnTo>
                  <a:lnTo>
                    <a:pt x="1932" y="47"/>
                  </a:lnTo>
                  <a:lnTo>
                    <a:pt x="1966" y="56"/>
                  </a:lnTo>
                  <a:lnTo>
                    <a:pt x="1998" y="65"/>
                  </a:lnTo>
                  <a:lnTo>
                    <a:pt x="2030" y="75"/>
                  </a:lnTo>
                  <a:lnTo>
                    <a:pt x="2062" y="87"/>
                  </a:lnTo>
                  <a:lnTo>
                    <a:pt x="2094" y="99"/>
                  </a:lnTo>
                  <a:lnTo>
                    <a:pt x="2125" y="112"/>
                  </a:lnTo>
                  <a:lnTo>
                    <a:pt x="2156" y="126"/>
                  </a:lnTo>
                  <a:lnTo>
                    <a:pt x="2187" y="140"/>
                  </a:lnTo>
                  <a:lnTo>
                    <a:pt x="2227" y="161"/>
                  </a:lnTo>
                  <a:lnTo>
                    <a:pt x="2266" y="181"/>
                  </a:lnTo>
                  <a:lnTo>
                    <a:pt x="2305" y="203"/>
                  </a:lnTo>
                  <a:lnTo>
                    <a:pt x="2343" y="225"/>
                  </a:lnTo>
                  <a:lnTo>
                    <a:pt x="2380" y="249"/>
                  </a:lnTo>
                  <a:lnTo>
                    <a:pt x="2417" y="272"/>
                  </a:lnTo>
                  <a:lnTo>
                    <a:pt x="2453" y="298"/>
                  </a:lnTo>
                  <a:lnTo>
                    <a:pt x="2489" y="323"/>
                  </a:lnTo>
                  <a:lnTo>
                    <a:pt x="2522" y="351"/>
                  </a:lnTo>
                  <a:lnTo>
                    <a:pt x="2557" y="377"/>
                  </a:lnTo>
                  <a:lnTo>
                    <a:pt x="2589" y="406"/>
                  </a:lnTo>
                  <a:lnTo>
                    <a:pt x="2621" y="435"/>
                  </a:lnTo>
                  <a:lnTo>
                    <a:pt x="2653" y="466"/>
                  </a:lnTo>
                  <a:lnTo>
                    <a:pt x="2683" y="496"/>
                  </a:lnTo>
                  <a:lnTo>
                    <a:pt x="2713" y="528"/>
                  </a:lnTo>
                  <a:lnTo>
                    <a:pt x="2742" y="561"/>
                  </a:lnTo>
                  <a:lnTo>
                    <a:pt x="2771" y="595"/>
                  </a:lnTo>
                  <a:lnTo>
                    <a:pt x="2799" y="628"/>
                  </a:lnTo>
                  <a:lnTo>
                    <a:pt x="2824" y="664"/>
                  </a:lnTo>
                  <a:lnTo>
                    <a:pt x="2849" y="698"/>
                  </a:lnTo>
                  <a:lnTo>
                    <a:pt x="2873" y="735"/>
                  </a:lnTo>
                  <a:lnTo>
                    <a:pt x="2898" y="771"/>
                  </a:lnTo>
                  <a:lnTo>
                    <a:pt x="2919" y="808"/>
                  </a:lnTo>
                  <a:lnTo>
                    <a:pt x="2941" y="846"/>
                  </a:lnTo>
                  <a:lnTo>
                    <a:pt x="2961" y="884"/>
                  </a:lnTo>
                  <a:lnTo>
                    <a:pt x="2981" y="923"/>
                  </a:lnTo>
                  <a:lnTo>
                    <a:pt x="2999" y="962"/>
                  </a:lnTo>
                  <a:lnTo>
                    <a:pt x="3016" y="1002"/>
                  </a:lnTo>
                  <a:lnTo>
                    <a:pt x="3034" y="1043"/>
                  </a:lnTo>
                  <a:lnTo>
                    <a:pt x="3049" y="1084"/>
                  </a:lnTo>
                  <a:lnTo>
                    <a:pt x="3063" y="1127"/>
                  </a:lnTo>
                  <a:lnTo>
                    <a:pt x="3077" y="1168"/>
                  </a:lnTo>
                  <a:lnTo>
                    <a:pt x="3089" y="1211"/>
                  </a:lnTo>
                  <a:lnTo>
                    <a:pt x="3100" y="1255"/>
                  </a:lnTo>
                  <a:lnTo>
                    <a:pt x="3111" y="1297"/>
                  </a:lnTo>
                  <a:lnTo>
                    <a:pt x="3120" y="1340"/>
                  </a:lnTo>
                  <a:lnTo>
                    <a:pt x="3128" y="1384"/>
                  </a:lnTo>
                  <a:lnTo>
                    <a:pt x="3135" y="1426"/>
                  </a:lnTo>
                  <a:lnTo>
                    <a:pt x="3140" y="1470"/>
                  </a:lnTo>
                  <a:lnTo>
                    <a:pt x="3144" y="1513"/>
                  </a:lnTo>
                  <a:lnTo>
                    <a:pt x="3148" y="1556"/>
                  </a:lnTo>
                  <a:lnTo>
                    <a:pt x="3150" y="1599"/>
                  </a:lnTo>
                  <a:lnTo>
                    <a:pt x="3151" y="1643"/>
                  </a:lnTo>
                  <a:lnTo>
                    <a:pt x="3151" y="1686"/>
                  </a:lnTo>
                  <a:lnTo>
                    <a:pt x="3150" y="1730"/>
                  </a:lnTo>
                  <a:lnTo>
                    <a:pt x="3148" y="1774"/>
                  </a:lnTo>
                  <a:lnTo>
                    <a:pt x="3144" y="1818"/>
                  </a:lnTo>
                  <a:lnTo>
                    <a:pt x="3140" y="1860"/>
                  </a:lnTo>
                  <a:lnTo>
                    <a:pt x="3134" y="1905"/>
                  </a:lnTo>
                  <a:lnTo>
                    <a:pt x="3127" y="1948"/>
                  </a:lnTo>
                  <a:lnTo>
                    <a:pt x="3119" y="1992"/>
                  </a:lnTo>
                  <a:lnTo>
                    <a:pt x="3110" y="2034"/>
                  </a:lnTo>
                  <a:lnTo>
                    <a:pt x="3099" y="2077"/>
                  </a:lnTo>
                  <a:lnTo>
                    <a:pt x="3089" y="2118"/>
                  </a:lnTo>
                  <a:lnTo>
                    <a:pt x="3076" y="2161"/>
                  </a:lnTo>
                  <a:lnTo>
                    <a:pt x="3062" y="2202"/>
                  </a:lnTo>
                  <a:lnTo>
                    <a:pt x="3049" y="2243"/>
                  </a:lnTo>
                  <a:lnTo>
                    <a:pt x="3032" y="2284"/>
                  </a:lnTo>
                  <a:lnTo>
                    <a:pt x="3016" y="2324"/>
                  </a:lnTo>
                  <a:lnTo>
                    <a:pt x="2998" y="2365"/>
                  </a:lnTo>
                  <a:lnTo>
                    <a:pt x="2979" y="2404"/>
                  </a:lnTo>
                  <a:lnTo>
                    <a:pt x="2960" y="2444"/>
                  </a:lnTo>
                  <a:lnTo>
                    <a:pt x="2939" y="2483"/>
                  </a:lnTo>
                  <a:lnTo>
                    <a:pt x="2916" y="2521"/>
                  </a:lnTo>
                  <a:lnTo>
                    <a:pt x="2899" y="2551"/>
                  </a:lnTo>
                  <a:lnTo>
                    <a:pt x="2880" y="2580"/>
                  </a:lnTo>
                  <a:lnTo>
                    <a:pt x="2861" y="2609"/>
                  </a:lnTo>
                  <a:lnTo>
                    <a:pt x="2841" y="2637"/>
                  </a:lnTo>
                  <a:lnTo>
                    <a:pt x="2822" y="2664"/>
                  </a:lnTo>
                  <a:lnTo>
                    <a:pt x="2800" y="2691"/>
                  </a:lnTo>
                  <a:lnTo>
                    <a:pt x="2778" y="2717"/>
                  </a:lnTo>
                  <a:lnTo>
                    <a:pt x="2756" y="2742"/>
                  </a:lnTo>
                  <a:lnTo>
                    <a:pt x="2733" y="2769"/>
                  </a:lnTo>
                  <a:lnTo>
                    <a:pt x="2709" y="2793"/>
                  </a:lnTo>
                  <a:lnTo>
                    <a:pt x="2684" y="2817"/>
                  </a:lnTo>
                  <a:lnTo>
                    <a:pt x="2659" y="2842"/>
                  </a:lnTo>
                  <a:lnTo>
                    <a:pt x="2634" y="2865"/>
                  </a:lnTo>
                  <a:lnTo>
                    <a:pt x="2607" y="2888"/>
                  </a:lnTo>
                  <a:lnTo>
                    <a:pt x="2581" y="2909"/>
                  </a:lnTo>
                  <a:lnTo>
                    <a:pt x="2553" y="2931"/>
                  </a:lnTo>
                  <a:lnTo>
                    <a:pt x="2524" y="2952"/>
                  </a:lnTo>
                  <a:lnTo>
                    <a:pt x="2497" y="2973"/>
                  </a:lnTo>
                  <a:lnTo>
                    <a:pt x="2468" y="2992"/>
                  </a:lnTo>
                  <a:lnTo>
                    <a:pt x="2438" y="3012"/>
                  </a:lnTo>
                  <a:lnTo>
                    <a:pt x="2408" y="3030"/>
                  </a:lnTo>
                  <a:lnTo>
                    <a:pt x="2378" y="3048"/>
                  </a:lnTo>
                  <a:lnTo>
                    <a:pt x="2347" y="3065"/>
                  </a:lnTo>
                  <a:lnTo>
                    <a:pt x="2316" y="3082"/>
                  </a:lnTo>
                  <a:lnTo>
                    <a:pt x="2285" y="3097"/>
                  </a:lnTo>
                  <a:lnTo>
                    <a:pt x="2252" y="3112"/>
                  </a:lnTo>
                  <a:lnTo>
                    <a:pt x="2220" y="3127"/>
                  </a:lnTo>
                  <a:lnTo>
                    <a:pt x="2187" y="3141"/>
                  </a:lnTo>
                  <a:lnTo>
                    <a:pt x="2153" y="3154"/>
                  </a:lnTo>
                  <a:lnTo>
                    <a:pt x="2120" y="3166"/>
                  </a:lnTo>
                  <a:lnTo>
                    <a:pt x="2085" y="3178"/>
                  </a:lnTo>
                  <a:lnTo>
                    <a:pt x="2050" y="3189"/>
                  </a:lnTo>
                  <a:lnTo>
                    <a:pt x="2015" y="3200"/>
                  </a:lnTo>
                  <a:lnTo>
                    <a:pt x="1981" y="3209"/>
                  </a:lnTo>
                  <a:lnTo>
                    <a:pt x="1946" y="3218"/>
                  </a:lnTo>
                  <a:lnTo>
                    <a:pt x="1910" y="3225"/>
                  </a:lnTo>
                  <a:lnTo>
                    <a:pt x="1876" y="3232"/>
                  </a:lnTo>
                  <a:lnTo>
                    <a:pt x="1841" y="3239"/>
                  </a:lnTo>
                  <a:lnTo>
                    <a:pt x="1807" y="3243"/>
                  </a:lnTo>
                  <a:lnTo>
                    <a:pt x="1771" y="3248"/>
                  </a:lnTo>
                  <a:lnTo>
                    <a:pt x="1736" y="3252"/>
                  </a:lnTo>
                  <a:lnTo>
                    <a:pt x="1702" y="3255"/>
                  </a:lnTo>
                  <a:lnTo>
                    <a:pt x="1667" y="3257"/>
                  </a:lnTo>
                  <a:lnTo>
                    <a:pt x="1633" y="3258"/>
                  </a:lnTo>
                  <a:lnTo>
                    <a:pt x="1597" y="3258"/>
                  </a:lnTo>
                  <a:lnTo>
                    <a:pt x="1562" y="3258"/>
                  </a:lnTo>
                  <a:lnTo>
                    <a:pt x="1528" y="3257"/>
                  </a:lnTo>
                  <a:lnTo>
                    <a:pt x="1493" y="3255"/>
                  </a:lnTo>
                  <a:lnTo>
                    <a:pt x="1459" y="3253"/>
                  </a:lnTo>
                  <a:lnTo>
                    <a:pt x="1424" y="3249"/>
                  </a:lnTo>
                  <a:lnTo>
                    <a:pt x="1390" y="3245"/>
                  </a:lnTo>
                  <a:lnTo>
                    <a:pt x="1355" y="3240"/>
                  </a:lnTo>
                  <a:lnTo>
                    <a:pt x="1322" y="3234"/>
                  </a:lnTo>
                  <a:lnTo>
                    <a:pt x="1288" y="3227"/>
                  </a:lnTo>
                  <a:lnTo>
                    <a:pt x="1255" y="3220"/>
                  </a:lnTo>
                  <a:lnTo>
                    <a:pt x="1221" y="3212"/>
                  </a:lnTo>
                  <a:lnTo>
                    <a:pt x="1188" y="3203"/>
                  </a:lnTo>
                  <a:lnTo>
                    <a:pt x="1156" y="3194"/>
                  </a:lnTo>
                  <a:lnTo>
                    <a:pt x="1122" y="3184"/>
                  </a:lnTo>
                  <a:lnTo>
                    <a:pt x="1090" y="3172"/>
                  </a:lnTo>
                  <a:lnTo>
                    <a:pt x="1058" y="3161"/>
                  </a:lnTo>
                  <a:lnTo>
                    <a:pt x="1027" y="3147"/>
                  </a:lnTo>
                  <a:lnTo>
                    <a:pt x="995" y="3133"/>
                  </a:lnTo>
                  <a:lnTo>
                    <a:pt x="963" y="3119"/>
                  </a:lnTo>
                  <a:lnTo>
                    <a:pt x="923" y="3100"/>
                  </a:lnTo>
                  <a:lnTo>
                    <a:pt x="884" y="3079"/>
                  </a:lnTo>
                  <a:lnTo>
                    <a:pt x="846" y="3058"/>
                  </a:lnTo>
                  <a:lnTo>
                    <a:pt x="808" y="3035"/>
                  </a:lnTo>
                  <a:lnTo>
                    <a:pt x="771" y="3012"/>
                  </a:lnTo>
                  <a:lnTo>
                    <a:pt x="735" y="2988"/>
                  </a:lnTo>
                  <a:lnTo>
                    <a:pt x="700" y="2964"/>
                  </a:lnTo>
                  <a:lnTo>
                    <a:pt x="664" y="2937"/>
                  </a:lnTo>
                  <a:lnTo>
                    <a:pt x="630" y="2911"/>
                  </a:lnTo>
                  <a:lnTo>
                    <a:pt x="597" y="2883"/>
                  </a:lnTo>
                  <a:lnTo>
                    <a:pt x="564" y="2854"/>
                  </a:lnTo>
                  <a:lnTo>
                    <a:pt x="531" y="2824"/>
                  </a:lnTo>
                  <a:lnTo>
                    <a:pt x="500" y="2794"/>
                  </a:lnTo>
                  <a:lnTo>
                    <a:pt x="470" y="2763"/>
                  </a:lnTo>
                  <a:lnTo>
                    <a:pt x="440" y="2731"/>
                  </a:lnTo>
                  <a:lnTo>
                    <a:pt x="412" y="2698"/>
                  </a:lnTo>
                  <a:lnTo>
                    <a:pt x="383" y="2664"/>
                  </a:lnTo>
                  <a:lnTo>
                    <a:pt x="355" y="2630"/>
                  </a:lnTo>
                  <a:lnTo>
                    <a:pt x="329" y="2594"/>
                  </a:lnTo>
                  <a:lnTo>
                    <a:pt x="303" y="2558"/>
                  </a:lnTo>
                  <a:lnTo>
                    <a:pt x="279" y="2523"/>
                  </a:lnTo>
                  <a:lnTo>
                    <a:pt x="256" y="2486"/>
                  </a:lnTo>
                  <a:lnTo>
                    <a:pt x="233" y="2449"/>
                  </a:lnTo>
                  <a:lnTo>
                    <a:pt x="212" y="2411"/>
                  </a:lnTo>
                  <a:lnTo>
                    <a:pt x="192" y="2372"/>
                  </a:lnTo>
                  <a:lnTo>
                    <a:pt x="172" y="2333"/>
                  </a:lnTo>
                  <a:lnTo>
                    <a:pt x="154" y="2293"/>
                  </a:lnTo>
                  <a:lnTo>
                    <a:pt x="136" y="2253"/>
                  </a:lnTo>
                  <a:lnTo>
                    <a:pt x="119" y="2213"/>
                  </a:lnTo>
                  <a:lnTo>
                    <a:pt x="104" y="2170"/>
                  </a:lnTo>
                  <a:lnTo>
                    <a:pt x="89" y="2129"/>
                  </a:lnTo>
                  <a:lnTo>
                    <a:pt x="75" y="2086"/>
                  </a:lnTo>
                  <a:lnTo>
                    <a:pt x="63" y="2042"/>
                  </a:lnTo>
                  <a:lnTo>
                    <a:pt x="52" y="2000"/>
                  </a:lnTo>
                  <a:lnTo>
                    <a:pt x="42" y="1957"/>
                  </a:lnTo>
                  <a:lnTo>
                    <a:pt x="33" y="1913"/>
                  </a:lnTo>
                  <a:lnTo>
                    <a:pt x="25" y="1871"/>
                  </a:lnTo>
                  <a:lnTo>
                    <a:pt x="18" y="1827"/>
                  </a:lnTo>
                  <a:lnTo>
                    <a:pt x="12" y="1784"/>
                  </a:lnTo>
                  <a:lnTo>
                    <a:pt x="7" y="1741"/>
                  </a:lnTo>
                  <a:lnTo>
                    <a:pt x="4" y="1697"/>
                  </a:lnTo>
                  <a:lnTo>
                    <a:pt x="1" y="1654"/>
                  </a:lnTo>
                  <a:lnTo>
                    <a:pt x="0" y="1610"/>
                  </a:lnTo>
                  <a:lnTo>
                    <a:pt x="0" y="1567"/>
                  </a:lnTo>
                  <a:lnTo>
                    <a:pt x="1" y="1524"/>
                  </a:lnTo>
                  <a:lnTo>
                    <a:pt x="4" y="1480"/>
                  </a:lnTo>
                  <a:lnTo>
                    <a:pt x="7" y="1437"/>
                  </a:lnTo>
                  <a:lnTo>
                    <a:pt x="12" y="1393"/>
                  </a:lnTo>
                  <a:lnTo>
                    <a:pt x="16" y="1349"/>
                  </a:lnTo>
                  <a:lnTo>
                    <a:pt x="23" y="1306"/>
                  </a:lnTo>
                  <a:lnTo>
                    <a:pt x="31" y="1264"/>
                  </a:lnTo>
                  <a:lnTo>
                    <a:pt x="41" y="1221"/>
                  </a:lnTo>
                  <a:lnTo>
                    <a:pt x="51" y="1179"/>
                  </a:lnTo>
                  <a:lnTo>
                    <a:pt x="63" y="1137"/>
                  </a:lnTo>
                  <a:lnTo>
                    <a:pt x="74" y="1096"/>
                  </a:lnTo>
                  <a:lnTo>
                    <a:pt x="88" y="1054"/>
                  </a:lnTo>
                  <a:lnTo>
                    <a:pt x="103" y="1014"/>
                  </a:lnTo>
                  <a:lnTo>
                    <a:pt x="118" y="974"/>
                  </a:lnTo>
                  <a:lnTo>
                    <a:pt x="135" y="933"/>
                  </a:lnTo>
                  <a:lnTo>
                    <a:pt x="152" y="893"/>
                  </a:lnTo>
                  <a:lnTo>
                    <a:pt x="172" y="854"/>
                  </a:lnTo>
                  <a:lnTo>
                    <a:pt x="192" y="815"/>
                  </a:lnTo>
                  <a:lnTo>
                    <a:pt x="212" y="775"/>
                  </a:lnTo>
                  <a:lnTo>
                    <a:pt x="235" y="736"/>
                  </a:lnTo>
                  <a:lnTo>
                    <a:pt x="253" y="706"/>
                  </a:lnTo>
                  <a:lnTo>
                    <a:pt x="271" y="678"/>
                  </a:lnTo>
                  <a:lnTo>
                    <a:pt x="291" y="649"/>
                  </a:lnTo>
                  <a:lnTo>
                    <a:pt x="310" y="621"/>
                  </a:lnTo>
                  <a:lnTo>
                    <a:pt x="331" y="594"/>
                  </a:lnTo>
                  <a:lnTo>
                    <a:pt x="352" y="566"/>
                  </a:lnTo>
                  <a:lnTo>
                    <a:pt x="374" y="541"/>
                  </a:lnTo>
                  <a:lnTo>
                    <a:pt x="395" y="514"/>
                  </a:lnTo>
                  <a:lnTo>
                    <a:pt x="419" y="489"/>
                  </a:lnTo>
                  <a:lnTo>
                    <a:pt x="443" y="463"/>
                  </a:lnTo>
                  <a:lnTo>
                    <a:pt x="467" y="439"/>
                  </a:lnTo>
                  <a:lnTo>
                    <a:pt x="491" y="416"/>
                  </a:lnTo>
                  <a:lnTo>
                    <a:pt x="516" y="392"/>
                  </a:lnTo>
                  <a:lnTo>
                    <a:pt x="543" y="370"/>
                  </a:lnTo>
                  <a:lnTo>
                    <a:pt x="569" y="347"/>
                  </a:lnTo>
                  <a:lnTo>
                    <a:pt x="597" y="326"/>
                  </a:lnTo>
                  <a:lnTo>
                    <a:pt x="625" y="306"/>
                  </a:lnTo>
                  <a:lnTo>
                    <a:pt x="652" y="285"/>
                  </a:lnTo>
                  <a:lnTo>
                    <a:pt x="681" y="265"/>
                  </a:lnTo>
                  <a:lnTo>
                    <a:pt x="710" y="246"/>
                  </a:lnTo>
                  <a:lnTo>
                    <a:pt x="740" y="227"/>
                  </a:lnTo>
                  <a:lnTo>
                    <a:pt x="770" y="210"/>
                  </a:lnTo>
                  <a:lnTo>
                    <a:pt x="801" y="193"/>
                  </a:lnTo>
                  <a:lnTo>
                    <a:pt x="832" y="177"/>
                  </a:lnTo>
                  <a:lnTo>
                    <a:pt x="863" y="162"/>
                  </a:lnTo>
                  <a:lnTo>
                    <a:pt x="895" y="147"/>
                  </a:lnTo>
                  <a:lnTo>
                    <a:pt x="928" y="132"/>
                  </a:lnTo>
                  <a:lnTo>
                    <a:pt x="960" y="118"/>
                  </a:lnTo>
                  <a:lnTo>
                    <a:pt x="993" y="105"/>
                  </a:lnTo>
                  <a:lnTo>
                    <a:pt x="1028" y="93"/>
                  </a:lnTo>
                  <a:lnTo>
                    <a:pt x="1061" y="81"/>
                  </a:lnTo>
                  <a:lnTo>
                    <a:pt x="1096" y="7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361120" y="4468680"/>
              <a:ext cx="249120" cy="257400"/>
            </a:xfrm>
            <a:custGeom>
              <a:avLst/>
              <a:gdLst/>
              <a:ahLst/>
              <a:rect l="l" t="t" r="r" b="b"/>
              <a:pathLst>
                <a:path w="940" h="976">
                  <a:moveTo>
                    <a:pt x="233" y="976"/>
                  </a:moveTo>
                  <a:lnTo>
                    <a:pt x="203" y="880"/>
                  </a:lnTo>
                  <a:lnTo>
                    <a:pt x="174" y="786"/>
                  </a:lnTo>
                  <a:lnTo>
                    <a:pt x="145" y="691"/>
                  </a:lnTo>
                  <a:lnTo>
                    <a:pt x="116" y="595"/>
                  </a:lnTo>
                  <a:lnTo>
                    <a:pt x="87" y="501"/>
                  </a:lnTo>
                  <a:lnTo>
                    <a:pt x="57" y="407"/>
                  </a:lnTo>
                  <a:lnTo>
                    <a:pt x="29" y="311"/>
                  </a:lnTo>
                  <a:lnTo>
                    <a:pt x="0" y="217"/>
                  </a:lnTo>
                  <a:lnTo>
                    <a:pt x="89" y="189"/>
                  </a:lnTo>
                  <a:lnTo>
                    <a:pt x="176" y="162"/>
                  </a:lnTo>
                  <a:lnTo>
                    <a:pt x="265" y="135"/>
                  </a:lnTo>
                  <a:lnTo>
                    <a:pt x="353" y="108"/>
                  </a:lnTo>
                  <a:lnTo>
                    <a:pt x="442" y="81"/>
                  </a:lnTo>
                  <a:lnTo>
                    <a:pt x="531" y="54"/>
                  </a:lnTo>
                  <a:lnTo>
                    <a:pt x="618" y="27"/>
                  </a:lnTo>
                  <a:lnTo>
                    <a:pt x="707" y="0"/>
                  </a:lnTo>
                  <a:lnTo>
                    <a:pt x="737" y="95"/>
                  </a:lnTo>
                  <a:lnTo>
                    <a:pt x="766" y="190"/>
                  </a:lnTo>
                  <a:lnTo>
                    <a:pt x="795" y="285"/>
                  </a:lnTo>
                  <a:lnTo>
                    <a:pt x="824" y="379"/>
                  </a:lnTo>
                  <a:lnTo>
                    <a:pt x="852" y="475"/>
                  </a:lnTo>
                  <a:lnTo>
                    <a:pt x="882" y="569"/>
                  </a:lnTo>
                  <a:lnTo>
                    <a:pt x="911" y="665"/>
                  </a:lnTo>
                  <a:lnTo>
                    <a:pt x="940" y="759"/>
                  </a:lnTo>
                  <a:lnTo>
                    <a:pt x="851" y="786"/>
                  </a:lnTo>
                  <a:lnTo>
                    <a:pt x="762" y="813"/>
                  </a:lnTo>
                  <a:lnTo>
                    <a:pt x="674" y="840"/>
                  </a:lnTo>
                  <a:lnTo>
                    <a:pt x="585" y="867"/>
                  </a:lnTo>
                  <a:lnTo>
                    <a:pt x="497" y="894"/>
                  </a:lnTo>
                  <a:lnTo>
                    <a:pt x="409" y="921"/>
                  </a:lnTo>
                  <a:lnTo>
                    <a:pt x="320" y="948"/>
                  </a:lnTo>
                  <a:lnTo>
                    <a:pt x="233" y="97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183280" y="3886200"/>
              <a:ext cx="352440" cy="593640"/>
            </a:xfrm>
            <a:custGeom>
              <a:avLst/>
              <a:gdLst/>
              <a:ahLst/>
              <a:rect l="l" t="t" r="r" b="b"/>
              <a:pathLst>
                <a:path w="1329" h="2245">
                  <a:moveTo>
                    <a:pt x="621" y="2245"/>
                  </a:moveTo>
                  <a:lnTo>
                    <a:pt x="583" y="2118"/>
                  </a:lnTo>
                  <a:lnTo>
                    <a:pt x="544" y="1991"/>
                  </a:lnTo>
                  <a:lnTo>
                    <a:pt x="504" y="1865"/>
                  </a:lnTo>
                  <a:lnTo>
                    <a:pt x="466" y="1738"/>
                  </a:lnTo>
                  <a:lnTo>
                    <a:pt x="427" y="1611"/>
                  </a:lnTo>
                  <a:lnTo>
                    <a:pt x="389" y="1485"/>
                  </a:lnTo>
                  <a:lnTo>
                    <a:pt x="350" y="1358"/>
                  </a:lnTo>
                  <a:lnTo>
                    <a:pt x="311" y="1231"/>
                  </a:lnTo>
                  <a:lnTo>
                    <a:pt x="273" y="1105"/>
                  </a:lnTo>
                  <a:lnTo>
                    <a:pt x="234" y="978"/>
                  </a:lnTo>
                  <a:lnTo>
                    <a:pt x="194" y="851"/>
                  </a:lnTo>
                  <a:lnTo>
                    <a:pt x="155" y="725"/>
                  </a:lnTo>
                  <a:lnTo>
                    <a:pt x="117" y="598"/>
                  </a:lnTo>
                  <a:lnTo>
                    <a:pt x="78" y="471"/>
                  </a:lnTo>
                  <a:lnTo>
                    <a:pt x="39" y="344"/>
                  </a:lnTo>
                  <a:lnTo>
                    <a:pt x="0" y="217"/>
                  </a:lnTo>
                  <a:lnTo>
                    <a:pt x="88" y="190"/>
                  </a:lnTo>
                  <a:lnTo>
                    <a:pt x="177" y="164"/>
                  </a:lnTo>
                  <a:lnTo>
                    <a:pt x="266" y="136"/>
                  </a:lnTo>
                  <a:lnTo>
                    <a:pt x="355" y="110"/>
                  </a:lnTo>
                  <a:lnTo>
                    <a:pt x="443" y="82"/>
                  </a:lnTo>
                  <a:lnTo>
                    <a:pt x="532" y="54"/>
                  </a:lnTo>
                  <a:lnTo>
                    <a:pt x="621" y="28"/>
                  </a:lnTo>
                  <a:lnTo>
                    <a:pt x="709" y="0"/>
                  </a:lnTo>
                  <a:lnTo>
                    <a:pt x="749" y="128"/>
                  </a:lnTo>
                  <a:lnTo>
                    <a:pt x="787" y="255"/>
                  </a:lnTo>
                  <a:lnTo>
                    <a:pt x="826" y="381"/>
                  </a:lnTo>
                  <a:lnTo>
                    <a:pt x="865" y="508"/>
                  </a:lnTo>
                  <a:lnTo>
                    <a:pt x="903" y="635"/>
                  </a:lnTo>
                  <a:lnTo>
                    <a:pt x="942" y="761"/>
                  </a:lnTo>
                  <a:lnTo>
                    <a:pt x="981" y="888"/>
                  </a:lnTo>
                  <a:lnTo>
                    <a:pt x="1019" y="1015"/>
                  </a:lnTo>
                  <a:lnTo>
                    <a:pt x="1058" y="1141"/>
                  </a:lnTo>
                  <a:lnTo>
                    <a:pt x="1098" y="1268"/>
                  </a:lnTo>
                  <a:lnTo>
                    <a:pt x="1136" y="1395"/>
                  </a:lnTo>
                  <a:lnTo>
                    <a:pt x="1175" y="1521"/>
                  </a:lnTo>
                  <a:lnTo>
                    <a:pt x="1213" y="1648"/>
                  </a:lnTo>
                  <a:lnTo>
                    <a:pt x="1252" y="1775"/>
                  </a:lnTo>
                  <a:lnTo>
                    <a:pt x="1291" y="1902"/>
                  </a:lnTo>
                  <a:lnTo>
                    <a:pt x="1329" y="2028"/>
                  </a:lnTo>
                  <a:lnTo>
                    <a:pt x="1240" y="2056"/>
                  </a:lnTo>
                  <a:lnTo>
                    <a:pt x="1152" y="2082"/>
                  </a:lnTo>
                  <a:lnTo>
                    <a:pt x="1064" y="2110"/>
                  </a:lnTo>
                  <a:lnTo>
                    <a:pt x="976" y="2136"/>
                  </a:lnTo>
                  <a:lnTo>
                    <a:pt x="887" y="2164"/>
                  </a:lnTo>
                  <a:lnTo>
                    <a:pt x="798" y="2191"/>
                  </a:lnTo>
                  <a:lnTo>
                    <a:pt x="709" y="2217"/>
                  </a:lnTo>
                  <a:lnTo>
                    <a:pt x="621" y="22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"/>
          <p:cNvSpPr/>
          <p:nvPr/>
        </p:nvSpPr>
        <p:spPr>
          <a:xfrm>
            <a:off x="6477120" y="3830760"/>
            <a:ext cx="2880" cy="28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7" name=""/>
          <p:cNvGrpSpPr/>
          <p:nvPr/>
        </p:nvGrpSpPr>
        <p:grpSpPr>
          <a:xfrm>
            <a:off x="2751480" y="2209680"/>
            <a:ext cx="3690360" cy="3733920"/>
            <a:chOff x="2751480" y="2209680"/>
            <a:chExt cx="3690360" cy="3733920"/>
          </a:xfrm>
        </p:grpSpPr>
        <p:sp>
          <p:nvSpPr>
            <p:cNvPr id="5378" name=""/>
            <p:cNvSpPr/>
            <p:nvPr/>
          </p:nvSpPr>
          <p:spPr>
            <a:xfrm>
              <a:off x="2751480" y="2209680"/>
              <a:ext cx="3690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02444"/>
                  </a:solidFill>
                  <a:latin typeface="Geometr231 Hv BT"/>
                </a:rPr>
                <a:t>NO ONE IS EXEMP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9" name=""/>
            <p:cNvGrpSpPr/>
            <p:nvPr/>
          </p:nvGrpSpPr>
          <p:grpSpPr>
            <a:xfrm>
              <a:off x="3948120" y="3041640"/>
              <a:ext cx="1284120" cy="2901960"/>
              <a:chOff x="3948120" y="3041640"/>
              <a:chExt cx="1284120" cy="2901960"/>
            </a:xfrm>
          </p:grpSpPr>
          <p:sp>
            <p:nvSpPr>
              <p:cNvPr id="5380" name=""/>
              <p:cNvSpPr/>
              <p:nvPr/>
            </p:nvSpPr>
            <p:spPr>
              <a:xfrm>
                <a:off x="4870440" y="5753160"/>
                <a:ext cx="141120" cy="168120"/>
              </a:xfrm>
              <a:custGeom>
                <a:avLst/>
                <a:gdLst/>
                <a:ahLst/>
                <a:rect l="l" t="t" r="r" b="b"/>
                <a:pathLst>
                  <a:path w="531" h="635">
                    <a:moveTo>
                      <a:pt x="531" y="635"/>
                    </a:moveTo>
                    <a:lnTo>
                      <a:pt x="486" y="589"/>
                    </a:lnTo>
                    <a:lnTo>
                      <a:pt x="439" y="544"/>
                    </a:lnTo>
                    <a:lnTo>
                      <a:pt x="409" y="513"/>
                    </a:lnTo>
                    <a:lnTo>
                      <a:pt x="380" y="468"/>
                    </a:lnTo>
                    <a:lnTo>
                      <a:pt x="349" y="423"/>
                    </a:lnTo>
                    <a:lnTo>
                      <a:pt x="319" y="392"/>
                    </a:lnTo>
                    <a:lnTo>
                      <a:pt x="289" y="348"/>
                    </a:lnTo>
                    <a:lnTo>
                      <a:pt x="274" y="303"/>
                    </a:lnTo>
                    <a:lnTo>
                      <a:pt x="243" y="272"/>
                    </a:lnTo>
                    <a:lnTo>
                      <a:pt x="229" y="227"/>
                    </a:lnTo>
                    <a:lnTo>
                      <a:pt x="198" y="180"/>
                    </a:lnTo>
                    <a:lnTo>
                      <a:pt x="167" y="151"/>
                    </a:lnTo>
                    <a:lnTo>
                      <a:pt x="138" y="104"/>
                    </a:lnTo>
                    <a:lnTo>
                      <a:pt x="93" y="76"/>
                    </a:lnTo>
                    <a:lnTo>
                      <a:pt x="47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4851360" y="5280120"/>
                <a:ext cx="52560" cy="271440"/>
              </a:xfrm>
              <a:custGeom>
                <a:avLst/>
                <a:gdLst/>
                <a:ahLst/>
                <a:rect l="l" t="t" r="r" b="b"/>
                <a:pathLst>
                  <a:path w="197" h="1029">
                    <a:moveTo>
                      <a:pt x="0" y="1029"/>
                    </a:moveTo>
                    <a:lnTo>
                      <a:pt x="15" y="954"/>
                    </a:lnTo>
                    <a:lnTo>
                      <a:pt x="31" y="892"/>
                    </a:lnTo>
                    <a:lnTo>
                      <a:pt x="46" y="833"/>
                    </a:lnTo>
                    <a:lnTo>
                      <a:pt x="61" y="772"/>
                    </a:lnTo>
                    <a:lnTo>
                      <a:pt x="75" y="713"/>
                    </a:lnTo>
                    <a:lnTo>
                      <a:pt x="75" y="637"/>
                    </a:lnTo>
                    <a:lnTo>
                      <a:pt x="92" y="576"/>
                    </a:lnTo>
                    <a:lnTo>
                      <a:pt x="92" y="514"/>
                    </a:lnTo>
                    <a:lnTo>
                      <a:pt x="106" y="440"/>
                    </a:lnTo>
                    <a:lnTo>
                      <a:pt x="122" y="379"/>
                    </a:lnTo>
                    <a:lnTo>
                      <a:pt x="122" y="318"/>
                    </a:lnTo>
                    <a:lnTo>
                      <a:pt x="137" y="258"/>
                    </a:lnTo>
                    <a:lnTo>
                      <a:pt x="152" y="182"/>
                    </a:lnTo>
                    <a:lnTo>
                      <a:pt x="168" y="122"/>
                    </a:lnTo>
                    <a:lnTo>
                      <a:pt x="168" y="61"/>
                    </a:lnTo>
                    <a:lnTo>
                      <a:pt x="19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4788000" y="509112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438" h="710">
                    <a:moveTo>
                      <a:pt x="438" y="710"/>
                    </a:moveTo>
                    <a:lnTo>
                      <a:pt x="423" y="651"/>
                    </a:lnTo>
                    <a:lnTo>
                      <a:pt x="423" y="605"/>
                    </a:lnTo>
                    <a:lnTo>
                      <a:pt x="409" y="559"/>
                    </a:lnTo>
                    <a:lnTo>
                      <a:pt x="378" y="514"/>
                    </a:lnTo>
                    <a:lnTo>
                      <a:pt x="363" y="469"/>
                    </a:lnTo>
                    <a:lnTo>
                      <a:pt x="333" y="424"/>
                    </a:lnTo>
                    <a:lnTo>
                      <a:pt x="302" y="377"/>
                    </a:lnTo>
                    <a:lnTo>
                      <a:pt x="272" y="332"/>
                    </a:lnTo>
                    <a:lnTo>
                      <a:pt x="227" y="301"/>
                    </a:lnTo>
                    <a:lnTo>
                      <a:pt x="196" y="256"/>
                    </a:lnTo>
                    <a:lnTo>
                      <a:pt x="165" y="211"/>
                    </a:lnTo>
                    <a:lnTo>
                      <a:pt x="120" y="166"/>
                    </a:lnTo>
                    <a:lnTo>
                      <a:pt x="90" y="121"/>
                    </a:lnTo>
                    <a:lnTo>
                      <a:pt x="60" y="91"/>
                    </a:lnTo>
                    <a:lnTo>
                      <a:pt x="30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4927680" y="5468760"/>
                <a:ext cx="36360" cy="235080"/>
              </a:xfrm>
              <a:custGeom>
                <a:avLst/>
                <a:gdLst/>
                <a:ahLst/>
                <a:rect l="l" t="t" r="r" b="b"/>
                <a:pathLst>
                  <a:path w="136" h="892">
                    <a:moveTo>
                      <a:pt x="121" y="0"/>
                    </a:moveTo>
                    <a:lnTo>
                      <a:pt x="106" y="45"/>
                    </a:lnTo>
                    <a:lnTo>
                      <a:pt x="76" y="104"/>
                    </a:lnTo>
                    <a:lnTo>
                      <a:pt x="61" y="151"/>
                    </a:lnTo>
                    <a:lnTo>
                      <a:pt x="45" y="210"/>
                    </a:lnTo>
                    <a:lnTo>
                      <a:pt x="30" y="271"/>
                    </a:lnTo>
                    <a:lnTo>
                      <a:pt x="16" y="332"/>
                    </a:lnTo>
                    <a:lnTo>
                      <a:pt x="0" y="392"/>
                    </a:lnTo>
                    <a:lnTo>
                      <a:pt x="0" y="437"/>
                    </a:lnTo>
                    <a:lnTo>
                      <a:pt x="0" y="498"/>
                    </a:lnTo>
                    <a:lnTo>
                      <a:pt x="0" y="559"/>
                    </a:lnTo>
                    <a:lnTo>
                      <a:pt x="16" y="619"/>
                    </a:lnTo>
                    <a:lnTo>
                      <a:pt x="16" y="679"/>
                    </a:lnTo>
                    <a:lnTo>
                      <a:pt x="45" y="724"/>
                    </a:lnTo>
                    <a:lnTo>
                      <a:pt x="61" y="786"/>
                    </a:lnTo>
                    <a:lnTo>
                      <a:pt x="91" y="831"/>
                    </a:lnTo>
                    <a:lnTo>
                      <a:pt x="136" y="892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4863960" y="56595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w="438" h="834">
                    <a:moveTo>
                      <a:pt x="438" y="834"/>
                    </a:moveTo>
                    <a:lnTo>
                      <a:pt x="392" y="804"/>
                    </a:lnTo>
                    <a:lnTo>
                      <a:pt x="363" y="758"/>
                    </a:lnTo>
                    <a:lnTo>
                      <a:pt x="318" y="712"/>
                    </a:lnTo>
                    <a:lnTo>
                      <a:pt x="287" y="667"/>
                    </a:lnTo>
                    <a:lnTo>
                      <a:pt x="258" y="622"/>
                    </a:lnTo>
                    <a:lnTo>
                      <a:pt x="227" y="561"/>
                    </a:lnTo>
                    <a:lnTo>
                      <a:pt x="196" y="501"/>
                    </a:lnTo>
                    <a:lnTo>
                      <a:pt x="167" y="440"/>
                    </a:lnTo>
                    <a:lnTo>
                      <a:pt x="136" y="379"/>
                    </a:lnTo>
                    <a:lnTo>
                      <a:pt x="122" y="319"/>
                    </a:lnTo>
                    <a:lnTo>
                      <a:pt x="91" y="258"/>
                    </a:lnTo>
                    <a:lnTo>
                      <a:pt x="76" y="213"/>
                    </a:lnTo>
                    <a:lnTo>
                      <a:pt x="60" y="152"/>
                    </a:lnTo>
                    <a:lnTo>
                      <a:pt x="46" y="107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4863960" y="5448240"/>
                <a:ext cx="34920" cy="211320"/>
              </a:xfrm>
              <a:custGeom>
                <a:avLst/>
                <a:gdLst/>
                <a:ahLst/>
                <a:rect l="l" t="t" r="r" b="b"/>
                <a:pathLst>
                  <a:path w="136" h="800">
                    <a:moveTo>
                      <a:pt x="0" y="800"/>
                    </a:moveTo>
                    <a:lnTo>
                      <a:pt x="0" y="755"/>
                    </a:lnTo>
                    <a:lnTo>
                      <a:pt x="0" y="695"/>
                    </a:lnTo>
                    <a:lnTo>
                      <a:pt x="0" y="650"/>
                    </a:lnTo>
                    <a:lnTo>
                      <a:pt x="15" y="604"/>
                    </a:lnTo>
                    <a:lnTo>
                      <a:pt x="15" y="544"/>
                    </a:lnTo>
                    <a:lnTo>
                      <a:pt x="29" y="499"/>
                    </a:lnTo>
                    <a:lnTo>
                      <a:pt x="46" y="454"/>
                    </a:lnTo>
                    <a:lnTo>
                      <a:pt x="60" y="408"/>
                    </a:lnTo>
                    <a:lnTo>
                      <a:pt x="76" y="347"/>
                    </a:lnTo>
                    <a:lnTo>
                      <a:pt x="91" y="303"/>
                    </a:lnTo>
                    <a:lnTo>
                      <a:pt x="106" y="255"/>
                    </a:lnTo>
                    <a:lnTo>
                      <a:pt x="106" y="210"/>
                    </a:lnTo>
                    <a:lnTo>
                      <a:pt x="122" y="151"/>
                    </a:lnTo>
                    <a:lnTo>
                      <a:pt x="136" y="104"/>
                    </a:lnTo>
                    <a:lnTo>
                      <a:pt x="136" y="59"/>
                    </a:lnTo>
                    <a:lnTo>
                      <a:pt x="13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4898880" y="5392800"/>
                <a:ext cx="12960" cy="55440"/>
              </a:xfrm>
              <a:custGeom>
                <a:avLst/>
                <a:gdLst/>
                <a:ahLst/>
                <a:rect l="l" t="t" r="r" b="b"/>
                <a:pathLst>
                  <a:path w="46" h="213">
                    <a:moveTo>
                      <a:pt x="0" y="213"/>
                    </a:moveTo>
                    <a:lnTo>
                      <a:pt x="15" y="213"/>
                    </a:lnTo>
                    <a:lnTo>
                      <a:pt x="15" y="197"/>
                    </a:lnTo>
                    <a:lnTo>
                      <a:pt x="15" y="182"/>
                    </a:lnTo>
                    <a:lnTo>
                      <a:pt x="31" y="166"/>
                    </a:lnTo>
                    <a:lnTo>
                      <a:pt x="31" y="152"/>
                    </a:lnTo>
                    <a:lnTo>
                      <a:pt x="31" y="137"/>
                    </a:lnTo>
                    <a:lnTo>
                      <a:pt x="31" y="121"/>
                    </a:lnTo>
                    <a:lnTo>
                      <a:pt x="31" y="107"/>
                    </a:lnTo>
                    <a:lnTo>
                      <a:pt x="31" y="90"/>
                    </a:lnTo>
                    <a:lnTo>
                      <a:pt x="31" y="76"/>
                    </a:lnTo>
                    <a:lnTo>
                      <a:pt x="31" y="59"/>
                    </a:lnTo>
                    <a:lnTo>
                      <a:pt x="46" y="59"/>
                    </a:lnTo>
                    <a:lnTo>
                      <a:pt x="46" y="45"/>
                    </a:lnTo>
                    <a:lnTo>
                      <a:pt x="46" y="31"/>
                    </a:lnTo>
                    <a:lnTo>
                      <a:pt x="46" y="16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4911840" y="5187960"/>
                <a:ext cx="39600" cy="204840"/>
              </a:xfrm>
              <a:custGeom>
                <a:avLst/>
                <a:gdLst/>
                <a:ahLst/>
                <a:rect l="l" t="t" r="r" b="b"/>
                <a:pathLst>
                  <a:path w="151" h="772">
                    <a:moveTo>
                      <a:pt x="0" y="772"/>
                    </a:moveTo>
                    <a:lnTo>
                      <a:pt x="14" y="727"/>
                    </a:lnTo>
                    <a:lnTo>
                      <a:pt x="14" y="681"/>
                    </a:lnTo>
                    <a:lnTo>
                      <a:pt x="29" y="621"/>
                    </a:lnTo>
                    <a:lnTo>
                      <a:pt x="29" y="576"/>
                    </a:lnTo>
                    <a:lnTo>
                      <a:pt x="45" y="530"/>
                    </a:lnTo>
                    <a:lnTo>
                      <a:pt x="60" y="485"/>
                    </a:lnTo>
                    <a:lnTo>
                      <a:pt x="60" y="439"/>
                    </a:lnTo>
                    <a:lnTo>
                      <a:pt x="76" y="394"/>
                    </a:lnTo>
                    <a:lnTo>
                      <a:pt x="90" y="334"/>
                    </a:lnTo>
                    <a:lnTo>
                      <a:pt x="105" y="289"/>
                    </a:lnTo>
                    <a:lnTo>
                      <a:pt x="105" y="243"/>
                    </a:lnTo>
                    <a:lnTo>
                      <a:pt x="121" y="197"/>
                    </a:lnTo>
                    <a:lnTo>
                      <a:pt x="136" y="152"/>
                    </a:lnTo>
                    <a:lnTo>
                      <a:pt x="136" y="107"/>
                    </a:lnTo>
                    <a:lnTo>
                      <a:pt x="151" y="4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4911840" y="503568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4">
                    <a:moveTo>
                      <a:pt x="151" y="574"/>
                    </a:moveTo>
                    <a:lnTo>
                      <a:pt x="151" y="544"/>
                    </a:lnTo>
                    <a:lnTo>
                      <a:pt x="151" y="499"/>
                    </a:lnTo>
                    <a:lnTo>
                      <a:pt x="151" y="468"/>
                    </a:lnTo>
                    <a:lnTo>
                      <a:pt x="151" y="423"/>
                    </a:lnTo>
                    <a:lnTo>
                      <a:pt x="136" y="392"/>
                    </a:lnTo>
                    <a:lnTo>
                      <a:pt x="136" y="348"/>
                    </a:lnTo>
                    <a:lnTo>
                      <a:pt x="136" y="317"/>
                    </a:lnTo>
                    <a:lnTo>
                      <a:pt x="121" y="272"/>
                    </a:lnTo>
                    <a:lnTo>
                      <a:pt x="121" y="241"/>
                    </a:lnTo>
                    <a:lnTo>
                      <a:pt x="105" y="212"/>
                    </a:lnTo>
                    <a:lnTo>
                      <a:pt x="105" y="166"/>
                    </a:lnTo>
                    <a:lnTo>
                      <a:pt x="90" y="135"/>
                    </a:lnTo>
                    <a:lnTo>
                      <a:pt x="76" y="105"/>
                    </a:lnTo>
                    <a:lnTo>
                      <a:pt x="45" y="76"/>
                    </a:lnTo>
                    <a:lnTo>
                      <a:pt x="29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4898880" y="5043600"/>
                <a:ext cx="16200" cy="188640"/>
              </a:xfrm>
              <a:custGeom>
                <a:avLst/>
                <a:gdLst/>
                <a:ahLst/>
                <a:rect l="l" t="t" r="r" b="b"/>
                <a:pathLst>
                  <a:path w="60" h="711">
                    <a:moveTo>
                      <a:pt x="0" y="0"/>
                    </a:moveTo>
                    <a:lnTo>
                      <a:pt x="0" y="29"/>
                    </a:lnTo>
                    <a:lnTo>
                      <a:pt x="15" y="75"/>
                    </a:lnTo>
                    <a:lnTo>
                      <a:pt x="31" y="121"/>
                    </a:lnTo>
                    <a:lnTo>
                      <a:pt x="31" y="166"/>
                    </a:lnTo>
                    <a:lnTo>
                      <a:pt x="46" y="211"/>
                    </a:lnTo>
                    <a:lnTo>
                      <a:pt x="46" y="256"/>
                    </a:lnTo>
                    <a:lnTo>
                      <a:pt x="46" y="303"/>
                    </a:lnTo>
                    <a:lnTo>
                      <a:pt x="46" y="348"/>
                    </a:lnTo>
                    <a:lnTo>
                      <a:pt x="60" y="393"/>
                    </a:lnTo>
                    <a:lnTo>
                      <a:pt x="60" y="438"/>
                    </a:lnTo>
                    <a:lnTo>
                      <a:pt x="46" y="483"/>
                    </a:lnTo>
                    <a:lnTo>
                      <a:pt x="46" y="530"/>
                    </a:lnTo>
                    <a:lnTo>
                      <a:pt x="46" y="575"/>
                    </a:lnTo>
                    <a:lnTo>
                      <a:pt x="46" y="620"/>
                    </a:lnTo>
                    <a:lnTo>
                      <a:pt x="46" y="665"/>
                    </a:lnTo>
                    <a:lnTo>
                      <a:pt x="31" y="711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4746600" y="4967280"/>
                <a:ext cx="160200" cy="264960"/>
              </a:xfrm>
              <a:custGeom>
                <a:avLst/>
                <a:gdLst/>
                <a:ahLst/>
                <a:rect l="l" t="t" r="r" b="b"/>
                <a:pathLst>
                  <a:path w="606" h="999">
                    <a:moveTo>
                      <a:pt x="606" y="999"/>
                    </a:moveTo>
                    <a:lnTo>
                      <a:pt x="575" y="939"/>
                    </a:lnTo>
                    <a:lnTo>
                      <a:pt x="530" y="877"/>
                    </a:lnTo>
                    <a:lnTo>
                      <a:pt x="485" y="818"/>
                    </a:lnTo>
                    <a:lnTo>
                      <a:pt x="439" y="757"/>
                    </a:lnTo>
                    <a:lnTo>
                      <a:pt x="393" y="695"/>
                    </a:lnTo>
                    <a:lnTo>
                      <a:pt x="348" y="636"/>
                    </a:lnTo>
                    <a:lnTo>
                      <a:pt x="317" y="575"/>
                    </a:lnTo>
                    <a:lnTo>
                      <a:pt x="272" y="516"/>
                    </a:lnTo>
                    <a:lnTo>
                      <a:pt x="227" y="454"/>
                    </a:lnTo>
                    <a:lnTo>
                      <a:pt x="182" y="379"/>
                    </a:lnTo>
                    <a:lnTo>
                      <a:pt x="152" y="317"/>
                    </a:lnTo>
                    <a:lnTo>
                      <a:pt x="107" y="258"/>
                    </a:lnTo>
                    <a:lnTo>
                      <a:pt x="76" y="197"/>
                    </a:lnTo>
                    <a:lnTo>
                      <a:pt x="45" y="121"/>
                    </a:lnTo>
                    <a:lnTo>
                      <a:pt x="31" y="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819680" y="368316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07" h="316">
                    <a:moveTo>
                      <a:pt x="0" y="316"/>
                    </a:moveTo>
                    <a:lnTo>
                      <a:pt x="16" y="301"/>
                    </a:lnTo>
                    <a:lnTo>
                      <a:pt x="16" y="287"/>
                    </a:lnTo>
                    <a:lnTo>
                      <a:pt x="31" y="256"/>
                    </a:lnTo>
                    <a:lnTo>
                      <a:pt x="31" y="241"/>
                    </a:lnTo>
                    <a:lnTo>
                      <a:pt x="45" y="227"/>
                    </a:lnTo>
                    <a:lnTo>
                      <a:pt x="45" y="211"/>
                    </a:lnTo>
                    <a:lnTo>
                      <a:pt x="62" y="181"/>
                    </a:lnTo>
                    <a:lnTo>
                      <a:pt x="76" y="165"/>
                    </a:lnTo>
                    <a:lnTo>
                      <a:pt x="76" y="151"/>
                    </a:lnTo>
                    <a:lnTo>
                      <a:pt x="91" y="120"/>
                    </a:lnTo>
                    <a:lnTo>
                      <a:pt x="91" y="105"/>
                    </a:lnTo>
                    <a:lnTo>
                      <a:pt x="91" y="90"/>
                    </a:lnTo>
                    <a:lnTo>
                      <a:pt x="107" y="60"/>
                    </a:lnTo>
                    <a:lnTo>
                      <a:pt x="107" y="45"/>
                    </a:lnTo>
                    <a:lnTo>
                      <a:pt x="107" y="29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951440" y="5407200"/>
                <a:ext cx="47520" cy="241200"/>
              </a:xfrm>
              <a:custGeom>
                <a:avLst/>
                <a:gdLst/>
                <a:ahLst/>
                <a:rect l="l" t="t" r="r" b="b"/>
                <a:pathLst>
                  <a:path w="182" h="909">
                    <a:moveTo>
                      <a:pt x="59" y="909"/>
                    </a:moveTo>
                    <a:lnTo>
                      <a:pt x="30" y="849"/>
                    </a:lnTo>
                    <a:lnTo>
                      <a:pt x="15" y="804"/>
                    </a:lnTo>
                    <a:lnTo>
                      <a:pt x="0" y="743"/>
                    </a:lnTo>
                    <a:lnTo>
                      <a:pt x="0" y="682"/>
                    </a:lnTo>
                    <a:lnTo>
                      <a:pt x="0" y="622"/>
                    </a:lnTo>
                    <a:lnTo>
                      <a:pt x="0" y="562"/>
                    </a:lnTo>
                    <a:lnTo>
                      <a:pt x="0" y="516"/>
                    </a:lnTo>
                    <a:lnTo>
                      <a:pt x="15" y="457"/>
                    </a:lnTo>
                    <a:lnTo>
                      <a:pt x="30" y="395"/>
                    </a:lnTo>
                    <a:lnTo>
                      <a:pt x="45" y="334"/>
                    </a:lnTo>
                    <a:lnTo>
                      <a:pt x="59" y="275"/>
                    </a:lnTo>
                    <a:lnTo>
                      <a:pt x="90" y="213"/>
                    </a:lnTo>
                    <a:lnTo>
                      <a:pt x="105" y="168"/>
                    </a:lnTo>
                    <a:lnTo>
                      <a:pt x="135" y="107"/>
                    </a:lnTo>
                    <a:lnTo>
                      <a:pt x="166" y="48"/>
                    </a:lnTo>
                    <a:lnTo>
                      <a:pt x="182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691160" y="3181320"/>
                <a:ext cx="541080" cy="2759040"/>
              </a:xfrm>
              <a:custGeom>
                <a:avLst/>
                <a:gdLst/>
                <a:ahLst/>
                <a:rect l="l" t="t" r="r" b="b"/>
                <a:pathLst>
                  <a:path w="2042" h="10427">
                    <a:moveTo>
                      <a:pt x="954" y="138"/>
                    </a:moveTo>
                    <a:lnTo>
                      <a:pt x="984" y="182"/>
                    </a:lnTo>
                    <a:lnTo>
                      <a:pt x="1014" y="213"/>
                    </a:lnTo>
                    <a:lnTo>
                      <a:pt x="1043" y="258"/>
                    </a:lnTo>
                    <a:lnTo>
                      <a:pt x="1060" y="303"/>
                    </a:lnTo>
                    <a:lnTo>
                      <a:pt x="1089" y="348"/>
                    </a:lnTo>
                    <a:lnTo>
                      <a:pt x="1105" y="409"/>
                    </a:lnTo>
                    <a:lnTo>
                      <a:pt x="1119" y="454"/>
                    </a:lnTo>
                    <a:lnTo>
                      <a:pt x="1136" y="499"/>
                    </a:lnTo>
                    <a:lnTo>
                      <a:pt x="1150" y="561"/>
                    </a:lnTo>
                    <a:lnTo>
                      <a:pt x="1150" y="606"/>
                    </a:lnTo>
                    <a:lnTo>
                      <a:pt x="1150" y="667"/>
                    </a:lnTo>
                    <a:lnTo>
                      <a:pt x="1150" y="712"/>
                    </a:lnTo>
                    <a:lnTo>
                      <a:pt x="1136" y="772"/>
                    </a:lnTo>
                    <a:lnTo>
                      <a:pt x="1119" y="818"/>
                    </a:lnTo>
                    <a:lnTo>
                      <a:pt x="1105" y="863"/>
                    </a:lnTo>
                    <a:lnTo>
                      <a:pt x="1089" y="924"/>
                    </a:lnTo>
                    <a:lnTo>
                      <a:pt x="1074" y="939"/>
                    </a:lnTo>
                    <a:lnTo>
                      <a:pt x="1060" y="954"/>
                    </a:lnTo>
                    <a:lnTo>
                      <a:pt x="1060" y="970"/>
                    </a:lnTo>
                    <a:lnTo>
                      <a:pt x="1043" y="970"/>
                    </a:lnTo>
                    <a:lnTo>
                      <a:pt x="1043" y="984"/>
                    </a:lnTo>
                    <a:lnTo>
                      <a:pt x="1029" y="984"/>
                    </a:lnTo>
                    <a:lnTo>
                      <a:pt x="1029" y="999"/>
                    </a:lnTo>
                    <a:lnTo>
                      <a:pt x="1014" y="999"/>
                    </a:lnTo>
                    <a:lnTo>
                      <a:pt x="999" y="1014"/>
                    </a:lnTo>
                    <a:lnTo>
                      <a:pt x="984" y="1014"/>
                    </a:lnTo>
                    <a:lnTo>
                      <a:pt x="984" y="1030"/>
                    </a:lnTo>
                    <a:lnTo>
                      <a:pt x="969" y="1030"/>
                    </a:lnTo>
                    <a:lnTo>
                      <a:pt x="954" y="1030"/>
                    </a:lnTo>
                    <a:lnTo>
                      <a:pt x="938" y="1044"/>
                    </a:lnTo>
                    <a:lnTo>
                      <a:pt x="938" y="1059"/>
                    </a:lnTo>
                    <a:lnTo>
                      <a:pt x="938" y="1075"/>
                    </a:lnTo>
                    <a:lnTo>
                      <a:pt x="954" y="1090"/>
                    </a:lnTo>
                    <a:lnTo>
                      <a:pt x="954" y="1106"/>
                    </a:lnTo>
                    <a:lnTo>
                      <a:pt x="954" y="1121"/>
                    </a:lnTo>
                    <a:lnTo>
                      <a:pt x="969" y="1136"/>
                    </a:lnTo>
                    <a:lnTo>
                      <a:pt x="969" y="1151"/>
                    </a:lnTo>
                    <a:lnTo>
                      <a:pt x="969" y="1166"/>
                    </a:lnTo>
                    <a:lnTo>
                      <a:pt x="984" y="1181"/>
                    </a:lnTo>
                    <a:lnTo>
                      <a:pt x="984" y="1195"/>
                    </a:lnTo>
                    <a:lnTo>
                      <a:pt x="999" y="1195"/>
                    </a:lnTo>
                    <a:lnTo>
                      <a:pt x="999" y="1212"/>
                    </a:lnTo>
                    <a:lnTo>
                      <a:pt x="1014" y="1212"/>
                    </a:lnTo>
                    <a:lnTo>
                      <a:pt x="1043" y="1226"/>
                    </a:lnTo>
                    <a:lnTo>
                      <a:pt x="1074" y="1226"/>
                    </a:lnTo>
                    <a:lnTo>
                      <a:pt x="1105" y="1226"/>
                    </a:lnTo>
                    <a:lnTo>
                      <a:pt x="1136" y="1241"/>
                    </a:lnTo>
                    <a:lnTo>
                      <a:pt x="1166" y="1241"/>
                    </a:lnTo>
                    <a:lnTo>
                      <a:pt x="1195" y="1257"/>
                    </a:lnTo>
                    <a:lnTo>
                      <a:pt x="1225" y="1257"/>
                    </a:lnTo>
                    <a:lnTo>
                      <a:pt x="1256" y="1271"/>
                    </a:lnTo>
                    <a:lnTo>
                      <a:pt x="1287" y="1288"/>
                    </a:lnTo>
                    <a:lnTo>
                      <a:pt x="1318" y="1302"/>
                    </a:lnTo>
                    <a:lnTo>
                      <a:pt x="1346" y="1317"/>
                    </a:lnTo>
                    <a:lnTo>
                      <a:pt x="1362" y="1332"/>
                    </a:lnTo>
                    <a:lnTo>
                      <a:pt x="1393" y="1347"/>
                    </a:lnTo>
                    <a:lnTo>
                      <a:pt x="1407" y="1377"/>
                    </a:lnTo>
                    <a:lnTo>
                      <a:pt x="1422" y="1408"/>
                    </a:lnTo>
                    <a:lnTo>
                      <a:pt x="1438" y="1439"/>
                    </a:lnTo>
                    <a:lnTo>
                      <a:pt x="1438" y="1467"/>
                    </a:lnTo>
                    <a:lnTo>
                      <a:pt x="1438" y="1514"/>
                    </a:lnTo>
                    <a:lnTo>
                      <a:pt x="1438" y="1545"/>
                    </a:lnTo>
                    <a:lnTo>
                      <a:pt x="1438" y="1574"/>
                    </a:lnTo>
                    <a:lnTo>
                      <a:pt x="1438" y="1604"/>
                    </a:lnTo>
                    <a:lnTo>
                      <a:pt x="1422" y="1635"/>
                    </a:lnTo>
                    <a:lnTo>
                      <a:pt x="1422" y="1666"/>
                    </a:lnTo>
                    <a:lnTo>
                      <a:pt x="1407" y="1696"/>
                    </a:lnTo>
                    <a:lnTo>
                      <a:pt x="1407" y="1725"/>
                    </a:lnTo>
                    <a:lnTo>
                      <a:pt x="1393" y="1756"/>
                    </a:lnTo>
                    <a:lnTo>
                      <a:pt x="1393" y="1786"/>
                    </a:lnTo>
                    <a:lnTo>
                      <a:pt x="1393" y="1817"/>
                    </a:lnTo>
                    <a:lnTo>
                      <a:pt x="1393" y="1848"/>
                    </a:lnTo>
                    <a:lnTo>
                      <a:pt x="1407" y="1876"/>
                    </a:lnTo>
                    <a:lnTo>
                      <a:pt x="1407" y="1907"/>
                    </a:lnTo>
                    <a:lnTo>
                      <a:pt x="1438" y="1953"/>
                    </a:lnTo>
                    <a:lnTo>
                      <a:pt x="1469" y="2074"/>
                    </a:lnTo>
                    <a:lnTo>
                      <a:pt x="1514" y="2194"/>
                    </a:lnTo>
                    <a:lnTo>
                      <a:pt x="1543" y="2316"/>
                    </a:lnTo>
                    <a:lnTo>
                      <a:pt x="1589" y="2438"/>
                    </a:lnTo>
                    <a:lnTo>
                      <a:pt x="1634" y="2558"/>
                    </a:lnTo>
                    <a:lnTo>
                      <a:pt x="1665" y="2679"/>
                    </a:lnTo>
                    <a:lnTo>
                      <a:pt x="1710" y="2799"/>
                    </a:lnTo>
                    <a:lnTo>
                      <a:pt x="1741" y="2922"/>
                    </a:lnTo>
                    <a:lnTo>
                      <a:pt x="1786" y="3043"/>
                    </a:lnTo>
                    <a:lnTo>
                      <a:pt x="1815" y="3163"/>
                    </a:lnTo>
                    <a:lnTo>
                      <a:pt x="1846" y="3284"/>
                    </a:lnTo>
                    <a:lnTo>
                      <a:pt x="1892" y="3420"/>
                    </a:lnTo>
                    <a:lnTo>
                      <a:pt x="1922" y="3540"/>
                    </a:lnTo>
                    <a:lnTo>
                      <a:pt x="1952" y="3663"/>
                    </a:lnTo>
                    <a:lnTo>
                      <a:pt x="1983" y="3784"/>
                    </a:lnTo>
                    <a:lnTo>
                      <a:pt x="1997" y="3919"/>
                    </a:lnTo>
                    <a:lnTo>
                      <a:pt x="2028" y="4056"/>
                    </a:lnTo>
                    <a:lnTo>
                      <a:pt x="2028" y="4193"/>
                    </a:lnTo>
                    <a:lnTo>
                      <a:pt x="2042" y="4344"/>
                    </a:lnTo>
                    <a:lnTo>
                      <a:pt x="2042" y="4480"/>
                    </a:lnTo>
                    <a:lnTo>
                      <a:pt x="2042" y="4616"/>
                    </a:lnTo>
                    <a:lnTo>
                      <a:pt x="2042" y="4766"/>
                    </a:lnTo>
                    <a:lnTo>
                      <a:pt x="2028" y="4903"/>
                    </a:lnTo>
                    <a:lnTo>
                      <a:pt x="2013" y="5040"/>
                    </a:lnTo>
                    <a:lnTo>
                      <a:pt x="1997" y="5175"/>
                    </a:lnTo>
                    <a:lnTo>
                      <a:pt x="1983" y="5326"/>
                    </a:lnTo>
                    <a:lnTo>
                      <a:pt x="1952" y="5463"/>
                    </a:lnTo>
                    <a:lnTo>
                      <a:pt x="1922" y="5599"/>
                    </a:lnTo>
                    <a:lnTo>
                      <a:pt x="1892" y="5720"/>
                    </a:lnTo>
                    <a:lnTo>
                      <a:pt x="1846" y="5857"/>
                    </a:lnTo>
                    <a:lnTo>
                      <a:pt x="1815" y="5993"/>
                    </a:lnTo>
                    <a:lnTo>
                      <a:pt x="1770" y="6115"/>
                    </a:lnTo>
                    <a:lnTo>
                      <a:pt x="1755" y="6160"/>
                    </a:lnTo>
                    <a:lnTo>
                      <a:pt x="1755" y="6190"/>
                    </a:lnTo>
                    <a:lnTo>
                      <a:pt x="1741" y="6235"/>
                    </a:lnTo>
                    <a:lnTo>
                      <a:pt x="1725" y="6266"/>
                    </a:lnTo>
                    <a:lnTo>
                      <a:pt x="1725" y="6294"/>
                    </a:lnTo>
                    <a:lnTo>
                      <a:pt x="1710" y="6342"/>
                    </a:lnTo>
                    <a:lnTo>
                      <a:pt x="1696" y="6370"/>
                    </a:lnTo>
                    <a:lnTo>
                      <a:pt x="1696" y="6401"/>
                    </a:lnTo>
                    <a:lnTo>
                      <a:pt x="1679" y="6448"/>
                    </a:lnTo>
                    <a:lnTo>
                      <a:pt x="1665" y="6476"/>
                    </a:lnTo>
                    <a:lnTo>
                      <a:pt x="1650" y="6507"/>
                    </a:lnTo>
                    <a:lnTo>
                      <a:pt x="1634" y="6552"/>
                    </a:lnTo>
                    <a:lnTo>
                      <a:pt x="1634" y="6583"/>
                    </a:lnTo>
                    <a:lnTo>
                      <a:pt x="1619" y="6613"/>
                    </a:lnTo>
                    <a:lnTo>
                      <a:pt x="1604" y="6658"/>
                    </a:lnTo>
                    <a:lnTo>
                      <a:pt x="1589" y="6689"/>
                    </a:lnTo>
                    <a:lnTo>
                      <a:pt x="1589" y="6720"/>
                    </a:lnTo>
                    <a:lnTo>
                      <a:pt x="1574" y="6765"/>
                    </a:lnTo>
                    <a:lnTo>
                      <a:pt x="1574" y="6794"/>
                    </a:lnTo>
                    <a:lnTo>
                      <a:pt x="1559" y="6825"/>
                    </a:lnTo>
                    <a:lnTo>
                      <a:pt x="1543" y="6870"/>
                    </a:lnTo>
                    <a:lnTo>
                      <a:pt x="1543" y="6901"/>
                    </a:lnTo>
                    <a:lnTo>
                      <a:pt x="1528" y="6946"/>
                    </a:lnTo>
                    <a:lnTo>
                      <a:pt x="1514" y="6976"/>
                    </a:lnTo>
                    <a:lnTo>
                      <a:pt x="1514" y="7007"/>
                    </a:lnTo>
                    <a:lnTo>
                      <a:pt x="1497" y="7052"/>
                    </a:lnTo>
                    <a:lnTo>
                      <a:pt x="1483" y="7083"/>
                    </a:lnTo>
                    <a:lnTo>
                      <a:pt x="1483" y="7128"/>
                    </a:lnTo>
                    <a:lnTo>
                      <a:pt x="1469" y="7158"/>
                    </a:lnTo>
                    <a:lnTo>
                      <a:pt x="1452" y="7188"/>
                    </a:lnTo>
                    <a:lnTo>
                      <a:pt x="1452" y="7234"/>
                    </a:lnTo>
                    <a:lnTo>
                      <a:pt x="1438" y="7265"/>
                    </a:lnTo>
                    <a:lnTo>
                      <a:pt x="1422" y="7293"/>
                    </a:lnTo>
                    <a:lnTo>
                      <a:pt x="1407" y="7340"/>
                    </a:lnTo>
                    <a:lnTo>
                      <a:pt x="1393" y="7369"/>
                    </a:lnTo>
                    <a:lnTo>
                      <a:pt x="1377" y="7416"/>
                    </a:lnTo>
                    <a:lnTo>
                      <a:pt x="1377" y="7444"/>
                    </a:lnTo>
                    <a:lnTo>
                      <a:pt x="1362" y="7492"/>
                    </a:lnTo>
                    <a:lnTo>
                      <a:pt x="1346" y="7520"/>
                    </a:lnTo>
                    <a:lnTo>
                      <a:pt x="1332" y="7567"/>
                    </a:lnTo>
                    <a:lnTo>
                      <a:pt x="1318" y="7596"/>
                    </a:lnTo>
                    <a:lnTo>
                      <a:pt x="1301" y="7643"/>
                    </a:lnTo>
                    <a:lnTo>
                      <a:pt x="1287" y="7674"/>
                    </a:lnTo>
                    <a:lnTo>
                      <a:pt x="1287" y="7717"/>
                    </a:lnTo>
                    <a:lnTo>
                      <a:pt x="1270" y="7748"/>
                    </a:lnTo>
                    <a:lnTo>
                      <a:pt x="1256" y="7794"/>
                    </a:lnTo>
                    <a:lnTo>
                      <a:pt x="1242" y="7824"/>
                    </a:lnTo>
                    <a:lnTo>
                      <a:pt x="1242" y="7870"/>
                    </a:lnTo>
                    <a:lnTo>
                      <a:pt x="1225" y="7884"/>
                    </a:lnTo>
                    <a:lnTo>
                      <a:pt x="1211" y="7915"/>
                    </a:lnTo>
                    <a:lnTo>
                      <a:pt x="1211" y="7929"/>
                    </a:lnTo>
                    <a:lnTo>
                      <a:pt x="1195" y="7944"/>
                    </a:lnTo>
                    <a:lnTo>
                      <a:pt x="1195" y="7975"/>
                    </a:lnTo>
                    <a:lnTo>
                      <a:pt x="1180" y="7990"/>
                    </a:lnTo>
                    <a:lnTo>
                      <a:pt x="1180" y="8020"/>
                    </a:lnTo>
                    <a:lnTo>
                      <a:pt x="1166" y="8035"/>
                    </a:lnTo>
                    <a:lnTo>
                      <a:pt x="1166" y="8066"/>
                    </a:lnTo>
                    <a:lnTo>
                      <a:pt x="1150" y="8081"/>
                    </a:lnTo>
                    <a:lnTo>
                      <a:pt x="1150" y="8111"/>
                    </a:lnTo>
                    <a:lnTo>
                      <a:pt x="1150" y="8126"/>
                    </a:lnTo>
                    <a:lnTo>
                      <a:pt x="1136" y="8142"/>
                    </a:lnTo>
                    <a:lnTo>
                      <a:pt x="1136" y="8171"/>
                    </a:lnTo>
                    <a:lnTo>
                      <a:pt x="1119" y="8187"/>
                    </a:lnTo>
                    <a:lnTo>
                      <a:pt x="1119" y="8216"/>
                    </a:lnTo>
                    <a:lnTo>
                      <a:pt x="1136" y="8233"/>
                    </a:lnTo>
                    <a:lnTo>
                      <a:pt x="1150" y="8262"/>
                    </a:lnTo>
                    <a:lnTo>
                      <a:pt x="1166" y="8292"/>
                    </a:lnTo>
                    <a:lnTo>
                      <a:pt x="1180" y="8323"/>
                    </a:lnTo>
                    <a:lnTo>
                      <a:pt x="1180" y="8353"/>
                    </a:lnTo>
                    <a:lnTo>
                      <a:pt x="1195" y="8369"/>
                    </a:lnTo>
                    <a:lnTo>
                      <a:pt x="1211" y="8398"/>
                    </a:lnTo>
                    <a:lnTo>
                      <a:pt x="1225" y="8429"/>
                    </a:lnTo>
                    <a:lnTo>
                      <a:pt x="1242" y="8460"/>
                    </a:lnTo>
                    <a:lnTo>
                      <a:pt x="1256" y="8474"/>
                    </a:lnTo>
                    <a:lnTo>
                      <a:pt x="1270" y="8505"/>
                    </a:lnTo>
                    <a:lnTo>
                      <a:pt x="1287" y="8535"/>
                    </a:lnTo>
                    <a:lnTo>
                      <a:pt x="1318" y="8566"/>
                    </a:lnTo>
                    <a:lnTo>
                      <a:pt x="1332" y="8594"/>
                    </a:lnTo>
                    <a:lnTo>
                      <a:pt x="1346" y="8611"/>
                    </a:lnTo>
                    <a:lnTo>
                      <a:pt x="1362" y="8642"/>
                    </a:lnTo>
                    <a:lnTo>
                      <a:pt x="1377" y="8670"/>
                    </a:lnTo>
                    <a:lnTo>
                      <a:pt x="1393" y="8687"/>
                    </a:lnTo>
                    <a:lnTo>
                      <a:pt x="1407" y="8717"/>
                    </a:lnTo>
                    <a:lnTo>
                      <a:pt x="1407" y="8746"/>
                    </a:lnTo>
                    <a:lnTo>
                      <a:pt x="1422" y="8762"/>
                    </a:lnTo>
                    <a:lnTo>
                      <a:pt x="1438" y="8793"/>
                    </a:lnTo>
                    <a:lnTo>
                      <a:pt x="1452" y="8821"/>
                    </a:lnTo>
                    <a:lnTo>
                      <a:pt x="1452" y="8852"/>
                    </a:lnTo>
                    <a:lnTo>
                      <a:pt x="1452" y="8869"/>
                    </a:lnTo>
                    <a:lnTo>
                      <a:pt x="1469" y="8898"/>
                    </a:lnTo>
                    <a:lnTo>
                      <a:pt x="1469" y="8928"/>
                    </a:lnTo>
                    <a:lnTo>
                      <a:pt x="1469" y="8958"/>
                    </a:lnTo>
                    <a:lnTo>
                      <a:pt x="1469" y="8989"/>
                    </a:lnTo>
                    <a:lnTo>
                      <a:pt x="1452" y="9020"/>
                    </a:lnTo>
                    <a:lnTo>
                      <a:pt x="1452" y="9034"/>
                    </a:lnTo>
                    <a:lnTo>
                      <a:pt x="1438" y="9065"/>
                    </a:lnTo>
                    <a:lnTo>
                      <a:pt x="1407" y="9110"/>
                    </a:lnTo>
                    <a:lnTo>
                      <a:pt x="1377" y="9155"/>
                    </a:lnTo>
                    <a:lnTo>
                      <a:pt x="1346" y="9201"/>
                    </a:lnTo>
                    <a:lnTo>
                      <a:pt x="1318" y="9230"/>
                    </a:lnTo>
                    <a:lnTo>
                      <a:pt x="1287" y="9276"/>
                    </a:lnTo>
                    <a:lnTo>
                      <a:pt x="1256" y="9321"/>
                    </a:lnTo>
                    <a:lnTo>
                      <a:pt x="1211" y="9352"/>
                    </a:lnTo>
                    <a:lnTo>
                      <a:pt x="1180" y="9397"/>
                    </a:lnTo>
                    <a:lnTo>
                      <a:pt x="1150" y="9428"/>
                    </a:lnTo>
                    <a:lnTo>
                      <a:pt x="1105" y="9473"/>
                    </a:lnTo>
                    <a:lnTo>
                      <a:pt x="1074" y="9503"/>
                    </a:lnTo>
                    <a:lnTo>
                      <a:pt x="1043" y="9534"/>
                    </a:lnTo>
                    <a:lnTo>
                      <a:pt x="999" y="9579"/>
                    </a:lnTo>
                    <a:lnTo>
                      <a:pt x="969" y="9610"/>
                    </a:lnTo>
                    <a:lnTo>
                      <a:pt x="923" y="9638"/>
                    </a:lnTo>
                    <a:lnTo>
                      <a:pt x="893" y="9685"/>
                    </a:lnTo>
                    <a:lnTo>
                      <a:pt x="878" y="9685"/>
                    </a:lnTo>
                    <a:lnTo>
                      <a:pt x="862" y="9700"/>
                    </a:lnTo>
                    <a:lnTo>
                      <a:pt x="862" y="9716"/>
                    </a:lnTo>
                    <a:lnTo>
                      <a:pt x="862" y="9730"/>
                    </a:lnTo>
                    <a:lnTo>
                      <a:pt x="862" y="9745"/>
                    </a:lnTo>
                    <a:lnTo>
                      <a:pt x="862" y="9761"/>
                    </a:lnTo>
                    <a:lnTo>
                      <a:pt x="878" y="9761"/>
                    </a:lnTo>
                    <a:lnTo>
                      <a:pt x="878" y="9775"/>
                    </a:lnTo>
                    <a:lnTo>
                      <a:pt x="878" y="9792"/>
                    </a:lnTo>
                    <a:lnTo>
                      <a:pt x="893" y="9792"/>
                    </a:lnTo>
                    <a:lnTo>
                      <a:pt x="893" y="9806"/>
                    </a:lnTo>
                    <a:lnTo>
                      <a:pt x="909" y="9820"/>
                    </a:lnTo>
                    <a:lnTo>
                      <a:pt x="909" y="9837"/>
                    </a:lnTo>
                    <a:lnTo>
                      <a:pt x="923" y="9851"/>
                    </a:lnTo>
                    <a:lnTo>
                      <a:pt x="938" y="9882"/>
                    </a:lnTo>
                    <a:lnTo>
                      <a:pt x="969" y="9912"/>
                    </a:lnTo>
                    <a:lnTo>
                      <a:pt x="984" y="9957"/>
                    </a:lnTo>
                    <a:lnTo>
                      <a:pt x="1014" y="9988"/>
                    </a:lnTo>
                    <a:lnTo>
                      <a:pt x="1029" y="10019"/>
                    </a:lnTo>
                    <a:lnTo>
                      <a:pt x="1043" y="10047"/>
                    </a:lnTo>
                    <a:lnTo>
                      <a:pt x="1074" y="10093"/>
                    </a:lnTo>
                    <a:lnTo>
                      <a:pt x="1089" y="10124"/>
                    </a:lnTo>
                    <a:lnTo>
                      <a:pt x="1105" y="10153"/>
                    </a:lnTo>
                    <a:lnTo>
                      <a:pt x="1136" y="10184"/>
                    </a:lnTo>
                    <a:lnTo>
                      <a:pt x="1150" y="10215"/>
                    </a:lnTo>
                    <a:lnTo>
                      <a:pt x="1180" y="10260"/>
                    </a:lnTo>
                    <a:lnTo>
                      <a:pt x="1195" y="10290"/>
                    </a:lnTo>
                    <a:lnTo>
                      <a:pt x="1225" y="10320"/>
                    </a:lnTo>
                    <a:lnTo>
                      <a:pt x="1242" y="10351"/>
                    </a:lnTo>
                    <a:lnTo>
                      <a:pt x="1270" y="10380"/>
                    </a:lnTo>
                    <a:lnTo>
                      <a:pt x="1270" y="10396"/>
                    </a:lnTo>
                    <a:lnTo>
                      <a:pt x="1256" y="10411"/>
                    </a:lnTo>
                    <a:lnTo>
                      <a:pt x="1242" y="10427"/>
                    </a:lnTo>
                    <a:lnTo>
                      <a:pt x="1136" y="10320"/>
                    </a:lnTo>
                    <a:lnTo>
                      <a:pt x="1029" y="10215"/>
                    </a:lnTo>
                    <a:lnTo>
                      <a:pt x="923" y="10124"/>
                    </a:lnTo>
                    <a:lnTo>
                      <a:pt x="818" y="10033"/>
                    </a:lnTo>
                    <a:lnTo>
                      <a:pt x="697" y="9927"/>
                    </a:lnTo>
                    <a:lnTo>
                      <a:pt x="666" y="9896"/>
                    </a:lnTo>
                    <a:lnTo>
                      <a:pt x="591" y="9806"/>
                    </a:lnTo>
                    <a:lnTo>
                      <a:pt x="546" y="9700"/>
                    </a:lnTo>
                    <a:lnTo>
                      <a:pt x="529" y="9593"/>
                    </a:lnTo>
                    <a:lnTo>
                      <a:pt x="546" y="9473"/>
                    </a:lnTo>
                    <a:lnTo>
                      <a:pt x="560" y="9352"/>
                    </a:lnTo>
                    <a:lnTo>
                      <a:pt x="560" y="9307"/>
                    </a:lnTo>
                    <a:lnTo>
                      <a:pt x="591" y="9140"/>
                    </a:lnTo>
                    <a:lnTo>
                      <a:pt x="605" y="8958"/>
                    </a:lnTo>
                    <a:lnTo>
                      <a:pt x="636" y="8776"/>
                    </a:lnTo>
                    <a:lnTo>
                      <a:pt x="651" y="8594"/>
                    </a:lnTo>
                    <a:lnTo>
                      <a:pt x="666" y="8429"/>
                    </a:lnTo>
                    <a:lnTo>
                      <a:pt x="680" y="8369"/>
                    </a:lnTo>
                    <a:lnTo>
                      <a:pt x="666" y="8233"/>
                    </a:lnTo>
                    <a:lnTo>
                      <a:pt x="620" y="8111"/>
                    </a:lnTo>
                    <a:lnTo>
                      <a:pt x="560" y="7990"/>
                    </a:lnTo>
                    <a:lnTo>
                      <a:pt x="484" y="7870"/>
                    </a:lnTo>
                    <a:lnTo>
                      <a:pt x="424" y="7748"/>
                    </a:lnTo>
                    <a:lnTo>
                      <a:pt x="409" y="7702"/>
                    </a:lnTo>
                    <a:lnTo>
                      <a:pt x="333" y="7475"/>
                    </a:lnTo>
                    <a:lnTo>
                      <a:pt x="257" y="7248"/>
                    </a:lnTo>
                    <a:lnTo>
                      <a:pt x="196" y="7021"/>
                    </a:lnTo>
                    <a:lnTo>
                      <a:pt x="137" y="6779"/>
                    </a:lnTo>
                    <a:lnTo>
                      <a:pt x="92" y="6538"/>
                    </a:lnTo>
                    <a:lnTo>
                      <a:pt x="75" y="6462"/>
                    </a:lnTo>
                    <a:lnTo>
                      <a:pt x="30" y="6008"/>
                    </a:lnTo>
                    <a:lnTo>
                      <a:pt x="0" y="5539"/>
                    </a:lnTo>
                    <a:lnTo>
                      <a:pt x="0" y="5085"/>
                    </a:lnTo>
                    <a:lnTo>
                      <a:pt x="46" y="4616"/>
                    </a:lnTo>
                    <a:lnTo>
                      <a:pt x="120" y="4176"/>
                    </a:lnTo>
                    <a:lnTo>
                      <a:pt x="151" y="4041"/>
                    </a:lnTo>
                    <a:lnTo>
                      <a:pt x="182" y="3890"/>
                    </a:lnTo>
                    <a:lnTo>
                      <a:pt x="227" y="3739"/>
                    </a:lnTo>
                    <a:lnTo>
                      <a:pt x="257" y="3588"/>
                    </a:lnTo>
                    <a:lnTo>
                      <a:pt x="302" y="3435"/>
                    </a:lnTo>
                    <a:lnTo>
                      <a:pt x="348" y="3299"/>
                    </a:lnTo>
                    <a:lnTo>
                      <a:pt x="364" y="3239"/>
                    </a:lnTo>
                    <a:lnTo>
                      <a:pt x="424" y="3026"/>
                    </a:lnTo>
                    <a:lnTo>
                      <a:pt x="470" y="2816"/>
                    </a:lnTo>
                    <a:lnTo>
                      <a:pt x="515" y="2589"/>
                    </a:lnTo>
                    <a:lnTo>
                      <a:pt x="515" y="2362"/>
                    </a:lnTo>
                    <a:lnTo>
                      <a:pt x="470" y="2149"/>
                    </a:lnTo>
                    <a:lnTo>
                      <a:pt x="439" y="2074"/>
                    </a:lnTo>
                    <a:lnTo>
                      <a:pt x="409" y="1998"/>
                    </a:lnTo>
                    <a:lnTo>
                      <a:pt x="364" y="1938"/>
                    </a:lnTo>
                    <a:lnTo>
                      <a:pt x="333" y="1862"/>
                    </a:lnTo>
                    <a:lnTo>
                      <a:pt x="319" y="1786"/>
                    </a:lnTo>
                    <a:lnTo>
                      <a:pt x="319" y="1696"/>
                    </a:lnTo>
                    <a:lnTo>
                      <a:pt x="333" y="1666"/>
                    </a:lnTo>
                    <a:lnTo>
                      <a:pt x="378" y="1574"/>
                    </a:lnTo>
                    <a:lnTo>
                      <a:pt x="439" y="1484"/>
                    </a:lnTo>
                    <a:lnTo>
                      <a:pt x="529" y="1408"/>
                    </a:lnTo>
                    <a:lnTo>
                      <a:pt x="605" y="1332"/>
                    </a:lnTo>
                    <a:lnTo>
                      <a:pt x="697" y="1271"/>
                    </a:lnTo>
                    <a:lnTo>
                      <a:pt x="727" y="1257"/>
                    </a:lnTo>
                    <a:lnTo>
                      <a:pt x="757" y="1241"/>
                    </a:lnTo>
                    <a:lnTo>
                      <a:pt x="802" y="1226"/>
                    </a:lnTo>
                    <a:lnTo>
                      <a:pt x="833" y="1212"/>
                    </a:lnTo>
                    <a:lnTo>
                      <a:pt x="862" y="1212"/>
                    </a:lnTo>
                    <a:lnTo>
                      <a:pt x="893" y="1181"/>
                    </a:lnTo>
                    <a:lnTo>
                      <a:pt x="893" y="1166"/>
                    </a:lnTo>
                    <a:lnTo>
                      <a:pt x="878" y="1059"/>
                    </a:lnTo>
                    <a:lnTo>
                      <a:pt x="773" y="1044"/>
                    </a:lnTo>
                    <a:lnTo>
                      <a:pt x="651" y="999"/>
                    </a:lnTo>
                    <a:lnTo>
                      <a:pt x="560" y="954"/>
                    </a:lnTo>
                    <a:lnTo>
                      <a:pt x="470" y="879"/>
                    </a:lnTo>
                    <a:lnTo>
                      <a:pt x="394" y="788"/>
                    </a:lnTo>
                    <a:lnTo>
                      <a:pt x="364" y="757"/>
                    </a:lnTo>
                    <a:lnTo>
                      <a:pt x="319" y="681"/>
                    </a:lnTo>
                    <a:lnTo>
                      <a:pt x="288" y="591"/>
                    </a:lnTo>
                    <a:lnTo>
                      <a:pt x="288" y="499"/>
                    </a:lnTo>
                    <a:lnTo>
                      <a:pt x="288" y="395"/>
                    </a:lnTo>
                    <a:lnTo>
                      <a:pt x="302" y="303"/>
                    </a:lnTo>
                    <a:lnTo>
                      <a:pt x="319" y="272"/>
                    </a:lnTo>
                    <a:lnTo>
                      <a:pt x="348" y="213"/>
                    </a:lnTo>
                    <a:lnTo>
                      <a:pt x="394" y="138"/>
                    </a:lnTo>
                    <a:lnTo>
                      <a:pt x="454" y="76"/>
                    </a:lnTo>
                    <a:lnTo>
                      <a:pt x="515" y="31"/>
                    </a:lnTo>
                    <a:lnTo>
                      <a:pt x="591" y="0"/>
                    </a:lnTo>
                    <a:lnTo>
                      <a:pt x="620" y="0"/>
                    </a:lnTo>
                    <a:lnTo>
                      <a:pt x="680" y="0"/>
                    </a:lnTo>
                    <a:lnTo>
                      <a:pt x="757" y="16"/>
                    </a:lnTo>
                    <a:lnTo>
                      <a:pt x="818" y="45"/>
                    </a:lnTo>
                    <a:lnTo>
                      <a:pt x="878" y="76"/>
                    </a:lnTo>
                    <a:lnTo>
                      <a:pt x="938" y="121"/>
                    </a:lnTo>
                    <a:lnTo>
                      <a:pt x="954" y="1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943520" y="3218040"/>
                <a:ext cx="52200" cy="207720"/>
              </a:xfrm>
              <a:custGeom>
                <a:avLst/>
                <a:gdLst/>
                <a:ahLst/>
                <a:rect l="l" t="t" r="r" b="b"/>
                <a:pathLst>
                  <a:path w="196" h="786">
                    <a:moveTo>
                      <a:pt x="0" y="0"/>
                    </a:moveTo>
                    <a:lnTo>
                      <a:pt x="30" y="44"/>
                    </a:lnTo>
                    <a:lnTo>
                      <a:pt x="60" y="75"/>
                    </a:lnTo>
                    <a:lnTo>
                      <a:pt x="89" y="120"/>
                    </a:lnTo>
                    <a:lnTo>
                      <a:pt x="106" y="165"/>
                    </a:lnTo>
                    <a:lnTo>
                      <a:pt x="135" y="210"/>
                    </a:lnTo>
                    <a:lnTo>
                      <a:pt x="151" y="271"/>
                    </a:lnTo>
                    <a:lnTo>
                      <a:pt x="165" y="316"/>
                    </a:lnTo>
                    <a:lnTo>
                      <a:pt x="182" y="361"/>
                    </a:lnTo>
                    <a:lnTo>
                      <a:pt x="196" y="423"/>
                    </a:lnTo>
                    <a:lnTo>
                      <a:pt x="196" y="468"/>
                    </a:lnTo>
                    <a:lnTo>
                      <a:pt x="196" y="529"/>
                    </a:lnTo>
                    <a:lnTo>
                      <a:pt x="196" y="574"/>
                    </a:lnTo>
                    <a:lnTo>
                      <a:pt x="182" y="634"/>
                    </a:lnTo>
                    <a:lnTo>
                      <a:pt x="165" y="680"/>
                    </a:lnTo>
                    <a:lnTo>
                      <a:pt x="151" y="725"/>
                    </a:lnTo>
                    <a:lnTo>
                      <a:pt x="135" y="7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38840" y="34574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76" h="168">
                    <a:moveTo>
                      <a:pt x="0" y="0"/>
                    </a:moveTo>
                    <a:lnTo>
                      <a:pt x="0" y="15"/>
                    </a:lnTo>
                    <a:lnTo>
                      <a:pt x="0" y="31"/>
                    </a:lnTo>
                    <a:lnTo>
                      <a:pt x="16" y="46"/>
                    </a:lnTo>
                    <a:lnTo>
                      <a:pt x="16" y="62"/>
                    </a:lnTo>
                    <a:lnTo>
                      <a:pt x="16" y="77"/>
                    </a:lnTo>
                    <a:lnTo>
                      <a:pt x="31" y="92"/>
                    </a:lnTo>
                    <a:lnTo>
                      <a:pt x="31" y="107"/>
                    </a:lnTo>
                    <a:lnTo>
                      <a:pt x="31" y="122"/>
                    </a:lnTo>
                    <a:lnTo>
                      <a:pt x="46" y="137"/>
                    </a:lnTo>
                    <a:lnTo>
                      <a:pt x="46" y="151"/>
                    </a:lnTo>
                    <a:lnTo>
                      <a:pt x="61" y="151"/>
                    </a:lnTo>
                    <a:lnTo>
                      <a:pt x="61" y="168"/>
                    </a:lnTo>
                    <a:lnTo>
                      <a:pt x="76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959360" y="350208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424" h="227">
                    <a:moveTo>
                      <a:pt x="0" y="0"/>
                    </a:moveTo>
                    <a:lnTo>
                      <a:pt x="29" y="14"/>
                    </a:lnTo>
                    <a:lnTo>
                      <a:pt x="60" y="14"/>
                    </a:lnTo>
                    <a:lnTo>
                      <a:pt x="91" y="14"/>
                    </a:lnTo>
                    <a:lnTo>
                      <a:pt x="122" y="29"/>
                    </a:lnTo>
                    <a:lnTo>
                      <a:pt x="152" y="29"/>
                    </a:lnTo>
                    <a:lnTo>
                      <a:pt x="181" y="45"/>
                    </a:lnTo>
                    <a:lnTo>
                      <a:pt x="211" y="45"/>
                    </a:lnTo>
                    <a:lnTo>
                      <a:pt x="242" y="59"/>
                    </a:lnTo>
                    <a:lnTo>
                      <a:pt x="273" y="76"/>
                    </a:lnTo>
                    <a:lnTo>
                      <a:pt x="304" y="90"/>
                    </a:lnTo>
                    <a:lnTo>
                      <a:pt x="332" y="105"/>
                    </a:lnTo>
                    <a:lnTo>
                      <a:pt x="348" y="120"/>
                    </a:lnTo>
                    <a:lnTo>
                      <a:pt x="379" y="135"/>
                    </a:lnTo>
                    <a:lnTo>
                      <a:pt x="393" y="165"/>
                    </a:lnTo>
                    <a:lnTo>
                      <a:pt x="408" y="196"/>
                    </a:lnTo>
                    <a:lnTo>
                      <a:pt x="424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59440" y="3562200"/>
                <a:ext cx="12600" cy="136800"/>
              </a:xfrm>
              <a:custGeom>
                <a:avLst/>
                <a:gdLst/>
                <a:ahLst/>
                <a:rect l="l" t="t" r="r" b="b"/>
                <a:pathLst>
                  <a:path w="45" h="514">
                    <a:moveTo>
                      <a:pt x="45" y="0"/>
                    </a:moveTo>
                    <a:lnTo>
                      <a:pt x="45" y="28"/>
                    </a:lnTo>
                    <a:lnTo>
                      <a:pt x="45" y="75"/>
                    </a:lnTo>
                    <a:lnTo>
                      <a:pt x="45" y="106"/>
                    </a:lnTo>
                    <a:lnTo>
                      <a:pt x="45" y="135"/>
                    </a:lnTo>
                    <a:lnTo>
                      <a:pt x="45" y="165"/>
                    </a:lnTo>
                    <a:lnTo>
                      <a:pt x="29" y="196"/>
                    </a:lnTo>
                    <a:lnTo>
                      <a:pt x="29" y="227"/>
                    </a:lnTo>
                    <a:lnTo>
                      <a:pt x="14" y="257"/>
                    </a:lnTo>
                    <a:lnTo>
                      <a:pt x="14" y="286"/>
                    </a:lnTo>
                    <a:lnTo>
                      <a:pt x="0" y="317"/>
                    </a:lnTo>
                    <a:lnTo>
                      <a:pt x="0" y="347"/>
                    </a:lnTo>
                    <a:lnTo>
                      <a:pt x="0" y="378"/>
                    </a:lnTo>
                    <a:lnTo>
                      <a:pt x="0" y="409"/>
                    </a:lnTo>
                    <a:lnTo>
                      <a:pt x="14" y="437"/>
                    </a:lnTo>
                    <a:lnTo>
                      <a:pt x="14" y="468"/>
                    </a:lnTo>
                    <a:lnTo>
                      <a:pt x="45" y="5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72040" y="369900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559" h="1966">
                    <a:moveTo>
                      <a:pt x="0" y="0"/>
                    </a:moveTo>
                    <a:lnTo>
                      <a:pt x="31" y="121"/>
                    </a:lnTo>
                    <a:lnTo>
                      <a:pt x="76" y="241"/>
                    </a:lnTo>
                    <a:lnTo>
                      <a:pt x="105" y="363"/>
                    </a:lnTo>
                    <a:lnTo>
                      <a:pt x="151" y="485"/>
                    </a:lnTo>
                    <a:lnTo>
                      <a:pt x="196" y="605"/>
                    </a:lnTo>
                    <a:lnTo>
                      <a:pt x="227" y="726"/>
                    </a:lnTo>
                    <a:lnTo>
                      <a:pt x="272" y="846"/>
                    </a:lnTo>
                    <a:lnTo>
                      <a:pt x="303" y="969"/>
                    </a:lnTo>
                    <a:lnTo>
                      <a:pt x="348" y="1090"/>
                    </a:lnTo>
                    <a:lnTo>
                      <a:pt x="377" y="1210"/>
                    </a:lnTo>
                    <a:lnTo>
                      <a:pt x="408" y="1331"/>
                    </a:lnTo>
                    <a:lnTo>
                      <a:pt x="454" y="1467"/>
                    </a:lnTo>
                    <a:lnTo>
                      <a:pt x="484" y="1587"/>
                    </a:lnTo>
                    <a:lnTo>
                      <a:pt x="514" y="1710"/>
                    </a:lnTo>
                    <a:lnTo>
                      <a:pt x="545" y="1831"/>
                    </a:lnTo>
                    <a:lnTo>
                      <a:pt x="559" y="19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159520" y="4219560"/>
                <a:ext cx="72720" cy="579600"/>
              </a:xfrm>
              <a:custGeom>
                <a:avLst/>
                <a:gdLst/>
                <a:ahLst/>
                <a:rect l="l" t="t" r="r" b="b"/>
                <a:pathLst>
                  <a:path w="272" h="2196">
                    <a:moveTo>
                      <a:pt x="227" y="0"/>
                    </a:moveTo>
                    <a:lnTo>
                      <a:pt x="258" y="137"/>
                    </a:lnTo>
                    <a:lnTo>
                      <a:pt x="258" y="274"/>
                    </a:lnTo>
                    <a:lnTo>
                      <a:pt x="272" y="425"/>
                    </a:lnTo>
                    <a:lnTo>
                      <a:pt x="272" y="561"/>
                    </a:lnTo>
                    <a:lnTo>
                      <a:pt x="272" y="697"/>
                    </a:lnTo>
                    <a:lnTo>
                      <a:pt x="272" y="847"/>
                    </a:lnTo>
                    <a:lnTo>
                      <a:pt x="258" y="984"/>
                    </a:lnTo>
                    <a:lnTo>
                      <a:pt x="243" y="1121"/>
                    </a:lnTo>
                    <a:lnTo>
                      <a:pt x="227" y="1256"/>
                    </a:lnTo>
                    <a:lnTo>
                      <a:pt x="213" y="1407"/>
                    </a:lnTo>
                    <a:lnTo>
                      <a:pt x="182" y="1544"/>
                    </a:lnTo>
                    <a:lnTo>
                      <a:pt x="152" y="1680"/>
                    </a:lnTo>
                    <a:lnTo>
                      <a:pt x="122" y="1801"/>
                    </a:lnTo>
                    <a:lnTo>
                      <a:pt x="76" y="1938"/>
                    </a:lnTo>
                    <a:lnTo>
                      <a:pt x="45" y="2074"/>
                    </a:lnTo>
                    <a:lnTo>
                      <a:pt x="0" y="2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111640" y="4799160"/>
                <a:ext cx="47880" cy="152280"/>
              </a:xfrm>
              <a:custGeom>
                <a:avLst/>
                <a:gdLst/>
                <a:ahLst/>
                <a:rect l="l" t="t" r="r" b="b"/>
                <a:pathLst>
                  <a:path w="181" h="574">
                    <a:moveTo>
                      <a:pt x="181" y="0"/>
                    </a:moveTo>
                    <a:lnTo>
                      <a:pt x="166" y="45"/>
                    </a:lnTo>
                    <a:lnTo>
                      <a:pt x="166" y="75"/>
                    </a:lnTo>
                    <a:lnTo>
                      <a:pt x="152" y="120"/>
                    </a:lnTo>
                    <a:lnTo>
                      <a:pt x="136" y="151"/>
                    </a:lnTo>
                    <a:lnTo>
                      <a:pt x="136" y="179"/>
                    </a:lnTo>
                    <a:lnTo>
                      <a:pt x="121" y="227"/>
                    </a:lnTo>
                    <a:lnTo>
                      <a:pt x="107" y="255"/>
                    </a:lnTo>
                    <a:lnTo>
                      <a:pt x="107" y="286"/>
                    </a:lnTo>
                    <a:lnTo>
                      <a:pt x="90" y="333"/>
                    </a:lnTo>
                    <a:lnTo>
                      <a:pt x="76" y="361"/>
                    </a:lnTo>
                    <a:lnTo>
                      <a:pt x="61" y="392"/>
                    </a:lnTo>
                    <a:lnTo>
                      <a:pt x="45" y="437"/>
                    </a:lnTo>
                    <a:lnTo>
                      <a:pt x="45" y="468"/>
                    </a:lnTo>
                    <a:lnTo>
                      <a:pt x="30" y="498"/>
                    </a:lnTo>
                    <a:lnTo>
                      <a:pt x="15" y="543"/>
                    </a:lnTo>
                    <a:lnTo>
                      <a:pt x="0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72040" y="495144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6">
                    <a:moveTo>
                      <a:pt x="151" y="0"/>
                    </a:moveTo>
                    <a:lnTo>
                      <a:pt x="151" y="31"/>
                    </a:lnTo>
                    <a:lnTo>
                      <a:pt x="136" y="76"/>
                    </a:lnTo>
                    <a:lnTo>
                      <a:pt x="136" y="105"/>
                    </a:lnTo>
                    <a:lnTo>
                      <a:pt x="121" y="136"/>
                    </a:lnTo>
                    <a:lnTo>
                      <a:pt x="105" y="181"/>
                    </a:lnTo>
                    <a:lnTo>
                      <a:pt x="105" y="212"/>
                    </a:lnTo>
                    <a:lnTo>
                      <a:pt x="90" y="257"/>
                    </a:lnTo>
                    <a:lnTo>
                      <a:pt x="76" y="287"/>
                    </a:lnTo>
                    <a:lnTo>
                      <a:pt x="76" y="318"/>
                    </a:lnTo>
                    <a:lnTo>
                      <a:pt x="59" y="363"/>
                    </a:lnTo>
                    <a:lnTo>
                      <a:pt x="45" y="394"/>
                    </a:lnTo>
                    <a:lnTo>
                      <a:pt x="45" y="439"/>
                    </a:lnTo>
                    <a:lnTo>
                      <a:pt x="31" y="469"/>
                    </a:lnTo>
                    <a:lnTo>
                      <a:pt x="14" y="499"/>
                    </a:lnTo>
                    <a:lnTo>
                      <a:pt x="14" y="545"/>
                    </a:lnTo>
                    <a:lnTo>
                      <a:pt x="0" y="57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19840" y="5103720"/>
                <a:ext cx="52200" cy="160560"/>
              </a:xfrm>
              <a:custGeom>
                <a:avLst/>
                <a:gdLst/>
                <a:ahLst/>
                <a:rect l="l" t="t" r="r" b="b"/>
                <a:pathLst>
                  <a:path w="196" h="605">
                    <a:moveTo>
                      <a:pt x="196" y="0"/>
                    </a:moveTo>
                    <a:lnTo>
                      <a:pt x="180" y="28"/>
                    </a:lnTo>
                    <a:lnTo>
                      <a:pt x="165" y="75"/>
                    </a:lnTo>
                    <a:lnTo>
                      <a:pt x="151" y="104"/>
                    </a:lnTo>
                    <a:lnTo>
                      <a:pt x="135" y="151"/>
                    </a:lnTo>
                    <a:lnTo>
                      <a:pt x="135" y="179"/>
                    </a:lnTo>
                    <a:lnTo>
                      <a:pt x="120" y="227"/>
                    </a:lnTo>
                    <a:lnTo>
                      <a:pt x="104" y="255"/>
                    </a:lnTo>
                    <a:lnTo>
                      <a:pt x="90" y="302"/>
                    </a:lnTo>
                    <a:lnTo>
                      <a:pt x="76" y="331"/>
                    </a:lnTo>
                    <a:lnTo>
                      <a:pt x="59" y="378"/>
                    </a:lnTo>
                    <a:lnTo>
                      <a:pt x="45" y="409"/>
                    </a:lnTo>
                    <a:lnTo>
                      <a:pt x="45" y="452"/>
                    </a:lnTo>
                    <a:lnTo>
                      <a:pt x="28" y="483"/>
                    </a:lnTo>
                    <a:lnTo>
                      <a:pt x="14" y="529"/>
                    </a:lnTo>
                    <a:lnTo>
                      <a:pt x="0" y="559"/>
                    </a:lnTo>
                    <a:lnTo>
                      <a:pt x="0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87800" y="5264280"/>
                <a:ext cx="32040" cy="91800"/>
              </a:xfrm>
              <a:custGeom>
                <a:avLst/>
                <a:gdLst/>
                <a:ahLst/>
                <a:rect l="l" t="t" r="r" b="b"/>
                <a:pathLst>
                  <a:path w="123" h="346">
                    <a:moveTo>
                      <a:pt x="123" y="0"/>
                    </a:moveTo>
                    <a:lnTo>
                      <a:pt x="106" y="14"/>
                    </a:lnTo>
                    <a:lnTo>
                      <a:pt x="92" y="45"/>
                    </a:lnTo>
                    <a:lnTo>
                      <a:pt x="92" y="59"/>
                    </a:lnTo>
                    <a:lnTo>
                      <a:pt x="76" y="74"/>
                    </a:lnTo>
                    <a:lnTo>
                      <a:pt x="76" y="105"/>
                    </a:lnTo>
                    <a:lnTo>
                      <a:pt x="61" y="120"/>
                    </a:lnTo>
                    <a:lnTo>
                      <a:pt x="61" y="150"/>
                    </a:lnTo>
                    <a:lnTo>
                      <a:pt x="47" y="165"/>
                    </a:lnTo>
                    <a:lnTo>
                      <a:pt x="47" y="196"/>
                    </a:lnTo>
                    <a:lnTo>
                      <a:pt x="31" y="211"/>
                    </a:lnTo>
                    <a:lnTo>
                      <a:pt x="31" y="241"/>
                    </a:lnTo>
                    <a:lnTo>
                      <a:pt x="31" y="256"/>
                    </a:lnTo>
                    <a:lnTo>
                      <a:pt x="17" y="272"/>
                    </a:lnTo>
                    <a:lnTo>
                      <a:pt x="17" y="301"/>
                    </a:lnTo>
                    <a:lnTo>
                      <a:pt x="0" y="317"/>
                    </a:lnTo>
                    <a:lnTo>
                      <a:pt x="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87800" y="5356080"/>
                <a:ext cx="63720" cy="112680"/>
              </a:xfrm>
              <a:custGeom>
                <a:avLst/>
                <a:gdLst/>
                <a:ahLst/>
                <a:rect l="l" t="t" r="r" b="b"/>
                <a:pathLst>
                  <a:path w="243" h="426">
                    <a:moveTo>
                      <a:pt x="0" y="0"/>
                    </a:moveTo>
                    <a:lnTo>
                      <a:pt x="17" y="17"/>
                    </a:lnTo>
                    <a:lnTo>
                      <a:pt x="31" y="46"/>
                    </a:lnTo>
                    <a:lnTo>
                      <a:pt x="47" y="76"/>
                    </a:lnTo>
                    <a:lnTo>
                      <a:pt x="61" y="107"/>
                    </a:lnTo>
                    <a:lnTo>
                      <a:pt x="61" y="137"/>
                    </a:lnTo>
                    <a:lnTo>
                      <a:pt x="76" y="153"/>
                    </a:lnTo>
                    <a:lnTo>
                      <a:pt x="92" y="182"/>
                    </a:lnTo>
                    <a:lnTo>
                      <a:pt x="106" y="213"/>
                    </a:lnTo>
                    <a:lnTo>
                      <a:pt x="123" y="244"/>
                    </a:lnTo>
                    <a:lnTo>
                      <a:pt x="137" y="258"/>
                    </a:lnTo>
                    <a:lnTo>
                      <a:pt x="151" y="289"/>
                    </a:lnTo>
                    <a:lnTo>
                      <a:pt x="168" y="319"/>
                    </a:lnTo>
                    <a:lnTo>
                      <a:pt x="199" y="350"/>
                    </a:lnTo>
                    <a:lnTo>
                      <a:pt x="213" y="378"/>
                    </a:lnTo>
                    <a:lnTo>
                      <a:pt x="227" y="395"/>
                    </a:lnTo>
                    <a:lnTo>
                      <a:pt x="243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27680" y="5580000"/>
                <a:ext cx="144360" cy="163440"/>
              </a:xfrm>
              <a:custGeom>
                <a:avLst/>
                <a:gdLst/>
                <a:ahLst/>
                <a:rect l="l" t="t" r="r" b="b"/>
                <a:pathLst>
                  <a:path w="545" h="620">
                    <a:moveTo>
                      <a:pt x="545" y="0"/>
                    </a:moveTo>
                    <a:lnTo>
                      <a:pt x="514" y="45"/>
                    </a:lnTo>
                    <a:lnTo>
                      <a:pt x="484" y="90"/>
                    </a:lnTo>
                    <a:lnTo>
                      <a:pt x="453" y="136"/>
                    </a:lnTo>
                    <a:lnTo>
                      <a:pt x="425" y="165"/>
                    </a:lnTo>
                    <a:lnTo>
                      <a:pt x="394" y="211"/>
                    </a:lnTo>
                    <a:lnTo>
                      <a:pt x="363" y="256"/>
                    </a:lnTo>
                    <a:lnTo>
                      <a:pt x="318" y="287"/>
                    </a:lnTo>
                    <a:lnTo>
                      <a:pt x="287" y="332"/>
                    </a:lnTo>
                    <a:lnTo>
                      <a:pt x="257" y="363"/>
                    </a:lnTo>
                    <a:lnTo>
                      <a:pt x="212" y="408"/>
                    </a:lnTo>
                    <a:lnTo>
                      <a:pt x="181" y="438"/>
                    </a:lnTo>
                    <a:lnTo>
                      <a:pt x="150" y="469"/>
                    </a:lnTo>
                    <a:lnTo>
                      <a:pt x="106" y="514"/>
                    </a:lnTo>
                    <a:lnTo>
                      <a:pt x="76" y="545"/>
                    </a:lnTo>
                    <a:lnTo>
                      <a:pt x="30" y="573"/>
                    </a:lnTo>
                    <a:lnTo>
                      <a:pt x="0" y="6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19760" y="574344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1" y="0"/>
                    </a:moveTo>
                    <a:lnTo>
                      <a:pt x="16" y="0"/>
                    </a:lnTo>
                    <a:lnTo>
                      <a:pt x="0" y="15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6"/>
                    </a:lnTo>
                    <a:lnTo>
                      <a:pt x="16" y="76"/>
                    </a:lnTo>
                    <a:lnTo>
                      <a:pt x="16" y="90"/>
                    </a:lnTo>
                    <a:lnTo>
                      <a:pt x="16" y="107"/>
                    </a:lnTo>
                    <a:lnTo>
                      <a:pt x="31" y="107"/>
                    </a:lnTo>
                    <a:lnTo>
                      <a:pt x="31" y="121"/>
                    </a:lnTo>
                    <a:lnTo>
                      <a:pt x="47" y="135"/>
                    </a:lnTo>
                    <a:lnTo>
                      <a:pt x="47" y="152"/>
                    </a:lnTo>
                    <a:lnTo>
                      <a:pt x="61" y="1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5600" y="5788080"/>
                <a:ext cx="92160" cy="139680"/>
              </a:xfrm>
              <a:custGeom>
                <a:avLst/>
                <a:gdLst/>
                <a:ahLst/>
                <a:rect l="l" t="t" r="r" b="b"/>
                <a:pathLst>
                  <a:path w="347" h="529">
                    <a:moveTo>
                      <a:pt x="0" y="0"/>
                    </a:moveTo>
                    <a:lnTo>
                      <a:pt x="15" y="31"/>
                    </a:lnTo>
                    <a:lnTo>
                      <a:pt x="46" y="61"/>
                    </a:lnTo>
                    <a:lnTo>
                      <a:pt x="61" y="106"/>
                    </a:lnTo>
                    <a:lnTo>
                      <a:pt x="91" y="137"/>
                    </a:lnTo>
                    <a:lnTo>
                      <a:pt x="106" y="168"/>
                    </a:lnTo>
                    <a:lnTo>
                      <a:pt x="120" y="196"/>
                    </a:lnTo>
                    <a:lnTo>
                      <a:pt x="151" y="242"/>
                    </a:lnTo>
                    <a:lnTo>
                      <a:pt x="166" y="273"/>
                    </a:lnTo>
                    <a:lnTo>
                      <a:pt x="182" y="302"/>
                    </a:lnTo>
                    <a:lnTo>
                      <a:pt x="213" y="333"/>
                    </a:lnTo>
                    <a:lnTo>
                      <a:pt x="227" y="364"/>
                    </a:lnTo>
                    <a:lnTo>
                      <a:pt x="257" y="409"/>
                    </a:lnTo>
                    <a:lnTo>
                      <a:pt x="272" y="439"/>
                    </a:lnTo>
                    <a:lnTo>
                      <a:pt x="302" y="469"/>
                    </a:lnTo>
                    <a:lnTo>
                      <a:pt x="319" y="500"/>
                    </a:lnTo>
                    <a:lnTo>
                      <a:pt x="347" y="5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867200" y="5800680"/>
                <a:ext cx="152640" cy="139680"/>
              </a:xfrm>
              <a:custGeom>
                <a:avLst/>
                <a:gdLst/>
                <a:ahLst/>
                <a:rect l="l" t="t" r="r" b="b"/>
                <a:pathLst>
                  <a:path w="576" h="531">
                    <a:moveTo>
                      <a:pt x="576" y="531"/>
                    </a:moveTo>
                    <a:lnTo>
                      <a:pt x="545" y="484"/>
                    </a:lnTo>
                    <a:lnTo>
                      <a:pt x="500" y="455"/>
                    </a:lnTo>
                    <a:lnTo>
                      <a:pt x="470" y="424"/>
                    </a:lnTo>
                    <a:lnTo>
                      <a:pt x="439" y="379"/>
                    </a:lnTo>
                    <a:lnTo>
                      <a:pt x="394" y="350"/>
                    </a:lnTo>
                    <a:lnTo>
                      <a:pt x="363" y="319"/>
                    </a:lnTo>
                    <a:lnTo>
                      <a:pt x="333" y="288"/>
                    </a:lnTo>
                    <a:lnTo>
                      <a:pt x="288" y="257"/>
                    </a:lnTo>
                    <a:lnTo>
                      <a:pt x="257" y="228"/>
                    </a:lnTo>
                    <a:lnTo>
                      <a:pt x="212" y="197"/>
                    </a:lnTo>
                    <a:lnTo>
                      <a:pt x="181" y="168"/>
                    </a:lnTo>
                    <a:lnTo>
                      <a:pt x="152" y="137"/>
                    </a:lnTo>
                    <a:lnTo>
                      <a:pt x="107" y="106"/>
                    </a:lnTo>
                    <a:lnTo>
                      <a:pt x="76" y="61"/>
                    </a:lnTo>
                    <a:lnTo>
                      <a:pt x="31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830840" y="5645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7" h="589">
                    <a:moveTo>
                      <a:pt x="137" y="589"/>
                    </a:moveTo>
                    <a:lnTo>
                      <a:pt x="107" y="560"/>
                    </a:lnTo>
                    <a:lnTo>
                      <a:pt x="76" y="530"/>
                    </a:lnTo>
                    <a:lnTo>
                      <a:pt x="62" y="499"/>
                    </a:lnTo>
                    <a:lnTo>
                      <a:pt x="46" y="468"/>
                    </a:lnTo>
                    <a:lnTo>
                      <a:pt x="31" y="438"/>
                    </a:lnTo>
                    <a:lnTo>
                      <a:pt x="17" y="393"/>
                    </a:lnTo>
                    <a:lnTo>
                      <a:pt x="17" y="362"/>
                    </a:lnTo>
                    <a:lnTo>
                      <a:pt x="0" y="317"/>
                    </a:lnTo>
                    <a:lnTo>
                      <a:pt x="0" y="286"/>
                    </a:lnTo>
                    <a:lnTo>
                      <a:pt x="0" y="241"/>
                    </a:lnTo>
                    <a:lnTo>
                      <a:pt x="0" y="196"/>
                    </a:lnTo>
                    <a:lnTo>
                      <a:pt x="17" y="166"/>
                    </a:lnTo>
                    <a:lnTo>
                      <a:pt x="17" y="121"/>
                    </a:lnTo>
                    <a:lnTo>
                      <a:pt x="17" y="90"/>
                    </a:lnTo>
                    <a:lnTo>
                      <a:pt x="31" y="4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38760" y="5396040"/>
                <a:ext cx="31680" cy="249120"/>
              </a:xfrm>
              <a:custGeom>
                <a:avLst/>
                <a:gdLst/>
                <a:ahLst/>
                <a:rect l="l" t="t" r="r" b="b"/>
                <a:pathLst>
                  <a:path w="120" h="938">
                    <a:moveTo>
                      <a:pt x="0" y="938"/>
                    </a:moveTo>
                    <a:lnTo>
                      <a:pt x="15" y="892"/>
                    </a:lnTo>
                    <a:lnTo>
                      <a:pt x="15" y="832"/>
                    </a:lnTo>
                    <a:lnTo>
                      <a:pt x="31" y="771"/>
                    </a:lnTo>
                    <a:lnTo>
                      <a:pt x="45" y="710"/>
                    </a:lnTo>
                    <a:lnTo>
                      <a:pt x="45" y="651"/>
                    </a:lnTo>
                    <a:lnTo>
                      <a:pt x="45" y="589"/>
                    </a:lnTo>
                    <a:lnTo>
                      <a:pt x="60" y="529"/>
                    </a:lnTo>
                    <a:lnTo>
                      <a:pt x="60" y="469"/>
                    </a:lnTo>
                    <a:lnTo>
                      <a:pt x="76" y="407"/>
                    </a:lnTo>
                    <a:lnTo>
                      <a:pt x="76" y="348"/>
                    </a:lnTo>
                    <a:lnTo>
                      <a:pt x="76" y="287"/>
                    </a:lnTo>
                    <a:lnTo>
                      <a:pt x="91" y="225"/>
                    </a:lnTo>
                    <a:lnTo>
                      <a:pt x="91" y="166"/>
                    </a:lnTo>
                    <a:lnTo>
                      <a:pt x="106" y="121"/>
                    </a:lnTo>
                    <a:lnTo>
                      <a:pt x="106" y="6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799160" y="5219640"/>
                <a:ext cx="71280" cy="176400"/>
              </a:xfrm>
              <a:custGeom>
                <a:avLst/>
                <a:gdLst/>
                <a:ahLst/>
                <a:rect l="l" t="t" r="r" b="b"/>
                <a:pathLst>
                  <a:path w="271" h="667">
                    <a:moveTo>
                      <a:pt x="271" y="667"/>
                    </a:moveTo>
                    <a:lnTo>
                      <a:pt x="271" y="621"/>
                    </a:lnTo>
                    <a:lnTo>
                      <a:pt x="257" y="576"/>
                    </a:lnTo>
                    <a:lnTo>
                      <a:pt x="257" y="531"/>
                    </a:lnTo>
                    <a:lnTo>
                      <a:pt x="242" y="485"/>
                    </a:lnTo>
                    <a:lnTo>
                      <a:pt x="227" y="440"/>
                    </a:lnTo>
                    <a:lnTo>
                      <a:pt x="211" y="409"/>
                    </a:lnTo>
                    <a:lnTo>
                      <a:pt x="196" y="364"/>
                    </a:lnTo>
                    <a:lnTo>
                      <a:pt x="166" y="318"/>
                    </a:lnTo>
                    <a:lnTo>
                      <a:pt x="151" y="288"/>
                    </a:lnTo>
                    <a:lnTo>
                      <a:pt x="120" y="242"/>
                    </a:lnTo>
                    <a:lnTo>
                      <a:pt x="106" y="213"/>
                    </a:lnTo>
                    <a:lnTo>
                      <a:pt x="75" y="168"/>
                    </a:lnTo>
                    <a:lnTo>
                      <a:pt x="61" y="122"/>
                    </a:lnTo>
                    <a:lnTo>
                      <a:pt x="30" y="92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711680" y="4890960"/>
                <a:ext cx="87480" cy="328680"/>
              </a:xfrm>
              <a:custGeom>
                <a:avLst/>
                <a:gdLst/>
                <a:ahLst/>
                <a:rect l="l" t="t" r="r" b="b"/>
                <a:pathLst>
                  <a:path w="334" h="1240">
                    <a:moveTo>
                      <a:pt x="334" y="1240"/>
                    </a:moveTo>
                    <a:lnTo>
                      <a:pt x="303" y="1164"/>
                    </a:lnTo>
                    <a:lnTo>
                      <a:pt x="273" y="1089"/>
                    </a:lnTo>
                    <a:lnTo>
                      <a:pt x="258" y="1013"/>
                    </a:lnTo>
                    <a:lnTo>
                      <a:pt x="227" y="937"/>
                    </a:lnTo>
                    <a:lnTo>
                      <a:pt x="197" y="862"/>
                    </a:lnTo>
                    <a:lnTo>
                      <a:pt x="182" y="786"/>
                    </a:lnTo>
                    <a:lnTo>
                      <a:pt x="152" y="711"/>
                    </a:lnTo>
                    <a:lnTo>
                      <a:pt x="137" y="635"/>
                    </a:lnTo>
                    <a:lnTo>
                      <a:pt x="121" y="559"/>
                    </a:lnTo>
                    <a:lnTo>
                      <a:pt x="107" y="469"/>
                    </a:lnTo>
                    <a:lnTo>
                      <a:pt x="76" y="394"/>
                    </a:lnTo>
                    <a:lnTo>
                      <a:pt x="62" y="317"/>
                    </a:lnTo>
                    <a:lnTo>
                      <a:pt x="45" y="241"/>
                    </a:lnTo>
                    <a:lnTo>
                      <a:pt x="31" y="151"/>
                    </a:lnTo>
                    <a:lnTo>
                      <a:pt x="17" y="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691160" y="4251240"/>
                <a:ext cx="39600" cy="639720"/>
              </a:xfrm>
              <a:custGeom>
                <a:avLst/>
                <a:gdLst/>
                <a:ahLst/>
                <a:rect l="l" t="t" r="r" b="b"/>
                <a:pathLst>
                  <a:path w="151" h="2421">
                    <a:moveTo>
                      <a:pt x="75" y="2421"/>
                    </a:moveTo>
                    <a:lnTo>
                      <a:pt x="61" y="2270"/>
                    </a:lnTo>
                    <a:lnTo>
                      <a:pt x="46" y="2119"/>
                    </a:lnTo>
                    <a:lnTo>
                      <a:pt x="30" y="1967"/>
                    </a:lnTo>
                    <a:lnTo>
                      <a:pt x="16" y="1816"/>
                    </a:lnTo>
                    <a:lnTo>
                      <a:pt x="0" y="1665"/>
                    </a:lnTo>
                    <a:lnTo>
                      <a:pt x="0" y="1498"/>
                    </a:lnTo>
                    <a:lnTo>
                      <a:pt x="0" y="1347"/>
                    </a:lnTo>
                    <a:lnTo>
                      <a:pt x="0" y="1195"/>
                    </a:lnTo>
                    <a:lnTo>
                      <a:pt x="0" y="1044"/>
                    </a:lnTo>
                    <a:lnTo>
                      <a:pt x="16" y="876"/>
                    </a:lnTo>
                    <a:lnTo>
                      <a:pt x="30" y="725"/>
                    </a:lnTo>
                    <a:lnTo>
                      <a:pt x="46" y="575"/>
                    </a:lnTo>
                    <a:lnTo>
                      <a:pt x="61" y="424"/>
                    </a:lnTo>
                    <a:lnTo>
                      <a:pt x="92" y="272"/>
                    </a:lnTo>
                    <a:lnTo>
                      <a:pt x="120" y="13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730760" y="4038480"/>
                <a:ext cx="57240" cy="212760"/>
              </a:xfrm>
              <a:custGeom>
                <a:avLst/>
                <a:gdLst/>
                <a:ahLst/>
                <a:rect l="l" t="t" r="r" b="b"/>
                <a:pathLst>
                  <a:path w="213" h="802">
                    <a:moveTo>
                      <a:pt x="0" y="802"/>
                    </a:moveTo>
                    <a:lnTo>
                      <a:pt x="16" y="741"/>
                    </a:lnTo>
                    <a:lnTo>
                      <a:pt x="16" y="696"/>
                    </a:lnTo>
                    <a:lnTo>
                      <a:pt x="31" y="651"/>
                    </a:lnTo>
                    <a:lnTo>
                      <a:pt x="45" y="590"/>
                    </a:lnTo>
                    <a:lnTo>
                      <a:pt x="61" y="545"/>
                    </a:lnTo>
                    <a:lnTo>
                      <a:pt x="76" y="500"/>
                    </a:lnTo>
                    <a:lnTo>
                      <a:pt x="92" y="454"/>
                    </a:lnTo>
                    <a:lnTo>
                      <a:pt x="92" y="394"/>
                    </a:lnTo>
                    <a:lnTo>
                      <a:pt x="106" y="349"/>
                    </a:lnTo>
                    <a:lnTo>
                      <a:pt x="121" y="301"/>
                    </a:lnTo>
                    <a:lnTo>
                      <a:pt x="137" y="258"/>
                    </a:lnTo>
                    <a:lnTo>
                      <a:pt x="151" y="196"/>
                    </a:lnTo>
                    <a:lnTo>
                      <a:pt x="168" y="151"/>
                    </a:lnTo>
                    <a:lnTo>
                      <a:pt x="182" y="105"/>
                    </a:lnTo>
                    <a:lnTo>
                      <a:pt x="197" y="60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788000" y="3730680"/>
                <a:ext cx="39600" cy="307800"/>
              </a:xfrm>
              <a:custGeom>
                <a:avLst/>
                <a:gdLst/>
                <a:ahLst/>
                <a:rect l="l" t="t" r="r" b="b"/>
                <a:pathLst>
                  <a:path w="151" h="1165">
                    <a:moveTo>
                      <a:pt x="0" y="1165"/>
                    </a:moveTo>
                    <a:lnTo>
                      <a:pt x="14" y="1105"/>
                    </a:lnTo>
                    <a:lnTo>
                      <a:pt x="30" y="1028"/>
                    </a:lnTo>
                    <a:lnTo>
                      <a:pt x="60" y="952"/>
                    </a:lnTo>
                    <a:lnTo>
                      <a:pt x="75" y="893"/>
                    </a:lnTo>
                    <a:lnTo>
                      <a:pt x="90" y="817"/>
                    </a:lnTo>
                    <a:lnTo>
                      <a:pt x="106" y="742"/>
                    </a:lnTo>
                    <a:lnTo>
                      <a:pt x="120" y="666"/>
                    </a:lnTo>
                    <a:lnTo>
                      <a:pt x="136" y="591"/>
                    </a:lnTo>
                    <a:lnTo>
                      <a:pt x="151" y="515"/>
                    </a:lnTo>
                    <a:lnTo>
                      <a:pt x="151" y="439"/>
                    </a:lnTo>
                    <a:lnTo>
                      <a:pt x="151" y="364"/>
                    </a:lnTo>
                    <a:lnTo>
                      <a:pt x="151" y="288"/>
                    </a:lnTo>
                    <a:lnTo>
                      <a:pt x="136" y="211"/>
                    </a:lnTo>
                    <a:lnTo>
                      <a:pt x="120" y="151"/>
                    </a:lnTo>
                    <a:lnTo>
                      <a:pt x="106" y="7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775040" y="3622680"/>
                <a:ext cx="32040" cy="108000"/>
              </a:xfrm>
              <a:custGeom>
                <a:avLst/>
                <a:gdLst/>
                <a:ahLst/>
                <a:rect l="l" t="t" r="r" b="b"/>
                <a:pathLst>
                  <a:path w="120" h="408">
                    <a:moveTo>
                      <a:pt x="120" y="408"/>
                    </a:moveTo>
                    <a:lnTo>
                      <a:pt x="105" y="378"/>
                    </a:lnTo>
                    <a:lnTo>
                      <a:pt x="90" y="363"/>
                    </a:lnTo>
                    <a:lnTo>
                      <a:pt x="90" y="332"/>
                    </a:lnTo>
                    <a:lnTo>
                      <a:pt x="75" y="317"/>
                    </a:lnTo>
                    <a:lnTo>
                      <a:pt x="59" y="287"/>
                    </a:lnTo>
                    <a:lnTo>
                      <a:pt x="45" y="272"/>
                    </a:lnTo>
                    <a:lnTo>
                      <a:pt x="29" y="241"/>
                    </a:lnTo>
                    <a:lnTo>
                      <a:pt x="14" y="210"/>
                    </a:lnTo>
                    <a:lnTo>
                      <a:pt x="14" y="196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0" y="59"/>
                    </a:lnTo>
                    <a:lnTo>
                      <a:pt x="0" y="3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80080" y="3514680"/>
                <a:ext cx="102960" cy="108000"/>
              </a:xfrm>
              <a:custGeom>
                <a:avLst/>
                <a:gdLst/>
                <a:ahLst/>
                <a:rect l="l" t="t" r="r" b="b"/>
                <a:pathLst>
                  <a:path w="394" h="409">
                    <a:moveTo>
                      <a:pt x="0" y="409"/>
                    </a:moveTo>
                    <a:lnTo>
                      <a:pt x="15" y="378"/>
                    </a:lnTo>
                    <a:lnTo>
                      <a:pt x="31" y="347"/>
                    </a:lnTo>
                    <a:lnTo>
                      <a:pt x="45" y="317"/>
                    </a:lnTo>
                    <a:lnTo>
                      <a:pt x="61" y="288"/>
                    </a:lnTo>
                    <a:lnTo>
                      <a:pt x="91" y="257"/>
                    </a:lnTo>
                    <a:lnTo>
                      <a:pt x="106" y="227"/>
                    </a:lnTo>
                    <a:lnTo>
                      <a:pt x="137" y="196"/>
                    </a:lnTo>
                    <a:lnTo>
                      <a:pt x="167" y="182"/>
                    </a:lnTo>
                    <a:lnTo>
                      <a:pt x="196" y="151"/>
                    </a:lnTo>
                    <a:lnTo>
                      <a:pt x="227" y="120"/>
                    </a:lnTo>
                    <a:lnTo>
                      <a:pt x="258" y="106"/>
                    </a:lnTo>
                    <a:lnTo>
                      <a:pt x="272" y="75"/>
                    </a:lnTo>
                    <a:lnTo>
                      <a:pt x="303" y="60"/>
                    </a:lnTo>
                    <a:lnTo>
                      <a:pt x="333" y="31"/>
                    </a:lnTo>
                    <a:lnTo>
                      <a:pt x="364" y="14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8000" y="3381480"/>
                <a:ext cx="136440" cy="81000"/>
              </a:xfrm>
              <a:custGeom>
                <a:avLst/>
                <a:gdLst/>
                <a:ahLst/>
                <a:rect l="l" t="t" r="r" b="b"/>
                <a:pathLst>
                  <a:path w="514" h="302">
                    <a:moveTo>
                      <a:pt x="514" y="302"/>
                    </a:moveTo>
                    <a:lnTo>
                      <a:pt x="483" y="302"/>
                    </a:lnTo>
                    <a:lnTo>
                      <a:pt x="438" y="287"/>
                    </a:lnTo>
                    <a:lnTo>
                      <a:pt x="409" y="287"/>
                    </a:lnTo>
                    <a:lnTo>
                      <a:pt x="363" y="273"/>
                    </a:lnTo>
                    <a:lnTo>
                      <a:pt x="333" y="257"/>
                    </a:lnTo>
                    <a:lnTo>
                      <a:pt x="287" y="242"/>
                    </a:lnTo>
                    <a:lnTo>
                      <a:pt x="256" y="227"/>
                    </a:lnTo>
                    <a:lnTo>
                      <a:pt x="227" y="213"/>
                    </a:lnTo>
                    <a:lnTo>
                      <a:pt x="196" y="197"/>
                    </a:lnTo>
                    <a:lnTo>
                      <a:pt x="165" y="167"/>
                    </a:lnTo>
                    <a:lnTo>
                      <a:pt x="136" y="151"/>
                    </a:lnTo>
                    <a:lnTo>
                      <a:pt x="106" y="122"/>
                    </a:lnTo>
                    <a:lnTo>
                      <a:pt x="75" y="91"/>
                    </a:lnTo>
                    <a:lnTo>
                      <a:pt x="45" y="61"/>
                    </a:lnTo>
                    <a:lnTo>
                      <a:pt x="30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7120" y="3254400"/>
                <a:ext cx="20880" cy="127080"/>
              </a:xfrm>
              <a:custGeom>
                <a:avLst/>
                <a:gdLst/>
                <a:ahLst/>
                <a:rect l="l" t="t" r="r" b="b"/>
                <a:pathLst>
                  <a:path w="76" h="485">
                    <a:moveTo>
                      <a:pt x="76" y="485"/>
                    </a:moveTo>
                    <a:lnTo>
                      <a:pt x="60" y="455"/>
                    </a:lnTo>
                    <a:lnTo>
                      <a:pt x="45" y="426"/>
                    </a:lnTo>
                    <a:lnTo>
                      <a:pt x="31" y="409"/>
                    </a:lnTo>
                    <a:lnTo>
                      <a:pt x="14" y="379"/>
                    </a:lnTo>
                    <a:lnTo>
                      <a:pt x="14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0" y="258"/>
                    </a:lnTo>
                    <a:lnTo>
                      <a:pt x="0" y="227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0" y="123"/>
                    </a:lnTo>
                    <a:lnTo>
                      <a:pt x="0" y="92"/>
                    </a:lnTo>
                    <a:lnTo>
                      <a:pt x="14" y="62"/>
                    </a:lnTo>
                    <a:lnTo>
                      <a:pt x="14" y="31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75040" y="31813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301" h="272">
                    <a:moveTo>
                      <a:pt x="0" y="272"/>
                    </a:moveTo>
                    <a:lnTo>
                      <a:pt x="0" y="258"/>
                    </a:lnTo>
                    <a:lnTo>
                      <a:pt x="14" y="227"/>
                    </a:lnTo>
                    <a:lnTo>
                      <a:pt x="29" y="213"/>
                    </a:lnTo>
                    <a:lnTo>
                      <a:pt x="45" y="182"/>
                    </a:lnTo>
                    <a:lnTo>
                      <a:pt x="59" y="167"/>
                    </a:lnTo>
                    <a:lnTo>
                      <a:pt x="75" y="138"/>
                    </a:lnTo>
                    <a:lnTo>
                      <a:pt x="90" y="121"/>
                    </a:lnTo>
                    <a:lnTo>
                      <a:pt x="105" y="91"/>
                    </a:lnTo>
                    <a:lnTo>
                      <a:pt x="135" y="76"/>
                    </a:lnTo>
                    <a:lnTo>
                      <a:pt x="151" y="62"/>
                    </a:lnTo>
                    <a:lnTo>
                      <a:pt x="181" y="45"/>
                    </a:lnTo>
                    <a:lnTo>
                      <a:pt x="196" y="31"/>
                    </a:lnTo>
                    <a:lnTo>
                      <a:pt x="227" y="16"/>
                    </a:lnTo>
                    <a:lnTo>
                      <a:pt x="256" y="16"/>
                    </a:lnTo>
                    <a:lnTo>
                      <a:pt x="272" y="0"/>
                    </a:lnTo>
                    <a:lnTo>
                      <a:pt x="3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80080" y="3193920"/>
                <a:ext cx="203040" cy="247680"/>
              </a:xfrm>
              <a:custGeom>
                <a:avLst/>
                <a:gdLst/>
                <a:ahLst/>
                <a:rect l="l" t="t" r="r" b="b"/>
                <a:pathLst>
                  <a:path w="772" h="939">
                    <a:moveTo>
                      <a:pt x="485" y="46"/>
                    </a:moveTo>
                    <a:lnTo>
                      <a:pt x="529" y="76"/>
                    </a:lnTo>
                    <a:lnTo>
                      <a:pt x="576" y="107"/>
                    </a:lnTo>
                    <a:lnTo>
                      <a:pt x="605" y="137"/>
                    </a:lnTo>
                    <a:lnTo>
                      <a:pt x="636" y="182"/>
                    </a:lnTo>
                    <a:lnTo>
                      <a:pt x="666" y="213"/>
                    </a:lnTo>
                    <a:lnTo>
                      <a:pt x="696" y="258"/>
                    </a:lnTo>
                    <a:lnTo>
                      <a:pt x="710" y="303"/>
                    </a:lnTo>
                    <a:lnTo>
                      <a:pt x="727" y="350"/>
                    </a:lnTo>
                    <a:lnTo>
                      <a:pt x="741" y="395"/>
                    </a:lnTo>
                    <a:lnTo>
                      <a:pt x="756" y="440"/>
                    </a:lnTo>
                    <a:lnTo>
                      <a:pt x="756" y="501"/>
                    </a:lnTo>
                    <a:lnTo>
                      <a:pt x="772" y="546"/>
                    </a:lnTo>
                    <a:lnTo>
                      <a:pt x="772" y="591"/>
                    </a:lnTo>
                    <a:lnTo>
                      <a:pt x="772" y="653"/>
                    </a:lnTo>
                    <a:lnTo>
                      <a:pt x="756" y="698"/>
                    </a:lnTo>
                    <a:lnTo>
                      <a:pt x="756" y="743"/>
                    </a:lnTo>
                    <a:lnTo>
                      <a:pt x="741" y="758"/>
                    </a:lnTo>
                    <a:lnTo>
                      <a:pt x="741" y="788"/>
                    </a:lnTo>
                    <a:lnTo>
                      <a:pt x="727" y="803"/>
                    </a:lnTo>
                    <a:lnTo>
                      <a:pt x="727" y="818"/>
                    </a:lnTo>
                    <a:lnTo>
                      <a:pt x="710" y="834"/>
                    </a:lnTo>
                    <a:lnTo>
                      <a:pt x="696" y="849"/>
                    </a:lnTo>
                    <a:lnTo>
                      <a:pt x="696" y="863"/>
                    </a:lnTo>
                    <a:lnTo>
                      <a:pt x="681" y="879"/>
                    </a:lnTo>
                    <a:lnTo>
                      <a:pt x="666" y="879"/>
                    </a:lnTo>
                    <a:lnTo>
                      <a:pt x="651" y="894"/>
                    </a:lnTo>
                    <a:lnTo>
                      <a:pt x="636" y="909"/>
                    </a:lnTo>
                    <a:lnTo>
                      <a:pt x="621" y="909"/>
                    </a:lnTo>
                    <a:lnTo>
                      <a:pt x="605" y="925"/>
                    </a:lnTo>
                    <a:lnTo>
                      <a:pt x="590" y="925"/>
                    </a:lnTo>
                    <a:lnTo>
                      <a:pt x="576" y="925"/>
                    </a:lnTo>
                    <a:lnTo>
                      <a:pt x="560" y="939"/>
                    </a:lnTo>
                    <a:lnTo>
                      <a:pt x="514" y="925"/>
                    </a:lnTo>
                    <a:lnTo>
                      <a:pt x="469" y="925"/>
                    </a:lnTo>
                    <a:lnTo>
                      <a:pt x="440" y="925"/>
                    </a:lnTo>
                    <a:lnTo>
                      <a:pt x="394" y="909"/>
                    </a:lnTo>
                    <a:lnTo>
                      <a:pt x="364" y="894"/>
                    </a:lnTo>
                    <a:lnTo>
                      <a:pt x="318" y="879"/>
                    </a:lnTo>
                    <a:lnTo>
                      <a:pt x="287" y="849"/>
                    </a:lnTo>
                    <a:lnTo>
                      <a:pt x="258" y="834"/>
                    </a:lnTo>
                    <a:lnTo>
                      <a:pt x="227" y="803"/>
                    </a:lnTo>
                    <a:lnTo>
                      <a:pt x="196" y="773"/>
                    </a:lnTo>
                    <a:lnTo>
                      <a:pt x="167" y="743"/>
                    </a:lnTo>
                    <a:lnTo>
                      <a:pt x="137" y="712"/>
                    </a:lnTo>
                    <a:lnTo>
                      <a:pt x="106" y="682"/>
                    </a:lnTo>
                    <a:lnTo>
                      <a:pt x="91" y="653"/>
                    </a:lnTo>
                    <a:lnTo>
                      <a:pt x="61" y="622"/>
                    </a:lnTo>
                    <a:lnTo>
                      <a:pt x="45" y="591"/>
                    </a:lnTo>
                    <a:lnTo>
                      <a:pt x="31" y="546"/>
                    </a:lnTo>
                    <a:lnTo>
                      <a:pt x="15" y="516"/>
                    </a:lnTo>
                    <a:lnTo>
                      <a:pt x="15" y="485"/>
                    </a:lnTo>
                    <a:lnTo>
                      <a:pt x="0" y="454"/>
                    </a:lnTo>
                    <a:lnTo>
                      <a:pt x="0" y="426"/>
                    </a:lnTo>
                    <a:lnTo>
                      <a:pt x="0" y="379"/>
                    </a:lnTo>
                    <a:lnTo>
                      <a:pt x="0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15" y="244"/>
                    </a:lnTo>
                    <a:lnTo>
                      <a:pt x="31" y="213"/>
                    </a:lnTo>
                    <a:lnTo>
                      <a:pt x="45" y="182"/>
                    </a:lnTo>
                    <a:lnTo>
                      <a:pt x="61" y="152"/>
                    </a:lnTo>
                    <a:lnTo>
                      <a:pt x="76" y="122"/>
                    </a:lnTo>
                    <a:lnTo>
                      <a:pt x="91" y="93"/>
                    </a:lnTo>
                    <a:lnTo>
                      <a:pt x="121" y="76"/>
                    </a:lnTo>
                    <a:lnTo>
                      <a:pt x="137" y="46"/>
                    </a:lnTo>
                    <a:lnTo>
                      <a:pt x="151" y="31"/>
                    </a:lnTo>
                    <a:lnTo>
                      <a:pt x="182" y="31"/>
                    </a:lnTo>
                    <a:lnTo>
                      <a:pt x="196" y="17"/>
                    </a:lnTo>
                    <a:lnTo>
                      <a:pt x="227" y="17"/>
                    </a:lnTo>
                    <a:lnTo>
                      <a:pt x="242" y="0"/>
                    </a:lnTo>
                    <a:lnTo>
                      <a:pt x="272" y="0"/>
                    </a:lnTo>
                    <a:lnTo>
                      <a:pt x="303" y="0"/>
                    </a:lnTo>
                    <a:lnTo>
                      <a:pt x="318" y="17"/>
                    </a:lnTo>
                    <a:lnTo>
                      <a:pt x="347" y="17"/>
                    </a:lnTo>
                    <a:lnTo>
                      <a:pt x="378" y="17"/>
                    </a:lnTo>
                    <a:lnTo>
                      <a:pt x="394" y="17"/>
                    </a:lnTo>
                    <a:lnTo>
                      <a:pt x="424" y="31"/>
                    </a:lnTo>
                    <a:lnTo>
                      <a:pt x="440" y="31"/>
                    </a:lnTo>
                    <a:lnTo>
                      <a:pt x="469" y="46"/>
                    </a:lnTo>
                    <a:lnTo>
                      <a:pt x="485" y="46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906800" y="3205080"/>
                <a:ext cx="76320" cy="185760"/>
              </a:xfrm>
              <a:custGeom>
                <a:avLst/>
                <a:gdLst/>
                <a:ahLst/>
                <a:rect l="l" t="t" r="r" b="b"/>
                <a:pathLst>
                  <a:path w="287" h="697">
                    <a:moveTo>
                      <a:pt x="0" y="0"/>
                    </a:moveTo>
                    <a:lnTo>
                      <a:pt x="44" y="30"/>
                    </a:lnTo>
                    <a:lnTo>
                      <a:pt x="91" y="61"/>
                    </a:lnTo>
                    <a:lnTo>
                      <a:pt x="120" y="91"/>
                    </a:lnTo>
                    <a:lnTo>
                      <a:pt x="151" y="136"/>
                    </a:lnTo>
                    <a:lnTo>
                      <a:pt x="181" y="167"/>
                    </a:lnTo>
                    <a:lnTo>
                      <a:pt x="211" y="212"/>
                    </a:lnTo>
                    <a:lnTo>
                      <a:pt x="225" y="257"/>
                    </a:lnTo>
                    <a:lnTo>
                      <a:pt x="242" y="304"/>
                    </a:lnTo>
                    <a:lnTo>
                      <a:pt x="256" y="349"/>
                    </a:lnTo>
                    <a:lnTo>
                      <a:pt x="271" y="394"/>
                    </a:lnTo>
                    <a:lnTo>
                      <a:pt x="271" y="455"/>
                    </a:lnTo>
                    <a:lnTo>
                      <a:pt x="287" y="500"/>
                    </a:lnTo>
                    <a:lnTo>
                      <a:pt x="287" y="545"/>
                    </a:lnTo>
                    <a:lnTo>
                      <a:pt x="287" y="607"/>
                    </a:lnTo>
                    <a:lnTo>
                      <a:pt x="271" y="652"/>
                    </a:lnTo>
                    <a:lnTo>
                      <a:pt x="271" y="6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927680" y="33908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0"/>
                    </a:moveTo>
                    <a:lnTo>
                      <a:pt x="181" y="15"/>
                    </a:lnTo>
                    <a:lnTo>
                      <a:pt x="181" y="45"/>
                    </a:lnTo>
                    <a:lnTo>
                      <a:pt x="167" y="60"/>
                    </a:lnTo>
                    <a:lnTo>
                      <a:pt x="167" y="75"/>
                    </a:lnTo>
                    <a:lnTo>
                      <a:pt x="150" y="91"/>
                    </a:lnTo>
                    <a:lnTo>
                      <a:pt x="136" y="106"/>
                    </a:lnTo>
                    <a:lnTo>
                      <a:pt x="136" y="120"/>
                    </a:lnTo>
                    <a:lnTo>
                      <a:pt x="121" y="136"/>
                    </a:lnTo>
                    <a:lnTo>
                      <a:pt x="106" y="136"/>
                    </a:lnTo>
                    <a:lnTo>
                      <a:pt x="91" y="151"/>
                    </a:lnTo>
                    <a:lnTo>
                      <a:pt x="76" y="166"/>
                    </a:lnTo>
                    <a:lnTo>
                      <a:pt x="61" y="166"/>
                    </a:lnTo>
                    <a:lnTo>
                      <a:pt x="45" y="182"/>
                    </a:lnTo>
                    <a:lnTo>
                      <a:pt x="30" y="182"/>
                    </a:lnTo>
                    <a:lnTo>
                      <a:pt x="16" y="182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791240" y="334980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515" y="348"/>
                    </a:moveTo>
                    <a:lnTo>
                      <a:pt x="469" y="334"/>
                    </a:lnTo>
                    <a:lnTo>
                      <a:pt x="424" y="334"/>
                    </a:lnTo>
                    <a:lnTo>
                      <a:pt x="395" y="334"/>
                    </a:lnTo>
                    <a:lnTo>
                      <a:pt x="349" y="318"/>
                    </a:lnTo>
                    <a:lnTo>
                      <a:pt x="319" y="303"/>
                    </a:lnTo>
                    <a:lnTo>
                      <a:pt x="273" y="288"/>
                    </a:lnTo>
                    <a:lnTo>
                      <a:pt x="242" y="258"/>
                    </a:lnTo>
                    <a:lnTo>
                      <a:pt x="213" y="243"/>
                    </a:lnTo>
                    <a:lnTo>
                      <a:pt x="182" y="212"/>
                    </a:lnTo>
                    <a:lnTo>
                      <a:pt x="151" y="182"/>
                    </a:lnTo>
                    <a:lnTo>
                      <a:pt x="122" y="152"/>
                    </a:lnTo>
                    <a:lnTo>
                      <a:pt x="92" y="121"/>
                    </a:lnTo>
                    <a:lnTo>
                      <a:pt x="61" y="91"/>
                    </a:lnTo>
                    <a:lnTo>
                      <a:pt x="46" y="62"/>
                    </a:ln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780080" y="3214800"/>
                <a:ext cx="31680" cy="135000"/>
              </a:xfrm>
              <a:custGeom>
                <a:avLst/>
                <a:gdLst/>
                <a:ahLst/>
                <a:rect l="l" t="t" r="r" b="b"/>
                <a:pathLst>
                  <a:path w="121" h="515">
                    <a:moveTo>
                      <a:pt x="45" y="515"/>
                    </a:moveTo>
                    <a:lnTo>
                      <a:pt x="31" y="470"/>
                    </a:lnTo>
                    <a:lnTo>
                      <a:pt x="15" y="440"/>
                    </a:lnTo>
                    <a:lnTo>
                      <a:pt x="15" y="409"/>
                    </a:lnTo>
                    <a:lnTo>
                      <a:pt x="0" y="378"/>
                    </a:lnTo>
                    <a:lnTo>
                      <a:pt x="0" y="350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0" y="243"/>
                    </a:lnTo>
                    <a:lnTo>
                      <a:pt x="0" y="213"/>
                    </a:lnTo>
                    <a:lnTo>
                      <a:pt x="15" y="168"/>
                    </a:lnTo>
                    <a:lnTo>
                      <a:pt x="31" y="137"/>
                    </a:lnTo>
                    <a:lnTo>
                      <a:pt x="45" y="106"/>
                    </a:lnTo>
                    <a:lnTo>
                      <a:pt x="61" y="76"/>
                    </a:lnTo>
                    <a:lnTo>
                      <a:pt x="76" y="46"/>
                    </a:lnTo>
                    <a:lnTo>
                      <a:pt x="91" y="17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703760" y="3522600"/>
                <a:ext cx="515880" cy="2333520"/>
              </a:xfrm>
              <a:custGeom>
                <a:avLst/>
                <a:gdLst/>
                <a:ahLst/>
                <a:rect l="l" t="t" r="r" b="b"/>
                <a:pathLst>
                  <a:path w="1951" h="8820">
                    <a:moveTo>
                      <a:pt x="1316" y="165"/>
                    </a:moveTo>
                    <a:lnTo>
                      <a:pt x="1331" y="196"/>
                    </a:lnTo>
                    <a:lnTo>
                      <a:pt x="1331" y="210"/>
                    </a:lnTo>
                    <a:lnTo>
                      <a:pt x="1331" y="226"/>
                    </a:lnTo>
                    <a:lnTo>
                      <a:pt x="1331" y="257"/>
                    </a:lnTo>
                    <a:lnTo>
                      <a:pt x="1331" y="271"/>
                    </a:lnTo>
                    <a:lnTo>
                      <a:pt x="1331" y="302"/>
                    </a:lnTo>
                    <a:lnTo>
                      <a:pt x="1331" y="316"/>
                    </a:lnTo>
                    <a:lnTo>
                      <a:pt x="1331" y="333"/>
                    </a:lnTo>
                    <a:lnTo>
                      <a:pt x="1316" y="361"/>
                    </a:lnTo>
                    <a:lnTo>
                      <a:pt x="1316" y="378"/>
                    </a:lnTo>
                    <a:lnTo>
                      <a:pt x="1300" y="392"/>
                    </a:lnTo>
                    <a:lnTo>
                      <a:pt x="1300" y="423"/>
                    </a:lnTo>
                    <a:lnTo>
                      <a:pt x="1286" y="437"/>
                    </a:lnTo>
                    <a:lnTo>
                      <a:pt x="1286" y="453"/>
                    </a:lnTo>
                    <a:lnTo>
                      <a:pt x="1272" y="468"/>
                    </a:lnTo>
                    <a:lnTo>
                      <a:pt x="1272" y="498"/>
                    </a:lnTo>
                    <a:lnTo>
                      <a:pt x="1300" y="634"/>
                    </a:lnTo>
                    <a:lnTo>
                      <a:pt x="1347" y="770"/>
                    </a:lnTo>
                    <a:lnTo>
                      <a:pt x="1392" y="906"/>
                    </a:lnTo>
                    <a:lnTo>
                      <a:pt x="1437" y="1028"/>
                    </a:lnTo>
                    <a:lnTo>
                      <a:pt x="1468" y="1164"/>
                    </a:lnTo>
                    <a:lnTo>
                      <a:pt x="1513" y="1301"/>
                    </a:lnTo>
                    <a:lnTo>
                      <a:pt x="1558" y="1436"/>
                    </a:lnTo>
                    <a:lnTo>
                      <a:pt x="1604" y="1573"/>
                    </a:lnTo>
                    <a:lnTo>
                      <a:pt x="1650" y="1710"/>
                    </a:lnTo>
                    <a:lnTo>
                      <a:pt x="1695" y="1845"/>
                    </a:lnTo>
                    <a:lnTo>
                      <a:pt x="1740" y="1966"/>
                    </a:lnTo>
                    <a:lnTo>
                      <a:pt x="1769" y="2102"/>
                    </a:lnTo>
                    <a:lnTo>
                      <a:pt x="1815" y="2238"/>
                    </a:lnTo>
                    <a:lnTo>
                      <a:pt x="1846" y="2390"/>
                    </a:lnTo>
                    <a:lnTo>
                      <a:pt x="1876" y="2527"/>
                    </a:lnTo>
                    <a:lnTo>
                      <a:pt x="1906" y="2661"/>
                    </a:lnTo>
                    <a:lnTo>
                      <a:pt x="1922" y="2753"/>
                    </a:lnTo>
                    <a:lnTo>
                      <a:pt x="1922" y="2843"/>
                    </a:lnTo>
                    <a:lnTo>
                      <a:pt x="1937" y="2934"/>
                    </a:lnTo>
                    <a:lnTo>
                      <a:pt x="1937" y="3025"/>
                    </a:lnTo>
                    <a:lnTo>
                      <a:pt x="1951" y="3116"/>
                    </a:lnTo>
                    <a:lnTo>
                      <a:pt x="1951" y="3222"/>
                    </a:lnTo>
                    <a:lnTo>
                      <a:pt x="1951" y="3313"/>
                    </a:lnTo>
                    <a:lnTo>
                      <a:pt x="1951" y="3404"/>
                    </a:lnTo>
                    <a:lnTo>
                      <a:pt x="1951" y="3495"/>
                    </a:lnTo>
                    <a:lnTo>
                      <a:pt x="1951" y="3584"/>
                    </a:lnTo>
                    <a:lnTo>
                      <a:pt x="1937" y="3677"/>
                    </a:lnTo>
                    <a:lnTo>
                      <a:pt x="1937" y="3766"/>
                    </a:lnTo>
                    <a:lnTo>
                      <a:pt x="1922" y="3856"/>
                    </a:lnTo>
                    <a:lnTo>
                      <a:pt x="1906" y="3948"/>
                    </a:lnTo>
                    <a:lnTo>
                      <a:pt x="1876" y="4024"/>
                    </a:lnTo>
                    <a:lnTo>
                      <a:pt x="1860" y="4114"/>
                    </a:lnTo>
                    <a:lnTo>
                      <a:pt x="1831" y="4220"/>
                    </a:lnTo>
                    <a:lnTo>
                      <a:pt x="1800" y="4311"/>
                    </a:lnTo>
                    <a:lnTo>
                      <a:pt x="1769" y="4418"/>
                    </a:lnTo>
                    <a:lnTo>
                      <a:pt x="1740" y="4508"/>
                    </a:lnTo>
                    <a:lnTo>
                      <a:pt x="1709" y="4614"/>
                    </a:lnTo>
                    <a:lnTo>
                      <a:pt x="1695" y="4705"/>
                    </a:lnTo>
                    <a:lnTo>
                      <a:pt x="1664" y="4796"/>
                    </a:lnTo>
                    <a:lnTo>
                      <a:pt x="1633" y="4902"/>
                    </a:lnTo>
                    <a:lnTo>
                      <a:pt x="1604" y="4992"/>
                    </a:lnTo>
                    <a:lnTo>
                      <a:pt x="1573" y="5099"/>
                    </a:lnTo>
                    <a:lnTo>
                      <a:pt x="1543" y="5188"/>
                    </a:lnTo>
                    <a:lnTo>
                      <a:pt x="1513" y="5295"/>
                    </a:lnTo>
                    <a:lnTo>
                      <a:pt x="1482" y="5386"/>
                    </a:lnTo>
                    <a:lnTo>
                      <a:pt x="1468" y="5491"/>
                    </a:lnTo>
                    <a:lnTo>
                      <a:pt x="1437" y="5582"/>
                    </a:lnTo>
                    <a:lnTo>
                      <a:pt x="1423" y="5688"/>
                    </a:lnTo>
                    <a:lnTo>
                      <a:pt x="1376" y="5809"/>
                    </a:lnTo>
                    <a:lnTo>
                      <a:pt x="1347" y="5931"/>
                    </a:lnTo>
                    <a:lnTo>
                      <a:pt x="1300" y="6067"/>
                    </a:lnTo>
                    <a:lnTo>
                      <a:pt x="1255" y="6187"/>
                    </a:lnTo>
                    <a:lnTo>
                      <a:pt x="1210" y="6308"/>
                    </a:lnTo>
                    <a:lnTo>
                      <a:pt x="1179" y="6429"/>
                    </a:lnTo>
                    <a:lnTo>
                      <a:pt x="1134" y="6551"/>
                    </a:lnTo>
                    <a:lnTo>
                      <a:pt x="1090" y="6672"/>
                    </a:lnTo>
                    <a:lnTo>
                      <a:pt x="1043" y="6808"/>
                    </a:lnTo>
                    <a:lnTo>
                      <a:pt x="997" y="6928"/>
                    </a:lnTo>
                    <a:lnTo>
                      <a:pt x="968" y="7050"/>
                    </a:lnTo>
                    <a:lnTo>
                      <a:pt x="923" y="7172"/>
                    </a:lnTo>
                    <a:lnTo>
                      <a:pt x="877" y="7292"/>
                    </a:lnTo>
                    <a:lnTo>
                      <a:pt x="847" y="7429"/>
                    </a:lnTo>
                    <a:lnTo>
                      <a:pt x="801" y="7550"/>
                    </a:lnTo>
                    <a:lnTo>
                      <a:pt x="772" y="7670"/>
                    </a:lnTo>
                    <a:lnTo>
                      <a:pt x="756" y="7732"/>
                    </a:lnTo>
                    <a:lnTo>
                      <a:pt x="741" y="7777"/>
                    </a:lnTo>
                    <a:lnTo>
                      <a:pt x="727" y="7822"/>
                    </a:lnTo>
                    <a:lnTo>
                      <a:pt x="727" y="7882"/>
                    </a:lnTo>
                    <a:lnTo>
                      <a:pt x="711" y="7928"/>
                    </a:lnTo>
                    <a:lnTo>
                      <a:pt x="696" y="7988"/>
                    </a:lnTo>
                    <a:lnTo>
                      <a:pt x="696" y="8033"/>
                    </a:lnTo>
                    <a:lnTo>
                      <a:pt x="696" y="8095"/>
                    </a:lnTo>
                    <a:lnTo>
                      <a:pt x="696" y="8154"/>
                    </a:lnTo>
                    <a:lnTo>
                      <a:pt x="696" y="8200"/>
                    </a:lnTo>
                    <a:lnTo>
                      <a:pt x="696" y="8260"/>
                    </a:lnTo>
                    <a:lnTo>
                      <a:pt x="711" y="8305"/>
                    </a:lnTo>
                    <a:lnTo>
                      <a:pt x="711" y="8350"/>
                    </a:lnTo>
                    <a:lnTo>
                      <a:pt x="741" y="8412"/>
                    </a:lnTo>
                    <a:lnTo>
                      <a:pt x="756" y="8457"/>
                    </a:lnTo>
                    <a:lnTo>
                      <a:pt x="787" y="8504"/>
                    </a:lnTo>
                    <a:lnTo>
                      <a:pt x="787" y="8518"/>
                    </a:lnTo>
                    <a:lnTo>
                      <a:pt x="801" y="8549"/>
                    </a:lnTo>
                    <a:lnTo>
                      <a:pt x="801" y="8563"/>
                    </a:lnTo>
                    <a:lnTo>
                      <a:pt x="816" y="8579"/>
                    </a:lnTo>
                    <a:lnTo>
                      <a:pt x="832" y="8608"/>
                    </a:lnTo>
                    <a:lnTo>
                      <a:pt x="847" y="8624"/>
                    </a:lnTo>
                    <a:lnTo>
                      <a:pt x="863" y="8639"/>
                    </a:lnTo>
                    <a:lnTo>
                      <a:pt x="863" y="8669"/>
                    </a:lnTo>
                    <a:lnTo>
                      <a:pt x="877" y="8683"/>
                    </a:lnTo>
                    <a:lnTo>
                      <a:pt x="892" y="8700"/>
                    </a:lnTo>
                    <a:lnTo>
                      <a:pt x="908" y="8714"/>
                    </a:lnTo>
                    <a:lnTo>
                      <a:pt x="923" y="8745"/>
                    </a:lnTo>
                    <a:lnTo>
                      <a:pt x="938" y="8759"/>
                    </a:lnTo>
                    <a:lnTo>
                      <a:pt x="938" y="8776"/>
                    </a:lnTo>
                    <a:lnTo>
                      <a:pt x="953" y="8805"/>
                    </a:lnTo>
                    <a:lnTo>
                      <a:pt x="968" y="8820"/>
                    </a:lnTo>
                    <a:lnTo>
                      <a:pt x="938" y="8790"/>
                    </a:lnTo>
                    <a:lnTo>
                      <a:pt x="908" y="8759"/>
                    </a:lnTo>
                    <a:lnTo>
                      <a:pt x="877" y="8745"/>
                    </a:lnTo>
                    <a:lnTo>
                      <a:pt x="847" y="8714"/>
                    </a:lnTo>
                    <a:lnTo>
                      <a:pt x="816" y="8683"/>
                    </a:lnTo>
                    <a:lnTo>
                      <a:pt x="787" y="8669"/>
                    </a:lnTo>
                    <a:lnTo>
                      <a:pt x="741" y="8639"/>
                    </a:lnTo>
                    <a:lnTo>
                      <a:pt x="711" y="8608"/>
                    </a:lnTo>
                    <a:lnTo>
                      <a:pt x="681" y="8579"/>
                    </a:lnTo>
                    <a:lnTo>
                      <a:pt x="665" y="8563"/>
                    </a:lnTo>
                    <a:lnTo>
                      <a:pt x="634" y="8532"/>
                    </a:lnTo>
                    <a:lnTo>
                      <a:pt x="605" y="8504"/>
                    </a:lnTo>
                    <a:lnTo>
                      <a:pt x="590" y="8473"/>
                    </a:lnTo>
                    <a:lnTo>
                      <a:pt x="574" y="8428"/>
                    </a:lnTo>
                    <a:lnTo>
                      <a:pt x="559" y="8397"/>
                    </a:lnTo>
                    <a:lnTo>
                      <a:pt x="545" y="8350"/>
                    </a:lnTo>
                    <a:lnTo>
                      <a:pt x="545" y="8305"/>
                    </a:lnTo>
                    <a:lnTo>
                      <a:pt x="545" y="8260"/>
                    </a:lnTo>
                    <a:lnTo>
                      <a:pt x="545" y="8215"/>
                    </a:lnTo>
                    <a:lnTo>
                      <a:pt x="545" y="8170"/>
                    </a:lnTo>
                    <a:lnTo>
                      <a:pt x="559" y="8124"/>
                    </a:lnTo>
                    <a:lnTo>
                      <a:pt x="559" y="8078"/>
                    </a:lnTo>
                    <a:lnTo>
                      <a:pt x="574" y="8033"/>
                    </a:lnTo>
                    <a:lnTo>
                      <a:pt x="574" y="7988"/>
                    </a:lnTo>
                    <a:lnTo>
                      <a:pt x="590" y="7942"/>
                    </a:lnTo>
                    <a:lnTo>
                      <a:pt x="590" y="7897"/>
                    </a:lnTo>
                    <a:lnTo>
                      <a:pt x="605" y="7852"/>
                    </a:lnTo>
                    <a:lnTo>
                      <a:pt x="605" y="7806"/>
                    </a:lnTo>
                    <a:lnTo>
                      <a:pt x="620" y="7762"/>
                    </a:lnTo>
                    <a:lnTo>
                      <a:pt x="620" y="7715"/>
                    </a:lnTo>
                    <a:lnTo>
                      <a:pt x="620" y="7670"/>
                    </a:lnTo>
                    <a:lnTo>
                      <a:pt x="620" y="7625"/>
                    </a:lnTo>
                    <a:lnTo>
                      <a:pt x="634" y="7610"/>
                    </a:lnTo>
                    <a:lnTo>
                      <a:pt x="634" y="7595"/>
                    </a:lnTo>
                    <a:lnTo>
                      <a:pt x="634" y="7581"/>
                    </a:lnTo>
                    <a:lnTo>
                      <a:pt x="634" y="7564"/>
                    </a:lnTo>
                    <a:lnTo>
                      <a:pt x="634" y="7550"/>
                    </a:lnTo>
                    <a:lnTo>
                      <a:pt x="651" y="7550"/>
                    </a:lnTo>
                    <a:lnTo>
                      <a:pt x="651" y="7533"/>
                    </a:lnTo>
                    <a:lnTo>
                      <a:pt x="651" y="7519"/>
                    </a:lnTo>
                    <a:lnTo>
                      <a:pt x="651" y="7505"/>
                    </a:lnTo>
                    <a:lnTo>
                      <a:pt x="651" y="7488"/>
                    </a:lnTo>
                    <a:lnTo>
                      <a:pt x="651" y="7474"/>
                    </a:lnTo>
                    <a:lnTo>
                      <a:pt x="651" y="7458"/>
                    </a:lnTo>
                    <a:lnTo>
                      <a:pt x="651" y="7444"/>
                    </a:lnTo>
                    <a:lnTo>
                      <a:pt x="651" y="7429"/>
                    </a:lnTo>
                    <a:lnTo>
                      <a:pt x="665" y="7413"/>
                    </a:lnTo>
                    <a:lnTo>
                      <a:pt x="665" y="7368"/>
                    </a:lnTo>
                    <a:lnTo>
                      <a:pt x="665" y="7323"/>
                    </a:lnTo>
                    <a:lnTo>
                      <a:pt x="665" y="7278"/>
                    </a:lnTo>
                    <a:lnTo>
                      <a:pt x="681" y="7247"/>
                    </a:lnTo>
                    <a:lnTo>
                      <a:pt x="681" y="7202"/>
                    </a:lnTo>
                    <a:lnTo>
                      <a:pt x="696" y="7155"/>
                    </a:lnTo>
                    <a:lnTo>
                      <a:pt x="696" y="7110"/>
                    </a:lnTo>
                    <a:lnTo>
                      <a:pt x="696" y="7065"/>
                    </a:lnTo>
                    <a:lnTo>
                      <a:pt x="711" y="7020"/>
                    </a:lnTo>
                    <a:lnTo>
                      <a:pt x="711" y="6974"/>
                    </a:lnTo>
                    <a:lnTo>
                      <a:pt x="727" y="6928"/>
                    </a:lnTo>
                    <a:lnTo>
                      <a:pt x="727" y="6883"/>
                    </a:lnTo>
                    <a:lnTo>
                      <a:pt x="741" y="6838"/>
                    </a:lnTo>
                    <a:lnTo>
                      <a:pt x="741" y="6793"/>
                    </a:lnTo>
                    <a:lnTo>
                      <a:pt x="741" y="6747"/>
                    </a:lnTo>
                    <a:lnTo>
                      <a:pt x="756" y="6702"/>
                    </a:lnTo>
                    <a:lnTo>
                      <a:pt x="756" y="6672"/>
                    </a:lnTo>
                    <a:lnTo>
                      <a:pt x="741" y="6641"/>
                    </a:lnTo>
                    <a:lnTo>
                      <a:pt x="741" y="6596"/>
                    </a:lnTo>
                    <a:lnTo>
                      <a:pt x="741" y="6565"/>
                    </a:lnTo>
                    <a:lnTo>
                      <a:pt x="741" y="6536"/>
                    </a:lnTo>
                    <a:lnTo>
                      <a:pt x="741" y="6490"/>
                    </a:lnTo>
                    <a:lnTo>
                      <a:pt x="741" y="6460"/>
                    </a:lnTo>
                    <a:lnTo>
                      <a:pt x="741" y="6429"/>
                    </a:lnTo>
                    <a:lnTo>
                      <a:pt x="727" y="6400"/>
                    </a:lnTo>
                    <a:lnTo>
                      <a:pt x="727" y="6355"/>
                    </a:lnTo>
                    <a:lnTo>
                      <a:pt x="711" y="6324"/>
                    </a:lnTo>
                    <a:lnTo>
                      <a:pt x="711" y="6293"/>
                    </a:lnTo>
                    <a:lnTo>
                      <a:pt x="696" y="6263"/>
                    </a:lnTo>
                    <a:lnTo>
                      <a:pt x="681" y="6232"/>
                    </a:lnTo>
                    <a:lnTo>
                      <a:pt x="665" y="6204"/>
                    </a:lnTo>
                    <a:lnTo>
                      <a:pt x="651" y="6173"/>
                    </a:lnTo>
                    <a:lnTo>
                      <a:pt x="634" y="6173"/>
                    </a:lnTo>
                    <a:lnTo>
                      <a:pt x="634" y="6187"/>
                    </a:lnTo>
                    <a:lnTo>
                      <a:pt x="620" y="6187"/>
                    </a:lnTo>
                    <a:lnTo>
                      <a:pt x="634" y="6232"/>
                    </a:lnTo>
                    <a:lnTo>
                      <a:pt x="634" y="6279"/>
                    </a:lnTo>
                    <a:lnTo>
                      <a:pt x="651" y="6308"/>
                    </a:lnTo>
                    <a:lnTo>
                      <a:pt x="651" y="6355"/>
                    </a:lnTo>
                    <a:lnTo>
                      <a:pt x="651" y="6400"/>
                    </a:lnTo>
                    <a:lnTo>
                      <a:pt x="651" y="6445"/>
                    </a:lnTo>
                    <a:lnTo>
                      <a:pt x="651" y="6475"/>
                    </a:lnTo>
                    <a:lnTo>
                      <a:pt x="665" y="6520"/>
                    </a:lnTo>
                    <a:lnTo>
                      <a:pt x="665" y="6565"/>
                    </a:lnTo>
                    <a:lnTo>
                      <a:pt x="665" y="6611"/>
                    </a:lnTo>
                    <a:lnTo>
                      <a:pt x="665" y="6641"/>
                    </a:lnTo>
                    <a:lnTo>
                      <a:pt x="651" y="6687"/>
                    </a:lnTo>
                    <a:lnTo>
                      <a:pt x="651" y="6732"/>
                    </a:lnTo>
                    <a:lnTo>
                      <a:pt x="651" y="6778"/>
                    </a:lnTo>
                    <a:lnTo>
                      <a:pt x="651" y="6823"/>
                    </a:lnTo>
                    <a:lnTo>
                      <a:pt x="651" y="6854"/>
                    </a:lnTo>
                    <a:lnTo>
                      <a:pt x="620" y="6808"/>
                    </a:lnTo>
                    <a:lnTo>
                      <a:pt x="590" y="6747"/>
                    </a:lnTo>
                    <a:lnTo>
                      <a:pt x="574" y="6687"/>
                    </a:lnTo>
                    <a:lnTo>
                      <a:pt x="545" y="6627"/>
                    </a:lnTo>
                    <a:lnTo>
                      <a:pt x="514" y="6582"/>
                    </a:lnTo>
                    <a:lnTo>
                      <a:pt x="483" y="6520"/>
                    </a:lnTo>
                    <a:lnTo>
                      <a:pt x="454" y="6460"/>
                    </a:lnTo>
                    <a:lnTo>
                      <a:pt x="424" y="6400"/>
                    </a:lnTo>
                    <a:lnTo>
                      <a:pt x="408" y="6355"/>
                    </a:lnTo>
                    <a:lnTo>
                      <a:pt x="378" y="6293"/>
                    </a:lnTo>
                    <a:lnTo>
                      <a:pt x="348" y="6232"/>
                    </a:lnTo>
                    <a:lnTo>
                      <a:pt x="332" y="6173"/>
                    </a:lnTo>
                    <a:lnTo>
                      <a:pt x="318" y="6111"/>
                    </a:lnTo>
                    <a:lnTo>
                      <a:pt x="287" y="6052"/>
                    </a:lnTo>
                    <a:lnTo>
                      <a:pt x="273" y="5991"/>
                    </a:lnTo>
                    <a:lnTo>
                      <a:pt x="256" y="5931"/>
                    </a:lnTo>
                    <a:lnTo>
                      <a:pt x="242" y="5840"/>
                    </a:lnTo>
                    <a:lnTo>
                      <a:pt x="211" y="5733"/>
                    </a:lnTo>
                    <a:lnTo>
                      <a:pt x="197" y="5643"/>
                    </a:lnTo>
                    <a:lnTo>
                      <a:pt x="166" y="5552"/>
                    </a:lnTo>
                    <a:lnTo>
                      <a:pt x="150" y="5461"/>
                    </a:lnTo>
                    <a:lnTo>
                      <a:pt x="121" y="5370"/>
                    </a:lnTo>
                    <a:lnTo>
                      <a:pt x="105" y="5264"/>
                    </a:lnTo>
                    <a:lnTo>
                      <a:pt x="91" y="5174"/>
                    </a:lnTo>
                    <a:lnTo>
                      <a:pt x="74" y="5082"/>
                    </a:lnTo>
                    <a:lnTo>
                      <a:pt x="60" y="4978"/>
                    </a:lnTo>
                    <a:lnTo>
                      <a:pt x="46" y="4886"/>
                    </a:lnTo>
                    <a:lnTo>
                      <a:pt x="29" y="4796"/>
                    </a:lnTo>
                    <a:lnTo>
                      <a:pt x="29" y="4690"/>
                    </a:lnTo>
                    <a:lnTo>
                      <a:pt x="15" y="4599"/>
                    </a:lnTo>
                    <a:lnTo>
                      <a:pt x="15" y="4493"/>
                    </a:lnTo>
                    <a:lnTo>
                      <a:pt x="15" y="4387"/>
                    </a:lnTo>
                    <a:lnTo>
                      <a:pt x="0" y="4084"/>
                    </a:lnTo>
                    <a:lnTo>
                      <a:pt x="15" y="3766"/>
                    </a:lnTo>
                    <a:lnTo>
                      <a:pt x="29" y="3464"/>
                    </a:lnTo>
                    <a:lnTo>
                      <a:pt x="74" y="3161"/>
                    </a:lnTo>
                    <a:lnTo>
                      <a:pt x="150" y="2874"/>
                    </a:lnTo>
                    <a:lnTo>
                      <a:pt x="181" y="2768"/>
                    </a:lnTo>
                    <a:lnTo>
                      <a:pt x="181" y="2737"/>
                    </a:lnTo>
                    <a:lnTo>
                      <a:pt x="181" y="2709"/>
                    </a:lnTo>
                    <a:lnTo>
                      <a:pt x="197" y="2692"/>
                    </a:lnTo>
                    <a:lnTo>
                      <a:pt x="197" y="2661"/>
                    </a:lnTo>
                    <a:lnTo>
                      <a:pt x="197" y="2631"/>
                    </a:lnTo>
                    <a:lnTo>
                      <a:pt x="226" y="2527"/>
                    </a:lnTo>
                    <a:lnTo>
                      <a:pt x="242" y="2434"/>
                    </a:lnTo>
                    <a:lnTo>
                      <a:pt x="273" y="2345"/>
                    </a:lnTo>
                    <a:lnTo>
                      <a:pt x="302" y="2252"/>
                    </a:lnTo>
                    <a:lnTo>
                      <a:pt x="332" y="2163"/>
                    </a:lnTo>
                    <a:lnTo>
                      <a:pt x="348" y="2132"/>
                    </a:lnTo>
                    <a:lnTo>
                      <a:pt x="363" y="2056"/>
                    </a:lnTo>
                    <a:lnTo>
                      <a:pt x="378" y="1982"/>
                    </a:lnTo>
                    <a:lnTo>
                      <a:pt x="393" y="1920"/>
                    </a:lnTo>
                    <a:lnTo>
                      <a:pt x="408" y="1845"/>
                    </a:lnTo>
                    <a:lnTo>
                      <a:pt x="424" y="1769"/>
                    </a:lnTo>
                    <a:lnTo>
                      <a:pt x="438" y="1738"/>
                    </a:lnTo>
                    <a:lnTo>
                      <a:pt x="454" y="1693"/>
                    </a:lnTo>
                    <a:lnTo>
                      <a:pt x="469" y="1634"/>
                    </a:lnTo>
                    <a:lnTo>
                      <a:pt x="483" y="1573"/>
                    </a:lnTo>
                    <a:lnTo>
                      <a:pt x="500" y="1528"/>
                    </a:lnTo>
                    <a:lnTo>
                      <a:pt x="500" y="1466"/>
                    </a:lnTo>
                    <a:lnTo>
                      <a:pt x="500" y="1452"/>
                    </a:lnTo>
                    <a:lnTo>
                      <a:pt x="529" y="1270"/>
                    </a:lnTo>
                    <a:lnTo>
                      <a:pt x="529" y="1088"/>
                    </a:lnTo>
                    <a:lnTo>
                      <a:pt x="500" y="906"/>
                    </a:lnTo>
                    <a:lnTo>
                      <a:pt x="438" y="741"/>
                    </a:lnTo>
                    <a:lnTo>
                      <a:pt x="363" y="574"/>
                    </a:lnTo>
                    <a:lnTo>
                      <a:pt x="332" y="529"/>
                    </a:lnTo>
                    <a:lnTo>
                      <a:pt x="318" y="437"/>
                    </a:lnTo>
                    <a:lnTo>
                      <a:pt x="332" y="361"/>
                    </a:lnTo>
                    <a:lnTo>
                      <a:pt x="378" y="286"/>
                    </a:lnTo>
                    <a:lnTo>
                      <a:pt x="424" y="210"/>
                    </a:lnTo>
                    <a:lnTo>
                      <a:pt x="483" y="151"/>
                    </a:lnTo>
                    <a:lnTo>
                      <a:pt x="514" y="134"/>
                    </a:lnTo>
                    <a:lnTo>
                      <a:pt x="574" y="75"/>
                    </a:lnTo>
                    <a:lnTo>
                      <a:pt x="634" y="44"/>
                    </a:lnTo>
                    <a:lnTo>
                      <a:pt x="711" y="14"/>
                    </a:lnTo>
                    <a:lnTo>
                      <a:pt x="787" y="0"/>
                    </a:lnTo>
                    <a:lnTo>
                      <a:pt x="863" y="0"/>
                    </a:lnTo>
                    <a:lnTo>
                      <a:pt x="892" y="0"/>
                    </a:lnTo>
                    <a:lnTo>
                      <a:pt x="968" y="14"/>
                    </a:lnTo>
                    <a:lnTo>
                      <a:pt x="1059" y="29"/>
                    </a:lnTo>
                    <a:lnTo>
                      <a:pt x="1149" y="59"/>
                    </a:lnTo>
                    <a:lnTo>
                      <a:pt x="1224" y="89"/>
                    </a:lnTo>
                    <a:lnTo>
                      <a:pt x="1300" y="151"/>
                    </a:lnTo>
                    <a:lnTo>
                      <a:pt x="1316" y="165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5040360" y="35672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59" h="333">
                    <a:moveTo>
                      <a:pt x="44" y="0"/>
                    </a:moveTo>
                    <a:lnTo>
                      <a:pt x="59" y="31"/>
                    </a:lnTo>
                    <a:lnTo>
                      <a:pt x="59" y="45"/>
                    </a:lnTo>
                    <a:lnTo>
                      <a:pt x="59" y="61"/>
                    </a:lnTo>
                    <a:lnTo>
                      <a:pt x="59" y="92"/>
                    </a:lnTo>
                    <a:lnTo>
                      <a:pt x="59" y="106"/>
                    </a:lnTo>
                    <a:lnTo>
                      <a:pt x="59" y="137"/>
                    </a:lnTo>
                    <a:lnTo>
                      <a:pt x="59" y="151"/>
                    </a:lnTo>
                    <a:lnTo>
                      <a:pt x="59" y="168"/>
                    </a:lnTo>
                    <a:lnTo>
                      <a:pt x="44" y="196"/>
                    </a:lnTo>
                    <a:lnTo>
                      <a:pt x="44" y="213"/>
                    </a:lnTo>
                    <a:lnTo>
                      <a:pt x="28" y="227"/>
                    </a:lnTo>
                    <a:lnTo>
                      <a:pt x="28" y="258"/>
                    </a:lnTo>
                    <a:lnTo>
                      <a:pt x="14" y="272"/>
                    </a:lnTo>
                    <a:lnTo>
                      <a:pt x="14" y="288"/>
                    </a:lnTo>
                    <a:lnTo>
                      <a:pt x="0" y="303"/>
                    </a:lnTo>
                    <a:lnTo>
                      <a:pt x="0" y="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5040360" y="365436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634" h="2163">
                    <a:moveTo>
                      <a:pt x="0" y="0"/>
                    </a:moveTo>
                    <a:lnTo>
                      <a:pt x="28" y="136"/>
                    </a:lnTo>
                    <a:lnTo>
                      <a:pt x="75" y="272"/>
                    </a:lnTo>
                    <a:lnTo>
                      <a:pt x="120" y="408"/>
                    </a:lnTo>
                    <a:lnTo>
                      <a:pt x="165" y="530"/>
                    </a:lnTo>
                    <a:lnTo>
                      <a:pt x="196" y="666"/>
                    </a:lnTo>
                    <a:lnTo>
                      <a:pt x="241" y="803"/>
                    </a:lnTo>
                    <a:lnTo>
                      <a:pt x="286" y="938"/>
                    </a:lnTo>
                    <a:lnTo>
                      <a:pt x="332" y="1075"/>
                    </a:lnTo>
                    <a:lnTo>
                      <a:pt x="378" y="1212"/>
                    </a:lnTo>
                    <a:lnTo>
                      <a:pt x="423" y="1347"/>
                    </a:lnTo>
                    <a:lnTo>
                      <a:pt x="468" y="1468"/>
                    </a:lnTo>
                    <a:lnTo>
                      <a:pt x="497" y="1604"/>
                    </a:lnTo>
                    <a:lnTo>
                      <a:pt x="543" y="1740"/>
                    </a:lnTo>
                    <a:lnTo>
                      <a:pt x="574" y="1892"/>
                    </a:lnTo>
                    <a:lnTo>
                      <a:pt x="604" y="2029"/>
                    </a:lnTo>
                    <a:lnTo>
                      <a:pt x="634" y="21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195880" y="4227480"/>
                <a:ext cx="23760" cy="384120"/>
              </a:xfrm>
              <a:custGeom>
                <a:avLst/>
                <a:gdLst/>
                <a:ahLst/>
                <a:rect l="l" t="t" r="r" b="b"/>
                <a:pathLst>
                  <a:path w="91" h="1453">
                    <a:moveTo>
                      <a:pt x="46" y="0"/>
                    </a:moveTo>
                    <a:lnTo>
                      <a:pt x="62" y="92"/>
                    </a:lnTo>
                    <a:lnTo>
                      <a:pt x="62" y="182"/>
                    </a:lnTo>
                    <a:lnTo>
                      <a:pt x="77" y="273"/>
                    </a:lnTo>
                    <a:lnTo>
                      <a:pt x="77" y="364"/>
                    </a:lnTo>
                    <a:lnTo>
                      <a:pt x="91" y="455"/>
                    </a:lnTo>
                    <a:lnTo>
                      <a:pt x="91" y="561"/>
                    </a:lnTo>
                    <a:lnTo>
                      <a:pt x="91" y="652"/>
                    </a:lnTo>
                    <a:lnTo>
                      <a:pt x="91" y="743"/>
                    </a:lnTo>
                    <a:lnTo>
                      <a:pt x="91" y="834"/>
                    </a:lnTo>
                    <a:lnTo>
                      <a:pt x="91" y="923"/>
                    </a:lnTo>
                    <a:lnTo>
                      <a:pt x="77" y="1016"/>
                    </a:lnTo>
                    <a:lnTo>
                      <a:pt x="77" y="1105"/>
                    </a:lnTo>
                    <a:lnTo>
                      <a:pt x="62" y="1195"/>
                    </a:lnTo>
                    <a:lnTo>
                      <a:pt x="46" y="1287"/>
                    </a:lnTo>
                    <a:lnTo>
                      <a:pt x="16" y="1363"/>
                    </a:lnTo>
                    <a:lnTo>
                      <a:pt x="0" y="14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079960" y="4611600"/>
                <a:ext cx="115920" cy="416160"/>
              </a:xfrm>
              <a:custGeom>
                <a:avLst/>
                <a:gdLst/>
                <a:ahLst/>
                <a:rect l="l" t="t" r="r" b="b"/>
                <a:pathLst>
                  <a:path w="437" h="1574">
                    <a:moveTo>
                      <a:pt x="437" y="0"/>
                    </a:moveTo>
                    <a:lnTo>
                      <a:pt x="408" y="106"/>
                    </a:lnTo>
                    <a:lnTo>
                      <a:pt x="377" y="197"/>
                    </a:lnTo>
                    <a:lnTo>
                      <a:pt x="346" y="304"/>
                    </a:lnTo>
                    <a:lnTo>
                      <a:pt x="317" y="394"/>
                    </a:lnTo>
                    <a:lnTo>
                      <a:pt x="286" y="500"/>
                    </a:lnTo>
                    <a:lnTo>
                      <a:pt x="272" y="591"/>
                    </a:lnTo>
                    <a:lnTo>
                      <a:pt x="241" y="682"/>
                    </a:lnTo>
                    <a:lnTo>
                      <a:pt x="210" y="788"/>
                    </a:lnTo>
                    <a:lnTo>
                      <a:pt x="181" y="878"/>
                    </a:lnTo>
                    <a:lnTo>
                      <a:pt x="150" y="985"/>
                    </a:lnTo>
                    <a:lnTo>
                      <a:pt x="120" y="1074"/>
                    </a:lnTo>
                    <a:lnTo>
                      <a:pt x="90" y="1181"/>
                    </a:lnTo>
                    <a:lnTo>
                      <a:pt x="59" y="1272"/>
                    </a:lnTo>
                    <a:lnTo>
                      <a:pt x="45" y="1377"/>
                    </a:lnTo>
                    <a:lnTo>
                      <a:pt x="14" y="1468"/>
                    </a:lnTo>
                    <a:lnTo>
                      <a:pt x="0" y="1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906800" y="5027760"/>
                <a:ext cx="173160" cy="523800"/>
              </a:xfrm>
              <a:custGeom>
                <a:avLst/>
                <a:gdLst/>
                <a:ahLst/>
                <a:rect l="l" t="t" r="r" b="b"/>
                <a:pathLst>
                  <a:path w="651" h="1982">
                    <a:moveTo>
                      <a:pt x="651" y="0"/>
                    </a:moveTo>
                    <a:lnTo>
                      <a:pt x="604" y="121"/>
                    </a:lnTo>
                    <a:lnTo>
                      <a:pt x="575" y="243"/>
                    </a:lnTo>
                    <a:lnTo>
                      <a:pt x="528" y="379"/>
                    </a:lnTo>
                    <a:lnTo>
                      <a:pt x="483" y="499"/>
                    </a:lnTo>
                    <a:lnTo>
                      <a:pt x="438" y="620"/>
                    </a:lnTo>
                    <a:lnTo>
                      <a:pt x="407" y="741"/>
                    </a:lnTo>
                    <a:lnTo>
                      <a:pt x="362" y="863"/>
                    </a:lnTo>
                    <a:lnTo>
                      <a:pt x="318" y="984"/>
                    </a:lnTo>
                    <a:lnTo>
                      <a:pt x="271" y="1120"/>
                    </a:lnTo>
                    <a:lnTo>
                      <a:pt x="225" y="1240"/>
                    </a:lnTo>
                    <a:lnTo>
                      <a:pt x="196" y="1362"/>
                    </a:lnTo>
                    <a:lnTo>
                      <a:pt x="151" y="1484"/>
                    </a:lnTo>
                    <a:lnTo>
                      <a:pt x="105" y="1604"/>
                    </a:lnTo>
                    <a:lnTo>
                      <a:pt x="75" y="1741"/>
                    </a:lnTo>
                    <a:lnTo>
                      <a:pt x="29" y="1862"/>
                    </a:lnTo>
                    <a:lnTo>
                      <a:pt x="0" y="19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888080" y="5551560"/>
                <a:ext cx="23760" cy="220680"/>
              </a:xfrm>
              <a:custGeom>
                <a:avLst/>
                <a:gdLst/>
                <a:ahLst/>
                <a:rect l="l" t="t" r="r" b="b"/>
                <a:pathLst>
                  <a:path w="91" h="834">
                    <a:moveTo>
                      <a:pt x="76" y="0"/>
                    </a:moveTo>
                    <a:lnTo>
                      <a:pt x="60" y="62"/>
                    </a:lnTo>
                    <a:lnTo>
                      <a:pt x="45" y="107"/>
                    </a:lnTo>
                    <a:lnTo>
                      <a:pt x="31" y="152"/>
                    </a:lnTo>
                    <a:lnTo>
                      <a:pt x="31" y="212"/>
                    </a:lnTo>
                    <a:lnTo>
                      <a:pt x="15" y="258"/>
                    </a:lnTo>
                    <a:lnTo>
                      <a:pt x="0" y="318"/>
                    </a:lnTo>
                    <a:lnTo>
                      <a:pt x="0" y="363"/>
                    </a:lnTo>
                    <a:lnTo>
                      <a:pt x="0" y="425"/>
                    </a:lnTo>
                    <a:lnTo>
                      <a:pt x="0" y="484"/>
                    </a:lnTo>
                    <a:lnTo>
                      <a:pt x="0" y="530"/>
                    </a:lnTo>
                    <a:lnTo>
                      <a:pt x="0" y="590"/>
                    </a:lnTo>
                    <a:lnTo>
                      <a:pt x="15" y="635"/>
                    </a:lnTo>
                    <a:lnTo>
                      <a:pt x="15" y="680"/>
                    </a:lnTo>
                    <a:lnTo>
                      <a:pt x="45" y="742"/>
                    </a:lnTo>
                    <a:lnTo>
                      <a:pt x="60" y="787"/>
                    </a:lnTo>
                    <a:lnTo>
                      <a:pt x="91" y="8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911840" y="577224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181" h="316">
                    <a:moveTo>
                      <a:pt x="0" y="0"/>
                    </a:moveTo>
                    <a:lnTo>
                      <a:pt x="0" y="14"/>
                    </a:lnTo>
                    <a:lnTo>
                      <a:pt x="14" y="45"/>
                    </a:lnTo>
                    <a:lnTo>
                      <a:pt x="14" y="59"/>
                    </a:lnTo>
                    <a:lnTo>
                      <a:pt x="29" y="75"/>
                    </a:lnTo>
                    <a:lnTo>
                      <a:pt x="45" y="104"/>
                    </a:lnTo>
                    <a:lnTo>
                      <a:pt x="60" y="120"/>
                    </a:lnTo>
                    <a:lnTo>
                      <a:pt x="76" y="135"/>
                    </a:lnTo>
                    <a:lnTo>
                      <a:pt x="76" y="165"/>
                    </a:lnTo>
                    <a:lnTo>
                      <a:pt x="90" y="179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6" y="241"/>
                    </a:lnTo>
                    <a:lnTo>
                      <a:pt x="151" y="255"/>
                    </a:lnTo>
                    <a:lnTo>
                      <a:pt x="151" y="272"/>
                    </a:lnTo>
                    <a:lnTo>
                      <a:pt x="166" y="301"/>
                    </a:lnTo>
                    <a:lnTo>
                      <a:pt x="181" y="31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848120" y="5732640"/>
                <a:ext cx="111240" cy="123480"/>
              </a:xfrm>
              <a:custGeom>
                <a:avLst/>
                <a:gdLst/>
                <a:ahLst/>
                <a:rect l="l" t="t" r="r" b="b"/>
                <a:pathLst>
                  <a:path w="423" h="470">
                    <a:moveTo>
                      <a:pt x="423" y="470"/>
                    </a:moveTo>
                    <a:lnTo>
                      <a:pt x="393" y="440"/>
                    </a:lnTo>
                    <a:lnTo>
                      <a:pt x="363" y="409"/>
                    </a:lnTo>
                    <a:lnTo>
                      <a:pt x="332" y="395"/>
                    </a:lnTo>
                    <a:lnTo>
                      <a:pt x="302" y="364"/>
                    </a:lnTo>
                    <a:lnTo>
                      <a:pt x="271" y="333"/>
                    </a:lnTo>
                    <a:lnTo>
                      <a:pt x="242" y="319"/>
                    </a:lnTo>
                    <a:lnTo>
                      <a:pt x="196" y="289"/>
                    </a:lnTo>
                    <a:lnTo>
                      <a:pt x="166" y="258"/>
                    </a:lnTo>
                    <a:lnTo>
                      <a:pt x="136" y="229"/>
                    </a:lnTo>
                    <a:lnTo>
                      <a:pt x="120" y="213"/>
                    </a:lnTo>
                    <a:lnTo>
                      <a:pt x="89" y="182"/>
                    </a:lnTo>
                    <a:lnTo>
                      <a:pt x="60" y="154"/>
                    </a:lnTo>
                    <a:lnTo>
                      <a:pt x="45" y="123"/>
                    </a:lnTo>
                    <a:lnTo>
                      <a:pt x="29" y="78"/>
                    </a:lnTo>
                    <a:lnTo>
                      <a:pt x="14" y="4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848120" y="5540400"/>
                <a:ext cx="19080" cy="192240"/>
              </a:xfrm>
              <a:custGeom>
                <a:avLst/>
                <a:gdLst/>
                <a:ahLst/>
                <a:rect l="l" t="t" r="r" b="b"/>
                <a:pathLst>
                  <a:path w="75" h="725">
                    <a:moveTo>
                      <a:pt x="0" y="725"/>
                    </a:moveTo>
                    <a:lnTo>
                      <a:pt x="0" y="680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45"/>
                    </a:lnTo>
                    <a:lnTo>
                      <a:pt x="14" y="499"/>
                    </a:lnTo>
                    <a:lnTo>
                      <a:pt x="14" y="453"/>
                    </a:lnTo>
                    <a:lnTo>
                      <a:pt x="29" y="408"/>
                    </a:lnTo>
                    <a:lnTo>
                      <a:pt x="29" y="363"/>
                    </a:lnTo>
                    <a:lnTo>
                      <a:pt x="45" y="317"/>
                    </a:lnTo>
                    <a:lnTo>
                      <a:pt x="45" y="272"/>
                    </a:lnTo>
                    <a:lnTo>
                      <a:pt x="60" y="227"/>
                    </a:lnTo>
                    <a:lnTo>
                      <a:pt x="60" y="181"/>
                    </a:lnTo>
                    <a:lnTo>
                      <a:pt x="75" y="137"/>
                    </a:lnTo>
                    <a:lnTo>
                      <a:pt x="75" y="90"/>
                    </a:lnTo>
                    <a:lnTo>
                      <a:pt x="75" y="4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867200" y="548496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45" h="212">
                    <a:moveTo>
                      <a:pt x="0" y="212"/>
                    </a:moveTo>
                    <a:lnTo>
                      <a:pt x="14" y="197"/>
                    </a:lnTo>
                    <a:lnTo>
                      <a:pt x="14" y="182"/>
                    </a:lnTo>
                    <a:lnTo>
                      <a:pt x="14" y="168"/>
                    </a:lnTo>
                    <a:lnTo>
                      <a:pt x="14" y="151"/>
                    </a:lnTo>
                    <a:lnTo>
                      <a:pt x="14" y="137"/>
                    </a:lnTo>
                    <a:lnTo>
                      <a:pt x="31" y="137"/>
                    </a:lnTo>
                    <a:lnTo>
                      <a:pt x="31" y="120"/>
                    </a:lnTo>
                    <a:lnTo>
                      <a:pt x="31" y="106"/>
                    </a:lnTo>
                    <a:lnTo>
                      <a:pt x="31" y="92"/>
                    </a:lnTo>
                    <a:lnTo>
                      <a:pt x="31" y="75"/>
                    </a:lnTo>
                    <a:lnTo>
                      <a:pt x="31" y="61"/>
                    </a:lnTo>
                    <a:lnTo>
                      <a:pt x="31" y="45"/>
                    </a:lnTo>
                    <a:lnTo>
                      <a:pt x="31" y="31"/>
                    </a:lnTo>
                    <a:lnTo>
                      <a:pt x="31" y="16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879800" y="5295960"/>
                <a:ext cx="24120" cy="189000"/>
              </a:xfrm>
              <a:custGeom>
                <a:avLst/>
                <a:gdLst/>
                <a:ahLst/>
                <a:rect l="l" t="t" r="r" b="b"/>
                <a:pathLst>
                  <a:path w="91" h="711">
                    <a:moveTo>
                      <a:pt x="0" y="711"/>
                    </a:moveTo>
                    <a:lnTo>
                      <a:pt x="0" y="666"/>
                    </a:lnTo>
                    <a:lnTo>
                      <a:pt x="0" y="621"/>
                    </a:lnTo>
                    <a:lnTo>
                      <a:pt x="0" y="576"/>
                    </a:lnTo>
                    <a:lnTo>
                      <a:pt x="16" y="545"/>
                    </a:lnTo>
                    <a:lnTo>
                      <a:pt x="16" y="500"/>
                    </a:lnTo>
                    <a:lnTo>
                      <a:pt x="31" y="453"/>
                    </a:lnTo>
                    <a:lnTo>
                      <a:pt x="31" y="408"/>
                    </a:lnTo>
                    <a:lnTo>
                      <a:pt x="31" y="363"/>
                    </a:lnTo>
                    <a:lnTo>
                      <a:pt x="46" y="318"/>
                    </a:lnTo>
                    <a:lnTo>
                      <a:pt x="46" y="272"/>
                    </a:lnTo>
                    <a:lnTo>
                      <a:pt x="62" y="226"/>
                    </a:lnTo>
                    <a:lnTo>
                      <a:pt x="62" y="181"/>
                    </a:lnTo>
                    <a:lnTo>
                      <a:pt x="76" y="136"/>
                    </a:lnTo>
                    <a:lnTo>
                      <a:pt x="76" y="91"/>
                    </a:lnTo>
                    <a:lnTo>
                      <a:pt x="76" y="45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875120" y="515628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105" h="529">
                    <a:moveTo>
                      <a:pt x="105" y="529"/>
                    </a:moveTo>
                    <a:lnTo>
                      <a:pt x="105" y="499"/>
                    </a:lnTo>
                    <a:lnTo>
                      <a:pt x="90" y="468"/>
                    </a:lnTo>
                    <a:lnTo>
                      <a:pt x="90" y="423"/>
                    </a:lnTo>
                    <a:lnTo>
                      <a:pt x="90" y="392"/>
                    </a:lnTo>
                    <a:lnTo>
                      <a:pt x="90" y="363"/>
                    </a:lnTo>
                    <a:lnTo>
                      <a:pt x="90" y="317"/>
                    </a:lnTo>
                    <a:lnTo>
                      <a:pt x="90" y="287"/>
                    </a:lnTo>
                    <a:lnTo>
                      <a:pt x="90" y="256"/>
                    </a:lnTo>
                    <a:lnTo>
                      <a:pt x="76" y="227"/>
                    </a:lnTo>
                    <a:lnTo>
                      <a:pt x="76" y="182"/>
                    </a:lnTo>
                    <a:lnTo>
                      <a:pt x="60" y="151"/>
                    </a:lnTo>
                    <a:lnTo>
                      <a:pt x="60" y="120"/>
                    </a:lnTo>
                    <a:lnTo>
                      <a:pt x="45" y="90"/>
                    </a:lnTo>
                    <a:lnTo>
                      <a:pt x="30" y="59"/>
                    </a:lnTo>
                    <a:lnTo>
                      <a:pt x="14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867200" y="5159520"/>
                <a:ext cx="12600" cy="176040"/>
              </a:xfrm>
              <a:custGeom>
                <a:avLst/>
                <a:gdLst/>
                <a:ahLst/>
                <a:rect l="l" t="t" r="r" b="b"/>
                <a:pathLst>
                  <a:path w="45" h="667">
                    <a:moveTo>
                      <a:pt x="0" y="0"/>
                    </a:moveTo>
                    <a:lnTo>
                      <a:pt x="14" y="45"/>
                    </a:lnTo>
                    <a:lnTo>
                      <a:pt x="14" y="92"/>
                    </a:lnTo>
                    <a:lnTo>
                      <a:pt x="31" y="121"/>
                    </a:lnTo>
                    <a:lnTo>
                      <a:pt x="31" y="168"/>
                    </a:lnTo>
                    <a:lnTo>
                      <a:pt x="31" y="213"/>
                    </a:lnTo>
                    <a:lnTo>
                      <a:pt x="31" y="258"/>
                    </a:lnTo>
                    <a:lnTo>
                      <a:pt x="31" y="288"/>
                    </a:lnTo>
                    <a:lnTo>
                      <a:pt x="45" y="333"/>
                    </a:lnTo>
                    <a:lnTo>
                      <a:pt x="45" y="378"/>
                    </a:lnTo>
                    <a:lnTo>
                      <a:pt x="45" y="424"/>
                    </a:lnTo>
                    <a:lnTo>
                      <a:pt x="45" y="454"/>
                    </a:lnTo>
                    <a:lnTo>
                      <a:pt x="31" y="500"/>
                    </a:lnTo>
                    <a:lnTo>
                      <a:pt x="31" y="545"/>
                    </a:lnTo>
                    <a:lnTo>
                      <a:pt x="31" y="591"/>
                    </a:lnTo>
                    <a:lnTo>
                      <a:pt x="31" y="636"/>
                    </a:lnTo>
                    <a:lnTo>
                      <a:pt x="31" y="6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772160" y="5091120"/>
                <a:ext cx="102960" cy="244440"/>
              </a:xfrm>
              <a:custGeom>
                <a:avLst/>
                <a:gdLst/>
                <a:ahLst/>
                <a:rect l="l" t="t" r="r" b="b"/>
                <a:pathLst>
                  <a:path w="395" h="923">
                    <a:moveTo>
                      <a:pt x="395" y="923"/>
                    </a:moveTo>
                    <a:lnTo>
                      <a:pt x="364" y="877"/>
                    </a:lnTo>
                    <a:lnTo>
                      <a:pt x="334" y="816"/>
                    </a:lnTo>
                    <a:lnTo>
                      <a:pt x="318" y="756"/>
                    </a:lnTo>
                    <a:lnTo>
                      <a:pt x="289" y="696"/>
                    </a:lnTo>
                    <a:lnTo>
                      <a:pt x="258" y="651"/>
                    </a:lnTo>
                    <a:lnTo>
                      <a:pt x="227" y="589"/>
                    </a:lnTo>
                    <a:lnTo>
                      <a:pt x="198" y="529"/>
                    </a:lnTo>
                    <a:lnTo>
                      <a:pt x="168" y="469"/>
                    </a:lnTo>
                    <a:lnTo>
                      <a:pt x="152" y="424"/>
                    </a:lnTo>
                    <a:lnTo>
                      <a:pt x="122" y="362"/>
                    </a:lnTo>
                    <a:lnTo>
                      <a:pt x="92" y="301"/>
                    </a:lnTo>
                    <a:lnTo>
                      <a:pt x="76" y="242"/>
                    </a:lnTo>
                    <a:lnTo>
                      <a:pt x="62" y="180"/>
                    </a:lnTo>
                    <a:lnTo>
                      <a:pt x="31" y="121"/>
                    </a:lnTo>
                    <a:lnTo>
                      <a:pt x="17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707000" y="4683240"/>
                <a:ext cx="65160" cy="407880"/>
              </a:xfrm>
              <a:custGeom>
                <a:avLst/>
                <a:gdLst/>
                <a:ahLst/>
                <a:rect l="l" t="t" r="r" b="b"/>
                <a:pathLst>
                  <a:path w="241" h="1544">
                    <a:moveTo>
                      <a:pt x="241" y="1544"/>
                    </a:moveTo>
                    <a:lnTo>
                      <a:pt x="227" y="1453"/>
                    </a:lnTo>
                    <a:lnTo>
                      <a:pt x="196" y="1346"/>
                    </a:lnTo>
                    <a:lnTo>
                      <a:pt x="182" y="1256"/>
                    </a:lnTo>
                    <a:lnTo>
                      <a:pt x="151" y="1165"/>
                    </a:lnTo>
                    <a:lnTo>
                      <a:pt x="135" y="1074"/>
                    </a:lnTo>
                    <a:lnTo>
                      <a:pt x="106" y="983"/>
                    </a:lnTo>
                    <a:lnTo>
                      <a:pt x="90" y="877"/>
                    </a:lnTo>
                    <a:lnTo>
                      <a:pt x="76" y="787"/>
                    </a:lnTo>
                    <a:lnTo>
                      <a:pt x="59" y="695"/>
                    </a:lnTo>
                    <a:lnTo>
                      <a:pt x="45" y="591"/>
                    </a:lnTo>
                    <a:lnTo>
                      <a:pt x="31" y="499"/>
                    </a:lnTo>
                    <a:lnTo>
                      <a:pt x="14" y="409"/>
                    </a:lnTo>
                    <a:lnTo>
                      <a:pt x="14" y="303"/>
                    </a:lnTo>
                    <a:lnTo>
                      <a:pt x="0" y="212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703760" y="4254480"/>
                <a:ext cx="47520" cy="428760"/>
              </a:xfrm>
              <a:custGeom>
                <a:avLst/>
                <a:gdLst/>
                <a:ahLst/>
                <a:rect l="l" t="t" r="r" b="b"/>
                <a:pathLst>
                  <a:path w="181" h="1619">
                    <a:moveTo>
                      <a:pt x="15" y="1619"/>
                    </a:moveTo>
                    <a:lnTo>
                      <a:pt x="0" y="1528"/>
                    </a:lnTo>
                    <a:lnTo>
                      <a:pt x="0" y="1422"/>
                    </a:lnTo>
                    <a:lnTo>
                      <a:pt x="0" y="1316"/>
                    </a:lnTo>
                    <a:lnTo>
                      <a:pt x="15" y="1211"/>
                    </a:lnTo>
                    <a:lnTo>
                      <a:pt x="15" y="1105"/>
                    </a:lnTo>
                    <a:lnTo>
                      <a:pt x="15" y="998"/>
                    </a:lnTo>
                    <a:lnTo>
                      <a:pt x="15" y="909"/>
                    </a:lnTo>
                    <a:lnTo>
                      <a:pt x="29" y="802"/>
                    </a:lnTo>
                    <a:lnTo>
                      <a:pt x="29" y="696"/>
                    </a:lnTo>
                    <a:lnTo>
                      <a:pt x="46" y="591"/>
                    </a:lnTo>
                    <a:lnTo>
                      <a:pt x="60" y="500"/>
                    </a:lnTo>
                    <a:lnTo>
                      <a:pt x="74" y="393"/>
                    </a:lnTo>
                    <a:lnTo>
                      <a:pt x="91" y="288"/>
                    </a:lnTo>
                    <a:lnTo>
                      <a:pt x="121" y="196"/>
                    </a:lnTo>
                    <a:lnTo>
                      <a:pt x="150" y="106"/>
                    </a:lnTo>
                    <a:lnTo>
                      <a:pt x="1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756320" y="4086360"/>
                <a:ext cx="39600" cy="133200"/>
              </a:xfrm>
              <a:custGeom>
                <a:avLst/>
                <a:gdLst/>
                <a:ahLst/>
                <a:rect l="l" t="t" r="r" b="b"/>
                <a:pathLst>
                  <a:path w="151" h="499">
                    <a:moveTo>
                      <a:pt x="0" y="499"/>
                    </a:moveTo>
                    <a:lnTo>
                      <a:pt x="14" y="454"/>
                    </a:lnTo>
                    <a:lnTo>
                      <a:pt x="14" y="423"/>
                    </a:lnTo>
                    <a:lnTo>
                      <a:pt x="29" y="395"/>
                    </a:lnTo>
                    <a:lnTo>
                      <a:pt x="29" y="364"/>
                    </a:lnTo>
                    <a:lnTo>
                      <a:pt x="45" y="333"/>
                    </a:lnTo>
                    <a:lnTo>
                      <a:pt x="45" y="302"/>
                    </a:lnTo>
                    <a:lnTo>
                      <a:pt x="59" y="273"/>
                    </a:lnTo>
                    <a:lnTo>
                      <a:pt x="76" y="243"/>
                    </a:lnTo>
                    <a:lnTo>
                      <a:pt x="76" y="213"/>
                    </a:lnTo>
                    <a:lnTo>
                      <a:pt x="90" y="182"/>
                    </a:lnTo>
                    <a:lnTo>
                      <a:pt x="105" y="151"/>
                    </a:lnTo>
                    <a:lnTo>
                      <a:pt x="105" y="120"/>
                    </a:lnTo>
                    <a:lnTo>
                      <a:pt x="121" y="91"/>
                    </a:lnTo>
                    <a:lnTo>
                      <a:pt x="121" y="61"/>
                    </a:lnTo>
                    <a:lnTo>
                      <a:pt x="135" y="31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795920" y="3983040"/>
                <a:ext cx="23760" cy="103320"/>
              </a:xfrm>
              <a:custGeom>
                <a:avLst/>
                <a:gdLst/>
                <a:ahLst/>
                <a:rect l="l" t="t" r="r" b="b"/>
                <a:pathLst>
                  <a:path w="90" h="394">
                    <a:moveTo>
                      <a:pt x="0" y="394"/>
                    </a:moveTo>
                    <a:lnTo>
                      <a:pt x="0" y="364"/>
                    </a:lnTo>
                    <a:lnTo>
                      <a:pt x="0" y="349"/>
                    </a:lnTo>
                    <a:lnTo>
                      <a:pt x="15" y="318"/>
                    </a:lnTo>
                    <a:lnTo>
                      <a:pt x="15" y="289"/>
                    </a:lnTo>
                    <a:lnTo>
                      <a:pt x="15" y="273"/>
                    </a:lnTo>
                    <a:lnTo>
                      <a:pt x="30" y="244"/>
                    </a:lnTo>
                    <a:lnTo>
                      <a:pt x="30" y="228"/>
                    </a:lnTo>
                    <a:lnTo>
                      <a:pt x="45" y="198"/>
                    </a:lnTo>
                    <a:lnTo>
                      <a:pt x="45" y="182"/>
                    </a:lnTo>
                    <a:lnTo>
                      <a:pt x="45" y="153"/>
                    </a:lnTo>
                    <a:lnTo>
                      <a:pt x="60" y="122"/>
                    </a:lnTo>
                    <a:lnTo>
                      <a:pt x="60" y="107"/>
                    </a:lnTo>
                    <a:lnTo>
                      <a:pt x="76" y="76"/>
                    </a:lnTo>
                    <a:lnTo>
                      <a:pt x="76" y="62"/>
                    </a:lnTo>
                    <a:lnTo>
                      <a:pt x="76" y="31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819680" y="3906720"/>
                <a:ext cx="15840" cy="76320"/>
              </a:xfrm>
              <a:custGeom>
                <a:avLst/>
                <a:gdLst/>
                <a:ahLst/>
                <a:rect l="l" t="t" r="r" b="b"/>
                <a:pathLst>
                  <a:path w="62" h="286">
                    <a:moveTo>
                      <a:pt x="0" y="286"/>
                    </a:moveTo>
                    <a:lnTo>
                      <a:pt x="0" y="272"/>
                    </a:lnTo>
                    <a:lnTo>
                      <a:pt x="0" y="258"/>
                    </a:lnTo>
                    <a:lnTo>
                      <a:pt x="16" y="241"/>
                    </a:lnTo>
                    <a:lnTo>
                      <a:pt x="16" y="227"/>
                    </a:lnTo>
                    <a:lnTo>
                      <a:pt x="16" y="196"/>
                    </a:lnTo>
                    <a:lnTo>
                      <a:pt x="31" y="182"/>
                    </a:lnTo>
                    <a:lnTo>
                      <a:pt x="31" y="166"/>
                    </a:lnTo>
                    <a:lnTo>
                      <a:pt x="45" y="151"/>
                    </a:lnTo>
                    <a:lnTo>
                      <a:pt x="45" y="121"/>
                    </a:lnTo>
                    <a:lnTo>
                      <a:pt x="45" y="105"/>
                    </a:lnTo>
                    <a:lnTo>
                      <a:pt x="45" y="90"/>
                    </a:lnTo>
                    <a:lnTo>
                      <a:pt x="62" y="76"/>
                    </a:lnTo>
                    <a:lnTo>
                      <a:pt x="62" y="59"/>
                    </a:lnTo>
                    <a:lnTo>
                      <a:pt x="62" y="31"/>
                    </a:lnTo>
                    <a:lnTo>
                      <a:pt x="62" y="14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791240" y="3662280"/>
                <a:ext cx="52200" cy="244440"/>
              </a:xfrm>
              <a:custGeom>
                <a:avLst/>
                <a:gdLst/>
                <a:ahLst/>
                <a:rect l="l" t="t" r="r" b="b"/>
                <a:pathLst>
                  <a:path w="197" h="923">
                    <a:moveTo>
                      <a:pt x="168" y="923"/>
                    </a:moveTo>
                    <a:lnTo>
                      <a:pt x="182" y="862"/>
                    </a:lnTo>
                    <a:lnTo>
                      <a:pt x="197" y="800"/>
                    </a:lnTo>
                    <a:lnTo>
                      <a:pt x="197" y="741"/>
                    </a:lnTo>
                    <a:lnTo>
                      <a:pt x="197" y="680"/>
                    </a:lnTo>
                    <a:lnTo>
                      <a:pt x="197" y="621"/>
                    </a:lnTo>
                    <a:lnTo>
                      <a:pt x="197" y="559"/>
                    </a:lnTo>
                    <a:lnTo>
                      <a:pt x="182" y="499"/>
                    </a:lnTo>
                    <a:lnTo>
                      <a:pt x="182" y="439"/>
                    </a:lnTo>
                    <a:lnTo>
                      <a:pt x="168" y="377"/>
                    </a:lnTo>
                    <a:lnTo>
                      <a:pt x="151" y="317"/>
                    </a:lnTo>
                    <a:lnTo>
                      <a:pt x="137" y="257"/>
                    </a:lnTo>
                    <a:lnTo>
                      <a:pt x="106" y="212"/>
                    </a:lnTo>
                    <a:lnTo>
                      <a:pt x="92" y="151"/>
                    </a:lnTo>
                    <a:lnTo>
                      <a:pt x="61" y="105"/>
                    </a:lnTo>
                    <a:lnTo>
                      <a:pt x="31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788000" y="3557520"/>
                <a:ext cx="50760" cy="104760"/>
              </a:xfrm>
              <a:custGeom>
                <a:avLst/>
                <a:gdLst/>
                <a:ahLst/>
                <a:rect l="l" t="t" r="r" b="b"/>
                <a:pathLst>
                  <a:path w="196" h="395">
                    <a:moveTo>
                      <a:pt x="14" y="395"/>
                    </a:moveTo>
                    <a:lnTo>
                      <a:pt x="0" y="364"/>
                    </a:lnTo>
                    <a:lnTo>
                      <a:pt x="0" y="334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14" y="244"/>
                    </a:lnTo>
                    <a:lnTo>
                      <a:pt x="14" y="227"/>
                    </a:lnTo>
                    <a:lnTo>
                      <a:pt x="30" y="199"/>
                    </a:lnTo>
                    <a:lnTo>
                      <a:pt x="45" y="168"/>
                    </a:lnTo>
                    <a:lnTo>
                      <a:pt x="60" y="152"/>
                    </a:lnTo>
                    <a:lnTo>
                      <a:pt x="75" y="123"/>
                    </a:lnTo>
                    <a:lnTo>
                      <a:pt x="90" y="92"/>
                    </a:lnTo>
                    <a:lnTo>
                      <a:pt x="106" y="76"/>
                    </a:lnTo>
                    <a:lnTo>
                      <a:pt x="136" y="62"/>
                    </a:lnTo>
                    <a:lnTo>
                      <a:pt x="151" y="31"/>
                    </a:lnTo>
                    <a:lnTo>
                      <a:pt x="165" y="17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938840" y="352260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424" h="165">
                    <a:moveTo>
                      <a:pt x="0" y="0"/>
                    </a:moveTo>
                    <a:lnTo>
                      <a:pt x="31" y="0"/>
                    </a:lnTo>
                    <a:lnTo>
                      <a:pt x="46" y="14"/>
                    </a:lnTo>
                    <a:lnTo>
                      <a:pt x="76" y="14"/>
                    </a:lnTo>
                    <a:lnTo>
                      <a:pt x="105" y="14"/>
                    </a:lnTo>
                    <a:lnTo>
                      <a:pt x="136" y="29"/>
                    </a:lnTo>
                    <a:lnTo>
                      <a:pt x="167" y="29"/>
                    </a:lnTo>
                    <a:lnTo>
                      <a:pt x="198" y="29"/>
                    </a:lnTo>
                    <a:lnTo>
                      <a:pt x="228" y="44"/>
                    </a:lnTo>
                    <a:lnTo>
                      <a:pt x="257" y="59"/>
                    </a:lnTo>
                    <a:lnTo>
                      <a:pt x="287" y="59"/>
                    </a:lnTo>
                    <a:lnTo>
                      <a:pt x="304" y="75"/>
                    </a:lnTo>
                    <a:lnTo>
                      <a:pt x="332" y="89"/>
                    </a:lnTo>
                    <a:lnTo>
                      <a:pt x="363" y="105"/>
                    </a:lnTo>
                    <a:lnTo>
                      <a:pt x="380" y="120"/>
                    </a:lnTo>
                    <a:lnTo>
                      <a:pt x="408" y="151"/>
                    </a:lnTo>
                    <a:lnTo>
                      <a:pt x="424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938840" y="5380200"/>
                <a:ext cx="120600" cy="336240"/>
              </a:xfrm>
              <a:custGeom>
                <a:avLst/>
                <a:gdLst/>
                <a:ahLst/>
                <a:rect l="l" t="t" r="r" b="b"/>
                <a:pathLst>
                  <a:path w="455" h="1271">
                    <a:moveTo>
                      <a:pt x="455" y="650"/>
                    </a:moveTo>
                    <a:lnTo>
                      <a:pt x="455" y="695"/>
                    </a:lnTo>
                    <a:lnTo>
                      <a:pt x="439" y="742"/>
                    </a:lnTo>
                    <a:lnTo>
                      <a:pt x="424" y="786"/>
                    </a:lnTo>
                    <a:lnTo>
                      <a:pt x="408" y="817"/>
                    </a:lnTo>
                    <a:lnTo>
                      <a:pt x="380" y="862"/>
                    </a:lnTo>
                    <a:lnTo>
                      <a:pt x="349" y="908"/>
                    </a:lnTo>
                    <a:lnTo>
                      <a:pt x="318" y="938"/>
                    </a:lnTo>
                    <a:lnTo>
                      <a:pt x="287" y="984"/>
                    </a:lnTo>
                    <a:lnTo>
                      <a:pt x="257" y="1013"/>
                    </a:lnTo>
                    <a:lnTo>
                      <a:pt x="228" y="1044"/>
                    </a:lnTo>
                    <a:lnTo>
                      <a:pt x="198" y="1075"/>
                    </a:lnTo>
                    <a:lnTo>
                      <a:pt x="151" y="1120"/>
                    </a:lnTo>
                    <a:lnTo>
                      <a:pt x="122" y="1150"/>
                    </a:lnTo>
                    <a:lnTo>
                      <a:pt x="91" y="1180"/>
                    </a:lnTo>
                    <a:lnTo>
                      <a:pt x="61" y="1226"/>
                    </a:lnTo>
                    <a:lnTo>
                      <a:pt x="16" y="1256"/>
                    </a:lnTo>
                    <a:lnTo>
                      <a:pt x="0" y="1271"/>
                    </a:lnTo>
                    <a:lnTo>
                      <a:pt x="16" y="1226"/>
                    </a:lnTo>
                    <a:lnTo>
                      <a:pt x="46" y="1180"/>
                    </a:lnTo>
                    <a:lnTo>
                      <a:pt x="61" y="1134"/>
                    </a:lnTo>
                    <a:lnTo>
                      <a:pt x="91" y="1104"/>
                    </a:lnTo>
                    <a:lnTo>
                      <a:pt x="122" y="1058"/>
                    </a:lnTo>
                    <a:lnTo>
                      <a:pt x="136" y="1013"/>
                    </a:lnTo>
                    <a:lnTo>
                      <a:pt x="167" y="968"/>
                    </a:lnTo>
                    <a:lnTo>
                      <a:pt x="181" y="922"/>
                    </a:lnTo>
                    <a:lnTo>
                      <a:pt x="212" y="877"/>
                    </a:lnTo>
                    <a:lnTo>
                      <a:pt x="228" y="832"/>
                    </a:lnTo>
                    <a:lnTo>
                      <a:pt x="242" y="786"/>
                    </a:lnTo>
                    <a:lnTo>
                      <a:pt x="257" y="742"/>
                    </a:lnTo>
                    <a:lnTo>
                      <a:pt x="273" y="695"/>
                    </a:lnTo>
                    <a:lnTo>
                      <a:pt x="273" y="650"/>
                    </a:lnTo>
                    <a:lnTo>
                      <a:pt x="273" y="590"/>
                    </a:lnTo>
                    <a:lnTo>
                      <a:pt x="273" y="544"/>
                    </a:lnTo>
                    <a:lnTo>
                      <a:pt x="257" y="513"/>
                    </a:lnTo>
                    <a:lnTo>
                      <a:pt x="257" y="499"/>
                    </a:lnTo>
                    <a:lnTo>
                      <a:pt x="242" y="468"/>
                    </a:lnTo>
                    <a:lnTo>
                      <a:pt x="228" y="454"/>
                    </a:lnTo>
                    <a:lnTo>
                      <a:pt x="228" y="438"/>
                    </a:lnTo>
                    <a:lnTo>
                      <a:pt x="212" y="409"/>
                    </a:lnTo>
                    <a:lnTo>
                      <a:pt x="198" y="393"/>
                    </a:lnTo>
                    <a:lnTo>
                      <a:pt x="181" y="379"/>
                    </a:lnTo>
                    <a:lnTo>
                      <a:pt x="167" y="362"/>
                    </a:lnTo>
                    <a:lnTo>
                      <a:pt x="151" y="334"/>
                    </a:lnTo>
                    <a:lnTo>
                      <a:pt x="136" y="317"/>
                    </a:lnTo>
                    <a:lnTo>
                      <a:pt x="122" y="303"/>
                    </a:lnTo>
                    <a:lnTo>
                      <a:pt x="105" y="272"/>
                    </a:lnTo>
                    <a:lnTo>
                      <a:pt x="91" y="258"/>
                    </a:lnTo>
                    <a:lnTo>
                      <a:pt x="76" y="242"/>
                    </a:lnTo>
                    <a:lnTo>
                      <a:pt x="76" y="227"/>
                    </a:lnTo>
                    <a:lnTo>
                      <a:pt x="61" y="227"/>
                    </a:lnTo>
                    <a:lnTo>
                      <a:pt x="136" y="0"/>
                    </a:lnTo>
                    <a:lnTo>
                      <a:pt x="167" y="30"/>
                    </a:lnTo>
                    <a:lnTo>
                      <a:pt x="181" y="76"/>
                    </a:lnTo>
                    <a:lnTo>
                      <a:pt x="198" y="121"/>
                    </a:lnTo>
                    <a:lnTo>
                      <a:pt x="228" y="152"/>
                    </a:lnTo>
                    <a:lnTo>
                      <a:pt x="242" y="197"/>
                    </a:lnTo>
                    <a:lnTo>
                      <a:pt x="273" y="227"/>
                    </a:lnTo>
                    <a:lnTo>
                      <a:pt x="287" y="272"/>
                    </a:lnTo>
                    <a:lnTo>
                      <a:pt x="318" y="317"/>
                    </a:lnTo>
                    <a:lnTo>
                      <a:pt x="332" y="348"/>
                    </a:lnTo>
                    <a:lnTo>
                      <a:pt x="363" y="393"/>
                    </a:lnTo>
                    <a:lnTo>
                      <a:pt x="380" y="438"/>
                    </a:lnTo>
                    <a:lnTo>
                      <a:pt x="394" y="485"/>
                    </a:lnTo>
                    <a:lnTo>
                      <a:pt x="408" y="513"/>
                    </a:lnTo>
                    <a:lnTo>
                      <a:pt x="439" y="561"/>
                    </a:lnTo>
                    <a:lnTo>
                      <a:pt x="455" y="605"/>
                    </a:lnTo>
                    <a:lnTo>
                      <a:pt x="455" y="650"/>
                    </a:lnTo>
                    <a:close/>
                  </a:path>
                </a:pathLst>
              </a:custGeom>
              <a:solidFill>
                <a:srgbClr val="147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943520" y="5551560"/>
                <a:ext cx="115920" cy="160200"/>
              </a:xfrm>
              <a:custGeom>
                <a:avLst/>
                <a:gdLst/>
                <a:ahLst/>
                <a:rect l="l" t="t" r="r" b="b"/>
                <a:pathLst>
                  <a:path w="439" h="606">
                    <a:moveTo>
                      <a:pt x="439" y="0"/>
                    </a:moveTo>
                    <a:lnTo>
                      <a:pt x="439" y="45"/>
                    </a:lnTo>
                    <a:lnTo>
                      <a:pt x="423" y="92"/>
                    </a:lnTo>
                    <a:lnTo>
                      <a:pt x="408" y="136"/>
                    </a:lnTo>
                    <a:lnTo>
                      <a:pt x="392" y="167"/>
                    </a:lnTo>
                    <a:lnTo>
                      <a:pt x="364" y="212"/>
                    </a:lnTo>
                    <a:lnTo>
                      <a:pt x="333" y="258"/>
                    </a:lnTo>
                    <a:lnTo>
                      <a:pt x="302" y="288"/>
                    </a:lnTo>
                    <a:lnTo>
                      <a:pt x="271" y="334"/>
                    </a:lnTo>
                    <a:lnTo>
                      <a:pt x="241" y="363"/>
                    </a:lnTo>
                    <a:lnTo>
                      <a:pt x="212" y="394"/>
                    </a:lnTo>
                    <a:lnTo>
                      <a:pt x="182" y="425"/>
                    </a:lnTo>
                    <a:lnTo>
                      <a:pt x="135" y="470"/>
                    </a:lnTo>
                    <a:lnTo>
                      <a:pt x="106" y="500"/>
                    </a:lnTo>
                    <a:lnTo>
                      <a:pt x="75" y="530"/>
                    </a:lnTo>
                    <a:lnTo>
                      <a:pt x="45" y="576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938840" y="5524560"/>
                <a:ext cx="72720" cy="191880"/>
              </a:xfrm>
              <a:custGeom>
                <a:avLst/>
                <a:gdLst/>
                <a:ahLst/>
                <a:rect l="l" t="t" r="r" b="b"/>
                <a:pathLst>
                  <a:path w="273" h="727">
                    <a:moveTo>
                      <a:pt x="0" y="727"/>
                    </a:moveTo>
                    <a:lnTo>
                      <a:pt x="16" y="682"/>
                    </a:lnTo>
                    <a:lnTo>
                      <a:pt x="46" y="636"/>
                    </a:lnTo>
                    <a:lnTo>
                      <a:pt x="61" y="590"/>
                    </a:lnTo>
                    <a:lnTo>
                      <a:pt x="91" y="560"/>
                    </a:lnTo>
                    <a:lnTo>
                      <a:pt x="122" y="514"/>
                    </a:lnTo>
                    <a:lnTo>
                      <a:pt x="136" y="469"/>
                    </a:lnTo>
                    <a:lnTo>
                      <a:pt x="167" y="424"/>
                    </a:lnTo>
                    <a:lnTo>
                      <a:pt x="181" y="378"/>
                    </a:lnTo>
                    <a:lnTo>
                      <a:pt x="212" y="333"/>
                    </a:lnTo>
                    <a:lnTo>
                      <a:pt x="228" y="288"/>
                    </a:lnTo>
                    <a:lnTo>
                      <a:pt x="242" y="242"/>
                    </a:lnTo>
                    <a:lnTo>
                      <a:pt x="257" y="198"/>
                    </a:lnTo>
                    <a:lnTo>
                      <a:pt x="273" y="151"/>
                    </a:lnTo>
                    <a:lnTo>
                      <a:pt x="273" y="106"/>
                    </a:lnTo>
                    <a:lnTo>
                      <a:pt x="273" y="46"/>
                    </a:lnTo>
                    <a:lnTo>
                      <a:pt x="2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959360" y="54403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97" h="317">
                    <a:moveTo>
                      <a:pt x="197" y="317"/>
                    </a:moveTo>
                    <a:lnTo>
                      <a:pt x="181" y="286"/>
                    </a:lnTo>
                    <a:lnTo>
                      <a:pt x="181" y="272"/>
                    </a:lnTo>
                    <a:lnTo>
                      <a:pt x="166" y="241"/>
                    </a:lnTo>
                    <a:lnTo>
                      <a:pt x="152" y="227"/>
                    </a:lnTo>
                    <a:lnTo>
                      <a:pt x="152" y="211"/>
                    </a:lnTo>
                    <a:lnTo>
                      <a:pt x="136" y="182"/>
                    </a:lnTo>
                    <a:lnTo>
                      <a:pt x="122" y="166"/>
                    </a:lnTo>
                    <a:lnTo>
                      <a:pt x="105" y="152"/>
                    </a:lnTo>
                    <a:lnTo>
                      <a:pt x="91" y="135"/>
                    </a:lnTo>
                    <a:lnTo>
                      <a:pt x="75" y="107"/>
                    </a:lnTo>
                    <a:lnTo>
                      <a:pt x="60" y="90"/>
                    </a:lnTo>
                    <a:lnTo>
                      <a:pt x="46" y="76"/>
                    </a:lnTo>
                    <a:lnTo>
                      <a:pt x="29" y="45"/>
                    </a:lnTo>
                    <a:lnTo>
                      <a:pt x="15" y="31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V="1">
                <a:off x="4956120" y="5379840"/>
                <a:ext cx="1908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975200" y="5380200"/>
                <a:ext cx="84240" cy="171360"/>
              </a:xfrm>
              <a:custGeom>
                <a:avLst/>
                <a:gdLst/>
                <a:ahLst/>
                <a:rect l="l" t="t" r="r" b="b"/>
                <a:pathLst>
                  <a:path w="319" h="650">
                    <a:moveTo>
                      <a:pt x="0" y="0"/>
                    </a:moveTo>
                    <a:lnTo>
                      <a:pt x="31" y="30"/>
                    </a:lnTo>
                    <a:lnTo>
                      <a:pt x="45" y="76"/>
                    </a:lnTo>
                    <a:lnTo>
                      <a:pt x="62" y="121"/>
                    </a:lnTo>
                    <a:lnTo>
                      <a:pt x="92" y="152"/>
                    </a:lnTo>
                    <a:lnTo>
                      <a:pt x="106" y="197"/>
                    </a:lnTo>
                    <a:lnTo>
                      <a:pt x="137" y="227"/>
                    </a:lnTo>
                    <a:lnTo>
                      <a:pt x="151" y="272"/>
                    </a:lnTo>
                    <a:lnTo>
                      <a:pt x="182" y="317"/>
                    </a:lnTo>
                    <a:lnTo>
                      <a:pt x="196" y="348"/>
                    </a:lnTo>
                    <a:lnTo>
                      <a:pt x="227" y="393"/>
                    </a:lnTo>
                    <a:lnTo>
                      <a:pt x="244" y="438"/>
                    </a:lnTo>
                    <a:lnTo>
                      <a:pt x="258" y="485"/>
                    </a:lnTo>
                    <a:lnTo>
                      <a:pt x="272" y="513"/>
                    </a:lnTo>
                    <a:lnTo>
                      <a:pt x="303" y="561"/>
                    </a:lnTo>
                    <a:lnTo>
                      <a:pt x="319" y="605"/>
                    </a:lnTo>
                    <a:lnTo>
                      <a:pt x="31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903920" y="5459400"/>
                <a:ext cx="91800" cy="277920"/>
              </a:xfrm>
              <a:custGeom>
                <a:avLst/>
                <a:gdLst/>
                <a:ahLst/>
                <a:rect l="l" t="t" r="r" b="b"/>
                <a:pathLst>
                  <a:path w="348" h="1044">
                    <a:moveTo>
                      <a:pt x="334" y="454"/>
                    </a:moveTo>
                    <a:lnTo>
                      <a:pt x="317" y="499"/>
                    </a:lnTo>
                    <a:lnTo>
                      <a:pt x="303" y="529"/>
                    </a:lnTo>
                    <a:lnTo>
                      <a:pt x="287" y="574"/>
                    </a:lnTo>
                    <a:lnTo>
                      <a:pt x="272" y="605"/>
                    </a:lnTo>
                    <a:lnTo>
                      <a:pt x="258" y="650"/>
                    </a:lnTo>
                    <a:lnTo>
                      <a:pt x="241" y="681"/>
                    </a:lnTo>
                    <a:lnTo>
                      <a:pt x="212" y="726"/>
                    </a:lnTo>
                    <a:lnTo>
                      <a:pt x="197" y="755"/>
                    </a:lnTo>
                    <a:lnTo>
                      <a:pt x="182" y="801"/>
                    </a:lnTo>
                    <a:lnTo>
                      <a:pt x="167" y="831"/>
                    </a:lnTo>
                    <a:lnTo>
                      <a:pt x="136" y="862"/>
                    </a:lnTo>
                    <a:lnTo>
                      <a:pt x="121" y="907"/>
                    </a:lnTo>
                    <a:lnTo>
                      <a:pt x="107" y="937"/>
                    </a:lnTo>
                    <a:lnTo>
                      <a:pt x="76" y="968"/>
                    </a:lnTo>
                    <a:lnTo>
                      <a:pt x="60" y="1013"/>
                    </a:lnTo>
                    <a:lnTo>
                      <a:pt x="45" y="1044"/>
                    </a:lnTo>
                    <a:lnTo>
                      <a:pt x="31" y="999"/>
                    </a:lnTo>
                    <a:lnTo>
                      <a:pt x="16" y="937"/>
                    </a:lnTo>
                    <a:lnTo>
                      <a:pt x="0" y="892"/>
                    </a:lnTo>
                    <a:lnTo>
                      <a:pt x="0" y="831"/>
                    </a:lnTo>
                    <a:lnTo>
                      <a:pt x="0" y="786"/>
                    </a:lnTo>
                    <a:lnTo>
                      <a:pt x="0" y="726"/>
                    </a:lnTo>
                    <a:lnTo>
                      <a:pt x="0" y="681"/>
                    </a:lnTo>
                    <a:lnTo>
                      <a:pt x="16" y="619"/>
                    </a:lnTo>
                    <a:lnTo>
                      <a:pt x="16" y="559"/>
                    </a:lnTo>
                    <a:lnTo>
                      <a:pt x="31" y="514"/>
                    </a:lnTo>
                    <a:lnTo>
                      <a:pt x="45" y="454"/>
                    </a:lnTo>
                    <a:lnTo>
                      <a:pt x="60" y="409"/>
                    </a:lnTo>
                    <a:lnTo>
                      <a:pt x="76" y="347"/>
                    </a:lnTo>
                    <a:lnTo>
                      <a:pt x="91" y="302"/>
                    </a:lnTo>
                    <a:lnTo>
                      <a:pt x="107" y="258"/>
                    </a:lnTo>
                    <a:lnTo>
                      <a:pt x="121" y="196"/>
                    </a:lnTo>
                    <a:lnTo>
                      <a:pt x="182" y="0"/>
                    </a:lnTo>
                    <a:lnTo>
                      <a:pt x="197" y="31"/>
                    </a:lnTo>
                    <a:lnTo>
                      <a:pt x="212" y="59"/>
                    </a:lnTo>
                    <a:lnTo>
                      <a:pt x="227" y="90"/>
                    </a:lnTo>
                    <a:lnTo>
                      <a:pt x="241" y="106"/>
                    </a:lnTo>
                    <a:lnTo>
                      <a:pt x="258" y="135"/>
                    </a:lnTo>
                    <a:lnTo>
                      <a:pt x="272" y="165"/>
                    </a:lnTo>
                    <a:lnTo>
                      <a:pt x="287" y="196"/>
                    </a:lnTo>
                    <a:lnTo>
                      <a:pt x="303" y="210"/>
                    </a:lnTo>
                    <a:lnTo>
                      <a:pt x="317" y="241"/>
                    </a:lnTo>
                    <a:lnTo>
                      <a:pt x="334" y="272"/>
                    </a:lnTo>
                    <a:lnTo>
                      <a:pt x="348" y="302"/>
                    </a:lnTo>
                    <a:lnTo>
                      <a:pt x="348" y="332"/>
                    </a:lnTo>
                    <a:lnTo>
                      <a:pt x="348" y="363"/>
                    </a:lnTo>
                    <a:lnTo>
                      <a:pt x="348" y="392"/>
                    </a:lnTo>
                    <a:lnTo>
                      <a:pt x="348" y="423"/>
                    </a:lnTo>
                    <a:lnTo>
                      <a:pt x="334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915080" y="5580000"/>
                <a:ext cx="77760" cy="157320"/>
              </a:xfrm>
              <a:custGeom>
                <a:avLst/>
                <a:gdLst/>
                <a:ahLst/>
                <a:rect l="l" t="t" r="r" b="b"/>
                <a:pathLst>
                  <a:path w="289" h="590">
                    <a:moveTo>
                      <a:pt x="289" y="0"/>
                    </a:moveTo>
                    <a:lnTo>
                      <a:pt x="272" y="45"/>
                    </a:lnTo>
                    <a:lnTo>
                      <a:pt x="258" y="75"/>
                    </a:lnTo>
                    <a:lnTo>
                      <a:pt x="242" y="120"/>
                    </a:lnTo>
                    <a:lnTo>
                      <a:pt x="227" y="151"/>
                    </a:lnTo>
                    <a:lnTo>
                      <a:pt x="213" y="196"/>
                    </a:lnTo>
                    <a:lnTo>
                      <a:pt x="196" y="227"/>
                    </a:lnTo>
                    <a:lnTo>
                      <a:pt x="167" y="272"/>
                    </a:lnTo>
                    <a:lnTo>
                      <a:pt x="152" y="301"/>
                    </a:lnTo>
                    <a:lnTo>
                      <a:pt x="137" y="347"/>
                    </a:lnTo>
                    <a:lnTo>
                      <a:pt x="122" y="377"/>
                    </a:lnTo>
                    <a:lnTo>
                      <a:pt x="91" y="408"/>
                    </a:lnTo>
                    <a:lnTo>
                      <a:pt x="76" y="453"/>
                    </a:lnTo>
                    <a:lnTo>
                      <a:pt x="62" y="483"/>
                    </a:lnTo>
                    <a:lnTo>
                      <a:pt x="31" y="514"/>
                    </a:lnTo>
                    <a:lnTo>
                      <a:pt x="15" y="559"/>
                    </a:lnTo>
                    <a:lnTo>
                      <a:pt x="0" y="5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903920" y="5511960"/>
                <a:ext cx="31680" cy="225360"/>
              </a:xfrm>
              <a:custGeom>
                <a:avLst/>
                <a:gdLst/>
                <a:ahLst/>
                <a:rect l="l" t="t" r="r" b="b"/>
                <a:pathLst>
                  <a:path w="121" h="848">
                    <a:moveTo>
                      <a:pt x="45" y="848"/>
                    </a:moveTo>
                    <a:lnTo>
                      <a:pt x="31" y="803"/>
                    </a:lnTo>
                    <a:lnTo>
                      <a:pt x="16" y="741"/>
                    </a:lnTo>
                    <a:lnTo>
                      <a:pt x="0" y="696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30"/>
                    </a:lnTo>
                    <a:lnTo>
                      <a:pt x="0" y="485"/>
                    </a:lnTo>
                    <a:lnTo>
                      <a:pt x="16" y="423"/>
                    </a:lnTo>
                    <a:lnTo>
                      <a:pt x="16" y="363"/>
                    </a:lnTo>
                    <a:lnTo>
                      <a:pt x="31" y="318"/>
                    </a:lnTo>
                    <a:lnTo>
                      <a:pt x="45" y="258"/>
                    </a:lnTo>
                    <a:lnTo>
                      <a:pt x="60" y="213"/>
                    </a:lnTo>
                    <a:lnTo>
                      <a:pt x="76" y="151"/>
                    </a:lnTo>
                    <a:lnTo>
                      <a:pt x="91" y="106"/>
                    </a:lnTo>
                    <a:lnTo>
                      <a:pt x="107" y="62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V="1">
                <a:off x="4935600" y="5459400"/>
                <a:ext cx="15840" cy="525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951440" y="545940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66" h="454">
                    <a:moveTo>
                      <a:pt x="0" y="0"/>
                    </a:moveTo>
                    <a:lnTo>
                      <a:pt x="15" y="31"/>
                    </a:lnTo>
                    <a:lnTo>
                      <a:pt x="30" y="59"/>
                    </a:lnTo>
                    <a:lnTo>
                      <a:pt x="45" y="90"/>
                    </a:lnTo>
                    <a:lnTo>
                      <a:pt x="59" y="106"/>
                    </a:lnTo>
                    <a:lnTo>
                      <a:pt x="76" y="135"/>
                    </a:lnTo>
                    <a:lnTo>
                      <a:pt x="90" y="165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5" y="241"/>
                    </a:lnTo>
                    <a:lnTo>
                      <a:pt x="152" y="272"/>
                    </a:lnTo>
                    <a:lnTo>
                      <a:pt x="166" y="302"/>
                    </a:lnTo>
                    <a:lnTo>
                      <a:pt x="166" y="332"/>
                    </a:lnTo>
                    <a:lnTo>
                      <a:pt x="166" y="363"/>
                    </a:lnTo>
                    <a:lnTo>
                      <a:pt x="166" y="392"/>
                    </a:lnTo>
                    <a:lnTo>
                      <a:pt x="166" y="423"/>
                    </a:lnTo>
                    <a:lnTo>
                      <a:pt x="152" y="4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471920" y="3521160"/>
                <a:ext cx="22320" cy="287280"/>
              </a:xfrm>
              <a:custGeom>
                <a:avLst/>
                <a:gdLst/>
                <a:ahLst/>
                <a:rect l="l" t="t" r="r" b="b"/>
                <a:pathLst>
                  <a:path w="85" h="1085">
                    <a:moveTo>
                      <a:pt x="0" y="0"/>
                    </a:moveTo>
                    <a:lnTo>
                      <a:pt x="0" y="68"/>
                    </a:lnTo>
                    <a:lnTo>
                      <a:pt x="18" y="136"/>
                    </a:lnTo>
                    <a:lnTo>
                      <a:pt x="35" y="202"/>
                    </a:lnTo>
                    <a:lnTo>
                      <a:pt x="35" y="271"/>
                    </a:lnTo>
                    <a:lnTo>
                      <a:pt x="35" y="339"/>
                    </a:lnTo>
                    <a:lnTo>
                      <a:pt x="52" y="406"/>
                    </a:lnTo>
                    <a:lnTo>
                      <a:pt x="52" y="474"/>
                    </a:lnTo>
                    <a:lnTo>
                      <a:pt x="69" y="543"/>
                    </a:lnTo>
                    <a:lnTo>
                      <a:pt x="69" y="610"/>
                    </a:lnTo>
                    <a:lnTo>
                      <a:pt x="69" y="678"/>
                    </a:lnTo>
                    <a:lnTo>
                      <a:pt x="69" y="746"/>
                    </a:lnTo>
                    <a:lnTo>
                      <a:pt x="85" y="813"/>
                    </a:lnTo>
                    <a:lnTo>
                      <a:pt x="85" y="882"/>
                    </a:lnTo>
                    <a:lnTo>
                      <a:pt x="85" y="949"/>
                    </a:lnTo>
                    <a:lnTo>
                      <a:pt x="85" y="1017"/>
                    </a:lnTo>
                    <a:lnTo>
                      <a:pt x="85" y="1085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471920" y="3808440"/>
                <a:ext cx="22320" cy="218880"/>
              </a:xfrm>
              <a:custGeom>
                <a:avLst/>
                <a:gdLst/>
                <a:ahLst/>
                <a:rect l="l" t="t" r="r" b="b"/>
                <a:pathLst>
                  <a:path w="85" h="830">
                    <a:moveTo>
                      <a:pt x="85" y="0"/>
                    </a:moveTo>
                    <a:lnTo>
                      <a:pt x="85" y="51"/>
                    </a:lnTo>
                    <a:lnTo>
                      <a:pt x="85" y="119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85" y="271"/>
                    </a:lnTo>
                    <a:lnTo>
                      <a:pt x="85" y="322"/>
                    </a:lnTo>
                    <a:lnTo>
                      <a:pt x="85" y="373"/>
                    </a:lnTo>
                    <a:lnTo>
                      <a:pt x="85" y="423"/>
                    </a:lnTo>
                    <a:lnTo>
                      <a:pt x="85" y="474"/>
                    </a:lnTo>
                    <a:lnTo>
                      <a:pt x="85" y="526"/>
                    </a:lnTo>
                    <a:lnTo>
                      <a:pt x="69" y="576"/>
                    </a:lnTo>
                    <a:lnTo>
                      <a:pt x="69" y="642"/>
                    </a:lnTo>
                    <a:lnTo>
                      <a:pt x="52" y="677"/>
                    </a:lnTo>
                    <a:lnTo>
                      <a:pt x="35" y="729"/>
                    </a:lnTo>
                    <a:lnTo>
                      <a:pt x="35" y="780"/>
                    </a:lnTo>
                    <a:lnTo>
                      <a:pt x="0" y="83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319640" y="4027320"/>
                <a:ext cx="152280" cy="412920"/>
              </a:xfrm>
              <a:custGeom>
                <a:avLst/>
                <a:gdLst/>
                <a:ahLst/>
                <a:rect l="l" t="t" r="r" b="b"/>
                <a:pathLst>
                  <a:path w="576" h="1560">
                    <a:moveTo>
                      <a:pt x="576" y="0"/>
                    </a:moveTo>
                    <a:lnTo>
                      <a:pt x="560" y="101"/>
                    </a:lnTo>
                    <a:lnTo>
                      <a:pt x="527" y="203"/>
                    </a:lnTo>
                    <a:lnTo>
                      <a:pt x="492" y="304"/>
                    </a:lnTo>
                    <a:lnTo>
                      <a:pt x="475" y="390"/>
                    </a:lnTo>
                    <a:lnTo>
                      <a:pt x="441" y="492"/>
                    </a:lnTo>
                    <a:lnTo>
                      <a:pt x="408" y="593"/>
                    </a:lnTo>
                    <a:lnTo>
                      <a:pt x="373" y="695"/>
                    </a:lnTo>
                    <a:lnTo>
                      <a:pt x="339" y="779"/>
                    </a:lnTo>
                    <a:lnTo>
                      <a:pt x="289" y="880"/>
                    </a:lnTo>
                    <a:lnTo>
                      <a:pt x="255" y="984"/>
                    </a:lnTo>
                    <a:lnTo>
                      <a:pt x="221" y="1085"/>
                    </a:lnTo>
                    <a:lnTo>
                      <a:pt x="169" y="1169"/>
                    </a:lnTo>
                    <a:lnTo>
                      <a:pt x="136" y="1271"/>
                    </a:lnTo>
                    <a:lnTo>
                      <a:pt x="102" y="1357"/>
                    </a:lnTo>
                    <a:lnTo>
                      <a:pt x="50" y="1458"/>
                    </a:lnTo>
                    <a:lnTo>
                      <a:pt x="0" y="156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62320" y="4440240"/>
                <a:ext cx="157320" cy="255600"/>
              </a:xfrm>
              <a:custGeom>
                <a:avLst/>
                <a:gdLst/>
                <a:ahLst/>
                <a:rect l="l" t="t" r="r" b="b"/>
                <a:pathLst>
                  <a:path w="592" h="966">
                    <a:moveTo>
                      <a:pt x="592" y="0"/>
                    </a:moveTo>
                    <a:lnTo>
                      <a:pt x="558" y="50"/>
                    </a:lnTo>
                    <a:lnTo>
                      <a:pt x="526" y="119"/>
                    </a:lnTo>
                    <a:lnTo>
                      <a:pt x="491" y="169"/>
                    </a:lnTo>
                    <a:lnTo>
                      <a:pt x="457" y="238"/>
                    </a:lnTo>
                    <a:lnTo>
                      <a:pt x="422" y="304"/>
                    </a:lnTo>
                    <a:lnTo>
                      <a:pt x="389" y="355"/>
                    </a:lnTo>
                    <a:lnTo>
                      <a:pt x="355" y="423"/>
                    </a:lnTo>
                    <a:lnTo>
                      <a:pt x="321" y="492"/>
                    </a:lnTo>
                    <a:lnTo>
                      <a:pt x="288" y="542"/>
                    </a:lnTo>
                    <a:lnTo>
                      <a:pt x="237" y="611"/>
                    </a:lnTo>
                    <a:lnTo>
                      <a:pt x="203" y="661"/>
                    </a:lnTo>
                    <a:lnTo>
                      <a:pt x="169" y="729"/>
                    </a:lnTo>
                    <a:lnTo>
                      <a:pt x="135" y="779"/>
                    </a:lnTo>
                    <a:lnTo>
                      <a:pt x="101" y="847"/>
                    </a:lnTo>
                    <a:lnTo>
                      <a:pt x="51" y="898"/>
                    </a:lnTo>
                    <a:lnTo>
                      <a:pt x="0" y="96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087800" y="469584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288" h="424">
                    <a:moveTo>
                      <a:pt x="288" y="0"/>
                    </a:moveTo>
                    <a:lnTo>
                      <a:pt x="288" y="18"/>
                    </a:lnTo>
                    <a:lnTo>
                      <a:pt x="270" y="51"/>
                    </a:lnTo>
                    <a:lnTo>
                      <a:pt x="253" y="84"/>
                    </a:lnTo>
                    <a:lnTo>
                      <a:pt x="238" y="102"/>
                    </a:lnTo>
                    <a:lnTo>
                      <a:pt x="220" y="136"/>
                    </a:lnTo>
                    <a:lnTo>
                      <a:pt x="203" y="152"/>
                    </a:lnTo>
                    <a:lnTo>
                      <a:pt x="185" y="186"/>
                    </a:lnTo>
                    <a:lnTo>
                      <a:pt x="152" y="221"/>
                    </a:lnTo>
                    <a:lnTo>
                      <a:pt x="134" y="237"/>
                    </a:lnTo>
                    <a:lnTo>
                      <a:pt x="119" y="271"/>
                    </a:lnTo>
                    <a:lnTo>
                      <a:pt x="101" y="287"/>
                    </a:lnTo>
                    <a:lnTo>
                      <a:pt x="67" y="322"/>
                    </a:lnTo>
                    <a:lnTo>
                      <a:pt x="50" y="340"/>
                    </a:lnTo>
                    <a:lnTo>
                      <a:pt x="33" y="372"/>
                    </a:lnTo>
                    <a:lnTo>
                      <a:pt x="16" y="406"/>
                    </a:lnTo>
                    <a:lnTo>
                      <a:pt x="0" y="424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378320" y="3494160"/>
                <a:ext cx="98280" cy="739800"/>
              </a:xfrm>
              <a:custGeom>
                <a:avLst/>
                <a:gdLst/>
                <a:ahLst/>
                <a:rect l="l" t="t" r="r" b="b"/>
                <a:pathLst>
                  <a:path w="373" h="2796">
                    <a:moveTo>
                      <a:pt x="237" y="0"/>
                    </a:moveTo>
                    <a:lnTo>
                      <a:pt x="271" y="170"/>
                    </a:lnTo>
                    <a:lnTo>
                      <a:pt x="289" y="356"/>
                    </a:lnTo>
                    <a:lnTo>
                      <a:pt x="321" y="526"/>
                    </a:lnTo>
                    <a:lnTo>
                      <a:pt x="339" y="712"/>
                    </a:lnTo>
                    <a:lnTo>
                      <a:pt x="355" y="880"/>
                    </a:lnTo>
                    <a:lnTo>
                      <a:pt x="355" y="1068"/>
                    </a:lnTo>
                    <a:lnTo>
                      <a:pt x="373" y="1238"/>
                    </a:lnTo>
                    <a:lnTo>
                      <a:pt x="355" y="1424"/>
                    </a:lnTo>
                    <a:lnTo>
                      <a:pt x="355" y="1594"/>
                    </a:lnTo>
                    <a:lnTo>
                      <a:pt x="339" y="1763"/>
                    </a:lnTo>
                    <a:lnTo>
                      <a:pt x="306" y="1948"/>
                    </a:lnTo>
                    <a:lnTo>
                      <a:pt x="271" y="2118"/>
                    </a:lnTo>
                    <a:lnTo>
                      <a:pt x="220" y="2289"/>
                    </a:lnTo>
                    <a:lnTo>
                      <a:pt x="152" y="2458"/>
                    </a:lnTo>
                    <a:lnTo>
                      <a:pt x="86" y="2628"/>
                    </a:lnTo>
                    <a:lnTo>
                      <a:pt x="0" y="279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10120" y="4233960"/>
                <a:ext cx="268200" cy="520560"/>
              </a:xfrm>
              <a:custGeom>
                <a:avLst/>
                <a:gdLst/>
                <a:ahLst/>
                <a:rect l="l" t="t" r="r" b="b"/>
                <a:pathLst>
                  <a:path w="1017" h="1968">
                    <a:moveTo>
                      <a:pt x="1017" y="0"/>
                    </a:moveTo>
                    <a:lnTo>
                      <a:pt x="965" y="120"/>
                    </a:lnTo>
                    <a:lnTo>
                      <a:pt x="915" y="255"/>
                    </a:lnTo>
                    <a:lnTo>
                      <a:pt x="846" y="374"/>
                    </a:lnTo>
                    <a:lnTo>
                      <a:pt x="796" y="492"/>
                    </a:lnTo>
                    <a:lnTo>
                      <a:pt x="730" y="628"/>
                    </a:lnTo>
                    <a:lnTo>
                      <a:pt x="661" y="747"/>
                    </a:lnTo>
                    <a:lnTo>
                      <a:pt x="593" y="865"/>
                    </a:lnTo>
                    <a:lnTo>
                      <a:pt x="525" y="984"/>
                    </a:lnTo>
                    <a:lnTo>
                      <a:pt x="458" y="1120"/>
                    </a:lnTo>
                    <a:lnTo>
                      <a:pt x="389" y="1238"/>
                    </a:lnTo>
                    <a:lnTo>
                      <a:pt x="322" y="1357"/>
                    </a:lnTo>
                    <a:lnTo>
                      <a:pt x="255" y="1476"/>
                    </a:lnTo>
                    <a:lnTo>
                      <a:pt x="186" y="1595"/>
                    </a:lnTo>
                    <a:lnTo>
                      <a:pt x="119" y="1730"/>
                    </a:lnTo>
                    <a:lnTo>
                      <a:pt x="50" y="1849"/>
                    </a:lnTo>
                    <a:lnTo>
                      <a:pt x="0" y="1968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3948120" y="3041640"/>
                <a:ext cx="604800" cy="2901960"/>
              </a:xfrm>
              <a:custGeom>
                <a:avLst/>
                <a:gdLst/>
                <a:ahLst/>
                <a:rect l="l" t="t" r="r" b="b"/>
                <a:pathLst>
                  <a:path w="2289" h="10967">
                    <a:moveTo>
                      <a:pt x="1779" y="304"/>
                    </a:moveTo>
                    <a:lnTo>
                      <a:pt x="1797" y="339"/>
                    </a:lnTo>
                    <a:lnTo>
                      <a:pt x="1797" y="355"/>
                    </a:lnTo>
                    <a:lnTo>
                      <a:pt x="1814" y="389"/>
                    </a:lnTo>
                    <a:lnTo>
                      <a:pt x="1814" y="405"/>
                    </a:lnTo>
                    <a:lnTo>
                      <a:pt x="1829" y="440"/>
                    </a:lnTo>
                    <a:lnTo>
                      <a:pt x="1829" y="474"/>
                    </a:lnTo>
                    <a:lnTo>
                      <a:pt x="1829" y="490"/>
                    </a:lnTo>
                    <a:lnTo>
                      <a:pt x="1847" y="524"/>
                    </a:lnTo>
                    <a:lnTo>
                      <a:pt x="1847" y="559"/>
                    </a:lnTo>
                    <a:lnTo>
                      <a:pt x="1847" y="576"/>
                    </a:lnTo>
                    <a:lnTo>
                      <a:pt x="1847" y="608"/>
                    </a:lnTo>
                    <a:lnTo>
                      <a:pt x="1847" y="643"/>
                    </a:lnTo>
                    <a:lnTo>
                      <a:pt x="1829" y="661"/>
                    </a:lnTo>
                    <a:lnTo>
                      <a:pt x="1829" y="694"/>
                    </a:lnTo>
                    <a:lnTo>
                      <a:pt x="1829" y="712"/>
                    </a:lnTo>
                    <a:lnTo>
                      <a:pt x="1814" y="745"/>
                    </a:lnTo>
                    <a:lnTo>
                      <a:pt x="1814" y="762"/>
                    </a:lnTo>
                    <a:lnTo>
                      <a:pt x="1797" y="796"/>
                    </a:lnTo>
                    <a:lnTo>
                      <a:pt x="1779" y="831"/>
                    </a:lnTo>
                    <a:lnTo>
                      <a:pt x="1763" y="846"/>
                    </a:lnTo>
                    <a:lnTo>
                      <a:pt x="1763" y="864"/>
                    </a:lnTo>
                    <a:lnTo>
                      <a:pt x="1745" y="897"/>
                    </a:lnTo>
                    <a:lnTo>
                      <a:pt x="1713" y="915"/>
                    </a:lnTo>
                    <a:lnTo>
                      <a:pt x="1695" y="932"/>
                    </a:lnTo>
                    <a:lnTo>
                      <a:pt x="1678" y="965"/>
                    </a:lnTo>
                    <a:lnTo>
                      <a:pt x="1644" y="981"/>
                    </a:lnTo>
                    <a:lnTo>
                      <a:pt x="1627" y="999"/>
                    </a:lnTo>
                    <a:lnTo>
                      <a:pt x="1609" y="1016"/>
                    </a:lnTo>
                    <a:lnTo>
                      <a:pt x="1575" y="1016"/>
                    </a:lnTo>
                    <a:lnTo>
                      <a:pt x="1542" y="1034"/>
                    </a:lnTo>
                    <a:lnTo>
                      <a:pt x="1525" y="1034"/>
                    </a:lnTo>
                    <a:lnTo>
                      <a:pt x="1491" y="1050"/>
                    </a:lnTo>
                    <a:lnTo>
                      <a:pt x="1475" y="1050"/>
                    </a:lnTo>
                    <a:lnTo>
                      <a:pt x="1456" y="1050"/>
                    </a:lnTo>
                    <a:lnTo>
                      <a:pt x="1441" y="1050"/>
                    </a:lnTo>
                    <a:lnTo>
                      <a:pt x="1424" y="1050"/>
                    </a:lnTo>
                    <a:lnTo>
                      <a:pt x="1406" y="1050"/>
                    </a:lnTo>
                    <a:lnTo>
                      <a:pt x="1390" y="1050"/>
                    </a:lnTo>
                    <a:lnTo>
                      <a:pt x="1372" y="1050"/>
                    </a:lnTo>
                    <a:lnTo>
                      <a:pt x="1355" y="1050"/>
                    </a:lnTo>
                    <a:lnTo>
                      <a:pt x="1340" y="1050"/>
                    </a:lnTo>
                    <a:lnTo>
                      <a:pt x="1322" y="1066"/>
                    </a:lnTo>
                    <a:lnTo>
                      <a:pt x="1322" y="1084"/>
                    </a:lnTo>
                    <a:lnTo>
                      <a:pt x="1322" y="1100"/>
                    </a:lnTo>
                    <a:lnTo>
                      <a:pt x="1322" y="1118"/>
                    </a:lnTo>
                    <a:lnTo>
                      <a:pt x="1322" y="1135"/>
                    </a:lnTo>
                    <a:lnTo>
                      <a:pt x="1322" y="1151"/>
                    </a:lnTo>
                    <a:lnTo>
                      <a:pt x="1322" y="1169"/>
                    </a:lnTo>
                    <a:lnTo>
                      <a:pt x="1340" y="1185"/>
                    </a:lnTo>
                    <a:lnTo>
                      <a:pt x="1340" y="1204"/>
                    </a:lnTo>
                    <a:lnTo>
                      <a:pt x="1340" y="1219"/>
                    </a:lnTo>
                    <a:lnTo>
                      <a:pt x="1355" y="1219"/>
                    </a:lnTo>
                    <a:lnTo>
                      <a:pt x="1355" y="1237"/>
                    </a:lnTo>
                    <a:lnTo>
                      <a:pt x="1355" y="1254"/>
                    </a:lnTo>
                    <a:lnTo>
                      <a:pt x="1372" y="1254"/>
                    </a:lnTo>
                    <a:lnTo>
                      <a:pt x="1406" y="1254"/>
                    </a:lnTo>
                    <a:lnTo>
                      <a:pt x="1424" y="1254"/>
                    </a:lnTo>
                    <a:lnTo>
                      <a:pt x="1441" y="1254"/>
                    </a:lnTo>
                    <a:lnTo>
                      <a:pt x="1456" y="1254"/>
                    </a:lnTo>
                    <a:lnTo>
                      <a:pt x="1475" y="1254"/>
                    </a:lnTo>
                    <a:lnTo>
                      <a:pt x="1491" y="1254"/>
                    </a:lnTo>
                    <a:lnTo>
                      <a:pt x="1508" y="1270"/>
                    </a:lnTo>
                    <a:lnTo>
                      <a:pt x="1525" y="1270"/>
                    </a:lnTo>
                    <a:lnTo>
                      <a:pt x="1542" y="1270"/>
                    </a:lnTo>
                    <a:lnTo>
                      <a:pt x="1560" y="1288"/>
                    </a:lnTo>
                    <a:lnTo>
                      <a:pt x="1575" y="1288"/>
                    </a:lnTo>
                    <a:lnTo>
                      <a:pt x="1594" y="1288"/>
                    </a:lnTo>
                    <a:lnTo>
                      <a:pt x="1609" y="1305"/>
                    </a:lnTo>
                    <a:lnTo>
                      <a:pt x="1627" y="1305"/>
                    </a:lnTo>
                    <a:lnTo>
                      <a:pt x="1644" y="1322"/>
                    </a:lnTo>
                    <a:lnTo>
                      <a:pt x="1678" y="1322"/>
                    </a:lnTo>
                    <a:lnTo>
                      <a:pt x="1695" y="1338"/>
                    </a:lnTo>
                    <a:lnTo>
                      <a:pt x="1728" y="1355"/>
                    </a:lnTo>
                    <a:lnTo>
                      <a:pt x="1745" y="1372"/>
                    </a:lnTo>
                    <a:lnTo>
                      <a:pt x="1763" y="1389"/>
                    </a:lnTo>
                    <a:lnTo>
                      <a:pt x="1779" y="1407"/>
                    </a:lnTo>
                    <a:lnTo>
                      <a:pt x="1797" y="1439"/>
                    </a:lnTo>
                    <a:lnTo>
                      <a:pt x="1814" y="1457"/>
                    </a:lnTo>
                    <a:lnTo>
                      <a:pt x="1829" y="1473"/>
                    </a:lnTo>
                    <a:lnTo>
                      <a:pt x="1847" y="1508"/>
                    </a:lnTo>
                    <a:lnTo>
                      <a:pt x="1864" y="1526"/>
                    </a:lnTo>
                    <a:lnTo>
                      <a:pt x="1864" y="1558"/>
                    </a:lnTo>
                    <a:lnTo>
                      <a:pt x="1881" y="1575"/>
                    </a:lnTo>
                    <a:lnTo>
                      <a:pt x="1898" y="1592"/>
                    </a:lnTo>
                    <a:lnTo>
                      <a:pt x="1916" y="1627"/>
                    </a:lnTo>
                    <a:lnTo>
                      <a:pt x="1916" y="1643"/>
                    </a:lnTo>
                    <a:lnTo>
                      <a:pt x="1933" y="1676"/>
                    </a:lnTo>
                    <a:lnTo>
                      <a:pt x="1933" y="1711"/>
                    </a:lnTo>
                    <a:lnTo>
                      <a:pt x="1948" y="1728"/>
                    </a:lnTo>
                    <a:lnTo>
                      <a:pt x="1948" y="1762"/>
                    </a:lnTo>
                    <a:lnTo>
                      <a:pt x="1966" y="1795"/>
                    </a:lnTo>
                    <a:lnTo>
                      <a:pt x="1966" y="1813"/>
                    </a:lnTo>
                    <a:lnTo>
                      <a:pt x="1982" y="1846"/>
                    </a:lnTo>
                    <a:lnTo>
                      <a:pt x="1982" y="1881"/>
                    </a:lnTo>
                    <a:lnTo>
                      <a:pt x="2000" y="1899"/>
                    </a:lnTo>
                    <a:lnTo>
                      <a:pt x="2000" y="1931"/>
                    </a:lnTo>
                    <a:lnTo>
                      <a:pt x="2017" y="1965"/>
                    </a:lnTo>
                    <a:lnTo>
                      <a:pt x="2017" y="1983"/>
                    </a:lnTo>
                    <a:lnTo>
                      <a:pt x="2017" y="2015"/>
                    </a:lnTo>
                    <a:lnTo>
                      <a:pt x="2034" y="2049"/>
                    </a:lnTo>
                    <a:lnTo>
                      <a:pt x="2034" y="2067"/>
                    </a:lnTo>
                    <a:lnTo>
                      <a:pt x="2034" y="2102"/>
                    </a:lnTo>
                    <a:lnTo>
                      <a:pt x="2051" y="2152"/>
                    </a:lnTo>
                    <a:lnTo>
                      <a:pt x="2051" y="2203"/>
                    </a:lnTo>
                    <a:lnTo>
                      <a:pt x="2067" y="2253"/>
                    </a:lnTo>
                    <a:lnTo>
                      <a:pt x="2067" y="2304"/>
                    </a:lnTo>
                    <a:lnTo>
                      <a:pt x="2085" y="2356"/>
                    </a:lnTo>
                    <a:lnTo>
                      <a:pt x="2085" y="2406"/>
                    </a:lnTo>
                    <a:lnTo>
                      <a:pt x="2101" y="2457"/>
                    </a:lnTo>
                    <a:lnTo>
                      <a:pt x="2118" y="2507"/>
                    </a:lnTo>
                    <a:lnTo>
                      <a:pt x="2136" y="2559"/>
                    </a:lnTo>
                    <a:lnTo>
                      <a:pt x="2136" y="2610"/>
                    </a:lnTo>
                    <a:lnTo>
                      <a:pt x="2152" y="2660"/>
                    </a:lnTo>
                    <a:lnTo>
                      <a:pt x="2152" y="2711"/>
                    </a:lnTo>
                    <a:lnTo>
                      <a:pt x="2170" y="2762"/>
                    </a:lnTo>
                    <a:lnTo>
                      <a:pt x="2170" y="2830"/>
                    </a:lnTo>
                    <a:lnTo>
                      <a:pt x="2186" y="2880"/>
                    </a:lnTo>
                    <a:lnTo>
                      <a:pt x="2186" y="2932"/>
                    </a:lnTo>
                    <a:lnTo>
                      <a:pt x="2170" y="2949"/>
                    </a:lnTo>
                    <a:lnTo>
                      <a:pt x="2186" y="2967"/>
                    </a:lnTo>
                    <a:lnTo>
                      <a:pt x="2186" y="2982"/>
                    </a:lnTo>
                    <a:lnTo>
                      <a:pt x="2186" y="2999"/>
                    </a:lnTo>
                    <a:lnTo>
                      <a:pt x="2203" y="3017"/>
                    </a:lnTo>
                    <a:lnTo>
                      <a:pt x="2203" y="3033"/>
                    </a:lnTo>
                    <a:lnTo>
                      <a:pt x="2203" y="3051"/>
                    </a:lnTo>
                    <a:lnTo>
                      <a:pt x="2203" y="3068"/>
                    </a:lnTo>
                    <a:lnTo>
                      <a:pt x="2220" y="3083"/>
                    </a:lnTo>
                    <a:lnTo>
                      <a:pt x="2220" y="3101"/>
                    </a:lnTo>
                    <a:lnTo>
                      <a:pt x="2220" y="3118"/>
                    </a:lnTo>
                    <a:lnTo>
                      <a:pt x="2220" y="3135"/>
                    </a:lnTo>
                    <a:lnTo>
                      <a:pt x="2220" y="3152"/>
                    </a:lnTo>
                    <a:lnTo>
                      <a:pt x="2220" y="3169"/>
                    </a:lnTo>
                    <a:lnTo>
                      <a:pt x="2220" y="3186"/>
                    </a:lnTo>
                    <a:lnTo>
                      <a:pt x="2237" y="3220"/>
                    </a:lnTo>
                    <a:lnTo>
                      <a:pt x="2237" y="3236"/>
                    </a:lnTo>
                    <a:lnTo>
                      <a:pt x="2237" y="3287"/>
                    </a:lnTo>
                    <a:lnTo>
                      <a:pt x="2237" y="3340"/>
                    </a:lnTo>
                    <a:lnTo>
                      <a:pt x="2254" y="3406"/>
                    </a:lnTo>
                    <a:lnTo>
                      <a:pt x="2254" y="3456"/>
                    </a:lnTo>
                    <a:lnTo>
                      <a:pt x="2254" y="3525"/>
                    </a:lnTo>
                    <a:lnTo>
                      <a:pt x="2254" y="3575"/>
                    </a:lnTo>
                    <a:lnTo>
                      <a:pt x="2271" y="3644"/>
                    </a:lnTo>
                    <a:lnTo>
                      <a:pt x="2271" y="3694"/>
                    </a:lnTo>
                    <a:lnTo>
                      <a:pt x="2271" y="3763"/>
                    </a:lnTo>
                    <a:lnTo>
                      <a:pt x="2271" y="3812"/>
                    </a:lnTo>
                    <a:lnTo>
                      <a:pt x="2271" y="3881"/>
                    </a:lnTo>
                    <a:lnTo>
                      <a:pt x="2271" y="3931"/>
                    </a:lnTo>
                    <a:lnTo>
                      <a:pt x="2289" y="3982"/>
                    </a:lnTo>
                    <a:lnTo>
                      <a:pt x="2289" y="4050"/>
                    </a:lnTo>
                    <a:lnTo>
                      <a:pt x="2289" y="4101"/>
                    </a:lnTo>
                    <a:lnTo>
                      <a:pt x="2289" y="4169"/>
                    </a:lnTo>
                    <a:lnTo>
                      <a:pt x="2289" y="4203"/>
                    </a:lnTo>
                    <a:lnTo>
                      <a:pt x="2289" y="4254"/>
                    </a:lnTo>
                    <a:lnTo>
                      <a:pt x="2289" y="4304"/>
                    </a:lnTo>
                    <a:lnTo>
                      <a:pt x="2289" y="4339"/>
                    </a:lnTo>
                    <a:lnTo>
                      <a:pt x="2289" y="4389"/>
                    </a:lnTo>
                    <a:lnTo>
                      <a:pt x="2289" y="4440"/>
                    </a:lnTo>
                    <a:lnTo>
                      <a:pt x="2289" y="4474"/>
                    </a:lnTo>
                    <a:lnTo>
                      <a:pt x="2289" y="4524"/>
                    </a:lnTo>
                    <a:lnTo>
                      <a:pt x="2289" y="4576"/>
                    </a:lnTo>
                    <a:lnTo>
                      <a:pt x="2271" y="4608"/>
                    </a:lnTo>
                    <a:lnTo>
                      <a:pt x="2271" y="4661"/>
                    </a:lnTo>
                    <a:lnTo>
                      <a:pt x="2271" y="4694"/>
                    </a:lnTo>
                    <a:lnTo>
                      <a:pt x="2271" y="4746"/>
                    </a:lnTo>
                    <a:lnTo>
                      <a:pt x="2254" y="4780"/>
                    </a:lnTo>
                    <a:lnTo>
                      <a:pt x="2254" y="4831"/>
                    </a:lnTo>
                    <a:lnTo>
                      <a:pt x="2237" y="4865"/>
                    </a:lnTo>
                    <a:lnTo>
                      <a:pt x="2220" y="4949"/>
                    </a:lnTo>
                    <a:lnTo>
                      <a:pt x="2203" y="5034"/>
                    </a:lnTo>
                    <a:lnTo>
                      <a:pt x="2186" y="5118"/>
                    </a:lnTo>
                    <a:lnTo>
                      <a:pt x="2170" y="5204"/>
                    </a:lnTo>
                    <a:lnTo>
                      <a:pt x="2152" y="5288"/>
                    </a:lnTo>
                    <a:lnTo>
                      <a:pt x="2136" y="5372"/>
                    </a:lnTo>
                    <a:lnTo>
                      <a:pt x="2118" y="5457"/>
                    </a:lnTo>
                    <a:lnTo>
                      <a:pt x="2085" y="5542"/>
                    </a:lnTo>
                    <a:lnTo>
                      <a:pt x="2067" y="5627"/>
                    </a:lnTo>
                    <a:lnTo>
                      <a:pt x="2051" y="5711"/>
                    </a:lnTo>
                    <a:lnTo>
                      <a:pt x="2034" y="5780"/>
                    </a:lnTo>
                    <a:lnTo>
                      <a:pt x="2000" y="5864"/>
                    </a:lnTo>
                    <a:lnTo>
                      <a:pt x="1982" y="5949"/>
                    </a:lnTo>
                    <a:lnTo>
                      <a:pt x="1948" y="6034"/>
                    </a:lnTo>
                    <a:lnTo>
                      <a:pt x="1933" y="6118"/>
                    </a:lnTo>
                    <a:lnTo>
                      <a:pt x="1898" y="6203"/>
                    </a:lnTo>
                    <a:lnTo>
                      <a:pt x="1881" y="6254"/>
                    </a:lnTo>
                    <a:lnTo>
                      <a:pt x="1864" y="6305"/>
                    </a:lnTo>
                    <a:lnTo>
                      <a:pt x="1829" y="6356"/>
                    </a:lnTo>
                    <a:lnTo>
                      <a:pt x="1814" y="6406"/>
                    </a:lnTo>
                    <a:lnTo>
                      <a:pt x="1797" y="6457"/>
                    </a:lnTo>
                    <a:lnTo>
                      <a:pt x="1779" y="6507"/>
                    </a:lnTo>
                    <a:lnTo>
                      <a:pt x="1763" y="6559"/>
                    </a:lnTo>
                    <a:lnTo>
                      <a:pt x="1745" y="6610"/>
                    </a:lnTo>
                    <a:lnTo>
                      <a:pt x="1713" y="6660"/>
                    </a:lnTo>
                    <a:lnTo>
                      <a:pt x="1695" y="6711"/>
                    </a:lnTo>
                    <a:lnTo>
                      <a:pt x="1678" y="6763"/>
                    </a:lnTo>
                    <a:lnTo>
                      <a:pt x="1661" y="6813"/>
                    </a:lnTo>
                    <a:lnTo>
                      <a:pt x="1627" y="6863"/>
                    </a:lnTo>
                    <a:lnTo>
                      <a:pt x="1609" y="6914"/>
                    </a:lnTo>
                    <a:lnTo>
                      <a:pt x="1594" y="6967"/>
                    </a:lnTo>
                    <a:lnTo>
                      <a:pt x="1560" y="7017"/>
                    </a:lnTo>
                    <a:lnTo>
                      <a:pt x="1560" y="7051"/>
                    </a:lnTo>
                    <a:lnTo>
                      <a:pt x="1542" y="7068"/>
                    </a:lnTo>
                    <a:lnTo>
                      <a:pt x="1542" y="7083"/>
                    </a:lnTo>
                    <a:lnTo>
                      <a:pt x="1525" y="7118"/>
                    </a:lnTo>
                    <a:lnTo>
                      <a:pt x="1525" y="7135"/>
                    </a:lnTo>
                    <a:lnTo>
                      <a:pt x="1508" y="7170"/>
                    </a:lnTo>
                    <a:lnTo>
                      <a:pt x="1491" y="7186"/>
                    </a:lnTo>
                    <a:lnTo>
                      <a:pt x="1491" y="7203"/>
                    </a:lnTo>
                    <a:lnTo>
                      <a:pt x="1475" y="7236"/>
                    </a:lnTo>
                    <a:lnTo>
                      <a:pt x="1456" y="7254"/>
                    </a:lnTo>
                    <a:lnTo>
                      <a:pt x="1441" y="7271"/>
                    </a:lnTo>
                    <a:lnTo>
                      <a:pt x="1441" y="7305"/>
                    </a:lnTo>
                    <a:lnTo>
                      <a:pt x="1424" y="7322"/>
                    </a:lnTo>
                    <a:lnTo>
                      <a:pt x="1406" y="7340"/>
                    </a:lnTo>
                    <a:lnTo>
                      <a:pt x="1390" y="7355"/>
                    </a:lnTo>
                    <a:lnTo>
                      <a:pt x="1390" y="7390"/>
                    </a:lnTo>
                    <a:lnTo>
                      <a:pt x="1305" y="7543"/>
                    </a:lnTo>
                    <a:lnTo>
                      <a:pt x="1221" y="7694"/>
                    </a:lnTo>
                    <a:lnTo>
                      <a:pt x="1135" y="7847"/>
                    </a:lnTo>
                    <a:lnTo>
                      <a:pt x="1051" y="8000"/>
                    </a:lnTo>
                    <a:lnTo>
                      <a:pt x="967" y="8151"/>
                    </a:lnTo>
                    <a:lnTo>
                      <a:pt x="949" y="8203"/>
                    </a:lnTo>
                    <a:lnTo>
                      <a:pt x="915" y="8237"/>
                    </a:lnTo>
                    <a:lnTo>
                      <a:pt x="880" y="8321"/>
                    </a:lnTo>
                    <a:lnTo>
                      <a:pt x="830" y="8408"/>
                    </a:lnTo>
                    <a:lnTo>
                      <a:pt x="796" y="8492"/>
                    </a:lnTo>
                    <a:lnTo>
                      <a:pt x="746" y="8576"/>
                    </a:lnTo>
                    <a:lnTo>
                      <a:pt x="711" y="8661"/>
                    </a:lnTo>
                    <a:lnTo>
                      <a:pt x="695" y="8695"/>
                    </a:lnTo>
                    <a:lnTo>
                      <a:pt x="645" y="8831"/>
                    </a:lnTo>
                    <a:lnTo>
                      <a:pt x="610" y="8966"/>
                    </a:lnTo>
                    <a:lnTo>
                      <a:pt x="576" y="9100"/>
                    </a:lnTo>
                    <a:lnTo>
                      <a:pt x="542" y="9238"/>
                    </a:lnTo>
                    <a:lnTo>
                      <a:pt x="542" y="9389"/>
                    </a:lnTo>
                    <a:lnTo>
                      <a:pt x="559" y="9441"/>
                    </a:lnTo>
                    <a:lnTo>
                      <a:pt x="559" y="9491"/>
                    </a:lnTo>
                    <a:lnTo>
                      <a:pt x="593" y="9542"/>
                    </a:lnTo>
                    <a:lnTo>
                      <a:pt x="610" y="9592"/>
                    </a:lnTo>
                    <a:lnTo>
                      <a:pt x="660" y="9644"/>
                    </a:lnTo>
                    <a:lnTo>
                      <a:pt x="695" y="9661"/>
                    </a:lnTo>
                    <a:lnTo>
                      <a:pt x="729" y="9678"/>
                    </a:lnTo>
                    <a:lnTo>
                      <a:pt x="880" y="9729"/>
                    </a:lnTo>
                    <a:lnTo>
                      <a:pt x="1033" y="9780"/>
                    </a:lnTo>
                    <a:lnTo>
                      <a:pt x="1187" y="9830"/>
                    </a:lnTo>
                    <a:lnTo>
                      <a:pt x="1355" y="9864"/>
                    </a:lnTo>
                    <a:lnTo>
                      <a:pt x="1525" y="9899"/>
                    </a:lnTo>
                    <a:lnTo>
                      <a:pt x="1575" y="9915"/>
                    </a:lnTo>
                    <a:lnTo>
                      <a:pt x="1609" y="9915"/>
                    </a:lnTo>
                    <a:lnTo>
                      <a:pt x="1627" y="9933"/>
                    </a:lnTo>
                    <a:lnTo>
                      <a:pt x="1661" y="9933"/>
                    </a:lnTo>
                    <a:lnTo>
                      <a:pt x="1678" y="9949"/>
                    </a:lnTo>
                    <a:lnTo>
                      <a:pt x="1713" y="9965"/>
                    </a:lnTo>
                    <a:lnTo>
                      <a:pt x="1713" y="9983"/>
                    </a:lnTo>
                    <a:lnTo>
                      <a:pt x="1728" y="10000"/>
                    </a:lnTo>
                    <a:lnTo>
                      <a:pt x="1713" y="10034"/>
                    </a:lnTo>
                    <a:lnTo>
                      <a:pt x="1695" y="10049"/>
                    </a:lnTo>
                    <a:lnTo>
                      <a:pt x="1678" y="10067"/>
                    </a:lnTo>
                    <a:lnTo>
                      <a:pt x="1661" y="10084"/>
                    </a:lnTo>
                    <a:lnTo>
                      <a:pt x="1644" y="10084"/>
                    </a:lnTo>
                    <a:lnTo>
                      <a:pt x="1424" y="10118"/>
                    </a:lnTo>
                    <a:lnTo>
                      <a:pt x="1221" y="10118"/>
                    </a:lnTo>
                    <a:lnTo>
                      <a:pt x="999" y="10118"/>
                    </a:lnTo>
                    <a:lnTo>
                      <a:pt x="796" y="10118"/>
                    </a:lnTo>
                    <a:lnTo>
                      <a:pt x="576" y="10102"/>
                    </a:lnTo>
                    <a:lnTo>
                      <a:pt x="492" y="10102"/>
                    </a:lnTo>
                    <a:lnTo>
                      <a:pt x="475" y="10118"/>
                    </a:lnTo>
                    <a:lnTo>
                      <a:pt x="492" y="10272"/>
                    </a:lnTo>
                    <a:lnTo>
                      <a:pt x="526" y="10423"/>
                    </a:lnTo>
                    <a:lnTo>
                      <a:pt x="542" y="10576"/>
                    </a:lnTo>
                    <a:lnTo>
                      <a:pt x="559" y="10711"/>
                    </a:lnTo>
                    <a:lnTo>
                      <a:pt x="576" y="10864"/>
                    </a:lnTo>
                    <a:lnTo>
                      <a:pt x="576" y="10914"/>
                    </a:lnTo>
                    <a:lnTo>
                      <a:pt x="559" y="10932"/>
                    </a:lnTo>
                    <a:lnTo>
                      <a:pt x="559" y="10949"/>
                    </a:lnTo>
                    <a:lnTo>
                      <a:pt x="542" y="10949"/>
                    </a:lnTo>
                    <a:lnTo>
                      <a:pt x="542" y="10967"/>
                    </a:lnTo>
                    <a:lnTo>
                      <a:pt x="507" y="10967"/>
                    </a:lnTo>
                    <a:lnTo>
                      <a:pt x="475" y="10967"/>
                    </a:lnTo>
                    <a:lnTo>
                      <a:pt x="441" y="10932"/>
                    </a:lnTo>
                    <a:lnTo>
                      <a:pt x="423" y="10914"/>
                    </a:lnTo>
                    <a:lnTo>
                      <a:pt x="407" y="10898"/>
                    </a:lnTo>
                    <a:lnTo>
                      <a:pt x="391" y="10882"/>
                    </a:lnTo>
                    <a:lnTo>
                      <a:pt x="203" y="10526"/>
                    </a:lnTo>
                    <a:lnTo>
                      <a:pt x="84" y="10135"/>
                    </a:lnTo>
                    <a:lnTo>
                      <a:pt x="16" y="9729"/>
                    </a:lnTo>
                    <a:lnTo>
                      <a:pt x="0" y="9322"/>
                    </a:lnTo>
                    <a:lnTo>
                      <a:pt x="34" y="8897"/>
                    </a:lnTo>
                    <a:lnTo>
                      <a:pt x="50" y="8762"/>
                    </a:lnTo>
                    <a:lnTo>
                      <a:pt x="135" y="8321"/>
                    </a:lnTo>
                    <a:lnTo>
                      <a:pt x="237" y="7898"/>
                    </a:lnTo>
                    <a:lnTo>
                      <a:pt x="356" y="7474"/>
                    </a:lnTo>
                    <a:lnTo>
                      <a:pt x="457" y="7051"/>
                    </a:lnTo>
                    <a:lnTo>
                      <a:pt x="542" y="6626"/>
                    </a:lnTo>
                    <a:lnTo>
                      <a:pt x="559" y="6475"/>
                    </a:lnTo>
                    <a:lnTo>
                      <a:pt x="593" y="6102"/>
                    </a:lnTo>
                    <a:lnTo>
                      <a:pt x="593" y="5729"/>
                    </a:lnTo>
                    <a:lnTo>
                      <a:pt x="559" y="5372"/>
                    </a:lnTo>
                    <a:lnTo>
                      <a:pt x="507" y="4999"/>
                    </a:lnTo>
                    <a:lnTo>
                      <a:pt x="475" y="4627"/>
                    </a:lnTo>
                    <a:lnTo>
                      <a:pt x="475" y="4507"/>
                    </a:lnTo>
                    <a:lnTo>
                      <a:pt x="475" y="4405"/>
                    </a:lnTo>
                    <a:lnTo>
                      <a:pt x="475" y="4304"/>
                    </a:lnTo>
                    <a:lnTo>
                      <a:pt x="457" y="4186"/>
                    </a:lnTo>
                    <a:lnTo>
                      <a:pt x="457" y="4085"/>
                    </a:lnTo>
                    <a:lnTo>
                      <a:pt x="457" y="3982"/>
                    </a:lnTo>
                    <a:lnTo>
                      <a:pt x="457" y="3931"/>
                    </a:lnTo>
                    <a:lnTo>
                      <a:pt x="457" y="3812"/>
                    </a:lnTo>
                    <a:lnTo>
                      <a:pt x="441" y="3712"/>
                    </a:lnTo>
                    <a:lnTo>
                      <a:pt x="423" y="3593"/>
                    </a:lnTo>
                    <a:lnTo>
                      <a:pt x="423" y="3474"/>
                    </a:lnTo>
                    <a:lnTo>
                      <a:pt x="423" y="3355"/>
                    </a:lnTo>
                    <a:lnTo>
                      <a:pt x="423" y="3321"/>
                    </a:lnTo>
                    <a:lnTo>
                      <a:pt x="423" y="3220"/>
                    </a:lnTo>
                    <a:lnTo>
                      <a:pt x="423" y="3118"/>
                    </a:lnTo>
                    <a:lnTo>
                      <a:pt x="423" y="3017"/>
                    </a:lnTo>
                    <a:lnTo>
                      <a:pt x="423" y="2914"/>
                    </a:lnTo>
                    <a:lnTo>
                      <a:pt x="407" y="2830"/>
                    </a:lnTo>
                    <a:lnTo>
                      <a:pt x="407" y="2796"/>
                    </a:lnTo>
                    <a:lnTo>
                      <a:pt x="441" y="2475"/>
                    </a:lnTo>
                    <a:lnTo>
                      <a:pt x="507" y="2168"/>
                    </a:lnTo>
                    <a:lnTo>
                      <a:pt x="610" y="1864"/>
                    </a:lnTo>
                    <a:lnTo>
                      <a:pt x="764" y="1610"/>
                    </a:lnTo>
                    <a:lnTo>
                      <a:pt x="1017" y="1389"/>
                    </a:lnTo>
                    <a:lnTo>
                      <a:pt x="1118" y="1338"/>
                    </a:lnTo>
                    <a:lnTo>
                      <a:pt x="1152" y="1322"/>
                    </a:lnTo>
                    <a:lnTo>
                      <a:pt x="1187" y="1305"/>
                    </a:lnTo>
                    <a:lnTo>
                      <a:pt x="1221" y="1288"/>
                    </a:lnTo>
                    <a:lnTo>
                      <a:pt x="1253" y="1288"/>
                    </a:lnTo>
                    <a:lnTo>
                      <a:pt x="1288" y="1270"/>
                    </a:lnTo>
                    <a:lnTo>
                      <a:pt x="1305" y="1270"/>
                    </a:lnTo>
                    <a:lnTo>
                      <a:pt x="1288" y="1185"/>
                    </a:lnTo>
                    <a:lnTo>
                      <a:pt x="1253" y="1118"/>
                    </a:lnTo>
                    <a:lnTo>
                      <a:pt x="1221" y="1050"/>
                    </a:lnTo>
                    <a:lnTo>
                      <a:pt x="1187" y="999"/>
                    </a:lnTo>
                    <a:lnTo>
                      <a:pt x="1118" y="949"/>
                    </a:lnTo>
                    <a:lnTo>
                      <a:pt x="1084" y="949"/>
                    </a:lnTo>
                    <a:lnTo>
                      <a:pt x="999" y="846"/>
                    </a:lnTo>
                    <a:lnTo>
                      <a:pt x="932" y="745"/>
                    </a:lnTo>
                    <a:lnTo>
                      <a:pt x="898" y="626"/>
                    </a:lnTo>
                    <a:lnTo>
                      <a:pt x="880" y="507"/>
                    </a:lnTo>
                    <a:lnTo>
                      <a:pt x="880" y="373"/>
                    </a:lnTo>
                    <a:lnTo>
                      <a:pt x="880" y="339"/>
                    </a:lnTo>
                    <a:lnTo>
                      <a:pt x="915" y="235"/>
                    </a:lnTo>
                    <a:lnTo>
                      <a:pt x="967" y="169"/>
                    </a:lnTo>
                    <a:lnTo>
                      <a:pt x="1051" y="85"/>
                    </a:lnTo>
                    <a:lnTo>
                      <a:pt x="1135" y="32"/>
                    </a:lnTo>
                    <a:lnTo>
                      <a:pt x="1221" y="0"/>
                    </a:lnTo>
                    <a:lnTo>
                      <a:pt x="1253" y="0"/>
                    </a:lnTo>
                    <a:lnTo>
                      <a:pt x="1372" y="0"/>
                    </a:lnTo>
                    <a:lnTo>
                      <a:pt x="1491" y="32"/>
                    </a:lnTo>
                    <a:lnTo>
                      <a:pt x="1594" y="85"/>
                    </a:lnTo>
                    <a:lnTo>
                      <a:pt x="1695" y="169"/>
                    </a:lnTo>
                    <a:lnTo>
                      <a:pt x="1763" y="270"/>
                    </a:lnTo>
                    <a:lnTo>
                      <a:pt x="1779" y="3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417920" y="312264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68" h="441">
                    <a:moveTo>
                      <a:pt x="0" y="0"/>
                    </a:moveTo>
                    <a:lnTo>
                      <a:pt x="18" y="35"/>
                    </a:lnTo>
                    <a:lnTo>
                      <a:pt x="18" y="51"/>
                    </a:lnTo>
                    <a:lnTo>
                      <a:pt x="35" y="85"/>
                    </a:lnTo>
                    <a:lnTo>
                      <a:pt x="35" y="101"/>
                    </a:lnTo>
                    <a:lnTo>
                      <a:pt x="50" y="136"/>
                    </a:lnTo>
                    <a:lnTo>
                      <a:pt x="50" y="170"/>
                    </a:lnTo>
                    <a:lnTo>
                      <a:pt x="50" y="186"/>
                    </a:lnTo>
                    <a:lnTo>
                      <a:pt x="68" y="220"/>
                    </a:lnTo>
                    <a:lnTo>
                      <a:pt x="68" y="255"/>
                    </a:lnTo>
                    <a:lnTo>
                      <a:pt x="68" y="272"/>
                    </a:lnTo>
                    <a:lnTo>
                      <a:pt x="68" y="304"/>
                    </a:lnTo>
                    <a:lnTo>
                      <a:pt x="68" y="339"/>
                    </a:lnTo>
                    <a:lnTo>
                      <a:pt x="50" y="357"/>
                    </a:lnTo>
                    <a:lnTo>
                      <a:pt x="50" y="390"/>
                    </a:lnTo>
                    <a:lnTo>
                      <a:pt x="50" y="408"/>
                    </a:lnTo>
                    <a:lnTo>
                      <a:pt x="35" y="4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341960" y="32385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323" h="305">
                    <a:moveTo>
                      <a:pt x="323" y="0"/>
                    </a:moveTo>
                    <a:lnTo>
                      <a:pt x="323" y="17"/>
                    </a:lnTo>
                    <a:lnTo>
                      <a:pt x="306" y="51"/>
                    </a:lnTo>
                    <a:lnTo>
                      <a:pt x="288" y="86"/>
                    </a:lnTo>
                    <a:lnTo>
                      <a:pt x="272" y="101"/>
                    </a:lnTo>
                    <a:lnTo>
                      <a:pt x="272" y="119"/>
                    </a:lnTo>
                    <a:lnTo>
                      <a:pt x="254" y="152"/>
                    </a:lnTo>
                    <a:lnTo>
                      <a:pt x="222" y="170"/>
                    </a:lnTo>
                    <a:lnTo>
                      <a:pt x="204" y="187"/>
                    </a:lnTo>
                    <a:lnTo>
                      <a:pt x="187" y="220"/>
                    </a:lnTo>
                    <a:lnTo>
                      <a:pt x="153" y="236"/>
                    </a:lnTo>
                    <a:lnTo>
                      <a:pt x="136" y="254"/>
                    </a:lnTo>
                    <a:lnTo>
                      <a:pt x="118" y="271"/>
                    </a:lnTo>
                    <a:lnTo>
                      <a:pt x="84" y="271"/>
                    </a:lnTo>
                    <a:lnTo>
                      <a:pt x="51" y="289"/>
                    </a:lnTo>
                    <a:lnTo>
                      <a:pt x="34" y="289"/>
                    </a:lnTo>
                    <a:lnTo>
                      <a:pt x="0" y="3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297320" y="3322800"/>
                <a:ext cx="9720" cy="45720"/>
              </a:xfrm>
              <a:custGeom>
                <a:avLst/>
                <a:gdLst/>
                <a:ahLst/>
                <a:rect l="l" t="t" r="r" b="b"/>
                <a:pathLst>
                  <a:path w="33" h="171">
                    <a:moveTo>
                      <a:pt x="0" y="0"/>
                    </a:moveTo>
                    <a:lnTo>
                      <a:pt x="0" y="18"/>
                    </a:lnTo>
                    <a:lnTo>
                      <a:pt x="0" y="34"/>
                    </a:lnTo>
                    <a:lnTo>
                      <a:pt x="0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0" y="103"/>
                    </a:lnTo>
                    <a:lnTo>
                      <a:pt x="18" y="119"/>
                    </a:lnTo>
                    <a:lnTo>
                      <a:pt x="18" y="138"/>
                    </a:lnTo>
                    <a:lnTo>
                      <a:pt x="18" y="153"/>
                    </a:lnTo>
                    <a:lnTo>
                      <a:pt x="33" y="153"/>
                    </a:lnTo>
                    <a:lnTo>
                      <a:pt x="33" y="1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383000" y="339084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272" h="321">
                    <a:moveTo>
                      <a:pt x="0" y="0"/>
                    </a:moveTo>
                    <a:lnTo>
                      <a:pt x="34" y="0"/>
                    </a:lnTo>
                    <a:lnTo>
                      <a:pt x="51" y="16"/>
                    </a:lnTo>
                    <a:lnTo>
                      <a:pt x="84" y="33"/>
                    </a:lnTo>
                    <a:lnTo>
                      <a:pt x="101" y="50"/>
                    </a:lnTo>
                    <a:lnTo>
                      <a:pt x="119" y="67"/>
                    </a:lnTo>
                    <a:lnTo>
                      <a:pt x="135" y="85"/>
                    </a:lnTo>
                    <a:lnTo>
                      <a:pt x="153" y="117"/>
                    </a:lnTo>
                    <a:lnTo>
                      <a:pt x="170" y="135"/>
                    </a:lnTo>
                    <a:lnTo>
                      <a:pt x="185" y="151"/>
                    </a:lnTo>
                    <a:lnTo>
                      <a:pt x="203" y="186"/>
                    </a:lnTo>
                    <a:lnTo>
                      <a:pt x="220" y="204"/>
                    </a:lnTo>
                    <a:lnTo>
                      <a:pt x="220" y="236"/>
                    </a:lnTo>
                    <a:lnTo>
                      <a:pt x="237" y="253"/>
                    </a:lnTo>
                    <a:lnTo>
                      <a:pt x="254" y="270"/>
                    </a:lnTo>
                    <a:lnTo>
                      <a:pt x="272" y="305"/>
                    </a:lnTo>
                    <a:lnTo>
                      <a:pt x="272" y="32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454640" y="34765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18" h="459">
                    <a:moveTo>
                      <a:pt x="0" y="0"/>
                    </a:moveTo>
                    <a:lnTo>
                      <a:pt x="17" y="33"/>
                    </a:lnTo>
                    <a:lnTo>
                      <a:pt x="17" y="68"/>
                    </a:lnTo>
                    <a:lnTo>
                      <a:pt x="32" y="85"/>
                    </a:lnTo>
                    <a:lnTo>
                      <a:pt x="32" y="119"/>
                    </a:lnTo>
                    <a:lnTo>
                      <a:pt x="50" y="152"/>
                    </a:lnTo>
                    <a:lnTo>
                      <a:pt x="50" y="170"/>
                    </a:lnTo>
                    <a:lnTo>
                      <a:pt x="66" y="203"/>
                    </a:lnTo>
                    <a:lnTo>
                      <a:pt x="66" y="238"/>
                    </a:lnTo>
                    <a:lnTo>
                      <a:pt x="84" y="256"/>
                    </a:lnTo>
                    <a:lnTo>
                      <a:pt x="84" y="288"/>
                    </a:lnTo>
                    <a:lnTo>
                      <a:pt x="101" y="322"/>
                    </a:lnTo>
                    <a:lnTo>
                      <a:pt x="101" y="340"/>
                    </a:lnTo>
                    <a:lnTo>
                      <a:pt x="101" y="372"/>
                    </a:lnTo>
                    <a:lnTo>
                      <a:pt x="118" y="406"/>
                    </a:lnTo>
                    <a:lnTo>
                      <a:pt x="118" y="424"/>
                    </a:lnTo>
                    <a:lnTo>
                      <a:pt x="118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486320" y="3597120"/>
                <a:ext cx="39600" cy="220680"/>
              </a:xfrm>
              <a:custGeom>
                <a:avLst/>
                <a:gdLst/>
                <a:ahLst/>
                <a:rect l="l" t="t" r="r" b="b"/>
                <a:pathLst>
                  <a:path w="152" h="830">
                    <a:moveTo>
                      <a:pt x="0" y="0"/>
                    </a:moveTo>
                    <a:lnTo>
                      <a:pt x="17" y="50"/>
                    </a:lnTo>
                    <a:lnTo>
                      <a:pt x="17" y="101"/>
                    </a:lnTo>
                    <a:lnTo>
                      <a:pt x="33" y="151"/>
                    </a:lnTo>
                    <a:lnTo>
                      <a:pt x="33" y="202"/>
                    </a:lnTo>
                    <a:lnTo>
                      <a:pt x="51" y="254"/>
                    </a:lnTo>
                    <a:lnTo>
                      <a:pt x="51" y="304"/>
                    </a:lnTo>
                    <a:lnTo>
                      <a:pt x="67" y="355"/>
                    </a:lnTo>
                    <a:lnTo>
                      <a:pt x="84" y="405"/>
                    </a:lnTo>
                    <a:lnTo>
                      <a:pt x="102" y="457"/>
                    </a:lnTo>
                    <a:lnTo>
                      <a:pt x="102" y="508"/>
                    </a:lnTo>
                    <a:lnTo>
                      <a:pt x="118" y="558"/>
                    </a:lnTo>
                    <a:lnTo>
                      <a:pt x="118" y="609"/>
                    </a:lnTo>
                    <a:lnTo>
                      <a:pt x="136" y="660"/>
                    </a:lnTo>
                    <a:lnTo>
                      <a:pt x="136" y="728"/>
                    </a:lnTo>
                    <a:lnTo>
                      <a:pt x="152" y="778"/>
                    </a:lnTo>
                    <a:lnTo>
                      <a:pt x="152" y="8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4522680" y="3821040"/>
                <a:ext cx="17640" cy="76320"/>
              </a:xfrm>
              <a:custGeom>
                <a:avLst/>
                <a:gdLst/>
                <a:ahLst/>
                <a:rect l="l" t="t" r="r" b="b"/>
                <a:pathLst>
                  <a:path w="67" h="287">
                    <a:moveTo>
                      <a:pt x="0" y="0"/>
                    </a:moveTo>
                    <a:lnTo>
                      <a:pt x="16" y="18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33" y="68"/>
                    </a:lnTo>
                    <a:lnTo>
                      <a:pt x="33" y="84"/>
                    </a:lnTo>
                    <a:lnTo>
                      <a:pt x="33" y="102"/>
                    </a:lnTo>
                    <a:lnTo>
                      <a:pt x="33" y="119"/>
                    </a:lnTo>
                    <a:lnTo>
                      <a:pt x="50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50" y="186"/>
                    </a:lnTo>
                    <a:lnTo>
                      <a:pt x="50" y="203"/>
                    </a:lnTo>
                    <a:lnTo>
                      <a:pt x="50" y="220"/>
                    </a:lnTo>
                    <a:lnTo>
                      <a:pt x="50" y="237"/>
                    </a:lnTo>
                    <a:lnTo>
                      <a:pt x="67" y="271"/>
                    </a:lnTo>
                    <a:lnTo>
                      <a:pt x="67" y="28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4540320" y="3897360"/>
                <a:ext cx="12600" cy="247680"/>
              </a:xfrm>
              <a:custGeom>
                <a:avLst/>
                <a:gdLst/>
                <a:ahLst/>
                <a:rect l="l" t="t" r="r" b="b"/>
                <a:pathLst>
                  <a:path w="52" h="933">
                    <a:moveTo>
                      <a:pt x="0" y="0"/>
                    </a:moveTo>
                    <a:lnTo>
                      <a:pt x="0" y="51"/>
                    </a:lnTo>
                    <a:lnTo>
                      <a:pt x="0" y="104"/>
                    </a:lnTo>
                    <a:lnTo>
                      <a:pt x="17" y="170"/>
                    </a:lnTo>
                    <a:lnTo>
                      <a:pt x="17" y="220"/>
                    </a:lnTo>
                    <a:lnTo>
                      <a:pt x="17" y="289"/>
                    </a:lnTo>
                    <a:lnTo>
                      <a:pt x="17" y="339"/>
                    </a:lnTo>
                    <a:lnTo>
                      <a:pt x="34" y="408"/>
                    </a:lnTo>
                    <a:lnTo>
                      <a:pt x="34" y="458"/>
                    </a:lnTo>
                    <a:lnTo>
                      <a:pt x="34" y="527"/>
                    </a:lnTo>
                    <a:lnTo>
                      <a:pt x="34" y="576"/>
                    </a:lnTo>
                    <a:lnTo>
                      <a:pt x="34" y="645"/>
                    </a:lnTo>
                    <a:lnTo>
                      <a:pt x="34" y="695"/>
                    </a:lnTo>
                    <a:lnTo>
                      <a:pt x="52" y="746"/>
                    </a:lnTo>
                    <a:lnTo>
                      <a:pt x="52" y="814"/>
                    </a:lnTo>
                    <a:lnTo>
                      <a:pt x="52" y="865"/>
                    </a:lnTo>
                    <a:lnTo>
                      <a:pt x="52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4540320" y="4145040"/>
                <a:ext cx="12600" cy="183960"/>
              </a:xfrm>
              <a:custGeom>
                <a:avLst/>
                <a:gdLst/>
                <a:ahLst/>
                <a:rect l="l" t="t" r="r" b="b"/>
                <a:pathLst>
                  <a:path w="52" h="696">
                    <a:moveTo>
                      <a:pt x="52" y="0"/>
                    </a:moveTo>
                    <a:lnTo>
                      <a:pt x="52" y="34"/>
                    </a:lnTo>
                    <a:lnTo>
                      <a:pt x="52" y="85"/>
                    </a:lnTo>
                    <a:lnTo>
                      <a:pt x="52" y="135"/>
                    </a:lnTo>
                    <a:lnTo>
                      <a:pt x="52" y="170"/>
                    </a:lnTo>
                    <a:lnTo>
                      <a:pt x="52" y="220"/>
                    </a:lnTo>
                    <a:lnTo>
                      <a:pt x="52" y="271"/>
                    </a:lnTo>
                    <a:lnTo>
                      <a:pt x="52" y="305"/>
                    </a:lnTo>
                    <a:lnTo>
                      <a:pt x="52" y="355"/>
                    </a:lnTo>
                    <a:lnTo>
                      <a:pt x="52" y="407"/>
                    </a:lnTo>
                    <a:lnTo>
                      <a:pt x="34" y="439"/>
                    </a:lnTo>
                    <a:lnTo>
                      <a:pt x="34" y="492"/>
                    </a:lnTo>
                    <a:lnTo>
                      <a:pt x="34" y="525"/>
                    </a:lnTo>
                    <a:lnTo>
                      <a:pt x="34" y="577"/>
                    </a:lnTo>
                    <a:lnTo>
                      <a:pt x="17" y="611"/>
                    </a:lnTo>
                    <a:lnTo>
                      <a:pt x="17" y="662"/>
                    </a:lnTo>
                    <a:lnTo>
                      <a:pt x="0" y="6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4449600" y="4329000"/>
                <a:ext cx="90720" cy="354240"/>
              </a:xfrm>
              <a:custGeom>
                <a:avLst/>
                <a:gdLst/>
                <a:ahLst/>
                <a:rect l="l" t="t" r="r" b="b"/>
                <a:pathLst>
                  <a:path w="339" h="1338">
                    <a:moveTo>
                      <a:pt x="339" y="0"/>
                    </a:moveTo>
                    <a:lnTo>
                      <a:pt x="322" y="84"/>
                    </a:lnTo>
                    <a:lnTo>
                      <a:pt x="305" y="169"/>
                    </a:lnTo>
                    <a:lnTo>
                      <a:pt x="288" y="253"/>
                    </a:lnTo>
                    <a:lnTo>
                      <a:pt x="272" y="339"/>
                    </a:lnTo>
                    <a:lnTo>
                      <a:pt x="254" y="423"/>
                    </a:lnTo>
                    <a:lnTo>
                      <a:pt x="238" y="507"/>
                    </a:lnTo>
                    <a:lnTo>
                      <a:pt x="220" y="592"/>
                    </a:lnTo>
                    <a:lnTo>
                      <a:pt x="187" y="677"/>
                    </a:lnTo>
                    <a:lnTo>
                      <a:pt x="169" y="762"/>
                    </a:lnTo>
                    <a:lnTo>
                      <a:pt x="153" y="846"/>
                    </a:lnTo>
                    <a:lnTo>
                      <a:pt x="136" y="915"/>
                    </a:lnTo>
                    <a:lnTo>
                      <a:pt x="102" y="999"/>
                    </a:lnTo>
                    <a:lnTo>
                      <a:pt x="84" y="1084"/>
                    </a:lnTo>
                    <a:lnTo>
                      <a:pt x="50" y="1169"/>
                    </a:lnTo>
                    <a:lnTo>
                      <a:pt x="35" y="1253"/>
                    </a:lnTo>
                    <a:lnTo>
                      <a:pt x="0" y="13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4361040" y="4683240"/>
                <a:ext cx="88560" cy="214200"/>
              </a:xfrm>
              <a:custGeom>
                <a:avLst/>
                <a:gdLst/>
                <a:ahLst/>
                <a:rect l="l" t="t" r="r" b="b"/>
                <a:pathLst>
                  <a:path w="338" h="814">
                    <a:moveTo>
                      <a:pt x="338" y="0"/>
                    </a:moveTo>
                    <a:lnTo>
                      <a:pt x="321" y="51"/>
                    </a:lnTo>
                    <a:lnTo>
                      <a:pt x="304" y="102"/>
                    </a:lnTo>
                    <a:lnTo>
                      <a:pt x="269" y="153"/>
                    </a:lnTo>
                    <a:lnTo>
                      <a:pt x="254" y="203"/>
                    </a:lnTo>
                    <a:lnTo>
                      <a:pt x="237" y="254"/>
                    </a:lnTo>
                    <a:lnTo>
                      <a:pt x="219" y="304"/>
                    </a:lnTo>
                    <a:lnTo>
                      <a:pt x="203" y="356"/>
                    </a:lnTo>
                    <a:lnTo>
                      <a:pt x="185" y="407"/>
                    </a:lnTo>
                    <a:lnTo>
                      <a:pt x="153" y="457"/>
                    </a:lnTo>
                    <a:lnTo>
                      <a:pt x="135" y="508"/>
                    </a:lnTo>
                    <a:lnTo>
                      <a:pt x="118" y="560"/>
                    </a:lnTo>
                    <a:lnTo>
                      <a:pt x="101" y="610"/>
                    </a:lnTo>
                    <a:lnTo>
                      <a:pt x="67" y="660"/>
                    </a:lnTo>
                    <a:lnTo>
                      <a:pt x="49" y="711"/>
                    </a:lnTo>
                    <a:lnTo>
                      <a:pt x="34" y="764"/>
                    </a:lnTo>
                    <a:lnTo>
                      <a:pt x="0" y="8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4314960" y="48974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70" h="373">
                    <a:moveTo>
                      <a:pt x="170" y="0"/>
                    </a:moveTo>
                    <a:lnTo>
                      <a:pt x="170" y="34"/>
                    </a:lnTo>
                    <a:lnTo>
                      <a:pt x="152" y="51"/>
                    </a:lnTo>
                    <a:lnTo>
                      <a:pt x="152" y="66"/>
                    </a:lnTo>
                    <a:lnTo>
                      <a:pt x="135" y="101"/>
                    </a:lnTo>
                    <a:lnTo>
                      <a:pt x="135" y="118"/>
                    </a:lnTo>
                    <a:lnTo>
                      <a:pt x="118" y="153"/>
                    </a:lnTo>
                    <a:lnTo>
                      <a:pt x="101" y="169"/>
                    </a:lnTo>
                    <a:lnTo>
                      <a:pt x="101" y="186"/>
                    </a:lnTo>
                    <a:lnTo>
                      <a:pt x="85" y="219"/>
                    </a:lnTo>
                    <a:lnTo>
                      <a:pt x="66" y="237"/>
                    </a:lnTo>
                    <a:lnTo>
                      <a:pt x="51" y="254"/>
                    </a:lnTo>
                    <a:lnTo>
                      <a:pt x="51" y="288"/>
                    </a:lnTo>
                    <a:lnTo>
                      <a:pt x="34" y="305"/>
                    </a:lnTo>
                    <a:lnTo>
                      <a:pt x="16" y="323"/>
                    </a:lnTo>
                    <a:lnTo>
                      <a:pt x="0" y="338"/>
                    </a:lnTo>
                    <a:lnTo>
                      <a:pt x="0" y="3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4199040" y="4995720"/>
                <a:ext cx="115920" cy="216000"/>
              </a:xfrm>
              <a:custGeom>
                <a:avLst/>
                <a:gdLst/>
                <a:ahLst/>
                <a:rect l="l" t="t" r="r" b="b"/>
                <a:pathLst>
                  <a:path w="441" h="813">
                    <a:moveTo>
                      <a:pt x="441" y="0"/>
                    </a:moveTo>
                    <a:lnTo>
                      <a:pt x="406" y="51"/>
                    </a:lnTo>
                    <a:lnTo>
                      <a:pt x="391" y="101"/>
                    </a:lnTo>
                    <a:lnTo>
                      <a:pt x="356" y="153"/>
                    </a:lnTo>
                    <a:lnTo>
                      <a:pt x="339" y="203"/>
                    </a:lnTo>
                    <a:lnTo>
                      <a:pt x="304" y="254"/>
                    </a:lnTo>
                    <a:lnTo>
                      <a:pt x="272" y="304"/>
                    </a:lnTo>
                    <a:lnTo>
                      <a:pt x="254" y="355"/>
                    </a:lnTo>
                    <a:lnTo>
                      <a:pt x="220" y="407"/>
                    </a:lnTo>
                    <a:lnTo>
                      <a:pt x="186" y="457"/>
                    </a:lnTo>
                    <a:lnTo>
                      <a:pt x="153" y="508"/>
                    </a:lnTo>
                    <a:lnTo>
                      <a:pt x="135" y="558"/>
                    </a:lnTo>
                    <a:lnTo>
                      <a:pt x="102" y="610"/>
                    </a:lnTo>
                    <a:lnTo>
                      <a:pt x="68" y="660"/>
                    </a:lnTo>
                    <a:lnTo>
                      <a:pt x="50" y="711"/>
                    </a:lnTo>
                    <a:lnTo>
                      <a:pt x="18" y="761"/>
                    </a:lnTo>
                    <a:lnTo>
                      <a:pt x="0" y="8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4132440" y="5221440"/>
                <a:ext cx="56880" cy="120600"/>
              </a:xfrm>
              <a:custGeom>
                <a:avLst/>
                <a:gdLst/>
                <a:ahLst/>
                <a:rect l="l" t="t" r="r" b="b"/>
                <a:pathLst>
                  <a:path w="220" h="458">
                    <a:moveTo>
                      <a:pt x="220" y="0"/>
                    </a:moveTo>
                    <a:lnTo>
                      <a:pt x="203" y="17"/>
                    </a:lnTo>
                    <a:lnTo>
                      <a:pt x="203" y="52"/>
                    </a:lnTo>
                    <a:lnTo>
                      <a:pt x="185" y="84"/>
                    </a:lnTo>
                    <a:lnTo>
                      <a:pt x="170" y="102"/>
                    </a:lnTo>
                    <a:lnTo>
                      <a:pt x="153" y="136"/>
                    </a:lnTo>
                    <a:lnTo>
                      <a:pt x="135" y="171"/>
                    </a:lnTo>
                    <a:lnTo>
                      <a:pt x="119" y="186"/>
                    </a:lnTo>
                    <a:lnTo>
                      <a:pt x="119" y="221"/>
                    </a:lnTo>
                    <a:lnTo>
                      <a:pt x="101" y="255"/>
                    </a:lnTo>
                    <a:lnTo>
                      <a:pt x="84" y="272"/>
                    </a:lnTo>
                    <a:lnTo>
                      <a:pt x="69" y="305"/>
                    </a:lnTo>
                    <a:lnTo>
                      <a:pt x="51" y="339"/>
                    </a:lnTo>
                    <a:lnTo>
                      <a:pt x="34" y="356"/>
                    </a:lnTo>
                    <a:lnTo>
                      <a:pt x="34" y="390"/>
                    </a:lnTo>
                    <a:lnTo>
                      <a:pt x="16" y="424"/>
                    </a:lnTo>
                    <a:lnTo>
                      <a:pt x="0" y="4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4091040" y="5342040"/>
                <a:ext cx="41400" cy="196920"/>
              </a:xfrm>
              <a:custGeom>
                <a:avLst/>
                <a:gdLst/>
                <a:ahLst/>
                <a:rect l="l" t="t" r="r" b="b"/>
                <a:pathLst>
                  <a:path w="153" h="746">
                    <a:moveTo>
                      <a:pt x="153" y="0"/>
                    </a:moveTo>
                    <a:lnTo>
                      <a:pt x="136" y="33"/>
                    </a:lnTo>
                    <a:lnTo>
                      <a:pt x="118" y="85"/>
                    </a:lnTo>
                    <a:lnTo>
                      <a:pt x="103" y="136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68" y="271"/>
                    </a:lnTo>
                    <a:lnTo>
                      <a:pt x="51" y="304"/>
                    </a:lnTo>
                    <a:lnTo>
                      <a:pt x="34" y="355"/>
                    </a:lnTo>
                    <a:lnTo>
                      <a:pt x="34" y="405"/>
                    </a:lnTo>
                    <a:lnTo>
                      <a:pt x="17" y="458"/>
                    </a:lnTo>
                    <a:lnTo>
                      <a:pt x="17" y="491"/>
                    </a:lnTo>
                    <a:lnTo>
                      <a:pt x="0" y="543"/>
                    </a:lnTo>
                    <a:lnTo>
                      <a:pt x="0" y="593"/>
                    </a:lnTo>
                    <a:lnTo>
                      <a:pt x="0" y="644"/>
                    </a:lnTo>
                    <a:lnTo>
                      <a:pt x="0" y="694"/>
                    </a:lnTo>
                    <a:lnTo>
                      <a:pt x="17" y="7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4095720" y="553896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170" h="237">
                    <a:moveTo>
                      <a:pt x="0" y="0"/>
                    </a:moveTo>
                    <a:lnTo>
                      <a:pt x="0" y="17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17" y="67"/>
                    </a:lnTo>
                    <a:lnTo>
                      <a:pt x="17" y="85"/>
                    </a:lnTo>
                    <a:lnTo>
                      <a:pt x="34" y="101"/>
                    </a:lnTo>
                    <a:lnTo>
                      <a:pt x="34" y="118"/>
                    </a:lnTo>
                    <a:lnTo>
                      <a:pt x="51" y="136"/>
                    </a:lnTo>
                    <a:lnTo>
                      <a:pt x="51" y="151"/>
                    </a:lnTo>
                    <a:lnTo>
                      <a:pt x="68" y="169"/>
                    </a:lnTo>
                    <a:lnTo>
                      <a:pt x="86" y="186"/>
                    </a:lnTo>
                    <a:lnTo>
                      <a:pt x="101" y="203"/>
                    </a:lnTo>
                    <a:lnTo>
                      <a:pt x="119" y="220"/>
                    </a:lnTo>
                    <a:lnTo>
                      <a:pt x="136" y="220"/>
                    </a:lnTo>
                    <a:lnTo>
                      <a:pt x="17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4140360" y="5602320"/>
                <a:ext cx="223560" cy="61920"/>
              </a:xfrm>
              <a:custGeom>
                <a:avLst/>
                <a:gdLst/>
                <a:ahLst/>
                <a:rect l="l" t="t" r="r" b="b"/>
                <a:pathLst>
                  <a:path w="846" h="237">
                    <a:moveTo>
                      <a:pt x="0" y="0"/>
                    </a:moveTo>
                    <a:lnTo>
                      <a:pt x="50" y="17"/>
                    </a:lnTo>
                    <a:lnTo>
                      <a:pt x="101" y="33"/>
                    </a:lnTo>
                    <a:lnTo>
                      <a:pt x="151" y="51"/>
                    </a:lnTo>
                    <a:lnTo>
                      <a:pt x="203" y="67"/>
                    </a:lnTo>
                    <a:lnTo>
                      <a:pt x="254" y="84"/>
                    </a:lnTo>
                    <a:lnTo>
                      <a:pt x="304" y="102"/>
                    </a:lnTo>
                    <a:lnTo>
                      <a:pt x="355" y="118"/>
                    </a:lnTo>
                    <a:lnTo>
                      <a:pt x="406" y="136"/>
                    </a:lnTo>
                    <a:lnTo>
                      <a:pt x="458" y="152"/>
                    </a:lnTo>
                    <a:lnTo>
                      <a:pt x="524" y="152"/>
                    </a:lnTo>
                    <a:lnTo>
                      <a:pt x="576" y="168"/>
                    </a:lnTo>
                    <a:lnTo>
                      <a:pt x="626" y="186"/>
                    </a:lnTo>
                    <a:lnTo>
                      <a:pt x="677" y="203"/>
                    </a:lnTo>
                    <a:lnTo>
                      <a:pt x="746" y="203"/>
                    </a:lnTo>
                    <a:lnTo>
                      <a:pt x="796" y="221"/>
                    </a:lnTo>
                    <a:lnTo>
                      <a:pt x="846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4073400" y="5718240"/>
                <a:ext cx="27000" cy="210960"/>
              </a:xfrm>
              <a:custGeom>
                <a:avLst/>
                <a:gdLst/>
                <a:ahLst/>
                <a:rect l="l" t="t" r="r" b="b"/>
                <a:pathLst>
                  <a:path w="101" h="796">
                    <a:moveTo>
                      <a:pt x="0" y="0"/>
                    </a:moveTo>
                    <a:lnTo>
                      <a:pt x="0" y="50"/>
                    </a:lnTo>
                    <a:lnTo>
                      <a:pt x="17" y="103"/>
                    </a:lnTo>
                    <a:lnTo>
                      <a:pt x="17" y="154"/>
                    </a:lnTo>
                    <a:lnTo>
                      <a:pt x="32" y="204"/>
                    </a:lnTo>
                    <a:lnTo>
                      <a:pt x="32" y="255"/>
                    </a:lnTo>
                    <a:lnTo>
                      <a:pt x="51" y="305"/>
                    </a:lnTo>
                    <a:lnTo>
                      <a:pt x="51" y="357"/>
                    </a:lnTo>
                    <a:lnTo>
                      <a:pt x="67" y="408"/>
                    </a:lnTo>
                    <a:lnTo>
                      <a:pt x="67" y="458"/>
                    </a:lnTo>
                    <a:lnTo>
                      <a:pt x="84" y="492"/>
                    </a:lnTo>
                    <a:lnTo>
                      <a:pt x="84" y="542"/>
                    </a:lnTo>
                    <a:lnTo>
                      <a:pt x="84" y="593"/>
                    </a:lnTo>
                    <a:lnTo>
                      <a:pt x="101" y="645"/>
                    </a:lnTo>
                    <a:lnTo>
                      <a:pt x="101" y="695"/>
                    </a:lnTo>
                    <a:lnTo>
                      <a:pt x="101" y="746"/>
                    </a:lnTo>
                    <a:lnTo>
                      <a:pt x="101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948120" y="5359320"/>
                <a:ext cx="103320" cy="561960"/>
              </a:xfrm>
              <a:custGeom>
                <a:avLst/>
                <a:gdLst/>
                <a:ahLst/>
                <a:rect l="l" t="t" r="r" b="b"/>
                <a:pathLst>
                  <a:path w="391" h="2120">
                    <a:moveTo>
                      <a:pt x="391" y="2120"/>
                    </a:moveTo>
                    <a:lnTo>
                      <a:pt x="322" y="2017"/>
                    </a:lnTo>
                    <a:lnTo>
                      <a:pt x="272" y="1883"/>
                    </a:lnTo>
                    <a:lnTo>
                      <a:pt x="203" y="1764"/>
                    </a:lnTo>
                    <a:lnTo>
                      <a:pt x="169" y="1645"/>
                    </a:lnTo>
                    <a:lnTo>
                      <a:pt x="119" y="1510"/>
                    </a:lnTo>
                    <a:lnTo>
                      <a:pt x="84" y="1373"/>
                    </a:lnTo>
                    <a:lnTo>
                      <a:pt x="50" y="1238"/>
                    </a:lnTo>
                    <a:lnTo>
                      <a:pt x="34" y="1102"/>
                    </a:lnTo>
                    <a:lnTo>
                      <a:pt x="16" y="967"/>
                    </a:lnTo>
                    <a:lnTo>
                      <a:pt x="0" y="830"/>
                    </a:lnTo>
                    <a:lnTo>
                      <a:pt x="0" y="696"/>
                    </a:lnTo>
                    <a:lnTo>
                      <a:pt x="0" y="560"/>
                    </a:lnTo>
                    <a:lnTo>
                      <a:pt x="0" y="407"/>
                    </a:lnTo>
                    <a:lnTo>
                      <a:pt x="16" y="272"/>
                    </a:lnTo>
                    <a:lnTo>
                      <a:pt x="34" y="135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960720" y="4754520"/>
                <a:ext cx="135000" cy="604800"/>
              </a:xfrm>
              <a:custGeom>
                <a:avLst/>
                <a:gdLst/>
                <a:ahLst/>
                <a:rect l="l" t="t" r="r" b="b"/>
                <a:pathLst>
                  <a:path w="509" h="2287">
                    <a:moveTo>
                      <a:pt x="0" y="2287"/>
                    </a:moveTo>
                    <a:lnTo>
                      <a:pt x="34" y="2135"/>
                    </a:lnTo>
                    <a:lnTo>
                      <a:pt x="69" y="1999"/>
                    </a:lnTo>
                    <a:lnTo>
                      <a:pt x="85" y="1846"/>
                    </a:lnTo>
                    <a:lnTo>
                      <a:pt x="119" y="1711"/>
                    </a:lnTo>
                    <a:lnTo>
                      <a:pt x="153" y="1557"/>
                    </a:lnTo>
                    <a:lnTo>
                      <a:pt x="187" y="1423"/>
                    </a:lnTo>
                    <a:lnTo>
                      <a:pt x="222" y="1288"/>
                    </a:lnTo>
                    <a:lnTo>
                      <a:pt x="272" y="1152"/>
                    </a:lnTo>
                    <a:lnTo>
                      <a:pt x="306" y="999"/>
                    </a:lnTo>
                    <a:lnTo>
                      <a:pt x="341" y="865"/>
                    </a:lnTo>
                    <a:lnTo>
                      <a:pt x="373" y="728"/>
                    </a:lnTo>
                    <a:lnTo>
                      <a:pt x="407" y="576"/>
                    </a:lnTo>
                    <a:lnTo>
                      <a:pt x="425" y="439"/>
                    </a:lnTo>
                    <a:lnTo>
                      <a:pt x="457" y="288"/>
                    </a:lnTo>
                    <a:lnTo>
                      <a:pt x="492" y="151"/>
                    </a:lnTo>
                    <a:lnTo>
                      <a:pt x="50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4073400" y="4233960"/>
                <a:ext cx="32040" cy="520560"/>
              </a:xfrm>
              <a:custGeom>
                <a:avLst/>
                <a:gdLst/>
                <a:ahLst/>
                <a:rect l="l" t="t" r="r" b="b"/>
                <a:pathLst>
                  <a:path w="118" h="1968">
                    <a:moveTo>
                      <a:pt x="84" y="1968"/>
                    </a:moveTo>
                    <a:lnTo>
                      <a:pt x="101" y="1849"/>
                    </a:lnTo>
                    <a:lnTo>
                      <a:pt x="118" y="1730"/>
                    </a:lnTo>
                    <a:lnTo>
                      <a:pt x="118" y="1595"/>
                    </a:lnTo>
                    <a:lnTo>
                      <a:pt x="118" y="1476"/>
                    </a:lnTo>
                    <a:lnTo>
                      <a:pt x="118" y="1357"/>
                    </a:lnTo>
                    <a:lnTo>
                      <a:pt x="118" y="1222"/>
                    </a:lnTo>
                    <a:lnTo>
                      <a:pt x="101" y="1103"/>
                    </a:lnTo>
                    <a:lnTo>
                      <a:pt x="84" y="984"/>
                    </a:lnTo>
                    <a:lnTo>
                      <a:pt x="84" y="865"/>
                    </a:lnTo>
                    <a:lnTo>
                      <a:pt x="67" y="747"/>
                    </a:lnTo>
                    <a:lnTo>
                      <a:pt x="51" y="611"/>
                    </a:lnTo>
                    <a:lnTo>
                      <a:pt x="32" y="492"/>
                    </a:lnTo>
                    <a:lnTo>
                      <a:pt x="17" y="374"/>
                    </a:lnTo>
                    <a:lnTo>
                      <a:pt x="17" y="255"/>
                    </a:lnTo>
                    <a:lnTo>
                      <a:pt x="0" y="1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4068720" y="4081320"/>
                <a:ext cx="4680" cy="152640"/>
              </a:xfrm>
              <a:custGeom>
                <a:avLst/>
                <a:gdLst/>
                <a:ahLst/>
                <a:rect l="l" t="t" r="r" b="b"/>
                <a:pathLst>
                  <a:path w="18" h="576">
                    <a:moveTo>
                      <a:pt x="18" y="576"/>
                    </a:moveTo>
                    <a:lnTo>
                      <a:pt x="18" y="543"/>
                    </a:lnTo>
                    <a:lnTo>
                      <a:pt x="18" y="509"/>
                    </a:lnTo>
                    <a:lnTo>
                      <a:pt x="18" y="474"/>
                    </a:lnTo>
                    <a:lnTo>
                      <a:pt x="18" y="442"/>
                    </a:lnTo>
                    <a:lnTo>
                      <a:pt x="18" y="408"/>
                    </a:lnTo>
                    <a:lnTo>
                      <a:pt x="18" y="373"/>
                    </a:lnTo>
                    <a:lnTo>
                      <a:pt x="0" y="339"/>
                    </a:lnTo>
                    <a:lnTo>
                      <a:pt x="0" y="306"/>
                    </a:lnTo>
                    <a:lnTo>
                      <a:pt x="0" y="255"/>
                    </a:lnTo>
                    <a:lnTo>
                      <a:pt x="0" y="220"/>
                    </a:lnTo>
                    <a:lnTo>
                      <a:pt x="0" y="187"/>
                    </a:lnTo>
                    <a:lnTo>
                      <a:pt x="0" y="154"/>
                    </a:lnTo>
                    <a:lnTo>
                      <a:pt x="0" y="119"/>
                    </a:lnTo>
                    <a:lnTo>
                      <a:pt x="0" y="86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4059360" y="3919680"/>
                <a:ext cx="9360" cy="161640"/>
              </a:xfrm>
              <a:custGeom>
                <a:avLst/>
                <a:gdLst/>
                <a:ahLst/>
                <a:rect l="l" t="t" r="r" b="b"/>
                <a:pathLst>
                  <a:path w="34" h="610">
                    <a:moveTo>
                      <a:pt x="34" y="610"/>
                    </a:moveTo>
                    <a:lnTo>
                      <a:pt x="34" y="577"/>
                    </a:lnTo>
                    <a:lnTo>
                      <a:pt x="34" y="543"/>
                    </a:lnTo>
                    <a:lnTo>
                      <a:pt x="34" y="491"/>
                    </a:lnTo>
                    <a:lnTo>
                      <a:pt x="34" y="458"/>
                    </a:lnTo>
                    <a:lnTo>
                      <a:pt x="18" y="424"/>
                    </a:lnTo>
                    <a:lnTo>
                      <a:pt x="18" y="391"/>
                    </a:lnTo>
                    <a:lnTo>
                      <a:pt x="18" y="338"/>
                    </a:lnTo>
                    <a:lnTo>
                      <a:pt x="18" y="306"/>
                    </a:lnTo>
                    <a:lnTo>
                      <a:pt x="0" y="272"/>
                    </a:lnTo>
                    <a:lnTo>
                      <a:pt x="0" y="238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0" y="118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4056120" y="3781440"/>
                <a:ext cx="3240" cy="138240"/>
              </a:xfrm>
              <a:custGeom>
                <a:avLst/>
                <a:gdLst/>
                <a:ahLst/>
                <a:rect l="l" t="t" r="r" b="b"/>
                <a:pathLst>
                  <a:path w="16" h="525">
                    <a:moveTo>
                      <a:pt x="16" y="525"/>
                    </a:moveTo>
                    <a:lnTo>
                      <a:pt x="16" y="491"/>
                    </a:lnTo>
                    <a:lnTo>
                      <a:pt x="16" y="457"/>
                    </a:lnTo>
                    <a:lnTo>
                      <a:pt x="16" y="424"/>
                    </a:lnTo>
                    <a:lnTo>
                      <a:pt x="16" y="390"/>
                    </a:lnTo>
                    <a:lnTo>
                      <a:pt x="16" y="356"/>
                    </a:lnTo>
                    <a:lnTo>
                      <a:pt x="16" y="322"/>
                    </a:lnTo>
                    <a:lnTo>
                      <a:pt x="16" y="287"/>
                    </a:lnTo>
                    <a:lnTo>
                      <a:pt x="16" y="255"/>
                    </a:lnTo>
                    <a:lnTo>
                      <a:pt x="16" y="221"/>
                    </a:lnTo>
                    <a:lnTo>
                      <a:pt x="16" y="186"/>
                    </a:lnTo>
                    <a:lnTo>
                      <a:pt x="16" y="153"/>
                    </a:lnTo>
                    <a:lnTo>
                      <a:pt x="16" y="118"/>
                    </a:lnTo>
                    <a:lnTo>
                      <a:pt x="16" y="84"/>
                    </a:lnTo>
                    <a:lnTo>
                      <a:pt x="16" y="67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4056120" y="3395520"/>
                <a:ext cx="187200" cy="385920"/>
              </a:xfrm>
              <a:custGeom>
                <a:avLst/>
                <a:gdLst/>
                <a:ahLst/>
                <a:rect l="l" t="t" r="r" b="b"/>
                <a:pathLst>
                  <a:path w="711" h="1458">
                    <a:moveTo>
                      <a:pt x="0" y="1458"/>
                    </a:moveTo>
                    <a:lnTo>
                      <a:pt x="16" y="1340"/>
                    </a:lnTo>
                    <a:lnTo>
                      <a:pt x="34" y="1238"/>
                    </a:lnTo>
                    <a:lnTo>
                      <a:pt x="34" y="1137"/>
                    </a:lnTo>
                    <a:lnTo>
                      <a:pt x="50" y="1033"/>
                    </a:lnTo>
                    <a:lnTo>
                      <a:pt x="68" y="934"/>
                    </a:lnTo>
                    <a:lnTo>
                      <a:pt x="100" y="830"/>
                    </a:lnTo>
                    <a:lnTo>
                      <a:pt x="135" y="729"/>
                    </a:lnTo>
                    <a:lnTo>
                      <a:pt x="169" y="627"/>
                    </a:lnTo>
                    <a:lnTo>
                      <a:pt x="203" y="526"/>
                    </a:lnTo>
                    <a:lnTo>
                      <a:pt x="253" y="442"/>
                    </a:lnTo>
                    <a:lnTo>
                      <a:pt x="304" y="356"/>
                    </a:lnTo>
                    <a:lnTo>
                      <a:pt x="357" y="272"/>
                    </a:lnTo>
                    <a:lnTo>
                      <a:pt x="441" y="188"/>
                    </a:lnTo>
                    <a:lnTo>
                      <a:pt x="508" y="119"/>
                    </a:lnTo>
                    <a:lnTo>
                      <a:pt x="610" y="51"/>
                    </a:lnTo>
                    <a:lnTo>
                      <a:pt x="7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4235400" y="32925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221" h="321">
                    <a:moveTo>
                      <a:pt x="221" y="321"/>
                    </a:moveTo>
                    <a:lnTo>
                      <a:pt x="221" y="288"/>
                    </a:lnTo>
                    <a:lnTo>
                      <a:pt x="204" y="270"/>
                    </a:lnTo>
                    <a:lnTo>
                      <a:pt x="204" y="236"/>
                    </a:lnTo>
                    <a:lnTo>
                      <a:pt x="187" y="220"/>
                    </a:lnTo>
                    <a:lnTo>
                      <a:pt x="187" y="202"/>
                    </a:lnTo>
                    <a:lnTo>
                      <a:pt x="169" y="169"/>
                    </a:lnTo>
                    <a:lnTo>
                      <a:pt x="169" y="151"/>
                    </a:lnTo>
                    <a:lnTo>
                      <a:pt x="152" y="117"/>
                    </a:lnTo>
                    <a:lnTo>
                      <a:pt x="137" y="101"/>
                    </a:lnTo>
                    <a:lnTo>
                      <a:pt x="137" y="85"/>
                    </a:lnTo>
                    <a:lnTo>
                      <a:pt x="119" y="67"/>
                    </a:lnTo>
                    <a:lnTo>
                      <a:pt x="103" y="50"/>
                    </a:lnTo>
                    <a:lnTo>
                      <a:pt x="68" y="32"/>
                    </a:lnTo>
                    <a:lnTo>
                      <a:pt x="51" y="16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4181400" y="3130560"/>
                <a:ext cx="54000" cy="162000"/>
              </a:xfrm>
              <a:custGeom>
                <a:avLst/>
                <a:gdLst/>
                <a:ahLst/>
                <a:rect l="l" t="t" r="r" b="b"/>
                <a:pathLst>
                  <a:path w="204" h="610">
                    <a:moveTo>
                      <a:pt x="204" y="610"/>
                    </a:moveTo>
                    <a:lnTo>
                      <a:pt x="171" y="576"/>
                    </a:lnTo>
                    <a:lnTo>
                      <a:pt x="137" y="542"/>
                    </a:lnTo>
                    <a:lnTo>
                      <a:pt x="119" y="507"/>
                    </a:lnTo>
                    <a:lnTo>
                      <a:pt x="87" y="474"/>
                    </a:lnTo>
                    <a:lnTo>
                      <a:pt x="69" y="439"/>
                    </a:lnTo>
                    <a:lnTo>
                      <a:pt x="52" y="406"/>
                    </a:lnTo>
                    <a:lnTo>
                      <a:pt x="35" y="373"/>
                    </a:lnTo>
                    <a:lnTo>
                      <a:pt x="18" y="338"/>
                    </a:lnTo>
                    <a:lnTo>
                      <a:pt x="18" y="287"/>
                    </a:lnTo>
                    <a:lnTo>
                      <a:pt x="0" y="254"/>
                    </a:lnTo>
                    <a:lnTo>
                      <a:pt x="0" y="203"/>
                    </a:lnTo>
                    <a:lnTo>
                      <a:pt x="0" y="168"/>
                    </a:lnTo>
                    <a:lnTo>
                      <a:pt x="0" y="135"/>
                    </a:lnTo>
                    <a:lnTo>
                      <a:pt x="0" y="8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4181400" y="3041640"/>
                <a:ext cx="98640" cy="88920"/>
              </a:xfrm>
              <a:custGeom>
                <a:avLst/>
                <a:gdLst/>
                <a:ahLst/>
                <a:rect l="l" t="t" r="r" b="b"/>
                <a:pathLst>
                  <a:path w="373" h="339">
                    <a:moveTo>
                      <a:pt x="0" y="339"/>
                    </a:moveTo>
                    <a:lnTo>
                      <a:pt x="18" y="304"/>
                    </a:lnTo>
                    <a:lnTo>
                      <a:pt x="18" y="270"/>
                    </a:lnTo>
                    <a:lnTo>
                      <a:pt x="35" y="235"/>
                    </a:lnTo>
                    <a:lnTo>
                      <a:pt x="52" y="220"/>
                    </a:lnTo>
                    <a:lnTo>
                      <a:pt x="69" y="186"/>
                    </a:lnTo>
                    <a:lnTo>
                      <a:pt x="87" y="169"/>
                    </a:lnTo>
                    <a:lnTo>
                      <a:pt x="119" y="136"/>
                    </a:lnTo>
                    <a:lnTo>
                      <a:pt x="137" y="117"/>
                    </a:lnTo>
                    <a:lnTo>
                      <a:pt x="171" y="85"/>
                    </a:lnTo>
                    <a:lnTo>
                      <a:pt x="188" y="67"/>
                    </a:lnTo>
                    <a:lnTo>
                      <a:pt x="222" y="50"/>
                    </a:lnTo>
                    <a:lnTo>
                      <a:pt x="255" y="32"/>
                    </a:lnTo>
                    <a:lnTo>
                      <a:pt x="272" y="16"/>
                    </a:lnTo>
                    <a:lnTo>
                      <a:pt x="307" y="0"/>
                    </a:lnTo>
                    <a:lnTo>
                      <a:pt x="341" y="0"/>
                    </a:lnTo>
                    <a:lnTo>
                      <a:pt x="3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4280040" y="3041640"/>
                <a:ext cx="137880" cy="81000"/>
              </a:xfrm>
              <a:custGeom>
                <a:avLst/>
                <a:gdLst/>
                <a:ahLst/>
                <a:rect l="l" t="t" r="r" b="b"/>
                <a:pathLst>
                  <a:path w="526" h="304">
                    <a:moveTo>
                      <a:pt x="0" y="0"/>
                    </a:moveTo>
                    <a:lnTo>
                      <a:pt x="35" y="0"/>
                    </a:lnTo>
                    <a:lnTo>
                      <a:pt x="87" y="0"/>
                    </a:lnTo>
                    <a:lnTo>
                      <a:pt x="119" y="0"/>
                    </a:lnTo>
                    <a:lnTo>
                      <a:pt x="153" y="16"/>
                    </a:lnTo>
                    <a:lnTo>
                      <a:pt x="203" y="16"/>
                    </a:lnTo>
                    <a:lnTo>
                      <a:pt x="238" y="32"/>
                    </a:lnTo>
                    <a:lnTo>
                      <a:pt x="272" y="50"/>
                    </a:lnTo>
                    <a:lnTo>
                      <a:pt x="307" y="67"/>
                    </a:lnTo>
                    <a:lnTo>
                      <a:pt x="341" y="85"/>
                    </a:lnTo>
                    <a:lnTo>
                      <a:pt x="374" y="117"/>
                    </a:lnTo>
                    <a:lnTo>
                      <a:pt x="408" y="136"/>
                    </a:lnTo>
                    <a:lnTo>
                      <a:pt x="442" y="169"/>
                    </a:lnTo>
                    <a:lnTo>
                      <a:pt x="460" y="202"/>
                    </a:lnTo>
                    <a:lnTo>
                      <a:pt x="492" y="235"/>
                    </a:lnTo>
                    <a:lnTo>
                      <a:pt x="510" y="270"/>
                    </a:lnTo>
                    <a:lnTo>
                      <a:pt x="526" y="3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4338720" y="3063960"/>
                <a:ext cx="83880" cy="135000"/>
              </a:xfrm>
              <a:custGeom>
                <a:avLst/>
                <a:gdLst/>
                <a:ahLst/>
                <a:rect l="l" t="t" r="r" b="b"/>
                <a:pathLst>
                  <a:path w="322" h="508">
                    <a:moveTo>
                      <a:pt x="0" y="0"/>
                    </a:moveTo>
                    <a:lnTo>
                      <a:pt x="50" y="16"/>
                    </a:lnTo>
                    <a:lnTo>
                      <a:pt x="85" y="32"/>
                    </a:lnTo>
                    <a:lnTo>
                      <a:pt x="100" y="51"/>
                    </a:lnTo>
                    <a:lnTo>
                      <a:pt x="134" y="84"/>
                    </a:lnTo>
                    <a:lnTo>
                      <a:pt x="169" y="101"/>
                    </a:lnTo>
                    <a:lnTo>
                      <a:pt x="186" y="135"/>
                    </a:lnTo>
                    <a:lnTo>
                      <a:pt x="220" y="169"/>
                    </a:lnTo>
                    <a:lnTo>
                      <a:pt x="238" y="203"/>
                    </a:lnTo>
                    <a:lnTo>
                      <a:pt x="253" y="236"/>
                    </a:lnTo>
                    <a:lnTo>
                      <a:pt x="270" y="270"/>
                    </a:lnTo>
                    <a:lnTo>
                      <a:pt x="288" y="304"/>
                    </a:lnTo>
                    <a:lnTo>
                      <a:pt x="304" y="355"/>
                    </a:lnTo>
                    <a:lnTo>
                      <a:pt x="304" y="389"/>
                    </a:lnTo>
                    <a:lnTo>
                      <a:pt x="304" y="422"/>
                    </a:lnTo>
                    <a:lnTo>
                      <a:pt x="322" y="457"/>
                    </a:lnTo>
                    <a:lnTo>
                      <a:pt x="322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400640" y="3198960"/>
                <a:ext cx="21960" cy="61920"/>
              </a:xfrm>
              <a:custGeom>
                <a:avLst/>
                <a:gdLst/>
                <a:ahLst/>
                <a:rect l="l" t="t" r="r" b="b"/>
                <a:pathLst>
                  <a:path w="84" h="238">
                    <a:moveTo>
                      <a:pt x="84" y="0"/>
                    </a:moveTo>
                    <a:lnTo>
                      <a:pt x="84" y="15"/>
                    </a:lnTo>
                    <a:lnTo>
                      <a:pt x="66" y="33"/>
                    </a:lnTo>
                    <a:lnTo>
                      <a:pt x="66" y="50"/>
                    </a:lnTo>
                    <a:lnTo>
                      <a:pt x="66" y="68"/>
                    </a:lnTo>
                    <a:lnTo>
                      <a:pt x="66" y="84"/>
                    </a:lnTo>
                    <a:lnTo>
                      <a:pt x="66" y="101"/>
                    </a:lnTo>
                    <a:lnTo>
                      <a:pt x="66" y="119"/>
                    </a:lnTo>
                    <a:lnTo>
                      <a:pt x="66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32" y="185"/>
                    </a:lnTo>
                    <a:lnTo>
                      <a:pt x="32" y="203"/>
                    </a:lnTo>
                    <a:lnTo>
                      <a:pt x="15" y="220"/>
                    </a:lnTo>
                    <a:lnTo>
                      <a:pt x="15" y="238"/>
                    </a:lnTo>
                    <a:lnTo>
                      <a:pt x="0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199040" y="3174840"/>
                <a:ext cx="75960" cy="108000"/>
              </a:xfrm>
              <a:custGeom>
                <a:avLst/>
                <a:gdLst/>
                <a:ahLst/>
                <a:rect l="l" t="t" r="r" b="b"/>
                <a:pathLst>
                  <a:path w="287" h="408">
                    <a:moveTo>
                      <a:pt x="287" y="408"/>
                    </a:moveTo>
                    <a:lnTo>
                      <a:pt x="254" y="390"/>
                    </a:lnTo>
                    <a:lnTo>
                      <a:pt x="220" y="374"/>
                    </a:lnTo>
                    <a:lnTo>
                      <a:pt x="203" y="357"/>
                    </a:lnTo>
                    <a:lnTo>
                      <a:pt x="169" y="339"/>
                    </a:lnTo>
                    <a:lnTo>
                      <a:pt x="153" y="306"/>
                    </a:lnTo>
                    <a:lnTo>
                      <a:pt x="135" y="289"/>
                    </a:lnTo>
                    <a:lnTo>
                      <a:pt x="119" y="255"/>
                    </a:lnTo>
                    <a:lnTo>
                      <a:pt x="102" y="238"/>
                    </a:lnTo>
                    <a:lnTo>
                      <a:pt x="84" y="205"/>
                    </a:lnTo>
                    <a:lnTo>
                      <a:pt x="68" y="170"/>
                    </a:lnTo>
                    <a:lnTo>
                      <a:pt x="50" y="154"/>
                    </a:lnTo>
                    <a:lnTo>
                      <a:pt x="34" y="119"/>
                    </a:lnTo>
                    <a:lnTo>
                      <a:pt x="34" y="86"/>
                    </a:lnTo>
                    <a:lnTo>
                      <a:pt x="18" y="52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194000" y="307656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152" h="371">
                    <a:moveTo>
                      <a:pt x="17" y="371"/>
                    </a:moveTo>
                    <a:lnTo>
                      <a:pt x="0" y="338"/>
                    </a:lnTo>
                    <a:lnTo>
                      <a:pt x="0" y="322"/>
                    </a:lnTo>
                    <a:lnTo>
                      <a:pt x="0" y="287"/>
                    </a:lnTo>
                    <a:lnTo>
                      <a:pt x="0" y="269"/>
                    </a:lnTo>
                    <a:lnTo>
                      <a:pt x="0" y="237"/>
                    </a:lnTo>
                    <a:lnTo>
                      <a:pt x="17" y="219"/>
                    </a:lnTo>
                    <a:lnTo>
                      <a:pt x="17" y="185"/>
                    </a:lnTo>
                    <a:lnTo>
                      <a:pt x="17" y="168"/>
                    </a:lnTo>
                    <a:lnTo>
                      <a:pt x="35" y="134"/>
                    </a:lnTo>
                    <a:lnTo>
                      <a:pt x="51" y="118"/>
                    </a:lnTo>
                    <a:lnTo>
                      <a:pt x="51" y="99"/>
                    </a:lnTo>
                    <a:lnTo>
                      <a:pt x="67" y="66"/>
                    </a:lnTo>
                    <a:lnTo>
                      <a:pt x="85" y="50"/>
                    </a:lnTo>
                    <a:lnTo>
                      <a:pt x="101" y="33"/>
                    </a:lnTo>
                    <a:lnTo>
                      <a:pt x="119" y="15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970440" y="3386160"/>
                <a:ext cx="569880" cy="2535120"/>
              </a:xfrm>
              <a:custGeom>
                <a:avLst/>
                <a:gdLst/>
                <a:ahLst/>
                <a:rect l="l" t="t" r="r" b="b"/>
                <a:pathLst>
                  <a:path w="2153" h="9577">
                    <a:moveTo>
                      <a:pt x="1695" y="221"/>
                    </a:moveTo>
                    <a:lnTo>
                      <a:pt x="1745" y="322"/>
                    </a:lnTo>
                    <a:lnTo>
                      <a:pt x="1780" y="406"/>
                    </a:lnTo>
                    <a:lnTo>
                      <a:pt x="1814" y="508"/>
                    </a:lnTo>
                    <a:lnTo>
                      <a:pt x="1849" y="609"/>
                    </a:lnTo>
                    <a:lnTo>
                      <a:pt x="1882" y="710"/>
                    </a:lnTo>
                    <a:lnTo>
                      <a:pt x="1898" y="813"/>
                    </a:lnTo>
                    <a:lnTo>
                      <a:pt x="1916" y="914"/>
                    </a:lnTo>
                    <a:lnTo>
                      <a:pt x="1950" y="1017"/>
                    </a:lnTo>
                    <a:lnTo>
                      <a:pt x="1967" y="1118"/>
                    </a:lnTo>
                    <a:lnTo>
                      <a:pt x="1983" y="1220"/>
                    </a:lnTo>
                    <a:lnTo>
                      <a:pt x="2001" y="1321"/>
                    </a:lnTo>
                    <a:lnTo>
                      <a:pt x="2017" y="1424"/>
                    </a:lnTo>
                    <a:lnTo>
                      <a:pt x="2034" y="1525"/>
                    </a:lnTo>
                    <a:lnTo>
                      <a:pt x="2052" y="1627"/>
                    </a:lnTo>
                    <a:lnTo>
                      <a:pt x="2068" y="1728"/>
                    </a:lnTo>
                    <a:lnTo>
                      <a:pt x="2086" y="1830"/>
                    </a:lnTo>
                    <a:lnTo>
                      <a:pt x="2102" y="1982"/>
                    </a:lnTo>
                    <a:lnTo>
                      <a:pt x="2119" y="2134"/>
                    </a:lnTo>
                    <a:lnTo>
                      <a:pt x="2119" y="2288"/>
                    </a:lnTo>
                    <a:lnTo>
                      <a:pt x="2136" y="2440"/>
                    </a:lnTo>
                    <a:lnTo>
                      <a:pt x="2153" y="2593"/>
                    </a:lnTo>
                    <a:lnTo>
                      <a:pt x="2153" y="2745"/>
                    </a:lnTo>
                    <a:lnTo>
                      <a:pt x="2153" y="2898"/>
                    </a:lnTo>
                    <a:lnTo>
                      <a:pt x="2153" y="3050"/>
                    </a:lnTo>
                    <a:lnTo>
                      <a:pt x="2153" y="3202"/>
                    </a:lnTo>
                    <a:lnTo>
                      <a:pt x="2136" y="3356"/>
                    </a:lnTo>
                    <a:lnTo>
                      <a:pt x="2119" y="3508"/>
                    </a:lnTo>
                    <a:lnTo>
                      <a:pt x="2102" y="3644"/>
                    </a:lnTo>
                    <a:lnTo>
                      <a:pt x="2068" y="3795"/>
                    </a:lnTo>
                    <a:lnTo>
                      <a:pt x="2034" y="3932"/>
                    </a:lnTo>
                    <a:lnTo>
                      <a:pt x="2001" y="4084"/>
                    </a:lnTo>
                    <a:lnTo>
                      <a:pt x="1950" y="4221"/>
                    </a:lnTo>
                    <a:lnTo>
                      <a:pt x="1916" y="4338"/>
                    </a:lnTo>
                    <a:lnTo>
                      <a:pt x="1882" y="4440"/>
                    </a:lnTo>
                    <a:lnTo>
                      <a:pt x="1849" y="4541"/>
                    </a:lnTo>
                    <a:lnTo>
                      <a:pt x="1814" y="4660"/>
                    </a:lnTo>
                    <a:lnTo>
                      <a:pt x="1780" y="4762"/>
                    </a:lnTo>
                    <a:lnTo>
                      <a:pt x="1745" y="4863"/>
                    </a:lnTo>
                    <a:lnTo>
                      <a:pt x="1695" y="4967"/>
                    </a:lnTo>
                    <a:lnTo>
                      <a:pt x="1661" y="5068"/>
                    </a:lnTo>
                    <a:lnTo>
                      <a:pt x="1629" y="5170"/>
                    </a:lnTo>
                    <a:lnTo>
                      <a:pt x="1577" y="5289"/>
                    </a:lnTo>
                    <a:lnTo>
                      <a:pt x="1543" y="5390"/>
                    </a:lnTo>
                    <a:lnTo>
                      <a:pt x="1510" y="5491"/>
                    </a:lnTo>
                    <a:lnTo>
                      <a:pt x="1458" y="5593"/>
                    </a:lnTo>
                    <a:lnTo>
                      <a:pt x="1424" y="5694"/>
                    </a:lnTo>
                    <a:lnTo>
                      <a:pt x="1391" y="5797"/>
                    </a:lnTo>
                    <a:lnTo>
                      <a:pt x="1357" y="5916"/>
                    </a:lnTo>
                    <a:lnTo>
                      <a:pt x="1306" y="6000"/>
                    </a:lnTo>
                    <a:lnTo>
                      <a:pt x="1256" y="6085"/>
                    </a:lnTo>
                    <a:lnTo>
                      <a:pt x="1204" y="6186"/>
                    </a:lnTo>
                    <a:lnTo>
                      <a:pt x="1152" y="6270"/>
                    </a:lnTo>
                    <a:lnTo>
                      <a:pt x="1103" y="6355"/>
                    </a:lnTo>
                    <a:lnTo>
                      <a:pt x="1051" y="6458"/>
                    </a:lnTo>
                    <a:lnTo>
                      <a:pt x="1000" y="6542"/>
                    </a:lnTo>
                    <a:lnTo>
                      <a:pt x="949" y="6626"/>
                    </a:lnTo>
                    <a:lnTo>
                      <a:pt x="899" y="6727"/>
                    </a:lnTo>
                    <a:lnTo>
                      <a:pt x="848" y="6814"/>
                    </a:lnTo>
                    <a:lnTo>
                      <a:pt x="796" y="6898"/>
                    </a:lnTo>
                    <a:lnTo>
                      <a:pt x="746" y="6999"/>
                    </a:lnTo>
                    <a:lnTo>
                      <a:pt x="695" y="7085"/>
                    </a:lnTo>
                    <a:lnTo>
                      <a:pt x="645" y="7187"/>
                    </a:lnTo>
                    <a:lnTo>
                      <a:pt x="611" y="7271"/>
                    </a:lnTo>
                    <a:lnTo>
                      <a:pt x="561" y="7356"/>
                    </a:lnTo>
                    <a:lnTo>
                      <a:pt x="543" y="7423"/>
                    </a:lnTo>
                    <a:lnTo>
                      <a:pt x="509" y="7475"/>
                    </a:lnTo>
                    <a:lnTo>
                      <a:pt x="492" y="7542"/>
                    </a:lnTo>
                    <a:lnTo>
                      <a:pt x="475" y="7592"/>
                    </a:lnTo>
                    <a:lnTo>
                      <a:pt x="442" y="7661"/>
                    </a:lnTo>
                    <a:lnTo>
                      <a:pt x="423" y="7711"/>
                    </a:lnTo>
                    <a:lnTo>
                      <a:pt x="408" y="7780"/>
                    </a:lnTo>
                    <a:lnTo>
                      <a:pt x="391" y="7848"/>
                    </a:lnTo>
                    <a:lnTo>
                      <a:pt x="373" y="7914"/>
                    </a:lnTo>
                    <a:lnTo>
                      <a:pt x="373" y="7966"/>
                    </a:lnTo>
                    <a:lnTo>
                      <a:pt x="373" y="8034"/>
                    </a:lnTo>
                    <a:lnTo>
                      <a:pt x="373" y="8102"/>
                    </a:lnTo>
                    <a:lnTo>
                      <a:pt x="373" y="8153"/>
                    </a:lnTo>
                    <a:lnTo>
                      <a:pt x="408" y="8221"/>
                    </a:lnTo>
                    <a:lnTo>
                      <a:pt x="423" y="8272"/>
                    </a:lnTo>
                    <a:lnTo>
                      <a:pt x="458" y="8339"/>
                    </a:lnTo>
                    <a:lnTo>
                      <a:pt x="526" y="8373"/>
                    </a:lnTo>
                    <a:lnTo>
                      <a:pt x="594" y="8406"/>
                    </a:lnTo>
                    <a:lnTo>
                      <a:pt x="662" y="8440"/>
                    </a:lnTo>
                    <a:lnTo>
                      <a:pt x="712" y="8457"/>
                    </a:lnTo>
                    <a:lnTo>
                      <a:pt x="796" y="8491"/>
                    </a:lnTo>
                    <a:lnTo>
                      <a:pt x="865" y="8509"/>
                    </a:lnTo>
                    <a:lnTo>
                      <a:pt x="933" y="8525"/>
                    </a:lnTo>
                    <a:lnTo>
                      <a:pt x="1000" y="8541"/>
                    </a:lnTo>
                    <a:lnTo>
                      <a:pt x="1068" y="8559"/>
                    </a:lnTo>
                    <a:lnTo>
                      <a:pt x="1137" y="8576"/>
                    </a:lnTo>
                    <a:lnTo>
                      <a:pt x="1204" y="8594"/>
                    </a:lnTo>
                    <a:lnTo>
                      <a:pt x="1288" y="8610"/>
                    </a:lnTo>
                    <a:lnTo>
                      <a:pt x="1357" y="8628"/>
                    </a:lnTo>
                    <a:lnTo>
                      <a:pt x="1424" y="8644"/>
                    </a:lnTo>
                    <a:lnTo>
                      <a:pt x="1491" y="8660"/>
                    </a:lnTo>
                    <a:lnTo>
                      <a:pt x="1560" y="8678"/>
                    </a:lnTo>
                    <a:lnTo>
                      <a:pt x="1577" y="8678"/>
                    </a:lnTo>
                    <a:lnTo>
                      <a:pt x="1577" y="8695"/>
                    </a:lnTo>
                    <a:lnTo>
                      <a:pt x="1577" y="8712"/>
                    </a:lnTo>
                    <a:lnTo>
                      <a:pt x="1560" y="8712"/>
                    </a:lnTo>
                    <a:lnTo>
                      <a:pt x="1560" y="8729"/>
                    </a:lnTo>
                    <a:lnTo>
                      <a:pt x="1543" y="8729"/>
                    </a:lnTo>
                    <a:lnTo>
                      <a:pt x="1525" y="8729"/>
                    </a:lnTo>
                    <a:lnTo>
                      <a:pt x="1510" y="8729"/>
                    </a:lnTo>
                    <a:lnTo>
                      <a:pt x="1491" y="8744"/>
                    </a:lnTo>
                    <a:lnTo>
                      <a:pt x="1476" y="8744"/>
                    </a:lnTo>
                    <a:lnTo>
                      <a:pt x="1407" y="8744"/>
                    </a:lnTo>
                    <a:lnTo>
                      <a:pt x="1340" y="8762"/>
                    </a:lnTo>
                    <a:lnTo>
                      <a:pt x="1271" y="8762"/>
                    </a:lnTo>
                    <a:lnTo>
                      <a:pt x="1204" y="8762"/>
                    </a:lnTo>
                    <a:lnTo>
                      <a:pt x="1137" y="8762"/>
                    </a:lnTo>
                    <a:lnTo>
                      <a:pt x="1068" y="8762"/>
                    </a:lnTo>
                    <a:lnTo>
                      <a:pt x="1000" y="8762"/>
                    </a:lnTo>
                    <a:lnTo>
                      <a:pt x="933" y="8762"/>
                    </a:lnTo>
                    <a:lnTo>
                      <a:pt x="865" y="8762"/>
                    </a:lnTo>
                    <a:lnTo>
                      <a:pt x="796" y="8744"/>
                    </a:lnTo>
                    <a:lnTo>
                      <a:pt x="730" y="8744"/>
                    </a:lnTo>
                    <a:lnTo>
                      <a:pt x="662" y="8744"/>
                    </a:lnTo>
                    <a:lnTo>
                      <a:pt x="594" y="8744"/>
                    </a:lnTo>
                    <a:lnTo>
                      <a:pt x="526" y="8729"/>
                    </a:lnTo>
                    <a:lnTo>
                      <a:pt x="458" y="8729"/>
                    </a:lnTo>
                    <a:lnTo>
                      <a:pt x="391" y="8729"/>
                    </a:lnTo>
                    <a:lnTo>
                      <a:pt x="391" y="8678"/>
                    </a:lnTo>
                    <a:lnTo>
                      <a:pt x="391" y="8628"/>
                    </a:lnTo>
                    <a:lnTo>
                      <a:pt x="391" y="8576"/>
                    </a:lnTo>
                    <a:lnTo>
                      <a:pt x="373" y="8525"/>
                    </a:lnTo>
                    <a:lnTo>
                      <a:pt x="373" y="8475"/>
                    </a:lnTo>
                    <a:lnTo>
                      <a:pt x="357" y="8440"/>
                    </a:lnTo>
                    <a:lnTo>
                      <a:pt x="357" y="8390"/>
                    </a:lnTo>
                    <a:lnTo>
                      <a:pt x="339" y="8339"/>
                    </a:lnTo>
                    <a:lnTo>
                      <a:pt x="323" y="8287"/>
                    </a:lnTo>
                    <a:lnTo>
                      <a:pt x="323" y="8237"/>
                    </a:lnTo>
                    <a:lnTo>
                      <a:pt x="307" y="8186"/>
                    </a:lnTo>
                    <a:lnTo>
                      <a:pt x="307" y="8136"/>
                    </a:lnTo>
                    <a:lnTo>
                      <a:pt x="307" y="8084"/>
                    </a:lnTo>
                    <a:lnTo>
                      <a:pt x="307" y="8034"/>
                    </a:lnTo>
                    <a:lnTo>
                      <a:pt x="307" y="7983"/>
                    </a:lnTo>
                    <a:lnTo>
                      <a:pt x="323" y="7933"/>
                    </a:lnTo>
                    <a:lnTo>
                      <a:pt x="339" y="7848"/>
                    </a:lnTo>
                    <a:lnTo>
                      <a:pt x="357" y="7763"/>
                    </a:lnTo>
                    <a:lnTo>
                      <a:pt x="391" y="7679"/>
                    </a:lnTo>
                    <a:lnTo>
                      <a:pt x="408" y="7592"/>
                    </a:lnTo>
                    <a:lnTo>
                      <a:pt x="442" y="7508"/>
                    </a:lnTo>
                    <a:lnTo>
                      <a:pt x="475" y="7441"/>
                    </a:lnTo>
                    <a:lnTo>
                      <a:pt x="509" y="7356"/>
                    </a:lnTo>
                    <a:lnTo>
                      <a:pt x="543" y="7271"/>
                    </a:lnTo>
                    <a:lnTo>
                      <a:pt x="576" y="7204"/>
                    </a:lnTo>
                    <a:lnTo>
                      <a:pt x="611" y="7118"/>
                    </a:lnTo>
                    <a:lnTo>
                      <a:pt x="662" y="7034"/>
                    </a:lnTo>
                    <a:lnTo>
                      <a:pt x="695" y="6966"/>
                    </a:lnTo>
                    <a:lnTo>
                      <a:pt x="730" y="6881"/>
                    </a:lnTo>
                    <a:lnTo>
                      <a:pt x="781" y="6814"/>
                    </a:lnTo>
                    <a:lnTo>
                      <a:pt x="814" y="6727"/>
                    </a:lnTo>
                    <a:lnTo>
                      <a:pt x="865" y="6643"/>
                    </a:lnTo>
                    <a:lnTo>
                      <a:pt x="865" y="6626"/>
                    </a:lnTo>
                    <a:lnTo>
                      <a:pt x="883" y="6611"/>
                    </a:lnTo>
                    <a:lnTo>
                      <a:pt x="883" y="6593"/>
                    </a:lnTo>
                    <a:lnTo>
                      <a:pt x="899" y="6576"/>
                    </a:lnTo>
                    <a:lnTo>
                      <a:pt x="899" y="6559"/>
                    </a:lnTo>
                    <a:lnTo>
                      <a:pt x="915" y="6542"/>
                    </a:lnTo>
                    <a:lnTo>
                      <a:pt x="915" y="6525"/>
                    </a:lnTo>
                    <a:lnTo>
                      <a:pt x="933" y="6507"/>
                    </a:lnTo>
                    <a:lnTo>
                      <a:pt x="949" y="6492"/>
                    </a:lnTo>
                    <a:lnTo>
                      <a:pt x="949" y="6474"/>
                    </a:lnTo>
                    <a:lnTo>
                      <a:pt x="967" y="6458"/>
                    </a:lnTo>
                    <a:lnTo>
                      <a:pt x="967" y="6440"/>
                    </a:lnTo>
                    <a:lnTo>
                      <a:pt x="984" y="6423"/>
                    </a:lnTo>
                    <a:lnTo>
                      <a:pt x="984" y="6407"/>
                    </a:lnTo>
                    <a:lnTo>
                      <a:pt x="1000" y="6389"/>
                    </a:lnTo>
                    <a:lnTo>
                      <a:pt x="1018" y="6373"/>
                    </a:lnTo>
                    <a:lnTo>
                      <a:pt x="1000" y="6373"/>
                    </a:lnTo>
                    <a:lnTo>
                      <a:pt x="1000" y="6355"/>
                    </a:lnTo>
                    <a:lnTo>
                      <a:pt x="984" y="6355"/>
                    </a:lnTo>
                    <a:lnTo>
                      <a:pt x="933" y="6423"/>
                    </a:lnTo>
                    <a:lnTo>
                      <a:pt x="899" y="6507"/>
                    </a:lnTo>
                    <a:lnTo>
                      <a:pt x="848" y="6576"/>
                    </a:lnTo>
                    <a:lnTo>
                      <a:pt x="814" y="6661"/>
                    </a:lnTo>
                    <a:lnTo>
                      <a:pt x="764" y="6727"/>
                    </a:lnTo>
                    <a:lnTo>
                      <a:pt x="730" y="6814"/>
                    </a:lnTo>
                    <a:lnTo>
                      <a:pt x="680" y="6881"/>
                    </a:lnTo>
                    <a:lnTo>
                      <a:pt x="645" y="6966"/>
                    </a:lnTo>
                    <a:lnTo>
                      <a:pt x="594" y="7050"/>
                    </a:lnTo>
                    <a:lnTo>
                      <a:pt x="561" y="7118"/>
                    </a:lnTo>
                    <a:lnTo>
                      <a:pt x="526" y="7204"/>
                    </a:lnTo>
                    <a:lnTo>
                      <a:pt x="475" y="7271"/>
                    </a:lnTo>
                    <a:lnTo>
                      <a:pt x="442" y="7356"/>
                    </a:lnTo>
                    <a:lnTo>
                      <a:pt x="408" y="7441"/>
                    </a:lnTo>
                    <a:lnTo>
                      <a:pt x="373" y="7526"/>
                    </a:lnTo>
                    <a:lnTo>
                      <a:pt x="339" y="7610"/>
                    </a:lnTo>
                    <a:lnTo>
                      <a:pt x="339" y="7644"/>
                    </a:lnTo>
                    <a:lnTo>
                      <a:pt x="323" y="7679"/>
                    </a:lnTo>
                    <a:lnTo>
                      <a:pt x="323" y="7711"/>
                    </a:lnTo>
                    <a:lnTo>
                      <a:pt x="307" y="7763"/>
                    </a:lnTo>
                    <a:lnTo>
                      <a:pt x="307" y="7795"/>
                    </a:lnTo>
                    <a:lnTo>
                      <a:pt x="289" y="7830"/>
                    </a:lnTo>
                    <a:lnTo>
                      <a:pt x="272" y="7881"/>
                    </a:lnTo>
                    <a:lnTo>
                      <a:pt x="272" y="7914"/>
                    </a:lnTo>
                    <a:lnTo>
                      <a:pt x="254" y="7949"/>
                    </a:lnTo>
                    <a:lnTo>
                      <a:pt x="254" y="8000"/>
                    </a:lnTo>
                    <a:lnTo>
                      <a:pt x="254" y="8034"/>
                    </a:lnTo>
                    <a:lnTo>
                      <a:pt x="238" y="8067"/>
                    </a:lnTo>
                    <a:lnTo>
                      <a:pt x="238" y="8118"/>
                    </a:lnTo>
                    <a:lnTo>
                      <a:pt x="238" y="8153"/>
                    </a:lnTo>
                    <a:lnTo>
                      <a:pt x="254" y="8203"/>
                    </a:lnTo>
                    <a:lnTo>
                      <a:pt x="254" y="8237"/>
                    </a:lnTo>
                    <a:lnTo>
                      <a:pt x="272" y="8287"/>
                    </a:lnTo>
                    <a:lnTo>
                      <a:pt x="289" y="8339"/>
                    </a:lnTo>
                    <a:lnTo>
                      <a:pt x="307" y="8390"/>
                    </a:lnTo>
                    <a:lnTo>
                      <a:pt x="323" y="8457"/>
                    </a:lnTo>
                    <a:lnTo>
                      <a:pt x="323" y="8509"/>
                    </a:lnTo>
                    <a:lnTo>
                      <a:pt x="339" y="8576"/>
                    </a:lnTo>
                    <a:lnTo>
                      <a:pt x="339" y="8628"/>
                    </a:lnTo>
                    <a:lnTo>
                      <a:pt x="339" y="8695"/>
                    </a:lnTo>
                    <a:lnTo>
                      <a:pt x="339" y="8744"/>
                    </a:lnTo>
                    <a:lnTo>
                      <a:pt x="339" y="8813"/>
                    </a:lnTo>
                    <a:lnTo>
                      <a:pt x="339" y="8863"/>
                    </a:lnTo>
                    <a:lnTo>
                      <a:pt x="339" y="8932"/>
                    </a:lnTo>
                    <a:lnTo>
                      <a:pt x="339" y="8982"/>
                    </a:lnTo>
                    <a:lnTo>
                      <a:pt x="339" y="9051"/>
                    </a:lnTo>
                    <a:lnTo>
                      <a:pt x="339" y="9102"/>
                    </a:lnTo>
                    <a:lnTo>
                      <a:pt x="357" y="9170"/>
                    </a:lnTo>
                    <a:lnTo>
                      <a:pt x="357" y="9236"/>
                    </a:lnTo>
                    <a:lnTo>
                      <a:pt x="373" y="9322"/>
                    </a:lnTo>
                    <a:lnTo>
                      <a:pt x="391" y="9390"/>
                    </a:lnTo>
                    <a:lnTo>
                      <a:pt x="391" y="9474"/>
                    </a:lnTo>
                    <a:lnTo>
                      <a:pt x="408" y="9559"/>
                    </a:lnTo>
                    <a:lnTo>
                      <a:pt x="408" y="9577"/>
                    </a:lnTo>
                    <a:lnTo>
                      <a:pt x="373" y="9577"/>
                    </a:lnTo>
                    <a:lnTo>
                      <a:pt x="357" y="9559"/>
                    </a:lnTo>
                    <a:lnTo>
                      <a:pt x="339" y="9543"/>
                    </a:lnTo>
                    <a:lnTo>
                      <a:pt x="323" y="9525"/>
                    </a:lnTo>
                    <a:lnTo>
                      <a:pt x="307" y="9508"/>
                    </a:lnTo>
                    <a:lnTo>
                      <a:pt x="307" y="9492"/>
                    </a:lnTo>
                    <a:lnTo>
                      <a:pt x="188" y="9221"/>
                    </a:lnTo>
                    <a:lnTo>
                      <a:pt x="102" y="8932"/>
                    </a:lnTo>
                    <a:lnTo>
                      <a:pt x="35" y="8628"/>
                    </a:lnTo>
                    <a:lnTo>
                      <a:pt x="0" y="8339"/>
                    </a:lnTo>
                    <a:lnTo>
                      <a:pt x="0" y="8017"/>
                    </a:lnTo>
                    <a:lnTo>
                      <a:pt x="0" y="7914"/>
                    </a:lnTo>
                    <a:lnTo>
                      <a:pt x="35" y="7814"/>
                    </a:lnTo>
                    <a:lnTo>
                      <a:pt x="51" y="7694"/>
                    </a:lnTo>
                    <a:lnTo>
                      <a:pt x="51" y="7575"/>
                    </a:lnTo>
                    <a:lnTo>
                      <a:pt x="69" y="7457"/>
                    </a:lnTo>
                    <a:lnTo>
                      <a:pt x="85" y="7338"/>
                    </a:lnTo>
                    <a:lnTo>
                      <a:pt x="85" y="7305"/>
                    </a:lnTo>
                    <a:lnTo>
                      <a:pt x="119" y="7118"/>
                    </a:lnTo>
                    <a:lnTo>
                      <a:pt x="153" y="6932"/>
                    </a:lnTo>
                    <a:lnTo>
                      <a:pt x="188" y="6745"/>
                    </a:lnTo>
                    <a:lnTo>
                      <a:pt x="238" y="6559"/>
                    </a:lnTo>
                    <a:lnTo>
                      <a:pt x="272" y="6373"/>
                    </a:lnTo>
                    <a:lnTo>
                      <a:pt x="289" y="6322"/>
                    </a:lnTo>
                    <a:lnTo>
                      <a:pt x="339" y="6101"/>
                    </a:lnTo>
                    <a:lnTo>
                      <a:pt x="391" y="5881"/>
                    </a:lnTo>
                    <a:lnTo>
                      <a:pt x="442" y="5662"/>
                    </a:lnTo>
                    <a:lnTo>
                      <a:pt x="492" y="5439"/>
                    </a:lnTo>
                    <a:lnTo>
                      <a:pt x="543" y="5220"/>
                    </a:lnTo>
                    <a:lnTo>
                      <a:pt x="576" y="5135"/>
                    </a:lnTo>
                    <a:lnTo>
                      <a:pt x="576" y="5068"/>
                    </a:lnTo>
                    <a:lnTo>
                      <a:pt x="594" y="4982"/>
                    </a:lnTo>
                    <a:lnTo>
                      <a:pt x="594" y="4898"/>
                    </a:lnTo>
                    <a:lnTo>
                      <a:pt x="594" y="4813"/>
                    </a:lnTo>
                    <a:lnTo>
                      <a:pt x="594" y="4744"/>
                    </a:lnTo>
                    <a:lnTo>
                      <a:pt x="576" y="4712"/>
                    </a:lnTo>
                    <a:lnTo>
                      <a:pt x="576" y="4610"/>
                    </a:lnTo>
                    <a:lnTo>
                      <a:pt x="561" y="4509"/>
                    </a:lnTo>
                    <a:lnTo>
                      <a:pt x="543" y="4406"/>
                    </a:lnTo>
                    <a:lnTo>
                      <a:pt x="543" y="4305"/>
                    </a:lnTo>
                    <a:lnTo>
                      <a:pt x="526" y="4203"/>
                    </a:lnTo>
                    <a:lnTo>
                      <a:pt x="526" y="4168"/>
                    </a:lnTo>
                    <a:lnTo>
                      <a:pt x="509" y="3932"/>
                    </a:lnTo>
                    <a:lnTo>
                      <a:pt x="475" y="3694"/>
                    </a:lnTo>
                    <a:lnTo>
                      <a:pt x="458" y="3457"/>
                    </a:lnTo>
                    <a:lnTo>
                      <a:pt x="442" y="3219"/>
                    </a:lnTo>
                    <a:lnTo>
                      <a:pt x="442" y="2983"/>
                    </a:lnTo>
                    <a:lnTo>
                      <a:pt x="442" y="2898"/>
                    </a:lnTo>
                    <a:lnTo>
                      <a:pt x="423" y="2762"/>
                    </a:lnTo>
                    <a:lnTo>
                      <a:pt x="423" y="2643"/>
                    </a:lnTo>
                    <a:lnTo>
                      <a:pt x="423" y="2507"/>
                    </a:lnTo>
                    <a:lnTo>
                      <a:pt x="408" y="2373"/>
                    </a:lnTo>
                    <a:lnTo>
                      <a:pt x="391" y="2254"/>
                    </a:lnTo>
                    <a:lnTo>
                      <a:pt x="391" y="2220"/>
                    </a:lnTo>
                    <a:lnTo>
                      <a:pt x="391" y="2134"/>
                    </a:lnTo>
                    <a:lnTo>
                      <a:pt x="408" y="2067"/>
                    </a:lnTo>
                    <a:lnTo>
                      <a:pt x="408" y="1982"/>
                    </a:lnTo>
                    <a:lnTo>
                      <a:pt x="408" y="1915"/>
                    </a:lnTo>
                    <a:lnTo>
                      <a:pt x="408" y="1830"/>
                    </a:lnTo>
                    <a:lnTo>
                      <a:pt x="408" y="1813"/>
                    </a:lnTo>
                    <a:lnTo>
                      <a:pt x="408" y="1728"/>
                    </a:lnTo>
                    <a:lnTo>
                      <a:pt x="408" y="1662"/>
                    </a:lnTo>
                    <a:lnTo>
                      <a:pt x="391" y="1593"/>
                    </a:lnTo>
                    <a:lnTo>
                      <a:pt x="391" y="1525"/>
                    </a:lnTo>
                    <a:lnTo>
                      <a:pt x="408" y="1439"/>
                    </a:lnTo>
                    <a:lnTo>
                      <a:pt x="408" y="1424"/>
                    </a:lnTo>
                    <a:lnTo>
                      <a:pt x="408" y="1305"/>
                    </a:lnTo>
                    <a:lnTo>
                      <a:pt x="408" y="1186"/>
                    </a:lnTo>
                    <a:lnTo>
                      <a:pt x="442" y="1066"/>
                    </a:lnTo>
                    <a:lnTo>
                      <a:pt x="458" y="967"/>
                    </a:lnTo>
                    <a:lnTo>
                      <a:pt x="475" y="847"/>
                    </a:lnTo>
                    <a:lnTo>
                      <a:pt x="492" y="813"/>
                    </a:lnTo>
                    <a:lnTo>
                      <a:pt x="543" y="644"/>
                    </a:lnTo>
                    <a:lnTo>
                      <a:pt x="627" y="490"/>
                    </a:lnTo>
                    <a:lnTo>
                      <a:pt x="730" y="338"/>
                    </a:lnTo>
                    <a:lnTo>
                      <a:pt x="848" y="221"/>
                    </a:lnTo>
                    <a:lnTo>
                      <a:pt x="1000" y="102"/>
                    </a:lnTo>
                    <a:lnTo>
                      <a:pt x="1051" y="84"/>
                    </a:lnTo>
                    <a:lnTo>
                      <a:pt x="1137" y="33"/>
                    </a:lnTo>
                    <a:lnTo>
                      <a:pt x="1238" y="17"/>
                    </a:lnTo>
                    <a:lnTo>
                      <a:pt x="1322" y="0"/>
                    </a:lnTo>
                    <a:lnTo>
                      <a:pt x="1424" y="17"/>
                    </a:lnTo>
                    <a:lnTo>
                      <a:pt x="1510" y="50"/>
                    </a:lnTo>
                    <a:lnTo>
                      <a:pt x="1543" y="67"/>
                    </a:lnTo>
                    <a:lnTo>
                      <a:pt x="1577" y="102"/>
                    </a:lnTo>
                    <a:lnTo>
                      <a:pt x="1611" y="118"/>
                    </a:lnTo>
                    <a:lnTo>
                      <a:pt x="1644" y="152"/>
                    </a:lnTo>
                    <a:lnTo>
                      <a:pt x="1661" y="186"/>
                    </a:lnTo>
                    <a:lnTo>
                      <a:pt x="1695" y="221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4417920" y="3444840"/>
                <a:ext cx="104760" cy="425520"/>
              </a:xfrm>
              <a:custGeom>
                <a:avLst/>
                <a:gdLst/>
                <a:ahLst/>
                <a:rect l="l" t="t" r="r" b="b"/>
                <a:pathLst>
                  <a:path w="391" h="1609">
                    <a:moveTo>
                      <a:pt x="0" y="0"/>
                    </a:moveTo>
                    <a:lnTo>
                      <a:pt x="50" y="101"/>
                    </a:lnTo>
                    <a:lnTo>
                      <a:pt x="85" y="185"/>
                    </a:lnTo>
                    <a:lnTo>
                      <a:pt x="119" y="287"/>
                    </a:lnTo>
                    <a:lnTo>
                      <a:pt x="154" y="388"/>
                    </a:lnTo>
                    <a:lnTo>
                      <a:pt x="187" y="489"/>
                    </a:lnTo>
                    <a:lnTo>
                      <a:pt x="203" y="592"/>
                    </a:lnTo>
                    <a:lnTo>
                      <a:pt x="221" y="693"/>
                    </a:lnTo>
                    <a:lnTo>
                      <a:pt x="255" y="796"/>
                    </a:lnTo>
                    <a:lnTo>
                      <a:pt x="272" y="897"/>
                    </a:lnTo>
                    <a:lnTo>
                      <a:pt x="288" y="999"/>
                    </a:lnTo>
                    <a:lnTo>
                      <a:pt x="306" y="1100"/>
                    </a:lnTo>
                    <a:lnTo>
                      <a:pt x="322" y="1203"/>
                    </a:lnTo>
                    <a:lnTo>
                      <a:pt x="339" y="1304"/>
                    </a:lnTo>
                    <a:lnTo>
                      <a:pt x="357" y="1406"/>
                    </a:lnTo>
                    <a:lnTo>
                      <a:pt x="373" y="1507"/>
                    </a:lnTo>
                    <a:lnTo>
                      <a:pt x="391" y="16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4486320" y="3870360"/>
                <a:ext cx="54000" cy="633240"/>
              </a:xfrm>
              <a:custGeom>
                <a:avLst/>
                <a:gdLst/>
                <a:ahLst/>
                <a:rect l="l" t="t" r="r" b="b"/>
                <a:pathLst>
                  <a:path w="203" h="2391">
                    <a:moveTo>
                      <a:pt x="136" y="0"/>
                    </a:moveTo>
                    <a:lnTo>
                      <a:pt x="152" y="152"/>
                    </a:lnTo>
                    <a:lnTo>
                      <a:pt x="169" y="304"/>
                    </a:lnTo>
                    <a:lnTo>
                      <a:pt x="169" y="458"/>
                    </a:lnTo>
                    <a:lnTo>
                      <a:pt x="186" y="610"/>
                    </a:lnTo>
                    <a:lnTo>
                      <a:pt x="203" y="763"/>
                    </a:lnTo>
                    <a:lnTo>
                      <a:pt x="203" y="915"/>
                    </a:lnTo>
                    <a:lnTo>
                      <a:pt x="203" y="1068"/>
                    </a:lnTo>
                    <a:lnTo>
                      <a:pt x="203" y="1220"/>
                    </a:lnTo>
                    <a:lnTo>
                      <a:pt x="203" y="1372"/>
                    </a:lnTo>
                    <a:lnTo>
                      <a:pt x="186" y="1526"/>
                    </a:lnTo>
                    <a:lnTo>
                      <a:pt x="169" y="1678"/>
                    </a:lnTo>
                    <a:lnTo>
                      <a:pt x="152" y="1814"/>
                    </a:lnTo>
                    <a:lnTo>
                      <a:pt x="118" y="1965"/>
                    </a:lnTo>
                    <a:lnTo>
                      <a:pt x="84" y="2102"/>
                    </a:lnTo>
                    <a:lnTo>
                      <a:pt x="51" y="2254"/>
                    </a:lnTo>
                    <a:lnTo>
                      <a:pt x="0" y="23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4329000" y="4503600"/>
                <a:ext cx="157320" cy="447840"/>
              </a:xfrm>
              <a:custGeom>
                <a:avLst/>
                <a:gdLst/>
                <a:ahLst/>
                <a:rect l="l" t="t" r="r" b="b"/>
                <a:pathLst>
                  <a:path w="593" h="1695">
                    <a:moveTo>
                      <a:pt x="593" y="0"/>
                    </a:moveTo>
                    <a:lnTo>
                      <a:pt x="559" y="117"/>
                    </a:lnTo>
                    <a:lnTo>
                      <a:pt x="525" y="219"/>
                    </a:lnTo>
                    <a:lnTo>
                      <a:pt x="492" y="320"/>
                    </a:lnTo>
                    <a:lnTo>
                      <a:pt x="457" y="439"/>
                    </a:lnTo>
                    <a:lnTo>
                      <a:pt x="423" y="541"/>
                    </a:lnTo>
                    <a:lnTo>
                      <a:pt x="388" y="642"/>
                    </a:lnTo>
                    <a:lnTo>
                      <a:pt x="338" y="746"/>
                    </a:lnTo>
                    <a:lnTo>
                      <a:pt x="304" y="847"/>
                    </a:lnTo>
                    <a:lnTo>
                      <a:pt x="272" y="949"/>
                    </a:lnTo>
                    <a:lnTo>
                      <a:pt x="220" y="1068"/>
                    </a:lnTo>
                    <a:lnTo>
                      <a:pt x="186" y="1169"/>
                    </a:lnTo>
                    <a:lnTo>
                      <a:pt x="153" y="1270"/>
                    </a:lnTo>
                    <a:lnTo>
                      <a:pt x="101" y="1372"/>
                    </a:lnTo>
                    <a:lnTo>
                      <a:pt x="67" y="1473"/>
                    </a:lnTo>
                    <a:lnTo>
                      <a:pt x="34" y="1576"/>
                    </a:lnTo>
                    <a:lnTo>
                      <a:pt x="0" y="16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118040" y="4951440"/>
                <a:ext cx="210960" cy="380880"/>
              </a:xfrm>
              <a:custGeom>
                <a:avLst/>
                <a:gdLst/>
                <a:ahLst/>
                <a:rect l="l" t="t" r="r" b="b"/>
                <a:pathLst>
                  <a:path w="796" h="1440">
                    <a:moveTo>
                      <a:pt x="796" y="0"/>
                    </a:moveTo>
                    <a:lnTo>
                      <a:pt x="745" y="84"/>
                    </a:lnTo>
                    <a:lnTo>
                      <a:pt x="695" y="169"/>
                    </a:lnTo>
                    <a:lnTo>
                      <a:pt x="643" y="270"/>
                    </a:lnTo>
                    <a:lnTo>
                      <a:pt x="591" y="354"/>
                    </a:lnTo>
                    <a:lnTo>
                      <a:pt x="542" y="439"/>
                    </a:lnTo>
                    <a:lnTo>
                      <a:pt x="490" y="542"/>
                    </a:lnTo>
                    <a:lnTo>
                      <a:pt x="439" y="626"/>
                    </a:lnTo>
                    <a:lnTo>
                      <a:pt x="388" y="710"/>
                    </a:lnTo>
                    <a:lnTo>
                      <a:pt x="338" y="811"/>
                    </a:lnTo>
                    <a:lnTo>
                      <a:pt x="287" y="898"/>
                    </a:lnTo>
                    <a:lnTo>
                      <a:pt x="235" y="982"/>
                    </a:lnTo>
                    <a:lnTo>
                      <a:pt x="185" y="1083"/>
                    </a:lnTo>
                    <a:lnTo>
                      <a:pt x="134" y="1169"/>
                    </a:lnTo>
                    <a:lnTo>
                      <a:pt x="84" y="1271"/>
                    </a:lnTo>
                    <a:lnTo>
                      <a:pt x="50" y="1355"/>
                    </a:lnTo>
                    <a:lnTo>
                      <a:pt x="0" y="1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4068720" y="5332320"/>
                <a:ext cx="49320" cy="260280"/>
              </a:xfrm>
              <a:custGeom>
                <a:avLst/>
                <a:gdLst/>
                <a:ahLst/>
                <a:rect l="l" t="t" r="r" b="b"/>
                <a:pathLst>
                  <a:path w="188" h="983">
                    <a:moveTo>
                      <a:pt x="188" y="0"/>
                    </a:moveTo>
                    <a:lnTo>
                      <a:pt x="170" y="67"/>
                    </a:lnTo>
                    <a:lnTo>
                      <a:pt x="136" y="119"/>
                    </a:lnTo>
                    <a:lnTo>
                      <a:pt x="119" y="186"/>
                    </a:lnTo>
                    <a:lnTo>
                      <a:pt x="102" y="236"/>
                    </a:lnTo>
                    <a:lnTo>
                      <a:pt x="69" y="305"/>
                    </a:lnTo>
                    <a:lnTo>
                      <a:pt x="50" y="355"/>
                    </a:lnTo>
                    <a:lnTo>
                      <a:pt x="35" y="424"/>
                    </a:lnTo>
                    <a:lnTo>
                      <a:pt x="18" y="492"/>
                    </a:lnTo>
                    <a:lnTo>
                      <a:pt x="0" y="558"/>
                    </a:lnTo>
                    <a:lnTo>
                      <a:pt x="0" y="610"/>
                    </a:lnTo>
                    <a:lnTo>
                      <a:pt x="0" y="678"/>
                    </a:lnTo>
                    <a:lnTo>
                      <a:pt x="0" y="746"/>
                    </a:lnTo>
                    <a:lnTo>
                      <a:pt x="0" y="797"/>
                    </a:lnTo>
                    <a:lnTo>
                      <a:pt x="35" y="865"/>
                    </a:lnTo>
                    <a:lnTo>
                      <a:pt x="50" y="916"/>
                    </a:lnTo>
                    <a:lnTo>
                      <a:pt x="85" y="9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4091040" y="5592600"/>
                <a:ext cx="291960" cy="90720"/>
              </a:xfrm>
              <a:custGeom>
                <a:avLst/>
                <a:gdLst/>
                <a:ahLst/>
                <a:rect l="l" t="t" r="r" b="b"/>
                <a:pathLst>
                  <a:path w="1102" h="339">
                    <a:moveTo>
                      <a:pt x="0" y="0"/>
                    </a:moveTo>
                    <a:lnTo>
                      <a:pt x="68" y="34"/>
                    </a:lnTo>
                    <a:lnTo>
                      <a:pt x="136" y="67"/>
                    </a:lnTo>
                    <a:lnTo>
                      <a:pt x="204" y="101"/>
                    </a:lnTo>
                    <a:lnTo>
                      <a:pt x="254" y="118"/>
                    </a:lnTo>
                    <a:lnTo>
                      <a:pt x="338" y="152"/>
                    </a:lnTo>
                    <a:lnTo>
                      <a:pt x="407" y="170"/>
                    </a:lnTo>
                    <a:lnTo>
                      <a:pt x="475" y="186"/>
                    </a:lnTo>
                    <a:lnTo>
                      <a:pt x="542" y="202"/>
                    </a:lnTo>
                    <a:lnTo>
                      <a:pt x="610" y="220"/>
                    </a:lnTo>
                    <a:lnTo>
                      <a:pt x="679" y="237"/>
                    </a:lnTo>
                    <a:lnTo>
                      <a:pt x="746" y="255"/>
                    </a:lnTo>
                    <a:lnTo>
                      <a:pt x="830" y="271"/>
                    </a:lnTo>
                    <a:lnTo>
                      <a:pt x="899" y="289"/>
                    </a:lnTo>
                    <a:lnTo>
                      <a:pt x="966" y="305"/>
                    </a:lnTo>
                    <a:lnTo>
                      <a:pt x="1033" y="321"/>
                    </a:lnTo>
                    <a:lnTo>
                      <a:pt x="1102" y="3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051440" y="5486400"/>
                <a:ext cx="21960" cy="209520"/>
              </a:xfrm>
              <a:custGeom>
                <a:avLst/>
                <a:gdLst/>
                <a:ahLst/>
                <a:rect l="l" t="t" r="r" b="b"/>
                <a:pathLst>
                  <a:path w="84" h="796">
                    <a:moveTo>
                      <a:pt x="84" y="796"/>
                    </a:moveTo>
                    <a:lnTo>
                      <a:pt x="84" y="745"/>
                    </a:lnTo>
                    <a:lnTo>
                      <a:pt x="84" y="695"/>
                    </a:lnTo>
                    <a:lnTo>
                      <a:pt x="84" y="643"/>
                    </a:lnTo>
                    <a:lnTo>
                      <a:pt x="66" y="592"/>
                    </a:lnTo>
                    <a:lnTo>
                      <a:pt x="66" y="542"/>
                    </a:lnTo>
                    <a:lnTo>
                      <a:pt x="50" y="507"/>
                    </a:lnTo>
                    <a:lnTo>
                      <a:pt x="50" y="457"/>
                    </a:lnTo>
                    <a:lnTo>
                      <a:pt x="32" y="406"/>
                    </a:lnTo>
                    <a:lnTo>
                      <a:pt x="16" y="354"/>
                    </a:lnTo>
                    <a:lnTo>
                      <a:pt x="16" y="304"/>
                    </a:lnTo>
                    <a:lnTo>
                      <a:pt x="0" y="253"/>
                    </a:lnTo>
                    <a:lnTo>
                      <a:pt x="0" y="203"/>
                    </a:lnTo>
                    <a:lnTo>
                      <a:pt x="0" y="151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056120" y="5143680"/>
                <a:ext cx="142920" cy="342720"/>
              </a:xfrm>
              <a:custGeom>
                <a:avLst/>
                <a:gdLst/>
                <a:ahLst/>
                <a:rect l="l" t="t" r="r" b="b"/>
                <a:pathLst>
                  <a:path w="542" h="1290">
                    <a:moveTo>
                      <a:pt x="0" y="1290"/>
                    </a:moveTo>
                    <a:lnTo>
                      <a:pt x="16" y="1205"/>
                    </a:lnTo>
                    <a:lnTo>
                      <a:pt x="34" y="1120"/>
                    </a:lnTo>
                    <a:lnTo>
                      <a:pt x="68" y="1036"/>
                    </a:lnTo>
                    <a:lnTo>
                      <a:pt x="85" y="949"/>
                    </a:lnTo>
                    <a:lnTo>
                      <a:pt x="119" y="865"/>
                    </a:lnTo>
                    <a:lnTo>
                      <a:pt x="152" y="798"/>
                    </a:lnTo>
                    <a:lnTo>
                      <a:pt x="186" y="713"/>
                    </a:lnTo>
                    <a:lnTo>
                      <a:pt x="220" y="628"/>
                    </a:lnTo>
                    <a:lnTo>
                      <a:pt x="253" y="561"/>
                    </a:lnTo>
                    <a:lnTo>
                      <a:pt x="288" y="475"/>
                    </a:lnTo>
                    <a:lnTo>
                      <a:pt x="339" y="391"/>
                    </a:lnTo>
                    <a:lnTo>
                      <a:pt x="372" y="323"/>
                    </a:lnTo>
                    <a:lnTo>
                      <a:pt x="407" y="238"/>
                    </a:lnTo>
                    <a:lnTo>
                      <a:pt x="458" y="171"/>
                    </a:lnTo>
                    <a:lnTo>
                      <a:pt x="491" y="84"/>
                    </a:lnTo>
                    <a:lnTo>
                      <a:pt x="5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4199040" y="5073480"/>
                <a:ext cx="41040" cy="70200"/>
              </a:xfrm>
              <a:custGeom>
                <a:avLst/>
                <a:gdLst/>
                <a:ahLst/>
                <a:rect l="l" t="t" r="r" b="b"/>
                <a:pathLst>
                  <a:path w="153" h="270">
                    <a:moveTo>
                      <a:pt x="0" y="270"/>
                    </a:moveTo>
                    <a:lnTo>
                      <a:pt x="0" y="253"/>
                    </a:lnTo>
                    <a:lnTo>
                      <a:pt x="18" y="238"/>
                    </a:lnTo>
                    <a:lnTo>
                      <a:pt x="18" y="220"/>
                    </a:lnTo>
                    <a:lnTo>
                      <a:pt x="34" y="203"/>
                    </a:lnTo>
                    <a:lnTo>
                      <a:pt x="34" y="186"/>
                    </a:lnTo>
                    <a:lnTo>
                      <a:pt x="50" y="169"/>
                    </a:lnTo>
                    <a:lnTo>
                      <a:pt x="50" y="152"/>
                    </a:lnTo>
                    <a:lnTo>
                      <a:pt x="68" y="134"/>
                    </a:lnTo>
                    <a:lnTo>
                      <a:pt x="84" y="119"/>
                    </a:lnTo>
                    <a:lnTo>
                      <a:pt x="84" y="101"/>
                    </a:lnTo>
                    <a:lnTo>
                      <a:pt x="102" y="85"/>
                    </a:lnTo>
                    <a:lnTo>
                      <a:pt x="102" y="67"/>
                    </a:lnTo>
                    <a:lnTo>
                      <a:pt x="119" y="50"/>
                    </a:lnTo>
                    <a:lnTo>
                      <a:pt x="119" y="34"/>
                    </a:lnTo>
                    <a:lnTo>
                      <a:pt x="135" y="16"/>
                    </a:lnTo>
                    <a:lnTo>
                      <a:pt x="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4059360" y="5068800"/>
                <a:ext cx="171360" cy="331920"/>
              </a:xfrm>
              <a:custGeom>
                <a:avLst/>
                <a:gdLst/>
                <a:ahLst/>
                <a:rect l="l" t="t" r="r" b="b"/>
                <a:pathLst>
                  <a:path w="645" h="1255">
                    <a:moveTo>
                      <a:pt x="645" y="0"/>
                    </a:moveTo>
                    <a:lnTo>
                      <a:pt x="594" y="68"/>
                    </a:lnTo>
                    <a:lnTo>
                      <a:pt x="560" y="152"/>
                    </a:lnTo>
                    <a:lnTo>
                      <a:pt x="509" y="221"/>
                    </a:lnTo>
                    <a:lnTo>
                      <a:pt x="475" y="306"/>
                    </a:lnTo>
                    <a:lnTo>
                      <a:pt x="425" y="372"/>
                    </a:lnTo>
                    <a:lnTo>
                      <a:pt x="391" y="459"/>
                    </a:lnTo>
                    <a:lnTo>
                      <a:pt x="341" y="526"/>
                    </a:lnTo>
                    <a:lnTo>
                      <a:pt x="306" y="611"/>
                    </a:lnTo>
                    <a:lnTo>
                      <a:pt x="255" y="695"/>
                    </a:lnTo>
                    <a:lnTo>
                      <a:pt x="222" y="763"/>
                    </a:lnTo>
                    <a:lnTo>
                      <a:pt x="187" y="849"/>
                    </a:lnTo>
                    <a:lnTo>
                      <a:pt x="136" y="916"/>
                    </a:lnTo>
                    <a:lnTo>
                      <a:pt x="103" y="1001"/>
                    </a:lnTo>
                    <a:lnTo>
                      <a:pt x="69" y="1086"/>
                    </a:lnTo>
                    <a:lnTo>
                      <a:pt x="34" y="1171"/>
                    </a:lnTo>
                    <a:lnTo>
                      <a:pt x="0" y="12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4032360" y="54007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01" h="627">
                    <a:moveTo>
                      <a:pt x="101" y="0"/>
                    </a:moveTo>
                    <a:lnTo>
                      <a:pt x="101" y="34"/>
                    </a:lnTo>
                    <a:lnTo>
                      <a:pt x="85" y="69"/>
                    </a:lnTo>
                    <a:lnTo>
                      <a:pt x="85" y="101"/>
                    </a:lnTo>
                    <a:lnTo>
                      <a:pt x="69" y="153"/>
                    </a:lnTo>
                    <a:lnTo>
                      <a:pt x="69" y="185"/>
                    </a:lnTo>
                    <a:lnTo>
                      <a:pt x="51" y="220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16" y="339"/>
                    </a:lnTo>
                    <a:lnTo>
                      <a:pt x="16" y="390"/>
                    </a:lnTo>
                    <a:lnTo>
                      <a:pt x="16" y="424"/>
                    </a:lnTo>
                    <a:lnTo>
                      <a:pt x="0" y="457"/>
                    </a:lnTo>
                    <a:lnTo>
                      <a:pt x="0" y="508"/>
                    </a:lnTo>
                    <a:lnTo>
                      <a:pt x="0" y="543"/>
                    </a:lnTo>
                    <a:lnTo>
                      <a:pt x="16" y="593"/>
                    </a:lnTo>
                    <a:lnTo>
                      <a:pt x="16" y="6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4037040" y="5565600"/>
                <a:ext cx="27000" cy="247680"/>
              </a:xfrm>
              <a:custGeom>
                <a:avLst/>
                <a:gdLst/>
                <a:ahLst/>
                <a:rect l="l" t="t" r="r" b="b"/>
                <a:pathLst>
                  <a:path w="103" h="933">
                    <a:moveTo>
                      <a:pt x="0" y="0"/>
                    </a:moveTo>
                    <a:lnTo>
                      <a:pt x="18" y="50"/>
                    </a:lnTo>
                    <a:lnTo>
                      <a:pt x="35" y="102"/>
                    </a:lnTo>
                    <a:lnTo>
                      <a:pt x="53" y="153"/>
                    </a:lnTo>
                    <a:lnTo>
                      <a:pt x="69" y="220"/>
                    </a:lnTo>
                    <a:lnTo>
                      <a:pt x="69" y="272"/>
                    </a:lnTo>
                    <a:lnTo>
                      <a:pt x="85" y="339"/>
                    </a:lnTo>
                    <a:lnTo>
                      <a:pt x="85" y="391"/>
                    </a:lnTo>
                    <a:lnTo>
                      <a:pt x="85" y="458"/>
                    </a:lnTo>
                    <a:lnTo>
                      <a:pt x="85" y="507"/>
                    </a:lnTo>
                    <a:lnTo>
                      <a:pt x="85" y="576"/>
                    </a:lnTo>
                    <a:lnTo>
                      <a:pt x="85" y="626"/>
                    </a:lnTo>
                    <a:lnTo>
                      <a:pt x="85" y="695"/>
                    </a:lnTo>
                    <a:lnTo>
                      <a:pt x="85" y="745"/>
                    </a:lnTo>
                    <a:lnTo>
                      <a:pt x="85" y="814"/>
                    </a:lnTo>
                    <a:lnTo>
                      <a:pt x="85" y="865"/>
                    </a:lnTo>
                    <a:lnTo>
                      <a:pt x="103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4064040" y="5813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51" h="407">
                    <a:moveTo>
                      <a:pt x="0" y="0"/>
                    </a:moveTo>
                    <a:lnTo>
                      <a:pt x="0" y="16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6" y="101"/>
                    </a:lnTo>
                    <a:lnTo>
                      <a:pt x="16" y="119"/>
                    </a:lnTo>
                    <a:lnTo>
                      <a:pt x="16" y="152"/>
                    </a:lnTo>
                    <a:lnTo>
                      <a:pt x="16" y="170"/>
                    </a:lnTo>
                    <a:lnTo>
                      <a:pt x="34" y="203"/>
                    </a:lnTo>
                    <a:lnTo>
                      <a:pt x="34" y="220"/>
                    </a:lnTo>
                    <a:lnTo>
                      <a:pt x="34" y="254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34" y="338"/>
                    </a:lnTo>
                    <a:lnTo>
                      <a:pt x="34" y="355"/>
                    </a:lnTo>
                    <a:lnTo>
                      <a:pt x="51" y="389"/>
                    </a:lnTo>
                    <a:lnTo>
                      <a:pt x="51" y="4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965400" y="5479920"/>
                <a:ext cx="86040" cy="417600"/>
              </a:xfrm>
              <a:custGeom>
                <a:avLst/>
                <a:gdLst/>
                <a:ahLst/>
                <a:rect l="l" t="t" r="r" b="b"/>
                <a:pathLst>
                  <a:path w="323" h="1578">
                    <a:moveTo>
                      <a:pt x="323" y="1578"/>
                    </a:moveTo>
                    <a:lnTo>
                      <a:pt x="288" y="1492"/>
                    </a:lnTo>
                    <a:lnTo>
                      <a:pt x="254" y="1408"/>
                    </a:lnTo>
                    <a:lnTo>
                      <a:pt x="204" y="1307"/>
                    </a:lnTo>
                    <a:lnTo>
                      <a:pt x="169" y="1204"/>
                    </a:lnTo>
                    <a:lnTo>
                      <a:pt x="152" y="1119"/>
                    </a:lnTo>
                    <a:lnTo>
                      <a:pt x="118" y="1018"/>
                    </a:lnTo>
                    <a:lnTo>
                      <a:pt x="85" y="916"/>
                    </a:lnTo>
                    <a:lnTo>
                      <a:pt x="67" y="815"/>
                    </a:lnTo>
                    <a:lnTo>
                      <a:pt x="51" y="714"/>
                    </a:lnTo>
                    <a:lnTo>
                      <a:pt x="34" y="611"/>
                    </a:lnTo>
                    <a:lnTo>
                      <a:pt x="16" y="510"/>
                    </a:lnTo>
                    <a:lnTo>
                      <a:pt x="16" y="425"/>
                    </a:lnTo>
                    <a:lnTo>
                      <a:pt x="0" y="323"/>
                    </a:lnTo>
                    <a:lnTo>
                      <a:pt x="0" y="222"/>
                    </a:lnTo>
                    <a:lnTo>
                      <a:pt x="16" y="10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970440" y="5319720"/>
                <a:ext cx="21960" cy="160200"/>
              </a:xfrm>
              <a:custGeom>
                <a:avLst/>
                <a:gdLst/>
                <a:ahLst/>
                <a:rect l="l" t="t" r="r" b="b"/>
                <a:pathLst>
                  <a:path w="85" h="609">
                    <a:moveTo>
                      <a:pt x="0" y="609"/>
                    </a:moveTo>
                    <a:lnTo>
                      <a:pt x="18" y="576"/>
                    </a:lnTo>
                    <a:lnTo>
                      <a:pt x="35" y="543"/>
                    </a:lnTo>
                    <a:lnTo>
                      <a:pt x="35" y="509"/>
                    </a:lnTo>
                    <a:lnTo>
                      <a:pt x="35" y="475"/>
                    </a:lnTo>
                    <a:lnTo>
                      <a:pt x="51" y="424"/>
                    </a:lnTo>
                    <a:lnTo>
                      <a:pt x="51" y="389"/>
                    </a:lnTo>
                    <a:lnTo>
                      <a:pt x="51" y="356"/>
                    </a:lnTo>
                    <a:lnTo>
                      <a:pt x="51" y="305"/>
                    </a:lnTo>
                    <a:lnTo>
                      <a:pt x="51" y="270"/>
                    </a:lnTo>
                    <a:lnTo>
                      <a:pt x="69" y="237"/>
                    </a:lnTo>
                    <a:lnTo>
                      <a:pt x="69" y="203"/>
                    </a:lnTo>
                    <a:lnTo>
                      <a:pt x="69" y="152"/>
                    </a:lnTo>
                    <a:lnTo>
                      <a:pt x="69" y="118"/>
                    </a:lnTo>
                    <a:lnTo>
                      <a:pt x="69" y="85"/>
                    </a:lnTo>
                    <a:lnTo>
                      <a:pt x="85" y="33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992400" y="5059440"/>
                <a:ext cx="54000" cy="260280"/>
              </a:xfrm>
              <a:custGeom>
                <a:avLst/>
                <a:gdLst/>
                <a:ahLst/>
                <a:rect l="l" t="t" r="r" b="b"/>
                <a:pathLst>
                  <a:path w="204" h="983">
                    <a:moveTo>
                      <a:pt x="0" y="983"/>
                    </a:moveTo>
                    <a:lnTo>
                      <a:pt x="17" y="932"/>
                    </a:lnTo>
                    <a:lnTo>
                      <a:pt x="17" y="865"/>
                    </a:lnTo>
                    <a:lnTo>
                      <a:pt x="34" y="796"/>
                    </a:lnTo>
                    <a:lnTo>
                      <a:pt x="34" y="728"/>
                    </a:lnTo>
                    <a:lnTo>
                      <a:pt x="51" y="677"/>
                    </a:lnTo>
                    <a:lnTo>
                      <a:pt x="68" y="610"/>
                    </a:lnTo>
                    <a:lnTo>
                      <a:pt x="85" y="543"/>
                    </a:lnTo>
                    <a:lnTo>
                      <a:pt x="85" y="492"/>
                    </a:lnTo>
                    <a:lnTo>
                      <a:pt x="103" y="423"/>
                    </a:lnTo>
                    <a:lnTo>
                      <a:pt x="118" y="373"/>
                    </a:lnTo>
                    <a:lnTo>
                      <a:pt x="135" y="304"/>
                    </a:lnTo>
                    <a:lnTo>
                      <a:pt x="153" y="237"/>
                    </a:lnTo>
                    <a:lnTo>
                      <a:pt x="169" y="185"/>
                    </a:lnTo>
                    <a:lnTo>
                      <a:pt x="169" y="118"/>
                    </a:lnTo>
                    <a:lnTo>
                      <a:pt x="187" y="51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4046400" y="4745160"/>
                <a:ext cx="76320" cy="314280"/>
              </a:xfrm>
              <a:custGeom>
                <a:avLst/>
                <a:gdLst/>
                <a:ahLst/>
                <a:rect l="l" t="t" r="r" b="b"/>
                <a:pathLst>
                  <a:path w="287" h="1187">
                    <a:moveTo>
                      <a:pt x="0" y="1187"/>
                    </a:moveTo>
                    <a:lnTo>
                      <a:pt x="18" y="1119"/>
                    </a:lnTo>
                    <a:lnTo>
                      <a:pt x="34" y="1034"/>
                    </a:lnTo>
                    <a:lnTo>
                      <a:pt x="50" y="966"/>
                    </a:lnTo>
                    <a:lnTo>
                      <a:pt x="68" y="900"/>
                    </a:lnTo>
                    <a:lnTo>
                      <a:pt x="84" y="814"/>
                    </a:lnTo>
                    <a:lnTo>
                      <a:pt x="102" y="746"/>
                    </a:lnTo>
                    <a:lnTo>
                      <a:pt x="119" y="678"/>
                    </a:lnTo>
                    <a:lnTo>
                      <a:pt x="134" y="593"/>
                    </a:lnTo>
                    <a:lnTo>
                      <a:pt x="153" y="527"/>
                    </a:lnTo>
                    <a:lnTo>
                      <a:pt x="169" y="442"/>
                    </a:lnTo>
                    <a:lnTo>
                      <a:pt x="186" y="373"/>
                    </a:lnTo>
                    <a:lnTo>
                      <a:pt x="203" y="304"/>
                    </a:lnTo>
                    <a:lnTo>
                      <a:pt x="220" y="220"/>
                    </a:lnTo>
                    <a:lnTo>
                      <a:pt x="237" y="154"/>
                    </a:lnTo>
                    <a:lnTo>
                      <a:pt x="254" y="85"/>
                    </a:lnTo>
                    <a:lnTo>
                      <a:pt x="2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4122720" y="4633920"/>
                <a:ext cx="4680" cy="111240"/>
              </a:xfrm>
              <a:custGeom>
                <a:avLst/>
                <a:gdLst/>
                <a:ahLst/>
                <a:rect l="l" t="t" r="r" b="b"/>
                <a:pathLst>
                  <a:path w="18" h="423">
                    <a:moveTo>
                      <a:pt x="0" y="423"/>
                    </a:moveTo>
                    <a:lnTo>
                      <a:pt x="0" y="406"/>
                    </a:lnTo>
                    <a:lnTo>
                      <a:pt x="0" y="373"/>
                    </a:lnTo>
                    <a:lnTo>
                      <a:pt x="0" y="356"/>
                    </a:lnTo>
                    <a:lnTo>
                      <a:pt x="0" y="321"/>
                    </a:lnTo>
                    <a:lnTo>
                      <a:pt x="0" y="305"/>
                    </a:lnTo>
                    <a:lnTo>
                      <a:pt x="18" y="270"/>
                    </a:lnTo>
                    <a:lnTo>
                      <a:pt x="18" y="237"/>
                    </a:lnTo>
                    <a:lnTo>
                      <a:pt x="18" y="220"/>
                    </a:lnTo>
                    <a:lnTo>
                      <a:pt x="18" y="186"/>
                    </a:lnTo>
                    <a:lnTo>
                      <a:pt x="18" y="169"/>
                    </a:lnTo>
                    <a:lnTo>
                      <a:pt x="18" y="136"/>
                    </a:lnTo>
                    <a:lnTo>
                      <a:pt x="18" y="101"/>
                    </a:lnTo>
                    <a:lnTo>
                      <a:pt x="18" y="85"/>
                    </a:lnTo>
                    <a:lnTo>
                      <a:pt x="18" y="50"/>
                    </a:lnTo>
                    <a:lnTo>
                      <a:pt x="18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4110120" y="4489560"/>
                <a:ext cx="12600" cy="144360"/>
              </a:xfrm>
              <a:custGeom>
                <a:avLst/>
                <a:gdLst/>
                <a:ahLst/>
                <a:rect l="l" t="t" r="r" b="b"/>
                <a:pathLst>
                  <a:path w="50" h="544">
                    <a:moveTo>
                      <a:pt x="50" y="544"/>
                    </a:moveTo>
                    <a:lnTo>
                      <a:pt x="50" y="510"/>
                    </a:lnTo>
                    <a:lnTo>
                      <a:pt x="50" y="476"/>
                    </a:lnTo>
                    <a:lnTo>
                      <a:pt x="50" y="442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35" y="341"/>
                    </a:lnTo>
                    <a:lnTo>
                      <a:pt x="35" y="307"/>
                    </a:lnTo>
                    <a:lnTo>
                      <a:pt x="35" y="272"/>
                    </a:lnTo>
                    <a:lnTo>
                      <a:pt x="17" y="238"/>
                    </a:lnTo>
                    <a:lnTo>
                      <a:pt x="17" y="203"/>
                    </a:lnTo>
                    <a:lnTo>
                      <a:pt x="17" y="170"/>
                    </a:lnTo>
                    <a:lnTo>
                      <a:pt x="17" y="137"/>
                    </a:lnTo>
                    <a:lnTo>
                      <a:pt x="0" y="102"/>
                    </a:lnTo>
                    <a:lnTo>
                      <a:pt x="0" y="69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4087800" y="4152960"/>
                <a:ext cx="22320" cy="336600"/>
              </a:xfrm>
              <a:custGeom>
                <a:avLst/>
                <a:gdLst/>
                <a:ahLst/>
                <a:rect l="l" t="t" r="r" b="b"/>
                <a:pathLst>
                  <a:path w="84" h="1270">
                    <a:moveTo>
                      <a:pt x="84" y="1270"/>
                    </a:moveTo>
                    <a:lnTo>
                      <a:pt x="84" y="1186"/>
                    </a:lnTo>
                    <a:lnTo>
                      <a:pt x="67" y="1119"/>
                    </a:lnTo>
                    <a:lnTo>
                      <a:pt x="67" y="1034"/>
                    </a:lnTo>
                    <a:lnTo>
                      <a:pt x="50" y="950"/>
                    </a:lnTo>
                    <a:lnTo>
                      <a:pt x="50" y="882"/>
                    </a:lnTo>
                    <a:lnTo>
                      <a:pt x="33" y="796"/>
                    </a:lnTo>
                    <a:lnTo>
                      <a:pt x="33" y="712"/>
                    </a:lnTo>
                    <a:lnTo>
                      <a:pt x="16" y="644"/>
                    </a:lnTo>
                    <a:lnTo>
                      <a:pt x="16" y="559"/>
                    </a:lnTo>
                    <a:lnTo>
                      <a:pt x="16" y="474"/>
                    </a:lnTo>
                    <a:lnTo>
                      <a:pt x="0" y="405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0" y="170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4073400" y="3973680"/>
                <a:ext cx="14400" cy="179280"/>
              </a:xfrm>
              <a:custGeom>
                <a:avLst/>
                <a:gdLst/>
                <a:ahLst/>
                <a:rect l="l" t="t" r="r" b="b"/>
                <a:pathLst>
                  <a:path w="51" h="678">
                    <a:moveTo>
                      <a:pt x="51" y="678"/>
                    </a:moveTo>
                    <a:lnTo>
                      <a:pt x="32" y="626"/>
                    </a:lnTo>
                    <a:lnTo>
                      <a:pt x="32" y="593"/>
                    </a:lnTo>
                    <a:lnTo>
                      <a:pt x="32" y="542"/>
                    </a:lnTo>
                    <a:lnTo>
                      <a:pt x="32" y="507"/>
                    </a:lnTo>
                    <a:lnTo>
                      <a:pt x="32" y="457"/>
                    </a:lnTo>
                    <a:lnTo>
                      <a:pt x="32" y="423"/>
                    </a:lnTo>
                    <a:lnTo>
                      <a:pt x="32" y="373"/>
                    </a:lnTo>
                    <a:lnTo>
                      <a:pt x="32" y="322"/>
                    </a:lnTo>
                    <a:lnTo>
                      <a:pt x="32" y="287"/>
                    </a:lnTo>
                    <a:lnTo>
                      <a:pt x="32" y="238"/>
                    </a:lnTo>
                    <a:lnTo>
                      <a:pt x="32" y="203"/>
                    </a:lnTo>
                    <a:lnTo>
                      <a:pt x="17" y="153"/>
                    </a:lnTo>
                    <a:lnTo>
                      <a:pt x="17" y="119"/>
                    </a:lnTo>
                    <a:lnTo>
                      <a:pt x="17" y="68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4073400" y="3865680"/>
                <a:ext cx="5040" cy="10800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407"/>
                    </a:moveTo>
                    <a:lnTo>
                      <a:pt x="0" y="373"/>
                    </a:lnTo>
                    <a:lnTo>
                      <a:pt x="0" y="338"/>
                    </a:lnTo>
                    <a:lnTo>
                      <a:pt x="0" y="321"/>
                    </a:lnTo>
                    <a:lnTo>
                      <a:pt x="0" y="306"/>
                    </a:lnTo>
                    <a:lnTo>
                      <a:pt x="17" y="272"/>
                    </a:lnTo>
                    <a:lnTo>
                      <a:pt x="17" y="254"/>
                    </a:lnTo>
                    <a:lnTo>
                      <a:pt x="17" y="222"/>
                    </a:lnTo>
                    <a:lnTo>
                      <a:pt x="17" y="203"/>
                    </a:lnTo>
                    <a:lnTo>
                      <a:pt x="17" y="169"/>
                    </a:lnTo>
                    <a:lnTo>
                      <a:pt x="17" y="153"/>
                    </a:lnTo>
                    <a:lnTo>
                      <a:pt x="17" y="118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17" y="51"/>
                    </a:lnTo>
                    <a:lnTo>
                      <a:pt x="17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4073400" y="3763800"/>
                <a:ext cx="5040" cy="101880"/>
              </a:xfrm>
              <a:custGeom>
                <a:avLst/>
                <a:gdLst/>
                <a:ahLst/>
                <a:rect l="l" t="t" r="r" b="b"/>
                <a:pathLst>
                  <a:path w="17" h="389">
                    <a:moveTo>
                      <a:pt x="17" y="389"/>
                    </a:moveTo>
                    <a:lnTo>
                      <a:pt x="17" y="354"/>
                    </a:lnTo>
                    <a:lnTo>
                      <a:pt x="17" y="339"/>
                    </a:lnTo>
                    <a:lnTo>
                      <a:pt x="17" y="304"/>
                    </a:lnTo>
                    <a:lnTo>
                      <a:pt x="17" y="288"/>
                    </a:lnTo>
                    <a:lnTo>
                      <a:pt x="17" y="253"/>
                    </a:lnTo>
                    <a:lnTo>
                      <a:pt x="17" y="238"/>
                    </a:lnTo>
                    <a:lnTo>
                      <a:pt x="0" y="203"/>
                    </a:lnTo>
                    <a:lnTo>
                      <a:pt x="0" y="18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17" y="1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4078440" y="3602160"/>
                <a:ext cx="21960" cy="161640"/>
              </a:xfrm>
              <a:custGeom>
                <a:avLst/>
                <a:gdLst/>
                <a:ahLst/>
                <a:rect l="l" t="t" r="r" b="b"/>
                <a:pathLst>
                  <a:path w="84" h="611">
                    <a:moveTo>
                      <a:pt x="0" y="611"/>
                    </a:moveTo>
                    <a:lnTo>
                      <a:pt x="0" y="560"/>
                    </a:lnTo>
                    <a:lnTo>
                      <a:pt x="0" y="525"/>
                    </a:lnTo>
                    <a:lnTo>
                      <a:pt x="0" y="492"/>
                    </a:lnTo>
                    <a:lnTo>
                      <a:pt x="0" y="458"/>
                    </a:lnTo>
                    <a:lnTo>
                      <a:pt x="0" y="407"/>
                    </a:lnTo>
                    <a:lnTo>
                      <a:pt x="0" y="373"/>
                    </a:lnTo>
                    <a:lnTo>
                      <a:pt x="15" y="339"/>
                    </a:lnTo>
                    <a:lnTo>
                      <a:pt x="15" y="305"/>
                    </a:lnTo>
                    <a:lnTo>
                      <a:pt x="34" y="253"/>
                    </a:lnTo>
                    <a:lnTo>
                      <a:pt x="34" y="220"/>
                    </a:lnTo>
                    <a:lnTo>
                      <a:pt x="34" y="186"/>
                    </a:lnTo>
                    <a:lnTo>
                      <a:pt x="50" y="154"/>
                    </a:lnTo>
                    <a:lnTo>
                      <a:pt x="50" y="101"/>
                    </a:lnTo>
                    <a:lnTo>
                      <a:pt x="67" y="68"/>
                    </a:lnTo>
                    <a:lnTo>
                      <a:pt x="67" y="34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4100400" y="34084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559" h="729">
                    <a:moveTo>
                      <a:pt x="0" y="729"/>
                    </a:moveTo>
                    <a:lnTo>
                      <a:pt x="17" y="678"/>
                    </a:lnTo>
                    <a:lnTo>
                      <a:pt x="34" y="611"/>
                    </a:lnTo>
                    <a:lnTo>
                      <a:pt x="51" y="560"/>
                    </a:lnTo>
                    <a:lnTo>
                      <a:pt x="84" y="510"/>
                    </a:lnTo>
                    <a:lnTo>
                      <a:pt x="102" y="457"/>
                    </a:lnTo>
                    <a:lnTo>
                      <a:pt x="135" y="406"/>
                    </a:lnTo>
                    <a:lnTo>
                      <a:pt x="170" y="356"/>
                    </a:lnTo>
                    <a:lnTo>
                      <a:pt x="203" y="305"/>
                    </a:lnTo>
                    <a:lnTo>
                      <a:pt x="238" y="254"/>
                    </a:lnTo>
                    <a:lnTo>
                      <a:pt x="272" y="221"/>
                    </a:lnTo>
                    <a:lnTo>
                      <a:pt x="322" y="169"/>
                    </a:lnTo>
                    <a:lnTo>
                      <a:pt x="356" y="137"/>
                    </a:lnTo>
                    <a:lnTo>
                      <a:pt x="407" y="84"/>
                    </a:lnTo>
                    <a:lnTo>
                      <a:pt x="457" y="50"/>
                    </a:lnTo>
                    <a:lnTo>
                      <a:pt x="508" y="18"/>
                    </a:lnTo>
                    <a:lnTo>
                      <a:pt x="5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4378320" y="34052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0" y="0"/>
                    </a:moveTo>
                    <a:lnTo>
                      <a:pt x="17" y="17"/>
                    </a:lnTo>
                    <a:lnTo>
                      <a:pt x="34" y="35"/>
                    </a:lnTo>
                    <a:lnTo>
                      <a:pt x="51" y="35"/>
                    </a:lnTo>
                    <a:lnTo>
                      <a:pt x="68" y="51"/>
                    </a:lnTo>
                    <a:lnTo>
                      <a:pt x="86" y="51"/>
                    </a:lnTo>
                    <a:lnTo>
                      <a:pt x="86" y="67"/>
                    </a:lnTo>
                    <a:lnTo>
                      <a:pt x="101" y="85"/>
                    </a:lnTo>
                    <a:lnTo>
                      <a:pt x="118" y="101"/>
                    </a:lnTo>
                    <a:lnTo>
                      <a:pt x="118" y="119"/>
                    </a:lnTo>
                    <a:lnTo>
                      <a:pt x="136" y="119"/>
                    </a:lnTo>
                    <a:lnTo>
                      <a:pt x="136" y="136"/>
                    </a:lnTo>
                    <a:lnTo>
                      <a:pt x="152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8" name=""/>
          <p:cNvGrpSpPr/>
          <p:nvPr/>
        </p:nvGrpSpPr>
        <p:grpSpPr>
          <a:xfrm>
            <a:off x="990720" y="831960"/>
            <a:ext cx="6859440" cy="4482360"/>
            <a:chOff x="990720" y="831960"/>
            <a:chExt cx="6859440" cy="4482360"/>
          </a:xfrm>
        </p:grpSpPr>
        <p:sp>
          <p:nvSpPr>
            <p:cNvPr id="5529" name=""/>
            <p:cNvSpPr/>
            <p:nvPr/>
          </p:nvSpPr>
          <p:spPr>
            <a:xfrm>
              <a:off x="1354320" y="831960"/>
              <a:ext cx="649584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XUAL PURITY IS FOR BOTH TH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MARRIED &amp; UNMARRIED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0" name=""/>
            <p:cNvGrpSpPr/>
            <p:nvPr/>
          </p:nvGrpSpPr>
          <p:grpSpPr>
            <a:xfrm>
              <a:off x="6248520" y="1981080"/>
              <a:ext cx="1514160" cy="3333240"/>
              <a:chOff x="6248520" y="1981080"/>
              <a:chExt cx="1514160" cy="3333240"/>
            </a:xfrm>
          </p:grpSpPr>
          <p:sp>
            <p:nvSpPr>
              <p:cNvPr id="5531" name=""/>
              <p:cNvSpPr/>
              <p:nvPr/>
            </p:nvSpPr>
            <p:spPr>
              <a:xfrm>
                <a:off x="7382160" y="1981080"/>
                <a:ext cx="375480" cy="487800"/>
              </a:xfrm>
              <a:custGeom>
                <a:avLst/>
                <a:gdLst/>
                <a:ahLst/>
                <a:rect l="l" t="t" r="r" b="b"/>
                <a:pathLst>
                  <a:path w="966" h="1256">
                    <a:moveTo>
                      <a:pt x="966" y="146"/>
                    </a:moveTo>
                    <a:lnTo>
                      <a:pt x="966" y="169"/>
                    </a:lnTo>
                    <a:lnTo>
                      <a:pt x="966" y="202"/>
                    </a:lnTo>
                    <a:lnTo>
                      <a:pt x="954" y="226"/>
                    </a:lnTo>
                    <a:lnTo>
                      <a:pt x="954" y="259"/>
                    </a:lnTo>
                    <a:lnTo>
                      <a:pt x="944" y="292"/>
                    </a:lnTo>
                    <a:lnTo>
                      <a:pt x="944" y="315"/>
                    </a:lnTo>
                    <a:lnTo>
                      <a:pt x="932" y="348"/>
                    </a:lnTo>
                    <a:lnTo>
                      <a:pt x="932" y="371"/>
                    </a:lnTo>
                    <a:lnTo>
                      <a:pt x="921" y="404"/>
                    </a:lnTo>
                    <a:lnTo>
                      <a:pt x="921" y="426"/>
                    </a:lnTo>
                    <a:lnTo>
                      <a:pt x="909" y="460"/>
                    </a:lnTo>
                    <a:lnTo>
                      <a:pt x="897" y="482"/>
                    </a:lnTo>
                    <a:lnTo>
                      <a:pt x="897" y="516"/>
                    </a:lnTo>
                    <a:lnTo>
                      <a:pt x="887" y="538"/>
                    </a:lnTo>
                    <a:lnTo>
                      <a:pt x="887" y="561"/>
                    </a:lnTo>
                    <a:lnTo>
                      <a:pt x="875" y="594"/>
                    </a:lnTo>
                    <a:lnTo>
                      <a:pt x="864" y="628"/>
                    </a:lnTo>
                    <a:lnTo>
                      <a:pt x="853" y="663"/>
                    </a:lnTo>
                    <a:lnTo>
                      <a:pt x="842" y="707"/>
                    </a:lnTo>
                    <a:lnTo>
                      <a:pt x="831" y="741"/>
                    </a:lnTo>
                    <a:lnTo>
                      <a:pt x="819" y="775"/>
                    </a:lnTo>
                    <a:lnTo>
                      <a:pt x="808" y="808"/>
                    </a:lnTo>
                    <a:lnTo>
                      <a:pt x="798" y="841"/>
                    </a:lnTo>
                    <a:lnTo>
                      <a:pt x="786" y="886"/>
                    </a:lnTo>
                    <a:lnTo>
                      <a:pt x="775" y="919"/>
                    </a:lnTo>
                    <a:lnTo>
                      <a:pt x="763" y="953"/>
                    </a:lnTo>
                    <a:lnTo>
                      <a:pt x="752" y="987"/>
                    </a:lnTo>
                    <a:lnTo>
                      <a:pt x="742" y="1020"/>
                    </a:lnTo>
                    <a:lnTo>
                      <a:pt x="730" y="1066"/>
                    </a:lnTo>
                    <a:lnTo>
                      <a:pt x="719" y="1100"/>
                    </a:lnTo>
                    <a:lnTo>
                      <a:pt x="719" y="1133"/>
                    </a:lnTo>
                    <a:lnTo>
                      <a:pt x="707" y="1178"/>
                    </a:lnTo>
                    <a:lnTo>
                      <a:pt x="697" y="1189"/>
                    </a:lnTo>
                    <a:lnTo>
                      <a:pt x="685" y="1200"/>
                    </a:lnTo>
                    <a:lnTo>
                      <a:pt x="674" y="1212"/>
                    </a:lnTo>
                    <a:lnTo>
                      <a:pt x="674" y="1222"/>
                    </a:lnTo>
                    <a:lnTo>
                      <a:pt x="663" y="1222"/>
                    </a:lnTo>
                    <a:lnTo>
                      <a:pt x="651" y="1234"/>
                    </a:lnTo>
                    <a:lnTo>
                      <a:pt x="641" y="1245"/>
                    </a:lnTo>
                    <a:lnTo>
                      <a:pt x="629" y="1245"/>
                    </a:lnTo>
                    <a:lnTo>
                      <a:pt x="618" y="1245"/>
                    </a:lnTo>
                    <a:lnTo>
                      <a:pt x="596" y="1245"/>
                    </a:lnTo>
                    <a:lnTo>
                      <a:pt x="573" y="1245"/>
                    </a:lnTo>
                    <a:lnTo>
                      <a:pt x="562" y="1245"/>
                    </a:lnTo>
                    <a:lnTo>
                      <a:pt x="540" y="1256"/>
                    </a:lnTo>
                    <a:lnTo>
                      <a:pt x="517" y="1256"/>
                    </a:lnTo>
                    <a:lnTo>
                      <a:pt x="505" y="1256"/>
                    </a:lnTo>
                    <a:lnTo>
                      <a:pt x="483" y="1256"/>
                    </a:lnTo>
                    <a:lnTo>
                      <a:pt x="472" y="1256"/>
                    </a:lnTo>
                    <a:lnTo>
                      <a:pt x="450" y="1256"/>
                    </a:lnTo>
                    <a:lnTo>
                      <a:pt x="438" y="1256"/>
                    </a:lnTo>
                    <a:lnTo>
                      <a:pt x="416" y="1245"/>
                    </a:lnTo>
                    <a:lnTo>
                      <a:pt x="404" y="1245"/>
                    </a:lnTo>
                    <a:lnTo>
                      <a:pt x="382" y="1234"/>
                    </a:lnTo>
                    <a:lnTo>
                      <a:pt x="371" y="1234"/>
                    </a:lnTo>
                    <a:lnTo>
                      <a:pt x="360" y="1222"/>
                    </a:lnTo>
                    <a:lnTo>
                      <a:pt x="349" y="1212"/>
                    </a:lnTo>
                    <a:lnTo>
                      <a:pt x="326" y="1167"/>
                    </a:lnTo>
                    <a:lnTo>
                      <a:pt x="303" y="1123"/>
                    </a:lnTo>
                    <a:lnTo>
                      <a:pt x="293" y="1077"/>
                    </a:lnTo>
                    <a:lnTo>
                      <a:pt x="282" y="1031"/>
                    </a:lnTo>
                    <a:lnTo>
                      <a:pt x="259" y="975"/>
                    </a:lnTo>
                    <a:lnTo>
                      <a:pt x="248" y="931"/>
                    </a:lnTo>
                    <a:lnTo>
                      <a:pt x="237" y="886"/>
                    </a:lnTo>
                    <a:lnTo>
                      <a:pt x="214" y="841"/>
                    </a:lnTo>
                    <a:lnTo>
                      <a:pt x="204" y="797"/>
                    </a:lnTo>
                    <a:lnTo>
                      <a:pt x="192" y="752"/>
                    </a:lnTo>
                    <a:lnTo>
                      <a:pt x="170" y="707"/>
                    </a:lnTo>
                    <a:lnTo>
                      <a:pt x="158" y="663"/>
                    </a:lnTo>
                    <a:lnTo>
                      <a:pt x="136" y="617"/>
                    </a:lnTo>
                    <a:lnTo>
                      <a:pt x="113" y="571"/>
                    </a:lnTo>
                    <a:lnTo>
                      <a:pt x="91" y="527"/>
                    </a:lnTo>
                    <a:lnTo>
                      <a:pt x="80" y="494"/>
                    </a:lnTo>
                    <a:lnTo>
                      <a:pt x="68" y="472"/>
                    </a:lnTo>
                    <a:lnTo>
                      <a:pt x="56" y="460"/>
                    </a:lnTo>
                    <a:lnTo>
                      <a:pt x="56" y="449"/>
                    </a:lnTo>
                    <a:lnTo>
                      <a:pt x="46" y="437"/>
                    </a:lnTo>
                    <a:lnTo>
                      <a:pt x="46" y="416"/>
                    </a:lnTo>
                    <a:lnTo>
                      <a:pt x="35" y="404"/>
                    </a:lnTo>
                    <a:lnTo>
                      <a:pt x="35" y="393"/>
                    </a:lnTo>
                    <a:lnTo>
                      <a:pt x="35" y="381"/>
                    </a:lnTo>
                    <a:lnTo>
                      <a:pt x="23" y="360"/>
                    </a:lnTo>
                    <a:lnTo>
                      <a:pt x="23" y="348"/>
                    </a:lnTo>
                    <a:lnTo>
                      <a:pt x="12" y="337"/>
                    </a:lnTo>
                    <a:lnTo>
                      <a:pt x="12" y="315"/>
                    </a:lnTo>
                    <a:lnTo>
                      <a:pt x="12" y="304"/>
                    </a:lnTo>
                    <a:lnTo>
                      <a:pt x="0" y="292"/>
                    </a:lnTo>
                    <a:lnTo>
                      <a:pt x="0" y="270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12" y="236"/>
                    </a:lnTo>
                    <a:lnTo>
                      <a:pt x="23" y="226"/>
                    </a:lnTo>
                    <a:lnTo>
                      <a:pt x="35" y="214"/>
                    </a:lnTo>
                    <a:lnTo>
                      <a:pt x="46" y="214"/>
                    </a:lnTo>
                    <a:lnTo>
                      <a:pt x="56" y="202"/>
                    </a:lnTo>
                    <a:lnTo>
                      <a:pt x="68" y="190"/>
                    </a:lnTo>
                    <a:lnTo>
                      <a:pt x="91" y="179"/>
                    </a:lnTo>
                    <a:lnTo>
                      <a:pt x="103" y="179"/>
                    </a:lnTo>
                    <a:lnTo>
                      <a:pt x="113" y="169"/>
                    </a:lnTo>
                    <a:lnTo>
                      <a:pt x="125" y="169"/>
                    </a:lnTo>
                    <a:lnTo>
                      <a:pt x="136" y="157"/>
                    </a:lnTo>
                    <a:lnTo>
                      <a:pt x="148" y="146"/>
                    </a:lnTo>
                    <a:lnTo>
                      <a:pt x="158" y="146"/>
                    </a:lnTo>
                    <a:lnTo>
                      <a:pt x="181" y="134"/>
                    </a:lnTo>
                    <a:lnTo>
                      <a:pt x="192" y="124"/>
                    </a:lnTo>
                    <a:lnTo>
                      <a:pt x="226" y="101"/>
                    </a:lnTo>
                    <a:lnTo>
                      <a:pt x="270" y="78"/>
                    </a:lnTo>
                    <a:lnTo>
                      <a:pt x="326" y="56"/>
                    </a:lnTo>
                    <a:lnTo>
                      <a:pt x="371" y="45"/>
                    </a:lnTo>
                    <a:lnTo>
                      <a:pt x="427" y="23"/>
                    </a:lnTo>
                    <a:lnTo>
                      <a:pt x="483" y="12"/>
                    </a:lnTo>
                    <a:lnTo>
                      <a:pt x="529" y="12"/>
                    </a:lnTo>
                    <a:lnTo>
                      <a:pt x="585" y="0"/>
                    </a:lnTo>
                    <a:lnTo>
                      <a:pt x="641" y="0"/>
                    </a:lnTo>
                    <a:lnTo>
                      <a:pt x="697" y="0"/>
                    </a:lnTo>
                    <a:lnTo>
                      <a:pt x="742" y="12"/>
                    </a:lnTo>
                    <a:lnTo>
                      <a:pt x="798" y="34"/>
                    </a:lnTo>
                    <a:lnTo>
                      <a:pt x="842" y="45"/>
                    </a:lnTo>
                    <a:lnTo>
                      <a:pt x="887" y="78"/>
                    </a:lnTo>
                    <a:lnTo>
                      <a:pt x="932" y="101"/>
                    </a:lnTo>
                    <a:lnTo>
                      <a:pt x="966" y="1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723080" y="2036880"/>
                <a:ext cx="34920" cy="174960"/>
              </a:xfrm>
              <a:custGeom>
                <a:avLst/>
                <a:gdLst/>
                <a:ahLst/>
                <a:rect l="l" t="t" r="r" b="b"/>
                <a:pathLst>
                  <a:path w="91" h="448">
                    <a:moveTo>
                      <a:pt x="91" y="0"/>
                    </a:moveTo>
                    <a:lnTo>
                      <a:pt x="91" y="23"/>
                    </a:lnTo>
                    <a:lnTo>
                      <a:pt x="91" y="56"/>
                    </a:lnTo>
                    <a:lnTo>
                      <a:pt x="79" y="80"/>
                    </a:lnTo>
                    <a:lnTo>
                      <a:pt x="79" y="113"/>
                    </a:lnTo>
                    <a:lnTo>
                      <a:pt x="69" y="146"/>
                    </a:lnTo>
                    <a:lnTo>
                      <a:pt x="69" y="169"/>
                    </a:lnTo>
                    <a:lnTo>
                      <a:pt x="57" y="202"/>
                    </a:lnTo>
                    <a:lnTo>
                      <a:pt x="57" y="225"/>
                    </a:lnTo>
                    <a:lnTo>
                      <a:pt x="46" y="258"/>
                    </a:lnTo>
                    <a:lnTo>
                      <a:pt x="46" y="280"/>
                    </a:lnTo>
                    <a:lnTo>
                      <a:pt x="34" y="314"/>
                    </a:lnTo>
                    <a:lnTo>
                      <a:pt x="22" y="336"/>
                    </a:lnTo>
                    <a:lnTo>
                      <a:pt x="22" y="370"/>
                    </a:lnTo>
                    <a:lnTo>
                      <a:pt x="12" y="392"/>
                    </a:lnTo>
                    <a:lnTo>
                      <a:pt x="12" y="415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657560" y="2212200"/>
                <a:ext cx="65520" cy="226440"/>
              </a:xfrm>
              <a:custGeom>
                <a:avLst/>
                <a:gdLst/>
                <a:ahLst/>
                <a:rect l="l" t="t" r="r" b="b"/>
                <a:pathLst>
                  <a:path w="168" h="584">
                    <a:moveTo>
                      <a:pt x="168" y="0"/>
                    </a:moveTo>
                    <a:lnTo>
                      <a:pt x="157" y="34"/>
                    </a:lnTo>
                    <a:lnTo>
                      <a:pt x="146" y="69"/>
                    </a:lnTo>
                    <a:lnTo>
                      <a:pt x="135" y="113"/>
                    </a:lnTo>
                    <a:lnTo>
                      <a:pt x="124" y="147"/>
                    </a:lnTo>
                    <a:lnTo>
                      <a:pt x="112" y="181"/>
                    </a:lnTo>
                    <a:lnTo>
                      <a:pt x="101" y="214"/>
                    </a:lnTo>
                    <a:lnTo>
                      <a:pt x="91" y="247"/>
                    </a:lnTo>
                    <a:lnTo>
                      <a:pt x="79" y="292"/>
                    </a:lnTo>
                    <a:lnTo>
                      <a:pt x="68" y="325"/>
                    </a:lnTo>
                    <a:lnTo>
                      <a:pt x="56" y="359"/>
                    </a:lnTo>
                    <a:lnTo>
                      <a:pt x="45" y="393"/>
                    </a:lnTo>
                    <a:lnTo>
                      <a:pt x="35" y="426"/>
                    </a:lnTo>
                    <a:lnTo>
                      <a:pt x="23" y="472"/>
                    </a:lnTo>
                    <a:lnTo>
                      <a:pt x="12" y="506"/>
                    </a:lnTo>
                    <a:lnTo>
                      <a:pt x="12" y="539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7412400" y="2172600"/>
                <a:ext cx="105120" cy="279720"/>
              </a:xfrm>
              <a:custGeom>
                <a:avLst/>
                <a:gdLst/>
                <a:ahLst/>
                <a:rect l="l" t="t" r="r" b="b"/>
                <a:pathLst>
                  <a:path w="269" h="718">
                    <a:moveTo>
                      <a:pt x="269" y="718"/>
                    </a:moveTo>
                    <a:lnTo>
                      <a:pt x="246" y="673"/>
                    </a:lnTo>
                    <a:lnTo>
                      <a:pt x="223" y="629"/>
                    </a:lnTo>
                    <a:lnTo>
                      <a:pt x="213" y="583"/>
                    </a:lnTo>
                    <a:lnTo>
                      <a:pt x="202" y="537"/>
                    </a:lnTo>
                    <a:lnTo>
                      <a:pt x="179" y="481"/>
                    </a:lnTo>
                    <a:lnTo>
                      <a:pt x="168" y="437"/>
                    </a:lnTo>
                    <a:lnTo>
                      <a:pt x="157" y="392"/>
                    </a:lnTo>
                    <a:lnTo>
                      <a:pt x="134" y="347"/>
                    </a:lnTo>
                    <a:lnTo>
                      <a:pt x="124" y="303"/>
                    </a:lnTo>
                    <a:lnTo>
                      <a:pt x="112" y="258"/>
                    </a:lnTo>
                    <a:lnTo>
                      <a:pt x="90" y="213"/>
                    </a:lnTo>
                    <a:lnTo>
                      <a:pt x="78" y="169"/>
                    </a:lnTo>
                    <a:lnTo>
                      <a:pt x="56" y="123"/>
                    </a:lnTo>
                    <a:lnTo>
                      <a:pt x="33" y="77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382160" y="2081520"/>
                <a:ext cx="29880" cy="90720"/>
              </a:xfrm>
              <a:custGeom>
                <a:avLst/>
                <a:gdLst/>
                <a:ahLst/>
                <a:rect l="l" t="t" r="r" b="b"/>
                <a:pathLst>
                  <a:path w="80" h="235">
                    <a:moveTo>
                      <a:pt x="80" y="235"/>
                    </a:moveTo>
                    <a:lnTo>
                      <a:pt x="68" y="213"/>
                    </a:lnTo>
                    <a:lnTo>
                      <a:pt x="56" y="201"/>
                    </a:lnTo>
                    <a:lnTo>
                      <a:pt x="56" y="190"/>
                    </a:lnTo>
                    <a:lnTo>
                      <a:pt x="46" y="178"/>
                    </a:lnTo>
                    <a:lnTo>
                      <a:pt x="46" y="157"/>
                    </a:lnTo>
                    <a:lnTo>
                      <a:pt x="35" y="145"/>
                    </a:lnTo>
                    <a:lnTo>
                      <a:pt x="35" y="134"/>
                    </a:lnTo>
                    <a:lnTo>
                      <a:pt x="35" y="122"/>
                    </a:lnTo>
                    <a:lnTo>
                      <a:pt x="23" y="101"/>
                    </a:lnTo>
                    <a:lnTo>
                      <a:pt x="23" y="89"/>
                    </a:lnTo>
                    <a:lnTo>
                      <a:pt x="12" y="78"/>
                    </a:lnTo>
                    <a:lnTo>
                      <a:pt x="12" y="56"/>
                    </a:lnTo>
                    <a:lnTo>
                      <a:pt x="12" y="45"/>
                    </a:lnTo>
                    <a:lnTo>
                      <a:pt x="0" y="3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403040" y="1999800"/>
                <a:ext cx="338400" cy="452520"/>
              </a:xfrm>
              <a:custGeom>
                <a:avLst/>
                <a:gdLst/>
                <a:ahLst/>
                <a:rect l="l" t="t" r="r" b="b"/>
                <a:pathLst>
                  <a:path w="865" h="1167">
                    <a:moveTo>
                      <a:pt x="865" y="124"/>
                    </a:moveTo>
                    <a:lnTo>
                      <a:pt x="853" y="191"/>
                    </a:lnTo>
                    <a:lnTo>
                      <a:pt x="841" y="247"/>
                    </a:lnTo>
                    <a:lnTo>
                      <a:pt x="831" y="315"/>
                    </a:lnTo>
                    <a:lnTo>
                      <a:pt x="819" y="381"/>
                    </a:lnTo>
                    <a:lnTo>
                      <a:pt x="797" y="449"/>
                    </a:lnTo>
                    <a:lnTo>
                      <a:pt x="786" y="505"/>
                    </a:lnTo>
                    <a:lnTo>
                      <a:pt x="763" y="572"/>
                    </a:lnTo>
                    <a:lnTo>
                      <a:pt x="752" y="629"/>
                    </a:lnTo>
                    <a:lnTo>
                      <a:pt x="730" y="696"/>
                    </a:lnTo>
                    <a:lnTo>
                      <a:pt x="707" y="763"/>
                    </a:lnTo>
                    <a:lnTo>
                      <a:pt x="696" y="819"/>
                    </a:lnTo>
                    <a:lnTo>
                      <a:pt x="674" y="886"/>
                    </a:lnTo>
                    <a:lnTo>
                      <a:pt x="651" y="942"/>
                    </a:lnTo>
                    <a:lnTo>
                      <a:pt x="641" y="1010"/>
                    </a:lnTo>
                    <a:lnTo>
                      <a:pt x="618" y="1078"/>
                    </a:lnTo>
                    <a:lnTo>
                      <a:pt x="607" y="1133"/>
                    </a:lnTo>
                    <a:lnTo>
                      <a:pt x="595" y="1144"/>
                    </a:lnTo>
                    <a:lnTo>
                      <a:pt x="585" y="1144"/>
                    </a:lnTo>
                    <a:lnTo>
                      <a:pt x="573" y="1155"/>
                    </a:lnTo>
                    <a:lnTo>
                      <a:pt x="562" y="1155"/>
                    </a:lnTo>
                    <a:lnTo>
                      <a:pt x="552" y="1155"/>
                    </a:lnTo>
                    <a:lnTo>
                      <a:pt x="540" y="1155"/>
                    </a:lnTo>
                    <a:lnTo>
                      <a:pt x="529" y="1167"/>
                    </a:lnTo>
                    <a:lnTo>
                      <a:pt x="517" y="1167"/>
                    </a:lnTo>
                    <a:lnTo>
                      <a:pt x="506" y="1167"/>
                    </a:lnTo>
                    <a:lnTo>
                      <a:pt x="496" y="1167"/>
                    </a:lnTo>
                    <a:lnTo>
                      <a:pt x="484" y="1167"/>
                    </a:lnTo>
                    <a:lnTo>
                      <a:pt x="473" y="1167"/>
                    </a:lnTo>
                    <a:lnTo>
                      <a:pt x="461" y="1167"/>
                    </a:lnTo>
                    <a:lnTo>
                      <a:pt x="449" y="1167"/>
                    </a:lnTo>
                    <a:lnTo>
                      <a:pt x="439" y="1167"/>
                    </a:lnTo>
                    <a:lnTo>
                      <a:pt x="427" y="1155"/>
                    </a:lnTo>
                    <a:lnTo>
                      <a:pt x="416" y="1155"/>
                    </a:lnTo>
                    <a:lnTo>
                      <a:pt x="404" y="1155"/>
                    </a:lnTo>
                    <a:lnTo>
                      <a:pt x="394" y="1155"/>
                    </a:lnTo>
                    <a:lnTo>
                      <a:pt x="382" y="1155"/>
                    </a:lnTo>
                    <a:lnTo>
                      <a:pt x="371" y="1155"/>
                    </a:lnTo>
                    <a:lnTo>
                      <a:pt x="360" y="1144"/>
                    </a:lnTo>
                    <a:lnTo>
                      <a:pt x="348" y="1144"/>
                    </a:lnTo>
                    <a:lnTo>
                      <a:pt x="348" y="1133"/>
                    </a:lnTo>
                    <a:lnTo>
                      <a:pt x="338" y="1133"/>
                    </a:lnTo>
                    <a:lnTo>
                      <a:pt x="338" y="1111"/>
                    </a:lnTo>
                    <a:lnTo>
                      <a:pt x="326" y="1088"/>
                    </a:lnTo>
                    <a:lnTo>
                      <a:pt x="315" y="1066"/>
                    </a:lnTo>
                    <a:lnTo>
                      <a:pt x="315" y="1043"/>
                    </a:lnTo>
                    <a:lnTo>
                      <a:pt x="304" y="1032"/>
                    </a:lnTo>
                    <a:lnTo>
                      <a:pt x="304" y="1010"/>
                    </a:lnTo>
                    <a:lnTo>
                      <a:pt x="293" y="986"/>
                    </a:lnTo>
                    <a:lnTo>
                      <a:pt x="282" y="964"/>
                    </a:lnTo>
                    <a:lnTo>
                      <a:pt x="282" y="942"/>
                    </a:lnTo>
                    <a:lnTo>
                      <a:pt x="270" y="920"/>
                    </a:lnTo>
                    <a:lnTo>
                      <a:pt x="259" y="897"/>
                    </a:lnTo>
                    <a:lnTo>
                      <a:pt x="259" y="886"/>
                    </a:lnTo>
                    <a:lnTo>
                      <a:pt x="247" y="864"/>
                    </a:lnTo>
                    <a:lnTo>
                      <a:pt x="237" y="841"/>
                    </a:lnTo>
                    <a:lnTo>
                      <a:pt x="237" y="819"/>
                    </a:lnTo>
                    <a:lnTo>
                      <a:pt x="226" y="796"/>
                    </a:lnTo>
                    <a:lnTo>
                      <a:pt x="226" y="785"/>
                    </a:lnTo>
                    <a:lnTo>
                      <a:pt x="226" y="774"/>
                    </a:lnTo>
                    <a:lnTo>
                      <a:pt x="226" y="763"/>
                    </a:lnTo>
                    <a:lnTo>
                      <a:pt x="226" y="752"/>
                    </a:lnTo>
                    <a:lnTo>
                      <a:pt x="214" y="740"/>
                    </a:lnTo>
                    <a:lnTo>
                      <a:pt x="214" y="730"/>
                    </a:lnTo>
                    <a:lnTo>
                      <a:pt x="214" y="718"/>
                    </a:lnTo>
                    <a:lnTo>
                      <a:pt x="203" y="707"/>
                    </a:lnTo>
                    <a:lnTo>
                      <a:pt x="203" y="696"/>
                    </a:lnTo>
                    <a:lnTo>
                      <a:pt x="192" y="684"/>
                    </a:lnTo>
                    <a:lnTo>
                      <a:pt x="192" y="674"/>
                    </a:lnTo>
                    <a:lnTo>
                      <a:pt x="181" y="662"/>
                    </a:lnTo>
                    <a:lnTo>
                      <a:pt x="181" y="651"/>
                    </a:lnTo>
                    <a:lnTo>
                      <a:pt x="181" y="640"/>
                    </a:lnTo>
                    <a:lnTo>
                      <a:pt x="170" y="606"/>
                    </a:lnTo>
                    <a:lnTo>
                      <a:pt x="158" y="583"/>
                    </a:lnTo>
                    <a:lnTo>
                      <a:pt x="148" y="561"/>
                    </a:lnTo>
                    <a:lnTo>
                      <a:pt x="148" y="538"/>
                    </a:lnTo>
                    <a:lnTo>
                      <a:pt x="136" y="505"/>
                    </a:lnTo>
                    <a:lnTo>
                      <a:pt x="125" y="482"/>
                    </a:lnTo>
                    <a:lnTo>
                      <a:pt x="114" y="460"/>
                    </a:lnTo>
                    <a:lnTo>
                      <a:pt x="92" y="437"/>
                    </a:lnTo>
                    <a:lnTo>
                      <a:pt x="80" y="415"/>
                    </a:lnTo>
                    <a:lnTo>
                      <a:pt x="69" y="381"/>
                    </a:lnTo>
                    <a:lnTo>
                      <a:pt x="57" y="359"/>
                    </a:lnTo>
                    <a:lnTo>
                      <a:pt x="47" y="336"/>
                    </a:lnTo>
                    <a:lnTo>
                      <a:pt x="35" y="315"/>
                    </a:lnTo>
                    <a:lnTo>
                      <a:pt x="24" y="292"/>
                    </a:lnTo>
                    <a:lnTo>
                      <a:pt x="12" y="270"/>
                    </a:lnTo>
                    <a:lnTo>
                      <a:pt x="0" y="247"/>
                    </a:lnTo>
                    <a:lnTo>
                      <a:pt x="0" y="225"/>
                    </a:lnTo>
                    <a:lnTo>
                      <a:pt x="12" y="214"/>
                    </a:lnTo>
                    <a:lnTo>
                      <a:pt x="24" y="202"/>
                    </a:lnTo>
                    <a:lnTo>
                      <a:pt x="35" y="202"/>
                    </a:lnTo>
                    <a:lnTo>
                      <a:pt x="47" y="191"/>
                    </a:lnTo>
                    <a:lnTo>
                      <a:pt x="57" y="181"/>
                    </a:lnTo>
                    <a:lnTo>
                      <a:pt x="69" y="169"/>
                    </a:lnTo>
                    <a:lnTo>
                      <a:pt x="80" y="169"/>
                    </a:lnTo>
                    <a:lnTo>
                      <a:pt x="92" y="157"/>
                    </a:lnTo>
                    <a:lnTo>
                      <a:pt x="102" y="157"/>
                    </a:lnTo>
                    <a:lnTo>
                      <a:pt x="114" y="145"/>
                    </a:lnTo>
                    <a:lnTo>
                      <a:pt x="125" y="145"/>
                    </a:lnTo>
                    <a:lnTo>
                      <a:pt x="136" y="134"/>
                    </a:lnTo>
                    <a:lnTo>
                      <a:pt x="148" y="124"/>
                    </a:lnTo>
                    <a:lnTo>
                      <a:pt x="158" y="124"/>
                    </a:lnTo>
                    <a:lnTo>
                      <a:pt x="170" y="112"/>
                    </a:lnTo>
                    <a:lnTo>
                      <a:pt x="181" y="112"/>
                    </a:lnTo>
                    <a:lnTo>
                      <a:pt x="192" y="101"/>
                    </a:lnTo>
                    <a:lnTo>
                      <a:pt x="203" y="101"/>
                    </a:lnTo>
                    <a:lnTo>
                      <a:pt x="203" y="89"/>
                    </a:lnTo>
                    <a:lnTo>
                      <a:pt x="214" y="89"/>
                    </a:lnTo>
                    <a:lnTo>
                      <a:pt x="226" y="79"/>
                    </a:lnTo>
                    <a:lnTo>
                      <a:pt x="237" y="79"/>
                    </a:lnTo>
                    <a:lnTo>
                      <a:pt x="247" y="68"/>
                    </a:lnTo>
                    <a:lnTo>
                      <a:pt x="259" y="68"/>
                    </a:lnTo>
                    <a:lnTo>
                      <a:pt x="270" y="56"/>
                    </a:lnTo>
                    <a:lnTo>
                      <a:pt x="282" y="56"/>
                    </a:lnTo>
                    <a:lnTo>
                      <a:pt x="293" y="56"/>
                    </a:lnTo>
                    <a:lnTo>
                      <a:pt x="304" y="56"/>
                    </a:lnTo>
                    <a:lnTo>
                      <a:pt x="315" y="56"/>
                    </a:lnTo>
                    <a:lnTo>
                      <a:pt x="348" y="45"/>
                    </a:lnTo>
                    <a:lnTo>
                      <a:pt x="382" y="33"/>
                    </a:lnTo>
                    <a:lnTo>
                      <a:pt x="416" y="23"/>
                    </a:lnTo>
                    <a:lnTo>
                      <a:pt x="449" y="11"/>
                    </a:lnTo>
                    <a:lnTo>
                      <a:pt x="496" y="11"/>
                    </a:lnTo>
                    <a:lnTo>
                      <a:pt x="529" y="0"/>
                    </a:lnTo>
                    <a:lnTo>
                      <a:pt x="562" y="0"/>
                    </a:lnTo>
                    <a:lnTo>
                      <a:pt x="607" y="0"/>
                    </a:lnTo>
                    <a:lnTo>
                      <a:pt x="641" y="11"/>
                    </a:lnTo>
                    <a:lnTo>
                      <a:pt x="674" y="11"/>
                    </a:lnTo>
                    <a:lnTo>
                      <a:pt x="707" y="23"/>
                    </a:lnTo>
                    <a:lnTo>
                      <a:pt x="742" y="33"/>
                    </a:lnTo>
                    <a:lnTo>
                      <a:pt x="775" y="56"/>
                    </a:lnTo>
                    <a:lnTo>
                      <a:pt x="808" y="68"/>
                    </a:lnTo>
                    <a:lnTo>
                      <a:pt x="831" y="89"/>
                    </a:lnTo>
                    <a:lnTo>
                      <a:pt x="865" y="1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641000" y="2046600"/>
                <a:ext cx="100440" cy="392040"/>
              </a:xfrm>
              <a:custGeom>
                <a:avLst/>
                <a:gdLst/>
                <a:ahLst/>
                <a:rect l="l" t="t" r="r" b="b"/>
                <a:pathLst>
                  <a:path w="258" h="1009">
                    <a:moveTo>
                      <a:pt x="258" y="0"/>
                    </a:moveTo>
                    <a:lnTo>
                      <a:pt x="246" y="67"/>
                    </a:lnTo>
                    <a:lnTo>
                      <a:pt x="234" y="123"/>
                    </a:lnTo>
                    <a:lnTo>
                      <a:pt x="224" y="191"/>
                    </a:lnTo>
                    <a:lnTo>
                      <a:pt x="212" y="257"/>
                    </a:lnTo>
                    <a:lnTo>
                      <a:pt x="190" y="325"/>
                    </a:lnTo>
                    <a:lnTo>
                      <a:pt x="179" y="381"/>
                    </a:lnTo>
                    <a:lnTo>
                      <a:pt x="156" y="448"/>
                    </a:lnTo>
                    <a:lnTo>
                      <a:pt x="145" y="505"/>
                    </a:lnTo>
                    <a:lnTo>
                      <a:pt x="123" y="572"/>
                    </a:lnTo>
                    <a:lnTo>
                      <a:pt x="100" y="639"/>
                    </a:lnTo>
                    <a:lnTo>
                      <a:pt x="89" y="695"/>
                    </a:lnTo>
                    <a:lnTo>
                      <a:pt x="67" y="762"/>
                    </a:lnTo>
                    <a:lnTo>
                      <a:pt x="44" y="818"/>
                    </a:lnTo>
                    <a:lnTo>
                      <a:pt x="34" y="886"/>
                    </a:lnTo>
                    <a:lnTo>
                      <a:pt x="11" y="954"/>
                    </a:lnTo>
                    <a:lnTo>
                      <a:pt x="0" y="10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491600" y="2307960"/>
                <a:ext cx="44280" cy="13068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337"/>
                    </a:moveTo>
                    <a:lnTo>
                      <a:pt x="112" y="315"/>
                    </a:lnTo>
                    <a:lnTo>
                      <a:pt x="100" y="292"/>
                    </a:lnTo>
                    <a:lnTo>
                      <a:pt x="89" y="270"/>
                    </a:lnTo>
                    <a:lnTo>
                      <a:pt x="89" y="247"/>
                    </a:lnTo>
                    <a:lnTo>
                      <a:pt x="78" y="236"/>
                    </a:lnTo>
                    <a:lnTo>
                      <a:pt x="78" y="214"/>
                    </a:lnTo>
                    <a:lnTo>
                      <a:pt x="67" y="190"/>
                    </a:lnTo>
                    <a:lnTo>
                      <a:pt x="56" y="168"/>
                    </a:lnTo>
                    <a:lnTo>
                      <a:pt x="56" y="146"/>
                    </a:lnTo>
                    <a:lnTo>
                      <a:pt x="44" y="124"/>
                    </a:lnTo>
                    <a:lnTo>
                      <a:pt x="33" y="101"/>
                    </a:lnTo>
                    <a:lnTo>
                      <a:pt x="33" y="90"/>
                    </a:lnTo>
                    <a:lnTo>
                      <a:pt x="21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7473240" y="2247120"/>
                <a:ext cx="18360" cy="6084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45" y="156"/>
                    </a:moveTo>
                    <a:lnTo>
                      <a:pt x="45" y="145"/>
                    </a:lnTo>
                    <a:lnTo>
                      <a:pt x="45" y="134"/>
                    </a:lnTo>
                    <a:lnTo>
                      <a:pt x="45" y="123"/>
                    </a:lnTo>
                    <a:lnTo>
                      <a:pt x="45" y="112"/>
                    </a:lnTo>
                    <a:lnTo>
                      <a:pt x="33" y="100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22" y="67"/>
                    </a:lnTo>
                    <a:lnTo>
                      <a:pt x="22" y="56"/>
                    </a:lnTo>
                    <a:lnTo>
                      <a:pt x="11" y="44"/>
                    </a:lnTo>
                    <a:lnTo>
                      <a:pt x="11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7403040" y="2095200"/>
                <a:ext cx="70200" cy="151920"/>
              </a:xfrm>
              <a:custGeom>
                <a:avLst/>
                <a:gdLst/>
                <a:ahLst/>
                <a:rect l="l" t="t" r="r" b="b"/>
                <a:pathLst>
                  <a:path w="181" h="393">
                    <a:moveTo>
                      <a:pt x="181" y="393"/>
                    </a:moveTo>
                    <a:lnTo>
                      <a:pt x="170" y="359"/>
                    </a:lnTo>
                    <a:lnTo>
                      <a:pt x="158" y="336"/>
                    </a:lnTo>
                    <a:lnTo>
                      <a:pt x="148" y="314"/>
                    </a:lnTo>
                    <a:lnTo>
                      <a:pt x="148" y="291"/>
                    </a:lnTo>
                    <a:lnTo>
                      <a:pt x="136" y="258"/>
                    </a:lnTo>
                    <a:lnTo>
                      <a:pt x="125" y="235"/>
                    </a:lnTo>
                    <a:lnTo>
                      <a:pt x="114" y="213"/>
                    </a:lnTo>
                    <a:lnTo>
                      <a:pt x="92" y="190"/>
                    </a:lnTo>
                    <a:lnTo>
                      <a:pt x="80" y="168"/>
                    </a:lnTo>
                    <a:lnTo>
                      <a:pt x="69" y="134"/>
                    </a:lnTo>
                    <a:lnTo>
                      <a:pt x="57" y="112"/>
                    </a:lnTo>
                    <a:lnTo>
                      <a:pt x="47" y="89"/>
                    </a:lnTo>
                    <a:lnTo>
                      <a:pt x="35" y="68"/>
                    </a:lnTo>
                    <a:lnTo>
                      <a:pt x="24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151040" y="2146680"/>
                <a:ext cx="345240" cy="441360"/>
              </a:xfrm>
              <a:custGeom>
                <a:avLst/>
                <a:gdLst/>
                <a:ahLst/>
                <a:rect l="l" t="t" r="r" b="b"/>
                <a:pathLst>
                  <a:path w="885" h="1134">
                    <a:moveTo>
                      <a:pt x="615" y="68"/>
                    </a:moveTo>
                    <a:lnTo>
                      <a:pt x="627" y="112"/>
                    </a:lnTo>
                    <a:lnTo>
                      <a:pt x="648" y="157"/>
                    </a:lnTo>
                    <a:lnTo>
                      <a:pt x="660" y="191"/>
                    </a:lnTo>
                    <a:lnTo>
                      <a:pt x="672" y="237"/>
                    </a:lnTo>
                    <a:lnTo>
                      <a:pt x="695" y="270"/>
                    </a:lnTo>
                    <a:lnTo>
                      <a:pt x="705" y="315"/>
                    </a:lnTo>
                    <a:lnTo>
                      <a:pt x="728" y="359"/>
                    </a:lnTo>
                    <a:lnTo>
                      <a:pt x="740" y="393"/>
                    </a:lnTo>
                    <a:lnTo>
                      <a:pt x="750" y="438"/>
                    </a:lnTo>
                    <a:lnTo>
                      <a:pt x="762" y="483"/>
                    </a:lnTo>
                    <a:lnTo>
                      <a:pt x="784" y="527"/>
                    </a:lnTo>
                    <a:lnTo>
                      <a:pt x="796" y="561"/>
                    </a:lnTo>
                    <a:lnTo>
                      <a:pt x="806" y="605"/>
                    </a:lnTo>
                    <a:lnTo>
                      <a:pt x="818" y="651"/>
                    </a:lnTo>
                    <a:lnTo>
                      <a:pt x="829" y="697"/>
                    </a:lnTo>
                    <a:lnTo>
                      <a:pt x="840" y="741"/>
                    </a:lnTo>
                    <a:lnTo>
                      <a:pt x="840" y="752"/>
                    </a:lnTo>
                    <a:lnTo>
                      <a:pt x="851" y="763"/>
                    </a:lnTo>
                    <a:lnTo>
                      <a:pt x="851" y="774"/>
                    </a:lnTo>
                    <a:lnTo>
                      <a:pt x="851" y="786"/>
                    </a:lnTo>
                    <a:lnTo>
                      <a:pt x="862" y="796"/>
                    </a:lnTo>
                    <a:lnTo>
                      <a:pt x="862" y="808"/>
                    </a:lnTo>
                    <a:lnTo>
                      <a:pt x="874" y="819"/>
                    </a:lnTo>
                    <a:lnTo>
                      <a:pt x="874" y="830"/>
                    </a:lnTo>
                    <a:lnTo>
                      <a:pt x="885" y="842"/>
                    </a:lnTo>
                    <a:lnTo>
                      <a:pt x="885" y="852"/>
                    </a:lnTo>
                    <a:lnTo>
                      <a:pt x="885" y="864"/>
                    </a:lnTo>
                    <a:lnTo>
                      <a:pt x="885" y="875"/>
                    </a:lnTo>
                    <a:lnTo>
                      <a:pt x="885" y="887"/>
                    </a:lnTo>
                    <a:lnTo>
                      <a:pt x="885" y="897"/>
                    </a:lnTo>
                    <a:lnTo>
                      <a:pt x="862" y="920"/>
                    </a:lnTo>
                    <a:lnTo>
                      <a:pt x="829" y="931"/>
                    </a:lnTo>
                    <a:lnTo>
                      <a:pt x="796" y="943"/>
                    </a:lnTo>
                    <a:lnTo>
                      <a:pt x="762" y="953"/>
                    </a:lnTo>
                    <a:lnTo>
                      <a:pt x="728" y="964"/>
                    </a:lnTo>
                    <a:lnTo>
                      <a:pt x="695" y="987"/>
                    </a:lnTo>
                    <a:lnTo>
                      <a:pt x="672" y="998"/>
                    </a:lnTo>
                    <a:lnTo>
                      <a:pt x="638" y="1009"/>
                    </a:lnTo>
                    <a:lnTo>
                      <a:pt x="604" y="1020"/>
                    </a:lnTo>
                    <a:lnTo>
                      <a:pt x="571" y="1044"/>
                    </a:lnTo>
                    <a:lnTo>
                      <a:pt x="537" y="1054"/>
                    </a:lnTo>
                    <a:lnTo>
                      <a:pt x="515" y="1066"/>
                    </a:lnTo>
                    <a:lnTo>
                      <a:pt x="481" y="1089"/>
                    </a:lnTo>
                    <a:lnTo>
                      <a:pt x="448" y="1099"/>
                    </a:lnTo>
                    <a:lnTo>
                      <a:pt x="414" y="1111"/>
                    </a:lnTo>
                    <a:lnTo>
                      <a:pt x="381" y="1134"/>
                    </a:lnTo>
                    <a:lnTo>
                      <a:pt x="369" y="1134"/>
                    </a:lnTo>
                    <a:lnTo>
                      <a:pt x="358" y="1134"/>
                    </a:lnTo>
                    <a:lnTo>
                      <a:pt x="347" y="1134"/>
                    </a:lnTo>
                    <a:lnTo>
                      <a:pt x="336" y="1134"/>
                    </a:lnTo>
                    <a:lnTo>
                      <a:pt x="325" y="1134"/>
                    </a:lnTo>
                    <a:lnTo>
                      <a:pt x="303" y="1122"/>
                    </a:lnTo>
                    <a:lnTo>
                      <a:pt x="291" y="1111"/>
                    </a:lnTo>
                    <a:lnTo>
                      <a:pt x="291" y="1099"/>
                    </a:lnTo>
                    <a:lnTo>
                      <a:pt x="280" y="1099"/>
                    </a:lnTo>
                    <a:lnTo>
                      <a:pt x="268" y="1089"/>
                    </a:lnTo>
                    <a:lnTo>
                      <a:pt x="258" y="1078"/>
                    </a:lnTo>
                    <a:lnTo>
                      <a:pt x="246" y="1066"/>
                    </a:lnTo>
                    <a:lnTo>
                      <a:pt x="234" y="1054"/>
                    </a:lnTo>
                    <a:lnTo>
                      <a:pt x="223" y="1044"/>
                    </a:lnTo>
                    <a:lnTo>
                      <a:pt x="211" y="1032"/>
                    </a:lnTo>
                    <a:lnTo>
                      <a:pt x="200" y="1020"/>
                    </a:lnTo>
                    <a:lnTo>
                      <a:pt x="190" y="998"/>
                    </a:lnTo>
                    <a:lnTo>
                      <a:pt x="178" y="976"/>
                    </a:lnTo>
                    <a:lnTo>
                      <a:pt x="167" y="953"/>
                    </a:lnTo>
                    <a:lnTo>
                      <a:pt x="155" y="931"/>
                    </a:lnTo>
                    <a:lnTo>
                      <a:pt x="134" y="908"/>
                    </a:lnTo>
                    <a:lnTo>
                      <a:pt x="122" y="887"/>
                    </a:lnTo>
                    <a:lnTo>
                      <a:pt x="111" y="864"/>
                    </a:lnTo>
                    <a:lnTo>
                      <a:pt x="100" y="842"/>
                    </a:lnTo>
                    <a:lnTo>
                      <a:pt x="100" y="819"/>
                    </a:lnTo>
                    <a:lnTo>
                      <a:pt x="89" y="796"/>
                    </a:lnTo>
                    <a:lnTo>
                      <a:pt x="77" y="774"/>
                    </a:lnTo>
                    <a:lnTo>
                      <a:pt x="66" y="752"/>
                    </a:lnTo>
                    <a:lnTo>
                      <a:pt x="56" y="730"/>
                    </a:lnTo>
                    <a:lnTo>
                      <a:pt x="56" y="707"/>
                    </a:lnTo>
                    <a:lnTo>
                      <a:pt x="44" y="674"/>
                    </a:lnTo>
                    <a:lnTo>
                      <a:pt x="33" y="651"/>
                    </a:lnTo>
                    <a:lnTo>
                      <a:pt x="33" y="640"/>
                    </a:lnTo>
                    <a:lnTo>
                      <a:pt x="21" y="640"/>
                    </a:lnTo>
                    <a:lnTo>
                      <a:pt x="21" y="629"/>
                    </a:lnTo>
                    <a:lnTo>
                      <a:pt x="10" y="629"/>
                    </a:lnTo>
                    <a:lnTo>
                      <a:pt x="10" y="617"/>
                    </a:lnTo>
                    <a:lnTo>
                      <a:pt x="10" y="605"/>
                    </a:lnTo>
                    <a:lnTo>
                      <a:pt x="10" y="594"/>
                    </a:lnTo>
                    <a:lnTo>
                      <a:pt x="0" y="594"/>
                    </a:lnTo>
                    <a:lnTo>
                      <a:pt x="0" y="583"/>
                    </a:lnTo>
                    <a:lnTo>
                      <a:pt x="0" y="572"/>
                    </a:lnTo>
                    <a:lnTo>
                      <a:pt x="10" y="561"/>
                    </a:lnTo>
                    <a:lnTo>
                      <a:pt x="10" y="549"/>
                    </a:lnTo>
                    <a:lnTo>
                      <a:pt x="44" y="516"/>
                    </a:lnTo>
                    <a:lnTo>
                      <a:pt x="77" y="483"/>
                    </a:lnTo>
                    <a:lnTo>
                      <a:pt x="111" y="450"/>
                    </a:lnTo>
                    <a:lnTo>
                      <a:pt x="155" y="427"/>
                    </a:lnTo>
                    <a:lnTo>
                      <a:pt x="190" y="393"/>
                    </a:lnTo>
                    <a:lnTo>
                      <a:pt x="223" y="359"/>
                    </a:lnTo>
                    <a:lnTo>
                      <a:pt x="268" y="326"/>
                    </a:lnTo>
                    <a:lnTo>
                      <a:pt x="303" y="293"/>
                    </a:lnTo>
                    <a:lnTo>
                      <a:pt x="336" y="270"/>
                    </a:lnTo>
                    <a:lnTo>
                      <a:pt x="381" y="237"/>
                    </a:lnTo>
                    <a:lnTo>
                      <a:pt x="414" y="191"/>
                    </a:lnTo>
                    <a:lnTo>
                      <a:pt x="448" y="157"/>
                    </a:lnTo>
                    <a:lnTo>
                      <a:pt x="481" y="124"/>
                    </a:lnTo>
                    <a:lnTo>
                      <a:pt x="503" y="90"/>
                    </a:lnTo>
                    <a:lnTo>
                      <a:pt x="537" y="46"/>
                    </a:lnTo>
                    <a:lnTo>
                      <a:pt x="559" y="0"/>
                    </a:lnTo>
                    <a:lnTo>
                      <a:pt x="571" y="0"/>
                    </a:lnTo>
                    <a:lnTo>
                      <a:pt x="582" y="11"/>
                    </a:lnTo>
                    <a:lnTo>
                      <a:pt x="592" y="11"/>
                    </a:lnTo>
                    <a:lnTo>
                      <a:pt x="592" y="23"/>
                    </a:lnTo>
                    <a:lnTo>
                      <a:pt x="592" y="34"/>
                    </a:lnTo>
                    <a:lnTo>
                      <a:pt x="604" y="34"/>
                    </a:lnTo>
                    <a:lnTo>
                      <a:pt x="604" y="46"/>
                    </a:lnTo>
                    <a:lnTo>
                      <a:pt x="604" y="56"/>
                    </a:lnTo>
                    <a:lnTo>
                      <a:pt x="615" y="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7391160" y="2172600"/>
                <a:ext cx="86760" cy="261360"/>
              </a:xfrm>
              <a:custGeom>
                <a:avLst/>
                <a:gdLst/>
                <a:ahLst/>
                <a:rect l="l" t="t" r="r" b="b"/>
                <a:pathLst>
                  <a:path w="225" h="673">
                    <a:moveTo>
                      <a:pt x="0" y="0"/>
                    </a:moveTo>
                    <a:lnTo>
                      <a:pt x="12" y="44"/>
                    </a:lnTo>
                    <a:lnTo>
                      <a:pt x="33" y="89"/>
                    </a:lnTo>
                    <a:lnTo>
                      <a:pt x="45" y="123"/>
                    </a:lnTo>
                    <a:lnTo>
                      <a:pt x="57" y="169"/>
                    </a:lnTo>
                    <a:lnTo>
                      <a:pt x="80" y="202"/>
                    </a:lnTo>
                    <a:lnTo>
                      <a:pt x="90" y="247"/>
                    </a:lnTo>
                    <a:lnTo>
                      <a:pt x="113" y="291"/>
                    </a:lnTo>
                    <a:lnTo>
                      <a:pt x="125" y="325"/>
                    </a:lnTo>
                    <a:lnTo>
                      <a:pt x="135" y="370"/>
                    </a:lnTo>
                    <a:lnTo>
                      <a:pt x="147" y="415"/>
                    </a:lnTo>
                    <a:lnTo>
                      <a:pt x="169" y="459"/>
                    </a:lnTo>
                    <a:lnTo>
                      <a:pt x="181" y="493"/>
                    </a:lnTo>
                    <a:lnTo>
                      <a:pt x="191" y="537"/>
                    </a:lnTo>
                    <a:lnTo>
                      <a:pt x="203" y="583"/>
                    </a:lnTo>
                    <a:lnTo>
                      <a:pt x="214" y="629"/>
                    </a:lnTo>
                    <a:lnTo>
                      <a:pt x="225" y="6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7477920" y="2433960"/>
                <a:ext cx="18360" cy="6300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0" y="0"/>
                    </a:moveTo>
                    <a:lnTo>
                      <a:pt x="0" y="11"/>
                    </a:lnTo>
                    <a:lnTo>
                      <a:pt x="11" y="22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22" y="55"/>
                    </a:lnTo>
                    <a:lnTo>
                      <a:pt x="22" y="67"/>
                    </a:lnTo>
                    <a:lnTo>
                      <a:pt x="34" y="78"/>
                    </a:lnTo>
                    <a:lnTo>
                      <a:pt x="34" y="89"/>
                    </a:lnTo>
                    <a:lnTo>
                      <a:pt x="45" y="101"/>
                    </a:lnTo>
                    <a:lnTo>
                      <a:pt x="45" y="111"/>
                    </a:lnTo>
                    <a:lnTo>
                      <a:pt x="45" y="123"/>
                    </a:lnTo>
                    <a:lnTo>
                      <a:pt x="45" y="134"/>
                    </a:lnTo>
                    <a:lnTo>
                      <a:pt x="45" y="146"/>
                    </a:lnTo>
                    <a:lnTo>
                      <a:pt x="45" y="1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300080" y="249696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7">
                    <a:moveTo>
                      <a:pt x="504" y="0"/>
                    </a:moveTo>
                    <a:lnTo>
                      <a:pt x="481" y="23"/>
                    </a:lnTo>
                    <a:lnTo>
                      <a:pt x="448" y="34"/>
                    </a:lnTo>
                    <a:lnTo>
                      <a:pt x="415" y="46"/>
                    </a:lnTo>
                    <a:lnTo>
                      <a:pt x="381" y="56"/>
                    </a:lnTo>
                    <a:lnTo>
                      <a:pt x="347" y="67"/>
                    </a:lnTo>
                    <a:lnTo>
                      <a:pt x="314" y="90"/>
                    </a:lnTo>
                    <a:lnTo>
                      <a:pt x="291" y="101"/>
                    </a:lnTo>
                    <a:lnTo>
                      <a:pt x="257" y="112"/>
                    </a:lnTo>
                    <a:lnTo>
                      <a:pt x="223" y="123"/>
                    </a:lnTo>
                    <a:lnTo>
                      <a:pt x="190" y="147"/>
                    </a:lnTo>
                    <a:lnTo>
                      <a:pt x="156" y="157"/>
                    </a:lnTo>
                    <a:lnTo>
                      <a:pt x="134" y="169"/>
                    </a:lnTo>
                    <a:lnTo>
                      <a:pt x="100" y="192"/>
                    </a:lnTo>
                    <a:lnTo>
                      <a:pt x="67" y="202"/>
                    </a:lnTo>
                    <a:lnTo>
                      <a:pt x="33" y="214"/>
                    </a:lnTo>
                    <a:lnTo>
                      <a:pt x="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165440" y="2401200"/>
                <a:ext cx="64800" cy="142200"/>
              </a:xfrm>
              <a:custGeom>
                <a:avLst/>
                <a:gdLst/>
                <a:ahLst/>
                <a:rect l="l" t="t" r="r" b="b"/>
                <a:pathLst>
                  <a:path w="167" h="369">
                    <a:moveTo>
                      <a:pt x="167" y="369"/>
                    </a:moveTo>
                    <a:lnTo>
                      <a:pt x="157" y="347"/>
                    </a:lnTo>
                    <a:lnTo>
                      <a:pt x="145" y="325"/>
                    </a:lnTo>
                    <a:lnTo>
                      <a:pt x="134" y="302"/>
                    </a:lnTo>
                    <a:lnTo>
                      <a:pt x="122" y="280"/>
                    </a:lnTo>
                    <a:lnTo>
                      <a:pt x="101" y="257"/>
                    </a:lnTo>
                    <a:lnTo>
                      <a:pt x="89" y="236"/>
                    </a:lnTo>
                    <a:lnTo>
                      <a:pt x="78" y="213"/>
                    </a:lnTo>
                    <a:lnTo>
                      <a:pt x="67" y="191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3"/>
                    </a:lnTo>
                    <a:lnTo>
                      <a:pt x="33" y="101"/>
                    </a:lnTo>
                    <a:lnTo>
                      <a:pt x="23" y="79"/>
                    </a:lnTo>
                    <a:lnTo>
                      <a:pt x="23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155720" y="2146680"/>
                <a:ext cx="214560" cy="214920"/>
              </a:xfrm>
              <a:custGeom>
                <a:avLst/>
                <a:gdLst/>
                <a:ahLst/>
                <a:rect l="l" t="t" r="r" b="b"/>
                <a:pathLst>
                  <a:path w="549" h="549">
                    <a:moveTo>
                      <a:pt x="0" y="549"/>
                    </a:moveTo>
                    <a:lnTo>
                      <a:pt x="34" y="516"/>
                    </a:lnTo>
                    <a:lnTo>
                      <a:pt x="67" y="483"/>
                    </a:lnTo>
                    <a:lnTo>
                      <a:pt x="101" y="450"/>
                    </a:lnTo>
                    <a:lnTo>
                      <a:pt x="145" y="427"/>
                    </a:lnTo>
                    <a:lnTo>
                      <a:pt x="180" y="393"/>
                    </a:lnTo>
                    <a:lnTo>
                      <a:pt x="213" y="359"/>
                    </a:lnTo>
                    <a:lnTo>
                      <a:pt x="258" y="326"/>
                    </a:lnTo>
                    <a:lnTo>
                      <a:pt x="293" y="293"/>
                    </a:lnTo>
                    <a:lnTo>
                      <a:pt x="326" y="270"/>
                    </a:lnTo>
                    <a:lnTo>
                      <a:pt x="371" y="237"/>
                    </a:lnTo>
                    <a:lnTo>
                      <a:pt x="404" y="191"/>
                    </a:lnTo>
                    <a:lnTo>
                      <a:pt x="438" y="157"/>
                    </a:lnTo>
                    <a:lnTo>
                      <a:pt x="471" y="124"/>
                    </a:lnTo>
                    <a:lnTo>
                      <a:pt x="493" y="90"/>
                    </a:lnTo>
                    <a:lnTo>
                      <a:pt x="527" y="46"/>
                    </a:lnTo>
                    <a:lnTo>
                      <a:pt x="5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181640" y="2177280"/>
                <a:ext cx="300240" cy="389520"/>
              </a:xfrm>
              <a:custGeom>
                <a:avLst/>
                <a:gdLst/>
                <a:ahLst/>
                <a:rect l="l" t="t" r="r" b="b"/>
                <a:pathLst>
                  <a:path w="774" h="999">
                    <a:moveTo>
                      <a:pt x="685" y="595"/>
                    </a:moveTo>
                    <a:lnTo>
                      <a:pt x="685" y="606"/>
                    </a:lnTo>
                    <a:lnTo>
                      <a:pt x="696" y="628"/>
                    </a:lnTo>
                    <a:lnTo>
                      <a:pt x="696" y="639"/>
                    </a:lnTo>
                    <a:lnTo>
                      <a:pt x="696" y="651"/>
                    </a:lnTo>
                    <a:lnTo>
                      <a:pt x="707" y="662"/>
                    </a:lnTo>
                    <a:lnTo>
                      <a:pt x="707" y="684"/>
                    </a:lnTo>
                    <a:lnTo>
                      <a:pt x="719" y="695"/>
                    </a:lnTo>
                    <a:lnTo>
                      <a:pt x="719" y="707"/>
                    </a:lnTo>
                    <a:lnTo>
                      <a:pt x="729" y="717"/>
                    </a:lnTo>
                    <a:lnTo>
                      <a:pt x="729" y="729"/>
                    </a:lnTo>
                    <a:lnTo>
                      <a:pt x="741" y="751"/>
                    </a:lnTo>
                    <a:lnTo>
                      <a:pt x="741" y="763"/>
                    </a:lnTo>
                    <a:lnTo>
                      <a:pt x="752" y="773"/>
                    </a:lnTo>
                    <a:lnTo>
                      <a:pt x="763" y="785"/>
                    </a:lnTo>
                    <a:lnTo>
                      <a:pt x="763" y="796"/>
                    </a:lnTo>
                    <a:lnTo>
                      <a:pt x="774" y="808"/>
                    </a:lnTo>
                    <a:lnTo>
                      <a:pt x="741" y="829"/>
                    </a:lnTo>
                    <a:lnTo>
                      <a:pt x="719" y="841"/>
                    </a:lnTo>
                    <a:lnTo>
                      <a:pt x="685" y="852"/>
                    </a:lnTo>
                    <a:lnTo>
                      <a:pt x="663" y="864"/>
                    </a:lnTo>
                    <a:lnTo>
                      <a:pt x="628" y="874"/>
                    </a:lnTo>
                    <a:lnTo>
                      <a:pt x="606" y="885"/>
                    </a:lnTo>
                    <a:lnTo>
                      <a:pt x="571" y="897"/>
                    </a:lnTo>
                    <a:lnTo>
                      <a:pt x="550" y="908"/>
                    </a:lnTo>
                    <a:lnTo>
                      <a:pt x="515" y="919"/>
                    </a:lnTo>
                    <a:lnTo>
                      <a:pt x="482" y="930"/>
                    </a:lnTo>
                    <a:lnTo>
                      <a:pt x="460" y="930"/>
                    </a:lnTo>
                    <a:lnTo>
                      <a:pt x="426" y="941"/>
                    </a:lnTo>
                    <a:lnTo>
                      <a:pt x="404" y="953"/>
                    </a:lnTo>
                    <a:lnTo>
                      <a:pt x="371" y="965"/>
                    </a:lnTo>
                    <a:lnTo>
                      <a:pt x="348" y="987"/>
                    </a:lnTo>
                    <a:lnTo>
                      <a:pt x="315" y="999"/>
                    </a:lnTo>
                    <a:lnTo>
                      <a:pt x="304" y="999"/>
                    </a:lnTo>
                    <a:lnTo>
                      <a:pt x="292" y="999"/>
                    </a:lnTo>
                    <a:lnTo>
                      <a:pt x="281" y="999"/>
                    </a:lnTo>
                    <a:lnTo>
                      <a:pt x="270" y="987"/>
                    </a:lnTo>
                    <a:lnTo>
                      <a:pt x="259" y="987"/>
                    </a:lnTo>
                    <a:lnTo>
                      <a:pt x="248" y="975"/>
                    </a:lnTo>
                    <a:lnTo>
                      <a:pt x="236" y="965"/>
                    </a:lnTo>
                    <a:lnTo>
                      <a:pt x="226" y="953"/>
                    </a:lnTo>
                    <a:lnTo>
                      <a:pt x="214" y="941"/>
                    </a:lnTo>
                    <a:lnTo>
                      <a:pt x="214" y="930"/>
                    </a:lnTo>
                    <a:lnTo>
                      <a:pt x="203" y="930"/>
                    </a:lnTo>
                    <a:lnTo>
                      <a:pt x="191" y="919"/>
                    </a:lnTo>
                    <a:lnTo>
                      <a:pt x="169" y="897"/>
                    </a:lnTo>
                    <a:lnTo>
                      <a:pt x="157" y="885"/>
                    </a:lnTo>
                    <a:lnTo>
                      <a:pt x="146" y="864"/>
                    </a:lnTo>
                    <a:lnTo>
                      <a:pt x="134" y="841"/>
                    </a:lnTo>
                    <a:lnTo>
                      <a:pt x="123" y="818"/>
                    </a:lnTo>
                    <a:lnTo>
                      <a:pt x="113" y="796"/>
                    </a:lnTo>
                    <a:lnTo>
                      <a:pt x="113" y="785"/>
                    </a:lnTo>
                    <a:lnTo>
                      <a:pt x="101" y="763"/>
                    </a:lnTo>
                    <a:lnTo>
                      <a:pt x="90" y="740"/>
                    </a:lnTo>
                    <a:lnTo>
                      <a:pt x="78" y="717"/>
                    </a:lnTo>
                    <a:lnTo>
                      <a:pt x="78" y="695"/>
                    </a:lnTo>
                    <a:lnTo>
                      <a:pt x="68" y="673"/>
                    </a:lnTo>
                    <a:lnTo>
                      <a:pt x="57" y="651"/>
                    </a:lnTo>
                    <a:lnTo>
                      <a:pt x="57" y="628"/>
                    </a:lnTo>
                    <a:lnTo>
                      <a:pt x="45" y="606"/>
                    </a:lnTo>
                    <a:lnTo>
                      <a:pt x="45" y="583"/>
                    </a:lnTo>
                    <a:lnTo>
                      <a:pt x="34" y="572"/>
                    </a:lnTo>
                    <a:lnTo>
                      <a:pt x="34" y="561"/>
                    </a:lnTo>
                    <a:lnTo>
                      <a:pt x="23" y="550"/>
                    </a:lnTo>
                    <a:lnTo>
                      <a:pt x="23" y="538"/>
                    </a:lnTo>
                    <a:lnTo>
                      <a:pt x="12" y="526"/>
                    </a:lnTo>
                    <a:lnTo>
                      <a:pt x="12" y="515"/>
                    </a:lnTo>
                    <a:lnTo>
                      <a:pt x="0" y="515"/>
                    </a:lnTo>
                    <a:lnTo>
                      <a:pt x="0" y="504"/>
                    </a:lnTo>
                    <a:lnTo>
                      <a:pt x="0" y="493"/>
                    </a:lnTo>
                    <a:lnTo>
                      <a:pt x="0" y="482"/>
                    </a:lnTo>
                    <a:lnTo>
                      <a:pt x="12" y="470"/>
                    </a:lnTo>
                    <a:lnTo>
                      <a:pt x="23" y="460"/>
                    </a:lnTo>
                    <a:lnTo>
                      <a:pt x="34" y="448"/>
                    </a:lnTo>
                    <a:lnTo>
                      <a:pt x="45" y="448"/>
                    </a:lnTo>
                    <a:lnTo>
                      <a:pt x="45" y="437"/>
                    </a:lnTo>
                    <a:lnTo>
                      <a:pt x="57" y="437"/>
                    </a:lnTo>
                    <a:lnTo>
                      <a:pt x="57" y="426"/>
                    </a:lnTo>
                    <a:lnTo>
                      <a:pt x="68" y="426"/>
                    </a:lnTo>
                    <a:lnTo>
                      <a:pt x="68" y="414"/>
                    </a:lnTo>
                    <a:lnTo>
                      <a:pt x="78" y="414"/>
                    </a:lnTo>
                    <a:lnTo>
                      <a:pt x="90" y="404"/>
                    </a:lnTo>
                    <a:lnTo>
                      <a:pt x="101" y="392"/>
                    </a:lnTo>
                    <a:lnTo>
                      <a:pt x="113" y="392"/>
                    </a:lnTo>
                    <a:lnTo>
                      <a:pt x="113" y="381"/>
                    </a:lnTo>
                    <a:lnTo>
                      <a:pt x="146" y="359"/>
                    </a:lnTo>
                    <a:lnTo>
                      <a:pt x="169" y="336"/>
                    </a:lnTo>
                    <a:lnTo>
                      <a:pt x="191" y="314"/>
                    </a:lnTo>
                    <a:lnTo>
                      <a:pt x="214" y="292"/>
                    </a:lnTo>
                    <a:lnTo>
                      <a:pt x="248" y="270"/>
                    </a:lnTo>
                    <a:lnTo>
                      <a:pt x="270" y="247"/>
                    </a:lnTo>
                    <a:lnTo>
                      <a:pt x="292" y="224"/>
                    </a:lnTo>
                    <a:lnTo>
                      <a:pt x="315" y="202"/>
                    </a:lnTo>
                    <a:lnTo>
                      <a:pt x="348" y="180"/>
                    </a:lnTo>
                    <a:lnTo>
                      <a:pt x="371" y="158"/>
                    </a:lnTo>
                    <a:lnTo>
                      <a:pt x="393" y="135"/>
                    </a:lnTo>
                    <a:lnTo>
                      <a:pt x="416" y="101"/>
                    </a:lnTo>
                    <a:lnTo>
                      <a:pt x="426" y="78"/>
                    </a:lnTo>
                    <a:lnTo>
                      <a:pt x="449" y="56"/>
                    </a:lnTo>
                    <a:lnTo>
                      <a:pt x="472" y="22"/>
                    </a:lnTo>
                    <a:lnTo>
                      <a:pt x="482" y="0"/>
                    </a:lnTo>
                    <a:lnTo>
                      <a:pt x="505" y="33"/>
                    </a:lnTo>
                    <a:lnTo>
                      <a:pt x="515" y="66"/>
                    </a:lnTo>
                    <a:lnTo>
                      <a:pt x="527" y="101"/>
                    </a:lnTo>
                    <a:lnTo>
                      <a:pt x="538" y="146"/>
                    </a:lnTo>
                    <a:lnTo>
                      <a:pt x="550" y="180"/>
                    </a:lnTo>
                    <a:lnTo>
                      <a:pt x="571" y="214"/>
                    </a:lnTo>
                    <a:lnTo>
                      <a:pt x="583" y="258"/>
                    </a:lnTo>
                    <a:lnTo>
                      <a:pt x="595" y="292"/>
                    </a:lnTo>
                    <a:lnTo>
                      <a:pt x="606" y="325"/>
                    </a:lnTo>
                    <a:lnTo>
                      <a:pt x="618" y="371"/>
                    </a:lnTo>
                    <a:lnTo>
                      <a:pt x="628" y="404"/>
                    </a:lnTo>
                    <a:lnTo>
                      <a:pt x="640" y="448"/>
                    </a:lnTo>
                    <a:lnTo>
                      <a:pt x="651" y="482"/>
                    </a:lnTo>
                    <a:lnTo>
                      <a:pt x="663" y="515"/>
                    </a:lnTo>
                    <a:lnTo>
                      <a:pt x="673" y="561"/>
                    </a:lnTo>
                    <a:lnTo>
                      <a:pt x="685" y="595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447320" y="2408040"/>
                <a:ext cx="34920" cy="83880"/>
              </a:xfrm>
              <a:custGeom>
                <a:avLst/>
                <a:gdLst/>
                <a:ahLst/>
                <a:rect l="l" t="t" r="r" b="b"/>
                <a:pathLst>
                  <a:path w="89" h="213">
                    <a:moveTo>
                      <a:pt x="0" y="0"/>
                    </a:moveTo>
                    <a:lnTo>
                      <a:pt x="0" y="11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34" y="100"/>
                    </a:lnTo>
                    <a:lnTo>
                      <a:pt x="34" y="112"/>
                    </a:lnTo>
                    <a:lnTo>
                      <a:pt x="44" y="122"/>
                    </a:lnTo>
                    <a:lnTo>
                      <a:pt x="44" y="134"/>
                    </a:lnTo>
                    <a:lnTo>
                      <a:pt x="56" y="156"/>
                    </a:lnTo>
                    <a:lnTo>
                      <a:pt x="56" y="168"/>
                    </a:lnTo>
                    <a:lnTo>
                      <a:pt x="67" y="178"/>
                    </a:lnTo>
                    <a:lnTo>
                      <a:pt x="78" y="190"/>
                    </a:lnTo>
                    <a:lnTo>
                      <a:pt x="78" y="201"/>
                    </a:lnTo>
                    <a:lnTo>
                      <a:pt x="89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305120" y="2492280"/>
                <a:ext cx="177120" cy="74520"/>
              </a:xfrm>
              <a:custGeom>
                <a:avLst/>
                <a:gdLst/>
                <a:ahLst/>
                <a:rect l="l" t="t" r="r" b="b"/>
                <a:pathLst>
                  <a:path w="459" h="191">
                    <a:moveTo>
                      <a:pt x="459" y="0"/>
                    </a:moveTo>
                    <a:lnTo>
                      <a:pt x="426" y="21"/>
                    </a:lnTo>
                    <a:lnTo>
                      <a:pt x="404" y="33"/>
                    </a:lnTo>
                    <a:lnTo>
                      <a:pt x="370" y="44"/>
                    </a:lnTo>
                    <a:lnTo>
                      <a:pt x="348" y="56"/>
                    </a:lnTo>
                    <a:lnTo>
                      <a:pt x="313" y="66"/>
                    </a:lnTo>
                    <a:lnTo>
                      <a:pt x="291" y="77"/>
                    </a:lnTo>
                    <a:lnTo>
                      <a:pt x="256" y="89"/>
                    </a:lnTo>
                    <a:lnTo>
                      <a:pt x="235" y="100"/>
                    </a:lnTo>
                    <a:lnTo>
                      <a:pt x="200" y="111"/>
                    </a:lnTo>
                    <a:lnTo>
                      <a:pt x="167" y="122"/>
                    </a:lnTo>
                    <a:lnTo>
                      <a:pt x="145" y="122"/>
                    </a:lnTo>
                    <a:lnTo>
                      <a:pt x="111" y="133"/>
                    </a:lnTo>
                    <a:lnTo>
                      <a:pt x="89" y="145"/>
                    </a:lnTo>
                    <a:lnTo>
                      <a:pt x="56" y="157"/>
                    </a:lnTo>
                    <a:lnTo>
                      <a:pt x="33" y="179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200360" y="2404080"/>
                <a:ext cx="55800" cy="129960"/>
              </a:xfrm>
              <a:custGeom>
                <a:avLst/>
                <a:gdLst/>
                <a:ahLst/>
                <a:rect l="l" t="t" r="r" b="b"/>
                <a:pathLst>
                  <a:path w="146" h="336">
                    <a:moveTo>
                      <a:pt x="146" y="336"/>
                    </a:moveTo>
                    <a:lnTo>
                      <a:pt x="124" y="314"/>
                    </a:lnTo>
                    <a:lnTo>
                      <a:pt x="112" y="302"/>
                    </a:lnTo>
                    <a:lnTo>
                      <a:pt x="101" y="281"/>
                    </a:lnTo>
                    <a:lnTo>
                      <a:pt x="89" y="258"/>
                    </a:lnTo>
                    <a:lnTo>
                      <a:pt x="78" y="235"/>
                    </a:lnTo>
                    <a:lnTo>
                      <a:pt x="68" y="213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45" y="157"/>
                    </a:lnTo>
                    <a:lnTo>
                      <a:pt x="33" y="134"/>
                    </a:lnTo>
                    <a:lnTo>
                      <a:pt x="33" y="112"/>
                    </a:lnTo>
                    <a:lnTo>
                      <a:pt x="23" y="90"/>
                    </a:lnTo>
                    <a:lnTo>
                      <a:pt x="12" y="68"/>
                    </a:lnTo>
                    <a:lnTo>
                      <a:pt x="12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225560" y="2177280"/>
                <a:ext cx="144720" cy="149040"/>
              </a:xfrm>
              <a:custGeom>
                <a:avLst/>
                <a:gdLst/>
                <a:ahLst/>
                <a:rect l="l" t="t" r="r" b="b"/>
                <a:pathLst>
                  <a:path w="369" h="381">
                    <a:moveTo>
                      <a:pt x="0" y="381"/>
                    </a:moveTo>
                    <a:lnTo>
                      <a:pt x="33" y="359"/>
                    </a:lnTo>
                    <a:lnTo>
                      <a:pt x="56" y="336"/>
                    </a:lnTo>
                    <a:lnTo>
                      <a:pt x="78" y="314"/>
                    </a:lnTo>
                    <a:lnTo>
                      <a:pt x="101" y="292"/>
                    </a:lnTo>
                    <a:lnTo>
                      <a:pt x="135" y="270"/>
                    </a:lnTo>
                    <a:lnTo>
                      <a:pt x="157" y="247"/>
                    </a:lnTo>
                    <a:lnTo>
                      <a:pt x="179" y="224"/>
                    </a:lnTo>
                    <a:lnTo>
                      <a:pt x="202" y="202"/>
                    </a:lnTo>
                    <a:lnTo>
                      <a:pt x="235" y="180"/>
                    </a:lnTo>
                    <a:lnTo>
                      <a:pt x="258" y="158"/>
                    </a:lnTo>
                    <a:lnTo>
                      <a:pt x="280" y="135"/>
                    </a:lnTo>
                    <a:lnTo>
                      <a:pt x="303" y="101"/>
                    </a:lnTo>
                    <a:lnTo>
                      <a:pt x="313" y="78"/>
                    </a:lnTo>
                    <a:lnTo>
                      <a:pt x="336" y="56"/>
                    </a:lnTo>
                    <a:lnTo>
                      <a:pt x="359" y="22"/>
                    </a:lnTo>
                    <a:lnTo>
                      <a:pt x="3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370640" y="2177280"/>
                <a:ext cx="76680" cy="230760"/>
              </a:xfrm>
              <a:custGeom>
                <a:avLst/>
                <a:gdLst/>
                <a:ahLst/>
                <a:rect l="l" t="t" r="r" b="b"/>
                <a:pathLst>
                  <a:path w="203" h="595">
                    <a:moveTo>
                      <a:pt x="0" y="0"/>
                    </a:moveTo>
                    <a:lnTo>
                      <a:pt x="23" y="33"/>
                    </a:lnTo>
                    <a:lnTo>
                      <a:pt x="33" y="66"/>
                    </a:lnTo>
                    <a:lnTo>
                      <a:pt x="45" y="101"/>
                    </a:lnTo>
                    <a:lnTo>
                      <a:pt x="56" y="146"/>
                    </a:lnTo>
                    <a:lnTo>
                      <a:pt x="68" y="180"/>
                    </a:lnTo>
                    <a:lnTo>
                      <a:pt x="89" y="214"/>
                    </a:lnTo>
                    <a:lnTo>
                      <a:pt x="101" y="258"/>
                    </a:lnTo>
                    <a:lnTo>
                      <a:pt x="113" y="292"/>
                    </a:lnTo>
                    <a:lnTo>
                      <a:pt x="124" y="325"/>
                    </a:lnTo>
                    <a:lnTo>
                      <a:pt x="136" y="371"/>
                    </a:lnTo>
                    <a:lnTo>
                      <a:pt x="146" y="404"/>
                    </a:lnTo>
                    <a:lnTo>
                      <a:pt x="158" y="448"/>
                    </a:lnTo>
                    <a:lnTo>
                      <a:pt x="169" y="482"/>
                    </a:lnTo>
                    <a:lnTo>
                      <a:pt x="181" y="515"/>
                    </a:lnTo>
                    <a:lnTo>
                      <a:pt x="191" y="561"/>
                    </a:lnTo>
                    <a:lnTo>
                      <a:pt x="203" y="5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456680" y="2478600"/>
                <a:ext cx="305640" cy="615960"/>
              </a:xfrm>
              <a:custGeom>
                <a:avLst/>
                <a:gdLst/>
                <a:ahLst/>
                <a:rect l="l" t="t" r="r" b="b"/>
                <a:pathLst>
                  <a:path w="785" h="1581">
                    <a:moveTo>
                      <a:pt x="672" y="23"/>
                    </a:moveTo>
                    <a:lnTo>
                      <a:pt x="683" y="35"/>
                    </a:lnTo>
                    <a:lnTo>
                      <a:pt x="695" y="45"/>
                    </a:lnTo>
                    <a:lnTo>
                      <a:pt x="705" y="45"/>
                    </a:lnTo>
                    <a:lnTo>
                      <a:pt x="717" y="56"/>
                    </a:lnTo>
                    <a:lnTo>
                      <a:pt x="717" y="68"/>
                    </a:lnTo>
                    <a:lnTo>
                      <a:pt x="729" y="91"/>
                    </a:lnTo>
                    <a:lnTo>
                      <a:pt x="729" y="101"/>
                    </a:lnTo>
                    <a:lnTo>
                      <a:pt x="740" y="112"/>
                    </a:lnTo>
                    <a:lnTo>
                      <a:pt x="740" y="124"/>
                    </a:lnTo>
                    <a:lnTo>
                      <a:pt x="740" y="146"/>
                    </a:lnTo>
                    <a:lnTo>
                      <a:pt x="740" y="157"/>
                    </a:lnTo>
                    <a:lnTo>
                      <a:pt x="740" y="168"/>
                    </a:lnTo>
                    <a:lnTo>
                      <a:pt x="740" y="192"/>
                    </a:lnTo>
                    <a:lnTo>
                      <a:pt x="740" y="202"/>
                    </a:lnTo>
                    <a:lnTo>
                      <a:pt x="740" y="214"/>
                    </a:lnTo>
                    <a:lnTo>
                      <a:pt x="740" y="226"/>
                    </a:lnTo>
                    <a:lnTo>
                      <a:pt x="740" y="270"/>
                    </a:lnTo>
                    <a:lnTo>
                      <a:pt x="752" y="303"/>
                    </a:lnTo>
                    <a:lnTo>
                      <a:pt x="752" y="338"/>
                    </a:lnTo>
                    <a:lnTo>
                      <a:pt x="752" y="371"/>
                    </a:lnTo>
                    <a:lnTo>
                      <a:pt x="752" y="416"/>
                    </a:lnTo>
                    <a:lnTo>
                      <a:pt x="762" y="449"/>
                    </a:lnTo>
                    <a:lnTo>
                      <a:pt x="762" y="483"/>
                    </a:lnTo>
                    <a:lnTo>
                      <a:pt x="762" y="516"/>
                    </a:lnTo>
                    <a:lnTo>
                      <a:pt x="762" y="549"/>
                    </a:lnTo>
                    <a:lnTo>
                      <a:pt x="762" y="594"/>
                    </a:lnTo>
                    <a:lnTo>
                      <a:pt x="774" y="629"/>
                    </a:lnTo>
                    <a:lnTo>
                      <a:pt x="774" y="663"/>
                    </a:lnTo>
                    <a:lnTo>
                      <a:pt x="774" y="696"/>
                    </a:lnTo>
                    <a:lnTo>
                      <a:pt x="774" y="730"/>
                    </a:lnTo>
                    <a:lnTo>
                      <a:pt x="774" y="775"/>
                    </a:lnTo>
                    <a:lnTo>
                      <a:pt x="774" y="808"/>
                    </a:lnTo>
                    <a:lnTo>
                      <a:pt x="774" y="831"/>
                    </a:lnTo>
                    <a:lnTo>
                      <a:pt x="774" y="864"/>
                    </a:lnTo>
                    <a:lnTo>
                      <a:pt x="774" y="887"/>
                    </a:lnTo>
                    <a:lnTo>
                      <a:pt x="774" y="920"/>
                    </a:lnTo>
                    <a:lnTo>
                      <a:pt x="774" y="942"/>
                    </a:lnTo>
                    <a:lnTo>
                      <a:pt x="774" y="965"/>
                    </a:lnTo>
                    <a:lnTo>
                      <a:pt x="774" y="998"/>
                    </a:lnTo>
                    <a:lnTo>
                      <a:pt x="774" y="1021"/>
                    </a:lnTo>
                    <a:lnTo>
                      <a:pt x="774" y="1043"/>
                    </a:lnTo>
                    <a:lnTo>
                      <a:pt x="774" y="1066"/>
                    </a:lnTo>
                    <a:lnTo>
                      <a:pt x="774" y="1100"/>
                    </a:lnTo>
                    <a:lnTo>
                      <a:pt x="785" y="1122"/>
                    </a:lnTo>
                    <a:lnTo>
                      <a:pt x="785" y="1144"/>
                    </a:lnTo>
                    <a:lnTo>
                      <a:pt x="785" y="1179"/>
                    </a:lnTo>
                    <a:lnTo>
                      <a:pt x="785" y="1200"/>
                    </a:lnTo>
                    <a:lnTo>
                      <a:pt x="785" y="1223"/>
                    </a:lnTo>
                    <a:lnTo>
                      <a:pt x="774" y="1256"/>
                    </a:lnTo>
                    <a:lnTo>
                      <a:pt x="752" y="1279"/>
                    </a:lnTo>
                    <a:lnTo>
                      <a:pt x="740" y="1301"/>
                    </a:lnTo>
                    <a:lnTo>
                      <a:pt x="717" y="1324"/>
                    </a:lnTo>
                    <a:lnTo>
                      <a:pt x="695" y="1346"/>
                    </a:lnTo>
                    <a:lnTo>
                      <a:pt x="683" y="1369"/>
                    </a:lnTo>
                    <a:lnTo>
                      <a:pt x="661" y="1390"/>
                    </a:lnTo>
                    <a:lnTo>
                      <a:pt x="639" y="1413"/>
                    </a:lnTo>
                    <a:lnTo>
                      <a:pt x="616" y="1425"/>
                    </a:lnTo>
                    <a:lnTo>
                      <a:pt x="594" y="1446"/>
                    </a:lnTo>
                    <a:lnTo>
                      <a:pt x="571" y="1470"/>
                    </a:lnTo>
                    <a:lnTo>
                      <a:pt x="550" y="1492"/>
                    </a:lnTo>
                    <a:lnTo>
                      <a:pt x="527" y="1515"/>
                    </a:lnTo>
                    <a:lnTo>
                      <a:pt x="505" y="1538"/>
                    </a:lnTo>
                    <a:lnTo>
                      <a:pt x="482" y="1560"/>
                    </a:lnTo>
                    <a:lnTo>
                      <a:pt x="471" y="1581"/>
                    </a:lnTo>
                    <a:lnTo>
                      <a:pt x="459" y="1581"/>
                    </a:lnTo>
                    <a:lnTo>
                      <a:pt x="449" y="1581"/>
                    </a:lnTo>
                    <a:lnTo>
                      <a:pt x="437" y="1581"/>
                    </a:lnTo>
                    <a:lnTo>
                      <a:pt x="426" y="1581"/>
                    </a:lnTo>
                    <a:lnTo>
                      <a:pt x="404" y="1526"/>
                    </a:lnTo>
                    <a:lnTo>
                      <a:pt x="381" y="1458"/>
                    </a:lnTo>
                    <a:lnTo>
                      <a:pt x="360" y="1402"/>
                    </a:lnTo>
                    <a:lnTo>
                      <a:pt x="337" y="1334"/>
                    </a:lnTo>
                    <a:lnTo>
                      <a:pt x="325" y="1268"/>
                    </a:lnTo>
                    <a:lnTo>
                      <a:pt x="303" y="1200"/>
                    </a:lnTo>
                    <a:lnTo>
                      <a:pt x="280" y="1144"/>
                    </a:lnTo>
                    <a:lnTo>
                      <a:pt x="258" y="1078"/>
                    </a:lnTo>
                    <a:lnTo>
                      <a:pt x="246" y="1009"/>
                    </a:lnTo>
                    <a:lnTo>
                      <a:pt x="224" y="953"/>
                    </a:lnTo>
                    <a:lnTo>
                      <a:pt x="202" y="887"/>
                    </a:lnTo>
                    <a:lnTo>
                      <a:pt x="168" y="819"/>
                    </a:lnTo>
                    <a:lnTo>
                      <a:pt x="146" y="763"/>
                    </a:lnTo>
                    <a:lnTo>
                      <a:pt x="111" y="707"/>
                    </a:lnTo>
                    <a:lnTo>
                      <a:pt x="90" y="641"/>
                    </a:lnTo>
                    <a:lnTo>
                      <a:pt x="56" y="584"/>
                    </a:lnTo>
                    <a:lnTo>
                      <a:pt x="45" y="584"/>
                    </a:lnTo>
                    <a:lnTo>
                      <a:pt x="0" y="427"/>
                    </a:lnTo>
                    <a:lnTo>
                      <a:pt x="0" y="404"/>
                    </a:lnTo>
                    <a:lnTo>
                      <a:pt x="12" y="382"/>
                    </a:lnTo>
                    <a:lnTo>
                      <a:pt x="22" y="371"/>
                    </a:lnTo>
                    <a:lnTo>
                      <a:pt x="22" y="348"/>
                    </a:lnTo>
                    <a:lnTo>
                      <a:pt x="34" y="326"/>
                    </a:lnTo>
                    <a:lnTo>
                      <a:pt x="45" y="303"/>
                    </a:lnTo>
                    <a:lnTo>
                      <a:pt x="56" y="293"/>
                    </a:lnTo>
                    <a:lnTo>
                      <a:pt x="56" y="270"/>
                    </a:lnTo>
                    <a:lnTo>
                      <a:pt x="67" y="247"/>
                    </a:lnTo>
                    <a:lnTo>
                      <a:pt x="78" y="226"/>
                    </a:lnTo>
                    <a:lnTo>
                      <a:pt x="90" y="214"/>
                    </a:lnTo>
                    <a:lnTo>
                      <a:pt x="90" y="192"/>
                    </a:lnTo>
                    <a:lnTo>
                      <a:pt x="101" y="168"/>
                    </a:lnTo>
                    <a:lnTo>
                      <a:pt x="101" y="146"/>
                    </a:lnTo>
                    <a:lnTo>
                      <a:pt x="111" y="124"/>
                    </a:lnTo>
                    <a:lnTo>
                      <a:pt x="123" y="112"/>
                    </a:lnTo>
                    <a:lnTo>
                      <a:pt x="146" y="91"/>
                    </a:lnTo>
                    <a:lnTo>
                      <a:pt x="179" y="68"/>
                    </a:lnTo>
                    <a:lnTo>
                      <a:pt x="212" y="56"/>
                    </a:lnTo>
                    <a:lnTo>
                      <a:pt x="246" y="45"/>
                    </a:lnTo>
                    <a:lnTo>
                      <a:pt x="280" y="35"/>
                    </a:lnTo>
                    <a:lnTo>
                      <a:pt x="313" y="23"/>
                    </a:lnTo>
                    <a:lnTo>
                      <a:pt x="348" y="23"/>
                    </a:lnTo>
                    <a:lnTo>
                      <a:pt x="381" y="12"/>
                    </a:lnTo>
                    <a:lnTo>
                      <a:pt x="426" y="12"/>
                    </a:lnTo>
                    <a:lnTo>
                      <a:pt x="459" y="12"/>
                    </a:lnTo>
                    <a:lnTo>
                      <a:pt x="493" y="0"/>
                    </a:lnTo>
                    <a:lnTo>
                      <a:pt x="527" y="12"/>
                    </a:lnTo>
                    <a:lnTo>
                      <a:pt x="560" y="12"/>
                    </a:lnTo>
                    <a:lnTo>
                      <a:pt x="594" y="12"/>
                    </a:lnTo>
                    <a:lnTo>
                      <a:pt x="639" y="23"/>
                    </a:lnTo>
                    <a:lnTo>
                      <a:pt x="672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718400" y="2487600"/>
                <a:ext cx="25200" cy="79200"/>
              </a:xfrm>
              <a:custGeom>
                <a:avLst/>
                <a:gdLst/>
                <a:ahLst/>
                <a:rect l="l" t="t" r="r" b="b"/>
                <a:pathLst>
                  <a:path w="68" h="203">
                    <a:moveTo>
                      <a:pt x="0" y="0"/>
                    </a:moveTo>
                    <a:lnTo>
                      <a:pt x="11" y="12"/>
                    </a:lnTo>
                    <a:lnTo>
                      <a:pt x="23" y="22"/>
                    </a:lnTo>
                    <a:lnTo>
                      <a:pt x="33" y="22"/>
                    </a:lnTo>
                    <a:lnTo>
                      <a:pt x="45" y="33"/>
                    </a:lnTo>
                    <a:lnTo>
                      <a:pt x="45" y="45"/>
                    </a:lnTo>
                    <a:lnTo>
                      <a:pt x="57" y="68"/>
                    </a:lnTo>
                    <a:lnTo>
                      <a:pt x="57" y="78"/>
                    </a:lnTo>
                    <a:lnTo>
                      <a:pt x="68" y="89"/>
                    </a:lnTo>
                    <a:lnTo>
                      <a:pt x="68" y="101"/>
                    </a:lnTo>
                    <a:lnTo>
                      <a:pt x="68" y="123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68" y="169"/>
                    </a:lnTo>
                    <a:lnTo>
                      <a:pt x="68" y="179"/>
                    </a:lnTo>
                    <a:lnTo>
                      <a:pt x="68" y="191"/>
                    </a:lnTo>
                    <a:lnTo>
                      <a:pt x="68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743600" y="2566800"/>
                <a:ext cx="14040" cy="226440"/>
              </a:xfrm>
              <a:custGeom>
                <a:avLst/>
                <a:gdLst/>
                <a:ahLst/>
                <a:rect l="l" t="t" r="r" b="b"/>
                <a:pathLst>
                  <a:path w="34" h="582">
                    <a:moveTo>
                      <a:pt x="0" y="0"/>
                    </a:moveTo>
                    <a:lnTo>
                      <a:pt x="0" y="44"/>
                    </a:lnTo>
                    <a:lnTo>
                      <a:pt x="12" y="77"/>
                    </a:lnTo>
                    <a:lnTo>
                      <a:pt x="12" y="112"/>
                    </a:lnTo>
                    <a:lnTo>
                      <a:pt x="12" y="145"/>
                    </a:lnTo>
                    <a:lnTo>
                      <a:pt x="12" y="190"/>
                    </a:lnTo>
                    <a:lnTo>
                      <a:pt x="22" y="223"/>
                    </a:lnTo>
                    <a:lnTo>
                      <a:pt x="22" y="257"/>
                    </a:lnTo>
                    <a:lnTo>
                      <a:pt x="22" y="290"/>
                    </a:lnTo>
                    <a:lnTo>
                      <a:pt x="22" y="323"/>
                    </a:lnTo>
                    <a:lnTo>
                      <a:pt x="22" y="368"/>
                    </a:lnTo>
                    <a:lnTo>
                      <a:pt x="34" y="403"/>
                    </a:lnTo>
                    <a:lnTo>
                      <a:pt x="34" y="437"/>
                    </a:lnTo>
                    <a:lnTo>
                      <a:pt x="34" y="470"/>
                    </a:lnTo>
                    <a:lnTo>
                      <a:pt x="34" y="504"/>
                    </a:lnTo>
                    <a:lnTo>
                      <a:pt x="34" y="549"/>
                    </a:lnTo>
                    <a:lnTo>
                      <a:pt x="34" y="5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758000" y="2793600"/>
                <a:ext cx="4680" cy="160920"/>
              </a:xfrm>
              <a:custGeom>
                <a:avLst/>
                <a:gdLst/>
                <a:ahLst/>
                <a:rect l="l" t="t" r="r" b="b"/>
                <a:pathLst>
                  <a:path w="11" h="415">
                    <a:moveTo>
                      <a:pt x="0" y="0"/>
                    </a:moveTo>
                    <a:lnTo>
                      <a:pt x="0" y="23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0" y="112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0" y="190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58"/>
                    </a:lnTo>
                    <a:lnTo>
                      <a:pt x="0" y="292"/>
                    </a:lnTo>
                    <a:lnTo>
                      <a:pt x="11" y="314"/>
                    </a:lnTo>
                    <a:lnTo>
                      <a:pt x="11" y="336"/>
                    </a:lnTo>
                    <a:lnTo>
                      <a:pt x="11" y="371"/>
                    </a:lnTo>
                    <a:lnTo>
                      <a:pt x="11" y="392"/>
                    </a:lnTo>
                    <a:lnTo>
                      <a:pt x="11" y="4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641000" y="2954520"/>
                <a:ext cx="121680" cy="140040"/>
              </a:xfrm>
              <a:custGeom>
                <a:avLst/>
                <a:gdLst/>
                <a:ahLst/>
                <a:rect l="l" t="t" r="r" b="b"/>
                <a:pathLst>
                  <a:path w="314" h="358">
                    <a:moveTo>
                      <a:pt x="314" y="0"/>
                    </a:moveTo>
                    <a:lnTo>
                      <a:pt x="303" y="33"/>
                    </a:lnTo>
                    <a:lnTo>
                      <a:pt x="281" y="56"/>
                    </a:lnTo>
                    <a:lnTo>
                      <a:pt x="269" y="78"/>
                    </a:lnTo>
                    <a:lnTo>
                      <a:pt x="246" y="101"/>
                    </a:lnTo>
                    <a:lnTo>
                      <a:pt x="224" y="123"/>
                    </a:lnTo>
                    <a:lnTo>
                      <a:pt x="212" y="146"/>
                    </a:lnTo>
                    <a:lnTo>
                      <a:pt x="190" y="167"/>
                    </a:lnTo>
                    <a:lnTo>
                      <a:pt x="168" y="190"/>
                    </a:lnTo>
                    <a:lnTo>
                      <a:pt x="145" y="202"/>
                    </a:lnTo>
                    <a:lnTo>
                      <a:pt x="123" y="223"/>
                    </a:lnTo>
                    <a:lnTo>
                      <a:pt x="100" y="247"/>
                    </a:lnTo>
                    <a:lnTo>
                      <a:pt x="79" y="269"/>
                    </a:lnTo>
                    <a:lnTo>
                      <a:pt x="56" y="292"/>
                    </a:lnTo>
                    <a:lnTo>
                      <a:pt x="34" y="315"/>
                    </a:lnTo>
                    <a:lnTo>
                      <a:pt x="11" y="337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477920" y="2704680"/>
                <a:ext cx="144360" cy="389880"/>
              </a:xfrm>
              <a:custGeom>
                <a:avLst/>
                <a:gdLst/>
                <a:ahLst/>
                <a:rect l="l" t="t" r="r" b="b"/>
                <a:pathLst>
                  <a:path w="370" h="997">
                    <a:moveTo>
                      <a:pt x="370" y="997"/>
                    </a:moveTo>
                    <a:lnTo>
                      <a:pt x="348" y="942"/>
                    </a:lnTo>
                    <a:lnTo>
                      <a:pt x="325" y="874"/>
                    </a:lnTo>
                    <a:lnTo>
                      <a:pt x="304" y="818"/>
                    </a:lnTo>
                    <a:lnTo>
                      <a:pt x="281" y="750"/>
                    </a:lnTo>
                    <a:lnTo>
                      <a:pt x="269" y="684"/>
                    </a:lnTo>
                    <a:lnTo>
                      <a:pt x="247" y="616"/>
                    </a:lnTo>
                    <a:lnTo>
                      <a:pt x="224" y="560"/>
                    </a:lnTo>
                    <a:lnTo>
                      <a:pt x="202" y="494"/>
                    </a:lnTo>
                    <a:lnTo>
                      <a:pt x="190" y="425"/>
                    </a:lnTo>
                    <a:lnTo>
                      <a:pt x="168" y="369"/>
                    </a:lnTo>
                    <a:lnTo>
                      <a:pt x="146" y="303"/>
                    </a:lnTo>
                    <a:lnTo>
                      <a:pt x="112" y="235"/>
                    </a:lnTo>
                    <a:lnTo>
                      <a:pt x="90" y="179"/>
                    </a:lnTo>
                    <a:lnTo>
                      <a:pt x="55" y="123"/>
                    </a:lnTo>
                    <a:lnTo>
                      <a:pt x="34" y="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 flipH="1" flipV="1">
                <a:off x="7456320" y="2643840"/>
                <a:ext cx="1620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456680" y="2522520"/>
                <a:ext cx="48960" cy="121680"/>
              </a:xfrm>
              <a:custGeom>
                <a:avLst/>
                <a:gdLst/>
                <a:ahLst/>
                <a:rect l="l" t="t" r="r" b="b"/>
                <a:pathLst>
                  <a:path w="123" h="315">
                    <a:moveTo>
                      <a:pt x="0" y="315"/>
                    </a:moveTo>
                    <a:lnTo>
                      <a:pt x="0" y="292"/>
                    </a:lnTo>
                    <a:lnTo>
                      <a:pt x="12" y="270"/>
                    </a:lnTo>
                    <a:lnTo>
                      <a:pt x="22" y="259"/>
                    </a:lnTo>
                    <a:lnTo>
                      <a:pt x="22" y="236"/>
                    </a:lnTo>
                    <a:lnTo>
                      <a:pt x="34" y="214"/>
                    </a:lnTo>
                    <a:lnTo>
                      <a:pt x="45" y="191"/>
                    </a:lnTo>
                    <a:lnTo>
                      <a:pt x="56" y="181"/>
                    </a:lnTo>
                    <a:lnTo>
                      <a:pt x="56" y="158"/>
                    </a:lnTo>
                    <a:lnTo>
                      <a:pt x="67" y="135"/>
                    </a:lnTo>
                    <a:lnTo>
                      <a:pt x="78" y="114"/>
                    </a:lnTo>
                    <a:lnTo>
                      <a:pt x="90" y="102"/>
                    </a:lnTo>
                    <a:lnTo>
                      <a:pt x="90" y="80"/>
                    </a:lnTo>
                    <a:lnTo>
                      <a:pt x="101" y="56"/>
                    </a:lnTo>
                    <a:lnTo>
                      <a:pt x="101" y="34"/>
                    </a:lnTo>
                    <a:lnTo>
                      <a:pt x="111" y="12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470720" y="2499120"/>
                <a:ext cx="270720" cy="572040"/>
              </a:xfrm>
              <a:custGeom>
                <a:avLst/>
                <a:gdLst/>
                <a:ahLst/>
                <a:rect l="l" t="t" r="r" b="b"/>
                <a:pathLst>
                  <a:path w="695" h="1470">
                    <a:moveTo>
                      <a:pt x="649" y="56"/>
                    </a:moveTo>
                    <a:lnTo>
                      <a:pt x="661" y="124"/>
                    </a:lnTo>
                    <a:lnTo>
                      <a:pt x="661" y="191"/>
                    </a:lnTo>
                    <a:lnTo>
                      <a:pt x="671" y="270"/>
                    </a:lnTo>
                    <a:lnTo>
                      <a:pt x="671" y="337"/>
                    </a:lnTo>
                    <a:lnTo>
                      <a:pt x="683" y="404"/>
                    </a:lnTo>
                    <a:lnTo>
                      <a:pt x="683" y="482"/>
                    </a:lnTo>
                    <a:lnTo>
                      <a:pt x="683" y="550"/>
                    </a:lnTo>
                    <a:lnTo>
                      <a:pt x="683" y="618"/>
                    </a:lnTo>
                    <a:lnTo>
                      <a:pt x="683" y="696"/>
                    </a:lnTo>
                    <a:lnTo>
                      <a:pt x="695" y="763"/>
                    </a:lnTo>
                    <a:lnTo>
                      <a:pt x="695" y="831"/>
                    </a:lnTo>
                    <a:lnTo>
                      <a:pt x="695" y="897"/>
                    </a:lnTo>
                    <a:lnTo>
                      <a:pt x="695" y="975"/>
                    </a:lnTo>
                    <a:lnTo>
                      <a:pt x="695" y="1044"/>
                    </a:lnTo>
                    <a:lnTo>
                      <a:pt x="695" y="1111"/>
                    </a:lnTo>
                    <a:lnTo>
                      <a:pt x="695" y="1179"/>
                    </a:lnTo>
                    <a:lnTo>
                      <a:pt x="661" y="1245"/>
                    </a:lnTo>
                    <a:lnTo>
                      <a:pt x="425" y="1470"/>
                    </a:lnTo>
                    <a:lnTo>
                      <a:pt x="415" y="1414"/>
                    </a:lnTo>
                    <a:lnTo>
                      <a:pt x="392" y="1369"/>
                    </a:lnTo>
                    <a:lnTo>
                      <a:pt x="382" y="1324"/>
                    </a:lnTo>
                    <a:lnTo>
                      <a:pt x="370" y="1278"/>
                    </a:lnTo>
                    <a:lnTo>
                      <a:pt x="347" y="1234"/>
                    </a:lnTo>
                    <a:lnTo>
                      <a:pt x="336" y="1189"/>
                    </a:lnTo>
                    <a:lnTo>
                      <a:pt x="326" y="1144"/>
                    </a:lnTo>
                    <a:lnTo>
                      <a:pt x="303" y="1088"/>
                    </a:lnTo>
                    <a:lnTo>
                      <a:pt x="291" y="1044"/>
                    </a:lnTo>
                    <a:lnTo>
                      <a:pt x="269" y="999"/>
                    </a:lnTo>
                    <a:lnTo>
                      <a:pt x="257" y="953"/>
                    </a:lnTo>
                    <a:lnTo>
                      <a:pt x="246" y="909"/>
                    </a:lnTo>
                    <a:lnTo>
                      <a:pt x="224" y="864"/>
                    </a:lnTo>
                    <a:lnTo>
                      <a:pt x="212" y="819"/>
                    </a:lnTo>
                    <a:lnTo>
                      <a:pt x="190" y="775"/>
                    </a:lnTo>
                    <a:lnTo>
                      <a:pt x="178" y="719"/>
                    </a:lnTo>
                    <a:lnTo>
                      <a:pt x="168" y="696"/>
                    </a:lnTo>
                    <a:lnTo>
                      <a:pt x="156" y="674"/>
                    </a:lnTo>
                    <a:lnTo>
                      <a:pt x="145" y="651"/>
                    </a:lnTo>
                    <a:lnTo>
                      <a:pt x="134" y="629"/>
                    </a:lnTo>
                    <a:lnTo>
                      <a:pt x="123" y="607"/>
                    </a:lnTo>
                    <a:lnTo>
                      <a:pt x="112" y="585"/>
                    </a:lnTo>
                    <a:lnTo>
                      <a:pt x="89" y="573"/>
                    </a:lnTo>
                    <a:lnTo>
                      <a:pt x="77" y="550"/>
                    </a:lnTo>
                    <a:lnTo>
                      <a:pt x="67" y="528"/>
                    </a:lnTo>
                    <a:lnTo>
                      <a:pt x="56" y="505"/>
                    </a:lnTo>
                    <a:lnTo>
                      <a:pt x="44" y="482"/>
                    </a:lnTo>
                    <a:lnTo>
                      <a:pt x="33" y="460"/>
                    </a:lnTo>
                    <a:lnTo>
                      <a:pt x="22" y="437"/>
                    </a:lnTo>
                    <a:lnTo>
                      <a:pt x="11" y="416"/>
                    </a:lnTo>
                    <a:lnTo>
                      <a:pt x="0" y="381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11" y="337"/>
                    </a:lnTo>
                    <a:lnTo>
                      <a:pt x="11" y="326"/>
                    </a:lnTo>
                    <a:lnTo>
                      <a:pt x="22" y="315"/>
                    </a:lnTo>
                    <a:lnTo>
                      <a:pt x="33" y="303"/>
                    </a:lnTo>
                    <a:lnTo>
                      <a:pt x="33" y="292"/>
                    </a:lnTo>
                    <a:lnTo>
                      <a:pt x="44" y="282"/>
                    </a:lnTo>
                    <a:lnTo>
                      <a:pt x="44" y="270"/>
                    </a:lnTo>
                    <a:lnTo>
                      <a:pt x="56" y="259"/>
                    </a:lnTo>
                    <a:lnTo>
                      <a:pt x="56" y="247"/>
                    </a:lnTo>
                    <a:lnTo>
                      <a:pt x="67" y="237"/>
                    </a:lnTo>
                    <a:lnTo>
                      <a:pt x="67" y="214"/>
                    </a:lnTo>
                    <a:lnTo>
                      <a:pt x="77" y="203"/>
                    </a:lnTo>
                    <a:lnTo>
                      <a:pt x="89" y="191"/>
                    </a:lnTo>
                    <a:lnTo>
                      <a:pt x="89" y="181"/>
                    </a:lnTo>
                    <a:lnTo>
                      <a:pt x="100" y="170"/>
                    </a:lnTo>
                    <a:lnTo>
                      <a:pt x="112" y="158"/>
                    </a:lnTo>
                    <a:lnTo>
                      <a:pt x="134" y="146"/>
                    </a:lnTo>
                    <a:lnTo>
                      <a:pt x="145" y="136"/>
                    </a:lnTo>
                    <a:lnTo>
                      <a:pt x="168" y="124"/>
                    </a:lnTo>
                    <a:lnTo>
                      <a:pt x="178" y="112"/>
                    </a:lnTo>
                    <a:lnTo>
                      <a:pt x="201" y="101"/>
                    </a:lnTo>
                    <a:lnTo>
                      <a:pt x="212" y="90"/>
                    </a:lnTo>
                    <a:lnTo>
                      <a:pt x="234" y="79"/>
                    </a:lnTo>
                    <a:lnTo>
                      <a:pt x="257" y="68"/>
                    </a:lnTo>
                    <a:lnTo>
                      <a:pt x="269" y="56"/>
                    </a:lnTo>
                    <a:lnTo>
                      <a:pt x="291" y="45"/>
                    </a:lnTo>
                    <a:lnTo>
                      <a:pt x="314" y="45"/>
                    </a:lnTo>
                    <a:lnTo>
                      <a:pt x="326" y="35"/>
                    </a:lnTo>
                    <a:lnTo>
                      <a:pt x="347" y="23"/>
                    </a:lnTo>
                    <a:lnTo>
                      <a:pt x="370" y="23"/>
                    </a:lnTo>
                    <a:lnTo>
                      <a:pt x="392" y="23"/>
                    </a:lnTo>
                    <a:lnTo>
                      <a:pt x="403" y="23"/>
                    </a:lnTo>
                    <a:lnTo>
                      <a:pt x="415" y="23"/>
                    </a:lnTo>
                    <a:lnTo>
                      <a:pt x="425" y="12"/>
                    </a:lnTo>
                    <a:lnTo>
                      <a:pt x="437" y="12"/>
                    </a:lnTo>
                    <a:lnTo>
                      <a:pt x="448" y="12"/>
                    </a:lnTo>
                    <a:lnTo>
                      <a:pt x="459" y="12"/>
                    </a:lnTo>
                    <a:lnTo>
                      <a:pt x="471" y="12"/>
                    </a:lnTo>
                    <a:lnTo>
                      <a:pt x="481" y="12"/>
                    </a:lnTo>
                    <a:lnTo>
                      <a:pt x="493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16" y="12"/>
                    </a:lnTo>
                    <a:lnTo>
                      <a:pt x="526" y="12"/>
                    </a:lnTo>
                    <a:lnTo>
                      <a:pt x="537" y="12"/>
                    </a:lnTo>
                    <a:lnTo>
                      <a:pt x="549" y="12"/>
                    </a:lnTo>
                    <a:lnTo>
                      <a:pt x="560" y="12"/>
                    </a:lnTo>
                    <a:lnTo>
                      <a:pt x="560" y="23"/>
                    </a:lnTo>
                    <a:lnTo>
                      <a:pt x="572" y="23"/>
                    </a:lnTo>
                    <a:lnTo>
                      <a:pt x="582" y="23"/>
                    </a:lnTo>
                    <a:lnTo>
                      <a:pt x="593" y="23"/>
                    </a:lnTo>
                    <a:lnTo>
                      <a:pt x="605" y="23"/>
                    </a:lnTo>
                    <a:lnTo>
                      <a:pt x="605" y="35"/>
                    </a:lnTo>
                    <a:lnTo>
                      <a:pt x="616" y="35"/>
                    </a:lnTo>
                    <a:lnTo>
                      <a:pt x="627" y="35"/>
                    </a:lnTo>
                    <a:lnTo>
                      <a:pt x="638" y="45"/>
                    </a:lnTo>
                    <a:lnTo>
                      <a:pt x="649" y="56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723080" y="2522520"/>
                <a:ext cx="18360" cy="436680"/>
              </a:xfrm>
              <a:custGeom>
                <a:avLst/>
                <a:gdLst/>
                <a:ahLst/>
                <a:rect l="l" t="t" r="r" b="b"/>
                <a:pathLst>
                  <a:path w="46" h="1123">
                    <a:moveTo>
                      <a:pt x="0" y="0"/>
                    </a:moveTo>
                    <a:lnTo>
                      <a:pt x="12" y="68"/>
                    </a:lnTo>
                    <a:lnTo>
                      <a:pt x="12" y="135"/>
                    </a:lnTo>
                    <a:lnTo>
                      <a:pt x="22" y="214"/>
                    </a:lnTo>
                    <a:lnTo>
                      <a:pt x="22" y="281"/>
                    </a:lnTo>
                    <a:lnTo>
                      <a:pt x="34" y="348"/>
                    </a:lnTo>
                    <a:lnTo>
                      <a:pt x="34" y="426"/>
                    </a:lnTo>
                    <a:lnTo>
                      <a:pt x="34" y="494"/>
                    </a:lnTo>
                    <a:lnTo>
                      <a:pt x="34" y="562"/>
                    </a:lnTo>
                    <a:lnTo>
                      <a:pt x="34" y="640"/>
                    </a:lnTo>
                    <a:lnTo>
                      <a:pt x="46" y="707"/>
                    </a:lnTo>
                    <a:lnTo>
                      <a:pt x="46" y="775"/>
                    </a:lnTo>
                    <a:lnTo>
                      <a:pt x="46" y="841"/>
                    </a:lnTo>
                    <a:lnTo>
                      <a:pt x="46" y="919"/>
                    </a:lnTo>
                    <a:lnTo>
                      <a:pt x="46" y="988"/>
                    </a:lnTo>
                    <a:lnTo>
                      <a:pt x="46" y="1055"/>
                    </a:lnTo>
                    <a:lnTo>
                      <a:pt x="46" y="11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7636320" y="2959200"/>
                <a:ext cx="105120" cy="111960"/>
              </a:xfrm>
              <a:custGeom>
                <a:avLst/>
                <a:gdLst/>
                <a:ahLst/>
                <a:rect l="l" t="t" r="r" b="b"/>
                <a:pathLst>
                  <a:path w="270" h="291">
                    <a:moveTo>
                      <a:pt x="270" y="0"/>
                    </a:moveTo>
                    <a:lnTo>
                      <a:pt x="236" y="66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7538400" y="2779920"/>
                <a:ext cx="97560" cy="291600"/>
              </a:xfrm>
              <a:custGeom>
                <a:avLst/>
                <a:gdLst/>
                <a:ahLst/>
                <a:rect l="l" t="t" r="r" b="b"/>
                <a:pathLst>
                  <a:path w="247" h="751">
                    <a:moveTo>
                      <a:pt x="247" y="751"/>
                    </a:moveTo>
                    <a:lnTo>
                      <a:pt x="237" y="695"/>
                    </a:lnTo>
                    <a:lnTo>
                      <a:pt x="214" y="650"/>
                    </a:lnTo>
                    <a:lnTo>
                      <a:pt x="204" y="605"/>
                    </a:lnTo>
                    <a:lnTo>
                      <a:pt x="192" y="559"/>
                    </a:lnTo>
                    <a:lnTo>
                      <a:pt x="169" y="515"/>
                    </a:lnTo>
                    <a:lnTo>
                      <a:pt x="158" y="470"/>
                    </a:lnTo>
                    <a:lnTo>
                      <a:pt x="148" y="425"/>
                    </a:lnTo>
                    <a:lnTo>
                      <a:pt x="125" y="369"/>
                    </a:lnTo>
                    <a:lnTo>
                      <a:pt x="113" y="325"/>
                    </a:lnTo>
                    <a:lnTo>
                      <a:pt x="91" y="280"/>
                    </a:lnTo>
                    <a:lnTo>
                      <a:pt x="79" y="234"/>
                    </a:lnTo>
                    <a:lnTo>
                      <a:pt x="68" y="190"/>
                    </a:lnTo>
                    <a:lnTo>
                      <a:pt x="46" y="145"/>
                    </a:lnTo>
                    <a:lnTo>
                      <a:pt x="34" y="100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7470720" y="2639520"/>
                <a:ext cx="67680" cy="140040"/>
              </a:xfrm>
              <a:custGeom>
                <a:avLst/>
                <a:gdLst/>
                <a:ahLst/>
                <a:rect l="l" t="t" r="r" b="b"/>
                <a:pathLst>
                  <a:path w="178" h="359">
                    <a:moveTo>
                      <a:pt x="178" y="359"/>
                    </a:moveTo>
                    <a:lnTo>
                      <a:pt x="168" y="336"/>
                    </a:lnTo>
                    <a:lnTo>
                      <a:pt x="156" y="314"/>
                    </a:lnTo>
                    <a:lnTo>
                      <a:pt x="145" y="291"/>
                    </a:lnTo>
                    <a:lnTo>
                      <a:pt x="134" y="269"/>
                    </a:lnTo>
                    <a:lnTo>
                      <a:pt x="123" y="247"/>
                    </a:lnTo>
                    <a:lnTo>
                      <a:pt x="112" y="225"/>
                    </a:lnTo>
                    <a:lnTo>
                      <a:pt x="89" y="213"/>
                    </a:lnTo>
                    <a:lnTo>
                      <a:pt x="77" y="190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2"/>
                    </a:lnTo>
                    <a:lnTo>
                      <a:pt x="33" y="100"/>
                    </a:lnTo>
                    <a:lnTo>
                      <a:pt x="22" y="77"/>
                    </a:lnTo>
                    <a:lnTo>
                      <a:pt x="11" y="56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7470720" y="2566800"/>
                <a:ext cx="37440" cy="7236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0" y="190"/>
                    </a:moveTo>
                    <a:lnTo>
                      <a:pt x="0" y="178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22" y="145"/>
                    </a:lnTo>
                    <a:lnTo>
                      <a:pt x="33" y="133"/>
                    </a:lnTo>
                    <a:lnTo>
                      <a:pt x="33" y="122"/>
                    </a:lnTo>
                    <a:lnTo>
                      <a:pt x="44" y="112"/>
                    </a:lnTo>
                    <a:lnTo>
                      <a:pt x="44" y="100"/>
                    </a:lnTo>
                    <a:lnTo>
                      <a:pt x="56" y="89"/>
                    </a:lnTo>
                    <a:lnTo>
                      <a:pt x="56" y="77"/>
                    </a:lnTo>
                    <a:lnTo>
                      <a:pt x="67" y="67"/>
                    </a:lnTo>
                    <a:lnTo>
                      <a:pt x="67" y="44"/>
                    </a:lnTo>
                    <a:lnTo>
                      <a:pt x="77" y="33"/>
                    </a:lnTo>
                    <a:lnTo>
                      <a:pt x="89" y="21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7211880" y="2653200"/>
                <a:ext cx="384480" cy="452880"/>
              </a:xfrm>
              <a:custGeom>
                <a:avLst/>
                <a:gdLst/>
                <a:ahLst/>
                <a:rect l="l" t="t" r="r" b="b"/>
                <a:pathLst>
                  <a:path w="989" h="1167">
                    <a:moveTo>
                      <a:pt x="585" y="0"/>
                    </a:moveTo>
                    <a:lnTo>
                      <a:pt x="618" y="67"/>
                    </a:lnTo>
                    <a:lnTo>
                      <a:pt x="651" y="123"/>
                    </a:lnTo>
                    <a:lnTo>
                      <a:pt x="685" y="192"/>
                    </a:lnTo>
                    <a:lnTo>
                      <a:pt x="707" y="258"/>
                    </a:lnTo>
                    <a:lnTo>
                      <a:pt x="730" y="314"/>
                    </a:lnTo>
                    <a:lnTo>
                      <a:pt x="752" y="382"/>
                    </a:lnTo>
                    <a:lnTo>
                      <a:pt x="775" y="448"/>
                    </a:lnTo>
                    <a:lnTo>
                      <a:pt x="797" y="516"/>
                    </a:lnTo>
                    <a:lnTo>
                      <a:pt x="819" y="582"/>
                    </a:lnTo>
                    <a:lnTo>
                      <a:pt x="841" y="651"/>
                    </a:lnTo>
                    <a:lnTo>
                      <a:pt x="864" y="718"/>
                    </a:lnTo>
                    <a:lnTo>
                      <a:pt x="875" y="786"/>
                    </a:lnTo>
                    <a:lnTo>
                      <a:pt x="897" y="852"/>
                    </a:lnTo>
                    <a:lnTo>
                      <a:pt x="920" y="920"/>
                    </a:lnTo>
                    <a:lnTo>
                      <a:pt x="942" y="986"/>
                    </a:lnTo>
                    <a:lnTo>
                      <a:pt x="966" y="1054"/>
                    </a:lnTo>
                    <a:lnTo>
                      <a:pt x="977" y="1054"/>
                    </a:lnTo>
                    <a:lnTo>
                      <a:pt x="977" y="1066"/>
                    </a:lnTo>
                    <a:lnTo>
                      <a:pt x="989" y="1066"/>
                    </a:lnTo>
                    <a:lnTo>
                      <a:pt x="989" y="1077"/>
                    </a:lnTo>
                    <a:lnTo>
                      <a:pt x="989" y="1089"/>
                    </a:lnTo>
                    <a:lnTo>
                      <a:pt x="989" y="1099"/>
                    </a:lnTo>
                    <a:lnTo>
                      <a:pt x="989" y="1111"/>
                    </a:lnTo>
                    <a:lnTo>
                      <a:pt x="989" y="1122"/>
                    </a:lnTo>
                    <a:lnTo>
                      <a:pt x="977" y="1122"/>
                    </a:lnTo>
                    <a:lnTo>
                      <a:pt x="966" y="1132"/>
                    </a:lnTo>
                    <a:lnTo>
                      <a:pt x="954" y="1132"/>
                    </a:lnTo>
                    <a:lnTo>
                      <a:pt x="932" y="1144"/>
                    </a:lnTo>
                    <a:lnTo>
                      <a:pt x="920" y="1144"/>
                    </a:lnTo>
                    <a:lnTo>
                      <a:pt x="909" y="1155"/>
                    </a:lnTo>
                    <a:lnTo>
                      <a:pt x="897" y="1155"/>
                    </a:lnTo>
                    <a:lnTo>
                      <a:pt x="887" y="1155"/>
                    </a:lnTo>
                    <a:lnTo>
                      <a:pt x="864" y="1167"/>
                    </a:lnTo>
                    <a:lnTo>
                      <a:pt x="853" y="1167"/>
                    </a:lnTo>
                    <a:lnTo>
                      <a:pt x="841" y="1167"/>
                    </a:lnTo>
                    <a:lnTo>
                      <a:pt x="831" y="1167"/>
                    </a:lnTo>
                    <a:lnTo>
                      <a:pt x="808" y="1167"/>
                    </a:lnTo>
                    <a:lnTo>
                      <a:pt x="797" y="1167"/>
                    </a:lnTo>
                    <a:lnTo>
                      <a:pt x="786" y="1167"/>
                    </a:lnTo>
                    <a:lnTo>
                      <a:pt x="763" y="1167"/>
                    </a:lnTo>
                    <a:lnTo>
                      <a:pt x="752" y="1167"/>
                    </a:lnTo>
                    <a:lnTo>
                      <a:pt x="730" y="1167"/>
                    </a:lnTo>
                    <a:lnTo>
                      <a:pt x="707" y="1167"/>
                    </a:lnTo>
                    <a:lnTo>
                      <a:pt x="696" y="1155"/>
                    </a:lnTo>
                    <a:lnTo>
                      <a:pt x="674" y="1155"/>
                    </a:lnTo>
                    <a:lnTo>
                      <a:pt x="651" y="1155"/>
                    </a:lnTo>
                    <a:lnTo>
                      <a:pt x="629" y="1155"/>
                    </a:lnTo>
                    <a:lnTo>
                      <a:pt x="618" y="1155"/>
                    </a:lnTo>
                    <a:lnTo>
                      <a:pt x="595" y="1155"/>
                    </a:lnTo>
                    <a:lnTo>
                      <a:pt x="573" y="1155"/>
                    </a:lnTo>
                    <a:lnTo>
                      <a:pt x="562" y="1144"/>
                    </a:lnTo>
                    <a:lnTo>
                      <a:pt x="540" y="1144"/>
                    </a:lnTo>
                    <a:lnTo>
                      <a:pt x="517" y="1144"/>
                    </a:lnTo>
                    <a:lnTo>
                      <a:pt x="505" y="1132"/>
                    </a:lnTo>
                    <a:lnTo>
                      <a:pt x="483" y="1132"/>
                    </a:lnTo>
                    <a:lnTo>
                      <a:pt x="460" y="1132"/>
                    </a:lnTo>
                    <a:lnTo>
                      <a:pt x="437" y="1122"/>
                    </a:lnTo>
                    <a:lnTo>
                      <a:pt x="416" y="1122"/>
                    </a:lnTo>
                    <a:lnTo>
                      <a:pt x="394" y="1122"/>
                    </a:lnTo>
                    <a:lnTo>
                      <a:pt x="360" y="1111"/>
                    </a:lnTo>
                    <a:lnTo>
                      <a:pt x="338" y="1111"/>
                    </a:lnTo>
                    <a:lnTo>
                      <a:pt x="315" y="1111"/>
                    </a:lnTo>
                    <a:lnTo>
                      <a:pt x="293" y="1099"/>
                    </a:lnTo>
                    <a:lnTo>
                      <a:pt x="259" y="1099"/>
                    </a:lnTo>
                    <a:lnTo>
                      <a:pt x="237" y="1089"/>
                    </a:lnTo>
                    <a:lnTo>
                      <a:pt x="214" y="1077"/>
                    </a:lnTo>
                    <a:lnTo>
                      <a:pt x="192" y="1066"/>
                    </a:lnTo>
                    <a:lnTo>
                      <a:pt x="181" y="1043"/>
                    </a:lnTo>
                    <a:lnTo>
                      <a:pt x="158" y="1032"/>
                    </a:lnTo>
                    <a:lnTo>
                      <a:pt x="148" y="1009"/>
                    </a:lnTo>
                    <a:lnTo>
                      <a:pt x="136" y="986"/>
                    </a:lnTo>
                    <a:lnTo>
                      <a:pt x="125" y="953"/>
                    </a:lnTo>
                    <a:lnTo>
                      <a:pt x="113" y="931"/>
                    </a:lnTo>
                    <a:lnTo>
                      <a:pt x="113" y="908"/>
                    </a:lnTo>
                    <a:lnTo>
                      <a:pt x="103" y="885"/>
                    </a:lnTo>
                    <a:lnTo>
                      <a:pt x="91" y="863"/>
                    </a:lnTo>
                    <a:lnTo>
                      <a:pt x="79" y="841"/>
                    </a:lnTo>
                    <a:lnTo>
                      <a:pt x="79" y="819"/>
                    </a:lnTo>
                    <a:lnTo>
                      <a:pt x="68" y="796"/>
                    </a:lnTo>
                    <a:lnTo>
                      <a:pt x="56" y="774"/>
                    </a:lnTo>
                    <a:lnTo>
                      <a:pt x="56" y="751"/>
                    </a:lnTo>
                    <a:lnTo>
                      <a:pt x="45" y="730"/>
                    </a:lnTo>
                    <a:lnTo>
                      <a:pt x="35" y="707"/>
                    </a:lnTo>
                    <a:lnTo>
                      <a:pt x="35" y="685"/>
                    </a:lnTo>
                    <a:lnTo>
                      <a:pt x="23" y="662"/>
                    </a:lnTo>
                    <a:lnTo>
                      <a:pt x="23" y="639"/>
                    </a:lnTo>
                    <a:lnTo>
                      <a:pt x="12" y="617"/>
                    </a:lnTo>
                    <a:lnTo>
                      <a:pt x="0" y="594"/>
                    </a:lnTo>
                    <a:lnTo>
                      <a:pt x="12" y="582"/>
                    </a:lnTo>
                    <a:lnTo>
                      <a:pt x="12" y="572"/>
                    </a:lnTo>
                    <a:lnTo>
                      <a:pt x="23" y="560"/>
                    </a:lnTo>
                    <a:lnTo>
                      <a:pt x="23" y="549"/>
                    </a:lnTo>
                    <a:lnTo>
                      <a:pt x="35" y="549"/>
                    </a:lnTo>
                    <a:lnTo>
                      <a:pt x="45" y="538"/>
                    </a:lnTo>
                    <a:lnTo>
                      <a:pt x="45" y="527"/>
                    </a:lnTo>
                    <a:lnTo>
                      <a:pt x="56" y="516"/>
                    </a:lnTo>
                    <a:lnTo>
                      <a:pt x="68" y="504"/>
                    </a:lnTo>
                    <a:lnTo>
                      <a:pt x="79" y="493"/>
                    </a:lnTo>
                    <a:lnTo>
                      <a:pt x="91" y="493"/>
                    </a:lnTo>
                    <a:lnTo>
                      <a:pt x="91" y="481"/>
                    </a:lnTo>
                    <a:lnTo>
                      <a:pt x="103" y="471"/>
                    </a:lnTo>
                    <a:lnTo>
                      <a:pt x="113" y="460"/>
                    </a:lnTo>
                    <a:lnTo>
                      <a:pt x="125" y="460"/>
                    </a:lnTo>
                    <a:lnTo>
                      <a:pt x="136" y="448"/>
                    </a:lnTo>
                    <a:lnTo>
                      <a:pt x="170" y="426"/>
                    </a:lnTo>
                    <a:lnTo>
                      <a:pt x="192" y="392"/>
                    </a:lnTo>
                    <a:lnTo>
                      <a:pt x="226" y="370"/>
                    </a:lnTo>
                    <a:lnTo>
                      <a:pt x="259" y="348"/>
                    </a:lnTo>
                    <a:lnTo>
                      <a:pt x="282" y="326"/>
                    </a:lnTo>
                    <a:lnTo>
                      <a:pt x="315" y="291"/>
                    </a:lnTo>
                    <a:lnTo>
                      <a:pt x="338" y="270"/>
                    </a:lnTo>
                    <a:lnTo>
                      <a:pt x="371" y="247"/>
                    </a:lnTo>
                    <a:lnTo>
                      <a:pt x="394" y="214"/>
                    </a:lnTo>
                    <a:lnTo>
                      <a:pt x="427" y="192"/>
                    </a:lnTo>
                    <a:lnTo>
                      <a:pt x="449" y="157"/>
                    </a:lnTo>
                    <a:lnTo>
                      <a:pt x="472" y="123"/>
                    </a:lnTo>
                    <a:lnTo>
                      <a:pt x="505" y="100"/>
                    </a:lnTo>
                    <a:lnTo>
                      <a:pt x="528" y="67"/>
                    </a:lnTo>
                    <a:lnTo>
                      <a:pt x="550" y="34"/>
                    </a:lnTo>
                    <a:lnTo>
                      <a:pt x="573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7440480" y="2653200"/>
                <a:ext cx="146880" cy="411120"/>
              </a:xfrm>
              <a:custGeom>
                <a:avLst/>
                <a:gdLst/>
                <a:ahLst/>
                <a:rect l="l" t="t" r="r" b="b"/>
                <a:pathLst>
                  <a:path w="381" h="1054">
                    <a:moveTo>
                      <a:pt x="0" y="0"/>
                    </a:moveTo>
                    <a:lnTo>
                      <a:pt x="33" y="67"/>
                    </a:lnTo>
                    <a:lnTo>
                      <a:pt x="66" y="123"/>
                    </a:lnTo>
                    <a:lnTo>
                      <a:pt x="100" y="192"/>
                    </a:lnTo>
                    <a:lnTo>
                      <a:pt x="122" y="258"/>
                    </a:lnTo>
                    <a:lnTo>
                      <a:pt x="145" y="314"/>
                    </a:lnTo>
                    <a:lnTo>
                      <a:pt x="167" y="382"/>
                    </a:lnTo>
                    <a:lnTo>
                      <a:pt x="190" y="448"/>
                    </a:lnTo>
                    <a:lnTo>
                      <a:pt x="212" y="516"/>
                    </a:lnTo>
                    <a:lnTo>
                      <a:pt x="234" y="582"/>
                    </a:lnTo>
                    <a:lnTo>
                      <a:pt x="256" y="651"/>
                    </a:lnTo>
                    <a:lnTo>
                      <a:pt x="279" y="718"/>
                    </a:lnTo>
                    <a:lnTo>
                      <a:pt x="290" y="786"/>
                    </a:lnTo>
                    <a:lnTo>
                      <a:pt x="312" y="852"/>
                    </a:lnTo>
                    <a:lnTo>
                      <a:pt x="335" y="920"/>
                    </a:lnTo>
                    <a:lnTo>
                      <a:pt x="357" y="986"/>
                    </a:lnTo>
                    <a:lnTo>
                      <a:pt x="381" y="10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7260480" y="3025080"/>
                <a:ext cx="130680" cy="69840"/>
              </a:xfrm>
              <a:custGeom>
                <a:avLst/>
                <a:gdLst/>
                <a:ahLst/>
                <a:rect l="l" t="t" r="r" b="b"/>
                <a:pathLst>
                  <a:path w="335" h="179">
                    <a:moveTo>
                      <a:pt x="335" y="179"/>
                    </a:moveTo>
                    <a:lnTo>
                      <a:pt x="312" y="169"/>
                    </a:lnTo>
                    <a:lnTo>
                      <a:pt x="291" y="169"/>
                    </a:lnTo>
                    <a:lnTo>
                      <a:pt x="269" y="169"/>
                    </a:lnTo>
                    <a:lnTo>
                      <a:pt x="235" y="158"/>
                    </a:lnTo>
                    <a:lnTo>
                      <a:pt x="213" y="158"/>
                    </a:lnTo>
                    <a:lnTo>
                      <a:pt x="190" y="158"/>
                    </a:lnTo>
                    <a:lnTo>
                      <a:pt x="168" y="146"/>
                    </a:lnTo>
                    <a:lnTo>
                      <a:pt x="134" y="146"/>
                    </a:lnTo>
                    <a:lnTo>
                      <a:pt x="112" y="136"/>
                    </a:lnTo>
                    <a:lnTo>
                      <a:pt x="89" y="124"/>
                    </a:lnTo>
                    <a:lnTo>
                      <a:pt x="67" y="113"/>
                    </a:lnTo>
                    <a:lnTo>
                      <a:pt x="56" y="90"/>
                    </a:lnTo>
                    <a:lnTo>
                      <a:pt x="33" y="79"/>
                    </a:lnTo>
                    <a:lnTo>
                      <a:pt x="23" y="56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7211880" y="2884680"/>
                <a:ext cx="48600" cy="140040"/>
              </a:xfrm>
              <a:custGeom>
                <a:avLst/>
                <a:gdLst/>
                <a:ahLst/>
                <a:rect l="l" t="t" r="r" b="b"/>
                <a:pathLst>
                  <a:path w="125" h="359">
                    <a:moveTo>
                      <a:pt x="125" y="359"/>
                    </a:moveTo>
                    <a:lnTo>
                      <a:pt x="113" y="337"/>
                    </a:lnTo>
                    <a:lnTo>
                      <a:pt x="113" y="314"/>
                    </a:lnTo>
                    <a:lnTo>
                      <a:pt x="103" y="291"/>
                    </a:lnTo>
                    <a:lnTo>
                      <a:pt x="91" y="269"/>
                    </a:lnTo>
                    <a:lnTo>
                      <a:pt x="79" y="247"/>
                    </a:lnTo>
                    <a:lnTo>
                      <a:pt x="79" y="225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56" y="157"/>
                    </a:lnTo>
                    <a:lnTo>
                      <a:pt x="45" y="136"/>
                    </a:lnTo>
                    <a:lnTo>
                      <a:pt x="35" y="113"/>
                    </a:lnTo>
                    <a:lnTo>
                      <a:pt x="35" y="91"/>
                    </a:lnTo>
                    <a:lnTo>
                      <a:pt x="23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7265160" y="2653200"/>
                <a:ext cx="170280" cy="174960"/>
              </a:xfrm>
              <a:custGeom>
                <a:avLst/>
                <a:gdLst/>
                <a:ahLst/>
                <a:rect l="l" t="t" r="r" b="b"/>
                <a:pathLst>
                  <a:path w="437" h="448">
                    <a:moveTo>
                      <a:pt x="0" y="448"/>
                    </a:moveTo>
                    <a:lnTo>
                      <a:pt x="34" y="426"/>
                    </a:lnTo>
                    <a:lnTo>
                      <a:pt x="56" y="392"/>
                    </a:lnTo>
                    <a:lnTo>
                      <a:pt x="90" y="370"/>
                    </a:lnTo>
                    <a:lnTo>
                      <a:pt x="123" y="348"/>
                    </a:lnTo>
                    <a:lnTo>
                      <a:pt x="146" y="326"/>
                    </a:lnTo>
                    <a:lnTo>
                      <a:pt x="179" y="291"/>
                    </a:lnTo>
                    <a:lnTo>
                      <a:pt x="202" y="270"/>
                    </a:lnTo>
                    <a:lnTo>
                      <a:pt x="235" y="247"/>
                    </a:lnTo>
                    <a:lnTo>
                      <a:pt x="258" y="214"/>
                    </a:lnTo>
                    <a:lnTo>
                      <a:pt x="291" y="192"/>
                    </a:lnTo>
                    <a:lnTo>
                      <a:pt x="313" y="157"/>
                    </a:lnTo>
                    <a:lnTo>
                      <a:pt x="336" y="123"/>
                    </a:lnTo>
                    <a:lnTo>
                      <a:pt x="369" y="100"/>
                    </a:lnTo>
                    <a:lnTo>
                      <a:pt x="392" y="67"/>
                    </a:lnTo>
                    <a:lnTo>
                      <a:pt x="414" y="34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7242120" y="2683800"/>
                <a:ext cx="331200" cy="405720"/>
              </a:xfrm>
              <a:custGeom>
                <a:avLst/>
                <a:gdLst/>
                <a:ahLst/>
                <a:rect l="l" t="t" r="r" b="b"/>
                <a:pathLst>
                  <a:path w="853" h="1043">
                    <a:moveTo>
                      <a:pt x="841" y="998"/>
                    </a:moveTo>
                    <a:lnTo>
                      <a:pt x="853" y="1020"/>
                    </a:lnTo>
                    <a:lnTo>
                      <a:pt x="830" y="1032"/>
                    </a:lnTo>
                    <a:lnTo>
                      <a:pt x="796" y="1032"/>
                    </a:lnTo>
                    <a:lnTo>
                      <a:pt x="774" y="1043"/>
                    </a:lnTo>
                    <a:lnTo>
                      <a:pt x="752" y="1043"/>
                    </a:lnTo>
                    <a:lnTo>
                      <a:pt x="718" y="1043"/>
                    </a:lnTo>
                    <a:lnTo>
                      <a:pt x="696" y="1043"/>
                    </a:lnTo>
                    <a:lnTo>
                      <a:pt x="661" y="1032"/>
                    </a:lnTo>
                    <a:lnTo>
                      <a:pt x="640" y="1032"/>
                    </a:lnTo>
                    <a:lnTo>
                      <a:pt x="606" y="1032"/>
                    </a:lnTo>
                    <a:lnTo>
                      <a:pt x="584" y="1020"/>
                    </a:lnTo>
                    <a:lnTo>
                      <a:pt x="550" y="1020"/>
                    </a:lnTo>
                    <a:lnTo>
                      <a:pt x="528" y="1020"/>
                    </a:lnTo>
                    <a:lnTo>
                      <a:pt x="494" y="1010"/>
                    </a:lnTo>
                    <a:lnTo>
                      <a:pt x="471" y="1010"/>
                    </a:lnTo>
                    <a:lnTo>
                      <a:pt x="438" y="1010"/>
                    </a:lnTo>
                    <a:lnTo>
                      <a:pt x="414" y="998"/>
                    </a:lnTo>
                    <a:lnTo>
                      <a:pt x="393" y="998"/>
                    </a:lnTo>
                    <a:lnTo>
                      <a:pt x="370" y="998"/>
                    </a:lnTo>
                    <a:lnTo>
                      <a:pt x="348" y="987"/>
                    </a:lnTo>
                    <a:lnTo>
                      <a:pt x="325" y="987"/>
                    </a:lnTo>
                    <a:lnTo>
                      <a:pt x="303" y="975"/>
                    </a:lnTo>
                    <a:lnTo>
                      <a:pt x="292" y="975"/>
                    </a:lnTo>
                    <a:lnTo>
                      <a:pt x="269" y="975"/>
                    </a:lnTo>
                    <a:lnTo>
                      <a:pt x="247" y="964"/>
                    </a:lnTo>
                    <a:lnTo>
                      <a:pt x="224" y="964"/>
                    </a:lnTo>
                    <a:lnTo>
                      <a:pt x="203" y="953"/>
                    </a:lnTo>
                    <a:lnTo>
                      <a:pt x="191" y="942"/>
                    </a:lnTo>
                    <a:lnTo>
                      <a:pt x="168" y="930"/>
                    </a:lnTo>
                    <a:lnTo>
                      <a:pt x="158" y="918"/>
                    </a:lnTo>
                    <a:lnTo>
                      <a:pt x="147" y="907"/>
                    </a:lnTo>
                    <a:lnTo>
                      <a:pt x="135" y="885"/>
                    </a:lnTo>
                    <a:lnTo>
                      <a:pt x="124" y="862"/>
                    </a:lnTo>
                    <a:lnTo>
                      <a:pt x="113" y="852"/>
                    </a:lnTo>
                    <a:lnTo>
                      <a:pt x="102" y="829"/>
                    </a:lnTo>
                    <a:lnTo>
                      <a:pt x="102" y="806"/>
                    </a:lnTo>
                    <a:lnTo>
                      <a:pt x="91" y="784"/>
                    </a:lnTo>
                    <a:lnTo>
                      <a:pt x="91" y="762"/>
                    </a:lnTo>
                    <a:lnTo>
                      <a:pt x="79" y="740"/>
                    </a:lnTo>
                    <a:lnTo>
                      <a:pt x="69" y="717"/>
                    </a:lnTo>
                    <a:lnTo>
                      <a:pt x="69" y="707"/>
                    </a:lnTo>
                    <a:lnTo>
                      <a:pt x="57" y="684"/>
                    </a:lnTo>
                    <a:lnTo>
                      <a:pt x="46" y="661"/>
                    </a:lnTo>
                    <a:lnTo>
                      <a:pt x="46" y="639"/>
                    </a:lnTo>
                    <a:lnTo>
                      <a:pt x="34" y="616"/>
                    </a:lnTo>
                    <a:lnTo>
                      <a:pt x="24" y="606"/>
                    </a:lnTo>
                    <a:lnTo>
                      <a:pt x="12" y="583"/>
                    </a:lnTo>
                    <a:lnTo>
                      <a:pt x="0" y="560"/>
                    </a:lnTo>
                    <a:lnTo>
                      <a:pt x="0" y="538"/>
                    </a:lnTo>
                    <a:lnTo>
                      <a:pt x="0" y="527"/>
                    </a:lnTo>
                    <a:lnTo>
                      <a:pt x="0" y="515"/>
                    </a:lnTo>
                    <a:lnTo>
                      <a:pt x="12" y="503"/>
                    </a:lnTo>
                    <a:lnTo>
                      <a:pt x="12" y="493"/>
                    </a:lnTo>
                    <a:lnTo>
                      <a:pt x="24" y="481"/>
                    </a:lnTo>
                    <a:lnTo>
                      <a:pt x="24" y="470"/>
                    </a:lnTo>
                    <a:lnTo>
                      <a:pt x="34" y="470"/>
                    </a:lnTo>
                    <a:lnTo>
                      <a:pt x="46" y="459"/>
                    </a:lnTo>
                    <a:lnTo>
                      <a:pt x="46" y="448"/>
                    </a:lnTo>
                    <a:lnTo>
                      <a:pt x="57" y="448"/>
                    </a:lnTo>
                    <a:lnTo>
                      <a:pt x="57" y="437"/>
                    </a:lnTo>
                    <a:lnTo>
                      <a:pt x="69" y="425"/>
                    </a:lnTo>
                    <a:lnTo>
                      <a:pt x="79" y="425"/>
                    </a:lnTo>
                    <a:lnTo>
                      <a:pt x="79" y="414"/>
                    </a:lnTo>
                    <a:lnTo>
                      <a:pt x="113" y="392"/>
                    </a:lnTo>
                    <a:lnTo>
                      <a:pt x="135" y="369"/>
                    </a:lnTo>
                    <a:lnTo>
                      <a:pt x="168" y="347"/>
                    </a:lnTo>
                    <a:lnTo>
                      <a:pt x="191" y="325"/>
                    </a:lnTo>
                    <a:lnTo>
                      <a:pt x="224" y="303"/>
                    </a:lnTo>
                    <a:lnTo>
                      <a:pt x="259" y="280"/>
                    </a:lnTo>
                    <a:lnTo>
                      <a:pt x="281" y="247"/>
                    </a:lnTo>
                    <a:lnTo>
                      <a:pt x="315" y="224"/>
                    </a:lnTo>
                    <a:lnTo>
                      <a:pt x="337" y="202"/>
                    </a:lnTo>
                    <a:lnTo>
                      <a:pt x="358" y="179"/>
                    </a:lnTo>
                    <a:lnTo>
                      <a:pt x="393" y="157"/>
                    </a:lnTo>
                    <a:lnTo>
                      <a:pt x="414" y="123"/>
                    </a:lnTo>
                    <a:lnTo>
                      <a:pt x="438" y="101"/>
                    </a:lnTo>
                    <a:lnTo>
                      <a:pt x="461" y="66"/>
                    </a:lnTo>
                    <a:lnTo>
                      <a:pt x="471" y="33"/>
                    </a:lnTo>
                    <a:lnTo>
                      <a:pt x="494" y="0"/>
                    </a:lnTo>
                    <a:lnTo>
                      <a:pt x="516" y="56"/>
                    </a:lnTo>
                    <a:lnTo>
                      <a:pt x="550" y="123"/>
                    </a:lnTo>
                    <a:lnTo>
                      <a:pt x="572" y="179"/>
                    </a:lnTo>
                    <a:lnTo>
                      <a:pt x="595" y="247"/>
                    </a:lnTo>
                    <a:lnTo>
                      <a:pt x="617" y="303"/>
                    </a:lnTo>
                    <a:lnTo>
                      <a:pt x="628" y="369"/>
                    </a:lnTo>
                    <a:lnTo>
                      <a:pt x="651" y="425"/>
                    </a:lnTo>
                    <a:lnTo>
                      <a:pt x="673" y="493"/>
                    </a:lnTo>
                    <a:lnTo>
                      <a:pt x="696" y="560"/>
                    </a:lnTo>
                    <a:lnTo>
                      <a:pt x="707" y="616"/>
                    </a:lnTo>
                    <a:lnTo>
                      <a:pt x="729" y="684"/>
                    </a:lnTo>
                    <a:lnTo>
                      <a:pt x="752" y="751"/>
                    </a:lnTo>
                    <a:lnTo>
                      <a:pt x="774" y="806"/>
                    </a:lnTo>
                    <a:lnTo>
                      <a:pt x="796" y="874"/>
                    </a:lnTo>
                    <a:lnTo>
                      <a:pt x="818" y="930"/>
                    </a:lnTo>
                    <a:lnTo>
                      <a:pt x="841" y="99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7242120" y="2894040"/>
                <a:ext cx="48960" cy="126000"/>
              </a:xfrm>
              <a:custGeom>
                <a:avLst/>
                <a:gdLst/>
                <a:ahLst/>
                <a:rect l="l" t="t" r="r" b="b"/>
                <a:pathLst>
                  <a:path w="124" h="324">
                    <a:moveTo>
                      <a:pt x="124" y="324"/>
                    </a:moveTo>
                    <a:lnTo>
                      <a:pt x="113" y="314"/>
                    </a:lnTo>
                    <a:lnTo>
                      <a:pt x="102" y="291"/>
                    </a:lnTo>
                    <a:lnTo>
                      <a:pt x="102" y="268"/>
                    </a:lnTo>
                    <a:lnTo>
                      <a:pt x="91" y="246"/>
                    </a:lnTo>
                    <a:lnTo>
                      <a:pt x="91" y="224"/>
                    </a:lnTo>
                    <a:lnTo>
                      <a:pt x="79" y="202"/>
                    </a:lnTo>
                    <a:lnTo>
                      <a:pt x="69" y="179"/>
                    </a:lnTo>
                    <a:lnTo>
                      <a:pt x="69" y="169"/>
                    </a:lnTo>
                    <a:lnTo>
                      <a:pt x="57" y="146"/>
                    </a:lnTo>
                    <a:lnTo>
                      <a:pt x="46" y="123"/>
                    </a:lnTo>
                    <a:lnTo>
                      <a:pt x="46" y="101"/>
                    </a:lnTo>
                    <a:lnTo>
                      <a:pt x="34" y="78"/>
                    </a:lnTo>
                    <a:lnTo>
                      <a:pt x="24" y="68"/>
                    </a:lnTo>
                    <a:lnTo>
                      <a:pt x="12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7274880" y="2683800"/>
                <a:ext cx="160560" cy="16092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414"/>
                    </a:moveTo>
                    <a:lnTo>
                      <a:pt x="34" y="392"/>
                    </a:lnTo>
                    <a:lnTo>
                      <a:pt x="56" y="369"/>
                    </a:lnTo>
                    <a:lnTo>
                      <a:pt x="89" y="347"/>
                    </a:lnTo>
                    <a:lnTo>
                      <a:pt x="112" y="325"/>
                    </a:lnTo>
                    <a:lnTo>
                      <a:pt x="145" y="303"/>
                    </a:lnTo>
                    <a:lnTo>
                      <a:pt x="180" y="280"/>
                    </a:lnTo>
                    <a:lnTo>
                      <a:pt x="202" y="247"/>
                    </a:lnTo>
                    <a:lnTo>
                      <a:pt x="236" y="224"/>
                    </a:lnTo>
                    <a:lnTo>
                      <a:pt x="258" y="202"/>
                    </a:lnTo>
                    <a:lnTo>
                      <a:pt x="279" y="179"/>
                    </a:lnTo>
                    <a:lnTo>
                      <a:pt x="314" y="157"/>
                    </a:lnTo>
                    <a:lnTo>
                      <a:pt x="335" y="123"/>
                    </a:lnTo>
                    <a:lnTo>
                      <a:pt x="359" y="101"/>
                    </a:lnTo>
                    <a:lnTo>
                      <a:pt x="382" y="66"/>
                    </a:lnTo>
                    <a:lnTo>
                      <a:pt x="392" y="33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7435800" y="26838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347" h="998">
                    <a:moveTo>
                      <a:pt x="0" y="0"/>
                    </a:moveTo>
                    <a:lnTo>
                      <a:pt x="22" y="56"/>
                    </a:lnTo>
                    <a:lnTo>
                      <a:pt x="56" y="123"/>
                    </a:lnTo>
                    <a:lnTo>
                      <a:pt x="78" y="179"/>
                    </a:lnTo>
                    <a:lnTo>
                      <a:pt x="101" y="247"/>
                    </a:lnTo>
                    <a:lnTo>
                      <a:pt x="123" y="303"/>
                    </a:lnTo>
                    <a:lnTo>
                      <a:pt x="134" y="369"/>
                    </a:lnTo>
                    <a:lnTo>
                      <a:pt x="157" y="425"/>
                    </a:lnTo>
                    <a:lnTo>
                      <a:pt x="179" y="493"/>
                    </a:lnTo>
                    <a:lnTo>
                      <a:pt x="202" y="560"/>
                    </a:lnTo>
                    <a:lnTo>
                      <a:pt x="213" y="616"/>
                    </a:lnTo>
                    <a:lnTo>
                      <a:pt x="235" y="684"/>
                    </a:lnTo>
                    <a:lnTo>
                      <a:pt x="258" y="751"/>
                    </a:lnTo>
                    <a:lnTo>
                      <a:pt x="280" y="806"/>
                    </a:lnTo>
                    <a:lnTo>
                      <a:pt x="302" y="874"/>
                    </a:lnTo>
                    <a:lnTo>
                      <a:pt x="324" y="930"/>
                    </a:lnTo>
                    <a:lnTo>
                      <a:pt x="347" y="9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6808320" y="2980440"/>
                <a:ext cx="504000" cy="702360"/>
              </a:xfrm>
              <a:custGeom>
                <a:avLst/>
                <a:gdLst/>
                <a:ahLst/>
                <a:rect l="l" t="t" r="r" b="b"/>
                <a:pathLst>
                  <a:path w="1300" h="1805">
                    <a:moveTo>
                      <a:pt x="762" y="337"/>
                    </a:moveTo>
                    <a:lnTo>
                      <a:pt x="807" y="382"/>
                    </a:lnTo>
                    <a:lnTo>
                      <a:pt x="841" y="438"/>
                    </a:lnTo>
                    <a:lnTo>
                      <a:pt x="874" y="482"/>
                    </a:lnTo>
                    <a:lnTo>
                      <a:pt x="919" y="527"/>
                    </a:lnTo>
                    <a:lnTo>
                      <a:pt x="952" y="572"/>
                    </a:lnTo>
                    <a:lnTo>
                      <a:pt x="986" y="628"/>
                    </a:lnTo>
                    <a:lnTo>
                      <a:pt x="1020" y="673"/>
                    </a:lnTo>
                    <a:lnTo>
                      <a:pt x="1053" y="718"/>
                    </a:lnTo>
                    <a:lnTo>
                      <a:pt x="1076" y="774"/>
                    </a:lnTo>
                    <a:lnTo>
                      <a:pt x="1109" y="819"/>
                    </a:lnTo>
                    <a:lnTo>
                      <a:pt x="1132" y="875"/>
                    </a:lnTo>
                    <a:lnTo>
                      <a:pt x="1166" y="919"/>
                    </a:lnTo>
                    <a:lnTo>
                      <a:pt x="1189" y="975"/>
                    </a:lnTo>
                    <a:lnTo>
                      <a:pt x="1211" y="1032"/>
                    </a:lnTo>
                    <a:lnTo>
                      <a:pt x="1233" y="1077"/>
                    </a:lnTo>
                    <a:lnTo>
                      <a:pt x="1255" y="1133"/>
                    </a:lnTo>
                    <a:lnTo>
                      <a:pt x="1255" y="1155"/>
                    </a:lnTo>
                    <a:lnTo>
                      <a:pt x="1267" y="1166"/>
                    </a:lnTo>
                    <a:lnTo>
                      <a:pt x="1267" y="1188"/>
                    </a:lnTo>
                    <a:lnTo>
                      <a:pt x="1278" y="1211"/>
                    </a:lnTo>
                    <a:lnTo>
                      <a:pt x="1278" y="1222"/>
                    </a:lnTo>
                    <a:lnTo>
                      <a:pt x="1288" y="1244"/>
                    </a:lnTo>
                    <a:lnTo>
                      <a:pt x="1288" y="1267"/>
                    </a:lnTo>
                    <a:lnTo>
                      <a:pt x="1288" y="1279"/>
                    </a:lnTo>
                    <a:lnTo>
                      <a:pt x="1288" y="1300"/>
                    </a:lnTo>
                    <a:lnTo>
                      <a:pt x="1300" y="1323"/>
                    </a:lnTo>
                    <a:lnTo>
                      <a:pt x="1300" y="1335"/>
                    </a:lnTo>
                    <a:lnTo>
                      <a:pt x="1300" y="1356"/>
                    </a:lnTo>
                    <a:lnTo>
                      <a:pt x="1300" y="1379"/>
                    </a:lnTo>
                    <a:lnTo>
                      <a:pt x="1300" y="1401"/>
                    </a:lnTo>
                    <a:lnTo>
                      <a:pt x="1300" y="1412"/>
                    </a:lnTo>
                    <a:lnTo>
                      <a:pt x="1300" y="1434"/>
                    </a:lnTo>
                    <a:lnTo>
                      <a:pt x="1288" y="1446"/>
                    </a:lnTo>
                    <a:lnTo>
                      <a:pt x="1278" y="1446"/>
                    </a:lnTo>
                    <a:lnTo>
                      <a:pt x="1267" y="1457"/>
                    </a:lnTo>
                    <a:lnTo>
                      <a:pt x="1255" y="1457"/>
                    </a:lnTo>
                    <a:lnTo>
                      <a:pt x="1244" y="1457"/>
                    </a:lnTo>
                    <a:lnTo>
                      <a:pt x="1244" y="1469"/>
                    </a:lnTo>
                    <a:lnTo>
                      <a:pt x="1233" y="1469"/>
                    </a:lnTo>
                    <a:lnTo>
                      <a:pt x="1233" y="1481"/>
                    </a:lnTo>
                    <a:lnTo>
                      <a:pt x="1222" y="1481"/>
                    </a:lnTo>
                    <a:lnTo>
                      <a:pt x="1211" y="1491"/>
                    </a:lnTo>
                    <a:lnTo>
                      <a:pt x="1189" y="1491"/>
                    </a:lnTo>
                    <a:lnTo>
                      <a:pt x="1177" y="1503"/>
                    </a:lnTo>
                    <a:lnTo>
                      <a:pt x="1154" y="1503"/>
                    </a:lnTo>
                    <a:lnTo>
                      <a:pt x="1144" y="1514"/>
                    </a:lnTo>
                    <a:lnTo>
                      <a:pt x="1120" y="1526"/>
                    </a:lnTo>
                    <a:lnTo>
                      <a:pt x="1109" y="1526"/>
                    </a:lnTo>
                    <a:lnTo>
                      <a:pt x="1086" y="1537"/>
                    </a:lnTo>
                    <a:lnTo>
                      <a:pt x="1076" y="1547"/>
                    </a:lnTo>
                    <a:lnTo>
                      <a:pt x="1053" y="1559"/>
                    </a:lnTo>
                    <a:lnTo>
                      <a:pt x="1041" y="1559"/>
                    </a:lnTo>
                    <a:lnTo>
                      <a:pt x="1020" y="1570"/>
                    </a:lnTo>
                    <a:lnTo>
                      <a:pt x="1008" y="1582"/>
                    </a:lnTo>
                    <a:lnTo>
                      <a:pt x="986" y="1582"/>
                    </a:lnTo>
                    <a:lnTo>
                      <a:pt x="975" y="1592"/>
                    </a:lnTo>
                    <a:lnTo>
                      <a:pt x="952" y="1603"/>
                    </a:lnTo>
                    <a:lnTo>
                      <a:pt x="942" y="1603"/>
                    </a:lnTo>
                    <a:lnTo>
                      <a:pt x="942" y="1615"/>
                    </a:lnTo>
                    <a:lnTo>
                      <a:pt x="930" y="1615"/>
                    </a:lnTo>
                    <a:lnTo>
                      <a:pt x="919" y="1626"/>
                    </a:lnTo>
                    <a:lnTo>
                      <a:pt x="907" y="1626"/>
                    </a:lnTo>
                    <a:lnTo>
                      <a:pt x="896" y="1637"/>
                    </a:lnTo>
                    <a:lnTo>
                      <a:pt x="886" y="1637"/>
                    </a:lnTo>
                    <a:lnTo>
                      <a:pt x="874" y="1648"/>
                    </a:lnTo>
                    <a:lnTo>
                      <a:pt x="863" y="1648"/>
                    </a:lnTo>
                    <a:lnTo>
                      <a:pt x="851" y="1648"/>
                    </a:lnTo>
                    <a:lnTo>
                      <a:pt x="841" y="1660"/>
                    </a:lnTo>
                    <a:lnTo>
                      <a:pt x="830" y="1660"/>
                    </a:lnTo>
                    <a:lnTo>
                      <a:pt x="818" y="1671"/>
                    </a:lnTo>
                    <a:lnTo>
                      <a:pt x="807" y="1671"/>
                    </a:lnTo>
                    <a:lnTo>
                      <a:pt x="795" y="1681"/>
                    </a:lnTo>
                    <a:lnTo>
                      <a:pt x="773" y="1693"/>
                    </a:lnTo>
                    <a:lnTo>
                      <a:pt x="752" y="1693"/>
                    </a:lnTo>
                    <a:lnTo>
                      <a:pt x="740" y="1704"/>
                    </a:lnTo>
                    <a:lnTo>
                      <a:pt x="717" y="1716"/>
                    </a:lnTo>
                    <a:lnTo>
                      <a:pt x="705" y="1716"/>
                    </a:lnTo>
                    <a:lnTo>
                      <a:pt x="683" y="1727"/>
                    </a:lnTo>
                    <a:lnTo>
                      <a:pt x="672" y="1737"/>
                    </a:lnTo>
                    <a:lnTo>
                      <a:pt x="649" y="1737"/>
                    </a:lnTo>
                    <a:lnTo>
                      <a:pt x="639" y="1749"/>
                    </a:lnTo>
                    <a:lnTo>
                      <a:pt x="616" y="1760"/>
                    </a:lnTo>
                    <a:lnTo>
                      <a:pt x="604" y="1772"/>
                    </a:lnTo>
                    <a:lnTo>
                      <a:pt x="582" y="1782"/>
                    </a:lnTo>
                    <a:lnTo>
                      <a:pt x="571" y="1782"/>
                    </a:lnTo>
                    <a:lnTo>
                      <a:pt x="548" y="1793"/>
                    </a:lnTo>
                    <a:lnTo>
                      <a:pt x="538" y="1805"/>
                    </a:lnTo>
                    <a:lnTo>
                      <a:pt x="515" y="1805"/>
                    </a:lnTo>
                    <a:lnTo>
                      <a:pt x="493" y="1793"/>
                    </a:lnTo>
                    <a:lnTo>
                      <a:pt x="493" y="1737"/>
                    </a:lnTo>
                    <a:lnTo>
                      <a:pt x="493" y="1681"/>
                    </a:lnTo>
                    <a:lnTo>
                      <a:pt x="482" y="1615"/>
                    </a:lnTo>
                    <a:lnTo>
                      <a:pt x="482" y="1559"/>
                    </a:lnTo>
                    <a:lnTo>
                      <a:pt x="470" y="1503"/>
                    </a:lnTo>
                    <a:lnTo>
                      <a:pt x="459" y="1446"/>
                    </a:lnTo>
                    <a:lnTo>
                      <a:pt x="449" y="1390"/>
                    </a:lnTo>
                    <a:lnTo>
                      <a:pt x="437" y="1335"/>
                    </a:lnTo>
                    <a:lnTo>
                      <a:pt x="426" y="1279"/>
                    </a:lnTo>
                    <a:lnTo>
                      <a:pt x="414" y="1222"/>
                    </a:lnTo>
                    <a:lnTo>
                      <a:pt x="403" y="1166"/>
                    </a:lnTo>
                    <a:lnTo>
                      <a:pt x="392" y="1110"/>
                    </a:lnTo>
                    <a:lnTo>
                      <a:pt x="370" y="1054"/>
                    </a:lnTo>
                    <a:lnTo>
                      <a:pt x="358" y="997"/>
                    </a:lnTo>
                    <a:lnTo>
                      <a:pt x="348" y="941"/>
                    </a:lnTo>
                    <a:lnTo>
                      <a:pt x="336" y="885"/>
                    </a:lnTo>
                    <a:lnTo>
                      <a:pt x="325" y="840"/>
                    </a:lnTo>
                    <a:lnTo>
                      <a:pt x="314" y="807"/>
                    </a:lnTo>
                    <a:lnTo>
                      <a:pt x="302" y="763"/>
                    </a:lnTo>
                    <a:lnTo>
                      <a:pt x="280" y="729"/>
                    </a:lnTo>
                    <a:lnTo>
                      <a:pt x="268" y="685"/>
                    </a:lnTo>
                    <a:lnTo>
                      <a:pt x="245" y="650"/>
                    </a:lnTo>
                    <a:lnTo>
                      <a:pt x="223" y="617"/>
                    </a:lnTo>
                    <a:lnTo>
                      <a:pt x="200" y="583"/>
                    </a:lnTo>
                    <a:lnTo>
                      <a:pt x="179" y="549"/>
                    </a:lnTo>
                    <a:lnTo>
                      <a:pt x="156" y="516"/>
                    </a:lnTo>
                    <a:lnTo>
                      <a:pt x="134" y="482"/>
                    </a:lnTo>
                    <a:lnTo>
                      <a:pt x="111" y="438"/>
                    </a:lnTo>
                    <a:lnTo>
                      <a:pt x="78" y="403"/>
                    </a:lnTo>
                    <a:lnTo>
                      <a:pt x="55" y="370"/>
                    </a:lnTo>
                    <a:lnTo>
                      <a:pt x="33" y="337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325" y="0"/>
                    </a:lnTo>
                    <a:lnTo>
                      <a:pt x="358" y="11"/>
                    </a:lnTo>
                    <a:lnTo>
                      <a:pt x="392" y="22"/>
                    </a:lnTo>
                    <a:lnTo>
                      <a:pt x="426" y="34"/>
                    </a:lnTo>
                    <a:lnTo>
                      <a:pt x="449" y="56"/>
                    </a:lnTo>
                    <a:lnTo>
                      <a:pt x="482" y="67"/>
                    </a:lnTo>
                    <a:lnTo>
                      <a:pt x="504" y="90"/>
                    </a:lnTo>
                    <a:lnTo>
                      <a:pt x="538" y="112"/>
                    </a:lnTo>
                    <a:lnTo>
                      <a:pt x="560" y="135"/>
                    </a:lnTo>
                    <a:lnTo>
                      <a:pt x="582" y="156"/>
                    </a:lnTo>
                    <a:lnTo>
                      <a:pt x="616" y="191"/>
                    </a:lnTo>
                    <a:lnTo>
                      <a:pt x="639" y="213"/>
                    </a:lnTo>
                    <a:lnTo>
                      <a:pt x="660" y="236"/>
                    </a:lnTo>
                    <a:lnTo>
                      <a:pt x="683" y="270"/>
                    </a:lnTo>
                    <a:lnTo>
                      <a:pt x="717" y="291"/>
                    </a:lnTo>
                    <a:lnTo>
                      <a:pt x="740" y="314"/>
                    </a:lnTo>
                    <a:lnTo>
                      <a:pt x="762" y="3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7104600" y="3111120"/>
                <a:ext cx="191520" cy="309960"/>
              </a:xfrm>
              <a:custGeom>
                <a:avLst/>
                <a:gdLst/>
                <a:ahLst/>
                <a:rect l="l" t="t" r="r" b="b"/>
                <a:pathLst>
                  <a:path w="493" h="796">
                    <a:moveTo>
                      <a:pt x="0" y="0"/>
                    </a:moveTo>
                    <a:lnTo>
                      <a:pt x="45" y="45"/>
                    </a:lnTo>
                    <a:lnTo>
                      <a:pt x="79" y="101"/>
                    </a:lnTo>
                    <a:lnTo>
                      <a:pt x="112" y="145"/>
                    </a:lnTo>
                    <a:lnTo>
                      <a:pt x="157" y="190"/>
                    </a:lnTo>
                    <a:lnTo>
                      <a:pt x="190" y="235"/>
                    </a:lnTo>
                    <a:lnTo>
                      <a:pt x="224" y="291"/>
                    </a:lnTo>
                    <a:lnTo>
                      <a:pt x="258" y="336"/>
                    </a:lnTo>
                    <a:lnTo>
                      <a:pt x="291" y="381"/>
                    </a:lnTo>
                    <a:lnTo>
                      <a:pt x="314" y="437"/>
                    </a:lnTo>
                    <a:lnTo>
                      <a:pt x="347" y="482"/>
                    </a:lnTo>
                    <a:lnTo>
                      <a:pt x="370" y="538"/>
                    </a:lnTo>
                    <a:lnTo>
                      <a:pt x="404" y="582"/>
                    </a:lnTo>
                    <a:lnTo>
                      <a:pt x="427" y="638"/>
                    </a:lnTo>
                    <a:lnTo>
                      <a:pt x="449" y="695"/>
                    </a:lnTo>
                    <a:lnTo>
                      <a:pt x="471" y="740"/>
                    </a:lnTo>
                    <a:lnTo>
                      <a:pt x="49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7296120" y="3421440"/>
                <a:ext cx="16200" cy="117000"/>
              </a:xfrm>
              <a:custGeom>
                <a:avLst/>
                <a:gdLst/>
                <a:ahLst/>
                <a:rect l="l" t="t" r="r" b="b"/>
                <a:pathLst>
                  <a:path w="45" h="301">
                    <a:moveTo>
                      <a:pt x="0" y="0"/>
                    </a:moveTo>
                    <a:lnTo>
                      <a:pt x="0" y="22"/>
                    </a:lnTo>
                    <a:lnTo>
                      <a:pt x="12" y="33"/>
                    </a:lnTo>
                    <a:lnTo>
                      <a:pt x="12" y="55"/>
                    </a:lnTo>
                    <a:lnTo>
                      <a:pt x="23" y="78"/>
                    </a:lnTo>
                    <a:lnTo>
                      <a:pt x="23" y="89"/>
                    </a:lnTo>
                    <a:lnTo>
                      <a:pt x="33" y="111"/>
                    </a:lnTo>
                    <a:lnTo>
                      <a:pt x="33" y="134"/>
                    </a:lnTo>
                    <a:lnTo>
                      <a:pt x="33" y="146"/>
                    </a:lnTo>
                    <a:lnTo>
                      <a:pt x="33" y="167"/>
                    </a:lnTo>
                    <a:lnTo>
                      <a:pt x="45" y="190"/>
                    </a:lnTo>
                    <a:lnTo>
                      <a:pt x="45" y="202"/>
                    </a:lnTo>
                    <a:lnTo>
                      <a:pt x="45" y="223"/>
                    </a:lnTo>
                    <a:lnTo>
                      <a:pt x="45" y="246"/>
                    </a:lnTo>
                    <a:lnTo>
                      <a:pt x="45" y="268"/>
                    </a:lnTo>
                    <a:lnTo>
                      <a:pt x="45" y="279"/>
                    </a:lnTo>
                    <a:lnTo>
                      <a:pt x="45" y="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6939000" y="3325680"/>
                <a:ext cx="60840" cy="352440"/>
              </a:xfrm>
              <a:custGeom>
                <a:avLst/>
                <a:gdLst/>
                <a:ahLst/>
                <a:rect l="l" t="t" r="r" b="b"/>
                <a:pathLst>
                  <a:path w="157" h="908">
                    <a:moveTo>
                      <a:pt x="157" y="908"/>
                    </a:moveTo>
                    <a:lnTo>
                      <a:pt x="157" y="852"/>
                    </a:lnTo>
                    <a:lnTo>
                      <a:pt x="157" y="796"/>
                    </a:lnTo>
                    <a:lnTo>
                      <a:pt x="146" y="730"/>
                    </a:lnTo>
                    <a:lnTo>
                      <a:pt x="146" y="674"/>
                    </a:lnTo>
                    <a:lnTo>
                      <a:pt x="134" y="618"/>
                    </a:lnTo>
                    <a:lnTo>
                      <a:pt x="123" y="561"/>
                    </a:lnTo>
                    <a:lnTo>
                      <a:pt x="113" y="505"/>
                    </a:lnTo>
                    <a:lnTo>
                      <a:pt x="101" y="450"/>
                    </a:lnTo>
                    <a:lnTo>
                      <a:pt x="90" y="394"/>
                    </a:lnTo>
                    <a:lnTo>
                      <a:pt x="78" y="337"/>
                    </a:lnTo>
                    <a:lnTo>
                      <a:pt x="67" y="281"/>
                    </a:lnTo>
                    <a:lnTo>
                      <a:pt x="56" y="225"/>
                    </a:lnTo>
                    <a:lnTo>
                      <a:pt x="34" y="169"/>
                    </a:lnTo>
                    <a:lnTo>
                      <a:pt x="22" y="112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6808320" y="3099600"/>
                <a:ext cx="130680" cy="225720"/>
              </a:xfrm>
              <a:custGeom>
                <a:avLst/>
                <a:gdLst/>
                <a:ahLst/>
                <a:rect l="l" t="t" r="r" b="b"/>
                <a:pathLst>
                  <a:path w="336" h="582">
                    <a:moveTo>
                      <a:pt x="336" y="582"/>
                    </a:moveTo>
                    <a:lnTo>
                      <a:pt x="325" y="537"/>
                    </a:lnTo>
                    <a:lnTo>
                      <a:pt x="314" y="504"/>
                    </a:lnTo>
                    <a:lnTo>
                      <a:pt x="302" y="460"/>
                    </a:lnTo>
                    <a:lnTo>
                      <a:pt x="280" y="426"/>
                    </a:lnTo>
                    <a:lnTo>
                      <a:pt x="268" y="382"/>
                    </a:lnTo>
                    <a:lnTo>
                      <a:pt x="245" y="347"/>
                    </a:lnTo>
                    <a:lnTo>
                      <a:pt x="223" y="314"/>
                    </a:lnTo>
                    <a:lnTo>
                      <a:pt x="200" y="280"/>
                    </a:lnTo>
                    <a:lnTo>
                      <a:pt x="179" y="246"/>
                    </a:lnTo>
                    <a:lnTo>
                      <a:pt x="156" y="213"/>
                    </a:lnTo>
                    <a:lnTo>
                      <a:pt x="134" y="179"/>
                    </a:lnTo>
                    <a:lnTo>
                      <a:pt x="111" y="135"/>
                    </a:lnTo>
                    <a:lnTo>
                      <a:pt x="78" y="100"/>
                    </a:lnTo>
                    <a:lnTo>
                      <a:pt x="55" y="6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6808320" y="2980440"/>
                <a:ext cx="125640" cy="118800"/>
              </a:xfrm>
              <a:custGeom>
                <a:avLst/>
                <a:gdLst/>
                <a:ahLst/>
                <a:rect l="l" t="t" r="r" b="b"/>
                <a:pathLst>
                  <a:path w="325" h="303">
                    <a:moveTo>
                      <a:pt x="0" y="303"/>
                    </a:moveTo>
                    <a:lnTo>
                      <a:pt x="0" y="291"/>
                    </a:lnTo>
                    <a:lnTo>
                      <a:pt x="3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6933960" y="2980440"/>
                <a:ext cx="170280" cy="130680"/>
              </a:xfrm>
              <a:custGeom>
                <a:avLst/>
                <a:gdLst/>
                <a:ahLst/>
                <a:rect l="l" t="t" r="r" b="b"/>
                <a:pathLst>
                  <a:path w="437" h="337">
                    <a:moveTo>
                      <a:pt x="0" y="0"/>
                    </a:moveTo>
                    <a:lnTo>
                      <a:pt x="33" y="11"/>
                    </a:lnTo>
                    <a:lnTo>
                      <a:pt x="67" y="22"/>
                    </a:lnTo>
                    <a:lnTo>
                      <a:pt x="101" y="34"/>
                    </a:lnTo>
                    <a:lnTo>
                      <a:pt x="124" y="56"/>
                    </a:lnTo>
                    <a:lnTo>
                      <a:pt x="157" y="67"/>
                    </a:lnTo>
                    <a:lnTo>
                      <a:pt x="179" y="90"/>
                    </a:lnTo>
                    <a:lnTo>
                      <a:pt x="213" y="112"/>
                    </a:lnTo>
                    <a:lnTo>
                      <a:pt x="235" y="135"/>
                    </a:lnTo>
                    <a:lnTo>
                      <a:pt x="257" y="156"/>
                    </a:lnTo>
                    <a:lnTo>
                      <a:pt x="291" y="191"/>
                    </a:lnTo>
                    <a:lnTo>
                      <a:pt x="314" y="213"/>
                    </a:lnTo>
                    <a:lnTo>
                      <a:pt x="335" y="236"/>
                    </a:lnTo>
                    <a:lnTo>
                      <a:pt x="358" y="270"/>
                    </a:lnTo>
                    <a:lnTo>
                      <a:pt x="392" y="291"/>
                    </a:lnTo>
                    <a:lnTo>
                      <a:pt x="415" y="314"/>
                    </a:lnTo>
                    <a:lnTo>
                      <a:pt x="437" y="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7265160" y="2997000"/>
                <a:ext cx="497160" cy="1388520"/>
              </a:xfrm>
              <a:custGeom>
                <a:avLst/>
                <a:gdLst/>
                <a:ahLst/>
                <a:rect l="l" t="t" r="r" b="b"/>
                <a:pathLst>
                  <a:path w="1278" h="3567">
                    <a:moveTo>
                      <a:pt x="1255" y="56"/>
                    </a:moveTo>
                    <a:lnTo>
                      <a:pt x="1255" y="68"/>
                    </a:lnTo>
                    <a:lnTo>
                      <a:pt x="1255" y="79"/>
                    </a:lnTo>
                    <a:lnTo>
                      <a:pt x="1255" y="91"/>
                    </a:lnTo>
                    <a:lnTo>
                      <a:pt x="1267" y="101"/>
                    </a:lnTo>
                    <a:lnTo>
                      <a:pt x="1267" y="112"/>
                    </a:lnTo>
                    <a:lnTo>
                      <a:pt x="1255" y="124"/>
                    </a:lnTo>
                    <a:lnTo>
                      <a:pt x="1255" y="147"/>
                    </a:lnTo>
                    <a:lnTo>
                      <a:pt x="1255" y="158"/>
                    </a:lnTo>
                    <a:lnTo>
                      <a:pt x="1255" y="169"/>
                    </a:lnTo>
                    <a:lnTo>
                      <a:pt x="1255" y="181"/>
                    </a:lnTo>
                    <a:lnTo>
                      <a:pt x="1255" y="192"/>
                    </a:lnTo>
                    <a:lnTo>
                      <a:pt x="1255" y="204"/>
                    </a:lnTo>
                    <a:lnTo>
                      <a:pt x="1255" y="214"/>
                    </a:lnTo>
                    <a:lnTo>
                      <a:pt x="1255" y="237"/>
                    </a:lnTo>
                    <a:lnTo>
                      <a:pt x="1255" y="247"/>
                    </a:lnTo>
                    <a:lnTo>
                      <a:pt x="1255" y="259"/>
                    </a:lnTo>
                    <a:lnTo>
                      <a:pt x="1255" y="282"/>
                    </a:lnTo>
                    <a:lnTo>
                      <a:pt x="1255" y="293"/>
                    </a:lnTo>
                    <a:lnTo>
                      <a:pt x="1255" y="315"/>
                    </a:lnTo>
                    <a:lnTo>
                      <a:pt x="1255" y="326"/>
                    </a:lnTo>
                    <a:lnTo>
                      <a:pt x="1255" y="348"/>
                    </a:lnTo>
                    <a:lnTo>
                      <a:pt x="1255" y="371"/>
                    </a:lnTo>
                    <a:lnTo>
                      <a:pt x="1255" y="382"/>
                    </a:lnTo>
                    <a:lnTo>
                      <a:pt x="1255" y="404"/>
                    </a:lnTo>
                    <a:lnTo>
                      <a:pt x="1255" y="415"/>
                    </a:lnTo>
                    <a:lnTo>
                      <a:pt x="1245" y="438"/>
                    </a:lnTo>
                    <a:lnTo>
                      <a:pt x="1245" y="460"/>
                    </a:lnTo>
                    <a:lnTo>
                      <a:pt x="1245" y="472"/>
                    </a:lnTo>
                    <a:lnTo>
                      <a:pt x="1245" y="493"/>
                    </a:lnTo>
                    <a:lnTo>
                      <a:pt x="1233" y="516"/>
                    </a:lnTo>
                    <a:lnTo>
                      <a:pt x="1233" y="528"/>
                    </a:lnTo>
                    <a:lnTo>
                      <a:pt x="1233" y="549"/>
                    </a:lnTo>
                    <a:lnTo>
                      <a:pt x="1233" y="606"/>
                    </a:lnTo>
                    <a:lnTo>
                      <a:pt x="1222" y="651"/>
                    </a:lnTo>
                    <a:lnTo>
                      <a:pt x="1222" y="707"/>
                    </a:lnTo>
                    <a:lnTo>
                      <a:pt x="1222" y="752"/>
                    </a:lnTo>
                    <a:lnTo>
                      <a:pt x="1233" y="808"/>
                    </a:lnTo>
                    <a:lnTo>
                      <a:pt x="1233" y="864"/>
                    </a:lnTo>
                    <a:lnTo>
                      <a:pt x="1233" y="909"/>
                    </a:lnTo>
                    <a:lnTo>
                      <a:pt x="1233" y="965"/>
                    </a:lnTo>
                    <a:lnTo>
                      <a:pt x="1245" y="1022"/>
                    </a:lnTo>
                    <a:lnTo>
                      <a:pt x="1245" y="1066"/>
                    </a:lnTo>
                    <a:lnTo>
                      <a:pt x="1255" y="1122"/>
                    </a:lnTo>
                    <a:lnTo>
                      <a:pt x="1255" y="1178"/>
                    </a:lnTo>
                    <a:lnTo>
                      <a:pt x="1255" y="1235"/>
                    </a:lnTo>
                    <a:lnTo>
                      <a:pt x="1267" y="1279"/>
                    </a:lnTo>
                    <a:lnTo>
                      <a:pt x="1267" y="1335"/>
                    </a:lnTo>
                    <a:lnTo>
                      <a:pt x="1267" y="1390"/>
                    </a:lnTo>
                    <a:lnTo>
                      <a:pt x="1267" y="1402"/>
                    </a:lnTo>
                    <a:lnTo>
                      <a:pt x="1267" y="1515"/>
                    </a:lnTo>
                    <a:lnTo>
                      <a:pt x="1267" y="1627"/>
                    </a:lnTo>
                    <a:lnTo>
                      <a:pt x="1267" y="1728"/>
                    </a:lnTo>
                    <a:lnTo>
                      <a:pt x="1278" y="1839"/>
                    </a:lnTo>
                    <a:lnTo>
                      <a:pt x="1278" y="1952"/>
                    </a:lnTo>
                    <a:lnTo>
                      <a:pt x="1278" y="2053"/>
                    </a:lnTo>
                    <a:lnTo>
                      <a:pt x="1278" y="2165"/>
                    </a:lnTo>
                    <a:lnTo>
                      <a:pt x="1278" y="2278"/>
                    </a:lnTo>
                    <a:lnTo>
                      <a:pt x="1278" y="2378"/>
                    </a:lnTo>
                    <a:lnTo>
                      <a:pt x="1278" y="2490"/>
                    </a:lnTo>
                    <a:lnTo>
                      <a:pt x="1278" y="2590"/>
                    </a:lnTo>
                    <a:lnTo>
                      <a:pt x="1278" y="2703"/>
                    </a:lnTo>
                    <a:lnTo>
                      <a:pt x="1267" y="2816"/>
                    </a:lnTo>
                    <a:lnTo>
                      <a:pt x="1267" y="2916"/>
                    </a:lnTo>
                    <a:lnTo>
                      <a:pt x="1255" y="3027"/>
                    </a:lnTo>
                    <a:lnTo>
                      <a:pt x="1255" y="3130"/>
                    </a:lnTo>
                    <a:lnTo>
                      <a:pt x="1245" y="3152"/>
                    </a:lnTo>
                    <a:lnTo>
                      <a:pt x="1245" y="3175"/>
                    </a:lnTo>
                    <a:lnTo>
                      <a:pt x="1245" y="3197"/>
                    </a:lnTo>
                    <a:lnTo>
                      <a:pt x="1245" y="3219"/>
                    </a:lnTo>
                    <a:lnTo>
                      <a:pt x="1233" y="3241"/>
                    </a:lnTo>
                    <a:lnTo>
                      <a:pt x="1233" y="3264"/>
                    </a:lnTo>
                    <a:lnTo>
                      <a:pt x="1233" y="3286"/>
                    </a:lnTo>
                    <a:lnTo>
                      <a:pt x="1233" y="3309"/>
                    </a:lnTo>
                    <a:lnTo>
                      <a:pt x="1233" y="3330"/>
                    </a:lnTo>
                    <a:lnTo>
                      <a:pt x="1222" y="3353"/>
                    </a:lnTo>
                    <a:lnTo>
                      <a:pt x="1222" y="3375"/>
                    </a:lnTo>
                    <a:lnTo>
                      <a:pt x="1222" y="3398"/>
                    </a:lnTo>
                    <a:lnTo>
                      <a:pt x="1222" y="3421"/>
                    </a:lnTo>
                    <a:lnTo>
                      <a:pt x="1222" y="3443"/>
                    </a:lnTo>
                    <a:lnTo>
                      <a:pt x="1222" y="3465"/>
                    </a:lnTo>
                    <a:lnTo>
                      <a:pt x="1222" y="3487"/>
                    </a:lnTo>
                    <a:lnTo>
                      <a:pt x="1222" y="3499"/>
                    </a:lnTo>
                    <a:lnTo>
                      <a:pt x="1210" y="3499"/>
                    </a:lnTo>
                    <a:lnTo>
                      <a:pt x="1210" y="3510"/>
                    </a:lnTo>
                    <a:lnTo>
                      <a:pt x="1210" y="3520"/>
                    </a:lnTo>
                    <a:lnTo>
                      <a:pt x="1210" y="3532"/>
                    </a:lnTo>
                    <a:lnTo>
                      <a:pt x="1198" y="3544"/>
                    </a:lnTo>
                    <a:lnTo>
                      <a:pt x="1198" y="3555"/>
                    </a:lnTo>
                    <a:lnTo>
                      <a:pt x="1198" y="3567"/>
                    </a:lnTo>
                    <a:lnTo>
                      <a:pt x="1188" y="3567"/>
                    </a:lnTo>
                    <a:lnTo>
                      <a:pt x="1176" y="3567"/>
                    </a:lnTo>
                    <a:lnTo>
                      <a:pt x="1176" y="3555"/>
                    </a:lnTo>
                    <a:lnTo>
                      <a:pt x="1165" y="3544"/>
                    </a:lnTo>
                    <a:lnTo>
                      <a:pt x="1143" y="3532"/>
                    </a:lnTo>
                    <a:lnTo>
                      <a:pt x="1120" y="3520"/>
                    </a:lnTo>
                    <a:lnTo>
                      <a:pt x="1109" y="3510"/>
                    </a:lnTo>
                    <a:lnTo>
                      <a:pt x="1099" y="3499"/>
                    </a:lnTo>
                    <a:lnTo>
                      <a:pt x="1087" y="3476"/>
                    </a:lnTo>
                    <a:lnTo>
                      <a:pt x="1076" y="3465"/>
                    </a:lnTo>
                    <a:lnTo>
                      <a:pt x="1064" y="3443"/>
                    </a:lnTo>
                    <a:lnTo>
                      <a:pt x="1053" y="3431"/>
                    </a:lnTo>
                    <a:lnTo>
                      <a:pt x="1043" y="3409"/>
                    </a:lnTo>
                    <a:lnTo>
                      <a:pt x="1031" y="3398"/>
                    </a:lnTo>
                    <a:lnTo>
                      <a:pt x="1020" y="3375"/>
                    </a:lnTo>
                    <a:lnTo>
                      <a:pt x="1008" y="3365"/>
                    </a:lnTo>
                    <a:lnTo>
                      <a:pt x="998" y="3342"/>
                    </a:lnTo>
                    <a:lnTo>
                      <a:pt x="986" y="3330"/>
                    </a:lnTo>
                    <a:lnTo>
                      <a:pt x="975" y="3309"/>
                    </a:lnTo>
                    <a:lnTo>
                      <a:pt x="952" y="3297"/>
                    </a:lnTo>
                    <a:lnTo>
                      <a:pt x="761" y="3050"/>
                    </a:lnTo>
                    <a:lnTo>
                      <a:pt x="347" y="2389"/>
                    </a:lnTo>
                    <a:lnTo>
                      <a:pt x="324" y="2344"/>
                    </a:lnTo>
                    <a:lnTo>
                      <a:pt x="301" y="2300"/>
                    </a:lnTo>
                    <a:lnTo>
                      <a:pt x="280" y="2254"/>
                    </a:lnTo>
                    <a:lnTo>
                      <a:pt x="258" y="2209"/>
                    </a:lnTo>
                    <a:lnTo>
                      <a:pt x="235" y="2165"/>
                    </a:lnTo>
                    <a:lnTo>
                      <a:pt x="212" y="2120"/>
                    </a:lnTo>
                    <a:lnTo>
                      <a:pt x="190" y="2075"/>
                    </a:lnTo>
                    <a:lnTo>
                      <a:pt x="167" y="2031"/>
                    </a:lnTo>
                    <a:lnTo>
                      <a:pt x="146" y="1986"/>
                    </a:lnTo>
                    <a:lnTo>
                      <a:pt x="134" y="1940"/>
                    </a:lnTo>
                    <a:lnTo>
                      <a:pt x="111" y="1896"/>
                    </a:lnTo>
                    <a:lnTo>
                      <a:pt x="90" y="1851"/>
                    </a:lnTo>
                    <a:lnTo>
                      <a:pt x="67" y="1806"/>
                    </a:lnTo>
                    <a:lnTo>
                      <a:pt x="56" y="1761"/>
                    </a:lnTo>
                    <a:lnTo>
                      <a:pt x="34" y="1716"/>
                    </a:lnTo>
                    <a:lnTo>
                      <a:pt x="22" y="1672"/>
                    </a:lnTo>
                    <a:lnTo>
                      <a:pt x="12" y="1660"/>
                    </a:lnTo>
                    <a:lnTo>
                      <a:pt x="12" y="1649"/>
                    </a:lnTo>
                    <a:lnTo>
                      <a:pt x="12" y="1637"/>
                    </a:lnTo>
                    <a:lnTo>
                      <a:pt x="12" y="1627"/>
                    </a:lnTo>
                    <a:lnTo>
                      <a:pt x="0" y="1616"/>
                    </a:lnTo>
                    <a:lnTo>
                      <a:pt x="0" y="1604"/>
                    </a:lnTo>
                    <a:lnTo>
                      <a:pt x="0" y="1593"/>
                    </a:lnTo>
                    <a:lnTo>
                      <a:pt x="12" y="1593"/>
                    </a:lnTo>
                    <a:lnTo>
                      <a:pt x="0" y="1593"/>
                    </a:lnTo>
                    <a:lnTo>
                      <a:pt x="190" y="1368"/>
                    </a:lnTo>
                    <a:lnTo>
                      <a:pt x="886" y="449"/>
                    </a:lnTo>
                    <a:lnTo>
                      <a:pt x="909" y="427"/>
                    </a:lnTo>
                    <a:lnTo>
                      <a:pt x="930" y="394"/>
                    </a:lnTo>
                    <a:lnTo>
                      <a:pt x="952" y="371"/>
                    </a:lnTo>
                    <a:lnTo>
                      <a:pt x="975" y="338"/>
                    </a:lnTo>
                    <a:lnTo>
                      <a:pt x="986" y="315"/>
                    </a:lnTo>
                    <a:lnTo>
                      <a:pt x="1008" y="282"/>
                    </a:lnTo>
                    <a:lnTo>
                      <a:pt x="1031" y="247"/>
                    </a:lnTo>
                    <a:lnTo>
                      <a:pt x="1043" y="226"/>
                    </a:lnTo>
                    <a:lnTo>
                      <a:pt x="1064" y="192"/>
                    </a:lnTo>
                    <a:lnTo>
                      <a:pt x="1087" y="169"/>
                    </a:lnTo>
                    <a:lnTo>
                      <a:pt x="1099" y="136"/>
                    </a:lnTo>
                    <a:lnTo>
                      <a:pt x="1120" y="112"/>
                    </a:lnTo>
                    <a:lnTo>
                      <a:pt x="1143" y="79"/>
                    </a:lnTo>
                    <a:lnTo>
                      <a:pt x="1165" y="56"/>
                    </a:lnTo>
                    <a:lnTo>
                      <a:pt x="1188" y="35"/>
                    </a:lnTo>
                    <a:lnTo>
                      <a:pt x="1222" y="0"/>
                    </a:lnTo>
                    <a:lnTo>
                      <a:pt x="1222" y="12"/>
                    </a:lnTo>
                    <a:lnTo>
                      <a:pt x="1233" y="12"/>
                    </a:lnTo>
                    <a:lnTo>
                      <a:pt x="1245" y="23"/>
                    </a:lnTo>
                    <a:lnTo>
                      <a:pt x="1245" y="35"/>
                    </a:lnTo>
                    <a:lnTo>
                      <a:pt x="1245" y="46"/>
                    </a:lnTo>
                    <a:lnTo>
                      <a:pt x="1255" y="46"/>
                    </a:lnTo>
                    <a:lnTo>
                      <a:pt x="1255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7753320" y="302004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12" h="203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6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81"/>
                    </a:lnTo>
                    <a:lnTo>
                      <a:pt x="0" y="191"/>
                    </a:lnTo>
                    <a:lnTo>
                      <a:pt x="0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7743600" y="3099600"/>
                <a:ext cx="9360" cy="111600"/>
              </a:xfrm>
              <a:custGeom>
                <a:avLst/>
                <a:gdLst/>
                <a:ahLst/>
                <a:rect l="l" t="t" r="r" b="b"/>
                <a:pathLst>
                  <a:path w="22" h="290">
                    <a:moveTo>
                      <a:pt x="22" y="0"/>
                    </a:moveTo>
                    <a:lnTo>
                      <a:pt x="22" y="23"/>
                    </a:lnTo>
                    <a:lnTo>
                      <a:pt x="22" y="34"/>
                    </a:lnTo>
                    <a:lnTo>
                      <a:pt x="22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22" y="112"/>
                    </a:lnTo>
                    <a:lnTo>
                      <a:pt x="22" y="123"/>
                    </a:lnTo>
                    <a:lnTo>
                      <a:pt x="22" y="145"/>
                    </a:lnTo>
                    <a:lnTo>
                      <a:pt x="22" y="156"/>
                    </a:lnTo>
                    <a:lnTo>
                      <a:pt x="12" y="179"/>
                    </a:lnTo>
                    <a:lnTo>
                      <a:pt x="12" y="201"/>
                    </a:lnTo>
                    <a:lnTo>
                      <a:pt x="12" y="213"/>
                    </a:lnTo>
                    <a:lnTo>
                      <a:pt x="12" y="234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7741440" y="3211200"/>
                <a:ext cx="16200" cy="326880"/>
              </a:xfrm>
              <a:custGeom>
                <a:avLst/>
                <a:gdLst/>
                <a:ahLst/>
                <a:rect l="l" t="t" r="r" b="b"/>
                <a:pathLst>
                  <a:path w="45" h="841">
                    <a:moveTo>
                      <a:pt x="11" y="0"/>
                    </a:moveTo>
                    <a:lnTo>
                      <a:pt x="11" y="57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0" y="203"/>
                    </a:lnTo>
                    <a:lnTo>
                      <a:pt x="11" y="259"/>
                    </a:lnTo>
                    <a:lnTo>
                      <a:pt x="11" y="315"/>
                    </a:lnTo>
                    <a:lnTo>
                      <a:pt x="11" y="360"/>
                    </a:lnTo>
                    <a:lnTo>
                      <a:pt x="11" y="416"/>
                    </a:lnTo>
                    <a:lnTo>
                      <a:pt x="23" y="473"/>
                    </a:lnTo>
                    <a:lnTo>
                      <a:pt x="23" y="517"/>
                    </a:lnTo>
                    <a:lnTo>
                      <a:pt x="33" y="573"/>
                    </a:lnTo>
                    <a:lnTo>
                      <a:pt x="33" y="629"/>
                    </a:lnTo>
                    <a:lnTo>
                      <a:pt x="33" y="686"/>
                    </a:lnTo>
                    <a:lnTo>
                      <a:pt x="45" y="730"/>
                    </a:lnTo>
                    <a:lnTo>
                      <a:pt x="45" y="786"/>
                    </a:lnTo>
                    <a:lnTo>
                      <a:pt x="45" y="8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7753320" y="3542760"/>
                <a:ext cx="9360" cy="672120"/>
              </a:xfrm>
              <a:custGeom>
                <a:avLst/>
                <a:gdLst/>
                <a:ahLst/>
                <a:rect l="l" t="t" r="r" b="b"/>
                <a:pathLst>
                  <a:path w="23" h="1728">
                    <a:moveTo>
                      <a:pt x="12" y="0"/>
                    </a:moveTo>
                    <a:lnTo>
                      <a:pt x="12" y="113"/>
                    </a:lnTo>
                    <a:lnTo>
                      <a:pt x="12" y="225"/>
                    </a:lnTo>
                    <a:lnTo>
                      <a:pt x="12" y="326"/>
                    </a:lnTo>
                    <a:lnTo>
                      <a:pt x="23" y="437"/>
                    </a:lnTo>
                    <a:lnTo>
                      <a:pt x="23" y="550"/>
                    </a:lnTo>
                    <a:lnTo>
                      <a:pt x="23" y="651"/>
                    </a:lnTo>
                    <a:lnTo>
                      <a:pt x="23" y="763"/>
                    </a:lnTo>
                    <a:lnTo>
                      <a:pt x="23" y="876"/>
                    </a:lnTo>
                    <a:lnTo>
                      <a:pt x="23" y="976"/>
                    </a:lnTo>
                    <a:lnTo>
                      <a:pt x="23" y="1088"/>
                    </a:lnTo>
                    <a:lnTo>
                      <a:pt x="23" y="1188"/>
                    </a:lnTo>
                    <a:lnTo>
                      <a:pt x="23" y="1301"/>
                    </a:lnTo>
                    <a:lnTo>
                      <a:pt x="12" y="1414"/>
                    </a:lnTo>
                    <a:lnTo>
                      <a:pt x="12" y="1514"/>
                    </a:lnTo>
                    <a:lnTo>
                      <a:pt x="0" y="1625"/>
                    </a:lnTo>
                    <a:lnTo>
                      <a:pt x="0" y="17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7741440" y="4215240"/>
                <a:ext cx="11520" cy="140040"/>
              </a:xfrm>
              <a:custGeom>
                <a:avLst/>
                <a:gdLst/>
                <a:ahLst/>
                <a:rect l="l" t="t" r="r" b="b"/>
                <a:pathLst>
                  <a:path w="33" h="357">
                    <a:moveTo>
                      <a:pt x="33" y="0"/>
                    </a:moveTo>
                    <a:lnTo>
                      <a:pt x="23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23" y="89"/>
                    </a:lnTo>
                    <a:lnTo>
                      <a:pt x="11" y="111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9"/>
                    </a:lnTo>
                    <a:lnTo>
                      <a:pt x="11" y="200"/>
                    </a:lnTo>
                    <a:lnTo>
                      <a:pt x="0" y="223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3"/>
                    </a:lnTo>
                    <a:lnTo>
                      <a:pt x="0" y="335"/>
                    </a:lnTo>
                    <a:lnTo>
                      <a:pt x="0" y="3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7636320" y="4280760"/>
                <a:ext cx="81720" cy="95760"/>
              </a:xfrm>
              <a:custGeom>
                <a:avLst/>
                <a:gdLst/>
                <a:ahLst/>
                <a:rect l="l" t="t" r="r" b="b"/>
                <a:pathLst>
                  <a:path w="213" h="247">
                    <a:moveTo>
                      <a:pt x="213" y="247"/>
                    </a:moveTo>
                    <a:lnTo>
                      <a:pt x="191" y="235"/>
                    </a:lnTo>
                    <a:lnTo>
                      <a:pt x="168" y="223"/>
                    </a:lnTo>
                    <a:lnTo>
                      <a:pt x="157" y="213"/>
                    </a:lnTo>
                    <a:lnTo>
                      <a:pt x="147" y="202"/>
                    </a:lnTo>
                    <a:lnTo>
                      <a:pt x="135" y="179"/>
                    </a:lnTo>
                    <a:lnTo>
                      <a:pt x="124" y="168"/>
                    </a:lnTo>
                    <a:lnTo>
                      <a:pt x="112" y="146"/>
                    </a:lnTo>
                    <a:lnTo>
                      <a:pt x="101" y="134"/>
                    </a:lnTo>
                    <a:lnTo>
                      <a:pt x="91" y="112"/>
                    </a:lnTo>
                    <a:lnTo>
                      <a:pt x="79" y="101"/>
                    </a:lnTo>
                    <a:lnTo>
                      <a:pt x="68" y="78"/>
                    </a:lnTo>
                    <a:lnTo>
                      <a:pt x="56" y="68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7400880" y="3927960"/>
                <a:ext cx="235440" cy="352440"/>
              </a:xfrm>
              <a:custGeom>
                <a:avLst/>
                <a:gdLst/>
                <a:ahLst/>
                <a:rect l="l" t="t" r="r" b="b"/>
                <a:pathLst>
                  <a:path w="605" h="908">
                    <a:moveTo>
                      <a:pt x="605" y="908"/>
                    </a:moveTo>
                    <a:lnTo>
                      <a:pt x="414" y="6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7274880" y="3648240"/>
                <a:ext cx="125640" cy="279720"/>
              </a:xfrm>
              <a:custGeom>
                <a:avLst/>
                <a:gdLst/>
                <a:ahLst/>
                <a:rect l="l" t="t" r="r" b="b"/>
                <a:pathLst>
                  <a:path w="325" h="717">
                    <a:moveTo>
                      <a:pt x="325" y="717"/>
                    </a:moveTo>
                    <a:lnTo>
                      <a:pt x="302" y="672"/>
                    </a:lnTo>
                    <a:lnTo>
                      <a:pt x="279" y="628"/>
                    </a:lnTo>
                    <a:lnTo>
                      <a:pt x="258" y="582"/>
                    </a:lnTo>
                    <a:lnTo>
                      <a:pt x="236" y="537"/>
                    </a:lnTo>
                    <a:lnTo>
                      <a:pt x="213" y="493"/>
                    </a:lnTo>
                    <a:lnTo>
                      <a:pt x="190" y="448"/>
                    </a:lnTo>
                    <a:lnTo>
                      <a:pt x="168" y="403"/>
                    </a:lnTo>
                    <a:lnTo>
                      <a:pt x="145" y="359"/>
                    </a:lnTo>
                    <a:lnTo>
                      <a:pt x="124" y="314"/>
                    </a:lnTo>
                    <a:lnTo>
                      <a:pt x="112" y="268"/>
                    </a:lnTo>
                    <a:lnTo>
                      <a:pt x="89" y="224"/>
                    </a:lnTo>
                    <a:lnTo>
                      <a:pt x="68" y="179"/>
                    </a:lnTo>
                    <a:lnTo>
                      <a:pt x="45" y="134"/>
                    </a:lnTo>
                    <a:lnTo>
                      <a:pt x="34" y="89"/>
                    </a:lnTo>
                    <a:lnTo>
                      <a:pt x="12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7265160" y="3171600"/>
                <a:ext cx="343080" cy="446040"/>
              </a:xfrm>
              <a:custGeom>
                <a:avLst/>
                <a:gdLst/>
                <a:ahLst/>
                <a:rect l="l" t="t" r="r" b="b"/>
                <a:pathLst>
                  <a:path w="886" h="1144">
                    <a:moveTo>
                      <a:pt x="0" y="1144"/>
                    </a:moveTo>
                    <a:lnTo>
                      <a:pt x="190" y="919"/>
                    </a:lnTo>
                    <a:lnTo>
                      <a:pt x="88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7608600" y="2997000"/>
                <a:ext cx="132480" cy="174600"/>
              </a:xfrm>
              <a:custGeom>
                <a:avLst/>
                <a:gdLst/>
                <a:ahLst/>
                <a:rect l="l" t="t" r="r" b="b"/>
                <a:pathLst>
                  <a:path w="336" h="449">
                    <a:moveTo>
                      <a:pt x="0" y="449"/>
                    </a:moveTo>
                    <a:lnTo>
                      <a:pt x="23" y="427"/>
                    </a:lnTo>
                    <a:lnTo>
                      <a:pt x="44" y="394"/>
                    </a:lnTo>
                    <a:lnTo>
                      <a:pt x="66" y="371"/>
                    </a:lnTo>
                    <a:lnTo>
                      <a:pt x="89" y="338"/>
                    </a:lnTo>
                    <a:lnTo>
                      <a:pt x="100" y="315"/>
                    </a:lnTo>
                    <a:lnTo>
                      <a:pt x="122" y="282"/>
                    </a:lnTo>
                    <a:lnTo>
                      <a:pt x="145" y="247"/>
                    </a:lnTo>
                    <a:lnTo>
                      <a:pt x="157" y="226"/>
                    </a:lnTo>
                    <a:lnTo>
                      <a:pt x="178" y="192"/>
                    </a:lnTo>
                    <a:lnTo>
                      <a:pt x="201" y="169"/>
                    </a:lnTo>
                    <a:lnTo>
                      <a:pt x="213" y="136"/>
                    </a:lnTo>
                    <a:lnTo>
                      <a:pt x="234" y="112"/>
                    </a:lnTo>
                    <a:lnTo>
                      <a:pt x="257" y="79"/>
                    </a:lnTo>
                    <a:lnTo>
                      <a:pt x="279" y="56"/>
                    </a:lnTo>
                    <a:lnTo>
                      <a:pt x="302" y="35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6834240" y="3000960"/>
                <a:ext cx="456840" cy="663120"/>
              </a:xfrm>
              <a:custGeom>
                <a:avLst/>
                <a:gdLst/>
                <a:ahLst/>
                <a:rect l="l" t="t" r="r" b="b"/>
                <a:pathLst>
                  <a:path w="1177" h="1704">
                    <a:moveTo>
                      <a:pt x="829" y="549"/>
                    </a:moveTo>
                    <a:lnTo>
                      <a:pt x="863" y="594"/>
                    </a:lnTo>
                    <a:lnTo>
                      <a:pt x="896" y="639"/>
                    </a:lnTo>
                    <a:lnTo>
                      <a:pt x="919" y="685"/>
                    </a:lnTo>
                    <a:lnTo>
                      <a:pt x="953" y="729"/>
                    </a:lnTo>
                    <a:lnTo>
                      <a:pt x="986" y="774"/>
                    </a:lnTo>
                    <a:lnTo>
                      <a:pt x="1009" y="819"/>
                    </a:lnTo>
                    <a:lnTo>
                      <a:pt x="1030" y="875"/>
                    </a:lnTo>
                    <a:lnTo>
                      <a:pt x="1053" y="919"/>
                    </a:lnTo>
                    <a:lnTo>
                      <a:pt x="1087" y="976"/>
                    </a:lnTo>
                    <a:lnTo>
                      <a:pt x="1099" y="1021"/>
                    </a:lnTo>
                    <a:lnTo>
                      <a:pt x="1122" y="1077"/>
                    </a:lnTo>
                    <a:lnTo>
                      <a:pt x="1132" y="1122"/>
                    </a:lnTo>
                    <a:lnTo>
                      <a:pt x="1155" y="1178"/>
                    </a:lnTo>
                    <a:lnTo>
                      <a:pt x="1166" y="1233"/>
                    </a:lnTo>
                    <a:lnTo>
                      <a:pt x="1166" y="1289"/>
                    </a:lnTo>
                    <a:lnTo>
                      <a:pt x="1177" y="1345"/>
                    </a:lnTo>
                    <a:lnTo>
                      <a:pt x="1132" y="1368"/>
                    </a:lnTo>
                    <a:lnTo>
                      <a:pt x="1087" y="1401"/>
                    </a:lnTo>
                    <a:lnTo>
                      <a:pt x="1042" y="1425"/>
                    </a:lnTo>
                    <a:lnTo>
                      <a:pt x="997" y="1447"/>
                    </a:lnTo>
                    <a:lnTo>
                      <a:pt x="953" y="1470"/>
                    </a:lnTo>
                    <a:lnTo>
                      <a:pt x="908" y="1491"/>
                    </a:lnTo>
                    <a:lnTo>
                      <a:pt x="863" y="1514"/>
                    </a:lnTo>
                    <a:lnTo>
                      <a:pt x="819" y="1536"/>
                    </a:lnTo>
                    <a:lnTo>
                      <a:pt x="774" y="1559"/>
                    </a:lnTo>
                    <a:lnTo>
                      <a:pt x="728" y="1581"/>
                    </a:lnTo>
                    <a:lnTo>
                      <a:pt x="685" y="1604"/>
                    </a:lnTo>
                    <a:lnTo>
                      <a:pt x="638" y="1615"/>
                    </a:lnTo>
                    <a:lnTo>
                      <a:pt x="593" y="1637"/>
                    </a:lnTo>
                    <a:lnTo>
                      <a:pt x="549" y="1660"/>
                    </a:lnTo>
                    <a:lnTo>
                      <a:pt x="504" y="1681"/>
                    </a:lnTo>
                    <a:lnTo>
                      <a:pt x="459" y="1704"/>
                    </a:lnTo>
                    <a:lnTo>
                      <a:pt x="459" y="1681"/>
                    </a:lnTo>
                    <a:lnTo>
                      <a:pt x="459" y="1671"/>
                    </a:lnTo>
                    <a:lnTo>
                      <a:pt x="459" y="1648"/>
                    </a:lnTo>
                    <a:lnTo>
                      <a:pt x="459" y="1625"/>
                    </a:lnTo>
                    <a:lnTo>
                      <a:pt x="459" y="1615"/>
                    </a:lnTo>
                    <a:lnTo>
                      <a:pt x="459" y="1592"/>
                    </a:lnTo>
                    <a:lnTo>
                      <a:pt x="459" y="1581"/>
                    </a:lnTo>
                    <a:lnTo>
                      <a:pt x="459" y="1559"/>
                    </a:lnTo>
                    <a:lnTo>
                      <a:pt x="459" y="1536"/>
                    </a:lnTo>
                    <a:lnTo>
                      <a:pt x="459" y="1526"/>
                    </a:lnTo>
                    <a:lnTo>
                      <a:pt x="459" y="1503"/>
                    </a:lnTo>
                    <a:lnTo>
                      <a:pt x="459" y="1481"/>
                    </a:lnTo>
                    <a:lnTo>
                      <a:pt x="459" y="1470"/>
                    </a:lnTo>
                    <a:lnTo>
                      <a:pt x="448" y="1447"/>
                    </a:lnTo>
                    <a:lnTo>
                      <a:pt x="448" y="1425"/>
                    </a:lnTo>
                    <a:lnTo>
                      <a:pt x="448" y="1413"/>
                    </a:lnTo>
                    <a:lnTo>
                      <a:pt x="448" y="1390"/>
                    </a:lnTo>
                    <a:lnTo>
                      <a:pt x="448" y="1378"/>
                    </a:lnTo>
                    <a:lnTo>
                      <a:pt x="437" y="1356"/>
                    </a:lnTo>
                    <a:lnTo>
                      <a:pt x="437" y="1334"/>
                    </a:lnTo>
                    <a:lnTo>
                      <a:pt x="437" y="1323"/>
                    </a:lnTo>
                    <a:lnTo>
                      <a:pt x="437" y="1300"/>
                    </a:lnTo>
                    <a:lnTo>
                      <a:pt x="437" y="1289"/>
                    </a:lnTo>
                    <a:lnTo>
                      <a:pt x="426" y="1267"/>
                    </a:lnTo>
                    <a:lnTo>
                      <a:pt x="426" y="1256"/>
                    </a:lnTo>
                    <a:lnTo>
                      <a:pt x="426" y="1233"/>
                    </a:lnTo>
                    <a:lnTo>
                      <a:pt x="426" y="1223"/>
                    </a:lnTo>
                    <a:lnTo>
                      <a:pt x="415" y="1200"/>
                    </a:lnTo>
                    <a:lnTo>
                      <a:pt x="415" y="1188"/>
                    </a:lnTo>
                    <a:lnTo>
                      <a:pt x="415" y="1166"/>
                    </a:lnTo>
                    <a:lnTo>
                      <a:pt x="415" y="1155"/>
                    </a:lnTo>
                    <a:lnTo>
                      <a:pt x="415" y="1132"/>
                    </a:lnTo>
                    <a:lnTo>
                      <a:pt x="403" y="1132"/>
                    </a:lnTo>
                    <a:lnTo>
                      <a:pt x="403" y="1122"/>
                    </a:lnTo>
                    <a:lnTo>
                      <a:pt x="392" y="1110"/>
                    </a:lnTo>
                    <a:lnTo>
                      <a:pt x="392" y="1099"/>
                    </a:lnTo>
                    <a:lnTo>
                      <a:pt x="392" y="1088"/>
                    </a:lnTo>
                    <a:lnTo>
                      <a:pt x="392" y="1077"/>
                    </a:lnTo>
                    <a:lnTo>
                      <a:pt x="392" y="1066"/>
                    </a:lnTo>
                    <a:lnTo>
                      <a:pt x="392" y="1054"/>
                    </a:lnTo>
                    <a:lnTo>
                      <a:pt x="392" y="1043"/>
                    </a:lnTo>
                    <a:lnTo>
                      <a:pt x="392" y="1033"/>
                    </a:lnTo>
                    <a:lnTo>
                      <a:pt x="382" y="1021"/>
                    </a:lnTo>
                    <a:lnTo>
                      <a:pt x="382" y="1010"/>
                    </a:lnTo>
                    <a:lnTo>
                      <a:pt x="370" y="998"/>
                    </a:lnTo>
                    <a:lnTo>
                      <a:pt x="370" y="986"/>
                    </a:lnTo>
                    <a:lnTo>
                      <a:pt x="359" y="964"/>
                    </a:lnTo>
                    <a:lnTo>
                      <a:pt x="359" y="941"/>
                    </a:lnTo>
                    <a:lnTo>
                      <a:pt x="359" y="919"/>
                    </a:lnTo>
                    <a:lnTo>
                      <a:pt x="347" y="897"/>
                    </a:lnTo>
                    <a:lnTo>
                      <a:pt x="347" y="885"/>
                    </a:lnTo>
                    <a:lnTo>
                      <a:pt x="347" y="863"/>
                    </a:lnTo>
                    <a:lnTo>
                      <a:pt x="336" y="841"/>
                    </a:lnTo>
                    <a:lnTo>
                      <a:pt x="336" y="819"/>
                    </a:lnTo>
                    <a:lnTo>
                      <a:pt x="325" y="796"/>
                    </a:lnTo>
                    <a:lnTo>
                      <a:pt x="325" y="784"/>
                    </a:lnTo>
                    <a:lnTo>
                      <a:pt x="314" y="763"/>
                    </a:lnTo>
                    <a:lnTo>
                      <a:pt x="314" y="740"/>
                    </a:lnTo>
                    <a:lnTo>
                      <a:pt x="303" y="729"/>
                    </a:lnTo>
                    <a:lnTo>
                      <a:pt x="303" y="707"/>
                    </a:lnTo>
                    <a:lnTo>
                      <a:pt x="291" y="685"/>
                    </a:lnTo>
                    <a:lnTo>
                      <a:pt x="281" y="673"/>
                    </a:lnTo>
                    <a:lnTo>
                      <a:pt x="281" y="651"/>
                    </a:lnTo>
                    <a:lnTo>
                      <a:pt x="281" y="639"/>
                    </a:lnTo>
                    <a:lnTo>
                      <a:pt x="269" y="629"/>
                    </a:lnTo>
                    <a:lnTo>
                      <a:pt x="269" y="606"/>
                    </a:lnTo>
                    <a:lnTo>
                      <a:pt x="258" y="594"/>
                    </a:lnTo>
                    <a:lnTo>
                      <a:pt x="247" y="584"/>
                    </a:lnTo>
                    <a:lnTo>
                      <a:pt x="247" y="561"/>
                    </a:lnTo>
                    <a:lnTo>
                      <a:pt x="235" y="549"/>
                    </a:lnTo>
                    <a:lnTo>
                      <a:pt x="224" y="537"/>
                    </a:lnTo>
                    <a:lnTo>
                      <a:pt x="213" y="527"/>
                    </a:lnTo>
                    <a:lnTo>
                      <a:pt x="213" y="504"/>
                    </a:lnTo>
                    <a:lnTo>
                      <a:pt x="201" y="493"/>
                    </a:lnTo>
                    <a:lnTo>
                      <a:pt x="190" y="481"/>
                    </a:lnTo>
                    <a:lnTo>
                      <a:pt x="178" y="471"/>
                    </a:lnTo>
                    <a:lnTo>
                      <a:pt x="178" y="448"/>
                    </a:lnTo>
                    <a:lnTo>
                      <a:pt x="168" y="437"/>
                    </a:lnTo>
                    <a:lnTo>
                      <a:pt x="156" y="426"/>
                    </a:lnTo>
                    <a:lnTo>
                      <a:pt x="145" y="415"/>
                    </a:lnTo>
                    <a:lnTo>
                      <a:pt x="133" y="403"/>
                    </a:lnTo>
                    <a:lnTo>
                      <a:pt x="133" y="392"/>
                    </a:lnTo>
                    <a:lnTo>
                      <a:pt x="123" y="382"/>
                    </a:lnTo>
                    <a:lnTo>
                      <a:pt x="112" y="370"/>
                    </a:lnTo>
                    <a:lnTo>
                      <a:pt x="100" y="359"/>
                    </a:lnTo>
                    <a:lnTo>
                      <a:pt x="89" y="347"/>
                    </a:lnTo>
                    <a:lnTo>
                      <a:pt x="77" y="336"/>
                    </a:lnTo>
                    <a:lnTo>
                      <a:pt x="67" y="326"/>
                    </a:lnTo>
                    <a:lnTo>
                      <a:pt x="56" y="326"/>
                    </a:lnTo>
                    <a:lnTo>
                      <a:pt x="56" y="314"/>
                    </a:lnTo>
                    <a:lnTo>
                      <a:pt x="44" y="303"/>
                    </a:lnTo>
                    <a:lnTo>
                      <a:pt x="34" y="291"/>
                    </a:lnTo>
                    <a:lnTo>
                      <a:pt x="22" y="281"/>
                    </a:lnTo>
                    <a:lnTo>
                      <a:pt x="11" y="281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0" y="235"/>
                    </a:lnTo>
                    <a:lnTo>
                      <a:pt x="11" y="235"/>
                    </a:lnTo>
                    <a:lnTo>
                      <a:pt x="11" y="225"/>
                    </a:lnTo>
                    <a:lnTo>
                      <a:pt x="22" y="225"/>
                    </a:lnTo>
                    <a:lnTo>
                      <a:pt x="22" y="214"/>
                    </a:lnTo>
                    <a:lnTo>
                      <a:pt x="34" y="214"/>
                    </a:lnTo>
                    <a:lnTo>
                      <a:pt x="34" y="202"/>
                    </a:lnTo>
                    <a:lnTo>
                      <a:pt x="44" y="192"/>
                    </a:lnTo>
                    <a:lnTo>
                      <a:pt x="44" y="202"/>
                    </a:lnTo>
                    <a:lnTo>
                      <a:pt x="247" y="11"/>
                    </a:lnTo>
                    <a:lnTo>
                      <a:pt x="247" y="0"/>
                    </a:lnTo>
                    <a:lnTo>
                      <a:pt x="291" y="34"/>
                    </a:lnTo>
                    <a:lnTo>
                      <a:pt x="336" y="56"/>
                    </a:lnTo>
                    <a:lnTo>
                      <a:pt x="370" y="79"/>
                    </a:lnTo>
                    <a:lnTo>
                      <a:pt x="415" y="112"/>
                    </a:lnTo>
                    <a:lnTo>
                      <a:pt x="448" y="146"/>
                    </a:lnTo>
                    <a:lnTo>
                      <a:pt x="493" y="180"/>
                    </a:lnTo>
                    <a:lnTo>
                      <a:pt x="527" y="214"/>
                    </a:lnTo>
                    <a:lnTo>
                      <a:pt x="572" y="247"/>
                    </a:lnTo>
                    <a:lnTo>
                      <a:pt x="605" y="281"/>
                    </a:lnTo>
                    <a:lnTo>
                      <a:pt x="638" y="314"/>
                    </a:lnTo>
                    <a:lnTo>
                      <a:pt x="673" y="359"/>
                    </a:lnTo>
                    <a:lnTo>
                      <a:pt x="706" y="392"/>
                    </a:lnTo>
                    <a:lnTo>
                      <a:pt x="740" y="426"/>
                    </a:lnTo>
                    <a:lnTo>
                      <a:pt x="774" y="471"/>
                    </a:lnTo>
                    <a:lnTo>
                      <a:pt x="807" y="504"/>
                    </a:lnTo>
                    <a:lnTo>
                      <a:pt x="829" y="549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7155720" y="3215880"/>
                <a:ext cx="135360" cy="310680"/>
              </a:xfrm>
              <a:custGeom>
                <a:avLst/>
                <a:gdLst/>
                <a:ahLst/>
                <a:rect l="l" t="t" r="r" b="b"/>
                <a:pathLst>
                  <a:path w="348" h="796">
                    <a:moveTo>
                      <a:pt x="0" y="0"/>
                    </a:moveTo>
                    <a:lnTo>
                      <a:pt x="34" y="45"/>
                    </a:lnTo>
                    <a:lnTo>
                      <a:pt x="67" y="90"/>
                    </a:lnTo>
                    <a:lnTo>
                      <a:pt x="90" y="136"/>
                    </a:lnTo>
                    <a:lnTo>
                      <a:pt x="124" y="180"/>
                    </a:lnTo>
                    <a:lnTo>
                      <a:pt x="157" y="225"/>
                    </a:lnTo>
                    <a:lnTo>
                      <a:pt x="180" y="270"/>
                    </a:lnTo>
                    <a:lnTo>
                      <a:pt x="201" y="326"/>
                    </a:lnTo>
                    <a:lnTo>
                      <a:pt x="224" y="370"/>
                    </a:lnTo>
                    <a:lnTo>
                      <a:pt x="258" y="427"/>
                    </a:lnTo>
                    <a:lnTo>
                      <a:pt x="270" y="472"/>
                    </a:lnTo>
                    <a:lnTo>
                      <a:pt x="293" y="528"/>
                    </a:lnTo>
                    <a:lnTo>
                      <a:pt x="303" y="573"/>
                    </a:lnTo>
                    <a:lnTo>
                      <a:pt x="326" y="629"/>
                    </a:lnTo>
                    <a:lnTo>
                      <a:pt x="337" y="684"/>
                    </a:lnTo>
                    <a:lnTo>
                      <a:pt x="337" y="740"/>
                    </a:lnTo>
                    <a:lnTo>
                      <a:pt x="348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7011360" y="3526920"/>
                <a:ext cx="279720" cy="137520"/>
              </a:xfrm>
              <a:custGeom>
                <a:avLst/>
                <a:gdLst/>
                <a:ahLst/>
                <a:rect l="l" t="t" r="r" b="b"/>
                <a:pathLst>
                  <a:path w="718" h="359">
                    <a:moveTo>
                      <a:pt x="718" y="0"/>
                    </a:moveTo>
                    <a:lnTo>
                      <a:pt x="673" y="23"/>
                    </a:lnTo>
                    <a:lnTo>
                      <a:pt x="628" y="56"/>
                    </a:lnTo>
                    <a:lnTo>
                      <a:pt x="583" y="80"/>
                    </a:lnTo>
                    <a:lnTo>
                      <a:pt x="538" y="102"/>
                    </a:lnTo>
                    <a:lnTo>
                      <a:pt x="494" y="125"/>
                    </a:lnTo>
                    <a:lnTo>
                      <a:pt x="449" y="146"/>
                    </a:lnTo>
                    <a:lnTo>
                      <a:pt x="404" y="169"/>
                    </a:lnTo>
                    <a:lnTo>
                      <a:pt x="360" y="191"/>
                    </a:lnTo>
                    <a:lnTo>
                      <a:pt x="315" y="214"/>
                    </a:lnTo>
                    <a:lnTo>
                      <a:pt x="269" y="236"/>
                    </a:lnTo>
                    <a:lnTo>
                      <a:pt x="226" y="259"/>
                    </a:lnTo>
                    <a:lnTo>
                      <a:pt x="179" y="270"/>
                    </a:lnTo>
                    <a:lnTo>
                      <a:pt x="134" y="292"/>
                    </a:lnTo>
                    <a:lnTo>
                      <a:pt x="90" y="315"/>
                    </a:lnTo>
                    <a:lnTo>
                      <a:pt x="45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7008840" y="3552120"/>
                <a:ext cx="2520" cy="111960"/>
              </a:xfrm>
              <a:custGeom>
                <a:avLst/>
                <a:gdLst/>
                <a:ahLst/>
                <a:rect l="l" t="t" r="r" b="b"/>
                <a:pathLst>
                  <a:path w="11" h="291">
                    <a:moveTo>
                      <a:pt x="11" y="291"/>
                    </a:moveTo>
                    <a:lnTo>
                      <a:pt x="11" y="268"/>
                    </a:lnTo>
                    <a:lnTo>
                      <a:pt x="11" y="258"/>
                    </a:lnTo>
                    <a:lnTo>
                      <a:pt x="11" y="235"/>
                    </a:lnTo>
                    <a:lnTo>
                      <a:pt x="11" y="212"/>
                    </a:lnTo>
                    <a:lnTo>
                      <a:pt x="11" y="202"/>
                    </a:lnTo>
                    <a:lnTo>
                      <a:pt x="11" y="179"/>
                    </a:lnTo>
                    <a:lnTo>
                      <a:pt x="11" y="168"/>
                    </a:lnTo>
                    <a:lnTo>
                      <a:pt x="11" y="146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90"/>
                    </a:lnTo>
                    <a:lnTo>
                      <a:pt x="11" y="68"/>
                    </a:lnTo>
                    <a:lnTo>
                      <a:pt x="11" y="57"/>
                    </a:lnTo>
                    <a:lnTo>
                      <a:pt x="0" y="34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6994800" y="3442680"/>
                <a:ext cx="13680" cy="109440"/>
              </a:xfrm>
              <a:custGeom>
                <a:avLst/>
                <a:gdLst/>
                <a:ahLst/>
                <a:rect l="l" t="t" r="r" b="b"/>
                <a:pathLst>
                  <a:path w="33" h="281">
                    <a:moveTo>
                      <a:pt x="33" y="281"/>
                    </a:moveTo>
                    <a:lnTo>
                      <a:pt x="33" y="258"/>
                    </a:lnTo>
                    <a:lnTo>
                      <a:pt x="33" y="246"/>
                    </a:lnTo>
                    <a:lnTo>
                      <a:pt x="22" y="224"/>
                    </a:lnTo>
                    <a:lnTo>
                      <a:pt x="22" y="202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11" y="135"/>
                    </a:lnTo>
                    <a:lnTo>
                      <a:pt x="11" y="124"/>
                    </a:lnTo>
                    <a:lnTo>
                      <a:pt x="11" y="101"/>
                    </a:lnTo>
                    <a:lnTo>
                      <a:pt x="11" y="91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6945840" y="3267360"/>
                <a:ext cx="30600" cy="123840"/>
              </a:xfrm>
              <a:custGeom>
                <a:avLst/>
                <a:gdLst/>
                <a:ahLst/>
                <a:rect l="l" t="t" r="r" b="b"/>
                <a:pathLst>
                  <a:path w="79" h="313">
                    <a:moveTo>
                      <a:pt x="79" y="313"/>
                    </a:moveTo>
                    <a:lnTo>
                      <a:pt x="79" y="301"/>
                    </a:lnTo>
                    <a:lnTo>
                      <a:pt x="68" y="279"/>
                    </a:lnTo>
                    <a:lnTo>
                      <a:pt x="68" y="256"/>
                    </a:lnTo>
                    <a:lnTo>
                      <a:pt x="68" y="234"/>
                    </a:lnTo>
                    <a:lnTo>
                      <a:pt x="56" y="212"/>
                    </a:lnTo>
                    <a:lnTo>
                      <a:pt x="56" y="200"/>
                    </a:lnTo>
                    <a:lnTo>
                      <a:pt x="56" y="178"/>
                    </a:lnTo>
                    <a:lnTo>
                      <a:pt x="45" y="156"/>
                    </a:lnTo>
                    <a:lnTo>
                      <a:pt x="45" y="134"/>
                    </a:lnTo>
                    <a:lnTo>
                      <a:pt x="34" y="111"/>
                    </a:lnTo>
                    <a:lnTo>
                      <a:pt x="34" y="99"/>
                    </a:lnTo>
                    <a:lnTo>
                      <a:pt x="23" y="78"/>
                    </a:lnTo>
                    <a:lnTo>
                      <a:pt x="23" y="55"/>
                    </a:lnTo>
                    <a:lnTo>
                      <a:pt x="12" y="44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6904080" y="3176280"/>
                <a:ext cx="41760" cy="9072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3" y="237"/>
                    </a:moveTo>
                    <a:lnTo>
                      <a:pt x="103" y="225"/>
                    </a:lnTo>
                    <a:lnTo>
                      <a:pt x="103" y="203"/>
                    </a:lnTo>
                    <a:lnTo>
                      <a:pt x="103" y="191"/>
                    </a:lnTo>
                    <a:lnTo>
                      <a:pt x="91" y="181"/>
                    </a:lnTo>
                    <a:lnTo>
                      <a:pt x="91" y="158"/>
                    </a:lnTo>
                    <a:lnTo>
                      <a:pt x="80" y="146"/>
                    </a:lnTo>
                    <a:lnTo>
                      <a:pt x="69" y="136"/>
                    </a:lnTo>
                    <a:lnTo>
                      <a:pt x="69" y="113"/>
                    </a:lnTo>
                    <a:lnTo>
                      <a:pt x="57" y="101"/>
                    </a:lnTo>
                    <a:lnTo>
                      <a:pt x="46" y="89"/>
                    </a:lnTo>
                    <a:lnTo>
                      <a:pt x="35" y="79"/>
                    </a:lnTo>
                    <a:lnTo>
                      <a:pt x="35" y="56"/>
                    </a:lnTo>
                    <a:lnTo>
                      <a:pt x="23" y="45"/>
                    </a:lnTo>
                    <a:lnTo>
                      <a:pt x="12" y="33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6841080" y="3111120"/>
                <a:ext cx="62640" cy="64800"/>
              </a:xfrm>
              <a:custGeom>
                <a:avLst/>
                <a:gdLst/>
                <a:ahLst/>
                <a:rect l="l" t="t" r="r" b="b"/>
                <a:pathLst>
                  <a:path w="156" h="167">
                    <a:moveTo>
                      <a:pt x="156" y="167"/>
                    </a:moveTo>
                    <a:lnTo>
                      <a:pt x="146" y="156"/>
                    </a:lnTo>
                    <a:lnTo>
                      <a:pt x="134" y="145"/>
                    </a:lnTo>
                    <a:lnTo>
                      <a:pt x="123" y="134"/>
                    </a:lnTo>
                    <a:lnTo>
                      <a:pt x="111" y="122"/>
                    </a:lnTo>
                    <a:lnTo>
                      <a:pt x="111" y="111"/>
                    </a:lnTo>
                    <a:lnTo>
                      <a:pt x="101" y="101"/>
                    </a:lnTo>
                    <a:lnTo>
                      <a:pt x="90" y="89"/>
                    </a:lnTo>
                    <a:lnTo>
                      <a:pt x="78" y="78"/>
                    </a:lnTo>
                    <a:lnTo>
                      <a:pt x="67" y="66"/>
                    </a:lnTo>
                    <a:lnTo>
                      <a:pt x="55" y="55"/>
                    </a:lnTo>
                    <a:lnTo>
                      <a:pt x="45" y="45"/>
                    </a:lnTo>
                    <a:lnTo>
                      <a:pt x="34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 flipV="1">
                <a:off x="6850080" y="3005640"/>
                <a:ext cx="79200" cy="745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6929280" y="3000960"/>
                <a:ext cx="226440" cy="214920"/>
              </a:xfrm>
              <a:custGeom>
                <a:avLst/>
                <a:gdLst/>
                <a:ahLst/>
                <a:rect l="l" t="t" r="r" b="b"/>
                <a:pathLst>
                  <a:path w="582" h="549">
                    <a:moveTo>
                      <a:pt x="0" y="0"/>
                    </a:moveTo>
                    <a:lnTo>
                      <a:pt x="44" y="34"/>
                    </a:lnTo>
                    <a:lnTo>
                      <a:pt x="89" y="56"/>
                    </a:lnTo>
                    <a:lnTo>
                      <a:pt x="123" y="79"/>
                    </a:lnTo>
                    <a:lnTo>
                      <a:pt x="168" y="112"/>
                    </a:lnTo>
                    <a:lnTo>
                      <a:pt x="201" y="146"/>
                    </a:lnTo>
                    <a:lnTo>
                      <a:pt x="246" y="180"/>
                    </a:lnTo>
                    <a:lnTo>
                      <a:pt x="280" y="214"/>
                    </a:lnTo>
                    <a:lnTo>
                      <a:pt x="325" y="247"/>
                    </a:lnTo>
                    <a:lnTo>
                      <a:pt x="358" y="281"/>
                    </a:lnTo>
                    <a:lnTo>
                      <a:pt x="391" y="314"/>
                    </a:lnTo>
                    <a:lnTo>
                      <a:pt x="426" y="359"/>
                    </a:lnTo>
                    <a:lnTo>
                      <a:pt x="459" y="392"/>
                    </a:lnTo>
                    <a:lnTo>
                      <a:pt x="493" y="426"/>
                    </a:lnTo>
                    <a:lnTo>
                      <a:pt x="527" y="471"/>
                    </a:lnTo>
                    <a:lnTo>
                      <a:pt x="560" y="504"/>
                    </a:lnTo>
                    <a:lnTo>
                      <a:pt x="582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7286400" y="3054960"/>
                <a:ext cx="456840" cy="1290600"/>
              </a:xfrm>
              <a:custGeom>
                <a:avLst/>
                <a:gdLst/>
                <a:ahLst/>
                <a:rect l="l" t="t" r="r" b="b"/>
                <a:pathLst>
                  <a:path w="1177" h="3318">
                    <a:moveTo>
                      <a:pt x="1142" y="22"/>
                    </a:moveTo>
                    <a:lnTo>
                      <a:pt x="1142" y="79"/>
                    </a:lnTo>
                    <a:lnTo>
                      <a:pt x="1132" y="135"/>
                    </a:lnTo>
                    <a:lnTo>
                      <a:pt x="1132" y="191"/>
                    </a:lnTo>
                    <a:lnTo>
                      <a:pt x="1132" y="257"/>
                    </a:lnTo>
                    <a:lnTo>
                      <a:pt x="1120" y="313"/>
                    </a:lnTo>
                    <a:lnTo>
                      <a:pt x="1120" y="369"/>
                    </a:lnTo>
                    <a:lnTo>
                      <a:pt x="1120" y="426"/>
                    </a:lnTo>
                    <a:lnTo>
                      <a:pt x="1120" y="494"/>
                    </a:lnTo>
                    <a:lnTo>
                      <a:pt x="1109" y="550"/>
                    </a:lnTo>
                    <a:lnTo>
                      <a:pt x="1109" y="605"/>
                    </a:lnTo>
                    <a:lnTo>
                      <a:pt x="1109" y="661"/>
                    </a:lnTo>
                    <a:lnTo>
                      <a:pt x="1120" y="717"/>
                    </a:lnTo>
                    <a:lnTo>
                      <a:pt x="1120" y="773"/>
                    </a:lnTo>
                    <a:lnTo>
                      <a:pt x="1120" y="841"/>
                    </a:lnTo>
                    <a:lnTo>
                      <a:pt x="1132" y="898"/>
                    </a:lnTo>
                    <a:lnTo>
                      <a:pt x="1142" y="953"/>
                    </a:lnTo>
                    <a:lnTo>
                      <a:pt x="1142" y="997"/>
                    </a:lnTo>
                    <a:lnTo>
                      <a:pt x="1154" y="1043"/>
                    </a:lnTo>
                    <a:lnTo>
                      <a:pt x="1154" y="1088"/>
                    </a:lnTo>
                    <a:lnTo>
                      <a:pt x="1154" y="1132"/>
                    </a:lnTo>
                    <a:lnTo>
                      <a:pt x="1154" y="1177"/>
                    </a:lnTo>
                    <a:lnTo>
                      <a:pt x="1154" y="1221"/>
                    </a:lnTo>
                    <a:lnTo>
                      <a:pt x="1154" y="1266"/>
                    </a:lnTo>
                    <a:lnTo>
                      <a:pt x="1154" y="1300"/>
                    </a:lnTo>
                    <a:lnTo>
                      <a:pt x="1154" y="1346"/>
                    </a:lnTo>
                    <a:lnTo>
                      <a:pt x="1154" y="1391"/>
                    </a:lnTo>
                    <a:lnTo>
                      <a:pt x="1154" y="1435"/>
                    </a:lnTo>
                    <a:lnTo>
                      <a:pt x="1154" y="1480"/>
                    </a:lnTo>
                    <a:lnTo>
                      <a:pt x="1154" y="1525"/>
                    </a:lnTo>
                    <a:lnTo>
                      <a:pt x="1154" y="1569"/>
                    </a:lnTo>
                    <a:lnTo>
                      <a:pt x="1154" y="1614"/>
                    </a:lnTo>
                    <a:lnTo>
                      <a:pt x="1166" y="1659"/>
                    </a:lnTo>
                    <a:lnTo>
                      <a:pt x="1166" y="1738"/>
                    </a:lnTo>
                    <a:lnTo>
                      <a:pt x="1166" y="1816"/>
                    </a:lnTo>
                    <a:lnTo>
                      <a:pt x="1177" y="1894"/>
                    </a:lnTo>
                    <a:lnTo>
                      <a:pt x="1177" y="1983"/>
                    </a:lnTo>
                    <a:lnTo>
                      <a:pt x="1177" y="2062"/>
                    </a:lnTo>
                    <a:lnTo>
                      <a:pt x="1177" y="2141"/>
                    </a:lnTo>
                    <a:lnTo>
                      <a:pt x="1177" y="2231"/>
                    </a:lnTo>
                    <a:lnTo>
                      <a:pt x="1177" y="2309"/>
                    </a:lnTo>
                    <a:lnTo>
                      <a:pt x="1177" y="2387"/>
                    </a:lnTo>
                    <a:lnTo>
                      <a:pt x="1166" y="2478"/>
                    </a:lnTo>
                    <a:lnTo>
                      <a:pt x="1166" y="2556"/>
                    </a:lnTo>
                    <a:lnTo>
                      <a:pt x="1166" y="2634"/>
                    </a:lnTo>
                    <a:lnTo>
                      <a:pt x="1166" y="2713"/>
                    </a:lnTo>
                    <a:lnTo>
                      <a:pt x="1154" y="2802"/>
                    </a:lnTo>
                    <a:lnTo>
                      <a:pt x="1154" y="2880"/>
                    </a:lnTo>
                    <a:lnTo>
                      <a:pt x="1154" y="2960"/>
                    </a:lnTo>
                    <a:lnTo>
                      <a:pt x="1142" y="2983"/>
                    </a:lnTo>
                    <a:lnTo>
                      <a:pt x="1142" y="3005"/>
                    </a:lnTo>
                    <a:lnTo>
                      <a:pt x="1142" y="3028"/>
                    </a:lnTo>
                    <a:lnTo>
                      <a:pt x="1142" y="3050"/>
                    </a:lnTo>
                    <a:lnTo>
                      <a:pt x="1132" y="3072"/>
                    </a:lnTo>
                    <a:lnTo>
                      <a:pt x="1132" y="3094"/>
                    </a:lnTo>
                    <a:lnTo>
                      <a:pt x="1132" y="3117"/>
                    </a:lnTo>
                    <a:lnTo>
                      <a:pt x="1132" y="3139"/>
                    </a:lnTo>
                    <a:lnTo>
                      <a:pt x="1132" y="3162"/>
                    </a:lnTo>
                    <a:lnTo>
                      <a:pt x="1120" y="3183"/>
                    </a:lnTo>
                    <a:lnTo>
                      <a:pt x="1120" y="3206"/>
                    </a:lnTo>
                    <a:lnTo>
                      <a:pt x="1120" y="3228"/>
                    </a:lnTo>
                    <a:lnTo>
                      <a:pt x="1120" y="3251"/>
                    </a:lnTo>
                    <a:lnTo>
                      <a:pt x="1120" y="3274"/>
                    </a:lnTo>
                    <a:lnTo>
                      <a:pt x="1120" y="3296"/>
                    </a:lnTo>
                    <a:lnTo>
                      <a:pt x="1120" y="3318"/>
                    </a:lnTo>
                    <a:lnTo>
                      <a:pt x="1098" y="3307"/>
                    </a:lnTo>
                    <a:lnTo>
                      <a:pt x="1087" y="3296"/>
                    </a:lnTo>
                    <a:lnTo>
                      <a:pt x="1064" y="3284"/>
                    </a:lnTo>
                    <a:lnTo>
                      <a:pt x="1053" y="3274"/>
                    </a:lnTo>
                    <a:lnTo>
                      <a:pt x="1043" y="3262"/>
                    </a:lnTo>
                    <a:lnTo>
                      <a:pt x="1031" y="3240"/>
                    </a:lnTo>
                    <a:lnTo>
                      <a:pt x="1020" y="3228"/>
                    </a:lnTo>
                    <a:lnTo>
                      <a:pt x="997" y="3206"/>
                    </a:lnTo>
                    <a:lnTo>
                      <a:pt x="987" y="3195"/>
                    </a:lnTo>
                    <a:lnTo>
                      <a:pt x="975" y="3173"/>
                    </a:lnTo>
                    <a:lnTo>
                      <a:pt x="964" y="3162"/>
                    </a:lnTo>
                    <a:lnTo>
                      <a:pt x="952" y="3139"/>
                    </a:lnTo>
                    <a:lnTo>
                      <a:pt x="942" y="3128"/>
                    </a:lnTo>
                    <a:lnTo>
                      <a:pt x="930" y="3117"/>
                    </a:lnTo>
                    <a:lnTo>
                      <a:pt x="919" y="3094"/>
                    </a:lnTo>
                    <a:lnTo>
                      <a:pt x="896" y="3084"/>
                    </a:lnTo>
                    <a:lnTo>
                      <a:pt x="896" y="3072"/>
                    </a:lnTo>
                    <a:lnTo>
                      <a:pt x="886" y="3050"/>
                    </a:lnTo>
                    <a:lnTo>
                      <a:pt x="874" y="3038"/>
                    </a:lnTo>
                    <a:lnTo>
                      <a:pt x="863" y="3028"/>
                    </a:lnTo>
                    <a:lnTo>
                      <a:pt x="853" y="3016"/>
                    </a:lnTo>
                    <a:lnTo>
                      <a:pt x="841" y="3005"/>
                    </a:lnTo>
                    <a:lnTo>
                      <a:pt x="830" y="2993"/>
                    </a:lnTo>
                    <a:lnTo>
                      <a:pt x="818" y="2983"/>
                    </a:lnTo>
                    <a:lnTo>
                      <a:pt x="807" y="2971"/>
                    </a:lnTo>
                    <a:lnTo>
                      <a:pt x="797" y="2960"/>
                    </a:lnTo>
                    <a:lnTo>
                      <a:pt x="785" y="2948"/>
                    </a:lnTo>
                    <a:lnTo>
                      <a:pt x="774" y="2936"/>
                    </a:lnTo>
                    <a:lnTo>
                      <a:pt x="762" y="2926"/>
                    </a:lnTo>
                    <a:lnTo>
                      <a:pt x="762" y="2915"/>
                    </a:lnTo>
                    <a:lnTo>
                      <a:pt x="750" y="2903"/>
                    </a:lnTo>
                    <a:lnTo>
                      <a:pt x="740" y="2892"/>
                    </a:lnTo>
                    <a:lnTo>
                      <a:pt x="728" y="2880"/>
                    </a:lnTo>
                    <a:lnTo>
                      <a:pt x="728" y="2870"/>
                    </a:lnTo>
                    <a:lnTo>
                      <a:pt x="717" y="2859"/>
                    </a:lnTo>
                    <a:lnTo>
                      <a:pt x="705" y="2847"/>
                    </a:lnTo>
                    <a:lnTo>
                      <a:pt x="705" y="2836"/>
                    </a:lnTo>
                    <a:lnTo>
                      <a:pt x="695" y="2825"/>
                    </a:lnTo>
                    <a:lnTo>
                      <a:pt x="683" y="2802"/>
                    </a:lnTo>
                    <a:lnTo>
                      <a:pt x="683" y="2791"/>
                    </a:lnTo>
                    <a:lnTo>
                      <a:pt x="672" y="2781"/>
                    </a:lnTo>
                    <a:lnTo>
                      <a:pt x="672" y="2769"/>
                    </a:lnTo>
                    <a:lnTo>
                      <a:pt x="661" y="2758"/>
                    </a:lnTo>
                    <a:lnTo>
                      <a:pt x="649" y="2746"/>
                    </a:lnTo>
                    <a:lnTo>
                      <a:pt x="649" y="2735"/>
                    </a:lnTo>
                    <a:lnTo>
                      <a:pt x="639" y="2725"/>
                    </a:lnTo>
                    <a:lnTo>
                      <a:pt x="627" y="2713"/>
                    </a:lnTo>
                    <a:lnTo>
                      <a:pt x="627" y="2702"/>
                    </a:lnTo>
                    <a:lnTo>
                      <a:pt x="583" y="2646"/>
                    </a:lnTo>
                    <a:lnTo>
                      <a:pt x="548" y="2601"/>
                    </a:lnTo>
                    <a:lnTo>
                      <a:pt x="527" y="2556"/>
                    </a:lnTo>
                    <a:lnTo>
                      <a:pt x="493" y="2511"/>
                    </a:lnTo>
                    <a:lnTo>
                      <a:pt x="459" y="2455"/>
                    </a:lnTo>
                    <a:lnTo>
                      <a:pt x="426" y="2410"/>
                    </a:lnTo>
                    <a:lnTo>
                      <a:pt x="403" y="2354"/>
                    </a:lnTo>
                    <a:lnTo>
                      <a:pt x="370" y="2309"/>
                    </a:lnTo>
                    <a:lnTo>
                      <a:pt x="348" y="2265"/>
                    </a:lnTo>
                    <a:lnTo>
                      <a:pt x="313" y="2209"/>
                    </a:lnTo>
                    <a:lnTo>
                      <a:pt x="291" y="2164"/>
                    </a:lnTo>
                    <a:lnTo>
                      <a:pt x="257" y="2107"/>
                    </a:lnTo>
                    <a:lnTo>
                      <a:pt x="235" y="2062"/>
                    </a:lnTo>
                    <a:lnTo>
                      <a:pt x="212" y="2006"/>
                    </a:lnTo>
                    <a:lnTo>
                      <a:pt x="190" y="1950"/>
                    </a:lnTo>
                    <a:lnTo>
                      <a:pt x="156" y="1906"/>
                    </a:lnTo>
                    <a:lnTo>
                      <a:pt x="146" y="1884"/>
                    </a:lnTo>
                    <a:lnTo>
                      <a:pt x="134" y="1861"/>
                    </a:lnTo>
                    <a:lnTo>
                      <a:pt x="123" y="1828"/>
                    </a:lnTo>
                    <a:lnTo>
                      <a:pt x="111" y="1805"/>
                    </a:lnTo>
                    <a:lnTo>
                      <a:pt x="101" y="1783"/>
                    </a:lnTo>
                    <a:lnTo>
                      <a:pt x="90" y="1760"/>
                    </a:lnTo>
                    <a:lnTo>
                      <a:pt x="90" y="1738"/>
                    </a:lnTo>
                    <a:lnTo>
                      <a:pt x="78" y="1704"/>
                    </a:lnTo>
                    <a:lnTo>
                      <a:pt x="67" y="1681"/>
                    </a:lnTo>
                    <a:lnTo>
                      <a:pt x="55" y="1659"/>
                    </a:lnTo>
                    <a:lnTo>
                      <a:pt x="45" y="1637"/>
                    </a:lnTo>
                    <a:lnTo>
                      <a:pt x="34" y="1614"/>
                    </a:lnTo>
                    <a:lnTo>
                      <a:pt x="22" y="1581"/>
                    </a:lnTo>
                    <a:lnTo>
                      <a:pt x="11" y="1558"/>
                    </a:lnTo>
                    <a:lnTo>
                      <a:pt x="11" y="1536"/>
                    </a:lnTo>
                    <a:lnTo>
                      <a:pt x="0" y="1513"/>
                    </a:lnTo>
                    <a:lnTo>
                      <a:pt x="0" y="1502"/>
                    </a:lnTo>
                    <a:lnTo>
                      <a:pt x="0" y="1490"/>
                    </a:lnTo>
                    <a:lnTo>
                      <a:pt x="0" y="1480"/>
                    </a:lnTo>
                    <a:lnTo>
                      <a:pt x="0" y="1469"/>
                    </a:lnTo>
                    <a:lnTo>
                      <a:pt x="0" y="1457"/>
                    </a:lnTo>
                    <a:lnTo>
                      <a:pt x="11" y="1457"/>
                    </a:lnTo>
                    <a:lnTo>
                      <a:pt x="11" y="1446"/>
                    </a:lnTo>
                    <a:lnTo>
                      <a:pt x="22" y="1435"/>
                    </a:lnTo>
                    <a:lnTo>
                      <a:pt x="34" y="1424"/>
                    </a:lnTo>
                    <a:lnTo>
                      <a:pt x="34" y="1412"/>
                    </a:lnTo>
                    <a:lnTo>
                      <a:pt x="45" y="1412"/>
                    </a:lnTo>
                    <a:lnTo>
                      <a:pt x="45" y="1401"/>
                    </a:lnTo>
                    <a:lnTo>
                      <a:pt x="55" y="1401"/>
                    </a:lnTo>
                    <a:lnTo>
                      <a:pt x="55" y="1391"/>
                    </a:lnTo>
                    <a:lnTo>
                      <a:pt x="67" y="1379"/>
                    </a:lnTo>
                    <a:lnTo>
                      <a:pt x="90" y="1356"/>
                    </a:lnTo>
                    <a:lnTo>
                      <a:pt x="101" y="1335"/>
                    </a:lnTo>
                    <a:lnTo>
                      <a:pt x="123" y="1323"/>
                    </a:lnTo>
                    <a:lnTo>
                      <a:pt x="134" y="1300"/>
                    </a:lnTo>
                    <a:lnTo>
                      <a:pt x="146" y="1290"/>
                    </a:lnTo>
                    <a:lnTo>
                      <a:pt x="168" y="1266"/>
                    </a:lnTo>
                    <a:lnTo>
                      <a:pt x="179" y="1243"/>
                    </a:lnTo>
                    <a:lnTo>
                      <a:pt x="190" y="1221"/>
                    </a:lnTo>
                    <a:lnTo>
                      <a:pt x="202" y="1210"/>
                    </a:lnTo>
                    <a:lnTo>
                      <a:pt x="224" y="1188"/>
                    </a:lnTo>
                    <a:lnTo>
                      <a:pt x="235" y="1165"/>
                    </a:lnTo>
                    <a:lnTo>
                      <a:pt x="245" y="1154"/>
                    </a:lnTo>
                    <a:lnTo>
                      <a:pt x="257" y="1132"/>
                    </a:lnTo>
                    <a:lnTo>
                      <a:pt x="268" y="1109"/>
                    </a:lnTo>
                    <a:lnTo>
                      <a:pt x="291" y="1098"/>
                    </a:lnTo>
                    <a:lnTo>
                      <a:pt x="336" y="1043"/>
                    </a:lnTo>
                    <a:lnTo>
                      <a:pt x="381" y="975"/>
                    </a:lnTo>
                    <a:lnTo>
                      <a:pt x="426" y="919"/>
                    </a:lnTo>
                    <a:lnTo>
                      <a:pt x="471" y="863"/>
                    </a:lnTo>
                    <a:lnTo>
                      <a:pt x="515" y="806"/>
                    </a:lnTo>
                    <a:lnTo>
                      <a:pt x="560" y="750"/>
                    </a:lnTo>
                    <a:lnTo>
                      <a:pt x="605" y="684"/>
                    </a:lnTo>
                    <a:lnTo>
                      <a:pt x="649" y="628"/>
                    </a:lnTo>
                    <a:lnTo>
                      <a:pt x="695" y="572"/>
                    </a:lnTo>
                    <a:lnTo>
                      <a:pt x="740" y="516"/>
                    </a:lnTo>
                    <a:lnTo>
                      <a:pt x="785" y="459"/>
                    </a:lnTo>
                    <a:lnTo>
                      <a:pt x="830" y="392"/>
                    </a:lnTo>
                    <a:lnTo>
                      <a:pt x="874" y="336"/>
                    </a:lnTo>
                    <a:lnTo>
                      <a:pt x="919" y="280"/>
                    </a:lnTo>
                    <a:lnTo>
                      <a:pt x="964" y="224"/>
                    </a:lnTo>
                    <a:lnTo>
                      <a:pt x="1020" y="168"/>
                    </a:lnTo>
                    <a:lnTo>
                      <a:pt x="1020" y="156"/>
                    </a:lnTo>
                    <a:lnTo>
                      <a:pt x="1031" y="146"/>
                    </a:lnTo>
                    <a:lnTo>
                      <a:pt x="1031" y="135"/>
                    </a:lnTo>
                    <a:lnTo>
                      <a:pt x="1043" y="123"/>
                    </a:lnTo>
                    <a:lnTo>
                      <a:pt x="1053" y="123"/>
                    </a:lnTo>
                    <a:lnTo>
                      <a:pt x="1053" y="112"/>
                    </a:lnTo>
                    <a:lnTo>
                      <a:pt x="1064" y="100"/>
                    </a:lnTo>
                    <a:lnTo>
                      <a:pt x="1064" y="90"/>
                    </a:lnTo>
                    <a:lnTo>
                      <a:pt x="1076" y="79"/>
                    </a:lnTo>
                    <a:lnTo>
                      <a:pt x="1087" y="67"/>
                    </a:lnTo>
                    <a:lnTo>
                      <a:pt x="1087" y="57"/>
                    </a:lnTo>
                    <a:lnTo>
                      <a:pt x="1098" y="45"/>
                    </a:lnTo>
                    <a:lnTo>
                      <a:pt x="1098" y="34"/>
                    </a:lnTo>
                    <a:lnTo>
                      <a:pt x="1109" y="22"/>
                    </a:lnTo>
                    <a:lnTo>
                      <a:pt x="1109" y="11"/>
                    </a:lnTo>
                    <a:lnTo>
                      <a:pt x="1120" y="0"/>
                    </a:lnTo>
                    <a:lnTo>
                      <a:pt x="1132" y="0"/>
                    </a:lnTo>
                    <a:lnTo>
                      <a:pt x="1132" y="11"/>
                    </a:lnTo>
                    <a:lnTo>
                      <a:pt x="1142" y="11"/>
                    </a:lnTo>
                    <a:lnTo>
                      <a:pt x="1142" y="22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7718400" y="3064680"/>
                <a:ext cx="13680" cy="361440"/>
              </a:xfrm>
              <a:custGeom>
                <a:avLst/>
                <a:gdLst/>
                <a:ahLst/>
                <a:rect l="l" t="t" r="r" b="b"/>
                <a:pathLst>
                  <a:path w="33" h="931">
                    <a:moveTo>
                      <a:pt x="33" y="0"/>
                    </a:moveTo>
                    <a:lnTo>
                      <a:pt x="33" y="57"/>
                    </a:lnTo>
                    <a:lnTo>
                      <a:pt x="23" y="113"/>
                    </a:lnTo>
                    <a:lnTo>
                      <a:pt x="23" y="169"/>
                    </a:lnTo>
                    <a:lnTo>
                      <a:pt x="23" y="235"/>
                    </a:lnTo>
                    <a:lnTo>
                      <a:pt x="11" y="291"/>
                    </a:lnTo>
                    <a:lnTo>
                      <a:pt x="11" y="347"/>
                    </a:lnTo>
                    <a:lnTo>
                      <a:pt x="11" y="404"/>
                    </a:lnTo>
                    <a:lnTo>
                      <a:pt x="11" y="472"/>
                    </a:lnTo>
                    <a:lnTo>
                      <a:pt x="0" y="528"/>
                    </a:lnTo>
                    <a:lnTo>
                      <a:pt x="0" y="583"/>
                    </a:lnTo>
                    <a:lnTo>
                      <a:pt x="0" y="639"/>
                    </a:lnTo>
                    <a:lnTo>
                      <a:pt x="11" y="695"/>
                    </a:lnTo>
                    <a:lnTo>
                      <a:pt x="11" y="751"/>
                    </a:lnTo>
                    <a:lnTo>
                      <a:pt x="11" y="819"/>
                    </a:lnTo>
                    <a:lnTo>
                      <a:pt x="23" y="876"/>
                    </a:lnTo>
                    <a:lnTo>
                      <a:pt x="33" y="9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7732080" y="3426120"/>
                <a:ext cx="9360" cy="272880"/>
              </a:xfrm>
              <a:custGeom>
                <a:avLst/>
                <a:gdLst/>
                <a:ahLst/>
                <a:rect l="l" t="t" r="r" b="b"/>
                <a:pathLst>
                  <a:path w="24" h="706">
                    <a:moveTo>
                      <a:pt x="0" y="0"/>
                    </a:moveTo>
                    <a:lnTo>
                      <a:pt x="0" y="44"/>
                    </a:lnTo>
                    <a:lnTo>
                      <a:pt x="12" y="90"/>
                    </a:lnTo>
                    <a:lnTo>
                      <a:pt x="12" y="135"/>
                    </a:lnTo>
                    <a:lnTo>
                      <a:pt x="12" y="179"/>
                    </a:lnTo>
                    <a:lnTo>
                      <a:pt x="12" y="224"/>
                    </a:lnTo>
                    <a:lnTo>
                      <a:pt x="12" y="268"/>
                    </a:lnTo>
                    <a:lnTo>
                      <a:pt x="12" y="313"/>
                    </a:lnTo>
                    <a:lnTo>
                      <a:pt x="12" y="347"/>
                    </a:lnTo>
                    <a:lnTo>
                      <a:pt x="12" y="393"/>
                    </a:lnTo>
                    <a:lnTo>
                      <a:pt x="12" y="438"/>
                    </a:lnTo>
                    <a:lnTo>
                      <a:pt x="12" y="482"/>
                    </a:lnTo>
                    <a:lnTo>
                      <a:pt x="12" y="527"/>
                    </a:lnTo>
                    <a:lnTo>
                      <a:pt x="12" y="572"/>
                    </a:lnTo>
                    <a:lnTo>
                      <a:pt x="12" y="616"/>
                    </a:lnTo>
                    <a:lnTo>
                      <a:pt x="12" y="661"/>
                    </a:lnTo>
                    <a:lnTo>
                      <a:pt x="24" y="7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7736760" y="3699360"/>
                <a:ext cx="6840" cy="506520"/>
              </a:xfrm>
              <a:custGeom>
                <a:avLst/>
                <a:gdLst/>
                <a:ahLst/>
                <a:rect l="l" t="t" r="r" b="b"/>
                <a:pathLst>
                  <a:path w="23" h="1301">
                    <a:moveTo>
                      <a:pt x="12" y="0"/>
                    </a:moveTo>
                    <a:lnTo>
                      <a:pt x="12" y="79"/>
                    </a:lnTo>
                    <a:lnTo>
                      <a:pt x="12" y="157"/>
                    </a:lnTo>
                    <a:lnTo>
                      <a:pt x="23" y="235"/>
                    </a:lnTo>
                    <a:lnTo>
                      <a:pt x="23" y="324"/>
                    </a:lnTo>
                    <a:lnTo>
                      <a:pt x="23" y="403"/>
                    </a:lnTo>
                    <a:lnTo>
                      <a:pt x="23" y="482"/>
                    </a:lnTo>
                    <a:lnTo>
                      <a:pt x="23" y="572"/>
                    </a:lnTo>
                    <a:lnTo>
                      <a:pt x="23" y="650"/>
                    </a:lnTo>
                    <a:lnTo>
                      <a:pt x="23" y="728"/>
                    </a:lnTo>
                    <a:lnTo>
                      <a:pt x="12" y="819"/>
                    </a:lnTo>
                    <a:lnTo>
                      <a:pt x="12" y="897"/>
                    </a:lnTo>
                    <a:lnTo>
                      <a:pt x="12" y="975"/>
                    </a:lnTo>
                    <a:lnTo>
                      <a:pt x="12" y="1054"/>
                    </a:lnTo>
                    <a:lnTo>
                      <a:pt x="0" y="1143"/>
                    </a:lnTo>
                    <a:lnTo>
                      <a:pt x="0" y="1221"/>
                    </a:lnTo>
                    <a:lnTo>
                      <a:pt x="0" y="1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7723080" y="4206240"/>
                <a:ext cx="13680" cy="13968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34" y="0"/>
                    </a:moveTo>
                    <a:lnTo>
                      <a:pt x="22" y="23"/>
                    </a:lnTo>
                    <a:lnTo>
                      <a:pt x="22" y="45"/>
                    </a:lnTo>
                    <a:lnTo>
                      <a:pt x="22" y="68"/>
                    </a:lnTo>
                    <a:lnTo>
                      <a:pt x="22" y="90"/>
                    </a:lnTo>
                    <a:lnTo>
                      <a:pt x="12" y="112"/>
                    </a:lnTo>
                    <a:lnTo>
                      <a:pt x="12" y="134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12" y="202"/>
                    </a:lnTo>
                    <a:lnTo>
                      <a:pt x="0" y="223"/>
                    </a:lnTo>
                    <a:lnTo>
                      <a:pt x="0" y="246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36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7636320" y="4254840"/>
                <a:ext cx="86760" cy="90720"/>
              </a:xfrm>
              <a:custGeom>
                <a:avLst/>
                <a:gdLst/>
                <a:ahLst/>
                <a:rect l="l" t="t" r="r" b="b"/>
                <a:pathLst>
                  <a:path w="224" h="234">
                    <a:moveTo>
                      <a:pt x="224" y="234"/>
                    </a:moveTo>
                    <a:lnTo>
                      <a:pt x="202" y="223"/>
                    </a:lnTo>
                    <a:lnTo>
                      <a:pt x="191" y="212"/>
                    </a:lnTo>
                    <a:lnTo>
                      <a:pt x="168" y="200"/>
                    </a:lnTo>
                    <a:lnTo>
                      <a:pt x="157" y="190"/>
                    </a:lnTo>
                    <a:lnTo>
                      <a:pt x="147" y="178"/>
                    </a:lnTo>
                    <a:lnTo>
                      <a:pt x="135" y="156"/>
                    </a:lnTo>
                    <a:lnTo>
                      <a:pt x="124" y="144"/>
                    </a:lnTo>
                    <a:lnTo>
                      <a:pt x="101" y="122"/>
                    </a:lnTo>
                    <a:lnTo>
                      <a:pt x="91" y="111"/>
                    </a:lnTo>
                    <a:lnTo>
                      <a:pt x="79" y="89"/>
                    </a:lnTo>
                    <a:lnTo>
                      <a:pt x="68" y="78"/>
                    </a:lnTo>
                    <a:lnTo>
                      <a:pt x="56" y="55"/>
                    </a:lnTo>
                    <a:lnTo>
                      <a:pt x="46" y="44"/>
                    </a:lnTo>
                    <a:lnTo>
                      <a:pt x="34" y="33"/>
                    </a:lnTo>
                    <a:lnTo>
                      <a:pt x="23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7573320" y="4179960"/>
                <a:ext cx="62640" cy="7452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156" y="192"/>
                    </a:moveTo>
                    <a:lnTo>
                      <a:pt x="156" y="180"/>
                    </a:lnTo>
                    <a:lnTo>
                      <a:pt x="146" y="158"/>
                    </a:lnTo>
                    <a:lnTo>
                      <a:pt x="134" y="146"/>
                    </a:lnTo>
                    <a:lnTo>
                      <a:pt x="123" y="136"/>
                    </a:lnTo>
                    <a:lnTo>
                      <a:pt x="113" y="124"/>
                    </a:lnTo>
                    <a:lnTo>
                      <a:pt x="101" y="113"/>
                    </a:lnTo>
                    <a:lnTo>
                      <a:pt x="90" y="101"/>
                    </a:lnTo>
                    <a:lnTo>
                      <a:pt x="78" y="91"/>
                    </a:lnTo>
                    <a:lnTo>
                      <a:pt x="67" y="79"/>
                    </a:lnTo>
                    <a:lnTo>
                      <a:pt x="57" y="68"/>
                    </a:lnTo>
                    <a:lnTo>
                      <a:pt x="45" y="56"/>
                    </a:lnTo>
                    <a:lnTo>
                      <a:pt x="34" y="44"/>
                    </a:lnTo>
                    <a:lnTo>
                      <a:pt x="22" y="34"/>
                    </a:lnTo>
                    <a:lnTo>
                      <a:pt x="22" y="23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7531560" y="4105440"/>
                <a:ext cx="41760" cy="7452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13" y="190"/>
                    </a:moveTo>
                    <a:lnTo>
                      <a:pt x="101" y="178"/>
                    </a:lnTo>
                    <a:lnTo>
                      <a:pt x="101" y="168"/>
                    </a:lnTo>
                    <a:lnTo>
                      <a:pt x="90" y="157"/>
                    </a:lnTo>
                    <a:lnTo>
                      <a:pt x="78" y="145"/>
                    </a:lnTo>
                    <a:lnTo>
                      <a:pt x="78" y="134"/>
                    </a:lnTo>
                    <a:lnTo>
                      <a:pt x="68" y="123"/>
                    </a:lnTo>
                    <a:lnTo>
                      <a:pt x="56" y="100"/>
                    </a:lnTo>
                    <a:lnTo>
                      <a:pt x="56" y="89"/>
                    </a:lnTo>
                    <a:lnTo>
                      <a:pt x="45" y="79"/>
                    </a:lnTo>
                    <a:lnTo>
                      <a:pt x="45" y="67"/>
                    </a:lnTo>
                    <a:lnTo>
                      <a:pt x="34" y="56"/>
                    </a:lnTo>
                    <a:lnTo>
                      <a:pt x="22" y="44"/>
                    </a:lnTo>
                    <a:lnTo>
                      <a:pt x="22" y="33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7347240" y="3797280"/>
                <a:ext cx="183960" cy="307800"/>
              </a:xfrm>
              <a:custGeom>
                <a:avLst/>
                <a:gdLst/>
                <a:ahLst/>
                <a:rect l="l" t="t" r="r" b="b"/>
                <a:pathLst>
                  <a:path w="471" h="796">
                    <a:moveTo>
                      <a:pt x="471" y="796"/>
                    </a:moveTo>
                    <a:lnTo>
                      <a:pt x="427" y="740"/>
                    </a:lnTo>
                    <a:lnTo>
                      <a:pt x="392" y="695"/>
                    </a:lnTo>
                    <a:lnTo>
                      <a:pt x="371" y="650"/>
                    </a:lnTo>
                    <a:lnTo>
                      <a:pt x="337" y="605"/>
                    </a:lnTo>
                    <a:lnTo>
                      <a:pt x="303" y="549"/>
                    </a:lnTo>
                    <a:lnTo>
                      <a:pt x="270" y="504"/>
                    </a:lnTo>
                    <a:lnTo>
                      <a:pt x="247" y="448"/>
                    </a:lnTo>
                    <a:lnTo>
                      <a:pt x="214" y="403"/>
                    </a:lnTo>
                    <a:lnTo>
                      <a:pt x="192" y="359"/>
                    </a:lnTo>
                    <a:lnTo>
                      <a:pt x="157" y="303"/>
                    </a:lnTo>
                    <a:lnTo>
                      <a:pt x="135" y="258"/>
                    </a:lnTo>
                    <a:lnTo>
                      <a:pt x="101" y="201"/>
                    </a:lnTo>
                    <a:lnTo>
                      <a:pt x="79" y="156"/>
                    </a:lnTo>
                    <a:lnTo>
                      <a:pt x="56" y="100"/>
                    </a:lnTo>
                    <a:lnTo>
                      <a:pt x="34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7286400" y="3643200"/>
                <a:ext cx="60840" cy="153720"/>
              </a:xfrm>
              <a:custGeom>
                <a:avLst/>
                <a:gdLst/>
                <a:ahLst/>
                <a:rect l="l" t="t" r="r" b="b"/>
                <a:pathLst>
                  <a:path w="156" h="393">
                    <a:moveTo>
                      <a:pt x="156" y="393"/>
                    </a:moveTo>
                    <a:lnTo>
                      <a:pt x="146" y="371"/>
                    </a:lnTo>
                    <a:lnTo>
                      <a:pt x="134" y="348"/>
                    </a:lnTo>
                    <a:lnTo>
                      <a:pt x="123" y="315"/>
                    </a:lnTo>
                    <a:lnTo>
                      <a:pt x="111" y="292"/>
                    </a:lnTo>
                    <a:lnTo>
                      <a:pt x="101" y="270"/>
                    </a:lnTo>
                    <a:lnTo>
                      <a:pt x="90" y="247"/>
                    </a:lnTo>
                    <a:lnTo>
                      <a:pt x="90" y="225"/>
                    </a:lnTo>
                    <a:lnTo>
                      <a:pt x="78" y="191"/>
                    </a:lnTo>
                    <a:lnTo>
                      <a:pt x="67" y="168"/>
                    </a:lnTo>
                    <a:lnTo>
                      <a:pt x="55" y="146"/>
                    </a:lnTo>
                    <a:lnTo>
                      <a:pt x="45" y="124"/>
                    </a:lnTo>
                    <a:lnTo>
                      <a:pt x="34" y="101"/>
                    </a:lnTo>
                    <a:lnTo>
                      <a:pt x="22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7307640" y="3482280"/>
                <a:ext cx="92880" cy="114120"/>
              </a:xfrm>
              <a:custGeom>
                <a:avLst/>
                <a:gdLst/>
                <a:ahLst/>
                <a:rect l="l" t="t" r="r" b="b"/>
                <a:pathLst>
                  <a:path w="236" h="293">
                    <a:moveTo>
                      <a:pt x="0" y="293"/>
                    </a:moveTo>
                    <a:lnTo>
                      <a:pt x="12" y="281"/>
                    </a:lnTo>
                    <a:lnTo>
                      <a:pt x="35" y="258"/>
                    </a:lnTo>
                    <a:lnTo>
                      <a:pt x="46" y="237"/>
                    </a:lnTo>
                    <a:lnTo>
                      <a:pt x="68" y="225"/>
                    </a:lnTo>
                    <a:lnTo>
                      <a:pt x="79" y="202"/>
                    </a:lnTo>
                    <a:lnTo>
                      <a:pt x="91" y="192"/>
                    </a:lnTo>
                    <a:lnTo>
                      <a:pt x="113" y="168"/>
                    </a:lnTo>
                    <a:lnTo>
                      <a:pt x="124" y="145"/>
                    </a:lnTo>
                    <a:lnTo>
                      <a:pt x="135" y="123"/>
                    </a:lnTo>
                    <a:lnTo>
                      <a:pt x="147" y="112"/>
                    </a:lnTo>
                    <a:lnTo>
                      <a:pt x="169" y="90"/>
                    </a:lnTo>
                    <a:lnTo>
                      <a:pt x="180" y="67"/>
                    </a:lnTo>
                    <a:lnTo>
                      <a:pt x="190" y="56"/>
                    </a:lnTo>
                    <a:lnTo>
                      <a:pt x="202" y="34"/>
                    </a:lnTo>
                    <a:lnTo>
                      <a:pt x="213" y="11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7400880" y="3120120"/>
                <a:ext cx="282240" cy="361800"/>
              </a:xfrm>
              <a:custGeom>
                <a:avLst/>
                <a:gdLst/>
                <a:ahLst/>
                <a:rect l="l" t="t" r="r" b="b"/>
                <a:pathLst>
                  <a:path w="729" h="930">
                    <a:moveTo>
                      <a:pt x="0" y="930"/>
                    </a:moveTo>
                    <a:lnTo>
                      <a:pt x="45" y="875"/>
                    </a:lnTo>
                    <a:lnTo>
                      <a:pt x="90" y="807"/>
                    </a:lnTo>
                    <a:lnTo>
                      <a:pt x="135" y="751"/>
                    </a:lnTo>
                    <a:lnTo>
                      <a:pt x="180" y="695"/>
                    </a:lnTo>
                    <a:lnTo>
                      <a:pt x="224" y="638"/>
                    </a:lnTo>
                    <a:lnTo>
                      <a:pt x="269" y="582"/>
                    </a:lnTo>
                    <a:lnTo>
                      <a:pt x="314" y="516"/>
                    </a:lnTo>
                    <a:lnTo>
                      <a:pt x="358" y="460"/>
                    </a:lnTo>
                    <a:lnTo>
                      <a:pt x="404" y="404"/>
                    </a:lnTo>
                    <a:lnTo>
                      <a:pt x="449" y="348"/>
                    </a:lnTo>
                    <a:lnTo>
                      <a:pt x="494" y="291"/>
                    </a:lnTo>
                    <a:lnTo>
                      <a:pt x="539" y="224"/>
                    </a:lnTo>
                    <a:lnTo>
                      <a:pt x="583" y="168"/>
                    </a:lnTo>
                    <a:lnTo>
                      <a:pt x="628" y="112"/>
                    </a:lnTo>
                    <a:lnTo>
                      <a:pt x="673" y="56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7683480" y="30549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100" h="168">
                    <a:moveTo>
                      <a:pt x="0" y="168"/>
                    </a:moveTo>
                    <a:lnTo>
                      <a:pt x="0" y="156"/>
                    </a:lnTo>
                    <a:lnTo>
                      <a:pt x="11" y="146"/>
                    </a:lnTo>
                    <a:lnTo>
                      <a:pt x="11" y="135"/>
                    </a:lnTo>
                    <a:lnTo>
                      <a:pt x="23" y="123"/>
                    </a:lnTo>
                    <a:lnTo>
                      <a:pt x="33" y="123"/>
                    </a:lnTo>
                    <a:lnTo>
                      <a:pt x="33" y="112"/>
                    </a:lnTo>
                    <a:lnTo>
                      <a:pt x="44" y="100"/>
                    </a:lnTo>
                    <a:lnTo>
                      <a:pt x="44" y="90"/>
                    </a:lnTo>
                    <a:lnTo>
                      <a:pt x="56" y="79"/>
                    </a:lnTo>
                    <a:lnTo>
                      <a:pt x="67" y="67"/>
                    </a:lnTo>
                    <a:lnTo>
                      <a:pt x="67" y="57"/>
                    </a:lnTo>
                    <a:lnTo>
                      <a:pt x="78" y="45"/>
                    </a:lnTo>
                    <a:lnTo>
                      <a:pt x="78" y="34"/>
                    </a:lnTo>
                    <a:lnTo>
                      <a:pt x="89" y="22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7221240" y="3089880"/>
                <a:ext cx="375120" cy="413280"/>
              </a:xfrm>
              <a:custGeom>
                <a:avLst/>
                <a:gdLst/>
                <a:ahLst/>
                <a:rect l="l" t="t" r="r" b="b"/>
                <a:pathLst>
                  <a:path w="966" h="1064">
                    <a:moveTo>
                      <a:pt x="292" y="45"/>
                    </a:moveTo>
                    <a:lnTo>
                      <a:pt x="315" y="56"/>
                    </a:lnTo>
                    <a:lnTo>
                      <a:pt x="337" y="56"/>
                    </a:lnTo>
                    <a:lnTo>
                      <a:pt x="359" y="66"/>
                    </a:lnTo>
                    <a:lnTo>
                      <a:pt x="381" y="78"/>
                    </a:lnTo>
                    <a:lnTo>
                      <a:pt x="404" y="78"/>
                    </a:lnTo>
                    <a:lnTo>
                      <a:pt x="426" y="89"/>
                    </a:lnTo>
                    <a:lnTo>
                      <a:pt x="449" y="89"/>
                    </a:lnTo>
                    <a:lnTo>
                      <a:pt x="470" y="101"/>
                    </a:lnTo>
                    <a:lnTo>
                      <a:pt x="494" y="101"/>
                    </a:lnTo>
                    <a:lnTo>
                      <a:pt x="517" y="101"/>
                    </a:lnTo>
                    <a:lnTo>
                      <a:pt x="539" y="111"/>
                    </a:lnTo>
                    <a:lnTo>
                      <a:pt x="562" y="111"/>
                    </a:lnTo>
                    <a:lnTo>
                      <a:pt x="584" y="111"/>
                    </a:lnTo>
                    <a:lnTo>
                      <a:pt x="618" y="111"/>
                    </a:lnTo>
                    <a:lnTo>
                      <a:pt x="640" y="111"/>
                    </a:lnTo>
                    <a:lnTo>
                      <a:pt x="662" y="122"/>
                    </a:lnTo>
                    <a:lnTo>
                      <a:pt x="673" y="122"/>
                    </a:lnTo>
                    <a:lnTo>
                      <a:pt x="696" y="122"/>
                    </a:lnTo>
                    <a:lnTo>
                      <a:pt x="717" y="122"/>
                    </a:lnTo>
                    <a:lnTo>
                      <a:pt x="729" y="122"/>
                    </a:lnTo>
                    <a:lnTo>
                      <a:pt x="752" y="122"/>
                    </a:lnTo>
                    <a:lnTo>
                      <a:pt x="774" y="122"/>
                    </a:lnTo>
                    <a:lnTo>
                      <a:pt x="785" y="122"/>
                    </a:lnTo>
                    <a:lnTo>
                      <a:pt x="808" y="122"/>
                    </a:lnTo>
                    <a:lnTo>
                      <a:pt x="830" y="122"/>
                    </a:lnTo>
                    <a:lnTo>
                      <a:pt x="841" y="122"/>
                    </a:lnTo>
                    <a:lnTo>
                      <a:pt x="864" y="111"/>
                    </a:lnTo>
                    <a:lnTo>
                      <a:pt x="886" y="111"/>
                    </a:lnTo>
                    <a:lnTo>
                      <a:pt x="897" y="111"/>
                    </a:lnTo>
                    <a:lnTo>
                      <a:pt x="919" y="111"/>
                    </a:lnTo>
                    <a:lnTo>
                      <a:pt x="931" y="101"/>
                    </a:lnTo>
                    <a:lnTo>
                      <a:pt x="954" y="101"/>
                    </a:lnTo>
                    <a:lnTo>
                      <a:pt x="966" y="111"/>
                    </a:lnTo>
                    <a:lnTo>
                      <a:pt x="966" y="122"/>
                    </a:lnTo>
                    <a:lnTo>
                      <a:pt x="966" y="134"/>
                    </a:lnTo>
                    <a:lnTo>
                      <a:pt x="966" y="145"/>
                    </a:lnTo>
                    <a:lnTo>
                      <a:pt x="966" y="157"/>
                    </a:lnTo>
                    <a:lnTo>
                      <a:pt x="966" y="167"/>
                    </a:lnTo>
                    <a:lnTo>
                      <a:pt x="954" y="167"/>
                    </a:lnTo>
                    <a:lnTo>
                      <a:pt x="954" y="178"/>
                    </a:lnTo>
                    <a:lnTo>
                      <a:pt x="954" y="190"/>
                    </a:lnTo>
                    <a:lnTo>
                      <a:pt x="943" y="190"/>
                    </a:lnTo>
                    <a:lnTo>
                      <a:pt x="943" y="201"/>
                    </a:lnTo>
                    <a:lnTo>
                      <a:pt x="931" y="212"/>
                    </a:lnTo>
                    <a:lnTo>
                      <a:pt x="931" y="223"/>
                    </a:lnTo>
                    <a:lnTo>
                      <a:pt x="919" y="223"/>
                    </a:lnTo>
                    <a:lnTo>
                      <a:pt x="919" y="235"/>
                    </a:lnTo>
                    <a:lnTo>
                      <a:pt x="909" y="246"/>
                    </a:lnTo>
                    <a:lnTo>
                      <a:pt x="897" y="256"/>
                    </a:lnTo>
                    <a:lnTo>
                      <a:pt x="886" y="268"/>
                    </a:lnTo>
                    <a:lnTo>
                      <a:pt x="886" y="279"/>
                    </a:lnTo>
                    <a:lnTo>
                      <a:pt x="874" y="279"/>
                    </a:lnTo>
                    <a:lnTo>
                      <a:pt x="874" y="291"/>
                    </a:lnTo>
                    <a:lnTo>
                      <a:pt x="864" y="302"/>
                    </a:lnTo>
                    <a:lnTo>
                      <a:pt x="852" y="312"/>
                    </a:lnTo>
                    <a:lnTo>
                      <a:pt x="852" y="324"/>
                    </a:lnTo>
                    <a:lnTo>
                      <a:pt x="818" y="369"/>
                    </a:lnTo>
                    <a:lnTo>
                      <a:pt x="785" y="404"/>
                    </a:lnTo>
                    <a:lnTo>
                      <a:pt x="763" y="437"/>
                    </a:lnTo>
                    <a:lnTo>
                      <a:pt x="729" y="470"/>
                    </a:lnTo>
                    <a:lnTo>
                      <a:pt x="707" y="504"/>
                    </a:lnTo>
                    <a:lnTo>
                      <a:pt x="673" y="549"/>
                    </a:lnTo>
                    <a:lnTo>
                      <a:pt x="651" y="582"/>
                    </a:lnTo>
                    <a:lnTo>
                      <a:pt x="618" y="616"/>
                    </a:lnTo>
                    <a:lnTo>
                      <a:pt x="595" y="650"/>
                    </a:lnTo>
                    <a:lnTo>
                      <a:pt x="572" y="683"/>
                    </a:lnTo>
                    <a:lnTo>
                      <a:pt x="539" y="728"/>
                    </a:lnTo>
                    <a:lnTo>
                      <a:pt x="517" y="761"/>
                    </a:lnTo>
                    <a:lnTo>
                      <a:pt x="482" y="796"/>
                    </a:lnTo>
                    <a:lnTo>
                      <a:pt x="460" y="841"/>
                    </a:lnTo>
                    <a:lnTo>
                      <a:pt x="426" y="874"/>
                    </a:lnTo>
                    <a:lnTo>
                      <a:pt x="404" y="907"/>
                    </a:lnTo>
                    <a:lnTo>
                      <a:pt x="404" y="919"/>
                    </a:lnTo>
                    <a:lnTo>
                      <a:pt x="404" y="930"/>
                    </a:lnTo>
                    <a:lnTo>
                      <a:pt x="404" y="941"/>
                    </a:lnTo>
                    <a:lnTo>
                      <a:pt x="393" y="953"/>
                    </a:lnTo>
                    <a:lnTo>
                      <a:pt x="393" y="963"/>
                    </a:lnTo>
                    <a:lnTo>
                      <a:pt x="393" y="975"/>
                    </a:lnTo>
                    <a:lnTo>
                      <a:pt x="381" y="986"/>
                    </a:lnTo>
                    <a:lnTo>
                      <a:pt x="381" y="998"/>
                    </a:lnTo>
                    <a:lnTo>
                      <a:pt x="371" y="1008"/>
                    </a:lnTo>
                    <a:lnTo>
                      <a:pt x="371" y="1019"/>
                    </a:lnTo>
                    <a:lnTo>
                      <a:pt x="359" y="1031"/>
                    </a:lnTo>
                    <a:lnTo>
                      <a:pt x="348" y="1042"/>
                    </a:lnTo>
                    <a:lnTo>
                      <a:pt x="337" y="1054"/>
                    </a:lnTo>
                    <a:lnTo>
                      <a:pt x="325" y="1064"/>
                    </a:lnTo>
                    <a:lnTo>
                      <a:pt x="315" y="1064"/>
                    </a:lnTo>
                    <a:lnTo>
                      <a:pt x="292" y="1064"/>
                    </a:lnTo>
                    <a:lnTo>
                      <a:pt x="280" y="1064"/>
                    </a:lnTo>
                    <a:lnTo>
                      <a:pt x="270" y="1064"/>
                    </a:lnTo>
                    <a:lnTo>
                      <a:pt x="270" y="1054"/>
                    </a:lnTo>
                    <a:lnTo>
                      <a:pt x="259" y="1042"/>
                    </a:lnTo>
                    <a:lnTo>
                      <a:pt x="259" y="1031"/>
                    </a:lnTo>
                    <a:lnTo>
                      <a:pt x="259" y="1019"/>
                    </a:lnTo>
                    <a:lnTo>
                      <a:pt x="259" y="1008"/>
                    </a:lnTo>
                    <a:lnTo>
                      <a:pt x="259" y="998"/>
                    </a:lnTo>
                    <a:lnTo>
                      <a:pt x="259" y="986"/>
                    </a:lnTo>
                    <a:lnTo>
                      <a:pt x="270" y="975"/>
                    </a:lnTo>
                    <a:lnTo>
                      <a:pt x="270" y="953"/>
                    </a:lnTo>
                    <a:lnTo>
                      <a:pt x="270" y="941"/>
                    </a:lnTo>
                    <a:lnTo>
                      <a:pt x="270" y="930"/>
                    </a:lnTo>
                    <a:lnTo>
                      <a:pt x="259" y="919"/>
                    </a:lnTo>
                    <a:lnTo>
                      <a:pt x="259" y="907"/>
                    </a:lnTo>
                    <a:lnTo>
                      <a:pt x="247" y="874"/>
                    </a:lnTo>
                    <a:lnTo>
                      <a:pt x="236" y="841"/>
                    </a:lnTo>
                    <a:lnTo>
                      <a:pt x="224" y="808"/>
                    </a:lnTo>
                    <a:lnTo>
                      <a:pt x="214" y="785"/>
                    </a:lnTo>
                    <a:lnTo>
                      <a:pt x="191" y="751"/>
                    </a:lnTo>
                    <a:lnTo>
                      <a:pt x="180" y="716"/>
                    </a:lnTo>
                    <a:lnTo>
                      <a:pt x="169" y="683"/>
                    </a:lnTo>
                    <a:lnTo>
                      <a:pt x="147" y="650"/>
                    </a:lnTo>
                    <a:lnTo>
                      <a:pt x="135" y="616"/>
                    </a:lnTo>
                    <a:lnTo>
                      <a:pt x="125" y="594"/>
                    </a:lnTo>
                    <a:lnTo>
                      <a:pt x="102" y="559"/>
                    </a:lnTo>
                    <a:lnTo>
                      <a:pt x="80" y="526"/>
                    </a:lnTo>
                    <a:lnTo>
                      <a:pt x="68" y="504"/>
                    </a:lnTo>
                    <a:lnTo>
                      <a:pt x="45" y="470"/>
                    </a:lnTo>
                    <a:lnTo>
                      <a:pt x="22" y="448"/>
                    </a:lnTo>
                    <a:lnTo>
                      <a:pt x="0" y="414"/>
                    </a:ln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  <a:lnTo>
                      <a:pt x="180" y="0"/>
                    </a:lnTo>
                    <a:lnTo>
                      <a:pt x="191" y="0"/>
                    </a:lnTo>
                    <a:lnTo>
                      <a:pt x="203" y="0"/>
                    </a:lnTo>
                    <a:lnTo>
                      <a:pt x="214" y="0"/>
                    </a:lnTo>
                    <a:lnTo>
                      <a:pt x="224" y="10"/>
                    </a:lnTo>
                    <a:lnTo>
                      <a:pt x="236" y="10"/>
                    </a:lnTo>
                    <a:lnTo>
                      <a:pt x="236" y="22"/>
                    </a:lnTo>
                    <a:lnTo>
                      <a:pt x="247" y="22"/>
                    </a:lnTo>
                    <a:lnTo>
                      <a:pt x="259" y="33"/>
                    </a:lnTo>
                    <a:lnTo>
                      <a:pt x="270" y="33"/>
                    </a:lnTo>
                    <a:lnTo>
                      <a:pt x="270" y="45"/>
                    </a:lnTo>
                    <a:lnTo>
                      <a:pt x="280" y="45"/>
                    </a:lnTo>
                    <a:lnTo>
                      <a:pt x="292" y="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7377480" y="3215880"/>
                <a:ext cx="174960" cy="226440"/>
              </a:xfrm>
              <a:custGeom>
                <a:avLst/>
                <a:gdLst/>
                <a:ahLst/>
                <a:rect l="l" t="t" r="r" b="b"/>
                <a:pathLst>
                  <a:path w="448" h="583">
                    <a:moveTo>
                      <a:pt x="448" y="0"/>
                    </a:moveTo>
                    <a:lnTo>
                      <a:pt x="414" y="45"/>
                    </a:lnTo>
                    <a:lnTo>
                      <a:pt x="381" y="80"/>
                    </a:lnTo>
                    <a:lnTo>
                      <a:pt x="359" y="113"/>
                    </a:lnTo>
                    <a:lnTo>
                      <a:pt x="325" y="146"/>
                    </a:lnTo>
                    <a:lnTo>
                      <a:pt x="303" y="180"/>
                    </a:lnTo>
                    <a:lnTo>
                      <a:pt x="269" y="225"/>
                    </a:lnTo>
                    <a:lnTo>
                      <a:pt x="247" y="258"/>
                    </a:lnTo>
                    <a:lnTo>
                      <a:pt x="214" y="292"/>
                    </a:lnTo>
                    <a:lnTo>
                      <a:pt x="191" y="326"/>
                    </a:lnTo>
                    <a:lnTo>
                      <a:pt x="168" y="359"/>
                    </a:lnTo>
                    <a:lnTo>
                      <a:pt x="135" y="404"/>
                    </a:lnTo>
                    <a:lnTo>
                      <a:pt x="113" y="437"/>
                    </a:lnTo>
                    <a:lnTo>
                      <a:pt x="78" y="472"/>
                    </a:lnTo>
                    <a:lnTo>
                      <a:pt x="56" y="517"/>
                    </a:lnTo>
                    <a:lnTo>
                      <a:pt x="22" y="550"/>
                    </a:lnTo>
                    <a:lnTo>
                      <a:pt x="0" y="5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7342560" y="3442680"/>
                <a:ext cx="34920" cy="60840"/>
              </a:xfrm>
              <a:custGeom>
                <a:avLst/>
                <a:gdLst/>
                <a:ahLst/>
                <a:rect l="l" t="t" r="r" b="b"/>
                <a:pathLst>
                  <a:path w="89" h="157">
                    <a:moveTo>
                      <a:pt x="89" y="0"/>
                    </a:moveTo>
                    <a:lnTo>
                      <a:pt x="89" y="12"/>
                    </a:lnTo>
                    <a:lnTo>
                      <a:pt x="89" y="23"/>
                    </a:lnTo>
                    <a:lnTo>
                      <a:pt x="89" y="34"/>
                    </a:lnTo>
                    <a:lnTo>
                      <a:pt x="78" y="46"/>
                    </a:lnTo>
                    <a:lnTo>
                      <a:pt x="78" y="56"/>
                    </a:lnTo>
                    <a:lnTo>
                      <a:pt x="78" y="68"/>
                    </a:lnTo>
                    <a:lnTo>
                      <a:pt x="66" y="79"/>
                    </a:lnTo>
                    <a:lnTo>
                      <a:pt x="66" y="91"/>
                    </a:lnTo>
                    <a:lnTo>
                      <a:pt x="56" y="101"/>
                    </a:lnTo>
                    <a:lnTo>
                      <a:pt x="56" y="112"/>
                    </a:lnTo>
                    <a:lnTo>
                      <a:pt x="44" y="124"/>
                    </a:lnTo>
                    <a:lnTo>
                      <a:pt x="33" y="135"/>
                    </a:lnTo>
                    <a:lnTo>
                      <a:pt x="22" y="147"/>
                    </a:lnTo>
                    <a:lnTo>
                      <a:pt x="10" y="157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7321320" y="34426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56" h="157">
                    <a:moveTo>
                      <a:pt x="56" y="157"/>
                    </a:moveTo>
                    <a:lnTo>
                      <a:pt x="33" y="157"/>
                    </a:lnTo>
                    <a:lnTo>
                      <a:pt x="21" y="157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12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68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7221240" y="3251160"/>
                <a:ext cx="99720" cy="191520"/>
              </a:xfrm>
              <a:custGeom>
                <a:avLst/>
                <a:gdLst/>
                <a:ahLst/>
                <a:rect l="l" t="t" r="r" b="b"/>
                <a:pathLst>
                  <a:path w="259" h="493">
                    <a:moveTo>
                      <a:pt x="259" y="493"/>
                    </a:moveTo>
                    <a:lnTo>
                      <a:pt x="247" y="460"/>
                    </a:lnTo>
                    <a:lnTo>
                      <a:pt x="236" y="427"/>
                    </a:lnTo>
                    <a:lnTo>
                      <a:pt x="224" y="394"/>
                    </a:lnTo>
                    <a:lnTo>
                      <a:pt x="214" y="371"/>
                    </a:lnTo>
                    <a:lnTo>
                      <a:pt x="191" y="337"/>
                    </a:lnTo>
                    <a:lnTo>
                      <a:pt x="180" y="302"/>
                    </a:lnTo>
                    <a:lnTo>
                      <a:pt x="169" y="269"/>
                    </a:lnTo>
                    <a:lnTo>
                      <a:pt x="147" y="236"/>
                    </a:lnTo>
                    <a:lnTo>
                      <a:pt x="135" y="202"/>
                    </a:lnTo>
                    <a:lnTo>
                      <a:pt x="125" y="180"/>
                    </a:lnTo>
                    <a:lnTo>
                      <a:pt x="102" y="145"/>
                    </a:lnTo>
                    <a:lnTo>
                      <a:pt x="80" y="112"/>
                    </a:lnTo>
                    <a:lnTo>
                      <a:pt x="68" y="90"/>
                    </a:lnTo>
                    <a:lnTo>
                      <a:pt x="45" y="56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7221240" y="3089880"/>
                <a:ext cx="64800" cy="160920"/>
              </a:xfrm>
              <a:custGeom>
                <a:avLst/>
                <a:gdLst/>
                <a:ahLst/>
                <a:rect l="l" t="t" r="r" b="b"/>
                <a:pathLst>
                  <a:path w="169" h="414">
                    <a:moveTo>
                      <a:pt x="0" y="414"/>
                    </a:move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7256160" y="3111120"/>
                <a:ext cx="321480" cy="331200"/>
              </a:xfrm>
              <a:custGeom>
                <a:avLst/>
                <a:gdLst/>
                <a:ahLst/>
                <a:rect l="l" t="t" r="r" b="b"/>
                <a:pathLst>
                  <a:path w="829" h="851">
                    <a:moveTo>
                      <a:pt x="169" y="45"/>
                    </a:moveTo>
                    <a:lnTo>
                      <a:pt x="190" y="45"/>
                    </a:lnTo>
                    <a:lnTo>
                      <a:pt x="202" y="55"/>
                    </a:lnTo>
                    <a:lnTo>
                      <a:pt x="225" y="55"/>
                    </a:lnTo>
                    <a:lnTo>
                      <a:pt x="235" y="66"/>
                    </a:lnTo>
                    <a:lnTo>
                      <a:pt x="258" y="66"/>
                    </a:lnTo>
                    <a:lnTo>
                      <a:pt x="281" y="66"/>
                    </a:lnTo>
                    <a:lnTo>
                      <a:pt x="291" y="78"/>
                    </a:lnTo>
                    <a:lnTo>
                      <a:pt x="314" y="78"/>
                    </a:lnTo>
                    <a:lnTo>
                      <a:pt x="324" y="78"/>
                    </a:lnTo>
                    <a:lnTo>
                      <a:pt x="347" y="89"/>
                    </a:lnTo>
                    <a:lnTo>
                      <a:pt x="370" y="89"/>
                    </a:lnTo>
                    <a:lnTo>
                      <a:pt x="380" y="89"/>
                    </a:lnTo>
                    <a:lnTo>
                      <a:pt x="404" y="89"/>
                    </a:lnTo>
                    <a:lnTo>
                      <a:pt x="427" y="101"/>
                    </a:lnTo>
                    <a:lnTo>
                      <a:pt x="437" y="101"/>
                    </a:lnTo>
                    <a:lnTo>
                      <a:pt x="460" y="101"/>
                    </a:lnTo>
                    <a:lnTo>
                      <a:pt x="482" y="101"/>
                    </a:lnTo>
                    <a:lnTo>
                      <a:pt x="505" y="111"/>
                    </a:lnTo>
                    <a:lnTo>
                      <a:pt x="528" y="111"/>
                    </a:lnTo>
                    <a:lnTo>
                      <a:pt x="550" y="111"/>
                    </a:lnTo>
                    <a:lnTo>
                      <a:pt x="572" y="111"/>
                    </a:lnTo>
                    <a:lnTo>
                      <a:pt x="594" y="111"/>
                    </a:lnTo>
                    <a:lnTo>
                      <a:pt x="617" y="111"/>
                    </a:lnTo>
                    <a:lnTo>
                      <a:pt x="639" y="111"/>
                    </a:lnTo>
                    <a:lnTo>
                      <a:pt x="673" y="111"/>
                    </a:lnTo>
                    <a:lnTo>
                      <a:pt x="695" y="111"/>
                    </a:lnTo>
                    <a:lnTo>
                      <a:pt x="718" y="111"/>
                    </a:lnTo>
                    <a:lnTo>
                      <a:pt x="740" y="111"/>
                    </a:lnTo>
                    <a:lnTo>
                      <a:pt x="762" y="111"/>
                    </a:lnTo>
                    <a:lnTo>
                      <a:pt x="784" y="101"/>
                    </a:lnTo>
                    <a:lnTo>
                      <a:pt x="807" y="101"/>
                    </a:lnTo>
                    <a:lnTo>
                      <a:pt x="829" y="101"/>
                    </a:lnTo>
                    <a:lnTo>
                      <a:pt x="796" y="145"/>
                    </a:lnTo>
                    <a:lnTo>
                      <a:pt x="762" y="190"/>
                    </a:lnTo>
                    <a:lnTo>
                      <a:pt x="728" y="246"/>
                    </a:lnTo>
                    <a:lnTo>
                      <a:pt x="695" y="291"/>
                    </a:lnTo>
                    <a:lnTo>
                      <a:pt x="662" y="336"/>
                    </a:lnTo>
                    <a:lnTo>
                      <a:pt x="627" y="381"/>
                    </a:lnTo>
                    <a:lnTo>
                      <a:pt x="594" y="426"/>
                    </a:lnTo>
                    <a:lnTo>
                      <a:pt x="550" y="470"/>
                    </a:lnTo>
                    <a:lnTo>
                      <a:pt x="516" y="515"/>
                    </a:lnTo>
                    <a:lnTo>
                      <a:pt x="482" y="560"/>
                    </a:lnTo>
                    <a:lnTo>
                      <a:pt x="437" y="604"/>
                    </a:lnTo>
                    <a:lnTo>
                      <a:pt x="404" y="660"/>
                    </a:lnTo>
                    <a:lnTo>
                      <a:pt x="370" y="705"/>
                    </a:lnTo>
                    <a:lnTo>
                      <a:pt x="336" y="752"/>
                    </a:lnTo>
                    <a:lnTo>
                      <a:pt x="303" y="796"/>
                    </a:lnTo>
                    <a:lnTo>
                      <a:pt x="269" y="851"/>
                    </a:lnTo>
                    <a:lnTo>
                      <a:pt x="258" y="841"/>
                    </a:lnTo>
                    <a:lnTo>
                      <a:pt x="247" y="841"/>
                    </a:lnTo>
                    <a:lnTo>
                      <a:pt x="247" y="829"/>
                    </a:lnTo>
                    <a:lnTo>
                      <a:pt x="235" y="829"/>
                    </a:lnTo>
                    <a:lnTo>
                      <a:pt x="235" y="818"/>
                    </a:lnTo>
                    <a:lnTo>
                      <a:pt x="225" y="807"/>
                    </a:lnTo>
                    <a:lnTo>
                      <a:pt x="225" y="796"/>
                    </a:lnTo>
                    <a:lnTo>
                      <a:pt x="225" y="785"/>
                    </a:lnTo>
                    <a:lnTo>
                      <a:pt x="225" y="773"/>
                    </a:lnTo>
                    <a:lnTo>
                      <a:pt x="213" y="762"/>
                    </a:lnTo>
                    <a:lnTo>
                      <a:pt x="213" y="752"/>
                    </a:lnTo>
                    <a:lnTo>
                      <a:pt x="213" y="740"/>
                    </a:lnTo>
                    <a:lnTo>
                      <a:pt x="202" y="705"/>
                    </a:lnTo>
                    <a:lnTo>
                      <a:pt x="190" y="683"/>
                    </a:lnTo>
                    <a:lnTo>
                      <a:pt x="180" y="660"/>
                    </a:lnTo>
                    <a:lnTo>
                      <a:pt x="169" y="638"/>
                    </a:lnTo>
                    <a:lnTo>
                      <a:pt x="157" y="604"/>
                    </a:lnTo>
                    <a:lnTo>
                      <a:pt x="146" y="582"/>
                    </a:lnTo>
                    <a:lnTo>
                      <a:pt x="124" y="560"/>
                    </a:lnTo>
                    <a:lnTo>
                      <a:pt x="113" y="526"/>
                    </a:lnTo>
                    <a:lnTo>
                      <a:pt x="101" y="503"/>
                    </a:lnTo>
                    <a:lnTo>
                      <a:pt x="90" y="482"/>
                    </a:lnTo>
                    <a:lnTo>
                      <a:pt x="79" y="459"/>
                    </a:lnTo>
                    <a:lnTo>
                      <a:pt x="68" y="426"/>
                    </a:lnTo>
                    <a:lnTo>
                      <a:pt x="45" y="404"/>
                    </a:lnTo>
                    <a:lnTo>
                      <a:pt x="35" y="381"/>
                    </a:lnTo>
                    <a:lnTo>
                      <a:pt x="12" y="35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0" y="280"/>
                    </a:lnTo>
                    <a:lnTo>
                      <a:pt x="12" y="268"/>
                    </a:lnTo>
                    <a:lnTo>
                      <a:pt x="12" y="256"/>
                    </a:lnTo>
                    <a:lnTo>
                      <a:pt x="12" y="246"/>
                    </a:lnTo>
                    <a:lnTo>
                      <a:pt x="23" y="235"/>
                    </a:lnTo>
                    <a:lnTo>
                      <a:pt x="23" y="223"/>
                    </a:lnTo>
                    <a:lnTo>
                      <a:pt x="23" y="212"/>
                    </a:lnTo>
                    <a:lnTo>
                      <a:pt x="23" y="200"/>
                    </a:lnTo>
                    <a:lnTo>
                      <a:pt x="35" y="200"/>
                    </a:lnTo>
                    <a:lnTo>
                      <a:pt x="35" y="190"/>
                    </a:lnTo>
                    <a:lnTo>
                      <a:pt x="45" y="179"/>
                    </a:lnTo>
                    <a:lnTo>
                      <a:pt x="45" y="167"/>
                    </a:lnTo>
                    <a:lnTo>
                      <a:pt x="57" y="156"/>
                    </a:lnTo>
                    <a:lnTo>
                      <a:pt x="57" y="145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57" y="111"/>
                    </a:lnTo>
                    <a:lnTo>
                      <a:pt x="68" y="101"/>
                    </a:lnTo>
                    <a:lnTo>
                      <a:pt x="68" y="89"/>
                    </a:lnTo>
                    <a:lnTo>
                      <a:pt x="68" y="78"/>
                    </a:lnTo>
                    <a:lnTo>
                      <a:pt x="79" y="66"/>
                    </a:lnTo>
                    <a:lnTo>
                      <a:pt x="79" y="55"/>
                    </a:lnTo>
                    <a:lnTo>
                      <a:pt x="79" y="45"/>
                    </a:lnTo>
                    <a:lnTo>
                      <a:pt x="90" y="45"/>
                    </a:lnTo>
                    <a:lnTo>
                      <a:pt x="90" y="33"/>
                    </a:lnTo>
                    <a:lnTo>
                      <a:pt x="90" y="22"/>
                    </a:lnTo>
                    <a:lnTo>
                      <a:pt x="90" y="10"/>
                    </a:lnTo>
                    <a:lnTo>
                      <a:pt x="101" y="1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4" y="0"/>
                    </a:lnTo>
                    <a:lnTo>
                      <a:pt x="124" y="10"/>
                    </a:lnTo>
                    <a:lnTo>
                      <a:pt x="134" y="10"/>
                    </a:lnTo>
                    <a:lnTo>
                      <a:pt x="134" y="22"/>
                    </a:lnTo>
                    <a:lnTo>
                      <a:pt x="146" y="22"/>
                    </a:lnTo>
                    <a:lnTo>
                      <a:pt x="157" y="33"/>
                    </a:lnTo>
                    <a:lnTo>
                      <a:pt x="169" y="33"/>
                    </a:lnTo>
                    <a:lnTo>
                      <a:pt x="169" y="4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7360920" y="3151080"/>
                <a:ext cx="216720" cy="291600"/>
              </a:xfrm>
              <a:custGeom>
                <a:avLst/>
                <a:gdLst/>
                <a:ahLst/>
                <a:rect l="l" t="t" r="r" b="b"/>
                <a:pathLst>
                  <a:path w="560" h="750">
                    <a:moveTo>
                      <a:pt x="560" y="0"/>
                    </a:moveTo>
                    <a:lnTo>
                      <a:pt x="527" y="44"/>
                    </a:lnTo>
                    <a:lnTo>
                      <a:pt x="493" y="89"/>
                    </a:lnTo>
                    <a:lnTo>
                      <a:pt x="459" y="145"/>
                    </a:lnTo>
                    <a:lnTo>
                      <a:pt x="426" y="190"/>
                    </a:lnTo>
                    <a:lnTo>
                      <a:pt x="393" y="235"/>
                    </a:lnTo>
                    <a:lnTo>
                      <a:pt x="358" y="280"/>
                    </a:lnTo>
                    <a:lnTo>
                      <a:pt x="325" y="325"/>
                    </a:lnTo>
                    <a:lnTo>
                      <a:pt x="281" y="369"/>
                    </a:lnTo>
                    <a:lnTo>
                      <a:pt x="247" y="414"/>
                    </a:lnTo>
                    <a:lnTo>
                      <a:pt x="213" y="459"/>
                    </a:lnTo>
                    <a:lnTo>
                      <a:pt x="168" y="503"/>
                    </a:lnTo>
                    <a:lnTo>
                      <a:pt x="135" y="559"/>
                    </a:lnTo>
                    <a:lnTo>
                      <a:pt x="101" y="604"/>
                    </a:lnTo>
                    <a:lnTo>
                      <a:pt x="67" y="651"/>
                    </a:lnTo>
                    <a:lnTo>
                      <a:pt x="34" y="695"/>
                    </a:lnTo>
                    <a:lnTo>
                      <a:pt x="0" y="7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7256160" y="3242160"/>
                <a:ext cx="81360" cy="155880"/>
              </a:xfrm>
              <a:custGeom>
                <a:avLst/>
                <a:gdLst/>
                <a:ahLst/>
                <a:rect l="l" t="t" r="r" b="b"/>
                <a:pathLst>
                  <a:path w="213" h="404">
                    <a:moveTo>
                      <a:pt x="213" y="404"/>
                    </a:moveTo>
                    <a:lnTo>
                      <a:pt x="202" y="369"/>
                    </a:lnTo>
                    <a:lnTo>
                      <a:pt x="190" y="347"/>
                    </a:lnTo>
                    <a:lnTo>
                      <a:pt x="180" y="324"/>
                    </a:lnTo>
                    <a:lnTo>
                      <a:pt x="169" y="302"/>
                    </a:lnTo>
                    <a:lnTo>
                      <a:pt x="157" y="268"/>
                    </a:lnTo>
                    <a:lnTo>
                      <a:pt x="146" y="246"/>
                    </a:lnTo>
                    <a:lnTo>
                      <a:pt x="124" y="224"/>
                    </a:lnTo>
                    <a:lnTo>
                      <a:pt x="113" y="190"/>
                    </a:lnTo>
                    <a:lnTo>
                      <a:pt x="101" y="167"/>
                    </a:lnTo>
                    <a:lnTo>
                      <a:pt x="90" y="146"/>
                    </a:lnTo>
                    <a:lnTo>
                      <a:pt x="79" y="123"/>
                    </a:lnTo>
                    <a:lnTo>
                      <a:pt x="68" y="90"/>
                    </a:lnTo>
                    <a:lnTo>
                      <a:pt x="45" y="68"/>
                    </a:lnTo>
                    <a:lnTo>
                      <a:pt x="35" y="45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6553800" y="3120120"/>
                <a:ext cx="380160" cy="401760"/>
              </a:xfrm>
              <a:custGeom>
                <a:avLst/>
                <a:gdLst/>
                <a:ahLst/>
                <a:rect l="l" t="t" r="r" b="b"/>
                <a:pathLst>
                  <a:path w="976" h="1031">
                    <a:moveTo>
                      <a:pt x="651" y="23"/>
                    </a:moveTo>
                    <a:lnTo>
                      <a:pt x="661" y="23"/>
                    </a:lnTo>
                    <a:lnTo>
                      <a:pt x="696" y="56"/>
                    </a:lnTo>
                    <a:lnTo>
                      <a:pt x="729" y="89"/>
                    </a:lnTo>
                    <a:lnTo>
                      <a:pt x="752" y="134"/>
                    </a:lnTo>
                    <a:lnTo>
                      <a:pt x="785" y="168"/>
                    </a:lnTo>
                    <a:lnTo>
                      <a:pt x="807" y="213"/>
                    </a:lnTo>
                    <a:lnTo>
                      <a:pt x="830" y="258"/>
                    </a:lnTo>
                    <a:lnTo>
                      <a:pt x="851" y="291"/>
                    </a:lnTo>
                    <a:lnTo>
                      <a:pt x="874" y="336"/>
                    </a:lnTo>
                    <a:lnTo>
                      <a:pt x="886" y="382"/>
                    </a:lnTo>
                    <a:lnTo>
                      <a:pt x="908" y="426"/>
                    </a:lnTo>
                    <a:lnTo>
                      <a:pt x="919" y="471"/>
                    </a:lnTo>
                    <a:lnTo>
                      <a:pt x="931" y="516"/>
                    </a:lnTo>
                    <a:lnTo>
                      <a:pt x="942" y="560"/>
                    </a:lnTo>
                    <a:lnTo>
                      <a:pt x="953" y="605"/>
                    </a:lnTo>
                    <a:lnTo>
                      <a:pt x="965" y="650"/>
                    </a:lnTo>
                    <a:lnTo>
                      <a:pt x="976" y="695"/>
                    </a:lnTo>
                    <a:lnTo>
                      <a:pt x="965" y="707"/>
                    </a:lnTo>
                    <a:lnTo>
                      <a:pt x="931" y="718"/>
                    </a:lnTo>
                    <a:lnTo>
                      <a:pt x="896" y="740"/>
                    </a:lnTo>
                    <a:lnTo>
                      <a:pt x="863" y="763"/>
                    </a:lnTo>
                    <a:lnTo>
                      <a:pt x="830" y="785"/>
                    </a:lnTo>
                    <a:lnTo>
                      <a:pt x="785" y="796"/>
                    </a:lnTo>
                    <a:lnTo>
                      <a:pt x="752" y="819"/>
                    </a:lnTo>
                    <a:lnTo>
                      <a:pt x="718" y="841"/>
                    </a:lnTo>
                    <a:lnTo>
                      <a:pt x="684" y="852"/>
                    </a:lnTo>
                    <a:lnTo>
                      <a:pt x="651" y="875"/>
                    </a:lnTo>
                    <a:lnTo>
                      <a:pt x="617" y="897"/>
                    </a:lnTo>
                    <a:lnTo>
                      <a:pt x="572" y="908"/>
                    </a:lnTo>
                    <a:lnTo>
                      <a:pt x="539" y="930"/>
                    </a:lnTo>
                    <a:lnTo>
                      <a:pt x="504" y="953"/>
                    </a:lnTo>
                    <a:lnTo>
                      <a:pt x="470" y="964"/>
                    </a:lnTo>
                    <a:lnTo>
                      <a:pt x="437" y="986"/>
                    </a:lnTo>
                    <a:lnTo>
                      <a:pt x="403" y="1009"/>
                    </a:lnTo>
                    <a:lnTo>
                      <a:pt x="393" y="1009"/>
                    </a:lnTo>
                    <a:lnTo>
                      <a:pt x="381" y="1009"/>
                    </a:lnTo>
                    <a:lnTo>
                      <a:pt x="370" y="1009"/>
                    </a:lnTo>
                    <a:lnTo>
                      <a:pt x="358" y="1009"/>
                    </a:lnTo>
                    <a:lnTo>
                      <a:pt x="358" y="1020"/>
                    </a:lnTo>
                    <a:lnTo>
                      <a:pt x="348" y="1020"/>
                    </a:lnTo>
                    <a:lnTo>
                      <a:pt x="337" y="1020"/>
                    </a:lnTo>
                    <a:lnTo>
                      <a:pt x="325" y="1020"/>
                    </a:lnTo>
                    <a:lnTo>
                      <a:pt x="325" y="1031"/>
                    </a:lnTo>
                    <a:lnTo>
                      <a:pt x="314" y="1031"/>
                    </a:lnTo>
                    <a:lnTo>
                      <a:pt x="303" y="1020"/>
                    </a:lnTo>
                    <a:lnTo>
                      <a:pt x="292" y="1020"/>
                    </a:lnTo>
                    <a:lnTo>
                      <a:pt x="280" y="1020"/>
                    </a:lnTo>
                    <a:lnTo>
                      <a:pt x="269" y="1009"/>
                    </a:lnTo>
                    <a:lnTo>
                      <a:pt x="259" y="997"/>
                    </a:lnTo>
                    <a:lnTo>
                      <a:pt x="247" y="997"/>
                    </a:lnTo>
                    <a:lnTo>
                      <a:pt x="236" y="986"/>
                    </a:lnTo>
                    <a:lnTo>
                      <a:pt x="224" y="976"/>
                    </a:lnTo>
                    <a:lnTo>
                      <a:pt x="213" y="964"/>
                    </a:lnTo>
                    <a:lnTo>
                      <a:pt x="203" y="964"/>
                    </a:lnTo>
                    <a:lnTo>
                      <a:pt x="191" y="953"/>
                    </a:lnTo>
                    <a:lnTo>
                      <a:pt x="180" y="941"/>
                    </a:lnTo>
                    <a:lnTo>
                      <a:pt x="168" y="941"/>
                    </a:lnTo>
                    <a:lnTo>
                      <a:pt x="158" y="930"/>
                    </a:lnTo>
                    <a:lnTo>
                      <a:pt x="147" y="930"/>
                    </a:lnTo>
                    <a:lnTo>
                      <a:pt x="135" y="920"/>
                    </a:lnTo>
                    <a:lnTo>
                      <a:pt x="112" y="920"/>
                    </a:lnTo>
                    <a:lnTo>
                      <a:pt x="102" y="908"/>
                    </a:lnTo>
                    <a:lnTo>
                      <a:pt x="90" y="908"/>
                    </a:lnTo>
                    <a:lnTo>
                      <a:pt x="90" y="897"/>
                    </a:lnTo>
                    <a:lnTo>
                      <a:pt x="78" y="897"/>
                    </a:lnTo>
                    <a:lnTo>
                      <a:pt x="67" y="885"/>
                    </a:lnTo>
                    <a:lnTo>
                      <a:pt x="55" y="875"/>
                    </a:lnTo>
                    <a:lnTo>
                      <a:pt x="45" y="863"/>
                    </a:lnTo>
                    <a:lnTo>
                      <a:pt x="45" y="852"/>
                    </a:lnTo>
                    <a:lnTo>
                      <a:pt x="33" y="841"/>
                    </a:lnTo>
                    <a:lnTo>
                      <a:pt x="33" y="829"/>
                    </a:lnTo>
                    <a:lnTo>
                      <a:pt x="33" y="807"/>
                    </a:lnTo>
                    <a:lnTo>
                      <a:pt x="33" y="796"/>
                    </a:lnTo>
                    <a:lnTo>
                      <a:pt x="33" y="774"/>
                    </a:lnTo>
                    <a:lnTo>
                      <a:pt x="33" y="763"/>
                    </a:lnTo>
                    <a:lnTo>
                      <a:pt x="33" y="740"/>
                    </a:lnTo>
                    <a:lnTo>
                      <a:pt x="33" y="730"/>
                    </a:lnTo>
                    <a:lnTo>
                      <a:pt x="22" y="707"/>
                    </a:lnTo>
                    <a:lnTo>
                      <a:pt x="22" y="695"/>
                    </a:lnTo>
                    <a:lnTo>
                      <a:pt x="22" y="673"/>
                    </a:lnTo>
                    <a:lnTo>
                      <a:pt x="11" y="661"/>
                    </a:lnTo>
                    <a:lnTo>
                      <a:pt x="11" y="650"/>
                    </a:lnTo>
                    <a:lnTo>
                      <a:pt x="0" y="627"/>
                    </a:lnTo>
                    <a:lnTo>
                      <a:pt x="0" y="616"/>
                    </a:lnTo>
                    <a:lnTo>
                      <a:pt x="0" y="594"/>
                    </a:lnTo>
                    <a:lnTo>
                      <a:pt x="0" y="582"/>
                    </a:lnTo>
                    <a:lnTo>
                      <a:pt x="0" y="560"/>
                    </a:ln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  <a:lnTo>
                      <a:pt x="617" y="0"/>
                    </a:lnTo>
                    <a:lnTo>
                      <a:pt x="628" y="0"/>
                    </a:lnTo>
                    <a:lnTo>
                      <a:pt x="628" y="11"/>
                    </a:lnTo>
                    <a:lnTo>
                      <a:pt x="640" y="11"/>
                    </a:lnTo>
                    <a:lnTo>
                      <a:pt x="640" y="23"/>
                    </a:lnTo>
                    <a:lnTo>
                      <a:pt x="651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6810120" y="3129840"/>
                <a:ext cx="123480" cy="261360"/>
              </a:xfrm>
              <a:custGeom>
                <a:avLst/>
                <a:gdLst/>
                <a:ahLst/>
                <a:rect l="l" t="t" r="r" b="b"/>
                <a:pathLst>
                  <a:path w="315" h="672">
                    <a:moveTo>
                      <a:pt x="0" y="0"/>
                    </a:moveTo>
                    <a:lnTo>
                      <a:pt x="35" y="33"/>
                    </a:lnTo>
                    <a:lnTo>
                      <a:pt x="68" y="66"/>
                    </a:lnTo>
                    <a:lnTo>
                      <a:pt x="91" y="111"/>
                    </a:lnTo>
                    <a:lnTo>
                      <a:pt x="124" y="145"/>
                    </a:lnTo>
                    <a:lnTo>
                      <a:pt x="146" y="190"/>
                    </a:lnTo>
                    <a:lnTo>
                      <a:pt x="169" y="235"/>
                    </a:lnTo>
                    <a:lnTo>
                      <a:pt x="190" y="268"/>
                    </a:lnTo>
                    <a:lnTo>
                      <a:pt x="213" y="313"/>
                    </a:lnTo>
                    <a:lnTo>
                      <a:pt x="225" y="359"/>
                    </a:lnTo>
                    <a:lnTo>
                      <a:pt x="247" y="403"/>
                    </a:lnTo>
                    <a:lnTo>
                      <a:pt x="258" y="448"/>
                    </a:lnTo>
                    <a:lnTo>
                      <a:pt x="270" y="493"/>
                    </a:lnTo>
                    <a:lnTo>
                      <a:pt x="281" y="537"/>
                    </a:lnTo>
                    <a:lnTo>
                      <a:pt x="292" y="582"/>
                    </a:lnTo>
                    <a:lnTo>
                      <a:pt x="304" y="627"/>
                    </a:lnTo>
                    <a:lnTo>
                      <a:pt x="315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6710400" y="3395880"/>
                <a:ext cx="218880" cy="116280"/>
              </a:xfrm>
              <a:custGeom>
                <a:avLst/>
                <a:gdLst/>
                <a:ahLst/>
                <a:rect l="l" t="t" r="r" b="b"/>
                <a:pathLst>
                  <a:path w="562" h="302">
                    <a:moveTo>
                      <a:pt x="562" y="0"/>
                    </a:moveTo>
                    <a:lnTo>
                      <a:pt x="528" y="11"/>
                    </a:lnTo>
                    <a:lnTo>
                      <a:pt x="493" y="33"/>
                    </a:lnTo>
                    <a:lnTo>
                      <a:pt x="460" y="56"/>
                    </a:lnTo>
                    <a:lnTo>
                      <a:pt x="427" y="78"/>
                    </a:lnTo>
                    <a:lnTo>
                      <a:pt x="382" y="89"/>
                    </a:lnTo>
                    <a:lnTo>
                      <a:pt x="349" y="112"/>
                    </a:lnTo>
                    <a:lnTo>
                      <a:pt x="315" y="134"/>
                    </a:lnTo>
                    <a:lnTo>
                      <a:pt x="281" y="145"/>
                    </a:lnTo>
                    <a:lnTo>
                      <a:pt x="248" y="168"/>
                    </a:lnTo>
                    <a:lnTo>
                      <a:pt x="214" y="190"/>
                    </a:lnTo>
                    <a:lnTo>
                      <a:pt x="169" y="201"/>
                    </a:lnTo>
                    <a:lnTo>
                      <a:pt x="136" y="223"/>
                    </a:lnTo>
                    <a:lnTo>
                      <a:pt x="101" y="246"/>
                    </a:lnTo>
                    <a:lnTo>
                      <a:pt x="67" y="257"/>
                    </a:lnTo>
                    <a:lnTo>
                      <a:pt x="34" y="279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6553800" y="3337200"/>
                <a:ext cx="14040" cy="105120"/>
              </a:xfrm>
              <a:custGeom>
                <a:avLst/>
                <a:gdLst/>
                <a:ahLst/>
                <a:rect l="l" t="t" r="r" b="b"/>
                <a:pathLst>
                  <a:path w="33" h="269">
                    <a:moveTo>
                      <a:pt x="33" y="269"/>
                    </a:moveTo>
                    <a:lnTo>
                      <a:pt x="33" y="247"/>
                    </a:lnTo>
                    <a:lnTo>
                      <a:pt x="33" y="236"/>
                    </a:lnTo>
                    <a:lnTo>
                      <a:pt x="33" y="214"/>
                    </a:lnTo>
                    <a:lnTo>
                      <a:pt x="33" y="203"/>
                    </a:lnTo>
                    <a:lnTo>
                      <a:pt x="33" y="180"/>
                    </a:lnTo>
                    <a:lnTo>
                      <a:pt x="33" y="170"/>
                    </a:lnTo>
                    <a:lnTo>
                      <a:pt x="22" y="147"/>
                    </a:lnTo>
                    <a:lnTo>
                      <a:pt x="22" y="135"/>
                    </a:lnTo>
                    <a:lnTo>
                      <a:pt x="22" y="113"/>
                    </a:lnTo>
                    <a:lnTo>
                      <a:pt x="11" y="101"/>
                    </a:lnTo>
                    <a:lnTo>
                      <a:pt x="11" y="90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6553800" y="3120120"/>
                <a:ext cx="235800" cy="216720"/>
              </a:xfrm>
              <a:custGeom>
                <a:avLst/>
                <a:gdLst/>
                <a:ahLst/>
                <a:rect l="l" t="t" r="r" b="b"/>
                <a:pathLst>
                  <a:path w="605" h="560">
                    <a:moveTo>
                      <a:pt x="0" y="560"/>
                    </a:move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6572520" y="3141360"/>
                <a:ext cx="342720" cy="352440"/>
              </a:xfrm>
              <a:custGeom>
                <a:avLst/>
                <a:gdLst/>
                <a:ahLst/>
                <a:rect l="l" t="t" r="r" b="b"/>
                <a:pathLst>
                  <a:path w="886" h="908">
                    <a:moveTo>
                      <a:pt x="707" y="168"/>
                    </a:moveTo>
                    <a:lnTo>
                      <a:pt x="717" y="190"/>
                    </a:lnTo>
                    <a:lnTo>
                      <a:pt x="740" y="225"/>
                    </a:lnTo>
                    <a:lnTo>
                      <a:pt x="750" y="247"/>
                    </a:lnTo>
                    <a:lnTo>
                      <a:pt x="762" y="280"/>
                    </a:lnTo>
                    <a:lnTo>
                      <a:pt x="773" y="303"/>
                    </a:lnTo>
                    <a:lnTo>
                      <a:pt x="785" y="336"/>
                    </a:lnTo>
                    <a:lnTo>
                      <a:pt x="796" y="359"/>
                    </a:lnTo>
                    <a:lnTo>
                      <a:pt x="806" y="392"/>
                    </a:lnTo>
                    <a:lnTo>
                      <a:pt x="818" y="415"/>
                    </a:lnTo>
                    <a:lnTo>
                      <a:pt x="829" y="448"/>
                    </a:lnTo>
                    <a:lnTo>
                      <a:pt x="841" y="482"/>
                    </a:lnTo>
                    <a:lnTo>
                      <a:pt x="851" y="504"/>
                    </a:lnTo>
                    <a:lnTo>
                      <a:pt x="851" y="538"/>
                    </a:lnTo>
                    <a:lnTo>
                      <a:pt x="863" y="571"/>
                    </a:lnTo>
                    <a:lnTo>
                      <a:pt x="874" y="594"/>
                    </a:lnTo>
                    <a:lnTo>
                      <a:pt x="886" y="627"/>
                    </a:lnTo>
                    <a:lnTo>
                      <a:pt x="851" y="651"/>
                    </a:lnTo>
                    <a:lnTo>
                      <a:pt x="818" y="662"/>
                    </a:lnTo>
                    <a:lnTo>
                      <a:pt x="785" y="684"/>
                    </a:lnTo>
                    <a:lnTo>
                      <a:pt x="750" y="707"/>
                    </a:lnTo>
                    <a:lnTo>
                      <a:pt x="717" y="718"/>
                    </a:lnTo>
                    <a:lnTo>
                      <a:pt x="684" y="740"/>
                    </a:lnTo>
                    <a:lnTo>
                      <a:pt x="651" y="751"/>
                    </a:lnTo>
                    <a:lnTo>
                      <a:pt x="616" y="773"/>
                    </a:lnTo>
                    <a:lnTo>
                      <a:pt x="583" y="785"/>
                    </a:lnTo>
                    <a:lnTo>
                      <a:pt x="550" y="796"/>
                    </a:lnTo>
                    <a:lnTo>
                      <a:pt x="516" y="819"/>
                    </a:lnTo>
                    <a:lnTo>
                      <a:pt x="482" y="829"/>
                    </a:lnTo>
                    <a:lnTo>
                      <a:pt x="448" y="841"/>
                    </a:lnTo>
                    <a:lnTo>
                      <a:pt x="414" y="864"/>
                    </a:lnTo>
                    <a:lnTo>
                      <a:pt x="381" y="874"/>
                    </a:lnTo>
                    <a:lnTo>
                      <a:pt x="348" y="897"/>
                    </a:lnTo>
                    <a:lnTo>
                      <a:pt x="325" y="897"/>
                    </a:lnTo>
                    <a:lnTo>
                      <a:pt x="313" y="897"/>
                    </a:lnTo>
                    <a:lnTo>
                      <a:pt x="303" y="908"/>
                    </a:lnTo>
                    <a:lnTo>
                      <a:pt x="292" y="897"/>
                    </a:lnTo>
                    <a:lnTo>
                      <a:pt x="280" y="897"/>
                    </a:lnTo>
                    <a:lnTo>
                      <a:pt x="258" y="885"/>
                    </a:lnTo>
                    <a:lnTo>
                      <a:pt x="247" y="885"/>
                    </a:lnTo>
                    <a:lnTo>
                      <a:pt x="235" y="874"/>
                    </a:lnTo>
                    <a:lnTo>
                      <a:pt x="224" y="864"/>
                    </a:lnTo>
                    <a:lnTo>
                      <a:pt x="214" y="852"/>
                    </a:lnTo>
                    <a:lnTo>
                      <a:pt x="202" y="841"/>
                    </a:lnTo>
                    <a:lnTo>
                      <a:pt x="191" y="841"/>
                    </a:lnTo>
                    <a:lnTo>
                      <a:pt x="179" y="829"/>
                    </a:lnTo>
                    <a:lnTo>
                      <a:pt x="168" y="819"/>
                    </a:lnTo>
                    <a:lnTo>
                      <a:pt x="158" y="819"/>
                    </a:lnTo>
                    <a:lnTo>
                      <a:pt x="146" y="807"/>
                    </a:lnTo>
                    <a:lnTo>
                      <a:pt x="135" y="807"/>
                    </a:lnTo>
                    <a:lnTo>
                      <a:pt x="123" y="807"/>
                    </a:lnTo>
                    <a:lnTo>
                      <a:pt x="113" y="796"/>
                    </a:lnTo>
                    <a:lnTo>
                      <a:pt x="102" y="796"/>
                    </a:lnTo>
                    <a:lnTo>
                      <a:pt x="90" y="796"/>
                    </a:lnTo>
                    <a:lnTo>
                      <a:pt x="79" y="785"/>
                    </a:lnTo>
                    <a:lnTo>
                      <a:pt x="67" y="773"/>
                    </a:lnTo>
                    <a:lnTo>
                      <a:pt x="57" y="773"/>
                    </a:lnTo>
                    <a:lnTo>
                      <a:pt x="67" y="751"/>
                    </a:lnTo>
                    <a:lnTo>
                      <a:pt x="67" y="740"/>
                    </a:lnTo>
                    <a:lnTo>
                      <a:pt x="79" y="718"/>
                    </a:lnTo>
                    <a:lnTo>
                      <a:pt x="79" y="707"/>
                    </a:lnTo>
                    <a:lnTo>
                      <a:pt x="67" y="695"/>
                    </a:lnTo>
                    <a:lnTo>
                      <a:pt x="67" y="674"/>
                    </a:lnTo>
                    <a:lnTo>
                      <a:pt x="67" y="662"/>
                    </a:lnTo>
                    <a:lnTo>
                      <a:pt x="57" y="651"/>
                    </a:lnTo>
                    <a:lnTo>
                      <a:pt x="57" y="627"/>
                    </a:lnTo>
                    <a:lnTo>
                      <a:pt x="45" y="617"/>
                    </a:lnTo>
                    <a:lnTo>
                      <a:pt x="45" y="605"/>
                    </a:lnTo>
                    <a:lnTo>
                      <a:pt x="33" y="582"/>
                    </a:lnTo>
                    <a:lnTo>
                      <a:pt x="22" y="571"/>
                    </a:lnTo>
                    <a:lnTo>
                      <a:pt x="22" y="560"/>
                    </a:lnTo>
                    <a:lnTo>
                      <a:pt x="10" y="538"/>
                    </a:lnTo>
                    <a:lnTo>
                      <a:pt x="0" y="526"/>
                    </a:ln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  <a:lnTo>
                      <a:pt x="572" y="11"/>
                    </a:lnTo>
                    <a:lnTo>
                      <a:pt x="583" y="11"/>
                    </a:lnTo>
                    <a:lnTo>
                      <a:pt x="595" y="23"/>
                    </a:lnTo>
                    <a:lnTo>
                      <a:pt x="606" y="33"/>
                    </a:lnTo>
                    <a:lnTo>
                      <a:pt x="606" y="44"/>
                    </a:lnTo>
                    <a:lnTo>
                      <a:pt x="616" y="56"/>
                    </a:lnTo>
                    <a:lnTo>
                      <a:pt x="628" y="67"/>
                    </a:lnTo>
                    <a:lnTo>
                      <a:pt x="639" y="78"/>
                    </a:lnTo>
                    <a:lnTo>
                      <a:pt x="651" y="89"/>
                    </a:lnTo>
                    <a:lnTo>
                      <a:pt x="651" y="101"/>
                    </a:lnTo>
                    <a:lnTo>
                      <a:pt x="661" y="112"/>
                    </a:lnTo>
                    <a:lnTo>
                      <a:pt x="673" y="122"/>
                    </a:lnTo>
                    <a:lnTo>
                      <a:pt x="684" y="134"/>
                    </a:lnTo>
                    <a:lnTo>
                      <a:pt x="684" y="145"/>
                    </a:lnTo>
                    <a:lnTo>
                      <a:pt x="695" y="157"/>
                    </a:lnTo>
                    <a:lnTo>
                      <a:pt x="707" y="16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6845760" y="3206520"/>
                <a:ext cx="69840" cy="180000"/>
              </a:xfrm>
              <a:custGeom>
                <a:avLst/>
                <a:gdLst/>
                <a:ahLst/>
                <a:rect l="l" t="t" r="r" b="b"/>
                <a:pathLst>
                  <a:path w="179" h="459">
                    <a:moveTo>
                      <a:pt x="0" y="0"/>
                    </a:moveTo>
                    <a:lnTo>
                      <a:pt x="10" y="22"/>
                    </a:lnTo>
                    <a:lnTo>
                      <a:pt x="33" y="57"/>
                    </a:lnTo>
                    <a:lnTo>
                      <a:pt x="43" y="79"/>
                    </a:lnTo>
                    <a:lnTo>
                      <a:pt x="55" y="112"/>
                    </a:lnTo>
                    <a:lnTo>
                      <a:pt x="66" y="135"/>
                    </a:lnTo>
                    <a:lnTo>
                      <a:pt x="78" y="168"/>
                    </a:lnTo>
                    <a:lnTo>
                      <a:pt x="89" y="191"/>
                    </a:lnTo>
                    <a:lnTo>
                      <a:pt x="99" y="224"/>
                    </a:lnTo>
                    <a:lnTo>
                      <a:pt x="111" y="247"/>
                    </a:lnTo>
                    <a:lnTo>
                      <a:pt x="122" y="280"/>
                    </a:lnTo>
                    <a:lnTo>
                      <a:pt x="134" y="314"/>
                    </a:lnTo>
                    <a:lnTo>
                      <a:pt x="144" y="336"/>
                    </a:lnTo>
                    <a:lnTo>
                      <a:pt x="144" y="370"/>
                    </a:lnTo>
                    <a:lnTo>
                      <a:pt x="156" y="403"/>
                    </a:lnTo>
                    <a:lnTo>
                      <a:pt x="167" y="426"/>
                    </a:lnTo>
                    <a:lnTo>
                      <a:pt x="179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6707520" y="3386520"/>
                <a:ext cx="207720" cy="104760"/>
              </a:xfrm>
              <a:custGeom>
                <a:avLst/>
                <a:gdLst/>
                <a:ahLst/>
                <a:rect l="l" t="t" r="r" b="b"/>
                <a:pathLst>
                  <a:path w="538" h="270">
                    <a:moveTo>
                      <a:pt x="538" y="0"/>
                    </a:moveTo>
                    <a:lnTo>
                      <a:pt x="503" y="24"/>
                    </a:lnTo>
                    <a:lnTo>
                      <a:pt x="470" y="35"/>
                    </a:lnTo>
                    <a:lnTo>
                      <a:pt x="437" y="57"/>
                    </a:lnTo>
                    <a:lnTo>
                      <a:pt x="402" y="80"/>
                    </a:lnTo>
                    <a:lnTo>
                      <a:pt x="369" y="91"/>
                    </a:lnTo>
                    <a:lnTo>
                      <a:pt x="336" y="113"/>
                    </a:lnTo>
                    <a:lnTo>
                      <a:pt x="303" y="124"/>
                    </a:lnTo>
                    <a:lnTo>
                      <a:pt x="268" y="146"/>
                    </a:lnTo>
                    <a:lnTo>
                      <a:pt x="235" y="158"/>
                    </a:lnTo>
                    <a:lnTo>
                      <a:pt x="202" y="169"/>
                    </a:lnTo>
                    <a:lnTo>
                      <a:pt x="168" y="192"/>
                    </a:lnTo>
                    <a:lnTo>
                      <a:pt x="134" y="202"/>
                    </a:lnTo>
                    <a:lnTo>
                      <a:pt x="100" y="214"/>
                    </a:lnTo>
                    <a:lnTo>
                      <a:pt x="66" y="237"/>
                    </a:lnTo>
                    <a:lnTo>
                      <a:pt x="33" y="247"/>
                    </a:lnTo>
                    <a:lnTo>
                      <a:pt x="0" y="2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572520" y="3346920"/>
                <a:ext cx="29880" cy="95760"/>
              </a:xfrm>
              <a:custGeom>
                <a:avLst/>
                <a:gdLst/>
                <a:ahLst/>
                <a:rect l="l" t="t" r="r" b="b"/>
                <a:pathLst>
                  <a:path w="79" h="247">
                    <a:moveTo>
                      <a:pt x="57" y="247"/>
                    </a:moveTo>
                    <a:lnTo>
                      <a:pt x="67" y="225"/>
                    </a:lnTo>
                    <a:lnTo>
                      <a:pt x="67" y="214"/>
                    </a:lnTo>
                    <a:lnTo>
                      <a:pt x="79" y="192"/>
                    </a:lnTo>
                    <a:lnTo>
                      <a:pt x="79" y="181"/>
                    </a:lnTo>
                    <a:lnTo>
                      <a:pt x="67" y="169"/>
                    </a:lnTo>
                    <a:lnTo>
                      <a:pt x="67" y="148"/>
                    </a:lnTo>
                    <a:lnTo>
                      <a:pt x="67" y="136"/>
                    </a:lnTo>
                    <a:lnTo>
                      <a:pt x="57" y="125"/>
                    </a:lnTo>
                    <a:lnTo>
                      <a:pt x="57" y="101"/>
                    </a:lnTo>
                    <a:lnTo>
                      <a:pt x="45" y="91"/>
                    </a:lnTo>
                    <a:lnTo>
                      <a:pt x="45" y="79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22" y="34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6572520" y="3141360"/>
                <a:ext cx="216720" cy="205200"/>
              </a:xfrm>
              <a:custGeom>
                <a:avLst/>
                <a:gdLst/>
                <a:ahLst/>
                <a:rect l="l" t="t" r="r" b="b"/>
                <a:pathLst>
                  <a:path w="560" h="526">
                    <a:moveTo>
                      <a:pt x="0" y="526"/>
                    </a:move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6789600" y="3141360"/>
                <a:ext cx="55800" cy="64800"/>
              </a:xfrm>
              <a:custGeom>
                <a:avLst/>
                <a:gdLst/>
                <a:ahLst/>
                <a:rect l="l" t="t" r="r" b="b"/>
                <a:pathLst>
                  <a:path w="147" h="168">
                    <a:moveTo>
                      <a:pt x="0" y="0"/>
                    </a:moveTo>
                    <a:lnTo>
                      <a:pt x="12" y="11"/>
                    </a:lnTo>
                    <a:lnTo>
                      <a:pt x="23" y="11"/>
                    </a:lnTo>
                    <a:lnTo>
                      <a:pt x="35" y="23"/>
                    </a:lnTo>
                    <a:lnTo>
                      <a:pt x="46" y="33"/>
                    </a:lnTo>
                    <a:lnTo>
                      <a:pt x="46" y="44"/>
                    </a:lnTo>
                    <a:lnTo>
                      <a:pt x="56" y="56"/>
                    </a:lnTo>
                    <a:lnTo>
                      <a:pt x="68" y="67"/>
                    </a:lnTo>
                    <a:lnTo>
                      <a:pt x="79" y="78"/>
                    </a:lnTo>
                    <a:lnTo>
                      <a:pt x="91" y="89"/>
                    </a:lnTo>
                    <a:lnTo>
                      <a:pt x="91" y="101"/>
                    </a:lnTo>
                    <a:lnTo>
                      <a:pt x="101" y="112"/>
                    </a:lnTo>
                    <a:lnTo>
                      <a:pt x="113" y="122"/>
                    </a:lnTo>
                    <a:lnTo>
                      <a:pt x="124" y="134"/>
                    </a:lnTo>
                    <a:lnTo>
                      <a:pt x="124" y="145"/>
                    </a:lnTo>
                    <a:lnTo>
                      <a:pt x="135" y="157"/>
                    </a:lnTo>
                    <a:lnTo>
                      <a:pt x="147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6703560" y="3416760"/>
                <a:ext cx="270360" cy="1181520"/>
              </a:xfrm>
              <a:custGeom>
                <a:avLst/>
                <a:gdLst/>
                <a:ahLst/>
                <a:rect l="l" t="t" r="r" b="b"/>
                <a:pathLst>
                  <a:path w="696" h="3038">
                    <a:moveTo>
                      <a:pt x="651" y="33"/>
                    </a:moveTo>
                    <a:lnTo>
                      <a:pt x="651" y="89"/>
                    </a:lnTo>
                    <a:lnTo>
                      <a:pt x="662" y="145"/>
                    </a:lnTo>
                    <a:lnTo>
                      <a:pt x="673" y="190"/>
                    </a:lnTo>
                    <a:lnTo>
                      <a:pt x="673" y="246"/>
                    </a:lnTo>
                    <a:lnTo>
                      <a:pt x="673" y="302"/>
                    </a:lnTo>
                    <a:lnTo>
                      <a:pt x="684" y="359"/>
                    </a:lnTo>
                    <a:lnTo>
                      <a:pt x="684" y="415"/>
                    </a:lnTo>
                    <a:lnTo>
                      <a:pt x="684" y="470"/>
                    </a:lnTo>
                    <a:lnTo>
                      <a:pt x="684" y="515"/>
                    </a:lnTo>
                    <a:lnTo>
                      <a:pt x="696" y="571"/>
                    </a:lnTo>
                    <a:lnTo>
                      <a:pt x="696" y="627"/>
                    </a:lnTo>
                    <a:lnTo>
                      <a:pt x="696" y="683"/>
                    </a:lnTo>
                    <a:lnTo>
                      <a:pt x="684" y="739"/>
                    </a:lnTo>
                    <a:lnTo>
                      <a:pt x="684" y="785"/>
                    </a:lnTo>
                    <a:lnTo>
                      <a:pt x="684" y="841"/>
                    </a:lnTo>
                    <a:lnTo>
                      <a:pt x="684" y="897"/>
                    </a:lnTo>
                    <a:lnTo>
                      <a:pt x="684" y="963"/>
                    </a:lnTo>
                    <a:lnTo>
                      <a:pt x="684" y="1019"/>
                    </a:lnTo>
                    <a:lnTo>
                      <a:pt x="684" y="1087"/>
                    </a:lnTo>
                    <a:lnTo>
                      <a:pt x="684" y="1143"/>
                    </a:lnTo>
                    <a:lnTo>
                      <a:pt x="684" y="1210"/>
                    </a:lnTo>
                    <a:lnTo>
                      <a:pt x="684" y="1278"/>
                    </a:lnTo>
                    <a:lnTo>
                      <a:pt x="684" y="1334"/>
                    </a:lnTo>
                    <a:lnTo>
                      <a:pt x="684" y="1401"/>
                    </a:lnTo>
                    <a:lnTo>
                      <a:pt x="684" y="1456"/>
                    </a:lnTo>
                    <a:lnTo>
                      <a:pt x="684" y="1524"/>
                    </a:lnTo>
                    <a:lnTo>
                      <a:pt x="684" y="1580"/>
                    </a:lnTo>
                    <a:lnTo>
                      <a:pt x="684" y="1648"/>
                    </a:lnTo>
                    <a:lnTo>
                      <a:pt x="684" y="1703"/>
                    </a:lnTo>
                    <a:lnTo>
                      <a:pt x="684" y="1759"/>
                    </a:lnTo>
                    <a:lnTo>
                      <a:pt x="673" y="1827"/>
                    </a:lnTo>
                    <a:lnTo>
                      <a:pt x="673" y="1883"/>
                    </a:lnTo>
                    <a:lnTo>
                      <a:pt x="673" y="1916"/>
                    </a:lnTo>
                    <a:lnTo>
                      <a:pt x="673" y="1949"/>
                    </a:lnTo>
                    <a:lnTo>
                      <a:pt x="673" y="1984"/>
                    </a:lnTo>
                    <a:lnTo>
                      <a:pt x="673" y="2017"/>
                    </a:lnTo>
                    <a:lnTo>
                      <a:pt x="673" y="2052"/>
                    </a:lnTo>
                    <a:lnTo>
                      <a:pt x="673" y="2097"/>
                    </a:lnTo>
                    <a:lnTo>
                      <a:pt x="673" y="2130"/>
                    </a:lnTo>
                    <a:lnTo>
                      <a:pt x="673" y="2163"/>
                    </a:lnTo>
                    <a:lnTo>
                      <a:pt x="673" y="2197"/>
                    </a:lnTo>
                    <a:lnTo>
                      <a:pt x="673" y="2231"/>
                    </a:lnTo>
                    <a:lnTo>
                      <a:pt x="673" y="2264"/>
                    </a:lnTo>
                    <a:lnTo>
                      <a:pt x="673" y="2297"/>
                    </a:lnTo>
                    <a:lnTo>
                      <a:pt x="662" y="2331"/>
                    </a:lnTo>
                    <a:lnTo>
                      <a:pt x="662" y="2365"/>
                    </a:lnTo>
                    <a:lnTo>
                      <a:pt x="662" y="2398"/>
                    </a:lnTo>
                    <a:lnTo>
                      <a:pt x="662" y="2442"/>
                    </a:lnTo>
                    <a:lnTo>
                      <a:pt x="651" y="2454"/>
                    </a:lnTo>
                    <a:lnTo>
                      <a:pt x="628" y="2466"/>
                    </a:lnTo>
                    <a:lnTo>
                      <a:pt x="618" y="2477"/>
                    </a:lnTo>
                    <a:lnTo>
                      <a:pt x="595" y="2477"/>
                    </a:lnTo>
                    <a:lnTo>
                      <a:pt x="584" y="2489"/>
                    </a:lnTo>
                    <a:lnTo>
                      <a:pt x="561" y="2501"/>
                    </a:lnTo>
                    <a:lnTo>
                      <a:pt x="550" y="2511"/>
                    </a:lnTo>
                    <a:lnTo>
                      <a:pt x="527" y="2522"/>
                    </a:lnTo>
                    <a:lnTo>
                      <a:pt x="515" y="2522"/>
                    </a:lnTo>
                    <a:lnTo>
                      <a:pt x="493" y="2534"/>
                    </a:lnTo>
                    <a:lnTo>
                      <a:pt x="470" y="2545"/>
                    </a:lnTo>
                    <a:lnTo>
                      <a:pt x="460" y="2556"/>
                    </a:lnTo>
                    <a:lnTo>
                      <a:pt x="437" y="2556"/>
                    </a:lnTo>
                    <a:lnTo>
                      <a:pt x="426" y="2567"/>
                    </a:lnTo>
                    <a:lnTo>
                      <a:pt x="404" y="2578"/>
                    </a:lnTo>
                    <a:lnTo>
                      <a:pt x="393" y="2590"/>
                    </a:lnTo>
                    <a:lnTo>
                      <a:pt x="303" y="2634"/>
                    </a:lnTo>
                    <a:lnTo>
                      <a:pt x="292" y="2656"/>
                    </a:lnTo>
                    <a:lnTo>
                      <a:pt x="292" y="2679"/>
                    </a:lnTo>
                    <a:lnTo>
                      <a:pt x="280" y="2701"/>
                    </a:lnTo>
                    <a:lnTo>
                      <a:pt x="270" y="2724"/>
                    </a:lnTo>
                    <a:lnTo>
                      <a:pt x="270" y="2747"/>
                    </a:lnTo>
                    <a:lnTo>
                      <a:pt x="259" y="2768"/>
                    </a:lnTo>
                    <a:lnTo>
                      <a:pt x="259" y="2791"/>
                    </a:lnTo>
                    <a:lnTo>
                      <a:pt x="247" y="2813"/>
                    </a:lnTo>
                    <a:lnTo>
                      <a:pt x="247" y="2836"/>
                    </a:lnTo>
                    <a:lnTo>
                      <a:pt x="236" y="2858"/>
                    </a:lnTo>
                    <a:lnTo>
                      <a:pt x="224" y="2881"/>
                    </a:lnTo>
                    <a:lnTo>
                      <a:pt x="224" y="2903"/>
                    </a:lnTo>
                    <a:lnTo>
                      <a:pt x="214" y="2938"/>
                    </a:lnTo>
                    <a:lnTo>
                      <a:pt x="214" y="2959"/>
                    </a:lnTo>
                    <a:lnTo>
                      <a:pt x="203" y="2982"/>
                    </a:lnTo>
                    <a:lnTo>
                      <a:pt x="191" y="3004"/>
                    </a:lnTo>
                    <a:lnTo>
                      <a:pt x="180" y="3015"/>
                    </a:lnTo>
                    <a:lnTo>
                      <a:pt x="169" y="3015"/>
                    </a:lnTo>
                    <a:lnTo>
                      <a:pt x="169" y="3027"/>
                    </a:lnTo>
                    <a:lnTo>
                      <a:pt x="158" y="3027"/>
                    </a:lnTo>
                    <a:lnTo>
                      <a:pt x="146" y="3027"/>
                    </a:lnTo>
                    <a:lnTo>
                      <a:pt x="135" y="3038"/>
                    </a:lnTo>
                    <a:lnTo>
                      <a:pt x="123" y="3038"/>
                    </a:lnTo>
                    <a:lnTo>
                      <a:pt x="112" y="3038"/>
                    </a:lnTo>
                    <a:lnTo>
                      <a:pt x="101" y="3038"/>
                    </a:lnTo>
                    <a:lnTo>
                      <a:pt x="89" y="3015"/>
                    </a:lnTo>
                    <a:lnTo>
                      <a:pt x="0" y="2534"/>
                    </a:lnTo>
                    <a:lnTo>
                      <a:pt x="12" y="2534"/>
                    </a:lnTo>
                    <a:lnTo>
                      <a:pt x="12" y="2522"/>
                    </a:lnTo>
                    <a:lnTo>
                      <a:pt x="12" y="2511"/>
                    </a:lnTo>
                    <a:lnTo>
                      <a:pt x="12" y="2501"/>
                    </a:lnTo>
                    <a:lnTo>
                      <a:pt x="22" y="2489"/>
                    </a:lnTo>
                    <a:lnTo>
                      <a:pt x="33" y="2477"/>
                    </a:lnTo>
                    <a:lnTo>
                      <a:pt x="45" y="2466"/>
                    </a:lnTo>
                    <a:lnTo>
                      <a:pt x="56" y="2454"/>
                    </a:lnTo>
                    <a:lnTo>
                      <a:pt x="68" y="2454"/>
                    </a:lnTo>
                    <a:lnTo>
                      <a:pt x="78" y="2442"/>
                    </a:lnTo>
                    <a:lnTo>
                      <a:pt x="89" y="2442"/>
                    </a:lnTo>
                    <a:lnTo>
                      <a:pt x="89" y="2432"/>
                    </a:lnTo>
                    <a:lnTo>
                      <a:pt x="101" y="2432"/>
                    </a:lnTo>
                    <a:lnTo>
                      <a:pt x="112" y="2421"/>
                    </a:lnTo>
                    <a:lnTo>
                      <a:pt x="123" y="2409"/>
                    </a:lnTo>
                    <a:lnTo>
                      <a:pt x="135" y="2398"/>
                    </a:lnTo>
                    <a:lnTo>
                      <a:pt x="158" y="2387"/>
                    </a:lnTo>
                    <a:lnTo>
                      <a:pt x="180" y="2376"/>
                    </a:lnTo>
                    <a:lnTo>
                      <a:pt x="191" y="2365"/>
                    </a:lnTo>
                    <a:lnTo>
                      <a:pt x="214" y="2343"/>
                    </a:lnTo>
                    <a:lnTo>
                      <a:pt x="236" y="2331"/>
                    </a:lnTo>
                    <a:lnTo>
                      <a:pt x="247" y="2320"/>
                    </a:lnTo>
                    <a:lnTo>
                      <a:pt x="270" y="2309"/>
                    </a:lnTo>
                    <a:lnTo>
                      <a:pt x="292" y="2297"/>
                    </a:lnTo>
                    <a:lnTo>
                      <a:pt x="303" y="2287"/>
                    </a:lnTo>
                    <a:lnTo>
                      <a:pt x="325" y="2264"/>
                    </a:lnTo>
                    <a:lnTo>
                      <a:pt x="348" y="2252"/>
                    </a:lnTo>
                    <a:lnTo>
                      <a:pt x="359" y="2242"/>
                    </a:lnTo>
                    <a:lnTo>
                      <a:pt x="381" y="2231"/>
                    </a:lnTo>
                    <a:lnTo>
                      <a:pt x="393" y="2208"/>
                    </a:lnTo>
                    <a:lnTo>
                      <a:pt x="414" y="2197"/>
                    </a:lnTo>
                    <a:lnTo>
                      <a:pt x="414" y="2085"/>
                    </a:lnTo>
                    <a:lnTo>
                      <a:pt x="426" y="1984"/>
                    </a:lnTo>
                    <a:lnTo>
                      <a:pt x="426" y="1871"/>
                    </a:lnTo>
                    <a:lnTo>
                      <a:pt x="426" y="1771"/>
                    </a:lnTo>
                    <a:lnTo>
                      <a:pt x="426" y="1660"/>
                    </a:lnTo>
                    <a:lnTo>
                      <a:pt x="426" y="1547"/>
                    </a:lnTo>
                    <a:lnTo>
                      <a:pt x="426" y="1446"/>
                    </a:lnTo>
                    <a:lnTo>
                      <a:pt x="426" y="1334"/>
                    </a:lnTo>
                    <a:lnTo>
                      <a:pt x="426" y="1222"/>
                    </a:lnTo>
                    <a:lnTo>
                      <a:pt x="426" y="1120"/>
                    </a:lnTo>
                    <a:lnTo>
                      <a:pt x="414" y="1009"/>
                    </a:lnTo>
                    <a:lnTo>
                      <a:pt x="414" y="908"/>
                    </a:lnTo>
                    <a:lnTo>
                      <a:pt x="414" y="796"/>
                    </a:lnTo>
                    <a:lnTo>
                      <a:pt x="414" y="694"/>
                    </a:lnTo>
                    <a:lnTo>
                      <a:pt x="414" y="582"/>
                    </a:lnTo>
                    <a:lnTo>
                      <a:pt x="414" y="481"/>
                    </a:lnTo>
                    <a:lnTo>
                      <a:pt x="414" y="460"/>
                    </a:lnTo>
                    <a:lnTo>
                      <a:pt x="414" y="437"/>
                    </a:lnTo>
                    <a:lnTo>
                      <a:pt x="414" y="415"/>
                    </a:lnTo>
                    <a:lnTo>
                      <a:pt x="414" y="392"/>
                    </a:lnTo>
                    <a:lnTo>
                      <a:pt x="414" y="369"/>
                    </a:lnTo>
                    <a:lnTo>
                      <a:pt x="404" y="347"/>
                    </a:lnTo>
                    <a:lnTo>
                      <a:pt x="404" y="324"/>
                    </a:lnTo>
                    <a:lnTo>
                      <a:pt x="404" y="302"/>
                    </a:lnTo>
                    <a:lnTo>
                      <a:pt x="404" y="279"/>
                    </a:lnTo>
                    <a:lnTo>
                      <a:pt x="393" y="257"/>
                    </a:lnTo>
                    <a:lnTo>
                      <a:pt x="393" y="234"/>
                    </a:lnTo>
                    <a:lnTo>
                      <a:pt x="393" y="213"/>
                    </a:lnTo>
                    <a:lnTo>
                      <a:pt x="381" y="190"/>
                    </a:lnTo>
                    <a:lnTo>
                      <a:pt x="381" y="167"/>
                    </a:lnTo>
                    <a:lnTo>
                      <a:pt x="381" y="145"/>
                    </a:lnTo>
                    <a:lnTo>
                      <a:pt x="381" y="122"/>
                    </a:lnTo>
                    <a:lnTo>
                      <a:pt x="393" y="112"/>
                    </a:lnTo>
                    <a:lnTo>
                      <a:pt x="404" y="112"/>
                    </a:lnTo>
                    <a:lnTo>
                      <a:pt x="414" y="100"/>
                    </a:lnTo>
                    <a:lnTo>
                      <a:pt x="437" y="89"/>
                    </a:lnTo>
                    <a:lnTo>
                      <a:pt x="449" y="78"/>
                    </a:lnTo>
                    <a:lnTo>
                      <a:pt x="460" y="78"/>
                    </a:lnTo>
                    <a:lnTo>
                      <a:pt x="482" y="66"/>
                    </a:lnTo>
                    <a:lnTo>
                      <a:pt x="493" y="56"/>
                    </a:lnTo>
                    <a:lnTo>
                      <a:pt x="515" y="56"/>
                    </a:lnTo>
                    <a:lnTo>
                      <a:pt x="527" y="44"/>
                    </a:lnTo>
                    <a:lnTo>
                      <a:pt x="538" y="33"/>
                    </a:lnTo>
                    <a:lnTo>
                      <a:pt x="561" y="33"/>
                    </a:lnTo>
                    <a:lnTo>
                      <a:pt x="572" y="22"/>
                    </a:lnTo>
                    <a:lnTo>
                      <a:pt x="595" y="11"/>
                    </a:lnTo>
                    <a:lnTo>
                      <a:pt x="606" y="11"/>
                    </a:lnTo>
                    <a:lnTo>
                      <a:pt x="618" y="0"/>
                    </a:lnTo>
                    <a:lnTo>
                      <a:pt x="651" y="3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6955200" y="3431160"/>
                <a:ext cx="18360" cy="333360"/>
              </a:xfrm>
              <a:custGeom>
                <a:avLst/>
                <a:gdLst/>
                <a:ahLst/>
                <a:rect l="l" t="t" r="r" b="b"/>
                <a:pathLst>
                  <a:path w="45" h="864">
                    <a:moveTo>
                      <a:pt x="0" y="0"/>
                    </a:moveTo>
                    <a:lnTo>
                      <a:pt x="0" y="56"/>
                    </a:lnTo>
                    <a:lnTo>
                      <a:pt x="11" y="112"/>
                    </a:lnTo>
                    <a:lnTo>
                      <a:pt x="22" y="157"/>
                    </a:lnTo>
                    <a:lnTo>
                      <a:pt x="22" y="213"/>
                    </a:lnTo>
                    <a:lnTo>
                      <a:pt x="22" y="269"/>
                    </a:lnTo>
                    <a:lnTo>
                      <a:pt x="33" y="326"/>
                    </a:lnTo>
                    <a:lnTo>
                      <a:pt x="33" y="382"/>
                    </a:lnTo>
                    <a:lnTo>
                      <a:pt x="33" y="437"/>
                    </a:lnTo>
                    <a:lnTo>
                      <a:pt x="33" y="482"/>
                    </a:lnTo>
                    <a:lnTo>
                      <a:pt x="45" y="538"/>
                    </a:lnTo>
                    <a:lnTo>
                      <a:pt x="45" y="594"/>
                    </a:lnTo>
                    <a:lnTo>
                      <a:pt x="45" y="650"/>
                    </a:lnTo>
                    <a:lnTo>
                      <a:pt x="33" y="706"/>
                    </a:lnTo>
                    <a:lnTo>
                      <a:pt x="33" y="752"/>
                    </a:lnTo>
                    <a:lnTo>
                      <a:pt x="33" y="808"/>
                    </a:lnTo>
                    <a:lnTo>
                      <a:pt x="33" y="8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6964200" y="3764520"/>
                <a:ext cx="4680" cy="385200"/>
              </a:xfrm>
              <a:custGeom>
                <a:avLst/>
                <a:gdLst/>
                <a:ahLst/>
                <a:rect l="l" t="t" r="r" b="b"/>
                <a:pathLst>
                  <a:path w="11" h="986">
                    <a:moveTo>
                      <a:pt x="11" y="0"/>
                    </a:moveTo>
                    <a:lnTo>
                      <a:pt x="11" y="66"/>
                    </a:lnTo>
                    <a:lnTo>
                      <a:pt x="11" y="122"/>
                    </a:lnTo>
                    <a:lnTo>
                      <a:pt x="11" y="190"/>
                    </a:lnTo>
                    <a:lnTo>
                      <a:pt x="11" y="246"/>
                    </a:lnTo>
                    <a:lnTo>
                      <a:pt x="11" y="313"/>
                    </a:lnTo>
                    <a:lnTo>
                      <a:pt x="11" y="381"/>
                    </a:lnTo>
                    <a:lnTo>
                      <a:pt x="11" y="437"/>
                    </a:lnTo>
                    <a:lnTo>
                      <a:pt x="11" y="504"/>
                    </a:lnTo>
                    <a:lnTo>
                      <a:pt x="11" y="559"/>
                    </a:lnTo>
                    <a:lnTo>
                      <a:pt x="11" y="627"/>
                    </a:lnTo>
                    <a:lnTo>
                      <a:pt x="11" y="683"/>
                    </a:lnTo>
                    <a:lnTo>
                      <a:pt x="11" y="751"/>
                    </a:lnTo>
                    <a:lnTo>
                      <a:pt x="11" y="806"/>
                    </a:lnTo>
                    <a:lnTo>
                      <a:pt x="11" y="862"/>
                    </a:lnTo>
                    <a:lnTo>
                      <a:pt x="0" y="930"/>
                    </a:lnTo>
                    <a:lnTo>
                      <a:pt x="0" y="9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959880" y="4150080"/>
                <a:ext cx="3960" cy="216720"/>
              </a:xfrm>
              <a:custGeom>
                <a:avLst/>
                <a:gdLst/>
                <a:ahLst/>
                <a:rect l="l" t="t" r="r" b="b"/>
                <a:pathLst>
                  <a:path w="11" h="559">
                    <a:moveTo>
                      <a:pt x="11" y="0"/>
                    </a:moveTo>
                    <a:lnTo>
                      <a:pt x="11" y="33"/>
                    </a:lnTo>
                    <a:lnTo>
                      <a:pt x="11" y="66"/>
                    </a:lnTo>
                    <a:lnTo>
                      <a:pt x="11" y="101"/>
                    </a:lnTo>
                    <a:lnTo>
                      <a:pt x="11" y="134"/>
                    </a:lnTo>
                    <a:lnTo>
                      <a:pt x="11" y="169"/>
                    </a:lnTo>
                    <a:lnTo>
                      <a:pt x="11" y="214"/>
                    </a:lnTo>
                    <a:lnTo>
                      <a:pt x="11" y="247"/>
                    </a:lnTo>
                    <a:lnTo>
                      <a:pt x="11" y="280"/>
                    </a:lnTo>
                    <a:lnTo>
                      <a:pt x="11" y="314"/>
                    </a:lnTo>
                    <a:lnTo>
                      <a:pt x="11" y="348"/>
                    </a:lnTo>
                    <a:lnTo>
                      <a:pt x="11" y="381"/>
                    </a:lnTo>
                    <a:lnTo>
                      <a:pt x="11" y="414"/>
                    </a:lnTo>
                    <a:lnTo>
                      <a:pt x="0" y="448"/>
                    </a:lnTo>
                    <a:lnTo>
                      <a:pt x="0" y="482"/>
                    </a:lnTo>
                    <a:lnTo>
                      <a:pt x="0" y="515"/>
                    </a:lnTo>
                    <a:lnTo>
                      <a:pt x="0" y="5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6778080" y="4441680"/>
                <a:ext cx="41760" cy="144720"/>
              </a:xfrm>
              <a:custGeom>
                <a:avLst/>
                <a:gdLst/>
                <a:ahLst/>
                <a:rect l="l" t="t" r="r" b="b"/>
                <a:pathLst>
                  <a:path w="112" h="370">
                    <a:moveTo>
                      <a:pt x="112" y="0"/>
                    </a:moveTo>
                    <a:lnTo>
                      <a:pt x="101" y="22"/>
                    </a:lnTo>
                    <a:lnTo>
                      <a:pt x="101" y="45"/>
                    </a:lnTo>
                    <a:lnTo>
                      <a:pt x="89" y="67"/>
                    </a:lnTo>
                    <a:lnTo>
                      <a:pt x="79" y="90"/>
                    </a:lnTo>
                    <a:lnTo>
                      <a:pt x="79" y="113"/>
                    </a:lnTo>
                    <a:lnTo>
                      <a:pt x="68" y="134"/>
                    </a:lnTo>
                    <a:lnTo>
                      <a:pt x="68" y="157"/>
                    </a:lnTo>
                    <a:lnTo>
                      <a:pt x="56" y="179"/>
                    </a:lnTo>
                    <a:lnTo>
                      <a:pt x="56" y="202"/>
                    </a:lnTo>
                    <a:lnTo>
                      <a:pt x="45" y="224"/>
                    </a:lnTo>
                    <a:lnTo>
                      <a:pt x="33" y="247"/>
                    </a:lnTo>
                    <a:lnTo>
                      <a:pt x="33" y="269"/>
                    </a:lnTo>
                    <a:lnTo>
                      <a:pt x="23" y="304"/>
                    </a:lnTo>
                    <a:lnTo>
                      <a:pt x="23" y="325"/>
                    </a:lnTo>
                    <a:lnTo>
                      <a:pt x="12" y="348"/>
                    </a:lnTo>
                    <a:lnTo>
                      <a:pt x="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6703560" y="4402080"/>
                <a:ext cx="36720" cy="196200"/>
              </a:xfrm>
              <a:custGeom>
                <a:avLst/>
                <a:gdLst/>
                <a:ahLst/>
                <a:rect l="l" t="t" r="r" b="b"/>
                <a:pathLst>
                  <a:path w="101" h="504">
                    <a:moveTo>
                      <a:pt x="101" y="504"/>
                    </a:moveTo>
                    <a:lnTo>
                      <a:pt x="89" y="48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750000" y="42710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91" h="212">
                    <a:moveTo>
                      <a:pt x="0" y="212"/>
                    </a:moveTo>
                    <a:lnTo>
                      <a:pt x="12" y="201"/>
                    </a:lnTo>
                    <a:lnTo>
                      <a:pt x="35" y="190"/>
                    </a:lnTo>
                    <a:lnTo>
                      <a:pt x="57" y="179"/>
                    </a:lnTo>
                    <a:lnTo>
                      <a:pt x="68" y="168"/>
                    </a:lnTo>
                    <a:lnTo>
                      <a:pt x="91" y="146"/>
                    </a:lnTo>
                    <a:lnTo>
                      <a:pt x="113" y="134"/>
                    </a:lnTo>
                    <a:lnTo>
                      <a:pt x="124" y="123"/>
                    </a:lnTo>
                    <a:lnTo>
                      <a:pt x="147" y="112"/>
                    </a:lnTo>
                    <a:lnTo>
                      <a:pt x="169" y="100"/>
                    </a:lnTo>
                    <a:lnTo>
                      <a:pt x="180" y="90"/>
                    </a:lnTo>
                    <a:lnTo>
                      <a:pt x="202" y="67"/>
                    </a:lnTo>
                    <a:lnTo>
                      <a:pt x="225" y="55"/>
                    </a:lnTo>
                    <a:lnTo>
                      <a:pt x="236" y="45"/>
                    </a:lnTo>
                    <a:lnTo>
                      <a:pt x="258" y="34"/>
                    </a:lnTo>
                    <a:lnTo>
                      <a:pt x="270" y="11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6864120" y="3603600"/>
                <a:ext cx="4680" cy="667440"/>
              </a:xfrm>
              <a:custGeom>
                <a:avLst/>
                <a:gdLst/>
                <a:ahLst/>
                <a:rect l="l" t="t" r="r" b="b"/>
                <a:pathLst>
                  <a:path w="12" h="1716">
                    <a:moveTo>
                      <a:pt x="0" y="1716"/>
                    </a:moveTo>
                    <a:lnTo>
                      <a:pt x="0" y="1604"/>
                    </a:lnTo>
                    <a:lnTo>
                      <a:pt x="12" y="1503"/>
                    </a:lnTo>
                    <a:lnTo>
                      <a:pt x="12" y="1390"/>
                    </a:lnTo>
                    <a:lnTo>
                      <a:pt x="12" y="1290"/>
                    </a:lnTo>
                    <a:lnTo>
                      <a:pt x="12" y="1179"/>
                    </a:lnTo>
                    <a:lnTo>
                      <a:pt x="12" y="1066"/>
                    </a:lnTo>
                    <a:lnTo>
                      <a:pt x="12" y="965"/>
                    </a:lnTo>
                    <a:lnTo>
                      <a:pt x="12" y="853"/>
                    </a:lnTo>
                    <a:lnTo>
                      <a:pt x="12" y="741"/>
                    </a:lnTo>
                    <a:lnTo>
                      <a:pt x="12" y="639"/>
                    </a:lnTo>
                    <a:lnTo>
                      <a:pt x="0" y="528"/>
                    </a:lnTo>
                    <a:lnTo>
                      <a:pt x="0" y="427"/>
                    </a:lnTo>
                    <a:lnTo>
                      <a:pt x="0" y="315"/>
                    </a:lnTo>
                    <a:lnTo>
                      <a:pt x="0" y="213"/>
                    </a:lnTo>
                    <a:lnTo>
                      <a:pt x="0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6850080" y="3463920"/>
                <a:ext cx="14040" cy="139680"/>
              </a:xfrm>
              <a:custGeom>
                <a:avLst/>
                <a:gdLst/>
                <a:ahLst/>
                <a:rect l="l" t="t" r="r" b="b"/>
                <a:pathLst>
                  <a:path w="33" h="359">
                    <a:moveTo>
                      <a:pt x="33" y="359"/>
                    </a:moveTo>
                    <a:lnTo>
                      <a:pt x="33" y="338"/>
                    </a:lnTo>
                    <a:lnTo>
                      <a:pt x="33" y="315"/>
                    </a:lnTo>
                    <a:lnTo>
                      <a:pt x="33" y="293"/>
                    </a:lnTo>
                    <a:lnTo>
                      <a:pt x="33" y="270"/>
                    </a:lnTo>
                    <a:lnTo>
                      <a:pt x="33" y="247"/>
                    </a:lnTo>
                    <a:lnTo>
                      <a:pt x="23" y="225"/>
                    </a:lnTo>
                    <a:lnTo>
                      <a:pt x="23" y="202"/>
                    </a:lnTo>
                    <a:lnTo>
                      <a:pt x="23" y="180"/>
                    </a:lnTo>
                    <a:lnTo>
                      <a:pt x="23" y="157"/>
                    </a:lnTo>
                    <a:lnTo>
                      <a:pt x="12" y="135"/>
                    </a:lnTo>
                    <a:lnTo>
                      <a:pt x="12" y="112"/>
                    </a:lnTo>
                    <a:lnTo>
                      <a:pt x="12" y="91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6719400" y="3442680"/>
                <a:ext cx="226440" cy="1139040"/>
              </a:xfrm>
              <a:custGeom>
                <a:avLst/>
                <a:gdLst/>
                <a:ahLst/>
                <a:rect l="l" t="t" r="r" b="b"/>
                <a:pathLst>
                  <a:path w="583" h="2928">
                    <a:moveTo>
                      <a:pt x="561" y="0"/>
                    </a:moveTo>
                    <a:lnTo>
                      <a:pt x="561" y="34"/>
                    </a:lnTo>
                    <a:lnTo>
                      <a:pt x="573" y="56"/>
                    </a:lnTo>
                    <a:lnTo>
                      <a:pt x="573" y="91"/>
                    </a:lnTo>
                    <a:lnTo>
                      <a:pt x="573" y="124"/>
                    </a:lnTo>
                    <a:lnTo>
                      <a:pt x="573" y="147"/>
                    </a:lnTo>
                    <a:lnTo>
                      <a:pt x="573" y="180"/>
                    </a:lnTo>
                    <a:lnTo>
                      <a:pt x="573" y="202"/>
                    </a:lnTo>
                    <a:lnTo>
                      <a:pt x="573" y="236"/>
                    </a:lnTo>
                    <a:lnTo>
                      <a:pt x="573" y="269"/>
                    </a:lnTo>
                    <a:lnTo>
                      <a:pt x="573" y="293"/>
                    </a:lnTo>
                    <a:lnTo>
                      <a:pt x="573" y="326"/>
                    </a:lnTo>
                    <a:lnTo>
                      <a:pt x="573" y="349"/>
                    </a:lnTo>
                    <a:lnTo>
                      <a:pt x="583" y="382"/>
                    </a:lnTo>
                    <a:lnTo>
                      <a:pt x="583" y="415"/>
                    </a:lnTo>
                    <a:lnTo>
                      <a:pt x="583" y="438"/>
                    </a:lnTo>
                    <a:lnTo>
                      <a:pt x="583" y="472"/>
                    </a:lnTo>
                    <a:lnTo>
                      <a:pt x="583" y="1929"/>
                    </a:lnTo>
                    <a:lnTo>
                      <a:pt x="573" y="1951"/>
                    </a:lnTo>
                    <a:lnTo>
                      <a:pt x="573" y="1974"/>
                    </a:lnTo>
                    <a:lnTo>
                      <a:pt x="573" y="2008"/>
                    </a:lnTo>
                    <a:lnTo>
                      <a:pt x="573" y="2031"/>
                    </a:lnTo>
                    <a:lnTo>
                      <a:pt x="573" y="2064"/>
                    </a:lnTo>
                    <a:lnTo>
                      <a:pt x="573" y="2087"/>
                    </a:lnTo>
                    <a:lnTo>
                      <a:pt x="573" y="2120"/>
                    </a:lnTo>
                    <a:lnTo>
                      <a:pt x="573" y="2142"/>
                    </a:lnTo>
                    <a:lnTo>
                      <a:pt x="573" y="2176"/>
                    </a:lnTo>
                    <a:lnTo>
                      <a:pt x="573" y="2198"/>
                    </a:lnTo>
                    <a:lnTo>
                      <a:pt x="573" y="2231"/>
                    </a:lnTo>
                    <a:lnTo>
                      <a:pt x="573" y="2254"/>
                    </a:lnTo>
                    <a:lnTo>
                      <a:pt x="573" y="2287"/>
                    </a:lnTo>
                    <a:lnTo>
                      <a:pt x="573" y="2310"/>
                    </a:lnTo>
                    <a:lnTo>
                      <a:pt x="573" y="2343"/>
                    </a:lnTo>
                    <a:lnTo>
                      <a:pt x="573" y="2366"/>
                    </a:lnTo>
                    <a:lnTo>
                      <a:pt x="550" y="2376"/>
                    </a:lnTo>
                    <a:lnTo>
                      <a:pt x="539" y="2388"/>
                    </a:lnTo>
                    <a:lnTo>
                      <a:pt x="516" y="2400"/>
                    </a:lnTo>
                    <a:lnTo>
                      <a:pt x="493" y="2411"/>
                    </a:lnTo>
                    <a:lnTo>
                      <a:pt x="482" y="2423"/>
                    </a:lnTo>
                    <a:lnTo>
                      <a:pt x="460" y="2435"/>
                    </a:lnTo>
                    <a:lnTo>
                      <a:pt x="437" y="2445"/>
                    </a:lnTo>
                    <a:lnTo>
                      <a:pt x="425" y="2456"/>
                    </a:lnTo>
                    <a:lnTo>
                      <a:pt x="404" y="2456"/>
                    </a:lnTo>
                    <a:lnTo>
                      <a:pt x="381" y="2468"/>
                    </a:lnTo>
                    <a:lnTo>
                      <a:pt x="359" y="2479"/>
                    </a:lnTo>
                    <a:lnTo>
                      <a:pt x="348" y="2490"/>
                    </a:lnTo>
                    <a:lnTo>
                      <a:pt x="326" y="2501"/>
                    </a:lnTo>
                    <a:lnTo>
                      <a:pt x="303" y="2501"/>
                    </a:lnTo>
                    <a:lnTo>
                      <a:pt x="280" y="2512"/>
                    </a:lnTo>
                    <a:lnTo>
                      <a:pt x="270" y="2524"/>
                    </a:lnTo>
                    <a:lnTo>
                      <a:pt x="235" y="2546"/>
                    </a:lnTo>
                    <a:lnTo>
                      <a:pt x="225" y="2580"/>
                    </a:lnTo>
                    <a:lnTo>
                      <a:pt x="225" y="2602"/>
                    </a:lnTo>
                    <a:lnTo>
                      <a:pt x="214" y="2625"/>
                    </a:lnTo>
                    <a:lnTo>
                      <a:pt x="202" y="2646"/>
                    </a:lnTo>
                    <a:lnTo>
                      <a:pt x="202" y="2669"/>
                    </a:lnTo>
                    <a:lnTo>
                      <a:pt x="191" y="2691"/>
                    </a:lnTo>
                    <a:lnTo>
                      <a:pt x="191" y="2725"/>
                    </a:lnTo>
                    <a:lnTo>
                      <a:pt x="179" y="2747"/>
                    </a:lnTo>
                    <a:lnTo>
                      <a:pt x="179" y="2770"/>
                    </a:lnTo>
                    <a:lnTo>
                      <a:pt x="169" y="2792"/>
                    </a:lnTo>
                    <a:lnTo>
                      <a:pt x="158" y="2815"/>
                    </a:lnTo>
                    <a:lnTo>
                      <a:pt x="158" y="2837"/>
                    </a:lnTo>
                    <a:lnTo>
                      <a:pt x="146" y="2860"/>
                    </a:lnTo>
                    <a:lnTo>
                      <a:pt x="135" y="2883"/>
                    </a:lnTo>
                    <a:lnTo>
                      <a:pt x="124" y="2905"/>
                    </a:lnTo>
                    <a:lnTo>
                      <a:pt x="113" y="2928"/>
                    </a:lnTo>
                    <a:lnTo>
                      <a:pt x="101" y="2928"/>
                    </a:lnTo>
                    <a:lnTo>
                      <a:pt x="90" y="2928"/>
                    </a:lnTo>
                    <a:lnTo>
                      <a:pt x="90" y="2916"/>
                    </a:lnTo>
                    <a:lnTo>
                      <a:pt x="78" y="2905"/>
                    </a:lnTo>
                    <a:lnTo>
                      <a:pt x="78" y="2883"/>
                    </a:lnTo>
                    <a:lnTo>
                      <a:pt x="78" y="2872"/>
                    </a:lnTo>
                    <a:lnTo>
                      <a:pt x="78" y="2860"/>
                    </a:lnTo>
                    <a:lnTo>
                      <a:pt x="78" y="2849"/>
                    </a:lnTo>
                    <a:lnTo>
                      <a:pt x="78" y="2837"/>
                    </a:lnTo>
                    <a:lnTo>
                      <a:pt x="78" y="2825"/>
                    </a:lnTo>
                    <a:lnTo>
                      <a:pt x="67" y="2815"/>
                    </a:lnTo>
                    <a:lnTo>
                      <a:pt x="67" y="2803"/>
                    </a:lnTo>
                    <a:lnTo>
                      <a:pt x="67" y="2792"/>
                    </a:lnTo>
                    <a:lnTo>
                      <a:pt x="67" y="2780"/>
                    </a:lnTo>
                    <a:lnTo>
                      <a:pt x="67" y="2770"/>
                    </a:lnTo>
                    <a:lnTo>
                      <a:pt x="56" y="2758"/>
                    </a:lnTo>
                    <a:lnTo>
                      <a:pt x="56" y="2747"/>
                    </a:lnTo>
                    <a:lnTo>
                      <a:pt x="44" y="2725"/>
                    </a:lnTo>
                    <a:lnTo>
                      <a:pt x="44" y="2714"/>
                    </a:lnTo>
                    <a:lnTo>
                      <a:pt x="44" y="2691"/>
                    </a:lnTo>
                    <a:lnTo>
                      <a:pt x="44" y="2669"/>
                    </a:lnTo>
                    <a:lnTo>
                      <a:pt x="33" y="2658"/>
                    </a:lnTo>
                    <a:lnTo>
                      <a:pt x="33" y="2635"/>
                    </a:lnTo>
                    <a:lnTo>
                      <a:pt x="33" y="2613"/>
                    </a:lnTo>
                    <a:lnTo>
                      <a:pt x="33" y="2602"/>
                    </a:lnTo>
                    <a:lnTo>
                      <a:pt x="23" y="2580"/>
                    </a:lnTo>
                    <a:lnTo>
                      <a:pt x="23" y="2557"/>
                    </a:lnTo>
                    <a:lnTo>
                      <a:pt x="23" y="2546"/>
                    </a:lnTo>
                    <a:lnTo>
                      <a:pt x="11" y="2524"/>
                    </a:lnTo>
                    <a:lnTo>
                      <a:pt x="11" y="2501"/>
                    </a:lnTo>
                    <a:lnTo>
                      <a:pt x="11" y="2490"/>
                    </a:lnTo>
                    <a:lnTo>
                      <a:pt x="0" y="2468"/>
                    </a:lnTo>
                    <a:lnTo>
                      <a:pt x="0" y="2445"/>
                    </a:lnTo>
                    <a:lnTo>
                      <a:pt x="11" y="2435"/>
                    </a:lnTo>
                    <a:lnTo>
                      <a:pt x="33" y="2423"/>
                    </a:lnTo>
                    <a:lnTo>
                      <a:pt x="44" y="2411"/>
                    </a:lnTo>
                    <a:lnTo>
                      <a:pt x="56" y="2388"/>
                    </a:lnTo>
                    <a:lnTo>
                      <a:pt x="78" y="2376"/>
                    </a:lnTo>
                    <a:lnTo>
                      <a:pt x="90" y="2366"/>
                    </a:lnTo>
                    <a:lnTo>
                      <a:pt x="113" y="2355"/>
                    </a:lnTo>
                    <a:lnTo>
                      <a:pt x="124" y="2343"/>
                    </a:lnTo>
                    <a:lnTo>
                      <a:pt x="146" y="2332"/>
                    </a:lnTo>
                    <a:lnTo>
                      <a:pt x="158" y="2321"/>
                    </a:lnTo>
                    <a:lnTo>
                      <a:pt x="179" y="2310"/>
                    </a:lnTo>
                    <a:lnTo>
                      <a:pt x="191" y="2299"/>
                    </a:lnTo>
                    <a:lnTo>
                      <a:pt x="214" y="2287"/>
                    </a:lnTo>
                    <a:lnTo>
                      <a:pt x="225" y="2277"/>
                    </a:lnTo>
                    <a:lnTo>
                      <a:pt x="235" y="2265"/>
                    </a:lnTo>
                    <a:lnTo>
                      <a:pt x="258" y="2254"/>
                    </a:lnTo>
                    <a:lnTo>
                      <a:pt x="270" y="2243"/>
                    </a:lnTo>
                    <a:lnTo>
                      <a:pt x="280" y="2243"/>
                    </a:lnTo>
                    <a:lnTo>
                      <a:pt x="280" y="2231"/>
                    </a:lnTo>
                    <a:lnTo>
                      <a:pt x="292" y="2231"/>
                    </a:lnTo>
                    <a:lnTo>
                      <a:pt x="303" y="2221"/>
                    </a:lnTo>
                    <a:lnTo>
                      <a:pt x="314" y="2221"/>
                    </a:lnTo>
                    <a:lnTo>
                      <a:pt x="326" y="2209"/>
                    </a:lnTo>
                    <a:lnTo>
                      <a:pt x="336" y="2198"/>
                    </a:lnTo>
                    <a:lnTo>
                      <a:pt x="348" y="2198"/>
                    </a:lnTo>
                    <a:lnTo>
                      <a:pt x="348" y="2186"/>
                    </a:lnTo>
                    <a:lnTo>
                      <a:pt x="359" y="2176"/>
                    </a:lnTo>
                    <a:lnTo>
                      <a:pt x="369" y="2176"/>
                    </a:lnTo>
                    <a:lnTo>
                      <a:pt x="381" y="2165"/>
                    </a:lnTo>
                    <a:lnTo>
                      <a:pt x="392" y="2153"/>
                    </a:lnTo>
                    <a:lnTo>
                      <a:pt x="392" y="2142"/>
                    </a:lnTo>
                    <a:lnTo>
                      <a:pt x="404" y="2142"/>
                    </a:lnTo>
                    <a:lnTo>
                      <a:pt x="404" y="2131"/>
                    </a:lnTo>
                    <a:lnTo>
                      <a:pt x="404" y="2120"/>
                    </a:lnTo>
                    <a:lnTo>
                      <a:pt x="404" y="2109"/>
                    </a:lnTo>
                    <a:lnTo>
                      <a:pt x="404" y="2097"/>
                    </a:lnTo>
                    <a:lnTo>
                      <a:pt x="404" y="2087"/>
                    </a:lnTo>
                    <a:lnTo>
                      <a:pt x="404" y="2075"/>
                    </a:lnTo>
                    <a:lnTo>
                      <a:pt x="404" y="2064"/>
                    </a:lnTo>
                    <a:lnTo>
                      <a:pt x="404" y="2053"/>
                    </a:lnTo>
                    <a:lnTo>
                      <a:pt x="404" y="2041"/>
                    </a:lnTo>
                    <a:lnTo>
                      <a:pt x="404" y="2031"/>
                    </a:lnTo>
                    <a:lnTo>
                      <a:pt x="404" y="2019"/>
                    </a:lnTo>
                    <a:lnTo>
                      <a:pt x="404" y="2008"/>
                    </a:lnTo>
                    <a:lnTo>
                      <a:pt x="404" y="1996"/>
                    </a:lnTo>
                    <a:lnTo>
                      <a:pt x="415" y="1986"/>
                    </a:lnTo>
                    <a:lnTo>
                      <a:pt x="415" y="1951"/>
                    </a:lnTo>
                    <a:lnTo>
                      <a:pt x="415" y="1918"/>
                    </a:lnTo>
                    <a:lnTo>
                      <a:pt x="415" y="1895"/>
                    </a:lnTo>
                    <a:lnTo>
                      <a:pt x="425" y="1862"/>
                    </a:lnTo>
                    <a:lnTo>
                      <a:pt x="425" y="1828"/>
                    </a:lnTo>
                    <a:lnTo>
                      <a:pt x="425" y="1794"/>
                    </a:lnTo>
                    <a:lnTo>
                      <a:pt x="425" y="1772"/>
                    </a:lnTo>
                    <a:lnTo>
                      <a:pt x="425" y="1738"/>
                    </a:lnTo>
                    <a:lnTo>
                      <a:pt x="425" y="1705"/>
                    </a:lnTo>
                    <a:lnTo>
                      <a:pt x="425" y="1683"/>
                    </a:lnTo>
                    <a:lnTo>
                      <a:pt x="425" y="1649"/>
                    </a:lnTo>
                    <a:lnTo>
                      <a:pt x="425" y="1615"/>
                    </a:lnTo>
                    <a:lnTo>
                      <a:pt x="425" y="1594"/>
                    </a:lnTo>
                    <a:lnTo>
                      <a:pt x="425" y="1559"/>
                    </a:lnTo>
                    <a:lnTo>
                      <a:pt x="425" y="1525"/>
                    </a:lnTo>
                    <a:lnTo>
                      <a:pt x="437" y="1502"/>
                    </a:lnTo>
                    <a:lnTo>
                      <a:pt x="437" y="1491"/>
                    </a:lnTo>
                    <a:lnTo>
                      <a:pt x="425" y="1481"/>
                    </a:lnTo>
                    <a:lnTo>
                      <a:pt x="425" y="1469"/>
                    </a:lnTo>
                    <a:lnTo>
                      <a:pt x="425" y="1458"/>
                    </a:lnTo>
                    <a:lnTo>
                      <a:pt x="425" y="1446"/>
                    </a:lnTo>
                    <a:lnTo>
                      <a:pt x="425" y="1436"/>
                    </a:lnTo>
                    <a:lnTo>
                      <a:pt x="425" y="1424"/>
                    </a:lnTo>
                    <a:lnTo>
                      <a:pt x="425" y="1413"/>
                    </a:lnTo>
                    <a:lnTo>
                      <a:pt x="425" y="1402"/>
                    </a:lnTo>
                    <a:lnTo>
                      <a:pt x="425" y="1390"/>
                    </a:lnTo>
                    <a:lnTo>
                      <a:pt x="425" y="1380"/>
                    </a:lnTo>
                    <a:lnTo>
                      <a:pt x="425" y="1368"/>
                    </a:lnTo>
                    <a:lnTo>
                      <a:pt x="425" y="1357"/>
                    </a:lnTo>
                    <a:lnTo>
                      <a:pt x="425" y="1346"/>
                    </a:lnTo>
                    <a:lnTo>
                      <a:pt x="425" y="1335"/>
                    </a:lnTo>
                    <a:lnTo>
                      <a:pt x="425" y="1324"/>
                    </a:lnTo>
                    <a:lnTo>
                      <a:pt x="425" y="1291"/>
                    </a:lnTo>
                    <a:lnTo>
                      <a:pt x="425" y="1245"/>
                    </a:lnTo>
                    <a:lnTo>
                      <a:pt x="425" y="1212"/>
                    </a:lnTo>
                    <a:lnTo>
                      <a:pt x="425" y="1167"/>
                    </a:lnTo>
                    <a:lnTo>
                      <a:pt x="425" y="1134"/>
                    </a:lnTo>
                    <a:lnTo>
                      <a:pt x="425" y="1087"/>
                    </a:lnTo>
                    <a:lnTo>
                      <a:pt x="425" y="1043"/>
                    </a:lnTo>
                    <a:lnTo>
                      <a:pt x="425" y="1009"/>
                    </a:lnTo>
                    <a:lnTo>
                      <a:pt x="425" y="965"/>
                    </a:lnTo>
                    <a:lnTo>
                      <a:pt x="425" y="931"/>
                    </a:lnTo>
                    <a:lnTo>
                      <a:pt x="425" y="887"/>
                    </a:lnTo>
                    <a:lnTo>
                      <a:pt x="425" y="842"/>
                    </a:lnTo>
                    <a:lnTo>
                      <a:pt x="437" y="808"/>
                    </a:lnTo>
                    <a:lnTo>
                      <a:pt x="437" y="763"/>
                    </a:lnTo>
                    <a:lnTo>
                      <a:pt x="437" y="730"/>
                    </a:lnTo>
                    <a:lnTo>
                      <a:pt x="437" y="684"/>
                    </a:lnTo>
                    <a:lnTo>
                      <a:pt x="437" y="662"/>
                    </a:lnTo>
                    <a:lnTo>
                      <a:pt x="448" y="628"/>
                    </a:lnTo>
                    <a:lnTo>
                      <a:pt x="448" y="605"/>
                    </a:lnTo>
                    <a:lnTo>
                      <a:pt x="448" y="584"/>
                    </a:lnTo>
                    <a:lnTo>
                      <a:pt x="448" y="549"/>
                    </a:lnTo>
                    <a:lnTo>
                      <a:pt x="448" y="528"/>
                    </a:lnTo>
                    <a:lnTo>
                      <a:pt x="437" y="493"/>
                    </a:lnTo>
                    <a:lnTo>
                      <a:pt x="437" y="472"/>
                    </a:lnTo>
                    <a:lnTo>
                      <a:pt x="437" y="449"/>
                    </a:lnTo>
                    <a:lnTo>
                      <a:pt x="437" y="427"/>
                    </a:lnTo>
                    <a:lnTo>
                      <a:pt x="437" y="394"/>
                    </a:lnTo>
                    <a:lnTo>
                      <a:pt x="437" y="371"/>
                    </a:lnTo>
                    <a:lnTo>
                      <a:pt x="437" y="338"/>
                    </a:lnTo>
                    <a:lnTo>
                      <a:pt x="437" y="315"/>
                    </a:lnTo>
                    <a:lnTo>
                      <a:pt x="437" y="293"/>
                    </a:lnTo>
                    <a:lnTo>
                      <a:pt x="437" y="258"/>
                    </a:lnTo>
                    <a:lnTo>
                      <a:pt x="425" y="246"/>
                    </a:lnTo>
                    <a:lnTo>
                      <a:pt x="425" y="236"/>
                    </a:lnTo>
                    <a:lnTo>
                      <a:pt x="425" y="224"/>
                    </a:lnTo>
                    <a:lnTo>
                      <a:pt x="425" y="213"/>
                    </a:lnTo>
                    <a:lnTo>
                      <a:pt x="415" y="202"/>
                    </a:lnTo>
                    <a:lnTo>
                      <a:pt x="415" y="191"/>
                    </a:lnTo>
                    <a:lnTo>
                      <a:pt x="415" y="180"/>
                    </a:lnTo>
                    <a:lnTo>
                      <a:pt x="415" y="157"/>
                    </a:lnTo>
                    <a:lnTo>
                      <a:pt x="415" y="147"/>
                    </a:lnTo>
                    <a:lnTo>
                      <a:pt x="415" y="135"/>
                    </a:lnTo>
                    <a:lnTo>
                      <a:pt x="415" y="124"/>
                    </a:lnTo>
                    <a:lnTo>
                      <a:pt x="415" y="112"/>
                    </a:lnTo>
                    <a:lnTo>
                      <a:pt x="415" y="101"/>
                    </a:lnTo>
                    <a:lnTo>
                      <a:pt x="415" y="91"/>
                    </a:lnTo>
                    <a:lnTo>
                      <a:pt x="425" y="68"/>
                    </a:lnTo>
                    <a:lnTo>
                      <a:pt x="425" y="56"/>
                    </a:lnTo>
                    <a:lnTo>
                      <a:pt x="437" y="56"/>
                    </a:lnTo>
                    <a:lnTo>
                      <a:pt x="448" y="46"/>
                    </a:lnTo>
                    <a:lnTo>
                      <a:pt x="460" y="46"/>
                    </a:lnTo>
                    <a:lnTo>
                      <a:pt x="470" y="46"/>
                    </a:lnTo>
                    <a:lnTo>
                      <a:pt x="470" y="34"/>
                    </a:lnTo>
                    <a:lnTo>
                      <a:pt x="482" y="34"/>
                    </a:lnTo>
                    <a:lnTo>
                      <a:pt x="493" y="23"/>
                    </a:lnTo>
                    <a:lnTo>
                      <a:pt x="505" y="23"/>
                    </a:lnTo>
                    <a:lnTo>
                      <a:pt x="516" y="12"/>
                    </a:lnTo>
                    <a:lnTo>
                      <a:pt x="527" y="12"/>
                    </a:lnTo>
                    <a:lnTo>
                      <a:pt x="539" y="12"/>
                    </a:lnTo>
                    <a:lnTo>
                      <a:pt x="550" y="12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6939000" y="3442680"/>
                <a:ext cx="6840" cy="183960"/>
              </a:xfrm>
              <a:custGeom>
                <a:avLst/>
                <a:gdLst/>
                <a:ahLst/>
                <a:rect l="l" t="t" r="r" b="b"/>
                <a:pathLst>
                  <a:path w="22" h="472">
                    <a:moveTo>
                      <a:pt x="0" y="0"/>
                    </a:moveTo>
                    <a:lnTo>
                      <a:pt x="0" y="34"/>
                    </a:lnTo>
                    <a:lnTo>
                      <a:pt x="12" y="56"/>
                    </a:lnTo>
                    <a:lnTo>
                      <a:pt x="12" y="91"/>
                    </a:lnTo>
                    <a:lnTo>
                      <a:pt x="12" y="124"/>
                    </a:lnTo>
                    <a:lnTo>
                      <a:pt x="12" y="147"/>
                    </a:lnTo>
                    <a:lnTo>
                      <a:pt x="12" y="180"/>
                    </a:lnTo>
                    <a:lnTo>
                      <a:pt x="12" y="202"/>
                    </a:lnTo>
                    <a:lnTo>
                      <a:pt x="12" y="236"/>
                    </a:lnTo>
                    <a:lnTo>
                      <a:pt x="12" y="269"/>
                    </a:lnTo>
                    <a:lnTo>
                      <a:pt x="12" y="293"/>
                    </a:lnTo>
                    <a:lnTo>
                      <a:pt x="12" y="326"/>
                    </a:lnTo>
                    <a:lnTo>
                      <a:pt x="12" y="349"/>
                    </a:lnTo>
                    <a:lnTo>
                      <a:pt x="22" y="382"/>
                    </a:lnTo>
                    <a:lnTo>
                      <a:pt x="22" y="415"/>
                    </a:lnTo>
                    <a:lnTo>
                      <a:pt x="22" y="438"/>
                    </a:lnTo>
                    <a:lnTo>
                      <a:pt x="22" y="4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6945840" y="3627000"/>
                <a:ext cx="2520" cy="564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6943680" y="4191840"/>
                <a:ext cx="1800" cy="170280"/>
              </a:xfrm>
              <a:custGeom>
                <a:avLst/>
                <a:gdLst/>
                <a:ahLst/>
                <a:rect l="l" t="t" r="r" b="b"/>
                <a:pathLst>
                  <a:path w="10" h="437">
                    <a:moveTo>
                      <a:pt x="1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0" y="79"/>
                    </a:lnTo>
                    <a:lnTo>
                      <a:pt x="0" y="102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0" y="191"/>
                    </a:lnTo>
                    <a:lnTo>
                      <a:pt x="0" y="213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2"/>
                    </a:lnTo>
                    <a:lnTo>
                      <a:pt x="0" y="325"/>
                    </a:lnTo>
                    <a:lnTo>
                      <a:pt x="0" y="358"/>
                    </a:lnTo>
                    <a:lnTo>
                      <a:pt x="0" y="381"/>
                    </a:lnTo>
                    <a:lnTo>
                      <a:pt x="0" y="414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6824520" y="4362120"/>
                <a:ext cx="118800" cy="63000"/>
              </a:xfrm>
              <a:custGeom>
                <a:avLst/>
                <a:gdLst/>
                <a:ahLst/>
                <a:rect l="l" t="t" r="r" b="b"/>
                <a:pathLst>
                  <a:path w="303" h="158">
                    <a:moveTo>
                      <a:pt x="303" y="0"/>
                    </a:moveTo>
                    <a:lnTo>
                      <a:pt x="280" y="10"/>
                    </a:lnTo>
                    <a:lnTo>
                      <a:pt x="269" y="22"/>
                    </a:lnTo>
                    <a:lnTo>
                      <a:pt x="246" y="34"/>
                    </a:lnTo>
                    <a:lnTo>
                      <a:pt x="223" y="45"/>
                    </a:lnTo>
                    <a:lnTo>
                      <a:pt x="212" y="57"/>
                    </a:lnTo>
                    <a:lnTo>
                      <a:pt x="190" y="69"/>
                    </a:lnTo>
                    <a:lnTo>
                      <a:pt x="167" y="79"/>
                    </a:lnTo>
                    <a:lnTo>
                      <a:pt x="155" y="90"/>
                    </a:lnTo>
                    <a:lnTo>
                      <a:pt x="134" y="90"/>
                    </a:lnTo>
                    <a:lnTo>
                      <a:pt x="111" y="102"/>
                    </a:lnTo>
                    <a:lnTo>
                      <a:pt x="89" y="113"/>
                    </a:lnTo>
                    <a:lnTo>
                      <a:pt x="78" y="124"/>
                    </a:lnTo>
                    <a:lnTo>
                      <a:pt x="56" y="135"/>
                    </a:lnTo>
                    <a:lnTo>
                      <a:pt x="33" y="135"/>
                    </a:lnTo>
                    <a:lnTo>
                      <a:pt x="1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6763680" y="4432680"/>
                <a:ext cx="46440" cy="149040"/>
              </a:xfrm>
              <a:custGeom>
                <a:avLst/>
                <a:gdLst/>
                <a:ahLst/>
                <a:rect l="l" t="t" r="r" b="b"/>
                <a:pathLst>
                  <a:path w="122" h="382">
                    <a:moveTo>
                      <a:pt x="122" y="0"/>
                    </a:moveTo>
                    <a:lnTo>
                      <a:pt x="112" y="34"/>
                    </a:lnTo>
                    <a:lnTo>
                      <a:pt x="112" y="56"/>
                    </a:lnTo>
                    <a:lnTo>
                      <a:pt x="101" y="79"/>
                    </a:lnTo>
                    <a:lnTo>
                      <a:pt x="89" y="100"/>
                    </a:lnTo>
                    <a:lnTo>
                      <a:pt x="89" y="123"/>
                    </a:lnTo>
                    <a:lnTo>
                      <a:pt x="78" y="145"/>
                    </a:lnTo>
                    <a:lnTo>
                      <a:pt x="78" y="179"/>
                    </a:lnTo>
                    <a:lnTo>
                      <a:pt x="66" y="201"/>
                    </a:lnTo>
                    <a:lnTo>
                      <a:pt x="66" y="224"/>
                    </a:lnTo>
                    <a:lnTo>
                      <a:pt x="56" y="246"/>
                    </a:lnTo>
                    <a:lnTo>
                      <a:pt x="45" y="269"/>
                    </a:lnTo>
                    <a:lnTo>
                      <a:pt x="45" y="291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1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6740280" y="4512240"/>
                <a:ext cx="18360" cy="6984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45" y="181"/>
                    </a:moveTo>
                    <a:lnTo>
                      <a:pt x="34" y="181"/>
                    </a:lnTo>
                    <a:lnTo>
                      <a:pt x="34" y="169"/>
                    </a:lnTo>
                    <a:lnTo>
                      <a:pt x="22" y="158"/>
                    </a:lnTo>
                    <a:lnTo>
                      <a:pt x="22" y="136"/>
                    </a:lnTo>
                    <a:lnTo>
                      <a:pt x="22" y="125"/>
                    </a:lnTo>
                    <a:lnTo>
                      <a:pt x="22" y="113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78"/>
                    </a:lnTo>
                    <a:lnTo>
                      <a:pt x="11" y="68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6719400" y="439524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56" h="302">
                    <a:moveTo>
                      <a:pt x="56" y="302"/>
                    </a:moveTo>
                    <a:lnTo>
                      <a:pt x="44" y="280"/>
                    </a:lnTo>
                    <a:lnTo>
                      <a:pt x="44" y="269"/>
                    </a:lnTo>
                    <a:lnTo>
                      <a:pt x="44" y="246"/>
                    </a:lnTo>
                    <a:lnTo>
                      <a:pt x="44" y="224"/>
                    </a:lnTo>
                    <a:lnTo>
                      <a:pt x="33" y="213"/>
                    </a:lnTo>
                    <a:lnTo>
                      <a:pt x="33" y="190"/>
                    </a:lnTo>
                    <a:lnTo>
                      <a:pt x="33" y="168"/>
                    </a:lnTo>
                    <a:lnTo>
                      <a:pt x="33" y="157"/>
                    </a:lnTo>
                    <a:lnTo>
                      <a:pt x="23" y="135"/>
                    </a:lnTo>
                    <a:lnTo>
                      <a:pt x="23" y="112"/>
                    </a:lnTo>
                    <a:lnTo>
                      <a:pt x="23" y="101"/>
                    </a:lnTo>
                    <a:lnTo>
                      <a:pt x="11" y="79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6719400" y="4320360"/>
                <a:ext cx="100440" cy="74520"/>
              </a:xfrm>
              <a:custGeom>
                <a:avLst/>
                <a:gdLst/>
                <a:ahLst/>
                <a:rect l="l" t="t" r="r" b="b"/>
                <a:pathLst>
                  <a:path w="258" h="191">
                    <a:moveTo>
                      <a:pt x="0" y="191"/>
                    </a:moveTo>
                    <a:lnTo>
                      <a:pt x="11" y="181"/>
                    </a:lnTo>
                    <a:lnTo>
                      <a:pt x="33" y="169"/>
                    </a:lnTo>
                    <a:lnTo>
                      <a:pt x="44" y="157"/>
                    </a:lnTo>
                    <a:lnTo>
                      <a:pt x="56" y="134"/>
                    </a:lnTo>
                    <a:lnTo>
                      <a:pt x="78" y="122"/>
                    </a:lnTo>
                    <a:lnTo>
                      <a:pt x="90" y="112"/>
                    </a:lnTo>
                    <a:lnTo>
                      <a:pt x="113" y="101"/>
                    </a:lnTo>
                    <a:lnTo>
                      <a:pt x="124" y="89"/>
                    </a:lnTo>
                    <a:lnTo>
                      <a:pt x="146" y="78"/>
                    </a:lnTo>
                    <a:lnTo>
                      <a:pt x="158" y="67"/>
                    </a:lnTo>
                    <a:lnTo>
                      <a:pt x="179" y="56"/>
                    </a:lnTo>
                    <a:lnTo>
                      <a:pt x="191" y="45"/>
                    </a:lnTo>
                    <a:lnTo>
                      <a:pt x="214" y="33"/>
                    </a:lnTo>
                    <a:lnTo>
                      <a:pt x="225" y="23"/>
                    </a:lnTo>
                    <a:lnTo>
                      <a:pt x="235" y="11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876000" y="421524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6">
                    <a:moveTo>
                      <a:pt x="0" y="156"/>
                    </a:moveTo>
                    <a:lnTo>
                      <a:pt x="0" y="145"/>
                    </a:lnTo>
                    <a:lnTo>
                      <a:pt x="0" y="134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6880680" y="4026240"/>
                <a:ext cx="8640" cy="189000"/>
              </a:xfrm>
              <a:custGeom>
                <a:avLst/>
                <a:gdLst/>
                <a:ahLst/>
                <a:rect l="l" t="t" r="r" b="b"/>
                <a:pathLst>
                  <a:path w="22" h="484">
                    <a:moveTo>
                      <a:pt x="0" y="484"/>
                    </a:moveTo>
                    <a:lnTo>
                      <a:pt x="0" y="449"/>
                    </a:lnTo>
                    <a:lnTo>
                      <a:pt x="0" y="416"/>
                    </a:lnTo>
                    <a:lnTo>
                      <a:pt x="0" y="393"/>
                    </a:lnTo>
                    <a:lnTo>
                      <a:pt x="10" y="360"/>
                    </a:lnTo>
                    <a:lnTo>
                      <a:pt x="10" y="326"/>
                    </a:lnTo>
                    <a:lnTo>
                      <a:pt x="10" y="292"/>
                    </a:lnTo>
                    <a:lnTo>
                      <a:pt x="10" y="270"/>
                    </a:lnTo>
                    <a:lnTo>
                      <a:pt x="10" y="236"/>
                    </a:lnTo>
                    <a:lnTo>
                      <a:pt x="10" y="203"/>
                    </a:lnTo>
                    <a:lnTo>
                      <a:pt x="10" y="181"/>
                    </a:lnTo>
                    <a:lnTo>
                      <a:pt x="10" y="147"/>
                    </a:lnTo>
                    <a:lnTo>
                      <a:pt x="10" y="113"/>
                    </a:lnTo>
                    <a:lnTo>
                      <a:pt x="10" y="92"/>
                    </a:lnTo>
                    <a:lnTo>
                      <a:pt x="10" y="57"/>
                    </a:lnTo>
                    <a:lnTo>
                      <a:pt x="10" y="2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6885360" y="3958200"/>
                <a:ext cx="3960" cy="67680"/>
              </a:xfrm>
              <a:custGeom>
                <a:avLst/>
                <a:gdLst/>
                <a:ahLst/>
                <a:rect l="l" t="t" r="r" b="b"/>
                <a:pathLst>
                  <a:path w="12" h="178">
                    <a:moveTo>
                      <a:pt x="12" y="178"/>
                    </a:moveTo>
                    <a:lnTo>
                      <a:pt x="12" y="167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2"/>
                    </a:lnTo>
                    <a:lnTo>
                      <a:pt x="0" y="112"/>
                    </a:lnTo>
                    <a:lnTo>
                      <a:pt x="0" y="100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6885360" y="3709080"/>
                <a:ext cx="3960" cy="249120"/>
              </a:xfrm>
              <a:custGeom>
                <a:avLst/>
                <a:gdLst/>
                <a:ahLst/>
                <a:rect l="l" t="t" r="r" b="b"/>
                <a:pathLst>
                  <a:path w="12" h="640">
                    <a:moveTo>
                      <a:pt x="0" y="640"/>
                    </a:moveTo>
                    <a:lnTo>
                      <a:pt x="0" y="607"/>
                    </a:lnTo>
                    <a:lnTo>
                      <a:pt x="0" y="561"/>
                    </a:lnTo>
                    <a:lnTo>
                      <a:pt x="0" y="528"/>
                    </a:lnTo>
                    <a:lnTo>
                      <a:pt x="0" y="483"/>
                    </a:lnTo>
                    <a:lnTo>
                      <a:pt x="0" y="450"/>
                    </a:lnTo>
                    <a:lnTo>
                      <a:pt x="0" y="403"/>
                    </a:lnTo>
                    <a:lnTo>
                      <a:pt x="0" y="359"/>
                    </a:lnTo>
                    <a:lnTo>
                      <a:pt x="0" y="325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03"/>
                    </a:lnTo>
                    <a:lnTo>
                      <a:pt x="0" y="158"/>
                    </a:lnTo>
                    <a:lnTo>
                      <a:pt x="12" y="124"/>
                    </a:lnTo>
                    <a:lnTo>
                      <a:pt x="12" y="79"/>
                    </a:lnTo>
                    <a:lnTo>
                      <a:pt x="12" y="4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6889680" y="3542760"/>
                <a:ext cx="4680" cy="165960"/>
              </a:xfrm>
              <a:custGeom>
                <a:avLst/>
                <a:gdLst/>
                <a:ahLst/>
                <a:rect l="l" t="t" r="r" b="b"/>
                <a:pathLst>
                  <a:path w="11" h="426">
                    <a:moveTo>
                      <a:pt x="0" y="426"/>
                    </a:moveTo>
                    <a:lnTo>
                      <a:pt x="0" y="404"/>
                    </a:lnTo>
                    <a:lnTo>
                      <a:pt x="11" y="370"/>
                    </a:lnTo>
                    <a:lnTo>
                      <a:pt x="11" y="347"/>
                    </a:lnTo>
                    <a:lnTo>
                      <a:pt x="11" y="326"/>
                    </a:lnTo>
                    <a:lnTo>
                      <a:pt x="11" y="291"/>
                    </a:lnTo>
                    <a:lnTo>
                      <a:pt x="11" y="270"/>
                    </a:lnTo>
                    <a:lnTo>
                      <a:pt x="0" y="235"/>
                    </a:lnTo>
                    <a:lnTo>
                      <a:pt x="0" y="214"/>
                    </a:lnTo>
                    <a:lnTo>
                      <a:pt x="0" y="191"/>
                    </a:lnTo>
                    <a:lnTo>
                      <a:pt x="0" y="169"/>
                    </a:lnTo>
                    <a:lnTo>
                      <a:pt x="0" y="136"/>
                    </a:lnTo>
                    <a:lnTo>
                      <a:pt x="0" y="11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6880680" y="3463920"/>
                <a:ext cx="8640" cy="78840"/>
              </a:xfrm>
              <a:custGeom>
                <a:avLst/>
                <a:gdLst/>
                <a:ahLst/>
                <a:rect l="l" t="t" r="r" b="b"/>
                <a:pathLst>
                  <a:path w="22" h="202">
                    <a:moveTo>
                      <a:pt x="22" y="202"/>
                    </a:moveTo>
                    <a:lnTo>
                      <a:pt x="10" y="190"/>
                    </a:lnTo>
                    <a:lnTo>
                      <a:pt x="10" y="180"/>
                    </a:lnTo>
                    <a:lnTo>
                      <a:pt x="10" y="168"/>
                    </a:lnTo>
                    <a:lnTo>
                      <a:pt x="10" y="157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10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6976440" y="3608280"/>
                <a:ext cx="375120" cy="650880"/>
              </a:xfrm>
              <a:custGeom>
                <a:avLst/>
                <a:gdLst/>
                <a:ahLst/>
                <a:rect l="l" t="t" r="r" b="b"/>
                <a:pathLst>
                  <a:path w="964" h="1670">
                    <a:moveTo>
                      <a:pt x="639" y="56"/>
                    </a:moveTo>
                    <a:lnTo>
                      <a:pt x="649" y="66"/>
                    </a:lnTo>
                    <a:lnTo>
                      <a:pt x="649" y="89"/>
                    </a:lnTo>
                    <a:lnTo>
                      <a:pt x="660" y="101"/>
                    </a:lnTo>
                    <a:lnTo>
                      <a:pt x="660" y="112"/>
                    </a:lnTo>
                    <a:lnTo>
                      <a:pt x="672" y="122"/>
                    </a:lnTo>
                    <a:lnTo>
                      <a:pt x="672" y="134"/>
                    </a:lnTo>
                    <a:lnTo>
                      <a:pt x="683" y="145"/>
                    </a:lnTo>
                    <a:lnTo>
                      <a:pt x="683" y="157"/>
                    </a:lnTo>
                    <a:lnTo>
                      <a:pt x="695" y="167"/>
                    </a:lnTo>
                    <a:lnTo>
                      <a:pt x="707" y="190"/>
                    </a:lnTo>
                    <a:lnTo>
                      <a:pt x="707" y="201"/>
                    </a:lnTo>
                    <a:lnTo>
                      <a:pt x="717" y="213"/>
                    </a:lnTo>
                    <a:lnTo>
                      <a:pt x="717" y="223"/>
                    </a:lnTo>
                    <a:lnTo>
                      <a:pt x="729" y="235"/>
                    </a:lnTo>
                    <a:lnTo>
                      <a:pt x="729" y="246"/>
                    </a:lnTo>
                    <a:lnTo>
                      <a:pt x="740" y="257"/>
                    </a:lnTo>
                    <a:lnTo>
                      <a:pt x="752" y="292"/>
                    </a:lnTo>
                    <a:lnTo>
                      <a:pt x="762" y="325"/>
                    </a:lnTo>
                    <a:lnTo>
                      <a:pt x="774" y="348"/>
                    </a:lnTo>
                    <a:lnTo>
                      <a:pt x="796" y="381"/>
                    </a:lnTo>
                    <a:lnTo>
                      <a:pt x="807" y="415"/>
                    </a:lnTo>
                    <a:lnTo>
                      <a:pt x="818" y="437"/>
                    </a:lnTo>
                    <a:lnTo>
                      <a:pt x="841" y="470"/>
                    </a:lnTo>
                    <a:lnTo>
                      <a:pt x="851" y="504"/>
                    </a:lnTo>
                    <a:lnTo>
                      <a:pt x="863" y="526"/>
                    </a:lnTo>
                    <a:lnTo>
                      <a:pt x="874" y="559"/>
                    </a:lnTo>
                    <a:lnTo>
                      <a:pt x="897" y="594"/>
                    </a:lnTo>
                    <a:lnTo>
                      <a:pt x="907" y="616"/>
                    </a:lnTo>
                    <a:lnTo>
                      <a:pt x="919" y="650"/>
                    </a:lnTo>
                    <a:lnTo>
                      <a:pt x="930" y="683"/>
                    </a:lnTo>
                    <a:lnTo>
                      <a:pt x="952" y="707"/>
                    </a:lnTo>
                    <a:lnTo>
                      <a:pt x="964" y="740"/>
                    </a:lnTo>
                    <a:lnTo>
                      <a:pt x="952" y="773"/>
                    </a:lnTo>
                    <a:lnTo>
                      <a:pt x="942" y="807"/>
                    </a:lnTo>
                    <a:lnTo>
                      <a:pt x="930" y="852"/>
                    </a:lnTo>
                    <a:lnTo>
                      <a:pt x="907" y="885"/>
                    </a:lnTo>
                    <a:lnTo>
                      <a:pt x="897" y="919"/>
                    </a:lnTo>
                    <a:lnTo>
                      <a:pt x="886" y="953"/>
                    </a:lnTo>
                    <a:lnTo>
                      <a:pt x="863" y="986"/>
                    </a:lnTo>
                    <a:lnTo>
                      <a:pt x="851" y="1019"/>
                    </a:lnTo>
                    <a:lnTo>
                      <a:pt x="830" y="1054"/>
                    </a:lnTo>
                    <a:lnTo>
                      <a:pt x="807" y="1087"/>
                    </a:lnTo>
                    <a:lnTo>
                      <a:pt x="796" y="1121"/>
                    </a:lnTo>
                    <a:lnTo>
                      <a:pt x="774" y="1155"/>
                    </a:lnTo>
                    <a:lnTo>
                      <a:pt x="762" y="1188"/>
                    </a:lnTo>
                    <a:lnTo>
                      <a:pt x="740" y="1222"/>
                    </a:lnTo>
                    <a:lnTo>
                      <a:pt x="717" y="1256"/>
                    </a:lnTo>
                    <a:lnTo>
                      <a:pt x="707" y="1289"/>
                    </a:lnTo>
                    <a:lnTo>
                      <a:pt x="695" y="1311"/>
                    </a:lnTo>
                    <a:lnTo>
                      <a:pt x="672" y="1334"/>
                    </a:lnTo>
                    <a:lnTo>
                      <a:pt x="660" y="1357"/>
                    </a:lnTo>
                    <a:lnTo>
                      <a:pt x="649" y="1378"/>
                    </a:lnTo>
                    <a:lnTo>
                      <a:pt x="639" y="1401"/>
                    </a:lnTo>
                    <a:lnTo>
                      <a:pt x="627" y="1435"/>
                    </a:lnTo>
                    <a:lnTo>
                      <a:pt x="616" y="1456"/>
                    </a:lnTo>
                    <a:lnTo>
                      <a:pt x="604" y="1479"/>
                    </a:lnTo>
                    <a:lnTo>
                      <a:pt x="583" y="1502"/>
                    </a:lnTo>
                    <a:lnTo>
                      <a:pt x="571" y="1524"/>
                    </a:lnTo>
                    <a:lnTo>
                      <a:pt x="560" y="1547"/>
                    </a:lnTo>
                    <a:lnTo>
                      <a:pt x="549" y="1569"/>
                    </a:lnTo>
                    <a:lnTo>
                      <a:pt x="538" y="1592"/>
                    </a:lnTo>
                    <a:lnTo>
                      <a:pt x="515" y="1614"/>
                    </a:lnTo>
                    <a:lnTo>
                      <a:pt x="505" y="1648"/>
                    </a:lnTo>
                    <a:lnTo>
                      <a:pt x="493" y="1670"/>
                    </a:lnTo>
                    <a:lnTo>
                      <a:pt x="459" y="1670"/>
                    </a:lnTo>
                    <a:lnTo>
                      <a:pt x="426" y="1614"/>
                    </a:lnTo>
                    <a:lnTo>
                      <a:pt x="404" y="1559"/>
                    </a:lnTo>
                    <a:lnTo>
                      <a:pt x="370" y="1512"/>
                    </a:lnTo>
                    <a:lnTo>
                      <a:pt x="348" y="1456"/>
                    </a:lnTo>
                    <a:lnTo>
                      <a:pt x="325" y="1412"/>
                    </a:lnTo>
                    <a:lnTo>
                      <a:pt x="292" y="1357"/>
                    </a:lnTo>
                    <a:lnTo>
                      <a:pt x="268" y="1301"/>
                    </a:lnTo>
                    <a:lnTo>
                      <a:pt x="235" y="1256"/>
                    </a:lnTo>
                    <a:lnTo>
                      <a:pt x="202" y="1200"/>
                    </a:lnTo>
                    <a:lnTo>
                      <a:pt x="179" y="1155"/>
                    </a:lnTo>
                    <a:lnTo>
                      <a:pt x="145" y="1098"/>
                    </a:lnTo>
                    <a:lnTo>
                      <a:pt x="123" y="1054"/>
                    </a:lnTo>
                    <a:lnTo>
                      <a:pt x="89" y="997"/>
                    </a:lnTo>
                    <a:lnTo>
                      <a:pt x="56" y="953"/>
                    </a:lnTo>
                    <a:lnTo>
                      <a:pt x="33" y="897"/>
                    </a:lnTo>
                    <a:lnTo>
                      <a:pt x="0" y="852"/>
                    </a:lnTo>
                    <a:lnTo>
                      <a:pt x="0" y="818"/>
                    </a:lnTo>
                    <a:lnTo>
                      <a:pt x="0" y="773"/>
                    </a:lnTo>
                    <a:lnTo>
                      <a:pt x="0" y="740"/>
                    </a:lnTo>
                    <a:lnTo>
                      <a:pt x="12" y="707"/>
                    </a:lnTo>
                    <a:lnTo>
                      <a:pt x="12" y="672"/>
                    </a:lnTo>
                    <a:lnTo>
                      <a:pt x="12" y="627"/>
                    </a:lnTo>
                    <a:lnTo>
                      <a:pt x="12" y="594"/>
                    </a:lnTo>
                    <a:lnTo>
                      <a:pt x="12" y="559"/>
                    </a:lnTo>
                    <a:lnTo>
                      <a:pt x="22" y="526"/>
                    </a:lnTo>
                    <a:lnTo>
                      <a:pt x="22" y="482"/>
                    </a:lnTo>
                    <a:lnTo>
                      <a:pt x="22" y="448"/>
                    </a:lnTo>
                    <a:lnTo>
                      <a:pt x="22" y="415"/>
                    </a:lnTo>
                    <a:lnTo>
                      <a:pt x="22" y="369"/>
                    </a:lnTo>
                    <a:lnTo>
                      <a:pt x="22" y="336"/>
                    </a:lnTo>
                    <a:lnTo>
                      <a:pt x="22" y="303"/>
                    </a:lnTo>
                    <a:lnTo>
                      <a:pt x="33" y="268"/>
                    </a:lnTo>
                    <a:lnTo>
                      <a:pt x="33" y="257"/>
                    </a:lnTo>
                    <a:lnTo>
                      <a:pt x="45" y="257"/>
                    </a:lnTo>
                    <a:lnTo>
                      <a:pt x="56" y="246"/>
                    </a:lnTo>
                    <a:lnTo>
                      <a:pt x="67" y="246"/>
                    </a:lnTo>
                    <a:lnTo>
                      <a:pt x="78" y="246"/>
                    </a:lnTo>
                    <a:lnTo>
                      <a:pt x="89" y="246"/>
                    </a:lnTo>
                    <a:lnTo>
                      <a:pt x="101" y="235"/>
                    </a:lnTo>
                    <a:lnTo>
                      <a:pt x="111" y="235"/>
                    </a:lnTo>
                    <a:lnTo>
                      <a:pt x="123" y="235"/>
                    </a:lnTo>
                    <a:lnTo>
                      <a:pt x="157" y="223"/>
                    </a:lnTo>
                    <a:lnTo>
                      <a:pt x="190" y="201"/>
                    </a:lnTo>
                    <a:lnTo>
                      <a:pt x="223" y="190"/>
                    </a:lnTo>
                    <a:lnTo>
                      <a:pt x="257" y="178"/>
                    </a:lnTo>
                    <a:lnTo>
                      <a:pt x="280" y="167"/>
                    </a:lnTo>
                    <a:lnTo>
                      <a:pt x="315" y="157"/>
                    </a:lnTo>
                    <a:lnTo>
                      <a:pt x="348" y="134"/>
                    </a:lnTo>
                    <a:lnTo>
                      <a:pt x="381" y="122"/>
                    </a:lnTo>
                    <a:lnTo>
                      <a:pt x="414" y="112"/>
                    </a:lnTo>
                    <a:lnTo>
                      <a:pt x="449" y="89"/>
                    </a:lnTo>
                    <a:lnTo>
                      <a:pt x="470" y="78"/>
                    </a:lnTo>
                    <a:lnTo>
                      <a:pt x="505" y="66"/>
                    </a:lnTo>
                    <a:lnTo>
                      <a:pt x="538" y="45"/>
                    </a:lnTo>
                    <a:lnTo>
                      <a:pt x="571" y="33"/>
                    </a:lnTo>
                    <a:lnTo>
                      <a:pt x="604" y="22"/>
                    </a:lnTo>
                    <a:lnTo>
                      <a:pt x="627" y="0"/>
                    </a:lnTo>
                    <a:lnTo>
                      <a:pt x="639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225560" y="3629520"/>
                <a:ext cx="39600" cy="79200"/>
              </a:xfrm>
              <a:custGeom>
                <a:avLst/>
                <a:gdLst/>
                <a:ahLst/>
                <a:rect l="l" t="t" r="r" b="b"/>
                <a:pathLst>
                  <a:path w="101" h="201">
                    <a:moveTo>
                      <a:pt x="0" y="0"/>
                    </a:moveTo>
                    <a:lnTo>
                      <a:pt x="10" y="10"/>
                    </a:lnTo>
                    <a:lnTo>
                      <a:pt x="10" y="33"/>
                    </a:lnTo>
                    <a:lnTo>
                      <a:pt x="21" y="45"/>
                    </a:lnTo>
                    <a:lnTo>
                      <a:pt x="21" y="56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44" y="89"/>
                    </a:lnTo>
                    <a:lnTo>
                      <a:pt x="44" y="101"/>
                    </a:lnTo>
                    <a:lnTo>
                      <a:pt x="56" y="111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78" y="157"/>
                    </a:lnTo>
                    <a:lnTo>
                      <a:pt x="78" y="167"/>
                    </a:lnTo>
                    <a:lnTo>
                      <a:pt x="90" y="179"/>
                    </a:lnTo>
                    <a:lnTo>
                      <a:pt x="90" y="190"/>
                    </a:lnTo>
                    <a:lnTo>
                      <a:pt x="101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265160" y="3709080"/>
                <a:ext cx="86040" cy="189000"/>
              </a:xfrm>
              <a:custGeom>
                <a:avLst/>
                <a:gdLst/>
                <a:ahLst/>
                <a:rect l="l" t="t" r="r" b="b"/>
                <a:pathLst>
                  <a:path w="224" h="483">
                    <a:moveTo>
                      <a:pt x="0" y="0"/>
                    </a:moveTo>
                    <a:lnTo>
                      <a:pt x="12" y="35"/>
                    </a:lnTo>
                    <a:lnTo>
                      <a:pt x="22" y="68"/>
                    </a:lnTo>
                    <a:lnTo>
                      <a:pt x="34" y="91"/>
                    </a:lnTo>
                    <a:lnTo>
                      <a:pt x="56" y="124"/>
                    </a:lnTo>
                    <a:lnTo>
                      <a:pt x="67" y="158"/>
                    </a:lnTo>
                    <a:lnTo>
                      <a:pt x="78" y="180"/>
                    </a:lnTo>
                    <a:lnTo>
                      <a:pt x="101" y="213"/>
                    </a:lnTo>
                    <a:lnTo>
                      <a:pt x="111" y="247"/>
                    </a:lnTo>
                    <a:lnTo>
                      <a:pt x="123" y="269"/>
                    </a:lnTo>
                    <a:lnTo>
                      <a:pt x="134" y="302"/>
                    </a:lnTo>
                    <a:lnTo>
                      <a:pt x="157" y="337"/>
                    </a:lnTo>
                    <a:lnTo>
                      <a:pt x="167" y="359"/>
                    </a:lnTo>
                    <a:lnTo>
                      <a:pt x="179" y="393"/>
                    </a:lnTo>
                    <a:lnTo>
                      <a:pt x="190" y="426"/>
                    </a:lnTo>
                    <a:lnTo>
                      <a:pt x="212" y="450"/>
                    </a:lnTo>
                    <a:lnTo>
                      <a:pt x="224" y="4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7251480" y="3898080"/>
                <a:ext cx="99720" cy="212040"/>
              </a:xfrm>
              <a:custGeom>
                <a:avLst/>
                <a:gdLst/>
                <a:ahLst/>
                <a:rect l="l" t="t" r="r" b="b"/>
                <a:pathLst>
                  <a:path w="257" h="549">
                    <a:moveTo>
                      <a:pt x="257" y="0"/>
                    </a:moveTo>
                    <a:lnTo>
                      <a:pt x="245" y="33"/>
                    </a:lnTo>
                    <a:lnTo>
                      <a:pt x="235" y="67"/>
                    </a:lnTo>
                    <a:lnTo>
                      <a:pt x="223" y="112"/>
                    </a:lnTo>
                    <a:lnTo>
                      <a:pt x="200" y="145"/>
                    </a:lnTo>
                    <a:lnTo>
                      <a:pt x="190" y="179"/>
                    </a:lnTo>
                    <a:lnTo>
                      <a:pt x="179" y="213"/>
                    </a:lnTo>
                    <a:lnTo>
                      <a:pt x="156" y="246"/>
                    </a:lnTo>
                    <a:lnTo>
                      <a:pt x="144" y="279"/>
                    </a:lnTo>
                    <a:lnTo>
                      <a:pt x="123" y="314"/>
                    </a:lnTo>
                    <a:lnTo>
                      <a:pt x="100" y="347"/>
                    </a:lnTo>
                    <a:lnTo>
                      <a:pt x="89" y="381"/>
                    </a:lnTo>
                    <a:lnTo>
                      <a:pt x="67" y="415"/>
                    </a:lnTo>
                    <a:lnTo>
                      <a:pt x="55" y="448"/>
                    </a:lnTo>
                    <a:lnTo>
                      <a:pt x="33" y="482"/>
                    </a:lnTo>
                    <a:lnTo>
                      <a:pt x="10" y="516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170120" y="4110120"/>
                <a:ext cx="81360" cy="149040"/>
              </a:xfrm>
              <a:custGeom>
                <a:avLst/>
                <a:gdLst/>
                <a:ahLst/>
                <a:rect l="l" t="t" r="r" b="b"/>
                <a:pathLst>
                  <a:path w="214" h="381">
                    <a:moveTo>
                      <a:pt x="214" y="0"/>
                    </a:moveTo>
                    <a:lnTo>
                      <a:pt x="202" y="22"/>
                    </a:lnTo>
                    <a:lnTo>
                      <a:pt x="179" y="45"/>
                    </a:lnTo>
                    <a:lnTo>
                      <a:pt x="167" y="68"/>
                    </a:lnTo>
                    <a:lnTo>
                      <a:pt x="156" y="89"/>
                    </a:lnTo>
                    <a:lnTo>
                      <a:pt x="146" y="112"/>
                    </a:lnTo>
                    <a:lnTo>
                      <a:pt x="134" y="146"/>
                    </a:lnTo>
                    <a:lnTo>
                      <a:pt x="123" y="167"/>
                    </a:lnTo>
                    <a:lnTo>
                      <a:pt x="111" y="190"/>
                    </a:lnTo>
                    <a:lnTo>
                      <a:pt x="90" y="213"/>
                    </a:lnTo>
                    <a:lnTo>
                      <a:pt x="78" y="235"/>
                    </a:lnTo>
                    <a:lnTo>
                      <a:pt x="67" y="258"/>
                    </a:lnTo>
                    <a:lnTo>
                      <a:pt x="56" y="280"/>
                    </a:lnTo>
                    <a:lnTo>
                      <a:pt x="45" y="303"/>
                    </a:lnTo>
                    <a:lnTo>
                      <a:pt x="22" y="325"/>
                    </a:lnTo>
                    <a:lnTo>
                      <a:pt x="12" y="359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976440" y="3939840"/>
                <a:ext cx="179280" cy="319680"/>
              </a:xfrm>
              <a:custGeom>
                <a:avLst/>
                <a:gdLst/>
                <a:ahLst/>
                <a:rect l="l" t="t" r="r" b="b"/>
                <a:pathLst>
                  <a:path w="459" h="818">
                    <a:moveTo>
                      <a:pt x="459" y="818"/>
                    </a:moveTo>
                    <a:lnTo>
                      <a:pt x="426" y="762"/>
                    </a:lnTo>
                    <a:lnTo>
                      <a:pt x="404" y="707"/>
                    </a:lnTo>
                    <a:lnTo>
                      <a:pt x="370" y="660"/>
                    </a:lnTo>
                    <a:lnTo>
                      <a:pt x="348" y="604"/>
                    </a:lnTo>
                    <a:lnTo>
                      <a:pt x="325" y="560"/>
                    </a:lnTo>
                    <a:lnTo>
                      <a:pt x="292" y="505"/>
                    </a:lnTo>
                    <a:lnTo>
                      <a:pt x="268" y="449"/>
                    </a:lnTo>
                    <a:lnTo>
                      <a:pt x="235" y="404"/>
                    </a:lnTo>
                    <a:lnTo>
                      <a:pt x="202" y="348"/>
                    </a:lnTo>
                    <a:lnTo>
                      <a:pt x="179" y="303"/>
                    </a:lnTo>
                    <a:lnTo>
                      <a:pt x="145" y="246"/>
                    </a:lnTo>
                    <a:lnTo>
                      <a:pt x="123" y="202"/>
                    </a:lnTo>
                    <a:lnTo>
                      <a:pt x="89" y="145"/>
                    </a:lnTo>
                    <a:lnTo>
                      <a:pt x="56" y="101"/>
                    </a:lnTo>
                    <a:lnTo>
                      <a:pt x="33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6976440" y="3713040"/>
                <a:ext cx="13680" cy="226440"/>
              </a:xfrm>
              <a:custGeom>
                <a:avLst/>
                <a:gdLst/>
                <a:ahLst/>
                <a:rect l="l" t="t" r="r" b="b"/>
                <a:pathLst>
                  <a:path w="33" h="584">
                    <a:moveTo>
                      <a:pt x="0" y="584"/>
                    </a:moveTo>
                    <a:lnTo>
                      <a:pt x="0" y="550"/>
                    </a:lnTo>
                    <a:lnTo>
                      <a:pt x="0" y="505"/>
                    </a:lnTo>
                    <a:lnTo>
                      <a:pt x="0" y="472"/>
                    </a:lnTo>
                    <a:lnTo>
                      <a:pt x="12" y="439"/>
                    </a:lnTo>
                    <a:lnTo>
                      <a:pt x="12" y="404"/>
                    </a:lnTo>
                    <a:lnTo>
                      <a:pt x="12" y="359"/>
                    </a:lnTo>
                    <a:lnTo>
                      <a:pt x="12" y="326"/>
                    </a:lnTo>
                    <a:lnTo>
                      <a:pt x="12" y="291"/>
                    </a:lnTo>
                    <a:lnTo>
                      <a:pt x="22" y="258"/>
                    </a:lnTo>
                    <a:lnTo>
                      <a:pt x="22" y="214"/>
                    </a:lnTo>
                    <a:lnTo>
                      <a:pt x="22" y="180"/>
                    </a:lnTo>
                    <a:lnTo>
                      <a:pt x="22" y="147"/>
                    </a:lnTo>
                    <a:lnTo>
                      <a:pt x="22" y="101"/>
                    </a:lnTo>
                    <a:lnTo>
                      <a:pt x="22" y="68"/>
                    </a:lnTo>
                    <a:lnTo>
                      <a:pt x="22" y="35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7025040" y="360828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5">
                    <a:moveTo>
                      <a:pt x="0" y="235"/>
                    </a:moveTo>
                    <a:lnTo>
                      <a:pt x="34" y="223"/>
                    </a:lnTo>
                    <a:lnTo>
                      <a:pt x="67" y="201"/>
                    </a:lnTo>
                    <a:lnTo>
                      <a:pt x="100" y="190"/>
                    </a:lnTo>
                    <a:lnTo>
                      <a:pt x="134" y="178"/>
                    </a:lnTo>
                    <a:lnTo>
                      <a:pt x="157" y="167"/>
                    </a:lnTo>
                    <a:lnTo>
                      <a:pt x="192" y="157"/>
                    </a:lnTo>
                    <a:lnTo>
                      <a:pt x="225" y="134"/>
                    </a:lnTo>
                    <a:lnTo>
                      <a:pt x="258" y="122"/>
                    </a:lnTo>
                    <a:lnTo>
                      <a:pt x="291" y="112"/>
                    </a:lnTo>
                    <a:lnTo>
                      <a:pt x="326" y="89"/>
                    </a:lnTo>
                    <a:lnTo>
                      <a:pt x="347" y="78"/>
                    </a:lnTo>
                    <a:lnTo>
                      <a:pt x="382" y="66"/>
                    </a:lnTo>
                    <a:lnTo>
                      <a:pt x="415" y="45"/>
                    </a:lnTo>
                    <a:lnTo>
                      <a:pt x="448" y="33"/>
                    </a:lnTo>
                    <a:lnTo>
                      <a:pt x="481" y="22"/>
                    </a:lnTo>
                    <a:lnTo>
                      <a:pt x="5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999840" y="3629520"/>
                <a:ext cx="338040" cy="601920"/>
              </a:xfrm>
              <a:custGeom>
                <a:avLst/>
                <a:gdLst/>
                <a:ahLst/>
                <a:rect l="l" t="t" r="r" b="b"/>
                <a:pathLst>
                  <a:path w="874" h="1548">
                    <a:moveTo>
                      <a:pt x="874" y="707"/>
                    </a:moveTo>
                    <a:lnTo>
                      <a:pt x="863" y="729"/>
                    </a:lnTo>
                    <a:lnTo>
                      <a:pt x="851" y="762"/>
                    </a:lnTo>
                    <a:lnTo>
                      <a:pt x="841" y="796"/>
                    </a:lnTo>
                    <a:lnTo>
                      <a:pt x="830" y="818"/>
                    </a:lnTo>
                    <a:lnTo>
                      <a:pt x="807" y="852"/>
                    </a:lnTo>
                    <a:lnTo>
                      <a:pt x="795" y="885"/>
                    </a:lnTo>
                    <a:lnTo>
                      <a:pt x="785" y="907"/>
                    </a:lnTo>
                    <a:lnTo>
                      <a:pt x="762" y="941"/>
                    </a:lnTo>
                    <a:lnTo>
                      <a:pt x="751" y="963"/>
                    </a:lnTo>
                    <a:lnTo>
                      <a:pt x="740" y="998"/>
                    </a:lnTo>
                    <a:lnTo>
                      <a:pt x="718" y="1019"/>
                    </a:lnTo>
                    <a:lnTo>
                      <a:pt x="706" y="1054"/>
                    </a:lnTo>
                    <a:lnTo>
                      <a:pt x="696" y="1076"/>
                    </a:lnTo>
                    <a:lnTo>
                      <a:pt x="673" y="1111"/>
                    </a:lnTo>
                    <a:lnTo>
                      <a:pt x="661" y="1132"/>
                    </a:lnTo>
                    <a:lnTo>
                      <a:pt x="651" y="1166"/>
                    </a:lnTo>
                    <a:lnTo>
                      <a:pt x="639" y="1189"/>
                    </a:lnTo>
                    <a:lnTo>
                      <a:pt x="627" y="1210"/>
                    </a:lnTo>
                    <a:lnTo>
                      <a:pt x="604" y="1233"/>
                    </a:lnTo>
                    <a:lnTo>
                      <a:pt x="593" y="1266"/>
                    </a:lnTo>
                    <a:lnTo>
                      <a:pt x="583" y="1289"/>
                    </a:lnTo>
                    <a:lnTo>
                      <a:pt x="571" y="1311"/>
                    </a:lnTo>
                    <a:lnTo>
                      <a:pt x="560" y="1334"/>
                    </a:lnTo>
                    <a:lnTo>
                      <a:pt x="538" y="1356"/>
                    </a:lnTo>
                    <a:lnTo>
                      <a:pt x="527" y="1379"/>
                    </a:lnTo>
                    <a:lnTo>
                      <a:pt x="515" y="1400"/>
                    </a:lnTo>
                    <a:lnTo>
                      <a:pt x="504" y="1423"/>
                    </a:lnTo>
                    <a:lnTo>
                      <a:pt x="482" y="1446"/>
                    </a:lnTo>
                    <a:lnTo>
                      <a:pt x="470" y="1480"/>
                    </a:lnTo>
                    <a:lnTo>
                      <a:pt x="459" y="1503"/>
                    </a:lnTo>
                    <a:lnTo>
                      <a:pt x="449" y="1525"/>
                    </a:lnTo>
                    <a:lnTo>
                      <a:pt x="437" y="1548"/>
                    </a:lnTo>
                    <a:lnTo>
                      <a:pt x="426" y="1536"/>
                    </a:lnTo>
                    <a:lnTo>
                      <a:pt x="414" y="1513"/>
                    </a:lnTo>
                    <a:lnTo>
                      <a:pt x="403" y="1503"/>
                    </a:lnTo>
                    <a:lnTo>
                      <a:pt x="393" y="1491"/>
                    </a:lnTo>
                    <a:lnTo>
                      <a:pt x="393" y="1468"/>
                    </a:lnTo>
                    <a:lnTo>
                      <a:pt x="381" y="1456"/>
                    </a:lnTo>
                    <a:lnTo>
                      <a:pt x="370" y="1446"/>
                    </a:lnTo>
                    <a:lnTo>
                      <a:pt x="370" y="1423"/>
                    </a:lnTo>
                    <a:lnTo>
                      <a:pt x="358" y="1412"/>
                    </a:lnTo>
                    <a:lnTo>
                      <a:pt x="348" y="1390"/>
                    </a:lnTo>
                    <a:lnTo>
                      <a:pt x="337" y="1379"/>
                    </a:lnTo>
                    <a:lnTo>
                      <a:pt x="325" y="1356"/>
                    </a:lnTo>
                    <a:lnTo>
                      <a:pt x="325" y="1345"/>
                    </a:lnTo>
                    <a:lnTo>
                      <a:pt x="314" y="1334"/>
                    </a:lnTo>
                    <a:lnTo>
                      <a:pt x="302" y="1322"/>
                    </a:lnTo>
                    <a:lnTo>
                      <a:pt x="292" y="1301"/>
                    </a:lnTo>
                    <a:lnTo>
                      <a:pt x="280" y="1278"/>
                    </a:lnTo>
                    <a:lnTo>
                      <a:pt x="259" y="1255"/>
                    </a:lnTo>
                    <a:lnTo>
                      <a:pt x="247" y="1222"/>
                    </a:lnTo>
                    <a:lnTo>
                      <a:pt x="236" y="1200"/>
                    </a:lnTo>
                    <a:lnTo>
                      <a:pt x="212" y="1166"/>
                    </a:lnTo>
                    <a:lnTo>
                      <a:pt x="201" y="1144"/>
                    </a:lnTo>
                    <a:lnTo>
                      <a:pt x="190" y="1111"/>
                    </a:lnTo>
                    <a:lnTo>
                      <a:pt x="179" y="1088"/>
                    </a:lnTo>
                    <a:lnTo>
                      <a:pt x="167" y="1054"/>
                    </a:lnTo>
                    <a:lnTo>
                      <a:pt x="146" y="1031"/>
                    </a:lnTo>
                    <a:lnTo>
                      <a:pt x="134" y="998"/>
                    </a:lnTo>
                    <a:lnTo>
                      <a:pt x="123" y="975"/>
                    </a:lnTo>
                    <a:lnTo>
                      <a:pt x="101" y="941"/>
                    </a:lnTo>
                    <a:lnTo>
                      <a:pt x="89" y="919"/>
                    </a:lnTo>
                    <a:lnTo>
                      <a:pt x="67" y="897"/>
                    </a:lnTo>
                    <a:lnTo>
                      <a:pt x="55" y="863"/>
                    </a:lnTo>
                    <a:lnTo>
                      <a:pt x="45" y="852"/>
                    </a:lnTo>
                    <a:lnTo>
                      <a:pt x="33" y="829"/>
                    </a:lnTo>
                    <a:lnTo>
                      <a:pt x="33" y="818"/>
                    </a:lnTo>
                    <a:lnTo>
                      <a:pt x="22" y="796"/>
                    </a:lnTo>
                    <a:lnTo>
                      <a:pt x="22" y="785"/>
                    </a:lnTo>
                    <a:lnTo>
                      <a:pt x="22" y="762"/>
                    </a:lnTo>
                    <a:lnTo>
                      <a:pt x="22" y="740"/>
                    </a:lnTo>
                    <a:lnTo>
                      <a:pt x="22" y="717"/>
                    </a:lnTo>
                    <a:lnTo>
                      <a:pt x="22" y="707"/>
                    </a:lnTo>
                    <a:lnTo>
                      <a:pt x="22" y="684"/>
                    </a:lnTo>
                    <a:lnTo>
                      <a:pt x="22" y="661"/>
                    </a:lnTo>
                    <a:lnTo>
                      <a:pt x="22" y="639"/>
                    </a:lnTo>
                    <a:lnTo>
                      <a:pt x="22" y="627"/>
                    </a:lnTo>
                    <a:lnTo>
                      <a:pt x="22" y="604"/>
                    </a:lnTo>
                    <a:lnTo>
                      <a:pt x="22" y="582"/>
                    </a:lnTo>
                    <a:lnTo>
                      <a:pt x="22" y="560"/>
                    </a:lnTo>
                    <a:lnTo>
                      <a:pt x="11" y="549"/>
                    </a:lnTo>
                    <a:lnTo>
                      <a:pt x="11" y="538"/>
                    </a:lnTo>
                    <a:lnTo>
                      <a:pt x="11" y="526"/>
                    </a:lnTo>
                    <a:lnTo>
                      <a:pt x="11" y="515"/>
                    </a:lnTo>
                    <a:lnTo>
                      <a:pt x="11" y="503"/>
                    </a:lnTo>
                    <a:lnTo>
                      <a:pt x="11" y="493"/>
                    </a:lnTo>
                    <a:lnTo>
                      <a:pt x="11" y="470"/>
                    </a:lnTo>
                    <a:lnTo>
                      <a:pt x="11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11" y="414"/>
                    </a:lnTo>
                    <a:lnTo>
                      <a:pt x="11" y="404"/>
                    </a:lnTo>
                    <a:lnTo>
                      <a:pt x="11" y="392"/>
                    </a:lnTo>
                    <a:lnTo>
                      <a:pt x="11" y="381"/>
                    </a:lnTo>
                    <a:lnTo>
                      <a:pt x="0" y="370"/>
                    </a:lnTo>
                    <a:lnTo>
                      <a:pt x="0" y="359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2"/>
                    </a:lnTo>
                    <a:lnTo>
                      <a:pt x="0" y="280"/>
                    </a:lnTo>
                    <a:lnTo>
                      <a:pt x="0" y="269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33" y="236"/>
                    </a:lnTo>
                    <a:lnTo>
                      <a:pt x="45" y="224"/>
                    </a:lnTo>
                    <a:lnTo>
                      <a:pt x="55" y="224"/>
                    </a:lnTo>
                    <a:lnTo>
                      <a:pt x="67" y="212"/>
                    </a:lnTo>
                    <a:lnTo>
                      <a:pt x="78" y="212"/>
                    </a:lnTo>
                    <a:lnTo>
                      <a:pt x="89" y="212"/>
                    </a:lnTo>
                    <a:lnTo>
                      <a:pt x="101" y="201"/>
                    </a:lnTo>
                    <a:lnTo>
                      <a:pt x="111" y="201"/>
                    </a:lnTo>
                    <a:lnTo>
                      <a:pt x="123" y="190"/>
                    </a:lnTo>
                    <a:lnTo>
                      <a:pt x="134" y="190"/>
                    </a:lnTo>
                    <a:lnTo>
                      <a:pt x="156" y="179"/>
                    </a:lnTo>
                    <a:lnTo>
                      <a:pt x="167" y="179"/>
                    </a:lnTo>
                    <a:lnTo>
                      <a:pt x="179" y="179"/>
                    </a:lnTo>
                    <a:lnTo>
                      <a:pt x="190" y="167"/>
                    </a:lnTo>
                    <a:lnTo>
                      <a:pt x="201" y="157"/>
                    </a:lnTo>
                    <a:lnTo>
                      <a:pt x="224" y="157"/>
                    </a:lnTo>
                    <a:lnTo>
                      <a:pt x="247" y="145"/>
                    </a:lnTo>
                    <a:lnTo>
                      <a:pt x="269" y="134"/>
                    </a:lnTo>
                    <a:lnTo>
                      <a:pt x="292" y="134"/>
                    </a:lnTo>
                    <a:lnTo>
                      <a:pt x="314" y="122"/>
                    </a:lnTo>
                    <a:lnTo>
                      <a:pt x="337" y="111"/>
                    </a:lnTo>
                    <a:lnTo>
                      <a:pt x="358" y="101"/>
                    </a:lnTo>
                    <a:lnTo>
                      <a:pt x="381" y="89"/>
                    </a:lnTo>
                    <a:lnTo>
                      <a:pt x="403" y="78"/>
                    </a:lnTo>
                    <a:lnTo>
                      <a:pt x="426" y="66"/>
                    </a:lnTo>
                    <a:lnTo>
                      <a:pt x="449" y="56"/>
                    </a:lnTo>
                    <a:lnTo>
                      <a:pt x="470" y="45"/>
                    </a:lnTo>
                    <a:lnTo>
                      <a:pt x="493" y="33"/>
                    </a:lnTo>
                    <a:lnTo>
                      <a:pt x="504" y="22"/>
                    </a:lnTo>
                    <a:lnTo>
                      <a:pt x="527" y="10"/>
                    </a:lnTo>
                    <a:lnTo>
                      <a:pt x="548" y="0"/>
                    </a:lnTo>
                    <a:lnTo>
                      <a:pt x="571" y="45"/>
                    </a:lnTo>
                    <a:lnTo>
                      <a:pt x="593" y="89"/>
                    </a:lnTo>
                    <a:lnTo>
                      <a:pt x="604" y="134"/>
                    </a:lnTo>
                    <a:lnTo>
                      <a:pt x="627" y="179"/>
                    </a:lnTo>
                    <a:lnTo>
                      <a:pt x="651" y="224"/>
                    </a:lnTo>
                    <a:lnTo>
                      <a:pt x="661" y="269"/>
                    </a:lnTo>
                    <a:lnTo>
                      <a:pt x="684" y="313"/>
                    </a:lnTo>
                    <a:lnTo>
                      <a:pt x="706" y="359"/>
                    </a:lnTo>
                    <a:lnTo>
                      <a:pt x="729" y="404"/>
                    </a:lnTo>
                    <a:lnTo>
                      <a:pt x="751" y="448"/>
                    </a:lnTo>
                    <a:lnTo>
                      <a:pt x="762" y="493"/>
                    </a:lnTo>
                    <a:lnTo>
                      <a:pt x="785" y="526"/>
                    </a:lnTo>
                    <a:lnTo>
                      <a:pt x="807" y="571"/>
                    </a:lnTo>
                    <a:lnTo>
                      <a:pt x="830" y="616"/>
                    </a:lnTo>
                    <a:lnTo>
                      <a:pt x="851" y="661"/>
                    </a:lnTo>
                    <a:lnTo>
                      <a:pt x="874" y="707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251480" y="3904920"/>
                <a:ext cx="86040" cy="180000"/>
              </a:xfrm>
              <a:custGeom>
                <a:avLst/>
                <a:gdLst/>
                <a:ahLst/>
                <a:rect l="l" t="t" r="r" b="b"/>
                <a:pathLst>
                  <a:path w="223" h="459">
                    <a:moveTo>
                      <a:pt x="223" y="0"/>
                    </a:moveTo>
                    <a:lnTo>
                      <a:pt x="212" y="22"/>
                    </a:lnTo>
                    <a:lnTo>
                      <a:pt x="200" y="55"/>
                    </a:lnTo>
                    <a:lnTo>
                      <a:pt x="190" y="89"/>
                    </a:lnTo>
                    <a:lnTo>
                      <a:pt x="179" y="111"/>
                    </a:lnTo>
                    <a:lnTo>
                      <a:pt x="156" y="145"/>
                    </a:lnTo>
                    <a:lnTo>
                      <a:pt x="144" y="178"/>
                    </a:lnTo>
                    <a:lnTo>
                      <a:pt x="134" y="200"/>
                    </a:lnTo>
                    <a:lnTo>
                      <a:pt x="111" y="234"/>
                    </a:lnTo>
                    <a:lnTo>
                      <a:pt x="100" y="256"/>
                    </a:lnTo>
                    <a:lnTo>
                      <a:pt x="89" y="291"/>
                    </a:lnTo>
                    <a:lnTo>
                      <a:pt x="67" y="312"/>
                    </a:lnTo>
                    <a:lnTo>
                      <a:pt x="55" y="347"/>
                    </a:lnTo>
                    <a:lnTo>
                      <a:pt x="45" y="369"/>
                    </a:lnTo>
                    <a:lnTo>
                      <a:pt x="22" y="404"/>
                    </a:lnTo>
                    <a:lnTo>
                      <a:pt x="10" y="425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7170120" y="4084920"/>
                <a:ext cx="81360" cy="146520"/>
              </a:xfrm>
              <a:custGeom>
                <a:avLst/>
                <a:gdLst/>
                <a:ahLst/>
                <a:rect l="l" t="t" r="r" b="b"/>
                <a:pathLst>
                  <a:path w="214" h="382">
                    <a:moveTo>
                      <a:pt x="214" y="0"/>
                    </a:moveTo>
                    <a:lnTo>
                      <a:pt x="202" y="23"/>
                    </a:lnTo>
                    <a:lnTo>
                      <a:pt x="190" y="44"/>
                    </a:lnTo>
                    <a:lnTo>
                      <a:pt x="167" y="67"/>
                    </a:lnTo>
                    <a:lnTo>
                      <a:pt x="156" y="100"/>
                    </a:lnTo>
                    <a:lnTo>
                      <a:pt x="146" y="123"/>
                    </a:lnTo>
                    <a:lnTo>
                      <a:pt x="134" y="145"/>
                    </a:lnTo>
                    <a:lnTo>
                      <a:pt x="123" y="168"/>
                    </a:lnTo>
                    <a:lnTo>
                      <a:pt x="101" y="190"/>
                    </a:lnTo>
                    <a:lnTo>
                      <a:pt x="90" y="213"/>
                    </a:lnTo>
                    <a:lnTo>
                      <a:pt x="78" y="234"/>
                    </a:lnTo>
                    <a:lnTo>
                      <a:pt x="67" y="257"/>
                    </a:lnTo>
                    <a:lnTo>
                      <a:pt x="45" y="280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2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7111440" y="413604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145" h="247">
                    <a:moveTo>
                      <a:pt x="145" y="247"/>
                    </a:moveTo>
                    <a:lnTo>
                      <a:pt x="134" y="235"/>
                    </a:lnTo>
                    <a:lnTo>
                      <a:pt x="122" y="212"/>
                    </a:lnTo>
                    <a:lnTo>
                      <a:pt x="111" y="202"/>
                    </a:lnTo>
                    <a:lnTo>
                      <a:pt x="101" y="190"/>
                    </a:lnTo>
                    <a:lnTo>
                      <a:pt x="101" y="167"/>
                    </a:lnTo>
                    <a:lnTo>
                      <a:pt x="89" y="155"/>
                    </a:lnTo>
                    <a:lnTo>
                      <a:pt x="78" y="145"/>
                    </a:lnTo>
                    <a:lnTo>
                      <a:pt x="78" y="122"/>
                    </a:lnTo>
                    <a:lnTo>
                      <a:pt x="66" y="111"/>
                    </a:lnTo>
                    <a:lnTo>
                      <a:pt x="56" y="89"/>
                    </a:lnTo>
                    <a:lnTo>
                      <a:pt x="45" y="78"/>
                    </a:lnTo>
                    <a:lnTo>
                      <a:pt x="33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7020360" y="3965760"/>
                <a:ext cx="90720" cy="170280"/>
              </a:xfrm>
              <a:custGeom>
                <a:avLst/>
                <a:gdLst/>
                <a:ahLst/>
                <a:rect l="l" t="t" r="r" b="b"/>
                <a:pathLst>
                  <a:path w="237" h="438">
                    <a:moveTo>
                      <a:pt x="237" y="438"/>
                    </a:moveTo>
                    <a:lnTo>
                      <a:pt x="225" y="415"/>
                    </a:lnTo>
                    <a:lnTo>
                      <a:pt x="204" y="392"/>
                    </a:lnTo>
                    <a:lnTo>
                      <a:pt x="192" y="359"/>
                    </a:lnTo>
                    <a:lnTo>
                      <a:pt x="181" y="337"/>
                    </a:lnTo>
                    <a:lnTo>
                      <a:pt x="157" y="303"/>
                    </a:lnTo>
                    <a:lnTo>
                      <a:pt x="146" y="281"/>
                    </a:lnTo>
                    <a:lnTo>
                      <a:pt x="135" y="248"/>
                    </a:lnTo>
                    <a:lnTo>
                      <a:pt x="124" y="225"/>
                    </a:lnTo>
                    <a:lnTo>
                      <a:pt x="112" y="191"/>
                    </a:lnTo>
                    <a:lnTo>
                      <a:pt x="91" y="168"/>
                    </a:lnTo>
                    <a:lnTo>
                      <a:pt x="79" y="135"/>
                    </a:lnTo>
                    <a:lnTo>
                      <a:pt x="68" y="112"/>
                    </a:lnTo>
                    <a:lnTo>
                      <a:pt x="46" y="78"/>
                    </a:lnTo>
                    <a:lnTo>
                      <a:pt x="34" y="56"/>
                    </a:lnTo>
                    <a:lnTo>
                      <a:pt x="1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7008840" y="3848760"/>
                <a:ext cx="11520" cy="117000"/>
              </a:xfrm>
              <a:custGeom>
                <a:avLst/>
                <a:gdLst/>
                <a:ahLst/>
                <a:rect l="l" t="t" r="r" b="b"/>
                <a:pathLst>
                  <a:path w="33" h="303">
                    <a:moveTo>
                      <a:pt x="33" y="303"/>
                    </a:moveTo>
                    <a:lnTo>
                      <a:pt x="23" y="292"/>
                    </a:lnTo>
                    <a:lnTo>
                      <a:pt x="11" y="269"/>
                    </a:lnTo>
                    <a:lnTo>
                      <a:pt x="11" y="258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0" y="202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79"/>
                    </a:lnTo>
                    <a:lnTo>
                      <a:pt x="0" y="67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6999840" y="3769200"/>
                <a:ext cx="8640" cy="79200"/>
              </a:xfrm>
              <a:custGeom>
                <a:avLst/>
                <a:gdLst/>
                <a:ahLst/>
                <a:rect l="l" t="t" r="r" b="b"/>
                <a:pathLst>
                  <a:path w="22" h="201">
                    <a:moveTo>
                      <a:pt x="22" y="201"/>
                    </a:moveTo>
                    <a:lnTo>
                      <a:pt x="11" y="190"/>
                    </a:lnTo>
                    <a:lnTo>
                      <a:pt x="11" y="179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11"/>
                    </a:lnTo>
                    <a:lnTo>
                      <a:pt x="11" y="101"/>
                    </a:lnTo>
                    <a:lnTo>
                      <a:pt x="11" y="89"/>
                    </a:lnTo>
                    <a:lnTo>
                      <a:pt x="11" y="78"/>
                    </a:lnTo>
                    <a:lnTo>
                      <a:pt x="11" y="55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076520" y="3629520"/>
                <a:ext cx="135360" cy="63000"/>
              </a:xfrm>
              <a:custGeom>
                <a:avLst/>
                <a:gdLst/>
                <a:ahLst/>
                <a:rect l="l" t="t" r="r" b="b"/>
                <a:pathLst>
                  <a:path w="347" h="157">
                    <a:moveTo>
                      <a:pt x="0" y="157"/>
                    </a:moveTo>
                    <a:lnTo>
                      <a:pt x="23" y="157"/>
                    </a:lnTo>
                    <a:lnTo>
                      <a:pt x="46" y="145"/>
                    </a:lnTo>
                    <a:lnTo>
                      <a:pt x="68" y="134"/>
                    </a:lnTo>
                    <a:lnTo>
                      <a:pt x="91" y="134"/>
                    </a:lnTo>
                    <a:lnTo>
                      <a:pt x="113" y="122"/>
                    </a:lnTo>
                    <a:lnTo>
                      <a:pt x="136" y="111"/>
                    </a:lnTo>
                    <a:lnTo>
                      <a:pt x="157" y="101"/>
                    </a:lnTo>
                    <a:lnTo>
                      <a:pt x="180" y="89"/>
                    </a:lnTo>
                    <a:lnTo>
                      <a:pt x="202" y="78"/>
                    </a:lnTo>
                    <a:lnTo>
                      <a:pt x="225" y="66"/>
                    </a:lnTo>
                    <a:lnTo>
                      <a:pt x="248" y="56"/>
                    </a:lnTo>
                    <a:lnTo>
                      <a:pt x="269" y="45"/>
                    </a:lnTo>
                    <a:lnTo>
                      <a:pt x="292" y="33"/>
                    </a:lnTo>
                    <a:lnTo>
                      <a:pt x="303" y="22"/>
                    </a:lnTo>
                    <a:lnTo>
                      <a:pt x="326" y="10"/>
                    </a:lnTo>
                    <a:lnTo>
                      <a:pt x="3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7211880" y="3629520"/>
                <a:ext cx="125640" cy="275040"/>
              </a:xfrm>
              <a:custGeom>
                <a:avLst/>
                <a:gdLst/>
                <a:ahLst/>
                <a:rect l="l" t="t" r="r" b="b"/>
                <a:pathLst>
                  <a:path w="326" h="707">
                    <a:moveTo>
                      <a:pt x="0" y="0"/>
                    </a:moveTo>
                    <a:lnTo>
                      <a:pt x="23" y="45"/>
                    </a:lnTo>
                    <a:lnTo>
                      <a:pt x="45" y="89"/>
                    </a:lnTo>
                    <a:lnTo>
                      <a:pt x="56" y="134"/>
                    </a:lnTo>
                    <a:lnTo>
                      <a:pt x="79" y="179"/>
                    </a:lnTo>
                    <a:lnTo>
                      <a:pt x="103" y="224"/>
                    </a:lnTo>
                    <a:lnTo>
                      <a:pt x="113" y="269"/>
                    </a:lnTo>
                    <a:lnTo>
                      <a:pt x="136" y="313"/>
                    </a:lnTo>
                    <a:lnTo>
                      <a:pt x="158" y="359"/>
                    </a:lnTo>
                    <a:lnTo>
                      <a:pt x="181" y="404"/>
                    </a:lnTo>
                    <a:lnTo>
                      <a:pt x="203" y="448"/>
                    </a:lnTo>
                    <a:lnTo>
                      <a:pt x="214" y="493"/>
                    </a:lnTo>
                    <a:lnTo>
                      <a:pt x="237" y="526"/>
                    </a:lnTo>
                    <a:lnTo>
                      <a:pt x="259" y="571"/>
                    </a:lnTo>
                    <a:lnTo>
                      <a:pt x="282" y="616"/>
                    </a:lnTo>
                    <a:lnTo>
                      <a:pt x="303" y="661"/>
                    </a:lnTo>
                    <a:lnTo>
                      <a:pt x="326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624000" y="36338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594" h="953">
                    <a:moveTo>
                      <a:pt x="582" y="35"/>
                    </a:moveTo>
                    <a:lnTo>
                      <a:pt x="594" y="35"/>
                    </a:lnTo>
                    <a:lnTo>
                      <a:pt x="594" y="46"/>
                    </a:lnTo>
                    <a:lnTo>
                      <a:pt x="594" y="56"/>
                    </a:lnTo>
                    <a:lnTo>
                      <a:pt x="594" y="68"/>
                    </a:lnTo>
                    <a:lnTo>
                      <a:pt x="594" y="79"/>
                    </a:lnTo>
                    <a:lnTo>
                      <a:pt x="582" y="91"/>
                    </a:lnTo>
                    <a:lnTo>
                      <a:pt x="582" y="101"/>
                    </a:lnTo>
                    <a:lnTo>
                      <a:pt x="582" y="147"/>
                    </a:lnTo>
                    <a:lnTo>
                      <a:pt x="582" y="191"/>
                    </a:lnTo>
                    <a:lnTo>
                      <a:pt x="582" y="226"/>
                    </a:lnTo>
                    <a:lnTo>
                      <a:pt x="572" y="270"/>
                    </a:lnTo>
                    <a:lnTo>
                      <a:pt x="572" y="315"/>
                    </a:lnTo>
                    <a:lnTo>
                      <a:pt x="572" y="360"/>
                    </a:lnTo>
                    <a:lnTo>
                      <a:pt x="582" y="404"/>
                    </a:lnTo>
                    <a:lnTo>
                      <a:pt x="582" y="450"/>
                    </a:lnTo>
                    <a:lnTo>
                      <a:pt x="582" y="493"/>
                    </a:lnTo>
                    <a:lnTo>
                      <a:pt x="582" y="539"/>
                    </a:lnTo>
                    <a:lnTo>
                      <a:pt x="582" y="584"/>
                    </a:lnTo>
                    <a:lnTo>
                      <a:pt x="582" y="629"/>
                    </a:lnTo>
                    <a:lnTo>
                      <a:pt x="582" y="674"/>
                    </a:lnTo>
                    <a:lnTo>
                      <a:pt x="594" y="719"/>
                    </a:lnTo>
                    <a:lnTo>
                      <a:pt x="594" y="763"/>
                    </a:lnTo>
                    <a:lnTo>
                      <a:pt x="582" y="808"/>
                    </a:lnTo>
                    <a:lnTo>
                      <a:pt x="582" y="819"/>
                    </a:lnTo>
                    <a:lnTo>
                      <a:pt x="594" y="831"/>
                    </a:lnTo>
                    <a:lnTo>
                      <a:pt x="594" y="842"/>
                    </a:lnTo>
                    <a:lnTo>
                      <a:pt x="594" y="853"/>
                    </a:lnTo>
                    <a:lnTo>
                      <a:pt x="594" y="864"/>
                    </a:lnTo>
                    <a:lnTo>
                      <a:pt x="594" y="875"/>
                    </a:lnTo>
                    <a:lnTo>
                      <a:pt x="582" y="875"/>
                    </a:lnTo>
                    <a:lnTo>
                      <a:pt x="572" y="887"/>
                    </a:lnTo>
                    <a:lnTo>
                      <a:pt x="560" y="887"/>
                    </a:lnTo>
                    <a:lnTo>
                      <a:pt x="538" y="897"/>
                    </a:lnTo>
                    <a:lnTo>
                      <a:pt x="526" y="897"/>
                    </a:lnTo>
                    <a:lnTo>
                      <a:pt x="504" y="909"/>
                    </a:lnTo>
                    <a:lnTo>
                      <a:pt x="493" y="909"/>
                    </a:lnTo>
                    <a:lnTo>
                      <a:pt x="481" y="909"/>
                    </a:lnTo>
                    <a:lnTo>
                      <a:pt x="460" y="920"/>
                    </a:lnTo>
                    <a:lnTo>
                      <a:pt x="448" y="920"/>
                    </a:lnTo>
                    <a:lnTo>
                      <a:pt x="425" y="920"/>
                    </a:lnTo>
                    <a:lnTo>
                      <a:pt x="415" y="931"/>
                    </a:lnTo>
                    <a:lnTo>
                      <a:pt x="392" y="931"/>
                    </a:lnTo>
                    <a:lnTo>
                      <a:pt x="381" y="943"/>
                    </a:lnTo>
                    <a:lnTo>
                      <a:pt x="370" y="943"/>
                    </a:lnTo>
                    <a:lnTo>
                      <a:pt x="347" y="943"/>
                    </a:lnTo>
                    <a:lnTo>
                      <a:pt x="336" y="953"/>
                    </a:lnTo>
                    <a:lnTo>
                      <a:pt x="324" y="953"/>
                    </a:lnTo>
                    <a:lnTo>
                      <a:pt x="313" y="953"/>
                    </a:lnTo>
                    <a:lnTo>
                      <a:pt x="302" y="953"/>
                    </a:lnTo>
                    <a:lnTo>
                      <a:pt x="290" y="953"/>
                    </a:lnTo>
                    <a:lnTo>
                      <a:pt x="279" y="953"/>
                    </a:lnTo>
                    <a:lnTo>
                      <a:pt x="269" y="953"/>
                    </a:lnTo>
                    <a:lnTo>
                      <a:pt x="257" y="943"/>
                    </a:lnTo>
                    <a:lnTo>
                      <a:pt x="246" y="943"/>
                    </a:lnTo>
                    <a:lnTo>
                      <a:pt x="234" y="931"/>
                    </a:lnTo>
                    <a:lnTo>
                      <a:pt x="246" y="897"/>
                    </a:lnTo>
                    <a:lnTo>
                      <a:pt x="234" y="864"/>
                    </a:lnTo>
                    <a:lnTo>
                      <a:pt x="234" y="831"/>
                    </a:lnTo>
                    <a:lnTo>
                      <a:pt x="223" y="798"/>
                    </a:lnTo>
                    <a:lnTo>
                      <a:pt x="223" y="763"/>
                    </a:lnTo>
                    <a:lnTo>
                      <a:pt x="213" y="730"/>
                    </a:lnTo>
                    <a:lnTo>
                      <a:pt x="213" y="697"/>
                    </a:lnTo>
                    <a:lnTo>
                      <a:pt x="201" y="663"/>
                    </a:lnTo>
                    <a:lnTo>
                      <a:pt x="201" y="629"/>
                    </a:lnTo>
                    <a:lnTo>
                      <a:pt x="190" y="594"/>
                    </a:lnTo>
                    <a:lnTo>
                      <a:pt x="190" y="561"/>
                    </a:lnTo>
                    <a:lnTo>
                      <a:pt x="178" y="528"/>
                    </a:lnTo>
                    <a:lnTo>
                      <a:pt x="168" y="493"/>
                    </a:lnTo>
                    <a:lnTo>
                      <a:pt x="157" y="460"/>
                    </a:lnTo>
                    <a:lnTo>
                      <a:pt x="145" y="427"/>
                    </a:lnTo>
                    <a:lnTo>
                      <a:pt x="134" y="394"/>
                    </a:lnTo>
                    <a:lnTo>
                      <a:pt x="123" y="371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79"/>
                    </a:lnTo>
                    <a:lnTo>
                      <a:pt x="23" y="68"/>
                    </a:lnTo>
                    <a:lnTo>
                      <a:pt x="33" y="68"/>
                    </a:lnTo>
                    <a:lnTo>
                      <a:pt x="44" y="68"/>
                    </a:lnTo>
                    <a:lnTo>
                      <a:pt x="79" y="46"/>
                    </a:lnTo>
                    <a:lnTo>
                      <a:pt x="112" y="46"/>
                    </a:lnTo>
                    <a:lnTo>
                      <a:pt x="145" y="35"/>
                    </a:lnTo>
                    <a:lnTo>
                      <a:pt x="178" y="23"/>
                    </a:lnTo>
                    <a:lnTo>
                      <a:pt x="213" y="12"/>
                    </a:lnTo>
                    <a:lnTo>
                      <a:pt x="246" y="12"/>
                    </a:lnTo>
                    <a:lnTo>
                      <a:pt x="279" y="0"/>
                    </a:lnTo>
                    <a:lnTo>
                      <a:pt x="313" y="0"/>
                    </a:lnTo>
                    <a:lnTo>
                      <a:pt x="359" y="0"/>
                    </a:lnTo>
                    <a:lnTo>
                      <a:pt x="392" y="0"/>
                    </a:lnTo>
                    <a:lnTo>
                      <a:pt x="425" y="0"/>
                    </a:lnTo>
                    <a:lnTo>
                      <a:pt x="460" y="0"/>
                    </a:lnTo>
                    <a:lnTo>
                      <a:pt x="493" y="12"/>
                    </a:lnTo>
                    <a:lnTo>
                      <a:pt x="526" y="12"/>
                    </a:lnTo>
                    <a:lnTo>
                      <a:pt x="560" y="23"/>
                    </a:lnTo>
                    <a:lnTo>
                      <a:pt x="582" y="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845760" y="3673440"/>
                <a:ext cx="8640" cy="275760"/>
              </a:xfrm>
              <a:custGeom>
                <a:avLst/>
                <a:gdLst/>
                <a:ahLst/>
                <a:rect l="l" t="t" r="r" b="b"/>
                <a:pathLst>
                  <a:path w="22" h="707">
                    <a:moveTo>
                      <a:pt x="10" y="0"/>
                    </a:moveTo>
                    <a:lnTo>
                      <a:pt x="10" y="46"/>
                    </a:lnTo>
                    <a:lnTo>
                      <a:pt x="10" y="90"/>
                    </a:lnTo>
                    <a:lnTo>
                      <a:pt x="10" y="125"/>
                    </a:lnTo>
                    <a:lnTo>
                      <a:pt x="0" y="169"/>
                    </a:lnTo>
                    <a:lnTo>
                      <a:pt x="0" y="214"/>
                    </a:lnTo>
                    <a:lnTo>
                      <a:pt x="0" y="259"/>
                    </a:lnTo>
                    <a:lnTo>
                      <a:pt x="10" y="303"/>
                    </a:lnTo>
                    <a:lnTo>
                      <a:pt x="10" y="349"/>
                    </a:lnTo>
                    <a:lnTo>
                      <a:pt x="10" y="392"/>
                    </a:lnTo>
                    <a:lnTo>
                      <a:pt x="10" y="438"/>
                    </a:lnTo>
                    <a:lnTo>
                      <a:pt x="10" y="483"/>
                    </a:lnTo>
                    <a:lnTo>
                      <a:pt x="10" y="528"/>
                    </a:lnTo>
                    <a:lnTo>
                      <a:pt x="10" y="573"/>
                    </a:lnTo>
                    <a:lnTo>
                      <a:pt x="22" y="618"/>
                    </a:lnTo>
                    <a:lnTo>
                      <a:pt x="22" y="662"/>
                    </a:lnTo>
                    <a:lnTo>
                      <a:pt x="10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6672600" y="3778920"/>
                <a:ext cx="46440" cy="205200"/>
              </a:xfrm>
              <a:custGeom>
                <a:avLst/>
                <a:gdLst/>
                <a:ahLst/>
                <a:rect l="l" t="t" r="r" b="b"/>
                <a:pathLst>
                  <a:path w="123" h="526">
                    <a:moveTo>
                      <a:pt x="123" y="526"/>
                    </a:moveTo>
                    <a:lnTo>
                      <a:pt x="111" y="493"/>
                    </a:lnTo>
                    <a:lnTo>
                      <a:pt x="111" y="460"/>
                    </a:lnTo>
                    <a:lnTo>
                      <a:pt x="100" y="427"/>
                    </a:lnTo>
                    <a:lnTo>
                      <a:pt x="100" y="392"/>
                    </a:lnTo>
                    <a:lnTo>
                      <a:pt x="90" y="359"/>
                    </a:lnTo>
                    <a:lnTo>
                      <a:pt x="90" y="326"/>
                    </a:lnTo>
                    <a:lnTo>
                      <a:pt x="78" y="292"/>
                    </a:lnTo>
                    <a:lnTo>
                      <a:pt x="78" y="258"/>
                    </a:lnTo>
                    <a:lnTo>
                      <a:pt x="67" y="223"/>
                    </a:lnTo>
                    <a:lnTo>
                      <a:pt x="67" y="190"/>
                    </a:lnTo>
                    <a:lnTo>
                      <a:pt x="55" y="157"/>
                    </a:lnTo>
                    <a:lnTo>
                      <a:pt x="45" y="122"/>
                    </a:lnTo>
                    <a:lnTo>
                      <a:pt x="34" y="89"/>
                    </a:lnTo>
                    <a:lnTo>
                      <a:pt x="22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 flipH="1" flipV="1">
                <a:off x="6623640" y="3673440"/>
                <a:ext cx="48600" cy="105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642360" y="3648240"/>
                <a:ext cx="198360" cy="342720"/>
              </a:xfrm>
              <a:custGeom>
                <a:avLst/>
                <a:gdLst/>
                <a:ahLst/>
                <a:rect l="l" t="t" r="r" b="b"/>
                <a:pathLst>
                  <a:path w="516" h="885">
                    <a:moveTo>
                      <a:pt x="482" y="21"/>
                    </a:moveTo>
                    <a:lnTo>
                      <a:pt x="482" y="11"/>
                    </a:lnTo>
                    <a:lnTo>
                      <a:pt x="494" y="11"/>
                    </a:lnTo>
                    <a:lnTo>
                      <a:pt x="494" y="21"/>
                    </a:lnTo>
                    <a:lnTo>
                      <a:pt x="505" y="21"/>
                    </a:lnTo>
                    <a:lnTo>
                      <a:pt x="516" y="21"/>
                    </a:lnTo>
                    <a:lnTo>
                      <a:pt x="516" y="33"/>
                    </a:lnTo>
                    <a:lnTo>
                      <a:pt x="505" y="77"/>
                    </a:lnTo>
                    <a:lnTo>
                      <a:pt x="494" y="122"/>
                    </a:lnTo>
                    <a:lnTo>
                      <a:pt x="494" y="167"/>
                    </a:lnTo>
                    <a:lnTo>
                      <a:pt x="482" y="224"/>
                    </a:lnTo>
                    <a:lnTo>
                      <a:pt x="482" y="268"/>
                    </a:lnTo>
                    <a:lnTo>
                      <a:pt x="482" y="325"/>
                    </a:lnTo>
                    <a:lnTo>
                      <a:pt x="482" y="369"/>
                    </a:lnTo>
                    <a:lnTo>
                      <a:pt x="494" y="425"/>
                    </a:lnTo>
                    <a:lnTo>
                      <a:pt x="494" y="470"/>
                    </a:lnTo>
                    <a:lnTo>
                      <a:pt x="494" y="526"/>
                    </a:lnTo>
                    <a:lnTo>
                      <a:pt x="494" y="582"/>
                    </a:lnTo>
                    <a:lnTo>
                      <a:pt x="505" y="628"/>
                    </a:lnTo>
                    <a:lnTo>
                      <a:pt x="505" y="684"/>
                    </a:lnTo>
                    <a:lnTo>
                      <a:pt x="505" y="728"/>
                    </a:lnTo>
                    <a:lnTo>
                      <a:pt x="505" y="784"/>
                    </a:lnTo>
                    <a:lnTo>
                      <a:pt x="505" y="829"/>
                    </a:lnTo>
                    <a:lnTo>
                      <a:pt x="494" y="829"/>
                    </a:lnTo>
                    <a:lnTo>
                      <a:pt x="472" y="840"/>
                    </a:lnTo>
                    <a:lnTo>
                      <a:pt x="460" y="840"/>
                    </a:lnTo>
                    <a:lnTo>
                      <a:pt x="437" y="852"/>
                    </a:lnTo>
                    <a:lnTo>
                      <a:pt x="427" y="852"/>
                    </a:lnTo>
                    <a:lnTo>
                      <a:pt x="404" y="852"/>
                    </a:lnTo>
                    <a:lnTo>
                      <a:pt x="393" y="862"/>
                    </a:lnTo>
                    <a:lnTo>
                      <a:pt x="381" y="862"/>
                    </a:lnTo>
                    <a:lnTo>
                      <a:pt x="360" y="874"/>
                    </a:lnTo>
                    <a:lnTo>
                      <a:pt x="348" y="874"/>
                    </a:lnTo>
                    <a:lnTo>
                      <a:pt x="326" y="874"/>
                    </a:lnTo>
                    <a:lnTo>
                      <a:pt x="315" y="874"/>
                    </a:lnTo>
                    <a:lnTo>
                      <a:pt x="292" y="885"/>
                    </a:lnTo>
                    <a:lnTo>
                      <a:pt x="280" y="885"/>
                    </a:lnTo>
                    <a:lnTo>
                      <a:pt x="258" y="885"/>
                    </a:lnTo>
                    <a:lnTo>
                      <a:pt x="235" y="874"/>
                    </a:lnTo>
                    <a:lnTo>
                      <a:pt x="235" y="818"/>
                    </a:lnTo>
                    <a:lnTo>
                      <a:pt x="235" y="773"/>
                    </a:lnTo>
                    <a:lnTo>
                      <a:pt x="225" y="717"/>
                    </a:lnTo>
                    <a:lnTo>
                      <a:pt x="213" y="662"/>
                    </a:lnTo>
                    <a:lnTo>
                      <a:pt x="213" y="606"/>
                    </a:lnTo>
                    <a:lnTo>
                      <a:pt x="202" y="559"/>
                    </a:lnTo>
                    <a:lnTo>
                      <a:pt x="190" y="504"/>
                    </a:lnTo>
                    <a:lnTo>
                      <a:pt x="179" y="448"/>
                    </a:lnTo>
                    <a:lnTo>
                      <a:pt x="157" y="403"/>
                    </a:lnTo>
                    <a:lnTo>
                      <a:pt x="146" y="347"/>
                    </a:lnTo>
                    <a:lnTo>
                      <a:pt x="124" y="303"/>
                    </a:lnTo>
                    <a:lnTo>
                      <a:pt x="101" y="258"/>
                    </a:lnTo>
                    <a:lnTo>
                      <a:pt x="79" y="202"/>
                    </a:lnTo>
                    <a:lnTo>
                      <a:pt x="56" y="156"/>
                    </a:lnTo>
                    <a:lnTo>
                      <a:pt x="23" y="112"/>
                    </a:lnTo>
                    <a:lnTo>
                      <a:pt x="0" y="66"/>
                    </a:lnTo>
                    <a:lnTo>
                      <a:pt x="23" y="56"/>
                    </a:lnTo>
                    <a:lnTo>
                      <a:pt x="45" y="44"/>
                    </a:lnTo>
                    <a:lnTo>
                      <a:pt x="79" y="33"/>
                    </a:lnTo>
                    <a:lnTo>
                      <a:pt x="101" y="21"/>
                    </a:lnTo>
                    <a:lnTo>
                      <a:pt x="134" y="11"/>
                    </a:lnTo>
                    <a:lnTo>
                      <a:pt x="169" y="11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58" y="0"/>
                    </a:lnTo>
                    <a:lnTo>
                      <a:pt x="292" y="0"/>
                    </a:lnTo>
                    <a:lnTo>
                      <a:pt x="326" y="0"/>
                    </a:lnTo>
                    <a:lnTo>
                      <a:pt x="360" y="0"/>
                    </a:lnTo>
                    <a:lnTo>
                      <a:pt x="381" y="0"/>
                    </a:lnTo>
                    <a:lnTo>
                      <a:pt x="416" y="11"/>
                    </a:lnTo>
                    <a:lnTo>
                      <a:pt x="449" y="11"/>
                    </a:lnTo>
                    <a:lnTo>
                      <a:pt x="482" y="21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829200" y="3661920"/>
                <a:ext cx="11520" cy="307800"/>
              </a:xfrm>
              <a:custGeom>
                <a:avLst/>
                <a:gdLst/>
                <a:ahLst/>
                <a:rect l="l" t="t" r="r" b="b"/>
                <a:pathLst>
                  <a:path w="34" h="796">
                    <a:moveTo>
                      <a:pt x="34" y="0"/>
                    </a:moveTo>
                    <a:lnTo>
                      <a:pt x="23" y="44"/>
                    </a:lnTo>
                    <a:lnTo>
                      <a:pt x="12" y="89"/>
                    </a:lnTo>
                    <a:lnTo>
                      <a:pt x="12" y="134"/>
                    </a:lnTo>
                    <a:lnTo>
                      <a:pt x="0" y="191"/>
                    </a:lnTo>
                    <a:lnTo>
                      <a:pt x="0" y="235"/>
                    </a:lnTo>
                    <a:lnTo>
                      <a:pt x="0" y="292"/>
                    </a:lnTo>
                    <a:lnTo>
                      <a:pt x="0" y="336"/>
                    </a:lnTo>
                    <a:lnTo>
                      <a:pt x="12" y="392"/>
                    </a:lnTo>
                    <a:lnTo>
                      <a:pt x="12" y="437"/>
                    </a:lnTo>
                    <a:lnTo>
                      <a:pt x="12" y="493"/>
                    </a:lnTo>
                    <a:lnTo>
                      <a:pt x="12" y="549"/>
                    </a:lnTo>
                    <a:lnTo>
                      <a:pt x="23" y="595"/>
                    </a:lnTo>
                    <a:lnTo>
                      <a:pt x="23" y="651"/>
                    </a:lnTo>
                    <a:lnTo>
                      <a:pt x="23" y="695"/>
                    </a:lnTo>
                    <a:lnTo>
                      <a:pt x="23" y="751"/>
                    </a:lnTo>
                    <a:lnTo>
                      <a:pt x="2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642360" y="3673440"/>
                <a:ext cx="90720" cy="315360"/>
              </a:xfrm>
              <a:custGeom>
                <a:avLst/>
                <a:gdLst/>
                <a:ahLst/>
                <a:rect l="l" t="t" r="r" b="b"/>
                <a:pathLst>
                  <a:path w="235" h="808">
                    <a:moveTo>
                      <a:pt x="235" y="808"/>
                    </a:moveTo>
                    <a:lnTo>
                      <a:pt x="235" y="752"/>
                    </a:lnTo>
                    <a:lnTo>
                      <a:pt x="235" y="707"/>
                    </a:lnTo>
                    <a:lnTo>
                      <a:pt x="225" y="651"/>
                    </a:lnTo>
                    <a:lnTo>
                      <a:pt x="213" y="596"/>
                    </a:lnTo>
                    <a:lnTo>
                      <a:pt x="213" y="540"/>
                    </a:lnTo>
                    <a:lnTo>
                      <a:pt x="202" y="493"/>
                    </a:lnTo>
                    <a:lnTo>
                      <a:pt x="190" y="438"/>
                    </a:lnTo>
                    <a:lnTo>
                      <a:pt x="179" y="382"/>
                    </a:lnTo>
                    <a:lnTo>
                      <a:pt x="157" y="337"/>
                    </a:lnTo>
                    <a:lnTo>
                      <a:pt x="146" y="281"/>
                    </a:lnTo>
                    <a:lnTo>
                      <a:pt x="124" y="237"/>
                    </a:lnTo>
                    <a:lnTo>
                      <a:pt x="101" y="192"/>
                    </a:lnTo>
                    <a:lnTo>
                      <a:pt x="79" y="136"/>
                    </a:lnTo>
                    <a:lnTo>
                      <a:pt x="56" y="90"/>
                    </a:lnTo>
                    <a:lnTo>
                      <a:pt x="23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414120" y="3699360"/>
                <a:ext cx="293400" cy="359280"/>
              </a:xfrm>
              <a:custGeom>
                <a:avLst/>
                <a:gdLst/>
                <a:ahLst/>
                <a:rect l="l" t="t" r="r" b="b"/>
                <a:pathLst>
                  <a:path w="752" h="920">
                    <a:moveTo>
                      <a:pt x="684" y="370"/>
                    </a:moveTo>
                    <a:lnTo>
                      <a:pt x="696" y="392"/>
                    </a:lnTo>
                    <a:lnTo>
                      <a:pt x="707" y="415"/>
                    </a:lnTo>
                    <a:lnTo>
                      <a:pt x="707" y="437"/>
                    </a:lnTo>
                    <a:lnTo>
                      <a:pt x="717" y="460"/>
                    </a:lnTo>
                    <a:lnTo>
                      <a:pt x="717" y="494"/>
                    </a:lnTo>
                    <a:lnTo>
                      <a:pt x="729" y="516"/>
                    </a:lnTo>
                    <a:lnTo>
                      <a:pt x="729" y="538"/>
                    </a:lnTo>
                    <a:lnTo>
                      <a:pt x="729" y="572"/>
                    </a:lnTo>
                    <a:lnTo>
                      <a:pt x="740" y="594"/>
                    </a:lnTo>
                    <a:lnTo>
                      <a:pt x="740" y="617"/>
                    </a:lnTo>
                    <a:lnTo>
                      <a:pt x="740" y="650"/>
                    </a:lnTo>
                    <a:lnTo>
                      <a:pt x="740" y="673"/>
                    </a:lnTo>
                    <a:lnTo>
                      <a:pt x="740" y="695"/>
                    </a:lnTo>
                    <a:lnTo>
                      <a:pt x="740" y="728"/>
                    </a:lnTo>
                    <a:lnTo>
                      <a:pt x="740" y="751"/>
                    </a:lnTo>
                    <a:lnTo>
                      <a:pt x="752" y="774"/>
                    </a:lnTo>
                    <a:lnTo>
                      <a:pt x="729" y="784"/>
                    </a:lnTo>
                    <a:lnTo>
                      <a:pt x="717" y="796"/>
                    </a:lnTo>
                    <a:lnTo>
                      <a:pt x="707" y="807"/>
                    </a:lnTo>
                    <a:lnTo>
                      <a:pt x="696" y="807"/>
                    </a:lnTo>
                    <a:lnTo>
                      <a:pt x="673" y="819"/>
                    </a:lnTo>
                    <a:lnTo>
                      <a:pt x="662" y="829"/>
                    </a:lnTo>
                    <a:lnTo>
                      <a:pt x="651" y="829"/>
                    </a:lnTo>
                    <a:lnTo>
                      <a:pt x="639" y="840"/>
                    </a:lnTo>
                    <a:lnTo>
                      <a:pt x="618" y="840"/>
                    </a:lnTo>
                    <a:lnTo>
                      <a:pt x="606" y="852"/>
                    </a:lnTo>
                    <a:lnTo>
                      <a:pt x="595" y="863"/>
                    </a:lnTo>
                    <a:lnTo>
                      <a:pt x="583" y="863"/>
                    </a:lnTo>
                    <a:lnTo>
                      <a:pt x="562" y="875"/>
                    </a:lnTo>
                    <a:lnTo>
                      <a:pt x="550" y="875"/>
                    </a:lnTo>
                    <a:lnTo>
                      <a:pt x="539" y="886"/>
                    </a:lnTo>
                    <a:lnTo>
                      <a:pt x="527" y="897"/>
                    </a:lnTo>
                    <a:lnTo>
                      <a:pt x="506" y="897"/>
                    </a:lnTo>
                    <a:lnTo>
                      <a:pt x="483" y="909"/>
                    </a:lnTo>
                    <a:lnTo>
                      <a:pt x="471" y="909"/>
                    </a:lnTo>
                    <a:lnTo>
                      <a:pt x="449" y="909"/>
                    </a:lnTo>
                    <a:lnTo>
                      <a:pt x="437" y="909"/>
                    </a:lnTo>
                    <a:lnTo>
                      <a:pt x="414" y="920"/>
                    </a:lnTo>
                    <a:lnTo>
                      <a:pt x="404" y="920"/>
                    </a:lnTo>
                    <a:lnTo>
                      <a:pt x="381" y="920"/>
                    </a:lnTo>
                    <a:lnTo>
                      <a:pt x="359" y="920"/>
                    </a:lnTo>
                    <a:lnTo>
                      <a:pt x="348" y="920"/>
                    </a:lnTo>
                    <a:lnTo>
                      <a:pt x="325" y="909"/>
                    </a:lnTo>
                    <a:lnTo>
                      <a:pt x="315" y="909"/>
                    </a:lnTo>
                    <a:lnTo>
                      <a:pt x="292" y="909"/>
                    </a:lnTo>
                    <a:lnTo>
                      <a:pt x="280" y="909"/>
                    </a:lnTo>
                    <a:lnTo>
                      <a:pt x="259" y="897"/>
                    </a:lnTo>
                    <a:lnTo>
                      <a:pt x="236" y="897"/>
                    </a:lnTo>
                    <a:lnTo>
                      <a:pt x="236" y="886"/>
                    </a:lnTo>
                    <a:lnTo>
                      <a:pt x="224" y="875"/>
                    </a:lnTo>
                    <a:lnTo>
                      <a:pt x="214" y="875"/>
                    </a:lnTo>
                    <a:lnTo>
                      <a:pt x="214" y="863"/>
                    </a:lnTo>
                    <a:lnTo>
                      <a:pt x="202" y="852"/>
                    </a:lnTo>
                    <a:lnTo>
                      <a:pt x="202" y="840"/>
                    </a:lnTo>
                    <a:lnTo>
                      <a:pt x="191" y="840"/>
                    </a:lnTo>
                    <a:lnTo>
                      <a:pt x="191" y="829"/>
                    </a:lnTo>
                    <a:lnTo>
                      <a:pt x="191" y="819"/>
                    </a:lnTo>
                    <a:lnTo>
                      <a:pt x="180" y="807"/>
                    </a:lnTo>
                    <a:lnTo>
                      <a:pt x="180" y="796"/>
                    </a:lnTo>
                    <a:lnTo>
                      <a:pt x="169" y="784"/>
                    </a:lnTo>
                    <a:lnTo>
                      <a:pt x="158" y="774"/>
                    </a:lnTo>
                    <a:lnTo>
                      <a:pt x="158" y="762"/>
                    </a:lnTo>
                    <a:lnTo>
                      <a:pt x="146" y="751"/>
                    </a:lnTo>
                    <a:lnTo>
                      <a:pt x="135" y="740"/>
                    </a:lnTo>
                    <a:lnTo>
                      <a:pt x="135" y="728"/>
                    </a:lnTo>
                    <a:lnTo>
                      <a:pt x="125" y="718"/>
                    </a:lnTo>
                    <a:lnTo>
                      <a:pt x="113" y="706"/>
                    </a:lnTo>
                    <a:lnTo>
                      <a:pt x="102" y="695"/>
                    </a:lnTo>
                    <a:lnTo>
                      <a:pt x="102" y="684"/>
                    </a:lnTo>
                    <a:lnTo>
                      <a:pt x="90" y="673"/>
                    </a:lnTo>
                    <a:lnTo>
                      <a:pt x="79" y="662"/>
                    </a:lnTo>
                    <a:lnTo>
                      <a:pt x="69" y="650"/>
                    </a:lnTo>
                    <a:lnTo>
                      <a:pt x="57" y="629"/>
                    </a:lnTo>
                    <a:lnTo>
                      <a:pt x="57" y="617"/>
                    </a:lnTo>
                    <a:lnTo>
                      <a:pt x="46" y="606"/>
                    </a:lnTo>
                    <a:lnTo>
                      <a:pt x="34" y="594"/>
                    </a:lnTo>
                    <a:lnTo>
                      <a:pt x="22" y="583"/>
                    </a:lnTo>
                    <a:lnTo>
                      <a:pt x="12" y="572"/>
                    </a:lnTo>
                    <a:lnTo>
                      <a:pt x="0" y="561"/>
                    </a:lnTo>
                    <a:lnTo>
                      <a:pt x="0" y="550"/>
                    </a:lnTo>
                    <a:lnTo>
                      <a:pt x="0" y="538"/>
                    </a:lnTo>
                    <a:lnTo>
                      <a:pt x="0" y="528"/>
                    </a:lnTo>
                    <a:lnTo>
                      <a:pt x="12" y="528"/>
                    </a:lnTo>
                    <a:lnTo>
                      <a:pt x="12" y="516"/>
                    </a:lnTo>
                    <a:lnTo>
                      <a:pt x="12" y="505"/>
                    </a:lnTo>
                    <a:lnTo>
                      <a:pt x="22" y="505"/>
                    </a:lnTo>
                    <a:lnTo>
                      <a:pt x="22" y="494"/>
                    </a:lnTo>
                    <a:lnTo>
                      <a:pt x="34" y="494"/>
                    </a:lnTo>
                    <a:lnTo>
                      <a:pt x="34" y="482"/>
                    </a:lnTo>
                    <a:lnTo>
                      <a:pt x="46" y="482"/>
                    </a:lnTo>
                    <a:lnTo>
                      <a:pt x="69" y="460"/>
                    </a:lnTo>
                    <a:lnTo>
                      <a:pt x="102" y="425"/>
                    </a:lnTo>
                    <a:lnTo>
                      <a:pt x="125" y="403"/>
                    </a:lnTo>
                    <a:lnTo>
                      <a:pt x="158" y="381"/>
                    </a:lnTo>
                    <a:lnTo>
                      <a:pt x="180" y="347"/>
                    </a:lnTo>
                    <a:lnTo>
                      <a:pt x="214" y="324"/>
                    </a:lnTo>
                    <a:lnTo>
                      <a:pt x="236" y="303"/>
                    </a:lnTo>
                    <a:lnTo>
                      <a:pt x="270" y="269"/>
                    </a:lnTo>
                    <a:lnTo>
                      <a:pt x="292" y="247"/>
                    </a:lnTo>
                    <a:lnTo>
                      <a:pt x="325" y="213"/>
                    </a:lnTo>
                    <a:lnTo>
                      <a:pt x="348" y="191"/>
                    </a:lnTo>
                    <a:lnTo>
                      <a:pt x="370" y="157"/>
                    </a:lnTo>
                    <a:lnTo>
                      <a:pt x="392" y="134"/>
                    </a:lnTo>
                    <a:lnTo>
                      <a:pt x="426" y="101"/>
                    </a:lnTo>
                    <a:lnTo>
                      <a:pt x="449" y="68"/>
                    </a:lnTo>
                    <a:lnTo>
                      <a:pt x="471" y="45"/>
                    </a:lnTo>
                    <a:lnTo>
                      <a:pt x="471" y="33"/>
                    </a:lnTo>
                    <a:lnTo>
                      <a:pt x="471" y="22"/>
                    </a:lnTo>
                    <a:lnTo>
                      <a:pt x="471" y="11"/>
                    </a:lnTo>
                    <a:lnTo>
                      <a:pt x="483" y="11"/>
                    </a:lnTo>
                    <a:lnTo>
                      <a:pt x="483" y="0"/>
                    </a:lnTo>
                    <a:lnTo>
                      <a:pt x="494" y="0"/>
                    </a:lnTo>
                    <a:lnTo>
                      <a:pt x="517" y="11"/>
                    </a:lnTo>
                    <a:lnTo>
                      <a:pt x="527" y="33"/>
                    </a:lnTo>
                    <a:lnTo>
                      <a:pt x="550" y="57"/>
                    </a:lnTo>
                    <a:lnTo>
                      <a:pt x="572" y="79"/>
                    </a:lnTo>
                    <a:lnTo>
                      <a:pt x="583" y="101"/>
                    </a:lnTo>
                    <a:lnTo>
                      <a:pt x="595" y="124"/>
                    </a:lnTo>
                    <a:lnTo>
                      <a:pt x="606" y="146"/>
                    </a:lnTo>
                    <a:lnTo>
                      <a:pt x="618" y="169"/>
                    </a:lnTo>
                    <a:lnTo>
                      <a:pt x="628" y="191"/>
                    </a:lnTo>
                    <a:lnTo>
                      <a:pt x="639" y="213"/>
                    </a:lnTo>
                    <a:lnTo>
                      <a:pt x="639" y="247"/>
                    </a:lnTo>
                    <a:lnTo>
                      <a:pt x="651" y="269"/>
                    </a:lnTo>
                    <a:lnTo>
                      <a:pt x="662" y="291"/>
                    </a:lnTo>
                    <a:lnTo>
                      <a:pt x="662" y="314"/>
                    </a:lnTo>
                    <a:lnTo>
                      <a:pt x="673" y="347"/>
                    </a:lnTo>
                    <a:lnTo>
                      <a:pt x="684" y="3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6679440" y="3844080"/>
                <a:ext cx="27720" cy="156600"/>
              </a:xfrm>
              <a:custGeom>
                <a:avLst/>
                <a:gdLst/>
                <a:ahLst/>
                <a:rect l="l" t="t" r="r" b="b"/>
                <a:pathLst>
                  <a:path w="68" h="404">
                    <a:moveTo>
                      <a:pt x="0" y="0"/>
                    </a:moveTo>
                    <a:lnTo>
                      <a:pt x="12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33" y="90"/>
                    </a:lnTo>
                    <a:lnTo>
                      <a:pt x="33" y="124"/>
                    </a:lnTo>
                    <a:lnTo>
                      <a:pt x="45" y="146"/>
                    </a:lnTo>
                    <a:lnTo>
                      <a:pt x="45" y="168"/>
                    </a:lnTo>
                    <a:lnTo>
                      <a:pt x="45" y="202"/>
                    </a:lnTo>
                    <a:lnTo>
                      <a:pt x="56" y="224"/>
                    </a:lnTo>
                    <a:lnTo>
                      <a:pt x="56" y="247"/>
                    </a:lnTo>
                    <a:lnTo>
                      <a:pt x="56" y="280"/>
                    </a:lnTo>
                    <a:lnTo>
                      <a:pt x="56" y="303"/>
                    </a:lnTo>
                    <a:lnTo>
                      <a:pt x="56" y="325"/>
                    </a:lnTo>
                    <a:lnTo>
                      <a:pt x="56" y="358"/>
                    </a:lnTo>
                    <a:lnTo>
                      <a:pt x="56" y="381"/>
                    </a:lnTo>
                    <a:lnTo>
                      <a:pt x="68" y="4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414120" y="3918600"/>
                <a:ext cx="57960" cy="7236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146" y="190"/>
                    </a:moveTo>
                    <a:lnTo>
                      <a:pt x="135" y="179"/>
                    </a:lnTo>
                    <a:lnTo>
                      <a:pt x="135" y="167"/>
                    </a:lnTo>
                    <a:lnTo>
                      <a:pt x="125" y="157"/>
                    </a:lnTo>
                    <a:lnTo>
                      <a:pt x="113" y="145"/>
                    </a:lnTo>
                    <a:lnTo>
                      <a:pt x="102" y="134"/>
                    </a:lnTo>
                    <a:lnTo>
                      <a:pt x="102" y="123"/>
                    </a:lnTo>
                    <a:lnTo>
                      <a:pt x="90" y="112"/>
                    </a:lnTo>
                    <a:lnTo>
                      <a:pt x="79" y="101"/>
                    </a:lnTo>
                    <a:lnTo>
                      <a:pt x="69" y="89"/>
                    </a:lnTo>
                    <a:lnTo>
                      <a:pt x="57" y="68"/>
                    </a:lnTo>
                    <a:lnTo>
                      <a:pt x="57" y="56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432480" y="3718080"/>
                <a:ext cx="165600" cy="170280"/>
              </a:xfrm>
              <a:custGeom>
                <a:avLst/>
                <a:gdLst/>
                <a:ahLst/>
                <a:rect l="l" t="t" r="r" b="b"/>
                <a:pathLst>
                  <a:path w="425" h="437">
                    <a:moveTo>
                      <a:pt x="0" y="437"/>
                    </a:moveTo>
                    <a:lnTo>
                      <a:pt x="23" y="415"/>
                    </a:lnTo>
                    <a:lnTo>
                      <a:pt x="56" y="380"/>
                    </a:lnTo>
                    <a:lnTo>
                      <a:pt x="79" y="358"/>
                    </a:lnTo>
                    <a:lnTo>
                      <a:pt x="112" y="336"/>
                    </a:lnTo>
                    <a:lnTo>
                      <a:pt x="134" y="302"/>
                    </a:lnTo>
                    <a:lnTo>
                      <a:pt x="168" y="279"/>
                    </a:lnTo>
                    <a:lnTo>
                      <a:pt x="190" y="258"/>
                    </a:lnTo>
                    <a:lnTo>
                      <a:pt x="224" y="224"/>
                    </a:lnTo>
                    <a:lnTo>
                      <a:pt x="246" y="202"/>
                    </a:lnTo>
                    <a:lnTo>
                      <a:pt x="279" y="168"/>
                    </a:lnTo>
                    <a:lnTo>
                      <a:pt x="302" y="146"/>
                    </a:lnTo>
                    <a:lnTo>
                      <a:pt x="324" y="112"/>
                    </a:lnTo>
                    <a:lnTo>
                      <a:pt x="346" y="89"/>
                    </a:lnTo>
                    <a:lnTo>
                      <a:pt x="380" y="56"/>
                    </a:lnTo>
                    <a:lnTo>
                      <a:pt x="403" y="23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607440" y="369936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90" h="370">
                    <a:moveTo>
                      <a:pt x="0" y="0"/>
                    </a:moveTo>
                    <a:lnTo>
                      <a:pt x="23" y="11"/>
                    </a:lnTo>
                    <a:lnTo>
                      <a:pt x="33" y="33"/>
                    </a:lnTo>
                    <a:lnTo>
                      <a:pt x="56" y="57"/>
                    </a:lnTo>
                    <a:lnTo>
                      <a:pt x="78" y="79"/>
                    </a:lnTo>
                    <a:lnTo>
                      <a:pt x="89" y="101"/>
                    </a:lnTo>
                    <a:lnTo>
                      <a:pt x="101" y="124"/>
                    </a:lnTo>
                    <a:lnTo>
                      <a:pt x="112" y="146"/>
                    </a:lnTo>
                    <a:lnTo>
                      <a:pt x="124" y="169"/>
                    </a:lnTo>
                    <a:lnTo>
                      <a:pt x="134" y="191"/>
                    </a:lnTo>
                    <a:lnTo>
                      <a:pt x="145" y="213"/>
                    </a:lnTo>
                    <a:lnTo>
                      <a:pt x="145" y="247"/>
                    </a:lnTo>
                    <a:lnTo>
                      <a:pt x="157" y="269"/>
                    </a:lnTo>
                    <a:lnTo>
                      <a:pt x="168" y="291"/>
                    </a:lnTo>
                    <a:lnTo>
                      <a:pt x="168" y="314"/>
                    </a:lnTo>
                    <a:lnTo>
                      <a:pt x="179" y="347"/>
                    </a:lnTo>
                    <a:lnTo>
                      <a:pt x="19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6432480" y="3727440"/>
                <a:ext cx="251640" cy="303120"/>
              </a:xfrm>
              <a:custGeom>
                <a:avLst/>
                <a:gdLst/>
                <a:ahLst/>
                <a:rect l="l" t="t" r="r" b="b"/>
                <a:pathLst>
                  <a:path w="650" h="784">
                    <a:moveTo>
                      <a:pt x="593" y="324"/>
                    </a:moveTo>
                    <a:lnTo>
                      <a:pt x="593" y="347"/>
                    </a:lnTo>
                    <a:lnTo>
                      <a:pt x="605" y="369"/>
                    </a:lnTo>
                    <a:lnTo>
                      <a:pt x="605" y="392"/>
                    </a:lnTo>
                    <a:lnTo>
                      <a:pt x="616" y="414"/>
                    </a:lnTo>
                    <a:lnTo>
                      <a:pt x="616" y="437"/>
                    </a:lnTo>
                    <a:lnTo>
                      <a:pt x="627" y="460"/>
                    </a:lnTo>
                    <a:lnTo>
                      <a:pt x="627" y="482"/>
                    </a:lnTo>
                    <a:lnTo>
                      <a:pt x="638" y="504"/>
                    </a:lnTo>
                    <a:lnTo>
                      <a:pt x="638" y="526"/>
                    </a:lnTo>
                    <a:lnTo>
                      <a:pt x="650" y="549"/>
                    </a:lnTo>
                    <a:lnTo>
                      <a:pt x="650" y="571"/>
                    </a:lnTo>
                    <a:lnTo>
                      <a:pt x="650" y="594"/>
                    </a:lnTo>
                    <a:lnTo>
                      <a:pt x="650" y="616"/>
                    </a:lnTo>
                    <a:lnTo>
                      <a:pt x="650" y="638"/>
                    </a:lnTo>
                    <a:lnTo>
                      <a:pt x="650" y="660"/>
                    </a:lnTo>
                    <a:lnTo>
                      <a:pt x="650" y="683"/>
                    </a:lnTo>
                    <a:lnTo>
                      <a:pt x="627" y="694"/>
                    </a:lnTo>
                    <a:lnTo>
                      <a:pt x="605" y="706"/>
                    </a:lnTo>
                    <a:lnTo>
                      <a:pt x="582" y="716"/>
                    </a:lnTo>
                    <a:lnTo>
                      <a:pt x="549" y="728"/>
                    </a:lnTo>
                    <a:lnTo>
                      <a:pt x="526" y="739"/>
                    </a:lnTo>
                    <a:lnTo>
                      <a:pt x="493" y="751"/>
                    </a:lnTo>
                    <a:lnTo>
                      <a:pt x="471" y="761"/>
                    </a:lnTo>
                    <a:lnTo>
                      <a:pt x="448" y="772"/>
                    </a:lnTo>
                    <a:lnTo>
                      <a:pt x="415" y="772"/>
                    </a:lnTo>
                    <a:lnTo>
                      <a:pt x="391" y="784"/>
                    </a:lnTo>
                    <a:lnTo>
                      <a:pt x="358" y="784"/>
                    </a:lnTo>
                    <a:lnTo>
                      <a:pt x="335" y="784"/>
                    </a:lnTo>
                    <a:lnTo>
                      <a:pt x="302" y="784"/>
                    </a:lnTo>
                    <a:lnTo>
                      <a:pt x="279" y="784"/>
                    </a:lnTo>
                    <a:lnTo>
                      <a:pt x="257" y="772"/>
                    </a:lnTo>
                    <a:lnTo>
                      <a:pt x="224" y="761"/>
                    </a:lnTo>
                    <a:lnTo>
                      <a:pt x="213" y="739"/>
                    </a:lnTo>
                    <a:lnTo>
                      <a:pt x="201" y="728"/>
                    </a:lnTo>
                    <a:lnTo>
                      <a:pt x="190" y="706"/>
                    </a:lnTo>
                    <a:lnTo>
                      <a:pt x="178" y="683"/>
                    </a:lnTo>
                    <a:lnTo>
                      <a:pt x="168" y="660"/>
                    </a:lnTo>
                    <a:lnTo>
                      <a:pt x="156" y="650"/>
                    </a:lnTo>
                    <a:lnTo>
                      <a:pt x="134" y="627"/>
                    </a:lnTo>
                    <a:lnTo>
                      <a:pt x="123" y="605"/>
                    </a:lnTo>
                    <a:lnTo>
                      <a:pt x="112" y="582"/>
                    </a:lnTo>
                    <a:lnTo>
                      <a:pt x="100" y="571"/>
                    </a:lnTo>
                    <a:lnTo>
                      <a:pt x="89" y="549"/>
                    </a:lnTo>
                    <a:lnTo>
                      <a:pt x="67" y="526"/>
                    </a:lnTo>
                    <a:lnTo>
                      <a:pt x="56" y="515"/>
                    </a:lnTo>
                    <a:lnTo>
                      <a:pt x="33" y="493"/>
                    </a:lnTo>
                    <a:lnTo>
                      <a:pt x="23" y="482"/>
                    </a:lnTo>
                    <a:lnTo>
                      <a:pt x="0" y="470"/>
                    </a:lnTo>
                    <a:lnTo>
                      <a:pt x="0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23" y="437"/>
                    </a:lnTo>
                    <a:lnTo>
                      <a:pt x="23" y="426"/>
                    </a:lnTo>
                    <a:lnTo>
                      <a:pt x="33" y="426"/>
                    </a:lnTo>
                    <a:lnTo>
                      <a:pt x="33" y="414"/>
                    </a:lnTo>
                    <a:lnTo>
                      <a:pt x="44" y="414"/>
                    </a:lnTo>
                    <a:lnTo>
                      <a:pt x="79" y="380"/>
                    </a:lnTo>
                    <a:lnTo>
                      <a:pt x="100" y="357"/>
                    </a:lnTo>
                    <a:lnTo>
                      <a:pt x="123" y="335"/>
                    </a:lnTo>
                    <a:lnTo>
                      <a:pt x="145" y="313"/>
                    </a:lnTo>
                    <a:lnTo>
                      <a:pt x="178" y="291"/>
                    </a:lnTo>
                    <a:lnTo>
                      <a:pt x="201" y="268"/>
                    </a:lnTo>
                    <a:lnTo>
                      <a:pt x="234" y="235"/>
                    </a:lnTo>
                    <a:lnTo>
                      <a:pt x="257" y="213"/>
                    </a:lnTo>
                    <a:lnTo>
                      <a:pt x="279" y="190"/>
                    </a:lnTo>
                    <a:lnTo>
                      <a:pt x="302" y="157"/>
                    </a:lnTo>
                    <a:lnTo>
                      <a:pt x="335" y="134"/>
                    </a:lnTo>
                    <a:lnTo>
                      <a:pt x="358" y="112"/>
                    </a:lnTo>
                    <a:lnTo>
                      <a:pt x="380" y="78"/>
                    </a:lnTo>
                    <a:lnTo>
                      <a:pt x="403" y="56"/>
                    </a:lnTo>
                    <a:lnTo>
                      <a:pt x="425" y="22"/>
                    </a:lnTo>
                    <a:lnTo>
                      <a:pt x="437" y="0"/>
                    </a:lnTo>
                    <a:lnTo>
                      <a:pt x="460" y="11"/>
                    </a:lnTo>
                    <a:lnTo>
                      <a:pt x="471" y="33"/>
                    </a:lnTo>
                    <a:lnTo>
                      <a:pt x="481" y="45"/>
                    </a:lnTo>
                    <a:lnTo>
                      <a:pt x="493" y="66"/>
                    </a:lnTo>
                    <a:lnTo>
                      <a:pt x="504" y="89"/>
                    </a:lnTo>
                    <a:lnTo>
                      <a:pt x="516" y="112"/>
                    </a:lnTo>
                    <a:lnTo>
                      <a:pt x="526" y="134"/>
                    </a:lnTo>
                    <a:lnTo>
                      <a:pt x="526" y="145"/>
                    </a:lnTo>
                    <a:lnTo>
                      <a:pt x="537" y="167"/>
                    </a:lnTo>
                    <a:lnTo>
                      <a:pt x="549" y="190"/>
                    </a:lnTo>
                    <a:lnTo>
                      <a:pt x="549" y="213"/>
                    </a:lnTo>
                    <a:lnTo>
                      <a:pt x="560" y="235"/>
                    </a:lnTo>
                    <a:lnTo>
                      <a:pt x="572" y="256"/>
                    </a:lnTo>
                    <a:lnTo>
                      <a:pt x="572" y="279"/>
                    </a:lnTo>
                    <a:lnTo>
                      <a:pt x="582" y="302"/>
                    </a:lnTo>
                    <a:lnTo>
                      <a:pt x="593" y="3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663600" y="3853440"/>
                <a:ext cx="20520" cy="137520"/>
              </a:xfrm>
              <a:custGeom>
                <a:avLst/>
                <a:gdLst/>
                <a:ahLst/>
                <a:rect l="l" t="t" r="r" b="b"/>
                <a:pathLst>
                  <a:path w="57" h="359">
                    <a:moveTo>
                      <a:pt x="0" y="0"/>
                    </a:moveTo>
                    <a:lnTo>
                      <a:pt x="0" y="23"/>
                    </a:lnTo>
                    <a:lnTo>
                      <a:pt x="12" y="45"/>
                    </a:lnTo>
                    <a:lnTo>
                      <a:pt x="12" y="68"/>
                    </a:lnTo>
                    <a:lnTo>
                      <a:pt x="23" y="90"/>
                    </a:lnTo>
                    <a:lnTo>
                      <a:pt x="23" y="113"/>
                    </a:lnTo>
                    <a:lnTo>
                      <a:pt x="34" y="136"/>
                    </a:lnTo>
                    <a:lnTo>
                      <a:pt x="34" y="158"/>
                    </a:lnTo>
                    <a:lnTo>
                      <a:pt x="45" y="180"/>
                    </a:lnTo>
                    <a:lnTo>
                      <a:pt x="45" y="202"/>
                    </a:lnTo>
                    <a:lnTo>
                      <a:pt x="57" y="225"/>
                    </a:lnTo>
                    <a:lnTo>
                      <a:pt x="57" y="247"/>
                    </a:lnTo>
                    <a:lnTo>
                      <a:pt x="57" y="270"/>
                    </a:lnTo>
                    <a:lnTo>
                      <a:pt x="57" y="292"/>
                    </a:lnTo>
                    <a:lnTo>
                      <a:pt x="57" y="314"/>
                    </a:lnTo>
                    <a:lnTo>
                      <a:pt x="57" y="336"/>
                    </a:lnTo>
                    <a:lnTo>
                      <a:pt x="57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432480" y="390960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224" y="291"/>
                    </a:moveTo>
                    <a:lnTo>
                      <a:pt x="213" y="269"/>
                    </a:lnTo>
                    <a:lnTo>
                      <a:pt x="201" y="258"/>
                    </a:lnTo>
                    <a:lnTo>
                      <a:pt x="190" y="236"/>
                    </a:lnTo>
                    <a:lnTo>
                      <a:pt x="178" y="213"/>
                    </a:lnTo>
                    <a:lnTo>
                      <a:pt x="168" y="190"/>
                    </a:lnTo>
                    <a:lnTo>
                      <a:pt x="156" y="180"/>
                    </a:lnTo>
                    <a:lnTo>
                      <a:pt x="134" y="157"/>
                    </a:lnTo>
                    <a:lnTo>
                      <a:pt x="123" y="135"/>
                    </a:lnTo>
                    <a:lnTo>
                      <a:pt x="112" y="112"/>
                    </a:lnTo>
                    <a:lnTo>
                      <a:pt x="100" y="101"/>
                    </a:lnTo>
                    <a:lnTo>
                      <a:pt x="89" y="79"/>
                    </a:lnTo>
                    <a:lnTo>
                      <a:pt x="67" y="56"/>
                    </a:lnTo>
                    <a:lnTo>
                      <a:pt x="56" y="45"/>
                    </a:lnTo>
                    <a:lnTo>
                      <a:pt x="33" y="2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6449040" y="3727440"/>
                <a:ext cx="153720" cy="160920"/>
              </a:xfrm>
              <a:custGeom>
                <a:avLst/>
                <a:gdLst/>
                <a:ahLst/>
                <a:rect l="l" t="t" r="r" b="b"/>
                <a:pathLst>
                  <a:path w="393" h="414">
                    <a:moveTo>
                      <a:pt x="0" y="414"/>
                    </a:moveTo>
                    <a:lnTo>
                      <a:pt x="35" y="380"/>
                    </a:lnTo>
                    <a:lnTo>
                      <a:pt x="56" y="357"/>
                    </a:lnTo>
                    <a:lnTo>
                      <a:pt x="79" y="335"/>
                    </a:lnTo>
                    <a:lnTo>
                      <a:pt x="101" y="313"/>
                    </a:lnTo>
                    <a:lnTo>
                      <a:pt x="134" y="291"/>
                    </a:lnTo>
                    <a:lnTo>
                      <a:pt x="157" y="268"/>
                    </a:lnTo>
                    <a:lnTo>
                      <a:pt x="190" y="235"/>
                    </a:lnTo>
                    <a:lnTo>
                      <a:pt x="213" y="213"/>
                    </a:lnTo>
                    <a:lnTo>
                      <a:pt x="235" y="190"/>
                    </a:lnTo>
                    <a:lnTo>
                      <a:pt x="258" y="157"/>
                    </a:lnTo>
                    <a:lnTo>
                      <a:pt x="291" y="134"/>
                    </a:lnTo>
                    <a:lnTo>
                      <a:pt x="314" y="112"/>
                    </a:lnTo>
                    <a:lnTo>
                      <a:pt x="336" y="78"/>
                    </a:lnTo>
                    <a:lnTo>
                      <a:pt x="359" y="56"/>
                    </a:lnTo>
                    <a:lnTo>
                      <a:pt x="381" y="22"/>
                    </a:lnTo>
                    <a:lnTo>
                      <a:pt x="39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6602760" y="3727440"/>
                <a:ext cx="60840" cy="126000"/>
              </a:xfrm>
              <a:custGeom>
                <a:avLst/>
                <a:gdLst/>
                <a:ahLst/>
                <a:rect l="l" t="t" r="r" b="b"/>
                <a:pathLst>
                  <a:path w="156" h="324">
                    <a:moveTo>
                      <a:pt x="0" y="0"/>
                    </a:moveTo>
                    <a:lnTo>
                      <a:pt x="23" y="11"/>
                    </a:lnTo>
                    <a:lnTo>
                      <a:pt x="34" y="33"/>
                    </a:lnTo>
                    <a:lnTo>
                      <a:pt x="44" y="45"/>
                    </a:lnTo>
                    <a:lnTo>
                      <a:pt x="56" y="66"/>
                    </a:lnTo>
                    <a:lnTo>
                      <a:pt x="67" y="89"/>
                    </a:lnTo>
                    <a:lnTo>
                      <a:pt x="79" y="112"/>
                    </a:lnTo>
                    <a:lnTo>
                      <a:pt x="89" y="134"/>
                    </a:lnTo>
                    <a:lnTo>
                      <a:pt x="89" y="145"/>
                    </a:lnTo>
                    <a:lnTo>
                      <a:pt x="100" y="167"/>
                    </a:lnTo>
                    <a:lnTo>
                      <a:pt x="112" y="190"/>
                    </a:lnTo>
                    <a:lnTo>
                      <a:pt x="112" y="213"/>
                    </a:lnTo>
                    <a:lnTo>
                      <a:pt x="123" y="235"/>
                    </a:lnTo>
                    <a:lnTo>
                      <a:pt x="135" y="256"/>
                    </a:lnTo>
                    <a:lnTo>
                      <a:pt x="135" y="279"/>
                    </a:lnTo>
                    <a:lnTo>
                      <a:pt x="145" y="302"/>
                    </a:lnTo>
                    <a:lnTo>
                      <a:pt x="156" y="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025040" y="3930840"/>
                <a:ext cx="610920" cy="1292760"/>
              </a:xfrm>
              <a:custGeom>
                <a:avLst/>
                <a:gdLst/>
                <a:ahLst/>
                <a:rect l="l" t="t" r="r" b="b"/>
                <a:pathLst>
                  <a:path w="1569" h="3319">
                    <a:moveTo>
                      <a:pt x="998" y="124"/>
                    </a:moveTo>
                    <a:lnTo>
                      <a:pt x="1009" y="146"/>
                    </a:lnTo>
                    <a:lnTo>
                      <a:pt x="1021" y="168"/>
                    </a:lnTo>
                    <a:lnTo>
                      <a:pt x="1031" y="202"/>
                    </a:lnTo>
                    <a:lnTo>
                      <a:pt x="1054" y="225"/>
                    </a:lnTo>
                    <a:lnTo>
                      <a:pt x="1066" y="246"/>
                    </a:lnTo>
                    <a:lnTo>
                      <a:pt x="1088" y="281"/>
                    </a:lnTo>
                    <a:lnTo>
                      <a:pt x="1099" y="303"/>
                    </a:lnTo>
                    <a:lnTo>
                      <a:pt x="1110" y="326"/>
                    </a:lnTo>
                    <a:lnTo>
                      <a:pt x="1132" y="359"/>
                    </a:lnTo>
                    <a:lnTo>
                      <a:pt x="1144" y="381"/>
                    </a:lnTo>
                    <a:lnTo>
                      <a:pt x="1166" y="404"/>
                    </a:lnTo>
                    <a:lnTo>
                      <a:pt x="1177" y="427"/>
                    </a:lnTo>
                    <a:lnTo>
                      <a:pt x="1200" y="460"/>
                    </a:lnTo>
                    <a:lnTo>
                      <a:pt x="1211" y="482"/>
                    </a:lnTo>
                    <a:lnTo>
                      <a:pt x="1221" y="505"/>
                    </a:lnTo>
                    <a:lnTo>
                      <a:pt x="1244" y="538"/>
                    </a:lnTo>
                    <a:lnTo>
                      <a:pt x="1256" y="561"/>
                    </a:lnTo>
                    <a:lnTo>
                      <a:pt x="1278" y="594"/>
                    </a:lnTo>
                    <a:lnTo>
                      <a:pt x="1300" y="617"/>
                    </a:lnTo>
                    <a:lnTo>
                      <a:pt x="1322" y="650"/>
                    </a:lnTo>
                    <a:lnTo>
                      <a:pt x="1345" y="683"/>
                    </a:lnTo>
                    <a:lnTo>
                      <a:pt x="1356" y="707"/>
                    </a:lnTo>
                    <a:lnTo>
                      <a:pt x="1378" y="740"/>
                    </a:lnTo>
                    <a:lnTo>
                      <a:pt x="1401" y="775"/>
                    </a:lnTo>
                    <a:lnTo>
                      <a:pt x="1423" y="797"/>
                    </a:lnTo>
                    <a:lnTo>
                      <a:pt x="1435" y="831"/>
                    </a:lnTo>
                    <a:lnTo>
                      <a:pt x="1458" y="853"/>
                    </a:lnTo>
                    <a:lnTo>
                      <a:pt x="1480" y="886"/>
                    </a:lnTo>
                    <a:lnTo>
                      <a:pt x="1503" y="920"/>
                    </a:lnTo>
                    <a:lnTo>
                      <a:pt x="1526" y="942"/>
                    </a:lnTo>
                    <a:lnTo>
                      <a:pt x="1547" y="975"/>
                    </a:lnTo>
                    <a:lnTo>
                      <a:pt x="1559" y="1009"/>
                    </a:lnTo>
                    <a:lnTo>
                      <a:pt x="1569" y="1009"/>
                    </a:lnTo>
                    <a:lnTo>
                      <a:pt x="1569" y="1021"/>
                    </a:lnTo>
                    <a:lnTo>
                      <a:pt x="1569" y="1031"/>
                    </a:lnTo>
                    <a:lnTo>
                      <a:pt x="1569" y="1043"/>
                    </a:lnTo>
                    <a:lnTo>
                      <a:pt x="1559" y="1054"/>
                    </a:lnTo>
                    <a:lnTo>
                      <a:pt x="1559" y="1065"/>
                    </a:lnTo>
                    <a:lnTo>
                      <a:pt x="1547" y="1065"/>
                    </a:lnTo>
                    <a:lnTo>
                      <a:pt x="1547" y="1076"/>
                    </a:lnTo>
                    <a:lnTo>
                      <a:pt x="1536" y="1076"/>
                    </a:lnTo>
                    <a:lnTo>
                      <a:pt x="1526" y="1076"/>
                    </a:lnTo>
                    <a:lnTo>
                      <a:pt x="1514" y="1087"/>
                    </a:lnTo>
                    <a:lnTo>
                      <a:pt x="1503" y="1087"/>
                    </a:lnTo>
                    <a:lnTo>
                      <a:pt x="1491" y="1087"/>
                    </a:lnTo>
                    <a:lnTo>
                      <a:pt x="1480" y="1099"/>
                    </a:lnTo>
                    <a:lnTo>
                      <a:pt x="1470" y="1099"/>
                    </a:lnTo>
                    <a:lnTo>
                      <a:pt x="1458" y="1110"/>
                    </a:lnTo>
                    <a:lnTo>
                      <a:pt x="1447" y="1110"/>
                    </a:lnTo>
                    <a:lnTo>
                      <a:pt x="1435" y="1120"/>
                    </a:lnTo>
                    <a:lnTo>
                      <a:pt x="1423" y="1120"/>
                    </a:lnTo>
                    <a:lnTo>
                      <a:pt x="1413" y="1132"/>
                    </a:lnTo>
                    <a:lnTo>
                      <a:pt x="1401" y="1144"/>
                    </a:lnTo>
                    <a:lnTo>
                      <a:pt x="1390" y="1144"/>
                    </a:lnTo>
                    <a:lnTo>
                      <a:pt x="1378" y="1155"/>
                    </a:lnTo>
                    <a:lnTo>
                      <a:pt x="1368" y="1155"/>
                    </a:lnTo>
                    <a:lnTo>
                      <a:pt x="1356" y="1167"/>
                    </a:lnTo>
                    <a:lnTo>
                      <a:pt x="1300" y="1200"/>
                    </a:lnTo>
                    <a:lnTo>
                      <a:pt x="1233" y="1234"/>
                    </a:lnTo>
                    <a:lnTo>
                      <a:pt x="1177" y="1268"/>
                    </a:lnTo>
                    <a:lnTo>
                      <a:pt x="1110" y="1301"/>
                    </a:lnTo>
                    <a:lnTo>
                      <a:pt x="1043" y="1346"/>
                    </a:lnTo>
                    <a:lnTo>
                      <a:pt x="986" y="1379"/>
                    </a:lnTo>
                    <a:lnTo>
                      <a:pt x="918" y="1413"/>
                    </a:lnTo>
                    <a:lnTo>
                      <a:pt x="863" y="1446"/>
                    </a:lnTo>
                    <a:lnTo>
                      <a:pt x="796" y="1480"/>
                    </a:lnTo>
                    <a:lnTo>
                      <a:pt x="728" y="1514"/>
                    </a:lnTo>
                    <a:lnTo>
                      <a:pt x="673" y="1547"/>
                    </a:lnTo>
                    <a:lnTo>
                      <a:pt x="606" y="1581"/>
                    </a:lnTo>
                    <a:lnTo>
                      <a:pt x="549" y="1616"/>
                    </a:lnTo>
                    <a:lnTo>
                      <a:pt x="481" y="1649"/>
                    </a:lnTo>
                    <a:lnTo>
                      <a:pt x="415" y="1682"/>
                    </a:lnTo>
                    <a:lnTo>
                      <a:pt x="359" y="1716"/>
                    </a:lnTo>
                    <a:lnTo>
                      <a:pt x="359" y="1728"/>
                    </a:lnTo>
                    <a:lnTo>
                      <a:pt x="347" y="1728"/>
                    </a:lnTo>
                    <a:lnTo>
                      <a:pt x="347" y="1738"/>
                    </a:lnTo>
                    <a:lnTo>
                      <a:pt x="359" y="1738"/>
                    </a:lnTo>
                    <a:lnTo>
                      <a:pt x="359" y="1750"/>
                    </a:lnTo>
                    <a:lnTo>
                      <a:pt x="359" y="1761"/>
                    </a:lnTo>
                    <a:lnTo>
                      <a:pt x="359" y="1771"/>
                    </a:lnTo>
                    <a:lnTo>
                      <a:pt x="370" y="1771"/>
                    </a:lnTo>
                    <a:lnTo>
                      <a:pt x="370" y="1783"/>
                    </a:lnTo>
                    <a:lnTo>
                      <a:pt x="382" y="1783"/>
                    </a:lnTo>
                    <a:lnTo>
                      <a:pt x="382" y="1794"/>
                    </a:lnTo>
                    <a:lnTo>
                      <a:pt x="426" y="1872"/>
                    </a:lnTo>
                    <a:lnTo>
                      <a:pt x="471" y="1951"/>
                    </a:lnTo>
                    <a:lnTo>
                      <a:pt x="516" y="2030"/>
                    </a:lnTo>
                    <a:lnTo>
                      <a:pt x="560" y="2097"/>
                    </a:lnTo>
                    <a:lnTo>
                      <a:pt x="606" y="2175"/>
                    </a:lnTo>
                    <a:lnTo>
                      <a:pt x="651" y="2254"/>
                    </a:lnTo>
                    <a:lnTo>
                      <a:pt x="695" y="2332"/>
                    </a:lnTo>
                    <a:lnTo>
                      <a:pt x="740" y="2411"/>
                    </a:lnTo>
                    <a:lnTo>
                      <a:pt x="784" y="2490"/>
                    </a:lnTo>
                    <a:lnTo>
                      <a:pt x="819" y="2569"/>
                    </a:lnTo>
                    <a:lnTo>
                      <a:pt x="863" y="2646"/>
                    </a:lnTo>
                    <a:lnTo>
                      <a:pt x="897" y="2724"/>
                    </a:lnTo>
                    <a:lnTo>
                      <a:pt x="941" y="2803"/>
                    </a:lnTo>
                    <a:lnTo>
                      <a:pt x="974" y="2882"/>
                    </a:lnTo>
                    <a:lnTo>
                      <a:pt x="1021" y="2961"/>
                    </a:lnTo>
                    <a:lnTo>
                      <a:pt x="1054" y="3050"/>
                    </a:lnTo>
                    <a:lnTo>
                      <a:pt x="1054" y="3062"/>
                    </a:lnTo>
                    <a:lnTo>
                      <a:pt x="1054" y="3072"/>
                    </a:lnTo>
                    <a:lnTo>
                      <a:pt x="1054" y="3083"/>
                    </a:lnTo>
                    <a:lnTo>
                      <a:pt x="1066" y="3095"/>
                    </a:lnTo>
                    <a:lnTo>
                      <a:pt x="1066" y="3106"/>
                    </a:lnTo>
                    <a:lnTo>
                      <a:pt x="1066" y="3117"/>
                    </a:lnTo>
                    <a:lnTo>
                      <a:pt x="1076" y="3128"/>
                    </a:lnTo>
                    <a:lnTo>
                      <a:pt x="1076" y="3140"/>
                    </a:lnTo>
                    <a:lnTo>
                      <a:pt x="1076" y="3151"/>
                    </a:lnTo>
                    <a:lnTo>
                      <a:pt x="1076" y="3161"/>
                    </a:lnTo>
                    <a:lnTo>
                      <a:pt x="1088" y="3173"/>
                    </a:lnTo>
                    <a:lnTo>
                      <a:pt x="1088" y="3184"/>
                    </a:lnTo>
                    <a:lnTo>
                      <a:pt x="1088" y="3196"/>
                    </a:lnTo>
                    <a:lnTo>
                      <a:pt x="1088" y="3207"/>
                    </a:lnTo>
                    <a:lnTo>
                      <a:pt x="1099" y="3229"/>
                    </a:lnTo>
                    <a:lnTo>
                      <a:pt x="1099" y="3240"/>
                    </a:lnTo>
                    <a:lnTo>
                      <a:pt x="1088" y="3240"/>
                    </a:lnTo>
                    <a:lnTo>
                      <a:pt x="1088" y="3252"/>
                    </a:lnTo>
                    <a:lnTo>
                      <a:pt x="1088" y="3264"/>
                    </a:lnTo>
                    <a:lnTo>
                      <a:pt x="1088" y="3274"/>
                    </a:lnTo>
                    <a:lnTo>
                      <a:pt x="1076" y="3286"/>
                    </a:lnTo>
                    <a:lnTo>
                      <a:pt x="1076" y="3297"/>
                    </a:lnTo>
                    <a:lnTo>
                      <a:pt x="1066" y="3309"/>
                    </a:lnTo>
                    <a:lnTo>
                      <a:pt x="1054" y="3309"/>
                    </a:lnTo>
                    <a:lnTo>
                      <a:pt x="998" y="3309"/>
                    </a:lnTo>
                    <a:lnTo>
                      <a:pt x="941" y="3309"/>
                    </a:lnTo>
                    <a:lnTo>
                      <a:pt x="885" y="3309"/>
                    </a:lnTo>
                    <a:lnTo>
                      <a:pt x="829" y="3309"/>
                    </a:lnTo>
                    <a:lnTo>
                      <a:pt x="774" y="3309"/>
                    </a:lnTo>
                    <a:lnTo>
                      <a:pt x="718" y="3319"/>
                    </a:lnTo>
                    <a:lnTo>
                      <a:pt x="662" y="3319"/>
                    </a:lnTo>
                    <a:lnTo>
                      <a:pt x="617" y="3319"/>
                    </a:lnTo>
                    <a:lnTo>
                      <a:pt x="560" y="3319"/>
                    </a:lnTo>
                    <a:lnTo>
                      <a:pt x="504" y="3319"/>
                    </a:lnTo>
                    <a:lnTo>
                      <a:pt x="448" y="3319"/>
                    </a:lnTo>
                    <a:lnTo>
                      <a:pt x="392" y="3319"/>
                    </a:lnTo>
                    <a:lnTo>
                      <a:pt x="336" y="3309"/>
                    </a:lnTo>
                    <a:lnTo>
                      <a:pt x="281" y="3309"/>
                    </a:lnTo>
                    <a:lnTo>
                      <a:pt x="235" y="3297"/>
                    </a:lnTo>
                    <a:lnTo>
                      <a:pt x="180" y="3297"/>
                    </a:lnTo>
                    <a:lnTo>
                      <a:pt x="169" y="3286"/>
                    </a:lnTo>
                    <a:lnTo>
                      <a:pt x="169" y="3274"/>
                    </a:lnTo>
                    <a:lnTo>
                      <a:pt x="169" y="3264"/>
                    </a:lnTo>
                    <a:lnTo>
                      <a:pt x="169" y="3252"/>
                    </a:lnTo>
                    <a:lnTo>
                      <a:pt x="169" y="3240"/>
                    </a:lnTo>
                    <a:lnTo>
                      <a:pt x="157" y="3151"/>
                    </a:lnTo>
                    <a:lnTo>
                      <a:pt x="145" y="3062"/>
                    </a:lnTo>
                    <a:lnTo>
                      <a:pt x="145" y="2971"/>
                    </a:lnTo>
                    <a:lnTo>
                      <a:pt x="134" y="2882"/>
                    </a:lnTo>
                    <a:lnTo>
                      <a:pt x="134" y="2792"/>
                    </a:lnTo>
                    <a:lnTo>
                      <a:pt x="123" y="2691"/>
                    </a:lnTo>
                    <a:lnTo>
                      <a:pt x="112" y="2602"/>
                    </a:lnTo>
                    <a:lnTo>
                      <a:pt x="112" y="2512"/>
                    </a:lnTo>
                    <a:lnTo>
                      <a:pt x="100" y="2422"/>
                    </a:lnTo>
                    <a:lnTo>
                      <a:pt x="89" y="2332"/>
                    </a:lnTo>
                    <a:lnTo>
                      <a:pt x="79" y="2243"/>
                    </a:lnTo>
                    <a:lnTo>
                      <a:pt x="67" y="2153"/>
                    </a:lnTo>
                    <a:lnTo>
                      <a:pt x="56" y="2064"/>
                    </a:lnTo>
                    <a:lnTo>
                      <a:pt x="34" y="1973"/>
                    </a:lnTo>
                    <a:lnTo>
                      <a:pt x="22" y="1895"/>
                    </a:lnTo>
                    <a:lnTo>
                      <a:pt x="0" y="1806"/>
                    </a:lnTo>
                    <a:lnTo>
                      <a:pt x="0" y="1750"/>
                    </a:lnTo>
                    <a:lnTo>
                      <a:pt x="22" y="1705"/>
                    </a:lnTo>
                    <a:lnTo>
                      <a:pt x="44" y="1649"/>
                    </a:lnTo>
                    <a:lnTo>
                      <a:pt x="79" y="1604"/>
                    </a:lnTo>
                    <a:lnTo>
                      <a:pt x="100" y="1547"/>
                    </a:lnTo>
                    <a:lnTo>
                      <a:pt x="134" y="1502"/>
                    </a:lnTo>
                    <a:lnTo>
                      <a:pt x="157" y="1446"/>
                    </a:lnTo>
                    <a:lnTo>
                      <a:pt x="180" y="1402"/>
                    </a:lnTo>
                    <a:lnTo>
                      <a:pt x="213" y="1346"/>
                    </a:lnTo>
                    <a:lnTo>
                      <a:pt x="235" y="1290"/>
                    </a:lnTo>
                    <a:lnTo>
                      <a:pt x="258" y="1245"/>
                    </a:lnTo>
                    <a:lnTo>
                      <a:pt x="291" y="1189"/>
                    </a:lnTo>
                    <a:lnTo>
                      <a:pt x="314" y="1144"/>
                    </a:lnTo>
                    <a:lnTo>
                      <a:pt x="347" y="1087"/>
                    </a:lnTo>
                    <a:lnTo>
                      <a:pt x="370" y="1043"/>
                    </a:lnTo>
                    <a:lnTo>
                      <a:pt x="403" y="987"/>
                    </a:lnTo>
                    <a:lnTo>
                      <a:pt x="437" y="942"/>
                    </a:lnTo>
                    <a:lnTo>
                      <a:pt x="460" y="886"/>
                    </a:lnTo>
                    <a:lnTo>
                      <a:pt x="493" y="831"/>
                    </a:lnTo>
                    <a:lnTo>
                      <a:pt x="516" y="763"/>
                    </a:lnTo>
                    <a:lnTo>
                      <a:pt x="549" y="707"/>
                    </a:lnTo>
                    <a:lnTo>
                      <a:pt x="572" y="650"/>
                    </a:lnTo>
                    <a:lnTo>
                      <a:pt x="594" y="583"/>
                    </a:lnTo>
                    <a:lnTo>
                      <a:pt x="629" y="528"/>
                    </a:lnTo>
                    <a:lnTo>
                      <a:pt x="651" y="472"/>
                    </a:lnTo>
                    <a:lnTo>
                      <a:pt x="684" y="404"/>
                    </a:lnTo>
                    <a:lnTo>
                      <a:pt x="707" y="348"/>
                    </a:lnTo>
                    <a:lnTo>
                      <a:pt x="728" y="292"/>
                    </a:lnTo>
                    <a:lnTo>
                      <a:pt x="763" y="235"/>
                    </a:lnTo>
                    <a:lnTo>
                      <a:pt x="796" y="168"/>
                    </a:lnTo>
                    <a:lnTo>
                      <a:pt x="819" y="112"/>
                    </a:lnTo>
                    <a:lnTo>
                      <a:pt x="852" y="56"/>
                    </a:lnTo>
                    <a:lnTo>
                      <a:pt x="885" y="0"/>
                    </a:lnTo>
                    <a:lnTo>
                      <a:pt x="897" y="0"/>
                    </a:lnTo>
                    <a:lnTo>
                      <a:pt x="908" y="0"/>
                    </a:lnTo>
                    <a:lnTo>
                      <a:pt x="918" y="12"/>
                    </a:lnTo>
                    <a:lnTo>
                      <a:pt x="930" y="23"/>
                    </a:lnTo>
                    <a:lnTo>
                      <a:pt x="941" y="35"/>
                    </a:lnTo>
                    <a:lnTo>
                      <a:pt x="953" y="45"/>
                    </a:lnTo>
                    <a:lnTo>
                      <a:pt x="953" y="56"/>
                    </a:lnTo>
                    <a:lnTo>
                      <a:pt x="964" y="68"/>
                    </a:lnTo>
                    <a:lnTo>
                      <a:pt x="964" y="79"/>
                    </a:lnTo>
                    <a:lnTo>
                      <a:pt x="974" y="90"/>
                    </a:lnTo>
                    <a:lnTo>
                      <a:pt x="986" y="101"/>
                    </a:lnTo>
                    <a:lnTo>
                      <a:pt x="986" y="112"/>
                    </a:lnTo>
                    <a:lnTo>
                      <a:pt x="998" y="1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7412400" y="3979440"/>
                <a:ext cx="95760" cy="160920"/>
              </a:xfrm>
              <a:custGeom>
                <a:avLst/>
                <a:gdLst/>
                <a:ahLst/>
                <a:rect l="l" t="t" r="r" b="b"/>
                <a:pathLst>
                  <a:path w="246" h="414">
                    <a:moveTo>
                      <a:pt x="0" y="0"/>
                    </a:moveTo>
                    <a:lnTo>
                      <a:pt x="11" y="22"/>
                    </a:lnTo>
                    <a:lnTo>
                      <a:pt x="23" y="44"/>
                    </a:lnTo>
                    <a:lnTo>
                      <a:pt x="33" y="78"/>
                    </a:lnTo>
                    <a:lnTo>
                      <a:pt x="56" y="101"/>
                    </a:lnTo>
                    <a:lnTo>
                      <a:pt x="68" y="122"/>
                    </a:lnTo>
                    <a:lnTo>
                      <a:pt x="90" y="157"/>
                    </a:lnTo>
                    <a:lnTo>
                      <a:pt x="101" y="179"/>
                    </a:lnTo>
                    <a:lnTo>
                      <a:pt x="112" y="202"/>
                    </a:lnTo>
                    <a:lnTo>
                      <a:pt x="134" y="235"/>
                    </a:lnTo>
                    <a:lnTo>
                      <a:pt x="146" y="257"/>
                    </a:lnTo>
                    <a:lnTo>
                      <a:pt x="168" y="280"/>
                    </a:lnTo>
                    <a:lnTo>
                      <a:pt x="179" y="303"/>
                    </a:lnTo>
                    <a:lnTo>
                      <a:pt x="202" y="336"/>
                    </a:lnTo>
                    <a:lnTo>
                      <a:pt x="213" y="358"/>
                    </a:lnTo>
                    <a:lnTo>
                      <a:pt x="223" y="381"/>
                    </a:lnTo>
                    <a:lnTo>
                      <a:pt x="246" y="4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7508160" y="4140360"/>
                <a:ext cx="123480" cy="181800"/>
              </a:xfrm>
              <a:custGeom>
                <a:avLst/>
                <a:gdLst/>
                <a:ahLst/>
                <a:rect l="l" t="t" r="r" b="b"/>
                <a:pathLst>
                  <a:path w="315" h="471">
                    <a:moveTo>
                      <a:pt x="0" y="0"/>
                    </a:moveTo>
                    <a:lnTo>
                      <a:pt x="12" y="23"/>
                    </a:lnTo>
                    <a:lnTo>
                      <a:pt x="34" y="56"/>
                    </a:lnTo>
                    <a:lnTo>
                      <a:pt x="56" y="79"/>
                    </a:lnTo>
                    <a:lnTo>
                      <a:pt x="78" y="112"/>
                    </a:lnTo>
                    <a:lnTo>
                      <a:pt x="101" y="145"/>
                    </a:lnTo>
                    <a:lnTo>
                      <a:pt x="112" y="169"/>
                    </a:lnTo>
                    <a:lnTo>
                      <a:pt x="134" y="202"/>
                    </a:lnTo>
                    <a:lnTo>
                      <a:pt x="157" y="237"/>
                    </a:lnTo>
                    <a:lnTo>
                      <a:pt x="179" y="259"/>
                    </a:lnTo>
                    <a:lnTo>
                      <a:pt x="191" y="293"/>
                    </a:lnTo>
                    <a:lnTo>
                      <a:pt x="214" y="315"/>
                    </a:lnTo>
                    <a:lnTo>
                      <a:pt x="236" y="348"/>
                    </a:lnTo>
                    <a:lnTo>
                      <a:pt x="259" y="382"/>
                    </a:lnTo>
                    <a:lnTo>
                      <a:pt x="282" y="404"/>
                    </a:lnTo>
                    <a:lnTo>
                      <a:pt x="303" y="437"/>
                    </a:lnTo>
                    <a:lnTo>
                      <a:pt x="315" y="4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165440" y="4385520"/>
                <a:ext cx="387000" cy="212760"/>
              </a:xfrm>
              <a:custGeom>
                <a:avLst/>
                <a:gdLst/>
                <a:ahLst/>
                <a:rect l="l" t="t" r="r" b="b"/>
                <a:pathLst>
                  <a:path w="997" h="549">
                    <a:moveTo>
                      <a:pt x="997" y="0"/>
                    </a:moveTo>
                    <a:lnTo>
                      <a:pt x="941" y="33"/>
                    </a:lnTo>
                    <a:lnTo>
                      <a:pt x="874" y="67"/>
                    </a:lnTo>
                    <a:lnTo>
                      <a:pt x="818" y="101"/>
                    </a:lnTo>
                    <a:lnTo>
                      <a:pt x="751" y="134"/>
                    </a:lnTo>
                    <a:lnTo>
                      <a:pt x="684" y="179"/>
                    </a:lnTo>
                    <a:lnTo>
                      <a:pt x="627" y="212"/>
                    </a:lnTo>
                    <a:lnTo>
                      <a:pt x="559" y="246"/>
                    </a:lnTo>
                    <a:lnTo>
                      <a:pt x="504" y="279"/>
                    </a:lnTo>
                    <a:lnTo>
                      <a:pt x="437" y="313"/>
                    </a:lnTo>
                    <a:lnTo>
                      <a:pt x="369" y="347"/>
                    </a:lnTo>
                    <a:lnTo>
                      <a:pt x="314" y="380"/>
                    </a:lnTo>
                    <a:lnTo>
                      <a:pt x="247" y="414"/>
                    </a:lnTo>
                    <a:lnTo>
                      <a:pt x="190" y="449"/>
                    </a:lnTo>
                    <a:lnTo>
                      <a:pt x="122" y="482"/>
                    </a:lnTo>
                    <a:lnTo>
                      <a:pt x="56" y="515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7174440" y="4628520"/>
                <a:ext cx="261360" cy="48996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0" y="0"/>
                    </a:moveTo>
                    <a:lnTo>
                      <a:pt x="44" y="78"/>
                    </a:lnTo>
                    <a:lnTo>
                      <a:pt x="89" y="157"/>
                    </a:lnTo>
                    <a:lnTo>
                      <a:pt x="134" y="236"/>
                    </a:lnTo>
                    <a:lnTo>
                      <a:pt x="178" y="303"/>
                    </a:lnTo>
                    <a:lnTo>
                      <a:pt x="224" y="381"/>
                    </a:lnTo>
                    <a:lnTo>
                      <a:pt x="269" y="460"/>
                    </a:lnTo>
                    <a:lnTo>
                      <a:pt x="313" y="538"/>
                    </a:lnTo>
                    <a:lnTo>
                      <a:pt x="358" y="617"/>
                    </a:lnTo>
                    <a:lnTo>
                      <a:pt x="402" y="696"/>
                    </a:lnTo>
                    <a:lnTo>
                      <a:pt x="437" y="775"/>
                    </a:lnTo>
                    <a:lnTo>
                      <a:pt x="481" y="852"/>
                    </a:lnTo>
                    <a:lnTo>
                      <a:pt x="515" y="930"/>
                    </a:lnTo>
                    <a:lnTo>
                      <a:pt x="559" y="1009"/>
                    </a:lnTo>
                    <a:lnTo>
                      <a:pt x="592" y="1088"/>
                    </a:lnTo>
                    <a:lnTo>
                      <a:pt x="639" y="1167"/>
                    </a:lnTo>
                    <a:lnTo>
                      <a:pt x="672" y="12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7435800" y="5118840"/>
                <a:ext cx="16200" cy="72360"/>
              </a:xfrm>
              <a:custGeom>
                <a:avLst/>
                <a:gdLst/>
                <a:ahLst/>
                <a:rect l="l" t="t" r="r" b="b"/>
                <a:pathLst>
                  <a:path w="45" h="190">
                    <a:moveTo>
                      <a:pt x="0" y="0"/>
                    </a:moveTo>
                    <a:lnTo>
                      <a:pt x="0" y="1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12" y="67"/>
                    </a:lnTo>
                    <a:lnTo>
                      <a:pt x="22" y="78"/>
                    </a:lnTo>
                    <a:lnTo>
                      <a:pt x="22" y="90"/>
                    </a:lnTo>
                    <a:lnTo>
                      <a:pt x="22" y="101"/>
                    </a:lnTo>
                    <a:lnTo>
                      <a:pt x="22" y="111"/>
                    </a:lnTo>
                    <a:lnTo>
                      <a:pt x="34" y="123"/>
                    </a:lnTo>
                    <a:lnTo>
                      <a:pt x="34" y="134"/>
                    </a:lnTo>
                    <a:lnTo>
                      <a:pt x="34" y="146"/>
                    </a:lnTo>
                    <a:lnTo>
                      <a:pt x="34" y="157"/>
                    </a:lnTo>
                    <a:lnTo>
                      <a:pt x="45" y="179"/>
                    </a:lnTo>
                    <a:lnTo>
                      <a:pt x="45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7025040" y="4633200"/>
                <a:ext cx="65520" cy="558000"/>
              </a:xfrm>
              <a:custGeom>
                <a:avLst/>
                <a:gdLst/>
                <a:ahLst/>
                <a:rect l="l" t="t" r="r" b="b"/>
                <a:pathLst>
                  <a:path w="169" h="1434">
                    <a:moveTo>
                      <a:pt x="169" y="1434"/>
                    </a:moveTo>
                    <a:lnTo>
                      <a:pt x="157" y="1345"/>
                    </a:lnTo>
                    <a:lnTo>
                      <a:pt x="145" y="1256"/>
                    </a:lnTo>
                    <a:lnTo>
                      <a:pt x="145" y="1165"/>
                    </a:lnTo>
                    <a:lnTo>
                      <a:pt x="134" y="1076"/>
                    </a:lnTo>
                    <a:lnTo>
                      <a:pt x="134" y="986"/>
                    </a:lnTo>
                    <a:lnTo>
                      <a:pt x="123" y="885"/>
                    </a:lnTo>
                    <a:lnTo>
                      <a:pt x="112" y="796"/>
                    </a:lnTo>
                    <a:lnTo>
                      <a:pt x="112" y="706"/>
                    </a:lnTo>
                    <a:lnTo>
                      <a:pt x="100" y="616"/>
                    </a:lnTo>
                    <a:lnTo>
                      <a:pt x="89" y="526"/>
                    </a:lnTo>
                    <a:lnTo>
                      <a:pt x="79" y="437"/>
                    </a:lnTo>
                    <a:lnTo>
                      <a:pt x="67" y="347"/>
                    </a:lnTo>
                    <a:lnTo>
                      <a:pt x="56" y="258"/>
                    </a:lnTo>
                    <a:lnTo>
                      <a:pt x="34" y="167"/>
                    </a:lnTo>
                    <a:lnTo>
                      <a:pt x="22" y="8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7025040" y="4296960"/>
                <a:ext cx="170280" cy="315000"/>
              </a:xfrm>
              <a:custGeom>
                <a:avLst/>
                <a:gdLst/>
                <a:ahLst/>
                <a:rect l="l" t="t" r="r" b="b"/>
                <a:pathLst>
                  <a:path w="437" h="808">
                    <a:moveTo>
                      <a:pt x="0" y="808"/>
                    </a:moveTo>
                    <a:lnTo>
                      <a:pt x="22" y="763"/>
                    </a:lnTo>
                    <a:lnTo>
                      <a:pt x="44" y="707"/>
                    </a:lnTo>
                    <a:lnTo>
                      <a:pt x="79" y="662"/>
                    </a:lnTo>
                    <a:lnTo>
                      <a:pt x="100" y="605"/>
                    </a:lnTo>
                    <a:lnTo>
                      <a:pt x="134" y="560"/>
                    </a:lnTo>
                    <a:lnTo>
                      <a:pt x="157" y="504"/>
                    </a:lnTo>
                    <a:lnTo>
                      <a:pt x="180" y="460"/>
                    </a:lnTo>
                    <a:lnTo>
                      <a:pt x="213" y="404"/>
                    </a:lnTo>
                    <a:lnTo>
                      <a:pt x="235" y="348"/>
                    </a:lnTo>
                    <a:lnTo>
                      <a:pt x="258" y="303"/>
                    </a:lnTo>
                    <a:lnTo>
                      <a:pt x="291" y="247"/>
                    </a:lnTo>
                    <a:lnTo>
                      <a:pt x="314" y="202"/>
                    </a:lnTo>
                    <a:lnTo>
                      <a:pt x="347" y="145"/>
                    </a:lnTo>
                    <a:lnTo>
                      <a:pt x="370" y="101"/>
                    </a:lnTo>
                    <a:lnTo>
                      <a:pt x="403" y="45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7195320" y="3930840"/>
                <a:ext cx="174960" cy="366120"/>
              </a:xfrm>
              <a:custGeom>
                <a:avLst/>
                <a:gdLst/>
                <a:ahLst/>
                <a:rect l="l" t="t" r="r" b="b"/>
                <a:pathLst>
                  <a:path w="448" h="942">
                    <a:moveTo>
                      <a:pt x="0" y="942"/>
                    </a:moveTo>
                    <a:lnTo>
                      <a:pt x="23" y="886"/>
                    </a:lnTo>
                    <a:lnTo>
                      <a:pt x="56" y="831"/>
                    </a:lnTo>
                    <a:lnTo>
                      <a:pt x="79" y="763"/>
                    </a:lnTo>
                    <a:lnTo>
                      <a:pt x="112" y="707"/>
                    </a:lnTo>
                    <a:lnTo>
                      <a:pt x="135" y="650"/>
                    </a:lnTo>
                    <a:lnTo>
                      <a:pt x="157" y="583"/>
                    </a:lnTo>
                    <a:lnTo>
                      <a:pt x="192" y="528"/>
                    </a:lnTo>
                    <a:lnTo>
                      <a:pt x="214" y="472"/>
                    </a:lnTo>
                    <a:lnTo>
                      <a:pt x="247" y="404"/>
                    </a:lnTo>
                    <a:lnTo>
                      <a:pt x="270" y="348"/>
                    </a:lnTo>
                    <a:lnTo>
                      <a:pt x="291" y="292"/>
                    </a:lnTo>
                    <a:lnTo>
                      <a:pt x="326" y="235"/>
                    </a:lnTo>
                    <a:lnTo>
                      <a:pt x="359" y="168"/>
                    </a:lnTo>
                    <a:lnTo>
                      <a:pt x="382" y="112"/>
                    </a:lnTo>
                    <a:lnTo>
                      <a:pt x="415" y="56"/>
                    </a:lnTo>
                    <a:lnTo>
                      <a:pt x="4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7039440" y="3954240"/>
                <a:ext cx="561600" cy="1245960"/>
              </a:xfrm>
              <a:custGeom>
                <a:avLst/>
                <a:gdLst/>
                <a:ahLst/>
                <a:rect l="l" t="t" r="r" b="b"/>
                <a:pathLst>
                  <a:path w="1446" h="3208">
                    <a:moveTo>
                      <a:pt x="952" y="190"/>
                    </a:moveTo>
                    <a:lnTo>
                      <a:pt x="975" y="236"/>
                    </a:lnTo>
                    <a:lnTo>
                      <a:pt x="1009" y="282"/>
                    </a:lnTo>
                    <a:lnTo>
                      <a:pt x="1032" y="337"/>
                    </a:lnTo>
                    <a:lnTo>
                      <a:pt x="1065" y="381"/>
                    </a:lnTo>
                    <a:lnTo>
                      <a:pt x="1098" y="426"/>
                    </a:lnTo>
                    <a:lnTo>
                      <a:pt x="1121" y="482"/>
                    </a:lnTo>
                    <a:lnTo>
                      <a:pt x="1154" y="527"/>
                    </a:lnTo>
                    <a:lnTo>
                      <a:pt x="1187" y="571"/>
                    </a:lnTo>
                    <a:lnTo>
                      <a:pt x="1222" y="617"/>
                    </a:lnTo>
                    <a:lnTo>
                      <a:pt x="1244" y="674"/>
                    </a:lnTo>
                    <a:lnTo>
                      <a:pt x="1278" y="719"/>
                    </a:lnTo>
                    <a:lnTo>
                      <a:pt x="1311" y="763"/>
                    </a:lnTo>
                    <a:lnTo>
                      <a:pt x="1344" y="808"/>
                    </a:lnTo>
                    <a:lnTo>
                      <a:pt x="1379" y="853"/>
                    </a:lnTo>
                    <a:lnTo>
                      <a:pt x="1413" y="909"/>
                    </a:lnTo>
                    <a:lnTo>
                      <a:pt x="1446" y="953"/>
                    </a:lnTo>
                    <a:lnTo>
                      <a:pt x="1446" y="965"/>
                    </a:lnTo>
                    <a:lnTo>
                      <a:pt x="1446" y="975"/>
                    </a:lnTo>
                    <a:lnTo>
                      <a:pt x="1436" y="975"/>
                    </a:lnTo>
                    <a:lnTo>
                      <a:pt x="1436" y="987"/>
                    </a:lnTo>
                    <a:lnTo>
                      <a:pt x="1436" y="998"/>
                    </a:lnTo>
                    <a:lnTo>
                      <a:pt x="1424" y="998"/>
                    </a:lnTo>
                    <a:lnTo>
                      <a:pt x="1413" y="998"/>
                    </a:lnTo>
                    <a:lnTo>
                      <a:pt x="1413" y="1009"/>
                    </a:lnTo>
                    <a:lnTo>
                      <a:pt x="1401" y="1009"/>
                    </a:lnTo>
                    <a:lnTo>
                      <a:pt x="1389" y="1020"/>
                    </a:lnTo>
                    <a:lnTo>
                      <a:pt x="1379" y="1020"/>
                    </a:lnTo>
                    <a:lnTo>
                      <a:pt x="1367" y="1031"/>
                    </a:lnTo>
                    <a:lnTo>
                      <a:pt x="1356" y="1043"/>
                    </a:lnTo>
                    <a:lnTo>
                      <a:pt x="1311" y="1064"/>
                    </a:lnTo>
                    <a:lnTo>
                      <a:pt x="1278" y="1088"/>
                    </a:lnTo>
                    <a:lnTo>
                      <a:pt x="1233" y="1111"/>
                    </a:lnTo>
                    <a:lnTo>
                      <a:pt x="1199" y="1133"/>
                    </a:lnTo>
                    <a:lnTo>
                      <a:pt x="1154" y="1156"/>
                    </a:lnTo>
                    <a:lnTo>
                      <a:pt x="1110" y="1178"/>
                    </a:lnTo>
                    <a:lnTo>
                      <a:pt x="1076" y="1200"/>
                    </a:lnTo>
                    <a:lnTo>
                      <a:pt x="1032" y="1222"/>
                    </a:lnTo>
                    <a:lnTo>
                      <a:pt x="997" y="1245"/>
                    </a:lnTo>
                    <a:lnTo>
                      <a:pt x="952" y="1268"/>
                    </a:lnTo>
                    <a:lnTo>
                      <a:pt x="907" y="1290"/>
                    </a:lnTo>
                    <a:lnTo>
                      <a:pt x="874" y="1313"/>
                    </a:lnTo>
                    <a:lnTo>
                      <a:pt x="829" y="1334"/>
                    </a:lnTo>
                    <a:lnTo>
                      <a:pt x="795" y="1357"/>
                    </a:lnTo>
                    <a:lnTo>
                      <a:pt x="750" y="1379"/>
                    </a:lnTo>
                    <a:lnTo>
                      <a:pt x="706" y="1402"/>
                    </a:lnTo>
                    <a:lnTo>
                      <a:pt x="684" y="1424"/>
                    </a:lnTo>
                    <a:lnTo>
                      <a:pt x="650" y="1435"/>
                    </a:lnTo>
                    <a:lnTo>
                      <a:pt x="628" y="1458"/>
                    </a:lnTo>
                    <a:lnTo>
                      <a:pt x="595" y="1468"/>
                    </a:lnTo>
                    <a:lnTo>
                      <a:pt x="572" y="1480"/>
                    </a:lnTo>
                    <a:lnTo>
                      <a:pt x="538" y="1503"/>
                    </a:lnTo>
                    <a:lnTo>
                      <a:pt x="503" y="1513"/>
                    </a:lnTo>
                    <a:lnTo>
                      <a:pt x="482" y="1525"/>
                    </a:lnTo>
                    <a:lnTo>
                      <a:pt x="447" y="1548"/>
                    </a:lnTo>
                    <a:lnTo>
                      <a:pt x="426" y="1560"/>
                    </a:lnTo>
                    <a:lnTo>
                      <a:pt x="392" y="1571"/>
                    </a:lnTo>
                    <a:lnTo>
                      <a:pt x="369" y="1593"/>
                    </a:lnTo>
                    <a:lnTo>
                      <a:pt x="336" y="1604"/>
                    </a:lnTo>
                    <a:lnTo>
                      <a:pt x="313" y="1616"/>
                    </a:lnTo>
                    <a:lnTo>
                      <a:pt x="280" y="1637"/>
                    </a:lnTo>
                    <a:lnTo>
                      <a:pt x="247" y="1649"/>
                    </a:lnTo>
                    <a:lnTo>
                      <a:pt x="269" y="1694"/>
                    </a:lnTo>
                    <a:lnTo>
                      <a:pt x="292" y="1738"/>
                    </a:lnTo>
                    <a:lnTo>
                      <a:pt x="325" y="1783"/>
                    </a:lnTo>
                    <a:lnTo>
                      <a:pt x="348" y="1827"/>
                    </a:lnTo>
                    <a:lnTo>
                      <a:pt x="369" y="1862"/>
                    </a:lnTo>
                    <a:lnTo>
                      <a:pt x="392" y="1906"/>
                    </a:lnTo>
                    <a:lnTo>
                      <a:pt x="426" y="1952"/>
                    </a:lnTo>
                    <a:lnTo>
                      <a:pt x="447" y="1997"/>
                    </a:lnTo>
                    <a:lnTo>
                      <a:pt x="470" y="2030"/>
                    </a:lnTo>
                    <a:lnTo>
                      <a:pt x="492" y="2074"/>
                    </a:lnTo>
                    <a:lnTo>
                      <a:pt x="526" y="2119"/>
                    </a:lnTo>
                    <a:lnTo>
                      <a:pt x="550" y="2165"/>
                    </a:lnTo>
                    <a:lnTo>
                      <a:pt x="572" y="2208"/>
                    </a:lnTo>
                    <a:lnTo>
                      <a:pt x="595" y="2254"/>
                    </a:lnTo>
                    <a:lnTo>
                      <a:pt x="617" y="2299"/>
                    </a:lnTo>
                    <a:lnTo>
                      <a:pt x="628" y="2332"/>
                    </a:lnTo>
                    <a:lnTo>
                      <a:pt x="661" y="2389"/>
                    </a:lnTo>
                    <a:lnTo>
                      <a:pt x="684" y="2445"/>
                    </a:lnTo>
                    <a:lnTo>
                      <a:pt x="717" y="2490"/>
                    </a:lnTo>
                    <a:lnTo>
                      <a:pt x="740" y="2546"/>
                    </a:lnTo>
                    <a:lnTo>
                      <a:pt x="773" y="2590"/>
                    </a:lnTo>
                    <a:lnTo>
                      <a:pt x="795" y="2646"/>
                    </a:lnTo>
                    <a:lnTo>
                      <a:pt x="829" y="2691"/>
                    </a:lnTo>
                    <a:lnTo>
                      <a:pt x="851" y="2747"/>
                    </a:lnTo>
                    <a:lnTo>
                      <a:pt x="884" y="2804"/>
                    </a:lnTo>
                    <a:lnTo>
                      <a:pt x="907" y="2849"/>
                    </a:lnTo>
                    <a:lnTo>
                      <a:pt x="930" y="2905"/>
                    </a:lnTo>
                    <a:lnTo>
                      <a:pt x="952" y="2960"/>
                    </a:lnTo>
                    <a:lnTo>
                      <a:pt x="964" y="3016"/>
                    </a:lnTo>
                    <a:lnTo>
                      <a:pt x="987" y="3072"/>
                    </a:lnTo>
                    <a:lnTo>
                      <a:pt x="997" y="3128"/>
                    </a:lnTo>
                    <a:lnTo>
                      <a:pt x="1009" y="3184"/>
                    </a:lnTo>
                    <a:lnTo>
                      <a:pt x="964" y="3196"/>
                    </a:lnTo>
                    <a:lnTo>
                      <a:pt x="907" y="3196"/>
                    </a:lnTo>
                    <a:lnTo>
                      <a:pt x="851" y="3208"/>
                    </a:lnTo>
                    <a:lnTo>
                      <a:pt x="795" y="3208"/>
                    </a:lnTo>
                    <a:lnTo>
                      <a:pt x="740" y="3208"/>
                    </a:lnTo>
                    <a:lnTo>
                      <a:pt x="694" y="3208"/>
                    </a:lnTo>
                    <a:lnTo>
                      <a:pt x="639" y="3208"/>
                    </a:lnTo>
                    <a:lnTo>
                      <a:pt x="583" y="3208"/>
                    </a:lnTo>
                    <a:lnTo>
                      <a:pt x="526" y="3208"/>
                    </a:lnTo>
                    <a:lnTo>
                      <a:pt x="482" y="3196"/>
                    </a:lnTo>
                    <a:lnTo>
                      <a:pt x="426" y="3196"/>
                    </a:lnTo>
                    <a:lnTo>
                      <a:pt x="369" y="3196"/>
                    </a:lnTo>
                    <a:lnTo>
                      <a:pt x="313" y="3196"/>
                    </a:lnTo>
                    <a:lnTo>
                      <a:pt x="269" y="3184"/>
                    </a:lnTo>
                    <a:lnTo>
                      <a:pt x="213" y="3184"/>
                    </a:lnTo>
                    <a:lnTo>
                      <a:pt x="158" y="3184"/>
                    </a:lnTo>
                    <a:lnTo>
                      <a:pt x="158" y="3117"/>
                    </a:lnTo>
                    <a:lnTo>
                      <a:pt x="158" y="3050"/>
                    </a:lnTo>
                    <a:lnTo>
                      <a:pt x="146" y="2983"/>
                    </a:lnTo>
                    <a:lnTo>
                      <a:pt x="146" y="2915"/>
                    </a:lnTo>
                    <a:lnTo>
                      <a:pt x="135" y="2849"/>
                    </a:lnTo>
                    <a:lnTo>
                      <a:pt x="135" y="2781"/>
                    </a:lnTo>
                    <a:lnTo>
                      <a:pt x="135" y="2713"/>
                    </a:lnTo>
                    <a:lnTo>
                      <a:pt x="123" y="2646"/>
                    </a:lnTo>
                    <a:lnTo>
                      <a:pt x="123" y="2579"/>
                    </a:lnTo>
                    <a:lnTo>
                      <a:pt x="111" y="2513"/>
                    </a:lnTo>
                    <a:lnTo>
                      <a:pt x="111" y="2445"/>
                    </a:lnTo>
                    <a:lnTo>
                      <a:pt x="100" y="2378"/>
                    </a:lnTo>
                    <a:lnTo>
                      <a:pt x="100" y="2309"/>
                    </a:lnTo>
                    <a:lnTo>
                      <a:pt x="89" y="2243"/>
                    </a:lnTo>
                    <a:lnTo>
                      <a:pt x="89" y="2175"/>
                    </a:lnTo>
                    <a:lnTo>
                      <a:pt x="78" y="2109"/>
                    </a:lnTo>
                    <a:lnTo>
                      <a:pt x="78" y="2086"/>
                    </a:lnTo>
                    <a:lnTo>
                      <a:pt x="66" y="2053"/>
                    </a:lnTo>
                    <a:lnTo>
                      <a:pt x="66" y="2030"/>
                    </a:lnTo>
                    <a:lnTo>
                      <a:pt x="55" y="2008"/>
                    </a:lnTo>
                    <a:lnTo>
                      <a:pt x="55" y="1985"/>
                    </a:lnTo>
                    <a:lnTo>
                      <a:pt x="45" y="1952"/>
                    </a:lnTo>
                    <a:lnTo>
                      <a:pt x="45" y="1928"/>
                    </a:lnTo>
                    <a:lnTo>
                      <a:pt x="33" y="1906"/>
                    </a:lnTo>
                    <a:lnTo>
                      <a:pt x="33" y="1883"/>
                    </a:lnTo>
                    <a:lnTo>
                      <a:pt x="22" y="1850"/>
                    </a:lnTo>
                    <a:lnTo>
                      <a:pt x="22" y="1827"/>
                    </a:lnTo>
                    <a:lnTo>
                      <a:pt x="10" y="1806"/>
                    </a:lnTo>
                    <a:lnTo>
                      <a:pt x="10" y="1783"/>
                    </a:lnTo>
                    <a:lnTo>
                      <a:pt x="10" y="1750"/>
                    </a:lnTo>
                    <a:lnTo>
                      <a:pt x="0" y="1727"/>
                    </a:lnTo>
                    <a:lnTo>
                      <a:pt x="0" y="1705"/>
                    </a:lnTo>
                    <a:lnTo>
                      <a:pt x="10" y="1694"/>
                    </a:lnTo>
                    <a:lnTo>
                      <a:pt x="22" y="1694"/>
                    </a:lnTo>
                    <a:lnTo>
                      <a:pt x="22" y="1682"/>
                    </a:lnTo>
                    <a:lnTo>
                      <a:pt x="33" y="1672"/>
                    </a:lnTo>
                    <a:lnTo>
                      <a:pt x="33" y="1660"/>
                    </a:lnTo>
                    <a:lnTo>
                      <a:pt x="45" y="1649"/>
                    </a:lnTo>
                    <a:lnTo>
                      <a:pt x="45" y="1637"/>
                    </a:lnTo>
                    <a:lnTo>
                      <a:pt x="45" y="1626"/>
                    </a:lnTo>
                    <a:lnTo>
                      <a:pt x="45" y="1616"/>
                    </a:lnTo>
                    <a:lnTo>
                      <a:pt x="45" y="1604"/>
                    </a:lnTo>
                    <a:lnTo>
                      <a:pt x="55" y="1593"/>
                    </a:lnTo>
                    <a:lnTo>
                      <a:pt x="66" y="1581"/>
                    </a:lnTo>
                    <a:lnTo>
                      <a:pt x="66" y="1571"/>
                    </a:lnTo>
                    <a:lnTo>
                      <a:pt x="78" y="1571"/>
                    </a:lnTo>
                    <a:lnTo>
                      <a:pt x="78" y="1560"/>
                    </a:lnTo>
                    <a:lnTo>
                      <a:pt x="78" y="1548"/>
                    </a:lnTo>
                    <a:lnTo>
                      <a:pt x="89" y="1537"/>
                    </a:lnTo>
                    <a:lnTo>
                      <a:pt x="100" y="1525"/>
                    </a:lnTo>
                    <a:lnTo>
                      <a:pt x="100" y="1513"/>
                    </a:lnTo>
                    <a:lnTo>
                      <a:pt x="111" y="1503"/>
                    </a:lnTo>
                    <a:lnTo>
                      <a:pt x="111" y="1491"/>
                    </a:lnTo>
                    <a:lnTo>
                      <a:pt x="111" y="1480"/>
                    </a:lnTo>
                    <a:lnTo>
                      <a:pt x="123" y="1480"/>
                    </a:lnTo>
                    <a:lnTo>
                      <a:pt x="123" y="1468"/>
                    </a:lnTo>
                    <a:lnTo>
                      <a:pt x="135" y="1458"/>
                    </a:lnTo>
                    <a:lnTo>
                      <a:pt x="135" y="1446"/>
                    </a:lnTo>
                    <a:lnTo>
                      <a:pt x="146" y="1446"/>
                    </a:lnTo>
                    <a:lnTo>
                      <a:pt x="146" y="1435"/>
                    </a:lnTo>
                    <a:lnTo>
                      <a:pt x="146" y="1424"/>
                    </a:lnTo>
                    <a:lnTo>
                      <a:pt x="158" y="1424"/>
                    </a:lnTo>
                    <a:lnTo>
                      <a:pt x="158" y="1413"/>
                    </a:lnTo>
                    <a:lnTo>
                      <a:pt x="168" y="1413"/>
                    </a:lnTo>
                    <a:lnTo>
                      <a:pt x="168" y="1402"/>
                    </a:lnTo>
                    <a:lnTo>
                      <a:pt x="168" y="1390"/>
                    </a:lnTo>
                    <a:lnTo>
                      <a:pt x="179" y="1390"/>
                    </a:lnTo>
                    <a:lnTo>
                      <a:pt x="179" y="1379"/>
                    </a:lnTo>
                    <a:lnTo>
                      <a:pt x="179" y="1369"/>
                    </a:lnTo>
                    <a:lnTo>
                      <a:pt x="191" y="1369"/>
                    </a:lnTo>
                    <a:lnTo>
                      <a:pt x="191" y="1357"/>
                    </a:lnTo>
                    <a:lnTo>
                      <a:pt x="201" y="1346"/>
                    </a:lnTo>
                    <a:lnTo>
                      <a:pt x="213" y="1323"/>
                    </a:lnTo>
                    <a:lnTo>
                      <a:pt x="224" y="1313"/>
                    </a:lnTo>
                    <a:lnTo>
                      <a:pt x="224" y="1290"/>
                    </a:lnTo>
                    <a:lnTo>
                      <a:pt x="236" y="1268"/>
                    </a:lnTo>
                    <a:lnTo>
                      <a:pt x="247" y="1256"/>
                    </a:lnTo>
                    <a:lnTo>
                      <a:pt x="257" y="1234"/>
                    </a:lnTo>
                    <a:lnTo>
                      <a:pt x="269" y="1222"/>
                    </a:lnTo>
                    <a:lnTo>
                      <a:pt x="280" y="1200"/>
                    </a:lnTo>
                    <a:lnTo>
                      <a:pt x="292" y="1178"/>
                    </a:lnTo>
                    <a:lnTo>
                      <a:pt x="292" y="1167"/>
                    </a:lnTo>
                    <a:lnTo>
                      <a:pt x="302" y="1144"/>
                    </a:lnTo>
                    <a:lnTo>
                      <a:pt x="313" y="1123"/>
                    </a:lnTo>
                    <a:lnTo>
                      <a:pt x="325" y="1111"/>
                    </a:lnTo>
                    <a:lnTo>
                      <a:pt x="336" y="1088"/>
                    </a:lnTo>
                    <a:lnTo>
                      <a:pt x="348" y="1076"/>
                    </a:lnTo>
                    <a:lnTo>
                      <a:pt x="358" y="1054"/>
                    </a:lnTo>
                    <a:lnTo>
                      <a:pt x="369" y="1031"/>
                    </a:lnTo>
                    <a:lnTo>
                      <a:pt x="381" y="1020"/>
                    </a:lnTo>
                    <a:lnTo>
                      <a:pt x="392" y="998"/>
                    </a:lnTo>
                    <a:lnTo>
                      <a:pt x="403" y="975"/>
                    </a:lnTo>
                    <a:lnTo>
                      <a:pt x="414" y="965"/>
                    </a:lnTo>
                    <a:lnTo>
                      <a:pt x="414" y="942"/>
                    </a:lnTo>
                    <a:lnTo>
                      <a:pt x="426" y="919"/>
                    </a:lnTo>
                    <a:lnTo>
                      <a:pt x="437" y="909"/>
                    </a:lnTo>
                    <a:lnTo>
                      <a:pt x="447" y="886"/>
                    </a:lnTo>
                    <a:lnTo>
                      <a:pt x="459" y="864"/>
                    </a:lnTo>
                    <a:lnTo>
                      <a:pt x="470" y="853"/>
                    </a:lnTo>
                    <a:lnTo>
                      <a:pt x="482" y="830"/>
                    </a:lnTo>
                    <a:lnTo>
                      <a:pt x="492" y="808"/>
                    </a:lnTo>
                    <a:lnTo>
                      <a:pt x="503" y="797"/>
                    </a:lnTo>
                    <a:lnTo>
                      <a:pt x="515" y="775"/>
                    </a:lnTo>
                    <a:lnTo>
                      <a:pt x="526" y="763"/>
                    </a:lnTo>
                    <a:lnTo>
                      <a:pt x="538" y="719"/>
                    </a:lnTo>
                    <a:lnTo>
                      <a:pt x="550" y="684"/>
                    </a:lnTo>
                    <a:lnTo>
                      <a:pt x="572" y="651"/>
                    </a:lnTo>
                    <a:lnTo>
                      <a:pt x="583" y="617"/>
                    </a:lnTo>
                    <a:lnTo>
                      <a:pt x="605" y="583"/>
                    </a:lnTo>
                    <a:lnTo>
                      <a:pt x="617" y="550"/>
                    </a:lnTo>
                    <a:lnTo>
                      <a:pt x="639" y="516"/>
                    </a:lnTo>
                    <a:lnTo>
                      <a:pt x="650" y="482"/>
                    </a:lnTo>
                    <a:lnTo>
                      <a:pt x="661" y="437"/>
                    </a:lnTo>
                    <a:lnTo>
                      <a:pt x="684" y="404"/>
                    </a:lnTo>
                    <a:lnTo>
                      <a:pt x="694" y="371"/>
                    </a:lnTo>
                    <a:lnTo>
                      <a:pt x="717" y="337"/>
                    </a:lnTo>
                    <a:lnTo>
                      <a:pt x="729" y="303"/>
                    </a:lnTo>
                    <a:lnTo>
                      <a:pt x="750" y="270"/>
                    </a:lnTo>
                    <a:lnTo>
                      <a:pt x="762" y="236"/>
                    </a:lnTo>
                    <a:lnTo>
                      <a:pt x="785" y="202"/>
                    </a:lnTo>
                    <a:lnTo>
                      <a:pt x="785" y="157"/>
                    </a:lnTo>
                    <a:lnTo>
                      <a:pt x="807" y="124"/>
                    </a:lnTo>
                    <a:lnTo>
                      <a:pt x="818" y="78"/>
                    </a:lnTo>
                    <a:lnTo>
                      <a:pt x="829" y="45"/>
                    </a:lnTo>
                    <a:lnTo>
                      <a:pt x="851" y="12"/>
                    </a:lnTo>
                    <a:lnTo>
                      <a:pt x="851" y="0"/>
                    </a:lnTo>
                    <a:lnTo>
                      <a:pt x="874" y="34"/>
                    </a:lnTo>
                    <a:lnTo>
                      <a:pt x="884" y="68"/>
                    </a:lnTo>
                    <a:lnTo>
                      <a:pt x="907" y="101"/>
                    </a:lnTo>
                    <a:lnTo>
                      <a:pt x="919" y="146"/>
                    </a:lnTo>
                    <a:lnTo>
                      <a:pt x="940" y="179"/>
                    </a:lnTo>
                    <a:lnTo>
                      <a:pt x="952" y="190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407720" y="4026240"/>
                <a:ext cx="193320" cy="296280"/>
              </a:xfrm>
              <a:custGeom>
                <a:avLst/>
                <a:gdLst/>
                <a:ahLst/>
                <a:rect l="l" t="t" r="r" b="b"/>
                <a:pathLst>
                  <a:path w="494" h="763">
                    <a:moveTo>
                      <a:pt x="0" y="0"/>
                    </a:moveTo>
                    <a:lnTo>
                      <a:pt x="23" y="46"/>
                    </a:lnTo>
                    <a:lnTo>
                      <a:pt x="57" y="92"/>
                    </a:lnTo>
                    <a:lnTo>
                      <a:pt x="80" y="147"/>
                    </a:lnTo>
                    <a:lnTo>
                      <a:pt x="113" y="191"/>
                    </a:lnTo>
                    <a:lnTo>
                      <a:pt x="146" y="236"/>
                    </a:lnTo>
                    <a:lnTo>
                      <a:pt x="169" y="292"/>
                    </a:lnTo>
                    <a:lnTo>
                      <a:pt x="202" y="337"/>
                    </a:lnTo>
                    <a:lnTo>
                      <a:pt x="235" y="381"/>
                    </a:lnTo>
                    <a:lnTo>
                      <a:pt x="270" y="427"/>
                    </a:lnTo>
                    <a:lnTo>
                      <a:pt x="292" y="484"/>
                    </a:lnTo>
                    <a:lnTo>
                      <a:pt x="326" y="529"/>
                    </a:lnTo>
                    <a:lnTo>
                      <a:pt x="359" y="573"/>
                    </a:lnTo>
                    <a:lnTo>
                      <a:pt x="392" y="618"/>
                    </a:lnTo>
                    <a:lnTo>
                      <a:pt x="427" y="663"/>
                    </a:lnTo>
                    <a:lnTo>
                      <a:pt x="461" y="719"/>
                    </a:lnTo>
                    <a:lnTo>
                      <a:pt x="494" y="7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312320" y="4359960"/>
                <a:ext cx="253800" cy="137520"/>
              </a:xfrm>
              <a:custGeom>
                <a:avLst/>
                <a:gdLst/>
                <a:ahLst/>
                <a:rect l="l" t="t" r="r" b="b"/>
                <a:pathLst>
                  <a:path w="650" h="359">
                    <a:moveTo>
                      <a:pt x="650" y="0"/>
                    </a:moveTo>
                    <a:lnTo>
                      <a:pt x="605" y="21"/>
                    </a:lnTo>
                    <a:lnTo>
                      <a:pt x="572" y="45"/>
                    </a:lnTo>
                    <a:lnTo>
                      <a:pt x="527" y="68"/>
                    </a:lnTo>
                    <a:lnTo>
                      <a:pt x="493" y="90"/>
                    </a:lnTo>
                    <a:lnTo>
                      <a:pt x="448" y="113"/>
                    </a:lnTo>
                    <a:lnTo>
                      <a:pt x="404" y="135"/>
                    </a:lnTo>
                    <a:lnTo>
                      <a:pt x="370" y="157"/>
                    </a:lnTo>
                    <a:lnTo>
                      <a:pt x="326" y="179"/>
                    </a:lnTo>
                    <a:lnTo>
                      <a:pt x="291" y="202"/>
                    </a:lnTo>
                    <a:lnTo>
                      <a:pt x="246" y="225"/>
                    </a:lnTo>
                    <a:lnTo>
                      <a:pt x="201" y="247"/>
                    </a:lnTo>
                    <a:lnTo>
                      <a:pt x="168" y="270"/>
                    </a:lnTo>
                    <a:lnTo>
                      <a:pt x="123" y="291"/>
                    </a:lnTo>
                    <a:lnTo>
                      <a:pt x="89" y="314"/>
                    </a:lnTo>
                    <a:lnTo>
                      <a:pt x="44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7134480" y="4497840"/>
                <a:ext cx="177480" cy="95760"/>
              </a:xfrm>
              <a:custGeom>
                <a:avLst/>
                <a:gdLst/>
                <a:ahLst/>
                <a:rect l="l" t="t" r="r" b="b"/>
                <a:pathLst>
                  <a:path w="459" h="247">
                    <a:moveTo>
                      <a:pt x="459" y="0"/>
                    </a:moveTo>
                    <a:lnTo>
                      <a:pt x="437" y="22"/>
                    </a:lnTo>
                    <a:lnTo>
                      <a:pt x="403" y="33"/>
                    </a:lnTo>
                    <a:lnTo>
                      <a:pt x="381" y="56"/>
                    </a:lnTo>
                    <a:lnTo>
                      <a:pt x="348" y="66"/>
                    </a:lnTo>
                    <a:lnTo>
                      <a:pt x="325" y="78"/>
                    </a:lnTo>
                    <a:lnTo>
                      <a:pt x="291" y="101"/>
                    </a:lnTo>
                    <a:lnTo>
                      <a:pt x="256" y="111"/>
                    </a:lnTo>
                    <a:lnTo>
                      <a:pt x="235" y="123"/>
                    </a:lnTo>
                    <a:lnTo>
                      <a:pt x="200" y="146"/>
                    </a:lnTo>
                    <a:lnTo>
                      <a:pt x="179" y="158"/>
                    </a:lnTo>
                    <a:lnTo>
                      <a:pt x="145" y="169"/>
                    </a:lnTo>
                    <a:lnTo>
                      <a:pt x="122" y="191"/>
                    </a:lnTo>
                    <a:lnTo>
                      <a:pt x="89" y="202"/>
                    </a:lnTo>
                    <a:lnTo>
                      <a:pt x="66" y="214"/>
                    </a:lnTo>
                    <a:lnTo>
                      <a:pt x="33" y="235"/>
                    </a:lnTo>
                    <a:lnTo>
                      <a:pt x="0" y="2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7134480" y="4593600"/>
                <a:ext cx="146880" cy="266040"/>
              </a:xfrm>
              <a:custGeom>
                <a:avLst/>
                <a:gdLst/>
                <a:ahLst/>
                <a:rect l="l" t="t" r="r" b="b"/>
                <a:pathLst>
                  <a:path w="381" h="683">
                    <a:moveTo>
                      <a:pt x="0" y="0"/>
                    </a:moveTo>
                    <a:lnTo>
                      <a:pt x="22" y="45"/>
                    </a:lnTo>
                    <a:lnTo>
                      <a:pt x="45" y="89"/>
                    </a:lnTo>
                    <a:lnTo>
                      <a:pt x="78" y="134"/>
                    </a:lnTo>
                    <a:lnTo>
                      <a:pt x="101" y="178"/>
                    </a:lnTo>
                    <a:lnTo>
                      <a:pt x="122" y="213"/>
                    </a:lnTo>
                    <a:lnTo>
                      <a:pt x="145" y="257"/>
                    </a:lnTo>
                    <a:lnTo>
                      <a:pt x="179" y="303"/>
                    </a:lnTo>
                    <a:lnTo>
                      <a:pt x="200" y="348"/>
                    </a:lnTo>
                    <a:lnTo>
                      <a:pt x="223" y="381"/>
                    </a:lnTo>
                    <a:lnTo>
                      <a:pt x="245" y="425"/>
                    </a:lnTo>
                    <a:lnTo>
                      <a:pt x="279" y="470"/>
                    </a:lnTo>
                    <a:lnTo>
                      <a:pt x="303" y="516"/>
                    </a:lnTo>
                    <a:lnTo>
                      <a:pt x="325" y="559"/>
                    </a:lnTo>
                    <a:lnTo>
                      <a:pt x="348" y="605"/>
                    </a:lnTo>
                    <a:lnTo>
                      <a:pt x="370" y="650"/>
                    </a:lnTo>
                    <a:lnTo>
                      <a:pt x="381" y="6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281720" y="4860000"/>
                <a:ext cx="149040" cy="331200"/>
              </a:xfrm>
              <a:custGeom>
                <a:avLst/>
                <a:gdLst/>
                <a:ahLst/>
                <a:rect l="l" t="t" r="r" b="b"/>
                <a:pathLst>
                  <a:path w="381" h="852">
                    <a:moveTo>
                      <a:pt x="0" y="0"/>
                    </a:moveTo>
                    <a:lnTo>
                      <a:pt x="33" y="57"/>
                    </a:lnTo>
                    <a:lnTo>
                      <a:pt x="56" y="113"/>
                    </a:lnTo>
                    <a:lnTo>
                      <a:pt x="89" y="158"/>
                    </a:lnTo>
                    <a:lnTo>
                      <a:pt x="112" y="214"/>
                    </a:lnTo>
                    <a:lnTo>
                      <a:pt x="145" y="258"/>
                    </a:lnTo>
                    <a:lnTo>
                      <a:pt x="167" y="314"/>
                    </a:lnTo>
                    <a:lnTo>
                      <a:pt x="201" y="359"/>
                    </a:lnTo>
                    <a:lnTo>
                      <a:pt x="223" y="415"/>
                    </a:lnTo>
                    <a:lnTo>
                      <a:pt x="256" y="472"/>
                    </a:lnTo>
                    <a:lnTo>
                      <a:pt x="279" y="517"/>
                    </a:lnTo>
                    <a:lnTo>
                      <a:pt x="302" y="573"/>
                    </a:lnTo>
                    <a:lnTo>
                      <a:pt x="324" y="628"/>
                    </a:lnTo>
                    <a:lnTo>
                      <a:pt x="336" y="684"/>
                    </a:lnTo>
                    <a:lnTo>
                      <a:pt x="359" y="740"/>
                    </a:lnTo>
                    <a:lnTo>
                      <a:pt x="369" y="796"/>
                    </a:lnTo>
                    <a:lnTo>
                      <a:pt x="381" y="8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069680" y="4773240"/>
                <a:ext cx="29880" cy="417960"/>
              </a:xfrm>
              <a:custGeom>
                <a:avLst/>
                <a:gdLst/>
                <a:ahLst/>
                <a:rect l="l" t="t" r="r" b="b"/>
                <a:pathLst>
                  <a:path w="80" h="1075">
                    <a:moveTo>
                      <a:pt x="80" y="1075"/>
                    </a:moveTo>
                    <a:lnTo>
                      <a:pt x="80" y="1008"/>
                    </a:lnTo>
                    <a:lnTo>
                      <a:pt x="80" y="941"/>
                    </a:lnTo>
                    <a:lnTo>
                      <a:pt x="68" y="874"/>
                    </a:lnTo>
                    <a:lnTo>
                      <a:pt x="68" y="806"/>
                    </a:lnTo>
                    <a:lnTo>
                      <a:pt x="57" y="740"/>
                    </a:lnTo>
                    <a:lnTo>
                      <a:pt x="57" y="672"/>
                    </a:lnTo>
                    <a:lnTo>
                      <a:pt x="57" y="604"/>
                    </a:lnTo>
                    <a:lnTo>
                      <a:pt x="45" y="537"/>
                    </a:lnTo>
                    <a:lnTo>
                      <a:pt x="45" y="470"/>
                    </a:lnTo>
                    <a:lnTo>
                      <a:pt x="33" y="404"/>
                    </a:lnTo>
                    <a:lnTo>
                      <a:pt x="33" y="336"/>
                    </a:lnTo>
                    <a:lnTo>
                      <a:pt x="22" y="269"/>
                    </a:lnTo>
                    <a:lnTo>
                      <a:pt x="22" y="200"/>
                    </a:lnTo>
                    <a:lnTo>
                      <a:pt x="11" y="134"/>
                    </a:lnTo>
                    <a:lnTo>
                      <a:pt x="11" y="6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039440" y="461700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78" h="404">
                    <a:moveTo>
                      <a:pt x="78" y="404"/>
                    </a:moveTo>
                    <a:lnTo>
                      <a:pt x="78" y="381"/>
                    </a:lnTo>
                    <a:lnTo>
                      <a:pt x="66" y="348"/>
                    </a:lnTo>
                    <a:lnTo>
                      <a:pt x="66" y="325"/>
                    </a:lnTo>
                    <a:lnTo>
                      <a:pt x="55" y="303"/>
                    </a:lnTo>
                    <a:lnTo>
                      <a:pt x="55" y="280"/>
                    </a:lnTo>
                    <a:lnTo>
                      <a:pt x="45" y="247"/>
                    </a:lnTo>
                    <a:lnTo>
                      <a:pt x="45" y="223"/>
                    </a:lnTo>
                    <a:lnTo>
                      <a:pt x="33" y="201"/>
                    </a:lnTo>
                    <a:lnTo>
                      <a:pt x="33" y="178"/>
                    </a:lnTo>
                    <a:lnTo>
                      <a:pt x="22" y="145"/>
                    </a:lnTo>
                    <a:lnTo>
                      <a:pt x="22" y="122"/>
                    </a:lnTo>
                    <a:lnTo>
                      <a:pt x="10" y="101"/>
                    </a:lnTo>
                    <a:lnTo>
                      <a:pt x="10" y="78"/>
                    </a:lnTo>
                    <a:lnTo>
                      <a:pt x="10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116120" y="436212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157" h="292">
                    <a:moveTo>
                      <a:pt x="0" y="292"/>
                    </a:moveTo>
                    <a:lnTo>
                      <a:pt x="12" y="269"/>
                    </a:lnTo>
                    <a:lnTo>
                      <a:pt x="23" y="259"/>
                    </a:lnTo>
                    <a:lnTo>
                      <a:pt x="23" y="236"/>
                    </a:lnTo>
                    <a:lnTo>
                      <a:pt x="35" y="214"/>
                    </a:lnTo>
                    <a:lnTo>
                      <a:pt x="46" y="202"/>
                    </a:lnTo>
                    <a:lnTo>
                      <a:pt x="56" y="180"/>
                    </a:lnTo>
                    <a:lnTo>
                      <a:pt x="68" y="168"/>
                    </a:lnTo>
                    <a:lnTo>
                      <a:pt x="79" y="146"/>
                    </a:lnTo>
                    <a:lnTo>
                      <a:pt x="91" y="124"/>
                    </a:lnTo>
                    <a:lnTo>
                      <a:pt x="91" y="113"/>
                    </a:lnTo>
                    <a:lnTo>
                      <a:pt x="101" y="90"/>
                    </a:lnTo>
                    <a:lnTo>
                      <a:pt x="112" y="69"/>
                    </a:lnTo>
                    <a:lnTo>
                      <a:pt x="124" y="57"/>
                    </a:lnTo>
                    <a:lnTo>
                      <a:pt x="135" y="34"/>
                    </a:lnTo>
                    <a:lnTo>
                      <a:pt x="147" y="22"/>
                    </a:lnTo>
                    <a:lnTo>
                      <a:pt x="1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176960" y="425052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168" h="291">
                    <a:moveTo>
                      <a:pt x="0" y="291"/>
                    </a:moveTo>
                    <a:lnTo>
                      <a:pt x="11" y="268"/>
                    </a:lnTo>
                    <a:lnTo>
                      <a:pt x="23" y="257"/>
                    </a:lnTo>
                    <a:lnTo>
                      <a:pt x="34" y="235"/>
                    </a:lnTo>
                    <a:lnTo>
                      <a:pt x="45" y="212"/>
                    </a:lnTo>
                    <a:lnTo>
                      <a:pt x="56" y="202"/>
                    </a:lnTo>
                    <a:lnTo>
                      <a:pt x="56" y="179"/>
                    </a:lnTo>
                    <a:lnTo>
                      <a:pt x="68" y="156"/>
                    </a:lnTo>
                    <a:lnTo>
                      <a:pt x="79" y="146"/>
                    </a:lnTo>
                    <a:lnTo>
                      <a:pt x="89" y="123"/>
                    </a:lnTo>
                    <a:lnTo>
                      <a:pt x="101" y="101"/>
                    </a:lnTo>
                    <a:lnTo>
                      <a:pt x="112" y="90"/>
                    </a:lnTo>
                    <a:lnTo>
                      <a:pt x="124" y="67"/>
                    </a:lnTo>
                    <a:lnTo>
                      <a:pt x="134" y="45"/>
                    </a:lnTo>
                    <a:lnTo>
                      <a:pt x="145" y="34"/>
                    </a:lnTo>
                    <a:lnTo>
                      <a:pt x="157" y="12"/>
                    </a:lnTo>
                    <a:lnTo>
                      <a:pt x="1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7242120" y="4030920"/>
                <a:ext cx="100440" cy="219600"/>
              </a:xfrm>
              <a:custGeom>
                <a:avLst/>
                <a:gdLst/>
                <a:ahLst/>
                <a:rect l="l" t="t" r="r" b="b"/>
                <a:pathLst>
                  <a:path w="259" h="561">
                    <a:moveTo>
                      <a:pt x="0" y="561"/>
                    </a:moveTo>
                    <a:lnTo>
                      <a:pt x="12" y="517"/>
                    </a:lnTo>
                    <a:lnTo>
                      <a:pt x="24" y="482"/>
                    </a:lnTo>
                    <a:lnTo>
                      <a:pt x="46" y="449"/>
                    </a:lnTo>
                    <a:lnTo>
                      <a:pt x="57" y="415"/>
                    </a:lnTo>
                    <a:lnTo>
                      <a:pt x="79" y="381"/>
                    </a:lnTo>
                    <a:lnTo>
                      <a:pt x="91" y="348"/>
                    </a:lnTo>
                    <a:lnTo>
                      <a:pt x="113" y="314"/>
                    </a:lnTo>
                    <a:lnTo>
                      <a:pt x="124" y="280"/>
                    </a:lnTo>
                    <a:lnTo>
                      <a:pt x="135" y="235"/>
                    </a:lnTo>
                    <a:lnTo>
                      <a:pt x="158" y="202"/>
                    </a:lnTo>
                    <a:lnTo>
                      <a:pt x="168" y="169"/>
                    </a:lnTo>
                    <a:lnTo>
                      <a:pt x="191" y="135"/>
                    </a:lnTo>
                    <a:lnTo>
                      <a:pt x="203" y="101"/>
                    </a:lnTo>
                    <a:lnTo>
                      <a:pt x="224" y="68"/>
                    </a:lnTo>
                    <a:lnTo>
                      <a:pt x="236" y="34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7342560" y="3954240"/>
                <a:ext cx="27720" cy="76680"/>
              </a:xfrm>
              <a:custGeom>
                <a:avLst/>
                <a:gdLst/>
                <a:ahLst/>
                <a:rect l="l" t="t" r="r" b="b"/>
                <a:pathLst>
                  <a:path w="66" h="202">
                    <a:moveTo>
                      <a:pt x="0" y="202"/>
                    </a:move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10" y="146"/>
                    </a:lnTo>
                    <a:lnTo>
                      <a:pt x="10" y="134"/>
                    </a:lnTo>
                    <a:lnTo>
                      <a:pt x="22" y="124"/>
                    </a:lnTo>
                    <a:lnTo>
                      <a:pt x="22" y="101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33" y="68"/>
                    </a:lnTo>
                    <a:lnTo>
                      <a:pt x="44" y="56"/>
                    </a:lnTo>
                    <a:lnTo>
                      <a:pt x="44" y="45"/>
                    </a:lnTo>
                    <a:lnTo>
                      <a:pt x="56" y="34"/>
                    </a:lnTo>
                    <a:lnTo>
                      <a:pt x="56" y="23"/>
                    </a:lnTo>
                    <a:lnTo>
                      <a:pt x="66" y="12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7370640" y="3954240"/>
                <a:ext cx="36720" cy="72000"/>
              </a:xfrm>
              <a:custGeom>
                <a:avLst/>
                <a:gdLst/>
                <a:ahLst/>
                <a:rect l="l" t="t" r="r" b="b"/>
                <a:pathLst>
                  <a:path w="101" h="190">
                    <a:moveTo>
                      <a:pt x="0" y="0"/>
                    </a:moveTo>
                    <a:lnTo>
                      <a:pt x="12" y="12"/>
                    </a:lnTo>
                    <a:lnTo>
                      <a:pt x="23" y="23"/>
                    </a:lnTo>
                    <a:lnTo>
                      <a:pt x="23" y="34"/>
                    </a:lnTo>
                    <a:lnTo>
                      <a:pt x="33" y="45"/>
                    </a:lnTo>
                    <a:lnTo>
                      <a:pt x="33" y="56"/>
                    </a:lnTo>
                    <a:lnTo>
                      <a:pt x="33" y="68"/>
                    </a:lnTo>
                    <a:lnTo>
                      <a:pt x="45" y="78"/>
                    </a:lnTo>
                    <a:lnTo>
                      <a:pt x="45" y="90"/>
                    </a:lnTo>
                    <a:lnTo>
                      <a:pt x="56" y="101"/>
                    </a:lnTo>
                    <a:lnTo>
                      <a:pt x="56" y="124"/>
                    </a:lnTo>
                    <a:lnTo>
                      <a:pt x="68" y="134"/>
                    </a:lnTo>
                    <a:lnTo>
                      <a:pt x="68" y="146"/>
                    </a:lnTo>
                    <a:lnTo>
                      <a:pt x="79" y="157"/>
                    </a:lnTo>
                    <a:lnTo>
                      <a:pt x="79" y="169"/>
                    </a:lnTo>
                    <a:lnTo>
                      <a:pt x="89" y="179"/>
                    </a:lnTo>
                    <a:lnTo>
                      <a:pt x="101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6427800" y="4000680"/>
                <a:ext cx="426960" cy="1033920"/>
              </a:xfrm>
              <a:custGeom>
                <a:avLst/>
                <a:gdLst/>
                <a:ahLst/>
                <a:rect l="l" t="t" r="r" b="b"/>
                <a:pathLst>
                  <a:path w="1099" h="2657">
                    <a:moveTo>
                      <a:pt x="1087" y="179"/>
                    </a:moveTo>
                    <a:lnTo>
                      <a:pt x="1087" y="213"/>
                    </a:lnTo>
                    <a:lnTo>
                      <a:pt x="1087" y="247"/>
                    </a:lnTo>
                    <a:lnTo>
                      <a:pt x="1087" y="269"/>
                    </a:lnTo>
                    <a:lnTo>
                      <a:pt x="1087" y="302"/>
                    </a:lnTo>
                    <a:lnTo>
                      <a:pt x="1087" y="336"/>
                    </a:lnTo>
                    <a:lnTo>
                      <a:pt x="1077" y="369"/>
                    </a:lnTo>
                    <a:lnTo>
                      <a:pt x="1077" y="403"/>
                    </a:lnTo>
                    <a:lnTo>
                      <a:pt x="1077" y="437"/>
                    </a:lnTo>
                    <a:lnTo>
                      <a:pt x="1077" y="470"/>
                    </a:lnTo>
                    <a:lnTo>
                      <a:pt x="1077" y="493"/>
                    </a:lnTo>
                    <a:lnTo>
                      <a:pt x="1077" y="527"/>
                    </a:lnTo>
                    <a:lnTo>
                      <a:pt x="1077" y="560"/>
                    </a:lnTo>
                    <a:lnTo>
                      <a:pt x="1077" y="595"/>
                    </a:lnTo>
                    <a:lnTo>
                      <a:pt x="1077" y="628"/>
                    </a:lnTo>
                    <a:lnTo>
                      <a:pt x="1077" y="651"/>
                    </a:lnTo>
                    <a:lnTo>
                      <a:pt x="1077" y="684"/>
                    </a:lnTo>
                    <a:lnTo>
                      <a:pt x="1054" y="695"/>
                    </a:lnTo>
                    <a:lnTo>
                      <a:pt x="1043" y="717"/>
                    </a:lnTo>
                    <a:lnTo>
                      <a:pt x="1021" y="729"/>
                    </a:lnTo>
                    <a:lnTo>
                      <a:pt x="1009" y="740"/>
                    </a:lnTo>
                    <a:lnTo>
                      <a:pt x="986" y="762"/>
                    </a:lnTo>
                    <a:lnTo>
                      <a:pt x="976" y="773"/>
                    </a:lnTo>
                    <a:lnTo>
                      <a:pt x="953" y="785"/>
                    </a:lnTo>
                    <a:lnTo>
                      <a:pt x="930" y="795"/>
                    </a:lnTo>
                    <a:lnTo>
                      <a:pt x="920" y="807"/>
                    </a:lnTo>
                    <a:lnTo>
                      <a:pt x="897" y="818"/>
                    </a:lnTo>
                    <a:lnTo>
                      <a:pt x="875" y="841"/>
                    </a:lnTo>
                    <a:lnTo>
                      <a:pt x="864" y="851"/>
                    </a:lnTo>
                    <a:lnTo>
                      <a:pt x="841" y="863"/>
                    </a:lnTo>
                    <a:lnTo>
                      <a:pt x="818" y="874"/>
                    </a:lnTo>
                    <a:lnTo>
                      <a:pt x="807" y="885"/>
                    </a:lnTo>
                    <a:lnTo>
                      <a:pt x="784" y="896"/>
                    </a:lnTo>
                    <a:lnTo>
                      <a:pt x="774" y="907"/>
                    </a:lnTo>
                    <a:lnTo>
                      <a:pt x="762" y="919"/>
                    </a:lnTo>
                    <a:lnTo>
                      <a:pt x="751" y="919"/>
                    </a:lnTo>
                    <a:lnTo>
                      <a:pt x="751" y="930"/>
                    </a:lnTo>
                    <a:lnTo>
                      <a:pt x="739" y="930"/>
                    </a:lnTo>
                    <a:lnTo>
                      <a:pt x="728" y="930"/>
                    </a:lnTo>
                    <a:lnTo>
                      <a:pt x="728" y="940"/>
                    </a:lnTo>
                    <a:lnTo>
                      <a:pt x="718" y="940"/>
                    </a:lnTo>
                    <a:lnTo>
                      <a:pt x="718" y="952"/>
                    </a:lnTo>
                    <a:lnTo>
                      <a:pt x="706" y="952"/>
                    </a:lnTo>
                    <a:lnTo>
                      <a:pt x="695" y="952"/>
                    </a:lnTo>
                    <a:lnTo>
                      <a:pt x="695" y="964"/>
                    </a:lnTo>
                    <a:lnTo>
                      <a:pt x="683" y="964"/>
                    </a:lnTo>
                    <a:lnTo>
                      <a:pt x="683" y="975"/>
                    </a:lnTo>
                    <a:lnTo>
                      <a:pt x="673" y="987"/>
                    </a:lnTo>
                    <a:lnTo>
                      <a:pt x="673" y="1032"/>
                    </a:lnTo>
                    <a:lnTo>
                      <a:pt x="673" y="1065"/>
                    </a:lnTo>
                    <a:lnTo>
                      <a:pt x="683" y="1110"/>
                    </a:lnTo>
                    <a:lnTo>
                      <a:pt x="683" y="1144"/>
                    </a:lnTo>
                    <a:lnTo>
                      <a:pt x="695" y="1177"/>
                    </a:lnTo>
                    <a:lnTo>
                      <a:pt x="695" y="1222"/>
                    </a:lnTo>
                    <a:lnTo>
                      <a:pt x="706" y="1255"/>
                    </a:lnTo>
                    <a:lnTo>
                      <a:pt x="706" y="1289"/>
                    </a:lnTo>
                    <a:lnTo>
                      <a:pt x="718" y="1322"/>
                    </a:lnTo>
                    <a:lnTo>
                      <a:pt x="718" y="1367"/>
                    </a:lnTo>
                    <a:lnTo>
                      <a:pt x="728" y="1401"/>
                    </a:lnTo>
                    <a:lnTo>
                      <a:pt x="739" y="1436"/>
                    </a:lnTo>
                    <a:lnTo>
                      <a:pt x="751" y="1469"/>
                    </a:lnTo>
                    <a:lnTo>
                      <a:pt x="762" y="1502"/>
                    </a:lnTo>
                    <a:lnTo>
                      <a:pt x="774" y="1536"/>
                    </a:lnTo>
                    <a:lnTo>
                      <a:pt x="784" y="1581"/>
                    </a:lnTo>
                    <a:lnTo>
                      <a:pt x="774" y="1603"/>
                    </a:lnTo>
                    <a:lnTo>
                      <a:pt x="774" y="1637"/>
                    </a:lnTo>
                    <a:lnTo>
                      <a:pt x="774" y="1670"/>
                    </a:lnTo>
                    <a:lnTo>
                      <a:pt x="774" y="1692"/>
                    </a:lnTo>
                    <a:lnTo>
                      <a:pt x="762" y="1726"/>
                    </a:lnTo>
                    <a:lnTo>
                      <a:pt x="762" y="1759"/>
                    </a:lnTo>
                    <a:lnTo>
                      <a:pt x="762" y="1793"/>
                    </a:lnTo>
                    <a:lnTo>
                      <a:pt x="762" y="1828"/>
                    </a:lnTo>
                    <a:lnTo>
                      <a:pt x="762" y="1850"/>
                    </a:lnTo>
                    <a:lnTo>
                      <a:pt x="762" y="1884"/>
                    </a:lnTo>
                    <a:lnTo>
                      <a:pt x="762" y="1917"/>
                    </a:lnTo>
                    <a:lnTo>
                      <a:pt x="762" y="1950"/>
                    </a:lnTo>
                    <a:lnTo>
                      <a:pt x="762" y="1985"/>
                    </a:lnTo>
                    <a:lnTo>
                      <a:pt x="762" y="2018"/>
                    </a:lnTo>
                    <a:lnTo>
                      <a:pt x="762" y="2051"/>
                    </a:lnTo>
                    <a:lnTo>
                      <a:pt x="762" y="2084"/>
                    </a:lnTo>
                    <a:lnTo>
                      <a:pt x="762" y="2096"/>
                    </a:lnTo>
                    <a:lnTo>
                      <a:pt x="762" y="2107"/>
                    </a:lnTo>
                    <a:lnTo>
                      <a:pt x="762" y="2119"/>
                    </a:lnTo>
                    <a:lnTo>
                      <a:pt x="762" y="2130"/>
                    </a:lnTo>
                    <a:lnTo>
                      <a:pt x="762" y="2140"/>
                    </a:lnTo>
                    <a:lnTo>
                      <a:pt x="762" y="2152"/>
                    </a:lnTo>
                    <a:lnTo>
                      <a:pt x="762" y="2163"/>
                    </a:lnTo>
                    <a:lnTo>
                      <a:pt x="762" y="2175"/>
                    </a:lnTo>
                    <a:lnTo>
                      <a:pt x="762" y="2185"/>
                    </a:lnTo>
                    <a:lnTo>
                      <a:pt x="762" y="2197"/>
                    </a:lnTo>
                    <a:lnTo>
                      <a:pt x="762" y="2208"/>
                    </a:lnTo>
                    <a:lnTo>
                      <a:pt x="762" y="2219"/>
                    </a:lnTo>
                    <a:lnTo>
                      <a:pt x="762" y="2231"/>
                    </a:lnTo>
                    <a:lnTo>
                      <a:pt x="762" y="2242"/>
                    </a:lnTo>
                    <a:lnTo>
                      <a:pt x="762" y="2254"/>
                    </a:lnTo>
                    <a:lnTo>
                      <a:pt x="762" y="2265"/>
                    </a:lnTo>
                    <a:lnTo>
                      <a:pt x="762" y="2276"/>
                    </a:lnTo>
                    <a:lnTo>
                      <a:pt x="762" y="2288"/>
                    </a:lnTo>
                    <a:lnTo>
                      <a:pt x="751" y="2288"/>
                    </a:lnTo>
                    <a:lnTo>
                      <a:pt x="751" y="2298"/>
                    </a:lnTo>
                    <a:lnTo>
                      <a:pt x="751" y="2310"/>
                    </a:lnTo>
                    <a:lnTo>
                      <a:pt x="751" y="2332"/>
                    </a:lnTo>
                    <a:lnTo>
                      <a:pt x="751" y="2343"/>
                    </a:lnTo>
                    <a:lnTo>
                      <a:pt x="762" y="2366"/>
                    </a:lnTo>
                    <a:lnTo>
                      <a:pt x="762" y="2389"/>
                    </a:lnTo>
                    <a:lnTo>
                      <a:pt x="762" y="2399"/>
                    </a:lnTo>
                    <a:lnTo>
                      <a:pt x="762" y="2422"/>
                    </a:lnTo>
                    <a:lnTo>
                      <a:pt x="762" y="2444"/>
                    </a:lnTo>
                    <a:lnTo>
                      <a:pt x="762" y="2466"/>
                    </a:lnTo>
                    <a:lnTo>
                      <a:pt x="762" y="2488"/>
                    </a:lnTo>
                    <a:lnTo>
                      <a:pt x="762" y="2500"/>
                    </a:lnTo>
                    <a:lnTo>
                      <a:pt x="751" y="2522"/>
                    </a:lnTo>
                    <a:lnTo>
                      <a:pt x="751" y="2544"/>
                    </a:lnTo>
                    <a:lnTo>
                      <a:pt x="751" y="2567"/>
                    </a:lnTo>
                    <a:lnTo>
                      <a:pt x="751" y="2589"/>
                    </a:lnTo>
                    <a:lnTo>
                      <a:pt x="751" y="2600"/>
                    </a:lnTo>
                    <a:lnTo>
                      <a:pt x="751" y="2623"/>
                    </a:lnTo>
                    <a:lnTo>
                      <a:pt x="739" y="2623"/>
                    </a:lnTo>
                    <a:lnTo>
                      <a:pt x="728" y="2623"/>
                    </a:lnTo>
                    <a:lnTo>
                      <a:pt x="718" y="2623"/>
                    </a:lnTo>
                    <a:lnTo>
                      <a:pt x="706" y="2623"/>
                    </a:lnTo>
                    <a:lnTo>
                      <a:pt x="695" y="2623"/>
                    </a:lnTo>
                    <a:lnTo>
                      <a:pt x="683" y="2623"/>
                    </a:lnTo>
                    <a:lnTo>
                      <a:pt x="673" y="2623"/>
                    </a:lnTo>
                    <a:lnTo>
                      <a:pt x="662" y="2623"/>
                    </a:lnTo>
                    <a:lnTo>
                      <a:pt x="650" y="2623"/>
                    </a:lnTo>
                    <a:lnTo>
                      <a:pt x="639" y="2623"/>
                    </a:lnTo>
                    <a:lnTo>
                      <a:pt x="628" y="2623"/>
                    </a:lnTo>
                    <a:lnTo>
                      <a:pt x="617" y="2623"/>
                    </a:lnTo>
                    <a:lnTo>
                      <a:pt x="605" y="2623"/>
                    </a:lnTo>
                    <a:lnTo>
                      <a:pt x="594" y="2623"/>
                    </a:lnTo>
                    <a:lnTo>
                      <a:pt x="584" y="2635"/>
                    </a:lnTo>
                    <a:lnTo>
                      <a:pt x="572" y="2635"/>
                    </a:lnTo>
                    <a:lnTo>
                      <a:pt x="561" y="2635"/>
                    </a:lnTo>
                    <a:lnTo>
                      <a:pt x="549" y="2645"/>
                    </a:lnTo>
                    <a:lnTo>
                      <a:pt x="538" y="2645"/>
                    </a:lnTo>
                    <a:lnTo>
                      <a:pt x="528" y="2645"/>
                    </a:lnTo>
                    <a:lnTo>
                      <a:pt x="516" y="2645"/>
                    </a:lnTo>
                    <a:lnTo>
                      <a:pt x="505" y="2645"/>
                    </a:lnTo>
                    <a:lnTo>
                      <a:pt x="493" y="2645"/>
                    </a:lnTo>
                    <a:lnTo>
                      <a:pt x="472" y="2645"/>
                    </a:lnTo>
                    <a:lnTo>
                      <a:pt x="449" y="2635"/>
                    </a:lnTo>
                    <a:lnTo>
                      <a:pt x="427" y="2635"/>
                    </a:lnTo>
                    <a:lnTo>
                      <a:pt x="403" y="2635"/>
                    </a:lnTo>
                    <a:lnTo>
                      <a:pt x="380" y="2645"/>
                    </a:lnTo>
                    <a:lnTo>
                      <a:pt x="358" y="2645"/>
                    </a:lnTo>
                    <a:lnTo>
                      <a:pt x="336" y="2645"/>
                    </a:lnTo>
                    <a:lnTo>
                      <a:pt x="314" y="2645"/>
                    </a:lnTo>
                    <a:lnTo>
                      <a:pt x="291" y="2657"/>
                    </a:lnTo>
                    <a:lnTo>
                      <a:pt x="269" y="2657"/>
                    </a:lnTo>
                    <a:lnTo>
                      <a:pt x="246" y="2657"/>
                    </a:lnTo>
                    <a:lnTo>
                      <a:pt x="225" y="2657"/>
                    </a:lnTo>
                    <a:lnTo>
                      <a:pt x="202" y="2657"/>
                    </a:lnTo>
                    <a:lnTo>
                      <a:pt x="180" y="2657"/>
                    </a:lnTo>
                    <a:lnTo>
                      <a:pt x="168" y="2657"/>
                    </a:lnTo>
                    <a:lnTo>
                      <a:pt x="146" y="2645"/>
                    </a:lnTo>
                    <a:lnTo>
                      <a:pt x="124" y="2635"/>
                    </a:lnTo>
                    <a:lnTo>
                      <a:pt x="112" y="2623"/>
                    </a:lnTo>
                    <a:lnTo>
                      <a:pt x="101" y="2612"/>
                    </a:lnTo>
                    <a:lnTo>
                      <a:pt x="91" y="2589"/>
                    </a:lnTo>
                    <a:lnTo>
                      <a:pt x="91" y="2579"/>
                    </a:lnTo>
                    <a:lnTo>
                      <a:pt x="79" y="2556"/>
                    </a:lnTo>
                    <a:lnTo>
                      <a:pt x="79" y="2544"/>
                    </a:lnTo>
                    <a:lnTo>
                      <a:pt x="68" y="2522"/>
                    </a:lnTo>
                    <a:lnTo>
                      <a:pt x="68" y="2511"/>
                    </a:lnTo>
                    <a:lnTo>
                      <a:pt x="68" y="2488"/>
                    </a:lnTo>
                    <a:lnTo>
                      <a:pt x="56" y="2466"/>
                    </a:lnTo>
                    <a:lnTo>
                      <a:pt x="56" y="2455"/>
                    </a:lnTo>
                    <a:lnTo>
                      <a:pt x="56" y="2433"/>
                    </a:lnTo>
                    <a:lnTo>
                      <a:pt x="45" y="2410"/>
                    </a:lnTo>
                    <a:lnTo>
                      <a:pt x="45" y="2399"/>
                    </a:lnTo>
                    <a:lnTo>
                      <a:pt x="35" y="2377"/>
                    </a:lnTo>
                    <a:lnTo>
                      <a:pt x="23" y="2276"/>
                    </a:lnTo>
                    <a:lnTo>
                      <a:pt x="12" y="2163"/>
                    </a:lnTo>
                    <a:lnTo>
                      <a:pt x="0" y="2051"/>
                    </a:lnTo>
                    <a:lnTo>
                      <a:pt x="0" y="1950"/>
                    </a:lnTo>
                    <a:lnTo>
                      <a:pt x="0" y="1839"/>
                    </a:lnTo>
                    <a:lnTo>
                      <a:pt x="12" y="1738"/>
                    </a:lnTo>
                    <a:lnTo>
                      <a:pt x="23" y="1626"/>
                    </a:lnTo>
                    <a:lnTo>
                      <a:pt x="35" y="1525"/>
                    </a:lnTo>
                    <a:lnTo>
                      <a:pt x="56" y="1424"/>
                    </a:lnTo>
                    <a:lnTo>
                      <a:pt x="79" y="1311"/>
                    </a:lnTo>
                    <a:lnTo>
                      <a:pt x="101" y="1210"/>
                    </a:lnTo>
                    <a:lnTo>
                      <a:pt x="135" y="1110"/>
                    </a:lnTo>
                    <a:lnTo>
                      <a:pt x="168" y="1020"/>
                    </a:lnTo>
                    <a:lnTo>
                      <a:pt x="202" y="919"/>
                    </a:lnTo>
                    <a:lnTo>
                      <a:pt x="246" y="829"/>
                    </a:lnTo>
                    <a:lnTo>
                      <a:pt x="291" y="740"/>
                    </a:lnTo>
                    <a:lnTo>
                      <a:pt x="314" y="695"/>
                    </a:lnTo>
                    <a:lnTo>
                      <a:pt x="336" y="661"/>
                    </a:lnTo>
                    <a:lnTo>
                      <a:pt x="347" y="628"/>
                    </a:lnTo>
                    <a:lnTo>
                      <a:pt x="370" y="583"/>
                    </a:lnTo>
                    <a:lnTo>
                      <a:pt x="392" y="550"/>
                    </a:lnTo>
                    <a:lnTo>
                      <a:pt x="415" y="503"/>
                    </a:lnTo>
                    <a:lnTo>
                      <a:pt x="437" y="470"/>
                    </a:lnTo>
                    <a:lnTo>
                      <a:pt x="460" y="426"/>
                    </a:lnTo>
                    <a:lnTo>
                      <a:pt x="483" y="392"/>
                    </a:lnTo>
                    <a:lnTo>
                      <a:pt x="493" y="358"/>
                    </a:lnTo>
                    <a:lnTo>
                      <a:pt x="516" y="313"/>
                    </a:lnTo>
                    <a:lnTo>
                      <a:pt x="538" y="280"/>
                    </a:lnTo>
                    <a:lnTo>
                      <a:pt x="561" y="236"/>
                    </a:lnTo>
                    <a:lnTo>
                      <a:pt x="584" y="201"/>
                    </a:lnTo>
                    <a:lnTo>
                      <a:pt x="605" y="168"/>
                    </a:lnTo>
                    <a:lnTo>
                      <a:pt x="639" y="123"/>
                    </a:lnTo>
                    <a:lnTo>
                      <a:pt x="662" y="123"/>
                    </a:lnTo>
                    <a:lnTo>
                      <a:pt x="683" y="112"/>
                    </a:lnTo>
                    <a:lnTo>
                      <a:pt x="706" y="101"/>
                    </a:lnTo>
                    <a:lnTo>
                      <a:pt x="739" y="89"/>
                    </a:lnTo>
                    <a:lnTo>
                      <a:pt x="762" y="78"/>
                    </a:lnTo>
                    <a:lnTo>
                      <a:pt x="784" y="66"/>
                    </a:lnTo>
                    <a:lnTo>
                      <a:pt x="818" y="66"/>
                    </a:lnTo>
                    <a:lnTo>
                      <a:pt x="841" y="55"/>
                    </a:lnTo>
                    <a:lnTo>
                      <a:pt x="864" y="45"/>
                    </a:lnTo>
                    <a:lnTo>
                      <a:pt x="897" y="45"/>
                    </a:lnTo>
                    <a:lnTo>
                      <a:pt x="920" y="33"/>
                    </a:lnTo>
                    <a:lnTo>
                      <a:pt x="953" y="22"/>
                    </a:lnTo>
                    <a:lnTo>
                      <a:pt x="976" y="22"/>
                    </a:lnTo>
                    <a:lnTo>
                      <a:pt x="998" y="10"/>
                    </a:lnTo>
                    <a:lnTo>
                      <a:pt x="1031" y="10"/>
                    </a:lnTo>
                    <a:lnTo>
                      <a:pt x="1054" y="0"/>
                    </a:lnTo>
                    <a:lnTo>
                      <a:pt x="1087" y="22"/>
                    </a:lnTo>
                    <a:lnTo>
                      <a:pt x="1099" y="55"/>
                    </a:lnTo>
                    <a:lnTo>
                      <a:pt x="1099" y="89"/>
                    </a:lnTo>
                    <a:lnTo>
                      <a:pt x="1099" y="135"/>
                    </a:lnTo>
                    <a:lnTo>
                      <a:pt x="1087" y="168"/>
                    </a:lnTo>
                    <a:lnTo>
                      <a:pt x="1087" y="1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6845760" y="4070520"/>
                <a:ext cx="3960" cy="196200"/>
              </a:xfrm>
              <a:custGeom>
                <a:avLst/>
                <a:gdLst/>
                <a:ahLst/>
                <a:rect l="l" t="t" r="r" b="b"/>
                <a:pathLst>
                  <a:path w="10" h="505">
                    <a:moveTo>
                      <a:pt x="10" y="0"/>
                    </a:moveTo>
                    <a:lnTo>
                      <a:pt x="10" y="34"/>
                    </a:lnTo>
                    <a:lnTo>
                      <a:pt x="10" y="68"/>
                    </a:lnTo>
                    <a:lnTo>
                      <a:pt x="10" y="90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0" y="190"/>
                    </a:lnTo>
                    <a:lnTo>
                      <a:pt x="0" y="224"/>
                    </a:lnTo>
                    <a:lnTo>
                      <a:pt x="0" y="25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1"/>
                    </a:lnTo>
                    <a:lnTo>
                      <a:pt x="0" y="416"/>
                    </a:lnTo>
                    <a:lnTo>
                      <a:pt x="0" y="449"/>
                    </a:lnTo>
                    <a:lnTo>
                      <a:pt x="0" y="472"/>
                    </a:lnTo>
                    <a:lnTo>
                      <a:pt x="0" y="5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6733440" y="4267080"/>
                <a:ext cx="111960" cy="83520"/>
              </a:xfrm>
              <a:custGeom>
                <a:avLst/>
                <a:gdLst/>
                <a:ahLst/>
                <a:rect l="l" t="t" r="r" b="b"/>
                <a:pathLst>
                  <a:path w="293" h="212">
                    <a:moveTo>
                      <a:pt x="293" y="0"/>
                    </a:moveTo>
                    <a:lnTo>
                      <a:pt x="270" y="11"/>
                    </a:lnTo>
                    <a:lnTo>
                      <a:pt x="259" y="33"/>
                    </a:lnTo>
                    <a:lnTo>
                      <a:pt x="237" y="45"/>
                    </a:lnTo>
                    <a:lnTo>
                      <a:pt x="225" y="56"/>
                    </a:lnTo>
                    <a:lnTo>
                      <a:pt x="202" y="78"/>
                    </a:lnTo>
                    <a:lnTo>
                      <a:pt x="192" y="89"/>
                    </a:lnTo>
                    <a:lnTo>
                      <a:pt x="169" y="101"/>
                    </a:lnTo>
                    <a:lnTo>
                      <a:pt x="146" y="111"/>
                    </a:lnTo>
                    <a:lnTo>
                      <a:pt x="136" y="123"/>
                    </a:lnTo>
                    <a:lnTo>
                      <a:pt x="113" y="134"/>
                    </a:lnTo>
                    <a:lnTo>
                      <a:pt x="91" y="157"/>
                    </a:lnTo>
                    <a:lnTo>
                      <a:pt x="80" y="167"/>
                    </a:lnTo>
                    <a:lnTo>
                      <a:pt x="57" y="179"/>
                    </a:lnTo>
                    <a:lnTo>
                      <a:pt x="34" y="190"/>
                    </a:lnTo>
                    <a:lnTo>
                      <a:pt x="23" y="201"/>
                    </a:lnTo>
                    <a:lnTo>
                      <a:pt x="0" y="2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6689160" y="4385520"/>
                <a:ext cx="44280" cy="231120"/>
              </a:xfrm>
              <a:custGeom>
                <a:avLst/>
                <a:gdLst/>
                <a:ahLst/>
                <a:rect l="l" t="t" r="r" b="b"/>
                <a:pathLst>
                  <a:path w="111" h="594">
                    <a:moveTo>
                      <a:pt x="0" y="0"/>
                    </a:moveTo>
                    <a:lnTo>
                      <a:pt x="0" y="45"/>
                    </a:lnTo>
                    <a:lnTo>
                      <a:pt x="0" y="78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22" y="190"/>
                    </a:lnTo>
                    <a:lnTo>
                      <a:pt x="22" y="235"/>
                    </a:lnTo>
                    <a:lnTo>
                      <a:pt x="33" y="268"/>
                    </a:lnTo>
                    <a:lnTo>
                      <a:pt x="33" y="302"/>
                    </a:lnTo>
                    <a:lnTo>
                      <a:pt x="45" y="335"/>
                    </a:lnTo>
                    <a:lnTo>
                      <a:pt x="45" y="380"/>
                    </a:lnTo>
                    <a:lnTo>
                      <a:pt x="55" y="414"/>
                    </a:lnTo>
                    <a:lnTo>
                      <a:pt x="66" y="449"/>
                    </a:lnTo>
                    <a:lnTo>
                      <a:pt x="78" y="482"/>
                    </a:lnTo>
                    <a:lnTo>
                      <a:pt x="89" y="515"/>
                    </a:lnTo>
                    <a:lnTo>
                      <a:pt x="101" y="549"/>
                    </a:lnTo>
                    <a:lnTo>
                      <a:pt x="111" y="5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6724080" y="4617000"/>
                <a:ext cx="9360" cy="195840"/>
              </a:xfrm>
              <a:custGeom>
                <a:avLst/>
                <a:gdLst/>
                <a:ahLst/>
                <a:rect l="l" t="t" r="r" b="b"/>
                <a:pathLst>
                  <a:path w="22" h="503">
                    <a:moveTo>
                      <a:pt x="22" y="0"/>
                    </a:moveTo>
                    <a:lnTo>
                      <a:pt x="12" y="22"/>
                    </a:lnTo>
                    <a:lnTo>
                      <a:pt x="12" y="56"/>
                    </a:lnTo>
                    <a:lnTo>
                      <a:pt x="12" y="89"/>
                    </a:lnTo>
                    <a:lnTo>
                      <a:pt x="12" y="111"/>
                    </a:lnTo>
                    <a:lnTo>
                      <a:pt x="0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3"/>
                    </a:lnTo>
                    <a:lnTo>
                      <a:pt x="0" y="336"/>
                    </a:lnTo>
                    <a:lnTo>
                      <a:pt x="0" y="369"/>
                    </a:lnTo>
                    <a:lnTo>
                      <a:pt x="0" y="404"/>
                    </a:lnTo>
                    <a:lnTo>
                      <a:pt x="0" y="437"/>
                    </a:lnTo>
                    <a:lnTo>
                      <a:pt x="0" y="470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6719400" y="483876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11" y="0"/>
                    </a:moveTo>
                    <a:lnTo>
                      <a:pt x="11" y="11"/>
                    </a:lnTo>
                    <a:lnTo>
                      <a:pt x="11" y="23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11" y="56"/>
                    </a:lnTo>
                    <a:lnTo>
                      <a:pt x="11" y="67"/>
                    </a:lnTo>
                    <a:lnTo>
                      <a:pt x="11" y="79"/>
                    </a:lnTo>
                    <a:lnTo>
                      <a:pt x="11" y="90"/>
                    </a:lnTo>
                    <a:lnTo>
                      <a:pt x="11" y="102"/>
                    </a:lnTo>
                    <a:lnTo>
                      <a:pt x="11" y="113"/>
                    </a:lnTo>
                    <a:lnTo>
                      <a:pt x="11" y="124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6719400" y="4899600"/>
                <a:ext cx="4680" cy="120960"/>
              </a:xfrm>
              <a:custGeom>
                <a:avLst/>
                <a:gdLst/>
                <a:ahLst/>
                <a:rect l="l" t="t" r="r" b="b"/>
                <a:pathLst>
                  <a:path w="11" h="313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6"/>
                    </a:lnTo>
                    <a:lnTo>
                      <a:pt x="11" y="79"/>
                    </a:lnTo>
                    <a:lnTo>
                      <a:pt x="11" y="89"/>
                    </a:lnTo>
                    <a:lnTo>
                      <a:pt x="11" y="112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8"/>
                    </a:lnTo>
                    <a:lnTo>
                      <a:pt x="11" y="190"/>
                    </a:lnTo>
                    <a:lnTo>
                      <a:pt x="0" y="212"/>
                    </a:lnTo>
                    <a:lnTo>
                      <a:pt x="0" y="234"/>
                    </a:lnTo>
                    <a:lnTo>
                      <a:pt x="0" y="257"/>
                    </a:lnTo>
                    <a:lnTo>
                      <a:pt x="0" y="279"/>
                    </a:lnTo>
                    <a:lnTo>
                      <a:pt x="0" y="290"/>
                    </a:lnTo>
                    <a:lnTo>
                      <a:pt x="0" y="3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6441840" y="4925160"/>
                <a:ext cx="41760" cy="104760"/>
              </a:xfrm>
              <a:custGeom>
                <a:avLst/>
                <a:gdLst/>
                <a:ahLst/>
                <a:rect l="l" t="t" r="r" b="b"/>
                <a:pathLst>
                  <a:path w="111" h="268">
                    <a:moveTo>
                      <a:pt x="111" y="268"/>
                    </a:moveTo>
                    <a:lnTo>
                      <a:pt x="89" y="258"/>
                    </a:lnTo>
                    <a:lnTo>
                      <a:pt x="77" y="246"/>
                    </a:lnTo>
                    <a:lnTo>
                      <a:pt x="66" y="235"/>
                    </a:lnTo>
                    <a:lnTo>
                      <a:pt x="56" y="212"/>
                    </a:lnTo>
                    <a:lnTo>
                      <a:pt x="56" y="202"/>
                    </a:lnTo>
                    <a:lnTo>
                      <a:pt x="44" y="179"/>
                    </a:lnTo>
                    <a:lnTo>
                      <a:pt x="44" y="167"/>
                    </a:lnTo>
                    <a:lnTo>
                      <a:pt x="33" y="145"/>
                    </a:lnTo>
                    <a:lnTo>
                      <a:pt x="33" y="134"/>
                    </a:lnTo>
                    <a:lnTo>
                      <a:pt x="33" y="111"/>
                    </a:lnTo>
                    <a:lnTo>
                      <a:pt x="21" y="89"/>
                    </a:lnTo>
                    <a:lnTo>
                      <a:pt x="21" y="78"/>
                    </a:lnTo>
                    <a:lnTo>
                      <a:pt x="21" y="56"/>
                    </a:lnTo>
                    <a:lnTo>
                      <a:pt x="10" y="33"/>
                    </a:lnTo>
                    <a:lnTo>
                      <a:pt x="1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6427800" y="4290120"/>
                <a:ext cx="114120" cy="634680"/>
              </a:xfrm>
              <a:custGeom>
                <a:avLst/>
                <a:gdLst/>
                <a:ahLst/>
                <a:rect l="l" t="t" r="r" b="b"/>
                <a:pathLst>
                  <a:path w="291" h="1637">
                    <a:moveTo>
                      <a:pt x="35" y="1637"/>
                    </a:moveTo>
                    <a:lnTo>
                      <a:pt x="23" y="1536"/>
                    </a:lnTo>
                    <a:lnTo>
                      <a:pt x="12" y="1423"/>
                    </a:lnTo>
                    <a:lnTo>
                      <a:pt x="0" y="1311"/>
                    </a:lnTo>
                    <a:lnTo>
                      <a:pt x="0" y="1210"/>
                    </a:lnTo>
                    <a:lnTo>
                      <a:pt x="0" y="1099"/>
                    </a:lnTo>
                    <a:lnTo>
                      <a:pt x="12" y="998"/>
                    </a:lnTo>
                    <a:lnTo>
                      <a:pt x="23" y="886"/>
                    </a:lnTo>
                    <a:lnTo>
                      <a:pt x="35" y="785"/>
                    </a:lnTo>
                    <a:lnTo>
                      <a:pt x="56" y="684"/>
                    </a:lnTo>
                    <a:lnTo>
                      <a:pt x="79" y="571"/>
                    </a:lnTo>
                    <a:lnTo>
                      <a:pt x="101" y="470"/>
                    </a:lnTo>
                    <a:lnTo>
                      <a:pt x="135" y="370"/>
                    </a:lnTo>
                    <a:lnTo>
                      <a:pt x="168" y="280"/>
                    </a:lnTo>
                    <a:lnTo>
                      <a:pt x="202" y="179"/>
                    </a:lnTo>
                    <a:lnTo>
                      <a:pt x="246" y="89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6541920" y="4049280"/>
                <a:ext cx="135360" cy="240840"/>
              </a:xfrm>
              <a:custGeom>
                <a:avLst/>
                <a:gdLst/>
                <a:ahLst/>
                <a:rect l="l" t="t" r="r" b="b"/>
                <a:pathLst>
                  <a:path w="348" h="617">
                    <a:moveTo>
                      <a:pt x="0" y="617"/>
                    </a:moveTo>
                    <a:lnTo>
                      <a:pt x="23" y="572"/>
                    </a:lnTo>
                    <a:lnTo>
                      <a:pt x="45" y="538"/>
                    </a:lnTo>
                    <a:lnTo>
                      <a:pt x="56" y="505"/>
                    </a:lnTo>
                    <a:lnTo>
                      <a:pt x="79" y="460"/>
                    </a:lnTo>
                    <a:lnTo>
                      <a:pt x="101" y="427"/>
                    </a:lnTo>
                    <a:lnTo>
                      <a:pt x="124" y="380"/>
                    </a:lnTo>
                    <a:lnTo>
                      <a:pt x="146" y="347"/>
                    </a:lnTo>
                    <a:lnTo>
                      <a:pt x="169" y="303"/>
                    </a:lnTo>
                    <a:lnTo>
                      <a:pt x="192" y="269"/>
                    </a:lnTo>
                    <a:lnTo>
                      <a:pt x="202" y="235"/>
                    </a:lnTo>
                    <a:lnTo>
                      <a:pt x="225" y="190"/>
                    </a:lnTo>
                    <a:lnTo>
                      <a:pt x="247" y="157"/>
                    </a:lnTo>
                    <a:lnTo>
                      <a:pt x="270" y="113"/>
                    </a:lnTo>
                    <a:lnTo>
                      <a:pt x="293" y="78"/>
                    </a:lnTo>
                    <a:lnTo>
                      <a:pt x="314" y="45"/>
                    </a:lnTo>
                    <a:lnTo>
                      <a:pt x="3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6838200" y="400068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0" y="0"/>
                    </a:moveTo>
                    <a:lnTo>
                      <a:pt x="11" y="10"/>
                    </a:lnTo>
                    <a:lnTo>
                      <a:pt x="23" y="10"/>
                    </a:lnTo>
                    <a:lnTo>
                      <a:pt x="33" y="22"/>
                    </a:lnTo>
                    <a:lnTo>
                      <a:pt x="33" y="33"/>
                    </a:lnTo>
                    <a:lnTo>
                      <a:pt x="45" y="45"/>
                    </a:lnTo>
                    <a:lnTo>
                      <a:pt x="45" y="55"/>
                    </a:lnTo>
                    <a:lnTo>
                      <a:pt x="45" y="66"/>
                    </a:lnTo>
                    <a:lnTo>
                      <a:pt x="45" y="78"/>
                    </a:lnTo>
                    <a:lnTo>
                      <a:pt x="45" y="8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35"/>
                    </a:lnTo>
                    <a:lnTo>
                      <a:pt x="33" y="146"/>
                    </a:lnTo>
                    <a:lnTo>
                      <a:pt x="33" y="158"/>
                    </a:lnTo>
                    <a:lnTo>
                      <a:pt x="33" y="168"/>
                    </a:lnTo>
                    <a:lnTo>
                      <a:pt x="33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6453720" y="4024080"/>
                <a:ext cx="384480" cy="980280"/>
              </a:xfrm>
              <a:custGeom>
                <a:avLst/>
                <a:gdLst/>
                <a:ahLst/>
                <a:rect l="l" t="t" r="r" b="b"/>
                <a:pathLst>
                  <a:path w="986" h="2524">
                    <a:moveTo>
                      <a:pt x="986" y="0"/>
                    </a:moveTo>
                    <a:lnTo>
                      <a:pt x="986" y="34"/>
                    </a:lnTo>
                    <a:lnTo>
                      <a:pt x="975" y="68"/>
                    </a:lnTo>
                    <a:lnTo>
                      <a:pt x="975" y="113"/>
                    </a:lnTo>
                    <a:lnTo>
                      <a:pt x="975" y="146"/>
                    </a:lnTo>
                    <a:lnTo>
                      <a:pt x="975" y="181"/>
                    </a:lnTo>
                    <a:lnTo>
                      <a:pt x="975" y="214"/>
                    </a:lnTo>
                    <a:lnTo>
                      <a:pt x="975" y="247"/>
                    </a:lnTo>
                    <a:lnTo>
                      <a:pt x="963" y="281"/>
                    </a:lnTo>
                    <a:lnTo>
                      <a:pt x="963" y="314"/>
                    </a:lnTo>
                    <a:lnTo>
                      <a:pt x="963" y="348"/>
                    </a:lnTo>
                    <a:lnTo>
                      <a:pt x="963" y="382"/>
                    </a:lnTo>
                    <a:lnTo>
                      <a:pt x="963" y="415"/>
                    </a:lnTo>
                    <a:lnTo>
                      <a:pt x="963" y="448"/>
                    </a:lnTo>
                    <a:lnTo>
                      <a:pt x="963" y="495"/>
                    </a:lnTo>
                    <a:lnTo>
                      <a:pt x="963" y="528"/>
                    </a:lnTo>
                    <a:lnTo>
                      <a:pt x="963" y="562"/>
                    </a:lnTo>
                    <a:lnTo>
                      <a:pt x="963" y="573"/>
                    </a:lnTo>
                    <a:lnTo>
                      <a:pt x="963" y="584"/>
                    </a:lnTo>
                    <a:lnTo>
                      <a:pt x="963" y="596"/>
                    </a:lnTo>
                    <a:lnTo>
                      <a:pt x="963" y="606"/>
                    </a:lnTo>
                    <a:lnTo>
                      <a:pt x="963" y="618"/>
                    </a:lnTo>
                    <a:lnTo>
                      <a:pt x="963" y="629"/>
                    </a:lnTo>
                    <a:lnTo>
                      <a:pt x="941" y="651"/>
                    </a:lnTo>
                    <a:lnTo>
                      <a:pt x="908" y="674"/>
                    </a:lnTo>
                    <a:lnTo>
                      <a:pt x="885" y="695"/>
                    </a:lnTo>
                    <a:lnTo>
                      <a:pt x="862" y="707"/>
                    </a:lnTo>
                    <a:lnTo>
                      <a:pt x="841" y="730"/>
                    </a:lnTo>
                    <a:lnTo>
                      <a:pt x="807" y="740"/>
                    </a:lnTo>
                    <a:lnTo>
                      <a:pt x="784" y="763"/>
                    </a:lnTo>
                    <a:lnTo>
                      <a:pt x="761" y="774"/>
                    </a:lnTo>
                    <a:lnTo>
                      <a:pt x="739" y="796"/>
                    </a:lnTo>
                    <a:lnTo>
                      <a:pt x="706" y="808"/>
                    </a:lnTo>
                    <a:lnTo>
                      <a:pt x="683" y="830"/>
                    </a:lnTo>
                    <a:lnTo>
                      <a:pt x="660" y="852"/>
                    </a:lnTo>
                    <a:lnTo>
                      <a:pt x="638" y="864"/>
                    </a:lnTo>
                    <a:lnTo>
                      <a:pt x="615" y="885"/>
                    </a:lnTo>
                    <a:lnTo>
                      <a:pt x="594" y="909"/>
                    </a:lnTo>
                    <a:lnTo>
                      <a:pt x="571" y="932"/>
                    </a:lnTo>
                    <a:lnTo>
                      <a:pt x="571" y="954"/>
                    </a:lnTo>
                    <a:lnTo>
                      <a:pt x="571" y="965"/>
                    </a:lnTo>
                    <a:lnTo>
                      <a:pt x="571" y="977"/>
                    </a:lnTo>
                    <a:lnTo>
                      <a:pt x="571" y="999"/>
                    </a:lnTo>
                    <a:lnTo>
                      <a:pt x="571" y="1010"/>
                    </a:lnTo>
                    <a:lnTo>
                      <a:pt x="571" y="1021"/>
                    </a:lnTo>
                    <a:lnTo>
                      <a:pt x="571" y="1043"/>
                    </a:lnTo>
                    <a:lnTo>
                      <a:pt x="571" y="1055"/>
                    </a:lnTo>
                    <a:lnTo>
                      <a:pt x="571" y="1066"/>
                    </a:lnTo>
                    <a:lnTo>
                      <a:pt x="571" y="1089"/>
                    </a:lnTo>
                    <a:lnTo>
                      <a:pt x="582" y="1099"/>
                    </a:lnTo>
                    <a:lnTo>
                      <a:pt x="582" y="1111"/>
                    </a:lnTo>
                    <a:lnTo>
                      <a:pt x="582" y="1134"/>
                    </a:lnTo>
                    <a:lnTo>
                      <a:pt x="582" y="1144"/>
                    </a:lnTo>
                    <a:lnTo>
                      <a:pt x="582" y="1167"/>
                    </a:lnTo>
                    <a:lnTo>
                      <a:pt x="594" y="1178"/>
                    </a:lnTo>
                    <a:lnTo>
                      <a:pt x="594" y="1200"/>
                    </a:lnTo>
                    <a:lnTo>
                      <a:pt x="594" y="1223"/>
                    </a:lnTo>
                    <a:lnTo>
                      <a:pt x="605" y="1245"/>
                    </a:lnTo>
                    <a:lnTo>
                      <a:pt x="605" y="1279"/>
                    </a:lnTo>
                    <a:lnTo>
                      <a:pt x="605" y="1301"/>
                    </a:lnTo>
                    <a:lnTo>
                      <a:pt x="615" y="1324"/>
                    </a:lnTo>
                    <a:lnTo>
                      <a:pt x="615" y="1346"/>
                    </a:lnTo>
                    <a:lnTo>
                      <a:pt x="627" y="1369"/>
                    </a:lnTo>
                    <a:lnTo>
                      <a:pt x="627" y="1392"/>
                    </a:lnTo>
                    <a:lnTo>
                      <a:pt x="638" y="1414"/>
                    </a:lnTo>
                    <a:lnTo>
                      <a:pt x="638" y="1437"/>
                    </a:lnTo>
                    <a:lnTo>
                      <a:pt x="650" y="1470"/>
                    </a:lnTo>
                    <a:lnTo>
                      <a:pt x="660" y="1493"/>
                    </a:lnTo>
                    <a:lnTo>
                      <a:pt x="660" y="1515"/>
                    </a:lnTo>
                    <a:lnTo>
                      <a:pt x="671" y="1536"/>
                    </a:lnTo>
                    <a:lnTo>
                      <a:pt x="671" y="1559"/>
                    </a:lnTo>
                    <a:lnTo>
                      <a:pt x="671" y="1615"/>
                    </a:lnTo>
                    <a:lnTo>
                      <a:pt x="660" y="1671"/>
                    </a:lnTo>
                    <a:lnTo>
                      <a:pt x="650" y="1727"/>
                    </a:lnTo>
                    <a:lnTo>
                      <a:pt x="650" y="1784"/>
                    </a:lnTo>
                    <a:lnTo>
                      <a:pt x="650" y="1839"/>
                    </a:lnTo>
                    <a:lnTo>
                      <a:pt x="638" y="1895"/>
                    </a:lnTo>
                    <a:lnTo>
                      <a:pt x="638" y="1963"/>
                    </a:lnTo>
                    <a:lnTo>
                      <a:pt x="638" y="2019"/>
                    </a:lnTo>
                    <a:lnTo>
                      <a:pt x="638" y="2075"/>
                    </a:lnTo>
                    <a:lnTo>
                      <a:pt x="638" y="2130"/>
                    </a:lnTo>
                    <a:lnTo>
                      <a:pt x="638" y="2187"/>
                    </a:lnTo>
                    <a:lnTo>
                      <a:pt x="638" y="2255"/>
                    </a:lnTo>
                    <a:lnTo>
                      <a:pt x="638" y="2311"/>
                    </a:lnTo>
                    <a:lnTo>
                      <a:pt x="638" y="2367"/>
                    </a:lnTo>
                    <a:lnTo>
                      <a:pt x="638" y="2423"/>
                    </a:lnTo>
                    <a:lnTo>
                      <a:pt x="638" y="2489"/>
                    </a:lnTo>
                    <a:lnTo>
                      <a:pt x="627" y="2489"/>
                    </a:lnTo>
                    <a:lnTo>
                      <a:pt x="615" y="2489"/>
                    </a:lnTo>
                    <a:lnTo>
                      <a:pt x="605" y="2489"/>
                    </a:lnTo>
                    <a:lnTo>
                      <a:pt x="594" y="2489"/>
                    </a:lnTo>
                    <a:lnTo>
                      <a:pt x="582" y="2489"/>
                    </a:lnTo>
                    <a:lnTo>
                      <a:pt x="571" y="2489"/>
                    </a:lnTo>
                    <a:lnTo>
                      <a:pt x="560" y="2479"/>
                    </a:lnTo>
                    <a:lnTo>
                      <a:pt x="549" y="2489"/>
                    </a:lnTo>
                    <a:lnTo>
                      <a:pt x="516" y="2489"/>
                    </a:lnTo>
                    <a:lnTo>
                      <a:pt x="481" y="2489"/>
                    </a:lnTo>
                    <a:lnTo>
                      <a:pt x="460" y="2489"/>
                    </a:lnTo>
                    <a:lnTo>
                      <a:pt x="425" y="2501"/>
                    </a:lnTo>
                    <a:lnTo>
                      <a:pt x="404" y="2501"/>
                    </a:lnTo>
                    <a:lnTo>
                      <a:pt x="369" y="2501"/>
                    </a:lnTo>
                    <a:lnTo>
                      <a:pt x="335" y="2501"/>
                    </a:lnTo>
                    <a:lnTo>
                      <a:pt x="312" y="2512"/>
                    </a:lnTo>
                    <a:lnTo>
                      <a:pt x="279" y="2512"/>
                    </a:lnTo>
                    <a:lnTo>
                      <a:pt x="246" y="2512"/>
                    </a:lnTo>
                    <a:lnTo>
                      <a:pt x="223" y="2512"/>
                    </a:lnTo>
                    <a:lnTo>
                      <a:pt x="190" y="2512"/>
                    </a:lnTo>
                    <a:lnTo>
                      <a:pt x="168" y="2524"/>
                    </a:lnTo>
                    <a:lnTo>
                      <a:pt x="134" y="2524"/>
                    </a:lnTo>
                    <a:lnTo>
                      <a:pt x="100" y="2524"/>
                    </a:lnTo>
                    <a:lnTo>
                      <a:pt x="78" y="2524"/>
                    </a:lnTo>
                    <a:lnTo>
                      <a:pt x="67" y="2501"/>
                    </a:lnTo>
                    <a:lnTo>
                      <a:pt x="56" y="2479"/>
                    </a:lnTo>
                    <a:lnTo>
                      <a:pt x="56" y="2456"/>
                    </a:lnTo>
                    <a:lnTo>
                      <a:pt x="44" y="2433"/>
                    </a:lnTo>
                    <a:lnTo>
                      <a:pt x="44" y="2423"/>
                    </a:lnTo>
                    <a:lnTo>
                      <a:pt x="33" y="2400"/>
                    </a:lnTo>
                    <a:lnTo>
                      <a:pt x="33" y="2378"/>
                    </a:lnTo>
                    <a:lnTo>
                      <a:pt x="33" y="2355"/>
                    </a:lnTo>
                    <a:lnTo>
                      <a:pt x="33" y="2334"/>
                    </a:lnTo>
                    <a:lnTo>
                      <a:pt x="23" y="2311"/>
                    </a:lnTo>
                    <a:lnTo>
                      <a:pt x="23" y="2288"/>
                    </a:lnTo>
                    <a:lnTo>
                      <a:pt x="23" y="2266"/>
                    </a:lnTo>
                    <a:lnTo>
                      <a:pt x="23" y="2243"/>
                    </a:lnTo>
                    <a:lnTo>
                      <a:pt x="11" y="2221"/>
                    </a:lnTo>
                    <a:lnTo>
                      <a:pt x="11" y="2210"/>
                    </a:lnTo>
                    <a:lnTo>
                      <a:pt x="11" y="2187"/>
                    </a:lnTo>
                    <a:lnTo>
                      <a:pt x="0" y="2120"/>
                    </a:lnTo>
                    <a:lnTo>
                      <a:pt x="0" y="2052"/>
                    </a:lnTo>
                    <a:lnTo>
                      <a:pt x="0" y="1986"/>
                    </a:lnTo>
                    <a:lnTo>
                      <a:pt x="0" y="1918"/>
                    </a:lnTo>
                    <a:lnTo>
                      <a:pt x="0" y="1851"/>
                    </a:lnTo>
                    <a:lnTo>
                      <a:pt x="0" y="1784"/>
                    </a:lnTo>
                    <a:lnTo>
                      <a:pt x="0" y="1727"/>
                    </a:lnTo>
                    <a:lnTo>
                      <a:pt x="11" y="1660"/>
                    </a:lnTo>
                    <a:lnTo>
                      <a:pt x="11" y="1592"/>
                    </a:lnTo>
                    <a:lnTo>
                      <a:pt x="23" y="1526"/>
                    </a:lnTo>
                    <a:lnTo>
                      <a:pt x="33" y="1458"/>
                    </a:lnTo>
                    <a:lnTo>
                      <a:pt x="44" y="1402"/>
                    </a:lnTo>
                    <a:lnTo>
                      <a:pt x="56" y="1334"/>
                    </a:lnTo>
                    <a:lnTo>
                      <a:pt x="67" y="1267"/>
                    </a:lnTo>
                    <a:lnTo>
                      <a:pt x="89" y="1211"/>
                    </a:lnTo>
                    <a:lnTo>
                      <a:pt x="112" y="1144"/>
                    </a:lnTo>
                    <a:lnTo>
                      <a:pt x="112" y="1134"/>
                    </a:lnTo>
                    <a:lnTo>
                      <a:pt x="122" y="1111"/>
                    </a:lnTo>
                    <a:lnTo>
                      <a:pt x="122" y="1099"/>
                    </a:lnTo>
                    <a:lnTo>
                      <a:pt x="134" y="1089"/>
                    </a:lnTo>
                    <a:lnTo>
                      <a:pt x="134" y="1066"/>
                    </a:lnTo>
                    <a:lnTo>
                      <a:pt x="145" y="1055"/>
                    </a:lnTo>
                    <a:lnTo>
                      <a:pt x="145" y="1033"/>
                    </a:lnTo>
                    <a:lnTo>
                      <a:pt x="157" y="1021"/>
                    </a:lnTo>
                    <a:lnTo>
                      <a:pt x="157" y="999"/>
                    </a:lnTo>
                    <a:lnTo>
                      <a:pt x="168" y="988"/>
                    </a:lnTo>
                    <a:lnTo>
                      <a:pt x="168" y="965"/>
                    </a:lnTo>
                    <a:lnTo>
                      <a:pt x="178" y="954"/>
                    </a:lnTo>
                    <a:lnTo>
                      <a:pt x="178" y="932"/>
                    </a:lnTo>
                    <a:lnTo>
                      <a:pt x="190" y="920"/>
                    </a:lnTo>
                    <a:lnTo>
                      <a:pt x="190" y="897"/>
                    </a:lnTo>
                    <a:lnTo>
                      <a:pt x="201" y="885"/>
                    </a:lnTo>
                    <a:lnTo>
                      <a:pt x="223" y="830"/>
                    </a:lnTo>
                    <a:lnTo>
                      <a:pt x="246" y="786"/>
                    </a:lnTo>
                    <a:lnTo>
                      <a:pt x="268" y="740"/>
                    </a:lnTo>
                    <a:lnTo>
                      <a:pt x="290" y="695"/>
                    </a:lnTo>
                    <a:lnTo>
                      <a:pt x="324" y="640"/>
                    </a:lnTo>
                    <a:lnTo>
                      <a:pt x="347" y="596"/>
                    </a:lnTo>
                    <a:lnTo>
                      <a:pt x="369" y="550"/>
                    </a:lnTo>
                    <a:lnTo>
                      <a:pt x="404" y="505"/>
                    </a:lnTo>
                    <a:lnTo>
                      <a:pt x="425" y="448"/>
                    </a:lnTo>
                    <a:lnTo>
                      <a:pt x="448" y="404"/>
                    </a:lnTo>
                    <a:lnTo>
                      <a:pt x="481" y="359"/>
                    </a:lnTo>
                    <a:lnTo>
                      <a:pt x="504" y="314"/>
                    </a:lnTo>
                    <a:lnTo>
                      <a:pt x="526" y="258"/>
                    </a:lnTo>
                    <a:lnTo>
                      <a:pt x="549" y="214"/>
                    </a:lnTo>
                    <a:lnTo>
                      <a:pt x="582" y="169"/>
                    </a:lnTo>
                    <a:lnTo>
                      <a:pt x="605" y="113"/>
                    </a:lnTo>
                    <a:lnTo>
                      <a:pt x="627" y="103"/>
                    </a:lnTo>
                    <a:lnTo>
                      <a:pt x="650" y="91"/>
                    </a:lnTo>
                    <a:lnTo>
                      <a:pt x="671" y="91"/>
                    </a:lnTo>
                    <a:lnTo>
                      <a:pt x="694" y="80"/>
                    </a:lnTo>
                    <a:lnTo>
                      <a:pt x="716" y="68"/>
                    </a:lnTo>
                    <a:lnTo>
                      <a:pt x="739" y="57"/>
                    </a:lnTo>
                    <a:lnTo>
                      <a:pt x="761" y="57"/>
                    </a:lnTo>
                    <a:lnTo>
                      <a:pt x="784" y="46"/>
                    </a:lnTo>
                    <a:lnTo>
                      <a:pt x="807" y="34"/>
                    </a:lnTo>
                    <a:lnTo>
                      <a:pt x="829" y="34"/>
                    </a:lnTo>
                    <a:lnTo>
                      <a:pt x="852" y="23"/>
                    </a:lnTo>
                    <a:lnTo>
                      <a:pt x="885" y="23"/>
                    </a:lnTo>
                    <a:lnTo>
                      <a:pt x="908" y="11"/>
                    </a:lnTo>
                    <a:lnTo>
                      <a:pt x="930" y="11"/>
                    </a:lnTo>
                    <a:lnTo>
                      <a:pt x="953" y="11"/>
                    </a:lnTo>
                    <a:lnTo>
                      <a:pt x="975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6829200" y="4024080"/>
                <a:ext cx="8640" cy="216720"/>
              </a:xfrm>
              <a:custGeom>
                <a:avLst/>
                <a:gdLst/>
                <a:ahLst/>
                <a:rect l="l" t="t" r="r" b="b"/>
                <a:pathLst>
                  <a:path w="23" h="562">
                    <a:moveTo>
                      <a:pt x="23" y="0"/>
                    </a:moveTo>
                    <a:lnTo>
                      <a:pt x="23" y="34"/>
                    </a:lnTo>
                    <a:lnTo>
                      <a:pt x="12" y="68"/>
                    </a:lnTo>
                    <a:lnTo>
                      <a:pt x="12" y="113"/>
                    </a:lnTo>
                    <a:lnTo>
                      <a:pt x="12" y="146"/>
                    </a:lnTo>
                    <a:lnTo>
                      <a:pt x="12" y="181"/>
                    </a:lnTo>
                    <a:lnTo>
                      <a:pt x="12" y="214"/>
                    </a:lnTo>
                    <a:lnTo>
                      <a:pt x="12" y="247"/>
                    </a:lnTo>
                    <a:lnTo>
                      <a:pt x="0" y="28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2"/>
                    </a:lnTo>
                    <a:lnTo>
                      <a:pt x="0" y="415"/>
                    </a:lnTo>
                    <a:lnTo>
                      <a:pt x="0" y="448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677280" y="4267080"/>
                <a:ext cx="151560" cy="118440"/>
              </a:xfrm>
              <a:custGeom>
                <a:avLst/>
                <a:gdLst/>
                <a:ahLst/>
                <a:rect l="l" t="t" r="r" b="b"/>
                <a:pathLst>
                  <a:path w="392" h="303">
                    <a:moveTo>
                      <a:pt x="392" y="0"/>
                    </a:moveTo>
                    <a:lnTo>
                      <a:pt x="370" y="22"/>
                    </a:lnTo>
                    <a:lnTo>
                      <a:pt x="337" y="45"/>
                    </a:lnTo>
                    <a:lnTo>
                      <a:pt x="314" y="66"/>
                    </a:lnTo>
                    <a:lnTo>
                      <a:pt x="291" y="78"/>
                    </a:lnTo>
                    <a:lnTo>
                      <a:pt x="270" y="101"/>
                    </a:lnTo>
                    <a:lnTo>
                      <a:pt x="236" y="111"/>
                    </a:lnTo>
                    <a:lnTo>
                      <a:pt x="213" y="134"/>
                    </a:lnTo>
                    <a:lnTo>
                      <a:pt x="190" y="145"/>
                    </a:lnTo>
                    <a:lnTo>
                      <a:pt x="168" y="167"/>
                    </a:lnTo>
                    <a:lnTo>
                      <a:pt x="135" y="179"/>
                    </a:lnTo>
                    <a:lnTo>
                      <a:pt x="112" y="201"/>
                    </a:lnTo>
                    <a:lnTo>
                      <a:pt x="89" y="223"/>
                    </a:lnTo>
                    <a:lnTo>
                      <a:pt x="67" y="235"/>
                    </a:lnTo>
                    <a:lnTo>
                      <a:pt x="44" y="256"/>
                    </a:lnTo>
                    <a:lnTo>
                      <a:pt x="23" y="280"/>
                    </a:lnTo>
                    <a:lnTo>
                      <a:pt x="0" y="3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677280" y="4385520"/>
                <a:ext cx="6840" cy="9576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0" y="67"/>
                    </a:lnTo>
                    <a:lnTo>
                      <a:pt x="0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11" y="167"/>
                    </a:lnTo>
                    <a:lnTo>
                      <a:pt x="11" y="179"/>
                    </a:lnTo>
                    <a:lnTo>
                      <a:pt x="11" y="202"/>
                    </a:lnTo>
                    <a:lnTo>
                      <a:pt x="11" y="212"/>
                    </a:lnTo>
                    <a:lnTo>
                      <a:pt x="11" y="235"/>
                    </a:lnTo>
                    <a:lnTo>
                      <a:pt x="23" y="2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684480" y="4481280"/>
                <a:ext cx="30600" cy="146880"/>
              </a:xfrm>
              <a:custGeom>
                <a:avLst/>
                <a:gdLst/>
                <a:ahLst/>
                <a:rect l="l" t="t" r="r" b="b"/>
                <a:pathLst>
                  <a:path w="77" h="381">
                    <a:moveTo>
                      <a:pt x="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11" y="67"/>
                    </a:lnTo>
                    <a:lnTo>
                      <a:pt x="11" y="101"/>
                    </a:lnTo>
                    <a:lnTo>
                      <a:pt x="11" y="123"/>
                    </a:lnTo>
                    <a:lnTo>
                      <a:pt x="21" y="146"/>
                    </a:lnTo>
                    <a:lnTo>
                      <a:pt x="21" y="168"/>
                    </a:lnTo>
                    <a:lnTo>
                      <a:pt x="33" y="191"/>
                    </a:lnTo>
                    <a:lnTo>
                      <a:pt x="33" y="214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56" y="292"/>
                    </a:lnTo>
                    <a:lnTo>
                      <a:pt x="66" y="315"/>
                    </a:lnTo>
                    <a:lnTo>
                      <a:pt x="66" y="337"/>
                    </a:lnTo>
                    <a:lnTo>
                      <a:pt x="77" y="358"/>
                    </a:lnTo>
                    <a:lnTo>
                      <a:pt x="77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703560" y="4628520"/>
                <a:ext cx="11520" cy="361800"/>
              </a:xfrm>
              <a:custGeom>
                <a:avLst/>
                <a:gdLst/>
                <a:ahLst/>
                <a:rect l="l" t="t" r="r" b="b"/>
                <a:pathLst>
                  <a:path w="33" h="930">
                    <a:moveTo>
                      <a:pt x="33" y="0"/>
                    </a:moveTo>
                    <a:lnTo>
                      <a:pt x="33" y="56"/>
                    </a:lnTo>
                    <a:lnTo>
                      <a:pt x="22" y="112"/>
                    </a:lnTo>
                    <a:lnTo>
                      <a:pt x="12" y="168"/>
                    </a:lnTo>
                    <a:lnTo>
                      <a:pt x="12" y="225"/>
                    </a:lnTo>
                    <a:lnTo>
                      <a:pt x="12" y="280"/>
                    </a:lnTo>
                    <a:lnTo>
                      <a:pt x="0" y="336"/>
                    </a:lnTo>
                    <a:lnTo>
                      <a:pt x="0" y="404"/>
                    </a:lnTo>
                    <a:lnTo>
                      <a:pt x="0" y="460"/>
                    </a:lnTo>
                    <a:lnTo>
                      <a:pt x="0" y="516"/>
                    </a:lnTo>
                    <a:lnTo>
                      <a:pt x="0" y="571"/>
                    </a:lnTo>
                    <a:lnTo>
                      <a:pt x="0" y="628"/>
                    </a:lnTo>
                    <a:lnTo>
                      <a:pt x="0" y="696"/>
                    </a:lnTo>
                    <a:lnTo>
                      <a:pt x="0" y="752"/>
                    </a:lnTo>
                    <a:lnTo>
                      <a:pt x="0" y="808"/>
                    </a:lnTo>
                    <a:lnTo>
                      <a:pt x="0" y="864"/>
                    </a:lnTo>
                    <a:lnTo>
                      <a:pt x="0" y="9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458400" y="4873680"/>
                <a:ext cx="25200" cy="130680"/>
              </a:xfrm>
              <a:custGeom>
                <a:avLst/>
                <a:gdLst/>
                <a:ahLst/>
                <a:rect l="l" t="t" r="r" b="b"/>
                <a:pathLst>
                  <a:path w="67" h="337">
                    <a:moveTo>
                      <a:pt x="67" y="337"/>
                    </a:moveTo>
                    <a:lnTo>
                      <a:pt x="56" y="314"/>
                    </a:lnTo>
                    <a:lnTo>
                      <a:pt x="45" y="292"/>
                    </a:lnTo>
                    <a:lnTo>
                      <a:pt x="45" y="269"/>
                    </a:lnTo>
                    <a:lnTo>
                      <a:pt x="33" y="246"/>
                    </a:lnTo>
                    <a:lnTo>
                      <a:pt x="33" y="236"/>
                    </a:lnTo>
                    <a:lnTo>
                      <a:pt x="22" y="213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47"/>
                    </a:lnTo>
                    <a:lnTo>
                      <a:pt x="12" y="124"/>
                    </a:lnTo>
                    <a:lnTo>
                      <a:pt x="12" y="101"/>
                    </a:lnTo>
                    <a:lnTo>
                      <a:pt x="12" y="79"/>
                    </a:lnTo>
                    <a:lnTo>
                      <a:pt x="12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453720" y="4467600"/>
                <a:ext cx="44280" cy="405720"/>
              </a:xfrm>
              <a:custGeom>
                <a:avLst/>
                <a:gdLst/>
                <a:ahLst/>
                <a:rect l="l" t="t" r="r" b="b"/>
                <a:pathLst>
                  <a:path w="112" h="1043">
                    <a:moveTo>
                      <a:pt x="11" y="1043"/>
                    </a:moveTo>
                    <a:lnTo>
                      <a:pt x="0" y="976"/>
                    </a:lnTo>
                    <a:lnTo>
                      <a:pt x="0" y="908"/>
                    </a:lnTo>
                    <a:lnTo>
                      <a:pt x="0" y="842"/>
                    </a:lnTo>
                    <a:lnTo>
                      <a:pt x="0" y="774"/>
                    </a:lnTo>
                    <a:lnTo>
                      <a:pt x="0" y="707"/>
                    </a:lnTo>
                    <a:lnTo>
                      <a:pt x="0" y="640"/>
                    </a:lnTo>
                    <a:lnTo>
                      <a:pt x="0" y="583"/>
                    </a:lnTo>
                    <a:lnTo>
                      <a:pt x="11" y="516"/>
                    </a:lnTo>
                    <a:lnTo>
                      <a:pt x="11" y="448"/>
                    </a:lnTo>
                    <a:lnTo>
                      <a:pt x="23" y="382"/>
                    </a:lnTo>
                    <a:lnTo>
                      <a:pt x="33" y="314"/>
                    </a:lnTo>
                    <a:lnTo>
                      <a:pt x="44" y="258"/>
                    </a:lnTo>
                    <a:lnTo>
                      <a:pt x="56" y="190"/>
                    </a:lnTo>
                    <a:lnTo>
                      <a:pt x="67" y="123"/>
                    </a:lnTo>
                    <a:lnTo>
                      <a:pt x="89" y="67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498000" y="4367160"/>
                <a:ext cx="34920" cy="100440"/>
              </a:xfrm>
              <a:custGeom>
                <a:avLst/>
                <a:gdLst/>
                <a:ahLst/>
                <a:rect l="l" t="t" r="r" b="b"/>
                <a:pathLst>
                  <a:path w="89" h="259">
                    <a:moveTo>
                      <a:pt x="0" y="259"/>
                    </a:moveTo>
                    <a:lnTo>
                      <a:pt x="0" y="249"/>
                    </a:lnTo>
                    <a:lnTo>
                      <a:pt x="10" y="226"/>
                    </a:lnTo>
                    <a:lnTo>
                      <a:pt x="10" y="214"/>
                    </a:lnTo>
                    <a:lnTo>
                      <a:pt x="22" y="204"/>
                    </a:lnTo>
                    <a:lnTo>
                      <a:pt x="22" y="181"/>
                    </a:lnTo>
                    <a:lnTo>
                      <a:pt x="33" y="170"/>
                    </a:lnTo>
                    <a:lnTo>
                      <a:pt x="33" y="148"/>
                    </a:lnTo>
                    <a:lnTo>
                      <a:pt x="45" y="136"/>
                    </a:lnTo>
                    <a:lnTo>
                      <a:pt x="45" y="114"/>
                    </a:lnTo>
                    <a:lnTo>
                      <a:pt x="56" y="103"/>
                    </a:lnTo>
                    <a:lnTo>
                      <a:pt x="56" y="80"/>
                    </a:lnTo>
                    <a:lnTo>
                      <a:pt x="66" y="69"/>
                    </a:lnTo>
                    <a:lnTo>
                      <a:pt x="66" y="47"/>
                    </a:lnTo>
                    <a:lnTo>
                      <a:pt x="78" y="35"/>
                    </a:lnTo>
                    <a:lnTo>
                      <a:pt x="78" y="12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6532920" y="4065840"/>
                <a:ext cx="155880" cy="300960"/>
              </a:xfrm>
              <a:custGeom>
                <a:avLst/>
                <a:gdLst/>
                <a:ahLst/>
                <a:rect l="l" t="t" r="r" b="b"/>
                <a:pathLst>
                  <a:path w="404" h="772">
                    <a:moveTo>
                      <a:pt x="0" y="772"/>
                    </a:moveTo>
                    <a:lnTo>
                      <a:pt x="22" y="717"/>
                    </a:lnTo>
                    <a:lnTo>
                      <a:pt x="45" y="673"/>
                    </a:lnTo>
                    <a:lnTo>
                      <a:pt x="67" y="627"/>
                    </a:lnTo>
                    <a:lnTo>
                      <a:pt x="89" y="582"/>
                    </a:lnTo>
                    <a:lnTo>
                      <a:pt x="123" y="527"/>
                    </a:lnTo>
                    <a:lnTo>
                      <a:pt x="146" y="483"/>
                    </a:lnTo>
                    <a:lnTo>
                      <a:pt x="168" y="437"/>
                    </a:lnTo>
                    <a:lnTo>
                      <a:pt x="203" y="392"/>
                    </a:lnTo>
                    <a:lnTo>
                      <a:pt x="224" y="335"/>
                    </a:lnTo>
                    <a:lnTo>
                      <a:pt x="247" y="291"/>
                    </a:lnTo>
                    <a:lnTo>
                      <a:pt x="280" y="246"/>
                    </a:lnTo>
                    <a:lnTo>
                      <a:pt x="303" y="201"/>
                    </a:lnTo>
                    <a:lnTo>
                      <a:pt x="325" y="145"/>
                    </a:lnTo>
                    <a:lnTo>
                      <a:pt x="348" y="101"/>
                    </a:lnTo>
                    <a:lnTo>
                      <a:pt x="381" y="56"/>
                    </a:lnTo>
                    <a:lnTo>
                      <a:pt x="4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733440" y="4271040"/>
                <a:ext cx="410400" cy="924840"/>
              </a:xfrm>
              <a:custGeom>
                <a:avLst/>
                <a:gdLst/>
                <a:ahLst/>
                <a:rect l="l" t="t" r="r" b="b"/>
                <a:pathLst>
                  <a:path w="1055" h="2377">
                    <a:moveTo>
                      <a:pt x="1043" y="78"/>
                    </a:moveTo>
                    <a:lnTo>
                      <a:pt x="1033" y="100"/>
                    </a:lnTo>
                    <a:lnTo>
                      <a:pt x="1033" y="123"/>
                    </a:lnTo>
                    <a:lnTo>
                      <a:pt x="1022" y="146"/>
                    </a:lnTo>
                    <a:lnTo>
                      <a:pt x="1022" y="168"/>
                    </a:lnTo>
                    <a:lnTo>
                      <a:pt x="1010" y="190"/>
                    </a:lnTo>
                    <a:lnTo>
                      <a:pt x="999" y="212"/>
                    </a:lnTo>
                    <a:lnTo>
                      <a:pt x="999" y="235"/>
                    </a:lnTo>
                    <a:lnTo>
                      <a:pt x="987" y="257"/>
                    </a:lnTo>
                    <a:lnTo>
                      <a:pt x="987" y="280"/>
                    </a:lnTo>
                    <a:lnTo>
                      <a:pt x="977" y="304"/>
                    </a:lnTo>
                    <a:lnTo>
                      <a:pt x="965" y="314"/>
                    </a:lnTo>
                    <a:lnTo>
                      <a:pt x="965" y="337"/>
                    </a:lnTo>
                    <a:lnTo>
                      <a:pt x="954" y="359"/>
                    </a:lnTo>
                    <a:lnTo>
                      <a:pt x="944" y="381"/>
                    </a:lnTo>
                    <a:lnTo>
                      <a:pt x="932" y="403"/>
                    </a:lnTo>
                    <a:lnTo>
                      <a:pt x="921" y="426"/>
                    </a:lnTo>
                    <a:lnTo>
                      <a:pt x="897" y="459"/>
                    </a:lnTo>
                    <a:lnTo>
                      <a:pt x="886" y="482"/>
                    </a:lnTo>
                    <a:lnTo>
                      <a:pt x="875" y="515"/>
                    </a:lnTo>
                    <a:lnTo>
                      <a:pt x="852" y="550"/>
                    </a:lnTo>
                    <a:lnTo>
                      <a:pt x="841" y="583"/>
                    </a:lnTo>
                    <a:lnTo>
                      <a:pt x="819" y="605"/>
                    </a:lnTo>
                    <a:lnTo>
                      <a:pt x="808" y="639"/>
                    </a:lnTo>
                    <a:lnTo>
                      <a:pt x="796" y="672"/>
                    </a:lnTo>
                    <a:lnTo>
                      <a:pt x="774" y="706"/>
                    </a:lnTo>
                    <a:lnTo>
                      <a:pt x="763" y="729"/>
                    </a:lnTo>
                    <a:lnTo>
                      <a:pt x="740" y="762"/>
                    </a:lnTo>
                    <a:lnTo>
                      <a:pt x="730" y="797"/>
                    </a:lnTo>
                    <a:lnTo>
                      <a:pt x="718" y="830"/>
                    </a:lnTo>
                    <a:lnTo>
                      <a:pt x="696" y="863"/>
                    </a:lnTo>
                    <a:lnTo>
                      <a:pt x="685" y="886"/>
                    </a:lnTo>
                    <a:lnTo>
                      <a:pt x="674" y="919"/>
                    </a:lnTo>
                    <a:lnTo>
                      <a:pt x="674" y="952"/>
                    </a:lnTo>
                    <a:lnTo>
                      <a:pt x="674" y="987"/>
                    </a:lnTo>
                    <a:lnTo>
                      <a:pt x="674" y="1008"/>
                    </a:lnTo>
                    <a:lnTo>
                      <a:pt x="674" y="1043"/>
                    </a:lnTo>
                    <a:lnTo>
                      <a:pt x="685" y="1064"/>
                    </a:lnTo>
                    <a:lnTo>
                      <a:pt x="685" y="1098"/>
                    </a:lnTo>
                    <a:lnTo>
                      <a:pt x="685" y="1133"/>
                    </a:lnTo>
                    <a:lnTo>
                      <a:pt x="696" y="1155"/>
                    </a:lnTo>
                    <a:lnTo>
                      <a:pt x="696" y="1189"/>
                    </a:lnTo>
                    <a:lnTo>
                      <a:pt x="707" y="1211"/>
                    </a:lnTo>
                    <a:lnTo>
                      <a:pt x="707" y="1245"/>
                    </a:lnTo>
                    <a:lnTo>
                      <a:pt x="707" y="1278"/>
                    </a:lnTo>
                    <a:lnTo>
                      <a:pt x="718" y="1300"/>
                    </a:lnTo>
                    <a:lnTo>
                      <a:pt x="718" y="1334"/>
                    </a:lnTo>
                    <a:lnTo>
                      <a:pt x="718" y="1368"/>
                    </a:lnTo>
                    <a:lnTo>
                      <a:pt x="718" y="1389"/>
                    </a:lnTo>
                    <a:lnTo>
                      <a:pt x="730" y="1445"/>
                    </a:lnTo>
                    <a:lnTo>
                      <a:pt x="740" y="1502"/>
                    </a:lnTo>
                    <a:lnTo>
                      <a:pt x="740" y="1559"/>
                    </a:lnTo>
                    <a:lnTo>
                      <a:pt x="752" y="1615"/>
                    </a:lnTo>
                    <a:lnTo>
                      <a:pt x="752" y="1671"/>
                    </a:lnTo>
                    <a:lnTo>
                      <a:pt x="763" y="1727"/>
                    </a:lnTo>
                    <a:lnTo>
                      <a:pt x="763" y="1783"/>
                    </a:lnTo>
                    <a:lnTo>
                      <a:pt x="774" y="1839"/>
                    </a:lnTo>
                    <a:lnTo>
                      <a:pt x="774" y="1894"/>
                    </a:lnTo>
                    <a:lnTo>
                      <a:pt x="786" y="1950"/>
                    </a:lnTo>
                    <a:lnTo>
                      <a:pt x="786" y="2007"/>
                    </a:lnTo>
                    <a:lnTo>
                      <a:pt x="796" y="2063"/>
                    </a:lnTo>
                    <a:lnTo>
                      <a:pt x="808" y="2119"/>
                    </a:lnTo>
                    <a:lnTo>
                      <a:pt x="808" y="2175"/>
                    </a:lnTo>
                    <a:lnTo>
                      <a:pt x="819" y="2231"/>
                    </a:lnTo>
                    <a:lnTo>
                      <a:pt x="831" y="2286"/>
                    </a:lnTo>
                    <a:lnTo>
                      <a:pt x="831" y="2298"/>
                    </a:lnTo>
                    <a:lnTo>
                      <a:pt x="831" y="2309"/>
                    </a:lnTo>
                    <a:lnTo>
                      <a:pt x="831" y="2321"/>
                    </a:lnTo>
                    <a:lnTo>
                      <a:pt x="831" y="2332"/>
                    </a:lnTo>
                    <a:lnTo>
                      <a:pt x="831" y="2342"/>
                    </a:lnTo>
                    <a:lnTo>
                      <a:pt x="831" y="2354"/>
                    </a:lnTo>
                    <a:lnTo>
                      <a:pt x="831" y="2365"/>
                    </a:lnTo>
                    <a:lnTo>
                      <a:pt x="819" y="2377"/>
                    </a:lnTo>
                    <a:lnTo>
                      <a:pt x="808" y="2377"/>
                    </a:lnTo>
                    <a:lnTo>
                      <a:pt x="796" y="2377"/>
                    </a:lnTo>
                    <a:lnTo>
                      <a:pt x="786" y="2377"/>
                    </a:lnTo>
                    <a:lnTo>
                      <a:pt x="774" y="2377"/>
                    </a:lnTo>
                    <a:lnTo>
                      <a:pt x="763" y="2377"/>
                    </a:lnTo>
                    <a:lnTo>
                      <a:pt x="752" y="2377"/>
                    </a:lnTo>
                    <a:lnTo>
                      <a:pt x="740" y="2377"/>
                    </a:lnTo>
                    <a:lnTo>
                      <a:pt x="730" y="2365"/>
                    </a:lnTo>
                    <a:lnTo>
                      <a:pt x="718" y="2365"/>
                    </a:lnTo>
                    <a:lnTo>
                      <a:pt x="707" y="2365"/>
                    </a:lnTo>
                    <a:lnTo>
                      <a:pt x="696" y="2365"/>
                    </a:lnTo>
                    <a:lnTo>
                      <a:pt x="685" y="2354"/>
                    </a:lnTo>
                    <a:lnTo>
                      <a:pt x="674" y="2354"/>
                    </a:lnTo>
                    <a:lnTo>
                      <a:pt x="662" y="2354"/>
                    </a:lnTo>
                    <a:lnTo>
                      <a:pt x="651" y="2354"/>
                    </a:lnTo>
                    <a:lnTo>
                      <a:pt x="606" y="2342"/>
                    </a:lnTo>
                    <a:lnTo>
                      <a:pt x="562" y="2342"/>
                    </a:lnTo>
                    <a:lnTo>
                      <a:pt x="528" y="2332"/>
                    </a:lnTo>
                    <a:lnTo>
                      <a:pt x="494" y="2321"/>
                    </a:lnTo>
                    <a:lnTo>
                      <a:pt x="449" y="2298"/>
                    </a:lnTo>
                    <a:lnTo>
                      <a:pt x="415" y="2286"/>
                    </a:lnTo>
                    <a:lnTo>
                      <a:pt x="382" y="2276"/>
                    </a:lnTo>
                    <a:lnTo>
                      <a:pt x="348" y="2253"/>
                    </a:lnTo>
                    <a:lnTo>
                      <a:pt x="315" y="2231"/>
                    </a:lnTo>
                    <a:lnTo>
                      <a:pt x="281" y="2208"/>
                    </a:lnTo>
                    <a:lnTo>
                      <a:pt x="247" y="2187"/>
                    </a:lnTo>
                    <a:lnTo>
                      <a:pt x="214" y="2164"/>
                    </a:lnTo>
                    <a:lnTo>
                      <a:pt x="181" y="2141"/>
                    </a:lnTo>
                    <a:lnTo>
                      <a:pt x="146" y="2119"/>
                    </a:lnTo>
                    <a:lnTo>
                      <a:pt x="113" y="2096"/>
                    </a:lnTo>
                    <a:lnTo>
                      <a:pt x="91" y="2075"/>
                    </a:lnTo>
                    <a:lnTo>
                      <a:pt x="34" y="2018"/>
                    </a:lnTo>
                    <a:lnTo>
                      <a:pt x="23" y="1962"/>
                    </a:lnTo>
                    <a:lnTo>
                      <a:pt x="23" y="1905"/>
                    </a:lnTo>
                    <a:lnTo>
                      <a:pt x="23" y="1849"/>
                    </a:lnTo>
                    <a:lnTo>
                      <a:pt x="23" y="1793"/>
                    </a:lnTo>
                    <a:lnTo>
                      <a:pt x="11" y="1738"/>
                    </a:lnTo>
                    <a:lnTo>
                      <a:pt x="11" y="1694"/>
                    </a:lnTo>
                    <a:lnTo>
                      <a:pt x="11" y="1637"/>
                    </a:lnTo>
                    <a:lnTo>
                      <a:pt x="11" y="1581"/>
                    </a:lnTo>
                    <a:lnTo>
                      <a:pt x="11" y="1524"/>
                    </a:lnTo>
                    <a:lnTo>
                      <a:pt x="0" y="1468"/>
                    </a:lnTo>
                    <a:lnTo>
                      <a:pt x="0" y="1424"/>
                    </a:lnTo>
                    <a:lnTo>
                      <a:pt x="0" y="1368"/>
                    </a:lnTo>
                    <a:lnTo>
                      <a:pt x="0" y="1312"/>
                    </a:lnTo>
                    <a:lnTo>
                      <a:pt x="0" y="1255"/>
                    </a:lnTo>
                    <a:lnTo>
                      <a:pt x="0" y="1211"/>
                    </a:lnTo>
                    <a:lnTo>
                      <a:pt x="11" y="1155"/>
                    </a:lnTo>
                    <a:lnTo>
                      <a:pt x="23" y="1087"/>
                    </a:lnTo>
                    <a:lnTo>
                      <a:pt x="45" y="1043"/>
                    </a:lnTo>
                    <a:lnTo>
                      <a:pt x="57" y="1008"/>
                    </a:lnTo>
                    <a:lnTo>
                      <a:pt x="80" y="975"/>
                    </a:lnTo>
                    <a:lnTo>
                      <a:pt x="91" y="942"/>
                    </a:lnTo>
                    <a:lnTo>
                      <a:pt x="102" y="908"/>
                    </a:lnTo>
                    <a:lnTo>
                      <a:pt x="125" y="863"/>
                    </a:lnTo>
                    <a:lnTo>
                      <a:pt x="136" y="830"/>
                    </a:lnTo>
                    <a:lnTo>
                      <a:pt x="146" y="797"/>
                    </a:lnTo>
                    <a:lnTo>
                      <a:pt x="158" y="762"/>
                    </a:lnTo>
                    <a:lnTo>
                      <a:pt x="181" y="718"/>
                    </a:lnTo>
                    <a:lnTo>
                      <a:pt x="192" y="684"/>
                    </a:lnTo>
                    <a:lnTo>
                      <a:pt x="202" y="649"/>
                    </a:lnTo>
                    <a:lnTo>
                      <a:pt x="214" y="605"/>
                    </a:lnTo>
                    <a:lnTo>
                      <a:pt x="225" y="571"/>
                    </a:lnTo>
                    <a:lnTo>
                      <a:pt x="237" y="527"/>
                    </a:lnTo>
                    <a:lnTo>
                      <a:pt x="237" y="494"/>
                    </a:lnTo>
                    <a:lnTo>
                      <a:pt x="293" y="459"/>
                    </a:lnTo>
                    <a:lnTo>
                      <a:pt x="336" y="437"/>
                    </a:lnTo>
                    <a:lnTo>
                      <a:pt x="382" y="403"/>
                    </a:lnTo>
                    <a:lnTo>
                      <a:pt x="437" y="370"/>
                    </a:lnTo>
                    <a:lnTo>
                      <a:pt x="483" y="348"/>
                    </a:lnTo>
                    <a:lnTo>
                      <a:pt x="540" y="314"/>
                    </a:lnTo>
                    <a:lnTo>
                      <a:pt x="584" y="280"/>
                    </a:lnTo>
                    <a:lnTo>
                      <a:pt x="641" y="257"/>
                    </a:lnTo>
                    <a:lnTo>
                      <a:pt x="685" y="224"/>
                    </a:lnTo>
                    <a:lnTo>
                      <a:pt x="730" y="201"/>
                    </a:lnTo>
                    <a:lnTo>
                      <a:pt x="786" y="168"/>
                    </a:lnTo>
                    <a:lnTo>
                      <a:pt x="831" y="134"/>
                    </a:lnTo>
                    <a:lnTo>
                      <a:pt x="886" y="100"/>
                    </a:lnTo>
                    <a:lnTo>
                      <a:pt x="932" y="67"/>
                    </a:lnTo>
                    <a:lnTo>
                      <a:pt x="977" y="34"/>
                    </a:lnTo>
                    <a:lnTo>
                      <a:pt x="1033" y="0"/>
                    </a:lnTo>
                    <a:lnTo>
                      <a:pt x="1043" y="11"/>
                    </a:lnTo>
                    <a:lnTo>
                      <a:pt x="1043" y="22"/>
                    </a:lnTo>
                    <a:lnTo>
                      <a:pt x="1055" y="22"/>
                    </a:lnTo>
                    <a:lnTo>
                      <a:pt x="1043" y="34"/>
                    </a:lnTo>
                    <a:lnTo>
                      <a:pt x="1043" y="45"/>
                    </a:lnTo>
                    <a:lnTo>
                      <a:pt x="1043" y="55"/>
                    </a:lnTo>
                    <a:lnTo>
                      <a:pt x="1043" y="67"/>
                    </a:lnTo>
                    <a:lnTo>
                      <a:pt x="1043" y="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7090560" y="4302000"/>
                <a:ext cx="48600" cy="135000"/>
              </a:xfrm>
              <a:custGeom>
                <a:avLst/>
                <a:gdLst/>
                <a:ahLst/>
                <a:rect l="l" t="t" r="r" b="b"/>
                <a:pathLst>
                  <a:path w="122" h="348">
                    <a:moveTo>
                      <a:pt x="122" y="0"/>
                    </a:moveTo>
                    <a:lnTo>
                      <a:pt x="112" y="22"/>
                    </a:lnTo>
                    <a:lnTo>
                      <a:pt x="112" y="45"/>
                    </a:lnTo>
                    <a:lnTo>
                      <a:pt x="101" y="68"/>
                    </a:lnTo>
                    <a:lnTo>
                      <a:pt x="101" y="90"/>
                    </a:lnTo>
                    <a:lnTo>
                      <a:pt x="89" y="112"/>
                    </a:lnTo>
                    <a:lnTo>
                      <a:pt x="78" y="134"/>
                    </a:lnTo>
                    <a:lnTo>
                      <a:pt x="78" y="157"/>
                    </a:lnTo>
                    <a:lnTo>
                      <a:pt x="66" y="179"/>
                    </a:lnTo>
                    <a:lnTo>
                      <a:pt x="66" y="202"/>
                    </a:lnTo>
                    <a:lnTo>
                      <a:pt x="56" y="226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33" y="281"/>
                    </a:lnTo>
                    <a:lnTo>
                      <a:pt x="23" y="303"/>
                    </a:lnTo>
                    <a:lnTo>
                      <a:pt x="11" y="325"/>
                    </a:lnTo>
                    <a:lnTo>
                      <a:pt x="0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994800" y="4437000"/>
                <a:ext cx="95760" cy="191520"/>
              </a:xfrm>
              <a:custGeom>
                <a:avLst/>
                <a:gdLst/>
                <a:ahLst/>
                <a:rect l="l" t="t" r="r" b="b"/>
                <a:pathLst>
                  <a:path w="247" h="493">
                    <a:moveTo>
                      <a:pt x="247" y="0"/>
                    </a:moveTo>
                    <a:lnTo>
                      <a:pt x="223" y="33"/>
                    </a:lnTo>
                    <a:lnTo>
                      <a:pt x="212" y="56"/>
                    </a:lnTo>
                    <a:lnTo>
                      <a:pt x="201" y="89"/>
                    </a:lnTo>
                    <a:lnTo>
                      <a:pt x="178" y="124"/>
                    </a:lnTo>
                    <a:lnTo>
                      <a:pt x="167" y="157"/>
                    </a:lnTo>
                    <a:lnTo>
                      <a:pt x="145" y="179"/>
                    </a:lnTo>
                    <a:lnTo>
                      <a:pt x="134" y="213"/>
                    </a:lnTo>
                    <a:lnTo>
                      <a:pt x="122" y="246"/>
                    </a:lnTo>
                    <a:lnTo>
                      <a:pt x="100" y="280"/>
                    </a:lnTo>
                    <a:lnTo>
                      <a:pt x="89" y="303"/>
                    </a:lnTo>
                    <a:lnTo>
                      <a:pt x="66" y="336"/>
                    </a:lnTo>
                    <a:lnTo>
                      <a:pt x="56" y="371"/>
                    </a:lnTo>
                    <a:lnTo>
                      <a:pt x="44" y="404"/>
                    </a:lnTo>
                    <a:lnTo>
                      <a:pt x="22" y="437"/>
                    </a:lnTo>
                    <a:lnTo>
                      <a:pt x="11" y="460"/>
                    </a:lnTo>
                    <a:lnTo>
                      <a:pt x="0" y="49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6994800" y="4628520"/>
                <a:ext cx="16200" cy="183960"/>
              </a:xfrm>
              <a:custGeom>
                <a:avLst/>
                <a:gdLst/>
                <a:ahLst/>
                <a:rect l="l" t="t" r="r" b="b"/>
                <a:pathLst>
                  <a:path w="44" h="470">
                    <a:moveTo>
                      <a:pt x="0" y="0"/>
                    </a:moveTo>
                    <a:lnTo>
                      <a:pt x="0" y="33"/>
                    </a:lnTo>
                    <a:lnTo>
                      <a:pt x="0" y="68"/>
                    </a:lnTo>
                    <a:lnTo>
                      <a:pt x="0" y="89"/>
                    </a:lnTo>
                    <a:lnTo>
                      <a:pt x="0" y="124"/>
                    </a:lnTo>
                    <a:lnTo>
                      <a:pt x="11" y="145"/>
                    </a:lnTo>
                    <a:lnTo>
                      <a:pt x="11" y="179"/>
                    </a:lnTo>
                    <a:lnTo>
                      <a:pt x="11" y="214"/>
                    </a:lnTo>
                    <a:lnTo>
                      <a:pt x="22" y="236"/>
                    </a:lnTo>
                    <a:lnTo>
                      <a:pt x="22" y="270"/>
                    </a:lnTo>
                    <a:lnTo>
                      <a:pt x="33" y="292"/>
                    </a:lnTo>
                    <a:lnTo>
                      <a:pt x="33" y="326"/>
                    </a:lnTo>
                    <a:lnTo>
                      <a:pt x="33" y="359"/>
                    </a:lnTo>
                    <a:lnTo>
                      <a:pt x="44" y="381"/>
                    </a:lnTo>
                    <a:lnTo>
                      <a:pt x="44" y="415"/>
                    </a:lnTo>
                    <a:lnTo>
                      <a:pt x="44" y="449"/>
                    </a:lnTo>
                    <a:lnTo>
                      <a:pt x="44" y="4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7011360" y="4812840"/>
                <a:ext cx="43560" cy="347760"/>
              </a:xfrm>
              <a:custGeom>
                <a:avLst/>
                <a:gdLst/>
                <a:ahLst/>
                <a:rect l="l" t="t" r="r" b="b"/>
                <a:pathLst>
                  <a:path w="113" h="897">
                    <a:moveTo>
                      <a:pt x="0" y="0"/>
                    </a:moveTo>
                    <a:lnTo>
                      <a:pt x="12" y="56"/>
                    </a:lnTo>
                    <a:lnTo>
                      <a:pt x="22" y="113"/>
                    </a:lnTo>
                    <a:lnTo>
                      <a:pt x="22" y="170"/>
                    </a:lnTo>
                    <a:lnTo>
                      <a:pt x="34" y="226"/>
                    </a:lnTo>
                    <a:lnTo>
                      <a:pt x="34" y="282"/>
                    </a:lnTo>
                    <a:lnTo>
                      <a:pt x="45" y="338"/>
                    </a:lnTo>
                    <a:lnTo>
                      <a:pt x="45" y="394"/>
                    </a:lnTo>
                    <a:lnTo>
                      <a:pt x="56" y="450"/>
                    </a:lnTo>
                    <a:lnTo>
                      <a:pt x="56" y="505"/>
                    </a:lnTo>
                    <a:lnTo>
                      <a:pt x="68" y="561"/>
                    </a:lnTo>
                    <a:lnTo>
                      <a:pt x="68" y="618"/>
                    </a:lnTo>
                    <a:lnTo>
                      <a:pt x="78" y="674"/>
                    </a:lnTo>
                    <a:lnTo>
                      <a:pt x="90" y="730"/>
                    </a:lnTo>
                    <a:lnTo>
                      <a:pt x="90" y="786"/>
                    </a:lnTo>
                    <a:lnTo>
                      <a:pt x="101" y="842"/>
                    </a:lnTo>
                    <a:lnTo>
                      <a:pt x="113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768360" y="5079240"/>
                <a:ext cx="216720" cy="109440"/>
              </a:xfrm>
              <a:custGeom>
                <a:avLst/>
                <a:gdLst/>
                <a:ahLst/>
                <a:rect l="l" t="t" r="r" b="b"/>
                <a:pathLst>
                  <a:path w="560" h="279">
                    <a:moveTo>
                      <a:pt x="560" y="279"/>
                    </a:moveTo>
                    <a:lnTo>
                      <a:pt x="515" y="267"/>
                    </a:lnTo>
                    <a:lnTo>
                      <a:pt x="471" y="267"/>
                    </a:lnTo>
                    <a:lnTo>
                      <a:pt x="437" y="257"/>
                    </a:lnTo>
                    <a:lnTo>
                      <a:pt x="403" y="246"/>
                    </a:lnTo>
                    <a:lnTo>
                      <a:pt x="358" y="223"/>
                    </a:lnTo>
                    <a:lnTo>
                      <a:pt x="324" y="211"/>
                    </a:lnTo>
                    <a:lnTo>
                      <a:pt x="291" y="201"/>
                    </a:lnTo>
                    <a:lnTo>
                      <a:pt x="257" y="178"/>
                    </a:lnTo>
                    <a:lnTo>
                      <a:pt x="224" y="156"/>
                    </a:lnTo>
                    <a:lnTo>
                      <a:pt x="190" y="133"/>
                    </a:lnTo>
                    <a:lnTo>
                      <a:pt x="156" y="112"/>
                    </a:lnTo>
                    <a:lnTo>
                      <a:pt x="123" y="89"/>
                    </a:lnTo>
                    <a:lnTo>
                      <a:pt x="90" y="66"/>
                    </a:lnTo>
                    <a:lnTo>
                      <a:pt x="55" y="44"/>
                    </a:lnTo>
                    <a:lnTo>
                      <a:pt x="22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733440" y="4721760"/>
                <a:ext cx="11520" cy="333720"/>
              </a:xfrm>
              <a:custGeom>
                <a:avLst/>
                <a:gdLst/>
                <a:ahLst/>
                <a:rect l="l" t="t" r="r" b="b"/>
                <a:pathLst>
                  <a:path w="34" h="863">
                    <a:moveTo>
                      <a:pt x="34" y="863"/>
                    </a:moveTo>
                    <a:lnTo>
                      <a:pt x="23" y="807"/>
                    </a:lnTo>
                    <a:lnTo>
                      <a:pt x="23" y="750"/>
                    </a:lnTo>
                    <a:lnTo>
                      <a:pt x="23" y="694"/>
                    </a:lnTo>
                    <a:lnTo>
                      <a:pt x="23" y="638"/>
                    </a:lnTo>
                    <a:lnTo>
                      <a:pt x="11" y="583"/>
                    </a:lnTo>
                    <a:lnTo>
                      <a:pt x="11" y="539"/>
                    </a:lnTo>
                    <a:lnTo>
                      <a:pt x="11" y="482"/>
                    </a:lnTo>
                    <a:lnTo>
                      <a:pt x="11" y="426"/>
                    </a:lnTo>
                    <a:lnTo>
                      <a:pt x="11" y="369"/>
                    </a:lnTo>
                    <a:lnTo>
                      <a:pt x="0" y="313"/>
                    </a:lnTo>
                    <a:lnTo>
                      <a:pt x="0" y="269"/>
                    </a:lnTo>
                    <a:lnTo>
                      <a:pt x="0" y="213"/>
                    </a:lnTo>
                    <a:lnTo>
                      <a:pt x="0" y="157"/>
                    </a:lnTo>
                    <a:lnTo>
                      <a:pt x="0" y="100"/>
                    </a:lnTo>
                    <a:lnTo>
                      <a:pt x="0" y="56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740280" y="4462920"/>
                <a:ext cx="83880" cy="230760"/>
              </a:xfrm>
              <a:custGeom>
                <a:avLst/>
                <a:gdLst/>
                <a:ahLst/>
                <a:rect l="l" t="t" r="r" b="b"/>
                <a:pathLst>
                  <a:path w="214" h="593">
                    <a:moveTo>
                      <a:pt x="0" y="593"/>
                    </a:moveTo>
                    <a:lnTo>
                      <a:pt x="22" y="549"/>
                    </a:lnTo>
                    <a:lnTo>
                      <a:pt x="34" y="514"/>
                    </a:lnTo>
                    <a:lnTo>
                      <a:pt x="57" y="481"/>
                    </a:lnTo>
                    <a:lnTo>
                      <a:pt x="68" y="448"/>
                    </a:lnTo>
                    <a:lnTo>
                      <a:pt x="79" y="414"/>
                    </a:lnTo>
                    <a:lnTo>
                      <a:pt x="102" y="369"/>
                    </a:lnTo>
                    <a:lnTo>
                      <a:pt x="113" y="336"/>
                    </a:lnTo>
                    <a:lnTo>
                      <a:pt x="123" y="303"/>
                    </a:lnTo>
                    <a:lnTo>
                      <a:pt x="135" y="268"/>
                    </a:lnTo>
                    <a:lnTo>
                      <a:pt x="158" y="224"/>
                    </a:lnTo>
                    <a:lnTo>
                      <a:pt x="169" y="190"/>
                    </a:lnTo>
                    <a:lnTo>
                      <a:pt x="179" y="155"/>
                    </a:lnTo>
                    <a:lnTo>
                      <a:pt x="191" y="111"/>
                    </a:lnTo>
                    <a:lnTo>
                      <a:pt x="202" y="77"/>
                    </a:lnTo>
                    <a:lnTo>
                      <a:pt x="214" y="33"/>
                    </a:lnTo>
                    <a:lnTo>
                      <a:pt x="2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824520" y="4271040"/>
                <a:ext cx="309960" cy="191520"/>
              </a:xfrm>
              <a:custGeom>
                <a:avLst/>
                <a:gdLst/>
                <a:ahLst/>
                <a:rect l="l" t="t" r="r" b="b"/>
                <a:pathLst>
                  <a:path w="796" h="494">
                    <a:moveTo>
                      <a:pt x="0" y="494"/>
                    </a:moveTo>
                    <a:lnTo>
                      <a:pt x="56" y="459"/>
                    </a:lnTo>
                    <a:lnTo>
                      <a:pt x="99" y="437"/>
                    </a:lnTo>
                    <a:lnTo>
                      <a:pt x="145" y="403"/>
                    </a:lnTo>
                    <a:lnTo>
                      <a:pt x="200" y="370"/>
                    </a:lnTo>
                    <a:lnTo>
                      <a:pt x="246" y="348"/>
                    </a:lnTo>
                    <a:lnTo>
                      <a:pt x="303" y="314"/>
                    </a:lnTo>
                    <a:lnTo>
                      <a:pt x="347" y="280"/>
                    </a:lnTo>
                    <a:lnTo>
                      <a:pt x="404" y="257"/>
                    </a:lnTo>
                    <a:lnTo>
                      <a:pt x="448" y="224"/>
                    </a:lnTo>
                    <a:lnTo>
                      <a:pt x="493" y="201"/>
                    </a:lnTo>
                    <a:lnTo>
                      <a:pt x="549" y="168"/>
                    </a:lnTo>
                    <a:lnTo>
                      <a:pt x="594" y="134"/>
                    </a:lnTo>
                    <a:lnTo>
                      <a:pt x="649" y="100"/>
                    </a:lnTo>
                    <a:lnTo>
                      <a:pt x="695" y="67"/>
                    </a:lnTo>
                    <a:lnTo>
                      <a:pt x="740" y="34"/>
                    </a:lnTo>
                    <a:lnTo>
                      <a:pt x="7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750000" y="4305960"/>
                <a:ext cx="366120" cy="873360"/>
              </a:xfrm>
              <a:custGeom>
                <a:avLst/>
                <a:gdLst/>
                <a:ahLst/>
                <a:rect l="l" t="t" r="r" b="b"/>
                <a:pathLst>
                  <a:path w="942" h="2242">
                    <a:moveTo>
                      <a:pt x="942" y="0"/>
                    </a:moveTo>
                    <a:lnTo>
                      <a:pt x="909" y="56"/>
                    </a:lnTo>
                    <a:lnTo>
                      <a:pt x="887" y="111"/>
                    </a:lnTo>
                    <a:lnTo>
                      <a:pt x="864" y="167"/>
                    </a:lnTo>
                    <a:lnTo>
                      <a:pt x="830" y="214"/>
                    </a:lnTo>
                    <a:lnTo>
                      <a:pt x="807" y="269"/>
                    </a:lnTo>
                    <a:lnTo>
                      <a:pt x="786" y="325"/>
                    </a:lnTo>
                    <a:lnTo>
                      <a:pt x="763" y="369"/>
                    </a:lnTo>
                    <a:lnTo>
                      <a:pt x="729" y="425"/>
                    </a:lnTo>
                    <a:lnTo>
                      <a:pt x="707" y="481"/>
                    </a:lnTo>
                    <a:lnTo>
                      <a:pt x="685" y="537"/>
                    </a:lnTo>
                    <a:lnTo>
                      <a:pt x="662" y="582"/>
                    </a:lnTo>
                    <a:lnTo>
                      <a:pt x="640" y="639"/>
                    </a:lnTo>
                    <a:lnTo>
                      <a:pt x="617" y="695"/>
                    </a:lnTo>
                    <a:lnTo>
                      <a:pt x="596" y="751"/>
                    </a:lnTo>
                    <a:lnTo>
                      <a:pt x="573" y="806"/>
                    </a:lnTo>
                    <a:lnTo>
                      <a:pt x="561" y="862"/>
                    </a:lnTo>
                    <a:lnTo>
                      <a:pt x="573" y="953"/>
                    </a:lnTo>
                    <a:lnTo>
                      <a:pt x="584" y="1031"/>
                    </a:lnTo>
                    <a:lnTo>
                      <a:pt x="596" y="1121"/>
                    </a:lnTo>
                    <a:lnTo>
                      <a:pt x="606" y="1210"/>
                    </a:lnTo>
                    <a:lnTo>
                      <a:pt x="617" y="1289"/>
                    </a:lnTo>
                    <a:lnTo>
                      <a:pt x="629" y="1378"/>
                    </a:lnTo>
                    <a:lnTo>
                      <a:pt x="640" y="1457"/>
                    </a:lnTo>
                    <a:lnTo>
                      <a:pt x="651" y="1547"/>
                    </a:lnTo>
                    <a:lnTo>
                      <a:pt x="673" y="1637"/>
                    </a:lnTo>
                    <a:lnTo>
                      <a:pt x="685" y="1715"/>
                    </a:lnTo>
                    <a:lnTo>
                      <a:pt x="695" y="1804"/>
                    </a:lnTo>
                    <a:lnTo>
                      <a:pt x="707" y="1884"/>
                    </a:lnTo>
                    <a:lnTo>
                      <a:pt x="718" y="1973"/>
                    </a:lnTo>
                    <a:lnTo>
                      <a:pt x="729" y="2062"/>
                    </a:lnTo>
                    <a:lnTo>
                      <a:pt x="741" y="2141"/>
                    </a:lnTo>
                    <a:lnTo>
                      <a:pt x="751" y="2231"/>
                    </a:lnTo>
                    <a:lnTo>
                      <a:pt x="741" y="2231"/>
                    </a:lnTo>
                    <a:lnTo>
                      <a:pt x="741" y="2242"/>
                    </a:lnTo>
                    <a:lnTo>
                      <a:pt x="729" y="2242"/>
                    </a:lnTo>
                    <a:lnTo>
                      <a:pt x="729" y="2231"/>
                    </a:lnTo>
                    <a:lnTo>
                      <a:pt x="718" y="2231"/>
                    </a:lnTo>
                    <a:lnTo>
                      <a:pt x="707" y="2231"/>
                    </a:lnTo>
                    <a:lnTo>
                      <a:pt x="662" y="2219"/>
                    </a:lnTo>
                    <a:lnTo>
                      <a:pt x="617" y="2219"/>
                    </a:lnTo>
                    <a:lnTo>
                      <a:pt x="584" y="2208"/>
                    </a:lnTo>
                    <a:lnTo>
                      <a:pt x="539" y="2196"/>
                    </a:lnTo>
                    <a:lnTo>
                      <a:pt x="495" y="2175"/>
                    </a:lnTo>
                    <a:lnTo>
                      <a:pt x="449" y="2163"/>
                    </a:lnTo>
                    <a:lnTo>
                      <a:pt x="415" y="2141"/>
                    </a:lnTo>
                    <a:lnTo>
                      <a:pt x="370" y="2130"/>
                    </a:lnTo>
                    <a:lnTo>
                      <a:pt x="337" y="2107"/>
                    </a:lnTo>
                    <a:lnTo>
                      <a:pt x="291" y="2085"/>
                    </a:lnTo>
                    <a:lnTo>
                      <a:pt x="258" y="2062"/>
                    </a:lnTo>
                    <a:lnTo>
                      <a:pt x="214" y="2041"/>
                    </a:lnTo>
                    <a:lnTo>
                      <a:pt x="180" y="2018"/>
                    </a:lnTo>
                    <a:lnTo>
                      <a:pt x="147" y="1985"/>
                    </a:lnTo>
                    <a:lnTo>
                      <a:pt x="101" y="1962"/>
                    </a:lnTo>
                    <a:lnTo>
                      <a:pt x="68" y="1928"/>
                    </a:lnTo>
                    <a:lnTo>
                      <a:pt x="57" y="1928"/>
                    </a:lnTo>
                    <a:lnTo>
                      <a:pt x="46" y="1917"/>
                    </a:lnTo>
                    <a:lnTo>
                      <a:pt x="46" y="1907"/>
                    </a:lnTo>
                    <a:lnTo>
                      <a:pt x="35" y="1895"/>
                    </a:lnTo>
                    <a:lnTo>
                      <a:pt x="35" y="1884"/>
                    </a:lnTo>
                    <a:lnTo>
                      <a:pt x="23" y="1872"/>
                    </a:lnTo>
                    <a:lnTo>
                      <a:pt x="23" y="1860"/>
                    </a:lnTo>
                    <a:lnTo>
                      <a:pt x="23" y="1850"/>
                    </a:lnTo>
                    <a:lnTo>
                      <a:pt x="23" y="1838"/>
                    </a:lnTo>
                    <a:lnTo>
                      <a:pt x="23" y="1827"/>
                    </a:lnTo>
                    <a:lnTo>
                      <a:pt x="23" y="1815"/>
                    </a:lnTo>
                    <a:lnTo>
                      <a:pt x="23" y="1794"/>
                    </a:lnTo>
                    <a:lnTo>
                      <a:pt x="23" y="1782"/>
                    </a:lnTo>
                    <a:lnTo>
                      <a:pt x="23" y="1771"/>
                    </a:lnTo>
                    <a:lnTo>
                      <a:pt x="23" y="1759"/>
                    </a:lnTo>
                    <a:lnTo>
                      <a:pt x="23" y="1749"/>
                    </a:lnTo>
                    <a:lnTo>
                      <a:pt x="23" y="1737"/>
                    </a:lnTo>
                    <a:lnTo>
                      <a:pt x="23" y="1726"/>
                    </a:lnTo>
                    <a:lnTo>
                      <a:pt x="23" y="1715"/>
                    </a:lnTo>
                    <a:lnTo>
                      <a:pt x="23" y="1703"/>
                    </a:lnTo>
                    <a:lnTo>
                      <a:pt x="23" y="1693"/>
                    </a:lnTo>
                    <a:lnTo>
                      <a:pt x="23" y="1681"/>
                    </a:lnTo>
                    <a:lnTo>
                      <a:pt x="23" y="1637"/>
                    </a:lnTo>
                    <a:lnTo>
                      <a:pt x="12" y="1604"/>
                    </a:lnTo>
                    <a:lnTo>
                      <a:pt x="12" y="1558"/>
                    </a:lnTo>
                    <a:lnTo>
                      <a:pt x="12" y="1525"/>
                    </a:lnTo>
                    <a:lnTo>
                      <a:pt x="12" y="1480"/>
                    </a:lnTo>
                    <a:lnTo>
                      <a:pt x="0" y="1446"/>
                    </a:lnTo>
                    <a:lnTo>
                      <a:pt x="0" y="1400"/>
                    </a:lnTo>
                    <a:lnTo>
                      <a:pt x="0" y="1355"/>
                    </a:lnTo>
                    <a:lnTo>
                      <a:pt x="0" y="1322"/>
                    </a:lnTo>
                    <a:lnTo>
                      <a:pt x="12" y="1278"/>
                    </a:lnTo>
                    <a:lnTo>
                      <a:pt x="12" y="1244"/>
                    </a:lnTo>
                    <a:lnTo>
                      <a:pt x="12" y="1200"/>
                    </a:lnTo>
                    <a:lnTo>
                      <a:pt x="12" y="1165"/>
                    </a:lnTo>
                    <a:lnTo>
                      <a:pt x="12" y="1121"/>
                    </a:lnTo>
                    <a:lnTo>
                      <a:pt x="12" y="1088"/>
                    </a:lnTo>
                    <a:lnTo>
                      <a:pt x="12" y="1043"/>
                    </a:lnTo>
                    <a:lnTo>
                      <a:pt x="23" y="1031"/>
                    </a:lnTo>
                    <a:lnTo>
                      <a:pt x="35" y="1008"/>
                    </a:lnTo>
                    <a:lnTo>
                      <a:pt x="35" y="986"/>
                    </a:lnTo>
                    <a:lnTo>
                      <a:pt x="46" y="974"/>
                    </a:lnTo>
                    <a:lnTo>
                      <a:pt x="57" y="953"/>
                    </a:lnTo>
                    <a:lnTo>
                      <a:pt x="57" y="930"/>
                    </a:lnTo>
                    <a:lnTo>
                      <a:pt x="68" y="918"/>
                    </a:lnTo>
                    <a:lnTo>
                      <a:pt x="80" y="897"/>
                    </a:lnTo>
                    <a:lnTo>
                      <a:pt x="80" y="885"/>
                    </a:lnTo>
                    <a:lnTo>
                      <a:pt x="91" y="862"/>
                    </a:lnTo>
                    <a:lnTo>
                      <a:pt x="91" y="841"/>
                    </a:lnTo>
                    <a:lnTo>
                      <a:pt x="101" y="829"/>
                    </a:lnTo>
                    <a:lnTo>
                      <a:pt x="113" y="806"/>
                    </a:lnTo>
                    <a:lnTo>
                      <a:pt x="113" y="785"/>
                    </a:lnTo>
                    <a:lnTo>
                      <a:pt x="124" y="773"/>
                    </a:lnTo>
                    <a:lnTo>
                      <a:pt x="136" y="751"/>
                    </a:lnTo>
                    <a:lnTo>
                      <a:pt x="147" y="728"/>
                    </a:lnTo>
                    <a:lnTo>
                      <a:pt x="147" y="707"/>
                    </a:lnTo>
                    <a:lnTo>
                      <a:pt x="157" y="684"/>
                    </a:lnTo>
                    <a:lnTo>
                      <a:pt x="169" y="662"/>
                    </a:lnTo>
                    <a:lnTo>
                      <a:pt x="169" y="651"/>
                    </a:lnTo>
                    <a:lnTo>
                      <a:pt x="180" y="628"/>
                    </a:lnTo>
                    <a:lnTo>
                      <a:pt x="180" y="604"/>
                    </a:lnTo>
                    <a:lnTo>
                      <a:pt x="192" y="582"/>
                    </a:lnTo>
                    <a:lnTo>
                      <a:pt x="192" y="559"/>
                    </a:lnTo>
                    <a:lnTo>
                      <a:pt x="202" y="537"/>
                    </a:lnTo>
                    <a:lnTo>
                      <a:pt x="214" y="515"/>
                    </a:lnTo>
                    <a:lnTo>
                      <a:pt x="225" y="493"/>
                    </a:lnTo>
                    <a:lnTo>
                      <a:pt x="236" y="470"/>
                    </a:lnTo>
                    <a:lnTo>
                      <a:pt x="248" y="448"/>
                    </a:lnTo>
                    <a:lnTo>
                      <a:pt x="258" y="437"/>
                    </a:lnTo>
                    <a:lnTo>
                      <a:pt x="281" y="414"/>
                    </a:lnTo>
                    <a:lnTo>
                      <a:pt x="303" y="404"/>
                    </a:lnTo>
                    <a:lnTo>
                      <a:pt x="337" y="381"/>
                    </a:lnTo>
                    <a:lnTo>
                      <a:pt x="359" y="369"/>
                    </a:lnTo>
                    <a:lnTo>
                      <a:pt x="382" y="347"/>
                    </a:lnTo>
                    <a:lnTo>
                      <a:pt x="415" y="336"/>
                    </a:lnTo>
                    <a:lnTo>
                      <a:pt x="438" y="325"/>
                    </a:lnTo>
                    <a:lnTo>
                      <a:pt x="472" y="303"/>
                    </a:lnTo>
                    <a:lnTo>
                      <a:pt x="495" y="291"/>
                    </a:lnTo>
                    <a:lnTo>
                      <a:pt x="528" y="280"/>
                    </a:lnTo>
                    <a:lnTo>
                      <a:pt x="550" y="258"/>
                    </a:lnTo>
                    <a:lnTo>
                      <a:pt x="573" y="247"/>
                    </a:lnTo>
                    <a:lnTo>
                      <a:pt x="606" y="235"/>
                    </a:lnTo>
                    <a:lnTo>
                      <a:pt x="629" y="214"/>
                    </a:lnTo>
                    <a:lnTo>
                      <a:pt x="662" y="202"/>
                    </a:lnTo>
                    <a:lnTo>
                      <a:pt x="685" y="179"/>
                    </a:lnTo>
                    <a:lnTo>
                      <a:pt x="718" y="167"/>
                    </a:lnTo>
                    <a:lnTo>
                      <a:pt x="718" y="155"/>
                    </a:lnTo>
                    <a:lnTo>
                      <a:pt x="729" y="145"/>
                    </a:lnTo>
                    <a:lnTo>
                      <a:pt x="741" y="134"/>
                    </a:lnTo>
                    <a:lnTo>
                      <a:pt x="751" y="134"/>
                    </a:lnTo>
                    <a:lnTo>
                      <a:pt x="763" y="122"/>
                    </a:lnTo>
                    <a:lnTo>
                      <a:pt x="774" y="111"/>
                    </a:lnTo>
                    <a:lnTo>
                      <a:pt x="786" y="100"/>
                    </a:lnTo>
                    <a:lnTo>
                      <a:pt x="796" y="100"/>
                    </a:lnTo>
                    <a:lnTo>
                      <a:pt x="807" y="89"/>
                    </a:lnTo>
                    <a:lnTo>
                      <a:pt x="819" y="89"/>
                    </a:lnTo>
                    <a:lnTo>
                      <a:pt x="830" y="78"/>
                    </a:lnTo>
                    <a:lnTo>
                      <a:pt x="841" y="78"/>
                    </a:lnTo>
                    <a:lnTo>
                      <a:pt x="852" y="66"/>
                    </a:lnTo>
                    <a:lnTo>
                      <a:pt x="864" y="56"/>
                    </a:lnTo>
                    <a:lnTo>
                      <a:pt x="876" y="44"/>
                    </a:lnTo>
                    <a:lnTo>
                      <a:pt x="887" y="33"/>
                    </a:lnTo>
                    <a:lnTo>
                      <a:pt x="899" y="33"/>
                    </a:lnTo>
                    <a:lnTo>
                      <a:pt x="899" y="22"/>
                    </a:lnTo>
                    <a:lnTo>
                      <a:pt x="909" y="22"/>
                    </a:lnTo>
                    <a:lnTo>
                      <a:pt x="920" y="22"/>
                    </a:lnTo>
                    <a:lnTo>
                      <a:pt x="920" y="10"/>
                    </a:lnTo>
                    <a:lnTo>
                      <a:pt x="932" y="10"/>
                    </a:lnTo>
                    <a:lnTo>
                      <a:pt x="942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968880" y="4305960"/>
                <a:ext cx="146880" cy="335880"/>
              </a:xfrm>
              <a:custGeom>
                <a:avLst/>
                <a:gdLst/>
                <a:ahLst/>
                <a:rect l="l" t="t" r="r" b="b"/>
                <a:pathLst>
                  <a:path w="381" h="862">
                    <a:moveTo>
                      <a:pt x="381" y="0"/>
                    </a:moveTo>
                    <a:lnTo>
                      <a:pt x="348" y="56"/>
                    </a:lnTo>
                    <a:lnTo>
                      <a:pt x="326" y="111"/>
                    </a:lnTo>
                    <a:lnTo>
                      <a:pt x="303" y="167"/>
                    </a:lnTo>
                    <a:lnTo>
                      <a:pt x="269" y="214"/>
                    </a:lnTo>
                    <a:lnTo>
                      <a:pt x="246" y="269"/>
                    </a:lnTo>
                    <a:lnTo>
                      <a:pt x="225" y="325"/>
                    </a:lnTo>
                    <a:lnTo>
                      <a:pt x="202" y="369"/>
                    </a:lnTo>
                    <a:lnTo>
                      <a:pt x="168" y="425"/>
                    </a:lnTo>
                    <a:lnTo>
                      <a:pt x="146" y="481"/>
                    </a:lnTo>
                    <a:lnTo>
                      <a:pt x="124" y="537"/>
                    </a:lnTo>
                    <a:lnTo>
                      <a:pt x="101" y="582"/>
                    </a:lnTo>
                    <a:lnTo>
                      <a:pt x="79" y="639"/>
                    </a:lnTo>
                    <a:lnTo>
                      <a:pt x="56" y="695"/>
                    </a:lnTo>
                    <a:lnTo>
                      <a:pt x="35" y="751"/>
                    </a:lnTo>
                    <a:lnTo>
                      <a:pt x="12" y="806"/>
                    </a:lnTo>
                    <a:lnTo>
                      <a:pt x="0" y="8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968880" y="4642200"/>
                <a:ext cx="72360" cy="532440"/>
              </a:xfrm>
              <a:custGeom>
                <a:avLst/>
                <a:gdLst/>
                <a:ahLst/>
                <a:rect l="l" t="t" r="r" b="b"/>
                <a:pathLst>
                  <a:path w="190" h="1369">
                    <a:moveTo>
                      <a:pt x="0" y="0"/>
                    </a:moveTo>
                    <a:lnTo>
                      <a:pt x="12" y="91"/>
                    </a:lnTo>
                    <a:lnTo>
                      <a:pt x="23" y="169"/>
                    </a:lnTo>
                    <a:lnTo>
                      <a:pt x="35" y="259"/>
                    </a:lnTo>
                    <a:lnTo>
                      <a:pt x="45" y="348"/>
                    </a:lnTo>
                    <a:lnTo>
                      <a:pt x="56" y="427"/>
                    </a:lnTo>
                    <a:lnTo>
                      <a:pt x="68" y="516"/>
                    </a:lnTo>
                    <a:lnTo>
                      <a:pt x="79" y="595"/>
                    </a:lnTo>
                    <a:lnTo>
                      <a:pt x="90" y="685"/>
                    </a:lnTo>
                    <a:lnTo>
                      <a:pt x="112" y="775"/>
                    </a:lnTo>
                    <a:lnTo>
                      <a:pt x="124" y="853"/>
                    </a:lnTo>
                    <a:lnTo>
                      <a:pt x="134" y="942"/>
                    </a:lnTo>
                    <a:lnTo>
                      <a:pt x="146" y="1022"/>
                    </a:lnTo>
                    <a:lnTo>
                      <a:pt x="157" y="1111"/>
                    </a:lnTo>
                    <a:lnTo>
                      <a:pt x="168" y="1200"/>
                    </a:lnTo>
                    <a:lnTo>
                      <a:pt x="180" y="1279"/>
                    </a:lnTo>
                    <a:lnTo>
                      <a:pt x="190" y="13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778080" y="5055840"/>
                <a:ext cx="246960" cy="118800"/>
              </a:xfrm>
              <a:custGeom>
                <a:avLst/>
                <a:gdLst/>
                <a:ahLst/>
                <a:rect l="l" t="t" r="r" b="b"/>
                <a:pathLst>
                  <a:path w="639" h="303">
                    <a:moveTo>
                      <a:pt x="639" y="303"/>
                    </a:moveTo>
                    <a:lnTo>
                      <a:pt x="594" y="291"/>
                    </a:lnTo>
                    <a:lnTo>
                      <a:pt x="549" y="291"/>
                    </a:lnTo>
                    <a:lnTo>
                      <a:pt x="516" y="280"/>
                    </a:lnTo>
                    <a:lnTo>
                      <a:pt x="471" y="268"/>
                    </a:lnTo>
                    <a:lnTo>
                      <a:pt x="427" y="247"/>
                    </a:lnTo>
                    <a:lnTo>
                      <a:pt x="381" y="235"/>
                    </a:lnTo>
                    <a:lnTo>
                      <a:pt x="347" y="213"/>
                    </a:lnTo>
                    <a:lnTo>
                      <a:pt x="302" y="202"/>
                    </a:lnTo>
                    <a:lnTo>
                      <a:pt x="269" y="179"/>
                    </a:lnTo>
                    <a:lnTo>
                      <a:pt x="223" y="157"/>
                    </a:lnTo>
                    <a:lnTo>
                      <a:pt x="190" y="134"/>
                    </a:lnTo>
                    <a:lnTo>
                      <a:pt x="146" y="113"/>
                    </a:lnTo>
                    <a:lnTo>
                      <a:pt x="112" y="90"/>
                    </a:lnTo>
                    <a:lnTo>
                      <a:pt x="79" y="5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759000" y="4988160"/>
                <a:ext cx="18720" cy="6768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45" y="179"/>
                    </a:moveTo>
                    <a:lnTo>
                      <a:pt x="34" y="179"/>
                    </a:lnTo>
                    <a:lnTo>
                      <a:pt x="23" y="168"/>
                    </a:lnTo>
                    <a:lnTo>
                      <a:pt x="23" y="158"/>
                    </a:lnTo>
                    <a:lnTo>
                      <a:pt x="12" y="146"/>
                    </a:lnTo>
                    <a:lnTo>
                      <a:pt x="12" y="135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750000" y="4712760"/>
                <a:ext cx="8640" cy="246960"/>
              </a:xfrm>
              <a:custGeom>
                <a:avLst/>
                <a:gdLst/>
                <a:ahLst/>
                <a:rect l="l" t="t" r="r" b="b"/>
                <a:pathLst>
                  <a:path w="23" h="638">
                    <a:moveTo>
                      <a:pt x="23" y="638"/>
                    </a:moveTo>
                    <a:lnTo>
                      <a:pt x="23" y="594"/>
                    </a:lnTo>
                    <a:lnTo>
                      <a:pt x="12" y="561"/>
                    </a:lnTo>
                    <a:lnTo>
                      <a:pt x="12" y="515"/>
                    </a:lnTo>
                    <a:lnTo>
                      <a:pt x="12" y="482"/>
                    </a:lnTo>
                    <a:lnTo>
                      <a:pt x="12" y="437"/>
                    </a:lnTo>
                    <a:lnTo>
                      <a:pt x="0" y="403"/>
                    </a:lnTo>
                    <a:lnTo>
                      <a:pt x="0" y="357"/>
                    </a:lnTo>
                    <a:lnTo>
                      <a:pt x="0" y="312"/>
                    </a:lnTo>
                    <a:lnTo>
                      <a:pt x="0" y="279"/>
                    </a:lnTo>
                    <a:lnTo>
                      <a:pt x="12" y="235"/>
                    </a:lnTo>
                    <a:lnTo>
                      <a:pt x="12" y="201"/>
                    </a:lnTo>
                    <a:lnTo>
                      <a:pt x="12" y="157"/>
                    </a:lnTo>
                    <a:lnTo>
                      <a:pt x="12" y="122"/>
                    </a:lnTo>
                    <a:lnTo>
                      <a:pt x="12" y="78"/>
                    </a:lnTo>
                    <a:lnTo>
                      <a:pt x="12" y="4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754680" y="4598280"/>
                <a:ext cx="48600" cy="114120"/>
              </a:xfrm>
              <a:custGeom>
                <a:avLst/>
                <a:gdLst/>
                <a:ahLst/>
                <a:rect l="l" t="t" r="r" b="b"/>
                <a:pathLst>
                  <a:path w="124" h="292">
                    <a:moveTo>
                      <a:pt x="0" y="292"/>
                    </a:moveTo>
                    <a:lnTo>
                      <a:pt x="11" y="280"/>
                    </a:lnTo>
                    <a:lnTo>
                      <a:pt x="23" y="257"/>
                    </a:lnTo>
                    <a:lnTo>
                      <a:pt x="23" y="235"/>
                    </a:lnTo>
                    <a:lnTo>
                      <a:pt x="34" y="223"/>
                    </a:lnTo>
                    <a:lnTo>
                      <a:pt x="45" y="202"/>
                    </a:lnTo>
                    <a:lnTo>
                      <a:pt x="45" y="179"/>
                    </a:lnTo>
                    <a:lnTo>
                      <a:pt x="56" y="167"/>
                    </a:lnTo>
                    <a:lnTo>
                      <a:pt x="68" y="146"/>
                    </a:lnTo>
                    <a:lnTo>
                      <a:pt x="68" y="134"/>
                    </a:lnTo>
                    <a:lnTo>
                      <a:pt x="79" y="111"/>
                    </a:lnTo>
                    <a:lnTo>
                      <a:pt x="79" y="90"/>
                    </a:lnTo>
                    <a:lnTo>
                      <a:pt x="89" y="78"/>
                    </a:lnTo>
                    <a:lnTo>
                      <a:pt x="101" y="55"/>
                    </a:lnTo>
                    <a:lnTo>
                      <a:pt x="101" y="34"/>
                    </a:lnTo>
                    <a:lnTo>
                      <a:pt x="112" y="22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803280" y="4467600"/>
                <a:ext cx="55800" cy="130680"/>
              </a:xfrm>
              <a:custGeom>
                <a:avLst/>
                <a:gdLst/>
                <a:ahLst/>
                <a:rect l="l" t="t" r="r" b="b"/>
                <a:pathLst>
                  <a:path w="145" h="337">
                    <a:moveTo>
                      <a:pt x="0" y="337"/>
                    </a:moveTo>
                    <a:lnTo>
                      <a:pt x="11" y="314"/>
                    </a:lnTo>
                    <a:lnTo>
                      <a:pt x="11" y="293"/>
                    </a:lnTo>
                    <a:lnTo>
                      <a:pt x="21" y="270"/>
                    </a:lnTo>
                    <a:lnTo>
                      <a:pt x="33" y="248"/>
                    </a:lnTo>
                    <a:lnTo>
                      <a:pt x="33" y="237"/>
                    </a:lnTo>
                    <a:lnTo>
                      <a:pt x="44" y="214"/>
                    </a:lnTo>
                    <a:lnTo>
                      <a:pt x="44" y="190"/>
                    </a:lnTo>
                    <a:lnTo>
                      <a:pt x="56" y="168"/>
                    </a:lnTo>
                    <a:lnTo>
                      <a:pt x="56" y="145"/>
                    </a:lnTo>
                    <a:lnTo>
                      <a:pt x="66" y="123"/>
                    </a:lnTo>
                    <a:lnTo>
                      <a:pt x="78" y="101"/>
                    </a:lnTo>
                    <a:lnTo>
                      <a:pt x="89" y="79"/>
                    </a:lnTo>
                    <a:lnTo>
                      <a:pt x="100" y="56"/>
                    </a:lnTo>
                    <a:lnTo>
                      <a:pt x="112" y="34"/>
                    </a:lnTo>
                    <a:lnTo>
                      <a:pt x="122" y="23"/>
                    </a:lnTo>
                    <a:lnTo>
                      <a:pt x="1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859440" y="4371840"/>
                <a:ext cx="170280" cy="95760"/>
              </a:xfrm>
              <a:custGeom>
                <a:avLst/>
                <a:gdLst/>
                <a:ahLst/>
                <a:rect l="l" t="t" r="r" b="b"/>
                <a:pathLst>
                  <a:path w="437" h="247">
                    <a:moveTo>
                      <a:pt x="0" y="247"/>
                    </a:moveTo>
                    <a:lnTo>
                      <a:pt x="22" y="237"/>
                    </a:lnTo>
                    <a:lnTo>
                      <a:pt x="56" y="214"/>
                    </a:lnTo>
                    <a:lnTo>
                      <a:pt x="78" y="202"/>
                    </a:lnTo>
                    <a:lnTo>
                      <a:pt x="101" y="180"/>
                    </a:lnTo>
                    <a:lnTo>
                      <a:pt x="134" y="169"/>
                    </a:lnTo>
                    <a:lnTo>
                      <a:pt x="157" y="158"/>
                    </a:lnTo>
                    <a:lnTo>
                      <a:pt x="191" y="136"/>
                    </a:lnTo>
                    <a:lnTo>
                      <a:pt x="214" y="124"/>
                    </a:lnTo>
                    <a:lnTo>
                      <a:pt x="247" y="113"/>
                    </a:lnTo>
                    <a:lnTo>
                      <a:pt x="269" y="91"/>
                    </a:lnTo>
                    <a:lnTo>
                      <a:pt x="292" y="80"/>
                    </a:lnTo>
                    <a:lnTo>
                      <a:pt x="325" y="68"/>
                    </a:lnTo>
                    <a:lnTo>
                      <a:pt x="348" y="47"/>
                    </a:lnTo>
                    <a:lnTo>
                      <a:pt x="381" y="35"/>
                    </a:lnTo>
                    <a:lnTo>
                      <a:pt x="404" y="12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7403040" y="4345920"/>
                <a:ext cx="349920" cy="763200"/>
              </a:xfrm>
              <a:custGeom>
                <a:avLst/>
                <a:gdLst/>
                <a:ahLst/>
                <a:rect l="l" t="t" r="r" b="b"/>
                <a:pathLst>
                  <a:path w="898" h="1962">
                    <a:moveTo>
                      <a:pt x="742" y="90"/>
                    </a:moveTo>
                    <a:lnTo>
                      <a:pt x="752" y="90"/>
                    </a:lnTo>
                    <a:lnTo>
                      <a:pt x="752" y="102"/>
                    </a:lnTo>
                    <a:lnTo>
                      <a:pt x="763" y="102"/>
                    </a:lnTo>
                    <a:lnTo>
                      <a:pt x="775" y="114"/>
                    </a:lnTo>
                    <a:lnTo>
                      <a:pt x="786" y="114"/>
                    </a:lnTo>
                    <a:lnTo>
                      <a:pt x="786" y="124"/>
                    </a:lnTo>
                    <a:lnTo>
                      <a:pt x="797" y="124"/>
                    </a:lnTo>
                    <a:lnTo>
                      <a:pt x="808" y="124"/>
                    </a:lnTo>
                    <a:lnTo>
                      <a:pt x="819" y="135"/>
                    </a:lnTo>
                    <a:lnTo>
                      <a:pt x="831" y="147"/>
                    </a:lnTo>
                    <a:lnTo>
                      <a:pt x="831" y="158"/>
                    </a:lnTo>
                    <a:lnTo>
                      <a:pt x="841" y="158"/>
                    </a:lnTo>
                    <a:lnTo>
                      <a:pt x="841" y="169"/>
                    </a:lnTo>
                    <a:lnTo>
                      <a:pt x="841" y="180"/>
                    </a:lnTo>
                    <a:lnTo>
                      <a:pt x="853" y="191"/>
                    </a:lnTo>
                    <a:lnTo>
                      <a:pt x="841" y="213"/>
                    </a:lnTo>
                    <a:lnTo>
                      <a:pt x="841" y="236"/>
                    </a:lnTo>
                    <a:lnTo>
                      <a:pt x="841" y="269"/>
                    </a:lnTo>
                    <a:lnTo>
                      <a:pt x="831" y="292"/>
                    </a:lnTo>
                    <a:lnTo>
                      <a:pt x="831" y="314"/>
                    </a:lnTo>
                    <a:lnTo>
                      <a:pt x="831" y="348"/>
                    </a:lnTo>
                    <a:lnTo>
                      <a:pt x="831" y="370"/>
                    </a:lnTo>
                    <a:lnTo>
                      <a:pt x="819" y="404"/>
                    </a:lnTo>
                    <a:lnTo>
                      <a:pt x="819" y="426"/>
                    </a:lnTo>
                    <a:lnTo>
                      <a:pt x="819" y="459"/>
                    </a:lnTo>
                    <a:lnTo>
                      <a:pt x="819" y="482"/>
                    </a:lnTo>
                    <a:lnTo>
                      <a:pt x="819" y="516"/>
                    </a:lnTo>
                    <a:lnTo>
                      <a:pt x="819" y="539"/>
                    </a:lnTo>
                    <a:lnTo>
                      <a:pt x="831" y="562"/>
                    </a:lnTo>
                    <a:lnTo>
                      <a:pt x="831" y="595"/>
                    </a:lnTo>
                    <a:lnTo>
                      <a:pt x="831" y="617"/>
                    </a:lnTo>
                    <a:lnTo>
                      <a:pt x="831" y="706"/>
                    </a:lnTo>
                    <a:lnTo>
                      <a:pt x="831" y="785"/>
                    </a:lnTo>
                    <a:lnTo>
                      <a:pt x="831" y="863"/>
                    </a:lnTo>
                    <a:lnTo>
                      <a:pt x="831" y="954"/>
                    </a:lnTo>
                    <a:lnTo>
                      <a:pt x="831" y="1032"/>
                    </a:lnTo>
                    <a:lnTo>
                      <a:pt x="831" y="1122"/>
                    </a:lnTo>
                    <a:lnTo>
                      <a:pt x="831" y="1199"/>
                    </a:lnTo>
                    <a:lnTo>
                      <a:pt x="841" y="1278"/>
                    </a:lnTo>
                    <a:lnTo>
                      <a:pt x="841" y="1369"/>
                    </a:lnTo>
                    <a:lnTo>
                      <a:pt x="853" y="1447"/>
                    </a:lnTo>
                    <a:lnTo>
                      <a:pt x="853" y="1537"/>
                    </a:lnTo>
                    <a:lnTo>
                      <a:pt x="865" y="1615"/>
                    </a:lnTo>
                    <a:lnTo>
                      <a:pt x="865" y="1694"/>
                    </a:lnTo>
                    <a:lnTo>
                      <a:pt x="876" y="1784"/>
                    </a:lnTo>
                    <a:lnTo>
                      <a:pt x="888" y="1862"/>
                    </a:lnTo>
                    <a:lnTo>
                      <a:pt x="888" y="1941"/>
                    </a:lnTo>
                    <a:lnTo>
                      <a:pt x="898" y="1951"/>
                    </a:lnTo>
                    <a:lnTo>
                      <a:pt x="888" y="1962"/>
                    </a:lnTo>
                    <a:lnTo>
                      <a:pt x="876" y="1962"/>
                    </a:lnTo>
                    <a:lnTo>
                      <a:pt x="865" y="1962"/>
                    </a:lnTo>
                    <a:lnTo>
                      <a:pt x="865" y="1951"/>
                    </a:lnTo>
                    <a:lnTo>
                      <a:pt x="853" y="1951"/>
                    </a:lnTo>
                    <a:lnTo>
                      <a:pt x="853" y="1941"/>
                    </a:lnTo>
                    <a:lnTo>
                      <a:pt x="841" y="1941"/>
                    </a:lnTo>
                    <a:lnTo>
                      <a:pt x="841" y="1929"/>
                    </a:lnTo>
                    <a:lnTo>
                      <a:pt x="786" y="1828"/>
                    </a:lnTo>
                    <a:lnTo>
                      <a:pt x="730" y="1738"/>
                    </a:lnTo>
                    <a:lnTo>
                      <a:pt x="686" y="1637"/>
                    </a:lnTo>
                    <a:lnTo>
                      <a:pt x="629" y="1537"/>
                    </a:lnTo>
                    <a:lnTo>
                      <a:pt x="573" y="1447"/>
                    </a:lnTo>
                    <a:lnTo>
                      <a:pt x="517" y="1346"/>
                    </a:lnTo>
                    <a:lnTo>
                      <a:pt x="473" y="1245"/>
                    </a:lnTo>
                    <a:lnTo>
                      <a:pt x="416" y="1156"/>
                    </a:lnTo>
                    <a:lnTo>
                      <a:pt x="360" y="1055"/>
                    </a:lnTo>
                    <a:lnTo>
                      <a:pt x="304" y="954"/>
                    </a:lnTo>
                    <a:lnTo>
                      <a:pt x="259" y="863"/>
                    </a:lnTo>
                    <a:lnTo>
                      <a:pt x="203" y="762"/>
                    </a:lnTo>
                    <a:lnTo>
                      <a:pt x="148" y="663"/>
                    </a:lnTo>
                    <a:lnTo>
                      <a:pt x="102" y="562"/>
                    </a:lnTo>
                    <a:lnTo>
                      <a:pt x="47" y="471"/>
                    </a:lnTo>
                    <a:lnTo>
                      <a:pt x="0" y="370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35" y="325"/>
                    </a:lnTo>
                    <a:lnTo>
                      <a:pt x="69" y="314"/>
                    </a:lnTo>
                    <a:lnTo>
                      <a:pt x="102" y="292"/>
                    </a:lnTo>
                    <a:lnTo>
                      <a:pt x="136" y="281"/>
                    </a:lnTo>
                    <a:lnTo>
                      <a:pt x="170" y="259"/>
                    </a:lnTo>
                    <a:lnTo>
                      <a:pt x="203" y="236"/>
                    </a:lnTo>
                    <a:lnTo>
                      <a:pt x="237" y="225"/>
                    </a:lnTo>
                    <a:lnTo>
                      <a:pt x="270" y="203"/>
                    </a:lnTo>
                    <a:lnTo>
                      <a:pt x="304" y="180"/>
                    </a:lnTo>
                    <a:lnTo>
                      <a:pt x="338" y="169"/>
                    </a:lnTo>
                    <a:lnTo>
                      <a:pt x="371" y="147"/>
                    </a:lnTo>
                    <a:lnTo>
                      <a:pt x="404" y="124"/>
                    </a:lnTo>
                    <a:lnTo>
                      <a:pt x="439" y="102"/>
                    </a:lnTo>
                    <a:lnTo>
                      <a:pt x="461" y="90"/>
                    </a:lnTo>
                    <a:lnTo>
                      <a:pt x="496" y="67"/>
                    </a:lnTo>
                    <a:lnTo>
                      <a:pt x="529" y="45"/>
                    </a:lnTo>
                    <a:lnTo>
                      <a:pt x="540" y="45"/>
                    </a:lnTo>
                    <a:lnTo>
                      <a:pt x="552" y="34"/>
                    </a:lnTo>
                    <a:lnTo>
                      <a:pt x="562" y="34"/>
                    </a:lnTo>
                    <a:lnTo>
                      <a:pt x="573" y="22"/>
                    </a:lnTo>
                    <a:lnTo>
                      <a:pt x="585" y="22"/>
                    </a:lnTo>
                    <a:lnTo>
                      <a:pt x="595" y="22"/>
                    </a:lnTo>
                    <a:lnTo>
                      <a:pt x="595" y="11"/>
                    </a:lnTo>
                    <a:lnTo>
                      <a:pt x="607" y="11"/>
                    </a:lnTo>
                    <a:lnTo>
                      <a:pt x="618" y="11"/>
                    </a:lnTo>
                    <a:lnTo>
                      <a:pt x="629" y="0"/>
                    </a:lnTo>
                    <a:lnTo>
                      <a:pt x="641" y="0"/>
                    </a:lnTo>
                    <a:lnTo>
                      <a:pt x="742" y="9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7723080" y="4421160"/>
                <a:ext cx="13680" cy="165600"/>
              </a:xfrm>
              <a:custGeom>
                <a:avLst/>
                <a:gdLst/>
                <a:ahLst/>
                <a:rect l="l" t="t" r="r" b="b"/>
                <a:pathLst>
                  <a:path w="34" h="426">
                    <a:moveTo>
                      <a:pt x="34" y="0"/>
                    </a:moveTo>
                    <a:lnTo>
                      <a:pt x="22" y="22"/>
                    </a:lnTo>
                    <a:lnTo>
                      <a:pt x="22" y="45"/>
                    </a:lnTo>
                    <a:lnTo>
                      <a:pt x="22" y="78"/>
                    </a:lnTo>
                    <a:lnTo>
                      <a:pt x="12" y="101"/>
                    </a:lnTo>
                    <a:lnTo>
                      <a:pt x="12" y="123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25"/>
                    </a:lnTo>
                    <a:lnTo>
                      <a:pt x="0" y="348"/>
                    </a:lnTo>
                    <a:lnTo>
                      <a:pt x="12" y="371"/>
                    </a:lnTo>
                    <a:lnTo>
                      <a:pt x="12" y="404"/>
                    </a:lnTo>
                    <a:lnTo>
                      <a:pt x="12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7727400" y="4586760"/>
                <a:ext cx="20880" cy="513360"/>
              </a:xfrm>
              <a:custGeom>
                <a:avLst/>
                <a:gdLst/>
                <a:ahLst/>
                <a:rect l="l" t="t" r="r" b="b"/>
                <a:pathLst>
                  <a:path w="57" h="1324">
                    <a:moveTo>
                      <a:pt x="0" y="0"/>
                    </a:moveTo>
                    <a:lnTo>
                      <a:pt x="0" y="89"/>
                    </a:lnTo>
                    <a:lnTo>
                      <a:pt x="0" y="168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0" y="415"/>
                    </a:lnTo>
                    <a:lnTo>
                      <a:pt x="0" y="505"/>
                    </a:lnTo>
                    <a:lnTo>
                      <a:pt x="0" y="582"/>
                    </a:lnTo>
                    <a:lnTo>
                      <a:pt x="10" y="661"/>
                    </a:lnTo>
                    <a:lnTo>
                      <a:pt x="10" y="752"/>
                    </a:lnTo>
                    <a:lnTo>
                      <a:pt x="22" y="830"/>
                    </a:lnTo>
                    <a:lnTo>
                      <a:pt x="22" y="920"/>
                    </a:lnTo>
                    <a:lnTo>
                      <a:pt x="34" y="998"/>
                    </a:lnTo>
                    <a:lnTo>
                      <a:pt x="34" y="1077"/>
                    </a:lnTo>
                    <a:lnTo>
                      <a:pt x="45" y="1167"/>
                    </a:lnTo>
                    <a:lnTo>
                      <a:pt x="57" y="1245"/>
                    </a:lnTo>
                    <a:lnTo>
                      <a:pt x="57" y="1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7403040" y="4491000"/>
                <a:ext cx="329040" cy="604440"/>
              </a:xfrm>
              <a:custGeom>
                <a:avLst/>
                <a:gdLst/>
                <a:ahLst/>
                <a:rect l="l" t="t" r="r" b="b"/>
                <a:pathLst>
                  <a:path w="841" h="1559">
                    <a:moveTo>
                      <a:pt x="841" y="1559"/>
                    </a:moveTo>
                    <a:lnTo>
                      <a:pt x="786" y="1458"/>
                    </a:lnTo>
                    <a:lnTo>
                      <a:pt x="730" y="1368"/>
                    </a:lnTo>
                    <a:lnTo>
                      <a:pt x="686" y="1267"/>
                    </a:lnTo>
                    <a:lnTo>
                      <a:pt x="629" y="1167"/>
                    </a:lnTo>
                    <a:lnTo>
                      <a:pt x="573" y="1077"/>
                    </a:lnTo>
                    <a:lnTo>
                      <a:pt x="517" y="976"/>
                    </a:lnTo>
                    <a:lnTo>
                      <a:pt x="473" y="875"/>
                    </a:lnTo>
                    <a:lnTo>
                      <a:pt x="416" y="786"/>
                    </a:lnTo>
                    <a:lnTo>
                      <a:pt x="360" y="685"/>
                    </a:lnTo>
                    <a:lnTo>
                      <a:pt x="304" y="584"/>
                    </a:lnTo>
                    <a:lnTo>
                      <a:pt x="259" y="493"/>
                    </a:lnTo>
                    <a:lnTo>
                      <a:pt x="203" y="392"/>
                    </a:lnTo>
                    <a:lnTo>
                      <a:pt x="148" y="293"/>
                    </a:lnTo>
                    <a:lnTo>
                      <a:pt x="102" y="192"/>
                    </a:lnTo>
                    <a:lnTo>
                      <a:pt x="47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7403040" y="436212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529" h="303">
                    <a:moveTo>
                      <a:pt x="0" y="303"/>
                    </a:moveTo>
                    <a:lnTo>
                      <a:pt x="35" y="280"/>
                    </a:lnTo>
                    <a:lnTo>
                      <a:pt x="69" y="269"/>
                    </a:lnTo>
                    <a:lnTo>
                      <a:pt x="102" y="247"/>
                    </a:lnTo>
                    <a:lnTo>
                      <a:pt x="136" y="236"/>
                    </a:lnTo>
                    <a:lnTo>
                      <a:pt x="170" y="214"/>
                    </a:lnTo>
                    <a:lnTo>
                      <a:pt x="203" y="191"/>
                    </a:lnTo>
                    <a:lnTo>
                      <a:pt x="237" y="180"/>
                    </a:lnTo>
                    <a:lnTo>
                      <a:pt x="270" y="158"/>
                    </a:lnTo>
                    <a:lnTo>
                      <a:pt x="304" y="135"/>
                    </a:lnTo>
                    <a:lnTo>
                      <a:pt x="338" y="124"/>
                    </a:lnTo>
                    <a:lnTo>
                      <a:pt x="371" y="102"/>
                    </a:lnTo>
                    <a:lnTo>
                      <a:pt x="404" y="79"/>
                    </a:lnTo>
                    <a:lnTo>
                      <a:pt x="439" y="57"/>
                    </a:lnTo>
                    <a:lnTo>
                      <a:pt x="461" y="45"/>
                    </a:lnTo>
                    <a:lnTo>
                      <a:pt x="496" y="22"/>
                    </a:lnTo>
                    <a:lnTo>
                      <a:pt x="5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7426800" y="4367160"/>
                <a:ext cx="309960" cy="702360"/>
              </a:xfrm>
              <a:custGeom>
                <a:avLst/>
                <a:gdLst/>
                <a:ahLst/>
                <a:rect l="l" t="t" r="r" b="b"/>
                <a:pathLst>
                  <a:path w="796" h="1807">
                    <a:moveTo>
                      <a:pt x="650" y="80"/>
                    </a:moveTo>
                    <a:lnTo>
                      <a:pt x="650" y="92"/>
                    </a:lnTo>
                    <a:lnTo>
                      <a:pt x="662" y="92"/>
                    </a:lnTo>
                    <a:lnTo>
                      <a:pt x="673" y="103"/>
                    </a:lnTo>
                    <a:lnTo>
                      <a:pt x="685" y="103"/>
                    </a:lnTo>
                    <a:lnTo>
                      <a:pt x="695" y="114"/>
                    </a:lnTo>
                    <a:lnTo>
                      <a:pt x="706" y="114"/>
                    </a:lnTo>
                    <a:lnTo>
                      <a:pt x="718" y="125"/>
                    </a:lnTo>
                    <a:lnTo>
                      <a:pt x="729" y="125"/>
                    </a:lnTo>
                    <a:lnTo>
                      <a:pt x="729" y="136"/>
                    </a:lnTo>
                    <a:lnTo>
                      <a:pt x="740" y="136"/>
                    </a:lnTo>
                    <a:lnTo>
                      <a:pt x="740" y="148"/>
                    </a:lnTo>
                    <a:lnTo>
                      <a:pt x="740" y="214"/>
                    </a:lnTo>
                    <a:lnTo>
                      <a:pt x="729" y="270"/>
                    </a:lnTo>
                    <a:lnTo>
                      <a:pt x="729" y="338"/>
                    </a:lnTo>
                    <a:lnTo>
                      <a:pt x="729" y="404"/>
                    </a:lnTo>
                    <a:lnTo>
                      <a:pt x="729" y="473"/>
                    </a:lnTo>
                    <a:lnTo>
                      <a:pt x="729" y="540"/>
                    </a:lnTo>
                    <a:lnTo>
                      <a:pt x="729" y="608"/>
                    </a:lnTo>
                    <a:lnTo>
                      <a:pt x="729" y="674"/>
                    </a:lnTo>
                    <a:lnTo>
                      <a:pt x="729" y="742"/>
                    </a:lnTo>
                    <a:lnTo>
                      <a:pt x="740" y="808"/>
                    </a:lnTo>
                    <a:lnTo>
                      <a:pt x="740" y="876"/>
                    </a:lnTo>
                    <a:lnTo>
                      <a:pt x="740" y="944"/>
                    </a:lnTo>
                    <a:lnTo>
                      <a:pt x="740" y="1010"/>
                    </a:lnTo>
                    <a:lnTo>
                      <a:pt x="740" y="1078"/>
                    </a:lnTo>
                    <a:lnTo>
                      <a:pt x="740" y="1144"/>
                    </a:lnTo>
                    <a:lnTo>
                      <a:pt x="740" y="1212"/>
                    </a:lnTo>
                    <a:lnTo>
                      <a:pt x="796" y="1807"/>
                    </a:lnTo>
                    <a:lnTo>
                      <a:pt x="774" y="1752"/>
                    </a:lnTo>
                    <a:lnTo>
                      <a:pt x="740" y="1705"/>
                    </a:lnTo>
                    <a:lnTo>
                      <a:pt x="718" y="1660"/>
                    </a:lnTo>
                    <a:lnTo>
                      <a:pt x="695" y="1616"/>
                    </a:lnTo>
                    <a:lnTo>
                      <a:pt x="662" y="1560"/>
                    </a:lnTo>
                    <a:lnTo>
                      <a:pt x="639" y="1515"/>
                    </a:lnTo>
                    <a:lnTo>
                      <a:pt x="617" y="1470"/>
                    </a:lnTo>
                    <a:lnTo>
                      <a:pt x="584" y="1426"/>
                    </a:lnTo>
                    <a:lnTo>
                      <a:pt x="561" y="1370"/>
                    </a:lnTo>
                    <a:lnTo>
                      <a:pt x="538" y="1325"/>
                    </a:lnTo>
                    <a:lnTo>
                      <a:pt x="505" y="1279"/>
                    </a:lnTo>
                    <a:lnTo>
                      <a:pt x="483" y="1235"/>
                    </a:lnTo>
                    <a:lnTo>
                      <a:pt x="460" y="1179"/>
                    </a:lnTo>
                    <a:lnTo>
                      <a:pt x="427" y="1134"/>
                    </a:lnTo>
                    <a:lnTo>
                      <a:pt x="404" y="1089"/>
                    </a:lnTo>
                    <a:lnTo>
                      <a:pt x="382" y="1033"/>
                    </a:lnTo>
                    <a:lnTo>
                      <a:pt x="370" y="1010"/>
                    </a:lnTo>
                    <a:lnTo>
                      <a:pt x="347" y="989"/>
                    </a:lnTo>
                    <a:lnTo>
                      <a:pt x="337" y="966"/>
                    </a:lnTo>
                    <a:lnTo>
                      <a:pt x="325" y="944"/>
                    </a:lnTo>
                    <a:lnTo>
                      <a:pt x="314" y="910"/>
                    </a:lnTo>
                    <a:lnTo>
                      <a:pt x="303" y="888"/>
                    </a:lnTo>
                    <a:lnTo>
                      <a:pt x="291" y="864"/>
                    </a:lnTo>
                    <a:lnTo>
                      <a:pt x="269" y="842"/>
                    </a:lnTo>
                    <a:lnTo>
                      <a:pt x="258" y="819"/>
                    </a:lnTo>
                    <a:lnTo>
                      <a:pt x="247" y="798"/>
                    </a:lnTo>
                    <a:lnTo>
                      <a:pt x="236" y="775"/>
                    </a:lnTo>
                    <a:lnTo>
                      <a:pt x="225" y="742"/>
                    </a:lnTo>
                    <a:lnTo>
                      <a:pt x="213" y="719"/>
                    </a:lnTo>
                    <a:lnTo>
                      <a:pt x="202" y="697"/>
                    </a:lnTo>
                    <a:lnTo>
                      <a:pt x="190" y="674"/>
                    </a:lnTo>
                    <a:lnTo>
                      <a:pt x="180" y="651"/>
                    </a:lnTo>
                    <a:lnTo>
                      <a:pt x="169" y="630"/>
                    </a:lnTo>
                    <a:lnTo>
                      <a:pt x="157" y="608"/>
                    </a:lnTo>
                    <a:lnTo>
                      <a:pt x="146" y="585"/>
                    </a:lnTo>
                    <a:lnTo>
                      <a:pt x="135" y="573"/>
                    </a:lnTo>
                    <a:lnTo>
                      <a:pt x="124" y="552"/>
                    </a:lnTo>
                    <a:lnTo>
                      <a:pt x="113" y="529"/>
                    </a:lnTo>
                    <a:lnTo>
                      <a:pt x="101" y="507"/>
                    </a:lnTo>
                    <a:lnTo>
                      <a:pt x="91" y="484"/>
                    </a:lnTo>
                    <a:lnTo>
                      <a:pt x="79" y="473"/>
                    </a:lnTo>
                    <a:lnTo>
                      <a:pt x="68" y="449"/>
                    </a:lnTo>
                    <a:lnTo>
                      <a:pt x="57" y="427"/>
                    </a:lnTo>
                    <a:lnTo>
                      <a:pt x="45" y="404"/>
                    </a:lnTo>
                    <a:lnTo>
                      <a:pt x="35" y="394"/>
                    </a:lnTo>
                    <a:lnTo>
                      <a:pt x="23" y="371"/>
                    </a:lnTo>
                    <a:lnTo>
                      <a:pt x="12" y="349"/>
                    </a:lnTo>
                    <a:lnTo>
                      <a:pt x="0" y="326"/>
                    </a:lnTo>
                    <a:lnTo>
                      <a:pt x="0" y="315"/>
                    </a:lnTo>
                    <a:lnTo>
                      <a:pt x="12" y="315"/>
                    </a:lnTo>
                    <a:lnTo>
                      <a:pt x="23" y="305"/>
                    </a:lnTo>
                    <a:lnTo>
                      <a:pt x="23" y="293"/>
                    </a:lnTo>
                    <a:lnTo>
                      <a:pt x="35" y="293"/>
                    </a:lnTo>
                    <a:lnTo>
                      <a:pt x="45" y="282"/>
                    </a:lnTo>
                    <a:lnTo>
                      <a:pt x="57" y="282"/>
                    </a:lnTo>
                    <a:lnTo>
                      <a:pt x="68" y="270"/>
                    </a:lnTo>
                    <a:lnTo>
                      <a:pt x="79" y="270"/>
                    </a:lnTo>
                    <a:lnTo>
                      <a:pt x="91" y="259"/>
                    </a:lnTo>
                    <a:lnTo>
                      <a:pt x="101" y="259"/>
                    </a:lnTo>
                    <a:lnTo>
                      <a:pt x="113" y="259"/>
                    </a:lnTo>
                    <a:lnTo>
                      <a:pt x="124" y="249"/>
                    </a:lnTo>
                    <a:lnTo>
                      <a:pt x="135" y="249"/>
                    </a:lnTo>
                    <a:lnTo>
                      <a:pt x="135" y="237"/>
                    </a:lnTo>
                    <a:lnTo>
                      <a:pt x="146" y="226"/>
                    </a:lnTo>
                    <a:lnTo>
                      <a:pt x="169" y="214"/>
                    </a:lnTo>
                    <a:lnTo>
                      <a:pt x="202" y="204"/>
                    </a:lnTo>
                    <a:lnTo>
                      <a:pt x="225" y="192"/>
                    </a:lnTo>
                    <a:lnTo>
                      <a:pt x="247" y="170"/>
                    </a:lnTo>
                    <a:lnTo>
                      <a:pt x="269" y="158"/>
                    </a:lnTo>
                    <a:lnTo>
                      <a:pt x="291" y="148"/>
                    </a:lnTo>
                    <a:lnTo>
                      <a:pt x="314" y="136"/>
                    </a:lnTo>
                    <a:lnTo>
                      <a:pt x="337" y="114"/>
                    </a:lnTo>
                    <a:lnTo>
                      <a:pt x="370" y="103"/>
                    </a:lnTo>
                    <a:lnTo>
                      <a:pt x="392" y="92"/>
                    </a:lnTo>
                    <a:lnTo>
                      <a:pt x="416" y="80"/>
                    </a:lnTo>
                    <a:lnTo>
                      <a:pt x="439" y="59"/>
                    </a:lnTo>
                    <a:lnTo>
                      <a:pt x="460" y="47"/>
                    </a:lnTo>
                    <a:lnTo>
                      <a:pt x="483" y="35"/>
                    </a:lnTo>
                    <a:lnTo>
                      <a:pt x="516" y="24"/>
                    </a:lnTo>
                    <a:lnTo>
                      <a:pt x="538" y="0"/>
                    </a:lnTo>
                    <a:lnTo>
                      <a:pt x="550" y="12"/>
                    </a:lnTo>
                    <a:lnTo>
                      <a:pt x="561" y="12"/>
                    </a:lnTo>
                    <a:lnTo>
                      <a:pt x="572" y="12"/>
                    </a:lnTo>
                    <a:lnTo>
                      <a:pt x="572" y="24"/>
                    </a:lnTo>
                    <a:lnTo>
                      <a:pt x="584" y="24"/>
                    </a:lnTo>
                    <a:lnTo>
                      <a:pt x="584" y="35"/>
                    </a:lnTo>
                    <a:lnTo>
                      <a:pt x="594" y="35"/>
                    </a:lnTo>
                    <a:lnTo>
                      <a:pt x="594" y="47"/>
                    </a:lnTo>
                    <a:lnTo>
                      <a:pt x="606" y="59"/>
                    </a:lnTo>
                    <a:lnTo>
                      <a:pt x="617" y="59"/>
                    </a:lnTo>
                    <a:lnTo>
                      <a:pt x="617" y="69"/>
                    </a:lnTo>
                    <a:lnTo>
                      <a:pt x="629" y="69"/>
                    </a:lnTo>
                    <a:lnTo>
                      <a:pt x="629" y="80"/>
                    </a:lnTo>
                    <a:lnTo>
                      <a:pt x="639" y="80"/>
                    </a:lnTo>
                    <a:lnTo>
                      <a:pt x="650" y="8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7708680" y="4425120"/>
                <a:ext cx="4680" cy="413280"/>
              </a:xfrm>
              <a:custGeom>
                <a:avLst/>
                <a:gdLst/>
                <a:ahLst/>
                <a:rect l="l" t="t" r="r" b="b"/>
                <a:pathLst>
                  <a:path w="11" h="1064">
                    <a:moveTo>
                      <a:pt x="11" y="0"/>
                    </a:moveTo>
                    <a:lnTo>
                      <a:pt x="11" y="66"/>
                    </a:lnTo>
                    <a:lnTo>
                      <a:pt x="0" y="122"/>
                    </a:lnTo>
                    <a:lnTo>
                      <a:pt x="0" y="190"/>
                    </a:lnTo>
                    <a:lnTo>
                      <a:pt x="0" y="256"/>
                    </a:lnTo>
                    <a:lnTo>
                      <a:pt x="0" y="325"/>
                    </a:lnTo>
                    <a:lnTo>
                      <a:pt x="0" y="392"/>
                    </a:lnTo>
                    <a:lnTo>
                      <a:pt x="0" y="460"/>
                    </a:lnTo>
                    <a:lnTo>
                      <a:pt x="0" y="526"/>
                    </a:lnTo>
                    <a:lnTo>
                      <a:pt x="0" y="594"/>
                    </a:lnTo>
                    <a:lnTo>
                      <a:pt x="11" y="660"/>
                    </a:lnTo>
                    <a:lnTo>
                      <a:pt x="11" y="728"/>
                    </a:lnTo>
                    <a:lnTo>
                      <a:pt x="11" y="796"/>
                    </a:lnTo>
                    <a:lnTo>
                      <a:pt x="11" y="862"/>
                    </a:lnTo>
                    <a:lnTo>
                      <a:pt x="11" y="930"/>
                    </a:lnTo>
                    <a:lnTo>
                      <a:pt x="11" y="996"/>
                    </a:lnTo>
                    <a:lnTo>
                      <a:pt x="11" y="10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7713360" y="4838760"/>
                <a:ext cx="23040" cy="2307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7573320" y="4768920"/>
                <a:ext cx="163440" cy="300600"/>
              </a:xfrm>
              <a:custGeom>
                <a:avLst/>
                <a:gdLst/>
                <a:ahLst/>
                <a:rect l="l" t="t" r="r" b="b"/>
                <a:pathLst>
                  <a:path w="414" h="774">
                    <a:moveTo>
                      <a:pt x="414" y="774"/>
                    </a:moveTo>
                    <a:lnTo>
                      <a:pt x="392" y="719"/>
                    </a:lnTo>
                    <a:lnTo>
                      <a:pt x="358" y="672"/>
                    </a:lnTo>
                    <a:lnTo>
                      <a:pt x="336" y="627"/>
                    </a:lnTo>
                    <a:lnTo>
                      <a:pt x="313" y="583"/>
                    </a:lnTo>
                    <a:lnTo>
                      <a:pt x="280" y="527"/>
                    </a:lnTo>
                    <a:lnTo>
                      <a:pt x="257" y="482"/>
                    </a:lnTo>
                    <a:lnTo>
                      <a:pt x="235" y="437"/>
                    </a:lnTo>
                    <a:lnTo>
                      <a:pt x="202" y="393"/>
                    </a:lnTo>
                    <a:lnTo>
                      <a:pt x="179" y="337"/>
                    </a:lnTo>
                    <a:lnTo>
                      <a:pt x="156" y="292"/>
                    </a:lnTo>
                    <a:lnTo>
                      <a:pt x="123" y="246"/>
                    </a:lnTo>
                    <a:lnTo>
                      <a:pt x="101" y="202"/>
                    </a:lnTo>
                    <a:lnTo>
                      <a:pt x="78" y="146"/>
                    </a:lnTo>
                    <a:lnTo>
                      <a:pt x="45" y="101"/>
                    </a:lnTo>
                    <a:lnTo>
                      <a:pt x="2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7496640" y="4621680"/>
                <a:ext cx="76680" cy="146880"/>
              </a:xfrm>
              <a:custGeom>
                <a:avLst/>
                <a:gdLst/>
                <a:ahLst/>
                <a:rect l="l" t="t" r="r" b="b"/>
                <a:pathLst>
                  <a:path w="202" h="382">
                    <a:moveTo>
                      <a:pt x="202" y="382"/>
                    </a:moveTo>
                    <a:lnTo>
                      <a:pt x="190" y="359"/>
                    </a:lnTo>
                    <a:lnTo>
                      <a:pt x="167" y="338"/>
                    </a:lnTo>
                    <a:lnTo>
                      <a:pt x="157" y="315"/>
                    </a:lnTo>
                    <a:lnTo>
                      <a:pt x="145" y="293"/>
                    </a:lnTo>
                    <a:lnTo>
                      <a:pt x="134" y="259"/>
                    </a:lnTo>
                    <a:lnTo>
                      <a:pt x="123" y="237"/>
                    </a:lnTo>
                    <a:lnTo>
                      <a:pt x="111" y="213"/>
                    </a:lnTo>
                    <a:lnTo>
                      <a:pt x="89" y="191"/>
                    </a:lnTo>
                    <a:lnTo>
                      <a:pt x="78" y="168"/>
                    </a:lnTo>
                    <a:lnTo>
                      <a:pt x="67" y="147"/>
                    </a:lnTo>
                    <a:lnTo>
                      <a:pt x="56" y="124"/>
                    </a:lnTo>
                    <a:lnTo>
                      <a:pt x="45" y="91"/>
                    </a:lnTo>
                    <a:lnTo>
                      <a:pt x="33" y="68"/>
                    </a:lnTo>
                    <a:lnTo>
                      <a:pt x="22" y="46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7426800" y="449316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80" h="325">
                    <a:moveTo>
                      <a:pt x="180" y="325"/>
                    </a:moveTo>
                    <a:lnTo>
                      <a:pt x="169" y="304"/>
                    </a:lnTo>
                    <a:lnTo>
                      <a:pt x="157" y="282"/>
                    </a:lnTo>
                    <a:lnTo>
                      <a:pt x="146" y="259"/>
                    </a:lnTo>
                    <a:lnTo>
                      <a:pt x="135" y="247"/>
                    </a:lnTo>
                    <a:lnTo>
                      <a:pt x="124" y="226"/>
                    </a:lnTo>
                    <a:lnTo>
                      <a:pt x="113" y="203"/>
                    </a:lnTo>
                    <a:lnTo>
                      <a:pt x="101" y="181"/>
                    </a:lnTo>
                    <a:lnTo>
                      <a:pt x="91" y="158"/>
                    </a:lnTo>
                    <a:lnTo>
                      <a:pt x="79" y="147"/>
                    </a:lnTo>
                    <a:lnTo>
                      <a:pt x="68" y="123"/>
                    </a:lnTo>
                    <a:lnTo>
                      <a:pt x="57" y="101"/>
                    </a:lnTo>
                    <a:lnTo>
                      <a:pt x="45" y="78"/>
                    </a:lnTo>
                    <a:lnTo>
                      <a:pt x="35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7482240" y="436716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392" h="226">
                    <a:moveTo>
                      <a:pt x="0" y="226"/>
                    </a:moveTo>
                    <a:lnTo>
                      <a:pt x="23" y="214"/>
                    </a:lnTo>
                    <a:lnTo>
                      <a:pt x="56" y="204"/>
                    </a:lnTo>
                    <a:lnTo>
                      <a:pt x="79" y="192"/>
                    </a:lnTo>
                    <a:lnTo>
                      <a:pt x="101" y="170"/>
                    </a:lnTo>
                    <a:lnTo>
                      <a:pt x="123" y="158"/>
                    </a:lnTo>
                    <a:lnTo>
                      <a:pt x="145" y="148"/>
                    </a:lnTo>
                    <a:lnTo>
                      <a:pt x="168" y="136"/>
                    </a:lnTo>
                    <a:lnTo>
                      <a:pt x="191" y="114"/>
                    </a:lnTo>
                    <a:lnTo>
                      <a:pt x="224" y="103"/>
                    </a:lnTo>
                    <a:lnTo>
                      <a:pt x="246" y="92"/>
                    </a:lnTo>
                    <a:lnTo>
                      <a:pt x="270" y="80"/>
                    </a:lnTo>
                    <a:lnTo>
                      <a:pt x="293" y="59"/>
                    </a:lnTo>
                    <a:lnTo>
                      <a:pt x="314" y="47"/>
                    </a:lnTo>
                    <a:lnTo>
                      <a:pt x="337" y="35"/>
                    </a:lnTo>
                    <a:lnTo>
                      <a:pt x="370" y="24"/>
                    </a:lnTo>
                    <a:lnTo>
                      <a:pt x="3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248520" y="5034600"/>
                <a:ext cx="461880" cy="184680"/>
              </a:xfrm>
              <a:custGeom>
                <a:avLst/>
                <a:gdLst/>
                <a:ahLst/>
                <a:rect l="l" t="t" r="r" b="b"/>
                <a:pathLst>
                  <a:path w="1189" h="472">
                    <a:moveTo>
                      <a:pt x="1189" y="23"/>
                    </a:moveTo>
                    <a:lnTo>
                      <a:pt x="1134" y="45"/>
                    </a:lnTo>
                    <a:lnTo>
                      <a:pt x="1089" y="79"/>
                    </a:lnTo>
                    <a:lnTo>
                      <a:pt x="1045" y="101"/>
                    </a:lnTo>
                    <a:lnTo>
                      <a:pt x="989" y="124"/>
                    </a:lnTo>
                    <a:lnTo>
                      <a:pt x="944" y="146"/>
                    </a:lnTo>
                    <a:lnTo>
                      <a:pt x="888" y="169"/>
                    </a:lnTo>
                    <a:lnTo>
                      <a:pt x="841" y="190"/>
                    </a:lnTo>
                    <a:lnTo>
                      <a:pt x="797" y="213"/>
                    </a:lnTo>
                    <a:lnTo>
                      <a:pt x="742" y="235"/>
                    </a:lnTo>
                    <a:lnTo>
                      <a:pt x="697" y="258"/>
                    </a:lnTo>
                    <a:lnTo>
                      <a:pt x="651" y="291"/>
                    </a:lnTo>
                    <a:lnTo>
                      <a:pt x="596" y="314"/>
                    </a:lnTo>
                    <a:lnTo>
                      <a:pt x="552" y="347"/>
                    </a:lnTo>
                    <a:lnTo>
                      <a:pt x="506" y="380"/>
                    </a:lnTo>
                    <a:lnTo>
                      <a:pt x="473" y="415"/>
                    </a:lnTo>
                    <a:lnTo>
                      <a:pt x="427" y="460"/>
                    </a:lnTo>
                    <a:lnTo>
                      <a:pt x="404" y="460"/>
                    </a:lnTo>
                    <a:lnTo>
                      <a:pt x="382" y="460"/>
                    </a:lnTo>
                    <a:lnTo>
                      <a:pt x="360" y="460"/>
                    </a:lnTo>
                    <a:lnTo>
                      <a:pt x="338" y="460"/>
                    </a:lnTo>
                    <a:lnTo>
                      <a:pt x="326" y="460"/>
                    </a:lnTo>
                    <a:lnTo>
                      <a:pt x="305" y="460"/>
                    </a:lnTo>
                    <a:lnTo>
                      <a:pt x="282" y="460"/>
                    </a:lnTo>
                    <a:lnTo>
                      <a:pt x="259" y="460"/>
                    </a:lnTo>
                    <a:lnTo>
                      <a:pt x="237" y="460"/>
                    </a:lnTo>
                    <a:lnTo>
                      <a:pt x="214" y="460"/>
                    </a:lnTo>
                    <a:lnTo>
                      <a:pt x="192" y="460"/>
                    </a:lnTo>
                    <a:lnTo>
                      <a:pt x="170" y="460"/>
                    </a:lnTo>
                    <a:lnTo>
                      <a:pt x="148" y="460"/>
                    </a:lnTo>
                    <a:lnTo>
                      <a:pt x="125" y="460"/>
                    </a:lnTo>
                    <a:lnTo>
                      <a:pt x="103" y="472"/>
                    </a:lnTo>
                    <a:lnTo>
                      <a:pt x="80" y="472"/>
                    </a:lnTo>
                    <a:lnTo>
                      <a:pt x="69" y="472"/>
                    </a:lnTo>
                    <a:lnTo>
                      <a:pt x="57" y="472"/>
                    </a:lnTo>
                    <a:lnTo>
                      <a:pt x="47" y="472"/>
                    </a:lnTo>
                    <a:lnTo>
                      <a:pt x="47" y="460"/>
                    </a:lnTo>
                    <a:lnTo>
                      <a:pt x="35" y="460"/>
                    </a:lnTo>
                    <a:lnTo>
                      <a:pt x="23" y="460"/>
                    </a:lnTo>
                    <a:lnTo>
                      <a:pt x="23" y="449"/>
                    </a:lnTo>
                    <a:lnTo>
                      <a:pt x="12" y="449"/>
                    </a:lnTo>
                    <a:lnTo>
                      <a:pt x="12" y="437"/>
                    </a:lnTo>
                    <a:lnTo>
                      <a:pt x="0" y="437"/>
                    </a:lnTo>
                    <a:lnTo>
                      <a:pt x="0" y="415"/>
                    </a:lnTo>
                    <a:lnTo>
                      <a:pt x="47" y="392"/>
                    </a:lnTo>
                    <a:lnTo>
                      <a:pt x="80" y="370"/>
                    </a:lnTo>
                    <a:lnTo>
                      <a:pt x="125" y="347"/>
                    </a:lnTo>
                    <a:lnTo>
                      <a:pt x="170" y="324"/>
                    </a:lnTo>
                    <a:lnTo>
                      <a:pt x="204" y="291"/>
                    </a:lnTo>
                    <a:lnTo>
                      <a:pt x="247" y="269"/>
                    </a:lnTo>
                    <a:lnTo>
                      <a:pt x="282" y="246"/>
                    </a:lnTo>
                    <a:lnTo>
                      <a:pt x="326" y="225"/>
                    </a:lnTo>
                    <a:lnTo>
                      <a:pt x="371" y="202"/>
                    </a:lnTo>
                    <a:lnTo>
                      <a:pt x="404" y="179"/>
                    </a:lnTo>
                    <a:lnTo>
                      <a:pt x="449" y="157"/>
                    </a:lnTo>
                    <a:lnTo>
                      <a:pt x="484" y="134"/>
                    </a:lnTo>
                    <a:lnTo>
                      <a:pt x="529" y="113"/>
                    </a:lnTo>
                    <a:lnTo>
                      <a:pt x="573" y="90"/>
                    </a:lnTo>
                    <a:lnTo>
                      <a:pt x="607" y="68"/>
                    </a:lnTo>
                    <a:lnTo>
                      <a:pt x="651" y="45"/>
                    </a:lnTo>
                    <a:lnTo>
                      <a:pt x="674" y="35"/>
                    </a:lnTo>
                    <a:lnTo>
                      <a:pt x="686" y="35"/>
                    </a:lnTo>
                    <a:lnTo>
                      <a:pt x="707" y="35"/>
                    </a:lnTo>
                    <a:lnTo>
                      <a:pt x="730" y="35"/>
                    </a:lnTo>
                    <a:lnTo>
                      <a:pt x="752" y="35"/>
                    </a:lnTo>
                    <a:lnTo>
                      <a:pt x="775" y="35"/>
                    </a:lnTo>
                    <a:lnTo>
                      <a:pt x="797" y="35"/>
                    </a:lnTo>
                    <a:lnTo>
                      <a:pt x="819" y="35"/>
                    </a:lnTo>
                    <a:lnTo>
                      <a:pt x="841" y="35"/>
                    </a:lnTo>
                    <a:lnTo>
                      <a:pt x="864" y="35"/>
                    </a:lnTo>
                    <a:lnTo>
                      <a:pt x="888" y="35"/>
                    </a:lnTo>
                    <a:lnTo>
                      <a:pt x="910" y="35"/>
                    </a:lnTo>
                    <a:lnTo>
                      <a:pt x="933" y="35"/>
                    </a:lnTo>
                    <a:lnTo>
                      <a:pt x="954" y="35"/>
                    </a:lnTo>
                    <a:lnTo>
                      <a:pt x="977" y="35"/>
                    </a:lnTo>
                    <a:lnTo>
                      <a:pt x="999" y="23"/>
                    </a:lnTo>
                    <a:lnTo>
                      <a:pt x="1010" y="23"/>
                    </a:lnTo>
                    <a:lnTo>
                      <a:pt x="1022" y="23"/>
                    </a:lnTo>
                    <a:lnTo>
                      <a:pt x="1033" y="12"/>
                    </a:lnTo>
                    <a:lnTo>
                      <a:pt x="1045" y="12"/>
                    </a:lnTo>
                    <a:lnTo>
                      <a:pt x="1055" y="12"/>
                    </a:lnTo>
                    <a:lnTo>
                      <a:pt x="1066" y="12"/>
                    </a:lnTo>
                    <a:lnTo>
                      <a:pt x="1078" y="12"/>
                    </a:lnTo>
                    <a:lnTo>
                      <a:pt x="1089" y="12"/>
                    </a:lnTo>
                    <a:lnTo>
                      <a:pt x="1100" y="12"/>
                    </a:lnTo>
                    <a:lnTo>
                      <a:pt x="1111" y="12"/>
                    </a:lnTo>
                    <a:lnTo>
                      <a:pt x="1123" y="12"/>
                    </a:lnTo>
                    <a:lnTo>
                      <a:pt x="1134" y="12"/>
                    </a:lnTo>
                    <a:lnTo>
                      <a:pt x="1144" y="12"/>
                    </a:lnTo>
                    <a:lnTo>
                      <a:pt x="1156" y="12"/>
                    </a:lnTo>
                    <a:lnTo>
                      <a:pt x="1167" y="0"/>
                    </a:lnTo>
                    <a:lnTo>
                      <a:pt x="1189" y="0"/>
                    </a:lnTo>
                    <a:lnTo>
                      <a:pt x="118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414120" y="5044320"/>
                <a:ext cx="296280" cy="170280"/>
              </a:xfrm>
              <a:custGeom>
                <a:avLst/>
                <a:gdLst/>
                <a:ahLst/>
                <a:rect l="l" t="t" r="r" b="b"/>
                <a:pathLst>
                  <a:path w="762" h="437">
                    <a:moveTo>
                      <a:pt x="762" y="0"/>
                    </a:moveTo>
                    <a:lnTo>
                      <a:pt x="707" y="22"/>
                    </a:lnTo>
                    <a:lnTo>
                      <a:pt x="662" y="56"/>
                    </a:lnTo>
                    <a:lnTo>
                      <a:pt x="618" y="78"/>
                    </a:lnTo>
                    <a:lnTo>
                      <a:pt x="562" y="101"/>
                    </a:lnTo>
                    <a:lnTo>
                      <a:pt x="517" y="123"/>
                    </a:lnTo>
                    <a:lnTo>
                      <a:pt x="461" y="146"/>
                    </a:lnTo>
                    <a:lnTo>
                      <a:pt x="414" y="167"/>
                    </a:lnTo>
                    <a:lnTo>
                      <a:pt x="370" y="190"/>
                    </a:lnTo>
                    <a:lnTo>
                      <a:pt x="315" y="212"/>
                    </a:lnTo>
                    <a:lnTo>
                      <a:pt x="270" y="235"/>
                    </a:lnTo>
                    <a:lnTo>
                      <a:pt x="224" y="268"/>
                    </a:lnTo>
                    <a:lnTo>
                      <a:pt x="169" y="291"/>
                    </a:lnTo>
                    <a:lnTo>
                      <a:pt x="125" y="324"/>
                    </a:lnTo>
                    <a:lnTo>
                      <a:pt x="79" y="357"/>
                    </a:lnTo>
                    <a:lnTo>
                      <a:pt x="46" y="392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248520" y="5053680"/>
                <a:ext cx="253800" cy="142200"/>
              </a:xfrm>
              <a:custGeom>
                <a:avLst/>
                <a:gdLst/>
                <a:ahLst/>
                <a:rect l="l" t="t" r="r" b="b"/>
                <a:pathLst>
                  <a:path w="651" h="370">
                    <a:moveTo>
                      <a:pt x="0" y="370"/>
                    </a:moveTo>
                    <a:lnTo>
                      <a:pt x="47" y="347"/>
                    </a:lnTo>
                    <a:lnTo>
                      <a:pt x="80" y="325"/>
                    </a:lnTo>
                    <a:lnTo>
                      <a:pt x="125" y="302"/>
                    </a:lnTo>
                    <a:lnTo>
                      <a:pt x="170" y="279"/>
                    </a:lnTo>
                    <a:lnTo>
                      <a:pt x="204" y="246"/>
                    </a:lnTo>
                    <a:lnTo>
                      <a:pt x="247" y="224"/>
                    </a:lnTo>
                    <a:lnTo>
                      <a:pt x="282" y="201"/>
                    </a:lnTo>
                    <a:lnTo>
                      <a:pt x="326" y="180"/>
                    </a:lnTo>
                    <a:lnTo>
                      <a:pt x="371" y="157"/>
                    </a:lnTo>
                    <a:lnTo>
                      <a:pt x="404" y="134"/>
                    </a:lnTo>
                    <a:lnTo>
                      <a:pt x="449" y="112"/>
                    </a:lnTo>
                    <a:lnTo>
                      <a:pt x="484" y="89"/>
                    </a:lnTo>
                    <a:lnTo>
                      <a:pt x="529" y="68"/>
                    </a:lnTo>
                    <a:lnTo>
                      <a:pt x="573" y="45"/>
                    </a:lnTo>
                    <a:lnTo>
                      <a:pt x="607" y="23"/>
                    </a:lnTo>
                    <a:lnTo>
                      <a:pt x="6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271560" y="5055840"/>
                <a:ext cx="382320" cy="149040"/>
              </a:xfrm>
              <a:custGeom>
                <a:avLst/>
                <a:gdLst/>
                <a:ahLst/>
                <a:rect l="l" t="t" r="r" b="b"/>
                <a:pathLst>
                  <a:path w="988" h="381">
                    <a:moveTo>
                      <a:pt x="988" y="0"/>
                    </a:moveTo>
                    <a:lnTo>
                      <a:pt x="953" y="12"/>
                    </a:lnTo>
                    <a:lnTo>
                      <a:pt x="909" y="34"/>
                    </a:lnTo>
                    <a:lnTo>
                      <a:pt x="864" y="57"/>
                    </a:lnTo>
                    <a:lnTo>
                      <a:pt x="819" y="68"/>
                    </a:lnTo>
                    <a:lnTo>
                      <a:pt x="774" y="90"/>
                    </a:lnTo>
                    <a:lnTo>
                      <a:pt x="740" y="113"/>
                    </a:lnTo>
                    <a:lnTo>
                      <a:pt x="695" y="134"/>
                    </a:lnTo>
                    <a:lnTo>
                      <a:pt x="650" y="157"/>
                    </a:lnTo>
                    <a:lnTo>
                      <a:pt x="606" y="179"/>
                    </a:lnTo>
                    <a:lnTo>
                      <a:pt x="572" y="202"/>
                    </a:lnTo>
                    <a:lnTo>
                      <a:pt x="528" y="235"/>
                    </a:lnTo>
                    <a:lnTo>
                      <a:pt x="495" y="258"/>
                    </a:lnTo>
                    <a:lnTo>
                      <a:pt x="449" y="291"/>
                    </a:lnTo>
                    <a:lnTo>
                      <a:pt x="416" y="314"/>
                    </a:lnTo>
                    <a:lnTo>
                      <a:pt x="370" y="347"/>
                    </a:lnTo>
                    <a:lnTo>
                      <a:pt x="337" y="381"/>
                    </a:lnTo>
                    <a:lnTo>
                      <a:pt x="314" y="381"/>
                    </a:lnTo>
                    <a:lnTo>
                      <a:pt x="291" y="381"/>
                    </a:lnTo>
                    <a:lnTo>
                      <a:pt x="269" y="381"/>
                    </a:lnTo>
                    <a:lnTo>
                      <a:pt x="248" y="381"/>
                    </a:lnTo>
                    <a:lnTo>
                      <a:pt x="236" y="381"/>
                    </a:lnTo>
                    <a:lnTo>
                      <a:pt x="213" y="381"/>
                    </a:lnTo>
                    <a:lnTo>
                      <a:pt x="190" y="381"/>
                    </a:lnTo>
                    <a:lnTo>
                      <a:pt x="169" y="381"/>
                    </a:lnTo>
                    <a:lnTo>
                      <a:pt x="147" y="381"/>
                    </a:lnTo>
                    <a:lnTo>
                      <a:pt x="124" y="381"/>
                    </a:lnTo>
                    <a:lnTo>
                      <a:pt x="101" y="381"/>
                    </a:lnTo>
                    <a:lnTo>
                      <a:pt x="79" y="381"/>
                    </a:lnTo>
                    <a:lnTo>
                      <a:pt x="57" y="381"/>
                    </a:lnTo>
                    <a:lnTo>
                      <a:pt x="46" y="381"/>
                    </a:lnTo>
                    <a:lnTo>
                      <a:pt x="23" y="381"/>
                    </a:lnTo>
                    <a:lnTo>
                      <a:pt x="0" y="381"/>
                    </a:lnTo>
                    <a:lnTo>
                      <a:pt x="0" y="371"/>
                    </a:lnTo>
                    <a:lnTo>
                      <a:pt x="35" y="347"/>
                    </a:lnTo>
                    <a:lnTo>
                      <a:pt x="68" y="324"/>
                    </a:lnTo>
                    <a:lnTo>
                      <a:pt x="113" y="303"/>
                    </a:lnTo>
                    <a:lnTo>
                      <a:pt x="147" y="280"/>
                    </a:lnTo>
                    <a:lnTo>
                      <a:pt x="190" y="258"/>
                    </a:lnTo>
                    <a:lnTo>
                      <a:pt x="225" y="235"/>
                    </a:lnTo>
                    <a:lnTo>
                      <a:pt x="269" y="213"/>
                    </a:lnTo>
                    <a:lnTo>
                      <a:pt x="303" y="190"/>
                    </a:lnTo>
                    <a:lnTo>
                      <a:pt x="347" y="169"/>
                    </a:lnTo>
                    <a:lnTo>
                      <a:pt x="382" y="146"/>
                    </a:lnTo>
                    <a:lnTo>
                      <a:pt x="427" y="123"/>
                    </a:lnTo>
                    <a:lnTo>
                      <a:pt x="460" y="101"/>
                    </a:lnTo>
                    <a:lnTo>
                      <a:pt x="505" y="78"/>
                    </a:lnTo>
                    <a:lnTo>
                      <a:pt x="539" y="57"/>
                    </a:lnTo>
                    <a:lnTo>
                      <a:pt x="584" y="34"/>
                    </a:lnTo>
                    <a:lnTo>
                      <a:pt x="617" y="12"/>
                    </a:lnTo>
                    <a:lnTo>
                      <a:pt x="650" y="12"/>
                    </a:lnTo>
                    <a:lnTo>
                      <a:pt x="673" y="12"/>
                    </a:lnTo>
                    <a:lnTo>
                      <a:pt x="695" y="12"/>
                    </a:lnTo>
                    <a:lnTo>
                      <a:pt x="718" y="12"/>
                    </a:lnTo>
                    <a:lnTo>
                      <a:pt x="740" y="12"/>
                    </a:lnTo>
                    <a:lnTo>
                      <a:pt x="762" y="12"/>
                    </a:lnTo>
                    <a:lnTo>
                      <a:pt x="784" y="12"/>
                    </a:lnTo>
                    <a:lnTo>
                      <a:pt x="807" y="12"/>
                    </a:lnTo>
                    <a:lnTo>
                      <a:pt x="831" y="12"/>
                    </a:lnTo>
                    <a:lnTo>
                      <a:pt x="853" y="12"/>
                    </a:lnTo>
                    <a:lnTo>
                      <a:pt x="876" y="12"/>
                    </a:lnTo>
                    <a:lnTo>
                      <a:pt x="897" y="12"/>
                    </a:lnTo>
                    <a:lnTo>
                      <a:pt x="920" y="12"/>
                    </a:lnTo>
                    <a:lnTo>
                      <a:pt x="942" y="0"/>
                    </a:lnTo>
                    <a:lnTo>
                      <a:pt x="965" y="0"/>
                    </a:lnTo>
                    <a:lnTo>
                      <a:pt x="988" y="0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6402240" y="5055840"/>
                <a:ext cx="251640" cy="149040"/>
              </a:xfrm>
              <a:custGeom>
                <a:avLst/>
                <a:gdLst/>
                <a:ahLst/>
                <a:rect l="l" t="t" r="r" b="b"/>
                <a:pathLst>
                  <a:path w="651" h="381">
                    <a:moveTo>
                      <a:pt x="651" y="0"/>
                    </a:moveTo>
                    <a:lnTo>
                      <a:pt x="616" y="12"/>
                    </a:lnTo>
                    <a:lnTo>
                      <a:pt x="572" y="34"/>
                    </a:lnTo>
                    <a:lnTo>
                      <a:pt x="527" y="57"/>
                    </a:lnTo>
                    <a:lnTo>
                      <a:pt x="482" y="68"/>
                    </a:lnTo>
                    <a:lnTo>
                      <a:pt x="437" y="90"/>
                    </a:lnTo>
                    <a:lnTo>
                      <a:pt x="403" y="113"/>
                    </a:lnTo>
                    <a:lnTo>
                      <a:pt x="358" y="134"/>
                    </a:lnTo>
                    <a:lnTo>
                      <a:pt x="313" y="157"/>
                    </a:lnTo>
                    <a:lnTo>
                      <a:pt x="269" y="179"/>
                    </a:lnTo>
                    <a:lnTo>
                      <a:pt x="235" y="202"/>
                    </a:lnTo>
                    <a:lnTo>
                      <a:pt x="191" y="235"/>
                    </a:lnTo>
                    <a:lnTo>
                      <a:pt x="158" y="258"/>
                    </a:lnTo>
                    <a:lnTo>
                      <a:pt x="112" y="291"/>
                    </a:lnTo>
                    <a:lnTo>
                      <a:pt x="79" y="314"/>
                    </a:lnTo>
                    <a:lnTo>
                      <a:pt x="33" y="347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6271560" y="5060520"/>
                <a:ext cx="237960" cy="139680"/>
              </a:xfrm>
              <a:custGeom>
                <a:avLst/>
                <a:gdLst/>
                <a:ahLst/>
                <a:rect l="l" t="t" r="r" b="b"/>
                <a:pathLst>
                  <a:path w="617" h="359">
                    <a:moveTo>
                      <a:pt x="0" y="359"/>
                    </a:moveTo>
                    <a:lnTo>
                      <a:pt x="35" y="335"/>
                    </a:lnTo>
                    <a:lnTo>
                      <a:pt x="68" y="312"/>
                    </a:lnTo>
                    <a:lnTo>
                      <a:pt x="113" y="291"/>
                    </a:lnTo>
                    <a:lnTo>
                      <a:pt x="147" y="268"/>
                    </a:lnTo>
                    <a:lnTo>
                      <a:pt x="190" y="246"/>
                    </a:lnTo>
                    <a:lnTo>
                      <a:pt x="225" y="223"/>
                    </a:lnTo>
                    <a:lnTo>
                      <a:pt x="269" y="201"/>
                    </a:lnTo>
                    <a:lnTo>
                      <a:pt x="303" y="178"/>
                    </a:lnTo>
                    <a:lnTo>
                      <a:pt x="347" y="157"/>
                    </a:lnTo>
                    <a:lnTo>
                      <a:pt x="382" y="134"/>
                    </a:lnTo>
                    <a:lnTo>
                      <a:pt x="427" y="111"/>
                    </a:lnTo>
                    <a:lnTo>
                      <a:pt x="460" y="89"/>
                    </a:lnTo>
                    <a:lnTo>
                      <a:pt x="505" y="66"/>
                    </a:lnTo>
                    <a:lnTo>
                      <a:pt x="539" y="45"/>
                    </a:lnTo>
                    <a:lnTo>
                      <a:pt x="584" y="22"/>
                    </a:lnTo>
                    <a:lnTo>
                      <a:pt x="6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427800" y="5060520"/>
                <a:ext cx="532080" cy="183960"/>
              </a:xfrm>
              <a:custGeom>
                <a:avLst/>
                <a:gdLst/>
                <a:ahLst/>
                <a:rect l="l" t="t" r="r" b="b"/>
                <a:pathLst>
                  <a:path w="1368" h="470">
                    <a:moveTo>
                      <a:pt x="784" y="0"/>
                    </a:moveTo>
                    <a:lnTo>
                      <a:pt x="818" y="33"/>
                    </a:lnTo>
                    <a:lnTo>
                      <a:pt x="852" y="56"/>
                    </a:lnTo>
                    <a:lnTo>
                      <a:pt x="875" y="89"/>
                    </a:lnTo>
                    <a:lnTo>
                      <a:pt x="909" y="111"/>
                    </a:lnTo>
                    <a:lnTo>
                      <a:pt x="942" y="134"/>
                    </a:lnTo>
                    <a:lnTo>
                      <a:pt x="976" y="157"/>
                    </a:lnTo>
                    <a:lnTo>
                      <a:pt x="1009" y="178"/>
                    </a:lnTo>
                    <a:lnTo>
                      <a:pt x="1043" y="201"/>
                    </a:lnTo>
                    <a:lnTo>
                      <a:pt x="1077" y="223"/>
                    </a:lnTo>
                    <a:lnTo>
                      <a:pt x="1110" y="246"/>
                    </a:lnTo>
                    <a:lnTo>
                      <a:pt x="1155" y="268"/>
                    </a:lnTo>
                    <a:lnTo>
                      <a:pt x="1188" y="279"/>
                    </a:lnTo>
                    <a:lnTo>
                      <a:pt x="1221" y="302"/>
                    </a:lnTo>
                    <a:lnTo>
                      <a:pt x="1256" y="312"/>
                    </a:lnTo>
                    <a:lnTo>
                      <a:pt x="1301" y="324"/>
                    </a:lnTo>
                    <a:lnTo>
                      <a:pt x="1334" y="347"/>
                    </a:lnTo>
                    <a:lnTo>
                      <a:pt x="1346" y="359"/>
                    </a:lnTo>
                    <a:lnTo>
                      <a:pt x="1346" y="369"/>
                    </a:lnTo>
                    <a:lnTo>
                      <a:pt x="1357" y="369"/>
                    </a:lnTo>
                    <a:lnTo>
                      <a:pt x="1357" y="381"/>
                    </a:lnTo>
                    <a:lnTo>
                      <a:pt x="1368" y="381"/>
                    </a:lnTo>
                    <a:lnTo>
                      <a:pt x="1368" y="392"/>
                    </a:lnTo>
                    <a:lnTo>
                      <a:pt x="1368" y="404"/>
                    </a:lnTo>
                    <a:lnTo>
                      <a:pt x="1357" y="404"/>
                    </a:lnTo>
                    <a:lnTo>
                      <a:pt x="1346" y="414"/>
                    </a:lnTo>
                    <a:lnTo>
                      <a:pt x="1301" y="414"/>
                    </a:lnTo>
                    <a:lnTo>
                      <a:pt x="1256" y="426"/>
                    </a:lnTo>
                    <a:lnTo>
                      <a:pt x="1211" y="426"/>
                    </a:lnTo>
                    <a:lnTo>
                      <a:pt x="1176" y="426"/>
                    </a:lnTo>
                    <a:lnTo>
                      <a:pt x="1132" y="426"/>
                    </a:lnTo>
                    <a:lnTo>
                      <a:pt x="1087" y="426"/>
                    </a:lnTo>
                    <a:lnTo>
                      <a:pt x="1054" y="426"/>
                    </a:lnTo>
                    <a:lnTo>
                      <a:pt x="1009" y="426"/>
                    </a:lnTo>
                    <a:lnTo>
                      <a:pt x="976" y="426"/>
                    </a:lnTo>
                    <a:lnTo>
                      <a:pt x="930" y="426"/>
                    </a:lnTo>
                    <a:lnTo>
                      <a:pt x="886" y="437"/>
                    </a:lnTo>
                    <a:lnTo>
                      <a:pt x="852" y="437"/>
                    </a:lnTo>
                    <a:lnTo>
                      <a:pt x="807" y="437"/>
                    </a:lnTo>
                    <a:lnTo>
                      <a:pt x="762" y="437"/>
                    </a:lnTo>
                    <a:lnTo>
                      <a:pt x="718" y="437"/>
                    </a:lnTo>
                    <a:lnTo>
                      <a:pt x="673" y="448"/>
                    </a:lnTo>
                    <a:lnTo>
                      <a:pt x="662" y="437"/>
                    </a:lnTo>
                    <a:lnTo>
                      <a:pt x="650" y="437"/>
                    </a:lnTo>
                    <a:lnTo>
                      <a:pt x="628" y="437"/>
                    </a:lnTo>
                    <a:lnTo>
                      <a:pt x="617" y="437"/>
                    </a:lnTo>
                    <a:lnTo>
                      <a:pt x="605" y="437"/>
                    </a:lnTo>
                    <a:lnTo>
                      <a:pt x="584" y="437"/>
                    </a:lnTo>
                    <a:lnTo>
                      <a:pt x="572" y="437"/>
                    </a:lnTo>
                    <a:lnTo>
                      <a:pt x="561" y="437"/>
                    </a:lnTo>
                    <a:lnTo>
                      <a:pt x="549" y="437"/>
                    </a:lnTo>
                    <a:lnTo>
                      <a:pt x="528" y="437"/>
                    </a:lnTo>
                    <a:lnTo>
                      <a:pt x="516" y="448"/>
                    </a:lnTo>
                    <a:lnTo>
                      <a:pt x="505" y="448"/>
                    </a:lnTo>
                    <a:lnTo>
                      <a:pt x="483" y="448"/>
                    </a:lnTo>
                    <a:lnTo>
                      <a:pt x="472" y="437"/>
                    </a:lnTo>
                    <a:lnTo>
                      <a:pt x="460" y="437"/>
                    </a:lnTo>
                    <a:lnTo>
                      <a:pt x="449" y="437"/>
                    </a:lnTo>
                    <a:lnTo>
                      <a:pt x="415" y="437"/>
                    </a:lnTo>
                    <a:lnTo>
                      <a:pt x="392" y="437"/>
                    </a:lnTo>
                    <a:lnTo>
                      <a:pt x="358" y="437"/>
                    </a:lnTo>
                    <a:lnTo>
                      <a:pt x="336" y="437"/>
                    </a:lnTo>
                    <a:lnTo>
                      <a:pt x="314" y="437"/>
                    </a:lnTo>
                    <a:lnTo>
                      <a:pt x="281" y="448"/>
                    </a:lnTo>
                    <a:lnTo>
                      <a:pt x="258" y="448"/>
                    </a:lnTo>
                    <a:lnTo>
                      <a:pt x="236" y="448"/>
                    </a:lnTo>
                    <a:lnTo>
                      <a:pt x="202" y="448"/>
                    </a:lnTo>
                    <a:lnTo>
                      <a:pt x="180" y="460"/>
                    </a:lnTo>
                    <a:lnTo>
                      <a:pt x="157" y="460"/>
                    </a:lnTo>
                    <a:lnTo>
                      <a:pt x="135" y="460"/>
                    </a:lnTo>
                    <a:lnTo>
                      <a:pt x="101" y="460"/>
                    </a:lnTo>
                    <a:lnTo>
                      <a:pt x="79" y="470"/>
                    </a:lnTo>
                    <a:lnTo>
                      <a:pt x="56" y="470"/>
                    </a:lnTo>
                    <a:lnTo>
                      <a:pt x="23" y="470"/>
                    </a:lnTo>
                    <a:lnTo>
                      <a:pt x="23" y="460"/>
                    </a:lnTo>
                    <a:lnTo>
                      <a:pt x="12" y="460"/>
                    </a:lnTo>
                    <a:lnTo>
                      <a:pt x="12" y="448"/>
                    </a:lnTo>
                    <a:lnTo>
                      <a:pt x="0" y="448"/>
                    </a:lnTo>
                    <a:lnTo>
                      <a:pt x="0" y="437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4"/>
                    </a:lnTo>
                    <a:lnTo>
                      <a:pt x="135" y="302"/>
                    </a:lnTo>
                    <a:lnTo>
                      <a:pt x="146" y="302"/>
                    </a:lnTo>
                    <a:lnTo>
                      <a:pt x="168" y="302"/>
                    </a:lnTo>
                    <a:lnTo>
                      <a:pt x="180" y="291"/>
                    </a:lnTo>
                    <a:lnTo>
                      <a:pt x="202" y="279"/>
                    </a:lnTo>
                    <a:lnTo>
                      <a:pt x="213" y="279"/>
                    </a:lnTo>
                    <a:lnTo>
                      <a:pt x="236" y="268"/>
                    </a:lnTo>
                    <a:lnTo>
                      <a:pt x="246" y="256"/>
                    </a:lnTo>
                    <a:lnTo>
                      <a:pt x="269" y="246"/>
                    </a:lnTo>
                    <a:lnTo>
                      <a:pt x="281" y="235"/>
                    </a:lnTo>
                    <a:lnTo>
                      <a:pt x="302" y="223"/>
                    </a:lnTo>
                    <a:lnTo>
                      <a:pt x="314" y="212"/>
                    </a:lnTo>
                    <a:lnTo>
                      <a:pt x="336" y="212"/>
                    </a:lnTo>
                    <a:lnTo>
                      <a:pt x="347" y="201"/>
                    </a:lnTo>
                    <a:lnTo>
                      <a:pt x="370" y="190"/>
                    </a:lnTo>
                    <a:lnTo>
                      <a:pt x="380" y="178"/>
                    </a:lnTo>
                    <a:lnTo>
                      <a:pt x="403" y="178"/>
                    </a:lnTo>
                    <a:lnTo>
                      <a:pt x="762" y="0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733440" y="5060520"/>
                <a:ext cx="212040" cy="135360"/>
              </a:xfrm>
              <a:custGeom>
                <a:avLst/>
                <a:gdLst/>
                <a:ahLst/>
                <a:rect l="l" t="t" r="r" b="b"/>
                <a:pathLst>
                  <a:path w="550" h="347">
                    <a:moveTo>
                      <a:pt x="0" y="0"/>
                    </a:moveTo>
                    <a:lnTo>
                      <a:pt x="34" y="33"/>
                    </a:lnTo>
                    <a:lnTo>
                      <a:pt x="68" y="56"/>
                    </a:lnTo>
                    <a:lnTo>
                      <a:pt x="91" y="89"/>
                    </a:lnTo>
                    <a:lnTo>
                      <a:pt x="125" y="111"/>
                    </a:lnTo>
                    <a:lnTo>
                      <a:pt x="158" y="134"/>
                    </a:lnTo>
                    <a:lnTo>
                      <a:pt x="192" y="157"/>
                    </a:lnTo>
                    <a:lnTo>
                      <a:pt x="225" y="178"/>
                    </a:lnTo>
                    <a:lnTo>
                      <a:pt x="259" y="201"/>
                    </a:lnTo>
                    <a:lnTo>
                      <a:pt x="293" y="223"/>
                    </a:lnTo>
                    <a:lnTo>
                      <a:pt x="326" y="246"/>
                    </a:lnTo>
                    <a:lnTo>
                      <a:pt x="371" y="268"/>
                    </a:lnTo>
                    <a:lnTo>
                      <a:pt x="404" y="279"/>
                    </a:lnTo>
                    <a:lnTo>
                      <a:pt x="437" y="302"/>
                    </a:lnTo>
                    <a:lnTo>
                      <a:pt x="472" y="312"/>
                    </a:lnTo>
                    <a:lnTo>
                      <a:pt x="517" y="324"/>
                    </a:lnTo>
                    <a:lnTo>
                      <a:pt x="550" y="3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6584400" y="5060520"/>
                <a:ext cx="149040" cy="69840"/>
              </a:xfrm>
              <a:custGeom>
                <a:avLst/>
                <a:gdLst/>
                <a:ahLst/>
                <a:rect l="l" t="t" r="r" b="b"/>
                <a:pathLst>
                  <a:path w="381" h="178">
                    <a:moveTo>
                      <a:pt x="0" y="178"/>
                    </a:moveTo>
                    <a:lnTo>
                      <a:pt x="359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6467400" y="5083920"/>
                <a:ext cx="443160" cy="139680"/>
              </a:xfrm>
              <a:custGeom>
                <a:avLst/>
                <a:gdLst/>
                <a:ahLst/>
                <a:rect l="l" t="t" r="r" b="b"/>
                <a:pathLst>
                  <a:path w="1143" h="358">
                    <a:moveTo>
                      <a:pt x="740" y="78"/>
                    </a:moveTo>
                    <a:lnTo>
                      <a:pt x="751" y="89"/>
                    </a:lnTo>
                    <a:lnTo>
                      <a:pt x="774" y="101"/>
                    </a:lnTo>
                    <a:lnTo>
                      <a:pt x="785" y="111"/>
                    </a:lnTo>
                    <a:lnTo>
                      <a:pt x="796" y="122"/>
                    </a:lnTo>
                    <a:lnTo>
                      <a:pt x="819" y="134"/>
                    </a:lnTo>
                    <a:lnTo>
                      <a:pt x="829" y="145"/>
                    </a:lnTo>
                    <a:lnTo>
                      <a:pt x="852" y="156"/>
                    </a:lnTo>
                    <a:lnTo>
                      <a:pt x="864" y="167"/>
                    </a:lnTo>
                    <a:lnTo>
                      <a:pt x="885" y="179"/>
                    </a:lnTo>
                    <a:lnTo>
                      <a:pt x="897" y="190"/>
                    </a:lnTo>
                    <a:lnTo>
                      <a:pt x="920" y="200"/>
                    </a:lnTo>
                    <a:lnTo>
                      <a:pt x="930" y="212"/>
                    </a:lnTo>
                    <a:lnTo>
                      <a:pt x="953" y="223"/>
                    </a:lnTo>
                    <a:lnTo>
                      <a:pt x="964" y="235"/>
                    </a:lnTo>
                    <a:lnTo>
                      <a:pt x="986" y="246"/>
                    </a:lnTo>
                    <a:lnTo>
                      <a:pt x="998" y="246"/>
                    </a:lnTo>
                    <a:lnTo>
                      <a:pt x="1009" y="256"/>
                    </a:lnTo>
                    <a:lnTo>
                      <a:pt x="1019" y="256"/>
                    </a:lnTo>
                    <a:lnTo>
                      <a:pt x="1019" y="268"/>
                    </a:lnTo>
                    <a:lnTo>
                      <a:pt x="1031" y="268"/>
                    </a:lnTo>
                    <a:lnTo>
                      <a:pt x="1042" y="268"/>
                    </a:lnTo>
                    <a:lnTo>
                      <a:pt x="1054" y="279"/>
                    </a:lnTo>
                    <a:lnTo>
                      <a:pt x="1065" y="279"/>
                    </a:lnTo>
                    <a:lnTo>
                      <a:pt x="1075" y="279"/>
                    </a:lnTo>
                    <a:lnTo>
                      <a:pt x="1087" y="291"/>
                    </a:lnTo>
                    <a:lnTo>
                      <a:pt x="1098" y="291"/>
                    </a:lnTo>
                    <a:lnTo>
                      <a:pt x="1110" y="291"/>
                    </a:lnTo>
                    <a:lnTo>
                      <a:pt x="1120" y="303"/>
                    </a:lnTo>
                    <a:lnTo>
                      <a:pt x="1132" y="313"/>
                    </a:lnTo>
                    <a:lnTo>
                      <a:pt x="1143" y="313"/>
                    </a:lnTo>
                    <a:lnTo>
                      <a:pt x="1075" y="325"/>
                    </a:lnTo>
                    <a:lnTo>
                      <a:pt x="998" y="325"/>
                    </a:lnTo>
                    <a:lnTo>
                      <a:pt x="930" y="325"/>
                    </a:lnTo>
                    <a:lnTo>
                      <a:pt x="864" y="336"/>
                    </a:lnTo>
                    <a:lnTo>
                      <a:pt x="785" y="336"/>
                    </a:lnTo>
                    <a:lnTo>
                      <a:pt x="717" y="336"/>
                    </a:lnTo>
                    <a:lnTo>
                      <a:pt x="638" y="336"/>
                    </a:lnTo>
                    <a:lnTo>
                      <a:pt x="572" y="348"/>
                    </a:lnTo>
                    <a:lnTo>
                      <a:pt x="504" y="348"/>
                    </a:lnTo>
                    <a:lnTo>
                      <a:pt x="427" y="348"/>
                    </a:lnTo>
                    <a:lnTo>
                      <a:pt x="359" y="348"/>
                    </a:lnTo>
                    <a:lnTo>
                      <a:pt x="279" y="348"/>
                    </a:lnTo>
                    <a:lnTo>
                      <a:pt x="213" y="358"/>
                    </a:lnTo>
                    <a:lnTo>
                      <a:pt x="145" y="358"/>
                    </a:lnTo>
                    <a:lnTo>
                      <a:pt x="79" y="358"/>
                    </a:lnTo>
                    <a:lnTo>
                      <a:pt x="11" y="358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11" y="336"/>
                    </a:lnTo>
                    <a:lnTo>
                      <a:pt x="11" y="325"/>
                    </a:lnTo>
                    <a:lnTo>
                      <a:pt x="23" y="325"/>
                    </a:lnTo>
                    <a:lnTo>
                      <a:pt x="34" y="325"/>
                    </a:lnTo>
                    <a:lnTo>
                      <a:pt x="34" y="313"/>
                    </a:lnTo>
                    <a:lnTo>
                      <a:pt x="45" y="313"/>
                    </a:lnTo>
                    <a:lnTo>
                      <a:pt x="56" y="313"/>
                    </a:lnTo>
                    <a:lnTo>
                      <a:pt x="56" y="303"/>
                    </a:lnTo>
                    <a:lnTo>
                      <a:pt x="67" y="303"/>
                    </a:lnTo>
                    <a:lnTo>
                      <a:pt x="67" y="291"/>
                    </a:lnTo>
                    <a:lnTo>
                      <a:pt x="79" y="291"/>
                    </a:lnTo>
                    <a:lnTo>
                      <a:pt x="89" y="279"/>
                    </a:lnTo>
                    <a:lnTo>
                      <a:pt x="101" y="279"/>
                    </a:lnTo>
                    <a:lnTo>
                      <a:pt x="112" y="268"/>
                    </a:lnTo>
                    <a:lnTo>
                      <a:pt x="124" y="268"/>
                    </a:lnTo>
                    <a:lnTo>
                      <a:pt x="135" y="268"/>
                    </a:lnTo>
                    <a:lnTo>
                      <a:pt x="135" y="256"/>
                    </a:lnTo>
                    <a:lnTo>
                      <a:pt x="145" y="256"/>
                    </a:lnTo>
                    <a:lnTo>
                      <a:pt x="180" y="235"/>
                    </a:lnTo>
                    <a:lnTo>
                      <a:pt x="213" y="223"/>
                    </a:lnTo>
                    <a:lnTo>
                      <a:pt x="246" y="200"/>
                    </a:lnTo>
                    <a:lnTo>
                      <a:pt x="279" y="190"/>
                    </a:lnTo>
                    <a:lnTo>
                      <a:pt x="302" y="167"/>
                    </a:lnTo>
                    <a:lnTo>
                      <a:pt x="336" y="156"/>
                    </a:lnTo>
                    <a:lnTo>
                      <a:pt x="371" y="134"/>
                    </a:lnTo>
                    <a:lnTo>
                      <a:pt x="404" y="122"/>
                    </a:lnTo>
                    <a:lnTo>
                      <a:pt x="437" y="101"/>
                    </a:lnTo>
                    <a:lnTo>
                      <a:pt x="471" y="89"/>
                    </a:lnTo>
                    <a:lnTo>
                      <a:pt x="504" y="66"/>
                    </a:lnTo>
                    <a:lnTo>
                      <a:pt x="538" y="55"/>
                    </a:lnTo>
                    <a:lnTo>
                      <a:pt x="561" y="33"/>
                    </a:lnTo>
                    <a:lnTo>
                      <a:pt x="594" y="22"/>
                    </a:lnTo>
                    <a:lnTo>
                      <a:pt x="627" y="10"/>
                    </a:lnTo>
                    <a:lnTo>
                      <a:pt x="661" y="0"/>
                    </a:lnTo>
                    <a:lnTo>
                      <a:pt x="673" y="0"/>
                    </a:lnTo>
                    <a:lnTo>
                      <a:pt x="683" y="10"/>
                    </a:lnTo>
                    <a:lnTo>
                      <a:pt x="683" y="22"/>
                    </a:lnTo>
                    <a:lnTo>
                      <a:pt x="694" y="22"/>
                    </a:lnTo>
                    <a:lnTo>
                      <a:pt x="694" y="33"/>
                    </a:lnTo>
                    <a:lnTo>
                      <a:pt x="706" y="33"/>
                    </a:lnTo>
                    <a:lnTo>
                      <a:pt x="706" y="45"/>
                    </a:lnTo>
                    <a:lnTo>
                      <a:pt x="717" y="55"/>
                    </a:lnTo>
                    <a:lnTo>
                      <a:pt x="728" y="66"/>
                    </a:lnTo>
                    <a:lnTo>
                      <a:pt x="740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6754680" y="5114160"/>
                <a:ext cx="99720" cy="65520"/>
              </a:xfrm>
              <a:custGeom>
                <a:avLst/>
                <a:gdLst/>
                <a:ahLst/>
                <a:rect l="l" t="t" r="r" b="b"/>
                <a:pathLst>
                  <a:path w="258" h="168">
                    <a:moveTo>
                      <a:pt x="0" y="0"/>
                    </a:moveTo>
                    <a:lnTo>
                      <a:pt x="11" y="11"/>
                    </a:lnTo>
                    <a:lnTo>
                      <a:pt x="34" y="23"/>
                    </a:lnTo>
                    <a:lnTo>
                      <a:pt x="45" y="33"/>
                    </a:lnTo>
                    <a:lnTo>
                      <a:pt x="56" y="44"/>
                    </a:lnTo>
                    <a:lnTo>
                      <a:pt x="79" y="56"/>
                    </a:lnTo>
                    <a:lnTo>
                      <a:pt x="89" y="67"/>
                    </a:lnTo>
                    <a:lnTo>
                      <a:pt x="112" y="78"/>
                    </a:lnTo>
                    <a:lnTo>
                      <a:pt x="124" y="89"/>
                    </a:lnTo>
                    <a:lnTo>
                      <a:pt x="145" y="101"/>
                    </a:lnTo>
                    <a:lnTo>
                      <a:pt x="157" y="112"/>
                    </a:lnTo>
                    <a:lnTo>
                      <a:pt x="180" y="122"/>
                    </a:lnTo>
                    <a:lnTo>
                      <a:pt x="190" y="134"/>
                    </a:lnTo>
                    <a:lnTo>
                      <a:pt x="213" y="145"/>
                    </a:lnTo>
                    <a:lnTo>
                      <a:pt x="224" y="157"/>
                    </a:lnTo>
                    <a:lnTo>
                      <a:pt x="246" y="168"/>
                    </a:lnTo>
                    <a:lnTo>
                      <a:pt x="258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6523560" y="5083920"/>
                <a:ext cx="200520" cy="100440"/>
              </a:xfrm>
              <a:custGeom>
                <a:avLst/>
                <a:gdLst/>
                <a:ahLst/>
                <a:rect l="l" t="t" r="r" b="b"/>
                <a:pathLst>
                  <a:path w="516" h="256">
                    <a:moveTo>
                      <a:pt x="0" y="256"/>
                    </a:moveTo>
                    <a:lnTo>
                      <a:pt x="35" y="235"/>
                    </a:lnTo>
                    <a:lnTo>
                      <a:pt x="68" y="223"/>
                    </a:lnTo>
                    <a:lnTo>
                      <a:pt x="101" y="200"/>
                    </a:lnTo>
                    <a:lnTo>
                      <a:pt x="134" y="190"/>
                    </a:lnTo>
                    <a:lnTo>
                      <a:pt x="157" y="167"/>
                    </a:lnTo>
                    <a:lnTo>
                      <a:pt x="191" y="156"/>
                    </a:lnTo>
                    <a:lnTo>
                      <a:pt x="226" y="134"/>
                    </a:lnTo>
                    <a:lnTo>
                      <a:pt x="259" y="122"/>
                    </a:lnTo>
                    <a:lnTo>
                      <a:pt x="292" y="101"/>
                    </a:lnTo>
                    <a:lnTo>
                      <a:pt x="326" y="89"/>
                    </a:lnTo>
                    <a:lnTo>
                      <a:pt x="359" y="66"/>
                    </a:lnTo>
                    <a:lnTo>
                      <a:pt x="393" y="55"/>
                    </a:lnTo>
                    <a:lnTo>
                      <a:pt x="416" y="33"/>
                    </a:lnTo>
                    <a:lnTo>
                      <a:pt x="449" y="22"/>
                    </a:lnTo>
                    <a:lnTo>
                      <a:pt x="482" y="10"/>
                    </a:lnTo>
                    <a:lnTo>
                      <a:pt x="5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6808320" y="5228280"/>
                <a:ext cx="582840" cy="86040"/>
              </a:xfrm>
              <a:custGeom>
                <a:avLst/>
                <a:gdLst/>
                <a:ahLst/>
                <a:rect l="l" t="t" r="r" b="b"/>
                <a:pathLst>
                  <a:path w="1501" h="224">
                    <a:moveTo>
                      <a:pt x="1478" y="44"/>
                    </a:moveTo>
                    <a:lnTo>
                      <a:pt x="1490" y="56"/>
                    </a:lnTo>
                    <a:lnTo>
                      <a:pt x="1490" y="67"/>
                    </a:lnTo>
                    <a:lnTo>
                      <a:pt x="1490" y="78"/>
                    </a:lnTo>
                    <a:lnTo>
                      <a:pt x="1490" y="89"/>
                    </a:lnTo>
                    <a:lnTo>
                      <a:pt x="1501" y="100"/>
                    </a:lnTo>
                    <a:lnTo>
                      <a:pt x="1501" y="112"/>
                    </a:lnTo>
                    <a:lnTo>
                      <a:pt x="1490" y="123"/>
                    </a:lnTo>
                    <a:lnTo>
                      <a:pt x="1490" y="133"/>
                    </a:lnTo>
                    <a:lnTo>
                      <a:pt x="1490" y="145"/>
                    </a:lnTo>
                    <a:lnTo>
                      <a:pt x="1490" y="156"/>
                    </a:lnTo>
                    <a:lnTo>
                      <a:pt x="1490" y="168"/>
                    </a:lnTo>
                    <a:lnTo>
                      <a:pt x="1490" y="179"/>
                    </a:lnTo>
                    <a:lnTo>
                      <a:pt x="1478" y="179"/>
                    </a:lnTo>
                    <a:lnTo>
                      <a:pt x="1478" y="190"/>
                    </a:lnTo>
                    <a:lnTo>
                      <a:pt x="1468" y="201"/>
                    </a:lnTo>
                    <a:lnTo>
                      <a:pt x="1457" y="201"/>
                    </a:lnTo>
                    <a:lnTo>
                      <a:pt x="1457" y="212"/>
                    </a:lnTo>
                    <a:lnTo>
                      <a:pt x="1445" y="212"/>
                    </a:lnTo>
                    <a:lnTo>
                      <a:pt x="1435" y="212"/>
                    </a:lnTo>
                    <a:lnTo>
                      <a:pt x="1435" y="224"/>
                    </a:lnTo>
                    <a:lnTo>
                      <a:pt x="1423" y="224"/>
                    </a:lnTo>
                    <a:lnTo>
                      <a:pt x="1344" y="224"/>
                    </a:lnTo>
                    <a:lnTo>
                      <a:pt x="1267" y="212"/>
                    </a:lnTo>
                    <a:lnTo>
                      <a:pt x="1177" y="212"/>
                    </a:lnTo>
                    <a:lnTo>
                      <a:pt x="1097" y="201"/>
                    </a:lnTo>
                    <a:lnTo>
                      <a:pt x="1020" y="201"/>
                    </a:lnTo>
                    <a:lnTo>
                      <a:pt x="942" y="201"/>
                    </a:lnTo>
                    <a:lnTo>
                      <a:pt x="863" y="190"/>
                    </a:lnTo>
                    <a:lnTo>
                      <a:pt x="785" y="190"/>
                    </a:lnTo>
                    <a:lnTo>
                      <a:pt x="694" y="190"/>
                    </a:lnTo>
                    <a:lnTo>
                      <a:pt x="616" y="190"/>
                    </a:lnTo>
                    <a:lnTo>
                      <a:pt x="538" y="190"/>
                    </a:lnTo>
                    <a:lnTo>
                      <a:pt x="459" y="190"/>
                    </a:lnTo>
                    <a:lnTo>
                      <a:pt x="381" y="190"/>
                    </a:lnTo>
                    <a:lnTo>
                      <a:pt x="302" y="201"/>
                    </a:lnTo>
                    <a:lnTo>
                      <a:pt x="223" y="201"/>
                    </a:lnTo>
                    <a:lnTo>
                      <a:pt x="144" y="201"/>
                    </a:lnTo>
                    <a:lnTo>
                      <a:pt x="134" y="212"/>
                    </a:lnTo>
                    <a:lnTo>
                      <a:pt x="123" y="212"/>
                    </a:lnTo>
                    <a:lnTo>
                      <a:pt x="111" y="212"/>
                    </a:lnTo>
                    <a:lnTo>
                      <a:pt x="101" y="212"/>
                    </a:lnTo>
                    <a:lnTo>
                      <a:pt x="89" y="212"/>
                    </a:lnTo>
                    <a:lnTo>
                      <a:pt x="78" y="212"/>
                    </a:lnTo>
                    <a:lnTo>
                      <a:pt x="67" y="212"/>
                    </a:lnTo>
                    <a:lnTo>
                      <a:pt x="55" y="212"/>
                    </a:lnTo>
                    <a:lnTo>
                      <a:pt x="45" y="212"/>
                    </a:lnTo>
                    <a:lnTo>
                      <a:pt x="33" y="212"/>
                    </a:lnTo>
                    <a:lnTo>
                      <a:pt x="22" y="201"/>
                    </a:lnTo>
                    <a:lnTo>
                      <a:pt x="10" y="201"/>
                    </a:lnTo>
                    <a:lnTo>
                      <a:pt x="10" y="190"/>
                    </a:lnTo>
                    <a:lnTo>
                      <a:pt x="0" y="190"/>
                    </a:lnTo>
                    <a:lnTo>
                      <a:pt x="0" y="179"/>
                    </a:lnTo>
                    <a:lnTo>
                      <a:pt x="0" y="168"/>
                    </a:lnTo>
                    <a:lnTo>
                      <a:pt x="33" y="156"/>
                    </a:lnTo>
                    <a:lnTo>
                      <a:pt x="67" y="145"/>
                    </a:lnTo>
                    <a:lnTo>
                      <a:pt x="101" y="133"/>
                    </a:lnTo>
                    <a:lnTo>
                      <a:pt x="134" y="123"/>
                    </a:lnTo>
                    <a:lnTo>
                      <a:pt x="167" y="112"/>
                    </a:lnTo>
                    <a:lnTo>
                      <a:pt x="200" y="112"/>
                    </a:lnTo>
                    <a:lnTo>
                      <a:pt x="235" y="100"/>
                    </a:lnTo>
                    <a:lnTo>
                      <a:pt x="268" y="89"/>
                    </a:lnTo>
                    <a:lnTo>
                      <a:pt x="302" y="78"/>
                    </a:lnTo>
                    <a:lnTo>
                      <a:pt x="336" y="78"/>
                    </a:lnTo>
                    <a:lnTo>
                      <a:pt x="370" y="67"/>
                    </a:lnTo>
                    <a:lnTo>
                      <a:pt x="403" y="56"/>
                    </a:lnTo>
                    <a:lnTo>
                      <a:pt x="437" y="56"/>
                    </a:lnTo>
                    <a:lnTo>
                      <a:pt x="470" y="44"/>
                    </a:lnTo>
                    <a:lnTo>
                      <a:pt x="504" y="44"/>
                    </a:lnTo>
                    <a:lnTo>
                      <a:pt x="538" y="34"/>
                    </a:lnTo>
                    <a:lnTo>
                      <a:pt x="594" y="34"/>
                    </a:lnTo>
                    <a:lnTo>
                      <a:pt x="649" y="34"/>
                    </a:lnTo>
                    <a:lnTo>
                      <a:pt x="694" y="34"/>
                    </a:lnTo>
                    <a:lnTo>
                      <a:pt x="752" y="22"/>
                    </a:lnTo>
                    <a:lnTo>
                      <a:pt x="807" y="22"/>
                    </a:lnTo>
                    <a:lnTo>
                      <a:pt x="863" y="22"/>
                    </a:lnTo>
                    <a:lnTo>
                      <a:pt x="919" y="22"/>
                    </a:lnTo>
                    <a:lnTo>
                      <a:pt x="975" y="11"/>
                    </a:lnTo>
                    <a:lnTo>
                      <a:pt x="1031" y="11"/>
                    </a:lnTo>
                    <a:lnTo>
                      <a:pt x="1076" y="11"/>
                    </a:lnTo>
                    <a:lnTo>
                      <a:pt x="1132" y="11"/>
                    </a:lnTo>
                    <a:lnTo>
                      <a:pt x="1189" y="11"/>
                    </a:lnTo>
                    <a:lnTo>
                      <a:pt x="1244" y="11"/>
                    </a:lnTo>
                    <a:lnTo>
                      <a:pt x="1300" y="11"/>
                    </a:lnTo>
                    <a:lnTo>
                      <a:pt x="1356" y="11"/>
                    </a:lnTo>
                    <a:lnTo>
                      <a:pt x="1401" y="11"/>
                    </a:lnTo>
                    <a:lnTo>
                      <a:pt x="1412" y="0"/>
                    </a:lnTo>
                    <a:lnTo>
                      <a:pt x="1423" y="0"/>
                    </a:lnTo>
                    <a:lnTo>
                      <a:pt x="1435" y="0"/>
                    </a:lnTo>
                    <a:lnTo>
                      <a:pt x="1445" y="0"/>
                    </a:lnTo>
                    <a:lnTo>
                      <a:pt x="1457" y="11"/>
                    </a:lnTo>
                    <a:lnTo>
                      <a:pt x="1457" y="22"/>
                    </a:lnTo>
                    <a:lnTo>
                      <a:pt x="1468" y="22"/>
                    </a:lnTo>
                    <a:lnTo>
                      <a:pt x="1478" y="34"/>
                    </a:lnTo>
                    <a:lnTo>
                      <a:pt x="1478" y="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6859440" y="5240160"/>
                <a:ext cx="510840" cy="60840"/>
              </a:xfrm>
              <a:custGeom>
                <a:avLst/>
                <a:gdLst/>
                <a:ahLst/>
                <a:rect l="l" t="t" r="r" b="b"/>
                <a:pathLst>
                  <a:path w="1311" h="156">
                    <a:moveTo>
                      <a:pt x="1311" y="78"/>
                    </a:moveTo>
                    <a:lnTo>
                      <a:pt x="1311" y="89"/>
                    </a:lnTo>
                    <a:lnTo>
                      <a:pt x="1311" y="99"/>
                    </a:lnTo>
                    <a:lnTo>
                      <a:pt x="1311" y="111"/>
                    </a:lnTo>
                    <a:lnTo>
                      <a:pt x="1311" y="122"/>
                    </a:lnTo>
                    <a:lnTo>
                      <a:pt x="1301" y="122"/>
                    </a:lnTo>
                    <a:lnTo>
                      <a:pt x="1301" y="134"/>
                    </a:lnTo>
                    <a:lnTo>
                      <a:pt x="1289" y="145"/>
                    </a:lnTo>
                    <a:lnTo>
                      <a:pt x="1278" y="145"/>
                    </a:lnTo>
                    <a:lnTo>
                      <a:pt x="1245" y="145"/>
                    </a:lnTo>
                    <a:lnTo>
                      <a:pt x="1222" y="156"/>
                    </a:lnTo>
                    <a:lnTo>
                      <a:pt x="1189" y="156"/>
                    </a:lnTo>
                    <a:lnTo>
                      <a:pt x="1154" y="156"/>
                    </a:lnTo>
                    <a:lnTo>
                      <a:pt x="1133" y="156"/>
                    </a:lnTo>
                    <a:lnTo>
                      <a:pt x="1099" y="156"/>
                    </a:lnTo>
                    <a:lnTo>
                      <a:pt x="1077" y="156"/>
                    </a:lnTo>
                    <a:lnTo>
                      <a:pt x="1043" y="156"/>
                    </a:lnTo>
                    <a:lnTo>
                      <a:pt x="1010" y="145"/>
                    </a:lnTo>
                    <a:lnTo>
                      <a:pt x="986" y="145"/>
                    </a:lnTo>
                    <a:lnTo>
                      <a:pt x="952" y="145"/>
                    </a:lnTo>
                    <a:lnTo>
                      <a:pt x="919" y="145"/>
                    </a:lnTo>
                    <a:lnTo>
                      <a:pt x="897" y="145"/>
                    </a:lnTo>
                    <a:lnTo>
                      <a:pt x="863" y="145"/>
                    </a:lnTo>
                    <a:lnTo>
                      <a:pt x="841" y="145"/>
                    </a:lnTo>
                    <a:lnTo>
                      <a:pt x="808" y="145"/>
                    </a:lnTo>
                    <a:lnTo>
                      <a:pt x="752" y="145"/>
                    </a:lnTo>
                    <a:lnTo>
                      <a:pt x="707" y="134"/>
                    </a:lnTo>
                    <a:lnTo>
                      <a:pt x="651" y="134"/>
                    </a:lnTo>
                    <a:lnTo>
                      <a:pt x="606" y="134"/>
                    </a:lnTo>
                    <a:lnTo>
                      <a:pt x="549" y="134"/>
                    </a:lnTo>
                    <a:lnTo>
                      <a:pt x="505" y="134"/>
                    </a:lnTo>
                    <a:lnTo>
                      <a:pt x="448" y="134"/>
                    </a:lnTo>
                    <a:lnTo>
                      <a:pt x="404" y="134"/>
                    </a:lnTo>
                    <a:lnTo>
                      <a:pt x="359" y="134"/>
                    </a:lnTo>
                    <a:lnTo>
                      <a:pt x="303" y="134"/>
                    </a:lnTo>
                    <a:lnTo>
                      <a:pt x="258" y="134"/>
                    </a:lnTo>
                    <a:lnTo>
                      <a:pt x="202" y="134"/>
                    </a:lnTo>
                    <a:lnTo>
                      <a:pt x="157" y="134"/>
                    </a:lnTo>
                    <a:lnTo>
                      <a:pt x="101" y="134"/>
                    </a:lnTo>
                    <a:lnTo>
                      <a:pt x="56" y="134"/>
                    </a:lnTo>
                    <a:lnTo>
                      <a:pt x="0" y="145"/>
                    </a:lnTo>
                    <a:lnTo>
                      <a:pt x="33" y="122"/>
                    </a:lnTo>
                    <a:lnTo>
                      <a:pt x="66" y="111"/>
                    </a:lnTo>
                    <a:lnTo>
                      <a:pt x="111" y="99"/>
                    </a:lnTo>
                    <a:lnTo>
                      <a:pt x="146" y="89"/>
                    </a:lnTo>
                    <a:lnTo>
                      <a:pt x="180" y="89"/>
                    </a:lnTo>
                    <a:lnTo>
                      <a:pt x="214" y="78"/>
                    </a:lnTo>
                    <a:lnTo>
                      <a:pt x="247" y="66"/>
                    </a:lnTo>
                    <a:lnTo>
                      <a:pt x="280" y="66"/>
                    </a:lnTo>
                    <a:lnTo>
                      <a:pt x="325" y="55"/>
                    </a:lnTo>
                    <a:lnTo>
                      <a:pt x="359" y="55"/>
                    </a:lnTo>
                    <a:lnTo>
                      <a:pt x="392" y="55"/>
                    </a:lnTo>
                    <a:lnTo>
                      <a:pt x="426" y="44"/>
                    </a:lnTo>
                    <a:lnTo>
                      <a:pt x="470" y="44"/>
                    </a:lnTo>
                    <a:lnTo>
                      <a:pt x="505" y="44"/>
                    </a:lnTo>
                    <a:lnTo>
                      <a:pt x="538" y="33"/>
                    </a:lnTo>
                    <a:lnTo>
                      <a:pt x="583" y="33"/>
                    </a:lnTo>
                    <a:lnTo>
                      <a:pt x="618" y="33"/>
                    </a:lnTo>
                    <a:lnTo>
                      <a:pt x="661" y="33"/>
                    </a:lnTo>
                    <a:lnTo>
                      <a:pt x="707" y="33"/>
                    </a:lnTo>
                    <a:lnTo>
                      <a:pt x="752" y="33"/>
                    </a:lnTo>
                    <a:lnTo>
                      <a:pt x="785" y="33"/>
                    </a:lnTo>
                    <a:lnTo>
                      <a:pt x="829" y="33"/>
                    </a:lnTo>
                    <a:lnTo>
                      <a:pt x="874" y="33"/>
                    </a:lnTo>
                    <a:lnTo>
                      <a:pt x="919" y="33"/>
                    </a:lnTo>
                    <a:lnTo>
                      <a:pt x="963" y="22"/>
                    </a:lnTo>
                    <a:lnTo>
                      <a:pt x="1010" y="22"/>
                    </a:lnTo>
                    <a:lnTo>
                      <a:pt x="1055" y="22"/>
                    </a:lnTo>
                    <a:lnTo>
                      <a:pt x="1099" y="22"/>
                    </a:lnTo>
                    <a:lnTo>
                      <a:pt x="1133" y="22"/>
                    </a:lnTo>
                    <a:lnTo>
                      <a:pt x="1177" y="10"/>
                    </a:lnTo>
                    <a:lnTo>
                      <a:pt x="1222" y="10"/>
                    </a:lnTo>
                    <a:lnTo>
                      <a:pt x="1255" y="10"/>
                    </a:lnTo>
                    <a:lnTo>
                      <a:pt x="1267" y="0"/>
                    </a:lnTo>
                    <a:lnTo>
                      <a:pt x="1278" y="0"/>
                    </a:lnTo>
                    <a:lnTo>
                      <a:pt x="1289" y="0"/>
                    </a:lnTo>
                    <a:lnTo>
                      <a:pt x="1289" y="10"/>
                    </a:lnTo>
                    <a:lnTo>
                      <a:pt x="1301" y="10"/>
                    </a:lnTo>
                    <a:lnTo>
                      <a:pt x="1301" y="22"/>
                    </a:lnTo>
                    <a:lnTo>
                      <a:pt x="1301" y="33"/>
                    </a:lnTo>
                    <a:lnTo>
                      <a:pt x="1301" y="44"/>
                    </a:lnTo>
                    <a:lnTo>
                      <a:pt x="1311" y="44"/>
                    </a:lnTo>
                    <a:lnTo>
                      <a:pt x="1311" y="55"/>
                    </a:lnTo>
                    <a:lnTo>
                      <a:pt x="1311" y="66"/>
                    </a:lnTo>
                    <a:lnTo>
                      <a:pt x="1311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2" name=""/>
            <p:cNvGrpSpPr/>
            <p:nvPr/>
          </p:nvGrpSpPr>
          <p:grpSpPr>
            <a:xfrm>
              <a:off x="990720" y="2163600"/>
              <a:ext cx="1774440" cy="3146400"/>
              <a:chOff x="990720" y="2163600"/>
              <a:chExt cx="1774440" cy="3146400"/>
            </a:xfrm>
          </p:grpSpPr>
          <p:sp>
            <p:nvSpPr>
              <p:cNvPr id="5783" name=""/>
              <p:cNvSpPr/>
              <p:nvPr/>
            </p:nvSpPr>
            <p:spPr>
              <a:xfrm>
                <a:off x="1480680" y="2163600"/>
                <a:ext cx="801000" cy="623160"/>
              </a:xfrm>
              <a:custGeom>
                <a:avLst/>
                <a:gdLst/>
                <a:ahLst/>
                <a:rect l="l" t="t" r="r" b="b"/>
                <a:pathLst>
                  <a:path w="2058" h="1601">
                    <a:moveTo>
                      <a:pt x="1410" y="32"/>
                    </a:moveTo>
                    <a:lnTo>
                      <a:pt x="1422" y="53"/>
                    </a:lnTo>
                    <a:lnTo>
                      <a:pt x="1444" y="75"/>
                    </a:lnTo>
                    <a:lnTo>
                      <a:pt x="1464" y="96"/>
                    </a:lnTo>
                    <a:lnTo>
                      <a:pt x="1475" y="107"/>
                    </a:lnTo>
                    <a:lnTo>
                      <a:pt x="1496" y="127"/>
                    </a:lnTo>
                    <a:lnTo>
                      <a:pt x="1516" y="148"/>
                    </a:lnTo>
                    <a:lnTo>
                      <a:pt x="1538" y="160"/>
                    </a:lnTo>
                    <a:lnTo>
                      <a:pt x="1549" y="180"/>
                    </a:lnTo>
                    <a:lnTo>
                      <a:pt x="1571" y="202"/>
                    </a:lnTo>
                    <a:lnTo>
                      <a:pt x="1591" y="212"/>
                    </a:lnTo>
                    <a:lnTo>
                      <a:pt x="1612" y="234"/>
                    </a:lnTo>
                    <a:lnTo>
                      <a:pt x="1634" y="254"/>
                    </a:lnTo>
                    <a:lnTo>
                      <a:pt x="1655" y="275"/>
                    </a:lnTo>
                    <a:lnTo>
                      <a:pt x="1666" y="287"/>
                    </a:lnTo>
                    <a:lnTo>
                      <a:pt x="1687" y="307"/>
                    </a:lnTo>
                    <a:lnTo>
                      <a:pt x="1709" y="329"/>
                    </a:lnTo>
                    <a:lnTo>
                      <a:pt x="1709" y="339"/>
                    </a:lnTo>
                    <a:lnTo>
                      <a:pt x="1709" y="350"/>
                    </a:lnTo>
                    <a:lnTo>
                      <a:pt x="1709" y="361"/>
                    </a:lnTo>
                    <a:lnTo>
                      <a:pt x="1709" y="381"/>
                    </a:lnTo>
                    <a:lnTo>
                      <a:pt x="1709" y="393"/>
                    </a:lnTo>
                    <a:lnTo>
                      <a:pt x="1698" y="402"/>
                    </a:lnTo>
                    <a:lnTo>
                      <a:pt x="1698" y="414"/>
                    </a:lnTo>
                    <a:lnTo>
                      <a:pt x="1698" y="424"/>
                    </a:lnTo>
                    <a:lnTo>
                      <a:pt x="1687" y="434"/>
                    </a:lnTo>
                    <a:lnTo>
                      <a:pt x="1687" y="445"/>
                    </a:lnTo>
                    <a:lnTo>
                      <a:pt x="1677" y="467"/>
                    </a:lnTo>
                    <a:lnTo>
                      <a:pt x="1666" y="477"/>
                    </a:lnTo>
                    <a:lnTo>
                      <a:pt x="1655" y="488"/>
                    </a:lnTo>
                    <a:lnTo>
                      <a:pt x="1655" y="499"/>
                    </a:lnTo>
                    <a:lnTo>
                      <a:pt x="1644" y="509"/>
                    </a:lnTo>
                    <a:lnTo>
                      <a:pt x="1623" y="509"/>
                    </a:lnTo>
                    <a:lnTo>
                      <a:pt x="1602" y="509"/>
                    </a:lnTo>
                    <a:lnTo>
                      <a:pt x="1580" y="509"/>
                    </a:lnTo>
                    <a:lnTo>
                      <a:pt x="1559" y="509"/>
                    </a:lnTo>
                    <a:lnTo>
                      <a:pt x="1549" y="509"/>
                    </a:lnTo>
                    <a:lnTo>
                      <a:pt x="1528" y="509"/>
                    </a:lnTo>
                    <a:lnTo>
                      <a:pt x="1507" y="509"/>
                    </a:lnTo>
                    <a:lnTo>
                      <a:pt x="1496" y="499"/>
                    </a:lnTo>
                    <a:lnTo>
                      <a:pt x="1475" y="499"/>
                    </a:lnTo>
                    <a:lnTo>
                      <a:pt x="1453" y="488"/>
                    </a:lnTo>
                    <a:lnTo>
                      <a:pt x="1444" y="477"/>
                    </a:lnTo>
                    <a:lnTo>
                      <a:pt x="1422" y="477"/>
                    </a:lnTo>
                    <a:lnTo>
                      <a:pt x="1410" y="467"/>
                    </a:lnTo>
                    <a:lnTo>
                      <a:pt x="1390" y="467"/>
                    </a:lnTo>
                    <a:lnTo>
                      <a:pt x="1369" y="467"/>
                    </a:lnTo>
                    <a:lnTo>
                      <a:pt x="1358" y="456"/>
                    </a:lnTo>
                    <a:lnTo>
                      <a:pt x="1347" y="456"/>
                    </a:lnTo>
                    <a:lnTo>
                      <a:pt x="1337" y="456"/>
                    </a:lnTo>
                    <a:lnTo>
                      <a:pt x="1337" y="445"/>
                    </a:lnTo>
                    <a:lnTo>
                      <a:pt x="1326" y="456"/>
                    </a:lnTo>
                    <a:lnTo>
                      <a:pt x="1337" y="477"/>
                    </a:lnTo>
                    <a:lnTo>
                      <a:pt x="1347" y="488"/>
                    </a:lnTo>
                    <a:lnTo>
                      <a:pt x="1369" y="509"/>
                    </a:lnTo>
                    <a:lnTo>
                      <a:pt x="1380" y="520"/>
                    </a:lnTo>
                    <a:lnTo>
                      <a:pt x="1401" y="520"/>
                    </a:lnTo>
                    <a:lnTo>
                      <a:pt x="1422" y="531"/>
                    </a:lnTo>
                    <a:lnTo>
                      <a:pt x="1444" y="531"/>
                    </a:lnTo>
                    <a:lnTo>
                      <a:pt x="1453" y="541"/>
                    </a:lnTo>
                    <a:lnTo>
                      <a:pt x="1475" y="541"/>
                    </a:lnTo>
                    <a:lnTo>
                      <a:pt x="1496" y="541"/>
                    </a:lnTo>
                    <a:lnTo>
                      <a:pt x="1516" y="541"/>
                    </a:lnTo>
                    <a:lnTo>
                      <a:pt x="1549" y="541"/>
                    </a:lnTo>
                    <a:lnTo>
                      <a:pt x="1559" y="541"/>
                    </a:lnTo>
                    <a:lnTo>
                      <a:pt x="1580" y="541"/>
                    </a:lnTo>
                    <a:lnTo>
                      <a:pt x="1602" y="552"/>
                    </a:lnTo>
                    <a:lnTo>
                      <a:pt x="1623" y="552"/>
                    </a:lnTo>
                    <a:lnTo>
                      <a:pt x="1634" y="552"/>
                    </a:lnTo>
                    <a:lnTo>
                      <a:pt x="1634" y="541"/>
                    </a:lnTo>
                    <a:lnTo>
                      <a:pt x="1644" y="541"/>
                    </a:lnTo>
                    <a:lnTo>
                      <a:pt x="1644" y="531"/>
                    </a:lnTo>
                    <a:lnTo>
                      <a:pt x="1655" y="531"/>
                    </a:lnTo>
                    <a:lnTo>
                      <a:pt x="1666" y="531"/>
                    </a:lnTo>
                    <a:lnTo>
                      <a:pt x="1677" y="531"/>
                    </a:lnTo>
                    <a:lnTo>
                      <a:pt x="1677" y="520"/>
                    </a:lnTo>
                    <a:lnTo>
                      <a:pt x="1687" y="520"/>
                    </a:lnTo>
                    <a:lnTo>
                      <a:pt x="1698" y="520"/>
                    </a:lnTo>
                    <a:lnTo>
                      <a:pt x="1718" y="541"/>
                    </a:lnTo>
                    <a:lnTo>
                      <a:pt x="1730" y="573"/>
                    </a:lnTo>
                    <a:lnTo>
                      <a:pt x="1750" y="594"/>
                    </a:lnTo>
                    <a:lnTo>
                      <a:pt x="1761" y="615"/>
                    </a:lnTo>
                    <a:lnTo>
                      <a:pt x="1772" y="647"/>
                    </a:lnTo>
                    <a:lnTo>
                      <a:pt x="1782" y="669"/>
                    </a:lnTo>
                    <a:lnTo>
                      <a:pt x="1793" y="701"/>
                    </a:lnTo>
                    <a:lnTo>
                      <a:pt x="1804" y="722"/>
                    </a:lnTo>
                    <a:lnTo>
                      <a:pt x="1825" y="753"/>
                    </a:lnTo>
                    <a:lnTo>
                      <a:pt x="1836" y="774"/>
                    </a:lnTo>
                    <a:lnTo>
                      <a:pt x="1845" y="806"/>
                    </a:lnTo>
                    <a:lnTo>
                      <a:pt x="1857" y="828"/>
                    </a:lnTo>
                    <a:lnTo>
                      <a:pt x="1878" y="849"/>
                    </a:lnTo>
                    <a:lnTo>
                      <a:pt x="1899" y="869"/>
                    </a:lnTo>
                    <a:lnTo>
                      <a:pt x="1920" y="891"/>
                    </a:lnTo>
                    <a:lnTo>
                      <a:pt x="1941" y="912"/>
                    </a:lnTo>
                    <a:lnTo>
                      <a:pt x="1951" y="922"/>
                    </a:lnTo>
                    <a:lnTo>
                      <a:pt x="1963" y="933"/>
                    </a:lnTo>
                    <a:lnTo>
                      <a:pt x="1972" y="933"/>
                    </a:lnTo>
                    <a:lnTo>
                      <a:pt x="1984" y="943"/>
                    </a:lnTo>
                    <a:lnTo>
                      <a:pt x="1984" y="955"/>
                    </a:lnTo>
                    <a:lnTo>
                      <a:pt x="1994" y="955"/>
                    </a:lnTo>
                    <a:lnTo>
                      <a:pt x="2006" y="964"/>
                    </a:lnTo>
                    <a:lnTo>
                      <a:pt x="2015" y="964"/>
                    </a:lnTo>
                    <a:lnTo>
                      <a:pt x="2015" y="976"/>
                    </a:lnTo>
                    <a:lnTo>
                      <a:pt x="2026" y="986"/>
                    </a:lnTo>
                    <a:lnTo>
                      <a:pt x="2036" y="986"/>
                    </a:lnTo>
                    <a:lnTo>
                      <a:pt x="2036" y="996"/>
                    </a:lnTo>
                    <a:lnTo>
                      <a:pt x="2047" y="1007"/>
                    </a:lnTo>
                    <a:lnTo>
                      <a:pt x="2047" y="1018"/>
                    </a:lnTo>
                    <a:lnTo>
                      <a:pt x="2058" y="1028"/>
                    </a:lnTo>
                    <a:lnTo>
                      <a:pt x="2058" y="1039"/>
                    </a:lnTo>
                    <a:lnTo>
                      <a:pt x="2058" y="1061"/>
                    </a:lnTo>
                    <a:lnTo>
                      <a:pt x="2047" y="1082"/>
                    </a:lnTo>
                    <a:lnTo>
                      <a:pt x="2047" y="1103"/>
                    </a:lnTo>
                    <a:lnTo>
                      <a:pt x="2036" y="1114"/>
                    </a:lnTo>
                    <a:lnTo>
                      <a:pt x="2026" y="1135"/>
                    </a:lnTo>
                    <a:lnTo>
                      <a:pt x="2015" y="1145"/>
                    </a:lnTo>
                    <a:lnTo>
                      <a:pt x="2006" y="1166"/>
                    </a:lnTo>
                    <a:lnTo>
                      <a:pt x="1994" y="1188"/>
                    </a:lnTo>
                    <a:lnTo>
                      <a:pt x="1984" y="1198"/>
                    </a:lnTo>
                    <a:lnTo>
                      <a:pt x="1972" y="1209"/>
                    </a:lnTo>
                    <a:lnTo>
                      <a:pt x="1963" y="1230"/>
                    </a:lnTo>
                    <a:lnTo>
                      <a:pt x="1951" y="1241"/>
                    </a:lnTo>
                    <a:lnTo>
                      <a:pt x="1931" y="1263"/>
                    </a:lnTo>
                    <a:lnTo>
                      <a:pt x="1920" y="1272"/>
                    </a:lnTo>
                    <a:lnTo>
                      <a:pt x="1909" y="1293"/>
                    </a:lnTo>
                    <a:lnTo>
                      <a:pt x="1899" y="1304"/>
                    </a:lnTo>
                    <a:lnTo>
                      <a:pt x="1878" y="1325"/>
                    </a:lnTo>
                    <a:lnTo>
                      <a:pt x="1857" y="1336"/>
                    </a:lnTo>
                    <a:lnTo>
                      <a:pt x="1836" y="1358"/>
                    </a:lnTo>
                    <a:lnTo>
                      <a:pt x="1825" y="1368"/>
                    </a:lnTo>
                    <a:lnTo>
                      <a:pt x="1804" y="1390"/>
                    </a:lnTo>
                    <a:lnTo>
                      <a:pt x="1782" y="1399"/>
                    </a:lnTo>
                    <a:lnTo>
                      <a:pt x="1761" y="1411"/>
                    </a:lnTo>
                    <a:lnTo>
                      <a:pt x="1739" y="1431"/>
                    </a:lnTo>
                    <a:lnTo>
                      <a:pt x="1718" y="1442"/>
                    </a:lnTo>
                    <a:lnTo>
                      <a:pt x="1709" y="1453"/>
                    </a:lnTo>
                    <a:lnTo>
                      <a:pt x="1687" y="1474"/>
                    </a:lnTo>
                    <a:lnTo>
                      <a:pt x="1666" y="1483"/>
                    </a:lnTo>
                    <a:lnTo>
                      <a:pt x="1644" y="1495"/>
                    </a:lnTo>
                    <a:lnTo>
                      <a:pt x="1623" y="1505"/>
                    </a:lnTo>
                    <a:lnTo>
                      <a:pt x="1602" y="1517"/>
                    </a:lnTo>
                    <a:lnTo>
                      <a:pt x="1591" y="1517"/>
                    </a:lnTo>
                    <a:lnTo>
                      <a:pt x="1591" y="1526"/>
                    </a:lnTo>
                    <a:lnTo>
                      <a:pt x="1580" y="1526"/>
                    </a:lnTo>
                    <a:lnTo>
                      <a:pt x="1571" y="1526"/>
                    </a:lnTo>
                    <a:lnTo>
                      <a:pt x="1571" y="1538"/>
                    </a:lnTo>
                    <a:lnTo>
                      <a:pt x="1559" y="1538"/>
                    </a:lnTo>
                    <a:lnTo>
                      <a:pt x="1549" y="1548"/>
                    </a:lnTo>
                    <a:lnTo>
                      <a:pt x="1538" y="1548"/>
                    </a:lnTo>
                    <a:lnTo>
                      <a:pt x="1528" y="1548"/>
                    </a:lnTo>
                    <a:lnTo>
                      <a:pt x="1516" y="1558"/>
                    </a:lnTo>
                    <a:lnTo>
                      <a:pt x="1507" y="1558"/>
                    </a:lnTo>
                    <a:lnTo>
                      <a:pt x="1496" y="1558"/>
                    </a:lnTo>
                    <a:lnTo>
                      <a:pt x="1485" y="1569"/>
                    </a:lnTo>
                    <a:lnTo>
                      <a:pt x="1475" y="1569"/>
                    </a:lnTo>
                    <a:lnTo>
                      <a:pt x="1464" y="1569"/>
                    </a:lnTo>
                    <a:lnTo>
                      <a:pt x="1453" y="1569"/>
                    </a:lnTo>
                    <a:lnTo>
                      <a:pt x="1444" y="1580"/>
                    </a:lnTo>
                    <a:lnTo>
                      <a:pt x="1432" y="1580"/>
                    </a:lnTo>
                    <a:lnTo>
                      <a:pt x="1422" y="1590"/>
                    </a:lnTo>
                    <a:lnTo>
                      <a:pt x="1410" y="1590"/>
                    </a:lnTo>
                    <a:lnTo>
                      <a:pt x="1401" y="1590"/>
                    </a:lnTo>
                    <a:lnTo>
                      <a:pt x="1390" y="1601"/>
                    </a:lnTo>
                    <a:lnTo>
                      <a:pt x="1380" y="1601"/>
                    </a:lnTo>
                    <a:lnTo>
                      <a:pt x="1369" y="1601"/>
                    </a:lnTo>
                    <a:lnTo>
                      <a:pt x="1358" y="1601"/>
                    </a:lnTo>
                    <a:lnTo>
                      <a:pt x="1347" y="1601"/>
                    </a:lnTo>
                    <a:lnTo>
                      <a:pt x="1337" y="1601"/>
                    </a:lnTo>
                    <a:lnTo>
                      <a:pt x="1326" y="1601"/>
                    </a:lnTo>
                    <a:lnTo>
                      <a:pt x="1317" y="1601"/>
                    </a:lnTo>
                    <a:lnTo>
                      <a:pt x="1305" y="1601"/>
                    </a:lnTo>
                    <a:lnTo>
                      <a:pt x="1295" y="1590"/>
                    </a:lnTo>
                    <a:lnTo>
                      <a:pt x="1283" y="1580"/>
                    </a:lnTo>
                    <a:lnTo>
                      <a:pt x="1274" y="1580"/>
                    </a:lnTo>
                    <a:lnTo>
                      <a:pt x="1274" y="1569"/>
                    </a:lnTo>
                    <a:lnTo>
                      <a:pt x="1263" y="1558"/>
                    </a:lnTo>
                    <a:lnTo>
                      <a:pt x="1263" y="1548"/>
                    </a:lnTo>
                    <a:lnTo>
                      <a:pt x="1252" y="1538"/>
                    </a:lnTo>
                    <a:lnTo>
                      <a:pt x="1242" y="1526"/>
                    </a:lnTo>
                    <a:lnTo>
                      <a:pt x="1242" y="1517"/>
                    </a:lnTo>
                    <a:lnTo>
                      <a:pt x="1231" y="1505"/>
                    </a:lnTo>
                    <a:lnTo>
                      <a:pt x="1220" y="1495"/>
                    </a:lnTo>
                    <a:lnTo>
                      <a:pt x="1210" y="1483"/>
                    </a:lnTo>
                    <a:lnTo>
                      <a:pt x="1188" y="1483"/>
                    </a:lnTo>
                    <a:lnTo>
                      <a:pt x="1178" y="1483"/>
                    </a:lnTo>
                    <a:lnTo>
                      <a:pt x="1156" y="1474"/>
                    </a:lnTo>
                    <a:lnTo>
                      <a:pt x="1136" y="1474"/>
                    </a:lnTo>
                    <a:lnTo>
                      <a:pt x="1115" y="1474"/>
                    </a:lnTo>
                    <a:lnTo>
                      <a:pt x="1093" y="1474"/>
                    </a:lnTo>
                    <a:lnTo>
                      <a:pt x="1072" y="1463"/>
                    </a:lnTo>
                    <a:lnTo>
                      <a:pt x="1051" y="1463"/>
                    </a:lnTo>
                    <a:lnTo>
                      <a:pt x="1029" y="1463"/>
                    </a:lnTo>
                    <a:lnTo>
                      <a:pt x="1009" y="1453"/>
                    </a:lnTo>
                    <a:lnTo>
                      <a:pt x="988" y="1453"/>
                    </a:lnTo>
                    <a:lnTo>
                      <a:pt x="966" y="1442"/>
                    </a:lnTo>
                    <a:lnTo>
                      <a:pt x="945" y="1442"/>
                    </a:lnTo>
                    <a:lnTo>
                      <a:pt x="934" y="1431"/>
                    </a:lnTo>
                    <a:lnTo>
                      <a:pt x="913" y="1431"/>
                    </a:lnTo>
                    <a:lnTo>
                      <a:pt x="891" y="1421"/>
                    </a:lnTo>
                    <a:lnTo>
                      <a:pt x="870" y="1411"/>
                    </a:lnTo>
                    <a:lnTo>
                      <a:pt x="849" y="1399"/>
                    </a:lnTo>
                    <a:lnTo>
                      <a:pt x="839" y="1358"/>
                    </a:lnTo>
                    <a:lnTo>
                      <a:pt x="870" y="1304"/>
                    </a:lnTo>
                    <a:lnTo>
                      <a:pt x="902" y="1251"/>
                    </a:lnTo>
                    <a:lnTo>
                      <a:pt x="923" y="1198"/>
                    </a:lnTo>
                    <a:lnTo>
                      <a:pt x="955" y="1135"/>
                    </a:lnTo>
                    <a:lnTo>
                      <a:pt x="976" y="1082"/>
                    </a:lnTo>
                    <a:lnTo>
                      <a:pt x="1009" y="1028"/>
                    </a:lnTo>
                    <a:lnTo>
                      <a:pt x="1029" y="964"/>
                    </a:lnTo>
                    <a:lnTo>
                      <a:pt x="1061" y="912"/>
                    </a:lnTo>
                    <a:lnTo>
                      <a:pt x="1083" y="859"/>
                    </a:lnTo>
                    <a:lnTo>
                      <a:pt x="1115" y="796"/>
                    </a:lnTo>
                    <a:lnTo>
                      <a:pt x="1136" y="742"/>
                    </a:lnTo>
                    <a:lnTo>
                      <a:pt x="1167" y="689"/>
                    </a:lnTo>
                    <a:lnTo>
                      <a:pt x="1199" y="636"/>
                    </a:lnTo>
                    <a:lnTo>
                      <a:pt x="1231" y="573"/>
                    </a:lnTo>
                    <a:lnTo>
                      <a:pt x="1263" y="520"/>
                    </a:lnTo>
                    <a:lnTo>
                      <a:pt x="1295" y="467"/>
                    </a:lnTo>
                    <a:lnTo>
                      <a:pt x="1305" y="467"/>
                    </a:lnTo>
                    <a:lnTo>
                      <a:pt x="1305" y="456"/>
                    </a:lnTo>
                    <a:lnTo>
                      <a:pt x="1274" y="477"/>
                    </a:lnTo>
                    <a:lnTo>
                      <a:pt x="1242" y="499"/>
                    </a:lnTo>
                    <a:lnTo>
                      <a:pt x="1210" y="531"/>
                    </a:lnTo>
                    <a:lnTo>
                      <a:pt x="1188" y="562"/>
                    </a:lnTo>
                    <a:lnTo>
                      <a:pt x="1167" y="604"/>
                    </a:lnTo>
                    <a:lnTo>
                      <a:pt x="1156" y="615"/>
                    </a:lnTo>
                    <a:lnTo>
                      <a:pt x="1115" y="710"/>
                    </a:lnTo>
                    <a:lnTo>
                      <a:pt x="1061" y="806"/>
                    </a:lnTo>
                    <a:lnTo>
                      <a:pt x="1009" y="901"/>
                    </a:lnTo>
                    <a:lnTo>
                      <a:pt x="955" y="986"/>
                    </a:lnTo>
                    <a:lnTo>
                      <a:pt x="902" y="1082"/>
                    </a:lnTo>
                    <a:lnTo>
                      <a:pt x="882" y="1114"/>
                    </a:lnTo>
                    <a:lnTo>
                      <a:pt x="849" y="1166"/>
                    </a:lnTo>
                    <a:lnTo>
                      <a:pt x="818" y="1220"/>
                    </a:lnTo>
                    <a:lnTo>
                      <a:pt x="786" y="1263"/>
                    </a:lnTo>
                    <a:lnTo>
                      <a:pt x="743" y="1315"/>
                    </a:lnTo>
                    <a:lnTo>
                      <a:pt x="712" y="1368"/>
                    </a:lnTo>
                    <a:lnTo>
                      <a:pt x="701" y="1378"/>
                    </a:lnTo>
                    <a:lnTo>
                      <a:pt x="680" y="1378"/>
                    </a:lnTo>
                    <a:lnTo>
                      <a:pt x="669" y="1368"/>
                    </a:lnTo>
                    <a:lnTo>
                      <a:pt x="648" y="1368"/>
                    </a:lnTo>
                    <a:lnTo>
                      <a:pt x="637" y="1358"/>
                    </a:lnTo>
                    <a:lnTo>
                      <a:pt x="616" y="1347"/>
                    </a:lnTo>
                    <a:lnTo>
                      <a:pt x="616" y="1336"/>
                    </a:lnTo>
                    <a:lnTo>
                      <a:pt x="499" y="1230"/>
                    </a:lnTo>
                    <a:lnTo>
                      <a:pt x="383" y="1124"/>
                    </a:lnTo>
                    <a:lnTo>
                      <a:pt x="277" y="996"/>
                    </a:lnTo>
                    <a:lnTo>
                      <a:pt x="160" y="880"/>
                    </a:lnTo>
                    <a:lnTo>
                      <a:pt x="54" y="753"/>
                    </a:lnTo>
                    <a:lnTo>
                      <a:pt x="22" y="722"/>
                    </a:lnTo>
                    <a:lnTo>
                      <a:pt x="22" y="701"/>
                    </a:lnTo>
                    <a:lnTo>
                      <a:pt x="12" y="689"/>
                    </a:lnTo>
                    <a:lnTo>
                      <a:pt x="0" y="679"/>
                    </a:lnTo>
                    <a:lnTo>
                      <a:pt x="0" y="658"/>
                    </a:lnTo>
                    <a:lnTo>
                      <a:pt x="12" y="647"/>
                    </a:lnTo>
                    <a:lnTo>
                      <a:pt x="22" y="647"/>
                    </a:lnTo>
                    <a:lnTo>
                      <a:pt x="224" y="509"/>
                    </a:lnTo>
                    <a:lnTo>
                      <a:pt x="426" y="381"/>
                    </a:lnTo>
                    <a:lnTo>
                      <a:pt x="626" y="266"/>
                    </a:lnTo>
                    <a:lnTo>
                      <a:pt x="839" y="170"/>
                    </a:lnTo>
                    <a:lnTo>
                      <a:pt x="1061" y="75"/>
                    </a:lnTo>
                    <a:lnTo>
                      <a:pt x="1136" y="53"/>
                    </a:lnTo>
                    <a:lnTo>
                      <a:pt x="1188" y="32"/>
                    </a:lnTo>
                    <a:lnTo>
                      <a:pt x="1242" y="21"/>
                    </a:lnTo>
                    <a:lnTo>
                      <a:pt x="1295" y="10"/>
                    </a:lnTo>
                    <a:lnTo>
                      <a:pt x="1337" y="0"/>
                    </a:lnTo>
                    <a:lnTo>
                      <a:pt x="1390" y="21"/>
                    </a:lnTo>
                    <a:lnTo>
                      <a:pt x="1410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029680" y="2175120"/>
                <a:ext cx="116280" cy="114120"/>
              </a:xfrm>
              <a:custGeom>
                <a:avLst/>
                <a:gdLst/>
                <a:ahLst/>
                <a:rect l="l" t="t" r="r" b="b"/>
                <a:pathLst>
                  <a:path w="299" h="297">
                    <a:moveTo>
                      <a:pt x="0" y="0"/>
                    </a:moveTo>
                    <a:lnTo>
                      <a:pt x="12" y="21"/>
                    </a:lnTo>
                    <a:lnTo>
                      <a:pt x="34" y="43"/>
                    </a:lnTo>
                    <a:lnTo>
                      <a:pt x="54" y="64"/>
                    </a:lnTo>
                    <a:lnTo>
                      <a:pt x="65" y="75"/>
                    </a:lnTo>
                    <a:lnTo>
                      <a:pt x="86" y="95"/>
                    </a:lnTo>
                    <a:lnTo>
                      <a:pt x="106" y="116"/>
                    </a:lnTo>
                    <a:lnTo>
                      <a:pt x="128" y="128"/>
                    </a:lnTo>
                    <a:lnTo>
                      <a:pt x="139" y="148"/>
                    </a:lnTo>
                    <a:lnTo>
                      <a:pt x="161" y="170"/>
                    </a:lnTo>
                    <a:lnTo>
                      <a:pt x="181" y="180"/>
                    </a:lnTo>
                    <a:lnTo>
                      <a:pt x="202" y="202"/>
                    </a:lnTo>
                    <a:lnTo>
                      <a:pt x="224" y="222"/>
                    </a:lnTo>
                    <a:lnTo>
                      <a:pt x="245" y="243"/>
                    </a:lnTo>
                    <a:lnTo>
                      <a:pt x="256" y="255"/>
                    </a:lnTo>
                    <a:lnTo>
                      <a:pt x="277" y="275"/>
                    </a:lnTo>
                    <a:lnTo>
                      <a:pt x="299" y="2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2120760" y="2289240"/>
                <a:ext cx="25200" cy="72360"/>
              </a:xfrm>
              <a:custGeom>
                <a:avLst/>
                <a:gdLst/>
                <a:ahLst/>
                <a:rect l="l" t="t" r="r" b="b"/>
                <a:pathLst>
                  <a:path w="65" h="180">
                    <a:moveTo>
                      <a:pt x="65" y="0"/>
                    </a:moveTo>
                    <a:lnTo>
                      <a:pt x="65" y="10"/>
                    </a:lnTo>
                    <a:lnTo>
                      <a:pt x="65" y="21"/>
                    </a:lnTo>
                    <a:lnTo>
                      <a:pt x="65" y="32"/>
                    </a:lnTo>
                    <a:lnTo>
                      <a:pt x="65" y="52"/>
                    </a:lnTo>
                    <a:lnTo>
                      <a:pt x="65" y="64"/>
                    </a:lnTo>
                    <a:lnTo>
                      <a:pt x="54" y="73"/>
                    </a:lnTo>
                    <a:lnTo>
                      <a:pt x="54" y="85"/>
                    </a:lnTo>
                    <a:lnTo>
                      <a:pt x="54" y="95"/>
                    </a:lnTo>
                    <a:lnTo>
                      <a:pt x="43" y="105"/>
                    </a:lnTo>
                    <a:lnTo>
                      <a:pt x="43" y="116"/>
                    </a:lnTo>
                    <a:lnTo>
                      <a:pt x="33" y="138"/>
                    </a:lnTo>
                    <a:lnTo>
                      <a:pt x="22" y="148"/>
                    </a:lnTo>
                    <a:lnTo>
                      <a:pt x="11" y="159"/>
                    </a:lnTo>
                    <a:lnTo>
                      <a:pt x="11" y="170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141640" y="2364480"/>
                <a:ext cx="95760" cy="153720"/>
              </a:xfrm>
              <a:custGeom>
                <a:avLst/>
                <a:gdLst/>
                <a:ahLst/>
                <a:rect l="l" t="t" r="r" b="b"/>
                <a:pathLst>
                  <a:path w="243" h="392">
                    <a:moveTo>
                      <a:pt x="0" y="0"/>
                    </a:moveTo>
                    <a:lnTo>
                      <a:pt x="20" y="21"/>
                    </a:lnTo>
                    <a:lnTo>
                      <a:pt x="32" y="53"/>
                    </a:lnTo>
                    <a:lnTo>
                      <a:pt x="52" y="74"/>
                    </a:lnTo>
                    <a:lnTo>
                      <a:pt x="63" y="95"/>
                    </a:lnTo>
                    <a:lnTo>
                      <a:pt x="74" y="127"/>
                    </a:lnTo>
                    <a:lnTo>
                      <a:pt x="84" y="149"/>
                    </a:lnTo>
                    <a:lnTo>
                      <a:pt x="95" y="181"/>
                    </a:lnTo>
                    <a:lnTo>
                      <a:pt x="106" y="202"/>
                    </a:lnTo>
                    <a:lnTo>
                      <a:pt x="127" y="233"/>
                    </a:lnTo>
                    <a:lnTo>
                      <a:pt x="138" y="254"/>
                    </a:lnTo>
                    <a:lnTo>
                      <a:pt x="147" y="286"/>
                    </a:lnTo>
                    <a:lnTo>
                      <a:pt x="159" y="308"/>
                    </a:lnTo>
                    <a:lnTo>
                      <a:pt x="180" y="329"/>
                    </a:lnTo>
                    <a:lnTo>
                      <a:pt x="201" y="349"/>
                    </a:lnTo>
                    <a:lnTo>
                      <a:pt x="222" y="371"/>
                    </a:lnTo>
                    <a:lnTo>
                      <a:pt x="243" y="3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2223720" y="2562480"/>
                <a:ext cx="57960" cy="102600"/>
              </a:xfrm>
              <a:custGeom>
                <a:avLst/>
                <a:gdLst/>
                <a:ahLst/>
                <a:rect l="l" t="t" r="r" b="b"/>
                <a:pathLst>
                  <a:path w="149" h="265">
                    <a:moveTo>
                      <a:pt x="149" y="0"/>
                    </a:moveTo>
                    <a:lnTo>
                      <a:pt x="149" y="11"/>
                    </a:lnTo>
                    <a:lnTo>
                      <a:pt x="149" y="33"/>
                    </a:lnTo>
                    <a:lnTo>
                      <a:pt x="138" y="54"/>
                    </a:lnTo>
                    <a:lnTo>
                      <a:pt x="138" y="75"/>
                    </a:lnTo>
                    <a:lnTo>
                      <a:pt x="127" y="86"/>
                    </a:lnTo>
                    <a:lnTo>
                      <a:pt x="117" y="107"/>
                    </a:lnTo>
                    <a:lnTo>
                      <a:pt x="106" y="117"/>
                    </a:lnTo>
                    <a:lnTo>
                      <a:pt x="97" y="138"/>
                    </a:lnTo>
                    <a:lnTo>
                      <a:pt x="85" y="160"/>
                    </a:lnTo>
                    <a:lnTo>
                      <a:pt x="75" y="170"/>
                    </a:lnTo>
                    <a:lnTo>
                      <a:pt x="63" y="181"/>
                    </a:lnTo>
                    <a:lnTo>
                      <a:pt x="54" y="202"/>
                    </a:lnTo>
                    <a:lnTo>
                      <a:pt x="42" y="213"/>
                    </a:lnTo>
                    <a:lnTo>
                      <a:pt x="22" y="235"/>
                    </a:lnTo>
                    <a:lnTo>
                      <a:pt x="11" y="244"/>
                    </a:lnTo>
                    <a:lnTo>
                      <a:pt x="0" y="2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104560" y="2665080"/>
                <a:ext cx="118800" cy="86760"/>
              </a:xfrm>
              <a:custGeom>
                <a:avLst/>
                <a:gdLst/>
                <a:ahLst/>
                <a:rect l="l" t="t" r="r" b="b"/>
                <a:pathLst>
                  <a:path w="307" h="224">
                    <a:moveTo>
                      <a:pt x="307" y="0"/>
                    </a:moveTo>
                    <a:lnTo>
                      <a:pt x="297" y="11"/>
                    </a:lnTo>
                    <a:lnTo>
                      <a:pt x="276" y="32"/>
                    </a:lnTo>
                    <a:lnTo>
                      <a:pt x="255" y="43"/>
                    </a:lnTo>
                    <a:lnTo>
                      <a:pt x="234" y="65"/>
                    </a:lnTo>
                    <a:lnTo>
                      <a:pt x="223" y="75"/>
                    </a:lnTo>
                    <a:lnTo>
                      <a:pt x="202" y="97"/>
                    </a:lnTo>
                    <a:lnTo>
                      <a:pt x="180" y="106"/>
                    </a:lnTo>
                    <a:lnTo>
                      <a:pt x="159" y="118"/>
                    </a:lnTo>
                    <a:lnTo>
                      <a:pt x="137" y="138"/>
                    </a:lnTo>
                    <a:lnTo>
                      <a:pt x="116" y="149"/>
                    </a:lnTo>
                    <a:lnTo>
                      <a:pt x="107" y="160"/>
                    </a:lnTo>
                    <a:lnTo>
                      <a:pt x="85" y="181"/>
                    </a:lnTo>
                    <a:lnTo>
                      <a:pt x="64" y="190"/>
                    </a:lnTo>
                    <a:lnTo>
                      <a:pt x="42" y="202"/>
                    </a:lnTo>
                    <a:lnTo>
                      <a:pt x="21" y="212"/>
                    </a:lnTo>
                    <a:lnTo>
                      <a:pt x="0" y="2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1807920" y="2343240"/>
                <a:ext cx="177120" cy="347400"/>
              </a:xfrm>
              <a:custGeom>
                <a:avLst/>
                <a:gdLst/>
                <a:ahLst/>
                <a:rect l="l" t="t" r="r" b="b"/>
                <a:pathLst>
                  <a:path w="456" h="891">
                    <a:moveTo>
                      <a:pt x="0" y="891"/>
                    </a:moveTo>
                    <a:lnTo>
                      <a:pt x="31" y="837"/>
                    </a:lnTo>
                    <a:lnTo>
                      <a:pt x="63" y="784"/>
                    </a:lnTo>
                    <a:lnTo>
                      <a:pt x="84" y="731"/>
                    </a:lnTo>
                    <a:lnTo>
                      <a:pt x="116" y="668"/>
                    </a:lnTo>
                    <a:lnTo>
                      <a:pt x="137" y="615"/>
                    </a:lnTo>
                    <a:lnTo>
                      <a:pt x="170" y="561"/>
                    </a:lnTo>
                    <a:lnTo>
                      <a:pt x="190" y="497"/>
                    </a:lnTo>
                    <a:lnTo>
                      <a:pt x="222" y="445"/>
                    </a:lnTo>
                    <a:lnTo>
                      <a:pt x="244" y="392"/>
                    </a:lnTo>
                    <a:lnTo>
                      <a:pt x="276" y="329"/>
                    </a:lnTo>
                    <a:lnTo>
                      <a:pt x="297" y="275"/>
                    </a:lnTo>
                    <a:lnTo>
                      <a:pt x="328" y="222"/>
                    </a:lnTo>
                    <a:lnTo>
                      <a:pt x="360" y="169"/>
                    </a:lnTo>
                    <a:lnTo>
                      <a:pt x="392" y="106"/>
                    </a:lnTo>
                    <a:lnTo>
                      <a:pt x="424" y="53"/>
                    </a:lnTo>
                    <a:lnTo>
                      <a:pt x="4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1931760" y="2340720"/>
                <a:ext cx="57960" cy="60840"/>
              </a:xfrm>
              <a:custGeom>
                <a:avLst/>
                <a:gdLst/>
                <a:ahLst/>
                <a:rect l="l" t="t" r="r" b="b"/>
                <a:pathLst>
                  <a:path w="149" h="159">
                    <a:moveTo>
                      <a:pt x="149" y="0"/>
                    </a:moveTo>
                    <a:lnTo>
                      <a:pt x="139" y="11"/>
                    </a:lnTo>
                    <a:lnTo>
                      <a:pt x="127" y="11"/>
                    </a:lnTo>
                    <a:lnTo>
                      <a:pt x="118" y="21"/>
                    </a:lnTo>
                    <a:lnTo>
                      <a:pt x="107" y="21"/>
                    </a:lnTo>
                    <a:lnTo>
                      <a:pt x="96" y="32"/>
                    </a:lnTo>
                    <a:lnTo>
                      <a:pt x="86" y="43"/>
                    </a:lnTo>
                    <a:lnTo>
                      <a:pt x="75" y="53"/>
                    </a:lnTo>
                    <a:lnTo>
                      <a:pt x="64" y="64"/>
                    </a:lnTo>
                    <a:lnTo>
                      <a:pt x="54" y="75"/>
                    </a:lnTo>
                    <a:lnTo>
                      <a:pt x="43" y="85"/>
                    </a:lnTo>
                    <a:lnTo>
                      <a:pt x="43" y="96"/>
                    </a:lnTo>
                    <a:lnTo>
                      <a:pt x="32" y="106"/>
                    </a:lnTo>
                    <a:lnTo>
                      <a:pt x="22" y="127"/>
                    </a:lnTo>
                    <a:lnTo>
                      <a:pt x="22" y="138"/>
                    </a:lnTo>
                    <a:lnTo>
                      <a:pt x="11" y="148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1824480" y="2401560"/>
                <a:ext cx="107280" cy="193680"/>
              </a:xfrm>
              <a:custGeom>
                <a:avLst/>
                <a:gdLst/>
                <a:ahLst/>
                <a:rect l="l" t="t" r="r" b="b"/>
                <a:pathLst>
                  <a:path w="274" h="499">
                    <a:moveTo>
                      <a:pt x="274" y="0"/>
                    </a:moveTo>
                    <a:lnTo>
                      <a:pt x="264" y="32"/>
                    </a:lnTo>
                    <a:lnTo>
                      <a:pt x="242" y="64"/>
                    </a:lnTo>
                    <a:lnTo>
                      <a:pt x="233" y="95"/>
                    </a:lnTo>
                    <a:lnTo>
                      <a:pt x="211" y="127"/>
                    </a:lnTo>
                    <a:lnTo>
                      <a:pt x="201" y="159"/>
                    </a:lnTo>
                    <a:lnTo>
                      <a:pt x="179" y="191"/>
                    </a:lnTo>
                    <a:lnTo>
                      <a:pt x="158" y="222"/>
                    </a:lnTo>
                    <a:lnTo>
                      <a:pt x="147" y="254"/>
                    </a:lnTo>
                    <a:lnTo>
                      <a:pt x="127" y="286"/>
                    </a:lnTo>
                    <a:lnTo>
                      <a:pt x="106" y="318"/>
                    </a:lnTo>
                    <a:lnTo>
                      <a:pt x="84" y="340"/>
                    </a:lnTo>
                    <a:lnTo>
                      <a:pt x="73" y="371"/>
                    </a:lnTo>
                    <a:lnTo>
                      <a:pt x="52" y="403"/>
                    </a:lnTo>
                    <a:lnTo>
                      <a:pt x="31" y="435"/>
                    </a:lnTo>
                    <a:lnTo>
                      <a:pt x="20" y="467"/>
                    </a:lnTo>
                    <a:lnTo>
                      <a:pt x="0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1753920" y="2595240"/>
                <a:ext cx="70200" cy="102600"/>
              </a:xfrm>
              <a:custGeom>
                <a:avLst/>
                <a:gdLst/>
                <a:ahLst/>
                <a:rect l="l" t="t" r="r" b="b"/>
                <a:pathLst>
                  <a:path w="181" h="264">
                    <a:moveTo>
                      <a:pt x="181" y="0"/>
                    </a:moveTo>
                    <a:lnTo>
                      <a:pt x="169" y="21"/>
                    </a:lnTo>
                    <a:lnTo>
                      <a:pt x="159" y="31"/>
                    </a:lnTo>
                    <a:lnTo>
                      <a:pt x="148" y="52"/>
                    </a:lnTo>
                    <a:lnTo>
                      <a:pt x="138" y="63"/>
                    </a:lnTo>
                    <a:lnTo>
                      <a:pt x="127" y="84"/>
                    </a:lnTo>
                    <a:lnTo>
                      <a:pt x="117" y="106"/>
                    </a:lnTo>
                    <a:lnTo>
                      <a:pt x="106" y="116"/>
                    </a:lnTo>
                    <a:lnTo>
                      <a:pt x="95" y="137"/>
                    </a:lnTo>
                    <a:lnTo>
                      <a:pt x="85" y="149"/>
                    </a:lnTo>
                    <a:lnTo>
                      <a:pt x="74" y="170"/>
                    </a:lnTo>
                    <a:lnTo>
                      <a:pt x="63" y="190"/>
                    </a:lnTo>
                    <a:lnTo>
                      <a:pt x="42" y="201"/>
                    </a:lnTo>
                    <a:lnTo>
                      <a:pt x="32" y="222"/>
                    </a:lnTo>
                    <a:lnTo>
                      <a:pt x="20" y="233"/>
                    </a:lnTo>
                    <a:lnTo>
                      <a:pt x="11" y="254"/>
                    </a:lnTo>
                    <a:lnTo>
                      <a:pt x="0" y="2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1490400" y="2444040"/>
                <a:ext cx="231120" cy="237600"/>
              </a:xfrm>
              <a:custGeom>
                <a:avLst/>
                <a:gdLst/>
                <a:ahLst/>
                <a:rect l="l" t="t" r="r" b="b"/>
                <a:pathLst>
                  <a:path w="594" h="614">
                    <a:moveTo>
                      <a:pt x="594" y="614"/>
                    </a:moveTo>
                    <a:lnTo>
                      <a:pt x="552" y="582"/>
                    </a:lnTo>
                    <a:lnTo>
                      <a:pt x="519" y="550"/>
                    </a:lnTo>
                    <a:lnTo>
                      <a:pt x="477" y="508"/>
                    </a:lnTo>
                    <a:lnTo>
                      <a:pt x="435" y="476"/>
                    </a:lnTo>
                    <a:lnTo>
                      <a:pt x="404" y="435"/>
                    </a:lnTo>
                    <a:lnTo>
                      <a:pt x="361" y="402"/>
                    </a:lnTo>
                    <a:lnTo>
                      <a:pt x="329" y="360"/>
                    </a:lnTo>
                    <a:lnTo>
                      <a:pt x="286" y="317"/>
                    </a:lnTo>
                    <a:lnTo>
                      <a:pt x="255" y="274"/>
                    </a:lnTo>
                    <a:lnTo>
                      <a:pt x="212" y="242"/>
                    </a:lnTo>
                    <a:lnTo>
                      <a:pt x="180" y="200"/>
                    </a:lnTo>
                    <a:lnTo>
                      <a:pt x="138" y="158"/>
                    </a:lnTo>
                    <a:lnTo>
                      <a:pt x="107" y="115"/>
                    </a:lnTo>
                    <a:lnTo>
                      <a:pt x="75" y="74"/>
                    </a:lnTo>
                    <a:lnTo>
                      <a:pt x="32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1490400" y="2184480"/>
                <a:ext cx="433800" cy="231120"/>
              </a:xfrm>
              <a:custGeom>
                <a:avLst/>
                <a:gdLst/>
                <a:ahLst/>
                <a:rect l="l" t="t" r="r" b="b"/>
                <a:pathLst>
                  <a:path w="1114" h="594">
                    <a:moveTo>
                      <a:pt x="0" y="594"/>
                    </a:moveTo>
                    <a:lnTo>
                      <a:pt x="64" y="541"/>
                    </a:lnTo>
                    <a:lnTo>
                      <a:pt x="128" y="499"/>
                    </a:lnTo>
                    <a:lnTo>
                      <a:pt x="202" y="456"/>
                    </a:lnTo>
                    <a:lnTo>
                      <a:pt x="265" y="414"/>
                    </a:lnTo>
                    <a:lnTo>
                      <a:pt x="329" y="371"/>
                    </a:lnTo>
                    <a:lnTo>
                      <a:pt x="404" y="328"/>
                    </a:lnTo>
                    <a:lnTo>
                      <a:pt x="467" y="286"/>
                    </a:lnTo>
                    <a:lnTo>
                      <a:pt x="540" y="254"/>
                    </a:lnTo>
                    <a:lnTo>
                      <a:pt x="604" y="213"/>
                    </a:lnTo>
                    <a:lnTo>
                      <a:pt x="679" y="181"/>
                    </a:lnTo>
                    <a:lnTo>
                      <a:pt x="753" y="149"/>
                    </a:lnTo>
                    <a:lnTo>
                      <a:pt x="817" y="117"/>
                    </a:lnTo>
                    <a:lnTo>
                      <a:pt x="891" y="86"/>
                    </a:lnTo>
                    <a:lnTo>
                      <a:pt x="966" y="54"/>
                    </a:lnTo>
                    <a:lnTo>
                      <a:pt x="1039" y="22"/>
                    </a:lnTo>
                    <a:lnTo>
                      <a:pt x="11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1497240" y="2179800"/>
                <a:ext cx="632520" cy="489960"/>
              </a:xfrm>
              <a:custGeom>
                <a:avLst/>
                <a:gdLst/>
                <a:ahLst/>
                <a:rect l="l" t="t" r="r" b="b"/>
                <a:pathLst>
                  <a:path w="1623" h="1262">
                    <a:moveTo>
                      <a:pt x="1421" y="138"/>
                    </a:moveTo>
                    <a:lnTo>
                      <a:pt x="1432" y="160"/>
                    </a:lnTo>
                    <a:lnTo>
                      <a:pt x="1442" y="170"/>
                    </a:lnTo>
                    <a:lnTo>
                      <a:pt x="1464" y="181"/>
                    </a:lnTo>
                    <a:lnTo>
                      <a:pt x="1473" y="192"/>
                    </a:lnTo>
                    <a:lnTo>
                      <a:pt x="1485" y="202"/>
                    </a:lnTo>
                    <a:lnTo>
                      <a:pt x="1495" y="212"/>
                    </a:lnTo>
                    <a:lnTo>
                      <a:pt x="1516" y="224"/>
                    </a:lnTo>
                    <a:lnTo>
                      <a:pt x="1528" y="233"/>
                    </a:lnTo>
                    <a:lnTo>
                      <a:pt x="1537" y="245"/>
                    </a:lnTo>
                    <a:lnTo>
                      <a:pt x="1548" y="255"/>
                    </a:lnTo>
                    <a:lnTo>
                      <a:pt x="1559" y="265"/>
                    </a:lnTo>
                    <a:lnTo>
                      <a:pt x="1580" y="276"/>
                    </a:lnTo>
                    <a:lnTo>
                      <a:pt x="1591" y="297"/>
                    </a:lnTo>
                    <a:lnTo>
                      <a:pt x="1601" y="308"/>
                    </a:lnTo>
                    <a:lnTo>
                      <a:pt x="1612" y="319"/>
                    </a:lnTo>
                    <a:lnTo>
                      <a:pt x="1623" y="339"/>
                    </a:lnTo>
                    <a:lnTo>
                      <a:pt x="1623" y="351"/>
                    </a:lnTo>
                    <a:lnTo>
                      <a:pt x="1623" y="360"/>
                    </a:lnTo>
                    <a:lnTo>
                      <a:pt x="1612" y="372"/>
                    </a:lnTo>
                    <a:lnTo>
                      <a:pt x="1612" y="382"/>
                    </a:lnTo>
                    <a:lnTo>
                      <a:pt x="1612" y="392"/>
                    </a:lnTo>
                    <a:lnTo>
                      <a:pt x="1601" y="403"/>
                    </a:lnTo>
                    <a:lnTo>
                      <a:pt x="1601" y="414"/>
                    </a:lnTo>
                    <a:lnTo>
                      <a:pt x="1580" y="414"/>
                    </a:lnTo>
                    <a:lnTo>
                      <a:pt x="1559" y="414"/>
                    </a:lnTo>
                    <a:lnTo>
                      <a:pt x="1537" y="414"/>
                    </a:lnTo>
                    <a:lnTo>
                      <a:pt x="1516" y="414"/>
                    </a:lnTo>
                    <a:lnTo>
                      <a:pt x="1495" y="403"/>
                    </a:lnTo>
                    <a:lnTo>
                      <a:pt x="1473" y="392"/>
                    </a:lnTo>
                    <a:lnTo>
                      <a:pt x="1453" y="392"/>
                    </a:lnTo>
                    <a:lnTo>
                      <a:pt x="1432" y="382"/>
                    </a:lnTo>
                    <a:lnTo>
                      <a:pt x="1410" y="372"/>
                    </a:lnTo>
                    <a:lnTo>
                      <a:pt x="1389" y="360"/>
                    </a:lnTo>
                    <a:lnTo>
                      <a:pt x="1367" y="360"/>
                    </a:lnTo>
                    <a:lnTo>
                      <a:pt x="1347" y="351"/>
                    </a:lnTo>
                    <a:lnTo>
                      <a:pt x="1326" y="351"/>
                    </a:lnTo>
                    <a:lnTo>
                      <a:pt x="1304" y="351"/>
                    </a:lnTo>
                    <a:lnTo>
                      <a:pt x="1283" y="360"/>
                    </a:lnTo>
                    <a:lnTo>
                      <a:pt x="1252" y="360"/>
                    </a:lnTo>
                    <a:lnTo>
                      <a:pt x="1220" y="382"/>
                    </a:lnTo>
                    <a:lnTo>
                      <a:pt x="1188" y="414"/>
                    </a:lnTo>
                    <a:lnTo>
                      <a:pt x="1167" y="435"/>
                    </a:lnTo>
                    <a:lnTo>
                      <a:pt x="1145" y="467"/>
                    </a:lnTo>
                    <a:lnTo>
                      <a:pt x="1124" y="499"/>
                    </a:lnTo>
                    <a:lnTo>
                      <a:pt x="1103" y="531"/>
                    </a:lnTo>
                    <a:lnTo>
                      <a:pt x="1093" y="562"/>
                    </a:lnTo>
                    <a:lnTo>
                      <a:pt x="1072" y="594"/>
                    </a:lnTo>
                    <a:lnTo>
                      <a:pt x="1061" y="627"/>
                    </a:lnTo>
                    <a:lnTo>
                      <a:pt x="1040" y="659"/>
                    </a:lnTo>
                    <a:lnTo>
                      <a:pt x="1029" y="700"/>
                    </a:lnTo>
                    <a:lnTo>
                      <a:pt x="1008" y="732"/>
                    </a:lnTo>
                    <a:lnTo>
                      <a:pt x="997" y="764"/>
                    </a:lnTo>
                    <a:lnTo>
                      <a:pt x="975" y="795"/>
                    </a:lnTo>
                    <a:lnTo>
                      <a:pt x="954" y="827"/>
                    </a:lnTo>
                    <a:lnTo>
                      <a:pt x="933" y="849"/>
                    </a:lnTo>
                    <a:lnTo>
                      <a:pt x="912" y="880"/>
                    </a:lnTo>
                    <a:lnTo>
                      <a:pt x="902" y="913"/>
                    </a:lnTo>
                    <a:lnTo>
                      <a:pt x="880" y="934"/>
                    </a:lnTo>
                    <a:lnTo>
                      <a:pt x="870" y="965"/>
                    </a:lnTo>
                    <a:lnTo>
                      <a:pt x="848" y="986"/>
                    </a:lnTo>
                    <a:lnTo>
                      <a:pt x="839" y="1008"/>
                    </a:lnTo>
                    <a:lnTo>
                      <a:pt x="817" y="1040"/>
                    </a:lnTo>
                    <a:lnTo>
                      <a:pt x="806" y="1061"/>
                    </a:lnTo>
                    <a:lnTo>
                      <a:pt x="785" y="1093"/>
                    </a:lnTo>
                    <a:lnTo>
                      <a:pt x="764" y="1115"/>
                    </a:lnTo>
                    <a:lnTo>
                      <a:pt x="753" y="1146"/>
                    </a:lnTo>
                    <a:lnTo>
                      <a:pt x="732" y="1167"/>
                    </a:lnTo>
                    <a:lnTo>
                      <a:pt x="712" y="1188"/>
                    </a:lnTo>
                    <a:lnTo>
                      <a:pt x="690" y="1209"/>
                    </a:lnTo>
                    <a:lnTo>
                      <a:pt x="669" y="1242"/>
                    </a:lnTo>
                    <a:lnTo>
                      <a:pt x="648" y="1262"/>
                    </a:lnTo>
                    <a:lnTo>
                      <a:pt x="637" y="1262"/>
                    </a:lnTo>
                    <a:lnTo>
                      <a:pt x="637" y="1251"/>
                    </a:lnTo>
                    <a:lnTo>
                      <a:pt x="626" y="1251"/>
                    </a:lnTo>
                    <a:lnTo>
                      <a:pt x="626" y="1242"/>
                    </a:lnTo>
                    <a:lnTo>
                      <a:pt x="616" y="1242"/>
                    </a:lnTo>
                    <a:lnTo>
                      <a:pt x="605" y="1230"/>
                    </a:lnTo>
                    <a:lnTo>
                      <a:pt x="594" y="1221"/>
                    </a:lnTo>
                    <a:lnTo>
                      <a:pt x="583" y="1209"/>
                    </a:lnTo>
                    <a:lnTo>
                      <a:pt x="551" y="1178"/>
                    </a:lnTo>
                    <a:lnTo>
                      <a:pt x="510" y="1146"/>
                    </a:lnTo>
                    <a:lnTo>
                      <a:pt x="478" y="1115"/>
                    </a:lnTo>
                    <a:lnTo>
                      <a:pt x="435" y="1072"/>
                    </a:lnTo>
                    <a:lnTo>
                      <a:pt x="404" y="1040"/>
                    </a:lnTo>
                    <a:lnTo>
                      <a:pt x="361" y="997"/>
                    </a:lnTo>
                    <a:lnTo>
                      <a:pt x="329" y="965"/>
                    </a:lnTo>
                    <a:lnTo>
                      <a:pt x="286" y="922"/>
                    </a:lnTo>
                    <a:lnTo>
                      <a:pt x="256" y="891"/>
                    </a:lnTo>
                    <a:lnTo>
                      <a:pt x="224" y="849"/>
                    </a:lnTo>
                    <a:lnTo>
                      <a:pt x="181" y="817"/>
                    </a:lnTo>
                    <a:lnTo>
                      <a:pt x="150" y="774"/>
                    </a:lnTo>
                    <a:lnTo>
                      <a:pt x="107" y="743"/>
                    </a:lnTo>
                    <a:lnTo>
                      <a:pt x="75" y="700"/>
                    </a:lnTo>
                    <a:lnTo>
                      <a:pt x="43" y="659"/>
                    </a:lnTo>
                    <a:lnTo>
                      <a:pt x="0" y="627"/>
                    </a:lnTo>
                    <a:lnTo>
                      <a:pt x="54" y="594"/>
                    </a:lnTo>
                    <a:lnTo>
                      <a:pt x="96" y="562"/>
                    </a:lnTo>
                    <a:lnTo>
                      <a:pt x="150" y="531"/>
                    </a:lnTo>
                    <a:lnTo>
                      <a:pt x="191" y="499"/>
                    </a:lnTo>
                    <a:lnTo>
                      <a:pt x="234" y="467"/>
                    </a:lnTo>
                    <a:lnTo>
                      <a:pt x="286" y="435"/>
                    </a:lnTo>
                    <a:lnTo>
                      <a:pt x="329" y="403"/>
                    </a:lnTo>
                    <a:lnTo>
                      <a:pt x="383" y="372"/>
                    </a:lnTo>
                    <a:lnTo>
                      <a:pt x="424" y="351"/>
                    </a:lnTo>
                    <a:lnTo>
                      <a:pt x="478" y="319"/>
                    </a:lnTo>
                    <a:lnTo>
                      <a:pt x="519" y="297"/>
                    </a:lnTo>
                    <a:lnTo>
                      <a:pt x="573" y="265"/>
                    </a:lnTo>
                    <a:lnTo>
                      <a:pt x="616" y="245"/>
                    </a:lnTo>
                    <a:lnTo>
                      <a:pt x="669" y="212"/>
                    </a:lnTo>
                    <a:lnTo>
                      <a:pt x="721" y="192"/>
                    </a:lnTo>
                    <a:lnTo>
                      <a:pt x="775" y="170"/>
                    </a:lnTo>
                    <a:lnTo>
                      <a:pt x="806" y="160"/>
                    </a:lnTo>
                    <a:lnTo>
                      <a:pt x="827" y="149"/>
                    </a:lnTo>
                    <a:lnTo>
                      <a:pt x="859" y="138"/>
                    </a:lnTo>
                    <a:lnTo>
                      <a:pt x="891" y="128"/>
                    </a:lnTo>
                    <a:lnTo>
                      <a:pt x="923" y="118"/>
                    </a:lnTo>
                    <a:lnTo>
                      <a:pt x="954" y="97"/>
                    </a:lnTo>
                    <a:lnTo>
                      <a:pt x="986" y="85"/>
                    </a:lnTo>
                    <a:lnTo>
                      <a:pt x="1018" y="75"/>
                    </a:lnTo>
                    <a:lnTo>
                      <a:pt x="1050" y="65"/>
                    </a:lnTo>
                    <a:lnTo>
                      <a:pt x="1072" y="54"/>
                    </a:lnTo>
                    <a:lnTo>
                      <a:pt x="1103" y="43"/>
                    </a:lnTo>
                    <a:lnTo>
                      <a:pt x="1135" y="33"/>
                    </a:lnTo>
                    <a:lnTo>
                      <a:pt x="1167" y="22"/>
                    </a:lnTo>
                    <a:lnTo>
                      <a:pt x="1199" y="11"/>
                    </a:lnTo>
                    <a:lnTo>
                      <a:pt x="1231" y="0"/>
                    </a:lnTo>
                    <a:lnTo>
                      <a:pt x="1274" y="0"/>
                    </a:lnTo>
                    <a:lnTo>
                      <a:pt x="1283" y="0"/>
                    </a:lnTo>
                    <a:lnTo>
                      <a:pt x="1294" y="11"/>
                    </a:lnTo>
                    <a:lnTo>
                      <a:pt x="1304" y="11"/>
                    </a:lnTo>
                    <a:lnTo>
                      <a:pt x="1315" y="22"/>
                    </a:lnTo>
                    <a:lnTo>
                      <a:pt x="1326" y="33"/>
                    </a:lnTo>
                    <a:lnTo>
                      <a:pt x="1326" y="43"/>
                    </a:lnTo>
                    <a:lnTo>
                      <a:pt x="1337" y="54"/>
                    </a:lnTo>
                    <a:lnTo>
                      <a:pt x="1347" y="65"/>
                    </a:lnTo>
                    <a:lnTo>
                      <a:pt x="1358" y="75"/>
                    </a:lnTo>
                    <a:lnTo>
                      <a:pt x="1367" y="85"/>
                    </a:lnTo>
                    <a:lnTo>
                      <a:pt x="1379" y="97"/>
                    </a:lnTo>
                    <a:lnTo>
                      <a:pt x="1389" y="106"/>
                    </a:lnTo>
                    <a:lnTo>
                      <a:pt x="1389" y="118"/>
                    </a:lnTo>
                    <a:lnTo>
                      <a:pt x="1401" y="128"/>
                    </a:lnTo>
                    <a:lnTo>
                      <a:pt x="1410" y="138"/>
                    </a:lnTo>
                    <a:lnTo>
                      <a:pt x="1421" y="13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2050560" y="2233800"/>
                <a:ext cx="79200" cy="7668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0" y="0"/>
                    </a:moveTo>
                    <a:lnTo>
                      <a:pt x="11" y="22"/>
                    </a:lnTo>
                    <a:lnTo>
                      <a:pt x="21" y="32"/>
                    </a:lnTo>
                    <a:lnTo>
                      <a:pt x="43" y="43"/>
                    </a:lnTo>
                    <a:lnTo>
                      <a:pt x="52" y="54"/>
                    </a:lnTo>
                    <a:lnTo>
                      <a:pt x="64" y="64"/>
                    </a:lnTo>
                    <a:lnTo>
                      <a:pt x="74" y="74"/>
                    </a:lnTo>
                    <a:lnTo>
                      <a:pt x="95" y="86"/>
                    </a:lnTo>
                    <a:lnTo>
                      <a:pt x="107" y="95"/>
                    </a:lnTo>
                    <a:lnTo>
                      <a:pt x="116" y="107"/>
                    </a:lnTo>
                    <a:lnTo>
                      <a:pt x="127" y="117"/>
                    </a:lnTo>
                    <a:lnTo>
                      <a:pt x="138" y="127"/>
                    </a:lnTo>
                    <a:lnTo>
                      <a:pt x="159" y="138"/>
                    </a:lnTo>
                    <a:lnTo>
                      <a:pt x="170" y="159"/>
                    </a:lnTo>
                    <a:lnTo>
                      <a:pt x="180" y="170"/>
                    </a:lnTo>
                    <a:lnTo>
                      <a:pt x="191" y="181"/>
                    </a:lnTo>
                    <a:lnTo>
                      <a:pt x="202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1861560" y="2320200"/>
                <a:ext cx="123840" cy="188640"/>
              </a:xfrm>
              <a:custGeom>
                <a:avLst/>
                <a:gdLst/>
                <a:ahLst/>
                <a:rect l="l" t="t" r="r" b="b"/>
                <a:pathLst>
                  <a:path w="319" h="489">
                    <a:moveTo>
                      <a:pt x="319" y="0"/>
                    </a:moveTo>
                    <a:lnTo>
                      <a:pt x="287" y="22"/>
                    </a:lnTo>
                    <a:lnTo>
                      <a:pt x="255" y="54"/>
                    </a:lnTo>
                    <a:lnTo>
                      <a:pt x="234" y="75"/>
                    </a:lnTo>
                    <a:lnTo>
                      <a:pt x="212" y="107"/>
                    </a:lnTo>
                    <a:lnTo>
                      <a:pt x="191" y="139"/>
                    </a:lnTo>
                    <a:lnTo>
                      <a:pt x="170" y="171"/>
                    </a:lnTo>
                    <a:lnTo>
                      <a:pt x="160" y="202"/>
                    </a:lnTo>
                    <a:lnTo>
                      <a:pt x="139" y="234"/>
                    </a:lnTo>
                    <a:lnTo>
                      <a:pt x="128" y="267"/>
                    </a:lnTo>
                    <a:lnTo>
                      <a:pt x="107" y="299"/>
                    </a:lnTo>
                    <a:lnTo>
                      <a:pt x="96" y="340"/>
                    </a:lnTo>
                    <a:lnTo>
                      <a:pt x="75" y="372"/>
                    </a:lnTo>
                    <a:lnTo>
                      <a:pt x="64" y="404"/>
                    </a:lnTo>
                    <a:lnTo>
                      <a:pt x="42" y="435"/>
                    </a:lnTo>
                    <a:lnTo>
                      <a:pt x="21" y="467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1749600" y="2509200"/>
                <a:ext cx="111600" cy="160560"/>
              </a:xfrm>
              <a:custGeom>
                <a:avLst/>
                <a:gdLst/>
                <a:ahLst/>
                <a:rect l="l" t="t" r="r" b="b"/>
                <a:pathLst>
                  <a:path w="285" h="413">
                    <a:moveTo>
                      <a:pt x="285" y="0"/>
                    </a:moveTo>
                    <a:lnTo>
                      <a:pt x="264" y="31"/>
                    </a:lnTo>
                    <a:lnTo>
                      <a:pt x="254" y="64"/>
                    </a:lnTo>
                    <a:lnTo>
                      <a:pt x="232" y="85"/>
                    </a:lnTo>
                    <a:lnTo>
                      <a:pt x="222" y="116"/>
                    </a:lnTo>
                    <a:lnTo>
                      <a:pt x="200" y="137"/>
                    </a:lnTo>
                    <a:lnTo>
                      <a:pt x="191" y="159"/>
                    </a:lnTo>
                    <a:lnTo>
                      <a:pt x="169" y="191"/>
                    </a:lnTo>
                    <a:lnTo>
                      <a:pt x="158" y="212"/>
                    </a:lnTo>
                    <a:lnTo>
                      <a:pt x="137" y="244"/>
                    </a:lnTo>
                    <a:lnTo>
                      <a:pt x="116" y="266"/>
                    </a:lnTo>
                    <a:lnTo>
                      <a:pt x="105" y="297"/>
                    </a:lnTo>
                    <a:lnTo>
                      <a:pt x="84" y="318"/>
                    </a:lnTo>
                    <a:lnTo>
                      <a:pt x="64" y="339"/>
                    </a:lnTo>
                    <a:lnTo>
                      <a:pt x="42" y="360"/>
                    </a:lnTo>
                    <a:lnTo>
                      <a:pt x="21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1497240" y="2422800"/>
                <a:ext cx="228600" cy="226440"/>
              </a:xfrm>
              <a:custGeom>
                <a:avLst/>
                <a:gdLst/>
                <a:ahLst/>
                <a:rect l="l" t="t" r="r" b="b"/>
                <a:pathLst>
                  <a:path w="583" h="582">
                    <a:moveTo>
                      <a:pt x="583" y="582"/>
                    </a:moveTo>
                    <a:lnTo>
                      <a:pt x="551" y="551"/>
                    </a:lnTo>
                    <a:lnTo>
                      <a:pt x="510" y="519"/>
                    </a:lnTo>
                    <a:lnTo>
                      <a:pt x="478" y="488"/>
                    </a:lnTo>
                    <a:lnTo>
                      <a:pt x="435" y="445"/>
                    </a:lnTo>
                    <a:lnTo>
                      <a:pt x="404" y="413"/>
                    </a:lnTo>
                    <a:lnTo>
                      <a:pt x="361" y="370"/>
                    </a:lnTo>
                    <a:lnTo>
                      <a:pt x="329" y="338"/>
                    </a:lnTo>
                    <a:lnTo>
                      <a:pt x="286" y="295"/>
                    </a:lnTo>
                    <a:lnTo>
                      <a:pt x="256" y="264"/>
                    </a:lnTo>
                    <a:lnTo>
                      <a:pt x="224" y="222"/>
                    </a:lnTo>
                    <a:lnTo>
                      <a:pt x="181" y="190"/>
                    </a:lnTo>
                    <a:lnTo>
                      <a:pt x="150" y="147"/>
                    </a:lnTo>
                    <a:lnTo>
                      <a:pt x="107" y="116"/>
                    </a:lnTo>
                    <a:lnTo>
                      <a:pt x="75" y="73"/>
                    </a:lnTo>
                    <a:lnTo>
                      <a:pt x="43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1497240" y="2245320"/>
                <a:ext cx="300960" cy="177120"/>
              </a:xfrm>
              <a:custGeom>
                <a:avLst/>
                <a:gdLst/>
                <a:ahLst/>
                <a:rect l="l" t="t" r="r" b="b"/>
                <a:pathLst>
                  <a:path w="775" h="457">
                    <a:moveTo>
                      <a:pt x="0" y="457"/>
                    </a:moveTo>
                    <a:lnTo>
                      <a:pt x="54" y="424"/>
                    </a:lnTo>
                    <a:lnTo>
                      <a:pt x="96" y="392"/>
                    </a:lnTo>
                    <a:lnTo>
                      <a:pt x="150" y="361"/>
                    </a:lnTo>
                    <a:lnTo>
                      <a:pt x="191" y="329"/>
                    </a:lnTo>
                    <a:lnTo>
                      <a:pt x="234" y="297"/>
                    </a:lnTo>
                    <a:lnTo>
                      <a:pt x="286" y="265"/>
                    </a:lnTo>
                    <a:lnTo>
                      <a:pt x="329" y="233"/>
                    </a:lnTo>
                    <a:lnTo>
                      <a:pt x="383" y="202"/>
                    </a:lnTo>
                    <a:lnTo>
                      <a:pt x="424" y="181"/>
                    </a:lnTo>
                    <a:lnTo>
                      <a:pt x="478" y="149"/>
                    </a:lnTo>
                    <a:lnTo>
                      <a:pt x="519" y="127"/>
                    </a:lnTo>
                    <a:lnTo>
                      <a:pt x="573" y="95"/>
                    </a:lnTo>
                    <a:lnTo>
                      <a:pt x="616" y="75"/>
                    </a:lnTo>
                    <a:lnTo>
                      <a:pt x="669" y="42"/>
                    </a:lnTo>
                    <a:lnTo>
                      <a:pt x="721" y="22"/>
                    </a:lnTo>
                    <a:lnTo>
                      <a:pt x="7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1798560" y="2179800"/>
                <a:ext cx="196200" cy="65520"/>
              </a:xfrm>
              <a:custGeom>
                <a:avLst/>
                <a:gdLst/>
                <a:ahLst/>
                <a:rect l="l" t="t" r="r" b="b"/>
                <a:pathLst>
                  <a:path w="499" h="170">
                    <a:moveTo>
                      <a:pt x="0" y="170"/>
                    </a:moveTo>
                    <a:lnTo>
                      <a:pt x="31" y="160"/>
                    </a:lnTo>
                    <a:lnTo>
                      <a:pt x="52" y="149"/>
                    </a:lnTo>
                    <a:lnTo>
                      <a:pt x="84" y="138"/>
                    </a:lnTo>
                    <a:lnTo>
                      <a:pt x="116" y="128"/>
                    </a:lnTo>
                    <a:lnTo>
                      <a:pt x="148" y="118"/>
                    </a:lnTo>
                    <a:lnTo>
                      <a:pt x="179" y="97"/>
                    </a:lnTo>
                    <a:lnTo>
                      <a:pt x="211" y="85"/>
                    </a:lnTo>
                    <a:lnTo>
                      <a:pt x="243" y="75"/>
                    </a:lnTo>
                    <a:lnTo>
                      <a:pt x="275" y="65"/>
                    </a:lnTo>
                    <a:lnTo>
                      <a:pt x="297" y="54"/>
                    </a:lnTo>
                    <a:lnTo>
                      <a:pt x="328" y="43"/>
                    </a:lnTo>
                    <a:lnTo>
                      <a:pt x="360" y="33"/>
                    </a:lnTo>
                    <a:lnTo>
                      <a:pt x="392" y="22"/>
                    </a:lnTo>
                    <a:lnTo>
                      <a:pt x="424" y="11"/>
                    </a:lnTo>
                    <a:lnTo>
                      <a:pt x="456" y="0"/>
                    </a:lnTo>
                    <a:lnTo>
                      <a:pt x="4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1833480" y="2368800"/>
                <a:ext cx="426960" cy="398880"/>
              </a:xfrm>
              <a:custGeom>
                <a:avLst/>
                <a:gdLst/>
                <a:ahLst/>
                <a:rect l="l" t="t" r="r" b="b"/>
                <a:pathLst>
                  <a:path w="1104" h="1027">
                    <a:moveTo>
                      <a:pt x="742" y="63"/>
                    </a:moveTo>
                    <a:lnTo>
                      <a:pt x="742" y="52"/>
                    </a:lnTo>
                    <a:lnTo>
                      <a:pt x="753" y="52"/>
                    </a:lnTo>
                    <a:lnTo>
                      <a:pt x="764" y="52"/>
                    </a:lnTo>
                    <a:lnTo>
                      <a:pt x="775" y="52"/>
                    </a:lnTo>
                    <a:lnTo>
                      <a:pt x="785" y="84"/>
                    </a:lnTo>
                    <a:lnTo>
                      <a:pt x="796" y="116"/>
                    </a:lnTo>
                    <a:lnTo>
                      <a:pt x="807" y="148"/>
                    </a:lnTo>
                    <a:lnTo>
                      <a:pt x="828" y="179"/>
                    </a:lnTo>
                    <a:lnTo>
                      <a:pt x="837" y="222"/>
                    </a:lnTo>
                    <a:lnTo>
                      <a:pt x="848" y="254"/>
                    </a:lnTo>
                    <a:lnTo>
                      <a:pt x="870" y="285"/>
                    </a:lnTo>
                    <a:lnTo>
                      <a:pt x="880" y="318"/>
                    </a:lnTo>
                    <a:lnTo>
                      <a:pt x="902" y="349"/>
                    </a:lnTo>
                    <a:lnTo>
                      <a:pt x="923" y="381"/>
                    </a:lnTo>
                    <a:lnTo>
                      <a:pt x="943" y="402"/>
                    </a:lnTo>
                    <a:lnTo>
                      <a:pt x="965" y="433"/>
                    </a:lnTo>
                    <a:lnTo>
                      <a:pt x="997" y="455"/>
                    </a:lnTo>
                    <a:lnTo>
                      <a:pt x="1029" y="476"/>
                    </a:lnTo>
                    <a:lnTo>
                      <a:pt x="1061" y="487"/>
                    </a:lnTo>
                    <a:lnTo>
                      <a:pt x="1092" y="497"/>
                    </a:lnTo>
                    <a:lnTo>
                      <a:pt x="1104" y="508"/>
                    </a:lnTo>
                    <a:lnTo>
                      <a:pt x="1104" y="519"/>
                    </a:lnTo>
                    <a:lnTo>
                      <a:pt x="1104" y="530"/>
                    </a:lnTo>
                    <a:lnTo>
                      <a:pt x="1104" y="540"/>
                    </a:lnTo>
                    <a:lnTo>
                      <a:pt x="1092" y="551"/>
                    </a:lnTo>
                    <a:lnTo>
                      <a:pt x="1092" y="562"/>
                    </a:lnTo>
                    <a:lnTo>
                      <a:pt x="1092" y="572"/>
                    </a:lnTo>
                    <a:lnTo>
                      <a:pt x="1061" y="604"/>
                    </a:lnTo>
                    <a:lnTo>
                      <a:pt x="1029" y="646"/>
                    </a:lnTo>
                    <a:lnTo>
                      <a:pt x="997" y="689"/>
                    </a:lnTo>
                    <a:lnTo>
                      <a:pt x="965" y="732"/>
                    </a:lnTo>
                    <a:lnTo>
                      <a:pt x="923" y="762"/>
                    </a:lnTo>
                    <a:lnTo>
                      <a:pt x="891" y="805"/>
                    </a:lnTo>
                    <a:lnTo>
                      <a:pt x="848" y="837"/>
                    </a:lnTo>
                    <a:lnTo>
                      <a:pt x="807" y="868"/>
                    </a:lnTo>
                    <a:lnTo>
                      <a:pt x="764" y="900"/>
                    </a:lnTo>
                    <a:lnTo>
                      <a:pt x="721" y="922"/>
                    </a:lnTo>
                    <a:lnTo>
                      <a:pt x="678" y="952"/>
                    </a:lnTo>
                    <a:lnTo>
                      <a:pt x="636" y="974"/>
                    </a:lnTo>
                    <a:lnTo>
                      <a:pt x="583" y="995"/>
                    </a:lnTo>
                    <a:lnTo>
                      <a:pt x="542" y="1007"/>
                    </a:lnTo>
                    <a:lnTo>
                      <a:pt x="488" y="1017"/>
                    </a:lnTo>
                    <a:lnTo>
                      <a:pt x="435" y="1027"/>
                    </a:lnTo>
                    <a:lnTo>
                      <a:pt x="424" y="995"/>
                    </a:lnTo>
                    <a:lnTo>
                      <a:pt x="403" y="974"/>
                    </a:lnTo>
                    <a:lnTo>
                      <a:pt x="381" y="952"/>
                    </a:lnTo>
                    <a:lnTo>
                      <a:pt x="361" y="932"/>
                    </a:lnTo>
                    <a:lnTo>
                      <a:pt x="340" y="922"/>
                    </a:lnTo>
                    <a:lnTo>
                      <a:pt x="308" y="911"/>
                    </a:lnTo>
                    <a:lnTo>
                      <a:pt x="276" y="900"/>
                    </a:lnTo>
                    <a:lnTo>
                      <a:pt x="244" y="890"/>
                    </a:lnTo>
                    <a:lnTo>
                      <a:pt x="213" y="890"/>
                    </a:lnTo>
                    <a:lnTo>
                      <a:pt x="191" y="880"/>
                    </a:lnTo>
                    <a:lnTo>
                      <a:pt x="159" y="880"/>
                    </a:lnTo>
                    <a:lnTo>
                      <a:pt x="127" y="880"/>
                    </a:lnTo>
                    <a:lnTo>
                      <a:pt x="95" y="868"/>
                    </a:lnTo>
                    <a:lnTo>
                      <a:pt x="64" y="859"/>
                    </a:lnTo>
                    <a:lnTo>
                      <a:pt x="32" y="859"/>
                    </a:lnTo>
                    <a:lnTo>
                      <a:pt x="0" y="837"/>
                    </a:lnTo>
                    <a:lnTo>
                      <a:pt x="11" y="827"/>
                    </a:lnTo>
                    <a:lnTo>
                      <a:pt x="11" y="816"/>
                    </a:lnTo>
                    <a:lnTo>
                      <a:pt x="11" y="805"/>
                    </a:lnTo>
                    <a:lnTo>
                      <a:pt x="21" y="805"/>
                    </a:lnTo>
                    <a:lnTo>
                      <a:pt x="21" y="794"/>
                    </a:lnTo>
                    <a:lnTo>
                      <a:pt x="21" y="784"/>
                    </a:lnTo>
                    <a:lnTo>
                      <a:pt x="32" y="784"/>
                    </a:lnTo>
                    <a:lnTo>
                      <a:pt x="32" y="773"/>
                    </a:lnTo>
                    <a:lnTo>
                      <a:pt x="43" y="773"/>
                    </a:lnTo>
                    <a:lnTo>
                      <a:pt x="43" y="762"/>
                    </a:lnTo>
                    <a:lnTo>
                      <a:pt x="43" y="753"/>
                    </a:lnTo>
                    <a:lnTo>
                      <a:pt x="53" y="753"/>
                    </a:lnTo>
                    <a:lnTo>
                      <a:pt x="53" y="741"/>
                    </a:lnTo>
                    <a:lnTo>
                      <a:pt x="74" y="699"/>
                    </a:lnTo>
                    <a:lnTo>
                      <a:pt x="86" y="667"/>
                    </a:lnTo>
                    <a:lnTo>
                      <a:pt x="107" y="635"/>
                    </a:lnTo>
                    <a:lnTo>
                      <a:pt x="116" y="604"/>
                    </a:lnTo>
                    <a:lnTo>
                      <a:pt x="138" y="572"/>
                    </a:lnTo>
                    <a:lnTo>
                      <a:pt x="149" y="540"/>
                    </a:lnTo>
                    <a:lnTo>
                      <a:pt x="170" y="508"/>
                    </a:lnTo>
                    <a:lnTo>
                      <a:pt x="181" y="476"/>
                    </a:lnTo>
                    <a:lnTo>
                      <a:pt x="202" y="445"/>
                    </a:lnTo>
                    <a:lnTo>
                      <a:pt x="213" y="412"/>
                    </a:lnTo>
                    <a:lnTo>
                      <a:pt x="234" y="381"/>
                    </a:lnTo>
                    <a:lnTo>
                      <a:pt x="244" y="349"/>
                    </a:lnTo>
                    <a:lnTo>
                      <a:pt x="265" y="318"/>
                    </a:lnTo>
                    <a:lnTo>
                      <a:pt x="276" y="285"/>
                    </a:lnTo>
                    <a:lnTo>
                      <a:pt x="286" y="254"/>
                    </a:lnTo>
                    <a:lnTo>
                      <a:pt x="308" y="222"/>
                    </a:lnTo>
                    <a:lnTo>
                      <a:pt x="308" y="200"/>
                    </a:lnTo>
                    <a:lnTo>
                      <a:pt x="318" y="191"/>
                    </a:lnTo>
                    <a:lnTo>
                      <a:pt x="329" y="179"/>
                    </a:lnTo>
                    <a:lnTo>
                      <a:pt x="329" y="170"/>
                    </a:lnTo>
                    <a:lnTo>
                      <a:pt x="340" y="148"/>
                    </a:lnTo>
                    <a:lnTo>
                      <a:pt x="340" y="138"/>
                    </a:lnTo>
                    <a:lnTo>
                      <a:pt x="350" y="127"/>
                    </a:lnTo>
                    <a:lnTo>
                      <a:pt x="350" y="105"/>
                    </a:lnTo>
                    <a:lnTo>
                      <a:pt x="361" y="95"/>
                    </a:lnTo>
                    <a:lnTo>
                      <a:pt x="361" y="84"/>
                    </a:lnTo>
                    <a:lnTo>
                      <a:pt x="372" y="63"/>
                    </a:lnTo>
                    <a:lnTo>
                      <a:pt x="372" y="52"/>
                    </a:lnTo>
                    <a:lnTo>
                      <a:pt x="381" y="42"/>
                    </a:lnTo>
                    <a:lnTo>
                      <a:pt x="381" y="31"/>
                    </a:lnTo>
                    <a:lnTo>
                      <a:pt x="393" y="10"/>
                    </a:lnTo>
                    <a:lnTo>
                      <a:pt x="403" y="0"/>
                    </a:lnTo>
                    <a:lnTo>
                      <a:pt x="415" y="21"/>
                    </a:lnTo>
                    <a:lnTo>
                      <a:pt x="435" y="31"/>
                    </a:lnTo>
                    <a:lnTo>
                      <a:pt x="456" y="42"/>
                    </a:lnTo>
                    <a:lnTo>
                      <a:pt x="478" y="52"/>
                    </a:lnTo>
                    <a:lnTo>
                      <a:pt x="488" y="63"/>
                    </a:lnTo>
                    <a:lnTo>
                      <a:pt x="520" y="73"/>
                    </a:lnTo>
                    <a:lnTo>
                      <a:pt x="542" y="73"/>
                    </a:lnTo>
                    <a:lnTo>
                      <a:pt x="562" y="73"/>
                    </a:lnTo>
                    <a:lnTo>
                      <a:pt x="583" y="73"/>
                    </a:lnTo>
                    <a:lnTo>
                      <a:pt x="605" y="73"/>
                    </a:lnTo>
                    <a:lnTo>
                      <a:pt x="626" y="73"/>
                    </a:lnTo>
                    <a:lnTo>
                      <a:pt x="647" y="73"/>
                    </a:lnTo>
                    <a:lnTo>
                      <a:pt x="678" y="73"/>
                    </a:lnTo>
                    <a:lnTo>
                      <a:pt x="700" y="63"/>
                    </a:lnTo>
                    <a:lnTo>
                      <a:pt x="721" y="63"/>
                    </a:lnTo>
                    <a:lnTo>
                      <a:pt x="742" y="63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2134800" y="2390040"/>
                <a:ext cx="120960" cy="172440"/>
              </a:xfrm>
              <a:custGeom>
                <a:avLst/>
                <a:gdLst/>
                <a:ahLst/>
                <a:rect l="l" t="t" r="r" b="b"/>
                <a:pathLst>
                  <a:path w="317" h="445">
                    <a:moveTo>
                      <a:pt x="0" y="0"/>
                    </a:moveTo>
                    <a:lnTo>
                      <a:pt x="10" y="32"/>
                    </a:lnTo>
                    <a:lnTo>
                      <a:pt x="21" y="64"/>
                    </a:lnTo>
                    <a:lnTo>
                      <a:pt x="32" y="96"/>
                    </a:lnTo>
                    <a:lnTo>
                      <a:pt x="53" y="127"/>
                    </a:lnTo>
                    <a:lnTo>
                      <a:pt x="62" y="170"/>
                    </a:lnTo>
                    <a:lnTo>
                      <a:pt x="73" y="202"/>
                    </a:lnTo>
                    <a:lnTo>
                      <a:pt x="95" y="233"/>
                    </a:lnTo>
                    <a:lnTo>
                      <a:pt x="105" y="266"/>
                    </a:lnTo>
                    <a:lnTo>
                      <a:pt x="127" y="297"/>
                    </a:lnTo>
                    <a:lnTo>
                      <a:pt x="148" y="329"/>
                    </a:lnTo>
                    <a:lnTo>
                      <a:pt x="168" y="350"/>
                    </a:lnTo>
                    <a:lnTo>
                      <a:pt x="190" y="381"/>
                    </a:lnTo>
                    <a:lnTo>
                      <a:pt x="222" y="403"/>
                    </a:lnTo>
                    <a:lnTo>
                      <a:pt x="254" y="424"/>
                    </a:lnTo>
                    <a:lnTo>
                      <a:pt x="286" y="435"/>
                    </a:lnTo>
                    <a:lnTo>
                      <a:pt x="31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2001600" y="2593080"/>
                <a:ext cx="253800" cy="174600"/>
              </a:xfrm>
              <a:custGeom>
                <a:avLst/>
                <a:gdLst/>
                <a:ahLst/>
                <a:rect l="l" t="t" r="r" b="b"/>
                <a:pathLst>
                  <a:path w="657" h="455">
                    <a:moveTo>
                      <a:pt x="657" y="0"/>
                    </a:moveTo>
                    <a:lnTo>
                      <a:pt x="626" y="32"/>
                    </a:lnTo>
                    <a:lnTo>
                      <a:pt x="594" y="74"/>
                    </a:lnTo>
                    <a:lnTo>
                      <a:pt x="562" y="117"/>
                    </a:lnTo>
                    <a:lnTo>
                      <a:pt x="530" y="160"/>
                    </a:lnTo>
                    <a:lnTo>
                      <a:pt x="488" y="190"/>
                    </a:lnTo>
                    <a:lnTo>
                      <a:pt x="456" y="233"/>
                    </a:lnTo>
                    <a:lnTo>
                      <a:pt x="413" y="265"/>
                    </a:lnTo>
                    <a:lnTo>
                      <a:pt x="372" y="296"/>
                    </a:lnTo>
                    <a:lnTo>
                      <a:pt x="329" y="328"/>
                    </a:lnTo>
                    <a:lnTo>
                      <a:pt x="286" y="350"/>
                    </a:lnTo>
                    <a:lnTo>
                      <a:pt x="243" y="380"/>
                    </a:lnTo>
                    <a:lnTo>
                      <a:pt x="201" y="402"/>
                    </a:lnTo>
                    <a:lnTo>
                      <a:pt x="148" y="423"/>
                    </a:lnTo>
                    <a:lnTo>
                      <a:pt x="107" y="435"/>
                    </a:lnTo>
                    <a:lnTo>
                      <a:pt x="53" y="445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1833480" y="2696040"/>
                <a:ext cx="168120" cy="71640"/>
              </a:xfrm>
              <a:custGeom>
                <a:avLst/>
                <a:gdLst/>
                <a:ahLst/>
                <a:rect l="l" t="t" r="r" b="b"/>
                <a:pathLst>
                  <a:path w="435" h="190">
                    <a:moveTo>
                      <a:pt x="435" y="190"/>
                    </a:moveTo>
                    <a:lnTo>
                      <a:pt x="424" y="158"/>
                    </a:lnTo>
                    <a:lnTo>
                      <a:pt x="403" y="137"/>
                    </a:lnTo>
                    <a:lnTo>
                      <a:pt x="381" y="115"/>
                    </a:lnTo>
                    <a:lnTo>
                      <a:pt x="361" y="95"/>
                    </a:lnTo>
                    <a:lnTo>
                      <a:pt x="340" y="85"/>
                    </a:lnTo>
                    <a:lnTo>
                      <a:pt x="308" y="74"/>
                    </a:lnTo>
                    <a:lnTo>
                      <a:pt x="276" y="63"/>
                    </a:lnTo>
                    <a:lnTo>
                      <a:pt x="244" y="53"/>
                    </a:lnTo>
                    <a:lnTo>
                      <a:pt x="213" y="53"/>
                    </a:lnTo>
                    <a:lnTo>
                      <a:pt x="191" y="43"/>
                    </a:lnTo>
                    <a:lnTo>
                      <a:pt x="159" y="43"/>
                    </a:lnTo>
                    <a:lnTo>
                      <a:pt x="127" y="43"/>
                    </a:lnTo>
                    <a:lnTo>
                      <a:pt x="95" y="31"/>
                    </a:lnTo>
                    <a:lnTo>
                      <a:pt x="64" y="22"/>
                    </a:lnTo>
                    <a:lnTo>
                      <a:pt x="3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1852560" y="2455560"/>
                <a:ext cx="99720" cy="202680"/>
              </a:xfrm>
              <a:custGeom>
                <a:avLst/>
                <a:gdLst/>
                <a:ahLst/>
                <a:rect l="l" t="t" r="r" b="b"/>
                <a:pathLst>
                  <a:path w="255" h="519">
                    <a:moveTo>
                      <a:pt x="0" y="519"/>
                    </a:moveTo>
                    <a:lnTo>
                      <a:pt x="21" y="477"/>
                    </a:lnTo>
                    <a:lnTo>
                      <a:pt x="33" y="445"/>
                    </a:lnTo>
                    <a:lnTo>
                      <a:pt x="54" y="413"/>
                    </a:lnTo>
                    <a:lnTo>
                      <a:pt x="63" y="382"/>
                    </a:lnTo>
                    <a:lnTo>
                      <a:pt x="85" y="350"/>
                    </a:lnTo>
                    <a:lnTo>
                      <a:pt x="96" y="318"/>
                    </a:lnTo>
                    <a:lnTo>
                      <a:pt x="117" y="286"/>
                    </a:lnTo>
                    <a:lnTo>
                      <a:pt x="128" y="254"/>
                    </a:lnTo>
                    <a:lnTo>
                      <a:pt x="149" y="223"/>
                    </a:lnTo>
                    <a:lnTo>
                      <a:pt x="160" y="190"/>
                    </a:lnTo>
                    <a:lnTo>
                      <a:pt x="181" y="159"/>
                    </a:lnTo>
                    <a:lnTo>
                      <a:pt x="191" y="127"/>
                    </a:lnTo>
                    <a:lnTo>
                      <a:pt x="212" y="96"/>
                    </a:lnTo>
                    <a:lnTo>
                      <a:pt x="223" y="63"/>
                    </a:lnTo>
                    <a:lnTo>
                      <a:pt x="233" y="32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1952640" y="2368800"/>
                <a:ext cx="37440" cy="86760"/>
              </a:xfrm>
              <a:custGeom>
                <a:avLst/>
                <a:gdLst/>
                <a:ahLst/>
                <a:rect l="l" t="t" r="r" b="b"/>
                <a:pathLst>
                  <a:path w="95" h="222">
                    <a:moveTo>
                      <a:pt x="0" y="222"/>
                    </a:moveTo>
                    <a:lnTo>
                      <a:pt x="0" y="200"/>
                    </a:lnTo>
                    <a:lnTo>
                      <a:pt x="10" y="191"/>
                    </a:lnTo>
                    <a:lnTo>
                      <a:pt x="21" y="179"/>
                    </a:lnTo>
                    <a:lnTo>
                      <a:pt x="21" y="170"/>
                    </a:lnTo>
                    <a:lnTo>
                      <a:pt x="32" y="148"/>
                    </a:lnTo>
                    <a:lnTo>
                      <a:pt x="32" y="138"/>
                    </a:lnTo>
                    <a:lnTo>
                      <a:pt x="42" y="127"/>
                    </a:lnTo>
                    <a:lnTo>
                      <a:pt x="42" y="105"/>
                    </a:lnTo>
                    <a:lnTo>
                      <a:pt x="53" y="95"/>
                    </a:lnTo>
                    <a:lnTo>
                      <a:pt x="53" y="84"/>
                    </a:lnTo>
                    <a:lnTo>
                      <a:pt x="64" y="63"/>
                    </a:lnTo>
                    <a:lnTo>
                      <a:pt x="64" y="5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85" y="10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990720" y="2378160"/>
                <a:ext cx="350280" cy="662400"/>
              </a:xfrm>
              <a:custGeom>
                <a:avLst/>
                <a:gdLst/>
                <a:ahLst/>
                <a:rect l="l" t="t" r="r" b="b"/>
                <a:pathLst>
                  <a:path w="900" h="1707">
                    <a:moveTo>
                      <a:pt x="752" y="149"/>
                    </a:moveTo>
                    <a:lnTo>
                      <a:pt x="763" y="149"/>
                    </a:lnTo>
                    <a:lnTo>
                      <a:pt x="763" y="158"/>
                    </a:lnTo>
                    <a:lnTo>
                      <a:pt x="773" y="158"/>
                    </a:lnTo>
                    <a:lnTo>
                      <a:pt x="784" y="158"/>
                    </a:lnTo>
                    <a:lnTo>
                      <a:pt x="795" y="170"/>
                    </a:lnTo>
                    <a:lnTo>
                      <a:pt x="805" y="170"/>
                    </a:lnTo>
                    <a:lnTo>
                      <a:pt x="816" y="179"/>
                    </a:lnTo>
                    <a:lnTo>
                      <a:pt x="827" y="179"/>
                    </a:lnTo>
                    <a:lnTo>
                      <a:pt x="838" y="190"/>
                    </a:lnTo>
                    <a:lnTo>
                      <a:pt x="838" y="201"/>
                    </a:lnTo>
                    <a:lnTo>
                      <a:pt x="848" y="201"/>
                    </a:lnTo>
                    <a:lnTo>
                      <a:pt x="858" y="212"/>
                    </a:lnTo>
                    <a:lnTo>
                      <a:pt x="870" y="222"/>
                    </a:lnTo>
                    <a:lnTo>
                      <a:pt x="870" y="233"/>
                    </a:lnTo>
                    <a:lnTo>
                      <a:pt x="879" y="244"/>
                    </a:lnTo>
                    <a:lnTo>
                      <a:pt x="879" y="254"/>
                    </a:lnTo>
                    <a:lnTo>
                      <a:pt x="879" y="264"/>
                    </a:lnTo>
                    <a:lnTo>
                      <a:pt x="879" y="276"/>
                    </a:lnTo>
                    <a:lnTo>
                      <a:pt x="891" y="285"/>
                    </a:lnTo>
                    <a:lnTo>
                      <a:pt x="891" y="297"/>
                    </a:lnTo>
                    <a:lnTo>
                      <a:pt x="891" y="307"/>
                    </a:lnTo>
                    <a:lnTo>
                      <a:pt x="891" y="317"/>
                    </a:lnTo>
                    <a:lnTo>
                      <a:pt x="900" y="328"/>
                    </a:lnTo>
                    <a:lnTo>
                      <a:pt x="900" y="339"/>
                    </a:lnTo>
                    <a:lnTo>
                      <a:pt x="900" y="349"/>
                    </a:lnTo>
                    <a:lnTo>
                      <a:pt x="900" y="360"/>
                    </a:lnTo>
                    <a:lnTo>
                      <a:pt x="900" y="370"/>
                    </a:lnTo>
                    <a:lnTo>
                      <a:pt x="900" y="381"/>
                    </a:lnTo>
                    <a:lnTo>
                      <a:pt x="900" y="391"/>
                    </a:lnTo>
                    <a:lnTo>
                      <a:pt x="891" y="391"/>
                    </a:lnTo>
                    <a:lnTo>
                      <a:pt x="879" y="391"/>
                    </a:lnTo>
                    <a:lnTo>
                      <a:pt x="879" y="403"/>
                    </a:lnTo>
                    <a:lnTo>
                      <a:pt x="870" y="403"/>
                    </a:lnTo>
                    <a:lnTo>
                      <a:pt x="858" y="403"/>
                    </a:lnTo>
                    <a:lnTo>
                      <a:pt x="848" y="403"/>
                    </a:lnTo>
                    <a:lnTo>
                      <a:pt x="838" y="403"/>
                    </a:lnTo>
                    <a:lnTo>
                      <a:pt x="827" y="403"/>
                    </a:lnTo>
                    <a:lnTo>
                      <a:pt x="827" y="391"/>
                    </a:lnTo>
                    <a:lnTo>
                      <a:pt x="816" y="391"/>
                    </a:lnTo>
                    <a:lnTo>
                      <a:pt x="805" y="391"/>
                    </a:lnTo>
                    <a:lnTo>
                      <a:pt x="795" y="391"/>
                    </a:lnTo>
                    <a:lnTo>
                      <a:pt x="784" y="391"/>
                    </a:lnTo>
                    <a:lnTo>
                      <a:pt x="773" y="391"/>
                    </a:lnTo>
                    <a:lnTo>
                      <a:pt x="763" y="403"/>
                    </a:lnTo>
                    <a:lnTo>
                      <a:pt x="752" y="403"/>
                    </a:lnTo>
                    <a:lnTo>
                      <a:pt x="741" y="403"/>
                    </a:lnTo>
                    <a:lnTo>
                      <a:pt x="731" y="403"/>
                    </a:lnTo>
                    <a:lnTo>
                      <a:pt x="720" y="403"/>
                    </a:lnTo>
                    <a:lnTo>
                      <a:pt x="710" y="403"/>
                    </a:lnTo>
                    <a:lnTo>
                      <a:pt x="699" y="412"/>
                    </a:lnTo>
                    <a:lnTo>
                      <a:pt x="689" y="424"/>
                    </a:lnTo>
                    <a:lnTo>
                      <a:pt x="689" y="434"/>
                    </a:lnTo>
                    <a:lnTo>
                      <a:pt x="677" y="509"/>
                    </a:lnTo>
                    <a:lnTo>
                      <a:pt x="677" y="583"/>
                    </a:lnTo>
                    <a:lnTo>
                      <a:pt x="668" y="657"/>
                    </a:lnTo>
                    <a:lnTo>
                      <a:pt x="657" y="732"/>
                    </a:lnTo>
                    <a:lnTo>
                      <a:pt x="657" y="806"/>
                    </a:lnTo>
                    <a:lnTo>
                      <a:pt x="646" y="879"/>
                    </a:lnTo>
                    <a:lnTo>
                      <a:pt x="646" y="953"/>
                    </a:lnTo>
                    <a:lnTo>
                      <a:pt x="646" y="1028"/>
                    </a:lnTo>
                    <a:lnTo>
                      <a:pt x="636" y="1103"/>
                    </a:lnTo>
                    <a:lnTo>
                      <a:pt x="636" y="1176"/>
                    </a:lnTo>
                    <a:lnTo>
                      <a:pt x="636" y="1251"/>
                    </a:lnTo>
                    <a:lnTo>
                      <a:pt x="636" y="1325"/>
                    </a:lnTo>
                    <a:lnTo>
                      <a:pt x="636" y="1400"/>
                    </a:lnTo>
                    <a:lnTo>
                      <a:pt x="636" y="1473"/>
                    </a:lnTo>
                    <a:lnTo>
                      <a:pt x="636" y="1548"/>
                    </a:lnTo>
                    <a:lnTo>
                      <a:pt x="636" y="1611"/>
                    </a:lnTo>
                    <a:lnTo>
                      <a:pt x="636" y="1622"/>
                    </a:lnTo>
                    <a:lnTo>
                      <a:pt x="646" y="1632"/>
                    </a:lnTo>
                    <a:lnTo>
                      <a:pt x="646" y="1643"/>
                    </a:lnTo>
                    <a:lnTo>
                      <a:pt x="646" y="1654"/>
                    </a:lnTo>
                    <a:lnTo>
                      <a:pt x="646" y="1664"/>
                    </a:lnTo>
                    <a:lnTo>
                      <a:pt x="636" y="1675"/>
                    </a:lnTo>
                    <a:lnTo>
                      <a:pt x="636" y="1686"/>
                    </a:lnTo>
                    <a:lnTo>
                      <a:pt x="636" y="1695"/>
                    </a:lnTo>
                    <a:lnTo>
                      <a:pt x="625" y="1695"/>
                    </a:lnTo>
                    <a:lnTo>
                      <a:pt x="625" y="1707"/>
                    </a:lnTo>
                    <a:lnTo>
                      <a:pt x="614" y="1707"/>
                    </a:lnTo>
                    <a:lnTo>
                      <a:pt x="604" y="1707"/>
                    </a:lnTo>
                    <a:lnTo>
                      <a:pt x="593" y="1707"/>
                    </a:lnTo>
                    <a:lnTo>
                      <a:pt x="593" y="1695"/>
                    </a:lnTo>
                    <a:lnTo>
                      <a:pt x="583" y="1695"/>
                    </a:lnTo>
                    <a:lnTo>
                      <a:pt x="583" y="1686"/>
                    </a:lnTo>
                    <a:lnTo>
                      <a:pt x="571" y="1686"/>
                    </a:lnTo>
                    <a:lnTo>
                      <a:pt x="571" y="1675"/>
                    </a:lnTo>
                    <a:lnTo>
                      <a:pt x="562" y="1664"/>
                    </a:lnTo>
                    <a:lnTo>
                      <a:pt x="562" y="1654"/>
                    </a:lnTo>
                    <a:lnTo>
                      <a:pt x="550" y="1643"/>
                    </a:lnTo>
                    <a:lnTo>
                      <a:pt x="530" y="1590"/>
                    </a:lnTo>
                    <a:lnTo>
                      <a:pt x="498" y="1548"/>
                    </a:lnTo>
                    <a:lnTo>
                      <a:pt x="476" y="1493"/>
                    </a:lnTo>
                    <a:lnTo>
                      <a:pt x="456" y="1441"/>
                    </a:lnTo>
                    <a:lnTo>
                      <a:pt x="423" y="1400"/>
                    </a:lnTo>
                    <a:lnTo>
                      <a:pt x="403" y="1346"/>
                    </a:lnTo>
                    <a:lnTo>
                      <a:pt x="371" y="1303"/>
                    </a:lnTo>
                    <a:lnTo>
                      <a:pt x="339" y="1251"/>
                    </a:lnTo>
                    <a:lnTo>
                      <a:pt x="308" y="1208"/>
                    </a:lnTo>
                    <a:lnTo>
                      <a:pt x="276" y="1155"/>
                    </a:lnTo>
                    <a:lnTo>
                      <a:pt x="244" y="1113"/>
                    </a:lnTo>
                    <a:lnTo>
                      <a:pt x="212" y="1070"/>
                    </a:lnTo>
                    <a:lnTo>
                      <a:pt x="169" y="1028"/>
                    </a:lnTo>
                    <a:lnTo>
                      <a:pt x="127" y="986"/>
                    </a:lnTo>
                    <a:lnTo>
                      <a:pt x="84" y="943"/>
                    </a:lnTo>
                    <a:lnTo>
                      <a:pt x="42" y="911"/>
                    </a:lnTo>
                    <a:lnTo>
                      <a:pt x="0" y="847"/>
                    </a:lnTo>
                    <a:lnTo>
                      <a:pt x="0" y="795"/>
                    </a:lnTo>
                    <a:lnTo>
                      <a:pt x="0" y="741"/>
                    </a:lnTo>
                    <a:lnTo>
                      <a:pt x="0" y="699"/>
                    </a:lnTo>
                    <a:lnTo>
                      <a:pt x="10" y="646"/>
                    </a:lnTo>
                    <a:lnTo>
                      <a:pt x="10" y="593"/>
                    </a:lnTo>
                    <a:lnTo>
                      <a:pt x="10" y="541"/>
                    </a:lnTo>
                    <a:lnTo>
                      <a:pt x="21" y="487"/>
                    </a:lnTo>
                    <a:lnTo>
                      <a:pt x="21" y="444"/>
                    </a:lnTo>
                    <a:lnTo>
                      <a:pt x="21" y="391"/>
                    </a:lnTo>
                    <a:lnTo>
                      <a:pt x="31" y="339"/>
                    </a:lnTo>
                    <a:lnTo>
                      <a:pt x="31" y="285"/>
                    </a:lnTo>
                    <a:lnTo>
                      <a:pt x="42" y="233"/>
                    </a:lnTo>
                    <a:lnTo>
                      <a:pt x="52" y="190"/>
                    </a:lnTo>
                    <a:lnTo>
                      <a:pt x="52" y="137"/>
                    </a:lnTo>
                    <a:lnTo>
                      <a:pt x="63" y="84"/>
                    </a:lnTo>
                    <a:lnTo>
                      <a:pt x="74" y="42"/>
                    </a:lnTo>
                    <a:lnTo>
                      <a:pt x="74" y="31"/>
                    </a:lnTo>
                    <a:lnTo>
                      <a:pt x="74" y="21"/>
                    </a:lnTo>
                    <a:lnTo>
                      <a:pt x="74" y="10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37" y="10"/>
                    </a:lnTo>
                    <a:lnTo>
                      <a:pt x="169" y="10"/>
                    </a:lnTo>
                    <a:lnTo>
                      <a:pt x="212" y="21"/>
                    </a:lnTo>
                    <a:lnTo>
                      <a:pt x="254" y="31"/>
                    </a:lnTo>
                    <a:lnTo>
                      <a:pt x="296" y="42"/>
                    </a:lnTo>
                    <a:lnTo>
                      <a:pt x="339" y="42"/>
                    </a:lnTo>
                    <a:lnTo>
                      <a:pt x="381" y="52"/>
                    </a:lnTo>
                    <a:lnTo>
                      <a:pt x="423" y="63"/>
                    </a:lnTo>
                    <a:lnTo>
                      <a:pt x="466" y="74"/>
                    </a:lnTo>
                    <a:lnTo>
                      <a:pt x="508" y="84"/>
                    </a:lnTo>
                    <a:lnTo>
                      <a:pt x="550" y="95"/>
                    </a:lnTo>
                    <a:lnTo>
                      <a:pt x="583" y="106"/>
                    </a:lnTo>
                    <a:lnTo>
                      <a:pt x="625" y="106"/>
                    </a:lnTo>
                    <a:lnTo>
                      <a:pt x="668" y="127"/>
                    </a:lnTo>
                    <a:lnTo>
                      <a:pt x="710" y="137"/>
                    </a:lnTo>
                    <a:lnTo>
                      <a:pt x="752" y="1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1238400" y="2546640"/>
                <a:ext cx="20880" cy="457200"/>
              </a:xfrm>
              <a:custGeom>
                <a:avLst/>
                <a:gdLst/>
                <a:ahLst/>
                <a:rect l="l" t="t" r="r" b="b"/>
                <a:pathLst>
                  <a:path w="53" h="1177">
                    <a:moveTo>
                      <a:pt x="53" y="0"/>
                    </a:moveTo>
                    <a:lnTo>
                      <a:pt x="41" y="75"/>
                    </a:lnTo>
                    <a:lnTo>
                      <a:pt x="41" y="149"/>
                    </a:lnTo>
                    <a:lnTo>
                      <a:pt x="32" y="223"/>
                    </a:lnTo>
                    <a:lnTo>
                      <a:pt x="21" y="298"/>
                    </a:lnTo>
                    <a:lnTo>
                      <a:pt x="21" y="372"/>
                    </a:lnTo>
                    <a:lnTo>
                      <a:pt x="10" y="445"/>
                    </a:lnTo>
                    <a:lnTo>
                      <a:pt x="10" y="519"/>
                    </a:lnTo>
                    <a:lnTo>
                      <a:pt x="10" y="594"/>
                    </a:lnTo>
                    <a:lnTo>
                      <a:pt x="0" y="669"/>
                    </a:lnTo>
                    <a:lnTo>
                      <a:pt x="0" y="742"/>
                    </a:lnTo>
                    <a:lnTo>
                      <a:pt x="0" y="817"/>
                    </a:lnTo>
                    <a:lnTo>
                      <a:pt x="0" y="891"/>
                    </a:lnTo>
                    <a:lnTo>
                      <a:pt x="0" y="966"/>
                    </a:lnTo>
                    <a:lnTo>
                      <a:pt x="0" y="1039"/>
                    </a:lnTo>
                    <a:lnTo>
                      <a:pt x="0" y="1114"/>
                    </a:lnTo>
                    <a:lnTo>
                      <a:pt x="0" y="1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1006920" y="2732760"/>
                <a:ext cx="198360" cy="284400"/>
              </a:xfrm>
              <a:custGeom>
                <a:avLst/>
                <a:gdLst/>
                <a:ahLst/>
                <a:rect l="l" t="t" r="r" b="b"/>
                <a:pathLst>
                  <a:path w="508" h="732">
                    <a:moveTo>
                      <a:pt x="508" y="732"/>
                    </a:moveTo>
                    <a:lnTo>
                      <a:pt x="488" y="679"/>
                    </a:lnTo>
                    <a:lnTo>
                      <a:pt x="456" y="637"/>
                    </a:lnTo>
                    <a:lnTo>
                      <a:pt x="434" y="582"/>
                    </a:lnTo>
                    <a:lnTo>
                      <a:pt x="414" y="530"/>
                    </a:lnTo>
                    <a:lnTo>
                      <a:pt x="381" y="489"/>
                    </a:lnTo>
                    <a:lnTo>
                      <a:pt x="361" y="435"/>
                    </a:lnTo>
                    <a:lnTo>
                      <a:pt x="329" y="392"/>
                    </a:lnTo>
                    <a:lnTo>
                      <a:pt x="297" y="340"/>
                    </a:lnTo>
                    <a:lnTo>
                      <a:pt x="266" y="297"/>
                    </a:lnTo>
                    <a:lnTo>
                      <a:pt x="234" y="244"/>
                    </a:lnTo>
                    <a:lnTo>
                      <a:pt x="202" y="202"/>
                    </a:lnTo>
                    <a:lnTo>
                      <a:pt x="170" y="159"/>
                    </a:lnTo>
                    <a:lnTo>
                      <a:pt x="127" y="117"/>
                    </a:lnTo>
                    <a:lnTo>
                      <a:pt x="85" y="75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990720" y="2394720"/>
                <a:ext cx="27720" cy="312480"/>
              </a:xfrm>
              <a:custGeom>
                <a:avLst/>
                <a:gdLst/>
                <a:ahLst/>
                <a:rect l="l" t="t" r="r" b="b"/>
                <a:pathLst>
                  <a:path w="74" h="805">
                    <a:moveTo>
                      <a:pt x="0" y="805"/>
                    </a:moveTo>
                    <a:lnTo>
                      <a:pt x="0" y="753"/>
                    </a:lnTo>
                    <a:lnTo>
                      <a:pt x="0" y="699"/>
                    </a:lnTo>
                    <a:lnTo>
                      <a:pt x="0" y="657"/>
                    </a:lnTo>
                    <a:lnTo>
                      <a:pt x="10" y="604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21" y="445"/>
                    </a:lnTo>
                    <a:lnTo>
                      <a:pt x="21" y="402"/>
                    </a:lnTo>
                    <a:lnTo>
                      <a:pt x="21" y="349"/>
                    </a:lnTo>
                    <a:lnTo>
                      <a:pt x="31" y="297"/>
                    </a:lnTo>
                    <a:lnTo>
                      <a:pt x="31" y="243"/>
                    </a:lnTo>
                    <a:lnTo>
                      <a:pt x="42" y="191"/>
                    </a:lnTo>
                    <a:lnTo>
                      <a:pt x="52" y="148"/>
                    </a:lnTo>
                    <a:lnTo>
                      <a:pt x="52" y="95"/>
                    </a:lnTo>
                    <a:lnTo>
                      <a:pt x="63" y="42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1011600" y="2396880"/>
                <a:ext cx="310680" cy="595440"/>
              </a:xfrm>
              <a:custGeom>
                <a:avLst/>
                <a:gdLst/>
                <a:ahLst/>
                <a:rect l="l" t="t" r="r" b="b"/>
                <a:pathLst>
                  <a:path w="796" h="1527">
                    <a:moveTo>
                      <a:pt x="753" y="192"/>
                    </a:moveTo>
                    <a:lnTo>
                      <a:pt x="764" y="202"/>
                    </a:lnTo>
                    <a:lnTo>
                      <a:pt x="775" y="212"/>
                    </a:lnTo>
                    <a:lnTo>
                      <a:pt x="786" y="224"/>
                    </a:lnTo>
                    <a:lnTo>
                      <a:pt x="786" y="233"/>
                    </a:lnTo>
                    <a:lnTo>
                      <a:pt x="786" y="245"/>
                    </a:lnTo>
                    <a:lnTo>
                      <a:pt x="786" y="255"/>
                    </a:lnTo>
                    <a:lnTo>
                      <a:pt x="786" y="265"/>
                    </a:lnTo>
                    <a:lnTo>
                      <a:pt x="796" y="276"/>
                    </a:lnTo>
                    <a:lnTo>
                      <a:pt x="796" y="287"/>
                    </a:lnTo>
                    <a:lnTo>
                      <a:pt x="796" y="297"/>
                    </a:lnTo>
                    <a:lnTo>
                      <a:pt x="796" y="308"/>
                    </a:lnTo>
                    <a:lnTo>
                      <a:pt x="786" y="297"/>
                    </a:lnTo>
                    <a:lnTo>
                      <a:pt x="775" y="297"/>
                    </a:lnTo>
                    <a:lnTo>
                      <a:pt x="764" y="297"/>
                    </a:lnTo>
                    <a:lnTo>
                      <a:pt x="753" y="297"/>
                    </a:lnTo>
                    <a:lnTo>
                      <a:pt x="743" y="297"/>
                    </a:lnTo>
                    <a:lnTo>
                      <a:pt x="732" y="297"/>
                    </a:lnTo>
                    <a:lnTo>
                      <a:pt x="721" y="297"/>
                    </a:lnTo>
                    <a:lnTo>
                      <a:pt x="711" y="308"/>
                    </a:lnTo>
                    <a:lnTo>
                      <a:pt x="700" y="308"/>
                    </a:lnTo>
                    <a:lnTo>
                      <a:pt x="689" y="308"/>
                    </a:lnTo>
                    <a:lnTo>
                      <a:pt x="679" y="308"/>
                    </a:lnTo>
                    <a:lnTo>
                      <a:pt x="668" y="308"/>
                    </a:lnTo>
                    <a:lnTo>
                      <a:pt x="658" y="318"/>
                    </a:lnTo>
                    <a:lnTo>
                      <a:pt x="647" y="318"/>
                    </a:lnTo>
                    <a:lnTo>
                      <a:pt x="637" y="318"/>
                    </a:lnTo>
                    <a:lnTo>
                      <a:pt x="637" y="308"/>
                    </a:lnTo>
                    <a:lnTo>
                      <a:pt x="625" y="308"/>
                    </a:lnTo>
                    <a:lnTo>
                      <a:pt x="625" y="318"/>
                    </a:lnTo>
                    <a:lnTo>
                      <a:pt x="616" y="318"/>
                    </a:lnTo>
                    <a:lnTo>
                      <a:pt x="616" y="329"/>
                    </a:lnTo>
                    <a:lnTo>
                      <a:pt x="605" y="329"/>
                    </a:lnTo>
                    <a:lnTo>
                      <a:pt x="605" y="339"/>
                    </a:lnTo>
                    <a:lnTo>
                      <a:pt x="594" y="339"/>
                    </a:lnTo>
                    <a:lnTo>
                      <a:pt x="594" y="351"/>
                    </a:lnTo>
                    <a:lnTo>
                      <a:pt x="594" y="424"/>
                    </a:lnTo>
                    <a:lnTo>
                      <a:pt x="584" y="499"/>
                    </a:lnTo>
                    <a:lnTo>
                      <a:pt x="584" y="573"/>
                    </a:lnTo>
                    <a:lnTo>
                      <a:pt x="573" y="647"/>
                    </a:lnTo>
                    <a:lnTo>
                      <a:pt x="573" y="721"/>
                    </a:lnTo>
                    <a:lnTo>
                      <a:pt x="562" y="795"/>
                    </a:lnTo>
                    <a:lnTo>
                      <a:pt x="562" y="870"/>
                    </a:lnTo>
                    <a:lnTo>
                      <a:pt x="552" y="944"/>
                    </a:lnTo>
                    <a:lnTo>
                      <a:pt x="552" y="1008"/>
                    </a:lnTo>
                    <a:lnTo>
                      <a:pt x="541" y="1081"/>
                    </a:lnTo>
                    <a:lnTo>
                      <a:pt x="541" y="1156"/>
                    </a:lnTo>
                    <a:lnTo>
                      <a:pt x="541" y="1230"/>
                    </a:lnTo>
                    <a:lnTo>
                      <a:pt x="531" y="1305"/>
                    </a:lnTo>
                    <a:lnTo>
                      <a:pt x="531" y="1378"/>
                    </a:lnTo>
                    <a:lnTo>
                      <a:pt x="531" y="1453"/>
                    </a:lnTo>
                    <a:lnTo>
                      <a:pt x="541" y="1516"/>
                    </a:lnTo>
                    <a:lnTo>
                      <a:pt x="541" y="1527"/>
                    </a:lnTo>
                    <a:lnTo>
                      <a:pt x="531" y="1527"/>
                    </a:lnTo>
                    <a:lnTo>
                      <a:pt x="531" y="1516"/>
                    </a:lnTo>
                    <a:lnTo>
                      <a:pt x="498" y="1475"/>
                    </a:lnTo>
                    <a:lnTo>
                      <a:pt x="478" y="1421"/>
                    </a:lnTo>
                    <a:lnTo>
                      <a:pt x="456" y="1378"/>
                    </a:lnTo>
                    <a:lnTo>
                      <a:pt x="435" y="1326"/>
                    </a:lnTo>
                    <a:lnTo>
                      <a:pt x="404" y="1283"/>
                    </a:lnTo>
                    <a:lnTo>
                      <a:pt x="383" y="1242"/>
                    </a:lnTo>
                    <a:lnTo>
                      <a:pt x="361" y="1188"/>
                    </a:lnTo>
                    <a:lnTo>
                      <a:pt x="329" y="1146"/>
                    </a:lnTo>
                    <a:lnTo>
                      <a:pt x="298" y="1103"/>
                    </a:lnTo>
                    <a:lnTo>
                      <a:pt x="265" y="1051"/>
                    </a:lnTo>
                    <a:lnTo>
                      <a:pt x="234" y="1008"/>
                    </a:lnTo>
                    <a:lnTo>
                      <a:pt x="202" y="965"/>
                    </a:lnTo>
                    <a:lnTo>
                      <a:pt x="170" y="934"/>
                    </a:lnTo>
                    <a:lnTo>
                      <a:pt x="127" y="891"/>
                    </a:lnTo>
                    <a:lnTo>
                      <a:pt x="85" y="849"/>
                    </a:lnTo>
                    <a:lnTo>
                      <a:pt x="43" y="817"/>
                    </a:lnTo>
                    <a:lnTo>
                      <a:pt x="32" y="807"/>
                    </a:lnTo>
                    <a:lnTo>
                      <a:pt x="22" y="795"/>
                    </a:lnTo>
                    <a:lnTo>
                      <a:pt x="22" y="786"/>
                    </a:lnTo>
                    <a:lnTo>
                      <a:pt x="11" y="786"/>
                    </a:lnTo>
                    <a:lnTo>
                      <a:pt x="11" y="774"/>
                    </a:lnTo>
                    <a:lnTo>
                      <a:pt x="11" y="764"/>
                    </a:lnTo>
                    <a:lnTo>
                      <a:pt x="0" y="754"/>
                    </a:lnTo>
                    <a:lnTo>
                      <a:pt x="0" y="743"/>
                    </a:lnTo>
                    <a:lnTo>
                      <a:pt x="0" y="732"/>
                    </a:lnTo>
                    <a:lnTo>
                      <a:pt x="0" y="721"/>
                    </a:lnTo>
                    <a:lnTo>
                      <a:pt x="11" y="721"/>
                    </a:lnTo>
                    <a:lnTo>
                      <a:pt x="11" y="711"/>
                    </a:lnTo>
                    <a:lnTo>
                      <a:pt x="11" y="668"/>
                    </a:lnTo>
                    <a:lnTo>
                      <a:pt x="11" y="626"/>
                    </a:lnTo>
                    <a:lnTo>
                      <a:pt x="11" y="584"/>
                    </a:lnTo>
                    <a:lnTo>
                      <a:pt x="11" y="541"/>
                    </a:lnTo>
                    <a:lnTo>
                      <a:pt x="22" y="510"/>
                    </a:lnTo>
                    <a:lnTo>
                      <a:pt x="22" y="467"/>
                    </a:lnTo>
                    <a:lnTo>
                      <a:pt x="22" y="424"/>
                    </a:lnTo>
                    <a:lnTo>
                      <a:pt x="22" y="382"/>
                    </a:lnTo>
                    <a:lnTo>
                      <a:pt x="22" y="339"/>
                    </a:lnTo>
                    <a:lnTo>
                      <a:pt x="32" y="297"/>
                    </a:lnTo>
                    <a:lnTo>
                      <a:pt x="32" y="255"/>
                    </a:lnTo>
                    <a:lnTo>
                      <a:pt x="32" y="224"/>
                    </a:lnTo>
                    <a:lnTo>
                      <a:pt x="43" y="181"/>
                    </a:lnTo>
                    <a:lnTo>
                      <a:pt x="43" y="138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54" y="54"/>
                    </a:lnTo>
                    <a:lnTo>
                      <a:pt x="54" y="43"/>
                    </a:lnTo>
                    <a:lnTo>
                      <a:pt x="54" y="32"/>
                    </a:lnTo>
                    <a:lnTo>
                      <a:pt x="54" y="22"/>
                    </a:lnTo>
                    <a:lnTo>
                      <a:pt x="54" y="11"/>
                    </a:lnTo>
                    <a:lnTo>
                      <a:pt x="63" y="0"/>
                    </a:lnTo>
                    <a:lnTo>
                      <a:pt x="106" y="11"/>
                    </a:lnTo>
                    <a:lnTo>
                      <a:pt x="149" y="22"/>
                    </a:lnTo>
                    <a:lnTo>
                      <a:pt x="192" y="32"/>
                    </a:lnTo>
                    <a:lnTo>
                      <a:pt x="244" y="32"/>
                    </a:lnTo>
                    <a:lnTo>
                      <a:pt x="287" y="43"/>
                    </a:lnTo>
                    <a:lnTo>
                      <a:pt x="329" y="54"/>
                    </a:lnTo>
                    <a:lnTo>
                      <a:pt x="371" y="65"/>
                    </a:lnTo>
                    <a:lnTo>
                      <a:pt x="414" y="75"/>
                    </a:lnTo>
                    <a:lnTo>
                      <a:pt x="456" y="85"/>
                    </a:lnTo>
                    <a:lnTo>
                      <a:pt x="510" y="97"/>
                    </a:lnTo>
                    <a:lnTo>
                      <a:pt x="552" y="106"/>
                    </a:lnTo>
                    <a:lnTo>
                      <a:pt x="594" y="127"/>
                    </a:lnTo>
                    <a:lnTo>
                      <a:pt x="637" y="138"/>
                    </a:lnTo>
                    <a:lnTo>
                      <a:pt x="668" y="160"/>
                    </a:lnTo>
                    <a:lnTo>
                      <a:pt x="711" y="170"/>
                    </a:lnTo>
                    <a:lnTo>
                      <a:pt x="753" y="19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1217160" y="2534400"/>
                <a:ext cx="25920" cy="452880"/>
              </a:xfrm>
              <a:custGeom>
                <a:avLst/>
                <a:gdLst/>
                <a:ahLst/>
                <a:rect l="l" t="t" r="r" b="b"/>
                <a:pathLst>
                  <a:path w="63" h="1165">
                    <a:moveTo>
                      <a:pt x="63" y="0"/>
                    </a:moveTo>
                    <a:lnTo>
                      <a:pt x="63" y="73"/>
                    </a:lnTo>
                    <a:lnTo>
                      <a:pt x="53" y="148"/>
                    </a:lnTo>
                    <a:lnTo>
                      <a:pt x="53" y="222"/>
                    </a:lnTo>
                    <a:lnTo>
                      <a:pt x="42" y="296"/>
                    </a:lnTo>
                    <a:lnTo>
                      <a:pt x="42" y="370"/>
                    </a:lnTo>
                    <a:lnTo>
                      <a:pt x="31" y="444"/>
                    </a:lnTo>
                    <a:lnTo>
                      <a:pt x="31" y="519"/>
                    </a:lnTo>
                    <a:lnTo>
                      <a:pt x="21" y="593"/>
                    </a:lnTo>
                    <a:lnTo>
                      <a:pt x="21" y="657"/>
                    </a:lnTo>
                    <a:lnTo>
                      <a:pt x="10" y="730"/>
                    </a:lnTo>
                    <a:lnTo>
                      <a:pt x="10" y="805"/>
                    </a:lnTo>
                    <a:lnTo>
                      <a:pt x="10" y="879"/>
                    </a:lnTo>
                    <a:lnTo>
                      <a:pt x="0" y="954"/>
                    </a:lnTo>
                    <a:lnTo>
                      <a:pt x="0" y="1027"/>
                    </a:lnTo>
                    <a:lnTo>
                      <a:pt x="0" y="1102"/>
                    </a:lnTo>
                    <a:lnTo>
                      <a:pt x="10" y="1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1028160" y="2714400"/>
                <a:ext cx="189000" cy="272880"/>
              </a:xfrm>
              <a:custGeom>
                <a:avLst/>
                <a:gdLst/>
                <a:ahLst/>
                <a:rect l="l" t="t" r="r" b="b"/>
                <a:pathLst>
                  <a:path w="488" h="699">
                    <a:moveTo>
                      <a:pt x="488" y="699"/>
                    </a:moveTo>
                    <a:lnTo>
                      <a:pt x="455" y="658"/>
                    </a:lnTo>
                    <a:lnTo>
                      <a:pt x="435" y="604"/>
                    </a:lnTo>
                    <a:lnTo>
                      <a:pt x="413" y="561"/>
                    </a:lnTo>
                    <a:lnTo>
                      <a:pt x="392" y="509"/>
                    </a:lnTo>
                    <a:lnTo>
                      <a:pt x="361" y="466"/>
                    </a:lnTo>
                    <a:lnTo>
                      <a:pt x="340" y="425"/>
                    </a:lnTo>
                    <a:lnTo>
                      <a:pt x="318" y="371"/>
                    </a:lnTo>
                    <a:lnTo>
                      <a:pt x="286" y="329"/>
                    </a:lnTo>
                    <a:lnTo>
                      <a:pt x="255" y="286"/>
                    </a:lnTo>
                    <a:lnTo>
                      <a:pt x="222" y="234"/>
                    </a:lnTo>
                    <a:lnTo>
                      <a:pt x="191" y="191"/>
                    </a:lnTo>
                    <a:lnTo>
                      <a:pt x="159" y="148"/>
                    </a:lnTo>
                    <a:lnTo>
                      <a:pt x="127" y="117"/>
                    </a:lnTo>
                    <a:lnTo>
                      <a:pt x="84" y="74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1016640" y="2418120"/>
                <a:ext cx="11520" cy="256680"/>
              </a:xfrm>
              <a:custGeom>
                <a:avLst/>
                <a:gdLst/>
                <a:ahLst/>
                <a:rect l="l" t="t" r="r" b="b"/>
                <a:pathLst>
                  <a:path w="32" h="657">
                    <a:moveTo>
                      <a:pt x="0" y="657"/>
                    </a:moveTo>
                    <a:lnTo>
                      <a:pt x="0" y="614"/>
                    </a:lnTo>
                    <a:lnTo>
                      <a:pt x="0" y="572"/>
                    </a:lnTo>
                    <a:lnTo>
                      <a:pt x="0" y="530"/>
                    </a:lnTo>
                    <a:lnTo>
                      <a:pt x="0" y="487"/>
                    </a:lnTo>
                    <a:lnTo>
                      <a:pt x="11" y="456"/>
                    </a:lnTo>
                    <a:lnTo>
                      <a:pt x="11" y="413"/>
                    </a:lnTo>
                    <a:lnTo>
                      <a:pt x="11" y="370"/>
                    </a:lnTo>
                    <a:lnTo>
                      <a:pt x="11" y="328"/>
                    </a:lnTo>
                    <a:lnTo>
                      <a:pt x="11" y="285"/>
                    </a:lnTo>
                    <a:lnTo>
                      <a:pt x="21" y="243"/>
                    </a:lnTo>
                    <a:lnTo>
                      <a:pt x="21" y="201"/>
                    </a:lnTo>
                    <a:lnTo>
                      <a:pt x="21" y="170"/>
                    </a:lnTo>
                    <a:lnTo>
                      <a:pt x="32" y="127"/>
                    </a:lnTo>
                    <a:lnTo>
                      <a:pt x="32" y="84"/>
                    </a:lnTo>
                    <a:lnTo>
                      <a:pt x="32" y="43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1035000" y="239688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690" h="192">
                    <a:moveTo>
                      <a:pt x="0" y="0"/>
                    </a:moveTo>
                    <a:lnTo>
                      <a:pt x="43" y="11"/>
                    </a:lnTo>
                    <a:lnTo>
                      <a:pt x="86" y="22"/>
                    </a:lnTo>
                    <a:lnTo>
                      <a:pt x="129" y="32"/>
                    </a:lnTo>
                    <a:lnTo>
                      <a:pt x="181" y="32"/>
                    </a:lnTo>
                    <a:lnTo>
                      <a:pt x="224" y="43"/>
                    </a:lnTo>
                    <a:lnTo>
                      <a:pt x="266" y="54"/>
                    </a:lnTo>
                    <a:lnTo>
                      <a:pt x="308" y="65"/>
                    </a:lnTo>
                    <a:lnTo>
                      <a:pt x="351" y="75"/>
                    </a:lnTo>
                    <a:lnTo>
                      <a:pt x="393" y="85"/>
                    </a:lnTo>
                    <a:lnTo>
                      <a:pt x="447" y="97"/>
                    </a:lnTo>
                    <a:lnTo>
                      <a:pt x="489" y="106"/>
                    </a:lnTo>
                    <a:lnTo>
                      <a:pt x="531" y="127"/>
                    </a:lnTo>
                    <a:lnTo>
                      <a:pt x="574" y="138"/>
                    </a:lnTo>
                    <a:lnTo>
                      <a:pt x="605" y="160"/>
                    </a:lnTo>
                    <a:lnTo>
                      <a:pt x="648" y="170"/>
                    </a:lnTo>
                    <a:lnTo>
                      <a:pt x="69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1259640" y="2546640"/>
                <a:ext cx="307800" cy="538560"/>
              </a:xfrm>
              <a:custGeom>
                <a:avLst/>
                <a:gdLst/>
                <a:ahLst/>
                <a:rect l="l" t="t" r="r" b="b"/>
                <a:pathLst>
                  <a:path w="795" h="1388">
                    <a:moveTo>
                      <a:pt x="84" y="0"/>
                    </a:moveTo>
                    <a:lnTo>
                      <a:pt x="116" y="42"/>
                    </a:lnTo>
                    <a:lnTo>
                      <a:pt x="159" y="85"/>
                    </a:lnTo>
                    <a:lnTo>
                      <a:pt x="190" y="128"/>
                    </a:lnTo>
                    <a:lnTo>
                      <a:pt x="233" y="171"/>
                    </a:lnTo>
                    <a:lnTo>
                      <a:pt x="265" y="212"/>
                    </a:lnTo>
                    <a:lnTo>
                      <a:pt x="308" y="244"/>
                    </a:lnTo>
                    <a:lnTo>
                      <a:pt x="349" y="286"/>
                    </a:lnTo>
                    <a:lnTo>
                      <a:pt x="392" y="329"/>
                    </a:lnTo>
                    <a:lnTo>
                      <a:pt x="435" y="361"/>
                    </a:lnTo>
                    <a:lnTo>
                      <a:pt x="476" y="392"/>
                    </a:lnTo>
                    <a:lnTo>
                      <a:pt x="519" y="435"/>
                    </a:lnTo>
                    <a:lnTo>
                      <a:pt x="562" y="467"/>
                    </a:lnTo>
                    <a:lnTo>
                      <a:pt x="603" y="497"/>
                    </a:lnTo>
                    <a:lnTo>
                      <a:pt x="646" y="519"/>
                    </a:lnTo>
                    <a:lnTo>
                      <a:pt x="700" y="552"/>
                    </a:lnTo>
                    <a:lnTo>
                      <a:pt x="742" y="572"/>
                    </a:lnTo>
                    <a:lnTo>
                      <a:pt x="752" y="583"/>
                    </a:lnTo>
                    <a:lnTo>
                      <a:pt x="764" y="594"/>
                    </a:lnTo>
                    <a:lnTo>
                      <a:pt x="773" y="604"/>
                    </a:lnTo>
                    <a:lnTo>
                      <a:pt x="773" y="615"/>
                    </a:lnTo>
                    <a:lnTo>
                      <a:pt x="784" y="626"/>
                    </a:lnTo>
                    <a:lnTo>
                      <a:pt x="784" y="636"/>
                    </a:lnTo>
                    <a:lnTo>
                      <a:pt x="795" y="647"/>
                    </a:lnTo>
                    <a:lnTo>
                      <a:pt x="795" y="658"/>
                    </a:lnTo>
                    <a:lnTo>
                      <a:pt x="795" y="669"/>
                    </a:lnTo>
                    <a:lnTo>
                      <a:pt x="784" y="679"/>
                    </a:lnTo>
                    <a:lnTo>
                      <a:pt x="784" y="690"/>
                    </a:lnTo>
                    <a:lnTo>
                      <a:pt x="764" y="721"/>
                    </a:lnTo>
                    <a:lnTo>
                      <a:pt x="752" y="753"/>
                    </a:lnTo>
                    <a:lnTo>
                      <a:pt x="731" y="785"/>
                    </a:lnTo>
                    <a:lnTo>
                      <a:pt x="710" y="817"/>
                    </a:lnTo>
                    <a:lnTo>
                      <a:pt x="689" y="848"/>
                    </a:lnTo>
                    <a:lnTo>
                      <a:pt x="678" y="880"/>
                    </a:lnTo>
                    <a:lnTo>
                      <a:pt x="657" y="912"/>
                    </a:lnTo>
                    <a:lnTo>
                      <a:pt x="636" y="944"/>
                    </a:lnTo>
                    <a:lnTo>
                      <a:pt x="625" y="975"/>
                    </a:lnTo>
                    <a:lnTo>
                      <a:pt x="603" y="1018"/>
                    </a:lnTo>
                    <a:lnTo>
                      <a:pt x="593" y="1050"/>
                    </a:lnTo>
                    <a:lnTo>
                      <a:pt x="571" y="1081"/>
                    </a:lnTo>
                    <a:lnTo>
                      <a:pt x="562" y="1114"/>
                    </a:lnTo>
                    <a:lnTo>
                      <a:pt x="550" y="1156"/>
                    </a:lnTo>
                    <a:lnTo>
                      <a:pt x="541" y="1188"/>
                    </a:lnTo>
                    <a:lnTo>
                      <a:pt x="530" y="1230"/>
                    </a:lnTo>
                    <a:lnTo>
                      <a:pt x="519" y="1241"/>
                    </a:lnTo>
                    <a:lnTo>
                      <a:pt x="519" y="1252"/>
                    </a:lnTo>
                    <a:lnTo>
                      <a:pt x="508" y="1261"/>
                    </a:lnTo>
                    <a:lnTo>
                      <a:pt x="508" y="1273"/>
                    </a:lnTo>
                    <a:lnTo>
                      <a:pt x="508" y="1283"/>
                    </a:lnTo>
                    <a:lnTo>
                      <a:pt x="498" y="1283"/>
                    </a:lnTo>
                    <a:lnTo>
                      <a:pt x="498" y="1295"/>
                    </a:lnTo>
                    <a:lnTo>
                      <a:pt x="487" y="1304"/>
                    </a:lnTo>
                    <a:lnTo>
                      <a:pt x="476" y="1315"/>
                    </a:lnTo>
                    <a:lnTo>
                      <a:pt x="466" y="1326"/>
                    </a:lnTo>
                    <a:lnTo>
                      <a:pt x="456" y="1326"/>
                    </a:lnTo>
                    <a:lnTo>
                      <a:pt x="444" y="1326"/>
                    </a:lnTo>
                    <a:lnTo>
                      <a:pt x="435" y="1336"/>
                    </a:lnTo>
                    <a:lnTo>
                      <a:pt x="423" y="1336"/>
                    </a:lnTo>
                    <a:lnTo>
                      <a:pt x="413" y="1347"/>
                    </a:lnTo>
                    <a:lnTo>
                      <a:pt x="403" y="1347"/>
                    </a:lnTo>
                    <a:lnTo>
                      <a:pt x="392" y="1347"/>
                    </a:lnTo>
                    <a:lnTo>
                      <a:pt x="381" y="1347"/>
                    </a:lnTo>
                    <a:lnTo>
                      <a:pt x="371" y="1358"/>
                    </a:lnTo>
                    <a:lnTo>
                      <a:pt x="360" y="1358"/>
                    </a:lnTo>
                    <a:lnTo>
                      <a:pt x="349" y="1358"/>
                    </a:lnTo>
                    <a:lnTo>
                      <a:pt x="339" y="1358"/>
                    </a:lnTo>
                    <a:lnTo>
                      <a:pt x="329" y="1367"/>
                    </a:lnTo>
                    <a:lnTo>
                      <a:pt x="317" y="1367"/>
                    </a:lnTo>
                    <a:lnTo>
                      <a:pt x="308" y="1367"/>
                    </a:lnTo>
                    <a:lnTo>
                      <a:pt x="296" y="1367"/>
                    </a:lnTo>
                    <a:lnTo>
                      <a:pt x="276" y="1379"/>
                    </a:lnTo>
                    <a:lnTo>
                      <a:pt x="286" y="1379"/>
                    </a:lnTo>
                    <a:lnTo>
                      <a:pt x="265" y="1379"/>
                    </a:lnTo>
                    <a:lnTo>
                      <a:pt x="244" y="1379"/>
                    </a:lnTo>
                    <a:lnTo>
                      <a:pt x="233" y="1379"/>
                    </a:lnTo>
                    <a:lnTo>
                      <a:pt x="222" y="1379"/>
                    </a:lnTo>
                    <a:lnTo>
                      <a:pt x="202" y="1388"/>
                    </a:lnTo>
                    <a:lnTo>
                      <a:pt x="190" y="1388"/>
                    </a:lnTo>
                    <a:lnTo>
                      <a:pt x="169" y="1388"/>
                    </a:lnTo>
                    <a:lnTo>
                      <a:pt x="159" y="1388"/>
                    </a:lnTo>
                    <a:lnTo>
                      <a:pt x="138" y="1388"/>
                    </a:lnTo>
                    <a:lnTo>
                      <a:pt x="127" y="1388"/>
                    </a:lnTo>
                    <a:lnTo>
                      <a:pt x="116" y="1388"/>
                    </a:lnTo>
                    <a:lnTo>
                      <a:pt x="95" y="1388"/>
                    </a:lnTo>
                    <a:lnTo>
                      <a:pt x="84" y="1388"/>
                    </a:lnTo>
                    <a:lnTo>
                      <a:pt x="63" y="1388"/>
                    </a:lnTo>
                    <a:lnTo>
                      <a:pt x="52" y="1388"/>
                    </a:lnTo>
                    <a:lnTo>
                      <a:pt x="42" y="1388"/>
                    </a:lnTo>
                    <a:lnTo>
                      <a:pt x="21" y="1358"/>
                    </a:lnTo>
                    <a:lnTo>
                      <a:pt x="21" y="1304"/>
                    </a:lnTo>
                    <a:lnTo>
                      <a:pt x="21" y="1252"/>
                    </a:lnTo>
                    <a:lnTo>
                      <a:pt x="10" y="1198"/>
                    </a:lnTo>
                    <a:lnTo>
                      <a:pt x="10" y="1145"/>
                    </a:lnTo>
                    <a:lnTo>
                      <a:pt x="10" y="1093"/>
                    </a:lnTo>
                    <a:lnTo>
                      <a:pt x="10" y="1039"/>
                    </a:lnTo>
                    <a:lnTo>
                      <a:pt x="10" y="987"/>
                    </a:lnTo>
                    <a:lnTo>
                      <a:pt x="10" y="932"/>
                    </a:lnTo>
                    <a:lnTo>
                      <a:pt x="10" y="869"/>
                    </a:lnTo>
                    <a:lnTo>
                      <a:pt x="10" y="817"/>
                    </a:lnTo>
                    <a:lnTo>
                      <a:pt x="0" y="764"/>
                    </a:lnTo>
                    <a:lnTo>
                      <a:pt x="0" y="711"/>
                    </a:lnTo>
                    <a:lnTo>
                      <a:pt x="0" y="647"/>
                    </a:lnTo>
                    <a:lnTo>
                      <a:pt x="0" y="594"/>
                    </a:lnTo>
                    <a:lnTo>
                      <a:pt x="0" y="540"/>
                    </a:lnTo>
                    <a:lnTo>
                      <a:pt x="10" y="488"/>
                    </a:lnTo>
                    <a:lnTo>
                      <a:pt x="10" y="456"/>
                    </a:lnTo>
                    <a:lnTo>
                      <a:pt x="10" y="435"/>
                    </a:lnTo>
                    <a:lnTo>
                      <a:pt x="10" y="404"/>
                    </a:lnTo>
                    <a:lnTo>
                      <a:pt x="10" y="372"/>
                    </a:lnTo>
                    <a:lnTo>
                      <a:pt x="21" y="339"/>
                    </a:lnTo>
                    <a:lnTo>
                      <a:pt x="21" y="307"/>
                    </a:lnTo>
                    <a:lnTo>
                      <a:pt x="21" y="286"/>
                    </a:lnTo>
                    <a:lnTo>
                      <a:pt x="21" y="255"/>
                    </a:lnTo>
                    <a:lnTo>
                      <a:pt x="21" y="223"/>
                    </a:lnTo>
                    <a:lnTo>
                      <a:pt x="21" y="191"/>
                    </a:lnTo>
                    <a:lnTo>
                      <a:pt x="21" y="159"/>
                    </a:lnTo>
                    <a:lnTo>
                      <a:pt x="21" y="138"/>
                    </a:lnTo>
                    <a:lnTo>
                      <a:pt x="31" y="107"/>
                    </a:lnTo>
                    <a:lnTo>
                      <a:pt x="31" y="75"/>
                    </a:lnTo>
                    <a:lnTo>
                      <a:pt x="31" y="53"/>
                    </a:lnTo>
                    <a:lnTo>
                      <a:pt x="42" y="21"/>
                    </a:lnTo>
                    <a:lnTo>
                      <a:pt x="52" y="21"/>
                    </a:lnTo>
                    <a:lnTo>
                      <a:pt x="52" y="10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1291680" y="2546640"/>
                <a:ext cx="256680" cy="221040"/>
              </a:xfrm>
              <a:custGeom>
                <a:avLst/>
                <a:gdLst/>
                <a:ahLst/>
                <a:rect l="l" t="t" r="r" b="b"/>
                <a:pathLst>
                  <a:path w="658" h="572">
                    <a:moveTo>
                      <a:pt x="0" y="0"/>
                    </a:moveTo>
                    <a:lnTo>
                      <a:pt x="32" y="42"/>
                    </a:lnTo>
                    <a:lnTo>
                      <a:pt x="75" y="85"/>
                    </a:lnTo>
                    <a:lnTo>
                      <a:pt x="106" y="128"/>
                    </a:lnTo>
                    <a:lnTo>
                      <a:pt x="149" y="171"/>
                    </a:lnTo>
                    <a:lnTo>
                      <a:pt x="181" y="212"/>
                    </a:lnTo>
                    <a:lnTo>
                      <a:pt x="224" y="244"/>
                    </a:lnTo>
                    <a:lnTo>
                      <a:pt x="265" y="286"/>
                    </a:lnTo>
                    <a:lnTo>
                      <a:pt x="308" y="329"/>
                    </a:lnTo>
                    <a:lnTo>
                      <a:pt x="351" y="361"/>
                    </a:lnTo>
                    <a:lnTo>
                      <a:pt x="392" y="392"/>
                    </a:lnTo>
                    <a:lnTo>
                      <a:pt x="435" y="435"/>
                    </a:lnTo>
                    <a:lnTo>
                      <a:pt x="478" y="467"/>
                    </a:lnTo>
                    <a:lnTo>
                      <a:pt x="519" y="497"/>
                    </a:lnTo>
                    <a:lnTo>
                      <a:pt x="562" y="519"/>
                    </a:lnTo>
                    <a:lnTo>
                      <a:pt x="616" y="552"/>
                    </a:lnTo>
                    <a:lnTo>
                      <a:pt x="658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1464840" y="2814840"/>
                <a:ext cx="99720" cy="2098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254" y="0"/>
                    </a:moveTo>
                    <a:lnTo>
                      <a:pt x="234" y="31"/>
                    </a:lnTo>
                    <a:lnTo>
                      <a:pt x="222" y="63"/>
                    </a:lnTo>
                    <a:lnTo>
                      <a:pt x="201" y="95"/>
                    </a:lnTo>
                    <a:lnTo>
                      <a:pt x="180" y="127"/>
                    </a:lnTo>
                    <a:lnTo>
                      <a:pt x="159" y="158"/>
                    </a:lnTo>
                    <a:lnTo>
                      <a:pt x="148" y="190"/>
                    </a:lnTo>
                    <a:lnTo>
                      <a:pt x="127" y="222"/>
                    </a:lnTo>
                    <a:lnTo>
                      <a:pt x="106" y="254"/>
                    </a:lnTo>
                    <a:lnTo>
                      <a:pt x="95" y="285"/>
                    </a:lnTo>
                    <a:lnTo>
                      <a:pt x="73" y="328"/>
                    </a:lnTo>
                    <a:lnTo>
                      <a:pt x="63" y="360"/>
                    </a:lnTo>
                    <a:lnTo>
                      <a:pt x="41" y="391"/>
                    </a:lnTo>
                    <a:lnTo>
                      <a:pt x="32" y="424"/>
                    </a:lnTo>
                    <a:lnTo>
                      <a:pt x="20" y="466"/>
                    </a:lnTo>
                    <a:lnTo>
                      <a:pt x="11" y="498"/>
                    </a:lnTo>
                    <a:lnTo>
                      <a:pt x="0" y="5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1259640" y="2735640"/>
                <a:ext cx="9000" cy="338040"/>
              </a:xfrm>
              <a:custGeom>
                <a:avLst/>
                <a:gdLst/>
                <a:ahLst/>
                <a:rect l="l" t="t" r="r" b="b"/>
                <a:pathLst>
                  <a:path w="21" h="870">
                    <a:moveTo>
                      <a:pt x="21" y="870"/>
                    </a:moveTo>
                    <a:lnTo>
                      <a:pt x="21" y="816"/>
                    </a:lnTo>
                    <a:lnTo>
                      <a:pt x="21" y="764"/>
                    </a:lnTo>
                    <a:lnTo>
                      <a:pt x="10" y="710"/>
                    </a:lnTo>
                    <a:lnTo>
                      <a:pt x="10" y="657"/>
                    </a:lnTo>
                    <a:lnTo>
                      <a:pt x="10" y="605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10" y="444"/>
                    </a:lnTo>
                    <a:lnTo>
                      <a:pt x="10" y="381"/>
                    </a:lnTo>
                    <a:lnTo>
                      <a:pt x="10" y="329"/>
                    </a:lnTo>
                    <a:lnTo>
                      <a:pt x="0" y="276"/>
                    </a:lnTo>
                    <a:lnTo>
                      <a:pt x="0" y="223"/>
                    </a:lnTo>
                    <a:lnTo>
                      <a:pt x="0" y="159"/>
                    </a:lnTo>
                    <a:lnTo>
                      <a:pt x="0" y="106"/>
                    </a:lnTo>
                    <a:lnTo>
                      <a:pt x="0" y="5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1263600" y="2555640"/>
                <a:ext cx="11520" cy="179640"/>
              </a:xfrm>
              <a:custGeom>
                <a:avLst/>
                <a:gdLst/>
                <a:ahLst/>
                <a:rect l="l" t="t" r="r" b="b"/>
                <a:pathLst>
                  <a:path w="32" h="467">
                    <a:moveTo>
                      <a:pt x="0" y="467"/>
                    </a:moveTo>
                    <a:lnTo>
                      <a:pt x="0" y="435"/>
                    </a:lnTo>
                    <a:lnTo>
                      <a:pt x="0" y="414"/>
                    </a:lnTo>
                    <a:lnTo>
                      <a:pt x="0" y="383"/>
                    </a:lnTo>
                    <a:lnTo>
                      <a:pt x="0" y="351"/>
                    </a:lnTo>
                    <a:lnTo>
                      <a:pt x="11" y="318"/>
                    </a:lnTo>
                    <a:lnTo>
                      <a:pt x="11" y="286"/>
                    </a:lnTo>
                    <a:lnTo>
                      <a:pt x="11" y="265"/>
                    </a:lnTo>
                    <a:lnTo>
                      <a:pt x="11" y="234"/>
                    </a:lnTo>
                    <a:lnTo>
                      <a:pt x="11" y="202"/>
                    </a:lnTo>
                    <a:lnTo>
                      <a:pt x="11" y="170"/>
                    </a:lnTo>
                    <a:lnTo>
                      <a:pt x="11" y="138"/>
                    </a:lnTo>
                    <a:lnTo>
                      <a:pt x="11" y="117"/>
                    </a:lnTo>
                    <a:lnTo>
                      <a:pt x="21" y="86"/>
                    </a:lnTo>
                    <a:lnTo>
                      <a:pt x="21" y="54"/>
                    </a:lnTo>
                    <a:lnTo>
                      <a:pt x="21" y="32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1280160" y="2574000"/>
                <a:ext cx="263880" cy="499320"/>
              </a:xfrm>
              <a:custGeom>
                <a:avLst/>
                <a:gdLst/>
                <a:ahLst/>
                <a:rect l="l" t="t" r="r" b="b"/>
                <a:pathLst>
                  <a:path w="679" h="1283">
                    <a:moveTo>
                      <a:pt x="297" y="307"/>
                    </a:moveTo>
                    <a:lnTo>
                      <a:pt x="319" y="329"/>
                    </a:lnTo>
                    <a:lnTo>
                      <a:pt x="340" y="350"/>
                    </a:lnTo>
                    <a:lnTo>
                      <a:pt x="361" y="370"/>
                    </a:lnTo>
                    <a:lnTo>
                      <a:pt x="383" y="392"/>
                    </a:lnTo>
                    <a:lnTo>
                      <a:pt x="404" y="402"/>
                    </a:lnTo>
                    <a:lnTo>
                      <a:pt x="424" y="422"/>
                    </a:lnTo>
                    <a:lnTo>
                      <a:pt x="446" y="434"/>
                    </a:lnTo>
                    <a:lnTo>
                      <a:pt x="467" y="456"/>
                    </a:lnTo>
                    <a:lnTo>
                      <a:pt x="489" y="465"/>
                    </a:lnTo>
                    <a:lnTo>
                      <a:pt x="510" y="487"/>
                    </a:lnTo>
                    <a:lnTo>
                      <a:pt x="531" y="497"/>
                    </a:lnTo>
                    <a:lnTo>
                      <a:pt x="551" y="508"/>
                    </a:lnTo>
                    <a:lnTo>
                      <a:pt x="573" y="519"/>
                    </a:lnTo>
                    <a:lnTo>
                      <a:pt x="594" y="540"/>
                    </a:lnTo>
                    <a:lnTo>
                      <a:pt x="616" y="551"/>
                    </a:lnTo>
                    <a:lnTo>
                      <a:pt x="648" y="561"/>
                    </a:lnTo>
                    <a:lnTo>
                      <a:pt x="658" y="561"/>
                    </a:lnTo>
                    <a:lnTo>
                      <a:pt x="669" y="561"/>
                    </a:lnTo>
                    <a:lnTo>
                      <a:pt x="669" y="572"/>
                    </a:lnTo>
                    <a:lnTo>
                      <a:pt x="679" y="572"/>
                    </a:lnTo>
                    <a:lnTo>
                      <a:pt x="679" y="583"/>
                    </a:lnTo>
                    <a:lnTo>
                      <a:pt x="658" y="615"/>
                    </a:lnTo>
                    <a:lnTo>
                      <a:pt x="648" y="658"/>
                    </a:lnTo>
                    <a:lnTo>
                      <a:pt x="626" y="699"/>
                    </a:lnTo>
                    <a:lnTo>
                      <a:pt x="605" y="731"/>
                    </a:lnTo>
                    <a:lnTo>
                      <a:pt x="584" y="773"/>
                    </a:lnTo>
                    <a:lnTo>
                      <a:pt x="573" y="805"/>
                    </a:lnTo>
                    <a:lnTo>
                      <a:pt x="551" y="848"/>
                    </a:lnTo>
                    <a:lnTo>
                      <a:pt x="531" y="879"/>
                    </a:lnTo>
                    <a:lnTo>
                      <a:pt x="510" y="921"/>
                    </a:lnTo>
                    <a:lnTo>
                      <a:pt x="489" y="954"/>
                    </a:lnTo>
                    <a:lnTo>
                      <a:pt x="478" y="996"/>
                    </a:lnTo>
                    <a:lnTo>
                      <a:pt x="456" y="1039"/>
                    </a:lnTo>
                    <a:lnTo>
                      <a:pt x="446" y="1070"/>
                    </a:lnTo>
                    <a:lnTo>
                      <a:pt x="424" y="1113"/>
                    </a:lnTo>
                    <a:lnTo>
                      <a:pt x="414" y="1155"/>
                    </a:lnTo>
                    <a:lnTo>
                      <a:pt x="404" y="1198"/>
                    </a:lnTo>
                    <a:lnTo>
                      <a:pt x="392" y="1198"/>
                    </a:lnTo>
                    <a:lnTo>
                      <a:pt x="383" y="1208"/>
                    </a:lnTo>
                    <a:lnTo>
                      <a:pt x="361" y="1220"/>
                    </a:lnTo>
                    <a:lnTo>
                      <a:pt x="351" y="1220"/>
                    </a:lnTo>
                    <a:lnTo>
                      <a:pt x="340" y="1229"/>
                    </a:lnTo>
                    <a:lnTo>
                      <a:pt x="329" y="1240"/>
                    </a:lnTo>
                    <a:lnTo>
                      <a:pt x="319" y="1240"/>
                    </a:lnTo>
                    <a:lnTo>
                      <a:pt x="308" y="1240"/>
                    </a:lnTo>
                    <a:lnTo>
                      <a:pt x="287" y="1251"/>
                    </a:lnTo>
                    <a:lnTo>
                      <a:pt x="277" y="1251"/>
                    </a:lnTo>
                    <a:lnTo>
                      <a:pt x="265" y="1251"/>
                    </a:lnTo>
                    <a:lnTo>
                      <a:pt x="244" y="1261"/>
                    </a:lnTo>
                    <a:lnTo>
                      <a:pt x="234" y="1261"/>
                    </a:lnTo>
                    <a:lnTo>
                      <a:pt x="224" y="1261"/>
                    </a:lnTo>
                    <a:lnTo>
                      <a:pt x="213" y="1272"/>
                    </a:lnTo>
                    <a:lnTo>
                      <a:pt x="192" y="1272"/>
                    </a:lnTo>
                    <a:lnTo>
                      <a:pt x="181" y="1272"/>
                    </a:lnTo>
                    <a:lnTo>
                      <a:pt x="170" y="1272"/>
                    </a:lnTo>
                    <a:lnTo>
                      <a:pt x="159" y="1272"/>
                    </a:lnTo>
                    <a:lnTo>
                      <a:pt x="150" y="1272"/>
                    </a:lnTo>
                    <a:lnTo>
                      <a:pt x="138" y="1272"/>
                    </a:lnTo>
                    <a:lnTo>
                      <a:pt x="129" y="1272"/>
                    </a:lnTo>
                    <a:lnTo>
                      <a:pt x="117" y="1272"/>
                    </a:lnTo>
                    <a:lnTo>
                      <a:pt x="107" y="1283"/>
                    </a:lnTo>
                    <a:lnTo>
                      <a:pt x="97" y="1283"/>
                    </a:lnTo>
                    <a:lnTo>
                      <a:pt x="86" y="1283"/>
                    </a:lnTo>
                    <a:lnTo>
                      <a:pt x="75" y="1283"/>
                    </a:lnTo>
                    <a:lnTo>
                      <a:pt x="64" y="1283"/>
                    </a:lnTo>
                    <a:lnTo>
                      <a:pt x="54" y="1272"/>
                    </a:lnTo>
                    <a:lnTo>
                      <a:pt x="43" y="1272"/>
                    </a:lnTo>
                    <a:lnTo>
                      <a:pt x="32" y="1272"/>
                    </a:lnTo>
                    <a:lnTo>
                      <a:pt x="22" y="1272"/>
                    </a:lnTo>
                    <a:lnTo>
                      <a:pt x="0" y="1208"/>
                    </a:lnTo>
                    <a:lnTo>
                      <a:pt x="0" y="1134"/>
                    </a:lnTo>
                    <a:lnTo>
                      <a:pt x="0" y="1059"/>
                    </a:lnTo>
                    <a:lnTo>
                      <a:pt x="0" y="984"/>
                    </a:lnTo>
                    <a:lnTo>
                      <a:pt x="0" y="921"/>
                    </a:lnTo>
                    <a:lnTo>
                      <a:pt x="0" y="848"/>
                    </a:lnTo>
                    <a:lnTo>
                      <a:pt x="0" y="773"/>
                    </a:lnTo>
                    <a:lnTo>
                      <a:pt x="0" y="699"/>
                    </a:lnTo>
                    <a:lnTo>
                      <a:pt x="0" y="624"/>
                    </a:lnTo>
                    <a:lnTo>
                      <a:pt x="0" y="561"/>
                    </a:lnTo>
                    <a:lnTo>
                      <a:pt x="0" y="487"/>
                    </a:lnTo>
                    <a:lnTo>
                      <a:pt x="0" y="413"/>
                    </a:lnTo>
                    <a:lnTo>
                      <a:pt x="0" y="350"/>
                    </a:lnTo>
                    <a:lnTo>
                      <a:pt x="0" y="275"/>
                    </a:lnTo>
                    <a:lnTo>
                      <a:pt x="0" y="202"/>
                    </a:lnTo>
                    <a:lnTo>
                      <a:pt x="11" y="137"/>
                    </a:lnTo>
                    <a:lnTo>
                      <a:pt x="11" y="63"/>
                    </a:lnTo>
                    <a:lnTo>
                      <a:pt x="32" y="0"/>
                    </a:lnTo>
                    <a:lnTo>
                      <a:pt x="43" y="21"/>
                    </a:lnTo>
                    <a:lnTo>
                      <a:pt x="64" y="42"/>
                    </a:lnTo>
                    <a:lnTo>
                      <a:pt x="75" y="63"/>
                    </a:lnTo>
                    <a:lnTo>
                      <a:pt x="97" y="84"/>
                    </a:lnTo>
                    <a:lnTo>
                      <a:pt x="107" y="105"/>
                    </a:lnTo>
                    <a:lnTo>
                      <a:pt x="129" y="116"/>
                    </a:lnTo>
                    <a:lnTo>
                      <a:pt x="138" y="137"/>
                    </a:lnTo>
                    <a:lnTo>
                      <a:pt x="159" y="159"/>
                    </a:lnTo>
                    <a:lnTo>
                      <a:pt x="170" y="180"/>
                    </a:lnTo>
                    <a:lnTo>
                      <a:pt x="192" y="202"/>
                    </a:lnTo>
                    <a:lnTo>
                      <a:pt x="202" y="223"/>
                    </a:lnTo>
                    <a:lnTo>
                      <a:pt x="224" y="243"/>
                    </a:lnTo>
                    <a:lnTo>
                      <a:pt x="234" y="264"/>
                    </a:lnTo>
                    <a:lnTo>
                      <a:pt x="256" y="275"/>
                    </a:lnTo>
                    <a:lnTo>
                      <a:pt x="277" y="297"/>
                    </a:lnTo>
                    <a:lnTo>
                      <a:pt x="297" y="307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1394640" y="2696040"/>
                <a:ext cx="137520" cy="97560"/>
              </a:xfrm>
              <a:custGeom>
                <a:avLst/>
                <a:gdLst/>
                <a:ahLst/>
                <a:rect l="l" t="t" r="r" b="b"/>
                <a:pathLst>
                  <a:path w="351" h="254">
                    <a:moveTo>
                      <a:pt x="0" y="0"/>
                    </a:moveTo>
                    <a:lnTo>
                      <a:pt x="22" y="22"/>
                    </a:lnTo>
                    <a:lnTo>
                      <a:pt x="43" y="43"/>
                    </a:lnTo>
                    <a:lnTo>
                      <a:pt x="64" y="63"/>
                    </a:lnTo>
                    <a:lnTo>
                      <a:pt x="86" y="85"/>
                    </a:lnTo>
                    <a:lnTo>
                      <a:pt x="107" y="95"/>
                    </a:lnTo>
                    <a:lnTo>
                      <a:pt x="127" y="115"/>
                    </a:lnTo>
                    <a:lnTo>
                      <a:pt x="149" y="127"/>
                    </a:lnTo>
                    <a:lnTo>
                      <a:pt x="170" y="149"/>
                    </a:lnTo>
                    <a:lnTo>
                      <a:pt x="192" y="158"/>
                    </a:lnTo>
                    <a:lnTo>
                      <a:pt x="213" y="180"/>
                    </a:lnTo>
                    <a:lnTo>
                      <a:pt x="234" y="190"/>
                    </a:lnTo>
                    <a:lnTo>
                      <a:pt x="254" y="201"/>
                    </a:lnTo>
                    <a:lnTo>
                      <a:pt x="276" y="212"/>
                    </a:lnTo>
                    <a:lnTo>
                      <a:pt x="297" y="233"/>
                    </a:lnTo>
                    <a:lnTo>
                      <a:pt x="319" y="244"/>
                    </a:lnTo>
                    <a:lnTo>
                      <a:pt x="351" y="2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1436760" y="2803320"/>
                <a:ext cx="107280" cy="237600"/>
              </a:xfrm>
              <a:custGeom>
                <a:avLst/>
                <a:gdLst/>
                <a:ahLst/>
                <a:rect l="l" t="t" r="r" b="b"/>
                <a:pathLst>
                  <a:path w="275" h="615">
                    <a:moveTo>
                      <a:pt x="275" y="0"/>
                    </a:moveTo>
                    <a:lnTo>
                      <a:pt x="254" y="32"/>
                    </a:lnTo>
                    <a:lnTo>
                      <a:pt x="244" y="75"/>
                    </a:lnTo>
                    <a:lnTo>
                      <a:pt x="222" y="116"/>
                    </a:lnTo>
                    <a:lnTo>
                      <a:pt x="201" y="148"/>
                    </a:lnTo>
                    <a:lnTo>
                      <a:pt x="180" y="190"/>
                    </a:lnTo>
                    <a:lnTo>
                      <a:pt x="169" y="222"/>
                    </a:lnTo>
                    <a:lnTo>
                      <a:pt x="147" y="265"/>
                    </a:lnTo>
                    <a:lnTo>
                      <a:pt x="127" y="296"/>
                    </a:lnTo>
                    <a:lnTo>
                      <a:pt x="106" y="338"/>
                    </a:lnTo>
                    <a:lnTo>
                      <a:pt x="85" y="371"/>
                    </a:lnTo>
                    <a:lnTo>
                      <a:pt x="74" y="413"/>
                    </a:lnTo>
                    <a:lnTo>
                      <a:pt x="52" y="456"/>
                    </a:lnTo>
                    <a:lnTo>
                      <a:pt x="42" y="487"/>
                    </a:lnTo>
                    <a:lnTo>
                      <a:pt x="20" y="530"/>
                    </a:lnTo>
                    <a:lnTo>
                      <a:pt x="10" y="572"/>
                    </a:lnTo>
                    <a:lnTo>
                      <a:pt x="0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1280160" y="2599920"/>
                <a:ext cx="4680" cy="445320"/>
              </a:xfrm>
              <a:custGeom>
                <a:avLst/>
                <a:gdLst/>
                <a:ahLst/>
                <a:rect l="l" t="t" r="r" b="b"/>
                <a:pathLst>
                  <a:path w="11" h="1145">
                    <a:moveTo>
                      <a:pt x="0" y="1145"/>
                    </a:moveTo>
                    <a:lnTo>
                      <a:pt x="0" y="1071"/>
                    </a:lnTo>
                    <a:lnTo>
                      <a:pt x="0" y="996"/>
                    </a:lnTo>
                    <a:lnTo>
                      <a:pt x="0" y="921"/>
                    </a:lnTo>
                    <a:lnTo>
                      <a:pt x="0" y="858"/>
                    </a:lnTo>
                    <a:lnTo>
                      <a:pt x="0" y="785"/>
                    </a:lnTo>
                    <a:lnTo>
                      <a:pt x="0" y="710"/>
                    </a:lnTo>
                    <a:lnTo>
                      <a:pt x="0" y="636"/>
                    </a:lnTo>
                    <a:lnTo>
                      <a:pt x="0" y="561"/>
                    </a:lnTo>
                    <a:lnTo>
                      <a:pt x="0" y="498"/>
                    </a:lnTo>
                    <a:lnTo>
                      <a:pt x="0" y="424"/>
                    </a:lnTo>
                    <a:lnTo>
                      <a:pt x="0" y="350"/>
                    </a:lnTo>
                    <a:lnTo>
                      <a:pt x="0" y="287"/>
                    </a:lnTo>
                    <a:lnTo>
                      <a:pt x="0" y="212"/>
                    </a:lnTo>
                    <a:lnTo>
                      <a:pt x="0" y="139"/>
                    </a:lnTo>
                    <a:lnTo>
                      <a:pt x="11" y="7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1291680" y="2574000"/>
                <a:ext cx="102600" cy="121680"/>
              </a:xfrm>
              <a:custGeom>
                <a:avLst/>
                <a:gdLst/>
                <a:ahLst/>
                <a:rect l="l" t="t" r="r" b="b"/>
                <a:pathLst>
                  <a:path w="265" h="307">
                    <a:moveTo>
                      <a:pt x="0" y="0"/>
                    </a:moveTo>
                    <a:lnTo>
                      <a:pt x="11" y="21"/>
                    </a:lnTo>
                    <a:lnTo>
                      <a:pt x="32" y="42"/>
                    </a:lnTo>
                    <a:lnTo>
                      <a:pt x="43" y="63"/>
                    </a:lnTo>
                    <a:lnTo>
                      <a:pt x="65" y="84"/>
                    </a:lnTo>
                    <a:lnTo>
                      <a:pt x="75" y="105"/>
                    </a:lnTo>
                    <a:lnTo>
                      <a:pt x="97" y="116"/>
                    </a:lnTo>
                    <a:lnTo>
                      <a:pt x="106" y="137"/>
                    </a:lnTo>
                    <a:lnTo>
                      <a:pt x="127" y="159"/>
                    </a:lnTo>
                    <a:lnTo>
                      <a:pt x="138" y="180"/>
                    </a:lnTo>
                    <a:lnTo>
                      <a:pt x="160" y="202"/>
                    </a:lnTo>
                    <a:lnTo>
                      <a:pt x="170" y="223"/>
                    </a:lnTo>
                    <a:lnTo>
                      <a:pt x="192" y="243"/>
                    </a:lnTo>
                    <a:lnTo>
                      <a:pt x="202" y="264"/>
                    </a:lnTo>
                    <a:lnTo>
                      <a:pt x="224" y="275"/>
                    </a:lnTo>
                    <a:lnTo>
                      <a:pt x="245" y="297"/>
                    </a:lnTo>
                    <a:lnTo>
                      <a:pt x="265" y="3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1205640" y="2681640"/>
                <a:ext cx="779760" cy="1386720"/>
              </a:xfrm>
              <a:custGeom>
                <a:avLst/>
                <a:gdLst/>
                <a:ahLst/>
                <a:rect l="l" t="t" r="r" b="b"/>
                <a:pathLst>
                  <a:path w="2005" h="3563">
                    <a:moveTo>
                      <a:pt x="1251" y="11"/>
                    </a:moveTo>
                    <a:lnTo>
                      <a:pt x="1272" y="22"/>
                    </a:lnTo>
                    <a:lnTo>
                      <a:pt x="1284" y="32"/>
                    </a:lnTo>
                    <a:lnTo>
                      <a:pt x="1294" y="42"/>
                    </a:lnTo>
                    <a:lnTo>
                      <a:pt x="1315" y="63"/>
                    </a:lnTo>
                    <a:lnTo>
                      <a:pt x="1326" y="75"/>
                    </a:lnTo>
                    <a:lnTo>
                      <a:pt x="1336" y="95"/>
                    </a:lnTo>
                    <a:lnTo>
                      <a:pt x="1347" y="106"/>
                    </a:lnTo>
                    <a:lnTo>
                      <a:pt x="1369" y="127"/>
                    </a:lnTo>
                    <a:lnTo>
                      <a:pt x="1379" y="138"/>
                    </a:lnTo>
                    <a:lnTo>
                      <a:pt x="1390" y="147"/>
                    </a:lnTo>
                    <a:lnTo>
                      <a:pt x="1411" y="159"/>
                    </a:lnTo>
                    <a:lnTo>
                      <a:pt x="1422" y="169"/>
                    </a:lnTo>
                    <a:lnTo>
                      <a:pt x="1443" y="169"/>
                    </a:lnTo>
                    <a:lnTo>
                      <a:pt x="1465" y="169"/>
                    </a:lnTo>
                    <a:lnTo>
                      <a:pt x="1485" y="169"/>
                    </a:lnTo>
                    <a:lnTo>
                      <a:pt x="1506" y="159"/>
                    </a:lnTo>
                    <a:lnTo>
                      <a:pt x="1528" y="159"/>
                    </a:lnTo>
                    <a:lnTo>
                      <a:pt x="1549" y="169"/>
                    </a:lnTo>
                    <a:lnTo>
                      <a:pt x="1580" y="169"/>
                    </a:lnTo>
                    <a:lnTo>
                      <a:pt x="1601" y="169"/>
                    </a:lnTo>
                    <a:lnTo>
                      <a:pt x="1623" y="181"/>
                    </a:lnTo>
                    <a:lnTo>
                      <a:pt x="1655" y="181"/>
                    </a:lnTo>
                    <a:lnTo>
                      <a:pt x="1676" y="181"/>
                    </a:lnTo>
                    <a:lnTo>
                      <a:pt x="1698" y="181"/>
                    </a:lnTo>
                    <a:lnTo>
                      <a:pt x="1728" y="181"/>
                    </a:lnTo>
                    <a:lnTo>
                      <a:pt x="1750" y="181"/>
                    </a:lnTo>
                    <a:lnTo>
                      <a:pt x="1771" y="181"/>
                    </a:lnTo>
                    <a:lnTo>
                      <a:pt x="1803" y="181"/>
                    </a:lnTo>
                    <a:lnTo>
                      <a:pt x="1825" y="181"/>
                    </a:lnTo>
                    <a:lnTo>
                      <a:pt x="1846" y="190"/>
                    </a:lnTo>
                    <a:lnTo>
                      <a:pt x="1877" y="190"/>
                    </a:lnTo>
                    <a:lnTo>
                      <a:pt x="1898" y="202"/>
                    </a:lnTo>
                    <a:lnTo>
                      <a:pt x="1909" y="233"/>
                    </a:lnTo>
                    <a:lnTo>
                      <a:pt x="1930" y="265"/>
                    </a:lnTo>
                    <a:lnTo>
                      <a:pt x="1941" y="308"/>
                    </a:lnTo>
                    <a:lnTo>
                      <a:pt x="1962" y="340"/>
                    </a:lnTo>
                    <a:lnTo>
                      <a:pt x="1973" y="371"/>
                    </a:lnTo>
                    <a:lnTo>
                      <a:pt x="1984" y="414"/>
                    </a:lnTo>
                    <a:lnTo>
                      <a:pt x="1993" y="456"/>
                    </a:lnTo>
                    <a:lnTo>
                      <a:pt x="1993" y="488"/>
                    </a:lnTo>
                    <a:lnTo>
                      <a:pt x="2005" y="530"/>
                    </a:lnTo>
                    <a:lnTo>
                      <a:pt x="2005" y="573"/>
                    </a:lnTo>
                    <a:lnTo>
                      <a:pt x="2005" y="604"/>
                    </a:lnTo>
                    <a:lnTo>
                      <a:pt x="2005" y="646"/>
                    </a:lnTo>
                    <a:lnTo>
                      <a:pt x="2005" y="689"/>
                    </a:lnTo>
                    <a:lnTo>
                      <a:pt x="2005" y="721"/>
                    </a:lnTo>
                    <a:lnTo>
                      <a:pt x="1993" y="764"/>
                    </a:lnTo>
                    <a:lnTo>
                      <a:pt x="1993" y="806"/>
                    </a:lnTo>
                    <a:lnTo>
                      <a:pt x="1962" y="848"/>
                    </a:lnTo>
                    <a:lnTo>
                      <a:pt x="1941" y="848"/>
                    </a:lnTo>
                    <a:lnTo>
                      <a:pt x="1930" y="848"/>
                    </a:lnTo>
                    <a:lnTo>
                      <a:pt x="1909" y="838"/>
                    </a:lnTo>
                    <a:lnTo>
                      <a:pt x="1888" y="838"/>
                    </a:lnTo>
                    <a:lnTo>
                      <a:pt x="1877" y="827"/>
                    </a:lnTo>
                    <a:lnTo>
                      <a:pt x="1856" y="827"/>
                    </a:lnTo>
                    <a:lnTo>
                      <a:pt x="1846" y="816"/>
                    </a:lnTo>
                    <a:lnTo>
                      <a:pt x="1825" y="806"/>
                    </a:lnTo>
                    <a:lnTo>
                      <a:pt x="1814" y="806"/>
                    </a:lnTo>
                    <a:lnTo>
                      <a:pt x="1793" y="795"/>
                    </a:lnTo>
                    <a:lnTo>
                      <a:pt x="1782" y="784"/>
                    </a:lnTo>
                    <a:lnTo>
                      <a:pt x="1761" y="774"/>
                    </a:lnTo>
                    <a:lnTo>
                      <a:pt x="1750" y="764"/>
                    </a:lnTo>
                    <a:lnTo>
                      <a:pt x="1728" y="764"/>
                    </a:lnTo>
                    <a:lnTo>
                      <a:pt x="1719" y="752"/>
                    </a:lnTo>
                    <a:lnTo>
                      <a:pt x="1698" y="743"/>
                    </a:lnTo>
                    <a:lnTo>
                      <a:pt x="1686" y="743"/>
                    </a:lnTo>
                    <a:lnTo>
                      <a:pt x="1676" y="731"/>
                    </a:lnTo>
                    <a:lnTo>
                      <a:pt x="1665" y="721"/>
                    </a:lnTo>
                    <a:lnTo>
                      <a:pt x="1655" y="709"/>
                    </a:lnTo>
                    <a:lnTo>
                      <a:pt x="1644" y="700"/>
                    </a:lnTo>
                    <a:lnTo>
                      <a:pt x="1633" y="700"/>
                    </a:lnTo>
                    <a:lnTo>
                      <a:pt x="1623" y="689"/>
                    </a:lnTo>
                    <a:lnTo>
                      <a:pt x="1612" y="679"/>
                    </a:lnTo>
                    <a:lnTo>
                      <a:pt x="1592" y="668"/>
                    </a:lnTo>
                    <a:lnTo>
                      <a:pt x="1580" y="668"/>
                    </a:lnTo>
                    <a:lnTo>
                      <a:pt x="1570" y="657"/>
                    </a:lnTo>
                    <a:lnTo>
                      <a:pt x="1559" y="646"/>
                    </a:lnTo>
                    <a:lnTo>
                      <a:pt x="1549" y="637"/>
                    </a:lnTo>
                    <a:lnTo>
                      <a:pt x="1538" y="625"/>
                    </a:lnTo>
                    <a:lnTo>
                      <a:pt x="1528" y="616"/>
                    </a:lnTo>
                    <a:lnTo>
                      <a:pt x="1517" y="604"/>
                    </a:lnTo>
                    <a:lnTo>
                      <a:pt x="1485" y="625"/>
                    </a:lnTo>
                    <a:lnTo>
                      <a:pt x="1453" y="646"/>
                    </a:lnTo>
                    <a:lnTo>
                      <a:pt x="1431" y="679"/>
                    </a:lnTo>
                    <a:lnTo>
                      <a:pt x="1401" y="700"/>
                    </a:lnTo>
                    <a:lnTo>
                      <a:pt x="1369" y="721"/>
                    </a:lnTo>
                    <a:lnTo>
                      <a:pt x="1347" y="752"/>
                    </a:lnTo>
                    <a:lnTo>
                      <a:pt x="1315" y="774"/>
                    </a:lnTo>
                    <a:lnTo>
                      <a:pt x="1284" y="806"/>
                    </a:lnTo>
                    <a:lnTo>
                      <a:pt x="1263" y="827"/>
                    </a:lnTo>
                    <a:lnTo>
                      <a:pt x="1231" y="859"/>
                    </a:lnTo>
                    <a:lnTo>
                      <a:pt x="1209" y="891"/>
                    </a:lnTo>
                    <a:lnTo>
                      <a:pt x="1177" y="911"/>
                    </a:lnTo>
                    <a:lnTo>
                      <a:pt x="1145" y="945"/>
                    </a:lnTo>
                    <a:lnTo>
                      <a:pt x="1124" y="965"/>
                    </a:lnTo>
                    <a:lnTo>
                      <a:pt x="1093" y="997"/>
                    </a:lnTo>
                    <a:lnTo>
                      <a:pt x="1061" y="1017"/>
                    </a:lnTo>
                    <a:lnTo>
                      <a:pt x="1030" y="1060"/>
                    </a:lnTo>
                    <a:lnTo>
                      <a:pt x="1009" y="1103"/>
                    </a:lnTo>
                    <a:lnTo>
                      <a:pt x="977" y="1135"/>
                    </a:lnTo>
                    <a:lnTo>
                      <a:pt x="944" y="1177"/>
                    </a:lnTo>
                    <a:lnTo>
                      <a:pt x="912" y="1208"/>
                    </a:lnTo>
                    <a:lnTo>
                      <a:pt x="881" y="1251"/>
                    </a:lnTo>
                    <a:lnTo>
                      <a:pt x="849" y="1283"/>
                    </a:lnTo>
                    <a:lnTo>
                      <a:pt x="828" y="1314"/>
                    </a:lnTo>
                    <a:lnTo>
                      <a:pt x="796" y="1357"/>
                    </a:lnTo>
                    <a:lnTo>
                      <a:pt x="764" y="1400"/>
                    </a:lnTo>
                    <a:lnTo>
                      <a:pt x="742" y="1432"/>
                    </a:lnTo>
                    <a:lnTo>
                      <a:pt x="710" y="1473"/>
                    </a:lnTo>
                    <a:lnTo>
                      <a:pt x="689" y="1516"/>
                    </a:lnTo>
                    <a:lnTo>
                      <a:pt x="669" y="1548"/>
                    </a:lnTo>
                    <a:lnTo>
                      <a:pt x="658" y="1591"/>
                    </a:lnTo>
                    <a:lnTo>
                      <a:pt x="637" y="1634"/>
                    </a:lnTo>
                    <a:lnTo>
                      <a:pt x="647" y="1675"/>
                    </a:lnTo>
                    <a:lnTo>
                      <a:pt x="658" y="1718"/>
                    </a:lnTo>
                    <a:lnTo>
                      <a:pt x="680" y="1761"/>
                    </a:lnTo>
                    <a:lnTo>
                      <a:pt x="689" y="1792"/>
                    </a:lnTo>
                    <a:lnTo>
                      <a:pt x="722" y="1833"/>
                    </a:lnTo>
                    <a:lnTo>
                      <a:pt x="742" y="1867"/>
                    </a:lnTo>
                    <a:lnTo>
                      <a:pt x="775" y="1897"/>
                    </a:lnTo>
                    <a:lnTo>
                      <a:pt x="807" y="1919"/>
                    </a:lnTo>
                    <a:lnTo>
                      <a:pt x="839" y="1951"/>
                    </a:lnTo>
                    <a:lnTo>
                      <a:pt x="870" y="1972"/>
                    </a:lnTo>
                    <a:lnTo>
                      <a:pt x="903" y="2004"/>
                    </a:lnTo>
                    <a:lnTo>
                      <a:pt x="934" y="2026"/>
                    </a:lnTo>
                    <a:lnTo>
                      <a:pt x="977" y="2047"/>
                    </a:lnTo>
                    <a:lnTo>
                      <a:pt x="1009" y="2068"/>
                    </a:lnTo>
                    <a:lnTo>
                      <a:pt x="1050" y="2089"/>
                    </a:lnTo>
                    <a:lnTo>
                      <a:pt x="1093" y="2099"/>
                    </a:lnTo>
                    <a:lnTo>
                      <a:pt x="1093" y="2110"/>
                    </a:lnTo>
                    <a:lnTo>
                      <a:pt x="1104" y="2110"/>
                    </a:lnTo>
                    <a:lnTo>
                      <a:pt x="1114" y="2110"/>
                    </a:lnTo>
                    <a:lnTo>
                      <a:pt x="1114" y="2121"/>
                    </a:lnTo>
                    <a:lnTo>
                      <a:pt x="1124" y="2121"/>
                    </a:lnTo>
                    <a:lnTo>
                      <a:pt x="1136" y="2121"/>
                    </a:lnTo>
                    <a:lnTo>
                      <a:pt x="1145" y="2131"/>
                    </a:lnTo>
                    <a:lnTo>
                      <a:pt x="1157" y="2131"/>
                    </a:lnTo>
                    <a:lnTo>
                      <a:pt x="1157" y="2141"/>
                    </a:lnTo>
                    <a:lnTo>
                      <a:pt x="1167" y="2141"/>
                    </a:lnTo>
                    <a:lnTo>
                      <a:pt x="1167" y="2153"/>
                    </a:lnTo>
                    <a:lnTo>
                      <a:pt x="1167" y="2162"/>
                    </a:lnTo>
                    <a:lnTo>
                      <a:pt x="1157" y="2174"/>
                    </a:lnTo>
                    <a:lnTo>
                      <a:pt x="1145" y="2196"/>
                    </a:lnTo>
                    <a:lnTo>
                      <a:pt x="1136" y="2205"/>
                    </a:lnTo>
                    <a:lnTo>
                      <a:pt x="1124" y="2226"/>
                    </a:lnTo>
                    <a:lnTo>
                      <a:pt x="1114" y="2237"/>
                    </a:lnTo>
                    <a:lnTo>
                      <a:pt x="1104" y="2259"/>
                    </a:lnTo>
                    <a:lnTo>
                      <a:pt x="1093" y="2268"/>
                    </a:lnTo>
                    <a:lnTo>
                      <a:pt x="1082" y="2280"/>
                    </a:lnTo>
                    <a:lnTo>
                      <a:pt x="1072" y="2301"/>
                    </a:lnTo>
                    <a:lnTo>
                      <a:pt x="1061" y="2311"/>
                    </a:lnTo>
                    <a:lnTo>
                      <a:pt x="1039" y="2332"/>
                    </a:lnTo>
                    <a:lnTo>
                      <a:pt x="1030" y="2343"/>
                    </a:lnTo>
                    <a:lnTo>
                      <a:pt x="1018" y="2364"/>
                    </a:lnTo>
                    <a:lnTo>
                      <a:pt x="1009" y="2375"/>
                    </a:lnTo>
                    <a:lnTo>
                      <a:pt x="997" y="2395"/>
                    </a:lnTo>
                    <a:lnTo>
                      <a:pt x="987" y="2407"/>
                    </a:lnTo>
                    <a:lnTo>
                      <a:pt x="977" y="2417"/>
                    </a:lnTo>
                    <a:lnTo>
                      <a:pt x="966" y="2428"/>
                    </a:lnTo>
                    <a:lnTo>
                      <a:pt x="966" y="2449"/>
                    </a:lnTo>
                    <a:lnTo>
                      <a:pt x="955" y="2459"/>
                    </a:lnTo>
                    <a:lnTo>
                      <a:pt x="944" y="2470"/>
                    </a:lnTo>
                    <a:lnTo>
                      <a:pt x="934" y="2481"/>
                    </a:lnTo>
                    <a:lnTo>
                      <a:pt x="923" y="2491"/>
                    </a:lnTo>
                    <a:lnTo>
                      <a:pt x="912" y="2502"/>
                    </a:lnTo>
                    <a:lnTo>
                      <a:pt x="903" y="2513"/>
                    </a:lnTo>
                    <a:lnTo>
                      <a:pt x="891" y="2523"/>
                    </a:lnTo>
                    <a:lnTo>
                      <a:pt x="881" y="2534"/>
                    </a:lnTo>
                    <a:lnTo>
                      <a:pt x="870" y="2545"/>
                    </a:lnTo>
                    <a:lnTo>
                      <a:pt x="870" y="2556"/>
                    </a:lnTo>
                    <a:lnTo>
                      <a:pt x="860" y="2566"/>
                    </a:lnTo>
                    <a:lnTo>
                      <a:pt x="849" y="2576"/>
                    </a:lnTo>
                    <a:lnTo>
                      <a:pt x="839" y="2588"/>
                    </a:lnTo>
                    <a:lnTo>
                      <a:pt x="828" y="2630"/>
                    </a:lnTo>
                    <a:lnTo>
                      <a:pt x="807" y="2661"/>
                    </a:lnTo>
                    <a:lnTo>
                      <a:pt x="775" y="2693"/>
                    </a:lnTo>
                    <a:lnTo>
                      <a:pt x="753" y="2724"/>
                    </a:lnTo>
                    <a:lnTo>
                      <a:pt x="732" y="2758"/>
                    </a:lnTo>
                    <a:lnTo>
                      <a:pt x="701" y="2788"/>
                    </a:lnTo>
                    <a:lnTo>
                      <a:pt x="680" y="2820"/>
                    </a:lnTo>
                    <a:lnTo>
                      <a:pt x="647" y="2851"/>
                    </a:lnTo>
                    <a:lnTo>
                      <a:pt x="626" y="2883"/>
                    </a:lnTo>
                    <a:lnTo>
                      <a:pt x="605" y="2905"/>
                    </a:lnTo>
                    <a:lnTo>
                      <a:pt x="574" y="2937"/>
                    </a:lnTo>
                    <a:lnTo>
                      <a:pt x="552" y="2969"/>
                    </a:lnTo>
                    <a:lnTo>
                      <a:pt x="531" y="3011"/>
                    </a:lnTo>
                    <a:lnTo>
                      <a:pt x="510" y="3043"/>
                    </a:lnTo>
                    <a:lnTo>
                      <a:pt x="488" y="3075"/>
                    </a:lnTo>
                    <a:lnTo>
                      <a:pt x="468" y="3107"/>
                    </a:lnTo>
                    <a:lnTo>
                      <a:pt x="447" y="3138"/>
                    </a:lnTo>
                    <a:lnTo>
                      <a:pt x="425" y="3171"/>
                    </a:lnTo>
                    <a:lnTo>
                      <a:pt x="393" y="3192"/>
                    </a:lnTo>
                    <a:lnTo>
                      <a:pt x="372" y="3223"/>
                    </a:lnTo>
                    <a:lnTo>
                      <a:pt x="350" y="3245"/>
                    </a:lnTo>
                    <a:lnTo>
                      <a:pt x="329" y="3277"/>
                    </a:lnTo>
                    <a:lnTo>
                      <a:pt x="308" y="3298"/>
                    </a:lnTo>
                    <a:lnTo>
                      <a:pt x="288" y="3329"/>
                    </a:lnTo>
                    <a:lnTo>
                      <a:pt x="266" y="3350"/>
                    </a:lnTo>
                    <a:lnTo>
                      <a:pt x="245" y="3382"/>
                    </a:lnTo>
                    <a:lnTo>
                      <a:pt x="223" y="3404"/>
                    </a:lnTo>
                    <a:lnTo>
                      <a:pt x="191" y="3435"/>
                    </a:lnTo>
                    <a:lnTo>
                      <a:pt x="170" y="3456"/>
                    </a:lnTo>
                    <a:lnTo>
                      <a:pt x="149" y="3488"/>
                    </a:lnTo>
                    <a:lnTo>
                      <a:pt x="127" y="3510"/>
                    </a:lnTo>
                    <a:lnTo>
                      <a:pt x="107" y="3542"/>
                    </a:lnTo>
                    <a:lnTo>
                      <a:pt x="96" y="3542"/>
                    </a:lnTo>
                    <a:lnTo>
                      <a:pt x="86" y="3552"/>
                    </a:lnTo>
                    <a:lnTo>
                      <a:pt x="75" y="3563"/>
                    </a:lnTo>
                    <a:lnTo>
                      <a:pt x="64" y="3563"/>
                    </a:lnTo>
                    <a:lnTo>
                      <a:pt x="54" y="3563"/>
                    </a:lnTo>
                    <a:lnTo>
                      <a:pt x="43" y="3552"/>
                    </a:lnTo>
                    <a:lnTo>
                      <a:pt x="0" y="3510"/>
                    </a:lnTo>
                    <a:lnTo>
                      <a:pt x="33" y="2226"/>
                    </a:lnTo>
                    <a:lnTo>
                      <a:pt x="33" y="2014"/>
                    </a:lnTo>
                    <a:lnTo>
                      <a:pt x="75" y="1951"/>
                    </a:lnTo>
                    <a:lnTo>
                      <a:pt x="118" y="1887"/>
                    </a:lnTo>
                    <a:lnTo>
                      <a:pt x="160" y="1824"/>
                    </a:lnTo>
                    <a:lnTo>
                      <a:pt x="202" y="1749"/>
                    </a:lnTo>
                    <a:lnTo>
                      <a:pt x="245" y="1686"/>
                    </a:lnTo>
                    <a:lnTo>
                      <a:pt x="277" y="1622"/>
                    </a:lnTo>
                    <a:lnTo>
                      <a:pt x="320" y="1548"/>
                    </a:lnTo>
                    <a:lnTo>
                      <a:pt x="361" y="1485"/>
                    </a:lnTo>
                    <a:lnTo>
                      <a:pt x="393" y="1410"/>
                    </a:lnTo>
                    <a:lnTo>
                      <a:pt x="435" y="1346"/>
                    </a:lnTo>
                    <a:lnTo>
                      <a:pt x="468" y="1283"/>
                    </a:lnTo>
                    <a:lnTo>
                      <a:pt x="499" y="1208"/>
                    </a:lnTo>
                    <a:lnTo>
                      <a:pt x="542" y="1144"/>
                    </a:lnTo>
                    <a:lnTo>
                      <a:pt x="574" y="1072"/>
                    </a:lnTo>
                    <a:lnTo>
                      <a:pt x="615" y="1008"/>
                    </a:lnTo>
                    <a:lnTo>
                      <a:pt x="647" y="933"/>
                    </a:lnTo>
                    <a:lnTo>
                      <a:pt x="742" y="774"/>
                    </a:lnTo>
                    <a:lnTo>
                      <a:pt x="839" y="604"/>
                    </a:lnTo>
                    <a:lnTo>
                      <a:pt x="934" y="446"/>
                    </a:lnTo>
                    <a:lnTo>
                      <a:pt x="1030" y="286"/>
                    </a:lnTo>
                    <a:lnTo>
                      <a:pt x="1124" y="117"/>
                    </a:lnTo>
                    <a:lnTo>
                      <a:pt x="1157" y="63"/>
                    </a:lnTo>
                    <a:lnTo>
                      <a:pt x="1167" y="54"/>
                    </a:lnTo>
                    <a:lnTo>
                      <a:pt x="1167" y="42"/>
                    </a:lnTo>
                    <a:lnTo>
                      <a:pt x="1177" y="32"/>
                    </a:lnTo>
                    <a:lnTo>
                      <a:pt x="1188" y="22"/>
                    </a:lnTo>
                    <a:lnTo>
                      <a:pt x="1199" y="11"/>
                    </a:lnTo>
                    <a:lnTo>
                      <a:pt x="1209" y="11"/>
                    </a:lnTo>
                    <a:lnTo>
                      <a:pt x="1220" y="11"/>
                    </a:lnTo>
                    <a:lnTo>
                      <a:pt x="1231" y="0"/>
                    </a:lnTo>
                    <a:lnTo>
                      <a:pt x="1241" y="0"/>
                    </a:lnTo>
                    <a:lnTo>
                      <a:pt x="1251" y="0"/>
                    </a:lnTo>
                    <a:lnTo>
                      <a:pt x="1251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1690920" y="2686320"/>
                <a:ext cx="100440" cy="60840"/>
              </a:xfrm>
              <a:custGeom>
                <a:avLst/>
                <a:gdLst/>
                <a:ahLst/>
                <a:rect l="l" t="t" r="r" b="b"/>
                <a:pathLst>
                  <a:path w="255" h="158">
                    <a:moveTo>
                      <a:pt x="0" y="0"/>
                    </a:moveTo>
                    <a:lnTo>
                      <a:pt x="21" y="11"/>
                    </a:lnTo>
                    <a:lnTo>
                      <a:pt x="33" y="21"/>
                    </a:lnTo>
                    <a:lnTo>
                      <a:pt x="43" y="31"/>
                    </a:lnTo>
                    <a:lnTo>
                      <a:pt x="64" y="52"/>
                    </a:lnTo>
                    <a:lnTo>
                      <a:pt x="75" y="64"/>
                    </a:lnTo>
                    <a:lnTo>
                      <a:pt x="85" y="84"/>
                    </a:lnTo>
                    <a:lnTo>
                      <a:pt x="96" y="95"/>
                    </a:lnTo>
                    <a:lnTo>
                      <a:pt x="118" y="116"/>
                    </a:lnTo>
                    <a:lnTo>
                      <a:pt x="128" y="127"/>
                    </a:lnTo>
                    <a:lnTo>
                      <a:pt x="139" y="136"/>
                    </a:lnTo>
                    <a:lnTo>
                      <a:pt x="160" y="148"/>
                    </a:lnTo>
                    <a:lnTo>
                      <a:pt x="171" y="158"/>
                    </a:lnTo>
                    <a:lnTo>
                      <a:pt x="192" y="158"/>
                    </a:lnTo>
                    <a:lnTo>
                      <a:pt x="214" y="158"/>
                    </a:lnTo>
                    <a:lnTo>
                      <a:pt x="234" y="158"/>
                    </a:lnTo>
                    <a:lnTo>
                      <a:pt x="255" y="1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1943640" y="2760840"/>
                <a:ext cx="41760" cy="235800"/>
              </a:xfrm>
              <a:custGeom>
                <a:avLst/>
                <a:gdLst/>
                <a:ahLst/>
                <a:rect l="l" t="t" r="r" b="b"/>
                <a:pathLst>
                  <a:path w="107" h="604">
                    <a:moveTo>
                      <a:pt x="0" y="0"/>
                    </a:moveTo>
                    <a:lnTo>
                      <a:pt x="11" y="31"/>
                    </a:lnTo>
                    <a:lnTo>
                      <a:pt x="32" y="63"/>
                    </a:lnTo>
                    <a:lnTo>
                      <a:pt x="43" y="106"/>
                    </a:lnTo>
                    <a:lnTo>
                      <a:pt x="64" y="138"/>
                    </a:lnTo>
                    <a:lnTo>
                      <a:pt x="75" y="169"/>
                    </a:lnTo>
                    <a:lnTo>
                      <a:pt x="86" y="212"/>
                    </a:lnTo>
                    <a:lnTo>
                      <a:pt x="95" y="254"/>
                    </a:lnTo>
                    <a:lnTo>
                      <a:pt x="95" y="286"/>
                    </a:lnTo>
                    <a:lnTo>
                      <a:pt x="107" y="328"/>
                    </a:lnTo>
                    <a:lnTo>
                      <a:pt x="107" y="371"/>
                    </a:lnTo>
                    <a:lnTo>
                      <a:pt x="107" y="402"/>
                    </a:lnTo>
                    <a:lnTo>
                      <a:pt x="107" y="444"/>
                    </a:lnTo>
                    <a:lnTo>
                      <a:pt x="107" y="487"/>
                    </a:lnTo>
                    <a:lnTo>
                      <a:pt x="107" y="519"/>
                    </a:lnTo>
                    <a:lnTo>
                      <a:pt x="95" y="562"/>
                    </a:lnTo>
                    <a:lnTo>
                      <a:pt x="95" y="6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1618920" y="2917800"/>
                <a:ext cx="177120" cy="160560"/>
              </a:xfrm>
              <a:custGeom>
                <a:avLst/>
                <a:gdLst/>
                <a:ahLst/>
                <a:rect l="l" t="t" r="r" b="b"/>
                <a:pathLst>
                  <a:path w="456" h="413">
                    <a:moveTo>
                      <a:pt x="456" y="0"/>
                    </a:moveTo>
                    <a:lnTo>
                      <a:pt x="424" y="21"/>
                    </a:lnTo>
                    <a:lnTo>
                      <a:pt x="392" y="42"/>
                    </a:lnTo>
                    <a:lnTo>
                      <a:pt x="370" y="75"/>
                    </a:lnTo>
                    <a:lnTo>
                      <a:pt x="340" y="96"/>
                    </a:lnTo>
                    <a:lnTo>
                      <a:pt x="308" y="117"/>
                    </a:lnTo>
                    <a:lnTo>
                      <a:pt x="286" y="148"/>
                    </a:lnTo>
                    <a:lnTo>
                      <a:pt x="254" y="170"/>
                    </a:lnTo>
                    <a:lnTo>
                      <a:pt x="223" y="202"/>
                    </a:lnTo>
                    <a:lnTo>
                      <a:pt x="202" y="223"/>
                    </a:lnTo>
                    <a:lnTo>
                      <a:pt x="170" y="255"/>
                    </a:lnTo>
                    <a:lnTo>
                      <a:pt x="148" y="287"/>
                    </a:lnTo>
                    <a:lnTo>
                      <a:pt x="116" y="307"/>
                    </a:lnTo>
                    <a:lnTo>
                      <a:pt x="84" y="341"/>
                    </a:lnTo>
                    <a:lnTo>
                      <a:pt x="63" y="361"/>
                    </a:lnTo>
                    <a:lnTo>
                      <a:pt x="32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1453320" y="3078720"/>
                <a:ext cx="165600" cy="240120"/>
              </a:xfrm>
              <a:custGeom>
                <a:avLst/>
                <a:gdLst/>
                <a:ahLst/>
                <a:rect l="l" t="t" r="r" b="b"/>
                <a:pathLst>
                  <a:path w="424" h="617">
                    <a:moveTo>
                      <a:pt x="424" y="0"/>
                    </a:moveTo>
                    <a:lnTo>
                      <a:pt x="393" y="43"/>
                    </a:lnTo>
                    <a:lnTo>
                      <a:pt x="372" y="86"/>
                    </a:lnTo>
                    <a:lnTo>
                      <a:pt x="340" y="118"/>
                    </a:lnTo>
                    <a:lnTo>
                      <a:pt x="307" y="160"/>
                    </a:lnTo>
                    <a:lnTo>
                      <a:pt x="275" y="191"/>
                    </a:lnTo>
                    <a:lnTo>
                      <a:pt x="244" y="234"/>
                    </a:lnTo>
                    <a:lnTo>
                      <a:pt x="212" y="266"/>
                    </a:lnTo>
                    <a:lnTo>
                      <a:pt x="191" y="297"/>
                    </a:lnTo>
                    <a:lnTo>
                      <a:pt x="159" y="340"/>
                    </a:lnTo>
                    <a:lnTo>
                      <a:pt x="127" y="383"/>
                    </a:lnTo>
                    <a:lnTo>
                      <a:pt x="105" y="415"/>
                    </a:lnTo>
                    <a:lnTo>
                      <a:pt x="73" y="456"/>
                    </a:lnTo>
                    <a:lnTo>
                      <a:pt x="52" y="499"/>
                    </a:lnTo>
                    <a:lnTo>
                      <a:pt x="32" y="531"/>
                    </a:lnTo>
                    <a:lnTo>
                      <a:pt x="21" y="574"/>
                    </a:lnTo>
                    <a:lnTo>
                      <a:pt x="0" y="6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1453320" y="3318840"/>
                <a:ext cx="177120" cy="179640"/>
              </a:xfrm>
              <a:custGeom>
                <a:avLst/>
                <a:gdLst/>
                <a:ahLst/>
                <a:rect l="l" t="t" r="r" b="b"/>
                <a:pathLst>
                  <a:path w="456" h="465">
                    <a:moveTo>
                      <a:pt x="0" y="0"/>
                    </a:moveTo>
                    <a:lnTo>
                      <a:pt x="10" y="41"/>
                    </a:lnTo>
                    <a:lnTo>
                      <a:pt x="21" y="84"/>
                    </a:lnTo>
                    <a:lnTo>
                      <a:pt x="43" y="127"/>
                    </a:lnTo>
                    <a:lnTo>
                      <a:pt x="52" y="158"/>
                    </a:lnTo>
                    <a:lnTo>
                      <a:pt x="85" y="199"/>
                    </a:lnTo>
                    <a:lnTo>
                      <a:pt x="105" y="233"/>
                    </a:lnTo>
                    <a:lnTo>
                      <a:pt x="138" y="263"/>
                    </a:lnTo>
                    <a:lnTo>
                      <a:pt x="170" y="285"/>
                    </a:lnTo>
                    <a:lnTo>
                      <a:pt x="202" y="317"/>
                    </a:lnTo>
                    <a:lnTo>
                      <a:pt x="233" y="338"/>
                    </a:lnTo>
                    <a:lnTo>
                      <a:pt x="266" y="370"/>
                    </a:lnTo>
                    <a:lnTo>
                      <a:pt x="297" y="392"/>
                    </a:lnTo>
                    <a:lnTo>
                      <a:pt x="340" y="413"/>
                    </a:lnTo>
                    <a:lnTo>
                      <a:pt x="372" y="434"/>
                    </a:lnTo>
                    <a:lnTo>
                      <a:pt x="413" y="455"/>
                    </a:lnTo>
                    <a:lnTo>
                      <a:pt x="456" y="4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1588320" y="3524040"/>
                <a:ext cx="70200" cy="95760"/>
              </a:xfrm>
              <a:custGeom>
                <a:avLst/>
                <a:gdLst/>
                <a:ahLst/>
                <a:rect l="l" t="t" r="r" b="b"/>
                <a:pathLst>
                  <a:path w="180" h="245">
                    <a:moveTo>
                      <a:pt x="180" y="0"/>
                    </a:moveTo>
                    <a:lnTo>
                      <a:pt x="170" y="12"/>
                    </a:lnTo>
                    <a:lnTo>
                      <a:pt x="158" y="34"/>
                    </a:lnTo>
                    <a:lnTo>
                      <a:pt x="149" y="43"/>
                    </a:lnTo>
                    <a:lnTo>
                      <a:pt x="137" y="64"/>
                    </a:lnTo>
                    <a:lnTo>
                      <a:pt x="127" y="75"/>
                    </a:lnTo>
                    <a:lnTo>
                      <a:pt x="117" y="97"/>
                    </a:lnTo>
                    <a:lnTo>
                      <a:pt x="106" y="106"/>
                    </a:lnTo>
                    <a:lnTo>
                      <a:pt x="95" y="118"/>
                    </a:lnTo>
                    <a:lnTo>
                      <a:pt x="85" y="139"/>
                    </a:lnTo>
                    <a:lnTo>
                      <a:pt x="74" y="149"/>
                    </a:lnTo>
                    <a:lnTo>
                      <a:pt x="52" y="170"/>
                    </a:lnTo>
                    <a:lnTo>
                      <a:pt x="43" y="181"/>
                    </a:lnTo>
                    <a:lnTo>
                      <a:pt x="31" y="202"/>
                    </a:lnTo>
                    <a:lnTo>
                      <a:pt x="22" y="213"/>
                    </a:lnTo>
                    <a:lnTo>
                      <a:pt x="10" y="233"/>
                    </a:lnTo>
                    <a:lnTo>
                      <a:pt x="0" y="2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1532160" y="362016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148" h="181">
                    <a:moveTo>
                      <a:pt x="148" y="0"/>
                    </a:moveTo>
                    <a:lnTo>
                      <a:pt x="138" y="10"/>
                    </a:lnTo>
                    <a:lnTo>
                      <a:pt x="127" y="21"/>
                    </a:lnTo>
                    <a:lnTo>
                      <a:pt x="127" y="42"/>
                    </a:lnTo>
                    <a:lnTo>
                      <a:pt x="116" y="52"/>
                    </a:lnTo>
                    <a:lnTo>
                      <a:pt x="105" y="63"/>
                    </a:lnTo>
                    <a:lnTo>
                      <a:pt x="95" y="74"/>
                    </a:lnTo>
                    <a:lnTo>
                      <a:pt x="84" y="84"/>
                    </a:lnTo>
                    <a:lnTo>
                      <a:pt x="73" y="95"/>
                    </a:lnTo>
                    <a:lnTo>
                      <a:pt x="64" y="106"/>
                    </a:lnTo>
                    <a:lnTo>
                      <a:pt x="52" y="116"/>
                    </a:lnTo>
                    <a:lnTo>
                      <a:pt x="42" y="127"/>
                    </a:lnTo>
                    <a:lnTo>
                      <a:pt x="31" y="138"/>
                    </a:lnTo>
                    <a:lnTo>
                      <a:pt x="31" y="149"/>
                    </a:lnTo>
                    <a:lnTo>
                      <a:pt x="21" y="159"/>
                    </a:lnTo>
                    <a:lnTo>
                      <a:pt x="10" y="169"/>
                    </a:lnTo>
                    <a:lnTo>
                      <a:pt x="0" y="1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1387440" y="3690000"/>
                <a:ext cx="144360" cy="200880"/>
              </a:xfrm>
              <a:custGeom>
                <a:avLst/>
                <a:gdLst/>
                <a:ahLst/>
                <a:rect l="l" t="t" r="r" b="b"/>
                <a:pathLst>
                  <a:path w="371" h="519">
                    <a:moveTo>
                      <a:pt x="371" y="0"/>
                    </a:moveTo>
                    <a:lnTo>
                      <a:pt x="360" y="42"/>
                    </a:lnTo>
                    <a:lnTo>
                      <a:pt x="339" y="73"/>
                    </a:lnTo>
                    <a:lnTo>
                      <a:pt x="307" y="105"/>
                    </a:lnTo>
                    <a:lnTo>
                      <a:pt x="285" y="136"/>
                    </a:lnTo>
                    <a:lnTo>
                      <a:pt x="264" y="170"/>
                    </a:lnTo>
                    <a:lnTo>
                      <a:pt x="233" y="200"/>
                    </a:lnTo>
                    <a:lnTo>
                      <a:pt x="212" y="232"/>
                    </a:lnTo>
                    <a:lnTo>
                      <a:pt x="179" y="263"/>
                    </a:lnTo>
                    <a:lnTo>
                      <a:pt x="158" y="295"/>
                    </a:lnTo>
                    <a:lnTo>
                      <a:pt x="137" y="317"/>
                    </a:lnTo>
                    <a:lnTo>
                      <a:pt x="106" y="349"/>
                    </a:lnTo>
                    <a:lnTo>
                      <a:pt x="84" y="381"/>
                    </a:lnTo>
                    <a:lnTo>
                      <a:pt x="63" y="423"/>
                    </a:lnTo>
                    <a:lnTo>
                      <a:pt x="42" y="455"/>
                    </a:lnTo>
                    <a:lnTo>
                      <a:pt x="20" y="487"/>
                    </a:lnTo>
                    <a:lnTo>
                      <a:pt x="0" y="51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1247400" y="3890880"/>
                <a:ext cx="140040" cy="169560"/>
              </a:xfrm>
              <a:custGeom>
                <a:avLst/>
                <a:gdLst/>
                <a:ahLst/>
                <a:rect l="l" t="t" r="r" b="b"/>
                <a:pathLst>
                  <a:path w="361" h="435">
                    <a:moveTo>
                      <a:pt x="361" y="0"/>
                    </a:moveTo>
                    <a:lnTo>
                      <a:pt x="340" y="31"/>
                    </a:lnTo>
                    <a:lnTo>
                      <a:pt x="318" y="64"/>
                    </a:lnTo>
                    <a:lnTo>
                      <a:pt x="286" y="85"/>
                    </a:lnTo>
                    <a:lnTo>
                      <a:pt x="265" y="116"/>
                    </a:lnTo>
                    <a:lnTo>
                      <a:pt x="243" y="138"/>
                    </a:lnTo>
                    <a:lnTo>
                      <a:pt x="222" y="170"/>
                    </a:lnTo>
                    <a:lnTo>
                      <a:pt x="201" y="191"/>
                    </a:lnTo>
                    <a:lnTo>
                      <a:pt x="181" y="222"/>
                    </a:lnTo>
                    <a:lnTo>
                      <a:pt x="159" y="243"/>
                    </a:lnTo>
                    <a:lnTo>
                      <a:pt x="138" y="275"/>
                    </a:lnTo>
                    <a:lnTo>
                      <a:pt x="116" y="297"/>
                    </a:lnTo>
                    <a:lnTo>
                      <a:pt x="84" y="328"/>
                    </a:lnTo>
                    <a:lnTo>
                      <a:pt x="63" y="349"/>
                    </a:lnTo>
                    <a:lnTo>
                      <a:pt x="42" y="381"/>
                    </a:lnTo>
                    <a:lnTo>
                      <a:pt x="20" y="403"/>
                    </a:lnTo>
                    <a:lnTo>
                      <a:pt x="0" y="43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1205640" y="3466080"/>
                <a:ext cx="16200" cy="597240"/>
              </a:xfrm>
              <a:custGeom>
                <a:avLst/>
                <a:gdLst/>
                <a:ahLst/>
                <a:rect l="l" t="t" r="r" b="b"/>
                <a:pathLst>
                  <a:path w="43" h="1538">
                    <a:moveTo>
                      <a:pt x="43" y="1538"/>
                    </a:moveTo>
                    <a:lnTo>
                      <a:pt x="0" y="1496"/>
                    </a:lnTo>
                    <a:lnTo>
                      <a:pt x="33" y="212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1217160" y="3045600"/>
                <a:ext cx="240120" cy="420120"/>
              </a:xfrm>
              <a:custGeom>
                <a:avLst/>
                <a:gdLst/>
                <a:ahLst/>
                <a:rect l="l" t="t" r="r" b="b"/>
                <a:pathLst>
                  <a:path w="614" h="1081">
                    <a:moveTo>
                      <a:pt x="0" y="1081"/>
                    </a:moveTo>
                    <a:lnTo>
                      <a:pt x="42" y="1018"/>
                    </a:lnTo>
                    <a:lnTo>
                      <a:pt x="85" y="954"/>
                    </a:lnTo>
                    <a:lnTo>
                      <a:pt x="127" y="891"/>
                    </a:lnTo>
                    <a:lnTo>
                      <a:pt x="169" y="816"/>
                    </a:lnTo>
                    <a:lnTo>
                      <a:pt x="212" y="753"/>
                    </a:lnTo>
                    <a:lnTo>
                      <a:pt x="244" y="689"/>
                    </a:lnTo>
                    <a:lnTo>
                      <a:pt x="287" y="615"/>
                    </a:lnTo>
                    <a:lnTo>
                      <a:pt x="328" y="552"/>
                    </a:lnTo>
                    <a:lnTo>
                      <a:pt x="360" y="477"/>
                    </a:lnTo>
                    <a:lnTo>
                      <a:pt x="402" y="413"/>
                    </a:lnTo>
                    <a:lnTo>
                      <a:pt x="435" y="350"/>
                    </a:lnTo>
                    <a:lnTo>
                      <a:pt x="466" y="275"/>
                    </a:lnTo>
                    <a:lnTo>
                      <a:pt x="509" y="211"/>
                    </a:lnTo>
                    <a:lnTo>
                      <a:pt x="541" y="139"/>
                    </a:lnTo>
                    <a:lnTo>
                      <a:pt x="582" y="75"/>
                    </a:lnTo>
                    <a:lnTo>
                      <a:pt x="6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1457640" y="2707560"/>
                <a:ext cx="198360" cy="338040"/>
              </a:xfrm>
              <a:custGeom>
                <a:avLst/>
                <a:gdLst/>
                <a:ahLst/>
                <a:rect l="l" t="t" r="r" b="b"/>
                <a:pathLst>
                  <a:path w="510" h="870">
                    <a:moveTo>
                      <a:pt x="0" y="870"/>
                    </a:moveTo>
                    <a:lnTo>
                      <a:pt x="33" y="817"/>
                    </a:lnTo>
                    <a:lnTo>
                      <a:pt x="63" y="764"/>
                    </a:lnTo>
                    <a:lnTo>
                      <a:pt x="95" y="711"/>
                    </a:lnTo>
                    <a:lnTo>
                      <a:pt x="128" y="658"/>
                    </a:lnTo>
                    <a:lnTo>
                      <a:pt x="160" y="605"/>
                    </a:lnTo>
                    <a:lnTo>
                      <a:pt x="192" y="541"/>
                    </a:lnTo>
                    <a:lnTo>
                      <a:pt x="223" y="488"/>
                    </a:lnTo>
                    <a:lnTo>
                      <a:pt x="256" y="435"/>
                    </a:lnTo>
                    <a:lnTo>
                      <a:pt x="287" y="383"/>
                    </a:lnTo>
                    <a:lnTo>
                      <a:pt x="319" y="329"/>
                    </a:lnTo>
                    <a:lnTo>
                      <a:pt x="350" y="277"/>
                    </a:lnTo>
                    <a:lnTo>
                      <a:pt x="383" y="223"/>
                    </a:lnTo>
                    <a:lnTo>
                      <a:pt x="414" y="159"/>
                    </a:lnTo>
                    <a:lnTo>
                      <a:pt x="446" y="106"/>
                    </a:lnTo>
                    <a:lnTo>
                      <a:pt x="477" y="54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1231560" y="2702880"/>
                <a:ext cx="737280" cy="1339560"/>
              </a:xfrm>
              <a:custGeom>
                <a:avLst/>
                <a:gdLst/>
                <a:ahLst/>
                <a:rect l="l" t="t" r="r" b="b"/>
                <a:pathLst>
                  <a:path w="1898" h="3445">
                    <a:moveTo>
                      <a:pt x="1315" y="168"/>
                    </a:moveTo>
                    <a:lnTo>
                      <a:pt x="1326" y="168"/>
                    </a:lnTo>
                    <a:lnTo>
                      <a:pt x="1337" y="168"/>
                    </a:lnTo>
                    <a:lnTo>
                      <a:pt x="1347" y="168"/>
                    </a:lnTo>
                    <a:lnTo>
                      <a:pt x="1358" y="168"/>
                    </a:lnTo>
                    <a:lnTo>
                      <a:pt x="1367" y="168"/>
                    </a:lnTo>
                    <a:lnTo>
                      <a:pt x="1379" y="168"/>
                    </a:lnTo>
                    <a:lnTo>
                      <a:pt x="1389" y="158"/>
                    </a:lnTo>
                    <a:lnTo>
                      <a:pt x="1401" y="158"/>
                    </a:lnTo>
                    <a:lnTo>
                      <a:pt x="1410" y="158"/>
                    </a:lnTo>
                    <a:lnTo>
                      <a:pt x="1421" y="158"/>
                    </a:lnTo>
                    <a:lnTo>
                      <a:pt x="1432" y="158"/>
                    </a:lnTo>
                    <a:lnTo>
                      <a:pt x="1442" y="158"/>
                    </a:lnTo>
                    <a:lnTo>
                      <a:pt x="1464" y="158"/>
                    </a:lnTo>
                    <a:lnTo>
                      <a:pt x="1485" y="158"/>
                    </a:lnTo>
                    <a:lnTo>
                      <a:pt x="1506" y="158"/>
                    </a:lnTo>
                    <a:lnTo>
                      <a:pt x="1528" y="168"/>
                    </a:lnTo>
                    <a:lnTo>
                      <a:pt x="1548" y="168"/>
                    </a:lnTo>
                    <a:lnTo>
                      <a:pt x="1569" y="168"/>
                    </a:lnTo>
                    <a:lnTo>
                      <a:pt x="1591" y="168"/>
                    </a:lnTo>
                    <a:lnTo>
                      <a:pt x="1612" y="168"/>
                    </a:lnTo>
                    <a:lnTo>
                      <a:pt x="1634" y="168"/>
                    </a:lnTo>
                    <a:lnTo>
                      <a:pt x="1655" y="168"/>
                    </a:lnTo>
                    <a:lnTo>
                      <a:pt x="1675" y="168"/>
                    </a:lnTo>
                    <a:lnTo>
                      <a:pt x="1697" y="179"/>
                    </a:lnTo>
                    <a:lnTo>
                      <a:pt x="1718" y="179"/>
                    </a:lnTo>
                    <a:lnTo>
                      <a:pt x="1739" y="179"/>
                    </a:lnTo>
                    <a:lnTo>
                      <a:pt x="1761" y="179"/>
                    </a:lnTo>
                    <a:lnTo>
                      <a:pt x="1782" y="179"/>
                    </a:lnTo>
                    <a:lnTo>
                      <a:pt x="1802" y="211"/>
                    </a:lnTo>
                    <a:lnTo>
                      <a:pt x="1813" y="243"/>
                    </a:lnTo>
                    <a:lnTo>
                      <a:pt x="1824" y="275"/>
                    </a:lnTo>
                    <a:lnTo>
                      <a:pt x="1834" y="317"/>
                    </a:lnTo>
                    <a:lnTo>
                      <a:pt x="1845" y="349"/>
                    </a:lnTo>
                    <a:lnTo>
                      <a:pt x="1856" y="381"/>
                    </a:lnTo>
                    <a:lnTo>
                      <a:pt x="1866" y="413"/>
                    </a:lnTo>
                    <a:lnTo>
                      <a:pt x="1877" y="456"/>
                    </a:lnTo>
                    <a:lnTo>
                      <a:pt x="1888" y="487"/>
                    </a:lnTo>
                    <a:lnTo>
                      <a:pt x="1888" y="519"/>
                    </a:lnTo>
                    <a:lnTo>
                      <a:pt x="1898" y="562"/>
                    </a:lnTo>
                    <a:lnTo>
                      <a:pt x="1898" y="592"/>
                    </a:lnTo>
                    <a:lnTo>
                      <a:pt x="1898" y="635"/>
                    </a:lnTo>
                    <a:lnTo>
                      <a:pt x="1898" y="667"/>
                    </a:lnTo>
                    <a:lnTo>
                      <a:pt x="1888" y="710"/>
                    </a:lnTo>
                    <a:lnTo>
                      <a:pt x="1888" y="741"/>
                    </a:lnTo>
                    <a:lnTo>
                      <a:pt x="1856" y="730"/>
                    </a:lnTo>
                    <a:lnTo>
                      <a:pt x="1824" y="720"/>
                    </a:lnTo>
                    <a:lnTo>
                      <a:pt x="1802" y="710"/>
                    </a:lnTo>
                    <a:lnTo>
                      <a:pt x="1770" y="698"/>
                    </a:lnTo>
                    <a:lnTo>
                      <a:pt x="1750" y="677"/>
                    </a:lnTo>
                    <a:lnTo>
                      <a:pt x="1718" y="667"/>
                    </a:lnTo>
                    <a:lnTo>
                      <a:pt x="1697" y="655"/>
                    </a:lnTo>
                    <a:lnTo>
                      <a:pt x="1664" y="635"/>
                    </a:lnTo>
                    <a:lnTo>
                      <a:pt x="1643" y="625"/>
                    </a:lnTo>
                    <a:lnTo>
                      <a:pt x="1612" y="603"/>
                    </a:lnTo>
                    <a:lnTo>
                      <a:pt x="1591" y="583"/>
                    </a:lnTo>
                    <a:lnTo>
                      <a:pt x="1569" y="571"/>
                    </a:lnTo>
                    <a:lnTo>
                      <a:pt x="1537" y="550"/>
                    </a:lnTo>
                    <a:lnTo>
                      <a:pt x="1516" y="540"/>
                    </a:lnTo>
                    <a:lnTo>
                      <a:pt x="1485" y="519"/>
                    </a:lnTo>
                    <a:lnTo>
                      <a:pt x="1464" y="497"/>
                    </a:lnTo>
                    <a:lnTo>
                      <a:pt x="1379" y="550"/>
                    </a:lnTo>
                    <a:lnTo>
                      <a:pt x="1315" y="603"/>
                    </a:lnTo>
                    <a:lnTo>
                      <a:pt x="1251" y="655"/>
                    </a:lnTo>
                    <a:lnTo>
                      <a:pt x="1187" y="720"/>
                    </a:lnTo>
                    <a:lnTo>
                      <a:pt x="1135" y="773"/>
                    </a:lnTo>
                    <a:lnTo>
                      <a:pt x="1072" y="837"/>
                    </a:lnTo>
                    <a:lnTo>
                      <a:pt x="1018" y="891"/>
                    </a:lnTo>
                    <a:lnTo>
                      <a:pt x="954" y="954"/>
                    </a:lnTo>
                    <a:lnTo>
                      <a:pt x="902" y="1018"/>
                    </a:lnTo>
                    <a:lnTo>
                      <a:pt x="848" y="1081"/>
                    </a:lnTo>
                    <a:lnTo>
                      <a:pt x="796" y="1145"/>
                    </a:lnTo>
                    <a:lnTo>
                      <a:pt x="743" y="1208"/>
                    </a:lnTo>
                    <a:lnTo>
                      <a:pt x="689" y="1272"/>
                    </a:lnTo>
                    <a:lnTo>
                      <a:pt x="646" y="1346"/>
                    </a:lnTo>
                    <a:lnTo>
                      <a:pt x="605" y="1410"/>
                    </a:lnTo>
                    <a:lnTo>
                      <a:pt x="562" y="1473"/>
                    </a:lnTo>
                    <a:lnTo>
                      <a:pt x="519" y="1546"/>
                    </a:lnTo>
                    <a:lnTo>
                      <a:pt x="519" y="1589"/>
                    </a:lnTo>
                    <a:lnTo>
                      <a:pt x="531" y="1632"/>
                    </a:lnTo>
                    <a:lnTo>
                      <a:pt x="541" y="1664"/>
                    </a:lnTo>
                    <a:lnTo>
                      <a:pt x="551" y="1707"/>
                    </a:lnTo>
                    <a:lnTo>
                      <a:pt x="573" y="1748"/>
                    </a:lnTo>
                    <a:lnTo>
                      <a:pt x="594" y="1779"/>
                    </a:lnTo>
                    <a:lnTo>
                      <a:pt x="625" y="1813"/>
                    </a:lnTo>
                    <a:lnTo>
                      <a:pt x="646" y="1843"/>
                    </a:lnTo>
                    <a:lnTo>
                      <a:pt x="678" y="1875"/>
                    </a:lnTo>
                    <a:lnTo>
                      <a:pt x="711" y="1908"/>
                    </a:lnTo>
                    <a:lnTo>
                      <a:pt x="743" y="1940"/>
                    </a:lnTo>
                    <a:lnTo>
                      <a:pt x="775" y="1960"/>
                    </a:lnTo>
                    <a:lnTo>
                      <a:pt x="817" y="1981"/>
                    </a:lnTo>
                    <a:lnTo>
                      <a:pt x="848" y="2003"/>
                    </a:lnTo>
                    <a:lnTo>
                      <a:pt x="880" y="2024"/>
                    </a:lnTo>
                    <a:lnTo>
                      <a:pt x="923" y="2035"/>
                    </a:lnTo>
                    <a:lnTo>
                      <a:pt x="933" y="2045"/>
                    </a:lnTo>
                    <a:lnTo>
                      <a:pt x="945" y="2045"/>
                    </a:lnTo>
                    <a:lnTo>
                      <a:pt x="954" y="2045"/>
                    </a:lnTo>
                    <a:lnTo>
                      <a:pt x="966" y="2056"/>
                    </a:lnTo>
                    <a:lnTo>
                      <a:pt x="975" y="2056"/>
                    </a:lnTo>
                    <a:lnTo>
                      <a:pt x="986" y="2067"/>
                    </a:lnTo>
                    <a:lnTo>
                      <a:pt x="997" y="2067"/>
                    </a:lnTo>
                    <a:lnTo>
                      <a:pt x="1008" y="2077"/>
                    </a:lnTo>
                    <a:lnTo>
                      <a:pt x="1018" y="2077"/>
                    </a:lnTo>
                    <a:lnTo>
                      <a:pt x="1029" y="2087"/>
                    </a:lnTo>
                    <a:lnTo>
                      <a:pt x="1040" y="2099"/>
                    </a:lnTo>
                    <a:lnTo>
                      <a:pt x="1050" y="2099"/>
                    </a:lnTo>
                    <a:lnTo>
                      <a:pt x="1060" y="2108"/>
                    </a:lnTo>
                    <a:lnTo>
                      <a:pt x="997" y="2194"/>
                    </a:lnTo>
                    <a:lnTo>
                      <a:pt x="933" y="2269"/>
                    </a:lnTo>
                    <a:lnTo>
                      <a:pt x="870" y="2353"/>
                    </a:lnTo>
                    <a:lnTo>
                      <a:pt x="806" y="2437"/>
                    </a:lnTo>
                    <a:lnTo>
                      <a:pt x="743" y="2522"/>
                    </a:lnTo>
                    <a:lnTo>
                      <a:pt x="678" y="2607"/>
                    </a:lnTo>
                    <a:lnTo>
                      <a:pt x="616" y="2704"/>
                    </a:lnTo>
                    <a:lnTo>
                      <a:pt x="551" y="2788"/>
                    </a:lnTo>
                    <a:lnTo>
                      <a:pt x="488" y="2872"/>
                    </a:lnTo>
                    <a:lnTo>
                      <a:pt x="424" y="2957"/>
                    </a:lnTo>
                    <a:lnTo>
                      <a:pt x="351" y="3031"/>
                    </a:lnTo>
                    <a:lnTo>
                      <a:pt x="286" y="3117"/>
                    </a:lnTo>
                    <a:lnTo>
                      <a:pt x="224" y="3201"/>
                    </a:lnTo>
                    <a:lnTo>
                      <a:pt x="149" y="3286"/>
                    </a:lnTo>
                    <a:lnTo>
                      <a:pt x="75" y="3359"/>
                    </a:lnTo>
                    <a:lnTo>
                      <a:pt x="11" y="3445"/>
                    </a:lnTo>
                    <a:lnTo>
                      <a:pt x="0" y="3445"/>
                    </a:lnTo>
                    <a:lnTo>
                      <a:pt x="0" y="3423"/>
                    </a:lnTo>
                    <a:lnTo>
                      <a:pt x="0" y="3391"/>
                    </a:lnTo>
                    <a:lnTo>
                      <a:pt x="0" y="3350"/>
                    </a:lnTo>
                    <a:lnTo>
                      <a:pt x="0" y="3318"/>
                    </a:lnTo>
                    <a:lnTo>
                      <a:pt x="0" y="3275"/>
                    </a:lnTo>
                    <a:lnTo>
                      <a:pt x="0" y="3244"/>
                    </a:lnTo>
                    <a:lnTo>
                      <a:pt x="11" y="3211"/>
                    </a:lnTo>
                    <a:lnTo>
                      <a:pt x="11" y="3180"/>
                    </a:lnTo>
                    <a:lnTo>
                      <a:pt x="11" y="3138"/>
                    </a:lnTo>
                    <a:lnTo>
                      <a:pt x="11" y="3105"/>
                    </a:lnTo>
                    <a:lnTo>
                      <a:pt x="11" y="3074"/>
                    </a:lnTo>
                    <a:lnTo>
                      <a:pt x="11" y="3031"/>
                    </a:lnTo>
                    <a:lnTo>
                      <a:pt x="11" y="2999"/>
                    </a:lnTo>
                    <a:lnTo>
                      <a:pt x="11" y="2967"/>
                    </a:lnTo>
                    <a:lnTo>
                      <a:pt x="22" y="2924"/>
                    </a:lnTo>
                    <a:lnTo>
                      <a:pt x="22" y="2894"/>
                    </a:lnTo>
                    <a:lnTo>
                      <a:pt x="22" y="2851"/>
                    </a:lnTo>
                    <a:lnTo>
                      <a:pt x="11" y="2840"/>
                    </a:lnTo>
                    <a:lnTo>
                      <a:pt x="11" y="2829"/>
                    </a:lnTo>
                    <a:lnTo>
                      <a:pt x="11" y="2819"/>
                    </a:lnTo>
                    <a:lnTo>
                      <a:pt x="11" y="2809"/>
                    </a:lnTo>
                    <a:lnTo>
                      <a:pt x="11" y="2797"/>
                    </a:lnTo>
                    <a:lnTo>
                      <a:pt x="11" y="2788"/>
                    </a:lnTo>
                    <a:lnTo>
                      <a:pt x="11" y="2776"/>
                    </a:lnTo>
                    <a:lnTo>
                      <a:pt x="11" y="2766"/>
                    </a:lnTo>
                    <a:lnTo>
                      <a:pt x="11" y="2756"/>
                    </a:lnTo>
                    <a:lnTo>
                      <a:pt x="11" y="2745"/>
                    </a:lnTo>
                    <a:lnTo>
                      <a:pt x="22" y="2734"/>
                    </a:lnTo>
                    <a:lnTo>
                      <a:pt x="22" y="2682"/>
                    </a:lnTo>
                    <a:lnTo>
                      <a:pt x="22" y="2639"/>
                    </a:lnTo>
                    <a:lnTo>
                      <a:pt x="22" y="2597"/>
                    </a:lnTo>
                    <a:lnTo>
                      <a:pt x="22" y="2555"/>
                    </a:lnTo>
                    <a:lnTo>
                      <a:pt x="32" y="2512"/>
                    </a:lnTo>
                    <a:lnTo>
                      <a:pt x="32" y="2469"/>
                    </a:lnTo>
                    <a:lnTo>
                      <a:pt x="32" y="2427"/>
                    </a:lnTo>
                    <a:lnTo>
                      <a:pt x="32" y="2374"/>
                    </a:lnTo>
                    <a:lnTo>
                      <a:pt x="32" y="2332"/>
                    </a:lnTo>
                    <a:lnTo>
                      <a:pt x="22" y="2289"/>
                    </a:lnTo>
                    <a:lnTo>
                      <a:pt x="22" y="2247"/>
                    </a:lnTo>
                    <a:lnTo>
                      <a:pt x="22" y="2205"/>
                    </a:lnTo>
                    <a:lnTo>
                      <a:pt x="22" y="2151"/>
                    </a:lnTo>
                    <a:lnTo>
                      <a:pt x="22" y="2108"/>
                    </a:lnTo>
                    <a:lnTo>
                      <a:pt x="11" y="2067"/>
                    </a:lnTo>
                    <a:lnTo>
                      <a:pt x="11" y="2024"/>
                    </a:lnTo>
                    <a:lnTo>
                      <a:pt x="11" y="2003"/>
                    </a:lnTo>
                    <a:lnTo>
                      <a:pt x="11" y="1993"/>
                    </a:lnTo>
                    <a:lnTo>
                      <a:pt x="11" y="1981"/>
                    </a:lnTo>
                    <a:lnTo>
                      <a:pt x="22" y="1972"/>
                    </a:lnTo>
                    <a:lnTo>
                      <a:pt x="22" y="1960"/>
                    </a:lnTo>
                    <a:lnTo>
                      <a:pt x="32" y="1950"/>
                    </a:lnTo>
                    <a:lnTo>
                      <a:pt x="43" y="1940"/>
                    </a:lnTo>
                    <a:lnTo>
                      <a:pt x="54" y="1929"/>
                    </a:lnTo>
                    <a:lnTo>
                      <a:pt x="63" y="1918"/>
                    </a:lnTo>
                    <a:lnTo>
                      <a:pt x="63" y="1908"/>
                    </a:lnTo>
                    <a:lnTo>
                      <a:pt x="75" y="1897"/>
                    </a:lnTo>
                    <a:lnTo>
                      <a:pt x="85" y="1886"/>
                    </a:lnTo>
                    <a:lnTo>
                      <a:pt x="85" y="1875"/>
                    </a:lnTo>
                    <a:lnTo>
                      <a:pt x="96" y="1865"/>
                    </a:lnTo>
                    <a:lnTo>
                      <a:pt x="96" y="1854"/>
                    </a:lnTo>
                    <a:lnTo>
                      <a:pt x="106" y="1843"/>
                    </a:lnTo>
                    <a:lnTo>
                      <a:pt x="117" y="1833"/>
                    </a:lnTo>
                    <a:lnTo>
                      <a:pt x="127" y="1822"/>
                    </a:lnTo>
                    <a:lnTo>
                      <a:pt x="127" y="1813"/>
                    </a:lnTo>
                    <a:lnTo>
                      <a:pt x="138" y="1801"/>
                    </a:lnTo>
                    <a:lnTo>
                      <a:pt x="149" y="1791"/>
                    </a:lnTo>
                    <a:lnTo>
                      <a:pt x="159" y="1770"/>
                    </a:lnTo>
                    <a:lnTo>
                      <a:pt x="159" y="1759"/>
                    </a:lnTo>
                    <a:lnTo>
                      <a:pt x="170" y="1748"/>
                    </a:lnTo>
                    <a:lnTo>
                      <a:pt x="181" y="1738"/>
                    </a:lnTo>
                    <a:lnTo>
                      <a:pt x="181" y="1727"/>
                    </a:lnTo>
                    <a:lnTo>
                      <a:pt x="191" y="1716"/>
                    </a:lnTo>
                    <a:lnTo>
                      <a:pt x="202" y="1707"/>
                    </a:lnTo>
                    <a:lnTo>
                      <a:pt x="202" y="1695"/>
                    </a:lnTo>
                    <a:lnTo>
                      <a:pt x="213" y="1685"/>
                    </a:lnTo>
                    <a:lnTo>
                      <a:pt x="213" y="1664"/>
                    </a:lnTo>
                    <a:lnTo>
                      <a:pt x="244" y="1621"/>
                    </a:lnTo>
                    <a:lnTo>
                      <a:pt x="265" y="1589"/>
                    </a:lnTo>
                    <a:lnTo>
                      <a:pt x="297" y="1546"/>
                    </a:lnTo>
                    <a:lnTo>
                      <a:pt x="319" y="1505"/>
                    </a:lnTo>
                    <a:lnTo>
                      <a:pt x="340" y="1462"/>
                    </a:lnTo>
                    <a:lnTo>
                      <a:pt x="371" y="1419"/>
                    </a:lnTo>
                    <a:lnTo>
                      <a:pt x="392" y="1378"/>
                    </a:lnTo>
                    <a:lnTo>
                      <a:pt x="414" y="1335"/>
                    </a:lnTo>
                    <a:lnTo>
                      <a:pt x="435" y="1292"/>
                    </a:lnTo>
                    <a:lnTo>
                      <a:pt x="456" y="1251"/>
                    </a:lnTo>
                    <a:lnTo>
                      <a:pt x="478" y="1208"/>
                    </a:lnTo>
                    <a:lnTo>
                      <a:pt x="498" y="1165"/>
                    </a:lnTo>
                    <a:lnTo>
                      <a:pt x="519" y="1112"/>
                    </a:lnTo>
                    <a:lnTo>
                      <a:pt x="541" y="1070"/>
                    </a:lnTo>
                    <a:lnTo>
                      <a:pt x="562" y="1027"/>
                    </a:lnTo>
                    <a:lnTo>
                      <a:pt x="583" y="984"/>
                    </a:lnTo>
                    <a:lnTo>
                      <a:pt x="594" y="963"/>
                    </a:lnTo>
                    <a:lnTo>
                      <a:pt x="594" y="954"/>
                    </a:lnTo>
                    <a:lnTo>
                      <a:pt x="605" y="932"/>
                    </a:lnTo>
                    <a:lnTo>
                      <a:pt x="616" y="911"/>
                    </a:lnTo>
                    <a:lnTo>
                      <a:pt x="625" y="891"/>
                    </a:lnTo>
                    <a:lnTo>
                      <a:pt x="637" y="869"/>
                    </a:lnTo>
                    <a:lnTo>
                      <a:pt x="646" y="857"/>
                    </a:lnTo>
                    <a:lnTo>
                      <a:pt x="658" y="837"/>
                    </a:lnTo>
                    <a:lnTo>
                      <a:pt x="668" y="816"/>
                    </a:lnTo>
                    <a:lnTo>
                      <a:pt x="678" y="794"/>
                    </a:lnTo>
                    <a:lnTo>
                      <a:pt x="689" y="773"/>
                    </a:lnTo>
                    <a:lnTo>
                      <a:pt x="700" y="762"/>
                    </a:lnTo>
                    <a:lnTo>
                      <a:pt x="711" y="741"/>
                    </a:lnTo>
                    <a:lnTo>
                      <a:pt x="721" y="720"/>
                    </a:lnTo>
                    <a:lnTo>
                      <a:pt x="732" y="698"/>
                    </a:lnTo>
                    <a:lnTo>
                      <a:pt x="743" y="677"/>
                    </a:lnTo>
                    <a:lnTo>
                      <a:pt x="785" y="603"/>
                    </a:lnTo>
                    <a:lnTo>
                      <a:pt x="839" y="528"/>
                    </a:lnTo>
                    <a:lnTo>
                      <a:pt x="880" y="444"/>
                    </a:lnTo>
                    <a:lnTo>
                      <a:pt x="923" y="370"/>
                    </a:lnTo>
                    <a:lnTo>
                      <a:pt x="975" y="286"/>
                    </a:lnTo>
                    <a:lnTo>
                      <a:pt x="986" y="265"/>
                    </a:lnTo>
                    <a:lnTo>
                      <a:pt x="1008" y="243"/>
                    </a:lnTo>
                    <a:lnTo>
                      <a:pt x="1018" y="211"/>
                    </a:lnTo>
                    <a:lnTo>
                      <a:pt x="1029" y="190"/>
                    </a:lnTo>
                    <a:lnTo>
                      <a:pt x="1040" y="168"/>
                    </a:lnTo>
                    <a:lnTo>
                      <a:pt x="1060" y="136"/>
                    </a:lnTo>
                    <a:lnTo>
                      <a:pt x="1081" y="105"/>
                    </a:lnTo>
                    <a:lnTo>
                      <a:pt x="1093" y="73"/>
                    </a:lnTo>
                    <a:lnTo>
                      <a:pt x="1103" y="52"/>
                    </a:lnTo>
                    <a:lnTo>
                      <a:pt x="1124" y="31"/>
                    </a:lnTo>
                    <a:lnTo>
                      <a:pt x="1145" y="9"/>
                    </a:lnTo>
                    <a:lnTo>
                      <a:pt x="1156" y="0"/>
                    </a:lnTo>
                    <a:lnTo>
                      <a:pt x="1315" y="168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1924560" y="2772720"/>
                <a:ext cx="44280" cy="219600"/>
              </a:xfrm>
              <a:custGeom>
                <a:avLst/>
                <a:gdLst/>
                <a:ahLst/>
                <a:rect l="l" t="t" r="r" b="b"/>
                <a:pathLst>
                  <a:path w="116" h="562">
                    <a:moveTo>
                      <a:pt x="0" y="0"/>
                    </a:moveTo>
                    <a:lnTo>
                      <a:pt x="20" y="32"/>
                    </a:lnTo>
                    <a:lnTo>
                      <a:pt x="31" y="64"/>
                    </a:lnTo>
                    <a:lnTo>
                      <a:pt x="42" y="96"/>
                    </a:lnTo>
                    <a:lnTo>
                      <a:pt x="52" y="138"/>
                    </a:lnTo>
                    <a:lnTo>
                      <a:pt x="63" y="170"/>
                    </a:lnTo>
                    <a:lnTo>
                      <a:pt x="74" y="202"/>
                    </a:lnTo>
                    <a:lnTo>
                      <a:pt x="84" y="234"/>
                    </a:lnTo>
                    <a:lnTo>
                      <a:pt x="95" y="277"/>
                    </a:lnTo>
                    <a:lnTo>
                      <a:pt x="106" y="308"/>
                    </a:lnTo>
                    <a:lnTo>
                      <a:pt x="106" y="340"/>
                    </a:lnTo>
                    <a:lnTo>
                      <a:pt x="116" y="383"/>
                    </a:lnTo>
                    <a:lnTo>
                      <a:pt x="116" y="413"/>
                    </a:lnTo>
                    <a:lnTo>
                      <a:pt x="116" y="456"/>
                    </a:lnTo>
                    <a:lnTo>
                      <a:pt x="116" y="488"/>
                    </a:lnTo>
                    <a:lnTo>
                      <a:pt x="106" y="531"/>
                    </a:lnTo>
                    <a:lnTo>
                      <a:pt x="106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1798560" y="2896560"/>
                <a:ext cx="165600" cy="95760"/>
              </a:xfrm>
              <a:custGeom>
                <a:avLst/>
                <a:gdLst/>
                <a:ahLst/>
                <a:rect l="l" t="t" r="r" b="b"/>
                <a:pathLst>
                  <a:path w="424" h="244">
                    <a:moveTo>
                      <a:pt x="424" y="244"/>
                    </a:moveTo>
                    <a:lnTo>
                      <a:pt x="392" y="233"/>
                    </a:lnTo>
                    <a:lnTo>
                      <a:pt x="360" y="223"/>
                    </a:lnTo>
                    <a:lnTo>
                      <a:pt x="338" y="213"/>
                    </a:lnTo>
                    <a:lnTo>
                      <a:pt x="306" y="201"/>
                    </a:lnTo>
                    <a:lnTo>
                      <a:pt x="286" y="180"/>
                    </a:lnTo>
                    <a:lnTo>
                      <a:pt x="254" y="170"/>
                    </a:lnTo>
                    <a:lnTo>
                      <a:pt x="233" y="158"/>
                    </a:lnTo>
                    <a:lnTo>
                      <a:pt x="200" y="138"/>
                    </a:lnTo>
                    <a:lnTo>
                      <a:pt x="179" y="128"/>
                    </a:lnTo>
                    <a:lnTo>
                      <a:pt x="148" y="106"/>
                    </a:lnTo>
                    <a:lnTo>
                      <a:pt x="127" y="86"/>
                    </a:lnTo>
                    <a:lnTo>
                      <a:pt x="105" y="74"/>
                    </a:lnTo>
                    <a:lnTo>
                      <a:pt x="73" y="53"/>
                    </a:lnTo>
                    <a:lnTo>
                      <a:pt x="52" y="43"/>
                    </a:lnTo>
                    <a:lnTo>
                      <a:pt x="2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1432080" y="2917800"/>
                <a:ext cx="333360" cy="387360"/>
              </a:xfrm>
              <a:custGeom>
                <a:avLst/>
                <a:gdLst/>
                <a:ahLst/>
                <a:rect l="l" t="t" r="r" b="b"/>
                <a:pathLst>
                  <a:path w="860" h="996">
                    <a:moveTo>
                      <a:pt x="860" y="0"/>
                    </a:moveTo>
                    <a:lnTo>
                      <a:pt x="796" y="53"/>
                    </a:lnTo>
                    <a:lnTo>
                      <a:pt x="732" y="105"/>
                    </a:lnTo>
                    <a:lnTo>
                      <a:pt x="668" y="170"/>
                    </a:lnTo>
                    <a:lnTo>
                      <a:pt x="616" y="223"/>
                    </a:lnTo>
                    <a:lnTo>
                      <a:pt x="553" y="287"/>
                    </a:lnTo>
                    <a:lnTo>
                      <a:pt x="499" y="341"/>
                    </a:lnTo>
                    <a:lnTo>
                      <a:pt x="435" y="404"/>
                    </a:lnTo>
                    <a:lnTo>
                      <a:pt x="383" y="468"/>
                    </a:lnTo>
                    <a:lnTo>
                      <a:pt x="329" y="531"/>
                    </a:lnTo>
                    <a:lnTo>
                      <a:pt x="277" y="595"/>
                    </a:lnTo>
                    <a:lnTo>
                      <a:pt x="224" y="658"/>
                    </a:lnTo>
                    <a:lnTo>
                      <a:pt x="170" y="722"/>
                    </a:lnTo>
                    <a:lnTo>
                      <a:pt x="127" y="796"/>
                    </a:lnTo>
                    <a:lnTo>
                      <a:pt x="86" y="860"/>
                    </a:lnTo>
                    <a:lnTo>
                      <a:pt x="43" y="923"/>
                    </a:lnTo>
                    <a:lnTo>
                      <a:pt x="0" y="9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1432080" y="3305160"/>
                <a:ext cx="155880" cy="188640"/>
              </a:xfrm>
              <a:custGeom>
                <a:avLst/>
                <a:gdLst/>
                <a:ahLst/>
                <a:rect l="l" t="t" r="r" b="b"/>
                <a:pathLst>
                  <a:path w="404" h="489">
                    <a:moveTo>
                      <a:pt x="0" y="0"/>
                    </a:moveTo>
                    <a:lnTo>
                      <a:pt x="0" y="43"/>
                    </a:lnTo>
                    <a:lnTo>
                      <a:pt x="12" y="86"/>
                    </a:lnTo>
                    <a:lnTo>
                      <a:pt x="22" y="118"/>
                    </a:lnTo>
                    <a:lnTo>
                      <a:pt x="32" y="161"/>
                    </a:lnTo>
                    <a:lnTo>
                      <a:pt x="54" y="202"/>
                    </a:lnTo>
                    <a:lnTo>
                      <a:pt x="75" y="233"/>
                    </a:lnTo>
                    <a:lnTo>
                      <a:pt x="106" y="267"/>
                    </a:lnTo>
                    <a:lnTo>
                      <a:pt x="127" y="297"/>
                    </a:lnTo>
                    <a:lnTo>
                      <a:pt x="159" y="329"/>
                    </a:lnTo>
                    <a:lnTo>
                      <a:pt x="192" y="362"/>
                    </a:lnTo>
                    <a:lnTo>
                      <a:pt x="224" y="394"/>
                    </a:lnTo>
                    <a:lnTo>
                      <a:pt x="256" y="414"/>
                    </a:lnTo>
                    <a:lnTo>
                      <a:pt x="298" y="435"/>
                    </a:lnTo>
                    <a:lnTo>
                      <a:pt x="329" y="457"/>
                    </a:lnTo>
                    <a:lnTo>
                      <a:pt x="361" y="478"/>
                    </a:lnTo>
                    <a:lnTo>
                      <a:pt x="404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1233720" y="3524040"/>
                <a:ext cx="408600" cy="518040"/>
              </a:xfrm>
              <a:custGeom>
                <a:avLst/>
                <a:gdLst/>
                <a:ahLst/>
                <a:rect l="l" t="t" r="r" b="b"/>
                <a:pathLst>
                  <a:path w="1049" h="1337">
                    <a:moveTo>
                      <a:pt x="1049" y="0"/>
                    </a:moveTo>
                    <a:lnTo>
                      <a:pt x="986" y="86"/>
                    </a:lnTo>
                    <a:lnTo>
                      <a:pt x="922" y="161"/>
                    </a:lnTo>
                    <a:lnTo>
                      <a:pt x="859" y="245"/>
                    </a:lnTo>
                    <a:lnTo>
                      <a:pt x="795" y="329"/>
                    </a:lnTo>
                    <a:lnTo>
                      <a:pt x="732" y="414"/>
                    </a:lnTo>
                    <a:lnTo>
                      <a:pt x="667" y="499"/>
                    </a:lnTo>
                    <a:lnTo>
                      <a:pt x="605" y="596"/>
                    </a:lnTo>
                    <a:lnTo>
                      <a:pt x="540" y="680"/>
                    </a:lnTo>
                    <a:lnTo>
                      <a:pt x="477" y="764"/>
                    </a:lnTo>
                    <a:lnTo>
                      <a:pt x="413" y="849"/>
                    </a:lnTo>
                    <a:lnTo>
                      <a:pt x="340" y="923"/>
                    </a:lnTo>
                    <a:lnTo>
                      <a:pt x="275" y="1009"/>
                    </a:lnTo>
                    <a:lnTo>
                      <a:pt x="213" y="1093"/>
                    </a:lnTo>
                    <a:lnTo>
                      <a:pt x="138" y="1178"/>
                    </a:lnTo>
                    <a:lnTo>
                      <a:pt x="64" y="1251"/>
                    </a:lnTo>
                    <a:lnTo>
                      <a:pt x="0" y="1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1231560" y="3811680"/>
                <a:ext cx="6840" cy="223560"/>
              </a:xfrm>
              <a:custGeom>
                <a:avLst/>
                <a:gdLst/>
                <a:ahLst/>
                <a:rect l="l" t="t" r="r" b="b"/>
                <a:pathLst>
                  <a:path w="22" h="572">
                    <a:moveTo>
                      <a:pt x="0" y="572"/>
                    </a:moveTo>
                    <a:lnTo>
                      <a:pt x="0" y="540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24"/>
                    </a:lnTo>
                    <a:lnTo>
                      <a:pt x="0" y="393"/>
                    </a:lnTo>
                    <a:lnTo>
                      <a:pt x="11" y="360"/>
                    </a:lnTo>
                    <a:lnTo>
                      <a:pt x="11" y="329"/>
                    </a:lnTo>
                    <a:lnTo>
                      <a:pt x="11" y="287"/>
                    </a:lnTo>
                    <a:lnTo>
                      <a:pt x="11" y="254"/>
                    </a:lnTo>
                    <a:lnTo>
                      <a:pt x="11" y="223"/>
                    </a:lnTo>
                    <a:lnTo>
                      <a:pt x="11" y="180"/>
                    </a:lnTo>
                    <a:lnTo>
                      <a:pt x="11" y="148"/>
                    </a:lnTo>
                    <a:lnTo>
                      <a:pt x="11" y="116"/>
                    </a:lnTo>
                    <a:lnTo>
                      <a:pt x="22" y="73"/>
                    </a:lnTo>
                    <a:lnTo>
                      <a:pt x="22" y="4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1233720" y="3491280"/>
                <a:ext cx="9360" cy="275400"/>
              </a:xfrm>
              <a:custGeom>
                <a:avLst/>
                <a:gdLst/>
                <a:ahLst/>
                <a:rect l="l" t="t" r="r" b="b"/>
                <a:pathLst>
                  <a:path w="21" h="710">
                    <a:moveTo>
                      <a:pt x="11" y="710"/>
                    </a:moveTo>
                    <a:lnTo>
                      <a:pt x="11" y="658"/>
                    </a:ln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1"/>
                    </a:lnTo>
                    <a:lnTo>
                      <a:pt x="21" y="488"/>
                    </a:lnTo>
                    <a:lnTo>
                      <a:pt x="21" y="445"/>
                    </a:lnTo>
                    <a:lnTo>
                      <a:pt x="21" y="403"/>
                    </a:lnTo>
                    <a:lnTo>
                      <a:pt x="21" y="350"/>
                    </a:lnTo>
                    <a:lnTo>
                      <a:pt x="21" y="308"/>
                    </a:lnTo>
                    <a:lnTo>
                      <a:pt x="11" y="265"/>
                    </a:lnTo>
                    <a:lnTo>
                      <a:pt x="11" y="223"/>
                    </a:lnTo>
                    <a:lnTo>
                      <a:pt x="11" y="181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1233720" y="3424320"/>
                <a:ext cx="34920" cy="669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70"/>
                    </a:moveTo>
                    <a:lnTo>
                      <a:pt x="0" y="149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11" y="118"/>
                    </a:lnTo>
                    <a:lnTo>
                      <a:pt x="11" y="106"/>
                    </a:lnTo>
                    <a:lnTo>
                      <a:pt x="21" y="96"/>
                    </a:lnTo>
                    <a:lnTo>
                      <a:pt x="32" y="86"/>
                    </a:lnTo>
                    <a:lnTo>
                      <a:pt x="43" y="75"/>
                    </a:lnTo>
                    <a:lnTo>
                      <a:pt x="52" y="64"/>
                    </a:lnTo>
                    <a:lnTo>
                      <a:pt x="52" y="54"/>
                    </a:lnTo>
                    <a:lnTo>
                      <a:pt x="64" y="43"/>
                    </a:lnTo>
                    <a:lnTo>
                      <a:pt x="74" y="32"/>
                    </a:lnTo>
                    <a:lnTo>
                      <a:pt x="74" y="21"/>
                    </a:lnTo>
                    <a:lnTo>
                      <a:pt x="85" y="11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1268640" y="3351600"/>
                <a:ext cx="44280" cy="72360"/>
              </a:xfrm>
              <a:custGeom>
                <a:avLst/>
                <a:gdLst/>
                <a:ahLst/>
                <a:rect l="l" t="t" r="r" b="b"/>
                <a:pathLst>
                  <a:path w="117" h="190">
                    <a:moveTo>
                      <a:pt x="0" y="190"/>
                    </a:moveTo>
                    <a:lnTo>
                      <a:pt x="10" y="179"/>
                    </a:lnTo>
                    <a:lnTo>
                      <a:pt x="21" y="169"/>
                    </a:lnTo>
                    <a:lnTo>
                      <a:pt x="31" y="158"/>
                    </a:lnTo>
                    <a:lnTo>
                      <a:pt x="31" y="149"/>
                    </a:lnTo>
                    <a:lnTo>
                      <a:pt x="42" y="137"/>
                    </a:lnTo>
                    <a:lnTo>
                      <a:pt x="53" y="127"/>
                    </a:lnTo>
                    <a:lnTo>
                      <a:pt x="63" y="106"/>
                    </a:lnTo>
                    <a:lnTo>
                      <a:pt x="63" y="95"/>
                    </a:lnTo>
                    <a:lnTo>
                      <a:pt x="74" y="84"/>
                    </a:lnTo>
                    <a:lnTo>
                      <a:pt x="85" y="74"/>
                    </a:lnTo>
                    <a:lnTo>
                      <a:pt x="85" y="63"/>
                    </a:lnTo>
                    <a:lnTo>
                      <a:pt x="95" y="52"/>
                    </a:lnTo>
                    <a:lnTo>
                      <a:pt x="106" y="43"/>
                    </a:lnTo>
                    <a:lnTo>
                      <a:pt x="106" y="31"/>
                    </a:lnTo>
                    <a:lnTo>
                      <a:pt x="117" y="21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1312920" y="3085560"/>
                <a:ext cx="144360" cy="266040"/>
              </a:xfrm>
              <a:custGeom>
                <a:avLst/>
                <a:gdLst/>
                <a:ahLst/>
                <a:rect l="l" t="t" r="r" b="b"/>
                <a:pathLst>
                  <a:path w="370" h="680">
                    <a:moveTo>
                      <a:pt x="0" y="680"/>
                    </a:moveTo>
                    <a:lnTo>
                      <a:pt x="31" y="637"/>
                    </a:lnTo>
                    <a:lnTo>
                      <a:pt x="52" y="605"/>
                    </a:lnTo>
                    <a:lnTo>
                      <a:pt x="84" y="562"/>
                    </a:lnTo>
                    <a:lnTo>
                      <a:pt x="106" y="521"/>
                    </a:lnTo>
                    <a:lnTo>
                      <a:pt x="127" y="478"/>
                    </a:lnTo>
                    <a:lnTo>
                      <a:pt x="158" y="435"/>
                    </a:lnTo>
                    <a:lnTo>
                      <a:pt x="179" y="394"/>
                    </a:lnTo>
                    <a:lnTo>
                      <a:pt x="201" y="351"/>
                    </a:lnTo>
                    <a:lnTo>
                      <a:pt x="222" y="308"/>
                    </a:lnTo>
                    <a:lnTo>
                      <a:pt x="243" y="267"/>
                    </a:lnTo>
                    <a:lnTo>
                      <a:pt x="265" y="224"/>
                    </a:lnTo>
                    <a:lnTo>
                      <a:pt x="285" y="181"/>
                    </a:lnTo>
                    <a:lnTo>
                      <a:pt x="306" y="128"/>
                    </a:lnTo>
                    <a:lnTo>
                      <a:pt x="328" y="86"/>
                    </a:lnTo>
                    <a:lnTo>
                      <a:pt x="349" y="43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1457640" y="2966400"/>
                <a:ext cx="60840" cy="118800"/>
              </a:xfrm>
              <a:custGeom>
                <a:avLst/>
                <a:gdLst/>
                <a:ahLst/>
                <a:rect l="l" t="t" r="r" b="b"/>
                <a:pathLst>
                  <a:path w="160" h="307">
                    <a:moveTo>
                      <a:pt x="0" y="307"/>
                    </a:moveTo>
                    <a:lnTo>
                      <a:pt x="11" y="286"/>
                    </a:lnTo>
                    <a:lnTo>
                      <a:pt x="11" y="277"/>
                    </a:lnTo>
                    <a:lnTo>
                      <a:pt x="22" y="255"/>
                    </a:lnTo>
                    <a:lnTo>
                      <a:pt x="33" y="234"/>
                    </a:lnTo>
                    <a:lnTo>
                      <a:pt x="42" y="214"/>
                    </a:lnTo>
                    <a:lnTo>
                      <a:pt x="54" y="192"/>
                    </a:lnTo>
                    <a:lnTo>
                      <a:pt x="63" y="180"/>
                    </a:lnTo>
                    <a:lnTo>
                      <a:pt x="75" y="160"/>
                    </a:lnTo>
                    <a:lnTo>
                      <a:pt x="85" y="139"/>
                    </a:lnTo>
                    <a:lnTo>
                      <a:pt x="95" y="117"/>
                    </a:lnTo>
                    <a:lnTo>
                      <a:pt x="106" y="96"/>
                    </a:lnTo>
                    <a:lnTo>
                      <a:pt x="117" y="85"/>
                    </a:lnTo>
                    <a:lnTo>
                      <a:pt x="128" y="64"/>
                    </a:lnTo>
                    <a:lnTo>
                      <a:pt x="138" y="43"/>
                    </a:lnTo>
                    <a:lnTo>
                      <a:pt x="149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1518480" y="2805480"/>
                <a:ext cx="95760" cy="160560"/>
              </a:xfrm>
              <a:custGeom>
                <a:avLst/>
                <a:gdLst/>
                <a:ahLst/>
                <a:rect l="l" t="t" r="r" b="b"/>
                <a:pathLst>
                  <a:path w="243" h="412">
                    <a:moveTo>
                      <a:pt x="0" y="412"/>
                    </a:moveTo>
                    <a:lnTo>
                      <a:pt x="10" y="390"/>
                    </a:lnTo>
                    <a:lnTo>
                      <a:pt x="32" y="370"/>
                    </a:lnTo>
                    <a:lnTo>
                      <a:pt x="42" y="338"/>
                    </a:lnTo>
                    <a:lnTo>
                      <a:pt x="63" y="318"/>
                    </a:lnTo>
                    <a:lnTo>
                      <a:pt x="74" y="285"/>
                    </a:lnTo>
                    <a:lnTo>
                      <a:pt x="96" y="263"/>
                    </a:lnTo>
                    <a:lnTo>
                      <a:pt x="105" y="232"/>
                    </a:lnTo>
                    <a:lnTo>
                      <a:pt x="127" y="211"/>
                    </a:lnTo>
                    <a:lnTo>
                      <a:pt x="137" y="179"/>
                    </a:lnTo>
                    <a:lnTo>
                      <a:pt x="148" y="158"/>
                    </a:lnTo>
                    <a:lnTo>
                      <a:pt x="170" y="127"/>
                    </a:lnTo>
                    <a:lnTo>
                      <a:pt x="180" y="105"/>
                    </a:lnTo>
                    <a:lnTo>
                      <a:pt x="202" y="73"/>
                    </a:lnTo>
                    <a:lnTo>
                      <a:pt x="211" y="52"/>
                    </a:lnTo>
                    <a:lnTo>
                      <a:pt x="232" y="21"/>
                    </a:lnTo>
                    <a:lnTo>
                      <a:pt x="2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1679400" y="2702880"/>
                <a:ext cx="63000" cy="6480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1478520" y="2945880"/>
                <a:ext cx="522720" cy="557640"/>
              </a:xfrm>
              <a:custGeom>
                <a:avLst/>
                <a:gdLst/>
                <a:ahLst/>
                <a:rect l="l" t="t" r="r" b="b"/>
                <a:pathLst>
                  <a:path w="1346" h="1431">
                    <a:moveTo>
                      <a:pt x="1113" y="148"/>
                    </a:moveTo>
                    <a:lnTo>
                      <a:pt x="1124" y="148"/>
                    </a:lnTo>
                    <a:lnTo>
                      <a:pt x="1133" y="148"/>
                    </a:lnTo>
                    <a:lnTo>
                      <a:pt x="1155" y="159"/>
                    </a:lnTo>
                    <a:lnTo>
                      <a:pt x="1165" y="159"/>
                    </a:lnTo>
                    <a:lnTo>
                      <a:pt x="1176" y="169"/>
                    </a:lnTo>
                    <a:lnTo>
                      <a:pt x="1187" y="169"/>
                    </a:lnTo>
                    <a:lnTo>
                      <a:pt x="1197" y="180"/>
                    </a:lnTo>
                    <a:lnTo>
                      <a:pt x="1208" y="191"/>
                    </a:lnTo>
                    <a:lnTo>
                      <a:pt x="1229" y="191"/>
                    </a:lnTo>
                    <a:lnTo>
                      <a:pt x="1240" y="201"/>
                    </a:lnTo>
                    <a:lnTo>
                      <a:pt x="1251" y="201"/>
                    </a:lnTo>
                    <a:lnTo>
                      <a:pt x="1261" y="212"/>
                    </a:lnTo>
                    <a:lnTo>
                      <a:pt x="1272" y="223"/>
                    </a:lnTo>
                    <a:lnTo>
                      <a:pt x="1292" y="223"/>
                    </a:lnTo>
                    <a:lnTo>
                      <a:pt x="1304" y="223"/>
                    </a:lnTo>
                    <a:lnTo>
                      <a:pt x="1314" y="232"/>
                    </a:lnTo>
                    <a:lnTo>
                      <a:pt x="1326" y="244"/>
                    </a:lnTo>
                    <a:lnTo>
                      <a:pt x="1335" y="254"/>
                    </a:lnTo>
                    <a:lnTo>
                      <a:pt x="1335" y="266"/>
                    </a:lnTo>
                    <a:lnTo>
                      <a:pt x="1346" y="275"/>
                    </a:lnTo>
                    <a:lnTo>
                      <a:pt x="1346" y="286"/>
                    </a:lnTo>
                    <a:lnTo>
                      <a:pt x="1346" y="297"/>
                    </a:lnTo>
                    <a:lnTo>
                      <a:pt x="1346" y="307"/>
                    </a:lnTo>
                    <a:lnTo>
                      <a:pt x="1346" y="318"/>
                    </a:lnTo>
                    <a:lnTo>
                      <a:pt x="1346" y="329"/>
                    </a:lnTo>
                    <a:lnTo>
                      <a:pt x="1346" y="338"/>
                    </a:lnTo>
                    <a:lnTo>
                      <a:pt x="1346" y="350"/>
                    </a:lnTo>
                    <a:lnTo>
                      <a:pt x="1346" y="359"/>
                    </a:lnTo>
                    <a:lnTo>
                      <a:pt x="1346" y="371"/>
                    </a:lnTo>
                    <a:lnTo>
                      <a:pt x="1335" y="381"/>
                    </a:lnTo>
                    <a:lnTo>
                      <a:pt x="1335" y="393"/>
                    </a:lnTo>
                    <a:lnTo>
                      <a:pt x="1335" y="402"/>
                    </a:lnTo>
                    <a:lnTo>
                      <a:pt x="1335" y="413"/>
                    </a:lnTo>
                    <a:lnTo>
                      <a:pt x="1335" y="424"/>
                    </a:lnTo>
                    <a:lnTo>
                      <a:pt x="1326" y="424"/>
                    </a:lnTo>
                    <a:lnTo>
                      <a:pt x="1314" y="424"/>
                    </a:lnTo>
                    <a:lnTo>
                      <a:pt x="1304" y="424"/>
                    </a:lnTo>
                    <a:lnTo>
                      <a:pt x="1292" y="424"/>
                    </a:lnTo>
                    <a:lnTo>
                      <a:pt x="1283" y="424"/>
                    </a:lnTo>
                    <a:lnTo>
                      <a:pt x="1272" y="424"/>
                    </a:lnTo>
                    <a:lnTo>
                      <a:pt x="1261" y="424"/>
                    </a:lnTo>
                    <a:lnTo>
                      <a:pt x="1251" y="413"/>
                    </a:lnTo>
                    <a:lnTo>
                      <a:pt x="1240" y="413"/>
                    </a:lnTo>
                    <a:lnTo>
                      <a:pt x="1229" y="413"/>
                    </a:lnTo>
                    <a:lnTo>
                      <a:pt x="1219" y="413"/>
                    </a:lnTo>
                    <a:lnTo>
                      <a:pt x="1208" y="413"/>
                    </a:lnTo>
                    <a:lnTo>
                      <a:pt x="1197" y="413"/>
                    </a:lnTo>
                    <a:lnTo>
                      <a:pt x="1187" y="402"/>
                    </a:lnTo>
                    <a:lnTo>
                      <a:pt x="1176" y="402"/>
                    </a:lnTo>
                    <a:lnTo>
                      <a:pt x="1165" y="402"/>
                    </a:lnTo>
                    <a:lnTo>
                      <a:pt x="1155" y="402"/>
                    </a:lnTo>
                    <a:lnTo>
                      <a:pt x="1145" y="402"/>
                    </a:lnTo>
                    <a:lnTo>
                      <a:pt x="1133" y="402"/>
                    </a:lnTo>
                    <a:lnTo>
                      <a:pt x="1124" y="402"/>
                    </a:lnTo>
                    <a:lnTo>
                      <a:pt x="1113" y="413"/>
                    </a:lnTo>
                    <a:lnTo>
                      <a:pt x="1102" y="413"/>
                    </a:lnTo>
                    <a:lnTo>
                      <a:pt x="1081" y="424"/>
                    </a:lnTo>
                    <a:lnTo>
                      <a:pt x="1060" y="445"/>
                    </a:lnTo>
                    <a:lnTo>
                      <a:pt x="1038" y="456"/>
                    </a:lnTo>
                    <a:lnTo>
                      <a:pt x="1018" y="477"/>
                    </a:lnTo>
                    <a:lnTo>
                      <a:pt x="1006" y="498"/>
                    </a:lnTo>
                    <a:lnTo>
                      <a:pt x="997" y="520"/>
                    </a:lnTo>
                    <a:lnTo>
                      <a:pt x="975" y="540"/>
                    </a:lnTo>
                    <a:lnTo>
                      <a:pt x="964" y="561"/>
                    </a:lnTo>
                    <a:lnTo>
                      <a:pt x="954" y="592"/>
                    </a:lnTo>
                    <a:lnTo>
                      <a:pt x="943" y="614"/>
                    </a:lnTo>
                    <a:lnTo>
                      <a:pt x="932" y="635"/>
                    </a:lnTo>
                    <a:lnTo>
                      <a:pt x="922" y="667"/>
                    </a:lnTo>
                    <a:lnTo>
                      <a:pt x="922" y="689"/>
                    </a:lnTo>
                    <a:lnTo>
                      <a:pt x="911" y="710"/>
                    </a:lnTo>
                    <a:lnTo>
                      <a:pt x="900" y="731"/>
                    </a:lnTo>
                    <a:lnTo>
                      <a:pt x="891" y="763"/>
                    </a:lnTo>
                    <a:lnTo>
                      <a:pt x="869" y="794"/>
                    </a:lnTo>
                    <a:lnTo>
                      <a:pt x="858" y="828"/>
                    </a:lnTo>
                    <a:lnTo>
                      <a:pt x="837" y="869"/>
                    </a:lnTo>
                    <a:lnTo>
                      <a:pt x="827" y="900"/>
                    </a:lnTo>
                    <a:lnTo>
                      <a:pt x="805" y="933"/>
                    </a:lnTo>
                    <a:lnTo>
                      <a:pt x="795" y="975"/>
                    </a:lnTo>
                    <a:lnTo>
                      <a:pt x="784" y="1007"/>
                    </a:lnTo>
                    <a:lnTo>
                      <a:pt x="764" y="1049"/>
                    </a:lnTo>
                    <a:lnTo>
                      <a:pt x="752" y="1082"/>
                    </a:lnTo>
                    <a:lnTo>
                      <a:pt x="742" y="1123"/>
                    </a:lnTo>
                    <a:lnTo>
                      <a:pt x="721" y="1154"/>
                    </a:lnTo>
                    <a:lnTo>
                      <a:pt x="710" y="1188"/>
                    </a:lnTo>
                    <a:lnTo>
                      <a:pt x="700" y="1229"/>
                    </a:lnTo>
                    <a:lnTo>
                      <a:pt x="678" y="1261"/>
                    </a:lnTo>
                    <a:lnTo>
                      <a:pt x="668" y="1304"/>
                    </a:lnTo>
                    <a:lnTo>
                      <a:pt x="657" y="1335"/>
                    </a:lnTo>
                    <a:lnTo>
                      <a:pt x="646" y="1347"/>
                    </a:lnTo>
                    <a:lnTo>
                      <a:pt x="635" y="1356"/>
                    </a:lnTo>
                    <a:lnTo>
                      <a:pt x="635" y="1368"/>
                    </a:lnTo>
                    <a:lnTo>
                      <a:pt x="625" y="1368"/>
                    </a:lnTo>
                    <a:lnTo>
                      <a:pt x="625" y="1378"/>
                    </a:lnTo>
                    <a:lnTo>
                      <a:pt x="614" y="1389"/>
                    </a:lnTo>
                    <a:lnTo>
                      <a:pt x="603" y="1399"/>
                    </a:lnTo>
                    <a:lnTo>
                      <a:pt x="593" y="1410"/>
                    </a:lnTo>
                    <a:lnTo>
                      <a:pt x="593" y="1420"/>
                    </a:lnTo>
                    <a:lnTo>
                      <a:pt x="583" y="1420"/>
                    </a:lnTo>
                    <a:lnTo>
                      <a:pt x="583" y="1431"/>
                    </a:lnTo>
                    <a:lnTo>
                      <a:pt x="571" y="1431"/>
                    </a:lnTo>
                    <a:lnTo>
                      <a:pt x="562" y="1431"/>
                    </a:lnTo>
                    <a:lnTo>
                      <a:pt x="550" y="1431"/>
                    </a:lnTo>
                    <a:lnTo>
                      <a:pt x="530" y="1431"/>
                    </a:lnTo>
                    <a:lnTo>
                      <a:pt x="519" y="1431"/>
                    </a:lnTo>
                    <a:lnTo>
                      <a:pt x="498" y="1431"/>
                    </a:lnTo>
                    <a:lnTo>
                      <a:pt x="487" y="1431"/>
                    </a:lnTo>
                    <a:lnTo>
                      <a:pt x="476" y="1420"/>
                    </a:lnTo>
                    <a:lnTo>
                      <a:pt x="466" y="1420"/>
                    </a:lnTo>
                    <a:lnTo>
                      <a:pt x="444" y="1410"/>
                    </a:lnTo>
                    <a:lnTo>
                      <a:pt x="435" y="1399"/>
                    </a:lnTo>
                    <a:lnTo>
                      <a:pt x="423" y="1399"/>
                    </a:lnTo>
                    <a:lnTo>
                      <a:pt x="413" y="1389"/>
                    </a:lnTo>
                    <a:lnTo>
                      <a:pt x="392" y="1378"/>
                    </a:lnTo>
                    <a:lnTo>
                      <a:pt x="381" y="1378"/>
                    </a:lnTo>
                    <a:lnTo>
                      <a:pt x="371" y="1368"/>
                    </a:lnTo>
                    <a:lnTo>
                      <a:pt x="360" y="1356"/>
                    </a:lnTo>
                    <a:lnTo>
                      <a:pt x="349" y="1356"/>
                    </a:lnTo>
                    <a:lnTo>
                      <a:pt x="317" y="1335"/>
                    </a:lnTo>
                    <a:lnTo>
                      <a:pt x="286" y="1315"/>
                    </a:lnTo>
                    <a:lnTo>
                      <a:pt x="265" y="1304"/>
                    </a:lnTo>
                    <a:lnTo>
                      <a:pt x="233" y="1283"/>
                    </a:lnTo>
                    <a:lnTo>
                      <a:pt x="202" y="1261"/>
                    </a:lnTo>
                    <a:lnTo>
                      <a:pt x="180" y="1240"/>
                    </a:lnTo>
                    <a:lnTo>
                      <a:pt x="148" y="1218"/>
                    </a:lnTo>
                    <a:lnTo>
                      <a:pt x="116" y="1197"/>
                    </a:lnTo>
                    <a:lnTo>
                      <a:pt x="95" y="1176"/>
                    </a:lnTo>
                    <a:lnTo>
                      <a:pt x="74" y="1145"/>
                    </a:lnTo>
                    <a:lnTo>
                      <a:pt x="52" y="1123"/>
                    </a:lnTo>
                    <a:lnTo>
                      <a:pt x="31" y="1091"/>
                    </a:lnTo>
                    <a:lnTo>
                      <a:pt x="21" y="1060"/>
                    </a:lnTo>
                    <a:lnTo>
                      <a:pt x="9" y="1027"/>
                    </a:lnTo>
                    <a:lnTo>
                      <a:pt x="0" y="996"/>
                    </a:lnTo>
                    <a:lnTo>
                      <a:pt x="0" y="964"/>
                    </a:lnTo>
                    <a:lnTo>
                      <a:pt x="0" y="943"/>
                    </a:lnTo>
                    <a:lnTo>
                      <a:pt x="0" y="921"/>
                    </a:lnTo>
                    <a:lnTo>
                      <a:pt x="9" y="900"/>
                    </a:lnTo>
                    <a:lnTo>
                      <a:pt x="9" y="891"/>
                    </a:lnTo>
                    <a:lnTo>
                      <a:pt x="21" y="869"/>
                    </a:lnTo>
                    <a:lnTo>
                      <a:pt x="31" y="848"/>
                    </a:lnTo>
                    <a:lnTo>
                      <a:pt x="41" y="837"/>
                    </a:lnTo>
                    <a:lnTo>
                      <a:pt x="52" y="816"/>
                    </a:lnTo>
                    <a:lnTo>
                      <a:pt x="63" y="806"/>
                    </a:lnTo>
                    <a:lnTo>
                      <a:pt x="74" y="785"/>
                    </a:lnTo>
                    <a:lnTo>
                      <a:pt x="84" y="773"/>
                    </a:lnTo>
                    <a:lnTo>
                      <a:pt x="106" y="753"/>
                    </a:lnTo>
                    <a:lnTo>
                      <a:pt x="116" y="742"/>
                    </a:lnTo>
                    <a:lnTo>
                      <a:pt x="127" y="721"/>
                    </a:lnTo>
                    <a:lnTo>
                      <a:pt x="138" y="710"/>
                    </a:lnTo>
                    <a:lnTo>
                      <a:pt x="159" y="699"/>
                    </a:lnTo>
                    <a:lnTo>
                      <a:pt x="190" y="656"/>
                    </a:lnTo>
                    <a:lnTo>
                      <a:pt x="233" y="614"/>
                    </a:lnTo>
                    <a:lnTo>
                      <a:pt x="276" y="561"/>
                    </a:lnTo>
                    <a:lnTo>
                      <a:pt x="317" y="520"/>
                    </a:lnTo>
                    <a:lnTo>
                      <a:pt x="360" y="477"/>
                    </a:lnTo>
                    <a:lnTo>
                      <a:pt x="392" y="434"/>
                    </a:lnTo>
                    <a:lnTo>
                      <a:pt x="435" y="393"/>
                    </a:lnTo>
                    <a:lnTo>
                      <a:pt x="476" y="338"/>
                    </a:lnTo>
                    <a:lnTo>
                      <a:pt x="519" y="297"/>
                    </a:lnTo>
                    <a:lnTo>
                      <a:pt x="550" y="254"/>
                    </a:lnTo>
                    <a:lnTo>
                      <a:pt x="593" y="212"/>
                    </a:lnTo>
                    <a:lnTo>
                      <a:pt x="635" y="169"/>
                    </a:lnTo>
                    <a:lnTo>
                      <a:pt x="678" y="127"/>
                    </a:lnTo>
                    <a:lnTo>
                      <a:pt x="721" y="85"/>
                    </a:lnTo>
                    <a:lnTo>
                      <a:pt x="764" y="42"/>
                    </a:lnTo>
                    <a:lnTo>
                      <a:pt x="805" y="0"/>
                    </a:lnTo>
                    <a:lnTo>
                      <a:pt x="827" y="10"/>
                    </a:lnTo>
                    <a:lnTo>
                      <a:pt x="837" y="21"/>
                    </a:lnTo>
                    <a:lnTo>
                      <a:pt x="858" y="30"/>
                    </a:lnTo>
                    <a:lnTo>
                      <a:pt x="879" y="30"/>
                    </a:lnTo>
                    <a:lnTo>
                      <a:pt x="900" y="42"/>
                    </a:lnTo>
                    <a:lnTo>
                      <a:pt x="922" y="52"/>
                    </a:lnTo>
                    <a:lnTo>
                      <a:pt x="932" y="64"/>
                    </a:lnTo>
                    <a:lnTo>
                      <a:pt x="954" y="73"/>
                    </a:lnTo>
                    <a:lnTo>
                      <a:pt x="975" y="85"/>
                    </a:lnTo>
                    <a:lnTo>
                      <a:pt x="997" y="95"/>
                    </a:lnTo>
                    <a:lnTo>
                      <a:pt x="1018" y="105"/>
                    </a:lnTo>
                    <a:lnTo>
                      <a:pt x="1027" y="116"/>
                    </a:lnTo>
                    <a:lnTo>
                      <a:pt x="1049" y="116"/>
                    </a:lnTo>
                    <a:lnTo>
                      <a:pt x="1070" y="127"/>
                    </a:lnTo>
                    <a:lnTo>
                      <a:pt x="1092" y="137"/>
                    </a:lnTo>
                    <a:lnTo>
                      <a:pt x="1113" y="1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1990080" y="3036600"/>
                <a:ext cx="11520" cy="6264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0" y="0"/>
                    </a:moveTo>
                    <a:lnTo>
                      <a:pt x="12" y="12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32" y="65"/>
                    </a:lnTo>
                    <a:lnTo>
                      <a:pt x="32" y="75"/>
                    </a:lnTo>
                    <a:lnTo>
                      <a:pt x="32" y="86"/>
                    </a:lnTo>
                    <a:lnTo>
                      <a:pt x="32" y="97"/>
                    </a:lnTo>
                    <a:lnTo>
                      <a:pt x="32" y="106"/>
                    </a:lnTo>
                    <a:lnTo>
                      <a:pt x="32" y="118"/>
                    </a:lnTo>
                    <a:lnTo>
                      <a:pt x="32" y="127"/>
                    </a:lnTo>
                    <a:lnTo>
                      <a:pt x="32" y="139"/>
                    </a:lnTo>
                    <a:lnTo>
                      <a:pt x="21" y="149"/>
                    </a:lnTo>
                    <a:lnTo>
                      <a:pt x="21" y="1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1824480" y="3106440"/>
                <a:ext cx="81360" cy="137520"/>
              </a:xfrm>
              <a:custGeom>
                <a:avLst/>
                <a:gdLst/>
                <a:ahLst/>
                <a:rect l="l" t="t" r="r" b="b"/>
                <a:pathLst>
                  <a:path w="211" h="350">
                    <a:moveTo>
                      <a:pt x="211" y="0"/>
                    </a:moveTo>
                    <a:lnTo>
                      <a:pt x="190" y="11"/>
                    </a:lnTo>
                    <a:lnTo>
                      <a:pt x="169" y="32"/>
                    </a:lnTo>
                    <a:lnTo>
                      <a:pt x="147" y="43"/>
                    </a:lnTo>
                    <a:lnTo>
                      <a:pt x="127" y="64"/>
                    </a:lnTo>
                    <a:lnTo>
                      <a:pt x="115" y="85"/>
                    </a:lnTo>
                    <a:lnTo>
                      <a:pt x="106" y="107"/>
                    </a:lnTo>
                    <a:lnTo>
                      <a:pt x="84" y="127"/>
                    </a:lnTo>
                    <a:lnTo>
                      <a:pt x="73" y="148"/>
                    </a:lnTo>
                    <a:lnTo>
                      <a:pt x="63" y="179"/>
                    </a:lnTo>
                    <a:lnTo>
                      <a:pt x="52" y="201"/>
                    </a:lnTo>
                    <a:lnTo>
                      <a:pt x="41" y="222"/>
                    </a:lnTo>
                    <a:lnTo>
                      <a:pt x="31" y="254"/>
                    </a:lnTo>
                    <a:lnTo>
                      <a:pt x="31" y="276"/>
                    </a:lnTo>
                    <a:lnTo>
                      <a:pt x="20" y="297"/>
                    </a:lnTo>
                    <a:lnTo>
                      <a:pt x="9" y="31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1733400" y="3244320"/>
                <a:ext cx="90720" cy="221760"/>
              </a:xfrm>
              <a:custGeom>
                <a:avLst/>
                <a:gdLst/>
                <a:ahLst/>
                <a:rect l="l" t="t" r="r" b="b"/>
                <a:pathLst>
                  <a:path w="234" h="572">
                    <a:moveTo>
                      <a:pt x="234" y="0"/>
                    </a:moveTo>
                    <a:lnTo>
                      <a:pt x="212" y="31"/>
                    </a:lnTo>
                    <a:lnTo>
                      <a:pt x="201" y="65"/>
                    </a:lnTo>
                    <a:lnTo>
                      <a:pt x="180" y="106"/>
                    </a:lnTo>
                    <a:lnTo>
                      <a:pt x="170" y="137"/>
                    </a:lnTo>
                    <a:lnTo>
                      <a:pt x="148" y="170"/>
                    </a:lnTo>
                    <a:lnTo>
                      <a:pt x="138" y="212"/>
                    </a:lnTo>
                    <a:lnTo>
                      <a:pt x="127" y="244"/>
                    </a:lnTo>
                    <a:lnTo>
                      <a:pt x="107" y="286"/>
                    </a:lnTo>
                    <a:lnTo>
                      <a:pt x="95" y="319"/>
                    </a:lnTo>
                    <a:lnTo>
                      <a:pt x="85" y="360"/>
                    </a:lnTo>
                    <a:lnTo>
                      <a:pt x="64" y="391"/>
                    </a:lnTo>
                    <a:lnTo>
                      <a:pt x="53" y="425"/>
                    </a:lnTo>
                    <a:lnTo>
                      <a:pt x="43" y="466"/>
                    </a:lnTo>
                    <a:lnTo>
                      <a:pt x="21" y="498"/>
                    </a:lnTo>
                    <a:lnTo>
                      <a:pt x="11" y="541"/>
                    </a:lnTo>
                    <a:lnTo>
                      <a:pt x="0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1478520" y="3321360"/>
                <a:ext cx="135360" cy="153720"/>
              </a:xfrm>
              <a:custGeom>
                <a:avLst/>
                <a:gdLst/>
                <a:ahLst/>
                <a:rect l="l" t="t" r="r" b="b"/>
                <a:pathLst>
                  <a:path w="349" h="392">
                    <a:moveTo>
                      <a:pt x="349" y="392"/>
                    </a:moveTo>
                    <a:lnTo>
                      <a:pt x="317" y="371"/>
                    </a:lnTo>
                    <a:lnTo>
                      <a:pt x="286" y="351"/>
                    </a:lnTo>
                    <a:lnTo>
                      <a:pt x="265" y="340"/>
                    </a:lnTo>
                    <a:lnTo>
                      <a:pt x="233" y="319"/>
                    </a:lnTo>
                    <a:lnTo>
                      <a:pt x="202" y="297"/>
                    </a:lnTo>
                    <a:lnTo>
                      <a:pt x="180" y="276"/>
                    </a:lnTo>
                    <a:lnTo>
                      <a:pt x="148" y="254"/>
                    </a:lnTo>
                    <a:lnTo>
                      <a:pt x="116" y="233"/>
                    </a:lnTo>
                    <a:lnTo>
                      <a:pt x="95" y="212"/>
                    </a:lnTo>
                    <a:lnTo>
                      <a:pt x="74" y="181"/>
                    </a:lnTo>
                    <a:lnTo>
                      <a:pt x="52" y="159"/>
                    </a:lnTo>
                    <a:lnTo>
                      <a:pt x="31" y="127"/>
                    </a:lnTo>
                    <a:lnTo>
                      <a:pt x="21" y="96"/>
                    </a:lnTo>
                    <a:lnTo>
                      <a:pt x="9" y="6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1478520" y="3218760"/>
                <a:ext cx="60840" cy="102600"/>
              </a:xfrm>
              <a:custGeom>
                <a:avLst/>
                <a:gdLst/>
                <a:ahLst/>
                <a:rect l="l" t="t" r="r" b="b"/>
                <a:pathLst>
                  <a:path w="159" h="265">
                    <a:moveTo>
                      <a:pt x="0" y="265"/>
                    </a:moveTo>
                    <a:lnTo>
                      <a:pt x="0" y="244"/>
                    </a:lnTo>
                    <a:lnTo>
                      <a:pt x="0" y="222"/>
                    </a:lnTo>
                    <a:lnTo>
                      <a:pt x="9" y="201"/>
                    </a:lnTo>
                    <a:lnTo>
                      <a:pt x="9" y="192"/>
                    </a:lnTo>
                    <a:lnTo>
                      <a:pt x="21" y="170"/>
                    </a:lnTo>
                    <a:lnTo>
                      <a:pt x="31" y="149"/>
                    </a:lnTo>
                    <a:lnTo>
                      <a:pt x="41" y="138"/>
                    </a:lnTo>
                    <a:lnTo>
                      <a:pt x="52" y="117"/>
                    </a:lnTo>
                    <a:lnTo>
                      <a:pt x="63" y="107"/>
                    </a:lnTo>
                    <a:lnTo>
                      <a:pt x="74" y="86"/>
                    </a:lnTo>
                    <a:lnTo>
                      <a:pt x="84" y="74"/>
                    </a:lnTo>
                    <a:lnTo>
                      <a:pt x="106" y="54"/>
                    </a:lnTo>
                    <a:lnTo>
                      <a:pt x="116" y="43"/>
                    </a:lnTo>
                    <a:lnTo>
                      <a:pt x="127" y="22"/>
                    </a:lnTo>
                    <a:lnTo>
                      <a:pt x="138" y="11"/>
                    </a:lnTo>
                    <a:lnTo>
                      <a:pt x="1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1539720" y="2945880"/>
                <a:ext cx="252000" cy="272880"/>
              </a:xfrm>
              <a:custGeom>
                <a:avLst/>
                <a:gdLst/>
                <a:ahLst/>
                <a:rect l="l" t="t" r="r" b="b"/>
                <a:pathLst>
                  <a:path w="646" h="699">
                    <a:moveTo>
                      <a:pt x="0" y="699"/>
                    </a:moveTo>
                    <a:lnTo>
                      <a:pt x="31" y="656"/>
                    </a:lnTo>
                    <a:lnTo>
                      <a:pt x="74" y="614"/>
                    </a:lnTo>
                    <a:lnTo>
                      <a:pt x="117" y="561"/>
                    </a:lnTo>
                    <a:lnTo>
                      <a:pt x="158" y="520"/>
                    </a:lnTo>
                    <a:lnTo>
                      <a:pt x="201" y="477"/>
                    </a:lnTo>
                    <a:lnTo>
                      <a:pt x="233" y="434"/>
                    </a:lnTo>
                    <a:lnTo>
                      <a:pt x="276" y="393"/>
                    </a:lnTo>
                    <a:lnTo>
                      <a:pt x="317" y="338"/>
                    </a:lnTo>
                    <a:lnTo>
                      <a:pt x="360" y="297"/>
                    </a:lnTo>
                    <a:lnTo>
                      <a:pt x="391" y="254"/>
                    </a:lnTo>
                    <a:lnTo>
                      <a:pt x="434" y="212"/>
                    </a:lnTo>
                    <a:lnTo>
                      <a:pt x="476" y="169"/>
                    </a:lnTo>
                    <a:lnTo>
                      <a:pt x="519" y="127"/>
                    </a:lnTo>
                    <a:lnTo>
                      <a:pt x="562" y="85"/>
                    </a:lnTo>
                    <a:lnTo>
                      <a:pt x="605" y="42"/>
                    </a:lnTo>
                    <a:lnTo>
                      <a:pt x="64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1497240" y="2964240"/>
                <a:ext cx="487800" cy="511200"/>
              </a:xfrm>
              <a:custGeom>
                <a:avLst/>
                <a:gdLst/>
                <a:ahLst/>
                <a:rect l="l" t="t" r="r" b="b"/>
                <a:pathLst>
                  <a:path w="1252" h="1314">
                    <a:moveTo>
                      <a:pt x="1081" y="170"/>
                    </a:moveTo>
                    <a:lnTo>
                      <a:pt x="1093" y="181"/>
                    </a:lnTo>
                    <a:lnTo>
                      <a:pt x="1103" y="190"/>
                    </a:lnTo>
                    <a:lnTo>
                      <a:pt x="1113" y="190"/>
                    </a:lnTo>
                    <a:lnTo>
                      <a:pt x="1124" y="190"/>
                    </a:lnTo>
                    <a:lnTo>
                      <a:pt x="1135" y="202"/>
                    </a:lnTo>
                    <a:lnTo>
                      <a:pt x="1156" y="202"/>
                    </a:lnTo>
                    <a:lnTo>
                      <a:pt x="1167" y="212"/>
                    </a:lnTo>
                    <a:lnTo>
                      <a:pt x="1177" y="212"/>
                    </a:lnTo>
                    <a:lnTo>
                      <a:pt x="1188" y="212"/>
                    </a:lnTo>
                    <a:lnTo>
                      <a:pt x="1199" y="224"/>
                    </a:lnTo>
                    <a:lnTo>
                      <a:pt x="1209" y="224"/>
                    </a:lnTo>
                    <a:lnTo>
                      <a:pt x="1220" y="233"/>
                    </a:lnTo>
                    <a:lnTo>
                      <a:pt x="1231" y="244"/>
                    </a:lnTo>
                    <a:lnTo>
                      <a:pt x="1240" y="255"/>
                    </a:lnTo>
                    <a:lnTo>
                      <a:pt x="1252" y="265"/>
                    </a:lnTo>
                    <a:lnTo>
                      <a:pt x="1252" y="276"/>
                    </a:lnTo>
                    <a:lnTo>
                      <a:pt x="1252" y="287"/>
                    </a:lnTo>
                    <a:lnTo>
                      <a:pt x="1252" y="296"/>
                    </a:lnTo>
                    <a:lnTo>
                      <a:pt x="1252" y="308"/>
                    </a:lnTo>
                    <a:lnTo>
                      <a:pt x="1240" y="317"/>
                    </a:lnTo>
                    <a:lnTo>
                      <a:pt x="1240" y="329"/>
                    </a:lnTo>
                    <a:lnTo>
                      <a:pt x="1231" y="317"/>
                    </a:lnTo>
                    <a:lnTo>
                      <a:pt x="1209" y="317"/>
                    </a:lnTo>
                    <a:lnTo>
                      <a:pt x="1199" y="308"/>
                    </a:lnTo>
                    <a:lnTo>
                      <a:pt x="1177" y="308"/>
                    </a:lnTo>
                    <a:lnTo>
                      <a:pt x="1167" y="308"/>
                    </a:lnTo>
                    <a:lnTo>
                      <a:pt x="1145" y="308"/>
                    </a:lnTo>
                    <a:lnTo>
                      <a:pt x="1135" y="308"/>
                    </a:lnTo>
                    <a:lnTo>
                      <a:pt x="1113" y="308"/>
                    </a:lnTo>
                    <a:lnTo>
                      <a:pt x="1103" y="308"/>
                    </a:lnTo>
                    <a:lnTo>
                      <a:pt x="1081" y="308"/>
                    </a:lnTo>
                    <a:lnTo>
                      <a:pt x="1072" y="317"/>
                    </a:lnTo>
                    <a:lnTo>
                      <a:pt x="1050" y="317"/>
                    </a:lnTo>
                    <a:lnTo>
                      <a:pt x="1040" y="329"/>
                    </a:lnTo>
                    <a:lnTo>
                      <a:pt x="1029" y="329"/>
                    </a:lnTo>
                    <a:lnTo>
                      <a:pt x="1018" y="339"/>
                    </a:lnTo>
                    <a:lnTo>
                      <a:pt x="1008" y="351"/>
                    </a:lnTo>
                    <a:lnTo>
                      <a:pt x="975" y="371"/>
                    </a:lnTo>
                    <a:lnTo>
                      <a:pt x="954" y="403"/>
                    </a:lnTo>
                    <a:lnTo>
                      <a:pt x="933" y="423"/>
                    </a:lnTo>
                    <a:lnTo>
                      <a:pt x="923" y="456"/>
                    </a:lnTo>
                    <a:lnTo>
                      <a:pt x="902" y="478"/>
                    </a:lnTo>
                    <a:lnTo>
                      <a:pt x="891" y="509"/>
                    </a:lnTo>
                    <a:lnTo>
                      <a:pt x="870" y="541"/>
                    </a:lnTo>
                    <a:lnTo>
                      <a:pt x="859" y="562"/>
                    </a:lnTo>
                    <a:lnTo>
                      <a:pt x="848" y="593"/>
                    </a:lnTo>
                    <a:lnTo>
                      <a:pt x="839" y="625"/>
                    </a:lnTo>
                    <a:lnTo>
                      <a:pt x="827" y="657"/>
                    </a:lnTo>
                    <a:lnTo>
                      <a:pt x="817" y="689"/>
                    </a:lnTo>
                    <a:lnTo>
                      <a:pt x="806" y="721"/>
                    </a:lnTo>
                    <a:lnTo>
                      <a:pt x="796" y="743"/>
                    </a:lnTo>
                    <a:lnTo>
                      <a:pt x="775" y="774"/>
                    </a:lnTo>
                    <a:lnTo>
                      <a:pt x="764" y="806"/>
                    </a:lnTo>
                    <a:lnTo>
                      <a:pt x="753" y="827"/>
                    </a:lnTo>
                    <a:lnTo>
                      <a:pt x="732" y="858"/>
                    </a:lnTo>
                    <a:lnTo>
                      <a:pt x="721" y="891"/>
                    </a:lnTo>
                    <a:lnTo>
                      <a:pt x="712" y="922"/>
                    </a:lnTo>
                    <a:lnTo>
                      <a:pt x="700" y="954"/>
                    </a:lnTo>
                    <a:lnTo>
                      <a:pt x="678" y="976"/>
                    </a:lnTo>
                    <a:lnTo>
                      <a:pt x="669" y="1007"/>
                    </a:lnTo>
                    <a:lnTo>
                      <a:pt x="658" y="1040"/>
                    </a:lnTo>
                    <a:lnTo>
                      <a:pt x="648" y="1071"/>
                    </a:lnTo>
                    <a:lnTo>
                      <a:pt x="626" y="1103"/>
                    </a:lnTo>
                    <a:lnTo>
                      <a:pt x="616" y="1124"/>
                    </a:lnTo>
                    <a:lnTo>
                      <a:pt x="605" y="1155"/>
                    </a:lnTo>
                    <a:lnTo>
                      <a:pt x="583" y="1187"/>
                    </a:lnTo>
                    <a:lnTo>
                      <a:pt x="573" y="1219"/>
                    </a:lnTo>
                    <a:lnTo>
                      <a:pt x="562" y="1241"/>
                    </a:lnTo>
                    <a:lnTo>
                      <a:pt x="541" y="1273"/>
                    </a:lnTo>
                    <a:lnTo>
                      <a:pt x="531" y="1283"/>
                    </a:lnTo>
                    <a:lnTo>
                      <a:pt x="519" y="1293"/>
                    </a:lnTo>
                    <a:lnTo>
                      <a:pt x="510" y="1293"/>
                    </a:lnTo>
                    <a:lnTo>
                      <a:pt x="510" y="1305"/>
                    </a:lnTo>
                    <a:lnTo>
                      <a:pt x="498" y="1305"/>
                    </a:lnTo>
                    <a:lnTo>
                      <a:pt x="488" y="1305"/>
                    </a:lnTo>
                    <a:lnTo>
                      <a:pt x="478" y="1305"/>
                    </a:lnTo>
                    <a:lnTo>
                      <a:pt x="478" y="1314"/>
                    </a:lnTo>
                    <a:lnTo>
                      <a:pt x="467" y="1314"/>
                    </a:lnTo>
                    <a:lnTo>
                      <a:pt x="456" y="1314"/>
                    </a:lnTo>
                    <a:lnTo>
                      <a:pt x="456" y="1305"/>
                    </a:lnTo>
                    <a:lnTo>
                      <a:pt x="446" y="1305"/>
                    </a:lnTo>
                    <a:lnTo>
                      <a:pt x="435" y="1305"/>
                    </a:lnTo>
                    <a:lnTo>
                      <a:pt x="435" y="1293"/>
                    </a:lnTo>
                    <a:lnTo>
                      <a:pt x="404" y="1283"/>
                    </a:lnTo>
                    <a:lnTo>
                      <a:pt x="371" y="1262"/>
                    </a:lnTo>
                    <a:lnTo>
                      <a:pt x="340" y="1251"/>
                    </a:lnTo>
                    <a:lnTo>
                      <a:pt x="297" y="1230"/>
                    </a:lnTo>
                    <a:lnTo>
                      <a:pt x="265" y="1208"/>
                    </a:lnTo>
                    <a:lnTo>
                      <a:pt x="234" y="1187"/>
                    </a:lnTo>
                    <a:lnTo>
                      <a:pt x="202" y="1166"/>
                    </a:lnTo>
                    <a:lnTo>
                      <a:pt x="170" y="1146"/>
                    </a:lnTo>
                    <a:lnTo>
                      <a:pt x="138" y="1124"/>
                    </a:lnTo>
                    <a:lnTo>
                      <a:pt x="107" y="1092"/>
                    </a:lnTo>
                    <a:lnTo>
                      <a:pt x="86" y="1071"/>
                    </a:lnTo>
                    <a:lnTo>
                      <a:pt x="64" y="1040"/>
                    </a:lnTo>
                    <a:lnTo>
                      <a:pt x="43" y="1007"/>
                    </a:lnTo>
                    <a:lnTo>
                      <a:pt x="22" y="976"/>
                    </a:lnTo>
                    <a:lnTo>
                      <a:pt x="11" y="933"/>
                    </a:lnTo>
                    <a:lnTo>
                      <a:pt x="0" y="901"/>
                    </a:lnTo>
                    <a:lnTo>
                      <a:pt x="11" y="879"/>
                    </a:lnTo>
                    <a:lnTo>
                      <a:pt x="11" y="870"/>
                    </a:lnTo>
                    <a:lnTo>
                      <a:pt x="22" y="849"/>
                    </a:lnTo>
                    <a:lnTo>
                      <a:pt x="22" y="838"/>
                    </a:lnTo>
                    <a:lnTo>
                      <a:pt x="32" y="827"/>
                    </a:lnTo>
                    <a:lnTo>
                      <a:pt x="32" y="806"/>
                    </a:lnTo>
                    <a:lnTo>
                      <a:pt x="43" y="795"/>
                    </a:lnTo>
                    <a:lnTo>
                      <a:pt x="54" y="786"/>
                    </a:lnTo>
                    <a:lnTo>
                      <a:pt x="64" y="764"/>
                    </a:lnTo>
                    <a:lnTo>
                      <a:pt x="75" y="752"/>
                    </a:lnTo>
                    <a:lnTo>
                      <a:pt x="75" y="743"/>
                    </a:lnTo>
                    <a:lnTo>
                      <a:pt x="86" y="731"/>
                    </a:lnTo>
                    <a:lnTo>
                      <a:pt x="96" y="721"/>
                    </a:lnTo>
                    <a:lnTo>
                      <a:pt x="107" y="700"/>
                    </a:lnTo>
                    <a:lnTo>
                      <a:pt x="117" y="689"/>
                    </a:lnTo>
                    <a:lnTo>
                      <a:pt x="138" y="679"/>
                    </a:lnTo>
                    <a:lnTo>
                      <a:pt x="150" y="668"/>
                    </a:lnTo>
                    <a:lnTo>
                      <a:pt x="159" y="657"/>
                    </a:lnTo>
                    <a:lnTo>
                      <a:pt x="181" y="636"/>
                    </a:lnTo>
                    <a:lnTo>
                      <a:pt x="191" y="625"/>
                    </a:lnTo>
                    <a:lnTo>
                      <a:pt x="202" y="614"/>
                    </a:lnTo>
                    <a:lnTo>
                      <a:pt x="213" y="593"/>
                    </a:lnTo>
                    <a:lnTo>
                      <a:pt x="224" y="584"/>
                    </a:lnTo>
                    <a:lnTo>
                      <a:pt x="244" y="572"/>
                    </a:lnTo>
                    <a:lnTo>
                      <a:pt x="256" y="550"/>
                    </a:lnTo>
                    <a:lnTo>
                      <a:pt x="265" y="541"/>
                    </a:lnTo>
                    <a:lnTo>
                      <a:pt x="277" y="519"/>
                    </a:lnTo>
                    <a:lnTo>
                      <a:pt x="286" y="509"/>
                    </a:lnTo>
                    <a:lnTo>
                      <a:pt x="308" y="498"/>
                    </a:lnTo>
                    <a:lnTo>
                      <a:pt x="319" y="487"/>
                    </a:lnTo>
                    <a:lnTo>
                      <a:pt x="329" y="466"/>
                    </a:lnTo>
                    <a:lnTo>
                      <a:pt x="340" y="456"/>
                    </a:lnTo>
                    <a:lnTo>
                      <a:pt x="361" y="423"/>
                    </a:lnTo>
                    <a:lnTo>
                      <a:pt x="392" y="403"/>
                    </a:lnTo>
                    <a:lnTo>
                      <a:pt x="414" y="371"/>
                    </a:lnTo>
                    <a:lnTo>
                      <a:pt x="435" y="339"/>
                    </a:lnTo>
                    <a:lnTo>
                      <a:pt x="467" y="308"/>
                    </a:lnTo>
                    <a:lnTo>
                      <a:pt x="488" y="287"/>
                    </a:lnTo>
                    <a:lnTo>
                      <a:pt x="510" y="255"/>
                    </a:lnTo>
                    <a:lnTo>
                      <a:pt x="541" y="224"/>
                    </a:lnTo>
                    <a:lnTo>
                      <a:pt x="562" y="190"/>
                    </a:lnTo>
                    <a:lnTo>
                      <a:pt x="594" y="170"/>
                    </a:lnTo>
                    <a:lnTo>
                      <a:pt x="616" y="138"/>
                    </a:lnTo>
                    <a:lnTo>
                      <a:pt x="648" y="106"/>
                    </a:lnTo>
                    <a:lnTo>
                      <a:pt x="669" y="85"/>
                    </a:lnTo>
                    <a:lnTo>
                      <a:pt x="700" y="53"/>
                    </a:lnTo>
                    <a:lnTo>
                      <a:pt x="721" y="22"/>
                    </a:lnTo>
                    <a:lnTo>
                      <a:pt x="743" y="0"/>
                    </a:lnTo>
                    <a:lnTo>
                      <a:pt x="764" y="10"/>
                    </a:lnTo>
                    <a:lnTo>
                      <a:pt x="785" y="31"/>
                    </a:lnTo>
                    <a:lnTo>
                      <a:pt x="806" y="43"/>
                    </a:lnTo>
                    <a:lnTo>
                      <a:pt x="827" y="53"/>
                    </a:lnTo>
                    <a:lnTo>
                      <a:pt x="848" y="63"/>
                    </a:lnTo>
                    <a:lnTo>
                      <a:pt x="870" y="74"/>
                    </a:lnTo>
                    <a:lnTo>
                      <a:pt x="891" y="85"/>
                    </a:lnTo>
                    <a:lnTo>
                      <a:pt x="912" y="95"/>
                    </a:lnTo>
                    <a:lnTo>
                      <a:pt x="933" y="106"/>
                    </a:lnTo>
                    <a:lnTo>
                      <a:pt x="954" y="117"/>
                    </a:lnTo>
                    <a:lnTo>
                      <a:pt x="975" y="127"/>
                    </a:lnTo>
                    <a:lnTo>
                      <a:pt x="997" y="138"/>
                    </a:lnTo>
                    <a:lnTo>
                      <a:pt x="1018" y="149"/>
                    </a:lnTo>
                    <a:lnTo>
                      <a:pt x="1040" y="159"/>
                    </a:lnTo>
                    <a:lnTo>
                      <a:pt x="1061" y="159"/>
                    </a:lnTo>
                    <a:lnTo>
                      <a:pt x="1081" y="170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1796400" y="3099600"/>
                <a:ext cx="92880" cy="177120"/>
              </a:xfrm>
              <a:custGeom>
                <a:avLst/>
                <a:gdLst/>
                <a:ahLst/>
                <a:rect l="l" t="t" r="r" b="b"/>
                <a:pathLst>
                  <a:path w="244" h="455">
                    <a:moveTo>
                      <a:pt x="244" y="0"/>
                    </a:moveTo>
                    <a:lnTo>
                      <a:pt x="211" y="20"/>
                    </a:lnTo>
                    <a:lnTo>
                      <a:pt x="190" y="52"/>
                    </a:lnTo>
                    <a:lnTo>
                      <a:pt x="169" y="72"/>
                    </a:lnTo>
                    <a:lnTo>
                      <a:pt x="159" y="105"/>
                    </a:lnTo>
                    <a:lnTo>
                      <a:pt x="138" y="127"/>
                    </a:lnTo>
                    <a:lnTo>
                      <a:pt x="127" y="158"/>
                    </a:lnTo>
                    <a:lnTo>
                      <a:pt x="106" y="190"/>
                    </a:lnTo>
                    <a:lnTo>
                      <a:pt x="95" y="211"/>
                    </a:lnTo>
                    <a:lnTo>
                      <a:pt x="84" y="242"/>
                    </a:lnTo>
                    <a:lnTo>
                      <a:pt x="75" y="274"/>
                    </a:lnTo>
                    <a:lnTo>
                      <a:pt x="63" y="306"/>
                    </a:lnTo>
                    <a:lnTo>
                      <a:pt x="53" y="338"/>
                    </a:lnTo>
                    <a:lnTo>
                      <a:pt x="42" y="370"/>
                    </a:lnTo>
                    <a:lnTo>
                      <a:pt x="32" y="392"/>
                    </a:lnTo>
                    <a:lnTo>
                      <a:pt x="11" y="423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1707480" y="3277080"/>
                <a:ext cx="88920" cy="181800"/>
              </a:xfrm>
              <a:custGeom>
                <a:avLst/>
                <a:gdLst/>
                <a:ahLst/>
                <a:rect l="l" t="t" r="r" b="b"/>
                <a:pathLst>
                  <a:path w="223" h="467">
                    <a:moveTo>
                      <a:pt x="223" y="0"/>
                    </a:moveTo>
                    <a:lnTo>
                      <a:pt x="212" y="21"/>
                    </a:lnTo>
                    <a:lnTo>
                      <a:pt x="191" y="52"/>
                    </a:lnTo>
                    <a:lnTo>
                      <a:pt x="180" y="85"/>
                    </a:lnTo>
                    <a:lnTo>
                      <a:pt x="171" y="116"/>
                    </a:lnTo>
                    <a:lnTo>
                      <a:pt x="159" y="148"/>
                    </a:lnTo>
                    <a:lnTo>
                      <a:pt x="137" y="170"/>
                    </a:lnTo>
                    <a:lnTo>
                      <a:pt x="128" y="201"/>
                    </a:lnTo>
                    <a:lnTo>
                      <a:pt x="117" y="234"/>
                    </a:lnTo>
                    <a:lnTo>
                      <a:pt x="107" y="265"/>
                    </a:lnTo>
                    <a:lnTo>
                      <a:pt x="85" y="297"/>
                    </a:lnTo>
                    <a:lnTo>
                      <a:pt x="75" y="318"/>
                    </a:lnTo>
                    <a:lnTo>
                      <a:pt x="64" y="349"/>
                    </a:lnTo>
                    <a:lnTo>
                      <a:pt x="42" y="381"/>
                    </a:lnTo>
                    <a:lnTo>
                      <a:pt x="32" y="413"/>
                    </a:lnTo>
                    <a:lnTo>
                      <a:pt x="21" y="435"/>
                    </a:lnTo>
                    <a:lnTo>
                      <a:pt x="0" y="4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1497240" y="3314160"/>
                <a:ext cx="170280" cy="15156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435" y="392"/>
                    </a:moveTo>
                    <a:lnTo>
                      <a:pt x="404" y="382"/>
                    </a:lnTo>
                    <a:lnTo>
                      <a:pt x="371" y="361"/>
                    </a:lnTo>
                    <a:lnTo>
                      <a:pt x="340" y="350"/>
                    </a:lnTo>
                    <a:lnTo>
                      <a:pt x="297" y="329"/>
                    </a:lnTo>
                    <a:lnTo>
                      <a:pt x="265" y="307"/>
                    </a:lnTo>
                    <a:lnTo>
                      <a:pt x="234" y="286"/>
                    </a:lnTo>
                    <a:lnTo>
                      <a:pt x="202" y="265"/>
                    </a:lnTo>
                    <a:lnTo>
                      <a:pt x="170" y="245"/>
                    </a:lnTo>
                    <a:lnTo>
                      <a:pt x="138" y="223"/>
                    </a:lnTo>
                    <a:lnTo>
                      <a:pt x="107" y="191"/>
                    </a:lnTo>
                    <a:lnTo>
                      <a:pt x="86" y="170"/>
                    </a:lnTo>
                    <a:lnTo>
                      <a:pt x="64" y="139"/>
                    </a:lnTo>
                    <a:lnTo>
                      <a:pt x="43" y="106"/>
                    </a:lnTo>
                    <a:lnTo>
                      <a:pt x="22" y="75"/>
                    </a:lnTo>
                    <a:lnTo>
                      <a:pt x="1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1497240" y="3227760"/>
                <a:ext cx="54000" cy="8604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0" y="222"/>
                    </a:moveTo>
                    <a:lnTo>
                      <a:pt x="11" y="200"/>
                    </a:lnTo>
                    <a:lnTo>
                      <a:pt x="11" y="191"/>
                    </a:lnTo>
                    <a:lnTo>
                      <a:pt x="22" y="170"/>
                    </a:lnTo>
                    <a:lnTo>
                      <a:pt x="22" y="159"/>
                    </a:lnTo>
                    <a:lnTo>
                      <a:pt x="32" y="148"/>
                    </a:lnTo>
                    <a:lnTo>
                      <a:pt x="32" y="127"/>
                    </a:lnTo>
                    <a:lnTo>
                      <a:pt x="43" y="116"/>
                    </a:lnTo>
                    <a:lnTo>
                      <a:pt x="54" y="107"/>
                    </a:lnTo>
                    <a:lnTo>
                      <a:pt x="64" y="85"/>
                    </a:lnTo>
                    <a:lnTo>
                      <a:pt x="75" y="73"/>
                    </a:lnTo>
                    <a:lnTo>
                      <a:pt x="75" y="64"/>
                    </a:lnTo>
                    <a:lnTo>
                      <a:pt x="86" y="52"/>
                    </a:lnTo>
                    <a:lnTo>
                      <a:pt x="96" y="42"/>
                    </a:lnTo>
                    <a:lnTo>
                      <a:pt x="107" y="21"/>
                    </a:lnTo>
                    <a:lnTo>
                      <a:pt x="117" y="10"/>
                    </a:lnTo>
                    <a:lnTo>
                      <a:pt x="1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1551240" y="3141360"/>
                <a:ext cx="79200" cy="86040"/>
              </a:xfrm>
              <a:custGeom>
                <a:avLst/>
                <a:gdLst/>
                <a:ahLst/>
                <a:rect l="l" t="t" r="r" b="b"/>
                <a:pathLst>
                  <a:path w="202" h="223">
                    <a:moveTo>
                      <a:pt x="0" y="223"/>
                    </a:moveTo>
                    <a:lnTo>
                      <a:pt x="12" y="212"/>
                    </a:lnTo>
                    <a:lnTo>
                      <a:pt x="21" y="201"/>
                    </a:lnTo>
                    <a:lnTo>
                      <a:pt x="43" y="180"/>
                    </a:lnTo>
                    <a:lnTo>
                      <a:pt x="53" y="169"/>
                    </a:lnTo>
                    <a:lnTo>
                      <a:pt x="64" y="158"/>
                    </a:lnTo>
                    <a:lnTo>
                      <a:pt x="75" y="137"/>
                    </a:lnTo>
                    <a:lnTo>
                      <a:pt x="86" y="128"/>
                    </a:lnTo>
                    <a:lnTo>
                      <a:pt x="106" y="116"/>
                    </a:lnTo>
                    <a:lnTo>
                      <a:pt x="118" y="94"/>
                    </a:lnTo>
                    <a:lnTo>
                      <a:pt x="127" y="85"/>
                    </a:lnTo>
                    <a:lnTo>
                      <a:pt x="139" y="63"/>
                    </a:lnTo>
                    <a:lnTo>
                      <a:pt x="148" y="53"/>
                    </a:lnTo>
                    <a:lnTo>
                      <a:pt x="170" y="42"/>
                    </a:lnTo>
                    <a:lnTo>
                      <a:pt x="181" y="31"/>
                    </a:lnTo>
                    <a:lnTo>
                      <a:pt x="191" y="1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1630440" y="296424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403" h="456">
                    <a:moveTo>
                      <a:pt x="0" y="456"/>
                    </a:moveTo>
                    <a:lnTo>
                      <a:pt x="21" y="423"/>
                    </a:lnTo>
                    <a:lnTo>
                      <a:pt x="52" y="403"/>
                    </a:lnTo>
                    <a:lnTo>
                      <a:pt x="74" y="371"/>
                    </a:lnTo>
                    <a:lnTo>
                      <a:pt x="95" y="339"/>
                    </a:lnTo>
                    <a:lnTo>
                      <a:pt x="127" y="308"/>
                    </a:lnTo>
                    <a:lnTo>
                      <a:pt x="148" y="287"/>
                    </a:lnTo>
                    <a:lnTo>
                      <a:pt x="170" y="255"/>
                    </a:lnTo>
                    <a:lnTo>
                      <a:pt x="201" y="224"/>
                    </a:lnTo>
                    <a:lnTo>
                      <a:pt x="222" y="190"/>
                    </a:lnTo>
                    <a:lnTo>
                      <a:pt x="254" y="170"/>
                    </a:lnTo>
                    <a:lnTo>
                      <a:pt x="276" y="138"/>
                    </a:lnTo>
                    <a:lnTo>
                      <a:pt x="308" y="106"/>
                    </a:lnTo>
                    <a:lnTo>
                      <a:pt x="329" y="85"/>
                    </a:lnTo>
                    <a:lnTo>
                      <a:pt x="360" y="53"/>
                    </a:lnTo>
                    <a:lnTo>
                      <a:pt x="381" y="22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1786680" y="29642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338" h="170">
                    <a:moveTo>
                      <a:pt x="0" y="0"/>
                    </a:moveTo>
                    <a:lnTo>
                      <a:pt x="21" y="10"/>
                    </a:lnTo>
                    <a:lnTo>
                      <a:pt x="42" y="31"/>
                    </a:lnTo>
                    <a:lnTo>
                      <a:pt x="63" y="43"/>
                    </a:lnTo>
                    <a:lnTo>
                      <a:pt x="84" y="53"/>
                    </a:lnTo>
                    <a:lnTo>
                      <a:pt x="105" y="63"/>
                    </a:lnTo>
                    <a:lnTo>
                      <a:pt x="127" y="74"/>
                    </a:lnTo>
                    <a:lnTo>
                      <a:pt x="148" y="85"/>
                    </a:lnTo>
                    <a:lnTo>
                      <a:pt x="169" y="95"/>
                    </a:lnTo>
                    <a:lnTo>
                      <a:pt x="190" y="106"/>
                    </a:lnTo>
                    <a:lnTo>
                      <a:pt x="211" y="117"/>
                    </a:lnTo>
                    <a:lnTo>
                      <a:pt x="232" y="127"/>
                    </a:lnTo>
                    <a:lnTo>
                      <a:pt x="254" y="138"/>
                    </a:lnTo>
                    <a:lnTo>
                      <a:pt x="275" y="149"/>
                    </a:lnTo>
                    <a:lnTo>
                      <a:pt x="297" y="159"/>
                    </a:lnTo>
                    <a:lnTo>
                      <a:pt x="318" y="159"/>
                    </a:lnTo>
                    <a:lnTo>
                      <a:pt x="338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1200600" y="3078720"/>
                <a:ext cx="193680" cy="342720"/>
              </a:xfrm>
              <a:custGeom>
                <a:avLst/>
                <a:gdLst/>
                <a:ahLst/>
                <a:rect l="l" t="t" r="r" b="b"/>
                <a:pathLst>
                  <a:path w="497" h="880">
                    <a:moveTo>
                      <a:pt x="222" y="86"/>
                    </a:moveTo>
                    <a:lnTo>
                      <a:pt x="243" y="86"/>
                    </a:lnTo>
                    <a:lnTo>
                      <a:pt x="254" y="86"/>
                    </a:lnTo>
                    <a:lnTo>
                      <a:pt x="275" y="75"/>
                    </a:lnTo>
                    <a:lnTo>
                      <a:pt x="286" y="75"/>
                    </a:lnTo>
                    <a:lnTo>
                      <a:pt x="307" y="64"/>
                    </a:lnTo>
                    <a:lnTo>
                      <a:pt x="317" y="64"/>
                    </a:lnTo>
                    <a:lnTo>
                      <a:pt x="338" y="64"/>
                    </a:lnTo>
                    <a:lnTo>
                      <a:pt x="359" y="55"/>
                    </a:lnTo>
                    <a:lnTo>
                      <a:pt x="370" y="55"/>
                    </a:lnTo>
                    <a:lnTo>
                      <a:pt x="392" y="55"/>
                    </a:lnTo>
                    <a:lnTo>
                      <a:pt x="402" y="55"/>
                    </a:lnTo>
                    <a:lnTo>
                      <a:pt x="424" y="55"/>
                    </a:lnTo>
                    <a:lnTo>
                      <a:pt x="434" y="55"/>
                    </a:lnTo>
                    <a:lnTo>
                      <a:pt x="456" y="55"/>
                    </a:lnTo>
                    <a:lnTo>
                      <a:pt x="465" y="55"/>
                    </a:lnTo>
                    <a:lnTo>
                      <a:pt x="487" y="64"/>
                    </a:lnTo>
                    <a:lnTo>
                      <a:pt x="497" y="64"/>
                    </a:lnTo>
                    <a:lnTo>
                      <a:pt x="497" y="75"/>
                    </a:lnTo>
                    <a:lnTo>
                      <a:pt x="497" y="86"/>
                    </a:lnTo>
                    <a:lnTo>
                      <a:pt x="497" y="96"/>
                    </a:lnTo>
                    <a:lnTo>
                      <a:pt x="497" y="107"/>
                    </a:lnTo>
                    <a:lnTo>
                      <a:pt x="497" y="118"/>
                    </a:lnTo>
                    <a:lnTo>
                      <a:pt x="497" y="127"/>
                    </a:lnTo>
                    <a:lnTo>
                      <a:pt x="465" y="170"/>
                    </a:lnTo>
                    <a:lnTo>
                      <a:pt x="434" y="213"/>
                    </a:lnTo>
                    <a:lnTo>
                      <a:pt x="413" y="254"/>
                    </a:lnTo>
                    <a:lnTo>
                      <a:pt x="381" y="297"/>
                    </a:lnTo>
                    <a:lnTo>
                      <a:pt x="350" y="351"/>
                    </a:lnTo>
                    <a:lnTo>
                      <a:pt x="329" y="393"/>
                    </a:lnTo>
                    <a:lnTo>
                      <a:pt x="297" y="435"/>
                    </a:lnTo>
                    <a:lnTo>
                      <a:pt x="275" y="478"/>
                    </a:lnTo>
                    <a:lnTo>
                      <a:pt x="254" y="520"/>
                    </a:lnTo>
                    <a:lnTo>
                      <a:pt x="222" y="562"/>
                    </a:lnTo>
                    <a:lnTo>
                      <a:pt x="200" y="605"/>
                    </a:lnTo>
                    <a:lnTo>
                      <a:pt x="179" y="658"/>
                    </a:lnTo>
                    <a:lnTo>
                      <a:pt x="148" y="701"/>
                    </a:lnTo>
                    <a:lnTo>
                      <a:pt x="127" y="744"/>
                    </a:lnTo>
                    <a:lnTo>
                      <a:pt x="105" y="796"/>
                    </a:lnTo>
                    <a:lnTo>
                      <a:pt x="84" y="838"/>
                    </a:lnTo>
                    <a:lnTo>
                      <a:pt x="84" y="850"/>
                    </a:lnTo>
                    <a:lnTo>
                      <a:pt x="73" y="850"/>
                    </a:lnTo>
                    <a:lnTo>
                      <a:pt x="73" y="859"/>
                    </a:lnTo>
                    <a:lnTo>
                      <a:pt x="63" y="859"/>
                    </a:lnTo>
                    <a:lnTo>
                      <a:pt x="63" y="870"/>
                    </a:lnTo>
                    <a:lnTo>
                      <a:pt x="52" y="870"/>
                    </a:lnTo>
                    <a:lnTo>
                      <a:pt x="52" y="880"/>
                    </a:lnTo>
                    <a:lnTo>
                      <a:pt x="42" y="880"/>
                    </a:lnTo>
                    <a:lnTo>
                      <a:pt x="30" y="880"/>
                    </a:lnTo>
                    <a:lnTo>
                      <a:pt x="21" y="880"/>
                    </a:lnTo>
                    <a:lnTo>
                      <a:pt x="21" y="870"/>
                    </a:lnTo>
                    <a:lnTo>
                      <a:pt x="9" y="870"/>
                    </a:lnTo>
                    <a:lnTo>
                      <a:pt x="9" y="859"/>
                    </a:lnTo>
                    <a:lnTo>
                      <a:pt x="0" y="859"/>
                    </a:lnTo>
                    <a:lnTo>
                      <a:pt x="0" y="850"/>
                    </a:lnTo>
                    <a:lnTo>
                      <a:pt x="0" y="838"/>
                    </a:lnTo>
                    <a:lnTo>
                      <a:pt x="0" y="828"/>
                    </a:lnTo>
                    <a:lnTo>
                      <a:pt x="0" y="816"/>
                    </a:lnTo>
                    <a:lnTo>
                      <a:pt x="0" y="764"/>
                    </a:lnTo>
                    <a:lnTo>
                      <a:pt x="0" y="722"/>
                    </a:lnTo>
                    <a:lnTo>
                      <a:pt x="0" y="669"/>
                    </a:lnTo>
                    <a:lnTo>
                      <a:pt x="0" y="626"/>
                    </a:lnTo>
                    <a:lnTo>
                      <a:pt x="0" y="574"/>
                    </a:lnTo>
                    <a:lnTo>
                      <a:pt x="0" y="520"/>
                    </a:lnTo>
                    <a:lnTo>
                      <a:pt x="0" y="468"/>
                    </a:lnTo>
                    <a:lnTo>
                      <a:pt x="9" y="425"/>
                    </a:lnTo>
                    <a:lnTo>
                      <a:pt x="9" y="372"/>
                    </a:lnTo>
                    <a:lnTo>
                      <a:pt x="9" y="318"/>
                    </a:lnTo>
                    <a:lnTo>
                      <a:pt x="9" y="266"/>
                    </a:lnTo>
                    <a:lnTo>
                      <a:pt x="9" y="223"/>
                    </a:lnTo>
                    <a:lnTo>
                      <a:pt x="9" y="170"/>
                    </a:lnTo>
                    <a:lnTo>
                      <a:pt x="9" y="127"/>
                    </a:lnTo>
                    <a:lnTo>
                      <a:pt x="0" y="75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5" y="12"/>
                    </a:lnTo>
                    <a:lnTo>
                      <a:pt x="105" y="12"/>
                    </a:lnTo>
                    <a:lnTo>
                      <a:pt x="127" y="12"/>
                    </a:lnTo>
                    <a:lnTo>
                      <a:pt x="136" y="21"/>
                    </a:lnTo>
                    <a:lnTo>
                      <a:pt x="148" y="33"/>
                    </a:lnTo>
                    <a:lnTo>
                      <a:pt x="158" y="33"/>
                    </a:lnTo>
                    <a:lnTo>
                      <a:pt x="169" y="43"/>
                    </a:lnTo>
                    <a:lnTo>
                      <a:pt x="179" y="55"/>
                    </a:lnTo>
                    <a:lnTo>
                      <a:pt x="190" y="55"/>
                    </a:lnTo>
                    <a:lnTo>
                      <a:pt x="200" y="64"/>
                    </a:lnTo>
                    <a:lnTo>
                      <a:pt x="211" y="75"/>
                    </a:lnTo>
                    <a:lnTo>
                      <a:pt x="222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1233720" y="3127680"/>
                <a:ext cx="160920" cy="275040"/>
              </a:xfrm>
              <a:custGeom>
                <a:avLst/>
                <a:gdLst/>
                <a:ahLst/>
                <a:rect l="l" t="t" r="r" b="b"/>
                <a:pathLst>
                  <a:path w="413" h="711">
                    <a:moveTo>
                      <a:pt x="413" y="0"/>
                    </a:moveTo>
                    <a:lnTo>
                      <a:pt x="381" y="43"/>
                    </a:lnTo>
                    <a:lnTo>
                      <a:pt x="350" y="86"/>
                    </a:lnTo>
                    <a:lnTo>
                      <a:pt x="329" y="127"/>
                    </a:lnTo>
                    <a:lnTo>
                      <a:pt x="297" y="170"/>
                    </a:lnTo>
                    <a:lnTo>
                      <a:pt x="266" y="224"/>
                    </a:lnTo>
                    <a:lnTo>
                      <a:pt x="245" y="266"/>
                    </a:lnTo>
                    <a:lnTo>
                      <a:pt x="213" y="308"/>
                    </a:lnTo>
                    <a:lnTo>
                      <a:pt x="191" y="351"/>
                    </a:lnTo>
                    <a:lnTo>
                      <a:pt x="170" y="393"/>
                    </a:lnTo>
                    <a:lnTo>
                      <a:pt x="138" y="435"/>
                    </a:lnTo>
                    <a:lnTo>
                      <a:pt x="116" y="478"/>
                    </a:lnTo>
                    <a:lnTo>
                      <a:pt x="95" y="531"/>
                    </a:lnTo>
                    <a:lnTo>
                      <a:pt x="64" y="574"/>
                    </a:lnTo>
                    <a:lnTo>
                      <a:pt x="43" y="617"/>
                    </a:lnTo>
                    <a:lnTo>
                      <a:pt x="21" y="66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1200600" y="3090240"/>
                <a:ext cx="4680" cy="305640"/>
              </a:xfrm>
              <a:custGeom>
                <a:avLst/>
                <a:gdLst/>
                <a:ahLst/>
                <a:rect l="l" t="t" r="r" b="b"/>
                <a:pathLst>
                  <a:path w="9" h="783">
                    <a:moveTo>
                      <a:pt x="0" y="783"/>
                    </a:moveTo>
                    <a:lnTo>
                      <a:pt x="0" y="731"/>
                    </a:lnTo>
                    <a:lnTo>
                      <a:pt x="0" y="689"/>
                    </a:lnTo>
                    <a:lnTo>
                      <a:pt x="0" y="636"/>
                    </a:lnTo>
                    <a:lnTo>
                      <a:pt x="0" y="593"/>
                    </a:lnTo>
                    <a:lnTo>
                      <a:pt x="0" y="541"/>
                    </a:lnTo>
                    <a:lnTo>
                      <a:pt x="0" y="487"/>
                    </a:lnTo>
                    <a:lnTo>
                      <a:pt x="0" y="435"/>
                    </a:lnTo>
                    <a:lnTo>
                      <a:pt x="9" y="392"/>
                    </a:lnTo>
                    <a:lnTo>
                      <a:pt x="9" y="339"/>
                    </a:lnTo>
                    <a:lnTo>
                      <a:pt x="9" y="285"/>
                    </a:lnTo>
                    <a:lnTo>
                      <a:pt x="9" y="233"/>
                    </a:lnTo>
                    <a:lnTo>
                      <a:pt x="9" y="190"/>
                    </a:lnTo>
                    <a:lnTo>
                      <a:pt x="9" y="137"/>
                    </a:lnTo>
                    <a:lnTo>
                      <a:pt x="9" y="9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1221840" y="3099600"/>
                <a:ext cx="151920" cy="275040"/>
              </a:xfrm>
              <a:custGeom>
                <a:avLst/>
                <a:gdLst/>
                <a:ahLst/>
                <a:rect l="l" t="t" r="r" b="b"/>
                <a:pathLst>
                  <a:path w="392" h="709">
                    <a:moveTo>
                      <a:pt x="159" y="105"/>
                    </a:moveTo>
                    <a:lnTo>
                      <a:pt x="170" y="94"/>
                    </a:lnTo>
                    <a:lnTo>
                      <a:pt x="180" y="94"/>
                    </a:lnTo>
                    <a:lnTo>
                      <a:pt x="191" y="94"/>
                    </a:lnTo>
                    <a:lnTo>
                      <a:pt x="202" y="84"/>
                    </a:lnTo>
                    <a:lnTo>
                      <a:pt x="212" y="84"/>
                    </a:lnTo>
                    <a:lnTo>
                      <a:pt x="223" y="84"/>
                    </a:lnTo>
                    <a:lnTo>
                      <a:pt x="234" y="72"/>
                    </a:lnTo>
                    <a:lnTo>
                      <a:pt x="255" y="72"/>
                    </a:lnTo>
                    <a:lnTo>
                      <a:pt x="265" y="72"/>
                    </a:lnTo>
                    <a:lnTo>
                      <a:pt x="277" y="72"/>
                    </a:lnTo>
                    <a:lnTo>
                      <a:pt x="286" y="63"/>
                    </a:lnTo>
                    <a:lnTo>
                      <a:pt x="298" y="63"/>
                    </a:lnTo>
                    <a:lnTo>
                      <a:pt x="307" y="63"/>
                    </a:lnTo>
                    <a:lnTo>
                      <a:pt x="318" y="63"/>
                    </a:lnTo>
                    <a:lnTo>
                      <a:pt x="329" y="63"/>
                    </a:lnTo>
                    <a:lnTo>
                      <a:pt x="350" y="63"/>
                    </a:lnTo>
                    <a:lnTo>
                      <a:pt x="392" y="63"/>
                    </a:lnTo>
                    <a:lnTo>
                      <a:pt x="392" y="84"/>
                    </a:lnTo>
                    <a:lnTo>
                      <a:pt x="372" y="127"/>
                    </a:lnTo>
                    <a:lnTo>
                      <a:pt x="340" y="158"/>
                    </a:lnTo>
                    <a:lnTo>
                      <a:pt x="318" y="199"/>
                    </a:lnTo>
                    <a:lnTo>
                      <a:pt x="298" y="242"/>
                    </a:lnTo>
                    <a:lnTo>
                      <a:pt x="277" y="274"/>
                    </a:lnTo>
                    <a:lnTo>
                      <a:pt x="245" y="317"/>
                    </a:lnTo>
                    <a:lnTo>
                      <a:pt x="223" y="360"/>
                    </a:lnTo>
                    <a:lnTo>
                      <a:pt x="202" y="392"/>
                    </a:lnTo>
                    <a:lnTo>
                      <a:pt x="180" y="435"/>
                    </a:lnTo>
                    <a:lnTo>
                      <a:pt x="159" y="476"/>
                    </a:lnTo>
                    <a:lnTo>
                      <a:pt x="127" y="507"/>
                    </a:lnTo>
                    <a:lnTo>
                      <a:pt x="106" y="550"/>
                    </a:lnTo>
                    <a:lnTo>
                      <a:pt x="84" y="593"/>
                    </a:lnTo>
                    <a:lnTo>
                      <a:pt x="64" y="625"/>
                    </a:lnTo>
                    <a:lnTo>
                      <a:pt x="43" y="667"/>
                    </a:lnTo>
                    <a:lnTo>
                      <a:pt x="21" y="709"/>
                    </a:lnTo>
                    <a:lnTo>
                      <a:pt x="11" y="709"/>
                    </a:lnTo>
                    <a:lnTo>
                      <a:pt x="11" y="698"/>
                    </a:lnTo>
                    <a:lnTo>
                      <a:pt x="11" y="689"/>
                    </a:ln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9"/>
                    </a:lnTo>
                    <a:lnTo>
                      <a:pt x="43" y="9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5" y="31"/>
                    </a:lnTo>
                    <a:lnTo>
                      <a:pt x="84" y="41"/>
                    </a:lnTo>
                    <a:lnTo>
                      <a:pt x="96" y="52"/>
                    </a:lnTo>
                    <a:lnTo>
                      <a:pt x="106" y="52"/>
                    </a:lnTo>
                    <a:lnTo>
                      <a:pt x="106" y="63"/>
                    </a:lnTo>
                    <a:lnTo>
                      <a:pt x="117" y="72"/>
                    </a:lnTo>
                    <a:lnTo>
                      <a:pt x="127" y="84"/>
                    </a:lnTo>
                    <a:lnTo>
                      <a:pt x="138" y="84"/>
                    </a:lnTo>
                    <a:lnTo>
                      <a:pt x="148" y="94"/>
                    </a:lnTo>
                    <a:lnTo>
                      <a:pt x="159" y="105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1231560" y="3132000"/>
                <a:ext cx="142200" cy="242640"/>
              </a:xfrm>
              <a:custGeom>
                <a:avLst/>
                <a:gdLst/>
                <a:ahLst/>
                <a:rect l="l" t="t" r="r" b="b"/>
                <a:pathLst>
                  <a:path w="371" h="625">
                    <a:moveTo>
                      <a:pt x="371" y="0"/>
                    </a:moveTo>
                    <a:lnTo>
                      <a:pt x="351" y="43"/>
                    </a:lnTo>
                    <a:lnTo>
                      <a:pt x="319" y="74"/>
                    </a:lnTo>
                    <a:lnTo>
                      <a:pt x="297" y="115"/>
                    </a:lnTo>
                    <a:lnTo>
                      <a:pt x="277" y="158"/>
                    </a:lnTo>
                    <a:lnTo>
                      <a:pt x="256" y="190"/>
                    </a:lnTo>
                    <a:lnTo>
                      <a:pt x="224" y="233"/>
                    </a:lnTo>
                    <a:lnTo>
                      <a:pt x="202" y="276"/>
                    </a:lnTo>
                    <a:lnTo>
                      <a:pt x="181" y="308"/>
                    </a:lnTo>
                    <a:lnTo>
                      <a:pt x="159" y="351"/>
                    </a:lnTo>
                    <a:lnTo>
                      <a:pt x="138" y="392"/>
                    </a:lnTo>
                    <a:lnTo>
                      <a:pt x="106" y="423"/>
                    </a:lnTo>
                    <a:lnTo>
                      <a:pt x="85" y="466"/>
                    </a:lnTo>
                    <a:lnTo>
                      <a:pt x="63" y="509"/>
                    </a:lnTo>
                    <a:lnTo>
                      <a:pt x="43" y="541"/>
                    </a:lnTo>
                    <a:lnTo>
                      <a:pt x="22" y="583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1221840" y="3099600"/>
                <a:ext cx="9360" cy="268200"/>
              </a:xfrm>
              <a:custGeom>
                <a:avLst/>
                <a:gdLst/>
                <a:ahLst/>
                <a:rect l="l" t="t" r="r" b="b"/>
                <a:pathLst>
                  <a:path w="21" h="689">
                    <a:moveTo>
                      <a:pt x="11" y="689"/>
                    </a:move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1782000" y="3111480"/>
                <a:ext cx="438840" cy="401040"/>
              </a:xfrm>
              <a:custGeom>
                <a:avLst/>
                <a:gdLst/>
                <a:ahLst/>
                <a:rect l="l" t="t" r="r" b="b"/>
                <a:pathLst>
                  <a:path w="1124" h="1028">
                    <a:moveTo>
                      <a:pt x="520" y="53"/>
                    </a:moveTo>
                    <a:lnTo>
                      <a:pt x="551" y="53"/>
                    </a:lnTo>
                    <a:lnTo>
                      <a:pt x="583" y="53"/>
                    </a:lnTo>
                    <a:lnTo>
                      <a:pt x="605" y="53"/>
                    </a:lnTo>
                    <a:lnTo>
                      <a:pt x="635" y="63"/>
                    </a:lnTo>
                    <a:lnTo>
                      <a:pt x="669" y="63"/>
                    </a:lnTo>
                    <a:lnTo>
                      <a:pt x="700" y="74"/>
                    </a:lnTo>
                    <a:lnTo>
                      <a:pt x="721" y="84"/>
                    </a:lnTo>
                    <a:lnTo>
                      <a:pt x="753" y="84"/>
                    </a:lnTo>
                    <a:lnTo>
                      <a:pt x="774" y="96"/>
                    </a:lnTo>
                    <a:lnTo>
                      <a:pt x="805" y="105"/>
                    </a:lnTo>
                    <a:lnTo>
                      <a:pt x="837" y="116"/>
                    </a:lnTo>
                    <a:lnTo>
                      <a:pt x="859" y="127"/>
                    </a:lnTo>
                    <a:lnTo>
                      <a:pt x="891" y="137"/>
                    </a:lnTo>
                    <a:lnTo>
                      <a:pt x="923" y="148"/>
                    </a:lnTo>
                    <a:lnTo>
                      <a:pt x="943" y="159"/>
                    </a:lnTo>
                    <a:lnTo>
                      <a:pt x="975" y="168"/>
                    </a:lnTo>
                    <a:lnTo>
                      <a:pt x="986" y="180"/>
                    </a:lnTo>
                    <a:lnTo>
                      <a:pt x="1007" y="190"/>
                    </a:lnTo>
                    <a:lnTo>
                      <a:pt x="1018" y="202"/>
                    </a:lnTo>
                    <a:lnTo>
                      <a:pt x="1029" y="211"/>
                    </a:lnTo>
                    <a:lnTo>
                      <a:pt x="1029" y="232"/>
                    </a:lnTo>
                    <a:lnTo>
                      <a:pt x="1039" y="243"/>
                    </a:lnTo>
                    <a:lnTo>
                      <a:pt x="1050" y="254"/>
                    </a:lnTo>
                    <a:lnTo>
                      <a:pt x="1061" y="275"/>
                    </a:lnTo>
                    <a:lnTo>
                      <a:pt x="1061" y="286"/>
                    </a:lnTo>
                    <a:lnTo>
                      <a:pt x="1070" y="307"/>
                    </a:lnTo>
                    <a:lnTo>
                      <a:pt x="1070" y="318"/>
                    </a:lnTo>
                    <a:lnTo>
                      <a:pt x="1082" y="339"/>
                    </a:lnTo>
                    <a:lnTo>
                      <a:pt x="1092" y="349"/>
                    </a:lnTo>
                    <a:lnTo>
                      <a:pt x="1092" y="370"/>
                    </a:lnTo>
                    <a:lnTo>
                      <a:pt x="1103" y="382"/>
                    </a:lnTo>
                    <a:lnTo>
                      <a:pt x="1113" y="404"/>
                    </a:lnTo>
                    <a:lnTo>
                      <a:pt x="1113" y="413"/>
                    </a:lnTo>
                    <a:lnTo>
                      <a:pt x="1113" y="424"/>
                    </a:lnTo>
                    <a:lnTo>
                      <a:pt x="1124" y="434"/>
                    </a:lnTo>
                    <a:lnTo>
                      <a:pt x="1124" y="445"/>
                    </a:lnTo>
                    <a:lnTo>
                      <a:pt x="1124" y="456"/>
                    </a:lnTo>
                    <a:lnTo>
                      <a:pt x="1124" y="476"/>
                    </a:lnTo>
                    <a:lnTo>
                      <a:pt x="1124" y="488"/>
                    </a:lnTo>
                    <a:lnTo>
                      <a:pt x="1124" y="497"/>
                    </a:lnTo>
                    <a:lnTo>
                      <a:pt x="1124" y="509"/>
                    </a:lnTo>
                    <a:lnTo>
                      <a:pt x="1124" y="519"/>
                    </a:lnTo>
                    <a:lnTo>
                      <a:pt x="1113" y="531"/>
                    </a:lnTo>
                    <a:lnTo>
                      <a:pt x="1113" y="540"/>
                    </a:lnTo>
                    <a:lnTo>
                      <a:pt x="1113" y="551"/>
                    </a:lnTo>
                    <a:lnTo>
                      <a:pt x="1103" y="562"/>
                    </a:lnTo>
                    <a:lnTo>
                      <a:pt x="1103" y="572"/>
                    </a:lnTo>
                    <a:lnTo>
                      <a:pt x="1092" y="583"/>
                    </a:lnTo>
                    <a:lnTo>
                      <a:pt x="1061" y="615"/>
                    </a:lnTo>
                    <a:lnTo>
                      <a:pt x="1029" y="646"/>
                    </a:lnTo>
                    <a:lnTo>
                      <a:pt x="997" y="667"/>
                    </a:lnTo>
                    <a:lnTo>
                      <a:pt x="964" y="699"/>
                    </a:lnTo>
                    <a:lnTo>
                      <a:pt x="934" y="721"/>
                    </a:lnTo>
                    <a:lnTo>
                      <a:pt x="902" y="742"/>
                    </a:lnTo>
                    <a:lnTo>
                      <a:pt x="869" y="773"/>
                    </a:lnTo>
                    <a:lnTo>
                      <a:pt x="837" y="794"/>
                    </a:lnTo>
                    <a:lnTo>
                      <a:pt x="796" y="816"/>
                    </a:lnTo>
                    <a:lnTo>
                      <a:pt x="763" y="837"/>
                    </a:lnTo>
                    <a:lnTo>
                      <a:pt x="732" y="859"/>
                    </a:lnTo>
                    <a:lnTo>
                      <a:pt x="689" y="891"/>
                    </a:lnTo>
                    <a:lnTo>
                      <a:pt x="657" y="911"/>
                    </a:lnTo>
                    <a:lnTo>
                      <a:pt x="626" y="932"/>
                    </a:lnTo>
                    <a:lnTo>
                      <a:pt x="594" y="965"/>
                    </a:lnTo>
                    <a:lnTo>
                      <a:pt x="562" y="986"/>
                    </a:lnTo>
                    <a:lnTo>
                      <a:pt x="542" y="996"/>
                    </a:lnTo>
                    <a:lnTo>
                      <a:pt x="530" y="996"/>
                    </a:lnTo>
                    <a:lnTo>
                      <a:pt x="520" y="1007"/>
                    </a:lnTo>
                    <a:lnTo>
                      <a:pt x="499" y="1007"/>
                    </a:lnTo>
                    <a:lnTo>
                      <a:pt x="488" y="1018"/>
                    </a:lnTo>
                    <a:lnTo>
                      <a:pt x="477" y="1018"/>
                    </a:lnTo>
                    <a:lnTo>
                      <a:pt x="456" y="1028"/>
                    </a:lnTo>
                    <a:lnTo>
                      <a:pt x="445" y="1028"/>
                    </a:lnTo>
                    <a:lnTo>
                      <a:pt x="424" y="1028"/>
                    </a:lnTo>
                    <a:lnTo>
                      <a:pt x="413" y="1028"/>
                    </a:lnTo>
                    <a:lnTo>
                      <a:pt x="403" y="1028"/>
                    </a:lnTo>
                    <a:lnTo>
                      <a:pt x="381" y="1028"/>
                    </a:lnTo>
                    <a:lnTo>
                      <a:pt x="371" y="1028"/>
                    </a:lnTo>
                    <a:lnTo>
                      <a:pt x="349" y="1028"/>
                    </a:lnTo>
                    <a:lnTo>
                      <a:pt x="340" y="1028"/>
                    </a:lnTo>
                    <a:lnTo>
                      <a:pt x="318" y="1028"/>
                    </a:lnTo>
                    <a:lnTo>
                      <a:pt x="308" y="1018"/>
                    </a:lnTo>
                    <a:lnTo>
                      <a:pt x="286" y="1007"/>
                    </a:lnTo>
                    <a:lnTo>
                      <a:pt x="276" y="1007"/>
                    </a:lnTo>
                    <a:lnTo>
                      <a:pt x="254" y="1007"/>
                    </a:lnTo>
                    <a:lnTo>
                      <a:pt x="243" y="996"/>
                    </a:lnTo>
                    <a:lnTo>
                      <a:pt x="222" y="996"/>
                    </a:lnTo>
                    <a:lnTo>
                      <a:pt x="213" y="996"/>
                    </a:lnTo>
                    <a:lnTo>
                      <a:pt x="191" y="986"/>
                    </a:lnTo>
                    <a:lnTo>
                      <a:pt x="180" y="986"/>
                    </a:lnTo>
                    <a:lnTo>
                      <a:pt x="159" y="986"/>
                    </a:lnTo>
                    <a:lnTo>
                      <a:pt x="148" y="986"/>
                    </a:lnTo>
                    <a:lnTo>
                      <a:pt x="127" y="975"/>
                    </a:lnTo>
                    <a:lnTo>
                      <a:pt x="116" y="975"/>
                    </a:lnTo>
                    <a:lnTo>
                      <a:pt x="95" y="965"/>
                    </a:lnTo>
                    <a:lnTo>
                      <a:pt x="85" y="965"/>
                    </a:lnTo>
                    <a:lnTo>
                      <a:pt x="74" y="954"/>
                    </a:lnTo>
                    <a:lnTo>
                      <a:pt x="64" y="954"/>
                    </a:lnTo>
                    <a:lnTo>
                      <a:pt x="53" y="954"/>
                    </a:lnTo>
                    <a:lnTo>
                      <a:pt x="43" y="944"/>
                    </a:lnTo>
                    <a:lnTo>
                      <a:pt x="32" y="944"/>
                    </a:lnTo>
                    <a:lnTo>
                      <a:pt x="32" y="932"/>
                    </a:lnTo>
                    <a:lnTo>
                      <a:pt x="21" y="932"/>
                    </a:lnTo>
                    <a:lnTo>
                      <a:pt x="11" y="923"/>
                    </a:lnTo>
                    <a:lnTo>
                      <a:pt x="11" y="911"/>
                    </a:lnTo>
                    <a:lnTo>
                      <a:pt x="0" y="901"/>
                    </a:lnTo>
                    <a:lnTo>
                      <a:pt x="0" y="891"/>
                    </a:lnTo>
                    <a:lnTo>
                      <a:pt x="0" y="880"/>
                    </a:lnTo>
                    <a:lnTo>
                      <a:pt x="0" y="869"/>
                    </a:lnTo>
                    <a:lnTo>
                      <a:pt x="0" y="826"/>
                    </a:lnTo>
                    <a:lnTo>
                      <a:pt x="0" y="773"/>
                    </a:lnTo>
                    <a:lnTo>
                      <a:pt x="11" y="730"/>
                    </a:lnTo>
                    <a:lnTo>
                      <a:pt x="11" y="678"/>
                    </a:lnTo>
                    <a:lnTo>
                      <a:pt x="21" y="636"/>
                    </a:lnTo>
                    <a:lnTo>
                      <a:pt x="32" y="594"/>
                    </a:lnTo>
                    <a:lnTo>
                      <a:pt x="43" y="551"/>
                    </a:lnTo>
                    <a:lnTo>
                      <a:pt x="64" y="497"/>
                    </a:lnTo>
                    <a:lnTo>
                      <a:pt x="74" y="456"/>
                    </a:lnTo>
                    <a:lnTo>
                      <a:pt x="95" y="413"/>
                    </a:lnTo>
                    <a:lnTo>
                      <a:pt x="107" y="370"/>
                    </a:lnTo>
                    <a:lnTo>
                      <a:pt x="127" y="329"/>
                    </a:lnTo>
                    <a:lnTo>
                      <a:pt x="148" y="286"/>
                    </a:lnTo>
                    <a:lnTo>
                      <a:pt x="170" y="254"/>
                    </a:lnTo>
                    <a:lnTo>
                      <a:pt x="191" y="211"/>
                    </a:lnTo>
                    <a:lnTo>
                      <a:pt x="213" y="168"/>
                    </a:lnTo>
                    <a:lnTo>
                      <a:pt x="222" y="159"/>
                    </a:lnTo>
                    <a:lnTo>
                      <a:pt x="222" y="148"/>
                    </a:lnTo>
                    <a:lnTo>
                      <a:pt x="234" y="137"/>
                    </a:lnTo>
                    <a:lnTo>
                      <a:pt x="243" y="116"/>
                    </a:lnTo>
                    <a:lnTo>
                      <a:pt x="254" y="105"/>
                    </a:lnTo>
                    <a:lnTo>
                      <a:pt x="254" y="96"/>
                    </a:lnTo>
                    <a:lnTo>
                      <a:pt x="265" y="84"/>
                    </a:lnTo>
                    <a:lnTo>
                      <a:pt x="276" y="74"/>
                    </a:lnTo>
                    <a:lnTo>
                      <a:pt x="286" y="63"/>
                    </a:lnTo>
                    <a:lnTo>
                      <a:pt x="297" y="53"/>
                    </a:lnTo>
                    <a:lnTo>
                      <a:pt x="308" y="41"/>
                    </a:lnTo>
                    <a:lnTo>
                      <a:pt x="318" y="32"/>
                    </a:lnTo>
                    <a:lnTo>
                      <a:pt x="329" y="21"/>
                    </a:lnTo>
                    <a:lnTo>
                      <a:pt x="340" y="21"/>
                    </a:lnTo>
                    <a:lnTo>
                      <a:pt x="349" y="10"/>
                    </a:lnTo>
                    <a:lnTo>
                      <a:pt x="361" y="0"/>
                    </a:lnTo>
                    <a:lnTo>
                      <a:pt x="371" y="10"/>
                    </a:lnTo>
                    <a:lnTo>
                      <a:pt x="381" y="10"/>
                    </a:lnTo>
                    <a:lnTo>
                      <a:pt x="392" y="10"/>
                    </a:lnTo>
                    <a:lnTo>
                      <a:pt x="403" y="10"/>
                    </a:lnTo>
                    <a:lnTo>
                      <a:pt x="413" y="21"/>
                    </a:lnTo>
                    <a:lnTo>
                      <a:pt x="424" y="21"/>
                    </a:lnTo>
                    <a:lnTo>
                      <a:pt x="435" y="21"/>
                    </a:lnTo>
                    <a:lnTo>
                      <a:pt x="445" y="21"/>
                    </a:lnTo>
                    <a:lnTo>
                      <a:pt x="456" y="21"/>
                    </a:lnTo>
                    <a:lnTo>
                      <a:pt x="467" y="21"/>
                    </a:lnTo>
                    <a:lnTo>
                      <a:pt x="477" y="32"/>
                    </a:lnTo>
                    <a:lnTo>
                      <a:pt x="488" y="32"/>
                    </a:lnTo>
                    <a:lnTo>
                      <a:pt x="499" y="41"/>
                    </a:lnTo>
                    <a:lnTo>
                      <a:pt x="508" y="41"/>
                    </a:lnTo>
                    <a:lnTo>
                      <a:pt x="520" y="5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2162520" y="31766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38" h="236">
                    <a:moveTo>
                      <a:pt x="0" y="0"/>
                    </a:moveTo>
                    <a:lnTo>
                      <a:pt x="11" y="12"/>
                    </a:lnTo>
                    <a:lnTo>
                      <a:pt x="32" y="22"/>
                    </a:lnTo>
                    <a:lnTo>
                      <a:pt x="43" y="34"/>
                    </a:lnTo>
                    <a:lnTo>
                      <a:pt x="54" y="43"/>
                    </a:lnTo>
                    <a:lnTo>
                      <a:pt x="54" y="64"/>
                    </a:lnTo>
                    <a:lnTo>
                      <a:pt x="64" y="75"/>
                    </a:lnTo>
                    <a:lnTo>
                      <a:pt x="75" y="86"/>
                    </a:lnTo>
                    <a:lnTo>
                      <a:pt x="86" y="107"/>
                    </a:lnTo>
                    <a:lnTo>
                      <a:pt x="86" y="118"/>
                    </a:lnTo>
                    <a:lnTo>
                      <a:pt x="95" y="139"/>
                    </a:lnTo>
                    <a:lnTo>
                      <a:pt x="95" y="150"/>
                    </a:lnTo>
                    <a:lnTo>
                      <a:pt x="107" y="171"/>
                    </a:lnTo>
                    <a:lnTo>
                      <a:pt x="117" y="181"/>
                    </a:lnTo>
                    <a:lnTo>
                      <a:pt x="117" y="202"/>
                    </a:lnTo>
                    <a:lnTo>
                      <a:pt x="128" y="214"/>
                    </a:lnTo>
                    <a:lnTo>
                      <a:pt x="138" y="2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2207160" y="3267360"/>
                <a:ext cx="13680" cy="69840"/>
              </a:xfrm>
              <a:custGeom>
                <a:avLst/>
                <a:gdLst/>
                <a:ahLst/>
                <a:rect l="l" t="t" r="r" b="b"/>
                <a:pathLst>
                  <a:path w="32" h="179">
                    <a:moveTo>
                      <a:pt x="21" y="0"/>
                    </a:moveTo>
                    <a:lnTo>
                      <a:pt x="21" y="9"/>
                    </a:lnTo>
                    <a:lnTo>
                      <a:pt x="21" y="20"/>
                    </a:lnTo>
                    <a:lnTo>
                      <a:pt x="32" y="30"/>
                    </a:lnTo>
                    <a:lnTo>
                      <a:pt x="32" y="41"/>
                    </a:lnTo>
                    <a:lnTo>
                      <a:pt x="32" y="52"/>
                    </a:lnTo>
                    <a:lnTo>
                      <a:pt x="32" y="72"/>
                    </a:lnTo>
                    <a:lnTo>
                      <a:pt x="32" y="84"/>
                    </a:lnTo>
                    <a:lnTo>
                      <a:pt x="32" y="93"/>
                    </a:lnTo>
                    <a:lnTo>
                      <a:pt x="32" y="105"/>
                    </a:lnTo>
                    <a:lnTo>
                      <a:pt x="32" y="115"/>
                    </a:lnTo>
                    <a:lnTo>
                      <a:pt x="21" y="127"/>
                    </a:lnTo>
                    <a:lnTo>
                      <a:pt x="21" y="136"/>
                    </a:lnTo>
                    <a:lnTo>
                      <a:pt x="21" y="147"/>
                    </a:lnTo>
                    <a:lnTo>
                      <a:pt x="11" y="158"/>
                    </a:lnTo>
                    <a:lnTo>
                      <a:pt x="11" y="168"/>
                    </a:lnTo>
                    <a:lnTo>
                      <a:pt x="0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2001600" y="3337200"/>
                <a:ext cx="205200" cy="156600"/>
              </a:xfrm>
              <a:custGeom>
                <a:avLst/>
                <a:gdLst/>
                <a:ahLst/>
                <a:rect l="l" t="t" r="r" b="b"/>
                <a:pathLst>
                  <a:path w="530" h="403">
                    <a:moveTo>
                      <a:pt x="530" y="0"/>
                    </a:moveTo>
                    <a:lnTo>
                      <a:pt x="499" y="32"/>
                    </a:lnTo>
                    <a:lnTo>
                      <a:pt x="467" y="63"/>
                    </a:lnTo>
                    <a:lnTo>
                      <a:pt x="435" y="84"/>
                    </a:lnTo>
                    <a:lnTo>
                      <a:pt x="402" y="116"/>
                    </a:lnTo>
                    <a:lnTo>
                      <a:pt x="372" y="138"/>
                    </a:lnTo>
                    <a:lnTo>
                      <a:pt x="340" y="159"/>
                    </a:lnTo>
                    <a:lnTo>
                      <a:pt x="307" y="190"/>
                    </a:lnTo>
                    <a:lnTo>
                      <a:pt x="275" y="211"/>
                    </a:lnTo>
                    <a:lnTo>
                      <a:pt x="234" y="233"/>
                    </a:lnTo>
                    <a:lnTo>
                      <a:pt x="201" y="254"/>
                    </a:lnTo>
                    <a:lnTo>
                      <a:pt x="170" y="276"/>
                    </a:lnTo>
                    <a:lnTo>
                      <a:pt x="127" y="308"/>
                    </a:lnTo>
                    <a:lnTo>
                      <a:pt x="95" y="328"/>
                    </a:lnTo>
                    <a:lnTo>
                      <a:pt x="64" y="349"/>
                    </a:lnTo>
                    <a:lnTo>
                      <a:pt x="32" y="382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1782000" y="3176640"/>
                <a:ext cx="83880" cy="272880"/>
              </a:xfrm>
              <a:custGeom>
                <a:avLst/>
                <a:gdLst/>
                <a:ahLst/>
                <a:rect l="l" t="t" r="r" b="b"/>
                <a:pathLst>
                  <a:path w="213" h="701">
                    <a:moveTo>
                      <a:pt x="0" y="701"/>
                    </a:moveTo>
                    <a:lnTo>
                      <a:pt x="0" y="658"/>
                    </a:lnTo>
                    <a:lnTo>
                      <a:pt x="0" y="605"/>
                    </a:lnTo>
                    <a:lnTo>
                      <a:pt x="11" y="562"/>
                    </a:lnTo>
                    <a:lnTo>
                      <a:pt x="11" y="510"/>
                    </a:lnTo>
                    <a:lnTo>
                      <a:pt x="21" y="468"/>
                    </a:lnTo>
                    <a:lnTo>
                      <a:pt x="32" y="426"/>
                    </a:lnTo>
                    <a:lnTo>
                      <a:pt x="43" y="383"/>
                    </a:lnTo>
                    <a:lnTo>
                      <a:pt x="64" y="329"/>
                    </a:lnTo>
                    <a:lnTo>
                      <a:pt x="74" y="288"/>
                    </a:lnTo>
                    <a:lnTo>
                      <a:pt x="95" y="245"/>
                    </a:lnTo>
                    <a:lnTo>
                      <a:pt x="107" y="202"/>
                    </a:lnTo>
                    <a:lnTo>
                      <a:pt x="127" y="161"/>
                    </a:lnTo>
                    <a:lnTo>
                      <a:pt x="148" y="118"/>
                    </a:lnTo>
                    <a:lnTo>
                      <a:pt x="170" y="86"/>
                    </a:lnTo>
                    <a:lnTo>
                      <a:pt x="191" y="43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1866240" y="3111480"/>
                <a:ext cx="57960" cy="64800"/>
              </a:xfrm>
              <a:custGeom>
                <a:avLst/>
                <a:gdLst/>
                <a:ahLst/>
                <a:rect l="l" t="t" r="r" b="b"/>
                <a:pathLst>
                  <a:path w="148" h="168">
                    <a:moveTo>
                      <a:pt x="0" y="168"/>
                    </a:moveTo>
                    <a:lnTo>
                      <a:pt x="9" y="159"/>
                    </a:lnTo>
                    <a:lnTo>
                      <a:pt x="9" y="148"/>
                    </a:lnTo>
                    <a:lnTo>
                      <a:pt x="21" y="137"/>
                    </a:lnTo>
                    <a:lnTo>
                      <a:pt x="30" y="116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52" y="84"/>
                    </a:lnTo>
                    <a:lnTo>
                      <a:pt x="63" y="74"/>
                    </a:lnTo>
                    <a:lnTo>
                      <a:pt x="73" y="63"/>
                    </a:lnTo>
                    <a:lnTo>
                      <a:pt x="84" y="53"/>
                    </a:lnTo>
                    <a:lnTo>
                      <a:pt x="95" y="41"/>
                    </a:lnTo>
                    <a:lnTo>
                      <a:pt x="105" y="32"/>
                    </a:lnTo>
                    <a:lnTo>
                      <a:pt x="116" y="21"/>
                    </a:lnTo>
                    <a:lnTo>
                      <a:pt x="127" y="21"/>
                    </a:lnTo>
                    <a:lnTo>
                      <a:pt x="136" y="10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1803240" y="3136680"/>
                <a:ext cx="392040" cy="361800"/>
              </a:xfrm>
              <a:custGeom>
                <a:avLst/>
                <a:gdLst/>
                <a:ahLst/>
                <a:rect l="l" t="t" r="r" b="b"/>
                <a:pathLst>
                  <a:path w="1008" h="933">
                    <a:moveTo>
                      <a:pt x="552" y="74"/>
                    </a:moveTo>
                    <a:lnTo>
                      <a:pt x="573" y="85"/>
                    </a:lnTo>
                    <a:lnTo>
                      <a:pt x="594" y="85"/>
                    </a:lnTo>
                    <a:lnTo>
                      <a:pt x="625" y="85"/>
                    </a:lnTo>
                    <a:lnTo>
                      <a:pt x="647" y="96"/>
                    </a:lnTo>
                    <a:lnTo>
                      <a:pt x="668" y="96"/>
                    </a:lnTo>
                    <a:lnTo>
                      <a:pt x="688" y="105"/>
                    </a:lnTo>
                    <a:lnTo>
                      <a:pt x="710" y="105"/>
                    </a:lnTo>
                    <a:lnTo>
                      <a:pt x="731" y="117"/>
                    </a:lnTo>
                    <a:lnTo>
                      <a:pt x="752" y="117"/>
                    </a:lnTo>
                    <a:lnTo>
                      <a:pt x="784" y="127"/>
                    </a:lnTo>
                    <a:lnTo>
                      <a:pt x="806" y="139"/>
                    </a:lnTo>
                    <a:lnTo>
                      <a:pt x="827" y="139"/>
                    </a:lnTo>
                    <a:lnTo>
                      <a:pt x="849" y="148"/>
                    </a:lnTo>
                    <a:lnTo>
                      <a:pt x="870" y="160"/>
                    </a:lnTo>
                    <a:lnTo>
                      <a:pt x="890" y="169"/>
                    </a:lnTo>
                    <a:lnTo>
                      <a:pt x="911" y="180"/>
                    </a:lnTo>
                    <a:lnTo>
                      <a:pt x="922" y="191"/>
                    </a:lnTo>
                    <a:lnTo>
                      <a:pt x="922" y="202"/>
                    </a:lnTo>
                    <a:lnTo>
                      <a:pt x="933" y="212"/>
                    </a:lnTo>
                    <a:lnTo>
                      <a:pt x="944" y="234"/>
                    </a:lnTo>
                    <a:lnTo>
                      <a:pt x="944" y="244"/>
                    </a:lnTo>
                    <a:lnTo>
                      <a:pt x="944" y="255"/>
                    </a:lnTo>
                    <a:lnTo>
                      <a:pt x="954" y="276"/>
                    </a:lnTo>
                    <a:lnTo>
                      <a:pt x="954" y="286"/>
                    </a:lnTo>
                    <a:lnTo>
                      <a:pt x="965" y="298"/>
                    </a:lnTo>
                    <a:lnTo>
                      <a:pt x="965" y="319"/>
                    </a:lnTo>
                    <a:lnTo>
                      <a:pt x="965" y="329"/>
                    </a:lnTo>
                    <a:lnTo>
                      <a:pt x="976" y="341"/>
                    </a:lnTo>
                    <a:lnTo>
                      <a:pt x="986" y="361"/>
                    </a:lnTo>
                    <a:lnTo>
                      <a:pt x="986" y="371"/>
                    </a:lnTo>
                    <a:lnTo>
                      <a:pt x="997" y="382"/>
                    </a:lnTo>
                    <a:lnTo>
                      <a:pt x="1008" y="393"/>
                    </a:lnTo>
                    <a:lnTo>
                      <a:pt x="1008" y="404"/>
                    </a:lnTo>
                    <a:lnTo>
                      <a:pt x="1008" y="425"/>
                    </a:lnTo>
                    <a:lnTo>
                      <a:pt x="1008" y="434"/>
                    </a:lnTo>
                    <a:lnTo>
                      <a:pt x="1008" y="446"/>
                    </a:lnTo>
                    <a:lnTo>
                      <a:pt x="997" y="456"/>
                    </a:lnTo>
                    <a:lnTo>
                      <a:pt x="997" y="468"/>
                    </a:lnTo>
                    <a:lnTo>
                      <a:pt x="986" y="477"/>
                    </a:lnTo>
                    <a:lnTo>
                      <a:pt x="986" y="488"/>
                    </a:lnTo>
                    <a:lnTo>
                      <a:pt x="976" y="499"/>
                    </a:lnTo>
                    <a:lnTo>
                      <a:pt x="965" y="499"/>
                    </a:lnTo>
                    <a:lnTo>
                      <a:pt x="954" y="509"/>
                    </a:lnTo>
                    <a:lnTo>
                      <a:pt x="954" y="520"/>
                    </a:lnTo>
                    <a:lnTo>
                      <a:pt x="944" y="531"/>
                    </a:lnTo>
                    <a:lnTo>
                      <a:pt x="933" y="531"/>
                    </a:lnTo>
                    <a:lnTo>
                      <a:pt x="922" y="540"/>
                    </a:lnTo>
                    <a:lnTo>
                      <a:pt x="902" y="573"/>
                    </a:lnTo>
                    <a:lnTo>
                      <a:pt x="870" y="595"/>
                    </a:lnTo>
                    <a:lnTo>
                      <a:pt x="838" y="615"/>
                    </a:lnTo>
                    <a:lnTo>
                      <a:pt x="816" y="647"/>
                    </a:lnTo>
                    <a:lnTo>
                      <a:pt x="784" y="667"/>
                    </a:lnTo>
                    <a:lnTo>
                      <a:pt x="752" y="689"/>
                    </a:lnTo>
                    <a:lnTo>
                      <a:pt x="721" y="710"/>
                    </a:lnTo>
                    <a:lnTo>
                      <a:pt x="688" y="731"/>
                    </a:lnTo>
                    <a:lnTo>
                      <a:pt x="668" y="753"/>
                    </a:lnTo>
                    <a:lnTo>
                      <a:pt x="636" y="774"/>
                    </a:lnTo>
                    <a:lnTo>
                      <a:pt x="604" y="796"/>
                    </a:lnTo>
                    <a:lnTo>
                      <a:pt x="573" y="817"/>
                    </a:lnTo>
                    <a:lnTo>
                      <a:pt x="541" y="838"/>
                    </a:lnTo>
                    <a:lnTo>
                      <a:pt x="509" y="860"/>
                    </a:lnTo>
                    <a:lnTo>
                      <a:pt x="477" y="881"/>
                    </a:lnTo>
                    <a:lnTo>
                      <a:pt x="455" y="902"/>
                    </a:lnTo>
                    <a:lnTo>
                      <a:pt x="424" y="912"/>
                    </a:lnTo>
                    <a:lnTo>
                      <a:pt x="403" y="923"/>
                    </a:lnTo>
                    <a:lnTo>
                      <a:pt x="382" y="933"/>
                    </a:lnTo>
                    <a:lnTo>
                      <a:pt x="360" y="933"/>
                    </a:lnTo>
                    <a:lnTo>
                      <a:pt x="328" y="933"/>
                    </a:lnTo>
                    <a:lnTo>
                      <a:pt x="308" y="933"/>
                    </a:lnTo>
                    <a:lnTo>
                      <a:pt x="287" y="923"/>
                    </a:lnTo>
                    <a:lnTo>
                      <a:pt x="255" y="923"/>
                    </a:lnTo>
                    <a:lnTo>
                      <a:pt x="233" y="912"/>
                    </a:lnTo>
                    <a:lnTo>
                      <a:pt x="212" y="902"/>
                    </a:lnTo>
                    <a:lnTo>
                      <a:pt x="181" y="902"/>
                    </a:lnTo>
                    <a:lnTo>
                      <a:pt x="160" y="891"/>
                    </a:lnTo>
                    <a:lnTo>
                      <a:pt x="127" y="881"/>
                    </a:lnTo>
                    <a:lnTo>
                      <a:pt x="106" y="881"/>
                    </a:lnTo>
                    <a:lnTo>
                      <a:pt x="85" y="881"/>
                    </a:lnTo>
                    <a:lnTo>
                      <a:pt x="54" y="881"/>
                    </a:lnTo>
                    <a:lnTo>
                      <a:pt x="42" y="869"/>
                    </a:lnTo>
                    <a:lnTo>
                      <a:pt x="32" y="869"/>
                    </a:lnTo>
                    <a:lnTo>
                      <a:pt x="21" y="860"/>
                    </a:lnTo>
                    <a:lnTo>
                      <a:pt x="21" y="848"/>
                    </a:lnTo>
                    <a:lnTo>
                      <a:pt x="11" y="838"/>
                    </a:lnTo>
                    <a:lnTo>
                      <a:pt x="11" y="828"/>
                    </a:lnTo>
                    <a:lnTo>
                      <a:pt x="11" y="817"/>
                    </a:lnTo>
                    <a:lnTo>
                      <a:pt x="11" y="806"/>
                    </a:lnTo>
                    <a:lnTo>
                      <a:pt x="11" y="796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11" y="763"/>
                    </a:lnTo>
                    <a:lnTo>
                      <a:pt x="11" y="753"/>
                    </a:lnTo>
                    <a:lnTo>
                      <a:pt x="11" y="731"/>
                    </a:lnTo>
                    <a:lnTo>
                      <a:pt x="11" y="721"/>
                    </a:lnTo>
                    <a:lnTo>
                      <a:pt x="0" y="710"/>
                    </a:lnTo>
                    <a:lnTo>
                      <a:pt x="11" y="679"/>
                    </a:lnTo>
                    <a:lnTo>
                      <a:pt x="11" y="647"/>
                    </a:lnTo>
                    <a:lnTo>
                      <a:pt x="11" y="615"/>
                    </a:lnTo>
                    <a:lnTo>
                      <a:pt x="21" y="583"/>
                    </a:lnTo>
                    <a:lnTo>
                      <a:pt x="21" y="552"/>
                    </a:lnTo>
                    <a:lnTo>
                      <a:pt x="32" y="520"/>
                    </a:lnTo>
                    <a:lnTo>
                      <a:pt x="42" y="488"/>
                    </a:lnTo>
                    <a:lnTo>
                      <a:pt x="54" y="456"/>
                    </a:lnTo>
                    <a:lnTo>
                      <a:pt x="63" y="434"/>
                    </a:lnTo>
                    <a:lnTo>
                      <a:pt x="74" y="404"/>
                    </a:lnTo>
                    <a:lnTo>
                      <a:pt x="85" y="371"/>
                    </a:lnTo>
                    <a:lnTo>
                      <a:pt x="95" y="341"/>
                    </a:lnTo>
                    <a:lnTo>
                      <a:pt x="117" y="319"/>
                    </a:lnTo>
                    <a:lnTo>
                      <a:pt x="127" y="286"/>
                    </a:lnTo>
                    <a:lnTo>
                      <a:pt x="138" y="255"/>
                    </a:lnTo>
                    <a:lnTo>
                      <a:pt x="160" y="234"/>
                    </a:lnTo>
                    <a:lnTo>
                      <a:pt x="160" y="212"/>
                    </a:lnTo>
                    <a:lnTo>
                      <a:pt x="169" y="202"/>
                    </a:lnTo>
                    <a:lnTo>
                      <a:pt x="169" y="180"/>
                    </a:lnTo>
                    <a:lnTo>
                      <a:pt x="181" y="169"/>
                    </a:lnTo>
                    <a:lnTo>
                      <a:pt x="190" y="148"/>
                    </a:lnTo>
                    <a:lnTo>
                      <a:pt x="201" y="139"/>
                    </a:lnTo>
                    <a:lnTo>
                      <a:pt x="201" y="117"/>
                    </a:lnTo>
                    <a:lnTo>
                      <a:pt x="212" y="105"/>
                    </a:lnTo>
                    <a:lnTo>
                      <a:pt x="223" y="96"/>
                    </a:lnTo>
                    <a:lnTo>
                      <a:pt x="233" y="74"/>
                    </a:lnTo>
                    <a:lnTo>
                      <a:pt x="244" y="64"/>
                    </a:lnTo>
                    <a:lnTo>
                      <a:pt x="255" y="53"/>
                    </a:lnTo>
                    <a:lnTo>
                      <a:pt x="265" y="42"/>
                    </a:lnTo>
                    <a:lnTo>
                      <a:pt x="276" y="21"/>
                    </a:lnTo>
                    <a:lnTo>
                      <a:pt x="287" y="11"/>
                    </a:lnTo>
                    <a:lnTo>
                      <a:pt x="308" y="0"/>
                    </a:lnTo>
                    <a:lnTo>
                      <a:pt x="318" y="11"/>
                    </a:lnTo>
                    <a:lnTo>
                      <a:pt x="339" y="11"/>
                    </a:lnTo>
                    <a:lnTo>
                      <a:pt x="350" y="21"/>
                    </a:lnTo>
                    <a:lnTo>
                      <a:pt x="371" y="21"/>
                    </a:lnTo>
                    <a:lnTo>
                      <a:pt x="382" y="33"/>
                    </a:lnTo>
                    <a:lnTo>
                      <a:pt x="392" y="33"/>
                    </a:lnTo>
                    <a:lnTo>
                      <a:pt x="414" y="42"/>
                    </a:lnTo>
                    <a:lnTo>
                      <a:pt x="424" y="53"/>
                    </a:lnTo>
                    <a:lnTo>
                      <a:pt x="435" y="53"/>
                    </a:lnTo>
                    <a:lnTo>
                      <a:pt x="455" y="64"/>
                    </a:lnTo>
                    <a:lnTo>
                      <a:pt x="467" y="64"/>
                    </a:lnTo>
                    <a:lnTo>
                      <a:pt x="489" y="74"/>
                    </a:lnTo>
                    <a:lnTo>
                      <a:pt x="498" y="74"/>
                    </a:lnTo>
                    <a:lnTo>
                      <a:pt x="519" y="74"/>
                    </a:lnTo>
                    <a:lnTo>
                      <a:pt x="530" y="74"/>
                    </a:lnTo>
                    <a:lnTo>
                      <a:pt x="552" y="7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2157840" y="3206520"/>
                <a:ext cx="37440" cy="8172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0" y="0"/>
                    </a:moveTo>
                    <a:lnTo>
                      <a:pt x="11" y="11"/>
                    </a:lnTo>
                    <a:lnTo>
                      <a:pt x="11" y="22"/>
                    </a:lnTo>
                    <a:lnTo>
                      <a:pt x="22" y="32"/>
                    </a:lnTo>
                    <a:lnTo>
                      <a:pt x="33" y="54"/>
                    </a:lnTo>
                    <a:lnTo>
                      <a:pt x="33" y="64"/>
                    </a:lnTo>
                    <a:lnTo>
                      <a:pt x="33" y="75"/>
                    </a:lnTo>
                    <a:lnTo>
                      <a:pt x="43" y="96"/>
                    </a:lnTo>
                    <a:lnTo>
                      <a:pt x="43" y="106"/>
                    </a:lnTo>
                    <a:lnTo>
                      <a:pt x="54" y="118"/>
                    </a:lnTo>
                    <a:lnTo>
                      <a:pt x="54" y="139"/>
                    </a:lnTo>
                    <a:lnTo>
                      <a:pt x="54" y="149"/>
                    </a:lnTo>
                    <a:lnTo>
                      <a:pt x="65" y="161"/>
                    </a:lnTo>
                    <a:lnTo>
                      <a:pt x="75" y="181"/>
                    </a:lnTo>
                    <a:lnTo>
                      <a:pt x="75" y="191"/>
                    </a:lnTo>
                    <a:lnTo>
                      <a:pt x="86" y="202"/>
                    </a:lnTo>
                    <a:lnTo>
                      <a:pt x="97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1980720" y="3346920"/>
                <a:ext cx="181800" cy="140040"/>
              </a:xfrm>
              <a:custGeom>
                <a:avLst/>
                <a:gdLst/>
                <a:ahLst/>
                <a:rect l="l" t="t" r="r" b="b"/>
                <a:pathLst>
                  <a:path w="467" h="362">
                    <a:moveTo>
                      <a:pt x="467" y="0"/>
                    </a:moveTo>
                    <a:lnTo>
                      <a:pt x="447" y="33"/>
                    </a:lnTo>
                    <a:lnTo>
                      <a:pt x="415" y="55"/>
                    </a:lnTo>
                    <a:lnTo>
                      <a:pt x="383" y="75"/>
                    </a:lnTo>
                    <a:lnTo>
                      <a:pt x="361" y="107"/>
                    </a:lnTo>
                    <a:lnTo>
                      <a:pt x="329" y="127"/>
                    </a:lnTo>
                    <a:lnTo>
                      <a:pt x="297" y="149"/>
                    </a:lnTo>
                    <a:lnTo>
                      <a:pt x="266" y="170"/>
                    </a:lnTo>
                    <a:lnTo>
                      <a:pt x="233" y="191"/>
                    </a:lnTo>
                    <a:lnTo>
                      <a:pt x="213" y="213"/>
                    </a:lnTo>
                    <a:lnTo>
                      <a:pt x="181" y="234"/>
                    </a:lnTo>
                    <a:lnTo>
                      <a:pt x="149" y="256"/>
                    </a:lnTo>
                    <a:lnTo>
                      <a:pt x="118" y="277"/>
                    </a:lnTo>
                    <a:lnTo>
                      <a:pt x="86" y="298"/>
                    </a:lnTo>
                    <a:lnTo>
                      <a:pt x="54" y="320"/>
                    </a:lnTo>
                    <a:lnTo>
                      <a:pt x="22" y="341"/>
                    </a:lnTo>
                    <a:lnTo>
                      <a:pt x="0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1803240" y="3412440"/>
                <a:ext cx="20880" cy="6696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171"/>
                    </a:moveTo>
                    <a:lnTo>
                      <a:pt x="42" y="159"/>
                    </a:lnTo>
                    <a:lnTo>
                      <a:pt x="32" y="159"/>
                    </a:lnTo>
                    <a:lnTo>
                      <a:pt x="21" y="150"/>
                    </a:lnTo>
                    <a:lnTo>
                      <a:pt x="21" y="138"/>
                    </a:lnTo>
                    <a:lnTo>
                      <a:pt x="11" y="128"/>
                    </a:lnTo>
                    <a:lnTo>
                      <a:pt x="11" y="118"/>
                    </a:lnTo>
                    <a:lnTo>
                      <a:pt x="11" y="107"/>
                    </a:lnTo>
                    <a:lnTo>
                      <a:pt x="11" y="96"/>
                    </a:lnTo>
                    <a:lnTo>
                      <a:pt x="11" y="86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11" y="53"/>
                    </a:lnTo>
                    <a:lnTo>
                      <a:pt x="11" y="43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1803240" y="3227760"/>
                <a:ext cx="63000" cy="1846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0" y="476"/>
                    </a:move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81"/>
                    </a:lnTo>
                    <a:lnTo>
                      <a:pt x="21" y="349"/>
                    </a:lnTo>
                    <a:lnTo>
                      <a:pt x="21" y="318"/>
                    </a:lnTo>
                    <a:lnTo>
                      <a:pt x="32" y="286"/>
                    </a:lnTo>
                    <a:lnTo>
                      <a:pt x="42" y="254"/>
                    </a:lnTo>
                    <a:lnTo>
                      <a:pt x="54" y="222"/>
                    </a:lnTo>
                    <a:lnTo>
                      <a:pt x="63" y="200"/>
                    </a:lnTo>
                    <a:lnTo>
                      <a:pt x="74" y="170"/>
                    </a:lnTo>
                    <a:lnTo>
                      <a:pt x="85" y="137"/>
                    </a:lnTo>
                    <a:lnTo>
                      <a:pt x="95" y="107"/>
                    </a:lnTo>
                    <a:lnTo>
                      <a:pt x="117" y="85"/>
                    </a:lnTo>
                    <a:lnTo>
                      <a:pt x="127" y="52"/>
                    </a:lnTo>
                    <a:lnTo>
                      <a:pt x="138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866240" y="3136680"/>
                <a:ext cx="57960" cy="907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0" y="234"/>
                    </a:moveTo>
                    <a:lnTo>
                      <a:pt x="0" y="212"/>
                    </a:lnTo>
                    <a:lnTo>
                      <a:pt x="9" y="202"/>
                    </a:lnTo>
                    <a:lnTo>
                      <a:pt x="9" y="180"/>
                    </a:lnTo>
                    <a:lnTo>
                      <a:pt x="21" y="169"/>
                    </a:lnTo>
                    <a:lnTo>
                      <a:pt x="30" y="148"/>
                    </a:lnTo>
                    <a:lnTo>
                      <a:pt x="41" y="139"/>
                    </a:lnTo>
                    <a:lnTo>
                      <a:pt x="41" y="117"/>
                    </a:lnTo>
                    <a:lnTo>
                      <a:pt x="52" y="105"/>
                    </a:lnTo>
                    <a:lnTo>
                      <a:pt x="63" y="96"/>
                    </a:lnTo>
                    <a:lnTo>
                      <a:pt x="73" y="74"/>
                    </a:lnTo>
                    <a:lnTo>
                      <a:pt x="84" y="64"/>
                    </a:lnTo>
                    <a:lnTo>
                      <a:pt x="95" y="53"/>
                    </a:lnTo>
                    <a:lnTo>
                      <a:pt x="105" y="42"/>
                    </a:lnTo>
                    <a:lnTo>
                      <a:pt x="116" y="21"/>
                    </a:lnTo>
                    <a:lnTo>
                      <a:pt x="127" y="11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1205640" y="3487320"/>
                <a:ext cx="1559520" cy="1822680"/>
              </a:xfrm>
              <a:custGeom>
                <a:avLst/>
                <a:gdLst/>
                <a:ahLst/>
                <a:rect l="l" t="t" r="r" b="b"/>
                <a:pathLst>
                  <a:path w="4008" h="4686">
                    <a:moveTo>
                      <a:pt x="1761" y="94"/>
                    </a:moveTo>
                    <a:lnTo>
                      <a:pt x="1771" y="106"/>
                    </a:lnTo>
                    <a:lnTo>
                      <a:pt x="1782" y="116"/>
                    </a:lnTo>
                    <a:lnTo>
                      <a:pt x="1793" y="128"/>
                    </a:lnTo>
                    <a:lnTo>
                      <a:pt x="1793" y="137"/>
                    </a:lnTo>
                    <a:lnTo>
                      <a:pt x="1803" y="148"/>
                    </a:lnTo>
                    <a:lnTo>
                      <a:pt x="1803" y="158"/>
                    </a:lnTo>
                    <a:lnTo>
                      <a:pt x="1803" y="169"/>
                    </a:lnTo>
                    <a:lnTo>
                      <a:pt x="1793" y="180"/>
                    </a:lnTo>
                    <a:lnTo>
                      <a:pt x="1793" y="191"/>
                    </a:lnTo>
                    <a:lnTo>
                      <a:pt x="1782" y="212"/>
                    </a:lnTo>
                    <a:lnTo>
                      <a:pt x="1782" y="255"/>
                    </a:lnTo>
                    <a:lnTo>
                      <a:pt x="1782" y="307"/>
                    </a:lnTo>
                    <a:lnTo>
                      <a:pt x="1771" y="349"/>
                    </a:lnTo>
                    <a:lnTo>
                      <a:pt x="1771" y="391"/>
                    </a:lnTo>
                    <a:lnTo>
                      <a:pt x="1771" y="445"/>
                    </a:lnTo>
                    <a:lnTo>
                      <a:pt x="1761" y="488"/>
                    </a:lnTo>
                    <a:lnTo>
                      <a:pt x="1761" y="529"/>
                    </a:lnTo>
                    <a:lnTo>
                      <a:pt x="1761" y="583"/>
                    </a:lnTo>
                    <a:lnTo>
                      <a:pt x="1750" y="625"/>
                    </a:lnTo>
                    <a:lnTo>
                      <a:pt x="1750" y="678"/>
                    </a:lnTo>
                    <a:lnTo>
                      <a:pt x="1739" y="720"/>
                    </a:lnTo>
                    <a:lnTo>
                      <a:pt x="1728" y="774"/>
                    </a:lnTo>
                    <a:lnTo>
                      <a:pt x="1728" y="815"/>
                    </a:lnTo>
                    <a:lnTo>
                      <a:pt x="1719" y="858"/>
                    </a:lnTo>
                    <a:lnTo>
                      <a:pt x="1719" y="910"/>
                    </a:lnTo>
                    <a:lnTo>
                      <a:pt x="1707" y="953"/>
                    </a:lnTo>
                    <a:lnTo>
                      <a:pt x="1719" y="1039"/>
                    </a:lnTo>
                    <a:lnTo>
                      <a:pt x="1719" y="1124"/>
                    </a:lnTo>
                    <a:lnTo>
                      <a:pt x="1719" y="1209"/>
                    </a:lnTo>
                    <a:lnTo>
                      <a:pt x="1719" y="1293"/>
                    </a:lnTo>
                    <a:lnTo>
                      <a:pt x="1707" y="1377"/>
                    </a:lnTo>
                    <a:lnTo>
                      <a:pt x="1707" y="1463"/>
                    </a:lnTo>
                    <a:lnTo>
                      <a:pt x="1707" y="1547"/>
                    </a:lnTo>
                    <a:lnTo>
                      <a:pt x="1698" y="1643"/>
                    </a:lnTo>
                    <a:lnTo>
                      <a:pt x="1698" y="1728"/>
                    </a:lnTo>
                    <a:lnTo>
                      <a:pt x="1686" y="1812"/>
                    </a:lnTo>
                    <a:lnTo>
                      <a:pt x="1686" y="1898"/>
                    </a:lnTo>
                    <a:lnTo>
                      <a:pt x="1676" y="1982"/>
                    </a:lnTo>
                    <a:lnTo>
                      <a:pt x="1676" y="2066"/>
                    </a:lnTo>
                    <a:lnTo>
                      <a:pt x="1676" y="2152"/>
                    </a:lnTo>
                    <a:lnTo>
                      <a:pt x="1676" y="2236"/>
                    </a:lnTo>
                    <a:lnTo>
                      <a:pt x="1676" y="2321"/>
                    </a:lnTo>
                    <a:lnTo>
                      <a:pt x="1676" y="2333"/>
                    </a:lnTo>
                    <a:lnTo>
                      <a:pt x="1676" y="2342"/>
                    </a:lnTo>
                    <a:lnTo>
                      <a:pt x="1676" y="2354"/>
                    </a:lnTo>
                    <a:lnTo>
                      <a:pt x="1676" y="2363"/>
                    </a:lnTo>
                    <a:lnTo>
                      <a:pt x="1676" y="2374"/>
                    </a:lnTo>
                    <a:lnTo>
                      <a:pt x="1665" y="2385"/>
                    </a:lnTo>
                    <a:lnTo>
                      <a:pt x="1665" y="2395"/>
                    </a:lnTo>
                    <a:lnTo>
                      <a:pt x="1665" y="2406"/>
                    </a:lnTo>
                    <a:lnTo>
                      <a:pt x="1665" y="2417"/>
                    </a:lnTo>
                    <a:lnTo>
                      <a:pt x="1665" y="2428"/>
                    </a:lnTo>
                    <a:lnTo>
                      <a:pt x="1665" y="2438"/>
                    </a:lnTo>
                    <a:lnTo>
                      <a:pt x="1665" y="2448"/>
                    </a:lnTo>
                    <a:lnTo>
                      <a:pt x="1665" y="2460"/>
                    </a:lnTo>
                    <a:lnTo>
                      <a:pt x="1665" y="2469"/>
                    </a:lnTo>
                    <a:lnTo>
                      <a:pt x="1698" y="2533"/>
                    </a:lnTo>
                    <a:lnTo>
                      <a:pt x="1719" y="2597"/>
                    </a:lnTo>
                    <a:lnTo>
                      <a:pt x="1739" y="2662"/>
                    </a:lnTo>
                    <a:lnTo>
                      <a:pt x="1771" y="2725"/>
                    </a:lnTo>
                    <a:lnTo>
                      <a:pt x="1793" y="2798"/>
                    </a:lnTo>
                    <a:lnTo>
                      <a:pt x="1825" y="2862"/>
                    </a:lnTo>
                    <a:lnTo>
                      <a:pt x="1846" y="2925"/>
                    </a:lnTo>
                    <a:lnTo>
                      <a:pt x="1877" y="2989"/>
                    </a:lnTo>
                    <a:lnTo>
                      <a:pt x="1898" y="3052"/>
                    </a:lnTo>
                    <a:lnTo>
                      <a:pt x="1930" y="3117"/>
                    </a:lnTo>
                    <a:lnTo>
                      <a:pt x="1952" y="3181"/>
                    </a:lnTo>
                    <a:lnTo>
                      <a:pt x="1984" y="3244"/>
                    </a:lnTo>
                    <a:lnTo>
                      <a:pt x="2015" y="3308"/>
                    </a:lnTo>
                    <a:lnTo>
                      <a:pt x="2036" y="3371"/>
                    </a:lnTo>
                    <a:lnTo>
                      <a:pt x="2068" y="3435"/>
                    </a:lnTo>
                    <a:lnTo>
                      <a:pt x="2100" y="3498"/>
                    </a:lnTo>
                    <a:lnTo>
                      <a:pt x="2120" y="3550"/>
                    </a:lnTo>
                    <a:lnTo>
                      <a:pt x="2142" y="3605"/>
                    </a:lnTo>
                    <a:lnTo>
                      <a:pt x="2163" y="3657"/>
                    </a:lnTo>
                    <a:lnTo>
                      <a:pt x="2185" y="3711"/>
                    </a:lnTo>
                    <a:lnTo>
                      <a:pt x="2206" y="3752"/>
                    </a:lnTo>
                    <a:lnTo>
                      <a:pt x="2238" y="3806"/>
                    </a:lnTo>
                    <a:lnTo>
                      <a:pt x="2259" y="3859"/>
                    </a:lnTo>
                    <a:lnTo>
                      <a:pt x="2281" y="3913"/>
                    </a:lnTo>
                    <a:lnTo>
                      <a:pt x="2301" y="3954"/>
                    </a:lnTo>
                    <a:lnTo>
                      <a:pt x="2333" y="4006"/>
                    </a:lnTo>
                    <a:lnTo>
                      <a:pt x="2354" y="4060"/>
                    </a:lnTo>
                    <a:lnTo>
                      <a:pt x="2387" y="4103"/>
                    </a:lnTo>
                    <a:lnTo>
                      <a:pt x="2408" y="4155"/>
                    </a:lnTo>
                    <a:lnTo>
                      <a:pt x="2440" y="4208"/>
                    </a:lnTo>
                    <a:lnTo>
                      <a:pt x="2471" y="4251"/>
                    </a:lnTo>
                    <a:lnTo>
                      <a:pt x="2503" y="4294"/>
                    </a:lnTo>
                    <a:lnTo>
                      <a:pt x="2546" y="4283"/>
                    </a:lnTo>
                    <a:lnTo>
                      <a:pt x="2577" y="4273"/>
                    </a:lnTo>
                    <a:lnTo>
                      <a:pt x="2619" y="4262"/>
                    </a:lnTo>
                    <a:lnTo>
                      <a:pt x="2651" y="4251"/>
                    </a:lnTo>
                    <a:lnTo>
                      <a:pt x="2682" y="4240"/>
                    </a:lnTo>
                    <a:lnTo>
                      <a:pt x="2725" y="4219"/>
                    </a:lnTo>
                    <a:lnTo>
                      <a:pt x="2757" y="4208"/>
                    </a:lnTo>
                    <a:lnTo>
                      <a:pt x="2800" y="4198"/>
                    </a:lnTo>
                    <a:lnTo>
                      <a:pt x="2831" y="4187"/>
                    </a:lnTo>
                    <a:lnTo>
                      <a:pt x="2863" y="4167"/>
                    </a:lnTo>
                    <a:lnTo>
                      <a:pt x="2906" y="4155"/>
                    </a:lnTo>
                    <a:lnTo>
                      <a:pt x="2938" y="4145"/>
                    </a:lnTo>
                    <a:lnTo>
                      <a:pt x="2980" y="4134"/>
                    </a:lnTo>
                    <a:lnTo>
                      <a:pt x="3011" y="4112"/>
                    </a:lnTo>
                    <a:lnTo>
                      <a:pt x="3043" y="4103"/>
                    </a:lnTo>
                    <a:lnTo>
                      <a:pt x="3086" y="4092"/>
                    </a:lnTo>
                    <a:lnTo>
                      <a:pt x="3108" y="4092"/>
                    </a:lnTo>
                    <a:lnTo>
                      <a:pt x="3129" y="4092"/>
                    </a:lnTo>
                    <a:lnTo>
                      <a:pt x="3160" y="4103"/>
                    </a:lnTo>
                    <a:lnTo>
                      <a:pt x="3181" y="4112"/>
                    </a:lnTo>
                    <a:lnTo>
                      <a:pt x="3203" y="4124"/>
                    </a:lnTo>
                    <a:lnTo>
                      <a:pt x="3223" y="4134"/>
                    </a:lnTo>
                    <a:lnTo>
                      <a:pt x="3244" y="4145"/>
                    </a:lnTo>
                    <a:lnTo>
                      <a:pt x="3277" y="4155"/>
                    </a:lnTo>
                    <a:lnTo>
                      <a:pt x="3298" y="4167"/>
                    </a:lnTo>
                    <a:lnTo>
                      <a:pt x="3319" y="4176"/>
                    </a:lnTo>
                    <a:lnTo>
                      <a:pt x="3340" y="4198"/>
                    </a:lnTo>
                    <a:lnTo>
                      <a:pt x="3362" y="4208"/>
                    </a:lnTo>
                    <a:lnTo>
                      <a:pt x="3383" y="4219"/>
                    </a:lnTo>
                    <a:lnTo>
                      <a:pt x="3405" y="4230"/>
                    </a:lnTo>
                    <a:lnTo>
                      <a:pt x="3425" y="4251"/>
                    </a:lnTo>
                    <a:lnTo>
                      <a:pt x="3446" y="4262"/>
                    </a:lnTo>
                    <a:lnTo>
                      <a:pt x="3489" y="4273"/>
                    </a:lnTo>
                    <a:lnTo>
                      <a:pt x="3521" y="4294"/>
                    </a:lnTo>
                    <a:lnTo>
                      <a:pt x="3552" y="4314"/>
                    </a:lnTo>
                    <a:lnTo>
                      <a:pt x="3595" y="4335"/>
                    </a:lnTo>
                    <a:lnTo>
                      <a:pt x="3627" y="4357"/>
                    </a:lnTo>
                    <a:lnTo>
                      <a:pt x="3658" y="4368"/>
                    </a:lnTo>
                    <a:lnTo>
                      <a:pt x="3700" y="4389"/>
                    </a:lnTo>
                    <a:lnTo>
                      <a:pt x="3732" y="4410"/>
                    </a:lnTo>
                    <a:lnTo>
                      <a:pt x="3764" y="4432"/>
                    </a:lnTo>
                    <a:lnTo>
                      <a:pt x="3797" y="4453"/>
                    </a:lnTo>
                    <a:lnTo>
                      <a:pt x="3839" y="4474"/>
                    </a:lnTo>
                    <a:lnTo>
                      <a:pt x="3870" y="4495"/>
                    </a:lnTo>
                    <a:lnTo>
                      <a:pt x="3902" y="4505"/>
                    </a:lnTo>
                    <a:lnTo>
                      <a:pt x="3945" y="4527"/>
                    </a:lnTo>
                    <a:lnTo>
                      <a:pt x="3976" y="4547"/>
                    </a:lnTo>
                    <a:lnTo>
                      <a:pt x="4008" y="4568"/>
                    </a:lnTo>
                    <a:lnTo>
                      <a:pt x="4008" y="4580"/>
                    </a:lnTo>
                    <a:lnTo>
                      <a:pt x="4008" y="4590"/>
                    </a:lnTo>
                    <a:lnTo>
                      <a:pt x="4008" y="4602"/>
                    </a:lnTo>
                    <a:lnTo>
                      <a:pt x="3997" y="4602"/>
                    </a:lnTo>
                    <a:lnTo>
                      <a:pt x="3987" y="4602"/>
                    </a:lnTo>
                    <a:lnTo>
                      <a:pt x="3976" y="4602"/>
                    </a:lnTo>
                    <a:lnTo>
                      <a:pt x="3966" y="4611"/>
                    </a:lnTo>
                    <a:lnTo>
                      <a:pt x="3955" y="4611"/>
                    </a:lnTo>
                    <a:lnTo>
                      <a:pt x="3945" y="4611"/>
                    </a:lnTo>
                    <a:lnTo>
                      <a:pt x="3933" y="4611"/>
                    </a:lnTo>
                    <a:lnTo>
                      <a:pt x="3924" y="4622"/>
                    </a:lnTo>
                    <a:lnTo>
                      <a:pt x="3912" y="4622"/>
                    </a:lnTo>
                    <a:lnTo>
                      <a:pt x="3902" y="4622"/>
                    </a:lnTo>
                    <a:lnTo>
                      <a:pt x="3892" y="4622"/>
                    </a:lnTo>
                    <a:lnTo>
                      <a:pt x="3881" y="4622"/>
                    </a:lnTo>
                    <a:lnTo>
                      <a:pt x="3870" y="4622"/>
                    </a:lnTo>
                    <a:lnTo>
                      <a:pt x="3860" y="4622"/>
                    </a:lnTo>
                    <a:lnTo>
                      <a:pt x="3849" y="4622"/>
                    </a:lnTo>
                    <a:lnTo>
                      <a:pt x="3839" y="4622"/>
                    </a:lnTo>
                    <a:lnTo>
                      <a:pt x="3827" y="4622"/>
                    </a:lnTo>
                    <a:lnTo>
                      <a:pt x="3818" y="4622"/>
                    </a:lnTo>
                    <a:lnTo>
                      <a:pt x="3754" y="4611"/>
                    </a:lnTo>
                    <a:lnTo>
                      <a:pt x="3691" y="4611"/>
                    </a:lnTo>
                    <a:lnTo>
                      <a:pt x="3627" y="4611"/>
                    </a:lnTo>
                    <a:lnTo>
                      <a:pt x="3564" y="4611"/>
                    </a:lnTo>
                    <a:lnTo>
                      <a:pt x="3500" y="4602"/>
                    </a:lnTo>
                    <a:lnTo>
                      <a:pt x="3435" y="4602"/>
                    </a:lnTo>
                    <a:lnTo>
                      <a:pt x="3371" y="4602"/>
                    </a:lnTo>
                    <a:lnTo>
                      <a:pt x="3308" y="4602"/>
                    </a:lnTo>
                    <a:lnTo>
                      <a:pt x="3244" y="4602"/>
                    </a:lnTo>
                    <a:lnTo>
                      <a:pt x="3181" y="4602"/>
                    </a:lnTo>
                    <a:lnTo>
                      <a:pt x="3117" y="4602"/>
                    </a:lnTo>
                    <a:lnTo>
                      <a:pt x="3054" y="4590"/>
                    </a:lnTo>
                    <a:lnTo>
                      <a:pt x="2990" y="4590"/>
                    </a:lnTo>
                    <a:lnTo>
                      <a:pt x="2938" y="4590"/>
                    </a:lnTo>
                    <a:lnTo>
                      <a:pt x="2874" y="4580"/>
                    </a:lnTo>
                    <a:lnTo>
                      <a:pt x="2821" y="4580"/>
                    </a:lnTo>
                    <a:lnTo>
                      <a:pt x="2779" y="4580"/>
                    </a:lnTo>
                    <a:lnTo>
                      <a:pt x="2736" y="4580"/>
                    </a:lnTo>
                    <a:lnTo>
                      <a:pt x="2704" y="4590"/>
                    </a:lnTo>
                    <a:lnTo>
                      <a:pt x="2661" y="4590"/>
                    </a:lnTo>
                    <a:lnTo>
                      <a:pt x="2630" y="4590"/>
                    </a:lnTo>
                    <a:lnTo>
                      <a:pt x="2588" y="4590"/>
                    </a:lnTo>
                    <a:lnTo>
                      <a:pt x="2555" y="4590"/>
                    </a:lnTo>
                    <a:lnTo>
                      <a:pt x="2514" y="4590"/>
                    </a:lnTo>
                    <a:lnTo>
                      <a:pt x="2482" y="4590"/>
                    </a:lnTo>
                    <a:lnTo>
                      <a:pt x="2440" y="4580"/>
                    </a:lnTo>
                    <a:lnTo>
                      <a:pt x="2408" y="4580"/>
                    </a:lnTo>
                    <a:lnTo>
                      <a:pt x="2365" y="4580"/>
                    </a:lnTo>
                    <a:lnTo>
                      <a:pt x="2333" y="4580"/>
                    </a:lnTo>
                    <a:lnTo>
                      <a:pt x="2290" y="4590"/>
                    </a:lnTo>
                    <a:lnTo>
                      <a:pt x="2248" y="4590"/>
                    </a:lnTo>
                    <a:lnTo>
                      <a:pt x="2217" y="4590"/>
                    </a:lnTo>
                    <a:lnTo>
                      <a:pt x="2163" y="4547"/>
                    </a:lnTo>
                    <a:lnTo>
                      <a:pt x="2120" y="4505"/>
                    </a:lnTo>
                    <a:lnTo>
                      <a:pt x="2068" y="4474"/>
                    </a:lnTo>
                    <a:lnTo>
                      <a:pt x="2027" y="4432"/>
                    </a:lnTo>
                    <a:lnTo>
                      <a:pt x="1973" y="4389"/>
                    </a:lnTo>
                    <a:lnTo>
                      <a:pt x="1930" y="4357"/>
                    </a:lnTo>
                    <a:lnTo>
                      <a:pt x="1877" y="4314"/>
                    </a:lnTo>
                    <a:lnTo>
                      <a:pt x="1834" y="4273"/>
                    </a:lnTo>
                    <a:lnTo>
                      <a:pt x="1782" y="4230"/>
                    </a:lnTo>
                    <a:lnTo>
                      <a:pt x="1739" y="4187"/>
                    </a:lnTo>
                    <a:lnTo>
                      <a:pt x="1686" y="4145"/>
                    </a:lnTo>
                    <a:lnTo>
                      <a:pt x="1644" y="4103"/>
                    </a:lnTo>
                    <a:lnTo>
                      <a:pt x="1592" y="4060"/>
                    </a:lnTo>
                    <a:lnTo>
                      <a:pt x="1549" y="4018"/>
                    </a:lnTo>
                    <a:lnTo>
                      <a:pt x="1506" y="3976"/>
                    </a:lnTo>
                    <a:lnTo>
                      <a:pt x="1453" y="3933"/>
                    </a:lnTo>
                    <a:lnTo>
                      <a:pt x="1443" y="3933"/>
                    </a:lnTo>
                    <a:lnTo>
                      <a:pt x="1431" y="3933"/>
                    </a:lnTo>
                    <a:lnTo>
                      <a:pt x="1422" y="3933"/>
                    </a:lnTo>
                    <a:lnTo>
                      <a:pt x="1411" y="3943"/>
                    </a:lnTo>
                    <a:lnTo>
                      <a:pt x="1411" y="3954"/>
                    </a:lnTo>
                    <a:lnTo>
                      <a:pt x="1401" y="3965"/>
                    </a:lnTo>
                    <a:lnTo>
                      <a:pt x="1401" y="3976"/>
                    </a:lnTo>
                    <a:lnTo>
                      <a:pt x="1401" y="3985"/>
                    </a:lnTo>
                    <a:lnTo>
                      <a:pt x="1401" y="3997"/>
                    </a:lnTo>
                    <a:lnTo>
                      <a:pt x="1401" y="4018"/>
                    </a:lnTo>
                    <a:lnTo>
                      <a:pt x="1401" y="4028"/>
                    </a:lnTo>
                    <a:lnTo>
                      <a:pt x="1390" y="4049"/>
                    </a:lnTo>
                    <a:lnTo>
                      <a:pt x="1379" y="4060"/>
                    </a:lnTo>
                    <a:lnTo>
                      <a:pt x="1369" y="4060"/>
                    </a:lnTo>
                    <a:lnTo>
                      <a:pt x="1315" y="4060"/>
                    </a:lnTo>
                    <a:lnTo>
                      <a:pt x="1263" y="4071"/>
                    </a:lnTo>
                    <a:lnTo>
                      <a:pt x="1209" y="4071"/>
                    </a:lnTo>
                    <a:lnTo>
                      <a:pt x="1157" y="4081"/>
                    </a:lnTo>
                    <a:lnTo>
                      <a:pt x="1104" y="4103"/>
                    </a:lnTo>
                    <a:lnTo>
                      <a:pt x="1093" y="4103"/>
                    </a:lnTo>
                    <a:lnTo>
                      <a:pt x="1030" y="4112"/>
                    </a:lnTo>
                    <a:lnTo>
                      <a:pt x="966" y="4134"/>
                    </a:lnTo>
                    <a:lnTo>
                      <a:pt x="903" y="4145"/>
                    </a:lnTo>
                    <a:lnTo>
                      <a:pt x="839" y="4155"/>
                    </a:lnTo>
                    <a:lnTo>
                      <a:pt x="785" y="4176"/>
                    </a:lnTo>
                    <a:lnTo>
                      <a:pt x="764" y="4187"/>
                    </a:lnTo>
                    <a:lnTo>
                      <a:pt x="753" y="4187"/>
                    </a:lnTo>
                    <a:lnTo>
                      <a:pt x="742" y="4187"/>
                    </a:lnTo>
                    <a:lnTo>
                      <a:pt x="732" y="4187"/>
                    </a:lnTo>
                    <a:lnTo>
                      <a:pt x="732" y="4198"/>
                    </a:lnTo>
                    <a:lnTo>
                      <a:pt x="722" y="4208"/>
                    </a:lnTo>
                    <a:lnTo>
                      <a:pt x="710" y="4208"/>
                    </a:lnTo>
                    <a:lnTo>
                      <a:pt x="404" y="4305"/>
                    </a:lnTo>
                    <a:lnTo>
                      <a:pt x="393" y="4305"/>
                    </a:lnTo>
                    <a:lnTo>
                      <a:pt x="383" y="4305"/>
                    </a:lnTo>
                    <a:lnTo>
                      <a:pt x="372" y="4305"/>
                    </a:lnTo>
                    <a:lnTo>
                      <a:pt x="361" y="4305"/>
                    </a:lnTo>
                    <a:lnTo>
                      <a:pt x="361" y="4294"/>
                    </a:lnTo>
                    <a:lnTo>
                      <a:pt x="350" y="4294"/>
                    </a:lnTo>
                    <a:lnTo>
                      <a:pt x="341" y="4273"/>
                    </a:lnTo>
                    <a:lnTo>
                      <a:pt x="341" y="4262"/>
                    </a:lnTo>
                    <a:lnTo>
                      <a:pt x="341" y="4240"/>
                    </a:lnTo>
                    <a:lnTo>
                      <a:pt x="341" y="4219"/>
                    </a:lnTo>
                    <a:lnTo>
                      <a:pt x="350" y="4198"/>
                    </a:lnTo>
                    <a:lnTo>
                      <a:pt x="350" y="4187"/>
                    </a:lnTo>
                    <a:lnTo>
                      <a:pt x="425" y="4006"/>
                    </a:lnTo>
                    <a:lnTo>
                      <a:pt x="499" y="3827"/>
                    </a:lnTo>
                    <a:lnTo>
                      <a:pt x="583" y="3636"/>
                    </a:lnTo>
                    <a:lnTo>
                      <a:pt x="658" y="3456"/>
                    </a:lnTo>
                    <a:lnTo>
                      <a:pt x="742" y="3276"/>
                    </a:lnTo>
                    <a:lnTo>
                      <a:pt x="775" y="3224"/>
                    </a:lnTo>
                    <a:lnTo>
                      <a:pt x="764" y="3212"/>
                    </a:lnTo>
                    <a:lnTo>
                      <a:pt x="764" y="3202"/>
                    </a:lnTo>
                    <a:lnTo>
                      <a:pt x="753" y="3202"/>
                    </a:lnTo>
                    <a:lnTo>
                      <a:pt x="753" y="3190"/>
                    </a:lnTo>
                    <a:lnTo>
                      <a:pt x="742" y="3181"/>
                    </a:lnTo>
                    <a:lnTo>
                      <a:pt x="669" y="3276"/>
                    </a:lnTo>
                    <a:lnTo>
                      <a:pt x="595" y="3382"/>
                    </a:lnTo>
                    <a:lnTo>
                      <a:pt x="520" y="3466"/>
                    </a:lnTo>
                    <a:lnTo>
                      <a:pt x="447" y="3562"/>
                    </a:lnTo>
                    <a:lnTo>
                      <a:pt x="361" y="3657"/>
                    </a:lnTo>
                    <a:lnTo>
                      <a:pt x="329" y="3689"/>
                    </a:lnTo>
                    <a:lnTo>
                      <a:pt x="255" y="3785"/>
                    </a:lnTo>
                    <a:lnTo>
                      <a:pt x="223" y="3891"/>
                    </a:lnTo>
                    <a:lnTo>
                      <a:pt x="234" y="4018"/>
                    </a:lnTo>
                    <a:lnTo>
                      <a:pt x="245" y="4145"/>
                    </a:lnTo>
                    <a:lnTo>
                      <a:pt x="255" y="4262"/>
                    </a:lnTo>
                    <a:lnTo>
                      <a:pt x="245" y="4294"/>
                    </a:lnTo>
                    <a:lnTo>
                      <a:pt x="255" y="4314"/>
                    </a:lnTo>
                    <a:lnTo>
                      <a:pt x="255" y="4347"/>
                    </a:lnTo>
                    <a:lnTo>
                      <a:pt x="245" y="4368"/>
                    </a:lnTo>
                    <a:lnTo>
                      <a:pt x="255" y="4389"/>
                    </a:lnTo>
                    <a:lnTo>
                      <a:pt x="277" y="4400"/>
                    </a:lnTo>
                    <a:lnTo>
                      <a:pt x="288" y="4400"/>
                    </a:lnTo>
                    <a:lnTo>
                      <a:pt x="415" y="4441"/>
                    </a:lnTo>
                    <a:lnTo>
                      <a:pt x="542" y="4484"/>
                    </a:lnTo>
                    <a:lnTo>
                      <a:pt x="680" y="4505"/>
                    </a:lnTo>
                    <a:lnTo>
                      <a:pt x="817" y="4537"/>
                    </a:lnTo>
                    <a:lnTo>
                      <a:pt x="944" y="4580"/>
                    </a:lnTo>
                    <a:lnTo>
                      <a:pt x="987" y="4602"/>
                    </a:lnTo>
                    <a:lnTo>
                      <a:pt x="1009" y="4611"/>
                    </a:lnTo>
                    <a:lnTo>
                      <a:pt x="1009" y="4622"/>
                    </a:lnTo>
                    <a:lnTo>
                      <a:pt x="1018" y="4632"/>
                    </a:lnTo>
                    <a:lnTo>
                      <a:pt x="1018" y="4654"/>
                    </a:lnTo>
                    <a:lnTo>
                      <a:pt x="1018" y="4665"/>
                    </a:lnTo>
                    <a:lnTo>
                      <a:pt x="1018" y="4674"/>
                    </a:lnTo>
                    <a:lnTo>
                      <a:pt x="1009" y="4686"/>
                    </a:lnTo>
                    <a:lnTo>
                      <a:pt x="997" y="4686"/>
                    </a:lnTo>
                    <a:lnTo>
                      <a:pt x="977" y="4686"/>
                    </a:lnTo>
                    <a:lnTo>
                      <a:pt x="966" y="4674"/>
                    </a:lnTo>
                    <a:lnTo>
                      <a:pt x="944" y="4674"/>
                    </a:lnTo>
                    <a:lnTo>
                      <a:pt x="860" y="4665"/>
                    </a:lnTo>
                    <a:lnTo>
                      <a:pt x="775" y="4665"/>
                    </a:lnTo>
                    <a:lnTo>
                      <a:pt x="701" y="4665"/>
                    </a:lnTo>
                    <a:lnTo>
                      <a:pt x="615" y="4665"/>
                    </a:lnTo>
                    <a:lnTo>
                      <a:pt x="531" y="4665"/>
                    </a:lnTo>
                    <a:lnTo>
                      <a:pt x="510" y="4665"/>
                    </a:lnTo>
                    <a:lnTo>
                      <a:pt x="425" y="4665"/>
                    </a:lnTo>
                    <a:lnTo>
                      <a:pt x="341" y="4665"/>
                    </a:lnTo>
                    <a:lnTo>
                      <a:pt x="255" y="4674"/>
                    </a:lnTo>
                    <a:lnTo>
                      <a:pt x="170" y="4674"/>
                    </a:lnTo>
                    <a:lnTo>
                      <a:pt x="86" y="4686"/>
                    </a:lnTo>
                    <a:lnTo>
                      <a:pt x="54" y="4686"/>
                    </a:lnTo>
                    <a:lnTo>
                      <a:pt x="43" y="4686"/>
                    </a:lnTo>
                    <a:lnTo>
                      <a:pt x="21" y="4686"/>
                    </a:lnTo>
                    <a:lnTo>
                      <a:pt x="12" y="4674"/>
                    </a:lnTo>
                    <a:lnTo>
                      <a:pt x="0" y="4665"/>
                    </a:lnTo>
                    <a:lnTo>
                      <a:pt x="0" y="4654"/>
                    </a:lnTo>
                    <a:lnTo>
                      <a:pt x="0" y="4643"/>
                    </a:lnTo>
                    <a:lnTo>
                      <a:pt x="0" y="4622"/>
                    </a:lnTo>
                    <a:lnTo>
                      <a:pt x="0" y="4602"/>
                    </a:lnTo>
                    <a:lnTo>
                      <a:pt x="0" y="4568"/>
                    </a:lnTo>
                    <a:lnTo>
                      <a:pt x="0" y="4547"/>
                    </a:lnTo>
                    <a:lnTo>
                      <a:pt x="12" y="4527"/>
                    </a:lnTo>
                    <a:lnTo>
                      <a:pt x="12" y="4389"/>
                    </a:lnTo>
                    <a:lnTo>
                      <a:pt x="21" y="4251"/>
                    </a:lnTo>
                    <a:lnTo>
                      <a:pt x="21" y="4124"/>
                    </a:lnTo>
                    <a:lnTo>
                      <a:pt x="33" y="3985"/>
                    </a:lnTo>
                    <a:lnTo>
                      <a:pt x="33" y="3848"/>
                    </a:lnTo>
                    <a:lnTo>
                      <a:pt x="43" y="3806"/>
                    </a:lnTo>
                    <a:lnTo>
                      <a:pt x="54" y="2809"/>
                    </a:lnTo>
                    <a:lnTo>
                      <a:pt x="54" y="2798"/>
                    </a:lnTo>
                    <a:lnTo>
                      <a:pt x="54" y="2682"/>
                    </a:lnTo>
                    <a:lnTo>
                      <a:pt x="54" y="2565"/>
                    </a:lnTo>
                    <a:lnTo>
                      <a:pt x="54" y="2438"/>
                    </a:lnTo>
                    <a:lnTo>
                      <a:pt x="54" y="2321"/>
                    </a:lnTo>
                    <a:lnTo>
                      <a:pt x="43" y="2194"/>
                    </a:lnTo>
                    <a:lnTo>
                      <a:pt x="43" y="2152"/>
                    </a:lnTo>
                    <a:lnTo>
                      <a:pt x="54" y="2046"/>
                    </a:lnTo>
                    <a:lnTo>
                      <a:pt x="54" y="1929"/>
                    </a:lnTo>
                    <a:lnTo>
                      <a:pt x="64" y="1812"/>
                    </a:lnTo>
                    <a:lnTo>
                      <a:pt x="86" y="1696"/>
                    </a:lnTo>
                    <a:lnTo>
                      <a:pt x="107" y="1590"/>
                    </a:lnTo>
                    <a:lnTo>
                      <a:pt x="118" y="1547"/>
                    </a:lnTo>
                    <a:lnTo>
                      <a:pt x="223" y="1420"/>
                    </a:lnTo>
                    <a:lnTo>
                      <a:pt x="341" y="1282"/>
                    </a:lnTo>
                    <a:lnTo>
                      <a:pt x="456" y="1145"/>
                    </a:lnTo>
                    <a:lnTo>
                      <a:pt x="574" y="1007"/>
                    </a:lnTo>
                    <a:lnTo>
                      <a:pt x="689" y="869"/>
                    </a:lnTo>
                    <a:lnTo>
                      <a:pt x="722" y="826"/>
                    </a:lnTo>
                    <a:lnTo>
                      <a:pt x="1369" y="42"/>
                    </a:lnTo>
                    <a:lnTo>
                      <a:pt x="1411" y="0"/>
                    </a:lnTo>
                    <a:lnTo>
                      <a:pt x="1761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1868400" y="3568680"/>
                <a:ext cx="30600" cy="289440"/>
              </a:xfrm>
              <a:custGeom>
                <a:avLst/>
                <a:gdLst/>
                <a:ahLst/>
                <a:rect l="l" t="t" r="r" b="b"/>
                <a:pathLst>
                  <a:path w="75" h="741">
                    <a:moveTo>
                      <a:pt x="75" y="0"/>
                    </a:moveTo>
                    <a:lnTo>
                      <a:pt x="75" y="43"/>
                    </a:lnTo>
                    <a:lnTo>
                      <a:pt x="75" y="95"/>
                    </a:lnTo>
                    <a:lnTo>
                      <a:pt x="64" y="137"/>
                    </a:lnTo>
                    <a:lnTo>
                      <a:pt x="64" y="179"/>
                    </a:lnTo>
                    <a:lnTo>
                      <a:pt x="64" y="233"/>
                    </a:lnTo>
                    <a:lnTo>
                      <a:pt x="54" y="276"/>
                    </a:lnTo>
                    <a:lnTo>
                      <a:pt x="54" y="317"/>
                    </a:lnTo>
                    <a:lnTo>
                      <a:pt x="54" y="371"/>
                    </a:lnTo>
                    <a:lnTo>
                      <a:pt x="43" y="413"/>
                    </a:lnTo>
                    <a:lnTo>
                      <a:pt x="43" y="466"/>
                    </a:lnTo>
                    <a:lnTo>
                      <a:pt x="32" y="508"/>
                    </a:lnTo>
                    <a:lnTo>
                      <a:pt x="21" y="562"/>
                    </a:lnTo>
                    <a:lnTo>
                      <a:pt x="21" y="603"/>
                    </a:lnTo>
                    <a:lnTo>
                      <a:pt x="12" y="646"/>
                    </a:lnTo>
                    <a:lnTo>
                      <a:pt x="12" y="698"/>
                    </a:lnTo>
                    <a:lnTo>
                      <a:pt x="0" y="7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1856520" y="3858120"/>
                <a:ext cx="16200" cy="531720"/>
              </a:xfrm>
              <a:custGeom>
                <a:avLst/>
                <a:gdLst/>
                <a:ahLst/>
                <a:rect l="l" t="t" r="r" b="b"/>
                <a:pathLst>
                  <a:path w="43" h="1368">
                    <a:moveTo>
                      <a:pt x="31" y="0"/>
                    </a:moveTo>
                    <a:lnTo>
                      <a:pt x="43" y="86"/>
                    </a:lnTo>
                    <a:lnTo>
                      <a:pt x="43" y="171"/>
                    </a:lnTo>
                    <a:lnTo>
                      <a:pt x="43" y="256"/>
                    </a:lnTo>
                    <a:lnTo>
                      <a:pt x="43" y="340"/>
                    </a:lnTo>
                    <a:lnTo>
                      <a:pt x="31" y="424"/>
                    </a:lnTo>
                    <a:lnTo>
                      <a:pt x="31" y="510"/>
                    </a:lnTo>
                    <a:lnTo>
                      <a:pt x="31" y="594"/>
                    </a:lnTo>
                    <a:lnTo>
                      <a:pt x="22" y="690"/>
                    </a:lnTo>
                    <a:lnTo>
                      <a:pt x="22" y="775"/>
                    </a:lnTo>
                    <a:lnTo>
                      <a:pt x="10" y="859"/>
                    </a:lnTo>
                    <a:lnTo>
                      <a:pt x="10" y="945"/>
                    </a:lnTo>
                    <a:lnTo>
                      <a:pt x="0" y="1029"/>
                    </a:lnTo>
                    <a:lnTo>
                      <a:pt x="0" y="1113"/>
                    </a:lnTo>
                    <a:lnTo>
                      <a:pt x="0" y="1199"/>
                    </a:lnTo>
                    <a:lnTo>
                      <a:pt x="0" y="1283"/>
                    </a:lnTo>
                    <a:lnTo>
                      <a:pt x="0" y="13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1852560" y="4448160"/>
                <a:ext cx="170280" cy="399600"/>
              </a:xfrm>
              <a:custGeom>
                <a:avLst/>
                <a:gdLst/>
                <a:ahLst/>
                <a:rect l="l" t="t" r="r" b="b"/>
                <a:pathLst>
                  <a:path w="435" h="1029">
                    <a:moveTo>
                      <a:pt x="0" y="0"/>
                    </a:moveTo>
                    <a:lnTo>
                      <a:pt x="33" y="64"/>
                    </a:lnTo>
                    <a:lnTo>
                      <a:pt x="54" y="128"/>
                    </a:lnTo>
                    <a:lnTo>
                      <a:pt x="74" y="193"/>
                    </a:lnTo>
                    <a:lnTo>
                      <a:pt x="106" y="256"/>
                    </a:lnTo>
                    <a:lnTo>
                      <a:pt x="128" y="329"/>
                    </a:lnTo>
                    <a:lnTo>
                      <a:pt x="160" y="393"/>
                    </a:lnTo>
                    <a:lnTo>
                      <a:pt x="181" y="456"/>
                    </a:lnTo>
                    <a:lnTo>
                      <a:pt x="212" y="520"/>
                    </a:lnTo>
                    <a:lnTo>
                      <a:pt x="233" y="583"/>
                    </a:lnTo>
                    <a:lnTo>
                      <a:pt x="265" y="648"/>
                    </a:lnTo>
                    <a:lnTo>
                      <a:pt x="287" y="712"/>
                    </a:lnTo>
                    <a:lnTo>
                      <a:pt x="319" y="775"/>
                    </a:lnTo>
                    <a:lnTo>
                      <a:pt x="350" y="839"/>
                    </a:lnTo>
                    <a:lnTo>
                      <a:pt x="371" y="902"/>
                    </a:lnTo>
                    <a:lnTo>
                      <a:pt x="403" y="966"/>
                    </a:lnTo>
                    <a:lnTo>
                      <a:pt x="435" y="10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2022840" y="4848120"/>
                <a:ext cx="155880" cy="309960"/>
              </a:xfrm>
              <a:custGeom>
                <a:avLst/>
                <a:gdLst/>
                <a:ahLst/>
                <a:rect l="l" t="t" r="r" b="b"/>
                <a:pathLst>
                  <a:path w="403" h="796">
                    <a:moveTo>
                      <a:pt x="0" y="0"/>
                    </a:moveTo>
                    <a:lnTo>
                      <a:pt x="20" y="52"/>
                    </a:lnTo>
                    <a:lnTo>
                      <a:pt x="42" y="107"/>
                    </a:lnTo>
                    <a:lnTo>
                      <a:pt x="63" y="159"/>
                    </a:lnTo>
                    <a:lnTo>
                      <a:pt x="85" y="213"/>
                    </a:lnTo>
                    <a:lnTo>
                      <a:pt x="106" y="254"/>
                    </a:lnTo>
                    <a:lnTo>
                      <a:pt x="138" y="308"/>
                    </a:lnTo>
                    <a:lnTo>
                      <a:pt x="159" y="361"/>
                    </a:lnTo>
                    <a:lnTo>
                      <a:pt x="181" y="415"/>
                    </a:lnTo>
                    <a:lnTo>
                      <a:pt x="201" y="456"/>
                    </a:lnTo>
                    <a:lnTo>
                      <a:pt x="233" y="508"/>
                    </a:lnTo>
                    <a:lnTo>
                      <a:pt x="254" y="562"/>
                    </a:lnTo>
                    <a:lnTo>
                      <a:pt x="287" y="605"/>
                    </a:lnTo>
                    <a:lnTo>
                      <a:pt x="308" y="657"/>
                    </a:lnTo>
                    <a:lnTo>
                      <a:pt x="340" y="710"/>
                    </a:lnTo>
                    <a:lnTo>
                      <a:pt x="371" y="753"/>
                    </a:lnTo>
                    <a:lnTo>
                      <a:pt x="40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2179080" y="5078880"/>
                <a:ext cx="226440" cy="79200"/>
              </a:xfrm>
              <a:custGeom>
                <a:avLst/>
                <a:gdLst/>
                <a:ahLst/>
                <a:rect l="l" t="t" r="r" b="b"/>
                <a:pathLst>
                  <a:path w="583" h="202">
                    <a:moveTo>
                      <a:pt x="0" y="202"/>
                    </a:moveTo>
                    <a:lnTo>
                      <a:pt x="43" y="191"/>
                    </a:lnTo>
                    <a:lnTo>
                      <a:pt x="74" y="181"/>
                    </a:lnTo>
                    <a:lnTo>
                      <a:pt x="116" y="170"/>
                    </a:lnTo>
                    <a:lnTo>
                      <a:pt x="148" y="159"/>
                    </a:lnTo>
                    <a:lnTo>
                      <a:pt x="179" y="148"/>
                    </a:lnTo>
                    <a:lnTo>
                      <a:pt x="222" y="127"/>
                    </a:lnTo>
                    <a:lnTo>
                      <a:pt x="254" y="116"/>
                    </a:lnTo>
                    <a:lnTo>
                      <a:pt x="297" y="106"/>
                    </a:lnTo>
                    <a:lnTo>
                      <a:pt x="328" y="95"/>
                    </a:lnTo>
                    <a:lnTo>
                      <a:pt x="360" y="75"/>
                    </a:lnTo>
                    <a:lnTo>
                      <a:pt x="403" y="63"/>
                    </a:lnTo>
                    <a:lnTo>
                      <a:pt x="435" y="53"/>
                    </a:lnTo>
                    <a:lnTo>
                      <a:pt x="477" y="42"/>
                    </a:lnTo>
                    <a:lnTo>
                      <a:pt x="508" y="20"/>
                    </a:lnTo>
                    <a:lnTo>
                      <a:pt x="540" y="11"/>
                    </a:lnTo>
                    <a:lnTo>
                      <a:pt x="58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2405520" y="5078880"/>
                <a:ext cx="139680" cy="65520"/>
              </a:xfrm>
              <a:custGeom>
                <a:avLst/>
                <a:gdLst/>
                <a:ahLst/>
                <a:rect l="l" t="t" r="r" b="b"/>
                <a:pathLst>
                  <a:path w="360" h="170">
                    <a:moveTo>
                      <a:pt x="0" y="0"/>
                    </a:moveTo>
                    <a:lnTo>
                      <a:pt x="22" y="0"/>
                    </a:lnTo>
                    <a:lnTo>
                      <a:pt x="43" y="0"/>
                    </a:lnTo>
                    <a:lnTo>
                      <a:pt x="74" y="11"/>
                    </a:lnTo>
                    <a:lnTo>
                      <a:pt x="95" y="20"/>
                    </a:lnTo>
                    <a:lnTo>
                      <a:pt x="117" y="32"/>
                    </a:lnTo>
                    <a:lnTo>
                      <a:pt x="137" y="42"/>
                    </a:lnTo>
                    <a:lnTo>
                      <a:pt x="158" y="53"/>
                    </a:lnTo>
                    <a:lnTo>
                      <a:pt x="191" y="63"/>
                    </a:lnTo>
                    <a:lnTo>
                      <a:pt x="212" y="75"/>
                    </a:lnTo>
                    <a:lnTo>
                      <a:pt x="233" y="84"/>
                    </a:lnTo>
                    <a:lnTo>
                      <a:pt x="254" y="106"/>
                    </a:lnTo>
                    <a:lnTo>
                      <a:pt x="276" y="116"/>
                    </a:lnTo>
                    <a:lnTo>
                      <a:pt x="297" y="127"/>
                    </a:lnTo>
                    <a:lnTo>
                      <a:pt x="319" y="138"/>
                    </a:lnTo>
                    <a:lnTo>
                      <a:pt x="339" y="159"/>
                    </a:lnTo>
                    <a:lnTo>
                      <a:pt x="360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2545560" y="5144400"/>
                <a:ext cx="219600" cy="118440"/>
              </a:xfrm>
              <a:custGeom>
                <a:avLst/>
                <a:gdLst/>
                <a:ahLst/>
                <a:rect l="l" t="t" r="r" b="b"/>
                <a:pathLst>
                  <a:path w="562" h="306">
                    <a:moveTo>
                      <a:pt x="0" y="0"/>
                    </a:moveTo>
                    <a:lnTo>
                      <a:pt x="43" y="11"/>
                    </a:lnTo>
                    <a:lnTo>
                      <a:pt x="75" y="32"/>
                    </a:lnTo>
                    <a:lnTo>
                      <a:pt x="106" y="52"/>
                    </a:lnTo>
                    <a:lnTo>
                      <a:pt x="149" y="73"/>
                    </a:lnTo>
                    <a:lnTo>
                      <a:pt x="181" y="95"/>
                    </a:lnTo>
                    <a:lnTo>
                      <a:pt x="212" y="106"/>
                    </a:lnTo>
                    <a:lnTo>
                      <a:pt x="254" y="127"/>
                    </a:lnTo>
                    <a:lnTo>
                      <a:pt x="286" y="148"/>
                    </a:lnTo>
                    <a:lnTo>
                      <a:pt x="318" y="170"/>
                    </a:lnTo>
                    <a:lnTo>
                      <a:pt x="351" y="191"/>
                    </a:lnTo>
                    <a:lnTo>
                      <a:pt x="393" y="212"/>
                    </a:lnTo>
                    <a:lnTo>
                      <a:pt x="424" y="233"/>
                    </a:lnTo>
                    <a:lnTo>
                      <a:pt x="456" y="243"/>
                    </a:lnTo>
                    <a:lnTo>
                      <a:pt x="499" y="265"/>
                    </a:lnTo>
                    <a:lnTo>
                      <a:pt x="530" y="285"/>
                    </a:lnTo>
                    <a:lnTo>
                      <a:pt x="562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1770480" y="5015880"/>
                <a:ext cx="296280" cy="256680"/>
              </a:xfrm>
              <a:custGeom>
                <a:avLst/>
                <a:gdLst/>
                <a:ahLst/>
                <a:rect l="l" t="t" r="r" b="b"/>
                <a:pathLst>
                  <a:path w="764" h="657">
                    <a:moveTo>
                      <a:pt x="764" y="657"/>
                    </a:moveTo>
                    <a:lnTo>
                      <a:pt x="710" y="614"/>
                    </a:lnTo>
                    <a:lnTo>
                      <a:pt x="667" y="572"/>
                    </a:lnTo>
                    <a:lnTo>
                      <a:pt x="615" y="541"/>
                    </a:lnTo>
                    <a:lnTo>
                      <a:pt x="574" y="499"/>
                    </a:lnTo>
                    <a:lnTo>
                      <a:pt x="520" y="456"/>
                    </a:lnTo>
                    <a:lnTo>
                      <a:pt x="477" y="424"/>
                    </a:lnTo>
                    <a:lnTo>
                      <a:pt x="424" y="381"/>
                    </a:lnTo>
                    <a:lnTo>
                      <a:pt x="381" y="340"/>
                    </a:lnTo>
                    <a:lnTo>
                      <a:pt x="329" y="297"/>
                    </a:lnTo>
                    <a:lnTo>
                      <a:pt x="286" y="254"/>
                    </a:lnTo>
                    <a:lnTo>
                      <a:pt x="233" y="212"/>
                    </a:lnTo>
                    <a:lnTo>
                      <a:pt x="191" y="170"/>
                    </a:lnTo>
                    <a:lnTo>
                      <a:pt x="139" y="127"/>
                    </a:lnTo>
                    <a:lnTo>
                      <a:pt x="96" y="85"/>
                    </a:lnTo>
                    <a:lnTo>
                      <a:pt x="53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1341000" y="4740480"/>
                <a:ext cx="165600" cy="375480"/>
              </a:xfrm>
              <a:custGeom>
                <a:avLst/>
                <a:gdLst/>
                <a:ahLst/>
                <a:rect l="l" t="t" r="r" b="b"/>
                <a:pathLst>
                  <a:path w="425" h="963">
                    <a:moveTo>
                      <a:pt x="0" y="963"/>
                    </a:moveTo>
                    <a:lnTo>
                      <a:pt x="22" y="900"/>
                    </a:lnTo>
                    <a:lnTo>
                      <a:pt x="54" y="847"/>
                    </a:lnTo>
                    <a:lnTo>
                      <a:pt x="75" y="782"/>
                    </a:lnTo>
                    <a:lnTo>
                      <a:pt x="106" y="719"/>
                    </a:lnTo>
                    <a:lnTo>
                      <a:pt x="128" y="655"/>
                    </a:lnTo>
                    <a:lnTo>
                      <a:pt x="149" y="603"/>
                    </a:lnTo>
                    <a:lnTo>
                      <a:pt x="181" y="540"/>
                    </a:lnTo>
                    <a:lnTo>
                      <a:pt x="202" y="476"/>
                    </a:lnTo>
                    <a:lnTo>
                      <a:pt x="233" y="412"/>
                    </a:lnTo>
                    <a:lnTo>
                      <a:pt x="255" y="359"/>
                    </a:lnTo>
                    <a:lnTo>
                      <a:pt x="287" y="295"/>
                    </a:lnTo>
                    <a:lnTo>
                      <a:pt x="308" y="232"/>
                    </a:lnTo>
                    <a:lnTo>
                      <a:pt x="339" y="179"/>
                    </a:lnTo>
                    <a:lnTo>
                      <a:pt x="360" y="115"/>
                    </a:lnTo>
                    <a:lnTo>
                      <a:pt x="392" y="52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1334160" y="4723920"/>
                <a:ext cx="160920" cy="198360"/>
              </a:xfrm>
              <a:custGeom>
                <a:avLst/>
                <a:gdLst/>
                <a:ahLst/>
                <a:rect l="l" t="t" r="r" b="b"/>
                <a:pathLst>
                  <a:path w="413" h="508">
                    <a:moveTo>
                      <a:pt x="413" y="0"/>
                    </a:moveTo>
                    <a:lnTo>
                      <a:pt x="393" y="31"/>
                    </a:lnTo>
                    <a:lnTo>
                      <a:pt x="360" y="63"/>
                    </a:lnTo>
                    <a:lnTo>
                      <a:pt x="340" y="95"/>
                    </a:lnTo>
                    <a:lnTo>
                      <a:pt x="318" y="127"/>
                    </a:lnTo>
                    <a:lnTo>
                      <a:pt x="297" y="170"/>
                    </a:lnTo>
                    <a:lnTo>
                      <a:pt x="266" y="201"/>
                    </a:lnTo>
                    <a:lnTo>
                      <a:pt x="245" y="233"/>
                    </a:lnTo>
                    <a:lnTo>
                      <a:pt x="213" y="254"/>
                    </a:lnTo>
                    <a:lnTo>
                      <a:pt x="191" y="285"/>
                    </a:lnTo>
                    <a:lnTo>
                      <a:pt x="170" y="317"/>
                    </a:lnTo>
                    <a:lnTo>
                      <a:pt x="139" y="349"/>
                    </a:lnTo>
                    <a:lnTo>
                      <a:pt x="118" y="381"/>
                    </a:lnTo>
                    <a:lnTo>
                      <a:pt x="86" y="412"/>
                    </a:lnTo>
                    <a:lnTo>
                      <a:pt x="54" y="444"/>
                    </a:lnTo>
                    <a:lnTo>
                      <a:pt x="32" y="476"/>
                    </a:lnTo>
                    <a:lnTo>
                      <a:pt x="0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1291680" y="4922640"/>
                <a:ext cx="42120" cy="235440"/>
              </a:xfrm>
              <a:custGeom>
                <a:avLst/>
                <a:gdLst/>
                <a:ahLst/>
                <a:rect l="l" t="t" r="r" b="b"/>
                <a:pathLst>
                  <a:path w="106" h="605">
                    <a:moveTo>
                      <a:pt x="106" y="0"/>
                    </a:moveTo>
                    <a:lnTo>
                      <a:pt x="75" y="32"/>
                    </a:lnTo>
                    <a:lnTo>
                      <a:pt x="43" y="63"/>
                    </a:lnTo>
                    <a:lnTo>
                      <a:pt x="32" y="96"/>
                    </a:lnTo>
                    <a:lnTo>
                      <a:pt x="11" y="127"/>
                    </a:lnTo>
                    <a:lnTo>
                      <a:pt x="11" y="170"/>
                    </a:lnTo>
                    <a:lnTo>
                      <a:pt x="0" y="202"/>
                    </a:lnTo>
                    <a:lnTo>
                      <a:pt x="0" y="244"/>
                    </a:lnTo>
                    <a:lnTo>
                      <a:pt x="0" y="287"/>
                    </a:lnTo>
                    <a:lnTo>
                      <a:pt x="11" y="329"/>
                    </a:lnTo>
                    <a:lnTo>
                      <a:pt x="11" y="371"/>
                    </a:lnTo>
                    <a:lnTo>
                      <a:pt x="22" y="414"/>
                    </a:lnTo>
                    <a:lnTo>
                      <a:pt x="22" y="456"/>
                    </a:lnTo>
                    <a:lnTo>
                      <a:pt x="32" y="487"/>
                    </a:lnTo>
                    <a:lnTo>
                      <a:pt x="32" y="530"/>
                    </a:lnTo>
                    <a:lnTo>
                      <a:pt x="32" y="573"/>
                    </a:lnTo>
                    <a:lnTo>
                      <a:pt x="22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1317600" y="5197680"/>
                <a:ext cx="270360" cy="79200"/>
              </a:xfrm>
              <a:custGeom>
                <a:avLst/>
                <a:gdLst/>
                <a:ahLst/>
                <a:rect l="l" t="t" r="r" b="b"/>
                <a:pathLst>
                  <a:path w="699" h="202">
                    <a:moveTo>
                      <a:pt x="0" y="0"/>
                    </a:moveTo>
                    <a:lnTo>
                      <a:pt x="41" y="20"/>
                    </a:lnTo>
                    <a:lnTo>
                      <a:pt x="84" y="32"/>
                    </a:lnTo>
                    <a:lnTo>
                      <a:pt x="127" y="41"/>
                    </a:lnTo>
                    <a:lnTo>
                      <a:pt x="168" y="53"/>
                    </a:lnTo>
                    <a:lnTo>
                      <a:pt x="211" y="63"/>
                    </a:lnTo>
                    <a:lnTo>
                      <a:pt x="254" y="84"/>
                    </a:lnTo>
                    <a:lnTo>
                      <a:pt x="307" y="84"/>
                    </a:lnTo>
                    <a:lnTo>
                      <a:pt x="349" y="95"/>
                    </a:lnTo>
                    <a:lnTo>
                      <a:pt x="392" y="105"/>
                    </a:lnTo>
                    <a:lnTo>
                      <a:pt x="444" y="116"/>
                    </a:lnTo>
                    <a:lnTo>
                      <a:pt x="487" y="127"/>
                    </a:lnTo>
                    <a:lnTo>
                      <a:pt x="529" y="137"/>
                    </a:lnTo>
                    <a:lnTo>
                      <a:pt x="572" y="159"/>
                    </a:lnTo>
                    <a:lnTo>
                      <a:pt x="615" y="168"/>
                    </a:lnTo>
                    <a:lnTo>
                      <a:pt x="656" y="180"/>
                    </a:lnTo>
                    <a:lnTo>
                      <a:pt x="699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1210320" y="4966560"/>
                <a:ext cx="11520" cy="280440"/>
              </a:xfrm>
              <a:custGeom>
                <a:avLst/>
                <a:gdLst/>
                <a:ahLst/>
                <a:rect l="l" t="t" r="r" b="b"/>
                <a:pathLst>
                  <a:path w="31" h="721">
                    <a:moveTo>
                      <a:pt x="0" y="721"/>
                    </a:moveTo>
                    <a:lnTo>
                      <a:pt x="0" y="668"/>
                    </a:lnTo>
                    <a:lnTo>
                      <a:pt x="0" y="626"/>
                    </a:lnTo>
                    <a:lnTo>
                      <a:pt x="0" y="583"/>
                    </a:lnTo>
                    <a:lnTo>
                      <a:pt x="0" y="541"/>
                    </a:lnTo>
                    <a:lnTo>
                      <a:pt x="0" y="499"/>
                    </a:lnTo>
                    <a:lnTo>
                      <a:pt x="9" y="445"/>
                    </a:lnTo>
                    <a:lnTo>
                      <a:pt x="9" y="402"/>
                    </a:lnTo>
                    <a:lnTo>
                      <a:pt x="9" y="361"/>
                    </a:lnTo>
                    <a:lnTo>
                      <a:pt x="9" y="318"/>
                    </a:lnTo>
                    <a:lnTo>
                      <a:pt x="21" y="265"/>
                    </a:lnTo>
                    <a:lnTo>
                      <a:pt x="21" y="222"/>
                    </a:lnTo>
                    <a:lnTo>
                      <a:pt x="21" y="179"/>
                    </a:lnTo>
                    <a:lnTo>
                      <a:pt x="21" y="137"/>
                    </a:lnTo>
                    <a:lnTo>
                      <a:pt x="21" y="85"/>
                    </a:lnTo>
                    <a:lnTo>
                      <a:pt x="21" y="4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flipV="1">
                <a:off x="1221840" y="4579200"/>
                <a:ext cx="4680" cy="3873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1221840" y="4325040"/>
                <a:ext cx="4680" cy="249480"/>
              </a:xfrm>
              <a:custGeom>
                <a:avLst/>
                <a:gdLst/>
                <a:ahLst/>
                <a:rect l="l" t="t" r="r" b="b"/>
                <a:pathLst>
                  <a:path w="11" h="646">
                    <a:moveTo>
                      <a:pt x="11" y="646"/>
                    </a:move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0"/>
                    </a:lnTo>
                    <a:lnTo>
                      <a:pt x="11" y="488"/>
                    </a:ln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71"/>
                    </a:lnTo>
                    <a:lnTo>
                      <a:pt x="11" y="329"/>
                    </a:lnTo>
                    <a:lnTo>
                      <a:pt x="11" y="286"/>
                    </a:lnTo>
                    <a:lnTo>
                      <a:pt x="11" y="243"/>
                    </a:lnTo>
                    <a:lnTo>
                      <a:pt x="11" y="202"/>
                    </a:lnTo>
                    <a:lnTo>
                      <a:pt x="11" y="169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1221840" y="4088880"/>
                <a:ext cx="27720" cy="235800"/>
              </a:xfrm>
              <a:custGeom>
                <a:avLst/>
                <a:gdLst/>
                <a:ahLst/>
                <a:rect l="l" t="t" r="r" b="b"/>
                <a:pathLst>
                  <a:path w="75" h="605">
                    <a:moveTo>
                      <a:pt x="0" y="605"/>
                    </a:moveTo>
                    <a:lnTo>
                      <a:pt x="0" y="573"/>
                    </a:lnTo>
                    <a:lnTo>
                      <a:pt x="0" y="531"/>
                    </a:lnTo>
                    <a:lnTo>
                      <a:pt x="11" y="499"/>
                    </a:lnTo>
                    <a:lnTo>
                      <a:pt x="11" y="456"/>
                    </a:lnTo>
                    <a:lnTo>
                      <a:pt x="11" y="414"/>
                    </a:lnTo>
                    <a:lnTo>
                      <a:pt x="11" y="382"/>
                    </a:lnTo>
                    <a:lnTo>
                      <a:pt x="21" y="339"/>
                    </a:lnTo>
                    <a:lnTo>
                      <a:pt x="21" y="308"/>
                    </a:lnTo>
                    <a:lnTo>
                      <a:pt x="21" y="265"/>
                    </a:lnTo>
                    <a:lnTo>
                      <a:pt x="32" y="224"/>
                    </a:lnTo>
                    <a:lnTo>
                      <a:pt x="32" y="192"/>
                    </a:lnTo>
                    <a:lnTo>
                      <a:pt x="43" y="149"/>
                    </a:lnTo>
                    <a:lnTo>
                      <a:pt x="43" y="118"/>
                    </a:lnTo>
                    <a:lnTo>
                      <a:pt x="53" y="75"/>
                    </a:lnTo>
                    <a:lnTo>
                      <a:pt x="64" y="43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1249920" y="3808800"/>
                <a:ext cx="235440" cy="279720"/>
              </a:xfrm>
              <a:custGeom>
                <a:avLst/>
                <a:gdLst/>
                <a:ahLst/>
                <a:rect l="l" t="t" r="r" b="b"/>
                <a:pathLst>
                  <a:path w="604" h="721">
                    <a:moveTo>
                      <a:pt x="0" y="721"/>
                    </a:moveTo>
                    <a:lnTo>
                      <a:pt x="31" y="678"/>
                    </a:lnTo>
                    <a:lnTo>
                      <a:pt x="73" y="637"/>
                    </a:lnTo>
                    <a:lnTo>
                      <a:pt x="105" y="594"/>
                    </a:lnTo>
                    <a:lnTo>
                      <a:pt x="148" y="541"/>
                    </a:lnTo>
                    <a:lnTo>
                      <a:pt x="190" y="498"/>
                    </a:lnTo>
                    <a:lnTo>
                      <a:pt x="223" y="456"/>
                    </a:lnTo>
                    <a:lnTo>
                      <a:pt x="265" y="414"/>
                    </a:lnTo>
                    <a:lnTo>
                      <a:pt x="307" y="361"/>
                    </a:lnTo>
                    <a:lnTo>
                      <a:pt x="338" y="319"/>
                    </a:lnTo>
                    <a:lnTo>
                      <a:pt x="381" y="277"/>
                    </a:lnTo>
                    <a:lnTo>
                      <a:pt x="413" y="223"/>
                    </a:lnTo>
                    <a:lnTo>
                      <a:pt x="456" y="181"/>
                    </a:lnTo>
                    <a:lnTo>
                      <a:pt x="487" y="138"/>
                    </a:lnTo>
                    <a:lnTo>
                      <a:pt x="529" y="84"/>
                    </a:lnTo>
                    <a:lnTo>
                      <a:pt x="571" y="43"/>
                    </a:lnTo>
                    <a:lnTo>
                      <a:pt x="6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1485720" y="3487320"/>
                <a:ext cx="403920" cy="321480"/>
              </a:xfrm>
              <a:custGeom>
                <a:avLst/>
                <a:gdLst/>
                <a:ahLst/>
                <a:rect l="l" t="t" r="r" b="b"/>
                <a:pathLst>
                  <a:path w="1039" h="826">
                    <a:moveTo>
                      <a:pt x="0" y="826"/>
                    </a:moveTo>
                    <a:lnTo>
                      <a:pt x="647" y="42"/>
                    </a:lnTo>
                    <a:lnTo>
                      <a:pt x="689" y="0"/>
                    </a:lnTo>
                    <a:lnTo>
                      <a:pt x="1039" y="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1217160" y="3531240"/>
                <a:ext cx="1517040" cy="1757520"/>
              </a:xfrm>
              <a:custGeom>
                <a:avLst/>
                <a:gdLst/>
                <a:ahLst/>
                <a:rect l="l" t="t" r="r" b="b"/>
                <a:pathLst>
                  <a:path w="3900" h="4516">
                    <a:moveTo>
                      <a:pt x="1695" y="75"/>
                    </a:moveTo>
                    <a:lnTo>
                      <a:pt x="1695" y="127"/>
                    </a:lnTo>
                    <a:lnTo>
                      <a:pt x="1695" y="170"/>
                    </a:lnTo>
                    <a:lnTo>
                      <a:pt x="1686" y="223"/>
                    </a:lnTo>
                    <a:lnTo>
                      <a:pt x="1686" y="265"/>
                    </a:lnTo>
                    <a:lnTo>
                      <a:pt x="1686" y="318"/>
                    </a:lnTo>
                    <a:lnTo>
                      <a:pt x="1674" y="361"/>
                    </a:lnTo>
                    <a:lnTo>
                      <a:pt x="1674" y="413"/>
                    </a:lnTo>
                    <a:lnTo>
                      <a:pt x="1674" y="456"/>
                    </a:lnTo>
                    <a:lnTo>
                      <a:pt x="1665" y="499"/>
                    </a:lnTo>
                    <a:lnTo>
                      <a:pt x="1665" y="552"/>
                    </a:lnTo>
                    <a:lnTo>
                      <a:pt x="1653" y="594"/>
                    </a:lnTo>
                    <a:lnTo>
                      <a:pt x="1653" y="646"/>
                    </a:lnTo>
                    <a:lnTo>
                      <a:pt x="1643" y="689"/>
                    </a:lnTo>
                    <a:lnTo>
                      <a:pt x="1632" y="732"/>
                    </a:lnTo>
                    <a:lnTo>
                      <a:pt x="1632" y="785"/>
                    </a:lnTo>
                    <a:lnTo>
                      <a:pt x="1622" y="827"/>
                    </a:lnTo>
                    <a:lnTo>
                      <a:pt x="1622" y="923"/>
                    </a:lnTo>
                    <a:lnTo>
                      <a:pt x="1632" y="1008"/>
                    </a:lnTo>
                    <a:lnTo>
                      <a:pt x="1632" y="1102"/>
                    </a:lnTo>
                    <a:lnTo>
                      <a:pt x="1622" y="1198"/>
                    </a:lnTo>
                    <a:lnTo>
                      <a:pt x="1622" y="1283"/>
                    </a:lnTo>
                    <a:lnTo>
                      <a:pt x="1622" y="1379"/>
                    </a:lnTo>
                    <a:lnTo>
                      <a:pt x="1611" y="1463"/>
                    </a:lnTo>
                    <a:lnTo>
                      <a:pt x="1611" y="1558"/>
                    </a:lnTo>
                    <a:lnTo>
                      <a:pt x="1600" y="1655"/>
                    </a:lnTo>
                    <a:lnTo>
                      <a:pt x="1600" y="1750"/>
                    </a:lnTo>
                    <a:lnTo>
                      <a:pt x="1590" y="1834"/>
                    </a:lnTo>
                    <a:lnTo>
                      <a:pt x="1579" y="1930"/>
                    </a:lnTo>
                    <a:lnTo>
                      <a:pt x="1579" y="2025"/>
                    </a:lnTo>
                    <a:lnTo>
                      <a:pt x="1579" y="2120"/>
                    </a:lnTo>
                    <a:lnTo>
                      <a:pt x="1579" y="2217"/>
                    </a:lnTo>
                    <a:lnTo>
                      <a:pt x="1579" y="2312"/>
                    </a:lnTo>
                    <a:lnTo>
                      <a:pt x="1611" y="2428"/>
                    </a:lnTo>
                    <a:lnTo>
                      <a:pt x="1653" y="2546"/>
                    </a:lnTo>
                    <a:lnTo>
                      <a:pt x="1695" y="2661"/>
                    </a:lnTo>
                    <a:lnTo>
                      <a:pt x="1738" y="2778"/>
                    </a:lnTo>
                    <a:lnTo>
                      <a:pt x="1781" y="2894"/>
                    </a:lnTo>
                    <a:lnTo>
                      <a:pt x="1823" y="3011"/>
                    </a:lnTo>
                    <a:lnTo>
                      <a:pt x="1876" y="3117"/>
                    </a:lnTo>
                    <a:lnTo>
                      <a:pt x="1929" y="3235"/>
                    </a:lnTo>
                    <a:lnTo>
                      <a:pt x="1982" y="3350"/>
                    </a:lnTo>
                    <a:lnTo>
                      <a:pt x="2035" y="3456"/>
                    </a:lnTo>
                    <a:lnTo>
                      <a:pt x="2087" y="3573"/>
                    </a:lnTo>
                    <a:lnTo>
                      <a:pt x="2141" y="3679"/>
                    </a:lnTo>
                    <a:lnTo>
                      <a:pt x="2193" y="3797"/>
                    </a:lnTo>
                    <a:lnTo>
                      <a:pt x="2257" y="3902"/>
                    </a:lnTo>
                    <a:lnTo>
                      <a:pt x="2311" y="4018"/>
                    </a:lnTo>
                    <a:lnTo>
                      <a:pt x="2364" y="4124"/>
                    </a:lnTo>
                    <a:lnTo>
                      <a:pt x="2375" y="4135"/>
                    </a:lnTo>
                    <a:lnTo>
                      <a:pt x="2375" y="4146"/>
                    </a:lnTo>
                    <a:lnTo>
                      <a:pt x="2386" y="4146"/>
                    </a:lnTo>
                    <a:lnTo>
                      <a:pt x="2386" y="4157"/>
                    </a:lnTo>
                    <a:lnTo>
                      <a:pt x="2395" y="4167"/>
                    </a:lnTo>
                    <a:lnTo>
                      <a:pt x="2395" y="4178"/>
                    </a:lnTo>
                    <a:lnTo>
                      <a:pt x="2407" y="4178"/>
                    </a:lnTo>
                    <a:lnTo>
                      <a:pt x="2416" y="4189"/>
                    </a:lnTo>
                    <a:lnTo>
                      <a:pt x="2416" y="4198"/>
                    </a:lnTo>
                    <a:lnTo>
                      <a:pt x="2427" y="4198"/>
                    </a:lnTo>
                    <a:lnTo>
                      <a:pt x="2427" y="4210"/>
                    </a:lnTo>
                    <a:lnTo>
                      <a:pt x="2438" y="4219"/>
                    </a:lnTo>
                    <a:lnTo>
                      <a:pt x="2449" y="4219"/>
                    </a:lnTo>
                    <a:lnTo>
                      <a:pt x="2459" y="4219"/>
                    </a:lnTo>
                    <a:lnTo>
                      <a:pt x="2459" y="4231"/>
                    </a:lnTo>
                    <a:lnTo>
                      <a:pt x="2470" y="4231"/>
                    </a:lnTo>
                    <a:lnTo>
                      <a:pt x="2513" y="4219"/>
                    </a:lnTo>
                    <a:lnTo>
                      <a:pt x="2544" y="4210"/>
                    </a:lnTo>
                    <a:lnTo>
                      <a:pt x="2576" y="4189"/>
                    </a:lnTo>
                    <a:lnTo>
                      <a:pt x="2608" y="4178"/>
                    </a:lnTo>
                    <a:lnTo>
                      <a:pt x="2640" y="4167"/>
                    </a:lnTo>
                    <a:lnTo>
                      <a:pt x="2683" y="4157"/>
                    </a:lnTo>
                    <a:lnTo>
                      <a:pt x="2713" y="4146"/>
                    </a:lnTo>
                    <a:lnTo>
                      <a:pt x="2746" y="4124"/>
                    </a:lnTo>
                    <a:lnTo>
                      <a:pt x="2776" y="4114"/>
                    </a:lnTo>
                    <a:lnTo>
                      <a:pt x="2810" y="4103"/>
                    </a:lnTo>
                    <a:lnTo>
                      <a:pt x="2851" y="4092"/>
                    </a:lnTo>
                    <a:lnTo>
                      <a:pt x="2883" y="4071"/>
                    </a:lnTo>
                    <a:lnTo>
                      <a:pt x="2915" y="4060"/>
                    </a:lnTo>
                    <a:lnTo>
                      <a:pt x="2947" y="4051"/>
                    </a:lnTo>
                    <a:lnTo>
                      <a:pt x="2978" y="4039"/>
                    </a:lnTo>
                    <a:lnTo>
                      <a:pt x="3021" y="4029"/>
                    </a:lnTo>
                    <a:lnTo>
                      <a:pt x="3021" y="4018"/>
                    </a:lnTo>
                    <a:lnTo>
                      <a:pt x="3032" y="4018"/>
                    </a:lnTo>
                    <a:lnTo>
                      <a:pt x="3043" y="4018"/>
                    </a:lnTo>
                    <a:lnTo>
                      <a:pt x="3053" y="4018"/>
                    </a:lnTo>
                    <a:lnTo>
                      <a:pt x="3064" y="4018"/>
                    </a:lnTo>
                    <a:lnTo>
                      <a:pt x="3075" y="4029"/>
                    </a:lnTo>
                    <a:lnTo>
                      <a:pt x="3084" y="4029"/>
                    </a:lnTo>
                    <a:lnTo>
                      <a:pt x="3096" y="4029"/>
                    </a:lnTo>
                    <a:lnTo>
                      <a:pt x="3105" y="4029"/>
                    </a:lnTo>
                    <a:lnTo>
                      <a:pt x="3105" y="4039"/>
                    </a:lnTo>
                    <a:lnTo>
                      <a:pt x="3159" y="4060"/>
                    </a:lnTo>
                    <a:lnTo>
                      <a:pt x="3202" y="4082"/>
                    </a:lnTo>
                    <a:lnTo>
                      <a:pt x="3254" y="4114"/>
                    </a:lnTo>
                    <a:lnTo>
                      <a:pt x="3307" y="4135"/>
                    </a:lnTo>
                    <a:lnTo>
                      <a:pt x="3360" y="4167"/>
                    </a:lnTo>
                    <a:lnTo>
                      <a:pt x="3402" y="4189"/>
                    </a:lnTo>
                    <a:lnTo>
                      <a:pt x="3456" y="4219"/>
                    </a:lnTo>
                    <a:lnTo>
                      <a:pt x="3499" y="4252"/>
                    </a:lnTo>
                    <a:lnTo>
                      <a:pt x="3552" y="4273"/>
                    </a:lnTo>
                    <a:lnTo>
                      <a:pt x="3604" y="4304"/>
                    </a:lnTo>
                    <a:lnTo>
                      <a:pt x="3646" y="4325"/>
                    </a:lnTo>
                    <a:lnTo>
                      <a:pt x="3699" y="4358"/>
                    </a:lnTo>
                    <a:lnTo>
                      <a:pt x="3752" y="4379"/>
                    </a:lnTo>
                    <a:lnTo>
                      <a:pt x="3794" y="4411"/>
                    </a:lnTo>
                    <a:lnTo>
                      <a:pt x="3848" y="4431"/>
                    </a:lnTo>
                    <a:lnTo>
                      <a:pt x="3900" y="4464"/>
                    </a:lnTo>
                    <a:lnTo>
                      <a:pt x="3869" y="4464"/>
                    </a:lnTo>
                    <a:lnTo>
                      <a:pt x="3848" y="4474"/>
                    </a:lnTo>
                    <a:lnTo>
                      <a:pt x="3827" y="4474"/>
                    </a:lnTo>
                    <a:lnTo>
                      <a:pt x="3794" y="4474"/>
                    </a:lnTo>
                    <a:lnTo>
                      <a:pt x="3773" y="4474"/>
                    </a:lnTo>
                    <a:lnTo>
                      <a:pt x="3752" y="4474"/>
                    </a:lnTo>
                    <a:lnTo>
                      <a:pt x="3731" y="4474"/>
                    </a:lnTo>
                    <a:lnTo>
                      <a:pt x="3710" y="4474"/>
                    </a:lnTo>
                    <a:lnTo>
                      <a:pt x="3679" y="4464"/>
                    </a:lnTo>
                    <a:lnTo>
                      <a:pt x="3658" y="4464"/>
                    </a:lnTo>
                    <a:lnTo>
                      <a:pt x="3636" y="4464"/>
                    </a:lnTo>
                    <a:lnTo>
                      <a:pt x="3615" y="4464"/>
                    </a:lnTo>
                    <a:lnTo>
                      <a:pt x="3583" y="4464"/>
                    </a:lnTo>
                    <a:lnTo>
                      <a:pt x="3562" y="4464"/>
                    </a:lnTo>
                    <a:lnTo>
                      <a:pt x="3540" y="4464"/>
                    </a:lnTo>
                    <a:lnTo>
                      <a:pt x="3509" y="4464"/>
                    </a:lnTo>
                    <a:lnTo>
                      <a:pt x="3467" y="4464"/>
                    </a:lnTo>
                    <a:lnTo>
                      <a:pt x="3424" y="4464"/>
                    </a:lnTo>
                    <a:lnTo>
                      <a:pt x="3381" y="4464"/>
                    </a:lnTo>
                    <a:lnTo>
                      <a:pt x="3338" y="4464"/>
                    </a:lnTo>
                    <a:lnTo>
                      <a:pt x="3297" y="4464"/>
                    </a:lnTo>
                    <a:lnTo>
                      <a:pt x="3254" y="4464"/>
                    </a:lnTo>
                    <a:lnTo>
                      <a:pt x="3211" y="4464"/>
                    </a:lnTo>
                    <a:lnTo>
                      <a:pt x="3170" y="4464"/>
                    </a:lnTo>
                    <a:lnTo>
                      <a:pt x="3127" y="4464"/>
                    </a:lnTo>
                    <a:lnTo>
                      <a:pt x="3084" y="4452"/>
                    </a:lnTo>
                    <a:lnTo>
                      <a:pt x="3043" y="4452"/>
                    </a:lnTo>
                    <a:lnTo>
                      <a:pt x="3000" y="4452"/>
                    </a:lnTo>
                    <a:lnTo>
                      <a:pt x="2957" y="4452"/>
                    </a:lnTo>
                    <a:lnTo>
                      <a:pt x="2915" y="4452"/>
                    </a:lnTo>
                    <a:lnTo>
                      <a:pt x="2873" y="4452"/>
                    </a:lnTo>
                    <a:lnTo>
                      <a:pt x="2830" y="4452"/>
                    </a:lnTo>
                    <a:lnTo>
                      <a:pt x="2311" y="4443"/>
                    </a:lnTo>
                    <a:lnTo>
                      <a:pt x="2300" y="4443"/>
                    </a:lnTo>
                    <a:lnTo>
                      <a:pt x="2289" y="4443"/>
                    </a:lnTo>
                    <a:lnTo>
                      <a:pt x="2279" y="4443"/>
                    </a:lnTo>
                    <a:lnTo>
                      <a:pt x="2268" y="4443"/>
                    </a:lnTo>
                    <a:lnTo>
                      <a:pt x="2257" y="4443"/>
                    </a:lnTo>
                    <a:lnTo>
                      <a:pt x="2248" y="4443"/>
                    </a:lnTo>
                    <a:lnTo>
                      <a:pt x="2236" y="4443"/>
                    </a:lnTo>
                    <a:lnTo>
                      <a:pt x="2226" y="4431"/>
                    </a:lnTo>
                    <a:lnTo>
                      <a:pt x="2205" y="4411"/>
                    </a:lnTo>
                    <a:lnTo>
                      <a:pt x="2184" y="4400"/>
                    </a:lnTo>
                    <a:lnTo>
                      <a:pt x="2162" y="4389"/>
                    </a:lnTo>
                    <a:lnTo>
                      <a:pt x="2152" y="4368"/>
                    </a:lnTo>
                    <a:lnTo>
                      <a:pt x="2130" y="4358"/>
                    </a:lnTo>
                    <a:lnTo>
                      <a:pt x="2109" y="4337"/>
                    </a:lnTo>
                    <a:lnTo>
                      <a:pt x="2087" y="4325"/>
                    </a:lnTo>
                    <a:lnTo>
                      <a:pt x="2067" y="4316"/>
                    </a:lnTo>
                    <a:lnTo>
                      <a:pt x="2057" y="4294"/>
                    </a:lnTo>
                    <a:lnTo>
                      <a:pt x="2035" y="4284"/>
                    </a:lnTo>
                    <a:lnTo>
                      <a:pt x="2014" y="4262"/>
                    </a:lnTo>
                    <a:lnTo>
                      <a:pt x="1994" y="4252"/>
                    </a:lnTo>
                    <a:lnTo>
                      <a:pt x="1982" y="4231"/>
                    </a:lnTo>
                    <a:lnTo>
                      <a:pt x="1960" y="4219"/>
                    </a:lnTo>
                    <a:lnTo>
                      <a:pt x="1940" y="4198"/>
                    </a:lnTo>
                    <a:lnTo>
                      <a:pt x="1919" y="4178"/>
                    </a:lnTo>
                    <a:lnTo>
                      <a:pt x="1887" y="4157"/>
                    </a:lnTo>
                    <a:lnTo>
                      <a:pt x="1855" y="4135"/>
                    </a:lnTo>
                    <a:lnTo>
                      <a:pt x="1833" y="4114"/>
                    </a:lnTo>
                    <a:lnTo>
                      <a:pt x="1801" y="4082"/>
                    </a:lnTo>
                    <a:lnTo>
                      <a:pt x="1781" y="4060"/>
                    </a:lnTo>
                    <a:lnTo>
                      <a:pt x="1749" y="4039"/>
                    </a:lnTo>
                    <a:lnTo>
                      <a:pt x="1728" y="4018"/>
                    </a:lnTo>
                    <a:lnTo>
                      <a:pt x="1695" y="3987"/>
                    </a:lnTo>
                    <a:lnTo>
                      <a:pt x="1674" y="3965"/>
                    </a:lnTo>
                    <a:lnTo>
                      <a:pt x="1643" y="3944"/>
                    </a:lnTo>
                    <a:lnTo>
                      <a:pt x="1622" y="3912"/>
                    </a:lnTo>
                    <a:lnTo>
                      <a:pt x="1590" y="3890"/>
                    </a:lnTo>
                    <a:lnTo>
                      <a:pt x="1568" y="3860"/>
                    </a:lnTo>
                    <a:lnTo>
                      <a:pt x="1537" y="3838"/>
                    </a:lnTo>
                    <a:lnTo>
                      <a:pt x="1516" y="3817"/>
                    </a:lnTo>
                    <a:lnTo>
                      <a:pt x="1495" y="3785"/>
                    </a:lnTo>
                    <a:lnTo>
                      <a:pt x="1473" y="3763"/>
                    </a:lnTo>
                    <a:lnTo>
                      <a:pt x="1452" y="3743"/>
                    </a:lnTo>
                    <a:lnTo>
                      <a:pt x="1420" y="3711"/>
                    </a:lnTo>
                    <a:lnTo>
                      <a:pt x="1398" y="3690"/>
                    </a:lnTo>
                    <a:lnTo>
                      <a:pt x="1378" y="3669"/>
                    </a:lnTo>
                    <a:lnTo>
                      <a:pt x="1357" y="3636"/>
                    </a:lnTo>
                    <a:lnTo>
                      <a:pt x="1336" y="3616"/>
                    </a:lnTo>
                    <a:lnTo>
                      <a:pt x="1303" y="3595"/>
                    </a:lnTo>
                    <a:lnTo>
                      <a:pt x="1282" y="3563"/>
                    </a:lnTo>
                    <a:lnTo>
                      <a:pt x="1261" y="3541"/>
                    </a:lnTo>
                    <a:lnTo>
                      <a:pt x="1239" y="3520"/>
                    </a:lnTo>
                    <a:lnTo>
                      <a:pt x="1218" y="3489"/>
                    </a:lnTo>
                    <a:lnTo>
                      <a:pt x="1198" y="3467"/>
                    </a:lnTo>
                    <a:lnTo>
                      <a:pt x="1176" y="3434"/>
                    </a:lnTo>
                    <a:lnTo>
                      <a:pt x="1155" y="3414"/>
                    </a:lnTo>
                    <a:lnTo>
                      <a:pt x="997" y="3255"/>
                    </a:lnTo>
                    <a:lnTo>
                      <a:pt x="985" y="3244"/>
                    </a:lnTo>
                    <a:lnTo>
                      <a:pt x="964" y="3223"/>
                    </a:lnTo>
                    <a:lnTo>
                      <a:pt x="954" y="3213"/>
                    </a:lnTo>
                    <a:lnTo>
                      <a:pt x="933" y="3192"/>
                    </a:lnTo>
                    <a:lnTo>
                      <a:pt x="922" y="3181"/>
                    </a:lnTo>
                    <a:lnTo>
                      <a:pt x="901" y="3160"/>
                    </a:lnTo>
                    <a:lnTo>
                      <a:pt x="879" y="3149"/>
                    </a:lnTo>
                    <a:lnTo>
                      <a:pt x="870" y="3138"/>
                    </a:lnTo>
                    <a:lnTo>
                      <a:pt x="848" y="3117"/>
                    </a:lnTo>
                    <a:lnTo>
                      <a:pt x="827" y="3108"/>
                    </a:lnTo>
                    <a:lnTo>
                      <a:pt x="806" y="3096"/>
                    </a:lnTo>
                    <a:lnTo>
                      <a:pt x="795" y="3074"/>
                    </a:lnTo>
                    <a:lnTo>
                      <a:pt x="774" y="3065"/>
                    </a:lnTo>
                    <a:lnTo>
                      <a:pt x="763" y="3043"/>
                    </a:lnTo>
                    <a:lnTo>
                      <a:pt x="742" y="3033"/>
                    </a:lnTo>
                    <a:lnTo>
                      <a:pt x="731" y="3011"/>
                    </a:lnTo>
                    <a:lnTo>
                      <a:pt x="699" y="3011"/>
                    </a:lnTo>
                    <a:lnTo>
                      <a:pt x="699" y="3001"/>
                    </a:lnTo>
                    <a:lnTo>
                      <a:pt x="656" y="3043"/>
                    </a:lnTo>
                    <a:lnTo>
                      <a:pt x="625" y="3086"/>
                    </a:lnTo>
                    <a:lnTo>
                      <a:pt x="593" y="3128"/>
                    </a:lnTo>
                    <a:lnTo>
                      <a:pt x="550" y="3170"/>
                    </a:lnTo>
                    <a:lnTo>
                      <a:pt x="519" y="3213"/>
                    </a:lnTo>
                    <a:lnTo>
                      <a:pt x="477" y="3255"/>
                    </a:lnTo>
                    <a:lnTo>
                      <a:pt x="445" y="3298"/>
                    </a:lnTo>
                    <a:lnTo>
                      <a:pt x="402" y="3340"/>
                    </a:lnTo>
                    <a:lnTo>
                      <a:pt x="371" y="3382"/>
                    </a:lnTo>
                    <a:lnTo>
                      <a:pt x="328" y="3425"/>
                    </a:lnTo>
                    <a:lnTo>
                      <a:pt x="296" y="3467"/>
                    </a:lnTo>
                    <a:lnTo>
                      <a:pt x="255" y="3509"/>
                    </a:lnTo>
                    <a:lnTo>
                      <a:pt x="222" y="3552"/>
                    </a:lnTo>
                    <a:lnTo>
                      <a:pt x="190" y="3595"/>
                    </a:lnTo>
                    <a:lnTo>
                      <a:pt x="158" y="3636"/>
                    </a:lnTo>
                    <a:lnTo>
                      <a:pt x="116" y="3679"/>
                    </a:lnTo>
                    <a:lnTo>
                      <a:pt x="127" y="3797"/>
                    </a:lnTo>
                    <a:lnTo>
                      <a:pt x="137" y="3912"/>
                    </a:lnTo>
                    <a:lnTo>
                      <a:pt x="137" y="4039"/>
                    </a:lnTo>
                    <a:lnTo>
                      <a:pt x="148" y="4146"/>
                    </a:lnTo>
                    <a:lnTo>
                      <a:pt x="148" y="4262"/>
                    </a:lnTo>
                    <a:lnTo>
                      <a:pt x="148" y="4294"/>
                    </a:lnTo>
                    <a:lnTo>
                      <a:pt x="169" y="4316"/>
                    </a:lnTo>
                    <a:lnTo>
                      <a:pt x="190" y="4325"/>
                    </a:lnTo>
                    <a:lnTo>
                      <a:pt x="222" y="4337"/>
                    </a:lnTo>
                    <a:lnTo>
                      <a:pt x="244" y="4337"/>
                    </a:lnTo>
                    <a:lnTo>
                      <a:pt x="265" y="4347"/>
                    </a:lnTo>
                    <a:lnTo>
                      <a:pt x="275" y="4347"/>
                    </a:lnTo>
                    <a:lnTo>
                      <a:pt x="371" y="4379"/>
                    </a:lnTo>
                    <a:lnTo>
                      <a:pt x="477" y="4411"/>
                    </a:lnTo>
                    <a:lnTo>
                      <a:pt x="572" y="4431"/>
                    </a:lnTo>
                    <a:lnTo>
                      <a:pt x="668" y="4452"/>
                    </a:lnTo>
                    <a:lnTo>
                      <a:pt x="763" y="4486"/>
                    </a:lnTo>
                    <a:lnTo>
                      <a:pt x="795" y="4495"/>
                    </a:lnTo>
                    <a:lnTo>
                      <a:pt x="784" y="4506"/>
                    </a:lnTo>
                    <a:lnTo>
                      <a:pt x="647" y="4506"/>
                    </a:lnTo>
                    <a:lnTo>
                      <a:pt x="509" y="4506"/>
                    </a:lnTo>
                    <a:lnTo>
                      <a:pt x="382" y="4506"/>
                    </a:lnTo>
                    <a:lnTo>
                      <a:pt x="233" y="4506"/>
                    </a:lnTo>
                    <a:lnTo>
                      <a:pt x="94" y="4516"/>
                    </a:lnTo>
                    <a:lnTo>
                      <a:pt x="53" y="4516"/>
                    </a:lnTo>
                    <a:lnTo>
                      <a:pt x="31" y="4506"/>
                    </a:lnTo>
                    <a:lnTo>
                      <a:pt x="21" y="4486"/>
                    </a:lnTo>
                    <a:lnTo>
                      <a:pt x="10" y="4464"/>
                    </a:lnTo>
                    <a:lnTo>
                      <a:pt x="10" y="4431"/>
                    </a:lnTo>
                    <a:lnTo>
                      <a:pt x="10" y="4411"/>
                    </a:lnTo>
                    <a:lnTo>
                      <a:pt x="0" y="4411"/>
                    </a:lnTo>
                    <a:lnTo>
                      <a:pt x="0" y="4262"/>
                    </a:lnTo>
                    <a:lnTo>
                      <a:pt x="10" y="4124"/>
                    </a:lnTo>
                    <a:lnTo>
                      <a:pt x="21" y="3976"/>
                    </a:lnTo>
                    <a:lnTo>
                      <a:pt x="31" y="3838"/>
                    </a:lnTo>
                    <a:lnTo>
                      <a:pt x="31" y="3690"/>
                    </a:lnTo>
                    <a:lnTo>
                      <a:pt x="42" y="3648"/>
                    </a:lnTo>
                    <a:lnTo>
                      <a:pt x="42" y="3425"/>
                    </a:lnTo>
                    <a:lnTo>
                      <a:pt x="53" y="3192"/>
                    </a:lnTo>
                    <a:lnTo>
                      <a:pt x="63" y="2969"/>
                    </a:lnTo>
                    <a:lnTo>
                      <a:pt x="63" y="2736"/>
                    </a:lnTo>
                    <a:lnTo>
                      <a:pt x="63" y="2503"/>
                    </a:lnTo>
                    <a:lnTo>
                      <a:pt x="63" y="2428"/>
                    </a:lnTo>
                    <a:lnTo>
                      <a:pt x="74" y="2344"/>
                    </a:lnTo>
                    <a:lnTo>
                      <a:pt x="63" y="2258"/>
                    </a:lnTo>
                    <a:lnTo>
                      <a:pt x="63" y="2184"/>
                    </a:lnTo>
                    <a:lnTo>
                      <a:pt x="53" y="2099"/>
                    </a:lnTo>
                    <a:lnTo>
                      <a:pt x="53" y="2015"/>
                    </a:lnTo>
                    <a:lnTo>
                      <a:pt x="63" y="1993"/>
                    </a:lnTo>
                    <a:lnTo>
                      <a:pt x="63" y="1920"/>
                    </a:lnTo>
                    <a:lnTo>
                      <a:pt x="63" y="1845"/>
                    </a:lnTo>
                    <a:lnTo>
                      <a:pt x="74" y="1760"/>
                    </a:lnTo>
                    <a:lnTo>
                      <a:pt x="74" y="1685"/>
                    </a:lnTo>
                    <a:lnTo>
                      <a:pt x="94" y="1612"/>
                    </a:lnTo>
                    <a:lnTo>
                      <a:pt x="94" y="1590"/>
                    </a:lnTo>
                    <a:lnTo>
                      <a:pt x="106" y="1549"/>
                    </a:lnTo>
                    <a:lnTo>
                      <a:pt x="116" y="1506"/>
                    </a:lnTo>
                    <a:lnTo>
                      <a:pt x="127" y="1463"/>
                    </a:lnTo>
                    <a:lnTo>
                      <a:pt x="148" y="1421"/>
                    </a:lnTo>
                    <a:lnTo>
                      <a:pt x="180" y="1379"/>
                    </a:lnTo>
                    <a:lnTo>
                      <a:pt x="190" y="1368"/>
                    </a:lnTo>
                    <a:lnTo>
                      <a:pt x="382" y="1145"/>
                    </a:lnTo>
                    <a:lnTo>
                      <a:pt x="572" y="923"/>
                    </a:lnTo>
                    <a:lnTo>
                      <a:pt x="763" y="699"/>
                    </a:lnTo>
                    <a:lnTo>
                      <a:pt x="944" y="477"/>
                    </a:lnTo>
                    <a:lnTo>
                      <a:pt x="1134" y="254"/>
                    </a:lnTo>
                    <a:lnTo>
                      <a:pt x="1198" y="180"/>
                    </a:lnTo>
                    <a:lnTo>
                      <a:pt x="1239" y="127"/>
                    </a:lnTo>
                    <a:lnTo>
                      <a:pt x="1282" y="96"/>
                    </a:lnTo>
                    <a:lnTo>
                      <a:pt x="1336" y="53"/>
                    </a:lnTo>
                    <a:lnTo>
                      <a:pt x="1389" y="21"/>
                    </a:lnTo>
                    <a:lnTo>
                      <a:pt x="1441" y="0"/>
                    </a:lnTo>
                    <a:lnTo>
                      <a:pt x="1463" y="0"/>
                    </a:lnTo>
                    <a:lnTo>
                      <a:pt x="1505" y="12"/>
                    </a:lnTo>
                    <a:lnTo>
                      <a:pt x="1559" y="21"/>
                    </a:lnTo>
                    <a:lnTo>
                      <a:pt x="1600" y="32"/>
                    </a:lnTo>
                    <a:lnTo>
                      <a:pt x="1643" y="53"/>
                    </a:lnTo>
                    <a:lnTo>
                      <a:pt x="1686" y="75"/>
                    </a:lnTo>
                    <a:lnTo>
                      <a:pt x="1695" y="7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1849680" y="3561840"/>
                <a:ext cx="27720" cy="291600"/>
              </a:xfrm>
              <a:custGeom>
                <a:avLst/>
                <a:gdLst/>
                <a:ahLst/>
                <a:rect l="l" t="t" r="r" b="b"/>
                <a:pathLst>
                  <a:path w="73" h="752">
                    <a:moveTo>
                      <a:pt x="73" y="0"/>
                    </a:moveTo>
                    <a:lnTo>
                      <a:pt x="73" y="52"/>
                    </a:lnTo>
                    <a:lnTo>
                      <a:pt x="73" y="95"/>
                    </a:lnTo>
                    <a:lnTo>
                      <a:pt x="64" y="148"/>
                    </a:lnTo>
                    <a:lnTo>
                      <a:pt x="64" y="190"/>
                    </a:lnTo>
                    <a:lnTo>
                      <a:pt x="64" y="243"/>
                    </a:lnTo>
                    <a:lnTo>
                      <a:pt x="52" y="286"/>
                    </a:lnTo>
                    <a:lnTo>
                      <a:pt x="52" y="338"/>
                    </a:lnTo>
                    <a:lnTo>
                      <a:pt x="52" y="381"/>
                    </a:lnTo>
                    <a:lnTo>
                      <a:pt x="43" y="424"/>
                    </a:lnTo>
                    <a:lnTo>
                      <a:pt x="43" y="477"/>
                    </a:lnTo>
                    <a:lnTo>
                      <a:pt x="31" y="519"/>
                    </a:lnTo>
                    <a:lnTo>
                      <a:pt x="31" y="571"/>
                    </a:lnTo>
                    <a:lnTo>
                      <a:pt x="21" y="614"/>
                    </a:lnTo>
                    <a:lnTo>
                      <a:pt x="10" y="657"/>
                    </a:lnTo>
                    <a:lnTo>
                      <a:pt x="10" y="71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1833480" y="3853440"/>
                <a:ext cx="18720" cy="578880"/>
              </a:xfrm>
              <a:custGeom>
                <a:avLst/>
                <a:gdLst/>
                <a:ahLst/>
                <a:rect l="l" t="t" r="r" b="b"/>
                <a:pathLst>
                  <a:path w="53" h="1485">
                    <a:moveTo>
                      <a:pt x="43" y="0"/>
                    </a:moveTo>
                    <a:lnTo>
                      <a:pt x="43" y="96"/>
                    </a:lnTo>
                    <a:lnTo>
                      <a:pt x="53" y="181"/>
                    </a:lnTo>
                    <a:lnTo>
                      <a:pt x="53" y="275"/>
                    </a:lnTo>
                    <a:lnTo>
                      <a:pt x="43" y="371"/>
                    </a:lnTo>
                    <a:lnTo>
                      <a:pt x="43" y="456"/>
                    </a:lnTo>
                    <a:lnTo>
                      <a:pt x="43" y="552"/>
                    </a:lnTo>
                    <a:lnTo>
                      <a:pt x="32" y="636"/>
                    </a:lnTo>
                    <a:lnTo>
                      <a:pt x="32" y="731"/>
                    </a:lnTo>
                    <a:lnTo>
                      <a:pt x="21" y="828"/>
                    </a:lnTo>
                    <a:lnTo>
                      <a:pt x="21" y="923"/>
                    </a:lnTo>
                    <a:lnTo>
                      <a:pt x="11" y="1007"/>
                    </a:lnTo>
                    <a:lnTo>
                      <a:pt x="0" y="1103"/>
                    </a:lnTo>
                    <a:lnTo>
                      <a:pt x="0" y="1198"/>
                    </a:lnTo>
                    <a:lnTo>
                      <a:pt x="0" y="1293"/>
                    </a:lnTo>
                    <a:lnTo>
                      <a:pt x="0" y="1390"/>
                    </a:lnTo>
                    <a:lnTo>
                      <a:pt x="0" y="14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1833480" y="4432320"/>
                <a:ext cx="303840" cy="704160"/>
              </a:xfrm>
              <a:custGeom>
                <a:avLst/>
                <a:gdLst/>
                <a:ahLst/>
                <a:rect l="l" t="t" r="r" b="b"/>
                <a:pathLst>
                  <a:path w="785" h="1812">
                    <a:moveTo>
                      <a:pt x="0" y="0"/>
                    </a:moveTo>
                    <a:lnTo>
                      <a:pt x="32" y="116"/>
                    </a:lnTo>
                    <a:lnTo>
                      <a:pt x="74" y="234"/>
                    </a:lnTo>
                    <a:lnTo>
                      <a:pt x="116" y="349"/>
                    </a:lnTo>
                    <a:lnTo>
                      <a:pt x="159" y="466"/>
                    </a:lnTo>
                    <a:lnTo>
                      <a:pt x="202" y="582"/>
                    </a:lnTo>
                    <a:lnTo>
                      <a:pt x="244" y="699"/>
                    </a:lnTo>
                    <a:lnTo>
                      <a:pt x="297" y="805"/>
                    </a:lnTo>
                    <a:lnTo>
                      <a:pt x="350" y="923"/>
                    </a:lnTo>
                    <a:lnTo>
                      <a:pt x="403" y="1038"/>
                    </a:lnTo>
                    <a:lnTo>
                      <a:pt x="456" y="1144"/>
                    </a:lnTo>
                    <a:lnTo>
                      <a:pt x="508" y="1261"/>
                    </a:lnTo>
                    <a:lnTo>
                      <a:pt x="562" y="1367"/>
                    </a:lnTo>
                    <a:lnTo>
                      <a:pt x="614" y="1485"/>
                    </a:lnTo>
                    <a:lnTo>
                      <a:pt x="678" y="1590"/>
                    </a:lnTo>
                    <a:lnTo>
                      <a:pt x="732" y="1706"/>
                    </a:lnTo>
                    <a:lnTo>
                      <a:pt x="785" y="18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2179080" y="5099760"/>
                <a:ext cx="214920" cy="79200"/>
              </a:xfrm>
              <a:custGeom>
                <a:avLst/>
                <a:gdLst/>
                <a:ahLst/>
                <a:rect l="l" t="t" r="r" b="b"/>
                <a:pathLst>
                  <a:path w="551" h="202">
                    <a:moveTo>
                      <a:pt x="0" y="202"/>
                    </a:moveTo>
                    <a:lnTo>
                      <a:pt x="43" y="190"/>
                    </a:lnTo>
                    <a:lnTo>
                      <a:pt x="74" y="181"/>
                    </a:lnTo>
                    <a:lnTo>
                      <a:pt x="106" y="160"/>
                    </a:lnTo>
                    <a:lnTo>
                      <a:pt x="138" y="149"/>
                    </a:lnTo>
                    <a:lnTo>
                      <a:pt x="170" y="138"/>
                    </a:lnTo>
                    <a:lnTo>
                      <a:pt x="213" y="128"/>
                    </a:lnTo>
                    <a:lnTo>
                      <a:pt x="243" y="117"/>
                    </a:lnTo>
                    <a:lnTo>
                      <a:pt x="276" y="95"/>
                    </a:lnTo>
                    <a:lnTo>
                      <a:pt x="306" y="85"/>
                    </a:lnTo>
                    <a:lnTo>
                      <a:pt x="340" y="74"/>
                    </a:lnTo>
                    <a:lnTo>
                      <a:pt x="381" y="63"/>
                    </a:lnTo>
                    <a:lnTo>
                      <a:pt x="413" y="42"/>
                    </a:lnTo>
                    <a:lnTo>
                      <a:pt x="445" y="31"/>
                    </a:lnTo>
                    <a:lnTo>
                      <a:pt x="477" y="22"/>
                    </a:lnTo>
                    <a:lnTo>
                      <a:pt x="508" y="10"/>
                    </a:lnTo>
                    <a:lnTo>
                      <a:pt x="5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2426400" y="5101920"/>
                <a:ext cx="307800" cy="165600"/>
              </a:xfrm>
              <a:custGeom>
                <a:avLst/>
                <a:gdLst/>
                <a:ahLst/>
                <a:rect l="l" t="t" r="r" b="b"/>
                <a:pathLst>
                  <a:path w="795" h="425">
                    <a:moveTo>
                      <a:pt x="0" y="0"/>
                    </a:moveTo>
                    <a:lnTo>
                      <a:pt x="54" y="21"/>
                    </a:lnTo>
                    <a:lnTo>
                      <a:pt x="97" y="43"/>
                    </a:lnTo>
                    <a:lnTo>
                      <a:pt x="149" y="75"/>
                    </a:lnTo>
                    <a:lnTo>
                      <a:pt x="202" y="96"/>
                    </a:lnTo>
                    <a:lnTo>
                      <a:pt x="255" y="128"/>
                    </a:lnTo>
                    <a:lnTo>
                      <a:pt x="297" y="150"/>
                    </a:lnTo>
                    <a:lnTo>
                      <a:pt x="351" y="180"/>
                    </a:lnTo>
                    <a:lnTo>
                      <a:pt x="394" y="213"/>
                    </a:lnTo>
                    <a:lnTo>
                      <a:pt x="447" y="234"/>
                    </a:lnTo>
                    <a:lnTo>
                      <a:pt x="499" y="265"/>
                    </a:lnTo>
                    <a:lnTo>
                      <a:pt x="541" y="286"/>
                    </a:lnTo>
                    <a:lnTo>
                      <a:pt x="594" y="319"/>
                    </a:lnTo>
                    <a:lnTo>
                      <a:pt x="647" y="340"/>
                    </a:lnTo>
                    <a:lnTo>
                      <a:pt x="689" y="372"/>
                    </a:lnTo>
                    <a:lnTo>
                      <a:pt x="743" y="392"/>
                    </a:lnTo>
                    <a:lnTo>
                      <a:pt x="795" y="4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1973520" y="5164920"/>
                <a:ext cx="114120" cy="95760"/>
              </a:xfrm>
              <a:custGeom>
                <a:avLst/>
                <a:gdLst/>
                <a:ahLst/>
                <a:rect l="l" t="t" r="r" b="b"/>
                <a:pathLst>
                  <a:path w="296" h="245">
                    <a:moveTo>
                      <a:pt x="296" y="245"/>
                    </a:moveTo>
                    <a:lnTo>
                      <a:pt x="286" y="233"/>
                    </a:lnTo>
                    <a:lnTo>
                      <a:pt x="265" y="213"/>
                    </a:lnTo>
                    <a:lnTo>
                      <a:pt x="244" y="202"/>
                    </a:lnTo>
                    <a:lnTo>
                      <a:pt x="222" y="191"/>
                    </a:lnTo>
                    <a:lnTo>
                      <a:pt x="212" y="170"/>
                    </a:lnTo>
                    <a:lnTo>
                      <a:pt x="190" y="160"/>
                    </a:lnTo>
                    <a:lnTo>
                      <a:pt x="169" y="139"/>
                    </a:lnTo>
                    <a:lnTo>
                      <a:pt x="147" y="127"/>
                    </a:lnTo>
                    <a:lnTo>
                      <a:pt x="127" y="118"/>
                    </a:lnTo>
                    <a:lnTo>
                      <a:pt x="117" y="96"/>
                    </a:lnTo>
                    <a:lnTo>
                      <a:pt x="95" y="86"/>
                    </a:lnTo>
                    <a:lnTo>
                      <a:pt x="74" y="64"/>
                    </a:lnTo>
                    <a:lnTo>
                      <a:pt x="54" y="54"/>
                    </a:lnTo>
                    <a:lnTo>
                      <a:pt x="42" y="33"/>
                    </a:lnTo>
                    <a:lnTo>
                      <a:pt x="2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1807920" y="5015880"/>
                <a:ext cx="165600" cy="149040"/>
              </a:xfrm>
              <a:custGeom>
                <a:avLst/>
                <a:gdLst/>
                <a:ahLst/>
                <a:rect l="l" t="t" r="r" b="b"/>
                <a:pathLst>
                  <a:path w="424" h="381">
                    <a:moveTo>
                      <a:pt x="424" y="381"/>
                    </a:moveTo>
                    <a:lnTo>
                      <a:pt x="403" y="361"/>
                    </a:lnTo>
                    <a:lnTo>
                      <a:pt x="371" y="340"/>
                    </a:lnTo>
                    <a:lnTo>
                      <a:pt x="339" y="318"/>
                    </a:lnTo>
                    <a:lnTo>
                      <a:pt x="317" y="297"/>
                    </a:lnTo>
                    <a:lnTo>
                      <a:pt x="285" y="265"/>
                    </a:lnTo>
                    <a:lnTo>
                      <a:pt x="265" y="243"/>
                    </a:lnTo>
                    <a:lnTo>
                      <a:pt x="233" y="222"/>
                    </a:lnTo>
                    <a:lnTo>
                      <a:pt x="212" y="201"/>
                    </a:lnTo>
                    <a:lnTo>
                      <a:pt x="179" y="170"/>
                    </a:lnTo>
                    <a:lnTo>
                      <a:pt x="158" y="148"/>
                    </a:lnTo>
                    <a:lnTo>
                      <a:pt x="127" y="127"/>
                    </a:lnTo>
                    <a:lnTo>
                      <a:pt x="106" y="95"/>
                    </a:lnTo>
                    <a:lnTo>
                      <a:pt x="74" y="73"/>
                    </a:lnTo>
                    <a:lnTo>
                      <a:pt x="52" y="43"/>
                    </a:lnTo>
                    <a:lnTo>
                      <a:pt x="2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1667520" y="4859640"/>
                <a:ext cx="140040" cy="155880"/>
              </a:xfrm>
              <a:custGeom>
                <a:avLst/>
                <a:gdLst/>
                <a:ahLst/>
                <a:rect l="l" t="t" r="r" b="b"/>
                <a:pathLst>
                  <a:path w="361" h="403">
                    <a:moveTo>
                      <a:pt x="361" y="403"/>
                    </a:moveTo>
                    <a:lnTo>
                      <a:pt x="340" y="371"/>
                    </a:lnTo>
                    <a:lnTo>
                      <a:pt x="318" y="349"/>
                    </a:lnTo>
                    <a:lnTo>
                      <a:pt x="297" y="329"/>
                    </a:lnTo>
                    <a:lnTo>
                      <a:pt x="265" y="297"/>
                    </a:lnTo>
                    <a:lnTo>
                      <a:pt x="243" y="276"/>
                    </a:lnTo>
                    <a:lnTo>
                      <a:pt x="223" y="255"/>
                    </a:lnTo>
                    <a:lnTo>
                      <a:pt x="202" y="222"/>
                    </a:lnTo>
                    <a:lnTo>
                      <a:pt x="181" y="202"/>
                    </a:lnTo>
                    <a:lnTo>
                      <a:pt x="148" y="181"/>
                    </a:lnTo>
                    <a:lnTo>
                      <a:pt x="127" y="149"/>
                    </a:lnTo>
                    <a:lnTo>
                      <a:pt x="106" y="127"/>
                    </a:lnTo>
                    <a:lnTo>
                      <a:pt x="84" y="106"/>
                    </a:lnTo>
                    <a:lnTo>
                      <a:pt x="63" y="75"/>
                    </a:lnTo>
                    <a:lnTo>
                      <a:pt x="43" y="53"/>
                    </a:lnTo>
                    <a:lnTo>
                      <a:pt x="21" y="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 flipH="1" flipV="1">
                <a:off x="1604160" y="4798440"/>
                <a:ext cx="63000" cy="60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1501920" y="4703040"/>
                <a:ext cx="102600" cy="95760"/>
              </a:xfrm>
              <a:custGeom>
                <a:avLst/>
                <a:gdLst/>
                <a:ahLst/>
                <a:rect l="l" t="t" r="r" b="b"/>
                <a:pathLst>
                  <a:path w="266" h="244">
                    <a:moveTo>
                      <a:pt x="266" y="244"/>
                    </a:moveTo>
                    <a:lnTo>
                      <a:pt x="254" y="233"/>
                    </a:lnTo>
                    <a:lnTo>
                      <a:pt x="233" y="212"/>
                    </a:lnTo>
                    <a:lnTo>
                      <a:pt x="223" y="202"/>
                    </a:lnTo>
                    <a:lnTo>
                      <a:pt x="202" y="181"/>
                    </a:lnTo>
                    <a:lnTo>
                      <a:pt x="191" y="170"/>
                    </a:lnTo>
                    <a:lnTo>
                      <a:pt x="170" y="149"/>
                    </a:lnTo>
                    <a:lnTo>
                      <a:pt x="148" y="138"/>
                    </a:lnTo>
                    <a:lnTo>
                      <a:pt x="139" y="127"/>
                    </a:lnTo>
                    <a:lnTo>
                      <a:pt x="117" y="106"/>
                    </a:lnTo>
                    <a:lnTo>
                      <a:pt x="96" y="97"/>
                    </a:lnTo>
                    <a:lnTo>
                      <a:pt x="75" y="85"/>
                    </a:lnTo>
                    <a:lnTo>
                      <a:pt x="64" y="63"/>
                    </a:lnTo>
                    <a:lnTo>
                      <a:pt x="43" y="54"/>
                    </a:lnTo>
                    <a:lnTo>
                      <a:pt x="32" y="32"/>
                    </a:lnTo>
                    <a:lnTo>
                      <a:pt x="1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1263600" y="4698000"/>
                <a:ext cx="226440" cy="263880"/>
              </a:xfrm>
              <a:custGeom>
                <a:avLst/>
                <a:gdLst/>
                <a:ahLst/>
                <a:rect l="l" t="t" r="r" b="b"/>
                <a:pathLst>
                  <a:path w="583" h="678">
                    <a:moveTo>
                      <a:pt x="583" y="0"/>
                    </a:moveTo>
                    <a:lnTo>
                      <a:pt x="540" y="42"/>
                    </a:lnTo>
                    <a:lnTo>
                      <a:pt x="509" y="85"/>
                    </a:lnTo>
                    <a:lnTo>
                      <a:pt x="477" y="127"/>
                    </a:lnTo>
                    <a:lnTo>
                      <a:pt x="434" y="169"/>
                    </a:lnTo>
                    <a:lnTo>
                      <a:pt x="403" y="212"/>
                    </a:lnTo>
                    <a:lnTo>
                      <a:pt x="361" y="254"/>
                    </a:lnTo>
                    <a:lnTo>
                      <a:pt x="329" y="297"/>
                    </a:lnTo>
                    <a:lnTo>
                      <a:pt x="286" y="339"/>
                    </a:lnTo>
                    <a:lnTo>
                      <a:pt x="255" y="381"/>
                    </a:lnTo>
                    <a:lnTo>
                      <a:pt x="212" y="424"/>
                    </a:lnTo>
                    <a:lnTo>
                      <a:pt x="180" y="466"/>
                    </a:lnTo>
                    <a:lnTo>
                      <a:pt x="139" y="508"/>
                    </a:lnTo>
                    <a:lnTo>
                      <a:pt x="106" y="551"/>
                    </a:lnTo>
                    <a:lnTo>
                      <a:pt x="74" y="594"/>
                    </a:lnTo>
                    <a:lnTo>
                      <a:pt x="42" y="635"/>
                    </a:lnTo>
                    <a:lnTo>
                      <a:pt x="0" y="6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1263600" y="4962240"/>
                <a:ext cx="11520" cy="240120"/>
              </a:xfrm>
              <a:custGeom>
                <a:avLst/>
                <a:gdLst/>
                <a:ahLst/>
                <a:rect l="l" t="t" r="r" b="b"/>
                <a:pathLst>
                  <a:path w="32" h="615">
                    <a:moveTo>
                      <a:pt x="0" y="0"/>
                    </a:moveTo>
                    <a:lnTo>
                      <a:pt x="0" y="32"/>
                    </a:lnTo>
                    <a:lnTo>
                      <a:pt x="11" y="75"/>
                    </a:lnTo>
                    <a:lnTo>
                      <a:pt x="11" y="118"/>
                    </a:lnTo>
                    <a:lnTo>
                      <a:pt x="11" y="159"/>
                    </a:lnTo>
                    <a:lnTo>
                      <a:pt x="11" y="190"/>
                    </a:lnTo>
                    <a:lnTo>
                      <a:pt x="21" y="233"/>
                    </a:lnTo>
                    <a:lnTo>
                      <a:pt x="21" y="276"/>
                    </a:lnTo>
                    <a:lnTo>
                      <a:pt x="21" y="317"/>
                    </a:lnTo>
                    <a:lnTo>
                      <a:pt x="21" y="360"/>
                    </a:lnTo>
                    <a:lnTo>
                      <a:pt x="32" y="392"/>
                    </a:lnTo>
                    <a:lnTo>
                      <a:pt x="32" y="435"/>
                    </a:lnTo>
                    <a:lnTo>
                      <a:pt x="32" y="467"/>
                    </a:lnTo>
                    <a:lnTo>
                      <a:pt x="32" y="510"/>
                    </a:lnTo>
                    <a:lnTo>
                      <a:pt x="32" y="540"/>
                    </a:lnTo>
                    <a:lnTo>
                      <a:pt x="32" y="583"/>
                    </a:lnTo>
                    <a:lnTo>
                      <a:pt x="32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1217160" y="4950720"/>
                <a:ext cx="16200" cy="296280"/>
              </a:xfrm>
              <a:custGeom>
                <a:avLst/>
                <a:gdLst/>
                <a:ahLst/>
                <a:rect l="l" t="t" r="r" b="b"/>
                <a:pathLst>
                  <a:path w="42" h="763">
                    <a:moveTo>
                      <a:pt x="0" y="763"/>
                    </a:moveTo>
                    <a:lnTo>
                      <a:pt x="0" y="710"/>
                    </a:lnTo>
                    <a:lnTo>
                      <a:pt x="0" y="668"/>
                    </a:lnTo>
                    <a:lnTo>
                      <a:pt x="0" y="614"/>
                    </a:lnTo>
                    <a:lnTo>
                      <a:pt x="0" y="571"/>
                    </a:lnTo>
                    <a:lnTo>
                      <a:pt x="0" y="519"/>
                    </a:lnTo>
                    <a:lnTo>
                      <a:pt x="10" y="476"/>
                    </a:lnTo>
                    <a:lnTo>
                      <a:pt x="10" y="423"/>
                    </a:lnTo>
                    <a:lnTo>
                      <a:pt x="10" y="381"/>
                    </a:lnTo>
                    <a:lnTo>
                      <a:pt x="21" y="328"/>
                    </a:lnTo>
                    <a:lnTo>
                      <a:pt x="21" y="285"/>
                    </a:lnTo>
                    <a:lnTo>
                      <a:pt x="21" y="233"/>
                    </a:lnTo>
                    <a:lnTo>
                      <a:pt x="31" y="190"/>
                    </a:lnTo>
                    <a:lnTo>
                      <a:pt x="31" y="137"/>
                    </a:lnTo>
                    <a:lnTo>
                      <a:pt x="31" y="95"/>
                    </a:lnTo>
                    <a:lnTo>
                      <a:pt x="31" y="4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1233720" y="4476240"/>
                <a:ext cx="9360" cy="474120"/>
              </a:xfrm>
              <a:custGeom>
                <a:avLst/>
                <a:gdLst/>
                <a:ahLst/>
                <a:rect l="l" t="t" r="r" b="b"/>
                <a:pathLst>
                  <a:path w="21" h="1220">
                    <a:moveTo>
                      <a:pt x="0" y="1220"/>
                    </a:moveTo>
                    <a:lnTo>
                      <a:pt x="0" y="1145"/>
                    </a:lnTo>
                    <a:lnTo>
                      <a:pt x="0" y="1070"/>
                    </a:lnTo>
                    <a:lnTo>
                      <a:pt x="0" y="997"/>
                    </a:lnTo>
                    <a:lnTo>
                      <a:pt x="11" y="922"/>
                    </a:lnTo>
                    <a:lnTo>
                      <a:pt x="11" y="848"/>
                    </a:lnTo>
                    <a:lnTo>
                      <a:pt x="11" y="764"/>
                    </a:lnTo>
                    <a:lnTo>
                      <a:pt x="11" y="689"/>
                    </a:lnTo>
                    <a:lnTo>
                      <a:pt x="21" y="615"/>
                    </a:lnTo>
                    <a:lnTo>
                      <a:pt x="21" y="541"/>
                    </a:lnTo>
                    <a:lnTo>
                      <a:pt x="21" y="456"/>
                    </a:lnTo>
                    <a:lnTo>
                      <a:pt x="21" y="381"/>
                    </a:lnTo>
                    <a:lnTo>
                      <a:pt x="21" y="308"/>
                    </a:lnTo>
                    <a:lnTo>
                      <a:pt x="21" y="223"/>
                    </a:lnTo>
                    <a:lnTo>
                      <a:pt x="21" y="148"/>
                    </a:lnTo>
                    <a:lnTo>
                      <a:pt x="21" y="75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1238400" y="4308480"/>
                <a:ext cx="9000" cy="167760"/>
              </a:xfrm>
              <a:custGeom>
                <a:avLst/>
                <a:gdLst/>
                <a:ahLst/>
                <a:rect l="l" t="t" r="r" b="b"/>
                <a:pathLst>
                  <a:path w="21" h="435">
                    <a:moveTo>
                      <a:pt x="10" y="435"/>
                    </a:moveTo>
                    <a:lnTo>
                      <a:pt x="10" y="403"/>
                    </a:lnTo>
                    <a:lnTo>
                      <a:pt x="10" y="372"/>
                    </a:lnTo>
                    <a:lnTo>
                      <a:pt x="21" y="351"/>
                    </a:lnTo>
                    <a:lnTo>
                      <a:pt x="21" y="319"/>
                    </a:lnTo>
                    <a:lnTo>
                      <a:pt x="10" y="297"/>
                    </a:lnTo>
                    <a:lnTo>
                      <a:pt x="10" y="265"/>
                    </a:lnTo>
                    <a:lnTo>
                      <a:pt x="10" y="245"/>
                    </a:lnTo>
                    <a:lnTo>
                      <a:pt x="10" y="212"/>
                    </a:lnTo>
                    <a:lnTo>
                      <a:pt x="10" y="191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0" y="106"/>
                    </a:lnTo>
                    <a:lnTo>
                      <a:pt x="0" y="85"/>
                    </a:lnTo>
                    <a:lnTo>
                      <a:pt x="0" y="54"/>
                    </a:lnTo>
                    <a:lnTo>
                      <a:pt x="0" y="2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1243080" y="4149720"/>
                <a:ext cx="11520" cy="15876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403"/>
                    </a:moveTo>
                    <a:lnTo>
                      <a:pt x="0" y="372"/>
                    </a:lnTo>
                    <a:lnTo>
                      <a:pt x="0" y="351"/>
                    </a:lnTo>
                    <a:lnTo>
                      <a:pt x="0" y="330"/>
                    </a:lnTo>
                    <a:lnTo>
                      <a:pt x="0" y="297"/>
                    </a:lnTo>
                    <a:lnTo>
                      <a:pt x="0" y="276"/>
                    </a:lnTo>
                    <a:lnTo>
                      <a:pt x="0" y="255"/>
                    </a:lnTo>
                    <a:lnTo>
                      <a:pt x="11" y="223"/>
                    </a:lnTo>
                    <a:lnTo>
                      <a:pt x="11" y="201"/>
                    </a:lnTo>
                    <a:lnTo>
                      <a:pt x="11" y="170"/>
                    </a:lnTo>
                    <a:lnTo>
                      <a:pt x="11" y="149"/>
                    </a:lnTo>
                    <a:lnTo>
                      <a:pt x="11" y="128"/>
                    </a:lnTo>
                    <a:lnTo>
                      <a:pt x="11" y="95"/>
                    </a:lnTo>
                    <a:lnTo>
                      <a:pt x="22" y="74"/>
                    </a:lnTo>
                    <a:lnTo>
                      <a:pt x="22" y="53"/>
                    </a:lnTo>
                    <a:lnTo>
                      <a:pt x="31" y="2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1254600" y="4063680"/>
                <a:ext cx="36720" cy="86040"/>
              </a:xfrm>
              <a:custGeom>
                <a:avLst/>
                <a:gdLst/>
                <a:ahLst/>
                <a:rect l="l" t="t" r="r" b="b"/>
                <a:pathLst>
                  <a:path w="96" h="222">
                    <a:moveTo>
                      <a:pt x="0" y="222"/>
                    </a:moveTo>
                    <a:lnTo>
                      <a:pt x="0" y="212"/>
                    </a:lnTo>
                    <a:lnTo>
                      <a:pt x="12" y="190"/>
                    </a:lnTo>
                    <a:lnTo>
                      <a:pt x="12" y="181"/>
                    </a:lnTo>
                    <a:lnTo>
                      <a:pt x="12" y="159"/>
                    </a:lnTo>
                    <a:lnTo>
                      <a:pt x="12" y="148"/>
                    </a:lnTo>
                    <a:lnTo>
                      <a:pt x="22" y="138"/>
                    </a:lnTo>
                    <a:lnTo>
                      <a:pt x="22" y="117"/>
                    </a:lnTo>
                    <a:lnTo>
                      <a:pt x="22" y="106"/>
                    </a:lnTo>
                    <a:lnTo>
                      <a:pt x="33" y="95"/>
                    </a:lnTo>
                    <a:lnTo>
                      <a:pt x="33" y="74"/>
                    </a:lnTo>
                    <a:lnTo>
                      <a:pt x="43" y="63"/>
                    </a:lnTo>
                    <a:lnTo>
                      <a:pt x="54" y="53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86" y="11"/>
                    </a:lnTo>
                    <a:lnTo>
                      <a:pt x="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1291680" y="3601440"/>
                <a:ext cx="392040" cy="461880"/>
              </a:xfrm>
              <a:custGeom>
                <a:avLst/>
                <a:gdLst/>
                <a:ahLst/>
                <a:rect l="l" t="t" r="r" b="b"/>
                <a:pathLst>
                  <a:path w="1008" h="1188">
                    <a:moveTo>
                      <a:pt x="0" y="1188"/>
                    </a:moveTo>
                    <a:lnTo>
                      <a:pt x="65" y="1113"/>
                    </a:lnTo>
                    <a:lnTo>
                      <a:pt x="127" y="1040"/>
                    </a:lnTo>
                    <a:lnTo>
                      <a:pt x="192" y="965"/>
                    </a:lnTo>
                    <a:lnTo>
                      <a:pt x="255" y="891"/>
                    </a:lnTo>
                    <a:lnTo>
                      <a:pt x="319" y="816"/>
                    </a:lnTo>
                    <a:lnTo>
                      <a:pt x="382" y="743"/>
                    </a:lnTo>
                    <a:lnTo>
                      <a:pt x="446" y="668"/>
                    </a:lnTo>
                    <a:lnTo>
                      <a:pt x="509" y="593"/>
                    </a:lnTo>
                    <a:lnTo>
                      <a:pt x="573" y="519"/>
                    </a:lnTo>
                    <a:lnTo>
                      <a:pt x="637" y="446"/>
                    </a:lnTo>
                    <a:lnTo>
                      <a:pt x="700" y="372"/>
                    </a:lnTo>
                    <a:lnTo>
                      <a:pt x="754" y="297"/>
                    </a:lnTo>
                    <a:lnTo>
                      <a:pt x="816" y="224"/>
                    </a:lnTo>
                    <a:lnTo>
                      <a:pt x="881" y="149"/>
                    </a:lnTo>
                    <a:lnTo>
                      <a:pt x="944" y="74"/>
                    </a:lnTo>
                    <a:lnTo>
                      <a:pt x="10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1684080" y="3531240"/>
                <a:ext cx="102600" cy="70200"/>
              </a:xfrm>
              <a:custGeom>
                <a:avLst/>
                <a:gdLst/>
                <a:ahLst/>
                <a:rect l="l" t="t" r="r" b="b"/>
                <a:pathLst>
                  <a:path w="265" h="180">
                    <a:moveTo>
                      <a:pt x="0" y="180"/>
                    </a:moveTo>
                    <a:lnTo>
                      <a:pt x="10" y="159"/>
                    </a:lnTo>
                    <a:lnTo>
                      <a:pt x="32" y="148"/>
                    </a:lnTo>
                    <a:lnTo>
                      <a:pt x="41" y="127"/>
                    </a:lnTo>
                    <a:lnTo>
                      <a:pt x="63" y="117"/>
                    </a:lnTo>
                    <a:lnTo>
                      <a:pt x="73" y="105"/>
                    </a:lnTo>
                    <a:lnTo>
                      <a:pt x="84" y="96"/>
                    </a:lnTo>
                    <a:lnTo>
                      <a:pt x="105" y="75"/>
                    </a:lnTo>
                    <a:lnTo>
                      <a:pt x="127" y="64"/>
                    </a:lnTo>
                    <a:lnTo>
                      <a:pt x="138" y="53"/>
                    </a:lnTo>
                    <a:lnTo>
                      <a:pt x="159" y="42"/>
                    </a:lnTo>
                    <a:lnTo>
                      <a:pt x="170" y="32"/>
                    </a:lnTo>
                    <a:lnTo>
                      <a:pt x="191" y="21"/>
                    </a:lnTo>
                    <a:lnTo>
                      <a:pt x="212" y="21"/>
                    </a:lnTo>
                    <a:lnTo>
                      <a:pt x="234" y="12"/>
                    </a:lnTo>
                    <a:lnTo>
                      <a:pt x="243" y="0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1560240" y="3778920"/>
                <a:ext cx="193680" cy="546120"/>
              </a:xfrm>
              <a:custGeom>
                <a:avLst/>
                <a:gdLst/>
                <a:ahLst/>
                <a:rect l="l" t="t" r="r" b="b"/>
                <a:pathLst>
                  <a:path w="499" h="1400">
                    <a:moveTo>
                      <a:pt x="478" y="31"/>
                    </a:moveTo>
                    <a:lnTo>
                      <a:pt x="478" y="106"/>
                    </a:lnTo>
                    <a:lnTo>
                      <a:pt x="478" y="191"/>
                    </a:lnTo>
                    <a:lnTo>
                      <a:pt x="478" y="276"/>
                    </a:lnTo>
                    <a:lnTo>
                      <a:pt x="478" y="351"/>
                    </a:lnTo>
                    <a:lnTo>
                      <a:pt x="478" y="435"/>
                    </a:lnTo>
                    <a:lnTo>
                      <a:pt x="478" y="520"/>
                    </a:lnTo>
                    <a:lnTo>
                      <a:pt x="478" y="593"/>
                    </a:lnTo>
                    <a:lnTo>
                      <a:pt x="478" y="679"/>
                    </a:lnTo>
                    <a:lnTo>
                      <a:pt x="478" y="752"/>
                    </a:lnTo>
                    <a:lnTo>
                      <a:pt x="478" y="838"/>
                    </a:lnTo>
                    <a:lnTo>
                      <a:pt x="489" y="922"/>
                    </a:lnTo>
                    <a:lnTo>
                      <a:pt x="489" y="997"/>
                    </a:lnTo>
                    <a:lnTo>
                      <a:pt x="489" y="1082"/>
                    </a:lnTo>
                    <a:lnTo>
                      <a:pt x="489" y="1167"/>
                    </a:lnTo>
                    <a:lnTo>
                      <a:pt x="489" y="1251"/>
                    </a:lnTo>
                    <a:lnTo>
                      <a:pt x="499" y="1326"/>
                    </a:lnTo>
                    <a:lnTo>
                      <a:pt x="489" y="1336"/>
                    </a:lnTo>
                    <a:lnTo>
                      <a:pt x="489" y="1348"/>
                    </a:lnTo>
                    <a:lnTo>
                      <a:pt x="489" y="1357"/>
                    </a:lnTo>
                    <a:lnTo>
                      <a:pt x="489" y="1368"/>
                    </a:lnTo>
                    <a:lnTo>
                      <a:pt x="478" y="1368"/>
                    </a:lnTo>
                    <a:lnTo>
                      <a:pt x="478" y="1379"/>
                    </a:lnTo>
                    <a:lnTo>
                      <a:pt x="478" y="1389"/>
                    </a:lnTo>
                    <a:lnTo>
                      <a:pt x="467" y="1389"/>
                    </a:lnTo>
                    <a:lnTo>
                      <a:pt x="467" y="1400"/>
                    </a:lnTo>
                    <a:lnTo>
                      <a:pt x="457" y="1400"/>
                    </a:lnTo>
                    <a:lnTo>
                      <a:pt x="424" y="1368"/>
                    </a:lnTo>
                    <a:lnTo>
                      <a:pt x="392" y="1336"/>
                    </a:lnTo>
                    <a:lnTo>
                      <a:pt x="360" y="1294"/>
                    </a:lnTo>
                    <a:lnTo>
                      <a:pt x="339" y="1262"/>
                    </a:lnTo>
                    <a:lnTo>
                      <a:pt x="308" y="1219"/>
                    </a:lnTo>
                    <a:lnTo>
                      <a:pt x="287" y="1177"/>
                    </a:lnTo>
                    <a:lnTo>
                      <a:pt x="255" y="1146"/>
                    </a:lnTo>
                    <a:lnTo>
                      <a:pt x="233" y="1103"/>
                    </a:lnTo>
                    <a:lnTo>
                      <a:pt x="202" y="1071"/>
                    </a:lnTo>
                    <a:lnTo>
                      <a:pt x="181" y="1028"/>
                    </a:lnTo>
                    <a:lnTo>
                      <a:pt x="160" y="987"/>
                    </a:lnTo>
                    <a:lnTo>
                      <a:pt x="127" y="954"/>
                    </a:lnTo>
                    <a:lnTo>
                      <a:pt x="106" y="913"/>
                    </a:lnTo>
                    <a:lnTo>
                      <a:pt x="75" y="880"/>
                    </a:lnTo>
                    <a:lnTo>
                      <a:pt x="43" y="838"/>
                    </a:lnTo>
                    <a:lnTo>
                      <a:pt x="22" y="806"/>
                    </a:lnTo>
                    <a:lnTo>
                      <a:pt x="11" y="795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0" y="774"/>
                    </a:lnTo>
                    <a:lnTo>
                      <a:pt x="0" y="764"/>
                    </a:lnTo>
                    <a:lnTo>
                      <a:pt x="0" y="752"/>
                    </a:lnTo>
                    <a:lnTo>
                      <a:pt x="11" y="752"/>
                    </a:lnTo>
                    <a:lnTo>
                      <a:pt x="11" y="743"/>
                    </a:lnTo>
                    <a:lnTo>
                      <a:pt x="22" y="743"/>
                    </a:lnTo>
                    <a:lnTo>
                      <a:pt x="43" y="690"/>
                    </a:lnTo>
                    <a:lnTo>
                      <a:pt x="65" y="647"/>
                    </a:lnTo>
                    <a:lnTo>
                      <a:pt x="97" y="605"/>
                    </a:lnTo>
                    <a:lnTo>
                      <a:pt x="118" y="552"/>
                    </a:lnTo>
                    <a:lnTo>
                      <a:pt x="149" y="509"/>
                    </a:lnTo>
                    <a:lnTo>
                      <a:pt x="170" y="466"/>
                    </a:lnTo>
                    <a:lnTo>
                      <a:pt x="202" y="425"/>
                    </a:lnTo>
                    <a:lnTo>
                      <a:pt x="224" y="372"/>
                    </a:lnTo>
                    <a:lnTo>
                      <a:pt x="255" y="330"/>
                    </a:lnTo>
                    <a:lnTo>
                      <a:pt x="287" y="287"/>
                    </a:lnTo>
                    <a:lnTo>
                      <a:pt x="308" y="244"/>
                    </a:lnTo>
                    <a:lnTo>
                      <a:pt x="339" y="191"/>
                    </a:lnTo>
                    <a:lnTo>
                      <a:pt x="360" y="149"/>
                    </a:lnTo>
                    <a:lnTo>
                      <a:pt x="392" y="106"/>
                    </a:lnTo>
                    <a:lnTo>
                      <a:pt x="414" y="53"/>
                    </a:lnTo>
                    <a:lnTo>
                      <a:pt x="435" y="10"/>
                    </a:lnTo>
                    <a:lnTo>
                      <a:pt x="435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67" y="0"/>
                    </a:lnTo>
                    <a:lnTo>
                      <a:pt x="478" y="0"/>
                    </a:lnTo>
                    <a:lnTo>
                      <a:pt x="478" y="10"/>
                    </a:lnTo>
                    <a:lnTo>
                      <a:pt x="478" y="22"/>
                    </a:lnTo>
                    <a:lnTo>
                      <a:pt x="478" y="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1744920" y="3792600"/>
                <a:ext cx="9000" cy="501480"/>
              </a:xfrm>
              <a:custGeom>
                <a:avLst/>
                <a:gdLst/>
                <a:ahLst/>
                <a:rect l="l" t="t" r="r" b="b"/>
                <a:pathLst>
                  <a:path w="21" h="1295">
                    <a:moveTo>
                      <a:pt x="0" y="0"/>
                    </a:moveTo>
                    <a:lnTo>
                      <a:pt x="0" y="75"/>
                    </a:lnTo>
                    <a:lnTo>
                      <a:pt x="0" y="160"/>
                    </a:lnTo>
                    <a:lnTo>
                      <a:pt x="0" y="245"/>
                    </a:lnTo>
                    <a:lnTo>
                      <a:pt x="0" y="320"/>
                    </a:lnTo>
                    <a:lnTo>
                      <a:pt x="0" y="404"/>
                    </a:lnTo>
                    <a:lnTo>
                      <a:pt x="0" y="489"/>
                    </a:lnTo>
                    <a:lnTo>
                      <a:pt x="0" y="562"/>
                    </a:lnTo>
                    <a:lnTo>
                      <a:pt x="0" y="648"/>
                    </a:lnTo>
                    <a:lnTo>
                      <a:pt x="0" y="721"/>
                    </a:lnTo>
                    <a:lnTo>
                      <a:pt x="0" y="807"/>
                    </a:lnTo>
                    <a:lnTo>
                      <a:pt x="11" y="891"/>
                    </a:lnTo>
                    <a:lnTo>
                      <a:pt x="11" y="966"/>
                    </a:lnTo>
                    <a:lnTo>
                      <a:pt x="11" y="1051"/>
                    </a:lnTo>
                    <a:lnTo>
                      <a:pt x="11" y="1136"/>
                    </a:lnTo>
                    <a:lnTo>
                      <a:pt x="11" y="1220"/>
                    </a:lnTo>
                    <a:lnTo>
                      <a:pt x="21" y="12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1567440" y="4093560"/>
                <a:ext cx="170280" cy="231120"/>
              </a:xfrm>
              <a:custGeom>
                <a:avLst/>
                <a:gdLst/>
                <a:ahLst/>
                <a:rect l="l" t="t" r="r" b="b"/>
                <a:pathLst>
                  <a:path w="435" h="594">
                    <a:moveTo>
                      <a:pt x="435" y="594"/>
                    </a:moveTo>
                    <a:lnTo>
                      <a:pt x="402" y="562"/>
                    </a:lnTo>
                    <a:lnTo>
                      <a:pt x="370" y="530"/>
                    </a:lnTo>
                    <a:lnTo>
                      <a:pt x="338" y="488"/>
                    </a:lnTo>
                    <a:lnTo>
                      <a:pt x="317" y="456"/>
                    </a:lnTo>
                    <a:lnTo>
                      <a:pt x="286" y="413"/>
                    </a:lnTo>
                    <a:lnTo>
                      <a:pt x="265" y="371"/>
                    </a:lnTo>
                    <a:lnTo>
                      <a:pt x="233" y="340"/>
                    </a:lnTo>
                    <a:lnTo>
                      <a:pt x="211" y="297"/>
                    </a:lnTo>
                    <a:lnTo>
                      <a:pt x="180" y="265"/>
                    </a:lnTo>
                    <a:lnTo>
                      <a:pt x="159" y="222"/>
                    </a:lnTo>
                    <a:lnTo>
                      <a:pt x="138" y="181"/>
                    </a:lnTo>
                    <a:lnTo>
                      <a:pt x="105" y="148"/>
                    </a:lnTo>
                    <a:lnTo>
                      <a:pt x="84" y="107"/>
                    </a:lnTo>
                    <a:lnTo>
                      <a:pt x="53" y="74"/>
                    </a:lnTo>
                    <a:lnTo>
                      <a:pt x="2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1567440" y="3783600"/>
                <a:ext cx="160920" cy="284400"/>
              </a:xfrm>
              <a:custGeom>
                <a:avLst/>
                <a:gdLst/>
                <a:ahLst/>
                <a:rect l="l" t="t" r="r" b="b"/>
                <a:pathLst>
                  <a:path w="413" h="733">
                    <a:moveTo>
                      <a:pt x="0" y="733"/>
                    </a:moveTo>
                    <a:lnTo>
                      <a:pt x="21" y="680"/>
                    </a:lnTo>
                    <a:lnTo>
                      <a:pt x="43" y="637"/>
                    </a:lnTo>
                    <a:lnTo>
                      <a:pt x="75" y="595"/>
                    </a:lnTo>
                    <a:lnTo>
                      <a:pt x="96" y="542"/>
                    </a:lnTo>
                    <a:lnTo>
                      <a:pt x="127" y="499"/>
                    </a:lnTo>
                    <a:lnTo>
                      <a:pt x="148" y="456"/>
                    </a:lnTo>
                    <a:lnTo>
                      <a:pt x="180" y="415"/>
                    </a:lnTo>
                    <a:lnTo>
                      <a:pt x="202" y="362"/>
                    </a:lnTo>
                    <a:lnTo>
                      <a:pt x="233" y="320"/>
                    </a:lnTo>
                    <a:lnTo>
                      <a:pt x="265" y="277"/>
                    </a:lnTo>
                    <a:lnTo>
                      <a:pt x="286" y="234"/>
                    </a:lnTo>
                    <a:lnTo>
                      <a:pt x="317" y="181"/>
                    </a:lnTo>
                    <a:lnTo>
                      <a:pt x="338" y="139"/>
                    </a:lnTo>
                    <a:lnTo>
                      <a:pt x="370" y="96"/>
                    </a:lnTo>
                    <a:lnTo>
                      <a:pt x="392" y="43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1576440" y="3808800"/>
                <a:ext cx="161280" cy="485280"/>
              </a:xfrm>
              <a:custGeom>
                <a:avLst/>
                <a:gdLst/>
                <a:ahLst/>
                <a:rect l="l" t="t" r="r" b="b"/>
                <a:pathLst>
                  <a:path w="414" h="1252">
                    <a:moveTo>
                      <a:pt x="403" y="966"/>
                    </a:moveTo>
                    <a:lnTo>
                      <a:pt x="403" y="975"/>
                    </a:lnTo>
                    <a:lnTo>
                      <a:pt x="414" y="997"/>
                    </a:lnTo>
                    <a:lnTo>
                      <a:pt x="414" y="1018"/>
                    </a:lnTo>
                    <a:lnTo>
                      <a:pt x="414" y="1029"/>
                    </a:lnTo>
                    <a:lnTo>
                      <a:pt x="414" y="1050"/>
                    </a:lnTo>
                    <a:lnTo>
                      <a:pt x="414" y="1072"/>
                    </a:lnTo>
                    <a:lnTo>
                      <a:pt x="414" y="1081"/>
                    </a:lnTo>
                    <a:lnTo>
                      <a:pt x="414" y="1103"/>
                    </a:lnTo>
                    <a:lnTo>
                      <a:pt x="414" y="1124"/>
                    </a:lnTo>
                    <a:lnTo>
                      <a:pt x="414" y="1145"/>
                    </a:lnTo>
                    <a:lnTo>
                      <a:pt x="414" y="1156"/>
                    </a:lnTo>
                    <a:lnTo>
                      <a:pt x="414" y="1177"/>
                    </a:lnTo>
                    <a:lnTo>
                      <a:pt x="414" y="1199"/>
                    </a:lnTo>
                    <a:lnTo>
                      <a:pt x="414" y="1220"/>
                    </a:lnTo>
                    <a:lnTo>
                      <a:pt x="414" y="1231"/>
                    </a:lnTo>
                    <a:lnTo>
                      <a:pt x="414" y="1252"/>
                    </a:lnTo>
                    <a:lnTo>
                      <a:pt x="392" y="1220"/>
                    </a:lnTo>
                    <a:lnTo>
                      <a:pt x="360" y="1177"/>
                    </a:lnTo>
                    <a:lnTo>
                      <a:pt x="339" y="1145"/>
                    </a:lnTo>
                    <a:lnTo>
                      <a:pt x="317" y="1103"/>
                    </a:lnTo>
                    <a:lnTo>
                      <a:pt x="286" y="1072"/>
                    </a:lnTo>
                    <a:lnTo>
                      <a:pt x="265" y="1029"/>
                    </a:lnTo>
                    <a:lnTo>
                      <a:pt x="233" y="997"/>
                    </a:lnTo>
                    <a:lnTo>
                      <a:pt x="212" y="954"/>
                    </a:lnTo>
                    <a:lnTo>
                      <a:pt x="190" y="923"/>
                    </a:lnTo>
                    <a:lnTo>
                      <a:pt x="159" y="891"/>
                    </a:lnTo>
                    <a:lnTo>
                      <a:pt x="138" y="848"/>
                    </a:lnTo>
                    <a:lnTo>
                      <a:pt x="106" y="817"/>
                    </a:lnTo>
                    <a:lnTo>
                      <a:pt x="84" y="775"/>
                    </a:lnTo>
                    <a:lnTo>
                      <a:pt x="54" y="743"/>
                    </a:lnTo>
                    <a:lnTo>
                      <a:pt x="32" y="711"/>
                    </a:lnTo>
                    <a:lnTo>
                      <a:pt x="0" y="669"/>
                    </a:ln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  <a:lnTo>
                      <a:pt x="403" y="9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1733400" y="4184640"/>
                <a:ext cx="4680" cy="109440"/>
              </a:xfrm>
              <a:custGeom>
                <a:avLst/>
                <a:gdLst/>
                <a:ahLst/>
                <a:rect l="l" t="t" r="r" b="b"/>
                <a:pathLst>
                  <a:path w="11" h="286">
                    <a:moveTo>
                      <a:pt x="0" y="0"/>
                    </a:moveTo>
                    <a:lnTo>
                      <a:pt x="0" y="9"/>
                    </a:lnTo>
                    <a:lnTo>
                      <a:pt x="11" y="31"/>
                    </a:lnTo>
                    <a:lnTo>
                      <a:pt x="11" y="52"/>
                    </a:lnTo>
                    <a:lnTo>
                      <a:pt x="11" y="63"/>
                    </a:lnTo>
                    <a:lnTo>
                      <a:pt x="11" y="84"/>
                    </a:lnTo>
                    <a:lnTo>
                      <a:pt x="11" y="106"/>
                    </a:lnTo>
                    <a:lnTo>
                      <a:pt x="11" y="115"/>
                    </a:lnTo>
                    <a:lnTo>
                      <a:pt x="11" y="137"/>
                    </a:lnTo>
                    <a:lnTo>
                      <a:pt x="11" y="158"/>
                    </a:lnTo>
                    <a:lnTo>
                      <a:pt x="11" y="179"/>
                    </a:lnTo>
                    <a:lnTo>
                      <a:pt x="11" y="190"/>
                    </a:lnTo>
                    <a:lnTo>
                      <a:pt x="11" y="211"/>
                    </a:lnTo>
                    <a:lnTo>
                      <a:pt x="11" y="233"/>
                    </a:lnTo>
                    <a:lnTo>
                      <a:pt x="11" y="254"/>
                    </a:lnTo>
                    <a:lnTo>
                      <a:pt x="11" y="265"/>
                    </a:lnTo>
                    <a:lnTo>
                      <a:pt x="11" y="2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1576440" y="4068360"/>
                <a:ext cx="161280" cy="225720"/>
              </a:xfrm>
              <a:custGeom>
                <a:avLst/>
                <a:gdLst/>
                <a:ahLst/>
                <a:rect l="l" t="t" r="r" b="b"/>
                <a:pathLst>
                  <a:path w="414" h="583">
                    <a:moveTo>
                      <a:pt x="414" y="583"/>
                    </a:moveTo>
                    <a:lnTo>
                      <a:pt x="392" y="551"/>
                    </a:lnTo>
                    <a:lnTo>
                      <a:pt x="360" y="508"/>
                    </a:lnTo>
                    <a:lnTo>
                      <a:pt x="339" y="476"/>
                    </a:lnTo>
                    <a:lnTo>
                      <a:pt x="317" y="434"/>
                    </a:lnTo>
                    <a:lnTo>
                      <a:pt x="286" y="403"/>
                    </a:lnTo>
                    <a:lnTo>
                      <a:pt x="265" y="360"/>
                    </a:lnTo>
                    <a:lnTo>
                      <a:pt x="233" y="328"/>
                    </a:lnTo>
                    <a:lnTo>
                      <a:pt x="212" y="285"/>
                    </a:lnTo>
                    <a:lnTo>
                      <a:pt x="190" y="254"/>
                    </a:lnTo>
                    <a:lnTo>
                      <a:pt x="159" y="222"/>
                    </a:lnTo>
                    <a:lnTo>
                      <a:pt x="138" y="179"/>
                    </a:lnTo>
                    <a:lnTo>
                      <a:pt x="106" y="148"/>
                    </a:lnTo>
                    <a:lnTo>
                      <a:pt x="84" y="106"/>
                    </a:lnTo>
                    <a:lnTo>
                      <a:pt x="54" y="74"/>
                    </a:lnTo>
                    <a:lnTo>
                      <a:pt x="32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1576440" y="3808800"/>
                <a:ext cx="156600" cy="259200"/>
              </a:xfrm>
              <a:custGeom>
                <a:avLst/>
                <a:gdLst/>
                <a:ahLst/>
                <a:rect l="l" t="t" r="r" b="b"/>
                <a:pathLst>
                  <a:path w="403" h="669">
                    <a:moveTo>
                      <a:pt x="0" y="669"/>
                    </a:move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1733400" y="3808800"/>
                <a:ext cx="1800" cy="3754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1373760" y="4770720"/>
                <a:ext cx="368280" cy="366120"/>
              </a:xfrm>
              <a:custGeom>
                <a:avLst/>
                <a:gdLst/>
                <a:ahLst/>
                <a:rect l="l" t="t" r="r" b="b"/>
                <a:pathLst>
                  <a:path w="944" h="943">
                    <a:moveTo>
                      <a:pt x="934" y="562"/>
                    </a:moveTo>
                    <a:lnTo>
                      <a:pt x="934" y="573"/>
                    </a:lnTo>
                    <a:lnTo>
                      <a:pt x="944" y="573"/>
                    </a:lnTo>
                    <a:lnTo>
                      <a:pt x="944" y="582"/>
                    </a:lnTo>
                    <a:lnTo>
                      <a:pt x="944" y="594"/>
                    </a:lnTo>
                    <a:lnTo>
                      <a:pt x="944" y="604"/>
                    </a:lnTo>
                    <a:lnTo>
                      <a:pt x="944" y="616"/>
                    </a:lnTo>
                    <a:lnTo>
                      <a:pt x="944" y="625"/>
                    </a:lnTo>
                    <a:lnTo>
                      <a:pt x="944" y="636"/>
                    </a:lnTo>
                    <a:lnTo>
                      <a:pt x="934" y="646"/>
                    </a:lnTo>
                    <a:lnTo>
                      <a:pt x="934" y="657"/>
                    </a:lnTo>
                    <a:lnTo>
                      <a:pt x="934" y="668"/>
                    </a:lnTo>
                    <a:lnTo>
                      <a:pt x="934" y="679"/>
                    </a:lnTo>
                    <a:lnTo>
                      <a:pt x="934" y="688"/>
                    </a:lnTo>
                    <a:lnTo>
                      <a:pt x="934" y="700"/>
                    </a:lnTo>
                    <a:lnTo>
                      <a:pt x="934" y="709"/>
                    </a:lnTo>
                    <a:lnTo>
                      <a:pt x="934" y="721"/>
                    </a:lnTo>
                    <a:lnTo>
                      <a:pt x="912" y="731"/>
                    </a:lnTo>
                    <a:lnTo>
                      <a:pt x="901" y="731"/>
                    </a:lnTo>
                    <a:lnTo>
                      <a:pt x="880" y="731"/>
                    </a:lnTo>
                    <a:lnTo>
                      <a:pt x="859" y="743"/>
                    </a:lnTo>
                    <a:lnTo>
                      <a:pt x="837" y="743"/>
                    </a:lnTo>
                    <a:lnTo>
                      <a:pt x="816" y="743"/>
                    </a:lnTo>
                    <a:lnTo>
                      <a:pt x="806" y="743"/>
                    </a:lnTo>
                    <a:lnTo>
                      <a:pt x="785" y="743"/>
                    </a:lnTo>
                    <a:lnTo>
                      <a:pt x="764" y="752"/>
                    </a:lnTo>
                    <a:lnTo>
                      <a:pt x="742" y="752"/>
                    </a:lnTo>
                    <a:lnTo>
                      <a:pt x="722" y="752"/>
                    </a:lnTo>
                    <a:lnTo>
                      <a:pt x="710" y="752"/>
                    </a:lnTo>
                    <a:lnTo>
                      <a:pt x="689" y="763"/>
                    </a:lnTo>
                    <a:lnTo>
                      <a:pt x="669" y="763"/>
                    </a:lnTo>
                    <a:lnTo>
                      <a:pt x="658" y="774"/>
                    </a:lnTo>
                    <a:lnTo>
                      <a:pt x="637" y="784"/>
                    </a:lnTo>
                    <a:lnTo>
                      <a:pt x="595" y="784"/>
                    </a:lnTo>
                    <a:lnTo>
                      <a:pt x="552" y="795"/>
                    </a:lnTo>
                    <a:lnTo>
                      <a:pt x="509" y="806"/>
                    </a:lnTo>
                    <a:lnTo>
                      <a:pt x="477" y="806"/>
                    </a:lnTo>
                    <a:lnTo>
                      <a:pt x="435" y="815"/>
                    </a:lnTo>
                    <a:lnTo>
                      <a:pt x="393" y="837"/>
                    </a:lnTo>
                    <a:lnTo>
                      <a:pt x="361" y="848"/>
                    </a:lnTo>
                    <a:lnTo>
                      <a:pt x="318" y="858"/>
                    </a:lnTo>
                    <a:lnTo>
                      <a:pt x="275" y="870"/>
                    </a:lnTo>
                    <a:lnTo>
                      <a:pt x="245" y="879"/>
                    </a:lnTo>
                    <a:lnTo>
                      <a:pt x="202" y="890"/>
                    </a:lnTo>
                    <a:lnTo>
                      <a:pt x="160" y="901"/>
                    </a:lnTo>
                    <a:lnTo>
                      <a:pt x="127" y="911"/>
                    </a:lnTo>
                    <a:lnTo>
                      <a:pt x="85" y="922"/>
                    </a:lnTo>
                    <a:lnTo>
                      <a:pt x="43" y="933"/>
                    </a:lnTo>
                    <a:lnTo>
                      <a:pt x="0" y="943"/>
                    </a:lnTo>
                    <a:lnTo>
                      <a:pt x="0" y="933"/>
                    </a:lnTo>
                    <a:lnTo>
                      <a:pt x="0" y="922"/>
                    </a:lnTo>
                    <a:lnTo>
                      <a:pt x="0" y="911"/>
                    </a:lnTo>
                    <a:lnTo>
                      <a:pt x="0" y="901"/>
                    </a:lnTo>
                    <a:lnTo>
                      <a:pt x="0" y="890"/>
                    </a:lnTo>
                    <a:lnTo>
                      <a:pt x="12" y="890"/>
                    </a:lnTo>
                    <a:lnTo>
                      <a:pt x="12" y="879"/>
                    </a:lnTo>
                    <a:lnTo>
                      <a:pt x="12" y="870"/>
                    </a:lnTo>
                    <a:lnTo>
                      <a:pt x="21" y="858"/>
                    </a:lnTo>
                    <a:lnTo>
                      <a:pt x="21" y="848"/>
                    </a:lnTo>
                    <a:lnTo>
                      <a:pt x="21" y="837"/>
                    </a:lnTo>
                    <a:lnTo>
                      <a:pt x="33" y="837"/>
                    </a:lnTo>
                    <a:lnTo>
                      <a:pt x="21" y="827"/>
                    </a:lnTo>
                    <a:lnTo>
                      <a:pt x="33" y="815"/>
                    </a:lnTo>
                    <a:lnTo>
                      <a:pt x="33" y="806"/>
                    </a:lnTo>
                    <a:lnTo>
                      <a:pt x="33" y="795"/>
                    </a:lnTo>
                    <a:lnTo>
                      <a:pt x="43" y="784"/>
                    </a:lnTo>
                    <a:lnTo>
                      <a:pt x="43" y="774"/>
                    </a:lnTo>
                    <a:lnTo>
                      <a:pt x="53" y="763"/>
                    </a:lnTo>
                    <a:lnTo>
                      <a:pt x="53" y="752"/>
                    </a:lnTo>
                    <a:lnTo>
                      <a:pt x="64" y="752"/>
                    </a:lnTo>
                    <a:lnTo>
                      <a:pt x="64" y="731"/>
                    </a:lnTo>
                    <a:lnTo>
                      <a:pt x="75" y="709"/>
                    </a:lnTo>
                    <a:lnTo>
                      <a:pt x="85" y="700"/>
                    </a:lnTo>
                    <a:lnTo>
                      <a:pt x="85" y="679"/>
                    </a:lnTo>
                    <a:lnTo>
                      <a:pt x="96" y="668"/>
                    </a:lnTo>
                    <a:lnTo>
                      <a:pt x="107" y="646"/>
                    </a:lnTo>
                    <a:lnTo>
                      <a:pt x="107" y="625"/>
                    </a:lnTo>
                    <a:lnTo>
                      <a:pt x="117" y="616"/>
                    </a:lnTo>
                    <a:lnTo>
                      <a:pt x="117" y="594"/>
                    </a:lnTo>
                    <a:lnTo>
                      <a:pt x="127" y="582"/>
                    </a:lnTo>
                    <a:lnTo>
                      <a:pt x="139" y="562"/>
                    </a:lnTo>
                    <a:lnTo>
                      <a:pt x="139" y="551"/>
                    </a:lnTo>
                    <a:lnTo>
                      <a:pt x="148" y="530"/>
                    </a:lnTo>
                    <a:lnTo>
                      <a:pt x="160" y="519"/>
                    </a:lnTo>
                    <a:lnTo>
                      <a:pt x="170" y="498"/>
                    </a:lnTo>
                    <a:lnTo>
                      <a:pt x="180" y="488"/>
                    </a:lnTo>
                    <a:lnTo>
                      <a:pt x="180" y="477"/>
                    </a:lnTo>
                    <a:lnTo>
                      <a:pt x="180" y="467"/>
                    </a:lnTo>
                    <a:lnTo>
                      <a:pt x="180" y="446"/>
                    </a:lnTo>
                    <a:lnTo>
                      <a:pt x="191" y="435"/>
                    </a:lnTo>
                    <a:lnTo>
                      <a:pt x="191" y="424"/>
                    </a:lnTo>
                    <a:lnTo>
                      <a:pt x="202" y="414"/>
                    </a:lnTo>
                    <a:lnTo>
                      <a:pt x="202" y="403"/>
                    </a:lnTo>
                    <a:lnTo>
                      <a:pt x="202" y="392"/>
                    </a:lnTo>
                    <a:lnTo>
                      <a:pt x="212" y="382"/>
                    </a:lnTo>
                    <a:lnTo>
                      <a:pt x="212" y="371"/>
                    </a:lnTo>
                    <a:lnTo>
                      <a:pt x="223" y="360"/>
                    </a:lnTo>
                    <a:lnTo>
                      <a:pt x="223" y="349"/>
                    </a:lnTo>
                    <a:lnTo>
                      <a:pt x="223" y="339"/>
                    </a:lnTo>
                    <a:lnTo>
                      <a:pt x="234" y="328"/>
                    </a:lnTo>
                    <a:lnTo>
                      <a:pt x="234" y="317"/>
                    </a:lnTo>
                    <a:lnTo>
                      <a:pt x="234" y="308"/>
                    </a:lnTo>
                    <a:lnTo>
                      <a:pt x="245" y="286"/>
                    </a:lnTo>
                    <a:lnTo>
                      <a:pt x="254" y="265"/>
                    </a:lnTo>
                    <a:lnTo>
                      <a:pt x="266" y="244"/>
                    </a:lnTo>
                    <a:lnTo>
                      <a:pt x="266" y="222"/>
                    </a:lnTo>
                    <a:lnTo>
                      <a:pt x="275" y="201"/>
                    </a:lnTo>
                    <a:lnTo>
                      <a:pt x="287" y="181"/>
                    </a:lnTo>
                    <a:lnTo>
                      <a:pt x="297" y="159"/>
                    </a:lnTo>
                    <a:lnTo>
                      <a:pt x="297" y="138"/>
                    </a:lnTo>
                    <a:lnTo>
                      <a:pt x="307" y="117"/>
                    </a:lnTo>
                    <a:lnTo>
                      <a:pt x="318" y="95"/>
                    </a:lnTo>
                    <a:lnTo>
                      <a:pt x="329" y="74"/>
                    </a:lnTo>
                    <a:lnTo>
                      <a:pt x="340" y="63"/>
                    </a:lnTo>
                    <a:lnTo>
                      <a:pt x="350" y="42"/>
                    </a:lnTo>
                    <a:lnTo>
                      <a:pt x="361" y="32"/>
                    </a:lnTo>
                    <a:lnTo>
                      <a:pt x="382" y="11"/>
                    </a:lnTo>
                    <a:lnTo>
                      <a:pt x="404" y="0"/>
                    </a:lnTo>
                    <a:lnTo>
                      <a:pt x="435" y="32"/>
                    </a:lnTo>
                    <a:lnTo>
                      <a:pt x="468" y="63"/>
                    </a:lnTo>
                    <a:lnTo>
                      <a:pt x="499" y="106"/>
                    </a:lnTo>
                    <a:lnTo>
                      <a:pt x="531" y="138"/>
                    </a:lnTo>
                    <a:lnTo>
                      <a:pt x="562" y="169"/>
                    </a:lnTo>
                    <a:lnTo>
                      <a:pt x="595" y="201"/>
                    </a:lnTo>
                    <a:lnTo>
                      <a:pt x="626" y="244"/>
                    </a:lnTo>
                    <a:lnTo>
                      <a:pt x="669" y="275"/>
                    </a:lnTo>
                    <a:lnTo>
                      <a:pt x="701" y="308"/>
                    </a:lnTo>
                    <a:lnTo>
                      <a:pt x="732" y="349"/>
                    </a:lnTo>
                    <a:lnTo>
                      <a:pt x="764" y="382"/>
                    </a:lnTo>
                    <a:lnTo>
                      <a:pt x="796" y="414"/>
                    </a:lnTo>
                    <a:lnTo>
                      <a:pt x="837" y="455"/>
                    </a:lnTo>
                    <a:lnTo>
                      <a:pt x="869" y="488"/>
                    </a:lnTo>
                    <a:lnTo>
                      <a:pt x="901" y="519"/>
                    </a:lnTo>
                    <a:lnTo>
                      <a:pt x="934" y="56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1738080" y="498780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10" h="159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32"/>
                    </a:lnTo>
                    <a:lnTo>
                      <a:pt x="10" y="42"/>
                    </a:lnTo>
                    <a:lnTo>
                      <a:pt x="10" y="54"/>
                    </a:lnTo>
                    <a:lnTo>
                      <a:pt x="10" y="63"/>
                    </a:lnTo>
                    <a:lnTo>
                      <a:pt x="10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6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1373760" y="5073840"/>
                <a:ext cx="246960" cy="62640"/>
              </a:xfrm>
              <a:custGeom>
                <a:avLst/>
                <a:gdLst/>
                <a:ahLst/>
                <a:rect l="l" t="t" r="r" b="b"/>
                <a:pathLst>
                  <a:path w="637" h="159">
                    <a:moveTo>
                      <a:pt x="637" y="0"/>
                    </a:moveTo>
                    <a:lnTo>
                      <a:pt x="595" y="0"/>
                    </a:lnTo>
                    <a:lnTo>
                      <a:pt x="552" y="11"/>
                    </a:lnTo>
                    <a:lnTo>
                      <a:pt x="509" y="22"/>
                    </a:lnTo>
                    <a:lnTo>
                      <a:pt x="477" y="22"/>
                    </a:lnTo>
                    <a:lnTo>
                      <a:pt x="435" y="31"/>
                    </a:lnTo>
                    <a:lnTo>
                      <a:pt x="393" y="53"/>
                    </a:lnTo>
                    <a:lnTo>
                      <a:pt x="361" y="64"/>
                    </a:lnTo>
                    <a:lnTo>
                      <a:pt x="318" y="74"/>
                    </a:lnTo>
                    <a:lnTo>
                      <a:pt x="275" y="86"/>
                    </a:lnTo>
                    <a:lnTo>
                      <a:pt x="245" y="95"/>
                    </a:lnTo>
                    <a:lnTo>
                      <a:pt x="202" y="106"/>
                    </a:lnTo>
                    <a:lnTo>
                      <a:pt x="160" y="117"/>
                    </a:lnTo>
                    <a:lnTo>
                      <a:pt x="127" y="127"/>
                    </a:lnTo>
                    <a:lnTo>
                      <a:pt x="85" y="138"/>
                    </a:lnTo>
                    <a:lnTo>
                      <a:pt x="43" y="14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1399320" y="4959720"/>
                <a:ext cx="44280" cy="102600"/>
              </a:xfrm>
              <a:custGeom>
                <a:avLst/>
                <a:gdLst/>
                <a:ahLst/>
                <a:rect l="l" t="t" r="r" b="b"/>
                <a:pathLst>
                  <a:path w="116" h="264">
                    <a:moveTo>
                      <a:pt x="0" y="264"/>
                    </a:moveTo>
                    <a:lnTo>
                      <a:pt x="0" y="243"/>
                    </a:lnTo>
                    <a:lnTo>
                      <a:pt x="11" y="221"/>
                    </a:lnTo>
                    <a:lnTo>
                      <a:pt x="21" y="212"/>
                    </a:lnTo>
                    <a:lnTo>
                      <a:pt x="21" y="191"/>
                    </a:lnTo>
                    <a:lnTo>
                      <a:pt x="32" y="180"/>
                    </a:lnTo>
                    <a:lnTo>
                      <a:pt x="43" y="158"/>
                    </a:lnTo>
                    <a:lnTo>
                      <a:pt x="43" y="137"/>
                    </a:lnTo>
                    <a:lnTo>
                      <a:pt x="53" y="128"/>
                    </a:lnTo>
                    <a:lnTo>
                      <a:pt x="53" y="106"/>
                    </a:lnTo>
                    <a:lnTo>
                      <a:pt x="63" y="94"/>
                    </a:lnTo>
                    <a:lnTo>
                      <a:pt x="75" y="74"/>
                    </a:lnTo>
                    <a:lnTo>
                      <a:pt x="75" y="63"/>
                    </a:lnTo>
                    <a:lnTo>
                      <a:pt x="84" y="42"/>
                    </a:lnTo>
                    <a:lnTo>
                      <a:pt x="96" y="31"/>
                    </a:lnTo>
                    <a:lnTo>
                      <a:pt x="106" y="10"/>
                    </a:lnTo>
                    <a:lnTo>
                      <a:pt x="1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1443600" y="488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54" h="180">
                    <a:moveTo>
                      <a:pt x="0" y="180"/>
                    </a:moveTo>
                    <a:lnTo>
                      <a:pt x="0" y="169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11" y="127"/>
                    </a:lnTo>
                    <a:lnTo>
                      <a:pt x="11" y="116"/>
                    </a:lnTo>
                    <a:lnTo>
                      <a:pt x="22" y="106"/>
                    </a:lnTo>
                    <a:lnTo>
                      <a:pt x="22" y="95"/>
                    </a:lnTo>
                    <a:lnTo>
                      <a:pt x="22" y="84"/>
                    </a:lnTo>
                    <a:lnTo>
                      <a:pt x="32" y="74"/>
                    </a:lnTo>
                    <a:lnTo>
                      <a:pt x="32" y="63"/>
                    </a:lnTo>
                    <a:lnTo>
                      <a:pt x="43" y="52"/>
                    </a:lnTo>
                    <a:lnTo>
                      <a:pt x="43" y="41"/>
                    </a:lnTo>
                    <a:lnTo>
                      <a:pt x="43" y="31"/>
                    </a:lnTo>
                    <a:lnTo>
                      <a:pt x="54" y="20"/>
                    </a:lnTo>
                    <a:lnTo>
                      <a:pt x="54" y="9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1464840" y="4770720"/>
                <a:ext cx="66960" cy="118800"/>
              </a:xfrm>
              <a:custGeom>
                <a:avLst/>
                <a:gdLst/>
                <a:ahLst/>
                <a:rect l="l" t="t" r="r" b="b"/>
                <a:pathLst>
                  <a:path w="170" h="308">
                    <a:moveTo>
                      <a:pt x="0" y="308"/>
                    </a:moveTo>
                    <a:lnTo>
                      <a:pt x="11" y="286"/>
                    </a:lnTo>
                    <a:lnTo>
                      <a:pt x="20" y="265"/>
                    </a:lnTo>
                    <a:lnTo>
                      <a:pt x="32" y="244"/>
                    </a:lnTo>
                    <a:lnTo>
                      <a:pt x="32" y="222"/>
                    </a:lnTo>
                    <a:lnTo>
                      <a:pt x="41" y="201"/>
                    </a:lnTo>
                    <a:lnTo>
                      <a:pt x="53" y="181"/>
                    </a:lnTo>
                    <a:lnTo>
                      <a:pt x="63" y="159"/>
                    </a:lnTo>
                    <a:lnTo>
                      <a:pt x="63" y="138"/>
                    </a:lnTo>
                    <a:lnTo>
                      <a:pt x="73" y="117"/>
                    </a:lnTo>
                    <a:lnTo>
                      <a:pt x="84" y="95"/>
                    </a:lnTo>
                    <a:lnTo>
                      <a:pt x="95" y="74"/>
                    </a:lnTo>
                    <a:lnTo>
                      <a:pt x="106" y="63"/>
                    </a:lnTo>
                    <a:lnTo>
                      <a:pt x="116" y="42"/>
                    </a:lnTo>
                    <a:lnTo>
                      <a:pt x="127" y="32"/>
                    </a:lnTo>
                    <a:lnTo>
                      <a:pt x="148" y="11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1532160" y="4770720"/>
                <a:ext cx="205920" cy="216720"/>
              </a:xfrm>
              <a:custGeom>
                <a:avLst/>
                <a:gdLst/>
                <a:ahLst/>
                <a:rect l="l" t="t" r="r" b="b"/>
                <a:pathLst>
                  <a:path w="530" h="562">
                    <a:moveTo>
                      <a:pt x="0" y="0"/>
                    </a:moveTo>
                    <a:lnTo>
                      <a:pt x="31" y="32"/>
                    </a:lnTo>
                    <a:lnTo>
                      <a:pt x="64" y="63"/>
                    </a:lnTo>
                    <a:lnTo>
                      <a:pt x="95" y="106"/>
                    </a:lnTo>
                    <a:lnTo>
                      <a:pt x="127" y="138"/>
                    </a:lnTo>
                    <a:lnTo>
                      <a:pt x="158" y="169"/>
                    </a:lnTo>
                    <a:lnTo>
                      <a:pt x="191" y="201"/>
                    </a:lnTo>
                    <a:lnTo>
                      <a:pt x="222" y="244"/>
                    </a:lnTo>
                    <a:lnTo>
                      <a:pt x="265" y="275"/>
                    </a:lnTo>
                    <a:lnTo>
                      <a:pt x="297" y="308"/>
                    </a:lnTo>
                    <a:lnTo>
                      <a:pt x="328" y="349"/>
                    </a:lnTo>
                    <a:lnTo>
                      <a:pt x="360" y="382"/>
                    </a:lnTo>
                    <a:lnTo>
                      <a:pt x="392" y="414"/>
                    </a:lnTo>
                    <a:lnTo>
                      <a:pt x="433" y="455"/>
                    </a:lnTo>
                    <a:lnTo>
                      <a:pt x="465" y="488"/>
                    </a:lnTo>
                    <a:lnTo>
                      <a:pt x="497" y="519"/>
                    </a:lnTo>
                    <a:lnTo>
                      <a:pt x="53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1389600" y="5078880"/>
                <a:ext cx="549000" cy="135360"/>
              </a:xfrm>
              <a:custGeom>
                <a:avLst/>
                <a:gdLst/>
                <a:ahLst/>
                <a:rect l="l" t="t" r="r" b="b"/>
                <a:pathLst>
                  <a:path w="1410" h="349">
                    <a:moveTo>
                      <a:pt x="1315" y="213"/>
                    </a:moveTo>
                    <a:lnTo>
                      <a:pt x="1325" y="222"/>
                    </a:lnTo>
                    <a:lnTo>
                      <a:pt x="1336" y="222"/>
                    </a:lnTo>
                    <a:lnTo>
                      <a:pt x="1347" y="234"/>
                    </a:lnTo>
                    <a:lnTo>
                      <a:pt x="1356" y="243"/>
                    </a:lnTo>
                    <a:lnTo>
                      <a:pt x="1368" y="243"/>
                    </a:lnTo>
                    <a:lnTo>
                      <a:pt x="1378" y="243"/>
                    </a:lnTo>
                    <a:lnTo>
                      <a:pt x="1378" y="255"/>
                    </a:lnTo>
                    <a:lnTo>
                      <a:pt x="1388" y="255"/>
                    </a:lnTo>
                    <a:lnTo>
                      <a:pt x="1399" y="265"/>
                    </a:lnTo>
                    <a:lnTo>
                      <a:pt x="1399" y="276"/>
                    </a:lnTo>
                    <a:lnTo>
                      <a:pt x="1410" y="276"/>
                    </a:lnTo>
                    <a:lnTo>
                      <a:pt x="1410" y="286"/>
                    </a:lnTo>
                    <a:lnTo>
                      <a:pt x="1410" y="297"/>
                    </a:lnTo>
                    <a:lnTo>
                      <a:pt x="1410" y="308"/>
                    </a:lnTo>
                    <a:lnTo>
                      <a:pt x="1399" y="308"/>
                    </a:lnTo>
                    <a:lnTo>
                      <a:pt x="1399" y="318"/>
                    </a:lnTo>
                    <a:lnTo>
                      <a:pt x="1388" y="318"/>
                    </a:lnTo>
                    <a:lnTo>
                      <a:pt x="1388" y="328"/>
                    </a:lnTo>
                    <a:lnTo>
                      <a:pt x="1356" y="318"/>
                    </a:lnTo>
                    <a:lnTo>
                      <a:pt x="1336" y="308"/>
                    </a:lnTo>
                    <a:lnTo>
                      <a:pt x="1315" y="297"/>
                    </a:lnTo>
                    <a:lnTo>
                      <a:pt x="1283" y="297"/>
                    </a:lnTo>
                    <a:lnTo>
                      <a:pt x="1261" y="297"/>
                    </a:lnTo>
                    <a:lnTo>
                      <a:pt x="1229" y="297"/>
                    </a:lnTo>
                    <a:lnTo>
                      <a:pt x="1208" y="297"/>
                    </a:lnTo>
                    <a:lnTo>
                      <a:pt x="1177" y="297"/>
                    </a:lnTo>
                    <a:lnTo>
                      <a:pt x="1155" y="308"/>
                    </a:lnTo>
                    <a:lnTo>
                      <a:pt x="1134" y="308"/>
                    </a:lnTo>
                    <a:lnTo>
                      <a:pt x="1102" y="308"/>
                    </a:lnTo>
                    <a:lnTo>
                      <a:pt x="1071" y="318"/>
                    </a:lnTo>
                    <a:lnTo>
                      <a:pt x="1050" y="318"/>
                    </a:lnTo>
                    <a:lnTo>
                      <a:pt x="1018" y="328"/>
                    </a:lnTo>
                    <a:lnTo>
                      <a:pt x="996" y="328"/>
                    </a:lnTo>
                    <a:lnTo>
                      <a:pt x="965" y="328"/>
                    </a:lnTo>
                    <a:lnTo>
                      <a:pt x="923" y="340"/>
                    </a:lnTo>
                    <a:lnTo>
                      <a:pt x="869" y="340"/>
                    </a:lnTo>
                    <a:lnTo>
                      <a:pt x="826" y="349"/>
                    </a:lnTo>
                    <a:lnTo>
                      <a:pt x="773" y="349"/>
                    </a:lnTo>
                    <a:lnTo>
                      <a:pt x="721" y="349"/>
                    </a:lnTo>
                    <a:lnTo>
                      <a:pt x="679" y="349"/>
                    </a:lnTo>
                    <a:lnTo>
                      <a:pt x="626" y="349"/>
                    </a:lnTo>
                    <a:lnTo>
                      <a:pt x="583" y="349"/>
                    </a:lnTo>
                    <a:lnTo>
                      <a:pt x="531" y="349"/>
                    </a:lnTo>
                    <a:lnTo>
                      <a:pt x="477" y="349"/>
                    </a:lnTo>
                    <a:lnTo>
                      <a:pt x="434" y="349"/>
                    </a:lnTo>
                    <a:lnTo>
                      <a:pt x="382" y="349"/>
                    </a:lnTo>
                    <a:lnTo>
                      <a:pt x="329" y="349"/>
                    </a:lnTo>
                    <a:lnTo>
                      <a:pt x="286" y="349"/>
                    </a:lnTo>
                    <a:lnTo>
                      <a:pt x="232" y="349"/>
                    </a:lnTo>
                    <a:lnTo>
                      <a:pt x="180" y="349"/>
                    </a:lnTo>
                    <a:lnTo>
                      <a:pt x="169" y="349"/>
                    </a:lnTo>
                    <a:lnTo>
                      <a:pt x="159" y="349"/>
                    </a:lnTo>
                    <a:lnTo>
                      <a:pt x="148" y="349"/>
                    </a:lnTo>
                    <a:lnTo>
                      <a:pt x="137" y="349"/>
                    </a:lnTo>
                    <a:lnTo>
                      <a:pt x="127" y="349"/>
                    </a:lnTo>
                    <a:lnTo>
                      <a:pt x="117" y="349"/>
                    </a:lnTo>
                    <a:lnTo>
                      <a:pt x="105" y="349"/>
                    </a:lnTo>
                    <a:lnTo>
                      <a:pt x="96" y="349"/>
                    </a:lnTo>
                    <a:lnTo>
                      <a:pt x="84" y="349"/>
                    </a:lnTo>
                    <a:lnTo>
                      <a:pt x="74" y="349"/>
                    </a:lnTo>
                    <a:lnTo>
                      <a:pt x="64" y="349"/>
                    </a:lnTo>
                    <a:lnTo>
                      <a:pt x="53" y="349"/>
                    </a:lnTo>
                    <a:lnTo>
                      <a:pt x="53" y="340"/>
                    </a:lnTo>
                    <a:lnTo>
                      <a:pt x="42" y="340"/>
                    </a:lnTo>
                    <a:lnTo>
                      <a:pt x="32" y="328"/>
                    </a:lnTo>
                    <a:lnTo>
                      <a:pt x="32" y="318"/>
                    </a:lnTo>
                    <a:lnTo>
                      <a:pt x="32" y="308"/>
                    </a:lnTo>
                    <a:lnTo>
                      <a:pt x="21" y="297"/>
                    </a:lnTo>
                    <a:lnTo>
                      <a:pt x="21" y="286"/>
                    </a:lnTo>
                    <a:lnTo>
                      <a:pt x="10" y="286"/>
                    </a:lnTo>
                    <a:lnTo>
                      <a:pt x="10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10" y="234"/>
                    </a:lnTo>
                    <a:lnTo>
                      <a:pt x="32" y="222"/>
                    </a:lnTo>
                    <a:lnTo>
                      <a:pt x="42" y="213"/>
                    </a:lnTo>
                    <a:lnTo>
                      <a:pt x="53" y="213"/>
                    </a:lnTo>
                    <a:lnTo>
                      <a:pt x="64" y="213"/>
                    </a:lnTo>
                    <a:lnTo>
                      <a:pt x="84" y="202"/>
                    </a:lnTo>
                    <a:lnTo>
                      <a:pt x="96" y="202"/>
                    </a:lnTo>
                    <a:lnTo>
                      <a:pt x="105" y="191"/>
                    </a:lnTo>
                    <a:lnTo>
                      <a:pt x="127" y="191"/>
                    </a:lnTo>
                    <a:lnTo>
                      <a:pt x="137" y="191"/>
                    </a:lnTo>
                    <a:lnTo>
                      <a:pt x="148" y="181"/>
                    </a:lnTo>
                    <a:lnTo>
                      <a:pt x="169" y="181"/>
                    </a:lnTo>
                    <a:lnTo>
                      <a:pt x="180" y="181"/>
                    </a:lnTo>
                    <a:lnTo>
                      <a:pt x="191" y="170"/>
                    </a:lnTo>
                    <a:lnTo>
                      <a:pt x="211" y="170"/>
                    </a:lnTo>
                    <a:lnTo>
                      <a:pt x="223" y="170"/>
                    </a:lnTo>
                    <a:lnTo>
                      <a:pt x="264" y="159"/>
                    </a:lnTo>
                    <a:lnTo>
                      <a:pt x="307" y="148"/>
                    </a:lnTo>
                    <a:lnTo>
                      <a:pt x="350" y="138"/>
                    </a:lnTo>
                    <a:lnTo>
                      <a:pt x="392" y="116"/>
                    </a:lnTo>
                    <a:lnTo>
                      <a:pt x="434" y="106"/>
                    </a:lnTo>
                    <a:lnTo>
                      <a:pt x="477" y="95"/>
                    </a:lnTo>
                    <a:lnTo>
                      <a:pt x="509" y="84"/>
                    </a:lnTo>
                    <a:lnTo>
                      <a:pt x="552" y="75"/>
                    </a:lnTo>
                    <a:lnTo>
                      <a:pt x="594" y="53"/>
                    </a:lnTo>
                    <a:lnTo>
                      <a:pt x="636" y="42"/>
                    </a:lnTo>
                    <a:lnTo>
                      <a:pt x="679" y="32"/>
                    </a:lnTo>
                    <a:lnTo>
                      <a:pt x="721" y="20"/>
                    </a:lnTo>
                    <a:lnTo>
                      <a:pt x="763" y="11"/>
                    </a:lnTo>
                    <a:lnTo>
                      <a:pt x="806" y="11"/>
                    </a:lnTo>
                    <a:lnTo>
                      <a:pt x="848" y="0"/>
                    </a:lnTo>
                    <a:lnTo>
                      <a:pt x="901" y="0"/>
                    </a:lnTo>
                    <a:lnTo>
                      <a:pt x="923" y="11"/>
                    </a:lnTo>
                    <a:lnTo>
                      <a:pt x="944" y="20"/>
                    </a:lnTo>
                    <a:lnTo>
                      <a:pt x="975" y="42"/>
                    </a:lnTo>
                    <a:lnTo>
                      <a:pt x="996" y="53"/>
                    </a:lnTo>
                    <a:lnTo>
                      <a:pt x="1028" y="75"/>
                    </a:lnTo>
                    <a:lnTo>
                      <a:pt x="1050" y="84"/>
                    </a:lnTo>
                    <a:lnTo>
                      <a:pt x="1071" y="106"/>
                    </a:lnTo>
                    <a:lnTo>
                      <a:pt x="1102" y="116"/>
                    </a:lnTo>
                    <a:lnTo>
                      <a:pt x="1123" y="127"/>
                    </a:lnTo>
                    <a:lnTo>
                      <a:pt x="1155" y="148"/>
                    </a:lnTo>
                    <a:lnTo>
                      <a:pt x="1177" y="159"/>
                    </a:lnTo>
                    <a:lnTo>
                      <a:pt x="1198" y="170"/>
                    </a:lnTo>
                    <a:lnTo>
                      <a:pt x="1229" y="181"/>
                    </a:lnTo>
                    <a:lnTo>
                      <a:pt x="1261" y="191"/>
                    </a:lnTo>
                    <a:lnTo>
                      <a:pt x="1283" y="202"/>
                    </a:lnTo>
                    <a:lnTo>
                      <a:pt x="1315" y="2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1478520" y="5078880"/>
                <a:ext cx="263520" cy="65520"/>
              </a:xfrm>
              <a:custGeom>
                <a:avLst/>
                <a:gdLst/>
                <a:ahLst/>
                <a:rect l="l" t="t" r="r" b="b"/>
                <a:pathLst>
                  <a:path w="678" h="170">
                    <a:moveTo>
                      <a:pt x="0" y="170"/>
                    </a:moveTo>
                    <a:lnTo>
                      <a:pt x="41" y="159"/>
                    </a:lnTo>
                    <a:lnTo>
                      <a:pt x="84" y="148"/>
                    </a:lnTo>
                    <a:lnTo>
                      <a:pt x="127" y="138"/>
                    </a:lnTo>
                    <a:lnTo>
                      <a:pt x="169" y="116"/>
                    </a:lnTo>
                    <a:lnTo>
                      <a:pt x="211" y="106"/>
                    </a:lnTo>
                    <a:lnTo>
                      <a:pt x="254" y="95"/>
                    </a:lnTo>
                    <a:lnTo>
                      <a:pt x="286" y="84"/>
                    </a:lnTo>
                    <a:lnTo>
                      <a:pt x="329" y="75"/>
                    </a:lnTo>
                    <a:lnTo>
                      <a:pt x="371" y="53"/>
                    </a:lnTo>
                    <a:lnTo>
                      <a:pt x="413" y="42"/>
                    </a:lnTo>
                    <a:lnTo>
                      <a:pt x="456" y="32"/>
                    </a:lnTo>
                    <a:lnTo>
                      <a:pt x="498" y="20"/>
                    </a:lnTo>
                    <a:lnTo>
                      <a:pt x="540" y="11"/>
                    </a:lnTo>
                    <a:lnTo>
                      <a:pt x="583" y="11"/>
                    </a:lnTo>
                    <a:lnTo>
                      <a:pt x="625" y="0"/>
                    </a:lnTo>
                    <a:lnTo>
                      <a:pt x="67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1742400" y="5078880"/>
                <a:ext cx="161280" cy="81360"/>
              </a:xfrm>
              <a:custGeom>
                <a:avLst/>
                <a:gdLst/>
                <a:ahLst/>
                <a:rect l="l" t="t" r="r" b="b"/>
                <a:pathLst>
                  <a:path w="414" h="213">
                    <a:moveTo>
                      <a:pt x="0" y="0"/>
                    </a:moveTo>
                    <a:lnTo>
                      <a:pt x="22" y="11"/>
                    </a:lnTo>
                    <a:lnTo>
                      <a:pt x="43" y="20"/>
                    </a:lnTo>
                    <a:lnTo>
                      <a:pt x="74" y="42"/>
                    </a:lnTo>
                    <a:lnTo>
                      <a:pt x="95" y="53"/>
                    </a:lnTo>
                    <a:lnTo>
                      <a:pt x="127" y="75"/>
                    </a:lnTo>
                    <a:lnTo>
                      <a:pt x="149" y="84"/>
                    </a:lnTo>
                    <a:lnTo>
                      <a:pt x="170" y="106"/>
                    </a:lnTo>
                    <a:lnTo>
                      <a:pt x="201" y="116"/>
                    </a:lnTo>
                    <a:lnTo>
                      <a:pt x="222" y="127"/>
                    </a:lnTo>
                    <a:lnTo>
                      <a:pt x="254" y="148"/>
                    </a:lnTo>
                    <a:lnTo>
                      <a:pt x="276" y="159"/>
                    </a:lnTo>
                    <a:lnTo>
                      <a:pt x="297" y="170"/>
                    </a:lnTo>
                    <a:lnTo>
                      <a:pt x="328" y="181"/>
                    </a:lnTo>
                    <a:lnTo>
                      <a:pt x="360" y="191"/>
                    </a:lnTo>
                    <a:lnTo>
                      <a:pt x="382" y="202"/>
                    </a:lnTo>
                    <a:lnTo>
                      <a:pt x="414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1410840" y="5099760"/>
                <a:ext cx="478440" cy="102600"/>
              </a:xfrm>
              <a:custGeom>
                <a:avLst/>
                <a:gdLst/>
                <a:ahLst/>
                <a:rect l="l" t="t" r="r" b="b"/>
                <a:pathLst>
                  <a:path w="1230" h="265">
                    <a:moveTo>
                      <a:pt x="1039" y="128"/>
                    </a:moveTo>
                    <a:lnTo>
                      <a:pt x="1049" y="128"/>
                    </a:lnTo>
                    <a:lnTo>
                      <a:pt x="1061" y="138"/>
                    </a:lnTo>
                    <a:lnTo>
                      <a:pt x="1070" y="149"/>
                    </a:lnTo>
                    <a:lnTo>
                      <a:pt x="1081" y="149"/>
                    </a:lnTo>
                    <a:lnTo>
                      <a:pt x="1092" y="160"/>
                    </a:lnTo>
                    <a:lnTo>
                      <a:pt x="1113" y="160"/>
                    </a:lnTo>
                    <a:lnTo>
                      <a:pt x="1124" y="169"/>
                    </a:lnTo>
                    <a:lnTo>
                      <a:pt x="1134" y="169"/>
                    </a:lnTo>
                    <a:lnTo>
                      <a:pt x="1145" y="169"/>
                    </a:lnTo>
                    <a:lnTo>
                      <a:pt x="1155" y="181"/>
                    </a:lnTo>
                    <a:lnTo>
                      <a:pt x="1167" y="181"/>
                    </a:lnTo>
                    <a:lnTo>
                      <a:pt x="1188" y="190"/>
                    </a:lnTo>
                    <a:lnTo>
                      <a:pt x="1197" y="190"/>
                    </a:lnTo>
                    <a:lnTo>
                      <a:pt x="1208" y="202"/>
                    </a:lnTo>
                    <a:lnTo>
                      <a:pt x="1219" y="202"/>
                    </a:lnTo>
                    <a:lnTo>
                      <a:pt x="1230" y="212"/>
                    </a:lnTo>
                    <a:lnTo>
                      <a:pt x="1167" y="223"/>
                    </a:lnTo>
                    <a:lnTo>
                      <a:pt x="1092" y="233"/>
                    </a:lnTo>
                    <a:lnTo>
                      <a:pt x="1018" y="244"/>
                    </a:lnTo>
                    <a:lnTo>
                      <a:pt x="943" y="255"/>
                    </a:lnTo>
                    <a:lnTo>
                      <a:pt x="870" y="255"/>
                    </a:lnTo>
                    <a:lnTo>
                      <a:pt x="795" y="265"/>
                    </a:lnTo>
                    <a:lnTo>
                      <a:pt x="720" y="265"/>
                    </a:lnTo>
                    <a:lnTo>
                      <a:pt x="646" y="265"/>
                    </a:lnTo>
                    <a:lnTo>
                      <a:pt x="562" y="265"/>
                    </a:lnTo>
                    <a:lnTo>
                      <a:pt x="487" y="265"/>
                    </a:lnTo>
                    <a:lnTo>
                      <a:pt x="413" y="265"/>
                    </a:lnTo>
                    <a:lnTo>
                      <a:pt x="339" y="265"/>
                    </a:lnTo>
                    <a:lnTo>
                      <a:pt x="254" y="265"/>
                    </a:lnTo>
                    <a:lnTo>
                      <a:pt x="179" y="255"/>
                    </a:lnTo>
                    <a:lnTo>
                      <a:pt x="106" y="255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21" y="233"/>
                    </a:lnTo>
                    <a:lnTo>
                      <a:pt x="21" y="223"/>
                    </a:lnTo>
                    <a:lnTo>
                      <a:pt x="11" y="223"/>
                    </a:lnTo>
                    <a:lnTo>
                      <a:pt x="11" y="212"/>
                    </a:lnTo>
                    <a:lnTo>
                      <a:pt x="0" y="202"/>
                    </a:lnTo>
                    <a:lnTo>
                      <a:pt x="0" y="190"/>
                    </a:ln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  <a:lnTo>
                      <a:pt x="720" y="0"/>
                    </a:lnTo>
                    <a:lnTo>
                      <a:pt x="732" y="0"/>
                    </a:lnTo>
                    <a:lnTo>
                      <a:pt x="741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3" y="0"/>
                    </a:lnTo>
                    <a:lnTo>
                      <a:pt x="784" y="0"/>
                    </a:lnTo>
                    <a:lnTo>
                      <a:pt x="795" y="0"/>
                    </a:lnTo>
                    <a:lnTo>
                      <a:pt x="805" y="0"/>
                    </a:lnTo>
                    <a:lnTo>
                      <a:pt x="816" y="0"/>
                    </a:lnTo>
                    <a:lnTo>
                      <a:pt x="827" y="0"/>
                    </a:lnTo>
                    <a:lnTo>
                      <a:pt x="838" y="0"/>
                    </a:lnTo>
                    <a:lnTo>
                      <a:pt x="848" y="10"/>
                    </a:lnTo>
                    <a:lnTo>
                      <a:pt x="859" y="22"/>
                    </a:lnTo>
                    <a:lnTo>
                      <a:pt x="870" y="31"/>
                    </a:lnTo>
                    <a:lnTo>
                      <a:pt x="880" y="31"/>
                    </a:lnTo>
                    <a:lnTo>
                      <a:pt x="891" y="42"/>
                    </a:lnTo>
                    <a:lnTo>
                      <a:pt x="912" y="53"/>
                    </a:lnTo>
                    <a:lnTo>
                      <a:pt x="922" y="63"/>
                    </a:lnTo>
                    <a:lnTo>
                      <a:pt x="934" y="63"/>
                    </a:lnTo>
                    <a:lnTo>
                      <a:pt x="943" y="74"/>
                    </a:lnTo>
                    <a:lnTo>
                      <a:pt x="954" y="85"/>
                    </a:lnTo>
                    <a:lnTo>
                      <a:pt x="975" y="85"/>
                    </a:lnTo>
                    <a:lnTo>
                      <a:pt x="986" y="95"/>
                    </a:lnTo>
                    <a:lnTo>
                      <a:pt x="997" y="106"/>
                    </a:lnTo>
                    <a:lnTo>
                      <a:pt x="1007" y="106"/>
                    </a:lnTo>
                    <a:lnTo>
                      <a:pt x="1018" y="117"/>
                    </a:lnTo>
                    <a:lnTo>
                      <a:pt x="1039" y="128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1410840" y="5099760"/>
                <a:ext cx="277920" cy="74520"/>
              </a:xfrm>
              <a:custGeom>
                <a:avLst/>
                <a:gdLst/>
                <a:ahLst/>
                <a:rect l="l" t="t" r="r" b="b"/>
                <a:pathLst>
                  <a:path w="710" h="190">
                    <a:moveTo>
                      <a:pt x="0" y="190"/>
                    </a:move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"/>
          <p:cNvSpPr/>
          <p:nvPr/>
        </p:nvSpPr>
        <p:spPr>
          <a:xfrm>
            <a:off x="3035160" y="922320"/>
            <a:ext cx="322092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902444"/>
                </a:solidFill>
                <a:latin typeface="Geometr231 Hv BT"/>
              </a:rPr>
              <a:t>LOVE =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8" name=""/>
          <p:cNvGrpSpPr/>
          <p:nvPr/>
        </p:nvGrpSpPr>
        <p:grpSpPr>
          <a:xfrm>
            <a:off x="1596960" y="2349360"/>
            <a:ext cx="5946840" cy="1005840"/>
            <a:chOff x="1596960" y="2349360"/>
            <a:chExt cx="5946840" cy="1005840"/>
          </a:xfrm>
        </p:grpSpPr>
        <p:sp>
          <p:nvSpPr>
            <p:cNvPr id="5949" name=""/>
            <p:cNvSpPr/>
            <p:nvPr/>
          </p:nvSpPr>
          <p:spPr>
            <a:xfrm>
              <a:off x="1596960" y="2384280"/>
              <a:ext cx="5946840" cy="946440"/>
            </a:xfrm>
            <a:prstGeom prst="rect">
              <a:avLst/>
            </a:prstGeom>
            <a:solidFill>
              <a:srgbClr val="0092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030480" y="2349360"/>
              <a:ext cx="30913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HONO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1" name=""/>
          <p:cNvGrpSpPr/>
          <p:nvPr/>
        </p:nvGrpSpPr>
        <p:grpSpPr>
          <a:xfrm>
            <a:off x="1596960" y="3554280"/>
            <a:ext cx="5946840" cy="1005840"/>
            <a:chOff x="1596960" y="3554280"/>
            <a:chExt cx="5946840" cy="1005840"/>
          </a:xfrm>
        </p:grpSpPr>
        <p:sp>
          <p:nvSpPr>
            <p:cNvPr id="5952" name=""/>
            <p:cNvSpPr/>
            <p:nvPr/>
          </p:nvSpPr>
          <p:spPr>
            <a:xfrm>
              <a:off x="1596960" y="3576600"/>
              <a:ext cx="5946840" cy="946080"/>
            </a:xfrm>
            <a:prstGeom prst="rect">
              <a:avLst/>
            </a:prstGeom>
            <a:solidFill>
              <a:srgbClr val="dc2b1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310560" y="3554280"/>
              <a:ext cx="2527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TRUS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4" name=""/>
          <p:cNvGrpSpPr/>
          <p:nvPr/>
        </p:nvGrpSpPr>
        <p:grpSpPr>
          <a:xfrm>
            <a:off x="1596960" y="4759200"/>
            <a:ext cx="6040080" cy="1005840"/>
            <a:chOff x="1596960" y="4759200"/>
            <a:chExt cx="6040080" cy="1005840"/>
          </a:xfrm>
        </p:grpSpPr>
        <p:sp>
          <p:nvSpPr>
            <p:cNvPr id="5955" name=""/>
            <p:cNvSpPr/>
            <p:nvPr/>
          </p:nvSpPr>
          <p:spPr>
            <a:xfrm>
              <a:off x="1596960" y="4761000"/>
              <a:ext cx="5946840" cy="946080"/>
            </a:xfrm>
            <a:prstGeom prst="rect">
              <a:avLst/>
            </a:prstGeom>
            <a:solidFill>
              <a:srgbClr val="2b0e7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1849680" y="4759200"/>
              <a:ext cx="57873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COMMITMEN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7" name=""/>
          <p:cNvGrpSpPr/>
          <p:nvPr/>
        </p:nvGrpSpPr>
        <p:grpSpPr>
          <a:xfrm>
            <a:off x="808200" y="3319560"/>
            <a:ext cx="7225920" cy="1633680"/>
            <a:chOff x="808200" y="3319560"/>
            <a:chExt cx="7225920" cy="1633680"/>
          </a:xfrm>
        </p:grpSpPr>
        <p:sp>
          <p:nvSpPr>
            <p:cNvPr id="5958" name=""/>
            <p:cNvSpPr/>
            <p:nvPr/>
          </p:nvSpPr>
          <p:spPr>
            <a:xfrm>
              <a:off x="808200" y="3319560"/>
              <a:ext cx="72259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Now the overseer must be above reproach, the husban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of but one wife, temperate, self-controlled, respectable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hospitable, able to teach,...”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5945400" y="4572000"/>
              <a:ext cx="1902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1f1a17"/>
                  </a:solidFill>
                  <a:latin typeface="Times New Roman"/>
                </a:rPr>
                <a:t>1 Timothy 3: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0" name=""/>
          <p:cNvGrpSpPr/>
          <p:nvPr/>
        </p:nvGrpSpPr>
        <p:grpSpPr>
          <a:xfrm>
            <a:off x="3363840" y="696960"/>
            <a:ext cx="2414520" cy="2097000"/>
            <a:chOff x="3363840" y="696960"/>
            <a:chExt cx="2414520" cy="2097000"/>
          </a:xfrm>
        </p:grpSpPr>
        <p:sp>
          <p:nvSpPr>
            <p:cNvPr id="5961" name=""/>
            <p:cNvSpPr/>
            <p:nvPr/>
          </p:nvSpPr>
          <p:spPr>
            <a:xfrm>
              <a:off x="3532320" y="819000"/>
              <a:ext cx="2084400" cy="1920960"/>
            </a:xfrm>
            <a:custGeom>
              <a:avLst/>
              <a:gdLst/>
              <a:ahLst/>
              <a:rect l="l" t="t" r="r" b="b"/>
              <a:pathLst>
                <a:path w="6561" h="6050">
                  <a:moveTo>
                    <a:pt x="5113" y="6050"/>
                  </a:moveTo>
                  <a:lnTo>
                    <a:pt x="6561" y="1704"/>
                  </a:lnTo>
                  <a:lnTo>
                    <a:pt x="1449" y="0"/>
                  </a:lnTo>
                  <a:lnTo>
                    <a:pt x="0" y="4345"/>
                  </a:lnTo>
                  <a:lnTo>
                    <a:pt x="5113" y="6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5143680" y="1352520"/>
              <a:ext cx="479160" cy="1387440"/>
            </a:xfrm>
            <a:custGeom>
              <a:avLst/>
              <a:gdLst/>
              <a:ahLst/>
              <a:rect l="l" t="t" r="r" b="b"/>
              <a:pathLst>
                <a:path w="1512" h="4368">
                  <a:moveTo>
                    <a:pt x="1470" y="44"/>
                  </a:moveTo>
                  <a:lnTo>
                    <a:pt x="1448" y="22"/>
                  </a:lnTo>
                  <a:lnTo>
                    <a:pt x="0" y="4368"/>
                  </a:lnTo>
                  <a:lnTo>
                    <a:pt x="63" y="4368"/>
                  </a:lnTo>
                  <a:lnTo>
                    <a:pt x="1512" y="22"/>
                  </a:lnTo>
                  <a:lnTo>
                    <a:pt x="1490" y="0"/>
                  </a:lnTo>
                  <a:lnTo>
                    <a:pt x="1512" y="22"/>
                  </a:lnTo>
                  <a:lnTo>
                    <a:pt x="1512" y="0"/>
                  </a:lnTo>
                  <a:lnTo>
                    <a:pt x="1490" y="0"/>
                  </a:lnTo>
                  <a:lnTo>
                    <a:pt x="147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986280" y="804960"/>
              <a:ext cx="1630440" cy="561960"/>
            </a:xfrm>
            <a:custGeom>
              <a:avLst/>
              <a:gdLst/>
              <a:ahLst/>
              <a:rect l="l" t="t" r="r" b="b"/>
              <a:pathLst>
                <a:path w="5134" h="1769">
                  <a:moveTo>
                    <a:pt x="43" y="43"/>
                  </a:moveTo>
                  <a:lnTo>
                    <a:pt x="22" y="63"/>
                  </a:lnTo>
                  <a:lnTo>
                    <a:pt x="5114" y="1769"/>
                  </a:lnTo>
                  <a:lnTo>
                    <a:pt x="5134" y="1725"/>
                  </a:lnTo>
                  <a:lnTo>
                    <a:pt x="43" y="21"/>
                  </a:lnTo>
                  <a:lnTo>
                    <a:pt x="0" y="43"/>
                  </a:lnTo>
                  <a:lnTo>
                    <a:pt x="43" y="21"/>
                  </a:lnTo>
                  <a:lnTo>
                    <a:pt x="0" y="0"/>
                  </a:lnTo>
                  <a:lnTo>
                    <a:pt x="0" y="43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525840" y="819000"/>
              <a:ext cx="473040" cy="1386000"/>
            </a:xfrm>
            <a:custGeom>
              <a:avLst/>
              <a:gdLst/>
              <a:ahLst/>
              <a:rect l="l" t="t" r="r" b="b"/>
              <a:pathLst>
                <a:path w="1492" h="4367">
                  <a:moveTo>
                    <a:pt x="42" y="4325"/>
                  </a:moveTo>
                  <a:lnTo>
                    <a:pt x="42" y="4345"/>
                  </a:lnTo>
                  <a:lnTo>
                    <a:pt x="1492" y="0"/>
                  </a:lnTo>
                  <a:lnTo>
                    <a:pt x="1449" y="0"/>
                  </a:lnTo>
                  <a:lnTo>
                    <a:pt x="0" y="4345"/>
                  </a:lnTo>
                  <a:lnTo>
                    <a:pt x="22" y="4367"/>
                  </a:lnTo>
                  <a:lnTo>
                    <a:pt x="0" y="4345"/>
                  </a:lnTo>
                  <a:lnTo>
                    <a:pt x="0" y="4367"/>
                  </a:lnTo>
                  <a:lnTo>
                    <a:pt x="22" y="4367"/>
                  </a:lnTo>
                  <a:lnTo>
                    <a:pt x="42" y="4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532320" y="2192400"/>
              <a:ext cx="1630080" cy="560160"/>
            </a:xfrm>
            <a:custGeom>
              <a:avLst/>
              <a:gdLst/>
              <a:ahLst/>
              <a:rect l="l" t="t" r="r" b="b"/>
              <a:pathLst>
                <a:path w="5134" h="1767">
                  <a:moveTo>
                    <a:pt x="5071" y="1725"/>
                  </a:moveTo>
                  <a:lnTo>
                    <a:pt x="5113" y="1704"/>
                  </a:lnTo>
                  <a:lnTo>
                    <a:pt x="20" y="0"/>
                  </a:lnTo>
                  <a:lnTo>
                    <a:pt x="0" y="42"/>
                  </a:lnTo>
                  <a:lnTo>
                    <a:pt x="5092" y="1746"/>
                  </a:lnTo>
                  <a:lnTo>
                    <a:pt x="5134" y="1725"/>
                  </a:lnTo>
                  <a:lnTo>
                    <a:pt x="5092" y="1746"/>
                  </a:lnTo>
                  <a:lnTo>
                    <a:pt x="5113" y="1767"/>
                  </a:lnTo>
                  <a:lnTo>
                    <a:pt x="5134" y="1725"/>
                  </a:lnTo>
                  <a:lnTo>
                    <a:pt x="5071" y="17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397320" y="723960"/>
              <a:ext cx="2347920" cy="2043000"/>
            </a:xfrm>
            <a:custGeom>
              <a:avLst/>
              <a:gdLst/>
              <a:ahLst/>
              <a:rect l="l" t="t" r="r" b="b"/>
              <a:pathLst>
                <a:path w="7393" h="6435">
                  <a:moveTo>
                    <a:pt x="2982" y="43"/>
                  </a:moveTo>
                  <a:lnTo>
                    <a:pt x="3771" y="1321"/>
                  </a:lnTo>
                  <a:lnTo>
                    <a:pt x="4623" y="0"/>
                  </a:lnTo>
                  <a:lnTo>
                    <a:pt x="4686" y="1470"/>
                  </a:lnTo>
                  <a:lnTo>
                    <a:pt x="6093" y="597"/>
                  </a:lnTo>
                  <a:lnTo>
                    <a:pt x="5411" y="1981"/>
                  </a:lnTo>
                  <a:lnTo>
                    <a:pt x="7074" y="1704"/>
                  </a:lnTo>
                  <a:lnTo>
                    <a:pt x="5794" y="2748"/>
                  </a:lnTo>
                  <a:lnTo>
                    <a:pt x="7393" y="3111"/>
                  </a:lnTo>
                  <a:lnTo>
                    <a:pt x="5774" y="3580"/>
                  </a:lnTo>
                  <a:lnTo>
                    <a:pt x="6987" y="4559"/>
                  </a:lnTo>
                  <a:lnTo>
                    <a:pt x="5348" y="4368"/>
                  </a:lnTo>
                  <a:lnTo>
                    <a:pt x="5923" y="5710"/>
                  </a:lnTo>
                  <a:lnTo>
                    <a:pt x="4580" y="4900"/>
                  </a:lnTo>
                  <a:lnTo>
                    <a:pt x="4409" y="6391"/>
                  </a:lnTo>
                  <a:lnTo>
                    <a:pt x="3642" y="5113"/>
                  </a:lnTo>
                  <a:lnTo>
                    <a:pt x="2769" y="6435"/>
                  </a:lnTo>
                  <a:lnTo>
                    <a:pt x="2705" y="4965"/>
                  </a:lnTo>
                  <a:lnTo>
                    <a:pt x="1299" y="5838"/>
                  </a:lnTo>
                  <a:lnTo>
                    <a:pt x="1981" y="4453"/>
                  </a:lnTo>
                  <a:lnTo>
                    <a:pt x="319" y="4729"/>
                  </a:lnTo>
                  <a:lnTo>
                    <a:pt x="1597" y="3707"/>
                  </a:lnTo>
                  <a:lnTo>
                    <a:pt x="0" y="3324"/>
                  </a:lnTo>
                  <a:lnTo>
                    <a:pt x="1619" y="2855"/>
                  </a:lnTo>
                  <a:lnTo>
                    <a:pt x="404" y="1875"/>
                  </a:lnTo>
                  <a:lnTo>
                    <a:pt x="2067" y="2067"/>
                  </a:lnTo>
                  <a:lnTo>
                    <a:pt x="1469" y="725"/>
                  </a:lnTo>
                  <a:lnTo>
                    <a:pt x="2812" y="1534"/>
                  </a:lnTo>
                  <a:lnTo>
                    <a:pt x="2982" y="43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4336920" y="730080"/>
              <a:ext cx="265320" cy="427320"/>
            </a:xfrm>
            <a:custGeom>
              <a:avLst/>
              <a:gdLst/>
              <a:ahLst/>
              <a:rect l="l" t="t" r="r" b="b"/>
              <a:pathLst>
                <a:path w="831" h="1341">
                  <a:moveTo>
                    <a:pt x="767" y="1278"/>
                  </a:moveTo>
                  <a:lnTo>
                    <a:pt x="831" y="1278"/>
                  </a:lnTo>
                  <a:lnTo>
                    <a:pt x="43" y="0"/>
                  </a:lnTo>
                  <a:lnTo>
                    <a:pt x="0" y="42"/>
                  </a:lnTo>
                  <a:lnTo>
                    <a:pt x="767" y="1299"/>
                  </a:lnTo>
                  <a:lnTo>
                    <a:pt x="831" y="1299"/>
                  </a:lnTo>
                  <a:lnTo>
                    <a:pt x="767" y="1299"/>
                  </a:lnTo>
                  <a:lnTo>
                    <a:pt x="810" y="1341"/>
                  </a:lnTo>
                  <a:lnTo>
                    <a:pt x="831" y="1299"/>
                  </a:lnTo>
                  <a:lnTo>
                    <a:pt x="767" y="1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4581360" y="696960"/>
              <a:ext cx="290520" cy="446040"/>
            </a:xfrm>
            <a:custGeom>
              <a:avLst/>
              <a:gdLst/>
              <a:ahLst/>
              <a:rect l="l" t="t" r="r" b="b"/>
              <a:pathLst>
                <a:path w="916" h="1406">
                  <a:moveTo>
                    <a:pt x="916" y="85"/>
                  </a:moveTo>
                  <a:lnTo>
                    <a:pt x="873" y="64"/>
                  </a:lnTo>
                  <a:lnTo>
                    <a:pt x="0" y="1385"/>
                  </a:lnTo>
                  <a:lnTo>
                    <a:pt x="64" y="1406"/>
                  </a:lnTo>
                  <a:lnTo>
                    <a:pt x="916" y="107"/>
                  </a:lnTo>
                  <a:lnTo>
                    <a:pt x="873" y="85"/>
                  </a:lnTo>
                  <a:lnTo>
                    <a:pt x="916" y="85"/>
                  </a:lnTo>
                  <a:lnTo>
                    <a:pt x="916" y="0"/>
                  </a:lnTo>
                  <a:lnTo>
                    <a:pt x="873" y="64"/>
                  </a:lnTo>
                  <a:lnTo>
                    <a:pt x="916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4857840" y="723960"/>
              <a:ext cx="34920" cy="487440"/>
            </a:xfrm>
            <a:custGeom>
              <a:avLst/>
              <a:gdLst/>
              <a:ahLst/>
              <a:rect l="l" t="t" r="r" b="b"/>
              <a:pathLst>
                <a:path w="107" h="1534">
                  <a:moveTo>
                    <a:pt x="64" y="1449"/>
                  </a:moveTo>
                  <a:lnTo>
                    <a:pt x="107" y="147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64" y="1470"/>
                  </a:lnTo>
                  <a:lnTo>
                    <a:pt x="85" y="1492"/>
                  </a:lnTo>
                  <a:lnTo>
                    <a:pt x="64" y="1470"/>
                  </a:lnTo>
                  <a:lnTo>
                    <a:pt x="64" y="1534"/>
                  </a:lnTo>
                  <a:lnTo>
                    <a:pt x="85" y="1492"/>
                  </a:lnTo>
                  <a:lnTo>
                    <a:pt x="64" y="14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4878360" y="885960"/>
              <a:ext cx="474840" cy="311040"/>
            </a:xfrm>
            <a:custGeom>
              <a:avLst/>
              <a:gdLst/>
              <a:ahLst/>
              <a:rect l="l" t="t" r="r" b="b"/>
              <a:pathLst>
                <a:path w="1492" h="981">
                  <a:moveTo>
                    <a:pt x="1450" y="86"/>
                  </a:moveTo>
                  <a:lnTo>
                    <a:pt x="1406" y="64"/>
                  </a:lnTo>
                  <a:lnTo>
                    <a:pt x="0" y="938"/>
                  </a:lnTo>
                  <a:lnTo>
                    <a:pt x="21" y="981"/>
                  </a:lnTo>
                  <a:lnTo>
                    <a:pt x="1428" y="107"/>
                  </a:lnTo>
                  <a:lnTo>
                    <a:pt x="1406" y="64"/>
                  </a:lnTo>
                  <a:lnTo>
                    <a:pt x="1450" y="86"/>
                  </a:lnTo>
                  <a:lnTo>
                    <a:pt x="1492" y="0"/>
                  </a:lnTo>
                  <a:lnTo>
                    <a:pt x="1406" y="64"/>
                  </a:lnTo>
                  <a:lnTo>
                    <a:pt x="1450" y="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5102280" y="906480"/>
              <a:ext cx="236520" cy="460440"/>
            </a:xfrm>
            <a:custGeom>
              <a:avLst/>
              <a:gdLst/>
              <a:ahLst/>
              <a:rect l="l" t="t" r="r" b="b"/>
              <a:pathLst>
                <a:path w="747" h="1450">
                  <a:moveTo>
                    <a:pt x="43" y="1385"/>
                  </a:moveTo>
                  <a:lnTo>
                    <a:pt x="65" y="1428"/>
                  </a:lnTo>
                  <a:lnTo>
                    <a:pt x="747" y="22"/>
                  </a:lnTo>
                  <a:lnTo>
                    <a:pt x="703" y="0"/>
                  </a:lnTo>
                  <a:lnTo>
                    <a:pt x="22" y="1406"/>
                  </a:lnTo>
                  <a:lnTo>
                    <a:pt x="43" y="1428"/>
                  </a:lnTo>
                  <a:lnTo>
                    <a:pt x="22" y="1406"/>
                  </a:lnTo>
                  <a:lnTo>
                    <a:pt x="0" y="1450"/>
                  </a:lnTo>
                  <a:lnTo>
                    <a:pt x="43" y="1428"/>
                  </a:lnTo>
                  <a:lnTo>
                    <a:pt x="43" y="13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5114880" y="1251000"/>
              <a:ext cx="555840" cy="109440"/>
            </a:xfrm>
            <a:custGeom>
              <a:avLst/>
              <a:gdLst/>
              <a:ahLst/>
              <a:rect l="l" t="t" r="r" b="b"/>
              <a:pathLst>
                <a:path w="1748" h="341">
                  <a:moveTo>
                    <a:pt x="1683" y="64"/>
                  </a:moveTo>
                  <a:lnTo>
                    <a:pt x="1663" y="22"/>
                  </a:lnTo>
                  <a:lnTo>
                    <a:pt x="0" y="298"/>
                  </a:lnTo>
                  <a:lnTo>
                    <a:pt x="0" y="341"/>
                  </a:lnTo>
                  <a:lnTo>
                    <a:pt x="1663" y="64"/>
                  </a:lnTo>
                  <a:lnTo>
                    <a:pt x="1641" y="22"/>
                  </a:lnTo>
                  <a:lnTo>
                    <a:pt x="1683" y="64"/>
                  </a:lnTo>
                  <a:lnTo>
                    <a:pt x="1748" y="0"/>
                  </a:lnTo>
                  <a:lnTo>
                    <a:pt x="1663" y="22"/>
                  </a:lnTo>
                  <a:lnTo>
                    <a:pt x="1683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5216400" y="1258920"/>
              <a:ext cx="433440" cy="344520"/>
            </a:xfrm>
            <a:custGeom>
              <a:avLst/>
              <a:gdLst/>
              <a:ahLst/>
              <a:rect l="l" t="t" r="r" b="b"/>
              <a:pathLst>
                <a:path w="1363" h="1086">
                  <a:moveTo>
                    <a:pt x="85" y="1043"/>
                  </a:moveTo>
                  <a:lnTo>
                    <a:pt x="85" y="1086"/>
                  </a:lnTo>
                  <a:lnTo>
                    <a:pt x="1363" y="42"/>
                  </a:lnTo>
                  <a:lnTo>
                    <a:pt x="1321" y="0"/>
                  </a:lnTo>
                  <a:lnTo>
                    <a:pt x="63" y="1043"/>
                  </a:lnTo>
                  <a:lnTo>
                    <a:pt x="63" y="1086"/>
                  </a:lnTo>
                  <a:lnTo>
                    <a:pt x="63" y="1043"/>
                  </a:lnTo>
                  <a:lnTo>
                    <a:pt x="0" y="1064"/>
                  </a:lnTo>
                  <a:lnTo>
                    <a:pt x="63" y="1086"/>
                  </a:lnTo>
                  <a:lnTo>
                    <a:pt x="85" y="10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5237280" y="1589040"/>
              <a:ext cx="541080" cy="136440"/>
            </a:xfrm>
            <a:custGeom>
              <a:avLst/>
              <a:gdLst/>
              <a:ahLst/>
              <a:rect l="l" t="t" r="r" b="b"/>
              <a:pathLst>
                <a:path w="1706" h="427">
                  <a:moveTo>
                    <a:pt x="1599" y="427"/>
                  </a:moveTo>
                  <a:lnTo>
                    <a:pt x="1599" y="362"/>
                  </a:lnTo>
                  <a:lnTo>
                    <a:pt x="22" y="0"/>
                  </a:lnTo>
                  <a:lnTo>
                    <a:pt x="0" y="43"/>
                  </a:lnTo>
                  <a:lnTo>
                    <a:pt x="1599" y="427"/>
                  </a:lnTo>
                  <a:lnTo>
                    <a:pt x="1599" y="362"/>
                  </a:lnTo>
                  <a:lnTo>
                    <a:pt x="1599" y="427"/>
                  </a:lnTo>
                  <a:lnTo>
                    <a:pt x="1706" y="384"/>
                  </a:lnTo>
                  <a:lnTo>
                    <a:pt x="1599" y="362"/>
                  </a:lnTo>
                  <a:lnTo>
                    <a:pt x="1599" y="4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210280" y="1704960"/>
              <a:ext cx="534960" cy="168120"/>
            </a:xfrm>
            <a:custGeom>
              <a:avLst/>
              <a:gdLst/>
              <a:ahLst/>
              <a:rect l="l" t="t" r="r" b="b"/>
              <a:pathLst>
                <a:path w="1684" h="533">
                  <a:moveTo>
                    <a:pt x="85" y="491"/>
                  </a:moveTo>
                  <a:lnTo>
                    <a:pt x="65" y="533"/>
                  </a:lnTo>
                  <a:lnTo>
                    <a:pt x="1684" y="65"/>
                  </a:lnTo>
                  <a:lnTo>
                    <a:pt x="1684" y="0"/>
                  </a:lnTo>
                  <a:lnTo>
                    <a:pt x="65" y="469"/>
                  </a:lnTo>
                  <a:lnTo>
                    <a:pt x="43" y="511"/>
                  </a:lnTo>
                  <a:lnTo>
                    <a:pt x="65" y="469"/>
                  </a:lnTo>
                  <a:lnTo>
                    <a:pt x="0" y="491"/>
                  </a:lnTo>
                  <a:lnTo>
                    <a:pt x="43" y="511"/>
                  </a:lnTo>
                  <a:lnTo>
                    <a:pt x="85" y="4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5224320" y="1860480"/>
              <a:ext cx="419400" cy="324000"/>
            </a:xfrm>
            <a:custGeom>
              <a:avLst/>
              <a:gdLst/>
              <a:ahLst/>
              <a:rect l="l" t="t" r="r" b="b"/>
              <a:pathLst>
                <a:path w="1322" h="1022">
                  <a:moveTo>
                    <a:pt x="1235" y="1001"/>
                  </a:moveTo>
                  <a:lnTo>
                    <a:pt x="1257" y="959"/>
                  </a:lnTo>
                  <a:lnTo>
                    <a:pt x="42" y="0"/>
                  </a:lnTo>
                  <a:lnTo>
                    <a:pt x="0" y="20"/>
                  </a:lnTo>
                  <a:lnTo>
                    <a:pt x="1215" y="1001"/>
                  </a:lnTo>
                  <a:lnTo>
                    <a:pt x="1235" y="959"/>
                  </a:lnTo>
                  <a:lnTo>
                    <a:pt x="1235" y="1001"/>
                  </a:lnTo>
                  <a:lnTo>
                    <a:pt x="1322" y="1022"/>
                  </a:lnTo>
                  <a:lnTo>
                    <a:pt x="1257" y="959"/>
                  </a:lnTo>
                  <a:lnTo>
                    <a:pt x="1235" y="10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5081760" y="2097000"/>
              <a:ext cx="534960" cy="81000"/>
            </a:xfrm>
            <a:custGeom>
              <a:avLst/>
              <a:gdLst/>
              <a:ahLst/>
              <a:rect l="l" t="t" r="r" b="b"/>
              <a:pathLst>
                <a:path w="1682" h="256">
                  <a:moveTo>
                    <a:pt x="63" y="22"/>
                  </a:moveTo>
                  <a:lnTo>
                    <a:pt x="21" y="64"/>
                  </a:lnTo>
                  <a:lnTo>
                    <a:pt x="1682" y="256"/>
                  </a:lnTo>
                  <a:lnTo>
                    <a:pt x="1682" y="214"/>
                  </a:lnTo>
                  <a:lnTo>
                    <a:pt x="43" y="0"/>
                  </a:lnTo>
                  <a:lnTo>
                    <a:pt x="0" y="43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5081760" y="2103480"/>
              <a:ext cx="209520" cy="460440"/>
            </a:xfrm>
            <a:custGeom>
              <a:avLst/>
              <a:gdLst/>
              <a:ahLst/>
              <a:rect l="l" t="t" r="r" b="b"/>
              <a:pathLst>
                <a:path w="660" h="1448">
                  <a:moveTo>
                    <a:pt x="596" y="1406"/>
                  </a:moveTo>
                  <a:lnTo>
                    <a:pt x="639" y="1363"/>
                  </a:lnTo>
                  <a:lnTo>
                    <a:pt x="63" y="0"/>
                  </a:lnTo>
                  <a:lnTo>
                    <a:pt x="0" y="21"/>
                  </a:lnTo>
                  <a:lnTo>
                    <a:pt x="596" y="1384"/>
                  </a:lnTo>
                  <a:lnTo>
                    <a:pt x="618" y="1341"/>
                  </a:lnTo>
                  <a:lnTo>
                    <a:pt x="596" y="1406"/>
                  </a:lnTo>
                  <a:lnTo>
                    <a:pt x="660" y="1448"/>
                  </a:lnTo>
                  <a:lnTo>
                    <a:pt x="639" y="1363"/>
                  </a:lnTo>
                  <a:lnTo>
                    <a:pt x="596" y="14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4844880" y="2266920"/>
              <a:ext cx="433440" cy="284040"/>
            </a:xfrm>
            <a:custGeom>
              <a:avLst/>
              <a:gdLst/>
              <a:ahLst/>
              <a:rect l="l" t="t" r="r" b="b"/>
              <a:pathLst>
                <a:path w="1364" h="895">
                  <a:moveTo>
                    <a:pt x="42" y="42"/>
                  </a:moveTo>
                  <a:lnTo>
                    <a:pt x="0" y="63"/>
                  </a:lnTo>
                  <a:lnTo>
                    <a:pt x="1342" y="895"/>
                  </a:lnTo>
                  <a:lnTo>
                    <a:pt x="1364" y="830"/>
                  </a:lnTo>
                  <a:lnTo>
                    <a:pt x="21" y="21"/>
                  </a:lnTo>
                  <a:lnTo>
                    <a:pt x="0" y="42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4791240" y="2279520"/>
              <a:ext cx="66600" cy="500040"/>
            </a:xfrm>
            <a:custGeom>
              <a:avLst/>
              <a:gdLst/>
              <a:ahLst/>
              <a:rect l="l" t="t" r="r" b="b"/>
              <a:pathLst>
                <a:path w="212" h="1577">
                  <a:moveTo>
                    <a:pt x="0" y="1513"/>
                  </a:moveTo>
                  <a:lnTo>
                    <a:pt x="63" y="1491"/>
                  </a:lnTo>
                  <a:lnTo>
                    <a:pt x="212" y="0"/>
                  </a:lnTo>
                  <a:lnTo>
                    <a:pt x="170" y="0"/>
                  </a:lnTo>
                  <a:lnTo>
                    <a:pt x="0" y="1491"/>
                  </a:lnTo>
                  <a:lnTo>
                    <a:pt x="63" y="1491"/>
                  </a:lnTo>
                  <a:lnTo>
                    <a:pt x="0" y="1513"/>
                  </a:lnTo>
                  <a:lnTo>
                    <a:pt x="42" y="1577"/>
                  </a:lnTo>
                  <a:lnTo>
                    <a:pt x="63" y="1491"/>
                  </a:lnTo>
                  <a:lnTo>
                    <a:pt x="0" y="15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4540320" y="2333520"/>
              <a:ext cx="271440" cy="427320"/>
            </a:xfrm>
            <a:custGeom>
              <a:avLst/>
              <a:gdLst/>
              <a:ahLst/>
              <a:rect l="l" t="t" r="r" b="b"/>
              <a:pathLst>
                <a:path w="852" h="1343">
                  <a:moveTo>
                    <a:pt x="64" y="65"/>
                  </a:moveTo>
                  <a:lnTo>
                    <a:pt x="0" y="65"/>
                  </a:lnTo>
                  <a:lnTo>
                    <a:pt x="789" y="1343"/>
                  </a:lnTo>
                  <a:lnTo>
                    <a:pt x="852" y="1321"/>
                  </a:lnTo>
                  <a:lnTo>
                    <a:pt x="64" y="43"/>
                  </a:lnTo>
                  <a:lnTo>
                    <a:pt x="0" y="43"/>
                  </a:lnTo>
                  <a:lnTo>
                    <a:pt x="64" y="43"/>
                  </a:lnTo>
                  <a:lnTo>
                    <a:pt x="42" y="0"/>
                  </a:lnTo>
                  <a:lnTo>
                    <a:pt x="0" y="43"/>
                  </a:lnTo>
                  <a:lnTo>
                    <a:pt x="64" y="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4270320" y="2347920"/>
              <a:ext cx="290520" cy="446040"/>
            </a:xfrm>
            <a:custGeom>
              <a:avLst/>
              <a:gdLst/>
              <a:ahLst/>
              <a:rect l="l" t="t" r="r" b="b"/>
              <a:pathLst>
                <a:path w="916" h="1407">
                  <a:moveTo>
                    <a:pt x="0" y="1322"/>
                  </a:moveTo>
                  <a:lnTo>
                    <a:pt x="42" y="1342"/>
                  </a:lnTo>
                  <a:lnTo>
                    <a:pt x="916" y="22"/>
                  </a:lnTo>
                  <a:lnTo>
                    <a:pt x="852" y="0"/>
                  </a:lnTo>
                  <a:lnTo>
                    <a:pt x="0" y="1300"/>
                  </a:lnTo>
                  <a:lnTo>
                    <a:pt x="42" y="1322"/>
                  </a:lnTo>
                  <a:lnTo>
                    <a:pt x="0" y="1322"/>
                  </a:lnTo>
                  <a:lnTo>
                    <a:pt x="0" y="1407"/>
                  </a:lnTo>
                  <a:lnTo>
                    <a:pt x="42" y="1342"/>
                  </a:lnTo>
                  <a:lnTo>
                    <a:pt x="0" y="13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4249800" y="2279520"/>
              <a:ext cx="33120" cy="487440"/>
            </a:xfrm>
            <a:custGeom>
              <a:avLst/>
              <a:gdLst/>
              <a:ahLst/>
              <a:rect l="l" t="t" r="r" b="b"/>
              <a:pathLst>
                <a:path w="107" h="1535">
                  <a:moveTo>
                    <a:pt x="44" y="85"/>
                  </a:moveTo>
                  <a:lnTo>
                    <a:pt x="0" y="65"/>
                  </a:lnTo>
                  <a:lnTo>
                    <a:pt x="65" y="1535"/>
                  </a:lnTo>
                  <a:lnTo>
                    <a:pt x="107" y="1535"/>
                  </a:lnTo>
                  <a:lnTo>
                    <a:pt x="44" y="65"/>
                  </a:lnTo>
                  <a:lnTo>
                    <a:pt x="22" y="43"/>
                  </a:lnTo>
                  <a:lnTo>
                    <a:pt x="44" y="65"/>
                  </a:lnTo>
                  <a:lnTo>
                    <a:pt x="44" y="0"/>
                  </a:lnTo>
                  <a:lnTo>
                    <a:pt x="22" y="43"/>
                  </a:lnTo>
                  <a:lnTo>
                    <a:pt x="44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789360" y="2293920"/>
              <a:ext cx="474840" cy="311040"/>
            </a:xfrm>
            <a:custGeom>
              <a:avLst/>
              <a:gdLst/>
              <a:ahLst/>
              <a:rect l="l" t="t" r="r" b="b"/>
              <a:pathLst>
                <a:path w="1492" h="980">
                  <a:moveTo>
                    <a:pt x="43" y="895"/>
                  </a:moveTo>
                  <a:lnTo>
                    <a:pt x="85" y="916"/>
                  </a:lnTo>
                  <a:lnTo>
                    <a:pt x="1492" y="42"/>
                  </a:lnTo>
                  <a:lnTo>
                    <a:pt x="1470" y="0"/>
                  </a:lnTo>
                  <a:lnTo>
                    <a:pt x="64" y="874"/>
                  </a:lnTo>
                  <a:lnTo>
                    <a:pt x="85" y="916"/>
                  </a:lnTo>
                  <a:lnTo>
                    <a:pt x="43" y="895"/>
                  </a:lnTo>
                  <a:lnTo>
                    <a:pt x="0" y="980"/>
                  </a:lnTo>
                  <a:lnTo>
                    <a:pt x="85" y="916"/>
                  </a:lnTo>
                  <a:lnTo>
                    <a:pt x="43" y="8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803760" y="2124000"/>
              <a:ext cx="236520" cy="460440"/>
            </a:xfrm>
            <a:custGeom>
              <a:avLst/>
              <a:gdLst/>
              <a:ahLst/>
              <a:rect l="l" t="t" r="r" b="b"/>
              <a:pathLst>
                <a:path w="745" h="1449">
                  <a:moveTo>
                    <a:pt x="703" y="64"/>
                  </a:moveTo>
                  <a:lnTo>
                    <a:pt x="682" y="22"/>
                  </a:lnTo>
                  <a:lnTo>
                    <a:pt x="0" y="1428"/>
                  </a:lnTo>
                  <a:lnTo>
                    <a:pt x="42" y="1449"/>
                  </a:lnTo>
                  <a:lnTo>
                    <a:pt x="724" y="43"/>
                  </a:lnTo>
                  <a:lnTo>
                    <a:pt x="703" y="22"/>
                  </a:lnTo>
                  <a:lnTo>
                    <a:pt x="724" y="43"/>
                  </a:lnTo>
                  <a:lnTo>
                    <a:pt x="745" y="0"/>
                  </a:lnTo>
                  <a:lnTo>
                    <a:pt x="703" y="22"/>
                  </a:lnTo>
                  <a:lnTo>
                    <a:pt x="703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471840" y="2130480"/>
              <a:ext cx="554040" cy="109440"/>
            </a:xfrm>
            <a:custGeom>
              <a:avLst/>
              <a:gdLst/>
              <a:ahLst/>
              <a:rect l="l" t="t" r="r" b="b"/>
              <a:pathLst>
                <a:path w="1747" h="341">
                  <a:moveTo>
                    <a:pt x="64" y="277"/>
                  </a:moveTo>
                  <a:lnTo>
                    <a:pt x="85" y="319"/>
                  </a:lnTo>
                  <a:lnTo>
                    <a:pt x="1747" y="42"/>
                  </a:lnTo>
                  <a:lnTo>
                    <a:pt x="1747" y="0"/>
                  </a:lnTo>
                  <a:lnTo>
                    <a:pt x="85" y="277"/>
                  </a:lnTo>
                  <a:lnTo>
                    <a:pt x="107" y="319"/>
                  </a:lnTo>
                  <a:lnTo>
                    <a:pt x="64" y="277"/>
                  </a:lnTo>
                  <a:lnTo>
                    <a:pt x="0" y="341"/>
                  </a:lnTo>
                  <a:lnTo>
                    <a:pt x="85" y="319"/>
                  </a:lnTo>
                  <a:lnTo>
                    <a:pt x="64" y="27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492360" y="1887480"/>
              <a:ext cx="432000" cy="344520"/>
            </a:xfrm>
            <a:custGeom>
              <a:avLst/>
              <a:gdLst/>
              <a:ahLst/>
              <a:rect l="l" t="t" r="r" b="b"/>
              <a:pathLst>
                <a:path w="1363" h="1086">
                  <a:moveTo>
                    <a:pt x="1278" y="64"/>
                  </a:moveTo>
                  <a:lnTo>
                    <a:pt x="1278" y="20"/>
                  </a:lnTo>
                  <a:lnTo>
                    <a:pt x="0" y="1044"/>
                  </a:lnTo>
                  <a:lnTo>
                    <a:pt x="43" y="1086"/>
                  </a:lnTo>
                  <a:lnTo>
                    <a:pt x="1299" y="42"/>
                  </a:lnTo>
                  <a:lnTo>
                    <a:pt x="1299" y="0"/>
                  </a:lnTo>
                  <a:lnTo>
                    <a:pt x="1299" y="42"/>
                  </a:lnTo>
                  <a:lnTo>
                    <a:pt x="1363" y="20"/>
                  </a:lnTo>
                  <a:lnTo>
                    <a:pt x="1299" y="0"/>
                  </a:lnTo>
                  <a:lnTo>
                    <a:pt x="1278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363840" y="1765440"/>
              <a:ext cx="541440" cy="142560"/>
            </a:xfrm>
            <a:custGeom>
              <a:avLst/>
              <a:gdLst/>
              <a:ahLst/>
              <a:rect l="l" t="t" r="r" b="b"/>
              <a:pathLst>
                <a:path w="1704" h="448">
                  <a:moveTo>
                    <a:pt x="107" y="0"/>
                  </a:moveTo>
                  <a:lnTo>
                    <a:pt x="107" y="64"/>
                  </a:lnTo>
                  <a:lnTo>
                    <a:pt x="1683" y="448"/>
                  </a:lnTo>
                  <a:lnTo>
                    <a:pt x="1704" y="384"/>
                  </a:lnTo>
                  <a:lnTo>
                    <a:pt x="107" y="0"/>
                  </a:lnTo>
                  <a:lnTo>
                    <a:pt x="107" y="64"/>
                  </a:lnTo>
                  <a:lnTo>
                    <a:pt x="107" y="0"/>
                  </a:lnTo>
                  <a:lnTo>
                    <a:pt x="0" y="43"/>
                  </a:lnTo>
                  <a:lnTo>
                    <a:pt x="107" y="64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397320" y="1616040"/>
              <a:ext cx="534960" cy="169920"/>
            </a:xfrm>
            <a:custGeom>
              <a:avLst/>
              <a:gdLst/>
              <a:ahLst/>
              <a:rect l="l" t="t" r="r" b="b"/>
              <a:pathLst>
                <a:path w="1683" h="533">
                  <a:moveTo>
                    <a:pt x="1597" y="65"/>
                  </a:moveTo>
                  <a:lnTo>
                    <a:pt x="1619" y="0"/>
                  </a:lnTo>
                  <a:lnTo>
                    <a:pt x="0" y="469"/>
                  </a:lnTo>
                  <a:lnTo>
                    <a:pt x="0" y="533"/>
                  </a:lnTo>
                  <a:lnTo>
                    <a:pt x="1619" y="65"/>
                  </a:lnTo>
                  <a:lnTo>
                    <a:pt x="1639" y="21"/>
                  </a:lnTo>
                  <a:lnTo>
                    <a:pt x="1619" y="65"/>
                  </a:lnTo>
                  <a:lnTo>
                    <a:pt x="1683" y="43"/>
                  </a:lnTo>
                  <a:lnTo>
                    <a:pt x="1639" y="21"/>
                  </a:lnTo>
                  <a:lnTo>
                    <a:pt x="1597" y="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498840" y="1306440"/>
              <a:ext cx="419040" cy="330120"/>
            </a:xfrm>
            <a:custGeom>
              <a:avLst/>
              <a:gdLst/>
              <a:ahLst/>
              <a:rect l="l" t="t" r="r" b="b"/>
              <a:pathLst>
                <a:path w="1320" h="1044">
                  <a:moveTo>
                    <a:pt x="85" y="21"/>
                  </a:moveTo>
                  <a:lnTo>
                    <a:pt x="64" y="63"/>
                  </a:lnTo>
                  <a:lnTo>
                    <a:pt x="1278" y="1044"/>
                  </a:lnTo>
                  <a:lnTo>
                    <a:pt x="1320" y="1000"/>
                  </a:lnTo>
                  <a:lnTo>
                    <a:pt x="107" y="21"/>
                  </a:lnTo>
                  <a:lnTo>
                    <a:pt x="85" y="63"/>
                  </a:lnTo>
                  <a:lnTo>
                    <a:pt x="85" y="21"/>
                  </a:lnTo>
                  <a:lnTo>
                    <a:pt x="0" y="0"/>
                  </a:lnTo>
                  <a:lnTo>
                    <a:pt x="64" y="63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525840" y="1312920"/>
              <a:ext cx="541440" cy="81000"/>
            </a:xfrm>
            <a:custGeom>
              <a:avLst/>
              <a:gdLst/>
              <a:ahLst/>
              <a:rect l="l" t="t" r="r" b="b"/>
              <a:pathLst>
                <a:path w="1705" h="256">
                  <a:moveTo>
                    <a:pt x="1619" y="234"/>
                  </a:moveTo>
                  <a:lnTo>
                    <a:pt x="1663" y="19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641" y="256"/>
                  </a:lnTo>
                  <a:lnTo>
                    <a:pt x="1683" y="213"/>
                  </a:lnTo>
                  <a:lnTo>
                    <a:pt x="1641" y="256"/>
                  </a:lnTo>
                  <a:lnTo>
                    <a:pt x="1705" y="256"/>
                  </a:lnTo>
                  <a:lnTo>
                    <a:pt x="1683" y="213"/>
                  </a:lnTo>
                  <a:lnTo>
                    <a:pt x="1619" y="2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843360" y="933480"/>
              <a:ext cx="217440" cy="453960"/>
            </a:xfrm>
            <a:custGeom>
              <a:avLst/>
              <a:gdLst/>
              <a:ahLst/>
              <a:rect l="l" t="t" r="r" b="b"/>
              <a:pathLst>
                <a:path w="682" h="1428">
                  <a:moveTo>
                    <a:pt x="86" y="43"/>
                  </a:moveTo>
                  <a:lnTo>
                    <a:pt x="44" y="65"/>
                  </a:lnTo>
                  <a:lnTo>
                    <a:pt x="618" y="1428"/>
                  </a:lnTo>
                  <a:lnTo>
                    <a:pt x="682" y="1407"/>
                  </a:lnTo>
                  <a:lnTo>
                    <a:pt x="86" y="43"/>
                  </a:lnTo>
                  <a:lnTo>
                    <a:pt x="64" y="85"/>
                  </a:lnTo>
                  <a:lnTo>
                    <a:pt x="86" y="43"/>
                  </a:lnTo>
                  <a:lnTo>
                    <a:pt x="0" y="0"/>
                  </a:lnTo>
                  <a:lnTo>
                    <a:pt x="44" y="65"/>
                  </a:lnTo>
                  <a:lnTo>
                    <a:pt x="86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863880" y="947880"/>
              <a:ext cx="433440" cy="276120"/>
            </a:xfrm>
            <a:custGeom>
              <a:avLst/>
              <a:gdLst/>
              <a:ahLst/>
              <a:rect l="l" t="t" r="r" b="b"/>
              <a:pathLst>
                <a:path w="1365" h="874">
                  <a:moveTo>
                    <a:pt x="1321" y="831"/>
                  </a:moveTo>
                  <a:lnTo>
                    <a:pt x="1365" y="810"/>
                  </a:lnTo>
                  <a:lnTo>
                    <a:pt x="22" y="0"/>
                  </a:lnTo>
                  <a:lnTo>
                    <a:pt x="0" y="42"/>
                  </a:lnTo>
                  <a:lnTo>
                    <a:pt x="1343" y="852"/>
                  </a:lnTo>
                  <a:lnTo>
                    <a:pt x="1365" y="831"/>
                  </a:lnTo>
                  <a:lnTo>
                    <a:pt x="1343" y="852"/>
                  </a:lnTo>
                  <a:lnTo>
                    <a:pt x="1365" y="874"/>
                  </a:lnTo>
                  <a:lnTo>
                    <a:pt x="1365" y="831"/>
                  </a:lnTo>
                  <a:lnTo>
                    <a:pt x="1321" y="8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282920" y="738360"/>
              <a:ext cx="68400" cy="473040"/>
            </a:xfrm>
            <a:custGeom>
              <a:avLst/>
              <a:gdLst/>
              <a:ahLst/>
              <a:rect l="l" t="t" r="r" b="b"/>
              <a:pathLst>
                <a:path w="214" h="1491">
                  <a:moveTo>
                    <a:pt x="192" y="0"/>
                  </a:moveTo>
                  <a:lnTo>
                    <a:pt x="171" y="0"/>
                  </a:lnTo>
                  <a:lnTo>
                    <a:pt x="0" y="1491"/>
                  </a:lnTo>
                  <a:lnTo>
                    <a:pt x="44" y="1491"/>
                  </a:lnTo>
                  <a:lnTo>
                    <a:pt x="214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992400" y="1217520"/>
              <a:ext cx="1136880" cy="1184400"/>
            </a:xfrm>
            <a:custGeom>
              <a:avLst/>
              <a:gdLst/>
              <a:ahLst/>
              <a:rect l="l" t="t" r="r" b="b"/>
              <a:pathLst>
                <a:path w="3578" h="3729">
                  <a:moveTo>
                    <a:pt x="1256" y="3281"/>
                  </a:moveTo>
                  <a:lnTo>
                    <a:pt x="1320" y="3281"/>
                  </a:lnTo>
                  <a:lnTo>
                    <a:pt x="1385" y="3260"/>
                  </a:lnTo>
                  <a:lnTo>
                    <a:pt x="1448" y="3239"/>
                  </a:lnTo>
                  <a:lnTo>
                    <a:pt x="1512" y="3239"/>
                  </a:lnTo>
                  <a:lnTo>
                    <a:pt x="1575" y="3218"/>
                  </a:lnTo>
                  <a:lnTo>
                    <a:pt x="1640" y="3218"/>
                  </a:lnTo>
                  <a:lnTo>
                    <a:pt x="1704" y="3196"/>
                  </a:lnTo>
                  <a:lnTo>
                    <a:pt x="1767" y="3174"/>
                  </a:lnTo>
                  <a:lnTo>
                    <a:pt x="1832" y="3174"/>
                  </a:lnTo>
                  <a:lnTo>
                    <a:pt x="1896" y="3154"/>
                  </a:lnTo>
                  <a:lnTo>
                    <a:pt x="1959" y="3154"/>
                  </a:lnTo>
                  <a:lnTo>
                    <a:pt x="2023" y="3154"/>
                  </a:lnTo>
                  <a:lnTo>
                    <a:pt x="2088" y="3132"/>
                  </a:lnTo>
                  <a:lnTo>
                    <a:pt x="2151" y="3132"/>
                  </a:lnTo>
                  <a:lnTo>
                    <a:pt x="2215" y="3111"/>
                  </a:lnTo>
                  <a:lnTo>
                    <a:pt x="2279" y="3111"/>
                  </a:lnTo>
                  <a:lnTo>
                    <a:pt x="2343" y="3089"/>
                  </a:lnTo>
                  <a:lnTo>
                    <a:pt x="2407" y="3089"/>
                  </a:lnTo>
                  <a:lnTo>
                    <a:pt x="2471" y="3089"/>
                  </a:lnTo>
                  <a:lnTo>
                    <a:pt x="2556" y="3069"/>
                  </a:lnTo>
                  <a:lnTo>
                    <a:pt x="2619" y="3069"/>
                  </a:lnTo>
                  <a:lnTo>
                    <a:pt x="2684" y="3047"/>
                  </a:lnTo>
                  <a:lnTo>
                    <a:pt x="2748" y="3047"/>
                  </a:lnTo>
                  <a:lnTo>
                    <a:pt x="2811" y="3047"/>
                  </a:lnTo>
                  <a:lnTo>
                    <a:pt x="2875" y="3026"/>
                  </a:lnTo>
                  <a:lnTo>
                    <a:pt x="2940" y="3026"/>
                  </a:lnTo>
                  <a:lnTo>
                    <a:pt x="3004" y="3026"/>
                  </a:lnTo>
                  <a:lnTo>
                    <a:pt x="3067" y="3026"/>
                  </a:lnTo>
                  <a:lnTo>
                    <a:pt x="3152" y="3004"/>
                  </a:lnTo>
                  <a:lnTo>
                    <a:pt x="3216" y="3004"/>
                  </a:lnTo>
                  <a:lnTo>
                    <a:pt x="3281" y="3004"/>
                  </a:lnTo>
                  <a:lnTo>
                    <a:pt x="3344" y="2984"/>
                  </a:lnTo>
                  <a:lnTo>
                    <a:pt x="3451" y="2984"/>
                  </a:lnTo>
                  <a:lnTo>
                    <a:pt x="3536" y="2940"/>
                  </a:lnTo>
                  <a:lnTo>
                    <a:pt x="3558" y="2898"/>
                  </a:lnTo>
                  <a:lnTo>
                    <a:pt x="3578" y="2834"/>
                  </a:lnTo>
                  <a:lnTo>
                    <a:pt x="3578" y="2770"/>
                  </a:lnTo>
                  <a:lnTo>
                    <a:pt x="3578" y="2706"/>
                  </a:lnTo>
                  <a:lnTo>
                    <a:pt x="3558" y="2663"/>
                  </a:lnTo>
                  <a:lnTo>
                    <a:pt x="3558" y="2621"/>
                  </a:lnTo>
                  <a:lnTo>
                    <a:pt x="3473" y="2259"/>
                  </a:lnTo>
                  <a:lnTo>
                    <a:pt x="3408" y="1960"/>
                  </a:lnTo>
                  <a:lnTo>
                    <a:pt x="3366" y="1704"/>
                  </a:lnTo>
                  <a:lnTo>
                    <a:pt x="3366" y="1449"/>
                  </a:lnTo>
                  <a:lnTo>
                    <a:pt x="3366" y="1193"/>
                  </a:lnTo>
                  <a:lnTo>
                    <a:pt x="3408" y="916"/>
                  </a:lnTo>
                  <a:lnTo>
                    <a:pt x="3430" y="618"/>
                  </a:lnTo>
                  <a:lnTo>
                    <a:pt x="3473" y="256"/>
                  </a:lnTo>
                  <a:lnTo>
                    <a:pt x="3473" y="171"/>
                  </a:lnTo>
                  <a:lnTo>
                    <a:pt x="3451" y="107"/>
                  </a:lnTo>
                  <a:lnTo>
                    <a:pt x="3408" y="64"/>
                  </a:lnTo>
                  <a:lnTo>
                    <a:pt x="3366" y="22"/>
                  </a:lnTo>
                  <a:lnTo>
                    <a:pt x="3323" y="22"/>
                  </a:lnTo>
                  <a:lnTo>
                    <a:pt x="3301" y="0"/>
                  </a:lnTo>
                  <a:lnTo>
                    <a:pt x="3259" y="0"/>
                  </a:lnTo>
                  <a:lnTo>
                    <a:pt x="3174" y="0"/>
                  </a:lnTo>
                  <a:lnTo>
                    <a:pt x="3110" y="0"/>
                  </a:lnTo>
                  <a:lnTo>
                    <a:pt x="3025" y="22"/>
                  </a:lnTo>
                  <a:lnTo>
                    <a:pt x="2960" y="22"/>
                  </a:lnTo>
                  <a:lnTo>
                    <a:pt x="2875" y="22"/>
                  </a:lnTo>
                  <a:lnTo>
                    <a:pt x="2811" y="22"/>
                  </a:lnTo>
                  <a:lnTo>
                    <a:pt x="2726" y="22"/>
                  </a:lnTo>
                  <a:lnTo>
                    <a:pt x="2663" y="44"/>
                  </a:lnTo>
                  <a:lnTo>
                    <a:pt x="2577" y="44"/>
                  </a:lnTo>
                  <a:lnTo>
                    <a:pt x="2514" y="44"/>
                  </a:lnTo>
                  <a:lnTo>
                    <a:pt x="2449" y="44"/>
                  </a:lnTo>
                  <a:lnTo>
                    <a:pt x="2364" y="44"/>
                  </a:lnTo>
                  <a:lnTo>
                    <a:pt x="2300" y="64"/>
                  </a:lnTo>
                  <a:lnTo>
                    <a:pt x="2215" y="64"/>
                  </a:lnTo>
                  <a:lnTo>
                    <a:pt x="2151" y="64"/>
                  </a:lnTo>
                  <a:lnTo>
                    <a:pt x="2066" y="86"/>
                  </a:lnTo>
                  <a:lnTo>
                    <a:pt x="2003" y="86"/>
                  </a:lnTo>
                  <a:lnTo>
                    <a:pt x="1917" y="86"/>
                  </a:lnTo>
                  <a:lnTo>
                    <a:pt x="1853" y="107"/>
                  </a:lnTo>
                  <a:lnTo>
                    <a:pt x="1767" y="107"/>
                  </a:lnTo>
                  <a:lnTo>
                    <a:pt x="1704" y="107"/>
                  </a:lnTo>
                  <a:lnTo>
                    <a:pt x="1619" y="129"/>
                  </a:lnTo>
                  <a:lnTo>
                    <a:pt x="1555" y="129"/>
                  </a:lnTo>
                  <a:lnTo>
                    <a:pt x="1470" y="129"/>
                  </a:lnTo>
                  <a:lnTo>
                    <a:pt x="1405" y="149"/>
                  </a:lnTo>
                  <a:lnTo>
                    <a:pt x="1320" y="149"/>
                  </a:lnTo>
                  <a:lnTo>
                    <a:pt x="1256" y="149"/>
                  </a:lnTo>
                  <a:lnTo>
                    <a:pt x="1171" y="171"/>
                  </a:lnTo>
                  <a:lnTo>
                    <a:pt x="1107" y="171"/>
                  </a:lnTo>
                  <a:lnTo>
                    <a:pt x="1022" y="192"/>
                  </a:lnTo>
                  <a:lnTo>
                    <a:pt x="959" y="192"/>
                  </a:lnTo>
                  <a:lnTo>
                    <a:pt x="873" y="192"/>
                  </a:lnTo>
                  <a:lnTo>
                    <a:pt x="703" y="234"/>
                  </a:lnTo>
                  <a:lnTo>
                    <a:pt x="532" y="278"/>
                  </a:lnTo>
                  <a:lnTo>
                    <a:pt x="404" y="320"/>
                  </a:lnTo>
                  <a:lnTo>
                    <a:pt x="297" y="363"/>
                  </a:lnTo>
                  <a:lnTo>
                    <a:pt x="212" y="405"/>
                  </a:lnTo>
                  <a:lnTo>
                    <a:pt x="148" y="448"/>
                  </a:lnTo>
                  <a:lnTo>
                    <a:pt x="85" y="490"/>
                  </a:lnTo>
                  <a:lnTo>
                    <a:pt x="63" y="533"/>
                  </a:lnTo>
                  <a:lnTo>
                    <a:pt x="42" y="575"/>
                  </a:lnTo>
                  <a:lnTo>
                    <a:pt x="21" y="618"/>
                  </a:lnTo>
                  <a:lnTo>
                    <a:pt x="21" y="640"/>
                  </a:lnTo>
                  <a:lnTo>
                    <a:pt x="42" y="682"/>
                  </a:lnTo>
                  <a:lnTo>
                    <a:pt x="42" y="704"/>
                  </a:lnTo>
                  <a:lnTo>
                    <a:pt x="42" y="725"/>
                  </a:lnTo>
                  <a:lnTo>
                    <a:pt x="63" y="725"/>
                  </a:lnTo>
                  <a:lnTo>
                    <a:pt x="42" y="959"/>
                  </a:lnTo>
                  <a:lnTo>
                    <a:pt x="21" y="1172"/>
                  </a:lnTo>
                  <a:lnTo>
                    <a:pt x="21" y="1364"/>
                  </a:lnTo>
                  <a:lnTo>
                    <a:pt x="0" y="1556"/>
                  </a:lnTo>
                  <a:lnTo>
                    <a:pt x="0" y="1726"/>
                  </a:lnTo>
                  <a:lnTo>
                    <a:pt x="0" y="1896"/>
                  </a:lnTo>
                  <a:lnTo>
                    <a:pt x="0" y="2067"/>
                  </a:lnTo>
                  <a:lnTo>
                    <a:pt x="0" y="2237"/>
                  </a:lnTo>
                  <a:lnTo>
                    <a:pt x="21" y="2386"/>
                  </a:lnTo>
                  <a:lnTo>
                    <a:pt x="21" y="2556"/>
                  </a:lnTo>
                  <a:lnTo>
                    <a:pt x="63" y="2728"/>
                  </a:lnTo>
                  <a:lnTo>
                    <a:pt x="85" y="2898"/>
                  </a:lnTo>
                  <a:lnTo>
                    <a:pt x="127" y="3089"/>
                  </a:lnTo>
                  <a:lnTo>
                    <a:pt x="192" y="3281"/>
                  </a:lnTo>
                  <a:lnTo>
                    <a:pt x="255" y="3495"/>
                  </a:lnTo>
                  <a:lnTo>
                    <a:pt x="319" y="3707"/>
                  </a:lnTo>
                  <a:lnTo>
                    <a:pt x="340" y="3707"/>
                  </a:lnTo>
                  <a:lnTo>
                    <a:pt x="340" y="3729"/>
                  </a:lnTo>
                  <a:lnTo>
                    <a:pt x="382" y="3729"/>
                  </a:lnTo>
                  <a:lnTo>
                    <a:pt x="404" y="3729"/>
                  </a:lnTo>
                  <a:lnTo>
                    <a:pt x="468" y="3729"/>
                  </a:lnTo>
                  <a:lnTo>
                    <a:pt x="532" y="3707"/>
                  </a:lnTo>
                  <a:lnTo>
                    <a:pt x="596" y="3644"/>
                  </a:lnTo>
                  <a:lnTo>
                    <a:pt x="681" y="3580"/>
                  </a:lnTo>
                  <a:lnTo>
                    <a:pt x="723" y="3537"/>
                  </a:lnTo>
                  <a:lnTo>
                    <a:pt x="766" y="3495"/>
                  </a:lnTo>
                  <a:lnTo>
                    <a:pt x="808" y="3452"/>
                  </a:lnTo>
                  <a:lnTo>
                    <a:pt x="873" y="3430"/>
                  </a:lnTo>
                  <a:lnTo>
                    <a:pt x="915" y="3388"/>
                  </a:lnTo>
                  <a:lnTo>
                    <a:pt x="959" y="3366"/>
                  </a:lnTo>
                  <a:lnTo>
                    <a:pt x="1001" y="3345"/>
                  </a:lnTo>
                  <a:lnTo>
                    <a:pt x="1044" y="3345"/>
                  </a:lnTo>
                  <a:lnTo>
                    <a:pt x="1086" y="3324"/>
                  </a:lnTo>
                  <a:lnTo>
                    <a:pt x="1129" y="3303"/>
                  </a:lnTo>
                  <a:lnTo>
                    <a:pt x="1171" y="3303"/>
                  </a:lnTo>
                  <a:lnTo>
                    <a:pt x="1193" y="3303"/>
                  </a:lnTo>
                  <a:lnTo>
                    <a:pt x="1214" y="3281"/>
                  </a:lnTo>
                  <a:lnTo>
                    <a:pt x="1235" y="3281"/>
                  </a:lnTo>
                  <a:lnTo>
                    <a:pt x="1256" y="328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4390920" y="2157480"/>
              <a:ext cx="663840" cy="109440"/>
            </a:xfrm>
            <a:custGeom>
              <a:avLst/>
              <a:gdLst/>
              <a:ahLst/>
              <a:rect l="l" t="t" r="r" b="b"/>
              <a:pathLst>
                <a:path w="2088" h="341">
                  <a:moveTo>
                    <a:pt x="2088" y="0"/>
                  </a:moveTo>
                  <a:lnTo>
                    <a:pt x="2025" y="0"/>
                  </a:lnTo>
                  <a:lnTo>
                    <a:pt x="1960" y="22"/>
                  </a:lnTo>
                  <a:lnTo>
                    <a:pt x="1875" y="22"/>
                  </a:lnTo>
                  <a:lnTo>
                    <a:pt x="1811" y="22"/>
                  </a:lnTo>
                  <a:lnTo>
                    <a:pt x="1748" y="42"/>
                  </a:lnTo>
                  <a:lnTo>
                    <a:pt x="1684" y="42"/>
                  </a:lnTo>
                  <a:lnTo>
                    <a:pt x="1619" y="42"/>
                  </a:lnTo>
                  <a:lnTo>
                    <a:pt x="1555" y="64"/>
                  </a:lnTo>
                  <a:lnTo>
                    <a:pt x="1492" y="64"/>
                  </a:lnTo>
                  <a:lnTo>
                    <a:pt x="1428" y="64"/>
                  </a:lnTo>
                  <a:lnTo>
                    <a:pt x="1343" y="85"/>
                  </a:lnTo>
                  <a:lnTo>
                    <a:pt x="1278" y="85"/>
                  </a:lnTo>
                  <a:lnTo>
                    <a:pt x="1215" y="85"/>
                  </a:lnTo>
                  <a:lnTo>
                    <a:pt x="1151" y="107"/>
                  </a:lnTo>
                  <a:lnTo>
                    <a:pt x="1087" y="107"/>
                  </a:lnTo>
                  <a:lnTo>
                    <a:pt x="1023" y="127"/>
                  </a:lnTo>
                  <a:lnTo>
                    <a:pt x="959" y="127"/>
                  </a:lnTo>
                  <a:lnTo>
                    <a:pt x="895" y="127"/>
                  </a:lnTo>
                  <a:lnTo>
                    <a:pt x="832" y="149"/>
                  </a:lnTo>
                  <a:lnTo>
                    <a:pt x="767" y="149"/>
                  </a:lnTo>
                  <a:lnTo>
                    <a:pt x="703" y="170"/>
                  </a:lnTo>
                  <a:lnTo>
                    <a:pt x="640" y="170"/>
                  </a:lnTo>
                  <a:lnTo>
                    <a:pt x="576" y="192"/>
                  </a:lnTo>
                  <a:lnTo>
                    <a:pt x="511" y="192"/>
                  </a:lnTo>
                  <a:lnTo>
                    <a:pt x="448" y="212"/>
                  </a:lnTo>
                  <a:lnTo>
                    <a:pt x="384" y="212"/>
                  </a:lnTo>
                  <a:lnTo>
                    <a:pt x="319" y="234"/>
                  </a:lnTo>
                  <a:lnTo>
                    <a:pt x="256" y="256"/>
                  </a:lnTo>
                  <a:lnTo>
                    <a:pt x="192" y="256"/>
                  </a:lnTo>
                  <a:lnTo>
                    <a:pt x="129" y="277"/>
                  </a:lnTo>
                  <a:lnTo>
                    <a:pt x="64" y="277"/>
                  </a:lnTo>
                  <a:lnTo>
                    <a:pt x="0" y="298"/>
                  </a:lnTo>
                  <a:lnTo>
                    <a:pt x="0" y="341"/>
                  </a:lnTo>
                  <a:lnTo>
                    <a:pt x="64" y="341"/>
                  </a:lnTo>
                  <a:lnTo>
                    <a:pt x="129" y="319"/>
                  </a:lnTo>
                  <a:lnTo>
                    <a:pt x="192" y="319"/>
                  </a:lnTo>
                  <a:lnTo>
                    <a:pt x="256" y="298"/>
                  </a:lnTo>
                  <a:lnTo>
                    <a:pt x="319" y="277"/>
                  </a:lnTo>
                  <a:lnTo>
                    <a:pt x="384" y="277"/>
                  </a:lnTo>
                  <a:lnTo>
                    <a:pt x="448" y="256"/>
                  </a:lnTo>
                  <a:lnTo>
                    <a:pt x="511" y="256"/>
                  </a:lnTo>
                  <a:lnTo>
                    <a:pt x="576" y="234"/>
                  </a:lnTo>
                  <a:lnTo>
                    <a:pt x="640" y="234"/>
                  </a:lnTo>
                  <a:lnTo>
                    <a:pt x="703" y="212"/>
                  </a:lnTo>
                  <a:lnTo>
                    <a:pt x="767" y="212"/>
                  </a:lnTo>
                  <a:lnTo>
                    <a:pt x="832" y="192"/>
                  </a:lnTo>
                  <a:lnTo>
                    <a:pt x="895" y="192"/>
                  </a:lnTo>
                  <a:lnTo>
                    <a:pt x="959" y="170"/>
                  </a:lnTo>
                  <a:lnTo>
                    <a:pt x="1023" y="170"/>
                  </a:lnTo>
                  <a:lnTo>
                    <a:pt x="1087" y="149"/>
                  </a:lnTo>
                  <a:lnTo>
                    <a:pt x="1151" y="149"/>
                  </a:lnTo>
                  <a:lnTo>
                    <a:pt x="1236" y="149"/>
                  </a:lnTo>
                  <a:lnTo>
                    <a:pt x="1300" y="127"/>
                  </a:lnTo>
                  <a:lnTo>
                    <a:pt x="1363" y="127"/>
                  </a:lnTo>
                  <a:lnTo>
                    <a:pt x="1428" y="127"/>
                  </a:lnTo>
                  <a:lnTo>
                    <a:pt x="1492" y="107"/>
                  </a:lnTo>
                  <a:lnTo>
                    <a:pt x="1555" y="107"/>
                  </a:lnTo>
                  <a:lnTo>
                    <a:pt x="1619" y="107"/>
                  </a:lnTo>
                  <a:lnTo>
                    <a:pt x="1684" y="85"/>
                  </a:lnTo>
                  <a:lnTo>
                    <a:pt x="1748" y="85"/>
                  </a:lnTo>
                  <a:lnTo>
                    <a:pt x="1811" y="85"/>
                  </a:lnTo>
                  <a:lnTo>
                    <a:pt x="1896" y="64"/>
                  </a:lnTo>
                  <a:lnTo>
                    <a:pt x="1960" y="64"/>
                  </a:lnTo>
                  <a:lnTo>
                    <a:pt x="2025" y="64"/>
                  </a:lnTo>
                  <a:lnTo>
                    <a:pt x="2088" y="6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054760" y="2049480"/>
              <a:ext cx="88920" cy="128520"/>
            </a:xfrm>
            <a:custGeom>
              <a:avLst/>
              <a:gdLst/>
              <a:ahLst/>
              <a:rect l="l" t="t" r="r" b="b"/>
              <a:pathLst>
                <a:path w="278" h="405">
                  <a:moveTo>
                    <a:pt x="192" y="21"/>
                  </a:moveTo>
                  <a:lnTo>
                    <a:pt x="192" y="0"/>
                  </a:lnTo>
                  <a:lnTo>
                    <a:pt x="192" y="42"/>
                  </a:lnTo>
                  <a:lnTo>
                    <a:pt x="214" y="85"/>
                  </a:lnTo>
                  <a:lnTo>
                    <a:pt x="214" y="149"/>
                  </a:lnTo>
                  <a:lnTo>
                    <a:pt x="214" y="192"/>
                  </a:lnTo>
                  <a:lnTo>
                    <a:pt x="192" y="256"/>
                  </a:lnTo>
                  <a:lnTo>
                    <a:pt x="171" y="298"/>
                  </a:lnTo>
                  <a:lnTo>
                    <a:pt x="107" y="341"/>
                  </a:lnTo>
                  <a:lnTo>
                    <a:pt x="0" y="341"/>
                  </a:lnTo>
                  <a:lnTo>
                    <a:pt x="0" y="405"/>
                  </a:lnTo>
                  <a:lnTo>
                    <a:pt x="129" y="383"/>
                  </a:lnTo>
                  <a:lnTo>
                    <a:pt x="192" y="341"/>
                  </a:lnTo>
                  <a:lnTo>
                    <a:pt x="256" y="277"/>
                  </a:lnTo>
                  <a:lnTo>
                    <a:pt x="278" y="213"/>
                  </a:lnTo>
                  <a:lnTo>
                    <a:pt x="278" y="149"/>
                  </a:lnTo>
                  <a:lnTo>
                    <a:pt x="256" y="85"/>
                  </a:lnTo>
                  <a:lnTo>
                    <a:pt x="234" y="21"/>
                  </a:lnTo>
                  <a:lnTo>
                    <a:pt x="234" y="0"/>
                  </a:lnTo>
                  <a:lnTo>
                    <a:pt x="19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5054760" y="1298520"/>
              <a:ext cx="74520" cy="757440"/>
            </a:xfrm>
            <a:custGeom>
              <a:avLst/>
              <a:gdLst/>
              <a:ahLst/>
              <a:rect l="l" t="t" r="r" b="b"/>
              <a:pathLst>
                <a:path w="234" h="2386">
                  <a:moveTo>
                    <a:pt x="107" y="0"/>
                  </a:moveTo>
                  <a:lnTo>
                    <a:pt x="64" y="362"/>
                  </a:lnTo>
                  <a:lnTo>
                    <a:pt x="22" y="660"/>
                  </a:lnTo>
                  <a:lnTo>
                    <a:pt x="0" y="937"/>
                  </a:lnTo>
                  <a:lnTo>
                    <a:pt x="0" y="1193"/>
                  </a:lnTo>
                  <a:lnTo>
                    <a:pt x="0" y="1448"/>
                  </a:lnTo>
                  <a:lnTo>
                    <a:pt x="42" y="1704"/>
                  </a:lnTo>
                  <a:lnTo>
                    <a:pt x="86" y="2024"/>
                  </a:lnTo>
                  <a:lnTo>
                    <a:pt x="192" y="2386"/>
                  </a:lnTo>
                  <a:lnTo>
                    <a:pt x="234" y="2365"/>
                  </a:lnTo>
                  <a:lnTo>
                    <a:pt x="149" y="2003"/>
                  </a:lnTo>
                  <a:lnTo>
                    <a:pt x="86" y="1704"/>
                  </a:lnTo>
                  <a:lnTo>
                    <a:pt x="64" y="1448"/>
                  </a:lnTo>
                  <a:lnTo>
                    <a:pt x="42" y="1193"/>
                  </a:lnTo>
                  <a:lnTo>
                    <a:pt x="64" y="937"/>
                  </a:lnTo>
                  <a:lnTo>
                    <a:pt x="86" y="660"/>
                  </a:lnTo>
                  <a:lnTo>
                    <a:pt x="107" y="362"/>
                  </a:lnTo>
                  <a:lnTo>
                    <a:pt x="149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027760" y="1211400"/>
              <a:ext cx="74520" cy="87120"/>
            </a:xfrm>
            <a:custGeom>
              <a:avLst/>
              <a:gdLst/>
              <a:ahLst/>
              <a:rect l="l" t="t" r="r" b="b"/>
              <a:pathLst>
                <a:path w="234" h="277">
                  <a:moveTo>
                    <a:pt x="0" y="43"/>
                  </a:moveTo>
                  <a:lnTo>
                    <a:pt x="0" y="65"/>
                  </a:lnTo>
                  <a:lnTo>
                    <a:pt x="42" y="43"/>
                  </a:lnTo>
                  <a:lnTo>
                    <a:pt x="64" y="65"/>
                  </a:lnTo>
                  <a:lnTo>
                    <a:pt x="107" y="65"/>
                  </a:lnTo>
                  <a:lnTo>
                    <a:pt x="127" y="85"/>
                  </a:lnTo>
                  <a:lnTo>
                    <a:pt x="171" y="128"/>
                  </a:lnTo>
                  <a:lnTo>
                    <a:pt x="192" y="192"/>
                  </a:lnTo>
                  <a:lnTo>
                    <a:pt x="192" y="277"/>
                  </a:lnTo>
                  <a:lnTo>
                    <a:pt x="234" y="277"/>
                  </a:lnTo>
                  <a:lnTo>
                    <a:pt x="234" y="192"/>
                  </a:lnTo>
                  <a:lnTo>
                    <a:pt x="214" y="107"/>
                  </a:lnTo>
                  <a:lnTo>
                    <a:pt x="171" y="65"/>
                  </a:lnTo>
                  <a:lnTo>
                    <a:pt x="127" y="21"/>
                  </a:lnTo>
                  <a:lnTo>
                    <a:pt x="85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4270320" y="1211400"/>
              <a:ext cx="757440" cy="81000"/>
            </a:xfrm>
            <a:custGeom>
              <a:avLst/>
              <a:gdLst/>
              <a:ahLst/>
              <a:rect l="l" t="t" r="r" b="b"/>
              <a:pathLst>
                <a:path w="2386" h="255">
                  <a:moveTo>
                    <a:pt x="0" y="255"/>
                  </a:moveTo>
                  <a:lnTo>
                    <a:pt x="86" y="235"/>
                  </a:lnTo>
                  <a:lnTo>
                    <a:pt x="149" y="235"/>
                  </a:lnTo>
                  <a:lnTo>
                    <a:pt x="234" y="213"/>
                  </a:lnTo>
                  <a:lnTo>
                    <a:pt x="298" y="213"/>
                  </a:lnTo>
                  <a:lnTo>
                    <a:pt x="383" y="213"/>
                  </a:lnTo>
                  <a:lnTo>
                    <a:pt x="447" y="192"/>
                  </a:lnTo>
                  <a:lnTo>
                    <a:pt x="532" y="192"/>
                  </a:lnTo>
                  <a:lnTo>
                    <a:pt x="597" y="170"/>
                  </a:lnTo>
                  <a:lnTo>
                    <a:pt x="682" y="170"/>
                  </a:lnTo>
                  <a:lnTo>
                    <a:pt x="746" y="170"/>
                  </a:lnTo>
                  <a:lnTo>
                    <a:pt x="831" y="150"/>
                  </a:lnTo>
                  <a:lnTo>
                    <a:pt x="894" y="150"/>
                  </a:lnTo>
                  <a:lnTo>
                    <a:pt x="980" y="150"/>
                  </a:lnTo>
                  <a:lnTo>
                    <a:pt x="1044" y="128"/>
                  </a:lnTo>
                  <a:lnTo>
                    <a:pt x="1130" y="128"/>
                  </a:lnTo>
                  <a:lnTo>
                    <a:pt x="1193" y="128"/>
                  </a:lnTo>
                  <a:lnTo>
                    <a:pt x="1278" y="128"/>
                  </a:lnTo>
                  <a:lnTo>
                    <a:pt x="1342" y="107"/>
                  </a:lnTo>
                  <a:lnTo>
                    <a:pt x="1427" y="107"/>
                  </a:lnTo>
                  <a:lnTo>
                    <a:pt x="1491" y="107"/>
                  </a:lnTo>
                  <a:lnTo>
                    <a:pt x="1576" y="85"/>
                  </a:lnTo>
                  <a:lnTo>
                    <a:pt x="1641" y="85"/>
                  </a:lnTo>
                  <a:lnTo>
                    <a:pt x="1704" y="85"/>
                  </a:lnTo>
                  <a:lnTo>
                    <a:pt x="1790" y="85"/>
                  </a:lnTo>
                  <a:lnTo>
                    <a:pt x="1853" y="85"/>
                  </a:lnTo>
                  <a:lnTo>
                    <a:pt x="1938" y="65"/>
                  </a:lnTo>
                  <a:lnTo>
                    <a:pt x="2002" y="65"/>
                  </a:lnTo>
                  <a:lnTo>
                    <a:pt x="2087" y="65"/>
                  </a:lnTo>
                  <a:lnTo>
                    <a:pt x="2152" y="65"/>
                  </a:lnTo>
                  <a:lnTo>
                    <a:pt x="2237" y="65"/>
                  </a:lnTo>
                  <a:lnTo>
                    <a:pt x="2301" y="65"/>
                  </a:lnTo>
                  <a:lnTo>
                    <a:pt x="2386" y="43"/>
                  </a:lnTo>
                  <a:lnTo>
                    <a:pt x="2386" y="0"/>
                  </a:lnTo>
                  <a:lnTo>
                    <a:pt x="2301" y="0"/>
                  </a:lnTo>
                  <a:lnTo>
                    <a:pt x="2237" y="0"/>
                  </a:lnTo>
                  <a:lnTo>
                    <a:pt x="2152" y="0"/>
                  </a:lnTo>
                  <a:lnTo>
                    <a:pt x="2087" y="21"/>
                  </a:lnTo>
                  <a:lnTo>
                    <a:pt x="2002" y="21"/>
                  </a:lnTo>
                  <a:lnTo>
                    <a:pt x="1938" y="21"/>
                  </a:lnTo>
                  <a:lnTo>
                    <a:pt x="1853" y="21"/>
                  </a:lnTo>
                  <a:lnTo>
                    <a:pt x="1790" y="21"/>
                  </a:lnTo>
                  <a:lnTo>
                    <a:pt x="1704" y="43"/>
                  </a:lnTo>
                  <a:lnTo>
                    <a:pt x="1641" y="43"/>
                  </a:lnTo>
                  <a:lnTo>
                    <a:pt x="1576" y="43"/>
                  </a:lnTo>
                  <a:lnTo>
                    <a:pt x="1491" y="43"/>
                  </a:lnTo>
                  <a:lnTo>
                    <a:pt x="1427" y="65"/>
                  </a:lnTo>
                  <a:lnTo>
                    <a:pt x="1342" y="65"/>
                  </a:lnTo>
                  <a:lnTo>
                    <a:pt x="1278" y="65"/>
                  </a:lnTo>
                  <a:lnTo>
                    <a:pt x="1193" y="65"/>
                  </a:lnTo>
                  <a:lnTo>
                    <a:pt x="1130" y="85"/>
                  </a:lnTo>
                  <a:lnTo>
                    <a:pt x="1044" y="85"/>
                  </a:lnTo>
                  <a:lnTo>
                    <a:pt x="980" y="85"/>
                  </a:lnTo>
                  <a:lnTo>
                    <a:pt x="894" y="107"/>
                  </a:lnTo>
                  <a:lnTo>
                    <a:pt x="831" y="107"/>
                  </a:lnTo>
                  <a:lnTo>
                    <a:pt x="746" y="107"/>
                  </a:lnTo>
                  <a:lnTo>
                    <a:pt x="682" y="128"/>
                  </a:lnTo>
                  <a:lnTo>
                    <a:pt x="597" y="128"/>
                  </a:lnTo>
                  <a:lnTo>
                    <a:pt x="532" y="128"/>
                  </a:lnTo>
                  <a:lnTo>
                    <a:pt x="447" y="150"/>
                  </a:lnTo>
                  <a:lnTo>
                    <a:pt x="383" y="150"/>
                  </a:lnTo>
                  <a:lnTo>
                    <a:pt x="298" y="170"/>
                  </a:lnTo>
                  <a:lnTo>
                    <a:pt x="234" y="170"/>
                  </a:lnTo>
                  <a:lnTo>
                    <a:pt x="149" y="170"/>
                  </a:lnTo>
                  <a:lnTo>
                    <a:pt x="86" y="192"/>
                  </a:lnTo>
                  <a:lnTo>
                    <a:pt x="0" y="192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992400" y="1271520"/>
              <a:ext cx="277920" cy="182520"/>
            </a:xfrm>
            <a:custGeom>
              <a:avLst/>
              <a:gdLst/>
              <a:ahLst/>
              <a:rect l="l" t="t" r="r" b="b"/>
              <a:pathLst>
                <a:path w="873" h="575">
                  <a:moveTo>
                    <a:pt x="85" y="554"/>
                  </a:moveTo>
                  <a:lnTo>
                    <a:pt x="85" y="533"/>
                  </a:lnTo>
                  <a:lnTo>
                    <a:pt x="63" y="533"/>
                  </a:lnTo>
                  <a:lnTo>
                    <a:pt x="63" y="511"/>
                  </a:lnTo>
                  <a:lnTo>
                    <a:pt x="63" y="469"/>
                  </a:lnTo>
                  <a:lnTo>
                    <a:pt x="63" y="447"/>
                  </a:lnTo>
                  <a:lnTo>
                    <a:pt x="63" y="404"/>
                  </a:lnTo>
                  <a:lnTo>
                    <a:pt x="85" y="384"/>
                  </a:lnTo>
                  <a:lnTo>
                    <a:pt x="106" y="341"/>
                  </a:lnTo>
                  <a:lnTo>
                    <a:pt x="148" y="299"/>
                  </a:lnTo>
                  <a:lnTo>
                    <a:pt x="212" y="255"/>
                  </a:lnTo>
                  <a:lnTo>
                    <a:pt x="297" y="213"/>
                  </a:lnTo>
                  <a:lnTo>
                    <a:pt x="404" y="170"/>
                  </a:lnTo>
                  <a:lnTo>
                    <a:pt x="532" y="128"/>
                  </a:lnTo>
                  <a:lnTo>
                    <a:pt x="703" y="85"/>
                  </a:lnTo>
                  <a:lnTo>
                    <a:pt x="873" y="63"/>
                  </a:lnTo>
                  <a:lnTo>
                    <a:pt x="873" y="0"/>
                  </a:lnTo>
                  <a:lnTo>
                    <a:pt x="681" y="43"/>
                  </a:lnTo>
                  <a:lnTo>
                    <a:pt x="532" y="85"/>
                  </a:lnTo>
                  <a:lnTo>
                    <a:pt x="404" y="128"/>
                  </a:lnTo>
                  <a:lnTo>
                    <a:pt x="277" y="170"/>
                  </a:lnTo>
                  <a:lnTo>
                    <a:pt x="192" y="213"/>
                  </a:lnTo>
                  <a:lnTo>
                    <a:pt x="127" y="255"/>
                  </a:lnTo>
                  <a:lnTo>
                    <a:pt x="85" y="299"/>
                  </a:lnTo>
                  <a:lnTo>
                    <a:pt x="42" y="341"/>
                  </a:lnTo>
                  <a:lnTo>
                    <a:pt x="21" y="404"/>
                  </a:lnTo>
                  <a:lnTo>
                    <a:pt x="0" y="447"/>
                  </a:lnTo>
                  <a:lnTo>
                    <a:pt x="0" y="469"/>
                  </a:lnTo>
                  <a:lnTo>
                    <a:pt x="0" y="511"/>
                  </a:lnTo>
                  <a:lnTo>
                    <a:pt x="21" y="533"/>
                  </a:lnTo>
                  <a:lnTo>
                    <a:pt x="21" y="554"/>
                  </a:lnTo>
                  <a:lnTo>
                    <a:pt x="21" y="575"/>
                  </a:lnTo>
                  <a:lnTo>
                    <a:pt x="42" y="575"/>
                  </a:lnTo>
                  <a:lnTo>
                    <a:pt x="21" y="554"/>
                  </a:lnTo>
                  <a:lnTo>
                    <a:pt x="85" y="5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978360" y="1447920"/>
              <a:ext cx="122040" cy="954000"/>
            </a:xfrm>
            <a:custGeom>
              <a:avLst/>
              <a:gdLst/>
              <a:ahLst/>
              <a:rect l="l" t="t" r="r" b="b"/>
              <a:pathLst>
                <a:path w="384" h="3004">
                  <a:moveTo>
                    <a:pt x="384" y="2961"/>
                  </a:moveTo>
                  <a:lnTo>
                    <a:pt x="384" y="2982"/>
                  </a:lnTo>
                  <a:lnTo>
                    <a:pt x="321" y="2748"/>
                  </a:lnTo>
                  <a:lnTo>
                    <a:pt x="256" y="2556"/>
                  </a:lnTo>
                  <a:lnTo>
                    <a:pt x="192" y="2364"/>
                  </a:lnTo>
                  <a:lnTo>
                    <a:pt x="150" y="2173"/>
                  </a:lnTo>
                  <a:lnTo>
                    <a:pt x="129" y="2003"/>
                  </a:lnTo>
                  <a:lnTo>
                    <a:pt x="107" y="1831"/>
                  </a:lnTo>
                  <a:lnTo>
                    <a:pt x="86" y="1661"/>
                  </a:lnTo>
                  <a:lnTo>
                    <a:pt x="65" y="1512"/>
                  </a:lnTo>
                  <a:lnTo>
                    <a:pt x="65" y="1342"/>
                  </a:lnTo>
                  <a:lnTo>
                    <a:pt x="65" y="1171"/>
                  </a:lnTo>
                  <a:lnTo>
                    <a:pt x="65" y="1001"/>
                  </a:lnTo>
                  <a:lnTo>
                    <a:pt x="65" y="831"/>
                  </a:lnTo>
                  <a:lnTo>
                    <a:pt x="86" y="639"/>
                  </a:lnTo>
                  <a:lnTo>
                    <a:pt x="107" y="447"/>
                  </a:lnTo>
                  <a:lnTo>
                    <a:pt x="107" y="234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65" y="234"/>
                  </a:lnTo>
                  <a:lnTo>
                    <a:pt x="44" y="447"/>
                  </a:lnTo>
                  <a:lnTo>
                    <a:pt x="44" y="639"/>
                  </a:lnTo>
                  <a:lnTo>
                    <a:pt x="22" y="831"/>
                  </a:lnTo>
                  <a:lnTo>
                    <a:pt x="22" y="1001"/>
                  </a:lnTo>
                  <a:lnTo>
                    <a:pt x="0" y="1171"/>
                  </a:lnTo>
                  <a:lnTo>
                    <a:pt x="22" y="1342"/>
                  </a:lnTo>
                  <a:lnTo>
                    <a:pt x="22" y="1512"/>
                  </a:lnTo>
                  <a:lnTo>
                    <a:pt x="22" y="1661"/>
                  </a:lnTo>
                  <a:lnTo>
                    <a:pt x="44" y="1831"/>
                  </a:lnTo>
                  <a:lnTo>
                    <a:pt x="65" y="2003"/>
                  </a:lnTo>
                  <a:lnTo>
                    <a:pt x="107" y="2173"/>
                  </a:lnTo>
                  <a:lnTo>
                    <a:pt x="150" y="2364"/>
                  </a:lnTo>
                  <a:lnTo>
                    <a:pt x="214" y="2556"/>
                  </a:lnTo>
                  <a:lnTo>
                    <a:pt x="278" y="2770"/>
                  </a:lnTo>
                  <a:lnTo>
                    <a:pt x="341" y="2982"/>
                  </a:lnTo>
                  <a:lnTo>
                    <a:pt x="341" y="3004"/>
                  </a:lnTo>
                  <a:lnTo>
                    <a:pt x="341" y="2982"/>
                  </a:lnTo>
                  <a:lnTo>
                    <a:pt x="341" y="3004"/>
                  </a:lnTo>
                  <a:lnTo>
                    <a:pt x="384" y="2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4087800" y="2347920"/>
              <a:ext cx="128520" cy="60480"/>
            </a:xfrm>
            <a:custGeom>
              <a:avLst/>
              <a:gdLst/>
              <a:ahLst/>
              <a:rect l="l" t="t" r="r" b="b"/>
              <a:pathLst>
                <a:path w="406" h="192">
                  <a:moveTo>
                    <a:pt x="363" y="0"/>
                  </a:moveTo>
                  <a:lnTo>
                    <a:pt x="277" y="64"/>
                  </a:lnTo>
                  <a:lnTo>
                    <a:pt x="214" y="128"/>
                  </a:lnTo>
                  <a:lnTo>
                    <a:pt x="150" y="149"/>
                  </a:lnTo>
                  <a:lnTo>
                    <a:pt x="107" y="149"/>
                  </a:lnTo>
                  <a:lnTo>
                    <a:pt x="85" y="149"/>
                  </a:lnTo>
                  <a:lnTo>
                    <a:pt x="65" y="128"/>
                  </a:lnTo>
                  <a:lnTo>
                    <a:pt x="43" y="128"/>
                  </a:lnTo>
                  <a:lnTo>
                    <a:pt x="0" y="171"/>
                  </a:lnTo>
                  <a:lnTo>
                    <a:pt x="22" y="171"/>
                  </a:lnTo>
                  <a:lnTo>
                    <a:pt x="43" y="192"/>
                  </a:lnTo>
                  <a:lnTo>
                    <a:pt x="65" y="192"/>
                  </a:lnTo>
                  <a:lnTo>
                    <a:pt x="107" y="192"/>
                  </a:lnTo>
                  <a:lnTo>
                    <a:pt x="171" y="192"/>
                  </a:lnTo>
                  <a:lnTo>
                    <a:pt x="235" y="171"/>
                  </a:lnTo>
                  <a:lnTo>
                    <a:pt x="321" y="107"/>
                  </a:lnTo>
                  <a:lnTo>
                    <a:pt x="406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202280" y="2252520"/>
              <a:ext cx="188640" cy="108000"/>
            </a:xfrm>
            <a:custGeom>
              <a:avLst/>
              <a:gdLst/>
              <a:ahLst/>
              <a:rect l="l" t="t" r="r" b="b"/>
              <a:pathLst>
                <a:path w="596" h="340">
                  <a:moveTo>
                    <a:pt x="596" y="0"/>
                  </a:moveTo>
                  <a:lnTo>
                    <a:pt x="575" y="0"/>
                  </a:lnTo>
                  <a:lnTo>
                    <a:pt x="554" y="0"/>
                  </a:lnTo>
                  <a:lnTo>
                    <a:pt x="533" y="0"/>
                  </a:lnTo>
                  <a:lnTo>
                    <a:pt x="511" y="21"/>
                  </a:lnTo>
                  <a:lnTo>
                    <a:pt x="469" y="21"/>
                  </a:lnTo>
                  <a:lnTo>
                    <a:pt x="426" y="43"/>
                  </a:lnTo>
                  <a:lnTo>
                    <a:pt x="384" y="43"/>
                  </a:lnTo>
                  <a:lnTo>
                    <a:pt x="341" y="64"/>
                  </a:lnTo>
                  <a:lnTo>
                    <a:pt x="299" y="85"/>
                  </a:lnTo>
                  <a:lnTo>
                    <a:pt x="234" y="106"/>
                  </a:lnTo>
                  <a:lnTo>
                    <a:pt x="192" y="150"/>
                  </a:lnTo>
                  <a:lnTo>
                    <a:pt x="148" y="170"/>
                  </a:lnTo>
                  <a:lnTo>
                    <a:pt x="85" y="213"/>
                  </a:lnTo>
                  <a:lnTo>
                    <a:pt x="43" y="255"/>
                  </a:lnTo>
                  <a:lnTo>
                    <a:pt x="0" y="298"/>
                  </a:lnTo>
                  <a:lnTo>
                    <a:pt x="43" y="340"/>
                  </a:lnTo>
                  <a:lnTo>
                    <a:pt x="85" y="298"/>
                  </a:lnTo>
                  <a:lnTo>
                    <a:pt x="128" y="255"/>
                  </a:lnTo>
                  <a:lnTo>
                    <a:pt x="170" y="213"/>
                  </a:lnTo>
                  <a:lnTo>
                    <a:pt x="213" y="192"/>
                  </a:lnTo>
                  <a:lnTo>
                    <a:pt x="277" y="170"/>
                  </a:lnTo>
                  <a:lnTo>
                    <a:pt x="319" y="128"/>
                  </a:lnTo>
                  <a:lnTo>
                    <a:pt x="362" y="128"/>
                  </a:lnTo>
                  <a:lnTo>
                    <a:pt x="404" y="106"/>
                  </a:lnTo>
                  <a:lnTo>
                    <a:pt x="447" y="85"/>
                  </a:lnTo>
                  <a:lnTo>
                    <a:pt x="469" y="85"/>
                  </a:lnTo>
                  <a:lnTo>
                    <a:pt x="511" y="64"/>
                  </a:lnTo>
                  <a:lnTo>
                    <a:pt x="533" y="64"/>
                  </a:lnTo>
                  <a:lnTo>
                    <a:pt x="554" y="64"/>
                  </a:lnTo>
                  <a:lnTo>
                    <a:pt x="575" y="43"/>
                  </a:lnTo>
                  <a:lnTo>
                    <a:pt x="596" y="43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4100400" y="1258920"/>
              <a:ext cx="947880" cy="946080"/>
            </a:xfrm>
            <a:custGeom>
              <a:avLst/>
              <a:gdLst/>
              <a:ahLst/>
              <a:rect l="l" t="t" r="r" b="b"/>
              <a:pathLst>
                <a:path w="2983" h="2982">
                  <a:moveTo>
                    <a:pt x="2983" y="2748"/>
                  </a:moveTo>
                  <a:lnTo>
                    <a:pt x="2898" y="2619"/>
                  </a:lnTo>
                  <a:lnTo>
                    <a:pt x="2856" y="2471"/>
                  </a:lnTo>
                  <a:lnTo>
                    <a:pt x="2812" y="2300"/>
                  </a:lnTo>
                  <a:lnTo>
                    <a:pt x="2770" y="2087"/>
                  </a:lnTo>
                  <a:lnTo>
                    <a:pt x="2749" y="1874"/>
                  </a:lnTo>
                  <a:lnTo>
                    <a:pt x="2727" y="1640"/>
                  </a:lnTo>
                  <a:lnTo>
                    <a:pt x="2727" y="1405"/>
                  </a:lnTo>
                  <a:lnTo>
                    <a:pt x="2727" y="1171"/>
                  </a:lnTo>
                  <a:lnTo>
                    <a:pt x="2727" y="937"/>
                  </a:lnTo>
                  <a:lnTo>
                    <a:pt x="2727" y="723"/>
                  </a:lnTo>
                  <a:lnTo>
                    <a:pt x="2749" y="531"/>
                  </a:lnTo>
                  <a:lnTo>
                    <a:pt x="2749" y="361"/>
                  </a:lnTo>
                  <a:lnTo>
                    <a:pt x="2770" y="212"/>
                  </a:lnTo>
                  <a:lnTo>
                    <a:pt x="2770" y="105"/>
                  </a:lnTo>
                  <a:lnTo>
                    <a:pt x="2791" y="42"/>
                  </a:lnTo>
                  <a:lnTo>
                    <a:pt x="2791" y="20"/>
                  </a:lnTo>
                  <a:lnTo>
                    <a:pt x="2770" y="20"/>
                  </a:lnTo>
                  <a:lnTo>
                    <a:pt x="2749" y="0"/>
                  </a:lnTo>
                  <a:lnTo>
                    <a:pt x="2706" y="0"/>
                  </a:lnTo>
                  <a:lnTo>
                    <a:pt x="2664" y="0"/>
                  </a:lnTo>
                  <a:lnTo>
                    <a:pt x="2620" y="0"/>
                  </a:lnTo>
                  <a:lnTo>
                    <a:pt x="2557" y="20"/>
                  </a:lnTo>
                  <a:lnTo>
                    <a:pt x="2493" y="20"/>
                  </a:lnTo>
                  <a:lnTo>
                    <a:pt x="2408" y="20"/>
                  </a:lnTo>
                  <a:lnTo>
                    <a:pt x="2344" y="20"/>
                  </a:lnTo>
                  <a:lnTo>
                    <a:pt x="2259" y="20"/>
                  </a:lnTo>
                  <a:lnTo>
                    <a:pt x="2174" y="20"/>
                  </a:lnTo>
                  <a:lnTo>
                    <a:pt x="2089" y="42"/>
                  </a:lnTo>
                  <a:lnTo>
                    <a:pt x="1982" y="42"/>
                  </a:lnTo>
                  <a:lnTo>
                    <a:pt x="1897" y="42"/>
                  </a:lnTo>
                  <a:lnTo>
                    <a:pt x="1811" y="42"/>
                  </a:lnTo>
                  <a:lnTo>
                    <a:pt x="1705" y="42"/>
                  </a:lnTo>
                  <a:lnTo>
                    <a:pt x="1619" y="63"/>
                  </a:lnTo>
                  <a:lnTo>
                    <a:pt x="1534" y="63"/>
                  </a:lnTo>
                  <a:lnTo>
                    <a:pt x="1427" y="63"/>
                  </a:lnTo>
                  <a:lnTo>
                    <a:pt x="1342" y="85"/>
                  </a:lnTo>
                  <a:lnTo>
                    <a:pt x="1257" y="85"/>
                  </a:lnTo>
                  <a:lnTo>
                    <a:pt x="1193" y="85"/>
                  </a:lnTo>
                  <a:lnTo>
                    <a:pt x="1108" y="85"/>
                  </a:lnTo>
                  <a:lnTo>
                    <a:pt x="1045" y="105"/>
                  </a:lnTo>
                  <a:lnTo>
                    <a:pt x="980" y="105"/>
                  </a:lnTo>
                  <a:lnTo>
                    <a:pt x="916" y="105"/>
                  </a:lnTo>
                  <a:lnTo>
                    <a:pt x="853" y="105"/>
                  </a:lnTo>
                  <a:lnTo>
                    <a:pt x="809" y="105"/>
                  </a:lnTo>
                  <a:lnTo>
                    <a:pt x="789" y="105"/>
                  </a:lnTo>
                  <a:lnTo>
                    <a:pt x="746" y="105"/>
                  </a:lnTo>
                  <a:lnTo>
                    <a:pt x="724" y="105"/>
                  </a:lnTo>
                  <a:lnTo>
                    <a:pt x="661" y="127"/>
                  </a:lnTo>
                  <a:lnTo>
                    <a:pt x="575" y="149"/>
                  </a:lnTo>
                  <a:lnTo>
                    <a:pt x="512" y="170"/>
                  </a:lnTo>
                  <a:lnTo>
                    <a:pt x="426" y="191"/>
                  </a:lnTo>
                  <a:lnTo>
                    <a:pt x="363" y="234"/>
                  </a:lnTo>
                  <a:lnTo>
                    <a:pt x="320" y="255"/>
                  </a:lnTo>
                  <a:lnTo>
                    <a:pt x="256" y="276"/>
                  </a:lnTo>
                  <a:lnTo>
                    <a:pt x="213" y="297"/>
                  </a:lnTo>
                  <a:lnTo>
                    <a:pt x="149" y="319"/>
                  </a:lnTo>
                  <a:lnTo>
                    <a:pt x="128" y="341"/>
                  </a:lnTo>
                  <a:lnTo>
                    <a:pt x="86" y="361"/>
                  </a:lnTo>
                  <a:lnTo>
                    <a:pt x="64" y="383"/>
                  </a:lnTo>
                  <a:lnTo>
                    <a:pt x="42" y="404"/>
                  </a:lnTo>
                  <a:lnTo>
                    <a:pt x="22" y="404"/>
                  </a:lnTo>
                  <a:lnTo>
                    <a:pt x="0" y="426"/>
                  </a:lnTo>
                  <a:lnTo>
                    <a:pt x="2237" y="361"/>
                  </a:lnTo>
                  <a:lnTo>
                    <a:pt x="2259" y="2663"/>
                  </a:lnTo>
                  <a:lnTo>
                    <a:pt x="2515" y="2982"/>
                  </a:lnTo>
                  <a:lnTo>
                    <a:pt x="2557" y="2940"/>
                  </a:lnTo>
                  <a:lnTo>
                    <a:pt x="2600" y="2897"/>
                  </a:lnTo>
                  <a:lnTo>
                    <a:pt x="2620" y="2855"/>
                  </a:lnTo>
                  <a:lnTo>
                    <a:pt x="2664" y="2833"/>
                  </a:lnTo>
                  <a:lnTo>
                    <a:pt x="2706" y="2811"/>
                  </a:lnTo>
                  <a:lnTo>
                    <a:pt x="2749" y="2790"/>
                  </a:lnTo>
                  <a:lnTo>
                    <a:pt x="2791" y="2790"/>
                  </a:lnTo>
                  <a:lnTo>
                    <a:pt x="2812" y="2769"/>
                  </a:lnTo>
                  <a:lnTo>
                    <a:pt x="2856" y="2769"/>
                  </a:lnTo>
                  <a:lnTo>
                    <a:pt x="2876" y="2769"/>
                  </a:lnTo>
                  <a:lnTo>
                    <a:pt x="2919" y="2748"/>
                  </a:lnTo>
                  <a:lnTo>
                    <a:pt x="2941" y="2748"/>
                  </a:lnTo>
                  <a:lnTo>
                    <a:pt x="2961" y="2748"/>
                  </a:lnTo>
                  <a:lnTo>
                    <a:pt x="2983" y="2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4952880" y="1251000"/>
              <a:ext cx="101880" cy="887400"/>
            </a:xfrm>
            <a:custGeom>
              <a:avLst/>
              <a:gdLst/>
              <a:ahLst/>
              <a:rect l="l" t="t" r="r" b="b"/>
              <a:pathLst>
                <a:path w="319" h="2791">
                  <a:moveTo>
                    <a:pt x="106" y="64"/>
                  </a:moveTo>
                  <a:lnTo>
                    <a:pt x="85" y="42"/>
                  </a:lnTo>
                  <a:lnTo>
                    <a:pt x="85" y="64"/>
                  </a:lnTo>
                  <a:lnTo>
                    <a:pt x="64" y="127"/>
                  </a:lnTo>
                  <a:lnTo>
                    <a:pt x="64" y="234"/>
                  </a:lnTo>
                  <a:lnTo>
                    <a:pt x="42" y="383"/>
                  </a:lnTo>
                  <a:lnTo>
                    <a:pt x="42" y="553"/>
                  </a:lnTo>
                  <a:lnTo>
                    <a:pt x="21" y="745"/>
                  </a:lnTo>
                  <a:lnTo>
                    <a:pt x="21" y="959"/>
                  </a:lnTo>
                  <a:lnTo>
                    <a:pt x="0" y="1193"/>
                  </a:lnTo>
                  <a:lnTo>
                    <a:pt x="0" y="1427"/>
                  </a:lnTo>
                  <a:lnTo>
                    <a:pt x="21" y="1662"/>
                  </a:lnTo>
                  <a:lnTo>
                    <a:pt x="42" y="1896"/>
                  </a:lnTo>
                  <a:lnTo>
                    <a:pt x="64" y="2109"/>
                  </a:lnTo>
                  <a:lnTo>
                    <a:pt x="85" y="2322"/>
                  </a:lnTo>
                  <a:lnTo>
                    <a:pt x="127" y="2514"/>
                  </a:lnTo>
                  <a:lnTo>
                    <a:pt x="191" y="2663"/>
                  </a:lnTo>
                  <a:lnTo>
                    <a:pt x="276" y="2791"/>
                  </a:lnTo>
                  <a:lnTo>
                    <a:pt x="319" y="2770"/>
                  </a:lnTo>
                  <a:lnTo>
                    <a:pt x="234" y="2641"/>
                  </a:lnTo>
                  <a:lnTo>
                    <a:pt x="191" y="2493"/>
                  </a:lnTo>
                  <a:lnTo>
                    <a:pt x="149" y="2301"/>
                  </a:lnTo>
                  <a:lnTo>
                    <a:pt x="106" y="2109"/>
                  </a:lnTo>
                  <a:lnTo>
                    <a:pt x="85" y="1896"/>
                  </a:lnTo>
                  <a:lnTo>
                    <a:pt x="64" y="1662"/>
                  </a:lnTo>
                  <a:lnTo>
                    <a:pt x="64" y="1427"/>
                  </a:lnTo>
                  <a:lnTo>
                    <a:pt x="64" y="1193"/>
                  </a:lnTo>
                  <a:lnTo>
                    <a:pt x="64" y="959"/>
                  </a:lnTo>
                  <a:lnTo>
                    <a:pt x="85" y="745"/>
                  </a:lnTo>
                  <a:lnTo>
                    <a:pt x="85" y="553"/>
                  </a:lnTo>
                  <a:lnTo>
                    <a:pt x="106" y="383"/>
                  </a:lnTo>
                  <a:lnTo>
                    <a:pt x="106" y="234"/>
                  </a:lnTo>
                  <a:lnTo>
                    <a:pt x="127" y="127"/>
                  </a:lnTo>
                  <a:lnTo>
                    <a:pt x="127" y="64"/>
                  </a:lnTo>
                  <a:lnTo>
                    <a:pt x="127" y="42"/>
                  </a:lnTo>
                  <a:lnTo>
                    <a:pt x="106" y="0"/>
                  </a:lnTo>
                  <a:lnTo>
                    <a:pt x="127" y="42"/>
                  </a:lnTo>
                  <a:lnTo>
                    <a:pt x="127" y="22"/>
                  </a:lnTo>
                  <a:lnTo>
                    <a:pt x="106" y="0"/>
                  </a:lnTo>
                  <a:lnTo>
                    <a:pt x="106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4330800" y="1251000"/>
              <a:ext cx="655560" cy="55440"/>
            </a:xfrm>
            <a:custGeom>
              <a:avLst/>
              <a:gdLst/>
              <a:ahLst/>
              <a:rect l="l" t="t" r="r" b="b"/>
              <a:pathLst>
                <a:path w="2067" h="171">
                  <a:moveTo>
                    <a:pt x="22" y="171"/>
                  </a:moveTo>
                  <a:lnTo>
                    <a:pt x="0" y="171"/>
                  </a:lnTo>
                  <a:lnTo>
                    <a:pt x="22" y="171"/>
                  </a:lnTo>
                  <a:lnTo>
                    <a:pt x="65" y="171"/>
                  </a:lnTo>
                  <a:lnTo>
                    <a:pt x="85" y="149"/>
                  </a:lnTo>
                  <a:lnTo>
                    <a:pt x="129" y="149"/>
                  </a:lnTo>
                  <a:lnTo>
                    <a:pt x="192" y="149"/>
                  </a:lnTo>
                  <a:lnTo>
                    <a:pt x="256" y="149"/>
                  </a:lnTo>
                  <a:lnTo>
                    <a:pt x="321" y="149"/>
                  </a:lnTo>
                  <a:lnTo>
                    <a:pt x="384" y="127"/>
                  </a:lnTo>
                  <a:lnTo>
                    <a:pt x="469" y="127"/>
                  </a:lnTo>
                  <a:lnTo>
                    <a:pt x="533" y="127"/>
                  </a:lnTo>
                  <a:lnTo>
                    <a:pt x="618" y="127"/>
                  </a:lnTo>
                  <a:lnTo>
                    <a:pt x="703" y="127"/>
                  </a:lnTo>
                  <a:lnTo>
                    <a:pt x="810" y="107"/>
                  </a:lnTo>
                  <a:lnTo>
                    <a:pt x="895" y="107"/>
                  </a:lnTo>
                  <a:lnTo>
                    <a:pt x="981" y="107"/>
                  </a:lnTo>
                  <a:lnTo>
                    <a:pt x="1087" y="85"/>
                  </a:lnTo>
                  <a:lnTo>
                    <a:pt x="1173" y="85"/>
                  </a:lnTo>
                  <a:lnTo>
                    <a:pt x="1258" y="85"/>
                  </a:lnTo>
                  <a:lnTo>
                    <a:pt x="1365" y="85"/>
                  </a:lnTo>
                  <a:lnTo>
                    <a:pt x="1450" y="64"/>
                  </a:lnTo>
                  <a:lnTo>
                    <a:pt x="1535" y="64"/>
                  </a:lnTo>
                  <a:lnTo>
                    <a:pt x="1620" y="64"/>
                  </a:lnTo>
                  <a:lnTo>
                    <a:pt x="1684" y="64"/>
                  </a:lnTo>
                  <a:lnTo>
                    <a:pt x="1769" y="64"/>
                  </a:lnTo>
                  <a:lnTo>
                    <a:pt x="1833" y="64"/>
                  </a:lnTo>
                  <a:lnTo>
                    <a:pt x="1896" y="64"/>
                  </a:lnTo>
                  <a:lnTo>
                    <a:pt x="1940" y="64"/>
                  </a:lnTo>
                  <a:lnTo>
                    <a:pt x="1982" y="64"/>
                  </a:lnTo>
                  <a:lnTo>
                    <a:pt x="2025" y="64"/>
                  </a:lnTo>
                  <a:lnTo>
                    <a:pt x="2046" y="64"/>
                  </a:lnTo>
                  <a:lnTo>
                    <a:pt x="2067" y="64"/>
                  </a:lnTo>
                  <a:lnTo>
                    <a:pt x="2067" y="0"/>
                  </a:lnTo>
                  <a:lnTo>
                    <a:pt x="2046" y="0"/>
                  </a:lnTo>
                  <a:lnTo>
                    <a:pt x="2025" y="0"/>
                  </a:lnTo>
                  <a:lnTo>
                    <a:pt x="1982" y="0"/>
                  </a:lnTo>
                  <a:lnTo>
                    <a:pt x="1940" y="0"/>
                  </a:lnTo>
                  <a:lnTo>
                    <a:pt x="1896" y="0"/>
                  </a:lnTo>
                  <a:lnTo>
                    <a:pt x="1833" y="0"/>
                  </a:lnTo>
                  <a:lnTo>
                    <a:pt x="1769" y="0"/>
                  </a:lnTo>
                  <a:lnTo>
                    <a:pt x="1684" y="22"/>
                  </a:lnTo>
                  <a:lnTo>
                    <a:pt x="1620" y="22"/>
                  </a:lnTo>
                  <a:lnTo>
                    <a:pt x="1535" y="22"/>
                  </a:lnTo>
                  <a:lnTo>
                    <a:pt x="1450" y="22"/>
                  </a:lnTo>
                  <a:lnTo>
                    <a:pt x="1365" y="22"/>
                  </a:lnTo>
                  <a:lnTo>
                    <a:pt x="1258" y="42"/>
                  </a:lnTo>
                  <a:lnTo>
                    <a:pt x="1173" y="42"/>
                  </a:lnTo>
                  <a:lnTo>
                    <a:pt x="1087" y="42"/>
                  </a:lnTo>
                  <a:lnTo>
                    <a:pt x="981" y="42"/>
                  </a:lnTo>
                  <a:lnTo>
                    <a:pt x="895" y="64"/>
                  </a:lnTo>
                  <a:lnTo>
                    <a:pt x="810" y="64"/>
                  </a:lnTo>
                  <a:lnTo>
                    <a:pt x="703" y="64"/>
                  </a:lnTo>
                  <a:lnTo>
                    <a:pt x="618" y="64"/>
                  </a:lnTo>
                  <a:lnTo>
                    <a:pt x="533" y="85"/>
                  </a:lnTo>
                  <a:lnTo>
                    <a:pt x="469" y="85"/>
                  </a:lnTo>
                  <a:lnTo>
                    <a:pt x="384" y="85"/>
                  </a:lnTo>
                  <a:lnTo>
                    <a:pt x="321" y="85"/>
                  </a:lnTo>
                  <a:lnTo>
                    <a:pt x="256" y="107"/>
                  </a:lnTo>
                  <a:lnTo>
                    <a:pt x="192" y="107"/>
                  </a:lnTo>
                  <a:lnTo>
                    <a:pt x="129" y="107"/>
                  </a:lnTo>
                  <a:lnTo>
                    <a:pt x="85" y="107"/>
                  </a:lnTo>
                  <a:lnTo>
                    <a:pt x="65" y="107"/>
                  </a:lnTo>
                  <a:lnTo>
                    <a:pt x="22" y="107"/>
                  </a:lnTo>
                  <a:lnTo>
                    <a:pt x="0" y="107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4073400" y="1285920"/>
              <a:ext cx="263520" cy="114120"/>
            </a:xfrm>
            <a:custGeom>
              <a:avLst/>
              <a:gdLst/>
              <a:ahLst/>
              <a:rect l="l" t="t" r="r" b="b"/>
              <a:pathLst>
                <a:path w="831" h="361">
                  <a:moveTo>
                    <a:pt x="85" y="319"/>
                  </a:moveTo>
                  <a:lnTo>
                    <a:pt x="107" y="361"/>
                  </a:lnTo>
                  <a:lnTo>
                    <a:pt x="107" y="341"/>
                  </a:lnTo>
                  <a:lnTo>
                    <a:pt x="127" y="341"/>
                  </a:lnTo>
                  <a:lnTo>
                    <a:pt x="149" y="319"/>
                  </a:lnTo>
                  <a:lnTo>
                    <a:pt x="192" y="298"/>
                  </a:lnTo>
                  <a:lnTo>
                    <a:pt x="213" y="276"/>
                  </a:lnTo>
                  <a:lnTo>
                    <a:pt x="256" y="256"/>
                  </a:lnTo>
                  <a:lnTo>
                    <a:pt x="298" y="234"/>
                  </a:lnTo>
                  <a:lnTo>
                    <a:pt x="363" y="212"/>
                  </a:lnTo>
                  <a:lnTo>
                    <a:pt x="405" y="191"/>
                  </a:lnTo>
                  <a:lnTo>
                    <a:pt x="468" y="170"/>
                  </a:lnTo>
                  <a:lnTo>
                    <a:pt x="533" y="149"/>
                  </a:lnTo>
                  <a:lnTo>
                    <a:pt x="597" y="106"/>
                  </a:lnTo>
                  <a:lnTo>
                    <a:pt x="660" y="85"/>
                  </a:lnTo>
                  <a:lnTo>
                    <a:pt x="746" y="85"/>
                  </a:lnTo>
                  <a:lnTo>
                    <a:pt x="831" y="64"/>
                  </a:lnTo>
                  <a:lnTo>
                    <a:pt x="809" y="0"/>
                  </a:lnTo>
                  <a:lnTo>
                    <a:pt x="724" y="20"/>
                  </a:lnTo>
                  <a:lnTo>
                    <a:pt x="660" y="42"/>
                  </a:lnTo>
                  <a:lnTo>
                    <a:pt x="575" y="64"/>
                  </a:lnTo>
                  <a:lnTo>
                    <a:pt x="511" y="85"/>
                  </a:lnTo>
                  <a:lnTo>
                    <a:pt x="448" y="106"/>
                  </a:lnTo>
                  <a:lnTo>
                    <a:pt x="383" y="149"/>
                  </a:lnTo>
                  <a:lnTo>
                    <a:pt x="341" y="170"/>
                  </a:lnTo>
                  <a:lnTo>
                    <a:pt x="277" y="191"/>
                  </a:lnTo>
                  <a:lnTo>
                    <a:pt x="234" y="212"/>
                  </a:lnTo>
                  <a:lnTo>
                    <a:pt x="192" y="234"/>
                  </a:lnTo>
                  <a:lnTo>
                    <a:pt x="149" y="256"/>
                  </a:lnTo>
                  <a:lnTo>
                    <a:pt x="127" y="276"/>
                  </a:lnTo>
                  <a:lnTo>
                    <a:pt x="107" y="298"/>
                  </a:lnTo>
                  <a:lnTo>
                    <a:pt x="85" y="298"/>
                  </a:lnTo>
                  <a:lnTo>
                    <a:pt x="85" y="319"/>
                  </a:lnTo>
                  <a:lnTo>
                    <a:pt x="85" y="361"/>
                  </a:lnTo>
                  <a:lnTo>
                    <a:pt x="85" y="319"/>
                  </a:lnTo>
                  <a:lnTo>
                    <a:pt x="0" y="361"/>
                  </a:lnTo>
                  <a:lnTo>
                    <a:pt x="85" y="361"/>
                  </a:lnTo>
                  <a:lnTo>
                    <a:pt x="85" y="3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4100400" y="1360440"/>
              <a:ext cx="723960" cy="39600"/>
            </a:xfrm>
            <a:custGeom>
              <a:avLst/>
              <a:gdLst/>
              <a:ahLst/>
              <a:rect l="l" t="t" r="r" b="b"/>
              <a:pathLst>
                <a:path w="2279" h="127">
                  <a:moveTo>
                    <a:pt x="2279" y="42"/>
                  </a:moveTo>
                  <a:lnTo>
                    <a:pt x="2237" y="0"/>
                  </a:lnTo>
                  <a:lnTo>
                    <a:pt x="0" y="85"/>
                  </a:lnTo>
                  <a:lnTo>
                    <a:pt x="0" y="127"/>
                  </a:lnTo>
                  <a:lnTo>
                    <a:pt x="2237" y="64"/>
                  </a:lnTo>
                  <a:lnTo>
                    <a:pt x="2216" y="42"/>
                  </a:lnTo>
                  <a:lnTo>
                    <a:pt x="2259" y="42"/>
                  </a:lnTo>
                  <a:lnTo>
                    <a:pt x="2259" y="0"/>
                  </a:lnTo>
                  <a:lnTo>
                    <a:pt x="2237" y="0"/>
                  </a:lnTo>
                  <a:lnTo>
                    <a:pt x="2279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4803840" y="1373040"/>
              <a:ext cx="27000" cy="730440"/>
            </a:xfrm>
            <a:custGeom>
              <a:avLst/>
              <a:gdLst/>
              <a:ahLst/>
              <a:rect l="l" t="t" r="r" b="b"/>
              <a:pathLst>
                <a:path w="85" h="2302">
                  <a:moveTo>
                    <a:pt x="63" y="2280"/>
                  </a:moveTo>
                  <a:lnTo>
                    <a:pt x="85" y="230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21" y="2302"/>
                  </a:lnTo>
                  <a:lnTo>
                    <a:pt x="63" y="2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4811760" y="2097000"/>
              <a:ext cx="93600" cy="122400"/>
            </a:xfrm>
            <a:custGeom>
              <a:avLst/>
              <a:gdLst/>
              <a:ahLst/>
              <a:rect l="l" t="t" r="r" b="b"/>
              <a:pathLst>
                <a:path w="298" h="384">
                  <a:moveTo>
                    <a:pt x="256" y="319"/>
                  </a:moveTo>
                  <a:lnTo>
                    <a:pt x="298" y="319"/>
                  </a:lnTo>
                  <a:lnTo>
                    <a:pt x="42" y="0"/>
                  </a:lnTo>
                  <a:lnTo>
                    <a:pt x="0" y="22"/>
                  </a:lnTo>
                  <a:lnTo>
                    <a:pt x="256" y="362"/>
                  </a:lnTo>
                  <a:lnTo>
                    <a:pt x="298" y="362"/>
                  </a:lnTo>
                  <a:lnTo>
                    <a:pt x="256" y="362"/>
                  </a:lnTo>
                  <a:lnTo>
                    <a:pt x="278" y="384"/>
                  </a:lnTo>
                  <a:lnTo>
                    <a:pt x="298" y="362"/>
                  </a:lnTo>
                  <a:lnTo>
                    <a:pt x="256" y="3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4892760" y="2124000"/>
              <a:ext cx="168120" cy="87480"/>
            </a:xfrm>
            <a:custGeom>
              <a:avLst/>
              <a:gdLst/>
              <a:ahLst/>
              <a:rect l="l" t="t" r="r" b="b"/>
              <a:pathLst>
                <a:path w="533" h="277">
                  <a:moveTo>
                    <a:pt x="468" y="43"/>
                  </a:moveTo>
                  <a:lnTo>
                    <a:pt x="49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26" y="0"/>
                  </a:lnTo>
                  <a:lnTo>
                    <a:pt x="383" y="0"/>
                  </a:lnTo>
                  <a:lnTo>
                    <a:pt x="363" y="22"/>
                  </a:lnTo>
                  <a:lnTo>
                    <a:pt x="319" y="22"/>
                  </a:lnTo>
                  <a:lnTo>
                    <a:pt x="277" y="22"/>
                  </a:lnTo>
                  <a:lnTo>
                    <a:pt x="234" y="43"/>
                  </a:lnTo>
                  <a:lnTo>
                    <a:pt x="213" y="64"/>
                  </a:lnTo>
                  <a:lnTo>
                    <a:pt x="171" y="85"/>
                  </a:lnTo>
                  <a:lnTo>
                    <a:pt x="127" y="107"/>
                  </a:lnTo>
                  <a:lnTo>
                    <a:pt x="85" y="149"/>
                  </a:lnTo>
                  <a:lnTo>
                    <a:pt x="42" y="192"/>
                  </a:lnTo>
                  <a:lnTo>
                    <a:pt x="0" y="234"/>
                  </a:lnTo>
                  <a:lnTo>
                    <a:pt x="42" y="277"/>
                  </a:lnTo>
                  <a:lnTo>
                    <a:pt x="64" y="234"/>
                  </a:lnTo>
                  <a:lnTo>
                    <a:pt x="107" y="192"/>
                  </a:lnTo>
                  <a:lnTo>
                    <a:pt x="149" y="149"/>
                  </a:lnTo>
                  <a:lnTo>
                    <a:pt x="192" y="129"/>
                  </a:lnTo>
                  <a:lnTo>
                    <a:pt x="234" y="107"/>
                  </a:lnTo>
                  <a:lnTo>
                    <a:pt x="256" y="107"/>
                  </a:lnTo>
                  <a:lnTo>
                    <a:pt x="298" y="85"/>
                  </a:lnTo>
                  <a:lnTo>
                    <a:pt x="341" y="64"/>
                  </a:lnTo>
                  <a:lnTo>
                    <a:pt x="363" y="64"/>
                  </a:lnTo>
                  <a:lnTo>
                    <a:pt x="383" y="64"/>
                  </a:lnTo>
                  <a:lnTo>
                    <a:pt x="426" y="64"/>
                  </a:lnTo>
                  <a:lnTo>
                    <a:pt x="448" y="64"/>
                  </a:lnTo>
                  <a:lnTo>
                    <a:pt x="468" y="64"/>
                  </a:lnTo>
                  <a:lnTo>
                    <a:pt x="490" y="64"/>
                  </a:lnTo>
                  <a:lnTo>
                    <a:pt x="511" y="22"/>
                  </a:lnTo>
                  <a:lnTo>
                    <a:pt x="490" y="64"/>
                  </a:lnTo>
                  <a:lnTo>
                    <a:pt x="533" y="64"/>
                  </a:lnTo>
                  <a:lnTo>
                    <a:pt x="511" y="22"/>
                  </a:lnTo>
                  <a:lnTo>
                    <a:pt x="468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4264200" y="1271520"/>
              <a:ext cx="682560" cy="68400"/>
            </a:xfrm>
            <a:custGeom>
              <a:avLst/>
              <a:gdLst/>
              <a:ahLst/>
              <a:rect l="l" t="t" r="r" b="b"/>
              <a:pathLst>
                <a:path w="2152" h="213">
                  <a:moveTo>
                    <a:pt x="2152" y="43"/>
                  </a:moveTo>
                  <a:lnTo>
                    <a:pt x="2130" y="0"/>
                  </a:lnTo>
                  <a:lnTo>
                    <a:pt x="2108" y="0"/>
                  </a:lnTo>
                  <a:lnTo>
                    <a:pt x="2066" y="0"/>
                  </a:lnTo>
                  <a:lnTo>
                    <a:pt x="2023" y="0"/>
                  </a:lnTo>
                  <a:lnTo>
                    <a:pt x="1981" y="0"/>
                  </a:lnTo>
                  <a:lnTo>
                    <a:pt x="1938" y="0"/>
                  </a:lnTo>
                  <a:lnTo>
                    <a:pt x="1874" y="0"/>
                  </a:lnTo>
                  <a:lnTo>
                    <a:pt x="1811" y="21"/>
                  </a:lnTo>
                  <a:lnTo>
                    <a:pt x="1725" y="21"/>
                  </a:lnTo>
                  <a:lnTo>
                    <a:pt x="1662" y="21"/>
                  </a:lnTo>
                  <a:lnTo>
                    <a:pt x="1577" y="21"/>
                  </a:lnTo>
                  <a:lnTo>
                    <a:pt x="1491" y="43"/>
                  </a:lnTo>
                  <a:lnTo>
                    <a:pt x="1385" y="43"/>
                  </a:lnTo>
                  <a:lnTo>
                    <a:pt x="1299" y="43"/>
                  </a:lnTo>
                  <a:lnTo>
                    <a:pt x="1193" y="63"/>
                  </a:lnTo>
                  <a:lnTo>
                    <a:pt x="1107" y="63"/>
                  </a:lnTo>
                  <a:lnTo>
                    <a:pt x="1022" y="63"/>
                  </a:lnTo>
                  <a:lnTo>
                    <a:pt x="915" y="85"/>
                  </a:lnTo>
                  <a:lnTo>
                    <a:pt x="830" y="85"/>
                  </a:lnTo>
                  <a:lnTo>
                    <a:pt x="723" y="107"/>
                  </a:lnTo>
                  <a:lnTo>
                    <a:pt x="638" y="107"/>
                  </a:lnTo>
                  <a:lnTo>
                    <a:pt x="553" y="107"/>
                  </a:lnTo>
                  <a:lnTo>
                    <a:pt x="468" y="128"/>
                  </a:lnTo>
                  <a:lnTo>
                    <a:pt x="404" y="128"/>
                  </a:lnTo>
                  <a:lnTo>
                    <a:pt x="319" y="128"/>
                  </a:lnTo>
                  <a:lnTo>
                    <a:pt x="255" y="149"/>
                  </a:lnTo>
                  <a:lnTo>
                    <a:pt x="192" y="149"/>
                  </a:lnTo>
                  <a:lnTo>
                    <a:pt x="149" y="149"/>
                  </a:lnTo>
                  <a:lnTo>
                    <a:pt x="85" y="149"/>
                  </a:lnTo>
                  <a:lnTo>
                    <a:pt x="63" y="170"/>
                  </a:lnTo>
                  <a:lnTo>
                    <a:pt x="21" y="170"/>
                  </a:lnTo>
                  <a:lnTo>
                    <a:pt x="0" y="170"/>
                  </a:lnTo>
                  <a:lnTo>
                    <a:pt x="21" y="213"/>
                  </a:lnTo>
                  <a:lnTo>
                    <a:pt x="42" y="213"/>
                  </a:lnTo>
                  <a:lnTo>
                    <a:pt x="63" y="213"/>
                  </a:lnTo>
                  <a:lnTo>
                    <a:pt x="85" y="213"/>
                  </a:lnTo>
                  <a:lnTo>
                    <a:pt x="149" y="213"/>
                  </a:lnTo>
                  <a:lnTo>
                    <a:pt x="192" y="192"/>
                  </a:lnTo>
                  <a:lnTo>
                    <a:pt x="255" y="192"/>
                  </a:lnTo>
                  <a:lnTo>
                    <a:pt x="319" y="192"/>
                  </a:lnTo>
                  <a:lnTo>
                    <a:pt x="404" y="192"/>
                  </a:lnTo>
                  <a:lnTo>
                    <a:pt x="468" y="170"/>
                  </a:lnTo>
                  <a:lnTo>
                    <a:pt x="553" y="170"/>
                  </a:lnTo>
                  <a:lnTo>
                    <a:pt x="638" y="149"/>
                  </a:lnTo>
                  <a:lnTo>
                    <a:pt x="745" y="149"/>
                  </a:lnTo>
                  <a:lnTo>
                    <a:pt x="830" y="149"/>
                  </a:lnTo>
                  <a:lnTo>
                    <a:pt x="915" y="128"/>
                  </a:lnTo>
                  <a:lnTo>
                    <a:pt x="1022" y="128"/>
                  </a:lnTo>
                  <a:lnTo>
                    <a:pt x="1107" y="107"/>
                  </a:lnTo>
                  <a:lnTo>
                    <a:pt x="1193" y="107"/>
                  </a:lnTo>
                  <a:lnTo>
                    <a:pt x="1299" y="107"/>
                  </a:lnTo>
                  <a:lnTo>
                    <a:pt x="1385" y="85"/>
                  </a:lnTo>
                  <a:lnTo>
                    <a:pt x="1491" y="85"/>
                  </a:lnTo>
                  <a:lnTo>
                    <a:pt x="1577" y="85"/>
                  </a:lnTo>
                  <a:lnTo>
                    <a:pt x="1662" y="63"/>
                  </a:lnTo>
                  <a:lnTo>
                    <a:pt x="1725" y="63"/>
                  </a:lnTo>
                  <a:lnTo>
                    <a:pt x="1811" y="63"/>
                  </a:lnTo>
                  <a:lnTo>
                    <a:pt x="1874" y="63"/>
                  </a:lnTo>
                  <a:lnTo>
                    <a:pt x="1938" y="63"/>
                  </a:lnTo>
                  <a:lnTo>
                    <a:pt x="1981" y="63"/>
                  </a:lnTo>
                  <a:lnTo>
                    <a:pt x="2023" y="63"/>
                  </a:lnTo>
                  <a:lnTo>
                    <a:pt x="2066" y="63"/>
                  </a:lnTo>
                  <a:lnTo>
                    <a:pt x="2108" y="63"/>
                  </a:lnTo>
                  <a:lnTo>
                    <a:pt x="2088" y="21"/>
                  </a:lnTo>
                  <a:lnTo>
                    <a:pt x="2152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4905360" y="1278000"/>
              <a:ext cx="101520" cy="866880"/>
            </a:xfrm>
            <a:custGeom>
              <a:avLst/>
              <a:gdLst/>
              <a:ahLst/>
              <a:rect l="l" t="t" r="r" b="b"/>
              <a:pathLst>
                <a:path w="321" h="2727">
                  <a:moveTo>
                    <a:pt x="321" y="2685"/>
                  </a:moveTo>
                  <a:lnTo>
                    <a:pt x="256" y="2556"/>
                  </a:lnTo>
                  <a:lnTo>
                    <a:pt x="192" y="2408"/>
                  </a:lnTo>
                  <a:lnTo>
                    <a:pt x="150" y="2237"/>
                  </a:lnTo>
                  <a:lnTo>
                    <a:pt x="107" y="2045"/>
                  </a:lnTo>
                  <a:lnTo>
                    <a:pt x="85" y="1833"/>
                  </a:lnTo>
                  <a:lnTo>
                    <a:pt x="65" y="1598"/>
                  </a:lnTo>
                  <a:lnTo>
                    <a:pt x="65" y="1364"/>
                  </a:lnTo>
                  <a:lnTo>
                    <a:pt x="65" y="1151"/>
                  </a:lnTo>
                  <a:lnTo>
                    <a:pt x="65" y="916"/>
                  </a:lnTo>
                  <a:lnTo>
                    <a:pt x="65" y="704"/>
                  </a:lnTo>
                  <a:lnTo>
                    <a:pt x="85" y="512"/>
                  </a:lnTo>
                  <a:lnTo>
                    <a:pt x="85" y="341"/>
                  </a:lnTo>
                  <a:lnTo>
                    <a:pt x="107" y="213"/>
                  </a:lnTo>
                  <a:lnTo>
                    <a:pt x="107" y="107"/>
                  </a:lnTo>
                  <a:lnTo>
                    <a:pt x="107" y="42"/>
                  </a:lnTo>
                  <a:lnTo>
                    <a:pt x="129" y="22"/>
                  </a:lnTo>
                  <a:lnTo>
                    <a:pt x="65" y="0"/>
                  </a:lnTo>
                  <a:lnTo>
                    <a:pt x="65" y="42"/>
                  </a:lnTo>
                  <a:lnTo>
                    <a:pt x="65" y="107"/>
                  </a:lnTo>
                  <a:lnTo>
                    <a:pt x="43" y="213"/>
                  </a:lnTo>
                  <a:lnTo>
                    <a:pt x="43" y="341"/>
                  </a:lnTo>
                  <a:lnTo>
                    <a:pt x="22" y="512"/>
                  </a:lnTo>
                  <a:lnTo>
                    <a:pt x="22" y="704"/>
                  </a:lnTo>
                  <a:lnTo>
                    <a:pt x="22" y="916"/>
                  </a:lnTo>
                  <a:lnTo>
                    <a:pt x="0" y="1151"/>
                  </a:lnTo>
                  <a:lnTo>
                    <a:pt x="22" y="1364"/>
                  </a:lnTo>
                  <a:lnTo>
                    <a:pt x="22" y="1598"/>
                  </a:lnTo>
                  <a:lnTo>
                    <a:pt x="43" y="1833"/>
                  </a:lnTo>
                  <a:lnTo>
                    <a:pt x="65" y="2045"/>
                  </a:lnTo>
                  <a:lnTo>
                    <a:pt x="85" y="2237"/>
                  </a:lnTo>
                  <a:lnTo>
                    <a:pt x="150" y="2429"/>
                  </a:lnTo>
                  <a:lnTo>
                    <a:pt x="214" y="2578"/>
                  </a:lnTo>
                  <a:lnTo>
                    <a:pt x="277" y="2727"/>
                  </a:lnTo>
                  <a:lnTo>
                    <a:pt x="321" y="26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4222800" y="1298520"/>
              <a:ext cx="669960" cy="61920"/>
            </a:xfrm>
            <a:custGeom>
              <a:avLst/>
              <a:gdLst/>
              <a:ahLst/>
              <a:rect l="l" t="t" r="r" b="b"/>
              <a:pathLst>
                <a:path w="2110" h="192">
                  <a:moveTo>
                    <a:pt x="2110" y="43"/>
                  </a:moveTo>
                  <a:lnTo>
                    <a:pt x="2088" y="0"/>
                  </a:lnTo>
                  <a:lnTo>
                    <a:pt x="2067" y="0"/>
                  </a:lnTo>
                  <a:lnTo>
                    <a:pt x="2046" y="0"/>
                  </a:lnTo>
                  <a:lnTo>
                    <a:pt x="2003" y="0"/>
                  </a:lnTo>
                  <a:lnTo>
                    <a:pt x="1961" y="0"/>
                  </a:lnTo>
                  <a:lnTo>
                    <a:pt x="1896" y="0"/>
                  </a:lnTo>
                  <a:lnTo>
                    <a:pt x="1854" y="0"/>
                  </a:lnTo>
                  <a:lnTo>
                    <a:pt x="1769" y="0"/>
                  </a:lnTo>
                  <a:lnTo>
                    <a:pt x="1706" y="22"/>
                  </a:lnTo>
                  <a:lnTo>
                    <a:pt x="1620" y="22"/>
                  </a:lnTo>
                  <a:lnTo>
                    <a:pt x="1535" y="22"/>
                  </a:lnTo>
                  <a:lnTo>
                    <a:pt x="1450" y="22"/>
                  </a:lnTo>
                  <a:lnTo>
                    <a:pt x="1365" y="43"/>
                  </a:lnTo>
                  <a:lnTo>
                    <a:pt x="1280" y="43"/>
                  </a:lnTo>
                  <a:lnTo>
                    <a:pt x="1194" y="43"/>
                  </a:lnTo>
                  <a:lnTo>
                    <a:pt x="1088" y="64"/>
                  </a:lnTo>
                  <a:lnTo>
                    <a:pt x="1002" y="64"/>
                  </a:lnTo>
                  <a:lnTo>
                    <a:pt x="896" y="64"/>
                  </a:lnTo>
                  <a:lnTo>
                    <a:pt x="810" y="85"/>
                  </a:lnTo>
                  <a:lnTo>
                    <a:pt x="725" y="85"/>
                  </a:lnTo>
                  <a:lnTo>
                    <a:pt x="618" y="107"/>
                  </a:lnTo>
                  <a:lnTo>
                    <a:pt x="533" y="107"/>
                  </a:lnTo>
                  <a:lnTo>
                    <a:pt x="448" y="107"/>
                  </a:lnTo>
                  <a:lnTo>
                    <a:pt x="384" y="107"/>
                  </a:lnTo>
                  <a:lnTo>
                    <a:pt x="321" y="128"/>
                  </a:lnTo>
                  <a:lnTo>
                    <a:pt x="236" y="128"/>
                  </a:lnTo>
                  <a:lnTo>
                    <a:pt x="192" y="128"/>
                  </a:lnTo>
                  <a:lnTo>
                    <a:pt x="129" y="128"/>
                  </a:lnTo>
                  <a:lnTo>
                    <a:pt x="85" y="149"/>
                  </a:lnTo>
                  <a:lnTo>
                    <a:pt x="43" y="149"/>
                  </a:lnTo>
                  <a:lnTo>
                    <a:pt x="22" y="149"/>
                  </a:lnTo>
                  <a:lnTo>
                    <a:pt x="0" y="149"/>
                  </a:lnTo>
                  <a:lnTo>
                    <a:pt x="0" y="192"/>
                  </a:lnTo>
                  <a:lnTo>
                    <a:pt x="22" y="192"/>
                  </a:lnTo>
                  <a:lnTo>
                    <a:pt x="43" y="192"/>
                  </a:lnTo>
                  <a:lnTo>
                    <a:pt x="85" y="192"/>
                  </a:lnTo>
                  <a:lnTo>
                    <a:pt x="129" y="192"/>
                  </a:lnTo>
                  <a:lnTo>
                    <a:pt x="192" y="192"/>
                  </a:lnTo>
                  <a:lnTo>
                    <a:pt x="256" y="170"/>
                  </a:lnTo>
                  <a:lnTo>
                    <a:pt x="321" y="170"/>
                  </a:lnTo>
                  <a:lnTo>
                    <a:pt x="384" y="170"/>
                  </a:lnTo>
                  <a:lnTo>
                    <a:pt x="470" y="170"/>
                  </a:lnTo>
                  <a:lnTo>
                    <a:pt x="533" y="149"/>
                  </a:lnTo>
                  <a:lnTo>
                    <a:pt x="618" y="149"/>
                  </a:lnTo>
                  <a:lnTo>
                    <a:pt x="725" y="149"/>
                  </a:lnTo>
                  <a:lnTo>
                    <a:pt x="810" y="128"/>
                  </a:lnTo>
                  <a:lnTo>
                    <a:pt x="896" y="128"/>
                  </a:lnTo>
                  <a:lnTo>
                    <a:pt x="1002" y="107"/>
                  </a:lnTo>
                  <a:lnTo>
                    <a:pt x="1088" y="107"/>
                  </a:lnTo>
                  <a:lnTo>
                    <a:pt x="1194" y="107"/>
                  </a:lnTo>
                  <a:lnTo>
                    <a:pt x="1280" y="85"/>
                  </a:lnTo>
                  <a:lnTo>
                    <a:pt x="1365" y="85"/>
                  </a:lnTo>
                  <a:lnTo>
                    <a:pt x="1450" y="85"/>
                  </a:lnTo>
                  <a:lnTo>
                    <a:pt x="1535" y="64"/>
                  </a:lnTo>
                  <a:lnTo>
                    <a:pt x="1620" y="64"/>
                  </a:lnTo>
                  <a:lnTo>
                    <a:pt x="1706" y="64"/>
                  </a:lnTo>
                  <a:lnTo>
                    <a:pt x="1769" y="64"/>
                  </a:lnTo>
                  <a:lnTo>
                    <a:pt x="1854" y="64"/>
                  </a:lnTo>
                  <a:lnTo>
                    <a:pt x="1896" y="64"/>
                  </a:lnTo>
                  <a:lnTo>
                    <a:pt x="1961" y="64"/>
                  </a:lnTo>
                  <a:lnTo>
                    <a:pt x="2003" y="43"/>
                  </a:lnTo>
                  <a:lnTo>
                    <a:pt x="2046" y="43"/>
                  </a:lnTo>
                  <a:lnTo>
                    <a:pt x="2067" y="43"/>
                  </a:lnTo>
                  <a:lnTo>
                    <a:pt x="2088" y="64"/>
                  </a:lnTo>
                  <a:lnTo>
                    <a:pt x="2067" y="22"/>
                  </a:lnTo>
                  <a:lnTo>
                    <a:pt x="2110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857840" y="1306440"/>
              <a:ext cx="95040" cy="858960"/>
            </a:xfrm>
            <a:custGeom>
              <a:avLst/>
              <a:gdLst/>
              <a:ahLst/>
              <a:rect l="l" t="t" r="r" b="b"/>
              <a:pathLst>
                <a:path w="299" h="2706">
                  <a:moveTo>
                    <a:pt x="299" y="2684"/>
                  </a:moveTo>
                  <a:lnTo>
                    <a:pt x="234" y="2556"/>
                  </a:lnTo>
                  <a:lnTo>
                    <a:pt x="171" y="2407"/>
                  </a:lnTo>
                  <a:lnTo>
                    <a:pt x="129" y="2236"/>
                  </a:lnTo>
                  <a:lnTo>
                    <a:pt x="107" y="2023"/>
                  </a:lnTo>
                  <a:lnTo>
                    <a:pt x="85" y="1810"/>
                  </a:lnTo>
                  <a:lnTo>
                    <a:pt x="64" y="1597"/>
                  </a:lnTo>
                  <a:lnTo>
                    <a:pt x="43" y="1363"/>
                  </a:lnTo>
                  <a:lnTo>
                    <a:pt x="43" y="1129"/>
                  </a:lnTo>
                  <a:lnTo>
                    <a:pt x="43" y="915"/>
                  </a:lnTo>
                  <a:lnTo>
                    <a:pt x="64" y="703"/>
                  </a:lnTo>
                  <a:lnTo>
                    <a:pt x="64" y="511"/>
                  </a:lnTo>
                  <a:lnTo>
                    <a:pt x="85" y="340"/>
                  </a:lnTo>
                  <a:lnTo>
                    <a:pt x="85" y="212"/>
                  </a:lnTo>
                  <a:lnTo>
                    <a:pt x="107" y="106"/>
                  </a:lnTo>
                  <a:lnTo>
                    <a:pt x="107" y="21"/>
                  </a:lnTo>
                  <a:lnTo>
                    <a:pt x="64" y="0"/>
                  </a:lnTo>
                  <a:lnTo>
                    <a:pt x="43" y="21"/>
                  </a:lnTo>
                  <a:lnTo>
                    <a:pt x="43" y="106"/>
                  </a:lnTo>
                  <a:lnTo>
                    <a:pt x="43" y="212"/>
                  </a:lnTo>
                  <a:lnTo>
                    <a:pt x="22" y="340"/>
                  </a:lnTo>
                  <a:lnTo>
                    <a:pt x="22" y="511"/>
                  </a:lnTo>
                  <a:lnTo>
                    <a:pt x="0" y="703"/>
                  </a:lnTo>
                  <a:lnTo>
                    <a:pt x="0" y="915"/>
                  </a:lnTo>
                  <a:lnTo>
                    <a:pt x="0" y="1129"/>
                  </a:lnTo>
                  <a:lnTo>
                    <a:pt x="0" y="1363"/>
                  </a:lnTo>
                  <a:lnTo>
                    <a:pt x="0" y="1597"/>
                  </a:lnTo>
                  <a:lnTo>
                    <a:pt x="22" y="1810"/>
                  </a:lnTo>
                  <a:lnTo>
                    <a:pt x="43" y="2044"/>
                  </a:lnTo>
                  <a:lnTo>
                    <a:pt x="85" y="2236"/>
                  </a:lnTo>
                  <a:lnTo>
                    <a:pt x="129" y="2428"/>
                  </a:lnTo>
                  <a:lnTo>
                    <a:pt x="192" y="2577"/>
                  </a:lnTo>
                  <a:lnTo>
                    <a:pt x="256" y="2706"/>
                  </a:lnTo>
                  <a:lnTo>
                    <a:pt x="299" y="268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803840" y="1251000"/>
              <a:ext cx="182520" cy="122040"/>
            </a:xfrm>
            <a:custGeom>
              <a:avLst/>
              <a:gdLst/>
              <a:ahLst/>
              <a:rect l="l" t="t" r="r" b="b"/>
              <a:pathLst>
                <a:path w="575" h="383">
                  <a:moveTo>
                    <a:pt x="575" y="0"/>
                  </a:moveTo>
                  <a:lnTo>
                    <a:pt x="511" y="22"/>
                  </a:lnTo>
                  <a:lnTo>
                    <a:pt x="448" y="42"/>
                  </a:lnTo>
                  <a:lnTo>
                    <a:pt x="384" y="64"/>
                  </a:lnTo>
                  <a:lnTo>
                    <a:pt x="319" y="107"/>
                  </a:lnTo>
                  <a:lnTo>
                    <a:pt x="277" y="127"/>
                  </a:lnTo>
                  <a:lnTo>
                    <a:pt x="234" y="149"/>
                  </a:lnTo>
                  <a:lnTo>
                    <a:pt x="192" y="192"/>
                  </a:lnTo>
                  <a:lnTo>
                    <a:pt x="149" y="213"/>
                  </a:lnTo>
                  <a:lnTo>
                    <a:pt x="128" y="234"/>
                  </a:lnTo>
                  <a:lnTo>
                    <a:pt x="85" y="277"/>
                  </a:lnTo>
                  <a:lnTo>
                    <a:pt x="63" y="298"/>
                  </a:lnTo>
                  <a:lnTo>
                    <a:pt x="43" y="319"/>
                  </a:lnTo>
                  <a:lnTo>
                    <a:pt x="21" y="341"/>
                  </a:lnTo>
                  <a:lnTo>
                    <a:pt x="21" y="363"/>
                  </a:lnTo>
                  <a:lnTo>
                    <a:pt x="0" y="363"/>
                  </a:lnTo>
                  <a:lnTo>
                    <a:pt x="43" y="383"/>
                  </a:lnTo>
                  <a:lnTo>
                    <a:pt x="63" y="383"/>
                  </a:lnTo>
                  <a:lnTo>
                    <a:pt x="63" y="363"/>
                  </a:lnTo>
                  <a:lnTo>
                    <a:pt x="85" y="341"/>
                  </a:lnTo>
                  <a:lnTo>
                    <a:pt x="107" y="319"/>
                  </a:lnTo>
                  <a:lnTo>
                    <a:pt x="128" y="319"/>
                  </a:lnTo>
                  <a:lnTo>
                    <a:pt x="149" y="277"/>
                  </a:lnTo>
                  <a:lnTo>
                    <a:pt x="192" y="256"/>
                  </a:lnTo>
                  <a:lnTo>
                    <a:pt x="213" y="234"/>
                  </a:lnTo>
                  <a:lnTo>
                    <a:pt x="255" y="192"/>
                  </a:lnTo>
                  <a:lnTo>
                    <a:pt x="299" y="171"/>
                  </a:lnTo>
                  <a:lnTo>
                    <a:pt x="362" y="149"/>
                  </a:lnTo>
                  <a:lnTo>
                    <a:pt x="404" y="127"/>
                  </a:lnTo>
                  <a:lnTo>
                    <a:pt x="469" y="107"/>
                  </a:lnTo>
                  <a:lnTo>
                    <a:pt x="511" y="85"/>
                  </a:lnTo>
                  <a:lnTo>
                    <a:pt x="575" y="64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4033800" y="1339920"/>
              <a:ext cx="858960" cy="1041480"/>
            </a:xfrm>
            <a:custGeom>
              <a:avLst/>
              <a:gdLst/>
              <a:ahLst/>
              <a:rect l="l" t="t" r="r" b="b"/>
              <a:pathLst>
                <a:path w="2706" h="3281">
                  <a:moveTo>
                    <a:pt x="0" y="191"/>
                  </a:moveTo>
                  <a:lnTo>
                    <a:pt x="85" y="191"/>
                  </a:lnTo>
                  <a:lnTo>
                    <a:pt x="150" y="171"/>
                  </a:lnTo>
                  <a:lnTo>
                    <a:pt x="235" y="171"/>
                  </a:lnTo>
                  <a:lnTo>
                    <a:pt x="299" y="149"/>
                  </a:lnTo>
                  <a:lnTo>
                    <a:pt x="384" y="149"/>
                  </a:lnTo>
                  <a:lnTo>
                    <a:pt x="447" y="128"/>
                  </a:lnTo>
                  <a:lnTo>
                    <a:pt x="533" y="128"/>
                  </a:lnTo>
                  <a:lnTo>
                    <a:pt x="596" y="128"/>
                  </a:lnTo>
                  <a:lnTo>
                    <a:pt x="681" y="106"/>
                  </a:lnTo>
                  <a:lnTo>
                    <a:pt x="746" y="106"/>
                  </a:lnTo>
                  <a:lnTo>
                    <a:pt x="832" y="106"/>
                  </a:lnTo>
                  <a:lnTo>
                    <a:pt x="895" y="86"/>
                  </a:lnTo>
                  <a:lnTo>
                    <a:pt x="980" y="86"/>
                  </a:lnTo>
                  <a:lnTo>
                    <a:pt x="1044" y="86"/>
                  </a:lnTo>
                  <a:lnTo>
                    <a:pt x="1129" y="64"/>
                  </a:lnTo>
                  <a:lnTo>
                    <a:pt x="1193" y="64"/>
                  </a:lnTo>
                  <a:lnTo>
                    <a:pt x="1278" y="64"/>
                  </a:lnTo>
                  <a:lnTo>
                    <a:pt x="1343" y="42"/>
                  </a:lnTo>
                  <a:lnTo>
                    <a:pt x="1428" y="42"/>
                  </a:lnTo>
                  <a:lnTo>
                    <a:pt x="1492" y="42"/>
                  </a:lnTo>
                  <a:lnTo>
                    <a:pt x="1577" y="42"/>
                  </a:lnTo>
                  <a:lnTo>
                    <a:pt x="1640" y="21"/>
                  </a:lnTo>
                  <a:lnTo>
                    <a:pt x="1726" y="21"/>
                  </a:lnTo>
                  <a:lnTo>
                    <a:pt x="1790" y="21"/>
                  </a:lnTo>
                  <a:lnTo>
                    <a:pt x="1854" y="21"/>
                  </a:lnTo>
                  <a:lnTo>
                    <a:pt x="1939" y="21"/>
                  </a:lnTo>
                  <a:lnTo>
                    <a:pt x="2003" y="0"/>
                  </a:lnTo>
                  <a:lnTo>
                    <a:pt x="2088" y="0"/>
                  </a:lnTo>
                  <a:lnTo>
                    <a:pt x="2173" y="0"/>
                  </a:lnTo>
                  <a:lnTo>
                    <a:pt x="2237" y="0"/>
                  </a:lnTo>
                  <a:lnTo>
                    <a:pt x="2322" y="0"/>
                  </a:lnTo>
                  <a:lnTo>
                    <a:pt x="2387" y="0"/>
                  </a:lnTo>
                  <a:lnTo>
                    <a:pt x="2429" y="0"/>
                  </a:lnTo>
                  <a:lnTo>
                    <a:pt x="2450" y="0"/>
                  </a:lnTo>
                  <a:lnTo>
                    <a:pt x="2492" y="21"/>
                  </a:lnTo>
                  <a:lnTo>
                    <a:pt x="2536" y="42"/>
                  </a:lnTo>
                  <a:lnTo>
                    <a:pt x="2578" y="86"/>
                  </a:lnTo>
                  <a:lnTo>
                    <a:pt x="2599" y="149"/>
                  </a:lnTo>
                  <a:lnTo>
                    <a:pt x="2599" y="234"/>
                  </a:lnTo>
                  <a:lnTo>
                    <a:pt x="2557" y="597"/>
                  </a:lnTo>
                  <a:lnTo>
                    <a:pt x="2536" y="916"/>
                  </a:lnTo>
                  <a:lnTo>
                    <a:pt x="2514" y="1172"/>
                  </a:lnTo>
                  <a:lnTo>
                    <a:pt x="2492" y="1427"/>
                  </a:lnTo>
                  <a:lnTo>
                    <a:pt x="2492" y="1683"/>
                  </a:lnTo>
                  <a:lnTo>
                    <a:pt x="2536" y="1960"/>
                  </a:lnTo>
                  <a:lnTo>
                    <a:pt x="2599" y="2258"/>
                  </a:lnTo>
                  <a:lnTo>
                    <a:pt x="2684" y="2620"/>
                  </a:lnTo>
                  <a:lnTo>
                    <a:pt x="2684" y="2642"/>
                  </a:lnTo>
                  <a:lnTo>
                    <a:pt x="2706" y="2685"/>
                  </a:lnTo>
                  <a:lnTo>
                    <a:pt x="2706" y="2748"/>
                  </a:lnTo>
                  <a:lnTo>
                    <a:pt x="2706" y="2812"/>
                  </a:lnTo>
                  <a:lnTo>
                    <a:pt x="2706" y="2876"/>
                  </a:lnTo>
                  <a:lnTo>
                    <a:pt x="2663" y="2919"/>
                  </a:lnTo>
                  <a:lnTo>
                    <a:pt x="2578" y="2961"/>
                  </a:lnTo>
                  <a:lnTo>
                    <a:pt x="2472" y="2982"/>
                  </a:lnTo>
                  <a:lnTo>
                    <a:pt x="2407" y="2982"/>
                  </a:lnTo>
                  <a:lnTo>
                    <a:pt x="2344" y="2982"/>
                  </a:lnTo>
                  <a:lnTo>
                    <a:pt x="2280" y="3004"/>
                  </a:lnTo>
                  <a:lnTo>
                    <a:pt x="2195" y="3004"/>
                  </a:lnTo>
                  <a:lnTo>
                    <a:pt x="2131" y="3004"/>
                  </a:lnTo>
                  <a:lnTo>
                    <a:pt x="2066" y="3026"/>
                  </a:lnTo>
                  <a:lnTo>
                    <a:pt x="2003" y="3026"/>
                  </a:lnTo>
                  <a:lnTo>
                    <a:pt x="1939" y="3026"/>
                  </a:lnTo>
                  <a:lnTo>
                    <a:pt x="1876" y="3046"/>
                  </a:lnTo>
                  <a:lnTo>
                    <a:pt x="1811" y="3046"/>
                  </a:lnTo>
                  <a:lnTo>
                    <a:pt x="1747" y="3046"/>
                  </a:lnTo>
                  <a:lnTo>
                    <a:pt x="1684" y="3068"/>
                  </a:lnTo>
                  <a:lnTo>
                    <a:pt x="1598" y="3068"/>
                  </a:lnTo>
                  <a:lnTo>
                    <a:pt x="1535" y="3068"/>
                  </a:lnTo>
                  <a:lnTo>
                    <a:pt x="1470" y="3089"/>
                  </a:lnTo>
                  <a:lnTo>
                    <a:pt x="1406" y="3089"/>
                  </a:lnTo>
                  <a:lnTo>
                    <a:pt x="1343" y="3111"/>
                  </a:lnTo>
                  <a:lnTo>
                    <a:pt x="1278" y="3111"/>
                  </a:lnTo>
                  <a:lnTo>
                    <a:pt x="1214" y="3111"/>
                  </a:lnTo>
                  <a:lnTo>
                    <a:pt x="1151" y="3131"/>
                  </a:lnTo>
                  <a:lnTo>
                    <a:pt x="1087" y="3131"/>
                  </a:lnTo>
                  <a:lnTo>
                    <a:pt x="1022" y="3153"/>
                  </a:lnTo>
                  <a:lnTo>
                    <a:pt x="959" y="3153"/>
                  </a:lnTo>
                  <a:lnTo>
                    <a:pt x="895" y="3174"/>
                  </a:lnTo>
                  <a:lnTo>
                    <a:pt x="832" y="3174"/>
                  </a:lnTo>
                  <a:lnTo>
                    <a:pt x="767" y="3196"/>
                  </a:lnTo>
                  <a:lnTo>
                    <a:pt x="703" y="3216"/>
                  </a:lnTo>
                  <a:lnTo>
                    <a:pt x="639" y="3216"/>
                  </a:lnTo>
                  <a:lnTo>
                    <a:pt x="576" y="3238"/>
                  </a:lnTo>
                  <a:lnTo>
                    <a:pt x="511" y="3238"/>
                  </a:lnTo>
                  <a:lnTo>
                    <a:pt x="447" y="3260"/>
                  </a:lnTo>
                  <a:lnTo>
                    <a:pt x="384" y="328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4108320" y="1738440"/>
              <a:ext cx="141480" cy="284040"/>
            </a:xfrm>
            <a:custGeom>
              <a:avLst/>
              <a:gdLst/>
              <a:ahLst/>
              <a:rect l="l" t="t" r="r" b="b"/>
              <a:pathLst>
                <a:path w="446" h="895">
                  <a:moveTo>
                    <a:pt x="64" y="810"/>
                  </a:moveTo>
                  <a:lnTo>
                    <a:pt x="85" y="788"/>
                  </a:lnTo>
                  <a:lnTo>
                    <a:pt x="106" y="745"/>
                  </a:lnTo>
                  <a:lnTo>
                    <a:pt x="106" y="725"/>
                  </a:lnTo>
                  <a:lnTo>
                    <a:pt x="106" y="660"/>
                  </a:lnTo>
                  <a:lnTo>
                    <a:pt x="64" y="234"/>
                  </a:lnTo>
                  <a:lnTo>
                    <a:pt x="64" y="192"/>
                  </a:lnTo>
                  <a:lnTo>
                    <a:pt x="42" y="170"/>
                  </a:lnTo>
                  <a:lnTo>
                    <a:pt x="20" y="170"/>
                  </a:lnTo>
                  <a:lnTo>
                    <a:pt x="0" y="63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9" y="0"/>
                  </a:lnTo>
                  <a:lnTo>
                    <a:pt x="341" y="21"/>
                  </a:lnTo>
                  <a:lnTo>
                    <a:pt x="361" y="43"/>
                  </a:lnTo>
                  <a:lnTo>
                    <a:pt x="383" y="63"/>
                  </a:lnTo>
                  <a:lnTo>
                    <a:pt x="383" y="107"/>
                  </a:lnTo>
                  <a:lnTo>
                    <a:pt x="404" y="128"/>
                  </a:lnTo>
                  <a:lnTo>
                    <a:pt x="404" y="170"/>
                  </a:lnTo>
                  <a:lnTo>
                    <a:pt x="404" y="213"/>
                  </a:lnTo>
                  <a:lnTo>
                    <a:pt x="383" y="277"/>
                  </a:lnTo>
                  <a:lnTo>
                    <a:pt x="383" y="319"/>
                  </a:lnTo>
                  <a:lnTo>
                    <a:pt x="361" y="362"/>
                  </a:lnTo>
                  <a:lnTo>
                    <a:pt x="383" y="362"/>
                  </a:lnTo>
                  <a:lnTo>
                    <a:pt x="383" y="384"/>
                  </a:lnTo>
                  <a:lnTo>
                    <a:pt x="404" y="384"/>
                  </a:lnTo>
                  <a:lnTo>
                    <a:pt x="426" y="404"/>
                  </a:lnTo>
                  <a:lnTo>
                    <a:pt x="426" y="447"/>
                  </a:lnTo>
                  <a:lnTo>
                    <a:pt x="426" y="469"/>
                  </a:lnTo>
                  <a:lnTo>
                    <a:pt x="446" y="489"/>
                  </a:lnTo>
                  <a:lnTo>
                    <a:pt x="446" y="533"/>
                  </a:lnTo>
                  <a:lnTo>
                    <a:pt x="446" y="575"/>
                  </a:lnTo>
                  <a:lnTo>
                    <a:pt x="446" y="618"/>
                  </a:lnTo>
                  <a:lnTo>
                    <a:pt x="446" y="660"/>
                  </a:lnTo>
                  <a:lnTo>
                    <a:pt x="426" y="703"/>
                  </a:lnTo>
                  <a:lnTo>
                    <a:pt x="404" y="745"/>
                  </a:lnTo>
                  <a:lnTo>
                    <a:pt x="383" y="788"/>
                  </a:lnTo>
                  <a:lnTo>
                    <a:pt x="341" y="810"/>
                  </a:lnTo>
                  <a:lnTo>
                    <a:pt x="298" y="830"/>
                  </a:lnTo>
                  <a:lnTo>
                    <a:pt x="64" y="895"/>
                  </a:lnTo>
                  <a:lnTo>
                    <a:pt x="64" y="81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4162320" y="1779480"/>
              <a:ext cx="39960" cy="7488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128" y="85"/>
                  </a:moveTo>
                  <a:lnTo>
                    <a:pt x="128" y="64"/>
                  </a:lnTo>
                  <a:lnTo>
                    <a:pt x="128" y="42"/>
                  </a:lnTo>
                  <a:lnTo>
                    <a:pt x="106" y="21"/>
                  </a:lnTo>
                  <a:lnTo>
                    <a:pt x="106" y="0"/>
                  </a:lnTo>
                  <a:lnTo>
                    <a:pt x="86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21" y="234"/>
                  </a:lnTo>
                  <a:lnTo>
                    <a:pt x="64" y="213"/>
                  </a:lnTo>
                  <a:lnTo>
                    <a:pt x="86" y="191"/>
                  </a:lnTo>
                  <a:lnTo>
                    <a:pt x="106" y="191"/>
                  </a:lnTo>
                  <a:lnTo>
                    <a:pt x="106" y="171"/>
                  </a:lnTo>
                  <a:lnTo>
                    <a:pt x="128" y="149"/>
                  </a:lnTo>
                  <a:lnTo>
                    <a:pt x="128" y="127"/>
                  </a:lnTo>
                  <a:lnTo>
                    <a:pt x="128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4168800" y="1881360"/>
              <a:ext cx="47520" cy="87120"/>
            </a:xfrm>
            <a:custGeom>
              <a:avLst/>
              <a:gdLst/>
              <a:ahLst/>
              <a:rect l="l" t="t" r="r" b="b"/>
              <a:pathLst>
                <a:path w="150" h="278">
                  <a:moveTo>
                    <a:pt x="65" y="278"/>
                  </a:moveTo>
                  <a:lnTo>
                    <a:pt x="85" y="278"/>
                  </a:lnTo>
                  <a:lnTo>
                    <a:pt x="107" y="256"/>
                  </a:lnTo>
                  <a:lnTo>
                    <a:pt x="107" y="234"/>
                  </a:lnTo>
                  <a:lnTo>
                    <a:pt x="128" y="234"/>
                  </a:lnTo>
                  <a:lnTo>
                    <a:pt x="128" y="213"/>
                  </a:lnTo>
                  <a:lnTo>
                    <a:pt x="150" y="171"/>
                  </a:lnTo>
                  <a:lnTo>
                    <a:pt x="150" y="149"/>
                  </a:lnTo>
                  <a:lnTo>
                    <a:pt x="150" y="107"/>
                  </a:lnTo>
                  <a:lnTo>
                    <a:pt x="128" y="64"/>
                  </a:lnTo>
                  <a:lnTo>
                    <a:pt x="128" y="42"/>
                  </a:lnTo>
                  <a:lnTo>
                    <a:pt x="128" y="22"/>
                  </a:lnTo>
                  <a:lnTo>
                    <a:pt x="107" y="0"/>
                  </a:lnTo>
                  <a:lnTo>
                    <a:pt x="85" y="0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22"/>
                  </a:lnTo>
                  <a:lnTo>
                    <a:pt x="21" y="234"/>
                  </a:lnTo>
                  <a:lnTo>
                    <a:pt x="21" y="256"/>
                  </a:lnTo>
                  <a:lnTo>
                    <a:pt x="21" y="278"/>
                  </a:lnTo>
                  <a:lnTo>
                    <a:pt x="43" y="278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4249800" y="1698480"/>
              <a:ext cx="81000" cy="284400"/>
            </a:xfrm>
            <a:custGeom>
              <a:avLst/>
              <a:gdLst/>
              <a:ahLst/>
              <a:rect l="l" t="t" r="r" b="b"/>
              <a:pathLst>
                <a:path w="256" h="894">
                  <a:moveTo>
                    <a:pt x="65" y="276"/>
                  </a:moveTo>
                  <a:lnTo>
                    <a:pt x="44" y="212"/>
                  </a:lnTo>
                  <a:lnTo>
                    <a:pt x="44" y="190"/>
                  </a:lnTo>
                  <a:lnTo>
                    <a:pt x="22" y="170"/>
                  </a:lnTo>
                  <a:lnTo>
                    <a:pt x="0" y="170"/>
                  </a:lnTo>
                  <a:lnTo>
                    <a:pt x="0" y="63"/>
                  </a:lnTo>
                  <a:lnTo>
                    <a:pt x="193" y="0"/>
                  </a:lnTo>
                  <a:lnTo>
                    <a:pt x="214" y="105"/>
                  </a:lnTo>
                  <a:lnTo>
                    <a:pt x="171" y="127"/>
                  </a:lnTo>
                  <a:lnTo>
                    <a:pt x="171" y="148"/>
                  </a:lnTo>
                  <a:lnTo>
                    <a:pt x="151" y="190"/>
                  </a:lnTo>
                  <a:lnTo>
                    <a:pt x="171" y="234"/>
                  </a:lnTo>
                  <a:lnTo>
                    <a:pt x="193" y="638"/>
                  </a:lnTo>
                  <a:lnTo>
                    <a:pt x="193" y="702"/>
                  </a:lnTo>
                  <a:lnTo>
                    <a:pt x="193" y="723"/>
                  </a:lnTo>
                  <a:lnTo>
                    <a:pt x="214" y="745"/>
                  </a:lnTo>
                  <a:lnTo>
                    <a:pt x="256" y="745"/>
                  </a:lnTo>
                  <a:lnTo>
                    <a:pt x="256" y="830"/>
                  </a:lnTo>
                  <a:lnTo>
                    <a:pt x="44" y="894"/>
                  </a:lnTo>
                  <a:lnTo>
                    <a:pt x="44" y="787"/>
                  </a:lnTo>
                  <a:lnTo>
                    <a:pt x="65" y="787"/>
                  </a:lnTo>
                  <a:lnTo>
                    <a:pt x="86" y="766"/>
                  </a:lnTo>
                  <a:lnTo>
                    <a:pt x="86" y="723"/>
                  </a:lnTo>
                  <a:lnTo>
                    <a:pt x="86" y="660"/>
                  </a:lnTo>
                  <a:lnTo>
                    <a:pt x="65" y="27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4324320" y="1677960"/>
              <a:ext cx="135000" cy="284040"/>
            </a:xfrm>
            <a:custGeom>
              <a:avLst/>
              <a:gdLst/>
              <a:ahLst/>
              <a:rect l="l" t="t" r="r" b="b"/>
              <a:pathLst>
                <a:path w="426" h="895">
                  <a:moveTo>
                    <a:pt x="42" y="788"/>
                  </a:moveTo>
                  <a:lnTo>
                    <a:pt x="63" y="767"/>
                  </a:lnTo>
                  <a:lnTo>
                    <a:pt x="85" y="746"/>
                  </a:lnTo>
                  <a:lnTo>
                    <a:pt x="85" y="725"/>
                  </a:lnTo>
                  <a:lnTo>
                    <a:pt x="85" y="661"/>
                  </a:lnTo>
                  <a:lnTo>
                    <a:pt x="63" y="235"/>
                  </a:lnTo>
                  <a:lnTo>
                    <a:pt x="42" y="192"/>
                  </a:lnTo>
                  <a:lnTo>
                    <a:pt x="42" y="170"/>
                  </a:lnTo>
                  <a:lnTo>
                    <a:pt x="20" y="170"/>
                  </a:lnTo>
                  <a:lnTo>
                    <a:pt x="0" y="170"/>
                  </a:lnTo>
                  <a:lnTo>
                    <a:pt x="0" y="65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9" y="0"/>
                  </a:lnTo>
                  <a:lnTo>
                    <a:pt x="341" y="21"/>
                  </a:lnTo>
                  <a:lnTo>
                    <a:pt x="361" y="43"/>
                  </a:lnTo>
                  <a:lnTo>
                    <a:pt x="383" y="85"/>
                  </a:lnTo>
                  <a:lnTo>
                    <a:pt x="383" y="107"/>
                  </a:lnTo>
                  <a:lnTo>
                    <a:pt x="383" y="150"/>
                  </a:lnTo>
                  <a:lnTo>
                    <a:pt x="383" y="170"/>
                  </a:lnTo>
                  <a:lnTo>
                    <a:pt x="383" y="235"/>
                  </a:lnTo>
                  <a:lnTo>
                    <a:pt x="383" y="277"/>
                  </a:lnTo>
                  <a:lnTo>
                    <a:pt x="361" y="341"/>
                  </a:lnTo>
                  <a:lnTo>
                    <a:pt x="341" y="362"/>
                  </a:lnTo>
                  <a:lnTo>
                    <a:pt x="361" y="384"/>
                  </a:lnTo>
                  <a:lnTo>
                    <a:pt x="383" y="384"/>
                  </a:lnTo>
                  <a:lnTo>
                    <a:pt x="383" y="405"/>
                  </a:lnTo>
                  <a:lnTo>
                    <a:pt x="404" y="426"/>
                  </a:lnTo>
                  <a:lnTo>
                    <a:pt x="426" y="447"/>
                  </a:lnTo>
                  <a:lnTo>
                    <a:pt x="426" y="491"/>
                  </a:lnTo>
                  <a:lnTo>
                    <a:pt x="426" y="511"/>
                  </a:lnTo>
                  <a:lnTo>
                    <a:pt x="426" y="554"/>
                  </a:lnTo>
                  <a:lnTo>
                    <a:pt x="426" y="596"/>
                  </a:lnTo>
                  <a:lnTo>
                    <a:pt x="426" y="639"/>
                  </a:lnTo>
                  <a:lnTo>
                    <a:pt x="426" y="681"/>
                  </a:lnTo>
                  <a:lnTo>
                    <a:pt x="404" y="725"/>
                  </a:lnTo>
                  <a:lnTo>
                    <a:pt x="383" y="767"/>
                  </a:lnTo>
                  <a:lnTo>
                    <a:pt x="361" y="788"/>
                  </a:lnTo>
                  <a:lnTo>
                    <a:pt x="341" y="810"/>
                  </a:lnTo>
                  <a:lnTo>
                    <a:pt x="297" y="831"/>
                  </a:lnTo>
                  <a:lnTo>
                    <a:pt x="42" y="895"/>
                  </a:lnTo>
                  <a:lnTo>
                    <a:pt x="42" y="788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4378320" y="1717560"/>
              <a:ext cx="39600" cy="74880"/>
            </a:xfrm>
            <a:custGeom>
              <a:avLst/>
              <a:gdLst/>
              <a:ahLst/>
              <a:rect l="l" t="t" r="r" b="b"/>
              <a:pathLst>
                <a:path w="127" h="234">
                  <a:moveTo>
                    <a:pt x="127" y="85"/>
                  </a:moveTo>
                  <a:lnTo>
                    <a:pt x="106" y="64"/>
                  </a:lnTo>
                  <a:lnTo>
                    <a:pt x="106" y="42"/>
                  </a:lnTo>
                  <a:lnTo>
                    <a:pt x="106" y="22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0" y="22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234"/>
                  </a:lnTo>
                  <a:lnTo>
                    <a:pt x="42" y="213"/>
                  </a:lnTo>
                  <a:lnTo>
                    <a:pt x="64" y="213"/>
                  </a:lnTo>
                  <a:lnTo>
                    <a:pt x="85" y="192"/>
                  </a:lnTo>
                  <a:lnTo>
                    <a:pt x="106" y="192"/>
                  </a:lnTo>
                  <a:lnTo>
                    <a:pt x="106" y="171"/>
                  </a:lnTo>
                  <a:lnTo>
                    <a:pt x="106" y="149"/>
                  </a:lnTo>
                  <a:lnTo>
                    <a:pt x="127" y="127"/>
                  </a:lnTo>
                  <a:lnTo>
                    <a:pt x="127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4378320" y="1819440"/>
              <a:ext cx="47520" cy="88560"/>
            </a:xfrm>
            <a:custGeom>
              <a:avLst/>
              <a:gdLst/>
              <a:ahLst/>
              <a:rect l="l" t="t" r="r" b="b"/>
              <a:pathLst>
                <a:path w="149" h="278">
                  <a:moveTo>
                    <a:pt x="64" y="278"/>
                  </a:moveTo>
                  <a:lnTo>
                    <a:pt x="85" y="278"/>
                  </a:lnTo>
                  <a:lnTo>
                    <a:pt x="106" y="256"/>
                  </a:lnTo>
                  <a:lnTo>
                    <a:pt x="127" y="256"/>
                  </a:lnTo>
                  <a:lnTo>
                    <a:pt x="127" y="234"/>
                  </a:lnTo>
                  <a:lnTo>
                    <a:pt x="149" y="214"/>
                  </a:lnTo>
                  <a:lnTo>
                    <a:pt x="149" y="192"/>
                  </a:lnTo>
                  <a:lnTo>
                    <a:pt x="149" y="149"/>
                  </a:lnTo>
                  <a:lnTo>
                    <a:pt x="149" y="129"/>
                  </a:lnTo>
                  <a:lnTo>
                    <a:pt x="149" y="86"/>
                  </a:lnTo>
                  <a:lnTo>
                    <a:pt x="127" y="44"/>
                  </a:lnTo>
                  <a:lnTo>
                    <a:pt x="127" y="2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0" y="22"/>
                  </a:lnTo>
                  <a:lnTo>
                    <a:pt x="21" y="234"/>
                  </a:lnTo>
                  <a:lnTo>
                    <a:pt x="21" y="256"/>
                  </a:lnTo>
                  <a:lnTo>
                    <a:pt x="42" y="278"/>
                  </a:lnTo>
                  <a:lnTo>
                    <a:pt x="64" y="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4459320" y="1650960"/>
              <a:ext cx="135000" cy="276120"/>
            </a:xfrm>
            <a:custGeom>
              <a:avLst/>
              <a:gdLst/>
              <a:ahLst/>
              <a:rect l="l" t="t" r="r" b="b"/>
              <a:pathLst>
                <a:path w="426" h="873">
                  <a:moveTo>
                    <a:pt x="42" y="873"/>
                  </a:moveTo>
                  <a:lnTo>
                    <a:pt x="42" y="766"/>
                  </a:lnTo>
                  <a:lnTo>
                    <a:pt x="63" y="746"/>
                  </a:lnTo>
                  <a:lnTo>
                    <a:pt x="85" y="724"/>
                  </a:lnTo>
                  <a:lnTo>
                    <a:pt x="85" y="703"/>
                  </a:lnTo>
                  <a:lnTo>
                    <a:pt x="85" y="639"/>
                  </a:lnTo>
                  <a:lnTo>
                    <a:pt x="63" y="255"/>
                  </a:lnTo>
                  <a:lnTo>
                    <a:pt x="63" y="192"/>
                  </a:lnTo>
                  <a:lnTo>
                    <a:pt x="63" y="17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43"/>
                  </a:lnTo>
                  <a:lnTo>
                    <a:pt x="212" y="0"/>
                  </a:lnTo>
                  <a:lnTo>
                    <a:pt x="212" y="85"/>
                  </a:lnTo>
                  <a:lnTo>
                    <a:pt x="192" y="106"/>
                  </a:lnTo>
                  <a:lnTo>
                    <a:pt x="170" y="128"/>
                  </a:lnTo>
                  <a:lnTo>
                    <a:pt x="170" y="170"/>
                  </a:lnTo>
                  <a:lnTo>
                    <a:pt x="170" y="235"/>
                  </a:lnTo>
                  <a:lnTo>
                    <a:pt x="192" y="639"/>
                  </a:lnTo>
                  <a:lnTo>
                    <a:pt x="192" y="681"/>
                  </a:lnTo>
                  <a:lnTo>
                    <a:pt x="192" y="703"/>
                  </a:lnTo>
                  <a:lnTo>
                    <a:pt x="212" y="724"/>
                  </a:lnTo>
                  <a:lnTo>
                    <a:pt x="234" y="724"/>
                  </a:lnTo>
                  <a:lnTo>
                    <a:pt x="255" y="703"/>
                  </a:lnTo>
                  <a:lnTo>
                    <a:pt x="277" y="681"/>
                  </a:lnTo>
                  <a:lnTo>
                    <a:pt x="297" y="661"/>
                  </a:lnTo>
                  <a:lnTo>
                    <a:pt x="319" y="639"/>
                  </a:lnTo>
                  <a:lnTo>
                    <a:pt x="341" y="596"/>
                  </a:lnTo>
                  <a:lnTo>
                    <a:pt x="362" y="554"/>
                  </a:lnTo>
                  <a:lnTo>
                    <a:pt x="362" y="511"/>
                  </a:lnTo>
                  <a:lnTo>
                    <a:pt x="383" y="469"/>
                  </a:lnTo>
                  <a:lnTo>
                    <a:pt x="426" y="490"/>
                  </a:lnTo>
                  <a:lnTo>
                    <a:pt x="362" y="810"/>
                  </a:lnTo>
                  <a:lnTo>
                    <a:pt x="42" y="873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4587840" y="1616040"/>
              <a:ext cx="135000" cy="284040"/>
            </a:xfrm>
            <a:custGeom>
              <a:avLst/>
              <a:gdLst/>
              <a:ahLst/>
              <a:rect l="l" t="t" r="r" b="b"/>
              <a:pathLst>
                <a:path w="426" h="895">
                  <a:moveTo>
                    <a:pt x="192" y="362"/>
                  </a:moveTo>
                  <a:lnTo>
                    <a:pt x="214" y="362"/>
                  </a:lnTo>
                  <a:lnTo>
                    <a:pt x="214" y="342"/>
                  </a:lnTo>
                  <a:lnTo>
                    <a:pt x="234" y="299"/>
                  </a:lnTo>
                  <a:lnTo>
                    <a:pt x="234" y="213"/>
                  </a:lnTo>
                  <a:lnTo>
                    <a:pt x="277" y="213"/>
                  </a:lnTo>
                  <a:lnTo>
                    <a:pt x="299" y="597"/>
                  </a:lnTo>
                  <a:lnTo>
                    <a:pt x="256" y="597"/>
                  </a:lnTo>
                  <a:lnTo>
                    <a:pt x="234" y="533"/>
                  </a:lnTo>
                  <a:lnTo>
                    <a:pt x="234" y="491"/>
                  </a:lnTo>
                  <a:lnTo>
                    <a:pt x="214" y="469"/>
                  </a:lnTo>
                  <a:lnTo>
                    <a:pt x="192" y="469"/>
                  </a:lnTo>
                  <a:lnTo>
                    <a:pt x="171" y="469"/>
                  </a:lnTo>
                  <a:lnTo>
                    <a:pt x="171" y="683"/>
                  </a:lnTo>
                  <a:lnTo>
                    <a:pt x="171" y="725"/>
                  </a:lnTo>
                  <a:lnTo>
                    <a:pt x="192" y="746"/>
                  </a:lnTo>
                  <a:lnTo>
                    <a:pt x="214" y="746"/>
                  </a:lnTo>
                  <a:lnTo>
                    <a:pt x="256" y="746"/>
                  </a:lnTo>
                  <a:lnTo>
                    <a:pt x="277" y="725"/>
                  </a:lnTo>
                  <a:lnTo>
                    <a:pt x="299" y="703"/>
                  </a:lnTo>
                  <a:lnTo>
                    <a:pt x="319" y="683"/>
                  </a:lnTo>
                  <a:lnTo>
                    <a:pt x="341" y="639"/>
                  </a:lnTo>
                  <a:lnTo>
                    <a:pt x="363" y="597"/>
                  </a:lnTo>
                  <a:lnTo>
                    <a:pt x="384" y="554"/>
                  </a:lnTo>
                  <a:lnTo>
                    <a:pt x="384" y="512"/>
                  </a:lnTo>
                  <a:lnTo>
                    <a:pt x="426" y="533"/>
                  </a:lnTo>
                  <a:lnTo>
                    <a:pt x="384" y="831"/>
                  </a:lnTo>
                  <a:lnTo>
                    <a:pt x="22" y="895"/>
                  </a:lnTo>
                  <a:lnTo>
                    <a:pt x="22" y="788"/>
                  </a:lnTo>
                  <a:lnTo>
                    <a:pt x="43" y="788"/>
                  </a:lnTo>
                  <a:lnTo>
                    <a:pt x="64" y="768"/>
                  </a:lnTo>
                  <a:lnTo>
                    <a:pt x="64" y="746"/>
                  </a:lnTo>
                  <a:lnTo>
                    <a:pt x="64" y="703"/>
                  </a:lnTo>
                  <a:lnTo>
                    <a:pt x="43" y="235"/>
                  </a:lnTo>
                  <a:lnTo>
                    <a:pt x="43" y="192"/>
                  </a:lnTo>
                  <a:lnTo>
                    <a:pt x="43" y="171"/>
                  </a:lnTo>
                  <a:lnTo>
                    <a:pt x="22" y="171"/>
                  </a:lnTo>
                  <a:lnTo>
                    <a:pt x="0" y="171"/>
                  </a:lnTo>
                  <a:lnTo>
                    <a:pt x="0" y="65"/>
                  </a:lnTo>
                  <a:lnTo>
                    <a:pt x="341" y="0"/>
                  </a:lnTo>
                  <a:lnTo>
                    <a:pt x="405" y="257"/>
                  </a:lnTo>
                  <a:lnTo>
                    <a:pt x="363" y="299"/>
                  </a:lnTo>
                  <a:lnTo>
                    <a:pt x="341" y="257"/>
                  </a:lnTo>
                  <a:lnTo>
                    <a:pt x="341" y="235"/>
                  </a:lnTo>
                  <a:lnTo>
                    <a:pt x="319" y="192"/>
                  </a:lnTo>
                  <a:lnTo>
                    <a:pt x="299" y="171"/>
                  </a:lnTo>
                  <a:lnTo>
                    <a:pt x="277" y="150"/>
                  </a:lnTo>
                  <a:lnTo>
                    <a:pt x="256" y="150"/>
                  </a:lnTo>
                  <a:lnTo>
                    <a:pt x="234" y="128"/>
                  </a:lnTo>
                  <a:lnTo>
                    <a:pt x="214" y="128"/>
                  </a:lnTo>
                  <a:lnTo>
                    <a:pt x="192" y="150"/>
                  </a:lnTo>
                  <a:lnTo>
                    <a:pt x="171" y="150"/>
                  </a:lnTo>
                  <a:lnTo>
                    <a:pt x="149" y="171"/>
                  </a:lnTo>
                  <a:lnTo>
                    <a:pt x="149" y="213"/>
                  </a:lnTo>
                  <a:lnTo>
                    <a:pt x="149" y="362"/>
                  </a:lnTo>
                  <a:lnTo>
                    <a:pt x="192" y="36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046400" y="1285920"/>
              <a:ext cx="244440" cy="108000"/>
            </a:xfrm>
            <a:custGeom>
              <a:avLst/>
              <a:gdLst/>
              <a:ahLst/>
              <a:rect l="l" t="t" r="r" b="b"/>
              <a:pathLst>
                <a:path w="767" h="341">
                  <a:moveTo>
                    <a:pt x="767" y="0"/>
                  </a:moveTo>
                  <a:lnTo>
                    <a:pt x="660" y="20"/>
                  </a:lnTo>
                  <a:lnTo>
                    <a:pt x="575" y="42"/>
                  </a:lnTo>
                  <a:lnTo>
                    <a:pt x="490" y="64"/>
                  </a:lnTo>
                  <a:lnTo>
                    <a:pt x="426" y="85"/>
                  </a:lnTo>
                  <a:lnTo>
                    <a:pt x="362" y="106"/>
                  </a:lnTo>
                  <a:lnTo>
                    <a:pt x="298" y="149"/>
                  </a:lnTo>
                  <a:lnTo>
                    <a:pt x="234" y="170"/>
                  </a:lnTo>
                  <a:lnTo>
                    <a:pt x="192" y="191"/>
                  </a:lnTo>
                  <a:lnTo>
                    <a:pt x="149" y="212"/>
                  </a:lnTo>
                  <a:lnTo>
                    <a:pt x="107" y="234"/>
                  </a:lnTo>
                  <a:lnTo>
                    <a:pt x="64" y="256"/>
                  </a:lnTo>
                  <a:lnTo>
                    <a:pt x="42" y="276"/>
                  </a:lnTo>
                  <a:lnTo>
                    <a:pt x="22" y="276"/>
                  </a:lnTo>
                  <a:lnTo>
                    <a:pt x="0" y="298"/>
                  </a:lnTo>
                  <a:lnTo>
                    <a:pt x="42" y="341"/>
                  </a:lnTo>
                  <a:lnTo>
                    <a:pt x="85" y="319"/>
                  </a:lnTo>
                  <a:lnTo>
                    <a:pt x="107" y="298"/>
                  </a:lnTo>
                  <a:lnTo>
                    <a:pt x="127" y="276"/>
                  </a:lnTo>
                  <a:lnTo>
                    <a:pt x="170" y="256"/>
                  </a:lnTo>
                  <a:lnTo>
                    <a:pt x="212" y="234"/>
                  </a:lnTo>
                  <a:lnTo>
                    <a:pt x="256" y="212"/>
                  </a:lnTo>
                  <a:lnTo>
                    <a:pt x="319" y="191"/>
                  </a:lnTo>
                  <a:lnTo>
                    <a:pt x="383" y="170"/>
                  </a:lnTo>
                  <a:lnTo>
                    <a:pt x="448" y="149"/>
                  </a:lnTo>
                  <a:lnTo>
                    <a:pt x="511" y="127"/>
                  </a:lnTo>
                  <a:lnTo>
                    <a:pt x="596" y="85"/>
                  </a:lnTo>
                  <a:lnTo>
                    <a:pt x="682" y="85"/>
                  </a:lnTo>
                  <a:lnTo>
                    <a:pt x="767" y="64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9" name=""/>
          <p:cNvGrpSpPr/>
          <p:nvPr/>
        </p:nvGrpSpPr>
        <p:grpSpPr>
          <a:xfrm>
            <a:off x="3655440" y="835200"/>
            <a:ext cx="1895040" cy="1486800"/>
            <a:chOff x="3655440" y="835200"/>
            <a:chExt cx="1895040" cy="1486800"/>
          </a:xfrm>
        </p:grpSpPr>
        <p:sp>
          <p:nvSpPr>
            <p:cNvPr id="6030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3" y="506"/>
                  </a:moveTo>
                  <a:lnTo>
                    <a:pt x="899" y="506"/>
                  </a:lnTo>
                  <a:lnTo>
                    <a:pt x="878" y="508"/>
                  </a:lnTo>
                  <a:lnTo>
                    <a:pt x="855" y="510"/>
                  </a:lnTo>
                  <a:lnTo>
                    <a:pt x="834" y="514"/>
                  </a:lnTo>
                  <a:lnTo>
                    <a:pt x="814" y="518"/>
                  </a:lnTo>
                  <a:lnTo>
                    <a:pt x="793" y="525"/>
                  </a:lnTo>
                  <a:lnTo>
                    <a:pt x="773" y="531"/>
                  </a:lnTo>
                  <a:lnTo>
                    <a:pt x="753" y="539"/>
                  </a:lnTo>
                  <a:lnTo>
                    <a:pt x="734" y="547"/>
                  </a:lnTo>
                  <a:lnTo>
                    <a:pt x="715" y="557"/>
                  </a:lnTo>
                  <a:lnTo>
                    <a:pt x="697" y="567"/>
                  </a:lnTo>
                  <a:lnTo>
                    <a:pt x="680" y="579"/>
                  </a:lnTo>
                  <a:lnTo>
                    <a:pt x="662" y="592"/>
                  </a:lnTo>
                  <a:lnTo>
                    <a:pt x="646" y="605"/>
                  </a:lnTo>
                  <a:lnTo>
                    <a:pt x="630" y="621"/>
                  </a:lnTo>
                  <a:lnTo>
                    <a:pt x="613" y="636"/>
                  </a:lnTo>
                  <a:lnTo>
                    <a:pt x="599" y="652"/>
                  </a:lnTo>
                  <a:lnTo>
                    <a:pt x="585" y="670"/>
                  </a:lnTo>
                  <a:lnTo>
                    <a:pt x="572" y="687"/>
                  </a:lnTo>
                  <a:lnTo>
                    <a:pt x="559" y="705"/>
                  </a:lnTo>
                  <a:lnTo>
                    <a:pt x="548" y="724"/>
                  </a:lnTo>
                  <a:lnTo>
                    <a:pt x="538" y="742"/>
                  </a:lnTo>
                  <a:lnTo>
                    <a:pt x="529" y="761"/>
                  </a:lnTo>
                  <a:lnTo>
                    <a:pt x="520" y="782"/>
                  </a:lnTo>
                  <a:lnTo>
                    <a:pt x="513" y="802"/>
                  </a:lnTo>
                  <a:lnTo>
                    <a:pt x="507" y="823"/>
                  </a:lnTo>
                  <a:lnTo>
                    <a:pt x="501" y="844"/>
                  </a:lnTo>
                  <a:lnTo>
                    <a:pt x="497" y="865"/>
                  </a:lnTo>
                  <a:lnTo>
                    <a:pt x="494" y="888"/>
                  </a:lnTo>
                  <a:lnTo>
                    <a:pt x="492" y="910"/>
                  </a:lnTo>
                  <a:lnTo>
                    <a:pt x="490" y="934"/>
                  </a:lnTo>
                  <a:lnTo>
                    <a:pt x="490" y="957"/>
                  </a:lnTo>
                  <a:lnTo>
                    <a:pt x="490" y="981"/>
                  </a:lnTo>
                  <a:lnTo>
                    <a:pt x="491" y="1004"/>
                  </a:lnTo>
                  <a:lnTo>
                    <a:pt x="494" y="1027"/>
                  </a:lnTo>
                  <a:lnTo>
                    <a:pt x="497" y="1049"/>
                  </a:lnTo>
                  <a:lnTo>
                    <a:pt x="501" y="1071"/>
                  </a:lnTo>
                  <a:lnTo>
                    <a:pt x="507" y="1092"/>
                  </a:lnTo>
                  <a:lnTo>
                    <a:pt x="513" y="1114"/>
                  </a:lnTo>
                  <a:lnTo>
                    <a:pt x="520" y="1133"/>
                  </a:lnTo>
                  <a:lnTo>
                    <a:pt x="529" y="1153"/>
                  </a:lnTo>
                  <a:lnTo>
                    <a:pt x="538" y="1173"/>
                  </a:lnTo>
                  <a:lnTo>
                    <a:pt x="548" y="1191"/>
                  </a:lnTo>
                  <a:lnTo>
                    <a:pt x="559" y="1209"/>
                  </a:lnTo>
                  <a:lnTo>
                    <a:pt x="572" y="1228"/>
                  </a:lnTo>
                  <a:lnTo>
                    <a:pt x="584" y="1245"/>
                  </a:lnTo>
                  <a:lnTo>
                    <a:pt x="598" y="1261"/>
                  </a:lnTo>
                  <a:lnTo>
                    <a:pt x="613" y="1278"/>
                  </a:lnTo>
                  <a:lnTo>
                    <a:pt x="629" y="1294"/>
                  </a:lnTo>
                  <a:lnTo>
                    <a:pt x="645" y="1308"/>
                  </a:lnTo>
                  <a:lnTo>
                    <a:pt x="662" y="1323"/>
                  </a:lnTo>
                  <a:lnTo>
                    <a:pt x="679" y="1335"/>
                  </a:lnTo>
                  <a:lnTo>
                    <a:pt x="697" y="1346"/>
                  </a:lnTo>
                  <a:lnTo>
                    <a:pt x="714" y="1357"/>
                  </a:lnTo>
                  <a:lnTo>
                    <a:pt x="734" y="1367"/>
                  </a:lnTo>
                  <a:lnTo>
                    <a:pt x="752" y="1376"/>
                  </a:lnTo>
                  <a:lnTo>
                    <a:pt x="772" y="1383"/>
                  </a:lnTo>
                  <a:lnTo>
                    <a:pt x="792" y="1389"/>
                  </a:lnTo>
                  <a:lnTo>
                    <a:pt x="812" y="1395"/>
                  </a:lnTo>
                  <a:lnTo>
                    <a:pt x="834" y="1399"/>
                  </a:lnTo>
                  <a:lnTo>
                    <a:pt x="855" y="1403"/>
                  </a:lnTo>
                  <a:lnTo>
                    <a:pt x="877" y="1405"/>
                  </a:lnTo>
                  <a:lnTo>
                    <a:pt x="899" y="1407"/>
                  </a:lnTo>
                  <a:lnTo>
                    <a:pt x="923" y="1407"/>
                  </a:lnTo>
                  <a:lnTo>
                    <a:pt x="945" y="1407"/>
                  </a:lnTo>
                  <a:lnTo>
                    <a:pt x="968" y="1405"/>
                  </a:lnTo>
                  <a:lnTo>
                    <a:pt x="989" y="1403"/>
                  </a:lnTo>
                  <a:lnTo>
                    <a:pt x="1011" y="1399"/>
                  </a:lnTo>
                  <a:lnTo>
                    <a:pt x="1032" y="1395"/>
                  </a:lnTo>
                  <a:lnTo>
                    <a:pt x="1052" y="1389"/>
                  </a:lnTo>
                  <a:lnTo>
                    <a:pt x="1072" y="1383"/>
                  </a:lnTo>
                  <a:lnTo>
                    <a:pt x="1092" y="1375"/>
                  </a:lnTo>
                  <a:lnTo>
                    <a:pt x="1111" y="1367"/>
                  </a:lnTo>
                  <a:lnTo>
                    <a:pt x="1129" y="1357"/>
                  </a:lnTo>
                  <a:lnTo>
                    <a:pt x="1147" y="1346"/>
                  </a:lnTo>
                  <a:lnTo>
                    <a:pt x="1165" y="1335"/>
                  </a:lnTo>
                  <a:lnTo>
                    <a:pt x="1182" y="1322"/>
                  </a:lnTo>
                  <a:lnTo>
                    <a:pt x="1200" y="1308"/>
                  </a:lnTo>
                  <a:lnTo>
                    <a:pt x="1216" y="1293"/>
                  </a:lnTo>
                  <a:lnTo>
                    <a:pt x="1231" y="1278"/>
                  </a:lnTo>
                  <a:lnTo>
                    <a:pt x="1246" y="1261"/>
                  </a:lnTo>
                  <a:lnTo>
                    <a:pt x="1261" y="1244"/>
                  </a:lnTo>
                  <a:lnTo>
                    <a:pt x="1273" y="1227"/>
                  </a:lnTo>
                  <a:lnTo>
                    <a:pt x="1285" y="1209"/>
                  </a:lnTo>
                  <a:lnTo>
                    <a:pt x="1297" y="1191"/>
                  </a:lnTo>
                  <a:lnTo>
                    <a:pt x="1307" y="1172"/>
                  </a:lnTo>
                  <a:lnTo>
                    <a:pt x="1316" y="1152"/>
                  </a:lnTo>
                  <a:lnTo>
                    <a:pt x="1325" y="1133"/>
                  </a:lnTo>
                  <a:lnTo>
                    <a:pt x="1332" y="1112"/>
                  </a:lnTo>
                  <a:lnTo>
                    <a:pt x="1338" y="1092"/>
                  </a:lnTo>
                  <a:lnTo>
                    <a:pt x="1343" y="1071"/>
                  </a:lnTo>
                  <a:lnTo>
                    <a:pt x="1348" y="1049"/>
                  </a:lnTo>
                  <a:lnTo>
                    <a:pt x="1352" y="1027"/>
                  </a:lnTo>
                  <a:lnTo>
                    <a:pt x="1354" y="1004"/>
                  </a:lnTo>
                  <a:lnTo>
                    <a:pt x="1356" y="981"/>
                  </a:lnTo>
                  <a:lnTo>
                    <a:pt x="1356" y="957"/>
                  </a:lnTo>
                  <a:lnTo>
                    <a:pt x="1356" y="934"/>
                  </a:lnTo>
                  <a:lnTo>
                    <a:pt x="1354" y="910"/>
                  </a:lnTo>
                  <a:lnTo>
                    <a:pt x="1352" y="888"/>
                  </a:lnTo>
                  <a:lnTo>
                    <a:pt x="1348" y="867"/>
                  </a:lnTo>
                  <a:lnTo>
                    <a:pt x="1343" y="844"/>
                  </a:lnTo>
                  <a:lnTo>
                    <a:pt x="1338" y="824"/>
                  </a:lnTo>
                  <a:lnTo>
                    <a:pt x="1332" y="802"/>
                  </a:lnTo>
                  <a:lnTo>
                    <a:pt x="1325" y="782"/>
                  </a:lnTo>
                  <a:lnTo>
                    <a:pt x="1316" y="762"/>
                  </a:lnTo>
                  <a:lnTo>
                    <a:pt x="1307" y="743"/>
                  </a:lnTo>
                  <a:lnTo>
                    <a:pt x="1297" y="725"/>
                  </a:lnTo>
                  <a:lnTo>
                    <a:pt x="1285" y="706"/>
                  </a:lnTo>
                  <a:lnTo>
                    <a:pt x="1273" y="688"/>
                  </a:lnTo>
                  <a:lnTo>
                    <a:pt x="1261" y="671"/>
                  </a:lnTo>
                  <a:lnTo>
                    <a:pt x="1246" y="653"/>
                  </a:lnTo>
                  <a:lnTo>
                    <a:pt x="1231" y="637"/>
                  </a:lnTo>
                  <a:lnTo>
                    <a:pt x="1216" y="621"/>
                  </a:lnTo>
                  <a:lnTo>
                    <a:pt x="1200" y="606"/>
                  </a:lnTo>
                  <a:lnTo>
                    <a:pt x="1182" y="593"/>
                  </a:lnTo>
                  <a:lnTo>
                    <a:pt x="1165" y="580"/>
                  </a:lnTo>
                  <a:lnTo>
                    <a:pt x="1147" y="568"/>
                  </a:lnTo>
                  <a:lnTo>
                    <a:pt x="1129" y="557"/>
                  </a:lnTo>
                  <a:lnTo>
                    <a:pt x="1111" y="547"/>
                  </a:lnTo>
                  <a:lnTo>
                    <a:pt x="1092" y="539"/>
                  </a:lnTo>
                  <a:lnTo>
                    <a:pt x="1072" y="531"/>
                  </a:lnTo>
                  <a:lnTo>
                    <a:pt x="1052" y="525"/>
                  </a:lnTo>
                  <a:lnTo>
                    <a:pt x="1032" y="518"/>
                  </a:lnTo>
                  <a:lnTo>
                    <a:pt x="1011" y="514"/>
                  </a:lnTo>
                  <a:lnTo>
                    <a:pt x="989" y="510"/>
                  </a:lnTo>
                  <a:lnTo>
                    <a:pt x="968" y="508"/>
                  </a:lnTo>
                  <a:lnTo>
                    <a:pt x="945" y="506"/>
                  </a:lnTo>
                  <a:lnTo>
                    <a:pt x="923" y="506"/>
                  </a:lnTo>
                  <a:close/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55440" y="1620720"/>
              <a:ext cx="18950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600" spc="-1" strike="noStrike">
                  <a:solidFill>
                    <a:srgbClr val="1f1a17"/>
                  </a:solidFill>
                  <a:latin typeface="Geometr231 Hv BT"/>
                </a:rPr>
                <a:t>IS NOT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214880" y="995400"/>
              <a:ext cx="274680" cy="285840"/>
            </a:xfrm>
            <a:custGeom>
              <a:avLst/>
              <a:gdLst/>
              <a:ahLst/>
              <a:rect l="l" t="t" r="r" b="b"/>
              <a:pathLst>
                <a:path w="866" h="901">
                  <a:moveTo>
                    <a:pt x="433" y="0"/>
                  </a:moveTo>
                  <a:lnTo>
                    <a:pt x="409" y="0"/>
                  </a:lnTo>
                  <a:lnTo>
                    <a:pt x="388" y="2"/>
                  </a:lnTo>
                  <a:lnTo>
                    <a:pt x="365" y="4"/>
                  </a:lnTo>
                  <a:lnTo>
                    <a:pt x="344" y="8"/>
                  </a:lnTo>
                  <a:lnTo>
                    <a:pt x="324" y="12"/>
                  </a:lnTo>
                  <a:lnTo>
                    <a:pt x="303" y="19"/>
                  </a:lnTo>
                  <a:lnTo>
                    <a:pt x="283" y="25"/>
                  </a:lnTo>
                  <a:lnTo>
                    <a:pt x="263" y="33"/>
                  </a:lnTo>
                  <a:lnTo>
                    <a:pt x="244" y="41"/>
                  </a:lnTo>
                  <a:lnTo>
                    <a:pt x="225" y="51"/>
                  </a:lnTo>
                  <a:lnTo>
                    <a:pt x="207" y="61"/>
                  </a:lnTo>
                  <a:lnTo>
                    <a:pt x="190" y="73"/>
                  </a:lnTo>
                  <a:lnTo>
                    <a:pt x="172" y="86"/>
                  </a:lnTo>
                  <a:lnTo>
                    <a:pt x="156" y="99"/>
                  </a:lnTo>
                  <a:lnTo>
                    <a:pt x="140" y="115"/>
                  </a:lnTo>
                  <a:lnTo>
                    <a:pt x="123" y="130"/>
                  </a:lnTo>
                  <a:lnTo>
                    <a:pt x="109" y="146"/>
                  </a:lnTo>
                  <a:lnTo>
                    <a:pt x="95" y="164"/>
                  </a:lnTo>
                  <a:lnTo>
                    <a:pt x="82" y="181"/>
                  </a:lnTo>
                  <a:lnTo>
                    <a:pt x="69" y="199"/>
                  </a:lnTo>
                  <a:lnTo>
                    <a:pt x="58" y="218"/>
                  </a:lnTo>
                  <a:lnTo>
                    <a:pt x="48" y="236"/>
                  </a:lnTo>
                  <a:lnTo>
                    <a:pt x="39" y="255"/>
                  </a:lnTo>
                  <a:lnTo>
                    <a:pt x="30" y="276"/>
                  </a:lnTo>
                  <a:lnTo>
                    <a:pt x="23" y="296"/>
                  </a:lnTo>
                  <a:lnTo>
                    <a:pt x="17" y="317"/>
                  </a:lnTo>
                  <a:lnTo>
                    <a:pt x="11" y="338"/>
                  </a:lnTo>
                  <a:lnTo>
                    <a:pt x="7" y="359"/>
                  </a:lnTo>
                  <a:lnTo>
                    <a:pt x="4" y="382"/>
                  </a:lnTo>
                  <a:lnTo>
                    <a:pt x="2" y="404"/>
                  </a:lnTo>
                  <a:lnTo>
                    <a:pt x="0" y="428"/>
                  </a:lnTo>
                  <a:lnTo>
                    <a:pt x="0" y="451"/>
                  </a:lnTo>
                  <a:lnTo>
                    <a:pt x="0" y="475"/>
                  </a:lnTo>
                  <a:lnTo>
                    <a:pt x="1" y="498"/>
                  </a:lnTo>
                  <a:lnTo>
                    <a:pt x="4" y="521"/>
                  </a:lnTo>
                  <a:lnTo>
                    <a:pt x="7" y="543"/>
                  </a:lnTo>
                  <a:lnTo>
                    <a:pt x="11" y="565"/>
                  </a:lnTo>
                  <a:lnTo>
                    <a:pt x="17" y="586"/>
                  </a:lnTo>
                  <a:lnTo>
                    <a:pt x="23" y="608"/>
                  </a:lnTo>
                  <a:lnTo>
                    <a:pt x="30" y="627"/>
                  </a:lnTo>
                  <a:lnTo>
                    <a:pt x="39" y="647"/>
                  </a:lnTo>
                  <a:lnTo>
                    <a:pt x="48" y="667"/>
                  </a:lnTo>
                  <a:lnTo>
                    <a:pt x="58" y="685"/>
                  </a:lnTo>
                  <a:lnTo>
                    <a:pt x="69" y="703"/>
                  </a:lnTo>
                  <a:lnTo>
                    <a:pt x="82" y="722"/>
                  </a:lnTo>
                  <a:lnTo>
                    <a:pt x="94" y="739"/>
                  </a:lnTo>
                  <a:lnTo>
                    <a:pt x="108" y="755"/>
                  </a:lnTo>
                  <a:lnTo>
                    <a:pt x="123" y="772"/>
                  </a:lnTo>
                  <a:lnTo>
                    <a:pt x="139" y="788"/>
                  </a:lnTo>
                  <a:lnTo>
                    <a:pt x="155" y="802"/>
                  </a:lnTo>
                  <a:lnTo>
                    <a:pt x="172" y="817"/>
                  </a:lnTo>
                  <a:lnTo>
                    <a:pt x="189" y="829"/>
                  </a:lnTo>
                  <a:lnTo>
                    <a:pt x="207" y="840"/>
                  </a:lnTo>
                  <a:lnTo>
                    <a:pt x="224" y="851"/>
                  </a:lnTo>
                  <a:lnTo>
                    <a:pt x="244" y="861"/>
                  </a:lnTo>
                  <a:lnTo>
                    <a:pt x="262" y="870"/>
                  </a:lnTo>
                  <a:lnTo>
                    <a:pt x="282" y="877"/>
                  </a:lnTo>
                  <a:lnTo>
                    <a:pt x="302" y="883"/>
                  </a:lnTo>
                  <a:lnTo>
                    <a:pt x="322" y="889"/>
                  </a:lnTo>
                  <a:lnTo>
                    <a:pt x="344" y="893"/>
                  </a:lnTo>
                  <a:lnTo>
                    <a:pt x="365" y="897"/>
                  </a:lnTo>
                  <a:lnTo>
                    <a:pt x="387" y="899"/>
                  </a:lnTo>
                  <a:lnTo>
                    <a:pt x="409" y="901"/>
                  </a:lnTo>
                  <a:lnTo>
                    <a:pt x="433" y="901"/>
                  </a:lnTo>
                  <a:lnTo>
                    <a:pt x="455" y="901"/>
                  </a:lnTo>
                  <a:lnTo>
                    <a:pt x="478" y="899"/>
                  </a:lnTo>
                  <a:lnTo>
                    <a:pt x="499" y="897"/>
                  </a:lnTo>
                  <a:lnTo>
                    <a:pt x="521" y="893"/>
                  </a:lnTo>
                  <a:lnTo>
                    <a:pt x="542" y="889"/>
                  </a:lnTo>
                  <a:lnTo>
                    <a:pt x="562" y="883"/>
                  </a:lnTo>
                  <a:lnTo>
                    <a:pt x="582" y="877"/>
                  </a:lnTo>
                  <a:lnTo>
                    <a:pt x="602" y="869"/>
                  </a:lnTo>
                  <a:lnTo>
                    <a:pt x="621" y="861"/>
                  </a:lnTo>
                  <a:lnTo>
                    <a:pt x="639" y="851"/>
                  </a:lnTo>
                  <a:lnTo>
                    <a:pt x="657" y="840"/>
                  </a:lnTo>
                  <a:lnTo>
                    <a:pt x="675" y="829"/>
                  </a:lnTo>
                  <a:lnTo>
                    <a:pt x="692" y="816"/>
                  </a:lnTo>
                  <a:lnTo>
                    <a:pt x="710" y="802"/>
                  </a:lnTo>
                  <a:lnTo>
                    <a:pt x="726" y="787"/>
                  </a:lnTo>
                  <a:lnTo>
                    <a:pt x="741" y="772"/>
                  </a:lnTo>
                  <a:lnTo>
                    <a:pt x="756" y="755"/>
                  </a:lnTo>
                  <a:lnTo>
                    <a:pt x="771" y="738"/>
                  </a:lnTo>
                  <a:lnTo>
                    <a:pt x="783" y="721"/>
                  </a:lnTo>
                  <a:lnTo>
                    <a:pt x="795" y="703"/>
                  </a:lnTo>
                  <a:lnTo>
                    <a:pt x="807" y="685"/>
                  </a:lnTo>
                  <a:lnTo>
                    <a:pt x="817" y="666"/>
                  </a:lnTo>
                  <a:lnTo>
                    <a:pt x="826" y="646"/>
                  </a:lnTo>
                  <a:lnTo>
                    <a:pt x="835" y="627"/>
                  </a:lnTo>
                  <a:lnTo>
                    <a:pt x="842" y="606"/>
                  </a:lnTo>
                  <a:lnTo>
                    <a:pt x="848" y="586"/>
                  </a:lnTo>
                  <a:lnTo>
                    <a:pt x="853" y="565"/>
                  </a:lnTo>
                  <a:lnTo>
                    <a:pt x="858" y="543"/>
                  </a:lnTo>
                  <a:lnTo>
                    <a:pt x="862" y="521"/>
                  </a:lnTo>
                  <a:lnTo>
                    <a:pt x="864" y="498"/>
                  </a:lnTo>
                  <a:lnTo>
                    <a:pt x="866" y="475"/>
                  </a:lnTo>
                  <a:lnTo>
                    <a:pt x="866" y="451"/>
                  </a:lnTo>
                  <a:lnTo>
                    <a:pt x="866" y="428"/>
                  </a:lnTo>
                  <a:lnTo>
                    <a:pt x="864" y="404"/>
                  </a:lnTo>
                  <a:lnTo>
                    <a:pt x="862" y="382"/>
                  </a:lnTo>
                  <a:lnTo>
                    <a:pt x="858" y="361"/>
                  </a:lnTo>
                  <a:lnTo>
                    <a:pt x="853" y="338"/>
                  </a:lnTo>
                  <a:lnTo>
                    <a:pt x="848" y="318"/>
                  </a:lnTo>
                  <a:lnTo>
                    <a:pt x="842" y="296"/>
                  </a:lnTo>
                  <a:lnTo>
                    <a:pt x="835" y="276"/>
                  </a:lnTo>
                  <a:lnTo>
                    <a:pt x="826" y="256"/>
                  </a:lnTo>
                  <a:lnTo>
                    <a:pt x="817" y="237"/>
                  </a:lnTo>
                  <a:lnTo>
                    <a:pt x="807" y="219"/>
                  </a:lnTo>
                  <a:lnTo>
                    <a:pt x="795" y="200"/>
                  </a:lnTo>
                  <a:lnTo>
                    <a:pt x="783" y="182"/>
                  </a:lnTo>
                  <a:lnTo>
                    <a:pt x="771" y="165"/>
                  </a:lnTo>
                  <a:lnTo>
                    <a:pt x="756" y="147"/>
                  </a:lnTo>
                  <a:lnTo>
                    <a:pt x="741" y="131"/>
                  </a:lnTo>
                  <a:lnTo>
                    <a:pt x="726" y="115"/>
                  </a:lnTo>
                  <a:lnTo>
                    <a:pt x="710" y="100"/>
                  </a:lnTo>
                  <a:lnTo>
                    <a:pt x="692" y="87"/>
                  </a:lnTo>
                  <a:lnTo>
                    <a:pt x="675" y="74"/>
                  </a:lnTo>
                  <a:lnTo>
                    <a:pt x="657" y="62"/>
                  </a:lnTo>
                  <a:lnTo>
                    <a:pt x="639" y="51"/>
                  </a:lnTo>
                  <a:lnTo>
                    <a:pt x="621" y="41"/>
                  </a:lnTo>
                  <a:lnTo>
                    <a:pt x="602" y="33"/>
                  </a:lnTo>
                  <a:lnTo>
                    <a:pt x="582" y="25"/>
                  </a:lnTo>
                  <a:lnTo>
                    <a:pt x="562" y="19"/>
                  </a:lnTo>
                  <a:lnTo>
                    <a:pt x="542" y="12"/>
                  </a:lnTo>
                  <a:lnTo>
                    <a:pt x="521" y="8"/>
                  </a:lnTo>
                  <a:lnTo>
                    <a:pt x="499" y="4"/>
                  </a:lnTo>
                  <a:lnTo>
                    <a:pt x="478" y="2"/>
                  </a:lnTo>
                  <a:lnTo>
                    <a:pt x="455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0" name=""/>
          <p:cNvGrpSpPr/>
          <p:nvPr/>
        </p:nvGrpSpPr>
        <p:grpSpPr>
          <a:xfrm>
            <a:off x="3598920" y="2514600"/>
            <a:ext cx="1965240" cy="596880"/>
            <a:chOff x="3598920" y="2514600"/>
            <a:chExt cx="1965240" cy="596880"/>
          </a:xfrm>
        </p:grpSpPr>
        <p:sp>
          <p:nvSpPr>
            <p:cNvPr id="6041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491004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16888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542592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491004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491004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516888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16888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542592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542592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6" name=""/>
          <p:cNvGrpSpPr/>
          <p:nvPr/>
        </p:nvGrpSpPr>
        <p:grpSpPr>
          <a:xfrm>
            <a:off x="3205080" y="3452760"/>
            <a:ext cx="2730600" cy="2567160"/>
            <a:chOff x="3205080" y="3452760"/>
            <a:chExt cx="2730600" cy="2567160"/>
          </a:xfrm>
        </p:grpSpPr>
        <p:sp>
          <p:nvSpPr>
            <p:cNvPr id="6057" name=""/>
            <p:cNvSpPr/>
            <p:nvPr/>
          </p:nvSpPr>
          <p:spPr>
            <a:xfrm>
              <a:off x="3205080" y="5678640"/>
              <a:ext cx="2730600" cy="34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4334040" y="3452760"/>
              <a:ext cx="122040" cy="9720"/>
            </a:xfrm>
            <a:custGeom>
              <a:avLst/>
              <a:gdLst/>
              <a:ahLst/>
              <a:rect l="l" t="t" r="r" b="b"/>
              <a:pathLst>
                <a:path w="384" h="29">
                  <a:moveTo>
                    <a:pt x="117" y="0"/>
                  </a:moveTo>
                  <a:lnTo>
                    <a:pt x="199" y="0"/>
                  </a:lnTo>
                  <a:lnTo>
                    <a:pt x="279" y="19"/>
                  </a:lnTo>
                  <a:lnTo>
                    <a:pt x="359" y="19"/>
                  </a:lnTo>
                  <a:lnTo>
                    <a:pt x="384" y="29"/>
                  </a:lnTo>
                  <a:lnTo>
                    <a:pt x="0" y="29"/>
                  </a:lnTo>
                  <a:lnTo>
                    <a:pt x="37" y="1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4303800" y="3452760"/>
              <a:ext cx="174600" cy="19080"/>
            </a:xfrm>
            <a:custGeom>
              <a:avLst/>
              <a:gdLst/>
              <a:ahLst/>
              <a:rect l="l" t="t" r="r" b="b"/>
              <a:pathLst>
                <a:path w="554" h="58">
                  <a:moveTo>
                    <a:pt x="215" y="0"/>
                  </a:moveTo>
                  <a:lnTo>
                    <a:pt x="297" y="0"/>
                  </a:lnTo>
                  <a:lnTo>
                    <a:pt x="377" y="19"/>
                  </a:lnTo>
                  <a:lnTo>
                    <a:pt x="457" y="19"/>
                  </a:lnTo>
                  <a:lnTo>
                    <a:pt x="554" y="58"/>
                  </a:lnTo>
                  <a:lnTo>
                    <a:pt x="0" y="58"/>
                  </a:lnTo>
                  <a:lnTo>
                    <a:pt x="54" y="40"/>
                  </a:lnTo>
                  <a:lnTo>
                    <a:pt x="135" y="1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4272120" y="3462480"/>
              <a:ext cx="222120" cy="19080"/>
            </a:xfrm>
            <a:custGeom>
              <a:avLst/>
              <a:gdLst/>
              <a:ahLst/>
              <a:rect l="l" t="t" r="r" b="b"/>
              <a:pathLst>
                <a:path w="696" h="58">
                  <a:moveTo>
                    <a:pt x="194" y="0"/>
                  </a:moveTo>
                  <a:lnTo>
                    <a:pt x="578" y="0"/>
                  </a:lnTo>
                  <a:lnTo>
                    <a:pt x="654" y="31"/>
                  </a:lnTo>
                  <a:lnTo>
                    <a:pt x="696" y="58"/>
                  </a:lnTo>
                  <a:lnTo>
                    <a:pt x="0" y="58"/>
                  </a:lnTo>
                  <a:lnTo>
                    <a:pt x="9" y="52"/>
                  </a:lnTo>
                  <a:lnTo>
                    <a:pt x="90" y="31"/>
                  </a:lnTo>
                  <a:lnTo>
                    <a:pt x="150" y="11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4257720" y="3471840"/>
              <a:ext cx="257040" cy="19080"/>
            </a:xfrm>
            <a:custGeom>
              <a:avLst/>
              <a:gdLst/>
              <a:ahLst/>
              <a:rect l="l" t="t" r="r" b="b"/>
              <a:pathLst>
                <a:path w="811" h="58">
                  <a:moveTo>
                    <a:pt x="142" y="0"/>
                  </a:moveTo>
                  <a:lnTo>
                    <a:pt x="696" y="0"/>
                  </a:lnTo>
                  <a:lnTo>
                    <a:pt x="700" y="2"/>
                  </a:lnTo>
                  <a:lnTo>
                    <a:pt x="762" y="43"/>
                  </a:lnTo>
                  <a:lnTo>
                    <a:pt x="811" y="58"/>
                  </a:lnTo>
                  <a:lnTo>
                    <a:pt x="0" y="58"/>
                  </a:lnTo>
                  <a:lnTo>
                    <a:pt x="55" y="23"/>
                  </a:lnTo>
                  <a:lnTo>
                    <a:pt x="136" y="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4245120" y="3481560"/>
              <a:ext cx="282600" cy="18720"/>
            </a:xfrm>
            <a:custGeom>
              <a:avLst/>
              <a:gdLst/>
              <a:ahLst/>
              <a:rect l="l" t="t" r="r" b="b"/>
              <a:pathLst>
                <a:path w="890" h="59">
                  <a:moveTo>
                    <a:pt x="89" y="0"/>
                  </a:moveTo>
                  <a:lnTo>
                    <a:pt x="785" y="0"/>
                  </a:lnTo>
                  <a:lnTo>
                    <a:pt x="805" y="14"/>
                  </a:lnTo>
                  <a:lnTo>
                    <a:pt x="865" y="33"/>
                  </a:lnTo>
                  <a:lnTo>
                    <a:pt x="890" y="59"/>
                  </a:lnTo>
                  <a:lnTo>
                    <a:pt x="0" y="59"/>
                  </a:lnTo>
                  <a:lnTo>
                    <a:pt x="38" y="3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4232160" y="3490920"/>
              <a:ext cx="303480" cy="17280"/>
            </a:xfrm>
            <a:custGeom>
              <a:avLst/>
              <a:gdLst/>
              <a:ahLst/>
              <a:rect l="l" t="t" r="r" b="b"/>
              <a:pathLst>
                <a:path w="956" h="58">
                  <a:moveTo>
                    <a:pt x="80" y="0"/>
                  </a:moveTo>
                  <a:lnTo>
                    <a:pt x="891" y="0"/>
                  </a:lnTo>
                  <a:lnTo>
                    <a:pt x="902" y="4"/>
                  </a:lnTo>
                  <a:lnTo>
                    <a:pt x="956" y="58"/>
                  </a:lnTo>
                  <a:lnTo>
                    <a:pt x="0" y="58"/>
                  </a:lnTo>
                  <a:lnTo>
                    <a:pt x="14" y="45"/>
                  </a:lnTo>
                  <a:lnTo>
                    <a:pt x="75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4230720" y="3500280"/>
              <a:ext cx="317520" cy="17640"/>
            </a:xfrm>
            <a:custGeom>
              <a:avLst/>
              <a:gdLst/>
              <a:ahLst/>
              <a:rect l="l" t="t" r="r" b="b"/>
              <a:pathLst>
                <a:path w="1002" h="58">
                  <a:moveTo>
                    <a:pt x="44" y="0"/>
                  </a:moveTo>
                  <a:lnTo>
                    <a:pt x="934" y="0"/>
                  </a:lnTo>
                  <a:lnTo>
                    <a:pt x="969" y="35"/>
                  </a:lnTo>
                  <a:lnTo>
                    <a:pt x="100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35"/>
                  </a:lnTo>
                  <a:lnTo>
                    <a:pt x="21" y="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4230720" y="3508200"/>
              <a:ext cx="330120" cy="19080"/>
            </a:xfrm>
            <a:custGeom>
              <a:avLst/>
              <a:gdLst/>
              <a:ahLst/>
              <a:rect l="l" t="t" r="r" b="b"/>
              <a:pathLst>
                <a:path w="1040" h="59">
                  <a:moveTo>
                    <a:pt x="7" y="0"/>
                  </a:moveTo>
                  <a:lnTo>
                    <a:pt x="963" y="0"/>
                  </a:lnTo>
                  <a:lnTo>
                    <a:pt x="969" y="7"/>
                  </a:lnTo>
                  <a:lnTo>
                    <a:pt x="1029" y="48"/>
                  </a:lnTo>
                  <a:lnTo>
                    <a:pt x="1040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4226040" y="3517920"/>
              <a:ext cx="344520" cy="19080"/>
            </a:xfrm>
            <a:custGeom>
              <a:avLst/>
              <a:gdLst/>
              <a:ahLst/>
              <a:rect l="l" t="t" r="r" b="b"/>
              <a:pathLst>
                <a:path w="1083" h="58">
                  <a:moveTo>
                    <a:pt x="12" y="0"/>
                  </a:moveTo>
                  <a:lnTo>
                    <a:pt x="1014" y="0"/>
                  </a:lnTo>
                  <a:lnTo>
                    <a:pt x="1041" y="18"/>
                  </a:lnTo>
                  <a:lnTo>
                    <a:pt x="1082" y="57"/>
                  </a:lnTo>
                  <a:lnTo>
                    <a:pt x="1083" y="58"/>
                  </a:lnTo>
                  <a:lnTo>
                    <a:pt x="0" y="58"/>
                  </a:lnTo>
                  <a:lnTo>
                    <a:pt x="12" y="3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4221000" y="3527280"/>
              <a:ext cx="355680" cy="19080"/>
            </a:xfrm>
            <a:custGeom>
              <a:avLst/>
              <a:gdLst/>
              <a:ahLst/>
              <a:rect l="l" t="t" r="r" b="b"/>
              <a:pathLst>
                <a:path w="1119" h="59">
                  <a:moveTo>
                    <a:pt x="30" y="0"/>
                  </a:moveTo>
                  <a:lnTo>
                    <a:pt x="1070" y="0"/>
                  </a:lnTo>
                  <a:lnTo>
                    <a:pt x="1100" y="28"/>
                  </a:lnTo>
                  <a:lnTo>
                    <a:pt x="1119" y="59"/>
                  </a:lnTo>
                  <a:lnTo>
                    <a:pt x="0" y="59"/>
                  </a:lnTo>
                  <a:lnTo>
                    <a:pt x="3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4214880" y="3537000"/>
              <a:ext cx="36828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35" y="0"/>
                  </a:moveTo>
                  <a:lnTo>
                    <a:pt x="1118" y="0"/>
                  </a:lnTo>
                  <a:lnTo>
                    <a:pt x="1156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4210200" y="3546360"/>
              <a:ext cx="377640" cy="17640"/>
            </a:xfrm>
            <a:custGeom>
              <a:avLst/>
              <a:gdLst/>
              <a:ahLst/>
              <a:rect l="l" t="t" r="r" b="b"/>
              <a:pathLst>
                <a:path w="1186" h="58">
                  <a:moveTo>
                    <a:pt x="32" y="0"/>
                  </a:moveTo>
                  <a:lnTo>
                    <a:pt x="1151" y="0"/>
                  </a:lnTo>
                  <a:lnTo>
                    <a:pt x="1173" y="31"/>
                  </a:lnTo>
                  <a:lnTo>
                    <a:pt x="1186" y="58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4206960" y="3554280"/>
              <a:ext cx="385560" cy="19080"/>
            </a:xfrm>
            <a:custGeom>
              <a:avLst/>
              <a:gdLst/>
              <a:ahLst/>
              <a:rect l="l" t="t" r="r" b="b"/>
              <a:pathLst>
                <a:path w="1211" h="58">
                  <a:moveTo>
                    <a:pt x="25" y="0"/>
                  </a:moveTo>
                  <a:lnTo>
                    <a:pt x="1181" y="0"/>
                  </a:lnTo>
                  <a:lnTo>
                    <a:pt x="1183" y="3"/>
                  </a:lnTo>
                  <a:lnTo>
                    <a:pt x="1211" y="58"/>
                  </a:lnTo>
                  <a:lnTo>
                    <a:pt x="0" y="58"/>
                  </a:lnTo>
                  <a:lnTo>
                    <a:pt x="12" y="2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4205160" y="3564000"/>
              <a:ext cx="392400" cy="19080"/>
            </a:xfrm>
            <a:custGeom>
              <a:avLst/>
              <a:gdLst/>
              <a:ahLst/>
              <a:rect l="l" t="t" r="r" b="b"/>
              <a:pathLst>
                <a:path w="1235" h="58">
                  <a:moveTo>
                    <a:pt x="19" y="0"/>
                  </a:moveTo>
                  <a:lnTo>
                    <a:pt x="1205" y="0"/>
                  </a:lnTo>
                  <a:lnTo>
                    <a:pt x="1233" y="53"/>
                  </a:lnTo>
                  <a:lnTo>
                    <a:pt x="1235" y="58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4202280" y="3573360"/>
              <a:ext cx="39816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16" y="0"/>
                  </a:moveTo>
                  <a:lnTo>
                    <a:pt x="1227" y="0"/>
                  </a:lnTo>
                  <a:lnTo>
                    <a:pt x="1240" y="25"/>
                  </a:lnTo>
                  <a:lnTo>
                    <a:pt x="1256" y="59"/>
                  </a:lnTo>
                  <a:lnTo>
                    <a:pt x="0" y="59"/>
                  </a:lnTo>
                  <a:lnTo>
                    <a:pt x="8" y="2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4200480" y="3583080"/>
              <a:ext cx="403200" cy="19080"/>
            </a:xfrm>
            <a:custGeom>
              <a:avLst/>
              <a:gdLst/>
              <a:ahLst/>
              <a:rect l="l" t="t" r="r" b="b"/>
              <a:pathLst>
                <a:path w="1273" h="58">
                  <a:moveTo>
                    <a:pt x="15" y="0"/>
                  </a:moveTo>
                  <a:lnTo>
                    <a:pt x="1250" y="0"/>
                  </a:lnTo>
                  <a:lnTo>
                    <a:pt x="1267" y="36"/>
                  </a:lnTo>
                  <a:lnTo>
                    <a:pt x="1273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4197240" y="3592440"/>
              <a:ext cx="409680" cy="19080"/>
            </a:xfrm>
            <a:custGeom>
              <a:avLst/>
              <a:gdLst/>
              <a:ahLst/>
              <a:rect l="l" t="t" r="r" b="b"/>
              <a:pathLst>
                <a:path w="1288" h="59">
                  <a:moveTo>
                    <a:pt x="16" y="0"/>
                  </a:moveTo>
                  <a:lnTo>
                    <a:pt x="1272" y="0"/>
                  </a:lnTo>
                  <a:lnTo>
                    <a:pt x="1275" y="7"/>
                  </a:lnTo>
                  <a:lnTo>
                    <a:pt x="1288" y="59"/>
                  </a:lnTo>
                  <a:lnTo>
                    <a:pt x="0" y="59"/>
                  </a:lnTo>
                  <a:lnTo>
                    <a:pt x="4" y="4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4194000" y="3602160"/>
              <a:ext cx="414360" cy="17280"/>
            </a:xfrm>
            <a:custGeom>
              <a:avLst/>
              <a:gdLst/>
              <a:ahLst/>
              <a:rect l="l" t="t" r="r" b="b"/>
              <a:pathLst>
                <a:path w="1307" h="58">
                  <a:moveTo>
                    <a:pt x="18" y="0"/>
                  </a:moveTo>
                  <a:lnTo>
                    <a:pt x="1291" y="0"/>
                  </a:lnTo>
                  <a:lnTo>
                    <a:pt x="1307" y="58"/>
                  </a:lnTo>
                  <a:lnTo>
                    <a:pt x="0" y="58"/>
                  </a:lnTo>
                  <a:lnTo>
                    <a:pt x="14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4192560" y="3611520"/>
              <a:ext cx="419040" cy="17640"/>
            </a:xfrm>
            <a:custGeom>
              <a:avLst/>
              <a:gdLst/>
              <a:ahLst/>
              <a:rect l="l" t="t" r="r" b="b"/>
              <a:pathLst>
                <a:path w="1322" h="58">
                  <a:moveTo>
                    <a:pt x="16" y="0"/>
                  </a:moveTo>
                  <a:lnTo>
                    <a:pt x="1304" y="0"/>
                  </a:lnTo>
                  <a:lnTo>
                    <a:pt x="1313" y="28"/>
                  </a:lnTo>
                  <a:lnTo>
                    <a:pt x="1322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4192560" y="361944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6" y="0"/>
                  </a:moveTo>
                  <a:lnTo>
                    <a:pt x="1313" y="0"/>
                  </a:lnTo>
                  <a:lnTo>
                    <a:pt x="1313" y="0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4192560" y="362916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22" y="0"/>
                  </a:lnTo>
                  <a:lnTo>
                    <a:pt x="1332" y="30"/>
                  </a:lnTo>
                  <a:lnTo>
                    <a:pt x="133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4192560" y="363852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60">
                  <a:moveTo>
                    <a:pt x="0" y="0"/>
                  </a:moveTo>
                  <a:lnTo>
                    <a:pt x="1331" y="0"/>
                  </a:lnTo>
                  <a:lnTo>
                    <a:pt x="1332" y="2"/>
                  </a:lnTo>
                  <a:lnTo>
                    <a:pt x="1332" y="60"/>
                  </a:lnTo>
                  <a:lnTo>
                    <a:pt x="0" y="60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4192560" y="3648240"/>
              <a:ext cx="42228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54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4192560" y="3657600"/>
              <a:ext cx="422280" cy="1764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24"/>
                  </a:lnTo>
                  <a:lnTo>
                    <a:pt x="1325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4192560" y="366552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0" y="0"/>
                  </a:moveTo>
                  <a:lnTo>
                    <a:pt x="1331" y="0"/>
                  </a:lnTo>
                  <a:lnTo>
                    <a:pt x="132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4192560" y="3675240"/>
              <a:ext cx="420840" cy="18720"/>
            </a:xfrm>
            <a:custGeom>
              <a:avLst/>
              <a:gdLst/>
              <a:ahLst/>
              <a:rect l="l" t="t" r="r" b="b"/>
              <a:pathLst>
                <a:path w="1325" h="58">
                  <a:moveTo>
                    <a:pt x="0" y="0"/>
                  </a:moveTo>
                  <a:lnTo>
                    <a:pt x="1325" y="0"/>
                  </a:lnTo>
                  <a:lnTo>
                    <a:pt x="1314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4192560" y="3684600"/>
              <a:ext cx="419040" cy="19080"/>
            </a:xfrm>
            <a:custGeom>
              <a:avLst/>
              <a:gdLst/>
              <a:ahLst/>
              <a:rect l="l" t="t" r="r" b="b"/>
              <a:pathLst>
                <a:path w="1320" h="59">
                  <a:moveTo>
                    <a:pt x="0" y="0"/>
                  </a:moveTo>
                  <a:lnTo>
                    <a:pt x="1320" y="0"/>
                  </a:lnTo>
                  <a:lnTo>
                    <a:pt x="1313" y="39"/>
                  </a:lnTo>
                  <a:lnTo>
                    <a:pt x="1302" y="59"/>
                  </a:lnTo>
                  <a:lnTo>
                    <a:pt x="0" y="5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4192560" y="3693960"/>
              <a:ext cx="417600" cy="19080"/>
            </a:xfrm>
            <a:custGeom>
              <a:avLst/>
              <a:gdLst/>
              <a:ahLst/>
              <a:rect l="l" t="t" r="r" b="b"/>
              <a:pathLst>
                <a:path w="1314" h="58">
                  <a:moveTo>
                    <a:pt x="0" y="0"/>
                  </a:moveTo>
                  <a:lnTo>
                    <a:pt x="1314" y="0"/>
                  </a:lnTo>
                  <a:lnTo>
                    <a:pt x="1313" y="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4192560" y="3703680"/>
              <a:ext cx="412920" cy="19080"/>
            </a:xfrm>
            <a:custGeom>
              <a:avLst/>
              <a:gdLst/>
              <a:ahLst/>
              <a:rect l="l" t="t" r="r" b="b"/>
              <a:pathLst>
                <a:path w="1302" h="59">
                  <a:moveTo>
                    <a:pt x="0" y="0"/>
                  </a:moveTo>
                  <a:lnTo>
                    <a:pt x="1302" y="0"/>
                  </a:lnTo>
                  <a:lnTo>
                    <a:pt x="1272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4192560" y="3713040"/>
              <a:ext cx="407880" cy="1764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0" y="0"/>
                  </a:moveTo>
                  <a:lnTo>
                    <a:pt x="1287" y="0"/>
                  </a:lnTo>
                  <a:lnTo>
                    <a:pt x="1272" y="31"/>
                  </a:lnTo>
                  <a:lnTo>
                    <a:pt x="125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4192560" y="3722760"/>
              <a:ext cx="403200" cy="17280"/>
            </a:xfrm>
            <a:custGeom>
              <a:avLst/>
              <a:gdLst/>
              <a:ahLst/>
              <a:rect l="l" t="t" r="r" b="b"/>
              <a:pathLst>
                <a:path w="1272" h="58">
                  <a:moveTo>
                    <a:pt x="0" y="0"/>
                  </a:moveTo>
                  <a:lnTo>
                    <a:pt x="1272" y="0"/>
                  </a:lnTo>
                  <a:lnTo>
                    <a:pt x="1272" y="1"/>
                  </a:lnTo>
                  <a:lnTo>
                    <a:pt x="1229" y="58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4191120" y="3730680"/>
              <a:ext cx="39852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6" y="0"/>
                  </a:moveTo>
                  <a:lnTo>
                    <a:pt x="1256" y="0"/>
                  </a:lnTo>
                  <a:lnTo>
                    <a:pt x="1217" y="53"/>
                  </a:lnTo>
                  <a:lnTo>
                    <a:pt x="1213" y="59"/>
                  </a:lnTo>
                  <a:lnTo>
                    <a:pt x="0" y="59"/>
                  </a:lnTo>
                  <a:lnTo>
                    <a:pt x="6" y="5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4181400" y="3740040"/>
              <a:ext cx="401760" cy="190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35" y="0"/>
                  </a:moveTo>
                  <a:lnTo>
                    <a:pt x="1264" y="0"/>
                  </a:lnTo>
                  <a:lnTo>
                    <a:pt x="1246" y="23"/>
                  </a:lnTo>
                  <a:lnTo>
                    <a:pt x="1220" y="58"/>
                  </a:lnTo>
                  <a:lnTo>
                    <a:pt x="0" y="58"/>
                  </a:lnTo>
                  <a:lnTo>
                    <a:pt x="14" y="43"/>
                  </a:lnTo>
                  <a:lnTo>
                    <a:pt x="35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4179960" y="3749760"/>
              <a:ext cx="395280" cy="19080"/>
            </a:xfrm>
            <a:custGeom>
              <a:avLst/>
              <a:gdLst/>
              <a:ahLst/>
              <a:rect l="l" t="t" r="r" b="b"/>
              <a:pathLst>
                <a:path w="1247" h="58">
                  <a:moveTo>
                    <a:pt x="34" y="0"/>
                  </a:moveTo>
                  <a:lnTo>
                    <a:pt x="1247" y="0"/>
                  </a:lnTo>
                  <a:lnTo>
                    <a:pt x="1203" y="58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19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4173480" y="3759120"/>
              <a:ext cx="395280" cy="17640"/>
            </a:xfrm>
            <a:custGeom>
              <a:avLst/>
              <a:gdLst/>
              <a:ahLst/>
              <a:rect l="l" t="t" r="r" b="b"/>
              <a:pathLst>
                <a:path w="1245" h="58">
                  <a:moveTo>
                    <a:pt x="25" y="0"/>
                  </a:moveTo>
                  <a:lnTo>
                    <a:pt x="1245" y="0"/>
                  </a:lnTo>
                  <a:lnTo>
                    <a:pt x="1209" y="47"/>
                  </a:lnTo>
                  <a:lnTo>
                    <a:pt x="1198" y="58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0" y="47"/>
                  </a:lnTo>
                  <a:lnTo>
                    <a:pt x="20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4173480" y="3768840"/>
              <a:ext cx="387360" cy="17280"/>
            </a:xfrm>
            <a:custGeom>
              <a:avLst/>
              <a:gdLst/>
              <a:ahLst/>
              <a:rect l="l" t="t" r="r" b="b"/>
              <a:pathLst>
                <a:path w="1223" h="59">
                  <a:moveTo>
                    <a:pt x="20" y="0"/>
                  </a:moveTo>
                  <a:lnTo>
                    <a:pt x="1223" y="0"/>
                  </a:lnTo>
                  <a:lnTo>
                    <a:pt x="1209" y="18"/>
                  </a:lnTo>
                  <a:lnTo>
                    <a:pt x="1169" y="59"/>
                  </a:lnTo>
                  <a:lnTo>
                    <a:pt x="0" y="59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4173480" y="377676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58">
                  <a:moveTo>
                    <a:pt x="0" y="0"/>
                  </a:moveTo>
                  <a:lnTo>
                    <a:pt x="1198" y="0"/>
                  </a:lnTo>
                  <a:lnTo>
                    <a:pt x="1140" y="58"/>
                  </a:lnTo>
                  <a:lnTo>
                    <a:pt x="29" y="58"/>
                  </a:lnTo>
                  <a:lnTo>
                    <a:pt x="20" y="49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4173480" y="3786120"/>
              <a:ext cx="371520" cy="1908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29" y="39"/>
                  </a:lnTo>
                  <a:lnTo>
                    <a:pt x="1120" y="58"/>
                  </a:lnTo>
                  <a:lnTo>
                    <a:pt x="64" y="58"/>
                  </a:lnTo>
                  <a:lnTo>
                    <a:pt x="60" y="39"/>
                  </a:lnTo>
                  <a:lnTo>
                    <a:pt x="39" y="39"/>
                  </a:lnTo>
                  <a:lnTo>
                    <a:pt x="2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4183200" y="379584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59">
                  <a:moveTo>
                    <a:pt x="0" y="0"/>
                  </a:moveTo>
                  <a:lnTo>
                    <a:pt x="1111" y="0"/>
                  </a:lnTo>
                  <a:lnTo>
                    <a:pt x="1100" y="11"/>
                  </a:lnTo>
                  <a:lnTo>
                    <a:pt x="1077" y="59"/>
                  </a:lnTo>
                  <a:lnTo>
                    <a:pt x="43" y="59"/>
                  </a:lnTo>
                  <a:lnTo>
                    <a:pt x="31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4194000" y="3805200"/>
              <a:ext cx="335160" cy="19080"/>
            </a:xfrm>
            <a:custGeom>
              <a:avLst/>
              <a:gdLst/>
              <a:ahLst/>
              <a:rect l="l" t="t" r="r" b="b"/>
              <a:pathLst>
                <a:path w="1056" h="58">
                  <a:moveTo>
                    <a:pt x="0" y="0"/>
                  </a:moveTo>
                  <a:lnTo>
                    <a:pt x="1056" y="0"/>
                  </a:lnTo>
                  <a:lnTo>
                    <a:pt x="1027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4195800" y="3814920"/>
              <a:ext cx="328680" cy="17280"/>
            </a:xfrm>
            <a:custGeom>
              <a:avLst/>
              <a:gdLst/>
              <a:ahLst/>
              <a:rect l="l" t="t" r="r" b="b"/>
              <a:pathLst>
                <a:path w="1034" h="58">
                  <a:moveTo>
                    <a:pt x="0" y="0"/>
                  </a:moveTo>
                  <a:lnTo>
                    <a:pt x="1034" y="0"/>
                  </a:lnTo>
                  <a:lnTo>
                    <a:pt x="1017" y="33"/>
                  </a:lnTo>
                  <a:lnTo>
                    <a:pt x="1014" y="58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8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4199040" y="3824280"/>
              <a:ext cx="320400" cy="17640"/>
            </a:xfrm>
            <a:custGeom>
              <a:avLst/>
              <a:gdLst/>
              <a:ahLst/>
              <a:rect l="l" t="t" r="r" b="b"/>
              <a:pathLst>
                <a:path w="1012" h="58">
                  <a:moveTo>
                    <a:pt x="0" y="0"/>
                  </a:moveTo>
                  <a:lnTo>
                    <a:pt x="1012" y="0"/>
                  </a:lnTo>
                  <a:lnTo>
                    <a:pt x="1010" y="4"/>
                  </a:lnTo>
                  <a:lnTo>
                    <a:pt x="1001" y="58"/>
                  </a:lnTo>
                  <a:lnTo>
                    <a:pt x="36" y="58"/>
                  </a:lnTo>
                  <a:lnTo>
                    <a:pt x="41" y="44"/>
                  </a:lnTo>
                  <a:lnTo>
                    <a:pt x="21" y="23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4206960" y="383220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58">
                  <a:moveTo>
                    <a:pt x="0" y="0"/>
                  </a:moveTo>
                  <a:lnTo>
                    <a:pt x="980" y="0"/>
                  </a:lnTo>
                  <a:lnTo>
                    <a:pt x="969" y="58"/>
                  </a:lnTo>
                  <a:lnTo>
                    <a:pt x="0" y="58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4205160" y="3841920"/>
              <a:ext cx="311400" cy="18720"/>
            </a:xfrm>
            <a:custGeom>
              <a:avLst/>
              <a:gdLst/>
              <a:ahLst/>
              <a:rect l="l" t="t" r="r" b="b"/>
              <a:pathLst>
                <a:path w="980" h="59">
                  <a:moveTo>
                    <a:pt x="15" y="0"/>
                  </a:moveTo>
                  <a:lnTo>
                    <a:pt x="980" y="0"/>
                  </a:lnTo>
                  <a:lnTo>
                    <a:pt x="971" y="59"/>
                  </a:lnTo>
                  <a:lnTo>
                    <a:pt x="25" y="59"/>
                  </a:lnTo>
                  <a:lnTo>
                    <a:pt x="0" y="4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4205160" y="3851280"/>
              <a:ext cx="309600" cy="19080"/>
            </a:xfrm>
            <a:custGeom>
              <a:avLst/>
              <a:gdLst/>
              <a:ahLst/>
              <a:rect l="l" t="t" r="r" b="b"/>
              <a:pathLst>
                <a:path w="975" h="59">
                  <a:moveTo>
                    <a:pt x="6" y="0"/>
                  </a:moveTo>
                  <a:lnTo>
                    <a:pt x="975" y="0"/>
                  </a:lnTo>
                  <a:lnTo>
                    <a:pt x="970" y="37"/>
                  </a:lnTo>
                  <a:lnTo>
                    <a:pt x="970" y="59"/>
                  </a:lnTo>
                  <a:lnTo>
                    <a:pt x="39" y="59"/>
                  </a:lnTo>
                  <a:lnTo>
                    <a:pt x="39" y="37"/>
                  </a:lnTo>
                  <a:lnTo>
                    <a:pt x="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4213080" y="3860640"/>
              <a:ext cx="300240" cy="19080"/>
            </a:xfrm>
            <a:custGeom>
              <a:avLst/>
              <a:gdLst/>
              <a:ahLst/>
              <a:rect l="l" t="t" r="r" b="b"/>
              <a:pathLst>
                <a:path w="946" h="58">
                  <a:moveTo>
                    <a:pt x="0" y="0"/>
                  </a:moveTo>
                  <a:lnTo>
                    <a:pt x="946" y="0"/>
                  </a:lnTo>
                  <a:lnTo>
                    <a:pt x="945" y="7"/>
                  </a:lnTo>
                  <a:lnTo>
                    <a:pt x="945" y="58"/>
                  </a:lnTo>
                  <a:lnTo>
                    <a:pt x="18" y="58"/>
                  </a:lnTo>
                  <a:lnTo>
                    <a:pt x="14" y="48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4218120" y="3870360"/>
              <a:ext cx="295200" cy="17280"/>
            </a:xfrm>
            <a:custGeom>
              <a:avLst/>
              <a:gdLst/>
              <a:ahLst/>
              <a:rect l="l" t="t" r="r" b="b"/>
              <a:pathLst>
                <a:path w="934" h="58">
                  <a:moveTo>
                    <a:pt x="0" y="0"/>
                  </a:moveTo>
                  <a:lnTo>
                    <a:pt x="931" y="0"/>
                  </a:lnTo>
                  <a:lnTo>
                    <a:pt x="931" y="57"/>
                  </a:lnTo>
                  <a:lnTo>
                    <a:pt x="932" y="57"/>
                  </a:lnTo>
                  <a:lnTo>
                    <a:pt x="934" y="58"/>
                  </a:lnTo>
                  <a:lnTo>
                    <a:pt x="14" y="5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4218120" y="3879720"/>
              <a:ext cx="315720" cy="17640"/>
            </a:xfrm>
            <a:custGeom>
              <a:avLst/>
              <a:gdLst/>
              <a:ahLst/>
              <a:rect l="l" t="t" r="r" b="b"/>
              <a:pathLst>
                <a:path w="994" h="58">
                  <a:moveTo>
                    <a:pt x="0" y="0"/>
                  </a:moveTo>
                  <a:lnTo>
                    <a:pt x="927" y="0"/>
                  </a:lnTo>
                  <a:lnTo>
                    <a:pt x="927" y="28"/>
                  </a:lnTo>
                  <a:lnTo>
                    <a:pt x="928" y="28"/>
                  </a:lnTo>
                  <a:lnTo>
                    <a:pt x="986" y="52"/>
                  </a:lnTo>
                  <a:lnTo>
                    <a:pt x="994" y="58"/>
                  </a:lnTo>
                  <a:lnTo>
                    <a:pt x="22" y="58"/>
                  </a:lnTo>
                  <a:lnTo>
                    <a:pt x="1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4221000" y="3887640"/>
              <a:ext cx="322560" cy="19080"/>
            </a:xfrm>
            <a:custGeom>
              <a:avLst/>
              <a:gdLst/>
              <a:ahLst/>
              <a:rect l="l" t="t" r="r" b="b"/>
              <a:pathLst>
                <a:path w="1014" h="59">
                  <a:moveTo>
                    <a:pt x="0" y="0"/>
                  </a:moveTo>
                  <a:lnTo>
                    <a:pt x="920" y="0"/>
                  </a:lnTo>
                  <a:lnTo>
                    <a:pt x="976" y="23"/>
                  </a:lnTo>
                  <a:lnTo>
                    <a:pt x="996" y="42"/>
                  </a:lnTo>
                  <a:lnTo>
                    <a:pt x="1014" y="59"/>
                  </a:lnTo>
                  <a:lnTo>
                    <a:pt x="26" y="59"/>
                  </a:lnTo>
                  <a:lnTo>
                    <a:pt x="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4226040" y="3897360"/>
              <a:ext cx="325440" cy="1908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0" y="0"/>
                  </a:moveTo>
                  <a:lnTo>
                    <a:pt x="972" y="0"/>
                  </a:lnTo>
                  <a:lnTo>
                    <a:pt x="984" y="13"/>
                  </a:lnTo>
                  <a:lnTo>
                    <a:pt x="1027" y="52"/>
                  </a:lnTo>
                  <a:lnTo>
                    <a:pt x="1027" y="58"/>
                  </a:lnTo>
                  <a:lnTo>
                    <a:pt x="79" y="58"/>
                  </a:lnTo>
                  <a:lnTo>
                    <a:pt x="56" y="54"/>
                  </a:lnTo>
                  <a:lnTo>
                    <a:pt x="1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4230720" y="3906720"/>
              <a:ext cx="320760" cy="19080"/>
            </a:xfrm>
            <a:custGeom>
              <a:avLst/>
              <a:gdLst/>
              <a:ahLst/>
              <a:rect l="l" t="t" r="r" b="b"/>
              <a:pathLst>
                <a:path w="1013" h="58">
                  <a:moveTo>
                    <a:pt x="0" y="0"/>
                  </a:moveTo>
                  <a:lnTo>
                    <a:pt x="988" y="0"/>
                  </a:lnTo>
                  <a:lnTo>
                    <a:pt x="1013" y="22"/>
                  </a:lnTo>
                  <a:lnTo>
                    <a:pt x="1013" y="58"/>
                  </a:lnTo>
                  <a:lnTo>
                    <a:pt x="202" y="58"/>
                  </a:lnTo>
                  <a:lnTo>
                    <a:pt x="42" y="24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4251240" y="3916440"/>
              <a:ext cx="301680" cy="19080"/>
            </a:xfrm>
            <a:custGeom>
              <a:avLst/>
              <a:gdLst/>
              <a:ahLst/>
              <a:rect l="l" t="t" r="r" b="b"/>
              <a:pathLst>
                <a:path w="951" h="59">
                  <a:moveTo>
                    <a:pt x="0" y="0"/>
                  </a:moveTo>
                  <a:lnTo>
                    <a:pt x="948" y="0"/>
                  </a:lnTo>
                  <a:lnTo>
                    <a:pt x="948" y="37"/>
                  </a:lnTo>
                  <a:lnTo>
                    <a:pt x="951" y="59"/>
                  </a:lnTo>
                  <a:lnTo>
                    <a:pt x="254" y="59"/>
                  </a:lnTo>
                  <a:lnTo>
                    <a:pt x="2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4294080" y="3925800"/>
              <a:ext cx="260280" cy="17640"/>
            </a:xfrm>
            <a:custGeom>
              <a:avLst/>
              <a:gdLst/>
              <a:ahLst/>
              <a:rect l="l" t="t" r="r" b="b"/>
              <a:pathLst>
                <a:path w="819" h="58">
                  <a:moveTo>
                    <a:pt x="0" y="0"/>
                  </a:moveTo>
                  <a:lnTo>
                    <a:pt x="811" y="0"/>
                  </a:lnTo>
                  <a:lnTo>
                    <a:pt x="811" y="7"/>
                  </a:lnTo>
                  <a:lnTo>
                    <a:pt x="819" y="58"/>
                  </a:lnTo>
                  <a:lnTo>
                    <a:pt x="71" y="58"/>
                  </a:lnTo>
                  <a:lnTo>
                    <a:pt x="1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4302000" y="3935520"/>
              <a:ext cx="254160" cy="17280"/>
            </a:xfrm>
            <a:custGeom>
              <a:avLst/>
              <a:gdLst/>
              <a:ahLst/>
              <a:rect l="l" t="t" r="r" b="b"/>
              <a:pathLst>
                <a:path w="798" h="58">
                  <a:moveTo>
                    <a:pt x="92" y="0"/>
                  </a:moveTo>
                  <a:lnTo>
                    <a:pt x="789" y="0"/>
                  </a:lnTo>
                  <a:lnTo>
                    <a:pt x="798" y="58"/>
                  </a:lnTo>
                  <a:lnTo>
                    <a:pt x="0" y="5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4287960" y="3943440"/>
              <a:ext cx="268200" cy="19080"/>
            </a:xfrm>
            <a:custGeom>
              <a:avLst/>
              <a:gdLst/>
              <a:ahLst/>
              <a:rect l="l" t="t" r="r" b="b"/>
              <a:pathLst>
                <a:path w="849" h="58">
                  <a:moveTo>
                    <a:pt x="93" y="0"/>
                  </a:moveTo>
                  <a:lnTo>
                    <a:pt x="841" y="0"/>
                  </a:lnTo>
                  <a:lnTo>
                    <a:pt x="849" y="58"/>
                  </a:lnTo>
                  <a:lnTo>
                    <a:pt x="0" y="5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4275000" y="3952800"/>
              <a:ext cx="282600" cy="19080"/>
            </a:xfrm>
            <a:custGeom>
              <a:avLst/>
              <a:gdLst/>
              <a:ahLst/>
              <a:rect l="l" t="t" r="r" b="b"/>
              <a:pathLst>
                <a:path w="889" h="59">
                  <a:moveTo>
                    <a:pt x="83" y="0"/>
                  </a:moveTo>
                  <a:lnTo>
                    <a:pt x="881" y="0"/>
                  </a:lnTo>
                  <a:lnTo>
                    <a:pt x="889" y="59"/>
                  </a:lnTo>
                  <a:lnTo>
                    <a:pt x="0" y="59"/>
                  </a:lnTo>
                  <a:lnTo>
                    <a:pt x="20" y="3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4265640" y="3962520"/>
              <a:ext cx="293760" cy="19080"/>
            </a:xfrm>
            <a:custGeom>
              <a:avLst/>
              <a:gdLst/>
              <a:ahLst/>
              <a:rect l="l" t="t" r="r" b="b"/>
              <a:pathLst>
                <a:path w="924" h="58">
                  <a:moveTo>
                    <a:pt x="66" y="0"/>
                  </a:moveTo>
                  <a:lnTo>
                    <a:pt x="915" y="0"/>
                  </a:lnTo>
                  <a:lnTo>
                    <a:pt x="924" y="58"/>
                  </a:lnTo>
                  <a:lnTo>
                    <a:pt x="0" y="58"/>
                  </a:lnTo>
                  <a:lnTo>
                    <a:pt x="50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4257720" y="397188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58">
                  <a:moveTo>
                    <a:pt x="59" y="0"/>
                  </a:moveTo>
                  <a:lnTo>
                    <a:pt x="948" y="0"/>
                  </a:lnTo>
                  <a:lnTo>
                    <a:pt x="957" y="58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4246560" y="3981600"/>
              <a:ext cx="316080" cy="17280"/>
            </a:xfrm>
            <a:custGeom>
              <a:avLst/>
              <a:gdLst/>
              <a:ahLst/>
              <a:rect l="l" t="t" r="r" b="b"/>
              <a:pathLst>
                <a:path w="992" h="59">
                  <a:moveTo>
                    <a:pt x="60" y="0"/>
                  </a:moveTo>
                  <a:lnTo>
                    <a:pt x="984" y="0"/>
                  </a:lnTo>
                  <a:lnTo>
                    <a:pt x="992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4237200" y="3990960"/>
              <a:ext cx="326880" cy="1764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61" y="0"/>
                  </a:moveTo>
                  <a:lnTo>
                    <a:pt x="1018" y="0"/>
                  </a:lnTo>
                  <a:lnTo>
                    <a:pt x="1027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4227480" y="3998880"/>
              <a:ext cx="336600" cy="19080"/>
            </a:xfrm>
            <a:custGeom>
              <a:avLst/>
              <a:gdLst/>
              <a:ahLst/>
              <a:rect l="l" t="t" r="r" b="b"/>
              <a:pathLst>
                <a:path w="1060" h="59">
                  <a:moveTo>
                    <a:pt x="60" y="0"/>
                  </a:moveTo>
                  <a:lnTo>
                    <a:pt x="1052" y="0"/>
                  </a:lnTo>
                  <a:lnTo>
                    <a:pt x="1058" y="33"/>
                  </a:lnTo>
                  <a:lnTo>
                    <a:pt x="1060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4218120" y="4008600"/>
              <a:ext cx="347400" cy="18720"/>
            </a:xfrm>
            <a:custGeom>
              <a:avLst/>
              <a:gdLst/>
              <a:ahLst/>
              <a:rect l="l" t="t" r="r" b="b"/>
              <a:pathLst>
                <a:path w="1093" h="58">
                  <a:moveTo>
                    <a:pt x="60" y="0"/>
                  </a:moveTo>
                  <a:lnTo>
                    <a:pt x="1087" y="0"/>
                  </a:lnTo>
                  <a:lnTo>
                    <a:pt x="1088" y="4"/>
                  </a:lnTo>
                  <a:lnTo>
                    <a:pt x="1093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4208400" y="4017960"/>
              <a:ext cx="358920" cy="19080"/>
            </a:xfrm>
            <a:custGeom>
              <a:avLst/>
              <a:gdLst/>
              <a:ahLst/>
              <a:rect l="l" t="t" r="r" b="b"/>
              <a:pathLst>
                <a:path w="1126" h="58">
                  <a:moveTo>
                    <a:pt x="60" y="0"/>
                  </a:moveTo>
                  <a:lnTo>
                    <a:pt x="1120" y="0"/>
                  </a:lnTo>
                  <a:lnTo>
                    <a:pt x="1126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4199040" y="4027320"/>
              <a:ext cx="368280" cy="17640"/>
            </a:xfrm>
            <a:custGeom>
              <a:avLst/>
              <a:gdLst/>
              <a:ahLst/>
              <a:rect l="l" t="t" r="r" b="b"/>
              <a:pathLst>
                <a:path w="1159" h="58">
                  <a:moveTo>
                    <a:pt x="60" y="0"/>
                  </a:moveTo>
                  <a:lnTo>
                    <a:pt x="1153" y="0"/>
                  </a:lnTo>
                  <a:lnTo>
                    <a:pt x="1159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4189320" y="4037040"/>
              <a:ext cx="379440" cy="17280"/>
            </a:xfrm>
            <a:custGeom>
              <a:avLst/>
              <a:gdLst/>
              <a:ahLst/>
              <a:rect l="l" t="t" r="r" b="b"/>
              <a:pathLst>
                <a:path w="1191" h="58">
                  <a:moveTo>
                    <a:pt x="60" y="0"/>
                  </a:moveTo>
                  <a:lnTo>
                    <a:pt x="1186" y="0"/>
                  </a:lnTo>
                  <a:lnTo>
                    <a:pt x="1191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4179960" y="4044960"/>
              <a:ext cx="388800" cy="19080"/>
            </a:xfrm>
            <a:custGeom>
              <a:avLst/>
              <a:gdLst/>
              <a:ahLst/>
              <a:rect l="l" t="t" r="r" b="b"/>
              <a:pathLst>
                <a:path w="1224" h="60">
                  <a:moveTo>
                    <a:pt x="60" y="0"/>
                  </a:moveTo>
                  <a:lnTo>
                    <a:pt x="1219" y="0"/>
                  </a:lnTo>
                  <a:lnTo>
                    <a:pt x="1224" y="60"/>
                  </a:lnTo>
                  <a:lnTo>
                    <a:pt x="0" y="6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4170240" y="4054320"/>
              <a:ext cx="400320" cy="19080"/>
            </a:xfrm>
            <a:custGeom>
              <a:avLst/>
              <a:gdLst/>
              <a:ahLst/>
              <a:rect l="l" t="t" r="r" b="b"/>
              <a:pathLst>
                <a:path w="1257" h="58">
                  <a:moveTo>
                    <a:pt x="60" y="0"/>
                  </a:moveTo>
                  <a:lnTo>
                    <a:pt x="1251" y="0"/>
                  </a:lnTo>
                  <a:lnTo>
                    <a:pt x="12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4160880" y="4064040"/>
              <a:ext cx="409680" cy="1908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60" y="0"/>
                  </a:moveTo>
                  <a:lnTo>
                    <a:pt x="1284" y="0"/>
                  </a:lnTo>
                  <a:lnTo>
                    <a:pt x="1287" y="2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4151160" y="4073400"/>
              <a:ext cx="4194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60" y="0"/>
                  </a:moveTo>
                  <a:lnTo>
                    <a:pt x="1317" y="0"/>
                  </a:lnTo>
                  <a:lnTo>
                    <a:pt x="1317" y="1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4141800" y="4083120"/>
              <a:ext cx="4287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60" y="0"/>
                  </a:moveTo>
                  <a:lnTo>
                    <a:pt x="1347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4132440" y="4092480"/>
              <a:ext cx="438120" cy="17640"/>
            </a:xfrm>
            <a:custGeom>
              <a:avLst/>
              <a:gdLst/>
              <a:ahLst/>
              <a:rect l="l" t="t" r="r" b="b"/>
              <a:pathLst>
                <a:path w="1378" h="58">
                  <a:moveTo>
                    <a:pt x="61" y="0"/>
                  </a:moveTo>
                  <a:lnTo>
                    <a:pt x="1378" y="0"/>
                  </a:lnTo>
                  <a:lnTo>
                    <a:pt x="1378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4122720" y="4102200"/>
              <a:ext cx="447840" cy="17280"/>
            </a:xfrm>
            <a:custGeom>
              <a:avLst/>
              <a:gdLst/>
              <a:ahLst/>
              <a:rect l="l" t="t" r="r" b="b"/>
              <a:pathLst>
                <a:path w="1407" h="58">
                  <a:moveTo>
                    <a:pt x="60" y="0"/>
                  </a:moveTo>
                  <a:lnTo>
                    <a:pt x="1407" y="0"/>
                  </a:lnTo>
                  <a:lnTo>
                    <a:pt x="140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4113360" y="4110120"/>
              <a:ext cx="457200" cy="19080"/>
            </a:xfrm>
            <a:custGeom>
              <a:avLst/>
              <a:gdLst/>
              <a:ahLst/>
              <a:rect l="l" t="t" r="r" b="b"/>
              <a:pathLst>
                <a:path w="1437" h="60">
                  <a:moveTo>
                    <a:pt x="59" y="0"/>
                  </a:moveTo>
                  <a:lnTo>
                    <a:pt x="1437" y="0"/>
                  </a:lnTo>
                  <a:lnTo>
                    <a:pt x="1437" y="60"/>
                  </a:lnTo>
                  <a:lnTo>
                    <a:pt x="0" y="6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4103640" y="4119480"/>
              <a:ext cx="466920" cy="19080"/>
            </a:xfrm>
            <a:custGeom>
              <a:avLst/>
              <a:gdLst/>
              <a:ahLst/>
              <a:rect l="l" t="t" r="r" b="b"/>
              <a:pathLst>
                <a:path w="1467" h="58">
                  <a:moveTo>
                    <a:pt x="60" y="0"/>
                  </a:moveTo>
                  <a:lnTo>
                    <a:pt x="1467" y="0"/>
                  </a:lnTo>
                  <a:lnTo>
                    <a:pt x="146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4094280" y="4129200"/>
              <a:ext cx="476280" cy="19080"/>
            </a:xfrm>
            <a:custGeom>
              <a:avLst/>
              <a:gdLst/>
              <a:ahLst/>
              <a:rect l="l" t="t" r="r" b="b"/>
              <a:pathLst>
                <a:path w="1497" h="58">
                  <a:moveTo>
                    <a:pt x="60" y="0"/>
                  </a:moveTo>
                  <a:lnTo>
                    <a:pt x="1497" y="0"/>
                  </a:lnTo>
                  <a:lnTo>
                    <a:pt x="1497" y="50"/>
                  </a:lnTo>
                  <a:lnTo>
                    <a:pt x="149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4084560" y="4138560"/>
              <a:ext cx="486000" cy="17640"/>
            </a:xfrm>
            <a:custGeom>
              <a:avLst/>
              <a:gdLst/>
              <a:ahLst/>
              <a:rect l="l" t="t" r="r" b="b"/>
              <a:pathLst>
                <a:path w="1527" h="58">
                  <a:moveTo>
                    <a:pt x="60" y="0"/>
                  </a:moveTo>
                  <a:lnTo>
                    <a:pt x="1527" y="0"/>
                  </a:lnTo>
                  <a:lnTo>
                    <a:pt x="1527" y="22"/>
                  </a:lnTo>
                  <a:lnTo>
                    <a:pt x="152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4075200" y="4148280"/>
              <a:ext cx="495360" cy="17280"/>
            </a:xfrm>
            <a:custGeom>
              <a:avLst/>
              <a:gdLst/>
              <a:ahLst/>
              <a:rect l="l" t="t" r="r" b="b"/>
              <a:pathLst>
                <a:path w="1557" h="58">
                  <a:moveTo>
                    <a:pt x="60" y="0"/>
                  </a:moveTo>
                  <a:lnTo>
                    <a:pt x="1557" y="0"/>
                  </a:lnTo>
                  <a:lnTo>
                    <a:pt x="15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4065480" y="4156200"/>
              <a:ext cx="505080" cy="19080"/>
            </a:xfrm>
            <a:custGeom>
              <a:avLst/>
              <a:gdLst/>
              <a:ahLst/>
              <a:rect l="l" t="t" r="r" b="b"/>
              <a:pathLst>
                <a:path w="1587" h="59">
                  <a:moveTo>
                    <a:pt x="60" y="0"/>
                  </a:moveTo>
                  <a:lnTo>
                    <a:pt x="1587" y="0"/>
                  </a:lnTo>
                  <a:lnTo>
                    <a:pt x="1587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4059360" y="4165560"/>
              <a:ext cx="511200" cy="19080"/>
            </a:xfrm>
            <a:custGeom>
              <a:avLst/>
              <a:gdLst/>
              <a:ahLst/>
              <a:rect l="l" t="t" r="r" b="b"/>
              <a:pathLst>
                <a:path w="1607" h="58">
                  <a:moveTo>
                    <a:pt x="50" y="0"/>
                  </a:moveTo>
                  <a:lnTo>
                    <a:pt x="1607" y="0"/>
                  </a:lnTo>
                  <a:lnTo>
                    <a:pt x="1607" y="58"/>
                  </a:lnTo>
                  <a:lnTo>
                    <a:pt x="0" y="58"/>
                  </a:lnTo>
                  <a:lnTo>
                    <a:pt x="14" y="3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4054320" y="4175280"/>
              <a:ext cx="516240" cy="18720"/>
            </a:xfrm>
            <a:custGeom>
              <a:avLst/>
              <a:gdLst/>
              <a:ahLst/>
              <a:rect l="l" t="t" r="r" b="b"/>
              <a:pathLst>
                <a:path w="1625" h="59">
                  <a:moveTo>
                    <a:pt x="38" y="0"/>
                  </a:moveTo>
                  <a:lnTo>
                    <a:pt x="1625" y="0"/>
                  </a:lnTo>
                  <a:lnTo>
                    <a:pt x="1625" y="59"/>
                  </a:lnTo>
                  <a:lnTo>
                    <a:pt x="0" y="59"/>
                  </a:lnTo>
                  <a:lnTo>
                    <a:pt x="3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4048200" y="4184640"/>
              <a:ext cx="522360" cy="19080"/>
            </a:xfrm>
            <a:custGeom>
              <a:avLst/>
              <a:gdLst/>
              <a:ahLst/>
              <a:rect l="l" t="t" r="r" b="b"/>
              <a:pathLst>
                <a:path w="1642" h="58">
                  <a:moveTo>
                    <a:pt x="35" y="0"/>
                  </a:moveTo>
                  <a:lnTo>
                    <a:pt x="1642" y="0"/>
                  </a:lnTo>
                  <a:lnTo>
                    <a:pt x="1642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4043520" y="4194000"/>
              <a:ext cx="527040" cy="19080"/>
            </a:xfrm>
            <a:custGeom>
              <a:avLst/>
              <a:gdLst/>
              <a:ahLst/>
              <a:rect l="l" t="t" r="r" b="b"/>
              <a:pathLst>
                <a:path w="1659" h="58">
                  <a:moveTo>
                    <a:pt x="34" y="0"/>
                  </a:moveTo>
                  <a:lnTo>
                    <a:pt x="1659" y="0"/>
                  </a:lnTo>
                  <a:lnTo>
                    <a:pt x="1659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4037040" y="4203720"/>
              <a:ext cx="533520" cy="17280"/>
            </a:xfrm>
            <a:custGeom>
              <a:avLst/>
              <a:gdLst/>
              <a:ahLst/>
              <a:rect l="l" t="t" r="r" b="b"/>
              <a:pathLst>
                <a:path w="1677" h="59">
                  <a:moveTo>
                    <a:pt x="35" y="0"/>
                  </a:moveTo>
                  <a:lnTo>
                    <a:pt x="1677" y="0"/>
                  </a:lnTo>
                  <a:lnTo>
                    <a:pt x="1677" y="39"/>
                  </a:lnTo>
                  <a:lnTo>
                    <a:pt x="1675" y="59"/>
                  </a:lnTo>
                  <a:lnTo>
                    <a:pt x="0" y="5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4032360" y="4213080"/>
              <a:ext cx="538200" cy="17640"/>
            </a:xfrm>
            <a:custGeom>
              <a:avLst/>
              <a:gdLst/>
              <a:ahLst/>
              <a:rect l="l" t="t" r="r" b="b"/>
              <a:pathLst>
                <a:path w="1694" h="58">
                  <a:moveTo>
                    <a:pt x="35" y="0"/>
                  </a:moveTo>
                  <a:lnTo>
                    <a:pt x="1694" y="0"/>
                  </a:lnTo>
                  <a:lnTo>
                    <a:pt x="1694" y="9"/>
                  </a:lnTo>
                  <a:lnTo>
                    <a:pt x="1689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4027320" y="4221000"/>
              <a:ext cx="541440" cy="19080"/>
            </a:xfrm>
            <a:custGeom>
              <a:avLst/>
              <a:gdLst/>
              <a:ahLst/>
              <a:rect l="l" t="t" r="r" b="b"/>
              <a:pathLst>
                <a:path w="1709" h="58">
                  <a:moveTo>
                    <a:pt x="34" y="0"/>
                  </a:moveTo>
                  <a:lnTo>
                    <a:pt x="1709" y="0"/>
                  </a:lnTo>
                  <a:lnTo>
                    <a:pt x="1704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022640" y="4230720"/>
              <a:ext cx="546120" cy="190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28" y="0"/>
                  </a:moveTo>
                  <a:lnTo>
                    <a:pt x="1717" y="0"/>
                  </a:lnTo>
                  <a:lnTo>
                    <a:pt x="1712" y="58"/>
                  </a:lnTo>
                  <a:lnTo>
                    <a:pt x="0" y="58"/>
                  </a:lnTo>
                  <a:lnTo>
                    <a:pt x="9" y="3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4019400" y="4240080"/>
              <a:ext cx="547920" cy="19080"/>
            </a:xfrm>
            <a:custGeom>
              <a:avLst/>
              <a:gdLst/>
              <a:ahLst/>
              <a:rect l="l" t="t" r="r" b="b"/>
              <a:pathLst>
                <a:path w="1725" h="59">
                  <a:moveTo>
                    <a:pt x="21" y="0"/>
                  </a:moveTo>
                  <a:lnTo>
                    <a:pt x="1725" y="0"/>
                  </a:lnTo>
                  <a:lnTo>
                    <a:pt x="1719" y="59"/>
                  </a:lnTo>
                  <a:lnTo>
                    <a:pt x="0" y="59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4019400" y="4249800"/>
              <a:ext cx="547920" cy="19080"/>
            </a:xfrm>
            <a:custGeom>
              <a:avLst/>
              <a:gdLst/>
              <a:ahLst/>
              <a:rect l="l" t="t" r="r" b="b"/>
              <a:pathLst>
                <a:path w="1723" h="59">
                  <a:moveTo>
                    <a:pt x="11" y="0"/>
                  </a:moveTo>
                  <a:lnTo>
                    <a:pt x="1723" y="0"/>
                  </a:lnTo>
                  <a:lnTo>
                    <a:pt x="1717" y="59"/>
                  </a:lnTo>
                  <a:lnTo>
                    <a:pt x="0" y="5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019400" y="4259160"/>
              <a:ext cx="546120" cy="17640"/>
            </a:xfrm>
            <a:custGeom>
              <a:avLst/>
              <a:gdLst/>
              <a:ahLst/>
              <a:rect l="l" t="t" r="r" b="b"/>
              <a:pathLst>
                <a:path w="1720" h="58">
                  <a:moveTo>
                    <a:pt x="1" y="0"/>
                  </a:moveTo>
                  <a:lnTo>
                    <a:pt x="1720" y="0"/>
                  </a:lnTo>
                  <a:lnTo>
                    <a:pt x="1715" y="58"/>
                  </a:lnTo>
                  <a:lnTo>
                    <a:pt x="0" y="58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019400" y="4268880"/>
              <a:ext cx="546120" cy="172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0" y="0"/>
                  </a:moveTo>
                  <a:lnTo>
                    <a:pt x="1717" y="0"/>
                  </a:lnTo>
                  <a:lnTo>
                    <a:pt x="1714" y="35"/>
                  </a:lnTo>
                  <a:lnTo>
                    <a:pt x="1712" y="58"/>
                  </a:lnTo>
                  <a:lnTo>
                    <a:pt x="5" y="5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019400" y="4276800"/>
              <a:ext cx="544680" cy="19080"/>
            </a:xfrm>
            <a:custGeom>
              <a:avLst/>
              <a:gdLst/>
              <a:ahLst/>
              <a:rect l="l" t="t" r="r" b="b"/>
              <a:pathLst>
                <a:path w="1715" h="58">
                  <a:moveTo>
                    <a:pt x="0" y="0"/>
                  </a:moveTo>
                  <a:lnTo>
                    <a:pt x="1715" y="0"/>
                  </a:lnTo>
                  <a:lnTo>
                    <a:pt x="1714" y="6"/>
                  </a:lnTo>
                  <a:lnTo>
                    <a:pt x="1708" y="58"/>
                  </a:lnTo>
                  <a:lnTo>
                    <a:pt x="12" y="5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4021200" y="4286160"/>
              <a:ext cx="542880" cy="19080"/>
            </a:xfrm>
            <a:custGeom>
              <a:avLst/>
              <a:gdLst/>
              <a:ahLst/>
              <a:rect l="l" t="t" r="r" b="b"/>
              <a:pathLst>
                <a:path w="1707" h="58">
                  <a:moveTo>
                    <a:pt x="0" y="0"/>
                  </a:moveTo>
                  <a:lnTo>
                    <a:pt x="1707" y="0"/>
                  </a:lnTo>
                  <a:lnTo>
                    <a:pt x="1700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4024440" y="4295880"/>
              <a:ext cx="538200" cy="19080"/>
            </a:xfrm>
            <a:custGeom>
              <a:avLst/>
              <a:gdLst/>
              <a:ahLst/>
              <a:rect l="l" t="t" r="r" b="b"/>
              <a:pathLst>
                <a:path w="1696" h="58">
                  <a:moveTo>
                    <a:pt x="0" y="0"/>
                  </a:moveTo>
                  <a:lnTo>
                    <a:pt x="1696" y="0"/>
                  </a:lnTo>
                  <a:lnTo>
                    <a:pt x="1691" y="58"/>
                  </a:lnTo>
                  <a:lnTo>
                    <a:pt x="1497" y="58"/>
                  </a:lnTo>
                  <a:lnTo>
                    <a:pt x="1318" y="30"/>
                  </a:lnTo>
                  <a:lnTo>
                    <a:pt x="1289" y="58"/>
                  </a:lnTo>
                  <a:lnTo>
                    <a:pt x="21" y="58"/>
                  </a:lnTo>
                  <a:lnTo>
                    <a:pt x="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4025880" y="4305240"/>
              <a:ext cx="534960" cy="17640"/>
            </a:xfrm>
            <a:custGeom>
              <a:avLst/>
              <a:gdLst/>
              <a:ahLst/>
              <a:rect l="l" t="t" r="r" b="b"/>
              <a:pathLst>
                <a:path w="1685" h="58">
                  <a:moveTo>
                    <a:pt x="0" y="0"/>
                  </a:moveTo>
                  <a:lnTo>
                    <a:pt x="1685" y="0"/>
                  </a:lnTo>
                  <a:lnTo>
                    <a:pt x="1680" y="58"/>
                  </a:lnTo>
                  <a:lnTo>
                    <a:pt x="1582" y="58"/>
                  </a:lnTo>
                  <a:lnTo>
                    <a:pt x="1554" y="40"/>
                  </a:lnTo>
                  <a:lnTo>
                    <a:pt x="1310" y="1"/>
                  </a:lnTo>
                  <a:lnTo>
                    <a:pt x="1252" y="58"/>
                  </a:lnTo>
                  <a:lnTo>
                    <a:pt x="27" y="5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4030560" y="4314960"/>
              <a:ext cx="530280" cy="17280"/>
            </a:xfrm>
            <a:custGeom>
              <a:avLst/>
              <a:gdLst/>
              <a:ahLst/>
              <a:rect l="l" t="t" r="r" b="b"/>
              <a:pathLst>
                <a:path w="1670" h="59">
                  <a:moveTo>
                    <a:pt x="0" y="0"/>
                  </a:moveTo>
                  <a:lnTo>
                    <a:pt x="1268" y="0"/>
                  </a:lnTo>
                  <a:lnTo>
                    <a:pt x="1238" y="30"/>
                  </a:lnTo>
                  <a:lnTo>
                    <a:pt x="1297" y="59"/>
                  </a:lnTo>
                  <a:lnTo>
                    <a:pt x="1022" y="59"/>
                  </a:lnTo>
                  <a:lnTo>
                    <a:pt x="854" y="30"/>
                  </a:lnTo>
                  <a:lnTo>
                    <a:pt x="839" y="59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0" y="0"/>
                  </a:lnTo>
                  <a:close/>
                  <a:moveTo>
                    <a:pt x="1476" y="0"/>
                  </a:moveTo>
                  <a:lnTo>
                    <a:pt x="1670" y="0"/>
                  </a:lnTo>
                  <a:lnTo>
                    <a:pt x="1664" y="59"/>
                  </a:lnTo>
                  <a:lnTo>
                    <a:pt x="1612" y="59"/>
                  </a:lnTo>
                  <a:lnTo>
                    <a:pt x="1541" y="11"/>
                  </a:lnTo>
                  <a:lnTo>
                    <a:pt x="1476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4035600" y="4322880"/>
              <a:ext cx="523800" cy="19080"/>
            </a:xfrm>
            <a:custGeom>
              <a:avLst/>
              <a:gdLst/>
              <a:ahLst/>
              <a:rect l="l" t="t" r="r" b="b"/>
              <a:pathLst>
                <a:path w="1653" h="59">
                  <a:moveTo>
                    <a:pt x="0" y="0"/>
                  </a:moveTo>
                  <a:lnTo>
                    <a:pt x="1225" y="0"/>
                  </a:lnTo>
                  <a:lnTo>
                    <a:pt x="1224" y="1"/>
                  </a:lnTo>
                  <a:lnTo>
                    <a:pt x="1341" y="59"/>
                  </a:lnTo>
                  <a:lnTo>
                    <a:pt x="1177" y="59"/>
                  </a:lnTo>
                  <a:lnTo>
                    <a:pt x="840" y="1"/>
                  </a:lnTo>
                  <a:lnTo>
                    <a:pt x="809" y="59"/>
                  </a:lnTo>
                  <a:lnTo>
                    <a:pt x="11" y="59"/>
                  </a:lnTo>
                  <a:lnTo>
                    <a:pt x="11" y="25"/>
                  </a:lnTo>
                  <a:lnTo>
                    <a:pt x="0" y="0"/>
                  </a:lnTo>
                  <a:close/>
                  <a:moveTo>
                    <a:pt x="1555" y="0"/>
                  </a:moveTo>
                  <a:lnTo>
                    <a:pt x="1653" y="0"/>
                  </a:lnTo>
                  <a:lnTo>
                    <a:pt x="1647" y="59"/>
                  </a:lnTo>
                  <a:lnTo>
                    <a:pt x="1641" y="59"/>
                  </a:lnTo>
                  <a:lnTo>
                    <a:pt x="1555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4038480" y="4332240"/>
              <a:ext cx="520920" cy="19080"/>
            </a:xfrm>
            <a:custGeom>
              <a:avLst/>
              <a:gdLst/>
              <a:ahLst/>
              <a:rect l="l" t="t" r="r" b="b"/>
              <a:pathLst>
                <a:path w="1639" h="58">
                  <a:moveTo>
                    <a:pt x="0" y="0"/>
                  </a:moveTo>
                  <a:lnTo>
                    <a:pt x="814" y="0"/>
                  </a:lnTo>
                  <a:lnTo>
                    <a:pt x="781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997" y="0"/>
                  </a:moveTo>
                  <a:lnTo>
                    <a:pt x="1272" y="0"/>
                  </a:lnTo>
                  <a:lnTo>
                    <a:pt x="1388" y="58"/>
                  </a:lnTo>
                  <a:lnTo>
                    <a:pt x="1336" y="58"/>
                  </a:lnTo>
                  <a:lnTo>
                    <a:pt x="997" y="0"/>
                  </a:lnTo>
                  <a:close/>
                  <a:moveTo>
                    <a:pt x="1587" y="0"/>
                  </a:moveTo>
                  <a:lnTo>
                    <a:pt x="1639" y="0"/>
                  </a:lnTo>
                  <a:lnTo>
                    <a:pt x="1636" y="33"/>
                  </a:lnTo>
                  <a:lnTo>
                    <a:pt x="1587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4038480" y="4341960"/>
              <a:ext cx="519120" cy="19080"/>
            </a:xfrm>
            <a:custGeom>
              <a:avLst/>
              <a:gdLst/>
              <a:ahLst/>
              <a:rect l="l" t="t" r="r" b="b"/>
              <a:pathLst>
                <a:path w="1636" h="58">
                  <a:moveTo>
                    <a:pt x="0" y="0"/>
                  </a:moveTo>
                  <a:lnTo>
                    <a:pt x="798" y="0"/>
                  </a:lnTo>
                  <a:lnTo>
                    <a:pt x="766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1166" y="0"/>
                  </a:moveTo>
                  <a:lnTo>
                    <a:pt x="1330" y="0"/>
                  </a:lnTo>
                  <a:lnTo>
                    <a:pt x="1416" y="43"/>
                  </a:lnTo>
                  <a:lnTo>
                    <a:pt x="1166" y="0"/>
                  </a:lnTo>
                  <a:close/>
                  <a:moveTo>
                    <a:pt x="1630" y="0"/>
                  </a:moveTo>
                  <a:lnTo>
                    <a:pt x="1636" y="0"/>
                  </a:lnTo>
                  <a:lnTo>
                    <a:pt x="1636" y="4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4038480" y="4351320"/>
              <a:ext cx="449280" cy="19080"/>
            </a:xfrm>
            <a:custGeom>
              <a:avLst/>
              <a:gdLst/>
              <a:ahLst/>
              <a:rect l="l" t="t" r="r" b="b"/>
              <a:pathLst>
                <a:path w="1416" h="58">
                  <a:moveTo>
                    <a:pt x="0" y="0"/>
                  </a:moveTo>
                  <a:lnTo>
                    <a:pt x="781" y="0"/>
                  </a:lnTo>
                  <a:lnTo>
                    <a:pt x="750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1336" y="0"/>
                  </a:moveTo>
                  <a:lnTo>
                    <a:pt x="1388" y="0"/>
                  </a:lnTo>
                  <a:lnTo>
                    <a:pt x="1416" y="14"/>
                  </a:lnTo>
                  <a:lnTo>
                    <a:pt x="1336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4038480" y="4361040"/>
              <a:ext cx="243000" cy="18720"/>
            </a:xfrm>
            <a:custGeom>
              <a:avLst/>
              <a:gdLst/>
              <a:ahLst/>
              <a:rect l="l" t="t" r="r" b="b"/>
              <a:pathLst>
                <a:path w="766" h="59">
                  <a:moveTo>
                    <a:pt x="0" y="0"/>
                  </a:moveTo>
                  <a:lnTo>
                    <a:pt x="766" y="0"/>
                  </a:lnTo>
                  <a:lnTo>
                    <a:pt x="733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4038480" y="4370400"/>
              <a:ext cx="238320" cy="17280"/>
            </a:xfrm>
            <a:custGeom>
              <a:avLst/>
              <a:gdLst/>
              <a:ahLst/>
              <a:rect l="l" t="t" r="r" b="b"/>
              <a:pathLst>
                <a:path w="750" h="58">
                  <a:moveTo>
                    <a:pt x="0" y="0"/>
                  </a:moveTo>
                  <a:lnTo>
                    <a:pt x="750" y="0"/>
                  </a:lnTo>
                  <a:lnTo>
                    <a:pt x="71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4038480" y="4379760"/>
              <a:ext cx="231840" cy="17640"/>
            </a:xfrm>
            <a:custGeom>
              <a:avLst/>
              <a:gdLst/>
              <a:ahLst/>
              <a:rect l="l" t="t" r="r" b="b"/>
              <a:pathLst>
                <a:path w="733" h="58">
                  <a:moveTo>
                    <a:pt x="0" y="0"/>
                  </a:moveTo>
                  <a:lnTo>
                    <a:pt x="733" y="0"/>
                  </a:lnTo>
                  <a:lnTo>
                    <a:pt x="706" y="50"/>
                  </a:lnTo>
                  <a:lnTo>
                    <a:pt x="721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4035600" y="4387680"/>
              <a:ext cx="249120" cy="19080"/>
            </a:xfrm>
            <a:custGeom>
              <a:avLst/>
              <a:gdLst/>
              <a:ahLst/>
              <a:rect l="l" t="t" r="r" b="b"/>
              <a:pathLst>
                <a:path w="783" h="59">
                  <a:moveTo>
                    <a:pt x="7" y="0"/>
                  </a:moveTo>
                  <a:lnTo>
                    <a:pt x="724" y="0"/>
                  </a:lnTo>
                  <a:lnTo>
                    <a:pt x="713" y="22"/>
                  </a:lnTo>
                  <a:lnTo>
                    <a:pt x="783" y="59"/>
                  </a:lnTo>
                  <a:lnTo>
                    <a:pt x="0" y="59"/>
                  </a:lnTo>
                  <a:lnTo>
                    <a:pt x="7" y="4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4032360" y="4397400"/>
              <a:ext cx="269640" cy="19080"/>
            </a:xfrm>
            <a:custGeom>
              <a:avLst/>
              <a:gdLst/>
              <a:ahLst/>
              <a:rect l="l" t="t" r="r" b="b"/>
              <a:pathLst>
                <a:path w="851" h="58">
                  <a:moveTo>
                    <a:pt x="18" y="0"/>
                  </a:moveTo>
                  <a:lnTo>
                    <a:pt x="739" y="0"/>
                  </a:lnTo>
                  <a:lnTo>
                    <a:pt x="851" y="58"/>
                  </a:lnTo>
                  <a:lnTo>
                    <a:pt x="0" y="58"/>
                  </a:lnTo>
                  <a:lnTo>
                    <a:pt x="18" y="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4029120" y="4406760"/>
              <a:ext cx="290520" cy="19080"/>
            </a:xfrm>
            <a:custGeom>
              <a:avLst/>
              <a:gdLst/>
              <a:ahLst/>
              <a:rect l="l" t="t" r="r" b="b"/>
              <a:pathLst>
                <a:path w="917" h="59">
                  <a:moveTo>
                    <a:pt x="22" y="0"/>
                  </a:moveTo>
                  <a:lnTo>
                    <a:pt x="805" y="0"/>
                  </a:lnTo>
                  <a:lnTo>
                    <a:pt x="917" y="59"/>
                  </a:lnTo>
                  <a:lnTo>
                    <a:pt x="0" y="5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4025880" y="4416480"/>
              <a:ext cx="312840" cy="17280"/>
            </a:xfrm>
            <a:custGeom>
              <a:avLst/>
              <a:gdLst/>
              <a:ahLst/>
              <a:rect l="l" t="t" r="r" b="b"/>
              <a:pathLst>
                <a:path w="985" h="58">
                  <a:moveTo>
                    <a:pt x="23" y="0"/>
                  </a:moveTo>
                  <a:lnTo>
                    <a:pt x="874" y="0"/>
                  </a:lnTo>
                  <a:lnTo>
                    <a:pt x="985" y="58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4021200" y="4425840"/>
              <a:ext cx="334800" cy="17640"/>
            </a:xfrm>
            <a:custGeom>
              <a:avLst/>
              <a:gdLst/>
              <a:ahLst/>
              <a:rect l="l" t="t" r="r" b="b"/>
              <a:pathLst>
                <a:path w="1055" h="58">
                  <a:moveTo>
                    <a:pt x="27" y="0"/>
                  </a:moveTo>
                  <a:lnTo>
                    <a:pt x="944" y="0"/>
                  </a:lnTo>
                  <a:lnTo>
                    <a:pt x="1055" y="58"/>
                  </a:lnTo>
                  <a:lnTo>
                    <a:pt x="0" y="58"/>
                  </a:lnTo>
                  <a:lnTo>
                    <a:pt x="1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016520" y="4433760"/>
              <a:ext cx="357120" cy="19080"/>
            </a:xfrm>
            <a:custGeom>
              <a:avLst/>
              <a:gdLst/>
              <a:ahLst/>
              <a:rect l="l" t="t" r="r" b="b"/>
              <a:pathLst>
                <a:path w="1125" h="58">
                  <a:moveTo>
                    <a:pt x="30" y="0"/>
                  </a:moveTo>
                  <a:lnTo>
                    <a:pt x="1015" y="0"/>
                  </a:lnTo>
                  <a:lnTo>
                    <a:pt x="1125" y="58"/>
                  </a:lnTo>
                  <a:lnTo>
                    <a:pt x="1065" y="58"/>
                  </a:lnTo>
                  <a:lnTo>
                    <a:pt x="939" y="35"/>
                  </a:lnTo>
                  <a:lnTo>
                    <a:pt x="939" y="58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011480" y="4443480"/>
              <a:ext cx="373320" cy="19080"/>
            </a:xfrm>
            <a:custGeom>
              <a:avLst/>
              <a:gdLst/>
              <a:ahLst/>
              <a:rect l="l" t="t" r="r" b="b"/>
              <a:pathLst>
                <a:path w="1173" h="58">
                  <a:moveTo>
                    <a:pt x="27" y="0"/>
                  </a:moveTo>
                  <a:lnTo>
                    <a:pt x="1082" y="0"/>
                  </a:lnTo>
                  <a:lnTo>
                    <a:pt x="1173" y="47"/>
                  </a:lnTo>
                  <a:lnTo>
                    <a:pt x="951" y="5"/>
                  </a:lnTo>
                  <a:lnTo>
                    <a:pt x="951" y="58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010040" y="4452840"/>
              <a:ext cx="374760" cy="19080"/>
            </a:xfrm>
            <a:custGeom>
              <a:avLst/>
              <a:gdLst/>
              <a:ahLst/>
              <a:rect l="l" t="t" r="r" b="b"/>
              <a:pathLst>
                <a:path w="1181" h="59">
                  <a:moveTo>
                    <a:pt x="20" y="0"/>
                  </a:moveTo>
                  <a:lnTo>
                    <a:pt x="959" y="0"/>
                  </a:lnTo>
                  <a:lnTo>
                    <a:pt x="959" y="38"/>
                  </a:lnTo>
                  <a:lnTo>
                    <a:pt x="1004" y="59"/>
                  </a:lnTo>
                  <a:lnTo>
                    <a:pt x="0" y="59"/>
                  </a:lnTo>
                  <a:lnTo>
                    <a:pt x="10" y="19"/>
                  </a:lnTo>
                  <a:lnTo>
                    <a:pt x="20" y="0"/>
                  </a:lnTo>
                  <a:close/>
                  <a:moveTo>
                    <a:pt x="1085" y="0"/>
                  </a:moveTo>
                  <a:lnTo>
                    <a:pt x="1145" y="0"/>
                  </a:lnTo>
                  <a:lnTo>
                    <a:pt x="1181" y="19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4006800" y="4462560"/>
              <a:ext cx="341280" cy="19080"/>
            </a:xfrm>
            <a:custGeom>
              <a:avLst/>
              <a:gdLst/>
              <a:ahLst/>
              <a:rect l="l" t="t" r="r" b="b"/>
              <a:pathLst>
                <a:path w="1075" h="58">
                  <a:moveTo>
                    <a:pt x="15" y="0"/>
                  </a:moveTo>
                  <a:lnTo>
                    <a:pt x="966" y="0"/>
                  </a:lnTo>
                  <a:lnTo>
                    <a:pt x="966" y="8"/>
                  </a:lnTo>
                  <a:lnTo>
                    <a:pt x="1075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4006800" y="4471920"/>
              <a:ext cx="362160" cy="19080"/>
            </a:xfrm>
            <a:custGeom>
              <a:avLst/>
              <a:gdLst/>
              <a:ahLst/>
              <a:rect l="l" t="t" r="r" b="b"/>
              <a:pathLst>
                <a:path w="1141" h="59">
                  <a:moveTo>
                    <a:pt x="10" y="0"/>
                  </a:moveTo>
                  <a:lnTo>
                    <a:pt x="1014" y="0"/>
                  </a:lnTo>
                  <a:lnTo>
                    <a:pt x="1141" y="59"/>
                  </a:lnTo>
                  <a:lnTo>
                    <a:pt x="0" y="59"/>
                  </a:lnTo>
                  <a:lnTo>
                    <a:pt x="0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4006800" y="4481640"/>
              <a:ext cx="380880" cy="17280"/>
            </a:xfrm>
            <a:custGeom>
              <a:avLst/>
              <a:gdLst/>
              <a:ahLst/>
              <a:rect l="l" t="t" r="r" b="b"/>
              <a:pathLst>
                <a:path w="1204" h="58">
                  <a:moveTo>
                    <a:pt x="3" y="0"/>
                  </a:moveTo>
                  <a:lnTo>
                    <a:pt x="1078" y="0"/>
                  </a:lnTo>
                  <a:lnTo>
                    <a:pt x="1204" y="58"/>
                  </a:lnTo>
                  <a:lnTo>
                    <a:pt x="4" y="58"/>
                  </a:lnTo>
                  <a:lnTo>
                    <a:pt x="0" y="51"/>
                  </a:lnTo>
                  <a:lnTo>
                    <a:pt x="0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4006800" y="4491000"/>
              <a:ext cx="401760" cy="17640"/>
            </a:xfrm>
            <a:custGeom>
              <a:avLst/>
              <a:gdLst/>
              <a:ahLst/>
              <a:rect l="l" t="t" r="r" b="b"/>
              <a:pathLst>
                <a:path w="1267" h="58">
                  <a:moveTo>
                    <a:pt x="0" y="0"/>
                  </a:moveTo>
                  <a:lnTo>
                    <a:pt x="1141" y="0"/>
                  </a:lnTo>
                  <a:lnTo>
                    <a:pt x="1267" y="58"/>
                  </a:lnTo>
                  <a:lnTo>
                    <a:pt x="19" y="58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4006800" y="4498920"/>
              <a:ext cx="493920" cy="19080"/>
            </a:xfrm>
            <a:custGeom>
              <a:avLst/>
              <a:gdLst/>
              <a:ahLst/>
              <a:rect l="l" t="t" r="r" b="b"/>
              <a:pathLst>
                <a:path w="1551" h="58">
                  <a:moveTo>
                    <a:pt x="0" y="0"/>
                  </a:moveTo>
                  <a:lnTo>
                    <a:pt x="1200" y="0"/>
                  </a:lnTo>
                  <a:lnTo>
                    <a:pt x="1269" y="32"/>
                  </a:lnTo>
                  <a:lnTo>
                    <a:pt x="1551" y="32"/>
                  </a:lnTo>
                  <a:lnTo>
                    <a:pt x="1531" y="58"/>
                  </a:lnTo>
                  <a:lnTo>
                    <a:pt x="31" y="58"/>
                  </a:lnTo>
                  <a:lnTo>
                    <a:pt x="1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4011480" y="4508640"/>
              <a:ext cx="489240" cy="19080"/>
            </a:xfrm>
            <a:custGeom>
              <a:avLst/>
              <a:gdLst/>
              <a:ahLst/>
              <a:rect l="l" t="t" r="r" b="b"/>
              <a:pathLst>
                <a:path w="1536" h="58">
                  <a:moveTo>
                    <a:pt x="0" y="0"/>
                  </a:moveTo>
                  <a:lnTo>
                    <a:pt x="1248" y="0"/>
                  </a:lnTo>
                  <a:lnTo>
                    <a:pt x="1254" y="2"/>
                  </a:lnTo>
                  <a:lnTo>
                    <a:pt x="1536" y="2"/>
                  </a:lnTo>
                  <a:lnTo>
                    <a:pt x="1494" y="58"/>
                  </a:lnTo>
                  <a:lnTo>
                    <a:pt x="31" y="58"/>
                  </a:lnTo>
                  <a:lnTo>
                    <a:pt x="24" y="4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4017960" y="4518000"/>
              <a:ext cx="476280" cy="19080"/>
            </a:xfrm>
            <a:custGeom>
              <a:avLst/>
              <a:gdLst/>
              <a:ahLst/>
              <a:rect l="l" t="t" r="r" b="b"/>
              <a:pathLst>
                <a:path w="1500" h="60">
                  <a:moveTo>
                    <a:pt x="0" y="0"/>
                  </a:moveTo>
                  <a:lnTo>
                    <a:pt x="1500" y="0"/>
                  </a:lnTo>
                  <a:lnTo>
                    <a:pt x="1458" y="56"/>
                  </a:lnTo>
                  <a:lnTo>
                    <a:pt x="1451" y="60"/>
                  </a:lnTo>
                  <a:lnTo>
                    <a:pt x="32" y="60"/>
                  </a:lnTo>
                  <a:lnTo>
                    <a:pt x="28" y="56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4022640" y="4527720"/>
              <a:ext cx="463680" cy="17280"/>
            </a:xfrm>
            <a:custGeom>
              <a:avLst/>
              <a:gdLst/>
              <a:ahLst/>
              <a:rect l="l" t="t" r="r" b="b"/>
              <a:pathLst>
                <a:path w="1463" h="58">
                  <a:moveTo>
                    <a:pt x="0" y="0"/>
                  </a:moveTo>
                  <a:lnTo>
                    <a:pt x="1463" y="0"/>
                  </a:lnTo>
                  <a:lnTo>
                    <a:pt x="1443" y="26"/>
                  </a:lnTo>
                  <a:lnTo>
                    <a:pt x="1383" y="58"/>
                  </a:lnTo>
                  <a:lnTo>
                    <a:pt x="45" y="58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4027320" y="4537080"/>
              <a:ext cx="451080" cy="17280"/>
            </a:xfrm>
            <a:custGeom>
              <a:avLst/>
              <a:gdLst/>
              <a:ahLst/>
              <a:rect l="l" t="t" r="r" b="b"/>
              <a:pathLst>
                <a:path w="1419" h="58">
                  <a:moveTo>
                    <a:pt x="0" y="0"/>
                  </a:moveTo>
                  <a:lnTo>
                    <a:pt x="1419" y="0"/>
                  </a:lnTo>
                  <a:lnTo>
                    <a:pt x="1349" y="38"/>
                  </a:lnTo>
                  <a:lnTo>
                    <a:pt x="130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4037040" y="4545000"/>
              <a:ext cx="423720" cy="1908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21" y="10"/>
                  </a:lnTo>
                  <a:lnTo>
                    <a:pt x="1239" y="49"/>
                  </a:lnTo>
                  <a:lnTo>
                    <a:pt x="1246" y="58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4046400" y="4554360"/>
              <a:ext cx="397080" cy="19080"/>
            </a:xfrm>
            <a:custGeom>
              <a:avLst/>
              <a:gdLst/>
              <a:ahLst/>
              <a:rect l="l" t="t" r="r" b="b"/>
              <a:pathLst>
                <a:path w="1250" h="58">
                  <a:moveTo>
                    <a:pt x="0" y="0"/>
                  </a:moveTo>
                  <a:lnTo>
                    <a:pt x="1250" y="0"/>
                  </a:lnTo>
                  <a:lnTo>
                    <a:pt x="1209" y="19"/>
                  </a:lnTo>
                  <a:lnTo>
                    <a:pt x="12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4054320" y="4564080"/>
              <a:ext cx="390600" cy="19080"/>
            </a:xfrm>
            <a:custGeom>
              <a:avLst/>
              <a:gdLst/>
              <a:ahLst/>
              <a:rect l="l" t="t" r="r" b="b"/>
              <a:pathLst>
                <a:path w="1227" h="59">
                  <a:moveTo>
                    <a:pt x="0" y="0"/>
                  </a:moveTo>
                  <a:lnTo>
                    <a:pt x="1187" y="0"/>
                  </a:lnTo>
                  <a:lnTo>
                    <a:pt x="1227" y="59"/>
                  </a:lnTo>
                  <a:lnTo>
                    <a:pt x="56" y="59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4064040" y="4573440"/>
              <a:ext cx="387360" cy="19080"/>
            </a:xfrm>
            <a:custGeom>
              <a:avLst/>
              <a:gdLst/>
              <a:ahLst/>
              <a:rect l="l" t="t" r="r" b="b"/>
              <a:pathLst>
                <a:path w="1217" h="58">
                  <a:moveTo>
                    <a:pt x="0" y="0"/>
                  </a:moveTo>
                  <a:lnTo>
                    <a:pt x="1177" y="0"/>
                  </a:lnTo>
                  <a:lnTo>
                    <a:pt x="1217" y="58"/>
                  </a:lnTo>
                  <a:lnTo>
                    <a:pt x="45" y="58"/>
                  </a:lnTo>
                  <a:lnTo>
                    <a:pt x="3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4073400" y="4583160"/>
              <a:ext cx="382680" cy="19080"/>
            </a:xfrm>
            <a:custGeom>
              <a:avLst/>
              <a:gdLst/>
              <a:ahLst/>
              <a:rect l="l" t="t" r="r" b="b"/>
              <a:pathLst>
                <a:path w="1208" h="59">
                  <a:moveTo>
                    <a:pt x="0" y="0"/>
                  </a:moveTo>
                  <a:lnTo>
                    <a:pt x="1171" y="0"/>
                  </a:lnTo>
                  <a:lnTo>
                    <a:pt x="1206" y="52"/>
                  </a:lnTo>
                  <a:lnTo>
                    <a:pt x="1208" y="59"/>
                  </a:lnTo>
                  <a:lnTo>
                    <a:pt x="28" y="5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4078440" y="4592520"/>
              <a:ext cx="380880" cy="1764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0" y="0"/>
                  </a:moveTo>
                  <a:lnTo>
                    <a:pt x="1172" y="0"/>
                  </a:lnTo>
                  <a:lnTo>
                    <a:pt x="1188" y="23"/>
                  </a:lnTo>
                  <a:lnTo>
                    <a:pt x="1200" y="58"/>
                  </a:lnTo>
                  <a:lnTo>
                    <a:pt x="17" y="58"/>
                  </a:lnTo>
                  <a:lnTo>
                    <a:pt x="17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4081320" y="4602240"/>
              <a:ext cx="381240" cy="17280"/>
            </a:xfrm>
            <a:custGeom>
              <a:avLst/>
              <a:gdLst/>
              <a:ahLst/>
              <a:rect l="l" t="t" r="r" b="b"/>
              <a:pathLst>
                <a:path w="1201" h="58">
                  <a:moveTo>
                    <a:pt x="0" y="0"/>
                  </a:moveTo>
                  <a:lnTo>
                    <a:pt x="1180" y="0"/>
                  </a:lnTo>
                  <a:lnTo>
                    <a:pt x="1201" y="58"/>
                  </a:lnTo>
                  <a:lnTo>
                    <a:pt x="7" y="58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4083120" y="4610160"/>
              <a:ext cx="382680" cy="190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3" y="0"/>
                  </a:moveTo>
                  <a:lnTo>
                    <a:pt x="1186" y="0"/>
                  </a:lnTo>
                  <a:lnTo>
                    <a:pt x="1207" y="58"/>
                  </a:lnTo>
                  <a:lnTo>
                    <a:pt x="0" y="58"/>
                  </a:lnTo>
                  <a:lnTo>
                    <a:pt x="3" y="4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4081320" y="461952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8" y="0"/>
                  </a:moveTo>
                  <a:lnTo>
                    <a:pt x="1202" y="0"/>
                  </a:lnTo>
                  <a:lnTo>
                    <a:pt x="1222" y="58"/>
                  </a:lnTo>
                  <a:lnTo>
                    <a:pt x="0" y="5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4079880" y="462924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9">
                  <a:moveTo>
                    <a:pt x="10" y="0"/>
                  </a:moveTo>
                  <a:lnTo>
                    <a:pt x="1217" y="0"/>
                  </a:lnTo>
                  <a:lnTo>
                    <a:pt x="1238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4078440" y="4638600"/>
              <a:ext cx="396720" cy="17640"/>
            </a:xfrm>
            <a:custGeom>
              <a:avLst/>
              <a:gdLst/>
              <a:ahLst/>
              <a:rect l="l" t="t" r="r" b="b"/>
              <a:pathLst>
                <a:path w="1251" h="58">
                  <a:moveTo>
                    <a:pt x="10" y="0"/>
                  </a:moveTo>
                  <a:lnTo>
                    <a:pt x="1232" y="0"/>
                  </a:lnTo>
                  <a:lnTo>
                    <a:pt x="1247" y="40"/>
                  </a:lnTo>
                  <a:lnTo>
                    <a:pt x="1251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4076640" y="4648320"/>
              <a:ext cx="401760" cy="17280"/>
            </a:xfrm>
            <a:custGeom>
              <a:avLst/>
              <a:gdLst/>
              <a:ahLst/>
              <a:rect l="l" t="t" r="r" b="b"/>
              <a:pathLst>
                <a:path w="1263" h="58">
                  <a:moveTo>
                    <a:pt x="10" y="0"/>
                  </a:moveTo>
                  <a:lnTo>
                    <a:pt x="1248" y="0"/>
                  </a:lnTo>
                  <a:lnTo>
                    <a:pt x="1252" y="11"/>
                  </a:lnTo>
                  <a:lnTo>
                    <a:pt x="1263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4075200" y="4656240"/>
              <a:ext cx="404640" cy="19080"/>
            </a:xfrm>
            <a:custGeom>
              <a:avLst/>
              <a:gdLst/>
              <a:ahLst/>
              <a:rect l="l" t="t" r="r" b="b"/>
              <a:pathLst>
                <a:path w="1275" h="58">
                  <a:moveTo>
                    <a:pt x="10" y="0"/>
                  </a:moveTo>
                  <a:lnTo>
                    <a:pt x="1261" y="0"/>
                  </a:lnTo>
                  <a:lnTo>
                    <a:pt x="1275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4073400" y="4665600"/>
              <a:ext cx="408240" cy="19080"/>
            </a:xfrm>
            <a:custGeom>
              <a:avLst/>
              <a:gdLst/>
              <a:ahLst/>
              <a:rect l="l" t="t" r="r" b="b"/>
              <a:pathLst>
                <a:path w="1286" h="59">
                  <a:moveTo>
                    <a:pt x="10" y="0"/>
                  </a:moveTo>
                  <a:lnTo>
                    <a:pt x="1273" y="0"/>
                  </a:lnTo>
                  <a:lnTo>
                    <a:pt x="1286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4071960" y="4675320"/>
              <a:ext cx="412560" cy="19080"/>
            </a:xfrm>
            <a:custGeom>
              <a:avLst/>
              <a:gdLst/>
              <a:ahLst/>
              <a:rect l="l" t="t" r="r" b="b"/>
              <a:pathLst>
                <a:path w="1299" h="59">
                  <a:moveTo>
                    <a:pt x="11" y="0"/>
                  </a:moveTo>
                  <a:lnTo>
                    <a:pt x="1286" y="0"/>
                  </a:lnTo>
                  <a:lnTo>
                    <a:pt x="1299" y="59"/>
                  </a:lnTo>
                  <a:lnTo>
                    <a:pt x="0" y="5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4070520" y="4684680"/>
              <a:ext cx="415800" cy="19080"/>
            </a:xfrm>
            <a:custGeom>
              <a:avLst/>
              <a:gdLst/>
              <a:ahLst/>
              <a:rect l="l" t="t" r="r" b="b"/>
              <a:pathLst>
                <a:path w="1311" h="58">
                  <a:moveTo>
                    <a:pt x="10" y="0"/>
                  </a:moveTo>
                  <a:lnTo>
                    <a:pt x="1296" y="0"/>
                  </a:lnTo>
                  <a:lnTo>
                    <a:pt x="1311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4070520" y="4694400"/>
              <a:ext cx="417240" cy="172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4" y="0"/>
                  </a:moveTo>
                  <a:lnTo>
                    <a:pt x="1303" y="0"/>
                  </a:lnTo>
                  <a:lnTo>
                    <a:pt x="1315" y="47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4070520" y="4703760"/>
              <a:ext cx="420480" cy="17640"/>
            </a:xfrm>
            <a:custGeom>
              <a:avLst/>
              <a:gdLst/>
              <a:ahLst/>
              <a:rect l="l" t="t" r="r" b="b"/>
              <a:pathLst>
                <a:path w="1323" h="58">
                  <a:moveTo>
                    <a:pt x="0" y="0"/>
                  </a:moveTo>
                  <a:lnTo>
                    <a:pt x="1311" y="0"/>
                  </a:lnTo>
                  <a:lnTo>
                    <a:pt x="1315" y="18"/>
                  </a:lnTo>
                  <a:lnTo>
                    <a:pt x="132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4070520" y="4711680"/>
              <a:ext cx="422280" cy="19080"/>
            </a:xfrm>
            <a:custGeom>
              <a:avLst/>
              <a:gdLst/>
              <a:ahLst/>
              <a:rect l="l" t="t" r="r" b="b"/>
              <a:pathLst>
                <a:path w="1329" h="58">
                  <a:moveTo>
                    <a:pt x="0" y="0"/>
                  </a:moveTo>
                  <a:lnTo>
                    <a:pt x="1317" y="0"/>
                  </a:lnTo>
                  <a:lnTo>
                    <a:pt x="1329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4070520" y="4721400"/>
              <a:ext cx="423720" cy="18720"/>
            </a:xfrm>
            <a:custGeom>
              <a:avLst/>
              <a:gdLst/>
              <a:ahLst/>
              <a:rect l="l" t="t" r="r" b="b"/>
              <a:pathLst>
                <a:path w="1335" h="59">
                  <a:moveTo>
                    <a:pt x="0" y="0"/>
                  </a:moveTo>
                  <a:lnTo>
                    <a:pt x="1323" y="0"/>
                  </a:lnTo>
                  <a:lnTo>
                    <a:pt x="1335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4070520" y="4730760"/>
              <a:ext cx="425160" cy="19080"/>
            </a:xfrm>
            <a:custGeom>
              <a:avLst/>
              <a:gdLst/>
              <a:ahLst/>
              <a:rect l="l" t="t" r="r" b="b"/>
              <a:pathLst>
                <a:path w="1341" h="59">
                  <a:moveTo>
                    <a:pt x="0" y="0"/>
                  </a:moveTo>
                  <a:lnTo>
                    <a:pt x="1329" y="0"/>
                  </a:lnTo>
                  <a:lnTo>
                    <a:pt x="1341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4070520" y="474012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35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4070520" y="4749840"/>
              <a:ext cx="430200" cy="1728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1" y="0"/>
                  </a:lnTo>
                  <a:lnTo>
                    <a:pt x="1353" y="54"/>
                  </a:lnTo>
                  <a:lnTo>
                    <a:pt x="135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4070520" y="4759200"/>
              <a:ext cx="430200" cy="1764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7" y="0"/>
                  </a:lnTo>
                  <a:lnTo>
                    <a:pt x="1353" y="25"/>
                  </a:lnTo>
                  <a:lnTo>
                    <a:pt x="135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4070520" y="4767120"/>
              <a:ext cx="428400" cy="19080"/>
            </a:xfrm>
            <a:custGeom>
              <a:avLst/>
              <a:gdLst/>
              <a:ahLst/>
              <a:rect l="l" t="t" r="r" b="b"/>
              <a:pathLst>
                <a:path w="1352" h="59">
                  <a:moveTo>
                    <a:pt x="0" y="0"/>
                  </a:moveTo>
                  <a:lnTo>
                    <a:pt x="1352" y="0"/>
                  </a:lnTo>
                  <a:lnTo>
                    <a:pt x="1347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4070520" y="4776840"/>
              <a:ext cx="428400" cy="19080"/>
            </a:xfrm>
            <a:custGeom>
              <a:avLst/>
              <a:gdLst/>
              <a:ahLst/>
              <a:rect l="l" t="t" r="r" b="b"/>
              <a:pathLst>
                <a:path w="1350" h="58">
                  <a:moveTo>
                    <a:pt x="0" y="0"/>
                  </a:moveTo>
                  <a:lnTo>
                    <a:pt x="1350" y="0"/>
                  </a:lnTo>
                  <a:lnTo>
                    <a:pt x="1344" y="58"/>
                  </a:lnTo>
                  <a:lnTo>
                    <a:pt x="2" y="58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4070520" y="478620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47" y="0"/>
                  </a:lnTo>
                  <a:lnTo>
                    <a:pt x="134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4070520" y="4795920"/>
              <a:ext cx="426960" cy="19080"/>
            </a:xfrm>
            <a:custGeom>
              <a:avLst/>
              <a:gdLst/>
              <a:ahLst/>
              <a:rect l="l" t="t" r="r" b="b"/>
              <a:pathLst>
                <a:path w="1342" h="59">
                  <a:moveTo>
                    <a:pt x="0" y="0"/>
                  </a:moveTo>
                  <a:lnTo>
                    <a:pt x="1342" y="0"/>
                  </a:lnTo>
                  <a:lnTo>
                    <a:pt x="1337" y="59"/>
                  </a:lnTo>
                  <a:lnTo>
                    <a:pt x="5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4071960" y="4805280"/>
              <a:ext cx="423720" cy="1764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32" y="58"/>
                  </a:lnTo>
                  <a:lnTo>
                    <a:pt x="6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4071960" y="4815000"/>
              <a:ext cx="42372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27" y="58"/>
                  </a:lnTo>
                  <a:lnTo>
                    <a:pt x="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4073400" y="4822920"/>
              <a:ext cx="420840" cy="19080"/>
            </a:xfrm>
            <a:custGeom>
              <a:avLst/>
              <a:gdLst/>
              <a:ahLst/>
              <a:rect l="l" t="t" r="r" b="b"/>
              <a:pathLst>
                <a:path w="1326" h="58">
                  <a:moveTo>
                    <a:pt x="0" y="0"/>
                  </a:moveTo>
                  <a:lnTo>
                    <a:pt x="1326" y="0"/>
                  </a:lnTo>
                  <a:lnTo>
                    <a:pt x="1321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073400" y="4832280"/>
              <a:ext cx="420840" cy="19080"/>
            </a:xfrm>
            <a:custGeom>
              <a:avLst/>
              <a:gdLst/>
              <a:ahLst/>
              <a:rect l="l" t="t" r="r" b="b"/>
              <a:pathLst>
                <a:path w="1322" h="59">
                  <a:moveTo>
                    <a:pt x="0" y="0"/>
                  </a:moveTo>
                  <a:lnTo>
                    <a:pt x="1322" y="0"/>
                  </a:lnTo>
                  <a:lnTo>
                    <a:pt x="1316" y="59"/>
                  </a:lnTo>
                  <a:lnTo>
                    <a:pt x="4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4075200" y="4842000"/>
              <a:ext cx="4176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0" y="0"/>
                  </a:moveTo>
                  <a:lnTo>
                    <a:pt x="1317" y="0"/>
                  </a:lnTo>
                  <a:lnTo>
                    <a:pt x="131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4075200" y="4851360"/>
              <a:ext cx="417600" cy="19080"/>
            </a:xfrm>
            <a:custGeom>
              <a:avLst/>
              <a:gdLst/>
              <a:ahLst/>
              <a:rect l="l" t="t" r="r" b="b"/>
              <a:pathLst>
                <a:path w="1312" h="58">
                  <a:moveTo>
                    <a:pt x="0" y="0"/>
                  </a:moveTo>
                  <a:lnTo>
                    <a:pt x="1312" y="0"/>
                  </a:lnTo>
                  <a:lnTo>
                    <a:pt x="1307" y="58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4076640" y="4861080"/>
              <a:ext cx="414360" cy="17280"/>
            </a:xfrm>
            <a:custGeom>
              <a:avLst/>
              <a:gdLst/>
              <a:ahLst/>
              <a:rect l="l" t="t" r="r" b="b"/>
              <a:pathLst>
                <a:path w="1308" h="59">
                  <a:moveTo>
                    <a:pt x="0" y="0"/>
                  </a:moveTo>
                  <a:lnTo>
                    <a:pt x="1308" y="0"/>
                  </a:lnTo>
                  <a:lnTo>
                    <a:pt x="1302" y="59"/>
                  </a:lnTo>
                  <a:lnTo>
                    <a:pt x="7" y="59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4076640" y="4870440"/>
              <a:ext cx="414360" cy="17640"/>
            </a:xfrm>
            <a:custGeom>
              <a:avLst/>
              <a:gdLst/>
              <a:ahLst/>
              <a:rect l="l" t="t" r="r" b="b"/>
              <a:pathLst>
                <a:path w="1303" h="58">
                  <a:moveTo>
                    <a:pt x="0" y="0"/>
                  </a:moveTo>
                  <a:lnTo>
                    <a:pt x="1303" y="0"/>
                  </a:lnTo>
                  <a:lnTo>
                    <a:pt x="1298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4078440" y="4878360"/>
              <a:ext cx="411120" cy="19080"/>
            </a:xfrm>
            <a:custGeom>
              <a:avLst/>
              <a:gdLst/>
              <a:ahLst/>
              <a:rect l="l" t="t" r="r" b="b"/>
              <a:pathLst>
                <a:path w="1295" h="59">
                  <a:moveTo>
                    <a:pt x="0" y="0"/>
                  </a:moveTo>
                  <a:lnTo>
                    <a:pt x="1295" y="0"/>
                  </a:lnTo>
                  <a:lnTo>
                    <a:pt x="1290" y="59"/>
                  </a:lnTo>
                  <a:lnTo>
                    <a:pt x="1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4079880" y="4888080"/>
              <a:ext cx="409680" cy="18720"/>
            </a:xfrm>
            <a:custGeom>
              <a:avLst/>
              <a:gdLst/>
              <a:ahLst/>
              <a:rect l="l" t="t" r="r" b="b"/>
              <a:pathLst>
                <a:path w="1288" h="58">
                  <a:moveTo>
                    <a:pt x="0" y="0"/>
                  </a:moveTo>
                  <a:lnTo>
                    <a:pt x="1288" y="0"/>
                  </a:lnTo>
                  <a:lnTo>
                    <a:pt x="1282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4081320" y="4897440"/>
              <a:ext cx="406440" cy="19080"/>
            </a:xfrm>
            <a:custGeom>
              <a:avLst/>
              <a:gdLst/>
              <a:ahLst/>
              <a:rect l="l" t="t" r="r" b="b"/>
              <a:pathLst>
                <a:path w="1279" h="58">
                  <a:moveTo>
                    <a:pt x="0" y="0"/>
                  </a:moveTo>
                  <a:lnTo>
                    <a:pt x="1279" y="0"/>
                  </a:lnTo>
                  <a:lnTo>
                    <a:pt x="1274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4083120" y="4906800"/>
              <a:ext cx="403200" cy="17640"/>
            </a:xfrm>
            <a:custGeom>
              <a:avLst/>
              <a:gdLst/>
              <a:ahLst/>
              <a:rect l="l" t="t" r="r" b="b"/>
              <a:pathLst>
                <a:path w="1271" h="58">
                  <a:moveTo>
                    <a:pt x="0" y="0"/>
                  </a:moveTo>
                  <a:lnTo>
                    <a:pt x="1271" y="0"/>
                  </a:lnTo>
                  <a:lnTo>
                    <a:pt x="1265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4084560" y="4916520"/>
              <a:ext cx="401760" cy="172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0" y="0"/>
                  </a:moveTo>
                  <a:lnTo>
                    <a:pt x="1264" y="0"/>
                  </a:lnTo>
                  <a:lnTo>
                    <a:pt x="1257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4086360" y="4924440"/>
              <a:ext cx="398160" cy="19080"/>
            </a:xfrm>
            <a:custGeom>
              <a:avLst/>
              <a:gdLst/>
              <a:ahLst/>
              <a:rect l="l" t="t" r="r" b="b"/>
              <a:pathLst>
                <a:path w="1255" h="60">
                  <a:moveTo>
                    <a:pt x="0" y="0"/>
                  </a:moveTo>
                  <a:lnTo>
                    <a:pt x="1255" y="0"/>
                  </a:lnTo>
                  <a:lnTo>
                    <a:pt x="1249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4087800" y="4933800"/>
              <a:ext cx="396720" cy="19080"/>
            </a:xfrm>
            <a:custGeom>
              <a:avLst/>
              <a:gdLst/>
              <a:ahLst/>
              <a:rect l="l" t="t" r="r" b="b"/>
              <a:pathLst>
                <a:path w="1246" h="58">
                  <a:moveTo>
                    <a:pt x="0" y="0"/>
                  </a:moveTo>
                  <a:lnTo>
                    <a:pt x="1246" y="0"/>
                  </a:lnTo>
                  <a:lnTo>
                    <a:pt x="1241" y="58"/>
                  </a:lnTo>
                  <a:lnTo>
                    <a:pt x="10" y="58"/>
                  </a:lnTo>
                  <a:lnTo>
                    <a:pt x="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4089240" y="494352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8">
                  <a:moveTo>
                    <a:pt x="0" y="0"/>
                  </a:moveTo>
                  <a:lnTo>
                    <a:pt x="1238" y="0"/>
                  </a:lnTo>
                  <a:lnTo>
                    <a:pt x="1233" y="58"/>
                  </a:lnTo>
                  <a:lnTo>
                    <a:pt x="11" y="5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4091040" y="4952880"/>
              <a:ext cx="392040" cy="19080"/>
            </a:xfrm>
            <a:custGeom>
              <a:avLst/>
              <a:gdLst/>
              <a:ahLst/>
              <a:rect l="l" t="t" r="r" b="b"/>
              <a:pathLst>
                <a:path w="1231" h="58">
                  <a:moveTo>
                    <a:pt x="0" y="0"/>
                  </a:moveTo>
                  <a:lnTo>
                    <a:pt x="1231" y="0"/>
                  </a:lnTo>
                  <a:lnTo>
                    <a:pt x="1226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4094280" y="496260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0" y="0"/>
                  </a:moveTo>
                  <a:lnTo>
                    <a:pt x="1222" y="0"/>
                  </a:lnTo>
                  <a:lnTo>
                    <a:pt x="1217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4095720" y="4971960"/>
              <a:ext cx="385920" cy="17640"/>
            </a:xfrm>
            <a:custGeom>
              <a:avLst/>
              <a:gdLst/>
              <a:ahLst/>
              <a:rect l="l" t="t" r="r" b="b"/>
              <a:pathLst>
                <a:path w="1215" h="58">
                  <a:moveTo>
                    <a:pt x="0" y="0"/>
                  </a:moveTo>
                  <a:lnTo>
                    <a:pt x="1215" y="0"/>
                  </a:lnTo>
                  <a:lnTo>
                    <a:pt x="1209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4097160" y="4981680"/>
              <a:ext cx="382680" cy="172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0" y="0"/>
                  </a:moveTo>
                  <a:lnTo>
                    <a:pt x="1207" y="0"/>
                  </a:lnTo>
                  <a:lnTo>
                    <a:pt x="1201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098960" y="498960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60">
                  <a:moveTo>
                    <a:pt x="0" y="0"/>
                  </a:moveTo>
                  <a:lnTo>
                    <a:pt x="1198" y="0"/>
                  </a:lnTo>
                  <a:lnTo>
                    <a:pt x="1193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100400" y="4998960"/>
              <a:ext cx="378000" cy="19080"/>
            </a:xfrm>
            <a:custGeom>
              <a:avLst/>
              <a:gdLst/>
              <a:ahLst/>
              <a:rect l="l" t="t" r="r" b="b"/>
              <a:pathLst>
                <a:path w="1190" h="58">
                  <a:moveTo>
                    <a:pt x="0" y="0"/>
                  </a:moveTo>
                  <a:lnTo>
                    <a:pt x="1190" y="0"/>
                  </a:lnTo>
                  <a:lnTo>
                    <a:pt x="1185" y="58"/>
                  </a:lnTo>
                  <a:lnTo>
                    <a:pt x="16" y="58"/>
                  </a:lnTo>
                  <a:lnTo>
                    <a:pt x="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102200" y="5008680"/>
              <a:ext cx="374400" cy="19080"/>
            </a:xfrm>
            <a:custGeom>
              <a:avLst/>
              <a:gdLst/>
              <a:ahLst/>
              <a:rect l="l" t="t" r="r" b="b"/>
              <a:pathLst>
                <a:path w="1182" h="58">
                  <a:moveTo>
                    <a:pt x="0" y="0"/>
                  </a:moveTo>
                  <a:lnTo>
                    <a:pt x="1182" y="0"/>
                  </a:lnTo>
                  <a:lnTo>
                    <a:pt x="1176" y="58"/>
                  </a:lnTo>
                  <a:lnTo>
                    <a:pt x="20" y="5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105440" y="5018040"/>
              <a:ext cx="371160" cy="1764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64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4108320" y="5027760"/>
              <a:ext cx="36684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0" y="0"/>
                  </a:moveTo>
                  <a:lnTo>
                    <a:pt x="1156" y="0"/>
                  </a:lnTo>
                  <a:lnTo>
                    <a:pt x="1151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4111560" y="5035680"/>
              <a:ext cx="363600" cy="19080"/>
            </a:xfrm>
            <a:custGeom>
              <a:avLst/>
              <a:gdLst/>
              <a:ahLst/>
              <a:rect l="l" t="t" r="r" b="b"/>
              <a:pathLst>
                <a:path w="1144" h="59">
                  <a:moveTo>
                    <a:pt x="0" y="0"/>
                  </a:moveTo>
                  <a:lnTo>
                    <a:pt x="1144" y="0"/>
                  </a:lnTo>
                  <a:lnTo>
                    <a:pt x="1138" y="59"/>
                  </a:lnTo>
                  <a:lnTo>
                    <a:pt x="17" y="59"/>
                  </a:lnTo>
                  <a:lnTo>
                    <a:pt x="1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114800" y="5045040"/>
              <a:ext cx="358920" cy="19080"/>
            </a:xfrm>
            <a:custGeom>
              <a:avLst/>
              <a:gdLst/>
              <a:ahLst/>
              <a:rect l="l" t="t" r="r" b="b"/>
              <a:pathLst>
                <a:path w="1131" h="58">
                  <a:moveTo>
                    <a:pt x="0" y="0"/>
                  </a:moveTo>
                  <a:lnTo>
                    <a:pt x="1131" y="0"/>
                  </a:lnTo>
                  <a:lnTo>
                    <a:pt x="1126" y="58"/>
                  </a:lnTo>
                  <a:lnTo>
                    <a:pt x="13" y="58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2" name=""/>
            <p:cNvGrpSpPr/>
            <p:nvPr/>
          </p:nvGrpSpPr>
          <p:grpSpPr>
            <a:xfrm>
              <a:off x="3359160" y="3505320"/>
              <a:ext cx="2422440" cy="2317680"/>
              <a:chOff x="3359160" y="3505320"/>
              <a:chExt cx="2422440" cy="2317680"/>
            </a:xfrm>
          </p:grpSpPr>
          <p:grpSp>
            <p:nvGrpSpPr>
              <p:cNvPr id="6233" name=""/>
              <p:cNvGrpSpPr/>
              <p:nvPr/>
            </p:nvGrpSpPr>
            <p:grpSpPr>
              <a:xfrm>
                <a:off x="3981600" y="4762440"/>
                <a:ext cx="1800000" cy="1060560"/>
                <a:chOff x="3981600" y="4762440"/>
                <a:chExt cx="1800000" cy="1060560"/>
              </a:xfrm>
            </p:grpSpPr>
            <p:sp>
              <p:nvSpPr>
                <p:cNvPr id="6234" name=""/>
                <p:cNvSpPr/>
                <p:nvPr/>
              </p:nvSpPr>
              <p:spPr>
                <a:xfrm>
                  <a:off x="4116240" y="5054760"/>
                  <a:ext cx="357480" cy="18720"/>
                </a:xfrm>
                <a:custGeom>
                  <a:avLst/>
                  <a:gdLst/>
                  <a:ahLst/>
                  <a:rect l="l" t="t" r="r" b="b"/>
                  <a:pathLst>
                    <a:path w="1121" h="59">
                      <a:moveTo>
                        <a:pt x="0" y="0"/>
                      </a:moveTo>
                      <a:lnTo>
                        <a:pt x="1121" y="0"/>
                      </a:lnTo>
                      <a:lnTo>
                        <a:pt x="1116" y="59"/>
                      </a:lnTo>
                      <a:lnTo>
                        <a:pt x="11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5" name=""/>
                <p:cNvSpPr/>
                <p:nvPr/>
              </p:nvSpPr>
              <p:spPr>
                <a:xfrm>
                  <a:off x="4119480" y="5064120"/>
                  <a:ext cx="352440" cy="19080"/>
                </a:xfrm>
                <a:custGeom>
                  <a:avLst/>
                  <a:gdLst/>
                  <a:ahLst/>
                  <a:rect l="l" t="t" r="r" b="b"/>
                  <a:pathLst>
                    <a:path w="1113" h="58">
                      <a:moveTo>
                        <a:pt x="0" y="0"/>
                      </a:moveTo>
                      <a:lnTo>
                        <a:pt x="1113" y="0"/>
                      </a:lnTo>
                      <a:lnTo>
                        <a:pt x="110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6" name=""/>
                <p:cNvSpPr/>
                <p:nvPr/>
              </p:nvSpPr>
              <p:spPr>
                <a:xfrm>
                  <a:off x="4121280" y="507348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5" h="58">
                      <a:moveTo>
                        <a:pt x="0" y="0"/>
                      </a:moveTo>
                      <a:lnTo>
                        <a:pt x="1105" y="0"/>
                      </a:lnTo>
                      <a:lnTo>
                        <a:pt x="109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7" name=""/>
                <p:cNvSpPr/>
                <p:nvPr/>
              </p:nvSpPr>
              <p:spPr>
                <a:xfrm>
                  <a:off x="4122720" y="5083200"/>
                  <a:ext cx="347760" cy="17280"/>
                </a:xfrm>
                <a:custGeom>
                  <a:avLst/>
                  <a:gdLst/>
                  <a:ahLst/>
                  <a:rect l="l" t="t" r="r" b="b"/>
                  <a:pathLst>
                    <a:path w="1096" h="59">
                      <a:moveTo>
                        <a:pt x="0" y="0"/>
                      </a:moveTo>
                      <a:lnTo>
                        <a:pt x="1096" y="0"/>
                      </a:lnTo>
                      <a:lnTo>
                        <a:pt x="1091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8" name=""/>
                <p:cNvSpPr/>
                <p:nvPr/>
              </p:nvSpPr>
              <p:spPr>
                <a:xfrm>
                  <a:off x="4124160" y="5092560"/>
                  <a:ext cx="344520" cy="17640"/>
                </a:xfrm>
                <a:custGeom>
                  <a:avLst/>
                  <a:gdLst/>
                  <a:ahLst/>
                  <a:rect l="l" t="t" r="r" b="b"/>
                  <a:pathLst>
                    <a:path w="1089" h="58">
                      <a:moveTo>
                        <a:pt x="0" y="0"/>
                      </a:moveTo>
                      <a:lnTo>
                        <a:pt x="1089" y="0"/>
                      </a:lnTo>
                      <a:lnTo>
                        <a:pt x="108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9" name=""/>
                <p:cNvSpPr/>
                <p:nvPr/>
              </p:nvSpPr>
              <p:spPr>
                <a:xfrm>
                  <a:off x="4125960" y="51004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1081" h="58">
                      <a:moveTo>
                        <a:pt x="0" y="0"/>
                      </a:moveTo>
                      <a:lnTo>
                        <a:pt x="1081" y="0"/>
                      </a:lnTo>
                      <a:lnTo>
                        <a:pt x="107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0" name=""/>
                <p:cNvSpPr/>
                <p:nvPr/>
              </p:nvSpPr>
              <p:spPr>
                <a:xfrm>
                  <a:off x="4127400" y="511020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1073" h="58">
                      <a:moveTo>
                        <a:pt x="0" y="0"/>
                      </a:moveTo>
                      <a:lnTo>
                        <a:pt x="1073" y="0"/>
                      </a:lnTo>
                      <a:lnTo>
                        <a:pt x="106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1" name=""/>
                <p:cNvSpPr/>
                <p:nvPr/>
              </p:nvSpPr>
              <p:spPr>
                <a:xfrm>
                  <a:off x="4129200" y="5119560"/>
                  <a:ext cx="338040" cy="19080"/>
                </a:xfrm>
                <a:custGeom>
                  <a:avLst/>
                  <a:gdLst/>
                  <a:ahLst/>
                  <a:rect l="l" t="t" r="r" b="b"/>
                  <a:pathLst>
                    <a:path w="1066" h="59">
                      <a:moveTo>
                        <a:pt x="0" y="0"/>
                      </a:moveTo>
                      <a:lnTo>
                        <a:pt x="1066" y="0"/>
                      </a:lnTo>
                      <a:lnTo>
                        <a:pt x="1060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2" name=""/>
                <p:cNvSpPr/>
                <p:nvPr/>
              </p:nvSpPr>
              <p:spPr>
                <a:xfrm>
                  <a:off x="4130640" y="5129280"/>
                  <a:ext cx="335160" cy="17280"/>
                </a:xfrm>
                <a:custGeom>
                  <a:avLst/>
                  <a:gdLst/>
                  <a:ahLst/>
                  <a:rect l="l" t="t" r="r" b="b"/>
                  <a:pathLst>
                    <a:path w="1058" h="58">
                      <a:moveTo>
                        <a:pt x="0" y="0"/>
                      </a:moveTo>
                      <a:lnTo>
                        <a:pt x="1058" y="0"/>
                      </a:lnTo>
                      <a:lnTo>
                        <a:pt x="1053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3" name=""/>
                <p:cNvSpPr/>
                <p:nvPr/>
              </p:nvSpPr>
              <p:spPr>
                <a:xfrm>
                  <a:off x="4132440" y="5138640"/>
                  <a:ext cx="333360" cy="17640"/>
                </a:xfrm>
                <a:custGeom>
                  <a:avLst/>
                  <a:gdLst/>
                  <a:ahLst/>
                  <a:rect l="l" t="t" r="r" b="b"/>
                  <a:pathLst>
                    <a:path w="1050" h="58">
                      <a:moveTo>
                        <a:pt x="0" y="0"/>
                      </a:moveTo>
                      <a:lnTo>
                        <a:pt x="1050" y="0"/>
                      </a:lnTo>
                      <a:lnTo>
                        <a:pt x="1045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4" name=""/>
                <p:cNvSpPr/>
                <p:nvPr/>
              </p:nvSpPr>
              <p:spPr>
                <a:xfrm>
                  <a:off x="4133880" y="5146560"/>
                  <a:ext cx="330120" cy="19080"/>
                </a:xfrm>
                <a:custGeom>
                  <a:avLst/>
                  <a:gdLst/>
                  <a:ahLst/>
                  <a:rect l="l" t="t" r="r" b="b"/>
                  <a:pathLst>
                    <a:path w="1042" h="59">
                      <a:moveTo>
                        <a:pt x="0" y="0"/>
                      </a:moveTo>
                      <a:lnTo>
                        <a:pt x="1042" y="0"/>
                      </a:lnTo>
                      <a:lnTo>
                        <a:pt x="103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5" name=""/>
                <p:cNvSpPr/>
                <p:nvPr/>
              </p:nvSpPr>
              <p:spPr>
                <a:xfrm>
                  <a:off x="4135320" y="5156280"/>
                  <a:ext cx="328680" cy="19080"/>
                </a:xfrm>
                <a:custGeom>
                  <a:avLst/>
                  <a:gdLst/>
                  <a:ahLst/>
                  <a:rect l="l" t="t" r="r" b="b"/>
                  <a:pathLst>
                    <a:path w="1034" h="58">
                      <a:moveTo>
                        <a:pt x="0" y="0"/>
                      </a:moveTo>
                      <a:lnTo>
                        <a:pt x="1034" y="0"/>
                      </a:lnTo>
                      <a:lnTo>
                        <a:pt x="102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6" name=""/>
                <p:cNvSpPr/>
                <p:nvPr/>
              </p:nvSpPr>
              <p:spPr>
                <a:xfrm>
                  <a:off x="4137120" y="5165640"/>
                  <a:ext cx="325440" cy="19080"/>
                </a:xfrm>
                <a:custGeom>
                  <a:avLst/>
                  <a:gdLst/>
                  <a:ahLst/>
                  <a:rect l="l" t="t" r="r" b="b"/>
                  <a:pathLst>
                    <a:path w="1026" h="58">
                      <a:moveTo>
                        <a:pt x="0" y="0"/>
                      </a:moveTo>
                      <a:lnTo>
                        <a:pt x="1026" y="0"/>
                      </a:lnTo>
                      <a:lnTo>
                        <a:pt x="102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7" name=""/>
                <p:cNvSpPr/>
                <p:nvPr/>
              </p:nvSpPr>
              <p:spPr>
                <a:xfrm>
                  <a:off x="4138560" y="5175360"/>
                  <a:ext cx="324000" cy="19080"/>
                </a:xfrm>
                <a:custGeom>
                  <a:avLst/>
                  <a:gdLst/>
                  <a:ahLst/>
                  <a:rect l="l" t="t" r="r" b="b"/>
                  <a:pathLst>
                    <a:path w="1019" h="58">
                      <a:moveTo>
                        <a:pt x="0" y="0"/>
                      </a:moveTo>
                      <a:lnTo>
                        <a:pt x="1019" y="0"/>
                      </a:lnTo>
                      <a:lnTo>
                        <a:pt x="101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8" name=""/>
                <p:cNvSpPr/>
                <p:nvPr/>
              </p:nvSpPr>
              <p:spPr>
                <a:xfrm>
                  <a:off x="4140360" y="5184720"/>
                  <a:ext cx="320400" cy="17640"/>
                </a:xfrm>
                <a:custGeom>
                  <a:avLst/>
                  <a:gdLst/>
                  <a:ahLst/>
                  <a:rect l="l" t="t" r="r" b="b"/>
                  <a:pathLst>
                    <a:path w="1011" h="58">
                      <a:moveTo>
                        <a:pt x="0" y="0"/>
                      </a:moveTo>
                      <a:lnTo>
                        <a:pt x="1011" y="0"/>
                      </a:lnTo>
                      <a:lnTo>
                        <a:pt x="1006" y="58"/>
                      </a:lnTo>
                      <a:lnTo>
                        <a:pt x="10" y="58"/>
                      </a:lnTo>
                      <a:lnTo>
                        <a:pt x="6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9" name=""/>
                <p:cNvSpPr/>
                <p:nvPr/>
              </p:nvSpPr>
              <p:spPr>
                <a:xfrm>
                  <a:off x="4141800" y="5194440"/>
                  <a:ext cx="317520" cy="17280"/>
                </a:xfrm>
                <a:custGeom>
                  <a:avLst/>
                  <a:gdLst/>
                  <a:ahLst/>
                  <a:rect l="l" t="t" r="r" b="b"/>
                  <a:pathLst>
                    <a:path w="1003" h="59">
                      <a:moveTo>
                        <a:pt x="0" y="0"/>
                      </a:moveTo>
                      <a:lnTo>
                        <a:pt x="1003" y="0"/>
                      </a:lnTo>
                      <a:lnTo>
                        <a:pt x="998" y="59"/>
                      </a:lnTo>
                      <a:lnTo>
                        <a:pt x="9" y="59"/>
                      </a:lnTo>
                      <a:lnTo>
                        <a:pt x="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0" name=""/>
                <p:cNvSpPr/>
                <p:nvPr/>
              </p:nvSpPr>
              <p:spPr>
                <a:xfrm>
                  <a:off x="4143240" y="5202360"/>
                  <a:ext cx="316080" cy="19080"/>
                </a:xfrm>
                <a:custGeom>
                  <a:avLst/>
                  <a:gdLst/>
                  <a:ahLst/>
                  <a:rect l="l" t="t" r="r" b="b"/>
                  <a:pathLst>
                    <a:path w="996" h="59">
                      <a:moveTo>
                        <a:pt x="0" y="0"/>
                      </a:moveTo>
                      <a:lnTo>
                        <a:pt x="996" y="0"/>
                      </a:lnTo>
                      <a:lnTo>
                        <a:pt x="990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1" name=""/>
                <p:cNvSpPr/>
                <p:nvPr/>
              </p:nvSpPr>
              <p:spPr>
                <a:xfrm>
                  <a:off x="4145040" y="5211720"/>
                  <a:ext cx="312840" cy="19080"/>
                </a:xfrm>
                <a:custGeom>
                  <a:avLst/>
                  <a:gdLst/>
                  <a:ahLst/>
                  <a:rect l="l" t="t" r="r" b="b"/>
                  <a:pathLst>
                    <a:path w="989" h="58">
                      <a:moveTo>
                        <a:pt x="0" y="0"/>
                      </a:moveTo>
                      <a:lnTo>
                        <a:pt x="989" y="0"/>
                      </a:lnTo>
                      <a:lnTo>
                        <a:pt x="984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2" name=""/>
                <p:cNvSpPr/>
                <p:nvPr/>
              </p:nvSpPr>
              <p:spPr>
                <a:xfrm>
                  <a:off x="4146480" y="5221440"/>
                  <a:ext cx="311400" cy="18720"/>
                </a:xfrm>
                <a:custGeom>
                  <a:avLst/>
                  <a:gdLst/>
                  <a:ahLst/>
                  <a:rect l="l" t="t" r="r" b="b"/>
                  <a:pathLst>
                    <a:path w="981" h="58">
                      <a:moveTo>
                        <a:pt x="0" y="0"/>
                      </a:moveTo>
                      <a:lnTo>
                        <a:pt x="981" y="0"/>
                      </a:lnTo>
                      <a:lnTo>
                        <a:pt x="976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3" name=""/>
                <p:cNvSpPr/>
                <p:nvPr/>
              </p:nvSpPr>
              <p:spPr>
                <a:xfrm>
                  <a:off x="4148280" y="5230800"/>
                  <a:ext cx="307800" cy="19080"/>
                </a:xfrm>
                <a:custGeom>
                  <a:avLst/>
                  <a:gdLst/>
                  <a:ahLst/>
                  <a:rect l="l" t="t" r="r" b="b"/>
                  <a:pathLst>
                    <a:path w="974" h="58">
                      <a:moveTo>
                        <a:pt x="0" y="0"/>
                      </a:moveTo>
                      <a:lnTo>
                        <a:pt x="974" y="0"/>
                      </a:lnTo>
                      <a:lnTo>
                        <a:pt x="971" y="29"/>
                      </a:lnTo>
                      <a:lnTo>
                        <a:pt x="969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4" name=""/>
                <p:cNvSpPr/>
                <p:nvPr/>
              </p:nvSpPr>
              <p:spPr>
                <a:xfrm>
                  <a:off x="4149720" y="5240160"/>
                  <a:ext cx="306360" cy="19080"/>
                </a:xfrm>
                <a:custGeom>
                  <a:avLst/>
                  <a:gdLst/>
                  <a:ahLst/>
                  <a:rect l="l" t="t" r="r" b="b"/>
                  <a:pathLst>
                    <a:path w="965" h="59">
                      <a:moveTo>
                        <a:pt x="0" y="0"/>
                      </a:moveTo>
                      <a:lnTo>
                        <a:pt x="965" y="0"/>
                      </a:lnTo>
                      <a:lnTo>
                        <a:pt x="965" y="0"/>
                      </a:lnTo>
                      <a:lnTo>
                        <a:pt x="962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5" name=""/>
                <p:cNvSpPr/>
                <p:nvPr/>
              </p:nvSpPr>
              <p:spPr>
                <a:xfrm>
                  <a:off x="4151160" y="5249880"/>
                  <a:ext cx="303480" cy="17280"/>
                </a:xfrm>
                <a:custGeom>
                  <a:avLst/>
                  <a:gdLst/>
                  <a:ahLst/>
                  <a:rect l="l" t="t" r="r" b="b"/>
                  <a:pathLst>
                    <a:path w="958" h="58">
                      <a:moveTo>
                        <a:pt x="0" y="0"/>
                      </a:moveTo>
                      <a:lnTo>
                        <a:pt x="958" y="0"/>
                      </a:lnTo>
                      <a:lnTo>
                        <a:pt x="956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6" name=""/>
                <p:cNvSpPr/>
                <p:nvPr/>
              </p:nvSpPr>
              <p:spPr>
                <a:xfrm>
                  <a:off x="4152960" y="5259240"/>
                  <a:ext cx="301680" cy="17640"/>
                </a:xfrm>
                <a:custGeom>
                  <a:avLst/>
                  <a:gdLst/>
                  <a:ahLst/>
                  <a:rect l="l" t="t" r="r" b="b"/>
                  <a:pathLst>
                    <a:path w="953" h="58">
                      <a:moveTo>
                        <a:pt x="0" y="0"/>
                      </a:moveTo>
                      <a:lnTo>
                        <a:pt x="953" y="0"/>
                      </a:lnTo>
                      <a:lnTo>
                        <a:pt x="95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7" name=""/>
                <p:cNvSpPr/>
                <p:nvPr/>
              </p:nvSpPr>
              <p:spPr>
                <a:xfrm>
                  <a:off x="4154400" y="5267160"/>
                  <a:ext cx="300240" cy="19080"/>
                </a:xfrm>
                <a:custGeom>
                  <a:avLst/>
                  <a:gdLst/>
                  <a:ahLst/>
                  <a:rect l="l" t="t" r="r" b="b"/>
                  <a:pathLst>
                    <a:path w="947" h="59">
                      <a:moveTo>
                        <a:pt x="0" y="0"/>
                      </a:moveTo>
                      <a:lnTo>
                        <a:pt x="947" y="0"/>
                      </a:lnTo>
                      <a:lnTo>
                        <a:pt x="94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8" name=""/>
                <p:cNvSpPr/>
                <p:nvPr/>
              </p:nvSpPr>
              <p:spPr>
                <a:xfrm>
                  <a:off x="4156200" y="5276880"/>
                  <a:ext cx="298440" cy="19080"/>
                </a:xfrm>
                <a:custGeom>
                  <a:avLst/>
                  <a:gdLst/>
                  <a:ahLst/>
                  <a:rect l="l" t="t" r="r" b="b"/>
                  <a:pathLst>
                    <a:path w="941" h="58">
                      <a:moveTo>
                        <a:pt x="0" y="0"/>
                      </a:moveTo>
                      <a:lnTo>
                        <a:pt x="941" y="0"/>
                      </a:lnTo>
                      <a:lnTo>
                        <a:pt x="940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9" name=""/>
                <p:cNvSpPr/>
                <p:nvPr/>
              </p:nvSpPr>
              <p:spPr>
                <a:xfrm>
                  <a:off x="4157640" y="5286240"/>
                  <a:ext cx="297000" cy="19080"/>
                </a:xfrm>
                <a:custGeom>
                  <a:avLst/>
                  <a:gdLst/>
                  <a:ahLst/>
                  <a:rect l="l" t="t" r="r" b="b"/>
                  <a:pathLst>
                    <a:path w="936" h="59">
                      <a:moveTo>
                        <a:pt x="0" y="0"/>
                      </a:moveTo>
                      <a:lnTo>
                        <a:pt x="936" y="0"/>
                      </a:lnTo>
                      <a:lnTo>
                        <a:pt x="934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0" name=""/>
                <p:cNvSpPr/>
                <p:nvPr/>
              </p:nvSpPr>
              <p:spPr>
                <a:xfrm>
                  <a:off x="4159080" y="5295960"/>
                  <a:ext cx="295560" cy="17280"/>
                </a:xfrm>
                <a:custGeom>
                  <a:avLst/>
                  <a:gdLst/>
                  <a:ahLst/>
                  <a:rect l="l" t="t" r="r" b="b"/>
                  <a:pathLst>
                    <a:path w="930" h="58">
                      <a:moveTo>
                        <a:pt x="0" y="0"/>
                      </a:moveTo>
                      <a:lnTo>
                        <a:pt x="930" y="0"/>
                      </a:lnTo>
                      <a:lnTo>
                        <a:pt x="928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1" name=""/>
                <p:cNvSpPr/>
                <p:nvPr/>
              </p:nvSpPr>
              <p:spPr>
                <a:xfrm>
                  <a:off x="4159080" y="5305320"/>
                  <a:ext cx="293760" cy="17640"/>
                </a:xfrm>
                <a:custGeom>
                  <a:avLst/>
                  <a:gdLst/>
                  <a:ahLst/>
                  <a:rect l="l" t="t" r="r" b="b"/>
                  <a:pathLst>
                    <a:path w="925" h="58">
                      <a:moveTo>
                        <a:pt x="0" y="0"/>
                      </a:moveTo>
                      <a:lnTo>
                        <a:pt x="925" y="0"/>
                      </a:lnTo>
                      <a:lnTo>
                        <a:pt x="92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2" name=""/>
                <p:cNvSpPr/>
                <p:nvPr/>
              </p:nvSpPr>
              <p:spPr>
                <a:xfrm>
                  <a:off x="4160880" y="5313240"/>
                  <a:ext cx="291960" cy="19080"/>
                </a:xfrm>
                <a:custGeom>
                  <a:avLst/>
                  <a:gdLst/>
                  <a:ahLst/>
                  <a:rect l="l" t="t" r="r" b="b"/>
                  <a:pathLst>
                    <a:path w="919" h="58">
                      <a:moveTo>
                        <a:pt x="0" y="0"/>
                      </a:moveTo>
                      <a:lnTo>
                        <a:pt x="919" y="0"/>
                      </a:lnTo>
                      <a:lnTo>
                        <a:pt x="917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3" name=""/>
                <p:cNvSpPr/>
                <p:nvPr/>
              </p:nvSpPr>
              <p:spPr>
                <a:xfrm>
                  <a:off x="4162320" y="532296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3" h="58">
                      <a:moveTo>
                        <a:pt x="0" y="0"/>
                      </a:moveTo>
                      <a:lnTo>
                        <a:pt x="913" y="0"/>
                      </a:lnTo>
                      <a:lnTo>
                        <a:pt x="911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4" name=""/>
                <p:cNvSpPr/>
                <p:nvPr/>
              </p:nvSpPr>
              <p:spPr>
                <a:xfrm>
                  <a:off x="4165560" y="5332320"/>
                  <a:ext cx="287280" cy="19080"/>
                </a:xfrm>
                <a:custGeom>
                  <a:avLst/>
                  <a:gdLst/>
                  <a:ahLst/>
                  <a:rect l="l" t="t" r="r" b="b"/>
                  <a:pathLst>
                    <a:path w="906" h="59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4" y="59"/>
                      </a:lnTo>
                      <a:lnTo>
                        <a:pt x="8" y="59"/>
                      </a:lnTo>
                      <a:lnTo>
                        <a:pt x="5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5" name=""/>
                <p:cNvSpPr/>
                <p:nvPr/>
              </p:nvSpPr>
              <p:spPr>
                <a:xfrm>
                  <a:off x="4167360" y="5342040"/>
                  <a:ext cx="285480" cy="19080"/>
                </a:xfrm>
                <a:custGeom>
                  <a:avLst/>
                  <a:gdLst/>
                  <a:ahLst/>
                  <a:rect l="l" t="t" r="r" b="b"/>
                  <a:pathLst>
                    <a:path w="900" h="58">
                      <a:moveTo>
                        <a:pt x="0" y="0"/>
                      </a:moveTo>
                      <a:lnTo>
                        <a:pt x="900" y="0"/>
                      </a:lnTo>
                      <a:lnTo>
                        <a:pt x="898" y="58"/>
                      </a:lnTo>
                      <a:lnTo>
                        <a:pt x="7" y="58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6" name=""/>
                <p:cNvSpPr/>
                <p:nvPr/>
              </p:nvSpPr>
              <p:spPr>
                <a:xfrm>
                  <a:off x="4167360" y="5351400"/>
                  <a:ext cx="284040" cy="19080"/>
                </a:xfrm>
                <a:custGeom>
                  <a:avLst/>
                  <a:gdLst/>
                  <a:ahLst/>
                  <a:rect l="l" t="t" r="r" b="b"/>
                  <a:pathLst>
                    <a:path w="896" h="59">
                      <a:moveTo>
                        <a:pt x="0" y="0"/>
                      </a:moveTo>
                      <a:lnTo>
                        <a:pt x="896" y="0"/>
                      </a:lnTo>
                      <a:lnTo>
                        <a:pt x="895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4168800" y="5361120"/>
                  <a:ext cx="282600" cy="17280"/>
                </a:xfrm>
                <a:custGeom>
                  <a:avLst/>
                  <a:gdLst/>
                  <a:ahLst/>
                  <a:rect l="l" t="t" r="r" b="b"/>
                  <a:pathLst>
                    <a:path w="891" h="58">
                      <a:moveTo>
                        <a:pt x="0" y="0"/>
                      </a:moveTo>
                      <a:lnTo>
                        <a:pt x="891" y="0"/>
                      </a:lnTo>
                      <a:lnTo>
                        <a:pt x="890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8" name=""/>
                <p:cNvSpPr/>
                <p:nvPr/>
              </p:nvSpPr>
              <p:spPr>
                <a:xfrm>
                  <a:off x="4170240" y="5370480"/>
                  <a:ext cx="281160" cy="17640"/>
                </a:xfrm>
                <a:custGeom>
                  <a:avLst/>
                  <a:gdLst/>
                  <a:ahLst/>
                  <a:rect l="l" t="t" r="r" b="b"/>
                  <a:pathLst>
                    <a:path w="887" h="58">
                      <a:moveTo>
                        <a:pt x="0" y="0"/>
                      </a:moveTo>
                      <a:lnTo>
                        <a:pt x="887" y="0"/>
                      </a:lnTo>
                      <a:lnTo>
                        <a:pt x="885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9" name=""/>
                <p:cNvSpPr/>
                <p:nvPr/>
              </p:nvSpPr>
              <p:spPr>
                <a:xfrm>
                  <a:off x="4170240" y="537840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3" h="58">
                      <a:moveTo>
                        <a:pt x="0" y="0"/>
                      </a:moveTo>
                      <a:lnTo>
                        <a:pt x="883" y="0"/>
                      </a:lnTo>
                      <a:lnTo>
                        <a:pt x="881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>
                  <a:off x="4172040" y="5388120"/>
                  <a:ext cx="279360" cy="19080"/>
                </a:xfrm>
                <a:custGeom>
                  <a:avLst/>
                  <a:gdLst/>
                  <a:ahLst/>
                  <a:rect l="l" t="t" r="r" b="b"/>
                  <a:pathLst>
                    <a:path w="878" h="58">
                      <a:moveTo>
                        <a:pt x="0" y="0"/>
                      </a:moveTo>
                      <a:lnTo>
                        <a:pt x="878" y="0"/>
                      </a:lnTo>
                      <a:lnTo>
                        <a:pt x="87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>
                  <a:off x="4173480" y="5397480"/>
                  <a:ext cx="277920" cy="19080"/>
                </a:xfrm>
                <a:custGeom>
                  <a:avLst/>
                  <a:gdLst/>
                  <a:ahLst/>
                  <a:rect l="l" t="t" r="r" b="b"/>
                  <a:pathLst>
                    <a:path w="873" h="60">
                      <a:moveTo>
                        <a:pt x="0" y="0"/>
                      </a:moveTo>
                      <a:lnTo>
                        <a:pt x="873" y="0"/>
                      </a:lnTo>
                      <a:lnTo>
                        <a:pt x="871" y="60"/>
                      </a:lnTo>
                      <a:lnTo>
                        <a:pt x="7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4175280" y="540720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9" h="58">
                      <a:moveTo>
                        <a:pt x="0" y="0"/>
                      </a:moveTo>
                      <a:lnTo>
                        <a:pt x="869" y="0"/>
                      </a:lnTo>
                      <a:lnTo>
                        <a:pt x="86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3" name=""/>
                <p:cNvSpPr/>
                <p:nvPr/>
              </p:nvSpPr>
              <p:spPr>
                <a:xfrm>
                  <a:off x="4175280" y="541656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4" h="58">
                      <a:moveTo>
                        <a:pt x="0" y="0"/>
                      </a:moveTo>
                      <a:lnTo>
                        <a:pt x="864" y="0"/>
                      </a:lnTo>
                      <a:lnTo>
                        <a:pt x="862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4" name=""/>
                <p:cNvSpPr/>
                <p:nvPr/>
              </p:nvSpPr>
              <p:spPr>
                <a:xfrm>
                  <a:off x="4176720" y="5424480"/>
                  <a:ext cx="272880" cy="19080"/>
                </a:xfrm>
                <a:custGeom>
                  <a:avLst/>
                  <a:gdLst/>
                  <a:ahLst/>
                  <a:rect l="l" t="t" r="r" b="b"/>
                  <a:pathLst>
                    <a:path w="859" h="58">
                      <a:moveTo>
                        <a:pt x="0" y="0"/>
                      </a:moveTo>
                      <a:lnTo>
                        <a:pt x="859" y="0"/>
                      </a:lnTo>
                      <a:lnTo>
                        <a:pt x="85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>
                  <a:off x="4178160" y="5433840"/>
                  <a:ext cx="271440" cy="19080"/>
                </a:xfrm>
                <a:custGeom>
                  <a:avLst/>
                  <a:gdLst/>
                  <a:ahLst/>
                  <a:rect l="l" t="t" r="r" b="b"/>
                  <a:pathLst>
                    <a:path w="855" h="58">
                      <a:moveTo>
                        <a:pt x="0" y="0"/>
                      </a:moveTo>
                      <a:lnTo>
                        <a:pt x="855" y="0"/>
                      </a:lnTo>
                      <a:lnTo>
                        <a:pt x="854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>
                  <a:off x="4179960" y="5443560"/>
                  <a:ext cx="269640" cy="19080"/>
                </a:xfrm>
                <a:custGeom>
                  <a:avLst/>
                  <a:gdLst/>
                  <a:ahLst/>
                  <a:rect l="l" t="t" r="r" b="b"/>
                  <a:pathLst>
                    <a:path w="849" h="59">
                      <a:moveTo>
                        <a:pt x="0" y="0"/>
                      </a:moveTo>
                      <a:lnTo>
                        <a:pt x="849" y="0"/>
                      </a:lnTo>
                      <a:lnTo>
                        <a:pt x="848" y="59"/>
                      </a:lnTo>
                      <a:lnTo>
                        <a:pt x="7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7" name=""/>
                <p:cNvSpPr/>
                <p:nvPr/>
              </p:nvSpPr>
              <p:spPr>
                <a:xfrm>
                  <a:off x="4181400" y="5452920"/>
                  <a:ext cx="268200" cy="19080"/>
                </a:xfrm>
                <a:custGeom>
                  <a:avLst/>
                  <a:gdLst/>
                  <a:ahLst/>
                  <a:rect l="l" t="t" r="r" b="b"/>
                  <a:pathLst>
                    <a:path w="845" h="58">
                      <a:moveTo>
                        <a:pt x="0" y="0"/>
                      </a:moveTo>
                      <a:lnTo>
                        <a:pt x="845" y="0"/>
                      </a:lnTo>
                      <a:lnTo>
                        <a:pt x="843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8" name=""/>
                <p:cNvSpPr/>
                <p:nvPr/>
              </p:nvSpPr>
              <p:spPr>
                <a:xfrm>
                  <a:off x="4181400" y="5462640"/>
                  <a:ext cx="266760" cy="19080"/>
                </a:xfrm>
                <a:custGeom>
                  <a:avLst/>
                  <a:gdLst/>
                  <a:ahLst/>
                  <a:rect l="l" t="t" r="r" b="b"/>
                  <a:pathLst>
                    <a:path w="841" h="59">
                      <a:moveTo>
                        <a:pt x="0" y="0"/>
                      </a:moveTo>
                      <a:lnTo>
                        <a:pt x="841" y="0"/>
                      </a:lnTo>
                      <a:lnTo>
                        <a:pt x="839" y="48"/>
                      </a:lnTo>
                      <a:lnTo>
                        <a:pt x="840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9" name=""/>
                <p:cNvSpPr/>
                <p:nvPr/>
              </p:nvSpPr>
              <p:spPr>
                <a:xfrm>
                  <a:off x="4183200" y="5472000"/>
                  <a:ext cx="264960" cy="17640"/>
                </a:xfrm>
                <a:custGeom>
                  <a:avLst/>
                  <a:gdLst/>
                  <a:ahLst/>
                  <a:rect l="l" t="t" r="r" b="b"/>
                  <a:pathLst>
                    <a:path w="836" h="58">
                      <a:moveTo>
                        <a:pt x="0" y="0"/>
                      </a:moveTo>
                      <a:lnTo>
                        <a:pt x="836" y="0"/>
                      </a:lnTo>
                      <a:lnTo>
                        <a:pt x="835" y="19"/>
                      </a:lnTo>
                      <a:lnTo>
                        <a:pt x="83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>
                  <a:off x="4184640" y="5481720"/>
                  <a:ext cx="263520" cy="17280"/>
                </a:xfrm>
                <a:custGeom>
                  <a:avLst/>
                  <a:gdLst/>
                  <a:ahLst/>
                  <a:rect l="l" t="t" r="r" b="b"/>
                  <a:pathLst>
                    <a:path w="833" h="58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833" y="58"/>
                      </a:lnTo>
                      <a:lnTo>
                        <a:pt x="6" y="58"/>
                      </a:lnTo>
                      <a:lnTo>
                        <a:pt x="6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1" name=""/>
                <p:cNvSpPr/>
                <p:nvPr/>
              </p:nvSpPr>
              <p:spPr>
                <a:xfrm>
                  <a:off x="4184640" y="5489640"/>
                  <a:ext cx="264960" cy="19080"/>
                </a:xfrm>
                <a:custGeom>
                  <a:avLst/>
                  <a:gdLst/>
                  <a:ahLst/>
                  <a:rect l="l" t="t" r="r" b="b"/>
                  <a:pathLst>
                    <a:path w="831" h="58">
                      <a:moveTo>
                        <a:pt x="0" y="0"/>
                      </a:moveTo>
                      <a:lnTo>
                        <a:pt x="829" y="0"/>
                      </a:lnTo>
                      <a:lnTo>
                        <a:pt x="831" y="58"/>
                      </a:lnTo>
                      <a:lnTo>
                        <a:pt x="4" y="58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2" name=""/>
                <p:cNvSpPr/>
                <p:nvPr/>
              </p:nvSpPr>
              <p:spPr>
                <a:xfrm>
                  <a:off x="4186080" y="54990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>
                  <a:off x="4186080" y="5508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9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4186080" y="5518080"/>
                  <a:ext cx="263520" cy="1764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>
                  <a:off x="4187880" y="552780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6" name=""/>
                <p:cNvSpPr/>
                <p:nvPr/>
              </p:nvSpPr>
              <p:spPr>
                <a:xfrm>
                  <a:off x="4187880" y="5535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7" name=""/>
                <p:cNvSpPr/>
                <p:nvPr/>
              </p:nvSpPr>
              <p:spPr>
                <a:xfrm>
                  <a:off x="4187880" y="554508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>
                  <a:off x="4187880" y="55548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>
                  <a:off x="4189320" y="5564160"/>
                  <a:ext cx="26208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"/>
                <p:cNvSpPr/>
                <p:nvPr/>
              </p:nvSpPr>
              <p:spPr>
                <a:xfrm>
                  <a:off x="4189320" y="5573880"/>
                  <a:ext cx="262080" cy="172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"/>
                <p:cNvSpPr/>
                <p:nvPr/>
              </p:nvSpPr>
              <p:spPr>
                <a:xfrm>
                  <a:off x="4189320" y="5583240"/>
                  <a:ext cx="262080" cy="1764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"/>
                <p:cNvSpPr/>
                <p:nvPr/>
              </p:nvSpPr>
              <p:spPr>
                <a:xfrm>
                  <a:off x="4189320" y="559116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3" name=""/>
                <p:cNvSpPr/>
                <p:nvPr/>
              </p:nvSpPr>
              <p:spPr>
                <a:xfrm>
                  <a:off x="4191120" y="5600880"/>
                  <a:ext cx="261720" cy="1872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4" name=""/>
                <p:cNvSpPr/>
                <p:nvPr/>
              </p:nvSpPr>
              <p:spPr>
                <a:xfrm>
                  <a:off x="4191120" y="561024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5" name=""/>
                <p:cNvSpPr/>
                <p:nvPr/>
              </p:nvSpPr>
              <p:spPr>
                <a:xfrm>
                  <a:off x="4191120" y="561960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6" name=""/>
                <p:cNvSpPr/>
                <p:nvPr/>
              </p:nvSpPr>
              <p:spPr>
                <a:xfrm>
                  <a:off x="4191120" y="562932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4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0" y="58"/>
                      </a:lnTo>
                      <a:lnTo>
                        <a:pt x="6" y="4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7" name=""/>
                <p:cNvSpPr/>
                <p:nvPr/>
              </p:nvSpPr>
              <p:spPr>
                <a:xfrm>
                  <a:off x="4186080" y="5638680"/>
                  <a:ext cx="266760" cy="17640"/>
                </a:xfrm>
                <a:custGeom>
                  <a:avLst/>
                  <a:gdLst/>
                  <a:ahLst/>
                  <a:rect l="l" t="t" r="r" b="b"/>
                  <a:pathLst>
                    <a:path w="842" h="58">
                      <a:moveTo>
                        <a:pt x="18" y="0"/>
                      </a:moveTo>
                      <a:lnTo>
                        <a:pt x="841" y="0"/>
                      </a:lnTo>
                      <a:lnTo>
                        <a:pt x="842" y="58"/>
                      </a:lnTo>
                      <a:lnTo>
                        <a:pt x="0" y="58"/>
                      </a:lnTo>
                      <a:lnTo>
                        <a:pt x="1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8" name=""/>
                <p:cNvSpPr/>
                <p:nvPr/>
              </p:nvSpPr>
              <p:spPr>
                <a:xfrm>
                  <a:off x="4181400" y="5646600"/>
                  <a:ext cx="273240" cy="19080"/>
                </a:xfrm>
                <a:custGeom>
                  <a:avLst/>
                  <a:gdLst/>
                  <a:ahLst/>
                  <a:rect l="l" t="t" r="r" b="b"/>
                  <a:pathLst>
                    <a:path w="857" h="58">
                      <a:moveTo>
                        <a:pt x="27" y="0"/>
                      </a:moveTo>
                      <a:lnTo>
                        <a:pt x="856" y="0"/>
                      </a:lnTo>
                      <a:lnTo>
                        <a:pt x="857" y="58"/>
                      </a:lnTo>
                      <a:lnTo>
                        <a:pt x="0" y="5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9" name=""/>
                <p:cNvSpPr/>
                <p:nvPr/>
              </p:nvSpPr>
              <p:spPr>
                <a:xfrm>
                  <a:off x="4173480" y="565632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4" h="58">
                      <a:moveTo>
                        <a:pt x="40" y="0"/>
                      </a:moveTo>
                      <a:lnTo>
                        <a:pt x="882" y="0"/>
                      </a:lnTo>
                      <a:lnTo>
                        <a:pt x="884" y="58"/>
                      </a:lnTo>
                      <a:lnTo>
                        <a:pt x="0" y="58"/>
                      </a:lnTo>
                      <a:lnTo>
                        <a:pt x="21" y="4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0" name=""/>
                <p:cNvSpPr/>
                <p:nvPr/>
              </p:nvSpPr>
              <p:spPr>
                <a:xfrm>
                  <a:off x="4164120" y="566568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7" h="59">
                      <a:moveTo>
                        <a:pt x="58" y="0"/>
                      </a:moveTo>
                      <a:lnTo>
                        <a:pt x="915" y="0"/>
                      </a:lnTo>
                      <a:lnTo>
                        <a:pt x="917" y="59"/>
                      </a:lnTo>
                      <a:lnTo>
                        <a:pt x="0" y="59"/>
                      </a:lnTo>
                      <a:lnTo>
                        <a:pt x="10" y="50"/>
                      </a:lnTo>
                      <a:lnTo>
                        <a:pt x="53" y="1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1" name=""/>
                <p:cNvSpPr/>
                <p:nvPr/>
              </p:nvSpPr>
              <p:spPr>
                <a:xfrm>
                  <a:off x="4152960" y="5675400"/>
                  <a:ext cx="301680" cy="19080"/>
                </a:xfrm>
                <a:custGeom>
                  <a:avLst/>
                  <a:gdLst/>
                  <a:ahLst/>
                  <a:rect l="l" t="t" r="r" b="b"/>
                  <a:pathLst>
                    <a:path w="950" h="59">
                      <a:moveTo>
                        <a:pt x="64" y="0"/>
                      </a:moveTo>
                      <a:lnTo>
                        <a:pt x="948" y="0"/>
                      </a:lnTo>
                      <a:lnTo>
                        <a:pt x="950" y="59"/>
                      </a:lnTo>
                      <a:lnTo>
                        <a:pt x="0" y="59"/>
                      </a:lnTo>
                      <a:lnTo>
                        <a:pt x="42" y="21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2" name=""/>
                <p:cNvSpPr/>
                <p:nvPr/>
              </p:nvSpPr>
              <p:spPr>
                <a:xfrm>
                  <a:off x="4143240" y="5684760"/>
                  <a:ext cx="311400" cy="17640"/>
                </a:xfrm>
                <a:custGeom>
                  <a:avLst/>
                  <a:gdLst/>
                  <a:ahLst/>
                  <a:rect l="l" t="t" r="r" b="b"/>
                  <a:pathLst>
                    <a:path w="984" h="58">
                      <a:moveTo>
                        <a:pt x="65" y="0"/>
                      </a:moveTo>
                      <a:lnTo>
                        <a:pt x="982" y="0"/>
                      </a:lnTo>
                      <a:lnTo>
                        <a:pt x="984" y="58"/>
                      </a:lnTo>
                      <a:lnTo>
                        <a:pt x="0" y="58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3" name=""/>
                <p:cNvSpPr/>
                <p:nvPr/>
              </p:nvSpPr>
              <p:spPr>
                <a:xfrm>
                  <a:off x="4132440" y="5694480"/>
                  <a:ext cx="323640" cy="17280"/>
                </a:xfrm>
                <a:custGeom>
                  <a:avLst/>
                  <a:gdLst/>
                  <a:ahLst/>
                  <a:rect l="l" t="t" r="r" b="b"/>
                  <a:pathLst>
                    <a:path w="1020" h="58">
                      <a:moveTo>
                        <a:pt x="67" y="0"/>
                      </a:moveTo>
                      <a:lnTo>
                        <a:pt x="1017" y="0"/>
                      </a:lnTo>
                      <a:lnTo>
                        <a:pt x="1020" y="58"/>
                      </a:lnTo>
                      <a:lnTo>
                        <a:pt x="0" y="58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4" name=""/>
                <p:cNvSpPr/>
                <p:nvPr/>
              </p:nvSpPr>
              <p:spPr>
                <a:xfrm>
                  <a:off x="4121280" y="5702400"/>
                  <a:ext cx="334800" cy="19080"/>
                </a:xfrm>
                <a:custGeom>
                  <a:avLst/>
                  <a:gdLst/>
                  <a:ahLst/>
                  <a:rect l="l" t="t" r="r" b="b"/>
                  <a:pathLst>
                    <a:path w="1052" h="58">
                      <a:moveTo>
                        <a:pt x="66" y="0"/>
                      </a:moveTo>
                      <a:lnTo>
                        <a:pt x="1050" y="0"/>
                      </a:lnTo>
                      <a:lnTo>
                        <a:pt x="1052" y="35"/>
                      </a:lnTo>
                      <a:lnTo>
                        <a:pt x="989" y="35"/>
                      </a:lnTo>
                      <a:lnTo>
                        <a:pt x="994" y="58"/>
                      </a:lnTo>
                      <a:lnTo>
                        <a:pt x="0" y="58"/>
                      </a:lnTo>
                      <a:lnTo>
                        <a:pt x="1" y="57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5" name=""/>
                <p:cNvSpPr/>
                <p:nvPr/>
              </p:nvSpPr>
              <p:spPr>
                <a:xfrm>
                  <a:off x="4105440" y="571176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6" h="59">
                      <a:moveTo>
                        <a:pt x="86" y="0"/>
                      </a:moveTo>
                      <a:lnTo>
                        <a:pt x="1106" y="0"/>
                      </a:lnTo>
                      <a:lnTo>
                        <a:pt x="1106" y="6"/>
                      </a:lnTo>
                      <a:lnTo>
                        <a:pt x="1043" y="6"/>
                      </a:lnTo>
                      <a:lnTo>
                        <a:pt x="1054" y="59"/>
                      </a:lnTo>
                      <a:lnTo>
                        <a:pt x="0" y="59"/>
                      </a:lnTo>
                      <a:lnTo>
                        <a:pt x="55" y="28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6" name=""/>
                <p:cNvSpPr/>
                <p:nvPr/>
              </p:nvSpPr>
              <p:spPr>
                <a:xfrm>
                  <a:off x="4087800" y="5721480"/>
                  <a:ext cx="353880" cy="19080"/>
                </a:xfrm>
                <a:custGeom>
                  <a:avLst/>
                  <a:gdLst/>
                  <a:ahLst/>
                  <a:rect l="l" t="t" r="r" b="b"/>
                  <a:pathLst>
                    <a:path w="1115" h="58">
                      <a:moveTo>
                        <a:pt x="108" y="0"/>
                      </a:moveTo>
                      <a:lnTo>
                        <a:pt x="1102" y="0"/>
                      </a:lnTo>
                      <a:lnTo>
                        <a:pt x="1115" y="58"/>
                      </a:lnTo>
                      <a:lnTo>
                        <a:pt x="0" y="58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7" name=""/>
                <p:cNvSpPr/>
                <p:nvPr/>
              </p:nvSpPr>
              <p:spPr>
                <a:xfrm>
                  <a:off x="4067280" y="5730840"/>
                  <a:ext cx="376200" cy="19080"/>
                </a:xfrm>
                <a:custGeom>
                  <a:avLst/>
                  <a:gdLst/>
                  <a:ahLst/>
                  <a:rect l="l" t="t" r="r" b="b"/>
                  <a:pathLst>
                    <a:path w="1184" h="58">
                      <a:moveTo>
                        <a:pt x="116" y="0"/>
                      </a:moveTo>
                      <a:lnTo>
                        <a:pt x="1170" y="0"/>
                      </a:lnTo>
                      <a:lnTo>
                        <a:pt x="1184" y="58"/>
                      </a:lnTo>
                      <a:lnTo>
                        <a:pt x="0" y="58"/>
                      </a:lnTo>
                      <a:lnTo>
                        <a:pt x="28" y="4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8" name=""/>
                <p:cNvSpPr/>
                <p:nvPr/>
              </p:nvSpPr>
              <p:spPr>
                <a:xfrm>
                  <a:off x="4043520" y="5740560"/>
                  <a:ext cx="401400" cy="17280"/>
                </a:xfrm>
                <a:custGeom>
                  <a:avLst/>
                  <a:gdLst/>
                  <a:ahLst/>
                  <a:rect l="l" t="t" r="r" b="b"/>
                  <a:pathLst>
                    <a:path w="1265" h="59">
                      <a:moveTo>
                        <a:pt x="137" y="0"/>
                      </a:moveTo>
                      <a:lnTo>
                        <a:pt x="1252" y="0"/>
                      </a:lnTo>
                      <a:lnTo>
                        <a:pt x="1265" y="59"/>
                      </a:lnTo>
                      <a:lnTo>
                        <a:pt x="0" y="59"/>
                      </a:lnTo>
                      <a:lnTo>
                        <a:pt x="103" y="19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9" name=""/>
                <p:cNvSpPr/>
                <p:nvPr/>
              </p:nvSpPr>
              <p:spPr>
                <a:xfrm>
                  <a:off x="4017960" y="5749920"/>
                  <a:ext cx="430200" cy="17640"/>
                </a:xfrm>
                <a:custGeom>
                  <a:avLst/>
                  <a:gdLst/>
                  <a:ahLst/>
                  <a:rect l="l" t="t" r="r" b="b"/>
                  <a:pathLst>
                    <a:path w="1354" h="58">
                      <a:moveTo>
                        <a:pt x="158" y="0"/>
                      </a:moveTo>
                      <a:lnTo>
                        <a:pt x="1342" y="0"/>
                      </a:lnTo>
                      <a:lnTo>
                        <a:pt x="1354" y="58"/>
                      </a:lnTo>
                      <a:lnTo>
                        <a:pt x="0" y="58"/>
                      </a:lnTo>
                      <a:lnTo>
                        <a:pt x="27" y="51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0" name=""/>
                <p:cNvSpPr/>
                <p:nvPr/>
              </p:nvSpPr>
              <p:spPr>
                <a:xfrm>
                  <a:off x="3983040" y="5757840"/>
                  <a:ext cx="466560" cy="19080"/>
                </a:xfrm>
                <a:custGeom>
                  <a:avLst/>
                  <a:gdLst/>
                  <a:ahLst/>
                  <a:rect l="l" t="t" r="r" b="b"/>
                  <a:pathLst>
                    <a:path w="1467" h="59">
                      <a:moveTo>
                        <a:pt x="191" y="0"/>
                      </a:moveTo>
                      <a:lnTo>
                        <a:pt x="1456" y="0"/>
                      </a:lnTo>
                      <a:lnTo>
                        <a:pt x="1464" y="41"/>
                      </a:lnTo>
                      <a:lnTo>
                        <a:pt x="1467" y="59"/>
                      </a:lnTo>
                      <a:lnTo>
                        <a:pt x="0" y="59"/>
                      </a:lnTo>
                      <a:lnTo>
                        <a:pt x="135" y="22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1" name=""/>
                <p:cNvSpPr/>
                <p:nvPr/>
              </p:nvSpPr>
              <p:spPr>
                <a:xfrm>
                  <a:off x="3981600" y="5767560"/>
                  <a:ext cx="468000" cy="18720"/>
                </a:xfrm>
                <a:custGeom>
                  <a:avLst/>
                  <a:gdLst/>
                  <a:ahLst/>
                  <a:rect l="l" t="t" r="r" b="b"/>
                  <a:pathLst>
                    <a:path w="1479" h="58">
                      <a:moveTo>
                        <a:pt x="116" y="0"/>
                      </a:moveTo>
                      <a:lnTo>
                        <a:pt x="1470" y="0"/>
                      </a:lnTo>
                      <a:lnTo>
                        <a:pt x="1472" y="12"/>
                      </a:lnTo>
                      <a:lnTo>
                        <a:pt x="1479" y="58"/>
                      </a:lnTo>
                      <a:lnTo>
                        <a:pt x="0" y="58"/>
                      </a:lnTo>
                      <a:lnTo>
                        <a:pt x="0" y="32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2" name=""/>
                <p:cNvSpPr/>
                <p:nvPr/>
              </p:nvSpPr>
              <p:spPr>
                <a:xfrm>
                  <a:off x="3981600" y="5776920"/>
                  <a:ext cx="469800" cy="19080"/>
                </a:xfrm>
                <a:custGeom>
                  <a:avLst/>
                  <a:gdLst/>
                  <a:ahLst/>
                  <a:rect l="l" t="t" r="r" b="b"/>
                  <a:pathLst>
                    <a:path w="1483" h="58">
                      <a:moveTo>
                        <a:pt x="8" y="0"/>
                      </a:moveTo>
                      <a:lnTo>
                        <a:pt x="1475" y="0"/>
                      </a:lnTo>
                      <a:lnTo>
                        <a:pt x="1483" y="58"/>
                      </a:lnTo>
                      <a:lnTo>
                        <a:pt x="0" y="58"/>
                      </a:lnTo>
                      <a:lnTo>
                        <a:pt x="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3" name=""/>
                <p:cNvSpPr/>
                <p:nvPr/>
              </p:nvSpPr>
              <p:spPr>
                <a:xfrm>
                  <a:off x="3981600" y="5786280"/>
                  <a:ext cx="471240" cy="17640"/>
                </a:xfrm>
                <a:custGeom>
                  <a:avLst/>
                  <a:gdLst/>
                  <a:ahLst/>
                  <a:rect l="l" t="t" r="r" b="b"/>
                  <a:pathLst>
                    <a:path w="1487" h="58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7" y="58"/>
                      </a:lnTo>
                      <a:lnTo>
                        <a:pt x="1" y="58"/>
                      </a:lnTo>
                      <a:lnTo>
                        <a:pt x="0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4" name=""/>
                <p:cNvSpPr/>
                <p:nvPr/>
              </p:nvSpPr>
              <p:spPr>
                <a:xfrm>
                  <a:off x="3981600" y="5796000"/>
                  <a:ext cx="473040" cy="17280"/>
                </a:xfrm>
                <a:custGeom>
                  <a:avLst/>
                  <a:gdLst/>
                  <a:ahLst/>
                  <a:rect l="l" t="t" r="r" b="b"/>
                  <a:pathLst>
                    <a:path w="1491" h="58">
                      <a:moveTo>
                        <a:pt x="0" y="0"/>
                      </a:moveTo>
                      <a:lnTo>
                        <a:pt x="1483" y="0"/>
                      </a:lnTo>
                      <a:lnTo>
                        <a:pt x="1491" y="58"/>
                      </a:lnTo>
                      <a:lnTo>
                        <a:pt x="12" y="58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5" name=""/>
                <p:cNvSpPr/>
                <p:nvPr/>
              </p:nvSpPr>
              <p:spPr>
                <a:xfrm>
                  <a:off x="3981600" y="5803920"/>
                  <a:ext cx="474480" cy="19080"/>
                </a:xfrm>
                <a:custGeom>
                  <a:avLst/>
                  <a:gdLst/>
                  <a:ahLst/>
                  <a:rect l="l" t="t" r="r" b="b"/>
                  <a:pathLst>
                    <a:path w="1495" h="60">
                      <a:moveTo>
                        <a:pt x="0" y="0"/>
                      </a:moveTo>
                      <a:lnTo>
                        <a:pt x="1486" y="0"/>
                      </a:lnTo>
                      <a:lnTo>
                        <a:pt x="1495" y="60"/>
                      </a:lnTo>
                      <a:lnTo>
                        <a:pt x="21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6" name=""/>
                <p:cNvSpPr/>
                <p:nvPr/>
              </p:nvSpPr>
              <p:spPr>
                <a:xfrm>
                  <a:off x="3984480" y="5813280"/>
                  <a:ext cx="471600" cy="9720"/>
                </a:xfrm>
                <a:custGeom>
                  <a:avLst/>
                  <a:gdLst/>
                  <a:ahLst/>
                  <a:rect l="l" t="t" r="r" b="b"/>
                  <a:pathLst>
                    <a:path w="1484" h="30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4" y="30"/>
                      </a:lnTo>
                      <a:lnTo>
                        <a:pt x="10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0e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7" name=""/>
                <p:cNvSpPr/>
                <p:nvPr/>
              </p:nvSpPr>
              <p:spPr>
                <a:xfrm>
                  <a:off x="4746600" y="5813280"/>
                  <a:ext cx="757440" cy="9720"/>
                </a:xfrm>
                <a:custGeom>
                  <a:avLst/>
                  <a:gdLst/>
                  <a:ahLst/>
                  <a:rect l="l" t="t" r="r" b="b"/>
                  <a:pathLst>
                    <a:path w="2384" h="28">
                      <a:moveTo>
                        <a:pt x="2331" y="28"/>
                      </a:moveTo>
                      <a:lnTo>
                        <a:pt x="1486" y="28"/>
                      </a:lnTo>
                      <a:lnTo>
                        <a:pt x="1486" y="9"/>
                      </a:lnTo>
                      <a:lnTo>
                        <a:pt x="1477" y="0"/>
                      </a:lnTo>
                      <a:lnTo>
                        <a:pt x="2384" y="0"/>
                      </a:lnTo>
                      <a:lnTo>
                        <a:pt x="2374" y="9"/>
                      </a:lnTo>
                      <a:lnTo>
                        <a:pt x="2331" y="28"/>
                      </a:lnTo>
                      <a:close/>
                      <a:moveTo>
                        <a:pt x="800" y="28"/>
                      </a:moveTo>
                      <a:lnTo>
                        <a:pt x="32" y="28"/>
                      </a:lnTo>
                      <a:lnTo>
                        <a:pt x="0" y="0"/>
                      </a:lnTo>
                      <a:lnTo>
                        <a:pt x="859" y="0"/>
                      </a:lnTo>
                      <a:lnTo>
                        <a:pt x="800" y="28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8" name=""/>
                <p:cNvSpPr/>
                <p:nvPr/>
              </p:nvSpPr>
              <p:spPr>
                <a:xfrm>
                  <a:off x="4743360" y="5803920"/>
                  <a:ext cx="768600" cy="19080"/>
                </a:xfrm>
                <a:custGeom>
                  <a:avLst/>
                  <a:gdLst/>
                  <a:ahLst/>
                  <a:rect l="l" t="t" r="r" b="b"/>
                  <a:pathLst>
                    <a:path w="2424" h="57">
                      <a:moveTo>
                        <a:pt x="2342" y="57"/>
                      </a:moveTo>
                      <a:lnTo>
                        <a:pt x="1497" y="57"/>
                      </a:lnTo>
                      <a:lnTo>
                        <a:pt x="1497" y="38"/>
                      </a:lnTo>
                      <a:lnTo>
                        <a:pt x="1478" y="19"/>
                      </a:lnTo>
                      <a:lnTo>
                        <a:pt x="1487" y="0"/>
                      </a:lnTo>
                      <a:lnTo>
                        <a:pt x="2424" y="0"/>
                      </a:lnTo>
                      <a:lnTo>
                        <a:pt x="2385" y="38"/>
                      </a:lnTo>
                      <a:lnTo>
                        <a:pt x="2342" y="57"/>
                      </a:lnTo>
                      <a:close/>
                      <a:moveTo>
                        <a:pt x="811" y="57"/>
                      </a:moveTo>
                      <a:lnTo>
                        <a:pt x="43" y="5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909" y="0"/>
                      </a:lnTo>
                      <a:lnTo>
                        <a:pt x="893" y="19"/>
                      </a:lnTo>
                      <a:lnTo>
                        <a:pt x="811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9" name=""/>
                <p:cNvSpPr/>
                <p:nvPr/>
              </p:nvSpPr>
              <p:spPr>
                <a:xfrm>
                  <a:off x="4743360" y="5796000"/>
                  <a:ext cx="777960" cy="17280"/>
                </a:xfrm>
                <a:custGeom>
                  <a:avLst/>
                  <a:gdLst/>
                  <a:ahLst/>
                  <a:rect l="l" t="t" r="r" b="b"/>
                  <a:pathLst>
                    <a:path w="2452" h="57">
                      <a:moveTo>
                        <a:pt x="2395" y="57"/>
                      </a:moveTo>
                      <a:lnTo>
                        <a:pt x="1488" y="57"/>
                      </a:lnTo>
                      <a:lnTo>
                        <a:pt x="1478" y="47"/>
                      </a:lnTo>
                      <a:lnTo>
                        <a:pt x="1497" y="8"/>
                      </a:lnTo>
                      <a:lnTo>
                        <a:pt x="1503" y="0"/>
                      </a:lnTo>
                      <a:lnTo>
                        <a:pt x="2452" y="0"/>
                      </a:lnTo>
                      <a:lnTo>
                        <a:pt x="2447" y="8"/>
                      </a:lnTo>
                      <a:lnTo>
                        <a:pt x="2395" y="57"/>
                      </a:lnTo>
                      <a:close/>
                      <a:moveTo>
                        <a:pt x="870" y="57"/>
                      </a:moveTo>
                      <a:lnTo>
                        <a:pt x="11" y="57"/>
                      </a:lnTo>
                      <a:lnTo>
                        <a:pt x="0" y="4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937" y="0"/>
                      </a:lnTo>
                      <a:lnTo>
                        <a:pt x="893" y="47"/>
                      </a:lnTo>
                      <a:lnTo>
                        <a:pt x="87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0" name=""/>
                <p:cNvSpPr/>
                <p:nvPr/>
              </p:nvSpPr>
              <p:spPr>
                <a:xfrm>
                  <a:off x="4743360" y="5786280"/>
                  <a:ext cx="782640" cy="17640"/>
                </a:xfrm>
                <a:custGeom>
                  <a:avLst/>
                  <a:gdLst/>
                  <a:ahLst/>
                  <a:rect l="l" t="t" r="r" b="b"/>
                  <a:pathLst>
                    <a:path w="2469" h="57">
                      <a:moveTo>
                        <a:pt x="2424" y="57"/>
                      </a:moveTo>
                      <a:lnTo>
                        <a:pt x="1487" y="57"/>
                      </a:lnTo>
                      <a:lnTo>
                        <a:pt x="1497" y="37"/>
                      </a:lnTo>
                      <a:lnTo>
                        <a:pt x="1524" y="0"/>
                      </a:lnTo>
                      <a:lnTo>
                        <a:pt x="2469" y="0"/>
                      </a:lnTo>
                      <a:lnTo>
                        <a:pt x="2447" y="37"/>
                      </a:lnTo>
                      <a:lnTo>
                        <a:pt x="2424" y="57"/>
                      </a:lnTo>
                      <a:close/>
                      <a:moveTo>
                        <a:pt x="909" y="57"/>
                      </a:moveTo>
                      <a:lnTo>
                        <a:pt x="0" y="5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30" y="0"/>
                      </a:lnTo>
                      <a:lnTo>
                        <a:pt x="955" y="0"/>
                      </a:lnTo>
                      <a:lnTo>
                        <a:pt x="950" y="13"/>
                      </a:lnTo>
                      <a:lnTo>
                        <a:pt x="909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1" name=""/>
                <p:cNvSpPr/>
                <p:nvPr/>
              </p:nvSpPr>
              <p:spPr>
                <a:xfrm>
                  <a:off x="4743360" y="5776920"/>
                  <a:ext cx="789120" cy="19080"/>
                </a:xfrm>
                <a:custGeom>
                  <a:avLst/>
                  <a:gdLst/>
                  <a:ahLst/>
                  <a:rect l="l" t="t" r="r" b="b"/>
                  <a:pathLst>
                    <a:path w="2488" h="57">
                      <a:moveTo>
                        <a:pt x="2452" y="57"/>
                      </a:moveTo>
                      <a:lnTo>
                        <a:pt x="1503" y="57"/>
                      </a:lnTo>
                      <a:lnTo>
                        <a:pt x="1545" y="0"/>
                      </a:lnTo>
                      <a:lnTo>
                        <a:pt x="2488" y="0"/>
                      </a:lnTo>
                      <a:lnTo>
                        <a:pt x="2452" y="57"/>
                      </a:lnTo>
                      <a:close/>
                      <a:moveTo>
                        <a:pt x="937" y="57"/>
                      </a:moveTo>
                      <a:lnTo>
                        <a:pt x="0" y="57"/>
                      </a:lnTo>
                      <a:lnTo>
                        <a:pt x="0" y="41"/>
                      </a:lnTo>
                      <a:lnTo>
                        <a:pt x="43" y="22"/>
                      </a:lnTo>
                      <a:lnTo>
                        <a:pt x="90" y="0"/>
                      </a:lnTo>
                      <a:lnTo>
                        <a:pt x="964" y="0"/>
                      </a:lnTo>
                      <a:lnTo>
                        <a:pt x="950" y="41"/>
                      </a:lnTo>
                      <a:lnTo>
                        <a:pt x="937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2" name=""/>
                <p:cNvSpPr/>
                <p:nvPr/>
              </p:nvSpPr>
              <p:spPr>
                <a:xfrm>
                  <a:off x="4753080" y="5769000"/>
                  <a:ext cx="785880" cy="17280"/>
                </a:xfrm>
                <a:custGeom>
                  <a:avLst/>
                  <a:gdLst/>
                  <a:ahLst/>
                  <a:rect l="l" t="t" r="r" b="b"/>
                  <a:pathLst>
                    <a:path w="2475" h="57">
                      <a:moveTo>
                        <a:pt x="2439" y="57"/>
                      </a:moveTo>
                      <a:lnTo>
                        <a:pt x="1494" y="57"/>
                      </a:lnTo>
                      <a:lnTo>
                        <a:pt x="1536" y="0"/>
                      </a:lnTo>
                      <a:lnTo>
                        <a:pt x="2475" y="0"/>
                      </a:lnTo>
                      <a:lnTo>
                        <a:pt x="2439" y="57"/>
                      </a:lnTo>
                      <a:close/>
                      <a:moveTo>
                        <a:pt x="925" y="57"/>
                      </a:moveTo>
                      <a:lnTo>
                        <a:pt x="0" y="57"/>
                      </a:lnTo>
                      <a:lnTo>
                        <a:pt x="13" y="51"/>
                      </a:lnTo>
                      <a:lnTo>
                        <a:pt x="95" y="12"/>
                      </a:lnTo>
                      <a:lnTo>
                        <a:pt x="123" y="0"/>
                      </a:lnTo>
                      <a:lnTo>
                        <a:pt x="948" y="0"/>
                      </a:lnTo>
                      <a:lnTo>
                        <a:pt x="939" y="12"/>
                      </a:lnTo>
                      <a:lnTo>
                        <a:pt x="925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3" name=""/>
                <p:cNvSpPr/>
                <p:nvPr/>
              </p:nvSpPr>
              <p:spPr>
                <a:xfrm>
                  <a:off x="4772160" y="5759280"/>
                  <a:ext cx="771480" cy="17640"/>
                </a:xfrm>
                <a:custGeom>
                  <a:avLst/>
                  <a:gdLst/>
                  <a:ahLst/>
                  <a:rect l="l" t="t" r="r" b="b"/>
                  <a:pathLst>
                    <a:path w="2433" h="58">
                      <a:moveTo>
                        <a:pt x="2398" y="58"/>
                      </a:moveTo>
                      <a:lnTo>
                        <a:pt x="1455" y="58"/>
                      </a:lnTo>
                      <a:lnTo>
                        <a:pt x="1497" y="0"/>
                      </a:lnTo>
                      <a:lnTo>
                        <a:pt x="2433" y="0"/>
                      </a:lnTo>
                      <a:lnTo>
                        <a:pt x="2398" y="58"/>
                      </a:lnTo>
                      <a:close/>
                      <a:moveTo>
                        <a:pt x="874" y="58"/>
                      </a:moveTo>
                      <a:lnTo>
                        <a:pt x="0" y="58"/>
                      </a:lnTo>
                      <a:lnTo>
                        <a:pt x="35" y="41"/>
                      </a:lnTo>
                      <a:lnTo>
                        <a:pt x="131" y="0"/>
                      </a:lnTo>
                      <a:lnTo>
                        <a:pt x="908" y="0"/>
                      </a:lnTo>
                      <a:lnTo>
                        <a:pt x="879" y="41"/>
                      </a:lnTo>
                      <a:lnTo>
                        <a:pt x="874" y="58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4" name=""/>
                <p:cNvSpPr/>
                <p:nvPr/>
              </p:nvSpPr>
              <p:spPr>
                <a:xfrm>
                  <a:off x="4791240" y="5749920"/>
                  <a:ext cx="758520" cy="19080"/>
                </a:xfrm>
                <a:custGeom>
                  <a:avLst/>
                  <a:gdLst/>
                  <a:ahLst/>
                  <a:rect l="l" t="t" r="r" b="b"/>
                  <a:pathLst>
                    <a:path w="2388" h="57">
                      <a:moveTo>
                        <a:pt x="2352" y="57"/>
                      </a:moveTo>
                      <a:lnTo>
                        <a:pt x="1413" y="57"/>
                      </a:lnTo>
                      <a:lnTo>
                        <a:pt x="1456" y="0"/>
                      </a:lnTo>
                      <a:lnTo>
                        <a:pt x="2388" y="0"/>
                      </a:lnTo>
                      <a:lnTo>
                        <a:pt x="2371" y="26"/>
                      </a:lnTo>
                      <a:lnTo>
                        <a:pt x="2352" y="57"/>
                      </a:lnTo>
                      <a:close/>
                      <a:moveTo>
                        <a:pt x="825" y="57"/>
                      </a:moveTo>
                      <a:lnTo>
                        <a:pt x="0" y="57"/>
                      </a:lnTo>
                      <a:lnTo>
                        <a:pt x="73" y="26"/>
                      </a:lnTo>
                      <a:lnTo>
                        <a:pt x="128" y="0"/>
                      </a:lnTo>
                      <a:lnTo>
                        <a:pt x="870" y="0"/>
                      </a:lnTo>
                      <a:lnTo>
                        <a:pt x="859" y="7"/>
                      </a:lnTo>
                      <a:lnTo>
                        <a:pt x="825" y="57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5" name=""/>
                <p:cNvSpPr/>
                <p:nvPr/>
              </p:nvSpPr>
              <p:spPr>
                <a:xfrm>
                  <a:off x="4813200" y="5740560"/>
                  <a:ext cx="741600" cy="18720"/>
                </a:xfrm>
                <a:custGeom>
                  <a:avLst/>
                  <a:gdLst/>
                  <a:ahLst/>
                  <a:rect l="l" t="t" r="r" b="b"/>
                  <a:pathLst>
                    <a:path w="2337" h="57">
                      <a:moveTo>
                        <a:pt x="2302" y="57"/>
                      </a:moveTo>
                      <a:lnTo>
                        <a:pt x="1366" y="57"/>
                      </a:lnTo>
                      <a:lnTo>
                        <a:pt x="1396" y="17"/>
                      </a:lnTo>
                      <a:lnTo>
                        <a:pt x="1404" y="0"/>
                      </a:lnTo>
                      <a:lnTo>
                        <a:pt x="2337" y="0"/>
                      </a:lnTo>
                      <a:lnTo>
                        <a:pt x="2303" y="55"/>
                      </a:lnTo>
                      <a:lnTo>
                        <a:pt x="2302" y="57"/>
                      </a:lnTo>
                      <a:close/>
                      <a:moveTo>
                        <a:pt x="777" y="57"/>
                      </a:moveTo>
                      <a:lnTo>
                        <a:pt x="0" y="57"/>
                      </a:lnTo>
                      <a:lnTo>
                        <a:pt x="5" y="55"/>
                      </a:lnTo>
                      <a:lnTo>
                        <a:pt x="86" y="17"/>
                      </a:lnTo>
                      <a:lnTo>
                        <a:pt x="102" y="0"/>
                      </a:lnTo>
                      <a:lnTo>
                        <a:pt x="845" y="0"/>
                      </a:lnTo>
                      <a:lnTo>
                        <a:pt x="791" y="36"/>
                      </a:lnTo>
                      <a:lnTo>
                        <a:pt x="777" y="57"/>
                      </a:lnTo>
                      <a:close/>
                      <a:moveTo>
                        <a:pt x="1058" y="0"/>
                      </a:moveTo>
                      <a:lnTo>
                        <a:pt x="1094" y="0"/>
                      </a:lnTo>
                      <a:lnTo>
                        <a:pt x="1074" y="17"/>
                      </a:lnTo>
                      <a:lnTo>
                        <a:pt x="1058" y="0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6" name=""/>
                <p:cNvSpPr/>
                <p:nvPr/>
              </p:nvSpPr>
              <p:spPr>
                <a:xfrm>
                  <a:off x="4832280" y="5732640"/>
                  <a:ext cx="728640" cy="17280"/>
                </a:xfrm>
                <a:custGeom>
                  <a:avLst/>
                  <a:gdLst/>
                  <a:ahLst/>
                  <a:rect l="l" t="t" r="r" b="b"/>
                  <a:pathLst>
                    <a:path w="2295" h="57">
                      <a:moveTo>
                        <a:pt x="2260" y="57"/>
                      </a:moveTo>
                      <a:lnTo>
                        <a:pt x="1328" y="57"/>
                      </a:lnTo>
                      <a:lnTo>
                        <a:pt x="1336" y="45"/>
                      </a:lnTo>
                      <a:lnTo>
                        <a:pt x="1355" y="3"/>
                      </a:lnTo>
                      <a:lnTo>
                        <a:pt x="1355" y="0"/>
                      </a:lnTo>
                      <a:lnTo>
                        <a:pt x="2295" y="0"/>
                      </a:lnTo>
                      <a:lnTo>
                        <a:pt x="2260" y="57"/>
                      </a:lnTo>
                      <a:close/>
                      <a:moveTo>
                        <a:pt x="742" y="57"/>
                      </a:moveTo>
                      <a:lnTo>
                        <a:pt x="0" y="57"/>
                      </a:lnTo>
                      <a:lnTo>
                        <a:pt x="26" y="45"/>
                      </a:lnTo>
                      <a:lnTo>
                        <a:pt x="68" y="0"/>
                      </a:lnTo>
                      <a:lnTo>
                        <a:pt x="827" y="0"/>
                      </a:lnTo>
                      <a:lnTo>
                        <a:pt x="789" y="25"/>
                      </a:lnTo>
                      <a:lnTo>
                        <a:pt x="742" y="57"/>
                      </a:lnTo>
                      <a:close/>
                      <a:moveTo>
                        <a:pt x="969" y="0"/>
                      </a:moveTo>
                      <a:lnTo>
                        <a:pt x="1068" y="0"/>
                      </a:lnTo>
                      <a:lnTo>
                        <a:pt x="1014" y="45"/>
                      </a:lnTo>
                      <a:lnTo>
                        <a:pt x="969" y="0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>
                  <a:off x="4844880" y="5722920"/>
                  <a:ext cx="720720" cy="17640"/>
                </a:xfrm>
                <a:custGeom>
                  <a:avLst/>
                  <a:gdLst/>
                  <a:ahLst/>
                  <a:rect l="l" t="t" r="r" b="b"/>
                  <a:pathLst>
                    <a:path w="2267" h="57">
                      <a:moveTo>
                        <a:pt x="2235" y="57"/>
                      </a:moveTo>
                      <a:lnTo>
                        <a:pt x="1302" y="57"/>
                      </a:lnTo>
                      <a:lnTo>
                        <a:pt x="1313" y="32"/>
                      </a:lnTo>
                      <a:lnTo>
                        <a:pt x="1313" y="0"/>
                      </a:lnTo>
                      <a:lnTo>
                        <a:pt x="2267" y="0"/>
                      </a:lnTo>
                      <a:lnTo>
                        <a:pt x="2264" y="12"/>
                      </a:lnTo>
                      <a:lnTo>
                        <a:pt x="2235" y="57"/>
                      </a:lnTo>
                      <a:close/>
                      <a:moveTo>
                        <a:pt x="992" y="57"/>
                      </a:moveTo>
                      <a:lnTo>
                        <a:pt x="956" y="57"/>
                      </a:lnTo>
                      <a:lnTo>
                        <a:pt x="899" y="0"/>
                      </a:lnTo>
                      <a:lnTo>
                        <a:pt x="1060" y="0"/>
                      </a:lnTo>
                      <a:lnTo>
                        <a:pt x="992" y="57"/>
                      </a:lnTo>
                      <a:close/>
                      <a:moveTo>
                        <a:pt x="743" y="57"/>
                      </a:moveTo>
                      <a:lnTo>
                        <a:pt x="0" y="57"/>
                      </a:lnTo>
                      <a:lnTo>
                        <a:pt x="54" y="0"/>
                      </a:lnTo>
                      <a:lnTo>
                        <a:pt x="858" y="0"/>
                      </a:lnTo>
                      <a:lnTo>
                        <a:pt x="810" y="12"/>
                      </a:lnTo>
                      <a:lnTo>
                        <a:pt x="747" y="54"/>
                      </a:lnTo>
                      <a:lnTo>
                        <a:pt x="743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>
                  <a:off x="4853160" y="5713560"/>
                  <a:ext cx="714240" cy="19080"/>
                </a:xfrm>
                <a:custGeom>
                  <a:avLst/>
                  <a:gdLst/>
                  <a:ahLst/>
                  <a:rect l="l" t="t" r="r" b="b"/>
                  <a:pathLst>
                    <a:path w="2250" h="57">
                      <a:moveTo>
                        <a:pt x="2227" y="57"/>
                      </a:moveTo>
                      <a:lnTo>
                        <a:pt x="1287" y="57"/>
                      </a:lnTo>
                      <a:lnTo>
                        <a:pt x="1287" y="21"/>
                      </a:lnTo>
                      <a:lnTo>
                        <a:pt x="1277" y="0"/>
                      </a:lnTo>
                      <a:lnTo>
                        <a:pt x="2250" y="0"/>
                      </a:lnTo>
                      <a:lnTo>
                        <a:pt x="2238" y="40"/>
                      </a:lnTo>
                      <a:lnTo>
                        <a:pt x="2227" y="57"/>
                      </a:lnTo>
                      <a:close/>
                      <a:moveTo>
                        <a:pt x="1000" y="57"/>
                      </a:moveTo>
                      <a:lnTo>
                        <a:pt x="901" y="57"/>
                      </a:lnTo>
                      <a:lnTo>
                        <a:pt x="865" y="21"/>
                      </a:lnTo>
                      <a:lnTo>
                        <a:pt x="784" y="40"/>
                      </a:lnTo>
                      <a:lnTo>
                        <a:pt x="759" y="57"/>
                      </a:lnTo>
                      <a:lnTo>
                        <a:pt x="0" y="57"/>
                      </a:lnTo>
                      <a:lnTo>
                        <a:pt x="35" y="21"/>
                      </a:lnTo>
                      <a:lnTo>
                        <a:pt x="69" y="0"/>
                      </a:lnTo>
                      <a:lnTo>
                        <a:pt x="1068" y="0"/>
                      </a:lnTo>
                      <a:lnTo>
                        <a:pt x="1000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9" name=""/>
                <p:cNvSpPr/>
                <p:nvPr/>
              </p:nvSpPr>
              <p:spPr>
                <a:xfrm>
                  <a:off x="4862520" y="5705640"/>
                  <a:ext cx="708120" cy="17280"/>
                </a:xfrm>
                <a:custGeom>
                  <a:avLst/>
                  <a:gdLst/>
                  <a:ahLst/>
                  <a:rect l="l" t="t" r="r" b="b"/>
                  <a:pathLst>
                    <a:path w="2231" h="57">
                      <a:moveTo>
                        <a:pt x="2213" y="57"/>
                      </a:moveTo>
                      <a:lnTo>
                        <a:pt x="1259" y="57"/>
                      </a:lnTo>
                      <a:lnTo>
                        <a:pt x="1259" y="50"/>
                      </a:lnTo>
                      <a:lnTo>
                        <a:pt x="1240" y="11"/>
                      </a:lnTo>
                      <a:lnTo>
                        <a:pt x="1236" y="0"/>
                      </a:lnTo>
                      <a:lnTo>
                        <a:pt x="2231" y="0"/>
                      </a:lnTo>
                      <a:lnTo>
                        <a:pt x="2213" y="57"/>
                      </a:lnTo>
                      <a:close/>
                      <a:moveTo>
                        <a:pt x="1006" y="57"/>
                      </a:moveTo>
                      <a:lnTo>
                        <a:pt x="845" y="57"/>
                      </a:lnTo>
                      <a:lnTo>
                        <a:pt x="837" y="50"/>
                      </a:lnTo>
                      <a:lnTo>
                        <a:pt x="804" y="57"/>
                      </a:lnTo>
                      <a:lnTo>
                        <a:pt x="0" y="57"/>
                      </a:lnTo>
                      <a:lnTo>
                        <a:pt x="7" y="50"/>
                      </a:lnTo>
                      <a:lnTo>
                        <a:pt x="69" y="11"/>
                      </a:lnTo>
                      <a:lnTo>
                        <a:pt x="76" y="0"/>
                      </a:lnTo>
                      <a:lnTo>
                        <a:pt x="1074" y="0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0" name=""/>
                <p:cNvSpPr/>
                <p:nvPr/>
              </p:nvSpPr>
              <p:spPr>
                <a:xfrm>
                  <a:off x="4875120" y="5695920"/>
                  <a:ext cx="698760" cy="17640"/>
                </a:xfrm>
                <a:custGeom>
                  <a:avLst/>
                  <a:gdLst/>
                  <a:ahLst/>
                  <a:rect l="l" t="t" r="r" b="b"/>
                  <a:pathLst>
                    <a:path w="2199" h="58">
                      <a:moveTo>
                        <a:pt x="2181" y="58"/>
                      </a:moveTo>
                      <a:lnTo>
                        <a:pt x="1208" y="58"/>
                      </a:lnTo>
                      <a:lnTo>
                        <a:pt x="1199" y="40"/>
                      </a:lnTo>
                      <a:lnTo>
                        <a:pt x="1181" y="0"/>
                      </a:lnTo>
                      <a:lnTo>
                        <a:pt x="2199" y="0"/>
                      </a:lnTo>
                      <a:lnTo>
                        <a:pt x="2181" y="58"/>
                      </a:lnTo>
                      <a:close/>
                      <a:moveTo>
                        <a:pt x="999" y="58"/>
                      </a:moveTo>
                      <a:lnTo>
                        <a:pt x="0" y="58"/>
                      </a:lnTo>
                      <a:lnTo>
                        <a:pt x="28" y="40"/>
                      </a:lnTo>
                      <a:lnTo>
                        <a:pt x="53" y="0"/>
                      </a:lnTo>
                      <a:lnTo>
                        <a:pt x="1067" y="0"/>
                      </a:lnTo>
                      <a:lnTo>
                        <a:pt x="999" y="58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1" name=""/>
                <p:cNvSpPr/>
                <p:nvPr/>
              </p:nvSpPr>
              <p:spPr>
                <a:xfrm>
                  <a:off x="4886280" y="5686560"/>
                  <a:ext cx="690480" cy="19080"/>
                </a:xfrm>
                <a:custGeom>
                  <a:avLst/>
                  <a:gdLst/>
                  <a:ahLst/>
                  <a:rect l="l" t="t" r="r" b="b"/>
                  <a:pathLst>
                    <a:path w="2174" h="56">
                      <a:moveTo>
                        <a:pt x="2155" y="56"/>
                      </a:moveTo>
                      <a:lnTo>
                        <a:pt x="1160" y="56"/>
                      </a:lnTo>
                      <a:lnTo>
                        <a:pt x="1144" y="24"/>
                      </a:lnTo>
                      <a:lnTo>
                        <a:pt x="1125" y="5"/>
                      </a:lnTo>
                      <a:lnTo>
                        <a:pt x="1114" y="0"/>
                      </a:lnTo>
                      <a:lnTo>
                        <a:pt x="2174" y="0"/>
                      </a:lnTo>
                      <a:lnTo>
                        <a:pt x="2172" y="5"/>
                      </a:lnTo>
                      <a:lnTo>
                        <a:pt x="2155" y="56"/>
                      </a:lnTo>
                      <a:close/>
                      <a:moveTo>
                        <a:pt x="998" y="56"/>
                      </a:moveTo>
                      <a:lnTo>
                        <a:pt x="0" y="56"/>
                      </a:lnTo>
                      <a:lnTo>
                        <a:pt x="32" y="5"/>
                      </a:lnTo>
                      <a:lnTo>
                        <a:pt x="34" y="0"/>
                      </a:lnTo>
                      <a:lnTo>
                        <a:pt x="1066" y="0"/>
                      </a:lnTo>
                      <a:lnTo>
                        <a:pt x="998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4892760" y="5678640"/>
                  <a:ext cx="687240" cy="17280"/>
                </a:xfrm>
                <a:custGeom>
                  <a:avLst/>
                  <a:gdLst/>
                  <a:ahLst/>
                  <a:rect l="l" t="t" r="r" b="b"/>
                  <a:pathLst>
                    <a:path w="2165" h="56">
                      <a:moveTo>
                        <a:pt x="2146" y="56"/>
                      </a:moveTo>
                      <a:lnTo>
                        <a:pt x="1128" y="56"/>
                      </a:lnTo>
                      <a:lnTo>
                        <a:pt x="1126" y="53"/>
                      </a:lnTo>
                      <a:lnTo>
                        <a:pt x="1107" y="34"/>
                      </a:lnTo>
                      <a:lnTo>
                        <a:pt x="1065" y="15"/>
                      </a:lnTo>
                      <a:lnTo>
                        <a:pt x="1054" y="0"/>
                      </a:lnTo>
                      <a:lnTo>
                        <a:pt x="2165" y="0"/>
                      </a:lnTo>
                      <a:lnTo>
                        <a:pt x="2154" y="34"/>
                      </a:lnTo>
                      <a:lnTo>
                        <a:pt x="2146" y="56"/>
                      </a:lnTo>
                      <a:close/>
                      <a:moveTo>
                        <a:pt x="1014" y="56"/>
                      </a:moveTo>
                      <a:lnTo>
                        <a:pt x="0" y="56"/>
                      </a:lnTo>
                      <a:lnTo>
                        <a:pt x="14" y="34"/>
                      </a:lnTo>
                      <a:lnTo>
                        <a:pt x="27" y="0"/>
                      </a:lnTo>
                      <a:lnTo>
                        <a:pt x="1054" y="0"/>
                      </a:lnTo>
                      <a:lnTo>
                        <a:pt x="1065" y="15"/>
                      </a:lnTo>
                      <a:lnTo>
                        <a:pt x="1014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3" name=""/>
                <p:cNvSpPr/>
                <p:nvPr/>
              </p:nvSpPr>
              <p:spPr>
                <a:xfrm>
                  <a:off x="4775040" y="5668920"/>
                  <a:ext cx="806760" cy="17640"/>
                </a:xfrm>
                <a:custGeom>
                  <a:avLst/>
                  <a:gdLst/>
                  <a:ahLst/>
                  <a:rect l="l" t="t" r="r" b="b"/>
                  <a:pathLst>
                    <a:path w="2543" h="57">
                      <a:moveTo>
                        <a:pt x="2526" y="57"/>
                      </a:moveTo>
                      <a:lnTo>
                        <a:pt x="1466" y="57"/>
                      </a:lnTo>
                      <a:lnTo>
                        <a:pt x="1435" y="43"/>
                      </a:lnTo>
                      <a:lnTo>
                        <a:pt x="1402" y="0"/>
                      </a:lnTo>
                      <a:lnTo>
                        <a:pt x="2543" y="0"/>
                      </a:lnTo>
                      <a:lnTo>
                        <a:pt x="2526" y="57"/>
                      </a:lnTo>
                      <a:close/>
                      <a:moveTo>
                        <a:pt x="1418" y="57"/>
                      </a:moveTo>
                      <a:lnTo>
                        <a:pt x="386" y="57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1402" y="0"/>
                      </a:lnTo>
                      <a:lnTo>
                        <a:pt x="1435" y="43"/>
                      </a:lnTo>
                      <a:lnTo>
                        <a:pt x="1418" y="57"/>
                      </a:lnTo>
                      <a:close/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4" name=""/>
                <p:cNvSpPr/>
                <p:nvPr/>
              </p:nvSpPr>
              <p:spPr>
                <a:xfrm>
                  <a:off x="4770360" y="5659560"/>
                  <a:ext cx="814320" cy="19080"/>
                </a:xfrm>
                <a:custGeom>
                  <a:avLst/>
                  <a:gdLst/>
                  <a:ahLst/>
                  <a:rect l="l" t="t" r="r" b="b"/>
                  <a:pathLst>
                    <a:path w="2568" h="57">
                      <a:moveTo>
                        <a:pt x="2551" y="57"/>
                      </a:moveTo>
                      <a:lnTo>
                        <a:pt x="1440" y="57"/>
                      </a:lnTo>
                      <a:lnTo>
                        <a:pt x="1397" y="0"/>
                      </a:lnTo>
                      <a:lnTo>
                        <a:pt x="2568" y="0"/>
                      </a:lnTo>
                      <a:lnTo>
                        <a:pt x="2551" y="57"/>
                      </a:lnTo>
                      <a:close/>
                      <a:moveTo>
                        <a:pt x="1440" y="57"/>
                      </a:moveTo>
                      <a:lnTo>
                        <a:pt x="413" y="57"/>
                      </a:lnTo>
                      <a:lnTo>
                        <a:pt x="424" y="29"/>
                      </a:lnTo>
                      <a:lnTo>
                        <a:pt x="438" y="0"/>
                      </a:lnTo>
                      <a:lnTo>
                        <a:pt x="1397" y="0"/>
                      </a:lnTo>
                      <a:lnTo>
                        <a:pt x="1440" y="57"/>
                      </a:lnTo>
                      <a:close/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16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5" name=""/>
                <p:cNvSpPr/>
                <p:nvPr/>
              </p:nvSpPr>
              <p:spPr>
                <a:xfrm>
                  <a:off x="4764240" y="5651640"/>
                  <a:ext cx="846000" cy="17280"/>
                </a:xfrm>
                <a:custGeom>
                  <a:avLst/>
                  <a:gdLst/>
                  <a:ahLst/>
                  <a:rect l="l" t="t" r="r" b="b"/>
                  <a:pathLst>
                    <a:path w="2663" h="57">
                      <a:moveTo>
                        <a:pt x="2576" y="57"/>
                      </a:moveTo>
                      <a:lnTo>
                        <a:pt x="1435" y="57"/>
                      </a:lnTo>
                      <a:lnTo>
                        <a:pt x="1392" y="0"/>
                      </a:lnTo>
                      <a:lnTo>
                        <a:pt x="2593" y="0"/>
                      </a:lnTo>
                      <a:lnTo>
                        <a:pt x="2576" y="57"/>
                      </a:lnTo>
                      <a:close/>
                      <a:moveTo>
                        <a:pt x="1435" y="57"/>
                      </a:moveTo>
                      <a:lnTo>
                        <a:pt x="441" y="57"/>
                      </a:lnTo>
                      <a:lnTo>
                        <a:pt x="460" y="18"/>
                      </a:lnTo>
                      <a:lnTo>
                        <a:pt x="460" y="0"/>
                      </a:lnTo>
                      <a:lnTo>
                        <a:pt x="1392" y="0"/>
                      </a:lnTo>
                      <a:lnTo>
                        <a:pt x="1435" y="57"/>
                      </a:lnTo>
                      <a:close/>
                      <a:moveTo>
                        <a:pt x="35" y="57"/>
                      </a:moveTo>
                      <a:lnTo>
                        <a:pt x="33" y="57"/>
                      </a:lnTo>
                      <a:lnTo>
                        <a:pt x="0" y="0"/>
                      </a:lnTo>
                      <a:lnTo>
                        <a:pt x="188" y="0"/>
                      </a:lnTo>
                      <a:lnTo>
                        <a:pt x="35" y="57"/>
                      </a:lnTo>
                      <a:close/>
                      <a:moveTo>
                        <a:pt x="2629" y="0"/>
                      </a:moveTo>
                      <a:lnTo>
                        <a:pt x="2663" y="0"/>
                      </a:lnTo>
                      <a:lnTo>
                        <a:pt x="2658" y="18"/>
                      </a:lnTo>
                      <a:lnTo>
                        <a:pt x="2629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6" name=""/>
                <p:cNvSpPr/>
                <p:nvPr/>
              </p:nvSpPr>
              <p:spPr>
                <a:xfrm>
                  <a:off x="4759200" y="5641920"/>
                  <a:ext cx="852480" cy="17640"/>
                </a:xfrm>
                <a:custGeom>
                  <a:avLst/>
                  <a:gdLst/>
                  <a:ahLst/>
                  <a:rect l="l" t="t" r="r" b="b"/>
                  <a:pathLst>
                    <a:path w="2687" h="57">
                      <a:moveTo>
                        <a:pt x="2602" y="57"/>
                      </a:moveTo>
                      <a:lnTo>
                        <a:pt x="1431" y="57"/>
                      </a:lnTo>
                      <a:lnTo>
                        <a:pt x="1388" y="0"/>
                      </a:lnTo>
                      <a:lnTo>
                        <a:pt x="2687" y="0"/>
                      </a:lnTo>
                      <a:lnTo>
                        <a:pt x="2675" y="47"/>
                      </a:lnTo>
                      <a:lnTo>
                        <a:pt x="2616" y="8"/>
                      </a:lnTo>
                      <a:lnTo>
                        <a:pt x="2602" y="57"/>
                      </a:lnTo>
                      <a:close/>
                      <a:moveTo>
                        <a:pt x="1431" y="57"/>
                      </a:moveTo>
                      <a:lnTo>
                        <a:pt x="472" y="57"/>
                      </a:lnTo>
                      <a:lnTo>
                        <a:pt x="477" y="47"/>
                      </a:lnTo>
                      <a:lnTo>
                        <a:pt x="477" y="0"/>
                      </a:lnTo>
                      <a:lnTo>
                        <a:pt x="1388" y="0"/>
                      </a:lnTo>
                      <a:lnTo>
                        <a:pt x="1431" y="57"/>
                      </a:lnTo>
                      <a:close/>
                      <a:moveTo>
                        <a:pt x="129" y="57"/>
                      </a:move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281" y="0"/>
                      </a:lnTo>
                      <a:lnTo>
                        <a:pt x="129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7" name=""/>
                <p:cNvSpPr/>
                <p:nvPr/>
              </p:nvSpPr>
              <p:spPr>
                <a:xfrm>
                  <a:off x="4754520" y="5632560"/>
                  <a:ext cx="860400" cy="19080"/>
                </a:xfrm>
                <a:custGeom>
                  <a:avLst/>
                  <a:gdLst/>
                  <a:ahLst/>
                  <a:rect l="l" t="t" r="r" b="b"/>
                  <a:pathLst>
                    <a:path w="2711" h="58">
                      <a:moveTo>
                        <a:pt x="2696" y="58"/>
                      </a:moveTo>
                      <a:lnTo>
                        <a:pt x="2662" y="58"/>
                      </a:lnTo>
                      <a:lnTo>
                        <a:pt x="2632" y="37"/>
                      </a:lnTo>
                      <a:lnTo>
                        <a:pt x="2626" y="58"/>
                      </a:lnTo>
                      <a:lnTo>
                        <a:pt x="1425" y="58"/>
                      </a:lnTo>
                      <a:lnTo>
                        <a:pt x="1383" y="0"/>
                      </a:lnTo>
                      <a:lnTo>
                        <a:pt x="2711" y="0"/>
                      </a:lnTo>
                      <a:lnTo>
                        <a:pt x="2696" y="58"/>
                      </a:lnTo>
                      <a:close/>
                      <a:moveTo>
                        <a:pt x="1425" y="58"/>
                      </a:moveTo>
                      <a:lnTo>
                        <a:pt x="493" y="58"/>
                      </a:lnTo>
                      <a:lnTo>
                        <a:pt x="493" y="14"/>
                      </a:lnTo>
                      <a:lnTo>
                        <a:pt x="493" y="0"/>
                      </a:lnTo>
                      <a:lnTo>
                        <a:pt x="1383" y="0"/>
                      </a:lnTo>
                      <a:lnTo>
                        <a:pt x="1425" y="58"/>
                      </a:lnTo>
                      <a:close/>
                      <a:moveTo>
                        <a:pt x="221" y="58"/>
                      </a:moveTo>
                      <a:lnTo>
                        <a:pt x="33" y="58"/>
                      </a:lnTo>
                      <a:lnTo>
                        <a:pt x="0" y="0"/>
                      </a:lnTo>
                      <a:lnTo>
                        <a:pt x="374" y="0"/>
                      </a:lnTo>
                      <a:lnTo>
                        <a:pt x="221" y="58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8" name=""/>
                <p:cNvSpPr/>
                <p:nvPr/>
              </p:nvSpPr>
              <p:spPr>
                <a:xfrm>
                  <a:off x="4748040" y="5622840"/>
                  <a:ext cx="868680" cy="19080"/>
                </a:xfrm>
                <a:custGeom>
                  <a:avLst/>
                  <a:gdLst/>
                  <a:ahLst/>
                  <a:rect l="l" t="t" r="r" b="b"/>
                  <a:pathLst>
                    <a:path w="2734" h="57">
                      <a:moveTo>
                        <a:pt x="2719" y="57"/>
                      </a:moveTo>
                      <a:lnTo>
                        <a:pt x="1420" y="57"/>
                      </a:lnTo>
                      <a:lnTo>
                        <a:pt x="1378" y="0"/>
                      </a:lnTo>
                      <a:lnTo>
                        <a:pt x="2734" y="0"/>
                      </a:lnTo>
                      <a:lnTo>
                        <a:pt x="2719" y="57"/>
                      </a:lnTo>
                      <a:close/>
                      <a:moveTo>
                        <a:pt x="1420" y="57"/>
                      </a:moveTo>
                      <a:lnTo>
                        <a:pt x="509" y="57"/>
                      </a:lnTo>
                      <a:lnTo>
                        <a:pt x="509" y="42"/>
                      </a:lnTo>
                      <a:lnTo>
                        <a:pt x="509" y="0"/>
                      </a:lnTo>
                      <a:lnTo>
                        <a:pt x="1378" y="0"/>
                      </a:lnTo>
                      <a:lnTo>
                        <a:pt x="1420" y="57"/>
                      </a:lnTo>
                      <a:close/>
                      <a:moveTo>
                        <a:pt x="313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466" y="0"/>
                      </a:lnTo>
                      <a:lnTo>
                        <a:pt x="313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9" name=""/>
                <p:cNvSpPr/>
                <p:nvPr/>
              </p:nvSpPr>
              <p:spPr>
                <a:xfrm>
                  <a:off x="4743360" y="5614920"/>
                  <a:ext cx="876240" cy="17640"/>
                </a:xfrm>
                <a:custGeom>
                  <a:avLst/>
                  <a:gdLst/>
                  <a:ahLst/>
                  <a:rect l="l" t="t" r="r" b="b"/>
                  <a:pathLst>
                    <a:path w="2759" h="57">
                      <a:moveTo>
                        <a:pt x="2745" y="57"/>
                      </a:moveTo>
                      <a:lnTo>
                        <a:pt x="1417" y="57"/>
                      </a:lnTo>
                      <a:lnTo>
                        <a:pt x="1375" y="0"/>
                      </a:lnTo>
                      <a:lnTo>
                        <a:pt x="2759" y="0"/>
                      </a:lnTo>
                      <a:lnTo>
                        <a:pt x="2745" y="57"/>
                      </a:lnTo>
                      <a:close/>
                      <a:moveTo>
                        <a:pt x="1417" y="57"/>
                      </a:moveTo>
                      <a:lnTo>
                        <a:pt x="527" y="57"/>
                      </a:lnTo>
                      <a:lnTo>
                        <a:pt x="527" y="12"/>
                      </a:lnTo>
                      <a:lnTo>
                        <a:pt x="408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75" y="0"/>
                      </a:lnTo>
                      <a:lnTo>
                        <a:pt x="1417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0" name=""/>
                <p:cNvSpPr/>
                <p:nvPr/>
              </p:nvSpPr>
              <p:spPr>
                <a:xfrm>
                  <a:off x="4738680" y="5605560"/>
                  <a:ext cx="882720" cy="17280"/>
                </a:xfrm>
                <a:custGeom>
                  <a:avLst/>
                  <a:gdLst/>
                  <a:ahLst/>
                  <a:rect l="l" t="t" r="r" b="b"/>
                  <a:pathLst>
                    <a:path w="2784" h="57">
                      <a:moveTo>
                        <a:pt x="2768" y="57"/>
                      </a:moveTo>
                      <a:lnTo>
                        <a:pt x="1412" y="57"/>
                      </a:lnTo>
                      <a:lnTo>
                        <a:pt x="1369" y="0"/>
                      </a:lnTo>
                      <a:lnTo>
                        <a:pt x="2784" y="0"/>
                      </a:lnTo>
                      <a:lnTo>
                        <a:pt x="2768" y="57"/>
                      </a:lnTo>
                      <a:close/>
                      <a:moveTo>
                        <a:pt x="1412" y="57"/>
                      </a:moveTo>
                      <a:lnTo>
                        <a:pt x="543" y="57"/>
                      </a:lnTo>
                      <a:lnTo>
                        <a:pt x="543" y="40"/>
                      </a:lnTo>
                      <a:lnTo>
                        <a:pt x="500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69" y="0"/>
                      </a:lnTo>
                      <a:lnTo>
                        <a:pt x="1412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1" name=""/>
                <p:cNvSpPr/>
                <p:nvPr/>
              </p:nvSpPr>
              <p:spPr>
                <a:xfrm>
                  <a:off x="4732200" y="5595840"/>
                  <a:ext cx="892440" cy="19080"/>
                </a:xfrm>
                <a:custGeom>
                  <a:avLst/>
                  <a:gdLst/>
                  <a:ahLst/>
                  <a:rect l="l" t="t" r="r" b="b"/>
                  <a:pathLst>
                    <a:path w="2807" h="57">
                      <a:moveTo>
                        <a:pt x="2791" y="57"/>
                      </a:moveTo>
                      <a:lnTo>
                        <a:pt x="1407" y="57"/>
                      </a:lnTo>
                      <a:lnTo>
                        <a:pt x="1364" y="0"/>
                      </a:lnTo>
                      <a:lnTo>
                        <a:pt x="2807" y="0"/>
                      </a:lnTo>
                      <a:lnTo>
                        <a:pt x="2791" y="57"/>
                      </a:lnTo>
                      <a:close/>
                      <a:moveTo>
                        <a:pt x="1407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1364" y="0"/>
                      </a:lnTo>
                      <a:lnTo>
                        <a:pt x="1407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2" name=""/>
                <p:cNvSpPr/>
                <p:nvPr/>
              </p:nvSpPr>
              <p:spPr>
                <a:xfrm>
                  <a:off x="4727520" y="5586480"/>
                  <a:ext cx="898560" cy="19080"/>
                </a:xfrm>
                <a:custGeom>
                  <a:avLst/>
                  <a:gdLst/>
                  <a:ahLst/>
                  <a:rect l="l" t="t" r="r" b="b"/>
                  <a:pathLst>
                    <a:path w="2832" h="58">
                      <a:moveTo>
                        <a:pt x="2818" y="58"/>
                      </a:moveTo>
                      <a:lnTo>
                        <a:pt x="1403" y="58"/>
                      </a:lnTo>
                      <a:lnTo>
                        <a:pt x="1360" y="0"/>
                      </a:lnTo>
                      <a:lnTo>
                        <a:pt x="2832" y="0"/>
                      </a:lnTo>
                      <a:lnTo>
                        <a:pt x="2818" y="58"/>
                      </a:lnTo>
                      <a:close/>
                      <a:moveTo>
                        <a:pt x="1403" y="58"/>
                      </a:moveTo>
                      <a:lnTo>
                        <a:pt x="34" y="58"/>
                      </a:lnTo>
                      <a:lnTo>
                        <a:pt x="10" y="18"/>
                      </a:lnTo>
                      <a:lnTo>
                        <a:pt x="0" y="0"/>
                      </a:lnTo>
                      <a:lnTo>
                        <a:pt x="1360" y="0"/>
                      </a:lnTo>
                      <a:lnTo>
                        <a:pt x="1403" y="58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3" name=""/>
                <p:cNvSpPr/>
                <p:nvPr/>
              </p:nvSpPr>
              <p:spPr>
                <a:xfrm>
                  <a:off x="4721400" y="5578560"/>
                  <a:ext cx="907920" cy="17280"/>
                </a:xfrm>
                <a:custGeom>
                  <a:avLst/>
                  <a:gdLst/>
                  <a:ahLst/>
                  <a:rect l="l" t="t" r="r" b="b"/>
                  <a:pathLst>
                    <a:path w="2858" h="57">
                      <a:moveTo>
                        <a:pt x="2843" y="57"/>
                      </a:moveTo>
                      <a:lnTo>
                        <a:pt x="1400" y="57"/>
                      </a:lnTo>
                      <a:lnTo>
                        <a:pt x="1357" y="0"/>
                      </a:lnTo>
                      <a:lnTo>
                        <a:pt x="2858" y="0"/>
                      </a:lnTo>
                      <a:lnTo>
                        <a:pt x="2843" y="57"/>
                      </a:lnTo>
                      <a:close/>
                      <a:moveTo>
                        <a:pt x="1400" y="57"/>
                      </a:moveTo>
                      <a:lnTo>
                        <a:pt x="36" y="57"/>
                      </a:lnTo>
                      <a:lnTo>
                        <a:pt x="28" y="46"/>
                      </a:lnTo>
                      <a:lnTo>
                        <a:pt x="0" y="0"/>
                      </a:lnTo>
                      <a:lnTo>
                        <a:pt x="1357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4" name=""/>
                <p:cNvSpPr/>
                <p:nvPr/>
              </p:nvSpPr>
              <p:spPr>
                <a:xfrm>
                  <a:off x="4716360" y="5568840"/>
                  <a:ext cx="914400" cy="17640"/>
                </a:xfrm>
                <a:custGeom>
                  <a:avLst/>
                  <a:gdLst/>
                  <a:ahLst/>
                  <a:rect l="l" t="t" r="r" b="b"/>
                  <a:pathLst>
                    <a:path w="2883" h="57">
                      <a:moveTo>
                        <a:pt x="2868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883" y="0"/>
                      </a:lnTo>
                      <a:lnTo>
                        <a:pt x="2868" y="57"/>
                      </a:lnTo>
                      <a:close/>
                      <a:moveTo>
                        <a:pt x="139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5" name=""/>
                <p:cNvSpPr/>
                <p:nvPr/>
              </p:nvSpPr>
              <p:spPr>
                <a:xfrm>
                  <a:off x="4710240" y="5559480"/>
                  <a:ext cx="923760" cy="19080"/>
                </a:xfrm>
                <a:custGeom>
                  <a:avLst/>
                  <a:gdLst/>
                  <a:ahLst/>
                  <a:rect l="l" t="t" r="r" b="b"/>
                  <a:pathLst>
                    <a:path w="2908" h="57">
                      <a:moveTo>
                        <a:pt x="2894" y="57"/>
                      </a:moveTo>
                      <a:lnTo>
                        <a:pt x="1393" y="57"/>
                      </a:lnTo>
                      <a:lnTo>
                        <a:pt x="1350" y="0"/>
                      </a:lnTo>
                      <a:lnTo>
                        <a:pt x="2908" y="0"/>
                      </a:lnTo>
                      <a:lnTo>
                        <a:pt x="2894" y="57"/>
                      </a:lnTo>
                      <a:close/>
                      <a:moveTo>
                        <a:pt x="139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0" y="0"/>
                      </a:lnTo>
                      <a:lnTo>
                        <a:pt x="1393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6" name=""/>
                <p:cNvSpPr/>
                <p:nvPr/>
              </p:nvSpPr>
              <p:spPr>
                <a:xfrm>
                  <a:off x="4703760" y="5551560"/>
                  <a:ext cx="932040" cy="17280"/>
                </a:xfrm>
                <a:custGeom>
                  <a:avLst/>
                  <a:gdLst/>
                  <a:ahLst/>
                  <a:rect l="l" t="t" r="r" b="b"/>
                  <a:pathLst>
                    <a:path w="2934" h="57">
                      <a:moveTo>
                        <a:pt x="2919" y="57"/>
                      </a:moveTo>
                      <a:lnTo>
                        <a:pt x="1389" y="57"/>
                      </a:lnTo>
                      <a:lnTo>
                        <a:pt x="1347" y="0"/>
                      </a:lnTo>
                      <a:lnTo>
                        <a:pt x="2934" y="0"/>
                      </a:lnTo>
                      <a:lnTo>
                        <a:pt x="2919" y="57"/>
                      </a:lnTo>
                      <a:close/>
                      <a:moveTo>
                        <a:pt x="1389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7" y="0"/>
                      </a:lnTo>
                      <a:lnTo>
                        <a:pt x="1389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7" name=""/>
                <p:cNvSpPr/>
                <p:nvPr/>
              </p:nvSpPr>
              <p:spPr>
                <a:xfrm>
                  <a:off x="4699080" y="5541840"/>
                  <a:ext cx="939600" cy="17640"/>
                </a:xfrm>
                <a:custGeom>
                  <a:avLst/>
                  <a:gdLst/>
                  <a:ahLst/>
                  <a:rect l="l" t="t" r="r" b="b"/>
                  <a:pathLst>
                    <a:path w="2960" h="57">
                      <a:moveTo>
                        <a:pt x="2944" y="57"/>
                      </a:moveTo>
                      <a:lnTo>
                        <a:pt x="1386" y="57"/>
                      </a:lnTo>
                      <a:lnTo>
                        <a:pt x="1343" y="0"/>
                      </a:lnTo>
                      <a:lnTo>
                        <a:pt x="2960" y="0"/>
                      </a:lnTo>
                      <a:lnTo>
                        <a:pt x="2944" y="57"/>
                      </a:lnTo>
                      <a:close/>
                      <a:moveTo>
                        <a:pt x="138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3" y="0"/>
                      </a:lnTo>
                      <a:lnTo>
                        <a:pt x="1386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8" name=""/>
                <p:cNvSpPr/>
                <p:nvPr/>
              </p:nvSpPr>
              <p:spPr>
                <a:xfrm>
                  <a:off x="4692600" y="5532480"/>
                  <a:ext cx="949320" cy="19080"/>
                </a:xfrm>
                <a:custGeom>
                  <a:avLst/>
                  <a:gdLst/>
                  <a:ahLst/>
                  <a:rect l="l" t="t" r="r" b="b"/>
                  <a:pathLst>
                    <a:path w="2991" h="57">
                      <a:moveTo>
                        <a:pt x="2970" y="57"/>
                      </a:moveTo>
                      <a:lnTo>
                        <a:pt x="1383" y="57"/>
                      </a:lnTo>
                      <a:lnTo>
                        <a:pt x="1340" y="0"/>
                      </a:lnTo>
                      <a:lnTo>
                        <a:pt x="2991" y="0"/>
                      </a:lnTo>
                      <a:lnTo>
                        <a:pt x="2984" y="6"/>
                      </a:lnTo>
                      <a:lnTo>
                        <a:pt x="2970" y="57"/>
                      </a:lnTo>
                      <a:close/>
                      <a:moveTo>
                        <a:pt x="138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0" y="0"/>
                      </a:lnTo>
                      <a:lnTo>
                        <a:pt x="1383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9" name=""/>
                <p:cNvSpPr/>
                <p:nvPr/>
              </p:nvSpPr>
              <p:spPr>
                <a:xfrm>
                  <a:off x="4687920" y="5522760"/>
                  <a:ext cx="960480" cy="19080"/>
                </a:xfrm>
                <a:custGeom>
                  <a:avLst/>
                  <a:gdLst/>
                  <a:ahLst/>
                  <a:rect l="l" t="t" r="r" b="b"/>
                  <a:pathLst>
                    <a:path w="3025" h="58">
                      <a:moveTo>
                        <a:pt x="2996" y="58"/>
                      </a:moveTo>
                      <a:lnTo>
                        <a:pt x="1379" y="58"/>
                      </a:lnTo>
                      <a:lnTo>
                        <a:pt x="1337" y="0"/>
                      </a:lnTo>
                      <a:lnTo>
                        <a:pt x="3017" y="0"/>
                      </a:lnTo>
                      <a:lnTo>
                        <a:pt x="3025" y="16"/>
                      </a:lnTo>
                      <a:lnTo>
                        <a:pt x="3002" y="35"/>
                      </a:lnTo>
                      <a:lnTo>
                        <a:pt x="2996" y="58"/>
                      </a:lnTo>
                      <a:close/>
                      <a:moveTo>
                        <a:pt x="1379" y="58"/>
                      </a:moveTo>
                      <a:lnTo>
                        <a:pt x="36" y="58"/>
                      </a:lnTo>
                      <a:lnTo>
                        <a:pt x="0" y="0"/>
                      </a:lnTo>
                      <a:lnTo>
                        <a:pt x="1337" y="0"/>
                      </a:lnTo>
                      <a:lnTo>
                        <a:pt x="1379" y="58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0" name=""/>
                <p:cNvSpPr/>
                <p:nvPr/>
              </p:nvSpPr>
              <p:spPr>
                <a:xfrm>
                  <a:off x="4681440" y="5514840"/>
                  <a:ext cx="966960" cy="17640"/>
                </a:xfrm>
                <a:custGeom>
                  <a:avLst/>
                  <a:gdLst/>
                  <a:ahLst/>
                  <a:rect l="l" t="t" r="r" b="b"/>
                  <a:pathLst>
                    <a:path w="3044" h="56">
                      <a:moveTo>
                        <a:pt x="3028" y="56"/>
                      </a:moveTo>
                      <a:lnTo>
                        <a:pt x="1377" y="56"/>
                      </a:lnTo>
                      <a:lnTo>
                        <a:pt x="1335" y="0"/>
                      </a:lnTo>
                      <a:lnTo>
                        <a:pt x="3021" y="0"/>
                      </a:lnTo>
                      <a:lnTo>
                        <a:pt x="3021" y="1"/>
                      </a:lnTo>
                      <a:lnTo>
                        <a:pt x="3044" y="43"/>
                      </a:lnTo>
                      <a:lnTo>
                        <a:pt x="3028" y="56"/>
                      </a:lnTo>
                      <a:close/>
                      <a:moveTo>
                        <a:pt x="1377" y="56"/>
                      </a:moveTo>
                      <a:lnTo>
                        <a:pt x="37" y="56"/>
                      </a:lnTo>
                      <a:lnTo>
                        <a:pt x="17" y="23"/>
                      </a:lnTo>
                      <a:lnTo>
                        <a:pt x="0" y="0"/>
                      </a:lnTo>
                      <a:lnTo>
                        <a:pt x="1335" y="0"/>
                      </a:lnTo>
                      <a:lnTo>
                        <a:pt x="1377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1" name=""/>
                <p:cNvSpPr/>
                <p:nvPr/>
              </p:nvSpPr>
              <p:spPr>
                <a:xfrm>
                  <a:off x="4675320" y="5505480"/>
                  <a:ext cx="969840" cy="17280"/>
                </a:xfrm>
                <a:custGeom>
                  <a:avLst/>
                  <a:gdLst/>
                  <a:ahLst/>
                  <a:rect l="l" t="t" r="r" b="b"/>
                  <a:pathLst>
                    <a:path w="3055" h="56">
                      <a:moveTo>
                        <a:pt x="3055" y="56"/>
                      </a:moveTo>
                      <a:lnTo>
                        <a:pt x="1375" y="56"/>
                      </a:lnTo>
                      <a:lnTo>
                        <a:pt x="1332" y="0"/>
                      </a:lnTo>
                      <a:lnTo>
                        <a:pt x="3040" y="0"/>
                      </a:lnTo>
                      <a:lnTo>
                        <a:pt x="3040" y="30"/>
                      </a:lnTo>
                      <a:lnTo>
                        <a:pt x="3055" y="56"/>
                      </a:lnTo>
                      <a:close/>
                      <a:moveTo>
                        <a:pt x="1375" y="56"/>
                      </a:moveTo>
                      <a:lnTo>
                        <a:pt x="38" y="56"/>
                      </a:lnTo>
                      <a:lnTo>
                        <a:pt x="36" y="52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2" name=""/>
                <p:cNvSpPr/>
                <p:nvPr/>
              </p:nvSpPr>
              <p:spPr>
                <a:xfrm>
                  <a:off x="4668840" y="5497560"/>
                  <a:ext cx="971640" cy="17280"/>
                </a:xfrm>
                <a:custGeom>
                  <a:avLst/>
                  <a:gdLst/>
                  <a:ahLst/>
                  <a:rect l="l" t="t" r="r" b="b"/>
                  <a:pathLst>
                    <a:path w="3059" h="57">
                      <a:moveTo>
                        <a:pt x="3059" y="57"/>
                      </a:moveTo>
                      <a:lnTo>
                        <a:pt x="1373" y="57"/>
                      </a:lnTo>
                      <a:lnTo>
                        <a:pt x="1330" y="0"/>
                      </a:lnTo>
                      <a:lnTo>
                        <a:pt x="3039" y="0"/>
                      </a:lnTo>
                      <a:lnTo>
                        <a:pt x="3059" y="19"/>
                      </a:lnTo>
                      <a:lnTo>
                        <a:pt x="3059" y="57"/>
                      </a:lnTo>
                      <a:close/>
                      <a:moveTo>
                        <a:pt x="1373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30" y="0"/>
                      </a:lnTo>
                      <a:lnTo>
                        <a:pt x="1373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3" name=""/>
                <p:cNvSpPr/>
                <p:nvPr/>
              </p:nvSpPr>
              <p:spPr>
                <a:xfrm>
                  <a:off x="4662360" y="5487840"/>
                  <a:ext cx="978120" cy="17640"/>
                </a:xfrm>
                <a:custGeom>
                  <a:avLst/>
                  <a:gdLst/>
                  <a:ahLst/>
                  <a:rect l="l" t="t" r="r" b="b"/>
                  <a:pathLst>
                    <a:path w="3078" h="57">
                      <a:moveTo>
                        <a:pt x="3078" y="57"/>
                      </a:moveTo>
                      <a:lnTo>
                        <a:pt x="1370" y="57"/>
                      </a:lnTo>
                      <a:lnTo>
                        <a:pt x="1328" y="0"/>
                      </a:lnTo>
                      <a:lnTo>
                        <a:pt x="3030" y="0"/>
                      </a:lnTo>
                      <a:lnTo>
                        <a:pt x="3078" y="48"/>
                      </a:lnTo>
                      <a:lnTo>
                        <a:pt x="3078" y="57"/>
                      </a:lnTo>
                      <a:close/>
                      <a:moveTo>
                        <a:pt x="1370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0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4" name=""/>
                <p:cNvSpPr/>
                <p:nvPr/>
              </p:nvSpPr>
              <p:spPr>
                <a:xfrm>
                  <a:off x="4657680" y="5478480"/>
                  <a:ext cx="976320" cy="19080"/>
                </a:xfrm>
                <a:custGeom>
                  <a:avLst/>
                  <a:gdLst/>
                  <a:ahLst/>
                  <a:rect l="l" t="t" r="r" b="b"/>
                  <a:pathLst>
                    <a:path w="3077" h="57">
                      <a:moveTo>
                        <a:pt x="3077" y="57"/>
                      </a:moveTo>
                      <a:lnTo>
                        <a:pt x="1368" y="57"/>
                      </a:lnTo>
                      <a:lnTo>
                        <a:pt x="1325" y="0"/>
                      </a:lnTo>
                      <a:lnTo>
                        <a:pt x="3020" y="0"/>
                      </a:lnTo>
                      <a:lnTo>
                        <a:pt x="3077" y="57"/>
                      </a:lnTo>
                      <a:close/>
                      <a:moveTo>
                        <a:pt x="1368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5" y="0"/>
                      </a:lnTo>
                      <a:lnTo>
                        <a:pt x="1368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5" name=""/>
                <p:cNvSpPr/>
                <p:nvPr/>
              </p:nvSpPr>
              <p:spPr>
                <a:xfrm>
                  <a:off x="4651200" y="5468760"/>
                  <a:ext cx="973440" cy="19080"/>
                </a:xfrm>
                <a:custGeom>
                  <a:avLst/>
                  <a:gdLst/>
                  <a:ahLst/>
                  <a:rect l="l" t="t" r="r" b="b"/>
                  <a:pathLst>
                    <a:path w="3068" h="57">
                      <a:moveTo>
                        <a:pt x="3068" y="57"/>
                      </a:moveTo>
                      <a:lnTo>
                        <a:pt x="1366" y="57"/>
                      </a:lnTo>
                      <a:lnTo>
                        <a:pt x="1323" y="0"/>
                      </a:lnTo>
                      <a:lnTo>
                        <a:pt x="3011" y="0"/>
                      </a:lnTo>
                      <a:lnTo>
                        <a:pt x="3068" y="57"/>
                      </a:lnTo>
                      <a:close/>
                      <a:moveTo>
                        <a:pt x="1366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3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6" name=""/>
                <p:cNvSpPr/>
                <p:nvPr/>
              </p:nvSpPr>
              <p:spPr>
                <a:xfrm>
                  <a:off x="4645080" y="5460840"/>
                  <a:ext cx="971640" cy="17640"/>
                </a:xfrm>
                <a:custGeom>
                  <a:avLst/>
                  <a:gdLst/>
                  <a:ahLst/>
                  <a:rect l="l" t="t" r="r" b="b"/>
                  <a:pathLst>
                    <a:path w="3058" h="58">
                      <a:moveTo>
                        <a:pt x="3058" y="58"/>
                      </a:moveTo>
                      <a:lnTo>
                        <a:pt x="1363" y="58"/>
                      </a:lnTo>
                      <a:lnTo>
                        <a:pt x="1320" y="0"/>
                      </a:lnTo>
                      <a:lnTo>
                        <a:pt x="3003" y="0"/>
                      </a:lnTo>
                      <a:lnTo>
                        <a:pt x="3014" y="14"/>
                      </a:lnTo>
                      <a:lnTo>
                        <a:pt x="3058" y="58"/>
                      </a:lnTo>
                      <a:close/>
                      <a:moveTo>
                        <a:pt x="1363" y="58"/>
                      </a:moveTo>
                      <a:lnTo>
                        <a:pt x="38" y="58"/>
                      </a:lnTo>
                      <a:lnTo>
                        <a:pt x="0" y="0"/>
                      </a:lnTo>
                      <a:lnTo>
                        <a:pt x="1320" y="0"/>
                      </a:lnTo>
                      <a:lnTo>
                        <a:pt x="1363" y="58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7" name=""/>
                <p:cNvSpPr/>
                <p:nvPr/>
              </p:nvSpPr>
              <p:spPr>
                <a:xfrm>
                  <a:off x="4638600" y="5451480"/>
                  <a:ext cx="968400" cy="17280"/>
                </a:xfrm>
                <a:custGeom>
                  <a:avLst/>
                  <a:gdLst/>
                  <a:ahLst/>
                  <a:rect l="l" t="t" r="r" b="b"/>
                  <a:pathLst>
                    <a:path w="3050" h="57">
                      <a:moveTo>
                        <a:pt x="3050" y="57"/>
                      </a:moveTo>
                      <a:lnTo>
                        <a:pt x="1362" y="57"/>
                      </a:lnTo>
                      <a:lnTo>
                        <a:pt x="1319" y="0"/>
                      </a:lnTo>
                      <a:lnTo>
                        <a:pt x="3000" y="0"/>
                      </a:lnTo>
                      <a:lnTo>
                        <a:pt x="3034" y="42"/>
                      </a:lnTo>
                      <a:lnTo>
                        <a:pt x="3050" y="57"/>
                      </a:lnTo>
                      <a:close/>
                      <a:moveTo>
                        <a:pt x="1362" y="57"/>
                      </a:moveTo>
                      <a:lnTo>
                        <a:pt x="39" y="57"/>
                      </a:lnTo>
                      <a:lnTo>
                        <a:pt x="0" y="0"/>
                      </a:lnTo>
                      <a:lnTo>
                        <a:pt x="1319" y="0"/>
                      </a:lnTo>
                      <a:lnTo>
                        <a:pt x="1362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>
                  <a:off x="4632480" y="5442120"/>
                  <a:ext cx="96660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59" y="57"/>
                      </a:moveTo>
                      <a:lnTo>
                        <a:pt x="39" y="57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>
                  <a:off x="4626000" y="543384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1" y="57"/>
                      </a:lnTo>
                      <a:lnTo>
                        <a:pt x="1318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61" y="57"/>
                      </a:moveTo>
                      <a:lnTo>
                        <a:pt x="42" y="57"/>
                      </a:lnTo>
                      <a:lnTo>
                        <a:pt x="29" y="36"/>
                      </a:lnTo>
                      <a:lnTo>
                        <a:pt x="0" y="0"/>
                      </a:lnTo>
                      <a:lnTo>
                        <a:pt x="1318" y="0"/>
                      </a:lnTo>
                      <a:lnTo>
                        <a:pt x="1361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0" name=""/>
                <p:cNvSpPr/>
                <p:nvPr/>
              </p:nvSpPr>
              <p:spPr>
                <a:xfrm>
                  <a:off x="4618080" y="542448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4" y="57"/>
                      </a:lnTo>
                      <a:lnTo>
                        <a:pt x="1322" y="0"/>
                      </a:lnTo>
                      <a:lnTo>
                        <a:pt x="2994" y="0"/>
                      </a:lnTo>
                      <a:lnTo>
                        <a:pt x="3000" y="7"/>
                      </a:lnTo>
                      <a:lnTo>
                        <a:pt x="3042" y="57"/>
                      </a:lnTo>
                      <a:close/>
                      <a:moveTo>
                        <a:pt x="1364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2" y="0"/>
                      </a:lnTo>
                      <a:lnTo>
                        <a:pt x="1364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1" name=""/>
                <p:cNvSpPr/>
                <p:nvPr/>
              </p:nvSpPr>
              <p:spPr>
                <a:xfrm>
                  <a:off x="4610160" y="5415120"/>
                  <a:ext cx="96516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6" y="57"/>
                      </a:lnTo>
                      <a:lnTo>
                        <a:pt x="1324" y="0"/>
                      </a:lnTo>
                      <a:lnTo>
                        <a:pt x="2988" y="0"/>
                      </a:lnTo>
                      <a:lnTo>
                        <a:pt x="3023" y="35"/>
                      </a:lnTo>
                      <a:lnTo>
                        <a:pt x="3042" y="57"/>
                      </a:lnTo>
                      <a:close/>
                      <a:moveTo>
                        <a:pt x="1366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4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2" name=""/>
                <p:cNvSpPr/>
                <p:nvPr/>
              </p:nvSpPr>
              <p:spPr>
                <a:xfrm>
                  <a:off x="4602240" y="5405400"/>
                  <a:ext cx="965160" cy="19080"/>
                </a:xfrm>
                <a:custGeom>
                  <a:avLst/>
                  <a:gdLst/>
                  <a:ahLst/>
                  <a:rect l="l" t="t" r="r" b="b"/>
                  <a:pathLst>
                    <a:path w="3041" h="57">
                      <a:moveTo>
                        <a:pt x="3041" y="57"/>
                      </a:moveTo>
                      <a:lnTo>
                        <a:pt x="1369" y="57"/>
                      </a:lnTo>
                      <a:lnTo>
                        <a:pt x="1327" y="0"/>
                      </a:lnTo>
                      <a:lnTo>
                        <a:pt x="2985" y="0"/>
                      </a:lnTo>
                      <a:lnTo>
                        <a:pt x="3041" y="57"/>
                      </a:lnTo>
                      <a:close/>
                      <a:moveTo>
                        <a:pt x="1369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27" y="0"/>
                      </a:lnTo>
                      <a:lnTo>
                        <a:pt x="1369" y="57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4595760" y="5397480"/>
                  <a:ext cx="963720" cy="17640"/>
                </a:xfrm>
                <a:custGeom>
                  <a:avLst/>
                  <a:gdLst/>
                  <a:ahLst/>
                  <a:rect l="l" t="t" r="r" b="b"/>
                  <a:pathLst>
                    <a:path w="3035" h="58">
                      <a:moveTo>
                        <a:pt x="3035" y="58"/>
                      </a:moveTo>
                      <a:lnTo>
                        <a:pt x="1371" y="58"/>
                      </a:lnTo>
                      <a:lnTo>
                        <a:pt x="1328" y="0"/>
                      </a:lnTo>
                      <a:lnTo>
                        <a:pt x="2980" y="0"/>
                      </a:lnTo>
                      <a:lnTo>
                        <a:pt x="3035" y="58"/>
                      </a:lnTo>
                      <a:close/>
                      <a:moveTo>
                        <a:pt x="1371" y="58"/>
                      </a:moveTo>
                      <a:lnTo>
                        <a:pt x="47" y="58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1" y="58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4587840" y="5388120"/>
                  <a:ext cx="961920" cy="17280"/>
                </a:xfrm>
                <a:custGeom>
                  <a:avLst/>
                  <a:gdLst/>
                  <a:ahLst/>
                  <a:rect l="l" t="t" r="r" b="b"/>
                  <a:pathLst>
                    <a:path w="3032" h="57">
                      <a:moveTo>
                        <a:pt x="3032" y="57"/>
                      </a:moveTo>
                      <a:lnTo>
                        <a:pt x="1374" y="57"/>
                      </a:lnTo>
                      <a:lnTo>
                        <a:pt x="1331" y="0"/>
                      </a:lnTo>
                      <a:lnTo>
                        <a:pt x="2977" y="0"/>
                      </a:lnTo>
                      <a:lnTo>
                        <a:pt x="3032" y="57"/>
                      </a:lnTo>
                      <a:close/>
                      <a:moveTo>
                        <a:pt x="1374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1" y="0"/>
                      </a:lnTo>
                      <a:lnTo>
                        <a:pt x="1374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>
                  <a:off x="4579920" y="5378400"/>
                  <a:ext cx="961920" cy="19080"/>
                </a:xfrm>
                <a:custGeom>
                  <a:avLst/>
                  <a:gdLst/>
                  <a:ahLst/>
                  <a:rect l="l" t="t" r="r" b="b"/>
                  <a:pathLst>
                    <a:path w="3027" h="57">
                      <a:moveTo>
                        <a:pt x="3027" y="57"/>
                      </a:moveTo>
                      <a:lnTo>
                        <a:pt x="1375" y="57"/>
                      </a:lnTo>
                      <a:lnTo>
                        <a:pt x="1332" y="0"/>
                      </a:lnTo>
                      <a:lnTo>
                        <a:pt x="2952" y="0"/>
                      </a:lnTo>
                      <a:lnTo>
                        <a:pt x="2998" y="27"/>
                      </a:lnTo>
                      <a:lnTo>
                        <a:pt x="3027" y="57"/>
                      </a:lnTo>
                      <a:close/>
                      <a:moveTo>
                        <a:pt x="1375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6" name=""/>
                <p:cNvSpPr/>
                <p:nvPr/>
              </p:nvSpPr>
              <p:spPr>
                <a:xfrm>
                  <a:off x="4572000" y="5370480"/>
                  <a:ext cx="960480" cy="17640"/>
                </a:xfrm>
                <a:custGeom>
                  <a:avLst/>
                  <a:gdLst/>
                  <a:ahLst/>
                  <a:rect l="l" t="t" r="r" b="b"/>
                  <a:pathLst>
                    <a:path w="3025" h="57">
                      <a:moveTo>
                        <a:pt x="3025" y="57"/>
                      </a:moveTo>
                      <a:lnTo>
                        <a:pt x="1379" y="57"/>
                      </a:lnTo>
                      <a:lnTo>
                        <a:pt x="1336" y="0"/>
                      </a:lnTo>
                      <a:lnTo>
                        <a:pt x="2927" y="0"/>
                      </a:lnTo>
                      <a:lnTo>
                        <a:pt x="3023" y="55"/>
                      </a:lnTo>
                      <a:lnTo>
                        <a:pt x="3025" y="57"/>
                      </a:lnTo>
                      <a:close/>
                      <a:moveTo>
                        <a:pt x="1379" y="57"/>
                      </a:moveTo>
                      <a:lnTo>
                        <a:pt x="48" y="57"/>
                      </a:lnTo>
                      <a:lnTo>
                        <a:pt x="14" y="16"/>
                      </a:lnTo>
                      <a:lnTo>
                        <a:pt x="0" y="0"/>
                      </a:lnTo>
                      <a:lnTo>
                        <a:pt x="1336" y="0"/>
                      </a:lnTo>
                      <a:lnTo>
                        <a:pt x="1379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>
                  <a:off x="4564080" y="5361120"/>
                  <a:ext cx="954000" cy="17280"/>
                </a:xfrm>
                <a:custGeom>
                  <a:avLst/>
                  <a:gdLst/>
                  <a:ahLst/>
                  <a:rect l="l" t="t" r="r" b="b"/>
                  <a:pathLst>
                    <a:path w="3002" h="57">
                      <a:moveTo>
                        <a:pt x="3002" y="57"/>
                      </a:moveTo>
                      <a:lnTo>
                        <a:pt x="1382" y="57"/>
                      </a:lnTo>
                      <a:lnTo>
                        <a:pt x="1339" y="0"/>
                      </a:lnTo>
                      <a:lnTo>
                        <a:pt x="2902" y="0"/>
                      </a:lnTo>
                      <a:lnTo>
                        <a:pt x="2904" y="2"/>
                      </a:lnTo>
                      <a:lnTo>
                        <a:pt x="3002" y="57"/>
                      </a:lnTo>
                      <a:close/>
                      <a:moveTo>
                        <a:pt x="1382" y="57"/>
                      </a:moveTo>
                      <a:lnTo>
                        <a:pt x="50" y="57"/>
                      </a:lnTo>
                      <a:lnTo>
                        <a:pt x="39" y="45"/>
                      </a:lnTo>
                      <a:lnTo>
                        <a:pt x="0" y="0"/>
                      </a:lnTo>
                      <a:lnTo>
                        <a:pt x="1339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4556160" y="5351400"/>
                  <a:ext cx="946080" cy="19080"/>
                </a:xfrm>
                <a:custGeom>
                  <a:avLst/>
                  <a:gdLst/>
                  <a:ahLst/>
                  <a:rect l="l" t="t" r="r" b="b"/>
                  <a:pathLst>
                    <a:path w="2979" h="57">
                      <a:moveTo>
                        <a:pt x="2979" y="57"/>
                      </a:moveTo>
                      <a:lnTo>
                        <a:pt x="1388" y="57"/>
                      </a:lnTo>
                      <a:lnTo>
                        <a:pt x="1345" y="0"/>
                      </a:lnTo>
                      <a:lnTo>
                        <a:pt x="2892" y="0"/>
                      </a:lnTo>
                      <a:lnTo>
                        <a:pt x="2931" y="30"/>
                      </a:lnTo>
                      <a:lnTo>
                        <a:pt x="2979" y="57"/>
                      </a:lnTo>
                      <a:close/>
                      <a:moveTo>
                        <a:pt x="138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45" y="0"/>
                      </a:lnTo>
                      <a:lnTo>
                        <a:pt x="1388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>
                  <a:off x="4548240" y="5343480"/>
                  <a:ext cx="938160" cy="17640"/>
                </a:xfrm>
                <a:custGeom>
                  <a:avLst/>
                  <a:gdLst/>
                  <a:ahLst/>
                  <a:rect l="l" t="t" r="r" b="b"/>
                  <a:pathLst>
                    <a:path w="2954" h="56">
                      <a:moveTo>
                        <a:pt x="2954" y="56"/>
                      </a:moveTo>
                      <a:lnTo>
                        <a:pt x="1391" y="56"/>
                      </a:lnTo>
                      <a:lnTo>
                        <a:pt x="1348" y="0"/>
                      </a:lnTo>
                      <a:lnTo>
                        <a:pt x="2880" y="0"/>
                      </a:lnTo>
                      <a:lnTo>
                        <a:pt x="2954" y="56"/>
                      </a:lnTo>
                      <a:close/>
                      <a:moveTo>
                        <a:pt x="1391" y="56"/>
                      </a:moveTo>
                      <a:lnTo>
                        <a:pt x="52" y="56"/>
                      </a:lnTo>
                      <a:lnTo>
                        <a:pt x="0" y="0"/>
                      </a:lnTo>
                      <a:lnTo>
                        <a:pt x="1348" y="0"/>
                      </a:lnTo>
                      <a:lnTo>
                        <a:pt x="1391" y="56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0" name=""/>
                <p:cNvSpPr/>
                <p:nvPr/>
              </p:nvSpPr>
              <p:spPr>
                <a:xfrm>
                  <a:off x="4540320" y="5334120"/>
                  <a:ext cx="933480" cy="17280"/>
                </a:xfrm>
                <a:custGeom>
                  <a:avLst/>
                  <a:gdLst/>
                  <a:ahLst/>
                  <a:rect l="l" t="t" r="r" b="b"/>
                  <a:pathLst>
                    <a:path w="2943" h="57">
                      <a:moveTo>
                        <a:pt x="2943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909" y="0"/>
                      </a:lnTo>
                      <a:lnTo>
                        <a:pt x="2882" y="10"/>
                      </a:lnTo>
                      <a:lnTo>
                        <a:pt x="2943" y="57"/>
                      </a:lnTo>
                      <a:close/>
                      <a:moveTo>
                        <a:pt x="1396" y="57"/>
                      </a:moveTo>
                      <a:lnTo>
                        <a:pt x="51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1" name=""/>
                <p:cNvSpPr/>
                <p:nvPr/>
              </p:nvSpPr>
              <p:spPr>
                <a:xfrm>
                  <a:off x="4530600" y="5324400"/>
                  <a:ext cx="959040" cy="19080"/>
                </a:xfrm>
                <a:custGeom>
                  <a:avLst/>
                  <a:gdLst/>
                  <a:ahLst/>
                  <a:rect l="l" t="t" r="r" b="b"/>
                  <a:pathLst>
                    <a:path w="3019" h="57">
                      <a:moveTo>
                        <a:pt x="2932" y="57"/>
                      </a:moveTo>
                      <a:lnTo>
                        <a:pt x="1400" y="57"/>
                      </a:lnTo>
                      <a:lnTo>
                        <a:pt x="1359" y="0"/>
                      </a:lnTo>
                      <a:lnTo>
                        <a:pt x="3019" y="0"/>
                      </a:lnTo>
                      <a:lnTo>
                        <a:pt x="2908" y="38"/>
                      </a:lnTo>
                      <a:lnTo>
                        <a:pt x="2932" y="57"/>
                      </a:lnTo>
                      <a:close/>
                      <a:moveTo>
                        <a:pt x="1400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59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4522680" y="5315040"/>
                  <a:ext cx="1006560" cy="19080"/>
                </a:xfrm>
                <a:custGeom>
                  <a:avLst/>
                  <a:gdLst/>
                  <a:ahLst/>
                  <a:rect l="l" t="t" r="r" b="b"/>
                  <a:pathLst>
                    <a:path w="3167" h="57">
                      <a:moveTo>
                        <a:pt x="2961" y="57"/>
                      </a:moveTo>
                      <a:lnTo>
                        <a:pt x="1405" y="57"/>
                      </a:lnTo>
                      <a:lnTo>
                        <a:pt x="1363" y="0"/>
                      </a:lnTo>
                      <a:lnTo>
                        <a:pt x="3167" y="0"/>
                      </a:lnTo>
                      <a:lnTo>
                        <a:pt x="3158" y="4"/>
                      </a:lnTo>
                      <a:lnTo>
                        <a:pt x="3057" y="24"/>
                      </a:lnTo>
                      <a:lnTo>
                        <a:pt x="2961" y="57"/>
                      </a:lnTo>
                      <a:close/>
                      <a:moveTo>
                        <a:pt x="1405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63" y="0"/>
                      </a:lnTo>
                      <a:lnTo>
                        <a:pt x="1405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>
                  <a:off x="4514760" y="5307120"/>
                  <a:ext cx="1032120" cy="17280"/>
                </a:xfrm>
                <a:custGeom>
                  <a:avLst/>
                  <a:gdLst/>
                  <a:ahLst/>
                  <a:rect l="l" t="t" r="r" b="b"/>
                  <a:pathLst>
                    <a:path w="3249" h="57">
                      <a:moveTo>
                        <a:pt x="3071" y="57"/>
                      </a:moveTo>
                      <a:lnTo>
                        <a:pt x="1411" y="57"/>
                      </a:lnTo>
                      <a:lnTo>
                        <a:pt x="1368" y="0"/>
                      </a:lnTo>
                      <a:lnTo>
                        <a:pt x="3249" y="0"/>
                      </a:lnTo>
                      <a:lnTo>
                        <a:pt x="3184" y="32"/>
                      </a:lnTo>
                      <a:lnTo>
                        <a:pt x="3083" y="52"/>
                      </a:lnTo>
                      <a:lnTo>
                        <a:pt x="3071" y="57"/>
                      </a:lnTo>
                      <a:close/>
                      <a:moveTo>
                        <a:pt x="1411" y="57"/>
                      </a:moveTo>
                      <a:lnTo>
                        <a:pt x="52" y="57"/>
                      </a:lnTo>
                      <a:lnTo>
                        <a:pt x="13" y="13"/>
                      </a:lnTo>
                      <a:lnTo>
                        <a:pt x="0" y="0"/>
                      </a:lnTo>
                      <a:lnTo>
                        <a:pt x="1368" y="0"/>
                      </a:lnTo>
                      <a:lnTo>
                        <a:pt x="1411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>
                  <a:off x="4506840" y="5297400"/>
                  <a:ext cx="1057320" cy="17640"/>
                </a:xfrm>
                <a:custGeom>
                  <a:avLst/>
                  <a:gdLst/>
                  <a:ahLst/>
                  <a:rect l="l" t="t" r="r" b="b"/>
                  <a:pathLst>
                    <a:path w="3329" h="57">
                      <a:moveTo>
                        <a:pt x="3218" y="57"/>
                      </a:moveTo>
                      <a:lnTo>
                        <a:pt x="1414" y="57"/>
                      </a:lnTo>
                      <a:lnTo>
                        <a:pt x="1371" y="0"/>
                      </a:lnTo>
                      <a:lnTo>
                        <a:pt x="3329" y="0"/>
                      </a:lnTo>
                      <a:lnTo>
                        <a:pt x="3218" y="57"/>
                      </a:lnTo>
                      <a:close/>
                      <a:moveTo>
                        <a:pt x="1414" y="57"/>
                      </a:moveTo>
                      <a:lnTo>
                        <a:pt x="51" y="57"/>
                      </a:lnTo>
                      <a:lnTo>
                        <a:pt x="38" y="42"/>
                      </a:ln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414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5" name=""/>
                <p:cNvSpPr/>
                <p:nvPr/>
              </p:nvSpPr>
              <p:spPr>
                <a:xfrm>
                  <a:off x="4498920" y="5288040"/>
                  <a:ext cx="1084320" cy="19080"/>
                </a:xfrm>
                <a:custGeom>
                  <a:avLst/>
                  <a:gdLst/>
                  <a:ahLst/>
                  <a:rect l="l" t="t" r="r" b="b"/>
                  <a:pathLst>
                    <a:path w="3415" h="58">
                      <a:moveTo>
                        <a:pt x="3301" y="58"/>
                      </a:moveTo>
                      <a:lnTo>
                        <a:pt x="1420" y="58"/>
                      </a:lnTo>
                      <a:lnTo>
                        <a:pt x="1377" y="0"/>
                      </a:lnTo>
                      <a:lnTo>
                        <a:pt x="3415" y="0"/>
                      </a:lnTo>
                      <a:lnTo>
                        <a:pt x="3357" y="29"/>
                      </a:lnTo>
                      <a:lnTo>
                        <a:pt x="3301" y="58"/>
                      </a:lnTo>
                      <a:close/>
                      <a:moveTo>
                        <a:pt x="1420" y="58"/>
                      </a:moveTo>
                      <a:lnTo>
                        <a:pt x="52" y="58"/>
                      </a:lnTo>
                      <a:lnTo>
                        <a:pt x="0" y="0"/>
                      </a:lnTo>
                      <a:lnTo>
                        <a:pt x="1377" y="0"/>
                      </a:lnTo>
                      <a:lnTo>
                        <a:pt x="1420" y="58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>
                  <a:off x="4491000" y="5280120"/>
                  <a:ext cx="1109880" cy="17280"/>
                </a:xfrm>
                <a:custGeom>
                  <a:avLst/>
                  <a:gdLst/>
                  <a:ahLst/>
                  <a:rect l="l" t="t" r="r" b="b"/>
                  <a:pathLst>
                    <a:path w="3499" h="57">
                      <a:moveTo>
                        <a:pt x="3381" y="57"/>
                      </a:moveTo>
                      <a:lnTo>
                        <a:pt x="1423" y="57"/>
                      </a:lnTo>
                      <a:lnTo>
                        <a:pt x="1380" y="0"/>
                      </a:lnTo>
                      <a:lnTo>
                        <a:pt x="3499" y="0"/>
                      </a:lnTo>
                      <a:lnTo>
                        <a:pt x="3382" y="57"/>
                      </a:lnTo>
                      <a:lnTo>
                        <a:pt x="3381" y="57"/>
                      </a:lnTo>
                      <a:close/>
                      <a:moveTo>
                        <a:pt x="1423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0" y="0"/>
                      </a:lnTo>
                      <a:lnTo>
                        <a:pt x="1423" y="57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>
                  <a:off x="4481640" y="5270400"/>
                  <a:ext cx="1135080" cy="17640"/>
                </a:xfrm>
                <a:custGeom>
                  <a:avLst/>
                  <a:gdLst/>
                  <a:ahLst/>
                  <a:rect l="l" t="t" r="r" b="b"/>
                  <a:pathLst>
                    <a:path w="3573" h="57">
                      <a:moveTo>
                        <a:pt x="3467" y="57"/>
                      </a:moveTo>
                      <a:lnTo>
                        <a:pt x="1429" y="57"/>
                      </a:lnTo>
                      <a:lnTo>
                        <a:pt x="1386" y="0"/>
                      </a:lnTo>
                      <a:lnTo>
                        <a:pt x="3573" y="0"/>
                      </a:lnTo>
                      <a:lnTo>
                        <a:pt x="3528" y="28"/>
                      </a:lnTo>
                      <a:lnTo>
                        <a:pt x="3467" y="57"/>
                      </a:lnTo>
                      <a:close/>
                      <a:moveTo>
                        <a:pt x="1429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6" y="0"/>
                      </a:lnTo>
                      <a:lnTo>
                        <a:pt x="1429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8" name=""/>
                <p:cNvSpPr/>
                <p:nvPr/>
              </p:nvSpPr>
              <p:spPr>
                <a:xfrm>
                  <a:off x="4473720" y="5261040"/>
                  <a:ext cx="1157040" cy="19080"/>
                </a:xfrm>
                <a:custGeom>
                  <a:avLst/>
                  <a:gdLst/>
                  <a:ahLst/>
                  <a:rect l="l" t="t" r="r" b="b"/>
                  <a:pathLst>
                    <a:path w="3644" h="57">
                      <a:moveTo>
                        <a:pt x="3551" y="57"/>
                      </a:moveTo>
                      <a:lnTo>
                        <a:pt x="1432" y="57"/>
                      </a:lnTo>
                      <a:lnTo>
                        <a:pt x="1389" y="0"/>
                      </a:lnTo>
                      <a:lnTo>
                        <a:pt x="3644" y="0"/>
                      </a:lnTo>
                      <a:lnTo>
                        <a:pt x="3553" y="56"/>
                      </a:lnTo>
                      <a:lnTo>
                        <a:pt x="3551" y="57"/>
                      </a:lnTo>
                      <a:close/>
                      <a:moveTo>
                        <a:pt x="1432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9" y="0"/>
                      </a:lnTo>
                      <a:lnTo>
                        <a:pt x="1432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9" name=""/>
                <p:cNvSpPr/>
                <p:nvPr/>
              </p:nvSpPr>
              <p:spPr>
                <a:xfrm>
                  <a:off x="4465800" y="5251320"/>
                  <a:ext cx="1176120" cy="19080"/>
                </a:xfrm>
                <a:custGeom>
                  <a:avLst/>
                  <a:gdLst/>
                  <a:ahLst/>
                  <a:rect l="l" t="t" r="r" b="b"/>
                  <a:pathLst>
                    <a:path w="3704" h="57">
                      <a:moveTo>
                        <a:pt x="3625" y="57"/>
                      </a:moveTo>
                      <a:lnTo>
                        <a:pt x="1438" y="57"/>
                      </a:lnTo>
                      <a:lnTo>
                        <a:pt x="1395" y="0"/>
                      </a:lnTo>
                      <a:lnTo>
                        <a:pt x="3704" y="0"/>
                      </a:lnTo>
                      <a:lnTo>
                        <a:pt x="3681" y="23"/>
                      </a:lnTo>
                      <a:lnTo>
                        <a:pt x="3625" y="57"/>
                      </a:lnTo>
                      <a:close/>
                      <a:moveTo>
                        <a:pt x="143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5" y="0"/>
                      </a:lnTo>
                      <a:lnTo>
                        <a:pt x="1438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4457880" y="5243400"/>
                  <a:ext cx="1191960" cy="17640"/>
                </a:xfrm>
                <a:custGeom>
                  <a:avLst/>
                  <a:gdLst/>
                  <a:ahLst/>
                  <a:rect l="l" t="t" r="r" b="b"/>
                  <a:pathLst>
                    <a:path w="3757" h="57">
                      <a:moveTo>
                        <a:pt x="3696" y="57"/>
                      </a:moveTo>
                      <a:lnTo>
                        <a:pt x="1441" y="57"/>
                      </a:lnTo>
                      <a:lnTo>
                        <a:pt x="1399" y="0"/>
                      </a:lnTo>
                      <a:lnTo>
                        <a:pt x="3757" y="0"/>
                      </a:lnTo>
                      <a:lnTo>
                        <a:pt x="3706" y="51"/>
                      </a:lnTo>
                      <a:lnTo>
                        <a:pt x="3696" y="57"/>
                      </a:lnTo>
                      <a:close/>
                      <a:moveTo>
                        <a:pt x="1441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9" y="0"/>
                      </a:lnTo>
                      <a:lnTo>
                        <a:pt x="1441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4454640" y="5234040"/>
                  <a:ext cx="1204920" cy="17280"/>
                </a:xfrm>
                <a:custGeom>
                  <a:avLst/>
                  <a:gdLst/>
                  <a:ahLst/>
                  <a:rect l="l" t="t" r="r" b="b"/>
                  <a:pathLst>
                    <a:path w="3794" h="57">
                      <a:moveTo>
                        <a:pt x="3737" y="57"/>
                      </a:moveTo>
                      <a:lnTo>
                        <a:pt x="1428" y="57"/>
                      </a:lnTo>
                      <a:lnTo>
                        <a:pt x="1385" y="0"/>
                      </a:lnTo>
                      <a:lnTo>
                        <a:pt x="3794" y="0"/>
                      </a:lnTo>
                      <a:lnTo>
                        <a:pt x="3737" y="57"/>
                      </a:lnTo>
                      <a:close/>
                      <a:moveTo>
                        <a:pt x="1428" y="57"/>
                      </a:moveTo>
                      <a:lnTo>
                        <a:pt x="33" y="57"/>
                      </a:lnTo>
                      <a:lnTo>
                        <a:pt x="0" y="21"/>
                      </a:lnTo>
                      <a:lnTo>
                        <a:pt x="3" y="0"/>
                      </a:lnTo>
                      <a:lnTo>
                        <a:pt x="1385" y="0"/>
                      </a:lnTo>
                      <a:lnTo>
                        <a:pt x="1428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4454640" y="5224320"/>
                  <a:ext cx="1214280" cy="19080"/>
                </a:xfrm>
                <a:custGeom>
                  <a:avLst/>
                  <a:gdLst/>
                  <a:ahLst/>
                  <a:rect l="l" t="t" r="r" b="b"/>
                  <a:pathLst>
                    <a:path w="3823" h="58">
                      <a:moveTo>
                        <a:pt x="3765" y="58"/>
                      </a:moveTo>
                      <a:lnTo>
                        <a:pt x="1407" y="58"/>
                      </a:lnTo>
                      <a:lnTo>
                        <a:pt x="1365" y="0"/>
                      </a:lnTo>
                      <a:lnTo>
                        <a:pt x="3823" y="0"/>
                      </a:lnTo>
                      <a:lnTo>
                        <a:pt x="3796" y="27"/>
                      </a:lnTo>
                      <a:lnTo>
                        <a:pt x="3765" y="58"/>
                      </a:lnTo>
                      <a:close/>
                      <a:moveTo>
                        <a:pt x="1407" y="58"/>
                      </a:moveTo>
                      <a:lnTo>
                        <a:pt x="8" y="58"/>
                      </a:lnTo>
                      <a:lnTo>
                        <a:pt x="0" y="50"/>
                      </a:lnTo>
                      <a:lnTo>
                        <a:pt x="6" y="0"/>
                      </a:lnTo>
                      <a:lnTo>
                        <a:pt x="1365" y="0"/>
                      </a:lnTo>
                      <a:lnTo>
                        <a:pt x="1407" y="58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3" name=""/>
                <p:cNvSpPr/>
                <p:nvPr/>
              </p:nvSpPr>
              <p:spPr>
                <a:xfrm>
                  <a:off x="4456080" y="5216400"/>
                  <a:ext cx="1220760" cy="17640"/>
                </a:xfrm>
                <a:custGeom>
                  <a:avLst/>
                  <a:gdLst/>
                  <a:ahLst/>
                  <a:rect l="l" t="t" r="r" b="b"/>
                  <a:pathLst>
                    <a:path w="3848" h="57">
                      <a:moveTo>
                        <a:pt x="3791" y="57"/>
                      </a:moveTo>
                      <a:lnTo>
                        <a:pt x="1382" y="57"/>
                      </a:lnTo>
                      <a:lnTo>
                        <a:pt x="1340" y="0"/>
                      </a:lnTo>
                      <a:lnTo>
                        <a:pt x="3848" y="0"/>
                      </a:lnTo>
                      <a:lnTo>
                        <a:pt x="3793" y="55"/>
                      </a:lnTo>
                      <a:lnTo>
                        <a:pt x="3791" y="57"/>
                      </a:lnTo>
                      <a:close/>
                      <a:moveTo>
                        <a:pt x="138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40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4" name=""/>
                <p:cNvSpPr/>
                <p:nvPr/>
              </p:nvSpPr>
              <p:spPr>
                <a:xfrm>
                  <a:off x="4456080" y="5207040"/>
                  <a:ext cx="1230480" cy="17280"/>
                </a:xfrm>
                <a:custGeom>
                  <a:avLst/>
                  <a:gdLst/>
                  <a:ahLst/>
                  <a:rect l="l" t="t" r="r" b="b"/>
                  <a:pathLst>
                    <a:path w="3874" h="57">
                      <a:moveTo>
                        <a:pt x="3817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3874" y="0"/>
                      </a:lnTo>
                      <a:lnTo>
                        <a:pt x="3817" y="57"/>
                      </a:lnTo>
                      <a:close/>
                      <a:moveTo>
                        <a:pt x="135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5" name=""/>
                <p:cNvSpPr/>
                <p:nvPr/>
              </p:nvSpPr>
              <p:spPr>
                <a:xfrm>
                  <a:off x="4457880" y="5197320"/>
                  <a:ext cx="1238040" cy="19080"/>
                </a:xfrm>
                <a:custGeom>
                  <a:avLst/>
                  <a:gdLst/>
                  <a:ahLst/>
                  <a:rect l="l" t="t" r="r" b="b"/>
                  <a:pathLst>
                    <a:path w="3899" h="57">
                      <a:moveTo>
                        <a:pt x="3843" y="57"/>
                      </a:moveTo>
                      <a:lnTo>
                        <a:pt x="1335" y="57"/>
                      </a:lnTo>
                      <a:lnTo>
                        <a:pt x="1292" y="0"/>
                      </a:lnTo>
                      <a:lnTo>
                        <a:pt x="3899" y="0"/>
                      </a:lnTo>
                      <a:lnTo>
                        <a:pt x="3888" y="12"/>
                      </a:lnTo>
                      <a:lnTo>
                        <a:pt x="3843" y="57"/>
                      </a:lnTo>
                      <a:close/>
                      <a:moveTo>
                        <a:pt x="133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92" y="0"/>
                      </a:lnTo>
                      <a:lnTo>
                        <a:pt x="1335" y="57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6" name=""/>
                <p:cNvSpPr/>
                <p:nvPr/>
              </p:nvSpPr>
              <p:spPr>
                <a:xfrm>
                  <a:off x="4457880" y="5189400"/>
                  <a:ext cx="1245960" cy="17640"/>
                </a:xfrm>
                <a:custGeom>
                  <a:avLst/>
                  <a:gdLst/>
                  <a:ahLst/>
                  <a:rect l="l" t="t" r="r" b="b"/>
                  <a:pathLst>
                    <a:path w="3925" h="56">
                      <a:moveTo>
                        <a:pt x="3869" y="56"/>
                      </a:moveTo>
                      <a:lnTo>
                        <a:pt x="1311" y="56"/>
                      </a:lnTo>
                      <a:lnTo>
                        <a:pt x="1268" y="0"/>
                      </a:lnTo>
                      <a:lnTo>
                        <a:pt x="3925" y="0"/>
                      </a:lnTo>
                      <a:lnTo>
                        <a:pt x="3885" y="40"/>
                      </a:lnTo>
                      <a:lnTo>
                        <a:pt x="3869" y="56"/>
                      </a:lnTo>
                      <a:close/>
                      <a:moveTo>
                        <a:pt x="1311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68" y="0"/>
                      </a:lnTo>
                      <a:lnTo>
                        <a:pt x="1311" y="56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7" name=""/>
                <p:cNvSpPr/>
                <p:nvPr/>
              </p:nvSpPr>
              <p:spPr>
                <a:xfrm>
                  <a:off x="4459320" y="5180040"/>
                  <a:ext cx="1254240" cy="17280"/>
                </a:xfrm>
                <a:custGeom>
                  <a:avLst/>
                  <a:gdLst/>
                  <a:ahLst/>
                  <a:rect l="l" t="t" r="r" b="b"/>
                  <a:pathLst>
                    <a:path w="3951" h="56">
                      <a:moveTo>
                        <a:pt x="3893" y="56"/>
                      </a:moveTo>
                      <a:lnTo>
                        <a:pt x="1286" y="56"/>
                      </a:lnTo>
                      <a:lnTo>
                        <a:pt x="1243" y="0"/>
                      </a:lnTo>
                      <a:lnTo>
                        <a:pt x="3951" y="0"/>
                      </a:lnTo>
                      <a:lnTo>
                        <a:pt x="3893" y="56"/>
                      </a:lnTo>
                      <a:close/>
                      <a:moveTo>
                        <a:pt x="1286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43" y="0"/>
                      </a:lnTo>
                      <a:lnTo>
                        <a:pt x="1286" y="56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8" name=""/>
                <p:cNvSpPr/>
                <p:nvPr/>
              </p:nvSpPr>
              <p:spPr>
                <a:xfrm>
                  <a:off x="4459320" y="5170320"/>
                  <a:ext cx="1260360" cy="19080"/>
                </a:xfrm>
                <a:custGeom>
                  <a:avLst/>
                  <a:gdLst/>
                  <a:ahLst/>
                  <a:rect l="l" t="t" r="r" b="b"/>
                  <a:pathLst>
                    <a:path w="3970" h="57">
                      <a:moveTo>
                        <a:pt x="3920" y="57"/>
                      </a:moveTo>
                      <a:lnTo>
                        <a:pt x="1263" y="57"/>
                      </a:lnTo>
                      <a:lnTo>
                        <a:pt x="1220" y="0"/>
                      </a:lnTo>
                      <a:lnTo>
                        <a:pt x="3970" y="0"/>
                      </a:lnTo>
                      <a:lnTo>
                        <a:pt x="3962" y="15"/>
                      </a:lnTo>
                      <a:lnTo>
                        <a:pt x="3920" y="57"/>
                      </a:lnTo>
                      <a:close/>
                      <a:moveTo>
                        <a:pt x="126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20" y="0"/>
                      </a:lnTo>
                      <a:lnTo>
                        <a:pt x="1263" y="57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9" name=""/>
                <p:cNvSpPr/>
                <p:nvPr/>
              </p:nvSpPr>
              <p:spPr>
                <a:xfrm>
                  <a:off x="4460760" y="5160960"/>
                  <a:ext cx="1263600" cy="19080"/>
                </a:xfrm>
                <a:custGeom>
                  <a:avLst/>
                  <a:gdLst/>
                  <a:ahLst/>
                  <a:rect l="l" t="t" r="r" b="b"/>
                  <a:pathLst>
                    <a:path w="3981" h="58">
                      <a:moveTo>
                        <a:pt x="3946" y="58"/>
                      </a:move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194" y="0"/>
                      </a:lnTo>
                      <a:lnTo>
                        <a:pt x="6" y="0"/>
                      </a:lnTo>
                      <a:lnTo>
                        <a:pt x="0" y="58"/>
                      </a:ln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236" y="0"/>
                      </a:lnTo>
                      <a:lnTo>
                        <a:pt x="3981" y="0"/>
                      </a:lnTo>
                      <a:lnTo>
                        <a:pt x="3959" y="44"/>
                      </a:lnTo>
                      <a:lnTo>
                        <a:pt x="3946" y="58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0" name=""/>
                <p:cNvSpPr/>
                <p:nvPr/>
              </p:nvSpPr>
              <p:spPr>
                <a:xfrm>
                  <a:off x="4462560" y="5153040"/>
                  <a:ext cx="1266840" cy="17280"/>
                </a:xfrm>
                <a:custGeom>
                  <a:avLst/>
                  <a:gdLst/>
                  <a:ahLst/>
                  <a:rect l="l" t="t" r="r" b="b"/>
                  <a:pathLst>
                    <a:path w="3994" h="57">
                      <a:moveTo>
                        <a:pt x="3964" y="57"/>
                      </a:move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167" y="0"/>
                      </a:lnTo>
                      <a:lnTo>
                        <a:pt x="5" y="0"/>
                      </a:lnTo>
                      <a:lnTo>
                        <a:pt x="0" y="57"/>
                      </a:ln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260" y="0"/>
                      </a:lnTo>
                      <a:lnTo>
                        <a:pt x="3994" y="0"/>
                      </a:lnTo>
                      <a:lnTo>
                        <a:pt x="3964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1" name=""/>
                <p:cNvSpPr/>
                <p:nvPr/>
              </p:nvSpPr>
              <p:spPr>
                <a:xfrm>
                  <a:off x="4462560" y="5143680"/>
                  <a:ext cx="1271520" cy="172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5" y="57"/>
                      </a:moveTo>
                      <a:lnTo>
                        <a:pt x="1230" y="57"/>
                      </a:lnTo>
                      <a:lnTo>
                        <a:pt x="1283" y="0"/>
                      </a:lnTo>
                      <a:lnTo>
                        <a:pt x="4005" y="0"/>
                      </a:lnTo>
                      <a:lnTo>
                        <a:pt x="3975" y="57"/>
                      </a:lnTo>
                      <a:close/>
                      <a:moveTo>
                        <a:pt x="1188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141" y="0"/>
                      </a:lnTo>
                      <a:lnTo>
                        <a:pt x="1188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2" name=""/>
                <p:cNvSpPr/>
                <p:nvPr/>
              </p:nvSpPr>
              <p:spPr>
                <a:xfrm>
                  <a:off x="4464000" y="5133960"/>
                  <a:ext cx="1274760" cy="19080"/>
                </a:xfrm>
                <a:custGeom>
                  <a:avLst/>
                  <a:gdLst/>
                  <a:ahLst/>
                  <a:rect l="l" t="t" r="r" b="b"/>
                  <a:pathLst>
                    <a:path w="4017" h="57">
                      <a:moveTo>
                        <a:pt x="3989" y="57"/>
                      </a:moveTo>
                      <a:lnTo>
                        <a:pt x="1255" y="57"/>
                      </a:lnTo>
                      <a:lnTo>
                        <a:pt x="1307" y="0"/>
                      </a:lnTo>
                      <a:lnTo>
                        <a:pt x="4017" y="0"/>
                      </a:lnTo>
                      <a:lnTo>
                        <a:pt x="4013" y="9"/>
                      </a:lnTo>
                      <a:lnTo>
                        <a:pt x="3989" y="57"/>
                      </a:lnTo>
                      <a:close/>
                      <a:moveTo>
                        <a:pt x="11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115" y="0"/>
                      </a:lnTo>
                      <a:lnTo>
                        <a:pt x="1162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3" name=""/>
                <p:cNvSpPr/>
                <p:nvPr/>
              </p:nvSpPr>
              <p:spPr>
                <a:xfrm>
                  <a:off x="4464000" y="512604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28" h="57">
                      <a:moveTo>
                        <a:pt x="4000" y="57"/>
                      </a:moveTo>
                      <a:lnTo>
                        <a:pt x="1278" y="57"/>
                      </a:lnTo>
                      <a:lnTo>
                        <a:pt x="1330" y="0"/>
                      </a:lnTo>
                      <a:lnTo>
                        <a:pt x="4028" y="0"/>
                      </a:lnTo>
                      <a:lnTo>
                        <a:pt x="4010" y="38"/>
                      </a:lnTo>
                      <a:lnTo>
                        <a:pt x="4000" y="57"/>
                      </a:lnTo>
                      <a:close/>
                      <a:moveTo>
                        <a:pt x="11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089" y="0"/>
                      </a:lnTo>
                      <a:lnTo>
                        <a:pt x="1136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4" name=""/>
                <p:cNvSpPr/>
                <p:nvPr/>
              </p:nvSpPr>
              <p:spPr>
                <a:xfrm>
                  <a:off x="4465800" y="5116680"/>
                  <a:ext cx="1282680" cy="17280"/>
                </a:xfrm>
                <a:custGeom>
                  <a:avLst/>
                  <a:gdLst/>
                  <a:ahLst/>
                  <a:rect l="l" t="t" r="r" b="b"/>
                  <a:pathLst>
                    <a:path w="4039" h="58">
                      <a:moveTo>
                        <a:pt x="4011" y="58"/>
                      </a:moveTo>
                      <a:lnTo>
                        <a:pt x="1301" y="58"/>
                      </a:lnTo>
                      <a:lnTo>
                        <a:pt x="1353" y="0"/>
                      </a:lnTo>
                      <a:lnTo>
                        <a:pt x="4039" y="0"/>
                      </a:lnTo>
                      <a:lnTo>
                        <a:pt x="4011" y="58"/>
                      </a:lnTo>
                      <a:close/>
                      <a:moveTo>
                        <a:pt x="1109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1062" y="0"/>
                      </a:lnTo>
                      <a:lnTo>
                        <a:pt x="1109" y="58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5" name=""/>
                <p:cNvSpPr/>
                <p:nvPr/>
              </p:nvSpPr>
              <p:spPr>
                <a:xfrm>
                  <a:off x="4465800" y="5106960"/>
                  <a:ext cx="128556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7">
                      <a:moveTo>
                        <a:pt x="4023" y="57"/>
                      </a:moveTo>
                      <a:lnTo>
                        <a:pt x="1325" y="57"/>
                      </a:lnTo>
                      <a:lnTo>
                        <a:pt x="1377" y="0"/>
                      </a:lnTo>
                      <a:lnTo>
                        <a:pt x="4048" y="0"/>
                      </a:lnTo>
                      <a:lnTo>
                        <a:pt x="4044" y="13"/>
                      </a:lnTo>
                      <a:lnTo>
                        <a:pt x="4023" y="57"/>
                      </a:lnTo>
                      <a:close/>
                      <a:moveTo>
                        <a:pt x="1084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037" y="0"/>
                      </a:lnTo>
                      <a:lnTo>
                        <a:pt x="108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6" name=""/>
                <p:cNvSpPr/>
                <p:nvPr/>
              </p:nvSpPr>
              <p:spPr>
                <a:xfrm>
                  <a:off x="4467240" y="509760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34" y="57"/>
                      </a:moveTo>
                      <a:lnTo>
                        <a:pt x="1348" y="57"/>
                      </a:lnTo>
                      <a:lnTo>
                        <a:pt x="1397" y="3"/>
                      </a:lnTo>
                      <a:lnTo>
                        <a:pt x="1013" y="3"/>
                      </a:lnTo>
                      <a:lnTo>
                        <a:pt x="1057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1" y="42"/>
                      </a:lnTo>
                      <a:lnTo>
                        <a:pt x="403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7" name=""/>
                <p:cNvSpPr/>
                <p:nvPr/>
              </p:nvSpPr>
              <p:spPr>
                <a:xfrm>
                  <a:off x="4467240" y="508968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0" h="57">
                      <a:moveTo>
                        <a:pt x="4042" y="57"/>
                      </a:moveTo>
                      <a:lnTo>
                        <a:pt x="1371" y="57"/>
                      </a:lnTo>
                      <a:lnTo>
                        <a:pt x="1394" y="31"/>
                      </a:lnTo>
                      <a:lnTo>
                        <a:pt x="1010" y="31"/>
                      </a:lnTo>
                      <a:lnTo>
                        <a:pt x="1031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0" y="0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8" name=""/>
                <p:cNvSpPr/>
                <p:nvPr/>
              </p:nvSpPr>
              <p:spPr>
                <a:xfrm>
                  <a:off x="4468680" y="5079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8" y="0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9" name=""/>
                <p:cNvSpPr/>
                <p:nvPr/>
              </p:nvSpPr>
              <p:spPr>
                <a:xfrm>
                  <a:off x="4468680" y="5070600"/>
                  <a:ext cx="1293840" cy="1908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5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2" y="8"/>
                      </a:lnTo>
                      <a:lnTo>
                        <a:pt x="4055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0" name=""/>
                <p:cNvSpPr/>
                <p:nvPr/>
              </p:nvSpPr>
              <p:spPr>
                <a:xfrm>
                  <a:off x="4470480" y="5062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7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7" y="0"/>
                      </a:lnTo>
                      <a:lnTo>
                        <a:pt x="4069" y="37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1" name=""/>
                <p:cNvSpPr/>
                <p:nvPr/>
              </p:nvSpPr>
              <p:spPr>
                <a:xfrm>
                  <a:off x="4471920" y="5052960"/>
                  <a:ext cx="1295640" cy="17640"/>
                </a:xfrm>
                <a:custGeom>
                  <a:avLst/>
                  <a:gdLst/>
                  <a:ahLst/>
                  <a:rect l="l" t="t" r="r" b="b"/>
                  <a:pathLst>
                    <a:path w="4080" h="58">
                      <a:moveTo>
                        <a:pt x="4067" y="58"/>
                      </a:moveTo>
                      <a:lnTo>
                        <a:pt x="0" y="58"/>
                      </a:lnTo>
                      <a:lnTo>
                        <a:pt x="6" y="0"/>
                      </a:lnTo>
                      <a:lnTo>
                        <a:pt x="4080" y="0"/>
                      </a:lnTo>
                      <a:lnTo>
                        <a:pt x="4067" y="58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2" name=""/>
                <p:cNvSpPr/>
                <p:nvPr/>
              </p:nvSpPr>
              <p:spPr>
                <a:xfrm>
                  <a:off x="4471920" y="5043600"/>
                  <a:ext cx="1297080" cy="19080"/>
                </a:xfrm>
                <a:custGeom>
                  <a:avLst/>
                  <a:gdLst/>
                  <a:ahLst/>
                  <a:rect l="l" t="t" r="r" b="b"/>
                  <a:pathLst>
                    <a:path w="4084" h="57">
                      <a:moveTo>
                        <a:pt x="4071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4" y="0"/>
                      </a:lnTo>
                      <a:lnTo>
                        <a:pt x="4071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3" name=""/>
                <p:cNvSpPr/>
                <p:nvPr/>
              </p:nvSpPr>
              <p:spPr>
                <a:xfrm>
                  <a:off x="4473720" y="5033880"/>
                  <a:ext cx="1295280" cy="19080"/>
                </a:xfrm>
                <a:custGeom>
                  <a:avLst/>
                  <a:gdLst/>
                  <a:ahLst/>
                  <a:rect l="l" t="t" r="r" b="b"/>
                  <a:pathLst>
                    <a:path w="4083" h="57">
                      <a:moveTo>
                        <a:pt x="407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3" y="0"/>
                      </a:lnTo>
                      <a:lnTo>
                        <a:pt x="4083" y="22"/>
                      </a:lnTo>
                      <a:lnTo>
                        <a:pt x="4074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4" name=""/>
                <p:cNvSpPr/>
                <p:nvPr/>
              </p:nvSpPr>
              <p:spPr>
                <a:xfrm>
                  <a:off x="4473720" y="5025960"/>
                  <a:ext cx="1295280" cy="17640"/>
                </a:xfrm>
                <a:custGeom>
                  <a:avLst/>
                  <a:gdLst/>
                  <a:ahLst/>
                  <a:rect l="l" t="t" r="r" b="b"/>
                  <a:pathLst>
                    <a:path w="4081" h="57">
                      <a:moveTo>
                        <a:pt x="407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81" y="0"/>
                      </a:lnTo>
                      <a:lnTo>
                        <a:pt x="4081" y="50"/>
                      </a:lnTo>
                      <a:lnTo>
                        <a:pt x="4079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5" name=""/>
                <p:cNvSpPr/>
                <p:nvPr/>
              </p:nvSpPr>
              <p:spPr>
                <a:xfrm>
                  <a:off x="4475160" y="501660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8" h="56">
                      <a:moveTo>
                        <a:pt x="4078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8" y="0"/>
                      </a:lnTo>
                      <a:lnTo>
                        <a:pt x="4078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6" name=""/>
                <p:cNvSpPr/>
                <p:nvPr/>
              </p:nvSpPr>
              <p:spPr>
                <a:xfrm>
                  <a:off x="4475160" y="5008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5" h="56">
                      <a:moveTo>
                        <a:pt x="4075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5" y="0"/>
                      </a:lnTo>
                      <a:lnTo>
                        <a:pt x="4075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7" name=""/>
                <p:cNvSpPr/>
                <p:nvPr/>
              </p:nvSpPr>
              <p:spPr>
                <a:xfrm>
                  <a:off x="4476600" y="4998960"/>
                  <a:ext cx="1292400" cy="1764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7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3" y="57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8" name=""/>
                <p:cNvSpPr/>
                <p:nvPr/>
              </p:nvSpPr>
              <p:spPr>
                <a:xfrm>
                  <a:off x="4476600" y="4989600"/>
                  <a:ext cx="1292400" cy="19080"/>
                </a:xfrm>
                <a:custGeom>
                  <a:avLst/>
                  <a:gdLst/>
                  <a:ahLst/>
                  <a:rect l="l" t="t" r="r" b="b"/>
                  <a:pathLst>
                    <a:path w="4070" h="58">
                      <a:moveTo>
                        <a:pt x="4070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70" y="0"/>
                      </a:lnTo>
                      <a:lnTo>
                        <a:pt x="4070" y="58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9" name=""/>
                <p:cNvSpPr/>
                <p:nvPr/>
              </p:nvSpPr>
              <p:spPr>
                <a:xfrm>
                  <a:off x="4478400" y="4979880"/>
                  <a:ext cx="1290600" cy="19080"/>
                </a:xfrm>
                <a:custGeom>
                  <a:avLst/>
                  <a:gdLst/>
                  <a:ahLst/>
                  <a:rect l="l" t="t" r="r" b="b"/>
                  <a:pathLst>
                    <a:path w="4067" h="57">
                      <a:moveTo>
                        <a:pt x="406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7" y="0"/>
                      </a:lnTo>
                      <a:lnTo>
                        <a:pt x="4067" y="57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0" name=""/>
                <p:cNvSpPr/>
                <p:nvPr/>
              </p:nvSpPr>
              <p:spPr>
                <a:xfrm>
                  <a:off x="4478400" y="4971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5" h="57">
                      <a:moveTo>
                        <a:pt x="406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0" y="0"/>
                      </a:lnTo>
                      <a:lnTo>
                        <a:pt x="4065" y="20"/>
                      </a:lnTo>
                      <a:lnTo>
                        <a:pt x="4065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1" name=""/>
                <p:cNvSpPr/>
                <p:nvPr/>
              </p:nvSpPr>
              <p:spPr>
                <a:xfrm>
                  <a:off x="4479840" y="496260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2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1" y="0"/>
                      </a:lnTo>
                      <a:lnTo>
                        <a:pt x="4062" y="48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2" name=""/>
                <p:cNvSpPr/>
                <p:nvPr/>
              </p:nvSpPr>
              <p:spPr>
                <a:xfrm>
                  <a:off x="4481640" y="495288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5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1" y="0"/>
                      </a:lnTo>
                      <a:lnTo>
                        <a:pt x="4054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3" name=""/>
                <p:cNvSpPr/>
                <p:nvPr/>
              </p:nvSpPr>
              <p:spPr>
                <a:xfrm>
                  <a:off x="4481640" y="494496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6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32" y="0"/>
                      </a:lnTo>
                      <a:lnTo>
                        <a:pt x="4034" y="4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4" name=""/>
                <p:cNvSpPr/>
                <p:nvPr/>
              </p:nvSpPr>
              <p:spPr>
                <a:xfrm>
                  <a:off x="4483080" y="4935600"/>
                  <a:ext cx="1281240" cy="17280"/>
                </a:xfrm>
                <a:custGeom>
                  <a:avLst/>
                  <a:gdLst/>
                  <a:ahLst/>
                  <a:rect l="l" t="t" r="r" b="b"/>
                  <a:pathLst>
                    <a:path w="4036" h="57">
                      <a:moveTo>
                        <a:pt x="40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19" y="0"/>
                      </a:lnTo>
                      <a:lnTo>
                        <a:pt x="4031" y="33"/>
                      </a:lnTo>
                      <a:lnTo>
                        <a:pt x="403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5" name=""/>
                <p:cNvSpPr/>
                <p:nvPr/>
              </p:nvSpPr>
              <p:spPr>
                <a:xfrm>
                  <a:off x="4483080" y="4925880"/>
                  <a:ext cx="1278000" cy="19080"/>
                </a:xfrm>
                <a:custGeom>
                  <a:avLst/>
                  <a:gdLst/>
                  <a:ahLst/>
                  <a:rect l="l" t="t" r="r" b="b"/>
                  <a:pathLst>
                    <a:path w="4026" h="58">
                      <a:moveTo>
                        <a:pt x="4026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07" y="0"/>
                      </a:lnTo>
                      <a:lnTo>
                        <a:pt x="4026" y="58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6" name=""/>
                <p:cNvSpPr/>
                <p:nvPr/>
              </p:nvSpPr>
              <p:spPr>
                <a:xfrm>
                  <a:off x="4484520" y="4916520"/>
                  <a:ext cx="1273320" cy="19080"/>
                </a:xfrm>
                <a:custGeom>
                  <a:avLst/>
                  <a:gdLst/>
                  <a:ahLst/>
                  <a:rect l="l" t="t" r="r" b="b"/>
                  <a:pathLst>
                    <a:path w="4014" h="57">
                      <a:moveTo>
                        <a:pt x="4014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96" y="0"/>
                      </a:lnTo>
                      <a:lnTo>
                        <a:pt x="4014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7" name=""/>
                <p:cNvSpPr/>
                <p:nvPr/>
              </p:nvSpPr>
              <p:spPr>
                <a:xfrm>
                  <a:off x="4484520" y="4908600"/>
                  <a:ext cx="1271880" cy="17280"/>
                </a:xfrm>
                <a:custGeom>
                  <a:avLst/>
                  <a:gdLst/>
                  <a:ahLst/>
                  <a:rect l="l" t="t" r="r" b="b"/>
                  <a:pathLst>
                    <a:path w="4002" h="57">
                      <a:moveTo>
                        <a:pt x="4002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84" y="0"/>
                      </a:lnTo>
                      <a:lnTo>
                        <a:pt x="4002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8" name=""/>
                <p:cNvSpPr/>
                <p:nvPr/>
              </p:nvSpPr>
              <p:spPr>
                <a:xfrm>
                  <a:off x="4486320" y="4898880"/>
                  <a:ext cx="1266840" cy="17640"/>
                </a:xfrm>
                <a:custGeom>
                  <a:avLst/>
                  <a:gdLst/>
                  <a:ahLst/>
                  <a:rect l="l" t="t" r="r" b="b"/>
                  <a:pathLst>
                    <a:path w="3992" h="57">
                      <a:moveTo>
                        <a:pt x="398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3992" y="0"/>
                      </a:lnTo>
                      <a:lnTo>
                        <a:pt x="3978" y="24"/>
                      </a:lnTo>
                      <a:lnTo>
                        <a:pt x="3980" y="26"/>
                      </a:lnTo>
                      <a:lnTo>
                        <a:pt x="3989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9" name=""/>
                <p:cNvSpPr/>
                <p:nvPr/>
              </p:nvSpPr>
              <p:spPr>
                <a:xfrm>
                  <a:off x="4487760" y="4889520"/>
                  <a:ext cx="1271520" cy="190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05" y="0"/>
                      </a:lnTo>
                      <a:lnTo>
                        <a:pt x="3975" y="53"/>
                      </a:lnTo>
                      <a:lnTo>
                        <a:pt x="3977" y="55"/>
                      </a:lnTo>
                      <a:lnTo>
                        <a:pt x="3977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4487760" y="4881600"/>
                  <a:ext cx="1276560" cy="17280"/>
                </a:xfrm>
                <a:custGeom>
                  <a:avLst/>
                  <a:gdLst/>
                  <a:ahLst/>
                  <a:rect l="l" t="t" r="r" b="b"/>
                  <a:pathLst>
                    <a:path w="4021" h="57">
                      <a:moveTo>
                        <a:pt x="3987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1" y="0"/>
                      </a:lnTo>
                      <a:lnTo>
                        <a:pt x="3987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1" name=""/>
                <p:cNvSpPr/>
                <p:nvPr/>
              </p:nvSpPr>
              <p:spPr>
                <a:xfrm>
                  <a:off x="4489560" y="487188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34" h="57">
                      <a:moveTo>
                        <a:pt x="4000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4" y="0"/>
                      </a:lnTo>
                      <a:lnTo>
                        <a:pt x="4000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2" name=""/>
                <p:cNvSpPr/>
                <p:nvPr/>
              </p:nvSpPr>
              <p:spPr>
                <a:xfrm>
                  <a:off x="4489560" y="486252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8">
                      <a:moveTo>
                        <a:pt x="4015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48" y="0"/>
                      </a:lnTo>
                      <a:lnTo>
                        <a:pt x="4015" y="58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3" name=""/>
                <p:cNvSpPr/>
                <p:nvPr/>
              </p:nvSpPr>
              <p:spPr>
                <a:xfrm>
                  <a:off x="4491000" y="485460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52" h="56">
                      <a:moveTo>
                        <a:pt x="4029" y="56"/>
                      </a:moveTo>
                      <a:lnTo>
                        <a:pt x="0" y="56"/>
                      </a:lnTo>
                      <a:lnTo>
                        <a:pt x="6" y="0"/>
                      </a:lnTo>
                      <a:lnTo>
                        <a:pt x="4052" y="0"/>
                      </a:lnTo>
                      <a:lnTo>
                        <a:pt x="4047" y="27"/>
                      </a:lnTo>
                      <a:lnTo>
                        <a:pt x="4029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4" name=""/>
                <p:cNvSpPr/>
                <p:nvPr/>
              </p:nvSpPr>
              <p:spPr>
                <a:xfrm>
                  <a:off x="4491000" y="484488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4" h="56">
                      <a:moveTo>
                        <a:pt x="4043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4" y="56"/>
                      </a:lnTo>
                      <a:lnTo>
                        <a:pt x="4043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4492800" y="483552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7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7" y="0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6" name=""/>
                <p:cNvSpPr/>
                <p:nvPr/>
              </p:nvSpPr>
              <p:spPr>
                <a:xfrm>
                  <a:off x="4492800" y="4826160"/>
                  <a:ext cx="1288800" cy="18720"/>
                </a:xfrm>
                <a:custGeom>
                  <a:avLst/>
                  <a:gdLst/>
                  <a:ahLst/>
                  <a:rect l="l" t="t" r="r" b="b"/>
                  <a:pathLst>
                    <a:path w="405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8" y="0"/>
                      </a:lnTo>
                      <a:lnTo>
                        <a:pt x="4058" y="12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7" name=""/>
                <p:cNvSpPr/>
                <p:nvPr/>
              </p:nvSpPr>
              <p:spPr>
                <a:xfrm>
                  <a:off x="4494240" y="4818240"/>
                  <a:ext cx="1287360" cy="17280"/>
                </a:xfrm>
                <a:custGeom>
                  <a:avLst/>
                  <a:gdLst/>
                  <a:ahLst/>
                  <a:rect l="l" t="t" r="r" b="b"/>
                  <a:pathLst>
                    <a:path w="4055" h="58">
                      <a:moveTo>
                        <a:pt x="4052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55" y="0"/>
                      </a:lnTo>
                      <a:lnTo>
                        <a:pt x="4055" y="41"/>
                      </a:lnTo>
                      <a:lnTo>
                        <a:pt x="4052" y="58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8" name=""/>
                <p:cNvSpPr/>
                <p:nvPr/>
              </p:nvSpPr>
              <p:spPr>
                <a:xfrm>
                  <a:off x="4494240" y="480852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2" h="57">
                      <a:moveTo>
                        <a:pt x="405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2" y="0"/>
                      </a:lnTo>
                      <a:lnTo>
                        <a:pt x="4052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9" name=""/>
                <p:cNvSpPr/>
                <p:nvPr/>
              </p:nvSpPr>
              <p:spPr>
                <a:xfrm>
                  <a:off x="4495680" y="479916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0" h="57">
                      <a:moveTo>
                        <a:pt x="4050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0" y="0"/>
                      </a:lnTo>
                      <a:lnTo>
                        <a:pt x="4050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0" name=""/>
                <p:cNvSpPr/>
                <p:nvPr/>
              </p:nvSpPr>
              <p:spPr>
                <a:xfrm>
                  <a:off x="4495680" y="479124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47" h="57">
                      <a:moveTo>
                        <a:pt x="404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7" y="0"/>
                      </a:lnTo>
                      <a:lnTo>
                        <a:pt x="4047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1" name=""/>
                <p:cNvSpPr/>
                <p:nvPr/>
              </p:nvSpPr>
              <p:spPr>
                <a:xfrm>
                  <a:off x="4497480" y="478152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4" h="57">
                      <a:moveTo>
                        <a:pt x="404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7" y="0"/>
                      </a:lnTo>
                      <a:lnTo>
                        <a:pt x="4044" y="13"/>
                      </a:lnTo>
                      <a:lnTo>
                        <a:pt x="4044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2" name=""/>
                <p:cNvSpPr/>
                <p:nvPr/>
              </p:nvSpPr>
              <p:spPr>
                <a:xfrm>
                  <a:off x="4497480" y="4772160"/>
                  <a:ext cx="1284120" cy="19080"/>
                </a:xfrm>
                <a:custGeom>
                  <a:avLst/>
                  <a:gdLst/>
                  <a:ahLst/>
                  <a:rect l="l" t="t" r="r" b="b"/>
                  <a:pathLst>
                    <a:path w="4042" h="57">
                      <a:moveTo>
                        <a:pt x="404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2" y="0"/>
                      </a:lnTo>
                      <a:lnTo>
                        <a:pt x="4023" y="2"/>
                      </a:lnTo>
                      <a:lnTo>
                        <a:pt x="4042" y="41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3" name=""/>
                <p:cNvSpPr/>
                <p:nvPr/>
              </p:nvSpPr>
              <p:spPr>
                <a:xfrm>
                  <a:off x="4498920" y="4762440"/>
                  <a:ext cx="1279440" cy="19080"/>
                </a:xfrm>
                <a:custGeom>
                  <a:avLst/>
                  <a:gdLst/>
                  <a:ahLst/>
                  <a:rect l="l" t="t" r="r" b="b"/>
                  <a:pathLst>
                    <a:path w="4032" h="57">
                      <a:moveTo>
                        <a:pt x="4032" y="57"/>
                      </a:moveTo>
                      <a:lnTo>
                        <a:pt x="0" y="57"/>
                      </a:lnTo>
                      <a:lnTo>
                        <a:pt x="5" y="9"/>
                      </a:lnTo>
                      <a:lnTo>
                        <a:pt x="1335" y="9"/>
                      </a:lnTo>
                      <a:lnTo>
                        <a:pt x="1336" y="0"/>
                      </a:lnTo>
                      <a:lnTo>
                        <a:pt x="4005" y="0"/>
                      </a:lnTo>
                      <a:lnTo>
                        <a:pt x="4020" y="31"/>
                      </a:lnTo>
                      <a:lnTo>
                        <a:pt x="4032" y="57"/>
                      </a:lnTo>
                      <a:close/>
                    </a:path>
                  </a:pathLst>
                </a:custGeom>
                <a:solidFill>
                  <a:srgbClr val="4e4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4" name=""/>
              <p:cNvSpPr/>
              <p:nvPr/>
            </p:nvSpPr>
            <p:spPr>
              <a:xfrm>
                <a:off x="4500720" y="4754520"/>
                <a:ext cx="1274760" cy="17640"/>
              </a:xfrm>
              <a:custGeom>
                <a:avLst/>
                <a:gdLst/>
                <a:ahLst/>
                <a:rect l="l" t="t" r="r" b="b"/>
                <a:pathLst>
                  <a:path w="4016" h="58">
                    <a:moveTo>
                      <a:pt x="4016" y="58"/>
                    </a:moveTo>
                    <a:lnTo>
                      <a:pt x="0" y="58"/>
                    </a:lnTo>
                    <a:lnTo>
                      <a:pt x="2" y="38"/>
                    </a:lnTo>
                    <a:lnTo>
                      <a:pt x="1332" y="38"/>
                    </a:lnTo>
                    <a:lnTo>
                      <a:pt x="1337" y="0"/>
                    </a:lnTo>
                    <a:lnTo>
                      <a:pt x="3997" y="0"/>
                    </a:lnTo>
                    <a:lnTo>
                      <a:pt x="3997" y="19"/>
                    </a:lnTo>
                    <a:lnTo>
                      <a:pt x="4016" y="58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923000" y="4745160"/>
                <a:ext cx="847440" cy="17280"/>
              </a:xfrm>
              <a:custGeom>
                <a:avLst/>
                <a:gdLst/>
                <a:ahLst/>
                <a:rect l="l" t="t" r="r" b="b"/>
                <a:pathLst>
                  <a:path w="2669" h="57">
                    <a:moveTo>
                      <a:pt x="2669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4" y="0"/>
                    </a:lnTo>
                    <a:lnTo>
                      <a:pt x="2664" y="8"/>
                    </a:lnTo>
                    <a:lnTo>
                      <a:pt x="2664" y="47"/>
                    </a:lnTo>
                    <a:lnTo>
                      <a:pt x="2669" y="57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4924440" y="4735440"/>
                <a:ext cx="844560" cy="19080"/>
              </a:xfrm>
              <a:custGeom>
                <a:avLst/>
                <a:gdLst/>
                <a:ahLst/>
                <a:rect l="l" t="t" r="r" b="b"/>
                <a:pathLst>
                  <a:path w="2660" h="57">
                    <a:moveTo>
                      <a:pt x="2660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0" y="0"/>
                    </a:lnTo>
                    <a:lnTo>
                      <a:pt x="2660" y="37"/>
                    </a:lnTo>
                    <a:lnTo>
                      <a:pt x="2660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4925880" y="4727520"/>
                <a:ext cx="843120" cy="17640"/>
              </a:xfrm>
              <a:custGeom>
                <a:avLst/>
                <a:gdLst/>
                <a:ahLst/>
                <a:rect l="l" t="t" r="r" b="b"/>
                <a:pathLst>
                  <a:path w="2656" h="57">
                    <a:moveTo>
                      <a:pt x="2656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56" y="0"/>
                    </a:lnTo>
                    <a:lnTo>
                      <a:pt x="2656" y="3"/>
                    </a:lnTo>
                    <a:lnTo>
                      <a:pt x="2656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4921200" y="4718160"/>
                <a:ext cx="847800" cy="17280"/>
              </a:xfrm>
              <a:custGeom>
                <a:avLst/>
                <a:gdLst/>
                <a:ahLst/>
                <a:rect l="l" t="t" r="r" b="b"/>
                <a:pathLst>
                  <a:path w="2668" h="57">
                    <a:moveTo>
                      <a:pt x="2668" y="57"/>
                    </a:moveTo>
                    <a:lnTo>
                      <a:pt x="16" y="57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2668" y="0"/>
                    </a:lnTo>
                    <a:lnTo>
                      <a:pt x="2668" y="32"/>
                    </a:lnTo>
                    <a:lnTo>
                      <a:pt x="2668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4905360" y="4708440"/>
                <a:ext cx="863640" cy="19080"/>
              </a:xfrm>
              <a:custGeom>
                <a:avLst/>
                <a:gdLst/>
                <a:ahLst/>
                <a:rect l="l" t="t" r="r" b="b"/>
                <a:pathLst>
                  <a:path w="2721" h="57">
                    <a:moveTo>
                      <a:pt x="2721" y="57"/>
                    </a:moveTo>
                    <a:lnTo>
                      <a:pt x="73" y="57"/>
                    </a:lnTo>
                    <a:lnTo>
                      <a:pt x="75" y="42"/>
                    </a:lnTo>
                    <a:lnTo>
                      <a:pt x="75" y="40"/>
                    </a:lnTo>
                    <a:lnTo>
                      <a:pt x="0" y="0"/>
                    </a:lnTo>
                    <a:lnTo>
                      <a:pt x="2721" y="0"/>
                    </a:lnTo>
                    <a:lnTo>
                      <a:pt x="2721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4888080" y="4699080"/>
                <a:ext cx="880920" cy="19080"/>
              </a:xfrm>
              <a:custGeom>
                <a:avLst/>
                <a:gdLst/>
                <a:ahLst/>
                <a:rect l="l" t="t" r="r" b="b"/>
                <a:pathLst>
                  <a:path w="2773" h="57">
                    <a:moveTo>
                      <a:pt x="2773" y="57"/>
                    </a:moveTo>
                    <a:lnTo>
                      <a:pt x="105" y="57"/>
                    </a:lnTo>
                    <a:lnTo>
                      <a:pt x="0" y="0"/>
                    </a:lnTo>
                    <a:lnTo>
                      <a:pt x="2773" y="0"/>
                    </a:lnTo>
                    <a:lnTo>
                      <a:pt x="2773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4871880" y="4691160"/>
                <a:ext cx="897120" cy="17280"/>
              </a:xfrm>
              <a:custGeom>
                <a:avLst/>
                <a:gdLst/>
                <a:ahLst/>
                <a:rect l="l" t="t" r="r" b="b"/>
                <a:pathLst>
                  <a:path w="2826" h="58">
                    <a:moveTo>
                      <a:pt x="2826" y="58"/>
                    </a:moveTo>
                    <a:lnTo>
                      <a:pt x="105" y="58"/>
                    </a:lnTo>
                    <a:lnTo>
                      <a:pt x="0" y="0"/>
                    </a:lnTo>
                    <a:lnTo>
                      <a:pt x="2826" y="0"/>
                    </a:lnTo>
                    <a:lnTo>
                      <a:pt x="2826" y="58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854600" y="4681440"/>
                <a:ext cx="914400" cy="17640"/>
              </a:xfrm>
              <a:custGeom>
                <a:avLst/>
                <a:gdLst/>
                <a:ahLst/>
                <a:rect l="l" t="t" r="r" b="b"/>
                <a:pathLst>
                  <a:path w="2879" h="56">
                    <a:moveTo>
                      <a:pt x="2879" y="56"/>
                    </a:moveTo>
                    <a:lnTo>
                      <a:pt x="106" y="56"/>
                    </a:lnTo>
                    <a:lnTo>
                      <a:pt x="0" y="0"/>
                    </a:lnTo>
                    <a:lnTo>
                      <a:pt x="2871" y="0"/>
                    </a:lnTo>
                    <a:lnTo>
                      <a:pt x="2879" y="24"/>
                    </a:lnTo>
                    <a:lnTo>
                      <a:pt x="2879" y="56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4835520" y="4672080"/>
                <a:ext cx="933480" cy="19080"/>
              </a:xfrm>
              <a:custGeom>
                <a:avLst/>
                <a:gdLst/>
                <a:ahLst/>
                <a:rect l="l" t="t" r="r" b="b"/>
                <a:pathLst>
                  <a:path w="2940" h="56">
                    <a:moveTo>
                      <a:pt x="2940" y="56"/>
                    </a:moveTo>
                    <a:lnTo>
                      <a:pt x="114" y="56"/>
                    </a:lnTo>
                    <a:lnTo>
                      <a:pt x="32" y="13"/>
                    </a:lnTo>
                    <a:lnTo>
                      <a:pt x="0" y="0"/>
                    </a:lnTo>
                    <a:lnTo>
                      <a:pt x="2924" y="0"/>
                    </a:lnTo>
                    <a:lnTo>
                      <a:pt x="2940" y="53"/>
                    </a:lnTo>
                    <a:lnTo>
                      <a:pt x="2940" y="56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4813200" y="4664160"/>
                <a:ext cx="952560" cy="17280"/>
              </a:xfrm>
              <a:custGeom>
                <a:avLst/>
                <a:gdLst/>
                <a:ahLst/>
                <a:rect l="l" t="t" r="r" b="b"/>
                <a:pathLst>
                  <a:path w="3003" h="57">
                    <a:moveTo>
                      <a:pt x="3003" y="57"/>
                    </a:moveTo>
                    <a:lnTo>
                      <a:pt x="132" y="57"/>
                    </a:lnTo>
                    <a:lnTo>
                      <a:pt x="103" y="41"/>
                    </a:lnTo>
                    <a:lnTo>
                      <a:pt x="0" y="0"/>
                    </a:lnTo>
                    <a:lnTo>
                      <a:pt x="2987" y="0"/>
                    </a:lnTo>
                    <a:lnTo>
                      <a:pt x="3003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4791240" y="4654440"/>
                <a:ext cx="973080" cy="17640"/>
              </a:xfrm>
              <a:custGeom>
                <a:avLst/>
                <a:gdLst/>
                <a:ahLst/>
                <a:rect l="l" t="t" r="r" b="b"/>
                <a:pathLst>
                  <a:path w="3066" h="57">
                    <a:moveTo>
                      <a:pt x="3066" y="57"/>
                    </a:moveTo>
                    <a:lnTo>
                      <a:pt x="142" y="57"/>
                    </a:lnTo>
                    <a:lnTo>
                      <a:pt x="0" y="0"/>
                    </a:lnTo>
                    <a:lnTo>
                      <a:pt x="3049" y="0"/>
                    </a:lnTo>
                    <a:lnTo>
                      <a:pt x="3066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4767120" y="464508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31" h="57">
                    <a:moveTo>
                      <a:pt x="3131" y="57"/>
                    </a:moveTo>
                    <a:lnTo>
                      <a:pt x="144" y="57"/>
                    </a:lnTo>
                    <a:lnTo>
                      <a:pt x="46" y="17"/>
                    </a:lnTo>
                    <a:lnTo>
                      <a:pt x="0" y="0"/>
                    </a:lnTo>
                    <a:lnTo>
                      <a:pt x="3114" y="0"/>
                    </a:lnTo>
                    <a:lnTo>
                      <a:pt x="3131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4743360" y="4637160"/>
                <a:ext cx="1014480" cy="17280"/>
              </a:xfrm>
              <a:custGeom>
                <a:avLst/>
                <a:gdLst/>
                <a:ahLst/>
                <a:rect l="l" t="t" r="r" b="b"/>
                <a:pathLst>
                  <a:path w="3199" h="57">
                    <a:moveTo>
                      <a:pt x="3199" y="57"/>
                    </a:moveTo>
                    <a:lnTo>
                      <a:pt x="150" y="57"/>
                    </a:lnTo>
                    <a:lnTo>
                      <a:pt x="123" y="46"/>
                    </a:lnTo>
                    <a:lnTo>
                      <a:pt x="0" y="0"/>
                    </a:lnTo>
                    <a:lnTo>
                      <a:pt x="3173" y="0"/>
                    </a:lnTo>
                    <a:lnTo>
                      <a:pt x="3191" y="26"/>
                    </a:lnTo>
                    <a:lnTo>
                      <a:pt x="3199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4724280" y="4627440"/>
                <a:ext cx="1032120" cy="17640"/>
              </a:xfrm>
              <a:custGeom>
                <a:avLst/>
                <a:gdLst/>
                <a:ahLst/>
                <a:rect l="l" t="t" r="r" b="b"/>
                <a:pathLst>
                  <a:path w="3251" h="58">
                    <a:moveTo>
                      <a:pt x="3251" y="58"/>
                    </a:moveTo>
                    <a:lnTo>
                      <a:pt x="137" y="5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3214" y="0"/>
                    </a:lnTo>
                    <a:lnTo>
                      <a:pt x="3251" y="55"/>
                    </a:lnTo>
                    <a:lnTo>
                      <a:pt x="3251" y="58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4710240" y="4618080"/>
                <a:ext cx="1039680" cy="19080"/>
              </a:xfrm>
              <a:custGeom>
                <a:avLst/>
                <a:gdLst/>
                <a:ahLst/>
                <a:rect l="l" t="t" r="r" b="b"/>
                <a:pathLst>
                  <a:path w="3276" h="57">
                    <a:moveTo>
                      <a:pt x="3276" y="57"/>
                    </a:moveTo>
                    <a:lnTo>
                      <a:pt x="103" y="57"/>
                    </a:lnTo>
                    <a:lnTo>
                      <a:pt x="64" y="43"/>
                    </a:lnTo>
                    <a:lnTo>
                      <a:pt x="0" y="0"/>
                    </a:lnTo>
                    <a:lnTo>
                      <a:pt x="3237" y="0"/>
                    </a:lnTo>
                    <a:lnTo>
                      <a:pt x="3276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4695840" y="4608360"/>
                <a:ext cx="1047600" cy="19080"/>
              </a:xfrm>
              <a:custGeom>
                <a:avLst/>
                <a:gdLst/>
                <a:ahLst/>
                <a:rect l="l" t="t" r="r" b="b"/>
                <a:pathLst>
                  <a:path w="3301" h="57">
                    <a:moveTo>
                      <a:pt x="3301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62" y="0"/>
                    </a:lnTo>
                    <a:lnTo>
                      <a:pt x="3301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4683240" y="4600440"/>
                <a:ext cx="1054080" cy="17640"/>
              </a:xfrm>
              <a:custGeom>
                <a:avLst/>
                <a:gdLst/>
                <a:ahLst/>
                <a:rect l="l" t="t" r="r" b="b"/>
                <a:pathLst>
                  <a:path w="3324" h="57">
                    <a:moveTo>
                      <a:pt x="3324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86" y="0"/>
                    </a:lnTo>
                    <a:lnTo>
                      <a:pt x="3300" y="20"/>
                    </a:lnTo>
                    <a:lnTo>
                      <a:pt x="3324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668840" y="4591080"/>
                <a:ext cx="1063800" cy="17280"/>
              </a:xfrm>
              <a:custGeom>
                <a:avLst/>
                <a:gdLst/>
                <a:ahLst/>
                <a:rect l="l" t="t" r="r" b="b"/>
                <a:pathLst>
                  <a:path w="3347" h="57">
                    <a:moveTo>
                      <a:pt x="3347" y="57"/>
                    </a:moveTo>
                    <a:lnTo>
                      <a:pt x="85" y="57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3310" y="0"/>
                    </a:lnTo>
                    <a:lnTo>
                      <a:pt x="3342" y="49"/>
                    </a:lnTo>
                    <a:lnTo>
                      <a:pt x="3347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4656240" y="4581360"/>
                <a:ext cx="1069920" cy="19080"/>
              </a:xfrm>
              <a:custGeom>
                <a:avLst/>
                <a:gdLst/>
                <a:ahLst/>
                <a:rect l="l" t="t" r="r" b="b"/>
                <a:pathLst>
                  <a:path w="3368" h="58">
                    <a:moveTo>
                      <a:pt x="3368" y="58"/>
                    </a:moveTo>
                    <a:lnTo>
                      <a:pt x="82" y="58"/>
                    </a:lnTo>
                    <a:lnTo>
                      <a:pt x="52" y="37"/>
                    </a:lnTo>
                    <a:lnTo>
                      <a:pt x="0" y="0"/>
                    </a:lnTo>
                    <a:lnTo>
                      <a:pt x="3331" y="0"/>
                    </a:lnTo>
                    <a:lnTo>
                      <a:pt x="3341" y="16"/>
                    </a:lnTo>
                    <a:lnTo>
                      <a:pt x="3368" y="58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4643280" y="4573440"/>
                <a:ext cx="1076400" cy="17640"/>
              </a:xfrm>
              <a:custGeom>
                <a:avLst/>
                <a:gdLst/>
                <a:ahLst/>
                <a:rect l="l" t="t" r="r" b="b"/>
                <a:pathLst>
                  <a:path w="3390" h="57">
                    <a:moveTo>
                      <a:pt x="3390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52" y="0"/>
                    </a:lnTo>
                    <a:lnTo>
                      <a:pt x="3381" y="44"/>
                    </a:lnTo>
                    <a:lnTo>
                      <a:pt x="3390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630680" y="4564080"/>
                <a:ext cx="1082880" cy="17280"/>
              </a:xfrm>
              <a:custGeom>
                <a:avLst/>
                <a:gdLst/>
                <a:ahLst/>
                <a:rect l="l" t="t" r="r" b="b"/>
                <a:pathLst>
                  <a:path w="3411" h="57">
                    <a:moveTo>
                      <a:pt x="3411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73" y="0"/>
                    </a:lnTo>
                    <a:lnTo>
                      <a:pt x="3411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618080" y="4554360"/>
                <a:ext cx="1090440" cy="19080"/>
              </a:xfrm>
              <a:custGeom>
                <a:avLst/>
                <a:gdLst/>
                <a:ahLst/>
                <a:rect l="l" t="t" r="r" b="b"/>
                <a:pathLst>
                  <a:path w="3434" h="57">
                    <a:moveTo>
                      <a:pt x="3434" y="57"/>
                    </a:moveTo>
                    <a:lnTo>
                      <a:pt x="82" y="57"/>
                    </a:lnTo>
                    <a:lnTo>
                      <a:pt x="32" y="21"/>
                    </a:lnTo>
                    <a:lnTo>
                      <a:pt x="0" y="0"/>
                    </a:lnTo>
                    <a:lnTo>
                      <a:pt x="3395" y="0"/>
                    </a:lnTo>
                    <a:lnTo>
                      <a:pt x="3434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603680" y="4545000"/>
                <a:ext cx="1098720" cy="19080"/>
              </a:xfrm>
              <a:custGeom>
                <a:avLst/>
                <a:gdLst/>
                <a:ahLst/>
                <a:rect l="l" t="t" r="r" b="b"/>
                <a:pathLst>
                  <a:path w="3458" h="57">
                    <a:moveTo>
                      <a:pt x="3458" y="57"/>
                    </a:moveTo>
                    <a:lnTo>
                      <a:pt x="85" y="57"/>
                    </a:lnTo>
                    <a:lnTo>
                      <a:pt x="75" y="50"/>
                    </a:lnTo>
                    <a:lnTo>
                      <a:pt x="0" y="0"/>
                    </a:lnTo>
                    <a:lnTo>
                      <a:pt x="3420" y="0"/>
                    </a:lnTo>
                    <a:lnTo>
                      <a:pt x="3458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591080" y="4537080"/>
                <a:ext cx="1104840" cy="17280"/>
              </a:xfrm>
              <a:custGeom>
                <a:avLst/>
                <a:gdLst/>
                <a:ahLst/>
                <a:rect l="l" t="t" r="r" b="b"/>
                <a:pathLst>
                  <a:path w="3481" h="57">
                    <a:moveTo>
                      <a:pt x="3481" y="57"/>
                    </a:moveTo>
                    <a:lnTo>
                      <a:pt x="86" y="57"/>
                    </a:lnTo>
                    <a:lnTo>
                      <a:pt x="0" y="0"/>
                    </a:lnTo>
                    <a:lnTo>
                      <a:pt x="3444" y="0"/>
                    </a:lnTo>
                    <a:lnTo>
                      <a:pt x="3481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589640" y="4527720"/>
                <a:ext cx="1099800" cy="17280"/>
              </a:xfrm>
              <a:custGeom>
                <a:avLst/>
                <a:gdLst/>
                <a:ahLst/>
                <a:rect l="l" t="t" r="r" b="b"/>
                <a:pathLst>
                  <a:path w="3467" h="57">
                    <a:moveTo>
                      <a:pt x="3467" y="57"/>
                    </a:moveTo>
                    <a:lnTo>
                      <a:pt x="47" y="57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429" y="0"/>
                    </a:lnTo>
                    <a:lnTo>
                      <a:pt x="3467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4589640" y="4518000"/>
                <a:ext cx="1093680" cy="19080"/>
              </a:xfrm>
              <a:custGeom>
                <a:avLst/>
                <a:gdLst/>
                <a:ahLst/>
                <a:rect l="l" t="t" r="r" b="b"/>
                <a:pathLst>
                  <a:path w="3448" h="57">
                    <a:moveTo>
                      <a:pt x="3448" y="57"/>
                    </a:moveTo>
                    <a:lnTo>
                      <a:pt x="4" y="57"/>
                    </a:lnTo>
                    <a:lnTo>
                      <a:pt x="0" y="55"/>
                    </a:lnTo>
                    <a:lnTo>
                      <a:pt x="15" y="0"/>
                    </a:lnTo>
                    <a:lnTo>
                      <a:pt x="3410" y="0"/>
                    </a:lnTo>
                    <a:lnTo>
                      <a:pt x="3448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408560" y="4510080"/>
                <a:ext cx="1270080" cy="17640"/>
              </a:xfrm>
              <a:custGeom>
                <a:avLst/>
                <a:gdLst/>
                <a:ahLst/>
                <a:rect l="l" t="t" r="r" b="b"/>
                <a:pathLst>
                  <a:path w="3997" h="56">
                    <a:moveTo>
                      <a:pt x="3997" y="56"/>
                    </a:moveTo>
                    <a:lnTo>
                      <a:pt x="574" y="56"/>
                    </a:lnTo>
                    <a:lnTo>
                      <a:pt x="590" y="1"/>
                    </a:lnTo>
                    <a:lnTo>
                      <a:pt x="287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3959" y="0"/>
                    </a:lnTo>
                    <a:lnTo>
                      <a:pt x="3960" y="1"/>
                    </a:lnTo>
                    <a:lnTo>
                      <a:pt x="3997" y="56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4389480" y="4500720"/>
                <a:ext cx="1282680" cy="17280"/>
              </a:xfrm>
              <a:custGeom>
                <a:avLst/>
                <a:gdLst/>
                <a:ahLst/>
                <a:rect l="l" t="t" r="r" b="b"/>
                <a:pathLst>
                  <a:path w="4038" h="57">
                    <a:moveTo>
                      <a:pt x="4038" y="57"/>
                    </a:moveTo>
                    <a:lnTo>
                      <a:pt x="643" y="57"/>
                    </a:lnTo>
                    <a:lnTo>
                      <a:pt x="650" y="30"/>
                    </a:lnTo>
                    <a:lnTo>
                      <a:pt x="347" y="30"/>
                    </a:lnTo>
                    <a:lnTo>
                      <a:pt x="65" y="30"/>
                    </a:lnTo>
                    <a:lnTo>
                      <a:pt x="0" y="0"/>
                    </a:lnTo>
                    <a:lnTo>
                      <a:pt x="4002" y="0"/>
                    </a:lnTo>
                    <a:lnTo>
                      <a:pt x="4020" y="30"/>
                    </a:lnTo>
                    <a:lnTo>
                      <a:pt x="4038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370400" y="4491000"/>
                <a:ext cx="1295280" cy="19080"/>
              </a:xfrm>
              <a:custGeom>
                <a:avLst/>
                <a:gdLst/>
                <a:ahLst/>
                <a:rect l="l" t="t" r="r" b="b"/>
                <a:pathLst>
                  <a:path w="4080" h="57">
                    <a:moveTo>
                      <a:pt x="4080" y="57"/>
                    </a:moveTo>
                    <a:lnTo>
                      <a:pt x="121" y="57"/>
                    </a:lnTo>
                    <a:lnTo>
                      <a:pt x="0" y="0"/>
                    </a:lnTo>
                    <a:lnTo>
                      <a:pt x="4046" y="0"/>
                    </a:lnTo>
                    <a:lnTo>
                      <a:pt x="4080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4351320" y="4483080"/>
                <a:ext cx="1309680" cy="17640"/>
              </a:xfrm>
              <a:custGeom>
                <a:avLst/>
                <a:gdLst/>
                <a:ahLst/>
                <a:rect l="l" t="t" r="r" b="b"/>
                <a:pathLst>
                  <a:path w="4124" h="57">
                    <a:moveTo>
                      <a:pt x="4124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090" y="0"/>
                    </a:lnTo>
                    <a:lnTo>
                      <a:pt x="4124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332240" y="4473720"/>
                <a:ext cx="1322280" cy="17280"/>
              </a:xfrm>
              <a:custGeom>
                <a:avLst/>
                <a:gdLst/>
                <a:ahLst/>
                <a:rect l="l" t="t" r="r" b="b"/>
                <a:pathLst>
                  <a:path w="4168" h="57">
                    <a:moveTo>
                      <a:pt x="4168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134" y="0"/>
                    </a:lnTo>
                    <a:lnTo>
                      <a:pt x="4168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313160" y="446400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17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207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313160" y="4454640"/>
                <a:ext cx="1330560" cy="19080"/>
              </a:xfrm>
              <a:custGeom>
                <a:avLst/>
                <a:gdLst/>
                <a:ahLst/>
                <a:rect l="l" t="t" r="r" b="b"/>
                <a:pathLst>
                  <a:path w="4190" h="58">
                    <a:moveTo>
                      <a:pt x="4190" y="58"/>
                    </a:moveTo>
                    <a:lnTo>
                      <a:pt x="56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58" y="0"/>
                    </a:lnTo>
                    <a:lnTo>
                      <a:pt x="222" y="12"/>
                    </a:lnTo>
                    <a:lnTo>
                      <a:pt x="199" y="0"/>
                    </a:lnTo>
                    <a:lnTo>
                      <a:pt x="4156" y="0"/>
                    </a:lnTo>
                    <a:lnTo>
                      <a:pt x="4190" y="58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4313160" y="4446720"/>
                <a:ext cx="1325520" cy="17280"/>
              </a:xfrm>
              <a:custGeom>
                <a:avLst/>
                <a:gdLst/>
                <a:ahLst/>
                <a:rect l="l" t="t" r="r" b="b"/>
                <a:pathLst>
                  <a:path w="4173" h="57">
                    <a:moveTo>
                      <a:pt x="417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22" y="40"/>
                    </a:lnTo>
                    <a:lnTo>
                      <a:pt x="145" y="0"/>
                    </a:lnTo>
                    <a:lnTo>
                      <a:pt x="4139" y="0"/>
                    </a:lnTo>
                    <a:lnTo>
                      <a:pt x="4173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4313160" y="4437000"/>
                <a:ext cx="1320840" cy="17640"/>
              </a:xfrm>
              <a:custGeom>
                <a:avLst/>
                <a:gdLst/>
                <a:ahLst/>
                <a:rect l="l" t="t" r="r" b="b"/>
                <a:pathLst>
                  <a:path w="4156" h="57">
                    <a:moveTo>
                      <a:pt x="4156" y="57"/>
                    </a:moveTo>
                    <a:lnTo>
                      <a:pt x="199" y="57"/>
                    </a:lnTo>
                    <a:lnTo>
                      <a:pt x="90" y="0"/>
                    </a:lnTo>
                    <a:lnTo>
                      <a:pt x="4129" y="0"/>
                    </a:lnTo>
                    <a:lnTo>
                      <a:pt x="4139" y="29"/>
                    </a:lnTo>
                    <a:lnTo>
                      <a:pt x="4156" y="57"/>
                    </a:lnTo>
                    <a:close/>
                    <a:moveTo>
                      <a:pt x="158" y="57"/>
                    </a:moveTo>
                    <a:lnTo>
                      <a:pt x="0" y="57"/>
                    </a:lnTo>
                    <a:lnTo>
                      <a:pt x="0" y="29"/>
                    </a:lnTo>
                    <a:lnTo>
                      <a:pt x="158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4313160" y="4427640"/>
                <a:ext cx="1314360" cy="19080"/>
              </a:xfrm>
              <a:custGeom>
                <a:avLst/>
                <a:gdLst/>
                <a:ahLst/>
                <a:rect l="l" t="t" r="r" b="b"/>
                <a:pathLst>
                  <a:path w="4139" h="57">
                    <a:moveTo>
                      <a:pt x="4139" y="57"/>
                    </a:moveTo>
                    <a:lnTo>
                      <a:pt x="145" y="57"/>
                    </a:lnTo>
                    <a:lnTo>
                      <a:pt x="36" y="0"/>
                    </a:lnTo>
                    <a:lnTo>
                      <a:pt x="1562" y="0"/>
                    </a:lnTo>
                    <a:lnTo>
                      <a:pt x="1594" y="16"/>
                    </a:lnTo>
                    <a:lnTo>
                      <a:pt x="1594" y="0"/>
                    </a:lnTo>
                    <a:lnTo>
                      <a:pt x="4119" y="0"/>
                    </a:lnTo>
                    <a:lnTo>
                      <a:pt x="4139" y="57"/>
                    </a:lnTo>
                    <a:lnTo>
                      <a:pt x="4139" y="57"/>
                    </a:lnTo>
                    <a:close/>
                    <a:moveTo>
                      <a:pt x="2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4308480" y="4419720"/>
                <a:ext cx="1316160" cy="17280"/>
              </a:xfrm>
              <a:custGeom>
                <a:avLst/>
                <a:gdLst/>
                <a:ahLst/>
                <a:rect l="l" t="t" r="r" b="b"/>
                <a:pathLst>
                  <a:path w="4147" h="57">
                    <a:moveTo>
                      <a:pt x="4147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432" y="6"/>
                    </a:lnTo>
                    <a:lnTo>
                      <a:pt x="1533" y="6"/>
                    </a:lnTo>
                    <a:lnTo>
                      <a:pt x="1612" y="45"/>
                    </a:lnTo>
                    <a:lnTo>
                      <a:pt x="1612" y="0"/>
                    </a:lnTo>
                    <a:lnTo>
                      <a:pt x="4126" y="0"/>
                    </a:lnTo>
                    <a:lnTo>
                      <a:pt x="4147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4290840" y="4410000"/>
                <a:ext cx="1330560" cy="17640"/>
              </a:xfrm>
              <a:custGeom>
                <a:avLst/>
                <a:gdLst/>
                <a:ahLst/>
                <a:rect l="l" t="t" r="r" b="b"/>
                <a:pathLst>
                  <a:path w="4191" h="57">
                    <a:moveTo>
                      <a:pt x="4191" y="57"/>
                    </a:moveTo>
                    <a:lnTo>
                      <a:pt x="1666" y="57"/>
                    </a:lnTo>
                    <a:lnTo>
                      <a:pt x="1666" y="0"/>
                    </a:lnTo>
                    <a:lnTo>
                      <a:pt x="4170" y="0"/>
                    </a:lnTo>
                    <a:lnTo>
                      <a:pt x="4191" y="57"/>
                    </a:lnTo>
                    <a:close/>
                    <a:moveTo>
                      <a:pt x="1634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33" y="0"/>
                    </a:lnTo>
                    <a:lnTo>
                      <a:pt x="1486" y="34"/>
                    </a:lnTo>
                    <a:lnTo>
                      <a:pt x="1587" y="34"/>
                    </a:lnTo>
                    <a:lnTo>
                      <a:pt x="1634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4273560" y="4400640"/>
                <a:ext cx="1344600" cy="19080"/>
              </a:xfrm>
              <a:custGeom>
                <a:avLst/>
                <a:gdLst/>
                <a:ahLst/>
                <a:rect l="l" t="t" r="r" b="b"/>
                <a:pathLst>
                  <a:path w="4235" h="57">
                    <a:moveTo>
                      <a:pt x="4235" y="57"/>
                    </a:moveTo>
                    <a:lnTo>
                      <a:pt x="1721" y="57"/>
                    </a:lnTo>
                    <a:lnTo>
                      <a:pt x="1721" y="22"/>
                    </a:lnTo>
                    <a:lnTo>
                      <a:pt x="1715" y="0"/>
                    </a:lnTo>
                    <a:lnTo>
                      <a:pt x="4215" y="0"/>
                    </a:lnTo>
                    <a:lnTo>
                      <a:pt x="4235" y="57"/>
                    </a:lnTo>
                    <a:close/>
                    <a:moveTo>
                      <a:pt x="1531" y="57"/>
                    </a:moveTo>
                    <a:lnTo>
                      <a:pt x="109" y="57"/>
                    </a:lnTo>
                    <a:lnTo>
                      <a:pt x="0" y="0"/>
                    </a:lnTo>
                    <a:lnTo>
                      <a:pt x="1457" y="0"/>
                    </a:lnTo>
                    <a:lnTo>
                      <a:pt x="1478" y="22"/>
                    </a:lnTo>
                    <a:lnTo>
                      <a:pt x="1531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4262400" y="4390920"/>
                <a:ext cx="1352520" cy="19080"/>
              </a:xfrm>
              <a:custGeom>
                <a:avLst/>
                <a:gdLst/>
                <a:ahLst/>
                <a:rect l="l" t="t" r="r" b="b"/>
                <a:pathLst>
                  <a:path w="4260" h="58">
                    <a:moveTo>
                      <a:pt x="4260" y="58"/>
                    </a:moveTo>
                    <a:lnTo>
                      <a:pt x="1756" y="58"/>
                    </a:lnTo>
                    <a:lnTo>
                      <a:pt x="1756" y="51"/>
                    </a:lnTo>
                    <a:lnTo>
                      <a:pt x="1744" y="0"/>
                    </a:lnTo>
                    <a:lnTo>
                      <a:pt x="4239" y="0"/>
                    </a:lnTo>
                    <a:lnTo>
                      <a:pt x="4260" y="58"/>
                    </a:lnTo>
                    <a:close/>
                    <a:moveTo>
                      <a:pt x="1523" y="58"/>
                    </a:moveTo>
                    <a:lnTo>
                      <a:pt x="90" y="5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64" y="0"/>
                    </a:lnTo>
                    <a:lnTo>
                      <a:pt x="1513" y="51"/>
                    </a:lnTo>
                    <a:lnTo>
                      <a:pt x="1523" y="58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4262400" y="4383000"/>
                <a:ext cx="1349280" cy="17640"/>
              </a:xfrm>
              <a:custGeom>
                <a:avLst/>
                <a:gdLst/>
                <a:ahLst/>
                <a:rect l="l" t="t" r="r" b="b"/>
                <a:pathLst>
                  <a:path w="4250" h="57">
                    <a:moveTo>
                      <a:pt x="4250" y="57"/>
                    </a:moveTo>
                    <a:lnTo>
                      <a:pt x="1750" y="57"/>
                    </a:lnTo>
                    <a:lnTo>
                      <a:pt x="1737" y="0"/>
                    </a:lnTo>
                    <a:lnTo>
                      <a:pt x="4228" y="0"/>
                    </a:lnTo>
                    <a:lnTo>
                      <a:pt x="4250" y="57"/>
                    </a:lnTo>
                    <a:close/>
                    <a:moveTo>
                      <a:pt x="1492" y="57"/>
                    </a:moveTo>
                    <a:lnTo>
                      <a:pt x="35" y="57"/>
                    </a:lnTo>
                    <a:lnTo>
                      <a:pt x="0" y="39"/>
                    </a:lnTo>
                    <a:lnTo>
                      <a:pt x="21" y="0"/>
                    </a:lnTo>
                    <a:lnTo>
                      <a:pt x="1400" y="0"/>
                    </a:lnTo>
                    <a:lnTo>
                      <a:pt x="1454" y="17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4264200" y="4373640"/>
                <a:ext cx="1344600" cy="17280"/>
              </a:xfrm>
              <a:custGeom>
                <a:avLst/>
                <a:gdLst/>
                <a:ahLst/>
                <a:rect l="l" t="t" r="r" b="b"/>
                <a:pathLst>
                  <a:path w="4234" h="57">
                    <a:moveTo>
                      <a:pt x="4234" y="57"/>
                    </a:moveTo>
                    <a:lnTo>
                      <a:pt x="1739" y="57"/>
                    </a:lnTo>
                    <a:lnTo>
                      <a:pt x="1732" y="27"/>
                    </a:lnTo>
                    <a:lnTo>
                      <a:pt x="1713" y="0"/>
                    </a:lnTo>
                    <a:lnTo>
                      <a:pt x="4213" y="0"/>
                    </a:lnTo>
                    <a:lnTo>
                      <a:pt x="4234" y="57"/>
                    </a:lnTo>
                    <a:close/>
                    <a:moveTo>
                      <a:pt x="1459" y="57"/>
                    </a:moveTo>
                    <a:lnTo>
                      <a:pt x="0" y="57"/>
                    </a:lnTo>
                    <a:lnTo>
                      <a:pt x="32" y="0"/>
                    </a:lnTo>
                    <a:lnTo>
                      <a:pt x="1129" y="0"/>
                    </a:lnTo>
                    <a:lnTo>
                      <a:pt x="1187" y="27"/>
                    </a:lnTo>
                    <a:lnTo>
                      <a:pt x="1205" y="0"/>
                    </a:lnTo>
                    <a:lnTo>
                      <a:pt x="1336" y="0"/>
                    </a:lnTo>
                    <a:lnTo>
                      <a:pt x="1389" y="27"/>
                    </a:lnTo>
                    <a:lnTo>
                      <a:pt x="1449" y="46"/>
                    </a:lnTo>
                    <a:lnTo>
                      <a:pt x="1459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268880" y="436392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716" y="57"/>
                    </a:lnTo>
                    <a:lnTo>
                      <a:pt x="1716" y="55"/>
                    </a:lnTo>
                    <a:lnTo>
                      <a:pt x="1678" y="0"/>
                    </a:lnTo>
                    <a:lnTo>
                      <a:pt x="4187" y="0"/>
                    </a:lnTo>
                    <a:lnTo>
                      <a:pt x="4207" y="57"/>
                    </a:lnTo>
                    <a:close/>
                    <a:moveTo>
                      <a:pt x="1379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1050" y="0"/>
                    </a:lnTo>
                    <a:lnTo>
                      <a:pt x="1171" y="55"/>
                    </a:lnTo>
                    <a:lnTo>
                      <a:pt x="1208" y="0"/>
                    </a:lnTo>
                    <a:lnTo>
                      <a:pt x="1233" y="0"/>
                    </a:lnTo>
                    <a:lnTo>
                      <a:pt x="1291" y="14"/>
                    </a:lnTo>
                    <a:lnTo>
                      <a:pt x="1373" y="55"/>
                    </a:lnTo>
                    <a:lnTo>
                      <a:pt x="1379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4273560" y="4356000"/>
                <a:ext cx="1328760" cy="17640"/>
              </a:xfrm>
              <a:custGeom>
                <a:avLst/>
                <a:gdLst/>
                <a:ahLst/>
                <a:rect l="l" t="t" r="r" b="b"/>
                <a:pathLst>
                  <a:path w="4181" h="57">
                    <a:moveTo>
                      <a:pt x="4181" y="57"/>
                    </a:moveTo>
                    <a:lnTo>
                      <a:pt x="1681" y="57"/>
                    </a:lnTo>
                    <a:lnTo>
                      <a:pt x="1659" y="24"/>
                    </a:lnTo>
                    <a:lnTo>
                      <a:pt x="1643" y="0"/>
                    </a:lnTo>
                    <a:lnTo>
                      <a:pt x="4161" y="0"/>
                    </a:lnTo>
                    <a:lnTo>
                      <a:pt x="4181" y="57"/>
                    </a:lnTo>
                    <a:close/>
                    <a:moveTo>
                      <a:pt x="1304" y="57"/>
                    </a:moveTo>
                    <a:lnTo>
                      <a:pt x="1173" y="57"/>
                    </a:lnTo>
                    <a:lnTo>
                      <a:pt x="1195" y="24"/>
                    </a:lnTo>
                    <a:lnTo>
                      <a:pt x="1275" y="43"/>
                    </a:lnTo>
                    <a:lnTo>
                      <a:pt x="1304" y="57"/>
                    </a:lnTo>
                    <a:close/>
                    <a:moveTo>
                      <a:pt x="1097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658" y="0"/>
                    </a:lnTo>
                    <a:lnTo>
                      <a:pt x="671" y="2"/>
                    </a:lnTo>
                    <a:lnTo>
                      <a:pt x="666" y="0"/>
                    </a:lnTo>
                    <a:lnTo>
                      <a:pt x="972" y="0"/>
                    </a:lnTo>
                    <a:lnTo>
                      <a:pt x="1097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4278240" y="4346640"/>
                <a:ext cx="1320840" cy="17280"/>
              </a:xfrm>
              <a:custGeom>
                <a:avLst/>
                <a:gdLst/>
                <a:ahLst/>
                <a:rect l="l" t="t" r="r" b="b"/>
                <a:pathLst>
                  <a:path w="4156" h="56">
                    <a:moveTo>
                      <a:pt x="4156" y="56"/>
                    </a:moveTo>
                    <a:lnTo>
                      <a:pt x="1647" y="56"/>
                    </a:lnTo>
                    <a:lnTo>
                      <a:pt x="1644" y="51"/>
                    </a:lnTo>
                    <a:lnTo>
                      <a:pt x="1608" y="0"/>
                    </a:lnTo>
                    <a:lnTo>
                      <a:pt x="4136" y="0"/>
                    </a:lnTo>
                    <a:lnTo>
                      <a:pt x="4156" y="56"/>
                    </a:lnTo>
                    <a:close/>
                    <a:moveTo>
                      <a:pt x="1202" y="56"/>
                    </a:moveTo>
                    <a:lnTo>
                      <a:pt x="1177" y="56"/>
                    </a:lnTo>
                    <a:lnTo>
                      <a:pt x="1180" y="51"/>
                    </a:lnTo>
                    <a:lnTo>
                      <a:pt x="1202" y="56"/>
                    </a:lnTo>
                    <a:close/>
                    <a:moveTo>
                      <a:pt x="1019" y="56"/>
                    </a:moveTo>
                    <a:lnTo>
                      <a:pt x="0" y="56"/>
                    </a:lnTo>
                    <a:lnTo>
                      <a:pt x="32" y="0"/>
                    </a:lnTo>
                    <a:lnTo>
                      <a:pt x="478" y="0"/>
                    </a:lnTo>
                    <a:lnTo>
                      <a:pt x="656" y="29"/>
                    </a:lnTo>
                    <a:lnTo>
                      <a:pt x="594" y="0"/>
                    </a:lnTo>
                    <a:lnTo>
                      <a:pt x="895" y="0"/>
                    </a:lnTo>
                    <a:lnTo>
                      <a:pt x="1019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4284720" y="4336920"/>
                <a:ext cx="1311120" cy="19080"/>
              </a:xfrm>
              <a:custGeom>
                <a:avLst/>
                <a:gdLst/>
                <a:ahLst/>
                <a:rect l="l" t="t" r="r" b="b"/>
                <a:pathLst>
                  <a:path w="4130" h="56">
                    <a:moveTo>
                      <a:pt x="4130" y="56"/>
                    </a:moveTo>
                    <a:lnTo>
                      <a:pt x="1612" y="56"/>
                    </a:lnTo>
                    <a:lnTo>
                      <a:pt x="1587" y="20"/>
                    </a:lnTo>
                    <a:lnTo>
                      <a:pt x="1568" y="0"/>
                    </a:lnTo>
                    <a:lnTo>
                      <a:pt x="4109" y="0"/>
                    </a:lnTo>
                    <a:lnTo>
                      <a:pt x="4130" y="56"/>
                    </a:lnTo>
                    <a:close/>
                    <a:moveTo>
                      <a:pt x="941" y="56"/>
                    </a:moveTo>
                    <a:lnTo>
                      <a:pt x="635" y="56"/>
                    </a:lnTo>
                    <a:lnTo>
                      <a:pt x="521" y="0"/>
                    </a:lnTo>
                    <a:lnTo>
                      <a:pt x="831" y="0"/>
                    </a:lnTo>
                    <a:lnTo>
                      <a:pt x="860" y="20"/>
                    </a:lnTo>
                    <a:lnTo>
                      <a:pt x="941" y="56"/>
                    </a:lnTo>
                    <a:close/>
                    <a:moveTo>
                      <a:pt x="627" y="56"/>
                    </a:moveTo>
                    <a:lnTo>
                      <a:pt x="0" y="56"/>
                    </a:lnTo>
                    <a:lnTo>
                      <a:pt x="31" y="0"/>
                    </a:lnTo>
                    <a:lnTo>
                      <a:pt x="296" y="0"/>
                    </a:lnTo>
                    <a:lnTo>
                      <a:pt x="627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4289400" y="4329000"/>
                <a:ext cx="1303200" cy="17640"/>
              </a:xfrm>
              <a:custGeom>
                <a:avLst/>
                <a:gdLst/>
                <a:ahLst/>
                <a:rect l="l" t="t" r="r" b="b"/>
                <a:pathLst>
                  <a:path w="4104" h="58">
                    <a:moveTo>
                      <a:pt x="4104" y="58"/>
                    </a:moveTo>
                    <a:lnTo>
                      <a:pt x="1576" y="58"/>
                    </a:lnTo>
                    <a:lnTo>
                      <a:pt x="1571" y="49"/>
                    </a:lnTo>
                    <a:lnTo>
                      <a:pt x="1524" y="0"/>
                    </a:lnTo>
                    <a:lnTo>
                      <a:pt x="4083" y="0"/>
                    </a:lnTo>
                    <a:lnTo>
                      <a:pt x="4104" y="58"/>
                    </a:lnTo>
                    <a:close/>
                    <a:moveTo>
                      <a:pt x="863" y="58"/>
                    </a:moveTo>
                    <a:lnTo>
                      <a:pt x="562" y="58"/>
                    </a:lnTo>
                    <a:lnTo>
                      <a:pt x="448" y="0"/>
                    </a:lnTo>
                    <a:lnTo>
                      <a:pt x="773" y="0"/>
                    </a:lnTo>
                    <a:lnTo>
                      <a:pt x="844" y="49"/>
                    </a:lnTo>
                    <a:lnTo>
                      <a:pt x="863" y="58"/>
                    </a:lnTo>
                    <a:close/>
                    <a:moveTo>
                      <a:pt x="446" y="58"/>
                    </a:moveTo>
                    <a:lnTo>
                      <a:pt x="0" y="58"/>
                    </a:lnTo>
                    <a:lnTo>
                      <a:pt x="31" y="0"/>
                    </a:lnTo>
                    <a:lnTo>
                      <a:pt x="114" y="0"/>
                    </a:lnTo>
                    <a:lnTo>
                      <a:pt x="446" y="58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4294080" y="4319640"/>
                <a:ext cx="1293840" cy="17280"/>
              </a:xfrm>
              <a:custGeom>
                <a:avLst/>
                <a:gdLst/>
                <a:ahLst/>
                <a:rect l="l" t="t" r="r" b="b"/>
                <a:pathLst>
                  <a:path w="4078" h="57">
                    <a:moveTo>
                      <a:pt x="4078" y="57"/>
                    </a:moveTo>
                    <a:lnTo>
                      <a:pt x="1537" y="57"/>
                    </a:lnTo>
                    <a:lnTo>
                      <a:pt x="1496" y="15"/>
                    </a:lnTo>
                    <a:lnTo>
                      <a:pt x="1473" y="0"/>
                    </a:lnTo>
                    <a:lnTo>
                      <a:pt x="4058" y="0"/>
                    </a:lnTo>
                    <a:lnTo>
                      <a:pt x="4078" y="57"/>
                    </a:lnTo>
                    <a:close/>
                    <a:moveTo>
                      <a:pt x="800" y="57"/>
                    </a:moveTo>
                    <a:lnTo>
                      <a:pt x="490" y="57"/>
                    </a:lnTo>
                    <a:lnTo>
                      <a:pt x="406" y="15"/>
                    </a:lnTo>
                    <a:lnTo>
                      <a:pt x="422" y="0"/>
                    </a:lnTo>
                    <a:lnTo>
                      <a:pt x="715" y="0"/>
                    </a:lnTo>
                    <a:lnTo>
                      <a:pt x="800" y="57"/>
                    </a:lnTo>
                    <a:close/>
                    <a:moveTo>
                      <a:pt x="265" y="57"/>
                    </a:moveTo>
                    <a:lnTo>
                      <a:pt x="0" y="57"/>
                    </a:lnTo>
                    <a:lnTo>
                      <a:pt x="23" y="15"/>
                    </a:lnTo>
                    <a:lnTo>
                      <a:pt x="265" y="57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4299120" y="4309920"/>
                <a:ext cx="1285560" cy="19080"/>
              </a:xfrm>
              <a:custGeom>
                <a:avLst/>
                <a:gdLst/>
                <a:ahLst/>
                <a:rect l="l" t="t" r="r" b="b"/>
                <a:pathLst>
                  <a:path w="4052" h="57">
                    <a:moveTo>
                      <a:pt x="4052" y="57"/>
                    </a:moveTo>
                    <a:lnTo>
                      <a:pt x="1493" y="57"/>
                    </a:lnTo>
                    <a:lnTo>
                      <a:pt x="1480" y="44"/>
                    </a:lnTo>
                    <a:lnTo>
                      <a:pt x="1420" y="3"/>
                    </a:lnTo>
                    <a:lnTo>
                      <a:pt x="1417" y="0"/>
                    </a:lnTo>
                    <a:lnTo>
                      <a:pt x="4031" y="0"/>
                    </a:lnTo>
                    <a:lnTo>
                      <a:pt x="4052" y="57"/>
                    </a:lnTo>
                    <a:close/>
                    <a:moveTo>
                      <a:pt x="742" y="57"/>
                    </a:moveTo>
                    <a:lnTo>
                      <a:pt x="417" y="57"/>
                    </a:lnTo>
                    <a:lnTo>
                      <a:pt x="390" y="44"/>
                    </a:lnTo>
                    <a:lnTo>
                      <a:pt x="434" y="0"/>
                    </a:lnTo>
                    <a:lnTo>
                      <a:pt x="547" y="0"/>
                    </a:lnTo>
                    <a:lnTo>
                      <a:pt x="693" y="25"/>
                    </a:lnTo>
                    <a:lnTo>
                      <a:pt x="742" y="57"/>
                    </a:lnTo>
                    <a:close/>
                    <a:moveTo>
                      <a:pt x="83" y="57"/>
                    </a:moveTo>
                    <a:lnTo>
                      <a:pt x="0" y="57"/>
                    </a:lnTo>
                    <a:lnTo>
                      <a:pt x="7" y="44"/>
                    </a:lnTo>
                    <a:lnTo>
                      <a:pt x="83" y="57"/>
                    </a:lnTo>
                    <a:close/>
                    <a:moveTo>
                      <a:pt x="1303" y="0"/>
                    </a:moveTo>
                    <a:lnTo>
                      <a:pt x="1323" y="0"/>
                    </a:lnTo>
                    <a:lnTo>
                      <a:pt x="1320" y="3"/>
                    </a:lnTo>
                    <a:lnTo>
                      <a:pt x="1303" y="0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4427640" y="4302000"/>
                <a:ext cx="1154160" cy="17640"/>
              </a:xfrm>
              <a:custGeom>
                <a:avLst/>
                <a:gdLst/>
                <a:ahLst/>
                <a:rect l="l" t="t" r="r" b="b"/>
                <a:pathLst>
                  <a:path w="3636" h="57">
                    <a:moveTo>
                      <a:pt x="3636" y="57"/>
                    </a:moveTo>
                    <a:lnTo>
                      <a:pt x="1051" y="57"/>
                    </a:lnTo>
                    <a:lnTo>
                      <a:pt x="1014" y="31"/>
                    </a:lnTo>
                    <a:lnTo>
                      <a:pt x="992" y="12"/>
                    </a:lnTo>
                    <a:lnTo>
                      <a:pt x="933" y="12"/>
                    </a:lnTo>
                    <a:lnTo>
                      <a:pt x="914" y="31"/>
                    </a:lnTo>
                    <a:lnTo>
                      <a:pt x="760" y="0"/>
                    </a:lnTo>
                    <a:lnTo>
                      <a:pt x="3615" y="0"/>
                    </a:lnTo>
                    <a:lnTo>
                      <a:pt x="3636" y="57"/>
                    </a:lnTo>
                    <a:close/>
                    <a:moveTo>
                      <a:pt x="293" y="57"/>
                    </a:moveTo>
                    <a:lnTo>
                      <a:pt x="0" y="57"/>
                    </a:lnTo>
                    <a:lnTo>
                      <a:pt x="45" y="12"/>
                    </a:lnTo>
                    <a:lnTo>
                      <a:pt x="287" y="53"/>
                    </a:lnTo>
                    <a:lnTo>
                      <a:pt x="29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4437000" y="4292640"/>
                <a:ext cx="1141560" cy="17280"/>
              </a:xfrm>
              <a:custGeom>
                <a:avLst/>
                <a:gdLst/>
                <a:ahLst/>
                <a:rect l="l" t="t" r="r" b="b"/>
                <a:pathLst>
                  <a:path w="3597" h="57">
                    <a:moveTo>
                      <a:pt x="3597" y="57"/>
                    </a:moveTo>
                    <a:lnTo>
                      <a:pt x="983" y="57"/>
                    </a:lnTo>
                    <a:lnTo>
                      <a:pt x="964" y="41"/>
                    </a:lnTo>
                    <a:lnTo>
                      <a:pt x="905" y="41"/>
                    </a:lnTo>
                    <a:lnTo>
                      <a:pt x="889" y="57"/>
                    </a:lnTo>
                    <a:lnTo>
                      <a:pt x="869" y="57"/>
                    </a:lnTo>
                    <a:lnTo>
                      <a:pt x="596" y="0"/>
                    </a:lnTo>
                    <a:lnTo>
                      <a:pt x="3576" y="0"/>
                    </a:lnTo>
                    <a:lnTo>
                      <a:pt x="3597" y="57"/>
                    </a:lnTo>
                    <a:close/>
                    <a:moveTo>
                      <a:pt x="113" y="57"/>
                    </a:moveTo>
                    <a:lnTo>
                      <a:pt x="0" y="57"/>
                    </a:lnTo>
                    <a:lnTo>
                      <a:pt x="17" y="41"/>
                    </a:lnTo>
                    <a:lnTo>
                      <a:pt x="11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4581360" y="428292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29" h="58">
                    <a:moveTo>
                      <a:pt x="3129" y="58"/>
                    </a:moveTo>
                    <a:lnTo>
                      <a:pt x="274" y="58"/>
                    </a:lnTo>
                    <a:lnTo>
                      <a:pt x="0" y="0"/>
                    </a:lnTo>
                    <a:lnTo>
                      <a:pt x="3108" y="0"/>
                    </a:lnTo>
                    <a:lnTo>
                      <a:pt x="3111" y="10"/>
                    </a:lnTo>
                    <a:lnTo>
                      <a:pt x="3129" y="58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4564080" y="4273560"/>
                <a:ext cx="1008000" cy="19080"/>
              </a:xfrm>
              <a:custGeom>
                <a:avLst/>
                <a:gdLst/>
                <a:ahLst/>
                <a:rect l="l" t="t" r="r" b="b"/>
                <a:pathLst>
                  <a:path w="3175" h="57">
                    <a:moveTo>
                      <a:pt x="3175" y="57"/>
                    </a:moveTo>
                    <a:lnTo>
                      <a:pt x="195" y="57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3154" y="0"/>
                    </a:lnTo>
                    <a:lnTo>
                      <a:pt x="3168" y="38"/>
                    </a:lnTo>
                    <a:lnTo>
                      <a:pt x="317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4564080" y="4265640"/>
                <a:ext cx="1004760" cy="17280"/>
              </a:xfrm>
              <a:custGeom>
                <a:avLst/>
                <a:gdLst/>
                <a:ahLst/>
                <a:rect l="l" t="t" r="r" b="b"/>
                <a:pathLst>
                  <a:path w="3165" h="57">
                    <a:moveTo>
                      <a:pt x="3165" y="57"/>
                    </a:moveTo>
                    <a:lnTo>
                      <a:pt x="57" y="57"/>
                    </a:lnTo>
                    <a:lnTo>
                      <a:pt x="0" y="45"/>
                    </a:lnTo>
                    <a:lnTo>
                      <a:pt x="4" y="0"/>
                    </a:lnTo>
                    <a:lnTo>
                      <a:pt x="3144" y="0"/>
                    </a:lnTo>
                    <a:lnTo>
                      <a:pt x="316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4564080" y="4255920"/>
                <a:ext cx="1001520" cy="17640"/>
              </a:xfrm>
              <a:custGeom>
                <a:avLst/>
                <a:gdLst/>
                <a:ahLst/>
                <a:rect l="l" t="t" r="r" b="b"/>
                <a:pathLst>
                  <a:path w="3152" h="57">
                    <a:moveTo>
                      <a:pt x="3152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30" y="0"/>
                    </a:lnTo>
                    <a:lnTo>
                      <a:pt x="3152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4565520" y="4246560"/>
                <a:ext cx="997200" cy="19080"/>
              </a:xfrm>
              <a:custGeom>
                <a:avLst/>
                <a:gdLst/>
                <a:ahLst/>
                <a:rect l="l" t="t" r="r" b="b"/>
                <a:pathLst>
                  <a:path w="3140" h="57">
                    <a:moveTo>
                      <a:pt x="3140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3117" y="0"/>
                    </a:lnTo>
                    <a:lnTo>
                      <a:pt x="3140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4565520" y="4238640"/>
                <a:ext cx="992160" cy="17280"/>
              </a:xfrm>
              <a:custGeom>
                <a:avLst/>
                <a:gdLst/>
                <a:ahLst/>
                <a:rect l="l" t="t" r="r" b="b"/>
                <a:pathLst>
                  <a:path w="3125" h="57">
                    <a:moveTo>
                      <a:pt x="3125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04" y="0"/>
                    </a:lnTo>
                    <a:lnTo>
                      <a:pt x="3125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4567320" y="4229280"/>
                <a:ext cx="987480" cy="17280"/>
              </a:xfrm>
              <a:custGeom>
                <a:avLst/>
                <a:gdLst/>
                <a:ahLst/>
                <a:rect l="l" t="t" r="r" b="b"/>
                <a:pathLst>
                  <a:path w="3111" h="57">
                    <a:moveTo>
                      <a:pt x="3111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090" y="0"/>
                    </a:lnTo>
                    <a:lnTo>
                      <a:pt x="3111" y="57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4567320" y="4219560"/>
                <a:ext cx="984240" cy="19080"/>
              </a:xfrm>
              <a:custGeom>
                <a:avLst/>
                <a:gdLst/>
                <a:ahLst/>
                <a:rect l="l" t="t" r="r" b="b"/>
                <a:pathLst>
                  <a:path w="3099" h="58">
                    <a:moveTo>
                      <a:pt x="3099" y="58"/>
                    </a:moveTo>
                    <a:lnTo>
                      <a:pt x="0" y="58"/>
                    </a:lnTo>
                    <a:lnTo>
                      <a:pt x="6" y="0"/>
                    </a:lnTo>
                    <a:lnTo>
                      <a:pt x="3077" y="0"/>
                    </a:lnTo>
                    <a:lnTo>
                      <a:pt x="3099" y="58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4568760" y="4210200"/>
                <a:ext cx="979560" cy="19080"/>
              </a:xfrm>
              <a:custGeom>
                <a:avLst/>
                <a:gdLst/>
                <a:ahLst/>
                <a:rect l="l" t="t" r="r" b="b"/>
                <a:pathLst>
                  <a:path w="3085" h="57">
                    <a:moveTo>
                      <a:pt x="3085" y="57"/>
                    </a:moveTo>
                    <a:lnTo>
                      <a:pt x="0" y="57"/>
                    </a:lnTo>
                    <a:lnTo>
                      <a:pt x="4" y="15"/>
                    </a:lnTo>
                    <a:lnTo>
                      <a:pt x="4" y="0"/>
                    </a:lnTo>
                    <a:lnTo>
                      <a:pt x="3063" y="0"/>
                    </a:lnTo>
                    <a:lnTo>
                      <a:pt x="3085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4570560" y="4202280"/>
                <a:ext cx="974520" cy="17280"/>
              </a:xfrm>
              <a:custGeom>
                <a:avLst/>
                <a:gdLst/>
                <a:ahLst/>
                <a:rect l="l" t="t" r="r" b="b"/>
                <a:pathLst>
                  <a:path w="3071" h="57">
                    <a:moveTo>
                      <a:pt x="3071" y="57"/>
                    </a:moveTo>
                    <a:lnTo>
                      <a:pt x="0" y="57"/>
                    </a:lnTo>
                    <a:lnTo>
                      <a:pt x="1" y="44"/>
                    </a:lnTo>
                    <a:lnTo>
                      <a:pt x="1" y="0"/>
                    </a:lnTo>
                    <a:lnTo>
                      <a:pt x="3049" y="0"/>
                    </a:lnTo>
                    <a:lnTo>
                      <a:pt x="3050" y="3"/>
                    </a:lnTo>
                    <a:lnTo>
                      <a:pt x="3071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4570560" y="4192560"/>
                <a:ext cx="971280" cy="17640"/>
              </a:xfrm>
              <a:custGeom>
                <a:avLst/>
                <a:gdLst/>
                <a:ahLst/>
                <a:rect l="l" t="t" r="r" b="b"/>
                <a:pathLst>
                  <a:path w="3059" h="57">
                    <a:moveTo>
                      <a:pt x="305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3049" y="31"/>
                    </a:lnTo>
                    <a:lnTo>
                      <a:pt x="3059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4570560" y="4183200"/>
                <a:ext cx="966600" cy="19080"/>
              </a:xfrm>
              <a:custGeom>
                <a:avLst/>
                <a:gdLst/>
                <a:ahLst/>
                <a:rect l="l" t="t" r="r" b="b"/>
                <a:pathLst>
                  <a:path w="3048" h="56">
                    <a:moveTo>
                      <a:pt x="3048" y="56"/>
                    </a:moveTo>
                    <a:lnTo>
                      <a:pt x="0" y="56"/>
                    </a:lnTo>
                    <a:lnTo>
                      <a:pt x="0" y="0"/>
                    </a:lnTo>
                    <a:lnTo>
                      <a:pt x="3029" y="0"/>
                    </a:lnTo>
                    <a:lnTo>
                      <a:pt x="3048" y="56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4057560" y="4175280"/>
                <a:ext cx="1478160" cy="17280"/>
              </a:xfrm>
              <a:custGeom>
                <a:avLst/>
                <a:gdLst/>
                <a:ahLst/>
                <a:rect l="l" t="t" r="r" b="b"/>
                <a:pathLst>
                  <a:path w="4652" h="56">
                    <a:moveTo>
                      <a:pt x="4652" y="56"/>
                    </a:moveTo>
                    <a:lnTo>
                      <a:pt x="1613" y="56"/>
                    </a:lnTo>
                    <a:lnTo>
                      <a:pt x="1613" y="0"/>
                    </a:lnTo>
                    <a:lnTo>
                      <a:pt x="4632" y="0"/>
                    </a:lnTo>
                    <a:lnTo>
                      <a:pt x="4652" y="56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4037040" y="4165560"/>
                <a:ext cx="1495440" cy="17640"/>
              </a:xfrm>
              <a:custGeom>
                <a:avLst/>
                <a:gdLst/>
                <a:ahLst/>
                <a:rect l="l" t="t" r="r" b="b"/>
                <a:pathLst>
                  <a:path w="4710" h="57">
                    <a:moveTo>
                      <a:pt x="4710" y="57"/>
                    </a:moveTo>
                    <a:lnTo>
                      <a:pt x="1681" y="57"/>
                    </a:lnTo>
                    <a:lnTo>
                      <a:pt x="1681" y="0"/>
                    </a:lnTo>
                    <a:lnTo>
                      <a:pt x="4690" y="0"/>
                    </a:lnTo>
                    <a:lnTo>
                      <a:pt x="4710" y="57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8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4014720" y="4156200"/>
                <a:ext cx="1514520" cy="19080"/>
              </a:xfrm>
              <a:custGeom>
                <a:avLst/>
                <a:gdLst/>
                <a:ahLst/>
                <a:rect l="l" t="t" r="r" b="b"/>
                <a:pathLst>
                  <a:path w="4767" h="58">
                    <a:moveTo>
                      <a:pt x="4767" y="58"/>
                    </a:moveTo>
                    <a:lnTo>
                      <a:pt x="1748" y="58"/>
                    </a:lnTo>
                    <a:lnTo>
                      <a:pt x="1748" y="0"/>
                    </a:lnTo>
                    <a:lnTo>
                      <a:pt x="4748" y="0"/>
                    </a:lnTo>
                    <a:lnTo>
                      <a:pt x="4767" y="58"/>
                    </a:lnTo>
                    <a:close/>
                    <a:moveTo>
                      <a:pt x="164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164" y="58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3994200" y="4148280"/>
                <a:ext cx="1531800" cy="17280"/>
              </a:xfrm>
              <a:custGeom>
                <a:avLst/>
                <a:gdLst/>
                <a:ahLst/>
                <a:rect l="l" t="t" r="r" b="b"/>
                <a:pathLst>
                  <a:path w="4825" h="57">
                    <a:moveTo>
                      <a:pt x="4825" y="57"/>
                    </a:moveTo>
                    <a:lnTo>
                      <a:pt x="1816" y="57"/>
                    </a:lnTo>
                    <a:lnTo>
                      <a:pt x="1816" y="0"/>
                    </a:lnTo>
                    <a:lnTo>
                      <a:pt x="4807" y="0"/>
                    </a:lnTo>
                    <a:lnTo>
                      <a:pt x="4825" y="57"/>
                    </a:lnTo>
                    <a:close/>
                    <a:moveTo>
                      <a:pt x="261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261" y="57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971880" y="4138560"/>
                <a:ext cx="1550880" cy="17640"/>
              </a:xfrm>
              <a:custGeom>
                <a:avLst/>
                <a:gdLst/>
                <a:ahLst/>
                <a:rect l="l" t="t" r="r" b="b"/>
                <a:pathLst>
                  <a:path w="4883" h="57">
                    <a:moveTo>
                      <a:pt x="4883" y="57"/>
                    </a:moveTo>
                    <a:lnTo>
                      <a:pt x="1883" y="57"/>
                    </a:lnTo>
                    <a:lnTo>
                      <a:pt x="1883" y="22"/>
                    </a:lnTo>
                    <a:lnTo>
                      <a:pt x="1883" y="0"/>
                    </a:lnTo>
                    <a:lnTo>
                      <a:pt x="4864" y="0"/>
                    </a:lnTo>
                    <a:lnTo>
                      <a:pt x="4883" y="57"/>
                    </a:lnTo>
                    <a:close/>
                    <a:moveTo>
                      <a:pt x="357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357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951360" y="4129200"/>
                <a:ext cx="1568520" cy="19080"/>
              </a:xfrm>
              <a:custGeom>
                <a:avLst/>
                <a:gdLst/>
                <a:ahLst/>
                <a:rect l="l" t="t" r="r" b="b"/>
                <a:pathLst>
                  <a:path w="4941" h="57">
                    <a:moveTo>
                      <a:pt x="4941" y="57"/>
                    </a:moveTo>
                    <a:lnTo>
                      <a:pt x="1950" y="57"/>
                    </a:lnTo>
                    <a:lnTo>
                      <a:pt x="1950" y="50"/>
                    </a:lnTo>
                    <a:lnTo>
                      <a:pt x="1950" y="0"/>
                    </a:lnTo>
                    <a:lnTo>
                      <a:pt x="4921" y="0"/>
                    </a:lnTo>
                    <a:lnTo>
                      <a:pt x="4941" y="57"/>
                    </a:lnTo>
                    <a:close/>
                    <a:moveTo>
                      <a:pt x="454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454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3929040" y="4119480"/>
                <a:ext cx="1587600" cy="19080"/>
              </a:xfrm>
              <a:custGeom>
                <a:avLst/>
                <a:gdLst/>
                <a:ahLst/>
                <a:rect l="l" t="t" r="r" b="b"/>
                <a:pathLst>
                  <a:path w="4998" h="57">
                    <a:moveTo>
                      <a:pt x="4998" y="57"/>
                    </a:moveTo>
                    <a:lnTo>
                      <a:pt x="2017" y="57"/>
                    </a:lnTo>
                    <a:lnTo>
                      <a:pt x="2017" y="0"/>
                    </a:lnTo>
                    <a:lnTo>
                      <a:pt x="4976" y="0"/>
                    </a:lnTo>
                    <a:lnTo>
                      <a:pt x="4984" y="17"/>
                    </a:lnTo>
                    <a:lnTo>
                      <a:pt x="4998" y="57"/>
                    </a:lnTo>
                    <a:close/>
                    <a:moveTo>
                      <a:pt x="551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609" y="0"/>
                    </a:lnTo>
                    <a:lnTo>
                      <a:pt x="551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3908520" y="4111560"/>
                <a:ext cx="1604880" cy="17640"/>
              </a:xfrm>
              <a:custGeom>
                <a:avLst/>
                <a:gdLst/>
                <a:ahLst/>
                <a:rect l="l" t="t" r="r" b="b"/>
                <a:pathLst>
                  <a:path w="5055" h="57">
                    <a:moveTo>
                      <a:pt x="5055" y="57"/>
                    </a:moveTo>
                    <a:lnTo>
                      <a:pt x="2084" y="57"/>
                    </a:lnTo>
                    <a:lnTo>
                      <a:pt x="2084" y="0"/>
                    </a:lnTo>
                    <a:lnTo>
                      <a:pt x="5031" y="0"/>
                    </a:lnTo>
                    <a:lnTo>
                      <a:pt x="5051" y="45"/>
                    </a:lnTo>
                    <a:lnTo>
                      <a:pt x="5055" y="57"/>
                    </a:lnTo>
                    <a:close/>
                    <a:moveTo>
                      <a:pt x="646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46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886200" y="4102200"/>
                <a:ext cx="1623960" cy="17280"/>
              </a:xfrm>
              <a:custGeom>
                <a:avLst/>
                <a:gdLst/>
                <a:ahLst/>
                <a:rect l="l" t="t" r="r" b="b"/>
                <a:pathLst>
                  <a:path w="5111" h="57">
                    <a:moveTo>
                      <a:pt x="5111" y="57"/>
                    </a:moveTo>
                    <a:lnTo>
                      <a:pt x="2152" y="57"/>
                    </a:lnTo>
                    <a:lnTo>
                      <a:pt x="2152" y="0"/>
                    </a:lnTo>
                    <a:lnTo>
                      <a:pt x="5086" y="0"/>
                    </a:lnTo>
                    <a:lnTo>
                      <a:pt x="5111" y="57"/>
                    </a:lnTo>
                    <a:close/>
                    <a:moveTo>
                      <a:pt x="744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803" y="0"/>
                    </a:lnTo>
                    <a:lnTo>
                      <a:pt x="744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3865680" y="4092480"/>
                <a:ext cx="1639800" cy="19080"/>
              </a:xfrm>
              <a:custGeom>
                <a:avLst/>
                <a:gdLst/>
                <a:ahLst/>
                <a:rect l="l" t="t" r="r" b="b"/>
                <a:pathLst>
                  <a:path w="5166" h="58">
                    <a:moveTo>
                      <a:pt x="5166" y="58"/>
                    </a:moveTo>
                    <a:lnTo>
                      <a:pt x="2219" y="58"/>
                    </a:lnTo>
                    <a:lnTo>
                      <a:pt x="2219" y="0"/>
                    </a:lnTo>
                    <a:lnTo>
                      <a:pt x="5139" y="0"/>
                    </a:lnTo>
                    <a:lnTo>
                      <a:pt x="5166" y="58"/>
                    </a:lnTo>
                    <a:close/>
                    <a:moveTo>
                      <a:pt x="840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40" y="58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3541680" y="4084560"/>
                <a:ext cx="1960560" cy="17640"/>
              </a:xfrm>
              <a:custGeom>
                <a:avLst/>
                <a:gdLst/>
                <a:ahLst/>
                <a:rect l="l" t="t" r="r" b="b"/>
                <a:pathLst>
                  <a:path w="6174" h="57">
                    <a:moveTo>
                      <a:pt x="6174" y="57"/>
                    </a:moveTo>
                    <a:lnTo>
                      <a:pt x="3240" y="57"/>
                    </a:lnTo>
                    <a:lnTo>
                      <a:pt x="3240" y="0"/>
                    </a:lnTo>
                    <a:lnTo>
                      <a:pt x="6147" y="0"/>
                    </a:lnTo>
                    <a:lnTo>
                      <a:pt x="6174" y="57"/>
                    </a:lnTo>
                    <a:close/>
                    <a:moveTo>
                      <a:pt x="1891" y="57"/>
                    </a:moveTo>
                    <a:lnTo>
                      <a:pt x="1088" y="57"/>
                    </a:lnTo>
                    <a:lnTo>
                      <a:pt x="954" y="0"/>
                    </a:lnTo>
                    <a:lnTo>
                      <a:pt x="1949" y="0"/>
                    </a:lnTo>
                    <a:lnTo>
                      <a:pt x="1891" y="57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31" y="11"/>
                    </a:lnTo>
                    <a:lnTo>
                      <a:pt x="1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3532320" y="4075200"/>
                <a:ext cx="1965240" cy="17280"/>
              </a:xfrm>
              <a:custGeom>
                <a:avLst/>
                <a:gdLst/>
                <a:ahLst/>
                <a:rect l="l" t="t" r="r" b="b"/>
                <a:pathLst>
                  <a:path w="6189" h="57">
                    <a:moveTo>
                      <a:pt x="6189" y="57"/>
                    </a:moveTo>
                    <a:lnTo>
                      <a:pt x="3269" y="57"/>
                    </a:lnTo>
                    <a:lnTo>
                      <a:pt x="3269" y="0"/>
                    </a:lnTo>
                    <a:lnTo>
                      <a:pt x="6163" y="0"/>
                    </a:lnTo>
                    <a:lnTo>
                      <a:pt x="6189" y="57"/>
                    </a:lnTo>
                    <a:close/>
                    <a:moveTo>
                      <a:pt x="1949" y="57"/>
                    </a:moveTo>
                    <a:lnTo>
                      <a:pt x="1050" y="57"/>
                    </a:lnTo>
                    <a:lnTo>
                      <a:pt x="915" y="0"/>
                    </a:lnTo>
                    <a:lnTo>
                      <a:pt x="2008" y="0"/>
                    </a:lnTo>
                    <a:lnTo>
                      <a:pt x="1949" y="57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21"/>
                    </a:lnTo>
                    <a:lnTo>
                      <a:pt x="60" y="40"/>
                    </a:lnTo>
                    <a:lnTo>
                      <a:pt x="4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3522600" y="4065480"/>
                <a:ext cx="1970280" cy="19080"/>
              </a:xfrm>
              <a:custGeom>
                <a:avLst/>
                <a:gdLst/>
                <a:ahLst/>
                <a:rect l="l" t="t" r="r" b="b"/>
                <a:pathLst>
                  <a:path w="6204" h="57">
                    <a:moveTo>
                      <a:pt x="6204" y="57"/>
                    </a:moveTo>
                    <a:lnTo>
                      <a:pt x="3297" y="57"/>
                    </a:lnTo>
                    <a:lnTo>
                      <a:pt x="3297" y="27"/>
                    </a:lnTo>
                    <a:lnTo>
                      <a:pt x="3294" y="0"/>
                    </a:lnTo>
                    <a:lnTo>
                      <a:pt x="6178" y="0"/>
                    </a:lnTo>
                    <a:lnTo>
                      <a:pt x="6204" y="57"/>
                    </a:lnTo>
                    <a:close/>
                    <a:moveTo>
                      <a:pt x="2006" y="57"/>
                    </a:moveTo>
                    <a:lnTo>
                      <a:pt x="1011" y="57"/>
                    </a:lnTo>
                    <a:lnTo>
                      <a:pt x="895" y="8"/>
                    </a:lnTo>
                    <a:lnTo>
                      <a:pt x="887" y="0"/>
                    </a:lnTo>
                    <a:lnTo>
                      <a:pt x="2065" y="0"/>
                    </a:lnTo>
                    <a:lnTo>
                      <a:pt x="2006" y="57"/>
                    </a:lnTo>
                    <a:close/>
                    <a:moveTo>
                      <a:pt x="100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149" y="27"/>
                    </a:lnTo>
                    <a:lnTo>
                      <a:pt x="128" y="27"/>
                    </a:lnTo>
                    <a:lnTo>
                      <a:pt x="109" y="27"/>
                    </a:lnTo>
                    <a:lnTo>
                      <a:pt x="109" y="49"/>
                    </a:lnTo>
                    <a:lnTo>
                      <a:pt x="100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3514680" y="4056120"/>
                <a:ext cx="1974960" cy="19080"/>
              </a:xfrm>
              <a:custGeom>
                <a:avLst/>
                <a:gdLst/>
                <a:ahLst/>
                <a:rect l="l" t="t" r="r" b="b"/>
                <a:pathLst>
                  <a:path w="6220" h="57">
                    <a:moveTo>
                      <a:pt x="6220" y="57"/>
                    </a:moveTo>
                    <a:lnTo>
                      <a:pt x="3326" y="57"/>
                    </a:lnTo>
                    <a:lnTo>
                      <a:pt x="3326" y="56"/>
                    </a:lnTo>
                    <a:lnTo>
                      <a:pt x="3321" y="0"/>
                    </a:lnTo>
                    <a:lnTo>
                      <a:pt x="6194" y="0"/>
                    </a:lnTo>
                    <a:lnTo>
                      <a:pt x="6220" y="57"/>
                    </a:lnTo>
                    <a:close/>
                    <a:moveTo>
                      <a:pt x="2065" y="57"/>
                    </a:moveTo>
                    <a:lnTo>
                      <a:pt x="972" y="57"/>
                    </a:lnTo>
                    <a:lnTo>
                      <a:pt x="924" y="37"/>
                    </a:lnTo>
                    <a:lnTo>
                      <a:pt x="888" y="0"/>
                    </a:lnTo>
                    <a:lnTo>
                      <a:pt x="2123" y="0"/>
                    </a:lnTo>
                    <a:lnTo>
                      <a:pt x="2065" y="57"/>
                    </a:lnTo>
                    <a:close/>
                    <a:moveTo>
                      <a:pt x="138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97" y="0"/>
                    </a:lnTo>
                    <a:lnTo>
                      <a:pt x="197" y="15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3505320" y="4048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5" h="58">
                    <a:moveTo>
                      <a:pt x="6235" y="58"/>
                    </a:moveTo>
                    <a:lnTo>
                      <a:pt x="3351" y="58"/>
                    </a:lnTo>
                    <a:lnTo>
                      <a:pt x="3346" y="0"/>
                    </a:lnTo>
                    <a:lnTo>
                      <a:pt x="6209" y="0"/>
                    </a:lnTo>
                    <a:lnTo>
                      <a:pt x="6235" y="58"/>
                    </a:lnTo>
                    <a:close/>
                    <a:moveTo>
                      <a:pt x="2122" y="58"/>
                    </a:moveTo>
                    <a:lnTo>
                      <a:pt x="944" y="58"/>
                    </a:lnTo>
                    <a:lnTo>
                      <a:pt x="911" y="25"/>
                    </a:lnTo>
                    <a:lnTo>
                      <a:pt x="911" y="0"/>
                    </a:lnTo>
                    <a:lnTo>
                      <a:pt x="2181" y="0"/>
                    </a:lnTo>
                    <a:lnTo>
                      <a:pt x="2122" y="58"/>
                    </a:lnTo>
                    <a:close/>
                    <a:moveTo>
                      <a:pt x="219" y="58"/>
                    </a:moveTo>
                    <a:lnTo>
                      <a:pt x="57" y="58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25" y="6"/>
                    </a:lnTo>
                    <a:lnTo>
                      <a:pt x="225" y="44"/>
                    </a:lnTo>
                    <a:lnTo>
                      <a:pt x="219" y="58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3495600" y="4038480"/>
                <a:ext cx="1984320" cy="17640"/>
              </a:xfrm>
              <a:custGeom>
                <a:avLst/>
                <a:gdLst/>
                <a:ahLst/>
                <a:rect l="l" t="t" r="r" b="b"/>
                <a:pathLst>
                  <a:path w="6251" h="57">
                    <a:moveTo>
                      <a:pt x="6251" y="57"/>
                    </a:moveTo>
                    <a:lnTo>
                      <a:pt x="3378" y="57"/>
                    </a:lnTo>
                    <a:lnTo>
                      <a:pt x="3372" y="0"/>
                    </a:lnTo>
                    <a:lnTo>
                      <a:pt x="6222" y="0"/>
                    </a:lnTo>
                    <a:lnTo>
                      <a:pt x="6230" y="12"/>
                    </a:lnTo>
                    <a:lnTo>
                      <a:pt x="6251" y="57"/>
                    </a:lnTo>
                    <a:close/>
                    <a:moveTo>
                      <a:pt x="2180" y="57"/>
                    </a:moveTo>
                    <a:lnTo>
                      <a:pt x="945" y="57"/>
                    </a:lnTo>
                    <a:lnTo>
                      <a:pt x="940" y="53"/>
                    </a:lnTo>
                    <a:lnTo>
                      <a:pt x="940" y="12"/>
                    </a:lnTo>
                    <a:lnTo>
                      <a:pt x="940" y="0"/>
                    </a:lnTo>
                    <a:lnTo>
                      <a:pt x="2239" y="0"/>
                    </a:lnTo>
                    <a:lnTo>
                      <a:pt x="2180" y="57"/>
                    </a:lnTo>
                    <a:close/>
                    <a:moveTo>
                      <a:pt x="254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322" y="0"/>
                    </a:lnTo>
                    <a:lnTo>
                      <a:pt x="254" y="34"/>
                    </a:lnTo>
                    <a:lnTo>
                      <a:pt x="254" y="57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3486240" y="4029120"/>
                <a:ext cx="1990800" cy="19080"/>
              </a:xfrm>
              <a:custGeom>
                <a:avLst/>
                <a:gdLst/>
                <a:ahLst/>
                <a:rect l="l" t="t" r="r" b="b"/>
                <a:pathLst>
                  <a:path w="6267" h="57">
                    <a:moveTo>
                      <a:pt x="6267" y="57"/>
                    </a:moveTo>
                    <a:lnTo>
                      <a:pt x="3404" y="57"/>
                    </a:lnTo>
                    <a:lnTo>
                      <a:pt x="3399" y="0"/>
                    </a:lnTo>
                    <a:lnTo>
                      <a:pt x="6232" y="0"/>
                    </a:lnTo>
                    <a:lnTo>
                      <a:pt x="6259" y="41"/>
                    </a:lnTo>
                    <a:lnTo>
                      <a:pt x="6267" y="57"/>
                    </a:lnTo>
                    <a:close/>
                    <a:moveTo>
                      <a:pt x="2239" y="57"/>
                    </a:moveTo>
                    <a:lnTo>
                      <a:pt x="969" y="57"/>
                    </a:lnTo>
                    <a:lnTo>
                      <a:pt x="969" y="41"/>
                    </a:lnTo>
                    <a:lnTo>
                      <a:pt x="969" y="1"/>
                    </a:lnTo>
                    <a:lnTo>
                      <a:pt x="969" y="0"/>
                    </a:lnTo>
                    <a:lnTo>
                      <a:pt x="2298" y="0"/>
                    </a:lnTo>
                    <a:lnTo>
                      <a:pt x="2239" y="57"/>
                    </a:lnTo>
                    <a:close/>
                    <a:moveTo>
                      <a:pt x="293" y="57"/>
                    </a:moveTo>
                    <a:lnTo>
                      <a:pt x="58" y="57"/>
                    </a:lnTo>
                    <a:lnTo>
                      <a:pt x="0" y="0"/>
                    </a:lnTo>
                    <a:lnTo>
                      <a:pt x="407" y="0"/>
                    </a:lnTo>
                    <a:lnTo>
                      <a:pt x="293" y="57"/>
                    </a:lnTo>
                    <a:close/>
                    <a:moveTo>
                      <a:pt x="485" y="0"/>
                    </a:moveTo>
                    <a:lnTo>
                      <a:pt x="649" y="0"/>
                    </a:lnTo>
                    <a:lnTo>
                      <a:pt x="648" y="1"/>
                    </a:lnTo>
                    <a:lnTo>
                      <a:pt x="546" y="1"/>
                    </a:lnTo>
                    <a:lnTo>
                      <a:pt x="485" y="1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3478320" y="4021200"/>
                <a:ext cx="1993680" cy="17280"/>
              </a:xfrm>
              <a:custGeom>
                <a:avLst/>
                <a:gdLst/>
                <a:ahLst/>
                <a:rect l="l" t="t" r="r" b="b"/>
                <a:pathLst>
                  <a:path w="6279" h="56">
                    <a:moveTo>
                      <a:pt x="6279" y="56"/>
                    </a:moveTo>
                    <a:lnTo>
                      <a:pt x="3429" y="56"/>
                    </a:lnTo>
                    <a:lnTo>
                      <a:pt x="3424" y="0"/>
                    </a:lnTo>
                    <a:lnTo>
                      <a:pt x="3737" y="0"/>
                    </a:lnTo>
                    <a:lnTo>
                      <a:pt x="3764" y="9"/>
                    </a:lnTo>
                    <a:lnTo>
                      <a:pt x="3805" y="9"/>
                    </a:lnTo>
                    <a:lnTo>
                      <a:pt x="3848" y="0"/>
                    </a:lnTo>
                    <a:lnTo>
                      <a:pt x="6241" y="0"/>
                    </a:lnTo>
                    <a:lnTo>
                      <a:pt x="6279" y="56"/>
                    </a:lnTo>
                    <a:close/>
                    <a:moveTo>
                      <a:pt x="2296" y="56"/>
                    </a:moveTo>
                    <a:lnTo>
                      <a:pt x="997" y="56"/>
                    </a:lnTo>
                    <a:lnTo>
                      <a:pt x="997" y="28"/>
                    </a:lnTo>
                    <a:lnTo>
                      <a:pt x="901" y="0"/>
                    </a:lnTo>
                    <a:lnTo>
                      <a:pt x="2355" y="0"/>
                    </a:lnTo>
                    <a:lnTo>
                      <a:pt x="2296" y="56"/>
                    </a:lnTo>
                    <a:close/>
                    <a:moveTo>
                      <a:pt x="379" y="56"/>
                    </a:moveTo>
                    <a:lnTo>
                      <a:pt x="57" y="56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676" y="28"/>
                    </a:lnTo>
                    <a:lnTo>
                      <a:pt x="574" y="28"/>
                    </a:lnTo>
                    <a:lnTo>
                      <a:pt x="513" y="28"/>
                    </a:lnTo>
                    <a:lnTo>
                      <a:pt x="473" y="9"/>
                    </a:lnTo>
                    <a:lnTo>
                      <a:pt x="37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3473280" y="4011480"/>
                <a:ext cx="1992600" cy="17640"/>
              </a:xfrm>
              <a:custGeom>
                <a:avLst/>
                <a:gdLst/>
                <a:ahLst/>
                <a:rect l="l" t="t" r="r" b="b"/>
                <a:pathLst>
                  <a:path w="6272" h="56">
                    <a:moveTo>
                      <a:pt x="6272" y="56"/>
                    </a:moveTo>
                    <a:lnTo>
                      <a:pt x="3439" y="56"/>
                    </a:lnTo>
                    <a:lnTo>
                      <a:pt x="3433" y="0"/>
                    </a:lnTo>
                    <a:lnTo>
                      <a:pt x="3698" y="0"/>
                    </a:lnTo>
                    <a:lnTo>
                      <a:pt x="3715" y="17"/>
                    </a:lnTo>
                    <a:lnTo>
                      <a:pt x="3776" y="38"/>
                    </a:lnTo>
                    <a:lnTo>
                      <a:pt x="3817" y="38"/>
                    </a:lnTo>
                    <a:lnTo>
                      <a:pt x="3918" y="17"/>
                    </a:lnTo>
                    <a:lnTo>
                      <a:pt x="3899" y="0"/>
                    </a:lnTo>
                    <a:lnTo>
                      <a:pt x="6234" y="0"/>
                    </a:lnTo>
                    <a:lnTo>
                      <a:pt x="6272" y="56"/>
                    </a:lnTo>
                    <a:close/>
                    <a:moveTo>
                      <a:pt x="2338" y="56"/>
                    </a:moveTo>
                    <a:lnTo>
                      <a:pt x="1009" y="56"/>
                    </a:lnTo>
                    <a:lnTo>
                      <a:pt x="817" y="0"/>
                    </a:lnTo>
                    <a:lnTo>
                      <a:pt x="2396" y="0"/>
                    </a:lnTo>
                    <a:lnTo>
                      <a:pt x="2338" y="56"/>
                    </a:lnTo>
                    <a:close/>
                    <a:moveTo>
                      <a:pt x="689" y="56"/>
                    </a:moveTo>
                    <a:lnTo>
                      <a:pt x="525" y="56"/>
                    </a:lnTo>
                    <a:lnTo>
                      <a:pt x="485" y="38"/>
                    </a:lnTo>
                    <a:lnTo>
                      <a:pt x="447" y="56"/>
                    </a:lnTo>
                    <a:lnTo>
                      <a:pt x="40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67" y="17"/>
                    </a:lnTo>
                    <a:lnTo>
                      <a:pt x="68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3473280" y="4002120"/>
                <a:ext cx="1986120" cy="19080"/>
              </a:xfrm>
              <a:custGeom>
                <a:avLst/>
                <a:gdLst/>
                <a:ahLst/>
                <a:rect l="l" t="t" r="r" b="b"/>
                <a:pathLst>
                  <a:path w="6253" h="57">
                    <a:moveTo>
                      <a:pt x="6253" y="57"/>
                    </a:moveTo>
                    <a:lnTo>
                      <a:pt x="3860" y="57"/>
                    </a:lnTo>
                    <a:lnTo>
                      <a:pt x="3918" y="45"/>
                    </a:lnTo>
                    <a:lnTo>
                      <a:pt x="3896" y="25"/>
                    </a:lnTo>
                    <a:lnTo>
                      <a:pt x="3896" y="6"/>
                    </a:lnTo>
                    <a:lnTo>
                      <a:pt x="3900" y="0"/>
                    </a:lnTo>
                    <a:lnTo>
                      <a:pt x="6214" y="0"/>
                    </a:lnTo>
                    <a:lnTo>
                      <a:pt x="6253" y="57"/>
                    </a:lnTo>
                    <a:close/>
                    <a:moveTo>
                      <a:pt x="3749" y="57"/>
                    </a:moveTo>
                    <a:lnTo>
                      <a:pt x="3436" y="57"/>
                    </a:lnTo>
                    <a:lnTo>
                      <a:pt x="3433" y="25"/>
                    </a:lnTo>
                    <a:lnTo>
                      <a:pt x="3512" y="6"/>
                    </a:lnTo>
                    <a:lnTo>
                      <a:pt x="3594" y="6"/>
                    </a:lnTo>
                    <a:lnTo>
                      <a:pt x="3675" y="6"/>
                    </a:lnTo>
                    <a:lnTo>
                      <a:pt x="3715" y="45"/>
                    </a:lnTo>
                    <a:lnTo>
                      <a:pt x="3749" y="57"/>
                    </a:lnTo>
                    <a:close/>
                    <a:moveTo>
                      <a:pt x="2367" y="57"/>
                    </a:moveTo>
                    <a:lnTo>
                      <a:pt x="913" y="57"/>
                    </a:lnTo>
                    <a:lnTo>
                      <a:pt x="808" y="25"/>
                    </a:lnTo>
                    <a:lnTo>
                      <a:pt x="767" y="45"/>
                    </a:lnTo>
                    <a:lnTo>
                      <a:pt x="744" y="57"/>
                    </a:lnTo>
                    <a:lnTo>
                      <a:pt x="12" y="57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426" y="0"/>
                    </a:lnTo>
                    <a:lnTo>
                      <a:pt x="2367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3473280" y="3994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4" h="57">
                    <a:moveTo>
                      <a:pt x="6234" y="57"/>
                    </a:moveTo>
                    <a:lnTo>
                      <a:pt x="3899" y="57"/>
                    </a:lnTo>
                    <a:lnTo>
                      <a:pt x="3896" y="54"/>
                    </a:lnTo>
                    <a:lnTo>
                      <a:pt x="3896" y="35"/>
                    </a:lnTo>
                    <a:lnTo>
                      <a:pt x="3919" y="0"/>
                    </a:lnTo>
                    <a:lnTo>
                      <a:pt x="6196" y="0"/>
                    </a:lnTo>
                    <a:lnTo>
                      <a:pt x="6234" y="57"/>
                    </a:lnTo>
                    <a:close/>
                    <a:moveTo>
                      <a:pt x="3698" y="57"/>
                    </a:moveTo>
                    <a:lnTo>
                      <a:pt x="3433" y="57"/>
                    </a:lnTo>
                    <a:lnTo>
                      <a:pt x="3433" y="54"/>
                    </a:lnTo>
                    <a:lnTo>
                      <a:pt x="3512" y="35"/>
                    </a:lnTo>
                    <a:lnTo>
                      <a:pt x="3594" y="35"/>
                    </a:lnTo>
                    <a:lnTo>
                      <a:pt x="3675" y="35"/>
                    </a:lnTo>
                    <a:lnTo>
                      <a:pt x="3698" y="57"/>
                    </a:lnTo>
                    <a:close/>
                    <a:moveTo>
                      <a:pt x="2396" y="57"/>
                    </a:moveTo>
                    <a:lnTo>
                      <a:pt x="817" y="57"/>
                    </a:lnTo>
                    <a:lnTo>
                      <a:pt x="808" y="54"/>
                    </a:lnTo>
                    <a:lnTo>
                      <a:pt x="802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455" y="0"/>
                    </a:lnTo>
                    <a:lnTo>
                      <a:pt x="2396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3473280" y="3984480"/>
                <a:ext cx="1973520" cy="17640"/>
              </a:xfrm>
              <a:custGeom>
                <a:avLst/>
                <a:gdLst/>
                <a:ahLst/>
                <a:rect l="l" t="t" r="r" b="b"/>
                <a:pathLst>
                  <a:path w="6214" h="58">
                    <a:moveTo>
                      <a:pt x="6214" y="58"/>
                    </a:moveTo>
                    <a:lnTo>
                      <a:pt x="3900" y="58"/>
                    </a:lnTo>
                    <a:lnTo>
                      <a:pt x="3937" y="1"/>
                    </a:lnTo>
                    <a:lnTo>
                      <a:pt x="3933" y="0"/>
                    </a:lnTo>
                    <a:lnTo>
                      <a:pt x="6176" y="0"/>
                    </a:lnTo>
                    <a:lnTo>
                      <a:pt x="6177" y="1"/>
                    </a:lnTo>
                    <a:lnTo>
                      <a:pt x="6214" y="58"/>
                    </a:lnTo>
                    <a:close/>
                    <a:moveTo>
                      <a:pt x="2426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484" y="0"/>
                    </a:lnTo>
                    <a:lnTo>
                      <a:pt x="2426" y="58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3473280" y="3975120"/>
                <a:ext cx="1968840" cy="19080"/>
              </a:xfrm>
              <a:custGeom>
                <a:avLst/>
                <a:gdLst/>
                <a:ahLst/>
                <a:rect l="l" t="t" r="r" b="b"/>
                <a:pathLst>
                  <a:path w="6196" h="57">
                    <a:moveTo>
                      <a:pt x="6196" y="57"/>
                    </a:moveTo>
                    <a:lnTo>
                      <a:pt x="3919" y="57"/>
                    </a:lnTo>
                    <a:lnTo>
                      <a:pt x="3937" y="29"/>
                    </a:lnTo>
                    <a:lnTo>
                      <a:pt x="3877" y="10"/>
                    </a:lnTo>
                    <a:lnTo>
                      <a:pt x="3872" y="0"/>
                    </a:lnTo>
                    <a:lnTo>
                      <a:pt x="6157" y="0"/>
                    </a:lnTo>
                    <a:lnTo>
                      <a:pt x="6177" y="29"/>
                    </a:lnTo>
                    <a:lnTo>
                      <a:pt x="6196" y="57"/>
                    </a:lnTo>
                    <a:close/>
                    <a:moveTo>
                      <a:pt x="2455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14" y="0"/>
                    </a:lnTo>
                    <a:lnTo>
                      <a:pt x="2455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3473280" y="3965400"/>
                <a:ext cx="1962360" cy="19080"/>
              </a:xfrm>
              <a:custGeom>
                <a:avLst/>
                <a:gdLst/>
                <a:ahLst/>
                <a:rect l="l" t="t" r="r" b="b"/>
                <a:pathLst>
                  <a:path w="6176" h="57">
                    <a:moveTo>
                      <a:pt x="6176" y="57"/>
                    </a:moveTo>
                    <a:lnTo>
                      <a:pt x="3933" y="57"/>
                    </a:lnTo>
                    <a:lnTo>
                      <a:pt x="3877" y="39"/>
                    </a:lnTo>
                    <a:lnTo>
                      <a:pt x="3858" y="0"/>
                    </a:lnTo>
                    <a:lnTo>
                      <a:pt x="6138" y="0"/>
                    </a:lnTo>
                    <a:lnTo>
                      <a:pt x="6176" y="57"/>
                    </a:lnTo>
                    <a:close/>
                    <a:moveTo>
                      <a:pt x="248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43" y="0"/>
                    </a:lnTo>
                    <a:lnTo>
                      <a:pt x="2484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473280" y="3957480"/>
                <a:ext cx="1955880" cy="17640"/>
              </a:xfrm>
              <a:custGeom>
                <a:avLst/>
                <a:gdLst/>
                <a:ahLst/>
                <a:rect l="l" t="t" r="r" b="b"/>
                <a:pathLst>
                  <a:path w="6157" h="57">
                    <a:moveTo>
                      <a:pt x="6157" y="57"/>
                    </a:moveTo>
                    <a:lnTo>
                      <a:pt x="3872" y="57"/>
                    </a:lnTo>
                    <a:lnTo>
                      <a:pt x="3857" y="26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7"/>
                    </a:lnTo>
                    <a:lnTo>
                      <a:pt x="5263" y="0"/>
                    </a:lnTo>
                    <a:lnTo>
                      <a:pt x="6084" y="0"/>
                    </a:lnTo>
                    <a:lnTo>
                      <a:pt x="6137" y="26"/>
                    </a:lnTo>
                    <a:lnTo>
                      <a:pt x="6157" y="57"/>
                    </a:lnTo>
                    <a:close/>
                    <a:moveTo>
                      <a:pt x="251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437" y="0"/>
                    </a:lnTo>
                    <a:lnTo>
                      <a:pt x="2545" y="26"/>
                    </a:lnTo>
                    <a:lnTo>
                      <a:pt x="2514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473280" y="3948120"/>
                <a:ext cx="1949760" cy="17280"/>
              </a:xfrm>
              <a:custGeom>
                <a:avLst/>
                <a:gdLst/>
                <a:ahLst/>
                <a:rect l="l" t="t" r="r" b="b"/>
                <a:pathLst>
                  <a:path w="6138" h="57">
                    <a:moveTo>
                      <a:pt x="6138" y="57"/>
                    </a:moveTo>
                    <a:lnTo>
                      <a:pt x="3858" y="57"/>
                    </a:lnTo>
                    <a:lnTo>
                      <a:pt x="3857" y="55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36"/>
                    </a:lnTo>
                    <a:lnTo>
                      <a:pt x="5321" y="0"/>
                    </a:lnTo>
                    <a:lnTo>
                      <a:pt x="5964" y="0"/>
                    </a:lnTo>
                    <a:lnTo>
                      <a:pt x="6057" y="14"/>
                    </a:lnTo>
                    <a:lnTo>
                      <a:pt x="6137" y="55"/>
                    </a:lnTo>
                    <a:lnTo>
                      <a:pt x="6138" y="57"/>
                    </a:lnTo>
                    <a:close/>
                    <a:moveTo>
                      <a:pt x="254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316" y="0"/>
                    </a:lnTo>
                    <a:lnTo>
                      <a:pt x="2382" y="14"/>
                    </a:lnTo>
                    <a:lnTo>
                      <a:pt x="2545" y="55"/>
                    </a:lnTo>
                    <a:lnTo>
                      <a:pt x="2543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473280" y="3938760"/>
                <a:ext cx="1932120" cy="18720"/>
              </a:xfrm>
              <a:custGeom>
                <a:avLst/>
                <a:gdLst/>
                <a:ahLst/>
                <a:rect l="l" t="t" r="r" b="b"/>
                <a:pathLst>
                  <a:path w="6084" h="57">
                    <a:moveTo>
                      <a:pt x="6084" y="57"/>
                    </a:moveTo>
                    <a:lnTo>
                      <a:pt x="5263" y="57"/>
                    </a:lnTo>
                    <a:lnTo>
                      <a:pt x="5330" y="23"/>
                    </a:lnTo>
                    <a:lnTo>
                      <a:pt x="5390" y="2"/>
                    </a:lnTo>
                    <a:lnTo>
                      <a:pt x="5511" y="2"/>
                    </a:lnTo>
                    <a:lnTo>
                      <a:pt x="5935" y="23"/>
                    </a:lnTo>
                    <a:lnTo>
                      <a:pt x="6057" y="42"/>
                    </a:lnTo>
                    <a:lnTo>
                      <a:pt x="608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437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2187" y="0"/>
                    </a:lnTo>
                    <a:lnTo>
                      <a:pt x="2202" y="2"/>
                    </a:lnTo>
                    <a:lnTo>
                      <a:pt x="2382" y="42"/>
                    </a:lnTo>
                    <a:lnTo>
                      <a:pt x="2437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3473280" y="3930480"/>
                <a:ext cx="1893960" cy="17640"/>
              </a:xfrm>
              <a:custGeom>
                <a:avLst/>
                <a:gdLst/>
                <a:ahLst/>
                <a:rect l="l" t="t" r="r" b="b"/>
                <a:pathLst>
                  <a:path w="5964" h="57">
                    <a:moveTo>
                      <a:pt x="5964" y="57"/>
                    </a:moveTo>
                    <a:lnTo>
                      <a:pt x="5321" y="57"/>
                    </a:lnTo>
                    <a:lnTo>
                      <a:pt x="5330" y="52"/>
                    </a:lnTo>
                    <a:lnTo>
                      <a:pt x="5390" y="31"/>
                    </a:lnTo>
                    <a:lnTo>
                      <a:pt x="5511" y="31"/>
                    </a:lnTo>
                    <a:lnTo>
                      <a:pt x="5935" y="52"/>
                    </a:lnTo>
                    <a:lnTo>
                      <a:pt x="596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11"/>
                    </a:lnTo>
                    <a:lnTo>
                      <a:pt x="3820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316" y="57"/>
                    </a:moveTo>
                    <a:lnTo>
                      <a:pt x="0" y="57"/>
                    </a:lnTo>
                    <a:lnTo>
                      <a:pt x="0" y="31"/>
                    </a:lnTo>
                    <a:lnTo>
                      <a:pt x="32" y="0"/>
                    </a:lnTo>
                    <a:lnTo>
                      <a:pt x="2024" y="0"/>
                    </a:lnTo>
                    <a:lnTo>
                      <a:pt x="2202" y="31"/>
                    </a:lnTo>
                    <a:lnTo>
                      <a:pt x="2316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3475080" y="3921120"/>
                <a:ext cx="1665360" cy="17640"/>
              </a:xfrm>
              <a:custGeom>
                <a:avLst/>
                <a:gdLst/>
                <a:ahLst/>
                <a:rect l="l" t="t" r="r" b="b"/>
                <a:pathLst>
                  <a:path w="5246" h="58">
                    <a:moveTo>
                      <a:pt x="5246" y="58"/>
                    </a:moveTo>
                    <a:lnTo>
                      <a:pt x="3854" y="58"/>
                    </a:lnTo>
                    <a:lnTo>
                      <a:pt x="3854" y="40"/>
                    </a:lnTo>
                    <a:lnTo>
                      <a:pt x="3792" y="22"/>
                    </a:lnTo>
                    <a:lnTo>
                      <a:pt x="3752" y="0"/>
                    </a:lnTo>
                    <a:lnTo>
                      <a:pt x="5246" y="0"/>
                    </a:lnTo>
                    <a:lnTo>
                      <a:pt x="5246" y="22"/>
                    </a:lnTo>
                    <a:lnTo>
                      <a:pt x="5246" y="58"/>
                    </a:lnTo>
                    <a:close/>
                    <a:moveTo>
                      <a:pt x="2184" y="58"/>
                    </a:moveTo>
                    <a:lnTo>
                      <a:pt x="0" y="58"/>
                    </a:lnTo>
                    <a:lnTo>
                      <a:pt x="37" y="22"/>
                    </a:lnTo>
                    <a:lnTo>
                      <a:pt x="59" y="0"/>
                    </a:lnTo>
                    <a:lnTo>
                      <a:pt x="1859" y="0"/>
                    </a:lnTo>
                    <a:lnTo>
                      <a:pt x="2184" y="58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3484440" y="3911760"/>
                <a:ext cx="1656000" cy="18720"/>
              </a:xfrm>
              <a:custGeom>
                <a:avLst/>
                <a:gdLst/>
                <a:ahLst/>
                <a:rect l="l" t="t" r="r" b="b"/>
                <a:pathLst>
                  <a:path w="5217" h="57">
                    <a:moveTo>
                      <a:pt x="5217" y="57"/>
                    </a:moveTo>
                    <a:lnTo>
                      <a:pt x="3788" y="57"/>
                    </a:lnTo>
                    <a:lnTo>
                      <a:pt x="3763" y="50"/>
                    </a:lnTo>
                    <a:lnTo>
                      <a:pt x="3722" y="28"/>
                    </a:lnTo>
                    <a:lnTo>
                      <a:pt x="3703" y="9"/>
                    </a:lnTo>
                    <a:lnTo>
                      <a:pt x="3703" y="0"/>
                    </a:lnTo>
                    <a:lnTo>
                      <a:pt x="5217" y="0"/>
                    </a:lnTo>
                    <a:lnTo>
                      <a:pt x="5217" y="50"/>
                    </a:lnTo>
                    <a:lnTo>
                      <a:pt x="5217" y="57"/>
                    </a:lnTo>
                    <a:close/>
                    <a:moveTo>
                      <a:pt x="1992" y="57"/>
                    </a:moveTo>
                    <a:lnTo>
                      <a:pt x="0" y="57"/>
                    </a:lnTo>
                    <a:lnTo>
                      <a:pt x="8" y="50"/>
                    </a:lnTo>
                    <a:lnTo>
                      <a:pt x="58" y="0"/>
                    </a:lnTo>
                    <a:lnTo>
                      <a:pt x="995" y="0"/>
                    </a:lnTo>
                    <a:lnTo>
                      <a:pt x="1038" y="9"/>
                    </a:lnTo>
                    <a:lnTo>
                      <a:pt x="1038" y="0"/>
                    </a:lnTo>
                    <a:lnTo>
                      <a:pt x="1315" y="0"/>
                    </a:lnTo>
                    <a:lnTo>
                      <a:pt x="1381" y="9"/>
                    </a:lnTo>
                    <a:lnTo>
                      <a:pt x="1503" y="9"/>
                    </a:lnTo>
                    <a:lnTo>
                      <a:pt x="1827" y="28"/>
                    </a:lnTo>
                    <a:lnTo>
                      <a:pt x="1992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3494160" y="3902040"/>
                <a:ext cx="1646280" cy="19080"/>
              </a:xfrm>
              <a:custGeom>
                <a:avLst/>
                <a:gdLst/>
                <a:ahLst/>
                <a:rect l="l" t="t" r="r" b="b"/>
                <a:pathLst>
                  <a:path w="5187" h="57">
                    <a:moveTo>
                      <a:pt x="5187" y="57"/>
                    </a:moveTo>
                    <a:lnTo>
                      <a:pt x="3693" y="57"/>
                    </a:lnTo>
                    <a:lnTo>
                      <a:pt x="3692" y="57"/>
                    </a:lnTo>
                    <a:lnTo>
                      <a:pt x="3673" y="38"/>
                    </a:lnTo>
                    <a:lnTo>
                      <a:pt x="3673" y="17"/>
                    </a:lnTo>
                    <a:lnTo>
                      <a:pt x="3677" y="0"/>
                    </a:lnTo>
                    <a:lnTo>
                      <a:pt x="5187" y="0"/>
                    </a:lnTo>
                    <a:lnTo>
                      <a:pt x="5187" y="57"/>
                    </a:lnTo>
                    <a:close/>
                    <a:moveTo>
                      <a:pt x="1800" y="57"/>
                    </a:moveTo>
                    <a:lnTo>
                      <a:pt x="0" y="57"/>
                    </a:lnTo>
                    <a:lnTo>
                      <a:pt x="41" y="17"/>
                    </a:lnTo>
                    <a:lnTo>
                      <a:pt x="7" y="0"/>
                    </a:lnTo>
                    <a:lnTo>
                      <a:pt x="823" y="0"/>
                    </a:lnTo>
                    <a:lnTo>
                      <a:pt x="1008" y="38"/>
                    </a:lnTo>
                    <a:lnTo>
                      <a:pt x="1008" y="0"/>
                    </a:lnTo>
                    <a:lnTo>
                      <a:pt x="1041" y="0"/>
                    </a:lnTo>
                    <a:lnTo>
                      <a:pt x="1190" y="17"/>
                    </a:lnTo>
                    <a:lnTo>
                      <a:pt x="1351" y="38"/>
                    </a:lnTo>
                    <a:lnTo>
                      <a:pt x="1473" y="38"/>
                    </a:lnTo>
                    <a:lnTo>
                      <a:pt x="1797" y="57"/>
                    </a:lnTo>
                    <a:lnTo>
                      <a:pt x="1800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3470400" y="3894120"/>
                <a:ext cx="1671480" cy="17640"/>
              </a:xfrm>
              <a:custGeom>
                <a:avLst/>
                <a:gdLst/>
                <a:ahLst/>
                <a:rect l="l" t="t" r="r" b="b"/>
                <a:pathLst>
                  <a:path w="5266" h="57">
                    <a:moveTo>
                      <a:pt x="5260" y="57"/>
                    </a:moveTo>
                    <a:lnTo>
                      <a:pt x="3746" y="57"/>
                    </a:lnTo>
                    <a:lnTo>
                      <a:pt x="3746" y="45"/>
                    </a:lnTo>
                    <a:lnTo>
                      <a:pt x="3758" y="0"/>
                    </a:lnTo>
                    <a:lnTo>
                      <a:pt x="5266" y="0"/>
                    </a:lnTo>
                    <a:lnTo>
                      <a:pt x="5260" y="25"/>
                    </a:lnTo>
                    <a:lnTo>
                      <a:pt x="5260" y="57"/>
                    </a:lnTo>
                    <a:close/>
                    <a:moveTo>
                      <a:pt x="1358" y="57"/>
                    </a:moveTo>
                    <a:lnTo>
                      <a:pt x="1081" y="57"/>
                    </a:lnTo>
                    <a:lnTo>
                      <a:pt x="1081" y="25"/>
                    </a:lnTo>
                    <a:lnTo>
                      <a:pt x="1263" y="45"/>
                    </a:lnTo>
                    <a:lnTo>
                      <a:pt x="1358" y="57"/>
                    </a:lnTo>
                    <a:close/>
                    <a:moveTo>
                      <a:pt x="1038" y="57"/>
                    </a:moveTo>
                    <a:lnTo>
                      <a:pt x="101" y="57"/>
                    </a:lnTo>
                    <a:lnTo>
                      <a:pt x="114" y="45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753" y="0"/>
                    </a:lnTo>
                    <a:lnTo>
                      <a:pt x="1038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3433680" y="3884760"/>
                <a:ext cx="1711440" cy="17280"/>
              </a:xfrm>
              <a:custGeom>
                <a:avLst/>
                <a:gdLst/>
                <a:ahLst/>
                <a:rect l="l" t="t" r="r" b="b"/>
                <a:pathLst>
                  <a:path w="5388" h="57">
                    <a:moveTo>
                      <a:pt x="5375" y="57"/>
                    </a:moveTo>
                    <a:lnTo>
                      <a:pt x="3865" y="57"/>
                    </a:lnTo>
                    <a:lnTo>
                      <a:pt x="3881" y="0"/>
                    </a:lnTo>
                    <a:lnTo>
                      <a:pt x="5388" y="0"/>
                    </a:lnTo>
                    <a:lnTo>
                      <a:pt x="5375" y="54"/>
                    </a:lnTo>
                    <a:lnTo>
                      <a:pt x="5375" y="57"/>
                    </a:lnTo>
                    <a:close/>
                    <a:moveTo>
                      <a:pt x="1229" y="57"/>
                    </a:moveTo>
                    <a:lnTo>
                      <a:pt x="1196" y="57"/>
                    </a:lnTo>
                    <a:lnTo>
                      <a:pt x="1196" y="54"/>
                    </a:lnTo>
                    <a:lnTo>
                      <a:pt x="1229" y="57"/>
                    </a:lnTo>
                    <a:close/>
                    <a:moveTo>
                      <a:pt x="1011" y="57"/>
                    </a:moveTo>
                    <a:lnTo>
                      <a:pt x="195" y="57"/>
                    </a:lnTo>
                    <a:lnTo>
                      <a:pt x="147" y="3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726" y="0"/>
                    </a:lnTo>
                    <a:lnTo>
                      <a:pt x="101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416400" y="3875040"/>
                <a:ext cx="1731960" cy="19080"/>
              </a:xfrm>
              <a:custGeom>
                <a:avLst/>
                <a:gdLst/>
                <a:ahLst/>
                <a:rect l="l" t="t" r="r" b="b"/>
                <a:pathLst>
                  <a:path w="5454" h="57">
                    <a:moveTo>
                      <a:pt x="5438" y="57"/>
                    </a:moveTo>
                    <a:lnTo>
                      <a:pt x="3930" y="57"/>
                    </a:lnTo>
                    <a:lnTo>
                      <a:pt x="3945" y="0"/>
                    </a:lnTo>
                    <a:lnTo>
                      <a:pt x="5454" y="0"/>
                    </a:lnTo>
                    <a:lnTo>
                      <a:pt x="5453" y="1"/>
                    </a:lnTo>
                    <a:lnTo>
                      <a:pt x="5438" y="57"/>
                    </a:lnTo>
                    <a:close/>
                    <a:moveTo>
                      <a:pt x="925" y="57"/>
                    </a:moveTo>
                    <a:lnTo>
                      <a:pt x="172" y="57"/>
                    </a:lnTo>
                    <a:lnTo>
                      <a:pt x="82" y="41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925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3397320" y="3867120"/>
                <a:ext cx="1754280" cy="17640"/>
              </a:xfrm>
              <a:custGeom>
                <a:avLst/>
                <a:gdLst/>
                <a:ahLst/>
                <a:rect l="l" t="t" r="r" b="b"/>
                <a:pathLst>
                  <a:path w="5525" h="57">
                    <a:moveTo>
                      <a:pt x="5503" y="57"/>
                    </a:moveTo>
                    <a:lnTo>
                      <a:pt x="3996" y="57"/>
                    </a:lnTo>
                    <a:lnTo>
                      <a:pt x="4012" y="0"/>
                    </a:lnTo>
                    <a:lnTo>
                      <a:pt x="5525" y="0"/>
                    </a:lnTo>
                    <a:lnTo>
                      <a:pt x="5511" y="30"/>
                    </a:lnTo>
                    <a:lnTo>
                      <a:pt x="5503" y="57"/>
                    </a:lnTo>
                    <a:close/>
                    <a:moveTo>
                      <a:pt x="841" y="57"/>
                    </a:moveTo>
                    <a:lnTo>
                      <a:pt x="115" y="57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605" y="10"/>
                    </a:lnTo>
                    <a:lnTo>
                      <a:pt x="84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3379680" y="3857760"/>
                <a:ext cx="1776600" cy="17280"/>
              </a:xfrm>
              <a:custGeom>
                <a:avLst/>
                <a:gdLst/>
                <a:ahLst/>
                <a:rect l="l" t="t" r="r" b="b"/>
                <a:pathLst>
                  <a:path w="5597" h="58">
                    <a:moveTo>
                      <a:pt x="5570" y="58"/>
                    </a:moveTo>
                    <a:lnTo>
                      <a:pt x="4061" y="58"/>
                    </a:lnTo>
                    <a:lnTo>
                      <a:pt x="4077" y="0"/>
                    </a:lnTo>
                    <a:lnTo>
                      <a:pt x="5597" y="0"/>
                    </a:lnTo>
                    <a:lnTo>
                      <a:pt x="5570" y="58"/>
                    </a:lnTo>
                    <a:close/>
                    <a:moveTo>
                      <a:pt x="756" y="58"/>
                    </a:moveTo>
                    <a:lnTo>
                      <a:pt x="116" y="58"/>
                    </a:lnTo>
                    <a:lnTo>
                      <a:pt x="78" y="39"/>
                    </a:lnTo>
                    <a:lnTo>
                      <a:pt x="0" y="0"/>
                    </a:lnTo>
                    <a:lnTo>
                      <a:pt x="434" y="0"/>
                    </a:lnTo>
                    <a:lnTo>
                      <a:pt x="663" y="39"/>
                    </a:lnTo>
                    <a:lnTo>
                      <a:pt x="756" y="58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3359160" y="3848040"/>
                <a:ext cx="1801800" cy="19080"/>
              </a:xfrm>
              <a:custGeom>
                <a:avLst/>
                <a:gdLst/>
                <a:ahLst/>
                <a:rect l="l" t="t" r="r" b="b"/>
                <a:pathLst>
                  <a:path w="5676" h="56">
                    <a:moveTo>
                      <a:pt x="5646" y="56"/>
                    </a:moveTo>
                    <a:lnTo>
                      <a:pt x="4133" y="56"/>
                    </a:lnTo>
                    <a:lnTo>
                      <a:pt x="4148" y="0"/>
                    </a:lnTo>
                    <a:lnTo>
                      <a:pt x="5676" y="0"/>
                    </a:lnTo>
                    <a:lnTo>
                      <a:pt x="5670" y="6"/>
                    </a:lnTo>
                    <a:lnTo>
                      <a:pt x="5646" y="56"/>
                    </a:lnTo>
                    <a:close/>
                    <a:moveTo>
                      <a:pt x="668" y="56"/>
                    </a:moveTo>
                    <a:lnTo>
                      <a:pt x="121" y="56"/>
                    </a:lnTo>
                    <a:lnTo>
                      <a:pt x="19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81" y="0"/>
                    </a:lnTo>
                    <a:lnTo>
                      <a:pt x="484" y="25"/>
                    </a:lnTo>
                    <a:lnTo>
                      <a:pt x="668" y="56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3359160" y="3840120"/>
                <a:ext cx="1808280" cy="17640"/>
              </a:xfrm>
              <a:custGeom>
                <a:avLst/>
                <a:gdLst/>
                <a:ahLst/>
                <a:rect l="l" t="t" r="r" b="b"/>
                <a:pathLst>
                  <a:path w="5694" h="56">
                    <a:moveTo>
                      <a:pt x="5660" y="56"/>
                    </a:moveTo>
                    <a:lnTo>
                      <a:pt x="4140" y="56"/>
                    </a:lnTo>
                    <a:lnTo>
                      <a:pt x="4156" y="0"/>
                    </a:lnTo>
                    <a:lnTo>
                      <a:pt x="5694" y="0"/>
                    </a:lnTo>
                    <a:lnTo>
                      <a:pt x="5670" y="35"/>
                    </a:lnTo>
                    <a:lnTo>
                      <a:pt x="5660" y="56"/>
                    </a:lnTo>
                    <a:close/>
                    <a:moveTo>
                      <a:pt x="497" y="56"/>
                    </a:moveTo>
                    <a:lnTo>
                      <a:pt x="63" y="56"/>
                    </a:lnTo>
                    <a:lnTo>
                      <a:pt x="19" y="35"/>
                    </a:lnTo>
                    <a:lnTo>
                      <a:pt x="0" y="35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60" y="0"/>
                    </a:lnTo>
                    <a:lnTo>
                      <a:pt x="484" y="54"/>
                    </a:lnTo>
                    <a:lnTo>
                      <a:pt x="497" y="56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3360600" y="3830760"/>
                <a:ext cx="1811520" cy="17280"/>
              </a:xfrm>
              <a:custGeom>
                <a:avLst/>
                <a:gdLst/>
                <a:ahLst/>
                <a:rect l="l" t="t" r="r" b="b"/>
                <a:pathLst>
                  <a:path w="5706" h="57">
                    <a:moveTo>
                      <a:pt x="5670" y="57"/>
                    </a:moveTo>
                    <a:lnTo>
                      <a:pt x="4142" y="57"/>
                    </a:lnTo>
                    <a:lnTo>
                      <a:pt x="4151" y="22"/>
                    </a:lnTo>
                    <a:lnTo>
                      <a:pt x="4173" y="1"/>
                    </a:lnTo>
                    <a:lnTo>
                      <a:pt x="4173" y="0"/>
                    </a:lnTo>
                    <a:lnTo>
                      <a:pt x="5706" y="0"/>
                    </a:lnTo>
                    <a:lnTo>
                      <a:pt x="5705" y="1"/>
                    </a:lnTo>
                    <a:lnTo>
                      <a:pt x="5670" y="57"/>
                    </a:lnTo>
                    <a:close/>
                    <a:moveTo>
                      <a:pt x="275" y="57"/>
                    </a:moveTo>
                    <a:lnTo>
                      <a:pt x="0" y="57"/>
                    </a:lnTo>
                    <a:lnTo>
                      <a:pt x="13" y="42"/>
                    </a:lnTo>
                    <a:lnTo>
                      <a:pt x="13" y="22"/>
                    </a:lnTo>
                    <a:lnTo>
                      <a:pt x="275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3365640" y="3821040"/>
                <a:ext cx="1812960" cy="19080"/>
              </a:xfrm>
              <a:custGeom>
                <a:avLst/>
                <a:gdLst/>
                <a:ahLst/>
                <a:rect l="l" t="t" r="r" b="b"/>
                <a:pathLst>
                  <a:path w="5709" h="57">
                    <a:moveTo>
                      <a:pt x="5675" y="57"/>
                    </a:moveTo>
                    <a:lnTo>
                      <a:pt x="4137" y="57"/>
                    </a:lnTo>
                    <a:lnTo>
                      <a:pt x="4138" y="51"/>
                    </a:lnTo>
                    <a:lnTo>
                      <a:pt x="4160" y="30"/>
                    </a:lnTo>
                    <a:lnTo>
                      <a:pt x="4160" y="0"/>
                    </a:lnTo>
                    <a:lnTo>
                      <a:pt x="5709" y="0"/>
                    </a:lnTo>
                    <a:lnTo>
                      <a:pt x="5692" y="30"/>
                    </a:lnTo>
                    <a:lnTo>
                      <a:pt x="5675" y="57"/>
                    </a:lnTo>
                    <a:close/>
                    <a:moveTo>
                      <a:pt x="41" y="57"/>
                    </a:moveTo>
                    <a:lnTo>
                      <a:pt x="0" y="57"/>
                    </a:lnTo>
                    <a:lnTo>
                      <a:pt x="0" y="51"/>
                    </a:lnTo>
                    <a:lnTo>
                      <a:pt x="41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4686480" y="3813120"/>
                <a:ext cx="495000" cy="17640"/>
              </a:xfrm>
              <a:custGeom>
                <a:avLst/>
                <a:gdLst/>
                <a:ahLst/>
                <a:rect l="l" t="t" r="r" b="b"/>
                <a:pathLst>
                  <a:path w="1563" h="57">
                    <a:moveTo>
                      <a:pt x="153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63" y="0"/>
                    </a:lnTo>
                    <a:lnTo>
                      <a:pt x="1533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4686480" y="3803760"/>
                <a:ext cx="500040" cy="17280"/>
              </a:xfrm>
              <a:custGeom>
                <a:avLst/>
                <a:gdLst/>
                <a:ahLst/>
                <a:rect l="l" t="t" r="r" b="b"/>
                <a:pathLst>
                  <a:path w="1575" h="57">
                    <a:moveTo>
                      <a:pt x="154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75" y="0"/>
                    </a:lnTo>
                    <a:lnTo>
                      <a:pt x="1573" y="8"/>
                    </a:lnTo>
                    <a:lnTo>
                      <a:pt x="1549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4686480" y="3794040"/>
                <a:ext cx="501480" cy="19080"/>
              </a:xfrm>
              <a:custGeom>
                <a:avLst/>
                <a:gdLst/>
                <a:ahLst/>
                <a:rect l="l" t="t" r="r" b="b"/>
                <a:pathLst>
                  <a:path w="1582" h="58">
                    <a:moveTo>
                      <a:pt x="1563" y="58"/>
                    </a:moveTo>
                    <a:lnTo>
                      <a:pt x="0" y="5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582" y="0"/>
                    </a:lnTo>
                    <a:lnTo>
                      <a:pt x="1573" y="37"/>
                    </a:lnTo>
                    <a:lnTo>
                      <a:pt x="1563" y="58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684680" y="378468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4" h="57">
                    <a:moveTo>
                      <a:pt x="1581" y="57"/>
                    </a:moveTo>
                    <a:lnTo>
                      <a:pt x="6" y="57"/>
                    </a:lnTo>
                    <a:lnTo>
                      <a:pt x="6" y="44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594" y="0"/>
                    </a:lnTo>
                    <a:lnTo>
                      <a:pt x="1581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678200" y="3776760"/>
                <a:ext cx="514440" cy="172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04" y="57"/>
                    </a:moveTo>
                    <a:lnTo>
                      <a:pt x="22" y="57"/>
                    </a:lnTo>
                    <a:lnTo>
                      <a:pt x="22" y="3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18" y="0"/>
                    </a:lnTo>
                    <a:lnTo>
                      <a:pt x="1614" y="12"/>
                    </a:lnTo>
                    <a:lnTo>
                      <a:pt x="1604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678200" y="3767040"/>
                <a:ext cx="516240" cy="17640"/>
              </a:xfrm>
              <a:custGeom>
                <a:avLst/>
                <a:gdLst/>
                <a:ahLst/>
                <a:rect l="l" t="t" r="r" b="b"/>
                <a:pathLst>
                  <a:path w="1624" h="57">
                    <a:moveTo>
                      <a:pt x="1610" y="57"/>
                    </a:moveTo>
                    <a:lnTo>
                      <a:pt x="16" y="5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24" y="0"/>
                    </a:lnTo>
                    <a:lnTo>
                      <a:pt x="1614" y="40"/>
                    </a:lnTo>
                    <a:lnTo>
                      <a:pt x="1610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678200" y="3757680"/>
                <a:ext cx="517680" cy="190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4678200" y="3747960"/>
                <a:ext cx="519120" cy="19080"/>
              </a:xfrm>
              <a:custGeom>
                <a:avLst/>
                <a:gdLst/>
                <a:ahLst/>
                <a:rect l="l" t="t" r="r" b="b"/>
                <a:pathLst>
                  <a:path w="1635" h="58">
                    <a:moveTo>
                      <a:pt x="1624" y="58"/>
                    </a:moveTo>
                    <a:lnTo>
                      <a:pt x="0" y="58"/>
                    </a:lnTo>
                    <a:lnTo>
                      <a:pt x="0" y="17"/>
                    </a:lnTo>
                    <a:lnTo>
                      <a:pt x="7" y="0"/>
                    </a:lnTo>
                    <a:lnTo>
                      <a:pt x="1635" y="0"/>
                    </a:lnTo>
                    <a:lnTo>
                      <a:pt x="1624" y="58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4678200" y="3740040"/>
                <a:ext cx="520920" cy="17640"/>
              </a:xfrm>
              <a:custGeom>
                <a:avLst/>
                <a:gdLst/>
                <a:ahLst/>
                <a:rect l="l" t="t" r="r" b="b"/>
                <a:pathLst>
                  <a:path w="1636" h="57">
                    <a:moveTo>
                      <a:pt x="1629" y="57"/>
                    </a:moveTo>
                    <a:lnTo>
                      <a:pt x="0" y="57"/>
                    </a:lnTo>
                    <a:lnTo>
                      <a:pt x="0" y="45"/>
                    </a:lnTo>
                    <a:lnTo>
                      <a:pt x="18" y="0"/>
                    </a:lnTo>
                    <a:lnTo>
                      <a:pt x="1636" y="0"/>
                    </a:lnTo>
                    <a:lnTo>
                      <a:pt x="1636" y="25"/>
                    </a:lnTo>
                    <a:lnTo>
                      <a:pt x="1629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4681440" y="3730680"/>
                <a:ext cx="517680" cy="172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28" y="57"/>
                    </a:moveTo>
                    <a:lnTo>
                      <a:pt x="0" y="57"/>
                    </a:lnTo>
                    <a:lnTo>
                      <a:pt x="23" y="0"/>
                    </a:lnTo>
                    <a:lnTo>
                      <a:pt x="1629" y="0"/>
                    </a:lnTo>
                    <a:lnTo>
                      <a:pt x="1629" y="54"/>
                    </a:lnTo>
                    <a:lnTo>
                      <a:pt x="1628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4684680" y="3720960"/>
                <a:ext cx="514440" cy="190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618" y="0"/>
                    </a:lnTo>
                    <a:lnTo>
                      <a:pt x="1618" y="2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4687920" y="3713040"/>
                <a:ext cx="511200" cy="17640"/>
              </a:xfrm>
              <a:custGeom>
                <a:avLst/>
                <a:gdLst/>
                <a:ahLst/>
                <a:rect l="l" t="t" r="r" b="b"/>
                <a:pathLst>
                  <a:path w="1606" h="57">
                    <a:moveTo>
                      <a:pt x="1606" y="57"/>
                    </a:moveTo>
                    <a:lnTo>
                      <a:pt x="0" y="57"/>
                    </a:lnTo>
                    <a:lnTo>
                      <a:pt x="11" y="31"/>
                    </a:lnTo>
                    <a:lnTo>
                      <a:pt x="16" y="0"/>
                    </a:lnTo>
                    <a:lnTo>
                      <a:pt x="1606" y="0"/>
                    </a:lnTo>
                    <a:lnTo>
                      <a:pt x="1606" y="31"/>
                    </a:lnTo>
                    <a:lnTo>
                      <a:pt x="1606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4692600" y="3703680"/>
                <a:ext cx="506520" cy="17280"/>
              </a:xfrm>
              <a:custGeom>
                <a:avLst/>
                <a:gdLst/>
                <a:ahLst/>
                <a:rect l="l" t="t" r="r" b="b"/>
                <a:pathLst>
                  <a:path w="1595" h="57">
                    <a:moveTo>
                      <a:pt x="159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5" y="0"/>
                    </a:lnTo>
                    <a:lnTo>
                      <a:pt x="1595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4694400" y="369396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0" h="57">
                    <a:moveTo>
                      <a:pt x="1590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0" y="0"/>
                    </a:lnTo>
                    <a:lnTo>
                      <a:pt x="1590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4695840" y="3686040"/>
                <a:ext cx="503280" cy="17640"/>
              </a:xfrm>
              <a:custGeom>
                <a:avLst/>
                <a:gdLst/>
                <a:ahLst/>
                <a:rect l="l" t="t" r="r" b="b"/>
                <a:pathLst>
                  <a:path w="1585" h="57">
                    <a:moveTo>
                      <a:pt x="158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78" y="0"/>
                    </a:lnTo>
                    <a:lnTo>
                      <a:pt x="1585" y="15"/>
                    </a:lnTo>
                    <a:lnTo>
                      <a:pt x="1585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4697280" y="3676680"/>
                <a:ext cx="501840" cy="17280"/>
              </a:xfrm>
              <a:custGeom>
                <a:avLst/>
                <a:gdLst/>
                <a:ahLst/>
                <a:rect l="l" t="t" r="r" b="b"/>
                <a:pathLst>
                  <a:path w="1580" h="56">
                    <a:moveTo>
                      <a:pt x="1580" y="56"/>
                    </a:moveTo>
                    <a:lnTo>
                      <a:pt x="0" y="56"/>
                    </a:lnTo>
                    <a:lnTo>
                      <a:pt x="6" y="23"/>
                    </a:lnTo>
                    <a:lnTo>
                      <a:pt x="16" y="0"/>
                    </a:lnTo>
                    <a:lnTo>
                      <a:pt x="1557" y="0"/>
                    </a:lnTo>
                    <a:lnTo>
                      <a:pt x="1580" y="43"/>
                    </a:lnTo>
                    <a:lnTo>
                      <a:pt x="1580" y="56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4699080" y="3666960"/>
                <a:ext cx="496800" cy="19080"/>
              </a:xfrm>
              <a:custGeom>
                <a:avLst/>
                <a:gdLst/>
                <a:ahLst/>
                <a:rect l="l" t="t" r="r" b="b"/>
                <a:pathLst>
                  <a:path w="1568" h="57">
                    <a:moveTo>
                      <a:pt x="1568" y="57"/>
                    </a:moveTo>
                    <a:lnTo>
                      <a:pt x="0" y="57"/>
                    </a:lnTo>
                    <a:lnTo>
                      <a:pt x="1" y="52"/>
                    </a:lnTo>
                    <a:lnTo>
                      <a:pt x="21" y="0"/>
                    </a:lnTo>
                    <a:lnTo>
                      <a:pt x="1538" y="0"/>
                    </a:lnTo>
                    <a:lnTo>
                      <a:pt x="1568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4702320" y="3659040"/>
                <a:ext cx="488880" cy="17640"/>
              </a:xfrm>
              <a:custGeom>
                <a:avLst/>
                <a:gdLst/>
                <a:ahLst/>
                <a:rect l="l" t="t" r="r" b="b"/>
                <a:pathLst>
                  <a:path w="1541" h="57">
                    <a:moveTo>
                      <a:pt x="15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513" y="0"/>
                    </a:lnTo>
                    <a:lnTo>
                      <a:pt x="1523" y="20"/>
                    </a:lnTo>
                    <a:lnTo>
                      <a:pt x="1541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4705200" y="3649680"/>
                <a:ext cx="481320" cy="17280"/>
              </a:xfrm>
              <a:custGeom>
                <a:avLst/>
                <a:gdLst/>
                <a:ahLst/>
                <a:rect l="l" t="t" r="r" b="b"/>
                <a:pathLst>
                  <a:path w="1517" h="57">
                    <a:moveTo>
                      <a:pt x="1517" y="57"/>
                    </a:moveTo>
                    <a:lnTo>
                      <a:pt x="0" y="57"/>
                    </a:lnTo>
                    <a:lnTo>
                      <a:pt x="19" y="8"/>
                    </a:lnTo>
                    <a:lnTo>
                      <a:pt x="24" y="0"/>
                    </a:lnTo>
                    <a:lnTo>
                      <a:pt x="1489" y="0"/>
                    </a:lnTo>
                    <a:lnTo>
                      <a:pt x="1513" y="49"/>
                    </a:lnTo>
                    <a:lnTo>
                      <a:pt x="1517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4708440" y="3639960"/>
                <a:ext cx="473040" cy="19080"/>
              </a:xfrm>
              <a:custGeom>
                <a:avLst/>
                <a:gdLst/>
                <a:ahLst/>
                <a:rect l="l" t="t" r="r" b="b"/>
                <a:pathLst>
                  <a:path w="1492" h="57">
                    <a:moveTo>
                      <a:pt x="1492" y="57"/>
                    </a:moveTo>
                    <a:lnTo>
                      <a:pt x="0" y="57"/>
                    </a:lnTo>
                    <a:lnTo>
                      <a:pt x="8" y="36"/>
                    </a:lnTo>
                    <a:lnTo>
                      <a:pt x="31" y="0"/>
                    </a:lnTo>
                    <a:lnTo>
                      <a:pt x="1463" y="0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4713120" y="3630600"/>
                <a:ext cx="465480" cy="19080"/>
              </a:xfrm>
              <a:custGeom>
                <a:avLst/>
                <a:gdLst/>
                <a:ahLst/>
                <a:rect l="l" t="t" r="r" b="b"/>
                <a:pathLst>
                  <a:path w="1465" h="57">
                    <a:moveTo>
                      <a:pt x="1465" y="57"/>
                    </a:moveTo>
                    <a:lnTo>
                      <a:pt x="0" y="57"/>
                    </a:lnTo>
                    <a:lnTo>
                      <a:pt x="35" y="0"/>
                    </a:lnTo>
                    <a:lnTo>
                      <a:pt x="1436" y="0"/>
                    </a:lnTo>
                    <a:lnTo>
                      <a:pt x="1465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4718160" y="3622680"/>
                <a:ext cx="455400" cy="17280"/>
              </a:xfrm>
              <a:custGeom>
                <a:avLst/>
                <a:gdLst/>
                <a:ahLst/>
                <a:rect l="l" t="t" r="r" b="b"/>
                <a:pathLst>
                  <a:path w="1432" h="58">
                    <a:moveTo>
                      <a:pt x="1432" y="58"/>
                    </a:moveTo>
                    <a:lnTo>
                      <a:pt x="0" y="58"/>
                    </a:lnTo>
                    <a:lnTo>
                      <a:pt x="34" y="0"/>
                    </a:lnTo>
                    <a:lnTo>
                      <a:pt x="1404" y="0"/>
                    </a:lnTo>
                    <a:lnTo>
                      <a:pt x="1432" y="58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4724280" y="3613320"/>
                <a:ext cx="444600" cy="17280"/>
              </a:xfrm>
              <a:custGeom>
                <a:avLst/>
                <a:gdLst/>
                <a:ahLst/>
                <a:rect l="l" t="t" r="r" b="b"/>
                <a:pathLst>
                  <a:path w="1401" h="57">
                    <a:moveTo>
                      <a:pt x="1401" y="57"/>
                    </a:moveTo>
                    <a:lnTo>
                      <a:pt x="0" y="57"/>
                    </a:lnTo>
                    <a:lnTo>
                      <a:pt x="21" y="21"/>
                    </a:lnTo>
                    <a:lnTo>
                      <a:pt x="31" y="0"/>
                    </a:lnTo>
                    <a:lnTo>
                      <a:pt x="1372" y="0"/>
                    </a:lnTo>
                    <a:lnTo>
                      <a:pt x="1372" y="1"/>
                    </a:lnTo>
                    <a:lnTo>
                      <a:pt x="1401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4729320" y="3603600"/>
                <a:ext cx="434880" cy="19080"/>
              </a:xfrm>
              <a:custGeom>
                <a:avLst/>
                <a:gdLst/>
                <a:ahLst/>
                <a:rect l="l" t="t" r="r" b="b"/>
                <a:pathLst>
                  <a:path w="1370" h="57">
                    <a:moveTo>
                      <a:pt x="1370" y="57"/>
                    </a:moveTo>
                    <a:lnTo>
                      <a:pt x="0" y="57"/>
                    </a:lnTo>
                    <a:lnTo>
                      <a:pt x="4" y="50"/>
                    </a:lnTo>
                    <a:lnTo>
                      <a:pt x="24" y="0"/>
                    </a:lnTo>
                    <a:lnTo>
                      <a:pt x="1346" y="0"/>
                    </a:lnTo>
                    <a:lnTo>
                      <a:pt x="1355" y="30"/>
                    </a:lnTo>
                    <a:lnTo>
                      <a:pt x="1370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4734000" y="3595680"/>
                <a:ext cx="425520" cy="17640"/>
              </a:xfrm>
              <a:custGeom>
                <a:avLst/>
                <a:gdLst/>
                <a:ahLst/>
                <a:rect l="l" t="t" r="r" b="b"/>
                <a:pathLst>
                  <a:path w="1341" h="57">
                    <a:moveTo>
                      <a:pt x="13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323" y="0"/>
                    </a:lnTo>
                    <a:lnTo>
                      <a:pt x="1341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4737240" y="3586320"/>
                <a:ext cx="419040" cy="17280"/>
              </a:xfrm>
              <a:custGeom>
                <a:avLst/>
                <a:gdLst/>
                <a:ahLst/>
                <a:rect l="l" t="t" r="r" b="b"/>
                <a:pathLst>
                  <a:path w="1322" h="57">
                    <a:moveTo>
                      <a:pt x="1322" y="57"/>
                    </a:moveTo>
                    <a:lnTo>
                      <a:pt x="0" y="5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300" y="0"/>
                    </a:lnTo>
                    <a:lnTo>
                      <a:pt x="1312" y="27"/>
                    </a:lnTo>
                    <a:lnTo>
                      <a:pt x="132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4740120" y="3576600"/>
                <a:ext cx="412920" cy="19080"/>
              </a:xfrm>
              <a:custGeom>
                <a:avLst/>
                <a:gdLst/>
                <a:ahLst/>
                <a:rect l="l" t="t" r="r" b="b"/>
                <a:pathLst>
                  <a:path w="1302" h="57">
                    <a:moveTo>
                      <a:pt x="1302" y="57"/>
                    </a:moveTo>
                    <a:lnTo>
                      <a:pt x="0" y="57"/>
                    </a:lnTo>
                    <a:lnTo>
                      <a:pt x="8" y="35"/>
                    </a:lnTo>
                    <a:lnTo>
                      <a:pt x="8" y="0"/>
                    </a:lnTo>
                    <a:lnTo>
                      <a:pt x="1253" y="0"/>
                    </a:lnTo>
                    <a:lnTo>
                      <a:pt x="1282" y="14"/>
                    </a:lnTo>
                    <a:lnTo>
                      <a:pt x="1301" y="55"/>
                    </a:lnTo>
                    <a:lnTo>
                      <a:pt x="130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4743360" y="3567240"/>
                <a:ext cx="406440" cy="19080"/>
              </a:xfrm>
              <a:custGeom>
                <a:avLst/>
                <a:gdLst/>
                <a:ahLst/>
                <a:rect l="l" t="t" r="r" b="b"/>
                <a:pathLst>
                  <a:path w="1281" h="57">
                    <a:moveTo>
                      <a:pt x="1281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95" y="0"/>
                    </a:lnTo>
                    <a:lnTo>
                      <a:pt x="1234" y="23"/>
                    </a:lnTo>
                    <a:lnTo>
                      <a:pt x="1274" y="43"/>
                    </a:lnTo>
                    <a:lnTo>
                      <a:pt x="1281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4743360" y="3559320"/>
                <a:ext cx="395280" cy="17280"/>
              </a:xfrm>
              <a:custGeom>
                <a:avLst/>
                <a:gdLst/>
                <a:ahLst/>
                <a:rect l="l" t="t" r="r" b="b"/>
                <a:pathLst>
                  <a:path w="1245" h="58">
                    <a:moveTo>
                      <a:pt x="1245" y="58"/>
                    </a:moveTo>
                    <a:lnTo>
                      <a:pt x="0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147" y="0"/>
                    </a:lnTo>
                    <a:lnTo>
                      <a:pt x="1234" y="52"/>
                    </a:lnTo>
                    <a:lnTo>
                      <a:pt x="1245" y="58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4743360" y="3549600"/>
                <a:ext cx="379440" cy="17640"/>
              </a:xfrm>
              <a:custGeom>
                <a:avLst/>
                <a:gdLst/>
                <a:ahLst/>
                <a:rect l="l" t="t" r="r" b="b"/>
                <a:pathLst>
                  <a:path w="1195" h="57">
                    <a:moveTo>
                      <a:pt x="1195" y="57"/>
                    </a:moveTo>
                    <a:lnTo>
                      <a:pt x="0" y="57"/>
                    </a:lnTo>
                    <a:lnTo>
                      <a:pt x="0" y="20"/>
                    </a:lnTo>
                    <a:lnTo>
                      <a:pt x="39" y="0"/>
                    </a:lnTo>
                    <a:lnTo>
                      <a:pt x="1072" y="0"/>
                    </a:lnTo>
                    <a:lnTo>
                      <a:pt x="1133" y="20"/>
                    </a:lnTo>
                    <a:lnTo>
                      <a:pt x="1195" y="57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4743360" y="3540240"/>
                <a:ext cx="363600" cy="19080"/>
              </a:xfrm>
              <a:custGeom>
                <a:avLst/>
                <a:gdLst/>
                <a:ahLst/>
                <a:rect l="l" t="t" r="r" b="b"/>
                <a:pathLst>
                  <a:path w="1147" h="57">
                    <a:moveTo>
                      <a:pt x="1147" y="57"/>
                    </a:moveTo>
                    <a:lnTo>
                      <a:pt x="0" y="57"/>
                    </a:lnTo>
                    <a:lnTo>
                      <a:pt x="0" y="49"/>
                    </a:lnTo>
                    <a:lnTo>
                      <a:pt x="41" y="28"/>
                    </a:lnTo>
                    <a:lnTo>
                      <a:pt x="69" y="0"/>
                    </a:lnTo>
                    <a:lnTo>
                      <a:pt x="1000" y="0"/>
                    </a:lnTo>
                    <a:lnTo>
                      <a:pt x="1010" y="8"/>
                    </a:lnTo>
                    <a:lnTo>
                      <a:pt x="1133" y="49"/>
                    </a:lnTo>
                    <a:lnTo>
                      <a:pt x="1147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4754520" y="3532320"/>
                <a:ext cx="328680" cy="17280"/>
              </a:xfrm>
              <a:custGeom>
                <a:avLst/>
                <a:gdLst/>
                <a:ahLst/>
                <a:rect l="l" t="t" r="r" b="b"/>
                <a:pathLst>
                  <a:path w="1033" h="57">
                    <a:moveTo>
                      <a:pt x="1033" y="57"/>
                    </a:moveTo>
                    <a:lnTo>
                      <a:pt x="0" y="57"/>
                    </a:lnTo>
                    <a:lnTo>
                      <a:pt x="2" y="56"/>
                    </a:lnTo>
                    <a:lnTo>
                      <a:pt x="43" y="15"/>
                    </a:lnTo>
                    <a:lnTo>
                      <a:pt x="83" y="0"/>
                    </a:lnTo>
                    <a:lnTo>
                      <a:pt x="922" y="0"/>
                    </a:lnTo>
                    <a:lnTo>
                      <a:pt x="971" y="36"/>
                    </a:lnTo>
                    <a:lnTo>
                      <a:pt x="1033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4764240" y="3522600"/>
                <a:ext cx="296640" cy="17640"/>
              </a:xfrm>
              <a:custGeom>
                <a:avLst/>
                <a:gdLst/>
                <a:ahLst/>
                <a:rect l="l" t="t" r="r" b="b"/>
                <a:pathLst>
                  <a:path w="931" h="57">
                    <a:moveTo>
                      <a:pt x="931" y="57"/>
                    </a:moveTo>
                    <a:lnTo>
                      <a:pt x="0" y="57"/>
                    </a:lnTo>
                    <a:lnTo>
                      <a:pt x="13" y="44"/>
                    </a:lnTo>
                    <a:lnTo>
                      <a:pt x="114" y="5"/>
                    </a:lnTo>
                    <a:lnTo>
                      <a:pt x="138" y="0"/>
                    </a:lnTo>
                    <a:lnTo>
                      <a:pt x="842" y="0"/>
                    </a:lnTo>
                    <a:lnTo>
                      <a:pt x="860" y="5"/>
                    </a:lnTo>
                    <a:lnTo>
                      <a:pt x="931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4781520" y="3513240"/>
                <a:ext cx="266760" cy="19080"/>
              </a:xfrm>
              <a:custGeom>
                <a:avLst/>
                <a:gdLst/>
                <a:ahLst/>
                <a:rect l="l" t="t" r="r" b="b"/>
                <a:pathLst>
                  <a:path w="839" h="57">
                    <a:moveTo>
                      <a:pt x="839" y="57"/>
                    </a:moveTo>
                    <a:lnTo>
                      <a:pt x="0" y="57"/>
                    </a:lnTo>
                    <a:lnTo>
                      <a:pt x="61" y="33"/>
                    </a:lnTo>
                    <a:lnTo>
                      <a:pt x="162" y="12"/>
                    </a:lnTo>
                    <a:lnTo>
                      <a:pt x="225" y="0"/>
                    </a:lnTo>
                    <a:lnTo>
                      <a:pt x="685" y="0"/>
                    </a:lnTo>
                    <a:lnTo>
                      <a:pt x="728" y="12"/>
                    </a:lnTo>
                    <a:lnTo>
                      <a:pt x="807" y="33"/>
                    </a:lnTo>
                    <a:lnTo>
                      <a:pt x="839" y="57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4808520" y="3505320"/>
                <a:ext cx="223920" cy="17280"/>
              </a:xfrm>
              <a:custGeom>
                <a:avLst/>
                <a:gdLst/>
                <a:ahLst/>
                <a:rect l="l" t="t" r="r" b="b"/>
                <a:pathLst>
                  <a:path w="704" h="56">
                    <a:moveTo>
                      <a:pt x="704" y="56"/>
                    </a:moveTo>
                    <a:lnTo>
                      <a:pt x="0" y="56"/>
                    </a:lnTo>
                    <a:lnTo>
                      <a:pt x="77" y="40"/>
                    </a:lnTo>
                    <a:lnTo>
                      <a:pt x="177" y="20"/>
                    </a:lnTo>
                    <a:lnTo>
                      <a:pt x="360" y="20"/>
                    </a:lnTo>
                    <a:lnTo>
                      <a:pt x="441" y="0"/>
                    </a:lnTo>
                    <a:lnTo>
                      <a:pt x="501" y="0"/>
                    </a:lnTo>
                    <a:lnTo>
                      <a:pt x="643" y="40"/>
                    </a:lnTo>
                    <a:lnTo>
                      <a:pt x="704" y="56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4853160" y="3505320"/>
                <a:ext cx="145800" cy="7920"/>
              </a:xfrm>
              <a:custGeom>
                <a:avLst/>
                <a:gdLst/>
                <a:ahLst/>
                <a:rect l="l" t="t" r="r" b="b"/>
                <a:pathLst>
                  <a:path w="460" h="28">
                    <a:moveTo>
                      <a:pt x="460" y="28"/>
                    </a:moveTo>
                    <a:lnTo>
                      <a:pt x="0" y="28"/>
                    </a:lnTo>
                    <a:lnTo>
                      <a:pt x="37" y="20"/>
                    </a:lnTo>
                    <a:lnTo>
                      <a:pt x="220" y="20"/>
                    </a:lnTo>
                    <a:lnTo>
                      <a:pt x="301" y="0"/>
                    </a:lnTo>
                    <a:lnTo>
                      <a:pt x="361" y="0"/>
                    </a:lnTo>
                    <a:lnTo>
                      <a:pt x="46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6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430360" y="3583080"/>
            <a:ext cx="4256280" cy="2278080"/>
            <a:chOff x="2430360" y="3583080"/>
            <a:chExt cx="4256280" cy="2278080"/>
          </a:xfrm>
        </p:grpSpPr>
        <p:grpSp>
          <p:nvGrpSpPr>
            <p:cNvPr id="112" name=""/>
            <p:cNvGrpSpPr/>
            <p:nvPr/>
          </p:nvGrpSpPr>
          <p:grpSpPr>
            <a:xfrm>
              <a:off x="2430360" y="3713040"/>
              <a:ext cx="4122720" cy="1509840"/>
              <a:chOff x="2430360" y="3713040"/>
              <a:chExt cx="4122720" cy="1509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540480" y="451008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48" h="94">
                    <a:moveTo>
                      <a:pt x="0" y="94"/>
                    </a:moveTo>
                    <a:lnTo>
                      <a:pt x="11" y="87"/>
                    </a:lnTo>
                    <a:lnTo>
                      <a:pt x="48" y="50"/>
                    </a:lnTo>
                    <a:lnTo>
                      <a:pt x="48" y="13"/>
                    </a:lnTo>
                    <a:lnTo>
                      <a:pt x="8" y="0"/>
                    </a:lnTo>
                    <a:lnTo>
                      <a:pt x="7" y="11"/>
                    </a:lnTo>
                    <a:lnTo>
                      <a:pt x="5" y="23"/>
                    </a:lnTo>
                    <a:lnTo>
                      <a:pt x="4" y="35"/>
                    </a:lnTo>
                    <a:lnTo>
                      <a:pt x="3" y="47"/>
                    </a:lnTo>
                    <a:lnTo>
                      <a:pt x="2" y="58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27880" y="45068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98" h="136">
                    <a:moveTo>
                      <a:pt x="0" y="136"/>
                    </a:moveTo>
                    <a:lnTo>
                      <a:pt x="61" y="104"/>
                    </a:lnTo>
                    <a:lnTo>
                      <a:pt x="98" y="67"/>
                    </a:lnTo>
                    <a:lnTo>
                      <a:pt x="98" y="30"/>
                    </a:lnTo>
                    <a:lnTo>
                      <a:pt x="13" y="0"/>
                    </a:lnTo>
                    <a:lnTo>
                      <a:pt x="10" y="18"/>
                    </a:lnTo>
                    <a:lnTo>
                      <a:pt x="9" y="35"/>
                    </a:lnTo>
                    <a:lnTo>
                      <a:pt x="8" y="51"/>
                    </a:lnTo>
                    <a:lnTo>
                      <a:pt x="6" y="68"/>
                    </a:lnTo>
                    <a:lnTo>
                      <a:pt x="5" y="86"/>
                    </a:lnTo>
                    <a:lnTo>
                      <a:pt x="4" y="103"/>
                    </a:lnTo>
                    <a:lnTo>
                      <a:pt x="1" y="119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13480" y="4500720"/>
                <a:ext cx="28440" cy="5364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01" y="132"/>
                    </a:moveTo>
                    <a:lnTo>
                      <a:pt x="101" y="119"/>
                    </a:lnTo>
                    <a:lnTo>
                      <a:pt x="102" y="108"/>
                    </a:lnTo>
                    <a:lnTo>
                      <a:pt x="103" y="96"/>
                    </a:lnTo>
                    <a:lnTo>
                      <a:pt x="104" y="85"/>
                    </a:lnTo>
                    <a:lnTo>
                      <a:pt x="105" y="73"/>
                    </a:lnTo>
                    <a:lnTo>
                      <a:pt x="106" y="61"/>
                    </a:lnTo>
                    <a:lnTo>
                      <a:pt x="108" y="49"/>
                    </a:lnTo>
                    <a:lnTo>
                      <a:pt x="109" y="38"/>
                    </a:lnTo>
                    <a:lnTo>
                      <a:pt x="35" y="11"/>
                    </a:lnTo>
                    <a:lnTo>
                      <a:pt x="18" y="0"/>
                    </a:lnTo>
                    <a:lnTo>
                      <a:pt x="16" y="25"/>
                    </a:lnTo>
                    <a:lnTo>
                      <a:pt x="14" y="50"/>
                    </a:lnTo>
                    <a:lnTo>
                      <a:pt x="12" y="76"/>
                    </a:lnTo>
                    <a:lnTo>
                      <a:pt x="10" y="100"/>
                    </a:lnTo>
                    <a:lnTo>
                      <a:pt x="7" y="125"/>
                    </a:lnTo>
                    <a:lnTo>
                      <a:pt x="5" y="151"/>
                    </a:lnTo>
                    <a:lnTo>
                      <a:pt x="3" y="176"/>
                    </a:lnTo>
                    <a:lnTo>
                      <a:pt x="0" y="200"/>
                    </a:lnTo>
                    <a:lnTo>
                      <a:pt x="35" y="166"/>
                    </a:lnTo>
                    <a:lnTo>
                      <a:pt x="101" y="13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00880" y="4492800"/>
                <a:ext cx="30240" cy="72720"/>
              </a:xfrm>
              <a:custGeom>
                <a:avLst/>
                <a:gdLst/>
                <a:ahLst/>
                <a:rect l="l" t="t" r="r" b="b"/>
                <a:pathLst>
                  <a:path w="114" h="273">
                    <a:moveTo>
                      <a:pt x="101" y="187"/>
                    </a:moveTo>
                    <a:lnTo>
                      <a:pt x="102" y="170"/>
                    </a:lnTo>
                    <a:lnTo>
                      <a:pt x="105" y="154"/>
                    </a:lnTo>
                    <a:lnTo>
                      <a:pt x="106" y="137"/>
                    </a:lnTo>
                    <a:lnTo>
                      <a:pt x="107" y="119"/>
                    </a:lnTo>
                    <a:lnTo>
                      <a:pt x="109" y="102"/>
                    </a:lnTo>
                    <a:lnTo>
                      <a:pt x="110" y="86"/>
                    </a:lnTo>
                    <a:lnTo>
                      <a:pt x="111" y="69"/>
                    </a:lnTo>
                    <a:lnTo>
                      <a:pt x="114" y="51"/>
                    </a:lnTo>
                    <a:lnTo>
                      <a:pt x="85" y="41"/>
                    </a:lnTo>
                    <a:lnTo>
                      <a:pt x="24" y="0"/>
                    </a:lnTo>
                    <a:lnTo>
                      <a:pt x="20" y="34"/>
                    </a:lnTo>
                    <a:lnTo>
                      <a:pt x="18" y="69"/>
                    </a:lnTo>
                    <a:lnTo>
                      <a:pt x="16" y="102"/>
                    </a:lnTo>
                    <a:lnTo>
                      <a:pt x="12" y="137"/>
                    </a:lnTo>
                    <a:lnTo>
                      <a:pt x="9" y="171"/>
                    </a:lnTo>
                    <a:lnTo>
                      <a:pt x="6" y="205"/>
                    </a:lnTo>
                    <a:lnTo>
                      <a:pt x="3" y="239"/>
                    </a:lnTo>
                    <a:lnTo>
                      <a:pt x="0" y="273"/>
                    </a:lnTo>
                    <a:lnTo>
                      <a:pt x="8" y="273"/>
                    </a:lnTo>
                    <a:lnTo>
                      <a:pt x="48" y="232"/>
                    </a:lnTo>
                    <a:lnTo>
                      <a:pt x="85" y="196"/>
                    </a:lnTo>
                    <a:lnTo>
                      <a:pt x="101" y="187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88280" y="4484520"/>
                <a:ext cx="29880" cy="81000"/>
              </a:xfrm>
              <a:custGeom>
                <a:avLst/>
                <a:gdLst/>
                <a:ahLst/>
                <a:rect l="l" t="t" r="r" b="b"/>
                <a:pathLst>
                  <a:path w="116" h="303">
                    <a:moveTo>
                      <a:pt x="97" y="260"/>
                    </a:moveTo>
                    <a:lnTo>
                      <a:pt x="100" y="235"/>
                    </a:lnTo>
                    <a:lnTo>
                      <a:pt x="102" y="211"/>
                    </a:lnTo>
                    <a:lnTo>
                      <a:pt x="104" y="185"/>
                    </a:lnTo>
                    <a:lnTo>
                      <a:pt x="107" y="160"/>
                    </a:lnTo>
                    <a:lnTo>
                      <a:pt x="109" y="136"/>
                    </a:lnTo>
                    <a:lnTo>
                      <a:pt x="111" y="110"/>
                    </a:lnTo>
                    <a:lnTo>
                      <a:pt x="113" y="85"/>
                    </a:lnTo>
                    <a:lnTo>
                      <a:pt x="116" y="61"/>
                    </a:lnTo>
                    <a:lnTo>
                      <a:pt x="26" y="0"/>
                    </a:lnTo>
                    <a:lnTo>
                      <a:pt x="22" y="38"/>
                    </a:lnTo>
                    <a:lnTo>
                      <a:pt x="20" y="76"/>
                    </a:lnTo>
                    <a:lnTo>
                      <a:pt x="17" y="114"/>
                    </a:lnTo>
                    <a:lnTo>
                      <a:pt x="14" y="152"/>
                    </a:lnTo>
                    <a:lnTo>
                      <a:pt x="11" y="190"/>
                    </a:lnTo>
                    <a:lnTo>
                      <a:pt x="7" y="228"/>
                    </a:lnTo>
                    <a:lnTo>
                      <a:pt x="4" y="266"/>
                    </a:lnTo>
                    <a:lnTo>
                      <a:pt x="0" y="303"/>
                    </a:lnTo>
                    <a:lnTo>
                      <a:pt x="55" y="303"/>
                    </a:lnTo>
                    <a:lnTo>
                      <a:pt x="95" y="262"/>
                    </a:lnTo>
                    <a:lnTo>
                      <a:pt x="97" y="26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75320" y="4476600"/>
                <a:ext cx="31680" cy="95400"/>
              </a:xfrm>
              <a:custGeom>
                <a:avLst/>
                <a:gdLst/>
                <a:ahLst/>
                <a:rect l="l" t="t" r="r" b="b"/>
                <a:pathLst>
                  <a:path w="120" h="359">
                    <a:moveTo>
                      <a:pt x="96" y="332"/>
                    </a:moveTo>
                    <a:lnTo>
                      <a:pt x="99" y="298"/>
                    </a:lnTo>
                    <a:lnTo>
                      <a:pt x="102" y="264"/>
                    </a:lnTo>
                    <a:lnTo>
                      <a:pt x="105" y="230"/>
                    </a:lnTo>
                    <a:lnTo>
                      <a:pt x="108" y="196"/>
                    </a:lnTo>
                    <a:lnTo>
                      <a:pt x="112" y="161"/>
                    </a:lnTo>
                    <a:lnTo>
                      <a:pt x="114" y="128"/>
                    </a:lnTo>
                    <a:lnTo>
                      <a:pt x="116" y="93"/>
                    </a:lnTo>
                    <a:lnTo>
                      <a:pt x="120" y="59"/>
                    </a:lnTo>
                    <a:lnTo>
                      <a:pt x="67" y="23"/>
                    </a:lnTo>
                    <a:lnTo>
                      <a:pt x="30" y="0"/>
                    </a:lnTo>
                    <a:lnTo>
                      <a:pt x="26" y="45"/>
                    </a:lnTo>
                    <a:lnTo>
                      <a:pt x="23" y="90"/>
                    </a:lnTo>
                    <a:lnTo>
                      <a:pt x="19" y="135"/>
                    </a:lnTo>
                    <a:lnTo>
                      <a:pt x="16" y="180"/>
                    </a:lnTo>
                    <a:lnTo>
                      <a:pt x="13" y="225"/>
                    </a:lnTo>
                    <a:lnTo>
                      <a:pt x="8" y="270"/>
                    </a:lnTo>
                    <a:lnTo>
                      <a:pt x="4" y="314"/>
                    </a:lnTo>
                    <a:lnTo>
                      <a:pt x="0" y="359"/>
                    </a:lnTo>
                    <a:lnTo>
                      <a:pt x="30" y="332"/>
                    </a:lnTo>
                    <a:lnTo>
                      <a:pt x="96" y="33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62720" y="4468680"/>
                <a:ext cx="31680" cy="106560"/>
              </a:xfrm>
              <a:custGeom>
                <a:avLst/>
                <a:gdLst/>
                <a:ahLst/>
                <a:rect l="l" t="t" r="r" b="b"/>
                <a:pathLst>
                  <a:path w="124" h="399">
                    <a:moveTo>
                      <a:pt x="98" y="361"/>
                    </a:moveTo>
                    <a:lnTo>
                      <a:pt x="102" y="324"/>
                    </a:lnTo>
                    <a:lnTo>
                      <a:pt x="105" y="286"/>
                    </a:lnTo>
                    <a:lnTo>
                      <a:pt x="109" y="248"/>
                    </a:lnTo>
                    <a:lnTo>
                      <a:pt x="112" y="210"/>
                    </a:lnTo>
                    <a:lnTo>
                      <a:pt x="115" y="172"/>
                    </a:lnTo>
                    <a:lnTo>
                      <a:pt x="118" y="134"/>
                    </a:lnTo>
                    <a:lnTo>
                      <a:pt x="120" y="96"/>
                    </a:lnTo>
                    <a:lnTo>
                      <a:pt x="124" y="58"/>
                    </a:lnTo>
                    <a:lnTo>
                      <a:pt x="116" y="52"/>
                    </a:lnTo>
                    <a:lnTo>
                      <a:pt x="34" y="0"/>
                    </a:lnTo>
                    <a:lnTo>
                      <a:pt x="30" y="50"/>
                    </a:lnTo>
                    <a:lnTo>
                      <a:pt x="27" y="99"/>
                    </a:lnTo>
                    <a:lnTo>
                      <a:pt x="23" y="150"/>
                    </a:lnTo>
                    <a:lnTo>
                      <a:pt x="19" y="199"/>
                    </a:lnTo>
                    <a:lnTo>
                      <a:pt x="15" y="250"/>
                    </a:lnTo>
                    <a:lnTo>
                      <a:pt x="11" y="300"/>
                    </a:lnTo>
                    <a:lnTo>
                      <a:pt x="6" y="349"/>
                    </a:lnTo>
                    <a:lnTo>
                      <a:pt x="0" y="399"/>
                    </a:lnTo>
                    <a:lnTo>
                      <a:pt x="2" y="398"/>
                    </a:lnTo>
                    <a:lnTo>
                      <a:pt x="38" y="398"/>
                    </a:lnTo>
                    <a:lnTo>
                      <a:pt x="79" y="361"/>
                    </a:lnTo>
                    <a:lnTo>
                      <a:pt x="98" y="36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48320" y="4460760"/>
                <a:ext cx="34920" cy="128880"/>
              </a:xfrm>
              <a:custGeom>
                <a:avLst/>
                <a:gdLst/>
                <a:ahLst/>
                <a:rect l="l" t="t" r="r" b="b"/>
                <a:pathLst>
                  <a:path w="132" h="487">
                    <a:moveTo>
                      <a:pt x="102" y="423"/>
                    </a:moveTo>
                    <a:lnTo>
                      <a:pt x="106" y="378"/>
                    </a:lnTo>
                    <a:lnTo>
                      <a:pt x="110" y="334"/>
                    </a:lnTo>
                    <a:lnTo>
                      <a:pt x="115" y="289"/>
                    </a:lnTo>
                    <a:lnTo>
                      <a:pt x="118" y="244"/>
                    </a:lnTo>
                    <a:lnTo>
                      <a:pt x="121" y="199"/>
                    </a:lnTo>
                    <a:lnTo>
                      <a:pt x="125" y="154"/>
                    </a:lnTo>
                    <a:lnTo>
                      <a:pt x="128" y="109"/>
                    </a:lnTo>
                    <a:lnTo>
                      <a:pt x="132" y="64"/>
                    </a:lnTo>
                    <a:lnTo>
                      <a:pt x="55" y="14"/>
                    </a:lnTo>
                    <a:lnTo>
                      <a:pt x="42" y="0"/>
                    </a:lnTo>
                    <a:lnTo>
                      <a:pt x="38" y="61"/>
                    </a:lnTo>
                    <a:lnTo>
                      <a:pt x="34" y="123"/>
                    </a:lnTo>
                    <a:lnTo>
                      <a:pt x="29" y="184"/>
                    </a:lnTo>
                    <a:lnTo>
                      <a:pt x="25" y="245"/>
                    </a:lnTo>
                    <a:lnTo>
                      <a:pt x="19" y="305"/>
                    </a:lnTo>
                    <a:lnTo>
                      <a:pt x="13" y="366"/>
                    </a:lnTo>
                    <a:lnTo>
                      <a:pt x="7" y="426"/>
                    </a:lnTo>
                    <a:lnTo>
                      <a:pt x="0" y="487"/>
                    </a:lnTo>
                    <a:lnTo>
                      <a:pt x="55" y="433"/>
                    </a:lnTo>
                    <a:lnTo>
                      <a:pt x="91" y="433"/>
                    </a:lnTo>
                    <a:lnTo>
                      <a:pt x="102" y="42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34280" y="4448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9" h="585">
                    <a:moveTo>
                      <a:pt x="105" y="479"/>
                    </a:moveTo>
                    <a:lnTo>
                      <a:pt x="111" y="429"/>
                    </a:lnTo>
                    <a:lnTo>
                      <a:pt x="116" y="380"/>
                    </a:lnTo>
                    <a:lnTo>
                      <a:pt x="120" y="330"/>
                    </a:lnTo>
                    <a:lnTo>
                      <a:pt x="124" y="279"/>
                    </a:lnTo>
                    <a:lnTo>
                      <a:pt x="128" y="230"/>
                    </a:lnTo>
                    <a:lnTo>
                      <a:pt x="132" y="179"/>
                    </a:lnTo>
                    <a:lnTo>
                      <a:pt x="135" y="130"/>
                    </a:lnTo>
                    <a:lnTo>
                      <a:pt x="139" y="80"/>
                    </a:lnTo>
                    <a:lnTo>
                      <a:pt x="107" y="59"/>
                    </a:lnTo>
                    <a:lnTo>
                      <a:pt x="50" y="0"/>
                    </a:lnTo>
                    <a:lnTo>
                      <a:pt x="45" y="74"/>
                    </a:lnTo>
                    <a:lnTo>
                      <a:pt x="41" y="148"/>
                    </a:lnTo>
                    <a:lnTo>
                      <a:pt x="35" y="221"/>
                    </a:lnTo>
                    <a:lnTo>
                      <a:pt x="29" y="293"/>
                    </a:lnTo>
                    <a:lnTo>
                      <a:pt x="22" y="367"/>
                    </a:lnTo>
                    <a:lnTo>
                      <a:pt x="15" y="440"/>
                    </a:lnTo>
                    <a:lnTo>
                      <a:pt x="7" y="512"/>
                    </a:lnTo>
                    <a:lnTo>
                      <a:pt x="0" y="585"/>
                    </a:lnTo>
                    <a:lnTo>
                      <a:pt x="105" y="47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21320" y="4437000"/>
                <a:ext cx="38160" cy="179280"/>
              </a:xfrm>
              <a:custGeom>
                <a:avLst/>
                <a:gdLst/>
                <a:ahLst/>
                <a:rect l="l" t="t" r="r" b="b"/>
                <a:pathLst>
                  <a:path w="147" h="681">
                    <a:moveTo>
                      <a:pt x="105" y="577"/>
                    </a:moveTo>
                    <a:lnTo>
                      <a:pt x="112" y="516"/>
                    </a:lnTo>
                    <a:lnTo>
                      <a:pt x="118" y="456"/>
                    </a:lnTo>
                    <a:lnTo>
                      <a:pt x="124" y="395"/>
                    </a:lnTo>
                    <a:lnTo>
                      <a:pt x="130" y="335"/>
                    </a:lnTo>
                    <a:lnTo>
                      <a:pt x="134" y="274"/>
                    </a:lnTo>
                    <a:lnTo>
                      <a:pt x="139" y="213"/>
                    </a:lnTo>
                    <a:lnTo>
                      <a:pt x="143" y="151"/>
                    </a:lnTo>
                    <a:lnTo>
                      <a:pt x="147" y="90"/>
                    </a:lnTo>
                    <a:lnTo>
                      <a:pt x="59" y="0"/>
                    </a:lnTo>
                    <a:lnTo>
                      <a:pt x="55" y="86"/>
                    </a:lnTo>
                    <a:lnTo>
                      <a:pt x="49" y="171"/>
                    </a:lnTo>
                    <a:lnTo>
                      <a:pt x="42" y="256"/>
                    </a:lnTo>
                    <a:lnTo>
                      <a:pt x="35" y="342"/>
                    </a:lnTo>
                    <a:lnTo>
                      <a:pt x="27" y="427"/>
                    </a:lnTo>
                    <a:lnTo>
                      <a:pt x="19" y="511"/>
                    </a:lnTo>
                    <a:lnTo>
                      <a:pt x="10" y="596"/>
                    </a:lnTo>
                    <a:lnTo>
                      <a:pt x="0" y="681"/>
                    </a:lnTo>
                    <a:lnTo>
                      <a:pt x="5" y="677"/>
                    </a:lnTo>
                    <a:lnTo>
                      <a:pt x="105" y="57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07280" y="4424400"/>
                <a:ext cx="41040" cy="200160"/>
              </a:xfrm>
              <a:custGeom>
                <a:avLst/>
                <a:gdLst/>
                <a:ahLst/>
                <a:rect l="l" t="t" r="r" b="b"/>
                <a:pathLst>
                  <a:path w="153" h="754">
                    <a:moveTo>
                      <a:pt x="103" y="673"/>
                    </a:moveTo>
                    <a:lnTo>
                      <a:pt x="110" y="600"/>
                    </a:lnTo>
                    <a:lnTo>
                      <a:pt x="118" y="528"/>
                    </a:lnTo>
                    <a:lnTo>
                      <a:pt x="125" y="455"/>
                    </a:lnTo>
                    <a:lnTo>
                      <a:pt x="132" y="381"/>
                    </a:lnTo>
                    <a:lnTo>
                      <a:pt x="138" y="309"/>
                    </a:lnTo>
                    <a:lnTo>
                      <a:pt x="144" y="236"/>
                    </a:lnTo>
                    <a:lnTo>
                      <a:pt x="148" y="162"/>
                    </a:lnTo>
                    <a:lnTo>
                      <a:pt x="153" y="88"/>
                    </a:lnTo>
                    <a:lnTo>
                      <a:pt x="95" y="28"/>
                    </a:lnTo>
                    <a:lnTo>
                      <a:pt x="65" y="0"/>
                    </a:lnTo>
                    <a:lnTo>
                      <a:pt x="61" y="95"/>
                    </a:lnTo>
                    <a:lnTo>
                      <a:pt x="54" y="190"/>
                    </a:lnTo>
                    <a:lnTo>
                      <a:pt x="47" y="284"/>
                    </a:lnTo>
                    <a:lnTo>
                      <a:pt x="39" y="379"/>
                    </a:lnTo>
                    <a:lnTo>
                      <a:pt x="31" y="472"/>
                    </a:lnTo>
                    <a:lnTo>
                      <a:pt x="22" y="567"/>
                    </a:lnTo>
                    <a:lnTo>
                      <a:pt x="11" y="660"/>
                    </a:lnTo>
                    <a:lnTo>
                      <a:pt x="0" y="754"/>
                    </a:lnTo>
                    <a:lnTo>
                      <a:pt x="55" y="720"/>
                    </a:lnTo>
                    <a:lnTo>
                      <a:pt x="103" y="67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94320" y="4413240"/>
                <a:ext cx="41400" cy="219240"/>
              </a:xfrm>
              <a:custGeom>
                <a:avLst/>
                <a:gdLst/>
                <a:ahLst/>
                <a:rect l="l" t="t" r="r" b="b"/>
                <a:pathLst>
                  <a:path w="159" h="828">
                    <a:moveTo>
                      <a:pt x="100" y="768"/>
                    </a:moveTo>
                    <a:lnTo>
                      <a:pt x="110" y="683"/>
                    </a:lnTo>
                    <a:lnTo>
                      <a:pt x="119" y="598"/>
                    </a:lnTo>
                    <a:lnTo>
                      <a:pt x="127" y="514"/>
                    </a:lnTo>
                    <a:lnTo>
                      <a:pt x="135" y="429"/>
                    </a:lnTo>
                    <a:lnTo>
                      <a:pt x="142" y="343"/>
                    </a:lnTo>
                    <a:lnTo>
                      <a:pt x="149" y="258"/>
                    </a:lnTo>
                    <a:lnTo>
                      <a:pt x="155" y="173"/>
                    </a:lnTo>
                    <a:lnTo>
                      <a:pt x="159" y="87"/>
                    </a:lnTo>
                    <a:lnTo>
                      <a:pt x="145" y="72"/>
                    </a:lnTo>
                    <a:lnTo>
                      <a:pt x="72" y="0"/>
                    </a:lnTo>
                    <a:lnTo>
                      <a:pt x="66" y="105"/>
                    </a:lnTo>
                    <a:lnTo>
                      <a:pt x="59" y="208"/>
                    </a:lnTo>
                    <a:lnTo>
                      <a:pt x="52" y="312"/>
                    </a:lnTo>
                    <a:lnTo>
                      <a:pt x="43" y="416"/>
                    </a:lnTo>
                    <a:lnTo>
                      <a:pt x="33" y="520"/>
                    </a:lnTo>
                    <a:lnTo>
                      <a:pt x="23" y="622"/>
                    </a:lnTo>
                    <a:lnTo>
                      <a:pt x="12" y="725"/>
                    </a:lnTo>
                    <a:lnTo>
                      <a:pt x="0" y="828"/>
                    </a:lnTo>
                    <a:lnTo>
                      <a:pt x="100" y="768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380280" y="4402080"/>
                <a:ext cx="44280" cy="238320"/>
              </a:xfrm>
              <a:custGeom>
                <a:avLst/>
                <a:gdLst/>
                <a:ahLst/>
                <a:rect l="l" t="t" r="r" b="b"/>
                <a:pathLst>
                  <a:path w="166" h="901">
                    <a:moveTo>
                      <a:pt x="101" y="842"/>
                    </a:moveTo>
                    <a:lnTo>
                      <a:pt x="112" y="748"/>
                    </a:lnTo>
                    <a:lnTo>
                      <a:pt x="123" y="655"/>
                    </a:lnTo>
                    <a:lnTo>
                      <a:pt x="132" y="560"/>
                    </a:lnTo>
                    <a:lnTo>
                      <a:pt x="140" y="467"/>
                    </a:lnTo>
                    <a:lnTo>
                      <a:pt x="148" y="372"/>
                    </a:lnTo>
                    <a:lnTo>
                      <a:pt x="155" y="278"/>
                    </a:lnTo>
                    <a:lnTo>
                      <a:pt x="162" y="183"/>
                    </a:lnTo>
                    <a:lnTo>
                      <a:pt x="166" y="88"/>
                    </a:lnTo>
                    <a:lnTo>
                      <a:pt x="78" y="0"/>
                    </a:lnTo>
                    <a:lnTo>
                      <a:pt x="72" y="114"/>
                    </a:lnTo>
                    <a:lnTo>
                      <a:pt x="65" y="227"/>
                    </a:lnTo>
                    <a:lnTo>
                      <a:pt x="57" y="341"/>
                    </a:lnTo>
                    <a:lnTo>
                      <a:pt x="48" y="453"/>
                    </a:lnTo>
                    <a:lnTo>
                      <a:pt x="37" y="566"/>
                    </a:lnTo>
                    <a:lnTo>
                      <a:pt x="26" y="678"/>
                    </a:lnTo>
                    <a:lnTo>
                      <a:pt x="13" y="790"/>
                    </a:lnTo>
                    <a:lnTo>
                      <a:pt x="0" y="901"/>
                    </a:lnTo>
                    <a:lnTo>
                      <a:pt x="101" y="84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67320" y="4389480"/>
                <a:ext cx="46080" cy="258840"/>
              </a:xfrm>
              <a:custGeom>
                <a:avLst/>
                <a:gdLst/>
                <a:ahLst/>
                <a:rect l="l" t="t" r="r" b="b"/>
                <a:pathLst>
                  <a:path w="175" h="980">
                    <a:moveTo>
                      <a:pt x="103" y="919"/>
                    </a:moveTo>
                    <a:lnTo>
                      <a:pt x="115" y="816"/>
                    </a:lnTo>
                    <a:lnTo>
                      <a:pt x="126" y="713"/>
                    </a:lnTo>
                    <a:lnTo>
                      <a:pt x="136" y="611"/>
                    </a:lnTo>
                    <a:lnTo>
                      <a:pt x="146" y="507"/>
                    </a:lnTo>
                    <a:lnTo>
                      <a:pt x="155" y="403"/>
                    </a:lnTo>
                    <a:lnTo>
                      <a:pt x="162" y="299"/>
                    </a:lnTo>
                    <a:lnTo>
                      <a:pt x="169" y="196"/>
                    </a:lnTo>
                    <a:lnTo>
                      <a:pt x="175" y="91"/>
                    </a:lnTo>
                    <a:lnTo>
                      <a:pt x="94" y="14"/>
                    </a:lnTo>
                    <a:lnTo>
                      <a:pt x="85" y="0"/>
                    </a:lnTo>
                    <a:lnTo>
                      <a:pt x="79" y="124"/>
                    </a:lnTo>
                    <a:lnTo>
                      <a:pt x="72" y="248"/>
                    </a:lnTo>
                    <a:lnTo>
                      <a:pt x="63" y="370"/>
                    </a:lnTo>
                    <a:lnTo>
                      <a:pt x="53" y="493"/>
                    </a:lnTo>
                    <a:lnTo>
                      <a:pt x="42" y="615"/>
                    </a:lnTo>
                    <a:lnTo>
                      <a:pt x="29" y="736"/>
                    </a:lnTo>
                    <a:lnTo>
                      <a:pt x="15" y="859"/>
                    </a:lnTo>
                    <a:lnTo>
                      <a:pt x="0" y="980"/>
                    </a:lnTo>
                    <a:lnTo>
                      <a:pt x="17" y="969"/>
                    </a:lnTo>
                    <a:lnTo>
                      <a:pt x="103" y="91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53280" y="4373640"/>
                <a:ext cx="47520" cy="282600"/>
              </a:xfrm>
              <a:custGeom>
                <a:avLst/>
                <a:gdLst/>
                <a:ahLst/>
                <a:rect l="l" t="t" r="r" b="b"/>
                <a:pathLst>
                  <a:path w="180" h="1070">
                    <a:moveTo>
                      <a:pt x="102" y="1008"/>
                    </a:moveTo>
                    <a:lnTo>
                      <a:pt x="115" y="897"/>
                    </a:lnTo>
                    <a:lnTo>
                      <a:pt x="128" y="785"/>
                    </a:lnTo>
                    <a:lnTo>
                      <a:pt x="139" y="673"/>
                    </a:lnTo>
                    <a:lnTo>
                      <a:pt x="150" y="560"/>
                    </a:lnTo>
                    <a:lnTo>
                      <a:pt x="159" y="448"/>
                    </a:lnTo>
                    <a:lnTo>
                      <a:pt x="167" y="334"/>
                    </a:lnTo>
                    <a:lnTo>
                      <a:pt x="174" y="221"/>
                    </a:lnTo>
                    <a:lnTo>
                      <a:pt x="180" y="107"/>
                    </a:lnTo>
                    <a:lnTo>
                      <a:pt x="144" y="74"/>
                    </a:lnTo>
                    <a:lnTo>
                      <a:pt x="90" y="0"/>
                    </a:lnTo>
                    <a:lnTo>
                      <a:pt x="84" y="136"/>
                    </a:lnTo>
                    <a:lnTo>
                      <a:pt x="77" y="271"/>
                    </a:lnTo>
                    <a:lnTo>
                      <a:pt x="68" y="404"/>
                    </a:lnTo>
                    <a:lnTo>
                      <a:pt x="57" y="538"/>
                    </a:lnTo>
                    <a:lnTo>
                      <a:pt x="46" y="672"/>
                    </a:lnTo>
                    <a:lnTo>
                      <a:pt x="32" y="806"/>
                    </a:lnTo>
                    <a:lnTo>
                      <a:pt x="16" y="938"/>
                    </a:lnTo>
                    <a:lnTo>
                      <a:pt x="0" y="1070"/>
                    </a:lnTo>
                    <a:lnTo>
                      <a:pt x="67" y="1029"/>
                    </a:lnTo>
                    <a:lnTo>
                      <a:pt x="102" y="1008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40320" y="4357800"/>
                <a:ext cx="49320" cy="306360"/>
              </a:xfrm>
              <a:custGeom>
                <a:avLst/>
                <a:gdLst/>
                <a:ahLst/>
                <a:rect l="l" t="t" r="r" b="b"/>
                <a:pathLst>
                  <a:path w="187" h="1161">
                    <a:moveTo>
                      <a:pt x="102" y="1100"/>
                    </a:moveTo>
                    <a:lnTo>
                      <a:pt x="117" y="979"/>
                    </a:lnTo>
                    <a:lnTo>
                      <a:pt x="131" y="856"/>
                    </a:lnTo>
                    <a:lnTo>
                      <a:pt x="144" y="735"/>
                    </a:lnTo>
                    <a:lnTo>
                      <a:pt x="155" y="613"/>
                    </a:lnTo>
                    <a:lnTo>
                      <a:pt x="165" y="490"/>
                    </a:lnTo>
                    <a:lnTo>
                      <a:pt x="174" y="368"/>
                    </a:lnTo>
                    <a:lnTo>
                      <a:pt x="181" y="244"/>
                    </a:lnTo>
                    <a:lnTo>
                      <a:pt x="187" y="120"/>
                    </a:lnTo>
                    <a:lnTo>
                      <a:pt x="98" y="0"/>
                    </a:lnTo>
                    <a:lnTo>
                      <a:pt x="92" y="146"/>
                    </a:lnTo>
                    <a:lnTo>
                      <a:pt x="85" y="293"/>
                    </a:lnTo>
                    <a:lnTo>
                      <a:pt x="76" y="439"/>
                    </a:lnTo>
                    <a:lnTo>
                      <a:pt x="64" y="584"/>
                    </a:lnTo>
                    <a:lnTo>
                      <a:pt x="50" y="730"/>
                    </a:lnTo>
                    <a:lnTo>
                      <a:pt x="35" y="874"/>
                    </a:lnTo>
                    <a:lnTo>
                      <a:pt x="18" y="1018"/>
                    </a:lnTo>
                    <a:lnTo>
                      <a:pt x="0" y="1161"/>
                    </a:lnTo>
                    <a:lnTo>
                      <a:pt x="102" y="1100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6280" y="4344840"/>
                <a:ext cx="50760" cy="327240"/>
              </a:xfrm>
              <a:custGeom>
                <a:avLst/>
                <a:gdLst/>
                <a:ahLst/>
                <a:rect l="l" t="t" r="r" b="b"/>
                <a:pathLst>
                  <a:path w="193" h="1242">
                    <a:moveTo>
                      <a:pt x="103" y="1181"/>
                    </a:moveTo>
                    <a:lnTo>
                      <a:pt x="119" y="1049"/>
                    </a:lnTo>
                    <a:lnTo>
                      <a:pt x="135" y="917"/>
                    </a:lnTo>
                    <a:lnTo>
                      <a:pt x="149" y="783"/>
                    </a:lnTo>
                    <a:lnTo>
                      <a:pt x="160" y="649"/>
                    </a:lnTo>
                    <a:lnTo>
                      <a:pt x="171" y="515"/>
                    </a:lnTo>
                    <a:lnTo>
                      <a:pt x="180" y="382"/>
                    </a:lnTo>
                    <a:lnTo>
                      <a:pt x="187" y="247"/>
                    </a:lnTo>
                    <a:lnTo>
                      <a:pt x="193" y="111"/>
                    </a:lnTo>
                    <a:lnTo>
                      <a:pt x="133" y="30"/>
                    </a:lnTo>
                    <a:lnTo>
                      <a:pt x="104" y="0"/>
                    </a:lnTo>
                    <a:lnTo>
                      <a:pt x="99" y="158"/>
                    </a:lnTo>
                    <a:lnTo>
                      <a:pt x="91" y="315"/>
                    </a:lnTo>
                    <a:lnTo>
                      <a:pt x="82" y="470"/>
                    </a:lnTo>
                    <a:lnTo>
                      <a:pt x="69" y="626"/>
                    </a:lnTo>
                    <a:lnTo>
                      <a:pt x="55" y="782"/>
                    </a:lnTo>
                    <a:lnTo>
                      <a:pt x="39" y="935"/>
                    </a:lnTo>
                    <a:lnTo>
                      <a:pt x="21" y="1090"/>
                    </a:lnTo>
                    <a:lnTo>
                      <a:pt x="0" y="1242"/>
                    </a:lnTo>
                    <a:lnTo>
                      <a:pt x="103" y="11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313320" y="4332240"/>
                <a:ext cx="52560" cy="345960"/>
              </a:xfrm>
              <a:custGeom>
                <a:avLst/>
                <a:gdLst/>
                <a:ahLst/>
                <a:rect l="l" t="t" r="r" b="b"/>
                <a:pathLst>
                  <a:path w="200" h="1312">
                    <a:moveTo>
                      <a:pt x="102" y="1258"/>
                    </a:moveTo>
                    <a:lnTo>
                      <a:pt x="120" y="1115"/>
                    </a:lnTo>
                    <a:lnTo>
                      <a:pt x="137" y="971"/>
                    </a:lnTo>
                    <a:lnTo>
                      <a:pt x="152" y="827"/>
                    </a:lnTo>
                    <a:lnTo>
                      <a:pt x="166" y="681"/>
                    </a:lnTo>
                    <a:lnTo>
                      <a:pt x="178" y="536"/>
                    </a:lnTo>
                    <a:lnTo>
                      <a:pt x="187" y="391"/>
                    </a:lnTo>
                    <a:lnTo>
                      <a:pt x="194" y="244"/>
                    </a:lnTo>
                    <a:lnTo>
                      <a:pt x="200" y="97"/>
                    </a:lnTo>
                    <a:lnTo>
                      <a:pt x="184" y="76"/>
                    </a:lnTo>
                    <a:lnTo>
                      <a:pt x="109" y="0"/>
                    </a:lnTo>
                    <a:lnTo>
                      <a:pt x="106" y="84"/>
                    </a:lnTo>
                    <a:lnTo>
                      <a:pt x="104" y="167"/>
                    </a:lnTo>
                    <a:lnTo>
                      <a:pt x="101" y="250"/>
                    </a:lnTo>
                    <a:lnTo>
                      <a:pt x="97" y="333"/>
                    </a:lnTo>
                    <a:lnTo>
                      <a:pt x="91" y="415"/>
                    </a:lnTo>
                    <a:lnTo>
                      <a:pt x="87" y="498"/>
                    </a:lnTo>
                    <a:lnTo>
                      <a:pt x="81" y="580"/>
                    </a:lnTo>
                    <a:lnTo>
                      <a:pt x="74" y="662"/>
                    </a:lnTo>
                    <a:lnTo>
                      <a:pt x="67" y="744"/>
                    </a:lnTo>
                    <a:lnTo>
                      <a:pt x="59" y="825"/>
                    </a:lnTo>
                    <a:lnTo>
                      <a:pt x="51" y="907"/>
                    </a:lnTo>
                    <a:lnTo>
                      <a:pt x="42" y="989"/>
                    </a:lnTo>
                    <a:lnTo>
                      <a:pt x="33" y="1070"/>
                    </a:lnTo>
                    <a:lnTo>
                      <a:pt x="22" y="1151"/>
                    </a:lnTo>
                    <a:lnTo>
                      <a:pt x="12" y="1231"/>
                    </a:lnTo>
                    <a:lnTo>
                      <a:pt x="0" y="1312"/>
                    </a:lnTo>
                    <a:lnTo>
                      <a:pt x="29" y="1300"/>
                    </a:lnTo>
                    <a:lnTo>
                      <a:pt x="102" y="125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99280" y="4319640"/>
                <a:ext cx="54000" cy="365040"/>
              </a:xfrm>
              <a:custGeom>
                <a:avLst/>
                <a:gdLst/>
                <a:ahLst/>
                <a:rect l="l" t="t" r="r" b="b"/>
                <a:pathLst>
                  <a:path w="206" h="1378">
                    <a:moveTo>
                      <a:pt x="102" y="1333"/>
                    </a:moveTo>
                    <a:lnTo>
                      <a:pt x="122" y="1181"/>
                    </a:lnTo>
                    <a:lnTo>
                      <a:pt x="141" y="1026"/>
                    </a:lnTo>
                    <a:lnTo>
                      <a:pt x="157" y="873"/>
                    </a:lnTo>
                    <a:lnTo>
                      <a:pt x="171" y="717"/>
                    </a:lnTo>
                    <a:lnTo>
                      <a:pt x="184" y="561"/>
                    </a:lnTo>
                    <a:lnTo>
                      <a:pt x="193" y="406"/>
                    </a:lnTo>
                    <a:lnTo>
                      <a:pt x="201" y="249"/>
                    </a:lnTo>
                    <a:lnTo>
                      <a:pt x="206" y="91"/>
                    </a:lnTo>
                    <a:lnTo>
                      <a:pt x="113" y="0"/>
                    </a:lnTo>
                    <a:lnTo>
                      <a:pt x="112" y="88"/>
                    </a:lnTo>
                    <a:lnTo>
                      <a:pt x="109" y="174"/>
                    </a:lnTo>
                    <a:lnTo>
                      <a:pt x="105" y="262"/>
                    </a:lnTo>
                    <a:lnTo>
                      <a:pt x="102" y="348"/>
                    </a:lnTo>
                    <a:lnTo>
                      <a:pt x="97" y="436"/>
                    </a:lnTo>
                    <a:lnTo>
                      <a:pt x="92" y="522"/>
                    </a:lnTo>
                    <a:lnTo>
                      <a:pt x="86" y="609"/>
                    </a:lnTo>
                    <a:lnTo>
                      <a:pt x="79" y="695"/>
                    </a:lnTo>
                    <a:lnTo>
                      <a:pt x="72" y="781"/>
                    </a:lnTo>
                    <a:lnTo>
                      <a:pt x="64" y="867"/>
                    </a:lnTo>
                    <a:lnTo>
                      <a:pt x="55" y="952"/>
                    </a:lnTo>
                    <a:lnTo>
                      <a:pt x="45" y="1038"/>
                    </a:lnTo>
                    <a:lnTo>
                      <a:pt x="35" y="1123"/>
                    </a:lnTo>
                    <a:lnTo>
                      <a:pt x="25" y="1208"/>
                    </a:lnTo>
                    <a:lnTo>
                      <a:pt x="13" y="1292"/>
                    </a:lnTo>
                    <a:lnTo>
                      <a:pt x="0" y="1378"/>
                    </a:lnTo>
                    <a:lnTo>
                      <a:pt x="80" y="1345"/>
                    </a:lnTo>
                    <a:lnTo>
                      <a:pt x="102" y="133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86680" y="4307040"/>
                <a:ext cx="55440" cy="382320"/>
              </a:xfrm>
              <a:custGeom>
                <a:avLst/>
                <a:gdLst/>
                <a:ahLst/>
                <a:rect l="l" t="t" r="r" b="b"/>
                <a:pathLst>
                  <a:path w="209" h="1448">
                    <a:moveTo>
                      <a:pt x="100" y="1408"/>
                    </a:moveTo>
                    <a:lnTo>
                      <a:pt x="112" y="1327"/>
                    </a:lnTo>
                    <a:lnTo>
                      <a:pt x="122" y="1247"/>
                    </a:lnTo>
                    <a:lnTo>
                      <a:pt x="133" y="1166"/>
                    </a:lnTo>
                    <a:lnTo>
                      <a:pt x="142" y="1085"/>
                    </a:lnTo>
                    <a:lnTo>
                      <a:pt x="151" y="1003"/>
                    </a:lnTo>
                    <a:lnTo>
                      <a:pt x="159" y="921"/>
                    </a:lnTo>
                    <a:lnTo>
                      <a:pt x="167" y="840"/>
                    </a:lnTo>
                    <a:lnTo>
                      <a:pt x="174" y="758"/>
                    </a:lnTo>
                    <a:lnTo>
                      <a:pt x="181" y="676"/>
                    </a:lnTo>
                    <a:lnTo>
                      <a:pt x="187" y="594"/>
                    </a:lnTo>
                    <a:lnTo>
                      <a:pt x="191" y="511"/>
                    </a:lnTo>
                    <a:lnTo>
                      <a:pt x="197" y="429"/>
                    </a:lnTo>
                    <a:lnTo>
                      <a:pt x="201" y="346"/>
                    </a:lnTo>
                    <a:lnTo>
                      <a:pt x="204" y="263"/>
                    </a:lnTo>
                    <a:lnTo>
                      <a:pt x="206" y="180"/>
                    </a:lnTo>
                    <a:lnTo>
                      <a:pt x="209" y="96"/>
                    </a:lnTo>
                    <a:lnTo>
                      <a:pt x="129" y="18"/>
                    </a:lnTo>
                    <a:lnTo>
                      <a:pt x="116" y="0"/>
                    </a:lnTo>
                    <a:lnTo>
                      <a:pt x="115" y="93"/>
                    </a:lnTo>
                    <a:lnTo>
                      <a:pt x="113" y="185"/>
                    </a:lnTo>
                    <a:lnTo>
                      <a:pt x="109" y="276"/>
                    </a:lnTo>
                    <a:lnTo>
                      <a:pt x="106" y="368"/>
                    </a:lnTo>
                    <a:lnTo>
                      <a:pt x="101" y="459"/>
                    </a:lnTo>
                    <a:lnTo>
                      <a:pt x="96" y="550"/>
                    </a:lnTo>
                    <a:lnTo>
                      <a:pt x="90" y="641"/>
                    </a:lnTo>
                    <a:lnTo>
                      <a:pt x="83" y="731"/>
                    </a:lnTo>
                    <a:lnTo>
                      <a:pt x="75" y="822"/>
                    </a:lnTo>
                    <a:lnTo>
                      <a:pt x="67" y="912"/>
                    </a:lnTo>
                    <a:lnTo>
                      <a:pt x="58" y="1002"/>
                    </a:lnTo>
                    <a:lnTo>
                      <a:pt x="47" y="1092"/>
                    </a:lnTo>
                    <a:lnTo>
                      <a:pt x="37" y="1182"/>
                    </a:lnTo>
                    <a:lnTo>
                      <a:pt x="25" y="1271"/>
                    </a:lnTo>
                    <a:lnTo>
                      <a:pt x="13" y="1359"/>
                    </a:lnTo>
                    <a:lnTo>
                      <a:pt x="0" y="1448"/>
                    </a:lnTo>
                    <a:lnTo>
                      <a:pt x="100" y="140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73720" y="4290840"/>
                <a:ext cx="55800" cy="405000"/>
              </a:xfrm>
              <a:custGeom>
                <a:avLst/>
                <a:gdLst/>
                <a:ahLst/>
                <a:rect l="l" t="t" r="r" b="b"/>
                <a:pathLst>
                  <a:path w="212" h="1529">
                    <a:moveTo>
                      <a:pt x="99" y="1489"/>
                    </a:moveTo>
                    <a:lnTo>
                      <a:pt x="112" y="1403"/>
                    </a:lnTo>
                    <a:lnTo>
                      <a:pt x="124" y="1319"/>
                    </a:lnTo>
                    <a:lnTo>
                      <a:pt x="134" y="1234"/>
                    </a:lnTo>
                    <a:lnTo>
                      <a:pt x="144" y="1149"/>
                    </a:lnTo>
                    <a:lnTo>
                      <a:pt x="154" y="1063"/>
                    </a:lnTo>
                    <a:lnTo>
                      <a:pt x="163" y="978"/>
                    </a:lnTo>
                    <a:lnTo>
                      <a:pt x="171" y="892"/>
                    </a:lnTo>
                    <a:lnTo>
                      <a:pt x="178" y="806"/>
                    </a:lnTo>
                    <a:lnTo>
                      <a:pt x="185" y="720"/>
                    </a:lnTo>
                    <a:lnTo>
                      <a:pt x="191" y="633"/>
                    </a:lnTo>
                    <a:lnTo>
                      <a:pt x="196" y="547"/>
                    </a:lnTo>
                    <a:lnTo>
                      <a:pt x="201" y="459"/>
                    </a:lnTo>
                    <a:lnTo>
                      <a:pt x="204" y="373"/>
                    </a:lnTo>
                    <a:lnTo>
                      <a:pt x="208" y="285"/>
                    </a:lnTo>
                    <a:lnTo>
                      <a:pt x="211" y="199"/>
                    </a:lnTo>
                    <a:lnTo>
                      <a:pt x="212" y="111"/>
                    </a:lnTo>
                    <a:lnTo>
                      <a:pt x="179" y="78"/>
                    </a:lnTo>
                    <a:lnTo>
                      <a:pt x="121" y="0"/>
                    </a:lnTo>
                    <a:lnTo>
                      <a:pt x="120" y="97"/>
                    </a:lnTo>
                    <a:lnTo>
                      <a:pt x="118" y="194"/>
                    </a:lnTo>
                    <a:lnTo>
                      <a:pt x="114" y="291"/>
                    </a:lnTo>
                    <a:lnTo>
                      <a:pt x="111" y="388"/>
                    </a:lnTo>
                    <a:lnTo>
                      <a:pt x="106" y="485"/>
                    </a:lnTo>
                    <a:lnTo>
                      <a:pt x="102" y="580"/>
                    </a:lnTo>
                    <a:lnTo>
                      <a:pt x="95" y="676"/>
                    </a:lnTo>
                    <a:lnTo>
                      <a:pt x="88" y="772"/>
                    </a:lnTo>
                    <a:lnTo>
                      <a:pt x="80" y="867"/>
                    </a:lnTo>
                    <a:lnTo>
                      <a:pt x="71" y="963"/>
                    </a:lnTo>
                    <a:lnTo>
                      <a:pt x="61" y="1058"/>
                    </a:lnTo>
                    <a:lnTo>
                      <a:pt x="51" y="1152"/>
                    </a:lnTo>
                    <a:lnTo>
                      <a:pt x="39" y="1247"/>
                    </a:lnTo>
                    <a:lnTo>
                      <a:pt x="27" y="1341"/>
                    </a:lnTo>
                    <a:lnTo>
                      <a:pt x="14" y="1436"/>
                    </a:lnTo>
                    <a:lnTo>
                      <a:pt x="0" y="1529"/>
                    </a:lnTo>
                    <a:lnTo>
                      <a:pt x="99" y="148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59680" y="4275000"/>
                <a:ext cx="56880" cy="425520"/>
              </a:xfrm>
              <a:custGeom>
                <a:avLst/>
                <a:gdLst/>
                <a:ahLst/>
                <a:rect l="l" t="t" r="r" b="b"/>
                <a:pathLst>
                  <a:path w="216" h="1611">
                    <a:moveTo>
                      <a:pt x="100" y="1569"/>
                    </a:moveTo>
                    <a:lnTo>
                      <a:pt x="113" y="1480"/>
                    </a:lnTo>
                    <a:lnTo>
                      <a:pt x="125" y="1392"/>
                    </a:lnTo>
                    <a:lnTo>
                      <a:pt x="137" y="1303"/>
                    </a:lnTo>
                    <a:lnTo>
                      <a:pt x="147" y="1213"/>
                    </a:lnTo>
                    <a:lnTo>
                      <a:pt x="158" y="1123"/>
                    </a:lnTo>
                    <a:lnTo>
                      <a:pt x="167" y="1033"/>
                    </a:lnTo>
                    <a:lnTo>
                      <a:pt x="175" y="943"/>
                    </a:lnTo>
                    <a:lnTo>
                      <a:pt x="183" y="852"/>
                    </a:lnTo>
                    <a:lnTo>
                      <a:pt x="190" y="762"/>
                    </a:lnTo>
                    <a:lnTo>
                      <a:pt x="196" y="671"/>
                    </a:lnTo>
                    <a:lnTo>
                      <a:pt x="201" y="580"/>
                    </a:lnTo>
                    <a:lnTo>
                      <a:pt x="206" y="489"/>
                    </a:lnTo>
                    <a:lnTo>
                      <a:pt x="209" y="397"/>
                    </a:lnTo>
                    <a:lnTo>
                      <a:pt x="213" y="306"/>
                    </a:lnTo>
                    <a:lnTo>
                      <a:pt x="215" y="214"/>
                    </a:lnTo>
                    <a:lnTo>
                      <a:pt x="216" y="121"/>
                    </a:lnTo>
                    <a:lnTo>
                      <a:pt x="125" y="0"/>
                    </a:lnTo>
                    <a:lnTo>
                      <a:pt x="124" y="103"/>
                    </a:lnTo>
                    <a:lnTo>
                      <a:pt x="123" y="206"/>
                    </a:lnTo>
                    <a:lnTo>
                      <a:pt x="121" y="307"/>
                    </a:lnTo>
                    <a:lnTo>
                      <a:pt x="117" y="410"/>
                    </a:lnTo>
                    <a:lnTo>
                      <a:pt x="113" y="511"/>
                    </a:lnTo>
                    <a:lnTo>
                      <a:pt x="107" y="612"/>
                    </a:lnTo>
                    <a:lnTo>
                      <a:pt x="100" y="713"/>
                    </a:lnTo>
                    <a:lnTo>
                      <a:pt x="93" y="814"/>
                    </a:lnTo>
                    <a:lnTo>
                      <a:pt x="85" y="914"/>
                    </a:lnTo>
                    <a:lnTo>
                      <a:pt x="74" y="1015"/>
                    </a:lnTo>
                    <a:lnTo>
                      <a:pt x="65" y="1115"/>
                    </a:lnTo>
                    <a:lnTo>
                      <a:pt x="54" y="1214"/>
                    </a:lnTo>
                    <a:lnTo>
                      <a:pt x="41" y="1313"/>
                    </a:lnTo>
                    <a:lnTo>
                      <a:pt x="28" y="1412"/>
                    </a:lnTo>
                    <a:lnTo>
                      <a:pt x="15" y="1512"/>
                    </a:lnTo>
                    <a:lnTo>
                      <a:pt x="0" y="1611"/>
                    </a:lnTo>
                    <a:lnTo>
                      <a:pt x="39" y="1595"/>
                    </a:lnTo>
                    <a:lnTo>
                      <a:pt x="100" y="156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46720" y="4254480"/>
                <a:ext cx="58680" cy="450720"/>
              </a:xfrm>
              <a:custGeom>
                <a:avLst/>
                <a:gdLst/>
                <a:ahLst/>
                <a:rect l="l" t="t" r="r" b="b"/>
                <a:pathLst>
                  <a:path w="222" h="1706">
                    <a:moveTo>
                      <a:pt x="101" y="1666"/>
                    </a:moveTo>
                    <a:lnTo>
                      <a:pt x="115" y="1573"/>
                    </a:lnTo>
                    <a:lnTo>
                      <a:pt x="128" y="1478"/>
                    </a:lnTo>
                    <a:lnTo>
                      <a:pt x="140" y="1384"/>
                    </a:lnTo>
                    <a:lnTo>
                      <a:pt x="152" y="1289"/>
                    </a:lnTo>
                    <a:lnTo>
                      <a:pt x="162" y="1195"/>
                    </a:lnTo>
                    <a:lnTo>
                      <a:pt x="172" y="1100"/>
                    </a:lnTo>
                    <a:lnTo>
                      <a:pt x="181" y="1004"/>
                    </a:lnTo>
                    <a:lnTo>
                      <a:pt x="189" y="909"/>
                    </a:lnTo>
                    <a:lnTo>
                      <a:pt x="196" y="813"/>
                    </a:lnTo>
                    <a:lnTo>
                      <a:pt x="203" y="717"/>
                    </a:lnTo>
                    <a:lnTo>
                      <a:pt x="207" y="622"/>
                    </a:lnTo>
                    <a:lnTo>
                      <a:pt x="212" y="525"/>
                    </a:lnTo>
                    <a:lnTo>
                      <a:pt x="215" y="428"/>
                    </a:lnTo>
                    <a:lnTo>
                      <a:pt x="219" y="331"/>
                    </a:lnTo>
                    <a:lnTo>
                      <a:pt x="221" y="234"/>
                    </a:lnTo>
                    <a:lnTo>
                      <a:pt x="222" y="137"/>
                    </a:lnTo>
                    <a:lnTo>
                      <a:pt x="167" y="64"/>
                    </a:lnTo>
                    <a:lnTo>
                      <a:pt x="129" y="0"/>
                    </a:lnTo>
                    <a:lnTo>
                      <a:pt x="129" y="9"/>
                    </a:lnTo>
                    <a:lnTo>
                      <a:pt x="129" y="18"/>
                    </a:lnTo>
                    <a:lnTo>
                      <a:pt x="129" y="26"/>
                    </a:lnTo>
                    <a:lnTo>
                      <a:pt x="129" y="34"/>
                    </a:lnTo>
                    <a:lnTo>
                      <a:pt x="129" y="42"/>
                    </a:lnTo>
                    <a:lnTo>
                      <a:pt x="129" y="50"/>
                    </a:lnTo>
                    <a:lnTo>
                      <a:pt x="130" y="59"/>
                    </a:lnTo>
                    <a:lnTo>
                      <a:pt x="130" y="67"/>
                    </a:lnTo>
                    <a:lnTo>
                      <a:pt x="129" y="171"/>
                    </a:lnTo>
                    <a:lnTo>
                      <a:pt x="128" y="276"/>
                    </a:lnTo>
                    <a:lnTo>
                      <a:pt x="125" y="380"/>
                    </a:lnTo>
                    <a:lnTo>
                      <a:pt x="121" y="483"/>
                    </a:lnTo>
                    <a:lnTo>
                      <a:pt x="116" y="587"/>
                    </a:lnTo>
                    <a:lnTo>
                      <a:pt x="110" y="690"/>
                    </a:lnTo>
                    <a:lnTo>
                      <a:pt x="105" y="793"/>
                    </a:lnTo>
                    <a:lnTo>
                      <a:pt x="97" y="896"/>
                    </a:lnTo>
                    <a:lnTo>
                      <a:pt x="87" y="999"/>
                    </a:lnTo>
                    <a:lnTo>
                      <a:pt x="78" y="1100"/>
                    </a:lnTo>
                    <a:lnTo>
                      <a:pt x="68" y="1203"/>
                    </a:lnTo>
                    <a:lnTo>
                      <a:pt x="56" y="1304"/>
                    </a:lnTo>
                    <a:lnTo>
                      <a:pt x="44" y="1405"/>
                    </a:lnTo>
                    <a:lnTo>
                      <a:pt x="30" y="1506"/>
                    </a:lnTo>
                    <a:lnTo>
                      <a:pt x="15" y="1606"/>
                    </a:lnTo>
                    <a:lnTo>
                      <a:pt x="0" y="1706"/>
                    </a:lnTo>
                    <a:lnTo>
                      <a:pt x="90" y="1671"/>
                    </a:lnTo>
                    <a:lnTo>
                      <a:pt x="101" y="16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32680" y="4233960"/>
                <a:ext cx="60120" cy="477720"/>
              </a:xfrm>
              <a:custGeom>
                <a:avLst/>
                <a:gdLst/>
                <a:ahLst/>
                <a:rect l="l" t="t" r="r" b="b"/>
                <a:pathLst>
                  <a:path w="227" h="1806">
                    <a:moveTo>
                      <a:pt x="102" y="1766"/>
                    </a:moveTo>
                    <a:lnTo>
                      <a:pt x="117" y="1667"/>
                    </a:lnTo>
                    <a:lnTo>
                      <a:pt x="130" y="1567"/>
                    </a:lnTo>
                    <a:lnTo>
                      <a:pt x="143" y="1468"/>
                    </a:lnTo>
                    <a:lnTo>
                      <a:pt x="156" y="1369"/>
                    </a:lnTo>
                    <a:lnTo>
                      <a:pt x="167" y="1270"/>
                    </a:lnTo>
                    <a:lnTo>
                      <a:pt x="178" y="1170"/>
                    </a:lnTo>
                    <a:lnTo>
                      <a:pt x="187" y="1069"/>
                    </a:lnTo>
                    <a:lnTo>
                      <a:pt x="195" y="969"/>
                    </a:lnTo>
                    <a:lnTo>
                      <a:pt x="202" y="868"/>
                    </a:lnTo>
                    <a:lnTo>
                      <a:pt x="209" y="767"/>
                    </a:lnTo>
                    <a:lnTo>
                      <a:pt x="215" y="666"/>
                    </a:lnTo>
                    <a:lnTo>
                      <a:pt x="219" y="565"/>
                    </a:lnTo>
                    <a:lnTo>
                      <a:pt x="223" y="462"/>
                    </a:lnTo>
                    <a:lnTo>
                      <a:pt x="225" y="361"/>
                    </a:lnTo>
                    <a:lnTo>
                      <a:pt x="226" y="258"/>
                    </a:lnTo>
                    <a:lnTo>
                      <a:pt x="227" y="155"/>
                    </a:lnTo>
                    <a:lnTo>
                      <a:pt x="218" y="143"/>
                    </a:lnTo>
                    <a:lnTo>
                      <a:pt x="133" y="0"/>
                    </a:lnTo>
                    <a:lnTo>
                      <a:pt x="133" y="18"/>
                    </a:lnTo>
                    <a:lnTo>
                      <a:pt x="133" y="37"/>
                    </a:lnTo>
                    <a:lnTo>
                      <a:pt x="133" y="55"/>
                    </a:lnTo>
                    <a:lnTo>
                      <a:pt x="134" y="72"/>
                    </a:lnTo>
                    <a:lnTo>
                      <a:pt x="134" y="91"/>
                    </a:lnTo>
                    <a:lnTo>
                      <a:pt x="134" y="109"/>
                    </a:lnTo>
                    <a:lnTo>
                      <a:pt x="134" y="128"/>
                    </a:lnTo>
                    <a:lnTo>
                      <a:pt x="134" y="146"/>
                    </a:lnTo>
                    <a:lnTo>
                      <a:pt x="134" y="252"/>
                    </a:lnTo>
                    <a:lnTo>
                      <a:pt x="132" y="357"/>
                    </a:lnTo>
                    <a:lnTo>
                      <a:pt x="129" y="463"/>
                    </a:lnTo>
                    <a:lnTo>
                      <a:pt x="126" y="568"/>
                    </a:lnTo>
                    <a:lnTo>
                      <a:pt x="120" y="673"/>
                    </a:lnTo>
                    <a:lnTo>
                      <a:pt x="114" y="777"/>
                    </a:lnTo>
                    <a:lnTo>
                      <a:pt x="107" y="882"/>
                    </a:lnTo>
                    <a:lnTo>
                      <a:pt x="100" y="985"/>
                    </a:lnTo>
                    <a:lnTo>
                      <a:pt x="91" y="1089"/>
                    </a:lnTo>
                    <a:lnTo>
                      <a:pt x="81" y="1193"/>
                    </a:lnTo>
                    <a:lnTo>
                      <a:pt x="70" y="1295"/>
                    </a:lnTo>
                    <a:lnTo>
                      <a:pt x="58" y="1398"/>
                    </a:lnTo>
                    <a:lnTo>
                      <a:pt x="45" y="1501"/>
                    </a:lnTo>
                    <a:lnTo>
                      <a:pt x="31" y="1603"/>
                    </a:lnTo>
                    <a:lnTo>
                      <a:pt x="16" y="1705"/>
                    </a:lnTo>
                    <a:lnTo>
                      <a:pt x="0" y="1806"/>
                    </a:lnTo>
                    <a:lnTo>
                      <a:pt x="102" y="17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219720" y="4213080"/>
                <a:ext cx="61920" cy="503280"/>
              </a:xfrm>
              <a:custGeom>
                <a:avLst/>
                <a:gdLst/>
                <a:ahLst/>
                <a:rect l="l" t="t" r="r" b="b"/>
                <a:pathLst>
                  <a:path w="232" h="1907">
                    <a:moveTo>
                      <a:pt x="232" y="226"/>
                    </a:moveTo>
                    <a:lnTo>
                      <a:pt x="231" y="218"/>
                    </a:lnTo>
                    <a:lnTo>
                      <a:pt x="231" y="209"/>
                    </a:lnTo>
                    <a:lnTo>
                      <a:pt x="231" y="201"/>
                    </a:lnTo>
                    <a:lnTo>
                      <a:pt x="231" y="193"/>
                    </a:lnTo>
                    <a:lnTo>
                      <a:pt x="231" y="185"/>
                    </a:lnTo>
                    <a:lnTo>
                      <a:pt x="231" y="177"/>
                    </a:lnTo>
                    <a:lnTo>
                      <a:pt x="231" y="167"/>
                    </a:lnTo>
                    <a:lnTo>
                      <a:pt x="231" y="159"/>
                    </a:lnTo>
                    <a:lnTo>
                      <a:pt x="155" y="31"/>
                    </a:lnTo>
                    <a:lnTo>
                      <a:pt x="135" y="0"/>
                    </a:lnTo>
                    <a:lnTo>
                      <a:pt x="136" y="29"/>
                    </a:lnTo>
                    <a:lnTo>
                      <a:pt x="136" y="57"/>
                    </a:lnTo>
                    <a:lnTo>
                      <a:pt x="138" y="85"/>
                    </a:lnTo>
                    <a:lnTo>
                      <a:pt x="138" y="113"/>
                    </a:lnTo>
                    <a:lnTo>
                      <a:pt x="138" y="141"/>
                    </a:lnTo>
                    <a:lnTo>
                      <a:pt x="138" y="170"/>
                    </a:lnTo>
                    <a:lnTo>
                      <a:pt x="139" y="197"/>
                    </a:lnTo>
                    <a:lnTo>
                      <a:pt x="139" y="226"/>
                    </a:lnTo>
                    <a:lnTo>
                      <a:pt x="138" y="333"/>
                    </a:lnTo>
                    <a:lnTo>
                      <a:pt x="136" y="441"/>
                    </a:lnTo>
                    <a:lnTo>
                      <a:pt x="133" y="547"/>
                    </a:lnTo>
                    <a:lnTo>
                      <a:pt x="129" y="653"/>
                    </a:lnTo>
                    <a:lnTo>
                      <a:pt x="125" y="760"/>
                    </a:lnTo>
                    <a:lnTo>
                      <a:pt x="118" y="865"/>
                    </a:lnTo>
                    <a:lnTo>
                      <a:pt x="111" y="971"/>
                    </a:lnTo>
                    <a:lnTo>
                      <a:pt x="103" y="1076"/>
                    </a:lnTo>
                    <a:lnTo>
                      <a:pt x="94" y="1181"/>
                    </a:lnTo>
                    <a:lnTo>
                      <a:pt x="83" y="1285"/>
                    </a:lnTo>
                    <a:lnTo>
                      <a:pt x="72" y="1389"/>
                    </a:lnTo>
                    <a:lnTo>
                      <a:pt x="60" y="1494"/>
                    </a:lnTo>
                    <a:lnTo>
                      <a:pt x="46" y="1598"/>
                    </a:lnTo>
                    <a:lnTo>
                      <a:pt x="33" y="1700"/>
                    </a:lnTo>
                    <a:lnTo>
                      <a:pt x="16" y="1804"/>
                    </a:lnTo>
                    <a:lnTo>
                      <a:pt x="0" y="1907"/>
                    </a:lnTo>
                    <a:lnTo>
                      <a:pt x="102" y="1865"/>
                    </a:lnTo>
                    <a:lnTo>
                      <a:pt x="117" y="1765"/>
                    </a:lnTo>
                    <a:lnTo>
                      <a:pt x="132" y="1665"/>
                    </a:lnTo>
                    <a:lnTo>
                      <a:pt x="146" y="1564"/>
                    </a:lnTo>
                    <a:lnTo>
                      <a:pt x="158" y="1463"/>
                    </a:lnTo>
                    <a:lnTo>
                      <a:pt x="170" y="1362"/>
                    </a:lnTo>
                    <a:lnTo>
                      <a:pt x="180" y="1259"/>
                    </a:lnTo>
                    <a:lnTo>
                      <a:pt x="189" y="1158"/>
                    </a:lnTo>
                    <a:lnTo>
                      <a:pt x="199" y="1055"/>
                    </a:lnTo>
                    <a:lnTo>
                      <a:pt x="207" y="952"/>
                    </a:lnTo>
                    <a:lnTo>
                      <a:pt x="212" y="849"/>
                    </a:lnTo>
                    <a:lnTo>
                      <a:pt x="218" y="746"/>
                    </a:lnTo>
                    <a:lnTo>
                      <a:pt x="223" y="642"/>
                    </a:lnTo>
                    <a:lnTo>
                      <a:pt x="226" y="539"/>
                    </a:lnTo>
                    <a:lnTo>
                      <a:pt x="230" y="435"/>
                    </a:lnTo>
                    <a:lnTo>
                      <a:pt x="231" y="330"/>
                    </a:lnTo>
                    <a:lnTo>
                      <a:pt x="232" y="22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07120" y="4191120"/>
                <a:ext cx="61920" cy="530280"/>
              </a:xfrm>
              <a:custGeom>
                <a:avLst/>
                <a:gdLst/>
                <a:ahLst/>
                <a:rect l="l" t="t" r="r" b="b"/>
                <a:pathLst>
                  <a:path w="234" h="2001">
                    <a:moveTo>
                      <a:pt x="234" y="304"/>
                    </a:moveTo>
                    <a:lnTo>
                      <a:pt x="234" y="286"/>
                    </a:lnTo>
                    <a:lnTo>
                      <a:pt x="234" y="267"/>
                    </a:lnTo>
                    <a:lnTo>
                      <a:pt x="234" y="249"/>
                    </a:lnTo>
                    <a:lnTo>
                      <a:pt x="234" y="230"/>
                    </a:lnTo>
                    <a:lnTo>
                      <a:pt x="233" y="213"/>
                    </a:lnTo>
                    <a:lnTo>
                      <a:pt x="233" y="195"/>
                    </a:lnTo>
                    <a:lnTo>
                      <a:pt x="233" y="176"/>
                    </a:lnTo>
                    <a:lnTo>
                      <a:pt x="233" y="158"/>
                    </a:lnTo>
                    <a:lnTo>
                      <a:pt x="204" y="109"/>
                    </a:lnTo>
                    <a:lnTo>
                      <a:pt x="136" y="0"/>
                    </a:lnTo>
                    <a:lnTo>
                      <a:pt x="137" y="38"/>
                    </a:lnTo>
                    <a:lnTo>
                      <a:pt x="138" y="76"/>
                    </a:lnTo>
                    <a:lnTo>
                      <a:pt x="138" y="114"/>
                    </a:lnTo>
                    <a:lnTo>
                      <a:pt x="139" y="152"/>
                    </a:lnTo>
                    <a:lnTo>
                      <a:pt x="140" y="190"/>
                    </a:lnTo>
                    <a:lnTo>
                      <a:pt x="140" y="228"/>
                    </a:lnTo>
                    <a:lnTo>
                      <a:pt x="140" y="266"/>
                    </a:lnTo>
                    <a:lnTo>
                      <a:pt x="140" y="304"/>
                    </a:lnTo>
                    <a:lnTo>
                      <a:pt x="140" y="412"/>
                    </a:lnTo>
                    <a:lnTo>
                      <a:pt x="138" y="520"/>
                    </a:lnTo>
                    <a:lnTo>
                      <a:pt x="136" y="628"/>
                    </a:lnTo>
                    <a:lnTo>
                      <a:pt x="131" y="735"/>
                    </a:lnTo>
                    <a:lnTo>
                      <a:pt x="127" y="842"/>
                    </a:lnTo>
                    <a:lnTo>
                      <a:pt x="121" y="950"/>
                    </a:lnTo>
                    <a:lnTo>
                      <a:pt x="113" y="1056"/>
                    </a:lnTo>
                    <a:lnTo>
                      <a:pt x="105" y="1163"/>
                    </a:lnTo>
                    <a:lnTo>
                      <a:pt x="95" y="1269"/>
                    </a:lnTo>
                    <a:lnTo>
                      <a:pt x="85" y="1374"/>
                    </a:lnTo>
                    <a:lnTo>
                      <a:pt x="73" y="1480"/>
                    </a:lnTo>
                    <a:lnTo>
                      <a:pt x="61" y="1585"/>
                    </a:lnTo>
                    <a:lnTo>
                      <a:pt x="47" y="1690"/>
                    </a:lnTo>
                    <a:lnTo>
                      <a:pt x="32" y="1793"/>
                    </a:lnTo>
                    <a:lnTo>
                      <a:pt x="16" y="1897"/>
                    </a:lnTo>
                    <a:lnTo>
                      <a:pt x="0" y="2001"/>
                    </a:lnTo>
                    <a:lnTo>
                      <a:pt x="49" y="1985"/>
                    </a:lnTo>
                    <a:lnTo>
                      <a:pt x="100" y="1964"/>
                    </a:lnTo>
                    <a:lnTo>
                      <a:pt x="116" y="1863"/>
                    </a:lnTo>
                    <a:lnTo>
                      <a:pt x="131" y="1761"/>
                    </a:lnTo>
                    <a:lnTo>
                      <a:pt x="145" y="1659"/>
                    </a:lnTo>
                    <a:lnTo>
                      <a:pt x="158" y="1556"/>
                    </a:lnTo>
                    <a:lnTo>
                      <a:pt x="170" y="1453"/>
                    </a:lnTo>
                    <a:lnTo>
                      <a:pt x="181" y="1351"/>
                    </a:lnTo>
                    <a:lnTo>
                      <a:pt x="191" y="1247"/>
                    </a:lnTo>
                    <a:lnTo>
                      <a:pt x="200" y="1143"/>
                    </a:lnTo>
                    <a:lnTo>
                      <a:pt x="207" y="1040"/>
                    </a:lnTo>
                    <a:lnTo>
                      <a:pt x="214" y="935"/>
                    </a:lnTo>
                    <a:lnTo>
                      <a:pt x="220" y="831"/>
                    </a:lnTo>
                    <a:lnTo>
                      <a:pt x="226" y="726"/>
                    </a:lnTo>
                    <a:lnTo>
                      <a:pt x="229" y="621"/>
                    </a:lnTo>
                    <a:lnTo>
                      <a:pt x="232" y="515"/>
                    </a:lnTo>
                    <a:lnTo>
                      <a:pt x="234" y="410"/>
                    </a:lnTo>
                    <a:lnTo>
                      <a:pt x="234" y="30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92720" y="4170240"/>
                <a:ext cx="63720" cy="555840"/>
              </a:xfrm>
              <a:custGeom>
                <a:avLst/>
                <a:gdLst/>
                <a:ahLst/>
                <a:rect l="l" t="t" r="r" b="b"/>
                <a:pathLst>
                  <a:path w="239" h="2099">
                    <a:moveTo>
                      <a:pt x="239" y="385"/>
                    </a:moveTo>
                    <a:lnTo>
                      <a:pt x="239" y="356"/>
                    </a:lnTo>
                    <a:lnTo>
                      <a:pt x="238" y="329"/>
                    </a:lnTo>
                    <a:lnTo>
                      <a:pt x="238" y="300"/>
                    </a:lnTo>
                    <a:lnTo>
                      <a:pt x="238" y="272"/>
                    </a:lnTo>
                    <a:lnTo>
                      <a:pt x="238" y="244"/>
                    </a:lnTo>
                    <a:lnTo>
                      <a:pt x="236" y="216"/>
                    </a:lnTo>
                    <a:lnTo>
                      <a:pt x="236" y="188"/>
                    </a:lnTo>
                    <a:lnTo>
                      <a:pt x="235" y="159"/>
                    </a:lnTo>
                    <a:lnTo>
                      <a:pt x="137" y="0"/>
                    </a:lnTo>
                    <a:lnTo>
                      <a:pt x="138" y="49"/>
                    </a:lnTo>
                    <a:lnTo>
                      <a:pt x="141" y="96"/>
                    </a:lnTo>
                    <a:lnTo>
                      <a:pt x="142" y="144"/>
                    </a:lnTo>
                    <a:lnTo>
                      <a:pt x="143" y="193"/>
                    </a:lnTo>
                    <a:lnTo>
                      <a:pt x="144" y="240"/>
                    </a:lnTo>
                    <a:lnTo>
                      <a:pt x="144" y="288"/>
                    </a:lnTo>
                    <a:lnTo>
                      <a:pt x="145" y="337"/>
                    </a:lnTo>
                    <a:lnTo>
                      <a:pt x="145" y="385"/>
                    </a:lnTo>
                    <a:lnTo>
                      <a:pt x="144" y="495"/>
                    </a:lnTo>
                    <a:lnTo>
                      <a:pt x="143" y="603"/>
                    </a:lnTo>
                    <a:lnTo>
                      <a:pt x="139" y="712"/>
                    </a:lnTo>
                    <a:lnTo>
                      <a:pt x="136" y="821"/>
                    </a:lnTo>
                    <a:lnTo>
                      <a:pt x="130" y="929"/>
                    </a:lnTo>
                    <a:lnTo>
                      <a:pt x="124" y="1038"/>
                    </a:lnTo>
                    <a:lnTo>
                      <a:pt x="116" y="1145"/>
                    </a:lnTo>
                    <a:lnTo>
                      <a:pt x="108" y="1252"/>
                    </a:lnTo>
                    <a:lnTo>
                      <a:pt x="98" y="1359"/>
                    </a:lnTo>
                    <a:lnTo>
                      <a:pt x="88" y="1465"/>
                    </a:lnTo>
                    <a:lnTo>
                      <a:pt x="76" y="1572"/>
                    </a:lnTo>
                    <a:lnTo>
                      <a:pt x="63" y="1679"/>
                    </a:lnTo>
                    <a:lnTo>
                      <a:pt x="48" y="1783"/>
                    </a:lnTo>
                    <a:lnTo>
                      <a:pt x="33" y="1889"/>
                    </a:lnTo>
                    <a:lnTo>
                      <a:pt x="17" y="1994"/>
                    </a:lnTo>
                    <a:lnTo>
                      <a:pt x="0" y="2099"/>
                    </a:lnTo>
                    <a:lnTo>
                      <a:pt x="100" y="2066"/>
                    </a:lnTo>
                    <a:lnTo>
                      <a:pt x="100" y="2066"/>
                    </a:lnTo>
                    <a:lnTo>
                      <a:pt x="116" y="1963"/>
                    </a:lnTo>
                    <a:lnTo>
                      <a:pt x="133" y="1859"/>
                    </a:lnTo>
                    <a:lnTo>
                      <a:pt x="146" y="1757"/>
                    </a:lnTo>
                    <a:lnTo>
                      <a:pt x="160" y="1653"/>
                    </a:lnTo>
                    <a:lnTo>
                      <a:pt x="172" y="1548"/>
                    </a:lnTo>
                    <a:lnTo>
                      <a:pt x="183" y="1444"/>
                    </a:lnTo>
                    <a:lnTo>
                      <a:pt x="194" y="1340"/>
                    </a:lnTo>
                    <a:lnTo>
                      <a:pt x="203" y="1235"/>
                    </a:lnTo>
                    <a:lnTo>
                      <a:pt x="211" y="1130"/>
                    </a:lnTo>
                    <a:lnTo>
                      <a:pt x="218" y="1024"/>
                    </a:lnTo>
                    <a:lnTo>
                      <a:pt x="225" y="919"/>
                    </a:lnTo>
                    <a:lnTo>
                      <a:pt x="229" y="812"/>
                    </a:lnTo>
                    <a:lnTo>
                      <a:pt x="233" y="706"/>
                    </a:lnTo>
                    <a:lnTo>
                      <a:pt x="236" y="600"/>
                    </a:lnTo>
                    <a:lnTo>
                      <a:pt x="238" y="492"/>
                    </a:lnTo>
                    <a:lnTo>
                      <a:pt x="239" y="385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80120" y="4152960"/>
                <a:ext cx="63360" cy="577800"/>
              </a:xfrm>
              <a:custGeom>
                <a:avLst/>
                <a:gdLst/>
                <a:ahLst/>
                <a:rect l="l" t="t" r="r" b="b"/>
                <a:pathLst>
                  <a:path w="241" h="2182">
                    <a:moveTo>
                      <a:pt x="241" y="452"/>
                    </a:moveTo>
                    <a:lnTo>
                      <a:pt x="241" y="414"/>
                    </a:lnTo>
                    <a:lnTo>
                      <a:pt x="241" y="376"/>
                    </a:lnTo>
                    <a:lnTo>
                      <a:pt x="241" y="338"/>
                    </a:lnTo>
                    <a:lnTo>
                      <a:pt x="240" y="300"/>
                    </a:lnTo>
                    <a:lnTo>
                      <a:pt x="239" y="262"/>
                    </a:lnTo>
                    <a:lnTo>
                      <a:pt x="239" y="224"/>
                    </a:lnTo>
                    <a:lnTo>
                      <a:pt x="238" y="186"/>
                    </a:lnTo>
                    <a:lnTo>
                      <a:pt x="237" y="148"/>
                    </a:lnTo>
                    <a:lnTo>
                      <a:pt x="187" y="66"/>
                    </a:lnTo>
                    <a:lnTo>
                      <a:pt x="138" y="0"/>
                    </a:lnTo>
                    <a:lnTo>
                      <a:pt x="140" y="57"/>
                    </a:lnTo>
                    <a:lnTo>
                      <a:pt x="142" y="113"/>
                    </a:lnTo>
                    <a:lnTo>
                      <a:pt x="144" y="170"/>
                    </a:lnTo>
                    <a:lnTo>
                      <a:pt x="146" y="225"/>
                    </a:lnTo>
                    <a:lnTo>
                      <a:pt x="147" y="282"/>
                    </a:lnTo>
                    <a:lnTo>
                      <a:pt x="148" y="338"/>
                    </a:lnTo>
                    <a:lnTo>
                      <a:pt x="148" y="396"/>
                    </a:lnTo>
                    <a:lnTo>
                      <a:pt x="148" y="452"/>
                    </a:lnTo>
                    <a:lnTo>
                      <a:pt x="148" y="563"/>
                    </a:lnTo>
                    <a:lnTo>
                      <a:pt x="146" y="672"/>
                    </a:lnTo>
                    <a:lnTo>
                      <a:pt x="143" y="783"/>
                    </a:lnTo>
                    <a:lnTo>
                      <a:pt x="139" y="892"/>
                    </a:lnTo>
                    <a:lnTo>
                      <a:pt x="134" y="1002"/>
                    </a:lnTo>
                    <a:lnTo>
                      <a:pt x="127" y="1110"/>
                    </a:lnTo>
                    <a:lnTo>
                      <a:pt x="119" y="1220"/>
                    </a:lnTo>
                    <a:lnTo>
                      <a:pt x="111" y="1328"/>
                    </a:lnTo>
                    <a:lnTo>
                      <a:pt x="101" y="1435"/>
                    </a:lnTo>
                    <a:lnTo>
                      <a:pt x="90" y="1544"/>
                    </a:lnTo>
                    <a:lnTo>
                      <a:pt x="78" y="1651"/>
                    </a:lnTo>
                    <a:lnTo>
                      <a:pt x="65" y="1758"/>
                    </a:lnTo>
                    <a:lnTo>
                      <a:pt x="50" y="1864"/>
                    </a:lnTo>
                    <a:lnTo>
                      <a:pt x="35" y="1971"/>
                    </a:lnTo>
                    <a:lnTo>
                      <a:pt x="18" y="2077"/>
                    </a:lnTo>
                    <a:lnTo>
                      <a:pt x="0" y="2182"/>
                    </a:lnTo>
                    <a:lnTo>
                      <a:pt x="101" y="2149"/>
                    </a:lnTo>
                    <a:lnTo>
                      <a:pt x="117" y="2045"/>
                    </a:lnTo>
                    <a:lnTo>
                      <a:pt x="133" y="1941"/>
                    </a:lnTo>
                    <a:lnTo>
                      <a:pt x="148" y="1838"/>
                    </a:lnTo>
                    <a:lnTo>
                      <a:pt x="162" y="1733"/>
                    </a:lnTo>
                    <a:lnTo>
                      <a:pt x="174" y="1628"/>
                    </a:lnTo>
                    <a:lnTo>
                      <a:pt x="186" y="1522"/>
                    </a:lnTo>
                    <a:lnTo>
                      <a:pt x="196" y="1417"/>
                    </a:lnTo>
                    <a:lnTo>
                      <a:pt x="206" y="1311"/>
                    </a:lnTo>
                    <a:lnTo>
                      <a:pt x="214" y="1204"/>
                    </a:lnTo>
                    <a:lnTo>
                      <a:pt x="222" y="1098"/>
                    </a:lnTo>
                    <a:lnTo>
                      <a:pt x="228" y="990"/>
                    </a:lnTo>
                    <a:lnTo>
                      <a:pt x="232" y="883"/>
                    </a:lnTo>
                    <a:lnTo>
                      <a:pt x="237" y="776"/>
                    </a:lnTo>
                    <a:lnTo>
                      <a:pt x="239" y="668"/>
                    </a:lnTo>
                    <a:lnTo>
                      <a:pt x="241" y="560"/>
                    </a:lnTo>
                    <a:lnTo>
                      <a:pt x="241" y="452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67520" y="4135320"/>
                <a:ext cx="63360" cy="598680"/>
              </a:xfrm>
              <a:custGeom>
                <a:avLst/>
                <a:gdLst/>
                <a:ahLst/>
                <a:rect l="l" t="t" r="r" b="b"/>
                <a:pathLst>
                  <a:path w="244" h="2267">
                    <a:moveTo>
                      <a:pt x="244" y="519"/>
                    </a:moveTo>
                    <a:lnTo>
                      <a:pt x="244" y="471"/>
                    </a:lnTo>
                    <a:lnTo>
                      <a:pt x="243" y="422"/>
                    </a:lnTo>
                    <a:lnTo>
                      <a:pt x="243" y="374"/>
                    </a:lnTo>
                    <a:lnTo>
                      <a:pt x="242" y="327"/>
                    </a:lnTo>
                    <a:lnTo>
                      <a:pt x="241" y="278"/>
                    </a:lnTo>
                    <a:lnTo>
                      <a:pt x="240" y="230"/>
                    </a:lnTo>
                    <a:lnTo>
                      <a:pt x="237" y="183"/>
                    </a:lnTo>
                    <a:lnTo>
                      <a:pt x="236" y="134"/>
                    </a:lnTo>
                    <a:lnTo>
                      <a:pt x="236" y="133"/>
                    </a:lnTo>
                    <a:lnTo>
                      <a:pt x="138" y="0"/>
                    </a:lnTo>
                    <a:lnTo>
                      <a:pt x="140" y="65"/>
                    </a:lnTo>
                    <a:lnTo>
                      <a:pt x="144" y="129"/>
                    </a:lnTo>
                    <a:lnTo>
                      <a:pt x="146" y="194"/>
                    </a:lnTo>
                    <a:lnTo>
                      <a:pt x="147" y="259"/>
                    </a:lnTo>
                    <a:lnTo>
                      <a:pt x="149" y="324"/>
                    </a:lnTo>
                    <a:lnTo>
                      <a:pt x="150" y="389"/>
                    </a:lnTo>
                    <a:lnTo>
                      <a:pt x="151" y="453"/>
                    </a:lnTo>
                    <a:lnTo>
                      <a:pt x="151" y="519"/>
                    </a:lnTo>
                    <a:lnTo>
                      <a:pt x="151" y="631"/>
                    </a:lnTo>
                    <a:lnTo>
                      <a:pt x="149" y="742"/>
                    </a:lnTo>
                    <a:lnTo>
                      <a:pt x="145" y="853"/>
                    </a:lnTo>
                    <a:lnTo>
                      <a:pt x="142" y="964"/>
                    </a:lnTo>
                    <a:lnTo>
                      <a:pt x="136" y="1074"/>
                    </a:lnTo>
                    <a:lnTo>
                      <a:pt x="129" y="1184"/>
                    </a:lnTo>
                    <a:lnTo>
                      <a:pt x="121" y="1294"/>
                    </a:lnTo>
                    <a:lnTo>
                      <a:pt x="113" y="1403"/>
                    </a:lnTo>
                    <a:lnTo>
                      <a:pt x="102" y="1513"/>
                    </a:lnTo>
                    <a:lnTo>
                      <a:pt x="91" y="1621"/>
                    </a:lnTo>
                    <a:lnTo>
                      <a:pt x="78" y="1730"/>
                    </a:lnTo>
                    <a:lnTo>
                      <a:pt x="65" y="1838"/>
                    </a:lnTo>
                    <a:lnTo>
                      <a:pt x="50" y="1945"/>
                    </a:lnTo>
                    <a:lnTo>
                      <a:pt x="34" y="2052"/>
                    </a:lnTo>
                    <a:lnTo>
                      <a:pt x="17" y="2159"/>
                    </a:lnTo>
                    <a:lnTo>
                      <a:pt x="0" y="2267"/>
                    </a:lnTo>
                    <a:lnTo>
                      <a:pt x="99" y="2233"/>
                    </a:lnTo>
                    <a:lnTo>
                      <a:pt x="116" y="2128"/>
                    </a:lnTo>
                    <a:lnTo>
                      <a:pt x="132" y="2023"/>
                    </a:lnTo>
                    <a:lnTo>
                      <a:pt x="147" y="1917"/>
                    </a:lnTo>
                    <a:lnTo>
                      <a:pt x="162" y="1813"/>
                    </a:lnTo>
                    <a:lnTo>
                      <a:pt x="175" y="1706"/>
                    </a:lnTo>
                    <a:lnTo>
                      <a:pt x="187" y="1599"/>
                    </a:lnTo>
                    <a:lnTo>
                      <a:pt x="197" y="1493"/>
                    </a:lnTo>
                    <a:lnTo>
                      <a:pt x="207" y="1386"/>
                    </a:lnTo>
                    <a:lnTo>
                      <a:pt x="215" y="1279"/>
                    </a:lnTo>
                    <a:lnTo>
                      <a:pt x="223" y="1172"/>
                    </a:lnTo>
                    <a:lnTo>
                      <a:pt x="229" y="1063"/>
                    </a:lnTo>
                    <a:lnTo>
                      <a:pt x="235" y="955"/>
                    </a:lnTo>
                    <a:lnTo>
                      <a:pt x="238" y="846"/>
                    </a:lnTo>
                    <a:lnTo>
                      <a:pt x="242" y="737"/>
                    </a:lnTo>
                    <a:lnTo>
                      <a:pt x="243" y="629"/>
                    </a:lnTo>
                    <a:lnTo>
                      <a:pt x="244" y="519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53120" y="4116240"/>
                <a:ext cx="65160" cy="622440"/>
              </a:xfrm>
              <a:custGeom>
                <a:avLst/>
                <a:gdLst/>
                <a:ahLst/>
                <a:rect l="l" t="t" r="r" b="b"/>
                <a:pathLst>
                  <a:path w="248" h="2353">
                    <a:moveTo>
                      <a:pt x="248" y="588"/>
                    </a:moveTo>
                    <a:lnTo>
                      <a:pt x="248" y="532"/>
                    </a:lnTo>
                    <a:lnTo>
                      <a:pt x="248" y="474"/>
                    </a:lnTo>
                    <a:lnTo>
                      <a:pt x="247" y="418"/>
                    </a:lnTo>
                    <a:lnTo>
                      <a:pt x="246" y="361"/>
                    </a:lnTo>
                    <a:lnTo>
                      <a:pt x="244" y="306"/>
                    </a:lnTo>
                    <a:lnTo>
                      <a:pt x="242" y="249"/>
                    </a:lnTo>
                    <a:lnTo>
                      <a:pt x="240" y="193"/>
                    </a:lnTo>
                    <a:lnTo>
                      <a:pt x="238" y="136"/>
                    </a:lnTo>
                    <a:lnTo>
                      <a:pt x="173" y="47"/>
                    </a:lnTo>
                    <a:lnTo>
                      <a:pt x="138" y="0"/>
                    </a:lnTo>
                    <a:lnTo>
                      <a:pt x="142" y="74"/>
                    </a:lnTo>
                    <a:lnTo>
                      <a:pt x="145" y="147"/>
                    </a:lnTo>
                    <a:lnTo>
                      <a:pt x="149" y="220"/>
                    </a:lnTo>
                    <a:lnTo>
                      <a:pt x="151" y="293"/>
                    </a:lnTo>
                    <a:lnTo>
                      <a:pt x="152" y="367"/>
                    </a:lnTo>
                    <a:lnTo>
                      <a:pt x="155" y="441"/>
                    </a:lnTo>
                    <a:lnTo>
                      <a:pt x="155" y="514"/>
                    </a:lnTo>
                    <a:lnTo>
                      <a:pt x="156" y="588"/>
                    </a:lnTo>
                    <a:lnTo>
                      <a:pt x="155" y="701"/>
                    </a:lnTo>
                    <a:lnTo>
                      <a:pt x="153" y="813"/>
                    </a:lnTo>
                    <a:lnTo>
                      <a:pt x="150" y="926"/>
                    </a:lnTo>
                    <a:lnTo>
                      <a:pt x="145" y="1038"/>
                    </a:lnTo>
                    <a:lnTo>
                      <a:pt x="140" y="1148"/>
                    </a:lnTo>
                    <a:lnTo>
                      <a:pt x="133" y="1260"/>
                    </a:lnTo>
                    <a:lnTo>
                      <a:pt x="125" y="1371"/>
                    </a:lnTo>
                    <a:lnTo>
                      <a:pt x="116" y="1481"/>
                    </a:lnTo>
                    <a:lnTo>
                      <a:pt x="106" y="1591"/>
                    </a:lnTo>
                    <a:lnTo>
                      <a:pt x="95" y="1702"/>
                    </a:lnTo>
                    <a:lnTo>
                      <a:pt x="81" y="1811"/>
                    </a:lnTo>
                    <a:lnTo>
                      <a:pt x="67" y="1920"/>
                    </a:lnTo>
                    <a:lnTo>
                      <a:pt x="52" y="2029"/>
                    </a:lnTo>
                    <a:lnTo>
                      <a:pt x="36" y="2137"/>
                    </a:lnTo>
                    <a:lnTo>
                      <a:pt x="18" y="2246"/>
                    </a:lnTo>
                    <a:lnTo>
                      <a:pt x="0" y="2353"/>
                    </a:lnTo>
                    <a:lnTo>
                      <a:pt x="18" y="2346"/>
                    </a:lnTo>
                    <a:lnTo>
                      <a:pt x="100" y="2318"/>
                    </a:lnTo>
                    <a:lnTo>
                      <a:pt x="118" y="2213"/>
                    </a:lnTo>
                    <a:lnTo>
                      <a:pt x="135" y="2107"/>
                    </a:lnTo>
                    <a:lnTo>
                      <a:pt x="150" y="2000"/>
                    </a:lnTo>
                    <a:lnTo>
                      <a:pt x="165" y="1894"/>
                    </a:lnTo>
                    <a:lnTo>
                      <a:pt x="178" y="1787"/>
                    </a:lnTo>
                    <a:lnTo>
                      <a:pt x="190" y="1680"/>
                    </a:lnTo>
                    <a:lnTo>
                      <a:pt x="201" y="1571"/>
                    </a:lnTo>
                    <a:lnTo>
                      <a:pt x="211" y="1464"/>
                    </a:lnTo>
                    <a:lnTo>
                      <a:pt x="219" y="1356"/>
                    </a:lnTo>
                    <a:lnTo>
                      <a:pt x="227" y="1246"/>
                    </a:lnTo>
                    <a:lnTo>
                      <a:pt x="234" y="1138"/>
                    </a:lnTo>
                    <a:lnTo>
                      <a:pt x="239" y="1028"/>
                    </a:lnTo>
                    <a:lnTo>
                      <a:pt x="243" y="919"/>
                    </a:lnTo>
                    <a:lnTo>
                      <a:pt x="246" y="808"/>
                    </a:lnTo>
                    <a:lnTo>
                      <a:pt x="248" y="699"/>
                    </a:lnTo>
                    <a:lnTo>
                      <a:pt x="248" y="588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40520" y="4098960"/>
                <a:ext cx="66600" cy="646200"/>
              </a:xfrm>
              <a:custGeom>
                <a:avLst/>
                <a:gdLst/>
                <a:ahLst/>
                <a:rect l="l" t="t" r="r" b="b"/>
                <a:pathLst>
                  <a:path w="253" h="2442">
                    <a:moveTo>
                      <a:pt x="253" y="657"/>
                    </a:moveTo>
                    <a:lnTo>
                      <a:pt x="253" y="591"/>
                    </a:lnTo>
                    <a:lnTo>
                      <a:pt x="252" y="527"/>
                    </a:lnTo>
                    <a:lnTo>
                      <a:pt x="251" y="462"/>
                    </a:lnTo>
                    <a:lnTo>
                      <a:pt x="249" y="397"/>
                    </a:lnTo>
                    <a:lnTo>
                      <a:pt x="248" y="332"/>
                    </a:lnTo>
                    <a:lnTo>
                      <a:pt x="246" y="267"/>
                    </a:lnTo>
                    <a:lnTo>
                      <a:pt x="242" y="203"/>
                    </a:lnTo>
                    <a:lnTo>
                      <a:pt x="240" y="138"/>
                    </a:lnTo>
                    <a:lnTo>
                      <a:pt x="224" y="116"/>
                    </a:lnTo>
                    <a:lnTo>
                      <a:pt x="137" y="0"/>
                    </a:lnTo>
                    <a:lnTo>
                      <a:pt x="142" y="82"/>
                    </a:lnTo>
                    <a:lnTo>
                      <a:pt x="147" y="164"/>
                    </a:lnTo>
                    <a:lnTo>
                      <a:pt x="151" y="246"/>
                    </a:lnTo>
                    <a:lnTo>
                      <a:pt x="154" y="327"/>
                    </a:lnTo>
                    <a:lnTo>
                      <a:pt x="156" y="409"/>
                    </a:lnTo>
                    <a:lnTo>
                      <a:pt x="158" y="492"/>
                    </a:lnTo>
                    <a:lnTo>
                      <a:pt x="159" y="574"/>
                    </a:lnTo>
                    <a:lnTo>
                      <a:pt x="159" y="657"/>
                    </a:lnTo>
                    <a:lnTo>
                      <a:pt x="159" y="771"/>
                    </a:lnTo>
                    <a:lnTo>
                      <a:pt x="157" y="884"/>
                    </a:lnTo>
                    <a:lnTo>
                      <a:pt x="154" y="998"/>
                    </a:lnTo>
                    <a:lnTo>
                      <a:pt x="149" y="1111"/>
                    </a:lnTo>
                    <a:lnTo>
                      <a:pt x="143" y="1224"/>
                    </a:lnTo>
                    <a:lnTo>
                      <a:pt x="136" y="1336"/>
                    </a:lnTo>
                    <a:lnTo>
                      <a:pt x="128" y="1449"/>
                    </a:lnTo>
                    <a:lnTo>
                      <a:pt x="119" y="1561"/>
                    </a:lnTo>
                    <a:lnTo>
                      <a:pt x="109" y="1672"/>
                    </a:lnTo>
                    <a:lnTo>
                      <a:pt x="97" y="1783"/>
                    </a:lnTo>
                    <a:lnTo>
                      <a:pt x="83" y="1894"/>
                    </a:lnTo>
                    <a:lnTo>
                      <a:pt x="69" y="2004"/>
                    </a:lnTo>
                    <a:lnTo>
                      <a:pt x="53" y="2114"/>
                    </a:lnTo>
                    <a:lnTo>
                      <a:pt x="37" y="2224"/>
                    </a:lnTo>
                    <a:lnTo>
                      <a:pt x="19" y="2333"/>
                    </a:lnTo>
                    <a:lnTo>
                      <a:pt x="0" y="2442"/>
                    </a:lnTo>
                    <a:lnTo>
                      <a:pt x="69" y="2415"/>
                    </a:lnTo>
                    <a:lnTo>
                      <a:pt x="102" y="2405"/>
                    </a:lnTo>
                    <a:lnTo>
                      <a:pt x="119" y="2297"/>
                    </a:lnTo>
                    <a:lnTo>
                      <a:pt x="136" y="2190"/>
                    </a:lnTo>
                    <a:lnTo>
                      <a:pt x="152" y="2083"/>
                    </a:lnTo>
                    <a:lnTo>
                      <a:pt x="167" y="1976"/>
                    </a:lnTo>
                    <a:lnTo>
                      <a:pt x="180" y="1868"/>
                    </a:lnTo>
                    <a:lnTo>
                      <a:pt x="193" y="1759"/>
                    </a:lnTo>
                    <a:lnTo>
                      <a:pt x="204" y="1651"/>
                    </a:lnTo>
                    <a:lnTo>
                      <a:pt x="215" y="1541"/>
                    </a:lnTo>
                    <a:lnTo>
                      <a:pt x="223" y="1432"/>
                    </a:lnTo>
                    <a:lnTo>
                      <a:pt x="231" y="1322"/>
                    </a:lnTo>
                    <a:lnTo>
                      <a:pt x="238" y="1212"/>
                    </a:lnTo>
                    <a:lnTo>
                      <a:pt x="244" y="1102"/>
                    </a:lnTo>
                    <a:lnTo>
                      <a:pt x="247" y="991"/>
                    </a:lnTo>
                    <a:lnTo>
                      <a:pt x="251" y="880"/>
                    </a:lnTo>
                    <a:lnTo>
                      <a:pt x="253" y="769"/>
                    </a:lnTo>
                    <a:lnTo>
                      <a:pt x="253" y="65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26120" y="4076640"/>
                <a:ext cx="68400" cy="673200"/>
              </a:xfrm>
              <a:custGeom>
                <a:avLst/>
                <a:gdLst/>
                <a:ahLst/>
                <a:rect l="l" t="t" r="r" b="b"/>
                <a:pathLst>
                  <a:path w="258" h="2545">
                    <a:moveTo>
                      <a:pt x="258" y="741"/>
                    </a:moveTo>
                    <a:lnTo>
                      <a:pt x="257" y="667"/>
                    </a:lnTo>
                    <a:lnTo>
                      <a:pt x="257" y="594"/>
                    </a:lnTo>
                    <a:lnTo>
                      <a:pt x="254" y="520"/>
                    </a:lnTo>
                    <a:lnTo>
                      <a:pt x="253" y="446"/>
                    </a:lnTo>
                    <a:lnTo>
                      <a:pt x="250" y="373"/>
                    </a:lnTo>
                    <a:lnTo>
                      <a:pt x="247" y="300"/>
                    </a:lnTo>
                    <a:lnTo>
                      <a:pt x="244" y="227"/>
                    </a:lnTo>
                    <a:lnTo>
                      <a:pt x="240" y="153"/>
                    </a:lnTo>
                    <a:lnTo>
                      <a:pt x="161" y="46"/>
                    </a:lnTo>
                    <a:lnTo>
                      <a:pt x="137" y="0"/>
                    </a:lnTo>
                    <a:lnTo>
                      <a:pt x="143" y="92"/>
                    </a:lnTo>
                    <a:lnTo>
                      <a:pt x="148" y="184"/>
                    </a:lnTo>
                    <a:lnTo>
                      <a:pt x="153" y="277"/>
                    </a:lnTo>
                    <a:lnTo>
                      <a:pt x="157" y="369"/>
                    </a:lnTo>
                    <a:lnTo>
                      <a:pt x="160" y="461"/>
                    </a:lnTo>
                    <a:lnTo>
                      <a:pt x="162" y="554"/>
                    </a:lnTo>
                    <a:lnTo>
                      <a:pt x="163" y="648"/>
                    </a:lnTo>
                    <a:lnTo>
                      <a:pt x="164" y="741"/>
                    </a:lnTo>
                    <a:lnTo>
                      <a:pt x="163" y="856"/>
                    </a:lnTo>
                    <a:lnTo>
                      <a:pt x="162" y="972"/>
                    </a:lnTo>
                    <a:lnTo>
                      <a:pt x="158" y="1086"/>
                    </a:lnTo>
                    <a:lnTo>
                      <a:pt x="154" y="1200"/>
                    </a:lnTo>
                    <a:lnTo>
                      <a:pt x="148" y="1314"/>
                    </a:lnTo>
                    <a:lnTo>
                      <a:pt x="140" y="1428"/>
                    </a:lnTo>
                    <a:lnTo>
                      <a:pt x="132" y="1541"/>
                    </a:lnTo>
                    <a:lnTo>
                      <a:pt x="123" y="1654"/>
                    </a:lnTo>
                    <a:lnTo>
                      <a:pt x="111" y="1767"/>
                    </a:lnTo>
                    <a:lnTo>
                      <a:pt x="99" y="1880"/>
                    </a:lnTo>
                    <a:lnTo>
                      <a:pt x="86" y="1992"/>
                    </a:lnTo>
                    <a:lnTo>
                      <a:pt x="71" y="2104"/>
                    </a:lnTo>
                    <a:lnTo>
                      <a:pt x="55" y="2214"/>
                    </a:lnTo>
                    <a:lnTo>
                      <a:pt x="37" y="2325"/>
                    </a:lnTo>
                    <a:lnTo>
                      <a:pt x="19" y="2436"/>
                    </a:lnTo>
                    <a:lnTo>
                      <a:pt x="0" y="2545"/>
                    </a:lnTo>
                    <a:lnTo>
                      <a:pt x="102" y="2506"/>
                    </a:lnTo>
                    <a:lnTo>
                      <a:pt x="120" y="2399"/>
                    </a:lnTo>
                    <a:lnTo>
                      <a:pt x="138" y="2290"/>
                    </a:lnTo>
                    <a:lnTo>
                      <a:pt x="154" y="2182"/>
                    </a:lnTo>
                    <a:lnTo>
                      <a:pt x="169" y="2073"/>
                    </a:lnTo>
                    <a:lnTo>
                      <a:pt x="183" y="1964"/>
                    </a:lnTo>
                    <a:lnTo>
                      <a:pt x="197" y="1855"/>
                    </a:lnTo>
                    <a:lnTo>
                      <a:pt x="208" y="1744"/>
                    </a:lnTo>
                    <a:lnTo>
                      <a:pt x="218" y="1634"/>
                    </a:lnTo>
                    <a:lnTo>
                      <a:pt x="227" y="1524"/>
                    </a:lnTo>
                    <a:lnTo>
                      <a:pt x="235" y="1413"/>
                    </a:lnTo>
                    <a:lnTo>
                      <a:pt x="242" y="1301"/>
                    </a:lnTo>
                    <a:lnTo>
                      <a:pt x="247" y="1191"/>
                    </a:lnTo>
                    <a:lnTo>
                      <a:pt x="252" y="1079"/>
                    </a:lnTo>
                    <a:lnTo>
                      <a:pt x="254" y="966"/>
                    </a:lnTo>
                    <a:lnTo>
                      <a:pt x="257" y="854"/>
                    </a:lnTo>
                    <a:lnTo>
                      <a:pt x="258" y="741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13520" y="4048200"/>
                <a:ext cx="68040" cy="706320"/>
              </a:xfrm>
              <a:custGeom>
                <a:avLst/>
                <a:gdLst/>
                <a:ahLst/>
                <a:rect l="l" t="t" r="r" b="b"/>
                <a:pathLst>
                  <a:path w="261" h="2673">
                    <a:moveTo>
                      <a:pt x="261" y="849"/>
                    </a:moveTo>
                    <a:lnTo>
                      <a:pt x="261" y="766"/>
                    </a:lnTo>
                    <a:lnTo>
                      <a:pt x="260" y="684"/>
                    </a:lnTo>
                    <a:lnTo>
                      <a:pt x="258" y="601"/>
                    </a:lnTo>
                    <a:lnTo>
                      <a:pt x="256" y="519"/>
                    </a:lnTo>
                    <a:lnTo>
                      <a:pt x="253" y="438"/>
                    </a:lnTo>
                    <a:lnTo>
                      <a:pt x="249" y="356"/>
                    </a:lnTo>
                    <a:lnTo>
                      <a:pt x="244" y="274"/>
                    </a:lnTo>
                    <a:lnTo>
                      <a:pt x="239" y="192"/>
                    </a:lnTo>
                    <a:lnTo>
                      <a:pt x="212" y="154"/>
                    </a:lnTo>
                    <a:lnTo>
                      <a:pt x="135" y="3"/>
                    </a:lnTo>
                    <a:lnTo>
                      <a:pt x="132" y="0"/>
                    </a:lnTo>
                    <a:lnTo>
                      <a:pt x="140" y="106"/>
                    </a:lnTo>
                    <a:lnTo>
                      <a:pt x="147" y="210"/>
                    </a:lnTo>
                    <a:lnTo>
                      <a:pt x="154" y="317"/>
                    </a:lnTo>
                    <a:lnTo>
                      <a:pt x="159" y="423"/>
                    </a:lnTo>
                    <a:lnTo>
                      <a:pt x="163" y="529"/>
                    </a:lnTo>
                    <a:lnTo>
                      <a:pt x="166" y="635"/>
                    </a:lnTo>
                    <a:lnTo>
                      <a:pt x="168" y="742"/>
                    </a:lnTo>
                    <a:lnTo>
                      <a:pt x="168" y="849"/>
                    </a:lnTo>
                    <a:lnTo>
                      <a:pt x="168" y="966"/>
                    </a:lnTo>
                    <a:lnTo>
                      <a:pt x="166" y="1082"/>
                    </a:lnTo>
                    <a:lnTo>
                      <a:pt x="162" y="1198"/>
                    </a:lnTo>
                    <a:lnTo>
                      <a:pt x="158" y="1314"/>
                    </a:lnTo>
                    <a:lnTo>
                      <a:pt x="152" y="1429"/>
                    </a:lnTo>
                    <a:lnTo>
                      <a:pt x="144" y="1544"/>
                    </a:lnTo>
                    <a:lnTo>
                      <a:pt x="136" y="1658"/>
                    </a:lnTo>
                    <a:lnTo>
                      <a:pt x="125" y="1772"/>
                    </a:lnTo>
                    <a:lnTo>
                      <a:pt x="114" y="1887"/>
                    </a:lnTo>
                    <a:lnTo>
                      <a:pt x="101" y="2001"/>
                    </a:lnTo>
                    <a:lnTo>
                      <a:pt x="87" y="2114"/>
                    </a:lnTo>
                    <a:lnTo>
                      <a:pt x="72" y="2227"/>
                    </a:lnTo>
                    <a:lnTo>
                      <a:pt x="56" y="2338"/>
                    </a:lnTo>
                    <a:lnTo>
                      <a:pt x="39" y="2450"/>
                    </a:lnTo>
                    <a:lnTo>
                      <a:pt x="20" y="2562"/>
                    </a:lnTo>
                    <a:lnTo>
                      <a:pt x="0" y="2673"/>
                    </a:lnTo>
                    <a:lnTo>
                      <a:pt x="102" y="2634"/>
                    </a:lnTo>
                    <a:lnTo>
                      <a:pt x="121" y="2525"/>
                    </a:lnTo>
                    <a:lnTo>
                      <a:pt x="139" y="2416"/>
                    </a:lnTo>
                    <a:lnTo>
                      <a:pt x="155" y="2306"/>
                    </a:lnTo>
                    <a:lnTo>
                      <a:pt x="171" y="2196"/>
                    </a:lnTo>
                    <a:lnTo>
                      <a:pt x="185" y="2086"/>
                    </a:lnTo>
                    <a:lnTo>
                      <a:pt x="199" y="1975"/>
                    </a:lnTo>
                    <a:lnTo>
                      <a:pt x="211" y="1864"/>
                    </a:lnTo>
                    <a:lnTo>
                      <a:pt x="221" y="1753"/>
                    </a:lnTo>
                    <a:lnTo>
                      <a:pt x="230" y="1641"/>
                    </a:lnTo>
                    <a:lnTo>
                      <a:pt x="238" y="1528"/>
                    </a:lnTo>
                    <a:lnTo>
                      <a:pt x="245" y="1416"/>
                    </a:lnTo>
                    <a:lnTo>
                      <a:pt x="251" y="1303"/>
                    </a:lnTo>
                    <a:lnTo>
                      <a:pt x="256" y="1190"/>
                    </a:lnTo>
                    <a:lnTo>
                      <a:pt x="259" y="1076"/>
                    </a:lnTo>
                    <a:lnTo>
                      <a:pt x="261" y="963"/>
                    </a:lnTo>
                    <a:lnTo>
                      <a:pt x="261" y="84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9120" y="4025880"/>
                <a:ext cx="71640" cy="731880"/>
              </a:xfrm>
              <a:custGeom>
                <a:avLst/>
                <a:gdLst/>
                <a:ahLst/>
                <a:rect l="l" t="t" r="r" b="b"/>
                <a:pathLst>
                  <a:path w="265" h="2767">
                    <a:moveTo>
                      <a:pt x="265" y="929"/>
                    </a:moveTo>
                    <a:lnTo>
                      <a:pt x="264" y="836"/>
                    </a:lnTo>
                    <a:lnTo>
                      <a:pt x="263" y="742"/>
                    </a:lnTo>
                    <a:lnTo>
                      <a:pt x="261" y="649"/>
                    </a:lnTo>
                    <a:lnTo>
                      <a:pt x="258" y="557"/>
                    </a:lnTo>
                    <a:lnTo>
                      <a:pt x="254" y="465"/>
                    </a:lnTo>
                    <a:lnTo>
                      <a:pt x="249" y="372"/>
                    </a:lnTo>
                    <a:lnTo>
                      <a:pt x="244" y="280"/>
                    </a:lnTo>
                    <a:lnTo>
                      <a:pt x="238" y="188"/>
                    </a:lnTo>
                    <a:lnTo>
                      <a:pt x="185" y="83"/>
                    </a:lnTo>
                    <a:lnTo>
                      <a:pt x="128" y="0"/>
                    </a:lnTo>
                    <a:lnTo>
                      <a:pt x="138" y="115"/>
                    </a:lnTo>
                    <a:lnTo>
                      <a:pt x="146" y="231"/>
                    </a:lnTo>
                    <a:lnTo>
                      <a:pt x="155" y="346"/>
                    </a:lnTo>
                    <a:lnTo>
                      <a:pt x="160" y="462"/>
                    </a:lnTo>
                    <a:lnTo>
                      <a:pt x="165" y="579"/>
                    </a:lnTo>
                    <a:lnTo>
                      <a:pt x="170" y="695"/>
                    </a:lnTo>
                    <a:lnTo>
                      <a:pt x="171" y="812"/>
                    </a:lnTo>
                    <a:lnTo>
                      <a:pt x="172" y="929"/>
                    </a:lnTo>
                    <a:lnTo>
                      <a:pt x="171" y="1047"/>
                    </a:lnTo>
                    <a:lnTo>
                      <a:pt x="170" y="1164"/>
                    </a:lnTo>
                    <a:lnTo>
                      <a:pt x="166" y="1281"/>
                    </a:lnTo>
                    <a:lnTo>
                      <a:pt x="160" y="1397"/>
                    </a:lnTo>
                    <a:lnTo>
                      <a:pt x="155" y="1514"/>
                    </a:lnTo>
                    <a:lnTo>
                      <a:pt x="146" y="1630"/>
                    </a:lnTo>
                    <a:lnTo>
                      <a:pt x="138" y="1745"/>
                    </a:lnTo>
                    <a:lnTo>
                      <a:pt x="128" y="1861"/>
                    </a:lnTo>
                    <a:lnTo>
                      <a:pt x="116" y="1975"/>
                    </a:lnTo>
                    <a:lnTo>
                      <a:pt x="104" y="2090"/>
                    </a:lnTo>
                    <a:lnTo>
                      <a:pt x="89" y="2203"/>
                    </a:lnTo>
                    <a:lnTo>
                      <a:pt x="74" y="2317"/>
                    </a:lnTo>
                    <a:lnTo>
                      <a:pt x="58" y="2430"/>
                    </a:lnTo>
                    <a:lnTo>
                      <a:pt x="39" y="2543"/>
                    </a:lnTo>
                    <a:lnTo>
                      <a:pt x="20" y="2655"/>
                    </a:lnTo>
                    <a:lnTo>
                      <a:pt x="0" y="2767"/>
                    </a:lnTo>
                    <a:lnTo>
                      <a:pt x="30" y="2761"/>
                    </a:lnTo>
                    <a:lnTo>
                      <a:pt x="101" y="2733"/>
                    </a:lnTo>
                    <a:lnTo>
                      <a:pt x="120" y="2624"/>
                    </a:lnTo>
                    <a:lnTo>
                      <a:pt x="138" y="2513"/>
                    </a:lnTo>
                    <a:lnTo>
                      <a:pt x="156" y="2402"/>
                    </a:lnTo>
                    <a:lnTo>
                      <a:pt x="172" y="2292"/>
                    </a:lnTo>
                    <a:lnTo>
                      <a:pt x="187" y="2180"/>
                    </a:lnTo>
                    <a:lnTo>
                      <a:pt x="200" y="2068"/>
                    </a:lnTo>
                    <a:lnTo>
                      <a:pt x="212" y="1955"/>
                    </a:lnTo>
                    <a:lnTo>
                      <a:pt x="224" y="1842"/>
                    </a:lnTo>
                    <a:lnTo>
                      <a:pt x="233" y="1729"/>
                    </a:lnTo>
                    <a:lnTo>
                      <a:pt x="241" y="1616"/>
                    </a:lnTo>
                    <a:lnTo>
                      <a:pt x="249" y="1502"/>
                    </a:lnTo>
                    <a:lnTo>
                      <a:pt x="255" y="1388"/>
                    </a:lnTo>
                    <a:lnTo>
                      <a:pt x="259" y="1274"/>
                    </a:lnTo>
                    <a:lnTo>
                      <a:pt x="263" y="1160"/>
                    </a:lnTo>
                    <a:lnTo>
                      <a:pt x="264" y="1044"/>
                    </a:lnTo>
                    <a:lnTo>
                      <a:pt x="265" y="92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86520" y="4005360"/>
                <a:ext cx="71280" cy="755640"/>
              </a:xfrm>
              <a:custGeom>
                <a:avLst/>
                <a:gdLst/>
                <a:ahLst/>
                <a:rect l="l" t="t" r="r" b="b"/>
                <a:pathLst>
                  <a:path w="268" h="2859">
                    <a:moveTo>
                      <a:pt x="268" y="1011"/>
                    </a:moveTo>
                    <a:lnTo>
                      <a:pt x="268" y="904"/>
                    </a:lnTo>
                    <a:lnTo>
                      <a:pt x="266" y="797"/>
                    </a:lnTo>
                    <a:lnTo>
                      <a:pt x="263" y="691"/>
                    </a:lnTo>
                    <a:lnTo>
                      <a:pt x="259" y="585"/>
                    </a:lnTo>
                    <a:lnTo>
                      <a:pt x="254" y="479"/>
                    </a:lnTo>
                    <a:lnTo>
                      <a:pt x="247" y="372"/>
                    </a:lnTo>
                    <a:lnTo>
                      <a:pt x="240" y="268"/>
                    </a:lnTo>
                    <a:lnTo>
                      <a:pt x="232" y="162"/>
                    </a:lnTo>
                    <a:lnTo>
                      <a:pt x="157" y="52"/>
                    </a:lnTo>
                    <a:lnTo>
                      <a:pt x="124" y="0"/>
                    </a:lnTo>
                    <a:lnTo>
                      <a:pt x="135" y="126"/>
                    </a:lnTo>
                    <a:lnTo>
                      <a:pt x="146" y="250"/>
                    </a:lnTo>
                    <a:lnTo>
                      <a:pt x="155" y="376"/>
                    </a:lnTo>
                    <a:lnTo>
                      <a:pt x="162" y="503"/>
                    </a:lnTo>
                    <a:lnTo>
                      <a:pt x="168" y="630"/>
                    </a:lnTo>
                    <a:lnTo>
                      <a:pt x="172" y="756"/>
                    </a:lnTo>
                    <a:lnTo>
                      <a:pt x="175" y="883"/>
                    </a:lnTo>
                    <a:lnTo>
                      <a:pt x="176" y="1011"/>
                    </a:lnTo>
                    <a:lnTo>
                      <a:pt x="175" y="1130"/>
                    </a:lnTo>
                    <a:lnTo>
                      <a:pt x="172" y="1247"/>
                    </a:lnTo>
                    <a:lnTo>
                      <a:pt x="169" y="1365"/>
                    </a:lnTo>
                    <a:lnTo>
                      <a:pt x="164" y="1483"/>
                    </a:lnTo>
                    <a:lnTo>
                      <a:pt x="157" y="1599"/>
                    </a:lnTo>
                    <a:lnTo>
                      <a:pt x="150" y="1715"/>
                    </a:lnTo>
                    <a:lnTo>
                      <a:pt x="141" y="1832"/>
                    </a:lnTo>
                    <a:lnTo>
                      <a:pt x="131" y="1947"/>
                    </a:lnTo>
                    <a:lnTo>
                      <a:pt x="119" y="2064"/>
                    </a:lnTo>
                    <a:lnTo>
                      <a:pt x="105" y="2178"/>
                    </a:lnTo>
                    <a:lnTo>
                      <a:pt x="91" y="2293"/>
                    </a:lnTo>
                    <a:lnTo>
                      <a:pt x="75" y="2407"/>
                    </a:lnTo>
                    <a:lnTo>
                      <a:pt x="59" y="2521"/>
                    </a:lnTo>
                    <a:lnTo>
                      <a:pt x="41" y="2634"/>
                    </a:lnTo>
                    <a:lnTo>
                      <a:pt x="21" y="2747"/>
                    </a:lnTo>
                    <a:lnTo>
                      <a:pt x="0" y="2859"/>
                    </a:lnTo>
                    <a:lnTo>
                      <a:pt x="80" y="2843"/>
                    </a:lnTo>
                    <a:lnTo>
                      <a:pt x="100" y="2835"/>
                    </a:lnTo>
                    <a:lnTo>
                      <a:pt x="120" y="2724"/>
                    </a:lnTo>
                    <a:lnTo>
                      <a:pt x="139" y="2612"/>
                    </a:lnTo>
                    <a:lnTo>
                      <a:pt x="156" y="2500"/>
                    </a:lnTo>
                    <a:lnTo>
                      <a:pt x="172" y="2389"/>
                    </a:lnTo>
                    <a:lnTo>
                      <a:pt x="187" y="2276"/>
                    </a:lnTo>
                    <a:lnTo>
                      <a:pt x="201" y="2163"/>
                    </a:lnTo>
                    <a:lnTo>
                      <a:pt x="214" y="2049"/>
                    </a:lnTo>
                    <a:lnTo>
                      <a:pt x="225" y="1934"/>
                    </a:lnTo>
                    <a:lnTo>
                      <a:pt x="236" y="1820"/>
                    </a:lnTo>
                    <a:lnTo>
                      <a:pt x="244" y="1706"/>
                    </a:lnTo>
                    <a:lnTo>
                      <a:pt x="252" y="1591"/>
                    </a:lnTo>
                    <a:lnTo>
                      <a:pt x="258" y="1476"/>
                    </a:lnTo>
                    <a:lnTo>
                      <a:pt x="262" y="1360"/>
                    </a:lnTo>
                    <a:lnTo>
                      <a:pt x="266" y="1244"/>
                    </a:lnTo>
                    <a:lnTo>
                      <a:pt x="268" y="1128"/>
                    </a:lnTo>
                    <a:lnTo>
                      <a:pt x="268" y="1011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73920" y="3979800"/>
                <a:ext cx="71280" cy="784440"/>
              </a:xfrm>
              <a:custGeom>
                <a:avLst/>
                <a:gdLst/>
                <a:ahLst/>
                <a:rect l="l" t="t" r="r" b="b"/>
                <a:pathLst>
                  <a:path w="271" h="2962">
                    <a:moveTo>
                      <a:pt x="271" y="1104"/>
                    </a:moveTo>
                    <a:lnTo>
                      <a:pt x="270" y="987"/>
                    </a:lnTo>
                    <a:lnTo>
                      <a:pt x="269" y="870"/>
                    </a:lnTo>
                    <a:lnTo>
                      <a:pt x="264" y="754"/>
                    </a:lnTo>
                    <a:lnTo>
                      <a:pt x="259" y="637"/>
                    </a:lnTo>
                    <a:lnTo>
                      <a:pt x="254" y="521"/>
                    </a:lnTo>
                    <a:lnTo>
                      <a:pt x="245" y="406"/>
                    </a:lnTo>
                    <a:lnTo>
                      <a:pt x="237" y="290"/>
                    </a:lnTo>
                    <a:lnTo>
                      <a:pt x="227" y="175"/>
                    </a:lnTo>
                    <a:lnTo>
                      <a:pt x="206" y="145"/>
                    </a:lnTo>
                    <a:lnTo>
                      <a:pt x="129" y="26"/>
                    </a:lnTo>
                    <a:lnTo>
                      <a:pt x="115" y="0"/>
                    </a:lnTo>
                    <a:lnTo>
                      <a:pt x="129" y="136"/>
                    </a:lnTo>
                    <a:lnTo>
                      <a:pt x="142" y="273"/>
                    </a:lnTo>
                    <a:lnTo>
                      <a:pt x="153" y="410"/>
                    </a:lnTo>
                    <a:lnTo>
                      <a:pt x="161" y="547"/>
                    </a:lnTo>
                    <a:lnTo>
                      <a:pt x="168" y="686"/>
                    </a:lnTo>
                    <a:lnTo>
                      <a:pt x="174" y="825"/>
                    </a:lnTo>
                    <a:lnTo>
                      <a:pt x="176" y="963"/>
                    </a:lnTo>
                    <a:lnTo>
                      <a:pt x="177" y="1104"/>
                    </a:lnTo>
                    <a:lnTo>
                      <a:pt x="177" y="1223"/>
                    </a:lnTo>
                    <a:lnTo>
                      <a:pt x="175" y="1342"/>
                    </a:lnTo>
                    <a:lnTo>
                      <a:pt x="172" y="1460"/>
                    </a:lnTo>
                    <a:lnTo>
                      <a:pt x="166" y="1578"/>
                    </a:lnTo>
                    <a:lnTo>
                      <a:pt x="160" y="1695"/>
                    </a:lnTo>
                    <a:lnTo>
                      <a:pt x="152" y="1813"/>
                    </a:lnTo>
                    <a:lnTo>
                      <a:pt x="143" y="1929"/>
                    </a:lnTo>
                    <a:lnTo>
                      <a:pt x="132" y="2046"/>
                    </a:lnTo>
                    <a:lnTo>
                      <a:pt x="121" y="2162"/>
                    </a:lnTo>
                    <a:lnTo>
                      <a:pt x="107" y="2278"/>
                    </a:lnTo>
                    <a:lnTo>
                      <a:pt x="92" y="2393"/>
                    </a:lnTo>
                    <a:lnTo>
                      <a:pt x="77" y="2508"/>
                    </a:lnTo>
                    <a:lnTo>
                      <a:pt x="60" y="2622"/>
                    </a:lnTo>
                    <a:lnTo>
                      <a:pt x="40" y="2736"/>
                    </a:lnTo>
                    <a:lnTo>
                      <a:pt x="21" y="2849"/>
                    </a:lnTo>
                    <a:lnTo>
                      <a:pt x="0" y="2962"/>
                    </a:lnTo>
                    <a:lnTo>
                      <a:pt x="99" y="2942"/>
                    </a:lnTo>
                    <a:lnTo>
                      <a:pt x="119" y="2830"/>
                    </a:lnTo>
                    <a:lnTo>
                      <a:pt x="138" y="2718"/>
                    </a:lnTo>
                    <a:lnTo>
                      <a:pt x="157" y="2605"/>
                    </a:lnTo>
                    <a:lnTo>
                      <a:pt x="173" y="2492"/>
                    </a:lnTo>
                    <a:lnTo>
                      <a:pt x="188" y="2378"/>
                    </a:lnTo>
                    <a:lnTo>
                      <a:pt x="203" y="2265"/>
                    </a:lnTo>
                    <a:lnTo>
                      <a:pt x="215" y="2150"/>
                    </a:lnTo>
                    <a:lnTo>
                      <a:pt x="227" y="2036"/>
                    </a:lnTo>
                    <a:lnTo>
                      <a:pt x="237" y="1920"/>
                    </a:lnTo>
                    <a:lnTo>
                      <a:pt x="245" y="1805"/>
                    </a:lnTo>
                    <a:lnTo>
                      <a:pt x="254" y="1689"/>
                    </a:lnTo>
                    <a:lnTo>
                      <a:pt x="259" y="1572"/>
                    </a:lnTo>
                    <a:lnTo>
                      <a:pt x="265" y="1456"/>
                    </a:lnTo>
                    <a:lnTo>
                      <a:pt x="269" y="1339"/>
                    </a:lnTo>
                    <a:lnTo>
                      <a:pt x="270" y="1222"/>
                    </a:lnTo>
                    <a:lnTo>
                      <a:pt x="271" y="110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46920" y="371304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326" h="3980">
                    <a:moveTo>
                      <a:pt x="326" y="2111"/>
                    </a:moveTo>
                    <a:lnTo>
                      <a:pt x="325" y="1983"/>
                    </a:lnTo>
                    <a:lnTo>
                      <a:pt x="322" y="1856"/>
                    </a:lnTo>
                    <a:lnTo>
                      <a:pt x="318" y="1730"/>
                    </a:lnTo>
                    <a:lnTo>
                      <a:pt x="312" y="1603"/>
                    </a:lnTo>
                    <a:lnTo>
                      <a:pt x="305" y="1476"/>
                    </a:lnTo>
                    <a:lnTo>
                      <a:pt x="296" y="1350"/>
                    </a:lnTo>
                    <a:lnTo>
                      <a:pt x="285" y="1226"/>
                    </a:lnTo>
                    <a:lnTo>
                      <a:pt x="274" y="1101"/>
                    </a:lnTo>
                    <a:lnTo>
                      <a:pt x="230" y="1033"/>
                    </a:lnTo>
                    <a:lnTo>
                      <a:pt x="193" y="961"/>
                    </a:lnTo>
                    <a:lnTo>
                      <a:pt x="193" y="843"/>
                    </a:lnTo>
                    <a:lnTo>
                      <a:pt x="156" y="729"/>
                    </a:lnTo>
                    <a:lnTo>
                      <a:pt x="118" y="622"/>
                    </a:lnTo>
                    <a:lnTo>
                      <a:pt x="132" y="713"/>
                    </a:lnTo>
                    <a:lnTo>
                      <a:pt x="145" y="805"/>
                    </a:lnTo>
                    <a:lnTo>
                      <a:pt x="156" y="896"/>
                    </a:lnTo>
                    <a:lnTo>
                      <a:pt x="168" y="988"/>
                    </a:lnTo>
                    <a:lnTo>
                      <a:pt x="178" y="1081"/>
                    </a:lnTo>
                    <a:lnTo>
                      <a:pt x="187" y="1173"/>
                    </a:lnTo>
                    <a:lnTo>
                      <a:pt x="195" y="1266"/>
                    </a:lnTo>
                    <a:lnTo>
                      <a:pt x="203" y="1358"/>
                    </a:lnTo>
                    <a:lnTo>
                      <a:pt x="210" y="1452"/>
                    </a:lnTo>
                    <a:lnTo>
                      <a:pt x="216" y="1545"/>
                    </a:lnTo>
                    <a:lnTo>
                      <a:pt x="221" y="1638"/>
                    </a:lnTo>
                    <a:lnTo>
                      <a:pt x="225" y="1733"/>
                    </a:lnTo>
                    <a:lnTo>
                      <a:pt x="228" y="1828"/>
                    </a:lnTo>
                    <a:lnTo>
                      <a:pt x="230" y="1921"/>
                    </a:lnTo>
                    <a:lnTo>
                      <a:pt x="231" y="2017"/>
                    </a:lnTo>
                    <a:lnTo>
                      <a:pt x="232" y="2111"/>
                    </a:lnTo>
                    <a:lnTo>
                      <a:pt x="231" y="2231"/>
                    </a:lnTo>
                    <a:lnTo>
                      <a:pt x="229" y="2350"/>
                    </a:lnTo>
                    <a:lnTo>
                      <a:pt x="225" y="2470"/>
                    </a:lnTo>
                    <a:lnTo>
                      <a:pt x="221" y="2587"/>
                    </a:lnTo>
                    <a:lnTo>
                      <a:pt x="214" y="2706"/>
                    </a:lnTo>
                    <a:lnTo>
                      <a:pt x="206" y="2824"/>
                    </a:lnTo>
                    <a:lnTo>
                      <a:pt x="197" y="2941"/>
                    </a:lnTo>
                    <a:lnTo>
                      <a:pt x="186" y="3059"/>
                    </a:lnTo>
                    <a:lnTo>
                      <a:pt x="173" y="3175"/>
                    </a:lnTo>
                    <a:lnTo>
                      <a:pt x="161" y="3292"/>
                    </a:lnTo>
                    <a:lnTo>
                      <a:pt x="146" y="3408"/>
                    </a:lnTo>
                    <a:lnTo>
                      <a:pt x="130" y="3523"/>
                    </a:lnTo>
                    <a:lnTo>
                      <a:pt x="112" y="3639"/>
                    </a:lnTo>
                    <a:lnTo>
                      <a:pt x="93" y="3753"/>
                    </a:lnTo>
                    <a:lnTo>
                      <a:pt x="73" y="3867"/>
                    </a:lnTo>
                    <a:lnTo>
                      <a:pt x="51" y="3980"/>
                    </a:lnTo>
                    <a:lnTo>
                      <a:pt x="150" y="3959"/>
                    </a:lnTo>
                    <a:lnTo>
                      <a:pt x="171" y="3847"/>
                    </a:lnTo>
                    <a:lnTo>
                      <a:pt x="191" y="3734"/>
                    </a:lnTo>
                    <a:lnTo>
                      <a:pt x="209" y="3621"/>
                    </a:lnTo>
                    <a:lnTo>
                      <a:pt x="225" y="3507"/>
                    </a:lnTo>
                    <a:lnTo>
                      <a:pt x="241" y="3393"/>
                    </a:lnTo>
                    <a:lnTo>
                      <a:pt x="255" y="3278"/>
                    </a:lnTo>
                    <a:lnTo>
                      <a:pt x="269" y="3164"/>
                    </a:lnTo>
                    <a:lnTo>
                      <a:pt x="281" y="3047"/>
                    </a:lnTo>
                    <a:lnTo>
                      <a:pt x="291" y="2932"/>
                    </a:lnTo>
                    <a:lnTo>
                      <a:pt x="300" y="2815"/>
                    </a:lnTo>
                    <a:lnTo>
                      <a:pt x="307" y="2699"/>
                    </a:lnTo>
                    <a:lnTo>
                      <a:pt x="314" y="2583"/>
                    </a:lnTo>
                    <a:lnTo>
                      <a:pt x="319" y="2465"/>
                    </a:lnTo>
                    <a:lnTo>
                      <a:pt x="322" y="2347"/>
                    </a:lnTo>
                    <a:lnTo>
                      <a:pt x="325" y="2230"/>
                    </a:lnTo>
                    <a:lnTo>
                      <a:pt x="326" y="2111"/>
                    </a:lnTo>
                    <a:close/>
                    <a:moveTo>
                      <a:pt x="2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35760" y="3713040"/>
                <a:ext cx="83880" cy="1057320"/>
              </a:xfrm>
              <a:custGeom>
                <a:avLst/>
                <a:gdLst/>
                <a:ahLst/>
                <a:rect l="l" t="t" r="r" b="b"/>
                <a:pathLst>
                  <a:path w="320" h="3996">
                    <a:moveTo>
                      <a:pt x="320" y="2111"/>
                    </a:moveTo>
                    <a:lnTo>
                      <a:pt x="319" y="1970"/>
                    </a:lnTo>
                    <a:lnTo>
                      <a:pt x="317" y="1832"/>
                    </a:lnTo>
                    <a:lnTo>
                      <a:pt x="311" y="1693"/>
                    </a:lnTo>
                    <a:lnTo>
                      <a:pt x="304" y="1554"/>
                    </a:lnTo>
                    <a:lnTo>
                      <a:pt x="296" y="1417"/>
                    </a:lnTo>
                    <a:lnTo>
                      <a:pt x="285" y="1279"/>
                    </a:lnTo>
                    <a:lnTo>
                      <a:pt x="272" y="1143"/>
                    </a:lnTo>
                    <a:lnTo>
                      <a:pt x="258" y="1007"/>
                    </a:lnTo>
                    <a:lnTo>
                      <a:pt x="235" y="961"/>
                    </a:lnTo>
                    <a:lnTo>
                      <a:pt x="235" y="843"/>
                    </a:lnTo>
                    <a:lnTo>
                      <a:pt x="198" y="729"/>
                    </a:lnTo>
                    <a:lnTo>
                      <a:pt x="158" y="615"/>
                    </a:lnTo>
                    <a:lnTo>
                      <a:pt x="121" y="460"/>
                    </a:lnTo>
                    <a:lnTo>
                      <a:pt x="80" y="309"/>
                    </a:lnTo>
                    <a:lnTo>
                      <a:pt x="44" y="192"/>
                    </a:lnTo>
                    <a:lnTo>
                      <a:pt x="44" y="78"/>
                    </a:lnTo>
                    <a:lnTo>
                      <a:pt x="44" y="0"/>
                    </a:lnTo>
                    <a:lnTo>
                      <a:pt x="0" y="22"/>
                    </a:lnTo>
                    <a:lnTo>
                      <a:pt x="26" y="149"/>
                    </a:lnTo>
                    <a:lnTo>
                      <a:pt x="52" y="276"/>
                    </a:lnTo>
                    <a:lnTo>
                      <a:pt x="76" y="404"/>
                    </a:lnTo>
                    <a:lnTo>
                      <a:pt x="98" y="532"/>
                    </a:lnTo>
                    <a:lnTo>
                      <a:pt x="119" y="661"/>
                    </a:lnTo>
                    <a:lnTo>
                      <a:pt x="137" y="790"/>
                    </a:lnTo>
                    <a:lnTo>
                      <a:pt x="154" y="919"/>
                    </a:lnTo>
                    <a:lnTo>
                      <a:pt x="169" y="1049"/>
                    </a:lnTo>
                    <a:lnTo>
                      <a:pt x="183" y="1181"/>
                    </a:lnTo>
                    <a:lnTo>
                      <a:pt x="195" y="1312"/>
                    </a:lnTo>
                    <a:lnTo>
                      <a:pt x="205" y="1444"/>
                    </a:lnTo>
                    <a:lnTo>
                      <a:pt x="213" y="1576"/>
                    </a:lnTo>
                    <a:lnTo>
                      <a:pt x="219" y="1710"/>
                    </a:lnTo>
                    <a:lnTo>
                      <a:pt x="224" y="1843"/>
                    </a:lnTo>
                    <a:lnTo>
                      <a:pt x="227" y="1976"/>
                    </a:lnTo>
                    <a:lnTo>
                      <a:pt x="227" y="2111"/>
                    </a:lnTo>
                    <a:lnTo>
                      <a:pt x="227" y="2232"/>
                    </a:lnTo>
                    <a:lnTo>
                      <a:pt x="225" y="2352"/>
                    </a:lnTo>
                    <a:lnTo>
                      <a:pt x="221" y="2472"/>
                    </a:lnTo>
                    <a:lnTo>
                      <a:pt x="215" y="2592"/>
                    </a:lnTo>
                    <a:lnTo>
                      <a:pt x="209" y="2711"/>
                    </a:lnTo>
                    <a:lnTo>
                      <a:pt x="200" y="2830"/>
                    </a:lnTo>
                    <a:lnTo>
                      <a:pt x="191" y="2948"/>
                    </a:lnTo>
                    <a:lnTo>
                      <a:pt x="181" y="3067"/>
                    </a:lnTo>
                    <a:lnTo>
                      <a:pt x="168" y="3184"/>
                    </a:lnTo>
                    <a:lnTo>
                      <a:pt x="154" y="3302"/>
                    </a:lnTo>
                    <a:lnTo>
                      <a:pt x="139" y="3418"/>
                    </a:lnTo>
                    <a:lnTo>
                      <a:pt x="122" y="3535"/>
                    </a:lnTo>
                    <a:lnTo>
                      <a:pt x="105" y="3651"/>
                    </a:lnTo>
                    <a:lnTo>
                      <a:pt x="85" y="3766"/>
                    </a:lnTo>
                    <a:lnTo>
                      <a:pt x="64" y="3882"/>
                    </a:lnTo>
                    <a:lnTo>
                      <a:pt x="42" y="3996"/>
                    </a:lnTo>
                    <a:lnTo>
                      <a:pt x="80" y="3983"/>
                    </a:lnTo>
                    <a:lnTo>
                      <a:pt x="143" y="3969"/>
                    </a:lnTo>
                    <a:lnTo>
                      <a:pt x="164" y="3856"/>
                    </a:lnTo>
                    <a:lnTo>
                      <a:pt x="183" y="3743"/>
                    </a:lnTo>
                    <a:lnTo>
                      <a:pt x="203" y="3629"/>
                    </a:lnTo>
                    <a:lnTo>
                      <a:pt x="220" y="3515"/>
                    </a:lnTo>
                    <a:lnTo>
                      <a:pt x="235" y="3400"/>
                    </a:lnTo>
                    <a:lnTo>
                      <a:pt x="250" y="3285"/>
                    </a:lnTo>
                    <a:lnTo>
                      <a:pt x="264" y="3169"/>
                    </a:lnTo>
                    <a:lnTo>
                      <a:pt x="275" y="3053"/>
                    </a:lnTo>
                    <a:lnTo>
                      <a:pt x="286" y="2936"/>
                    </a:lnTo>
                    <a:lnTo>
                      <a:pt x="295" y="2820"/>
                    </a:lnTo>
                    <a:lnTo>
                      <a:pt x="303" y="2702"/>
                    </a:lnTo>
                    <a:lnTo>
                      <a:pt x="309" y="2585"/>
                    </a:lnTo>
                    <a:lnTo>
                      <a:pt x="313" y="2467"/>
                    </a:lnTo>
                    <a:lnTo>
                      <a:pt x="318" y="2349"/>
                    </a:lnTo>
                    <a:lnTo>
                      <a:pt x="320" y="2230"/>
                    </a:lnTo>
                    <a:lnTo>
                      <a:pt x="320" y="211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24600" y="3713040"/>
                <a:ext cx="84240" cy="1062000"/>
              </a:xfrm>
              <a:custGeom>
                <a:avLst/>
                <a:gdLst/>
                <a:ahLst/>
                <a:rect l="l" t="t" r="r" b="b"/>
                <a:pathLst>
                  <a:path w="317" h="4013">
                    <a:moveTo>
                      <a:pt x="317" y="2111"/>
                    </a:moveTo>
                    <a:lnTo>
                      <a:pt x="316" y="2017"/>
                    </a:lnTo>
                    <a:lnTo>
                      <a:pt x="315" y="1921"/>
                    </a:lnTo>
                    <a:lnTo>
                      <a:pt x="313" y="1828"/>
                    </a:lnTo>
                    <a:lnTo>
                      <a:pt x="310" y="1733"/>
                    </a:lnTo>
                    <a:lnTo>
                      <a:pt x="306" y="1638"/>
                    </a:lnTo>
                    <a:lnTo>
                      <a:pt x="301" y="1545"/>
                    </a:lnTo>
                    <a:lnTo>
                      <a:pt x="295" y="1452"/>
                    </a:lnTo>
                    <a:lnTo>
                      <a:pt x="288" y="1358"/>
                    </a:lnTo>
                    <a:lnTo>
                      <a:pt x="280" y="1266"/>
                    </a:lnTo>
                    <a:lnTo>
                      <a:pt x="272" y="1173"/>
                    </a:lnTo>
                    <a:lnTo>
                      <a:pt x="263" y="1081"/>
                    </a:lnTo>
                    <a:lnTo>
                      <a:pt x="253" y="988"/>
                    </a:lnTo>
                    <a:lnTo>
                      <a:pt x="241" y="896"/>
                    </a:lnTo>
                    <a:lnTo>
                      <a:pt x="230" y="805"/>
                    </a:lnTo>
                    <a:lnTo>
                      <a:pt x="217" y="713"/>
                    </a:lnTo>
                    <a:lnTo>
                      <a:pt x="203" y="622"/>
                    </a:lnTo>
                    <a:lnTo>
                      <a:pt x="201" y="615"/>
                    </a:lnTo>
                    <a:lnTo>
                      <a:pt x="164" y="460"/>
                    </a:lnTo>
                    <a:lnTo>
                      <a:pt x="123" y="309"/>
                    </a:lnTo>
                    <a:lnTo>
                      <a:pt x="87" y="192"/>
                    </a:lnTo>
                    <a:lnTo>
                      <a:pt x="87" y="78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7" y="2"/>
                    </a:lnTo>
                    <a:lnTo>
                      <a:pt x="85" y="2"/>
                    </a:lnTo>
                    <a:lnTo>
                      <a:pt x="85" y="0"/>
                    </a:lnTo>
                    <a:lnTo>
                      <a:pt x="0" y="44"/>
                    </a:lnTo>
                    <a:lnTo>
                      <a:pt x="27" y="169"/>
                    </a:lnTo>
                    <a:lnTo>
                      <a:pt x="51" y="294"/>
                    </a:lnTo>
                    <a:lnTo>
                      <a:pt x="75" y="421"/>
                    </a:lnTo>
                    <a:lnTo>
                      <a:pt x="97" y="548"/>
                    </a:lnTo>
                    <a:lnTo>
                      <a:pt x="117" y="676"/>
                    </a:lnTo>
                    <a:lnTo>
                      <a:pt x="135" y="804"/>
                    </a:lnTo>
                    <a:lnTo>
                      <a:pt x="151" y="932"/>
                    </a:lnTo>
                    <a:lnTo>
                      <a:pt x="166" y="1061"/>
                    </a:lnTo>
                    <a:lnTo>
                      <a:pt x="180" y="1190"/>
                    </a:lnTo>
                    <a:lnTo>
                      <a:pt x="192" y="1320"/>
                    </a:lnTo>
                    <a:lnTo>
                      <a:pt x="201" y="1452"/>
                    </a:lnTo>
                    <a:lnTo>
                      <a:pt x="209" y="1582"/>
                    </a:lnTo>
                    <a:lnTo>
                      <a:pt x="216" y="1713"/>
                    </a:lnTo>
                    <a:lnTo>
                      <a:pt x="220" y="1846"/>
                    </a:lnTo>
                    <a:lnTo>
                      <a:pt x="223" y="1979"/>
                    </a:lnTo>
                    <a:lnTo>
                      <a:pt x="224" y="2111"/>
                    </a:lnTo>
                    <a:lnTo>
                      <a:pt x="223" y="2233"/>
                    </a:lnTo>
                    <a:lnTo>
                      <a:pt x="220" y="2354"/>
                    </a:lnTo>
                    <a:lnTo>
                      <a:pt x="217" y="2475"/>
                    </a:lnTo>
                    <a:lnTo>
                      <a:pt x="211" y="2596"/>
                    </a:lnTo>
                    <a:lnTo>
                      <a:pt x="205" y="2716"/>
                    </a:lnTo>
                    <a:lnTo>
                      <a:pt x="196" y="2837"/>
                    </a:lnTo>
                    <a:lnTo>
                      <a:pt x="187" y="2956"/>
                    </a:lnTo>
                    <a:lnTo>
                      <a:pt x="175" y="3076"/>
                    </a:lnTo>
                    <a:lnTo>
                      <a:pt x="163" y="3195"/>
                    </a:lnTo>
                    <a:lnTo>
                      <a:pt x="149" y="3312"/>
                    </a:lnTo>
                    <a:lnTo>
                      <a:pt x="134" y="3431"/>
                    </a:lnTo>
                    <a:lnTo>
                      <a:pt x="117" y="3547"/>
                    </a:lnTo>
                    <a:lnTo>
                      <a:pt x="98" y="3665"/>
                    </a:lnTo>
                    <a:lnTo>
                      <a:pt x="79" y="3781"/>
                    </a:lnTo>
                    <a:lnTo>
                      <a:pt x="58" y="3898"/>
                    </a:lnTo>
                    <a:lnTo>
                      <a:pt x="35" y="4013"/>
                    </a:lnTo>
                    <a:lnTo>
                      <a:pt x="123" y="3983"/>
                    </a:lnTo>
                    <a:lnTo>
                      <a:pt x="136" y="3980"/>
                    </a:lnTo>
                    <a:lnTo>
                      <a:pt x="158" y="3867"/>
                    </a:lnTo>
                    <a:lnTo>
                      <a:pt x="178" y="3753"/>
                    </a:lnTo>
                    <a:lnTo>
                      <a:pt x="197" y="3639"/>
                    </a:lnTo>
                    <a:lnTo>
                      <a:pt x="215" y="3523"/>
                    </a:lnTo>
                    <a:lnTo>
                      <a:pt x="231" y="3408"/>
                    </a:lnTo>
                    <a:lnTo>
                      <a:pt x="246" y="3292"/>
                    </a:lnTo>
                    <a:lnTo>
                      <a:pt x="258" y="3175"/>
                    </a:lnTo>
                    <a:lnTo>
                      <a:pt x="271" y="3059"/>
                    </a:lnTo>
                    <a:lnTo>
                      <a:pt x="282" y="2941"/>
                    </a:lnTo>
                    <a:lnTo>
                      <a:pt x="291" y="2824"/>
                    </a:lnTo>
                    <a:lnTo>
                      <a:pt x="299" y="2706"/>
                    </a:lnTo>
                    <a:lnTo>
                      <a:pt x="306" y="2587"/>
                    </a:lnTo>
                    <a:lnTo>
                      <a:pt x="310" y="2470"/>
                    </a:lnTo>
                    <a:lnTo>
                      <a:pt x="314" y="2350"/>
                    </a:lnTo>
                    <a:lnTo>
                      <a:pt x="316" y="2231"/>
                    </a:lnTo>
                    <a:lnTo>
                      <a:pt x="317" y="211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3440" y="3719520"/>
                <a:ext cx="82440" cy="1060560"/>
              </a:xfrm>
              <a:custGeom>
                <a:avLst/>
                <a:gdLst/>
                <a:ahLst/>
                <a:rect l="l" t="t" r="r" b="b"/>
                <a:pathLst>
                  <a:path w="314" h="4008">
                    <a:moveTo>
                      <a:pt x="314" y="2089"/>
                    </a:moveTo>
                    <a:lnTo>
                      <a:pt x="314" y="1954"/>
                    </a:lnTo>
                    <a:lnTo>
                      <a:pt x="311" y="1821"/>
                    </a:lnTo>
                    <a:lnTo>
                      <a:pt x="306" y="1688"/>
                    </a:lnTo>
                    <a:lnTo>
                      <a:pt x="300" y="1554"/>
                    </a:lnTo>
                    <a:lnTo>
                      <a:pt x="292" y="1422"/>
                    </a:lnTo>
                    <a:lnTo>
                      <a:pt x="282" y="1290"/>
                    </a:lnTo>
                    <a:lnTo>
                      <a:pt x="270" y="1159"/>
                    </a:lnTo>
                    <a:lnTo>
                      <a:pt x="256" y="1027"/>
                    </a:lnTo>
                    <a:lnTo>
                      <a:pt x="241" y="897"/>
                    </a:lnTo>
                    <a:lnTo>
                      <a:pt x="224" y="768"/>
                    </a:lnTo>
                    <a:lnTo>
                      <a:pt x="206" y="639"/>
                    </a:lnTo>
                    <a:lnTo>
                      <a:pt x="185" y="510"/>
                    </a:lnTo>
                    <a:lnTo>
                      <a:pt x="163" y="382"/>
                    </a:lnTo>
                    <a:lnTo>
                      <a:pt x="139" y="254"/>
                    </a:lnTo>
                    <a:lnTo>
                      <a:pt x="113" y="127"/>
                    </a:lnTo>
                    <a:lnTo>
                      <a:pt x="87" y="0"/>
                    </a:lnTo>
                    <a:lnTo>
                      <a:pt x="0" y="43"/>
                    </a:lnTo>
                    <a:lnTo>
                      <a:pt x="27" y="167"/>
                    </a:lnTo>
                    <a:lnTo>
                      <a:pt x="51" y="292"/>
                    </a:lnTo>
                    <a:lnTo>
                      <a:pt x="74" y="416"/>
                    </a:lnTo>
                    <a:lnTo>
                      <a:pt x="96" y="542"/>
                    </a:lnTo>
                    <a:lnTo>
                      <a:pt x="116" y="669"/>
                    </a:lnTo>
                    <a:lnTo>
                      <a:pt x="134" y="796"/>
                    </a:lnTo>
                    <a:lnTo>
                      <a:pt x="150" y="923"/>
                    </a:lnTo>
                    <a:lnTo>
                      <a:pt x="165" y="1050"/>
                    </a:lnTo>
                    <a:lnTo>
                      <a:pt x="178" y="1178"/>
                    </a:lnTo>
                    <a:lnTo>
                      <a:pt x="189" y="1306"/>
                    </a:lnTo>
                    <a:lnTo>
                      <a:pt x="199" y="1437"/>
                    </a:lnTo>
                    <a:lnTo>
                      <a:pt x="207" y="1566"/>
                    </a:lnTo>
                    <a:lnTo>
                      <a:pt x="214" y="1696"/>
                    </a:lnTo>
                    <a:lnTo>
                      <a:pt x="217" y="1826"/>
                    </a:lnTo>
                    <a:lnTo>
                      <a:pt x="221" y="1958"/>
                    </a:lnTo>
                    <a:lnTo>
                      <a:pt x="222" y="2089"/>
                    </a:lnTo>
                    <a:lnTo>
                      <a:pt x="221" y="2212"/>
                    </a:lnTo>
                    <a:lnTo>
                      <a:pt x="218" y="2335"/>
                    </a:lnTo>
                    <a:lnTo>
                      <a:pt x="214" y="2457"/>
                    </a:lnTo>
                    <a:lnTo>
                      <a:pt x="209" y="2579"/>
                    </a:lnTo>
                    <a:lnTo>
                      <a:pt x="202" y="2700"/>
                    </a:lnTo>
                    <a:lnTo>
                      <a:pt x="193" y="2821"/>
                    </a:lnTo>
                    <a:lnTo>
                      <a:pt x="184" y="2942"/>
                    </a:lnTo>
                    <a:lnTo>
                      <a:pt x="172" y="3062"/>
                    </a:lnTo>
                    <a:lnTo>
                      <a:pt x="159" y="3182"/>
                    </a:lnTo>
                    <a:lnTo>
                      <a:pt x="144" y="3302"/>
                    </a:lnTo>
                    <a:lnTo>
                      <a:pt x="128" y="3421"/>
                    </a:lnTo>
                    <a:lnTo>
                      <a:pt x="112" y="3539"/>
                    </a:lnTo>
                    <a:lnTo>
                      <a:pt x="93" y="3657"/>
                    </a:lnTo>
                    <a:lnTo>
                      <a:pt x="73" y="3774"/>
                    </a:lnTo>
                    <a:lnTo>
                      <a:pt x="51" y="3892"/>
                    </a:lnTo>
                    <a:lnTo>
                      <a:pt x="28" y="4008"/>
                    </a:lnTo>
                    <a:lnTo>
                      <a:pt x="129" y="3974"/>
                    </a:lnTo>
                    <a:lnTo>
                      <a:pt x="151" y="3860"/>
                    </a:lnTo>
                    <a:lnTo>
                      <a:pt x="172" y="3744"/>
                    </a:lnTo>
                    <a:lnTo>
                      <a:pt x="192" y="3629"/>
                    </a:lnTo>
                    <a:lnTo>
                      <a:pt x="209" y="3513"/>
                    </a:lnTo>
                    <a:lnTo>
                      <a:pt x="226" y="3396"/>
                    </a:lnTo>
                    <a:lnTo>
                      <a:pt x="241" y="3280"/>
                    </a:lnTo>
                    <a:lnTo>
                      <a:pt x="255" y="3162"/>
                    </a:lnTo>
                    <a:lnTo>
                      <a:pt x="268" y="3045"/>
                    </a:lnTo>
                    <a:lnTo>
                      <a:pt x="278" y="2926"/>
                    </a:lnTo>
                    <a:lnTo>
                      <a:pt x="287" y="2808"/>
                    </a:lnTo>
                    <a:lnTo>
                      <a:pt x="296" y="2689"/>
                    </a:lnTo>
                    <a:lnTo>
                      <a:pt x="302" y="2570"/>
                    </a:lnTo>
                    <a:lnTo>
                      <a:pt x="308" y="2450"/>
                    </a:lnTo>
                    <a:lnTo>
                      <a:pt x="312" y="2330"/>
                    </a:lnTo>
                    <a:lnTo>
                      <a:pt x="314" y="2210"/>
                    </a:lnTo>
                    <a:lnTo>
                      <a:pt x="314" y="2089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00840" y="3726000"/>
                <a:ext cx="82440" cy="1058760"/>
              </a:xfrm>
              <a:custGeom>
                <a:avLst/>
                <a:gdLst/>
                <a:ahLst/>
                <a:rect l="l" t="t" r="r" b="b"/>
                <a:pathLst>
                  <a:path w="310" h="4004">
                    <a:moveTo>
                      <a:pt x="310" y="2067"/>
                    </a:moveTo>
                    <a:lnTo>
                      <a:pt x="309" y="1935"/>
                    </a:lnTo>
                    <a:lnTo>
                      <a:pt x="306" y="1802"/>
                    </a:lnTo>
                    <a:lnTo>
                      <a:pt x="302" y="1669"/>
                    </a:lnTo>
                    <a:lnTo>
                      <a:pt x="295" y="1538"/>
                    </a:lnTo>
                    <a:lnTo>
                      <a:pt x="287" y="1408"/>
                    </a:lnTo>
                    <a:lnTo>
                      <a:pt x="278" y="1276"/>
                    </a:lnTo>
                    <a:lnTo>
                      <a:pt x="266" y="1146"/>
                    </a:lnTo>
                    <a:lnTo>
                      <a:pt x="252" y="1017"/>
                    </a:lnTo>
                    <a:lnTo>
                      <a:pt x="237" y="888"/>
                    </a:lnTo>
                    <a:lnTo>
                      <a:pt x="221" y="760"/>
                    </a:lnTo>
                    <a:lnTo>
                      <a:pt x="203" y="632"/>
                    </a:lnTo>
                    <a:lnTo>
                      <a:pt x="183" y="504"/>
                    </a:lnTo>
                    <a:lnTo>
                      <a:pt x="161" y="377"/>
                    </a:lnTo>
                    <a:lnTo>
                      <a:pt x="137" y="250"/>
                    </a:lnTo>
                    <a:lnTo>
                      <a:pt x="113" y="125"/>
                    </a:lnTo>
                    <a:lnTo>
                      <a:pt x="86" y="0"/>
                    </a:lnTo>
                    <a:lnTo>
                      <a:pt x="18" y="34"/>
                    </a:lnTo>
                    <a:lnTo>
                      <a:pt x="0" y="41"/>
                    </a:lnTo>
                    <a:lnTo>
                      <a:pt x="25" y="163"/>
                    </a:lnTo>
                    <a:lnTo>
                      <a:pt x="49" y="286"/>
                    </a:lnTo>
                    <a:lnTo>
                      <a:pt x="72" y="411"/>
                    </a:lnTo>
                    <a:lnTo>
                      <a:pt x="93" y="535"/>
                    </a:lnTo>
                    <a:lnTo>
                      <a:pt x="113" y="660"/>
                    </a:lnTo>
                    <a:lnTo>
                      <a:pt x="130" y="785"/>
                    </a:lnTo>
                    <a:lnTo>
                      <a:pt x="146" y="911"/>
                    </a:lnTo>
                    <a:lnTo>
                      <a:pt x="161" y="1038"/>
                    </a:lnTo>
                    <a:lnTo>
                      <a:pt x="174" y="1165"/>
                    </a:lnTo>
                    <a:lnTo>
                      <a:pt x="185" y="1292"/>
                    </a:lnTo>
                    <a:lnTo>
                      <a:pt x="195" y="1420"/>
                    </a:lnTo>
                    <a:lnTo>
                      <a:pt x="203" y="1548"/>
                    </a:lnTo>
                    <a:lnTo>
                      <a:pt x="208" y="1677"/>
                    </a:lnTo>
                    <a:lnTo>
                      <a:pt x="213" y="1807"/>
                    </a:lnTo>
                    <a:lnTo>
                      <a:pt x="215" y="1937"/>
                    </a:lnTo>
                    <a:lnTo>
                      <a:pt x="216" y="2067"/>
                    </a:lnTo>
                    <a:lnTo>
                      <a:pt x="215" y="2192"/>
                    </a:lnTo>
                    <a:lnTo>
                      <a:pt x="213" y="2315"/>
                    </a:lnTo>
                    <a:lnTo>
                      <a:pt x="209" y="2438"/>
                    </a:lnTo>
                    <a:lnTo>
                      <a:pt x="204" y="2562"/>
                    </a:lnTo>
                    <a:lnTo>
                      <a:pt x="197" y="2684"/>
                    </a:lnTo>
                    <a:lnTo>
                      <a:pt x="188" y="2806"/>
                    </a:lnTo>
                    <a:lnTo>
                      <a:pt x="178" y="2928"/>
                    </a:lnTo>
                    <a:lnTo>
                      <a:pt x="167" y="3049"/>
                    </a:lnTo>
                    <a:lnTo>
                      <a:pt x="153" y="3170"/>
                    </a:lnTo>
                    <a:lnTo>
                      <a:pt x="138" y="3291"/>
                    </a:lnTo>
                    <a:lnTo>
                      <a:pt x="122" y="3411"/>
                    </a:lnTo>
                    <a:lnTo>
                      <a:pt x="105" y="3530"/>
                    </a:lnTo>
                    <a:lnTo>
                      <a:pt x="85" y="3650"/>
                    </a:lnTo>
                    <a:lnTo>
                      <a:pt x="64" y="3767"/>
                    </a:lnTo>
                    <a:lnTo>
                      <a:pt x="42" y="3886"/>
                    </a:lnTo>
                    <a:lnTo>
                      <a:pt x="19" y="4004"/>
                    </a:lnTo>
                    <a:lnTo>
                      <a:pt x="121" y="3969"/>
                    </a:lnTo>
                    <a:lnTo>
                      <a:pt x="144" y="3854"/>
                    </a:lnTo>
                    <a:lnTo>
                      <a:pt x="165" y="3737"/>
                    </a:lnTo>
                    <a:lnTo>
                      <a:pt x="184" y="3621"/>
                    </a:lnTo>
                    <a:lnTo>
                      <a:pt x="203" y="3503"/>
                    </a:lnTo>
                    <a:lnTo>
                      <a:pt x="220" y="3387"/>
                    </a:lnTo>
                    <a:lnTo>
                      <a:pt x="235" y="3268"/>
                    </a:lnTo>
                    <a:lnTo>
                      <a:pt x="249" y="3151"/>
                    </a:lnTo>
                    <a:lnTo>
                      <a:pt x="261" y="3032"/>
                    </a:lnTo>
                    <a:lnTo>
                      <a:pt x="273" y="2912"/>
                    </a:lnTo>
                    <a:lnTo>
                      <a:pt x="282" y="2793"/>
                    </a:lnTo>
                    <a:lnTo>
                      <a:pt x="291" y="2672"/>
                    </a:lnTo>
                    <a:lnTo>
                      <a:pt x="297" y="2552"/>
                    </a:lnTo>
                    <a:lnTo>
                      <a:pt x="303" y="2431"/>
                    </a:lnTo>
                    <a:lnTo>
                      <a:pt x="306" y="2310"/>
                    </a:lnTo>
                    <a:lnTo>
                      <a:pt x="309" y="2189"/>
                    </a:lnTo>
                    <a:lnTo>
                      <a:pt x="310" y="2067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89680" y="3730680"/>
                <a:ext cx="81000" cy="1057320"/>
              </a:xfrm>
              <a:custGeom>
                <a:avLst/>
                <a:gdLst/>
                <a:ahLst/>
                <a:rect l="l" t="t" r="r" b="b"/>
                <a:pathLst>
                  <a:path w="309" h="3998">
                    <a:moveTo>
                      <a:pt x="309" y="2046"/>
                    </a:moveTo>
                    <a:lnTo>
                      <a:pt x="308" y="1915"/>
                    </a:lnTo>
                    <a:lnTo>
                      <a:pt x="304" y="1783"/>
                    </a:lnTo>
                    <a:lnTo>
                      <a:pt x="301" y="1653"/>
                    </a:lnTo>
                    <a:lnTo>
                      <a:pt x="294" y="1523"/>
                    </a:lnTo>
                    <a:lnTo>
                      <a:pt x="286" y="1394"/>
                    </a:lnTo>
                    <a:lnTo>
                      <a:pt x="276" y="1263"/>
                    </a:lnTo>
                    <a:lnTo>
                      <a:pt x="265" y="1135"/>
                    </a:lnTo>
                    <a:lnTo>
                      <a:pt x="252" y="1007"/>
                    </a:lnTo>
                    <a:lnTo>
                      <a:pt x="237" y="880"/>
                    </a:lnTo>
                    <a:lnTo>
                      <a:pt x="221" y="753"/>
                    </a:lnTo>
                    <a:lnTo>
                      <a:pt x="203" y="626"/>
                    </a:lnTo>
                    <a:lnTo>
                      <a:pt x="183" y="499"/>
                    </a:lnTo>
                    <a:lnTo>
                      <a:pt x="161" y="373"/>
                    </a:lnTo>
                    <a:lnTo>
                      <a:pt x="138" y="249"/>
                    </a:lnTo>
                    <a:lnTo>
                      <a:pt x="114" y="124"/>
                    </a:lnTo>
                    <a:lnTo>
                      <a:pt x="87" y="0"/>
                    </a:lnTo>
                    <a:lnTo>
                      <a:pt x="63" y="13"/>
                    </a:lnTo>
                    <a:lnTo>
                      <a:pt x="0" y="35"/>
                    </a:lnTo>
                    <a:lnTo>
                      <a:pt x="25" y="157"/>
                    </a:lnTo>
                    <a:lnTo>
                      <a:pt x="49" y="279"/>
                    </a:lnTo>
                    <a:lnTo>
                      <a:pt x="72" y="402"/>
                    </a:lnTo>
                    <a:lnTo>
                      <a:pt x="93" y="526"/>
                    </a:lnTo>
                    <a:lnTo>
                      <a:pt x="111" y="650"/>
                    </a:lnTo>
                    <a:lnTo>
                      <a:pt x="130" y="775"/>
                    </a:lnTo>
                    <a:lnTo>
                      <a:pt x="146" y="899"/>
                    </a:lnTo>
                    <a:lnTo>
                      <a:pt x="160" y="1025"/>
                    </a:lnTo>
                    <a:lnTo>
                      <a:pt x="173" y="1150"/>
                    </a:lnTo>
                    <a:lnTo>
                      <a:pt x="184" y="1277"/>
                    </a:lnTo>
                    <a:lnTo>
                      <a:pt x="193" y="1404"/>
                    </a:lnTo>
                    <a:lnTo>
                      <a:pt x="201" y="1532"/>
                    </a:lnTo>
                    <a:lnTo>
                      <a:pt x="207" y="1660"/>
                    </a:lnTo>
                    <a:lnTo>
                      <a:pt x="212" y="1788"/>
                    </a:lnTo>
                    <a:lnTo>
                      <a:pt x="214" y="1917"/>
                    </a:lnTo>
                    <a:lnTo>
                      <a:pt x="215" y="2046"/>
                    </a:lnTo>
                    <a:lnTo>
                      <a:pt x="214" y="2171"/>
                    </a:lnTo>
                    <a:lnTo>
                      <a:pt x="212" y="2296"/>
                    </a:lnTo>
                    <a:lnTo>
                      <a:pt x="207" y="2421"/>
                    </a:lnTo>
                    <a:lnTo>
                      <a:pt x="201" y="2544"/>
                    </a:lnTo>
                    <a:lnTo>
                      <a:pt x="195" y="2669"/>
                    </a:lnTo>
                    <a:lnTo>
                      <a:pt x="185" y="2792"/>
                    </a:lnTo>
                    <a:lnTo>
                      <a:pt x="175" y="2914"/>
                    </a:lnTo>
                    <a:lnTo>
                      <a:pt x="163" y="3036"/>
                    </a:lnTo>
                    <a:lnTo>
                      <a:pt x="150" y="3159"/>
                    </a:lnTo>
                    <a:lnTo>
                      <a:pt x="135" y="3280"/>
                    </a:lnTo>
                    <a:lnTo>
                      <a:pt x="118" y="3401"/>
                    </a:lnTo>
                    <a:lnTo>
                      <a:pt x="100" y="3522"/>
                    </a:lnTo>
                    <a:lnTo>
                      <a:pt x="80" y="3642"/>
                    </a:lnTo>
                    <a:lnTo>
                      <a:pt x="60" y="3760"/>
                    </a:lnTo>
                    <a:lnTo>
                      <a:pt x="37" y="3879"/>
                    </a:lnTo>
                    <a:lnTo>
                      <a:pt x="12" y="3998"/>
                    </a:lnTo>
                    <a:lnTo>
                      <a:pt x="26" y="3995"/>
                    </a:lnTo>
                    <a:lnTo>
                      <a:pt x="115" y="3965"/>
                    </a:lnTo>
                    <a:lnTo>
                      <a:pt x="138" y="3849"/>
                    </a:lnTo>
                    <a:lnTo>
                      <a:pt x="160" y="3731"/>
                    </a:lnTo>
                    <a:lnTo>
                      <a:pt x="180" y="3614"/>
                    </a:lnTo>
                    <a:lnTo>
                      <a:pt x="199" y="3496"/>
                    </a:lnTo>
                    <a:lnTo>
                      <a:pt x="215" y="3378"/>
                    </a:lnTo>
                    <a:lnTo>
                      <a:pt x="231" y="3259"/>
                    </a:lnTo>
                    <a:lnTo>
                      <a:pt x="246" y="3139"/>
                    </a:lnTo>
                    <a:lnTo>
                      <a:pt x="259" y="3019"/>
                    </a:lnTo>
                    <a:lnTo>
                      <a:pt x="271" y="2899"/>
                    </a:lnTo>
                    <a:lnTo>
                      <a:pt x="280" y="2778"/>
                    </a:lnTo>
                    <a:lnTo>
                      <a:pt x="289" y="2657"/>
                    </a:lnTo>
                    <a:lnTo>
                      <a:pt x="296" y="2536"/>
                    </a:lnTo>
                    <a:lnTo>
                      <a:pt x="301" y="2414"/>
                    </a:lnTo>
                    <a:lnTo>
                      <a:pt x="305" y="2292"/>
                    </a:lnTo>
                    <a:lnTo>
                      <a:pt x="308" y="2169"/>
                    </a:lnTo>
                    <a:lnTo>
                      <a:pt x="309" y="204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78520" y="3735360"/>
                <a:ext cx="81000" cy="1055880"/>
              </a:xfrm>
              <a:custGeom>
                <a:avLst/>
                <a:gdLst/>
                <a:ahLst/>
                <a:rect l="l" t="t" r="r" b="b"/>
                <a:pathLst>
                  <a:path w="305" h="3987">
                    <a:moveTo>
                      <a:pt x="305" y="2026"/>
                    </a:moveTo>
                    <a:lnTo>
                      <a:pt x="304" y="1896"/>
                    </a:lnTo>
                    <a:lnTo>
                      <a:pt x="302" y="1766"/>
                    </a:lnTo>
                    <a:lnTo>
                      <a:pt x="297" y="1636"/>
                    </a:lnTo>
                    <a:lnTo>
                      <a:pt x="292" y="1507"/>
                    </a:lnTo>
                    <a:lnTo>
                      <a:pt x="284" y="1379"/>
                    </a:lnTo>
                    <a:lnTo>
                      <a:pt x="274" y="1251"/>
                    </a:lnTo>
                    <a:lnTo>
                      <a:pt x="263" y="1124"/>
                    </a:lnTo>
                    <a:lnTo>
                      <a:pt x="250" y="997"/>
                    </a:lnTo>
                    <a:lnTo>
                      <a:pt x="235" y="870"/>
                    </a:lnTo>
                    <a:lnTo>
                      <a:pt x="219" y="744"/>
                    </a:lnTo>
                    <a:lnTo>
                      <a:pt x="202" y="619"/>
                    </a:lnTo>
                    <a:lnTo>
                      <a:pt x="182" y="494"/>
                    </a:lnTo>
                    <a:lnTo>
                      <a:pt x="161" y="370"/>
                    </a:lnTo>
                    <a:lnTo>
                      <a:pt x="138" y="245"/>
                    </a:lnTo>
                    <a:lnTo>
                      <a:pt x="114" y="122"/>
                    </a:lnTo>
                    <a:lnTo>
                      <a:pt x="89" y="0"/>
                    </a:lnTo>
                    <a:lnTo>
                      <a:pt x="0" y="31"/>
                    </a:lnTo>
                    <a:lnTo>
                      <a:pt x="25" y="152"/>
                    </a:lnTo>
                    <a:lnTo>
                      <a:pt x="48" y="273"/>
                    </a:lnTo>
                    <a:lnTo>
                      <a:pt x="71" y="395"/>
                    </a:lnTo>
                    <a:lnTo>
                      <a:pt x="92" y="517"/>
                    </a:lnTo>
                    <a:lnTo>
                      <a:pt x="110" y="641"/>
                    </a:lnTo>
                    <a:lnTo>
                      <a:pt x="128" y="764"/>
                    </a:lnTo>
                    <a:lnTo>
                      <a:pt x="144" y="888"/>
                    </a:lnTo>
                    <a:lnTo>
                      <a:pt x="158" y="1013"/>
                    </a:lnTo>
                    <a:lnTo>
                      <a:pt x="170" y="1137"/>
                    </a:lnTo>
                    <a:lnTo>
                      <a:pt x="182" y="1263"/>
                    </a:lnTo>
                    <a:lnTo>
                      <a:pt x="191" y="1390"/>
                    </a:lnTo>
                    <a:lnTo>
                      <a:pt x="199" y="1515"/>
                    </a:lnTo>
                    <a:lnTo>
                      <a:pt x="205" y="1642"/>
                    </a:lnTo>
                    <a:lnTo>
                      <a:pt x="209" y="1770"/>
                    </a:lnTo>
                    <a:lnTo>
                      <a:pt x="212" y="1898"/>
                    </a:lnTo>
                    <a:lnTo>
                      <a:pt x="212" y="2026"/>
                    </a:lnTo>
                    <a:lnTo>
                      <a:pt x="212" y="2152"/>
                    </a:lnTo>
                    <a:lnTo>
                      <a:pt x="209" y="2277"/>
                    </a:lnTo>
                    <a:lnTo>
                      <a:pt x="205" y="2402"/>
                    </a:lnTo>
                    <a:lnTo>
                      <a:pt x="199" y="2528"/>
                    </a:lnTo>
                    <a:lnTo>
                      <a:pt x="191" y="2652"/>
                    </a:lnTo>
                    <a:lnTo>
                      <a:pt x="183" y="2775"/>
                    </a:lnTo>
                    <a:lnTo>
                      <a:pt x="173" y="2899"/>
                    </a:lnTo>
                    <a:lnTo>
                      <a:pt x="160" y="3022"/>
                    </a:lnTo>
                    <a:lnTo>
                      <a:pt x="146" y="3144"/>
                    </a:lnTo>
                    <a:lnTo>
                      <a:pt x="131" y="3266"/>
                    </a:lnTo>
                    <a:lnTo>
                      <a:pt x="114" y="3388"/>
                    </a:lnTo>
                    <a:lnTo>
                      <a:pt x="95" y="3509"/>
                    </a:lnTo>
                    <a:lnTo>
                      <a:pt x="76" y="3630"/>
                    </a:lnTo>
                    <a:lnTo>
                      <a:pt x="54" y="3749"/>
                    </a:lnTo>
                    <a:lnTo>
                      <a:pt x="31" y="3868"/>
                    </a:lnTo>
                    <a:lnTo>
                      <a:pt x="7" y="3987"/>
                    </a:lnTo>
                    <a:lnTo>
                      <a:pt x="70" y="3975"/>
                    </a:lnTo>
                    <a:lnTo>
                      <a:pt x="108" y="3963"/>
                    </a:lnTo>
                    <a:lnTo>
                      <a:pt x="131" y="3845"/>
                    </a:lnTo>
                    <a:lnTo>
                      <a:pt x="153" y="3726"/>
                    </a:lnTo>
                    <a:lnTo>
                      <a:pt x="174" y="3609"/>
                    </a:lnTo>
                    <a:lnTo>
                      <a:pt x="194" y="3489"/>
                    </a:lnTo>
                    <a:lnTo>
                      <a:pt x="211" y="3370"/>
                    </a:lnTo>
                    <a:lnTo>
                      <a:pt x="227" y="3250"/>
                    </a:lnTo>
                    <a:lnTo>
                      <a:pt x="242" y="3129"/>
                    </a:lnTo>
                    <a:lnTo>
                      <a:pt x="256" y="3008"/>
                    </a:lnTo>
                    <a:lnTo>
                      <a:pt x="267" y="2887"/>
                    </a:lnTo>
                    <a:lnTo>
                      <a:pt x="277" y="2765"/>
                    </a:lnTo>
                    <a:lnTo>
                      <a:pt x="286" y="2643"/>
                    </a:lnTo>
                    <a:lnTo>
                      <a:pt x="293" y="2521"/>
                    </a:lnTo>
                    <a:lnTo>
                      <a:pt x="298" y="2397"/>
                    </a:lnTo>
                    <a:lnTo>
                      <a:pt x="302" y="2274"/>
                    </a:lnTo>
                    <a:lnTo>
                      <a:pt x="304" y="2151"/>
                    </a:lnTo>
                    <a:lnTo>
                      <a:pt x="305" y="202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65920" y="3740040"/>
                <a:ext cx="81000" cy="1054080"/>
              </a:xfrm>
              <a:custGeom>
                <a:avLst/>
                <a:gdLst/>
                <a:ahLst/>
                <a:rect l="l" t="t" r="r" b="b"/>
                <a:pathLst>
                  <a:path w="304" h="3982">
                    <a:moveTo>
                      <a:pt x="304" y="2011"/>
                    </a:moveTo>
                    <a:lnTo>
                      <a:pt x="303" y="1882"/>
                    </a:lnTo>
                    <a:lnTo>
                      <a:pt x="301" y="1753"/>
                    </a:lnTo>
                    <a:lnTo>
                      <a:pt x="296" y="1625"/>
                    </a:lnTo>
                    <a:lnTo>
                      <a:pt x="290" y="1497"/>
                    </a:lnTo>
                    <a:lnTo>
                      <a:pt x="282" y="1369"/>
                    </a:lnTo>
                    <a:lnTo>
                      <a:pt x="273" y="1242"/>
                    </a:lnTo>
                    <a:lnTo>
                      <a:pt x="262" y="1115"/>
                    </a:lnTo>
                    <a:lnTo>
                      <a:pt x="249" y="990"/>
                    </a:lnTo>
                    <a:lnTo>
                      <a:pt x="235" y="864"/>
                    </a:lnTo>
                    <a:lnTo>
                      <a:pt x="219" y="740"/>
                    </a:lnTo>
                    <a:lnTo>
                      <a:pt x="200" y="615"/>
                    </a:lnTo>
                    <a:lnTo>
                      <a:pt x="182" y="491"/>
                    </a:lnTo>
                    <a:lnTo>
                      <a:pt x="161" y="367"/>
                    </a:lnTo>
                    <a:lnTo>
                      <a:pt x="138" y="244"/>
                    </a:lnTo>
                    <a:lnTo>
                      <a:pt x="114" y="122"/>
                    </a:lnTo>
                    <a:lnTo>
                      <a:pt x="89" y="0"/>
                    </a:lnTo>
                    <a:lnTo>
                      <a:pt x="38" y="18"/>
                    </a:lnTo>
                    <a:lnTo>
                      <a:pt x="0" y="27"/>
                    </a:lnTo>
                    <a:lnTo>
                      <a:pt x="24" y="147"/>
                    </a:lnTo>
                    <a:lnTo>
                      <a:pt x="48" y="268"/>
                    </a:lnTo>
                    <a:lnTo>
                      <a:pt x="70" y="389"/>
                    </a:lnTo>
                    <a:lnTo>
                      <a:pt x="91" y="511"/>
                    </a:lnTo>
                    <a:lnTo>
                      <a:pt x="109" y="634"/>
                    </a:lnTo>
                    <a:lnTo>
                      <a:pt x="127" y="757"/>
                    </a:lnTo>
                    <a:lnTo>
                      <a:pt x="143" y="880"/>
                    </a:lnTo>
                    <a:lnTo>
                      <a:pt x="157" y="1004"/>
                    </a:lnTo>
                    <a:lnTo>
                      <a:pt x="169" y="1128"/>
                    </a:lnTo>
                    <a:lnTo>
                      <a:pt x="180" y="1253"/>
                    </a:lnTo>
                    <a:lnTo>
                      <a:pt x="189" y="1378"/>
                    </a:lnTo>
                    <a:lnTo>
                      <a:pt x="197" y="1504"/>
                    </a:lnTo>
                    <a:lnTo>
                      <a:pt x="203" y="1630"/>
                    </a:lnTo>
                    <a:lnTo>
                      <a:pt x="207" y="1756"/>
                    </a:lnTo>
                    <a:lnTo>
                      <a:pt x="210" y="1883"/>
                    </a:lnTo>
                    <a:lnTo>
                      <a:pt x="211" y="2011"/>
                    </a:lnTo>
                    <a:lnTo>
                      <a:pt x="210" y="2138"/>
                    </a:lnTo>
                    <a:lnTo>
                      <a:pt x="207" y="2264"/>
                    </a:lnTo>
                    <a:lnTo>
                      <a:pt x="203" y="2389"/>
                    </a:lnTo>
                    <a:lnTo>
                      <a:pt x="197" y="2515"/>
                    </a:lnTo>
                    <a:lnTo>
                      <a:pt x="190" y="2639"/>
                    </a:lnTo>
                    <a:lnTo>
                      <a:pt x="181" y="2764"/>
                    </a:lnTo>
                    <a:lnTo>
                      <a:pt x="169" y="2888"/>
                    </a:lnTo>
                    <a:lnTo>
                      <a:pt x="158" y="3012"/>
                    </a:lnTo>
                    <a:lnTo>
                      <a:pt x="144" y="3135"/>
                    </a:lnTo>
                    <a:lnTo>
                      <a:pt x="128" y="3257"/>
                    </a:lnTo>
                    <a:lnTo>
                      <a:pt x="111" y="3379"/>
                    </a:lnTo>
                    <a:lnTo>
                      <a:pt x="92" y="3500"/>
                    </a:lnTo>
                    <a:lnTo>
                      <a:pt x="72" y="3622"/>
                    </a:lnTo>
                    <a:lnTo>
                      <a:pt x="51" y="3743"/>
                    </a:lnTo>
                    <a:lnTo>
                      <a:pt x="27" y="3862"/>
                    </a:lnTo>
                    <a:lnTo>
                      <a:pt x="2" y="3982"/>
                    </a:lnTo>
                    <a:lnTo>
                      <a:pt x="101" y="3963"/>
                    </a:lnTo>
                    <a:lnTo>
                      <a:pt x="126" y="3844"/>
                    </a:lnTo>
                    <a:lnTo>
                      <a:pt x="149" y="3725"/>
                    </a:lnTo>
                    <a:lnTo>
                      <a:pt x="169" y="3607"/>
                    </a:lnTo>
                    <a:lnTo>
                      <a:pt x="189" y="3487"/>
                    </a:lnTo>
                    <a:lnTo>
                      <a:pt x="207" y="3366"/>
                    </a:lnTo>
                    <a:lnTo>
                      <a:pt x="224" y="3245"/>
                    </a:lnTo>
                    <a:lnTo>
                      <a:pt x="239" y="3124"/>
                    </a:lnTo>
                    <a:lnTo>
                      <a:pt x="252" y="3001"/>
                    </a:lnTo>
                    <a:lnTo>
                      <a:pt x="264" y="2879"/>
                    </a:lnTo>
                    <a:lnTo>
                      <a:pt x="275" y="2757"/>
                    </a:lnTo>
                    <a:lnTo>
                      <a:pt x="284" y="2634"/>
                    </a:lnTo>
                    <a:lnTo>
                      <a:pt x="292" y="2509"/>
                    </a:lnTo>
                    <a:lnTo>
                      <a:pt x="296" y="2386"/>
                    </a:lnTo>
                    <a:lnTo>
                      <a:pt x="301" y="2261"/>
                    </a:lnTo>
                    <a:lnTo>
                      <a:pt x="303" y="2136"/>
                    </a:lnTo>
                    <a:lnTo>
                      <a:pt x="304" y="201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52960" y="3745080"/>
                <a:ext cx="81000" cy="1050840"/>
              </a:xfrm>
              <a:custGeom>
                <a:avLst/>
                <a:gdLst/>
                <a:ahLst/>
                <a:rect l="l" t="t" r="r" b="b"/>
                <a:pathLst>
                  <a:path w="305" h="3976">
                    <a:moveTo>
                      <a:pt x="305" y="1995"/>
                    </a:moveTo>
                    <a:lnTo>
                      <a:pt x="305" y="1867"/>
                    </a:lnTo>
                    <a:lnTo>
                      <a:pt x="302" y="1739"/>
                    </a:lnTo>
                    <a:lnTo>
                      <a:pt x="298" y="1611"/>
                    </a:lnTo>
                    <a:lnTo>
                      <a:pt x="291" y="1484"/>
                    </a:lnTo>
                    <a:lnTo>
                      <a:pt x="284" y="1359"/>
                    </a:lnTo>
                    <a:lnTo>
                      <a:pt x="275" y="1232"/>
                    </a:lnTo>
                    <a:lnTo>
                      <a:pt x="263" y="1106"/>
                    </a:lnTo>
                    <a:lnTo>
                      <a:pt x="251" y="982"/>
                    </a:lnTo>
                    <a:lnTo>
                      <a:pt x="237" y="857"/>
                    </a:lnTo>
                    <a:lnTo>
                      <a:pt x="221" y="733"/>
                    </a:lnTo>
                    <a:lnTo>
                      <a:pt x="203" y="610"/>
                    </a:lnTo>
                    <a:lnTo>
                      <a:pt x="185" y="486"/>
                    </a:lnTo>
                    <a:lnTo>
                      <a:pt x="164" y="364"/>
                    </a:lnTo>
                    <a:lnTo>
                      <a:pt x="141" y="242"/>
                    </a:lnTo>
                    <a:lnTo>
                      <a:pt x="118" y="121"/>
                    </a:lnTo>
                    <a:lnTo>
                      <a:pt x="93" y="0"/>
                    </a:lnTo>
                    <a:lnTo>
                      <a:pt x="86" y="2"/>
                    </a:lnTo>
                    <a:lnTo>
                      <a:pt x="2" y="22"/>
                    </a:lnTo>
                    <a:lnTo>
                      <a:pt x="27" y="141"/>
                    </a:lnTo>
                    <a:lnTo>
                      <a:pt x="50" y="261"/>
                    </a:lnTo>
                    <a:lnTo>
                      <a:pt x="72" y="382"/>
                    </a:lnTo>
                    <a:lnTo>
                      <a:pt x="93" y="503"/>
                    </a:lnTo>
                    <a:lnTo>
                      <a:pt x="111" y="626"/>
                    </a:lnTo>
                    <a:lnTo>
                      <a:pt x="129" y="748"/>
                    </a:lnTo>
                    <a:lnTo>
                      <a:pt x="145" y="870"/>
                    </a:lnTo>
                    <a:lnTo>
                      <a:pt x="159" y="993"/>
                    </a:lnTo>
                    <a:lnTo>
                      <a:pt x="171" y="1117"/>
                    </a:lnTo>
                    <a:lnTo>
                      <a:pt x="182" y="1241"/>
                    </a:lnTo>
                    <a:lnTo>
                      <a:pt x="191" y="1366"/>
                    </a:lnTo>
                    <a:lnTo>
                      <a:pt x="199" y="1490"/>
                    </a:lnTo>
                    <a:lnTo>
                      <a:pt x="205" y="1616"/>
                    </a:lnTo>
                    <a:lnTo>
                      <a:pt x="209" y="1742"/>
                    </a:lnTo>
                    <a:lnTo>
                      <a:pt x="212" y="1868"/>
                    </a:lnTo>
                    <a:lnTo>
                      <a:pt x="213" y="1995"/>
                    </a:lnTo>
                    <a:lnTo>
                      <a:pt x="212" y="2122"/>
                    </a:lnTo>
                    <a:lnTo>
                      <a:pt x="209" y="2249"/>
                    </a:lnTo>
                    <a:lnTo>
                      <a:pt x="205" y="2376"/>
                    </a:lnTo>
                    <a:lnTo>
                      <a:pt x="199" y="2501"/>
                    </a:lnTo>
                    <a:lnTo>
                      <a:pt x="191" y="2627"/>
                    </a:lnTo>
                    <a:lnTo>
                      <a:pt x="182" y="2752"/>
                    </a:lnTo>
                    <a:lnTo>
                      <a:pt x="171" y="2877"/>
                    </a:lnTo>
                    <a:lnTo>
                      <a:pt x="159" y="3000"/>
                    </a:lnTo>
                    <a:lnTo>
                      <a:pt x="144" y="3125"/>
                    </a:lnTo>
                    <a:lnTo>
                      <a:pt x="129" y="3248"/>
                    </a:lnTo>
                    <a:lnTo>
                      <a:pt x="111" y="3370"/>
                    </a:lnTo>
                    <a:lnTo>
                      <a:pt x="92" y="3493"/>
                    </a:lnTo>
                    <a:lnTo>
                      <a:pt x="71" y="3614"/>
                    </a:lnTo>
                    <a:lnTo>
                      <a:pt x="49" y="3735"/>
                    </a:lnTo>
                    <a:lnTo>
                      <a:pt x="26" y="3856"/>
                    </a:lnTo>
                    <a:lnTo>
                      <a:pt x="0" y="3976"/>
                    </a:lnTo>
                    <a:lnTo>
                      <a:pt x="100" y="3956"/>
                    </a:lnTo>
                    <a:lnTo>
                      <a:pt x="124" y="3837"/>
                    </a:lnTo>
                    <a:lnTo>
                      <a:pt x="147" y="3718"/>
                    </a:lnTo>
                    <a:lnTo>
                      <a:pt x="169" y="3599"/>
                    </a:lnTo>
                    <a:lnTo>
                      <a:pt x="188" y="3478"/>
                    </a:lnTo>
                    <a:lnTo>
                      <a:pt x="207" y="3357"/>
                    </a:lnTo>
                    <a:lnTo>
                      <a:pt x="224" y="3235"/>
                    </a:lnTo>
                    <a:lnTo>
                      <a:pt x="239" y="3113"/>
                    </a:lnTo>
                    <a:lnTo>
                      <a:pt x="253" y="2991"/>
                    </a:lnTo>
                    <a:lnTo>
                      <a:pt x="265" y="2868"/>
                    </a:lnTo>
                    <a:lnTo>
                      <a:pt x="276" y="2744"/>
                    </a:lnTo>
                    <a:lnTo>
                      <a:pt x="284" y="2621"/>
                    </a:lnTo>
                    <a:lnTo>
                      <a:pt x="292" y="2497"/>
                    </a:lnTo>
                    <a:lnTo>
                      <a:pt x="298" y="2371"/>
                    </a:lnTo>
                    <a:lnTo>
                      <a:pt x="302" y="2246"/>
                    </a:lnTo>
                    <a:lnTo>
                      <a:pt x="305" y="2121"/>
                    </a:lnTo>
                    <a:lnTo>
                      <a:pt x="305" y="199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40360" y="3747960"/>
                <a:ext cx="81000" cy="1051200"/>
              </a:xfrm>
              <a:custGeom>
                <a:avLst/>
                <a:gdLst/>
                <a:ahLst/>
                <a:rect l="l" t="t" r="r" b="b"/>
                <a:pathLst>
                  <a:path w="308" h="3974">
                    <a:moveTo>
                      <a:pt x="308" y="1984"/>
                    </a:moveTo>
                    <a:lnTo>
                      <a:pt x="307" y="1856"/>
                    </a:lnTo>
                    <a:lnTo>
                      <a:pt x="304" y="1729"/>
                    </a:lnTo>
                    <a:lnTo>
                      <a:pt x="300" y="1603"/>
                    </a:lnTo>
                    <a:lnTo>
                      <a:pt x="294" y="1477"/>
                    </a:lnTo>
                    <a:lnTo>
                      <a:pt x="286" y="1351"/>
                    </a:lnTo>
                    <a:lnTo>
                      <a:pt x="277" y="1226"/>
                    </a:lnTo>
                    <a:lnTo>
                      <a:pt x="266" y="1101"/>
                    </a:lnTo>
                    <a:lnTo>
                      <a:pt x="254" y="977"/>
                    </a:lnTo>
                    <a:lnTo>
                      <a:pt x="240" y="853"/>
                    </a:lnTo>
                    <a:lnTo>
                      <a:pt x="224" y="730"/>
                    </a:lnTo>
                    <a:lnTo>
                      <a:pt x="206" y="607"/>
                    </a:lnTo>
                    <a:lnTo>
                      <a:pt x="188" y="484"/>
                    </a:lnTo>
                    <a:lnTo>
                      <a:pt x="167" y="362"/>
                    </a:lnTo>
                    <a:lnTo>
                      <a:pt x="145" y="241"/>
                    </a:lnTo>
                    <a:lnTo>
                      <a:pt x="121" y="120"/>
                    </a:lnTo>
                    <a:lnTo>
                      <a:pt x="97" y="0"/>
                    </a:lnTo>
                    <a:lnTo>
                      <a:pt x="6" y="22"/>
                    </a:lnTo>
                    <a:lnTo>
                      <a:pt x="30" y="141"/>
                    </a:lnTo>
                    <a:lnTo>
                      <a:pt x="54" y="261"/>
                    </a:lnTo>
                    <a:lnTo>
                      <a:pt x="76" y="381"/>
                    </a:lnTo>
                    <a:lnTo>
                      <a:pt x="96" y="501"/>
                    </a:lnTo>
                    <a:lnTo>
                      <a:pt x="114" y="622"/>
                    </a:lnTo>
                    <a:lnTo>
                      <a:pt x="131" y="744"/>
                    </a:lnTo>
                    <a:lnTo>
                      <a:pt x="148" y="865"/>
                    </a:lnTo>
                    <a:lnTo>
                      <a:pt x="161" y="988"/>
                    </a:lnTo>
                    <a:lnTo>
                      <a:pt x="174" y="1110"/>
                    </a:lnTo>
                    <a:lnTo>
                      <a:pt x="184" y="1234"/>
                    </a:lnTo>
                    <a:lnTo>
                      <a:pt x="194" y="1358"/>
                    </a:lnTo>
                    <a:lnTo>
                      <a:pt x="201" y="1483"/>
                    </a:lnTo>
                    <a:lnTo>
                      <a:pt x="208" y="1607"/>
                    </a:lnTo>
                    <a:lnTo>
                      <a:pt x="211" y="1732"/>
                    </a:lnTo>
                    <a:lnTo>
                      <a:pt x="213" y="1857"/>
                    </a:lnTo>
                    <a:lnTo>
                      <a:pt x="214" y="1984"/>
                    </a:lnTo>
                    <a:lnTo>
                      <a:pt x="213" y="2112"/>
                    </a:lnTo>
                    <a:lnTo>
                      <a:pt x="211" y="2239"/>
                    </a:lnTo>
                    <a:lnTo>
                      <a:pt x="206" y="2366"/>
                    </a:lnTo>
                    <a:lnTo>
                      <a:pt x="201" y="2492"/>
                    </a:lnTo>
                    <a:lnTo>
                      <a:pt x="193" y="2619"/>
                    </a:lnTo>
                    <a:lnTo>
                      <a:pt x="183" y="2745"/>
                    </a:lnTo>
                    <a:lnTo>
                      <a:pt x="173" y="2869"/>
                    </a:lnTo>
                    <a:lnTo>
                      <a:pt x="160" y="2994"/>
                    </a:lnTo>
                    <a:lnTo>
                      <a:pt x="145" y="3118"/>
                    </a:lnTo>
                    <a:lnTo>
                      <a:pt x="129" y="3243"/>
                    </a:lnTo>
                    <a:lnTo>
                      <a:pt x="112" y="3365"/>
                    </a:lnTo>
                    <a:lnTo>
                      <a:pt x="92" y="3488"/>
                    </a:lnTo>
                    <a:lnTo>
                      <a:pt x="71" y="3611"/>
                    </a:lnTo>
                    <a:lnTo>
                      <a:pt x="49" y="3732"/>
                    </a:lnTo>
                    <a:lnTo>
                      <a:pt x="25" y="3853"/>
                    </a:lnTo>
                    <a:lnTo>
                      <a:pt x="0" y="3974"/>
                    </a:lnTo>
                    <a:lnTo>
                      <a:pt x="21" y="3970"/>
                    </a:lnTo>
                    <a:lnTo>
                      <a:pt x="99" y="3955"/>
                    </a:lnTo>
                    <a:lnTo>
                      <a:pt x="124" y="3835"/>
                    </a:lnTo>
                    <a:lnTo>
                      <a:pt x="148" y="3716"/>
                    </a:lnTo>
                    <a:lnTo>
                      <a:pt x="169" y="3595"/>
                    </a:lnTo>
                    <a:lnTo>
                      <a:pt x="189" y="3473"/>
                    </a:lnTo>
                    <a:lnTo>
                      <a:pt x="208" y="3352"/>
                    </a:lnTo>
                    <a:lnTo>
                      <a:pt x="225" y="3230"/>
                    </a:lnTo>
                    <a:lnTo>
                      <a:pt x="241" y="3108"/>
                    </a:lnTo>
                    <a:lnTo>
                      <a:pt x="255" y="2985"/>
                    </a:lnTo>
                    <a:lnTo>
                      <a:pt x="266" y="2861"/>
                    </a:lnTo>
                    <a:lnTo>
                      <a:pt x="278" y="2737"/>
                    </a:lnTo>
                    <a:lnTo>
                      <a:pt x="287" y="2612"/>
                    </a:lnTo>
                    <a:lnTo>
                      <a:pt x="294" y="2488"/>
                    </a:lnTo>
                    <a:lnTo>
                      <a:pt x="300" y="2362"/>
                    </a:lnTo>
                    <a:lnTo>
                      <a:pt x="304" y="2237"/>
                    </a:lnTo>
                    <a:lnTo>
                      <a:pt x="307" y="2111"/>
                    </a:lnTo>
                    <a:lnTo>
                      <a:pt x="308" y="198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7760" y="3749760"/>
                <a:ext cx="82440" cy="1050840"/>
              </a:xfrm>
              <a:custGeom>
                <a:avLst/>
                <a:gdLst/>
                <a:ahLst/>
                <a:rect l="l" t="t" r="r" b="b"/>
                <a:pathLst>
                  <a:path w="312" h="3970">
                    <a:moveTo>
                      <a:pt x="312" y="1973"/>
                    </a:moveTo>
                    <a:lnTo>
                      <a:pt x="311" y="1846"/>
                    </a:lnTo>
                    <a:lnTo>
                      <a:pt x="308" y="1720"/>
                    </a:lnTo>
                    <a:lnTo>
                      <a:pt x="304" y="1594"/>
                    </a:lnTo>
                    <a:lnTo>
                      <a:pt x="298" y="1468"/>
                    </a:lnTo>
                    <a:lnTo>
                      <a:pt x="290" y="1344"/>
                    </a:lnTo>
                    <a:lnTo>
                      <a:pt x="281" y="1219"/>
                    </a:lnTo>
                    <a:lnTo>
                      <a:pt x="270" y="1095"/>
                    </a:lnTo>
                    <a:lnTo>
                      <a:pt x="258" y="971"/>
                    </a:lnTo>
                    <a:lnTo>
                      <a:pt x="244" y="848"/>
                    </a:lnTo>
                    <a:lnTo>
                      <a:pt x="228" y="726"/>
                    </a:lnTo>
                    <a:lnTo>
                      <a:pt x="210" y="604"/>
                    </a:lnTo>
                    <a:lnTo>
                      <a:pt x="192" y="481"/>
                    </a:lnTo>
                    <a:lnTo>
                      <a:pt x="171" y="360"/>
                    </a:lnTo>
                    <a:lnTo>
                      <a:pt x="149" y="239"/>
                    </a:lnTo>
                    <a:lnTo>
                      <a:pt x="126" y="119"/>
                    </a:lnTo>
                    <a:lnTo>
                      <a:pt x="101" y="0"/>
                    </a:lnTo>
                    <a:lnTo>
                      <a:pt x="30" y="17"/>
                    </a:lnTo>
                    <a:lnTo>
                      <a:pt x="12" y="26"/>
                    </a:lnTo>
                    <a:lnTo>
                      <a:pt x="36" y="145"/>
                    </a:lnTo>
                    <a:lnTo>
                      <a:pt x="59" y="264"/>
                    </a:lnTo>
                    <a:lnTo>
                      <a:pt x="81" y="382"/>
                    </a:lnTo>
                    <a:lnTo>
                      <a:pt x="101" y="501"/>
                    </a:lnTo>
                    <a:lnTo>
                      <a:pt x="119" y="622"/>
                    </a:lnTo>
                    <a:lnTo>
                      <a:pt x="136" y="742"/>
                    </a:lnTo>
                    <a:lnTo>
                      <a:pt x="151" y="863"/>
                    </a:lnTo>
                    <a:lnTo>
                      <a:pt x="165" y="984"/>
                    </a:lnTo>
                    <a:lnTo>
                      <a:pt x="178" y="1106"/>
                    </a:lnTo>
                    <a:lnTo>
                      <a:pt x="188" y="1230"/>
                    </a:lnTo>
                    <a:lnTo>
                      <a:pt x="198" y="1352"/>
                    </a:lnTo>
                    <a:lnTo>
                      <a:pt x="204" y="1475"/>
                    </a:lnTo>
                    <a:lnTo>
                      <a:pt x="210" y="1600"/>
                    </a:lnTo>
                    <a:lnTo>
                      <a:pt x="215" y="1723"/>
                    </a:lnTo>
                    <a:lnTo>
                      <a:pt x="217" y="1847"/>
                    </a:lnTo>
                    <a:lnTo>
                      <a:pt x="218" y="1973"/>
                    </a:lnTo>
                    <a:lnTo>
                      <a:pt x="217" y="2101"/>
                    </a:lnTo>
                    <a:lnTo>
                      <a:pt x="215" y="2229"/>
                    </a:lnTo>
                    <a:lnTo>
                      <a:pt x="210" y="2357"/>
                    </a:lnTo>
                    <a:lnTo>
                      <a:pt x="204" y="2484"/>
                    </a:lnTo>
                    <a:lnTo>
                      <a:pt x="196" y="2611"/>
                    </a:lnTo>
                    <a:lnTo>
                      <a:pt x="186" y="2736"/>
                    </a:lnTo>
                    <a:lnTo>
                      <a:pt x="176" y="2862"/>
                    </a:lnTo>
                    <a:lnTo>
                      <a:pt x="163" y="2988"/>
                    </a:lnTo>
                    <a:lnTo>
                      <a:pt x="148" y="3112"/>
                    </a:lnTo>
                    <a:lnTo>
                      <a:pt x="132" y="3237"/>
                    </a:lnTo>
                    <a:lnTo>
                      <a:pt x="113" y="3360"/>
                    </a:lnTo>
                    <a:lnTo>
                      <a:pt x="94" y="3483"/>
                    </a:lnTo>
                    <a:lnTo>
                      <a:pt x="73" y="3605"/>
                    </a:lnTo>
                    <a:lnTo>
                      <a:pt x="50" y="3728"/>
                    </a:lnTo>
                    <a:lnTo>
                      <a:pt x="26" y="3850"/>
                    </a:lnTo>
                    <a:lnTo>
                      <a:pt x="0" y="3970"/>
                    </a:lnTo>
                    <a:lnTo>
                      <a:pt x="71" y="3959"/>
                    </a:lnTo>
                    <a:lnTo>
                      <a:pt x="99" y="3954"/>
                    </a:lnTo>
                    <a:lnTo>
                      <a:pt x="125" y="3834"/>
                    </a:lnTo>
                    <a:lnTo>
                      <a:pt x="148" y="3713"/>
                    </a:lnTo>
                    <a:lnTo>
                      <a:pt x="170" y="3592"/>
                    </a:lnTo>
                    <a:lnTo>
                      <a:pt x="191" y="3471"/>
                    </a:lnTo>
                    <a:lnTo>
                      <a:pt x="210" y="3348"/>
                    </a:lnTo>
                    <a:lnTo>
                      <a:pt x="228" y="3226"/>
                    </a:lnTo>
                    <a:lnTo>
                      <a:pt x="243" y="3103"/>
                    </a:lnTo>
                    <a:lnTo>
                      <a:pt x="258" y="2978"/>
                    </a:lnTo>
                    <a:lnTo>
                      <a:pt x="270" y="2855"/>
                    </a:lnTo>
                    <a:lnTo>
                      <a:pt x="281" y="2730"/>
                    </a:lnTo>
                    <a:lnTo>
                      <a:pt x="290" y="2605"/>
                    </a:lnTo>
                    <a:lnTo>
                      <a:pt x="298" y="2479"/>
                    </a:lnTo>
                    <a:lnTo>
                      <a:pt x="304" y="2354"/>
                    </a:lnTo>
                    <a:lnTo>
                      <a:pt x="308" y="2227"/>
                    </a:lnTo>
                    <a:lnTo>
                      <a:pt x="311" y="2100"/>
                    </a:lnTo>
                    <a:lnTo>
                      <a:pt x="312" y="197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3360" y="3753000"/>
                <a:ext cx="84240" cy="1049040"/>
              </a:xfrm>
              <a:custGeom>
                <a:avLst/>
                <a:gdLst/>
                <a:ahLst/>
                <a:rect l="l" t="t" r="r" b="b"/>
                <a:pathLst>
                  <a:path w="313" h="3967">
                    <a:moveTo>
                      <a:pt x="313" y="1962"/>
                    </a:moveTo>
                    <a:lnTo>
                      <a:pt x="312" y="1835"/>
                    </a:lnTo>
                    <a:lnTo>
                      <a:pt x="310" y="1710"/>
                    </a:lnTo>
                    <a:lnTo>
                      <a:pt x="307" y="1585"/>
                    </a:lnTo>
                    <a:lnTo>
                      <a:pt x="300" y="1461"/>
                    </a:lnTo>
                    <a:lnTo>
                      <a:pt x="293" y="1336"/>
                    </a:lnTo>
                    <a:lnTo>
                      <a:pt x="283" y="1212"/>
                    </a:lnTo>
                    <a:lnTo>
                      <a:pt x="273" y="1088"/>
                    </a:lnTo>
                    <a:lnTo>
                      <a:pt x="260" y="966"/>
                    </a:lnTo>
                    <a:lnTo>
                      <a:pt x="247" y="843"/>
                    </a:lnTo>
                    <a:lnTo>
                      <a:pt x="230" y="722"/>
                    </a:lnTo>
                    <a:lnTo>
                      <a:pt x="213" y="600"/>
                    </a:lnTo>
                    <a:lnTo>
                      <a:pt x="195" y="479"/>
                    </a:lnTo>
                    <a:lnTo>
                      <a:pt x="175" y="359"/>
                    </a:lnTo>
                    <a:lnTo>
                      <a:pt x="153" y="239"/>
                    </a:lnTo>
                    <a:lnTo>
                      <a:pt x="129" y="119"/>
                    </a:lnTo>
                    <a:lnTo>
                      <a:pt x="105" y="0"/>
                    </a:lnTo>
                    <a:lnTo>
                      <a:pt x="79" y="6"/>
                    </a:lnTo>
                    <a:lnTo>
                      <a:pt x="17" y="37"/>
                    </a:lnTo>
                    <a:lnTo>
                      <a:pt x="41" y="153"/>
                    </a:lnTo>
                    <a:lnTo>
                      <a:pt x="64" y="271"/>
                    </a:lnTo>
                    <a:lnTo>
                      <a:pt x="85" y="389"/>
                    </a:lnTo>
                    <a:lnTo>
                      <a:pt x="105" y="507"/>
                    </a:lnTo>
                    <a:lnTo>
                      <a:pt x="123" y="626"/>
                    </a:lnTo>
                    <a:lnTo>
                      <a:pt x="139" y="745"/>
                    </a:lnTo>
                    <a:lnTo>
                      <a:pt x="155" y="865"/>
                    </a:lnTo>
                    <a:lnTo>
                      <a:pt x="168" y="985"/>
                    </a:lnTo>
                    <a:lnTo>
                      <a:pt x="181" y="1106"/>
                    </a:lnTo>
                    <a:lnTo>
                      <a:pt x="191" y="1227"/>
                    </a:lnTo>
                    <a:lnTo>
                      <a:pt x="199" y="1348"/>
                    </a:lnTo>
                    <a:lnTo>
                      <a:pt x="207" y="1470"/>
                    </a:lnTo>
                    <a:lnTo>
                      <a:pt x="213" y="1592"/>
                    </a:lnTo>
                    <a:lnTo>
                      <a:pt x="217" y="1715"/>
                    </a:lnTo>
                    <a:lnTo>
                      <a:pt x="220" y="1839"/>
                    </a:lnTo>
                    <a:lnTo>
                      <a:pt x="220" y="1962"/>
                    </a:lnTo>
                    <a:lnTo>
                      <a:pt x="219" y="2091"/>
                    </a:lnTo>
                    <a:lnTo>
                      <a:pt x="217" y="2219"/>
                    </a:lnTo>
                    <a:lnTo>
                      <a:pt x="212" y="2347"/>
                    </a:lnTo>
                    <a:lnTo>
                      <a:pt x="206" y="2475"/>
                    </a:lnTo>
                    <a:lnTo>
                      <a:pt x="198" y="2602"/>
                    </a:lnTo>
                    <a:lnTo>
                      <a:pt x="189" y="2729"/>
                    </a:lnTo>
                    <a:lnTo>
                      <a:pt x="177" y="2855"/>
                    </a:lnTo>
                    <a:lnTo>
                      <a:pt x="165" y="2981"/>
                    </a:lnTo>
                    <a:lnTo>
                      <a:pt x="150" y="3106"/>
                    </a:lnTo>
                    <a:lnTo>
                      <a:pt x="132" y="3230"/>
                    </a:lnTo>
                    <a:lnTo>
                      <a:pt x="115" y="3355"/>
                    </a:lnTo>
                    <a:lnTo>
                      <a:pt x="95" y="3478"/>
                    </a:lnTo>
                    <a:lnTo>
                      <a:pt x="74" y="3601"/>
                    </a:lnTo>
                    <a:lnTo>
                      <a:pt x="50" y="3724"/>
                    </a:lnTo>
                    <a:lnTo>
                      <a:pt x="26" y="3846"/>
                    </a:lnTo>
                    <a:lnTo>
                      <a:pt x="0" y="3967"/>
                    </a:lnTo>
                    <a:lnTo>
                      <a:pt x="99" y="3952"/>
                    </a:lnTo>
                    <a:lnTo>
                      <a:pt x="124" y="3831"/>
                    </a:lnTo>
                    <a:lnTo>
                      <a:pt x="148" y="3710"/>
                    </a:lnTo>
                    <a:lnTo>
                      <a:pt x="170" y="3589"/>
                    </a:lnTo>
                    <a:lnTo>
                      <a:pt x="191" y="3466"/>
                    </a:lnTo>
                    <a:lnTo>
                      <a:pt x="211" y="3343"/>
                    </a:lnTo>
                    <a:lnTo>
                      <a:pt x="228" y="3221"/>
                    </a:lnTo>
                    <a:lnTo>
                      <a:pt x="244" y="3096"/>
                    </a:lnTo>
                    <a:lnTo>
                      <a:pt x="259" y="2972"/>
                    </a:lnTo>
                    <a:lnTo>
                      <a:pt x="272" y="2847"/>
                    </a:lnTo>
                    <a:lnTo>
                      <a:pt x="282" y="2723"/>
                    </a:lnTo>
                    <a:lnTo>
                      <a:pt x="292" y="2597"/>
                    </a:lnTo>
                    <a:lnTo>
                      <a:pt x="300" y="2470"/>
                    </a:lnTo>
                    <a:lnTo>
                      <a:pt x="305" y="2344"/>
                    </a:lnTo>
                    <a:lnTo>
                      <a:pt x="310" y="2217"/>
                    </a:lnTo>
                    <a:lnTo>
                      <a:pt x="312" y="2090"/>
                    </a:lnTo>
                    <a:lnTo>
                      <a:pt x="313" y="1962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00760" y="3757680"/>
                <a:ext cx="84240" cy="1047600"/>
              </a:xfrm>
              <a:custGeom>
                <a:avLst/>
                <a:gdLst/>
                <a:ahLst/>
                <a:rect l="l" t="t" r="r" b="b"/>
                <a:pathLst>
                  <a:path w="317" h="3960">
                    <a:moveTo>
                      <a:pt x="317" y="1947"/>
                    </a:moveTo>
                    <a:lnTo>
                      <a:pt x="316" y="1821"/>
                    </a:lnTo>
                    <a:lnTo>
                      <a:pt x="314" y="1697"/>
                    </a:lnTo>
                    <a:lnTo>
                      <a:pt x="309" y="1574"/>
                    </a:lnTo>
                    <a:lnTo>
                      <a:pt x="303" y="1449"/>
                    </a:lnTo>
                    <a:lnTo>
                      <a:pt x="297" y="1326"/>
                    </a:lnTo>
                    <a:lnTo>
                      <a:pt x="287" y="1204"/>
                    </a:lnTo>
                    <a:lnTo>
                      <a:pt x="277" y="1080"/>
                    </a:lnTo>
                    <a:lnTo>
                      <a:pt x="264" y="958"/>
                    </a:lnTo>
                    <a:lnTo>
                      <a:pt x="250" y="837"/>
                    </a:lnTo>
                    <a:lnTo>
                      <a:pt x="235" y="716"/>
                    </a:lnTo>
                    <a:lnTo>
                      <a:pt x="218" y="596"/>
                    </a:lnTo>
                    <a:lnTo>
                      <a:pt x="200" y="475"/>
                    </a:lnTo>
                    <a:lnTo>
                      <a:pt x="180" y="356"/>
                    </a:lnTo>
                    <a:lnTo>
                      <a:pt x="158" y="238"/>
                    </a:lnTo>
                    <a:lnTo>
                      <a:pt x="135" y="119"/>
                    </a:lnTo>
                    <a:lnTo>
                      <a:pt x="111" y="0"/>
                    </a:lnTo>
                    <a:lnTo>
                      <a:pt x="55" y="28"/>
                    </a:lnTo>
                    <a:lnTo>
                      <a:pt x="23" y="39"/>
                    </a:lnTo>
                    <a:lnTo>
                      <a:pt x="47" y="155"/>
                    </a:lnTo>
                    <a:lnTo>
                      <a:pt x="69" y="271"/>
                    </a:lnTo>
                    <a:lnTo>
                      <a:pt x="90" y="387"/>
                    </a:lnTo>
                    <a:lnTo>
                      <a:pt x="110" y="505"/>
                    </a:lnTo>
                    <a:lnTo>
                      <a:pt x="128" y="623"/>
                    </a:lnTo>
                    <a:lnTo>
                      <a:pt x="144" y="740"/>
                    </a:lnTo>
                    <a:lnTo>
                      <a:pt x="159" y="859"/>
                    </a:lnTo>
                    <a:lnTo>
                      <a:pt x="173" y="979"/>
                    </a:lnTo>
                    <a:lnTo>
                      <a:pt x="185" y="1098"/>
                    </a:lnTo>
                    <a:lnTo>
                      <a:pt x="195" y="1217"/>
                    </a:lnTo>
                    <a:lnTo>
                      <a:pt x="203" y="1338"/>
                    </a:lnTo>
                    <a:lnTo>
                      <a:pt x="211" y="1460"/>
                    </a:lnTo>
                    <a:lnTo>
                      <a:pt x="216" y="1581"/>
                    </a:lnTo>
                    <a:lnTo>
                      <a:pt x="220" y="1703"/>
                    </a:lnTo>
                    <a:lnTo>
                      <a:pt x="223" y="1825"/>
                    </a:lnTo>
                    <a:lnTo>
                      <a:pt x="224" y="1947"/>
                    </a:lnTo>
                    <a:lnTo>
                      <a:pt x="223" y="2076"/>
                    </a:lnTo>
                    <a:lnTo>
                      <a:pt x="220" y="2205"/>
                    </a:lnTo>
                    <a:lnTo>
                      <a:pt x="216" y="2334"/>
                    </a:lnTo>
                    <a:lnTo>
                      <a:pt x="209" y="2462"/>
                    </a:lnTo>
                    <a:lnTo>
                      <a:pt x="201" y="2590"/>
                    </a:lnTo>
                    <a:lnTo>
                      <a:pt x="192" y="2717"/>
                    </a:lnTo>
                    <a:lnTo>
                      <a:pt x="180" y="2844"/>
                    </a:lnTo>
                    <a:lnTo>
                      <a:pt x="167" y="2970"/>
                    </a:lnTo>
                    <a:lnTo>
                      <a:pt x="151" y="3095"/>
                    </a:lnTo>
                    <a:lnTo>
                      <a:pt x="135" y="3221"/>
                    </a:lnTo>
                    <a:lnTo>
                      <a:pt x="117" y="3345"/>
                    </a:lnTo>
                    <a:lnTo>
                      <a:pt x="97" y="3470"/>
                    </a:lnTo>
                    <a:lnTo>
                      <a:pt x="75" y="3593"/>
                    </a:lnTo>
                    <a:lnTo>
                      <a:pt x="52" y="3715"/>
                    </a:lnTo>
                    <a:lnTo>
                      <a:pt x="27" y="3838"/>
                    </a:lnTo>
                    <a:lnTo>
                      <a:pt x="0" y="3960"/>
                    </a:lnTo>
                    <a:lnTo>
                      <a:pt x="99" y="3944"/>
                    </a:lnTo>
                    <a:lnTo>
                      <a:pt x="125" y="3824"/>
                    </a:lnTo>
                    <a:lnTo>
                      <a:pt x="149" y="3702"/>
                    </a:lnTo>
                    <a:lnTo>
                      <a:pt x="172" y="3579"/>
                    </a:lnTo>
                    <a:lnTo>
                      <a:pt x="193" y="3457"/>
                    </a:lnTo>
                    <a:lnTo>
                      <a:pt x="212" y="3334"/>
                    </a:lnTo>
                    <a:lnTo>
                      <a:pt x="231" y="3211"/>
                    </a:lnTo>
                    <a:lnTo>
                      <a:pt x="247" y="3086"/>
                    </a:lnTo>
                    <a:lnTo>
                      <a:pt x="262" y="2962"/>
                    </a:lnTo>
                    <a:lnTo>
                      <a:pt x="275" y="2836"/>
                    </a:lnTo>
                    <a:lnTo>
                      <a:pt x="285" y="2710"/>
                    </a:lnTo>
                    <a:lnTo>
                      <a:pt x="295" y="2585"/>
                    </a:lnTo>
                    <a:lnTo>
                      <a:pt x="303" y="2458"/>
                    </a:lnTo>
                    <a:lnTo>
                      <a:pt x="309" y="2331"/>
                    </a:lnTo>
                    <a:lnTo>
                      <a:pt x="314" y="2203"/>
                    </a:lnTo>
                    <a:lnTo>
                      <a:pt x="316" y="2075"/>
                    </a:lnTo>
                    <a:lnTo>
                      <a:pt x="317" y="194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88160" y="3762360"/>
                <a:ext cx="83880" cy="1044720"/>
              </a:xfrm>
              <a:custGeom>
                <a:avLst/>
                <a:gdLst/>
                <a:ahLst/>
                <a:rect l="l" t="t" r="r" b="b"/>
                <a:pathLst>
                  <a:path w="318" h="3946">
                    <a:moveTo>
                      <a:pt x="318" y="1925"/>
                    </a:moveTo>
                    <a:lnTo>
                      <a:pt x="318" y="1802"/>
                    </a:lnTo>
                    <a:lnTo>
                      <a:pt x="315" y="1678"/>
                    </a:lnTo>
                    <a:lnTo>
                      <a:pt x="311" y="1555"/>
                    </a:lnTo>
                    <a:lnTo>
                      <a:pt x="305" y="1433"/>
                    </a:lnTo>
                    <a:lnTo>
                      <a:pt x="297" y="1311"/>
                    </a:lnTo>
                    <a:lnTo>
                      <a:pt x="289" y="1190"/>
                    </a:lnTo>
                    <a:lnTo>
                      <a:pt x="279" y="1069"/>
                    </a:lnTo>
                    <a:lnTo>
                      <a:pt x="266" y="948"/>
                    </a:lnTo>
                    <a:lnTo>
                      <a:pt x="253" y="828"/>
                    </a:lnTo>
                    <a:lnTo>
                      <a:pt x="237" y="708"/>
                    </a:lnTo>
                    <a:lnTo>
                      <a:pt x="221" y="589"/>
                    </a:lnTo>
                    <a:lnTo>
                      <a:pt x="203" y="470"/>
                    </a:lnTo>
                    <a:lnTo>
                      <a:pt x="183" y="352"/>
                    </a:lnTo>
                    <a:lnTo>
                      <a:pt x="162" y="234"/>
                    </a:lnTo>
                    <a:lnTo>
                      <a:pt x="139" y="116"/>
                    </a:lnTo>
                    <a:lnTo>
                      <a:pt x="115" y="0"/>
                    </a:lnTo>
                    <a:lnTo>
                      <a:pt x="103" y="6"/>
                    </a:lnTo>
                    <a:lnTo>
                      <a:pt x="27" y="32"/>
                    </a:lnTo>
                    <a:lnTo>
                      <a:pt x="50" y="148"/>
                    </a:lnTo>
                    <a:lnTo>
                      <a:pt x="72" y="262"/>
                    </a:lnTo>
                    <a:lnTo>
                      <a:pt x="93" y="378"/>
                    </a:lnTo>
                    <a:lnTo>
                      <a:pt x="113" y="495"/>
                    </a:lnTo>
                    <a:lnTo>
                      <a:pt x="130" y="611"/>
                    </a:lnTo>
                    <a:lnTo>
                      <a:pt x="146" y="729"/>
                    </a:lnTo>
                    <a:lnTo>
                      <a:pt x="161" y="846"/>
                    </a:lnTo>
                    <a:lnTo>
                      <a:pt x="175" y="964"/>
                    </a:lnTo>
                    <a:lnTo>
                      <a:pt x="187" y="1082"/>
                    </a:lnTo>
                    <a:lnTo>
                      <a:pt x="197" y="1202"/>
                    </a:lnTo>
                    <a:lnTo>
                      <a:pt x="205" y="1321"/>
                    </a:lnTo>
                    <a:lnTo>
                      <a:pt x="212" y="1441"/>
                    </a:lnTo>
                    <a:lnTo>
                      <a:pt x="218" y="1562"/>
                    </a:lnTo>
                    <a:lnTo>
                      <a:pt x="222" y="1682"/>
                    </a:lnTo>
                    <a:lnTo>
                      <a:pt x="225" y="1803"/>
                    </a:lnTo>
                    <a:lnTo>
                      <a:pt x="226" y="1925"/>
                    </a:lnTo>
                    <a:lnTo>
                      <a:pt x="225" y="2055"/>
                    </a:lnTo>
                    <a:lnTo>
                      <a:pt x="221" y="2184"/>
                    </a:lnTo>
                    <a:lnTo>
                      <a:pt x="217" y="2314"/>
                    </a:lnTo>
                    <a:lnTo>
                      <a:pt x="211" y="2443"/>
                    </a:lnTo>
                    <a:lnTo>
                      <a:pt x="203" y="2571"/>
                    </a:lnTo>
                    <a:lnTo>
                      <a:pt x="192" y="2699"/>
                    </a:lnTo>
                    <a:lnTo>
                      <a:pt x="181" y="2825"/>
                    </a:lnTo>
                    <a:lnTo>
                      <a:pt x="168" y="2952"/>
                    </a:lnTo>
                    <a:lnTo>
                      <a:pt x="152" y="3078"/>
                    </a:lnTo>
                    <a:lnTo>
                      <a:pt x="136" y="3204"/>
                    </a:lnTo>
                    <a:lnTo>
                      <a:pt x="117" y="3329"/>
                    </a:lnTo>
                    <a:lnTo>
                      <a:pt x="97" y="3454"/>
                    </a:lnTo>
                    <a:lnTo>
                      <a:pt x="75" y="3577"/>
                    </a:lnTo>
                    <a:lnTo>
                      <a:pt x="52" y="3700"/>
                    </a:lnTo>
                    <a:lnTo>
                      <a:pt x="26" y="3824"/>
                    </a:lnTo>
                    <a:lnTo>
                      <a:pt x="0" y="3946"/>
                    </a:lnTo>
                    <a:lnTo>
                      <a:pt x="98" y="3930"/>
                    </a:lnTo>
                    <a:lnTo>
                      <a:pt x="124" y="3809"/>
                    </a:lnTo>
                    <a:lnTo>
                      <a:pt x="148" y="3687"/>
                    </a:lnTo>
                    <a:lnTo>
                      <a:pt x="172" y="3564"/>
                    </a:lnTo>
                    <a:lnTo>
                      <a:pt x="193" y="3441"/>
                    </a:lnTo>
                    <a:lnTo>
                      <a:pt x="213" y="3318"/>
                    </a:lnTo>
                    <a:lnTo>
                      <a:pt x="230" y="3193"/>
                    </a:lnTo>
                    <a:lnTo>
                      <a:pt x="248" y="3069"/>
                    </a:lnTo>
                    <a:lnTo>
                      <a:pt x="263" y="2944"/>
                    </a:lnTo>
                    <a:lnTo>
                      <a:pt x="275" y="2818"/>
                    </a:lnTo>
                    <a:lnTo>
                      <a:pt x="287" y="2692"/>
                    </a:lnTo>
                    <a:lnTo>
                      <a:pt x="296" y="2565"/>
                    </a:lnTo>
                    <a:lnTo>
                      <a:pt x="304" y="2438"/>
                    </a:lnTo>
                    <a:lnTo>
                      <a:pt x="310" y="2310"/>
                    </a:lnTo>
                    <a:lnTo>
                      <a:pt x="315" y="2182"/>
                    </a:lnTo>
                    <a:lnTo>
                      <a:pt x="317" y="2054"/>
                    </a:lnTo>
                    <a:lnTo>
                      <a:pt x="318" y="192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0" y="3767040"/>
                <a:ext cx="84240" cy="1040040"/>
              </a:xfrm>
              <a:custGeom>
                <a:avLst/>
                <a:gdLst/>
                <a:ahLst/>
                <a:rect l="l" t="t" r="r" b="b"/>
                <a:pathLst>
                  <a:path w="321" h="3931">
                    <a:moveTo>
                      <a:pt x="321" y="1908"/>
                    </a:moveTo>
                    <a:lnTo>
                      <a:pt x="320" y="1786"/>
                    </a:lnTo>
                    <a:lnTo>
                      <a:pt x="317" y="1664"/>
                    </a:lnTo>
                    <a:lnTo>
                      <a:pt x="313" y="1542"/>
                    </a:lnTo>
                    <a:lnTo>
                      <a:pt x="308" y="1421"/>
                    </a:lnTo>
                    <a:lnTo>
                      <a:pt x="300" y="1299"/>
                    </a:lnTo>
                    <a:lnTo>
                      <a:pt x="292" y="1178"/>
                    </a:lnTo>
                    <a:lnTo>
                      <a:pt x="282" y="1059"/>
                    </a:lnTo>
                    <a:lnTo>
                      <a:pt x="270" y="940"/>
                    </a:lnTo>
                    <a:lnTo>
                      <a:pt x="256" y="820"/>
                    </a:lnTo>
                    <a:lnTo>
                      <a:pt x="241" y="701"/>
                    </a:lnTo>
                    <a:lnTo>
                      <a:pt x="225" y="584"/>
                    </a:lnTo>
                    <a:lnTo>
                      <a:pt x="207" y="466"/>
                    </a:lnTo>
                    <a:lnTo>
                      <a:pt x="187" y="348"/>
                    </a:lnTo>
                    <a:lnTo>
                      <a:pt x="166" y="232"/>
                    </a:lnTo>
                    <a:lnTo>
                      <a:pt x="144" y="116"/>
                    </a:lnTo>
                    <a:lnTo>
                      <a:pt x="120" y="0"/>
                    </a:lnTo>
                    <a:lnTo>
                      <a:pt x="35" y="29"/>
                    </a:lnTo>
                    <a:lnTo>
                      <a:pt x="31" y="29"/>
                    </a:lnTo>
                    <a:lnTo>
                      <a:pt x="54" y="143"/>
                    </a:lnTo>
                    <a:lnTo>
                      <a:pt x="76" y="257"/>
                    </a:lnTo>
                    <a:lnTo>
                      <a:pt x="97" y="373"/>
                    </a:lnTo>
                    <a:lnTo>
                      <a:pt x="116" y="488"/>
                    </a:lnTo>
                    <a:lnTo>
                      <a:pt x="134" y="604"/>
                    </a:lnTo>
                    <a:lnTo>
                      <a:pt x="150" y="721"/>
                    </a:lnTo>
                    <a:lnTo>
                      <a:pt x="164" y="837"/>
                    </a:lnTo>
                    <a:lnTo>
                      <a:pt x="178" y="955"/>
                    </a:lnTo>
                    <a:lnTo>
                      <a:pt x="189" y="1072"/>
                    </a:lnTo>
                    <a:lnTo>
                      <a:pt x="199" y="1190"/>
                    </a:lnTo>
                    <a:lnTo>
                      <a:pt x="208" y="1309"/>
                    </a:lnTo>
                    <a:lnTo>
                      <a:pt x="215" y="1427"/>
                    </a:lnTo>
                    <a:lnTo>
                      <a:pt x="221" y="1547"/>
                    </a:lnTo>
                    <a:lnTo>
                      <a:pt x="224" y="1667"/>
                    </a:lnTo>
                    <a:lnTo>
                      <a:pt x="226" y="1787"/>
                    </a:lnTo>
                    <a:lnTo>
                      <a:pt x="227" y="1908"/>
                    </a:lnTo>
                    <a:lnTo>
                      <a:pt x="226" y="2038"/>
                    </a:lnTo>
                    <a:lnTo>
                      <a:pt x="224" y="2167"/>
                    </a:lnTo>
                    <a:lnTo>
                      <a:pt x="219" y="2297"/>
                    </a:lnTo>
                    <a:lnTo>
                      <a:pt x="212" y="2426"/>
                    </a:lnTo>
                    <a:lnTo>
                      <a:pt x="204" y="2554"/>
                    </a:lnTo>
                    <a:lnTo>
                      <a:pt x="195" y="2682"/>
                    </a:lnTo>
                    <a:lnTo>
                      <a:pt x="182" y="2810"/>
                    </a:lnTo>
                    <a:lnTo>
                      <a:pt x="170" y="2936"/>
                    </a:lnTo>
                    <a:lnTo>
                      <a:pt x="155" y="3063"/>
                    </a:lnTo>
                    <a:lnTo>
                      <a:pt x="137" y="3189"/>
                    </a:lnTo>
                    <a:lnTo>
                      <a:pt x="119" y="3313"/>
                    </a:lnTo>
                    <a:lnTo>
                      <a:pt x="98" y="3438"/>
                    </a:lnTo>
                    <a:lnTo>
                      <a:pt x="76" y="3562"/>
                    </a:lnTo>
                    <a:lnTo>
                      <a:pt x="52" y="3686"/>
                    </a:lnTo>
                    <a:lnTo>
                      <a:pt x="27" y="3809"/>
                    </a:lnTo>
                    <a:lnTo>
                      <a:pt x="0" y="3931"/>
                    </a:lnTo>
                    <a:lnTo>
                      <a:pt x="35" y="3931"/>
                    </a:lnTo>
                    <a:lnTo>
                      <a:pt x="97" y="3921"/>
                    </a:lnTo>
                    <a:lnTo>
                      <a:pt x="124" y="3799"/>
                    </a:lnTo>
                    <a:lnTo>
                      <a:pt x="149" y="3676"/>
                    </a:lnTo>
                    <a:lnTo>
                      <a:pt x="172" y="3554"/>
                    </a:lnTo>
                    <a:lnTo>
                      <a:pt x="194" y="3431"/>
                    </a:lnTo>
                    <a:lnTo>
                      <a:pt x="214" y="3306"/>
                    </a:lnTo>
                    <a:lnTo>
                      <a:pt x="232" y="3182"/>
                    </a:lnTo>
                    <a:lnTo>
                      <a:pt x="249" y="3056"/>
                    </a:lnTo>
                    <a:lnTo>
                      <a:pt x="264" y="2931"/>
                    </a:lnTo>
                    <a:lnTo>
                      <a:pt x="277" y="2805"/>
                    </a:lnTo>
                    <a:lnTo>
                      <a:pt x="289" y="2678"/>
                    </a:lnTo>
                    <a:lnTo>
                      <a:pt x="298" y="2551"/>
                    </a:lnTo>
                    <a:lnTo>
                      <a:pt x="306" y="2423"/>
                    </a:lnTo>
                    <a:lnTo>
                      <a:pt x="313" y="2295"/>
                    </a:lnTo>
                    <a:lnTo>
                      <a:pt x="317" y="2166"/>
                    </a:lnTo>
                    <a:lnTo>
                      <a:pt x="320" y="2037"/>
                    </a:lnTo>
                    <a:lnTo>
                      <a:pt x="321" y="1908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2600" y="3772080"/>
                <a:ext cx="85680" cy="1035000"/>
              </a:xfrm>
              <a:custGeom>
                <a:avLst/>
                <a:gdLst/>
                <a:ahLst/>
                <a:rect l="l" t="t" r="r" b="b"/>
                <a:pathLst>
                  <a:path w="322" h="3916">
                    <a:moveTo>
                      <a:pt x="322" y="1893"/>
                    </a:moveTo>
                    <a:lnTo>
                      <a:pt x="322" y="1771"/>
                    </a:lnTo>
                    <a:lnTo>
                      <a:pt x="319" y="1650"/>
                    </a:lnTo>
                    <a:lnTo>
                      <a:pt x="315" y="1530"/>
                    </a:lnTo>
                    <a:lnTo>
                      <a:pt x="309" y="1409"/>
                    </a:lnTo>
                    <a:lnTo>
                      <a:pt x="302" y="1289"/>
                    </a:lnTo>
                    <a:lnTo>
                      <a:pt x="294" y="1170"/>
                    </a:lnTo>
                    <a:lnTo>
                      <a:pt x="284" y="1050"/>
                    </a:lnTo>
                    <a:lnTo>
                      <a:pt x="272" y="932"/>
                    </a:lnTo>
                    <a:lnTo>
                      <a:pt x="258" y="814"/>
                    </a:lnTo>
                    <a:lnTo>
                      <a:pt x="243" y="697"/>
                    </a:lnTo>
                    <a:lnTo>
                      <a:pt x="227" y="579"/>
                    </a:lnTo>
                    <a:lnTo>
                      <a:pt x="210" y="463"/>
                    </a:lnTo>
                    <a:lnTo>
                      <a:pt x="190" y="346"/>
                    </a:lnTo>
                    <a:lnTo>
                      <a:pt x="169" y="230"/>
                    </a:lnTo>
                    <a:lnTo>
                      <a:pt x="147" y="116"/>
                    </a:lnTo>
                    <a:lnTo>
                      <a:pt x="124" y="0"/>
                    </a:lnTo>
                    <a:lnTo>
                      <a:pt x="83" y="14"/>
                    </a:lnTo>
                    <a:lnTo>
                      <a:pt x="32" y="14"/>
                    </a:lnTo>
                    <a:lnTo>
                      <a:pt x="55" y="128"/>
                    </a:lnTo>
                    <a:lnTo>
                      <a:pt x="77" y="242"/>
                    </a:lnTo>
                    <a:lnTo>
                      <a:pt x="98" y="358"/>
                    </a:lnTo>
                    <a:lnTo>
                      <a:pt x="116" y="473"/>
                    </a:lnTo>
                    <a:lnTo>
                      <a:pt x="135" y="589"/>
                    </a:lnTo>
                    <a:lnTo>
                      <a:pt x="151" y="705"/>
                    </a:lnTo>
                    <a:lnTo>
                      <a:pt x="165" y="822"/>
                    </a:lnTo>
                    <a:lnTo>
                      <a:pt x="179" y="939"/>
                    </a:lnTo>
                    <a:lnTo>
                      <a:pt x="190" y="1057"/>
                    </a:lnTo>
                    <a:lnTo>
                      <a:pt x="200" y="1175"/>
                    </a:lnTo>
                    <a:lnTo>
                      <a:pt x="209" y="1294"/>
                    </a:lnTo>
                    <a:lnTo>
                      <a:pt x="217" y="1412"/>
                    </a:lnTo>
                    <a:lnTo>
                      <a:pt x="221" y="1532"/>
                    </a:lnTo>
                    <a:lnTo>
                      <a:pt x="226" y="1652"/>
                    </a:lnTo>
                    <a:lnTo>
                      <a:pt x="228" y="1772"/>
                    </a:lnTo>
                    <a:lnTo>
                      <a:pt x="229" y="1893"/>
                    </a:lnTo>
                    <a:lnTo>
                      <a:pt x="228" y="2023"/>
                    </a:lnTo>
                    <a:lnTo>
                      <a:pt x="225" y="2152"/>
                    </a:lnTo>
                    <a:lnTo>
                      <a:pt x="220" y="2282"/>
                    </a:lnTo>
                    <a:lnTo>
                      <a:pt x="214" y="2411"/>
                    </a:lnTo>
                    <a:lnTo>
                      <a:pt x="206" y="2540"/>
                    </a:lnTo>
                    <a:lnTo>
                      <a:pt x="196" y="2667"/>
                    </a:lnTo>
                    <a:lnTo>
                      <a:pt x="184" y="2795"/>
                    </a:lnTo>
                    <a:lnTo>
                      <a:pt x="170" y="2921"/>
                    </a:lnTo>
                    <a:lnTo>
                      <a:pt x="155" y="3048"/>
                    </a:lnTo>
                    <a:lnTo>
                      <a:pt x="138" y="3174"/>
                    </a:lnTo>
                    <a:lnTo>
                      <a:pt x="120" y="3298"/>
                    </a:lnTo>
                    <a:lnTo>
                      <a:pt x="99" y="3423"/>
                    </a:lnTo>
                    <a:lnTo>
                      <a:pt x="77" y="3547"/>
                    </a:lnTo>
                    <a:lnTo>
                      <a:pt x="53" y="3671"/>
                    </a:lnTo>
                    <a:lnTo>
                      <a:pt x="27" y="3794"/>
                    </a:lnTo>
                    <a:lnTo>
                      <a:pt x="0" y="3916"/>
                    </a:lnTo>
                    <a:lnTo>
                      <a:pt x="83" y="3916"/>
                    </a:lnTo>
                    <a:lnTo>
                      <a:pt x="97" y="3914"/>
                    </a:lnTo>
                    <a:lnTo>
                      <a:pt x="123" y="3792"/>
                    </a:lnTo>
                    <a:lnTo>
                      <a:pt x="149" y="3668"/>
                    </a:lnTo>
                    <a:lnTo>
                      <a:pt x="172" y="3545"/>
                    </a:lnTo>
                    <a:lnTo>
                      <a:pt x="194" y="3422"/>
                    </a:lnTo>
                    <a:lnTo>
                      <a:pt x="214" y="3297"/>
                    </a:lnTo>
                    <a:lnTo>
                      <a:pt x="233" y="3172"/>
                    </a:lnTo>
                    <a:lnTo>
                      <a:pt x="249" y="3046"/>
                    </a:lnTo>
                    <a:lnTo>
                      <a:pt x="265" y="2920"/>
                    </a:lnTo>
                    <a:lnTo>
                      <a:pt x="278" y="2793"/>
                    </a:lnTo>
                    <a:lnTo>
                      <a:pt x="289" y="2667"/>
                    </a:lnTo>
                    <a:lnTo>
                      <a:pt x="300" y="2539"/>
                    </a:lnTo>
                    <a:lnTo>
                      <a:pt x="308" y="2411"/>
                    </a:lnTo>
                    <a:lnTo>
                      <a:pt x="314" y="2282"/>
                    </a:lnTo>
                    <a:lnTo>
                      <a:pt x="318" y="2152"/>
                    </a:lnTo>
                    <a:lnTo>
                      <a:pt x="322" y="2023"/>
                    </a:lnTo>
                    <a:lnTo>
                      <a:pt x="322" y="189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50000" y="3774960"/>
                <a:ext cx="85680" cy="1032120"/>
              </a:xfrm>
              <a:custGeom>
                <a:avLst/>
                <a:gdLst/>
                <a:ahLst/>
                <a:rect l="l" t="t" r="r" b="b"/>
                <a:pathLst>
                  <a:path w="323" h="3902">
                    <a:moveTo>
                      <a:pt x="323" y="1879"/>
                    </a:moveTo>
                    <a:lnTo>
                      <a:pt x="322" y="1758"/>
                    </a:lnTo>
                    <a:lnTo>
                      <a:pt x="320" y="1638"/>
                    </a:lnTo>
                    <a:lnTo>
                      <a:pt x="317" y="1518"/>
                    </a:lnTo>
                    <a:lnTo>
                      <a:pt x="311" y="1398"/>
                    </a:lnTo>
                    <a:lnTo>
                      <a:pt x="304" y="1280"/>
                    </a:lnTo>
                    <a:lnTo>
                      <a:pt x="295" y="1161"/>
                    </a:lnTo>
                    <a:lnTo>
                      <a:pt x="285" y="1043"/>
                    </a:lnTo>
                    <a:lnTo>
                      <a:pt x="274" y="926"/>
                    </a:lnTo>
                    <a:lnTo>
                      <a:pt x="260" y="808"/>
                    </a:lnTo>
                    <a:lnTo>
                      <a:pt x="246" y="692"/>
                    </a:lnTo>
                    <a:lnTo>
                      <a:pt x="230" y="575"/>
                    </a:lnTo>
                    <a:lnTo>
                      <a:pt x="212" y="459"/>
                    </a:lnTo>
                    <a:lnTo>
                      <a:pt x="193" y="344"/>
                    </a:lnTo>
                    <a:lnTo>
                      <a:pt x="172" y="228"/>
                    </a:lnTo>
                    <a:lnTo>
                      <a:pt x="150" y="114"/>
                    </a:lnTo>
                    <a:lnTo>
                      <a:pt x="127" y="0"/>
                    </a:lnTo>
                    <a:lnTo>
                      <a:pt x="32" y="0"/>
                    </a:lnTo>
                    <a:lnTo>
                      <a:pt x="56" y="114"/>
                    </a:lnTo>
                    <a:lnTo>
                      <a:pt x="78" y="228"/>
                    </a:lnTo>
                    <a:lnTo>
                      <a:pt x="99" y="344"/>
                    </a:lnTo>
                    <a:lnTo>
                      <a:pt x="117" y="459"/>
                    </a:lnTo>
                    <a:lnTo>
                      <a:pt x="135" y="574"/>
                    </a:lnTo>
                    <a:lnTo>
                      <a:pt x="152" y="691"/>
                    </a:lnTo>
                    <a:lnTo>
                      <a:pt x="167" y="808"/>
                    </a:lnTo>
                    <a:lnTo>
                      <a:pt x="179" y="925"/>
                    </a:lnTo>
                    <a:lnTo>
                      <a:pt x="191" y="1043"/>
                    </a:lnTo>
                    <a:lnTo>
                      <a:pt x="201" y="1161"/>
                    </a:lnTo>
                    <a:lnTo>
                      <a:pt x="210" y="1280"/>
                    </a:lnTo>
                    <a:lnTo>
                      <a:pt x="217" y="1398"/>
                    </a:lnTo>
                    <a:lnTo>
                      <a:pt x="223" y="1518"/>
                    </a:lnTo>
                    <a:lnTo>
                      <a:pt x="227" y="1638"/>
                    </a:lnTo>
                    <a:lnTo>
                      <a:pt x="229" y="1758"/>
                    </a:lnTo>
                    <a:lnTo>
                      <a:pt x="230" y="1879"/>
                    </a:lnTo>
                    <a:lnTo>
                      <a:pt x="229" y="2009"/>
                    </a:lnTo>
                    <a:lnTo>
                      <a:pt x="227" y="2138"/>
                    </a:lnTo>
                    <a:lnTo>
                      <a:pt x="222" y="2269"/>
                    </a:lnTo>
                    <a:lnTo>
                      <a:pt x="215" y="2397"/>
                    </a:lnTo>
                    <a:lnTo>
                      <a:pt x="207" y="2526"/>
                    </a:lnTo>
                    <a:lnTo>
                      <a:pt x="197" y="2654"/>
                    </a:lnTo>
                    <a:lnTo>
                      <a:pt x="185" y="2781"/>
                    </a:lnTo>
                    <a:lnTo>
                      <a:pt x="172" y="2907"/>
                    </a:lnTo>
                    <a:lnTo>
                      <a:pt x="156" y="3034"/>
                    </a:lnTo>
                    <a:lnTo>
                      <a:pt x="139" y="3160"/>
                    </a:lnTo>
                    <a:lnTo>
                      <a:pt x="120" y="3284"/>
                    </a:lnTo>
                    <a:lnTo>
                      <a:pt x="100" y="3409"/>
                    </a:lnTo>
                    <a:lnTo>
                      <a:pt x="78" y="3533"/>
                    </a:lnTo>
                    <a:lnTo>
                      <a:pt x="54" y="3657"/>
                    </a:lnTo>
                    <a:lnTo>
                      <a:pt x="28" y="3780"/>
                    </a:lnTo>
                    <a:lnTo>
                      <a:pt x="0" y="3902"/>
                    </a:lnTo>
                    <a:lnTo>
                      <a:pt x="96" y="3902"/>
                    </a:lnTo>
                    <a:lnTo>
                      <a:pt x="123" y="3780"/>
                    </a:lnTo>
                    <a:lnTo>
                      <a:pt x="148" y="3657"/>
                    </a:lnTo>
                    <a:lnTo>
                      <a:pt x="172" y="3533"/>
                    </a:lnTo>
                    <a:lnTo>
                      <a:pt x="194" y="3409"/>
                    </a:lnTo>
                    <a:lnTo>
                      <a:pt x="215" y="3284"/>
                    </a:lnTo>
                    <a:lnTo>
                      <a:pt x="233" y="3160"/>
                    </a:lnTo>
                    <a:lnTo>
                      <a:pt x="251" y="3034"/>
                    </a:lnTo>
                    <a:lnTo>
                      <a:pt x="266" y="2907"/>
                    </a:lnTo>
                    <a:lnTo>
                      <a:pt x="278" y="2781"/>
                    </a:lnTo>
                    <a:lnTo>
                      <a:pt x="291" y="2653"/>
                    </a:lnTo>
                    <a:lnTo>
                      <a:pt x="300" y="2525"/>
                    </a:lnTo>
                    <a:lnTo>
                      <a:pt x="308" y="2397"/>
                    </a:lnTo>
                    <a:lnTo>
                      <a:pt x="315" y="2268"/>
                    </a:lnTo>
                    <a:lnTo>
                      <a:pt x="320" y="2138"/>
                    </a:lnTo>
                    <a:lnTo>
                      <a:pt x="322" y="2009"/>
                    </a:lnTo>
                    <a:lnTo>
                      <a:pt x="323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37400" y="3774960"/>
                <a:ext cx="85680" cy="1032120"/>
              </a:xfrm>
              <a:custGeom>
                <a:avLst/>
                <a:gdLst/>
                <a:ahLst/>
                <a:rect l="l" t="t" r="r" b="b"/>
                <a:pathLst>
                  <a:path w="325" h="3902">
                    <a:moveTo>
                      <a:pt x="325" y="1879"/>
                    </a:moveTo>
                    <a:lnTo>
                      <a:pt x="324" y="1758"/>
                    </a:lnTo>
                    <a:lnTo>
                      <a:pt x="322" y="1638"/>
                    </a:lnTo>
                    <a:lnTo>
                      <a:pt x="317" y="1518"/>
                    </a:lnTo>
                    <a:lnTo>
                      <a:pt x="313" y="1398"/>
                    </a:lnTo>
                    <a:lnTo>
                      <a:pt x="305" y="1280"/>
                    </a:lnTo>
                    <a:lnTo>
                      <a:pt x="296" y="1161"/>
                    </a:lnTo>
                    <a:lnTo>
                      <a:pt x="286" y="1043"/>
                    </a:lnTo>
                    <a:lnTo>
                      <a:pt x="275" y="925"/>
                    </a:lnTo>
                    <a:lnTo>
                      <a:pt x="261" y="808"/>
                    </a:lnTo>
                    <a:lnTo>
                      <a:pt x="247" y="691"/>
                    </a:lnTo>
                    <a:lnTo>
                      <a:pt x="231" y="575"/>
                    </a:lnTo>
                    <a:lnTo>
                      <a:pt x="212" y="459"/>
                    </a:lnTo>
                    <a:lnTo>
                      <a:pt x="194" y="344"/>
                    </a:lnTo>
                    <a:lnTo>
                      <a:pt x="173" y="228"/>
                    </a:lnTo>
                    <a:lnTo>
                      <a:pt x="151" y="114"/>
                    </a:lnTo>
                    <a:lnTo>
                      <a:pt x="128" y="0"/>
                    </a:lnTo>
                    <a:lnTo>
                      <a:pt x="65" y="0"/>
                    </a:lnTo>
                    <a:lnTo>
                      <a:pt x="36" y="14"/>
                    </a:lnTo>
                    <a:lnTo>
                      <a:pt x="59" y="127"/>
                    </a:lnTo>
                    <a:lnTo>
                      <a:pt x="81" y="241"/>
                    </a:lnTo>
                    <a:lnTo>
                      <a:pt x="102" y="355"/>
                    </a:lnTo>
                    <a:lnTo>
                      <a:pt x="120" y="469"/>
                    </a:lnTo>
                    <a:lnTo>
                      <a:pt x="137" y="585"/>
                    </a:lnTo>
                    <a:lnTo>
                      <a:pt x="153" y="700"/>
                    </a:lnTo>
                    <a:lnTo>
                      <a:pt x="168" y="816"/>
                    </a:lnTo>
                    <a:lnTo>
                      <a:pt x="181" y="933"/>
                    </a:lnTo>
                    <a:lnTo>
                      <a:pt x="193" y="1049"/>
                    </a:lnTo>
                    <a:lnTo>
                      <a:pt x="203" y="1167"/>
                    </a:lnTo>
                    <a:lnTo>
                      <a:pt x="212" y="1284"/>
                    </a:lnTo>
                    <a:lnTo>
                      <a:pt x="219" y="1402"/>
                    </a:lnTo>
                    <a:lnTo>
                      <a:pt x="225" y="1521"/>
                    </a:lnTo>
                    <a:lnTo>
                      <a:pt x="228" y="1639"/>
                    </a:lnTo>
                    <a:lnTo>
                      <a:pt x="231" y="1759"/>
                    </a:lnTo>
                    <a:lnTo>
                      <a:pt x="232" y="1879"/>
                    </a:lnTo>
                    <a:lnTo>
                      <a:pt x="231" y="2009"/>
                    </a:lnTo>
                    <a:lnTo>
                      <a:pt x="228" y="2138"/>
                    </a:lnTo>
                    <a:lnTo>
                      <a:pt x="223" y="2269"/>
                    </a:lnTo>
                    <a:lnTo>
                      <a:pt x="217" y="2397"/>
                    </a:lnTo>
                    <a:lnTo>
                      <a:pt x="209" y="2526"/>
                    </a:lnTo>
                    <a:lnTo>
                      <a:pt x="198" y="2654"/>
                    </a:lnTo>
                    <a:lnTo>
                      <a:pt x="187" y="2781"/>
                    </a:lnTo>
                    <a:lnTo>
                      <a:pt x="173" y="2907"/>
                    </a:lnTo>
                    <a:lnTo>
                      <a:pt x="157" y="3034"/>
                    </a:lnTo>
                    <a:lnTo>
                      <a:pt x="140" y="3160"/>
                    </a:lnTo>
                    <a:lnTo>
                      <a:pt x="121" y="3285"/>
                    </a:lnTo>
                    <a:lnTo>
                      <a:pt x="100" y="3410"/>
                    </a:lnTo>
                    <a:lnTo>
                      <a:pt x="77" y="3533"/>
                    </a:lnTo>
                    <a:lnTo>
                      <a:pt x="54" y="3657"/>
                    </a:lnTo>
                    <a:lnTo>
                      <a:pt x="28" y="3780"/>
                    </a:lnTo>
                    <a:lnTo>
                      <a:pt x="0" y="3902"/>
                    </a:lnTo>
                    <a:lnTo>
                      <a:pt x="96" y="3902"/>
                    </a:lnTo>
                    <a:lnTo>
                      <a:pt x="123" y="3780"/>
                    </a:lnTo>
                    <a:lnTo>
                      <a:pt x="149" y="3657"/>
                    </a:lnTo>
                    <a:lnTo>
                      <a:pt x="173" y="3533"/>
                    </a:lnTo>
                    <a:lnTo>
                      <a:pt x="195" y="3409"/>
                    </a:lnTo>
                    <a:lnTo>
                      <a:pt x="216" y="3284"/>
                    </a:lnTo>
                    <a:lnTo>
                      <a:pt x="234" y="3160"/>
                    </a:lnTo>
                    <a:lnTo>
                      <a:pt x="251" y="3034"/>
                    </a:lnTo>
                    <a:lnTo>
                      <a:pt x="266" y="2907"/>
                    </a:lnTo>
                    <a:lnTo>
                      <a:pt x="280" y="2781"/>
                    </a:lnTo>
                    <a:lnTo>
                      <a:pt x="292" y="2653"/>
                    </a:lnTo>
                    <a:lnTo>
                      <a:pt x="302" y="2526"/>
                    </a:lnTo>
                    <a:lnTo>
                      <a:pt x="310" y="2397"/>
                    </a:lnTo>
                    <a:lnTo>
                      <a:pt x="316" y="2268"/>
                    </a:lnTo>
                    <a:lnTo>
                      <a:pt x="321" y="2138"/>
                    </a:lnTo>
                    <a:lnTo>
                      <a:pt x="324" y="2009"/>
                    </a:lnTo>
                    <a:lnTo>
                      <a:pt x="325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24440" y="3774960"/>
                <a:ext cx="85680" cy="1033560"/>
              </a:xfrm>
              <a:custGeom>
                <a:avLst/>
                <a:gdLst/>
                <a:ahLst/>
                <a:rect l="l" t="t" r="r" b="b"/>
                <a:pathLst>
                  <a:path w="328" h="3908">
                    <a:moveTo>
                      <a:pt x="328" y="1879"/>
                    </a:moveTo>
                    <a:lnTo>
                      <a:pt x="327" y="1758"/>
                    </a:lnTo>
                    <a:lnTo>
                      <a:pt x="325" y="1638"/>
                    </a:lnTo>
                    <a:lnTo>
                      <a:pt x="321" y="1518"/>
                    </a:lnTo>
                    <a:lnTo>
                      <a:pt x="315" y="1398"/>
                    </a:lnTo>
                    <a:lnTo>
                      <a:pt x="308" y="1280"/>
                    </a:lnTo>
                    <a:lnTo>
                      <a:pt x="299" y="1161"/>
                    </a:lnTo>
                    <a:lnTo>
                      <a:pt x="289" y="1043"/>
                    </a:lnTo>
                    <a:lnTo>
                      <a:pt x="277" y="925"/>
                    </a:lnTo>
                    <a:lnTo>
                      <a:pt x="265" y="808"/>
                    </a:lnTo>
                    <a:lnTo>
                      <a:pt x="250" y="691"/>
                    </a:lnTo>
                    <a:lnTo>
                      <a:pt x="233" y="574"/>
                    </a:lnTo>
                    <a:lnTo>
                      <a:pt x="215" y="459"/>
                    </a:lnTo>
                    <a:lnTo>
                      <a:pt x="197" y="344"/>
                    </a:lnTo>
                    <a:lnTo>
                      <a:pt x="176" y="228"/>
                    </a:lnTo>
                    <a:lnTo>
                      <a:pt x="154" y="114"/>
                    </a:lnTo>
                    <a:lnTo>
                      <a:pt x="130" y="0"/>
                    </a:lnTo>
                    <a:lnTo>
                      <a:pt x="115" y="0"/>
                    </a:lnTo>
                    <a:lnTo>
                      <a:pt x="42" y="35"/>
                    </a:lnTo>
                    <a:lnTo>
                      <a:pt x="65" y="147"/>
                    </a:lnTo>
                    <a:lnTo>
                      <a:pt x="87" y="260"/>
                    </a:lnTo>
                    <a:lnTo>
                      <a:pt x="107" y="371"/>
                    </a:lnTo>
                    <a:lnTo>
                      <a:pt x="125" y="485"/>
                    </a:lnTo>
                    <a:lnTo>
                      <a:pt x="142" y="598"/>
                    </a:lnTo>
                    <a:lnTo>
                      <a:pt x="158" y="713"/>
                    </a:lnTo>
                    <a:lnTo>
                      <a:pt x="172" y="828"/>
                    </a:lnTo>
                    <a:lnTo>
                      <a:pt x="186" y="943"/>
                    </a:lnTo>
                    <a:lnTo>
                      <a:pt x="198" y="1058"/>
                    </a:lnTo>
                    <a:lnTo>
                      <a:pt x="207" y="1175"/>
                    </a:lnTo>
                    <a:lnTo>
                      <a:pt x="216" y="1291"/>
                    </a:lnTo>
                    <a:lnTo>
                      <a:pt x="223" y="1408"/>
                    </a:lnTo>
                    <a:lnTo>
                      <a:pt x="228" y="1525"/>
                    </a:lnTo>
                    <a:lnTo>
                      <a:pt x="232" y="1643"/>
                    </a:lnTo>
                    <a:lnTo>
                      <a:pt x="235" y="1760"/>
                    </a:lnTo>
                    <a:lnTo>
                      <a:pt x="235" y="1879"/>
                    </a:lnTo>
                    <a:lnTo>
                      <a:pt x="235" y="2009"/>
                    </a:lnTo>
                    <a:lnTo>
                      <a:pt x="231" y="2140"/>
                    </a:lnTo>
                    <a:lnTo>
                      <a:pt x="227" y="2270"/>
                    </a:lnTo>
                    <a:lnTo>
                      <a:pt x="220" y="2399"/>
                    </a:lnTo>
                    <a:lnTo>
                      <a:pt x="212" y="2528"/>
                    </a:lnTo>
                    <a:lnTo>
                      <a:pt x="201" y="2656"/>
                    </a:lnTo>
                    <a:lnTo>
                      <a:pt x="190" y="2784"/>
                    </a:lnTo>
                    <a:lnTo>
                      <a:pt x="176" y="2911"/>
                    </a:lnTo>
                    <a:lnTo>
                      <a:pt x="160" y="3038"/>
                    </a:lnTo>
                    <a:lnTo>
                      <a:pt x="142" y="3164"/>
                    </a:lnTo>
                    <a:lnTo>
                      <a:pt x="123" y="3290"/>
                    </a:lnTo>
                    <a:lnTo>
                      <a:pt x="102" y="3415"/>
                    </a:lnTo>
                    <a:lnTo>
                      <a:pt x="79" y="3539"/>
                    </a:lnTo>
                    <a:lnTo>
                      <a:pt x="55" y="3662"/>
                    </a:lnTo>
                    <a:lnTo>
                      <a:pt x="29" y="3786"/>
                    </a:lnTo>
                    <a:lnTo>
                      <a:pt x="0" y="3908"/>
                    </a:lnTo>
                    <a:lnTo>
                      <a:pt x="37" y="3902"/>
                    </a:lnTo>
                    <a:lnTo>
                      <a:pt x="98" y="3902"/>
                    </a:lnTo>
                    <a:lnTo>
                      <a:pt x="126" y="3780"/>
                    </a:lnTo>
                    <a:lnTo>
                      <a:pt x="152" y="3657"/>
                    </a:lnTo>
                    <a:lnTo>
                      <a:pt x="176" y="3533"/>
                    </a:lnTo>
                    <a:lnTo>
                      <a:pt x="198" y="3409"/>
                    </a:lnTo>
                    <a:lnTo>
                      <a:pt x="218" y="3284"/>
                    </a:lnTo>
                    <a:lnTo>
                      <a:pt x="237" y="3160"/>
                    </a:lnTo>
                    <a:lnTo>
                      <a:pt x="254" y="3034"/>
                    </a:lnTo>
                    <a:lnTo>
                      <a:pt x="270" y="2907"/>
                    </a:lnTo>
                    <a:lnTo>
                      <a:pt x="283" y="2781"/>
                    </a:lnTo>
                    <a:lnTo>
                      <a:pt x="295" y="2654"/>
                    </a:lnTo>
                    <a:lnTo>
                      <a:pt x="305" y="2526"/>
                    </a:lnTo>
                    <a:lnTo>
                      <a:pt x="313" y="2397"/>
                    </a:lnTo>
                    <a:lnTo>
                      <a:pt x="320" y="2269"/>
                    </a:lnTo>
                    <a:lnTo>
                      <a:pt x="325" y="2138"/>
                    </a:lnTo>
                    <a:lnTo>
                      <a:pt x="327" y="2009"/>
                    </a:lnTo>
                    <a:lnTo>
                      <a:pt x="328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10400" y="3778200"/>
                <a:ext cx="88920" cy="1033560"/>
              </a:xfrm>
              <a:custGeom>
                <a:avLst/>
                <a:gdLst/>
                <a:ahLst/>
                <a:rect l="l" t="t" r="r" b="b"/>
                <a:pathLst>
                  <a:path w="331" h="3903">
                    <a:moveTo>
                      <a:pt x="331" y="1865"/>
                    </a:moveTo>
                    <a:lnTo>
                      <a:pt x="330" y="1745"/>
                    </a:lnTo>
                    <a:lnTo>
                      <a:pt x="327" y="1625"/>
                    </a:lnTo>
                    <a:lnTo>
                      <a:pt x="324" y="1507"/>
                    </a:lnTo>
                    <a:lnTo>
                      <a:pt x="318" y="1388"/>
                    </a:lnTo>
                    <a:lnTo>
                      <a:pt x="311" y="1270"/>
                    </a:lnTo>
                    <a:lnTo>
                      <a:pt x="302" y="1153"/>
                    </a:lnTo>
                    <a:lnTo>
                      <a:pt x="292" y="1035"/>
                    </a:lnTo>
                    <a:lnTo>
                      <a:pt x="280" y="919"/>
                    </a:lnTo>
                    <a:lnTo>
                      <a:pt x="267" y="802"/>
                    </a:lnTo>
                    <a:lnTo>
                      <a:pt x="252" y="686"/>
                    </a:lnTo>
                    <a:lnTo>
                      <a:pt x="236" y="571"/>
                    </a:lnTo>
                    <a:lnTo>
                      <a:pt x="219" y="455"/>
                    </a:lnTo>
                    <a:lnTo>
                      <a:pt x="201" y="341"/>
                    </a:lnTo>
                    <a:lnTo>
                      <a:pt x="180" y="227"/>
                    </a:lnTo>
                    <a:lnTo>
                      <a:pt x="158" y="113"/>
                    </a:lnTo>
                    <a:lnTo>
                      <a:pt x="135" y="0"/>
                    </a:lnTo>
                    <a:lnTo>
                      <a:pt x="86" y="23"/>
                    </a:lnTo>
                    <a:lnTo>
                      <a:pt x="44" y="23"/>
                    </a:lnTo>
                    <a:lnTo>
                      <a:pt x="67" y="135"/>
                    </a:lnTo>
                    <a:lnTo>
                      <a:pt x="89" y="247"/>
                    </a:lnTo>
                    <a:lnTo>
                      <a:pt x="108" y="360"/>
                    </a:lnTo>
                    <a:lnTo>
                      <a:pt x="128" y="473"/>
                    </a:lnTo>
                    <a:lnTo>
                      <a:pt x="145" y="587"/>
                    </a:lnTo>
                    <a:lnTo>
                      <a:pt x="160" y="701"/>
                    </a:lnTo>
                    <a:lnTo>
                      <a:pt x="175" y="815"/>
                    </a:lnTo>
                    <a:lnTo>
                      <a:pt x="188" y="930"/>
                    </a:lnTo>
                    <a:lnTo>
                      <a:pt x="199" y="1046"/>
                    </a:lnTo>
                    <a:lnTo>
                      <a:pt x="210" y="1161"/>
                    </a:lnTo>
                    <a:lnTo>
                      <a:pt x="218" y="1277"/>
                    </a:lnTo>
                    <a:lnTo>
                      <a:pt x="225" y="1394"/>
                    </a:lnTo>
                    <a:lnTo>
                      <a:pt x="231" y="1511"/>
                    </a:lnTo>
                    <a:lnTo>
                      <a:pt x="234" y="1629"/>
                    </a:lnTo>
                    <a:lnTo>
                      <a:pt x="236" y="1746"/>
                    </a:lnTo>
                    <a:lnTo>
                      <a:pt x="237" y="1865"/>
                    </a:lnTo>
                    <a:lnTo>
                      <a:pt x="236" y="1997"/>
                    </a:lnTo>
                    <a:lnTo>
                      <a:pt x="234" y="2127"/>
                    </a:lnTo>
                    <a:lnTo>
                      <a:pt x="229" y="2257"/>
                    </a:lnTo>
                    <a:lnTo>
                      <a:pt x="222" y="2387"/>
                    </a:lnTo>
                    <a:lnTo>
                      <a:pt x="213" y="2516"/>
                    </a:lnTo>
                    <a:lnTo>
                      <a:pt x="203" y="2646"/>
                    </a:lnTo>
                    <a:lnTo>
                      <a:pt x="191" y="2773"/>
                    </a:lnTo>
                    <a:lnTo>
                      <a:pt x="176" y="2901"/>
                    </a:lnTo>
                    <a:lnTo>
                      <a:pt x="161" y="3029"/>
                    </a:lnTo>
                    <a:lnTo>
                      <a:pt x="143" y="3156"/>
                    </a:lnTo>
                    <a:lnTo>
                      <a:pt x="123" y="3282"/>
                    </a:lnTo>
                    <a:lnTo>
                      <a:pt x="103" y="3407"/>
                    </a:lnTo>
                    <a:lnTo>
                      <a:pt x="79" y="3532"/>
                    </a:lnTo>
                    <a:lnTo>
                      <a:pt x="54" y="3656"/>
                    </a:lnTo>
                    <a:lnTo>
                      <a:pt x="28" y="3780"/>
                    </a:lnTo>
                    <a:lnTo>
                      <a:pt x="0" y="3903"/>
                    </a:lnTo>
                    <a:lnTo>
                      <a:pt x="86" y="3888"/>
                    </a:lnTo>
                    <a:lnTo>
                      <a:pt x="99" y="3888"/>
                    </a:lnTo>
                    <a:lnTo>
                      <a:pt x="127" y="3766"/>
                    </a:lnTo>
                    <a:lnTo>
                      <a:pt x="153" y="3643"/>
                    </a:lnTo>
                    <a:lnTo>
                      <a:pt x="176" y="3519"/>
                    </a:lnTo>
                    <a:lnTo>
                      <a:pt x="199" y="3396"/>
                    </a:lnTo>
                    <a:lnTo>
                      <a:pt x="220" y="3271"/>
                    </a:lnTo>
                    <a:lnTo>
                      <a:pt x="239" y="3146"/>
                    </a:lnTo>
                    <a:lnTo>
                      <a:pt x="256" y="3020"/>
                    </a:lnTo>
                    <a:lnTo>
                      <a:pt x="272" y="2893"/>
                    </a:lnTo>
                    <a:lnTo>
                      <a:pt x="286" y="2767"/>
                    </a:lnTo>
                    <a:lnTo>
                      <a:pt x="297" y="2640"/>
                    </a:lnTo>
                    <a:lnTo>
                      <a:pt x="308" y="2512"/>
                    </a:lnTo>
                    <a:lnTo>
                      <a:pt x="316" y="2383"/>
                    </a:lnTo>
                    <a:lnTo>
                      <a:pt x="322" y="2255"/>
                    </a:lnTo>
                    <a:lnTo>
                      <a:pt x="327" y="2124"/>
                    </a:lnTo>
                    <a:lnTo>
                      <a:pt x="330" y="1995"/>
                    </a:lnTo>
                    <a:lnTo>
                      <a:pt x="331" y="186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97440" y="3784680"/>
                <a:ext cx="88920" cy="1028520"/>
              </a:xfrm>
              <a:custGeom>
                <a:avLst/>
                <a:gdLst/>
                <a:ahLst/>
                <a:rect l="l" t="t" r="r" b="b"/>
                <a:pathLst>
                  <a:path w="335" h="3891">
                    <a:moveTo>
                      <a:pt x="335" y="1844"/>
                    </a:moveTo>
                    <a:lnTo>
                      <a:pt x="335" y="1725"/>
                    </a:lnTo>
                    <a:lnTo>
                      <a:pt x="332" y="1608"/>
                    </a:lnTo>
                    <a:lnTo>
                      <a:pt x="328" y="1490"/>
                    </a:lnTo>
                    <a:lnTo>
                      <a:pt x="323" y="1373"/>
                    </a:lnTo>
                    <a:lnTo>
                      <a:pt x="316" y="1256"/>
                    </a:lnTo>
                    <a:lnTo>
                      <a:pt x="307" y="1140"/>
                    </a:lnTo>
                    <a:lnTo>
                      <a:pt x="298" y="1023"/>
                    </a:lnTo>
                    <a:lnTo>
                      <a:pt x="286" y="908"/>
                    </a:lnTo>
                    <a:lnTo>
                      <a:pt x="272" y="793"/>
                    </a:lnTo>
                    <a:lnTo>
                      <a:pt x="258" y="678"/>
                    </a:lnTo>
                    <a:lnTo>
                      <a:pt x="242" y="563"/>
                    </a:lnTo>
                    <a:lnTo>
                      <a:pt x="225" y="450"/>
                    </a:lnTo>
                    <a:lnTo>
                      <a:pt x="207" y="336"/>
                    </a:lnTo>
                    <a:lnTo>
                      <a:pt x="187" y="225"/>
                    </a:lnTo>
                    <a:lnTo>
                      <a:pt x="165" y="112"/>
                    </a:lnTo>
                    <a:lnTo>
                      <a:pt x="142" y="0"/>
                    </a:lnTo>
                    <a:lnTo>
                      <a:pt x="137" y="2"/>
                    </a:lnTo>
                    <a:lnTo>
                      <a:pt x="65" y="2"/>
                    </a:lnTo>
                    <a:lnTo>
                      <a:pt x="47" y="2"/>
                    </a:lnTo>
                    <a:lnTo>
                      <a:pt x="70" y="114"/>
                    </a:lnTo>
                    <a:lnTo>
                      <a:pt x="92" y="226"/>
                    </a:lnTo>
                    <a:lnTo>
                      <a:pt x="112" y="339"/>
                    </a:lnTo>
                    <a:lnTo>
                      <a:pt x="132" y="452"/>
                    </a:lnTo>
                    <a:lnTo>
                      <a:pt x="149" y="566"/>
                    </a:lnTo>
                    <a:lnTo>
                      <a:pt x="165" y="680"/>
                    </a:lnTo>
                    <a:lnTo>
                      <a:pt x="179" y="794"/>
                    </a:lnTo>
                    <a:lnTo>
                      <a:pt x="193" y="909"/>
                    </a:lnTo>
                    <a:lnTo>
                      <a:pt x="203" y="1025"/>
                    </a:lnTo>
                    <a:lnTo>
                      <a:pt x="213" y="1140"/>
                    </a:lnTo>
                    <a:lnTo>
                      <a:pt x="223" y="1256"/>
                    </a:lnTo>
                    <a:lnTo>
                      <a:pt x="230" y="1373"/>
                    </a:lnTo>
                    <a:lnTo>
                      <a:pt x="234" y="1490"/>
                    </a:lnTo>
                    <a:lnTo>
                      <a:pt x="239" y="1608"/>
                    </a:lnTo>
                    <a:lnTo>
                      <a:pt x="241" y="1725"/>
                    </a:lnTo>
                    <a:lnTo>
                      <a:pt x="242" y="1844"/>
                    </a:lnTo>
                    <a:lnTo>
                      <a:pt x="241" y="1976"/>
                    </a:lnTo>
                    <a:lnTo>
                      <a:pt x="238" y="2107"/>
                    </a:lnTo>
                    <a:lnTo>
                      <a:pt x="233" y="2238"/>
                    </a:lnTo>
                    <a:lnTo>
                      <a:pt x="226" y="2369"/>
                    </a:lnTo>
                    <a:lnTo>
                      <a:pt x="218" y="2499"/>
                    </a:lnTo>
                    <a:lnTo>
                      <a:pt x="207" y="2628"/>
                    </a:lnTo>
                    <a:lnTo>
                      <a:pt x="194" y="2757"/>
                    </a:lnTo>
                    <a:lnTo>
                      <a:pt x="180" y="2885"/>
                    </a:lnTo>
                    <a:lnTo>
                      <a:pt x="164" y="3013"/>
                    </a:lnTo>
                    <a:lnTo>
                      <a:pt x="147" y="3141"/>
                    </a:lnTo>
                    <a:lnTo>
                      <a:pt x="126" y="3268"/>
                    </a:lnTo>
                    <a:lnTo>
                      <a:pt x="105" y="3393"/>
                    </a:lnTo>
                    <a:lnTo>
                      <a:pt x="81" y="3519"/>
                    </a:lnTo>
                    <a:lnTo>
                      <a:pt x="57" y="3644"/>
                    </a:lnTo>
                    <a:lnTo>
                      <a:pt x="29" y="3768"/>
                    </a:lnTo>
                    <a:lnTo>
                      <a:pt x="0" y="3891"/>
                    </a:lnTo>
                    <a:lnTo>
                      <a:pt x="100" y="3873"/>
                    </a:lnTo>
                    <a:lnTo>
                      <a:pt x="129" y="3751"/>
                    </a:lnTo>
                    <a:lnTo>
                      <a:pt x="155" y="3627"/>
                    </a:lnTo>
                    <a:lnTo>
                      <a:pt x="179" y="3504"/>
                    </a:lnTo>
                    <a:lnTo>
                      <a:pt x="202" y="3380"/>
                    </a:lnTo>
                    <a:lnTo>
                      <a:pt x="223" y="3254"/>
                    </a:lnTo>
                    <a:lnTo>
                      <a:pt x="242" y="3129"/>
                    </a:lnTo>
                    <a:lnTo>
                      <a:pt x="260" y="3003"/>
                    </a:lnTo>
                    <a:lnTo>
                      <a:pt x="276" y="2876"/>
                    </a:lnTo>
                    <a:lnTo>
                      <a:pt x="290" y="2749"/>
                    </a:lnTo>
                    <a:lnTo>
                      <a:pt x="301" y="2621"/>
                    </a:lnTo>
                    <a:lnTo>
                      <a:pt x="312" y="2493"/>
                    </a:lnTo>
                    <a:lnTo>
                      <a:pt x="320" y="2364"/>
                    </a:lnTo>
                    <a:lnTo>
                      <a:pt x="327" y="2235"/>
                    </a:lnTo>
                    <a:lnTo>
                      <a:pt x="331" y="2105"/>
                    </a:lnTo>
                    <a:lnTo>
                      <a:pt x="335" y="1974"/>
                    </a:lnTo>
                    <a:lnTo>
                      <a:pt x="335" y="1844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84840" y="3784680"/>
                <a:ext cx="88920" cy="1031760"/>
              </a:xfrm>
              <a:custGeom>
                <a:avLst/>
                <a:gdLst/>
                <a:ahLst/>
                <a:rect l="l" t="t" r="r" b="b"/>
                <a:pathLst>
                  <a:path w="337" h="3897">
                    <a:moveTo>
                      <a:pt x="337" y="1842"/>
                    </a:moveTo>
                    <a:lnTo>
                      <a:pt x="336" y="1723"/>
                    </a:lnTo>
                    <a:lnTo>
                      <a:pt x="334" y="1606"/>
                    </a:lnTo>
                    <a:lnTo>
                      <a:pt x="331" y="1488"/>
                    </a:lnTo>
                    <a:lnTo>
                      <a:pt x="325" y="1371"/>
                    </a:lnTo>
                    <a:lnTo>
                      <a:pt x="318" y="1254"/>
                    </a:lnTo>
                    <a:lnTo>
                      <a:pt x="310" y="1138"/>
                    </a:lnTo>
                    <a:lnTo>
                      <a:pt x="299" y="1023"/>
                    </a:lnTo>
                    <a:lnTo>
                      <a:pt x="288" y="907"/>
                    </a:lnTo>
                    <a:lnTo>
                      <a:pt x="275" y="792"/>
                    </a:lnTo>
                    <a:lnTo>
                      <a:pt x="260" y="678"/>
                    </a:lnTo>
                    <a:lnTo>
                      <a:pt x="245" y="564"/>
                    </a:lnTo>
                    <a:lnTo>
                      <a:pt x="228" y="450"/>
                    </a:lnTo>
                    <a:lnTo>
                      <a:pt x="208" y="337"/>
                    </a:lnTo>
                    <a:lnTo>
                      <a:pt x="189" y="224"/>
                    </a:lnTo>
                    <a:lnTo>
                      <a:pt x="167" y="112"/>
                    </a:lnTo>
                    <a:lnTo>
                      <a:pt x="144" y="0"/>
                    </a:lnTo>
                    <a:lnTo>
                      <a:pt x="114" y="0"/>
                    </a:lnTo>
                    <a:lnTo>
                      <a:pt x="48" y="0"/>
                    </a:lnTo>
                    <a:lnTo>
                      <a:pt x="72" y="112"/>
                    </a:lnTo>
                    <a:lnTo>
                      <a:pt x="93" y="224"/>
                    </a:lnTo>
                    <a:lnTo>
                      <a:pt x="114" y="337"/>
                    </a:lnTo>
                    <a:lnTo>
                      <a:pt x="133" y="450"/>
                    </a:lnTo>
                    <a:lnTo>
                      <a:pt x="151" y="564"/>
                    </a:lnTo>
                    <a:lnTo>
                      <a:pt x="167" y="677"/>
                    </a:lnTo>
                    <a:lnTo>
                      <a:pt x="181" y="792"/>
                    </a:lnTo>
                    <a:lnTo>
                      <a:pt x="194" y="906"/>
                    </a:lnTo>
                    <a:lnTo>
                      <a:pt x="206" y="1023"/>
                    </a:lnTo>
                    <a:lnTo>
                      <a:pt x="216" y="1138"/>
                    </a:lnTo>
                    <a:lnTo>
                      <a:pt x="224" y="1254"/>
                    </a:lnTo>
                    <a:lnTo>
                      <a:pt x="231" y="1371"/>
                    </a:lnTo>
                    <a:lnTo>
                      <a:pt x="237" y="1488"/>
                    </a:lnTo>
                    <a:lnTo>
                      <a:pt x="241" y="1606"/>
                    </a:lnTo>
                    <a:lnTo>
                      <a:pt x="243" y="1723"/>
                    </a:lnTo>
                    <a:lnTo>
                      <a:pt x="244" y="1842"/>
                    </a:lnTo>
                    <a:lnTo>
                      <a:pt x="243" y="1975"/>
                    </a:lnTo>
                    <a:lnTo>
                      <a:pt x="241" y="2106"/>
                    </a:lnTo>
                    <a:lnTo>
                      <a:pt x="235" y="2239"/>
                    </a:lnTo>
                    <a:lnTo>
                      <a:pt x="228" y="2369"/>
                    </a:lnTo>
                    <a:lnTo>
                      <a:pt x="220" y="2500"/>
                    </a:lnTo>
                    <a:lnTo>
                      <a:pt x="208" y="2629"/>
                    </a:lnTo>
                    <a:lnTo>
                      <a:pt x="197" y="2760"/>
                    </a:lnTo>
                    <a:lnTo>
                      <a:pt x="182" y="2889"/>
                    </a:lnTo>
                    <a:lnTo>
                      <a:pt x="166" y="3017"/>
                    </a:lnTo>
                    <a:lnTo>
                      <a:pt x="147" y="3145"/>
                    </a:lnTo>
                    <a:lnTo>
                      <a:pt x="126" y="3272"/>
                    </a:lnTo>
                    <a:lnTo>
                      <a:pt x="106" y="3398"/>
                    </a:lnTo>
                    <a:lnTo>
                      <a:pt x="81" y="3524"/>
                    </a:lnTo>
                    <a:lnTo>
                      <a:pt x="56" y="3650"/>
                    </a:lnTo>
                    <a:lnTo>
                      <a:pt x="28" y="3774"/>
                    </a:lnTo>
                    <a:lnTo>
                      <a:pt x="0" y="3897"/>
                    </a:lnTo>
                    <a:lnTo>
                      <a:pt x="100" y="3880"/>
                    </a:lnTo>
                    <a:lnTo>
                      <a:pt x="128" y="3757"/>
                    </a:lnTo>
                    <a:lnTo>
                      <a:pt x="154" y="3633"/>
                    </a:lnTo>
                    <a:lnTo>
                      <a:pt x="179" y="3509"/>
                    </a:lnTo>
                    <a:lnTo>
                      <a:pt x="203" y="3384"/>
                    </a:lnTo>
                    <a:lnTo>
                      <a:pt x="223" y="3259"/>
                    </a:lnTo>
                    <a:lnTo>
                      <a:pt x="243" y="3133"/>
                    </a:lnTo>
                    <a:lnTo>
                      <a:pt x="261" y="3006"/>
                    </a:lnTo>
                    <a:lnTo>
                      <a:pt x="276" y="2878"/>
                    </a:lnTo>
                    <a:lnTo>
                      <a:pt x="291" y="2750"/>
                    </a:lnTo>
                    <a:lnTo>
                      <a:pt x="303" y="2623"/>
                    </a:lnTo>
                    <a:lnTo>
                      <a:pt x="313" y="2493"/>
                    </a:lnTo>
                    <a:lnTo>
                      <a:pt x="322" y="2364"/>
                    </a:lnTo>
                    <a:lnTo>
                      <a:pt x="328" y="2234"/>
                    </a:lnTo>
                    <a:lnTo>
                      <a:pt x="334" y="2104"/>
                    </a:lnTo>
                    <a:lnTo>
                      <a:pt x="336" y="1974"/>
                    </a:lnTo>
                    <a:lnTo>
                      <a:pt x="337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70440" y="3784680"/>
                <a:ext cx="90720" cy="1033560"/>
              </a:xfrm>
              <a:custGeom>
                <a:avLst/>
                <a:gdLst/>
                <a:ahLst/>
                <a:rect l="l" t="t" r="r" b="b"/>
                <a:pathLst>
                  <a:path w="341" h="3907">
                    <a:moveTo>
                      <a:pt x="341" y="1842"/>
                    </a:moveTo>
                    <a:lnTo>
                      <a:pt x="340" y="1723"/>
                    </a:lnTo>
                    <a:lnTo>
                      <a:pt x="338" y="1606"/>
                    </a:lnTo>
                    <a:lnTo>
                      <a:pt x="333" y="1488"/>
                    </a:lnTo>
                    <a:lnTo>
                      <a:pt x="329" y="1371"/>
                    </a:lnTo>
                    <a:lnTo>
                      <a:pt x="322" y="1254"/>
                    </a:lnTo>
                    <a:lnTo>
                      <a:pt x="312" y="1138"/>
                    </a:lnTo>
                    <a:lnTo>
                      <a:pt x="302" y="1023"/>
                    </a:lnTo>
                    <a:lnTo>
                      <a:pt x="292" y="907"/>
                    </a:lnTo>
                    <a:lnTo>
                      <a:pt x="278" y="792"/>
                    </a:lnTo>
                    <a:lnTo>
                      <a:pt x="264" y="678"/>
                    </a:lnTo>
                    <a:lnTo>
                      <a:pt x="248" y="564"/>
                    </a:lnTo>
                    <a:lnTo>
                      <a:pt x="231" y="450"/>
                    </a:lnTo>
                    <a:lnTo>
                      <a:pt x="211" y="337"/>
                    </a:lnTo>
                    <a:lnTo>
                      <a:pt x="191" y="224"/>
                    </a:lnTo>
                    <a:lnTo>
                      <a:pt x="169" y="112"/>
                    </a:lnTo>
                    <a:lnTo>
                      <a:pt x="146" y="0"/>
                    </a:lnTo>
                    <a:lnTo>
                      <a:pt x="51" y="0"/>
                    </a:lnTo>
                    <a:lnTo>
                      <a:pt x="74" y="112"/>
                    </a:lnTo>
                    <a:lnTo>
                      <a:pt x="96" y="224"/>
                    </a:lnTo>
                    <a:lnTo>
                      <a:pt x="116" y="337"/>
                    </a:lnTo>
                    <a:lnTo>
                      <a:pt x="136" y="450"/>
                    </a:lnTo>
                    <a:lnTo>
                      <a:pt x="153" y="563"/>
                    </a:lnTo>
                    <a:lnTo>
                      <a:pt x="169" y="677"/>
                    </a:lnTo>
                    <a:lnTo>
                      <a:pt x="184" y="792"/>
                    </a:lnTo>
                    <a:lnTo>
                      <a:pt x="197" y="906"/>
                    </a:lnTo>
                    <a:lnTo>
                      <a:pt x="209" y="1023"/>
                    </a:lnTo>
                    <a:lnTo>
                      <a:pt x="219" y="1138"/>
                    </a:lnTo>
                    <a:lnTo>
                      <a:pt x="228" y="1254"/>
                    </a:lnTo>
                    <a:lnTo>
                      <a:pt x="235" y="1371"/>
                    </a:lnTo>
                    <a:lnTo>
                      <a:pt x="240" y="1488"/>
                    </a:lnTo>
                    <a:lnTo>
                      <a:pt x="244" y="1606"/>
                    </a:lnTo>
                    <a:lnTo>
                      <a:pt x="247" y="1723"/>
                    </a:lnTo>
                    <a:lnTo>
                      <a:pt x="248" y="1842"/>
                    </a:lnTo>
                    <a:lnTo>
                      <a:pt x="247" y="1975"/>
                    </a:lnTo>
                    <a:lnTo>
                      <a:pt x="243" y="2107"/>
                    </a:lnTo>
                    <a:lnTo>
                      <a:pt x="239" y="2240"/>
                    </a:lnTo>
                    <a:lnTo>
                      <a:pt x="232" y="2371"/>
                    </a:lnTo>
                    <a:lnTo>
                      <a:pt x="223" y="2503"/>
                    </a:lnTo>
                    <a:lnTo>
                      <a:pt x="212" y="2633"/>
                    </a:lnTo>
                    <a:lnTo>
                      <a:pt x="198" y="2763"/>
                    </a:lnTo>
                    <a:lnTo>
                      <a:pt x="184" y="2893"/>
                    </a:lnTo>
                    <a:lnTo>
                      <a:pt x="167" y="3021"/>
                    </a:lnTo>
                    <a:lnTo>
                      <a:pt x="149" y="3150"/>
                    </a:lnTo>
                    <a:lnTo>
                      <a:pt x="129" y="3278"/>
                    </a:lnTo>
                    <a:lnTo>
                      <a:pt x="106" y="3405"/>
                    </a:lnTo>
                    <a:lnTo>
                      <a:pt x="82" y="3531"/>
                    </a:lnTo>
                    <a:lnTo>
                      <a:pt x="56" y="3658"/>
                    </a:lnTo>
                    <a:lnTo>
                      <a:pt x="29" y="3782"/>
                    </a:lnTo>
                    <a:lnTo>
                      <a:pt x="0" y="3907"/>
                    </a:lnTo>
                    <a:lnTo>
                      <a:pt x="9" y="3906"/>
                    </a:lnTo>
                    <a:lnTo>
                      <a:pt x="99" y="3889"/>
                    </a:lnTo>
                    <a:lnTo>
                      <a:pt x="128" y="3766"/>
                    </a:lnTo>
                    <a:lnTo>
                      <a:pt x="156" y="3642"/>
                    </a:lnTo>
                    <a:lnTo>
                      <a:pt x="180" y="3517"/>
                    </a:lnTo>
                    <a:lnTo>
                      <a:pt x="204" y="3391"/>
                    </a:lnTo>
                    <a:lnTo>
                      <a:pt x="225" y="3266"/>
                    </a:lnTo>
                    <a:lnTo>
                      <a:pt x="246" y="3139"/>
                    </a:lnTo>
                    <a:lnTo>
                      <a:pt x="263" y="3011"/>
                    </a:lnTo>
                    <a:lnTo>
                      <a:pt x="279" y="2883"/>
                    </a:lnTo>
                    <a:lnTo>
                      <a:pt x="293" y="2755"/>
                    </a:lnTo>
                    <a:lnTo>
                      <a:pt x="306" y="2626"/>
                    </a:lnTo>
                    <a:lnTo>
                      <a:pt x="317" y="2497"/>
                    </a:lnTo>
                    <a:lnTo>
                      <a:pt x="325" y="2367"/>
                    </a:lnTo>
                    <a:lnTo>
                      <a:pt x="332" y="2236"/>
                    </a:lnTo>
                    <a:lnTo>
                      <a:pt x="337" y="2105"/>
                    </a:lnTo>
                    <a:lnTo>
                      <a:pt x="340" y="1974"/>
                    </a:lnTo>
                    <a:lnTo>
                      <a:pt x="341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7840" y="3784680"/>
                <a:ext cx="92160" cy="1036440"/>
              </a:xfrm>
              <a:custGeom>
                <a:avLst/>
                <a:gdLst/>
                <a:ahLst/>
                <a:rect l="l" t="t" r="r" b="b"/>
                <a:pathLst>
                  <a:path w="345" h="3915">
                    <a:moveTo>
                      <a:pt x="345" y="1842"/>
                    </a:moveTo>
                    <a:lnTo>
                      <a:pt x="344" y="1723"/>
                    </a:lnTo>
                    <a:lnTo>
                      <a:pt x="342" y="1606"/>
                    </a:lnTo>
                    <a:lnTo>
                      <a:pt x="338" y="1488"/>
                    </a:lnTo>
                    <a:lnTo>
                      <a:pt x="332" y="1371"/>
                    </a:lnTo>
                    <a:lnTo>
                      <a:pt x="325" y="1254"/>
                    </a:lnTo>
                    <a:lnTo>
                      <a:pt x="317" y="1138"/>
                    </a:lnTo>
                    <a:lnTo>
                      <a:pt x="307" y="1023"/>
                    </a:lnTo>
                    <a:lnTo>
                      <a:pt x="295" y="906"/>
                    </a:lnTo>
                    <a:lnTo>
                      <a:pt x="282" y="792"/>
                    </a:lnTo>
                    <a:lnTo>
                      <a:pt x="268" y="677"/>
                    </a:lnTo>
                    <a:lnTo>
                      <a:pt x="252" y="564"/>
                    </a:lnTo>
                    <a:lnTo>
                      <a:pt x="234" y="450"/>
                    </a:lnTo>
                    <a:lnTo>
                      <a:pt x="215" y="337"/>
                    </a:lnTo>
                    <a:lnTo>
                      <a:pt x="194" y="224"/>
                    </a:lnTo>
                    <a:lnTo>
                      <a:pt x="173" y="112"/>
                    </a:lnTo>
                    <a:lnTo>
                      <a:pt x="149" y="0"/>
                    </a:lnTo>
                    <a:lnTo>
                      <a:pt x="97" y="0"/>
                    </a:lnTo>
                    <a:lnTo>
                      <a:pt x="54" y="0"/>
                    </a:lnTo>
                    <a:lnTo>
                      <a:pt x="77" y="112"/>
                    </a:lnTo>
                    <a:lnTo>
                      <a:pt x="99" y="224"/>
                    </a:lnTo>
                    <a:lnTo>
                      <a:pt x="120" y="337"/>
                    </a:lnTo>
                    <a:lnTo>
                      <a:pt x="140" y="450"/>
                    </a:lnTo>
                    <a:lnTo>
                      <a:pt x="157" y="563"/>
                    </a:lnTo>
                    <a:lnTo>
                      <a:pt x="173" y="677"/>
                    </a:lnTo>
                    <a:lnTo>
                      <a:pt x="188" y="792"/>
                    </a:lnTo>
                    <a:lnTo>
                      <a:pt x="202" y="906"/>
                    </a:lnTo>
                    <a:lnTo>
                      <a:pt x="214" y="1021"/>
                    </a:lnTo>
                    <a:lnTo>
                      <a:pt x="224" y="1138"/>
                    </a:lnTo>
                    <a:lnTo>
                      <a:pt x="232" y="1254"/>
                    </a:lnTo>
                    <a:lnTo>
                      <a:pt x="239" y="1371"/>
                    </a:lnTo>
                    <a:lnTo>
                      <a:pt x="245" y="1488"/>
                    </a:lnTo>
                    <a:lnTo>
                      <a:pt x="249" y="1606"/>
                    </a:lnTo>
                    <a:lnTo>
                      <a:pt x="252" y="1723"/>
                    </a:lnTo>
                    <a:lnTo>
                      <a:pt x="252" y="1842"/>
                    </a:lnTo>
                    <a:lnTo>
                      <a:pt x="250" y="1976"/>
                    </a:lnTo>
                    <a:lnTo>
                      <a:pt x="248" y="2108"/>
                    </a:lnTo>
                    <a:lnTo>
                      <a:pt x="242" y="2242"/>
                    </a:lnTo>
                    <a:lnTo>
                      <a:pt x="235" y="2374"/>
                    </a:lnTo>
                    <a:lnTo>
                      <a:pt x="226" y="2506"/>
                    </a:lnTo>
                    <a:lnTo>
                      <a:pt x="216" y="2636"/>
                    </a:lnTo>
                    <a:lnTo>
                      <a:pt x="203" y="2768"/>
                    </a:lnTo>
                    <a:lnTo>
                      <a:pt x="188" y="2897"/>
                    </a:lnTo>
                    <a:lnTo>
                      <a:pt x="171" y="3027"/>
                    </a:lnTo>
                    <a:lnTo>
                      <a:pt x="152" y="3155"/>
                    </a:lnTo>
                    <a:lnTo>
                      <a:pt x="132" y="3284"/>
                    </a:lnTo>
                    <a:lnTo>
                      <a:pt x="109" y="3411"/>
                    </a:lnTo>
                    <a:lnTo>
                      <a:pt x="84" y="3538"/>
                    </a:lnTo>
                    <a:lnTo>
                      <a:pt x="58" y="3665"/>
                    </a:lnTo>
                    <a:lnTo>
                      <a:pt x="30" y="3790"/>
                    </a:lnTo>
                    <a:lnTo>
                      <a:pt x="0" y="3915"/>
                    </a:lnTo>
                    <a:lnTo>
                      <a:pt x="60" y="3906"/>
                    </a:lnTo>
                    <a:lnTo>
                      <a:pt x="101" y="3897"/>
                    </a:lnTo>
                    <a:lnTo>
                      <a:pt x="129" y="3774"/>
                    </a:lnTo>
                    <a:lnTo>
                      <a:pt x="157" y="3650"/>
                    </a:lnTo>
                    <a:lnTo>
                      <a:pt x="182" y="3524"/>
                    </a:lnTo>
                    <a:lnTo>
                      <a:pt x="207" y="3398"/>
                    </a:lnTo>
                    <a:lnTo>
                      <a:pt x="227" y="3272"/>
                    </a:lnTo>
                    <a:lnTo>
                      <a:pt x="248" y="3145"/>
                    </a:lnTo>
                    <a:lnTo>
                      <a:pt x="267" y="3017"/>
                    </a:lnTo>
                    <a:lnTo>
                      <a:pt x="283" y="2889"/>
                    </a:lnTo>
                    <a:lnTo>
                      <a:pt x="298" y="2760"/>
                    </a:lnTo>
                    <a:lnTo>
                      <a:pt x="309" y="2629"/>
                    </a:lnTo>
                    <a:lnTo>
                      <a:pt x="321" y="2500"/>
                    </a:lnTo>
                    <a:lnTo>
                      <a:pt x="329" y="2369"/>
                    </a:lnTo>
                    <a:lnTo>
                      <a:pt x="336" y="2239"/>
                    </a:lnTo>
                    <a:lnTo>
                      <a:pt x="342" y="2106"/>
                    </a:lnTo>
                    <a:lnTo>
                      <a:pt x="344" y="1975"/>
                    </a:lnTo>
                    <a:lnTo>
                      <a:pt x="345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45240" y="3784680"/>
                <a:ext cx="92160" cy="1038240"/>
              </a:xfrm>
              <a:custGeom>
                <a:avLst/>
                <a:gdLst/>
                <a:ahLst/>
                <a:rect l="l" t="t" r="r" b="b"/>
                <a:pathLst>
                  <a:path w="348" h="3923">
                    <a:moveTo>
                      <a:pt x="348" y="1842"/>
                    </a:moveTo>
                    <a:lnTo>
                      <a:pt x="347" y="1723"/>
                    </a:lnTo>
                    <a:lnTo>
                      <a:pt x="344" y="1606"/>
                    </a:lnTo>
                    <a:lnTo>
                      <a:pt x="340" y="1488"/>
                    </a:lnTo>
                    <a:lnTo>
                      <a:pt x="335" y="1371"/>
                    </a:lnTo>
                    <a:lnTo>
                      <a:pt x="328" y="1254"/>
                    </a:lnTo>
                    <a:lnTo>
                      <a:pt x="319" y="1138"/>
                    </a:lnTo>
                    <a:lnTo>
                      <a:pt x="309" y="1023"/>
                    </a:lnTo>
                    <a:lnTo>
                      <a:pt x="297" y="906"/>
                    </a:lnTo>
                    <a:lnTo>
                      <a:pt x="284" y="792"/>
                    </a:lnTo>
                    <a:lnTo>
                      <a:pt x="269" y="677"/>
                    </a:lnTo>
                    <a:lnTo>
                      <a:pt x="253" y="563"/>
                    </a:lnTo>
                    <a:lnTo>
                      <a:pt x="236" y="450"/>
                    </a:lnTo>
                    <a:lnTo>
                      <a:pt x="216" y="337"/>
                    </a:lnTo>
                    <a:lnTo>
                      <a:pt x="196" y="224"/>
                    </a:lnTo>
                    <a:lnTo>
                      <a:pt x="174" y="112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72" y="0"/>
                    </a:lnTo>
                    <a:lnTo>
                      <a:pt x="55" y="0"/>
                    </a:lnTo>
                    <a:lnTo>
                      <a:pt x="79" y="112"/>
                    </a:lnTo>
                    <a:lnTo>
                      <a:pt x="101" y="224"/>
                    </a:lnTo>
                    <a:lnTo>
                      <a:pt x="122" y="337"/>
                    </a:lnTo>
                    <a:lnTo>
                      <a:pt x="141" y="450"/>
                    </a:lnTo>
                    <a:lnTo>
                      <a:pt x="159" y="563"/>
                    </a:lnTo>
                    <a:lnTo>
                      <a:pt x="175" y="677"/>
                    </a:lnTo>
                    <a:lnTo>
                      <a:pt x="190" y="792"/>
                    </a:lnTo>
                    <a:lnTo>
                      <a:pt x="204" y="906"/>
                    </a:lnTo>
                    <a:lnTo>
                      <a:pt x="215" y="1021"/>
                    </a:lnTo>
                    <a:lnTo>
                      <a:pt x="226" y="1138"/>
                    </a:lnTo>
                    <a:lnTo>
                      <a:pt x="235" y="1254"/>
                    </a:lnTo>
                    <a:lnTo>
                      <a:pt x="242" y="1371"/>
                    </a:lnTo>
                    <a:lnTo>
                      <a:pt x="248" y="1488"/>
                    </a:lnTo>
                    <a:lnTo>
                      <a:pt x="251" y="1606"/>
                    </a:lnTo>
                    <a:lnTo>
                      <a:pt x="253" y="1723"/>
                    </a:lnTo>
                    <a:lnTo>
                      <a:pt x="254" y="1842"/>
                    </a:lnTo>
                    <a:lnTo>
                      <a:pt x="253" y="1976"/>
                    </a:lnTo>
                    <a:lnTo>
                      <a:pt x="250" y="2110"/>
                    </a:lnTo>
                    <a:lnTo>
                      <a:pt x="245" y="2243"/>
                    </a:lnTo>
                    <a:lnTo>
                      <a:pt x="238" y="2376"/>
                    </a:lnTo>
                    <a:lnTo>
                      <a:pt x="229" y="2508"/>
                    </a:lnTo>
                    <a:lnTo>
                      <a:pt x="218" y="2640"/>
                    </a:lnTo>
                    <a:lnTo>
                      <a:pt x="204" y="2771"/>
                    </a:lnTo>
                    <a:lnTo>
                      <a:pt x="189" y="2901"/>
                    </a:lnTo>
                    <a:lnTo>
                      <a:pt x="173" y="3032"/>
                    </a:lnTo>
                    <a:lnTo>
                      <a:pt x="153" y="3161"/>
                    </a:lnTo>
                    <a:lnTo>
                      <a:pt x="132" y="3290"/>
                    </a:lnTo>
                    <a:lnTo>
                      <a:pt x="109" y="3417"/>
                    </a:lnTo>
                    <a:lnTo>
                      <a:pt x="85" y="3545"/>
                    </a:lnTo>
                    <a:lnTo>
                      <a:pt x="58" y="3672"/>
                    </a:lnTo>
                    <a:lnTo>
                      <a:pt x="30" y="3797"/>
                    </a:lnTo>
                    <a:lnTo>
                      <a:pt x="0" y="3923"/>
                    </a:lnTo>
                    <a:lnTo>
                      <a:pt x="100" y="3907"/>
                    </a:lnTo>
                    <a:lnTo>
                      <a:pt x="129" y="3782"/>
                    </a:lnTo>
                    <a:lnTo>
                      <a:pt x="156" y="3658"/>
                    </a:lnTo>
                    <a:lnTo>
                      <a:pt x="182" y="3531"/>
                    </a:lnTo>
                    <a:lnTo>
                      <a:pt x="206" y="3405"/>
                    </a:lnTo>
                    <a:lnTo>
                      <a:pt x="229" y="3278"/>
                    </a:lnTo>
                    <a:lnTo>
                      <a:pt x="249" y="3150"/>
                    </a:lnTo>
                    <a:lnTo>
                      <a:pt x="267" y="3021"/>
                    </a:lnTo>
                    <a:lnTo>
                      <a:pt x="284" y="2893"/>
                    </a:lnTo>
                    <a:lnTo>
                      <a:pt x="298" y="2763"/>
                    </a:lnTo>
                    <a:lnTo>
                      <a:pt x="312" y="2633"/>
                    </a:lnTo>
                    <a:lnTo>
                      <a:pt x="323" y="2503"/>
                    </a:lnTo>
                    <a:lnTo>
                      <a:pt x="332" y="2371"/>
                    </a:lnTo>
                    <a:lnTo>
                      <a:pt x="339" y="2240"/>
                    </a:lnTo>
                    <a:lnTo>
                      <a:pt x="343" y="2107"/>
                    </a:lnTo>
                    <a:lnTo>
                      <a:pt x="347" y="1975"/>
                    </a:lnTo>
                    <a:lnTo>
                      <a:pt x="348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30840" y="3784680"/>
                <a:ext cx="93600" cy="1039680"/>
              </a:xfrm>
              <a:custGeom>
                <a:avLst/>
                <a:gdLst/>
                <a:ahLst/>
                <a:rect l="l" t="t" r="r" b="b"/>
                <a:pathLst>
                  <a:path w="351" h="3931">
                    <a:moveTo>
                      <a:pt x="351" y="1842"/>
                    </a:moveTo>
                    <a:lnTo>
                      <a:pt x="351" y="1723"/>
                    </a:lnTo>
                    <a:lnTo>
                      <a:pt x="348" y="1606"/>
                    </a:lnTo>
                    <a:lnTo>
                      <a:pt x="344" y="1488"/>
                    </a:lnTo>
                    <a:lnTo>
                      <a:pt x="338" y="1371"/>
                    </a:lnTo>
                    <a:lnTo>
                      <a:pt x="331" y="1254"/>
                    </a:lnTo>
                    <a:lnTo>
                      <a:pt x="323" y="1138"/>
                    </a:lnTo>
                    <a:lnTo>
                      <a:pt x="313" y="1021"/>
                    </a:lnTo>
                    <a:lnTo>
                      <a:pt x="301" y="906"/>
                    </a:lnTo>
                    <a:lnTo>
                      <a:pt x="287" y="792"/>
                    </a:lnTo>
                    <a:lnTo>
                      <a:pt x="272" y="677"/>
                    </a:lnTo>
                    <a:lnTo>
                      <a:pt x="256" y="563"/>
                    </a:lnTo>
                    <a:lnTo>
                      <a:pt x="239" y="450"/>
                    </a:lnTo>
                    <a:lnTo>
                      <a:pt x="219" y="337"/>
                    </a:lnTo>
                    <a:lnTo>
                      <a:pt x="198" y="224"/>
                    </a:lnTo>
                    <a:lnTo>
                      <a:pt x="176" y="112"/>
                    </a:lnTo>
                    <a:lnTo>
                      <a:pt x="153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81" y="112"/>
                    </a:lnTo>
                    <a:lnTo>
                      <a:pt x="104" y="224"/>
                    </a:lnTo>
                    <a:lnTo>
                      <a:pt x="125" y="337"/>
                    </a:lnTo>
                    <a:lnTo>
                      <a:pt x="144" y="450"/>
                    </a:lnTo>
                    <a:lnTo>
                      <a:pt x="161" y="563"/>
                    </a:lnTo>
                    <a:lnTo>
                      <a:pt x="179" y="677"/>
                    </a:lnTo>
                    <a:lnTo>
                      <a:pt x="194" y="791"/>
                    </a:lnTo>
                    <a:lnTo>
                      <a:pt x="206" y="906"/>
                    </a:lnTo>
                    <a:lnTo>
                      <a:pt x="218" y="1021"/>
                    </a:lnTo>
                    <a:lnTo>
                      <a:pt x="228" y="1138"/>
                    </a:lnTo>
                    <a:lnTo>
                      <a:pt x="238" y="1254"/>
                    </a:lnTo>
                    <a:lnTo>
                      <a:pt x="244" y="1371"/>
                    </a:lnTo>
                    <a:lnTo>
                      <a:pt x="250" y="1488"/>
                    </a:lnTo>
                    <a:lnTo>
                      <a:pt x="255" y="1606"/>
                    </a:lnTo>
                    <a:lnTo>
                      <a:pt x="257" y="1723"/>
                    </a:lnTo>
                    <a:lnTo>
                      <a:pt x="258" y="1842"/>
                    </a:lnTo>
                    <a:lnTo>
                      <a:pt x="257" y="1977"/>
                    </a:lnTo>
                    <a:lnTo>
                      <a:pt x="254" y="2111"/>
                    </a:lnTo>
                    <a:lnTo>
                      <a:pt x="248" y="2246"/>
                    </a:lnTo>
                    <a:lnTo>
                      <a:pt x="241" y="2378"/>
                    </a:lnTo>
                    <a:lnTo>
                      <a:pt x="232" y="2511"/>
                    </a:lnTo>
                    <a:lnTo>
                      <a:pt x="220" y="2643"/>
                    </a:lnTo>
                    <a:lnTo>
                      <a:pt x="208" y="2775"/>
                    </a:lnTo>
                    <a:lnTo>
                      <a:pt x="191" y="2906"/>
                    </a:lnTo>
                    <a:lnTo>
                      <a:pt x="174" y="3036"/>
                    </a:lnTo>
                    <a:lnTo>
                      <a:pt x="156" y="3165"/>
                    </a:lnTo>
                    <a:lnTo>
                      <a:pt x="134" y="3295"/>
                    </a:lnTo>
                    <a:lnTo>
                      <a:pt x="111" y="3424"/>
                    </a:lnTo>
                    <a:lnTo>
                      <a:pt x="85" y="3552"/>
                    </a:lnTo>
                    <a:lnTo>
                      <a:pt x="59" y="3678"/>
                    </a:lnTo>
                    <a:lnTo>
                      <a:pt x="30" y="3805"/>
                    </a:lnTo>
                    <a:lnTo>
                      <a:pt x="0" y="3931"/>
                    </a:lnTo>
                    <a:lnTo>
                      <a:pt x="99" y="3915"/>
                    </a:lnTo>
                    <a:lnTo>
                      <a:pt x="129" y="3790"/>
                    </a:lnTo>
                    <a:lnTo>
                      <a:pt x="157" y="3665"/>
                    </a:lnTo>
                    <a:lnTo>
                      <a:pt x="183" y="3538"/>
                    </a:lnTo>
                    <a:lnTo>
                      <a:pt x="208" y="3411"/>
                    </a:lnTo>
                    <a:lnTo>
                      <a:pt x="231" y="3284"/>
                    </a:lnTo>
                    <a:lnTo>
                      <a:pt x="251" y="3155"/>
                    </a:lnTo>
                    <a:lnTo>
                      <a:pt x="270" y="3027"/>
                    </a:lnTo>
                    <a:lnTo>
                      <a:pt x="287" y="2897"/>
                    </a:lnTo>
                    <a:lnTo>
                      <a:pt x="302" y="2768"/>
                    </a:lnTo>
                    <a:lnTo>
                      <a:pt x="315" y="2636"/>
                    </a:lnTo>
                    <a:lnTo>
                      <a:pt x="325" y="2506"/>
                    </a:lnTo>
                    <a:lnTo>
                      <a:pt x="334" y="2374"/>
                    </a:lnTo>
                    <a:lnTo>
                      <a:pt x="341" y="2242"/>
                    </a:lnTo>
                    <a:lnTo>
                      <a:pt x="347" y="2108"/>
                    </a:lnTo>
                    <a:lnTo>
                      <a:pt x="349" y="1976"/>
                    </a:lnTo>
                    <a:lnTo>
                      <a:pt x="351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18240" y="3784680"/>
                <a:ext cx="93600" cy="1041480"/>
              </a:xfrm>
              <a:custGeom>
                <a:avLst/>
                <a:gdLst/>
                <a:ahLst/>
                <a:rect l="l" t="t" r="r" b="b"/>
                <a:pathLst>
                  <a:path w="354" h="3938">
                    <a:moveTo>
                      <a:pt x="354" y="1842"/>
                    </a:moveTo>
                    <a:lnTo>
                      <a:pt x="353" y="1723"/>
                    </a:lnTo>
                    <a:lnTo>
                      <a:pt x="351" y="1606"/>
                    </a:lnTo>
                    <a:lnTo>
                      <a:pt x="348" y="1488"/>
                    </a:lnTo>
                    <a:lnTo>
                      <a:pt x="342" y="1371"/>
                    </a:lnTo>
                    <a:lnTo>
                      <a:pt x="335" y="1254"/>
                    </a:lnTo>
                    <a:lnTo>
                      <a:pt x="326" y="1138"/>
                    </a:lnTo>
                    <a:lnTo>
                      <a:pt x="315" y="1021"/>
                    </a:lnTo>
                    <a:lnTo>
                      <a:pt x="304" y="906"/>
                    </a:lnTo>
                    <a:lnTo>
                      <a:pt x="290" y="792"/>
                    </a:lnTo>
                    <a:lnTo>
                      <a:pt x="275" y="677"/>
                    </a:lnTo>
                    <a:lnTo>
                      <a:pt x="259" y="563"/>
                    </a:lnTo>
                    <a:lnTo>
                      <a:pt x="241" y="450"/>
                    </a:lnTo>
                    <a:lnTo>
                      <a:pt x="222" y="337"/>
                    </a:lnTo>
                    <a:lnTo>
                      <a:pt x="201" y="224"/>
                    </a:lnTo>
                    <a:lnTo>
                      <a:pt x="179" y="112"/>
                    </a:lnTo>
                    <a:lnTo>
                      <a:pt x="155" y="0"/>
                    </a:lnTo>
                    <a:lnTo>
                      <a:pt x="60" y="0"/>
                    </a:lnTo>
                    <a:lnTo>
                      <a:pt x="83" y="112"/>
                    </a:lnTo>
                    <a:lnTo>
                      <a:pt x="106" y="224"/>
                    </a:lnTo>
                    <a:lnTo>
                      <a:pt x="127" y="335"/>
                    </a:lnTo>
                    <a:lnTo>
                      <a:pt x="147" y="450"/>
                    </a:lnTo>
                    <a:lnTo>
                      <a:pt x="165" y="563"/>
                    </a:lnTo>
                    <a:lnTo>
                      <a:pt x="181" y="677"/>
                    </a:lnTo>
                    <a:lnTo>
                      <a:pt x="196" y="791"/>
                    </a:lnTo>
                    <a:lnTo>
                      <a:pt x="210" y="906"/>
                    </a:lnTo>
                    <a:lnTo>
                      <a:pt x="222" y="1021"/>
                    </a:lnTo>
                    <a:lnTo>
                      <a:pt x="232" y="1138"/>
                    </a:lnTo>
                    <a:lnTo>
                      <a:pt x="241" y="1254"/>
                    </a:lnTo>
                    <a:lnTo>
                      <a:pt x="248" y="1371"/>
                    </a:lnTo>
                    <a:lnTo>
                      <a:pt x="254" y="1488"/>
                    </a:lnTo>
                    <a:lnTo>
                      <a:pt x="258" y="1606"/>
                    </a:lnTo>
                    <a:lnTo>
                      <a:pt x="260" y="1723"/>
                    </a:lnTo>
                    <a:lnTo>
                      <a:pt x="261" y="1842"/>
                    </a:lnTo>
                    <a:lnTo>
                      <a:pt x="260" y="1977"/>
                    </a:lnTo>
                    <a:lnTo>
                      <a:pt x="256" y="2112"/>
                    </a:lnTo>
                    <a:lnTo>
                      <a:pt x="252" y="2247"/>
                    </a:lnTo>
                    <a:lnTo>
                      <a:pt x="245" y="2380"/>
                    </a:lnTo>
                    <a:lnTo>
                      <a:pt x="235" y="2514"/>
                    </a:lnTo>
                    <a:lnTo>
                      <a:pt x="223" y="2647"/>
                    </a:lnTo>
                    <a:lnTo>
                      <a:pt x="210" y="2778"/>
                    </a:lnTo>
                    <a:lnTo>
                      <a:pt x="194" y="2910"/>
                    </a:lnTo>
                    <a:lnTo>
                      <a:pt x="177" y="3041"/>
                    </a:lnTo>
                    <a:lnTo>
                      <a:pt x="157" y="3171"/>
                    </a:lnTo>
                    <a:lnTo>
                      <a:pt x="136" y="3300"/>
                    </a:lnTo>
                    <a:lnTo>
                      <a:pt x="112" y="3429"/>
                    </a:lnTo>
                    <a:lnTo>
                      <a:pt x="87" y="3557"/>
                    </a:lnTo>
                    <a:lnTo>
                      <a:pt x="60" y="3685"/>
                    </a:lnTo>
                    <a:lnTo>
                      <a:pt x="30" y="3812"/>
                    </a:lnTo>
                    <a:lnTo>
                      <a:pt x="0" y="3938"/>
                    </a:lnTo>
                    <a:lnTo>
                      <a:pt x="100" y="3923"/>
                    </a:lnTo>
                    <a:lnTo>
                      <a:pt x="130" y="3797"/>
                    </a:lnTo>
                    <a:lnTo>
                      <a:pt x="158" y="3672"/>
                    </a:lnTo>
                    <a:lnTo>
                      <a:pt x="185" y="3545"/>
                    </a:lnTo>
                    <a:lnTo>
                      <a:pt x="209" y="3417"/>
                    </a:lnTo>
                    <a:lnTo>
                      <a:pt x="232" y="3290"/>
                    </a:lnTo>
                    <a:lnTo>
                      <a:pt x="253" y="3161"/>
                    </a:lnTo>
                    <a:lnTo>
                      <a:pt x="273" y="3032"/>
                    </a:lnTo>
                    <a:lnTo>
                      <a:pt x="289" y="2901"/>
                    </a:lnTo>
                    <a:lnTo>
                      <a:pt x="304" y="2771"/>
                    </a:lnTo>
                    <a:lnTo>
                      <a:pt x="318" y="2640"/>
                    </a:lnTo>
                    <a:lnTo>
                      <a:pt x="329" y="2508"/>
                    </a:lnTo>
                    <a:lnTo>
                      <a:pt x="338" y="2376"/>
                    </a:lnTo>
                    <a:lnTo>
                      <a:pt x="345" y="2243"/>
                    </a:lnTo>
                    <a:lnTo>
                      <a:pt x="350" y="2110"/>
                    </a:lnTo>
                    <a:lnTo>
                      <a:pt x="353" y="1976"/>
                    </a:lnTo>
                    <a:lnTo>
                      <a:pt x="354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05640" y="3784680"/>
                <a:ext cx="95040" cy="1042920"/>
              </a:xfrm>
              <a:custGeom>
                <a:avLst/>
                <a:gdLst/>
                <a:ahLst/>
                <a:rect l="l" t="t" r="r" b="b"/>
                <a:pathLst>
                  <a:path w="357" h="3942">
                    <a:moveTo>
                      <a:pt x="357" y="1842"/>
                    </a:moveTo>
                    <a:lnTo>
                      <a:pt x="356" y="1723"/>
                    </a:lnTo>
                    <a:lnTo>
                      <a:pt x="354" y="1606"/>
                    </a:lnTo>
                    <a:lnTo>
                      <a:pt x="349" y="1488"/>
                    </a:lnTo>
                    <a:lnTo>
                      <a:pt x="343" y="1371"/>
                    </a:lnTo>
                    <a:lnTo>
                      <a:pt x="337" y="1254"/>
                    </a:lnTo>
                    <a:lnTo>
                      <a:pt x="327" y="1138"/>
                    </a:lnTo>
                    <a:lnTo>
                      <a:pt x="317" y="1021"/>
                    </a:lnTo>
                    <a:lnTo>
                      <a:pt x="305" y="906"/>
                    </a:lnTo>
                    <a:lnTo>
                      <a:pt x="293" y="791"/>
                    </a:lnTo>
                    <a:lnTo>
                      <a:pt x="278" y="677"/>
                    </a:lnTo>
                    <a:lnTo>
                      <a:pt x="260" y="563"/>
                    </a:lnTo>
                    <a:lnTo>
                      <a:pt x="243" y="450"/>
                    </a:lnTo>
                    <a:lnTo>
                      <a:pt x="224" y="337"/>
                    </a:lnTo>
                    <a:lnTo>
                      <a:pt x="203" y="224"/>
                    </a:lnTo>
                    <a:lnTo>
                      <a:pt x="181" y="112"/>
                    </a:lnTo>
                    <a:lnTo>
                      <a:pt x="157" y="0"/>
                    </a:lnTo>
                    <a:lnTo>
                      <a:pt x="104" y="0"/>
                    </a:lnTo>
                    <a:lnTo>
                      <a:pt x="61" y="0"/>
                    </a:lnTo>
                    <a:lnTo>
                      <a:pt x="85" y="112"/>
                    </a:lnTo>
                    <a:lnTo>
                      <a:pt x="108" y="224"/>
                    </a:lnTo>
                    <a:lnTo>
                      <a:pt x="129" y="335"/>
                    </a:lnTo>
                    <a:lnTo>
                      <a:pt x="149" y="450"/>
                    </a:lnTo>
                    <a:lnTo>
                      <a:pt x="167" y="563"/>
                    </a:lnTo>
                    <a:lnTo>
                      <a:pt x="183" y="677"/>
                    </a:lnTo>
                    <a:lnTo>
                      <a:pt x="198" y="791"/>
                    </a:lnTo>
                    <a:lnTo>
                      <a:pt x="212" y="906"/>
                    </a:lnTo>
                    <a:lnTo>
                      <a:pt x="224" y="1021"/>
                    </a:lnTo>
                    <a:lnTo>
                      <a:pt x="234" y="1138"/>
                    </a:lnTo>
                    <a:lnTo>
                      <a:pt x="243" y="1254"/>
                    </a:lnTo>
                    <a:lnTo>
                      <a:pt x="250" y="1371"/>
                    </a:lnTo>
                    <a:lnTo>
                      <a:pt x="256" y="1488"/>
                    </a:lnTo>
                    <a:lnTo>
                      <a:pt x="260" y="1606"/>
                    </a:lnTo>
                    <a:lnTo>
                      <a:pt x="263" y="1723"/>
                    </a:lnTo>
                    <a:lnTo>
                      <a:pt x="264" y="1842"/>
                    </a:lnTo>
                    <a:lnTo>
                      <a:pt x="263" y="1978"/>
                    </a:lnTo>
                    <a:lnTo>
                      <a:pt x="259" y="2113"/>
                    </a:lnTo>
                    <a:lnTo>
                      <a:pt x="254" y="2248"/>
                    </a:lnTo>
                    <a:lnTo>
                      <a:pt x="247" y="2382"/>
                    </a:lnTo>
                    <a:lnTo>
                      <a:pt x="237" y="2515"/>
                    </a:lnTo>
                    <a:lnTo>
                      <a:pt x="226" y="2648"/>
                    </a:lnTo>
                    <a:lnTo>
                      <a:pt x="212" y="2780"/>
                    </a:lnTo>
                    <a:lnTo>
                      <a:pt x="196" y="2912"/>
                    </a:lnTo>
                    <a:lnTo>
                      <a:pt x="179" y="3043"/>
                    </a:lnTo>
                    <a:lnTo>
                      <a:pt x="159" y="3174"/>
                    </a:lnTo>
                    <a:lnTo>
                      <a:pt x="137" y="3304"/>
                    </a:lnTo>
                    <a:lnTo>
                      <a:pt x="114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26" y="3942"/>
                    </a:lnTo>
                    <a:lnTo>
                      <a:pt x="99" y="3931"/>
                    </a:lnTo>
                    <a:lnTo>
                      <a:pt x="129" y="3805"/>
                    </a:lnTo>
                    <a:lnTo>
                      <a:pt x="158" y="3678"/>
                    </a:lnTo>
                    <a:lnTo>
                      <a:pt x="184" y="3552"/>
                    </a:lnTo>
                    <a:lnTo>
                      <a:pt x="210" y="3424"/>
                    </a:lnTo>
                    <a:lnTo>
                      <a:pt x="233" y="3295"/>
                    </a:lnTo>
                    <a:lnTo>
                      <a:pt x="255" y="3165"/>
                    </a:lnTo>
                    <a:lnTo>
                      <a:pt x="273" y="3036"/>
                    </a:lnTo>
                    <a:lnTo>
                      <a:pt x="290" y="2906"/>
                    </a:lnTo>
                    <a:lnTo>
                      <a:pt x="307" y="2775"/>
                    </a:lnTo>
                    <a:lnTo>
                      <a:pt x="319" y="2643"/>
                    </a:lnTo>
                    <a:lnTo>
                      <a:pt x="331" y="2511"/>
                    </a:lnTo>
                    <a:lnTo>
                      <a:pt x="340" y="2378"/>
                    </a:lnTo>
                    <a:lnTo>
                      <a:pt x="347" y="2246"/>
                    </a:lnTo>
                    <a:lnTo>
                      <a:pt x="353" y="2111"/>
                    </a:lnTo>
                    <a:lnTo>
                      <a:pt x="356" y="1977"/>
                    </a:lnTo>
                    <a:lnTo>
                      <a:pt x="357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9268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59" h="3942">
                    <a:moveTo>
                      <a:pt x="359" y="1842"/>
                    </a:moveTo>
                    <a:lnTo>
                      <a:pt x="358" y="1723"/>
                    </a:lnTo>
                    <a:lnTo>
                      <a:pt x="356" y="1606"/>
                    </a:lnTo>
                    <a:lnTo>
                      <a:pt x="352" y="1488"/>
                    </a:lnTo>
                    <a:lnTo>
                      <a:pt x="346" y="1371"/>
                    </a:lnTo>
                    <a:lnTo>
                      <a:pt x="339" y="1254"/>
                    </a:lnTo>
                    <a:lnTo>
                      <a:pt x="330" y="1138"/>
                    </a:lnTo>
                    <a:lnTo>
                      <a:pt x="320" y="1021"/>
                    </a:lnTo>
                    <a:lnTo>
                      <a:pt x="308" y="906"/>
                    </a:lnTo>
                    <a:lnTo>
                      <a:pt x="294" y="791"/>
                    </a:lnTo>
                    <a:lnTo>
                      <a:pt x="279" y="677"/>
                    </a:lnTo>
                    <a:lnTo>
                      <a:pt x="262" y="563"/>
                    </a:lnTo>
                    <a:lnTo>
                      <a:pt x="245" y="450"/>
                    </a:lnTo>
                    <a:lnTo>
                      <a:pt x="225" y="335"/>
                    </a:lnTo>
                    <a:lnTo>
                      <a:pt x="204" y="224"/>
                    </a:lnTo>
                    <a:lnTo>
                      <a:pt x="181" y="112"/>
                    </a:lnTo>
                    <a:lnTo>
                      <a:pt x="158" y="0"/>
                    </a:lnTo>
                    <a:lnTo>
                      <a:pt x="153" y="0"/>
                    </a:lnTo>
                    <a:lnTo>
                      <a:pt x="63" y="0"/>
                    </a:lnTo>
                    <a:lnTo>
                      <a:pt x="87" y="112"/>
                    </a:lnTo>
                    <a:lnTo>
                      <a:pt x="109" y="224"/>
                    </a:lnTo>
                    <a:lnTo>
                      <a:pt x="131" y="335"/>
                    </a:lnTo>
                    <a:lnTo>
                      <a:pt x="150" y="448"/>
                    </a:lnTo>
                    <a:lnTo>
                      <a:pt x="169" y="563"/>
                    </a:lnTo>
                    <a:lnTo>
                      <a:pt x="185" y="677"/>
                    </a:lnTo>
                    <a:lnTo>
                      <a:pt x="200" y="791"/>
                    </a:lnTo>
                    <a:lnTo>
                      <a:pt x="214" y="906"/>
                    </a:lnTo>
                    <a:lnTo>
                      <a:pt x="226" y="1021"/>
                    </a:lnTo>
                    <a:lnTo>
                      <a:pt x="237" y="1138"/>
                    </a:lnTo>
                    <a:lnTo>
                      <a:pt x="245" y="1254"/>
                    </a:lnTo>
                    <a:lnTo>
                      <a:pt x="253" y="1371"/>
                    </a:lnTo>
                    <a:lnTo>
                      <a:pt x="259" y="1488"/>
                    </a:lnTo>
                    <a:lnTo>
                      <a:pt x="262" y="1606"/>
                    </a:lnTo>
                    <a:lnTo>
                      <a:pt x="266" y="1723"/>
                    </a:lnTo>
                    <a:lnTo>
                      <a:pt x="266" y="1842"/>
                    </a:lnTo>
                    <a:lnTo>
                      <a:pt x="264" y="1978"/>
                    </a:lnTo>
                    <a:lnTo>
                      <a:pt x="262" y="2113"/>
                    </a:lnTo>
                    <a:lnTo>
                      <a:pt x="256" y="2248"/>
                    </a:lnTo>
                    <a:lnTo>
                      <a:pt x="248" y="2382"/>
                    </a:lnTo>
                    <a:lnTo>
                      <a:pt x="239" y="2515"/>
                    </a:lnTo>
                    <a:lnTo>
                      <a:pt x="228" y="2648"/>
                    </a:lnTo>
                    <a:lnTo>
                      <a:pt x="214" y="2780"/>
                    </a:lnTo>
                    <a:lnTo>
                      <a:pt x="199" y="2912"/>
                    </a:lnTo>
                    <a:lnTo>
                      <a:pt x="180" y="3043"/>
                    </a:lnTo>
                    <a:lnTo>
                      <a:pt x="161" y="3174"/>
                    </a:lnTo>
                    <a:lnTo>
                      <a:pt x="139" y="3304"/>
                    </a:lnTo>
                    <a:lnTo>
                      <a:pt x="116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3" y="3816"/>
                    </a:lnTo>
                    <a:lnTo>
                      <a:pt x="0" y="3942"/>
                    </a:lnTo>
                    <a:lnTo>
                      <a:pt x="75" y="3942"/>
                    </a:lnTo>
                    <a:lnTo>
                      <a:pt x="97" y="3938"/>
                    </a:lnTo>
                    <a:lnTo>
                      <a:pt x="128" y="3812"/>
                    </a:lnTo>
                    <a:lnTo>
                      <a:pt x="158" y="3685"/>
                    </a:lnTo>
                    <a:lnTo>
                      <a:pt x="185" y="3557"/>
                    </a:lnTo>
                    <a:lnTo>
                      <a:pt x="210" y="3429"/>
                    </a:lnTo>
                    <a:lnTo>
                      <a:pt x="233" y="3300"/>
                    </a:lnTo>
                    <a:lnTo>
                      <a:pt x="255" y="3171"/>
                    </a:lnTo>
                    <a:lnTo>
                      <a:pt x="275" y="3041"/>
                    </a:lnTo>
                    <a:lnTo>
                      <a:pt x="292" y="2910"/>
                    </a:lnTo>
                    <a:lnTo>
                      <a:pt x="308" y="2778"/>
                    </a:lnTo>
                    <a:lnTo>
                      <a:pt x="321" y="2647"/>
                    </a:lnTo>
                    <a:lnTo>
                      <a:pt x="333" y="2514"/>
                    </a:lnTo>
                    <a:lnTo>
                      <a:pt x="343" y="2380"/>
                    </a:lnTo>
                    <a:lnTo>
                      <a:pt x="350" y="2247"/>
                    </a:lnTo>
                    <a:lnTo>
                      <a:pt x="354" y="2112"/>
                    </a:lnTo>
                    <a:lnTo>
                      <a:pt x="358" y="1977"/>
                    </a:lnTo>
                    <a:lnTo>
                      <a:pt x="359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8008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60" h="3942">
                    <a:moveTo>
                      <a:pt x="360" y="1842"/>
                    </a:moveTo>
                    <a:lnTo>
                      <a:pt x="359" y="1723"/>
                    </a:lnTo>
                    <a:lnTo>
                      <a:pt x="356" y="1606"/>
                    </a:lnTo>
                    <a:lnTo>
                      <a:pt x="352" y="1488"/>
                    </a:lnTo>
                    <a:lnTo>
                      <a:pt x="346" y="1371"/>
                    </a:lnTo>
                    <a:lnTo>
                      <a:pt x="339" y="1254"/>
                    </a:lnTo>
                    <a:lnTo>
                      <a:pt x="330" y="1138"/>
                    </a:lnTo>
                    <a:lnTo>
                      <a:pt x="320" y="1021"/>
                    </a:lnTo>
                    <a:lnTo>
                      <a:pt x="308" y="906"/>
                    </a:lnTo>
                    <a:lnTo>
                      <a:pt x="294" y="791"/>
                    </a:lnTo>
                    <a:lnTo>
                      <a:pt x="279" y="677"/>
                    </a:lnTo>
                    <a:lnTo>
                      <a:pt x="263" y="563"/>
                    </a:lnTo>
                    <a:lnTo>
                      <a:pt x="245" y="450"/>
                    </a:lnTo>
                    <a:lnTo>
                      <a:pt x="225" y="335"/>
                    </a:lnTo>
                    <a:lnTo>
                      <a:pt x="204" y="224"/>
                    </a:lnTo>
                    <a:lnTo>
                      <a:pt x="181" y="112"/>
                    </a:lnTo>
                    <a:lnTo>
                      <a:pt x="157" y="0"/>
                    </a:lnTo>
                    <a:lnTo>
                      <a:pt x="85" y="0"/>
                    </a:lnTo>
                    <a:lnTo>
                      <a:pt x="62" y="0"/>
                    </a:lnTo>
                    <a:lnTo>
                      <a:pt x="87" y="112"/>
                    </a:lnTo>
                    <a:lnTo>
                      <a:pt x="108" y="224"/>
                    </a:lnTo>
                    <a:lnTo>
                      <a:pt x="130" y="335"/>
                    </a:lnTo>
                    <a:lnTo>
                      <a:pt x="150" y="448"/>
                    </a:lnTo>
                    <a:lnTo>
                      <a:pt x="168" y="563"/>
                    </a:lnTo>
                    <a:lnTo>
                      <a:pt x="186" y="677"/>
                    </a:lnTo>
                    <a:lnTo>
                      <a:pt x="201" y="791"/>
                    </a:lnTo>
                    <a:lnTo>
                      <a:pt x="215" y="906"/>
                    </a:lnTo>
                    <a:lnTo>
                      <a:pt x="226" y="1021"/>
                    </a:lnTo>
                    <a:lnTo>
                      <a:pt x="236" y="1138"/>
                    </a:lnTo>
                    <a:lnTo>
                      <a:pt x="246" y="1254"/>
                    </a:lnTo>
                    <a:lnTo>
                      <a:pt x="253" y="1371"/>
                    </a:lnTo>
                    <a:lnTo>
                      <a:pt x="258" y="1488"/>
                    </a:lnTo>
                    <a:lnTo>
                      <a:pt x="263" y="1606"/>
                    </a:lnTo>
                    <a:lnTo>
                      <a:pt x="265" y="1723"/>
                    </a:lnTo>
                    <a:lnTo>
                      <a:pt x="266" y="1842"/>
                    </a:lnTo>
                    <a:lnTo>
                      <a:pt x="265" y="1978"/>
                    </a:lnTo>
                    <a:lnTo>
                      <a:pt x="262" y="2113"/>
                    </a:lnTo>
                    <a:lnTo>
                      <a:pt x="256" y="2248"/>
                    </a:lnTo>
                    <a:lnTo>
                      <a:pt x="249" y="2382"/>
                    </a:lnTo>
                    <a:lnTo>
                      <a:pt x="240" y="2515"/>
                    </a:lnTo>
                    <a:lnTo>
                      <a:pt x="227" y="2648"/>
                    </a:lnTo>
                    <a:lnTo>
                      <a:pt x="213" y="2780"/>
                    </a:lnTo>
                    <a:lnTo>
                      <a:pt x="198" y="2912"/>
                    </a:lnTo>
                    <a:lnTo>
                      <a:pt x="180" y="3043"/>
                    </a:lnTo>
                    <a:lnTo>
                      <a:pt x="160" y="3174"/>
                    </a:lnTo>
                    <a:lnTo>
                      <a:pt x="138" y="3304"/>
                    </a:lnTo>
                    <a:lnTo>
                      <a:pt x="114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96" y="3942"/>
                    </a:lnTo>
                    <a:lnTo>
                      <a:pt x="127" y="3816"/>
                    </a:lnTo>
                    <a:lnTo>
                      <a:pt x="157" y="3689"/>
                    </a:lnTo>
                    <a:lnTo>
                      <a:pt x="185" y="3561"/>
                    </a:lnTo>
                    <a:lnTo>
                      <a:pt x="210" y="3433"/>
                    </a:lnTo>
                    <a:lnTo>
                      <a:pt x="233" y="3304"/>
                    </a:lnTo>
                    <a:lnTo>
                      <a:pt x="255" y="3174"/>
                    </a:lnTo>
                    <a:lnTo>
                      <a:pt x="275" y="3043"/>
                    </a:lnTo>
                    <a:lnTo>
                      <a:pt x="292" y="2912"/>
                    </a:lnTo>
                    <a:lnTo>
                      <a:pt x="308" y="2780"/>
                    </a:lnTo>
                    <a:lnTo>
                      <a:pt x="322" y="2648"/>
                    </a:lnTo>
                    <a:lnTo>
                      <a:pt x="333" y="2515"/>
                    </a:lnTo>
                    <a:lnTo>
                      <a:pt x="343" y="2382"/>
                    </a:lnTo>
                    <a:lnTo>
                      <a:pt x="350" y="2248"/>
                    </a:lnTo>
                    <a:lnTo>
                      <a:pt x="355" y="2113"/>
                    </a:lnTo>
                    <a:lnTo>
                      <a:pt x="359" y="1978"/>
                    </a:lnTo>
                    <a:lnTo>
                      <a:pt x="360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67480" y="3784680"/>
                <a:ext cx="95040" cy="1042920"/>
              </a:xfrm>
              <a:custGeom>
                <a:avLst/>
                <a:gdLst/>
                <a:ahLst/>
                <a:rect l="l" t="t" r="r" b="b"/>
                <a:pathLst>
                  <a:path w="361" h="3942">
                    <a:moveTo>
                      <a:pt x="361" y="1842"/>
                    </a:moveTo>
                    <a:lnTo>
                      <a:pt x="361" y="1723"/>
                    </a:lnTo>
                    <a:lnTo>
                      <a:pt x="357" y="1606"/>
                    </a:lnTo>
                    <a:lnTo>
                      <a:pt x="354" y="1488"/>
                    </a:lnTo>
                    <a:lnTo>
                      <a:pt x="348" y="1371"/>
                    </a:lnTo>
                    <a:lnTo>
                      <a:pt x="340" y="1254"/>
                    </a:lnTo>
                    <a:lnTo>
                      <a:pt x="332" y="1138"/>
                    </a:lnTo>
                    <a:lnTo>
                      <a:pt x="321" y="1021"/>
                    </a:lnTo>
                    <a:lnTo>
                      <a:pt x="309" y="906"/>
                    </a:lnTo>
                    <a:lnTo>
                      <a:pt x="295" y="791"/>
                    </a:lnTo>
                    <a:lnTo>
                      <a:pt x="280" y="677"/>
                    </a:lnTo>
                    <a:lnTo>
                      <a:pt x="264" y="563"/>
                    </a:lnTo>
                    <a:lnTo>
                      <a:pt x="245" y="448"/>
                    </a:lnTo>
                    <a:lnTo>
                      <a:pt x="226" y="335"/>
                    </a:lnTo>
                    <a:lnTo>
                      <a:pt x="204" y="224"/>
                    </a:lnTo>
                    <a:lnTo>
                      <a:pt x="182" y="112"/>
                    </a:lnTo>
                    <a:lnTo>
                      <a:pt x="158" y="0"/>
                    </a:lnTo>
                    <a:lnTo>
                      <a:pt x="133" y="0"/>
                    </a:lnTo>
                    <a:lnTo>
                      <a:pt x="62" y="0"/>
                    </a:lnTo>
                    <a:lnTo>
                      <a:pt x="86" y="112"/>
                    </a:lnTo>
                    <a:lnTo>
                      <a:pt x="109" y="224"/>
                    </a:lnTo>
                    <a:lnTo>
                      <a:pt x="131" y="335"/>
                    </a:lnTo>
                    <a:lnTo>
                      <a:pt x="151" y="448"/>
                    </a:lnTo>
                    <a:lnTo>
                      <a:pt x="169" y="563"/>
                    </a:lnTo>
                    <a:lnTo>
                      <a:pt x="186" y="677"/>
                    </a:lnTo>
                    <a:lnTo>
                      <a:pt x="201" y="791"/>
                    </a:lnTo>
                    <a:lnTo>
                      <a:pt x="215" y="906"/>
                    </a:lnTo>
                    <a:lnTo>
                      <a:pt x="227" y="1021"/>
                    </a:lnTo>
                    <a:lnTo>
                      <a:pt x="238" y="1137"/>
                    </a:lnTo>
                    <a:lnTo>
                      <a:pt x="248" y="1253"/>
                    </a:lnTo>
                    <a:lnTo>
                      <a:pt x="254" y="1371"/>
                    </a:lnTo>
                    <a:lnTo>
                      <a:pt x="260" y="1488"/>
                    </a:lnTo>
                    <a:lnTo>
                      <a:pt x="265" y="1606"/>
                    </a:lnTo>
                    <a:lnTo>
                      <a:pt x="267" y="1723"/>
                    </a:lnTo>
                    <a:lnTo>
                      <a:pt x="267" y="1842"/>
                    </a:lnTo>
                    <a:lnTo>
                      <a:pt x="266" y="1978"/>
                    </a:lnTo>
                    <a:lnTo>
                      <a:pt x="264" y="2113"/>
                    </a:lnTo>
                    <a:lnTo>
                      <a:pt x="258" y="2248"/>
                    </a:lnTo>
                    <a:lnTo>
                      <a:pt x="250" y="2382"/>
                    </a:lnTo>
                    <a:lnTo>
                      <a:pt x="241" y="2515"/>
                    </a:lnTo>
                    <a:lnTo>
                      <a:pt x="229" y="2648"/>
                    </a:lnTo>
                    <a:lnTo>
                      <a:pt x="215" y="2780"/>
                    </a:lnTo>
                    <a:lnTo>
                      <a:pt x="199" y="2913"/>
                    </a:lnTo>
                    <a:lnTo>
                      <a:pt x="181" y="3043"/>
                    </a:lnTo>
                    <a:lnTo>
                      <a:pt x="161" y="3174"/>
                    </a:lnTo>
                    <a:lnTo>
                      <a:pt x="139" y="3304"/>
                    </a:lnTo>
                    <a:lnTo>
                      <a:pt x="115" y="3433"/>
                    </a:lnTo>
                    <a:lnTo>
                      <a:pt x="88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95" y="3942"/>
                    </a:lnTo>
                    <a:lnTo>
                      <a:pt x="128" y="3816"/>
                    </a:lnTo>
                    <a:lnTo>
                      <a:pt x="156" y="3689"/>
                    </a:lnTo>
                    <a:lnTo>
                      <a:pt x="184" y="3561"/>
                    </a:lnTo>
                    <a:lnTo>
                      <a:pt x="211" y="3433"/>
                    </a:lnTo>
                    <a:lnTo>
                      <a:pt x="234" y="3304"/>
                    </a:lnTo>
                    <a:lnTo>
                      <a:pt x="256" y="3174"/>
                    </a:lnTo>
                    <a:lnTo>
                      <a:pt x="275" y="3043"/>
                    </a:lnTo>
                    <a:lnTo>
                      <a:pt x="294" y="2912"/>
                    </a:lnTo>
                    <a:lnTo>
                      <a:pt x="309" y="2780"/>
                    </a:lnTo>
                    <a:lnTo>
                      <a:pt x="323" y="2648"/>
                    </a:lnTo>
                    <a:lnTo>
                      <a:pt x="334" y="2515"/>
                    </a:lnTo>
                    <a:lnTo>
                      <a:pt x="343" y="2382"/>
                    </a:lnTo>
                    <a:lnTo>
                      <a:pt x="351" y="2248"/>
                    </a:lnTo>
                    <a:lnTo>
                      <a:pt x="357" y="2113"/>
                    </a:lnTo>
                    <a:lnTo>
                      <a:pt x="359" y="1978"/>
                    </a:lnTo>
                    <a:lnTo>
                      <a:pt x="361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5452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63" h="3942">
                    <a:moveTo>
                      <a:pt x="363" y="1842"/>
                    </a:moveTo>
                    <a:lnTo>
                      <a:pt x="362" y="1723"/>
                    </a:lnTo>
                    <a:lnTo>
                      <a:pt x="360" y="1606"/>
                    </a:lnTo>
                    <a:lnTo>
                      <a:pt x="355" y="1488"/>
                    </a:lnTo>
                    <a:lnTo>
                      <a:pt x="350" y="1371"/>
                    </a:lnTo>
                    <a:lnTo>
                      <a:pt x="343" y="1254"/>
                    </a:lnTo>
                    <a:lnTo>
                      <a:pt x="333" y="1138"/>
                    </a:lnTo>
                    <a:lnTo>
                      <a:pt x="323" y="1021"/>
                    </a:lnTo>
                    <a:lnTo>
                      <a:pt x="312" y="906"/>
                    </a:lnTo>
                    <a:lnTo>
                      <a:pt x="298" y="791"/>
                    </a:lnTo>
                    <a:lnTo>
                      <a:pt x="283" y="677"/>
                    </a:lnTo>
                    <a:lnTo>
                      <a:pt x="265" y="563"/>
                    </a:lnTo>
                    <a:lnTo>
                      <a:pt x="247" y="448"/>
                    </a:lnTo>
                    <a:lnTo>
                      <a:pt x="227" y="335"/>
                    </a:lnTo>
                    <a:lnTo>
                      <a:pt x="205" y="224"/>
                    </a:lnTo>
                    <a:lnTo>
                      <a:pt x="184" y="112"/>
                    </a:lnTo>
                    <a:lnTo>
                      <a:pt x="159" y="0"/>
                    </a:lnTo>
                    <a:lnTo>
                      <a:pt x="68" y="0"/>
                    </a:lnTo>
                    <a:lnTo>
                      <a:pt x="64" y="1"/>
                    </a:lnTo>
                    <a:lnTo>
                      <a:pt x="88" y="113"/>
                    </a:lnTo>
                    <a:lnTo>
                      <a:pt x="111" y="225"/>
                    </a:lnTo>
                    <a:lnTo>
                      <a:pt x="133" y="337"/>
                    </a:lnTo>
                    <a:lnTo>
                      <a:pt x="152" y="450"/>
                    </a:lnTo>
                    <a:lnTo>
                      <a:pt x="171" y="564"/>
                    </a:lnTo>
                    <a:lnTo>
                      <a:pt x="188" y="677"/>
                    </a:lnTo>
                    <a:lnTo>
                      <a:pt x="203" y="792"/>
                    </a:lnTo>
                    <a:lnTo>
                      <a:pt x="217" y="906"/>
                    </a:lnTo>
                    <a:lnTo>
                      <a:pt x="230" y="1021"/>
                    </a:lnTo>
                    <a:lnTo>
                      <a:pt x="240" y="1138"/>
                    </a:lnTo>
                    <a:lnTo>
                      <a:pt x="249" y="1254"/>
                    </a:lnTo>
                    <a:lnTo>
                      <a:pt x="257" y="1371"/>
                    </a:lnTo>
                    <a:lnTo>
                      <a:pt x="263" y="1488"/>
                    </a:lnTo>
                    <a:lnTo>
                      <a:pt x="267" y="1606"/>
                    </a:lnTo>
                    <a:lnTo>
                      <a:pt x="269" y="1723"/>
                    </a:lnTo>
                    <a:lnTo>
                      <a:pt x="270" y="1842"/>
                    </a:lnTo>
                    <a:lnTo>
                      <a:pt x="269" y="1978"/>
                    </a:lnTo>
                    <a:lnTo>
                      <a:pt x="265" y="2113"/>
                    </a:lnTo>
                    <a:lnTo>
                      <a:pt x="260" y="2248"/>
                    </a:lnTo>
                    <a:lnTo>
                      <a:pt x="253" y="2382"/>
                    </a:lnTo>
                    <a:lnTo>
                      <a:pt x="242" y="2515"/>
                    </a:lnTo>
                    <a:lnTo>
                      <a:pt x="231" y="2649"/>
                    </a:lnTo>
                    <a:lnTo>
                      <a:pt x="217" y="2780"/>
                    </a:lnTo>
                    <a:lnTo>
                      <a:pt x="201" y="2913"/>
                    </a:lnTo>
                    <a:lnTo>
                      <a:pt x="182" y="3043"/>
                    </a:lnTo>
                    <a:lnTo>
                      <a:pt x="163" y="3175"/>
                    </a:lnTo>
                    <a:lnTo>
                      <a:pt x="141" y="3304"/>
                    </a:lnTo>
                    <a:lnTo>
                      <a:pt x="117" y="3433"/>
                    </a:lnTo>
                    <a:lnTo>
                      <a:pt x="90" y="3562"/>
                    </a:lnTo>
                    <a:lnTo>
                      <a:pt x="62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28" y="3942"/>
                    </a:lnTo>
                    <a:lnTo>
                      <a:pt x="97" y="3942"/>
                    </a:lnTo>
                    <a:lnTo>
                      <a:pt x="128" y="3816"/>
                    </a:lnTo>
                    <a:lnTo>
                      <a:pt x="158" y="3689"/>
                    </a:lnTo>
                    <a:lnTo>
                      <a:pt x="186" y="3561"/>
                    </a:lnTo>
                    <a:lnTo>
                      <a:pt x="211" y="3433"/>
                    </a:lnTo>
                    <a:lnTo>
                      <a:pt x="235" y="3304"/>
                    </a:lnTo>
                    <a:lnTo>
                      <a:pt x="257" y="3174"/>
                    </a:lnTo>
                    <a:lnTo>
                      <a:pt x="277" y="3043"/>
                    </a:lnTo>
                    <a:lnTo>
                      <a:pt x="295" y="2912"/>
                    </a:lnTo>
                    <a:lnTo>
                      <a:pt x="310" y="2780"/>
                    </a:lnTo>
                    <a:lnTo>
                      <a:pt x="324" y="2648"/>
                    </a:lnTo>
                    <a:lnTo>
                      <a:pt x="337" y="2515"/>
                    </a:lnTo>
                    <a:lnTo>
                      <a:pt x="346" y="2382"/>
                    </a:lnTo>
                    <a:lnTo>
                      <a:pt x="353" y="2248"/>
                    </a:lnTo>
                    <a:lnTo>
                      <a:pt x="359" y="2113"/>
                    </a:lnTo>
                    <a:lnTo>
                      <a:pt x="362" y="1978"/>
                    </a:lnTo>
                    <a:lnTo>
                      <a:pt x="363" y="18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41920" y="3784680"/>
                <a:ext cx="96840" cy="1042920"/>
              </a:xfrm>
              <a:custGeom>
                <a:avLst/>
                <a:gdLst/>
                <a:ahLst/>
                <a:rect l="l" t="t" r="r" b="b"/>
                <a:pathLst>
                  <a:path w="364" h="3942">
                    <a:moveTo>
                      <a:pt x="364" y="1842"/>
                    </a:moveTo>
                    <a:lnTo>
                      <a:pt x="364" y="1723"/>
                    </a:lnTo>
                    <a:lnTo>
                      <a:pt x="362" y="1606"/>
                    </a:lnTo>
                    <a:lnTo>
                      <a:pt x="357" y="1488"/>
                    </a:lnTo>
                    <a:lnTo>
                      <a:pt x="351" y="1371"/>
                    </a:lnTo>
                    <a:lnTo>
                      <a:pt x="345" y="1253"/>
                    </a:lnTo>
                    <a:lnTo>
                      <a:pt x="335" y="1137"/>
                    </a:lnTo>
                    <a:lnTo>
                      <a:pt x="324" y="1021"/>
                    </a:lnTo>
                    <a:lnTo>
                      <a:pt x="312" y="906"/>
                    </a:lnTo>
                    <a:lnTo>
                      <a:pt x="298" y="791"/>
                    </a:lnTo>
                    <a:lnTo>
                      <a:pt x="283" y="677"/>
                    </a:lnTo>
                    <a:lnTo>
                      <a:pt x="266" y="563"/>
                    </a:lnTo>
                    <a:lnTo>
                      <a:pt x="248" y="448"/>
                    </a:lnTo>
                    <a:lnTo>
                      <a:pt x="228" y="335"/>
                    </a:lnTo>
                    <a:lnTo>
                      <a:pt x="206" y="224"/>
                    </a:lnTo>
                    <a:lnTo>
                      <a:pt x="183" y="112"/>
                    </a:lnTo>
                    <a:lnTo>
                      <a:pt x="159" y="0"/>
                    </a:lnTo>
                    <a:lnTo>
                      <a:pt x="116" y="0"/>
                    </a:lnTo>
                    <a:lnTo>
                      <a:pt x="68" y="17"/>
                    </a:lnTo>
                    <a:lnTo>
                      <a:pt x="92" y="128"/>
                    </a:lnTo>
                    <a:lnTo>
                      <a:pt x="114" y="239"/>
                    </a:lnTo>
                    <a:lnTo>
                      <a:pt x="136" y="349"/>
                    </a:lnTo>
                    <a:lnTo>
                      <a:pt x="155" y="462"/>
                    </a:lnTo>
                    <a:lnTo>
                      <a:pt x="174" y="574"/>
                    </a:lnTo>
                    <a:lnTo>
                      <a:pt x="191" y="687"/>
                    </a:lnTo>
                    <a:lnTo>
                      <a:pt x="206" y="801"/>
                    </a:lnTo>
                    <a:lnTo>
                      <a:pt x="220" y="914"/>
                    </a:lnTo>
                    <a:lnTo>
                      <a:pt x="232" y="1029"/>
                    </a:lnTo>
                    <a:lnTo>
                      <a:pt x="242" y="1144"/>
                    </a:lnTo>
                    <a:lnTo>
                      <a:pt x="251" y="1259"/>
                    </a:lnTo>
                    <a:lnTo>
                      <a:pt x="258" y="1375"/>
                    </a:lnTo>
                    <a:lnTo>
                      <a:pt x="264" y="1491"/>
                    </a:lnTo>
                    <a:lnTo>
                      <a:pt x="268" y="1607"/>
                    </a:lnTo>
                    <a:lnTo>
                      <a:pt x="271" y="1725"/>
                    </a:lnTo>
                    <a:lnTo>
                      <a:pt x="272" y="1842"/>
                    </a:lnTo>
                    <a:lnTo>
                      <a:pt x="271" y="1978"/>
                    </a:lnTo>
                    <a:lnTo>
                      <a:pt x="267" y="2113"/>
                    </a:lnTo>
                    <a:lnTo>
                      <a:pt x="262" y="2248"/>
                    </a:lnTo>
                    <a:lnTo>
                      <a:pt x="253" y="2382"/>
                    </a:lnTo>
                    <a:lnTo>
                      <a:pt x="244" y="2515"/>
                    </a:lnTo>
                    <a:lnTo>
                      <a:pt x="233" y="2649"/>
                    </a:lnTo>
                    <a:lnTo>
                      <a:pt x="218" y="2782"/>
                    </a:lnTo>
                    <a:lnTo>
                      <a:pt x="202" y="2913"/>
                    </a:lnTo>
                    <a:lnTo>
                      <a:pt x="184" y="3044"/>
                    </a:lnTo>
                    <a:lnTo>
                      <a:pt x="163" y="3175"/>
                    </a:lnTo>
                    <a:lnTo>
                      <a:pt x="142" y="3304"/>
                    </a:lnTo>
                    <a:lnTo>
                      <a:pt x="117" y="3433"/>
                    </a:lnTo>
                    <a:lnTo>
                      <a:pt x="91" y="3562"/>
                    </a:lnTo>
                    <a:lnTo>
                      <a:pt x="62" y="3689"/>
                    </a:lnTo>
                    <a:lnTo>
                      <a:pt x="32" y="3816"/>
                    </a:lnTo>
                    <a:lnTo>
                      <a:pt x="0" y="3942"/>
                    </a:lnTo>
                    <a:lnTo>
                      <a:pt x="76" y="3942"/>
                    </a:lnTo>
                    <a:lnTo>
                      <a:pt x="97" y="3942"/>
                    </a:lnTo>
                    <a:lnTo>
                      <a:pt x="128" y="3816"/>
                    </a:lnTo>
                    <a:lnTo>
                      <a:pt x="158" y="3689"/>
                    </a:lnTo>
                    <a:lnTo>
                      <a:pt x="185" y="3561"/>
                    </a:lnTo>
                    <a:lnTo>
                      <a:pt x="212" y="3433"/>
                    </a:lnTo>
                    <a:lnTo>
                      <a:pt x="236" y="3304"/>
                    </a:lnTo>
                    <a:lnTo>
                      <a:pt x="258" y="3174"/>
                    </a:lnTo>
                    <a:lnTo>
                      <a:pt x="278" y="3043"/>
                    </a:lnTo>
                    <a:lnTo>
                      <a:pt x="296" y="2913"/>
                    </a:lnTo>
                    <a:lnTo>
                      <a:pt x="312" y="2780"/>
                    </a:lnTo>
                    <a:lnTo>
                      <a:pt x="326" y="2648"/>
                    </a:lnTo>
                    <a:lnTo>
                      <a:pt x="338" y="2515"/>
                    </a:lnTo>
                    <a:lnTo>
                      <a:pt x="347" y="2382"/>
                    </a:lnTo>
                    <a:lnTo>
                      <a:pt x="355" y="2248"/>
                    </a:lnTo>
                    <a:lnTo>
                      <a:pt x="361" y="2113"/>
                    </a:lnTo>
                    <a:lnTo>
                      <a:pt x="363" y="1978"/>
                    </a:lnTo>
                    <a:lnTo>
                      <a:pt x="364" y="18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29320" y="3784680"/>
                <a:ext cx="96840" cy="1042920"/>
              </a:xfrm>
              <a:custGeom>
                <a:avLst/>
                <a:gdLst/>
                <a:ahLst/>
                <a:rect l="l" t="t" r="r" b="b"/>
                <a:pathLst>
                  <a:path w="367" h="3941">
                    <a:moveTo>
                      <a:pt x="367" y="1841"/>
                    </a:moveTo>
                    <a:lnTo>
                      <a:pt x="366" y="1722"/>
                    </a:lnTo>
                    <a:lnTo>
                      <a:pt x="364" y="1605"/>
                    </a:lnTo>
                    <a:lnTo>
                      <a:pt x="360" y="1487"/>
                    </a:lnTo>
                    <a:lnTo>
                      <a:pt x="354" y="1370"/>
                    </a:lnTo>
                    <a:lnTo>
                      <a:pt x="346" y="1253"/>
                    </a:lnTo>
                    <a:lnTo>
                      <a:pt x="337" y="1137"/>
                    </a:lnTo>
                    <a:lnTo>
                      <a:pt x="327" y="1020"/>
                    </a:lnTo>
                    <a:lnTo>
                      <a:pt x="315" y="905"/>
                    </a:lnTo>
                    <a:lnTo>
                      <a:pt x="301" y="791"/>
                    </a:lnTo>
                    <a:lnTo>
                      <a:pt x="285" y="676"/>
                    </a:lnTo>
                    <a:lnTo>
                      <a:pt x="268" y="563"/>
                    </a:lnTo>
                    <a:lnTo>
                      <a:pt x="249" y="449"/>
                    </a:lnTo>
                    <a:lnTo>
                      <a:pt x="230" y="336"/>
                    </a:lnTo>
                    <a:lnTo>
                      <a:pt x="208" y="224"/>
                    </a:lnTo>
                    <a:lnTo>
                      <a:pt x="185" y="112"/>
                    </a:lnTo>
                    <a:lnTo>
                      <a:pt x="161" y="0"/>
                    </a:lnTo>
                    <a:lnTo>
                      <a:pt x="72" y="32"/>
                    </a:lnTo>
                    <a:lnTo>
                      <a:pt x="96" y="141"/>
                    </a:lnTo>
                    <a:lnTo>
                      <a:pt x="119" y="251"/>
                    </a:lnTo>
                    <a:lnTo>
                      <a:pt x="140" y="362"/>
                    </a:lnTo>
                    <a:lnTo>
                      <a:pt x="159" y="473"/>
                    </a:lnTo>
                    <a:lnTo>
                      <a:pt x="177" y="585"/>
                    </a:lnTo>
                    <a:lnTo>
                      <a:pt x="194" y="696"/>
                    </a:lnTo>
                    <a:lnTo>
                      <a:pt x="209" y="808"/>
                    </a:lnTo>
                    <a:lnTo>
                      <a:pt x="223" y="921"/>
                    </a:lnTo>
                    <a:lnTo>
                      <a:pt x="234" y="1035"/>
                    </a:lnTo>
                    <a:lnTo>
                      <a:pt x="245" y="1148"/>
                    </a:lnTo>
                    <a:lnTo>
                      <a:pt x="254" y="1264"/>
                    </a:lnTo>
                    <a:lnTo>
                      <a:pt x="261" y="1378"/>
                    </a:lnTo>
                    <a:lnTo>
                      <a:pt x="267" y="1493"/>
                    </a:lnTo>
                    <a:lnTo>
                      <a:pt x="270" y="1608"/>
                    </a:lnTo>
                    <a:lnTo>
                      <a:pt x="274" y="1725"/>
                    </a:lnTo>
                    <a:lnTo>
                      <a:pt x="274" y="1841"/>
                    </a:lnTo>
                    <a:lnTo>
                      <a:pt x="272" y="1977"/>
                    </a:lnTo>
                    <a:lnTo>
                      <a:pt x="269" y="2112"/>
                    </a:lnTo>
                    <a:lnTo>
                      <a:pt x="264" y="2247"/>
                    </a:lnTo>
                    <a:lnTo>
                      <a:pt x="256" y="2381"/>
                    </a:lnTo>
                    <a:lnTo>
                      <a:pt x="246" y="2514"/>
                    </a:lnTo>
                    <a:lnTo>
                      <a:pt x="234" y="2648"/>
                    </a:lnTo>
                    <a:lnTo>
                      <a:pt x="221" y="2781"/>
                    </a:lnTo>
                    <a:lnTo>
                      <a:pt x="204" y="2912"/>
                    </a:lnTo>
                    <a:lnTo>
                      <a:pt x="186" y="3043"/>
                    </a:lnTo>
                    <a:lnTo>
                      <a:pt x="165" y="3174"/>
                    </a:lnTo>
                    <a:lnTo>
                      <a:pt x="142" y="3303"/>
                    </a:lnTo>
                    <a:lnTo>
                      <a:pt x="118" y="3432"/>
                    </a:lnTo>
                    <a:lnTo>
                      <a:pt x="91" y="3561"/>
                    </a:lnTo>
                    <a:lnTo>
                      <a:pt x="63" y="3688"/>
                    </a:lnTo>
                    <a:lnTo>
                      <a:pt x="33" y="3815"/>
                    </a:lnTo>
                    <a:lnTo>
                      <a:pt x="0" y="3941"/>
                    </a:lnTo>
                    <a:lnTo>
                      <a:pt x="97" y="3941"/>
                    </a:lnTo>
                    <a:lnTo>
                      <a:pt x="129" y="3815"/>
                    </a:lnTo>
                    <a:lnTo>
                      <a:pt x="159" y="3688"/>
                    </a:lnTo>
                    <a:lnTo>
                      <a:pt x="187" y="3561"/>
                    </a:lnTo>
                    <a:lnTo>
                      <a:pt x="214" y="3432"/>
                    </a:lnTo>
                    <a:lnTo>
                      <a:pt x="238" y="3303"/>
                    </a:lnTo>
                    <a:lnTo>
                      <a:pt x="260" y="3174"/>
                    </a:lnTo>
                    <a:lnTo>
                      <a:pt x="279" y="3042"/>
                    </a:lnTo>
                    <a:lnTo>
                      <a:pt x="298" y="2912"/>
                    </a:lnTo>
                    <a:lnTo>
                      <a:pt x="314" y="2779"/>
                    </a:lnTo>
                    <a:lnTo>
                      <a:pt x="328" y="2648"/>
                    </a:lnTo>
                    <a:lnTo>
                      <a:pt x="339" y="2514"/>
                    </a:lnTo>
                    <a:lnTo>
                      <a:pt x="350" y="2381"/>
                    </a:lnTo>
                    <a:lnTo>
                      <a:pt x="357" y="2247"/>
                    </a:lnTo>
                    <a:lnTo>
                      <a:pt x="362" y="2112"/>
                    </a:lnTo>
                    <a:lnTo>
                      <a:pt x="366" y="1977"/>
                    </a:lnTo>
                    <a:lnTo>
                      <a:pt x="367" y="1841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16720" y="3789360"/>
                <a:ext cx="96840" cy="1038240"/>
              </a:xfrm>
              <a:custGeom>
                <a:avLst/>
                <a:gdLst/>
                <a:ahLst/>
                <a:rect l="l" t="t" r="r" b="b"/>
                <a:pathLst>
                  <a:path w="369" h="3925">
                    <a:moveTo>
                      <a:pt x="369" y="1825"/>
                    </a:moveTo>
                    <a:lnTo>
                      <a:pt x="368" y="1708"/>
                    </a:lnTo>
                    <a:lnTo>
                      <a:pt x="365" y="1590"/>
                    </a:lnTo>
                    <a:lnTo>
                      <a:pt x="361" y="1474"/>
                    </a:lnTo>
                    <a:lnTo>
                      <a:pt x="355" y="1358"/>
                    </a:lnTo>
                    <a:lnTo>
                      <a:pt x="348" y="1242"/>
                    </a:lnTo>
                    <a:lnTo>
                      <a:pt x="339" y="1127"/>
                    </a:lnTo>
                    <a:lnTo>
                      <a:pt x="329" y="1012"/>
                    </a:lnTo>
                    <a:lnTo>
                      <a:pt x="317" y="897"/>
                    </a:lnTo>
                    <a:lnTo>
                      <a:pt x="303" y="784"/>
                    </a:lnTo>
                    <a:lnTo>
                      <a:pt x="287" y="670"/>
                    </a:lnTo>
                    <a:lnTo>
                      <a:pt x="271" y="557"/>
                    </a:lnTo>
                    <a:lnTo>
                      <a:pt x="252" y="445"/>
                    </a:lnTo>
                    <a:lnTo>
                      <a:pt x="233" y="332"/>
                    </a:lnTo>
                    <a:lnTo>
                      <a:pt x="211" y="222"/>
                    </a:lnTo>
                    <a:lnTo>
                      <a:pt x="189" y="111"/>
                    </a:lnTo>
                    <a:lnTo>
                      <a:pt x="165" y="0"/>
                    </a:lnTo>
                    <a:lnTo>
                      <a:pt x="99" y="23"/>
                    </a:lnTo>
                    <a:lnTo>
                      <a:pt x="74" y="23"/>
                    </a:lnTo>
                    <a:lnTo>
                      <a:pt x="98" y="133"/>
                    </a:lnTo>
                    <a:lnTo>
                      <a:pt x="121" y="242"/>
                    </a:lnTo>
                    <a:lnTo>
                      <a:pt x="142" y="352"/>
                    </a:lnTo>
                    <a:lnTo>
                      <a:pt x="161" y="463"/>
                    </a:lnTo>
                    <a:lnTo>
                      <a:pt x="179" y="573"/>
                    </a:lnTo>
                    <a:lnTo>
                      <a:pt x="196" y="685"/>
                    </a:lnTo>
                    <a:lnTo>
                      <a:pt x="211" y="797"/>
                    </a:lnTo>
                    <a:lnTo>
                      <a:pt x="224" y="909"/>
                    </a:lnTo>
                    <a:lnTo>
                      <a:pt x="236" y="1023"/>
                    </a:lnTo>
                    <a:lnTo>
                      <a:pt x="247" y="1136"/>
                    </a:lnTo>
                    <a:lnTo>
                      <a:pt x="255" y="1250"/>
                    </a:lnTo>
                    <a:lnTo>
                      <a:pt x="263" y="1364"/>
                    </a:lnTo>
                    <a:lnTo>
                      <a:pt x="267" y="1478"/>
                    </a:lnTo>
                    <a:lnTo>
                      <a:pt x="272" y="1593"/>
                    </a:lnTo>
                    <a:lnTo>
                      <a:pt x="274" y="1709"/>
                    </a:lnTo>
                    <a:lnTo>
                      <a:pt x="275" y="1825"/>
                    </a:lnTo>
                    <a:lnTo>
                      <a:pt x="274" y="1961"/>
                    </a:lnTo>
                    <a:lnTo>
                      <a:pt x="271" y="2096"/>
                    </a:lnTo>
                    <a:lnTo>
                      <a:pt x="265" y="2231"/>
                    </a:lnTo>
                    <a:lnTo>
                      <a:pt x="257" y="2366"/>
                    </a:lnTo>
                    <a:lnTo>
                      <a:pt x="248" y="2499"/>
                    </a:lnTo>
                    <a:lnTo>
                      <a:pt x="235" y="2632"/>
                    </a:lnTo>
                    <a:lnTo>
                      <a:pt x="221" y="2765"/>
                    </a:lnTo>
                    <a:lnTo>
                      <a:pt x="205" y="2896"/>
                    </a:lnTo>
                    <a:lnTo>
                      <a:pt x="187" y="3027"/>
                    </a:lnTo>
                    <a:lnTo>
                      <a:pt x="166" y="3158"/>
                    </a:lnTo>
                    <a:lnTo>
                      <a:pt x="143" y="3288"/>
                    </a:lnTo>
                    <a:lnTo>
                      <a:pt x="119" y="3416"/>
                    </a:lnTo>
                    <a:lnTo>
                      <a:pt x="92" y="3545"/>
                    </a:lnTo>
                    <a:lnTo>
                      <a:pt x="63" y="3672"/>
                    </a:lnTo>
                    <a:lnTo>
                      <a:pt x="32" y="3799"/>
                    </a:lnTo>
                    <a:lnTo>
                      <a:pt x="0" y="3925"/>
                    </a:lnTo>
                    <a:lnTo>
                      <a:pt x="97" y="3925"/>
                    </a:lnTo>
                    <a:lnTo>
                      <a:pt x="129" y="3799"/>
                    </a:lnTo>
                    <a:lnTo>
                      <a:pt x="159" y="3672"/>
                    </a:lnTo>
                    <a:lnTo>
                      <a:pt x="188" y="3545"/>
                    </a:lnTo>
                    <a:lnTo>
                      <a:pt x="213" y="3416"/>
                    </a:lnTo>
                    <a:lnTo>
                      <a:pt x="239" y="3287"/>
                    </a:lnTo>
                    <a:lnTo>
                      <a:pt x="260" y="3158"/>
                    </a:lnTo>
                    <a:lnTo>
                      <a:pt x="281" y="3027"/>
                    </a:lnTo>
                    <a:lnTo>
                      <a:pt x="299" y="2896"/>
                    </a:lnTo>
                    <a:lnTo>
                      <a:pt x="315" y="2765"/>
                    </a:lnTo>
                    <a:lnTo>
                      <a:pt x="329" y="2632"/>
                    </a:lnTo>
                    <a:lnTo>
                      <a:pt x="341" y="2498"/>
                    </a:lnTo>
                    <a:lnTo>
                      <a:pt x="350" y="2365"/>
                    </a:lnTo>
                    <a:lnTo>
                      <a:pt x="359" y="2231"/>
                    </a:lnTo>
                    <a:lnTo>
                      <a:pt x="364" y="2096"/>
                    </a:lnTo>
                    <a:lnTo>
                      <a:pt x="368" y="1961"/>
                    </a:lnTo>
                    <a:lnTo>
                      <a:pt x="369" y="182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03760" y="3794040"/>
                <a:ext cx="96840" cy="1033560"/>
              </a:xfrm>
              <a:custGeom>
                <a:avLst/>
                <a:gdLst/>
                <a:ahLst/>
                <a:rect l="l" t="t" r="r" b="b"/>
                <a:pathLst>
                  <a:path w="371" h="3909">
                    <a:moveTo>
                      <a:pt x="371" y="1809"/>
                    </a:moveTo>
                    <a:lnTo>
                      <a:pt x="371" y="1693"/>
                    </a:lnTo>
                    <a:lnTo>
                      <a:pt x="367" y="1576"/>
                    </a:lnTo>
                    <a:lnTo>
                      <a:pt x="364" y="1461"/>
                    </a:lnTo>
                    <a:lnTo>
                      <a:pt x="358" y="1346"/>
                    </a:lnTo>
                    <a:lnTo>
                      <a:pt x="351" y="1232"/>
                    </a:lnTo>
                    <a:lnTo>
                      <a:pt x="342" y="1116"/>
                    </a:lnTo>
                    <a:lnTo>
                      <a:pt x="331" y="1003"/>
                    </a:lnTo>
                    <a:lnTo>
                      <a:pt x="320" y="889"/>
                    </a:lnTo>
                    <a:lnTo>
                      <a:pt x="306" y="776"/>
                    </a:lnTo>
                    <a:lnTo>
                      <a:pt x="291" y="664"/>
                    </a:lnTo>
                    <a:lnTo>
                      <a:pt x="274" y="553"/>
                    </a:lnTo>
                    <a:lnTo>
                      <a:pt x="256" y="441"/>
                    </a:lnTo>
                    <a:lnTo>
                      <a:pt x="237" y="330"/>
                    </a:lnTo>
                    <a:lnTo>
                      <a:pt x="216" y="219"/>
                    </a:lnTo>
                    <a:lnTo>
                      <a:pt x="193" y="109"/>
                    </a:lnTo>
                    <a:lnTo>
                      <a:pt x="169" y="0"/>
                    </a:lnTo>
                    <a:lnTo>
                      <a:pt x="148" y="7"/>
                    </a:lnTo>
                    <a:lnTo>
                      <a:pt x="75" y="7"/>
                    </a:lnTo>
                    <a:lnTo>
                      <a:pt x="100" y="117"/>
                    </a:lnTo>
                    <a:lnTo>
                      <a:pt x="121" y="226"/>
                    </a:lnTo>
                    <a:lnTo>
                      <a:pt x="143" y="336"/>
                    </a:lnTo>
                    <a:lnTo>
                      <a:pt x="163" y="447"/>
                    </a:lnTo>
                    <a:lnTo>
                      <a:pt x="180" y="557"/>
                    </a:lnTo>
                    <a:lnTo>
                      <a:pt x="198" y="669"/>
                    </a:lnTo>
                    <a:lnTo>
                      <a:pt x="213" y="781"/>
                    </a:lnTo>
                    <a:lnTo>
                      <a:pt x="226" y="893"/>
                    </a:lnTo>
                    <a:lnTo>
                      <a:pt x="238" y="1006"/>
                    </a:lnTo>
                    <a:lnTo>
                      <a:pt x="248" y="1120"/>
                    </a:lnTo>
                    <a:lnTo>
                      <a:pt x="258" y="1234"/>
                    </a:lnTo>
                    <a:lnTo>
                      <a:pt x="265" y="1348"/>
                    </a:lnTo>
                    <a:lnTo>
                      <a:pt x="270" y="1462"/>
                    </a:lnTo>
                    <a:lnTo>
                      <a:pt x="275" y="1577"/>
                    </a:lnTo>
                    <a:lnTo>
                      <a:pt x="277" y="1693"/>
                    </a:lnTo>
                    <a:lnTo>
                      <a:pt x="277" y="1809"/>
                    </a:lnTo>
                    <a:lnTo>
                      <a:pt x="276" y="1945"/>
                    </a:lnTo>
                    <a:lnTo>
                      <a:pt x="274" y="2080"/>
                    </a:lnTo>
                    <a:lnTo>
                      <a:pt x="268" y="2215"/>
                    </a:lnTo>
                    <a:lnTo>
                      <a:pt x="260" y="2350"/>
                    </a:lnTo>
                    <a:lnTo>
                      <a:pt x="250" y="2483"/>
                    </a:lnTo>
                    <a:lnTo>
                      <a:pt x="238" y="2616"/>
                    </a:lnTo>
                    <a:lnTo>
                      <a:pt x="223" y="2749"/>
                    </a:lnTo>
                    <a:lnTo>
                      <a:pt x="207" y="2880"/>
                    </a:lnTo>
                    <a:lnTo>
                      <a:pt x="188" y="3011"/>
                    </a:lnTo>
                    <a:lnTo>
                      <a:pt x="168" y="3142"/>
                    </a:lnTo>
                    <a:lnTo>
                      <a:pt x="145" y="3272"/>
                    </a:lnTo>
                    <a:lnTo>
                      <a:pt x="120" y="3401"/>
                    </a:lnTo>
                    <a:lnTo>
                      <a:pt x="93" y="3529"/>
                    </a:lnTo>
                    <a:lnTo>
                      <a:pt x="64" y="3656"/>
                    </a:lnTo>
                    <a:lnTo>
                      <a:pt x="34" y="3783"/>
                    </a:lnTo>
                    <a:lnTo>
                      <a:pt x="0" y="3909"/>
                    </a:lnTo>
                    <a:lnTo>
                      <a:pt x="97" y="3909"/>
                    </a:lnTo>
                    <a:lnTo>
                      <a:pt x="130" y="3783"/>
                    </a:lnTo>
                    <a:lnTo>
                      <a:pt x="160" y="3656"/>
                    </a:lnTo>
                    <a:lnTo>
                      <a:pt x="188" y="3529"/>
                    </a:lnTo>
                    <a:lnTo>
                      <a:pt x="215" y="3400"/>
                    </a:lnTo>
                    <a:lnTo>
                      <a:pt x="239" y="3271"/>
                    </a:lnTo>
                    <a:lnTo>
                      <a:pt x="262" y="3142"/>
                    </a:lnTo>
                    <a:lnTo>
                      <a:pt x="283" y="3011"/>
                    </a:lnTo>
                    <a:lnTo>
                      <a:pt x="301" y="2880"/>
                    </a:lnTo>
                    <a:lnTo>
                      <a:pt x="318" y="2749"/>
                    </a:lnTo>
                    <a:lnTo>
                      <a:pt x="331" y="2616"/>
                    </a:lnTo>
                    <a:lnTo>
                      <a:pt x="343" y="2482"/>
                    </a:lnTo>
                    <a:lnTo>
                      <a:pt x="353" y="2349"/>
                    </a:lnTo>
                    <a:lnTo>
                      <a:pt x="361" y="2215"/>
                    </a:lnTo>
                    <a:lnTo>
                      <a:pt x="366" y="2080"/>
                    </a:lnTo>
                    <a:lnTo>
                      <a:pt x="369" y="1945"/>
                    </a:lnTo>
                    <a:lnTo>
                      <a:pt x="371" y="180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89720" y="3795840"/>
                <a:ext cx="99720" cy="1033200"/>
              </a:xfrm>
              <a:custGeom>
                <a:avLst/>
                <a:gdLst/>
                <a:ahLst/>
                <a:rect l="l" t="t" r="r" b="b"/>
                <a:pathLst>
                  <a:path w="373" h="3909">
                    <a:moveTo>
                      <a:pt x="373" y="1802"/>
                    </a:moveTo>
                    <a:lnTo>
                      <a:pt x="372" y="1686"/>
                    </a:lnTo>
                    <a:lnTo>
                      <a:pt x="370" y="1570"/>
                    </a:lnTo>
                    <a:lnTo>
                      <a:pt x="365" y="1455"/>
                    </a:lnTo>
                    <a:lnTo>
                      <a:pt x="361" y="1341"/>
                    </a:lnTo>
                    <a:lnTo>
                      <a:pt x="353" y="1227"/>
                    </a:lnTo>
                    <a:lnTo>
                      <a:pt x="345" y="1113"/>
                    </a:lnTo>
                    <a:lnTo>
                      <a:pt x="334" y="1000"/>
                    </a:lnTo>
                    <a:lnTo>
                      <a:pt x="322" y="886"/>
                    </a:lnTo>
                    <a:lnTo>
                      <a:pt x="309" y="774"/>
                    </a:lnTo>
                    <a:lnTo>
                      <a:pt x="294" y="662"/>
                    </a:lnTo>
                    <a:lnTo>
                      <a:pt x="277" y="550"/>
                    </a:lnTo>
                    <a:lnTo>
                      <a:pt x="259" y="440"/>
                    </a:lnTo>
                    <a:lnTo>
                      <a:pt x="240" y="329"/>
                    </a:lnTo>
                    <a:lnTo>
                      <a:pt x="219" y="219"/>
                    </a:lnTo>
                    <a:lnTo>
                      <a:pt x="196" y="110"/>
                    </a:lnTo>
                    <a:lnTo>
                      <a:pt x="172" y="0"/>
                    </a:lnTo>
                    <a:lnTo>
                      <a:pt x="77" y="0"/>
                    </a:lnTo>
                    <a:lnTo>
                      <a:pt x="100" y="110"/>
                    </a:lnTo>
                    <a:lnTo>
                      <a:pt x="123" y="218"/>
                    </a:lnTo>
                    <a:lnTo>
                      <a:pt x="145" y="329"/>
                    </a:lnTo>
                    <a:lnTo>
                      <a:pt x="165" y="440"/>
                    </a:lnTo>
                    <a:lnTo>
                      <a:pt x="183" y="550"/>
                    </a:lnTo>
                    <a:lnTo>
                      <a:pt x="199" y="662"/>
                    </a:lnTo>
                    <a:lnTo>
                      <a:pt x="214" y="774"/>
                    </a:lnTo>
                    <a:lnTo>
                      <a:pt x="228" y="886"/>
                    </a:lnTo>
                    <a:lnTo>
                      <a:pt x="240" y="999"/>
                    </a:lnTo>
                    <a:lnTo>
                      <a:pt x="251" y="1113"/>
                    </a:lnTo>
                    <a:lnTo>
                      <a:pt x="259" y="1226"/>
                    </a:lnTo>
                    <a:lnTo>
                      <a:pt x="267" y="1341"/>
                    </a:lnTo>
                    <a:lnTo>
                      <a:pt x="273" y="1455"/>
                    </a:lnTo>
                    <a:lnTo>
                      <a:pt x="277" y="1570"/>
                    </a:lnTo>
                    <a:lnTo>
                      <a:pt x="279" y="1686"/>
                    </a:lnTo>
                    <a:lnTo>
                      <a:pt x="280" y="1802"/>
                    </a:lnTo>
                    <a:lnTo>
                      <a:pt x="279" y="1938"/>
                    </a:lnTo>
                    <a:lnTo>
                      <a:pt x="275" y="2074"/>
                    </a:lnTo>
                    <a:lnTo>
                      <a:pt x="270" y="2210"/>
                    </a:lnTo>
                    <a:lnTo>
                      <a:pt x="262" y="2345"/>
                    </a:lnTo>
                    <a:lnTo>
                      <a:pt x="251" y="2479"/>
                    </a:lnTo>
                    <a:lnTo>
                      <a:pt x="240" y="2613"/>
                    </a:lnTo>
                    <a:lnTo>
                      <a:pt x="225" y="2745"/>
                    </a:lnTo>
                    <a:lnTo>
                      <a:pt x="209" y="2878"/>
                    </a:lnTo>
                    <a:lnTo>
                      <a:pt x="189" y="3009"/>
                    </a:lnTo>
                    <a:lnTo>
                      <a:pt x="168" y="3140"/>
                    </a:lnTo>
                    <a:lnTo>
                      <a:pt x="145" y="3270"/>
                    </a:lnTo>
                    <a:lnTo>
                      <a:pt x="120" y="3400"/>
                    </a:lnTo>
                    <a:lnTo>
                      <a:pt x="93" y="3528"/>
                    </a:lnTo>
                    <a:lnTo>
                      <a:pt x="63" y="3656"/>
                    </a:lnTo>
                    <a:lnTo>
                      <a:pt x="32" y="3784"/>
                    </a:lnTo>
                    <a:lnTo>
                      <a:pt x="0" y="3909"/>
                    </a:lnTo>
                    <a:lnTo>
                      <a:pt x="42" y="3902"/>
                    </a:lnTo>
                    <a:lnTo>
                      <a:pt x="98" y="3902"/>
                    </a:lnTo>
                    <a:lnTo>
                      <a:pt x="130" y="3776"/>
                    </a:lnTo>
                    <a:lnTo>
                      <a:pt x="161" y="3649"/>
                    </a:lnTo>
                    <a:lnTo>
                      <a:pt x="190" y="3522"/>
                    </a:lnTo>
                    <a:lnTo>
                      <a:pt x="217" y="3393"/>
                    </a:lnTo>
                    <a:lnTo>
                      <a:pt x="241" y="3265"/>
                    </a:lnTo>
                    <a:lnTo>
                      <a:pt x="264" y="3135"/>
                    </a:lnTo>
                    <a:lnTo>
                      <a:pt x="285" y="3004"/>
                    </a:lnTo>
                    <a:lnTo>
                      <a:pt x="303" y="2873"/>
                    </a:lnTo>
                    <a:lnTo>
                      <a:pt x="319" y="2742"/>
                    </a:lnTo>
                    <a:lnTo>
                      <a:pt x="333" y="2609"/>
                    </a:lnTo>
                    <a:lnTo>
                      <a:pt x="346" y="2476"/>
                    </a:lnTo>
                    <a:lnTo>
                      <a:pt x="355" y="2343"/>
                    </a:lnTo>
                    <a:lnTo>
                      <a:pt x="363" y="2208"/>
                    </a:lnTo>
                    <a:lnTo>
                      <a:pt x="369" y="2073"/>
                    </a:lnTo>
                    <a:lnTo>
                      <a:pt x="372" y="1938"/>
                    </a:lnTo>
                    <a:lnTo>
                      <a:pt x="373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76760" y="3795840"/>
                <a:ext cx="100080" cy="1036440"/>
              </a:xfrm>
              <a:custGeom>
                <a:avLst/>
                <a:gdLst/>
                <a:ahLst/>
                <a:rect l="l" t="t" r="r" b="b"/>
                <a:pathLst>
                  <a:path w="377" h="3919">
                    <a:moveTo>
                      <a:pt x="377" y="1802"/>
                    </a:moveTo>
                    <a:lnTo>
                      <a:pt x="377" y="1686"/>
                    </a:lnTo>
                    <a:lnTo>
                      <a:pt x="375" y="1570"/>
                    </a:lnTo>
                    <a:lnTo>
                      <a:pt x="370" y="1455"/>
                    </a:lnTo>
                    <a:lnTo>
                      <a:pt x="365" y="1341"/>
                    </a:lnTo>
                    <a:lnTo>
                      <a:pt x="358" y="1227"/>
                    </a:lnTo>
                    <a:lnTo>
                      <a:pt x="348" y="1113"/>
                    </a:lnTo>
                    <a:lnTo>
                      <a:pt x="338" y="999"/>
                    </a:lnTo>
                    <a:lnTo>
                      <a:pt x="326" y="886"/>
                    </a:lnTo>
                    <a:lnTo>
                      <a:pt x="313" y="774"/>
                    </a:lnTo>
                    <a:lnTo>
                      <a:pt x="298" y="662"/>
                    </a:lnTo>
                    <a:lnTo>
                      <a:pt x="280" y="550"/>
                    </a:lnTo>
                    <a:lnTo>
                      <a:pt x="263" y="440"/>
                    </a:lnTo>
                    <a:lnTo>
                      <a:pt x="243" y="329"/>
                    </a:lnTo>
                    <a:lnTo>
                      <a:pt x="221" y="219"/>
                    </a:lnTo>
                    <a:lnTo>
                      <a:pt x="200" y="110"/>
                    </a:lnTo>
                    <a:lnTo>
                      <a:pt x="175" y="0"/>
                    </a:lnTo>
                    <a:lnTo>
                      <a:pt x="93" y="0"/>
                    </a:lnTo>
                    <a:lnTo>
                      <a:pt x="80" y="0"/>
                    </a:lnTo>
                    <a:lnTo>
                      <a:pt x="104" y="110"/>
                    </a:lnTo>
                    <a:lnTo>
                      <a:pt x="127" y="218"/>
                    </a:lnTo>
                    <a:lnTo>
                      <a:pt x="149" y="329"/>
                    </a:lnTo>
                    <a:lnTo>
                      <a:pt x="168" y="440"/>
                    </a:lnTo>
                    <a:lnTo>
                      <a:pt x="187" y="550"/>
                    </a:lnTo>
                    <a:lnTo>
                      <a:pt x="203" y="662"/>
                    </a:lnTo>
                    <a:lnTo>
                      <a:pt x="218" y="774"/>
                    </a:lnTo>
                    <a:lnTo>
                      <a:pt x="232" y="886"/>
                    </a:lnTo>
                    <a:lnTo>
                      <a:pt x="245" y="999"/>
                    </a:lnTo>
                    <a:lnTo>
                      <a:pt x="255" y="1113"/>
                    </a:lnTo>
                    <a:lnTo>
                      <a:pt x="264" y="1226"/>
                    </a:lnTo>
                    <a:lnTo>
                      <a:pt x="271" y="1341"/>
                    </a:lnTo>
                    <a:lnTo>
                      <a:pt x="277" y="1455"/>
                    </a:lnTo>
                    <a:lnTo>
                      <a:pt x="281" y="1570"/>
                    </a:lnTo>
                    <a:lnTo>
                      <a:pt x="284" y="1686"/>
                    </a:lnTo>
                    <a:lnTo>
                      <a:pt x="285" y="1802"/>
                    </a:lnTo>
                    <a:lnTo>
                      <a:pt x="284" y="1939"/>
                    </a:lnTo>
                    <a:lnTo>
                      <a:pt x="280" y="2075"/>
                    </a:lnTo>
                    <a:lnTo>
                      <a:pt x="275" y="2211"/>
                    </a:lnTo>
                    <a:lnTo>
                      <a:pt x="266" y="2347"/>
                    </a:lnTo>
                    <a:lnTo>
                      <a:pt x="256" y="2482"/>
                    </a:lnTo>
                    <a:lnTo>
                      <a:pt x="243" y="2616"/>
                    </a:lnTo>
                    <a:lnTo>
                      <a:pt x="228" y="2750"/>
                    </a:lnTo>
                    <a:lnTo>
                      <a:pt x="211" y="2882"/>
                    </a:lnTo>
                    <a:lnTo>
                      <a:pt x="193" y="3015"/>
                    </a:lnTo>
                    <a:lnTo>
                      <a:pt x="171" y="3146"/>
                    </a:lnTo>
                    <a:lnTo>
                      <a:pt x="148" y="3276"/>
                    </a:lnTo>
                    <a:lnTo>
                      <a:pt x="122" y="3407"/>
                    </a:lnTo>
                    <a:lnTo>
                      <a:pt x="95" y="3536"/>
                    </a:lnTo>
                    <a:lnTo>
                      <a:pt x="65" y="3664"/>
                    </a:lnTo>
                    <a:lnTo>
                      <a:pt x="33" y="3792"/>
                    </a:lnTo>
                    <a:lnTo>
                      <a:pt x="0" y="3919"/>
                    </a:lnTo>
                    <a:lnTo>
                      <a:pt x="93" y="3902"/>
                    </a:lnTo>
                    <a:lnTo>
                      <a:pt x="100" y="3902"/>
                    </a:lnTo>
                    <a:lnTo>
                      <a:pt x="134" y="3776"/>
                    </a:lnTo>
                    <a:lnTo>
                      <a:pt x="164" y="3649"/>
                    </a:lnTo>
                    <a:lnTo>
                      <a:pt x="193" y="3522"/>
                    </a:lnTo>
                    <a:lnTo>
                      <a:pt x="220" y="3394"/>
                    </a:lnTo>
                    <a:lnTo>
                      <a:pt x="245" y="3265"/>
                    </a:lnTo>
                    <a:lnTo>
                      <a:pt x="268" y="3135"/>
                    </a:lnTo>
                    <a:lnTo>
                      <a:pt x="288" y="3004"/>
                    </a:lnTo>
                    <a:lnTo>
                      <a:pt x="307" y="2873"/>
                    </a:lnTo>
                    <a:lnTo>
                      <a:pt x="323" y="2742"/>
                    </a:lnTo>
                    <a:lnTo>
                      <a:pt x="338" y="2609"/>
                    </a:lnTo>
                    <a:lnTo>
                      <a:pt x="350" y="2476"/>
                    </a:lnTo>
                    <a:lnTo>
                      <a:pt x="360" y="2343"/>
                    </a:lnTo>
                    <a:lnTo>
                      <a:pt x="368" y="2208"/>
                    </a:lnTo>
                    <a:lnTo>
                      <a:pt x="374" y="2073"/>
                    </a:lnTo>
                    <a:lnTo>
                      <a:pt x="376" y="1938"/>
                    </a:lnTo>
                    <a:lnTo>
                      <a:pt x="377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62720" y="3795840"/>
                <a:ext cx="101520" cy="1038240"/>
              </a:xfrm>
              <a:custGeom>
                <a:avLst/>
                <a:gdLst/>
                <a:ahLst/>
                <a:rect l="l" t="t" r="r" b="b"/>
                <a:pathLst>
                  <a:path w="382" h="3928">
                    <a:moveTo>
                      <a:pt x="382" y="1802"/>
                    </a:moveTo>
                    <a:lnTo>
                      <a:pt x="381" y="1686"/>
                    </a:lnTo>
                    <a:lnTo>
                      <a:pt x="379" y="1570"/>
                    </a:lnTo>
                    <a:lnTo>
                      <a:pt x="375" y="1455"/>
                    </a:lnTo>
                    <a:lnTo>
                      <a:pt x="369" y="1341"/>
                    </a:lnTo>
                    <a:lnTo>
                      <a:pt x="361" y="1226"/>
                    </a:lnTo>
                    <a:lnTo>
                      <a:pt x="353" y="1113"/>
                    </a:lnTo>
                    <a:lnTo>
                      <a:pt x="342" y="999"/>
                    </a:lnTo>
                    <a:lnTo>
                      <a:pt x="330" y="886"/>
                    </a:lnTo>
                    <a:lnTo>
                      <a:pt x="316" y="774"/>
                    </a:lnTo>
                    <a:lnTo>
                      <a:pt x="301" y="662"/>
                    </a:lnTo>
                    <a:lnTo>
                      <a:pt x="285" y="550"/>
                    </a:lnTo>
                    <a:lnTo>
                      <a:pt x="267" y="440"/>
                    </a:lnTo>
                    <a:lnTo>
                      <a:pt x="247" y="329"/>
                    </a:lnTo>
                    <a:lnTo>
                      <a:pt x="225" y="218"/>
                    </a:lnTo>
                    <a:lnTo>
                      <a:pt x="202" y="110"/>
                    </a:lnTo>
                    <a:lnTo>
                      <a:pt x="179" y="0"/>
                    </a:lnTo>
                    <a:lnTo>
                      <a:pt x="144" y="0"/>
                    </a:lnTo>
                    <a:lnTo>
                      <a:pt x="83" y="0"/>
                    </a:lnTo>
                    <a:lnTo>
                      <a:pt x="108" y="110"/>
                    </a:lnTo>
                    <a:lnTo>
                      <a:pt x="131" y="218"/>
                    </a:lnTo>
                    <a:lnTo>
                      <a:pt x="151" y="329"/>
                    </a:lnTo>
                    <a:lnTo>
                      <a:pt x="172" y="440"/>
                    </a:lnTo>
                    <a:lnTo>
                      <a:pt x="191" y="550"/>
                    </a:lnTo>
                    <a:lnTo>
                      <a:pt x="207" y="661"/>
                    </a:lnTo>
                    <a:lnTo>
                      <a:pt x="223" y="774"/>
                    </a:lnTo>
                    <a:lnTo>
                      <a:pt x="237" y="886"/>
                    </a:lnTo>
                    <a:lnTo>
                      <a:pt x="248" y="999"/>
                    </a:lnTo>
                    <a:lnTo>
                      <a:pt x="259" y="1113"/>
                    </a:lnTo>
                    <a:lnTo>
                      <a:pt x="268" y="1226"/>
                    </a:lnTo>
                    <a:lnTo>
                      <a:pt x="276" y="1340"/>
                    </a:lnTo>
                    <a:lnTo>
                      <a:pt x="282" y="1455"/>
                    </a:lnTo>
                    <a:lnTo>
                      <a:pt x="285" y="1570"/>
                    </a:lnTo>
                    <a:lnTo>
                      <a:pt x="287" y="1686"/>
                    </a:lnTo>
                    <a:lnTo>
                      <a:pt x="289" y="1802"/>
                    </a:lnTo>
                    <a:lnTo>
                      <a:pt x="289" y="1871"/>
                    </a:lnTo>
                    <a:lnTo>
                      <a:pt x="287" y="1939"/>
                    </a:lnTo>
                    <a:lnTo>
                      <a:pt x="286" y="2008"/>
                    </a:lnTo>
                    <a:lnTo>
                      <a:pt x="284" y="2076"/>
                    </a:lnTo>
                    <a:lnTo>
                      <a:pt x="278" y="2214"/>
                    </a:lnTo>
                    <a:lnTo>
                      <a:pt x="270" y="2350"/>
                    </a:lnTo>
                    <a:lnTo>
                      <a:pt x="260" y="2485"/>
                    </a:lnTo>
                    <a:lnTo>
                      <a:pt x="247" y="2619"/>
                    </a:lnTo>
                    <a:lnTo>
                      <a:pt x="232" y="2754"/>
                    </a:lnTo>
                    <a:lnTo>
                      <a:pt x="215" y="2887"/>
                    </a:lnTo>
                    <a:lnTo>
                      <a:pt x="195" y="3019"/>
                    </a:lnTo>
                    <a:lnTo>
                      <a:pt x="174" y="3152"/>
                    </a:lnTo>
                    <a:lnTo>
                      <a:pt x="150" y="3283"/>
                    </a:lnTo>
                    <a:lnTo>
                      <a:pt x="125" y="3414"/>
                    </a:lnTo>
                    <a:lnTo>
                      <a:pt x="96" y="3544"/>
                    </a:lnTo>
                    <a:lnTo>
                      <a:pt x="66" y="3672"/>
                    </a:lnTo>
                    <a:lnTo>
                      <a:pt x="34" y="3800"/>
                    </a:lnTo>
                    <a:lnTo>
                      <a:pt x="0" y="3928"/>
                    </a:lnTo>
                    <a:lnTo>
                      <a:pt x="102" y="3909"/>
                    </a:lnTo>
                    <a:lnTo>
                      <a:pt x="134" y="3784"/>
                    </a:lnTo>
                    <a:lnTo>
                      <a:pt x="165" y="3656"/>
                    </a:lnTo>
                    <a:lnTo>
                      <a:pt x="195" y="3528"/>
                    </a:lnTo>
                    <a:lnTo>
                      <a:pt x="222" y="3400"/>
                    </a:lnTo>
                    <a:lnTo>
                      <a:pt x="247" y="3270"/>
                    </a:lnTo>
                    <a:lnTo>
                      <a:pt x="270" y="3140"/>
                    </a:lnTo>
                    <a:lnTo>
                      <a:pt x="291" y="3009"/>
                    </a:lnTo>
                    <a:lnTo>
                      <a:pt x="311" y="2878"/>
                    </a:lnTo>
                    <a:lnTo>
                      <a:pt x="327" y="2745"/>
                    </a:lnTo>
                    <a:lnTo>
                      <a:pt x="342" y="2613"/>
                    </a:lnTo>
                    <a:lnTo>
                      <a:pt x="353" y="2479"/>
                    </a:lnTo>
                    <a:lnTo>
                      <a:pt x="364" y="2345"/>
                    </a:lnTo>
                    <a:lnTo>
                      <a:pt x="372" y="2210"/>
                    </a:lnTo>
                    <a:lnTo>
                      <a:pt x="377" y="2074"/>
                    </a:lnTo>
                    <a:lnTo>
                      <a:pt x="381" y="1938"/>
                    </a:lnTo>
                    <a:lnTo>
                      <a:pt x="382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49760" y="3795840"/>
                <a:ext cx="101880" cy="1041120"/>
              </a:xfrm>
              <a:custGeom>
                <a:avLst/>
                <a:gdLst/>
                <a:ahLst/>
                <a:rect l="l" t="t" r="r" b="b"/>
                <a:pathLst>
                  <a:path w="386" h="3937">
                    <a:moveTo>
                      <a:pt x="386" y="1802"/>
                    </a:moveTo>
                    <a:lnTo>
                      <a:pt x="385" y="1686"/>
                    </a:lnTo>
                    <a:lnTo>
                      <a:pt x="382" y="1570"/>
                    </a:lnTo>
                    <a:lnTo>
                      <a:pt x="378" y="1455"/>
                    </a:lnTo>
                    <a:lnTo>
                      <a:pt x="372" y="1341"/>
                    </a:lnTo>
                    <a:lnTo>
                      <a:pt x="365" y="1226"/>
                    </a:lnTo>
                    <a:lnTo>
                      <a:pt x="356" y="1113"/>
                    </a:lnTo>
                    <a:lnTo>
                      <a:pt x="346" y="999"/>
                    </a:lnTo>
                    <a:lnTo>
                      <a:pt x="333" y="886"/>
                    </a:lnTo>
                    <a:lnTo>
                      <a:pt x="319" y="774"/>
                    </a:lnTo>
                    <a:lnTo>
                      <a:pt x="304" y="662"/>
                    </a:lnTo>
                    <a:lnTo>
                      <a:pt x="288" y="550"/>
                    </a:lnTo>
                    <a:lnTo>
                      <a:pt x="269" y="440"/>
                    </a:lnTo>
                    <a:lnTo>
                      <a:pt x="250" y="329"/>
                    </a:lnTo>
                    <a:lnTo>
                      <a:pt x="228" y="218"/>
                    </a:lnTo>
                    <a:lnTo>
                      <a:pt x="205" y="110"/>
                    </a:lnTo>
                    <a:lnTo>
                      <a:pt x="181" y="0"/>
                    </a:lnTo>
                    <a:lnTo>
                      <a:pt x="85" y="0"/>
                    </a:lnTo>
                    <a:lnTo>
                      <a:pt x="109" y="109"/>
                    </a:lnTo>
                    <a:lnTo>
                      <a:pt x="132" y="218"/>
                    </a:lnTo>
                    <a:lnTo>
                      <a:pt x="154" y="329"/>
                    </a:lnTo>
                    <a:lnTo>
                      <a:pt x="175" y="438"/>
                    </a:lnTo>
                    <a:lnTo>
                      <a:pt x="193" y="550"/>
                    </a:lnTo>
                    <a:lnTo>
                      <a:pt x="211" y="661"/>
                    </a:lnTo>
                    <a:lnTo>
                      <a:pt x="226" y="773"/>
                    </a:lnTo>
                    <a:lnTo>
                      <a:pt x="239" y="886"/>
                    </a:lnTo>
                    <a:lnTo>
                      <a:pt x="252" y="999"/>
                    </a:lnTo>
                    <a:lnTo>
                      <a:pt x="263" y="1112"/>
                    </a:lnTo>
                    <a:lnTo>
                      <a:pt x="272" y="1226"/>
                    </a:lnTo>
                    <a:lnTo>
                      <a:pt x="279" y="1340"/>
                    </a:lnTo>
                    <a:lnTo>
                      <a:pt x="284" y="1455"/>
                    </a:lnTo>
                    <a:lnTo>
                      <a:pt x="289" y="1570"/>
                    </a:lnTo>
                    <a:lnTo>
                      <a:pt x="291" y="1686"/>
                    </a:lnTo>
                    <a:lnTo>
                      <a:pt x="292" y="1802"/>
                    </a:lnTo>
                    <a:lnTo>
                      <a:pt x="292" y="1871"/>
                    </a:lnTo>
                    <a:lnTo>
                      <a:pt x="291" y="1940"/>
                    </a:lnTo>
                    <a:lnTo>
                      <a:pt x="289" y="2010"/>
                    </a:lnTo>
                    <a:lnTo>
                      <a:pt x="288" y="2078"/>
                    </a:lnTo>
                    <a:lnTo>
                      <a:pt x="282" y="2216"/>
                    </a:lnTo>
                    <a:lnTo>
                      <a:pt x="273" y="2352"/>
                    </a:lnTo>
                    <a:lnTo>
                      <a:pt x="263" y="2488"/>
                    </a:lnTo>
                    <a:lnTo>
                      <a:pt x="250" y="2624"/>
                    </a:lnTo>
                    <a:lnTo>
                      <a:pt x="235" y="2758"/>
                    </a:lnTo>
                    <a:lnTo>
                      <a:pt x="218" y="2893"/>
                    </a:lnTo>
                    <a:lnTo>
                      <a:pt x="198" y="3025"/>
                    </a:lnTo>
                    <a:lnTo>
                      <a:pt x="176" y="3158"/>
                    </a:lnTo>
                    <a:lnTo>
                      <a:pt x="152" y="3289"/>
                    </a:lnTo>
                    <a:lnTo>
                      <a:pt x="125" y="3421"/>
                    </a:lnTo>
                    <a:lnTo>
                      <a:pt x="98" y="3551"/>
                    </a:lnTo>
                    <a:lnTo>
                      <a:pt x="66" y="3680"/>
                    </a:lnTo>
                    <a:lnTo>
                      <a:pt x="34" y="3809"/>
                    </a:lnTo>
                    <a:lnTo>
                      <a:pt x="0" y="3937"/>
                    </a:lnTo>
                    <a:lnTo>
                      <a:pt x="101" y="3919"/>
                    </a:lnTo>
                    <a:lnTo>
                      <a:pt x="134" y="3792"/>
                    </a:lnTo>
                    <a:lnTo>
                      <a:pt x="166" y="3664"/>
                    </a:lnTo>
                    <a:lnTo>
                      <a:pt x="196" y="3536"/>
                    </a:lnTo>
                    <a:lnTo>
                      <a:pt x="223" y="3407"/>
                    </a:lnTo>
                    <a:lnTo>
                      <a:pt x="249" y="3276"/>
                    </a:lnTo>
                    <a:lnTo>
                      <a:pt x="272" y="3146"/>
                    </a:lnTo>
                    <a:lnTo>
                      <a:pt x="294" y="3015"/>
                    </a:lnTo>
                    <a:lnTo>
                      <a:pt x="312" y="2882"/>
                    </a:lnTo>
                    <a:lnTo>
                      <a:pt x="329" y="2750"/>
                    </a:lnTo>
                    <a:lnTo>
                      <a:pt x="344" y="2616"/>
                    </a:lnTo>
                    <a:lnTo>
                      <a:pt x="357" y="2482"/>
                    </a:lnTo>
                    <a:lnTo>
                      <a:pt x="367" y="2347"/>
                    </a:lnTo>
                    <a:lnTo>
                      <a:pt x="376" y="2211"/>
                    </a:lnTo>
                    <a:lnTo>
                      <a:pt x="381" y="2075"/>
                    </a:lnTo>
                    <a:lnTo>
                      <a:pt x="385" y="1939"/>
                    </a:lnTo>
                    <a:lnTo>
                      <a:pt x="386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35720" y="3795840"/>
                <a:ext cx="102960" cy="1042920"/>
              </a:xfrm>
              <a:custGeom>
                <a:avLst/>
                <a:gdLst/>
                <a:ahLst/>
                <a:rect l="l" t="t" r="r" b="b"/>
                <a:pathLst>
                  <a:path w="390" h="3943">
                    <a:moveTo>
                      <a:pt x="390" y="1802"/>
                    </a:moveTo>
                    <a:lnTo>
                      <a:pt x="388" y="1686"/>
                    </a:lnTo>
                    <a:lnTo>
                      <a:pt x="386" y="1570"/>
                    </a:lnTo>
                    <a:lnTo>
                      <a:pt x="383" y="1455"/>
                    </a:lnTo>
                    <a:lnTo>
                      <a:pt x="377" y="1340"/>
                    </a:lnTo>
                    <a:lnTo>
                      <a:pt x="369" y="1226"/>
                    </a:lnTo>
                    <a:lnTo>
                      <a:pt x="360" y="1113"/>
                    </a:lnTo>
                    <a:lnTo>
                      <a:pt x="349" y="999"/>
                    </a:lnTo>
                    <a:lnTo>
                      <a:pt x="338" y="886"/>
                    </a:lnTo>
                    <a:lnTo>
                      <a:pt x="324" y="774"/>
                    </a:lnTo>
                    <a:lnTo>
                      <a:pt x="308" y="661"/>
                    </a:lnTo>
                    <a:lnTo>
                      <a:pt x="292" y="550"/>
                    </a:lnTo>
                    <a:lnTo>
                      <a:pt x="273" y="440"/>
                    </a:lnTo>
                    <a:lnTo>
                      <a:pt x="252" y="329"/>
                    </a:lnTo>
                    <a:lnTo>
                      <a:pt x="232" y="218"/>
                    </a:lnTo>
                    <a:lnTo>
                      <a:pt x="209" y="110"/>
                    </a:lnTo>
                    <a:lnTo>
                      <a:pt x="184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113" y="109"/>
                    </a:lnTo>
                    <a:lnTo>
                      <a:pt x="136" y="218"/>
                    </a:lnTo>
                    <a:lnTo>
                      <a:pt x="158" y="329"/>
                    </a:lnTo>
                    <a:lnTo>
                      <a:pt x="177" y="438"/>
                    </a:lnTo>
                    <a:lnTo>
                      <a:pt x="197" y="550"/>
                    </a:lnTo>
                    <a:lnTo>
                      <a:pt x="214" y="661"/>
                    </a:lnTo>
                    <a:lnTo>
                      <a:pt x="229" y="773"/>
                    </a:lnTo>
                    <a:lnTo>
                      <a:pt x="243" y="886"/>
                    </a:lnTo>
                    <a:lnTo>
                      <a:pt x="256" y="999"/>
                    </a:lnTo>
                    <a:lnTo>
                      <a:pt x="266" y="1112"/>
                    </a:lnTo>
                    <a:lnTo>
                      <a:pt x="275" y="1226"/>
                    </a:lnTo>
                    <a:lnTo>
                      <a:pt x="284" y="1340"/>
                    </a:lnTo>
                    <a:lnTo>
                      <a:pt x="289" y="1455"/>
                    </a:lnTo>
                    <a:lnTo>
                      <a:pt x="293" y="1570"/>
                    </a:lnTo>
                    <a:lnTo>
                      <a:pt x="296" y="1686"/>
                    </a:lnTo>
                    <a:lnTo>
                      <a:pt x="296" y="1802"/>
                    </a:lnTo>
                    <a:lnTo>
                      <a:pt x="296" y="1871"/>
                    </a:lnTo>
                    <a:lnTo>
                      <a:pt x="295" y="1940"/>
                    </a:lnTo>
                    <a:lnTo>
                      <a:pt x="294" y="2010"/>
                    </a:lnTo>
                    <a:lnTo>
                      <a:pt x="292" y="2079"/>
                    </a:lnTo>
                    <a:lnTo>
                      <a:pt x="289" y="2148"/>
                    </a:lnTo>
                    <a:lnTo>
                      <a:pt x="286" y="2217"/>
                    </a:lnTo>
                    <a:lnTo>
                      <a:pt x="282" y="2285"/>
                    </a:lnTo>
                    <a:lnTo>
                      <a:pt x="278" y="2354"/>
                    </a:lnTo>
                    <a:lnTo>
                      <a:pt x="272" y="2422"/>
                    </a:lnTo>
                    <a:lnTo>
                      <a:pt x="266" y="2490"/>
                    </a:lnTo>
                    <a:lnTo>
                      <a:pt x="260" y="2558"/>
                    </a:lnTo>
                    <a:lnTo>
                      <a:pt x="254" y="2626"/>
                    </a:lnTo>
                    <a:lnTo>
                      <a:pt x="239" y="2761"/>
                    </a:lnTo>
                    <a:lnTo>
                      <a:pt x="221" y="2895"/>
                    </a:lnTo>
                    <a:lnTo>
                      <a:pt x="200" y="3029"/>
                    </a:lnTo>
                    <a:lnTo>
                      <a:pt x="179" y="3162"/>
                    </a:lnTo>
                    <a:lnTo>
                      <a:pt x="154" y="3294"/>
                    </a:lnTo>
                    <a:lnTo>
                      <a:pt x="128" y="3425"/>
                    </a:lnTo>
                    <a:lnTo>
                      <a:pt x="99" y="3555"/>
                    </a:lnTo>
                    <a:lnTo>
                      <a:pt x="68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17" y="3943"/>
                    </a:lnTo>
                    <a:lnTo>
                      <a:pt x="101" y="3928"/>
                    </a:lnTo>
                    <a:lnTo>
                      <a:pt x="135" y="3801"/>
                    </a:lnTo>
                    <a:lnTo>
                      <a:pt x="167" y="3672"/>
                    </a:lnTo>
                    <a:lnTo>
                      <a:pt x="197" y="3544"/>
                    </a:lnTo>
                    <a:lnTo>
                      <a:pt x="226" y="3414"/>
                    </a:lnTo>
                    <a:lnTo>
                      <a:pt x="251" y="3283"/>
                    </a:lnTo>
                    <a:lnTo>
                      <a:pt x="275" y="3152"/>
                    </a:lnTo>
                    <a:lnTo>
                      <a:pt x="296" y="3021"/>
                    </a:lnTo>
                    <a:lnTo>
                      <a:pt x="316" y="2887"/>
                    </a:lnTo>
                    <a:lnTo>
                      <a:pt x="333" y="2754"/>
                    </a:lnTo>
                    <a:lnTo>
                      <a:pt x="348" y="2619"/>
                    </a:lnTo>
                    <a:lnTo>
                      <a:pt x="361" y="2485"/>
                    </a:lnTo>
                    <a:lnTo>
                      <a:pt x="371" y="2350"/>
                    </a:lnTo>
                    <a:lnTo>
                      <a:pt x="379" y="2214"/>
                    </a:lnTo>
                    <a:lnTo>
                      <a:pt x="385" y="2076"/>
                    </a:lnTo>
                    <a:lnTo>
                      <a:pt x="387" y="2008"/>
                    </a:lnTo>
                    <a:lnTo>
                      <a:pt x="388" y="1939"/>
                    </a:lnTo>
                    <a:lnTo>
                      <a:pt x="390" y="1871"/>
                    </a:lnTo>
                    <a:lnTo>
                      <a:pt x="390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27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2" h="3943">
                    <a:moveTo>
                      <a:pt x="392" y="1802"/>
                    </a:moveTo>
                    <a:lnTo>
                      <a:pt x="391" y="1686"/>
                    </a:lnTo>
                    <a:lnTo>
                      <a:pt x="389" y="1570"/>
                    </a:lnTo>
                    <a:lnTo>
                      <a:pt x="384" y="1455"/>
                    </a:lnTo>
                    <a:lnTo>
                      <a:pt x="379" y="1340"/>
                    </a:lnTo>
                    <a:lnTo>
                      <a:pt x="372" y="1226"/>
                    </a:lnTo>
                    <a:lnTo>
                      <a:pt x="363" y="1112"/>
                    </a:lnTo>
                    <a:lnTo>
                      <a:pt x="352" y="999"/>
                    </a:lnTo>
                    <a:lnTo>
                      <a:pt x="339" y="886"/>
                    </a:lnTo>
                    <a:lnTo>
                      <a:pt x="326" y="773"/>
                    </a:lnTo>
                    <a:lnTo>
                      <a:pt x="309" y="661"/>
                    </a:lnTo>
                    <a:lnTo>
                      <a:pt x="293" y="550"/>
                    </a:lnTo>
                    <a:lnTo>
                      <a:pt x="275" y="438"/>
                    </a:lnTo>
                    <a:lnTo>
                      <a:pt x="254" y="329"/>
                    </a:lnTo>
                    <a:lnTo>
                      <a:pt x="232" y="218"/>
                    </a:lnTo>
                    <a:lnTo>
                      <a:pt x="209" y="109"/>
                    </a:lnTo>
                    <a:lnTo>
                      <a:pt x="185" y="0"/>
                    </a:lnTo>
                    <a:lnTo>
                      <a:pt x="140" y="0"/>
                    </a:lnTo>
                    <a:lnTo>
                      <a:pt x="89" y="0"/>
                    </a:lnTo>
                    <a:lnTo>
                      <a:pt x="113" y="109"/>
                    </a:lnTo>
                    <a:lnTo>
                      <a:pt x="138" y="218"/>
                    </a:lnTo>
                    <a:lnTo>
                      <a:pt x="160" y="329"/>
                    </a:lnTo>
                    <a:lnTo>
                      <a:pt x="179" y="438"/>
                    </a:lnTo>
                    <a:lnTo>
                      <a:pt x="199" y="550"/>
                    </a:lnTo>
                    <a:lnTo>
                      <a:pt x="216" y="661"/>
                    </a:lnTo>
                    <a:lnTo>
                      <a:pt x="231" y="773"/>
                    </a:lnTo>
                    <a:lnTo>
                      <a:pt x="245" y="886"/>
                    </a:lnTo>
                    <a:lnTo>
                      <a:pt x="258" y="999"/>
                    </a:lnTo>
                    <a:lnTo>
                      <a:pt x="269" y="1112"/>
                    </a:lnTo>
                    <a:lnTo>
                      <a:pt x="278" y="1226"/>
                    </a:lnTo>
                    <a:lnTo>
                      <a:pt x="285" y="1340"/>
                    </a:lnTo>
                    <a:lnTo>
                      <a:pt x="291" y="1455"/>
                    </a:lnTo>
                    <a:lnTo>
                      <a:pt x="296" y="1570"/>
                    </a:lnTo>
                    <a:lnTo>
                      <a:pt x="298" y="1686"/>
                    </a:lnTo>
                    <a:lnTo>
                      <a:pt x="299" y="1802"/>
                    </a:lnTo>
                    <a:lnTo>
                      <a:pt x="299" y="1871"/>
                    </a:lnTo>
                    <a:lnTo>
                      <a:pt x="298" y="1940"/>
                    </a:lnTo>
                    <a:lnTo>
                      <a:pt x="297" y="2010"/>
                    </a:lnTo>
                    <a:lnTo>
                      <a:pt x="294" y="2079"/>
                    </a:lnTo>
                    <a:lnTo>
                      <a:pt x="291" y="2148"/>
                    </a:lnTo>
                    <a:lnTo>
                      <a:pt x="288" y="2217"/>
                    </a:lnTo>
                    <a:lnTo>
                      <a:pt x="284" y="2285"/>
                    </a:lnTo>
                    <a:lnTo>
                      <a:pt x="279" y="2354"/>
                    </a:lnTo>
                    <a:lnTo>
                      <a:pt x="269" y="2490"/>
                    </a:lnTo>
                    <a:lnTo>
                      <a:pt x="255" y="2626"/>
                    </a:lnTo>
                    <a:lnTo>
                      <a:pt x="240" y="2761"/>
                    </a:lnTo>
                    <a:lnTo>
                      <a:pt x="223" y="2896"/>
                    </a:lnTo>
                    <a:lnTo>
                      <a:pt x="202" y="3029"/>
                    </a:lnTo>
                    <a:lnTo>
                      <a:pt x="180" y="3162"/>
                    </a:lnTo>
                    <a:lnTo>
                      <a:pt x="156" y="3294"/>
                    </a:lnTo>
                    <a:lnTo>
                      <a:pt x="130" y="3425"/>
                    </a:lnTo>
                    <a:lnTo>
                      <a:pt x="101" y="3555"/>
                    </a:lnTo>
                    <a:lnTo>
                      <a:pt x="70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66" y="3943"/>
                    </a:lnTo>
                    <a:lnTo>
                      <a:pt x="100" y="3937"/>
                    </a:lnTo>
                    <a:lnTo>
                      <a:pt x="134" y="3809"/>
                    </a:lnTo>
                    <a:lnTo>
                      <a:pt x="166" y="3680"/>
                    </a:lnTo>
                    <a:lnTo>
                      <a:pt x="196" y="3551"/>
                    </a:lnTo>
                    <a:lnTo>
                      <a:pt x="225" y="3421"/>
                    </a:lnTo>
                    <a:lnTo>
                      <a:pt x="252" y="3289"/>
                    </a:lnTo>
                    <a:lnTo>
                      <a:pt x="276" y="3158"/>
                    </a:lnTo>
                    <a:lnTo>
                      <a:pt x="298" y="3025"/>
                    </a:lnTo>
                    <a:lnTo>
                      <a:pt x="318" y="2893"/>
                    </a:lnTo>
                    <a:lnTo>
                      <a:pt x="335" y="2758"/>
                    </a:lnTo>
                    <a:lnTo>
                      <a:pt x="350" y="2624"/>
                    </a:lnTo>
                    <a:lnTo>
                      <a:pt x="363" y="2488"/>
                    </a:lnTo>
                    <a:lnTo>
                      <a:pt x="373" y="2352"/>
                    </a:lnTo>
                    <a:lnTo>
                      <a:pt x="381" y="2216"/>
                    </a:lnTo>
                    <a:lnTo>
                      <a:pt x="388" y="2078"/>
                    </a:lnTo>
                    <a:lnTo>
                      <a:pt x="389" y="2010"/>
                    </a:lnTo>
                    <a:lnTo>
                      <a:pt x="391" y="1940"/>
                    </a:lnTo>
                    <a:lnTo>
                      <a:pt x="392" y="1871"/>
                    </a:lnTo>
                    <a:lnTo>
                      <a:pt x="392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101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3" h="3943">
                    <a:moveTo>
                      <a:pt x="393" y="1802"/>
                    </a:moveTo>
                    <a:lnTo>
                      <a:pt x="393" y="1686"/>
                    </a:lnTo>
                    <a:lnTo>
                      <a:pt x="390" y="1570"/>
                    </a:lnTo>
                    <a:lnTo>
                      <a:pt x="386" y="1455"/>
                    </a:lnTo>
                    <a:lnTo>
                      <a:pt x="381" y="1340"/>
                    </a:lnTo>
                    <a:lnTo>
                      <a:pt x="372" y="1226"/>
                    </a:lnTo>
                    <a:lnTo>
                      <a:pt x="363" y="1112"/>
                    </a:lnTo>
                    <a:lnTo>
                      <a:pt x="353" y="999"/>
                    </a:lnTo>
                    <a:lnTo>
                      <a:pt x="340" y="886"/>
                    </a:lnTo>
                    <a:lnTo>
                      <a:pt x="326" y="773"/>
                    </a:lnTo>
                    <a:lnTo>
                      <a:pt x="311" y="661"/>
                    </a:lnTo>
                    <a:lnTo>
                      <a:pt x="294" y="550"/>
                    </a:lnTo>
                    <a:lnTo>
                      <a:pt x="274" y="438"/>
                    </a:lnTo>
                    <a:lnTo>
                      <a:pt x="255" y="329"/>
                    </a:lnTo>
                    <a:lnTo>
                      <a:pt x="233" y="218"/>
                    </a:lnTo>
                    <a:lnTo>
                      <a:pt x="210" y="109"/>
                    </a:lnTo>
                    <a:lnTo>
                      <a:pt x="184" y="0"/>
                    </a:lnTo>
                    <a:lnTo>
                      <a:pt x="114" y="0"/>
                    </a:lnTo>
                    <a:lnTo>
                      <a:pt x="89" y="0"/>
                    </a:lnTo>
                    <a:lnTo>
                      <a:pt x="114" y="109"/>
                    </a:lnTo>
                    <a:lnTo>
                      <a:pt x="137" y="218"/>
                    </a:lnTo>
                    <a:lnTo>
                      <a:pt x="159" y="328"/>
                    </a:lnTo>
                    <a:lnTo>
                      <a:pt x="180" y="438"/>
                    </a:lnTo>
                    <a:lnTo>
                      <a:pt x="199" y="549"/>
                    </a:lnTo>
                    <a:lnTo>
                      <a:pt x="217" y="661"/>
                    </a:lnTo>
                    <a:lnTo>
                      <a:pt x="232" y="773"/>
                    </a:lnTo>
                    <a:lnTo>
                      <a:pt x="247" y="886"/>
                    </a:lnTo>
                    <a:lnTo>
                      <a:pt x="259" y="999"/>
                    </a:lnTo>
                    <a:lnTo>
                      <a:pt x="270" y="1112"/>
                    </a:lnTo>
                    <a:lnTo>
                      <a:pt x="279" y="1226"/>
                    </a:lnTo>
                    <a:lnTo>
                      <a:pt x="287" y="1340"/>
                    </a:lnTo>
                    <a:lnTo>
                      <a:pt x="293" y="1455"/>
                    </a:lnTo>
                    <a:lnTo>
                      <a:pt x="297" y="1570"/>
                    </a:lnTo>
                    <a:lnTo>
                      <a:pt x="300" y="1686"/>
                    </a:lnTo>
                    <a:lnTo>
                      <a:pt x="301" y="1802"/>
                    </a:lnTo>
                    <a:lnTo>
                      <a:pt x="300" y="1871"/>
                    </a:lnTo>
                    <a:lnTo>
                      <a:pt x="299" y="1940"/>
                    </a:lnTo>
                    <a:lnTo>
                      <a:pt x="297" y="2010"/>
                    </a:lnTo>
                    <a:lnTo>
                      <a:pt x="295" y="2079"/>
                    </a:lnTo>
                    <a:lnTo>
                      <a:pt x="289" y="2217"/>
                    </a:lnTo>
                    <a:lnTo>
                      <a:pt x="281" y="2354"/>
                    </a:lnTo>
                    <a:lnTo>
                      <a:pt x="270" y="2490"/>
                    </a:lnTo>
                    <a:lnTo>
                      <a:pt x="257" y="2626"/>
                    </a:lnTo>
                    <a:lnTo>
                      <a:pt x="241" y="2761"/>
                    </a:lnTo>
                    <a:lnTo>
                      <a:pt x="224" y="2896"/>
                    </a:lnTo>
                    <a:lnTo>
                      <a:pt x="203" y="3030"/>
                    </a:lnTo>
                    <a:lnTo>
                      <a:pt x="181" y="3162"/>
                    </a:lnTo>
                    <a:lnTo>
                      <a:pt x="157" y="3294"/>
                    </a:lnTo>
                    <a:lnTo>
                      <a:pt x="129" y="3425"/>
                    </a:lnTo>
                    <a:lnTo>
                      <a:pt x="100" y="3557"/>
                    </a:lnTo>
                    <a:lnTo>
                      <a:pt x="69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5" y="3686"/>
                    </a:lnTo>
                    <a:lnTo>
                      <a:pt x="196" y="3555"/>
                    </a:lnTo>
                    <a:lnTo>
                      <a:pt x="225" y="3425"/>
                    </a:lnTo>
                    <a:lnTo>
                      <a:pt x="251" y="3294"/>
                    </a:lnTo>
                    <a:lnTo>
                      <a:pt x="276" y="3162"/>
                    </a:lnTo>
                    <a:lnTo>
                      <a:pt x="297" y="3029"/>
                    </a:lnTo>
                    <a:lnTo>
                      <a:pt x="318" y="2895"/>
                    </a:lnTo>
                    <a:lnTo>
                      <a:pt x="336" y="2761"/>
                    </a:lnTo>
                    <a:lnTo>
                      <a:pt x="351" y="2626"/>
                    </a:lnTo>
                    <a:lnTo>
                      <a:pt x="357" y="2558"/>
                    </a:lnTo>
                    <a:lnTo>
                      <a:pt x="363" y="2490"/>
                    </a:lnTo>
                    <a:lnTo>
                      <a:pt x="369" y="2422"/>
                    </a:lnTo>
                    <a:lnTo>
                      <a:pt x="375" y="2354"/>
                    </a:lnTo>
                    <a:lnTo>
                      <a:pt x="379" y="2285"/>
                    </a:lnTo>
                    <a:lnTo>
                      <a:pt x="383" y="2217"/>
                    </a:lnTo>
                    <a:lnTo>
                      <a:pt x="386" y="2148"/>
                    </a:lnTo>
                    <a:lnTo>
                      <a:pt x="389" y="2079"/>
                    </a:lnTo>
                    <a:lnTo>
                      <a:pt x="391" y="2010"/>
                    </a:lnTo>
                    <a:lnTo>
                      <a:pt x="392" y="1940"/>
                    </a:lnTo>
                    <a:lnTo>
                      <a:pt x="393" y="1871"/>
                    </a:lnTo>
                    <a:lnTo>
                      <a:pt x="393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975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6" h="3943">
                    <a:moveTo>
                      <a:pt x="396" y="1802"/>
                    </a:moveTo>
                    <a:lnTo>
                      <a:pt x="395" y="1686"/>
                    </a:lnTo>
                    <a:lnTo>
                      <a:pt x="393" y="1570"/>
                    </a:lnTo>
                    <a:lnTo>
                      <a:pt x="388" y="1455"/>
                    </a:lnTo>
                    <a:lnTo>
                      <a:pt x="382" y="1340"/>
                    </a:lnTo>
                    <a:lnTo>
                      <a:pt x="375" y="1226"/>
                    </a:lnTo>
                    <a:lnTo>
                      <a:pt x="366" y="1112"/>
                    </a:lnTo>
                    <a:lnTo>
                      <a:pt x="355" y="999"/>
                    </a:lnTo>
                    <a:lnTo>
                      <a:pt x="342" y="886"/>
                    </a:lnTo>
                    <a:lnTo>
                      <a:pt x="328" y="773"/>
                    </a:lnTo>
                    <a:lnTo>
                      <a:pt x="313" y="661"/>
                    </a:lnTo>
                    <a:lnTo>
                      <a:pt x="296" y="550"/>
                    </a:lnTo>
                    <a:lnTo>
                      <a:pt x="276" y="438"/>
                    </a:lnTo>
                    <a:lnTo>
                      <a:pt x="257" y="329"/>
                    </a:lnTo>
                    <a:lnTo>
                      <a:pt x="235" y="218"/>
                    </a:lnTo>
                    <a:lnTo>
                      <a:pt x="210" y="109"/>
                    </a:lnTo>
                    <a:lnTo>
                      <a:pt x="186" y="0"/>
                    </a:lnTo>
                    <a:lnTo>
                      <a:pt x="163" y="0"/>
                    </a:lnTo>
                    <a:lnTo>
                      <a:pt x="90" y="0"/>
                    </a:lnTo>
                    <a:lnTo>
                      <a:pt x="115" y="109"/>
                    </a:lnTo>
                    <a:lnTo>
                      <a:pt x="139" y="218"/>
                    </a:lnTo>
                    <a:lnTo>
                      <a:pt x="161" y="328"/>
                    </a:lnTo>
                    <a:lnTo>
                      <a:pt x="182" y="438"/>
                    </a:lnTo>
                    <a:lnTo>
                      <a:pt x="201" y="549"/>
                    </a:lnTo>
                    <a:lnTo>
                      <a:pt x="218" y="661"/>
                    </a:lnTo>
                    <a:lnTo>
                      <a:pt x="235" y="773"/>
                    </a:lnTo>
                    <a:lnTo>
                      <a:pt x="248" y="886"/>
                    </a:lnTo>
                    <a:lnTo>
                      <a:pt x="261" y="999"/>
                    </a:lnTo>
                    <a:lnTo>
                      <a:pt x="271" y="1112"/>
                    </a:lnTo>
                    <a:lnTo>
                      <a:pt x="282" y="1226"/>
                    </a:lnTo>
                    <a:lnTo>
                      <a:pt x="289" y="1340"/>
                    </a:lnTo>
                    <a:lnTo>
                      <a:pt x="295" y="1455"/>
                    </a:lnTo>
                    <a:lnTo>
                      <a:pt x="299" y="1570"/>
                    </a:lnTo>
                    <a:lnTo>
                      <a:pt x="301" y="1686"/>
                    </a:lnTo>
                    <a:lnTo>
                      <a:pt x="303" y="1802"/>
                    </a:lnTo>
                    <a:lnTo>
                      <a:pt x="303" y="1871"/>
                    </a:lnTo>
                    <a:lnTo>
                      <a:pt x="301" y="1940"/>
                    </a:lnTo>
                    <a:lnTo>
                      <a:pt x="300" y="2011"/>
                    </a:lnTo>
                    <a:lnTo>
                      <a:pt x="298" y="2079"/>
                    </a:lnTo>
                    <a:lnTo>
                      <a:pt x="295" y="2148"/>
                    </a:lnTo>
                    <a:lnTo>
                      <a:pt x="292" y="2217"/>
                    </a:lnTo>
                    <a:lnTo>
                      <a:pt x="288" y="2286"/>
                    </a:lnTo>
                    <a:lnTo>
                      <a:pt x="283" y="2354"/>
                    </a:lnTo>
                    <a:lnTo>
                      <a:pt x="278" y="2422"/>
                    </a:lnTo>
                    <a:lnTo>
                      <a:pt x="273" y="2490"/>
                    </a:lnTo>
                    <a:lnTo>
                      <a:pt x="266" y="2558"/>
                    </a:lnTo>
                    <a:lnTo>
                      <a:pt x="259" y="2626"/>
                    </a:lnTo>
                    <a:lnTo>
                      <a:pt x="251" y="2694"/>
                    </a:lnTo>
                    <a:lnTo>
                      <a:pt x="244" y="2761"/>
                    </a:lnTo>
                    <a:lnTo>
                      <a:pt x="235" y="2829"/>
                    </a:lnTo>
                    <a:lnTo>
                      <a:pt x="225" y="2896"/>
                    </a:lnTo>
                    <a:lnTo>
                      <a:pt x="205" y="3030"/>
                    </a:lnTo>
                    <a:lnTo>
                      <a:pt x="183" y="3162"/>
                    </a:lnTo>
                    <a:lnTo>
                      <a:pt x="157" y="3295"/>
                    </a:lnTo>
                    <a:lnTo>
                      <a:pt x="131" y="3426"/>
                    </a:lnTo>
                    <a:lnTo>
                      <a:pt x="101" y="3557"/>
                    </a:lnTo>
                    <a:lnTo>
                      <a:pt x="70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7" y="3686"/>
                    </a:lnTo>
                    <a:lnTo>
                      <a:pt x="198" y="3555"/>
                    </a:lnTo>
                    <a:lnTo>
                      <a:pt x="227" y="3425"/>
                    </a:lnTo>
                    <a:lnTo>
                      <a:pt x="253" y="3294"/>
                    </a:lnTo>
                    <a:lnTo>
                      <a:pt x="277" y="3162"/>
                    </a:lnTo>
                    <a:lnTo>
                      <a:pt x="299" y="3029"/>
                    </a:lnTo>
                    <a:lnTo>
                      <a:pt x="320" y="2896"/>
                    </a:lnTo>
                    <a:lnTo>
                      <a:pt x="337" y="2761"/>
                    </a:lnTo>
                    <a:lnTo>
                      <a:pt x="352" y="2626"/>
                    </a:lnTo>
                    <a:lnTo>
                      <a:pt x="366" y="2490"/>
                    </a:lnTo>
                    <a:lnTo>
                      <a:pt x="376" y="2354"/>
                    </a:lnTo>
                    <a:lnTo>
                      <a:pt x="381" y="2285"/>
                    </a:lnTo>
                    <a:lnTo>
                      <a:pt x="385" y="2217"/>
                    </a:lnTo>
                    <a:lnTo>
                      <a:pt x="388" y="2148"/>
                    </a:lnTo>
                    <a:lnTo>
                      <a:pt x="391" y="2079"/>
                    </a:lnTo>
                    <a:lnTo>
                      <a:pt x="394" y="2010"/>
                    </a:lnTo>
                    <a:lnTo>
                      <a:pt x="395" y="1940"/>
                    </a:lnTo>
                    <a:lnTo>
                      <a:pt x="396" y="1871"/>
                    </a:lnTo>
                    <a:lnTo>
                      <a:pt x="396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49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8" h="3943">
                    <a:moveTo>
                      <a:pt x="398" y="1802"/>
                    </a:moveTo>
                    <a:lnTo>
                      <a:pt x="397" y="1686"/>
                    </a:lnTo>
                    <a:lnTo>
                      <a:pt x="394" y="1570"/>
                    </a:lnTo>
                    <a:lnTo>
                      <a:pt x="390" y="1455"/>
                    </a:lnTo>
                    <a:lnTo>
                      <a:pt x="384" y="1340"/>
                    </a:lnTo>
                    <a:lnTo>
                      <a:pt x="376" y="1226"/>
                    </a:lnTo>
                    <a:lnTo>
                      <a:pt x="367" y="1112"/>
                    </a:lnTo>
                    <a:lnTo>
                      <a:pt x="356" y="999"/>
                    </a:lnTo>
                    <a:lnTo>
                      <a:pt x="344" y="886"/>
                    </a:lnTo>
                    <a:lnTo>
                      <a:pt x="329" y="773"/>
                    </a:lnTo>
                    <a:lnTo>
                      <a:pt x="314" y="661"/>
                    </a:lnTo>
                    <a:lnTo>
                      <a:pt x="296" y="549"/>
                    </a:lnTo>
                    <a:lnTo>
                      <a:pt x="277" y="438"/>
                    </a:lnTo>
                    <a:lnTo>
                      <a:pt x="256" y="328"/>
                    </a:lnTo>
                    <a:lnTo>
                      <a:pt x="234" y="218"/>
                    </a:lnTo>
                    <a:lnTo>
                      <a:pt x="211" y="109"/>
                    </a:lnTo>
                    <a:lnTo>
                      <a:pt x="186" y="0"/>
                    </a:lnTo>
                    <a:lnTo>
                      <a:pt x="134" y="0"/>
                    </a:lnTo>
                    <a:lnTo>
                      <a:pt x="90" y="0"/>
                    </a:lnTo>
                    <a:lnTo>
                      <a:pt x="115" y="109"/>
                    </a:lnTo>
                    <a:lnTo>
                      <a:pt x="140" y="218"/>
                    </a:lnTo>
                    <a:lnTo>
                      <a:pt x="161" y="328"/>
                    </a:lnTo>
                    <a:lnTo>
                      <a:pt x="182" y="438"/>
                    </a:lnTo>
                    <a:lnTo>
                      <a:pt x="202" y="549"/>
                    </a:lnTo>
                    <a:lnTo>
                      <a:pt x="219" y="661"/>
                    </a:lnTo>
                    <a:lnTo>
                      <a:pt x="235" y="773"/>
                    </a:lnTo>
                    <a:lnTo>
                      <a:pt x="249" y="885"/>
                    </a:lnTo>
                    <a:lnTo>
                      <a:pt x="262" y="997"/>
                    </a:lnTo>
                    <a:lnTo>
                      <a:pt x="273" y="1112"/>
                    </a:lnTo>
                    <a:lnTo>
                      <a:pt x="283" y="1226"/>
                    </a:lnTo>
                    <a:lnTo>
                      <a:pt x="291" y="1340"/>
                    </a:lnTo>
                    <a:lnTo>
                      <a:pt x="296" y="1455"/>
                    </a:lnTo>
                    <a:lnTo>
                      <a:pt x="301" y="1570"/>
                    </a:lnTo>
                    <a:lnTo>
                      <a:pt x="303" y="1686"/>
                    </a:lnTo>
                    <a:lnTo>
                      <a:pt x="305" y="1802"/>
                    </a:lnTo>
                    <a:lnTo>
                      <a:pt x="303" y="1871"/>
                    </a:lnTo>
                    <a:lnTo>
                      <a:pt x="303" y="1940"/>
                    </a:lnTo>
                    <a:lnTo>
                      <a:pt x="301" y="2011"/>
                    </a:lnTo>
                    <a:lnTo>
                      <a:pt x="299" y="2080"/>
                    </a:lnTo>
                    <a:lnTo>
                      <a:pt x="296" y="2148"/>
                    </a:lnTo>
                    <a:lnTo>
                      <a:pt x="293" y="2217"/>
                    </a:lnTo>
                    <a:lnTo>
                      <a:pt x="288" y="2286"/>
                    </a:lnTo>
                    <a:lnTo>
                      <a:pt x="285" y="2354"/>
                    </a:lnTo>
                    <a:lnTo>
                      <a:pt x="279" y="2422"/>
                    </a:lnTo>
                    <a:lnTo>
                      <a:pt x="273" y="2491"/>
                    </a:lnTo>
                    <a:lnTo>
                      <a:pt x="266" y="2559"/>
                    </a:lnTo>
                    <a:lnTo>
                      <a:pt x="260" y="2626"/>
                    </a:lnTo>
                    <a:lnTo>
                      <a:pt x="253" y="2694"/>
                    </a:lnTo>
                    <a:lnTo>
                      <a:pt x="245" y="2761"/>
                    </a:lnTo>
                    <a:lnTo>
                      <a:pt x="235" y="2829"/>
                    </a:lnTo>
                    <a:lnTo>
                      <a:pt x="226" y="2896"/>
                    </a:lnTo>
                    <a:lnTo>
                      <a:pt x="205" y="3030"/>
                    </a:lnTo>
                    <a:lnTo>
                      <a:pt x="183" y="3162"/>
                    </a:lnTo>
                    <a:lnTo>
                      <a:pt x="158" y="3295"/>
                    </a:lnTo>
                    <a:lnTo>
                      <a:pt x="130" y="3426"/>
                    </a:lnTo>
                    <a:lnTo>
                      <a:pt x="102" y="3557"/>
                    </a:lnTo>
                    <a:lnTo>
                      <a:pt x="69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16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6" y="3686"/>
                    </a:lnTo>
                    <a:lnTo>
                      <a:pt x="197" y="3557"/>
                    </a:lnTo>
                    <a:lnTo>
                      <a:pt x="226" y="3425"/>
                    </a:lnTo>
                    <a:lnTo>
                      <a:pt x="254" y="3294"/>
                    </a:lnTo>
                    <a:lnTo>
                      <a:pt x="278" y="3162"/>
                    </a:lnTo>
                    <a:lnTo>
                      <a:pt x="300" y="3030"/>
                    </a:lnTo>
                    <a:lnTo>
                      <a:pt x="321" y="2896"/>
                    </a:lnTo>
                    <a:lnTo>
                      <a:pt x="338" y="2761"/>
                    </a:lnTo>
                    <a:lnTo>
                      <a:pt x="354" y="2626"/>
                    </a:lnTo>
                    <a:lnTo>
                      <a:pt x="367" y="2490"/>
                    </a:lnTo>
                    <a:lnTo>
                      <a:pt x="378" y="2354"/>
                    </a:lnTo>
                    <a:lnTo>
                      <a:pt x="386" y="2217"/>
                    </a:lnTo>
                    <a:lnTo>
                      <a:pt x="392" y="2079"/>
                    </a:lnTo>
                    <a:lnTo>
                      <a:pt x="394" y="2010"/>
                    </a:lnTo>
                    <a:lnTo>
                      <a:pt x="396" y="1940"/>
                    </a:lnTo>
                    <a:lnTo>
                      <a:pt x="397" y="1871"/>
                    </a:lnTo>
                    <a:lnTo>
                      <a:pt x="398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72000" y="3795840"/>
                <a:ext cx="106560" cy="1042920"/>
              </a:xfrm>
              <a:custGeom>
                <a:avLst/>
                <a:gdLst/>
                <a:ahLst/>
                <a:rect l="l" t="t" r="r" b="b"/>
                <a:pathLst>
                  <a:path w="399" h="3943">
                    <a:moveTo>
                      <a:pt x="399" y="1802"/>
                    </a:moveTo>
                    <a:lnTo>
                      <a:pt x="397" y="1686"/>
                    </a:lnTo>
                    <a:lnTo>
                      <a:pt x="395" y="1570"/>
                    </a:lnTo>
                    <a:lnTo>
                      <a:pt x="391" y="1455"/>
                    </a:lnTo>
                    <a:lnTo>
                      <a:pt x="385" y="1340"/>
                    </a:lnTo>
                    <a:lnTo>
                      <a:pt x="378" y="1226"/>
                    </a:lnTo>
                    <a:lnTo>
                      <a:pt x="367" y="1112"/>
                    </a:lnTo>
                    <a:lnTo>
                      <a:pt x="357" y="999"/>
                    </a:lnTo>
                    <a:lnTo>
                      <a:pt x="344" y="886"/>
                    </a:lnTo>
                    <a:lnTo>
                      <a:pt x="331" y="773"/>
                    </a:lnTo>
                    <a:lnTo>
                      <a:pt x="314" y="661"/>
                    </a:lnTo>
                    <a:lnTo>
                      <a:pt x="297" y="549"/>
                    </a:lnTo>
                    <a:lnTo>
                      <a:pt x="278" y="438"/>
                    </a:lnTo>
                    <a:lnTo>
                      <a:pt x="257" y="328"/>
                    </a:lnTo>
                    <a:lnTo>
                      <a:pt x="235" y="218"/>
                    </a:lnTo>
                    <a:lnTo>
                      <a:pt x="211" y="109"/>
                    </a:lnTo>
                    <a:lnTo>
                      <a:pt x="186" y="0"/>
                    </a:lnTo>
                    <a:lnTo>
                      <a:pt x="182" y="0"/>
                    </a:lnTo>
                    <a:lnTo>
                      <a:pt x="105" y="0"/>
                    </a:lnTo>
                    <a:lnTo>
                      <a:pt x="90" y="0"/>
                    </a:lnTo>
                    <a:lnTo>
                      <a:pt x="116" y="109"/>
                    </a:lnTo>
                    <a:lnTo>
                      <a:pt x="139" y="218"/>
                    </a:lnTo>
                    <a:lnTo>
                      <a:pt x="162" y="328"/>
                    </a:lnTo>
                    <a:lnTo>
                      <a:pt x="183" y="438"/>
                    </a:lnTo>
                    <a:lnTo>
                      <a:pt x="203" y="549"/>
                    </a:lnTo>
                    <a:lnTo>
                      <a:pt x="220" y="661"/>
                    </a:lnTo>
                    <a:lnTo>
                      <a:pt x="236" y="773"/>
                    </a:lnTo>
                    <a:lnTo>
                      <a:pt x="251" y="885"/>
                    </a:lnTo>
                    <a:lnTo>
                      <a:pt x="264" y="997"/>
                    </a:lnTo>
                    <a:lnTo>
                      <a:pt x="274" y="1112"/>
                    </a:lnTo>
                    <a:lnTo>
                      <a:pt x="284" y="1226"/>
                    </a:lnTo>
                    <a:lnTo>
                      <a:pt x="291" y="1340"/>
                    </a:lnTo>
                    <a:lnTo>
                      <a:pt x="298" y="1455"/>
                    </a:lnTo>
                    <a:lnTo>
                      <a:pt x="302" y="1570"/>
                    </a:lnTo>
                    <a:lnTo>
                      <a:pt x="305" y="1686"/>
                    </a:lnTo>
                    <a:lnTo>
                      <a:pt x="305" y="1802"/>
                    </a:lnTo>
                    <a:lnTo>
                      <a:pt x="305" y="1871"/>
                    </a:lnTo>
                    <a:lnTo>
                      <a:pt x="304" y="1940"/>
                    </a:lnTo>
                    <a:lnTo>
                      <a:pt x="303" y="2011"/>
                    </a:lnTo>
                    <a:lnTo>
                      <a:pt x="301" y="2080"/>
                    </a:lnTo>
                    <a:lnTo>
                      <a:pt x="295" y="2217"/>
                    </a:lnTo>
                    <a:lnTo>
                      <a:pt x="286" y="2354"/>
                    </a:lnTo>
                    <a:lnTo>
                      <a:pt x="281" y="2423"/>
                    </a:lnTo>
                    <a:lnTo>
                      <a:pt x="275" y="2491"/>
                    </a:lnTo>
                    <a:lnTo>
                      <a:pt x="268" y="2559"/>
                    </a:lnTo>
                    <a:lnTo>
                      <a:pt x="261" y="2626"/>
                    </a:lnTo>
                    <a:lnTo>
                      <a:pt x="253" y="2694"/>
                    </a:lnTo>
                    <a:lnTo>
                      <a:pt x="245" y="2762"/>
                    </a:lnTo>
                    <a:lnTo>
                      <a:pt x="236" y="2829"/>
                    </a:lnTo>
                    <a:lnTo>
                      <a:pt x="227" y="2896"/>
                    </a:lnTo>
                    <a:lnTo>
                      <a:pt x="206" y="3030"/>
                    </a:lnTo>
                    <a:lnTo>
                      <a:pt x="184" y="3162"/>
                    </a:lnTo>
                    <a:lnTo>
                      <a:pt x="159" y="3295"/>
                    </a:lnTo>
                    <a:lnTo>
                      <a:pt x="131" y="3426"/>
                    </a:lnTo>
                    <a:lnTo>
                      <a:pt x="101" y="3557"/>
                    </a:lnTo>
                    <a:lnTo>
                      <a:pt x="70" y="3686"/>
                    </a:lnTo>
                    <a:lnTo>
                      <a:pt x="35" y="3815"/>
                    </a:lnTo>
                    <a:lnTo>
                      <a:pt x="0" y="3943"/>
                    </a:lnTo>
                    <a:lnTo>
                      <a:pt x="64" y="3943"/>
                    </a:lnTo>
                    <a:lnTo>
                      <a:pt x="96" y="3943"/>
                    </a:lnTo>
                    <a:lnTo>
                      <a:pt x="132" y="3815"/>
                    </a:lnTo>
                    <a:lnTo>
                      <a:pt x="166" y="3686"/>
                    </a:lnTo>
                    <a:lnTo>
                      <a:pt x="197" y="3557"/>
                    </a:lnTo>
                    <a:lnTo>
                      <a:pt x="227" y="3426"/>
                    </a:lnTo>
                    <a:lnTo>
                      <a:pt x="253" y="3295"/>
                    </a:lnTo>
                    <a:lnTo>
                      <a:pt x="279" y="3162"/>
                    </a:lnTo>
                    <a:lnTo>
                      <a:pt x="301" y="3030"/>
                    </a:lnTo>
                    <a:lnTo>
                      <a:pt x="321" y="2896"/>
                    </a:lnTo>
                    <a:lnTo>
                      <a:pt x="331" y="2829"/>
                    </a:lnTo>
                    <a:lnTo>
                      <a:pt x="340" y="2761"/>
                    </a:lnTo>
                    <a:lnTo>
                      <a:pt x="347" y="2694"/>
                    </a:lnTo>
                    <a:lnTo>
                      <a:pt x="355" y="2626"/>
                    </a:lnTo>
                    <a:lnTo>
                      <a:pt x="362" y="2558"/>
                    </a:lnTo>
                    <a:lnTo>
                      <a:pt x="369" y="2490"/>
                    </a:lnTo>
                    <a:lnTo>
                      <a:pt x="374" y="2422"/>
                    </a:lnTo>
                    <a:lnTo>
                      <a:pt x="379" y="2354"/>
                    </a:lnTo>
                    <a:lnTo>
                      <a:pt x="384" y="2286"/>
                    </a:lnTo>
                    <a:lnTo>
                      <a:pt x="388" y="2217"/>
                    </a:lnTo>
                    <a:lnTo>
                      <a:pt x="391" y="2148"/>
                    </a:lnTo>
                    <a:lnTo>
                      <a:pt x="394" y="2079"/>
                    </a:lnTo>
                    <a:lnTo>
                      <a:pt x="396" y="2011"/>
                    </a:lnTo>
                    <a:lnTo>
                      <a:pt x="397" y="1940"/>
                    </a:lnTo>
                    <a:lnTo>
                      <a:pt x="399" y="1871"/>
                    </a:lnTo>
                    <a:lnTo>
                      <a:pt x="399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459400" y="3795840"/>
                <a:ext cx="106200" cy="1042920"/>
              </a:xfrm>
              <a:custGeom>
                <a:avLst/>
                <a:gdLst/>
                <a:ahLst/>
                <a:rect l="l" t="t" r="r" b="b"/>
                <a:pathLst>
                  <a:path w="403" h="3943">
                    <a:moveTo>
                      <a:pt x="403" y="1802"/>
                    </a:moveTo>
                    <a:lnTo>
                      <a:pt x="401" y="1686"/>
                    </a:lnTo>
                    <a:lnTo>
                      <a:pt x="399" y="1570"/>
                    </a:lnTo>
                    <a:lnTo>
                      <a:pt x="394" y="1455"/>
                    </a:lnTo>
                    <a:lnTo>
                      <a:pt x="389" y="1340"/>
                    </a:lnTo>
                    <a:lnTo>
                      <a:pt x="381" y="1226"/>
                    </a:lnTo>
                    <a:lnTo>
                      <a:pt x="371" y="1112"/>
                    </a:lnTo>
                    <a:lnTo>
                      <a:pt x="360" y="997"/>
                    </a:lnTo>
                    <a:lnTo>
                      <a:pt x="347" y="885"/>
                    </a:lnTo>
                    <a:lnTo>
                      <a:pt x="333" y="773"/>
                    </a:lnTo>
                    <a:lnTo>
                      <a:pt x="317" y="661"/>
                    </a:lnTo>
                    <a:lnTo>
                      <a:pt x="300" y="549"/>
                    </a:lnTo>
                    <a:lnTo>
                      <a:pt x="280" y="438"/>
                    </a:lnTo>
                    <a:lnTo>
                      <a:pt x="259" y="328"/>
                    </a:lnTo>
                    <a:lnTo>
                      <a:pt x="238" y="218"/>
                    </a:lnTo>
                    <a:lnTo>
                      <a:pt x="213" y="109"/>
                    </a:lnTo>
                    <a:lnTo>
                      <a:pt x="188" y="0"/>
                    </a:lnTo>
                    <a:lnTo>
                      <a:pt x="155" y="0"/>
                    </a:lnTo>
                    <a:lnTo>
                      <a:pt x="92" y="0"/>
                    </a:lnTo>
                    <a:lnTo>
                      <a:pt x="118" y="109"/>
                    </a:lnTo>
                    <a:lnTo>
                      <a:pt x="142" y="218"/>
                    </a:lnTo>
                    <a:lnTo>
                      <a:pt x="165" y="328"/>
                    </a:lnTo>
                    <a:lnTo>
                      <a:pt x="186" y="438"/>
                    </a:lnTo>
                    <a:lnTo>
                      <a:pt x="205" y="549"/>
                    </a:lnTo>
                    <a:lnTo>
                      <a:pt x="223" y="661"/>
                    </a:lnTo>
                    <a:lnTo>
                      <a:pt x="239" y="773"/>
                    </a:lnTo>
                    <a:lnTo>
                      <a:pt x="254" y="885"/>
                    </a:lnTo>
                    <a:lnTo>
                      <a:pt x="266" y="997"/>
                    </a:lnTo>
                    <a:lnTo>
                      <a:pt x="278" y="1112"/>
                    </a:lnTo>
                    <a:lnTo>
                      <a:pt x="287" y="1226"/>
                    </a:lnTo>
                    <a:lnTo>
                      <a:pt x="295" y="1340"/>
                    </a:lnTo>
                    <a:lnTo>
                      <a:pt x="301" y="1455"/>
                    </a:lnTo>
                    <a:lnTo>
                      <a:pt x="306" y="1570"/>
                    </a:lnTo>
                    <a:lnTo>
                      <a:pt x="308" y="1686"/>
                    </a:lnTo>
                    <a:lnTo>
                      <a:pt x="309" y="1802"/>
                    </a:lnTo>
                    <a:lnTo>
                      <a:pt x="309" y="1871"/>
                    </a:lnTo>
                    <a:lnTo>
                      <a:pt x="308" y="1940"/>
                    </a:lnTo>
                    <a:lnTo>
                      <a:pt x="306" y="2011"/>
                    </a:lnTo>
                    <a:lnTo>
                      <a:pt x="304" y="2080"/>
                    </a:lnTo>
                    <a:lnTo>
                      <a:pt x="301" y="2149"/>
                    </a:lnTo>
                    <a:lnTo>
                      <a:pt x="298" y="2217"/>
                    </a:lnTo>
                    <a:lnTo>
                      <a:pt x="294" y="2286"/>
                    </a:lnTo>
                    <a:lnTo>
                      <a:pt x="289" y="2354"/>
                    </a:lnTo>
                    <a:lnTo>
                      <a:pt x="284" y="2423"/>
                    </a:lnTo>
                    <a:lnTo>
                      <a:pt x="278" y="2491"/>
                    </a:lnTo>
                    <a:lnTo>
                      <a:pt x="271" y="2559"/>
                    </a:lnTo>
                    <a:lnTo>
                      <a:pt x="264" y="2627"/>
                    </a:lnTo>
                    <a:lnTo>
                      <a:pt x="256" y="2694"/>
                    </a:lnTo>
                    <a:lnTo>
                      <a:pt x="248" y="2762"/>
                    </a:lnTo>
                    <a:lnTo>
                      <a:pt x="239" y="2829"/>
                    </a:lnTo>
                    <a:lnTo>
                      <a:pt x="229" y="2896"/>
                    </a:lnTo>
                    <a:lnTo>
                      <a:pt x="220" y="2963"/>
                    </a:lnTo>
                    <a:lnTo>
                      <a:pt x="209" y="3030"/>
                    </a:lnTo>
                    <a:lnTo>
                      <a:pt x="198" y="3097"/>
                    </a:lnTo>
                    <a:lnTo>
                      <a:pt x="186" y="3164"/>
                    </a:lnTo>
                    <a:lnTo>
                      <a:pt x="174" y="3229"/>
                    </a:lnTo>
                    <a:lnTo>
                      <a:pt x="160" y="3295"/>
                    </a:lnTo>
                    <a:lnTo>
                      <a:pt x="148" y="3361"/>
                    </a:lnTo>
                    <a:lnTo>
                      <a:pt x="134" y="3426"/>
                    </a:lnTo>
                    <a:lnTo>
                      <a:pt x="104" y="3557"/>
                    </a:lnTo>
                    <a:lnTo>
                      <a:pt x="71" y="3686"/>
                    </a:lnTo>
                    <a:lnTo>
                      <a:pt x="37" y="3815"/>
                    </a:lnTo>
                    <a:lnTo>
                      <a:pt x="0" y="3943"/>
                    </a:lnTo>
                    <a:lnTo>
                      <a:pt x="98" y="3943"/>
                    </a:lnTo>
                    <a:lnTo>
                      <a:pt x="134" y="3815"/>
                    </a:lnTo>
                    <a:lnTo>
                      <a:pt x="167" y="3686"/>
                    </a:lnTo>
                    <a:lnTo>
                      <a:pt x="200" y="3557"/>
                    </a:lnTo>
                    <a:lnTo>
                      <a:pt x="228" y="3426"/>
                    </a:lnTo>
                    <a:lnTo>
                      <a:pt x="256" y="3295"/>
                    </a:lnTo>
                    <a:lnTo>
                      <a:pt x="281" y="3162"/>
                    </a:lnTo>
                    <a:lnTo>
                      <a:pt x="303" y="3030"/>
                    </a:lnTo>
                    <a:lnTo>
                      <a:pt x="324" y="2896"/>
                    </a:lnTo>
                    <a:lnTo>
                      <a:pt x="333" y="2829"/>
                    </a:lnTo>
                    <a:lnTo>
                      <a:pt x="343" y="2761"/>
                    </a:lnTo>
                    <a:lnTo>
                      <a:pt x="351" y="2694"/>
                    </a:lnTo>
                    <a:lnTo>
                      <a:pt x="358" y="2626"/>
                    </a:lnTo>
                    <a:lnTo>
                      <a:pt x="364" y="2559"/>
                    </a:lnTo>
                    <a:lnTo>
                      <a:pt x="371" y="2491"/>
                    </a:lnTo>
                    <a:lnTo>
                      <a:pt x="377" y="2422"/>
                    </a:lnTo>
                    <a:lnTo>
                      <a:pt x="383" y="2354"/>
                    </a:lnTo>
                    <a:lnTo>
                      <a:pt x="388" y="2286"/>
                    </a:lnTo>
                    <a:lnTo>
                      <a:pt x="391" y="2217"/>
                    </a:lnTo>
                    <a:lnTo>
                      <a:pt x="394" y="2148"/>
                    </a:lnTo>
                    <a:lnTo>
                      <a:pt x="397" y="2080"/>
                    </a:lnTo>
                    <a:lnTo>
                      <a:pt x="399" y="2011"/>
                    </a:lnTo>
                    <a:lnTo>
                      <a:pt x="401" y="1940"/>
                    </a:lnTo>
                    <a:lnTo>
                      <a:pt x="401" y="1871"/>
                    </a:lnTo>
                    <a:lnTo>
                      <a:pt x="403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46800" y="3795840"/>
                <a:ext cx="106200" cy="1042920"/>
              </a:xfrm>
              <a:custGeom>
                <a:avLst/>
                <a:gdLst/>
                <a:ahLst/>
                <a:rect l="l" t="t" r="r" b="b"/>
                <a:pathLst>
                  <a:path w="403" h="3943">
                    <a:moveTo>
                      <a:pt x="403" y="1802"/>
                    </a:moveTo>
                    <a:lnTo>
                      <a:pt x="403" y="1686"/>
                    </a:lnTo>
                    <a:lnTo>
                      <a:pt x="400" y="1570"/>
                    </a:lnTo>
                    <a:lnTo>
                      <a:pt x="395" y="1455"/>
                    </a:lnTo>
                    <a:lnTo>
                      <a:pt x="389" y="1340"/>
                    </a:lnTo>
                    <a:lnTo>
                      <a:pt x="381" y="1226"/>
                    </a:lnTo>
                    <a:lnTo>
                      <a:pt x="372" y="1112"/>
                    </a:lnTo>
                    <a:lnTo>
                      <a:pt x="362" y="997"/>
                    </a:lnTo>
                    <a:lnTo>
                      <a:pt x="349" y="885"/>
                    </a:lnTo>
                    <a:lnTo>
                      <a:pt x="334" y="773"/>
                    </a:lnTo>
                    <a:lnTo>
                      <a:pt x="318" y="661"/>
                    </a:lnTo>
                    <a:lnTo>
                      <a:pt x="301" y="549"/>
                    </a:lnTo>
                    <a:lnTo>
                      <a:pt x="281" y="438"/>
                    </a:lnTo>
                    <a:lnTo>
                      <a:pt x="260" y="328"/>
                    </a:lnTo>
                    <a:lnTo>
                      <a:pt x="237" y="218"/>
                    </a:lnTo>
                    <a:lnTo>
                      <a:pt x="214" y="109"/>
                    </a:lnTo>
                    <a:lnTo>
                      <a:pt x="188" y="0"/>
                    </a:lnTo>
                    <a:lnTo>
                      <a:pt x="125" y="0"/>
                    </a:lnTo>
                    <a:lnTo>
                      <a:pt x="92" y="0"/>
                    </a:lnTo>
                    <a:lnTo>
                      <a:pt x="118" y="109"/>
                    </a:lnTo>
                    <a:lnTo>
                      <a:pt x="143" y="218"/>
                    </a:lnTo>
                    <a:lnTo>
                      <a:pt x="164" y="328"/>
                    </a:lnTo>
                    <a:lnTo>
                      <a:pt x="186" y="438"/>
                    </a:lnTo>
                    <a:lnTo>
                      <a:pt x="206" y="549"/>
                    </a:lnTo>
                    <a:lnTo>
                      <a:pt x="223" y="661"/>
                    </a:lnTo>
                    <a:lnTo>
                      <a:pt x="239" y="773"/>
                    </a:lnTo>
                    <a:lnTo>
                      <a:pt x="254" y="885"/>
                    </a:lnTo>
                    <a:lnTo>
                      <a:pt x="267" y="997"/>
                    </a:lnTo>
                    <a:lnTo>
                      <a:pt x="279" y="1112"/>
                    </a:lnTo>
                    <a:lnTo>
                      <a:pt x="288" y="1226"/>
                    </a:lnTo>
                    <a:lnTo>
                      <a:pt x="296" y="1340"/>
                    </a:lnTo>
                    <a:lnTo>
                      <a:pt x="303" y="1454"/>
                    </a:lnTo>
                    <a:lnTo>
                      <a:pt x="306" y="1570"/>
                    </a:lnTo>
                    <a:lnTo>
                      <a:pt x="310" y="1686"/>
                    </a:lnTo>
                    <a:lnTo>
                      <a:pt x="311" y="1802"/>
                    </a:lnTo>
                    <a:lnTo>
                      <a:pt x="310" y="1871"/>
                    </a:lnTo>
                    <a:lnTo>
                      <a:pt x="309" y="1942"/>
                    </a:lnTo>
                    <a:lnTo>
                      <a:pt x="307" y="2011"/>
                    </a:lnTo>
                    <a:lnTo>
                      <a:pt x="305" y="2080"/>
                    </a:lnTo>
                    <a:lnTo>
                      <a:pt x="303" y="2149"/>
                    </a:lnTo>
                    <a:lnTo>
                      <a:pt x="299" y="2217"/>
                    </a:lnTo>
                    <a:lnTo>
                      <a:pt x="295" y="2286"/>
                    </a:lnTo>
                    <a:lnTo>
                      <a:pt x="290" y="2354"/>
                    </a:lnTo>
                    <a:lnTo>
                      <a:pt x="284" y="2423"/>
                    </a:lnTo>
                    <a:lnTo>
                      <a:pt x="279" y="2491"/>
                    </a:lnTo>
                    <a:lnTo>
                      <a:pt x="273" y="2559"/>
                    </a:lnTo>
                    <a:lnTo>
                      <a:pt x="265" y="2627"/>
                    </a:lnTo>
                    <a:lnTo>
                      <a:pt x="258" y="2695"/>
                    </a:lnTo>
                    <a:lnTo>
                      <a:pt x="249" y="2762"/>
                    </a:lnTo>
                    <a:lnTo>
                      <a:pt x="241" y="2829"/>
                    </a:lnTo>
                    <a:lnTo>
                      <a:pt x="230" y="2897"/>
                    </a:lnTo>
                    <a:lnTo>
                      <a:pt x="221" y="2964"/>
                    </a:lnTo>
                    <a:lnTo>
                      <a:pt x="209" y="3030"/>
                    </a:lnTo>
                    <a:lnTo>
                      <a:pt x="199" y="3097"/>
                    </a:lnTo>
                    <a:lnTo>
                      <a:pt x="186" y="3164"/>
                    </a:lnTo>
                    <a:lnTo>
                      <a:pt x="174" y="3229"/>
                    </a:lnTo>
                    <a:lnTo>
                      <a:pt x="161" y="3295"/>
                    </a:lnTo>
                    <a:lnTo>
                      <a:pt x="147" y="3361"/>
                    </a:lnTo>
                    <a:lnTo>
                      <a:pt x="133" y="3426"/>
                    </a:lnTo>
                    <a:lnTo>
                      <a:pt x="103" y="3557"/>
                    </a:lnTo>
                    <a:lnTo>
                      <a:pt x="71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8" y="3943"/>
                    </a:lnTo>
                    <a:lnTo>
                      <a:pt x="133" y="3815"/>
                    </a:lnTo>
                    <a:lnTo>
                      <a:pt x="168" y="3686"/>
                    </a:lnTo>
                    <a:lnTo>
                      <a:pt x="199" y="3557"/>
                    </a:lnTo>
                    <a:lnTo>
                      <a:pt x="229" y="3426"/>
                    </a:lnTo>
                    <a:lnTo>
                      <a:pt x="257" y="3295"/>
                    </a:lnTo>
                    <a:lnTo>
                      <a:pt x="282" y="3162"/>
                    </a:lnTo>
                    <a:lnTo>
                      <a:pt x="304" y="3030"/>
                    </a:lnTo>
                    <a:lnTo>
                      <a:pt x="325" y="2896"/>
                    </a:lnTo>
                    <a:lnTo>
                      <a:pt x="334" y="2829"/>
                    </a:lnTo>
                    <a:lnTo>
                      <a:pt x="343" y="2762"/>
                    </a:lnTo>
                    <a:lnTo>
                      <a:pt x="351" y="2694"/>
                    </a:lnTo>
                    <a:lnTo>
                      <a:pt x="359" y="2626"/>
                    </a:lnTo>
                    <a:lnTo>
                      <a:pt x="366" y="2559"/>
                    </a:lnTo>
                    <a:lnTo>
                      <a:pt x="372" y="2491"/>
                    </a:lnTo>
                    <a:lnTo>
                      <a:pt x="379" y="2423"/>
                    </a:lnTo>
                    <a:lnTo>
                      <a:pt x="384" y="2354"/>
                    </a:lnTo>
                    <a:lnTo>
                      <a:pt x="393" y="2217"/>
                    </a:lnTo>
                    <a:lnTo>
                      <a:pt x="399" y="2080"/>
                    </a:lnTo>
                    <a:lnTo>
                      <a:pt x="401" y="2011"/>
                    </a:lnTo>
                    <a:lnTo>
                      <a:pt x="402" y="1940"/>
                    </a:lnTo>
                    <a:lnTo>
                      <a:pt x="403" y="1871"/>
                    </a:lnTo>
                    <a:lnTo>
                      <a:pt x="403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33840" y="3795840"/>
                <a:ext cx="106560" cy="1042920"/>
              </a:xfrm>
              <a:custGeom>
                <a:avLst/>
                <a:gdLst/>
                <a:ahLst/>
                <a:rect l="l" t="t" r="r" b="b"/>
                <a:pathLst>
                  <a:path w="406" h="3943">
                    <a:moveTo>
                      <a:pt x="406" y="1802"/>
                    </a:moveTo>
                    <a:lnTo>
                      <a:pt x="405" y="1686"/>
                    </a:lnTo>
                    <a:lnTo>
                      <a:pt x="403" y="1570"/>
                    </a:lnTo>
                    <a:lnTo>
                      <a:pt x="398" y="1455"/>
                    </a:lnTo>
                    <a:lnTo>
                      <a:pt x="392" y="1340"/>
                    </a:lnTo>
                    <a:lnTo>
                      <a:pt x="384" y="1226"/>
                    </a:lnTo>
                    <a:lnTo>
                      <a:pt x="375" y="1112"/>
                    </a:lnTo>
                    <a:lnTo>
                      <a:pt x="363" y="997"/>
                    </a:lnTo>
                    <a:lnTo>
                      <a:pt x="351" y="885"/>
                    </a:lnTo>
                    <a:lnTo>
                      <a:pt x="336" y="773"/>
                    </a:lnTo>
                    <a:lnTo>
                      <a:pt x="320" y="661"/>
                    </a:lnTo>
                    <a:lnTo>
                      <a:pt x="302" y="549"/>
                    </a:lnTo>
                    <a:lnTo>
                      <a:pt x="283" y="438"/>
                    </a:lnTo>
                    <a:lnTo>
                      <a:pt x="262" y="328"/>
                    </a:lnTo>
                    <a:lnTo>
                      <a:pt x="239" y="218"/>
                    </a:lnTo>
                    <a:lnTo>
                      <a:pt x="215" y="109"/>
                    </a:lnTo>
                    <a:lnTo>
                      <a:pt x="189" y="0"/>
                    </a:lnTo>
                    <a:lnTo>
                      <a:pt x="174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119" y="109"/>
                    </a:lnTo>
                    <a:lnTo>
                      <a:pt x="143" y="218"/>
                    </a:lnTo>
                    <a:lnTo>
                      <a:pt x="166" y="328"/>
                    </a:lnTo>
                    <a:lnTo>
                      <a:pt x="188" y="438"/>
                    </a:lnTo>
                    <a:lnTo>
                      <a:pt x="208" y="549"/>
                    </a:lnTo>
                    <a:lnTo>
                      <a:pt x="225" y="660"/>
                    </a:lnTo>
                    <a:lnTo>
                      <a:pt x="242" y="773"/>
                    </a:lnTo>
                    <a:lnTo>
                      <a:pt x="256" y="885"/>
                    </a:lnTo>
                    <a:lnTo>
                      <a:pt x="270" y="997"/>
                    </a:lnTo>
                    <a:lnTo>
                      <a:pt x="282" y="1112"/>
                    </a:lnTo>
                    <a:lnTo>
                      <a:pt x="291" y="1225"/>
                    </a:lnTo>
                    <a:lnTo>
                      <a:pt x="299" y="1340"/>
                    </a:lnTo>
                    <a:lnTo>
                      <a:pt x="305" y="1454"/>
                    </a:lnTo>
                    <a:lnTo>
                      <a:pt x="309" y="1569"/>
                    </a:lnTo>
                    <a:lnTo>
                      <a:pt x="311" y="1686"/>
                    </a:lnTo>
                    <a:lnTo>
                      <a:pt x="313" y="1802"/>
                    </a:lnTo>
                    <a:lnTo>
                      <a:pt x="313" y="1871"/>
                    </a:lnTo>
                    <a:lnTo>
                      <a:pt x="311" y="1942"/>
                    </a:lnTo>
                    <a:lnTo>
                      <a:pt x="310" y="2011"/>
                    </a:lnTo>
                    <a:lnTo>
                      <a:pt x="308" y="2080"/>
                    </a:lnTo>
                    <a:lnTo>
                      <a:pt x="305" y="2149"/>
                    </a:lnTo>
                    <a:lnTo>
                      <a:pt x="301" y="2218"/>
                    </a:lnTo>
                    <a:lnTo>
                      <a:pt x="298" y="2286"/>
                    </a:lnTo>
                    <a:lnTo>
                      <a:pt x="292" y="2355"/>
                    </a:lnTo>
                    <a:lnTo>
                      <a:pt x="287" y="2423"/>
                    </a:lnTo>
                    <a:lnTo>
                      <a:pt x="282" y="2491"/>
                    </a:lnTo>
                    <a:lnTo>
                      <a:pt x="275" y="2559"/>
                    </a:lnTo>
                    <a:lnTo>
                      <a:pt x="268" y="2627"/>
                    </a:lnTo>
                    <a:lnTo>
                      <a:pt x="260" y="2695"/>
                    </a:lnTo>
                    <a:lnTo>
                      <a:pt x="252" y="2762"/>
                    </a:lnTo>
                    <a:lnTo>
                      <a:pt x="242" y="2830"/>
                    </a:lnTo>
                    <a:lnTo>
                      <a:pt x="233" y="2897"/>
                    </a:lnTo>
                    <a:lnTo>
                      <a:pt x="223" y="2964"/>
                    </a:lnTo>
                    <a:lnTo>
                      <a:pt x="211" y="3031"/>
                    </a:lnTo>
                    <a:lnTo>
                      <a:pt x="200" y="3097"/>
                    </a:lnTo>
                    <a:lnTo>
                      <a:pt x="188" y="3164"/>
                    </a:lnTo>
                    <a:lnTo>
                      <a:pt x="175" y="3229"/>
                    </a:lnTo>
                    <a:lnTo>
                      <a:pt x="163" y="3295"/>
                    </a:lnTo>
                    <a:lnTo>
                      <a:pt x="149" y="3361"/>
                    </a:lnTo>
                    <a:lnTo>
                      <a:pt x="135" y="3426"/>
                    </a:lnTo>
                    <a:lnTo>
                      <a:pt x="120" y="3492"/>
                    </a:lnTo>
                    <a:lnTo>
                      <a:pt x="104" y="3557"/>
                    </a:lnTo>
                    <a:lnTo>
                      <a:pt x="89" y="3622"/>
                    </a:lnTo>
                    <a:lnTo>
                      <a:pt x="72" y="3686"/>
                    </a:lnTo>
                    <a:lnTo>
                      <a:pt x="37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4" y="3815"/>
                    </a:lnTo>
                    <a:lnTo>
                      <a:pt x="168" y="3686"/>
                    </a:lnTo>
                    <a:lnTo>
                      <a:pt x="201" y="3557"/>
                    </a:lnTo>
                    <a:lnTo>
                      <a:pt x="231" y="3426"/>
                    </a:lnTo>
                    <a:lnTo>
                      <a:pt x="245" y="3361"/>
                    </a:lnTo>
                    <a:lnTo>
                      <a:pt x="257" y="3295"/>
                    </a:lnTo>
                    <a:lnTo>
                      <a:pt x="271" y="3229"/>
                    </a:lnTo>
                    <a:lnTo>
                      <a:pt x="283" y="3164"/>
                    </a:lnTo>
                    <a:lnTo>
                      <a:pt x="295" y="3097"/>
                    </a:lnTo>
                    <a:lnTo>
                      <a:pt x="306" y="3030"/>
                    </a:lnTo>
                    <a:lnTo>
                      <a:pt x="317" y="2963"/>
                    </a:lnTo>
                    <a:lnTo>
                      <a:pt x="326" y="2896"/>
                    </a:lnTo>
                    <a:lnTo>
                      <a:pt x="336" y="2829"/>
                    </a:lnTo>
                    <a:lnTo>
                      <a:pt x="345" y="2762"/>
                    </a:lnTo>
                    <a:lnTo>
                      <a:pt x="353" y="2694"/>
                    </a:lnTo>
                    <a:lnTo>
                      <a:pt x="361" y="2627"/>
                    </a:lnTo>
                    <a:lnTo>
                      <a:pt x="368" y="2559"/>
                    </a:lnTo>
                    <a:lnTo>
                      <a:pt x="375" y="2491"/>
                    </a:lnTo>
                    <a:lnTo>
                      <a:pt x="381" y="2423"/>
                    </a:lnTo>
                    <a:lnTo>
                      <a:pt x="386" y="2354"/>
                    </a:lnTo>
                    <a:lnTo>
                      <a:pt x="391" y="2286"/>
                    </a:lnTo>
                    <a:lnTo>
                      <a:pt x="395" y="2217"/>
                    </a:lnTo>
                    <a:lnTo>
                      <a:pt x="398" y="2149"/>
                    </a:lnTo>
                    <a:lnTo>
                      <a:pt x="401" y="2080"/>
                    </a:lnTo>
                    <a:lnTo>
                      <a:pt x="403" y="2011"/>
                    </a:lnTo>
                    <a:lnTo>
                      <a:pt x="405" y="1940"/>
                    </a:lnTo>
                    <a:lnTo>
                      <a:pt x="406" y="1871"/>
                    </a:lnTo>
                    <a:lnTo>
                      <a:pt x="406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19800" y="3795840"/>
                <a:ext cx="109440" cy="1044360"/>
              </a:xfrm>
              <a:custGeom>
                <a:avLst/>
                <a:gdLst/>
                <a:ahLst/>
                <a:rect l="l" t="t" r="r" b="b"/>
                <a:pathLst>
                  <a:path w="410" h="3947">
                    <a:moveTo>
                      <a:pt x="410" y="1802"/>
                    </a:moveTo>
                    <a:lnTo>
                      <a:pt x="409" y="1686"/>
                    </a:lnTo>
                    <a:lnTo>
                      <a:pt x="405" y="1570"/>
                    </a:lnTo>
                    <a:lnTo>
                      <a:pt x="402" y="1454"/>
                    </a:lnTo>
                    <a:lnTo>
                      <a:pt x="395" y="1340"/>
                    </a:lnTo>
                    <a:lnTo>
                      <a:pt x="387" y="1226"/>
                    </a:lnTo>
                    <a:lnTo>
                      <a:pt x="378" y="1112"/>
                    </a:lnTo>
                    <a:lnTo>
                      <a:pt x="366" y="997"/>
                    </a:lnTo>
                    <a:lnTo>
                      <a:pt x="353" y="885"/>
                    </a:lnTo>
                    <a:lnTo>
                      <a:pt x="338" y="773"/>
                    </a:lnTo>
                    <a:lnTo>
                      <a:pt x="322" y="661"/>
                    </a:lnTo>
                    <a:lnTo>
                      <a:pt x="305" y="549"/>
                    </a:lnTo>
                    <a:lnTo>
                      <a:pt x="285" y="438"/>
                    </a:lnTo>
                    <a:lnTo>
                      <a:pt x="263" y="328"/>
                    </a:lnTo>
                    <a:lnTo>
                      <a:pt x="242" y="218"/>
                    </a:lnTo>
                    <a:lnTo>
                      <a:pt x="217" y="109"/>
                    </a:lnTo>
                    <a:lnTo>
                      <a:pt x="191" y="0"/>
                    </a:lnTo>
                    <a:lnTo>
                      <a:pt x="147" y="0"/>
                    </a:lnTo>
                    <a:lnTo>
                      <a:pt x="95" y="0"/>
                    </a:lnTo>
                    <a:lnTo>
                      <a:pt x="122" y="109"/>
                    </a:lnTo>
                    <a:lnTo>
                      <a:pt x="146" y="218"/>
                    </a:lnTo>
                    <a:lnTo>
                      <a:pt x="169" y="328"/>
                    </a:lnTo>
                    <a:lnTo>
                      <a:pt x="191" y="438"/>
                    </a:lnTo>
                    <a:lnTo>
                      <a:pt x="210" y="549"/>
                    </a:lnTo>
                    <a:lnTo>
                      <a:pt x="229" y="660"/>
                    </a:lnTo>
                    <a:lnTo>
                      <a:pt x="245" y="772"/>
                    </a:lnTo>
                    <a:lnTo>
                      <a:pt x="260" y="885"/>
                    </a:lnTo>
                    <a:lnTo>
                      <a:pt x="273" y="997"/>
                    </a:lnTo>
                    <a:lnTo>
                      <a:pt x="284" y="1110"/>
                    </a:lnTo>
                    <a:lnTo>
                      <a:pt x="293" y="1225"/>
                    </a:lnTo>
                    <a:lnTo>
                      <a:pt x="302" y="1340"/>
                    </a:lnTo>
                    <a:lnTo>
                      <a:pt x="308" y="1454"/>
                    </a:lnTo>
                    <a:lnTo>
                      <a:pt x="313" y="1569"/>
                    </a:lnTo>
                    <a:lnTo>
                      <a:pt x="315" y="1686"/>
                    </a:lnTo>
                    <a:lnTo>
                      <a:pt x="317" y="1802"/>
                    </a:lnTo>
                    <a:lnTo>
                      <a:pt x="315" y="1871"/>
                    </a:lnTo>
                    <a:lnTo>
                      <a:pt x="315" y="1942"/>
                    </a:lnTo>
                    <a:lnTo>
                      <a:pt x="313" y="2011"/>
                    </a:lnTo>
                    <a:lnTo>
                      <a:pt x="311" y="2080"/>
                    </a:lnTo>
                    <a:lnTo>
                      <a:pt x="308" y="2150"/>
                    </a:lnTo>
                    <a:lnTo>
                      <a:pt x="305" y="2219"/>
                    </a:lnTo>
                    <a:lnTo>
                      <a:pt x="300" y="2287"/>
                    </a:lnTo>
                    <a:lnTo>
                      <a:pt x="296" y="2357"/>
                    </a:lnTo>
                    <a:lnTo>
                      <a:pt x="290" y="2425"/>
                    </a:lnTo>
                    <a:lnTo>
                      <a:pt x="284" y="2494"/>
                    </a:lnTo>
                    <a:lnTo>
                      <a:pt x="277" y="2562"/>
                    </a:lnTo>
                    <a:lnTo>
                      <a:pt x="270" y="2630"/>
                    </a:lnTo>
                    <a:lnTo>
                      <a:pt x="262" y="2698"/>
                    </a:lnTo>
                    <a:lnTo>
                      <a:pt x="254" y="2765"/>
                    </a:lnTo>
                    <a:lnTo>
                      <a:pt x="245" y="2833"/>
                    </a:lnTo>
                    <a:lnTo>
                      <a:pt x="235" y="2900"/>
                    </a:lnTo>
                    <a:lnTo>
                      <a:pt x="224" y="2968"/>
                    </a:lnTo>
                    <a:lnTo>
                      <a:pt x="214" y="3034"/>
                    </a:lnTo>
                    <a:lnTo>
                      <a:pt x="202" y="3100"/>
                    </a:lnTo>
                    <a:lnTo>
                      <a:pt x="190" y="3167"/>
                    </a:lnTo>
                    <a:lnTo>
                      <a:pt x="177" y="3234"/>
                    </a:lnTo>
                    <a:lnTo>
                      <a:pt x="164" y="3300"/>
                    </a:lnTo>
                    <a:lnTo>
                      <a:pt x="150" y="3365"/>
                    </a:lnTo>
                    <a:lnTo>
                      <a:pt x="135" y="3431"/>
                    </a:lnTo>
                    <a:lnTo>
                      <a:pt x="120" y="3497"/>
                    </a:lnTo>
                    <a:lnTo>
                      <a:pt x="105" y="3561"/>
                    </a:lnTo>
                    <a:lnTo>
                      <a:pt x="89" y="3627"/>
                    </a:lnTo>
                    <a:lnTo>
                      <a:pt x="72" y="3691"/>
                    </a:lnTo>
                    <a:lnTo>
                      <a:pt x="37" y="3819"/>
                    </a:lnTo>
                    <a:lnTo>
                      <a:pt x="0" y="3947"/>
                    </a:lnTo>
                    <a:lnTo>
                      <a:pt x="33" y="3943"/>
                    </a:lnTo>
                    <a:lnTo>
                      <a:pt x="99" y="3943"/>
                    </a:lnTo>
                    <a:lnTo>
                      <a:pt x="135" y="3815"/>
                    </a:lnTo>
                    <a:lnTo>
                      <a:pt x="170" y="3686"/>
                    </a:lnTo>
                    <a:lnTo>
                      <a:pt x="202" y="3557"/>
                    </a:lnTo>
                    <a:lnTo>
                      <a:pt x="232" y="3426"/>
                    </a:lnTo>
                    <a:lnTo>
                      <a:pt x="246" y="3361"/>
                    </a:lnTo>
                    <a:lnTo>
                      <a:pt x="260" y="3295"/>
                    </a:lnTo>
                    <a:lnTo>
                      <a:pt x="273" y="3229"/>
                    </a:lnTo>
                    <a:lnTo>
                      <a:pt x="285" y="3164"/>
                    </a:lnTo>
                    <a:lnTo>
                      <a:pt x="298" y="3097"/>
                    </a:lnTo>
                    <a:lnTo>
                      <a:pt x="308" y="3030"/>
                    </a:lnTo>
                    <a:lnTo>
                      <a:pt x="320" y="2964"/>
                    </a:lnTo>
                    <a:lnTo>
                      <a:pt x="329" y="2897"/>
                    </a:lnTo>
                    <a:lnTo>
                      <a:pt x="340" y="2829"/>
                    </a:lnTo>
                    <a:lnTo>
                      <a:pt x="348" y="2762"/>
                    </a:lnTo>
                    <a:lnTo>
                      <a:pt x="357" y="2695"/>
                    </a:lnTo>
                    <a:lnTo>
                      <a:pt x="364" y="2627"/>
                    </a:lnTo>
                    <a:lnTo>
                      <a:pt x="372" y="2559"/>
                    </a:lnTo>
                    <a:lnTo>
                      <a:pt x="378" y="2491"/>
                    </a:lnTo>
                    <a:lnTo>
                      <a:pt x="383" y="2423"/>
                    </a:lnTo>
                    <a:lnTo>
                      <a:pt x="389" y="2354"/>
                    </a:lnTo>
                    <a:lnTo>
                      <a:pt x="394" y="2286"/>
                    </a:lnTo>
                    <a:lnTo>
                      <a:pt x="398" y="2217"/>
                    </a:lnTo>
                    <a:lnTo>
                      <a:pt x="402" y="2149"/>
                    </a:lnTo>
                    <a:lnTo>
                      <a:pt x="404" y="2080"/>
                    </a:lnTo>
                    <a:lnTo>
                      <a:pt x="406" y="2011"/>
                    </a:lnTo>
                    <a:lnTo>
                      <a:pt x="408" y="1942"/>
                    </a:lnTo>
                    <a:lnTo>
                      <a:pt x="409" y="1871"/>
                    </a:lnTo>
                    <a:lnTo>
                      <a:pt x="410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07200" y="3795840"/>
                <a:ext cx="109440" cy="1046160"/>
              </a:xfrm>
              <a:custGeom>
                <a:avLst/>
                <a:gdLst/>
                <a:ahLst/>
                <a:rect l="l" t="t" r="r" b="b"/>
                <a:pathLst>
                  <a:path w="414" h="3955">
                    <a:moveTo>
                      <a:pt x="414" y="1802"/>
                    </a:moveTo>
                    <a:lnTo>
                      <a:pt x="412" y="1686"/>
                    </a:lnTo>
                    <a:lnTo>
                      <a:pt x="410" y="1569"/>
                    </a:lnTo>
                    <a:lnTo>
                      <a:pt x="406" y="1454"/>
                    </a:lnTo>
                    <a:lnTo>
                      <a:pt x="400" y="1340"/>
                    </a:lnTo>
                    <a:lnTo>
                      <a:pt x="392" y="1225"/>
                    </a:lnTo>
                    <a:lnTo>
                      <a:pt x="383" y="1112"/>
                    </a:lnTo>
                    <a:lnTo>
                      <a:pt x="371" y="997"/>
                    </a:lnTo>
                    <a:lnTo>
                      <a:pt x="357" y="885"/>
                    </a:lnTo>
                    <a:lnTo>
                      <a:pt x="343" y="773"/>
                    </a:lnTo>
                    <a:lnTo>
                      <a:pt x="326" y="660"/>
                    </a:lnTo>
                    <a:lnTo>
                      <a:pt x="309" y="549"/>
                    </a:lnTo>
                    <a:lnTo>
                      <a:pt x="289" y="438"/>
                    </a:lnTo>
                    <a:lnTo>
                      <a:pt x="267" y="328"/>
                    </a:lnTo>
                    <a:lnTo>
                      <a:pt x="244" y="218"/>
                    </a:lnTo>
                    <a:lnTo>
                      <a:pt x="220" y="109"/>
                    </a:lnTo>
                    <a:lnTo>
                      <a:pt x="195" y="0"/>
                    </a:lnTo>
                    <a:lnTo>
                      <a:pt x="121" y="0"/>
                    </a:lnTo>
                    <a:lnTo>
                      <a:pt x="98" y="0"/>
                    </a:lnTo>
                    <a:lnTo>
                      <a:pt x="124" y="109"/>
                    </a:lnTo>
                    <a:lnTo>
                      <a:pt x="150" y="218"/>
                    </a:lnTo>
                    <a:lnTo>
                      <a:pt x="173" y="328"/>
                    </a:lnTo>
                    <a:lnTo>
                      <a:pt x="195" y="437"/>
                    </a:lnTo>
                    <a:lnTo>
                      <a:pt x="214" y="549"/>
                    </a:lnTo>
                    <a:lnTo>
                      <a:pt x="233" y="660"/>
                    </a:lnTo>
                    <a:lnTo>
                      <a:pt x="249" y="772"/>
                    </a:lnTo>
                    <a:lnTo>
                      <a:pt x="264" y="885"/>
                    </a:lnTo>
                    <a:lnTo>
                      <a:pt x="276" y="997"/>
                    </a:lnTo>
                    <a:lnTo>
                      <a:pt x="288" y="1110"/>
                    </a:lnTo>
                    <a:lnTo>
                      <a:pt x="298" y="1225"/>
                    </a:lnTo>
                    <a:lnTo>
                      <a:pt x="306" y="1340"/>
                    </a:lnTo>
                    <a:lnTo>
                      <a:pt x="312" y="1454"/>
                    </a:lnTo>
                    <a:lnTo>
                      <a:pt x="317" y="1569"/>
                    </a:lnTo>
                    <a:lnTo>
                      <a:pt x="319" y="1686"/>
                    </a:lnTo>
                    <a:lnTo>
                      <a:pt x="320" y="1802"/>
                    </a:lnTo>
                    <a:lnTo>
                      <a:pt x="320" y="1872"/>
                    </a:lnTo>
                    <a:lnTo>
                      <a:pt x="319" y="1942"/>
                    </a:lnTo>
                    <a:lnTo>
                      <a:pt x="318" y="2012"/>
                    </a:lnTo>
                    <a:lnTo>
                      <a:pt x="316" y="2082"/>
                    </a:lnTo>
                    <a:lnTo>
                      <a:pt x="312" y="2151"/>
                    </a:lnTo>
                    <a:lnTo>
                      <a:pt x="309" y="2221"/>
                    </a:lnTo>
                    <a:lnTo>
                      <a:pt x="304" y="2290"/>
                    </a:lnTo>
                    <a:lnTo>
                      <a:pt x="299" y="2359"/>
                    </a:lnTo>
                    <a:lnTo>
                      <a:pt x="294" y="2428"/>
                    </a:lnTo>
                    <a:lnTo>
                      <a:pt x="288" y="2496"/>
                    </a:lnTo>
                    <a:lnTo>
                      <a:pt x="281" y="2565"/>
                    </a:lnTo>
                    <a:lnTo>
                      <a:pt x="274" y="2633"/>
                    </a:lnTo>
                    <a:lnTo>
                      <a:pt x="266" y="2701"/>
                    </a:lnTo>
                    <a:lnTo>
                      <a:pt x="257" y="2769"/>
                    </a:lnTo>
                    <a:lnTo>
                      <a:pt x="248" y="2837"/>
                    </a:lnTo>
                    <a:lnTo>
                      <a:pt x="238" y="2904"/>
                    </a:lnTo>
                    <a:lnTo>
                      <a:pt x="228" y="2972"/>
                    </a:lnTo>
                    <a:lnTo>
                      <a:pt x="216" y="3039"/>
                    </a:lnTo>
                    <a:lnTo>
                      <a:pt x="205" y="3106"/>
                    </a:lnTo>
                    <a:lnTo>
                      <a:pt x="193" y="3173"/>
                    </a:lnTo>
                    <a:lnTo>
                      <a:pt x="180" y="3240"/>
                    </a:lnTo>
                    <a:lnTo>
                      <a:pt x="167" y="3305"/>
                    </a:lnTo>
                    <a:lnTo>
                      <a:pt x="153" y="3372"/>
                    </a:lnTo>
                    <a:lnTo>
                      <a:pt x="138" y="3438"/>
                    </a:lnTo>
                    <a:lnTo>
                      <a:pt x="123" y="3504"/>
                    </a:lnTo>
                    <a:lnTo>
                      <a:pt x="107" y="3568"/>
                    </a:lnTo>
                    <a:lnTo>
                      <a:pt x="91" y="3634"/>
                    </a:lnTo>
                    <a:lnTo>
                      <a:pt x="73" y="3698"/>
                    </a:lnTo>
                    <a:lnTo>
                      <a:pt x="56" y="3763"/>
                    </a:lnTo>
                    <a:lnTo>
                      <a:pt x="38" y="3827"/>
                    </a:lnTo>
                    <a:lnTo>
                      <a:pt x="19" y="3892"/>
                    </a:lnTo>
                    <a:lnTo>
                      <a:pt x="0" y="3955"/>
                    </a:lnTo>
                    <a:lnTo>
                      <a:pt x="84" y="3943"/>
                    </a:lnTo>
                    <a:lnTo>
                      <a:pt x="101" y="3943"/>
                    </a:lnTo>
                    <a:lnTo>
                      <a:pt x="138" y="3815"/>
                    </a:lnTo>
                    <a:lnTo>
                      <a:pt x="173" y="3686"/>
                    </a:lnTo>
                    <a:lnTo>
                      <a:pt x="190" y="3622"/>
                    </a:lnTo>
                    <a:lnTo>
                      <a:pt x="205" y="3557"/>
                    </a:lnTo>
                    <a:lnTo>
                      <a:pt x="221" y="3492"/>
                    </a:lnTo>
                    <a:lnTo>
                      <a:pt x="236" y="3426"/>
                    </a:lnTo>
                    <a:lnTo>
                      <a:pt x="250" y="3361"/>
                    </a:lnTo>
                    <a:lnTo>
                      <a:pt x="264" y="3295"/>
                    </a:lnTo>
                    <a:lnTo>
                      <a:pt x="276" y="3229"/>
                    </a:lnTo>
                    <a:lnTo>
                      <a:pt x="289" y="3164"/>
                    </a:lnTo>
                    <a:lnTo>
                      <a:pt x="301" y="3097"/>
                    </a:lnTo>
                    <a:lnTo>
                      <a:pt x="312" y="3031"/>
                    </a:lnTo>
                    <a:lnTo>
                      <a:pt x="324" y="2964"/>
                    </a:lnTo>
                    <a:lnTo>
                      <a:pt x="334" y="2897"/>
                    </a:lnTo>
                    <a:lnTo>
                      <a:pt x="343" y="2830"/>
                    </a:lnTo>
                    <a:lnTo>
                      <a:pt x="353" y="2762"/>
                    </a:lnTo>
                    <a:lnTo>
                      <a:pt x="361" y="2695"/>
                    </a:lnTo>
                    <a:lnTo>
                      <a:pt x="369" y="2627"/>
                    </a:lnTo>
                    <a:lnTo>
                      <a:pt x="376" y="2559"/>
                    </a:lnTo>
                    <a:lnTo>
                      <a:pt x="383" y="2491"/>
                    </a:lnTo>
                    <a:lnTo>
                      <a:pt x="388" y="2423"/>
                    </a:lnTo>
                    <a:lnTo>
                      <a:pt x="393" y="2355"/>
                    </a:lnTo>
                    <a:lnTo>
                      <a:pt x="399" y="2286"/>
                    </a:lnTo>
                    <a:lnTo>
                      <a:pt x="402" y="2218"/>
                    </a:lnTo>
                    <a:lnTo>
                      <a:pt x="406" y="2149"/>
                    </a:lnTo>
                    <a:lnTo>
                      <a:pt x="409" y="2080"/>
                    </a:lnTo>
                    <a:lnTo>
                      <a:pt x="411" y="2011"/>
                    </a:lnTo>
                    <a:lnTo>
                      <a:pt x="412" y="1942"/>
                    </a:lnTo>
                    <a:lnTo>
                      <a:pt x="414" y="1871"/>
                    </a:lnTo>
                    <a:lnTo>
                      <a:pt x="414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92800" y="3795840"/>
                <a:ext cx="111240" cy="1049040"/>
              </a:xfrm>
              <a:custGeom>
                <a:avLst/>
                <a:gdLst/>
                <a:ahLst/>
                <a:rect l="l" t="t" r="r" b="b"/>
                <a:pathLst>
                  <a:path w="419" h="3965">
                    <a:moveTo>
                      <a:pt x="419" y="1802"/>
                    </a:moveTo>
                    <a:lnTo>
                      <a:pt x="417" y="1686"/>
                    </a:lnTo>
                    <a:lnTo>
                      <a:pt x="415" y="1569"/>
                    </a:lnTo>
                    <a:lnTo>
                      <a:pt x="410" y="1454"/>
                    </a:lnTo>
                    <a:lnTo>
                      <a:pt x="404" y="1340"/>
                    </a:lnTo>
                    <a:lnTo>
                      <a:pt x="395" y="1225"/>
                    </a:lnTo>
                    <a:lnTo>
                      <a:pt x="386" y="1110"/>
                    </a:lnTo>
                    <a:lnTo>
                      <a:pt x="375" y="997"/>
                    </a:lnTo>
                    <a:lnTo>
                      <a:pt x="362" y="885"/>
                    </a:lnTo>
                    <a:lnTo>
                      <a:pt x="347" y="772"/>
                    </a:lnTo>
                    <a:lnTo>
                      <a:pt x="331" y="660"/>
                    </a:lnTo>
                    <a:lnTo>
                      <a:pt x="312" y="549"/>
                    </a:lnTo>
                    <a:lnTo>
                      <a:pt x="293" y="438"/>
                    </a:lnTo>
                    <a:lnTo>
                      <a:pt x="271" y="328"/>
                    </a:lnTo>
                    <a:lnTo>
                      <a:pt x="248" y="218"/>
                    </a:lnTo>
                    <a:lnTo>
                      <a:pt x="224" y="109"/>
                    </a:lnTo>
                    <a:lnTo>
                      <a:pt x="197" y="0"/>
                    </a:lnTo>
                    <a:lnTo>
                      <a:pt x="172" y="0"/>
                    </a:lnTo>
                    <a:lnTo>
                      <a:pt x="101" y="0"/>
                    </a:lnTo>
                    <a:lnTo>
                      <a:pt x="128" y="109"/>
                    </a:lnTo>
                    <a:lnTo>
                      <a:pt x="152" y="218"/>
                    </a:lnTo>
                    <a:lnTo>
                      <a:pt x="176" y="328"/>
                    </a:lnTo>
                    <a:lnTo>
                      <a:pt x="197" y="437"/>
                    </a:lnTo>
                    <a:lnTo>
                      <a:pt x="218" y="548"/>
                    </a:lnTo>
                    <a:lnTo>
                      <a:pt x="236" y="660"/>
                    </a:lnTo>
                    <a:lnTo>
                      <a:pt x="252" y="772"/>
                    </a:lnTo>
                    <a:lnTo>
                      <a:pt x="267" y="885"/>
                    </a:lnTo>
                    <a:lnTo>
                      <a:pt x="281" y="997"/>
                    </a:lnTo>
                    <a:lnTo>
                      <a:pt x="293" y="1110"/>
                    </a:lnTo>
                    <a:lnTo>
                      <a:pt x="302" y="1225"/>
                    </a:lnTo>
                    <a:lnTo>
                      <a:pt x="310" y="1339"/>
                    </a:lnTo>
                    <a:lnTo>
                      <a:pt x="317" y="1454"/>
                    </a:lnTo>
                    <a:lnTo>
                      <a:pt x="322" y="1569"/>
                    </a:lnTo>
                    <a:lnTo>
                      <a:pt x="324" y="1686"/>
                    </a:lnTo>
                    <a:lnTo>
                      <a:pt x="325" y="1802"/>
                    </a:lnTo>
                    <a:lnTo>
                      <a:pt x="325" y="1872"/>
                    </a:lnTo>
                    <a:lnTo>
                      <a:pt x="324" y="1943"/>
                    </a:lnTo>
                    <a:lnTo>
                      <a:pt x="322" y="2013"/>
                    </a:lnTo>
                    <a:lnTo>
                      <a:pt x="319" y="2083"/>
                    </a:lnTo>
                    <a:lnTo>
                      <a:pt x="317" y="2153"/>
                    </a:lnTo>
                    <a:lnTo>
                      <a:pt x="312" y="2223"/>
                    </a:lnTo>
                    <a:lnTo>
                      <a:pt x="309" y="2292"/>
                    </a:lnTo>
                    <a:lnTo>
                      <a:pt x="304" y="2361"/>
                    </a:lnTo>
                    <a:lnTo>
                      <a:pt x="299" y="2430"/>
                    </a:lnTo>
                    <a:lnTo>
                      <a:pt x="292" y="2500"/>
                    </a:lnTo>
                    <a:lnTo>
                      <a:pt x="285" y="2569"/>
                    </a:lnTo>
                    <a:lnTo>
                      <a:pt x="278" y="2637"/>
                    </a:lnTo>
                    <a:lnTo>
                      <a:pt x="270" y="2705"/>
                    </a:lnTo>
                    <a:lnTo>
                      <a:pt x="260" y="2774"/>
                    </a:lnTo>
                    <a:lnTo>
                      <a:pt x="251" y="2842"/>
                    </a:lnTo>
                    <a:lnTo>
                      <a:pt x="242" y="2909"/>
                    </a:lnTo>
                    <a:lnTo>
                      <a:pt x="231" y="2977"/>
                    </a:lnTo>
                    <a:lnTo>
                      <a:pt x="220" y="3044"/>
                    </a:lnTo>
                    <a:lnTo>
                      <a:pt x="207" y="3112"/>
                    </a:lnTo>
                    <a:lnTo>
                      <a:pt x="196" y="3179"/>
                    </a:lnTo>
                    <a:lnTo>
                      <a:pt x="182" y="3245"/>
                    </a:lnTo>
                    <a:lnTo>
                      <a:pt x="168" y="3311"/>
                    </a:lnTo>
                    <a:lnTo>
                      <a:pt x="154" y="3378"/>
                    </a:lnTo>
                    <a:lnTo>
                      <a:pt x="139" y="3444"/>
                    </a:lnTo>
                    <a:lnTo>
                      <a:pt x="124" y="3510"/>
                    </a:lnTo>
                    <a:lnTo>
                      <a:pt x="108" y="3575"/>
                    </a:lnTo>
                    <a:lnTo>
                      <a:pt x="91" y="3641"/>
                    </a:lnTo>
                    <a:lnTo>
                      <a:pt x="75" y="3706"/>
                    </a:lnTo>
                    <a:lnTo>
                      <a:pt x="56" y="3771"/>
                    </a:lnTo>
                    <a:lnTo>
                      <a:pt x="38" y="3836"/>
                    </a:lnTo>
                    <a:lnTo>
                      <a:pt x="19" y="3900"/>
                    </a:lnTo>
                    <a:lnTo>
                      <a:pt x="0" y="3965"/>
                    </a:lnTo>
                    <a:lnTo>
                      <a:pt x="102" y="3947"/>
                    </a:lnTo>
                    <a:lnTo>
                      <a:pt x="139" y="3819"/>
                    </a:lnTo>
                    <a:lnTo>
                      <a:pt x="174" y="3691"/>
                    </a:lnTo>
                    <a:lnTo>
                      <a:pt x="191" y="3627"/>
                    </a:lnTo>
                    <a:lnTo>
                      <a:pt x="207" y="3561"/>
                    </a:lnTo>
                    <a:lnTo>
                      <a:pt x="222" y="3497"/>
                    </a:lnTo>
                    <a:lnTo>
                      <a:pt x="237" y="3431"/>
                    </a:lnTo>
                    <a:lnTo>
                      <a:pt x="252" y="3365"/>
                    </a:lnTo>
                    <a:lnTo>
                      <a:pt x="266" y="3300"/>
                    </a:lnTo>
                    <a:lnTo>
                      <a:pt x="279" y="3234"/>
                    </a:lnTo>
                    <a:lnTo>
                      <a:pt x="292" y="3167"/>
                    </a:lnTo>
                    <a:lnTo>
                      <a:pt x="304" y="3100"/>
                    </a:lnTo>
                    <a:lnTo>
                      <a:pt x="316" y="3034"/>
                    </a:lnTo>
                    <a:lnTo>
                      <a:pt x="326" y="2968"/>
                    </a:lnTo>
                    <a:lnTo>
                      <a:pt x="337" y="2900"/>
                    </a:lnTo>
                    <a:lnTo>
                      <a:pt x="347" y="2833"/>
                    </a:lnTo>
                    <a:lnTo>
                      <a:pt x="356" y="2765"/>
                    </a:lnTo>
                    <a:lnTo>
                      <a:pt x="364" y="2698"/>
                    </a:lnTo>
                    <a:lnTo>
                      <a:pt x="372" y="2630"/>
                    </a:lnTo>
                    <a:lnTo>
                      <a:pt x="379" y="2562"/>
                    </a:lnTo>
                    <a:lnTo>
                      <a:pt x="386" y="2494"/>
                    </a:lnTo>
                    <a:lnTo>
                      <a:pt x="392" y="2425"/>
                    </a:lnTo>
                    <a:lnTo>
                      <a:pt x="398" y="2357"/>
                    </a:lnTo>
                    <a:lnTo>
                      <a:pt x="402" y="2287"/>
                    </a:lnTo>
                    <a:lnTo>
                      <a:pt x="407" y="2219"/>
                    </a:lnTo>
                    <a:lnTo>
                      <a:pt x="410" y="2150"/>
                    </a:lnTo>
                    <a:lnTo>
                      <a:pt x="413" y="2080"/>
                    </a:lnTo>
                    <a:lnTo>
                      <a:pt x="415" y="2011"/>
                    </a:lnTo>
                    <a:lnTo>
                      <a:pt x="417" y="1942"/>
                    </a:lnTo>
                    <a:lnTo>
                      <a:pt x="417" y="1871"/>
                    </a:lnTo>
                    <a:lnTo>
                      <a:pt x="419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80200" y="3795840"/>
                <a:ext cx="110880" cy="1050840"/>
              </a:xfrm>
              <a:custGeom>
                <a:avLst/>
                <a:gdLst/>
                <a:ahLst/>
                <a:rect l="l" t="t" r="r" b="b"/>
                <a:pathLst>
                  <a:path w="423" h="3973">
                    <a:moveTo>
                      <a:pt x="423" y="1802"/>
                    </a:moveTo>
                    <a:lnTo>
                      <a:pt x="422" y="1686"/>
                    </a:lnTo>
                    <a:lnTo>
                      <a:pt x="420" y="1569"/>
                    </a:lnTo>
                    <a:lnTo>
                      <a:pt x="415" y="1454"/>
                    </a:lnTo>
                    <a:lnTo>
                      <a:pt x="409" y="1340"/>
                    </a:lnTo>
                    <a:lnTo>
                      <a:pt x="401" y="1225"/>
                    </a:lnTo>
                    <a:lnTo>
                      <a:pt x="391" y="1110"/>
                    </a:lnTo>
                    <a:lnTo>
                      <a:pt x="379" y="997"/>
                    </a:lnTo>
                    <a:lnTo>
                      <a:pt x="367" y="885"/>
                    </a:lnTo>
                    <a:lnTo>
                      <a:pt x="352" y="772"/>
                    </a:lnTo>
                    <a:lnTo>
                      <a:pt x="336" y="660"/>
                    </a:lnTo>
                    <a:lnTo>
                      <a:pt x="317" y="549"/>
                    </a:lnTo>
                    <a:lnTo>
                      <a:pt x="298" y="437"/>
                    </a:lnTo>
                    <a:lnTo>
                      <a:pt x="276" y="328"/>
                    </a:lnTo>
                    <a:lnTo>
                      <a:pt x="253" y="218"/>
                    </a:lnTo>
                    <a:lnTo>
                      <a:pt x="227" y="109"/>
                    </a:lnTo>
                    <a:lnTo>
                      <a:pt x="201" y="0"/>
                    </a:lnTo>
                    <a:lnTo>
                      <a:pt x="150" y="0"/>
                    </a:lnTo>
                    <a:lnTo>
                      <a:pt x="105" y="0"/>
                    </a:lnTo>
                    <a:lnTo>
                      <a:pt x="131" y="109"/>
                    </a:lnTo>
                    <a:lnTo>
                      <a:pt x="157" y="218"/>
                    </a:lnTo>
                    <a:lnTo>
                      <a:pt x="181" y="328"/>
                    </a:lnTo>
                    <a:lnTo>
                      <a:pt x="202" y="437"/>
                    </a:lnTo>
                    <a:lnTo>
                      <a:pt x="223" y="548"/>
                    </a:lnTo>
                    <a:lnTo>
                      <a:pt x="241" y="660"/>
                    </a:lnTo>
                    <a:lnTo>
                      <a:pt x="258" y="772"/>
                    </a:lnTo>
                    <a:lnTo>
                      <a:pt x="273" y="885"/>
                    </a:lnTo>
                    <a:lnTo>
                      <a:pt x="286" y="997"/>
                    </a:lnTo>
                    <a:lnTo>
                      <a:pt x="298" y="1110"/>
                    </a:lnTo>
                    <a:lnTo>
                      <a:pt x="308" y="1225"/>
                    </a:lnTo>
                    <a:lnTo>
                      <a:pt x="316" y="1339"/>
                    </a:lnTo>
                    <a:lnTo>
                      <a:pt x="322" y="1454"/>
                    </a:lnTo>
                    <a:lnTo>
                      <a:pt x="326" y="1569"/>
                    </a:lnTo>
                    <a:lnTo>
                      <a:pt x="330" y="1686"/>
                    </a:lnTo>
                    <a:lnTo>
                      <a:pt x="331" y="1802"/>
                    </a:lnTo>
                    <a:lnTo>
                      <a:pt x="330" y="1872"/>
                    </a:lnTo>
                    <a:lnTo>
                      <a:pt x="329" y="1944"/>
                    </a:lnTo>
                    <a:lnTo>
                      <a:pt x="327" y="2014"/>
                    </a:lnTo>
                    <a:lnTo>
                      <a:pt x="325" y="2085"/>
                    </a:lnTo>
                    <a:lnTo>
                      <a:pt x="322" y="2155"/>
                    </a:lnTo>
                    <a:lnTo>
                      <a:pt x="318" y="2224"/>
                    </a:lnTo>
                    <a:lnTo>
                      <a:pt x="314" y="2294"/>
                    </a:lnTo>
                    <a:lnTo>
                      <a:pt x="309" y="2364"/>
                    </a:lnTo>
                    <a:lnTo>
                      <a:pt x="303" y="2433"/>
                    </a:lnTo>
                    <a:lnTo>
                      <a:pt x="298" y="2502"/>
                    </a:lnTo>
                    <a:lnTo>
                      <a:pt x="289" y="2571"/>
                    </a:lnTo>
                    <a:lnTo>
                      <a:pt x="283" y="2640"/>
                    </a:lnTo>
                    <a:lnTo>
                      <a:pt x="274" y="2709"/>
                    </a:lnTo>
                    <a:lnTo>
                      <a:pt x="265" y="2777"/>
                    </a:lnTo>
                    <a:lnTo>
                      <a:pt x="256" y="2845"/>
                    </a:lnTo>
                    <a:lnTo>
                      <a:pt x="246" y="2913"/>
                    </a:lnTo>
                    <a:lnTo>
                      <a:pt x="235" y="2981"/>
                    </a:lnTo>
                    <a:lnTo>
                      <a:pt x="224" y="3049"/>
                    </a:lnTo>
                    <a:lnTo>
                      <a:pt x="212" y="3116"/>
                    </a:lnTo>
                    <a:lnTo>
                      <a:pt x="199" y="3184"/>
                    </a:lnTo>
                    <a:lnTo>
                      <a:pt x="186" y="3251"/>
                    </a:lnTo>
                    <a:lnTo>
                      <a:pt x="172" y="3318"/>
                    </a:lnTo>
                    <a:lnTo>
                      <a:pt x="158" y="3384"/>
                    </a:lnTo>
                    <a:lnTo>
                      <a:pt x="143" y="3451"/>
                    </a:lnTo>
                    <a:lnTo>
                      <a:pt x="127" y="3516"/>
                    </a:lnTo>
                    <a:lnTo>
                      <a:pt x="111" y="3583"/>
                    </a:lnTo>
                    <a:lnTo>
                      <a:pt x="93" y="3648"/>
                    </a:lnTo>
                    <a:lnTo>
                      <a:pt x="76" y="3713"/>
                    </a:lnTo>
                    <a:lnTo>
                      <a:pt x="58" y="3779"/>
                    </a:lnTo>
                    <a:lnTo>
                      <a:pt x="39" y="3844"/>
                    </a:lnTo>
                    <a:lnTo>
                      <a:pt x="21" y="3908"/>
                    </a:lnTo>
                    <a:lnTo>
                      <a:pt x="0" y="3973"/>
                    </a:lnTo>
                    <a:lnTo>
                      <a:pt x="103" y="3955"/>
                    </a:lnTo>
                    <a:lnTo>
                      <a:pt x="122" y="3892"/>
                    </a:lnTo>
                    <a:lnTo>
                      <a:pt x="141" y="3827"/>
                    </a:lnTo>
                    <a:lnTo>
                      <a:pt x="159" y="3763"/>
                    </a:lnTo>
                    <a:lnTo>
                      <a:pt x="176" y="3698"/>
                    </a:lnTo>
                    <a:lnTo>
                      <a:pt x="194" y="3634"/>
                    </a:lnTo>
                    <a:lnTo>
                      <a:pt x="210" y="3568"/>
                    </a:lnTo>
                    <a:lnTo>
                      <a:pt x="226" y="3504"/>
                    </a:lnTo>
                    <a:lnTo>
                      <a:pt x="241" y="3438"/>
                    </a:lnTo>
                    <a:lnTo>
                      <a:pt x="256" y="3372"/>
                    </a:lnTo>
                    <a:lnTo>
                      <a:pt x="270" y="3305"/>
                    </a:lnTo>
                    <a:lnTo>
                      <a:pt x="283" y="3240"/>
                    </a:lnTo>
                    <a:lnTo>
                      <a:pt x="296" y="3173"/>
                    </a:lnTo>
                    <a:lnTo>
                      <a:pt x="308" y="3106"/>
                    </a:lnTo>
                    <a:lnTo>
                      <a:pt x="319" y="3039"/>
                    </a:lnTo>
                    <a:lnTo>
                      <a:pt x="331" y="2972"/>
                    </a:lnTo>
                    <a:lnTo>
                      <a:pt x="341" y="2904"/>
                    </a:lnTo>
                    <a:lnTo>
                      <a:pt x="351" y="2837"/>
                    </a:lnTo>
                    <a:lnTo>
                      <a:pt x="360" y="2769"/>
                    </a:lnTo>
                    <a:lnTo>
                      <a:pt x="369" y="2701"/>
                    </a:lnTo>
                    <a:lnTo>
                      <a:pt x="377" y="2633"/>
                    </a:lnTo>
                    <a:lnTo>
                      <a:pt x="384" y="2565"/>
                    </a:lnTo>
                    <a:lnTo>
                      <a:pt x="391" y="2496"/>
                    </a:lnTo>
                    <a:lnTo>
                      <a:pt x="397" y="2428"/>
                    </a:lnTo>
                    <a:lnTo>
                      <a:pt x="402" y="2359"/>
                    </a:lnTo>
                    <a:lnTo>
                      <a:pt x="407" y="2290"/>
                    </a:lnTo>
                    <a:lnTo>
                      <a:pt x="412" y="2221"/>
                    </a:lnTo>
                    <a:lnTo>
                      <a:pt x="415" y="2151"/>
                    </a:lnTo>
                    <a:lnTo>
                      <a:pt x="419" y="2082"/>
                    </a:lnTo>
                    <a:lnTo>
                      <a:pt x="421" y="2012"/>
                    </a:lnTo>
                    <a:lnTo>
                      <a:pt x="422" y="1942"/>
                    </a:lnTo>
                    <a:lnTo>
                      <a:pt x="423" y="1872"/>
                    </a:lnTo>
                    <a:lnTo>
                      <a:pt x="423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65800" y="3795840"/>
                <a:ext cx="114120" cy="1052280"/>
              </a:xfrm>
              <a:custGeom>
                <a:avLst/>
                <a:gdLst/>
                <a:ahLst/>
                <a:rect l="l" t="t" r="r" b="b"/>
                <a:pathLst>
                  <a:path w="428" h="3980">
                    <a:moveTo>
                      <a:pt x="428" y="1802"/>
                    </a:moveTo>
                    <a:lnTo>
                      <a:pt x="427" y="1686"/>
                    </a:lnTo>
                    <a:lnTo>
                      <a:pt x="425" y="1569"/>
                    </a:lnTo>
                    <a:lnTo>
                      <a:pt x="420" y="1454"/>
                    </a:lnTo>
                    <a:lnTo>
                      <a:pt x="413" y="1339"/>
                    </a:lnTo>
                    <a:lnTo>
                      <a:pt x="405" y="1225"/>
                    </a:lnTo>
                    <a:lnTo>
                      <a:pt x="396" y="1110"/>
                    </a:lnTo>
                    <a:lnTo>
                      <a:pt x="384" y="997"/>
                    </a:lnTo>
                    <a:lnTo>
                      <a:pt x="370" y="885"/>
                    </a:lnTo>
                    <a:lnTo>
                      <a:pt x="355" y="772"/>
                    </a:lnTo>
                    <a:lnTo>
                      <a:pt x="339" y="660"/>
                    </a:lnTo>
                    <a:lnTo>
                      <a:pt x="321" y="548"/>
                    </a:lnTo>
                    <a:lnTo>
                      <a:pt x="300" y="437"/>
                    </a:lnTo>
                    <a:lnTo>
                      <a:pt x="279" y="328"/>
                    </a:lnTo>
                    <a:lnTo>
                      <a:pt x="255" y="218"/>
                    </a:lnTo>
                    <a:lnTo>
                      <a:pt x="231" y="109"/>
                    </a:lnTo>
                    <a:lnTo>
                      <a:pt x="204" y="0"/>
                    </a:lnTo>
                    <a:lnTo>
                      <a:pt x="201" y="0"/>
                    </a:lnTo>
                    <a:lnTo>
                      <a:pt x="124" y="0"/>
                    </a:lnTo>
                    <a:lnTo>
                      <a:pt x="109" y="0"/>
                    </a:lnTo>
                    <a:lnTo>
                      <a:pt x="135" y="109"/>
                    </a:lnTo>
                    <a:lnTo>
                      <a:pt x="160" y="218"/>
                    </a:lnTo>
                    <a:lnTo>
                      <a:pt x="184" y="328"/>
                    </a:lnTo>
                    <a:lnTo>
                      <a:pt x="205" y="437"/>
                    </a:lnTo>
                    <a:lnTo>
                      <a:pt x="226" y="548"/>
                    </a:lnTo>
                    <a:lnTo>
                      <a:pt x="245" y="660"/>
                    </a:lnTo>
                    <a:lnTo>
                      <a:pt x="262" y="772"/>
                    </a:lnTo>
                    <a:lnTo>
                      <a:pt x="277" y="883"/>
                    </a:lnTo>
                    <a:lnTo>
                      <a:pt x="290" y="997"/>
                    </a:lnTo>
                    <a:lnTo>
                      <a:pt x="302" y="1110"/>
                    </a:lnTo>
                    <a:lnTo>
                      <a:pt x="312" y="1225"/>
                    </a:lnTo>
                    <a:lnTo>
                      <a:pt x="320" y="1339"/>
                    </a:lnTo>
                    <a:lnTo>
                      <a:pt x="327" y="1454"/>
                    </a:lnTo>
                    <a:lnTo>
                      <a:pt x="331" y="1569"/>
                    </a:lnTo>
                    <a:lnTo>
                      <a:pt x="334" y="1686"/>
                    </a:lnTo>
                    <a:lnTo>
                      <a:pt x="335" y="1802"/>
                    </a:lnTo>
                    <a:lnTo>
                      <a:pt x="335" y="1872"/>
                    </a:lnTo>
                    <a:lnTo>
                      <a:pt x="334" y="1944"/>
                    </a:lnTo>
                    <a:lnTo>
                      <a:pt x="331" y="2014"/>
                    </a:lnTo>
                    <a:lnTo>
                      <a:pt x="329" y="2086"/>
                    </a:lnTo>
                    <a:lnTo>
                      <a:pt x="327" y="2156"/>
                    </a:lnTo>
                    <a:lnTo>
                      <a:pt x="322" y="2226"/>
                    </a:lnTo>
                    <a:lnTo>
                      <a:pt x="319" y="2295"/>
                    </a:lnTo>
                    <a:lnTo>
                      <a:pt x="313" y="2366"/>
                    </a:lnTo>
                    <a:lnTo>
                      <a:pt x="307" y="2435"/>
                    </a:lnTo>
                    <a:lnTo>
                      <a:pt x="301" y="2505"/>
                    </a:lnTo>
                    <a:lnTo>
                      <a:pt x="294" y="2574"/>
                    </a:lnTo>
                    <a:lnTo>
                      <a:pt x="286" y="2644"/>
                    </a:lnTo>
                    <a:lnTo>
                      <a:pt x="278" y="2712"/>
                    </a:lnTo>
                    <a:lnTo>
                      <a:pt x="269" y="2781"/>
                    </a:lnTo>
                    <a:lnTo>
                      <a:pt x="259" y="2849"/>
                    </a:lnTo>
                    <a:lnTo>
                      <a:pt x="249" y="2917"/>
                    </a:lnTo>
                    <a:lnTo>
                      <a:pt x="238" y="2986"/>
                    </a:lnTo>
                    <a:lnTo>
                      <a:pt x="226" y="3053"/>
                    </a:lnTo>
                    <a:lnTo>
                      <a:pt x="214" y="3121"/>
                    </a:lnTo>
                    <a:lnTo>
                      <a:pt x="201" y="3189"/>
                    </a:lnTo>
                    <a:lnTo>
                      <a:pt x="188" y="3256"/>
                    </a:lnTo>
                    <a:lnTo>
                      <a:pt x="174" y="3323"/>
                    </a:lnTo>
                    <a:lnTo>
                      <a:pt x="159" y="3389"/>
                    </a:lnTo>
                    <a:lnTo>
                      <a:pt x="144" y="3456"/>
                    </a:lnTo>
                    <a:lnTo>
                      <a:pt x="128" y="3522"/>
                    </a:lnTo>
                    <a:lnTo>
                      <a:pt x="112" y="3588"/>
                    </a:lnTo>
                    <a:lnTo>
                      <a:pt x="95" y="3655"/>
                    </a:lnTo>
                    <a:lnTo>
                      <a:pt x="76" y="3719"/>
                    </a:lnTo>
                    <a:lnTo>
                      <a:pt x="59" y="3785"/>
                    </a:lnTo>
                    <a:lnTo>
                      <a:pt x="39" y="3849"/>
                    </a:lnTo>
                    <a:lnTo>
                      <a:pt x="20" y="3915"/>
                    </a:lnTo>
                    <a:lnTo>
                      <a:pt x="0" y="3980"/>
                    </a:lnTo>
                    <a:lnTo>
                      <a:pt x="11" y="3980"/>
                    </a:lnTo>
                    <a:lnTo>
                      <a:pt x="103" y="3965"/>
                    </a:lnTo>
                    <a:lnTo>
                      <a:pt x="122" y="3900"/>
                    </a:lnTo>
                    <a:lnTo>
                      <a:pt x="141" y="3836"/>
                    </a:lnTo>
                    <a:lnTo>
                      <a:pt x="159" y="3771"/>
                    </a:lnTo>
                    <a:lnTo>
                      <a:pt x="178" y="3706"/>
                    </a:lnTo>
                    <a:lnTo>
                      <a:pt x="194" y="3641"/>
                    </a:lnTo>
                    <a:lnTo>
                      <a:pt x="211" y="3575"/>
                    </a:lnTo>
                    <a:lnTo>
                      <a:pt x="227" y="3510"/>
                    </a:lnTo>
                    <a:lnTo>
                      <a:pt x="242" y="3444"/>
                    </a:lnTo>
                    <a:lnTo>
                      <a:pt x="257" y="3378"/>
                    </a:lnTo>
                    <a:lnTo>
                      <a:pt x="271" y="3311"/>
                    </a:lnTo>
                    <a:lnTo>
                      <a:pt x="285" y="3245"/>
                    </a:lnTo>
                    <a:lnTo>
                      <a:pt x="299" y="3179"/>
                    </a:lnTo>
                    <a:lnTo>
                      <a:pt x="310" y="3112"/>
                    </a:lnTo>
                    <a:lnTo>
                      <a:pt x="323" y="3044"/>
                    </a:lnTo>
                    <a:lnTo>
                      <a:pt x="334" y="2977"/>
                    </a:lnTo>
                    <a:lnTo>
                      <a:pt x="345" y="2909"/>
                    </a:lnTo>
                    <a:lnTo>
                      <a:pt x="354" y="2842"/>
                    </a:lnTo>
                    <a:lnTo>
                      <a:pt x="363" y="2774"/>
                    </a:lnTo>
                    <a:lnTo>
                      <a:pt x="373" y="2705"/>
                    </a:lnTo>
                    <a:lnTo>
                      <a:pt x="381" y="2637"/>
                    </a:lnTo>
                    <a:lnTo>
                      <a:pt x="388" y="2569"/>
                    </a:lnTo>
                    <a:lnTo>
                      <a:pt x="395" y="2500"/>
                    </a:lnTo>
                    <a:lnTo>
                      <a:pt x="402" y="2430"/>
                    </a:lnTo>
                    <a:lnTo>
                      <a:pt x="407" y="2361"/>
                    </a:lnTo>
                    <a:lnTo>
                      <a:pt x="412" y="2292"/>
                    </a:lnTo>
                    <a:lnTo>
                      <a:pt x="417" y="2223"/>
                    </a:lnTo>
                    <a:lnTo>
                      <a:pt x="420" y="2153"/>
                    </a:lnTo>
                    <a:lnTo>
                      <a:pt x="422" y="2083"/>
                    </a:lnTo>
                    <a:lnTo>
                      <a:pt x="425" y="2013"/>
                    </a:lnTo>
                    <a:lnTo>
                      <a:pt x="427" y="1943"/>
                    </a:lnTo>
                    <a:lnTo>
                      <a:pt x="428" y="1872"/>
                    </a:lnTo>
                    <a:lnTo>
                      <a:pt x="428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53200" y="3795840"/>
                <a:ext cx="114120" cy="1052280"/>
              </a:xfrm>
              <a:custGeom>
                <a:avLst/>
                <a:gdLst/>
                <a:ahLst/>
                <a:rect l="l" t="t" r="r" b="b"/>
                <a:pathLst>
                  <a:path w="430" h="3980">
                    <a:moveTo>
                      <a:pt x="430" y="1802"/>
                    </a:moveTo>
                    <a:lnTo>
                      <a:pt x="430" y="1686"/>
                    </a:lnTo>
                    <a:lnTo>
                      <a:pt x="426" y="1569"/>
                    </a:lnTo>
                    <a:lnTo>
                      <a:pt x="422" y="1454"/>
                    </a:lnTo>
                    <a:lnTo>
                      <a:pt x="416" y="1339"/>
                    </a:lnTo>
                    <a:lnTo>
                      <a:pt x="408" y="1225"/>
                    </a:lnTo>
                    <a:lnTo>
                      <a:pt x="398" y="1110"/>
                    </a:lnTo>
                    <a:lnTo>
                      <a:pt x="386" y="997"/>
                    </a:lnTo>
                    <a:lnTo>
                      <a:pt x="373" y="885"/>
                    </a:lnTo>
                    <a:lnTo>
                      <a:pt x="357" y="772"/>
                    </a:lnTo>
                    <a:lnTo>
                      <a:pt x="341" y="660"/>
                    </a:lnTo>
                    <a:lnTo>
                      <a:pt x="323" y="548"/>
                    </a:lnTo>
                    <a:lnTo>
                      <a:pt x="302" y="437"/>
                    </a:lnTo>
                    <a:lnTo>
                      <a:pt x="280" y="328"/>
                    </a:lnTo>
                    <a:lnTo>
                      <a:pt x="257" y="218"/>
                    </a:lnTo>
                    <a:lnTo>
                      <a:pt x="231" y="109"/>
                    </a:lnTo>
                    <a:lnTo>
                      <a:pt x="205" y="0"/>
                    </a:lnTo>
                    <a:lnTo>
                      <a:pt x="173" y="0"/>
                    </a:lnTo>
                    <a:lnTo>
                      <a:pt x="109" y="0"/>
                    </a:lnTo>
                    <a:lnTo>
                      <a:pt x="136" y="109"/>
                    </a:lnTo>
                    <a:lnTo>
                      <a:pt x="161" y="218"/>
                    </a:lnTo>
                    <a:lnTo>
                      <a:pt x="185" y="328"/>
                    </a:lnTo>
                    <a:lnTo>
                      <a:pt x="207" y="437"/>
                    </a:lnTo>
                    <a:lnTo>
                      <a:pt x="228" y="548"/>
                    </a:lnTo>
                    <a:lnTo>
                      <a:pt x="246" y="660"/>
                    </a:lnTo>
                    <a:lnTo>
                      <a:pt x="264" y="772"/>
                    </a:lnTo>
                    <a:lnTo>
                      <a:pt x="279" y="883"/>
                    </a:lnTo>
                    <a:lnTo>
                      <a:pt x="293" y="996"/>
                    </a:lnTo>
                    <a:lnTo>
                      <a:pt x="304" y="1110"/>
                    </a:lnTo>
                    <a:lnTo>
                      <a:pt x="314" y="1225"/>
                    </a:lnTo>
                    <a:lnTo>
                      <a:pt x="323" y="1339"/>
                    </a:lnTo>
                    <a:lnTo>
                      <a:pt x="328" y="1454"/>
                    </a:lnTo>
                    <a:lnTo>
                      <a:pt x="333" y="1569"/>
                    </a:lnTo>
                    <a:lnTo>
                      <a:pt x="336" y="1686"/>
                    </a:lnTo>
                    <a:lnTo>
                      <a:pt x="338" y="1802"/>
                    </a:lnTo>
                    <a:lnTo>
                      <a:pt x="336" y="1872"/>
                    </a:lnTo>
                    <a:lnTo>
                      <a:pt x="335" y="1944"/>
                    </a:lnTo>
                    <a:lnTo>
                      <a:pt x="334" y="2014"/>
                    </a:lnTo>
                    <a:lnTo>
                      <a:pt x="332" y="2086"/>
                    </a:lnTo>
                    <a:lnTo>
                      <a:pt x="328" y="2156"/>
                    </a:lnTo>
                    <a:lnTo>
                      <a:pt x="325" y="2226"/>
                    </a:lnTo>
                    <a:lnTo>
                      <a:pt x="320" y="2295"/>
                    </a:lnTo>
                    <a:lnTo>
                      <a:pt x="316" y="2366"/>
                    </a:lnTo>
                    <a:lnTo>
                      <a:pt x="310" y="2435"/>
                    </a:lnTo>
                    <a:lnTo>
                      <a:pt x="303" y="2505"/>
                    </a:lnTo>
                    <a:lnTo>
                      <a:pt x="296" y="2574"/>
                    </a:lnTo>
                    <a:lnTo>
                      <a:pt x="288" y="2644"/>
                    </a:lnTo>
                    <a:lnTo>
                      <a:pt x="280" y="2713"/>
                    </a:lnTo>
                    <a:lnTo>
                      <a:pt x="271" y="2781"/>
                    </a:lnTo>
                    <a:lnTo>
                      <a:pt x="261" y="2850"/>
                    </a:lnTo>
                    <a:lnTo>
                      <a:pt x="251" y="2918"/>
                    </a:lnTo>
                    <a:lnTo>
                      <a:pt x="239" y="2986"/>
                    </a:lnTo>
                    <a:lnTo>
                      <a:pt x="228" y="3054"/>
                    </a:lnTo>
                    <a:lnTo>
                      <a:pt x="215" y="3121"/>
                    </a:lnTo>
                    <a:lnTo>
                      <a:pt x="203" y="3189"/>
                    </a:lnTo>
                    <a:lnTo>
                      <a:pt x="189" y="3256"/>
                    </a:lnTo>
                    <a:lnTo>
                      <a:pt x="175" y="3323"/>
                    </a:lnTo>
                    <a:lnTo>
                      <a:pt x="160" y="3389"/>
                    </a:lnTo>
                    <a:lnTo>
                      <a:pt x="145" y="3456"/>
                    </a:lnTo>
                    <a:lnTo>
                      <a:pt x="129" y="3522"/>
                    </a:lnTo>
                    <a:lnTo>
                      <a:pt x="113" y="3589"/>
                    </a:lnTo>
                    <a:lnTo>
                      <a:pt x="95" y="3655"/>
                    </a:lnTo>
                    <a:lnTo>
                      <a:pt x="77" y="3719"/>
                    </a:lnTo>
                    <a:lnTo>
                      <a:pt x="58" y="3785"/>
                    </a:lnTo>
                    <a:lnTo>
                      <a:pt x="40" y="3851"/>
                    </a:lnTo>
                    <a:lnTo>
                      <a:pt x="20" y="3915"/>
                    </a:lnTo>
                    <a:lnTo>
                      <a:pt x="0" y="3980"/>
                    </a:lnTo>
                    <a:lnTo>
                      <a:pt x="60" y="3980"/>
                    </a:lnTo>
                    <a:lnTo>
                      <a:pt x="100" y="3973"/>
                    </a:lnTo>
                    <a:lnTo>
                      <a:pt x="121" y="3908"/>
                    </a:lnTo>
                    <a:lnTo>
                      <a:pt x="139" y="3844"/>
                    </a:lnTo>
                    <a:lnTo>
                      <a:pt x="158" y="3779"/>
                    </a:lnTo>
                    <a:lnTo>
                      <a:pt x="176" y="3713"/>
                    </a:lnTo>
                    <a:lnTo>
                      <a:pt x="193" y="3648"/>
                    </a:lnTo>
                    <a:lnTo>
                      <a:pt x="211" y="3583"/>
                    </a:lnTo>
                    <a:lnTo>
                      <a:pt x="227" y="3516"/>
                    </a:lnTo>
                    <a:lnTo>
                      <a:pt x="243" y="3451"/>
                    </a:lnTo>
                    <a:lnTo>
                      <a:pt x="257" y="3384"/>
                    </a:lnTo>
                    <a:lnTo>
                      <a:pt x="272" y="3318"/>
                    </a:lnTo>
                    <a:lnTo>
                      <a:pt x="286" y="3251"/>
                    </a:lnTo>
                    <a:lnTo>
                      <a:pt x="299" y="3184"/>
                    </a:lnTo>
                    <a:lnTo>
                      <a:pt x="311" y="3116"/>
                    </a:lnTo>
                    <a:lnTo>
                      <a:pt x="324" y="3049"/>
                    </a:lnTo>
                    <a:lnTo>
                      <a:pt x="335" y="2981"/>
                    </a:lnTo>
                    <a:lnTo>
                      <a:pt x="346" y="2913"/>
                    </a:lnTo>
                    <a:lnTo>
                      <a:pt x="356" y="2845"/>
                    </a:lnTo>
                    <a:lnTo>
                      <a:pt x="365" y="2777"/>
                    </a:lnTo>
                    <a:lnTo>
                      <a:pt x="374" y="2709"/>
                    </a:lnTo>
                    <a:lnTo>
                      <a:pt x="383" y="2640"/>
                    </a:lnTo>
                    <a:lnTo>
                      <a:pt x="389" y="2571"/>
                    </a:lnTo>
                    <a:lnTo>
                      <a:pt x="396" y="2502"/>
                    </a:lnTo>
                    <a:lnTo>
                      <a:pt x="403" y="2433"/>
                    </a:lnTo>
                    <a:lnTo>
                      <a:pt x="409" y="2364"/>
                    </a:lnTo>
                    <a:lnTo>
                      <a:pt x="414" y="2294"/>
                    </a:lnTo>
                    <a:lnTo>
                      <a:pt x="418" y="2224"/>
                    </a:lnTo>
                    <a:lnTo>
                      <a:pt x="422" y="2155"/>
                    </a:lnTo>
                    <a:lnTo>
                      <a:pt x="425" y="2085"/>
                    </a:lnTo>
                    <a:lnTo>
                      <a:pt x="427" y="2014"/>
                    </a:lnTo>
                    <a:lnTo>
                      <a:pt x="429" y="1944"/>
                    </a:lnTo>
                    <a:lnTo>
                      <a:pt x="430" y="1872"/>
                    </a:lnTo>
                    <a:lnTo>
                      <a:pt x="430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40240" y="3795840"/>
                <a:ext cx="114480" cy="1052280"/>
              </a:xfrm>
              <a:custGeom>
                <a:avLst/>
                <a:gdLst/>
                <a:ahLst/>
                <a:rect l="l" t="t" r="r" b="b"/>
                <a:pathLst>
                  <a:path w="433" h="3980">
                    <a:moveTo>
                      <a:pt x="433" y="1802"/>
                    </a:moveTo>
                    <a:lnTo>
                      <a:pt x="432" y="1686"/>
                    </a:lnTo>
                    <a:lnTo>
                      <a:pt x="429" y="1569"/>
                    </a:lnTo>
                    <a:lnTo>
                      <a:pt x="425" y="1454"/>
                    </a:lnTo>
                    <a:lnTo>
                      <a:pt x="418" y="1339"/>
                    </a:lnTo>
                    <a:lnTo>
                      <a:pt x="410" y="1225"/>
                    </a:lnTo>
                    <a:lnTo>
                      <a:pt x="400" y="1110"/>
                    </a:lnTo>
                    <a:lnTo>
                      <a:pt x="388" y="997"/>
                    </a:lnTo>
                    <a:lnTo>
                      <a:pt x="375" y="883"/>
                    </a:lnTo>
                    <a:lnTo>
                      <a:pt x="360" y="772"/>
                    </a:lnTo>
                    <a:lnTo>
                      <a:pt x="343" y="660"/>
                    </a:lnTo>
                    <a:lnTo>
                      <a:pt x="324" y="548"/>
                    </a:lnTo>
                    <a:lnTo>
                      <a:pt x="303" y="437"/>
                    </a:lnTo>
                    <a:lnTo>
                      <a:pt x="282" y="328"/>
                    </a:lnTo>
                    <a:lnTo>
                      <a:pt x="258" y="218"/>
                    </a:lnTo>
                    <a:lnTo>
                      <a:pt x="233" y="109"/>
                    </a:lnTo>
                    <a:lnTo>
                      <a:pt x="207" y="0"/>
                    </a:lnTo>
                    <a:lnTo>
                      <a:pt x="144" y="0"/>
                    </a:lnTo>
                    <a:lnTo>
                      <a:pt x="110" y="0"/>
                    </a:lnTo>
                    <a:lnTo>
                      <a:pt x="136" y="109"/>
                    </a:lnTo>
                    <a:lnTo>
                      <a:pt x="163" y="217"/>
                    </a:lnTo>
                    <a:lnTo>
                      <a:pt x="186" y="327"/>
                    </a:lnTo>
                    <a:lnTo>
                      <a:pt x="209" y="437"/>
                    </a:lnTo>
                    <a:lnTo>
                      <a:pt x="230" y="548"/>
                    </a:lnTo>
                    <a:lnTo>
                      <a:pt x="248" y="660"/>
                    </a:lnTo>
                    <a:lnTo>
                      <a:pt x="265" y="772"/>
                    </a:lnTo>
                    <a:lnTo>
                      <a:pt x="280" y="883"/>
                    </a:lnTo>
                    <a:lnTo>
                      <a:pt x="294" y="996"/>
                    </a:lnTo>
                    <a:lnTo>
                      <a:pt x="306" y="1110"/>
                    </a:lnTo>
                    <a:lnTo>
                      <a:pt x="316" y="1225"/>
                    </a:lnTo>
                    <a:lnTo>
                      <a:pt x="324" y="1339"/>
                    </a:lnTo>
                    <a:lnTo>
                      <a:pt x="331" y="1454"/>
                    </a:lnTo>
                    <a:lnTo>
                      <a:pt x="336" y="1569"/>
                    </a:lnTo>
                    <a:lnTo>
                      <a:pt x="338" y="1686"/>
                    </a:lnTo>
                    <a:lnTo>
                      <a:pt x="339" y="1802"/>
                    </a:lnTo>
                    <a:lnTo>
                      <a:pt x="339" y="1872"/>
                    </a:lnTo>
                    <a:lnTo>
                      <a:pt x="338" y="1944"/>
                    </a:lnTo>
                    <a:lnTo>
                      <a:pt x="337" y="2015"/>
                    </a:lnTo>
                    <a:lnTo>
                      <a:pt x="333" y="2086"/>
                    </a:lnTo>
                    <a:lnTo>
                      <a:pt x="331" y="2156"/>
                    </a:lnTo>
                    <a:lnTo>
                      <a:pt x="327" y="2226"/>
                    </a:lnTo>
                    <a:lnTo>
                      <a:pt x="322" y="2297"/>
                    </a:lnTo>
                    <a:lnTo>
                      <a:pt x="317" y="2366"/>
                    </a:lnTo>
                    <a:lnTo>
                      <a:pt x="312" y="2436"/>
                    </a:lnTo>
                    <a:lnTo>
                      <a:pt x="305" y="2505"/>
                    </a:lnTo>
                    <a:lnTo>
                      <a:pt x="298" y="2574"/>
                    </a:lnTo>
                    <a:lnTo>
                      <a:pt x="290" y="2644"/>
                    </a:lnTo>
                    <a:lnTo>
                      <a:pt x="282" y="2713"/>
                    </a:lnTo>
                    <a:lnTo>
                      <a:pt x="272" y="2781"/>
                    </a:lnTo>
                    <a:lnTo>
                      <a:pt x="263" y="2850"/>
                    </a:lnTo>
                    <a:lnTo>
                      <a:pt x="253" y="2918"/>
                    </a:lnTo>
                    <a:lnTo>
                      <a:pt x="241" y="2986"/>
                    </a:lnTo>
                    <a:lnTo>
                      <a:pt x="230" y="3054"/>
                    </a:lnTo>
                    <a:lnTo>
                      <a:pt x="217" y="3122"/>
                    </a:lnTo>
                    <a:lnTo>
                      <a:pt x="204" y="3189"/>
                    </a:lnTo>
                    <a:lnTo>
                      <a:pt x="190" y="3256"/>
                    </a:lnTo>
                    <a:lnTo>
                      <a:pt x="177" y="3323"/>
                    </a:lnTo>
                    <a:lnTo>
                      <a:pt x="162" y="3389"/>
                    </a:lnTo>
                    <a:lnTo>
                      <a:pt x="145" y="3456"/>
                    </a:lnTo>
                    <a:lnTo>
                      <a:pt x="129" y="3522"/>
                    </a:lnTo>
                    <a:lnTo>
                      <a:pt x="113" y="3589"/>
                    </a:lnTo>
                    <a:lnTo>
                      <a:pt x="96" y="3655"/>
                    </a:lnTo>
                    <a:lnTo>
                      <a:pt x="77" y="3720"/>
                    </a:lnTo>
                    <a:lnTo>
                      <a:pt x="59" y="3785"/>
                    </a:lnTo>
                    <a:lnTo>
                      <a:pt x="41" y="3851"/>
                    </a:lnTo>
                    <a:lnTo>
                      <a:pt x="21" y="3915"/>
                    </a:lnTo>
                    <a:lnTo>
                      <a:pt x="0" y="3980"/>
                    </a:lnTo>
                    <a:lnTo>
                      <a:pt x="98" y="3980"/>
                    </a:lnTo>
                    <a:lnTo>
                      <a:pt x="118" y="3915"/>
                    </a:lnTo>
                    <a:lnTo>
                      <a:pt x="137" y="3849"/>
                    </a:lnTo>
                    <a:lnTo>
                      <a:pt x="157" y="3785"/>
                    </a:lnTo>
                    <a:lnTo>
                      <a:pt x="174" y="3719"/>
                    </a:lnTo>
                    <a:lnTo>
                      <a:pt x="193" y="3655"/>
                    </a:lnTo>
                    <a:lnTo>
                      <a:pt x="210" y="3588"/>
                    </a:lnTo>
                    <a:lnTo>
                      <a:pt x="226" y="3522"/>
                    </a:lnTo>
                    <a:lnTo>
                      <a:pt x="242" y="3456"/>
                    </a:lnTo>
                    <a:lnTo>
                      <a:pt x="257" y="3389"/>
                    </a:lnTo>
                    <a:lnTo>
                      <a:pt x="272" y="3323"/>
                    </a:lnTo>
                    <a:lnTo>
                      <a:pt x="286" y="3256"/>
                    </a:lnTo>
                    <a:lnTo>
                      <a:pt x="299" y="3189"/>
                    </a:lnTo>
                    <a:lnTo>
                      <a:pt x="312" y="3121"/>
                    </a:lnTo>
                    <a:lnTo>
                      <a:pt x="324" y="3053"/>
                    </a:lnTo>
                    <a:lnTo>
                      <a:pt x="336" y="2986"/>
                    </a:lnTo>
                    <a:lnTo>
                      <a:pt x="347" y="2917"/>
                    </a:lnTo>
                    <a:lnTo>
                      <a:pt x="357" y="2849"/>
                    </a:lnTo>
                    <a:lnTo>
                      <a:pt x="367" y="2781"/>
                    </a:lnTo>
                    <a:lnTo>
                      <a:pt x="376" y="2712"/>
                    </a:lnTo>
                    <a:lnTo>
                      <a:pt x="384" y="2644"/>
                    </a:lnTo>
                    <a:lnTo>
                      <a:pt x="392" y="2574"/>
                    </a:lnTo>
                    <a:lnTo>
                      <a:pt x="399" y="2505"/>
                    </a:lnTo>
                    <a:lnTo>
                      <a:pt x="405" y="2435"/>
                    </a:lnTo>
                    <a:lnTo>
                      <a:pt x="411" y="2366"/>
                    </a:lnTo>
                    <a:lnTo>
                      <a:pt x="417" y="2295"/>
                    </a:lnTo>
                    <a:lnTo>
                      <a:pt x="420" y="2226"/>
                    </a:lnTo>
                    <a:lnTo>
                      <a:pt x="425" y="2156"/>
                    </a:lnTo>
                    <a:lnTo>
                      <a:pt x="427" y="2086"/>
                    </a:lnTo>
                    <a:lnTo>
                      <a:pt x="429" y="2014"/>
                    </a:lnTo>
                    <a:lnTo>
                      <a:pt x="432" y="1944"/>
                    </a:lnTo>
                    <a:lnTo>
                      <a:pt x="433" y="1872"/>
                    </a:lnTo>
                    <a:lnTo>
                      <a:pt x="433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27640" y="3795840"/>
                <a:ext cx="114480" cy="1052280"/>
              </a:xfrm>
              <a:custGeom>
                <a:avLst/>
                <a:gdLst/>
                <a:ahLst/>
                <a:rect l="l" t="t" r="r" b="b"/>
                <a:pathLst>
                  <a:path w="435" h="3980">
                    <a:moveTo>
                      <a:pt x="435" y="1802"/>
                    </a:moveTo>
                    <a:lnTo>
                      <a:pt x="433" y="1686"/>
                    </a:lnTo>
                    <a:lnTo>
                      <a:pt x="430" y="1569"/>
                    </a:lnTo>
                    <a:lnTo>
                      <a:pt x="425" y="1454"/>
                    </a:lnTo>
                    <a:lnTo>
                      <a:pt x="420" y="1339"/>
                    </a:lnTo>
                    <a:lnTo>
                      <a:pt x="411" y="1225"/>
                    </a:lnTo>
                    <a:lnTo>
                      <a:pt x="401" y="1110"/>
                    </a:lnTo>
                    <a:lnTo>
                      <a:pt x="390" y="996"/>
                    </a:lnTo>
                    <a:lnTo>
                      <a:pt x="376" y="883"/>
                    </a:lnTo>
                    <a:lnTo>
                      <a:pt x="361" y="772"/>
                    </a:lnTo>
                    <a:lnTo>
                      <a:pt x="343" y="660"/>
                    </a:lnTo>
                    <a:lnTo>
                      <a:pt x="325" y="548"/>
                    </a:lnTo>
                    <a:lnTo>
                      <a:pt x="304" y="437"/>
                    </a:lnTo>
                    <a:lnTo>
                      <a:pt x="282" y="328"/>
                    </a:lnTo>
                    <a:lnTo>
                      <a:pt x="258" y="218"/>
                    </a:lnTo>
                    <a:lnTo>
                      <a:pt x="233" y="109"/>
                    </a:lnTo>
                    <a:lnTo>
                      <a:pt x="206" y="0"/>
                    </a:lnTo>
                    <a:lnTo>
                      <a:pt x="192" y="0"/>
                    </a:lnTo>
                    <a:lnTo>
                      <a:pt x="109" y="0"/>
                    </a:lnTo>
                    <a:lnTo>
                      <a:pt x="137" y="109"/>
                    </a:lnTo>
                    <a:lnTo>
                      <a:pt x="162" y="217"/>
                    </a:lnTo>
                    <a:lnTo>
                      <a:pt x="187" y="327"/>
                    </a:lnTo>
                    <a:lnTo>
                      <a:pt x="210" y="437"/>
                    </a:lnTo>
                    <a:lnTo>
                      <a:pt x="229" y="548"/>
                    </a:lnTo>
                    <a:lnTo>
                      <a:pt x="249" y="659"/>
                    </a:lnTo>
                    <a:lnTo>
                      <a:pt x="266" y="772"/>
                    </a:lnTo>
                    <a:lnTo>
                      <a:pt x="281" y="883"/>
                    </a:lnTo>
                    <a:lnTo>
                      <a:pt x="295" y="996"/>
                    </a:lnTo>
                    <a:lnTo>
                      <a:pt x="308" y="1110"/>
                    </a:lnTo>
                    <a:lnTo>
                      <a:pt x="318" y="1225"/>
                    </a:lnTo>
                    <a:lnTo>
                      <a:pt x="326" y="1339"/>
                    </a:lnTo>
                    <a:lnTo>
                      <a:pt x="332" y="1454"/>
                    </a:lnTo>
                    <a:lnTo>
                      <a:pt x="338" y="1569"/>
                    </a:lnTo>
                    <a:lnTo>
                      <a:pt x="340" y="1686"/>
                    </a:lnTo>
                    <a:lnTo>
                      <a:pt x="341" y="1802"/>
                    </a:lnTo>
                    <a:lnTo>
                      <a:pt x="340" y="1874"/>
                    </a:lnTo>
                    <a:lnTo>
                      <a:pt x="340" y="1944"/>
                    </a:lnTo>
                    <a:lnTo>
                      <a:pt x="338" y="2015"/>
                    </a:lnTo>
                    <a:lnTo>
                      <a:pt x="335" y="2086"/>
                    </a:lnTo>
                    <a:lnTo>
                      <a:pt x="332" y="2156"/>
                    </a:lnTo>
                    <a:lnTo>
                      <a:pt x="328" y="2226"/>
                    </a:lnTo>
                    <a:lnTo>
                      <a:pt x="324" y="2297"/>
                    </a:lnTo>
                    <a:lnTo>
                      <a:pt x="319" y="2366"/>
                    </a:lnTo>
                    <a:lnTo>
                      <a:pt x="312" y="2436"/>
                    </a:lnTo>
                    <a:lnTo>
                      <a:pt x="306" y="2505"/>
                    </a:lnTo>
                    <a:lnTo>
                      <a:pt x="298" y="2574"/>
                    </a:lnTo>
                    <a:lnTo>
                      <a:pt x="292" y="2644"/>
                    </a:lnTo>
                    <a:lnTo>
                      <a:pt x="282" y="2713"/>
                    </a:lnTo>
                    <a:lnTo>
                      <a:pt x="273" y="2782"/>
                    </a:lnTo>
                    <a:lnTo>
                      <a:pt x="264" y="2850"/>
                    </a:lnTo>
                    <a:lnTo>
                      <a:pt x="253" y="2918"/>
                    </a:lnTo>
                    <a:lnTo>
                      <a:pt x="242" y="2986"/>
                    </a:lnTo>
                    <a:lnTo>
                      <a:pt x="230" y="3054"/>
                    </a:lnTo>
                    <a:lnTo>
                      <a:pt x="218" y="3122"/>
                    </a:lnTo>
                    <a:lnTo>
                      <a:pt x="205" y="3189"/>
                    </a:lnTo>
                    <a:lnTo>
                      <a:pt x="191" y="3257"/>
                    </a:lnTo>
                    <a:lnTo>
                      <a:pt x="176" y="3324"/>
                    </a:lnTo>
                    <a:lnTo>
                      <a:pt x="161" y="3391"/>
                    </a:lnTo>
                    <a:lnTo>
                      <a:pt x="146" y="3456"/>
                    </a:lnTo>
                    <a:lnTo>
                      <a:pt x="130" y="3523"/>
                    </a:lnTo>
                    <a:lnTo>
                      <a:pt x="113" y="3589"/>
                    </a:lnTo>
                    <a:lnTo>
                      <a:pt x="95" y="3655"/>
                    </a:lnTo>
                    <a:lnTo>
                      <a:pt x="77" y="3720"/>
                    </a:lnTo>
                    <a:lnTo>
                      <a:pt x="59" y="3785"/>
                    </a:lnTo>
                    <a:lnTo>
                      <a:pt x="39" y="3851"/>
                    </a:lnTo>
                    <a:lnTo>
                      <a:pt x="19" y="3915"/>
                    </a:lnTo>
                    <a:lnTo>
                      <a:pt x="0" y="3980"/>
                    </a:lnTo>
                    <a:lnTo>
                      <a:pt x="97" y="3980"/>
                    </a:lnTo>
                    <a:lnTo>
                      <a:pt x="117" y="3915"/>
                    </a:lnTo>
                    <a:lnTo>
                      <a:pt x="137" y="3851"/>
                    </a:lnTo>
                    <a:lnTo>
                      <a:pt x="155" y="3785"/>
                    </a:lnTo>
                    <a:lnTo>
                      <a:pt x="174" y="3719"/>
                    </a:lnTo>
                    <a:lnTo>
                      <a:pt x="192" y="3655"/>
                    </a:lnTo>
                    <a:lnTo>
                      <a:pt x="210" y="3589"/>
                    </a:lnTo>
                    <a:lnTo>
                      <a:pt x="226" y="3522"/>
                    </a:lnTo>
                    <a:lnTo>
                      <a:pt x="242" y="3456"/>
                    </a:lnTo>
                    <a:lnTo>
                      <a:pt x="257" y="3389"/>
                    </a:lnTo>
                    <a:lnTo>
                      <a:pt x="272" y="3323"/>
                    </a:lnTo>
                    <a:lnTo>
                      <a:pt x="286" y="3256"/>
                    </a:lnTo>
                    <a:lnTo>
                      <a:pt x="300" y="3189"/>
                    </a:lnTo>
                    <a:lnTo>
                      <a:pt x="312" y="3121"/>
                    </a:lnTo>
                    <a:lnTo>
                      <a:pt x="325" y="3054"/>
                    </a:lnTo>
                    <a:lnTo>
                      <a:pt x="336" y="2986"/>
                    </a:lnTo>
                    <a:lnTo>
                      <a:pt x="348" y="2918"/>
                    </a:lnTo>
                    <a:lnTo>
                      <a:pt x="358" y="2850"/>
                    </a:lnTo>
                    <a:lnTo>
                      <a:pt x="368" y="2781"/>
                    </a:lnTo>
                    <a:lnTo>
                      <a:pt x="377" y="2713"/>
                    </a:lnTo>
                    <a:lnTo>
                      <a:pt x="385" y="2644"/>
                    </a:lnTo>
                    <a:lnTo>
                      <a:pt x="393" y="2574"/>
                    </a:lnTo>
                    <a:lnTo>
                      <a:pt x="400" y="2505"/>
                    </a:lnTo>
                    <a:lnTo>
                      <a:pt x="407" y="2435"/>
                    </a:lnTo>
                    <a:lnTo>
                      <a:pt x="413" y="2366"/>
                    </a:lnTo>
                    <a:lnTo>
                      <a:pt x="417" y="2295"/>
                    </a:lnTo>
                    <a:lnTo>
                      <a:pt x="422" y="2226"/>
                    </a:lnTo>
                    <a:lnTo>
                      <a:pt x="425" y="2156"/>
                    </a:lnTo>
                    <a:lnTo>
                      <a:pt x="429" y="2086"/>
                    </a:lnTo>
                    <a:lnTo>
                      <a:pt x="431" y="2014"/>
                    </a:lnTo>
                    <a:lnTo>
                      <a:pt x="432" y="1944"/>
                    </a:lnTo>
                    <a:lnTo>
                      <a:pt x="433" y="1872"/>
                    </a:lnTo>
                    <a:lnTo>
                      <a:pt x="435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13240" y="3795840"/>
                <a:ext cx="115920" cy="1052280"/>
              </a:xfrm>
              <a:custGeom>
                <a:avLst/>
                <a:gdLst/>
                <a:ahLst/>
                <a:rect l="l" t="t" r="r" b="b"/>
                <a:pathLst>
                  <a:path w="438" h="3982">
                    <a:moveTo>
                      <a:pt x="438" y="1802"/>
                    </a:moveTo>
                    <a:lnTo>
                      <a:pt x="437" y="1686"/>
                    </a:lnTo>
                    <a:lnTo>
                      <a:pt x="435" y="1569"/>
                    </a:lnTo>
                    <a:lnTo>
                      <a:pt x="430" y="1454"/>
                    </a:lnTo>
                    <a:lnTo>
                      <a:pt x="423" y="1339"/>
                    </a:lnTo>
                    <a:lnTo>
                      <a:pt x="415" y="1225"/>
                    </a:lnTo>
                    <a:lnTo>
                      <a:pt x="405" y="1110"/>
                    </a:lnTo>
                    <a:lnTo>
                      <a:pt x="393" y="996"/>
                    </a:lnTo>
                    <a:lnTo>
                      <a:pt x="379" y="883"/>
                    </a:lnTo>
                    <a:lnTo>
                      <a:pt x="364" y="772"/>
                    </a:lnTo>
                    <a:lnTo>
                      <a:pt x="347" y="660"/>
                    </a:lnTo>
                    <a:lnTo>
                      <a:pt x="329" y="548"/>
                    </a:lnTo>
                    <a:lnTo>
                      <a:pt x="308" y="437"/>
                    </a:lnTo>
                    <a:lnTo>
                      <a:pt x="285" y="327"/>
                    </a:lnTo>
                    <a:lnTo>
                      <a:pt x="262" y="217"/>
                    </a:lnTo>
                    <a:lnTo>
                      <a:pt x="235" y="109"/>
                    </a:lnTo>
                    <a:lnTo>
                      <a:pt x="209" y="0"/>
                    </a:lnTo>
                    <a:lnTo>
                      <a:pt x="130" y="0"/>
                    </a:lnTo>
                    <a:lnTo>
                      <a:pt x="112" y="0"/>
                    </a:lnTo>
                    <a:lnTo>
                      <a:pt x="140" y="109"/>
                    </a:lnTo>
                    <a:lnTo>
                      <a:pt x="166" y="217"/>
                    </a:lnTo>
                    <a:lnTo>
                      <a:pt x="190" y="327"/>
                    </a:lnTo>
                    <a:lnTo>
                      <a:pt x="212" y="437"/>
                    </a:lnTo>
                    <a:lnTo>
                      <a:pt x="233" y="548"/>
                    </a:lnTo>
                    <a:lnTo>
                      <a:pt x="253" y="659"/>
                    </a:lnTo>
                    <a:lnTo>
                      <a:pt x="270" y="770"/>
                    </a:lnTo>
                    <a:lnTo>
                      <a:pt x="286" y="883"/>
                    </a:lnTo>
                    <a:lnTo>
                      <a:pt x="300" y="996"/>
                    </a:lnTo>
                    <a:lnTo>
                      <a:pt x="311" y="1109"/>
                    </a:lnTo>
                    <a:lnTo>
                      <a:pt x="322" y="1223"/>
                    </a:lnTo>
                    <a:lnTo>
                      <a:pt x="330" y="1339"/>
                    </a:lnTo>
                    <a:lnTo>
                      <a:pt x="337" y="1454"/>
                    </a:lnTo>
                    <a:lnTo>
                      <a:pt x="341" y="1569"/>
                    </a:lnTo>
                    <a:lnTo>
                      <a:pt x="345" y="1686"/>
                    </a:lnTo>
                    <a:lnTo>
                      <a:pt x="345" y="1802"/>
                    </a:lnTo>
                    <a:lnTo>
                      <a:pt x="345" y="1874"/>
                    </a:lnTo>
                    <a:lnTo>
                      <a:pt x="344" y="1944"/>
                    </a:lnTo>
                    <a:lnTo>
                      <a:pt x="343" y="2015"/>
                    </a:lnTo>
                    <a:lnTo>
                      <a:pt x="339" y="2086"/>
                    </a:lnTo>
                    <a:lnTo>
                      <a:pt x="337" y="2156"/>
                    </a:lnTo>
                    <a:lnTo>
                      <a:pt x="332" y="2226"/>
                    </a:lnTo>
                    <a:lnTo>
                      <a:pt x="328" y="2297"/>
                    </a:lnTo>
                    <a:lnTo>
                      <a:pt x="323" y="2367"/>
                    </a:lnTo>
                    <a:lnTo>
                      <a:pt x="317" y="2437"/>
                    </a:lnTo>
                    <a:lnTo>
                      <a:pt x="310" y="2506"/>
                    </a:lnTo>
                    <a:lnTo>
                      <a:pt x="303" y="2576"/>
                    </a:lnTo>
                    <a:lnTo>
                      <a:pt x="295" y="2645"/>
                    </a:lnTo>
                    <a:lnTo>
                      <a:pt x="286" y="2714"/>
                    </a:lnTo>
                    <a:lnTo>
                      <a:pt x="277" y="2783"/>
                    </a:lnTo>
                    <a:lnTo>
                      <a:pt x="268" y="2851"/>
                    </a:lnTo>
                    <a:lnTo>
                      <a:pt x="257" y="2920"/>
                    </a:lnTo>
                    <a:lnTo>
                      <a:pt x="246" y="2988"/>
                    </a:lnTo>
                    <a:lnTo>
                      <a:pt x="233" y="3056"/>
                    </a:lnTo>
                    <a:lnTo>
                      <a:pt x="221" y="3123"/>
                    </a:lnTo>
                    <a:lnTo>
                      <a:pt x="208" y="3191"/>
                    </a:lnTo>
                    <a:lnTo>
                      <a:pt x="194" y="3258"/>
                    </a:lnTo>
                    <a:lnTo>
                      <a:pt x="180" y="3326"/>
                    </a:lnTo>
                    <a:lnTo>
                      <a:pt x="164" y="3392"/>
                    </a:lnTo>
                    <a:lnTo>
                      <a:pt x="149" y="3459"/>
                    </a:lnTo>
                    <a:lnTo>
                      <a:pt x="133" y="3525"/>
                    </a:lnTo>
                    <a:lnTo>
                      <a:pt x="115" y="3591"/>
                    </a:lnTo>
                    <a:lnTo>
                      <a:pt x="98" y="3657"/>
                    </a:lnTo>
                    <a:lnTo>
                      <a:pt x="80" y="3723"/>
                    </a:lnTo>
                    <a:lnTo>
                      <a:pt x="60" y="3788"/>
                    </a:lnTo>
                    <a:lnTo>
                      <a:pt x="41" y="3853"/>
                    </a:lnTo>
                    <a:lnTo>
                      <a:pt x="21" y="3917"/>
                    </a:lnTo>
                    <a:lnTo>
                      <a:pt x="0" y="3982"/>
                    </a:lnTo>
                    <a:lnTo>
                      <a:pt x="16" y="3980"/>
                    </a:lnTo>
                    <a:lnTo>
                      <a:pt x="99" y="3980"/>
                    </a:lnTo>
                    <a:lnTo>
                      <a:pt x="120" y="3915"/>
                    </a:lnTo>
                    <a:lnTo>
                      <a:pt x="140" y="3851"/>
                    </a:lnTo>
                    <a:lnTo>
                      <a:pt x="158" y="3785"/>
                    </a:lnTo>
                    <a:lnTo>
                      <a:pt x="176" y="3720"/>
                    </a:lnTo>
                    <a:lnTo>
                      <a:pt x="195" y="3655"/>
                    </a:lnTo>
                    <a:lnTo>
                      <a:pt x="212" y="3589"/>
                    </a:lnTo>
                    <a:lnTo>
                      <a:pt x="228" y="3522"/>
                    </a:lnTo>
                    <a:lnTo>
                      <a:pt x="244" y="3456"/>
                    </a:lnTo>
                    <a:lnTo>
                      <a:pt x="261" y="3389"/>
                    </a:lnTo>
                    <a:lnTo>
                      <a:pt x="276" y="3323"/>
                    </a:lnTo>
                    <a:lnTo>
                      <a:pt x="289" y="3256"/>
                    </a:lnTo>
                    <a:lnTo>
                      <a:pt x="303" y="3189"/>
                    </a:lnTo>
                    <a:lnTo>
                      <a:pt x="316" y="3122"/>
                    </a:lnTo>
                    <a:lnTo>
                      <a:pt x="329" y="3054"/>
                    </a:lnTo>
                    <a:lnTo>
                      <a:pt x="340" y="2986"/>
                    </a:lnTo>
                    <a:lnTo>
                      <a:pt x="352" y="2918"/>
                    </a:lnTo>
                    <a:lnTo>
                      <a:pt x="362" y="2850"/>
                    </a:lnTo>
                    <a:lnTo>
                      <a:pt x="371" y="2781"/>
                    </a:lnTo>
                    <a:lnTo>
                      <a:pt x="381" y="2713"/>
                    </a:lnTo>
                    <a:lnTo>
                      <a:pt x="389" y="2644"/>
                    </a:lnTo>
                    <a:lnTo>
                      <a:pt x="397" y="2574"/>
                    </a:lnTo>
                    <a:lnTo>
                      <a:pt x="404" y="2505"/>
                    </a:lnTo>
                    <a:lnTo>
                      <a:pt x="411" y="2436"/>
                    </a:lnTo>
                    <a:lnTo>
                      <a:pt x="416" y="2366"/>
                    </a:lnTo>
                    <a:lnTo>
                      <a:pt x="421" y="2297"/>
                    </a:lnTo>
                    <a:lnTo>
                      <a:pt x="426" y="2226"/>
                    </a:lnTo>
                    <a:lnTo>
                      <a:pt x="430" y="2156"/>
                    </a:lnTo>
                    <a:lnTo>
                      <a:pt x="432" y="2086"/>
                    </a:lnTo>
                    <a:lnTo>
                      <a:pt x="436" y="2015"/>
                    </a:lnTo>
                    <a:lnTo>
                      <a:pt x="437" y="1944"/>
                    </a:lnTo>
                    <a:lnTo>
                      <a:pt x="438" y="1872"/>
                    </a:lnTo>
                    <a:lnTo>
                      <a:pt x="438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00640" y="3795840"/>
                <a:ext cx="117360" cy="1055520"/>
              </a:xfrm>
              <a:custGeom>
                <a:avLst/>
                <a:gdLst/>
                <a:ahLst/>
                <a:rect l="l" t="t" r="r" b="b"/>
                <a:pathLst>
                  <a:path w="444" h="3991">
                    <a:moveTo>
                      <a:pt x="444" y="1802"/>
                    </a:moveTo>
                    <a:lnTo>
                      <a:pt x="443" y="1686"/>
                    </a:lnTo>
                    <a:lnTo>
                      <a:pt x="441" y="1569"/>
                    </a:lnTo>
                    <a:lnTo>
                      <a:pt x="435" y="1454"/>
                    </a:lnTo>
                    <a:lnTo>
                      <a:pt x="429" y="1339"/>
                    </a:lnTo>
                    <a:lnTo>
                      <a:pt x="421" y="1225"/>
                    </a:lnTo>
                    <a:lnTo>
                      <a:pt x="411" y="1110"/>
                    </a:lnTo>
                    <a:lnTo>
                      <a:pt x="398" y="996"/>
                    </a:lnTo>
                    <a:lnTo>
                      <a:pt x="384" y="883"/>
                    </a:lnTo>
                    <a:lnTo>
                      <a:pt x="369" y="772"/>
                    </a:lnTo>
                    <a:lnTo>
                      <a:pt x="352" y="659"/>
                    </a:lnTo>
                    <a:lnTo>
                      <a:pt x="332" y="548"/>
                    </a:lnTo>
                    <a:lnTo>
                      <a:pt x="313" y="437"/>
                    </a:lnTo>
                    <a:lnTo>
                      <a:pt x="290" y="327"/>
                    </a:lnTo>
                    <a:lnTo>
                      <a:pt x="265" y="217"/>
                    </a:lnTo>
                    <a:lnTo>
                      <a:pt x="240" y="109"/>
                    </a:lnTo>
                    <a:lnTo>
                      <a:pt x="212" y="0"/>
                    </a:lnTo>
                    <a:lnTo>
                      <a:pt x="182" y="0"/>
                    </a:lnTo>
                    <a:lnTo>
                      <a:pt x="115" y="0"/>
                    </a:lnTo>
                    <a:lnTo>
                      <a:pt x="143" y="109"/>
                    </a:lnTo>
                    <a:lnTo>
                      <a:pt x="170" y="217"/>
                    </a:lnTo>
                    <a:lnTo>
                      <a:pt x="194" y="327"/>
                    </a:lnTo>
                    <a:lnTo>
                      <a:pt x="217" y="437"/>
                    </a:lnTo>
                    <a:lnTo>
                      <a:pt x="238" y="548"/>
                    </a:lnTo>
                    <a:lnTo>
                      <a:pt x="257" y="659"/>
                    </a:lnTo>
                    <a:lnTo>
                      <a:pt x="275" y="770"/>
                    </a:lnTo>
                    <a:lnTo>
                      <a:pt x="291" y="883"/>
                    </a:lnTo>
                    <a:lnTo>
                      <a:pt x="305" y="996"/>
                    </a:lnTo>
                    <a:lnTo>
                      <a:pt x="316" y="1109"/>
                    </a:lnTo>
                    <a:lnTo>
                      <a:pt x="326" y="1223"/>
                    </a:lnTo>
                    <a:lnTo>
                      <a:pt x="336" y="1339"/>
                    </a:lnTo>
                    <a:lnTo>
                      <a:pt x="341" y="1454"/>
                    </a:lnTo>
                    <a:lnTo>
                      <a:pt x="347" y="1569"/>
                    </a:lnTo>
                    <a:lnTo>
                      <a:pt x="350" y="1686"/>
                    </a:lnTo>
                    <a:lnTo>
                      <a:pt x="351" y="1802"/>
                    </a:lnTo>
                    <a:lnTo>
                      <a:pt x="351" y="1874"/>
                    </a:lnTo>
                    <a:lnTo>
                      <a:pt x="350" y="1945"/>
                    </a:lnTo>
                    <a:lnTo>
                      <a:pt x="347" y="2017"/>
                    </a:lnTo>
                    <a:lnTo>
                      <a:pt x="345" y="2087"/>
                    </a:lnTo>
                    <a:lnTo>
                      <a:pt x="341" y="2158"/>
                    </a:lnTo>
                    <a:lnTo>
                      <a:pt x="338" y="2229"/>
                    </a:lnTo>
                    <a:lnTo>
                      <a:pt x="333" y="2299"/>
                    </a:lnTo>
                    <a:lnTo>
                      <a:pt x="328" y="2369"/>
                    </a:lnTo>
                    <a:lnTo>
                      <a:pt x="322" y="2440"/>
                    </a:lnTo>
                    <a:lnTo>
                      <a:pt x="315" y="2510"/>
                    </a:lnTo>
                    <a:lnTo>
                      <a:pt x="308" y="2579"/>
                    </a:lnTo>
                    <a:lnTo>
                      <a:pt x="300" y="2649"/>
                    </a:lnTo>
                    <a:lnTo>
                      <a:pt x="291" y="2719"/>
                    </a:lnTo>
                    <a:lnTo>
                      <a:pt x="281" y="2788"/>
                    </a:lnTo>
                    <a:lnTo>
                      <a:pt x="271" y="2857"/>
                    </a:lnTo>
                    <a:lnTo>
                      <a:pt x="261" y="2925"/>
                    </a:lnTo>
                    <a:lnTo>
                      <a:pt x="249" y="2993"/>
                    </a:lnTo>
                    <a:lnTo>
                      <a:pt x="236" y="3062"/>
                    </a:lnTo>
                    <a:lnTo>
                      <a:pt x="224" y="3130"/>
                    </a:lnTo>
                    <a:lnTo>
                      <a:pt x="211" y="3197"/>
                    </a:lnTo>
                    <a:lnTo>
                      <a:pt x="197" y="3265"/>
                    </a:lnTo>
                    <a:lnTo>
                      <a:pt x="182" y="3332"/>
                    </a:lnTo>
                    <a:lnTo>
                      <a:pt x="167" y="3399"/>
                    </a:lnTo>
                    <a:lnTo>
                      <a:pt x="151" y="3466"/>
                    </a:lnTo>
                    <a:lnTo>
                      <a:pt x="134" y="3532"/>
                    </a:lnTo>
                    <a:lnTo>
                      <a:pt x="117" y="3599"/>
                    </a:lnTo>
                    <a:lnTo>
                      <a:pt x="99" y="3665"/>
                    </a:lnTo>
                    <a:lnTo>
                      <a:pt x="81" y="3731"/>
                    </a:lnTo>
                    <a:lnTo>
                      <a:pt x="61" y="3796"/>
                    </a:lnTo>
                    <a:lnTo>
                      <a:pt x="42" y="3861"/>
                    </a:lnTo>
                    <a:lnTo>
                      <a:pt x="21" y="3927"/>
                    </a:lnTo>
                    <a:lnTo>
                      <a:pt x="0" y="3991"/>
                    </a:lnTo>
                    <a:lnTo>
                      <a:pt x="68" y="3980"/>
                    </a:lnTo>
                    <a:lnTo>
                      <a:pt x="103" y="3980"/>
                    </a:lnTo>
                    <a:lnTo>
                      <a:pt x="122" y="3915"/>
                    </a:lnTo>
                    <a:lnTo>
                      <a:pt x="142" y="3851"/>
                    </a:lnTo>
                    <a:lnTo>
                      <a:pt x="162" y="3785"/>
                    </a:lnTo>
                    <a:lnTo>
                      <a:pt x="180" y="3720"/>
                    </a:lnTo>
                    <a:lnTo>
                      <a:pt x="198" y="3655"/>
                    </a:lnTo>
                    <a:lnTo>
                      <a:pt x="216" y="3589"/>
                    </a:lnTo>
                    <a:lnTo>
                      <a:pt x="233" y="3523"/>
                    </a:lnTo>
                    <a:lnTo>
                      <a:pt x="249" y="3456"/>
                    </a:lnTo>
                    <a:lnTo>
                      <a:pt x="264" y="3391"/>
                    </a:lnTo>
                    <a:lnTo>
                      <a:pt x="279" y="3324"/>
                    </a:lnTo>
                    <a:lnTo>
                      <a:pt x="294" y="3257"/>
                    </a:lnTo>
                    <a:lnTo>
                      <a:pt x="308" y="3189"/>
                    </a:lnTo>
                    <a:lnTo>
                      <a:pt x="321" y="3122"/>
                    </a:lnTo>
                    <a:lnTo>
                      <a:pt x="333" y="3054"/>
                    </a:lnTo>
                    <a:lnTo>
                      <a:pt x="345" y="2986"/>
                    </a:lnTo>
                    <a:lnTo>
                      <a:pt x="356" y="2918"/>
                    </a:lnTo>
                    <a:lnTo>
                      <a:pt x="367" y="2850"/>
                    </a:lnTo>
                    <a:lnTo>
                      <a:pt x="376" y="2782"/>
                    </a:lnTo>
                    <a:lnTo>
                      <a:pt x="385" y="2713"/>
                    </a:lnTo>
                    <a:lnTo>
                      <a:pt x="395" y="2644"/>
                    </a:lnTo>
                    <a:lnTo>
                      <a:pt x="401" y="2574"/>
                    </a:lnTo>
                    <a:lnTo>
                      <a:pt x="409" y="2505"/>
                    </a:lnTo>
                    <a:lnTo>
                      <a:pt x="415" y="2436"/>
                    </a:lnTo>
                    <a:lnTo>
                      <a:pt x="422" y="2366"/>
                    </a:lnTo>
                    <a:lnTo>
                      <a:pt x="427" y="2297"/>
                    </a:lnTo>
                    <a:lnTo>
                      <a:pt x="431" y="2226"/>
                    </a:lnTo>
                    <a:lnTo>
                      <a:pt x="435" y="2156"/>
                    </a:lnTo>
                    <a:lnTo>
                      <a:pt x="438" y="2086"/>
                    </a:lnTo>
                    <a:lnTo>
                      <a:pt x="441" y="2015"/>
                    </a:lnTo>
                    <a:lnTo>
                      <a:pt x="443" y="1944"/>
                    </a:lnTo>
                    <a:lnTo>
                      <a:pt x="443" y="1874"/>
                    </a:lnTo>
                    <a:lnTo>
                      <a:pt x="444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86240" y="3795840"/>
                <a:ext cx="119160" cy="1058760"/>
              </a:xfrm>
              <a:custGeom>
                <a:avLst/>
                <a:gdLst/>
                <a:ahLst/>
                <a:rect l="l" t="t" r="r" b="b"/>
                <a:pathLst>
                  <a:path w="449" h="4000">
                    <a:moveTo>
                      <a:pt x="449" y="1802"/>
                    </a:moveTo>
                    <a:lnTo>
                      <a:pt x="449" y="1686"/>
                    </a:lnTo>
                    <a:lnTo>
                      <a:pt x="445" y="1569"/>
                    </a:lnTo>
                    <a:lnTo>
                      <a:pt x="441" y="1454"/>
                    </a:lnTo>
                    <a:lnTo>
                      <a:pt x="434" y="1339"/>
                    </a:lnTo>
                    <a:lnTo>
                      <a:pt x="426" y="1223"/>
                    </a:lnTo>
                    <a:lnTo>
                      <a:pt x="415" y="1109"/>
                    </a:lnTo>
                    <a:lnTo>
                      <a:pt x="404" y="996"/>
                    </a:lnTo>
                    <a:lnTo>
                      <a:pt x="390" y="883"/>
                    </a:lnTo>
                    <a:lnTo>
                      <a:pt x="374" y="770"/>
                    </a:lnTo>
                    <a:lnTo>
                      <a:pt x="357" y="659"/>
                    </a:lnTo>
                    <a:lnTo>
                      <a:pt x="337" y="548"/>
                    </a:lnTo>
                    <a:lnTo>
                      <a:pt x="316" y="437"/>
                    </a:lnTo>
                    <a:lnTo>
                      <a:pt x="294" y="327"/>
                    </a:lnTo>
                    <a:lnTo>
                      <a:pt x="270" y="217"/>
                    </a:lnTo>
                    <a:lnTo>
                      <a:pt x="244" y="109"/>
                    </a:lnTo>
                    <a:lnTo>
                      <a:pt x="216" y="0"/>
                    </a:lnTo>
                    <a:lnTo>
                      <a:pt x="157" y="0"/>
                    </a:lnTo>
                    <a:lnTo>
                      <a:pt x="124" y="17"/>
                    </a:lnTo>
                    <a:lnTo>
                      <a:pt x="151" y="124"/>
                    </a:lnTo>
                    <a:lnTo>
                      <a:pt x="177" y="231"/>
                    </a:lnTo>
                    <a:lnTo>
                      <a:pt x="201" y="339"/>
                    </a:lnTo>
                    <a:lnTo>
                      <a:pt x="224" y="449"/>
                    </a:lnTo>
                    <a:lnTo>
                      <a:pt x="245" y="558"/>
                    </a:lnTo>
                    <a:lnTo>
                      <a:pt x="263" y="669"/>
                    </a:lnTo>
                    <a:lnTo>
                      <a:pt x="280" y="780"/>
                    </a:lnTo>
                    <a:lnTo>
                      <a:pt x="297" y="891"/>
                    </a:lnTo>
                    <a:lnTo>
                      <a:pt x="310" y="1003"/>
                    </a:lnTo>
                    <a:lnTo>
                      <a:pt x="322" y="1116"/>
                    </a:lnTo>
                    <a:lnTo>
                      <a:pt x="332" y="1229"/>
                    </a:lnTo>
                    <a:lnTo>
                      <a:pt x="342" y="1342"/>
                    </a:lnTo>
                    <a:lnTo>
                      <a:pt x="347" y="1456"/>
                    </a:lnTo>
                    <a:lnTo>
                      <a:pt x="352" y="1572"/>
                    </a:lnTo>
                    <a:lnTo>
                      <a:pt x="355" y="1687"/>
                    </a:lnTo>
                    <a:lnTo>
                      <a:pt x="357" y="1802"/>
                    </a:lnTo>
                    <a:lnTo>
                      <a:pt x="355" y="1874"/>
                    </a:lnTo>
                    <a:lnTo>
                      <a:pt x="354" y="1945"/>
                    </a:lnTo>
                    <a:lnTo>
                      <a:pt x="353" y="2018"/>
                    </a:lnTo>
                    <a:lnTo>
                      <a:pt x="351" y="2089"/>
                    </a:lnTo>
                    <a:lnTo>
                      <a:pt x="347" y="2159"/>
                    </a:lnTo>
                    <a:lnTo>
                      <a:pt x="343" y="2231"/>
                    </a:lnTo>
                    <a:lnTo>
                      <a:pt x="338" y="2301"/>
                    </a:lnTo>
                    <a:lnTo>
                      <a:pt x="333" y="2373"/>
                    </a:lnTo>
                    <a:lnTo>
                      <a:pt x="327" y="2443"/>
                    </a:lnTo>
                    <a:lnTo>
                      <a:pt x="320" y="2513"/>
                    </a:lnTo>
                    <a:lnTo>
                      <a:pt x="313" y="2584"/>
                    </a:lnTo>
                    <a:lnTo>
                      <a:pt x="305" y="2653"/>
                    </a:lnTo>
                    <a:lnTo>
                      <a:pt x="295" y="2722"/>
                    </a:lnTo>
                    <a:lnTo>
                      <a:pt x="286" y="2792"/>
                    </a:lnTo>
                    <a:lnTo>
                      <a:pt x="276" y="2861"/>
                    </a:lnTo>
                    <a:lnTo>
                      <a:pt x="264" y="2930"/>
                    </a:lnTo>
                    <a:lnTo>
                      <a:pt x="253" y="2999"/>
                    </a:lnTo>
                    <a:lnTo>
                      <a:pt x="241" y="3067"/>
                    </a:lnTo>
                    <a:lnTo>
                      <a:pt x="227" y="3136"/>
                    </a:lnTo>
                    <a:lnTo>
                      <a:pt x="215" y="3204"/>
                    </a:lnTo>
                    <a:lnTo>
                      <a:pt x="200" y="3272"/>
                    </a:lnTo>
                    <a:lnTo>
                      <a:pt x="185" y="3339"/>
                    </a:lnTo>
                    <a:lnTo>
                      <a:pt x="170" y="3407"/>
                    </a:lnTo>
                    <a:lnTo>
                      <a:pt x="154" y="3474"/>
                    </a:lnTo>
                    <a:lnTo>
                      <a:pt x="136" y="3540"/>
                    </a:lnTo>
                    <a:lnTo>
                      <a:pt x="119" y="3606"/>
                    </a:lnTo>
                    <a:lnTo>
                      <a:pt x="100" y="3673"/>
                    </a:lnTo>
                    <a:lnTo>
                      <a:pt x="82" y="3739"/>
                    </a:lnTo>
                    <a:lnTo>
                      <a:pt x="62" y="3804"/>
                    </a:lnTo>
                    <a:lnTo>
                      <a:pt x="43" y="3870"/>
                    </a:lnTo>
                    <a:lnTo>
                      <a:pt x="22" y="3935"/>
                    </a:lnTo>
                    <a:lnTo>
                      <a:pt x="0" y="4000"/>
                    </a:lnTo>
                    <a:lnTo>
                      <a:pt x="104" y="3982"/>
                    </a:lnTo>
                    <a:lnTo>
                      <a:pt x="125" y="3917"/>
                    </a:lnTo>
                    <a:lnTo>
                      <a:pt x="145" y="3853"/>
                    </a:lnTo>
                    <a:lnTo>
                      <a:pt x="164" y="3788"/>
                    </a:lnTo>
                    <a:lnTo>
                      <a:pt x="184" y="3723"/>
                    </a:lnTo>
                    <a:lnTo>
                      <a:pt x="202" y="3657"/>
                    </a:lnTo>
                    <a:lnTo>
                      <a:pt x="219" y="3591"/>
                    </a:lnTo>
                    <a:lnTo>
                      <a:pt x="237" y="3525"/>
                    </a:lnTo>
                    <a:lnTo>
                      <a:pt x="253" y="3459"/>
                    </a:lnTo>
                    <a:lnTo>
                      <a:pt x="268" y="3392"/>
                    </a:lnTo>
                    <a:lnTo>
                      <a:pt x="284" y="3326"/>
                    </a:lnTo>
                    <a:lnTo>
                      <a:pt x="298" y="3258"/>
                    </a:lnTo>
                    <a:lnTo>
                      <a:pt x="312" y="3191"/>
                    </a:lnTo>
                    <a:lnTo>
                      <a:pt x="325" y="3123"/>
                    </a:lnTo>
                    <a:lnTo>
                      <a:pt x="337" y="3056"/>
                    </a:lnTo>
                    <a:lnTo>
                      <a:pt x="350" y="2988"/>
                    </a:lnTo>
                    <a:lnTo>
                      <a:pt x="361" y="2920"/>
                    </a:lnTo>
                    <a:lnTo>
                      <a:pt x="372" y="2851"/>
                    </a:lnTo>
                    <a:lnTo>
                      <a:pt x="381" y="2783"/>
                    </a:lnTo>
                    <a:lnTo>
                      <a:pt x="390" y="2714"/>
                    </a:lnTo>
                    <a:lnTo>
                      <a:pt x="399" y="2645"/>
                    </a:lnTo>
                    <a:lnTo>
                      <a:pt x="407" y="2576"/>
                    </a:lnTo>
                    <a:lnTo>
                      <a:pt x="414" y="2506"/>
                    </a:lnTo>
                    <a:lnTo>
                      <a:pt x="421" y="2437"/>
                    </a:lnTo>
                    <a:lnTo>
                      <a:pt x="427" y="2367"/>
                    </a:lnTo>
                    <a:lnTo>
                      <a:pt x="432" y="2297"/>
                    </a:lnTo>
                    <a:lnTo>
                      <a:pt x="436" y="2226"/>
                    </a:lnTo>
                    <a:lnTo>
                      <a:pt x="441" y="2156"/>
                    </a:lnTo>
                    <a:lnTo>
                      <a:pt x="443" y="2086"/>
                    </a:lnTo>
                    <a:lnTo>
                      <a:pt x="447" y="2015"/>
                    </a:lnTo>
                    <a:lnTo>
                      <a:pt x="448" y="1944"/>
                    </a:lnTo>
                    <a:lnTo>
                      <a:pt x="449" y="1874"/>
                    </a:lnTo>
                    <a:lnTo>
                      <a:pt x="449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72200" y="3795840"/>
                <a:ext cx="120600" cy="1060200"/>
              </a:xfrm>
              <a:custGeom>
                <a:avLst/>
                <a:gdLst/>
                <a:ahLst/>
                <a:rect l="l" t="t" r="r" b="b"/>
                <a:pathLst>
                  <a:path w="455" h="4008">
                    <a:moveTo>
                      <a:pt x="455" y="1802"/>
                    </a:moveTo>
                    <a:lnTo>
                      <a:pt x="454" y="1686"/>
                    </a:lnTo>
                    <a:lnTo>
                      <a:pt x="451" y="1569"/>
                    </a:lnTo>
                    <a:lnTo>
                      <a:pt x="447" y="1454"/>
                    </a:lnTo>
                    <a:lnTo>
                      <a:pt x="440" y="1339"/>
                    </a:lnTo>
                    <a:lnTo>
                      <a:pt x="430" y="1223"/>
                    </a:lnTo>
                    <a:lnTo>
                      <a:pt x="420" y="1109"/>
                    </a:lnTo>
                    <a:lnTo>
                      <a:pt x="409" y="996"/>
                    </a:lnTo>
                    <a:lnTo>
                      <a:pt x="395" y="883"/>
                    </a:lnTo>
                    <a:lnTo>
                      <a:pt x="379" y="770"/>
                    </a:lnTo>
                    <a:lnTo>
                      <a:pt x="361" y="659"/>
                    </a:lnTo>
                    <a:lnTo>
                      <a:pt x="342" y="548"/>
                    </a:lnTo>
                    <a:lnTo>
                      <a:pt x="321" y="437"/>
                    </a:lnTo>
                    <a:lnTo>
                      <a:pt x="298" y="327"/>
                    </a:lnTo>
                    <a:lnTo>
                      <a:pt x="274" y="217"/>
                    </a:lnTo>
                    <a:lnTo>
                      <a:pt x="247" y="109"/>
                    </a:lnTo>
                    <a:lnTo>
                      <a:pt x="219" y="0"/>
                    </a:lnTo>
                    <a:lnTo>
                      <a:pt x="209" y="0"/>
                    </a:lnTo>
                    <a:lnTo>
                      <a:pt x="133" y="36"/>
                    </a:lnTo>
                    <a:lnTo>
                      <a:pt x="159" y="142"/>
                    </a:lnTo>
                    <a:lnTo>
                      <a:pt x="186" y="249"/>
                    </a:lnTo>
                    <a:lnTo>
                      <a:pt x="209" y="357"/>
                    </a:lnTo>
                    <a:lnTo>
                      <a:pt x="231" y="464"/>
                    </a:lnTo>
                    <a:lnTo>
                      <a:pt x="252" y="573"/>
                    </a:lnTo>
                    <a:lnTo>
                      <a:pt x="270" y="682"/>
                    </a:lnTo>
                    <a:lnTo>
                      <a:pt x="287" y="791"/>
                    </a:lnTo>
                    <a:lnTo>
                      <a:pt x="304" y="902"/>
                    </a:lnTo>
                    <a:lnTo>
                      <a:pt x="316" y="1012"/>
                    </a:lnTo>
                    <a:lnTo>
                      <a:pt x="328" y="1124"/>
                    </a:lnTo>
                    <a:lnTo>
                      <a:pt x="338" y="1236"/>
                    </a:lnTo>
                    <a:lnTo>
                      <a:pt x="346" y="1348"/>
                    </a:lnTo>
                    <a:lnTo>
                      <a:pt x="353" y="1461"/>
                    </a:lnTo>
                    <a:lnTo>
                      <a:pt x="358" y="1574"/>
                    </a:lnTo>
                    <a:lnTo>
                      <a:pt x="360" y="1688"/>
                    </a:lnTo>
                    <a:lnTo>
                      <a:pt x="361" y="1802"/>
                    </a:lnTo>
                    <a:lnTo>
                      <a:pt x="361" y="1875"/>
                    </a:lnTo>
                    <a:lnTo>
                      <a:pt x="360" y="1946"/>
                    </a:lnTo>
                    <a:lnTo>
                      <a:pt x="358" y="2018"/>
                    </a:lnTo>
                    <a:lnTo>
                      <a:pt x="355" y="2090"/>
                    </a:lnTo>
                    <a:lnTo>
                      <a:pt x="352" y="2162"/>
                    </a:lnTo>
                    <a:lnTo>
                      <a:pt x="349" y="2233"/>
                    </a:lnTo>
                    <a:lnTo>
                      <a:pt x="343" y="2304"/>
                    </a:lnTo>
                    <a:lnTo>
                      <a:pt x="338" y="2375"/>
                    </a:lnTo>
                    <a:lnTo>
                      <a:pt x="331" y="2445"/>
                    </a:lnTo>
                    <a:lnTo>
                      <a:pt x="324" y="2517"/>
                    </a:lnTo>
                    <a:lnTo>
                      <a:pt x="317" y="2587"/>
                    </a:lnTo>
                    <a:lnTo>
                      <a:pt x="309" y="2656"/>
                    </a:lnTo>
                    <a:lnTo>
                      <a:pt x="300" y="2727"/>
                    </a:lnTo>
                    <a:lnTo>
                      <a:pt x="290" y="2797"/>
                    </a:lnTo>
                    <a:lnTo>
                      <a:pt x="279" y="2866"/>
                    </a:lnTo>
                    <a:lnTo>
                      <a:pt x="269" y="2935"/>
                    </a:lnTo>
                    <a:lnTo>
                      <a:pt x="256" y="3004"/>
                    </a:lnTo>
                    <a:lnTo>
                      <a:pt x="245" y="3072"/>
                    </a:lnTo>
                    <a:lnTo>
                      <a:pt x="231" y="3142"/>
                    </a:lnTo>
                    <a:lnTo>
                      <a:pt x="217" y="3210"/>
                    </a:lnTo>
                    <a:lnTo>
                      <a:pt x="203" y="3278"/>
                    </a:lnTo>
                    <a:lnTo>
                      <a:pt x="188" y="3346"/>
                    </a:lnTo>
                    <a:lnTo>
                      <a:pt x="172" y="3414"/>
                    </a:lnTo>
                    <a:lnTo>
                      <a:pt x="156" y="3481"/>
                    </a:lnTo>
                    <a:lnTo>
                      <a:pt x="139" y="3547"/>
                    </a:lnTo>
                    <a:lnTo>
                      <a:pt x="120" y="3614"/>
                    </a:lnTo>
                    <a:lnTo>
                      <a:pt x="102" y="3681"/>
                    </a:lnTo>
                    <a:lnTo>
                      <a:pt x="83" y="3747"/>
                    </a:lnTo>
                    <a:lnTo>
                      <a:pt x="64" y="3813"/>
                    </a:lnTo>
                    <a:lnTo>
                      <a:pt x="43" y="3878"/>
                    </a:lnTo>
                    <a:lnTo>
                      <a:pt x="22" y="3944"/>
                    </a:lnTo>
                    <a:lnTo>
                      <a:pt x="0" y="4008"/>
                    </a:lnTo>
                    <a:lnTo>
                      <a:pt x="104" y="3991"/>
                    </a:lnTo>
                    <a:lnTo>
                      <a:pt x="125" y="3927"/>
                    </a:lnTo>
                    <a:lnTo>
                      <a:pt x="146" y="3861"/>
                    </a:lnTo>
                    <a:lnTo>
                      <a:pt x="165" y="3796"/>
                    </a:lnTo>
                    <a:lnTo>
                      <a:pt x="185" y="3731"/>
                    </a:lnTo>
                    <a:lnTo>
                      <a:pt x="203" y="3665"/>
                    </a:lnTo>
                    <a:lnTo>
                      <a:pt x="221" y="3599"/>
                    </a:lnTo>
                    <a:lnTo>
                      <a:pt x="238" y="3532"/>
                    </a:lnTo>
                    <a:lnTo>
                      <a:pt x="255" y="3466"/>
                    </a:lnTo>
                    <a:lnTo>
                      <a:pt x="271" y="3399"/>
                    </a:lnTo>
                    <a:lnTo>
                      <a:pt x="286" y="3332"/>
                    </a:lnTo>
                    <a:lnTo>
                      <a:pt x="301" y="3265"/>
                    </a:lnTo>
                    <a:lnTo>
                      <a:pt x="315" y="3197"/>
                    </a:lnTo>
                    <a:lnTo>
                      <a:pt x="328" y="3130"/>
                    </a:lnTo>
                    <a:lnTo>
                      <a:pt x="342" y="3062"/>
                    </a:lnTo>
                    <a:lnTo>
                      <a:pt x="353" y="2993"/>
                    </a:lnTo>
                    <a:lnTo>
                      <a:pt x="365" y="2925"/>
                    </a:lnTo>
                    <a:lnTo>
                      <a:pt x="375" y="2857"/>
                    </a:lnTo>
                    <a:lnTo>
                      <a:pt x="385" y="2788"/>
                    </a:lnTo>
                    <a:lnTo>
                      <a:pt x="395" y="2719"/>
                    </a:lnTo>
                    <a:lnTo>
                      <a:pt x="404" y="2649"/>
                    </a:lnTo>
                    <a:lnTo>
                      <a:pt x="412" y="2579"/>
                    </a:lnTo>
                    <a:lnTo>
                      <a:pt x="419" y="2510"/>
                    </a:lnTo>
                    <a:lnTo>
                      <a:pt x="426" y="2440"/>
                    </a:lnTo>
                    <a:lnTo>
                      <a:pt x="432" y="2369"/>
                    </a:lnTo>
                    <a:lnTo>
                      <a:pt x="437" y="2299"/>
                    </a:lnTo>
                    <a:lnTo>
                      <a:pt x="442" y="2229"/>
                    </a:lnTo>
                    <a:lnTo>
                      <a:pt x="445" y="2158"/>
                    </a:lnTo>
                    <a:lnTo>
                      <a:pt x="449" y="2087"/>
                    </a:lnTo>
                    <a:lnTo>
                      <a:pt x="451" y="2017"/>
                    </a:lnTo>
                    <a:lnTo>
                      <a:pt x="454" y="1945"/>
                    </a:lnTo>
                    <a:lnTo>
                      <a:pt x="455" y="1874"/>
                    </a:lnTo>
                    <a:lnTo>
                      <a:pt x="455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59240" y="3800520"/>
                <a:ext cx="120960" cy="1057320"/>
              </a:xfrm>
              <a:custGeom>
                <a:avLst/>
                <a:gdLst/>
                <a:ahLst/>
                <a:rect l="l" t="t" r="r" b="b"/>
                <a:pathLst>
                  <a:path w="461" h="4001">
                    <a:moveTo>
                      <a:pt x="461" y="1785"/>
                    </a:moveTo>
                    <a:lnTo>
                      <a:pt x="459" y="1670"/>
                    </a:lnTo>
                    <a:lnTo>
                      <a:pt x="456" y="1555"/>
                    </a:lnTo>
                    <a:lnTo>
                      <a:pt x="451" y="1439"/>
                    </a:lnTo>
                    <a:lnTo>
                      <a:pt x="446" y="1325"/>
                    </a:lnTo>
                    <a:lnTo>
                      <a:pt x="436" y="1212"/>
                    </a:lnTo>
                    <a:lnTo>
                      <a:pt x="426" y="1099"/>
                    </a:lnTo>
                    <a:lnTo>
                      <a:pt x="414" y="986"/>
                    </a:lnTo>
                    <a:lnTo>
                      <a:pt x="401" y="874"/>
                    </a:lnTo>
                    <a:lnTo>
                      <a:pt x="384" y="763"/>
                    </a:lnTo>
                    <a:lnTo>
                      <a:pt x="367" y="652"/>
                    </a:lnTo>
                    <a:lnTo>
                      <a:pt x="349" y="541"/>
                    </a:lnTo>
                    <a:lnTo>
                      <a:pt x="328" y="432"/>
                    </a:lnTo>
                    <a:lnTo>
                      <a:pt x="305" y="322"/>
                    </a:lnTo>
                    <a:lnTo>
                      <a:pt x="281" y="214"/>
                    </a:lnTo>
                    <a:lnTo>
                      <a:pt x="255" y="107"/>
                    </a:lnTo>
                    <a:lnTo>
                      <a:pt x="228" y="0"/>
                    </a:lnTo>
                    <a:lnTo>
                      <a:pt x="184" y="20"/>
                    </a:lnTo>
                    <a:lnTo>
                      <a:pt x="136" y="20"/>
                    </a:lnTo>
                    <a:lnTo>
                      <a:pt x="164" y="126"/>
                    </a:lnTo>
                    <a:lnTo>
                      <a:pt x="189" y="232"/>
                    </a:lnTo>
                    <a:lnTo>
                      <a:pt x="214" y="340"/>
                    </a:lnTo>
                    <a:lnTo>
                      <a:pt x="236" y="448"/>
                    </a:lnTo>
                    <a:lnTo>
                      <a:pt x="256" y="556"/>
                    </a:lnTo>
                    <a:lnTo>
                      <a:pt x="275" y="666"/>
                    </a:lnTo>
                    <a:lnTo>
                      <a:pt x="292" y="775"/>
                    </a:lnTo>
                    <a:lnTo>
                      <a:pt x="308" y="885"/>
                    </a:lnTo>
                    <a:lnTo>
                      <a:pt x="322" y="995"/>
                    </a:lnTo>
                    <a:lnTo>
                      <a:pt x="334" y="1107"/>
                    </a:lnTo>
                    <a:lnTo>
                      <a:pt x="344" y="1219"/>
                    </a:lnTo>
                    <a:lnTo>
                      <a:pt x="352" y="1331"/>
                    </a:lnTo>
                    <a:lnTo>
                      <a:pt x="358" y="1444"/>
                    </a:lnTo>
                    <a:lnTo>
                      <a:pt x="362" y="1557"/>
                    </a:lnTo>
                    <a:lnTo>
                      <a:pt x="366" y="1671"/>
                    </a:lnTo>
                    <a:lnTo>
                      <a:pt x="367" y="1785"/>
                    </a:lnTo>
                    <a:lnTo>
                      <a:pt x="366" y="1858"/>
                    </a:lnTo>
                    <a:lnTo>
                      <a:pt x="365" y="1930"/>
                    </a:lnTo>
                    <a:lnTo>
                      <a:pt x="364" y="2002"/>
                    </a:lnTo>
                    <a:lnTo>
                      <a:pt x="361" y="2074"/>
                    </a:lnTo>
                    <a:lnTo>
                      <a:pt x="357" y="2146"/>
                    </a:lnTo>
                    <a:lnTo>
                      <a:pt x="353" y="2217"/>
                    </a:lnTo>
                    <a:lnTo>
                      <a:pt x="349" y="2289"/>
                    </a:lnTo>
                    <a:lnTo>
                      <a:pt x="343" y="2360"/>
                    </a:lnTo>
                    <a:lnTo>
                      <a:pt x="336" y="2432"/>
                    </a:lnTo>
                    <a:lnTo>
                      <a:pt x="329" y="2502"/>
                    </a:lnTo>
                    <a:lnTo>
                      <a:pt x="322" y="2574"/>
                    </a:lnTo>
                    <a:lnTo>
                      <a:pt x="313" y="2644"/>
                    </a:lnTo>
                    <a:lnTo>
                      <a:pt x="304" y="2714"/>
                    </a:lnTo>
                    <a:lnTo>
                      <a:pt x="294" y="2785"/>
                    </a:lnTo>
                    <a:lnTo>
                      <a:pt x="284" y="2854"/>
                    </a:lnTo>
                    <a:lnTo>
                      <a:pt x="273" y="2923"/>
                    </a:lnTo>
                    <a:lnTo>
                      <a:pt x="261" y="2993"/>
                    </a:lnTo>
                    <a:lnTo>
                      <a:pt x="248" y="3061"/>
                    </a:lnTo>
                    <a:lnTo>
                      <a:pt x="234" y="3130"/>
                    </a:lnTo>
                    <a:lnTo>
                      <a:pt x="221" y="3200"/>
                    </a:lnTo>
                    <a:lnTo>
                      <a:pt x="206" y="3268"/>
                    </a:lnTo>
                    <a:lnTo>
                      <a:pt x="191" y="3336"/>
                    </a:lnTo>
                    <a:lnTo>
                      <a:pt x="174" y="3404"/>
                    </a:lnTo>
                    <a:lnTo>
                      <a:pt x="157" y="3470"/>
                    </a:lnTo>
                    <a:lnTo>
                      <a:pt x="140" y="3538"/>
                    </a:lnTo>
                    <a:lnTo>
                      <a:pt x="121" y="3605"/>
                    </a:lnTo>
                    <a:lnTo>
                      <a:pt x="103" y="3672"/>
                    </a:lnTo>
                    <a:lnTo>
                      <a:pt x="83" y="3738"/>
                    </a:lnTo>
                    <a:lnTo>
                      <a:pt x="64" y="3805"/>
                    </a:lnTo>
                    <a:lnTo>
                      <a:pt x="43" y="3870"/>
                    </a:lnTo>
                    <a:lnTo>
                      <a:pt x="22" y="3936"/>
                    </a:lnTo>
                    <a:lnTo>
                      <a:pt x="0" y="4001"/>
                    </a:lnTo>
                    <a:lnTo>
                      <a:pt x="104" y="3983"/>
                    </a:lnTo>
                    <a:lnTo>
                      <a:pt x="126" y="3918"/>
                    </a:lnTo>
                    <a:lnTo>
                      <a:pt x="147" y="3853"/>
                    </a:lnTo>
                    <a:lnTo>
                      <a:pt x="166" y="3787"/>
                    </a:lnTo>
                    <a:lnTo>
                      <a:pt x="186" y="3722"/>
                    </a:lnTo>
                    <a:lnTo>
                      <a:pt x="204" y="3656"/>
                    </a:lnTo>
                    <a:lnTo>
                      <a:pt x="223" y="3589"/>
                    </a:lnTo>
                    <a:lnTo>
                      <a:pt x="240" y="3523"/>
                    </a:lnTo>
                    <a:lnTo>
                      <a:pt x="258" y="3457"/>
                    </a:lnTo>
                    <a:lnTo>
                      <a:pt x="274" y="3390"/>
                    </a:lnTo>
                    <a:lnTo>
                      <a:pt x="289" y="3322"/>
                    </a:lnTo>
                    <a:lnTo>
                      <a:pt x="304" y="3255"/>
                    </a:lnTo>
                    <a:lnTo>
                      <a:pt x="319" y="3187"/>
                    </a:lnTo>
                    <a:lnTo>
                      <a:pt x="331" y="3119"/>
                    </a:lnTo>
                    <a:lnTo>
                      <a:pt x="345" y="3050"/>
                    </a:lnTo>
                    <a:lnTo>
                      <a:pt x="357" y="2982"/>
                    </a:lnTo>
                    <a:lnTo>
                      <a:pt x="368" y="2913"/>
                    </a:lnTo>
                    <a:lnTo>
                      <a:pt x="380" y="2844"/>
                    </a:lnTo>
                    <a:lnTo>
                      <a:pt x="390" y="2775"/>
                    </a:lnTo>
                    <a:lnTo>
                      <a:pt x="399" y="2705"/>
                    </a:lnTo>
                    <a:lnTo>
                      <a:pt x="409" y="2636"/>
                    </a:lnTo>
                    <a:lnTo>
                      <a:pt x="417" y="2567"/>
                    </a:lnTo>
                    <a:lnTo>
                      <a:pt x="424" y="2496"/>
                    </a:lnTo>
                    <a:lnTo>
                      <a:pt x="431" y="2426"/>
                    </a:lnTo>
                    <a:lnTo>
                      <a:pt x="437" y="2356"/>
                    </a:lnTo>
                    <a:lnTo>
                      <a:pt x="442" y="2284"/>
                    </a:lnTo>
                    <a:lnTo>
                      <a:pt x="447" y="2214"/>
                    </a:lnTo>
                    <a:lnTo>
                      <a:pt x="451" y="2142"/>
                    </a:lnTo>
                    <a:lnTo>
                      <a:pt x="455" y="2072"/>
                    </a:lnTo>
                    <a:lnTo>
                      <a:pt x="457" y="2001"/>
                    </a:lnTo>
                    <a:lnTo>
                      <a:pt x="458" y="1928"/>
                    </a:lnTo>
                    <a:lnTo>
                      <a:pt x="459" y="1857"/>
                    </a:lnTo>
                    <a:lnTo>
                      <a:pt x="461" y="17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45200" y="3805200"/>
                <a:ext cx="123840" cy="1055880"/>
              </a:xfrm>
              <a:custGeom>
                <a:avLst/>
                <a:gdLst/>
                <a:ahLst/>
                <a:rect l="l" t="t" r="r" b="b"/>
                <a:pathLst>
                  <a:path w="466" h="3991">
                    <a:moveTo>
                      <a:pt x="466" y="1766"/>
                    </a:moveTo>
                    <a:lnTo>
                      <a:pt x="465" y="1652"/>
                    </a:lnTo>
                    <a:lnTo>
                      <a:pt x="463" y="1538"/>
                    </a:lnTo>
                    <a:lnTo>
                      <a:pt x="458" y="1425"/>
                    </a:lnTo>
                    <a:lnTo>
                      <a:pt x="451" y="1312"/>
                    </a:lnTo>
                    <a:lnTo>
                      <a:pt x="443" y="1200"/>
                    </a:lnTo>
                    <a:lnTo>
                      <a:pt x="433" y="1088"/>
                    </a:lnTo>
                    <a:lnTo>
                      <a:pt x="421" y="976"/>
                    </a:lnTo>
                    <a:lnTo>
                      <a:pt x="409" y="866"/>
                    </a:lnTo>
                    <a:lnTo>
                      <a:pt x="392" y="755"/>
                    </a:lnTo>
                    <a:lnTo>
                      <a:pt x="375" y="646"/>
                    </a:lnTo>
                    <a:lnTo>
                      <a:pt x="357" y="537"/>
                    </a:lnTo>
                    <a:lnTo>
                      <a:pt x="336" y="428"/>
                    </a:lnTo>
                    <a:lnTo>
                      <a:pt x="314" y="321"/>
                    </a:lnTo>
                    <a:lnTo>
                      <a:pt x="291" y="213"/>
                    </a:lnTo>
                    <a:lnTo>
                      <a:pt x="264" y="106"/>
                    </a:lnTo>
                    <a:lnTo>
                      <a:pt x="238" y="0"/>
                    </a:lnTo>
                    <a:lnTo>
                      <a:pt x="237" y="1"/>
                    </a:lnTo>
                    <a:lnTo>
                      <a:pt x="159" y="1"/>
                    </a:lnTo>
                    <a:lnTo>
                      <a:pt x="141" y="1"/>
                    </a:lnTo>
                    <a:lnTo>
                      <a:pt x="169" y="107"/>
                    </a:lnTo>
                    <a:lnTo>
                      <a:pt x="195" y="213"/>
                    </a:lnTo>
                    <a:lnTo>
                      <a:pt x="218" y="321"/>
                    </a:lnTo>
                    <a:lnTo>
                      <a:pt x="241" y="429"/>
                    </a:lnTo>
                    <a:lnTo>
                      <a:pt x="262" y="537"/>
                    </a:lnTo>
                    <a:lnTo>
                      <a:pt x="281" y="646"/>
                    </a:lnTo>
                    <a:lnTo>
                      <a:pt x="298" y="755"/>
                    </a:lnTo>
                    <a:lnTo>
                      <a:pt x="314" y="866"/>
                    </a:lnTo>
                    <a:lnTo>
                      <a:pt x="328" y="976"/>
                    </a:lnTo>
                    <a:lnTo>
                      <a:pt x="339" y="1088"/>
                    </a:lnTo>
                    <a:lnTo>
                      <a:pt x="350" y="1200"/>
                    </a:lnTo>
                    <a:lnTo>
                      <a:pt x="358" y="1312"/>
                    </a:lnTo>
                    <a:lnTo>
                      <a:pt x="365" y="1425"/>
                    </a:lnTo>
                    <a:lnTo>
                      <a:pt x="369" y="1538"/>
                    </a:lnTo>
                    <a:lnTo>
                      <a:pt x="373" y="1652"/>
                    </a:lnTo>
                    <a:lnTo>
                      <a:pt x="373" y="1766"/>
                    </a:lnTo>
                    <a:lnTo>
                      <a:pt x="373" y="1839"/>
                    </a:lnTo>
                    <a:lnTo>
                      <a:pt x="372" y="1911"/>
                    </a:lnTo>
                    <a:lnTo>
                      <a:pt x="369" y="1984"/>
                    </a:lnTo>
                    <a:lnTo>
                      <a:pt x="367" y="2057"/>
                    </a:lnTo>
                    <a:lnTo>
                      <a:pt x="364" y="2129"/>
                    </a:lnTo>
                    <a:lnTo>
                      <a:pt x="359" y="2201"/>
                    </a:lnTo>
                    <a:lnTo>
                      <a:pt x="354" y="2272"/>
                    </a:lnTo>
                    <a:lnTo>
                      <a:pt x="349" y="2344"/>
                    </a:lnTo>
                    <a:lnTo>
                      <a:pt x="343" y="2415"/>
                    </a:lnTo>
                    <a:lnTo>
                      <a:pt x="335" y="2487"/>
                    </a:lnTo>
                    <a:lnTo>
                      <a:pt x="328" y="2558"/>
                    </a:lnTo>
                    <a:lnTo>
                      <a:pt x="319" y="2628"/>
                    </a:lnTo>
                    <a:lnTo>
                      <a:pt x="309" y="2699"/>
                    </a:lnTo>
                    <a:lnTo>
                      <a:pt x="299" y="2769"/>
                    </a:lnTo>
                    <a:lnTo>
                      <a:pt x="289" y="2839"/>
                    </a:lnTo>
                    <a:lnTo>
                      <a:pt x="277" y="2908"/>
                    </a:lnTo>
                    <a:lnTo>
                      <a:pt x="266" y="2979"/>
                    </a:lnTo>
                    <a:lnTo>
                      <a:pt x="252" y="3048"/>
                    </a:lnTo>
                    <a:lnTo>
                      <a:pt x="239" y="3117"/>
                    </a:lnTo>
                    <a:lnTo>
                      <a:pt x="224" y="3186"/>
                    </a:lnTo>
                    <a:lnTo>
                      <a:pt x="209" y="3254"/>
                    </a:lnTo>
                    <a:lnTo>
                      <a:pt x="194" y="3322"/>
                    </a:lnTo>
                    <a:lnTo>
                      <a:pt x="178" y="3391"/>
                    </a:lnTo>
                    <a:lnTo>
                      <a:pt x="161" y="3458"/>
                    </a:lnTo>
                    <a:lnTo>
                      <a:pt x="142" y="3526"/>
                    </a:lnTo>
                    <a:lnTo>
                      <a:pt x="125" y="3593"/>
                    </a:lnTo>
                    <a:lnTo>
                      <a:pt x="105" y="3660"/>
                    </a:lnTo>
                    <a:lnTo>
                      <a:pt x="86" y="3727"/>
                    </a:lnTo>
                    <a:lnTo>
                      <a:pt x="65" y="3794"/>
                    </a:lnTo>
                    <a:lnTo>
                      <a:pt x="44" y="3860"/>
                    </a:lnTo>
                    <a:lnTo>
                      <a:pt x="22" y="3925"/>
                    </a:lnTo>
                    <a:lnTo>
                      <a:pt x="0" y="3991"/>
                    </a:lnTo>
                    <a:lnTo>
                      <a:pt x="45" y="3984"/>
                    </a:lnTo>
                    <a:lnTo>
                      <a:pt x="105" y="3972"/>
                    </a:lnTo>
                    <a:lnTo>
                      <a:pt x="127" y="3908"/>
                    </a:lnTo>
                    <a:lnTo>
                      <a:pt x="148" y="3842"/>
                    </a:lnTo>
                    <a:lnTo>
                      <a:pt x="169" y="3777"/>
                    </a:lnTo>
                    <a:lnTo>
                      <a:pt x="188" y="3711"/>
                    </a:lnTo>
                    <a:lnTo>
                      <a:pt x="207" y="3645"/>
                    </a:lnTo>
                    <a:lnTo>
                      <a:pt x="225" y="3578"/>
                    </a:lnTo>
                    <a:lnTo>
                      <a:pt x="244" y="3511"/>
                    </a:lnTo>
                    <a:lnTo>
                      <a:pt x="261" y="3445"/>
                    </a:lnTo>
                    <a:lnTo>
                      <a:pt x="277" y="3378"/>
                    </a:lnTo>
                    <a:lnTo>
                      <a:pt x="293" y="3310"/>
                    </a:lnTo>
                    <a:lnTo>
                      <a:pt x="308" y="3242"/>
                    </a:lnTo>
                    <a:lnTo>
                      <a:pt x="322" y="3174"/>
                    </a:lnTo>
                    <a:lnTo>
                      <a:pt x="336" y="3106"/>
                    </a:lnTo>
                    <a:lnTo>
                      <a:pt x="350" y="3036"/>
                    </a:lnTo>
                    <a:lnTo>
                      <a:pt x="361" y="2968"/>
                    </a:lnTo>
                    <a:lnTo>
                      <a:pt x="374" y="2899"/>
                    </a:lnTo>
                    <a:lnTo>
                      <a:pt x="384" y="2830"/>
                    </a:lnTo>
                    <a:lnTo>
                      <a:pt x="395" y="2761"/>
                    </a:lnTo>
                    <a:lnTo>
                      <a:pt x="405" y="2691"/>
                    </a:lnTo>
                    <a:lnTo>
                      <a:pt x="414" y="2620"/>
                    </a:lnTo>
                    <a:lnTo>
                      <a:pt x="422" y="2551"/>
                    </a:lnTo>
                    <a:lnTo>
                      <a:pt x="429" y="2481"/>
                    </a:lnTo>
                    <a:lnTo>
                      <a:pt x="436" y="2409"/>
                    </a:lnTo>
                    <a:lnTo>
                      <a:pt x="443" y="2339"/>
                    </a:lnTo>
                    <a:lnTo>
                      <a:pt x="448" y="2268"/>
                    </a:lnTo>
                    <a:lnTo>
                      <a:pt x="454" y="2197"/>
                    </a:lnTo>
                    <a:lnTo>
                      <a:pt x="457" y="2126"/>
                    </a:lnTo>
                    <a:lnTo>
                      <a:pt x="460" y="2054"/>
                    </a:lnTo>
                    <a:lnTo>
                      <a:pt x="463" y="1982"/>
                    </a:lnTo>
                    <a:lnTo>
                      <a:pt x="465" y="1910"/>
                    </a:lnTo>
                    <a:lnTo>
                      <a:pt x="466" y="1839"/>
                    </a:lnTo>
                    <a:lnTo>
                      <a:pt x="466" y="176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30800" y="3805200"/>
                <a:ext cx="125280" cy="1057320"/>
              </a:xfrm>
              <a:custGeom>
                <a:avLst/>
                <a:gdLst/>
                <a:ahLst/>
                <a:rect l="l" t="t" r="r" b="b"/>
                <a:pathLst>
                  <a:path w="472" h="3998">
                    <a:moveTo>
                      <a:pt x="472" y="1765"/>
                    </a:moveTo>
                    <a:lnTo>
                      <a:pt x="471" y="1651"/>
                    </a:lnTo>
                    <a:lnTo>
                      <a:pt x="467" y="1537"/>
                    </a:lnTo>
                    <a:lnTo>
                      <a:pt x="463" y="1424"/>
                    </a:lnTo>
                    <a:lnTo>
                      <a:pt x="457" y="1311"/>
                    </a:lnTo>
                    <a:lnTo>
                      <a:pt x="449" y="1199"/>
                    </a:lnTo>
                    <a:lnTo>
                      <a:pt x="439" y="1087"/>
                    </a:lnTo>
                    <a:lnTo>
                      <a:pt x="427" y="975"/>
                    </a:lnTo>
                    <a:lnTo>
                      <a:pt x="413" y="865"/>
                    </a:lnTo>
                    <a:lnTo>
                      <a:pt x="397" y="755"/>
                    </a:lnTo>
                    <a:lnTo>
                      <a:pt x="380" y="646"/>
                    </a:lnTo>
                    <a:lnTo>
                      <a:pt x="361" y="536"/>
                    </a:lnTo>
                    <a:lnTo>
                      <a:pt x="341" y="428"/>
                    </a:lnTo>
                    <a:lnTo>
                      <a:pt x="319" y="320"/>
                    </a:lnTo>
                    <a:lnTo>
                      <a:pt x="294" y="212"/>
                    </a:lnTo>
                    <a:lnTo>
                      <a:pt x="269" y="106"/>
                    </a:lnTo>
                    <a:lnTo>
                      <a:pt x="241" y="0"/>
                    </a:lnTo>
                    <a:lnTo>
                      <a:pt x="211" y="0"/>
                    </a:lnTo>
                    <a:lnTo>
                      <a:pt x="146" y="0"/>
                    </a:lnTo>
                    <a:lnTo>
                      <a:pt x="172" y="106"/>
                    </a:lnTo>
                    <a:lnTo>
                      <a:pt x="199" y="212"/>
                    </a:lnTo>
                    <a:lnTo>
                      <a:pt x="223" y="320"/>
                    </a:lnTo>
                    <a:lnTo>
                      <a:pt x="246" y="428"/>
                    </a:lnTo>
                    <a:lnTo>
                      <a:pt x="267" y="536"/>
                    </a:lnTo>
                    <a:lnTo>
                      <a:pt x="285" y="645"/>
                    </a:lnTo>
                    <a:lnTo>
                      <a:pt x="303" y="754"/>
                    </a:lnTo>
                    <a:lnTo>
                      <a:pt x="319" y="865"/>
                    </a:lnTo>
                    <a:lnTo>
                      <a:pt x="333" y="975"/>
                    </a:lnTo>
                    <a:lnTo>
                      <a:pt x="345" y="1086"/>
                    </a:lnTo>
                    <a:lnTo>
                      <a:pt x="354" y="1198"/>
                    </a:lnTo>
                    <a:lnTo>
                      <a:pt x="364" y="1311"/>
                    </a:lnTo>
                    <a:lnTo>
                      <a:pt x="369" y="1424"/>
                    </a:lnTo>
                    <a:lnTo>
                      <a:pt x="375" y="1537"/>
                    </a:lnTo>
                    <a:lnTo>
                      <a:pt x="378" y="1651"/>
                    </a:lnTo>
                    <a:lnTo>
                      <a:pt x="379" y="1765"/>
                    </a:lnTo>
                    <a:lnTo>
                      <a:pt x="379" y="1838"/>
                    </a:lnTo>
                    <a:lnTo>
                      <a:pt x="378" y="1912"/>
                    </a:lnTo>
                    <a:lnTo>
                      <a:pt x="375" y="1984"/>
                    </a:lnTo>
                    <a:lnTo>
                      <a:pt x="372" y="2057"/>
                    </a:lnTo>
                    <a:lnTo>
                      <a:pt x="368" y="2129"/>
                    </a:lnTo>
                    <a:lnTo>
                      <a:pt x="365" y="2202"/>
                    </a:lnTo>
                    <a:lnTo>
                      <a:pt x="359" y="2273"/>
                    </a:lnTo>
                    <a:lnTo>
                      <a:pt x="353" y="2346"/>
                    </a:lnTo>
                    <a:lnTo>
                      <a:pt x="348" y="2418"/>
                    </a:lnTo>
                    <a:lnTo>
                      <a:pt x="339" y="2489"/>
                    </a:lnTo>
                    <a:lnTo>
                      <a:pt x="333" y="2561"/>
                    </a:lnTo>
                    <a:lnTo>
                      <a:pt x="323" y="2631"/>
                    </a:lnTo>
                    <a:lnTo>
                      <a:pt x="314" y="2702"/>
                    </a:lnTo>
                    <a:lnTo>
                      <a:pt x="304" y="2773"/>
                    </a:lnTo>
                    <a:lnTo>
                      <a:pt x="292" y="2843"/>
                    </a:lnTo>
                    <a:lnTo>
                      <a:pt x="281" y="2913"/>
                    </a:lnTo>
                    <a:lnTo>
                      <a:pt x="269" y="2982"/>
                    </a:lnTo>
                    <a:lnTo>
                      <a:pt x="255" y="3053"/>
                    </a:lnTo>
                    <a:lnTo>
                      <a:pt x="241" y="3122"/>
                    </a:lnTo>
                    <a:lnTo>
                      <a:pt x="228" y="3191"/>
                    </a:lnTo>
                    <a:lnTo>
                      <a:pt x="213" y="3260"/>
                    </a:lnTo>
                    <a:lnTo>
                      <a:pt x="196" y="3328"/>
                    </a:lnTo>
                    <a:lnTo>
                      <a:pt x="179" y="3396"/>
                    </a:lnTo>
                    <a:lnTo>
                      <a:pt x="163" y="3464"/>
                    </a:lnTo>
                    <a:lnTo>
                      <a:pt x="145" y="3532"/>
                    </a:lnTo>
                    <a:lnTo>
                      <a:pt x="126" y="3599"/>
                    </a:lnTo>
                    <a:lnTo>
                      <a:pt x="106" y="3667"/>
                    </a:lnTo>
                    <a:lnTo>
                      <a:pt x="87" y="3734"/>
                    </a:lnTo>
                    <a:lnTo>
                      <a:pt x="66" y="3801"/>
                    </a:lnTo>
                    <a:lnTo>
                      <a:pt x="44" y="3867"/>
                    </a:lnTo>
                    <a:lnTo>
                      <a:pt x="22" y="3932"/>
                    </a:lnTo>
                    <a:lnTo>
                      <a:pt x="0" y="3998"/>
                    </a:lnTo>
                    <a:lnTo>
                      <a:pt x="97" y="3983"/>
                    </a:lnTo>
                    <a:lnTo>
                      <a:pt x="105" y="3981"/>
                    </a:lnTo>
                    <a:lnTo>
                      <a:pt x="127" y="3916"/>
                    </a:lnTo>
                    <a:lnTo>
                      <a:pt x="148" y="3850"/>
                    </a:lnTo>
                    <a:lnTo>
                      <a:pt x="169" y="3785"/>
                    </a:lnTo>
                    <a:lnTo>
                      <a:pt x="188" y="3718"/>
                    </a:lnTo>
                    <a:lnTo>
                      <a:pt x="208" y="3652"/>
                    </a:lnTo>
                    <a:lnTo>
                      <a:pt x="226" y="3585"/>
                    </a:lnTo>
                    <a:lnTo>
                      <a:pt x="245" y="3518"/>
                    </a:lnTo>
                    <a:lnTo>
                      <a:pt x="262" y="3450"/>
                    </a:lnTo>
                    <a:lnTo>
                      <a:pt x="279" y="3384"/>
                    </a:lnTo>
                    <a:lnTo>
                      <a:pt x="296" y="3316"/>
                    </a:lnTo>
                    <a:lnTo>
                      <a:pt x="311" y="3248"/>
                    </a:lnTo>
                    <a:lnTo>
                      <a:pt x="326" y="3180"/>
                    </a:lnTo>
                    <a:lnTo>
                      <a:pt x="339" y="3110"/>
                    </a:lnTo>
                    <a:lnTo>
                      <a:pt x="353" y="3041"/>
                    </a:lnTo>
                    <a:lnTo>
                      <a:pt x="366" y="2973"/>
                    </a:lnTo>
                    <a:lnTo>
                      <a:pt x="378" y="2903"/>
                    </a:lnTo>
                    <a:lnTo>
                      <a:pt x="389" y="2834"/>
                    </a:lnTo>
                    <a:lnTo>
                      <a:pt x="399" y="2765"/>
                    </a:lnTo>
                    <a:lnTo>
                      <a:pt x="409" y="2694"/>
                    </a:lnTo>
                    <a:lnTo>
                      <a:pt x="418" y="2624"/>
                    </a:lnTo>
                    <a:lnTo>
                      <a:pt x="427" y="2554"/>
                    </a:lnTo>
                    <a:lnTo>
                      <a:pt x="434" y="2482"/>
                    </a:lnTo>
                    <a:lnTo>
                      <a:pt x="441" y="2412"/>
                    </a:lnTo>
                    <a:lnTo>
                      <a:pt x="448" y="2340"/>
                    </a:lnTo>
                    <a:lnTo>
                      <a:pt x="454" y="2269"/>
                    </a:lnTo>
                    <a:lnTo>
                      <a:pt x="458" y="2197"/>
                    </a:lnTo>
                    <a:lnTo>
                      <a:pt x="462" y="2126"/>
                    </a:lnTo>
                    <a:lnTo>
                      <a:pt x="466" y="2054"/>
                    </a:lnTo>
                    <a:lnTo>
                      <a:pt x="469" y="1982"/>
                    </a:lnTo>
                    <a:lnTo>
                      <a:pt x="470" y="1910"/>
                    </a:lnTo>
                    <a:lnTo>
                      <a:pt x="471" y="1838"/>
                    </a:lnTo>
                    <a:lnTo>
                      <a:pt x="472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16400" y="3805200"/>
                <a:ext cx="127080" cy="1060560"/>
              </a:xfrm>
              <a:custGeom>
                <a:avLst/>
                <a:gdLst/>
                <a:ahLst/>
                <a:rect l="l" t="t" r="r" b="b"/>
                <a:pathLst>
                  <a:path w="478" h="4007">
                    <a:moveTo>
                      <a:pt x="478" y="1765"/>
                    </a:moveTo>
                    <a:lnTo>
                      <a:pt x="478" y="1651"/>
                    </a:lnTo>
                    <a:lnTo>
                      <a:pt x="474" y="1537"/>
                    </a:lnTo>
                    <a:lnTo>
                      <a:pt x="470" y="1424"/>
                    </a:lnTo>
                    <a:lnTo>
                      <a:pt x="463" y="1311"/>
                    </a:lnTo>
                    <a:lnTo>
                      <a:pt x="455" y="1199"/>
                    </a:lnTo>
                    <a:lnTo>
                      <a:pt x="444" y="1087"/>
                    </a:lnTo>
                    <a:lnTo>
                      <a:pt x="433" y="975"/>
                    </a:lnTo>
                    <a:lnTo>
                      <a:pt x="419" y="865"/>
                    </a:lnTo>
                    <a:lnTo>
                      <a:pt x="403" y="754"/>
                    </a:lnTo>
                    <a:lnTo>
                      <a:pt x="386" y="645"/>
                    </a:lnTo>
                    <a:lnTo>
                      <a:pt x="367" y="536"/>
                    </a:lnTo>
                    <a:lnTo>
                      <a:pt x="346" y="428"/>
                    </a:lnTo>
                    <a:lnTo>
                      <a:pt x="323" y="320"/>
                    </a:lnTo>
                    <a:lnTo>
                      <a:pt x="300" y="212"/>
                    </a:lnTo>
                    <a:lnTo>
                      <a:pt x="274" y="106"/>
                    </a:lnTo>
                    <a:lnTo>
                      <a:pt x="246" y="0"/>
                    </a:lnTo>
                    <a:lnTo>
                      <a:pt x="187" y="0"/>
                    </a:lnTo>
                    <a:lnTo>
                      <a:pt x="154" y="16"/>
                    </a:lnTo>
                    <a:lnTo>
                      <a:pt x="181" y="121"/>
                    </a:lnTo>
                    <a:lnTo>
                      <a:pt x="207" y="227"/>
                    </a:lnTo>
                    <a:lnTo>
                      <a:pt x="231" y="333"/>
                    </a:lnTo>
                    <a:lnTo>
                      <a:pt x="254" y="439"/>
                    </a:lnTo>
                    <a:lnTo>
                      <a:pt x="275" y="548"/>
                    </a:lnTo>
                    <a:lnTo>
                      <a:pt x="293" y="655"/>
                    </a:lnTo>
                    <a:lnTo>
                      <a:pt x="311" y="763"/>
                    </a:lnTo>
                    <a:lnTo>
                      <a:pt x="326" y="873"/>
                    </a:lnTo>
                    <a:lnTo>
                      <a:pt x="339" y="982"/>
                    </a:lnTo>
                    <a:lnTo>
                      <a:pt x="351" y="1093"/>
                    </a:lnTo>
                    <a:lnTo>
                      <a:pt x="361" y="1204"/>
                    </a:lnTo>
                    <a:lnTo>
                      <a:pt x="371" y="1314"/>
                    </a:lnTo>
                    <a:lnTo>
                      <a:pt x="376" y="1426"/>
                    </a:lnTo>
                    <a:lnTo>
                      <a:pt x="381" y="1539"/>
                    </a:lnTo>
                    <a:lnTo>
                      <a:pt x="384" y="1652"/>
                    </a:lnTo>
                    <a:lnTo>
                      <a:pt x="386" y="1765"/>
                    </a:lnTo>
                    <a:lnTo>
                      <a:pt x="384" y="1839"/>
                    </a:lnTo>
                    <a:lnTo>
                      <a:pt x="383" y="1912"/>
                    </a:lnTo>
                    <a:lnTo>
                      <a:pt x="381" y="1985"/>
                    </a:lnTo>
                    <a:lnTo>
                      <a:pt x="379" y="2058"/>
                    </a:lnTo>
                    <a:lnTo>
                      <a:pt x="375" y="2131"/>
                    </a:lnTo>
                    <a:lnTo>
                      <a:pt x="371" y="2203"/>
                    </a:lnTo>
                    <a:lnTo>
                      <a:pt x="366" y="2276"/>
                    </a:lnTo>
                    <a:lnTo>
                      <a:pt x="360" y="2348"/>
                    </a:lnTo>
                    <a:lnTo>
                      <a:pt x="353" y="2420"/>
                    </a:lnTo>
                    <a:lnTo>
                      <a:pt x="346" y="2493"/>
                    </a:lnTo>
                    <a:lnTo>
                      <a:pt x="337" y="2564"/>
                    </a:lnTo>
                    <a:lnTo>
                      <a:pt x="329" y="2635"/>
                    </a:lnTo>
                    <a:lnTo>
                      <a:pt x="319" y="2706"/>
                    </a:lnTo>
                    <a:lnTo>
                      <a:pt x="308" y="2777"/>
                    </a:lnTo>
                    <a:lnTo>
                      <a:pt x="298" y="2848"/>
                    </a:lnTo>
                    <a:lnTo>
                      <a:pt x="286" y="2918"/>
                    </a:lnTo>
                    <a:lnTo>
                      <a:pt x="274" y="2988"/>
                    </a:lnTo>
                    <a:lnTo>
                      <a:pt x="260" y="3057"/>
                    </a:lnTo>
                    <a:lnTo>
                      <a:pt x="246" y="3128"/>
                    </a:lnTo>
                    <a:lnTo>
                      <a:pt x="231" y="3197"/>
                    </a:lnTo>
                    <a:lnTo>
                      <a:pt x="216" y="3266"/>
                    </a:lnTo>
                    <a:lnTo>
                      <a:pt x="200" y="3334"/>
                    </a:lnTo>
                    <a:lnTo>
                      <a:pt x="183" y="3403"/>
                    </a:lnTo>
                    <a:lnTo>
                      <a:pt x="165" y="3471"/>
                    </a:lnTo>
                    <a:lnTo>
                      <a:pt x="147" y="3539"/>
                    </a:lnTo>
                    <a:lnTo>
                      <a:pt x="128" y="3607"/>
                    </a:lnTo>
                    <a:lnTo>
                      <a:pt x="109" y="3674"/>
                    </a:lnTo>
                    <a:lnTo>
                      <a:pt x="88" y="3741"/>
                    </a:lnTo>
                    <a:lnTo>
                      <a:pt x="67" y="3808"/>
                    </a:lnTo>
                    <a:lnTo>
                      <a:pt x="45" y="3875"/>
                    </a:lnTo>
                    <a:lnTo>
                      <a:pt x="23" y="3942"/>
                    </a:lnTo>
                    <a:lnTo>
                      <a:pt x="0" y="4007"/>
                    </a:lnTo>
                    <a:lnTo>
                      <a:pt x="105" y="3990"/>
                    </a:lnTo>
                    <a:lnTo>
                      <a:pt x="127" y="3924"/>
                    </a:lnTo>
                    <a:lnTo>
                      <a:pt x="149" y="3859"/>
                    </a:lnTo>
                    <a:lnTo>
                      <a:pt x="170" y="3793"/>
                    </a:lnTo>
                    <a:lnTo>
                      <a:pt x="191" y="3726"/>
                    </a:lnTo>
                    <a:lnTo>
                      <a:pt x="210" y="3659"/>
                    </a:lnTo>
                    <a:lnTo>
                      <a:pt x="230" y="3592"/>
                    </a:lnTo>
                    <a:lnTo>
                      <a:pt x="247" y="3525"/>
                    </a:lnTo>
                    <a:lnTo>
                      <a:pt x="266" y="3457"/>
                    </a:lnTo>
                    <a:lnTo>
                      <a:pt x="283" y="3390"/>
                    </a:lnTo>
                    <a:lnTo>
                      <a:pt x="299" y="3321"/>
                    </a:lnTo>
                    <a:lnTo>
                      <a:pt x="314" y="3253"/>
                    </a:lnTo>
                    <a:lnTo>
                      <a:pt x="329" y="3185"/>
                    </a:lnTo>
                    <a:lnTo>
                      <a:pt x="344" y="3116"/>
                    </a:lnTo>
                    <a:lnTo>
                      <a:pt x="357" y="3047"/>
                    </a:lnTo>
                    <a:lnTo>
                      <a:pt x="371" y="2978"/>
                    </a:lnTo>
                    <a:lnTo>
                      <a:pt x="382" y="2907"/>
                    </a:lnTo>
                    <a:lnTo>
                      <a:pt x="394" y="2838"/>
                    </a:lnTo>
                    <a:lnTo>
                      <a:pt x="404" y="2768"/>
                    </a:lnTo>
                    <a:lnTo>
                      <a:pt x="414" y="2698"/>
                    </a:lnTo>
                    <a:lnTo>
                      <a:pt x="424" y="2627"/>
                    </a:lnTo>
                    <a:lnTo>
                      <a:pt x="433" y="2557"/>
                    </a:lnTo>
                    <a:lnTo>
                      <a:pt x="440" y="2486"/>
                    </a:lnTo>
                    <a:lnTo>
                      <a:pt x="448" y="2414"/>
                    </a:lnTo>
                    <a:lnTo>
                      <a:pt x="454" y="2343"/>
                    </a:lnTo>
                    <a:lnTo>
                      <a:pt x="459" y="2271"/>
                    </a:lnTo>
                    <a:lnTo>
                      <a:pt x="464" y="2200"/>
                    </a:lnTo>
                    <a:lnTo>
                      <a:pt x="469" y="2128"/>
                    </a:lnTo>
                    <a:lnTo>
                      <a:pt x="472" y="2056"/>
                    </a:lnTo>
                    <a:lnTo>
                      <a:pt x="474" y="1983"/>
                    </a:lnTo>
                    <a:lnTo>
                      <a:pt x="477" y="1910"/>
                    </a:lnTo>
                    <a:lnTo>
                      <a:pt x="478" y="1838"/>
                    </a:lnTo>
                    <a:lnTo>
                      <a:pt x="478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3800" y="3805200"/>
                <a:ext cx="127080" cy="1062000"/>
              </a:xfrm>
              <a:custGeom>
                <a:avLst/>
                <a:gdLst/>
                <a:ahLst/>
                <a:rect l="l" t="t" r="r" b="b"/>
                <a:pathLst>
                  <a:path w="484" h="4015">
                    <a:moveTo>
                      <a:pt x="484" y="1765"/>
                    </a:moveTo>
                    <a:lnTo>
                      <a:pt x="483" y="1651"/>
                    </a:lnTo>
                    <a:lnTo>
                      <a:pt x="480" y="1537"/>
                    </a:lnTo>
                    <a:lnTo>
                      <a:pt x="474" y="1424"/>
                    </a:lnTo>
                    <a:lnTo>
                      <a:pt x="469" y="1311"/>
                    </a:lnTo>
                    <a:lnTo>
                      <a:pt x="459" y="1198"/>
                    </a:lnTo>
                    <a:lnTo>
                      <a:pt x="450" y="1086"/>
                    </a:lnTo>
                    <a:lnTo>
                      <a:pt x="438" y="975"/>
                    </a:lnTo>
                    <a:lnTo>
                      <a:pt x="424" y="865"/>
                    </a:lnTo>
                    <a:lnTo>
                      <a:pt x="408" y="754"/>
                    </a:lnTo>
                    <a:lnTo>
                      <a:pt x="390" y="645"/>
                    </a:lnTo>
                    <a:lnTo>
                      <a:pt x="372" y="536"/>
                    </a:lnTo>
                    <a:lnTo>
                      <a:pt x="351" y="428"/>
                    </a:lnTo>
                    <a:lnTo>
                      <a:pt x="328" y="320"/>
                    </a:lnTo>
                    <a:lnTo>
                      <a:pt x="304" y="212"/>
                    </a:lnTo>
                    <a:lnTo>
                      <a:pt x="277" y="106"/>
                    </a:lnTo>
                    <a:lnTo>
                      <a:pt x="251" y="0"/>
                    </a:lnTo>
                    <a:lnTo>
                      <a:pt x="239" y="0"/>
                    </a:lnTo>
                    <a:lnTo>
                      <a:pt x="165" y="37"/>
                    </a:lnTo>
                    <a:lnTo>
                      <a:pt x="163" y="37"/>
                    </a:lnTo>
                    <a:lnTo>
                      <a:pt x="191" y="141"/>
                    </a:lnTo>
                    <a:lnTo>
                      <a:pt x="216" y="245"/>
                    </a:lnTo>
                    <a:lnTo>
                      <a:pt x="239" y="350"/>
                    </a:lnTo>
                    <a:lnTo>
                      <a:pt x="261" y="456"/>
                    </a:lnTo>
                    <a:lnTo>
                      <a:pt x="282" y="562"/>
                    </a:lnTo>
                    <a:lnTo>
                      <a:pt x="300" y="669"/>
                    </a:lnTo>
                    <a:lnTo>
                      <a:pt x="318" y="776"/>
                    </a:lnTo>
                    <a:lnTo>
                      <a:pt x="333" y="883"/>
                    </a:lnTo>
                    <a:lnTo>
                      <a:pt x="346" y="992"/>
                    </a:lnTo>
                    <a:lnTo>
                      <a:pt x="358" y="1101"/>
                    </a:lnTo>
                    <a:lnTo>
                      <a:pt x="367" y="1211"/>
                    </a:lnTo>
                    <a:lnTo>
                      <a:pt x="375" y="1320"/>
                    </a:lnTo>
                    <a:lnTo>
                      <a:pt x="382" y="1431"/>
                    </a:lnTo>
                    <a:lnTo>
                      <a:pt x="387" y="1541"/>
                    </a:lnTo>
                    <a:lnTo>
                      <a:pt x="389" y="1653"/>
                    </a:lnTo>
                    <a:lnTo>
                      <a:pt x="390" y="1765"/>
                    </a:lnTo>
                    <a:lnTo>
                      <a:pt x="390" y="1839"/>
                    </a:lnTo>
                    <a:lnTo>
                      <a:pt x="389" y="1913"/>
                    </a:lnTo>
                    <a:lnTo>
                      <a:pt x="387" y="1986"/>
                    </a:lnTo>
                    <a:lnTo>
                      <a:pt x="384" y="2059"/>
                    </a:lnTo>
                    <a:lnTo>
                      <a:pt x="380" y="2133"/>
                    </a:lnTo>
                    <a:lnTo>
                      <a:pt x="376" y="2205"/>
                    </a:lnTo>
                    <a:lnTo>
                      <a:pt x="371" y="2278"/>
                    </a:lnTo>
                    <a:lnTo>
                      <a:pt x="365" y="2351"/>
                    </a:lnTo>
                    <a:lnTo>
                      <a:pt x="358" y="2423"/>
                    </a:lnTo>
                    <a:lnTo>
                      <a:pt x="351" y="2495"/>
                    </a:lnTo>
                    <a:lnTo>
                      <a:pt x="343" y="2567"/>
                    </a:lnTo>
                    <a:lnTo>
                      <a:pt x="334" y="2639"/>
                    </a:lnTo>
                    <a:lnTo>
                      <a:pt x="323" y="2710"/>
                    </a:lnTo>
                    <a:lnTo>
                      <a:pt x="313" y="2781"/>
                    </a:lnTo>
                    <a:lnTo>
                      <a:pt x="301" y="2852"/>
                    </a:lnTo>
                    <a:lnTo>
                      <a:pt x="290" y="2922"/>
                    </a:lnTo>
                    <a:lnTo>
                      <a:pt x="277" y="2993"/>
                    </a:lnTo>
                    <a:lnTo>
                      <a:pt x="263" y="3063"/>
                    </a:lnTo>
                    <a:lnTo>
                      <a:pt x="250" y="3133"/>
                    </a:lnTo>
                    <a:lnTo>
                      <a:pt x="235" y="3203"/>
                    </a:lnTo>
                    <a:lnTo>
                      <a:pt x="218" y="3272"/>
                    </a:lnTo>
                    <a:lnTo>
                      <a:pt x="202" y="3341"/>
                    </a:lnTo>
                    <a:lnTo>
                      <a:pt x="185" y="3410"/>
                    </a:lnTo>
                    <a:lnTo>
                      <a:pt x="168" y="3478"/>
                    </a:lnTo>
                    <a:lnTo>
                      <a:pt x="149" y="3546"/>
                    </a:lnTo>
                    <a:lnTo>
                      <a:pt x="130" y="3614"/>
                    </a:lnTo>
                    <a:lnTo>
                      <a:pt x="110" y="3682"/>
                    </a:lnTo>
                    <a:lnTo>
                      <a:pt x="89" y="3749"/>
                    </a:lnTo>
                    <a:lnTo>
                      <a:pt x="68" y="3816"/>
                    </a:lnTo>
                    <a:lnTo>
                      <a:pt x="47" y="3883"/>
                    </a:lnTo>
                    <a:lnTo>
                      <a:pt x="23" y="3950"/>
                    </a:lnTo>
                    <a:lnTo>
                      <a:pt x="0" y="4015"/>
                    </a:lnTo>
                    <a:lnTo>
                      <a:pt x="105" y="3998"/>
                    </a:lnTo>
                    <a:lnTo>
                      <a:pt x="127" y="3932"/>
                    </a:lnTo>
                    <a:lnTo>
                      <a:pt x="149" y="3867"/>
                    </a:lnTo>
                    <a:lnTo>
                      <a:pt x="171" y="3801"/>
                    </a:lnTo>
                    <a:lnTo>
                      <a:pt x="192" y="3734"/>
                    </a:lnTo>
                    <a:lnTo>
                      <a:pt x="211" y="3667"/>
                    </a:lnTo>
                    <a:lnTo>
                      <a:pt x="231" y="3599"/>
                    </a:lnTo>
                    <a:lnTo>
                      <a:pt x="250" y="3532"/>
                    </a:lnTo>
                    <a:lnTo>
                      <a:pt x="268" y="3464"/>
                    </a:lnTo>
                    <a:lnTo>
                      <a:pt x="284" y="3396"/>
                    </a:lnTo>
                    <a:lnTo>
                      <a:pt x="301" y="3328"/>
                    </a:lnTo>
                    <a:lnTo>
                      <a:pt x="318" y="3260"/>
                    </a:lnTo>
                    <a:lnTo>
                      <a:pt x="333" y="3191"/>
                    </a:lnTo>
                    <a:lnTo>
                      <a:pt x="346" y="3122"/>
                    </a:lnTo>
                    <a:lnTo>
                      <a:pt x="360" y="3053"/>
                    </a:lnTo>
                    <a:lnTo>
                      <a:pt x="374" y="2982"/>
                    </a:lnTo>
                    <a:lnTo>
                      <a:pt x="386" y="2913"/>
                    </a:lnTo>
                    <a:lnTo>
                      <a:pt x="397" y="2843"/>
                    </a:lnTo>
                    <a:lnTo>
                      <a:pt x="409" y="2773"/>
                    </a:lnTo>
                    <a:lnTo>
                      <a:pt x="419" y="2702"/>
                    </a:lnTo>
                    <a:lnTo>
                      <a:pt x="428" y="2631"/>
                    </a:lnTo>
                    <a:lnTo>
                      <a:pt x="438" y="2561"/>
                    </a:lnTo>
                    <a:lnTo>
                      <a:pt x="444" y="2489"/>
                    </a:lnTo>
                    <a:lnTo>
                      <a:pt x="453" y="2418"/>
                    </a:lnTo>
                    <a:lnTo>
                      <a:pt x="458" y="2346"/>
                    </a:lnTo>
                    <a:lnTo>
                      <a:pt x="464" y="2273"/>
                    </a:lnTo>
                    <a:lnTo>
                      <a:pt x="470" y="2202"/>
                    </a:lnTo>
                    <a:lnTo>
                      <a:pt x="473" y="2129"/>
                    </a:lnTo>
                    <a:lnTo>
                      <a:pt x="477" y="2057"/>
                    </a:lnTo>
                    <a:lnTo>
                      <a:pt x="480" y="1984"/>
                    </a:lnTo>
                    <a:lnTo>
                      <a:pt x="483" y="1912"/>
                    </a:lnTo>
                    <a:lnTo>
                      <a:pt x="484" y="1838"/>
                    </a:lnTo>
                    <a:lnTo>
                      <a:pt x="484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89400" y="3809880"/>
                <a:ext cx="130320" cy="1060560"/>
              </a:xfrm>
              <a:custGeom>
                <a:avLst/>
                <a:gdLst/>
                <a:ahLst/>
                <a:rect l="l" t="t" r="r" b="b"/>
                <a:pathLst>
                  <a:path w="491" h="4009">
                    <a:moveTo>
                      <a:pt x="491" y="1749"/>
                    </a:moveTo>
                    <a:lnTo>
                      <a:pt x="489" y="1636"/>
                    </a:lnTo>
                    <a:lnTo>
                      <a:pt x="486" y="1523"/>
                    </a:lnTo>
                    <a:lnTo>
                      <a:pt x="481" y="1410"/>
                    </a:lnTo>
                    <a:lnTo>
                      <a:pt x="476" y="1298"/>
                    </a:lnTo>
                    <a:lnTo>
                      <a:pt x="466" y="1188"/>
                    </a:lnTo>
                    <a:lnTo>
                      <a:pt x="457" y="1077"/>
                    </a:lnTo>
                    <a:lnTo>
                      <a:pt x="444" y="966"/>
                    </a:lnTo>
                    <a:lnTo>
                      <a:pt x="431" y="857"/>
                    </a:lnTo>
                    <a:lnTo>
                      <a:pt x="416" y="747"/>
                    </a:lnTo>
                    <a:lnTo>
                      <a:pt x="398" y="639"/>
                    </a:lnTo>
                    <a:lnTo>
                      <a:pt x="380" y="531"/>
                    </a:lnTo>
                    <a:lnTo>
                      <a:pt x="359" y="423"/>
                    </a:lnTo>
                    <a:lnTo>
                      <a:pt x="336" y="317"/>
                    </a:lnTo>
                    <a:lnTo>
                      <a:pt x="312" y="211"/>
                    </a:lnTo>
                    <a:lnTo>
                      <a:pt x="286" y="105"/>
                    </a:lnTo>
                    <a:lnTo>
                      <a:pt x="260" y="0"/>
                    </a:lnTo>
                    <a:lnTo>
                      <a:pt x="218" y="21"/>
                    </a:lnTo>
                    <a:lnTo>
                      <a:pt x="169" y="21"/>
                    </a:lnTo>
                    <a:lnTo>
                      <a:pt x="195" y="125"/>
                    </a:lnTo>
                    <a:lnTo>
                      <a:pt x="221" y="229"/>
                    </a:lnTo>
                    <a:lnTo>
                      <a:pt x="245" y="334"/>
                    </a:lnTo>
                    <a:lnTo>
                      <a:pt x="267" y="440"/>
                    </a:lnTo>
                    <a:lnTo>
                      <a:pt x="288" y="546"/>
                    </a:lnTo>
                    <a:lnTo>
                      <a:pt x="306" y="652"/>
                    </a:lnTo>
                    <a:lnTo>
                      <a:pt x="323" y="760"/>
                    </a:lnTo>
                    <a:lnTo>
                      <a:pt x="338" y="867"/>
                    </a:lnTo>
                    <a:lnTo>
                      <a:pt x="352" y="976"/>
                    </a:lnTo>
                    <a:lnTo>
                      <a:pt x="364" y="1085"/>
                    </a:lnTo>
                    <a:lnTo>
                      <a:pt x="374" y="1195"/>
                    </a:lnTo>
                    <a:lnTo>
                      <a:pt x="382" y="1304"/>
                    </a:lnTo>
                    <a:lnTo>
                      <a:pt x="388" y="1415"/>
                    </a:lnTo>
                    <a:lnTo>
                      <a:pt x="393" y="1525"/>
                    </a:lnTo>
                    <a:lnTo>
                      <a:pt x="396" y="1637"/>
                    </a:lnTo>
                    <a:lnTo>
                      <a:pt x="397" y="1749"/>
                    </a:lnTo>
                    <a:lnTo>
                      <a:pt x="396" y="1823"/>
                    </a:lnTo>
                    <a:lnTo>
                      <a:pt x="395" y="1898"/>
                    </a:lnTo>
                    <a:lnTo>
                      <a:pt x="393" y="1972"/>
                    </a:lnTo>
                    <a:lnTo>
                      <a:pt x="390" y="2045"/>
                    </a:lnTo>
                    <a:lnTo>
                      <a:pt x="387" y="2118"/>
                    </a:lnTo>
                    <a:lnTo>
                      <a:pt x="382" y="2192"/>
                    </a:lnTo>
                    <a:lnTo>
                      <a:pt x="376" y="2264"/>
                    </a:lnTo>
                    <a:lnTo>
                      <a:pt x="371" y="2338"/>
                    </a:lnTo>
                    <a:lnTo>
                      <a:pt x="364" y="2411"/>
                    </a:lnTo>
                    <a:lnTo>
                      <a:pt x="357" y="2482"/>
                    </a:lnTo>
                    <a:lnTo>
                      <a:pt x="348" y="2555"/>
                    </a:lnTo>
                    <a:lnTo>
                      <a:pt x="339" y="2626"/>
                    </a:lnTo>
                    <a:lnTo>
                      <a:pt x="329" y="2699"/>
                    </a:lnTo>
                    <a:lnTo>
                      <a:pt x="319" y="2769"/>
                    </a:lnTo>
                    <a:lnTo>
                      <a:pt x="307" y="2841"/>
                    </a:lnTo>
                    <a:lnTo>
                      <a:pt x="294" y="2912"/>
                    </a:lnTo>
                    <a:lnTo>
                      <a:pt x="282" y="2983"/>
                    </a:lnTo>
                    <a:lnTo>
                      <a:pt x="268" y="3053"/>
                    </a:lnTo>
                    <a:lnTo>
                      <a:pt x="254" y="3123"/>
                    </a:lnTo>
                    <a:lnTo>
                      <a:pt x="238" y="3194"/>
                    </a:lnTo>
                    <a:lnTo>
                      <a:pt x="223" y="3263"/>
                    </a:lnTo>
                    <a:lnTo>
                      <a:pt x="206" y="3332"/>
                    </a:lnTo>
                    <a:lnTo>
                      <a:pt x="188" y="3401"/>
                    </a:lnTo>
                    <a:lnTo>
                      <a:pt x="171" y="3470"/>
                    </a:lnTo>
                    <a:lnTo>
                      <a:pt x="151" y="3538"/>
                    </a:lnTo>
                    <a:lnTo>
                      <a:pt x="132" y="3606"/>
                    </a:lnTo>
                    <a:lnTo>
                      <a:pt x="112" y="3674"/>
                    </a:lnTo>
                    <a:lnTo>
                      <a:pt x="91" y="3741"/>
                    </a:lnTo>
                    <a:lnTo>
                      <a:pt x="70" y="3809"/>
                    </a:lnTo>
                    <a:lnTo>
                      <a:pt x="48" y="3876"/>
                    </a:lnTo>
                    <a:lnTo>
                      <a:pt x="25" y="3943"/>
                    </a:lnTo>
                    <a:lnTo>
                      <a:pt x="0" y="4009"/>
                    </a:lnTo>
                    <a:lnTo>
                      <a:pt x="27" y="4004"/>
                    </a:lnTo>
                    <a:lnTo>
                      <a:pt x="105" y="3991"/>
                    </a:lnTo>
                    <a:lnTo>
                      <a:pt x="128" y="3926"/>
                    </a:lnTo>
                    <a:lnTo>
                      <a:pt x="150" y="3859"/>
                    </a:lnTo>
                    <a:lnTo>
                      <a:pt x="172" y="3792"/>
                    </a:lnTo>
                    <a:lnTo>
                      <a:pt x="193" y="3725"/>
                    </a:lnTo>
                    <a:lnTo>
                      <a:pt x="214" y="3658"/>
                    </a:lnTo>
                    <a:lnTo>
                      <a:pt x="233" y="3591"/>
                    </a:lnTo>
                    <a:lnTo>
                      <a:pt x="252" y="3523"/>
                    </a:lnTo>
                    <a:lnTo>
                      <a:pt x="270" y="3455"/>
                    </a:lnTo>
                    <a:lnTo>
                      <a:pt x="288" y="3387"/>
                    </a:lnTo>
                    <a:lnTo>
                      <a:pt x="305" y="3318"/>
                    </a:lnTo>
                    <a:lnTo>
                      <a:pt x="321" y="3250"/>
                    </a:lnTo>
                    <a:lnTo>
                      <a:pt x="336" y="3181"/>
                    </a:lnTo>
                    <a:lnTo>
                      <a:pt x="351" y="3112"/>
                    </a:lnTo>
                    <a:lnTo>
                      <a:pt x="365" y="3041"/>
                    </a:lnTo>
                    <a:lnTo>
                      <a:pt x="379" y="2972"/>
                    </a:lnTo>
                    <a:lnTo>
                      <a:pt x="391" y="2902"/>
                    </a:lnTo>
                    <a:lnTo>
                      <a:pt x="403" y="2832"/>
                    </a:lnTo>
                    <a:lnTo>
                      <a:pt x="414" y="2761"/>
                    </a:lnTo>
                    <a:lnTo>
                      <a:pt x="424" y="2690"/>
                    </a:lnTo>
                    <a:lnTo>
                      <a:pt x="434" y="2619"/>
                    </a:lnTo>
                    <a:lnTo>
                      <a:pt x="442" y="2548"/>
                    </a:lnTo>
                    <a:lnTo>
                      <a:pt x="451" y="2477"/>
                    </a:lnTo>
                    <a:lnTo>
                      <a:pt x="458" y="2404"/>
                    </a:lnTo>
                    <a:lnTo>
                      <a:pt x="465" y="2332"/>
                    </a:lnTo>
                    <a:lnTo>
                      <a:pt x="471" y="2260"/>
                    </a:lnTo>
                    <a:lnTo>
                      <a:pt x="476" y="2187"/>
                    </a:lnTo>
                    <a:lnTo>
                      <a:pt x="480" y="2115"/>
                    </a:lnTo>
                    <a:lnTo>
                      <a:pt x="484" y="2042"/>
                    </a:lnTo>
                    <a:lnTo>
                      <a:pt x="486" y="1969"/>
                    </a:lnTo>
                    <a:lnTo>
                      <a:pt x="488" y="1896"/>
                    </a:lnTo>
                    <a:lnTo>
                      <a:pt x="489" y="1823"/>
                    </a:lnTo>
                    <a:lnTo>
                      <a:pt x="491" y="1749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75360" y="3814920"/>
                <a:ext cx="131760" cy="1056960"/>
              </a:xfrm>
              <a:custGeom>
                <a:avLst/>
                <a:gdLst/>
                <a:ahLst/>
                <a:rect l="l" t="t" r="r" b="b"/>
                <a:pathLst>
                  <a:path w="496" h="3998">
                    <a:moveTo>
                      <a:pt x="496" y="1728"/>
                    </a:moveTo>
                    <a:lnTo>
                      <a:pt x="495" y="1616"/>
                    </a:lnTo>
                    <a:lnTo>
                      <a:pt x="493" y="1504"/>
                    </a:lnTo>
                    <a:lnTo>
                      <a:pt x="488" y="1394"/>
                    </a:lnTo>
                    <a:lnTo>
                      <a:pt x="481" y="1283"/>
                    </a:lnTo>
                    <a:lnTo>
                      <a:pt x="473" y="1174"/>
                    </a:lnTo>
                    <a:lnTo>
                      <a:pt x="464" y="1064"/>
                    </a:lnTo>
                    <a:lnTo>
                      <a:pt x="451" y="955"/>
                    </a:lnTo>
                    <a:lnTo>
                      <a:pt x="439" y="846"/>
                    </a:lnTo>
                    <a:lnTo>
                      <a:pt x="424" y="739"/>
                    </a:lnTo>
                    <a:lnTo>
                      <a:pt x="406" y="632"/>
                    </a:lnTo>
                    <a:lnTo>
                      <a:pt x="388" y="525"/>
                    </a:lnTo>
                    <a:lnTo>
                      <a:pt x="367" y="419"/>
                    </a:lnTo>
                    <a:lnTo>
                      <a:pt x="345" y="313"/>
                    </a:lnTo>
                    <a:lnTo>
                      <a:pt x="322" y="208"/>
                    </a:lnTo>
                    <a:lnTo>
                      <a:pt x="297" y="104"/>
                    </a:lnTo>
                    <a:lnTo>
                      <a:pt x="269" y="0"/>
                    </a:lnTo>
                    <a:lnTo>
                      <a:pt x="173" y="0"/>
                    </a:lnTo>
                    <a:lnTo>
                      <a:pt x="200" y="104"/>
                    </a:lnTo>
                    <a:lnTo>
                      <a:pt x="226" y="208"/>
                    </a:lnTo>
                    <a:lnTo>
                      <a:pt x="249" y="313"/>
                    </a:lnTo>
                    <a:lnTo>
                      <a:pt x="272" y="419"/>
                    </a:lnTo>
                    <a:lnTo>
                      <a:pt x="293" y="525"/>
                    </a:lnTo>
                    <a:lnTo>
                      <a:pt x="312" y="631"/>
                    </a:lnTo>
                    <a:lnTo>
                      <a:pt x="329" y="738"/>
                    </a:lnTo>
                    <a:lnTo>
                      <a:pt x="344" y="846"/>
                    </a:lnTo>
                    <a:lnTo>
                      <a:pt x="358" y="955"/>
                    </a:lnTo>
                    <a:lnTo>
                      <a:pt x="369" y="1063"/>
                    </a:lnTo>
                    <a:lnTo>
                      <a:pt x="380" y="1172"/>
                    </a:lnTo>
                    <a:lnTo>
                      <a:pt x="388" y="1283"/>
                    </a:lnTo>
                    <a:lnTo>
                      <a:pt x="395" y="1394"/>
                    </a:lnTo>
                    <a:lnTo>
                      <a:pt x="399" y="1504"/>
                    </a:lnTo>
                    <a:lnTo>
                      <a:pt x="402" y="1616"/>
                    </a:lnTo>
                    <a:lnTo>
                      <a:pt x="403" y="1728"/>
                    </a:lnTo>
                    <a:lnTo>
                      <a:pt x="403" y="1803"/>
                    </a:lnTo>
                    <a:lnTo>
                      <a:pt x="402" y="1877"/>
                    </a:lnTo>
                    <a:lnTo>
                      <a:pt x="399" y="1952"/>
                    </a:lnTo>
                    <a:lnTo>
                      <a:pt x="397" y="2026"/>
                    </a:lnTo>
                    <a:lnTo>
                      <a:pt x="392" y="2099"/>
                    </a:lnTo>
                    <a:lnTo>
                      <a:pt x="388" y="2173"/>
                    </a:lnTo>
                    <a:lnTo>
                      <a:pt x="383" y="2247"/>
                    </a:lnTo>
                    <a:lnTo>
                      <a:pt x="376" y="2319"/>
                    </a:lnTo>
                    <a:lnTo>
                      <a:pt x="369" y="2393"/>
                    </a:lnTo>
                    <a:lnTo>
                      <a:pt x="362" y="2466"/>
                    </a:lnTo>
                    <a:lnTo>
                      <a:pt x="353" y="2539"/>
                    </a:lnTo>
                    <a:lnTo>
                      <a:pt x="344" y="2610"/>
                    </a:lnTo>
                    <a:lnTo>
                      <a:pt x="335" y="2683"/>
                    </a:lnTo>
                    <a:lnTo>
                      <a:pt x="323" y="2754"/>
                    </a:lnTo>
                    <a:lnTo>
                      <a:pt x="312" y="2826"/>
                    </a:lnTo>
                    <a:lnTo>
                      <a:pt x="299" y="2897"/>
                    </a:lnTo>
                    <a:lnTo>
                      <a:pt x="286" y="2967"/>
                    </a:lnTo>
                    <a:lnTo>
                      <a:pt x="272" y="3039"/>
                    </a:lnTo>
                    <a:lnTo>
                      <a:pt x="258" y="3109"/>
                    </a:lnTo>
                    <a:lnTo>
                      <a:pt x="243" y="3179"/>
                    </a:lnTo>
                    <a:lnTo>
                      <a:pt x="226" y="3249"/>
                    </a:lnTo>
                    <a:lnTo>
                      <a:pt x="209" y="3319"/>
                    </a:lnTo>
                    <a:lnTo>
                      <a:pt x="192" y="3388"/>
                    </a:lnTo>
                    <a:lnTo>
                      <a:pt x="173" y="3457"/>
                    </a:lnTo>
                    <a:lnTo>
                      <a:pt x="154" y="3525"/>
                    </a:lnTo>
                    <a:lnTo>
                      <a:pt x="134" y="3594"/>
                    </a:lnTo>
                    <a:lnTo>
                      <a:pt x="113" y="3662"/>
                    </a:lnTo>
                    <a:lnTo>
                      <a:pt x="93" y="3729"/>
                    </a:lnTo>
                    <a:lnTo>
                      <a:pt x="71" y="3797"/>
                    </a:lnTo>
                    <a:lnTo>
                      <a:pt x="48" y="3864"/>
                    </a:lnTo>
                    <a:lnTo>
                      <a:pt x="25" y="3931"/>
                    </a:lnTo>
                    <a:lnTo>
                      <a:pt x="0" y="3998"/>
                    </a:lnTo>
                    <a:lnTo>
                      <a:pt x="80" y="3983"/>
                    </a:lnTo>
                    <a:lnTo>
                      <a:pt x="106" y="3978"/>
                    </a:lnTo>
                    <a:lnTo>
                      <a:pt x="129" y="3913"/>
                    </a:lnTo>
                    <a:lnTo>
                      <a:pt x="153" y="3846"/>
                    </a:lnTo>
                    <a:lnTo>
                      <a:pt x="174" y="3779"/>
                    </a:lnTo>
                    <a:lnTo>
                      <a:pt x="195" y="3712"/>
                    </a:lnTo>
                    <a:lnTo>
                      <a:pt x="216" y="3645"/>
                    </a:lnTo>
                    <a:lnTo>
                      <a:pt x="236" y="3577"/>
                    </a:lnTo>
                    <a:lnTo>
                      <a:pt x="255" y="3509"/>
                    </a:lnTo>
                    <a:lnTo>
                      <a:pt x="274" y="3441"/>
                    </a:lnTo>
                    <a:lnTo>
                      <a:pt x="291" y="3373"/>
                    </a:lnTo>
                    <a:lnTo>
                      <a:pt x="308" y="3304"/>
                    </a:lnTo>
                    <a:lnTo>
                      <a:pt x="324" y="3235"/>
                    </a:lnTo>
                    <a:lnTo>
                      <a:pt x="341" y="3166"/>
                    </a:lnTo>
                    <a:lnTo>
                      <a:pt x="356" y="3096"/>
                    </a:lnTo>
                    <a:lnTo>
                      <a:pt x="369" y="3026"/>
                    </a:lnTo>
                    <a:lnTo>
                      <a:pt x="383" y="2956"/>
                    </a:lnTo>
                    <a:lnTo>
                      <a:pt x="396" y="2885"/>
                    </a:lnTo>
                    <a:lnTo>
                      <a:pt x="407" y="2815"/>
                    </a:lnTo>
                    <a:lnTo>
                      <a:pt x="419" y="2744"/>
                    </a:lnTo>
                    <a:lnTo>
                      <a:pt x="429" y="2673"/>
                    </a:lnTo>
                    <a:lnTo>
                      <a:pt x="440" y="2602"/>
                    </a:lnTo>
                    <a:lnTo>
                      <a:pt x="448" y="2530"/>
                    </a:lnTo>
                    <a:lnTo>
                      <a:pt x="457" y="2458"/>
                    </a:lnTo>
                    <a:lnTo>
                      <a:pt x="464" y="2386"/>
                    </a:lnTo>
                    <a:lnTo>
                      <a:pt x="471" y="2314"/>
                    </a:lnTo>
                    <a:lnTo>
                      <a:pt x="477" y="2241"/>
                    </a:lnTo>
                    <a:lnTo>
                      <a:pt x="482" y="2168"/>
                    </a:lnTo>
                    <a:lnTo>
                      <a:pt x="486" y="2096"/>
                    </a:lnTo>
                    <a:lnTo>
                      <a:pt x="490" y="2022"/>
                    </a:lnTo>
                    <a:lnTo>
                      <a:pt x="493" y="1949"/>
                    </a:lnTo>
                    <a:lnTo>
                      <a:pt x="495" y="1876"/>
                    </a:lnTo>
                    <a:lnTo>
                      <a:pt x="496" y="1802"/>
                    </a:lnTo>
                    <a:lnTo>
                      <a:pt x="496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60960" y="3814920"/>
                <a:ext cx="133200" cy="1060200"/>
              </a:xfrm>
              <a:custGeom>
                <a:avLst/>
                <a:gdLst/>
                <a:ahLst/>
                <a:rect l="l" t="t" r="r" b="b"/>
                <a:pathLst>
                  <a:path w="504" h="4008">
                    <a:moveTo>
                      <a:pt x="504" y="1728"/>
                    </a:moveTo>
                    <a:lnTo>
                      <a:pt x="503" y="1616"/>
                    </a:lnTo>
                    <a:lnTo>
                      <a:pt x="500" y="1504"/>
                    </a:lnTo>
                    <a:lnTo>
                      <a:pt x="495" y="1394"/>
                    </a:lnTo>
                    <a:lnTo>
                      <a:pt x="489" y="1283"/>
                    </a:lnTo>
                    <a:lnTo>
                      <a:pt x="481" y="1174"/>
                    </a:lnTo>
                    <a:lnTo>
                      <a:pt x="471" y="1064"/>
                    </a:lnTo>
                    <a:lnTo>
                      <a:pt x="459" y="955"/>
                    </a:lnTo>
                    <a:lnTo>
                      <a:pt x="445" y="846"/>
                    </a:lnTo>
                    <a:lnTo>
                      <a:pt x="430" y="739"/>
                    </a:lnTo>
                    <a:lnTo>
                      <a:pt x="413" y="631"/>
                    </a:lnTo>
                    <a:lnTo>
                      <a:pt x="395" y="525"/>
                    </a:lnTo>
                    <a:lnTo>
                      <a:pt x="374" y="419"/>
                    </a:lnTo>
                    <a:lnTo>
                      <a:pt x="352" y="313"/>
                    </a:lnTo>
                    <a:lnTo>
                      <a:pt x="328" y="208"/>
                    </a:lnTo>
                    <a:lnTo>
                      <a:pt x="302" y="104"/>
                    </a:lnTo>
                    <a:lnTo>
                      <a:pt x="276" y="0"/>
                    </a:lnTo>
                    <a:lnTo>
                      <a:pt x="208" y="0"/>
                    </a:lnTo>
                    <a:lnTo>
                      <a:pt x="179" y="0"/>
                    </a:lnTo>
                    <a:lnTo>
                      <a:pt x="207" y="104"/>
                    </a:lnTo>
                    <a:lnTo>
                      <a:pt x="232" y="208"/>
                    </a:lnTo>
                    <a:lnTo>
                      <a:pt x="256" y="313"/>
                    </a:lnTo>
                    <a:lnTo>
                      <a:pt x="278" y="419"/>
                    </a:lnTo>
                    <a:lnTo>
                      <a:pt x="299" y="525"/>
                    </a:lnTo>
                    <a:lnTo>
                      <a:pt x="318" y="631"/>
                    </a:lnTo>
                    <a:lnTo>
                      <a:pt x="336" y="738"/>
                    </a:lnTo>
                    <a:lnTo>
                      <a:pt x="351" y="846"/>
                    </a:lnTo>
                    <a:lnTo>
                      <a:pt x="365" y="955"/>
                    </a:lnTo>
                    <a:lnTo>
                      <a:pt x="377" y="1063"/>
                    </a:lnTo>
                    <a:lnTo>
                      <a:pt x="386" y="1172"/>
                    </a:lnTo>
                    <a:lnTo>
                      <a:pt x="396" y="1283"/>
                    </a:lnTo>
                    <a:lnTo>
                      <a:pt x="401" y="1394"/>
                    </a:lnTo>
                    <a:lnTo>
                      <a:pt x="407" y="1504"/>
                    </a:lnTo>
                    <a:lnTo>
                      <a:pt x="410" y="1616"/>
                    </a:lnTo>
                    <a:lnTo>
                      <a:pt x="411" y="1728"/>
                    </a:lnTo>
                    <a:lnTo>
                      <a:pt x="410" y="1803"/>
                    </a:lnTo>
                    <a:lnTo>
                      <a:pt x="408" y="1878"/>
                    </a:lnTo>
                    <a:lnTo>
                      <a:pt x="407" y="1953"/>
                    </a:lnTo>
                    <a:lnTo>
                      <a:pt x="404" y="2027"/>
                    </a:lnTo>
                    <a:lnTo>
                      <a:pt x="400" y="2102"/>
                    </a:lnTo>
                    <a:lnTo>
                      <a:pt x="396" y="2175"/>
                    </a:lnTo>
                    <a:lnTo>
                      <a:pt x="390" y="2249"/>
                    </a:lnTo>
                    <a:lnTo>
                      <a:pt x="384" y="2323"/>
                    </a:lnTo>
                    <a:lnTo>
                      <a:pt x="376" y="2397"/>
                    </a:lnTo>
                    <a:lnTo>
                      <a:pt x="369" y="2469"/>
                    </a:lnTo>
                    <a:lnTo>
                      <a:pt x="360" y="2542"/>
                    </a:lnTo>
                    <a:lnTo>
                      <a:pt x="351" y="2615"/>
                    </a:lnTo>
                    <a:lnTo>
                      <a:pt x="340" y="2687"/>
                    </a:lnTo>
                    <a:lnTo>
                      <a:pt x="329" y="2759"/>
                    </a:lnTo>
                    <a:lnTo>
                      <a:pt x="317" y="2831"/>
                    </a:lnTo>
                    <a:lnTo>
                      <a:pt x="305" y="2903"/>
                    </a:lnTo>
                    <a:lnTo>
                      <a:pt x="292" y="2974"/>
                    </a:lnTo>
                    <a:lnTo>
                      <a:pt x="277" y="3045"/>
                    </a:lnTo>
                    <a:lnTo>
                      <a:pt x="262" y="3116"/>
                    </a:lnTo>
                    <a:lnTo>
                      <a:pt x="247" y="3186"/>
                    </a:lnTo>
                    <a:lnTo>
                      <a:pt x="230" y="3257"/>
                    </a:lnTo>
                    <a:lnTo>
                      <a:pt x="212" y="3326"/>
                    </a:lnTo>
                    <a:lnTo>
                      <a:pt x="195" y="3396"/>
                    </a:lnTo>
                    <a:lnTo>
                      <a:pt x="177" y="3465"/>
                    </a:lnTo>
                    <a:lnTo>
                      <a:pt x="157" y="3534"/>
                    </a:lnTo>
                    <a:lnTo>
                      <a:pt x="136" y="3602"/>
                    </a:lnTo>
                    <a:lnTo>
                      <a:pt x="115" y="3672"/>
                    </a:lnTo>
                    <a:lnTo>
                      <a:pt x="94" y="3740"/>
                    </a:lnTo>
                    <a:lnTo>
                      <a:pt x="72" y="3807"/>
                    </a:lnTo>
                    <a:lnTo>
                      <a:pt x="49" y="3875"/>
                    </a:lnTo>
                    <a:lnTo>
                      <a:pt x="24" y="3941"/>
                    </a:lnTo>
                    <a:lnTo>
                      <a:pt x="0" y="4008"/>
                    </a:lnTo>
                    <a:lnTo>
                      <a:pt x="107" y="3988"/>
                    </a:lnTo>
                    <a:lnTo>
                      <a:pt x="132" y="3922"/>
                    </a:lnTo>
                    <a:lnTo>
                      <a:pt x="155" y="3855"/>
                    </a:lnTo>
                    <a:lnTo>
                      <a:pt x="177" y="3788"/>
                    </a:lnTo>
                    <a:lnTo>
                      <a:pt x="198" y="3720"/>
                    </a:lnTo>
                    <a:lnTo>
                      <a:pt x="219" y="3653"/>
                    </a:lnTo>
                    <a:lnTo>
                      <a:pt x="239" y="3585"/>
                    </a:lnTo>
                    <a:lnTo>
                      <a:pt x="258" y="3517"/>
                    </a:lnTo>
                    <a:lnTo>
                      <a:pt x="278" y="3449"/>
                    </a:lnTo>
                    <a:lnTo>
                      <a:pt x="295" y="3380"/>
                    </a:lnTo>
                    <a:lnTo>
                      <a:pt x="313" y="3311"/>
                    </a:lnTo>
                    <a:lnTo>
                      <a:pt x="330" y="3242"/>
                    </a:lnTo>
                    <a:lnTo>
                      <a:pt x="345" y="3173"/>
                    </a:lnTo>
                    <a:lnTo>
                      <a:pt x="361" y="3102"/>
                    </a:lnTo>
                    <a:lnTo>
                      <a:pt x="375" y="3032"/>
                    </a:lnTo>
                    <a:lnTo>
                      <a:pt x="389" y="2962"/>
                    </a:lnTo>
                    <a:lnTo>
                      <a:pt x="401" y="2891"/>
                    </a:lnTo>
                    <a:lnTo>
                      <a:pt x="414" y="2820"/>
                    </a:lnTo>
                    <a:lnTo>
                      <a:pt x="426" y="2748"/>
                    </a:lnTo>
                    <a:lnTo>
                      <a:pt x="436" y="2678"/>
                    </a:lnTo>
                    <a:lnTo>
                      <a:pt x="446" y="2605"/>
                    </a:lnTo>
                    <a:lnTo>
                      <a:pt x="455" y="2534"/>
                    </a:lnTo>
                    <a:lnTo>
                      <a:pt x="464" y="2461"/>
                    </a:lnTo>
                    <a:lnTo>
                      <a:pt x="471" y="2390"/>
                    </a:lnTo>
                    <a:lnTo>
                      <a:pt x="478" y="2317"/>
                    </a:lnTo>
                    <a:lnTo>
                      <a:pt x="483" y="2243"/>
                    </a:lnTo>
                    <a:lnTo>
                      <a:pt x="489" y="2171"/>
                    </a:lnTo>
                    <a:lnTo>
                      <a:pt x="494" y="2097"/>
                    </a:lnTo>
                    <a:lnTo>
                      <a:pt x="497" y="2024"/>
                    </a:lnTo>
                    <a:lnTo>
                      <a:pt x="500" y="1951"/>
                    </a:lnTo>
                    <a:lnTo>
                      <a:pt x="502" y="1877"/>
                    </a:lnTo>
                    <a:lnTo>
                      <a:pt x="503" y="1802"/>
                    </a:lnTo>
                    <a:lnTo>
                      <a:pt x="504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46560" y="3814920"/>
                <a:ext cx="135000" cy="1063440"/>
              </a:xfrm>
              <a:custGeom>
                <a:avLst/>
                <a:gdLst/>
                <a:ahLst/>
                <a:rect l="l" t="t" r="r" b="b"/>
                <a:pathLst>
                  <a:path w="511" h="4019">
                    <a:moveTo>
                      <a:pt x="511" y="1728"/>
                    </a:moveTo>
                    <a:lnTo>
                      <a:pt x="510" y="1616"/>
                    </a:lnTo>
                    <a:lnTo>
                      <a:pt x="507" y="1504"/>
                    </a:lnTo>
                    <a:lnTo>
                      <a:pt x="503" y="1394"/>
                    </a:lnTo>
                    <a:lnTo>
                      <a:pt x="496" y="1283"/>
                    </a:lnTo>
                    <a:lnTo>
                      <a:pt x="488" y="1172"/>
                    </a:lnTo>
                    <a:lnTo>
                      <a:pt x="477" y="1063"/>
                    </a:lnTo>
                    <a:lnTo>
                      <a:pt x="466" y="955"/>
                    </a:lnTo>
                    <a:lnTo>
                      <a:pt x="452" y="846"/>
                    </a:lnTo>
                    <a:lnTo>
                      <a:pt x="437" y="738"/>
                    </a:lnTo>
                    <a:lnTo>
                      <a:pt x="420" y="631"/>
                    </a:lnTo>
                    <a:lnTo>
                      <a:pt x="401" y="525"/>
                    </a:lnTo>
                    <a:lnTo>
                      <a:pt x="380" y="419"/>
                    </a:lnTo>
                    <a:lnTo>
                      <a:pt x="357" y="313"/>
                    </a:lnTo>
                    <a:lnTo>
                      <a:pt x="334" y="208"/>
                    </a:lnTo>
                    <a:lnTo>
                      <a:pt x="308" y="104"/>
                    </a:lnTo>
                    <a:lnTo>
                      <a:pt x="281" y="0"/>
                    </a:lnTo>
                    <a:lnTo>
                      <a:pt x="262" y="0"/>
                    </a:lnTo>
                    <a:lnTo>
                      <a:pt x="188" y="0"/>
                    </a:lnTo>
                    <a:lnTo>
                      <a:pt x="184" y="1"/>
                    </a:lnTo>
                    <a:lnTo>
                      <a:pt x="212" y="105"/>
                    </a:lnTo>
                    <a:lnTo>
                      <a:pt x="239" y="209"/>
                    </a:lnTo>
                    <a:lnTo>
                      <a:pt x="263" y="314"/>
                    </a:lnTo>
                    <a:lnTo>
                      <a:pt x="285" y="419"/>
                    </a:lnTo>
                    <a:lnTo>
                      <a:pt x="306" y="525"/>
                    </a:lnTo>
                    <a:lnTo>
                      <a:pt x="325" y="632"/>
                    </a:lnTo>
                    <a:lnTo>
                      <a:pt x="342" y="739"/>
                    </a:lnTo>
                    <a:lnTo>
                      <a:pt x="359" y="846"/>
                    </a:lnTo>
                    <a:lnTo>
                      <a:pt x="372" y="955"/>
                    </a:lnTo>
                    <a:lnTo>
                      <a:pt x="384" y="1064"/>
                    </a:lnTo>
                    <a:lnTo>
                      <a:pt x="394" y="1174"/>
                    </a:lnTo>
                    <a:lnTo>
                      <a:pt x="402" y="1283"/>
                    </a:lnTo>
                    <a:lnTo>
                      <a:pt x="409" y="1394"/>
                    </a:lnTo>
                    <a:lnTo>
                      <a:pt x="414" y="1504"/>
                    </a:lnTo>
                    <a:lnTo>
                      <a:pt x="417" y="1616"/>
                    </a:lnTo>
                    <a:lnTo>
                      <a:pt x="417" y="1728"/>
                    </a:lnTo>
                    <a:lnTo>
                      <a:pt x="417" y="1803"/>
                    </a:lnTo>
                    <a:lnTo>
                      <a:pt x="416" y="1879"/>
                    </a:lnTo>
                    <a:lnTo>
                      <a:pt x="414" y="1954"/>
                    </a:lnTo>
                    <a:lnTo>
                      <a:pt x="410" y="2029"/>
                    </a:lnTo>
                    <a:lnTo>
                      <a:pt x="407" y="2104"/>
                    </a:lnTo>
                    <a:lnTo>
                      <a:pt x="402" y="2178"/>
                    </a:lnTo>
                    <a:lnTo>
                      <a:pt x="397" y="2251"/>
                    </a:lnTo>
                    <a:lnTo>
                      <a:pt x="391" y="2326"/>
                    </a:lnTo>
                    <a:lnTo>
                      <a:pt x="383" y="2400"/>
                    </a:lnTo>
                    <a:lnTo>
                      <a:pt x="376" y="2473"/>
                    </a:lnTo>
                    <a:lnTo>
                      <a:pt x="367" y="2547"/>
                    </a:lnTo>
                    <a:lnTo>
                      <a:pt x="357" y="2619"/>
                    </a:lnTo>
                    <a:lnTo>
                      <a:pt x="346" y="2692"/>
                    </a:lnTo>
                    <a:lnTo>
                      <a:pt x="336" y="2764"/>
                    </a:lnTo>
                    <a:lnTo>
                      <a:pt x="323" y="2837"/>
                    </a:lnTo>
                    <a:lnTo>
                      <a:pt x="310" y="2909"/>
                    </a:lnTo>
                    <a:lnTo>
                      <a:pt x="296" y="2980"/>
                    </a:lnTo>
                    <a:lnTo>
                      <a:pt x="282" y="3051"/>
                    </a:lnTo>
                    <a:lnTo>
                      <a:pt x="266" y="3123"/>
                    </a:lnTo>
                    <a:lnTo>
                      <a:pt x="251" y="3193"/>
                    </a:lnTo>
                    <a:lnTo>
                      <a:pt x="234" y="3264"/>
                    </a:lnTo>
                    <a:lnTo>
                      <a:pt x="217" y="3334"/>
                    </a:lnTo>
                    <a:lnTo>
                      <a:pt x="198" y="3404"/>
                    </a:lnTo>
                    <a:lnTo>
                      <a:pt x="180" y="3473"/>
                    </a:lnTo>
                    <a:lnTo>
                      <a:pt x="159" y="3543"/>
                    </a:lnTo>
                    <a:lnTo>
                      <a:pt x="139" y="3612"/>
                    </a:lnTo>
                    <a:lnTo>
                      <a:pt x="118" y="3681"/>
                    </a:lnTo>
                    <a:lnTo>
                      <a:pt x="96" y="3749"/>
                    </a:lnTo>
                    <a:lnTo>
                      <a:pt x="73" y="3817"/>
                    </a:lnTo>
                    <a:lnTo>
                      <a:pt x="49" y="3884"/>
                    </a:lnTo>
                    <a:lnTo>
                      <a:pt x="25" y="3952"/>
                    </a:lnTo>
                    <a:lnTo>
                      <a:pt x="0" y="4019"/>
                    </a:lnTo>
                    <a:lnTo>
                      <a:pt x="108" y="3998"/>
                    </a:lnTo>
                    <a:lnTo>
                      <a:pt x="133" y="3931"/>
                    </a:lnTo>
                    <a:lnTo>
                      <a:pt x="156" y="3864"/>
                    </a:lnTo>
                    <a:lnTo>
                      <a:pt x="179" y="3797"/>
                    </a:lnTo>
                    <a:lnTo>
                      <a:pt x="201" y="3729"/>
                    </a:lnTo>
                    <a:lnTo>
                      <a:pt x="221" y="3662"/>
                    </a:lnTo>
                    <a:lnTo>
                      <a:pt x="242" y="3594"/>
                    </a:lnTo>
                    <a:lnTo>
                      <a:pt x="262" y="3525"/>
                    </a:lnTo>
                    <a:lnTo>
                      <a:pt x="281" y="3457"/>
                    </a:lnTo>
                    <a:lnTo>
                      <a:pt x="300" y="3388"/>
                    </a:lnTo>
                    <a:lnTo>
                      <a:pt x="317" y="3319"/>
                    </a:lnTo>
                    <a:lnTo>
                      <a:pt x="334" y="3249"/>
                    </a:lnTo>
                    <a:lnTo>
                      <a:pt x="351" y="3179"/>
                    </a:lnTo>
                    <a:lnTo>
                      <a:pt x="366" y="3109"/>
                    </a:lnTo>
                    <a:lnTo>
                      <a:pt x="380" y="3039"/>
                    </a:lnTo>
                    <a:lnTo>
                      <a:pt x="394" y="2967"/>
                    </a:lnTo>
                    <a:lnTo>
                      <a:pt x="407" y="2897"/>
                    </a:lnTo>
                    <a:lnTo>
                      <a:pt x="420" y="2826"/>
                    </a:lnTo>
                    <a:lnTo>
                      <a:pt x="431" y="2754"/>
                    </a:lnTo>
                    <a:lnTo>
                      <a:pt x="443" y="2683"/>
                    </a:lnTo>
                    <a:lnTo>
                      <a:pt x="452" y="2610"/>
                    </a:lnTo>
                    <a:lnTo>
                      <a:pt x="461" y="2539"/>
                    </a:lnTo>
                    <a:lnTo>
                      <a:pt x="470" y="2466"/>
                    </a:lnTo>
                    <a:lnTo>
                      <a:pt x="477" y="2393"/>
                    </a:lnTo>
                    <a:lnTo>
                      <a:pt x="484" y="2319"/>
                    </a:lnTo>
                    <a:lnTo>
                      <a:pt x="491" y="2247"/>
                    </a:lnTo>
                    <a:lnTo>
                      <a:pt x="496" y="2173"/>
                    </a:lnTo>
                    <a:lnTo>
                      <a:pt x="500" y="2099"/>
                    </a:lnTo>
                    <a:lnTo>
                      <a:pt x="505" y="2026"/>
                    </a:lnTo>
                    <a:lnTo>
                      <a:pt x="507" y="1952"/>
                    </a:lnTo>
                    <a:lnTo>
                      <a:pt x="510" y="1877"/>
                    </a:lnTo>
                    <a:lnTo>
                      <a:pt x="511" y="1803"/>
                    </a:lnTo>
                    <a:lnTo>
                      <a:pt x="511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32520" y="3814920"/>
                <a:ext cx="136440" cy="1064880"/>
              </a:xfrm>
              <a:custGeom>
                <a:avLst/>
                <a:gdLst/>
                <a:ahLst/>
                <a:rect l="l" t="t" r="r" b="b"/>
                <a:pathLst>
                  <a:path w="518" h="4028">
                    <a:moveTo>
                      <a:pt x="518" y="1728"/>
                    </a:moveTo>
                    <a:lnTo>
                      <a:pt x="517" y="1616"/>
                    </a:lnTo>
                    <a:lnTo>
                      <a:pt x="514" y="1504"/>
                    </a:lnTo>
                    <a:lnTo>
                      <a:pt x="508" y="1394"/>
                    </a:lnTo>
                    <a:lnTo>
                      <a:pt x="503" y="1283"/>
                    </a:lnTo>
                    <a:lnTo>
                      <a:pt x="493" y="1172"/>
                    </a:lnTo>
                    <a:lnTo>
                      <a:pt x="484" y="1063"/>
                    </a:lnTo>
                    <a:lnTo>
                      <a:pt x="472" y="955"/>
                    </a:lnTo>
                    <a:lnTo>
                      <a:pt x="458" y="846"/>
                    </a:lnTo>
                    <a:lnTo>
                      <a:pt x="443" y="738"/>
                    </a:lnTo>
                    <a:lnTo>
                      <a:pt x="425" y="631"/>
                    </a:lnTo>
                    <a:lnTo>
                      <a:pt x="406" y="525"/>
                    </a:lnTo>
                    <a:lnTo>
                      <a:pt x="385" y="419"/>
                    </a:lnTo>
                    <a:lnTo>
                      <a:pt x="363" y="313"/>
                    </a:lnTo>
                    <a:lnTo>
                      <a:pt x="339" y="208"/>
                    </a:lnTo>
                    <a:lnTo>
                      <a:pt x="314" y="104"/>
                    </a:lnTo>
                    <a:lnTo>
                      <a:pt x="286" y="0"/>
                    </a:lnTo>
                    <a:lnTo>
                      <a:pt x="241" y="0"/>
                    </a:lnTo>
                    <a:lnTo>
                      <a:pt x="196" y="23"/>
                    </a:lnTo>
                    <a:lnTo>
                      <a:pt x="222" y="126"/>
                    </a:lnTo>
                    <a:lnTo>
                      <a:pt x="248" y="228"/>
                    </a:lnTo>
                    <a:lnTo>
                      <a:pt x="272" y="332"/>
                    </a:lnTo>
                    <a:lnTo>
                      <a:pt x="294" y="436"/>
                    </a:lnTo>
                    <a:lnTo>
                      <a:pt x="315" y="541"/>
                    </a:lnTo>
                    <a:lnTo>
                      <a:pt x="333" y="646"/>
                    </a:lnTo>
                    <a:lnTo>
                      <a:pt x="350" y="752"/>
                    </a:lnTo>
                    <a:lnTo>
                      <a:pt x="365" y="858"/>
                    </a:lnTo>
                    <a:lnTo>
                      <a:pt x="379" y="965"/>
                    </a:lnTo>
                    <a:lnTo>
                      <a:pt x="391" y="1072"/>
                    </a:lnTo>
                    <a:lnTo>
                      <a:pt x="401" y="1181"/>
                    </a:lnTo>
                    <a:lnTo>
                      <a:pt x="409" y="1289"/>
                    </a:lnTo>
                    <a:lnTo>
                      <a:pt x="416" y="1398"/>
                    </a:lnTo>
                    <a:lnTo>
                      <a:pt x="421" y="1508"/>
                    </a:lnTo>
                    <a:lnTo>
                      <a:pt x="423" y="1617"/>
                    </a:lnTo>
                    <a:lnTo>
                      <a:pt x="424" y="1728"/>
                    </a:lnTo>
                    <a:lnTo>
                      <a:pt x="424" y="1804"/>
                    </a:lnTo>
                    <a:lnTo>
                      <a:pt x="422" y="1879"/>
                    </a:lnTo>
                    <a:lnTo>
                      <a:pt x="421" y="1955"/>
                    </a:lnTo>
                    <a:lnTo>
                      <a:pt x="417" y="2030"/>
                    </a:lnTo>
                    <a:lnTo>
                      <a:pt x="414" y="2105"/>
                    </a:lnTo>
                    <a:lnTo>
                      <a:pt x="408" y="2180"/>
                    </a:lnTo>
                    <a:lnTo>
                      <a:pt x="402" y="2255"/>
                    </a:lnTo>
                    <a:lnTo>
                      <a:pt x="397" y="2329"/>
                    </a:lnTo>
                    <a:lnTo>
                      <a:pt x="389" y="2402"/>
                    </a:lnTo>
                    <a:lnTo>
                      <a:pt x="380" y="2476"/>
                    </a:lnTo>
                    <a:lnTo>
                      <a:pt x="372" y="2550"/>
                    </a:lnTo>
                    <a:lnTo>
                      <a:pt x="362" y="2624"/>
                    </a:lnTo>
                    <a:lnTo>
                      <a:pt x="352" y="2696"/>
                    </a:lnTo>
                    <a:lnTo>
                      <a:pt x="340" y="2769"/>
                    </a:lnTo>
                    <a:lnTo>
                      <a:pt x="327" y="2842"/>
                    </a:lnTo>
                    <a:lnTo>
                      <a:pt x="315" y="2914"/>
                    </a:lnTo>
                    <a:lnTo>
                      <a:pt x="301" y="2986"/>
                    </a:lnTo>
                    <a:lnTo>
                      <a:pt x="286" y="3057"/>
                    </a:lnTo>
                    <a:lnTo>
                      <a:pt x="271" y="3129"/>
                    </a:lnTo>
                    <a:lnTo>
                      <a:pt x="255" y="3200"/>
                    </a:lnTo>
                    <a:lnTo>
                      <a:pt x="237" y="3270"/>
                    </a:lnTo>
                    <a:lnTo>
                      <a:pt x="220" y="3341"/>
                    </a:lnTo>
                    <a:lnTo>
                      <a:pt x="202" y="3411"/>
                    </a:lnTo>
                    <a:lnTo>
                      <a:pt x="182" y="3481"/>
                    </a:lnTo>
                    <a:lnTo>
                      <a:pt x="161" y="3551"/>
                    </a:lnTo>
                    <a:lnTo>
                      <a:pt x="141" y="3620"/>
                    </a:lnTo>
                    <a:lnTo>
                      <a:pt x="120" y="3689"/>
                    </a:lnTo>
                    <a:lnTo>
                      <a:pt x="97" y="3757"/>
                    </a:lnTo>
                    <a:lnTo>
                      <a:pt x="74" y="3825"/>
                    </a:lnTo>
                    <a:lnTo>
                      <a:pt x="49" y="3893"/>
                    </a:lnTo>
                    <a:lnTo>
                      <a:pt x="25" y="3961"/>
                    </a:lnTo>
                    <a:lnTo>
                      <a:pt x="0" y="4028"/>
                    </a:lnTo>
                    <a:lnTo>
                      <a:pt x="49" y="4019"/>
                    </a:lnTo>
                    <a:lnTo>
                      <a:pt x="107" y="4008"/>
                    </a:lnTo>
                    <a:lnTo>
                      <a:pt x="131" y="3941"/>
                    </a:lnTo>
                    <a:lnTo>
                      <a:pt x="156" y="3875"/>
                    </a:lnTo>
                    <a:lnTo>
                      <a:pt x="179" y="3807"/>
                    </a:lnTo>
                    <a:lnTo>
                      <a:pt x="201" y="3740"/>
                    </a:lnTo>
                    <a:lnTo>
                      <a:pt x="222" y="3672"/>
                    </a:lnTo>
                    <a:lnTo>
                      <a:pt x="243" y="3602"/>
                    </a:lnTo>
                    <a:lnTo>
                      <a:pt x="264" y="3534"/>
                    </a:lnTo>
                    <a:lnTo>
                      <a:pt x="284" y="3465"/>
                    </a:lnTo>
                    <a:lnTo>
                      <a:pt x="302" y="3396"/>
                    </a:lnTo>
                    <a:lnTo>
                      <a:pt x="319" y="3326"/>
                    </a:lnTo>
                    <a:lnTo>
                      <a:pt x="337" y="3257"/>
                    </a:lnTo>
                    <a:lnTo>
                      <a:pt x="354" y="3186"/>
                    </a:lnTo>
                    <a:lnTo>
                      <a:pt x="369" y="3116"/>
                    </a:lnTo>
                    <a:lnTo>
                      <a:pt x="384" y="3045"/>
                    </a:lnTo>
                    <a:lnTo>
                      <a:pt x="399" y="2974"/>
                    </a:lnTo>
                    <a:lnTo>
                      <a:pt x="412" y="2903"/>
                    </a:lnTo>
                    <a:lnTo>
                      <a:pt x="424" y="2831"/>
                    </a:lnTo>
                    <a:lnTo>
                      <a:pt x="436" y="2759"/>
                    </a:lnTo>
                    <a:lnTo>
                      <a:pt x="447" y="2687"/>
                    </a:lnTo>
                    <a:lnTo>
                      <a:pt x="458" y="2615"/>
                    </a:lnTo>
                    <a:lnTo>
                      <a:pt x="467" y="2542"/>
                    </a:lnTo>
                    <a:lnTo>
                      <a:pt x="476" y="2469"/>
                    </a:lnTo>
                    <a:lnTo>
                      <a:pt x="483" y="2397"/>
                    </a:lnTo>
                    <a:lnTo>
                      <a:pt x="491" y="2323"/>
                    </a:lnTo>
                    <a:lnTo>
                      <a:pt x="497" y="2249"/>
                    </a:lnTo>
                    <a:lnTo>
                      <a:pt x="503" y="2175"/>
                    </a:lnTo>
                    <a:lnTo>
                      <a:pt x="507" y="2102"/>
                    </a:lnTo>
                    <a:lnTo>
                      <a:pt x="511" y="2027"/>
                    </a:lnTo>
                    <a:lnTo>
                      <a:pt x="514" y="1953"/>
                    </a:lnTo>
                    <a:lnTo>
                      <a:pt x="515" y="1878"/>
                    </a:lnTo>
                    <a:lnTo>
                      <a:pt x="517" y="1803"/>
                    </a:lnTo>
                    <a:lnTo>
                      <a:pt x="518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18120" y="3814920"/>
                <a:ext cx="139680" cy="1068120"/>
              </a:xfrm>
              <a:custGeom>
                <a:avLst/>
                <a:gdLst/>
                <a:ahLst/>
                <a:rect l="l" t="t" r="r" b="b"/>
                <a:pathLst>
                  <a:path w="523" h="4036">
                    <a:moveTo>
                      <a:pt x="523" y="1727"/>
                    </a:moveTo>
                    <a:lnTo>
                      <a:pt x="523" y="1615"/>
                    </a:lnTo>
                    <a:lnTo>
                      <a:pt x="520" y="1503"/>
                    </a:lnTo>
                    <a:lnTo>
                      <a:pt x="515" y="1393"/>
                    </a:lnTo>
                    <a:lnTo>
                      <a:pt x="508" y="1282"/>
                    </a:lnTo>
                    <a:lnTo>
                      <a:pt x="500" y="1173"/>
                    </a:lnTo>
                    <a:lnTo>
                      <a:pt x="490" y="1063"/>
                    </a:lnTo>
                    <a:lnTo>
                      <a:pt x="478" y="954"/>
                    </a:lnTo>
                    <a:lnTo>
                      <a:pt x="465" y="845"/>
                    </a:lnTo>
                    <a:lnTo>
                      <a:pt x="448" y="738"/>
                    </a:lnTo>
                    <a:lnTo>
                      <a:pt x="431" y="631"/>
                    </a:lnTo>
                    <a:lnTo>
                      <a:pt x="412" y="524"/>
                    </a:lnTo>
                    <a:lnTo>
                      <a:pt x="391" y="418"/>
                    </a:lnTo>
                    <a:lnTo>
                      <a:pt x="369" y="313"/>
                    </a:lnTo>
                    <a:lnTo>
                      <a:pt x="345" y="208"/>
                    </a:lnTo>
                    <a:lnTo>
                      <a:pt x="318" y="104"/>
                    </a:lnTo>
                    <a:lnTo>
                      <a:pt x="290" y="0"/>
                    </a:lnTo>
                    <a:lnTo>
                      <a:pt x="217" y="39"/>
                    </a:lnTo>
                    <a:lnTo>
                      <a:pt x="205" y="39"/>
                    </a:lnTo>
                    <a:lnTo>
                      <a:pt x="232" y="141"/>
                    </a:lnTo>
                    <a:lnTo>
                      <a:pt x="257" y="242"/>
                    </a:lnTo>
                    <a:lnTo>
                      <a:pt x="280" y="345"/>
                    </a:lnTo>
                    <a:lnTo>
                      <a:pt x="302" y="448"/>
                    </a:lnTo>
                    <a:lnTo>
                      <a:pt x="323" y="551"/>
                    </a:lnTo>
                    <a:lnTo>
                      <a:pt x="341" y="655"/>
                    </a:lnTo>
                    <a:lnTo>
                      <a:pt x="357" y="760"/>
                    </a:lnTo>
                    <a:lnTo>
                      <a:pt x="372" y="866"/>
                    </a:lnTo>
                    <a:lnTo>
                      <a:pt x="386" y="972"/>
                    </a:lnTo>
                    <a:lnTo>
                      <a:pt x="398" y="1078"/>
                    </a:lnTo>
                    <a:lnTo>
                      <a:pt x="408" y="1185"/>
                    </a:lnTo>
                    <a:lnTo>
                      <a:pt x="416" y="1293"/>
                    </a:lnTo>
                    <a:lnTo>
                      <a:pt x="422" y="1401"/>
                    </a:lnTo>
                    <a:lnTo>
                      <a:pt x="427" y="1509"/>
                    </a:lnTo>
                    <a:lnTo>
                      <a:pt x="430" y="1618"/>
                    </a:lnTo>
                    <a:lnTo>
                      <a:pt x="431" y="1727"/>
                    </a:lnTo>
                    <a:lnTo>
                      <a:pt x="430" y="1803"/>
                    </a:lnTo>
                    <a:lnTo>
                      <a:pt x="429" y="1879"/>
                    </a:lnTo>
                    <a:lnTo>
                      <a:pt x="427" y="1955"/>
                    </a:lnTo>
                    <a:lnTo>
                      <a:pt x="423" y="2030"/>
                    </a:lnTo>
                    <a:lnTo>
                      <a:pt x="420" y="2106"/>
                    </a:lnTo>
                    <a:lnTo>
                      <a:pt x="415" y="2181"/>
                    </a:lnTo>
                    <a:lnTo>
                      <a:pt x="409" y="2256"/>
                    </a:lnTo>
                    <a:lnTo>
                      <a:pt x="402" y="2331"/>
                    </a:lnTo>
                    <a:lnTo>
                      <a:pt x="395" y="2405"/>
                    </a:lnTo>
                    <a:lnTo>
                      <a:pt x="386" y="2479"/>
                    </a:lnTo>
                    <a:lnTo>
                      <a:pt x="377" y="2554"/>
                    </a:lnTo>
                    <a:lnTo>
                      <a:pt x="368" y="2626"/>
                    </a:lnTo>
                    <a:lnTo>
                      <a:pt x="356" y="2700"/>
                    </a:lnTo>
                    <a:lnTo>
                      <a:pt x="345" y="2773"/>
                    </a:lnTo>
                    <a:lnTo>
                      <a:pt x="333" y="2846"/>
                    </a:lnTo>
                    <a:lnTo>
                      <a:pt x="319" y="2918"/>
                    </a:lnTo>
                    <a:lnTo>
                      <a:pt x="305" y="2991"/>
                    </a:lnTo>
                    <a:lnTo>
                      <a:pt x="290" y="3062"/>
                    </a:lnTo>
                    <a:lnTo>
                      <a:pt x="274" y="3135"/>
                    </a:lnTo>
                    <a:lnTo>
                      <a:pt x="258" y="3206"/>
                    </a:lnTo>
                    <a:lnTo>
                      <a:pt x="241" y="3276"/>
                    </a:lnTo>
                    <a:lnTo>
                      <a:pt x="222" y="3348"/>
                    </a:lnTo>
                    <a:lnTo>
                      <a:pt x="204" y="3418"/>
                    </a:lnTo>
                    <a:lnTo>
                      <a:pt x="184" y="3487"/>
                    </a:lnTo>
                    <a:lnTo>
                      <a:pt x="164" y="3558"/>
                    </a:lnTo>
                    <a:lnTo>
                      <a:pt x="143" y="3627"/>
                    </a:lnTo>
                    <a:lnTo>
                      <a:pt x="121" y="3696"/>
                    </a:lnTo>
                    <a:lnTo>
                      <a:pt x="98" y="3765"/>
                    </a:lnTo>
                    <a:lnTo>
                      <a:pt x="75" y="3833"/>
                    </a:lnTo>
                    <a:lnTo>
                      <a:pt x="51" y="3901"/>
                    </a:lnTo>
                    <a:lnTo>
                      <a:pt x="25" y="3969"/>
                    </a:lnTo>
                    <a:lnTo>
                      <a:pt x="0" y="4036"/>
                    </a:lnTo>
                    <a:lnTo>
                      <a:pt x="102" y="4018"/>
                    </a:lnTo>
                    <a:lnTo>
                      <a:pt x="106" y="4018"/>
                    </a:lnTo>
                    <a:lnTo>
                      <a:pt x="131" y="3951"/>
                    </a:lnTo>
                    <a:lnTo>
                      <a:pt x="155" y="3883"/>
                    </a:lnTo>
                    <a:lnTo>
                      <a:pt x="179" y="3816"/>
                    </a:lnTo>
                    <a:lnTo>
                      <a:pt x="202" y="3748"/>
                    </a:lnTo>
                    <a:lnTo>
                      <a:pt x="224" y="3680"/>
                    </a:lnTo>
                    <a:lnTo>
                      <a:pt x="245" y="3611"/>
                    </a:lnTo>
                    <a:lnTo>
                      <a:pt x="265" y="3542"/>
                    </a:lnTo>
                    <a:lnTo>
                      <a:pt x="286" y="3472"/>
                    </a:lnTo>
                    <a:lnTo>
                      <a:pt x="304" y="3403"/>
                    </a:lnTo>
                    <a:lnTo>
                      <a:pt x="323" y="3333"/>
                    </a:lnTo>
                    <a:lnTo>
                      <a:pt x="340" y="3263"/>
                    </a:lnTo>
                    <a:lnTo>
                      <a:pt x="357" y="3192"/>
                    </a:lnTo>
                    <a:lnTo>
                      <a:pt x="372" y="3122"/>
                    </a:lnTo>
                    <a:lnTo>
                      <a:pt x="388" y="3050"/>
                    </a:lnTo>
                    <a:lnTo>
                      <a:pt x="402" y="2979"/>
                    </a:lnTo>
                    <a:lnTo>
                      <a:pt x="416" y="2908"/>
                    </a:lnTo>
                    <a:lnTo>
                      <a:pt x="429" y="2836"/>
                    </a:lnTo>
                    <a:lnTo>
                      <a:pt x="442" y="2763"/>
                    </a:lnTo>
                    <a:lnTo>
                      <a:pt x="452" y="2691"/>
                    </a:lnTo>
                    <a:lnTo>
                      <a:pt x="463" y="2618"/>
                    </a:lnTo>
                    <a:lnTo>
                      <a:pt x="473" y="2546"/>
                    </a:lnTo>
                    <a:lnTo>
                      <a:pt x="482" y="2472"/>
                    </a:lnTo>
                    <a:lnTo>
                      <a:pt x="489" y="2399"/>
                    </a:lnTo>
                    <a:lnTo>
                      <a:pt x="497" y="2325"/>
                    </a:lnTo>
                    <a:lnTo>
                      <a:pt x="503" y="2250"/>
                    </a:lnTo>
                    <a:lnTo>
                      <a:pt x="508" y="2177"/>
                    </a:lnTo>
                    <a:lnTo>
                      <a:pt x="513" y="2103"/>
                    </a:lnTo>
                    <a:lnTo>
                      <a:pt x="516" y="2028"/>
                    </a:lnTo>
                    <a:lnTo>
                      <a:pt x="520" y="1953"/>
                    </a:lnTo>
                    <a:lnTo>
                      <a:pt x="522" y="1878"/>
                    </a:lnTo>
                    <a:lnTo>
                      <a:pt x="523" y="1802"/>
                    </a:lnTo>
                    <a:lnTo>
                      <a:pt x="523" y="17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03720" y="3821040"/>
                <a:ext cx="141480" cy="1065240"/>
              </a:xfrm>
              <a:custGeom>
                <a:avLst/>
                <a:gdLst/>
                <a:ahLst/>
                <a:rect l="l" t="t" r="r" b="b"/>
                <a:pathLst>
                  <a:path w="530" h="4023">
                    <a:moveTo>
                      <a:pt x="530" y="1705"/>
                    </a:moveTo>
                    <a:lnTo>
                      <a:pt x="529" y="1594"/>
                    </a:lnTo>
                    <a:lnTo>
                      <a:pt x="527" y="1485"/>
                    </a:lnTo>
                    <a:lnTo>
                      <a:pt x="522" y="1375"/>
                    </a:lnTo>
                    <a:lnTo>
                      <a:pt x="515" y="1266"/>
                    </a:lnTo>
                    <a:lnTo>
                      <a:pt x="507" y="1158"/>
                    </a:lnTo>
                    <a:lnTo>
                      <a:pt x="497" y="1049"/>
                    </a:lnTo>
                    <a:lnTo>
                      <a:pt x="485" y="942"/>
                    </a:lnTo>
                    <a:lnTo>
                      <a:pt x="471" y="835"/>
                    </a:lnTo>
                    <a:lnTo>
                      <a:pt x="456" y="729"/>
                    </a:lnTo>
                    <a:lnTo>
                      <a:pt x="439" y="623"/>
                    </a:lnTo>
                    <a:lnTo>
                      <a:pt x="421" y="518"/>
                    </a:lnTo>
                    <a:lnTo>
                      <a:pt x="400" y="413"/>
                    </a:lnTo>
                    <a:lnTo>
                      <a:pt x="378" y="309"/>
                    </a:lnTo>
                    <a:lnTo>
                      <a:pt x="354" y="205"/>
                    </a:lnTo>
                    <a:lnTo>
                      <a:pt x="328" y="103"/>
                    </a:lnTo>
                    <a:lnTo>
                      <a:pt x="302" y="0"/>
                    </a:lnTo>
                    <a:lnTo>
                      <a:pt x="270" y="17"/>
                    </a:lnTo>
                    <a:lnTo>
                      <a:pt x="210" y="17"/>
                    </a:lnTo>
                    <a:lnTo>
                      <a:pt x="236" y="119"/>
                    </a:lnTo>
                    <a:lnTo>
                      <a:pt x="262" y="220"/>
                    </a:lnTo>
                    <a:lnTo>
                      <a:pt x="286" y="323"/>
                    </a:lnTo>
                    <a:lnTo>
                      <a:pt x="308" y="426"/>
                    </a:lnTo>
                    <a:lnTo>
                      <a:pt x="328" y="529"/>
                    </a:lnTo>
                    <a:lnTo>
                      <a:pt x="347" y="633"/>
                    </a:lnTo>
                    <a:lnTo>
                      <a:pt x="364" y="738"/>
                    </a:lnTo>
                    <a:lnTo>
                      <a:pt x="379" y="844"/>
                    </a:lnTo>
                    <a:lnTo>
                      <a:pt x="392" y="949"/>
                    </a:lnTo>
                    <a:lnTo>
                      <a:pt x="405" y="1056"/>
                    </a:lnTo>
                    <a:lnTo>
                      <a:pt x="414" y="1163"/>
                    </a:lnTo>
                    <a:lnTo>
                      <a:pt x="422" y="1271"/>
                    </a:lnTo>
                    <a:lnTo>
                      <a:pt x="429" y="1378"/>
                    </a:lnTo>
                    <a:lnTo>
                      <a:pt x="433" y="1486"/>
                    </a:lnTo>
                    <a:lnTo>
                      <a:pt x="436" y="1596"/>
                    </a:lnTo>
                    <a:lnTo>
                      <a:pt x="437" y="1705"/>
                    </a:lnTo>
                    <a:lnTo>
                      <a:pt x="437" y="1781"/>
                    </a:lnTo>
                    <a:lnTo>
                      <a:pt x="436" y="1858"/>
                    </a:lnTo>
                    <a:lnTo>
                      <a:pt x="433" y="1935"/>
                    </a:lnTo>
                    <a:lnTo>
                      <a:pt x="430" y="2011"/>
                    </a:lnTo>
                    <a:lnTo>
                      <a:pt x="425" y="2086"/>
                    </a:lnTo>
                    <a:lnTo>
                      <a:pt x="421" y="2162"/>
                    </a:lnTo>
                    <a:lnTo>
                      <a:pt x="415" y="2237"/>
                    </a:lnTo>
                    <a:lnTo>
                      <a:pt x="408" y="2311"/>
                    </a:lnTo>
                    <a:lnTo>
                      <a:pt x="401" y="2386"/>
                    </a:lnTo>
                    <a:lnTo>
                      <a:pt x="393" y="2460"/>
                    </a:lnTo>
                    <a:lnTo>
                      <a:pt x="383" y="2535"/>
                    </a:lnTo>
                    <a:lnTo>
                      <a:pt x="373" y="2609"/>
                    </a:lnTo>
                    <a:lnTo>
                      <a:pt x="362" y="2683"/>
                    </a:lnTo>
                    <a:lnTo>
                      <a:pt x="350" y="2756"/>
                    </a:lnTo>
                    <a:lnTo>
                      <a:pt x="338" y="2829"/>
                    </a:lnTo>
                    <a:lnTo>
                      <a:pt x="324" y="2902"/>
                    </a:lnTo>
                    <a:lnTo>
                      <a:pt x="310" y="2974"/>
                    </a:lnTo>
                    <a:lnTo>
                      <a:pt x="295" y="3047"/>
                    </a:lnTo>
                    <a:lnTo>
                      <a:pt x="279" y="3118"/>
                    </a:lnTo>
                    <a:lnTo>
                      <a:pt x="262" y="3190"/>
                    </a:lnTo>
                    <a:lnTo>
                      <a:pt x="244" y="3261"/>
                    </a:lnTo>
                    <a:lnTo>
                      <a:pt x="226" y="3333"/>
                    </a:lnTo>
                    <a:lnTo>
                      <a:pt x="207" y="3403"/>
                    </a:lnTo>
                    <a:lnTo>
                      <a:pt x="187" y="3473"/>
                    </a:lnTo>
                    <a:lnTo>
                      <a:pt x="166" y="3544"/>
                    </a:lnTo>
                    <a:lnTo>
                      <a:pt x="145" y="3613"/>
                    </a:lnTo>
                    <a:lnTo>
                      <a:pt x="122" y="3682"/>
                    </a:lnTo>
                    <a:lnTo>
                      <a:pt x="99" y="3751"/>
                    </a:lnTo>
                    <a:lnTo>
                      <a:pt x="75" y="3820"/>
                    </a:lnTo>
                    <a:lnTo>
                      <a:pt x="50" y="3888"/>
                    </a:lnTo>
                    <a:lnTo>
                      <a:pt x="25" y="3956"/>
                    </a:lnTo>
                    <a:lnTo>
                      <a:pt x="0" y="4023"/>
                    </a:lnTo>
                    <a:lnTo>
                      <a:pt x="106" y="4005"/>
                    </a:lnTo>
                    <a:lnTo>
                      <a:pt x="131" y="3938"/>
                    </a:lnTo>
                    <a:lnTo>
                      <a:pt x="155" y="3870"/>
                    </a:lnTo>
                    <a:lnTo>
                      <a:pt x="180" y="3802"/>
                    </a:lnTo>
                    <a:lnTo>
                      <a:pt x="203" y="3734"/>
                    </a:lnTo>
                    <a:lnTo>
                      <a:pt x="226" y="3666"/>
                    </a:lnTo>
                    <a:lnTo>
                      <a:pt x="247" y="3597"/>
                    </a:lnTo>
                    <a:lnTo>
                      <a:pt x="267" y="3528"/>
                    </a:lnTo>
                    <a:lnTo>
                      <a:pt x="288" y="3458"/>
                    </a:lnTo>
                    <a:lnTo>
                      <a:pt x="308" y="3388"/>
                    </a:lnTo>
                    <a:lnTo>
                      <a:pt x="326" y="3318"/>
                    </a:lnTo>
                    <a:lnTo>
                      <a:pt x="343" y="3247"/>
                    </a:lnTo>
                    <a:lnTo>
                      <a:pt x="361" y="3177"/>
                    </a:lnTo>
                    <a:lnTo>
                      <a:pt x="377" y="3106"/>
                    </a:lnTo>
                    <a:lnTo>
                      <a:pt x="392" y="3034"/>
                    </a:lnTo>
                    <a:lnTo>
                      <a:pt x="407" y="2963"/>
                    </a:lnTo>
                    <a:lnTo>
                      <a:pt x="421" y="2891"/>
                    </a:lnTo>
                    <a:lnTo>
                      <a:pt x="433" y="2819"/>
                    </a:lnTo>
                    <a:lnTo>
                      <a:pt x="446" y="2746"/>
                    </a:lnTo>
                    <a:lnTo>
                      <a:pt x="458" y="2673"/>
                    </a:lnTo>
                    <a:lnTo>
                      <a:pt x="468" y="2601"/>
                    </a:lnTo>
                    <a:lnTo>
                      <a:pt x="478" y="2527"/>
                    </a:lnTo>
                    <a:lnTo>
                      <a:pt x="486" y="2453"/>
                    </a:lnTo>
                    <a:lnTo>
                      <a:pt x="495" y="2379"/>
                    </a:lnTo>
                    <a:lnTo>
                      <a:pt x="503" y="2306"/>
                    </a:lnTo>
                    <a:lnTo>
                      <a:pt x="508" y="2232"/>
                    </a:lnTo>
                    <a:lnTo>
                      <a:pt x="514" y="2157"/>
                    </a:lnTo>
                    <a:lnTo>
                      <a:pt x="520" y="2082"/>
                    </a:lnTo>
                    <a:lnTo>
                      <a:pt x="523" y="2007"/>
                    </a:lnTo>
                    <a:lnTo>
                      <a:pt x="527" y="1932"/>
                    </a:lnTo>
                    <a:lnTo>
                      <a:pt x="528" y="1856"/>
                    </a:lnTo>
                    <a:lnTo>
                      <a:pt x="530" y="1781"/>
                    </a:lnTo>
                    <a:lnTo>
                      <a:pt x="530" y="170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89680" y="3825720"/>
                <a:ext cx="142560" cy="1062360"/>
              </a:xfrm>
              <a:custGeom>
                <a:avLst/>
                <a:gdLst/>
                <a:ahLst/>
                <a:rect l="l" t="t" r="r" b="b"/>
                <a:pathLst>
                  <a:path w="539" h="4016">
                    <a:moveTo>
                      <a:pt x="539" y="1688"/>
                    </a:moveTo>
                    <a:lnTo>
                      <a:pt x="538" y="1579"/>
                    </a:lnTo>
                    <a:lnTo>
                      <a:pt x="535" y="1470"/>
                    </a:lnTo>
                    <a:lnTo>
                      <a:pt x="530" y="1362"/>
                    </a:lnTo>
                    <a:lnTo>
                      <a:pt x="524" y="1254"/>
                    </a:lnTo>
                    <a:lnTo>
                      <a:pt x="516" y="1146"/>
                    </a:lnTo>
                    <a:lnTo>
                      <a:pt x="506" y="1039"/>
                    </a:lnTo>
                    <a:lnTo>
                      <a:pt x="494" y="933"/>
                    </a:lnTo>
                    <a:lnTo>
                      <a:pt x="481" y="827"/>
                    </a:lnTo>
                    <a:lnTo>
                      <a:pt x="465" y="721"/>
                    </a:lnTo>
                    <a:lnTo>
                      <a:pt x="449" y="616"/>
                    </a:lnTo>
                    <a:lnTo>
                      <a:pt x="431" y="512"/>
                    </a:lnTo>
                    <a:lnTo>
                      <a:pt x="410" y="409"/>
                    </a:lnTo>
                    <a:lnTo>
                      <a:pt x="388" y="306"/>
                    </a:lnTo>
                    <a:lnTo>
                      <a:pt x="365" y="203"/>
                    </a:lnTo>
                    <a:lnTo>
                      <a:pt x="340" y="102"/>
                    </a:lnTo>
                    <a:lnTo>
                      <a:pt x="313" y="0"/>
                    </a:lnTo>
                    <a:lnTo>
                      <a:pt x="247" y="0"/>
                    </a:lnTo>
                    <a:lnTo>
                      <a:pt x="216" y="0"/>
                    </a:lnTo>
                    <a:lnTo>
                      <a:pt x="243" y="102"/>
                    </a:lnTo>
                    <a:lnTo>
                      <a:pt x="269" y="203"/>
                    </a:lnTo>
                    <a:lnTo>
                      <a:pt x="292" y="306"/>
                    </a:lnTo>
                    <a:lnTo>
                      <a:pt x="315" y="409"/>
                    </a:lnTo>
                    <a:lnTo>
                      <a:pt x="335" y="512"/>
                    </a:lnTo>
                    <a:lnTo>
                      <a:pt x="355" y="616"/>
                    </a:lnTo>
                    <a:lnTo>
                      <a:pt x="372" y="721"/>
                    </a:lnTo>
                    <a:lnTo>
                      <a:pt x="387" y="826"/>
                    </a:lnTo>
                    <a:lnTo>
                      <a:pt x="401" y="932"/>
                    </a:lnTo>
                    <a:lnTo>
                      <a:pt x="412" y="1039"/>
                    </a:lnTo>
                    <a:lnTo>
                      <a:pt x="423" y="1145"/>
                    </a:lnTo>
                    <a:lnTo>
                      <a:pt x="431" y="1254"/>
                    </a:lnTo>
                    <a:lnTo>
                      <a:pt x="438" y="1361"/>
                    </a:lnTo>
                    <a:lnTo>
                      <a:pt x="442" y="1469"/>
                    </a:lnTo>
                    <a:lnTo>
                      <a:pt x="445" y="1579"/>
                    </a:lnTo>
                    <a:lnTo>
                      <a:pt x="446" y="1688"/>
                    </a:lnTo>
                    <a:lnTo>
                      <a:pt x="445" y="1765"/>
                    </a:lnTo>
                    <a:lnTo>
                      <a:pt x="443" y="1841"/>
                    </a:lnTo>
                    <a:lnTo>
                      <a:pt x="441" y="1919"/>
                    </a:lnTo>
                    <a:lnTo>
                      <a:pt x="438" y="1995"/>
                    </a:lnTo>
                    <a:lnTo>
                      <a:pt x="434" y="2071"/>
                    </a:lnTo>
                    <a:lnTo>
                      <a:pt x="428" y="2147"/>
                    </a:lnTo>
                    <a:lnTo>
                      <a:pt x="423" y="2222"/>
                    </a:lnTo>
                    <a:lnTo>
                      <a:pt x="416" y="2298"/>
                    </a:lnTo>
                    <a:lnTo>
                      <a:pt x="409" y="2373"/>
                    </a:lnTo>
                    <a:lnTo>
                      <a:pt x="400" y="2448"/>
                    </a:lnTo>
                    <a:lnTo>
                      <a:pt x="390" y="2522"/>
                    </a:lnTo>
                    <a:lnTo>
                      <a:pt x="380" y="2596"/>
                    </a:lnTo>
                    <a:lnTo>
                      <a:pt x="368" y="2670"/>
                    </a:lnTo>
                    <a:lnTo>
                      <a:pt x="357" y="2744"/>
                    </a:lnTo>
                    <a:lnTo>
                      <a:pt x="344" y="2818"/>
                    </a:lnTo>
                    <a:lnTo>
                      <a:pt x="330" y="2890"/>
                    </a:lnTo>
                    <a:lnTo>
                      <a:pt x="315" y="2963"/>
                    </a:lnTo>
                    <a:lnTo>
                      <a:pt x="300" y="3036"/>
                    </a:lnTo>
                    <a:lnTo>
                      <a:pt x="284" y="3108"/>
                    </a:lnTo>
                    <a:lnTo>
                      <a:pt x="267" y="3180"/>
                    </a:lnTo>
                    <a:lnTo>
                      <a:pt x="250" y="3251"/>
                    </a:lnTo>
                    <a:lnTo>
                      <a:pt x="230" y="3323"/>
                    </a:lnTo>
                    <a:lnTo>
                      <a:pt x="212" y="3393"/>
                    </a:lnTo>
                    <a:lnTo>
                      <a:pt x="191" y="3465"/>
                    </a:lnTo>
                    <a:lnTo>
                      <a:pt x="170" y="3535"/>
                    </a:lnTo>
                    <a:lnTo>
                      <a:pt x="148" y="3604"/>
                    </a:lnTo>
                    <a:lnTo>
                      <a:pt x="125" y="3674"/>
                    </a:lnTo>
                    <a:lnTo>
                      <a:pt x="102" y="3743"/>
                    </a:lnTo>
                    <a:lnTo>
                      <a:pt x="78" y="3811"/>
                    </a:lnTo>
                    <a:lnTo>
                      <a:pt x="52" y="3881"/>
                    </a:lnTo>
                    <a:lnTo>
                      <a:pt x="27" y="3949"/>
                    </a:lnTo>
                    <a:lnTo>
                      <a:pt x="0" y="4016"/>
                    </a:lnTo>
                    <a:lnTo>
                      <a:pt x="108" y="3997"/>
                    </a:lnTo>
                    <a:lnTo>
                      <a:pt x="133" y="3930"/>
                    </a:lnTo>
                    <a:lnTo>
                      <a:pt x="159" y="3862"/>
                    </a:lnTo>
                    <a:lnTo>
                      <a:pt x="183" y="3794"/>
                    </a:lnTo>
                    <a:lnTo>
                      <a:pt x="206" y="3726"/>
                    </a:lnTo>
                    <a:lnTo>
                      <a:pt x="229" y="3657"/>
                    </a:lnTo>
                    <a:lnTo>
                      <a:pt x="251" y="3588"/>
                    </a:lnTo>
                    <a:lnTo>
                      <a:pt x="272" y="3519"/>
                    </a:lnTo>
                    <a:lnTo>
                      <a:pt x="292" y="3448"/>
                    </a:lnTo>
                    <a:lnTo>
                      <a:pt x="312" y="3379"/>
                    </a:lnTo>
                    <a:lnTo>
                      <a:pt x="330" y="3309"/>
                    </a:lnTo>
                    <a:lnTo>
                      <a:pt x="349" y="3237"/>
                    </a:lnTo>
                    <a:lnTo>
                      <a:pt x="366" y="3167"/>
                    </a:lnTo>
                    <a:lnTo>
                      <a:pt x="382" y="3096"/>
                    </a:lnTo>
                    <a:lnTo>
                      <a:pt x="398" y="3023"/>
                    </a:lnTo>
                    <a:lnTo>
                      <a:pt x="413" y="2952"/>
                    </a:lnTo>
                    <a:lnTo>
                      <a:pt x="427" y="2879"/>
                    </a:lnTo>
                    <a:lnTo>
                      <a:pt x="441" y="2807"/>
                    </a:lnTo>
                    <a:lnTo>
                      <a:pt x="453" y="2734"/>
                    </a:lnTo>
                    <a:lnTo>
                      <a:pt x="465" y="2661"/>
                    </a:lnTo>
                    <a:lnTo>
                      <a:pt x="476" y="2587"/>
                    </a:lnTo>
                    <a:lnTo>
                      <a:pt x="486" y="2515"/>
                    </a:lnTo>
                    <a:lnTo>
                      <a:pt x="495" y="2440"/>
                    </a:lnTo>
                    <a:lnTo>
                      <a:pt x="503" y="2366"/>
                    </a:lnTo>
                    <a:lnTo>
                      <a:pt x="510" y="2292"/>
                    </a:lnTo>
                    <a:lnTo>
                      <a:pt x="517" y="2217"/>
                    </a:lnTo>
                    <a:lnTo>
                      <a:pt x="523" y="2142"/>
                    </a:lnTo>
                    <a:lnTo>
                      <a:pt x="528" y="2067"/>
                    </a:lnTo>
                    <a:lnTo>
                      <a:pt x="531" y="1991"/>
                    </a:lnTo>
                    <a:lnTo>
                      <a:pt x="535" y="1916"/>
                    </a:lnTo>
                    <a:lnTo>
                      <a:pt x="537" y="1840"/>
                    </a:lnTo>
                    <a:lnTo>
                      <a:pt x="538" y="1764"/>
                    </a:lnTo>
                    <a:lnTo>
                      <a:pt x="539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75280" y="3825720"/>
                <a:ext cx="144360" cy="1065240"/>
              </a:xfrm>
              <a:custGeom>
                <a:avLst/>
                <a:gdLst/>
                <a:ahLst/>
                <a:rect l="l" t="t" r="r" b="b"/>
                <a:pathLst>
                  <a:path w="547" h="4026">
                    <a:moveTo>
                      <a:pt x="547" y="1688"/>
                    </a:moveTo>
                    <a:lnTo>
                      <a:pt x="546" y="1579"/>
                    </a:lnTo>
                    <a:lnTo>
                      <a:pt x="543" y="1469"/>
                    </a:lnTo>
                    <a:lnTo>
                      <a:pt x="539" y="1361"/>
                    </a:lnTo>
                    <a:lnTo>
                      <a:pt x="532" y="1254"/>
                    </a:lnTo>
                    <a:lnTo>
                      <a:pt x="524" y="1146"/>
                    </a:lnTo>
                    <a:lnTo>
                      <a:pt x="515" y="1039"/>
                    </a:lnTo>
                    <a:lnTo>
                      <a:pt x="502" y="932"/>
                    </a:lnTo>
                    <a:lnTo>
                      <a:pt x="489" y="827"/>
                    </a:lnTo>
                    <a:lnTo>
                      <a:pt x="473" y="721"/>
                    </a:lnTo>
                    <a:lnTo>
                      <a:pt x="457" y="616"/>
                    </a:lnTo>
                    <a:lnTo>
                      <a:pt x="437" y="512"/>
                    </a:lnTo>
                    <a:lnTo>
                      <a:pt x="418" y="409"/>
                    </a:lnTo>
                    <a:lnTo>
                      <a:pt x="396" y="306"/>
                    </a:lnTo>
                    <a:lnTo>
                      <a:pt x="372" y="203"/>
                    </a:lnTo>
                    <a:lnTo>
                      <a:pt x="346" y="102"/>
                    </a:lnTo>
                    <a:lnTo>
                      <a:pt x="320" y="0"/>
                    </a:lnTo>
                    <a:lnTo>
                      <a:pt x="302" y="0"/>
                    </a:lnTo>
                    <a:lnTo>
                      <a:pt x="225" y="0"/>
                    </a:lnTo>
                    <a:lnTo>
                      <a:pt x="223" y="0"/>
                    </a:lnTo>
                    <a:lnTo>
                      <a:pt x="250" y="102"/>
                    </a:lnTo>
                    <a:lnTo>
                      <a:pt x="276" y="203"/>
                    </a:lnTo>
                    <a:lnTo>
                      <a:pt x="300" y="306"/>
                    </a:lnTo>
                    <a:lnTo>
                      <a:pt x="323" y="409"/>
                    </a:lnTo>
                    <a:lnTo>
                      <a:pt x="343" y="512"/>
                    </a:lnTo>
                    <a:lnTo>
                      <a:pt x="362" y="616"/>
                    </a:lnTo>
                    <a:lnTo>
                      <a:pt x="380" y="721"/>
                    </a:lnTo>
                    <a:lnTo>
                      <a:pt x="395" y="827"/>
                    </a:lnTo>
                    <a:lnTo>
                      <a:pt x="408" y="932"/>
                    </a:lnTo>
                    <a:lnTo>
                      <a:pt x="420" y="1039"/>
                    </a:lnTo>
                    <a:lnTo>
                      <a:pt x="430" y="1146"/>
                    </a:lnTo>
                    <a:lnTo>
                      <a:pt x="438" y="1254"/>
                    </a:lnTo>
                    <a:lnTo>
                      <a:pt x="445" y="1361"/>
                    </a:lnTo>
                    <a:lnTo>
                      <a:pt x="450" y="1469"/>
                    </a:lnTo>
                    <a:lnTo>
                      <a:pt x="453" y="1579"/>
                    </a:lnTo>
                    <a:lnTo>
                      <a:pt x="453" y="1688"/>
                    </a:lnTo>
                    <a:lnTo>
                      <a:pt x="453" y="1765"/>
                    </a:lnTo>
                    <a:lnTo>
                      <a:pt x="452" y="1843"/>
                    </a:lnTo>
                    <a:lnTo>
                      <a:pt x="450" y="1920"/>
                    </a:lnTo>
                    <a:lnTo>
                      <a:pt x="446" y="1996"/>
                    </a:lnTo>
                    <a:lnTo>
                      <a:pt x="442" y="2073"/>
                    </a:lnTo>
                    <a:lnTo>
                      <a:pt x="437" y="2149"/>
                    </a:lnTo>
                    <a:lnTo>
                      <a:pt x="432" y="2225"/>
                    </a:lnTo>
                    <a:lnTo>
                      <a:pt x="425" y="2300"/>
                    </a:lnTo>
                    <a:lnTo>
                      <a:pt x="417" y="2376"/>
                    </a:lnTo>
                    <a:lnTo>
                      <a:pt x="407" y="2451"/>
                    </a:lnTo>
                    <a:lnTo>
                      <a:pt x="398" y="2526"/>
                    </a:lnTo>
                    <a:lnTo>
                      <a:pt x="388" y="2601"/>
                    </a:lnTo>
                    <a:lnTo>
                      <a:pt x="376" y="2675"/>
                    </a:lnTo>
                    <a:lnTo>
                      <a:pt x="363" y="2749"/>
                    </a:lnTo>
                    <a:lnTo>
                      <a:pt x="351" y="2822"/>
                    </a:lnTo>
                    <a:lnTo>
                      <a:pt x="337" y="2896"/>
                    </a:lnTo>
                    <a:lnTo>
                      <a:pt x="322" y="2969"/>
                    </a:lnTo>
                    <a:lnTo>
                      <a:pt x="306" y="3043"/>
                    </a:lnTo>
                    <a:lnTo>
                      <a:pt x="290" y="3115"/>
                    </a:lnTo>
                    <a:lnTo>
                      <a:pt x="272" y="3187"/>
                    </a:lnTo>
                    <a:lnTo>
                      <a:pt x="254" y="3259"/>
                    </a:lnTo>
                    <a:lnTo>
                      <a:pt x="235" y="3331"/>
                    </a:lnTo>
                    <a:lnTo>
                      <a:pt x="215" y="3401"/>
                    </a:lnTo>
                    <a:lnTo>
                      <a:pt x="195" y="3473"/>
                    </a:lnTo>
                    <a:lnTo>
                      <a:pt x="173" y="3543"/>
                    </a:lnTo>
                    <a:lnTo>
                      <a:pt x="151" y="3613"/>
                    </a:lnTo>
                    <a:lnTo>
                      <a:pt x="128" y="3682"/>
                    </a:lnTo>
                    <a:lnTo>
                      <a:pt x="104" y="3753"/>
                    </a:lnTo>
                    <a:lnTo>
                      <a:pt x="79" y="3821"/>
                    </a:lnTo>
                    <a:lnTo>
                      <a:pt x="54" y="3890"/>
                    </a:lnTo>
                    <a:lnTo>
                      <a:pt x="28" y="3958"/>
                    </a:lnTo>
                    <a:lnTo>
                      <a:pt x="0" y="4026"/>
                    </a:lnTo>
                    <a:lnTo>
                      <a:pt x="34" y="4020"/>
                    </a:lnTo>
                    <a:lnTo>
                      <a:pt x="110" y="4006"/>
                    </a:lnTo>
                    <a:lnTo>
                      <a:pt x="135" y="3939"/>
                    </a:lnTo>
                    <a:lnTo>
                      <a:pt x="160" y="3871"/>
                    </a:lnTo>
                    <a:lnTo>
                      <a:pt x="185" y="3803"/>
                    </a:lnTo>
                    <a:lnTo>
                      <a:pt x="209" y="3734"/>
                    </a:lnTo>
                    <a:lnTo>
                      <a:pt x="232" y="3665"/>
                    </a:lnTo>
                    <a:lnTo>
                      <a:pt x="255" y="3596"/>
                    </a:lnTo>
                    <a:lnTo>
                      <a:pt x="276" y="3527"/>
                    </a:lnTo>
                    <a:lnTo>
                      <a:pt x="297" y="3456"/>
                    </a:lnTo>
                    <a:lnTo>
                      <a:pt x="317" y="3386"/>
                    </a:lnTo>
                    <a:lnTo>
                      <a:pt x="336" y="3316"/>
                    </a:lnTo>
                    <a:lnTo>
                      <a:pt x="354" y="3244"/>
                    </a:lnTo>
                    <a:lnTo>
                      <a:pt x="372" y="3173"/>
                    </a:lnTo>
                    <a:lnTo>
                      <a:pt x="389" y="3101"/>
                    </a:lnTo>
                    <a:lnTo>
                      <a:pt x="405" y="3030"/>
                    </a:lnTo>
                    <a:lnTo>
                      <a:pt x="420" y="2957"/>
                    </a:lnTo>
                    <a:lnTo>
                      <a:pt x="434" y="2885"/>
                    </a:lnTo>
                    <a:lnTo>
                      <a:pt x="448" y="2812"/>
                    </a:lnTo>
                    <a:lnTo>
                      <a:pt x="460" y="2739"/>
                    </a:lnTo>
                    <a:lnTo>
                      <a:pt x="472" y="2666"/>
                    </a:lnTo>
                    <a:lnTo>
                      <a:pt x="483" y="2592"/>
                    </a:lnTo>
                    <a:lnTo>
                      <a:pt x="493" y="2518"/>
                    </a:lnTo>
                    <a:lnTo>
                      <a:pt x="502" y="2443"/>
                    </a:lnTo>
                    <a:lnTo>
                      <a:pt x="511" y="2369"/>
                    </a:lnTo>
                    <a:lnTo>
                      <a:pt x="518" y="2294"/>
                    </a:lnTo>
                    <a:lnTo>
                      <a:pt x="525" y="2220"/>
                    </a:lnTo>
                    <a:lnTo>
                      <a:pt x="531" y="2145"/>
                    </a:lnTo>
                    <a:lnTo>
                      <a:pt x="535" y="2069"/>
                    </a:lnTo>
                    <a:lnTo>
                      <a:pt x="540" y="1994"/>
                    </a:lnTo>
                    <a:lnTo>
                      <a:pt x="543" y="1918"/>
                    </a:lnTo>
                    <a:lnTo>
                      <a:pt x="546" y="1841"/>
                    </a:lnTo>
                    <a:lnTo>
                      <a:pt x="547" y="1764"/>
                    </a:lnTo>
                    <a:lnTo>
                      <a:pt x="547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60880" y="3825720"/>
                <a:ext cx="147600" cy="1068480"/>
              </a:xfrm>
              <a:custGeom>
                <a:avLst/>
                <a:gdLst/>
                <a:ahLst/>
                <a:rect l="l" t="t" r="r" b="b"/>
                <a:pathLst>
                  <a:path w="555" h="4036">
                    <a:moveTo>
                      <a:pt x="555" y="1688"/>
                    </a:moveTo>
                    <a:lnTo>
                      <a:pt x="554" y="1579"/>
                    </a:lnTo>
                    <a:lnTo>
                      <a:pt x="551" y="1469"/>
                    </a:lnTo>
                    <a:lnTo>
                      <a:pt x="547" y="1361"/>
                    </a:lnTo>
                    <a:lnTo>
                      <a:pt x="540" y="1254"/>
                    </a:lnTo>
                    <a:lnTo>
                      <a:pt x="532" y="1145"/>
                    </a:lnTo>
                    <a:lnTo>
                      <a:pt x="521" y="1039"/>
                    </a:lnTo>
                    <a:lnTo>
                      <a:pt x="510" y="932"/>
                    </a:lnTo>
                    <a:lnTo>
                      <a:pt x="496" y="826"/>
                    </a:lnTo>
                    <a:lnTo>
                      <a:pt x="481" y="721"/>
                    </a:lnTo>
                    <a:lnTo>
                      <a:pt x="464" y="616"/>
                    </a:lnTo>
                    <a:lnTo>
                      <a:pt x="444" y="512"/>
                    </a:lnTo>
                    <a:lnTo>
                      <a:pt x="424" y="409"/>
                    </a:lnTo>
                    <a:lnTo>
                      <a:pt x="401" y="306"/>
                    </a:lnTo>
                    <a:lnTo>
                      <a:pt x="378" y="203"/>
                    </a:lnTo>
                    <a:lnTo>
                      <a:pt x="352" y="102"/>
                    </a:lnTo>
                    <a:lnTo>
                      <a:pt x="325" y="0"/>
                    </a:lnTo>
                    <a:lnTo>
                      <a:pt x="279" y="0"/>
                    </a:lnTo>
                    <a:lnTo>
                      <a:pt x="233" y="15"/>
                    </a:lnTo>
                    <a:lnTo>
                      <a:pt x="259" y="116"/>
                    </a:lnTo>
                    <a:lnTo>
                      <a:pt x="285" y="216"/>
                    </a:lnTo>
                    <a:lnTo>
                      <a:pt x="309" y="317"/>
                    </a:lnTo>
                    <a:lnTo>
                      <a:pt x="331" y="420"/>
                    </a:lnTo>
                    <a:lnTo>
                      <a:pt x="352" y="523"/>
                    </a:lnTo>
                    <a:lnTo>
                      <a:pt x="370" y="625"/>
                    </a:lnTo>
                    <a:lnTo>
                      <a:pt x="387" y="729"/>
                    </a:lnTo>
                    <a:lnTo>
                      <a:pt x="402" y="834"/>
                    </a:lnTo>
                    <a:lnTo>
                      <a:pt x="416" y="939"/>
                    </a:lnTo>
                    <a:lnTo>
                      <a:pt x="428" y="1045"/>
                    </a:lnTo>
                    <a:lnTo>
                      <a:pt x="438" y="1151"/>
                    </a:lnTo>
                    <a:lnTo>
                      <a:pt x="446" y="1257"/>
                    </a:lnTo>
                    <a:lnTo>
                      <a:pt x="453" y="1364"/>
                    </a:lnTo>
                    <a:lnTo>
                      <a:pt x="458" y="1471"/>
                    </a:lnTo>
                    <a:lnTo>
                      <a:pt x="460" y="1580"/>
                    </a:lnTo>
                    <a:lnTo>
                      <a:pt x="461" y="1688"/>
                    </a:lnTo>
                    <a:lnTo>
                      <a:pt x="461" y="1765"/>
                    </a:lnTo>
                    <a:lnTo>
                      <a:pt x="459" y="1844"/>
                    </a:lnTo>
                    <a:lnTo>
                      <a:pt x="457" y="1921"/>
                    </a:lnTo>
                    <a:lnTo>
                      <a:pt x="453" y="1998"/>
                    </a:lnTo>
                    <a:lnTo>
                      <a:pt x="450" y="2074"/>
                    </a:lnTo>
                    <a:lnTo>
                      <a:pt x="444" y="2152"/>
                    </a:lnTo>
                    <a:lnTo>
                      <a:pt x="438" y="2228"/>
                    </a:lnTo>
                    <a:lnTo>
                      <a:pt x="431" y="2304"/>
                    </a:lnTo>
                    <a:lnTo>
                      <a:pt x="423" y="2380"/>
                    </a:lnTo>
                    <a:lnTo>
                      <a:pt x="414" y="2455"/>
                    </a:lnTo>
                    <a:lnTo>
                      <a:pt x="405" y="2531"/>
                    </a:lnTo>
                    <a:lnTo>
                      <a:pt x="393" y="2606"/>
                    </a:lnTo>
                    <a:lnTo>
                      <a:pt x="382" y="2681"/>
                    </a:lnTo>
                    <a:lnTo>
                      <a:pt x="369" y="2754"/>
                    </a:lnTo>
                    <a:lnTo>
                      <a:pt x="356" y="2828"/>
                    </a:lnTo>
                    <a:lnTo>
                      <a:pt x="342" y="2902"/>
                    </a:lnTo>
                    <a:lnTo>
                      <a:pt x="326" y="2976"/>
                    </a:lnTo>
                    <a:lnTo>
                      <a:pt x="311" y="3050"/>
                    </a:lnTo>
                    <a:lnTo>
                      <a:pt x="294" y="3122"/>
                    </a:lnTo>
                    <a:lnTo>
                      <a:pt x="277" y="3195"/>
                    </a:lnTo>
                    <a:lnTo>
                      <a:pt x="258" y="3266"/>
                    </a:lnTo>
                    <a:lnTo>
                      <a:pt x="239" y="3339"/>
                    </a:lnTo>
                    <a:lnTo>
                      <a:pt x="218" y="3410"/>
                    </a:lnTo>
                    <a:lnTo>
                      <a:pt x="197" y="3481"/>
                    </a:lnTo>
                    <a:lnTo>
                      <a:pt x="175" y="3552"/>
                    </a:lnTo>
                    <a:lnTo>
                      <a:pt x="152" y="3622"/>
                    </a:lnTo>
                    <a:lnTo>
                      <a:pt x="129" y="3692"/>
                    </a:lnTo>
                    <a:lnTo>
                      <a:pt x="105" y="3762"/>
                    </a:lnTo>
                    <a:lnTo>
                      <a:pt x="80" y="3831"/>
                    </a:lnTo>
                    <a:lnTo>
                      <a:pt x="54" y="3900"/>
                    </a:lnTo>
                    <a:lnTo>
                      <a:pt x="28" y="3968"/>
                    </a:lnTo>
                    <a:lnTo>
                      <a:pt x="0" y="4036"/>
                    </a:lnTo>
                    <a:lnTo>
                      <a:pt x="88" y="4020"/>
                    </a:lnTo>
                    <a:lnTo>
                      <a:pt x="109" y="4016"/>
                    </a:lnTo>
                    <a:lnTo>
                      <a:pt x="136" y="3949"/>
                    </a:lnTo>
                    <a:lnTo>
                      <a:pt x="161" y="3881"/>
                    </a:lnTo>
                    <a:lnTo>
                      <a:pt x="187" y="3811"/>
                    </a:lnTo>
                    <a:lnTo>
                      <a:pt x="211" y="3743"/>
                    </a:lnTo>
                    <a:lnTo>
                      <a:pt x="234" y="3674"/>
                    </a:lnTo>
                    <a:lnTo>
                      <a:pt x="257" y="3604"/>
                    </a:lnTo>
                    <a:lnTo>
                      <a:pt x="279" y="3535"/>
                    </a:lnTo>
                    <a:lnTo>
                      <a:pt x="300" y="3465"/>
                    </a:lnTo>
                    <a:lnTo>
                      <a:pt x="321" y="3393"/>
                    </a:lnTo>
                    <a:lnTo>
                      <a:pt x="339" y="3323"/>
                    </a:lnTo>
                    <a:lnTo>
                      <a:pt x="359" y="3251"/>
                    </a:lnTo>
                    <a:lnTo>
                      <a:pt x="376" y="3180"/>
                    </a:lnTo>
                    <a:lnTo>
                      <a:pt x="393" y="3108"/>
                    </a:lnTo>
                    <a:lnTo>
                      <a:pt x="409" y="3036"/>
                    </a:lnTo>
                    <a:lnTo>
                      <a:pt x="424" y="2963"/>
                    </a:lnTo>
                    <a:lnTo>
                      <a:pt x="439" y="2890"/>
                    </a:lnTo>
                    <a:lnTo>
                      <a:pt x="453" y="2818"/>
                    </a:lnTo>
                    <a:lnTo>
                      <a:pt x="466" y="2744"/>
                    </a:lnTo>
                    <a:lnTo>
                      <a:pt x="477" y="2670"/>
                    </a:lnTo>
                    <a:lnTo>
                      <a:pt x="489" y="2596"/>
                    </a:lnTo>
                    <a:lnTo>
                      <a:pt x="499" y="2522"/>
                    </a:lnTo>
                    <a:lnTo>
                      <a:pt x="509" y="2448"/>
                    </a:lnTo>
                    <a:lnTo>
                      <a:pt x="518" y="2373"/>
                    </a:lnTo>
                    <a:lnTo>
                      <a:pt x="525" y="2298"/>
                    </a:lnTo>
                    <a:lnTo>
                      <a:pt x="532" y="2222"/>
                    </a:lnTo>
                    <a:lnTo>
                      <a:pt x="537" y="2147"/>
                    </a:lnTo>
                    <a:lnTo>
                      <a:pt x="543" y="2071"/>
                    </a:lnTo>
                    <a:lnTo>
                      <a:pt x="547" y="1995"/>
                    </a:lnTo>
                    <a:lnTo>
                      <a:pt x="550" y="1919"/>
                    </a:lnTo>
                    <a:lnTo>
                      <a:pt x="552" y="1841"/>
                    </a:lnTo>
                    <a:lnTo>
                      <a:pt x="554" y="1765"/>
                    </a:lnTo>
                    <a:lnTo>
                      <a:pt x="555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046840" y="3825720"/>
                <a:ext cx="149040" cy="1070280"/>
              </a:xfrm>
              <a:custGeom>
                <a:avLst/>
                <a:gdLst/>
                <a:ahLst/>
                <a:rect l="l" t="t" r="r" b="b"/>
                <a:pathLst>
                  <a:path w="561" h="4047">
                    <a:moveTo>
                      <a:pt x="561" y="1688"/>
                    </a:moveTo>
                    <a:lnTo>
                      <a:pt x="561" y="1579"/>
                    </a:lnTo>
                    <a:lnTo>
                      <a:pt x="558" y="1469"/>
                    </a:lnTo>
                    <a:lnTo>
                      <a:pt x="553" y="1361"/>
                    </a:lnTo>
                    <a:lnTo>
                      <a:pt x="546" y="1254"/>
                    </a:lnTo>
                    <a:lnTo>
                      <a:pt x="538" y="1146"/>
                    </a:lnTo>
                    <a:lnTo>
                      <a:pt x="528" y="1039"/>
                    </a:lnTo>
                    <a:lnTo>
                      <a:pt x="516" y="932"/>
                    </a:lnTo>
                    <a:lnTo>
                      <a:pt x="503" y="827"/>
                    </a:lnTo>
                    <a:lnTo>
                      <a:pt x="488" y="721"/>
                    </a:lnTo>
                    <a:lnTo>
                      <a:pt x="470" y="616"/>
                    </a:lnTo>
                    <a:lnTo>
                      <a:pt x="451" y="512"/>
                    </a:lnTo>
                    <a:lnTo>
                      <a:pt x="431" y="409"/>
                    </a:lnTo>
                    <a:lnTo>
                      <a:pt x="408" y="306"/>
                    </a:lnTo>
                    <a:lnTo>
                      <a:pt x="384" y="203"/>
                    </a:lnTo>
                    <a:lnTo>
                      <a:pt x="358" y="102"/>
                    </a:lnTo>
                    <a:lnTo>
                      <a:pt x="331" y="0"/>
                    </a:lnTo>
                    <a:lnTo>
                      <a:pt x="242" y="29"/>
                    </a:lnTo>
                    <a:lnTo>
                      <a:pt x="268" y="128"/>
                    </a:lnTo>
                    <a:lnTo>
                      <a:pt x="294" y="229"/>
                    </a:lnTo>
                    <a:lnTo>
                      <a:pt x="318" y="329"/>
                    </a:lnTo>
                    <a:lnTo>
                      <a:pt x="340" y="430"/>
                    </a:lnTo>
                    <a:lnTo>
                      <a:pt x="360" y="532"/>
                    </a:lnTo>
                    <a:lnTo>
                      <a:pt x="378" y="635"/>
                    </a:lnTo>
                    <a:lnTo>
                      <a:pt x="395" y="738"/>
                    </a:lnTo>
                    <a:lnTo>
                      <a:pt x="410" y="841"/>
                    </a:lnTo>
                    <a:lnTo>
                      <a:pt x="424" y="946"/>
                    </a:lnTo>
                    <a:lnTo>
                      <a:pt x="436" y="1049"/>
                    </a:lnTo>
                    <a:lnTo>
                      <a:pt x="446" y="1156"/>
                    </a:lnTo>
                    <a:lnTo>
                      <a:pt x="454" y="1260"/>
                    </a:lnTo>
                    <a:lnTo>
                      <a:pt x="460" y="1367"/>
                    </a:lnTo>
                    <a:lnTo>
                      <a:pt x="465" y="1474"/>
                    </a:lnTo>
                    <a:lnTo>
                      <a:pt x="468" y="1581"/>
                    </a:lnTo>
                    <a:lnTo>
                      <a:pt x="469" y="1688"/>
                    </a:lnTo>
                    <a:lnTo>
                      <a:pt x="468" y="1767"/>
                    </a:lnTo>
                    <a:lnTo>
                      <a:pt x="467" y="1844"/>
                    </a:lnTo>
                    <a:lnTo>
                      <a:pt x="465" y="1922"/>
                    </a:lnTo>
                    <a:lnTo>
                      <a:pt x="461" y="1999"/>
                    </a:lnTo>
                    <a:lnTo>
                      <a:pt x="456" y="2077"/>
                    </a:lnTo>
                    <a:lnTo>
                      <a:pt x="451" y="2154"/>
                    </a:lnTo>
                    <a:lnTo>
                      <a:pt x="445" y="2231"/>
                    </a:lnTo>
                    <a:lnTo>
                      <a:pt x="438" y="2307"/>
                    </a:lnTo>
                    <a:lnTo>
                      <a:pt x="430" y="2383"/>
                    </a:lnTo>
                    <a:lnTo>
                      <a:pt x="421" y="2459"/>
                    </a:lnTo>
                    <a:lnTo>
                      <a:pt x="410" y="2535"/>
                    </a:lnTo>
                    <a:lnTo>
                      <a:pt x="400" y="2610"/>
                    </a:lnTo>
                    <a:lnTo>
                      <a:pt x="388" y="2685"/>
                    </a:lnTo>
                    <a:lnTo>
                      <a:pt x="376" y="2760"/>
                    </a:lnTo>
                    <a:lnTo>
                      <a:pt x="362" y="2834"/>
                    </a:lnTo>
                    <a:lnTo>
                      <a:pt x="347" y="2909"/>
                    </a:lnTo>
                    <a:lnTo>
                      <a:pt x="332" y="2983"/>
                    </a:lnTo>
                    <a:lnTo>
                      <a:pt x="316" y="3056"/>
                    </a:lnTo>
                    <a:lnTo>
                      <a:pt x="298" y="3129"/>
                    </a:lnTo>
                    <a:lnTo>
                      <a:pt x="280" y="3202"/>
                    </a:lnTo>
                    <a:lnTo>
                      <a:pt x="262" y="3274"/>
                    </a:lnTo>
                    <a:lnTo>
                      <a:pt x="242" y="3347"/>
                    </a:lnTo>
                    <a:lnTo>
                      <a:pt x="221" y="3418"/>
                    </a:lnTo>
                    <a:lnTo>
                      <a:pt x="200" y="3490"/>
                    </a:lnTo>
                    <a:lnTo>
                      <a:pt x="177" y="3560"/>
                    </a:lnTo>
                    <a:lnTo>
                      <a:pt x="154" y="3632"/>
                    </a:lnTo>
                    <a:lnTo>
                      <a:pt x="131" y="3702"/>
                    </a:lnTo>
                    <a:lnTo>
                      <a:pt x="106" y="3771"/>
                    </a:lnTo>
                    <a:lnTo>
                      <a:pt x="80" y="3841"/>
                    </a:lnTo>
                    <a:lnTo>
                      <a:pt x="54" y="3909"/>
                    </a:lnTo>
                    <a:lnTo>
                      <a:pt x="27" y="3979"/>
                    </a:lnTo>
                    <a:lnTo>
                      <a:pt x="0" y="4047"/>
                    </a:lnTo>
                    <a:lnTo>
                      <a:pt x="108" y="4026"/>
                    </a:lnTo>
                    <a:lnTo>
                      <a:pt x="136" y="3958"/>
                    </a:lnTo>
                    <a:lnTo>
                      <a:pt x="162" y="3890"/>
                    </a:lnTo>
                    <a:lnTo>
                      <a:pt x="187" y="3821"/>
                    </a:lnTo>
                    <a:lnTo>
                      <a:pt x="212" y="3753"/>
                    </a:lnTo>
                    <a:lnTo>
                      <a:pt x="236" y="3682"/>
                    </a:lnTo>
                    <a:lnTo>
                      <a:pt x="259" y="3613"/>
                    </a:lnTo>
                    <a:lnTo>
                      <a:pt x="281" y="3543"/>
                    </a:lnTo>
                    <a:lnTo>
                      <a:pt x="303" y="3473"/>
                    </a:lnTo>
                    <a:lnTo>
                      <a:pt x="323" y="3401"/>
                    </a:lnTo>
                    <a:lnTo>
                      <a:pt x="343" y="3331"/>
                    </a:lnTo>
                    <a:lnTo>
                      <a:pt x="362" y="3259"/>
                    </a:lnTo>
                    <a:lnTo>
                      <a:pt x="380" y="3187"/>
                    </a:lnTo>
                    <a:lnTo>
                      <a:pt x="398" y="3115"/>
                    </a:lnTo>
                    <a:lnTo>
                      <a:pt x="414" y="3043"/>
                    </a:lnTo>
                    <a:lnTo>
                      <a:pt x="430" y="2969"/>
                    </a:lnTo>
                    <a:lnTo>
                      <a:pt x="445" y="2896"/>
                    </a:lnTo>
                    <a:lnTo>
                      <a:pt x="459" y="2822"/>
                    </a:lnTo>
                    <a:lnTo>
                      <a:pt x="471" y="2749"/>
                    </a:lnTo>
                    <a:lnTo>
                      <a:pt x="484" y="2675"/>
                    </a:lnTo>
                    <a:lnTo>
                      <a:pt x="496" y="2601"/>
                    </a:lnTo>
                    <a:lnTo>
                      <a:pt x="506" y="2526"/>
                    </a:lnTo>
                    <a:lnTo>
                      <a:pt x="515" y="2451"/>
                    </a:lnTo>
                    <a:lnTo>
                      <a:pt x="525" y="2376"/>
                    </a:lnTo>
                    <a:lnTo>
                      <a:pt x="533" y="2300"/>
                    </a:lnTo>
                    <a:lnTo>
                      <a:pt x="540" y="2225"/>
                    </a:lnTo>
                    <a:lnTo>
                      <a:pt x="545" y="2149"/>
                    </a:lnTo>
                    <a:lnTo>
                      <a:pt x="550" y="2073"/>
                    </a:lnTo>
                    <a:lnTo>
                      <a:pt x="554" y="1996"/>
                    </a:lnTo>
                    <a:lnTo>
                      <a:pt x="558" y="1920"/>
                    </a:lnTo>
                    <a:lnTo>
                      <a:pt x="560" y="1843"/>
                    </a:lnTo>
                    <a:lnTo>
                      <a:pt x="561" y="1765"/>
                    </a:lnTo>
                    <a:lnTo>
                      <a:pt x="561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32440" y="3828960"/>
                <a:ext cx="150840" cy="1069920"/>
              </a:xfrm>
              <a:custGeom>
                <a:avLst/>
                <a:gdLst/>
                <a:ahLst/>
                <a:rect l="l" t="t" r="r" b="b"/>
                <a:pathLst>
                  <a:path w="571" h="4042">
                    <a:moveTo>
                      <a:pt x="571" y="1673"/>
                    </a:moveTo>
                    <a:lnTo>
                      <a:pt x="570" y="1565"/>
                    </a:lnTo>
                    <a:lnTo>
                      <a:pt x="568" y="1456"/>
                    </a:lnTo>
                    <a:lnTo>
                      <a:pt x="563" y="1349"/>
                    </a:lnTo>
                    <a:lnTo>
                      <a:pt x="556" y="1242"/>
                    </a:lnTo>
                    <a:lnTo>
                      <a:pt x="548" y="1136"/>
                    </a:lnTo>
                    <a:lnTo>
                      <a:pt x="538" y="1030"/>
                    </a:lnTo>
                    <a:lnTo>
                      <a:pt x="526" y="924"/>
                    </a:lnTo>
                    <a:lnTo>
                      <a:pt x="512" y="819"/>
                    </a:lnTo>
                    <a:lnTo>
                      <a:pt x="497" y="714"/>
                    </a:lnTo>
                    <a:lnTo>
                      <a:pt x="480" y="610"/>
                    </a:lnTo>
                    <a:lnTo>
                      <a:pt x="462" y="508"/>
                    </a:lnTo>
                    <a:lnTo>
                      <a:pt x="441" y="405"/>
                    </a:lnTo>
                    <a:lnTo>
                      <a:pt x="419" y="302"/>
                    </a:lnTo>
                    <a:lnTo>
                      <a:pt x="395" y="201"/>
                    </a:lnTo>
                    <a:lnTo>
                      <a:pt x="369" y="101"/>
                    </a:lnTo>
                    <a:lnTo>
                      <a:pt x="343" y="0"/>
                    </a:lnTo>
                    <a:lnTo>
                      <a:pt x="275" y="22"/>
                    </a:lnTo>
                    <a:lnTo>
                      <a:pt x="252" y="22"/>
                    </a:lnTo>
                    <a:lnTo>
                      <a:pt x="278" y="122"/>
                    </a:lnTo>
                    <a:lnTo>
                      <a:pt x="304" y="221"/>
                    </a:lnTo>
                    <a:lnTo>
                      <a:pt x="328" y="321"/>
                    </a:lnTo>
                    <a:lnTo>
                      <a:pt x="350" y="421"/>
                    </a:lnTo>
                    <a:lnTo>
                      <a:pt x="369" y="523"/>
                    </a:lnTo>
                    <a:lnTo>
                      <a:pt x="388" y="624"/>
                    </a:lnTo>
                    <a:lnTo>
                      <a:pt x="405" y="727"/>
                    </a:lnTo>
                    <a:lnTo>
                      <a:pt x="420" y="829"/>
                    </a:lnTo>
                    <a:lnTo>
                      <a:pt x="434" y="933"/>
                    </a:lnTo>
                    <a:lnTo>
                      <a:pt x="446" y="1038"/>
                    </a:lnTo>
                    <a:lnTo>
                      <a:pt x="455" y="1143"/>
                    </a:lnTo>
                    <a:lnTo>
                      <a:pt x="463" y="1248"/>
                    </a:lnTo>
                    <a:lnTo>
                      <a:pt x="470" y="1353"/>
                    </a:lnTo>
                    <a:lnTo>
                      <a:pt x="474" y="1459"/>
                    </a:lnTo>
                    <a:lnTo>
                      <a:pt x="477" y="1566"/>
                    </a:lnTo>
                    <a:lnTo>
                      <a:pt x="478" y="1673"/>
                    </a:lnTo>
                    <a:lnTo>
                      <a:pt x="478" y="1752"/>
                    </a:lnTo>
                    <a:lnTo>
                      <a:pt x="476" y="1830"/>
                    </a:lnTo>
                    <a:lnTo>
                      <a:pt x="473" y="1908"/>
                    </a:lnTo>
                    <a:lnTo>
                      <a:pt x="470" y="1987"/>
                    </a:lnTo>
                    <a:lnTo>
                      <a:pt x="465" y="2064"/>
                    </a:lnTo>
                    <a:lnTo>
                      <a:pt x="461" y="2141"/>
                    </a:lnTo>
                    <a:lnTo>
                      <a:pt x="454" y="2218"/>
                    </a:lnTo>
                    <a:lnTo>
                      <a:pt x="447" y="2296"/>
                    </a:lnTo>
                    <a:lnTo>
                      <a:pt x="439" y="2372"/>
                    </a:lnTo>
                    <a:lnTo>
                      <a:pt x="429" y="2448"/>
                    </a:lnTo>
                    <a:lnTo>
                      <a:pt x="419" y="2524"/>
                    </a:lnTo>
                    <a:lnTo>
                      <a:pt x="407" y="2600"/>
                    </a:lnTo>
                    <a:lnTo>
                      <a:pt x="396" y="2675"/>
                    </a:lnTo>
                    <a:lnTo>
                      <a:pt x="383" y="2751"/>
                    </a:lnTo>
                    <a:lnTo>
                      <a:pt x="369" y="2825"/>
                    </a:lnTo>
                    <a:lnTo>
                      <a:pt x="354" y="2900"/>
                    </a:lnTo>
                    <a:lnTo>
                      <a:pt x="338" y="2973"/>
                    </a:lnTo>
                    <a:lnTo>
                      <a:pt x="322" y="3047"/>
                    </a:lnTo>
                    <a:lnTo>
                      <a:pt x="305" y="3121"/>
                    </a:lnTo>
                    <a:lnTo>
                      <a:pt x="286" y="3194"/>
                    </a:lnTo>
                    <a:lnTo>
                      <a:pt x="268" y="3267"/>
                    </a:lnTo>
                    <a:lnTo>
                      <a:pt x="247" y="3339"/>
                    </a:lnTo>
                    <a:lnTo>
                      <a:pt x="226" y="3411"/>
                    </a:lnTo>
                    <a:lnTo>
                      <a:pt x="204" y="3483"/>
                    </a:lnTo>
                    <a:lnTo>
                      <a:pt x="183" y="3554"/>
                    </a:lnTo>
                    <a:lnTo>
                      <a:pt x="158" y="3626"/>
                    </a:lnTo>
                    <a:lnTo>
                      <a:pt x="134" y="3696"/>
                    </a:lnTo>
                    <a:lnTo>
                      <a:pt x="109" y="3767"/>
                    </a:lnTo>
                    <a:lnTo>
                      <a:pt x="83" y="3836"/>
                    </a:lnTo>
                    <a:lnTo>
                      <a:pt x="57" y="3905"/>
                    </a:lnTo>
                    <a:lnTo>
                      <a:pt x="29" y="3974"/>
                    </a:lnTo>
                    <a:lnTo>
                      <a:pt x="0" y="4042"/>
                    </a:lnTo>
                    <a:lnTo>
                      <a:pt x="6" y="4041"/>
                    </a:lnTo>
                    <a:lnTo>
                      <a:pt x="110" y="4021"/>
                    </a:lnTo>
                    <a:lnTo>
                      <a:pt x="138" y="3953"/>
                    </a:lnTo>
                    <a:lnTo>
                      <a:pt x="164" y="3885"/>
                    </a:lnTo>
                    <a:lnTo>
                      <a:pt x="190" y="3816"/>
                    </a:lnTo>
                    <a:lnTo>
                      <a:pt x="215" y="3747"/>
                    </a:lnTo>
                    <a:lnTo>
                      <a:pt x="239" y="3677"/>
                    </a:lnTo>
                    <a:lnTo>
                      <a:pt x="262" y="3607"/>
                    </a:lnTo>
                    <a:lnTo>
                      <a:pt x="285" y="3537"/>
                    </a:lnTo>
                    <a:lnTo>
                      <a:pt x="307" y="3466"/>
                    </a:lnTo>
                    <a:lnTo>
                      <a:pt x="328" y="3395"/>
                    </a:lnTo>
                    <a:lnTo>
                      <a:pt x="349" y="3324"/>
                    </a:lnTo>
                    <a:lnTo>
                      <a:pt x="368" y="3251"/>
                    </a:lnTo>
                    <a:lnTo>
                      <a:pt x="387" y="3180"/>
                    </a:lnTo>
                    <a:lnTo>
                      <a:pt x="404" y="3107"/>
                    </a:lnTo>
                    <a:lnTo>
                      <a:pt x="421" y="3035"/>
                    </a:lnTo>
                    <a:lnTo>
                      <a:pt x="436" y="2961"/>
                    </a:lnTo>
                    <a:lnTo>
                      <a:pt x="452" y="2887"/>
                    </a:lnTo>
                    <a:lnTo>
                      <a:pt x="466" y="2813"/>
                    </a:lnTo>
                    <a:lnTo>
                      <a:pt x="479" y="2739"/>
                    </a:lnTo>
                    <a:lnTo>
                      <a:pt x="492" y="2666"/>
                    </a:lnTo>
                    <a:lnTo>
                      <a:pt x="503" y="2591"/>
                    </a:lnTo>
                    <a:lnTo>
                      <a:pt x="515" y="2516"/>
                    </a:lnTo>
                    <a:lnTo>
                      <a:pt x="524" y="2440"/>
                    </a:lnTo>
                    <a:lnTo>
                      <a:pt x="533" y="2365"/>
                    </a:lnTo>
                    <a:lnTo>
                      <a:pt x="541" y="2289"/>
                    </a:lnTo>
                    <a:lnTo>
                      <a:pt x="548" y="2213"/>
                    </a:lnTo>
                    <a:lnTo>
                      <a:pt x="554" y="2137"/>
                    </a:lnTo>
                    <a:lnTo>
                      <a:pt x="560" y="2059"/>
                    </a:lnTo>
                    <a:lnTo>
                      <a:pt x="563" y="1983"/>
                    </a:lnTo>
                    <a:lnTo>
                      <a:pt x="567" y="1906"/>
                    </a:lnTo>
                    <a:lnTo>
                      <a:pt x="569" y="1829"/>
                    </a:lnTo>
                    <a:lnTo>
                      <a:pt x="571" y="1750"/>
                    </a:lnTo>
                    <a:lnTo>
                      <a:pt x="571" y="1673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18040" y="3833640"/>
                <a:ext cx="152280" cy="1068480"/>
              </a:xfrm>
              <a:custGeom>
                <a:avLst/>
                <a:gdLst/>
                <a:ahLst/>
                <a:rect l="l" t="t" r="r" b="b"/>
                <a:pathLst>
                  <a:path w="579" h="4038">
                    <a:moveTo>
                      <a:pt x="579" y="1659"/>
                    </a:moveTo>
                    <a:lnTo>
                      <a:pt x="578" y="1552"/>
                    </a:lnTo>
                    <a:lnTo>
                      <a:pt x="575" y="1445"/>
                    </a:lnTo>
                    <a:lnTo>
                      <a:pt x="570" y="1338"/>
                    </a:lnTo>
                    <a:lnTo>
                      <a:pt x="564" y="1231"/>
                    </a:lnTo>
                    <a:lnTo>
                      <a:pt x="556" y="1127"/>
                    </a:lnTo>
                    <a:lnTo>
                      <a:pt x="546" y="1020"/>
                    </a:lnTo>
                    <a:lnTo>
                      <a:pt x="534" y="917"/>
                    </a:lnTo>
                    <a:lnTo>
                      <a:pt x="520" y="812"/>
                    </a:lnTo>
                    <a:lnTo>
                      <a:pt x="505" y="709"/>
                    </a:lnTo>
                    <a:lnTo>
                      <a:pt x="488" y="606"/>
                    </a:lnTo>
                    <a:lnTo>
                      <a:pt x="470" y="503"/>
                    </a:lnTo>
                    <a:lnTo>
                      <a:pt x="450" y="401"/>
                    </a:lnTo>
                    <a:lnTo>
                      <a:pt x="428" y="300"/>
                    </a:lnTo>
                    <a:lnTo>
                      <a:pt x="404" y="200"/>
                    </a:lnTo>
                    <a:lnTo>
                      <a:pt x="378" y="99"/>
                    </a:lnTo>
                    <a:lnTo>
                      <a:pt x="352" y="0"/>
                    </a:lnTo>
                    <a:lnTo>
                      <a:pt x="329" y="8"/>
                    </a:lnTo>
                    <a:lnTo>
                      <a:pt x="257" y="8"/>
                    </a:lnTo>
                    <a:lnTo>
                      <a:pt x="285" y="106"/>
                    </a:lnTo>
                    <a:lnTo>
                      <a:pt x="310" y="207"/>
                    </a:lnTo>
                    <a:lnTo>
                      <a:pt x="333" y="307"/>
                    </a:lnTo>
                    <a:lnTo>
                      <a:pt x="355" y="407"/>
                    </a:lnTo>
                    <a:lnTo>
                      <a:pt x="376" y="509"/>
                    </a:lnTo>
                    <a:lnTo>
                      <a:pt x="395" y="610"/>
                    </a:lnTo>
                    <a:lnTo>
                      <a:pt x="412" y="713"/>
                    </a:lnTo>
                    <a:lnTo>
                      <a:pt x="427" y="815"/>
                    </a:lnTo>
                    <a:lnTo>
                      <a:pt x="441" y="919"/>
                    </a:lnTo>
                    <a:lnTo>
                      <a:pt x="452" y="1024"/>
                    </a:lnTo>
                    <a:lnTo>
                      <a:pt x="463" y="1128"/>
                    </a:lnTo>
                    <a:lnTo>
                      <a:pt x="471" y="1234"/>
                    </a:lnTo>
                    <a:lnTo>
                      <a:pt x="478" y="1339"/>
                    </a:lnTo>
                    <a:lnTo>
                      <a:pt x="482" y="1445"/>
                    </a:lnTo>
                    <a:lnTo>
                      <a:pt x="485" y="1552"/>
                    </a:lnTo>
                    <a:lnTo>
                      <a:pt x="486" y="1659"/>
                    </a:lnTo>
                    <a:lnTo>
                      <a:pt x="485" y="1738"/>
                    </a:lnTo>
                    <a:lnTo>
                      <a:pt x="483" y="1817"/>
                    </a:lnTo>
                    <a:lnTo>
                      <a:pt x="481" y="1895"/>
                    </a:lnTo>
                    <a:lnTo>
                      <a:pt x="478" y="1974"/>
                    </a:lnTo>
                    <a:lnTo>
                      <a:pt x="473" y="2052"/>
                    </a:lnTo>
                    <a:lnTo>
                      <a:pt x="467" y="2129"/>
                    </a:lnTo>
                    <a:lnTo>
                      <a:pt x="460" y="2207"/>
                    </a:lnTo>
                    <a:lnTo>
                      <a:pt x="453" y="2284"/>
                    </a:lnTo>
                    <a:lnTo>
                      <a:pt x="445" y="2361"/>
                    </a:lnTo>
                    <a:lnTo>
                      <a:pt x="436" y="2438"/>
                    </a:lnTo>
                    <a:lnTo>
                      <a:pt x="426" y="2514"/>
                    </a:lnTo>
                    <a:lnTo>
                      <a:pt x="414" y="2591"/>
                    </a:lnTo>
                    <a:lnTo>
                      <a:pt x="402" y="2667"/>
                    </a:lnTo>
                    <a:lnTo>
                      <a:pt x="389" y="2742"/>
                    </a:lnTo>
                    <a:lnTo>
                      <a:pt x="375" y="2816"/>
                    </a:lnTo>
                    <a:lnTo>
                      <a:pt x="360" y="2891"/>
                    </a:lnTo>
                    <a:lnTo>
                      <a:pt x="344" y="2966"/>
                    </a:lnTo>
                    <a:lnTo>
                      <a:pt x="327" y="3040"/>
                    </a:lnTo>
                    <a:lnTo>
                      <a:pt x="309" y="3114"/>
                    </a:lnTo>
                    <a:lnTo>
                      <a:pt x="291" y="3188"/>
                    </a:lnTo>
                    <a:lnTo>
                      <a:pt x="271" y="3260"/>
                    </a:lnTo>
                    <a:lnTo>
                      <a:pt x="250" y="3333"/>
                    </a:lnTo>
                    <a:lnTo>
                      <a:pt x="230" y="3406"/>
                    </a:lnTo>
                    <a:lnTo>
                      <a:pt x="208" y="3477"/>
                    </a:lnTo>
                    <a:lnTo>
                      <a:pt x="185" y="3548"/>
                    </a:lnTo>
                    <a:lnTo>
                      <a:pt x="160" y="3620"/>
                    </a:lnTo>
                    <a:lnTo>
                      <a:pt x="136" y="3690"/>
                    </a:lnTo>
                    <a:lnTo>
                      <a:pt x="111" y="3761"/>
                    </a:lnTo>
                    <a:lnTo>
                      <a:pt x="84" y="3831"/>
                    </a:lnTo>
                    <a:lnTo>
                      <a:pt x="57" y="3900"/>
                    </a:lnTo>
                    <a:lnTo>
                      <a:pt x="29" y="3969"/>
                    </a:lnTo>
                    <a:lnTo>
                      <a:pt x="0" y="4038"/>
                    </a:lnTo>
                    <a:lnTo>
                      <a:pt x="60" y="4027"/>
                    </a:lnTo>
                    <a:lnTo>
                      <a:pt x="110" y="4018"/>
                    </a:lnTo>
                    <a:lnTo>
                      <a:pt x="137" y="3950"/>
                    </a:lnTo>
                    <a:lnTo>
                      <a:pt x="164" y="3880"/>
                    </a:lnTo>
                    <a:lnTo>
                      <a:pt x="190" y="3812"/>
                    </a:lnTo>
                    <a:lnTo>
                      <a:pt x="216" y="3742"/>
                    </a:lnTo>
                    <a:lnTo>
                      <a:pt x="241" y="3673"/>
                    </a:lnTo>
                    <a:lnTo>
                      <a:pt x="264" y="3603"/>
                    </a:lnTo>
                    <a:lnTo>
                      <a:pt x="287" y="3531"/>
                    </a:lnTo>
                    <a:lnTo>
                      <a:pt x="310" y="3461"/>
                    </a:lnTo>
                    <a:lnTo>
                      <a:pt x="331" y="3389"/>
                    </a:lnTo>
                    <a:lnTo>
                      <a:pt x="352" y="3318"/>
                    </a:lnTo>
                    <a:lnTo>
                      <a:pt x="372" y="3245"/>
                    </a:lnTo>
                    <a:lnTo>
                      <a:pt x="390" y="3173"/>
                    </a:lnTo>
                    <a:lnTo>
                      <a:pt x="408" y="3100"/>
                    </a:lnTo>
                    <a:lnTo>
                      <a:pt x="426" y="3027"/>
                    </a:lnTo>
                    <a:lnTo>
                      <a:pt x="442" y="2954"/>
                    </a:lnTo>
                    <a:lnTo>
                      <a:pt x="457" y="2880"/>
                    </a:lnTo>
                    <a:lnTo>
                      <a:pt x="472" y="2805"/>
                    </a:lnTo>
                    <a:lnTo>
                      <a:pt x="486" y="2731"/>
                    </a:lnTo>
                    <a:lnTo>
                      <a:pt x="498" y="2656"/>
                    </a:lnTo>
                    <a:lnTo>
                      <a:pt x="510" y="2581"/>
                    </a:lnTo>
                    <a:lnTo>
                      <a:pt x="520" y="2506"/>
                    </a:lnTo>
                    <a:lnTo>
                      <a:pt x="531" y="2430"/>
                    </a:lnTo>
                    <a:lnTo>
                      <a:pt x="540" y="2354"/>
                    </a:lnTo>
                    <a:lnTo>
                      <a:pt x="548" y="2278"/>
                    </a:lnTo>
                    <a:lnTo>
                      <a:pt x="555" y="2202"/>
                    </a:lnTo>
                    <a:lnTo>
                      <a:pt x="561" y="2125"/>
                    </a:lnTo>
                    <a:lnTo>
                      <a:pt x="566" y="2048"/>
                    </a:lnTo>
                    <a:lnTo>
                      <a:pt x="571" y="1970"/>
                    </a:lnTo>
                    <a:lnTo>
                      <a:pt x="575" y="1893"/>
                    </a:lnTo>
                    <a:lnTo>
                      <a:pt x="577" y="1815"/>
                    </a:lnTo>
                    <a:lnTo>
                      <a:pt x="578" y="1738"/>
                    </a:lnTo>
                    <a:lnTo>
                      <a:pt x="579" y="1659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03640" y="3835440"/>
                <a:ext cx="154080" cy="1068480"/>
              </a:xfrm>
              <a:custGeom>
                <a:avLst/>
                <a:gdLst/>
                <a:ahLst/>
                <a:rect l="l" t="t" r="r" b="b"/>
                <a:pathLst>
                  <a:path w="587" h="4040">
                    <a:moveTo>
                      <a:pt x="587" y="1651"/>
                    </a:moveTo>
                    <a:lnTo>
                      <a:pt x="586" y="1544"/>
                    </a:lnTo>
                    <a:lnTo>
                      <a:pt x="583" y="1437"/>
                    </a:lnTo>
                    <a:lnTo>
                      <a:pt x="579" y="1331"/>
                    </a:lnTo>
                    <a:lnTo>
                      <a:pt x="573" y="1226"/>
                    </a:lnTo>
                    <a:lnTo>
                      <a:pt x="564" y="1121"/>
                    </a:lnTo>
                    <a:lnTo>
                      <a:pt x="555" y="1016"/>
                    </a:lnTo>
                    <a:lnTo>
                      <a:pt x="543" y="911"/>
                    </a:lnTo>
                    <a:lnTo>
                      <a:pt x="529" y="807"/>
                    </a:lnTo>
                    <a:lnTo>
                      <a:pt x="514" y="705"/>
                    </a:lnTo>
                    <a:lnTo>
                      <a:pt x="497" y="602"/>
                    </a:lnTo>
                    <a:lnTo>
                      <a:pt x="478" y="501"/>
                    </a:lnTo>
                    <a:lnTo>
                      <a:pt x="459" y="399"/>
                    </a:lnTo>
                    <a:lnTo>
                      <a:pt x="437" y="299"/>
                    </a:lnTo>
                    <a:lnTo>
                      <a:pt x="413" y="199"/>
                    </a:lnTo>
                    <a:lnTo>
                      <a:pt x="387" y="100"/>
                    </a:lnTo>
                    <a:lnTo>
                      <a:pt x="361" y="0"/>
                    </a:lnTo>
                    <a:lnTo>
                      <a:pt x="307" y="0"/>
                    </a:lnTo>
                    <a:lnTo>
                      <a:pt x="270" y="20"/>
                    </a:lnTo>
                    <a:lnTo>
                      <a:pt x="296" y="117"/>
                    </a:lnTo>
                    <a:lnTo>
                      <a:pt x="322" y="216"/>
                    </a:lnTo>
                    <a:lnTo>
                      <a:pt x="345" y="314"/>
                    </a:lnTo>
                    <a:lnTo>
                      <a:pt x="367" y="414"/>
                    </a:lnTo>
                    <a:lnTo>
                      <a:pt x="386" y="515"/>
                    </a:lnTo>
                    <a:lnTo>
                      <a:pt x="405" y="615"/>
                    </a:lnTo>
                    <a:lnTo>
                      <a:pt x="422" y="716"/>
                    </a:lnTo>
                    <a:lnTo>
                      <a:pt x="437" y="818"/>
                    </a:lnTo>
                    <a:lnTo>
                      <a:pt x="450" y="920"/>
                    </a:lnTo>
                    <a:lnTo>
                      <a:pt x="461" y="1023"/>
                    </a:lnTo>
                    <a:lnTo>
                      <a:pt x="472" y="1127"/>
                    </a:lnTo>
                    <a:lnTo>
                      <a:pt x="480" y="1230"/>
                    </a:lnTo>
                    <a:lnTo>
                      <a:pt x="485" y="1335"/>
                    </a:lnTo>
                    <a:lnTo>
                      <a:pt x="490" y="1440"/>
                    </a:lnTo>
                    <a:lnTo>
                      <a:pt x="493" y="1545"/>
                    </a:lnTo>
                    <a:lnTo>
                      <a:pt x="493" y="1651"/>
                    </a:lnTo>
                    <a:lnTo>
                      <a:pt x="493" y="1731"/>
                    </a:lnTo>
                    <a:lnTo>
                      <a:pt x="492" y="1810"/>
                    </a:lnTo>
                    <a:lnTo>
                      <a:pt x="489" y="1889"/>
                    </a:lnTo>
                    <a:lnTo>
                      <a:pt x="485" y="1967"/>
                    </a:lnTo>
                    <a:lnTo>
                      <a:pt x="481" y="2045"/>
                    </a:lnTo>
                    <a:lnTo>
                      <a:pt x="475" y="2124"/>
                    </a:lnTo>
                    <a:lnTo>
                      <a:pt x="469" y="2202"/>
                    </a:lnTo>
                    <a:lnTo>
                      <a:pt x="461" y="2279"/>
                    </a:lnTo>
                    <a:lnTo>
                      <a:pt x="453" y="2357"/>
                    </a:lnTo>
                    <a:lnTo>
                      <a:pt x="443" y="2434"/>
                    </a:lnTo>
                    <a:lnTo>
                      <a:pt x="432" y="2511"/>
                    </a:lnTo>
                    <a:lnTo>
                      <a:pt x="421" y="2587"/>
                    </a:lnTo>
                    <a:lnTo>
                      <a:pt x="409" y="2663"/>
                    </a:lnTo>
                    <a:lnTo>
                      <a:pt x="395" y="2739"/>
                    </a:lnTo>
                    <a:lnTo>
                      <a:pt x="382" y="2814"/>
                    </a:lnTo>
                    <a:lnTo>
                      <a:pt x="365" y="2889"/>
                    </a:lnTo>
                    <a:lnTo>
                      <a:pt x="349" y="2964"/>
                    </a:lnTo>
                    <a:lnTo>
                      <a:pt x="332" y="3038"/>
                    </a:lnTo>
                    <a:lnTo>
                      <a:pt x="315" y="3113"/>
                    </a:lnTo>
                    <a:lnTo>
                      <a:pt x="295" y="3187"/>
                    </a:lnTo>
                    <a:lnTo>
                      <a:pt x="275" y="3259"/>
                    </a:lnTo>
                    <a:lnTo>
                      <a:pt x="255" y="3333"/>
                    </a:lnTo>
                    <a:lnTo>
                      <a:pt x="233" y="3404"/>
                    </a:lnTo>
                    <a:lnTo>
                      <a:pt x="211" y="3477"/>
                    </a:lnTo>
                    <a:lnTo>
                      <a:pt x="188" y="3549"/>
                    </a:lnTo>
                    <a:lnTo>
                      <a:pt x="164" y="3620"/>
                    </a:lnTo>
                    <a:lnTo>
                      <a:pt x="138" y="3691"/>
                    </a:lnTo>
                    <a:lnTo>
                      <a:pt x="112" y="3762"/>
                    </a:lnTo>
                    <a:lnTo>
                      <a:pt x="85" y="3832"/>
                    </a:lnTo>
                    <a:lnTo>
                      <a:pt x="57" y="3901"/>
                    </a:lnTo>
                    <a:lnTo>
                      <a:pt x="29" y="3972"/>
                    </a:lnTo>
                    <a:lnTo>
                      <a:pt x="0" y="4040"/>
                    </a:lnTo>
                    <a:lnTo>
                      <a:pt x="109" y="4020"/>
                    </a:lnTo>
                    <a:lnTo>
                      <a:pt x="138" y="3952"/>
                    </a:lnTo>
                    <a:lnTo>
                      <a:pt x="166" y="3883"/>
                    </a:lnTo>
                    <a:lnTo>
                      <a:pt x="192" y="3814"/>
                    </a:lnTo>
                    <a:lnTo>
                      <a:pt x="218" y="3743"/>
                    </a:lnTo>
                    <a:lnTo>
                      <a:pt x="243" y="3674"/>
                    </a:lnTo>
                    <a:lnTo>
                      <a:pt x="267" y="3603"/>
                    </a:lnTo>
                    <a:lnTo>
                      <a:pt x="292" y="3532"/>
                    </a:lnTo>
                    <a:lnTo>
                      <a:pt x="313" y="3461"/>
                    </a:lnTo>
                    <a:lnTo>
                      <a:pt x="335" y="3389"/>
                    </a:lnTo>
                    <a:lnTo>
                      <a:pt x="356" y="3317"/>
                    </a:lnTo>
                    <a:lnTo>
                      <a:pt x="377" y="3245"/>
                    </a:lnTo>
                    <a:lnTo>
                      <a:pt x="395" y="3172"/>
                    </a:lnTo>
                    <a:lnTo>
                      <a:pt x="414" y="3099"/>
                    </a:lnTo>
                    <a:lnTo>
                      <a:pt x="431" y="3025"/>
                    </a:lnTo>
                    <a:lnTo>
                      <a:pt x="448" y="2951"/>
                    </a:lnTo>
                    <a:lnTo>
                      <a:pt x="463" y="2878"/>
                    </a:lnTo>
                    <a:lnTo>
                      <a:pt x="478" y="2803"/>
                    </a:lnTo>
                    <a:lnTo>
                      <a:pt x="492" y="2728"/>
                    </a:lnTo>
                    <a:lnTo>
                      <a:pt x="505" y="2653"/>
                    </a:lnTo>
                    <a:lnTo>
                      <a:pt x="516" y="2578"/>
                    </a:lnTo>
                    <a:lnTo>
                      <a:pt x="528" y="2502"/>
                    </a:lnTo>
                    <a:lnTo>
                      <a:pt x="538" y="2426"/>
                    </a:lnTo>
                    <a:lnTo>
                      <a:pt x="548" y="2350"/>
                    </a:lnTo>
                    <a:lnTo>
                      <a:pt x="556" y="2274"/>
                    </a:lnTo>
                    <a:lnTo>
                      <a:pt x="563" y="2196"/>
                    </a:lnTo>
                    <a:lnTo>
                      <a:pt x="570" y="2119"/>
                    </a:lnTo>
                    <a:lnTo>
                      <a:pt x="574" y="2042"/>
                    </a:lnTo>
                    <a:lnTo>
                      <a:pt x="579" y="1965"/>
                    </a:lnTo>
                    <a:lnTo>
                      <a:pt x="582" y="1886"/>
                    </a:lnTo>
                    <a:lnTo>
                      <a:pt x="585" y="1808"/>
                    </a:lnTo>
                    <a:lnTo>
                      <a:pt x="587" y="1730"/>
                    </a:lnTo>
                    <a:lnTo>
                      <a:pt x="587" y="165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87800" y="3835440"/>
                <a:ext cx="158760" cy="1071360"/>
              </a:xfrm>
              <a:custGeom>
                <a:avLst/>
                <a:gdLst/>
                <a:ahLst/>
                <a:rect l="l" t="t" r="r" b="b"/>
                <a:pathLst>
                  <a:path w="597" h="4050">
                    <a:moveTo>
                      <a:pt x="597" y="1651"/>
                    </a:moveTo>
                    <a:lnTo>
                      <a:pt x="596" y="1544"/>
                    </a:lnTo>
                    <a:lnTo>
                      <a:pt x="593" y="1437"/>
                    </a:lnTo>
                    <a:lnTo>
                      <a:pt x="587" y="1331"/>
                    </a:lnTo>
                    <a:lnTo>
                      <a:pt x="582" y="1226"/>
                    </a:lnTo>
                    <a:lnTo>
                      <a:pt x="574" y="1120"/>
                    </a:lnTo>
                    <a:lnTo>
                      <a:pt x="563" y="1016"/>
                    </a:lnTo>
                    <a:lnTo>
                      <a:pt x="552" y="911"/>
                    </a:lnTo>
                    <a:lnTo>
                      <a:pt x="538" y="807"/>
                    </a:lnTo>
                    <a:lnTo>
                      <a:pt x="523" y="705"/>
                    </a:lnTo>
                    <a:lnTo>
                      <a:pt x="506" y="602"/>
                    </a:lnTo>
                    <a:lnTo>
                      <a:pt x="487" y="501"/>
                    </a:lnTo>
                    <a:lnTo>
                      <a:pt x="466" y="399"/>
                    </a:lnTo>
                    <a:lnTo>
                      <a:pt x="444" y="299"/>
                    </a:lnTo>
                    <a:lnTo>
                      <a:pt x="421" y="199"/>
                    </a:lnTo>
                    <a:lnTo>
                      <a:pt x="396" y="98"/>
                    </a:lnTo>
                    <a:lnTo>
                      <a:pt x="368" y="0"/>
                    </a:lnTo>
                    <a:lnTo>
                      <a:pt x="363" y="0"/>
                    </a:lnTo>
                    <a:lnTo>
                      <a:pt x="285" y="41"/>
                    </a:lnTo>
                    <a:lnTo>
                      <a:pt x="283" y="42"/>
                    </a:lnTo>
                    <a:lnTo>
                      <a:pt x="310" y="138"/>
                    </a:lnTo>
                    <a:lnTo>
                      <a:pt x="334" y="236"/>
                    </a:lnTo>
                    <a:lnTo>
                      <a:pt x="357" y="332"/>
                    </a:lnTo>
                    <a:lnTo>
                      <a:pt x="378" y="430"/>
                    </a:lnTo>
                    <a:lnTo>
                      <a:pt x="397" y="529"/>
                    </a:lnTo>
                    <a:lnTo>
                      <a:pt x="416" y="629"/>
                    </a:lnTo>
                    <a:lnTo>
                      <a:pt x="432" y="729"/>
                    </a:lnTo>
                    <a:lnTo>
                      <a:pt x="447" y="829"/>
                    </a:lnTo>
                    <a:lnTo>
                      <a:pt x="459" y="931"/>
                    </a:lnTo>
                    <a:lnTo>
                      <a:pt x="471" y="1032"/>
                    </a:lnTo>
                    <a:lnTo>
                      <a:pt x="481" y="1134"/>
                    </a:lnTo>
                    <a:lnTo>
                      <a:pt x="489" y="1236"/>
                    </a:lnTo>
                    <a:lnTo>
                      <a:pt x="495" y="1339"/>
                    </a:lnTo>
                    <a:lnTo>
                      <a:pt x="500" y="1442"/>
                    </a:lnTo>
                    <a:lnTo>
                      <a:pt x="502" y="1546"/>
                    </a:lnTo>
                    <a:lnTo>
                      <a:pt x="503" y="1651"/>
                    </a:lnTo>
                    <a:lnTo>
                      <a:pt x="502" y="1731"/>
                    </a:lnTo>
                    <a:lnTo>
                      <a:pt x="501" y="1810"/>
                    </a:lnTo>
                    <a:lnTo>
                      <a:pt x="499" y="1890"/>
                    </a:lnTo>
                    <a:lnTo>
                      <a:pt x="495" y="1969"/>
                    </a:lnTo>
                    <a:lnTo>
                      <a:pt x="491" y="2048"/>
                    </a:lnTo>
                    <a:lnTo>
                      <a:pt x="485" y="2126"/>
                    </a:lnTo>
                    <a:lnTo>
                      <a:pt x="478" y="2204"/>
                    </a:lnTo>
                    <a:lnTo>
                      <a:pt x="470" y="2283"/>
                    </a:lnTo>
                    <a:lnTo>
                      <a:pt x="462" y="2360"/>
                    </a:lnTo>
                    <a:lnTo>
                      <a:pt x="451" y="2437"/>
                    </a:lnTo>
                    <a:lnTo>
                      <a:pt x="441" y="2515"/>
                    </a:lnTo>
                    <a:lnTo>
                      <a:pt x="429" y="2592"/>
                    </a:lnTo>
                    <a:lnTo>
                      <a:pt x="417" y="2668"/>
                    </a:lnTo>
                    <a:lnTo>
                      <a:pt x="403" y="2744"/>
                    </a:lnTo>
                    <a:lnTo>
                      <a:pt x="388" y="2820"/>
                    </a:lnTo>
                    <a:lnTo>
                      <a:pt x="373" y="2895"/>
                    </a:lnTo>
                    <a:lnTo>
                      <a:pt x="357" y="2970"/>
                    </a:lnTo>
                    <a:lnTo>
                      <a:pt x="340" y="3045"/>
                    </a:lnTo>
                    <a:lnTo>
                      <a:pt x="321" y="3120"/>
                    </a:lnTo>
                    <a:lnTo>
                      <a:pt x="301" y="3193"/>
                    </a:lnTo>
                    <a:lnTo>
                      <a:pt x="281" y="3267"/>
                    </a:lnTo>
                    <a:lnTo>
                      <a:pt x="260" y="3340"/>
                    </a:lnTo>
                    <a:lnTo>
                      <a:pt x="238" y="3413"/>
                    </a:lnTo>
                    <a:lnTo>
                      <a:pt x="215" y="3485"/>
                    </a:lnTo>
                    <a:lnTo>
                      <a:pt x="192" y="3558"/>
                    </a:lnTo>
                    <a:lnTo>
                      <a:pt x="166" y="3629"/>
                    </a:lnTo>
                    <a:lnTo>
                      <a:pt x="141" y="3701"/>
                    </a:lnTo>
                    <a:lnTo>
                      <a:pt x="115" y="3771"/>
                    </a:lnTo>
                    <a:lnTo>
                      <a:pt x="87" y="3841"/>
                    </a:lnTo>
                    <a:lnTo>
                      <a:pt x="59" y="3912"/>
                    </a:lnTo>
                    <a:lnTo>
                      <a:pt x="30" y="3981"/>
                    </a:lnTo>
                    <a:lnTo>
                      <a:pt x="0" y="4050"/>
                    </a:lnTo>
                    <a:lnTo>
                      <a:pt x="111" y="4030"/>
                    </a:lnTo>
                    <a:lnTo>
                      <a:pt x="140" y="3961"/>
                    </a:lnTo>
                    <a:lnTo>
                      <a:pt x="168" y="3892"/>
                    </a:lnTo>
                    <a:lnTo>
                      <a:pt x="195" y="3823"/>
                    </a:lnTo>
                    <a:lnTo>
                      <a:pt x="221" y="3753"/>
                    </a:lnTo>
                    <a:lnTo>
                      <a:pt x="247" y="3682"/>
                    </a:lnTo>
                    <a:lnTo>
                      <a:pt x="271" y="3612"/>
                    </a:lnTo>
                    <a:lnTo>
                      <a:pt x="296" y="3540"/>
                    </a:lnTo>
                    <a:lnTo>
                      <a:pt x="319" y="3469"/>
                    </a:lnTo>
                    <a:lnTo>
                      <a:pt x="341" y="3398"/>
                    </a:lnTo>
                    <a:lnTo>
                      <a:pt x="361" y="3325"/>
                    </a:lnTo>
                    <a:lnTo>
                      <a:pt x="382" y="3252"/>
                    </a:lnTo>
                    <a:lnTo>
                      <a:pt x="402" y="3180"/>
                    </a:lnTo>
                    <a:lnTo>
                      <a:pt x="420" y="3106"/>
                    </a:lnTo>
                    <a:lnTo>
                      <a:pt x="438" y="3032"/>
                    </a:lnTo>
                    <a:lnTo>
                      <a:pt x="455" y="2958"/>
                    </a:lnTo>
                    <a:lnTo>
                      <a:pt x="471" y="2883"/>
                    </a:lnTo>
                    <a:lnTo>
                      <a:pt x="486" y="2808"/>
                    </a:lnTo>
                    <a:lnTo>
                      <a:pt x="500" y="2734"/>
                    </a:lnTo>
                    <a:lnTo>
                      <a:pt x="513" y="2659"/>
                    </a:lnTo>
                    <a:lnTo>
                      <a:pt x="525" y="2583"/>
                    </a:lnTo>
                    <a:lnTo>
                      <a:pt x="537" y="2506"/>
                    </a:lnTo>
                    <a:lnTo>
                      <a:pt x="547" y="2430"/>
                    </a:lnTo>
                    <a:lnTo>
                      <a:pt x="556" y="2353"/>
                    </a:lnTo>
                    <a:lnTo>
                      <a:pt x="564" y="2276"/>
                    </a:lnTo>
                    <a:lnTo>
                      <a:pt x="571" y="2199"/>
                    </a:lnTo>
                    <a:lnTo>
                      <a:pt x="578" y="2121"/>
                    </a:lnTo>
                    <a:lnTo>
                      <a:pt x="584" y="2044"/>
                    </a:lnTo>
                    <a:lnTo>
                      <a:pt x="589" y="1966"/>
                    </a:lnTo>
                    <a:lnTo>
                      <a:pt x="592" y="1887"/>
                    </a:lnTo>
                    <a:lnTo>
                      <a:pt x="594" y="1809"/>
                    </a:lnTo>
                    <a:lnTo>
                      <a:pt x="596" y="1730"/>
                    </a:lnTo>
                    <a:lnTo>
                      <a:pt x="597" y="165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73760" y="3840120"/>
                <a:ext cx="160200" cy="1069920"/>
              </a:xfrm>
              <a:custGeom>
                <a:avLst/>
                <a:gdLst/>
                <a:ahLst/>
                <a:rect l="l" t="t" r="r" b="b"/>
                <a:pathLst>
                  <a:path w="604" h="4039">
                    <a:moveTo>
                      <a:pt x="604" y="1631"/>
                    </a:moveTo>
                    <a:lnTo>
                      <a:pt x="604" y="1525"/>
                    </a:lnTo>
                    <a:lnTo>
                      <a:pt x="601" y="1420"/>
                    </a:lnTo>
                    <a:lnTo>
                      <a:pt x="596" y="1315"/>
                    </a:lnTo>
                    <a:lnTo>
                      <a:pt x="591" y="1210"/>
                    </a:lnTo>
                    <a:lnTo>
                      <a:pt x="583" y="1107"/>
                    </a:lnTo>
                    <a:lnTo>
                      <a:pt x="572" y="1003"/>
                    </a:lnTo>
                    <a:lnTo>
                      <a:pt x="561" y="900"/>
                    </a:lnTo>
                    <a:lnTo>
                      <a:pt x="548" y="798"/>
                    </a:lnTo>
                    <a:lnTo>
                      <a:pt x="533" y="696"/>
                    </a:lnTo>
                    <a:lnTo>
                      <a:pt x="516" y="595"/>
                    </a:lnTo>
                    <a:lnTo>
                      <a:pt x="497" y="495"/>
                    </a:lnTo>
                    <a:lnTo>
                      <a:pt x="478" y="394"/>
                    </a:lnTo>
                    <a:lnTo>
                      <a:pt x="456" y="294"/>
                    </a:lnTo>
                    <a:lnTo>
                      <a:pt x="433" y="196"/>
                    </a:lnTo>
                    <a:lnTo>
                      <a:pt x="407" y="97"/>
                    </a:lnTo>
                    <a:lnTo>
                      <a:pt x="381" y="0"/>
                    </a:lnTo>
                    <a:lnTo>
                      <a:pt x="340" y="21"/>
                    </a:lnTo>
                    <a:lnTo>
                      <a:pt x="295" y="41"/>
                    </a:lnTo>
                    <a:lnTo>
                      <a:pt x="321" y="137"/>
                    </a:lnTo>
                    <a:lnTo>
                      <a:pt x="345" y="233"/>
                    </a:lnTo>
                    <a:lnTo>
                      <a:pt x="368" y="330"/>
                    </a:lnTo>
                    <a:lnTo>
                      <a:pt x="389" y="426"/>
                    </a:lnTo>
                    <a:lnTo>
                      <a:pt x="408" y="523"/>
                    </a:lnTo>
                    <a:lnTo>
                      <a:pt x="426" y="622"/>
                    </a:lnTo>
                    <a:lnTo>
                      <a:pt x="442" y="720"/>
                    </a:lnTo>
                    <a:lnTo>
                      <a:pt x="457" y="820"/>
                    </a:lnTo>
                    <a:lnTo>
                      <a:pt x="469" y="920"/>
                    </a:lnTo>
                    <a:lnTo>
                      <a:pt x="480" y="1020"/>
                    </a:lnTo>
                    <a:lnTo>
                      <a:pt x="490" y="1120"/>
                    </a:lnTo>
                    <a:lnTo>
                      <a:pt x="497" y="1222"/>
                    </a:lnTo>
                    <a:lnTo>
                      <a:pt x="504" y="1323"/>
                    </a:lnTo>
                    <a:lnTo>
                      <a:pt x="508" y="1426"/>
                    </a:lnTo>
                    <a:lnTo>
                      <a:pt x="511" y="1527"/>
                    </a:lnTo>
                    <a:lnTo>
                      <a:pt x="512" y="1631"/>
                    </a:lnTo>
                    <a:lnTo>
                      <a:pt x="511" y="1711"/>
                    </a:lnTo>
                    <a:lnTo>
                      <a:pt x="510" y="1791"/>
                    </a:lnTo>
                    <a:lnTo>
                      <a:pt x="506" y="1871"/>
                    </a:lnTo>
                    <a:lnTo>
                      <a:pt x="503" y="1950"/>
                    </a:lnTo>
                    <a:lnTo>
                      <a:pt x="498" y="2030"/>
                    </a:lnTo>
                    <a:lnTo>
                      <a:pt x="493" y="2108"/>
                    </a:lnTo>
                    <a:lnTo>
                      <a:pt x="486" y="2188"/>
                    </a:lnTo>
                    <a:lnTo>
                      <a:pt x="478" y="2265"/>
                    </a:lnTo>
                    <a:lnTo>
                      <a:pt x="469" y="2344"/>
                    </a:lnTo>
                    <a:lnTo>
                      <a:pt x="459" y="2422"/>
                    </a:lnTo>
                    <a:lnTo>
                      <a:pt x="449" y="2499"/>
                    </a:lnTo>
                    <a:lnTo>
                      <a:pt x="436" y="2576"/>
                    </a:lnTo>
                    <a:lnTo>
                      <a:pt x="423" y="2652"/>
                    </a:lnTo>
                    <a:lnTo>
                      <a:pt x="410" y="2730"/>
                    </a:lnTo>
                    <a:lnTo>
                      <a:pt x="395" y="2806"/>
                    </a:lnTo>
                    <a:lnTo>
                      <a:pt x="380" y="2881"/>
                    </a:lnTo>
                    <a:lnTo>
                      <a:pt x="362" y="2957"/>
                    </a:lnTo>
                    <a:lnTo>
                      <a:pt x="345" y="3032"/>
                    </a:lnTo>
                    <a:lnTo>
                      <a:pt x="325" y="3107"/>
                    </a:lnTo>
                    <a:lnTo>
                      <a:pt x="307" y="3180"/>
                    </a:lnTo>
                    <a:lnTo>
                      <a:pt x="286" y="3254"/>
                    </a:lnTo>
                    <a:lnTo>
                      <a:pt x="264" y="3328"/>
                    </a:lnTo>
                    <a:lnTo>
                      <a:pt x="242" y="3401"/>
                    </a:lnTo>
                    <a:lnTo>
                      <a:pt x="219" y="3473"/>
                    </a:lnTo>
                    <a:lnTo>
                      <a:pt x="195" y="3546"/>
                    </a:lnTo>
                    <a:lnTo>
                      <a:pt x="170" y="3617"/>
                    </a:lnTo>
                    <a:lnTo>
                      <a:pt x="143" y="3689"/>
                    </a:lnTo>
                    <a:lnTo>
                      <a:pt x="117" y="3760"/>
                    </a:lnTo>
                    <a:lnTo>
                      <a:pt x="89" y="3831"/>
                    </a:lnTo>
                    <a:lnTo>
                      <a:pt x="60" y="3901"/>
                    </a:lnTo>
                    <a:lnTo>
                      <a:pt x="30" y="3970"/>
                    </a:lnTo>
                    <a:lnTo>
                      <a:pt x="0" y="4039"/>
                    </a:lnTo>
                    <a:lnTo>
                      <a:pt x="111" y="4020"/>
                    </a:lnTo>
                    <a:lnTo>
                      <a:pt x="140" y="3952"/>
                    </a:lnTo>
                    <a:lnTo>
                      <a:pt x="168" y="3881"/>
                    </a:lnTo>
                    <a:lnTo>
                      <a:pt x="196" y="3812"/>
                    </a:lnTo>
                    <a:lnTo>
                      <a:pt x="223" y="3742"/>
                    </a:lnTo>
                    <a:lnTo>
                      <a:pt x="249" y="3671"/>
                    </a:lnTo>
                    <a:lnTo>
                      <a:pt x="275" y="3600"/>
                    </a:lnTo>
                    <a:lnTo>
                      <a:pt x="299" y="3529"/>
                    </a:lnTo>
                    <a:lnTo>
                      <a:pt x="322" y="3457"/>
                    </a:lnTo>
                    <a:lnTo>
                      <a:pt x="344" y="3384"/>
                    </a:lnTo>
                    <a:lnTo>
                      <a:pt x="366" y="3313"/>
                    </a:lnTo>
                    <a:lnTo>
                      <a:pt x="386" y="3239"/>
                    </a:lnTo>
                    <a:lnTo>
                      <a:pt x="406" y="3167"/>
                    </a:lnTo>
                    <a:lnTo>
                      <a:pt x="426" y="3093"/>
                    </a:lnTo>
                    <a:lnTo>
                      <a:pt x="443" y="3018"/>
                    </a:lnTo>
                    <a:lnTo>
                      <a:pt x="460" y="2944"/>
                    </a:lnTo>
                    <a:lnTo>
                      <a:pt x="476" y="2869"/>
                    </a:lnTo>
                    <a:lnTo>
                      <a:pt x="493" y="2794"/>
                    </a:lnTo>
                    <a:lnTo>
                      <a:pt x="506" y="2719"/>
                    </a:lnTo>
                    <a:lnTo>
                      <a:pt x="520" y="2643"/>
                    </a:lnTo>
                    <a:lnTo>
                      <a:pt x="532" y="2567"/>
                    </a:lnTo>
                    <a:lnTo>
                      <a:pt x="543" y="2491"/>
                    </a:lnTo>
                    <a:lnTo>
                      <a:pt x="554" y="2414"/>
                    </a:lnTo>
                    <a:lnTo>
                      <a:pt x="564" y="2337"/>
                    </a:lnTo>
                    <a:lnTo>
                      <a:pt x="572" y="2259"/>
                    </a:lnTo>
                    <a:lnTo>
                      <a:pt x="580" y="2182"/>
                    </a:lnTo>
                    <a:lnTo>
                      <a:pt x="586" y="2104"/>
                    </a:lnTo>
                    <a:lnTo>
                      <a:pt x="592" y="2025"/>
                    </a:lnTo>
                    <a:lnTo>
                      <a:pt x="596" y="1947"/>
                    </a:lnTo>
                    <a:lnTo>
                      <a:pt x="600" y="1869"/>
                    </a:lnTo>
                    <a:lnTo>
                      <a:pt x="603" y="1790"/>
                    </a:lnTo>
                    <a:lnTo>
                      <a:pt x="604" y="1711"/>
                    </a:lnTo>
                    <a:lnTo>
                      <a:pt x="604" y="16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57920" y="3846600"/>
                <a:ext cx="163440" cy="1068480"/>
              </a:xfrm>
              <a:custGeom>
                <a:avLst/>
                <a:gdLst/>
                <a:ahLst/>
                <a:rect l="l" t="t" r="r" b="b"/>
                <a:pathLst>
                  <a:path w="619" h="4040">
                    <a:moveTo>
                      <a:pt x="619" y="1609"/>
                    </a:moveTo>
                    <a:lnTo>
                      <a:pt x="618" y="1504"/>
                    </a:lnTo>
                    <a:lnTo>
                      <a:pt x="616" y="1400"/>
                    </a:lnTo>
                    <a:lnTo>
                      <a:pt x="611" y="1297"/>
                    </a:lnTo>
                    <a:lnTo>
                      <a:pt x="605" y="1194"/>
                    </a:lnTo>
                    <a:lnTo>
                      <a:pt x="597" y="1092"/>
                    </a:lnTo>
                    <a:lnTo>
                      <a:pt x="587" y="990"/>
                    </a:lnTo>
                    <a:lnTo>
                      <a:pt x="575" y="889"/>
                    </a:lnTo>
                    <a:lnTo>
                      <a:pt x="563" y="787"/>
                    </a:lnTo>
                    <a:lnTo>
                      <a:pt x="548" y="687"/>
                    </a:lnTo>
                    <a:lnTo>
                      <a:pt x="532" y="587"/>
                    </a:lnTo>
                    <a:lnTo>
                      <a:pt x="513" y="487"/>
                    </a:lnTo>
                    <a:lnTo>
                      <a:pt x="494" y="388"/>
                    </a:lnTo>
                    <a:lnTo>
                      <a:pt x="473" y="290"/>
                    </a:lnTo>
                    <a:lnTo>
                      <a:pt x="450" y="194"/>
                    </a:lnTo>
                    <a:lnTo>
                      <a:pt x="426" y="96"/>
                    </a:lnTo>
                    <a:lnTo>
                      <a:pt x="399" y="0"/>
                    </a:lnTo>
                    <a:lnTo>
                      <a:pt x="324" y="36"/>
                    </a:lnTo>
                    <a:lnTo>
                      <a:pt x="312" y="36"/>
                    </a:lnTo>
                    <a:lnTo>
                      <a:pt x="338" y="130"/>
                    </a:lnTo>
                    <a:lnTo>
                      <a:pt x="361" y="225"/>
                    </a:lnTo>
                    <a:lnTo>
                      <a:pt x="384" y="320"/>
                    </a:lnTo>
                    <a:lnTo>
                      <a:pt x="405" y="416"/>
                    </a:lnTo>
                    <a:lnTo>
                      <a:pt x="423" y="513"/>
                    </a:lnTo>
                    <a:lnTo>
                      <a:pt x="441" y="610"/>
                    </a:lnTo>
                    <a:lnTo>
                      <a:pt x="457" y="708"/>
                    </a:lnTo>
                    <a:lnTo>
                      <a:pt x="472" y="806"/>
                    </a:lnTo>
                    <a:lnTo>
                      <a:pt x="484" y="905"/>
                    </a:lnTo>
                    <a:lnTo>
                      <a:pt x="495" y="1004"/>
                    </a:lnTo>
                    <a:lnTo>
                      <a:pt x="504" y="1103"/>
                    </a:lnTo>
                    <a:lnTo>
                      <a:pt x="512" y="1203"/>
                    </a:lnTo>
                    <a:lnTo>
                      <a:pt x="518" y="1305"/>
                    </a:lnTo>
                    <a:lnTo>
                      <a:pt x="522" y="1405"/>
                    </a:lnTo>
                    <a:lnTo>
                      <a:pt x="525" y="1507"/>
                    </a:lnTo>
                    <a:lnTo>
                      <a:pt x="526" y="1609"/>
                    </a:lnTo>
                    <a:lnTo>
                      <a:pt x="526" y="1690"/>
                    </a:lnTo>
                    <a:lnTo>
                      <a:pt x="524" y="1771"/>
                    </a:lnTo>
                    <a:lnTo>
                      <a:pt x="521" y="1851"/>
                    </a:lnTo>
                    <a:lnTo>
                      <a:pt x="518" y="1932"/>
                    </a:lnTo>
                    <a:lnTo>
                      <a:pt x="512" y="2013"/>
                    </a:lnTo>
                    <a:lnTo>
                      <a:pt x="506" y="2092"/>
                    </a:lnTo>
                    <a:lnTo>
                      <a:pt x="499" y="2172"/>
                    </a:lnTo>
                    <a:lnTo>
                      <a:pt x="491" y="2251"/>
                    </a:lnTo>
                    <a:lnTo>
                      <a:pt x="482" y="2330"/>
                    </a:lnTo>
                    <a:lnTo>
                      <a:pt x="472" y="2408"/>
                    </a:lnTo>
                    <a:lnTo>
                      <a:pt x="461" y="2486"/>
                    </a:lnTo>
                    <a:lnTo>
                      <a:pt x="449" y="2565"/>
                    </a:lnTo>
                    <a:lnTo>
                      <a:pt x="435" y="2642"/>
                    </a:lnTo>
                    <a:lnTo>
                      <a:pt x="421" y="2719"/>
                    </a:lnTo>
                    <a:lnTo>
                      <a:pt x="406" y="2795"/>
                    </a:lnTo>
                    <a:lnTo>
                      <a:pt x="390" y="2873"/>
                    </a:lnTo>
                    <a:lnTo>
                      <a:pt x="372" y="2949"/>
                    </a:lnTo>
                    <a:lnTo>
                      <a:pt x="354" y="3024"/>
                    </a:lnTo>
                    <a:lnTo>
                      <a:pt x="334" y="3100"/>
                    </a:lnTo>
                    <a:lnTo>
                      <a:pt x="315" y="3175"/>
                    </a:lnTo>
                    <a:lnTo>
                      <a:pt x="294" y="3249"/>
                    </a:lnTo>
                    <a:lnTo>
                      <a:pt x="271" y="3323"/>
                    </a:lnTo>
                    <a:lnTo>
                      <a:pt x="248" y="3397"/>
                    </a:lnTo>
                    <a:lnTo>
                      <a:pt x="225" y="3470"/>
                    </a:lnTo>
                    <a:lnTo>
                      <a:pt x="199" y="3543"/>
                    </a:lnTo>
                    <a:lnTo>
                      <a:pt x="174" y="3616"/>
                    </a:lnTo>
                    <a:lnTo>
                      <a:pt x="146" y="3688"/>
                    </a:lnTo>
                    <a:lnTo>
                      <a:pt x="119" y="3759"/>
                    </a:lnTo>
                    <a:lnTo>
                      <a:pt x="91" y="3830"/>
                    </a:lnTo>
                    <a:lnTo>
                      <a:pt x="61" y="3901"/>
                    </a:lnTo>
                    <a:lnTo>
                      <a:pt x="31" y="3971"/>
                    </a:lnTo>
                    <a:lnTo>
                      <a:pt x="0" y="4040"/>
                    </a:lnTo>
                    <a:lnTo>
                      <a:pt x="59" y="4018"/>
                    </a:lnTo>
                    <a:lnTo>
                      <a:pt x="116" y="4008"/>
                    </a:lnTo>
                    <a:lnTo>
                      <a:pt x="146" y="3939"/>
                    </a:lnTo>
                    <a:lnTo>
                      <a:pt x="175" y="3870"/>
                    </a:lnTo>
                    <a:lnTo>
                      <a:pt x="203" y="3799"/>
                    </a:lnTo>
                    <a:lnTo>
                      <a:pt x="231" y="3729"/>
                    </a:lnTo>
                    <a:lnTo>
                      <a:pt x="257" y="3659"/>
                    </a:lnTo>
                    <a:lnTo>
                      <a:pt x="282" y="3587"/>
                    </a:lnTo>
                    <a:lnTo>
                      <a:pt x="308" y="3516"/>
                    </a:lnTo>
                    <a:lnTo>
                      <a:pt x="331" y="3443"/>
                    </a:lnTo>
                    <a:lnTo>
                      <a:pt x="354" y="3371"/>
                    </a:lnTo>
                    <a:lnTo>
                      <a:pt x="376" y="3298"/>
                    </a:lnTo>
                    <a:lnTo>
                      <a:pt x="397" y="3225"/>
                    </a:lnTo>
                    <a:lnTo>
                      <a:pt x="417" y="3151"/>
                    </a:lnTo>
                    <a:lnTo>
                      <a:pt x="437" y="3078"/>
                    </a:lnTo>
                    <a:lnTo>
                      <a:pt x="456" y="3003"/>
                    </a:lnTo>
                    <a:lnTo>
                      <a:pt x="473" y="2928"/>
                    </a:lnTo>
                    <a:lnTo>
                      <a:pt x="489" y="2853"/>
                    </a:lnTo>
                    <a:lnTo>
                      <a:pt x="504" y="2778"/>
                    </a:lnTo>
                    <a:lnTo>
                      <a:pt x="519" y="2702"/>
                    </a:lnTo>
                    <a:lnTo>
                      <a:pt x="533" y="2626"/>
                    </a:lnTo>
                    <a:lnTo>
                      <a:pt x="545" y="2550"/>
                    </a:lnTo>
                    <a:lnTo>
                      <a:pt x="557" y="2473"/>
                    </a:lnTo>
                    <a:lnTo>
                      <a:pt x="567" y="2395"/>
                    </a:lnTo>
                    <a:lnTo>
                      <a:pt x="578" y="2318"/>
                    </a:lnTo>
                    <a:lnTo>
                      <a:pt x="586" y="2241"/>
                    </a:lnTo>
                    <a:lnTo>
                      <a:pt x="594" y="2162"/>
                    </a:lnTo>
                    <a:lnTo>
                      <a:pt x="601" y="2084"/>
                    </a:lnTo>
                    <a:lnTo>
                      <a:pt x="607" y="2006"/>
                    </a:lnTo>
                    <a:lnTo>
                      <a:pt x="611" y="1927"/>
                    </a:lnTo>
                    <a:lnTo>
                      <a:pt x="615" y="1848"/>
                    </a:lnTo>
                    <a:lnTo>
                      <a:pt x="617" y="1768"/>
                    </a:lnTo>
                    <a:lnTo>
                      <a:pt x="618" y="1689"/>
                    </a:lnTo>
                    <a:lnTo>
                      <a:pt x="619" y="160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40280" y="3851280"/>
                <a:ext cx="169920" cy="1069920"/>
              </a:xfrm>
              <a:custGeom>
                <a:avLst/>
                <a:gdLst/>
                <a:ahLst/>
                <a:rect l="l" t="t" r="r" b="b"/>
                <a:pathLst>
                  <a:path w="637" h="4045">
                    <a:moveTo>
                      <a:pt x="637" y="1590"/>
                    </a:moveTo>
                    <a:lnTo>
                      <a:pt x="636" y="1486"/>
                    </a:lnTo>
                    <a:lnTo>
                      <a:pt x="633" y="1385"/>
                    </a:lnTo>
                    <a:lnTo>
                      <a:pt x="629" y="1282"/>
                    </a:lnTo>
                    <a:lnTo>
                      <a:pt x="622" y="1181"/>
                    </a:lnTo>
                    <a:lnTo>
                      <a:pt x="615" y="1079"/>
                    </a:lnTo>
                    <a:lnTo>
                      <a:pt x="605" y="979"/>
                    </a:lnTo>
                    <a:lnTo>
                      <a:pt x="594" y="879"/>
                    </a:lnTo>
                    <a:lnTo>
                      <a:pt x="582" y="779"/>
                    </a:lnTo>
                    <a:lnTo>
                      <a:pt x="567" y="679"/>
                    </a:lnTo>
                    <a:lnTo>
                      <a:pt x="551" y="581"/>
                    </a:lnTo>
                    <a:lnTo>
                      <a:pt x="533" y="482"/>
                    </a:lnTo>
                    <a:lnTo>
                      <a:pt x="514" y="385"/>
                    </a:lnTo>
                    <a:lnTo>
                      <a:pt x="493" y="289"/>
                    </a:lnTo>
                    <a:lnTo>
                      <a:pt x="470" y="192"/>
                    </a:lnTo>
                    <a:lnTo>
                      <a:pt x="446" y="96"/>
                    </a:lnTo>
                    <a:lnTo>
                      <a:pt x="420" y="0"/>
                    </a:lnTo>
                    <a:lnTo>
                      <a:pt x="388" y="17"/>
                    </a:lnTo>
                    <a:lnTo>
                      <a:pt x="328" y="17"/>
                    </a:lnTo>
                    <a:lnTo>
                      <a:pt x="353" y="111"/>
                    </a:lnTo>
                    <a:lnTo>
                      <a:pt x="378" y="206"/>
                    </a:lnTo>
                    <a:lnTo>
                      <a:pt x="400" y="301"/>
                    </a:lnTo>
                    <a:lnTo>
                      <a:pt x="420" y="397"/>
                    </a:lnTo>
                    <a:lnTo>
                      <a:pt x="440" y="494"/>
                    </a:lnTo>
                    <a:lnTo>
                      <a:pt x="457" y="591"/>
                    </a:lnTo>
                    <a:lnTo>
                      <a:pt x="473" y="689"/>
                    </a:lnTo>
                    <a:lnTo>
                      <a:pt x="488" y="787"/>
                    </a:lnTo>
                    <a:lnTo>
                      <a:pt x="501" y="886"/>
                    </a:lnTo>
                    <a:lnTo>
                      <a:pt x="513" y="985"/>
                    </a:lnTo>
                    <a:lnTo>
                      <a:pt x="522" y="1084"/>
                    </a:lnTo>
                    <a:lnTo>
                      <a:pt x="530" y="1184"/>
                    </a:lnTo>
                    <a:lnTo>
                      <a:pt x="536" y="1285"/>
                    </a:lnTo>
                    <a:lnTo>
                      <a:pt x="540" y="1386"/>
                    </a:lnTo>
                    <a:lnTo>
                      <a:pt x="543" y="1488"/>
                    </a:lnTo>
                    <a:lnTo>
                      <a:pt x="544" y="1590"/>
                    </a:lnTo>
                    <a:lnTo>
                      <a:pt x="543" y="1672"/>
                    </a:lnTo>
                    <a:lnTo>
                      <a:pt x="541" y="1754"/>
                    </a:lnTo>
                    <a:lnTo>
                      <a:pt x="538" y="1836"/>
                    </a:lnTo>
                    <a:lnTo>
                      <a:pt x="535" y="1916"/>
                    </a:lnTo>
                    <a:lnTo>
                      <a:pt x="529" y="1998"/>
                    </a:lnTo>
                    <a:lnTo>
                      <a:pt x="523" y="2079"/>
                    </a:lnTo>
                    <a:lnTo>
                      <a:pt x="516" y="2158"/>
                    </a:lnTo>
                    <a:lnTo>
                      <a:pt x="508" y="2239"/>
                    </a:lnTo>
                    <a:lnTo>
                      <a:pt x="498" y="2319"/>
                    </a:lnTo>
                    <a:lnTo>
                      <a:pt x="487" y="2398"/>
                    </a:lnTo>
                    <a:lnTo>
                      <a:pt x="476" y="2478"/>
                    </a:lnTo>
                    <a:lnTo>
                      <a:pt x="463" y="2556"/>
                    </a:lnTo>
                    <a:lnTo>
                      <a:pt x="449" y="2635"/>
                    </a:lnTo>
                    <a:lnTo>
                      <a:pt x="435" y="2712"/>
                    </a:lnTo>
                    <a:lnTo>
                      <a:pt x="419" y="2790"/>
                    </a:lnTo>
                    <a:lnTo>
                      <a:pt x="403" y="2867"/>
                    </a:lnTo>
                    <a:lnTo>
                      <a:pt x="385" y="2945"/>
                    </a:lnTo>
                    <a:lnTo>
                      <a:pt x="366" y="3021"/>
                    </a:lnTo>
                    <a:lnTo>
                      <a:pt x="346" y="3097"/>
                    </a:lnTo>
                    <a:lnTo>
                      <a:pt x="326" y="3173"/>
                    </a:lnTo>
                    <a:lnTo>
                      <a:pt x="304" y="3248"/>
                    </a:lnTo>
                    <a:lnTo>
                      <a:pt x="281" y="3323"/>
                    </a:lnTo>
                    <a:lnTo>
                      <a:pt x="257" y="3396"/>
                    </a:lnTo>
                    <a:lnTo>
                      <a:pt x="232" y="3470"/>
                    </a:lnTo>
                    <a:lnTo>
                      <a:pt x="207" y="3544"/>
                    </a:lnTo>
                    <a:lnTo>
                      <a:pt x="180" y="3618"/>
                    </a:lnTo>
                    <a:lnTo>
                      <a:pt x="153" y="3690"/>
                    </a:lnTo>
                    <a:lnTo>
                      <a:pt x="124" y="3762"/>
                    </a:lnTo>
                    <a:lnTo>
                      <a:pt x="95" y="3833"/>
                    </a:lnTo>
                    <a:lnTo>
                      <a:pt x="64" y="3905"/>
                    </a:lnTo>
                    <a:lnTo>
                      <a:pt x="33" y="3975"/>
                    </a:lnTo>
                    <a:lnTo>
                      <a:pt x="0" y="4045"/>
                    </a:lnTo>
                    <a:lnTo>
                      <a:pt x="123" y="3999"/>
                    </a:lnTo>
                    <a:lnTo>
                      <a:pt x="125" y="3998"/>
                    </a:lnTo>
                    <a:lnTo>
                      <a:pt x="155" y="3929"/>
                    </a:lnTo>
                    <a:lnTo>
                      <a:pt x="185" y="3860"/>
                    </a:lnTo>
                    <a:lnTo>
                      <a:pt x="214" y="3790"/>
                    </a:lnTo>
                    <a:lnTo>
                      <a:pt x="242" y="3719"/>
                    </a:lnTo>
                    <a:lnTo>
                      <a:pt x="268" y="3648"/>
                    </a:lnTo>
                    <a:lnTo>
                      <a:pt x="295" y="3576"/>
                    </a:lnTo>
                    <a:lnTo>
                      <a:pt x="320" y="3505"/>
                    </a:lnTo>
                    <a:lnTo>
                      <a:pt x="344" y="3432"/>
                    </a:lnTo>
                    <a:lnTo>
                      <a:pt x="367" y="3360"/>
                    </a:lnTo>
                    <a:lnTo>
                      <a:pt x="389" y="3287"/>
                    </a:lnTo>
                    <a:lnTo>
                      <a:pt x="411" y="3213"/>
                    </a:lnTo>
                    <a:lnTo>
                      <a:pt x="432" y="3139"/>
                    </a:lnTo>
                    <a:lnTo>
                      <a:pt x="450" y="3066"/>
                    </a:lnTo>
                    <a:lnTo>
                      <a:pt x="470" y="2991"/>
                    </a:lnTo>
                    <a:lnTo>
                      <a:pt x="487" y="2916"/>
                    </a:lnTo>
                    <a:lnTo>
                      <a:pt x="505" y="2840"/>
                    </a:lnTo>
                    <a:lnTo>
                      <a:pt x="520" y="2765"/>
                    </a:lnTo>
                    <a:lnTo>
                      <a:pt x="535" y="2689"/>
                    </a:lnTo>
                    <a:lnTo>
                      <a:pt x="548" y="2611"/>
                    </a:lnTo>
                    <a:lnTo>
                      <a:pt x="561" y="2535"/>
                    </a:lnTo>
                    <a:lnTo>
                      <a:pt x="574" y="2458"/>
                    </a:lnTo>
                    <a:lnTo>
                      <a:pt x="584" y="2381"/>
                    </a:lnTo>
                    <a:lnTo>
                      <a:pt x="594" y="2303"/>
                    </a:lnTo>
                    <a:lnTo>
                      <a:pt x="603" y="2224"/>
                    </a:lnTo>
                    <a:lnTo>
                      <a:pt x="611" y="2147"/>
                    </a:lnTo>
                    <a:lnTo>
                      <a:pt x="618" y="2067"/>
                    </a:lnTo>
                    <a:lnTo>
                      <a:pt x="623" y="1989"/>
                    </a:lnTo>
                    <a:lnTo>
                      <a:pt x="628" y="1909"/>
                    </a:lnTo>
                    <a:lnTo>
                      <a:pt x="631" y="1830"/>
                    </a:lnTo>
                    <a:lnTo>
                      <a:pt x="635" y="1750"/>
                    </a:lnTo>
                    <a:lnTo>
                      <a:pt x="636" y="1670"/>
                    </a:lnTo>
                    <a:lnTo>
                      <a:pt x="637" y="159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24440" y="3855960"/>
                <a:ext cx="173160" cy="1071720"/>
              </a:xfrm>
              <a:custGeom>
                <a:avLst/>
                <a:gdLst/>
                <a:ahLst/>
                <a:rect l="l" t="t" r="r" b="b"/>
                <a:pathLst>
                  <a:path w="652" h="4053">
                    <a:moveTo>
                      <a:pt x="652" y="1573"/>
                    </a:moveTo>
                    <a:lnTo>
                      <a:pt x="651" y="1471"/>
                    </a:lnTo>
                    <a:lnTo>
                      <a:pt x="648" y="1369"/>
                    </a:lnTo>
                    <a:lnTo>
                      <a:pt x="644" y="1269"/>
                    </a:lnTo>
                    <a:lnTo>
                      <a:pt x="638" y="1167"/>
                    </a:lnTo>
                    <a:lnTo>
                      <a:pt x="630" y="1067"/>
                    </a:lnTo>
                    <a:lnTo>
                      <a:pt x="621" y="968"/>
                    </a:lnTo>
                    <a:lnTo>
                      <a:pt x="610" y="869"/>
                    </a:lnTo>
                    <a:lnTo>
                      <a:pt x="598" y="770"/>
                    </a:lnTo>
                    <a:lnTo>
                      <a:pt x="583" y="672"/>
                    </a:lnTo>
                    <a:lnTo>
                      <a:pt x="567" y="574"/>
                    </a:lnTo>
                    <a:lnTo>
                      <a:pt x="549" y="477"/>
                    </a:lnTo>
                    <a:lnTo>
                      <a:pt x="531" y="380"/>
                    </a:lnTo>
                    <a:lnTo>
                      <a:pt x="510" y="284"/>
                    </a:lnTo>
                    <a:lnTo>
                      <a:pt x="487" y="189"/>
                    </a:lnTo>
                    <a:lnTo>
                      <a:pt x="464" y="94"/>
                    </a:lnTo>
                    <a:lnTo>
                      <a:pt x="438" y="0"/>
                    </a:lnTo>
                    <a:lnTo>
                      <a:pt x="376" y="0"/>
                    </a:lnTo>
                    <a:lnTo>
                      <a:pt x="346" y="15"/>
                    </a:lnTo>
                    <a:lnTo>
                      <a:pt x="370" y="108"/>
                    </a:lnTo>
                    <a:lnTo>
                      <a:pt x="395" y="201"/>
                    </a:lnTo>
                    <a:lnTo>
                      <a:pt x="417" y="296"/>
                    </a:lnTo>
                    <a:lnTo>
                      <a:pt x="437" y="390"/>
                    </a:lnTo>
                    <a:lnTo>
                      <a:pt x="457" y="487"/>
                    </a:lnTo>
                    <a:lnTo>
                      <a:pt x="474" y="583"/>
                    </a:lnTo>
                    <a:lnTo>
                      <a:pt x="490" y="680"/>
                    </a:lnTo>
                    <a:lnTo>
                      <a:pt x="504" y="777"/>
                    </a:lnTo>
                    <a:lnTo>
                      <a:pt x="517" y="875"/>
                    </a:lnTo>
                    <a:lnTo>
                      <a:pt x="527" y="973"/>
                    </a:lnTo>
                    <a:lnTo>
                      <a:pt x="538" y="1072"/>
                    </a:lnTo>
                    <a:lnTo>
                      <a:pt x="545" y="1171"/>
                    </a:lnTo>
                    <a:lnTo>
                      <a:pt x="550" y="1271"/>
                    </a:lnTo>
                    <a:lnTo>
                      <a:pt x="555" y="1371"/>
                    </a:lnTo>
                    <a:lnTo>
                      <a:pt x="558" y="1472"/>
                    </a:lnTo>
                    <a:lnTo>
                      <a:pt x="558" y="1573"/>
                    </a:lnTo>
                    <a:lnTo>
                      <a:pt x="558" y="1656"/>
                    </a:lnTo>
                    <a:lnTo>
                      <a:pt x="556" y="1739"/>
                    </a:lnTo>
                    <a:lnTo>
                      <a:pt x="554" y="1821"/>
                    </a:lnTo>
                    <a:lnTo>
                      <a:pt x="549" y="1904"/>
                    </a:lnTo>
                    <a:lnTo>
                      <a:pt x="545" y="1986"/>
                    </a:lnTo>
                    <a:lnTo>
                      <a:pt x="538" y="2066"/>
                    </a:lnTo>
                    <a:lnTo>
                      <a:pt x="531" y="2148"/>
                    </a:lnTo>
                    <a:lnTo>
                      <a:pt x="522" y="2229"/>
                    </a:lnTo>
                    <a:lnTo>
                      <a:pt x="512" y="2310"/>
                    </a:lnTo>
                    <a:lnTo>
                      <a:pt x="501" y="2390"/>
                    </a:lnTo>
                    <a:lnTo>
                      <a:pt x="489" y="2470"/>
                    </a:lnTo>
                    <a:lnTo>
                      <a:pt x="477" y="2549"/>
                    </a:lnTo>
                    <a:lnTo>
                      <a:pt x="463" y="2629"/>
                    </a:lnTo>
                    <a:lnTo>
                      <a:pt x="448" y="2707"/>
                    </a:lnTo>
                    <a:lnTo>
                      <a:pt x="430" y="2786"/>
                    </a:lnTo>
                    <a:lnTo>
                      <a:pt x="414" y="2864"/>
                    </a:lnTo>
                    <a:lnTo>
                      <a:pt x="396" y="2941"/>
                    </a:lnTo>
                    <a:lnTo>
                      <a:pt x="376" y="3019"/>
                    </a:lnTo>
                    <a:lnTo>
                      <a:pt x="355" y="3096"/>
                    </a:lnTo>
                    <a:lnTo>
                      <a:pt x="335" y="3172"/>
                    </a:lnTo>
                    <a:lnTo>
                      <a:pt x="312" y="3248"/>
                    </a:lnTo>
                    <a:lnTo>
                      <a:pt x="289" y="3323"/>
                    </a:lnTo>
                    <a:lnTo>
                      <a:pt x="264" y="3399"/>
                    </a:lnTo>
                    <a:lnTo>
                      <a:pt x="239" y="3473"/>
                    </a:lnTo>
                    <a:lnTo>
                      <a:pt x="212" y="3548"/>
                    </a:lnTo>
                    <a:lnTo>
                      <a:pt x="185" y="3622"/>
                    </a:lnTo>
                    <a:lnTo>
                      <a:pt x="156" y="3694"/>
                    </a:lnTo>
                    <a:lnTo>
                      <a:pt x="127" y="3767"/>
                    </a:lnTo>
                    <a:lnTo>
                      <a:pt x="97" y="3839"/>
                    </a:lnTo>
                    <a:lnTo>
                      <a:pt x="66" y="3911"/>
                    </a:lnTo>
                    <a:lnTo>
                      <a:pt x="34" y="3982"/>
                    </a:lnTo>
                    <a:lnTo>
                      <a:pt x="0" y="4053"/>
                    </a:lnTo>
                    <a:lnTo>
                      <a:pt x="126" y="4004"/>
                    </a:lnTo>
                    <a:lnTo>
                      <a:pt x="157" y="3935"/>
                    </a:lnTo>
                    <a:lnTo>
                      <a:pt x="187" y="3865"/>
                    </a:lnTo>
                    <a:lnTo>
                      <a:pt x="217" y="3794"/>
                    </a:lnTo>
                    <a:lnTo>
                      <a:pt x="245" y="3723"/>
                    </a:lnTo>
                    <a:lnTo>
                      <a:pt x="272" y="3652"/>
                    </a:lnTo>
                    <a:lnTo>
                      <a:pt x="300" y="3580"/>
                    </a:lnTo>
                    <a:lnTo>
                      <a:pt x="325" y="3507"/>
                    </a:lnTo>
                    <a:lnTo>
                      <a:pt x="351" y="3434"/>
                    </a:lnTo>
                    <a:lnTo>
                      <a:pt x="374" y="3361"/>
                    </a:lnTo>
                    <a:lnTo>
                      <a:pt x="397" y="3287"/>
                    </a:lnTo>
                    <a:lnTo>
                      <a:pt x="420" y="3213"/>
                    </a:lnTo>
                    <a:lnTo>
                      <a:pt x="441" y="3139"/>
                    </a:lnTo>
                    <a:lnTo>
                      <a:pt x="460" y="3064"/>
                    </a:lnTo>
                    <a:lnTo>
                      <a:pt x="480" y="2988"/>
                    </a:lnTo>
                    <a:lnTo>
                      <a:pt x="498" y="2913"/>
                    </a:lnTo>
                    <a:lnTo>
                      <a:pt x="516" y="2837"/>
                    </a:lnTo>
                    <a:lnTo>
                      <a:pt x="532" y="2759"/>
                    </a:lnTo>
                    <a:lnTo>
                      <a:pt x="547" y="2683"/>
                    </a:lnTo>
                    <a:lnTo>
                      <a:pt x="561" y="2606"/>
                    </a:lnTo>
                    <a:lnTo>
                      <a:pt x="575" y="2529"/>
                    </a:lnTo>
                    <a:lnTo>
                      <a:pt x="587" y="2450"/>
                    </a:lnTo>
                    <a:lnTo>
                      <a:pt x="598" y="2372"/>
                    </a:lnTo>
                    <a:lnTo>
                      <a:pt x="608" y="2294"/>
                    </a:lnTo>
                    <a:lnTo>
                      <a:pt x="617" y="2215"/>
                    </a:lnTo>
                    <a:lnTo>
                      <a:pt x="625" y="2136"/>
                    </a:lnTo>
                    <a:lnTo>
                      <a:pt x="632" y="2056"/>
                    </a:lnTo>
                    <a:lnTo>
                      <a:pt x="638" y="1977"/>
                    </a:lnTo>
                    <a:lnTo>
                      <a:pt x="644" y="1896"/>
                    </a:lnTo>
                    <a:lnTo>
                      <a:pt x="647" y="1815"/>
                    </a:lnTo>
                    <a:lnTo>
                      <a:pt x="650" y="1735"/>
                    </a:lnTo>
                    <a:lnTo>
                      <a:pt x="652" y="1654"/>
                    </a:lnTo>
                    <a:lnTo>
                      <a:pt x="652" y="157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8600" y="3855960"/>
                <a:ext cx="176040" cy="1077840"/>
              </a:xfrm>
              <a:custGeom>
                <a:avLst/>
                <a:gdLst/>
                <a:ahLst/>
                <a:rect l="l" t="t" r="r" b="b"/>
                <a:pathLst>
                  <a:path w="667" h="4073">
                    <a:moveTo>
                      <a:pt x="667" y="1573"/>
                    </a:moveTo>
                    <a:lnTo>
                      <a:pt x="666" y="1471"/>
                    </a:lnTo>
                    <a:lnTo>
                      <a:pt x="663" y="1369"/>
                    </a:lnTo>
                    <a:lnTo>
                      <a:pt x="659" y="1268"/>
                    </a:lnTo>
                    <a:lnTo>
                      <a:pt x="653" y="1167"/>
                    </a:lnTo>
                    <a:lnTo>
                      <a:pt x="645" y="1067"/>
                    </a:lnTo>
                    <a:lnTo>
                      <a:pt x="636" y="968"/>
                    </a:lnTo>
                    <a:lnTo>
                      <a:pt x="624" y="869"/>
                    </a:lnTo>
                    <a:lnTo>
                      <a:pt x="611" y="770"/>
                    </a:lnTo>
                    <a:lnTo>
                      <a:pt x="596" y="672"/>
                    </a:lnTo>
                    <a:lnTo>
                      <a:pt x="580" y="574"/>
                    </a:lnTo>
                    <a:lnTo>
                      <a:pt x="563" y="477"/>
                    </a:lnTo>
                    <a:lnTo>
                      <a:pt x="543" y="380"/>
                    </a:lnTo>
                    <a:lnTo>
                      <a:pt x="523" y="284"/>
                    </a:lnTo>
                    <a:lnTo>
                      <a:pt x="501" y="189"/>
                    </a:lnTo>
                    <a:lnTo>
                      <a:pt x="476" y="94"/>
                    </a:lnTo>
                    <a:lnTo>
                      <a:pt x="451" y="0"/>
                    </a:lnTo>
                    <a:lnTo>
                      <a:pt x="437" y="0"/>
                    </a:lnTo>
                    <a:lnTo>
                      <a:pt x="365" y="34"/>
                    </a:lnTo>
                    <a:lnTo>
                      <a:pt x="389" y="126"/>
                    </a:lnTo>
                    <a:lnTo>
                      <a:pt x="412" y="220"/>
                    </a:lnTo>
                    <a:lnTo>
                      <a:pt x="434" y="313"/>
                    </a:lnTo>
                    <a:lnTo>
                      <a:pt x="455" y="407"/>
                    </a:lnTo>
                    <a:lnTo>
                      <a:pt x="473" y="501"/>
                    </a:lnTo>
                    <a:lnTo>
                      <a:pt x="490" y="596"/>
                    </a:lnTo>
                    <a:lnTo>
                      <a:pt x="505" y="691"/>
                    </a:lnTo>
                    <a:lnTo>
                      <a:pt x="520" y="787"/>
                    </a:lnTo>
                    <a:lnTo>
                      <a:pt x="532" y="884"/>
                    </a:lnTo>
                    <a:lnTo>
                      <a:pt x="543" y="981"/>
                    </a:lnTo>
                    <a:lnTo>
                      <a:pt x="553" y="1079"/>
                    </a:lnTo>
                    <a:lnTo>
                      <a:pt x="559" y="1177"/>
                    </a:lnTo>
                    <a:lnTo>
                      <a:pt x="565" y="1275"/>
                    </a:lnTo>
                    <a:lnTo>
                      <a:pt x="570" y="1374"/>
                    </a:lnTo>
                    <a:lnTo>
                      <a:pt x="572" y="1473"/>
                    </a:lnTo>
                    <a:lnTo>
                      <a:pt x="573" y="1573"/>
                    </a:lnTo>
                    <a:lnTo>
                      <a:pt x="572" y="1657"/>
                    </a:lnTo>
                    <a:lnTo>
                      <a:pt x="571" y="1740"/>
                    </a:lnTo>
                    <a:lnTo>
                      <a:pt x="568" y="1823"/>
                    </a:lnTo>
                    <a:lnTo>
                      <a:pt x="564" y="1906"/>
                    </a:lnTo>
                    <a:lnTo>
                      <a:pt x="558" y="1989"/>
                    </a:lnTo>
                    <a:lnTo>
                      <a:pt x="551" y="2072"/>
                    </a:lnTo>
                    <a:lnTo>
                      <a:pt x="544" y="2154"/>
                    </a:lnTo>
                    <a:lnTo>
                      <a:pt x="535" y="2236"/>
                    </a:lnTo>
                    <a:lnTo>
                      <a:pt x="525" y="2317"/>
                    </a:lnTo>
                    <a:lnTo>
                      <a:pt x="514" y="2398"/>
                    </a:lnTo>
                    <a:lnTo>
                      <a:pt x="502" y="2479"/>
                    </a:lnTo>
                    <a:lnTo>
                      <a:pt x="489" y="2559"/>
                    </a:lnTo>
                    <a:lnTo>
                      <a:pt x="474" y="2639"/>
                    </a:lnTo>
                    <a:lnTo>
                      <a:pt x="459" y="2719"/>
                    </a:lnTo>
                    <a:lnTo>
                      <a:pt x="442" y="2797"/>
                    </a:lnTo>
                    <a:lnTo>
                      <a:pt x="425" y="2876"/>
                    </a:lnTo>
                    <a:lnTo>
                      <a:pt x="405" y="2954"/>
                    </a:lnTo>
                    <a:lnTo>
                      <a:pt x="385" y="3032"/>
                    </a:lnTo>
                    <a:lnTo>
                      <a:pt x="365" y="3110"/>
                    </a:lnTo>
                    <a:lnTo>
                      <a:pt x="343" y="3187"/>
                    </a:lnTo>
                    <a:lnTo>
                      <a:pt x="320" y="3263"/>
                    </a:lnTo>
                    <a:lnTo>
                      <a:pt x="295" y="3339"/>
                    </a:lnTo>
                    <a:lnTo>
                      <a:pt x="270" y="3415"/>
                    </a:lnTo>
                    <a:lnTo>
                      <a:pt x="245" y="3490"/>
                    </a:lnTo>
                    <a:lnTo>
                      <a:pt x="217" y="3565"/>
                    </a:lnTo>
                    <a:lnTo>
                      <a:pt x="189" y="3639"/>
                    </a:lnTo>
                    <a:lnTo>
                      <a:pt x="159" y="3713"/>
                    </a:lnTo>
                    <a:lnTo>
                      <a:pt x="129" y="3786"/>
                    </a:lnTo>
                    <a:lnTo>
                      <a:pt x="98" y="3859"/>
                    </a:lnTo>
                    <a:lnTo>
                      <a:pt x="67" y="3930"/>
                    </a:lnTo>
                    <a:lnTo>
                      <a:pt x="34" y="4003"/>
                    </a:lnTo>
                    <a:lnTo>
                      <a:pt x="0" y="4073"/>
                    </a:lnTo>
                    <a:lnTo>
                      <a:pt x="55" y="4055"/>
                    </a:lnTo>
                    <a:lnTo>
                      <a:pt x="123" y="4028"/>
                    </a:lnTo>
                    <a:lnTo>
                      <a:pt x="156" y="3958"/>
                    </a:lnTo>
                    <a:lnTo>
                      <a:pt x="187" y="3888"/>
                    </a:lnTo>
                    <a:lnTo>
                      <a:pt x="218" y="3816"/>
                    </a:lnTo>
                    <a:lnTo>
                      <a:pt x="247" y="3745"/>
                    </a:lnTo>
                    <a:lnTo>
                      <a:pt x="276" y="3673"/>
                    </a:lnTo>
                    <a:lnTo>
                      <a:pt x="303" y="3601"/>
                    </a:lnTo>
                    <a:lnTo>
                      <a:pt x="330" y="3527"/>
                    </a:lnTo>
                    <a:lnTo>
                      <a:pt x="355" y="3453"/>
                    </a:lnTo>
                    <a:lnTo>
                      <a:pt x="380" y="3379"/>
                    </a:lnTo>
                    <a:lnTo>
                      <a:pt x="404" y="3306"/>
                    </a:lnTo>
                    <a:lnTo>
                      <a:pt x="427" y="3231"/>
                    </a:lnTo>
                    <a:lnTo>
                      <a:pt x="449" y="3156"/>
                    </a:lnTo>
                    <a:lnTo>
                      <a:pt x="469" y="3080"/>
                    </a:lnTo>
                    <a:lnTo>
                      <a:pt x="489" y="3004"/>
                    </a:lnTo>
                    <a:lnTo>
                      <a:pt x="508" y="2928"/>
                    </a:lnTo>
                    <a:lnTo>
                      <a:pt x="526" y="2850"/>
                    </a:lnTo>
                    <a:lnTo>
                      <a:pt x="542" y="2773"/>
                    </a:lnTo>
                    <a:lnTo>
                      <a:pt x="558" y="2695"/>
                    </a:lnTo>
                    <a:lnTo>
                      <a:pt x="572" y="2618"/>
                    </a:lnTo>
                    <a:lnTo>
                      <a:pt x="586" y="2539"/>
                    </a:lnTo>
                    <a:lnTo>
                      <a:pt x="599" y="2461"/>
                    </a:lnTo>
                    <a:lnTo>
                      <a:pt x="610" y="2381"/>
                    </a:lnTo>
                    <a:lnTo>
                      <a:pt x="621" y="2302"/>
                    </a:lnTo>
                    <a:lnTo>
                      <a:pt x="631" y="2222"/>
                    </a:lnTo>
                    <a:lnTo>
                      <a:pt x="639" y="2141"/>
                    </a:lnTo>
                    <a:lnTo>
                      <a:pt x="646" y="2062"/>
                    </a:lnTo>
                    <a:lnTo>
                      <a:pt x="652" y="1981"/>
                    </a:lnTo>
                    <a:lnTo>
                      <a:pt x="658" y="1899"/>
                    </a:lnTo>
                    <a:lnTo>
                      <a:pt x="661" y="1819"/>
                    </a:lnTo>
                    <a:lnTo>
                      <a:pt x="664" y="1737"/>
                    </a:lnTo>
                    <a:lnTo>
                      <a:pt x="666" y="1655"/>
                    </a:lnTo>
                    <a:lnTo>
                      <a:pt x="667" y="157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90960" y="3859200"/>
                <a:ext cx="181080" cy="1079640"/>
              </a:xfrm>
              <a:custGeom>
                <a:avLst/>
                <a:gdLst/>
                <a:ahLst/>
                <a:rect l="l" t="t" r="r" b="b"/>
                <a:pathLst>
                  <a:path w="681" h="4079">
                    <a:moveTo>
                      <a:pt x="681" y="1558"/>
                    </a:moveTo>
                    <a:lnTo>
                      <a:pt x="681" y="1457"/>
                    </a:lnTo>
                    <a:lnTo>
                      <a:pt x="678" y="1356"/>
                    </a:lnTo>
                    <a:lnTo>
                      <a:pt x="675" y="1256"/>
                    </a:lnTo>
                    <a:lnTo>
                      <a:pt x="668" y="1156"/>
                    </a:lnTo>
                    <a:lnTo>
                      <a:pt x="661" y="1057"/>
                    </a:lnTo>
                    <a:lnTo>
                      <a:pt x="651" y="958"/>
                    </a:lnTo>
                    <a:lnTo>
                      <a:pt x="640" y="860"/>
                    </a:lnTo>
                    <a:lnTo>
                      <a:pt x="627" y="762"/>
                    </a:lnTo>
                    <a:lnTo>
                      <a:pt x="613" y="665"/>
                    </a:lnTo>
                    <a:lnTo>
                      <a:pt x="597" y="568"/>
                    </a:lnTo>
                    <a:lnTo>
                      <a:pt x="580" y="472"/>
                    </a:lnTo>
                    <a:lnTo>
                      <a:pt x="560" y="377"/>
                    </a:lnTo>
                    <a:lnTo>
                      <a:pt x="540" y="281"/>
                    </a:lnTo>
                    <a:lnTo>
                      <a:pt x="518" y="186"/>
                    </a:lnTo>
                    <a:lnTo>
                      <a:pt x="493" y="93"/>
                    </a:lnTo>
                    <a:lnTo>
                      <a:pt x="469" y="0"/>
                    </a:lnTo>
                    <a:lnTo>
                      <a:pt x="422" y="22"/>
                    </a:lnTo>
                    <a:lnTo>
                      <a:pt x="384" y="41"/>
                    </a:lnTo>
                    <a:lnTo>
                      <a:pt x="408" y="132"/>
                    </a:lnTo>
                    <a:lnTo>
                      <a:pt x="431" y="223"/>
                    </a:lnTo>
                    <a:lnTo>
                      <a:pt x="452" y="315"/>
                    </a:lnTo>
                    <a:lnTo>
                      <a:pt x="472" y="408"/>
                    </a:lnTo>
                    <a:lnTo>
                      <a:pt x="490" y="501"/>
                    </a:lnTo>
                    <a:lnTo>
                      <a:pt x="507" y="596"/>
                    </a:lnTo>
                    <a:lnTo>
                      <a:pt x="522" y="689"/>
                    </a:lnTo>
                    <a:lnTo>
                      <a:pt x="536" y="783"/>
                    </a:lnTo>
                    <a:lnTo>
                      <a:pt x="549" y="879"/>
                    </a:lnTo>
                    <a:lnTo>
                      <a:pt x="559" y="975"/>
                    </a:lnTo>
                    <a:lnTo>
                      <a:pt x="568" y="1071"/>
                    </a:lnTo>
                    <a:lnTo>
                      <a:pt x="575" y="1167"/>
                    </a:lnTo>
                    <a:lnTo>
                      <a:pt x="581" y="1264"/>
                    </a:lnTo>
                    <a:lnTo>
                      <a:pt x="586" y="1362"/>
                    </a:lnTo>
                    <a:lnTo>
                      <a:pt x="588" y="1460"/>
                    </a:lnTo>
                    <a:lnTo>
                      <a:pt x="589" y="1558"/>
                    </a:lnTo>
                    <a:lnTo>
                      <a:pt x="588" y="1642"/>
                    </a:lnTo>
                    <a:lnTo>
                      <a:pt x="586" y="1728"/>
                    </a:lnTo>
                    <a:lnTo>
                      <a:pt x="583" y="1812"/>
                    </a:lnTo>
                    <a:lnTo>
                      <a:pt x="579" y="1895"/>
                    </a:lnTo>
                    <a:lnTo>
                      <a:pt x="573" y="1979"/>
                    </a:lnTo>
                    <a:lnTo>
                      <a:pt x="566" y="2062"/>
                    </a:lnTo>
                    <a:lnTo>
                      <a:pt x="558" y="2145"/>
                    </a:lnTo>
                    <a:lnTo>
                      <a:pt x="550" y="2227"/>
                    </a:lnTo>
                    <a:lnTo>
                      <a:pt x="540" y="2310"/>
                    </a:lnTo>
                    <a:lnTo>
                      <a:pt x="528" y="2392"/>
                    </a:lnTo>
                    <a:lnTo>
                      <a:pt x="515" y="2472"/>
                    </a:lnTo>
                    <a:lnTo>
                      <a:pt x="502" y="2553"/>
                    </a:lnTo>
                    <a:lnTo>
                      <a:pt x="487" y="2634"/>
                    </a:lnTo>
                    <a:lnTo>
                      <a:pt x="470" y="2714"/>
                    </a:lnTo>
                    <a:lnTo>
                      <a:pt x="453" y="2794"/>
                    </a:lnTo>
                    <a:lnTo>
                      <a:pt x="436" y="2873"/>
                    </a:lnTo>
                    <a:lnTo>
                      <a:pt x="416" y="2953"/>
                    </a:lnTo>
                    <a:lnTo>
                      <a:pt x="395" y="3031"/>
                    </a:lnTo>
                    <a:lnTo>
                      <a:pt x="373" y="3109"/>
                    </a:lnTo>
                    <a:lnTo>
                      <a:pt x="352" y="3187"/>
                    </a:lnTo>
                    <a:lnTo>
                      <a:pt x="327" y="3264"/>
                    </a:lnTo>
                    <a:lnTo>
                      <a:pt x="303" y="3340"/>
                    </a:lnTo>
                    <a:lnTo>
                      <a:pt x="277" y="3416"/>
                    </a:lnTo>
                    <a:lnTo>
                      <a:pt x="250" y="3492"/>
                    </a:lnTo>
                    <a:lnTo>
                      <a:pt x="222" y="3567"/>
                    </a:lnTo>
                    <a:lnTo>
                      <a:pt x="194" y="3642"/>
                    </a:lnTo>
                    <a:lnTo>
                      <a:pt x="164" y="3716"/>
                    </a:lnTo>
                    <a:lnTo>
                      <a:pt x="132" y="3790"/>
                    </a:lnTo>
                    <a:lnTo>
                      <a:pt x="101" y="3864"/>
                    </a:lnTo>
                    <a:lnTo>
                      <a:pt x="68" y="3936"/>
                    </a:lnTo>
                    <a:lnTo>
                      <a:pt x="34" y="4008"/>
                    </a:lnTo>
                    <a:lnTo>
                      <a:pt x="0" y="4079"/>
                    </a:lnTo>
                    <a:lnTo>
                      <a:pt x="117" y="4040"/>
                    </a:lnTo>
                    <a:lnTo>
                      <a:pt x="123" y="4038"/>
                    </a:lnTo>
                    <a:lnTo>
                      <a:pt x="157" y="3967"/>
                    </a:lnTo>
                    <a:lnTo>
                      <a:pt x="189" y="3896"/>
                    </a:lnTo>
                    <a:lnTo>
                      <a:pt x="220" y="3824"/>
                    </a:lnTo>
                    <a:lnTo>
                      <a:pt x="250" y="3752"/>
                    </a:lnTo>
                    <a:lnTo>
                      <a:pt x="279" y="3679"/>
                    </a:lnTo>
                    <a:lnTo>
                      <a:pt x="308" y="3607"/>
                    </a:lnTo>
                    <a:lnTo>
                      <a:pt x="335" y="3533"/>
                    </a:lnTo>
                    <a:lnTo>
                      <a:pt x="362" y="3458"/>
                    </a:lnTo>
                    <a:lnTo>
                      <a:pt x="387" y="3384"/>
                    </a:lnTo>
                    <a:lnTo>
                      <a:pt x="412" y="3308"/>
                    </a:lnTo>
                    <a:lnTo>
                      <a:pt x="435" y="3233"/>
                    </a:lnTo>
                    <a:lnTo>
                      <a:pt x="458" y="3157"/>
                    </a:lnTo>
                    <a:lnTo>
                      <a:pt x="478" y="3081"/>
                    </a:lnTo>
                    <a:lnTo>
                      <a:pt x="499" y="3004"/>
                    </a:lnTo>
                    <a:lnTo>
                      <a:pt x="519" y="2926"/>
                    </a:lnTo>
                    <a:lnTo>
                      <a:pt x="537" y="2849"/>
                    </a:lnTo>
                    <a:lnTo>
                      <a:pt x="553" y="2771"/>
                    </a:lnTo>
                    <a:lnTo>
                      <a:pt x="571" y="2692"/>
                    </a:lnTo>
                    <a:lnTo>
                      <a:pt x="586" y="2614"/>
                    </a:lnTo>
                    <a:lnTo>
                      <a:pt x="600" y="2534"/>
                    </a:lnTo>
                    <a:lnTo>
                      <a:pt x="612" y="2455"/>
                    </a:lnTo>
                    <a:lnTo>
                      <a:pt x="624" y="2375"/>
                    </a:lnTo>
                    <a:lnTo>
                      <a:pt x="635" y="2295"/>
                    </a:lnTo>
                    <a:lnTo>
                      <a:pt x="645" y="2214"/>
                    </a:lnTo>
                    <a:lnTo>
                      <a:pt x="654" y="2133"/>
                    </a:lnTo>
                    <a:lnTo>
                      <a:pt x="661" y="2051"/>
                    </a:lnTo>
                    <a:lnTo>
                      <a:pt x="668" y="1971"/>
                    </a:lnTo>
                    <a:lnTo>
                      <a:pt x="672" y="1889"/>
                    </a:lnTo>
                    <a:lnTo>
                      <a:pt x="677" y="1806"/>
                    </a:lnTo>
                    <a:lnTo>
                      <a:pt x="679" y="1724"/>
                    </a:lnTo>
                    <a:lnTo>
                      <a:pt x="681" y="1641"/>
                    </a:lnTo>
                    <a:lnTo>
                      <a:pt x="681" y="155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5120" y="3865680"/>
                <a:ext cx="184320" cy="1079280"/>
              </a:xfrm>
              <a:custGeom>
                <a:avLst/>
                <a:gdLst/>
                <a:ahLst/>
                <a:rect l="l" t="t" r="r" b="b"/>
                <a:pathLst>
                  <a:path w="699" h="4081">
                    <a:moveTo>
                      <a:pt x="699" y="1539"/>
                    </a:moveTo>
                    <a:lnTo>
                      <a:pt x="698" y="1439"/>
                    </a:lnTo>
                    <a:lnTo>
                      <a:pt x="696" y="1340"/>
                    </a:lnTo>
                    <a:lnTo>
                      <a:pt x="691" y="1241"/>
                    </a:lnTo>
                    <a:lnTo>
                      <a:pt x="685" y="1143"/>
                    </a:lnTo>
                    <a:lnTo>
                      <a:pt x="679" y="1045"/>
                    </a:lnTo>
                    <a:lnTo>
                      <a:pt x="669" y="947"/>
                    </a:lnTo>
                    <a:lnTo>
                      <a:pt x="658" y="850"/>
                    </a:lnTo>
                    <a:lnTo>
                      <a:pt x="646" y="753"/>
                    </a:lnTo>
                    <a:lnTo>
                      <a:pt x="631" y="657"/>
                    </a:lnTo>
                    <a:lnTo>
                      <a:pt x="616" y="562"/>
                    </a:lnTo>
                    <a:lnTo>
                      <a:pt x="599" y="467"/>
                    </a:lnTo>
                    <a:lnTo>
                      <a:pt x="581" y="373"/>
                    </a:lnTo>
                    <a:lnTo>
                      <a:pt x="560" y="279"/>
                    </a:lnTo>
                    <a:lnTo>
                      <a:pt x="538" y="186"/>
                    </a:lnTo>
                    <a:lnTo>
                      <a:pt x="515" y="92"/>
                    </a:lnTo>
                    <a:lnTo>
                      <a:pt x="491" y="0"/>
                    </a:lnTo>
                    <a:lnTo>
                      <a:pt x="486" y="3"/>
                    </a:lnTo>
                    <a:lnTo>
                      <a:pt x="409" y="43"/>
                    </a:lnTo>
                    <a:lnTo>
                      <a:pt x="405" y="43"/>
                    </a:lnTo>
                    <a:lnTo>
                      <a:pt x="428" y="133"/>
                    </a:lnTo>
                    <a:lnTo>
                      <a:pt x="451" y="223"/>
                    </a:lnTo>
                    <a:lnTo>
                      <a:pt x="472" y="314"/>
                    </a:lnTo>
                    <a:lnTo>
                      <a:pt x="492" y="405"/>
                    </a:lnTo>
                    <a:lnTo>
                      <a:pt x="509" y="497"/>
                    </a:lnTo>
                    <a:lnTo>
                      <a:pt x="526" y="589"/>
                    </a:lnTo>
                    <a:lnTo>
                      <a:pt x="541" y="681"/>
                    </a:lnTo>
                    <a:lnTo>
                      <a:pt x="554" y="775"/>
                    </a:lnTo>
                    <a:lnTo>
                      <a:pt x="567" y="869"/>
                    </a:lnTo>
                    <a:lnTo>
                      <a:pt x="577" y="964"/>
                    </a:lnTo>
                    <a:lnTo>
                      <a:pt x="585" y="1058"/>
                    </a:lnTo>
                    <a:lnTo>
                      <a:pt x="593" y="1153"/>
                    </a:lnTo>
                    <a:lnTo>
                      <a:pt x="599" y="1250"/>
                    </a:lnTo>
                    <a:lnTo>
                      <a:pt x="602" y="1345"/>
                    </a:lnTo>
                    <a:lnTo>
                      <a:pt x="605" y="1442"/>
                    </a:lnTo>
                    <a:lnTo>
                      <a:pt x="606" y="1539"/>
                    </a:lnTo>
                    <a:lnTo>
                      <a:pt x="606" y="1624"/>
                    </a:lnTo>
                    <a:lnTo>
                      <a:pt x="604" y="1710"/>
                    </a:lnTo>
                    <a:lnTo>
                      <a:pt x="600" y="1795"/>
                    </a:lnTo>
                    <a:lnTo>
                      <a:pt x="595" y="1879"/>
                    </a:lnTo>
                    <a:lnTo>
                      <a:pt x="590" y="1963"/>
                    </a:lnTo>
                    <a:lnTo>
                      <a:pt x="583" y="2047"/>
                    </a:lnTo>
                    <a:lnTo>
                      <a:pt x="575" y="2132"/>
                    </a:lnTo>
                    <a:lnTo>
                      <a:pt x="566" y="2215"/>
                    </a:lnTo>
                    <a:lnTo>
                      <a:pt x="555" y="2298"/>
                    </a:lnTo>
                    <a:lnTo>
                      <a:pt x="544" y="2381"/>
                    </a:lnTo>
                    <a:lnTo>
                      <a:pt x="531" y="2462"/>
                    </a:lnTo>
                    <a:lnTo>
                      <a:pt x="517" y="2544"/>
                    </a:lnTo>
                    <a:lnTo>
                      <a:pt x="501" y="2625"/>
                    </a:lnTo>
                    <a:lnTo>
                      <a:pt x="485" y="2706"/>
                    </a:lnTo>
                    <a:lnTo>
                      <a:pt x="467" y="2786"/>
                    </a:lnTo>
                    <a:lnTo>
                      <a:pt x="449" y="2867"/>
                    </a:lnTo>
                    <a:lnTo>
                      <a:pt x="428" y="2947"/>
                    </a:lnTo>
                    <a:lnTo>
                      <a:pt x="407" y="3025"/>
                    </a:lnTo>
                    <a:lnTo>
                      <a:pt x="386" y="3105"/>
                    </a:lnTo>
                    <a:lnTo>
                      <a:pt x="363" y="3183"/>
                    </a:lnTo>
                    <a:lnTo>
                      <a:pt x="338" y="3260"/>
                    </a:lnTo>
                    <a:lnTo>
                      <a:pt x="313" y="3337"/>
                    </a:lnTo>
                    <a:lnTo>
                      <a:pt x="286" y="3415"/>
                    </a:lnTo>
                    <a:lnTo>
                      <a:pt x="259" y="3491"/>
                    </a:lnTo>
                    <a:lnTo>
                      <a:pt x="230" y="3567"/>
                    </a:lnTo>
                    <a:lnTo>
                      <a:pt x="200" y="3642"/>
                    </a:lnTo>
                    <a:lnTo>
                      <a:pt x="170" y="3717"/>
                    </a:lnTo>
                    <a:lnTo>
                      <a:pt x="138" y="3790"/>
                    </a:lnTo>
                    <a:lnTo>
                      <a:pt x="105" y="3864"/>
                    </a:lnTo>
                    <a:lnTo>
                      <a:pt x="72" y="3937"/>
                    </a:lnTo>
                    <a:lnTo>
                      <a:pt x="36" y="4009"/>
                    </a:lnTo>
                    <a:lnTo>
                      <a:pt x="0" y="4081"/>
                    </a:lnTo>
                    <a:lnTo>
                      <a:pt x="126" y="4039"/>
                    </a:lnTo>
                    <a:lnTo>
                      <a:pt x="160" y="3969"/>
                    </a:lnTo>
                    <a:lnTo>
                      <a:pt x="193" y="3896"/>
                    </a:lnTo>
                    <a:lnTo>
                      <a:pt x="224" y="3825"/>
                    </a:lnTo>
                    <a:lnTo>
                      <a:pt x="255" y="3752"/>
                    </a:lnTo>
                    <a:lnTo>
                      <a:pt x="285" y="3679"/>
                    </a:lnTo>
                    <a:lnTo>
                      <a:pt x="315" y="3605"/>
                    </a:lnTo>
                    <a:lnTo>
                      <a:pt x="343" y="3531"/>
                    </a:lnTo>
                    <a:lnTo>
                      <a:pt x="371" y="3456"/>
                    </a:lnTo>
                    <a:lnTo>
                      <a:pt x="396" y="3381"/>
                    </a:lnTo>
                    <a:lnTo>
                      <a:pt x="421" y="3305"/>
                    </a:lnTo>
                    <a:lnTo>
                      <a:pt x="446" y="3229"/>
                    </a:lnTo>
                    <a:lnTo>
                      <a:pt x="469" y="3153"/>
                    </a:lnTo>
                    <a:lnTo>
                      <a:pt x="491" y="3076"/>
                    </a:lnTo>
                    <a:lnTo>
                      <a:pt x="511" y="2998"/>
                    </a:lnTo>
                    <a:lnTo>
                      <a:pt x="531" y="2920"/>
                    </a:lnTo>
                    <a:lnTo>
                      <a:pt x="551" y="2842"/>
                    </a:lnTo>
                    <a:lnTo>
                      <a:pt x="568" y="2763"/>
                    </a:lnTo>
                    <a:lnTo>
                      <a:pt x="584" y="2685"/>
                    </a:lnTo>
                    <a:lnTo>
                      <a:pt x="600" y="2605"/>
                    </a:lnTo>
                    <a:lnTo>
                      <a:pt x="614" y="2525"/>
                    </a:lnTo>
                    <a:lnTo>
                      <a:pt x="628" y="2445"/>
                    </a:lnTo>
                    <a:lnTo>
                      <a:pt x="640" y="2364"/>
                    </a:lnTo>
                    <a:lnTo>
                      <a:pt x="651" y="2283"/>
                    </a:lnTo>
                    <a:lnTo>
                      <a:pt x="661" y="2202"/>
                    </a:lnTo>
                    <a:lnTo>
                      <a:pt x="670" y="2120"/>
                    </a:lnTo>
                    <a:lnTo>
                      <a:pt x="677" y="2038"/>
                    </a:lnTo>
                    <a:lnTo>
                      <a:pt x="684" y="1955"/>
                    </a:lnTo>
                    <a:lnTo>
                      <a:pt x="690" y="1872"/>
                    </a:lnTo>
                    <a:lnTo>
                      <a:pt x="694" y="1789"/>
                    </a:lnTo>
                    <a:lnTo>
                      <a:pt x="697" y="1706"/>
                    </a:lnTo>
                    <a:lnTo>
                      <a:pt x="698" y="1623"/>
                    </a:lnTo>
                    <a:lnTo>
                      <a:pt x="699" y="153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7840" y="3870360"/>
                <a:ext cx="190440" cy="1079640"/>
              </a:xfrm>
              <a:custGeom>
                <a:avLst/>
                <a:gdLst/>
                <a:ahLst/>
                <a:rect l="l" t="t" r="r" b="b"/>
                <a:pathLst>
                  <a:path w="716" h="4081">
                    <a:moveTo>
                      <a:pt x="716" y="1517"/>
                    </a:moveTo>
                    <a:lnTo>
                      <a:pt x="715" y="1419"/>
                    </a:lnTo>
                    <a:lnTo>
                      <a:pt x="713" y="1321"/>
                    </a:lnTo>
                    <a:lnTo>
                      <a:pt x="708" y="1223"/>
                    </a:lnTo>
                    <a:lnTo>
                      <a:pt x="702" y="1126"/>
                    </a:lnTo>
                    <a:lnTo>
                      <a:pt x="695" y="1030"/>
                    </a:lnTo>
                    <a:lnTo>
                      <a:pt x="686" y="934"/>
                    </a:lnTo>
                    <a:lnTo>
                      <a:pt x="676" y="838"/>
                    </a:lnTo>
                    <a:lnTo>
                      <a:pt x="663" y="742"/>
                    </a:lnTo>
                    <a:lnTo>
                      <a:pt x="649" y="648"/>
                    </a:lnTo>
                    <a:lnTo>
                      <a:pt x="634" y="555"/>
                    </a:lnTo>
                    <a:lnTo>
                      <a:pt x="617" y="460"/>
                    </a:lnTo>
                    <a:lnTo>
                      <a:pt x="599" y="367"/>
                    </a:lnTo>
                    <a:lnTo>
                      <a:pt x="579" y="274"/>
                    </a:lnTo>
                    <a:lnTo>
                      <a:pt x="558" y="182"/>
                    </a:lnTo>
                    <a:lnTo>
                      <a:pt x="535" y="91"/>
                    </a:lnTo>
                    <a:lnTo>
                      <a:pt x="511" y="0"/>
                    </a:lnTo>
                    <a:lnTo>
                      <a:pt x="472" y="21"/>
                    </a:lnTo>
                    <a:lnTo>
                      <a:pt x="420" y="21"/>
                    </a:lnTo>
                    <a:lnTo>
                      <a:pt x="444" y="111"/>
                    </a:lnTo>
                    <a:lnTo>
                      <a:pt x="466" y="201"/>
                    </a:lnTo>
                    <a:lnTo>
                      <a:pt x="487" y="292"/>
                    </a:lnTo>
                    <a:lnTo>
                      <a:pt x="507" y="383"/>
                    </a:lnTo>
                    <a:lnTo>
                      <a:pt x="525" y="474"/>
                    </a:lnTo>
                    <a:lnTo>
                      <a:pt x="542" y="567"/>
                    </a:lnTo>
                    <a:lnTo>
                      <a:pt x="557" y="659"/>
                    </a:lnTo>
                    <a:lnTo>
                      <a:pt x="571" y="753"/>
                    </a:lnTo>
                    <a:lnTo>
                      <a:pt x="582" y="847"/>
                    </a:lnTo>
                    <a:lnTo>
                      <a:pt x="593" y="941"/>
                    </a:lnTo>
                    <a:lnTo>
                      <a:pt x="602" y="1036"/>
                    </a:lnTo>
                    <a:lnTo>
                      <a:pt x="609" y="1131"/>
                    </a:lnTo>
                    <a:lnTo>
                      <a:pt x="615" y="1228"/>
                    </a:lnTo>
                    <a:lnTo>
                      <a:pt x="619" y="1323"/>
                    </a:lnTo>
                    <a:lnTo>
                      <a:pt x="622" y="1420"/>
                    </a:lnTo>
                    <a:lnTo>
                      <a:pt x="623" y="1517"/>
                    </a:lnTo>
                    <a:lnTo>
                      <a:pt x="622" y="1604"/>
                    </a:lnTo>
                    <a:lnTo>
                      <a:pt x="619" y="1690"/>
                    </a:lnTo>
                    <a:lnTo>
                      <a:pt x="616" y="1775"/>
                    </a:lnTo>
                    <a:lnTo>
                      <a:pt x="612" y="1861"/>
                    </a:lnTo>
                    <a:lnTo>
                      <a:pt x="605" y="1946"/>
                    </a:lnTo>
                    <a:lnTo>
                      <a:pt x="599" y="2031"/>
                    </a:lnTo>
                    <a:lnTo>
                      <a:pt x="590" y="2115"/>
                    </a:lnTo>
                    <a:lnTo>
                      <a:pt x="581" y="2200"/>
                    </a:lnTo>
                    <a:lnTo>
                      <a:pt x="570" y="2284"/>
                    </a:lnTo>
                    <a:lnTo>
                      <a:pt x="558" y="2367"/>
                    </a:lnTo>
                    <a:lnTo>
                      <a:pt x="544" y="2450"/>
                    </a:lnTo>
                    <a:lnTo>
                      <a:pt x="530" y="2532"/>
                    </a:lnTo>
                    <a:lnTo>
                      <a:pt x="514" y="2615"/>
                    </a:lnTo>
                    <a:lnTo>
                      <a:pt x="498" y="2695"/>
                    </a:lnTo>
                    <a:lnTo>
                      <a:pt x="480" y="2777"/>
                    </a:lnTo>
                    <a:lnTo>
                      <a:pt x="460" y="2858"/>
                    </a:lnTo>
                    <a:lnTo>
                      <a:pt x="439" y="2938"/>
                    </a:lnTo>
                    <a:lnTo>
                      <a:pt x="419" y="3018"/>
                    </a:lnTo>
                    <a:lnTo>
                      <a:pt x="396" y="3098"/>
                    </a:lnTo>
                    <a:lnTo>
                      <a:pt x="371" y="3176"/>
                    </a:lnTo>
                    <a:lnTo>
                      <a:pt x="347" y="3254"/>
                    </a:lnTo>
                    <a:lnTo>
                      <a:pt x="321" y="3333"/>
                    </a:lnTo>
                    <a:lnTo>
                      <a:pt x="293" y="3410"/>
                    </a:lnTo>
                    <a:lnTo>
                      <a:pt x="265" y="3487"/>
                    </a:lnTo>
                    <a:lnTo>
                      <a:pt x="235" y="3563"/>
                    </a:lnTo>
                    <a:lnTo>
                      <a:pt x="205" y="3639"/>
                    </a:lnTo>
                    <a:lnTo>
                      <a:pt x="174" y="3714"/>
                    </a:lnTo>
                    <a:lnTo>
                      <a:pt x="141" y="3789"/>
                    </a:lnTo>
                    <a:lnTo>
                      <a:pt x="107" y="3863"/>
                    </a:lnTo>
                    <a:lnTo>
                      <a:pt x="73" y="3937"/>
                    </a:lnTo>
                    <a:lnTo>
                      <a:pt x="37" y="4009"/>
                    </a:lnTo>
                    <a:lnTo>
                      <a:pt x="0" y="4081"/>
                    </a:lnTo>
                    <a:lnTo>
                      <a:pt x="13" y="4076"/>
                    </a:lnTo>
                    <a:lnTo>
                      <a:pt x="127" y="4038"/>
                    </a:lnTo>
                    <a:lnTo>
                      <a:pt x="161" y="3967"/>
                    </a:lnTo>
                    <a:lnTo>
                      <a:pt x="195" y="3895"/>
                    </a:lnTo>
                    <a:lnTo>
                      <a:pt x="228" y="3823"/>
                    </a:lnTo>
                    <a:lnTo>
                      <a:pt x="259" y="3749"/>
                    </a:lnTo>
                    <a:lnTo>
                      <a:pt x="291" y="3675"/>
                    </a:lnTo>
                    <a:lnTo>
                      <a:pt x="321" y="3601"/>
                    </a:lnTo>
                    <a:lnTo>
                      <a:pt x="349" y="3526"/>
                    </a:lnTo>
                    <a:lnTo>
                      <a:pt x="377" y="3451"/>
                    </a:lnTo>
                    <a:lnTo>
                      <a:pt x="404" y="3375"/>
                    </a:lnTo>
                    <a:lnTo>
                      <a:pt x="430" y="3299"/>
                    </a:lnTo>
                    <a:lnTo>
                      <a:pt x="454" y="3223"/>
                    </a:lnTo>
                    <a:lnTo>
                      <a:pt x="479" y="3146"/>
                    </a:lnTo>
                    <a:lnTo>
                      <a:pt x="500" y="3068"/>
                    </a:lnTo>
                    <a:lnTo>
                      <a:pt x="522" y="2990"/>
                    </a:lnTo>
                    <a:lnTo>
                      <a:pt x="543" y="2912"/>
                    </a:lnTo>
                    <a:lnTo>
                      <a:pt x="563" y="2832"/>
                    </a:lnTo>
                    <a:lnTo>
                      <a:pt x="580" y="2753"/>
                    </a:lnTo>
                    <a:lnTo>
                      <a:pt x="597" y="2673"/>
                    </a:lnTo>
                    <a:lnTo>
                      <a:pt x="614" y="2593"/>
                    </a:lnTo>
                    <a:lnTo>
                      <a:pt x="629" y="2512"/>
                    </a:lnTo>
                    <a:lnTo>
                      <a:pt x="642" y="2431"/>
                    </a:lnTo>
                    <a:lnTo>
                      <a:pt x="655" y="2351"/>
                    </a:lnTo>
                    <a:lnTo>
                      <a:pt x="667" y="2269"/>
                    </a:lnTo>
                    <a:lnTo>
                      <a:pt x="677" y="2186"/>
                    </a:lnTo>
                    <a:lnTo>
                      <a:pt x="685" y="2104"/>
                    </a:lnTo>
                    <a:lnTo>
                      <a:pt x="693" y="2021"/>
                    </a:lnTo>
                    <a:lnTo>
                      <a:pt x="700" y="1938"/>
                    </a:lnTo>
                    <a:lnTo>
                      <a:pt x="706" y="1854"/>
                    </a:lnTo>
                    <a:lnTo>
                      <a:pt x="710" y="1771"/>
                    </a:lnTo>
                    <a:lnTo>
                      <a:pt x="713" y="1687"/>
                    </a:lnTo>
                    <a:lnTo>
                      <a:pt x="715" y="1601"/>
                    </a:lnTo>
                    <a:lnTo>
                      <a:pt x="716" y="1517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40200" y="3876840"/>
                <a:ext cx="195480" cy="1081080"/>
              </a:xfrm>
              <a:custGeom>
                <a:avLst/>
                <a:gdLst/>
                <a:ahLst/>
                <a:rect l="l" t="t" r="r" b="b"/>
                <a:pathLst>
                  <a:path w="736" h="4087">
                    <a:moveTo>
                      <a:pt x="736" y="1496"/>
                    </a:moveTo>
                    <a:lnTo>
                      <a:pt x="735" y="1399"/>
                    </a:lnTo>
                    <a:lnTo>
                      <a:pt x="732" y="1302"/>
                    </a:lnTo>
                    <a:lnTo>
                      <a:pt x="729" y="1207"/>
                    </a:lnTo>
                    <a:lnTo>
                      <a:pt x="723" y="1110"/>
                    </a:lnTo>
                    <a:lnTo>
                      <a:pt x="715" y="1015"/>
                    </a:lnTo>
                    <a:lnTo>
                      <a:pt x="707" y="921"/>
                    </a:lnTo>
                    <a:lnTo>
                      <a:pt x="697" y="826"/>
                    </a:lnTo>
                    <a:lnTo>
                      <a:pt x="684" y="732"/>
                    </a:lnTo>
                    <a:lnTo>
                      <a:pt x="671" y="638"/>
                    </a:lnTo>
                    <a:lnTo>
                      <a:pt x="656" y="546"/>
                    </a:lnTo>
                    <a:lnTo>
                      <a:pt x="639" y="454"/>
                    </a:lnTo>
                    <a:lnTo>
                      <a:pt x="622" y="362"/>
                    </a:lnTo>
                    <a:lnTo>
                      <a:pt x="602" y="271"/>
                    </a:lnTo>
                    <a:lnTo>
                      <a:pt x="581" y="180"/>
                    </a:lnTo>
                    <a:lnTo>
                      <a:pt x="558" y="90"/>
                    </a:lnTo>
                    <a:lnTo>
                      <a:pt x="535" y="0"/>
                    </a:lnTo>
                    <a:lnTo>
                      <a:pt x="461" y="0"/>
                    </a:lnTo>
                    <a:lnTo>
                      <a:pt x="441" y="7"/>
                    </a:lnTo>
                    <a:lnTo>
                      <a:pt x="464" y="96"/>
                    </a:lnTo>
                    <a:lnTo>
                      <a:pt x="487" y="185"/>
                    </a:lnTo>
                    <a:lnTo>
                      <a:pt x="508" y="277"/>
                    </a:lnTo>
                    <a:lnTo>
                      <a:pt x="527" y="366"/>
                    </a:lnTo>
                    <a:lnTo>
                      <a:pt x="546" y="459"/>
                    </a:lnTo>
                    <a:lnTo>
                      <a:pt x="562" y="550"/>
                    </a:lnTo>
                    <a:lnTo>
                      <a:pt x="577" y="643"/>
                    </a:lnTo>
                    <a:lnTo>
                      <a:pt x="591" y="735"/>
                    </a:lnTo>
                    <a:lnTo>
                      <a:pt x="603" y="829"/>
                    </a:lnTo>
                    <a:lnTo>
                      <a:pt x="614" y="923"/>
                    </a:lnTo>
                    <a:lnTo>
                      <a:pt x="622" y="1018"/>
                    </a:lnTo>
                    <a:lnTo>
                      <a:pt x="630" y="1112"/>
                    </a:lnTo>
                    <a:lnTo>
                      <a:pt x="636" y="1208"/>
                    </a:lnTo>
                    <a:lnTo>
                      <a:pt x="639" y="1304"/>
                    </a:lnTo>
                    <a:lnTo>
                      <a:pt x="642" y="1399"/>
                    </a:lnTo>
                    <a:lnTo>
                      <a:pt x="642" y="1496"/>
                    </a:lnTo>
                    <a:lnTo>
                      <a:pt x="642" y="1584"/>
                    </a:lnTo>
                    <a:lnTo>
                      <a:pt x="640" y="1671"/>
                    </a:lnTo>
                    <a:lnTo>
                      <a:pt x="637" y="1758"/>
                    </a:lnTo>
                    <a:lnTo>
                      <a:pt x="632" y="1844"/>
                    </a:lnTo>
                    <a:lnTo>
                      <a:pt x="626" y="1931"/>
                    </a:lnTo>
                    <a:lnTo>
                      <a:pt x="618" y="2016"/>
                    </a:lnTo>
                    <a:lnTo>
                      <a:pt x="610" y="2102"/>
                    </a:lnTo>
                    <a:lnTo>
                      <a:pt x="600" y="2187"/>
                    </a:lnTo>
                    <a:lnTo>
                      <a:pt x="588" y="2272"/>
                    </a:lnTo>
                    <a:lnTo>
                      <a:pt x="577" y="2356"/>
                    </a:lnTo>
                    <a:lnTo>
                      <a:pt x="563" y="2440"/>
                    </a:lnTo>
                    <a:lnTo>
                      <a:pt x="548" y="2523"/>
                    </a:lnTo>
                    <a:lnTo>
                      <a:pt x="532" y="2606"/>
                    </a:lnTo>
                    <a:lnTo>
                      <a:pt x="513" y="2689"/>
                    </a:lnTo>
                    <a:lnTo>
                      <a:pt x="495" y="2771"/>
                    </a:lnTo>
                    <a:lnTo>
                      <a:pt x="475" y="2853"/>
                    </a:lnTo>
                    <a:lnTo>
                      <a:pt x="454" y="2934"/>
                    </a:lnTo>
                    <a:lnTo>
                      <a:pt x="431" y="3014"/>
                    </a:lnTo>
                    <a:lnTo>
                      <a:pt x="408" y="3095"/>
                    </a:lnTo>
                    <a:lnTo>
                      <a:pt x="384" y="3175"/>
                    </a:lnTo>
                    <a:lnTo>
                      <a:pt x="358" y="3254"/>
                    </a:lnTo>
                    <a:lnTo>
                      <a:pt x="331" y="3332"/>
                    </a:lnTo>
                    <a:lnTo>
                      <a:pt x="302" y="3411"/>
                    </a:lnTo>
                    <a:lnTo>
                      <a:pt x="273" y="3488"/>
                    </a:lnTo>
                    <a:lnTo>
                      <a:pt x="243" y="3565"/>
                    </a:lnTo>
                    <a:lnTo>
                      <a:pt x="212" y="3641"/>
                    </a:lnTo>
                    <a:lnTo>
                      <a:pt x="179" y="3717"/>
                    </a:lnTo>
                    <a:lnTo>
                      <a:pt x="145" y="3792"/>
                    </a:lnTo>
                    <a:lnTo>
                      <a:pt x="111" y="3867"/>
                    </a:lnTo>
                    <a:lnTo>
                      <a:pt x="75" y="3941"/>
                    </a:lnTo>
                    <a:lnTo>
                      <a:pt x="38" y="4015"/>
                    </a:lnTo>
                    <a:lnTo>
                      <a:pt x="0" y="4087"/>
                    </a:lnTo>
                    <a:lnTo>
                      <a:pt x="80" y="4055"/>
                    </a:lnTo>
                    <a:lnTo>
                      <a:pt x="130" y="4038"/>
                    </a:lnTo>
                    <a:lnTo>
                      <a:pt x="166" y="3966"/>
                    </a:lnTo>
                    <a:lnTo>
                      <a:pt x="202" y="3894"/>
                    </a:lnTo>
                    <a:lnTo>
                      <a:pt x="235" y="3821"/>
                    </a:lnTo>
                    <a:lnTo>
                      <a:pt x="268" y="3747"/>
                    </a:lnTo>
                    <a:lnTo>
                      <a:pt x="300" y="3674"/>
                    </a:lnTo>
                    <a:lnTo>
                      <a:pt x="330" y="3599"/>
                    </a:lnTo>
                    <a:lnTo>
                      <a:pt x="360" y="3524"/>
                    </a:lnTo>
                    <a:lnTo>
                      <a:pt x="389" y="3448"/>
                    </a:lnTo>
                    <a:lnTo>
                      <a:pt x="416" y="3372"/>
                    </a:lnTo>
                    <a:lnTo>
                      <a:pt x="443" y="3294"/>
                    </a:lnTo>
                    <a:lnTo>
                      <a:pt x="468" y="3217"/>
                    </a:lnTo>
                    <a:lnTo>
                      <a:pt x="493" y="3140"/>
                    </a:lnTo>
                    <a:lnTo>
                      <a:pt x="516" y="3062"/>
                    </a:lnTo>
                    <a:lnTo>
                      <a:pt x="537" y="2982"/>
                    </a:lnTo>
                    <a:lnTo>
                      <a:pt x="558" y="2904"/>
                    </a:lnTo>
                    <a:lnTo>
                      <a:pt x="579" y="2824"/>
                    </a:lnTo>
                    <a:lnTo>
                      <a:pt x="597" y="2743"/>
                    </a:lnTo>
                    <a:lnTo>
                      <a:pt x="615" y="2663"/>
                    </a:lnTo>
                    <a:lnTo>
                      <a:pt x="631" y="2582"/>
                    </a:lnTo>
                    <a:lnTo>
                      <a:pt x="647" y="2501"/>
                    </a:lnTo>
                    <a:lnTo>
                      <a:pt x="661" y="2419"/>
                    </a:lnTo>
                    <a:lnTo>
                      <a:pt x="674" y="2338"/>
                    </a:lnTo>
                    <a:lnTo>
                      <a:pt x="685" y="2255"/>
                    </a:lnTo>
                    <a:lnTo>
                      <a:pt x="696" y="2172"/>
                    </a:lnTo>
                    <a:lnTo>
                      <a:pt x="705" y="2089"/>
                    </a:lnTo>
                    <a:lnTo>
                      <a:pt x="713" y="2004"/>
                    </a:lnTo>
                    <a:lnTo>
                      <a:pt x="720" y="1920"/>
                    </a:lnTo>
                    <a:lnTo>
                      <a:pt x="725" y="1836"/>
                    </a:lnTo>
                    <a:lnTo>
                      <a:pt x="730" y="1752"/>
                    </a:lnTo>
                    <a:lnTo>
                      <a:pt x="734" y="1667"/>
                    </a:lnTo>
                    <a:lnTo>
                      <a:pt x="736" y="1581"/>
                    </a:lnTo>
                    <a:lnTo>
                      <a:pt x="736" y="149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22920" y="3876840"/>
                <a:ext cx="199800" cy="1089000"/>
              </a:xfrm>
              <a:custGeom>
                <a:avLst/>
                <a:gdLst/>
                <a:ahLst/>
                <a:rect l="l" t="t" r="r" b="b"/>
                <a:pathLst>
                  <a:path w="757" h="4114">
                    <a:moveTo>
                      <a:pt x="757" y="1496"/>
                    </a:moveTo>
                    <a:lnTo>
                      <a:pt x="756" y="1399"/>
                    </a:lnTo>
                    <a:lnTo>
                      <a:pt x="753" y="1302"/>
                    </a:lnTo>
                    <a:lnTo>
                      <a:pt x="749" y="1207"/>
                    </a:lnTo>
                    <a:lnTo>
                      <a:pt x="743" y="1110"/>
                    </a:lnTo>
                    <a:lnTo>
                      <a:pt x="736" y="1015"/>
                    </a:lnTo>
                    <a:lnTo>
                      <a:pt x="727" y="920"/>
                    </a:lnTo>
                    <a:lnTo>
                      <a:pt x="716" y="826"/>
                    </a:lnTo>
                    <a:lnTo>
                      <a:pt x="705" y="732"/>
                    </a:lnTo>
                    <a:lnTo>
                      <a:pt x="691" y="638"/>
                    </a:lnTo>
                    <a:lnTo>
                      <a:pt x="676" y="546"/>
                    </a:lnTo>
                    <a:lnTo>
                      <a:pt x="659" y="453"/>
                    </a:lnTo>
                    <a:lnTo>
                      <a:pt x="641" y="362"/>
                    </a:lnTo>
                    <a:lnTo>
                      <a:pt x="621" y="271"/>
                    </a:lnTo>
                    <a:lnTo>
                      <a:pt x="600" y="180"/>
                    </a:lnTo>
                    <a:lnTo>
                      <a:pt x="578" y="90"/>
                    </a:lnTo>
                    <a:lnTo>
                      <a:pt x="554" y="0"/>
                    </a:lnTo>
                    <a:lnTo>
                      <a:pt x="528" y="0"/>
                    </a:lnTo>
                    <a:lnTo>
                      <a:pt x="463" y="21"/>
                    </a:lnTo>
                    <a:lnTo>
                      <a:pt x="487" y="109"/>
                    </a:lnTo>
                    <a:lnTo>
                      <a:pt x="509" y="198"/>
                    </a:lnTo>
                    <a:lnTo>
                      <a:pt x="530" y="288"/>
                    </a:lnTo>
                    <a:lnTo>
                      <a:pt x="549" y="378"/>
                    </a:lnTo>
                    <a:lnTo>
                      <a:pt x="566" y="468"/>
                    </a:lnTo>
                    <a:lnTo>
                      <a:pt x="584" y="559"/>
                    </a:lnTo>
                    <a:lnTo>
                      <a:pt x="599" y="651"/>
                    </a:lnTo>
                    <a:lnTo>
                      <a:pt x="611" y="743"/>
                    </a:lnTo>
                    <a:lnTo>
                      <a:pt x="624" y="836"/>
                    </a:lnTo>
                    <a:lnTo>
                      <a:pt x="634" y="929"/>
                    </a:lnTo>
                    <a:lnTo>
                      <a:pt x="643" y="1022"/>
                    </a:lnTo>
                    <a:lnTo>
                      <a:pt x="651" y="1116"/>
                    </a:lnTo>
                    <a:lnTo>
                      <a:pt x="655" y="1210"/>
                    </a:lnTo>
                    <a:lnTo>
                      <a:pt x="660" y="1305"/>
                    </a:lnTo>
                    <a:lnTo>
                      <a:pt x="662" y="1400"/>
                    </a:lnTo>
                    <a:lnTo>
                      <a:pt x="663" y="1496"/>
                    </a:lnTo>
                    <a:lnTo>
                      <a:pt x="662" y="1585"/>
                    </a:lnTo>
                    <a:lnTo>
                      <a:pt x="660" y="1672"/>
                    </a:lnTo>
                    <a:lnTo>
                      <a:pt x="656" y="1761"/>
                    </a:lnTo>
                    <a:lnTo>
                      <a:pt x="652" y="1849"/>
                    </a:lnTo>
                    <a:lnTo>
                      <a:pt x="646" y="1936"/>
                    </a:lnTo>
                    <a:lnTo>
                      <a:pt x="638" y="2023"/>
                    </a:lnTo>
                    <a:lnTo>
                      <a:pt x="629" y="2109"/>
                    </a:lnTo>
                    <a:lnTo>
                      <a:pt x="619" y="2196"/>
                    </a:lnTo>
                    <a:lnTo>
                      <a:pt x="607" y="2281"/>
                    </a:lnTo>
                    <a:lnTo>
                      <a:pt x="594" y="2366"/>
                    </a:lnTo>
                    <a:lnTo>
                      <a:pt x="580" y="2452"/>
                    </a:lnTo>
                    <a:lnTo>
                      <a:pt x="565" y="2536"/>
                    </a:lnTo>
                    <a:lnTo>
                      <a:pt x="548" y="2620"/>
                    </a:lnTo>
                    <a:lnTo>
                      <a:pt x="530" y="2703"/>
                    </a:lnTo>
                    <a:lnTo>
                      <a:pt x="511" y="2786"/>
                    </a:lnTo>
                    <a:lnTo>
                      <a:pt x="490" y="2869"/>
                    </a:lnTo>
                    <a:lnTo>
                      <a:pt x="468" y="2951"/>
                    </a:lnTo>
                    <a:lnTo>
                      <a:pt x="445" y="3033"/>
                    </a:lnTo>
                    <a:lnTo>
                      <a:pt x="421" y="3113"/>
                    </a:lnTo>
                    <a:lnTo>
                      <a:pt x="396" y="3194"/>
                    </a:lnTo>
                    <a:lnTo>
                      <a:pt x="369" y="3274"/>
                    </a:lnTo>
                    <a:lnTo>
                      <a:pt x="342" y="3353"/>
                    </a:lnTo>
                    <a:lnTo>
                      <a:pt x="313" y="3432"/>
                    </a:lnTo>
                    <a:lnTo>
                      <a:pt x="282" y="3510"/>
                    </a:lnTo>
                    <a:lnTo>
                      <a:pt x="250" y="3588"/>
                    </a:lnTo>
                    <a:lnTo>
                      <a:pt x="218" y="3666"/>
                    </a:lnTo>
                    <a:lnTo>
                      <a:pt x="185" y="3742"/>
                    </a:lnTo>
                    <a:lnTo>
                      <a:pt x="150" y="3818"/>
                    </a:lnTo>
                    <a:lnTo>
                      <a:pt x="114" y="3893"/>
                    </a:lnTo>
                    <a:lnTo>
                      <a:pt x="77" y="3968"/>
                    </a:lnTo>
                    <a:lnTo>
                      <a:pt x="39" y="4041"/>
                    </a:lnTo>
                    <a:lnTo>
                      <a:pt x="0" y="4114"/>
                    </a:lnTo>
                    <a:lnTo>
                      <a:pt x="134" y="4060"/>
                    </a:lnTo>
                    <a:lnTo>
                      <a:pt x="171" y="3988"/>
                    </a:lnTo>
                    <a:lnTo>
                      <a:pt x="207" y="3916"/>
                    </a:lnTo>
                    <a:lnTo>
                      <a:pt x="241" y="3842"/>
                    </a:lnTo>
                    <a:lnTo>
                      <a:pt x="275" y="3768"/>
                    </a:lnTo>
                    <a:lnTo>
                      <a:pt x="308" y="3693"/>
                    </a:lnTo>
                    <a:lnTo>
                      <a:pt x="339" y="3618"/>
                    </a:lnTo>
                    <a:lnTo>
                      <a:pt x="369" y="3542"/>
                    </a:lnTo>
                    <a:lnTo>
                      <a:pt x="399" y="3466"/>
                    </a:lnTo>
                    <a:lnTo>
                      <a:pt x="427" y="3389"/>
                    </a:lnTo>
                    <a:lnTo>
                      <a:pt x="455" y="3312"/>
                    </a:lnTo>
                    <a:lnTo>
                      <a:pt x="481" y="3233"/>
                    </a:lnTo>
                    <a:lnTo>
                      <a:pt x="505" y="3155"/>
                    </a:lnTo>
                    <a:lnTo>
                      <a:pt x="530" y="3077"/>
                    </a:lnTo>
                    <a:lnTo>
                      <a:pt x="553" y="2997"/>
                    </a:lnTo>
                    <a:lnTo>
                      <a:pt x="573" y="2917"/>
                    </a:lnTo>
                    <a:lnTo>
                      <a:pt x="594" y="2837"/>
                    </a:lnTo>
                    <a:lnTo>
                      <a:pt x="614" y="2756"/>
                    </a:lnTo>
                    <a:lnTo>
                      <a:pt x="632" y="2674"/>
                    </a:lnTo>
                    <a:lnTo>
                      <a:pt x="648" y="2594"/>
                    </a:lnTo>
                    <a:lnTo>
                      <a:pt x="664" y="2511"/>
                    </a:lnTo>
                    <a:lnTo>
                      <a:pt x="678" y="2429"/>
                    </a:lnTo>
                    <a:lnTo>
                      <a:pt x="692" y="2346"/>
                    </a:lnTo>
                    <a:lnTo>
                      <a:pt x="704" y="2263"/>
                    </a:lnTo>
                    <a:lnTo>
                      <a:pt x="715" y="2179"/>
                    </a:lnTo>
                    <a:lnTo>
                      <a:pt x="724" y="2094"/>
                    </a:lnTo>
                    <a:lnTo>
                      <a:pt x="733" y="2010"/>
                    </a:lnTo>
                    <a:lnTo>
                      <a:pt x="739" y="1925"/>
                    </a:lnTo>
                    <a:lnTo>
                      <a:pt x="746" y="1840"/>
                    </a:lnTo>
                    <a:lnTo>
                      <a:pt x="750" y="1754"/>
                    </a:lnTo>
                    <a:lnTo>
                      <a:pt x="753" y="1669"/>
                    </a:lnTo>
                    <a:lnTo>
                      <a:pt x="756" y="1583"/>
                    </a:lnTo>
                    <a:lnTo>
                      <a:pt x="757" y="149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03840" y="3878280"/>
                <a:ext cx="206280" cy="1093680"/>
              </a:xfrm>
              <a:custGeom>
                <a:avLst/>
                <a:gdLst/>
                <a:ahLst/>
                <a:rect l="l" t="t" r="r" b="b"/>
                <a:pathLst>
                  <a:path w="778" h="4135">
                    <a:moveTo>
                      <a:pt x="778" y="1489"/>
                    </a:moveTo>
                    <a:lnTo>
                      <a:pt x="778" y="1392"/>
                    </a:lnTo>
                    <a:lnTo>
                      <a:pt x="775" y="1297"/>
                    </a:lnTo>
                    <a:lnTo>
                      <a:pt x="772" y="1201"/>
                    </a:lnTo>
                    <a:lnTo>
                      <a:pt x="766" y="1105"/>
                    </a:lnTo>
                    <a:lnTo>
                      <a:pt x="758" y="1011"/>
                    </a:lnTo>
                    <a:lnTo>
                      <a:pt x="750" y="916"/>
                    </a:lnTo>
                    <a:lnTo>
                      <a:pt x="739" y="822"/>
                    </a:lnTo>
                    <a:lnTo>
                      <a:pt x="727" y="728"/>
                    </a:lnTo>
                    <a:lnTo>
                      <a:pt x="713" y="636"/>
                    </a:lnTo>
                    <a:lnTo>
                      <a:pt x="698" y="543"/>
                    </a:lnTo>
                    <a:lnTo>
                      <a:pt x="682" y="452"/>
                    </a:lnTo>
                    <a:lnTo>
                      <a:pt x="663" y="359"/>
                    </a:lnTo>
                    <a:lnTo>
                      <a:pt x="644" y="270"/>
                    </a:lnTo>
                    <a:lnTo>
                      <a:pt x="623" y="178"/>
                    </a:lnTo>
                    <a:lnTo>
                      <a:pt x="600" y="89"/>
                    </a:lnTo>
                    <a:lnTo>
                      <a:pt x="577" y="0"/>
                    </a:lnTo>
                    <a:lnTo>
                      <a:pt x="488" y="29"/>
                    </a:lnTo>
                    <a:lnTo>
                      <a:pt x="511" y="116"/>
                    </a:lnTo>
                    <a:lnTo>
                      <a:pt x="533" y="204"/>
                    </a:lnTo>
                    <a:lnTo>
                      <a:pt x="554" y="293"/>
                    </a:lnTo>
                    <a:lnTo>
                      <a:pt x="573" y="381"/>
                    </a:lnTo>
                    <a:lnTo>
                      <a:pt x="590" y="471"/>
                    </a:lnTo>
                    <a:lnTo>
                      <a:pt x="607" y="561"/>
                    </a:lnTo>
                    <a:lnTo>
                      <a:pt x="622" y="652"/>
                    </a:lnTo>
                    <a:lnTo>
                      <a:pt x="635" y="743"/>
                    </a:lnTo>
                    <a:lnTo>
                      <a:pt x="647" y="834"/>
                    </a:lnTo>
                    <a:lnTo>
                      <a:pt x="657" y="927"/>
                    </a:lnTo>
                    <a:lnTo>
                      <a:pt x="665" y="1020"/>
                    </a:lnTo>
                    <a:lnTo>
                      <a:pt x="672" y="1112"/>
                    </a:lnTo>
                    <a:lnTo>
                      <a:pt x="678" y="1206"/>
                    </a:lnTo>
                    <a:lnTo>
                      <a:pt x="683" y="1300"/>
                    </a:lnTo>
                    <a:lnTo>
                      <a:pt x="685" y="1395"/>
                    </a:lnTo>
                    <a:lnTo>
                      <a:pt x="686" y="1489"/>
                    </a:lnTo>
                    <a:lnTo>
                      <a:pt x="685" y="1579"/>
                    </a:lnTo>
                    <a:lnTo>
                      <a:pt x="683" y="1668"/>
                    </a:lnTo>
                    <a:lnTo>
                      <a:pt x="679" y="1758"/>
                    </a:lnTo>
                    <a:lnTo>
                      <a:pt x="673" y="1846"/>
                    </a:lnTo>
                    <a:lnTo>
                      <a:pt x="668" y="1934"/>
                    </a:lnTo>
                    <a:lnTo>
                      <a:pt x="660" y="2023"/>
                    </a:lnTo>
                    <a:lnTo>
                      <a:pt x="650" y="2110"/>
                    </a:lnTo>
                    <a:lnTo>
                      <a:pt x="640" y="2197"/>
                    </a:lnTo>
                    <a:lnTo>
                      <a:pt x="627" y="2285"/>
                    </a:lnTo>
                    <a:lnTo>
                      <a:pt x="615" y="2371"/>
                    </a:lnTo>
                    <a:lnTo>
                      <a:pt x="600" y="2456"/>
                    </a:lnTo>
                    <a:lnTo>
                      <a:pt x="584" y="2542"/>
                    </a:lnTo>
                    <a:lnTo>
                      <a:pt x="566" y="2627"/>
                    </a:lnTo>
                    <a:lnTo>
                      <a:pt x="548" y="2711"/>
                    </a:lnTo>
                    <a:lnTo>
                      <a:pt x="528" y="2795"/>
                    </a:lnTo>
                    <a:lnTo>
                      <a:pt x="506" y="2878"/>
                    </a:lnTo>
                    <a:lnTo>
                      <a:pt x="484" y="2961"/>
                    </a:lnTo>
                    <a:lnTo>
                      <a:pt x="460" y="3044"/>
                    </a:lnTo>
                    <a:lnTo>
                      <a:pt x="435" y="3126"/>
                    </a:lnTo>
                    <a:lnTo>
                      <a:pt x="409" y="3207"/>
                    </a:lnTo>
                    <a:lnTo>
                      <a:pt x="382" y="3287"/>
                    </a:lnTo>
                    <a:lnTo>
                      <a:pt x="353" y="3368"/>
                    </a:lnTo>
                    <a:lnTo>
                      <a:pt x="323" y="3448"/>
                    </a:lnTo>
                    <a:lnTo>
                      <a:pt x="292" y="3526"/>
                    </a:lnTo>
                    <a:lnTo>
                      <a:pt x="259" y="3604"/>
                    </a:lnTo>
                    <a:lnTo>
                      <a:pt x="226" y="3683"/>
                    </a:lnTo>
                    <a:lnTo>
                      <a:pt x="191" y="3760"/>
                    </a:lnTo>
                    <a:lnTo>
                      <a:pt x="156" y="3836"/>
                    </a:lnTo>
                    <a:lnTo>
                      <a:pt x="118" y="3912"/>
                    </a:lnTo>
                    <a:lnTo>
                      <a:pt x="79" y="3987"/>
                    </a:lnTo>
                    <a:lnTo>
                      <a:pt x="40" y="4062"/>
                    </a:lnTo>
                    <a:lnTo>
                      <a:pt x="0" y="4135"/>
                    </a:lnTo>
                    <a:lnTo>
                      <a:pt x="24" y="4125"/>
                    </a:lnTo>
                    <a:lnTo>
                      <a:pt x="136" y="4080"/>
                    </a:lnTo>
                    <a:lnTo>
                      <a:pt x="174" y="4008"/>
                    </a:lnTo>
                    <a:lnTo>
                      <a:pt x="211" y="3934"/>
                    </a:lnTo>
                    <a:lnTo>
                      <a:pt x="247" y="3860"/>
                    </a:lnTo>
                    <a:lnTo>
                      <a:pt x="281" y="3785"/>
                    </a:lnTo>
                    <a:lnTo>
                      <a:pt x="315" y="3710"/>
                    </a:lnTo>
                    <a:lnTo>
                      <a:pt x="348" y="3634"/>
                    </a:lnTo>
                    <a:lnTo>
                      <a:pt x="379" y="3558"/>
                    </a:lnTo>
                    <a:lnTo>
                      <a:pt x="409" y="3481"/>
                    </a:lnTo>
                    <a:lnTo>
                      <a:pt x="438" y="3404"/>
                    </a:lnTo>
                    <a:lnTo>
                      <a:pt x="467" y="3325"/>
                    </a:lnTo>
                    <a:lnTo>
                      <a:pt x="494" y="3247"/>
                    </a:lnTo>
                    <a:lnTo>
                      <a:pt x="520" y="3168"/>
                    </a:lnTo>
                    <a:lnTo>
                      <a:pt x="544" y="3088"/>
                    </a:lnTo>
                    <a:lnTo>
                      <a:pt x="567" y="3007"/>
                    </a:lnTo>
                    <a:lnTo>
                      <a:pt x="590" y="2927"/>
                    </a:lnTo>
                    <a:lnTo>
                      <a:pt x="611" y="2846"/>
                    </a:lnTo>
                    <a:lnTo>
                      <a:pt x="631" y="2764"/>
                    </a:lnTo>
                    <a:lnTo>
                      <a:pt x="649" y="2682"/>
                    </a:lnTo>
                    <a:lnTo>
                      <a:pt x="668" y="2599"/>
                    </a:lnTo>
                    <a:lnTo>
                      <a:pt x="684" y="2516"/>
                    </a:lnTo>
                    <a:lnTo>
                      <a:pt x="699" y="2433"/>
                    </a:lnTo>
                    <a:lnTo>
                      <a:pt x="713" y="2349"/>
                    </a:lnTo>
                    <a:lnTo>
                      <a:pt x="724" y="2265"/>
                    </a:lnTo>
                    <a:lnTo>
                      <a:pt x="736" y="2180"/>
                    </a:lnTo>
                    <a:lnTo>
                      <a:pt x="746" y="2095"/>
                    </a:lnTo>
                    <a:lnTo>
                      <a:pt x="754" y="2009"/>
                    </a:lnTo>
                    <a:lnTo>
                      <a:pt x="762" y="1924"/>
                    </a:lnTo>
                    <a:lnTo>
                      <a:pt x="768" y="1837"/>
                    </a:lnTo>
                    <a:lnTo>
                      <a:pt x="773" y="1751"/>
                    </a:lnTo>
                    <a:lnTo>
                      <a:pt x="776" y="1664"/>
                    </a:lnTo>
                    <a:lnTo>
                      <a:pt x="778" y="1577"/>
                    </a:lnTo>
                    <a:lnTo>
                      <a:pt x="778" y="148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86200" y="3881520"/>
                <a:ext cx="212760" cy="1098360"/>
              </a:xfrm>
              <a:custGeom>
                <a:avLst/>
                <a:gdLst/>
                <a:ahLst/>
                <a:rect l="l" t="t" r="r" b="b"/>
                <a:pathLst>
                  <a:path w="800" h="4149">
                    <a:moveTo>
                      <a:pt x="800" y="1475"/>
                    </a:moveTo>
                    <a:lnTo>
                      <a:pt x="799" y="1379"/>
                    </a:lnTo>
                    <a:lnTo>
                      <a:pt x="797" y="1284"/>
                    </a:lnTo>
                    <a:lnTo>
                      <a:pt x="792" y="1189"/>
                    </a:lnTo>
                    <a:lnTo>
                      <a:pt x="788" y="1095"/>
                    </a:lnTo>
                    <a:lnTo>
                      <a:pt x="780" y="1001"/>
                    </a:lnTo>
                    <a:lnTo>
                      <a:pt x="771" y="908"/>
                    </a:lnTo>
                    <a:lnTo>
                      <a:pt x="761" y="815"/>
                    </a:lnTo>
                    <a:lnTo>
                      <a:pt x="748" y="722"/>
                    </a:lnTo>
                    <a:lnTo>
                      <a:pt x="736" y="630"/>
                    </a:lnTo>
                    <a:lnTo>
                      <a:pt x="721" y="538"/>
                    </a:lnTo>
                    <a:lnTo>
                      <a:pt x="703" y="447"/>
                    </a:lnTo>
                    <a:lnTo>
                      <a:pt x="686" y="357"/>
                    </a:lnTo>
                    <a:lnTo>
                      <a:pt x="667" y="267"/>
                    </a:lnTo>
                    <a:lnTo>
                      <a:pt x="646" y="177"/>
                    </a:lnTo>
                    <a:lnTo>
                      <a:pt x="624" y="88"/>
                    </a:lnTo>
                    <a:lnTo>
                      <a:pt x="600" y="0"/>
                    </a:lnTo>
                    <a:lnTo>
                      <a:pt x="551" y="16"/>
                    </a:lnTo>
                    <a:lnTo>
                      <a:pt x="513" y="35"/>
                    </a:lnTo>
                    <a:lnTo>
                      <a:pt x="536" y="122"/>
                    </a:lnTo>
                    <a:lnTo>
                      <a:pt x="557" y="208"/>
                    </a:lnTo>
                    <a:lnTo>
                      <a:pt x="578" y="296"/>
                    </a:lnTo>
                    <a:lnTo>
                      <a:pt x="596" y="383"/>
                    </a:lnTo>
                    <a:lnTo>
                      <a:pt x="613" y="472"/>
                    </a:lnTo>
                    <a:lnTo>
                      <a:pt x="630" y="561"/>
                    </a:lnTo>
                    <a:lnTo>
                      <a:pt x="645" y="651"/>
                    </a:lnTo>
                    <a:lnTo>
                      <a:pt x="657" y="741"/>
                    </a:lnTo>
                    <a:lnTo>
                      <a:pt x="669" y="831"/>
                    </a:lnTo>
                    <a:lnTo>
                      <a:pt x="679" y="922"/>
                    </a:lnTo>
                    <a:lnTo>
                      <a:pt x="687" y="1013"/>
                    </a:lnTo>
                    <a:lnTo>
                      <a:pt x="694" y="1104"/>
                    </a:lnTo>
                    <a:lnTo>
                      <a:pt x="700" y="1196"/>
                    </a:lnTo>
                    <a:lnTo>
                      <a:pt x="703" y="1288"/>
                    </a:lnTo>
                    <a:lnTo>
                      <a:pt x="706" y="1382"/>
                    </a:lnTo>
                    <a:lnTo>
                      <a:pt x="707" y="1475"/>
                    </a:lnTo>
                    <a:lnTo>
                      <a:pt x="706" y="1566"/>
                    </a:lnTo>
                    <a:lnTo>
                      <a:pt x="703" y="1656"/>
                    </a:lnTo>
                    <a:lnTo>
                      <a:pt x="700" y="1747"/>
                    </a:lnTo>
                    <a:lnTo>
                      <a:pt x="695" y="1837"/>
                    </a:lnTo>
                    <a:lnTo>
                      <a:pt x="688" y="1926"/>
                    </a:lnTo>
                    <a:lnTo>
                      <a:pt x="680" y="2016"/>
                    </a:lnTo>
                    <a:lnTo>
                      <a:pt x="670" y="2105"/>
                    </a:lnTo>
                    <a:lnTo>
                      <a:pt x="660" y="2192"/>
                    </a:lnTo>
                    <a:lnTo>
                      <a:pt x="647" y="2280"/>
                    </a:lnTo>
                    <a:lnTo>
                      <a:pt x="633" y="2367"/>
                    </a:lnTo>
                    <a:lnTo>
                      <a:pt x="618" y="2454"/>
                    </a:lnTo>
                    <a:lnTo>
                      <a:pt x="602" y="2540"/>
                    </a:lnTo>
                    <a:lnTo>
                      <a:pt x="583" y="2627"/>
                    </a:lnTo>
                    <a:lnTo>
                      <a:pt x="565" y="2712"/>
                    </a:lnTo>
                    <a:lnTo>
                      <a:pt x="544" y="2797"/>
                    </a:lnTo>
                    <a:lnTo>
                      <a:pt x="522" y="2881"/>
                    </a:lnTo>
                    <a:lnTo>
                      <a:pt x="498" y="2964"/>
                    </a:lnTo>
                    <a:lnTo>
                      <a:pt x="474" y="3049"/>
                    </a:lnTo>
                    <a:lnTo>
                      <a:pt x="449" y="3130"/>
                    </a:lnTo>
                    <a:lnTo>
                      <a:pt x="421" y="3213"/>
                    </a:lnTo>
                    <a:lnTo>
                      <a:pt x="392" y="3294"/>
                    </a:lnTo>
                    <a:lnTo>
                      <a:pt x="363" y="3376"/>
                    </a:lnTo>
                    <a:lnTo>
                      <a:pt x="332" y="3456"/>
                    </a:lnTo>
                    <a:lnTo>
                      <a:pt x="300" y="3535"/>
                    </a:lnTo>
                    <a:lnTo>
                      <a:pt x="266" y="3615"/>
                    </a:lnTo>
                    <a:lnTo>
                      <a:pt x="232" y="3693"/>
                    </a:lnTo>
                    <a:lnTo>
                      <a:pt x="196" y="3770"/>
                    </a:lnTo>
                    <a:lnTo>
                      <a:pt x="159" y="3847"/>
                    </a:lnTo>
                    <a:lnTo>
                      <a:pt x="121" y="3925"/>
                    </a:lnTo>
                    <a:lnTo>
                      <a:pt x="82" y="4000"/>
                    </a:lnTo>
                    <a:lnTo>
                      <a:pt x="41" y="4075"/>
                    </a:lnTo>
                    <a:lnTo>
                      <a:pt x="0" y="4149"/>
                    </a:lnTo>
                    <a:lnTo>
                      <a:pt x="92" y="4111"/>
                    </a:lnTo>
                    <a:lnTo>
                      <a:pt x="137" y="4093"/>
                    </a:lnTo>
                    <a:lnTo>
                      <a:pt x="176" y="4020"/>
                    </a:lnTo>
                    <a:lnTo>
                      <a:pt x="214" y="3947"/>
                    </a:lnTo>
                    <a:lnTo>
                      <a:pt x="251" y="3872"/>
                    </a:lnTo>
                    <a:lnTo>
                      <a:pt x="287" y="3797"/>
                    </a:lnTo>
                    <a:lnTo>
                      <a:pt x="322" y="3721"/>
                    </a:lnTo>
                    <a:lnTo>
                      <a:pt x="355" y="3643"/>
                    </a:lnTo>
                    <a:lnTo>
                      <a:pt x="387" y="3567"/>
                    </a:lnTo>
                    <a:lnTo>
                      <a:pt x="419" y="3489"/>
                    </a:lnTo>
                    <a:lnTo>
                      <a:pt x="450" y="3411"/>
                    </a:lnTo>
                    <a:lnTo>
                      <a:pt x="479" y="3332"/>
                    </a:lnTo>
                    <a:lnTo>
                      <a:pt x="506" y="3253"/>
                    </a:lnTo>
                    <a:lnTo>
                      <a:pt x="533" y="3173"/>
                    </a:lnTo>
                    <a:lnTo>
                      <a:pt x="558" y="3092"/>
                    </a:lnTo>
                    <a:lnTo>
                      <a:pt x="582" y="3012"/>
                    </a:lnTo>
                    <a:lnTo>
                      <a:pt x="605" y="2930"/>
                    </a:lnTo>
                    <a:lnTo>
                      <a:pt x="627" y="2848"/>
                    </a:lnTo>
                    <a:lnTo>
                      <a:pt x="648" y="2765"/>
                    </a:lnTo>
                    <a:lnTo>
                      <a:pt x="667" y="2682"/>
                    </a:lnTo>
                    <a:lnTo>
                      <a:pt x="685" y="2599"/>
                    </a:lnTo>
                    <a:lnTo>
                      <a:pt x="702" y="2515"/>
                    </a:lnTo>
                    <a:lnTo>
                      <a:pt x="717" y="2431"/>
                    </a:lnTo>
                    <a:lnTo>
                      <a:pt x="731" y="2345"/>
                    </a:lnTo>
                    <a:lnTo>
                      <a:pt x="745" y="2260"/>
                    </a:lnTo>
                    <a:lnTo>
                      <a:pt x="756" y="2175"/>
                    </a:lnTo>
                    <a:lnTo>
                      <a:pt x="766" y="2088"/>
                    </a:lnTo>
                    <a:lnTo>
                      <a:pt x="775" y="2002"/>
                    </a:lnTo>
                    <a:lnTo>
                      <a:pt x="783" y="1915"/>
                    </a:lnTo>
                    <a:lnTo>
                      <a:pt x="789" y="1828"/>
                    </a:lnTo>
                    <a:lnTo>
                      <a:pt x="793" y="1740"/>
                    </a:lnTo>
                    <a:lnTo>
                      <a:pt x="797" y="1651"/>
                    </a:lnTo>
                    <a:lnTo>
                      <a:pt x="799" y="1564"/>
                    </a:lnTo>
                    <a:lnTo>
                      <a:pt x="800" y="147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67120" y="3886200"/>
                <a:ext cx="219240" cy="1101600"/>
              </a:xfrm>
              <a:custGeom>
                <a:avLst/>
                <a:gdLst/>
                <a:ahLst/>
                <a:rect l="l" t="t" r="r" b="b"/>
                <a:pathLst>
                  <a:path w="825" h="4162">
                    <a:moveTo>
                      <a:pt x="825" y="1460"/>
                    </a:moveTo>
                    <a:lnTo>
                      <a:pt x="825" y="1366"/>
                    </a:lnTo>
                    <a:lnTo>
                      <a:pt x="823" y="1271"/>
                    </a:lnTo>
                    <a:lnTo>
                      <a:pt x="818" y="1177"/>
                    </a:lnTo>
                    <a:lnTo>
                      <a:pt x="812" y="1083"/>
                    </a:lnTo>
                    <a:lnTo>
                      <a:pt x="805" y="991"/>
                    </a:lnTo>
                    <a:lnTo>
                      <a:pt x="797" y="898"/>
                    </a:lnTo>
                    <a:lnTo>
                      <a:pt x="787" y="805"/>
                    </a:lnTo>
                    <a:lnTo>
                      <a:pt x="775" y="714"/>
                    </a:lnTo>
                    <a:lnTo>
                      <a:pt x="762" y="623"/>
                    </a:lnTo>
                    <a:lnTo>
                      <a:pt x="747" y="532"/>
                    </a:lnTo>
                    <a:lnTo>
                      <a:pt x="730" y="442"/>
                    </a:lnTo>
                    <a:lnTo>
                      <a:pt x="713" y="352"/>
                    </a:lnTo>
                    <a:lnTo>
                      <a:pt x="694" y="264"/>
                    </a:lnTo>
                    <a:lnTo>
                      <a:pt x="673" y="175"/>
                    </a:lnTo>
                    <a:lnTo>
                      <a:pt x="651" y="87"/>
                    </a:lnTo>
                    <a:lnTo>
                      <a:pt x="628" y="0"/>
                    </a:lnTo>
                    <a:lnTo>
                      <a:pt x="623" y="1"/>
                    </a:lnTo>
                    <a:lnTo>
                      <a:pt x="546" y="41"/>
                    </a:lnTo>
                    <a:lnTo>
                      <a:pt x="542" y="42"/>
                    </a:lnTo>
                    <a:lnTo>
                      <a:pt x="564" y="128"/>
                    </a:lnTo>
                    <a:lnTo>
                      <a:pt x="586" y="213"/>
                    </a:lnTo>
                    <a:lnTo>
                      <a:pt x="606" y="299"/>
                    </a:lnTo>
                    <a:lnTo>
                      <a:pt x="624" y="386"/>
                    </a:lnTo>
                    <a:lnTo>
                      <a:pt x="642" y="472"/>
                    </a:lnTo>
                    <a:lnTo>
                      <a:pt x="657" y="560"/>
                    </a:lnTo>
                    <a:lnTo>
                      <a:pt x="670" y="649"/>
                    </a:lnTo>
                    <a:lnTo>
                      <a:pt x="683" y="736"/>
                    </a:lnTo>
                    <a:lnTo>
                      <a:pt x="695" y="826"/>
                    </a:lnTo>
                    <a:lnTo>
                      <a:pt x="705" y="915"/>
                    </a:lnTo>
                    <a:lnTo>
                      <a:pt x="713" y="1005"/>
                    </a:lnTo>
                    <a:lnTo>
                      <a:pt x="720" y="1095"/>
                    </a:lnTo>
                    <a:lnTo>
                      <a:pt x="726" y="1186"/>
                    </a:lnTo>
                    <a:lnTo>
                      <a:pt x="729" y="1277"/>
                    </a:lnTo>
                    <a:lnTo>
                      <a:pt x="732" y="1368"/>
                    </a:lnTo>
                    <a:lnTo>
                      <a:pt x="733" y="1460"/>
                    </a:lnTo>
                    <a:lnTo>
                      <a:pt x="732" y="1552"/>
                    </a:lnTo>
                    <a:lnTo>
                      <a:pt x="729" y="1643"/>
                    </a:lnTo>
                    <a:lnTo>
                      <a:pt x="725" y="1736"/>
                    </a:lnTo>
                    <a:lnTo>
                      <a:pt x="720" y="1827"/>
                    </a:lnTo>
                    <a:lnTo>
                      <a:pt x="713" y="1917"/>
                    </a:lnTo>
                    <a:lnTo>
                      <a:pt x="705" y="2008"/>
                    </a:lnTo>
                    <a:lnTo>
                      <a:pt x="695" y="2098"/>
                    </a:lnTo>
                    <a:lnTo>
                      <a:pt x="683" y="2186"/>
                    </a:lnTo>
                    <a:lnTo>
                      <a:pt x="670" y="2275"/>
                    </a:lnTo>
                    <a:lnTo>
                      <a:pt x="657" y="2364"/>
                    </a:lnTo>
                    <a:lnTo>
                      <a:pt x="640" y="2451"/>
                    </a:lnTo>
                    <a:lnTo>
                      <a:pt x="623" y="2539"/>
                    </a:lnTo>
                    <a:lnTo>
                      <a:pt x="605" y="2626"/>
                    </a:lnTo>
                    <a:lnTo>
                      <a:pt x="585" y="2712"/>
                    </a:lnTo>
                    <a:lnTo>
                      <a:pt x="563" y="2798"/>
                    </a:lnTo>
                    <a:lnTo>
                      <a:pt x="541" y="2884"/>
                    </a:lnTo>
                    <a:lnTo>
                      <a:pt x="517" y="2968"/>
                    </a:lnTo>
                    <a:lnTo>
                      <a:pt x="492" y="3052"/>
                    </a:lnTo>
                    <a:lnTo>
                      <a:pt x="464" y="3136"/>
                    </a:lnTo>
                    <a:lnTo>
                      <a:pt x="436" y="3219"/>
                    </a:lnTo>
                    <a:lnTo>
                      <a:pt x="407" y="3301"/>
                    </a:lnTo>
                    <a:lnTo>
                      <a:pt x="376" y="3383"/>
                    </a:lnTo>
                    <a:lnTo>
                      <a:pt x="344" y="3464"/>
                    </a:lnTo>
                    <a:lnTo>
                      <a:pt x="312" y="3544"/>
                    </a:lnTo>
                    <a:lnTo>
                      <a:pt x="277" y="3624"/>
                    </a:lnTo>
                    <a:lnTo>
                      <a:pt x="241" y="3703"/>
                    </a:lnTo>
                    <a:lnTo>
                      <a:pt x="203" y="3782"/>
                    </a:lnTo>
                    <a:lnTo>
                      <a:pt x="165" y="3859"/>
                    </a:lnTo>
                    <a:lnTo>
                      <a:pt x="126" y="3936"/>
                    </a:lnTo>
                    <a:lnTo>
                      <a:pt x="86" y="4012"/>
                    </a:lnTo>
                    <a:lnTo>
                      <a:pt x="44" y="4088"/>
                    </a:lnTo>
                    <a:lnTo>
                      <a:pt x="0" y="4162"/>
                    </a:lnTo>
                    <a:lnTo>
                      <a:pt x="140" y="4106"/>
                    </a:lnTo>
                    <a:lnTo>
                      <a:pt x="180" y="4033"/>
                    </a:lnTo>
                    <a:lnTo>
                      <a:pt x="219" y="3958"/>
                    </a:lnTo>
                    <a:lnTo>
                      <a:pt x="258" y="3883"/>
                    </a:lnTo>
                    <a:lnTo>
                      <a:pt x="296" y="3807"/>
                    </a:lnTo>
                    <a:lnTo>
                      <a:pt x="330" y="3731"/>
                    </a:lnTo>
                    <a:lnTo>
                      <a:pt x="366" y="3654"/>
                    </a:lnTo>
                    <a:lnTo>
                      <a:pt x="399" y="3575"/>
                    </a:lnTo>
                    <a:lnTo>
                      <a:pt x="432" y="3497"/>
                    </a:lnTo>
                    <a:lnTo>
                      <a:pt x="463" y="3419"/>
                    </a:lnTo>
                    <a:lnTo>
                      <a:pt x="493" y="3339"/>
                    </a:lnTo>
                    <a:lnTo>
                      <a:pt x="522" y="3258"/>
                    </a:lnTo>
                    <a:lnTo>
                      <a:pt x="549" y="3178"/>
                    </a:lnTo>
                    <a:lnTo>
                      <a:pt x="575" y="3097"/>
                    </a:lnTo>
                    <a:lnTo>
                      <a:pt x="600" y="3015"/>
                    </a:lnTo>
                    <a:lnTo>
                      <a:pt x="624" y="2932"/>
                    </a:lnTo>
                    <a:lnTo>
                      <a:pt x="646" y="2849"/>
                    </a:lnTo>
                    <a:lnTo>
                      <a:pt x="668" y="2766"/>
                    </a:lnTo>
                    <a:lnTo>
                      <a:pt x="688" y="2682"/>
                    </a:lnTo>
                    <a:lnTo>
                      <a:pt x="706" y="2598"/>
                    </a:lnTo>
                    <a:lnTo>
                      <a:pt x="724" y="2513"/>
                    </a:lnTo>
                    <a:lnTo>
                      <a:pt x="740" y="2427"/>
                    </a:lnTo>
                    <a:lnTo>
                      <a:pt x="755" y="2342"/>
                    </a:lnTo>
                    <a:lnTo>
                      <a:pt x="767" y="2256"/>
                    </a:lnTo>
                    <a:lnTo>
                      <a:pt x="780" y="2168"/>
                    </a:lnTo>
                    <a:lnTo>
                      <a:pt x="790" y="2081"/>
                    </a:lnTo>
                    <a:lnTo>
                      <a:pt x="800" y="1994"/>
                    </a:lnTo>
                    <a:lnTo>
                      <a:pt x="808" y="1905"/>
                    </a:lnTo>
                    <a:lnTo>
                      <a:pt x="813" y="1817"/>
                    </a:lnTo>
                    <a:lnTo>
                      <a:pt x="819" y="1729"/>
                    </a:lnTo>
                    <a:lnTo>
                      <a:pt x="823" y="1639"/>
                    </a:lnTo>
                    <a:lnTo>
                      <a:pt x="825" y="1550"/>
                    </a:lnTo>
                    <a:lnTo>
                      <a:pt x="825" y="146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48040" y="3890880"/>
                <a:ext cx="225720" cy="1104840"/>
              </a:xfrm>
              <a:custGeom>
                <a:avLst/>
                <a:gdLst/>
                <a:ahLst/>
                <a:rect l="l" t="t" r="r" b="b"/>
                <a:pathLst>
                  <a:path w="852" h="4177">
                    <a:moveTo>
                      <a:pt x="852" y="1440"/>
                    </a:moveTo>
                    <a:lnTo>
                      <a:pt x="851" y="1347"/>
                    </a:lnTo>
                    <a:lnTo>
                      <a:pt x="848" y="1253"/>
                    </a:lnTo>
                    <a:lnTo>
                      <a:pt x="845" y="1161"/>
                    </a:lnTo>
                    <a:lnTo>
                      <a:pt x="839" y="1069"/>
                    </a:lnTo>
                    <a:lnTo>
                      <a:pt x="832" y="978"/>
                    </a:lnTo>
                    <a:lnTo>
                      <a:pt x="824" y="887"/>
                    </a:lnTo>
                    <a:lnTo>
                      <a:pt x="814" y="796"/>
                    </a:lnTo>
                    <a:lnTo>
                      <a:pt x="802" y="706"/>
                    </a:lnTo>
                    <a:lnTo>
                      <a:pt x="790" y="616"/>
                    </a:lnTo>
                    <a:lnTo>
                      <a:pt x="775" y="526"/>
                    </a:lnTo>
                    <a:lnTo>
                      <a:pt x="758" y="437"/>
                    </a:lnTo>
                    <a:lnTo>
                      <a:pt x="741" y="348"/>
                    </a:lnTo>
                    <a:lnTo>
                      <a:pt x="723" y="261"/>
                    </a:lnTo>
                    <a:lnTo>
                      <a:pt x="702" y="173"/>
                    </a:lnTo>
                    <a:lnTo>
                      <a:pt x="681" y="87"/>
                    </a:lnTo>
                    <a:lnTo>
                      <a:pt x="658" y="0"/>
                    </a:lnTo>
                    <a:lnTo>
                      <a:pt x="619" y="21"/>
                    </a:lnTo>
                    <a:lnTo>
                      <a:pt x="573" y="43"/>
                    </a:lnTo>
                    <a:lnTo>
                      <a:pt x="595" y="127"/>
                    </a:lnTo>
                    <a:lnTo>
                      <a:pt x="615" y="211"/>
                    </a:lnTo>
                    <a:lnTo>
                      <a:pt x="635" y="295"/>
                    </a:lnTo>
                    <a:lnTo>
                      <a:pt x="652" y="381"/>
                    </a:lnTo>
                    <a:lnTo>
                      <a:pt x="670" y="467"/>
                    </a:lnTo>
                    <a:lnTo>
                      <a:pt x="685" y="554"/>
                    </a:lnTo>
                    <a:lnTo>
                      <a:pt x="698" y="640"/>
                    </a:lnTo>
                    <a:lnTo>
                      <a:pt x="711" y="728"/>
                    </a:lnTo>
                    <a:lnTo>
                      <a:pt x="722" y="815"/>
                    </a:lnTo>
                    <a:lnTo>
                      <a:pt x="732" y="903"/>
                    </a:lnTo>
                    <a:lnTo>
                      <a:pt x="740" y="992"/>
                    </a:lnTo>
                    <a:lnTo>
                      <a:pt x="747" y="1080"/>
                    </a:lnTo>
                    <a:lnTo>
                      <a:pt x="752" y="1169"/>
                    </a:lnTo>
                    <a:lnTo>
                      <a:pt x="756" y="1259"/>
                    </a:lnTo>
                    <a:lnTo>
                      <a:pt x="758" y="1349"/>
                    </a:lnTo>
                    <a:lnTo>
                      <a:pt x="758" y="1440"/>
                    </a:lnTo>
                    <a:lnTo>
                      <a:pt x="757" y="1533"/>
                    </a:lnTo>
                    <a:lnTo>
                      <a:pt x="755" y="1627"/>
                    </a:lnTo>
                    <a:lnTo>
                      <a:pt x="752" y="1720"/>
                    </a:lnTo>
                    <a:lnTo>
                      <a:pt x="746" y="1812"/>
                    </a:lnTo>
                    <a:lnTo>
                      <a:pt x="739" y="1905"/>
                    </a:lnTo>
                    <a:lnTo>
                      <a:pt x="730" y="1996"/>
                    </a:lnTo>
                    <a:lnTo>
                      <a:pt x="719" y="2087"/>
                    </a:lnTo>
                    <a:lnTo>
                      <a:pt x="708" y="2178"/>
                    </a:lnTo>
                    <a:lnTo>
                      <a:pt x="694" y="2268"/>
                    </a:lnTo>
                    <a:lnTo>
                      <a:pt x="680" y="2358"/>
                    </a:lnTo>
                    <a:lnTo>
                      <a:pt x="663" y="2446"/>
                    </a:lnTo>
                    <a:lnTo>
                      <a:pt x="645" y="2535"/>
                    </a:lnTo>
                    <a:lnTo>
                      <a:pt x="626" y="2624"/>
                    </a:lnTo>
                    <a:lnTo>
                      <a:pt x="605" y="2710"/>
                    </a:lnTo>
                    <a:lnTo>
                      <a:pt x="583" y="2798"/>
                    </a:lnTo>
                    <a:lnTo>
                      <a:pt x="560" y="2885"/>
                    </a:lnTo>
                    <a:lnTo>
                      <a:pt x="535" y="2970"/>
                    </a:lnTo>
                    <a:lnTo>
                      <a:pt x="508" y="3055"/>
                    </a:lnTo>
                    <a:lnTo>
                      <a:pt x="480" y="3140"/>
                    </a:lnTo>
                    <a:lnTo>
                      <a:pt x="452" y="3223"/>
                    </a:lnTo>
                    <a:lnTo>
                      <a:pt x="421" y="3308"/>
                    </a:lnTo>
                    <a:lnTo>
                      <a:pt x="389" y="3389"/>
                    </a:lnTo>
                    <a:lnTo>
                      <a:pt x="356" y="3471"/>
                    </a:lnTo>
                    <a:lnTo>
                      <a:pt x="321" y="3553"/>
                    </a:lnTo>
                    <a:lnTo>
                      <a:pt x="286" y="3634"/>
                    </a:lnTo>
                    <a:lnTo>
                      <a:pt x="249" y="3713"/>
                    </a:lnTo>
                    <a:lnTo>
                      <a:pt x="209" y="3793"/>
                    </a:lnTo>
                    <a:lnTo>
                      <a:pt x="170" y="3871"/>
                    </a:lnTo>
                    <a:lnTo>
                      <a:pt x="130" y="3949"/>
                    </a:lnTo>
                    <a:lnTo>
                      <a:pt x="87" y="4026"/>
                    </a:lnTo>
                    <a:lnTo>
                      <a:pt x="43" y="4102"/>
                    </a:lnTo>
                    <a:lnTo>
                      <a:pt x="0" y="4177"/>
                    </a:lnTo>
                    <a:lnTo>
                      <a:pt x="46" y="4154"/>
                    </a:lnTo>
                    <a:lnTo>
                      <a:pt x="145" y="4114"/>
                    </a:lnTo>
                    <a:lnTo>
                      <a:pt x="186" y="4040"/>
                    </a:lnTo>
                    <a:lnTo>
                      <a:pt x="227" y="3965"/>
                    </a:lnTo>
                    <a:lnTo>
                      <a:pt x="266" y="3890"/>
                    </a:lnTo>
                    <a:lnTo>
                      <a:pt x="304" y="3812"/>
                    </a:lnTo>
                    <a:lnTo>
                      <a:pt x="341" y="3735"/>
                    </a:lnTo>
                    <a:lnTo>
                      <a:pt x="377" y="3658"/>
                    </a:lnTo>
                    <a:lnTo>
                      <a:pt x="411" y="3580"/>
                    </a:lnTo>
                    <a:lnTo>
                      <a:pt x="445" y="3500"/>
                    </a:lnTo>
                    <a:lnTo>
                      <a:pt x="477" y="3421"/>
                    </a:lnTo>
                    <a:lnTo>
                      <a:pt x="508" y="3341"/>
                    </a:lnTo>
                    <a:lnTo>
                      <a:pt x="537" y="3259"/>
                    </a:lnTo>
                    <a:lnTo>
                      <a:pt x="566" y="3178"/>
                    </a:lnTo>
                    <a:lnTo>
                      <a:pt x="594" y="3095"/>
                    </a:lnTo>
                    <a:lnTo>
                      <a:pt x="619" y="3014"/>
                    </a:lnTo>
                    <a:lnTo>
                      <a:pt x="643" y="2929"/>
                    </a:lnTo>
                    <a:lnTo>
                      <a:pt x="667" y="2846"/>
                    </a:lnTo>
                    <a:lnTo>
                      <a:pt x="689" y="2762"/>
                    </a:lnTo>
                    <a:lnTo>
                      <a:pt x="710" y="2677"/>
                    </a:lnTo>
                    <a:lnTo>
                      <a:pt x="728" y="2592"/>
                    </a:lnTo>
                    <a:lnTo>
                      <a:pt x="747" y="2505"/>
                    </a:lnTo>
                    <a:lnTo>
                      <a:pt x="763" y="2419"/>
                    </a:lnTo>
                    <a:lnTo>
                      <a:pt x="778" y="2332"/>
                    </a:lnTo>
                    <a:lnTo>
                      <a:pt x="792" y="2245"/>
                    </a:lnTo>
                    <a:lnTo>
                      <a:pt x="805" y="2157"/>
                    </a:lnTo>
                    <a:lnTo>
                      <a:pt x="815" y="2070"/>
                    </a:lnTo>
                    <a:lnTo>
                      <a:pt x="825" y="1981"/>
                    </a:lnTo>
                    <a:lnTo>
                      <a:pt x="833" y="1891"/>
                    </a:lnTo>
                    <a:lnTo>
                      <a:pt x="840" y="1802"/>
                    </a:lnTo>
                    <a:lnTo>
                      <a:pt x="845" y="1712"/>
                    </a:lnTo>
                    <a:lnTo>
                      <a:pt x="848" y="1621"/>
                    </a:lnTo>
                    <a:lnTo>
                      <a:pt x="851" y="1531"/>
                    </a:lnTo>
                    <a:lnTo>
                      <a:pt x="852" y="144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27520" y="3897360"/>
                <a:ext cx="233280" cy="1109520"/>
              </a:xfrm>
              <a:custGeom>
                <a:avLst/>
                <a:gdLst/>
                <a:ahLst/>
                <a:rect l="l" t="t" r="r" b="b"/>
                <a:pathLst>
                  <a:path w="886" h="4195">
                    <a:moveTo>
                      <a:pt x="886" y="1418"/>
                    </a:moveTo>
                    <a:lnTo>
                      <a:pt x="885" y="1326"/>
                    </a:lnTo>
                    <a:lnTo>
                      <a:pt x="882" y="1235"/>
                    </a:lnTo>
                    <a:lnTo>
                      <a:pt x="879" y="1144"/>
                    </a:lnTo>
                    <a:lnTo>
                      <a:pt x="873" y="1053"/>
                    </a:lnTo>
                    <a:lnTo>
                      <a:pt x="866" y="963"/>
                    </a:lnTo>
                    <a:lnTo>
                      <a:pt x="858" y="873"/>
                    </a:lnTo>
                    <a:lnTo>
                      <a:pt x="848" y="784"/>
                    </a:lnTo>
                    <a:lnTo>
                      <a:pt x="836" y="694"/>
                    </a:lnTo>
                    <a:lnTo>
                      <a:pt x="823" y="607"/>
                    </a:lnTo>
                    <a:lnTo>
                      <a:pt x="810" y="518"/>
                    </a:lnTo>
                    <a:lnTo>
                      <a:pt x="795" y="430"/>
                    </a:lnTo>
                    <a:lnTo>
                      <a:pt x="777" y="344"/>
                    </a:lnTo>
                    <a:lnTo>
                      <a:pt x="759" y="257"/>
                    </a:lnTo>
                    <a:lnTo>
                      <a:pt x="739" y="171"/>
                    </a:lnTo>
                    <a:lnTo>
                      <a:pt x="717" y="86"/>
                    </a:lnTo>
                    <a:lnTo>
                      <a:pt x="695" y="0"/>
                    </a:lnTo>
                    <a:lnTo>
                      <a:pt x="622" y="36"/>
                    </a:lnTo>
                    <a:lnTo>
                      <a:pt x="610" y="42"/>
                    </a:lnTo>
                    <a:lnTo>
                      <a:pt x="632" y="125"/>
                    </a:lnTo>
                    <a:lnTo>
                      <a:pt x="652" y="208"/>
                    </a:lnTo>
                    <a:lnTo>
                      <a:pt x="671" y="291"/>
                    </a:lnTo>
                    <a:lnTo>
                      <a:pt x="689" y="375"/>
                    </a:lnTo>
                    <a:lnTo>
                      <a:pt x="705" y="459"/>
                    </a:lnTo>
                    <a:lnTo>
                      <a:pt x="720" y="544"/>
                    </a:lnTo>
                    <a:lnTo>
                      <a:pt x="734" y="630"/>
                    </a:lnTo>
                    <a:lnTo>
                      <a:pt x="745" y="716"/>
                    </a:lnTo>
                    <a:lnTo>
                      <a:pt x="757" y="803"/>
                    </a:lnTo>
                    <a:lnTo>
                      <a:pt x="766" y="889"/>
                    </a:lnTo>
                    <a:lnTo>
                      <a:pt x="774" y="977"/>
                    </a:lnTo>
                    <a:lnTo>
                      <a:pt x="781" y="1064"/>
                    </a:lnTo>
                    <a:lnTo>
                      <a:pt x="785" y="1152"/>
                    </a:lnTo>
                    <a:lnTo>
                      <a:pt x="789" y="1241"/>
                    </a:lnTo>
                    <a:lnTo>
                      <a:pt x="791" y="1329"/>
                    </a:lnTo>
                    <a:lnTo>
                      <a:pt x="792" y="1418"/>
                    </a:lnTo>
                    <a:lnTo>
                      <a:pt x="791" y="1514"/>
                    </a:lnTo>
                    <a:lnTo>
                      <a:pt x="789" y="1608"/>
                    </a:lnTo>
                    <a:lnTo>
                      <a:pt x="784" y="1703"/>
                    </a:lnTo>
                    <a:lnTo>
                      <a:pt x="778" y="1796"/>
                    </a:lnTo>
                    <a:lnTo>
                      <a:pt x="772" y="1891"/>
                    </a:lnTo>
                    <a:lnTo>
                      <a:pt x="762" y="1984"/>
                    </a:lnTo>
                    <a:lnTo>
                      <a:pt x="751" y="2076"/>
                    </a:lnTo>
                    <a:lnTo>
                      <a:pt x="739" y="2169"/>
                    </a:lnTo>
                    <a:lnTo>
                      <a:pt x="724" y="2260"/>
                    </a:lnTo>
                    <a:lnTo>
                      <a:pt x="709" y="2351"/>
                    </a:lnTo>
                    <a:lnTo>
                      <a:pt x="692" y="2442"/>
                    </a:lnTo>
                    <a:lnTo>
                      <a:pt x="674" y="2532"/>
                    </a:lnTo>
                    <a:lnTo>
                      <a:pt x="654" y="2622"/>
                    </a:lnTo>
                    <a:lnTo>
                      <a:pt x="632" y="2710"/>
                    </a:lnTo>
                    <a:lnTo>
                      <a:pt x="609" y="2799"/>
                    </a:lnTo>
                    <a:lnTo>
                      <a:pt x="585" y="2887"/>
                    </a:lnTo>
                    <a:lnTo>
                      <a:pt x="558" y="2973"/>
                    </a:lnTo>
                    <a:lnTo>
                      <a:pt x="531" y="3060"/>
                    </a:lnTo>
                    <a:lnTo>
                      <a:pt x="502" y="3146"/>
                    </a:lnTo>
                    <a:lnTo>
                      <a:pt x="472" y="3230"/>
                    </a:lnTo>
                    <a:lnTo>
                      <a:pt x="439" y="3316"/>
                    </a:lnTo>
                    <a:lnTo>
                      <a:pt x="406" y="3399"/>
                    </a:lnTo>
                    <a:lnTo>
                      <a:pt x="371" y="3482"/>
                    </a:lnTo>
                    <a:lnTo>
                      <a:pt x="336" y="3565"/>
                    </a:lnTo>
                    <a:lnTo>
                      <a:pt x="298" y="3645"/>
                    </a:lnTo>
                    <a:lnTo>
                      <a:pt x="259" y="3727"/>
                    </a:lnTo>
                    <a:lnTo>
                      <a:pt x="219" y="3807"/>
                    </a:lnTo>
                    <a:lnTo>
                      <a:pt x="179" y="3886"/>
                    </a:lnTo>
                    <a:lnTo>
                      <a:pt x="136" y="3965"/>
                    </a:lnTo>
                    <a:lnTo>
                      <a:pt x="91" y="4042"/>
                    </a:lnTo>
                    <a:lnTo>
                      <a:pt x="46" y="4119"/>
                    </a:lnTo>
                    <a:lnTo>
                      <a:pt x="0" y="4195"/>
                    </a:lnTo>
                    <a:lnTo>
                      <a:pt x="126" y="4132"/>
                    </a:lnTo>
                    <a:lnTo>
                      <a:pt x="153" y="4120"/>
                    </a:lnTo>
                    <a:lnTo>
                      <a:pt x="197" y="4046"/>
                    </a:lnTo>
                    <a:lnTo>
                      <a:pt x="239" y="3970"/>
                    </a:lnTo>
                    <a:lnTo>
                      <a:pt x="279" y="3894"/>
                    </a:lnTo>
                    <a:lnTo>
                      <a:pt x="318" y="3817"/>
                    </a:lnTo>
                    <a:lnTo>
                      <a:pt x="356" y="3740"/>
                    </a:lnTo>
                    <a:lnTo>
                      <a:pt x="394" y="3661"/>
                    </a:lnTo>
                    <a:lnTo>
                      <a:pt x="430" y="3582"/>
                    </a:lnTo>
                    <a:lnTo>
                      <a:pt x="465" y="3502"/>
                    </a:lnTo>
                    <a:lnTo>
                      <a:pt x="497" y="3422"/>
                    </a:lnTo>
                    <a:lnTo>
                      <a:pt x="529" y="3341"/>
                    </a:lnTo>
                    <a:lnTo>
                      <a:pt x="560" y="3259"/>
                    </a:lnTo>
                    <a:lnTo>
                      <a:pt x="589" y="3177"/>
                    </a:lnTo>
                    <a:lnTo>
                      <a:pt x="617" y="3094"/>
                    </a:lnTo>
                    <a:lnTo>
                      <a:pt x="645" y="3010"/>
                    </a:lnTo>
                    <a:lnTo>
                      <a:pt x="670" y="2926"/>
                    </a:lnTo>
                    <a:lnTo>
                      <a:pt x="694" y="2842"/>
                    </a:lnTo>
                    <a:lnTo>
                      <a:pt x="716" y="2756"/>
                    </a:lnTo>
                    <a:lnTo>
                      <a:pt x="738" y="2670"/>
                    </a:lnTo>
                    <a:lnTo>
                      <a:pt x="758" y="2584"/>
                    </a:lnTo>
                    <a:lnTo>
                      <a:pt x="776" y="2497"/>
                    </a:lnTo>
                    <a:lnTo>
                      <a:pt x="793" y="2409"/>
                    </a:lnTo>
                    <a:lnTo>
                      <a:pt x="810" y="2322"/>
                    </a:lnTo>
                    <a:lnTo>
                      <a:pt x="823" y="2233"/>
                    </a:lnTo>
                    <a:lnTo>
                      <a:pt x="836" y="2144"/>
                    </a:lnTo>
                    <a:lnTo>
                      <a:pt x="848" y="2056"/>
                    </a:lnTo>
                    <a:lnTo>
                      <a:pt x="858" y="1966"/>
                    </a:lnTo>
                    <a:lnTo>
                      <a:pt x="866" y="1875"/>
                    </a:lnTo>
                    <a:lnTo>
                      <a:pt x="873" y="1785"/>
                    </a:lnTo>
                    <a:lnTo>
                      <a:pt x="878" y="1694"/>
                    </a:lnTo>
                    <a:lnTo>
                      <a:pt x="882" y="1601"/>
                    </a:lnTo>
                    <a:lnTo>
                      <a:pt x="885" y="1510"/>
                    </a:lnTo>
                    <a:lnTo>
                      <a:pt x="886" y="141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05200" y="3902040"/>
                <a:ext cx="243000" cy="1116000"/>
              </a:xfrm>
              <a:custGeom>
                <a:avLst/>
                <a:gdLst/>
                <a:ahLst/>
                <a:rect l="l" t="t" r="r" b="b"/>
                <a:pathLst>
                  <a:path w="918" h="4213">
                    <a:moveTo>
                      <a:pt x="918" y="1397"/>
                    </a:moveTo>
                    <a:lnTo>
                      <a:pt x="918" y="1306"/>
                    </a:lnTo>
                    <a:lnTo>
                      <a:pt x="916" y="1216"/>
                    </a:lnTo>
                    <a:lnTo>
                      <a:pt x="912" y="1126"/>
                    </a:lnTo>
                    <a:lnTo>
                      <a:pt x="907" y="1037"/>
                    </a:lnTo>
                    <a:lnTo>
                      <a:pt x="900" y="949"/>
                    </a:lnTo>
                    <a:lnTo>
                      <a:pt x="892" y="860"/>
                    </a:lnTo>
                    <a:lnTo>
                      <a:pt x="882" y="772"/>
                    </a:lnTo>
                    <a:lnTo>
                      <a:pt x="871" y="685"/>
                    </a:lnTo>
                    <a:lnTo>
                      <a:pt x="858" y="597"/>
                    </a:lnTo>
                    <a:lnTo>
                      <a:pt x="845" y="511"/>
                    </a:lnTo>
                    <a:lnTo>
                      <a:pt x="830" y="424"/>
                    </a:lnTo>
                    <a:lnTo>
                      <a:pt x="812" y="338"/>
                    </a:lnTo>
                    <a:lnTo>
                      <a:pt x="795" y="252"/>
                    </a:lnTo>
                    <a:lnTo>
                      <a:pt x="775" y="168"/>
                    </a:lnTo>
                    <a:lnTo>
                      <a:pt x="755" y="84"/>
                    </a:lnTo>
                    <a:lnTo>
                      <a:pt x="733" y="0"/>
                    </a:lnTo>
                    <a:lnTo>
                      <a:pt x="702" y="15"/>
                    </a:lnTo>
                    <a:lnTo>
                      <a:pt x="647" y="41"/>
                    </a:lnTo>
                    <a:lnTo>
                      <a:pt x="668" y="123"/>
                    </a:lnTo>
                    <a:lnTo>
                      <a:pt x="688" y="205"/>
                    </a:lnTo>
                    <a:lnTo>
                      <a:pt x="706" y="287"/>
                    </a:lnTo>
                    <a:lnTo>
                      <a:pt x="724" y="370"/>
                    </a:lnTo>
                    <a:lnTo>
                      <a:pt x="740" y="453"/>
                    </a:lnTo>
                    <a:lnTo>
                      <a:pt x="755" y="537"/>
                    </a:lnTo>
                    <a:lnTo>
                      <a:pt x="767" y="621"/>
                    </a:lnTo>
                    <a:lnTo>
                      <a:pt x="780" y="705"/>
                    </a:lnTo>
                    <a:lnTo>
                      <a:pt x="790" y="791"/>
                    </a:lnTo>
                    <a:lnTo>
                      <a:pt x="800" y="876"/>
                    </a:lnTo>
                    <a:lnTo>
                      <a:pt x="808" y="963"/>
                    </a:lnTo>
                    <a:lnTo>
                      <a:pt x="814" y="1048"/>
                    </a:lnTo>
                    <a:lnTo>
                      <a:pt x="819" y="1135"/>
                    </a:lnTo>
                    <a:lnTo>
                      <a:pt x="823" y="1222"/>
                    </a:lnTo>
                    <a:lnTo>
                      <a:pt x="825" y="1310"/>
                    </a:lnTo>
                    <a:lnTo>
                      <a:pt x="825" y="1397"/>
                    </a:lnTo>
                    <a:lnTo>
                      <a:pt x="825" y="1494"/>
                    </a:lnTo>
                    <a:lnTo>
                      <a:pt x="822" y="1591"/>
                    </a:lnTo>
                    <a:lnTo>
                      <a:pt x="817" y="1686"/>
                    </a:lnTo>
                    <a:lnTo>
                      <a:pt x="811" y="1782"/>
                    </a:lnTo>
                    <a:lnTo>
                      <a:pt x="803" y="1878"/>
                    </a:lnTo>
                    <a:lnTo>
                      <a:pt x="794" y="1972"/>
                    </a:lnTo>
                    <a:lnTo>
                      <a:pt x="782" y="2067"/>
                    </a:lnTo>
                    <a:lnTo>
                      <a:pt x="770" y="2160"/>
                    </a:lnTo>
                    <a:lnTo>
                      <a:pt x="756" y="2254"/>
                    </a:lnTo>
                    <a:lnTo>
                      <a:pt x="740" y="2346"/>
                    </a:lnTo>
                    <a:lnTo>
                      <a:pt x="721" y="2438"/>
                    </a:lnTo>
                    <a:lnTo>
                      <a:pt x="702" y="2530"/>
                    </a:lnTo>
                    <a:lnTo>
                      <a:pt x="681" y="2621"/>
                    </a:lnTo>
                    <a:lnTo>
                      <a:pt x="659" y="2711"/>
                    </a:lnTo>
                    <a:lnTo>
                      <a:pt x="635" y="2801"/>
                    </a:lnTo>
                    <a:lnTo>
                      <a:pt x="608" y="2890"/>
                    </a:lnTo>
                    <a:lnTo>
                      <a:pt x="582" y="2978"/>
                    </a:lnTo>
                    <a:lnTo>
                      <a:pt x="553" y="3066"/>
                    </a:lnTo>
                    <a:lnTo>
                      <a:pt x="523" y="3153"/>
                    </a:lnTo>
                    <a:lnTo>
                      <a:pt x="491" y="3239"/>
                    </a:lnTo>
                    <a:lnTo>
                      <a:pt x="457" y="3325"/>
                    </a:lnTo>
                    <a:lnTo>
                      <a:pt x="422" y="3410"/>
                    </a:lnTo>
                    <a:lnTo>
                      <a:pt x="387" y="3494"/>
                    </a:lnTo>
                    <a:lnTo>
                      <a:pt x="350" y="3577"/>
                    </a:lnTo>
                    <a:lnTo>
                      <a:pt x="311" y="3659"/>
                    </a:lnTo>
                    <a:lnTo>
                      <a:pt x="270" y="3741"/>
                    </a:lnTo>
                    <a:lnTo>
                      <a:pt x="229" y="3823"/>
                    </a:lnTo>
                    <a:lnTo>
                      <a:pt x="185" y="3902"/>
                    </a:lnTo>
                    <a:lnTo>
                      <a:pt x="141" y="3982"/>
                    </a:lnTo>
                    <a:lnTo>
                      <a:pt x="95" y="4060"/>
                    </a:lnTo>
                    <a:lnTo>
                      <a:pt x="49" y="4137"/>
                    </a:lnTo>
                    <a:lnTo>
                      <a:pt x="0" y="4213"/>
                    </a:lnTo>
                    <a:lnTo>
                      <a:pt x="160" y="4134"/>
                    </a:lnTo>
                    <a:lnTo>
                      <a:pt x="203" y="4059"/>
                    </a:lnTo>
                    <a:lnTo>
                      <a:pt x="247" y="3983"/>
                    </a:lnTo>
                    <a:lnTo>
                      <a:pt x="290" y="3906"/>
                    </a:lnTo>
                    <a:lnTo>
                      <a:pt x="330" y="3828"/>
                    </a:lnTo>
                    <a:lnTo>
                      <a:pt x="369" y="3750"/>
                    </a:lnTo>
                    <a:lnTo>
                      <a:pt x="409" y="3670"/>
                    </a:lnTo>
                    <a:lnTo>
                      <a:pt x="446" y="3591"/>
                    </a:lnTo>
                    <a:lnTo>
                      <a:pt x="481" y="3510"/>
                    </a:lnTo>
                    <a:lnTo>
                      <a:pt x="516" y="3428"/>
                    </a:lnTo>
                    <a:lnTo>
                      <a:pt x="549" y="3346"/>
                    </a:lnTo>
                    <a:lnTo>
                      <a:pt x="581" y="3265"/>
                    </a:lnTo>
                    <a:lnTo>
                      <a:pt x="612" y="3180"/>
                    </a:lnTo>
                    <a:lnTo>
                      <a:pt x="640" y="3097"/>
                    </a:lnTo>
                    <a:lnTo>
                      <a:pt x="668" y="3012"/>
                    </a:lnTo>
                    <a:lnTo>
                      <a:pt x="695" y="2927"/>
                    </a:lnTo>
                    <a:lnTo>
                      <a:pt x="720" y="2842"/>
                    </a:lnTo>
                    <a:lnTo>
                      <a:pt x="743" y="2755"/>
                    </a:lnTo>
                    <a:lnTo>
                      <a:pt x="765" y="2667"/>
                    </a:lnTo>
                    <a:lnTo>
                      <a:pt x="786" y="2581"/>
                    </a:lnTo>
                    <a:lnTo>
                      <a:pt x="805" y="2492"/>
                    </a:lnTo>
                    <a:lnTo>
                      <a:pt x="823" y="2403"/>
                    </a:lnTo>
                    <a:lnTo>
                      <a:pt x="840" y="2315"/>
                    </a:lnTo>
                    <a:lnTo>
                      <a:pt x="854" y="2225"/>
                    </a:lnTo>
                    <a:lnTo>
                      <a:pt x="868" y="2135"/>
                    </a:lnTo>
                    <a:lnTo>
                      <a:pt x="879" y="2044"/>
                    </a:lnTo>
                    <a:lnTo>
                      <a:pt x="890" y="1953"/>
                    </a:lnTo>
                    <a:lnTo>
                      <a:pt x="899" y="1862"/>
                    </a:lnTo>
                    <a:lnTo>
                      <a:pt x="906" y="1769"/>
                    </a:lnTo>
                    <a:lnTo>
                      <a:pt x="912" y="1677"/>
                    </a:lnTo>
                    <a:lnTo>
                      <a:pt x="915" y="1584"/>
                    </a:lnTo>
                    <a:lnTo>
                      <a:pt x="917" y="1490"/>
                    </a:lnTo>
                    <a:lnTo>
                      <a:pt x="918" y="1397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1440" y="3908520"/>
                <a:ext cx="255600" cy="1123920"/>
              </a:xfrm>
              <a:custGeom>
                <a:avLst/>
                <a:gdLst/>
                <a:ahLst/>
                <a:rect l="l" t="t" r="r" b="b"/>
                <a:pathLst>
                  <a:path w="966" h="4251">
                    <a:moveTo>
                      <a:pt x="966" y="1376"/>
                    </a:moveTo>
                    <a:lnTo>
                      <a:pt x="965" y="1287"/>
                    </a:lnTo>
                    <a:lnTo>
                      <a:pt x="963" y="1199"/>
                    </a:lnTo>
                    <a:lnTo>
                      <a:pt x="959" y="1110"/>
                    </a:lnTo>
                    <a:lnTo>
                      <a:pt x="955" y="1022"/>
                    </a:lnTo>
                    <a:lnTo>
                      <a:pt x="948" y="935"/>
                    </a:lnTo>
                    <a:lnTo>
                      <a:pt x="940" y="847"/>
                    </a:lnTo>
                    <a:lnTo>
                      <a:pt x="931" y="761"/>
                    </a:lnTo>
                    <a:lnTo>
                      <a:pt x="919" y="674"/>
                    </a:lnTo>
                    <a:lnTo>
                      <a:pt x="908" y="588"/>
                    </a:lnTo>
                    <a:lnTo>
                      <a:pt x="894" y="502"/>
                    </a:lnTo>
                    <a:lnTo>
                      <a:pt x="879" y="417"/>
                    </a:lnTo>
                    <a:lnTo>
                      <a:pt x="863" y="333"/>
                    </a:lnTo>
                    <a:lnTo>
                      <a:pt x="845" y="249"/>
                    </a:lnTo>
                    <a:lnTo>
                      <a:pt x="826" y="166"/>
                    </a:lnTo>
                    <a:lnTo>
                      <a:pt x="806" y="83"/>
                    </a:lnTo>
                    <a:lnTo>
                      <a:pt x="784" y="0"/>
                    </a:lnTo>
                    <a:lnTo>
                      <a:pt x="723" y="31"/>
                    </a:lnTo>
                    <a:lnTo>
                      <a:pt x="699" y="42"/>
                    </a:lnTo>
                    <a:lnTo>
                      <a:pt x="719" y="123"/>
                    </a:lnTo>
                    <a:lnTo>
                      <a:pt x="739" y="204"/>
                    </a:lnTo>
                    <a:lnTo>
                      <a:pt x="756" y="284"/>
                    </a:lnTo>
                    <a:lnTo>
                      <a:pt x="774" y="365"/>
                    </a:lnTo>
                    <a:lnTo>
                      <a:pt x="790" y="448"/>
                    </a:lnTo>
                    <a:lnTo>
                      <a:pt x="804" y="530"/>
                    </a:lnTo>
                    <a:lnTo>
                      <a:pt x="816" y="613"/>
                    </a:lnTo>
                    <a:lnTo>
                      <a:pt x="828" y="696"/>
                    </a:lnTo>
                    <a:lnTo>
                      <a:pt x="838" y="780"/>
                    </a:lnTo>
                    <a:lnTo>
                      <a:pt x="848" y="864"/>
                    </a:lnTo>
                    <a:lnTo>
                      <a:pt x="856" y="948"/>
                    </a:lnTo>
                    <a:lnTo>
                      <a:pt x="861" y="1033"/>
                    </a:lnTo>
                    <a:lnTo>
                      <a:pt x="866" y="1118"/>
                    </a:lnTo>
                    <a:lnTo>
                      <a:pt x="871" y="1203"/>
                    </a:lnTo>
                    <a:lnTo>
                      <a:pt x="872" y="1290"/>
                    </a:lnTo>
                    <a:lnTo>
                      <a:pt x="873" y="1376"/>
                    </a:lnTo>
                    <a:lnTo>
                      <a:pt x="872" y="1475"/>
                    </a:lnTo>
                    <a:lnTo>
                      <a:pt x="869" y="1574"/>
                    </a:lnTo>
                    <a:lnTo>
                      <a:pt x="865" y="1674"/>
                    </a:lnTo>
                    <a:lnTo>
                      <a:pt x="858" y="1772"/>
                    </a:lnTo>
                    <a:lnTo>
                      <a:pt x="850" y="1868"/>
                    </a:lnTo>
                    <a:lnTo>
                      <a:pt x="839" y="1966"/>
                    </a:lnTo>
                    <a:lnTo>
                      <a:pt x="828" y="2062"/>
                    </a:lnTo>
                    <a:lnTo>
                      <a:pt x="814" y="2159"/>
                    </a:lnTo>
                    <a:lnTo>
                      <a:pt x="798" y="2253"/>
                    </a:lnTo>
                    <a:lnTo>
                      <a:pt x="782" y="2349"/>
                    </a:lnTo>
                    <a:lnTo>
                      <a:pt x="762" y="2442"/>
                    </a:lnTo>
                    <a:lnTo>
                      <a:pt x="741" y="2537"/>
                    </a:lnTo>
                    <a:lnTo>
                      <a:pt x="719" y="2629"/>
                    </a:lnTo>
                    <a:lnTo>
                      <a:pt x="695" y="2721"/>
                    </a:lnTo>
                    <a:lnTo>
                      <a:pt x="670" y="2814"/>
                    </a:lnTo>
                    <a:lnTo>
                      <a:pt x="643" y="2905"/>
                    </a:lnTo>
                    <a:lnTo>
                      <a:pt x="615" y="2995"/>
                    </a:lnTo>
                    <a:lnTo>
                      <a:pt x="583" y="3084"/>
                    </a:lnTo>
                    <a:lnTo>
                      <a:pt x="552" y="3173"/>
                    </a:lnTo>
                    <a:lnTo>
                      <a:pt x="518" y="3261"/>
                    </a:lnTo>
                    <a:lnTo>
                      <a:pt x="483" y="3347"/>
                    </a:lnTo>
                    <a:lnTo>
                      <a:pt x="446" y="3434"/>
                    </a:lnTo>
                    <a:lnTo>
                      <a:pt x="408" y="3520"/>
                    </a:lnTo>
                    <a:lnTo>
                      <a:pt x="369" y="3604"/>
                    </a:lnTo>
                    <a:lnTo>
                      <a:pt x="327" y="3689"/>
                    </a:lnTo>
                    <a:lnTo>
                      <a:pt x="285" y="3772"/>
                    </a:lnTo>
                    <a:lnTo>
                      <a:pt x="241" y="3853"/>
                    </a:lnTo>
                    <a:lnTo>
                      <a:pt x="196" y="3935"/>
                    </a:lnTo>
                    <a:lnTo>
                      <a:pt x="149" y="4016"/>
                    </a:lnTo>
                    <a:lnTo>
                      <a:pt x="100" y="4095"/>
                    </a:lnTo>
                    <a:lnTo>
                      <a:pt x="51" y="4174"/>
                    </a:lnTo>
                    <a:lnTo>
                      <a:pt x="0" y="4251"/>
                    </a:lnTo>
                    <a:lnTo>
                      <a:pt x="71" y="4204"/>
                    </a:lnTo>
                    <a:lnTo>
                      <a:pt x="174" y="4153"/>
                    </a:lnTo>
                    <a:lnTo>
                      <a:pt x="220" y="4077"/>
                    </a:lnTo>
                    <a:lnTo>
                      <a:pt x="265" y="4000"/>
                    </a:lnTo>
                    <a:lnTo>
                      <a:pt x="310" y="3923"/>
                    </a:lnTo>
                    <a:lnTo>
                      <a:pt x="353" y="3844"/>
                    </a:lnTo>
                    <a:lnTo>
                      <a:pt x="393" y="3765"/>
                    </a:lnTo>
                    <a:lnTo>
                      <a:pt x="433" y="3685"/>
                    </a:lnTo>
                    <a:lnTo>
                      <a:pt x="472" y="3603"/>
                    </a:lnTo>
                    <a:lnTo>
                      <a:pt x="510" y="3523"/>
                    </a:lnTo>
                    <a:lnTo>
                      <a:pt x="545" y="3440"/>
                    </a:lnTo>
                    <a:lnTo>
                      <a:pt x="580" y="3357"/>
                    </a:lnTo>
                    <a:lnTo>
                      <a:pt x="613" y="3274"/>
                    </a:lnTo>
                    <a:lnTo>
                      <a:pt x="646" y="3188"/>
                    </a:lnTo>
                    <a:lnTo>
                      <a:pt x="676" y="3104"/>
                    </a:lnTo>
                    <a:lnTo>
                      <a:pt x="705" y="3018"/>
                    </a:lnTo>
                    <a:lnTo>
                      <a:pt x="732" y="2931"/>
                    </a:lnTo>
                    <a:lnTo>
                      <a:pt x="759" y="2845"/>
                    </a:lnTo>
                    <a:lnTo>
                      <a:pt x="783" y="2757"/>
                    </a:lnTo>
                    <a:lnTo>
                      <a:pt x="806" y="2668"/>
                    </a:lnTo>
                    <a:lnTo>
                      <a:pt x="828" y="2580"/>
                    </a:lnTo>
                    <a:lnTo>
                      <a:pt x="848" y="2490"/>
                    </a:lnTo>
                    <a:lnTo>
                      <a:pt x="866" y="2400"/>
                    </a:lnTo>
                    <a:lnTo>
                      <a:pt x="883" y="2309"/>
                    </a:lnTo>
                    <a:lnTo>
                      <a:pt x="898" y="2218"/>
                    </a:lnTo>
                    <a:lnTo>
                      <a:pt x="913" y="2127"/>
                    </a:lnTo>
                    <a:lnTo>
                      <a:pt x="925" y="2034"/>
                    </a:lnTo>
                    <a:lnTo>
                      <a:pt x="936" y="1942"/>
                    </a:lnTo>
                    <a:lnTo>
                      <a:pt x="946" y="1849"/>
                    </a:lnTo>
                    <a:lnTo>
                      <a:pt x="952" y="1754"/>
                    </a:lnTo>
                    <a:lnTo>
                      <a:pt x="958" y="1661"/>
                    </a:lnTo>
                    <a:lnTo>
                      <a:pt x="963" y="1566"/>
                    </a:lnTo>
                    <a:lnTo>
                      <a:pt x="965" y="1472"/>
                    </a:lnTo>
                    <a:lnTo>
                      <a:pt x="966" y="1376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57680" y="3913200"/>
                <a:ext cx="266760" cy="1130400"/>
              </a:xfrm>
              <a:custGeom>
                <a:avLst/>
                <a:gdLst/>
                <a:ahLst/>
                <a:rect l="l" t="t" r="r" b="b"/>
                <a:pathLst>
                  <a:path w="1006" h="4274">
                    <a:moveTo>
                      <a:pt x="1006" y="1356"/>
                    </a:moveTo>
                    <a:lnTo>
                      <a:pt x="1006" y="1269"/>
                    </a:lnTo>
                    <a:lnTo>
                      <a:pt x="1004" y="1181"/>
                    </a:lnTo>
                    <a:lnTo>
                      <a:pt x="1000" y="1094"/>
                    </a:lnTo>
                    <a:lnTo>
                      <a:pt x="995" y="1007"/>
                    </a:lnTo>
                    <a:lnTo>
                      <a:pt x="989" y="922"/>
                    </a:lnTo>
                    <a:lnTo>
                      <a:pt x="981" y="835"/>
                    </a:lnTo>
                    <a:lnTo>
                      <a:pt x="971" y="750"/>
                    </a:lnTo>
                    <a:lnTo>
                      <a:pt x="961" y="664"/>
                    </a:lnTo>
                    <a:lnTo>
                      <a:pt x="948" y="580"/>
                    </a:lnTo>
                    <a:lnTo>
                      <a:pt x="936" y="496"/>
                    </a:lnTo>
                    <a:lnTo>
                      <a:pt x="921" y="412"/>
                    </a:lnTo>
                    <a:lnTo>
                      <a:pt x="905" y="329"/>
                    </a:lnTo>
                    <a:lnTo>
                      <a:pt x="887" y="246"/>
                    </a:lnTo>
                    <a:lnTo>
                      <a:pt x="869" y="164"/>
                    </a:lnTo>
                    <a:lnTo>
                      <a:pt x="849" y="82"/>
                    </a:lnTo>
                    <a:lnTo>
                      <a:pt x="828" y="0"/>
                    </a:lnTo>
                    <a:lnTo>
                      <a:pt x="810" y="11"/>
                    </a:lnTo>
                    <a:lnTo>
                      <a:pt x="744" y="44"/>
                    </a:lnTo>
                    <a:lnTo>
                      <a:pt x="764" y="124"/>
                    </a:lnTo>
                    <a:lnTo>
                      <a:pt x="782" y="203"/>
                    </a:lnTo>
                    <a:lnTo>
                      <a:pt x="801" y="283"/>
                    </a:lnTo>
                    <a:lnTo>
                      <a:pt x="817" y="362"/>
                    </a:lnTo>
                    <a:lnTo>
                      <a:pt x="832" y="443"/>
                    </a:lnTo>
                    <a:lnTo>
                      <a:pt x="846" y="524"/>
                    </a:lnTo>
                    <a:lnTo>
                      <a:pt x="858" y="606"/>
                    </a:lnTo>
                    <a:lnTo>
                      <a:pt x="870" y="688"/>
                    </a:lnTo>
                    <a:lnTo>
                      <a:pt x="880" y="769"/>
                    </a:lnTo>
                    <a:lnTo>
                      <a:pt x="888" y="852"/>
                    </a:lnTo>
                    <a:lnTo>
                      <a:pt x="896" y="935"/>
                    </a:lnTo>
                    <a:lnTo>
                      <a:pt x="902" y="1018"/>
                    </a:lnTo>
                    <a:lnTo>
                      <a:pt x="907" y="1103"/>
                    </a:lnTo>
                    <a:lnTo>
                      <a:pt x="910" y="1187"/>
                    </a:lnTo>
                    <a:lnTo>
                      <a:pt x="913" y="1271"/>
                    </a:lnTo>
                    <a:lnTo>
                      <a:pt x="914" y="1356"/>
                    </a:lnTo>
                    <a:lnTo>
                      <a:pt x="913" y="1458"/>
                    </a:lnTo>
                    <a:lnTo>
                      <a:pt x="909" y="1558"/>
                    </a:lnTo>
                    <a:lnTo>
                      <a:pt x="905" y="1659"/>
                    </a:lnTo>
                    <a:lnTo>
                      <a:pt x="898" y="1758"/>
                    </a:lnTo>
                    <a:lnTo>
                      <a:pt x="888" y="1859"/>
                    </a:lnTo>
                    <a:lnTo>
                      <a:pt x="878" y="1957"/>
                    </a:lnTo>
                    <a:lnTo>
                      <a:pt x="865" y="2056"/>
                    </a:lnTo>
                    <a:lnTo>
                      <a:pt x="851" y="2153"/>
                    </a:lnTo>
                    <a:lnTo>
                      <a:pt x="835" y="2249"/>
                    </a:lnTo>
                    <a:lnTo>
                      <a:pt x="818" y="2346"/>
                    </a:lnTo>
                    <a:lnTo>
                      <a:pt x="797" y="2442"/>
                    </a:lnTo>
                    <a:lnTo>
                      <a:pt x="777" y="2538"/>
                    </a:lnTo>
                    <a:lnTo>
                      <a:pt x="753" y="2632"/>
                    </a:lnTo>
                    <a:lnTo>
                      <a:pt x="728" y="2726"/>
                    </a:lnTo>
                    <a:lnTo>
                      <a:pt x="702" y="2819"/>
                    </a:lnTo>
                    <a:lnTo>
                      <a:pt x="673" y="2911"/>
                    </a:lnTo>
                    <a:lnTo>
                      <a:pt x="643" y="3002"/>
                    </a:lnTo>
                    <a:lnTo>
                      <a:pt x="610" y="3093"/>
                    </a:lnTo>
                    <a:lnTo>
                      <a:pt x="577" y="3183"/>
                    </a:lnTo>
                    <a:lnTo>
                      <a:pt x="542" y="3273"/>
                    </a:lnTo>
                    <a:lnTo>
                      <a:pt x="505" y="3361"/>
                    </a:lnTo>
                    <a:lnTo>
                      <a:pt x="467" y="3448"/>
                    </a:lnTo>
                    <a:lnTo>
                      <a:pt x="427" y="3536"/>
                    </a:lnTo>
                    <a:lnTo>
                      <a:pt x="386" y="3621"/>
                    </a:lnTo>
                    <a:lnTo>
                      <a:pt x="343" y="3707"/>
                    </a:lnTo>
                    <a:lnTo>
                      <a:pt x="299" y="3791"/>
                    </a:lnTo>
                    <a:lnTo>
                      <a:pt x="253" y="3874"/>
                    </a:lnTo>
                    <a:lnTo>
                      <a:pt x="206" y="3956"/>
                    </a:lnTo>
                    <a:lnTo>
                      <a:pt x="156" y="4036"/>
                    </a:lnTo>
                    <a:lnTo>
                      <a:pt x="106" y="4117"/>
                    </a:lnTo>
                    <a:lnTo>
                      <a:pt x="54" y="4196"/>
                    </a:lnTo>
                    <a:lnTo>
                      <a:pt x="0" y="4274"/>
                    </a:lnTo>
                    <a:lnTo>
                      <a:pt x="41" y="4261"/>
                    </a:lnTo>
                    <a:lnTo>
                      <a:pt x="158" y="4184"/>
                    </a:lnTo>
                    <a:lnTo>
                      <a:pt x="181" y="4172"/>
                    </a:lnTo>
                    <a:lnTo>
                      <a:pt x="230" y="4096"/>
                    </a:lnTo>
                    <a:lnTo>
                      <a:pt x="276" y="4019"/>
                    </a:lnTo>
                    <a:lnTo>
                      <a:pt x="322" y="3941"/>
                    </a:lnTo>
                    <a:lnTo>
                      <a:pt x="366" y="3861"/>
                    </a:lnTo>
                    <a:lnTo>
                      <a:pt x="410" y="3782"/>
                    </a:lnTo>
                    <a:lnTo>
                      <a:pt x="451" y="3700"/>
                    </a:lnTo>
                    <a:lnTo>
                      <a:pt x="492" y="3618"/>
                    </a:lnTo>
                    <a:lnTo>
                      <a:pt x="531" y="3536"/>
                    </a:lnTo>
                    <a:lnTo>
                      <a:pt x="568" y="3453"/>
                    </a:lnTo>
                    <a:lnTo>
                      <a:pt x="603" y="3369"/>
                    </a:lnTo>
                    <a:lnTo>
                      <a:pt x="638" y="3284"/>
                    </a:lnTo>
                    <a:lnTo>
                      <a:pt x="672" y="3198"/>
                    </a:lnTo>
                    <a:lnTo>
                      <a:pt x="704" y="3112"/>
                    </a:lnTo>
                    <a:lnTo>
                      <a:pt x="734" y="3025"/>
                    </a:lnTo>
                    <a:lnTo>
                      <a:pt x="763" y="2937"/>
                    </a:lnTo>
                    <a:lnTo>
                      <a:pt x="789" y="2849"/>
                    </a:lnTo>
                    <a:lnTo>
                      <a:pt x="816" y="2760"/>
                    </a:lnTo>
                    <a:lnTo>
                      <a:pt x="840" y="2670"/>
                    </a:lnTo>
                    <a:lnTo>
                      <a:pt x="862" y="2580"/>
                    </a:lnTo>
                    <a:lnTo>
                      <a:pt x="883" y="2489"/>
                    </a:lnTo>
                    <a:lnTo>
                      <a:pt x="902" y="2397"/>
                    </a:lnTo>
                    <a:lnTo>
                      <a:pt x="921" y="2305"/>
                    </a:lnTo>
                    <a:lnTo>
                      <a:pt x="937" y="2213"/>
                    </a:lnTo>
                    <a:lnTo>
                      <a:pt x="951" y="2119"/>
                    </a:lnTo>
                    <a:lnTo>
                      <a:pt x="963" y="2026"/>
                    </a:lnTo>
                    <a:lnTo>
                      <a:pt x="975" y="1931"/>
                    </a:lnTo>
                    <a:lnTo>
                      <a:pt x="984" y="1837"/>
                    </a:lnTo>
                    <a:lnTo>
                      <a:pt x="992" y="1741"/>
                    </a:lnTo>
                    <a:lnTo>
                      <a:pt x="998" y="1645"/>
                    </a:lnTo>
                    <a:lnTo>
                      <a:pt x="1003" y="1550"/>
                    </a:lnTo>
                    <a:lnTo>
                      <a:pt x="1006" y="1453"/>
                    </a:lnTo>
                    <a:lnTo>
                      <a:pt x="1006" y="1356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38600" y="3919680"/>
                <a:ext cx="273240" cy="1130040"/>
              </a:xfrm>
              <a:custGeom>
                <a:avLst/>
                <a:gdLst/>
                <a:ahLst/>
                <a:rect l="l" t="t" r="r" b="b"/>
                <a:pathLst>
                  <a:path w="1032" h="4276">
                    <a:moveTo>
                      <a:pt x="1032" y="1334"/>
                    </a:moveTo>
                    <a:lnTo>
                      <a:pt x="1031" y="1248"/>
                    </a:lnTo>
                    <a:lnTo>
                      <a:pt x="1030" y="1161"/>
                    </a:lnTo>
                    <a:lnTo>
                      <a:pt x="1026" y="1076"/>
                    </a:lnTo>
                    <a:lnTo>
                      <a:pt x="1020" y="991"/>
                    </a:lnTo>
                    <a:lnTo>
                      <a:pt x="1015" y="906"/>
                    </a:lnTo>
                    <a:lnTo>
                      <a:pt x="1007" y="822"/>
                    </a:lnTo>
                    <a:lnTo>
                      <a:pt x="997" y="738"/>
                    </a:lnTo>
                    <a:lnTo>
                      <a:pt x="987" y="654"/>
                    </a:lnTo>
                    <a:lnTo>
                      <a:pt x="975" y="571"/>
                    </a:lnTo>
                    <a:lnTo>
                      <a:pt x="963" y="488"/>
                    </a:lnTo>
                    <a:lnTo>
                      <a:pt x="949" y="406"/>
                    </a:lnTo>
                    <a:lnTo>
                      <a:pt x="933" y="323"/>
                    </a:lnTo>
                    <a:lnTo>
                      <a:pt x="917" y="242"/>
                    </a:lnTo>
                    <a:lnTo>
                      <a:pt x="898" y="162"/>
                    </a:lnTo>
                    <a:lnTo>
                      <a:pt x="878" y="81"/>
                    </a:lnTo>
                    <a:lnTo>
                      <a:pt x="858" y="0"/>
                    </a:lnTo>
                    <a:lnTo>
                      <a:pt x="805" y="29"/>
                    </a:lnTo>
                    <a:lnTo>
                      <a:pt x="774" y="44"/>
                    </a:lnTo>
                    <a:lnTo>
                      <a:pt x="793" y="121"/>
                    </a:lnTo>
                    <a:lnTo>
                      <a:pt x="812" y="200"/>
                    </a:lnTo>
                    <a:lnTo>
                      <a:pt x="828" y="278"/>
                    </a:lnTo>
                    <a:lnTo>
                      <a:pt x="844" y="357"/>
                    </a:lnTo>
                    <a:lnTo>
                      <a:pt x="859" y="436"/>
                    </a:lnTo>
                    <a:lnTo>
                      <a:pt x="873" y="516"/>
                    </a:lnTo>
                    <a:lnTo>
                      <a:pt x="885" y="595"/>
                    </a:lnTo>
                    <a:lnTo>
                      <a:pt x="896" y="676"/>
                    </a:lnTo>
                    <a:lnTo>
                      <a:pt x="906" y="757"/>
                    </a:lnTo>
                    <a:lnTo>
                      <a:pt x="914" y="838"/>
                    </a:lnTo>
                    <a:lnTo>
                      <a:pt x="922" y="920"/>
                    </a:lnTo>
                    <a:lnTo>
                      <a:pt x="928" y="1002"/>
                    </a:lnTo>
                    <a:lnTo>
                      <a:pt x="933" y="1085"/>
                    </a:lnTo>
                    <a:lnTo>
                      <a:pt x="936" y="1167"/>
                    </a:lnTo>
                    <a:lnTo>
                      <a:pt x="938" y="1250"/>
                    </a:lnTo>
                    <a:lnTo>
                      <a:pt x="938" y="1334"/>
                    </a:lnTo>
                    <a:lnTo>
                      <a:pt x="937" y="1437"/>
                    </a:lnTo>
                    <a:lnTo>
                      <a:pt x="935" y="1538"/>
                    </a:lnTo>
                    <a:lnTo>
                      <a:pt x="929" y="1640"/>
                    </a:lnTo>
                    <a:lnTo>
                      <a:pt x="922" y="1741"/>
                    </a:lnTo>
                    <a:lnTo>
                      <a:pt x="913" y="1841"/>
                    </a:lnTo>
                    <a:lnTo>
                      <a:pt x="903" y="1942"/>
                    </a:lnTo>
                    <a:lnTo>
                      <a:pt x="890" y="2041"/>
                    </a:lnTo>
                    <a:lnTo>
                      <a:pt x="875" y="2140"/>
                    </a:lnTo>
                    <a:lnTo>
                      <a:pt x="859" y="2238"/>
                    </a:lnTo>
                    <a:lnTo>
                      <a:pt x="840" y="2335"/>
                    </a:lnTo>
                    <a:lnTo>
                      <a:pt x="820" y="2432"/>
                    </a:lnTo>
                    <a:lnTo>
                      <a:pt x="798" y="2527"/>
                    </a:lnTo>
                    <a:lnTo>
                      <a:pt x="774" y="2623"/>
                    </a:lnTo>
                    <a:lnTo>
                      <a:pt x="748" y="2717"/>
                    </a:lnTo>
                    <a:lnTo>
                      <a:pt x="720" y="2812"/>
                    </a:lnTo>
                    <a:lnTo>
                      <a:pt x="690" y="2904"/>
                    </a:lnTo>
                    <a:lnTo>
                      <a:pt x="659" y="2998"/>
                    </a:lnTo>
                    <a:lnTo>
                      <a:pt x="627" y="3089"/>
                    </a:lnTo>
                    <a:lnTo>
                      <a:pt x="592" y="3180"/>
                    </a:lnTo>
                    <a:lnTo>
                      <a:pt x="557" y="3270"/>
                    </a:lnTo>
                    <a:lnTo>
                      <a:pt x="519" y="3358"/>
                    </a:lnTo>
                    <a:lnTo>
                      <a:pt x="479" y="3447"/>
                    </a:lnTo>
                    <a:lnTo>
                      <a:pt x="438" y="3534"/>
                    </a:lnTo>
                    <a:lnTo>
                      <a:pt x="396" y="3620"/>
                    </a:lnTo>
                    <a:lnTo>
                      <a:pt x="351" y="3705"/>
                    </a:lnTo>
                    <a:lnTo>
                      <a:pt x="306" y="3791"/>
                    </a:lnTo>
                    <a:lnTo>
                      <a:pt x="258" y="3874"/>
                    </a:lnTo>
                    <a:lnTo>
                      <a:pt x="210" y="3955"/>
                    </a:lnTo>
                    <a:lnTo>
                      <a:pt x="159" y="4037"/>
                    </a:lnTo>
                    <a:lnTo>
                      <a:pt x="108" y="4118"/>
                    </a:lnTo>
                    <a:lnTo>
                      <a:pt x="54" y="4198"/>
                    </a:lnTo>
                    <a:lnTo>
                      <a:pt x="0" y="4276"/>
                    </a:lnTo>
                    <a:lnTo>
                      <a:pt x="113" y="4239"/>
                    </a:lnTo>
                    <a:lnTo>
                      <a:pt x="159" y="4209"/>
                    </a:lnTo>
                    <a:lnTo>
                      <a:pt x="210" y="4132"/>
                    </a:lnTo>
                    <a:lnTo>
                      <a:pt x="259" y="4052"/>
                    </a:lnTo>
                    <a:lnTo>
                      <a:pt x="308" y="3974"/>
                    </a:lnTo>
                    <a:lnTo>
                      <a:pt x="355" y="3893"/>
                    </a:lnTo>
                    <a:lnTo>
                      <a:pt x="400" y="3811"/>
                    </a:lnTo>
                    <a:lnTo>
                      <a:pt x="444" y="3730"/>
                    </a:lnTo>
                    <a:lnTo>
                      <a:pt x="486" y="3647"/>
                    </a:lnTo>
                    <a:lnTo>
                      <a:pt x="528" y="3562"/>
                    </a:lnTo>
                    <a:lnTo>
                      <a:pt x="567" y="3478"/>
                    </a:lnTo>
                    <a:lnTo>
                      <a:pt x="605" y="3392"/>
                    </a:lnTo>
                    <a:lnTo>
                      <a:pt x="642" y="3305"/>
                    </a:lnTo>
                    <a:lnTo>
                      <a:pt x="678" y="3219"/>
                    </a:lnTo>
                    <a:lnTo>
                      <a:pt x="711" y="3130"/>
                    </a:lnTo>
                    <a:lnTo>
                      <a:pt x="742" y="3041"/>
                    </a:lnTo>
                    <a:lnTo>
                      <a:pt x="774" y="2953"/>
                    </a:lnTo>
                    <a:lnTo>
                      <a:pt x="802" y="2862"/>
                    </a:lnTo>
                    <a:lnTo>
                      <a:pt x="829" y="2772"/>
                    </a:lnTo>
                    <a:lnTo>
                      <a:pt x="854" y="2679"/>
                    </a:lnTo>
                    <a:lnTo>
                      <a:pt x="878" y="2587"/>
                    </a:lnTo>
                    <a:lnTo>
                      <a:pt x="902" y="2495"/>
                    </a:lnTo>
                    <a:lnTo>
                      <a:pt x="921" y="2400"/>
                    </a:lnTo>
                    <a:lnTo>
                      <a:pt x="941" y="2307"/>
                    </a:lnTo>
                    <a:lnTo>
                      <a:pt x="958" y="2211"/>
                    </a:lnTo>
                    <a:lnTo>
                      <a:pt x="973" y="2117"/>
                    </a:lnTo>
                    <a:lnTo>
                      <a:pt x="987" y="2020"/>
                    </a:lnTo>
                    <a:lnTo>
                      <a:pt x="998" y="1924"/>
                    </a:lnTo>
                    <a:lnTo>
                      <a:pt x="1009" y="1826"/>
                    </a:lnTo>
                    <a:lnTo>
                      <a:pt x="1017" y="1730"/>
                    </a:lnTo>
                    <a:lnTo>
                      <a:pt x="1024" y="1632"/>
                    </a:lnTo>
                    <a:lnTo>
                      <a:pt x="1028" y="1532"/>
                    </a:lnTo>
                    <a:lnTo>
                      <a:pt x="1031" y="1433"/>
                    </a:lnTo>
                    <a:lnTo>
                      <a:pt x="1032" y="1334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14840" y="3925800"/>
                <a:ext cx="284040" cy="1136880"/>
              </a:xfrm>
              <a:custGeom>
                <a:avLst/>
                <a:gdLst/>
                <a:ahLst/>
                <a:rect l="l" t="t" r="r" b="b"/>
                <a:pathLst>
                  <a:path w="1079" h="4300">
                    <a:moveTo>
                      <a:pt x="1079" y="1312"/>
                    </a:moveTo>
                    <a:lnTo>
                      <a:pt x="1078" y="1227"/>
                    </a:lnTo>
                    <a:lnTo>
                      <a:pt x="1075" y="1143"/>
                    </a:lnTo>
                    <a:lnTo>
                      <a:pt x="1072" y="1059"/>
                    </a:lnTo>
                    <a:lnTo>
                      <a:pt x="1067" y="974"/>
                    </a:lnTo>
                    <a:lnTo>
                      <a:pt x="1061" y="891"/>
                    </a:lnTo>
                    <a:lnTo>
                      <a:pt x="1053" y="808"/>
                    </a:lnTo>
                    <a:lnTo>
                      <a:pt x="1045" y="725"/>
                    </a:lnTo>
                    <a:lnTo>
                      <a:pt x="1035" y="644"/>
                    </a:lnTo>
                    <a:lnTo>
                      <a:pt x="1023" y="562"/>
                    </a:lnTo>
                    <a:lnTo>
                      <a:pt x="1011" y="480"/>
                    </a:lnTo>
                    <a:lnTo>
                      <a:pt x="997" y="399"/>
                    </a:lnTo>
                    <a:lnTo>
                      <a:pt x="982" y="318"/>
                    </a:lnTo>
                    <a:lnTo>
                      <a:pt x="966" y="239"/>
                    </a:lnTo>
                    <a:lnTo>
                      <a:pt x="947" y="159"/>
                    </a:lnTo>
                    <a:lnTo>
                      <a:pt x="929" y="80"/>
                    </a:lnTo>
                    <a:lnTo>
                      <a:pt x="909" y="0"/>
                    </a:lnTo>
                    <a:lnTo>
                      <a:pt x="898" y="7"/>
                    </a:lnTo>
                    <a:lnTo>
                      <a:pt x="823" y="42"/>
                    </a:lnTo>
                    <a:lnTo>
                      <a:pt x="842" y="119"/>
                    </a:lnTo>
                    <a:lnTo>
                      <a:pt x="861" y="195"/>
                    </a:lnTo>
                    <a:lnTo>
                      <a:pt x="877" y="272"/>
                    </a:lnTo>
                    <a:lnTo>
                      <a:pt x="893" y="350"/>
                    </a:lnTo>
                    <a:lnTo>
                      <a:pt x="907" y="428"/>
                    </a:lnTo>
                    <a:lnTo>
                      <a:pt x="921" y="506"/>
                    </a:lnTo>
                    <a:lnTo>
                      <a:pt x="932" y="586"/>
                    </a:lnTo>
                    <a:lnTo>
                      <a:pt x="944" y="664"/>
                    </a:lnTo>
                    <a:lnTo>
                      <a:pt x="953" y="744"/>
                    </a:lnTo>
                    <a:lnTo>
                      <a:pt x="961" y="825"/>
                    </a:lnTo>
                    <a:lnTo>
                      <a:pt x="969" y="905"/>
                    </a:lnTo>
                    <a:lnTo>
                      <a:pt x="975" y="986"/>
                    </a:lnTo>
                    <a:lnTo>
                      <a:pt x="980" y="1067"/>
                    </a:lnTo>
                    <a:lnTo>
                      <a:pt x="982" y="1148"/>
                    </a:lnTo>
                    <a:lnTo>
                      <a:pt x="984" y="1230"/>
                    </a:lnTo>
                    <a:lnTo>
                      <a:pt x="985" y="1312"/>
                    </a:lnTo>
                    <a:lnTo>
                      <a:pt x="984" y="1417"/>
                    </a:lnTo>
                    <a:lnTo>
                      <a:pt x="981" y="1521"/>
                    </a:lnTo>
                    <a:lnTo>
                      <a:pt x="975" y="1625"/>
                    </a:lnTo>
                    <a:lnTo>
                      <a:pt x="968" y="1727"/>
                    </a:lnTo>
                    <a:lnTo>
                      <a:pt x="959" y="1830"/>
                    </a:lnTo>
                    <a:lnTo>
                      <a:pt x="947" y="1932"/>
                    </a:lnTo>
                    <a:lnTo>
                      <a:pt x="933" y="2033"/>
                    </a:lnTo>
                    <a:lnTo>
                      <a:pt x="918" y="2134"/>
                    </a:lnTo>
                    <a:lnTo>
                      <a:pt x="901" y="2233"/>
                    </a:lnTo>
                    <a:lnTo>
                      <a:pt x="882" y="2332"/>
                    </a:lnTo>
                    <a:lnTo>
                      <a:pt x="860" y="2431"/>
                    </a:lnTo>
                    <a:lnTo>
                      <a:pt x="837" y="2529"/>
                    </a:lnTo>
                    <a:lnTo>
                      <a:pt x="811" y="2626"/>
                    </a:lnTo>
                    <a:lnTo>
                      <a:pt x="785" y="2722"/>
                    </a:lnTo>
                    <a:lnTo>
                      <a:pt x="756" y="2818"/>
                    </a:lnTo>
                    <a:lnTo>
                      <a:pt x="725" y="2912"/>
                    </a:lnTo>
                    <a:lnTo>
                      <a:pt x="692" y="3007"/>
                    </a:lnTo>
                    <a:lnTo>
                      <a:pt x="658" y="3099"/>
                    </a:lnTo>
                    <a:lnTo>
                      <a:pt x="622" y="3191"/>
                    </a:lnTo>
                    <a:lnTo>
                      <a:pt x="584" y="3283"/>
                    </a:lnTo>
                    <a:lnTo>
                      <a:pt x="545" y="3373"/>
                    </a:lnTo>
                    <a:lnTo>
                      <a:pt x="503" y="3462"/>
                    </a:lnTo>
                    <a:lnTo>
                      <a:pt x="461" y="3551"/>
                    </a:lnTo>
                    <a:lnTo>
                      <a:pt x="416" y="3638"/>
                    </a:lnTo>
                    <a:lnTo>
                      <a:pt x="369" y="3725"/>
                    </a:lnTo>
                    <a:lnTo>
                      <a:pt x="321" y="3810"/>
                    </a:lnTo>
                    <a:lnTo>
                      <a:pt x="271" y="3894"/>
                    </a:lnTo>
                    <a:lnTo>
                      <a:pt x="221" y="3978"/>
                    </a:lnTo>
                    <a:lnTo>
                      <a:pt x="168" y="4060"/>
                    </a:lnTo>
                    <a:lnTo>
                      <a:pt x="113" y="4142"/>
                    </a:lnTo>
                    <a:lnTo>
                      <a:pt x="58" y="4222"/>
                    </a:lnTo>
                    <a:lnTo>
                      <a:pt x="0" y="4300"/>
                    </a:lnTo>
                    <a:lnTo>
                      <a:pt x="91" y="4254"/>
                    </a:lnTo>
                    <a:lnTo>
                      <a:pt x="165" y="4230"/>
                    </a:lnTo>
                    <a:lnTo>
                      <a:pt x="218" y="4152"/>
                    </a:lnTo>
                    <a:lnTo>
                      <a:pt x="270" y="4073"/>
                    </a:lnTo>
                    <a:lnTo>
                      <a:pt x="321" y="3992"/>
                    </a:lnTo>
                    <a:lnTo>
                      <a:pt x="371" y="3912"/>
                    </a:lnTo>
                    <a:lnTo>
                      <a:pt x="418" y="3830"/>
                    </a:lnTo>
                    <a:lnTo>
                      <a:pt x="463" y="3747"/>
                    </a:lnTo>
                    <a:lnTo>
                      <a:pt x="508" y="3663"/>
                    </a:lnTo>
                    <a:lnTo>
                      <a:pt x="551" y="3577"/>
                    </a:lnTo>
                    <a:lnTo>
                      <a:pt x="592" y="3492"/>
                    </a:lnTo>
                    <a:lnTo>
                      <a:pt x="632" y="3404"/>
                    </a:lnTo>
                    <a:lnTo>
                      <a:pt x="670" y="3317"/>
                    </a:lnTo>
                    <a:lnTo>
                      <a:pt x="707" y="3229"/>
                    </a:lnTo>
                    <a:lnTo>
                      <a:pt x="742" y="3139"/>
                    </a:lnTo>
                    <a:lnTo>
                      <a:pt x="775" y="3049"/>
                    </a:lnTo>
                    <a:lnTo>
                      <a:pt x="808" y="2958"/>
                    </a:lnTo>
                    <a:lnTo>
                      <a:pt x="838" y="2867"/>
                    </a:lnTo>
                    <a:lnTo>
                      <a:pt x="867" y="2775"/>
                    </a:lnTo>
                    <a:lnTo>
                      <a:pt x="893" y="2682"/>
                    </a:lnTo>
                    <a:lnTo>
                      <a:pt x="917" y="2588"/>
                    </a:lnTo>
                    <a:lnTo>
                      <a:pt x="942" y="2494"/>
                    </a:lnTo>
                    <a:lnTo>
                      <a:pt x="962" y="2398"/>
                    </a:lnTo>
                    <a:lnTo>
                      <a:pt x="982" y="2302"/>
                    </a:lnTo>
                    <a:lnTo>
                      <a:pt x="1000" y="2205"/>
                    </a:lnTo>
                    <a:lnTo>
                      <a:pt x="1016" y="2109"/>
                    </a:lnTo>
                    <a:lnTo>
                      <a:pt x="1030" y="2012"/>
                    </a:lnTo>
                    <a:lnTo>
                      <a:pt x="1043" y="1913"/>
                    </a:lnTo>
                    <a:lnTo>
                      <a:pt x="1053" y="1815"/>
                    </a:lnTo>
                    <a:lnTo>
                      <a:pt x="1063" y="1714"/>
                    </a:lnTo>
                    <a:lnTo>
                      <a:pt x="1070" y="1615"/>
                    </a:lnTo>
                    <a:lnTo>
                      <a:pt x="1074" y="1514"/>
                    </a:lnTo>
                    <a:lnTo>
                      <a:pt x="1078" y="1414"/>
                    </a:lnTo>
                    <a:lnTo>
                      <a:pt x="1079" y="131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91080" y="3930480"/>
                <a:ext cx="297000" cy="1143000"/>
              </a:xfrm>
              <a:custGeom>
                <a:avLst/>
                <a:gdLst/>
                <a:ahLst/>
                <a:rect l="l" t="t" r="r" b="b"/>
                <a:pathLst>
                  <a:path w="1117" h="4316">
                    <a:moveTo>
                      <a:pt x="1117" y="1290"/>
                    </a:moveTo>
                    <a:lnTo>
                      <a:pt x="1117" y="1206"/>
                    </a:lnTo>
                    <a:lnTo>
                      <a:pt x="1115" y="1123"/>
                    </a:lnTo>
                    <a:lnTo>
                      <a:pt x="1112" y="1041"/>
                    </a:lnTo>
                    <a:lnTo>
                      <a:pt x="1107" y="958"/>
                    </a:lnTo>
                    <a:lnTo>
                      <a:pt x="1101" y="876"/>
                    </a:lnTo>
                    <a:lnTo>
                      <a:pt x="1093" y="794"/>
                    </a:lnTo>
                    <a:lnTo>
                      <a:pt x="1085" y="713"/>
                    </a:lnTo>
                    <a:lnTo>
                      <a:pt x="1075" y="632"/>
                    </a:lnTo>
                    <a:lnTo>
                      <a:pt x="1064" y="551"/>
                    </a:lnTo>
                    <a:lnTo>
                      <a:pt x="1052" y="472"/>
                    </a:lnTo>
                    <a:lnTo>
                      <a:pt x="1038" y="392"/>
                    </a:lnTo>
                    <a:lnTo>
                      <a:pt x="1023" y="313"/>
                    </a:lnTo>
                    <a:lnTo>
                      <a:pt x="1007" y="234"/>
                    </a:lnTo>
                    <a:lnTo>
                      <a:pt x="991" y="156"/>
                    </a:lnTo>
                    <a:lnTo>
                      <a:pt x="972" y="77"/>
                    </a:lnTo>
                    <a:lnTo>
                      <a:pt x="953" y="0"/>
                    </a:lnTo>
                    <a:lnTo>
                      <a:pt x="906" y="22"/>
                    </a:lnTo>
                    <a:lnTo>
                      <a:pt x="867" y="42"/>
                    </a:lnTo>
                    <a:lnTo>
                      <a:pt x="886" y="118"/>
                    </a:lnTo>
                    <a:lnTo>
                      <a:pt x="903" y="193"/>
                    </a:lnTo>
                    <a:lnTo>
                      <a:pt x="919" y="269"/>
                    </a:lnTo>
                    <a:lnTo>
                      <a:pt x="935" y="345"/>
                    </a:lnTo>
                    <a:lnTo>
                      <a:pt x="949" y="422"/>
                    </a:lnTo>
                    <a:lnTo>
                      <a:pt x="962" y="498"/>
                    </a:lnTo>
                    <a:lnTo>
                      <a:pt x="973" y="577"/>
                    </a:lnTo>
                    <a:lnTo>
                      <a:pt x="984" y="654"/>
                    </a:lnTo>
                    <a:lnTo>
                      <a:pt x="994" y="732"/>
                    </a:lnTo>
                    <a:lnTo>
                      <a:pt x="1002" y="811"/>
                    </a:lnTo>
                    <a:lnTo>
                      <a:pt x="1009" y="890"/>
                    </a:lnTo>
                    <a:lnTo>
                      <a:pt x="1015" y="970"/>
                    </a:lnTo>
                    <a:lnTo>
                      <a:pt x="1018" y="1049"/>
                    </a:lnTo>
                    <a:lnTo>
                      <a:pt x="1022" y="1129"/>
                    </a:lnTo>
                    <a:lnTo>
                      <a:pt x="1024" y="1209"/>
                    </a:lnTo>
                    <a:lnTo>
                      <a:pt x="1024" y="1290"/>
                    </a:lnTo>
                    <a:lnTo>
                      <a:pt x="1023" y="1396"/>
                    </a:lnTo>
                    <a:lnTo>
                      <a:pt x="1019" y="1502"/>
                    </a:lnTo>
                    <a:lnTo>
                      <a:pt x="1015" y="1607"/>
                    </a:lnTo>
                    <a:lnTo>
                      <a:pt x="1007" y="1712"/>
                    </a:lnTo>
                    <a:lnTo>
                      <a:pt x="996" y="1817"/>
                    </a:lnTo>
                    <a:lnTo>
                      <a:pt x="985" y="1920"/>
                    </a:lnTo>
                    <a:lnTo>
                      <a:pt x="971" y="2023"/>
                    </a:lnTo>
                    <a:lnTo>
                      <a:pt x="955" y="2125"/>
                    </a:lnTo>
                    <a:lnTo>
                      <a:pt x="936" y="2226"/>
                    </a:lnTo>
                    <a:lnTo>
                      <a:pt x="916" y="2328"/>
                    </a:lnTo>
                    <a:lnTo>
                      <a:pt x="894" y="2427"/>
                    </a:lnTo>
                    <a:lnTo>
                      <a:pt x="869" y="2526"/>
                    </a:lnTo>
                    <a:lnTo>
                      <a:pt x="843" y="2625"/>
                    </a:lnTo>
                    <a:lnTo>
                      <a:pt x="815" y="2723"/>
                    </a:lnTo>
                    <a:lnTo>
                      <a:pt x="785" y="2820"/>
                    </a:lnTo>
                    <a:lnTo>
                      <a:pt x="753" y="2915"/>
                    </a:lnTo>
                    <a:lnTo>
                      <a:pt x="720" y="3010"/>
                    </a:lnTo>
                    <a:lnTo>
                      <a:pt x="684" y="3105"/>
                    </a:lnTo>
                    <a:lnTo>
                      <a:pt x="646" y="3198"/>
                    </a:lnTo>
                    <a:lnTo>
                      <a:pt x="607" y="3290"/>
                    </a:lnTo>
                    <a:lnTo>
                      <a:pt x="565" y="3381"/>
                    </a:lnTo>
                    <a:lnTo>
                      <a:pt x="522" y="3472"/>
                    </a:lnTo>
                    <a:lnTo>
                      <a:pt x="477" y="3561"/>
                    </a:lnTo>
                    <a:lnTo>
                      <a:pt x="431" y="3650"/>
                    </a:lnTo>
                    <a:lnTo>
                      <a:pt x="383" y="3737"/>
                    </a:lnTo>
                    <a:lnTo>
                      <a:pt x="333" y="3823"/>
                    </a:lnTo>
                    <a:lnTo>
                      <a:pt x="281" y="3908"/>
                    </a:lnTo>
                    <a:lnTo>
                      <a:pt x="228" y="3992"/>
                    </a:lnTo>
                    <a:lnTo>
                      <a:pt x="174" y="4075"/>
                    </a:lnTo>
                    <a:lnTo>
                      <a:pt x="117" y="4157"/>
                    </a:lnTo>
                    <a:lnTo>
                      <a:pt x="59" y="4237"/>
                    </a:lnTo>
                    <a:lnTo>
                      <a:pt x="0" y="4316"/>
                    </a:lnTo>
                    <a:lnTo>
                      <a:pt x="26" y="4309"/>
                    </a:lnTo>
                    <a:lnTo>
                      <a:pt x="177" y="4232"/>
                    </a:lnTo>
                    <a:lnTo>
                      <a:pt x="179" y="4232"/>
                    </a:lnTo>
                    <a:lnTo>
                      <a:pt x="233" y="4154"/>
                    </a:lnTo>
                    <a:lnTo>
                      <a:pt x="287" y="4074"/>
                    </a:lnTo>
                    <a:lnTo>
                      <a:pt x="338" y="3993"/>
                    </a:lnTo>
                    <a:lnTo>
                      <a:pt x="389" y="3911"/>
                    </a:lnTo>
                    <a:lnTo>
                      <a:pt x="437" y="3830"/>
                    </a:lnTo>
                    <a:lnTo>
                      <a:pt x="485" y="3747"/>
                    </a:lnTo>
                    <a:lnTo>
                      <a:pt x="530" y="3661"/>
                    </a:lnTo>
                    <a:lnTo>
                      <a:pt x="575" y="3576"/>
                    </a:lnTo>
                    <a:lnTo>
                      <a:pt x="617" y="3490"/>
                    </a:lnTo>
                    <a:lnTo>
                      <a:pt x="658" y="3403"/>
                    </a:lnTo>
                    <a:lnTo>
                      <a:pt x="698" y="3314"/>
                    </a:lnTo>
                    <a:lnTo>
                      <a:pt x="736" y="3226"/>
                    </a:lnTo>
                    <a:lnTo>
                      <a:pt x="771" y="3136"/>
                    </a:lnTo>
                    <a:lnTo>
                      <a:pt x="806" y="3045"/>
                    </a:lnTo>
                    <a:lnTo>
                      <a:pt x="838" y="2954"/>
                    </a:lnTo>
                    <a:lnTo>
                      <a:pt x="869" y="2860"/>
                    </a:lnTo>
                    <a:lnTo>
                      <a:pt x="899" y="2768"/>
                    </a:lnTo>
                    <a:lnTo>
                      <a:pt x="927" y="2673"/>
                    </a:lnTo>
                    <a:lnTo>
                      <a:pt x="953" y="2579"/>
                    </a:lnTo>
                    <a:lnTo>
                      <a:pt x="977" y="2483"/>
                    </a:lnTo>
                    <a:lnTo>
                      <a:pt x="999" y="2388"/>
                    </a:lnTo>
                    <a:lnTo>
                      <a:pt x="1019" y="2291"/>
                    </a:lnTo>
                    <a:lnTo>
                      <a:pt x="1038" y="2194"/>
                    </a:lnTo>
                    <a:lnTo>
                      <a:pt x="1054" y="2096"/>
                    </a:lnTo>
                    <a:lnTo>
                      <a:pt x="1069" y="1997"/>
                    </a:lnTo>
                    <a:lnTo>
                      <a:pt x="1082" y="1898"/>
                    </a:lnTo>
                    <a:lnTo>
                      <a:pt x="1092" y="1797"/>
                    </a:lnTo>
                    <a:lnTo>
                      <a:pt x="1101" y="1697"/>
                    </a:lnTo>
                    <a:lnTo>
                      <a:pt x="1108" y="1596"/>
                    </a:lnTo>
                    <a:lnTo>
                      <a:pt x="1114" y="1494"/>
                    </a:lnTo>
                    <a:lnTo>
                      <a:pt x="1116" y="1393"/>
                    </a:lnTo>
                    <a:lnTo>
                      <a:pt x="1117" y="129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72000" y="3935520"/>
                <a:ext cx="303120" cy="1143000"/>
              </a:xfrm>
              <a:custGeom>
                <a:avLst/>
                <a:gdLst/>
                <a:ahLst/>
                <a:rect l="l" t="t" r="r" b="b"/>
                <a:pathLst>
                  <a:path w="1145" h="4316">
                    <a:moveTo>
                      <a:pt x="1145" y="1270"/>
                    </a:moveTo>
                    <a:lnTo>
                      <a:pt x="1144" y="1188"/>
                    </a:lnTo>
                    <a:lnTo>
                      <a:pt x="1142" y="1106"/>
                    </a:lnTo>
                    <a:lnTo>
                      <a:pt x="1140" y="1025"/>
                    </a:lnTo>
                    <a:lnTo>
                      <a:pt x="1135" y="944"/>
                    </a:lnTo>
                    <a:lnTo>
                      <a:pt x="1129" y="863"/>
                    </a:lnTo>
                    <a:lnTo>
                      <a:pt x="1121" y="783"/>
                    </a:lnTo>
                    <a:lnTo>
                      <a:pt x="1113" y="702"/>
                    </a:lnTo>
                    <a:lnTo>
                      <a:pt x="1104" y="622"/>
                    </a:lnTo>
                    <a:lnTo>
                      <a:pt x="1092" y="544"/>
                    </a:lnTo>
                    <a:lnTo>
                      <a:pt x="1081" y="464"/>
                    </a:lnTo>
                    <a:lnTo>
                      <a:pt x="1067" y="386"/>
                    </a:lnTo>
                    <a:lnTo>
                      <a:pt x="1053" y="308"/>
                    </a:lnTo>
                    <a:lnTo>
                      <a:pt x="1037" y="230"/>
                    </a:lnTo>
                    <a:lnTo>
                      <a:pt x="1021" y="153"/>
                    </a:lnTo>
                    <a:lnTo>
                      <a:pt x="1002" y="77"/>
                    </a:lnTo>
                    <a:lnTo>
                      <a:pt x="983" y="0"/>
                    </a:lnTo>
                    <a:lnTo>
                      <a:pt x="980" y="2"/>
                    </a:lnTo>
                    <a:lnTo>
                      <a:pt x="903" y="42"/>
                    </a:lnTo>
                    <a:lnTo>
                      <a:pt x="899" y="44"/>
                    </a:lnTo>
                    <a:lnTo>
                      <a:pt x="917" y="119"/>
                    </a:lnTo>
                    <a:lnTo>
                      <a:pt x="934" y="192"/>
                    </a:lnTo>
                    <a:lnTo>
                      <a:pt x="949" y="267"/>
                    </a:lnTo>
                    <a:lnTo>
                      <a:pt x="964" y="341"/>
                    </a:lnTo>
                    <a:lnTo>
                      <a:pt x="978" y="417"/>
                    </a:lnTo>
                    <a:lnTo>
                      <a:pt x="991" y="493"/>
                    </a:lnTo>
                    <a:lnTo>
                      <a:pt x="1002" y="569"/>
                    </a:lnTo>
                    <a:lnTo>
                      <a:pt x="1013" y="645"/>
                    </a:lnTo>
                    <a:lnTo>
                      <a:pt x="1022" y="723"/>
                    </a:lnTo>
                    <a:lnTo>
                      <a:pt x="1030" y="800"/>
                    </a:lnTo>
                    <a:lnTo>
                      <a:pt x="1036" y="877"/>
                    </a:lnTo>
                    <a:lnTo>
                      <a:pt x="1042" y="955"/>
                    </a:lnTo>
                    <a:lnTo>
                      <a:pt x="1046" y="1034"/>
                    </a:lnTo>
                    <a:lnTo>
                      <a:pt x="1050" y="1112"/>
                    </a:lnTo>
                    <a:lnTo>
                      <a:pt x="1051" y="1191"/>
                    </a:lnTo>
                    <a:lnTo>
                      <a:pt x="1052" y="1270"/>
                    </a:lnTo>
                    <a:lnTo>
                      <a:pt x="1051" y="1377"/>
                    </a:lnTo>
                    <a:lnTo>
                      <a:pt x="1047" y="1485"/>
                    </a:lnTo>
                    <a:lnTo>
                      <a:pt x="1042" y="1591"/>
                    </a:lnTo>
                    <a:lnTo>
                      <a:pt x="1033" y="1697"/>
                    </a:lnTo>
                    <a:lnTo>
                      <a:pt x="1023" y="1802"/>
                    </a:lnTo>
                    <a:lnTo>
                      <a:pt x="1012" y="1905"/>
                    </a:lnTo>
                    <a:lnTo>
                      <a:pt x="997" y="2009"/>
                    </a:lnTo>
                    <a:lnTo>
                      <a:pt x="980" y="2113"/>
                    </a:lnTo>
                    <a:lnTo>
                      <a:pt x="961" y="2215"/>
                    </a:lnTo>
                    <a:lnTo>
                      <a:pt x="940" y="2317"/>
                    </a:lnTo>
                    <a:lnTo>
                      <a:pt x="918" y="2417"/>
                    </a:lnTo>
                    <a:lnTo>
                      <a:pt x="893" y="2517"/>
                    </a:lnTo>
                    <a:lnTo>
                      <a:pt x="866" y="2617"/>
                    </a:lnTo>
                    <a:lnTo>
                      <a:pt x="837" y="2715"/>
                    </a:lnTo>
                    <a:lnTo>
                      <a:pt x="806" y="2812"/>
                    </a:lnTo>
                    <a:lnTo>
                      <a:pt x="773" y="2909"/>
                    </a:lnTo>
                    <a:lnTo>
                      <a:pt x="738" y="3005"/>
                    </a:lnTo>
                    <a:lnTo>
                      <a:pt x="701" y="3100"/>
                    </a:lnTo>
                    <a:lnTo>
                      <a:pt x="663" y="3193"/>
                    </a:lnTo>
                    <a:lnTo>
                      <a:pt x="623" y="3286"/>
                    </a:lnTo>
                    <a:lnTo>
                      <a:pt x="580" y="3378"/>
                    </a:lnTo>
                    <a:lnTo>
                      <a:pt x="536" y="3468"/>
                    </a:lnTo>
                    <a:lnTo>
                      <a:pt x="490" y="3558"/>
                    </a:lnTo>
                    <a:lnTo>
                      <a:pt x="443" y="3647"/>
                    </a:lnTo>
                    <a:lnTo>
                      <a:pt x="393" y="3735"/>
                    </a:lnTo>
                    <a:lnTo>
                      <a:pt x="341" y="3821"/>
                    </a:lnTo>
                    <a:lnTo>
                      <a:pt x="290" y="3906"/>
                    </a:lnTo>
                    <a:lnTo>
                      <a:pt x="234" y="3991"/>
                    </a:lnTo>
                    <a:lnTo>
                      <a:pt x="179" y="4074"/>
                    </a:lnTo>
                    <a:lnTo>
                      <a:pt x="121" y="4155"/>
                    </a:lnTo>
                    <a:lnTo>
                      <a:pt x="61" y="4236"/>
                    </a:lnTo>
                    <a:lnTo>
                      <a:pt x="0" y="4316"/>
                    </a:lnTo>
                    <a:lnTo>
                      <a:pt x="100" y="4289"/>
                    </a:lnTo>
                    <a:lnTo>
                      <a:pt x="160" y="4258"/>
                    </a:lnTo>
                    <a:lnTo>
                      <a:pt x="218" y="4180"/>
                    </a:lnTo>
                    <a:lnTo>
                      <a:pt x="273" y="4100"/>
                    </a:lnTo>
                    <a:lnTo>
                      <a:pt x="328" y="4018"/>
                    </a:lnTo>
                    <a:lnTo>
                      <a:pt x="381" y="3936"/>
                    </a:lnTo>
                    <a:lnTo>
                      <a:pt x="431" y="3852"/>
                    </a:lnTo>
                    <a:lnTo>
                      <a:pt x="481" y="3768"/>
                    </a:lnTo>
                    <a:lnTo>
                      <a:pt x="529" y="3683"/>
                    </a:lnTo>
                    <a:lnTo>
                      <a:pt x="576" y="3596"/>
                    </a:lnTo>
                    <a:lnTo>
                      <a:pt x="621" y="3509"/>
                    </a:lnTo>
                    <a:lnTo>
                      <a:pt x="663" y="3420"/>
                    </a:lnTo>
                    <a:lnTo>
                      <a:pt x="705" y="3331"/>
                    </a:lnTo>
                    <a:lnTo>
                      <a:pt x="744" y="3241"/>
                    </a:lnTo>
                    <a:lnTo>
                      <a:pt x="782" y="3149"/>
                    </a:lnTo>
                    <a:lnTo>
                      <a:pt x="818" y="3057"/>
                    </a:lnTo>
                    <a:lnTo>
                      <a:pt x="852" y="2965"/>
                    </a:lnTo>
                    <a:lnTo>
                      <a:pt x="885" y="2870"/>
                    </a:lnTo>
                    <a:lnTo>
                      <a:pt x="916" y="2776"/>
                    </a:lnTo>
                    <a:lnTo>
                      <a:pt x="945" y="2680"/>
                    </a:lnTo>
                    <a:lnTo>
                      <a:pt x="971" y="2584"/>
                    </a:lnTo>
                    <a:lnTo>
                      <a:pt x="997" y="2487"/>
                    </a:lnTo>
                    <a:lnTo>
                      <a:pt x="1020" y="2389"/>
                    </a:lnTo>
                    <a:lnTo>
                      <a:pt x="1042" y="2290"/>
                    </a:lnTo>
                    <a:lnTo>
                      <a:pt x="1061" y="2191"/>
                    </a:lnTo>
                    <a:lnTo>
                      <a:pt x="1078" y="2092"/>
                    </a:lnTo>
                    <a:lnTo>
                      <a:pt x="1093" y="1991"/>
                    </a:lnTo>
                    <a:lnTo>
                      <a:pt x="1107" y="1890"/>
                    </a:lnTo>
                    <a:lnTo>
                      <a:pt x="1119" y="1788"/>
                    </a:lnTo>
                    <a:lnTo>
                      <a:pt x="1128" y="1685"/>
                    </a:lnTo>
                    <a:lnTo>
                      <a:pt x="1135" y="1583"/>
                    </a:lnTo>
                    <a:lnTo>
                      <a:pt x="1141" y="1479"/>
                    </a:lnTo>
                    <a:lnTo>
                      <a:pt x="1144" y="1375"/>
                    </a:lnTo>
                    <a:lnTo>
                      <a:pt x="1145" y="127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36840" y="3941640"/>
                <a:ext cx="2425680" cy="1143000"/>
              </a:xfrm>
              <a:custGeom>
                <a:avLst/>
                <a:gdLst/>
                <a:ahLst/>
                <a:rect l="l" t="t" r="r" b="b"/>
                <a:pathLst>
                  <a:path w="9167" h="4321">
                    <a:moveTo>
                      <a:pt x="9167" y="1248"/>
                    </a:moveTo>
                    <a:lnTo>
                      <a:pt x="9167" y="1167"/>
                    </a:lnTo>
                    <a:lnTo>
                      <a:pt x="9165" y="1087"/>
                    </a:lnTo>
                    <a:lnTo>
                      <a:pt x="9161" y="1007"/>
                    </a:lnTo>
                    <a:lnTo>
                      <a:pt x="9158" y="928"/>
                    </a:lnTo>
                    <a:lnTo>
                      <a:pt x="9152" y="848"/>
                    </a:lnTo>
                    <a:lnTo>
                      <a:pt x="9145" y="769"/>
                    </a:lnTo>
                    <a:lnTo>
                      <a:pt x="9137" y="690"/>
                    </a:lnTo>
                    <a:lnTo>
                      <a:pt x="9127" y="612"/>
                    </a:lnTo>
                    <a:lnTo>
                      <a:pt x="9116" y="535"/>
                    </a:lnTo>
                    <a:lnTo>
                      <a:pt x="9105" y="456"/>
                    </a:lnTo>
                    <a:lnTo>
                      <a:pt x="9092" y="380"/>
                    </a:lnTo>
                    <a:lnTo>
                      <a:pt x="9078" y="303"/>
                    </a:lnTo>
                    <a:lnTo>
                      <a:pt x="9062" y="227"/>
                    </a:lnTo>
                    <a:lnTo>
                      <a:pt x="9046" y="151"/>
                    </a:lnTo>
                    <a:lnTo>
                      <a:pt x="9029" y="76"/>
                    </a:lnTo>
                    <a:lnTo>
                      <a:pt x="9010" y="0"/>
                    </a:lnTo>
                    <a:lnTo>
                      <a:pt x="8972" y="20"/>
                    </a:lnTo>
                    <a:lnTo>
                      <a:pt x="8925" y="42"/>
                    </a:lnTo>
                    <a:lnTo>
                      <a:pt x="8942" y="115"/>
                    </a:lnTo>
                    <a:lnTo>
                      <a:pt x="8958" y="188"/>
                    </a:lnTo>
                    <a:lnTo>
                      <a:pt x="8974" y="261"/>
                    </a:lnTo>
                    <a:lnTo>
                      <a:pt x="8989" y="335"/>
                    </a:lnTo>
                    <a:lnTo>
                      <a:pt x="9002" y="409"/>
                    </a:lnTo>
                    <a:lnTo>
                      <a:pt x="9015" y="484"/>
                    </a:lnTo>
                    <a:lnTo>
                      <a:pt x="9026" y="559"/>
                    </a:lnTo>
                    <a:lnTo>
                      <a:pt x="9036" y="634"/>
                    </a:lnTo>
                    <a:lnTo>
                      <a:pt x="9045" y="710"/>
                    </a:lnTo>
                    <a:lnTo>
                      <a:pt x="9053" y="786"/>
                    </a:lnTo>
                    <a:lnTo>
                      <a:pt x="9059" y="862"/>
                    </a:lnTo>
                    <a:lnTo>
                      <a:pt x="9064" y="938"/>
                    </a:lnTo>
                    <a:lnTo>
                      <a:pt x="9069" y="1015"/>
                    </a:lnTo>
                    <a:lnTo>
                      <a:pt x="9071" y="1092"/>
                    </a:lnTo>
                    <a:lnTo>
                      <a:pt x="9074" y="1170"/>
                    </a:lnTo>
                    <a:lnTo>
                      <a:pt x="9075" y="1248"/>
                    </a:lnTo>
                    <a:lnTo>
                      <a:pt x="9072" y="1356"/>
                    </a:lnTo>
                    <a:lnTo>
                      <a:pt x="9069" y="1465"/>
                    </a:lnTo>
                    <a:lnTo>
                      <a:pt x="9063" y="1573"/>
                    </a:lnTo>
                    <a:lnTo>
                      <a:pt x="9055" y="1679"/>
                    </a:lnTo>
                    <a:lnTo>
                      <a:pt x="9045" y="1786"/>
                    </a:lnTo>
                    <a:lnTo>
                      <a:pt x="9032" y="1891"/>
                    </a:lnTo>
                    <a:lnTo>
                      <a:pt x="9017" y="1996"/>
                    </a:lnTo>
                    <a:lnTo>
                      <a:pt x="9000" y="2101"/>
                    </a:lnTo>
                    <a:lnTo>
                      <a:pt x="8980" y="2205"/>
                    </a:lnTo>
                    <a:lnTo>
                      <a:pt x="8959" y="2307"/>
                    </a:lnTo>
                    <a:lnTo>
                      <a:pt x="8935" y="2409"/>
                    </a:lnTo>
                    <a:lnTo>
                      <a:pt x="8910" y="2510"/>
                    </a:lnTo>
                    <a:lnTo>
                      <a:pt x="8881" y="2611"/>
                    </a:lnTo>
                    <a:lnTo>
                      <a:pt x="8852" y="2710"/>
                    </a:lnTo>
                    <a:lnTo>
                      <a:pt x="8820" y="2809"/>
                    </a:lnTo>
                    <a:lnTo>
                      <a:pt x="8785" y="2906"/>
                    </a:lnTo>
                    <a:lnTo>
                      <a:pt x="8750" y="3003"/>
                    </a:lnTo>
                    <a:lnTo>
                      <a:pt x="8711" y="3098"/>
                    </a:lnTo>
                    <a:lnTo>
                      <a:pt x="8672" y="3193"/>
                    </a:lnTo>
                    <a:lnTo>
                      <a:pt x="8630" y="3286"/>
                    </a:lnTo>
                    <a:lnTo>
                      <a:pt x="8586" y="3380"/>
                    </a:lnTo>
                    <a:lnTo>
                      <a:pt x="8541" y="3471"/>
                    </a:lnTo>
                    <a:lnTo>
                      <a:pt x="8493" y="3561"/>
                    </a:lnTo>
                    <a:lnTo>
                      <a:pt x="8444" y="3650"/>
                    </a:lnTo>
                    <a:lnTo>
                      <a:pt x="8393" y="3738"/>
                    </a:lnTo>
                    <a:lnTo>
                      <a:pt x="8340" y="3826"/>
                    </a:lnTo>
                    <a:lnTo>
                      <a:pt x="8286" y="3911"/>
                    </a:lnTo>
                    <a:lnTo>
                      <a:pt x="8229" y="3995"/>
                    </a:lnTo>
                    <a:lnTo>
                      <a:pt x="8172" y="4079"/>
                    </a:lnTo>
                    <a:lnTo>
                      <a:pt x="8112" y="4161"/>
                    </a:lnTo>
                    <a:lnTo>
                      <a:pt x="8051" y="4242"/>
                    </a:lnTo>
                    <a:lnTo>
                      <a:pt x="7987" y="4321"/>
                    </a:lnTo>
                    <a:lnTo>
                      <a:pt x="8015" y="4308"/>
                    </a:lnTo>
                    <a:lnTo>
                      <a:pt x="8143" y="4274"/>
                    </a:lnTo>
                    <a:lnTo>
                      <a:pt x="8202" y="4195"/>
                    </a:lnTo>
                    <a:lnTo>
                      <a:pt x="8260" y="4115"/>
                    </a:lnTo>
                    <a:lnTo>
                      <a:pt x="8317" y="4033"/>
                    </a:lnTo>
                    <a:lnTo>
                      <a:pt x="8371" y="3950"/>
                    </a:lnTo>
                    <a:lnTo>
                      <a:pt x="8424" y="3866"/>
                    </a:lnTo>
                    <a:lnTo>
                      <a:pt x="8476" y="3781"/>
                    </a:lnTo>
                    <a:lnTo>
                      <a:pt x="8526" y="3695"/>
                    </a:lnTo>
                    <a:lnTo>
                      <a:pt x="8574" y="3608"/>
                    </a:lnTo>
                    <a:lnTo>
                      <a:pt x="8620" y="3519"/>
                    </a:lnTo>
                    <a:lnTo>
                      <a:pt x="8665" y="3430"/>
                    </a:lnTo>
                    <a:lnTo>
                      <a:pt x="8708" y="3339"/>
                    </a:lnTo>
                    <a:lnTo>
                      <a:pt x="8750" y="3248"/>
                    </a:lnTo>
                    <a:lnTo>
                      <a:pt x="8789" y="3156"/>
                    </a:lnTo>
                    <a:lnTo>
                      <a:pt x="8827" y="3063"/>
                    </a:lnTo>
                    <a:lnTo>
                      <a:pt x="8863" y="2968"/>
                    </a:lnTo>
                    <a:lnTo>
                      <a:pt x="8896" y="2873"/>
                    </a:lnTo>
                    <a:lnTo>
                      <a:pt x="8928" y="2778"/>
                    </a:lnTo>
                    <a:lnTo>
                      <a:pt x="8958" y="2681"/>
                    </a:lnTo>
                    <a:lnTo>
                      <a:pt x="8986" y="2583"/>
                    </a:lnTo>
                    <a:lnTo>
                      <a:pt x="9012" y="2484"/>
                    </a:lnTo>
                    <a:lnTo>
                      <a:pt x="9037" y="2385"/>
                    </a:lnTo>
                    <a:lnTo>
                      <a:pt x="9059" y="2286"/>
                    </a:lnTo>
                    <a:lnTo>
                      <a:pt x="9079" y="2184"/>
                    </a:lnTo>
                    <a:lnTo>
                      <a:pt x="9098" y="2083"/>
                    </a:lnTo>
                    <a:lnTo>
                      <a:pt x="9114" y="1981"/>
                    </a:lnTo>
                    <a:lnTo>
                      <a:pt x="9128" y="1878"/>
                    </a:lnTo>
                    <a:lnTo>
                      <a:pt x="9139" y="1775"/>
                    </a:lnTo>
                    <a:lnTo>
                      <a:pt x="9150" y="1670"/>
                    </a:lnTo>
                    <a:lnTo>
                      <a:pt x="9158" y="1565"/>
                    </a:lnTo>
                    <a:lnTo>
                      <a:pt x="9162" y="1460"/>
                    </a:lnTo>
                    <a:lnTo>
                      <a:pt x="9166" y="1354"/>
                    </a:lnTo>
                    <a:lnTo>
                      <a:pt x="9167" y="1248"/>
                    </a:lnTo>
                    <a:close/>
                    <a:moveTo>
                      <a:pt x="9" y="3848"/>
                    </a:moveTo>
                    <a:lnTo>
                      <a:pt x="49" y="3921"/>
                    </a:lnTo>
                    <a:lnTo>
                      <a:pt x="127" y="3999"/>
                    </a:lnTo>
                    <a:lnTo>
                      <a:pt x="152" y="4026"/>
                    </a:lnTo>
                    <a:lnTo>
                      <a:pt x="132" y="3997"/>
                    </a:lnTo>
                    <a:lnTo>
                      <a:pt x="113" y="3969"/>
                    </a:lnTo>
                    <a:lnTo>
                      <a:pt x="93" y="3940"/>
                    </a:lnTo>
                    <a:lnTo>
                      <a:pt x="75" y="3910"/>
                    </a:lnTo>
                    <a:lnTo>
                      <a:pt x="55" y="3881"/>
                    </a:lnTo>
                    <a:lnTo>
                      <a:pt x="37" y="3851"/>
                    </a:lnTo>
                    <a:lnTo>
                      <a:pt x="18" y="3822"/>
                    </a:lnTo>
                    <a:lnTo>
                      <a:pt x="0" y="3792"/>
                    </a:lnTo>
                    <a:lnTo>
                      <a:pt x="9" y="3848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32160" y="3948120"/>
                <a:ext cx="2417760" cy="1149480"/>
              </a:xfrm>
              <a:custGeom>
                <a:avLst/>
                <a:gdLst/>
                <a:ahLst/>
                <a:rect l="l" t="t" r="r" b="b"/>
                <a:pathLst>
                  <a:path w="9141" h="4347">
                    <a:moveTo>
                      <a:pt x="9141" y="1226"/>
                    </a:moveTo>
                    <a:lnTo>
                      <a:pt x="9140" y="1147"/>
                    </a:lnTo>
                    <a:lnTo>
                      <a:pt x="9139" y="1068"/>
                    </a:lnTo>
                    <a:lnTo>
                      <a:pt x="9135" y="990"/>
                    </a:lnTo>
                    <a:lnTo>
                      <a:pt x="9131" y="911"/>
                    </a:lnTo>
                    <a:lnTo>
                      <a:pt x="9125" y="833"/>
                    </a:lnTo>
                    <a:lnTo>
                      <a:pt x="9119" y="756"/>
                    </a:lnTo>
                    <a:lnTo>
                      <a:pt x="9111" y="679"/>
                    </a:lnTo>
                    <a:lnTo>
                      <a:pt x="9102" y="601"/>
                    </a:lnTo>
                    <a:lnTo>
                      <a:pt x="9091" y="525"/>
                    </a:lnTo>
                    <a:lnTo>
                      <a:pt x="9080" y="449"/>
                    </a:lnTo>
                    <a:lnTo>
                      <a:pt x="9067" y="373"/>
                    </a:lnTo>
                    <a:lnTo>
                      <a:pt x="9053" y="297"/>
                    </a:lnTo>
                    <a:lnTo>
                      <a:pt x="9038" y="223"/>
                    </a:lnTo>
                    <a:lnTo>
                      <a:pt x="9023" y="148"/>
                    </a:lnTo>
                    <a:lnTo>
                      <a:pt x="9006" y="75"/>
                    </a:lnTo>
                    <a:lnTo>
                      <a:pt x="8988" y="0"/>
                    </a:lnTo>
                    <a:lnTo>
                      <a:pt x="8915" y="35"/>
                    </a:lnTo>
                    <a:lnTo>
                      <a:pt x="8901" y="41"/>
                    </a:lnTo>
                    <a:lnTo>
                      <a:pt x="8918" y="113"/>
                    </a:lnTo>
                    <a:lnTo>
                      <a:pt x="8936" y="185"/>
                    </a:lnTo>
                    <a:lnTo>
                      <a:pt x="8951" y="257"/>
                    </a:lnTo>
                    <a:lnTo>
                      <a:pt x="8964" y="329"/>
                    </a:lnTo>
                    <a:lnTo>
                      <a:pt x="8977" y="402"/>
                    </a:lnTo>
                    <a:lnTo>
                      <a:pt x="8990" y="476"/>
                    </a:lnTo>
                    <a:lnTo>
                      <a:pt x="9000" y="548"/>
                    </a:lnTo>
                    <a:lnTo>
                      <a:pt x="9011" y="623"/>
                    </a:lnTo>
                    <a:lnTo>
                      <a:pt x="9019" y="697"/>
                    </a:lnTo>
                    <a:lnTo>
                      <a:pt x="9027" y="772"/>
                    </a:lnTo>
                    <a:lnTo>
                      <a:pt x="9032" y="847"/>
                    </a:lnTo>
                    <a:lnTo>
                      <a:pt x="9038" y="922"/>
                    </a:lnTo>
                    <a:lnTo>
                      <a:pt x="9043" y="998"/>
                    </a:lnTo>
                    <a:lnTo>
                      <a:pt x="9045" y="1073"/>
                    </a:lnTo>
                    <a:lnTo>
                      <a:pt x="9047" y="1149"/>
                    </a:lnTo>
                    <a:lnTo>
                      <a:pt x="9047" y="1226"/>
                    </a:lnTo>
                    <a:lnTo>
                      <a:pt x="9046" y="1337"/>
                    </a:lnTo>
                    <a:lnTo>
                      <a:pt x="9043" y="1447"/>
                    </a:lnTo>
                    <a:lnTo>
                      <a:pt x="9036" y="1557"/>
                    </a:lnTo>
                    <a:lnTo>
                      <a:pt x="9028" y="1666"/>
                    </a:lnTo>
                    <a:lnTo>
                      <a:pt x="9016" y="1775"/>
                    </a:lnTo>
                    <a:lnTo>
                      <a:pt x="9004" y="1883"/>
                    </a:lnTo>
                    <a:lnTo>
                      <a:pt x="8988" y="1990"/>
                    </a:lnTo>
                    <a:lnTo>
                      <a:pt x="8969" y="2096"/>
                    </a:lnTo>
                    <a:lnTo>
                      <a:pt x="8949" y="2201"/>
                    </a:lnTo>
                    <a:lnTo>
                      <a:pt x="8926" y="2306"/>
                    </a:lnTo>
                    <a:lnTo>
                      <a:pt x="8901" y="2410"/>
                    </a:lnTo>
                    <a:lnTo>
                      <a:pt x="8874" y="2514"/>
                    </a:lnTo>
                    <a:lnTo>
                      <a:pt x="8846" y="2615"/>
                    </a:lnTo>
                    <a:lnTo>
                      <a:pt x="8813" y="2717"/>
                    </a:lnTo>
                    <a:lnTo>
                      <a:pt x="8780" y="2817"/>
                    </a:lnTo>
                    <a:lnTo>
                      <a:pt x="8744" y="2916"/>
                    </a:lnTo>
                    <a:lnTo>
                      <a:pt x="8706" y="3014"/>
                    </a:lnTo>
                    <a:lnTo>
                      <a:pt x="8667" y="3111"/>
                    </a:lnTo>
                    <a:lnTo>
                      <a:pt x="8625" y="3207"/>
                    </a:lnTo>
                    <a:lnTo>
                      <a:pt x="8582" y="3302"/>
                    </a:lnTo>
                    <a:lnTo>
                      <a:pt x="8535" y="3396"/>
                    </a:lnTo>
                    <a:lnTo>
                      <a:pt x="8487" y="3489"/>
                    </a:lnTo>
                    <a:lnTo>
                      <a:pt x="8437" y="3580"/>
                    </a:lnTo>
                    <a:lnTo>
                      <a:pt x="8387" y="3670"/>
                    </a:lnTo>
                    <a:lnTo>
                      <a:pt x="8332" y="3760"/>
                    </a:lnTo>
                    <a:lnTo>
                      <a:pt x="8277" y="3847"/>
                    </a:lnTo>
                    <a:lnTo>
                      <a:pt x="8220" y="3934"/>
                    </a:lnTo>
                    <a:lnTo>
                      <a:pt x="8162" y="4019"/>
                    </a:lnTo>
                    <a:lnTo>
                      <a:pt x="8101" y="4102"/>
                    </a:lnTo>
                    <a:lnTo>
                      <a:pt x="8038" y="4185"/>
                    </a:lnTo>
                    <a:lnTo>
                      <a:pt x="7974" y="4266"/>
                    </a:lnTo>
                    <a:lnTo>
                      <a:pt x="7908" y="4347"/>
                    </a:lnTo>
                    <a:lnTo>
                      <a:pt x="8035" y="4286"/>
                    </a:lnTo>
                    <a:lnTo>
                      <a:pt x="8089" y="4272"/>
                    </a:lnTo>
                    <a:lnTo>
                      <a:pt x="8150" y="4192"/>
                    </a:lnTo>
                    <a:lnTo>
                      <a:pt x="8210" y="4111"/>
                    </a:lnTo>
                    <a:lnTo>
                      <a:pt x="8268" y="4030"/>
                    </a:lnTo>
                    <a:lnTo>
                      <a:pt x="8323" y="3947"/>
                    </a:lnTo>
                    <a:lnTo>
                      <a:pt x="8379" y="3862"/>
                    </a:lnTo>
                    <a:lnTo>
                      <a:pt x="8430" y="3777"/>
                    </a:lnTo>
                    <a:lnTo>
                      <a:pt x="8482" y="3691"/>
                    </a:lnTo>
                    <a:lnTo>
                      <a:pt x="8532" y="3603"/>
                    </a:lnTo>
                    <a:lnTo>
                      <a:pt x="8579" y="3514"/>
                    </a:lnTo>
                    <a:lnTo>
                      <a:pt x="8625" y="3424"/>
                    </a:lnTo>
                    <a:lnTo>
                      <a:pt x="8669" y="3334"/>
                    </a:lnTo>
                    <a:lnTo>
                      <a:pt x="8712" y="3242"/>
                    </a:lnTo>
                    <a:lnTo>
                      <a:pt x="8752" y="3149"/>
                    </a:lnTo>
                    <a:lnTo>
                      <a:pt x="8790" y="3056"/>
                    </a:lnTo>
                    <a:lnTo>
                      <a:pt x="8827" y="2961"/>
                    </a:lnTo>
                    <a:lnTo>
                      <a:pt x="8862" y="2865"/>
                    </a:lnTo>
                    <a:lnTo>
                      <a:pt x="8895" y="2768"/>
                    </a:lnTo>
                    <a:lnTo>
                      <a:pt x="8926" y="2671"/>
                    </a:lnTo>
                    <a:lnTo>
                      <a:pt x="8955" y="2573"/>
                    </a:lnTo>
                    <a:lnTo>
                      <a:pt x="8982" y="2473"/>
                    </a:lnTo>
                    <a:lnTo>
                      <a:pt x="9007" y="2373"/>
                    </a:lnTo>
                    <a:lnTo>
                      <a:pt x="9029" y="2273"/>
                    </a:lnTo>
                    <a:lnTo>
                      <a:pt x="9050" y="2171"/>
                    </a:lnTo>
                    <a:lnTo>
                      <a:pt x="9069" y="2069"/>
                    </a:lnTo>
                    <a:lnTo>
                      <a:pt x="9086" y="1965"/>
                    </a:lnTo>
                    <a:lnTo>
                      <a:pt x="9101" y="1861"/>
                    </a:lnTo>
                    <a:lnTo>
                      <a:pt x="9112" y="1758"/>
                    </a:lnTo>
                    <a:lnTo>
                      <a:pt x="9122" y="1653"/>
                    </a:lnTo>
                    <a:lnTo>
                      <a:pt x="9131" y="1547"/>
                    </a:lnTo>
                    <a:lnTo>
                      <a:pt x="9136" y="1441"/>
                    </a:lnTo>
                    <a:lnTo>
                      <a:pt x="9140" y="1333"/>
                    </a:lnTo>
                    <a:lnTo>
                      <a:pt x="9141" y="1226"/>
                    </a:lnTo>
                    <a:close/>
                    <a:moveTo>
                      <a:pt x="29" y="3826"/>
                    </a:moveTo>
                    <a:lnTo>
                      <a:pt x="69" y="3899"/>
                    </a:lnTo>
                    <a:lnTo>
                      <a:pt x="147" y="3977"/>
                    </a:lnTo>
                    <a:lnTo>
                      <a:pt x="220" y="4054"/>
                    </a:lnTo>
                    <a:lnTo>
                      <a:pt x="298" y="4131"/>
                    </a:lnTo>
                    <a:lnTo>
                      <a:pt x="335" y="4149"/>
                    </a:lnTo>
                    <a:lnTo>
                      <a:pt x="290" y="4088"/>
                    </a:lnTo>
                    <a:lnTo>
                      <a:pt x="246" y="4027"/>
                    </a:lnTo>
                    <a:lnTo>
                      <a:pt x="202" y="3965"/>
                    </a:lnTo>
                    <a:lnTo>
                      <a:pt x="159" y="3903"/>
                    </a:lnTo>
                    <a:lnTo>
                      <a:pt x="119" y="3839"/>
                    </a:lnTo>
                    <a:lnTo>
                      <a:pt x="79" y="3776"/>
                    </a:lnTo>
                    <a:lnTo>
                      <a:pt x="38" y="3711"/>
                    </a:lnTo>
                    <a:lnTo>
                      <a:pt x="0" y="3646"/>
                    </a:lnTo>
                    <a:lnTo>
                      <a:pt x="29" y="3826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30360" y="3952800"/>
                <a:ext cx="2408400" cy="1152720"/>
              </a:xfrm>
              <a:custGeom>
                <a:avLst/>
                <a:gdLst/>
                <a:ahLst/>
                <a:rect l="l" t="t" r="r" b="b"/>
                <a:pathLst>
                  <a:path w="9103" h="4354">
                    <a:moveTo>
                      <a:pt x="9103" y="1206"/>
                    </a:moveTo>
                    <a:lnTo>
                      <a:pt x="9102" y="1128"/>
                    </a:lnTo>
                    <a:lnTo>
                      <a:pt x="9099" y="1050"/>
                    </a:lnTo>
                    <a:lnTo>
                      <a:pt x="9097" y="973"/>
                    </a:lnTo>
                    <a:lnTo>
                      <a:pt x="9092" y="896"/>
                    </a:lnTo>
                    <a:lnTo>
                      <a:pt x="9087" y="820"/>
                    </a:lnTo>
                    <a:lnTo>
                      <a:pt x="9081" y="744"/>
                    </a:lnTo>
                    <a:lnTo>
                      <a:pt x="9073" y="668"/>
                    </a:lnTo>
                    <a:lnTo>
                      <a:pt x="9064" y="592"/>
                    </a:lnTo>
                    <a:lnTo>
                      <a:pt x="9054" y="517"/>
                    </a:lnTo>
                    <a:lnTo>
                      <a:pt x="9043" y="442"/>
                    </a:lnTo>
                    <a:lnTo>
                      <a:pt x="9030" y="367"/>
                    </a:lnTo>
                    <a:lnTo>
                      <a:pt x="9017" y="293"/>
                    </a:lnTo>
                    <a:lnTo>
                      <a:pt x="9002" y="219"/>
                    </a:lnTo>
                    <a:lnTo>
                      <a:pt x="8986" y="146"/>
                    </a:lnTo>
                    <a:lnTo>
                      <a:pt x="8970" y="73"/>
                    </a:lnTo>
                    <a:lnTo>
                      <a:pt x="8953" y="0"/>
                    </a:lnTo>
                    <a:lnTo>
                      <a:pt x="8923" y="15"/>
                    </a:lnTo>
                    <a:lnTo>
                      <a:pt x="8867" y="44"/>
                    </a:lnTo>
                    <a:lnTo>
                      <a:pt x="8884" y="114"/>
                    </a:lnTo>
                    <a:lnTo>
                      <a:pt x="8900" y="185"/>
                    </a:lnTo>
                    <a:lnTo>
                      <a:pt x="8915" y="255"/>
                    </a:lnTo>
                    <a:lnTo>
                      <a:pt x="8929" y="327"/>
                    </a:lnTo>
                    <a:lnTo>
                      <a:pt x="8941" y="398"/>
                    </a:lnTo>
                    <a:lnTo>
                      <a:pt x="8953" y="470"/>
                    </a:lnTo>
                    <a:lnTo>
                      <a:pt x="8963" y="542"/>
                    </a:lnTo>
                    <a:lnTo>
                      <a:pt x="8972" y="614"/>
                    </a:lnTo>
                    <a:lnTo>
                      <a:pt x="8982" y="687"/>
                    </a:lnTo>
                    <a:lnTo>
                      <a:pt x="8989" y="760"/>
                    </a:lnTo>
                    <a:lnTo>
                      <a:pt x="8994" y="834"/>
                    </a:lnTo>
                    <a:lnTo>
                      <a:pt x="9000" y="908"/>
                    </a:lnTo>
                    <a:lnTo>
                      <a:pt x="9004" y="981"/>
                    </a:lnTo>
                    <a:lnTo>
                      <a:pt x="9007" y="1056"/>
                    </a:lnTo>
                    <a:lnTo>
                      <a:pt x="9008" y="1131"/>
                    </a:lnTo>
                    <a:lnTo>
                      <a:pt x="9009" y="1206"/>
                    </a:lnTo>
                    <a:lnTo>
                      <a:pt x="9008" y="1319"/>
                    </a:lnTo>
                    <a:lnTo>
                      <a:pt x="9004" y="1431"/>
                    </a:lnTo>
                    <a:lnTo>
                      <a:pt x="8998" y="1542"/>
                    </a:lnTo>
                    <a:lnTo>
                      <a:pt x="8989" y="1652"/>
                    </a:lnTo>
                    <a:lnTo>
                      <a:pt x="8977" y="1763"/>
                    </a:lnTo>
                    <a:lnTo>
                      <a:pt x="8963" y="1871"/>
                    </a:lnTo>
                    <a:lnTo>
                      <a:pt x="8947" y="1980"/>
                    </a:lnTo>
                    <a:lnTo>
                      <a:pt x="8929" y="2088"/>
                    </a:lnTo>
                    <a:lnTo>
                      <a:pt x="8907" y="2194"/>
                    </a:lnTo>
                    <a:lnTo>
                      <a:pt x="8884" y="2300"/>
                    </a:lnTo>
                    <a:lnTo>
                      <a:pt x="8857" y="2406"/>
                    </a:lnTo>
                    <a:lnTo>
                      <a:pt x="8829" y="2510"/>
                    </a:lnTo>
                    <a:lnTo>
                      <a:pt x="8799" y="2612"/>
                    </a:lnTo>
                    <a:lnTo>
                      <a:pt x="8767" y="2715"/>
                    </a:lnTo>
                    <a:lnTo>
                      <a:pt x="8731" y="2817"/>
                    </a:lnTo>
                    <a:lnTo>
                      <a:pt x="8694" y="2916"/>
                    </a:lnTo>
                    <a:lnTo>
                      <a:pt x="8656" y="3015"/>
                    </a:lnTo>
                    <a:lnTo>
                      <a:pt x="8615" y="3113"/>
                    </a:lnTo>
                    <a:lnTo>
                      <a:pt x="8571" y="3211"/>
                    </a:lnTo>
                    <a:lnTo>
                      <a:pt x="8526" y="3306"/>
                    </a:lnTo>
                    <a:lnTo>
                      <a:pt x="8479" y="3401"/>
                    </a:lnTo>
                    <a:lnTo>
                      <a:pt x="8429" y="3494"/>
                    </a:lnTo>
                    <a:lnTo>
                      <a:pt x="8377" y="3587"/>
                    </a:lnTo>
                    <a:lnTo>
                      <a:pt x="8324" y="3676"/>
                    </a:lnTo>
                    <a:lnTo>
                      <a:pt x="8269" y="3766"/>
                    </a:lnTo>
                    <a:lnTo>
                      <a:pt x="8211" y="3855"/>
                    </a:lnTo>
                    <a:lnTo>
                      <a:pt x="8152" y="3942"/>
                    </a:lnTo>
                    <a:lnTo>
                      <a:pt x="8091" y="4027"/>
                    </a:lnTo>
                    <a:lnTo>
                      <a:pt x="8029" y="4111"/>
                    </a:lnTo>
                    <a:lnTo>
                      <a:pt x="7964" y="4194"/>
                    </a:lnTo>
                    <a:lnTo>
                      <a:pt x="7899" y="4275"/>
                    </a:lnTo>
                    <a:lnTo>
                      <a:pt x="7831" y="4354"/>
                    </a:lnTo>
                    <a:lnTo>
                      <a:pt x="7888" y="4339"/>
                    </a:lnTo>
                    <a:lnTo>
                      <a:pt x="8016" y="4278"/>
                    </a:lnTo>
                    <a:lnTo>
                      <a:pt x="8079" y="4200"/>
                    </a:lnTo>
                    <a:lnTo>
                      <a:pt x="8140" y="4119"/>
                    </a:lnTo>
                    <a:lnTo>
                      <a:pt x="8200" y="4036"/>
                    </a:lnTo>
                    <a:lnTo>
                      <a:pt x="8257" y="3953"/>
                    </a:lnTo>
                    <a:lnTo>
                      <a:pt x="8314" y="3869"/>
                    </a:lnTo>
                    <a:lnTo>
                      <a:pt x="8368" y="3784"/>
                    </a:lnTo>
                    <a:lnTo>
                      <a:pt x="8421" y="3696"/>
                    </a:lnTo>
                    <a:lnTo>
                      <a:pt x="8472" y="3608"/>
                    </a:lnTo>
                    <a:lnTo>
                      <a:pt x="8521" y="3519"/>
                    </a:lnTo>
                    <a:lnTo>
                      <a:pt x="8569" y="3429"/>
                    </a:lnTo>
                    <a:lnTo>
                      <a:pt x="8614" y="3338"/>
                    </a:lnTo>
                    <a:lnTo>
                      <a:pt x="8658" y="3244"/>
                    </a:lnTo>
                    <a:lnTo>
                      <a:pt x="8700" y="3151"/>
                    </a:lnTo>
                    <a:lnTo>
                      <a:pt x="8739" y="3056"/>
                    </a:lnTo>
                    <a:lnTo>
                      <a:pt x="8778" y="2961"/>
                    </a:lnTo>
                    <a:lnTo>
                      <a:pt x="8813" y="2864"/>
                    </a:lnTo>
                    <a:lnTo>
                      <a:pt x="8848" y="2767"/>
                    </a:lnTo>
                    <a:lnTo>
                      <a:pt x="8880" y="2668"/>
                    </a:lnTo>
                    <a:lnTo>
                      <a:pt x="8909" y="2569"/>
                    </a:lnTo>
                    <a:lnTo>
                      <a:pt x="8938" y="2468"/>
                    </a:lnTo>
                    <a:lnTo>
                      <a:pt x="8963" y="2367"/>
                    </a:lnTo>
                    <a:lnTo>
                      <a:pt x="8987" y="2265"/>
                    </a:lnTo>
                    <a:lnTo>
                      <a:pt x="9008" y="2163"/>
                    </a:lnTo>
                    <a:lnTo>
                      <a:pt x="9028" y="2059"/>
                    </a:lnTo>
                    <a:lnTo>
                      <a:pt x="9045" y="1954"/>
                    </a:lnTo>
                    <a:lnTo>
                      <a:pt x="9060" y="1849"/>
                    </a:lnTo>
                    <a:lnTo>
                      <a:pt x="9073" y="1744"/>
                    </a:lnTo>
                    <a:lnTo>
                      <a:pt x="9083" y="1637"/>
                    </a:lnTo>
                    <a:lnTo>
                      <a:pt x="9091" y="1531"/>
                    </a:lnTo>
                    <a:lnTo>
                      <a:pt x="9097" y="1423"/>
                    </a:lnTo>
                    <a:lnTo>
                      <a:pt x="9102" y="1314"/>
                    </a:lnTo>
                    <a:lnTo>
                      <a:pt x="9103" y="1206"/>
                    </a:lnTo>
                    <a:close/>
                    <a:moveTo>
                      <a:pt x="28" y="3750"/>
                    </a:moveTo>
                    <a:lnTo>
                      <a:pt x="46" y="3780"/>
                    </a:lnTo>
                    <a:lnTo>
                      <a:pt x="65" y="3809"/>
                    </a:lnTo>
                    <a:lnTo>
                      <a:pt x="83" y="3839"/>
                    </a:lnTo>
                    <a:lnTo>
                      <a:pt x="103" y="3868"/>
                    </a:lnTo>
                    <a:lnTo>
                      <a:pt x="121" y="3898"/>
                    </a:lnTo>
                    <a:lnTo>
                      <a:pt x="141" y="3927"/>
                    </a:lnTo>
                    <a:lnTo>
                      <a:pt x="160" y="3955"/>
                    </a:lnTo>
                    <a:lnTo>
                      <a:pt x="180" y="3984"/>
                    </a:lnTo>
                    <a:lnTo>
                      <a:pt x="228" y="4034"/>
                    </a:lnTo>
                    <a:lnTo>
                      <a:pt x="306" y="4111"/>
                    </a:lnTo>
                    <a:lnTo>
                      <a:pt x="383" y="4148"/>
                    </a:lnTo>
                    <a:lnTo>
                      <a:pt x="416" y="4148"/>
                    </a:lnTo>
                    <a:lnTo>
                      <a:pt x="359" y="4073"/>
                    </a:lnTo>
                    <a:lnTo>
                      <a:pt x="303" y="3997"/>
                    </a:lnTo>
                    <a:lnTo>
                      <a:pt x="249" y="3920"/>
                    </a:lnTo>
                    <a:lnTo>
                      <a:pt x="196" y="3841"/>
                    </a:lnTo>
                    <a:lnTo>
                      <a:pt x="144" y="3762"/>
                    </a:lnTo>
                    <a:lnTo>
                      <a:pt x="95" y="3680"/>
                    </a:lnTo>
                    <a:lnTo>
                      <a:pt x="46" y="3599"/>
                    </a:lnTo>
                    <a:lnTo>
                      <a:pt x="0" y="3516"/>
                    </a:lnTo>
                    <a:lnTo>
                      <a:pt x="0" y="3574"/>
                    </a:lnTo>
                    <a:lnTo>
                      <a:pt x="28" y="375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30360" y="3959280"/>
                <a:ext cx="2395800" cy="1152360"/>
              </a:xfrm>
              <a:custGeom>
                <a:avLst/>
                <a:gdLst/>
                <a:ahLst/>
                <a:rect l="l" t="t" r="r" b="b"/>
                <a:pathLst>
                  <a:path w="9055" h="4356">
                    <a:moveTo>
                      <a:pt x="9055" y="1185"/>
                    </a:moveTo>
                    <a:lnTo>
                      <a:pt x="9055" y="1108"/>
                    </a:lnTo>
                    <a:lnTo>
                      <a:pt x="9053" y="1032"/>
                    </a:lnTo>
                    <a:lnTo>
                      <a:pt x="9050" y="957"/>
                    </a:lnTo>
                    <a:lnTo>
                      <a:pt x="9046" y="881"/>
                    </a:lnTo>
                    <a:lnTo>
                      <a:pt x="9040" y="806"/>
                    </a:lnTo>
                    <a:lnTo>
                      <a:pt x="9035" y="731"/>
                    </a:lnTo>
                    <a:lnTo>
                      <a:pt x="9027" y="656"/>
                    </a:lnTo>
                    <a:lnTo>
                      <a:pt x="9019" y="582"/>
                    </a:lnTo>
                    <a:lnTo>
                      <a:pt x="9008" y="507"/>
                    </a:lnTo>
                    <a:lnTo>
                      <a:pt x="8998" y="435"/>
                    </a:lnTo>
                    <a:lnTo>
                      <a:pt x="8985" y="361"/>
                    </a:lnTo>
                    <a:lnTo>
                      <a:pt x="8972" y="288"/>
                    </a:lnTo>
                    <a:lnTo>
                      <a:pt x="8959" y="216"/>
                    </a:lnTo>
                    <a:lnTo>
                      <a:pt x="8944" y="144"/>
                    </a:lnTo>
                    <a:lnTo>
                      <a:pt x="8926" y="72"/>
                    </a:lnTo>
                    <a:lnTo>
                      <a:pt x="8909" y="0"/>
                    </a:lnTo>
                    <a:lnTo>
                      <a:pt x="8846" y="35"/>
                    </a:lnTo>
                    <a:lnTo>
                      <a:pt x="8826" y="53"/>
                    </a:lnTo>
                    <a:lnTo>
                      <a:pt x="8842" y="121"/>
                    </a:lnTo>
                    <a:lnTo>
                      <a:pt x="8857" y="190"/>
                    </a:lnTo>
                    <a:lnTo>
                      <a:pt x="8872" y="259"/>
                    </a:lnTo>
                    <a:lnTo>
                      <a:pt x="8885" y="329"/>
                    </a:lnTo>
                    <a:lnTo>
                      <a:pt x="8897" y="398"/>
                    </a:lnTo>
                    <a:lnTo>
                      <a:pt x="8908" y="468"/>
                    </a:lnTo>
                    <a:lnTo>
                      <a:pt x="8918" y="538"/>
                    </a:lnTo>
                    <a:lnTo>
                      <a:pt x="8927" y="609"/>
                    </a:lnTo>
                    <a:lnTo>
                      <a:pt x="8936" y="680"/>
                    </a:lnTo>
                    <a:lnTo>
                      <a:pt x="8942" y="751"/>
                    </a:lnTo>
                    <a:lnTo>
                      <a:pt x="8948" y="823"/>
                    </a:lnTo>
                    <a:lnTo>
                      <a:pt x="8954" y="895"/>
                    </a:lnTo>
                    <a:lnTo>
                      <a:pt x="8957" y="967"/>
                    </a:lnTo>
                    <a:lnTo>
                      <a:pt x="8960" y="1039"/>
                    </a:lnTo>
                    <a:lnTo>
                      <a:pt x="8962" y="1111"/>
                    </a:lnTo>
                    <a:lnTo>
                      <a:pt x="8962" y="1185"/>
                    </a:lnTo>
                    <a:lnTo>
                      <a:pt x="8961" y="1299"/>
                    </a:lnTo>
                    <a:lnTo>
                      <a:pt x="8957" y="1412"/>
                    </a:lnTo>
                    <a:lnTo>
                      <a:pt x="8951" y="1525"/>
                    </a:lnTo>
                    <a:lnTo>
                      <a:pt x="8941" y="1637"/>
                    </a:lnTo>
                    <a:lnTo>
                      <a:pt x="8930" y="1748"/>
                    </a:lnTo>
                    <a:lnTo>
                      <a:pt x="8915" y="1858"/>
                    </a:lnTo>
                    <a:lnTo>
                      <a:pt x="8899" y="1968"/>
                    </a:lnTo>
                    <a:lnTo>
                      <a:pt x="8879" y="2076"/>
                    </a:lnTo>
                    <a:lnTo>
                      <a:pt x="8857" y="2185"/>
                    </a:lnTo>
                    <a:lnTo>
                      <a:pt x="8833" y="2291"/>
                    </a:lnTo>
                    <a:lnTo>
                      <a:pt x="8806" y="2397"/>
                    </a:lnTo>
                    <a:lnTo>
                      <a:pt x="8778" y="2502"/>
                    </a:lnTo>
                    <a:lnTo>
                      <a:pt x="8746" y="2606"/>
                    </a:lnTo>
                    <a:lnTo>
                      <a:pt x="8713" y="2709"/>
                    </a:lnTo>
                    <a:lnTo>
                      <a:pt x="8676" y="2812"/>
                    </a:lnTo>
                    <a:lnTo>
                      <a:pt x="8638" y="2912"/>
                    </a:lnTo>
                    <a:lnTo>
                      <a:pt x="8598" y="3012"/>
                    </a:lnTo>
                    <a:lnTo>
                      <a:pt x="8556" y="3110"/>
                    </a:lnTo>
                    <a:lnTo>
                      <a:pt x="8511" y="3208"/>
                    </a:lnTo>
                    <a:lnTo>
                      <a:pt x="8464" y="3304"/>
                    </a:lnTo>
                    <a:lnTo>
                      <a:pt x="8415" y="3400"/>
                    </a:lnTo>
                    <a:lnTo>
                      <a:pt x="8365" y="3493"/>
                    </a:lnTo>
                    <a:lnTo>
                      <a:pt x="8312" y="3586"/>
                    </a:lnTo>
                    <a:lnTo>
                      <a:pt x="8256" y="3677"/>
                    </a:lnTo>
                    <a:lnTo>
                      <a:pt x="8200" y="3767"/>
                    </a:lnTo>
                    <a:lnTo>
                      <a:pt x="8141" y="3855"/>
                    </a:lnTo>
                    <a:lnTo>
                      <a:pt x="8080" y="3942"/>
                    </a:lnTo>
                    <a:lnTo>
                      <a:pt x="8017" y="4028"/>
                    </a:lnTo>
                    <a:lnTo>
                      <a:pt x="7953" y="4112"/>
                    </a:lnTo>
                    <a:lnTo>
                      <a:pt x="7887" y="4195"/>
                    </a:lnTo>
                    <a:lnTo>
                      <a:pt x="7818" y="4277"/>
                    </a:lnTo>
                    <a:lnTo>
                      <a:pt x="7749" y="4356"/>
                    </a:lnTo>
                    <a:lnTo>
                      <a:pt x="7888" y="4318"/>
                    </a:lnTo>
                    <a:lnTo>
                      <a:pt x="7916" y="4306"/>
                    </a:lnTo>
                    <a:lnTo>
                      <a:pt x="7982" y="4225"/>
                    </a:lnTo>
                    <a:lnTo>
                      <a:pt x="8046" y="4144"/>
                    </a:lnTo>
                    <a:lnTo>
                      <a:pt x="8109" y="4061"/>
                    </a:lnTo>
                    <a:lnTo>
                      <a:pt x="8170" y="3978"/>
                    </a:lnTo>
                    <a:lnTo>
                      <a:pt x="8228" y="3893"/>
                    </a:lnTo>
                    <a:lnTo>
                      <a:pt x="8285" y="3806"/>
                    </a:lnTo>
                    <a:lnTo>
                      <a:pt x="8340" y="3719"/>
                    </a:lnTo>
                    <a:lnTo>
                      <a:pt x="8395" y="3629"/>
                    </a:lnTo>
                    <a:lnTo>
                      <a:pt x="8445" y="3539"/>
                    </a:lnTo>
                    <a:lnTo>
                      <a:pt x="8495" y="3448"/>
                    </a:lnTo>
                    <a:lnTo>
                      <a:pt x="8543" y="3355"/>
                    </a:lnTo>
                    <a:lnTo>
                      <a:pt x="8590" y="3261"/>
                    </a:lnTo>
                    <a:lnTo>
                      <a:pt x="8633" y="3166"/>
                    </a:lnTo>
                    <a:lnTo>
                      <a:pt x="8675" y="3070"/>
                    </a:lnTo>
                    <a:lnTo>
                      <a:pt x="8714" y="2973"/>
                    </a:lnTo>
                    <a:lnTo>
                      <a:pt x="8752" y="2875"/>
                    </a:lnTo>
                    <a:lnTo>
                      <a:pt x="8788" y="2776"/>
                    </a:lnTo>
                    <a:lnTo>
                      <a:pt x="8821" y="2676"/>
                    </a:lnTo>
                    <a:lnTo>
                      <a:pt x="8854" y="2574"/>
                    </a:lnTo>
                    <a:lnTo>
                      <a:pt x="8882" y="2473"/>
                    </a:lnTo>
                    <a:lnTo>
                      <a:pt x="8909" y="2369"/>
                    </a:lnTo>
                    <a:lnTo>
                      <a:pt x="8934" y="2265"/>
                    </a:lnTo>
                    <a:lnTo>
                      <a:pt x="8957" y="2160"/>
                    </a:lnTo>
                    <a:lnTo>
                      <a:pt x="8977" y="2055"/>
                    </a:lnTo>
                    <a:lnTo>
                      <a:pt x="8996" y="1949"/>
                    </a:lnTo>
                    <a:lnTo>
                      <a:pt x="9012" y="1842"/>
                    </a:lnTo>
                    <a:lnTo>
                      <a:pt x="9024" y="1734"/>
                    </a:lnTo>
                    <a:lnTo>
                      <a:pt x="9036" y="1625"/>
                    </a:lnTo>
                    <a:lnTo>
                      <a:pt x="9044" y="1516"/>
                    </a:lnTo>
                    <a:lnTo>
                      <a:pt x="9051" y="1406"/>
                    </a:lnTo>
                    <a:lnTo>
                      <a:pt x="9054" y="1296"/>
                    </a:lnTo>
                    <a:lnTo>
                      <a:pt x="9055" y="1185"/>
                    </a:lnTo>
                    <a:close/>
                    <a:moveTo>
                      <a:pt x="8" y="3605"/>
                    </a:moveTo>
                    <a:lnTo>
                      <a:pt x="46" y="3670"/>
                    </a:lnTo>
                    <a:lnTo>
                      <a:pt x="87" y="3735"/>
                    </a:lnTo>
                    <a:lnTo>
                      <a:pt x="127" y="3798"/>
                    </a:lnTo>
                    <a:lnTo>
                      <a:pt x="167" y="3862"/>
                    </a:lnTo>
                    <a:lnTo>
                      <a:pt x="210" y="3925"/>
                    </a:lnTo>
                    <a:lnTo>
                      <a:pt x="254" y="3986"/>
                    </a:lnTo>
                    <a:lnTo>
                      <a:pt x="298" y="4047"/>
                    </a:lnTo>
                    <a:lnTo>
                      <a:pt x="343" y="4108"/>
                    </a:lnTo>
                    <a:lnTo>
                      <a:pt x="383" y="4127"/>
                    </a:lnTo>
                    <a:lnTo>
                      <a:pt x="460" y="4127"/>
                    </a:lnTo>
                    <a:lnTo>
                      <a:pt x="487" y="4141"/>
                    </a:lnTo>
                    <a:lnTo>
                      <a:pt x="452" y="4097"/>
                    </a:lnTo>
                    <a:lnTo>
                      <a:pt x="419" y="4053"/>
                    </a:lnTo>
                    <a:lnTo>
                      <a:pt x="385" y="4009"/>
                    </a:lnTo>
                    <a:lnTo>
                      <a:pt x="353" y="3964"/>
                    </a:lnTo>
                    <a:lnTo>
                      <a:pt x="321" y="3919"/>
                    </a:lnTo>
                    <a:lnTo>
                      <a:pt x="288" y="3874"/>
                    </a:lnTo>
                    <a:lnTo>
                      <a:pt x="257" y="3828"/>
                    </a:lnTo>
                    <a:lnTo>
                      <a:pt x="227" y="3782"/>
                    </a:lnTo>
                    <a:lnTo>
                      <a:pt x="197" y="3736"/>
                    </a:lnTo>
                    <a:lnTo>
                      <a:pt x="167" y="3689"/>
                    </a:lnTo>
                    <a:lnTo>
                      <a:pt x="138" y="3642"/>
                    </a:lnTo>
                    <a:lnTo>
                      <a:pt x="110" y="3593"/>
                    </a:lnTo>
                    <a:lnTo>
                      <a:pt x="82" y="3546"/>
                    </a:lnTo>
                    <a:lnTo>
                      <a:pt x="54" y="3498"/>
                    </a:lnTo>
                    <a:lnTo>
                      <a:pt x="28" y="3449"/>
                    </a:lnTo>
                    <a:lnTo>
                      <a:pt x="1" y="3400"/>
                    </a:lnTo>
                    <a:lnTo>
                      <a:pt x="0" y="3403"/>
                    </a:lnTo>
                    <a:lnTo>
                      <a:pt x="0" y="3553"/>
                    </a:lnTo>
                    <a:lnTo>
                      <a:pt x="8" y="3605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30360" y="3965400"/>
                <a:ext cx="2382840" cy="1151280"/>
              </a:xfrm>
              <a:custGeom>
                <a:avLst/>
                <a:gdLst/>
                <a:ahLst/>
                <a:rect l="l" t="t" r="r" b="b"/>
                <a:pathLst>
                  <a:path w="9009" h="4353">
                    <a:moveTo>
                      <a:pt x="9009" y="1162"/>
                    </a:moveTo>
                    <a:lnTo>
                      <a:pt x="9008" y="1087"/>
                    </a:lnTo>
                    <a:lnTo>
                      <a:pt x="9007" y="1012"/>
                    </a:lnTo>
                    <a:lnTo>
                      <a:pt x="9004" y="937"/>
                    </a:lnTo>
                    <a:lnTo>
                      <a:pt x="9000" y="864"/>
                    </a:lnTo>
                    <a:lnTo>
                      <a:pt x="8994" y="790"/>
                    </a:lnTo>
                    <a:lnTo>
                      <a:pt x="8989" y="716"/>
                    </a:lnTo>
                    <a:lnTo>
                      <a:pt x="8982" y="643"/>
                    </a:lnTo>
                    <a:lnTo>
                      <a:pt x="8972" y="570"/>
                    </a:lnTo>
                    <a:lnTo>
                      <a:pt x="8963" y="498"/>
                    </a:lnTo>
                    <a:lnTo>
                      <a:pt x="8953" y="426"/>
                    </a:lnTo>
                    <a:lnTo>
                      <a:pt x="8941" y="354"/>
                    </a:lnTo>
                    <a:lnTo>
                      <a:pt x="8929" y="283"/>
                    </a:lnTo>
                    <a:lnTo>
                      <a:pt x="8915" y="211"/>
                    </a:lnTo>
                    <a:lnTo>
                      <a:pt x="8900" y="141"/>
                    </a:lnTo>
                    <a:lnTo>
                      <a:pt x="8884" y="70"/>
                    </a:lnTo>
                    <a:lnTo>
                      <a:pt x="8867" y="0"/>
                    </a:lnTo>
                    <a:lnTo>
                      <a:pt x="8846" y="12"/>
                    </a:lnTo>
                    <a:lnTo>
                      <a:pt x="8788" y="68"/>
                    </a:lnTo>
                    <a:lnTo>
                      <a:pt x="8803" y="135"/>
                    </a:lnTo>
                    <a:lnTo>
                      <a:pt x="8817" y="201"/>
                    </a:lnTo>
                    <a:lnTo>
                      <a:pt x="8831" y="268"/>
                    </a:lnTo>
                    <a:lnTo>
                      <a:pt x="8843" y="334"/>
                    </a:lnTo>
                    <a:lnTo>
                      <a:pt x="8855" y="402"/>
                    </a:lnTo>
                    <a:lnTo>
                      <a:pt x="8865" y="469"/>
                    </a:lnTo>
                    <a:lnTo>
                      <a:pt x="8874" y="537"/>
                    </a:lnTo>
                    <a:lnTo>
                      <a:pt x="8884" y="605"/>
                    </a:lnTo>
                    <a:lnTo>
                      <a:pt x="8891" y="675"/>
                    </a:lnTo>
                    <a:lnTo>
                      <a:pt x="8897" y="744"/>
                    </a:lnTo>
                    <a:lnTo>
                      <a:pt x="8903" y="813"/>
                    </a:lnTo>
                    <a:lnTo>
                      <a:pt x="8908" y="882"/>
                    </a:lnTo>
                    <a:lnTo>
                      <a:pt x="8911" y="951"/>
                    </a:lnTo>
                    <a:lnTo>
                      <a:pt x="8914" y="1021"/>
                    </a:lnTo>
                    <a:lnTo>
                      <a:pt x="8915" y="1092"/>
                    </a:lnTo>
                    <a:lnTo>
                      <a:pt x="8916" y="1162"/>
                    </a:lnTo>
                    <a:lnTo>
                      <a:pt x="8915" y="1277"/>
                    </a:lnTo>
                    <a:lnTo>
                      <a:pt x="8910" y="1392"/>
                    </a:lnTo>
                    <a:lnTo>
                      <a:pt x="8903" y="1506"/>
                    </a:lnTo>
                    <a:lnTo>
                      <a:pt x="8894" y="1619"/>
                    </a:lnTo>
                    <a:lnTo>
                      <a:pt x="8881" y="1730"/>
                    </a:lnTo>
                    <a:lnTo>
                      <a:pt x="8867" y="1841"/>
                    </a:lnTo>
                    <a:lnTo>
                      <a:pt x="8849" y="1952"/>
                    </a:lnTo>
                    <a:lnTo>
                      <a:pt x="8829" y="2062"/>
                    </a:lnTo>
                    <a:lnTo>
                      <a:pt x="8808" y="2171"/>
                    </a:lnTo>
                    <a:lnTo>
                      <a:pt x="8782" y="2279"/>
                    </a:lnTo>
                    <a:lnTo>
                      <a:pt x="8754" y="2385"/>
                    </a:lnTo>
                    <a:lnTo>
                      <a:pt x="8726" y="2491"/>
                    </a:lnTo>
                    <a:lnTo>
                      <a:pt x="8693" y="2596"/>
                    </a:lnTo>
                    <a:lnTo>
                      <a:pt x="8659" y="2700"/>
                    </a:lnTo>
                    <a:lnTo>
                      <a:pt x="8622" y="2802"/>
                    </a:lnTo>
                    <a:lnTo>
                      <a:pt x="8583" y="2904"/>
                    </a:lnTo>
                    <a:lnTo>
                      <a:pt x="8541" y="3005"/>
                    </a:lnTo>
                    <a:lnTo>
                      <a:pt x="8497" y="3105"/>
                    </a:lnTo>
                    <a:lnTo>
                      <a:pt x="8451" y="3202"/>
                    </a:lnTo>
                    <a:lnTo>
                      <a:pt x="8403" y="3299"/>
                    </a:lnTo>
                    <a:lnTo>
                      <a:pt x="8353" y="3395"/>
                    </a:lnTo>
                    <a:lnTo>
                      <a:pt x="8300" y="3488"/>
                    </a:lnTo>
                    <a:lnTo>
                      <a:pt x="8246" y="3582"/>
                    </a:lnTo>
                    <a:lnTo>
                      <a:pt x="8189" y="3673"/>
                    </a:lnTo>
                    <a:lnTo>
                      <a:pt x="8130" y="3764"/>
                    </a:lnTo>
                    <a:lnTo>
                      <a:pt x="8070" y="3853"/>
                    </a:lnTo>
                    <a:lnTo>
                      <a:pt x="8008" y="3939"/>
                    </a:lnTo>
                    <a:lnTo>
                      <a:pt x="7944" y="4026"/>
                    </a:lnTo>
                    <a:lnTo>
                      <a:pt x="7878" y="4110"/>
                    </a:lnTo>
                    <a:lnTo>
                      <a:pt x="7810" y="4192"/>
                    </a:lnTo>
                    <a:lnTo>
                      <a:pt x="7739" y="4273"/>
                    </a:lnTo>
                    <a:lnTo>
                      <a:pt x="7668" y="4353"/>
                    </a:lnTo>
                    <a:lnTo>
                      <a:pt x="7738" y="4336"/>
                    </a:lnTo>
                    <a:lnTo>
                      <a:pt x="7831" y="4310"/>
                    </a:lnTo>
                    <a:lnTo>
                      <a:pt x="7899" y="4231"/>
                    </a:lnTo>
                    <a:lnTo>
                      <a:pt x="7964" y="4150"/>
                    </a:lnTo>
                    <a:lnTo>
                      <a:pt x="8029" y="4067"/>
                    </a:lnTo>
                    <a:lnTo>
                      <a:pt x="8091" y="3983"/>
                    </a:lnTo>
                    <a:lnTo>
                      <a:pt x="8152" y="3898"/>
                    </a:lnTo>
                    <a:lnTo>
                      <a:pt x="8211" y="3811"/>
                    </a:lnTo>
                    <a:lnTo>
                      <a:pt x="8269" y="3722"/>
                    </a:lnTo>
                    <a:lnTo>
                      <a:pt x="8324" y="3632"/>
                    </a:lnTo>
                    <a:lnTo>
                      <a:pt x="8377" y="3543"/>
                    </a:lnTo>
                    <a:lnTo>
                      <a:pt x="8429" y="3450"/>
                    </a:lnTo>
                    <a:lnTo>
                      <a:pt x="8479" y="3357"/>
                    </a:lnTo>
                    <a:lnTo>
                      <a:pt x="8526" y="3262"/>
                    </a:lnTo>
                    <a:lnTo>
                      <a:pt x="8571" y="3167"/>
                    </a:lnTo>
                    <a:lnTo>
                      <a:pt x="8615" y="3069"/>
                    </a:lnTo>
                    <a:lnTo>
                      <a:pt x="8656" y="2971"/>
                    </a:lnTo>
                    <a:lnTo>
                      <a:pt x="8694" y="2872"/>
                    </a:lnTo>
                    <a:lnTo>
                      <a:pt x="8731" y="2773"/>
                    </a:lnTo>
                    <a:lnTo>
                      <a:pt x="8767" y="2671"/>
                    </a:lnTo>
                    <a:lnTo>
                      <a:pt x="8799" y="2568"/>
                    </a:lnTo>
                    <a:lnTo>
                      <a:pt x="8829" y="2466"/>
                    </a:lnTo>
                    <a:lnTo>
                      <a:pt x="8857" y="2362"/>
                    </a:lnTo>
                    <a:lnTo>
                      <a:pt x="8884" y="2256"/>
                    </a:lnTo>
                    <a:lnTo>
                      <a:pt x="8907" y="2150"/>
                    </a:lnTo>
                    <a:lnTo>
                      <a:pt x="8929" y="2044"/>
                    </a:lnTo>
                    <a:lnTo>
                      <a:pt x="8947" y="1936"/>
                    </a:lnTo>
                    <a:lnTo>
                      <a:pt x="8963" y="1827"/>
                    </a:lnTo>
                    <a:lnTo>
                      <a:pt x="8977" y="1719"/>
                    </a:lnTo>
                    <a:lnTo>
                      <a:pt x="8989" y="1608"/>
                    </a:lnTo>
                    <a:lnTo>
                      <a:pt x="8998" y="1498"/>
                    </a:lnTo>
                    <a:lnTo>
                      <a:pt x="9004" y="1387"/>
                    </a:lnTo>
                    <a:lnTo>
                      <a:pt x="9008" y="1275"/>
                    </a:lnTo>
                    <a:lnTo>
                      <a:pt x="9009" y="1162"/>
                    </a:lnTo>
                    <a:close/>
                    <a:moveTo>
                      <a:pt x="0" y="3472"/>
                    </a:moveTo>
                    <a:lnTo>
                      <a:pt x="46" y="3555"/>
                    </a:lnTo>
                    <a:lnTo>
                      <a:pt x="95" y="3636"/>
                    </a:lnTo>
                    <a:lnTo>
                      <a:pt x="144" y="3718"/>
                    </a:lnTo>
                    <a:lnTo>
                      <a:pt x="196" y="3797"/>
                    </a:lnTo>
                    <a:lnTo>
                      <a:pt x="249" y="3876"/>
                    </a:lnTo>
                    <a:lnTo>
                      <a:pt x="303" y="3953"/>
                    </a:lnTo>
                    <a:lnTo>
                      <a:pt x="359" y="4029"/>
                    </a:lnTo>
                    <a:lnTo>
                      <a:pt x="416" y="4104"/>
                    </a:lnTo>
                    <a:lnTo>
                      <a:pt x="460" y="4104"/>
                    </a:lnTo>
                    <a:lnTo>
                      <a:pt x="538" y="4144"/>
                    </a:lnTo>
                    <a:lnTo>
                      <a:pt x="554" y="4127"/>
                    </a:lnTo>
                    <a:lnTo>
                      <a:pt x="516" y="4080"/>
                    </a:lnTo>
                    <a:lnTo>
                      <a:pt x="479" y="4032"/>
                    </a:lnTo>
                    <a:lnTo>
                      <a:pt x="443" y="3985"/>
                    </a:lnTo>
                    <a:lnTo>
                      <a:pt x="407" y="3937"/>
                    </a:lnTo>
                    <a:lnTo>
                      <a:pt x="371" y="3888"/>
                    </a:lnTo>
                    <a:lnTo>
                      <a:pt x="337" y="3840"/>
                    </a:lnTo>
                    <a:lnTo>
                      <a:pt x="303" y="3790"/>
                    </a:lnTo>
                    <a:lnTo>
                      <a:pt x="270" y="3741"/>
                    </a:lnTo>
                    <a:lnTo>
                      <a:pt x="238" y="3690"/>
                    </a:lnTo>
                    <a:lnTo>
                      <a:pt x="205" y="3639"/>
                    </a:lnTo>
                    <a:lnTo>
                      <a:pt x="174" y="3588"/>
                    </a:lnTo>
                    <a:lnTo>
                      <a:pt x="143" y="3536"/>
                    </a:lnTo>
                    <a:lnTo>
                      <a:pt x="113" y="3484"/>
                    </a:lnTo>
                    <a:lnTo>
                      <a:pt x="84" y="3432"/>
                    </a:lnTo>
                    <a:lnTo>
                      <a:pt x="55" y="3379"/>
                    </a:lnTo>
                    <a:lnTo>
                      <a:pt x="28" y="3325"/>
                    </a:lnTo>
                    <a:lnTo>
                      <a:pt x="0" y="3380"/>
                    </a:lnTo>
                    <a:lnTo>
                      <a:pt x="0" y="347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30360" y="3973680"/>
                <a:ext cx="2370240" cy="1147680"/>
              </a:xfrm>
              <a:custGeom>
                <a:avLst/>
                <a:gdLst/>
                <a:ahLst/>
                <a:rect l="l" t="t" r="r" b="b"/>
                <a:pathLst>
                  <a:path w="8961" h="4341">
                    <a:moveTo>
                      <a:pt x="8961" y="1132"/>
                    </a:moveTo>
                    <a:lnTo>
                      <a:pt x="8961" y="1058"/>
                    </a:lnTo>
                    <a:lnTo>
                      <a:pt x="8959" y="986"/>
                    </a:lnTo>
                    <a:lnTo>
                      <a:pt x="8956" y="914"/>
                    </a:lnTo>
                    <a:lnTo>
                      <a:pt x="8953" y="842"/>
                    </a:lnTo>
                    <a:lnTo>
                      <a:pt x="8947" y="770"/>
                    </a:lnTo>
                    <a:lnTo>
                      <a:pt x="8941" y="698"/>
                    </a:lnTo>
                    <a:lnTo>
                      <a:pt x="8935" y="627"/>
                    </a:lnTo>
                    <a:lnTo>
                      <a:pt x="8926" y="556"/>
                    </a:lnTo>
                    <a:lnTo>
                      <a:pt x="8917" y="485"/>
                    </a:lnTo>
                    <a:lnTo>
                      <a:pt x="8907" y="415"/>
                    </a:lnTo>
                    <a:lnTo>
                      <a:pt x="8896" y="345"/>
                    </a:lnTo>
                    <a:lnTo>
                      <a:pt x="8884" y="276"/>
                    </a:lnTo>
                    <a:lnTo>
                      <a:pt x="8871" y="206"/>
                    </a:lnTo>
                    <a:lnTo>
                      <a:pt x="8856" y="137"/>
                    </a:lnTo>
                    <a:lnTo>
                      <a:pt x="8841" y="68"/>
                    </a:lnTo>
                    <a:lnTo>
                      <a:pt x="8825" y="0"/>
                    </a:lnTo>
                    <a:lnTo>
                      <a:pt x="8771" y="54"/>
                    </a:lnTo>
                    <a:lnTo>
                      <a:pt x="8745" y="68"/>
                    </a:lnTo>
                    <a:lnTo>
                      <a:pt x="8760" y="132"/>
                    </a:lnTo>
                    <a:lnTo>
                      <a:pt x="8774" y="197"/>
                    </a:lnTo>
                    <a:lnTo>
                      <a:pt x="8787" y="262"/>
                    </a:lnTo>
                    <a:lnTo>
                      <a:pt x="8798" y="326"/>
                    </a:lnTo>
                    <a:lnTo>
                      <a:pt x="8810" y="392"/>
                    </a:lnTo>
                    <a:lnTo>
                      <a:pt x="8819" y="458"/>
                    </a:lnTo>
                    <a:lnTo>
                      <a:pt x="8828" y="525"/>
                    </a:lnTo>
                    <a:lnTo>
                      <a:pt x="8836" y="590"/>
                    </a:lnTo>
                    <a:lnTo>
                      <a:pt x="8845" y="657"/>
                    </a:lnTo>
                    <a:lnTo>
                      <a:pt x="8850" y="724"/>
                    </a:lnTo>
                    <a:lnTo>
                      <a:pt x="8856" y="792"/>
                    </a:lnTo>
                    <a:lnTo>
                      <a:pt x="8861" y="859"/>
                    </a:lnTo>
                    <a:lnTo>
                      <a:pt x="8864" y="927"/>
                    </a:lnTo>
                    <a:lnTo>
                      <a:pt x="8866" y="995"/>
                    </a:lnTo>
                    <a:lnTo>
                      <a:pt x="8868" y="1063"/>
                    </a:lnTo>
                    <a:lnTo>
                      <a:pt x="8868" y="1132"/>
                    </a:lnTo>
                    <a:lnTo>
                      <a:pt x="8866" y="1249"/>
                    </a:lnTo>
                    <a:lnTo>
                      <a:pt x="8863" y="1364"/>
                    </a:lnTo>
                    <a:lnTo>
                      <a:pt x="8855" y="1479"/>
                    </a:lnTo>
                    <a:lnTo>
                      <a:pt x="8846" y="1593"/>
                    </a:lnTo>
                    <a:lnTo>
                      <a:pt x="8833" y="1706"/>
                    </a:lnTo>
                    <a:lnTo>
                      <a:pt x="8818" y="1819"/>
                    </a:lnTo>
                    <a:lnTo>
                      <a:pt x="8800" y="1930"/>
                    </a:lnTo>
                    <a:lnTo>
                      <a:pt x="8780" y="2040"/>
                    </a:lnTo>
                    <a:lnTo>
                      <a:pt x="8756" y="2151"/>
                    </a:lnTo>
                    <a:lnTo>
                      <a:pt x="8730" y="2260"/>
                    </a:lnTo>
                    <a:lnTo>
                      <a:pt x="8703" y="2367"/>
                    </a:lnTo>
                    <a:lnTo>
                      <a:pt x="8672" y="2474"/>
                    </a:lnTo>
                    <a:lnTo>
                      <a:pt x="8638" y="2580"/>
                    </a:lnTo>
                    <a:lnTo>
                      <a:pt x="8604" y="2685"/>
                    </a:lnTo>
                    <a:lnTo>
                      <a:pt x="8565" y="2787"/>
                    </a:lnTo>
                    <a:lnTo>
                      <a:pt x="8525" y="2890"/>
                    </a:lnTo>
                    <a:lnTo>
                      <a:pt x="8482" y="2992"/>
                    </a:lnTo>
                    <a:lnTo>
                      <a:pt x="8437" y="3091"/>
                    </a:lnTo>
                    <a:lnTo>
                      <a:pt x="8390" y="3190"/>
                    </a:lnTo>
                    <a:lnTo>
                      <a:pt x="8341" y="3287"/>
                    </a:lnTo>
                    <a:lnTo>
                      <a:pt x="8289" y="3383"/>
                    </a:lnTo>
                    <a:lnTo>
                      <a:pt x="8234" y="3478"/>
                    </a:lnTo>
                    <a:lnTo>
                      <a:pt x="8179" y="3571"/>
                    </a:lnTo>
                    <a:lnTo>
                      <a:pt x="8120" y="3662"/>
                    </a:lnTo>
                    <a:lnTo>
                      <a:pt x="8060" y="3753"/>
                    </a:lnTo>
                    <a:lnTo>
                      <a:pt x="7998" y="3842"/>
                    </a:lnTo>
                    <a:lnTo>
                      <a:pt x="7935" y="3930"/>
                    </a:lnTo>
                    <a:lnTo>
                      <a:pt x="7869" y="4015"/>
                    </a:lnTo>
                    <a:lnTo>
                      <a:pt x="7800" y="4099"/>
                    </a:lnTo>
                    <a:lnTo>
                      <a:pt x="7730" y="4182"/>
                    </a:lnTo>
                    <a:lnTo>
                      <a:pt x="7659" y="4263"/>
                    </a:lnTo>
                    <a:lnTo>
                      <a:pt x="7585" y="4341"/>
                    </a:lnTo>
                    <a:lnTo>
                      <a:pt x="7737" y="4306"/>
                    </a:lnTo>
                    <a:lnTo>
                      <a:pt x="7748" y="4303"/>
                    </a:lnTo>
                    <a:lnTo>
                      <a:pt x="7817" y="4224"/>
                    </a:lnTo>
                    <a:lnTo>
                      <a:pt x="7886" y="4142"/>
                    </a:lnTo>
                    <a:lnTo>
                      <a:pt x="7952" y="4059"/>
                    </a:lnTo>
                    <a:lnTo>
                      <a:pt x="8016" y="3975"/>
                    </a:lnTo>
                    <a:lnTo>
                      <a:pt x="8079" y="3889"/>
                    </a:lnTo>
                    <a:lnTo>
                      <a:pt x="8140" y="3802"/>
                    </a:lnTo>
                    <a:lnTo>
                      <a:pt x="8199" y="3714"/>
                    </a:lnTo>
                    <a:lnTo>
                      <a:pt x="8255" y="3624"/>
                    </a:lnTo>
                    <a:lnTo>
                      <a:pt x="8311" y="3533"/>
                    </a:lnTo>
                    <a:lnTo>
                      <a:pt x="8364" y="3440"/>
                    </a:lnTo>
                    <a:lnTo>
                      <a:pt x="8414" y="3347"/>
                    </a:lnTo>
                    <a:lnTo>
                      <a:pt x="8463" y="3251"/>
                    </a:lnTo>
                    <a:lnTo>
                      <a:pt x="8510" y="3155"/>
                    </a:lnTo>
                    <a:lnTo>
                      <a:pt x="8555" y="3057"/>
                    </a:lnTo>
                    <a:lnTo>
                      <a:pt x="8597" y="2959"/>
                    </a:lnTo>
                    <a:lnTo>
                      <a:pt x="8637" y="2859"/>
                    </a:lnTo>
                    <a:lnTo>
                      <a:pt x="8675" y="2759"/>
                    </a:lnTo>
                    <a:lnTo>
                      <a:pt x="8712" y="2656"/>
                    </a:lnTo>
                    <a:lnTo>
                      <a:pt x="8745" y="2553"/>
                    </a:lnTo>
                    <a:lnTo>
                      <a:pt x="8777" y="2449"/>
                    </a:lnTo>
                    <a:lnTo>
                      <a:pt x="8805" y="2344"/>
                    </a:lnTo>
                    <a:lnTo>
                      <a:pt x="8832" y="2238"/>
                    </a:lnTo>
                    <a:lnTo>
                      <a:pt x="8856" y="2132"/>
                    </a:lnTo>
                    <a:lnTo>
                      <a:pt x="8878" y="2023"/>
                    </a:lnTo>
                    <a:lnTo>
                      <a:pt x="8898" y="1915"/>
                    </a:lnTo>
                    <a:lnTo>
                      <a:pt x="8914" y="1805"/>
                    </a:lnTo>
                    <a:lnTo>
                      <a:pt x="8929" y="1695"/>
                    </a:lnTo>
                    <a:lnTo>
                      <a:pt x="8940" y="1584"/>
                    </a:lnTo>
                    <a:lnTo>
                      <a:pt x="8950" y="1472"/>
                    </a:lnTo>
                    <a:lnTo>
                      <a:pt x="8956" y="1359"/>
                    </a:lnTo>
                    <a:lnTo>
                      <a:pt x="8960" y="1246"/>
                    </a:lnTo>
                    <a:lnTo>
                      <a:pt x="8961" y="1132"/>
                    </a:lnTo>
                    <a:close/>
                    <a:moveTo>
                      <a:pt x="0" y="3347"/>
                    </a:moveTo>
                    <a:lnTo>
                      <a:pt x="27" y="3396"/>
                    </a:lnTo>
                    <a:lnTo>
                      <a:pt x="53" y="3445"/>
                    </a:lnTo>
                    <a:lnTo>
                      <a:pt x="81" y="3493"/>
                    </a:lnTo>
                    <a:lnTo>
                      <a:pt x="109" y="3540"/>
                    </a:lnTo>
                    <a:lnTo>
                      <a:pt x="137" y="3589"/>
                    </a:lnTo>
                    <a:lnTo>
                      <a:pt x="166" y="3636"/>
                    </a:lnTo>
                    <a:lnTo>
                      <a:pt x="196" y="3683"/>
                    </a:lnTo>
                    <a:lnTo>
                      <a:pt x="226" y="3729"/>
                    </a:lnTo>
                    <a:lnTo>
                      <a:pt x="256" y="3775"/>
                    </a:lnTo>
                    <a:lnTo>
                      <a:pt x="287" y="3821"/>
                    </a:lnTo>
                    <a:lnTo>
                      <a:pt x="320" y="3866"/>
                    </a:lnTo>
                    <a:lnTo>
                      <a:pt x="352" y="3911"/>
                    </a:lnTo>
                    <a:lnTo>
                      <a:pt x="384" y="3956"/>
                    </a:lnTo>
                    <a:lnTo>
                      <a:pt x="418" y="4000"/>
                    </a:lnTo>
                    <a:lnTo>
                      <a:pt x="451" y="4044"/>
                    </a:lnTo>
                    <a:lnTo>
                      <a:pt x="486" y="4088"/>
                    </a:lnTo>
                    <a:lnTo>
                      <a:pt x="537" y="4114"/>
                    </a:lnTo>
                    <a:lnTo>
                      <a:pt x="573" y="4074"/>
                    </a:lnTo>
                    <a:lnTo>
                      <a:pt x="594" y="4074"/>
                    </a:lnTo>
                    <a:lnTo>
                      <a:pt x="555" y="4026"/>
                    </a:lnTo>
                    <a:lnTo>
                      <a:pt x="517" y="3977"/>
                    </a:lnTo>
                    <a:lnTo>
                      <a:pt x="479" y="3928"/>
                    </a:lnTo>
                    <a:lnTo>
                      <a:pt x="442" y="3878"/>
                    </a:lnTo>
                    <a:lnTo>
                      <a:pt x="406" y="3828"/>
                    </a:lnTo>
                    <a:lnTo>
                      <a:pt x="370" y="3778"/>
                    </a:lnTo>
                    <a:lnTo>
                      <a:pt x="336" y="3726"/>
                    </a:lnTo>
                    <a:lnTo>
                      <a:pt x="301" y="3674"/>
                    </a:lnTo>
                    <a:lnTo>
                      <a:pt x="268" y="3622"/>
                    </a:lnTo>
                    <a:lnTo>
                      <a:pt x="234" y="3569"/>
                    </a:lnTo>
                    <a:lnTo>
                      <a:pt x="202" y="3516"/>
                    </a:lnTo>
                    <a:lnTo>
                      <a:pt x="171" y="3463"/>
                    </a:lnTo>
                    <a:lnTo>
                      <a:pt x="140" y="3409"/>
                    </a:lnTo>
                    <a:lnTo>
                      <a:pt x="110" y="3355"/>
                    </a:lnTo>
                    <a:lnTo>
                      <a:pt x="81" y="3299"/>
                    </a:lnTo>
                    <a:lnTo>
                      <a:pt x="52" y="3244"/>
                    </a:lnTo>
                    <a:lnTo>
                      <a:pt x="0" y="334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36840" y="3983040"/>
                <a:ext cx="2351160" cy="1155600"/>
              </a:xfrm>
              <a:custGeom>
                <a:avLst/>
                <a:gdLst/>
                <a:ahLst/>
                <a:rect l="l" t="t" r="r" b="b"/>
                <a:pathLst>
                  <a:path w="8888" h="4367">
                    <a:moveTo>
                      <a:pt x="8888" y="1094"/>
                    </a:moveTo>
                    <a:lnTo>
                      <a:pt x="8887" y="1024"/>
                    </a:lnTo>
                    <a:lnTo>
                      <a:pt x="8886" y="953"/>
                    </a:lnTo>
                    <a:lnTo>
                      <a:pt x="8883" y="883"/>
                    </a:lnTo>
                    <a:lnTo>
                      <a:pt x="8880" y="814"/>
                    </a:lnTo>
                    <a:lnTo>
                      <a:pt x="8875" y="745"/>
                    </a:lnTo>
                    <a:lnTo>
                      <a:pt x="8869" y="676"/>
                    </a:lnTo>
                    <a:lnTo>
                      <a:pt x="8863" y="607"/>
                    </a:lnTo>
                    <a:lnTo>
                      <a:pt x="8856" y="537"/>
                    </a:lnTo>
                    <a:lnTo>
                      <a:pt x="8846" y="469"/>
                    </a:lnTo>
                    <a:lnTo>
                      <a:pt x="8837" y="401"/>
                    </a:lnTo>
                    <a:lnTo>
                      <a:pt x="8827" y="334"/>
                    </a:lnTo>
                    <a:lnTo>
                      <a:pt x="8815" y="266"/>
                    </a:lnTo>
                    <a:lnTo>
                      <a:pt x="8803" y="200"/>
                    </a:lnTo>
                    <a:lnTo>
                      <a:pt x="8789" y="133"/>
                    </a:lnTo>
                    <a:lnTo>
                      <a:pt x="8775" y="67"/>
                    </a:lnTo>
                    <a:lnTo>
                      <a:pt x="8760" y="0"/>
                    </a:lnTo>
                    <a:lnTo>
                      <a:pt x="8744" y="16"/>
                    </a:lnTo>
                    <a:lnTo>
                      <a:pt x="8677" y="52"/>
                    </a:lnTo>
                    <a:lnTo>
                      <a:pt x="8691" y="115"/>
                    </a:lnTo>
                    <a:lnTo>
                      <a:pt x="8703" y="179"/>
                    </a:lnTo>
                    <a:lnTo>
                      <a:pt x="8716" y="242"/>
                    </a:lnTo>
                    <a:lnTo>
                      <a:pt x="8728" y="306"/>
                    </a:lnTo>
                    <a:lnTo>
                      <a:pt x="8738" y="370"/>
                    </a:lnTo>
                    <a:lnTo>
                      <a:pt x="8747" y="435"/>
                    </a:lnTo>
                    <a:lnTo>
                      <a:pt x="8756" y="499"/>
                    </a:lnTo>
                    <a:lnTo>
                      <a:pt x="8765" y="564"/>
                    </a:lnTo>
                    <a:lnTo>
                      <a:pt x="8771" y="630"/>
                    </a:lnTo>
                    <a:lnTo>
                      <a:pt x="8777" y="695"/>
                    </a:lnTo>
                    <a:lnTo>
                      <a:pt x="8783" y="761"/>
                    </a:lnTo>
                    <a:lnTo>
                      <a:pt x="8786" y="827"/>
                    </a:lnTo>
                    <a:lnTo>
                      <a:pt x="8790" y="894"/>
                    </a:lnTo>
                    <a:lnTo>
                      <a:pt x="8792" y="960"/>
                    </a:lnTo>
                    <a:lnTo>
                      <a:pt x="8794" y="1027"/>
                    </a:lnTo>
                    <a:lnTo>
                      <a:pt x="8794" y="1094"/>
                    </a:lnTo>
                    <a:lnTo>
                      <a:pt x="8793" y="1214"/>
                    </a:lnTo>
                    <a:lnTo>
                      <a:pt x="8789" y="1333"/>
                    </a:lnTo>
                    <a:lnTo>
                      <a:pt x="8781" y="1450"/>
                    </a:lnTo>
                    <a:lnTo>
                      <a:pt x="8770" y="1568"/>
                    </a:lnTo>
                    <a:lnTo>
                      <a:pt x="8756" y="1684"/>
                    </a:lnTo>
                    <a:lnTo>
                      <a:pt x="8740" y="1800"/>
                    </a:lnTo>
                    <a:lnTo>
                      <a:pt x="8722" y="1914"/>
                    </a:lnTo>
                    <a:lnTo>
                      <a:pt x="8700" y="2028"/>
                    </a:lnTo>
                    <a:lnTo>
                      <a:pt x="8675" y="2141"/>
                    </a:lnTo>
                    <a:lnTo>
                      <a:pt x="8648" y="2251"/>
                    </a:lnTo>
                    <a:lnTo>
                      <a:pt x="8618" y="2362"/>
                    </a:lnTo>
                    <a:lnTo>
                      <a:pt x="8585" y="2472"/>
                    </a:lnTo>
                    <a:lnTo>
                      <a:pt x="8550" y="2580"/>
                    </a:lnTo>
                    <a:lnTo>
                      <a:pt x="8512" y="2687"/>
                    </a:lnTo>
                    <a:lnTo>
                      <a:pt x="8472" y="2792"/>
                    </a:lnTo>
                    <a:lnTo>
                      <a:pt x="8429" y="2897"/>
                    </a:lnTo>
                    <a:lnTo>
                      <a:pt x="8383" y="3000"/>
                    </a:lnTo>
                    <a:lnTo>
                      <a:pt x="8335" y="3102"/>
                    </a:lnTo>
                    <a:lnTo>
                      <a:pt x="8285" y="3202"/>
                    </a:lnTo>
                    <a:lnTo>
                      <a:pt x="8232" y="3302"/>
                    </a:lnTo>
                    <a:lnTo>
                      <a:pt x="8177" y="3400"/>
                    </a:lnTo>
                    <a:lnTo>
                      <a:pt x="8120" y="3495"/>
                    </a:lnTo>
                    <a:lnTo>
                      <a:pt x="8061" y="3590"/>
                    </a:lnTo>
                    <a:lnTo>
                      <a:pt x="7999" y="3683"/>
                    </a:lnTo>
                    <a:lnTo>
                      <a:pt x="7935" y="3774"/>
                    </a:lnTo>
                    <a:lnTo>
                      <a:pt x="7869" y="3864"/>
                    </a:lnTo>
                    <a:lnTo>
                      <a:pt x="7801" y="3953"/>
                    </a:lnTo>
                    <a:lnTo>
                      <a:pt x="7731" y="4039"/>
                    </a:lnTo>
                    <a:lnTo>
                      <a:pt x="7658" y="4124"/>
                    </a:lnTo>
                    <a:lnTo>
                      <a:pt x="7585" y="4207"/>
                    </a:lnTo>
                    <a:lnTo>
                      <a:pt x="7508" y="4287"/>
                    </a:lnTo>
                    <a:lnTo>
                      <a:pt x="7431" y="4367"/>
                    </a:lnTo>
                    <a:lnTo>
                      <a:pt x="7556" y="4305"/>
                    </a:lnTo>
                    <a:lnTo>
                      <a:pt x="7640" y="4285"/>
                    </a:lnTo>
                    <a:lnTo>
                      <a:pt x="7711" y="4205"/>
                    </a:lnTo>
                    <a:lnTo>
                      <a:pt x="7782" y="4124"/>
                    </a:lnTo>
                    <a:lnTo>
                      <a:pt x="7850" y="4042"/>
                    </a:lnTo>
                    <a:lnTo>
                      <a:pt x="7916" y="3958"/>
                    </a:lnTo>
                    <a:lnTo>
                      <a:pt x="7980" y="3871"/>
                    </a:lnTo>
                    <a:lnTo>
                      <a:pt x="8042" y="3785"/>
                    </a:lnTo>
                    <a:lnTo>
                      <a:pt x="8102" y="3696"/>
                    </a:lnTo>
                    <a:lnTo>
                      <a:pt x="8161" y="3605"/>
                    </a:lnTo>
                    <a:lnTo>
                      <a:pt x="8218" y="3514"/>
                    </a:lnTo>
                    <a:lnTo>
                      <a:pt x="8272" y="3420"/>
                    </a:lnTo>
                    <a:lnTo>
                      <a:pt x="8325" y="3327"/>
                    </a:lnTo>
                    <a:lnTo>
                      <a:pt x="8375" y="3231"/>
                    </a:lnTo>
                    <a:lnTo>
                      <a:pt x="8423" y="3134"/>
                    </a:lnTo>
                    <a:lnTo>
                      <a:pt x="8469" y="3037"/>
                    </a:lnTo>
                    <a:lnTo>
                      <a:pt x="8513" y="2937"/>
                    </a:lnTo>
                    <a:lnTo>
                      <a:pt x="8555" y="2836"/>
                    </a:lnTo>
                    <a:lnTo>
                      <a:pt x="8594" y="2734"/>
                    </a:lnTo>
                    <a:lnTo>
                      <a:pt x="8631" y="2632"/>
                    </a:lnTo>
                    <a:lnTo>
                      <a:pt x="8665" y="2528"/>
                    </a:lnTo>
                    <a:lnTo>
                      <a:pt x="8698" y="2423"/>
                    </a:lnTo>
                    <a:lnTo>
                      <a:pt x="8726" y="2317"/>
                    </a:lnTo>
                    <a:lnTo>
                      <a:pt x="8754" y="2211"/>
                    </a:lnTo>
                    <a:lnTo>
                      <a:pt x="8780" y="2103"/>
                    </a:lnTo>
                    <a:lnTo>
                      <a:pt x="8801" y="1994"/>
                    </a:lnTo>
                    <a:lnTo>
                      <a:pt x="8821" y="1884"/>
                    </a:lnTo>
                    <a:lnTo>
                      <a:pt x="8839" y="1773"/>
                    </a:lnTo>
                    <a:lnTo>
                      <a:pt x="8853" y="1662"/>
                    </a:lnTo>
                    <a:lnTo>
                      <a:pt x="8866" y="1551"/>
                    </a:lnTo>
                    <a:lnTo>
                      <a:pt x="8875" y="1438"/>
                    </a:lnTo>
                    <a:lnTo>
                      <a:pt x="8882" y="1324"/>
                    </a:lnTo>
                    <a:lnTo>
                      <a:pt x="8887" y="1209"/>
                    </a:lnTo>
                    <a:lnTo>
                      <a:pt x="8888" y="1094"/>
                    </a:lnTo>
                    <a:close/>
                    <a:moveTo>
                      <a:pt x="0" y="3257"/>
                    </a:moveTo>
                    <a:lnTo>
                      <a:pt x="27" y="3311"/>
                    </a:lnTo>
                    <a:lnTo>
                      <a:pt x="56" y="3364"/>
                    </a:lnTo>
                    <a:lnTo>
                      <a:pt x="85" y="3416"/>
                    </a:lnTo>
                    <a:lnTo>
                      <a:pt x="115" y="3468"/>
                    </a:lnTo>
                    <a:lnTo>
                      <a:pt x="146" y="3520"/>
                    </a:lnTo>
                    <a:lnTo>
                      <a:pt x="177" y="3571"/>
                    </a:lnTo>
                    <a:lnTo>
                      <a:pt x="210" y="3622"/>
                    </a:lnTo>
                    <a:lnTo>
                      <a:pt x="242" y="3673"/>
                    </a:lnTo>
                    <a:lnTo>
                      <a:pt x="275" y="3722"/>
                    </a:lnTo>
                    <a:lnTo>
                      <a:pt x="309" y="3772"/>
                    </a:lnTo>
                    <a:lnTo>
                      <a:pt x="343" y="3820"/>
                    </a:lnTo>
                    <a:lnTo>
                      <a:pt x="379" y="3869"/>
                    </a:lnTo>
                    <a:lnTo>
                      <a:pt x="415" y="3917"/>
                    </a:lnTo>
                    <a:lnTo>
                      <a:pt x="451" y="3964"/>
                    </a:lnTo>
                    <a:lnTo>
                      <a:pt x="488" y="4012"/>
                    </a:lnTo>
                    <a:lnTo>
                      <a:pt x="526" y="4059"/>
                    </a:lnTo>
                    <a:lnTo>
                      <a:pt x="546" y="4036"/>
                    </a:lnTo>
                    <a:lnTo>
                      <a:pt x="627" y="4036"/>
                    </a:lnTo>
                    <a:lnTo>
                      <a:pt x="586" y="3985"/>
                    </a:lnTo>
                    <a:lnTo>
                      <a:pt x="544" y="3933"/>
                    </a:lnTo>
                    <a:lnTo>
                      <a:pt x="505" y="3881"/>
                    </a:lnTo>
                    <a:lnTo>
                      <a:pt x="465" y="3828"/>
                    </a:lnTo>
                    <a:lnTo>
                      <a:pt x="427" y="3775"/>
                    </a:lnTo>
                    <a:lnTo>
                      <a:pt x="388" y="3722"/>
                    </a:lnTo>
                    <a:lnTo>
                      <a:pt x="352" y="3667"/>
                    </a:lnTo>
                    <a:lnTo>
                      <a:pt x="315" y="3613"/>
                    </a:lnTo>
                    <a:lnTo>
                      <a:pt x="279" y="3558"/>
                    </a:lnTo>
                    <a:lnTo>
                      <a:pt x="244" y="3501"/>
                    </a:lnTo>
                    <a:lnTo>
                      <a:pt x="210" y="3445"/>
                    </a:lnTo>
                    <a:lnTo>
                      <a:pt x="176" y="3387"/>
                    </a:lnTo>
                    <a:lnTo>
                      <a:pt x="144" y="3330"/>
                    </a:lnTo>
                    <a:lnTo>
                      <a:pt x="113" y="3272"/>
                    </a:lnTo>
                    <a:lnTo>
                      <a:pt x="82" y="3213"/>
                    </a:lnTo>
                    <a:lnTo>
                      <a:pt x="52" y="3154"/>
                    </a:lnTo>
                    <a:lnTo>
                      <a:pt x="49" y="3158"/>
                    </a:lnTo>
                    <a:lnTo>
                      <a:pt x="0" y="325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43320" y="3990960"/>
                <a:ext cx="2333520" cy="1155600"/>
              </a:xfrm>
              <a:custGeom>
                <a:avLst/>
                <a:gdLst/>
                <a:ahLst/>
                <a:rect l="l" t="t" r="r" b="b"/>
                <a:pathLst>
                  <a:path w="8816" h="4369">
                    <a:moveTo>
                      <a:pt x="8816" y="1064"/>
                    </a:moveTo>
                    <a:lnTo>
                      <a:pt x="8816" y="995"/>
                    </a:lnTo>
                    <a:lnTo>
                      <a:pt x="8814" y="927"/>
                    </a:lnTo>
                    <a:lnTo>
                      <a:pt x="8812" y="859"/>
                    </a:lnTo>
                    <a:lnTo>
                      <a:pt x="8809" y="791"/>
                    </a:lnTo>
                    <a:lnTo>
                      <a:pt x="8804" y="724"/>
                    </a:lnTo>
                    <a:lnTo>
                      <a:pt x="8798" y="656"/>
                    </a:lnTo>
                    <a:lnTo>
                      <a:pt x="8793" y="589"/>
                    </a:lnTo>
                    <a:lnTo>
                      <a:pt x="8784" y="522"/>
                    </a:lnTo>
                    <a:lnTo>
                      <a:pt x="8776" y="457"/>
                    </a:lnTo>
                    <a:lnTo>
                      <a:pt x="8767" y="390"/>
                    </a:lnTo>
                    <a:lnTo>
                      <a:pt x="8758" y="324"/>
                    </a:lnTo>
                    <a:lnTo>
                      <a:pt x="8746" y="258"/>
                    </a:lnTo>
                    <a:lnTo>
                      <a:pt x="8735" y="194"/>
                    </a:lnTo>
                    <a:lnTo>
                      <a:pt x="8722" y="129"/>
                    </a:lnTo>
                    <a:lnTo>
                      <a:pt x="8708" y="64"/>
                    </a:lnTo>
                    <a:lnTo>
                      <a:pt x="8693" y="0"/>
                    </a:lnTo>
                    <a:lnTo>
                      <a:pt x="8641" y="28"/>
                    </a:lnTo>
                    <a:lnTo>
                      <a:pt x="8608" y="43"/>
                    </a:lnTo>
                    <a:lnTo>
                      <a:pt x="8622" y="105"/>
                    </a:lnTo>
                    <a:lnTo>
                      <a:pt x="8635" y="167"/>
                    </a:lnTo>
                    <a:lnTo>
                      <a:pt x="8646" y="230"/>
                    </a:lnTo>
                    <a:lnTo>
                      <a:pt x="8658" y="292"/>
                    </a:lnTo>
                    <a:lnTo>
                      <a:pt x="8668" y="355"/>
                    </a:lnTo>
                    <a:lnTo>
                      <a:pt x="8677" y="417"/>
                    </a:lnTo>
                    <a:lnTo>
                      <a:pt x="8686" y="481"/>
                    </a:lnTo>
                    <a:lnTo>
                      <a:pt x="8693" y="545"/>
                    </a:lnTo>
                    <a:lnTo>
                      <a:pt x="8700" y="609"/>
                    </a:lnTo>
                    <a:lnTo>
                      <a:pt x="8706" y="673"/>
                    </a:lnTo>
                    <a:lnTo>
                      <a:pt x="8712" y="738"/>
                    </a:lnTo>
                    <a:lnTo>
                      <a:pt x="8715" y="802"/>
                    </a:lnTo>
                    <a:lnTo>
                      <a:pt x="8719" y="867"/>
                    </a:lnTo>
                    <a:lnTo>
                      <a:pt x="8721" y="933"/>
                    </a:lnTo>
                    <a:lnTo>
                      <a:pt x="8722" y="998"/>
                    </a:lnTo>
                    <a:lnTo>
                      <a:pt x="8723" y="1064"/>
                    </a:lnTo>
                    <a:lnTo>
                      <a:pt x="8721" y="1185"/>
                    </a:lnTo>
                    <a:lnTo>
                      <a:pt x="8716" y="1306"/>
                    </a:lnTo>
                    <a:lnTo>
                      <a:pt x="8708" y="1426"/>
                    </a:lnTo>
                    <a:lnTo>
                      <a:pt x="8698" y="1545"/>
                    </a:lnTo>
                    <a:lnTo>
                      <a:pt x="8684" y="1664"/>
                    </a:lnTo>
                    <a:lnTo>
                      <a:pt x="8667" y="1780"/>
                    </a:lnTo>
                    <a:lnTo>
                      <a:pt x="8647" y="1896"/>
                    </a:lnTo>
                    <a:lnTo>
                      <a:pt x="8624" y="2012"/>
                    </a:lnTo>
                    <a:lnTo>
                      <a:pt x="8599" y="2126"/>
                    </a:lnTo>
                    <a:lnTo>
                      <a:pt x="8570" y="2239"/>
                    </a:lnTo>
                    <a:lnTo>
                      <a:pt x="8539" y="2351"/>
                    </a:lnTo>
                    <a:lnTo>
                      <a:pt x="8504" y="2461"/>
                    </a:lnTo>
                    <a:lnTo>
                      <a:pt x="8468" y="2571"/>
                    </a:lnTo>
                    <a:lnTo>
                      <a:pt x="8428" y="2679"/>
                    </a:lnTo>
                    <a:lnTo>
                      <a:pt x="8387" y="2786"/>
                    </a:lnTo>
                    <a:lnTo>
                      <a:pt x="8342" y="2892"/>
                    </a:lnTo>
                    <a:lnTo>
                      <a:pt x="8294" y="2996"/>
                    </a:lnTo>
                    <a:lnTo>
                      <a:pt x="8245" y="3099"/>
                    </a:lnTo>
                    <a:lnTo>
                      <a:pt x="8193" y="3200"/>
                    </a:lnTo>
                    <a:lnTo>
                      <a:pt x="8139" y="3300"/>
                    </a:lnTo>
                    <a:lnTo>
                      <a:pt x="8081" y="3398"/>
                    </a:lnTo>
                    <a:lnTo>
                      <a:pt x="8022" y="3495"/>
                    </a:lnTo>
                    <a:lnTo>
                      <a:pt x="7960" y="3591"/>
                    </a:lnTo>
                    <a:lnTo>
                      <a:pt x="7896" y="3684"/>
                    </a:lnTo>
                    <a:lnTo>
                      <a:pt x="7829" y="3777"/>
                    </a:lnTo>
                    <a:lnTo>
                      <a:pt x="7761" y="3866"/>
                    </a:lnTo>
                    <a:lnTo>
                      <a:pt x="7691" y="3955"/>
                    </a:lnTo>
                    <a:lnTo>
                      <a:pt x="7618" y="4042"/>
                    </a:lnTo>
                    <a:lnTo>
                      <a:pt x="7543" y="4126"/>
                    </a:lnTo>
                    <a:lnTo>
                      <a:pt x="7466" y="4209"/>
                    </a:lnTo>
                    <a:lnTo>
                      <a:pt x="7388" y="4290"/>
                    </a:lnTo>
                    <a:lnTo>
                      <a:pt x="7307" y="4369"/>
                    </a:lnTo>
                    <a:lnTo>
                      <a:pt x="7376" y="4352"/>
                    </a:lnTo>
                    <a:lnTo>
                      <a:pt x="7531" y="4275"/>
                    </a:lnTo>
                    <a:lnTo>
                      <a:pt x="7533" y="4273"/>
                    </a:lnTo>
                    <a:lnTo>
                      <a:pt x="7607" y="4195"/>
                    </a:lnTo>
                    <a:lnTo>
                      <a:pt x="7678" y="4114"/>
                    </a:lnTo>
                    <a:lnTo>
                      <a:pt x="7748" y="4031"/>
                    </a:lnTo>
                    <a:lnTo>
                      <a:pt x="7817" y="3947"/>
                    </a:lnTo>
                    <a:lnTo>
                      <a:pt x="7883" y="3862"/>
                    </a:lnTo>
                    <a:lnTo>
                      <a:pt x="7946" y="3774"/>
                    </a:lnTo>
                    <a:lnTo>
                      <a:pt x="8008" y="3685"/>
                    </a:lnTo>
                    <a:lnTo>
                      <a:pt x="8068" y="3594"/>
                    </a:lnTo>
                    <a:lnTo>
                      <a:pt x="8127" y="3503"/>
                    </a:lnTo>
                    <a:lnTo>
                      <a:pt x="8182" y="3410"/>
                    </a:lnTo>
                    <a:lnTo>
                      <a:pt x="8237" y="3315"/>
                    </a:lnTo>
                    <a:lnTo>
                      <a:pt x="8289" y="3219"/>
                    </a:lnTo>
                    <a:lnTo>
                      <a:pt x="8338" y="3122"/>
                    </a:lnTo>
                    <a:lnTo>
                      <a:pt x="8385" y="3023"/>
                    </a:lnTo>
                    <a:lnTo>
                      <a:pt x="8430" y="2924"/>
                    </a:lnTo>
                    <a:lnTo>
                      <a:pt x="8473" y="2822"/>
                    </a:lnTo>
                    <a:lnTo>
                      <a:pt x="8513" y="2719"/>
                    </a:lnTo>
                    <a:lnTo>
                      <a:pt x="8552" y="2617"/>
                    </a:lnTo>
                    <a:lnTo>
                      <a:pt x="8586" y="2512"/>
                    </a:lnTo>
                    <a:lnTo>
                      <a:pt x="8620" y="2406"/>
                    </a:lnTo>
                    <a:lnTo>
                      <a:pt x="8651" y="2299"/>
                    </a:lnTo>
                    <a:lnTo>
                      <a:pt x="8678" y="2192"/>
                    </a:lnTo>
                    <a:lnTo>
                      <a:pt x="8704" y="2083"/>
                    </a:lnTo>
                    <a:lnTo>
                      <a:pt x="8728" y="1972"/>
                    </a:lnTo>
                    <a:lnTo>
                      <a:pt x="8748" y="1862"/>
                    </a:lnTo>
                    <a:lnTo>
                      <a:pt x="8766" y="1751"/>
                    </a:lnTo>
                    <a:lnTo>
                      <a:pt x="8781" y="1638"/>
                    </a:lnTo>
                    <a:lnTo>
                      <a:pt x="8794" y="1525"/>
                    </a:lnTo>
                    <a:lnTo>
                      <a:pt x="8803" y="1411"/>
                    </a:lnTo>
                    <a:lnTo>
                      <a:pt x="8811" y="1296"/>
                    </a:lnTo>
                    <a:lnTo>
                      <a:pt x="8814" y="1181"/>
                    </a:lnTo>
                    <a:lnTo>
                      <a:pt x="8816" y="1064"/>
                    </a:lnTo>
                    <a:close/>
                    <a:moveTo>
                      <a:pt x="0" y="3176"/>
                    </a:moveTo>
                    <a:lnTo>
                      <a:pt x="29" y="3231"/>
                    </a:lnTo>
                    <a:lnTo>
                      <a:pt x="58" y="3287"/>
                    </a:lnTo>
                    <a:lnTo>
                      <a:pt x="88" y="3341"/>
                    </a:lnTo>
                    <a:lnTo>
                      <a:pt x="119" y="3395"/>
                    </a:lnTo>
                    <a:lnTo>
                      <a:pt x="150" y="3448"/>
                    </a:lnTo>
                    <a:lnTo>
                      <a:pt x="182" y="3501"/>
                    </a:lnTo>
                    <a:lnTo>
                      <a:pt x="216" y="3554"/>
                    </a:lnTo>
                    <a:lnTo>
                      <a:pt x="249" y="3606"/>
                    </a:lnTo>
                    <a:lnTo>
                      <a:pt x="284" y="3658"/>
                    </a:lnTo>
                    <a:lnTo>
                      <a:pt x="318" y="3710"/>
                    </a:lnTo>
                    <a:lnTo>
                      <a:pt x="354" y="3760"/>
                    </a:lnTo>
                    <a:lnTo>
                      <a:pt x="390" y="3810"/>
                    </a:lnTo>
                    <a:lnTo>
                      <a:pt x="427" y="3860"/>
                    </a:lnTo>
                    <a:lnTo>
                      <a:pt x="465" y="3909"/>
                    </a:lnTo>
                    <a:lnTo>
                      <a:pt x="503" y="3958"/>
                    </a:lnTo>
                    <a:lnTo>
                      <a:pt x="542" y="4006"/>
                    </a:lnTo>
                    <a:lnTo>
                      <a:pt x="636" y="4006"/>
                    </a:lnTo>
                    <a:lnTo>
                      <a:pt x="663" y="4006"/>
                    </a:lnTo>
                    <a:lnTo>
                      <a:pt x="619" y="3953"/>
                    </a:lnTo>
                    <a:lnTo>
                      <a:pt x="576" y="3899"/>
                    </a:lnTo>
                    <a:lnTo>
                      <a:pt x="533" y="3845"/>
                    </a:lnTo>
                    <a:lnTo>
                      <a:pt x="491" y="3789"/>
                    </a:lnTo>
                    <a:lnTo>
                      <a:pt x="450" y="3734"/>
                    </a:lnTo>
                    <a:lnTo>
                      <a:pt x="410" y="3677"/>
                    </a:lnTo>
                    <a:lnTo>
                      <a:pt x="370" y="3620"/>
                    </a:lnTo>
                    <a:lnTo>
                      <a:pt x="332" y="3562"/>
                    </a:lnTo>
                    <a:lnTo>
                      <a:pt x="294" y="3504"/>
                    </a:lnTo>
                    <a:lnTo>
                      <a:pt x="258" y="3446"/>
                    </a:lnTo>
                    <a:lnTo>
                      <a:pt x="222" y="3386"/>
                    </a:lnTo>
                    <a:lnTo>
                      <a:pt x="187" y="3326"/>
                    </a:lnTo>
                    <a:lnTo>
                      <a:pt x="154" y="3265"/>
                    </a:lnTo>
                    <a:lnTo>
                      <a:pt x="120" y="3204"/>
                    </a:lnTo>
                    <a:lnTo>
                      <a:pt x="88" y="3143"/>
                    </a:lnTo>
                    <a:lnTo>
                      <a:pt x="57" y="3080"/>
                    </a:lnTo>
                    <a:lnTo>
                      <a:pt x="24" y="3128"/>
                    </a:lnTo>
                    <a:lnTo>
                      <a:pt x="0" y="317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51240" y="3997440"/>
                <a:ext cx="2313000" cy="1155600"/>
              </a:xfrm>
              <a:custGeom>
                <a:avLst/>
                <a:gdLst/>
                <a:ahLst/>
                <a:rect l="l" t="t" r="r" b="b"/>
                <a:pathLst>
                  <a:path w="8742" h="4369">
                    <a:moveTo>
                      <a:pt x="8742" y="1042"/>
                    </a:moveTo>
                    <a:lnTo>
                      <a:pt x="8742" y="975"/>
                    </a:lnTo>
                    <a:lnTo>
                      <a:pt x="8740" y="908"/>
                    </a:lnTo>
                    <a:lnTo>
                      <a:pt x="8738" y="842"/>
                    </a:lnTo>
                    <a:lnTo>
                      <a:pt x="8734" y="775"/>
                    </a:lnTo>
                    <a:lnTo>
                      <a:pt x="8731" y="709"/>
                    </a:lnTo>
                    <a:lnTo>
                      <a:pt x="8725" y="643"/>
                    </a:lnTo>
                    <a:lnTo>
                      <a:pt x="8719" y="578"/>
                    </a:lnTo>
                    <a:lnTo>
                      <a:pt x="8713" y="512"/>
                    </a:lnTo>
                    <a:lnTo>
                      <a:pt x="8704" y="447"/>
                    </a:lnTo>
                    <a:lnTo>
                      <a:pt x="8695" y="383"/>
                    </a:lnTo>
                    <a:lnTo>
                      <a:pt x="8686" y="318"/>
                    </a:lnTo>
                    <a:lnTo>
                      <a:pt x="8676" y="254"/>
                    </a:lnTo>
                    <a:lnTo>
                      <a:pt x="8664" y="190"/>
                    </a:lnTo>
                    <a:lnTo>
                      <a:pt x="8651" y="127"/>
                    </a:lnTo>
                    <a:lnTo>
                      <a:pt x="8639" y="63"/>
                    </a:lnTo>
                    <a:lnTo>
                      <a:pt x="8625" y="0"/>
                    </a:lnTo>
                    <a:lnTo>
                      <a:pt x="8614" y="6"/>
                    </a:lnTo>
                    <a:lnTo>
                      <a:pt x="8538" y="42"/>
                    </a:lnTo>
                    <a:lnTo>
                      <a:pt x="8551" y="103"/>
                    </a:lnTo>
                    <a:lnTo>
                      <a:pt x="8564" y="163"/>
                    </a:lnTo>
                    <a:lnTo>
                      <a:pt x="8575" y="224"/>
                    </a:lnTo>
                    <a:lnTo>
                      <a:pt x="8586" y="285"/>
                    </a:lnTo>
                    <a:lnTo>
                      <a:pt x="8596" y="347"/>
                    </a:lnTo>
                    <a:lnTo>
                      <a:pt x="8605" y="409"/>
                    </a:lnTo>
                    <a:lnTo>
                      <a:pt x="8613" y="472"/>
                    </a:lnTo>
                    <a:lnTo>
                      <a:pt x="8621" y="534"/>
                    </a:lnTo>
                    <a:lnTo>
                      <a:pt x="8627" y="596"/>
                    </a:lnTo>
                    <a:lnTo>
                      <a:pt x="8633" y="659"/>
                    </a:lnTo>
                    <a:lnTo>
                      <a:pt x="8639" y="723"/>
                    </a:lnTo>
                    <a:lnTo>
                      <a:pt x="8642" y="786"/>
                    </a:lnTo>
                    <a:lnTo>
                      <a:pt x="8646" y="850"/>
                    </a:lnTo>
                    <a:lnTo>
                      <a:pt x="8648" y="913"/>
                    </a:lnTo>
                    <a:lnTo>
                      <a:pt x="8649" y="978"/>
                    </a:lnTo>
                    <a:lnTo>
                      <a:pt x="8649" y="1042"/>
                    </a:lnTo>
                    <a:lnTo>
                      <a:pt x="8648" y="1165"/>
                    </a:lnTo>
                    <a:lnTo>
                      <a:pt x="8643" y="1287"/>
                    </a:lnTo>
                    <a:lnTo>
                      <a:pt x="8634" y="1409"/>
                    </a:lnTo>
                    <a:lnTo>
                      <a:pt x="8624" y="1529"/>
                    </a:lnTo>
                    <a:lnTo>
                      <a:pt x="8609" y="1648"/>
                    </a:lnTo>
                    <a:lnTo>
                      <a:pt x="8591" y="1767"/>
                    </a:lnTo>
                    <a:lnTo>
                      <a:pt x="8571" y="1885"/>
                    </a:lnTo>
                    <a:lnTo>
                      <a:pt x="8548" y="2001"/>
                    </a:lnTo>
                    <a:lnTo>
                      <a:pt x="8521" y="2116"/>
                    </a:lnTo>
                    <a:lnTo>
                      <a:pt x="8491" y="2231"/>
                    </a:lnTo>
                    <a:lnTo>
                      <a:pt x="8459" y="2344"/>
                    </a:lnTo>
                    <a:lnTo>
                      <a:pt x="8424" y="2455"/>
                    </a:lnTo>
                    <a:lnTo>
                      <a:pt x="8386" y="2566"/>
                    </a:lnTo>
                    <a:lnTo>
                      <a:pt x="8345" y="2674"/>
                    </a:lnTo>
                    <a:lnTo>
                      <a:pt x="8302" y="2783"/>
                    </a:lnTo>
                    <a:lnTo>
                      <a:pt x="8256" y="2889"/>
                    </a:lnTo>
                    <a:lnTo>
                      <a:pt x="8206" y="2994"/>
                    </a:lnTo>
                    <a:lnTo>
                      <a:pt x="8155" y="3097"/>
                    </a:lnTo>
                    <a:lnTo>
                      <a:pt x="8101" y="3200"/>
                    </a:lnTo>
                    <a:lnTo>
                      <a:pt x="8045" y="3300"/>
                    </a:lnTo>
                    <a:lnTo>
                      <a:pt x="7986" y="3399"/>
                    </a:lnTo>
                    <a:lnTo>
                      <a:pt x="7925" y="3496"/>
                    </a:lnTo>
                    <a:lnTo>
                      <a:pt x="7861" y="3592"/>
                    </a:lnTo>
                    <a:lnTo>
                      <a:pt x="7796" y="3685"/>
                    </a:lnTo>
                    <a:lnTo>
                      <a:pt x="7726" y="3778"/>
                    </a:lnTo>
                    <a:lnTo>
                      <a:pt x="7656" y="3868"/>
                    </a:lnTo>
                    <a:lnTo>
                      <a:pt x="7583" y="3956"/>
                    </a:lnTo>
                    <a:lnTo>
                      <a:pt x="7508" y="4043"/>
                    </a:lnTo>
                    <a:lnTo>
                      <a:pt x="7431" y="4127"/>
                    </a:lnTo>
                    <a:lnTo>
                      <a:pt x="7351" y="4210"/>
                    </a:lnTo>
                    <a:lnTo>
                      <a:pt x="7271" y="4291"/>
                    </a:lnTo>
                    <a:lnTo>
                      <a:pt x="7188" y="4369"/>
                    </a:lnTo>
                    <a:lnTo>
                      <a:pt x="7198" y="4367"/>
                    </a:lnTo>
                    <a:lnTo>
                      <a:pt x="7349" y="4330"/>
                    </a:lnTo>
                    <a:lnTo>
                      <a:pt x="7379" y="4315"/>
                    </a:lnTo>
                    <a:lnTo>
                      <a:pt x="7456" y="4235"/>
                    </a:lnTo>
                    <a:lnTo>
                      <a:pt x="7533" y="4155"/>
                    </a:lnTo>
                    <a:lnTo>
                      <a:pt x="7606" y="4072"/>
                    </a:lnTo>
                    <a:lnTo>
                      <a:pt x="7679" y="3987"/>
                    </a:lnTo>
                    <a:lnTo>
                      <a:pt x="7749" y="3901"/>
                    </a:lnTo>
                    <a:lnTo>
                      <a:pt x="7817" y="3812"/>
                    </a:lnTo>
                    <a:lnTo>
                      <a:pt x="7883" y="3722"/>
                    </a:lnTo>
                    <a:lnTo>
                      <a:pt x="7947" y="3631"/>
                    </a:lnTo>
                    <a:lnTo>
                      <a:pt x="8009" y="3538"/>
                    </a:lnTo>
                    <a:lnTo>
                      <a:pt x="8068" y="3443"/>
                    </a:lnTo>
                    <a:lnTo>
                      <a:pt x="8125" y="3348"/>
                    </a:lnTo>
                    <a:lnTo>
                      <a:pt x="8180" y="3250"/>
                    </a:lnTo>
                    <a:lnTo>
                      <a:pt x="8233" y="3150"/>
                    </a:lnTo>
                    <a:lnTo>
                      <a:pt x="8283" y="3050"/>
                    </a:lnTo>
                    <a:lnTo>
                      <a:pt x="8331" y="2948"/>
                    </a:lnTo>
                    <a:lnTo>
                      <a:pt x="8377" y="2845"/>
                    </a:lnTo>
                    <a:lnTo>
                      <a:pt x="8420" y="2740"/>
                    </a:lnTo>
                    <a:lnTo>
                      <a:pt x="8460" y="2635"/>
                    </a:lnTo>
                    <a:lnTo>
                      <a:pt x="8498" y="2528"/>
                    </a:lnTo>
                    <a:lnTo>
                      <a:pt x="8533" y="2420"/>
                    </a:lnTo>
                    <a:lnTo>
                      <a:pt x="8566" y="2310"/>
                    </a:lnTo>
                    <a:lnTo>
                      <a:pt x="8596" y="2199"/>
                    </a:lnTo>
                    <a:lnTo>
                      <a:pt x="8623" y="2089"/>
                    </a:lnTo>
                    <a:lnTo>
                      <a:pt x="8648" y="1976"/>
                    </a:lnTo>
                    <a:lnTo>
                      <a:pt x="8670" y="1862"/>
                    </a:lnTo>
                    <a:lnTo>
                      <a:pt x="8688" y="1748"/>
                    </a:lnTo>
                    <a:lnTo>
                      <a:pt x="8704" y="1632"/>
                    </a:lnTo>
                    <a:lnTo>
                      <a:pt x="8718" y="1516"/>
                    </a:lnTo>
                    <a:lnTo>
                      <a:pt x="8729" y="1398"/>
                    </a:lnTo>
                    <a:lnTo>
                      <a:pt x="8737" y="1281"/>
                    </a:lnTo>
                    <a:lnTo>
                      <a:pt x="8741" y="1162"/>
                    </a:lnTo>
                    <a:lnTo>
                      <a:pt x="8742" y="1042"/>
                    </a:lnTo>
                    <a:close/>
                    <a:moveTo>
                      <a:pt x="0" y="3102"/>
                    </a:moveTo>
                    <a:lnTo>
                      <a:pt x="30" y="3161"/>
                    </a:lnTo>
                    <a:lnTo>
                      <a:pt x="61" y="3220"/>
                    </a:lnTo>
                    <a:lnTo>
                      <a:pt x="92" y="3278"/>
                    </a:lnTo>
                    <a:lnTo>
                      <a:pt x="124" y="3335"/>
                    </a:lnTo>
                    <a:lnTo>
                      <a:pt x="158" y="3393"/>
                    </a:lnTo>
                    <a:lnTo>
                      <a:pt x="192" y="3449"/>
                    </a:lnTo>
                    <a:lnTo>
                      <a:pt x="227" y="3506"/>
                    </a:lnTo>
                    <a:lnTo>
                      <a:pt x="263" y="3561"/>
                    </a:lnTo>
                    <a:lnTo>
                      <a:pt x="300" y="3615"/>
                    </a:lnTo>
                    <a:lnTo>
                      <a:pt x="336" y="3670"/>
                    </a:lnTo>
                    <a:lnTo>
                      <a:pt x="375" y="3723"/>
                    </a:lnTo>
                    <a:lnTo>
                      <a:pt x="413" y="3776"/>
                    </a:lnTo>
                    <a:lnTo>
                      <a:pt x="453" y="3829"/>
                    </a:lnTo>
                    <a:lnTo>
                      <a:pt x="492" y="3881"/>
                    </a:lnTo>
                    <a:lnTo>
                      <a:pt x="534" y="3933"/>
                    </a:lnTo>
                    <a:lnTo>
                      <a:pt x="575" y="3984"/>
                    </a:lnTo>
                    <a:lnTo>
                      <a:pt x="609" y="3984"/>
                    </a:lnTo>
                    <a:lnTo>
                      <a:pt x="686" y="3984"/>
                    </a:lnTo>
                    <a:lnTo>
                      <a:pt x="694" y="3980"/>
                    </a:lnTo>
                    <a:lnTo>
                      <a:pt x="647" y="3925"/>
                    </a:lnTo>
                    <a:lnTo>
                      <a:pt x="602" y="3869"/>
                    </a:lnTo>
                    <a:lnTo>
                      <a:pt x="557" y="3812"/>
                    </a:lnTo>
                    <a:lnTo>
                      <a:pt x="513" y="3755"/>
                    </a:lnTo>
                    <a:lnTo>
                      <a:pt x="470" y="3697"/>
                    </a:lnTo>
                    <a:lnTo>
                      <a:pt x="428" y="3638"/>
                    </a:lnTo>
                    <a:lnTo>
                      <a:pt x="386" y="3578"/>
                    </a:lnTo>
                    <a:lnTo>
                      <a:pt x="347" y="3518"/>
                    </a:lnTo>
                    <a:lnTo>
                      <a:pt x="306" y="3457"/>
                    </a:lnTo>
                    <a:lnTo>
                      <a:pt x="268" y="3396"/>
                    </a:lnTo>
                    <a:lnTo>
                      <a:pt x="231" y="3334"/>
                    </a:lnTo>
                    <a:lnTo>
                      <a:pt x="195" y="3272"/>
                    </a:lnTo>
                    <a:lnTo>
                      <a:pt x="160" y="3208"/>
                    </a:lnTo>
                    <a:lnTo>
                      <a:pt x="125" y="3144"/>
                    </a:lnTo>
                    <a:lnTo>
                      <a:pt x="92" y="3079"/>
                    </a:lnTo>
                    <a:lnTo>
                      <a:pt x="60" y="3013"/>
                    </a:lnTo>
                    <a:lnTo>
                      <a:pt x="0" y="310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59160" y="4002120"/>
                <a:ext cx="2292120" cy="1155600"/>
              </a:xfrm>
              <a:custGeom>
                <a:avLst/>
                <a:gdLst/>
                <a:ahLst/>
                <a:rect l="l" t="t" r="r" b="b"/>
                <a:pathLst>
                  <a:path w="8666" h="4366">
                    <a:moveTo>
                      <a:pt x="8666" y="1021"/>
                    </a:moveTo>
                    <a:lnTo>
                      <a:pt x="8665" y="955"/>
                    </a:lnTo>
                    <a:lnTo>
                      <a:pt x="8664" y="890"/>
                    </a:lnTo>
                    <a:lnTo>
                      <a:pt x="8662" y="824"/>
                    </a:lnTo>
                    <a:lnTo>
                      <a:pt x="8658" y="759"/>
                    </a:lnTo>
                    <a:lnTo>
                      <a:pt x="8655" y="695"/>
                    </a:lnTo>
                    <a:lnTo>
                      <a:pt x="8649" y="630"/>
                    </a:lnTo>
                    <a:lnTo>
                      <a:pt x="8643" y="566"/>
                    </a:lnTo>
                    <a:lnTo>
                      <a:pt x="8636" y="502"/>
                    </a:lnTo>
                    <a:lnTo>
                      <a:pt x="8629" y="438"/>
                    </a:lnTo>
                    <a:lnTo>
                      <a:pt x="8620" y="374"/>
                    </a:lnTo>
                    <a:lnTo>
                      <a:pt x="8611" y="312"/>
                    </a:lnTo>
                    <a:lnTo>
                      <a:pt x="8601" y="249"/>
                    </a:lnTo>
                    <a:lnTo>
                      <a:pt x="8590" y="187"/>
                    </a:lnTo>
                    <a:lnTo>
                      <a:pt x="8578" y="124"/>
                    </a:lnTo>
                    <a:lnTo>
                      <a:pt x="8565" y="62"/>
                    </a:lnTo>
                    <a:lnTo>
                      <a:pt x="8551" y="0"/>
                    </a:lnTo>
                    <a:lnTo>
                      <a:pt x="8507" y="21"/>
                    </a:lnTo>
                    <a:lnTo>
                      <a:pt x="8466" y="42"/>
                    </a:lnTo>
                    <a:lnTo>
                      <a:pt x="8478" y="102"/>
                    </a:lnTo>
                    <a:lnTo>
                      <a:pt x="8490" y="161"/>
                    </a:lnTo>
                    <a:lnTo>
                      <a:pt x="8501" y="221"/>
                    </a:lnTo>
                    <a:lnTo>
                      <a:pt x="8512" y="281"/>
                    </a:lnTo>
                    <a:lnTo>
                      <a:pt x="8521" y="342"/>
                    </a:lnTo>
                    <a:lnTo>
                      <a:pt x="8530" y="402"/>
                    </a:lnTo>
                    <a:lnTo>
                      <a:pt x="8538" y="463"/>
                    </a:lnTo>
                    <a:lnTo>
                      <a:pt x="8545" y="524"/>
                    </a:lnTo>
                    <a:lnTo>
                      <a:pt x="8552" y="585"/>
                    </a:lnTo>
                    <a:lnTo>
                      <a:pt x="8557" y="646"/>
                    </a:lnTo>
                    <a:lnTo>
                      <a:pt x="8561" y="709"/>
                    </a:lnTo>
                    <a:lnTo>
                      <a:pt x="8566" y="771"/>
                    </a:lnTo>
                    <a:lnTo>
                      <a:pt x="8568" y="833"/>
                    </a:lnTo>
                    <a:lnTo>
                      <a:pt x="8571" y="895"/>
                    </a:lnTo>
                    <a:lnTo>
                      <a:pt x="8572" y="958"/>
                    </a:lnTo>
                    <a:lnTo>
                      <a:pt x="8573" y="1021"/>
                    </a:lnTo>
                    <a:lnTo>
                      <a:pt x="8571" y="1146"/>
                    </a:lnTo>
                    <a:lnTo>
                      <a:pt x="8566" y="1269"/>
                    </a:lnTo>
                    <a:lnTo>
                      <a:pt x="8558" y="1391"/>
                    </a:lnTo>
                    <a:lnTo>
                      <a:pt x="8546" y="1513"/>
                    </a:lnTo>
                    <a:lnTo>
                      <a:pt x="8531" y="1634"/>
                    </a:lnTo>
                    <a:lnTo>
                      <a:pt x="8513" y="1754"/>
                    </a:lnTo>
                    <a:lnTo>
                      <a:pt x="8491" y="1873"/>
                    </a:lnTo>
                    <a:lnTo>
                      <a:pt x="8467" y="1991"/>
                    </a:lnTo>
                    <a:lnTo>
                      <a:pt x="8440" y="2107"/>
                    </a:lnTo>
                    <a:lnTo>
                      <a:pt x="8409" y="2222"/>
                    </a:lnTo>
                    <a:lnTo>
                      <a:pt x="8376" y="2336"/>
                    </a:lnTo>
                    <a:lnTo>
                      <a:pt x="8340" y="2448"/>
                    </a:lnTo>
                    <a:lnTo>
                      <a:pt x="8301" y="2560"/>
                    </a:lnTo>
                    <a:lnTo>
                      <a:pt x="8258" y="2671"/>
                    </a:lnTo>
                    <a:lnTo>
                      <a:pt x="8213" y="2779"/>
                    </a:lnTo>
                    <a:lnTo>
                      <a:pt x="8166" y="2886"/>
                    </a:lnTo>
                    <a:lnTo>
                      <a:pt x="8116" y="2991"/>
                    </a:lnTo>
                    <a:lnTo>
                      <a:pt x="8063" y="3096"/>
                    </a:lnTo>
                    <a:lnTo>
                      <a:pt x="8007" y="3199"/>
                    </a:lnTo>
                    <a:lnTo>
                      <a:pt x="7949" y="3299"/>
                    </a:lnTo>
                    <a:lnTo>
                      <a:pt x="7888" y="3398"/>
                    </a:lnTo>
                    <a:lnTo>
                      <a:pt x="7826" y="3496"/>
                    </a:lnTo>
                    <a:lnTo>
                      <a:pt x="7760" y="3592"/>
                    </a:lnTo>
                    <a:lnTo>
                      <a:pt x="7692" y="3686"/>
                    </a:lnTo>
                    <a:lnTo>
                      <a:pt x="7621" y="3777"/>
                    </a:lnTo>
                    <a:lnTo>
                      <a:pt x="7549" y="3868"/>
                    </a:lnTo>
                    <a:lnTo>
                      <a:pt x="7474" y="3956"/>
                    </a:lnTo>
                    <a:lnTo>
                      <a:pt x="7396" y="4042"/>
                    </a:lnTo>
                    <a:lnTo>
                      <a:pt x="7317" y="4127"/>
                    </a:lnTo>
                    <a:lnTo>
                      <a:pt x="7236" y="4208"/>
                    </a:lnTo>
                    <a:lnTo>
                      <a:pt x="7152" y="4289"/>
                    </a:lnTo>
                    <a:lnTo>
                      <a:pt x="7067" y="4366"/>
                    </a:lnTo>
                    <a:lnTo>
                      <a:pt x="7168" y="4346"/>
                    </a:lnTo>
                    <a:lnTo>
                      <a:pt x="7250" y="4326"/>
                    </a:lnTo>
                    <a:lnTo>
                      <a:pt x="7331" y="4247"/>
                    </a:lnTo>
                    <a:lnTo>
                      <a:pt x="7409" y="4166"/>
                    </a:lnTo>
                    <a:lnTo>
                      <a:pt x="7486" y="4083"/>
                    </a:lnTo>
                    <a:lnTo>
                      <a:pt x="7561" y="3999"/>
                    </a:lnTo>
                    <a:lnTo>
                      <a:pt x="7634" y="3912"/>
                    </a:lnTo>
                    <a:lnTo>
                      <a:pt x="7704" y="3823"/>
                    </a:lnTo>
                    <a:lnTo>
                      <a:pt x="7772" y="3734"/>
                    </a:lnTo>
                    <a:lnTo>
                      <a:pt x="7839" y="3641"/>
                    </a:lnTo>
                    <a:lnTo>
                      <a:pt x="7903" y="3548"/>
                    </a:lnTo>
                    <a:lnTo>
                      <a:pt x="7965" y="3452"/>
                    </a:lnTo>
                    <a:lnTo>
                      <a:pt x="8024" y="3355"/>
                    </a:lnTo>
                    <a:lnTo>
                      <a:pt x="8082" y="3257"/>
                    </a:lnTo>
                    <a:lnTo>
                      <a:pt x="8136" y="3157"/>
                    </a:lnTo>
                    <a:lnTo>
                      <a:pt x="8188" y="3056"/>
                    </a:lnTo>
                    <a:lnTo>
                      <a:pt x="8237" y="2953"/>
                    </a:lnTo>
                    <a:lnTo>
                      <a:pt x="8285" y="2849"/>
                    </a:lnTo>
                    <a:lnTo>
                      <a:pt x="8330" y="2743"/>
                    </a:lnTo>
                    <a:lnTo>
                      <a:pt x="8372" y="2636"/>
                    </a:lnTo>
                    <a:lnTo>
                      <a:pt x="8411" y="2528"/>
                    </a:lnTo>
                    <a:lnTo>
                      <a:pt x="8448" y="2418"/>
                    </a:lnTo>
                    <a:lnTo>
                      <a:pt x="8482" y="2308"/>
                    </a:lnTo>
                    <a:lnTo>
                      <a:pt x="8513" y="2196"/>
                    </a:lnTo>
                    <a:lnTo>
                      <a:pt x="8542" y="2083"/>
                    </a:lnTo>
                    <a:lnTo>
                      <a:pt x="8567" y="1969"/>
                    </a:lnTo>
                    <a:lnTo>
                      <a:pt x="8590" y="1853"/>
                    </a:lnTo>
                    <a:lnTo>
                      <a:pt x="8610" y="1737"/>
                    </a:lnTo>
                    <a:lnTo>
                      <a:pt x="8627" y="1621"/>
                    </a:lnTo>
                    <a:lnTo>
                      <a:pt x="8641" y="1502"/>
                    </a:lnTo>
                    <a:lnTo>
                      <a:pt x="8651" y="1383"/>
                    </a:lnTo>
                    <a:lnTo>
                      <a:pt x="8659" y="1263"/>
                    </a:lnTo>
                    <a:lnTo>
                      <a:pt x="8664" y="1142"/>
                    </a:lnTo>
                    <a:lnTo>
                      <a:pt x="8666" y="1021"/>
                    </a:lnTo>
                    <a:close/>
                    <a:moveTo>
                      <a:pt x="0" y="3037"/>
                    </a:moveTo>
                    <a:lnTo>
                      <a:pt x="31" y="3100"/>
                    </a:lnTo>
                    <a:lnTo>
                      <a:pt x="63" y="3161"/>
                    </a:lnTo>
                    <a:lnTo>
                      <a:pt x="97" y="3222"/>
                    </a:lnTo>
                    <a:lnTo>
                      <a:pt x="130" y="3283"/>
                    </a:lnTo>
                    <a:lnTo>
                      <a:pt x="165" y="3343"/>
                    </a:lnTo>
                    <a:lnTo>
                      <a:pt x="201" y="3403"/>
                    </a:lnTo>
                    <a:lnTo>
                      <a:pt x="237" y="3461"/>
                    </a:lnTo>
                    <a:lnTo>
                      <a:pt x="275" y="3519"/>
                    </a:lnTo>
                    <a:lnTo>
                      <a:pt x="313" y="3577"/>
                    </a:lnTo>
                    <a:lnTo>
                      <a:pt x="353" y="3634"/>
                    </a:lnTo>
                    <a:lnTo>
                      <a:pt x="393" y="3691"/>
                    </a:lnTo>
                    <a:lnTo>
                      <a:pt x="434" y="3746"/>
                    </a:lnTo>
                    <a:lnTo>
                      <a:pt x="476" y="3802"/>
                    </a:lnTo>
                    <a:lnTo>
                      <a:pt x="519" y="3856"/>
                    </a:lnTo>
                    <a:lnTo>
                      <a:pt x="561" y="3910"/>
                    </a:lnTo>
                    <a:lnTo>
                      <a:pt x="606" y="3963"/>
                    </a:lnTo>
                    <a:lnTo>
                      <a:pt x="656" y="3963"/>
                    </a:lnTo>
                    <a:lnTo>
                      <a:pt x="708" y="3939"/>
                    </a:lnTo>
                    <a:lnTo>
                      <a:pt x="659" y="3882"/>
                    </a:lnTo>
                    <a:lnTo>
                      <a:pt x="613" y="3826"/>
                    </a:lnTo>
                    <a:lnTo>
                      <a:pt x="568" y="3768"/>
                    </a:lnTo>
                    <a:lnTo>
                      <a:pt x="523" y="3710"/>
                    </a:lnTo>
                    <a:lnTo>
                      <a:pt x="479" y="3652"/>
                    </a:lnTo>
                    <a:lnTo>
                      <a:pt x="437" y="3592"/>
                    </a:lnTo>
                    <a:lnTo>
                      <a:pt x="395" y="3532"/>
                    </a:lnTo>
                    <a:lnTo>
                      <a:pt x="354" y="3471"/>
                    </a:lnTo>
                    <a:lnTo>
                      <a:pt x="315" y="3408"/>
                    </a:lnTo>
                    <a:lnTo>
                      <a:pt x="275" y="3346"/>
                    </a:lnTo>
                    <a:lnTo>
                      <a:pt x="237" y="3283"/>
                    </a:lnTo>
                    <a:lnTo>
                      <a:pt x="200" y="3219"/>
                    </a:lnTo>
                    <a:lnTo>
                      <a:pt x="165" y="3155"/>
                    </a:lnTo>
                    <a:lnTo>
                      <a:pt x="130" y="3089"/>
                    </a:lnTo>
                    <a:lnTo>
                      <a:pt x="97" y="3023"/>
                    </a:lnTo>
                    <a:lnTo>
                      <a:pt x="64" y="2957"/>
                    </a:lnTo>
                    <a:lnTo>
                      <a:pt x="45" y="2970"/>
                    </a:lnTo>
                    <a:lnTo>
                      <a:pt x="0" y="303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67080" y="4006800"/>
                <a:ext cx="2271600" cy="1155600"/>
              </a:xfrm>
              <a:custGeom>
                <a:avLst/>
                <a:gdLst/>
                <a:ahLst/>
                <a:rect l="l" t="t" r="r" b="b"/>
                <a:pathLst>
                  <a:path w="8589" h="4366">
                    <a:moveTo>
                      <a:pt x="8589" y="1000"/>
                    </a:moveTo>
                    <a:lnTo>
                      <a:pt x="8589" y="936"/>
                    </a:lnTo>
                    <a:lnTo>
                      <a:pt x="8588" y="871"/>
                    </a:lnTo>
                    <a:lnTo>
                      <a:pt x="8586" y="808"/>
                    </a:lnTo>
                    <a:lnTo>
                      <a:pt x="8582" y="744"/>
                    </a:lnTo>
                    <a:lnTo>
                      <a:pt x="8578" y="681"/>
                    </a:lnTo>
                    <a:lnTo>
                      <a:pt x="8573" y="617"/>
                    </a:lnTo>
                    <a:lnTo>
                      <a:pt x="8567" y="554"/>
                    </a:lnTo>
                    <a:lnTo>
                      <a:pt x="8561" y="492"/>
                    </a:lnTo>
                    <a:lnTo>
                      <a:pt x="8553" y="430"/>
                    </a:lnTo>
                    <a:lnTo>
                      <a:pt x="8545" y="367"/>
                    </a:lnTo>
                    <a:lnTo>
                      <a:pt x="8536" y="305"/>
                    </a:lnTo>
                    <a:lnTo>
                      <a:pt x="8526" y="243"/>
                    </a:lnTo>
                    <a:lnTo>
                      <a:pt x="8515" y="182"/>
                    </a:lnTo>
                    <a:lnTo>
                      <a:pt x="8504" y="121"/>
                    </a:lnTo>
                    <a:lnTo>
                      <a:pt x="8491" y="61"/>
                    </a:lnTo>
                    <a:lnTo>
                      <a:pt x="8478" y="0"/>
                    </a:lnTo>
                    <a:lnTo>
                      <a:pt x="8477" y="0"/>
                    </a:lnTo>
                    <a:lnTo>
                      <a:pt x="8400" y="41"/>
                    </a:lnTo>
                    <a:lnTo>
                      <a:pt x="8392" y="44"/>
                    </a:lnTo>
                    <a:lnTo>
                      <a:pt x="8405" y="102"/>
                    </a:lnTo>
                    <a:lnTo>
                      <a:pt x="8416" y="160"/>
                    </a:lnTo>
                    <a:lnTo>
                      <a:pt x="8426" y="219"/>
                    </a:lnTo>
                    <a:lnTo>
                      <a:pt x="8437" y="277"/>
                    </a:lnTo>
                    <a:lnTo>
                      <a:pt x="8446" y="336"/>
                    </a:lnTo>
                    <a:lnTo>
                      <a:pt x="8455" y="395"/>
                    </a:lnTo>
                    <a:lnTo>
                      <a:pt x="8462" y="455"/>
                    </a:lnTo>
                    <a:lnTo>
                      <a:pt x="8469" y="515"/>
                    </a:lnTo>
                    <a:lnTo>
                      <a:pt x="8476" y="575"/>
                    </a:lnTo>
                    <a:lnTo>
                      <a:pt x="8481" y="635"/>
                    </a:lnTo>
                    <a:lnTo>
                      <a:pt x="8485" y="695"/>
                    </a:lnTo>
                    <a:lnTo>
                      <a:pt x="8490" y="756"/>
                    </a:lnTo>
                    <a:lnTo>
                      <a:pt x="8492" y="817"/>
                    </a:lnTo>
                    <a:lnTo>
                      <a:pt x="8494" y="877"/>
                    </a:lnTo>
                    <a:lnTo>
                      <a:pt x="8496" y="939"/>
                    </a:lnTo>
                    <a:lnTo>
                      <a:pt x="8496" y="1000"/>
                    </a:lnTo>
                    <a:lnTo>
                      <a:pt x="8494" y="1126"/>
                    </a:lnTo>
                    <a:lnTo>
                      <a:pt x="8489" y="1251"/>
                    </a:lnTo>
                    <a:lnTo>
                      <a:pt x="8481" y="1375"/>
                    </a:lnTo>
                    <a:lnTo>
                      <a:pt x="8468" y="1498"/>
                    </a:lnTo>
                    <a:lnTo>
                      <a:pt x="8453" y="1620"/>
                    </a:lnTo>
                    <a:lnTo>
                      <a:pt x="8435" y="1741"/>
                    </a:lnTo>
                    <a:lnTo>
                      <a:pt x="8413" y="1861"/>
                    </a:lnTo>
                    <a:lnTo>
                      <a:pt x="8387" y="1980"/>
                    </a:lnTo>
                    <a:lnTo>
                      <a:pt x="8358" y="2098"/>
                    </a:lnTo>
                    <a:lnTo>
                      <a:pt x="8327" y="2214"/>
                    </a:lnTo>
                    <a:lnTo>
                      <a:pt x="8293" y="2329"/>
                    </a:lnTo>
                    <a:lnTo>
                      <a:pt x="8256" y="2443"/>
                    </a:lnTo>
                    <a:lnTo>
                      <a:pt x="8214" y="2555"/>
                    </a:lnTo>
                    <a:lnTo>
                      <a:pt x="8172" y="2667"/>
                    </a:lnTo>
                    <a:lnTo>
                      <a:pt x="8125" y="2777"/>
                    </a:lnTo>
                    <a:lnTo>
                      <a:pt x="8076" y="2884"/>
                    </a:lnTo>
                    <a:lnTo>
                      <a:pt x="8024" y="2990"/>
                    </a:lnTo>
                    <a:lnTo>
                      <a:pt x="7970" y="3095"/>
                    </a:lnTo>
                    <a:lnTo>
                      <a:pt x="7912" y="3198"/>
                    </a:lnTo>
                    <a:lnTo>
                      <a:pt x="7852" y="3300"/>
                    </a:lnTo>
                    <a:lnTo>
                      <a:pt x="7789" y="3399"/>
                    </a:lnTo>
                    <a:lnTo>
                      <a:pt x="7724" y="3497"/>
                    </a:lnTo>
                    <a:lnTo>
                      <a:pt x="7656" y="3593"/>
                    </a:lnTo>
                    <a:lnTo>
                      <a:pt x="7587" y="3687"/>
                    </a:lnTo>
                    <a:lnTo>
                      <a:pt x="7514" y="3779"/>
                    </a:lnTo>
                    <a:lnTo>
                      <a:pt x="7439" y="3869"/>
                    </a:lnTo>
                    <a:lnTo>
                      <a:pt x="7362" y="3958"/>
                    </a:lnTo>
                    <a:lnTo>
                      <a:pt x="7282" y="4043"/>
                    </a:lnTo>
                    <a:lnTo>
                      <a:pt x="7200" y="4128"/>
                    </a:lnTo>
                    <a:lnTo>
                      <a:pt x="7116" y="4209"/>
                    </a:lnTo>
                    <a:lnTo>
                      <a:pt x="7031" y="4289"/>
                    </a:lnTo>
                    <a:lnTo>
                      <a:pt x="6943" y="4366"/>
                    </a:lnTo>
                    <a:lnTo>
                      <a:pt x="6947" y="4365"/>
                    </a:lnTo>
                    <a:lnTo>
                      <a:pt x="7128" y="4327"/>
                    </a:lnTo>
                    <a:lnTo>
                      <a:pt x="7211" y="4249"/>
                    </a:lnTo>
                    <a:lnTo>
                      <a:pt x="7291" y="4168"/>
                    </a:lnTo>
                    <a:lnTo>
                      <a:pt x="7371" y="4085"/>
                    </a:lnTo>
                    <a:lnTo>
                      <a:pt x="7448" y="4001"/>
                    </a:lnTo>
                    <a:lnTo>
                      <a:pt x="7523" y="3914"/>
                    </a:lnTo>
                    <a:lnTo>
                      <a:pt x="7596" y="3826"/>
                    </a:lnTo>
                    <a:lnTo>
                      <a:pt x="7666" y="3736"/>
                    </a:lnTo>
                    <a:lnTo>
                      <a:pt x="7736" y="3643"/>
                    </a:lnTo>
                    <a:lnTo>
                      <a:pt x="7801" y="3550"/>
                    </a:lnTo>
                    <a:lnTo>
                      <a:pt x="7865" y="3454"/>
                    </a:lnTo>
                    <a:lnTo>
                      <a:pt x="7926" y="3357"/>
                    </a:lnTo>
                    <a:lnTo>
                      <a:pt x="7985" y="3258"/>
                    </a:lnTo>
                    <a:lnTo>
                      <a:pt x="8041" y="3158"/>
                    </a:lnTo>
                    <a:lnTo>
                      <a:pt x="8095" y="3055"/>
                    </a:lnTo>
                    <a:lnTo>
                      <a:pt x="8146" y="2952"/>
                    </a:lnTo>
                    <a:lnTo>
                      <a:pt x="8196" y="2847"/>
                    </a:lnTo>
                    <a:lnTo>
                      <a:pt x="8242" y="2741"/>
                    </a:lnTo>
                    <a:lnTo>
                      <a:pt x="8285" y="2632"/>
                    </a:lnTo>
                    <a:lnTo>
                      <a:pt x="8326" y="2524"/>
                    </a:lnTo>
                    <a:lnTo>
                      <a:pt x="8364" y="2413"/>
                    </a:lnTo>
                    <a:lnTo>
                      <a:pt x="8399" y="2302"/>
                    </a:lnTo>
                    <a:lnTo>
                      <a:pt x="8431" y="2189"/>
                    </a:lnTo>
                    <a:lnTo>
                      <a:pt x="8461" y="2074"/>
                    </a:lnTo>
                    <a:lnTo>
                      <a:pt x="8488" y="1959"/>
                    </a:lnTo>
                    <a:lnTo>
                      <a:pt x="8511" y="1843"/>
                    </a:lnTo>
                    <a:lnTo>
                      <a:pt x="8531" y="1725"/>
                    </a:lnTo>
                    <a:lnTo>
                      <a:pt x="8549" y="1606"/>
                    </a:lnTo>
                    <a:lnTo>
                      <a:pt x="8564" y="1487"/>
                    </a:lnTo>
                    <a:lnTo>
                      <a:pt x="8574" y="1367"/>
                    </a:lnTo>
                    <a:lnTo>
                      <a:pt x="8583" y="1245"/>
                    </a:lnTo>
                    <a:lnTo>
                      <a:pt x="8588" y="1123"/>
                    </a:lnTo>
                    <a:lnTo>
                      <a:pt x="8589" y="1000"/>
                    </a:lnTo>
                    <a:close/>
                    <a:moveTo>
                      <a:pt x="0" y="2971"/>
                    </a:moveTo>
                    <a:lnTo>
                      <a:pt x="32" y="3037"/>
                    </a:lnTo>
                    <a:lnTo>
                      <a:pt x="65" y="3102"/>
                    </a:lnTo>
                    <a:lnTo>
                      <a:pt x="100" y="3166"/>
                    </a:lnTo>
                    <a:lnTo>
                      <a:pt x="135" y="3230"/>
                    </a:lnTo>
                    <a:lnTo>
                      <a:pt x="171" y="3292"/>
                    </a:lnTo>
                    <a:lnTo>
                      <a:pt x="208" y="3354"/>
                    </a:lnTo>
                    <a:lnTo>
                      <a:pt x="246" y="3415"/>
                    </a:lnTo>
                    <a:lnTo>
                      <a:pt x="287" y="3476"/>
                    </a:lnTo>
                    <a:lnTo>
                      <a:pt x="326" y="3536"/>
                    </a:lnTo>
                    <a:lnTo>
                      <a:pt x="368" y="3596"/>
                    </a:lnTo>
                    <a:lnTo>
                      <a:pt x="410" y="3655"/>
                    </a:lnTo>
                    <a:lnTo>
                      <a:pt x="453" y="3713"/>
                    </a:lnTo>
                    <a:lnTo>
                      <a:pt x="497" y="3770"/>
                    </a:lnTo>
                    <a:lnTo>
                      <a:pt x="542" y="3827"/>
                    </a:lnTo>
                    <a:lnTo>
                      <a:pt x="587" y="3883"/>
                    </a:lnTo>
                    <a:lnTo>
                      <a:pt x="634" y="3938"/>
                    </a:lnTo>
                    <a:lnTo>
                      <a:pt x="702" y="3905"/>
                    </a:lnTo>
                    <a:lnTo>
                      <a:pt x="729" y="3905"/>
                    </a:lnTo>
                    <a:lnTo>
                      <a:pt x="680" y="3849"/>
                    </a:lnTo>
                    <a:lnTo>
                      <a:pt x="633" y="3791"/>
                    </a:lnTo>
                    <a:lnTo>
                      <a:pt x="586" y="3733"/>
                    </a:lnTo>
                    <a:lnTo>
                      <a:pt x="541" y="3674"/>
                    </a:lnTo>
                    <a:lnTo>
                      <a:pt x="496" y="3615"/>
                    </a:lnTo>
                    <a:lnTo>
                      <a:pt x="452" y="3555"/>
                    </a:lnTo>
                    <a:lnTo>
                      <a:pt x="409" y="3492"/>
                    </a:lnTo>
                    <a:lnTo>
                      <a:pt x="368" y="3431"/>
                    </a:lnTo>
                    <a:lnTo>
                      <a:pt x="327" y="3368"/>
                    </a:lnTo>
                    <a:lnTo>
                      <a:pt x="288" y="3304"/>
                    </a:lnTo>
                    <a:lnTo>
                      <a:pt x="249" y="3241"/>
                    </a:lnTo>
                    <a:lnTo>
                      <a:pt x="212" y="3175"/>
                    </a:lnTo>
                    <a:lnTo>
                      <a:pt x="175" y="3111"/>
                    </a:lnTo>
                    <a:lnTo>
                      <a:pt x="140" y="3044"/>
                    </a:lnTo>
                    <a:lnTo>
                      <a:pt x="106" y="2977"/>
                    </a:lnTo>
                    <a:lnTo>
                      <a:pt x="73" y="2909"/>
                    </a:lnTo>
                    <a:lnTo>
                      <a:pt x="15" y="2949"/>
                    </a:lnTo>
                    <a:lnTo>
                      <a:pt x="0" y="297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76440" y="4013280"/>
                <a:ext cx="2251080" cy="1155600"/>
              </a:xfrm>
              <a:custGeom>
                <a:avLst/>
                <a:gdLst/>
                <a:ahLst/>
                <a:rect l="l" t="t" r="r" b="b"/>
                <a:pathLst>
                  <a:path w="8509" h="4369">
                    <a:moveTo>
                      <a:pt x="8509" y="979"/>
                    </a:moveTo>
                    <a:lnTo>
                      <a:pt x="8508" y="916"/>
                    </a:lnTo>
                    <a:lnTo>
                      <a:pt x="8507" y="853"/>
                    </a:lnTo>
                    <a:lnTo>
                      <a:pt x="8504" y="791"/>
                    </a:lnTo>
                    <a:lnTo>
                      <a:pt x="8502" y="729"/>
                    </a:lnTo>
                    <a:lnTo>
                      <a:pt x="8497" y="667"/>
                    </a:lnTo>
                    <a:lnTo>
                      <a:pt x="8493" y="604"/>
                    </a:lnTo>
                    <a:lnTo>
                      <a:pt x="8488" y="543"/>
                    </a:lnTo>
                    <a:lnTo>
                      <a:pt x="8481" y="482"/>
                    </a:lnTo>
                    <a:lnTo>
                      <a:pt x="8474" y="421"/>
                    </a:lnTo>
                    <a:lnTo>
                      <a:pt x="8466" y="360"/>
                    </a:lnTo>
                    <a:lnTo>
                      <a:pt x="8457" y="300"/>
                    </a:lnTo>
                    <a:lnTo>
                      <a:pt x="8448" y="239"/>
                    </a:lnTo>
                    <a:lnTo>
                      <a:pt x="8437" y="179"/>
                    </a:lnTo>
                    <a:lnTo>
                      <a:pt x="8426" y="119"/>
                    </a:lnTo>
                    <a:lnTo>
                      <a:pt x="8414" y="60"/>
                    </a:lnTo>
                    <a:lnTo>
                      <a:pt x="8402" y="0"/>
                    </a:lnTo>
                    <a:lnTo>
                      <a:pt x="8366" y="20"/>
                    </a:lnTo>
                    <a:lnTo>
                      <a:pt x="8315" y="44"/>
                    </a:lnTo>
                    <a:lnTo>
                      <a:pt x="8327" y="101"/>
                    </a:lnTo>
                    <a:lnTo>
                      <a:pt x="8338" y="157"/>
                    </a:lnTo>
                    <a:lnTo>
                      <a:pt x="8349" y="215"/>
                    </a:lnTo>
                    <a:lnTo>
                      <a:pt x="8358" y="271"/>
                    </a:lnTo>
                    <a:lnTo>
                      <a:pt x="8367" y="330"/>
                    </a:lnTo>
                    <a:lnTo>
                      <a:pt x="8375" y="388"/>
                    </a:lnTo>
                    <a:lnTo>
                      <a:pt x="8383" y="445"/>
                    </a:lnTo>
                    <a:lnTo>
                      <a:pt x="8390" y="504"/>
                    </a:lnTo>
                    <a:lnTo>
                      <a:pt x="8396" y="563"/>
                    </a:lnTo>
                    <a:lnTo>
                      <a:pt x="8401" y="622"/>
                    </a:lnTo>
                    <a:lnTo>
                      <a:pt x="8405" y="681"/>
                    </a:lnTo>
                    <a:lnTo>
                      <a:pt x="8409" y="739"/>
                    </a:lnTo>
                    <a:lnTo>
                      <a:pt x="8412" y="799"/>
                    </a:lnTo>
                    <a:lnTo>
                      <a:pt x="8414" y="859"/>
                    </a:lnTo>
                    <a:lnTo>
                      <a:pt x="8416" y="919"/>
                    </a:lnTo>
                    <a:lnTo>
                      <a:pt x="8416" y="979"/>
                    </a:lnTo>
                    <a:lnTo>
                      <a:pt x="8413" y="1107"/>
                    </a:lnTo>
                    <a:lnTo>
                      <a:pt x="8409" y="1234"/>
                    </a:lnTo>
                    <a:lnTo>
                      <a:pt x="8399" y="1360"/>
                    </a:lnTo>
                    <a:lnTo>
                      <a:pt x="8387" y="1484"/>
                    </a:lnTo>
                    <a:lnTo>
                      <a:pt x="8371" y="1607"/>
                    </a:lnTo>
                    <a:lnTo>
                      <a:pt x="8351" y="1731"/>
                    </a:lnTo>
                    <a:lnTo>
                      <a:pt x="8328" y="1852"/>
                    </a:lnTo>
                    <a:lnTo>
                      <a:pt x="8302" y="1973"/>
                    </a:lnTo>
                    <a:lnTo>
                      <a:pt x="8272" y="2092"/>
                    </a:lnTo>
                    <a:lnTo>
                      <a:pt x="8240" y="2209"/>
                    </a:lnTo>
                    <a:lnTo>
                      <a:pt x="8204" y="2326"/>
                    </a:lnTo>
                    <a:lnTo>
                      <a:pt x="8165" y="2441"/>
                    </a:lnTo>
                    <a:lnTo>
                      <a:pt x="8124" y="2554"/>
                    </a:lnTo>
                    <a:lnTo>
                      <a:pt x="8079" y="2666"/>
                    </a:lnTo>
                    <a:lnTo>
                      <a:pt x="8030" y="2776"/>
                    </a:lnTo>
                    <a:lnTo>
                      <a:pt x="7980" y="2886"/>
                    </a:lnTo>
                    <a:lnTo>
                      <a:pt x="7925" y="2993"/>
                    </a:lnTo>
                    <a:lnTo>
                      <a:pt x="7869" y="3098"/>
                    </a:lnTo>
                    <a:lnTo>
                      <a:pt x="7810" y="3202"/>
                    </a:lnTo>
                    <a:lnTo>
                      <a:pt x="7748" y="3304"/>
                    </a:lnTo>
                    <a:lnTo>
                      <a:pt x="7682" y="3405"/>
                    </a:lnTo>
                    <a:lnTo>
                      <a:pt x="7615" y="3502"/>
                    </a:lnTo>
                    <a:lnTo>
                      <a:pt x="7545" y="3598"/>
                    </a:lnTo>
                    <a:lnTo>
                      <a:pt x="7473" y="3693"/>
                    </a:lnTo>
                    <a:lnTo>
                      <a:pt x="7397" y="3785"/>
                    </a:lnTo>
                    <a:lnTo>
                      <a:pt x="7320" y="3875"/>
                    </a:lnTo>
                    <a:lnTo>
                      <a:pt x="7240" y="3964"/>
                    </a:lnTo>
                    <a:lnTo>
                      <a:pt x="7158" y="4049"/>
                    </a:lnTo>
                    <a:lnTo>
                      <a:pt x="7074" y="4132"/>
                    </a:lnTo>
                    <a:lnTo>
                      <a:pt x="6988" y="4214"/>
                    </a:lnTo>
                    <a:lnTo>
                      <a:pt x="6898" y="4292"/>
                    </a:lnTo>
                    <a:lnTo>
                      <a:pt x="6808" y="4369"/>
                    </a:lnTo>
                    <a:lnTo>
                      <a:pt x="6913" y="4344"/>
                    </a:lnTo>
                    <a:lnTo>
                      <a:pt x="7003" y="4324"/>
                    </a:lnTo>
                    <a:lnTo>
                      <a:pt x="7088" y="4247"/>
                    </a:lnTo>
                    <a:lnTo>
                      <a:pt x="7172" y="4166"/>
                    </a:lnTo>
                    <a:lnTo>
                      <a:pt x="7253" y="4085"/>
                    </a:lnTo>
                    <a:lnTo>
                      <a:pt x="7332" y="4000"/>
                    </a:lnTo>
                    <a:lnTo>
                      <a:pt x="7410" y="3914"/>
                    </a:lnTo>
                    <a:lnTo>
                      <a:pt x="7485" y="3826"/>
                    </a:lnTo>
                    <a:lnTo>
                      <a:pt x="7557" y="3735"/>
                    </a:lnTo>
                    <a:lnTo>
                      <a:pt x="7628" y="3644"/>
                    </a:lnTo>
                    <a:lnTo>
                      <a:pt x="7696" y="3550"/>
                    </a:lnTo>
                    <a:lnTo>
                      <a:pt x="7762" y="3454"/>
                    </a:lnTo>
                    <a:lnTo>
                      <a:pt x="7824" y="3356"/>
                    </a:lnTo>
                    <a:lnTo>
                      <a:pt x="7885" y="3257"/>
                    </a:lnTo>
                    <a:lnTo>
                      <a:pt x="7943" y="3157"/>
                    </a:lnTo>
                    <a:lnTo>
                      <a:pt x="7999" y="3054"/>
                    </a:lnTo>
                    <a:lnTo>
                      <a:pt x="8052" y="2949"/>
                    </a:lnTo>
                    <a:lnTo>
                      <a:pt x="8102" y="2844"/>
                    </a:lnTo>
                    <a:lnTo>
                      <a:pt x="8149" y="2737"/>
                    </a:lnTo>
                    <a:lnTo>
                      <a:pt x="8194" y="2629"/>
                    </a:lnTo>
                    <a:lnTo>
                      <a:pt x="8237" y="2518"/>
                    </a:lnTo>
                    <a:lnTo>
                      <a:pt x="8276" y="2406"/>
                    </a:lnTo>
                    <a:lnTo>
                      <a:pt x="8312" y="2294"/>
                    </a:lnTo>
                    <a:lnTo>
                      <a:pt x="8345" y="2180"/>
                    </a:lnTo>
                    <a:lnTo>
                      <a:pt x="8376" y="2065"/>
                    </a:lnTo>
                    <a:lnTo>
                      <a:pt x="8403" y="1949"/>
                    </a:lnTo>
                    <a:lnTo>
                      <a:pt x="8427" y="1831"/>
                    </a:lnTo>
                    <a:lnTo>
                      <a:pt x="8449" y="1712"/>
                    </a:lnTo>
                    <a:lnTo>
                      <a:pt x="8467" y="1592"/>
                    </a:lnTo>
                    <a:lnTo>
                      <a:pt x="8482" y="1471"/>
                    </a:lnTo>
                    <a:lnTo>
                      <a:pt x="8494" y="1349"/>
                    </a:lnTo>
                    <a:lnTo>
                      <a:pt x="8502" y="1227"/>
                    </a:lnTo>
                    <a:lnTo>
                      <a:pt x="8507" y="1104"/>
                    </a:lnTo>
                    <a:lnTo>
                      <a:pt x="8509" y="979"/>
                    </a:lnTo>
                    <a:close/>
                    <a:moveTo>
                      <a:pt x="0" y="2915"/>
                    </a:moveTo>
                    <a:lnTo>
                      <a:pt x="33" y="2981"/>
                    </a:lnTo>
                    <a:lnTo>
                      <a:pt x="66" y="3047"/>
                    </a:lnTo>
                    <a:lnTo>
                      <a:pt x="101" y="3113"/>
                    </a:lnTo>
                    <a:lnTo>
                      <a:pt x="136" y="3177"/>
                    </a:lnTo>
                    <a:lnTo>
                      <a:pt x="173" y="3241"/>
                    </a:lnTo>
                    <a:lnTo>
                      <a:pt x="211" y="3304"/>
                    </a:lnTo>
                    <a:lnTo>
                      <a:pt x="251" y="3366"/>
                    </a:lnTo>
                    <a:lnTo>
                      <a:pt x="290" y="3429"/>
                    </a:lnTo>
                    <a:lnTo>
                      <a:pt x="331" y="3490"/>
                    </a:lnTo>
                    <a:lnTo>
                      <a:pt x="373" y="3550"/>
                    </a:lnTo>
                    <a:lnTo>
                      <a:pt x="415" y="3610"/>
                    </a:lnTo>
                    <a:lnTo>
                      <a:pt x="459" y="3668"/>
                    </a:lnTo>
                    <a:lnTo>
                      <a:pt x="504" y="3726"/>
                    </a:lnTo>
                    <a:lnTo>
                      <a:pt x="549" y="3784"/>
                    </a:lnTo>
                    <a:lnTo>
                      <a:pt x="595" y="3840"/>
                    </a:lnTo>
                    <a:lnTo>
                      <a:pt x="644" y="3897"/>
                    </a:lnTo>
                    <a:lnTo>
                      <a:pt x="668" y="3884"/>
                    </a:lnTo>
                    <a:lnTo>
                      <a:pt x="745" y="3884"/>
                    </a:lnTo>
                    <a:lnTo>
                      <a:pt x="753" y="3881"/>
                    </a:lnTo>
                    <a:lnTo>
                      <a:pt x="703" y="3823"/>
                    </a:lnTo>
                    <a:lnTo>
                      <a:pt x="654" y="3764"/>
                    </a:lnTo>
                    <a:lnTo>
                      <a:pt x="606" y="3705"/>
                    </a:lnTo>
                    <a:lnTo>
                      <a:pt x="558" y="3645"/>
                    </a:lnTo>
                    <a:lnTo>
                      <a:pt x="512" y="3584"/>
                    </a:lnTo>
                    <a:lnTo>
                      <a:pt x="467" y="3522"/>
                    </a:lnTo>
                    <a:lnTo>
                      <a:pt x="424" y="3460"/>
                    </a:lnTo>
                    <a:lnTo>
                      <a:pt x="381" y="3396"/>
                    </a:lnTo>
                    <a:lnTo>
                      <a:pt x="339" y="3332"/>
                    </a:lnTo>
                    <a:lnTo>
                      <a:pt x="299" y="3267"/>
                    </a:lnTo>
                    <a:lnTo>
                      <a:pt x="259" y="3202"/>
                    </a:lnTo>
                    <a:lnTo>
                      <a:pt x="221" y="3135"/>
                    </a:lnTo>
                    <a:lnTo>
                      <a:pt x="182" y="3068"/>
                    </a:lnTo>
                    <a:lnTo>
                      <a:pt x="147" y="3000"/>
                    </a:lnTo>
                    <a:lnTo>
                      <a:pt x="112" y="2932"/>
                    </a:lnTo>
                    <a:lnTo>
                      <a:pt x="79" y="2862"/>
                    </a:lnTo>
                    <a:lnTo>
                      <a:pt x="0" y="291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486160" y="4019400"/>
                <a:ext cx="2228760" cy="1157400"/>
              </a:xfrm>
              <a:custGeom>
                <a:avLst/>
                <a:gdLst/>
                <a:ahLst/>
                <a:rect l="l" t="t" r="r" b="b"/>
                <a:pathLst>
                  <a:path w="8423" h="4373">
                    <a:moveTo>
                      <a:pt x="8423" y="956"/>
                    </a:moveTo>
                    <a:lnTo>
                      <a:pt x="8423" y="895"/>
                    </a:lnTo>
                    <a:lnTo>
                      <a:pt x="8421" y="833"/>
                    </a:lnTo>
                    <a:lnTo>
                      <a:pt x="8419" y="773"/>
                    </a:lnTo>
                    <a:lnTo>
                      <a:pt x="8417" y="712"/>
                    </a:lnTo>
                    <a:lnTo>
                      <a:pt x="8412" y="651"/>
                    </a:lnTo>
                    <a:lnTo>
                      <a:pt x="8408" y="591"/>
                    </a:lnTo>
                    <a:lnTo>
                      <a:pt x="8403" y="531"/>
                    </a:lnTo>
                    <a:lnTo>
                      <a:pt x="8396" y="471"/>
                    </a:lnTo>
                    <a:lnTo>
                      <a:pt x="8389" y="411"/>
                    </a:lnTo>
                    <a:lnTo>
                      <a:pt x="8382" y="351"/>
                    </a:lnTo>
                    <a:lnTo>
                      <a:pt x="8373" y="292"/>
                    </a:lnTo>
                    <a:lnTo>
                      <a:pt x="8364" y="233"/>
                    </a:lnTo>
                    <a:lnTo>
                      <a:pt x="8353" y="175"/>
                    </a:lnTo>
                    <a:lnTo>
                      <a:pt x="8343" y="116"/>
                    </a:lnTo>
                    <a:lnTo>
                      <a:pt x="8332" y="58"/>
                    </a:lnTo>
                    <a:lnTo>
                      <a:pt x="8319" y="0"/>
                    </a:lnTo>
                    <a:lnTo>
                      <a:pt x="8250" y="33"/>
                    </a:lnTo>
                    <a:lnTo>
                      <a:pt x="8233" y="42"/>
                    </a:lnTo>
                    <a:lnTo>
                      <a:pt x="8244" y="97"/>
                    </a:lnTo>
                    <a:lnTo>
                      <a:pt x="8255" y="153"/>
                    </a:lnTo>
                    <a:lnTo>
                      <a:pt x="8266" y="209"/>
                    </a:lnTo>
                    <a:lnTo>
                      <a:pt x="8275" y="264"/>
                    </a:lnTo>
                    <a:lnTo>
                      <a:pt x="8283" y="321"/>
                    </a:lnTo>
                    <a:lnTo>
                      <a:pt x="8291" y="377"/>
                    </a:lnTo>
                    <a:lnTo>
                      <a:pt x="8298" y="435"/>
                    </a:lnTo>
                    <a:lnTo>
                      <a:pt x="8305" y="492"/>
                    </a:lnTo>
                    <a:lnTo>
                      <a:pt x="8311" y="549"/>
                    </a:lnTo>
                    <a:lnTo>
                      <a:pt x="8315" y="607"/>
                    </a:lnTo>
                    <a:lnTo>
                      <a:pt x="8320" y="664"/>
                    </a:lnTo>
                    <a:lnTo>
                      <a:pt x="8323" y="722"/>
                    </a:lnTo>
                    <a:lnTo>
                      <a:pt x="8326" y="781"/>
                    </a:lnTo>
                    <a:lnTo>
                      <a:pt x="8328" y="839"/>
                    </a:lnTo>
                    <a:lnTo>
                      <a:pt x="8329" y="897"/>
                    </a:lnTo>
                    <a:lnTo>
                      <a:pt x="8330" y="956"/>
                    </a:lnTo>
                    <a:lnTo>
                      <a:pt x="8328" y="1085"/>
                    </a:lnTo>
                    <a:lnTo>
                      <a:pt x="8322" y="1214"/>
                    </a:lnTo>
                    <a:lnTo>
                      <a:pt x="8313" y="1342"/>
                    </a:lnTo>
                    <a:lnTo>
                      <a:pt x="8299" y="1469"/>
                    </a:lnTo>
                    <a:lnTo>
                      <a:pt x="8283" y="1595"/>
                    </a:lnTo>
                    <a:lnTo>
                      <a:pt x="8262" y="1719"/>
                    </a:lnTo>
                    <a:lnTo>
                      <a:pt x="8239" y="1843"/>
                    </a:lnTo>
                    <a:lnTo>
                      <a:pt x="8212" y="1964"/>
                    </a:lnTo>
                    <a:lnTo>
                      <a:pt x="8182" y="2085"/>
                    </a:lnTo>
                    <a:lnTo>
                      <a:pt x="8147" y="2205"/>
                    </a:lnTo>
                    <a:lnTo>
                      <a:pt x="8110" y="2322"/>
                    </a:lnTo>
                    <a:lnTo>
                      <a:pt x="8070" y="2439"/>
                    </a:lnTo>
                    <a:lnTo>
                      <a:pt x="8026" y="2553"/>
                    </a:lnTo>
                    <a:lnTo>
                      <a:pt x="7979" y="2667"/>
                    </a:lnTo>
                    <a:lnTo>
                      <a:pt x="7929" y="2777"/>
                    </a:lnTo>
                    <a:lnTo>
                      <a:pt x="7876" y="2888"/>
                    </a:lnTo>
                    <a:lnTo>
                      <a:pt x="7821" y="2996"/>
                    </a:lnTo>
                    <a:lnTo>
                      <a:pt x="7761" y="3103"/>
                    </a:lnTo>
                    <a:lnTo>
                      <a:pt x="7699" y="3207"/>
                    </a:lnTo>
                    <a:lnTo>
                      <a:pt x="7635" y="3310"/>
                    </a:lnTo>
                    <a:lnTo>
                      <a:pt x="7568" y="3410"/>
                    </a:lnTo>
                    <a:lnTo>
                      <a:pt x="7498" y="3509"/>
                    </a:lnTo>
                    <a:lnTo>
                      <a:pt x="7425" y="3605"/>
                    </a:lnTo>
                    <a:lnTo>
                      <a:pt x="7350" y="3700"/>
                    </a:lnTo>
                    <a:lnTo>
                      <a:pt x="7272" y="3792"/>
                    </a:lnTo>
                    <a:lnTo>
                      <a:pt x="7191" y="3883"/>
                    </a:lnTo>
                    <a:lnTo>
                      <a:pt x="7109" y="3971"/>
                    </a:lnTo>
                    <a:lnTo>
                      <a:pt x="7024" y="4056"/>
                    </a:lnTo>
                    <a:lnTo>
                      <a:pt x="6936" y="4139"/>
                    </a:lnTo>
                    <a:lnTo>
                      <a:pt x="6846" y="4220"/>
                    </a:lnTo>
                    <a:lnTo>
                      <a:pt x="6754" y="4298"/>
                    </a:lnTo>
                    <a:lnTo>
                      <a:pt x="6660" y="4373"/>
                    </a:lnTo>
                    <a:lnTo>
                      <a:pt x="6719" y="4358"/>
                    </a:lnTo>
                    <a:lnTo>
                      <a:pt x="6870" y="4322"/>
                    </a:lnTo>
                    <a:lnTo>
                      <a:pt x="6958" y="4245"/>
                    </a:lnTo>
                    <a:lnTo>
                      <a:pt x="7043" y="4165"/>
                    </a:lnTo>
                    <a:lnTo>
                      <a:pt x="7127" y="4084"/>
                    </a:lnTo>
                    <a:lnTo>
                      <a:pt x="7209" y="3999"/>
                    </a:lnTo>
                    <a:lnTo>
                      <a:pt x="7289" y="3914"/>
                    </a:lnTo>
                    <a:lnTo>
                      <a:pt x="7366" y="3825"/>
                    </a:lnTo>
                    <a:lnTo>
                      <a:pt x="7441" y="3735"/>
                    </a:lnTo>
                    <a:lnTo>
                      <a:pt x="7514" y="3643"/>
                    </a:lnTo>
                    <a:lnTo>
                      <a:pt x="7583" y="3549"/>
                    </a:lnTo>
                    <a:lnTo>
                      <a:pt x="7651" y="3453"/>
                    </a:lnTo>
                    <a:lnTo>
                      <a:pt x="7716" y="3355"/>
                    </a:lnTo>
                    <a:lnTo>
                      <a:pt x="7779" y="3256"/>
                    </a:lnTo>
                    <a:lnTo>
                      <a:pt x="7839" y="3154"/>
                    </a:lnTo>
                    <a:lnTo>
                      <a:pt x="7897" y="3051"/>
                    </a:lnTo>
                    <a:lnTo>
                      <a:pt x="7951" y="2946"/>
                    </a:lnTo>
                    <a:lnTo>
                      <a:pt x="8003" y="2840"/>
                    </a:lnTo>
                    <a:lnTo>
                      <a:pt x="8052" y="2733"/>
                    </a:lnTo>
                    <a:lnTo>
                      <a:pt x="8099" y="2623"/>
                    </a:lnTo>
                    <a:lnTo>
                      <a:pt x="8141" y="2511"/>
                    </a:lnTo>
                    <a:lnTo>
                      <a:pt x="8183" y="2399"/>
                    </a:lnTo>
                    <a:lnTo>
                      <a:pt x="8220" y="2285"/>
                    </a:lnTo>
                    <a:lnTo>
                      <a:pt x="8254" y="2170"/>
                    </a:lnTo>
                    <a:lnTo>
                      <a:pt x="8285" y="2054"/>
                    </a:lnTo>
                    <a:lnTo>
                      <a:pt x="8314" y="1936"/>
                    </a:lnTo>
                    <a:lnTo>
                      <a:pt x="8340" y="1817"/>
                    </a:lnTo>
                    <a:lnTo>
                      <a:pt x="8362" y="1697"/>
                    </a:lnTo>
                    <a:lnTo>
                      <a:pt x="8380" y="1576"/>
                    </a:lnTo>
                    <a:lnTo>
                      <a:pt x="8395" y="1454"/>
                    </a:lnTo>
                    <a:lnTo>
                      <a:pt x="8408" y="1331"/>
                    </a:lnTo>
                    <a:lnTo>
                      <a:pt x="8416" y="1207"/>
                    </a:lnTo>
                    <a:lnTo>
                      <a:pt x="8421" y="1082"/>
                    </a:lnTo>
                    <a:lnTo>
                      <a:pt x="8423" y="956"/>
                    </a:lnTo>
                    <a:close/>
                    <a:moveTo>
                      <a:pt x="0" y="2865"/>
                    </a:moveTo>
                    <a:lnTo>
                      <a:pt x="33" y="2933"/>
                    </a:lnTo>
                    <a:lnTo>
                      <a:pt x="67" y="3000"/>
                    </a:lnTo>
                    <a:lnTo>
                      <a:pt x="102" y="3067"/>
                    </a:lnTo>
                    <a:lnTo>
                      <a:pt x="139" y="3131"/>
                    </a:lnTo>
                    <a:lnTo>
                      <a:pt x="176" y="3197"/>
                    </a:lnTo>
                    <a:lnTo>
                      <a:pt x="215" y="3260"/>
                    </a:lnTo>
                    <a:lnTo>
                      <a:pt x="254" y="3324"/>
                    </a:lnTo>
                    <a:lnTo>
                      <a:pt x="295" y="3387"/>
                    </a:lnTo>
                    <a:lnTo>
                      <a:pt x="336" y="3448"/>
                    </a:lnTo>
                    <a:lnTo>
                      <a:pt x="379" y="3511"/>
                    </a:lnTo>
                    <a:lnTo>
                      <a:pt x="423" y="3571"/>
                    </a:lnTo>
                    <a:lnTo>
                      <a:pt x="468" y="3630"/>
                    </a:lnTo>
                    <a:lnTo>
                      <a:pt x="513" y="3689"/>
                    </a:lnTo>
                    <a:lnTo>
                      <a:pt x="560" y="3747"/>
                    </a:lnTo>
                    <a:lnTo>
                      <a:pt x="607" y="3805"/>
                    </a:lnTo>
                    <a:lnTo>
                      <a:pt x="656" y="3861"/>
                    </a:lnTo>
                    <a:lnTo>
                      <a:pt x="706" y="3861"/>
                    </a:lnTo>
                    <a:lnTo>
                      <a:pt x="757" y="3835"/>
                    </a:lnTo>
                    <a:lnTo>
                      <a:pt x="706" y="3777"/>
                    </a:lnTo>
                    <a:lnTo>
                      <a:pt x="657" y="3719"/>
                    </a:lnTo>
                    <a:lnTo>
                      <a:pt x="608" y="3659"/>
                    </a:lnTo>
                    <a:lnTo>
                      <a:pt x="561" y="3599"/>
                    </a:lnTo>
                    <a:lnTo>
                      <a:pt x="515" y="3538"/>
                    </a:lnTo>
                    <a:lnTo>
                      <a:pt x="470" y="3476"/>
                    </a:lnTo>
                    <a:lnTo>
                      <a:pt x="425" y="3413"/>
                    </a:lnTo>
                    <a:lnTo>
                      <a:pt x="382" y="3349"/>
                    </a:lnTo>
                    <a:lnTo>
                      <a:pt x="340" y="3285"/>
                    </a:lnTo>
                    <a:lnTo>
                      <a:pt x="299" y="3220"/>
                    </a:lnTo>
                    <a:lnTo>
                      <a:pt x="260" y="3154"/>
                    </a:lnTo>
                    <a:lnTo>
                      <a:pt x="221" y="3088"/>
                    </a:lnTo>
                    <a:lnTo>
                      <a:pt x="184" y="3020"/>
                    </a:lnTo>
                    <a:lnTo>
                      <a:pt x="147" y="2952"/>
                    </a:lnTo>
                    <a:lnTo>
                      <a:pt x="112" y="2882"/>
                    </a:lnTo>
                    <a:lnTo>
                      <a:pt x="78" y="2813"/>
                    </a:lnTo>
                    <a:lnTo>
                      <a:pt x="56" y="2828"/>
                    </a:lnTo>
                    <a:lnTo>
                      <a:pt x="0" y="286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96960" y="4024440"/>
                <a:ext cx="2205360" cy="1158840"/>
              </a:xfrm>
              <a:custGeom>
                <a:avLst/>
                <a:gdLst/>
                <a:ahLst/>
                <a:rect l="l" t="t" r="r" b="b"/>
                <a:pathLst>
                  <a:path w="8337" h="4381">
                    <a:moveTo>
                      <a:pt x="8337" y="935"/>
                    </a:moveTo>
                    <a:lnTo>
                      <a:pt x="8337" y="875"/>
                    </a:lnTo>
                    <a:lnTo>
                      <a:pt x="8335" y="815"/>
                    </a:lnTo>
                    <a:lnTo>
                      <a:pt x="8333" y="755"/>
                    </a:lnTo>
                    <a:lnTo>
                      <a:pt x="8330" y="695"/>
                    </a:lnTo>
                    <a:lnTo>
                      <a:pt x="8326" y="637"/>
                    </a:lnTo>
                    <a:lnTo>
                      <a:pt x="8322" y="578"/>
                    </a:lnTo>
                    <a:lnTo>
                      <a:pt x="8317" y="519"/>
                    </a:lnTo>
                    <a:lnTo>
                      <a:pt x="8311" y="460"/>
                    </a:lnTo>
                    <a:lnTo>
                      <a:pt x="8304" y="401"/>
                    </a:lnTo>
                    <a:lnTo>
                      <a:pt x="8296" y="344"/>
                    </a:lnTo>
                    <a:lnTo>
                      <a:pt x="8288" y="286"/>
                    </a:lnTo>
                    <a:lnTo>
                      <a:pt x="8279" y="227"/>
                    </a:lnTo>
                    <a:lnTo>
                      <a:pt x="8270" y="171"/>
                    </a:lnTo>
                    <a:lnTo>
                      <a:pt x="8259" y="113"/>
                    </a:lnTo>
                    <a:lnTo>
                      <a:pt x="8248" y="57"/>
                    </a:lnTo>
                    <a:lnTo>
                      <a:pt x="8236" y="0"/>
                    </a:lnTo>
                    <a:lnTo>
                      <a:pt x="8210" y="12"/>
                    </a:lnTo>
                    <a:lnTo>
                      <a:pt x="8150" y="42"/>
                    </a:lnTo>
                    <a:lnTo>
                      <a:pt x="8161" y="96"/>
                    </a:lnTo>
                    <a:lnTo>
                      <a:pt x="8172" y="150"/>
                    </a:lnTo>
                    <a:lnTo>
                      <a:pt x="8181" y="205"/>
                    </a:lnTo>
                    <a:lnTo>
                      <a:pt x="8190" y="260"/>
                    </a:lnTo>
                    <a:lnTo>
                      <a:pt x="8198" y="315"/>
                    </a:lnTo>
                    <a:lnTo>
                      <a:pt x="8206" y="370"/>
                    </a:lnTo>
                    <a:lnTo>
                      <a:pt x="8213" y="426"/>
                    </a:lnTo>
                    <a:lnTo>
                      <a:pt x="8220" y="482"/>
                    </a:lnTo>
                    <a:lnTo>
                      <a:pt x="8225" y="537"/>
                    </a:lnTo>
                    <a:lnTo>
                      <a:pt x="8229" y="594"/>
                    </a:lnTo>
                    <a:lnTo>
                      <a:pt x="8234" y="650"/>
                    </a:lnTo>
                    <a:lnTo>
                      <a:pt x="8237" y="707"/>
                    </a:lnTo>
                    <a:lnTo>
                      <a:pt x="8240" y="763"/>
                    </a:lnTo>
                    <a:lnTo>
                      <a:pt x="8242" y="821"/>
                    </a:lnTo>
                    <a:lnTo>
                      <a:pt x="8243" y="877"/>
                    </a:lnTo>
                    <a:lnTo>
                      <a:pt x="8243" y="935"/>
                    </a:lnTo>
                    <a:lnTo>
                      <a:pt x="8241" y="1067"/>
                    </a:lnTo>
                    <a:lnTo>
                      <a:pt x="8235" y="1198"/>
                    </a:lnTo>
                    <a:lnTo>
                      <a:pt x="8226" y="1328"/>
                    </a:lnTo>
                    <a:lnTo>
                      <a:pt x="8212" y="1456"/>
                    </a:lnTo>
                    <a:lnTo>
                      <a:pt x="8195" y="1584"/>
                    </a:lnTo>
                    <a:lnTo>
                      <a:pt x="8173" y="1711"/>
                    </a:lnTo>
                    <a:lnTo>
                      <a:pt x="8149" y="1835"/>
                    </a:lnTo>
                    <a:lnTo>
                      <a:pt x="8120" y="1960"/>
                    </a:lnTo>
                    <a:lnTo>
                      <a:pt x="8087" y="2082"/>
                    </a:lnTo>
                    <a:lnTo>
                      <a:pt x="8053" y="2203"/>
                    </a:lnTo>
                    <a:lnTo>
                      <a:pt x="8014" y="2322"/>
                    </a:lnTo>
                    <a:lnTo>
                      <a:pt x="7971" y="2441"/>
                    </a:lnTo>
                    <a:lnTo>
                      <a:pt x="7926" y="2556"/>
                    </a:lnTo>
                    <a:lnTo>
                      <a:pt x="7876" y="2671"/>
                    </a:lnTo>
                    <a:lnTo>
                      <a:pt x="7824" y="2784"/>
                    </a:lnTo>
                    <a:lnTo>
                      <a:pt x="7769" y="2895"/>
                    </a:lnTo>
                    <a:lnTo>
                      <a:pt x="7711" y="3004"/>
                    </a:lnTo>
                    <a:lnTo>
                      <a:pt x="7650" y="3112"/>
                    </a:lnTo>
                    <a:lnTo>
                      <a:pt x="7586" y="3216"/>
                    </a:lnTo>
                    <a:lnTo>
                      <a:pt x="7518" y="3320"/>
                    </a:lnTo>
                    <a:lnTo>
                      <a:pt x="7448" y="3422"/>
                    </a:lnTo>
                    <a:lnTo>
                      <a:pt x="7375" y="3521"/>
                    </a:lnTo>
                    <a:lnTo>
                      <a:pt x="7300" y="3618"/>
                    </a:lnTo>
                    <a:lnTo>
                      <a:pt x="7221" y="3712"/>
                    </a:lnTo>
                    <a:lnTo>
                      <a:pt x="7140" y="3804"/>
                    </a:lnTo>
                    <a:lnTo>
                      <a:pt x="7056" y="3894"/>
                    </a:lnTo>
                    <a:lnTo>
                      <a:pt x="6971" y="3982"/>
                    </a:lnTo>
                    <a:lnTo>
                      <a:pt x="6882" y="4067"/>
                    </a:lnTo>
                    <a:lnTo>
                      <a:pt x="6791" y="4149"/>
                    </a:lnTo>
                    <a:lnTo>
                      <a:pt x="6698" y="4230"/>
                    </a:lnTo>
                    <a:lnTo>
                      <a:pt x="6602" y="4307"/>
                    </a:lnTo>
                    <a:lnTo>
                      <a:pt x="6505" y="4381"/>
                    </a:lnTo>
                    <a:lnTo>
                      <a:pt x="6524" y="4377"/>
                    </a:lnTo>
                    <a:lnTo>
                      <a:pt x="6679" y="4337"/>
                    </a:lnTo>
                    <a:lnTo>
                      <a:pt x="6729" y="4325"/>
                    </a:lnTo>
                    <a:lnTo>
                      <a:pt x="6819" y="4248"/>
                    </a:lnTo>
                    <a:lnTo>
                      <a:pt x="6909" y="4170"/>
                    </a:lnTo>
                    <a:lnTo>
                      <a:pt x="6995" y="4088"/>
                    </a:lnTo>
                    <a:lnTo>
                      <a:pt x="7079" y="4005"/>
                    </a:lnTo>
                    <a:lnTo>
                      <a:pt x="7161" y="3920"/>
                    </a:lnTo>
                    <a:lnTo>
                      <a:pt x="7241" y="3831"/>
                    </a:lnTo>
                    <a:lnTo>
                      <a:pt x="7318" y="3741"/>
                    </a:lnTo>
                    <a:lnTo>
                      <a:pt x="7394" y="3649"/>
                    </a:lnTo>
                    <a:lnTo>
                      <a:pt x="7466" y="3554"/>
                    </a:lnTo>
                    <a:lnTo>
                      <a:pt x="7536" y="3458"/>
                    </a:lnTo>
                    <a:lnTo>
                      <a:pt x="7603" y="3361"/>
                    </a:lnTo>
                    <a:lnTo>
                      <a:pt x="7669" y="3260"/>
                    </a:lnTo>
                    <a:lnTo>
                      <a:pt x="7731" y="3158"/>
                    </a:lnTo>
                    <a:lnTo>
                      <a:pt x="7790" y="3054"/>
                    </a:lnTo>
                    <a:lnTo>
                      <a:pt x="7846" y="2949"/>
                    </a:lnTo>
                    <a:lnTo>
                      <a:pt x="7901" y="2842"/>
                    </a:lnTo>
                    <a:lnTo>
                      <a:pt x="7951" y="2732"/>
                    </a:lnTo>
                    <a:lnTo>
                      <a:pt x="8000" y="2622"/>
                    </a:lnTo>
                    <a:lnTo>
                      <a:pt x="8045" y="2510"/>
                    </a:lnTo>
                    <a:lnTo>
                      <a:pt x="8086" y="2397"/>
                    </a:lnTo>
                    <a:lnTo>
                      <a:pt x="8125" y="2282"/>
                    </a:lnTo>
                    <a:lnTo>
                      <a:pt x="8161" y="2165"/>
                    </a:lnTo>
                    <a:lnTo>
                      <a:pt x="8193" y="2048"/>
                    </a:lnTo>
                    <a:lnTo>
                      <a:pt x="8223" y="1929"/>
                    </a:lnTo>
                    <a:lnTo>
                      <a:pt x="8249" y="1808"/>
                    </a:lnTo>
                    <a:lnTo>
                      <a:pt x="8272" y="1687"/>
                    </a:lnTo>
                    <a:lnTo>
                      <a:pt x="8292" y="1563"/>
                    </a:lnTo>
                    <a:lnTo>
                      <a:pt x="8308" y="1440"/>
                    </a:lnTo>
                    <a:lnTo>
                      <a:pt x="8320" y="1316"/>
                    </a:lnTo>
                    <a:lnTo>
                      <a:pt x="8330" y="1190"/>
                    </a:lnTo>
                    <a:lnTo>
                      <a:pt x="8334" y="1063"/>
                    </a:lnTo>
                    <a:lnTo>
                      <a:pt x="8337" y="935"/>
                    </a:lnTo>
                    <a:close/>
                    <a:moveTo>
                      <a:pt x="0" y="2818"/>
                    </a:moveTo>
                    <a:lnTo>
                      <a:pt x="33" y="2888"/>
                    </a:lnTo>
                    <a:lnTo>
                      <a:pt x="68" y="2956"/>
                    </a:lnTo>
                    <a:lnTo>
                      <a:pt x="103" y="3024"/>
                    </a:lnTo>
                    <a:lnTo>
                      <a:pt x="142" y="3091"/>
                    </a:lnTo>
                    <a:lnTo>
                      <a:pt x="180" y="3158"/>
                    </a:lnTo>
                    <a:lnTo>
                      <a:pt x="220" y="3223"/>
                    </a:lnTo>
                    <a:lnTo>
                      <a:pt x="260" y="3288"/>
                    </a:lnTo>
                    <a:lnTo>
                      <a:pt x="302" y="3352"/>
                    </a:lnTo>
                    <a:lnTo>
                      <a:pt x="345" y="3416"/>
                    </a:lnTo>
                    <a:lnTo>
                      <a:pt x="388" y="3478"/>
                    </a:lnTo>
                    <a:lnTo>
                      <a:pt x="433" y="3540"/>
                    </a:lnTo>
                    <a:lnTo>
                      <a:pt x="479" y="3601"/>
                    </a:lnTo>
                    <a:lnTo>
                      <a:pt x="527" y="3661"/>
                    </a:lnTo>
                    <a:lnTo>
                      <a:pt x="575" y="3720"/>
                    </a:lnTo>
                    <a:lnTo>
                      <a:pt x="624" y="3779"/>
                    </a:lnTo>
                    <a:lnTo>
                      <a:pt x="674" y="3837"/>
                    </a:lnTo>
                    <a:lnTo>
                      <a:pt x="744" y="3800"/>
                    </a:lnTo>
                    <a:lnTo>
                      <a:pt x="760" y="3792"/>
                    </a:lnTo>
                    <a:lnTo>
                      <a:pt x="709" y="3734"/>
                    </a:lnTo>
                    <a:lnTo>
                      <a:pt x="659" y="3675"/>
                    </a:lnTo>
                    <a:lnTo>
                      <a:pt x="610" y="3616"/>
                    </a:lnTo>
                    <a:lnTo>
                      <a:pt x="563" y="3555"/>
                    </a:lnTo>
                    <a:lnTo>
                      <a:pt x="516" y="3494"/>
                    </a:lnTo>
                    <a:lnTo>
                      <a:pt x="470" y="3432"/>
                    </a:lnTo>
                    <a:lnTo>
                      <a:pt x="425" y="3369"/>
                    </a:lnTo>
                    <a:lnTo>
                      <a:pt x="383" y="3305"/>
                    </a:lnTo>
                    <a:lnTo>
                      <a:pt x="340" y="3241"/>
                    </a:lnTo>
                    <a:lnTo>
                      <a:pt x="300" y="3175"/>
                    </a:lnTo>
                    <a:lnTo>
                      <a:pt x="259" y="3108"/>
                    </a:lnTo>
                    <a:lnTo>
                      <a:pt x="220" y="3041"/>
                    </a:lnTo>
                    <a:lnTo>
                      <a:pt x="183" y="2973"/>
                    </a:lnTo>
                    <a:lnTo>
                      <a:pt x="146" y="2905"/>
                    </a:lnTo>
                    <a:lnTo>
                      <a:pt x="112" y="2835"/>
                    </a:lnTo>
                    <a:lnTo>
                      <a:pt x="77" y="2766"/>
                    </a:lnTo>
                    <a:lnTo>
                      <a:pt x="16" y="2807"/>
                    </a:lnTo>
                    <a:lnTo>
                      <a:pt x="0" y="2818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6680" y="4030560"/>
                <a:ext cx="2182680" cy="1158840"/>
              </a:xfrm>
              <a:custGeom>
                <a:avLst/>
                <a:gdLst/>
                <a:ahLst/>
                <a:rect l="l" t="t" r="r" b="b"/>
                <a:pathLst>
                  <a:path w="8252" h="4380">
                    <a:moveTo>
                      <a:pt x="8252" y="914"/>
                    </a:moveTo>
                    <a:lnTo>
                      <a:pt x="8251" y="855"/>
                    </a:lnTo>
                    <a:lnTo>
                      <a:pt x="8250" y="797"/>
                    </a:lnTo>
                    <a:lnTo>
                      <a:pt x="8248" y="739"/>
                    </a:lnTo>
                    <a:lnTo>
                      <a:pt x="8245" y="680"/>
                    </a:lnTo>
                    <a:lnTo>
                      <a:pt x="8242" y="622"/>
                    </a:lnTo>
                    <a:lnTo>
                      <a:pt x="8237" y="565"/>
                    </a:lnTo>
                    <a:lnTo>
                      <a:pt x="8233" y="507"/>
                    </a:lnTo>
                    <a:lnTo>
                      <a:pt x="8227" y="450"/>
                    </a:lnTo>
                    <a:lnTo>
                      <a:pt x="8220" y="393"/>
                    </a:lnTo>
                    <a:lnTo>
                      <a:pt x="8213" y="335"/>
                    </a:lnTo>
                    <a:lnTo>
                      <a:pt x="8205" y="279"/>
                    </a:lnTo>
                    <a:lnTo>
                      <a:pt x="8197" y="222"/>
                    </a:lnTo>
                    <a:lnTo>
                      <a:pt x="8188" y="167"/>
                    </a:lnTo>
                    <a:lnTo>
                      <a:pt x="8177" y="111"/>
                    </a:lnTo>
                    <a:lnTo>
                      <a:pt x="8166" y="55"/>
                    </a:lnTo>
                    <a:lnTo>
                      <a:pt x="8155" y="0"/>
                    </a:lnTo>
                    <a:lnTo>
                      <a:pt x="8098" y="28"/>
                    </a:lnTo>
                    <a:lnTo>
                      <a:pt x="8071" y="54"/>
                    </a:lnTo>
                    <a:lnTo>
                      <a:pt x="8082" y="107"/>
                    </a:lnTo>
                    <a:lnTo>
                      <a:pt x="8092" y="159"/>
                    </a:lnTo>
                    <a:lnTo>
                      <a:pt x="8100" y="212"/>
                    </a:lnTo>
                    <a:lnTo>
                      <a:pt x="8109" y="265"/>
                    </a:lnTo>
                    <a:lnTo>
                      <a:pt x="8117" y="318"/>
                    </a:lnTo>
                    <a:lnTo>
                      <a:pt x="8124" y="371"/>
                    </a:lnTo>
                    <a:lnTo>
                      <a:pt x="8130" y="424"/>
                    </a:lnTo>
                    <a:lnTo>
                      <a:pt x="8137" y="478"/>
                    </a:lnTo>
                    <a:lnTo>
                      <a:pt x="8142" y="531"/>
                    </a:lnTo>
                    <a:lnTo>
                      <a:pt x="8146" y="586"/>
                    </a:lnTo>
                    <a:lnTo>
                      <a:pt x="8150" y="640"/>
                    </a:lnTo>
                    <a:lnTo>
                      <a:pt x="8153" y="694"/>
                    </a:lnTo>
                    <a:lnTo>
                      <a:pt x="8155" y="749"/>
                    </a:lnTo>
                    <a:lnTo>
                      <a:pt x="8158" y="803"/>
                    </a:lnTo>
                    <a:lnTo>
                      <a:pt x="8158" y="859"/>
                    </a:lnTo>
                    <a:lnTo>
                      <a:pt x="8159" y="914"/>
                    </a:lnTo>
                    <a:lnTo>
                      <a:pt x="8157" y="1048"/>
                    </a:lnTo>
                    <a:lnTo>
                      <a:pt x="8151" y="1180"/>
                    </a:lnTo>
                    <a:lnTo>
                      <a:pt x="8140" y="1312"/>
                    </a:lnTo>
                    <a:lnTo>
                      <a:pt x="8125" y="1443"/>
                    </a:lnTo>
                    <a:lnTo>
                      <a:pt x="8108" y="1572"/>
                    </a:lnTo>
                    <a:lnTo>
                      <a:pt x="8086" y="1700"/>
                    </a:lnTo>
                    <a:lnTo>
                      <a:pt x="8060" y="1827"/>
                    </a:lnTo>
                    <a:lnTo>
                      <a:pt x="8031" y="1953"/>
                    </a:lnTo>
                    <a:lnTo>
                      <a:pt x="7997" y="2076"/>
                    </a:lnTo>
                    <a:lnTo>
                      <a:pt x="7961" y="2198"/>
                    </a:lnTo>
                    <a:lnTo>
                      <a:pt x="7920" y="2319"/>
                    </a:lnTo>
                    <a:lnTo>
                      <a:pt x="7876" y="2438"/>
                    </a:lnTo>
                    <a:lnTo>
                      <a:pt x="7829" y="2556"/>
                    </a:lnTo>
                    <a:lnTo>
                      <a:pt x="7778" y="2671"/>
                    </a:lnTo>
                    <a:lnTo>
                      <a:pt x="7724" y="2785"/>
                    </a:lnTo>
                    <a:lnTo>
                      <a:pt x="7666" y="2897"/>
                    </a:lnTo>
                    <a:lnTo>
                      <a:pt x="7606" y="3006"/>
                    </a:lnTo>
                    <a:lnTo>
                      <a:pt x="7543" y="3115"/>
                    </a:lnTo>
                    <a:lnTo>
                      <a:pt x="7476" y="3221"/>
                    </a:lnTo>
                    <a:lnTo>
                      <a:pt x="7407" y="3325"/>
                    </a:lnTo>
                    <a:lnTo>
                      <a:pt x="7334" y="3426"/>
                    </a:lnTo>
                    <a:lnTo>
                      <a:pt x="7258" y="3525"/>
                    </a:lnTo>
                    <a:lnTo>
                      <a:pt x="7180" y="3622"/>
                    </a:lnTo>
                    <a:lnTo>
                      <a:pt x="7099" y="3716"/>
                    </a:lnTo>
                    <a:lnTo>
                      <a:pt x="7015" y="3809"/>
                    </a:lnTo>
                    <a:lnTo>
                      <a:pt x="6928" y="3899"/>
                    </a:lnTo>
                    <a:lnTo>
                      <a:pt x="6839" y="3986"/>
                    </a:lnTo>
                    <a:lnTo>
                      <a:pt x="6748" y="4070"/>
                    </a:lnTo>
                    <a:lnTo>
                      <a:pt x="6654" y="4152"/>
                    </a:lnTo>
                    <a:lnTo>
                      <a:pt x="6558" y="4232"/>
                    </a:lnTo>
                    <a:lnTo>
                      <a:pt x="6459" y="4308"/>
                    </a:lnTo>
                    <a:lnTo>
                      <a:pt x="6358" y="4380"/>
                    </a:lnTo>
                    <a:lnTo>
                      <a:pt x="6486" y="4356"/>
                    </a:lnTo>
                    <a:lnTo>
                      <a:pt x="6582" y="4331"/>
                    </a:lnTo>
                    <a:lnTo>
                      <a:pt x="6676" y="4256"/>
                    </a:lnTo>
                    <a:lnTo>
                      <a:pt x="6768" y="4178"/>
                    </a:lnTo>
                    <a:lnTo>
                      <a:pt x="6858" y="4097"/>
                    </a:lnTo>
                    <a:lnTo>
                      <a:pt x="6946" y="4014"/>
                    </a:lnTo>
                    <a:lnTo>
                      <a:pt x="7031" y="3929"/>
                    </a:lnTo>
                    <a:lnTo>
                      <a:pt x="7113" y="3841"/>
                    </a:lnTo>
                    <a:lnTo>
                      <a:pt x="7194" y="3750"/>
                    </a:lnTo>
                    <a:lnTo>
                      <a:pt x="7272" y="3658"/>
                    </a:lnTo>
                    <a:lnTo>
                      <a:pt x="7347" y="3563"/>
                    </a:lnTo>
                    <a:lnTo>
                      <a:pt x="7420" y="3467"/>
                    </a:lnTo>
                    <a:lnTo>
                      <a:pt x="7490" y="3368"/>
                    </a:lnTo>
                    <a:lnTo>
                      <a:pt x="7557" y="3268"/>
                    </a:lnTo>
                    <a:lnTo>
                      <a:pt x="7621" y="3165"/>
                    </a:lnTo>
                    <a:lnTo>
                      <a:pt x="7683" y="3061"/>
                    </a:lnTo>
                    <a:lnTo>
                      <a:pt x="7743" y="2954"/>
                    </a:lnTo>
                    <a:lnTo>
                      <a:pt x="7798" y="2846"/>
                    </a:lnTo>
                    <a:lnTo>
                      <a:pt x="7851" y="2735"/>
                    </a:lnTo>
                    <a:lnTo>
                      <a:pt x="7901" y="2625"/>
                    </a:lnTo>
                    <a:lnTo>
                      <a:pt x="7948" y="2511"/>
                    </a:lnTo>
                    <a:lnTo>
                      <a:pt x="7992" y="2397"/>
                    </a:lnTo>
                    <a:lnTo>
                      <a:pt x="8032" y="2280"/>
                    </a:lnTo>
                    <a:lnTo>
                      <a:pt x="8069" y="2163"/>
                    </a:lnTo>
                    <a:lnTo>
                      <a:pt x="8104" y="2043"/>
                    </a:lnTo>
                    <a:lnTo>
                      <a:pt x="8134" y="1922"/>
                    </a:lnTo>
                    <a:lnTo>
                      <a:pt x="8161" y="1801"/>
                    </a:lnTo>
                    <a:lnTo>
                      <a:pt x="8184" y="1677"/>
                    </a:lnTo>
                    <a:lnTo>
                      <a:pt x="8205" y="1553"/>
                    </a:lnTo>
                    <a:lnTo>
                      <a:pt x="8221" y="1427"/>
                    </a:lnTo>
                    <a:lnTo>
                      <a:pt x="8235" y="1300"/>
                    </a:lnTo>
                    <a:lnTo>
                      <a:pt x="8244" y="1172"/>
                    </a:lnTo>
                    <a:lnTo>
                      <a:pt x="8250" y="1043"/>
                    </a:lnTo>
                    <a:lnTo>
                      <a:pt x="8252" y="914"/>
                    </a:lnTo>
                    <a:close/>
                    <a:moveTo>
                      <a:pt x="0" y="2771"/>
                    </a:moveTo>
                    <a:lnTo>
                      <a:pt x="34" y="2840"/>
                    </a:lnTo>
                    <a:lnTo>
                      <a:pt x="69" y="2910"/>
                    </a:lnTo>
                    <a:lnTo>
                      <a:pt x="106" y="2978"/>
                    </a:lnTo>
                    <a:lnTo>
                      <a:pt x="143" y="3046"/>
                    </a:lnTo>
                    <a:lnTo>
                      <a:pt x="182" y="3112"/>
                    </a:lnTo>
                    <a:lnTo>
                      <a:pt x="221" y="3178"/>
                    </a:lnTo>
                    <a:lnTo>
                      <a:pt x="262" y="3243"/>
                    </a:lnTo>
                    <a:lnTo>
                      <a:pt x="304" y="3307"/>
                    </a:lnTo>
                    <a:lnTo>
                      <a:pt x="347" y="3371"/>
                    </a:lnTo>
                    <a:lnTo>
                      <a:pt x="392" y="3434"/>
                    </a:lnTo>
                    <a:lnTo>
                      <a:pt x="437" y="3496"/>
                    </a:lnTo>
                    <a:lnTo>
                      <a:pt x="483" y="3557"/>
                    </a:lnTo>
                    <a:lnTo>
                      <a:pt x="530" y="3617"/>
                    </a:lnTo>
                    <a:lnTo>
                      <a:pt x="579" y="3677"/>
                    </a:lnTo>
                    <a:lnTo>
                      <a:pt x="628" y="3735"/>
                    </a:lnTo>
                    <a:lnTo>
                      <a:pt x="679" y="3793"/>
                    </a:lnTo>
                    <a:lnTo>
                      <a:pt x="706" y="3779"/>
                    </a:lnTo>
                    <a:lnTo>
                      <a:pt x="764" y="3750"/>
                    </a:lnTo>
                    <a:lnTo>
                      <a:pt x="714" y="3691"/>
                    </a:lnTo>
                    <a:lnTo>
                      <a:pt x="663" y="3632"/>
                    </a:lnTo>
                    <a:lnTo>
                      <a:pt x="614" y="3572"/>
                    </a:lnTo>
                    <a:lnTo>
                      <a:pt x="566" y="3512"/>
                    </a:lnTo>
                    <a:lnTo>
                      <a:pt x="519" y="3450"/>
                    </a:lnTo>
                    <a:lnTo>
                      <a:pt x="473" y="3388"/>
                    </a:lnTo>
                    <a:lnTo>
                      <a:pt x="429" y="3325"/>
                    </a:lnTo>
                    <a:lnTo>
                      <a:pt x="385" y="3260"/>
                    </a:lnTo>
                    <a:lnTo>
                      <a:pt x="342" y="3195"/>
                    </a:lnTo>
                    <a:lnTo>
                      <a:pt x="301" y="3130"/>
                    </a:lnTo>
                    <a:lnTo>
                      <a:pt x="260" y="3063"/>
                    </a:lnTo>
                    <a:lnTo>
                      <a:pt x="222" y="2995"/>
                    </a:lnTo>
                    <a:lnTo>
                      <a:pt x="184" y="2927"/>
                    </a:lnTo>
                    <a:lnTo>
                      <a:pt x="147" y="2858"/>
                    </a:lnTo>
                    <a:lnTo>
                      <a:pt x="113" y="2788"/>
                    </a:lnTo>
                    <a:lnTo>
                      <a:pt x="78" y="2718"/>
                    </a:lnTo>
                    <a:lnTo>
                      <a:pt x="0" y="277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16040" y="4035600"/>
                <a:ext cx="2162160" cy="1157040"/>
              </a:xfrm>
              <a:custGeom>
                <a:avLst/>
                <a:gdLst/>
                <a:ahLst/>
                <a:rect l="l" t="t" r="r" b="b"/>
                <a:pathLst>
                  <a:path w="8166" h="4372">
                    <a:moveTo>
                      <a:pt x="8166" y="893"/>
                    </a:moveTo>
                    <a:lnTo>
                      <a:pt x="8166" y="835"/>
                    </a:lnTo>
                    <a:lnTo>
                      <a:pt x="8165" y="779"/>
                    </a:lnTo>
                    <a:lnTo>
                      <a:pt x="8163" y="721"/>
                    </a:lnTo>
                    <a:lnTo>
                      <a:pt x="8160" y="665"/>
                    </a:lnTo>
                    <a:lnTo>
                      <a:pt x="8157" y="608"/>
                    </a:lnTo>
                    <a:lnTo>
                      <a:pt x="8152" y="552"/>
                    </a:lnTo>
                    <a:lnTo>
                      <a:pt x="8148" y="495"/>
                    </a:lnTo>
                    <a:lnTo>
                      <a:pt x="8143" y="440"/>
                    </a:lnTo>
                    <a:lnTo>
                      <a:pt x="8136" y="384"/>
                    </a:lnTo>
                    <a:lnTo>
                      <a:pt x="8129" y="328"/>
                    </a:lnTo>
                    <a:lnTo>
                      <a:pt x="8121" y="273"/>
                    </a:lnTo>
                    <a:lnTo>
                      <a:pt x="8113" y="218"/>
                    </a:lnTo>
                    <a:lnTo>
                      <a:pt x="8104" y="163"/>
                    </a:lnTo>
                    <a:lnTo>
                      <a:pt x="8095" y="108"/>
                    </a:lnTo>
                    <a:lnTo>
                      <a:pt x="8084" y="54"/>
                    </a:lnTo>
                    <a:lnTo>
                      <a:pt x="8073" y="0"/>
                    </a:lnTo>
                    <a:lnTo>
                      <a:pt x="8059" y="7"/>
                    </a:lnTo>
                    <a:lnTo>
                      <a:pt x="7993" y="74"/>
                    </a:lnTo>
                    <a:lnTo>
                      <a:pt x="8002" y="123"/>
                    </a:lnTo>
                    <a:lnTo>
                      <a:pt x="8012" y="173"/>
                    </a:lnTo>
                    <a:lnTo>
                      <a:pt x="8020" y="223"/>
                    </a:lnTo>
                    <a:lnTo>
                      <a:pt x="8028" y="274"/>
                    </a:lnTo>
                    <a:lnTo>
                      <a:pt x="8035" y="325"/>
                    </a:lnTo>
                    <a:lnTo>
                      <a:pt x="8042" y="376"/>
                    </a:lnTo>
                    <a:lnTo>
                      <a:pt x="8047" y="426"/>
                    </a:lnTo>
                    <a:lnTo>
                      <a:pt x="8053" y="477"/>
                    </a:lnTo>
                    <a:lnTo>
                      <a:pt x="8058" y="529"/>
                    </a:lnTo>
                    <a:lnTo>
                      <a:pt x="8061" y="581"/>
                    </a:lnTo>
                    <a:lnTo>
                      <a:pt x="8065" y="631"/>
                    </a:lnTo>
                    <a:lnTo>
                      <a:pt x="8068" y="683"/>
                    </a:lnTo>
                    <a:lnTo>
                      <a:pt x="8070" y="736"/>
                    </a:lnTo>
                    <a:lnTo>
                      <a:pt x="8072" y="788"/>
                    </a:lnTo>
                    <a:lnTo>
                      <a:pt x="8073" y="840"/>
                    </a:lnTo>
                    <a:lnTo>
                      <a:pt x="8073" y="893"/>
                    </a:lnTo>
                    <a:lnTo>
                      <a:pt x="8072" y="1028"/>
                    </a:lnTo>
                    <a:lnTo>
                      <a:pt x="8065" y="1163"/>
                    </a:lnTo>
                    <a:lnTo>
                      <a:pt x="8054" y="1295"/>
                    </a:lnTo>
                    <a:lnTo>
                      <a:pt x="8039" y="1428"/>
                    </a:lnTo>
                    <a:lnTo>
                      <a:pt x="8021" y="1558"/>
                    </a:lnTo>
                    <a:lnTo>
                      <a:pt x="7998" y="1687"/>
                    </a:lnTo>
                    <a:lnTo>
                      <a:pt x="7971" y="1815"/>
                    </a:lnTo>
                    <a:lnTo>
                      <a:pt x="7941" y="1942"/>
                    </a:lnTo>
                    <a:lnTo>
                      <a:pt x="7907" y="2067"/>
                    </a:lnTo>
                    <a:lnTo>
                      <a:pt x="7869" y="2190"/>
                    </a:lnTo>
                    <a:lnTo>
                      <a:pt x="7827" y="2312"/>
                    </a:lnTo>
                    <a:lnTo>
                      <a:pt x="7782" y="2432"/>
                    </a:lnTo>
                    <a:lnTo>
                      <a:pt x="7732" y="2550"/>
                    </a:lnTo>
                    <a:lnTo>
                      <a:pt x="7680" y="2666"/>
                    </a:lnTo>
                    <a:lnTo>
                      <a:pt x="7625" y="2781"/>
                    </a:lnTo>
                    <a:lnTo>
                      <a:pt x="7565" y="2893"/>
                    </a:lnTo>
                    <a:lnTo>
                      <a:pt x="7503" y="3004"/>
                    </a:lnTo>
                    <a:lnTo>
                      <a:pt x="7438" y="3112"/>
                    </a:lnTo>
                    <a:lnTo>
                      <a:pt x="7369" y="3218"/>
                    </a:lnTo>
                    <a:lnTo>
                      <a:pt x="7298" y="3322"/>
                    </a:lnTo>
                    <a:lnTo>
                      <a:pt x="7223" y="3423"/>
                    </a:lnTo>
                    <a:lnTo>
                      <a:pt x="7145" y="3524"/>
                    </a:lnTo>
                    <a:lnTo>
                      <a:pt x="7065" y="3621"/>
                    </a:lnTo>
                    <a:lnTo>
                      <a:pt x="6982" y="3714"/>
                    </a:lnTo>
                    <a:lnTo>
                      <a:pt x="6895" y="3806"/>
                    </a:lnTo>
                    <a:lnTo>
                      <a:pt x="6806" y="3895"/>
                    </a:lnTo>
                    <a:lnTo>
                      <a:pt x="6714" y="3982"/>
                    </a:lnTo>
                    <a:lnTo>
                      <a:pt x="6621" y="4065"/>
                    </a:lnTo>
                    <a:lnTo>
                      <a:pt x="6524" y="4146"/>
                    </a:lnTo>
                    <a:lnTo>
                      <a:pt x="6424" y="4225"/>
                    </a:lnTo>
                    <a:lnTo>
                      <a:pt x="6323" y="4299"/>
                    </a:lnTo>
                    <a:lnTo>
                      <a:pt x="6220" y="4372"/>
                    </a:lnTo>
                    <a:lnTo>
                      <a:pt x="6256" y="4372"/>
                    </a:lnTo>
                    <a:lnTo>
                      <a:pt x="6428" y="4339"/>
                    </a:lnTo>
                    <a:lnTo>
                      <a:pt x="6525" y="4265"/>
                    </a:lnTo>
                    <a:lnTo>
                      <a:pt x="6621" y="4188"/>
                    </a:lnTo>
                    <a:lnTo>
                      <a:pt x="6714" y="4107"/>
                    </a:lnTo>
                    <a:lnTo>
                      <a:pt x="6805" y="4025"/>
                    </a:lnTo>
                    <a:lnTo>
                      <a:pt x="6894" y="3940"/>
                    </a:lnTo>
                    <a:lnTo>
                      <a:pt x="6979" y="3852"/>
                    </a:lnTo>
                    <a:lnTo>
                      <a:pt x="7063" y="3762"/>
                    </a:lnTo>
                    <a:lnTo>
                      <a:pt x="7144" y="3670"/>
                    </a:lnTo>
                    <a:lnTo>
                      <a:pt x="7223" y="3576"/>
                    </a:lnTo>
                    <a:lnTo>
                      <a:pt x="7298" y="3479"/>
                    </a:lnTo>
                    <a:lnTo>
                      <a:pt x="7371" y="3380"/>
                    </a:lnTo>
                    <a:lnTo>
                      <a:pt x="7441" y="3278"/>
                    </a:lnTo>
                    <a:lnTo>
                      <a:pt x="7509" y="3174"/>
                    </a:lnTo>
                    <a:lnTo>
                      <a:pt x="7573" y="3070"/>
                    </a:lnTo>
                    <a:lnTo>
                      <a:pt x="7634" y="2962"/>
                    </a:lnTo>
                    <a:lnTo>
                      <a:pt x="7692" y="2853"/>
                    </a:lnTo>
                    <a:lnTo>
                      <a:pt x="7747" y="2742"/>
                    </a:lnTo>
                    <a:lnTo>
                      <a:pt x="7799" y="2629"/>
                    </a:lnTo>
                    <a:lnTo>
                      <a:pt x="7849" y="2514"/>
                    </a:lnTo>
                    <a:lnTo>
                      <a:pt x="7894" y="2399"/>
                    </a:lnTo>
                    <a:lnTo>
                      <a:pt x="7937" y="2280"/>
                    </a:lnTo>
                    <a:lnTo>
                      <a:pt x="7976" y="2161"/>
                    </a:lnTo>
                    <a:lnTo>
                      <a:pt x="8010" y="2040"/>
                    </a:lnTo>
                    <a:lnTo>
                      <a:pt x="8043" y="1918"/>
                    </a:lnTo>
                    <a:lnTo>
                      <a:pt x="8072" y="1793"/>
                    </a:lnTo>
                    <a:lnTo>
                      <a:pt x="8096" y="1669"/>
                    </a:lnTo>
                    <a:lnTo>
                      <a:pt x="8118" y="1542"/>
                    </a:lnTo>
                    <a:lnTo>
                      <a:pt x="8135" y="1414"/>
                    </a:lnTo>
                    <a:lnTo>
                      <a:pt x="8149" y="1286"/>
                    </a:lnTo>
                    <a:lnTo>
                      <a:pt x="8158" y="1156"/>
                    </a:lnTo>
                    <a:lnTo>
                      <a:pt x="8164" y="1025"/>
                    </a:lnTo>
                    <a:lnTo>
                      <a:pt x="8166" y="893"/>
                    </a:lnTo>
                    <a:close/>
                    <a:moveTo>
                      <a:pt x="0" y="2724"/>
                    </a:moveTo>
                    <a:lnTo>
                      <a:pt x="35" y="2793"/>
                    </a:lnTo>
                    <a:lnTo>
                      <a:pt x="69" y="2863"/>
                    </a:lnTo>
                    <a:lnTo>
                      <a:pt x="106" y="2931"/>
                    </a:lnTo>
                    <a:lnTo>
                      <a:pt x="143" y="2999"/>
                    </a:lnTo>
                    <a:lnTo>
                      <a:pt x="182" y="3066"/>
                    </a:lnTo>
                    <a:lnTo>
                      <a:pt x="223" y="3133"/>
                    </a:lnTo>
                    <a:lnTo>
                      <a:pt x="263" y="3199"/>
                    </a:lnTo>
                    <a:lnTo>
                      <a:pt x="306" y="3263"/>
                    </a:lnTo>
                    <a:lnTo>
                      <a:pt x="348" y="3327"/>
                    </a:lnTo>
                    <a:lnTo>
                      <a:pt x="393" y="3390"/>
                    </a:lnTo>
                    <a:lnTo>
                      <a:pt x="439" y="3452"/>
                    </a:lnTo>
                    <a:lnTo>
                      <a:pt x="486" y="3513"/>
                    </a:lnTo>
                    <a:lnTo>
                      <a:pt x="533" y="3574"/>
                    </a:lnTo>
                    <a:lnTo>
                      <a:pt x="582" y="3633"/>
                    </a:lnTo>
                    <a:lnTo>
                      <a:pt x="632" y="3692"/>
                    </a:lnTo>
                    <a:lnTo>
                      <a:pt x="683" y="3750"/>
                    </a:lnTo>
                    <a:lnTo>
                      <a:pt x="740" y="3721"/>
                    </a:lnTo>
                    <a:lnTo>
                      <a:pt x="769" y="3707"/>
                    </a:lnTo>
                    <a:lnTo>
                      <a:pt x="719" y="3649"/>
                    </a:lnTo>
                    <a:lnTo>
                      <a:pt x="668" y="3592"/>
                    </a:lnTo>
                    <a:lnTo>
                      <a:pt x="618" y="3532"/>
                    </a:lnTo>
                    <a:lnTo>
                      <a:pt x="571" y="3472"/>
                    </a:lnTo>
                    <a:lnTo>
                      <a:pt x="524" y="3410"/>
                    </a:lnTo>
                    <a:lnTo>
                      <a:pt x="477" y="3347"/>
                    </a:lnTo>
                    <a:lnTo>
                      <a:pt x="432" y="3285"/>
                    </a:lnTo>
                    <a:lnTo>
                      <a:pt x="390" y="3221"/>
                    </a:lnTo>
                    <a:lnTo>
                      <a:pt x="347" y="3156"/>
                    </a:lnTo>
                    <a:lnTo>
                      <a:pt x="306" y="3090"/>
                    </a:lnTo>
                    <a:lnTo>
                      <a:pt x="265" y="3025"/>
                    </a:lnTo>
                    <a:lnTo>
                      <a:pt x="226" y="2957"/>
                    </a:lnTo>
                    <a:lnTo>
                      <a:pt x="189" y="2889"/>
                    </a:lnTo>
                    <a:lnTo>
                      <a:pt x="152" y="2821"/>
                    </a:lnTo>
                    <a:lnTo>
                      <a:pt x="118" y="2750"/>
                    </a:lnTo>
                    <a:lnTo>
                      <a:pt x="83" y="2681"/>
                    </a:lnTo>
                    <a:lnTo>
                      <a:pt x="53" y="2688"/>
                    </a:lnTo>
                    <a:lnTo>
                      <a:pt x="0" y="272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27200" y="4044960"/>
                <a:ext cx="2138400" cy="1147680"/>
              </a:xfrm>
              <a:custGeom>
                <a:avLst/>
                <a:gdLst/>
                <a:ahLst/>
                <a:rect l="l" t="t" r="r" b="b"/>
                <a:pathLst>
                  <a:path w="8081" h="4339">
                    <a:moveTo>
                      <a:pt x="8081" y="860"/>
                    </a:moveTo>
                    <a:lnTo>
                      <a:pt x="8080" y="805"/>
                    </a:lnTo>
                    <a:lnTo>
                      <a:pt x="8080" y="749"/>
                    </a:lnTo>
                    <a:lnTo>
                      <a:pt x="8077" y="695"/>
                    </a:lnTo>
                    <a:lnTo>
                      <a:pt x="8075" y="640"/>
                    </a:lnTo>
                    <a:lnTo>
                      <a:pt x="8072" y="586"/>
                    </a:lnTo>
                    <a:lnTo>
                      <a:pt x="8068" y="532"/>
                    </a:lnTo>
                    <a:lnTo>
                      <a:pt x="8064" y="477"/>
                    </a:lnTo>
                    <a:lnTo>
                      <a:pt x="8059" y="424"/>
                    </a:lnTo>
                    <a:lnTo>
                      <a:pt x="8052" y="370"/>
                    </a:lnTo>
                    <a:lnTo>
                      <a:pt x="8046" y="317"/>
                    </a:lnTo>
                    <a:lnTo>
                      <a:pt x="8039" y="264"/>
                    </a:lnTo>
                    <a:lnTo>
                      <a:pt x="8031" y="210"/>
                    </a:lnTo>
                    <a:lnTo>
                      <a:pt x="8022" y="158"/>
                    </a:lnTo>
                    <a:lnTo>
                      <a:pt x="8014" y="105"/>
                    </a:lnTo>
                    <a:lnTo>
                      <a:pt x="8004" y="53"/>
                    </a:lnTo>
                    <a:lnTo>
                      <a:pt x="7993" y="0"/>
                    </a:lnTo>
                    <a:lnTo>
                      <a:pt x="7943" y="51"/>
                    </a:lnTo>
                    <a:lnTo>
                      <a:pt x="7911" y="67"/>
                    </a:lnTo>
                    <a:lnTo>
                      <a:pt x="7929" y="164"/>
                    </a:lnTo>
                    <a:lnTo>
                      <a:pt x="7945" y="262"/>
                    </a:lnTo>
                    <a:lnTo>
                      <a:pt x="7958" y="360"/>
                    </a:lnTo>
                    <a:lnTo>
                      <a:pt x="7968" y="458"/>
                    </a:lnTo>
                    <a:lnTo>
                      <a:pt x="7973" y="509"/>
                    </a:lnTo>
                    <a:lnTo>
                      <a:pt x="7976" y="558"/>
                    </a:lnTo>
                    <a:lnTo>
                      <a:pt x="7979" y="608"/>
                    </a:lnTo>
                    <a:lnTo>
                      <a:pt x="7983" y="658"/>
                    </a:lnTo>
                    <a:lnTo>
                      <a:pt x="7985" y="708"/>
                    </a:lnTo>
                    <a:lnTo>
                      <a:pt x="7986" y="759"/>
                    </a:lnTo>
                    <a:lnTo>
                      <a:pt x="7988" y="809"/>
                    </a:lnTo>
                    <a:lnTo>
                      <a:pt x="7988" y="860"/>
                    </a:lnTo>
                    <a:lnTo>
                      <a:pt x="7985" y="996"/>
                    </a:lnTo>
                    <a:lnTo>
                      <a:pt x="7978" y="1131"/>
                    </a:lnTo>
                    <a:lnTo>
                      <a:pt x="7968" y="1265"/>
                    </a:lnTo>
                    <a:lnTo>
                      <a:pt x="7953" y="1397"/>
                    </a:lnTo>
                    <a:lnTo>
                      <a:pt x="7933" y="1529"/>
                    </a:lnTo>
                    <a:lnTo>
                      <a:pt x="7910" y="1659"/>
                    </a:lnTo>
                    <a:lnTo>
                      <a:pt x="7883" y="1788"/>
                    </a:lnTo>
                    <a:lnTo>
                      <a:pt x="7853" y="1915"/>
                    </a:lnTo>
                    <a:lnTo>
                      <a:pt x="7817" y="2041"/>
                    </a:lnTo>
                    <a:lnTo>
                      <a:pt x="7778" y="2164"/>
                    </a:lnTo>
                    <a:lnTo>
                      <a:pt x="7735" y="2286"/>
                    </a:lnTo>
                    <a:lnTo>
                      <a:pt x="7689" y="2406"/>
                    </a:lnTo>
                    <a:lnTo>
                      <a:pt x="7639" y="2525"/>
                    </a:lnTo>
                    <a:lnTo>
                      <a:pt x="7586" y="2641"/>
                    </a:lnTo>
                    <a:lnTo>
                      <a:pt x="7528" y="2756"/>
                    </a:lnTo>
                    <a:lnTo>
                      <a:pt x="7468" y="2869"/>
                    </a:lnTo>
                    <a:lnTo>
                      <a:pt x="7405" y="2979"/>
                    </a:lnTo>
                    <a:lnTo>
                      <a:pt x="7338" y="3087"/>
                    </a:lnTo>
                    <a:lnTo>
                      <a:pt x="7268" y="3194"/>
                    </a:lnTo>
                    <a:lnTo>
                      <a:pt x="7195" y="3298"/>
                    </a:lnTo>
                    <a:lnTo>
                      <a:pt x="7118" y="3400"/>
                    </a:lnTo>
                    <a:lnTo>
                      <a:pt x="7039" y="3498"/>
                    </a:lnTo>
                    <a:lnTo>
                      <a:pt x="6956" y="3594"/>
                    </a:lnTo>
                    <a:lnTo>
                      <a:pt x="6872" y="3689"/>
                    </a:lnTo>
                    <a:lnTo>
                      <a:pt x="6783" y="3780"/>
                    </a:lnTo>
                    <a:lnTo>
                      <a:pt x="6693" y="3869"/>
                    </a:lnTo>
                    <a:lnTo>
                      <a:pt x="6600" y="3954"/>
                    </a:lnTo>
                    <a:lnTo>
                      <a:pt x="6504" y="4037"/>
                    </a:lnTo>
                    <a:lnTo>
                      <a:pt x="6406" y="4117"/>
                    </a:lnTo>
                    <a:lnTo>
                      <a:pt x="6305" y="4194"/>
                    </a:lnTo>
                    <a:lnTo>
                      <a:pt x="6202" y="4268"/>
                    </a:lnTo>
                    <a:lnTo>
                      <a:pt x="6096" y="4339"/>
                    </a:lnTo>
                    <a:lnTo>
                      <a:pt x="6217" y="4339"/>
                    </a:lnTo>
                    <a:lnTo>
                      <a:pt x="6280" y="4326"/>
                    </a:lnTo>
                    <a:lnTo>
                      <a:pt x="6381" y="4254"/>
                    </a:lnTo>
                    <a:lnTo>
                      <a:pt x="6480" y="4177"/>
                    </a:lnTo>
                    <a:lnTo>
                      <a:pt x="6576" y="4098"/>
                    </a:lnTo>
                    <a:lnTo>
                      <a:pt x="6670" y="4016"/>
                    </a:lnTo>
                    <a:lnTo>
                      <a:pt x="6761" y="3932"/>
                    </a:lnTo>
                    <a:lnTo>
                      <a:pt x="6850" y="3845"/>
                    </a:lnTo>
                    <a:lnTo>
                      <a:pt x="6937" y="3755"/>
                    </a:lnTo>
                    <a:lnTo>
                      <a:pt x="7021" y="3662"/>
                    </a:lnTo>
                    <a:lnTo>
                      <a:pt x="7102" y="3568"/>
                    </a:lnTo>
                    <a:lnTo>
                      <a:pt x="7180" y="3471"/>
                    </a:lnTo>
                    <a:lnTo>
                      <a:pt x="7256" y="3372"/>
                    </a:lnTo>
                    <a:lnTo>
                      <a:pt x="7329" y="3271"/>
                    </a:lnTo>
                    <a:lnTo>
                      <a:pt x="7398" y="3167"/>
                    </a:lnTo>
                    <a:lnTo>
                      <a:pt x="7465" y="3061"/>
                    </a:lnTo>
                    <a:lnTo>
                      <a:pt x="7528" y="2952"/>
                    </a:lnTo>
                    <a:lnTo>
                      <a:pt x="7588" y="2843"/>
                    </a:lnTo>
                    <a:lnTo>
                      <a:pt x="7646" y="2731"/>
                    </a:lnTo>
                    <a:lnTo>
                      <a:pt x="7700" y="2617"/>
                    </a:lnTo>
                    <a:lnTo>
                      <a:pt x="7751" y="2502"/>
                    </a:lnTo>
                    <a:lnTo>
                      <a:pt x="7798" y="2384"/>
                    </a:lnTo>
                    <a:lnTo>
                      <a:pt x="7842" y="2265"/>
                    </a:lnTo>
                    <a:lnTo>
                      <a:pt x="7883" y="2144"/>
                    </a:lnTo>
                    <a:lnTo>
                      <a:pt x="7919" y="2022"/>
                    </a:lnTo>
                    <a:lnTo>
                      <a:pt x="7953" y="1898"/>
                    </a:lnTo>
                    <a:lnTo>
                      <a:pt x="7982" y="1773"/>
                    </a:lnTo>
                    <a:lnTo>
                      <a:pt x="8008" y="1646"/>
                    </a:lnTo>
                    <a:lnTo>
                      <a:pt x="8030" y="1518"/>
                    </a:lnTo>
                    <a:lnTo>
                      <a:pt x="8047" y="1389"/>
                    </a:lnTo>
                    <a:lnTo>
                      <a:pt x="8062" y="1258"/>
                    </a:lnTo>
                    <a:lnTo>
                      <a:pt x="8073" y="1126"/>
                    </a:lnTo>
                    <a:lnTo>
                      <a:pt x="8079" y="994"/>
                    </a:lnTo>
                    <a:lnTo>
                      <a:pt x="8081" y="860"/>
                    </a:lnTo>
                    <a:close/>
                    <a:moveTo>
                      <a:pt x="0" y="2664"/>
                    </a:moveTo>
                    <a:lnTo>
                      <a:pt x="35" y="2734"/>
                    </a:lnTo>
                    <a:lnTo>
                      <a:pt x="69" y="2804"/>
                    </a:lnTo>
                    <a:lnTo>
                      <a:pt x="106" y="2873"/>
                    </a:lnTo>
                    <a:lnTo>
                      <a:pt x="144" y="2941"/>
                    </a:lnTo>
                    <a:lnTo>
                      <a:pt x="182" y="3009"/>
                    </a:lnTo>
                    <a:lnTo>
                      <a:pt x="223" y="3076"/>
                    </a:lnTo>
                    <a:lnTo>
                      <a:pt x="264" y="3141"/>
                    </a:lnTo>
                    <a:lnTo>
                      <a:pt x="307" y="3206"/>
                    </a:lnTo>
                    <a:lnTo>
                      <a:pt x="351" y="3271"/>
                    </a:lnTo>
                    <a:lnTo>
                      <a:pt x="395" y="3334"/>
                    </a:lnTo>
                    <a:lnTo>
                      <a:pt x="441" y="3396"/>
                    </a:lnTo>
                    <a:lnTo>
                      <a:pt x="488" y="3458"/>
                    </a:lnTo>
                    <a:lnTo>
                      <a:pt x="536" y="3518"/>
                    </a:lnTo>
                    <a:lnTo>
                      <a:pt x="585" y="3578"/>
                    </a:lnTo>
                    <a:lnTo>
                      <a:pt x="636" y="3637"/>
                    </a:lnTo>
                    <a:lnTo>
                      <a:pt x="686" y="3696"/>
                    </a:lnTo>
                    <a:lnTo>
                      <a:pt x="701" y="3688"/>
                    </a:lnTo>
                    <a:lnTo>
                      <a:pt x="774" y="3653"/>
                    </a:lnTo>
                    <a:lnTo>
                      <a:pt x="723" y="3597"/>
                    </a:lnTo>
                    <a:lnTo>
                      <a:pt x="674" y="3539"/>
                    </a:lnTo>
                    <a:lnTo>
                      <a:pt x="624" y="3479"/>
                    </a:lnTo>
                    <a:lnTo>
                      <a:pt x="576" y="3420"/>
                    </a:lnTo>
                    <a:lnTo>
                      <a:pt x="530" y="3359"/>
                    </a:lnTo>
                    <a:lnTo>
                      <a:pt x="483" y="3297"/>
                    </a:lnTo>
                    <a:lnTo>
                      <a:pt x="440" y="3235"/>
                    </a:lnTo>
                    <a:lnTo>
                      <a:pt x="396" y="3171"/>
                    </a:lnTo>
                    <a:lnTo>
                      <a:pt x="353" y="3108"/>
                    </a:lnTo>
                    <a:lnTo>
                      <a:pt x="312" y="3042"/>
                    </a:lnTo>
                    <a:lnTo>
                      <a:pt x="272" y="2977"/>
                    </a:lnTo>
                    <a:lnTo>
                      <a:pt x="233" y="2911"/>
                    </a:lnTo>
                    <a:lnTo>
                      <a:pt x="196" y="2843"/>
                    </a:lnTo>
                    <a:lnTo>
                      <a:pt x="159" y="2775"/>
                    </a:lnTo>
                    <a:lnTo>
                      <a:pt x="125" y="2706"/>
                    </a:lnTo>
                    <a:lnTo>
                      <a:pt x="90" y="2637"/>
                    </a:lnTo>
                    <a:lnTo>
                      <a:pt x="14" y="2655"/>
                    </a:lnTo>
                    <a:lnTo>
                      <a:pt x="0" y="266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38360" y="4056120"/>
                <a:ext cx="2114640" cy="1138320"/>
              </a:xfrm>
              <a:custGeom>
                <a:avLst/>
                <a:gdLst/>
                <a:ahLst/>
                <a:rect l="l" t="t" r="r" b="b"/>
                <a:pathLst>
                  <a:path w="7990" h="4305">
                    <a:moveTo>
                      <a:pt x="7990" y="819"/>
                    </a:moveTo>
                    <a:lnTo>
                      <a:pt x="7990" y="766"/>
                    </a:lnTo>
                    <a:lnTo>
                      <a:pt x="7989" y="714"/>
                    </a:lnTo>
                    <a:lnTo>
                      <a:pt x="7987" y="662"/>
                    </a:lnTo>
                    <a:lnTo>
                      <a:pt x="7985" y="609"/>
                    </a:lnTo>
                    <a:lnTo>
                      <a:pt x="7982" y="557"/>
                    </a:lnTo>
                    <a:lnTo>
                      <a:pt x="7978" y="507"/>
                    </a:lnTo>
                    <a:lnTo>
                      <a:pt x="7975" y="455"/>
                    </a:lnTo>
                    <a:lnTo>
                      <a:pt x="7970" y="403"/>
                    </a:lnTo>
                    <a:lnTo>
                      <a:pt x="7964" y="352"/>
                    </a:lnTo>
                    <a:lnTo>
                      <a:pt x="7959" y="302"/>
                    </a:lnTo>
                    <a:lnTo>
                      <a:pt x="7952" y="251"/>
                    </a:lnTo>
                    <a:lnTo>
                      <a:pt x="7945" y="200"/>
                    </a:lnTo>
                    <a:lnTo>
                      <a:pt x="7937" y="149"/>
                    </a:lnTo>
                    <a:lnTo>
                      <a:pt x="7929" y="99"/>
                    </a:lnTo>
                    <a:lnTo>
                      <a:pt x="7919" y="49"/>
                    </a:lnTo>
                    <a:lnTo>
                      <a:pt x="7910" y="0"/>
                    </a:lnTo>
                    <a:lnTo>
                      <a:pt x="7899" y="10"/>
                    </a:lnTo>
                    <a:lnTo>
                      <a:pt x="7825" y="49"/>
                    </a:lnTo>
                    <a:lnTo>
                      <a:pt x="7841" y="144"/>
                    </a:lnTo>
                    <a:lnTo>
                      <a:pt x="7856" y="238"/>
                    </a:lnTo>
                    <a:lnTo>
                      <a:pt x="7869" y="333"/>
                    </a:lnTo>
                    <a:lnTo>
                      <a:pt x="7879" y="428"/>
                    </a:lnTo>
                    <a:lnTo>
                      <a:pt x="7886" y="525"/>
                    </a:lnTo>
                    <a:lnTo>
                      <a:pt x="7892" y="623"/>
                    </a:lnTo>
                    <a:lnTo>
                      <a:pt x="7895" y="720"/>
                    </a:lnTo>
                    <a:lnTo>
                      <a:pt x="7897" y="819"/>
                    </a:lnTo>
                    <a:lnTo>
                      <a:pt x="7895" y="956"/>
                    </a:lnTo>
                    <a:lnTo>
                      <a:pt x="7888" y="1092"/>
                    </a:lnTo>
                    <a:lnTo>
                      <a:pt x="7877" y="1228"/>
                    </a:lnTo>
                    <a:lnTo>
                      <a:pt x="7862" y="1362"/>
                    </a:lnTo>
                    <a:lnTo>
                      <a:pt x="7841" y="1495"/>
                    </a:lnTo>
                    <a:lnTo>
                      <a:pt x="7818" y="1625"/>
                    </a:lnTo>
                    <a:lnTo>
                      <a:pt x="7789" y="1755"/>
                    </a:lnTo>
                    <a:lnTo>
                      <a:pt x="7758" y="1883"/>
                    </a:lnTo>
                    <a:lnTo>
                      <a:pt x="7721" y="2009"/>
                    </a:lnTo>
                    <a:lnTo>
                      <a:pt x="7682" y="2134"/>
                    </a:lnTo>
                    <a:lnTo>
                      <a:pt x="7637" y="2257"/>
                    </a:lnTo>
                    <a:lnTo>
                      <a:pt x="7589" y="2378"/>
                    </a:lnTo>
                    <a:lnTo>
                      <a:pt x="7539" y="2498"/>
                    </a:lnTo>
                    <a:lnTo>
                      <a:pt x="7483" y="2614"/>
                    </a:lnTo>
                    <a:lnTo>
                      <a:pt x="7424" y="2729"/>
                    </a:lnTo>
                    <a:lnTo>
                      <a:pt x="7363" y="2842"/>
                    </a:lnTo>
                    <a:lnTo>
                      <a:pt x="7298" y="2954"/>
                    </a:lnTo>
                    <a:lnTo>
                      <a:pt x="7228" y="3062"/>
                    </a:lnTo>
                    <a:lnTo>
                      <a:pt x="7157" y="3168"/>
                    </a:lnTo>
                    <a:lnTo>
                      <a:pt x="7082" y="3272"/>
                    </a:lnTo>
                    <a:lnTo>
                      <a:pt x="7003" y="3374"/>
                    </a:lnTo>
                    <a:lnTo>
                      <a:pt x="6922" y="3473"/>
                    </a:lnTo>
                    <a:lnTo>
                      <a:pt x="6837" y="3568"/>
                    </a:lnTo>
                    <a:lnTo>
                      <a:pt x="6750" y="3662"/>
                    </a:lnTo>
                    <a:lnTo>
                      <a:pt x="6660" y="3753"/>
                    </a:lnTo>
                    <a:lnTo>
                      <a:pt x="6566" y="3840"/>
                    </a:lnTo>
                    <a:lnTo>
                      <a:pt x="6471" y="3926"/>
                    </a:lnTo>
                    <a:lnTo>
                      <a:pt x="6373" y="4008"/>
                    </a:lnTo>
                    <a:lnTo>
                      <a:pt x="6272" y="4087"/>
                    </a:lnTo>
                    <a:lnTo>
                      <a:pt x="6168" y="4162"/>
                    </a:lnTo>
                    <a:lnTo>
                      <a:pt x="6062" y="4235"/>
                    </a:lnTo>
                    <a:lnTo>
                      <a:pt x="5955" y="4305"/>
                    </a:lnTo>
                    <a:lnTo>
                      <a:pt x="5982" y="4298"/>
                    </a:lnTo>
                    <a:lnTo>
                      <a:pt x="6137" y="4298"/>
                    </a:lnTo>
                    <a:lnTo>
                      <a:pt x="6240" y="4225"/>
                    </a:lnTo>
                    <a:lnTo>
                      <a:pt x="6341" y="4151"/>
                    </a:lnTo>
                    <a:lnTo>
                      <a:pt x="6441" y="4072"/>
                    </a:lnTo>
                    <a:lnTo>
                      <a:pt x="6538" y="3991"/>
                    </a:lnTo>
                    <a:lnTo>
                      <a:pt x="6631" y="3908"/>
                    </a:lnTo>
                    <a:lnTo>
                      <a:pt x="6723" y="3821"/>
                    </a:lnTo>
                    <a:lnTo>
                      <a:pt x="6812" y="3732"/>
                    </a:lnTo>
                    <a:lnTo>
                      <a:pt x="6897" y="3640"/>
                    </a:lnTo>
                    <a:lnTo>
                      <a:pt x="6982" y="3547"/>
                    </a:lnTo>
                    <a:lnTo>
                      <a:pt x="7062" y="3450"/>
                    </a:lnTo>
                    <a:lnTo>
                      <a:pt x="7140" y="3349"/>
                    </a:lnTo>
                    <a:lnTo>
                      <a:pt x="7215" y="3248"/>
                    </a:lnTo>
                    <a:lnTo>
                      <a:pt x="7286" y="3144"/>
                    </a:lnTo>
                    <a:lnTo>
                      <a:pt x="7355" y="3038"/>
                    </a:lnTo>
                    <a:lnTo>
                      <a:pt x="7420" y="2930"/>
                    </a:lnTo>
                    <a:lnTo>
                      <a:pt x="7482" y="2819"/>
                    </a:lnTo>
                    <a:lnTo>
                      <a:pt x="7542" y="2707"/>
                    </a:lnTo>
                    <a:lnTo>
                      <a:pt x="7597" y="2592"/>
                    </a:lnTo>
                    <a:lnTo>
                      <a:pt x="7649" y="2476"/>
                    </a:lnTo>
                    <a:lnTo>
                      <a:pt x="7698" y="2358"/>
                    </a:lnTo>
                    <a:lnTo>
                      <a:pt x="7744" y="2238"/>
                    </a:lnTo>
                    <a:lnTo>
                      <a:pt x="7786" y="2116"/>
                    </a:lnTo>
                    <a:lnTo>
                      <a:pt x="7824" y="1993"/>
                    </a:lnTo>
                    <a:lnTo>
                      <a:pt x="7858" y="1868"/>
                    </a:lnTo>
                    <a:lnTo>
                      <a:pt x="7888" y="1741"/>
                    </a:lnTo>
                    <a:lnTo>
                      <a:pt x="7915" y="1613"/>
                    </a:lnTo>
                    <a:lnTo>
                      <a:pt x="7938" y="1484"/>
                    </a:lnTo>
                    <a:lnTo>
                      <a:pt x="7956" y="1354"/>
                    </a:lnTo>
                    <a:lnTo>
                      <a:pt x="7971" y="1221"/>
                    </a:lnTo>
                    <a:lnTo>
                      <a:pt x="7982" y="1089"/>
                    </a:lnTo>
                    <a:lnTo>
                      <a:pt x="7987" y="954"/>
                    </a:lnTo>
                    <a:lnTo>
                      <a:pt x="7990" y="819"/>
                    </a:lnTo>
                    <a:close/>
                    <a:moveTo>
                      <a:pt x="0" y="2606"/>
                    </a:moveTo>
                    <a:lnTo>
                      <a:pt x="35" y="2676"/>
                    </a:lnTo>
                    <a:lnTo>
                      <a:pt x="69" y="2747"/>
                    </a:lnTo>
                    <a:lnTo>
                      <a:pt x="106" y="2815"/>
                    </a:lnTo>
                    <a:lnTo>
                      <a:pt x="144" y="2883"/>
                    </a:lnTo>
                    <a:lnTo>
                      <a:pt x="182" y="2951"/>
                    </a:lnTo>
                    <a:lnTo>
                      <a:pt x="223" y="3016"/>
                    </a:lnTo>
                    <a:lnTo>
                      <a:pt x="264" y="3082"/>
                    </a:lnTo>
                    <a:lnTo>
                      <a:pt x="307" y="3147"/>
                    </a:lnTo>
                    <a:lnTo>
                      <a:pt x="349" y="3211"/>
                    </a:lnTo>
                    <a:lnTo>
                      <a:pt x="394" y="3273"/>
                    </a:lnTo>
                    <a:lnTo>
                      <a:pt x="441" y="3336"/>
                    </a:lnTo>
                    <a:lnTo>
                      <a:pt x="488" y="3398"/>
                    </a:lnTo>
                    <a:lnTo>
                      <a:pt x="535" y="3458"/>
                    </a:lnTo>
                    <a:lnTo>
                      <a:pt x="585" y="3518"/>
                    </a:lnTo>
                    <a:lnTo>
                      <a:pt x="636" y="3575"/>
                    </a:lnTo>
                    <a:lnTo>
                      <a:pt x="686" y="3633"/>
                    </a:lnTo>
                    <a:lnTo>
                      <a:pt x="735" y="3610"/>
                    </a:lnTo>
                    <a:lnTo>
                      <a:pt x="774" y="3590"/>
                    </a:lnTo>
                    <a:lnTo>
                      <a:pt x="722" y="3534"/>
                    </a:lnTo>
                    <a:lnTo>
                      <a:pt x="672" y="3476"/>
                    </a:lnTo>
                    <a:lnTo>
                      <a:pt x="624" y="3419"/>
                    </a:lnTo>
                    <a:lnTo>
                      <a:pt x="577" y="3360"/>
                    </a:lnTo>
                    <a:lnTo>
                      <a:pt x="529" y="3299"/>
                    </a:lnTo>
                    <a:lnTo>
                      <a:pt x="484" y="3239"/>
                    </a:lnTo>
                    <a:lnTo>
                      <a:pt x="439" y="3176"/>
                    </a:lnTo>
                    <a:lnTo>
                      <a:pt x="397" y="3114"/>
                    </a:lnTo>
                    <a:lnTo>
                      <a:pt x="354" y="3051"/>
                    </a:lnTo>
                    <a:lnTo>
                      <a:pt x="314" y="2986"/>
                    </a:lnTo>
                    <a:lnTo>
                      <a:pt x="273" y="2922"/>
                    </a:lnTo>
                    <a:lnTo>
                      <a:pt x="235" y="2856"/>
                    </a:lnTo>
                    <a:lnTo>
                      <a:pt x="197" y="2789"/>
                    </a:lnTo>
                    <a:lnTo>
                      <a:pt x="161" y="2721"/>
                    </a:lnTo>
                    <a:lnTo>
                      <a:pt x="127" y="2653"/>
                    </a:lnTo>
                    <a:lnTo>
                      <a:pt x="93" y="2584"/>
                    </a:lnTo>
                    <a:lnTo>
                      <a:pt x="0" y="2606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50960" y="4062240"/>
                <a:ext cx="2089440" cy="1141560"/>
              </a:xfrm>
              <a:custGeom>
                <a:avLst/>
                <a:gdLst/>
                <a:ahLst/>
                <a:rect l="l" t="t" r="r" b="b"/>
                <a:pathLst>
                  <a:path w="7898" h="4315">
                    <a:moveTo>
                      <a:pt x="7898" y="793"/>
                    </a:moveTo>
                    <a:lnTo>
                      <a:pt x="7898" y="742"/>
                    </a:lnTo>
                    <a:lnTo>
                      <a:pt x="7896" y="692"/>
                    </a:lnTo>
                    <a:lnTo>
                      <a:pt x="7895" y="641"/>
                    </a:lnTo>
                    <a:lnTo>
                      <a:pt x="7893" y="591"/>
                    </a:lnTo>
                    <a:lnTo>
                      <a:pt x="7889" y="541"/>
                    </a:lnTo>
                    <a:lnTo>
                      <a:pt x="7886" y="491"/>
                    </a:lnTo>
                    <a:lnTo>
                      <a:pt x="7883" y="442"/>
                    </a:lnTo>
                    <a:lnTo>
                      <a:pt x="7878" y="391"/>
                    </a:lnTo>
                    <a:lnTo>
                      <a:pt x="7868" y="293"/>
                    </a:lnTo>
                    <a:lnTo>
                      <a:pt x="7855" y="195"/>
                    </a:lnTo>
                    <a:lnTo>
                      <a:pt x="7839" y="97"/>
                    </a:lnTo>
                    <a:lnTo>
                      <a:pt x="7821" y="0"/>
                    </a:lnTo>
                    <a:lnTo>
                      <a:pt x="7775" y="24"/>
                    </a:lnTo>
                    <a:lnTo>
                      <a:pt x="7735" y="44"/>
                    </a:lnTo>
                    <a:lnTo>
                      <a:pt x="7751" y="135"/>
                    </a:lnTo>
                    <a:lnTo>
                      <a:pt x="7765" y="227"/>
                    </a:lnTo>
                    <a:lnTo>
                      <a:pt x="7776" y="320"/>
                    </a:lnTo>
                    <a:lnTo>
                      <a:pt x="7787" y="414"/>
                    </a:lnTo>
                    <a:lnTo>
                      <a:pt x="7794" y="507"/>
                    </a:lnTo>
                    <a:lnTo>
                      <a:pt x="7799" y="602"/>
                    </a:lnTo>
                    <a:lnTo>
                      <a:pt x="7803" y="697"/>
                    </a:lnTo>
                    <a:lnTo>
                      <a:pt x="7804" y="793"/>
                    </a:lnTo>
                    <a:lnTo>
                      <a:pt x="7802" y="934"/>
                    </a:lnTo>
                    <a:lnTo>
                      <a:pt x="7795" y="1073"/>
                    </a:lnTo>
                    <a:lnTo>
                      <a:pt x="7783" y="1212"/>
                    </a:lnTo>
                    <a:lnTo>
                      <a:pt x="7766" y="1349"/>
                    </a:lnTo>
                    <a:lnTo>
                      <a:pt x="7745" y="1484"/>
                    </a:lnTo>
                    <a:lnTo>
                      <a:pt x="7720" y="1618"/>
                    </a:lnTo>
                    <a:lnTo>
                      <a:pt x="7690" y="1751"/>
                    </a:lnTo>
                    <a:lnTo>
                      <a:pt x="7656" y="1881"/>
                    </a:lnTo>
                    <a:lnTo>
                      <a:pt x="7618" y="2010"/>
                    </a:lnTo>
                    <a:lnTo>
                      <a:pt x="7576" y="2137"/>
                    </a:lnTo>
                    <a:lnTo>
                      <a:pt x="7530" y="2263"/>
                    </a:lnTo>
                    <a:lnTo>
                      <a:pt x="7479" y="2386"/>
                    </a:lnTo>
                    <a:lnTo>
                      <a:pt x="7425" y="2507"/>
                    </a:lnTo>
                    <a:lnTo>
                      <a:pt x="7367" y="2626"/>
                    </a:lnTo>
                    <a:lnTo>
                      <a:pt x="7305" y="2742"/>
                    </a:lnTo>
                    <a:lnTo>
                      <a:pt x="7239" y="2858"/>
                    </a:lnTo>
                    <a:lnTo>
                      <a:pt x="7170" y="2970"/>
                    </a:lnTo>
                    <a:lnTo>
                      <a:pt x="7098" y="3079"/>
                    </a:lnTo>
                    <a:lnTo>
                      <a:pt x="7022" y="3186"/>
                    </a:lnTo>
                    <a:lnTo>
                      <a:pt x="6942" y="3291"/>
                    </a:lnTo>
                    <a:lnTo>
                      <a:pt x="6859" y="3394"/>
                    </a:lnTo>
                    <a:lnTo>
                      <a:pt x="6774" y="3492"/>
                    </a:lnTo>
                    <a:lnTo>
                      <a:pt x="6685" y="3589"/>
                    </a:lnTo>
                    <a:lnTo>
                      <a:pt x="6593" y="3682"/>
                    </a:lnTo>
                    <a:lnTo>
                      <a:pt x="6498" y="3772"/>
                    </a:lnTo>
                    <a:lnTo>
                      <a:pt x="6400" y="3859"/>
                    </a:lnTo>
                    <a:lnTo>
                      <a:pt x="6300" y="3944"/>
                    </a:lnTo>
                    <a:lnTo>
                      <a:pt x="6196" y="4024"/>
                    </a:lnTo>
                    <a:lnTo>
                      <a:pt x="6090" y="4103"/>
                    </a:lnTo>
                    <a:lnTo>
                      <a:pt x="5982" y="4176"/>
                    </a:lnTo>
                    <a:lnTo>
                      <a:pt x="5871" y="4248"/>
                    </a:lnTo>
                    <a:lnTo>
                      <a:pt x="5758" y="4315"/>
                    </a:lnTo>
                    <a:lnTo>
                      <a:pt x="5784" y="4309"/>
                    </a:lnTo>
                    <a:lnTo>
                      <a:pt x="5936" y="4272"/>
                    </a:lnTo>
                    <a:lnTo>
                      <a:pt x="6006" y="4272"/>
                    </a:lnTo>
                    <a:lnTo>
                      <a:pt x="6112" y="4201"/>
                    </a:lnTo>
                    <a:lnTo>
                      <a:pt x="6215" y="4127"/>
                    </a:lnTo>
                    <a:lnTo>
                      <a:pt x="6316" y="4050"/>
                    </a:lnTo>
                    <a:lnTo>
                      <a:pt x="6414" y="3970"/>
                    </a:lnTo>
                    <a:lnTo>
                      <a:pt x="6510" y="3887"/>
                    </a:lnTo>
                    <a:lnTo>
                      <a:pt x="6603" y="3802"/>
                    </a:lnTo>
                    <a:lnTo>
                      <a:pt x="6693" y="3713"/>
                    </a:lnTo>
                    <a:lnTo>
                      <a:pt x="6782" y="3622"/>
                    </a:lnTo>
                    <a:lnTo>
                      <a:pt x="6866" y="3527"/>
                    </a:lnTo>
                    <a:lnTo>
                      <a:pt x="6949" y="3431"/>
                    </a:lnTo>
                    <a:lnTo>
                      <a:pt x="7028" y="3333"/>
                    </a:lnTo>
                    <a:lnTo>
                      <a:pt x="7105" y="3231"/>
                    </a:lnTo>
                    <a:lnTo>
                      <a:pt x="7178" y="3127"/>
                    </a:lnTo>
                    <a:lnTo>
                      <a:pt x="7248" y="3020"/>
                    </a:lnTo>
                    <a:lnTo>
                      <a:pt x="7315" y="2912"/>
                    </a:lnTo>
                    <a:lnTo>
                      <a:pt x="7378" y="2802"/>
                    </a:lnTo>
                    <a:lnTo>
                      <a:pt x="7438" y="2689"/>
                    </a:lnTo>
                    <a:lnTo>
                      <a:pt x="7496" y="2574"/>
                    </a:lnTo>
                    <a:lnTo>
                      <a:pt x="7549" y="2458"/>
                    </a:lnTo>
                    <a:lnTo>
                      <a:pt x="7599" y="2339"/>
                    </a:lnTo>
                    <a:lnTo>
                      <a:pt x="7645" y="2219"/>
                    </a:lnTo>
                    <a:lnTo>
                      <a:pt x="7688" y="2097"/>
                    </a:lnTo>
                    <a:lnTo>
                      <a:pt x="7727" y="1974"/>
                    </a:lnTo>
                    <a:lnTo>
                      <a:pt x="7763" y="1848"/>
                    </a:lnTo>
                    <a:lnTo>
                      <a:pt x="7793" y="1721"/>
                    </a:lnTo>
                    <a:lnTo>
                      <a:pt x="7820" y="1592"/>
                    </a:lnTo>
                    <a:lnTo>
                      <a:pt x="7843" y="1462"/>
                    </a:lnTo>
                    <a:lnTo>
                      <a:pt x="7863" y="1330"/>
                    </a:lnTo>
                    <a:lnTo>
                      <a:pt x="7878" y="1198"/>
                    </a:lnTo>
                    <a:lnTo>
                      <a:pt x="7888" y="1064"/>
                    </a:lnTo>
                    <a:lnTo>
                      <a:pt x="7895" y="929"/>
                    </a:lnTo>
                    <a:lnTo>
                      <a:pt x="7898" y="793"/>
                    </a:lnTo>
                    <a:close/>
                    <a:moveTo>
                      <a:pt x="0" y="2570"/>
                    </a:moveTo>
                    <a:lnTo>
                      <a:pt x="35" y="2639"/>
                    </a:lnTo>
                    <a:lnTo>
                      <a:pt x="69" y="2708"/>
                    </a:lnTo>
                    <a:lnTo>
                      <a:pt x="106" y="2776"/>
                    </a:lnTo>
                    <a:lnTo>
                      <a:pt x="143" y="2844"/>
                    </a:lnTo>
                    <a:lnTo>
                      <a:pt x="182" y="2910"/>
                    </a:lnTo>
                    <a:lnTo>
                      <a:pt x="222" y="2975"/>
                    </a:lnTo>
                    <a:lnTo>
                      <a:pt x="263" y="3041"/>
                    </a:lnTo>
                    <a:lnTo>
                      <a:pt x="306" y="3104"/>
                    </a:lnTo>
                    <a:lnTo>
                      <a:pt x="350" y="3168"/>
                    </a:lnTo>
                    <a:lnTo>
                      <a:pt x="393" y="3230"/>
                    </a:lnTo>
                    <a:lnTo>
                      <a:pt x="440" y="3292"/>
                    </a:lnTo>
                    <a:lnTo>
                      <a:pt x="486" y="3353"/>
                    </a:lnTo>
                    <a:lnTo>
                      <a:pt x="534" y="3412"/>
                    </a:lnTo>
                    <a:lnTo>
                      <a:pt x="584" y="3472"/>
                    </a:lnTo>
                    <a:lnTo>
                      <a:pt x="633" y="3530"/>
                    </a:lnTo>
                    <a:lnTo>
                      <a:pt x="684" y="3586"/>
                    </a:lnTo>
                    <a:lnTo>
                      <a:pt x="689" y="3584"/>
                    </a:lnTo>
                    <a:lnTo>
                      <a:pt x="766" y="3544"/>
                    </a:lnTo>
                    <a:lnTo>
                      <a:pt x="769" y="3541"/>
                    </a:lnTo>
                    <a:lnTo>
                      <a:pt x="719" y="3485"/>
                    </a:lnTo>
                    <a:lnTo>
                      <a:pt x="669" y="3428"/>
                    </a:lnTo>
                    <a:lnTo>
                      <a:pt x="621" y="3371"/>
                    </a:lnTo>
                    <a:lnTo>
                      <a:pt x="573" y="3313"/>
                    </a:lnTo>
                    <a:lnTo>
                      <a:pt x="527" y="3253"/>
                    </a:lnTo>
                    <a:lnTo>
                      <a:pt x="482" y="3193"/>
                    </a:lnTo>
                    <a:lnTo>
                      <a:pt x="438" y="3132"/>
                    </a:lnTo>
                    <a:lnTo>
                      <a:pt x="395" y="3071"/>
                    </a:lnTo>
                    <a:lnTo>
                      <a:pt x="353" y="3008"/>
                    </a:lnTo>
                    <a:lnTo>
                      <a:pt x="313" y="2944"/>
                    </a:lnTo>
                    <a:lnTo>
                      <a:pt x="272" y="2880"/>
                    </a:lnTo>
                    <a:lnTo>
                      <a:pt x="234" y="2815"/>
                    </a:lnTo>
                    <a:lnTo>
                      <a:pt x="197" y="2749"/>
                    </a:lnTo>
                    <a:lnTo>
                      <a:pt x="162" y="2682"/>
                    </a:lnTo>
                    <a:lnTo>
                      <a:pt x="126" y="2616"/>
                    </a:lnTo>
                    <a:lnTo>
                      <a:pt x="92" y="2546"/>
                    </a:lnTo>
                    <a:lnTo>
                      <a:pt x="79" y="2551"/>
                    </a:lnTo>
                    <a:lnTo>
                      <a:pt x="0" y="257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63920" y="4068720"/>
                <a:ext cx="2065320" cy="1144800"/>
              </a:xfrm>
              <a:custGeom>
                <a:avLst/>
                <a:gdLst/>
                <a:ahLst/>
                <a:rect l="l" t="t" r="r" b="b"/>
                <a:pathLst>
                  <a:path w="7804" h="4325">
                    <a:moveTo>
                      <a:pt x="7804" y="770"/>
                    </a:moveTo>
                    <a:lnTo>
                      <a:pt x="7802" y="671"/>
                    </a:lnTo>
                    <a:lnTo>
                      <a:pt x="7799" y="574"/>
                    </a:lnTo>
                    <a:lnTo>
                      <a:pt x="7793" y="476"/>
                    </a:lnTo>
                    <a:lnTo>
                      <a:pt x="7786" y="379"/>
                    </a:lnTo>
                    <a:lnTo>
                      <a:pt x="7776" y="284"/>
                    </a:lnTo>
                    <a:lnTo>
                      <a:pt x="7763" y="189"/>
                    </a:lnTo>
                    <a:lnTo>
                      <a:pt x="7748" y="95"/>
                    </a:lnTo>
                    <a:lnTo>
                      <a:pt x="7732" y="0"/>
                    </a:lnTo>
                    <a:lnTo>
                      <a:pt x="7728" y="1"/>
                    </a:lnTo>
                    <a:lnTo>
                      <a:pt x="7651" y="38"/>
                    </a:lnTo>
                    <a:lnTo>
                      <a:pt x="7644" y="42"/>
                    </a:lnTo>
                    <a:lnTo>
                      <a:pt x="7660" y="130"/>
                    </a:lnTo>
                    <a:lnTo>
                      <a:pt x="7673" y="220"/>
                    </a:lnTo>
                    <a:lnTo>
                      <a:pt x="7684" y="310"/>
                    </a:lnTo>
                    <a:lnTo>
                      <a:pt x="7694" y="401"/>
                    </a:lnTo>
                    <a:lnTo>
                      <a:pt x="7701" y="492"/>
                    </a:lnTo>
                    <a:lnTo>
                      <a:pt x="7706" y="585"/>
                    </a:lnTo>
                    <a:lnTo>
                      <a:pt x="7710" y="677"/>
                    </a:lnTo>
                    <a:lnTo>
                      <a:pt x="7711" y="770"/>
                    </a:lnTo>
                    <a:lnTo>
                      <a:pt x="7707" y="914"/>
                    </a:lnTo>
                    <a:lnTo>
                      <a:pt x="7701" y="1057"/>
                    </a:lnTo>
                    <a:lnTo>
                      <a:pt x="7688" y="1199"/>
                    </a:lnTo>
                    <a:lnTo>
                      <a:pt x="7671" y="1340"/>
                    </a:lnTo>
                    <a:lnTo>
                      <a:pt x="7649" y="1478"/>
                    </a:lnTo>
                    <a:lnTo>
                      <a:pt x="7621" y="1615"/>
                    </a:lnTo>
                    <a:lnTo>
                      <a:pt x="7590" y="1750"/>
                    </a:lnTo>
                    <a:lnTo>
                      <a:pt x="7554" y="1884"/>
                    </a:lnTo>
                    <a:lnTo>
                      <a:pt x="7513" y="2015"/>
                    </a:lnTo>
                    <a:lnTo>
                      <a:pt x="7468" y="2145"/>
                    </a:lnTo>
                    <a:lnTo>
                      <a:pt x="7419" y="2272"/>
                    </a:lnTo>
                    <a:lnTo>
                      <a:pt x="7366" y="2398"/>
                    </a:lnTo>
                    <a:lnTo>
                      <a:pt x="7308" y="2521"/>
                    </a:lnTo>
                    <a:lnTo>
                      <a:pt x="7246" y="2642"/>
                    </a:lnTo>
                    <a:lnTo>
                      <a:pt x="7182" y="2761"/>
                    </a:lnTo>
                    <a:lnTo>
                      <a:pt x="7112" y="2877"/>
                    </a:lnTo>
                    <a:lnTo>
                      <a:pt x="7039" y="2990"/>
                    </a:lnTo>
                    <a:lnTo>
                      <a:pt x="6962" y="3101"/>
                    </a:lnTo>
                    <a:lnTo>
                      <a:pt x="6882" y="3209"/>
                    </a:lnTo>
                    <a:lnTo>
                      <a:pt x="6799" y="3314"/>
                    </a:lnTo>
                    <a:lnTo>
                      <a:pt x="6711" y="3417"/>
                    </a:lnTo>
                    <a:lnTo>
                      <a:pt x="6620" y="3516"/>
                    </a:lnTo>
                    <a:lnTo>
                      <a:pt x="6526" y="3613"/>
                    </a:lnTo>
                    <a:lnTo>
                      <a:pt x="6430" y="3705"/>
                    </a:lnTo>
                    <a:lnTo>
                      <a:pt x="6329" y="3795"/>
                    </a:lnTo>
                    <a:lnTo>
                      <a:pt x="6227" y="3881"/>
                    </a:lnTo>
                    <a:lnTo>
                      <a:pt x="6120" y="3964"/>
                    </a:lnTo>
                    <a:lnTo>
                      <a:pt x="6012" y="4044"/>
                    </a:lnTo>
                    <a:lnTo>
                      <a:pt x="5900" y="4120"/>
                    </a:lnTo>
                    <a:lnTo>
                      <a:pt x="5787" y="4193"/>
                    </a:lnTo>
                    <a:lnTo>
                      <a:pt x="5669" y="4261"/>
                    </a:lnTo>
                    <a:lnTo>
                      <a:pt x="5551" y="4325"/>
                    </a:lnTo>
                    <a:lnTo>
                      <a:pt x="5737" y="4286"/>
                    </a:lnTo>
                    <a:lnTo>
                      <a:pt x="5862" y="4256"/>
                    </a:lnTo>
                    <a:lnTo>
                      <a:pt x="5969" y="4186"/>
                    </a:lnTo>
                    <a:lnTo>
                      <a:pt x="6075" y="4113"/>
                    </a:lnTo>
                    <a:lnTo>
                      <a:pt x="6179" y="4038"/>
                    </a:lnTo>
                    <a:lnTo>
                      <a:pt x="6280" y="3959"/>
                    </a:lnTo>
                    <a:lnTo>
                      <a:pt x="6378" y="3877"/>
                    </a:lnTo>
                    <a:lnTo>
                      <a:pt x="6473" y="3791"/>
                    </a:lnTo>
                    <a:lnTo>
                      <a:pt x="6567" y="3704"/>
                    </a:lnTo>
                    <a:lnTo>
                      <a:pt x="6657" y="3613"/>
                    </a:lnTo>
                    <a:lnTo>
                      <a:pt x="6744" y="3519"/>
                    </a:lnTo>
                    <a:lnTo>
                      <a:pt x="6829" y="3424"/>
                    </a:lnTo>
                    <a:lnTo>
                      <a:pt x="6910" y="3325"/>
                    </a:lnTo>
                    <a:lnTo>
                      <a:pt x="6989" y="3223"/>
                    </a:lnTo>
                    <a:lnTo>
                      <a:pt x="7064" y="3119"/>
                    </a:lnTo>
                    <a:lnTo>
                      <a:pt x="7135" y="3013"/>
                    </a:lnTo>
                    <a:lnTo>
                      <a:pt x="7205" y="2905"/>
                    </a:lnTo>
                    <a:lnTo>
                      <a:pt x="7270" y="2793"/>
                    </a:lnTo>
                    <a:lnTo>
                      <a:pt x="7331" y="2680"/>
                    </a:lnTo>
                    <a:lnTo>
                      <a:pt x="7390" y="2565"/>
                    </a:lnTo>
                    <a:lnTo>
                      <a:pt x="7446" y="2449"/>
                    </a:lnTo>
                    <a:lnTo>
                      <a:pt x="7496" y="2329"/>
                    </a:lnTo>
                    <a:lnTo>
                      <a:pt x="7544" y="2208"/>
                    </a:lnTo>
                    <a:lnTo>
                      <a:pt x="7589" y="2085"/>
                    </a:lnTo>
                    <a:lnTo>
                      <a:pt x="7628" y="1960"/>
                    </a:lnTo>
                    <a:lnTo>
                      <a:pt x="7665" y="1834"/>
                    </a:lnTo>
                    <a:lnTo>
                      <a:pt x="7696" y="1706"/>
                    </a:lnTo>
                    <a:lnTo>
                      <a:pt x="7725" y="1576"/>
                    </a:lnTo>
                    <a:lnTo>
                      <a:pt x="7748" y="1446"/>
                    </a:lnTo>
                    <a:lnTo>
                      <a:pt x="7769" y="1313"/>
                    </a:lnTo>
                    <a:lnTo>
                      <a:pt x="7784" y="1179"/>
                    </a:lnTo>
                    <a:lnTo>
                      <a:pt x="7795" y="1043"/>
                    </a:lnTo>
                    <a:lnTo>
                      <a:pt x="7802" y="907"/>
                    </a:lnTo>
                    <a:lnTo>
                      <a:pt x="7804" y="770"/>
                    </a:lnTo>
                    <a:close/>
                    <a:moveTo>
                      <a:pt x="0" y="2535"/>
                    </a:moveTo>
                    <a:lnTo>
                      <a:pt x="34" y="2604"/>
                    </a:lnTo>
                    <a:lnTo>
                      <a:pt x="68" y="2672"/>
                    </a:lnTo>
                    <a:lnTo>
                      <a:pt x="104" y="2740"/>
                    </a:lnTo>
                    <a:lnTo>
                      <a:pt x="142" y="2807"/>
                    </a:lnTo>
                    <a:lnTo>
                      <a:pt x="180" y="2873"/>
                    </a:lnTo>
                    <a:lnTo>
                      <a:pt x="221" y="2937"/>
                    </a:lnTo>
                    <a:lnTo>
                      <a:pt x="261" y="3002"/>
                    </a:lnTo>
                    <a:lnTo>
                      <a:pt x="304" y="3065"/>
                    </a:lnTo>
                    <a:lnTo>
                      <a:pt x="346" y="3127"/>
                    </a:lnTo>
                    <a:lnTo>
                      <a:pt x="391" y="3190"/>
                    </a:lnTo>
                    <a:lnTo>
                      <a:pt x="436" y="3250"/>
                    </a:lnTo>
                    <a:lnTo>
                      <a:pt x="484" y="3311"/>
                    </a:lnTo>
                    <a:lnTo>
                      <a:pt x="531" y="3370"/>
                    </a:lnTo>
                    <a:lnTo>
                      <a:pt x="579" y="3427"/>
                    </a:lnTo>
                    <a:lnTo>
                      <a:pt x="629" y="3485"/>
                    </a:lnTo>
                    <a:lnTo>
                      <a:pt x="681" y="3541"/>
                    </a:lnTo>
                    <a:lnTo>
                      <a:pt x="719" y="3521"/>
                    </a:lnTo>
                    <a:lnTo>
                      <a:pt x="755" y="3485"/>
                    </a:lnTo>
                    <a:lnTo>
                      <a:pt x="706" y="3431"/>
                    </a:lnTo>
                    <a:lnTo>
                      <a:pt x="658" y="3375"/>
                    </a:lnTo>
                    <a:lnTo>
                      <a:pt x="609" y="3319"/>
                    </a:lnTo>
                    <a:lnTo>
                      <a:pt x="563" y="3261"/>
                    </a:lnTo>
                    <a:lnTo>
                      <a:pt x="518" y="3204"/>
                    </a:lnTo>
                    <a:lnTo>
                      <a:pt x="474" y="3145"/>
                    </a:lnTo>
                    <a:lnTo>
                      <a:pt x="431" y="3085"/>
                    </a:lnTo>
                    <a:lnTo>
                      <a:pt x="388" y="3024"/>
                    </a:lnTo>
                    <a:lnTo>
                      <a:pt x="348" y="2963"/>
                    </a:lnTo>
                    <a:lnTo>
                      <a:pt x="307" y="2900"/>
                    </a:lnTo>
                    <a:lnTo>
                      <a:pt x="269" y="2838"/>
                    </a:lnTo>
                    <a:lnTo>
                      <a:pt x="231" y="2774"/>
                    </a:lnTo>
                    <a:lnTo>
                      <a:pt x="194" y="2709"/>
                    </a:lnTo>
                    <a:lnTo>
                      <a:pt x="158" y="2644"/>
                    </a:lnTo>
                    <a:lnTo>
                      <a:pt x="125" y="2579"/>
                    </a:lnTo>
                    <a:lnTo>
                      <a:pt x="92" y="2512"/>
                    </a:lnTo>
                    <a:lnTo>
                      <a:pt x="32" y="2528"/>
                    </a:lnTo>
                    <a:lnTo>
                      <a:pt x="0" y="253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75080" y="4073400"/>
                <a:ext cx="2041200" cy="1140120"/>
              </a:xfrm>
              <a:custGeom>
                <a:avLst/>
                <a:gdLst/>
                <a:ahLst/>
                <a:rect l="l" t="t" r="r" b="b"/>
                <a:pathLst>
                  <a:path w="7712" h="4305">
                    <a:moveTo>
                      <a:pt x="7712" y="749"/>
                    </a:moveTo>
                    <a:lnTo>
                      <a:pt x="7711" y="653"/>
                    </a:lnTo>
                    <a:lnTo>
                      <a:pt x="7707" y="558"/>
                    </a:lnTo>
                    <a:lnTo>
                      <a:pt x="7702" y="463"/>
                    </a:lnTo>
                    <a:lnTo>
                      <a:pt x="7695" y="370"/>
                    </a:lnTo>
                    <a:lnTo>
                      <a:pt x="7684" y="276"/>
                    </a:lnTo>
                    <a:lnTo>
                      <a:pt x="7673" y="183"/>
                    </a:lnTo>
                    <a:lnTo>
                      <a:pt x="7659" y="91"/>
                    </a:lnTo>
                    <a:lnTo>
                      <a:pt x="7643" y="0"/>
                    </a:lnTo>
                    <a:lnTo>
                      <a:pt x="7606" y="17"/>
                    </a:lnTo>
                    <a:lnTo>
                      <a:pt x="7556" y="41"/>
                    </a:lnTo>
                    <a:lnTo>
                      <a:pt x="7570" y="128"/>
                    </a:lnTo>
                    <a:lnTo>
                      <a:pt x="7583" y="215"/>
                    </a:lnTo>
                    <a:lnTo>
                      <a:pt x="7594" y="303"/>
                    </a:lnTo>
                    <a:lnTo>
                      <a:pt x="7603" y="391"/>
                    </a:lnTo>
                    <a:lnTo>
                      <a:pt x="7609" y="479"/>
                    </a:lnTo>
                    <a:lnTo>
                      <a:pt x="7615" y="569"/>
                    </a:lnTo>
                    <a:lnTo>
                      <a:pt x="7618" y="658"/>
                    </a:lnTo>
                    <a:lnTo>
                      <a:pt x="7619" y="749"/>
                    </a:lnTo>
                    <a:lnTo>
                      <a:pt x="7616" y="894"/>
                    </a:lnTo>
                    <a:lnTo>
                      <a:pt x="7608" y="1040"/>
                    </a:lnTo>
                    <a:lnTo>
                      <a:pt x="7596" y="1183"/>
                    </a:lnTo>
                    <a:lnTo>
                      <a:pt x="7577" y="1323"/>
                    </a:lnTo>
                    <a:lnTo>
                      <a:pt x="7554" y="1464"/>
                    </a:lnTo>
                    <a:lnTo>
                      <a:pt x="7526" y="1602"/>
                    </a:lnTo>
                    <a:lnTo>
                      <a:pt x="7494" y="1738"/>
                    </a:lnTo>
                    <a:lnTo>
                      <a:pt x="7457" y="1873"/>
                    </a:lnTo>
                    <a:lnTo>
                      <a:pt x="7416" y="2006"/>
                    </a:lnTo>
                    <a:lnTo>
                      <a:pt x="7370" y="2136"/>
                    </a:lnTo>
                    <a:lnTo>
                      <a:pt x="7319" y="2264"/>
                    </a:lnTo>
                    <a:lnTo>
                      <a:pt x="7263" y="2391"/>
                    </a:lnTo>
                    <a:lnTo>
                      <a:pt x="7205" y="2514"/>
                    </a:lnTo>
                    <a:lnTo>
                      <a:pt x="7141" y="2636"/>
                    </a:lnTo>
                    <a:lnTo>
                      <a:pt x="7073" y="2755"/>
                    </a:lnTo>
                    <a:lnTo>
                      <a:pt x="7003" y="2871"/>
                    </a:lnTo>
                    <a:lnTo>
                      <a:pt x="6928" y="2984"/>
                    </a:lnTo>
                    <a:lnTo>
                      <a:pt x="6848" y="3095"/>
                    </a:lnTo>
                    <a:lnTo>
                      <a:pt x="6766" y="3203"/>
                    </a:lnTo>
                    <a:lnTo>
                      <a:pt x="6680" y="3308"/>
                    </a:lnTo>
                    <a:lnTo>
                      <a:pt x="6590" y="3411"/>
                    </a:lnTo>
                    <a:lnTo>
                      <a:pt x="6498" y="3509"/>
                    </a:lnTo>
                    <a:lnTo>
                      <a:pt x="6401" y="3604"/>
                    </a:lnTo>
                    <a:lnTo>
                      <a:pt x="6301" y="3697"/>
                    </a:lnTo>
                    <a:lnTo>
                      <a:pt x="6199" y="3787"/>
                    </a:lnTo>
                    <a:lnTo>
                      <a:pt x="6093" y="3872"/>
                    </a:lnTo>
                    <a:lnTo>
                      <a:pt x="5984" y="3954"/>
                    </a:lnTo>
                    <a:lnTo>
                      <a:pt x="5874" y="4031"/>
                    </a:lnTo>
                    <a:lnTo>
                      <a:pt x="5759" y="4106"/>
                    </a:lnTo>
                    <a:lnTo>
                      <a:pt x="5642" y="4176"/>
                    </a:lnTo>
                    <a:lnTo>
                      <a:pt x="5523" y="4243"/>
                    </a:lnTo>
                    <a:lnTo>
                      <a:pt x="5401" y="4305"/>
                    </a:lnTo>
                    <a:lnTo>
                      <a:pt x="5502" y="4305"/>
                    </a:lnTo>
                    <a:lnTo>
                      <a:pt x="5666" y="4271"/>
                    </a:lnTo>
                    <a:lnTo>
                      <a:pt x="5779" y="4204"/>
                    </a:lnTo>
                    <a:lnTo>
                      <a:pt x="5890" y="4132"/>
                    </a:lnTo>
                    <a:lnTo>
                      <a:pt x="5998" y="4059"/>
                    </a:lnTo>
                    <a:lnTo>
                      <a:pt x="6104" y="3980"/>
                    </a:lnTo>
                    <a:lnTo>
                      <a:pt x="6208" y="3900"/>
                    </a:lnTo>
                    <a:lnTo>
                      <a:pt x="6308" y="3815"/>
                    </a:lnTo>
                    <a:lnTo>
                      <a:pt x="6406" y="3728"/>
                    </a:lnTo>
                    <a:lnTo>
                      <a:pt x="6501" y="3638"/>
                    </a:lnTo>
                    <a:lnTo>
                      <a:pt x="6593" y="3545"/>
                    </a:lnTo>
                    <a:lnTo>
                      <a:pt x="6682" y="3448"/>
                    </a:lnTo>
                    <a:lnTo>
                      <a:pt x="6767" y="3350"/>
                    </a:lnTo>
                    <a:lnTo>
                      <a:pt x="6850" y="3247"/>
                    </a:lnTo>
                    <a:lnTo>
                      <a:pt x="6930" y="3142"/>
                    </a:lnTo>
                    <a:lnTo>
                      <a:pt x="7006" y="3035"/>
                    </a:lnTo>
                    <a:lnTo>
                      <a:pt x="7078" y="2926"/>
                    </a:lnTo>
                    <a:lnTo>
                      <a:pt x="7147" y="2814"/>
                    </a:lnTo>
                    <a:lnTo>
                      <a:pt x="7213" y="2698"/>
                    </a:lnTo>
                    <a:lnTo>
                      <a:pt x="7275" y="2582"/>
                    </a:lnTo>
                    <a:lnTo>
                      <a:pt x="7333" y="2463"/>
                    </a:lnTo>
                    <a:lnTo>
                      <a:pt x="7387" y="2342"/>
                    </a:lnTo>
                    <a:lnTo>
                      <a:pt x="7438" y="2219"/>
                    </a:lnTo>
                    <a:lnTo>
                      <a:pt x="7484" y="2093"/>
                    </a:lnTo>
                    <a:lnTo>
                      <a:pt x="7526" y="1966"/>
                    </a:lnTo>
                    <a:lnTo>
                      <a:pt x="7564" y="1837"/>
                    </a:lnTo>
                    <a:lnTo>
                      <a:pt x="7598" y="1707"/>
                    </a:lnTo>
                    <a:lnTo>
                      <a:pt x="7628" y="1574"/>
                    </a:lnTo>
                    <a:lnTo>
                      <a:pt x="7653" y="1440"/>
                    </a:lnTo>
                    <a:lnTo>
                      <a:pt x="7674" y="1305"/>
                    </a:lnTo>
                    <a:lnTo>
                      <a:pt x="7691" y="1168"/>
                    </a:lnTo>
                    <a:lnTo>
                      <a:pt x="7703" y="1029"/>
                    </a:lnTo>
                    <a:lnTo>
                      <a:pt x="7710" y="890"/>
                    </a:lnTo>
                    <a:lnTo>
                      <a:pt x="7712" y="749"/>
                    </a:lnTo>
                    <a:close/>
                    <a:moveTo>
                      <a:pt x="0" y="2502"/>
                    </a:moveTo>
                    <a:lnTo>
                      <a:pt x="34" y="2572"/>
                    </a:lnTo>
                    <a:lnTo>
                      <a:pt x="70" y="2638"/>
                    </a:lnTo>
                    <a:lnTo>
                      <a:pt x="105" y="2705"/>
                    </a:lnTo>
                    <a:lnTo>
                      <a:pt x="142" y="2771"/>
                    </a:lnTo>
                    <a:lnTo>
                      <a:pt x="180" y="2836"/>
                    </a:lnTo>
                    <a:lnTo>
                      <a:pt x="221" y="2900"/>
                    </a:lnTo>
                    <a:lnTo>
                      <a:pt x="261" y="2964"/>
                    </a:lnTo>
                    <a:lnTo>
                      <a:pt x="303" y="3027"/>
                    </a:lnTo>
                    <a:lnTo>
                      <a:pt x="346" y="3088"/>
                    </a:lnTo>
                    <a:lnTo>
                      <a:pt x="390" y="3149"/>
                    </a:lnTo>
                    <a:lnTo>
                      <a:pt x="435" y="3209"/>
                    </a:lnTo>
                    <a:lnTo>
                      <a:pt x="481" y="3269"/>
                    </a:lnTo>
                    <a:lnTo>
                      <a:pt x="529" y="3327"/>
                    </a:lnTo>
                    <a:lnTo>
                      <a:pt x="577" y="3384"/>
                    </a:lnTo>
                    <a:lnTo>
                      <a:pt x="627" y="3441"/>
                    </a:lnTo>
                    <a:lnTo>
                      <a:pt x="677" y="3497"/>
                    </a:lnTo>
                    <a:lnTo>
                      <a:pt x="743" y="3430"/>
                    </a:lnTo>
                    <a:lnTo>
                      <a:pt x="695" y="3377"/>
                    </a:lnTo>
                    <a:lnTo>
                      <a:pt x="647" y="3323"/>
                    </a:lnTo>
                    <a:lnTo>
                      <a:pt x="601" y="3268"/>
                    </a:lnTo>
                    <a:lnTo>
                      <a:pt x="555" y="3213"/>
                    </a:lnTo>
                    <a:lnTo>
                      <a:pt x="511" y="3155"/>
                    </a:lnTo>
                    <a:lnTo>
                      <a:pt x="468" y="3097"/>
                    </a:lnTo>
                    <a:lnTo>
                      <a:pt x="425" y="3038"/>
                    </a:lnTo>
                    <a:lnTo>
                      <a:pt x="384" y="2980"/>
                    </a:lnTo>
                    <a:lnTo>
                      <a:pt x="344" y="2920"/>
                    </a:lnTo>
                    <a:lnTo>
                      <a:pt x="305" y="2859"/>
                    </a:lnTo>
                    <a:lnTo>
                      <a:pt x="267" y="2798"/>
                    </a:lnTo>
                    <a:lnTo>
                      <a:pt x="230" y="2735"/>
                    </a:lnTo>
                    <a:lnTo>
                      <a:pt x="193" y="2672"/>
                    </a:lnTo>
                    <a:lnTo>
                      <a:pt x="158" y="2609"/>
                    </a:lnTo>
                    <a:lnTo>
                      <a:pt x="125" y="2544"/>
                    </a:lnTo>
                    <a:lnTo>
                      <a:pt x="93" y="2478"/>
                    </a:lnTo>
                    <a:lnTo>
                      <a:pt x="0" y="250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87680" y="4079880"/>
                <a:ext cx="2016000" cy="1133640"/>
              </a:xfrm>
              <a:custGeom>
                <a:avLst/>
                <a:gdLst/>
                <a:ahLst/>
                <a:rect l="l" t="t" r="r" b="b"/>
                <a:pathLst>
                  <a:path w="7619" h="4284">
                    <a:moveTo>
                      <a:pt x="7619" y="728"/>
                    </a:moveTo>
                    <a:lnTo>
                      <a:pt x="7618" y="635"/>
                    </a:lnTo>
                    <a:lnTo>
                      <a:pt x="7614" y="543"/>
                    </a:lnTo>
                    <a:lnTo>
                      <a:pt x="7609" y="450"/>
                    </a:lnTo>
                    <a:lnTo>
                      <a:pt x="7602" y="359"/>
                    </a:lnTo>
                    <a:lnTo>
                      <a:pt x="7592" y="268"/>
                    </a:lnTo>
                    <a:lnTo>
                      <a:pt x="7581" y="178"/>
                    </a:lnTo>
                    <a:lnTo>
                      <a:pt x="7568" y="88"/>
                    </a:lnTo>
                    <a:lnTo>
                      <a:pt x="7552" y="0"/>
                    </a:lnTo>
                    <a:lnTo>
                      <a:pt x="7482" y="33"/>
                    </a:lnTo>
                    <a:lnTo>
                      <a:pt x="7466" y="42"/>
                    </a:lnTo>
                    <a:lnTo>
                      <a:pt x="7479" y="126"/>
                    </a:lnTo>
                    <a:lnTo>
                      <a:pt x="7491" y="211"/>
                    </a:lnTo>
                    <a:lnTo>
                      <a:pt x="7501" y="295"/>
                    </a:lnTo>
                    <a:lnTo>
                      <a:pt x="7511" y="381"/>
                    </a:lnTo>
                    <a:lnTo>
                      <a:pt x="7516" y="466"/>
                    </a:lnTo>
                    <a:lnTo>
                      <a:pt x="7522" y="553"/>
                    </a:lnTo>
                    <a:lnTo>
                      <a:pt x="7524" y="641"/>
                    </a:lnTo>
                    <a:lnTo>
                      <a:pt x="7526" y="728"/>
                    </a:lnTo>
                    <a:lnTo>
                      <a:pt x="7523" y="876"/>
                    </a:lnTo>
                    <a:lnTo>
                      <a:pt x="7515" y="1021"/>
                    </a:lnTo>
                    <a:lnTo>
                      <a:pt x="7501" y="1165"/>
                    </a:lnTo>
                    <a:lnTo>
                      <a:pt x="7483" y="1308"/>
                    </a:lnTo>
                    <a:lnTo>
                      <a:pt x="7459" y="1450"/>
                    </a:lnTo>
                    <a:lnTo>
                      <a:pt x="7430" y="1589"/>
                    </a:lnTo>
                    <a:lnTo>
                      <a:pt x="7396" y="1726"/>
                    </a:lnTo>
                    <a:lnTo>
                      <a:pt x="7358" y="1862"/>
                    </a:lnTo>
                    <a:lnTo>
                      <a:pt x="7316" y="1996"/>
                    </a:lnTo>
                    <a:lnTo>
                      <a:pt x="7267" y="2128"/>
                    </a:lnTo>
                    <a:lnTo>
                      <a:pt x="7215" y="2257"/>
                    </a:lnTo>
                    <a:lnTo>
                      <a:pt x="7159" y="2383"/>
                    </a:lnTo>
                    <a:lnTo>
                      <a:pt x="7098" y="2508"/>
                    </a:lnTo>
                    <a:lnTo>
                      <a:pt x="7033" y="2629"/>
                    </a:lnTo>
                    <a:lnTo>
                      <a:pt x="6964" y="2749"/>
                    </a:lnTo>
                    <a:lnTo>
                      <a:pt x="6890" y="2865"/>
                    </a:lnTo>
                    <a:lnTo>
                      <a:pt x="6813" y="2979"/>
                    </a:lnTo>
                    <a:lnTo>
                      <a:pt x="6732" y="3090"/>
                    </a:lnTo>
                    <a:lnTo>
                      <a:pt x="6647" y="3198"/>
                    </a:lnTo>
                    <a:lnTo>
                      <a:pt x="6558" y="3303"/>
                    </a:lnTo>
                    <a:lnTo>
                      <a:pt x="6466" y="3405"/>
                    </a:lnTo>
                    <a:lnTo>
                      <a:pt x="6371" y="3503"/>
                    </a:lnTo>
                    <a:lnTo>
                      <a:pt x="6272" y="3597"/>
                    </a:lnTo>
                    <a:lnTo>
                      <a:pt x="6169" y="3690"/>
                    </a:lnTo>
                    <a:lnTo>
                      <a:pt x="6064" y="3777"/>
                    </a:lnTo>
                    <a:lnTo>
                      <a:pt x="5956" y="3861"/>
                    </a:lnTo>
                    <a:lnTo>
                      <a:pt x="5844" y="3942"/>
                    </a:lnTo>
                    <a:lnTo>
                      <a:pt x="5730" y="4018"/>
                    </a:lnTo>
                    <a:lnTo>
                      <a:pt x="5612" y="4091"/>
                    </a:lnTo>
                    <a:lnTo>
                      <a:pt x="5493" y="4160"/>
                    </a:lnTo>
                    <a:lnTo>
                      <a:pt x="5370" y="4224"/>
                    </a:lnTo>
                    <a:lnTo>
                      <a:pt x="5245" y="4284"/>
                    </a:lnTo>
                    <a:lnTo>
                      <a:pt x="5301" y="4284"/>
                    </a:lnTo>
                    <a:lnTo>
                      <a:pt x="5455" y="4284"/>
                    </a:lnTo>
                    <a:lnTo>
                      <a:pt x="5459" y="4283"/>
                    </a:lnTo>
                    <a:lnTo>
                      <a:pt x="5577" y="4219"/>
                    </a:lnTo>
                    <a:lnTo>
                      <a:pt x="5695" y="4151"/>
                    </a:lnTo>
                    <a:lnTo>
                      <a:pt x="5808" y="4078"/>
                    </a:lnTo>
                    <a:lnTo>
                      <a:pt x="5920" y="4002"/>
                    </a:lnTo>
                    <a:lnTo>
                      <a:pt x="6028" y="3922"/>
                    </a:lnTo>
                    <a:lnTo>
                      <a:pt x="6135" y="3839"/>
                    </a:lnTo>
                    <a:lnTo>
                      <a:pt x="6237" y="3753"/>
                    </a:lnTo>
                    <a:lnTo>
                      <a:pt x="6338" y="3663"/>
                    </a:lnTo>
                    <a:lnTo>
                      <a:pt x="6434" y="3571"/>
                    </a:lnTo>
                    <a:lnTo>
                      <a:pt x="6528" y="3474"/>
                    </a:lnTo>
                    <a:lnTo>
                      <a:pt x="6619" y="3375"/>
                    </a:lnTo>
                    <a:lnTo>
                      <a:pt x="6707" y="3272"/>
                    </a:lnTo>
                    <a:lnTo>
                      <a:pt x="6790" y="3167"/>
                    </a:lnTo>
                    <a:lnTo>
                      <a:pt x="6870" y="3059"/>
                    </a:lnTo>
                    <a:lnTo>
                      <a:pt x="6947" y="2948"/>
                    </a:lnTo>
                    <a:lnTo>
                      <a:pt x="7020" y="2835"/>
                    </a:lnTo>
                    <a:lnTo>
                      <a:pt x="7090" y="2719"/>
                    </a:lnTo>
                    <a:lnTo>
                      <a:pt x="7154" y="2600"/>
                    </a:lnTo>
                    <a:lnTo>
                      <a:pt x="7216" y="2479"/>
                    </a:lnTo>
                    <a:lnTo>
                      <a:pt x="7274" y="2356"/>
                    </a:lnTo>
                    <a:lnTo>
                      <a:pt x="7327" y="2230"/>
                    </a:lnTo>
                    <a:lnTo>
                      <a:pt x="7376" y="2103"/>
                    </a:lnTo>
                    <a:lnTo>
                      <a:pt x="7421" y="1973"/>
                    </a:lnTo>
                    <a:lnTo>
                      <a:pt x="7462" y="1842"/>
                    </a:lnTo>
                    <a:lnTo>
                      <a:pt x="7498" y="1708"/>
                    </a:lnTo>
                    <a:lnTo>
                      <a:pt x="7529" y="1573"/>
                    </a:lnTo>
                    <a:lnTo>
                      <a:pt x="7557" y="1436"/>
                    </a:lnTo>
                    <a:lnTo>
                      <a:pt x="7579" y="1298"/>
                    </a:lnTo>
                    <a:lnTo>
                      <a:pt x="7596" y="1157"/>
                    </a:lnTo>
                    <a:lnTo>
                      <a:pt x="7609" y="1015"/>
                    </a:lnTo>
                    <a:lnTo>
                      <a:pt x="7615" y="872"/>
                    </a:lnTo>
                    <a:lnTo>
                      <a:pt x="7619" y="728"/>
                    </a:lnTo>
                    <a:close/>
                    <a:moveTo>
                      <a:pt x="0" y="2470"/>
                    </a:moveTo>
                    <a:lnTo>
                      <a:pt x="33" y="2537"/>
                    </a:lnTo>
                    <a:lnTo>
                      <a:pt x="66" y="2602"/>
                    </a:lnTo>
                    <a:lnTo>
                      <a:pt x="102" y="2667"/>
                    </a:lnTo>
                    <a:lnTo>
                      <a:pt x="139" y="2732"/>
                    </a:lnTo>
                    <a:lnTo>
                      <a:pt x="177" y="2796"/>
                    </a:lnTo>
                    <a:lnTo>
                      <a:pt x="215" y="2858"/>
                    </a:lnTo>
                    <a:lnTo>
                      <a:pt x="256" y="2921"/>
                    </a:lnTo>
                    <a:lnTo>
                      <a:pt x="296" y="2982"/>
                    </a:lnTo>
                    <a:lnTo>
                      <a:pt x="339" y="3043"/>
                    </a:lnTo>
                    <a:lnTo>
                      <a:pt x="382" y="3103"/>
                    </a:lnTo>
                    <a:lnTo>
                      <a:pt x="426" y="3162"/>
                    </a:lnTo>
                    <a:lnTo>
                      <a:pt x="471" y="3219"/>
                    </a:lnTo>
                    <a:lnTo>
                      <a:pt x="517" y="3277"/>
                    </a:lnTo>
                    <a:lnTo>
                      <a:pt x="566" y="3333"/>
                    </a:lnTo>
                    <a:lnTo>
                      <a:pt x="614" y="3389"/>
                    </a:lnTo>
                    <a:lnTo>
                      <a:pt x="663" y="3443"/>
                    </a:lnTo>
                    <a:lnTo>
                      <a:pt x="704" y="3401"/>
                    </a:lnTo>
                    <a:lnTo>
                      <a:pt x="738" y="3386"/>
                    </a:lnTo>
                    <a:lnTo>
                      <a:pt x="689" y="3333"/>
                    </a:lnTo>
                    <a:lnTo>
                      <a:pt x="642" y="3279"/>
                    </a:lnTo>
                    <a:lnTo>
                      <a:pt x="596" y="3225"/>
                    </a:lnTo>
                    <a:lnTo>
                      <a:pt x="551" y="3170"/>
                    </a:lnTo>
                    <a:lnTo>
                      <a:pt x="507" y="3114"/>
                    </a:lnTo>
                    <a:lnTo>
                      <a:pt x="464" y="3057"/>
                    </a:lnTo>
                    <a:lnTo>
                      <a:pt x="422" y="2999"/>
                    </a:lnTo>
                    <a:lnTo>
                      <a:pt x="381" y="2940"/>
                    </a:lnTo>
                    <a:lnTo>
                      <a:pt x="341" y="2881"/>
                    </a:lnTo>
                    <a:lnTo>
                      <a:pt x="302" y="2822"/>
                    </a:lnTo>
                    <a:lnTo>
                      <a:pt x="265" y="2760"/>
                    </a:lnTo>
                    <a:lnTo>
                      <a:pt x="228" y="2699"/>
                    </a:lnTo>
                    <a:lnTo>
                      <a:pt x="192" y="2637"/>
                    </a:lnTo>
                    <a:lnTo>
                      <a:pt x="158" y="2574"/>
                    </a:lnTo>
                    <a:lnTo>
                      <a:pt x="124" y="2510"/>
                    </a:lnTo>
                    <a:lnTo>
                      <a:pt x="92" y="2446"/>
                    </a:lnTo>
                    <a:lnTo>
                      <a:pt x="91" y="2446"/>
                    </a:lnTo>
                    <a:lnTo>
                      <a:pt x="0" y="247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00280" y="4084560"/>
                <a:ext cx="1990800" cy="1128960"/>
              </a:xfrm>
              <a:custGeom>
                <a:avLst/>
                <a:gdLst/>
                <a:ahLst/>
                <a:rect l="l" t="t" r="r" b="b"/>
                <a:pathLst>
                  <a:path w="7526" h="4264">
                    <a:moveTo>
                      <a:pt x="7526" y="708"/>
                    </a:moveTo>
                    <a:lnTo>
                      <a:pt x="7525" y="617"/>
                    </a:lnTo>
                    <a:lnTo>
                      <a:pt x="7522" y="528"/>
                    </a:lnTo>
                    <a:lnTo>
                      <a:pt x="7516" y="438"/>
                    </a:lnTo>
                    <a:lnTo>
                      <a:pt x="7511" y="350"/>
                    </a:lnTo>
                    <a:lnTo>
                      <a:pt x="7501" y="262"/>
                    </a:lnTo>
                    <a:lnTo>
                      <a:pt x="7490" y="174"/>
                    </a:lnTo>
                    <a:lnTo>
                      <a:pt x="7477" y="87"/>
                    </a:lnTo>
                    <a:lnTo>
                      <a:pt x="7463" y="0"/>
                    </a:lnTo>
                    <a:lnTo>
                      <a:pt x="7436" y="13"/>
                    </a:lnTo>
                    <a:lnTo>
                      <a:pt x="7376" y="44"/>
                    </a:lnTo>
                    <a:lnTo>
                      <a:pt x="7390" y="126"/>
                    </a:lnTo>
                    <a:lnTo>
                      <a:pt x="7401" y="208"/>
                    </a:lnTo>
                    <a:lnTo>
                      <a:pt x="7410" y="290"/>
                    </a:lnTo>
                    <a:lnTo>
                      <a:pt x="7418" y="373"/>
                    </a:lnTo>
                    <a:lnTo>
                      <a:pt x="7424" y="456"/>
                    </a:lnTo>
                    <a:lnTo>
                      <a:pt x="7429" y="539"/>
                    </a:lnTo>
                    <a:lnTo>
                      <a:pt x="7432" y="623"/>
                    </a:lnTo>
                    <a:lnTo>
                      <a:pt x="7433" y="708"/>
                    </a:lnTo>
                    <a:lnTo>
                      <a:pt x="7430" y="857"/>
                    </a:lnTo>
                    <a:lnTo>
                      <a:pt x="7422" y="1004"/>
                    </a:lnTo>
                    <a:lnTo>
                      <a:pt x="7408" y="1151"/>
                    </a:lnTo>
                    <a:lnTo>
                      <a:pt x="7388" y="1295"/>
                    </a:lnTo>
                    <a:lnTo>
                      <a:pt x="7364" y="1438"/>
                    </a:lnTo>
                    <a:lnTo>
                      <a:pt x="7334" y="1578"/>
                    </a:lnTo>
                    <a:lnTo>
                      <a:pt x="7300" y="1717"/>
                    </a:lnTo>
                    <a:lnTo>
                      <a:pt x="7260" y="1854"/>
                    </a:lnTo>
                    <a:lnTo>
                      <a:pt x="7215" y="1989"/>
                    </a:lnTo>
                    <a:lnTo>
                      <a:pt x="7166" y="2121"/>
                    </a:lnTo>
                    <a:lnTo>
                      <a:pt x="7113" y="2252"/>
                    </a:lnTo>
                    <a:lnTo>
                      <a:pt x="7054" y="2378"/>
                    </a:lnTo>
                    <a:lnTo>
                      <a:pt x="6990" y="2504"/>
                    </a:lnTo>
                    <a:lnTo>
                      <a:pt x="6924" y="2626"/>
                    </a:lnTo>
                    <a:lnTo>
                      <a:pt x="6852" y="2746"/>
                    </a:lnTo>
                    <a:lnTo>
                      <a:pt x="6776" y="2863"/>
                    </a:lnTo>
                    <a:lnTo>
                      <a:pt x="6696" y="2977"/>
                    </a:lnTo>
                    <a:lnTo>
                      <a:pt x="6613" y="3089"/>
                    </a:lnTo>
                    <a:lnTo>
                      <a:pt x="6526" y="3196"/>
                    </a:lnTo>
                    <a:lnTo>
                      <a:pt x="6435" y="3301"/>
                    </a:lnTo>
                    <a:lnTo>
                      <a:pt x="6339" y="3402"/>
                    </a:lnTo>
                    <a:lnTo>
                      <a:pt x="6241" y="3499"/>
                    </a:lnTo>
                    <a:lnTo>
                      <a:pt x="6139" y="3593"/>
                    </a:lnTo>
                    <a:lnTo>
                      <a:pt x="6034" y="3683"/>
                    </a:lnTo>
                    <a:lnTo>
                      <a:pt x="5926" y="3771"/>
                    </a:lnTo>
                    <a:lnTo>
                      <a:pt x="5814" y="3854"/>
                    </a:lnTo>
                    <a:lnTo>
                      <a:pt x="5700" y="3932"/>
                    </a:lnTo>
                    <a:lnTo>
                      <a:pt x="5582" y="4007"/>
                    </a:lnTo>
                    <a:lnTo>
                      <a:pt x="5461" y="4078"/>
                    </a:lnTo>
                    <a:lnTo>
                      <a:pt x="5339" y="4144"/>
                    </a:lnTo>
                    <a:lnTo>
                      <a:pt x="5213" y="4207"/>
                    </a:lnTo>
                    <a:lnTo>
                      <a:pt x="5085" y="4264"/>
                    </a:lnTo>
                    <a:lnTo>
                      <a:pt x="5255" y="4264"/>
                    </a:lnTo>
                    <a:lnTo>
                      <a:pt x="5308" y="4264"/>
                    </a:lnTo>
                    <a:lnTo>
                      <a:pt x="5430" y="4202"/>
                    </a:lnTo>
                    <a:lnTo>
                      <a:pt x="5550" y="4135"/>
                    </a:lnTo>
                    <a:lnTo>
                      <a:pt x="5666" y="4065"/>
                    </a:lnTo>
                    <a:lnTo>
                      <a:pt x="5781" y="3990"/>
                    </a:lnTo>
                    <a:lnTo>
                      <a:pt x="5891" y="3913"/>
                    </a:lnTo>
                    <a:lnTo>
                      <a:pt x="6001" y="3831"/>
                    </a:lnTo>
                    <a:lnTo>
                      <a:pt x="6106" y="3744"/>
                    </a:lnTo>
                    <a:lnTo>
                      <a:pt x="6208" y="3656"/>
                    </a:lnTo>
                    <a:lnTo>
                      <a:pt x="6308" y="3563"/>
                    </a:lnTo>
                    <a:lnTo>
                      <a:pt x="6405" y="3468"/>
                    </a:lnTo>
                    <a:lnTo>
                      <a:pt x="6498" y="3370"/>
                    </a:lnTo>
                    <a:lnTo>
                      <a:pt x="6587" y="3267"/>
                    </a:lnTo>
                    <a:lnTo>
                      <a:pt x="6673" y="3162"/>
                    </a:lnTo>
                    <a:lnTo>
                      <a:pt x="6755" y="3054"/>
                    </a:lnTo>
                    <a:lnTo>
                      <a:pt x="6835" y="2943"/>
                    </a:lnTo>
                    <a:lnTo>
                      <a:pt x="6910" y="2829"/>
                    </a:lnTo>
                    <a:lnTo>
                      <a:pt x="6981" y="2714"/>
                    </a:lnTo>
                    <a:lnTo>
                      <a:pt x="7048" y="2595"/>
                    </a:lnTo>
                    <a:lnTo>
                      <a:pt x="7112" y="2473"/>
                    </a:lnTo>
                    <a:lnTo>
                      <a:pt x="7170" y="2350"/>
                    </a:lnTo>
                    <a:lnTo>
                      <a:pt x="7226" y="2223"/>
                    </a:lnTo>
                    <a:lnTo>
                      <a:pt x="7277" y="2095"/>
                    </a:lnTo>
                    <a:lnTo>
                      <a:pt x="7323" y="1965"/>
                    </a:lnTo>
                    <a:lnTo>
                      <a:pt x="7364" y="1832"/>
                    </a:lnTo>
                    <a:lnTo>
                      <a:pt x="7401" y="1697"/>
                    </a:lnTo>
                    <a:lnTo>
                      <a:pt x="7433" y="1561"/>
                    </a:lnTo>
                    <a:lnTo>
                      <a:pt x="7461" y="1423"/>
                    </a:lnTo>
                    <a:lnTo>
                      <a:pt x="7484" y="1282"/>
                    </a:lnTo>
                    <a:lnTo>
                      <a:pt x="7503" y="1142"/>
                    </a:lnTo>
                    <a:lnTo>
                      <a:pt x="7515" y="999"/>
                    </a:lnTo>
                    <a:lnTo>
                      <a:pt x="7523" y="853"/>
                    </a:lnTo>
                    <a:lnTo>
                      <a:pt x="7526" y="708"/>
                    </a:lnTo>
                    <a:close/>
                    <a:moveTo>
                      <a:pt x="0" y="2437"/>
                    </a:moveTo>
                    <a:lnTo>
                      <a:pt x="32" y="2503"/>
                    </a:lnTo>
                    <a:lnTo>
                      <a:pt x="65" y="2568"/>
                    </a:lnTo>
                    <a:lnTo>
                      <a:pt x="100" y="2631"/>
                    </a:lnTo>
                    <a:lnTo>
                      <a:pt x="137" y="2694"/>
                    </a:lnTo>
                    <a:lnTo>
                      <a:pt x="174" y="2757"/>
                    </a:lnTo>
                    <a:lnTo>
                      <a:pt x="212" y="2818"/>
                    </a:lnTo>
                    <a:lnTo>
                      <a:pt x="251" y="2879"/>
                    </a:lnTo>
                    <a:lnTo>
                      <a:pt x="291" y="2939"/>
                    </a:lnTo>
                    <a:lnTo>
                      <a:pt x="332" y="2997"/>
                    </a:lnTo>
                    <a:lnTo>
                      <a:pt x="375" y="3056"/>
                    </a:lnTo>
                    <a:lnTo>
                      <a:pt x="418" y="3114"/>
                    </a:lnTo>
                    <a:lnTo>
                      <a:pt x="462" y="3172"/>
                    </a:lnTo>
                    <a:lnTo>
                      <a:pt x="508" y="3227"/>
                    </a:lnTo>
                    <a:lnTo>
                      <a:pt x="554" y="3282"/>
                    </a:lnTo>
                    <a:lnTo>
                      <a:pt x="602" y="3336"/>
                    </a:lnTo>
                    <a:lnTo>
                      <a:pt x="650" y="3389"/>
                    </a:lnTo>
                    <a:lnTo>
                      <a:pt x="658" y="3381"/>
                    </a:lnTo>
                    <a:lnTo>
                      <a:pt x="736" y="3344"/>
                    </a:lnTo>
                    <a:lnTo>
                      <a:pt x="688" y="3294"/>
                    </a:lnTo>
                    <a:lnTo>
                      <a:pt x="642" y="3241"/>
                    </a:lnTo>
                    <a:lnTo>
                      <a:pt x="596" y="3188"/>
                    </a:lnTo>
                    <a:lnTo>
                      <a:pt x="552" y="3134"/>
                    </a:lnTo>
                    <a:lnTo>
                      <a:pt x="508" y="3079"/>
                    </a:lnTo>
                    <a:lnTo>
                      <a:pt x="466" y="3023"/>
                    </a:lnTo>
                    <a:lnTo>
                      <a:pt x="424" y="2966"/>
                    </a:lnTo>
                    <a:lnTo>
                      <a:pt x="384" y="2910"/>
                    </a:lnTo>
                    <a:lnTo>
                      <a:pt x="345" y="2851"/>
                    </a:lnTo>
                    <a:lnTo>
                      <a:pt x="306" y="2793"/>
                    </a:lnTo>
                    <a:lnTo>
                      <a:pt x="268" y="2733"/>
                    </a:lnTo>
                    <a:lnTo>
                      <a:pt x="233" y="2674"/>
                    </a:lnTo>
                    <a:lnTo>
                      <a:pt x="197" y="2612"/>
                    </a:lnTo>
                    <a:lnTo>
                      <a:pt x="163" y="2550"/>
                    </a:lnTo>
                    <a:lnTo>
                      <a:pt x="130" y="2489"/>
                    </a:lnTo>
                    <a:lnTo>
                      <a:pt x="98" y="2426"/>
                    </a:lnTo>
                    <a:lnTo>
                      <a:pt x="45" y="2426"/>
                    </a:lnTo>
                    <a:lnTo>
                      <a:pt x="0" y="243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11440" y="4091040"/>
                <a:ext cx="1967040" cy="1131840"/>
              </a:xfrm>
              <a:custGeom>
                <a:avLst/>
                <a:gdLst/>
                <a:ahLst/>
                <a:rect l="l" t="t" r="r" b="b"/>
                <a:pathLst>
                  <a:path w="7434" h="4279">
                    <a:moveTo>
                      <a:pt x="7434" y="686"/>
                    </a:moveTo>
                    <a:lnTo>
                      <a:pt x="7432" y="599"/>
                    </a:lnTo>
                    <a:lnTo>
                      <a:pt x="7430" y="511"/>
                    </a:lnTo>
                    <a:lnTo>
                      <a:pt x="7424" y="424"/>
                    </a:lnTo>
                    <a:lnTo>
                      <a:pt x="7419" y="339"/>
                    </a:lnTo>
                    <a:lnTo>
                      <a:pt x="7409" y="253"/>
                    </a:lnTo>
                    <a:lnTo>
                      <a:pt x="7399" y="169"/>
                    </a:lnTo>
                    <a:lnTo>
                      <a:pt x="7387" y="84"/>
                    </a:lnTo>
                    <a:lnTo>
                      <a:pt x="7374" y="0"/>
                    </a:lnTo>
                    <a:lnTo>
                      <a:pt x="7312" y="31"/>
                    </a:lnTo>
                    <a:lnTo>
                      <a:pt x="7287" y="45"/>
                    </a:lnTo>
                    <a:lnTo>
                      <a:pt x="7299" y="124"/>
                    </a:lnTo>
                    <a:lnTo>
                      <a:pt x="7310" y="202"/>
                    </a:lnTo>
                    <a:lnTo>
                      <a:pt x="7319" y="282"/>
                    </a:lnTo>
                    <a:lnTo>
                      <a:pt x="7326" y="361"/>
                    </a:lnTo>
                    <a:lnTo>
                      <a:pt x="7332" y="442"/>
                    </a:lnTo>
                    <a:lnTo>
                      <a:pt x="7337" y="522"/>
                    </a:lnTo>
                    <a:lnTo>
                      <a:pt x="7339" y="604"/>
                    </a:lnTo>
                    <a:lnTo>
                      <a:pt x="7340" y="686"/>
                    </a:lnTo>
                    <a:lnTo>
                      <a:pt x="7337" y="841"/>
                    </a:lnTo>
                    <a:lnTo>
                      <a:pt x="7327" y="993"/>
                    </a:lnTo>
                    <a:lnTo>
                      <a:pt x="7312" y="1144"/>
                    </a:lnTo>
                    <a:lnTo>
                      <a:pt x="7292" y="1294"/>
                    </a:lnTo>
                    <a:lnTo>
                      <a:pt x="7265" y="1440"/>
                    </a:lnTo>
                    <a:lnTo>
                      <a:pt x="7233" y="1586"/>
                    </a:lnTo>
                    <a:lnTo>
                      <a:pt x="7196" y="1729"/>
                    </a:lnTo>
                    <a:lnTo>
                      <a:pt x="7153" y="1870"/>
                    </a:lnTo>
                    <a:lnTo>
                      <a:pt x="7105" y="2008"/>
                    </a:lnTo>
                    <a:lnTo>
                      <a:pt x="7052" y="2144"/>
                    </a:lnTo>
                    <a:lnTo>
                      <a:pt x="6993" y="2278"/>
                    </a:lnTo>
                    <a:lnTo>
                      <a:pt x="6929" y="2409"/>
                    </a:lnTo>
                    <a:lnTo>
                      <a:pt x="6861" y="2537"/>
                    </a:lnTo>
                    <a:lnTo>
                      <a:pt x="6790" y="2662"/>
                    </a:lnTo>
                    <a:lnTo>
                      <a:pt x="6713" y="2784"/>
                    </a:lnTo>
                    <a:lnTo>
                      <a:pt x="6631" y="2903"/>
                    </a:lnTo>
                    <a:lnTo>
                      <a:pt x="6544" y="3018"/>
                    </a:lnTo>
                    <a:lnTo>
                      <a:pt x="6454" y="3131"/>
                    </a:lnTo>
                    <a:lnTo>
                      <a:pt x="6361" y="3239"/>
                    </a:lnTo>
                    <a:lnTo>
                      <a:pt x="6263" y="3344"/>
                    </a:lnTo>
                    <a:lnTo>
                      <a:pt x="6160" y="3446"/>
                    </a:lnTo>
                    <a:lnTo>
                      <a:pt x="6055" y="3543"/>
                    </a:lnTo>
                    <a:lnTo>
                      <a:pt x="5946" y="3636"/>
                    </a:lnTo>
                    <a:lnTo>
                      <a:pt x="5833" y="3726"/>
                    </a:lnTo>
                    <a:lnTo>
                      <a:pt x="5716" y="3811"/>
                    </a:lnTo>
                    <a:lnTo>
                      <a:pt x="5597" y="3892"/>
                    </a:lnTo>
                    <a:lnTo>
                      <a:pt x="5474" y="3968"/>
                    </a:lnTo>
                    <a:lnTo>
                      <a:pt x="5349" y="4039"/>
                    </a:lnTo>
                    <a:lnTo>
                      <a:pt x="5220" y="4106"/>
                    </a:lnTo>
                    <a:lnTo>
                      <a:pt x="5089" y="4170"/>
                    </a:lnTo>
                    <a:lnTo>
                      <a:pt x="4955" y="4226"/>
                    </a:lnTo>
                    <a:lnTo>
                      <a:pt x="4819" y="4279"/>
                    </a:lnTo>
                    <a:lnTo>
                      <a:pt x="4863" y="4279"/>
                    </a:lnTo>
                    <a:lnTo>
                      <a:pt x="5017" y="4242"/>
                    </a:lnTo>
                    <a:lnTo>
                      <a:pt x="5153" y="4242"/>
                    </a:lnTo>
                    <a:lnTo>
                      <a:pt x="5278" y="4182"/>
                    </a:lnTo>
                    <a:lnTo>
                      <a:pt x="5400" y="4118"/>
                    </a:lnTo>
                    <a:lnTo>
                      <a:pt x="5520" y="4049"/>
                    </a:lnTo>
                    <a:lnTo>
                      <a:pt x="5638" y="3976"/>
                    </a:lnTo>
                    <a:lnTo>
                      <a:pt x="5752" y="3900"/>
                    </a:lnTo>
                    <a:lnTo>
                      <a:pt x="5864" y="3819"/>
                    </a:lnTo>
                    <a:lnTo>
                      <a:pt x="5972" y="3735"/>
                    </a:lnTo>
                    <a:lnTo>
                      <a:pt x="6077" y="3648"/>
                    </a:lnTo>
                    <a:lnTo>
                      <a:pt x="6180" y="3555"/>
                    </a:lnTo>
                    <a:lnTo>
                      <a:pt x="6278" y="3461"/>
                    </a:lnTo>
                    <a:lnTo>
                      <a:pt x="6374" y="3363"/>
                    </a:lnTo>
                    <a:lnTo>
                      <a:pt x="6466" y="3261"/>
                    </a:lnTo>
                    <a:lnTo>
                      <a:pt x="6555" y="3156"/>
                    </a:lnTo>
                    <a:lnTo>
                      <a:pt x="6640" y="3048"/>
                    </a:lnTo>
                    <a:lnTo>
                      <a:pt x="6721" y="2937"/>
                    </a:lnTo>
                    <a:lnTo>
                      <a:pt x="6798" y="2823"/>
                    </a:lnTo>
                    <a:lnTo>
                      <a:pt x="6872" y="2707"/>
                    </a:lnTo>
                    <a:lnTo>
                      <a:pt x="6941" y="2588"/>
                    </a:lnTo>
                    <a:lnTo>
                      <a:pt x="7006" y="2466"/>
                    </a:lnTo>
                    <a:lnTo>
                      <a:pt x="7067" y="2341"/>
                    </a:lnTo>
                    <a:lnTo>
                      <a:pt x="7123" y="2215"/>
                    </a:lnTo>
                    <a:lnTo>
                      <a:pt x="7175" y="2086"/>
                    </a:lnTo>
                    <a:lnTo>
                      <a:pt x="7224" y="1954"/>
                    </a:lnTo>
                    <a:lnTo>
                      <a:pt x="7266" y="1820"/>
                    </a:lnTo>
                    <a:lnTo>
                      <a:pt x="7304" y="1684"/>
                    </a:lnTo>
                    <a:lnTo>
                      <a:pt x="7338" y="1547"/>
                    </a:lnTo>
                    <a:lnTo>
                      <a:pt x="7367" y="1408"/>
                    </a:lnTo>
                    <a:lnTo>
                      <a:pt x="7391" y="1266"/>
                    </a:lnTo>
                    <a:lnTo>
                      <a:pt x="7409" y="1123"/>
                    </a:lnTo>
                    <a:lnTo>
                      <a:pt x="7422" y="979"/>
                    </a:lnTo>
                    <a:lnTo>
                      <a:pt x="7431" y="834"/>
                    </a:lnTo>
                    <a:lnTo>
                      <a:pt x="7434" y="686"/>
                    </a:lnTo>
                    <a:close/>
                    <a:moveTo>
                      <a:pt x="0" y="2404"/>
                    </a:moveTo>
                    <a:lnTo>
                      <a:pt x="32" y="2468"/>
                    </a:lnTo>
                    <a:lnTo>
                      <a:pt x="66" y="2532"/>
                    </a:lnTo>
                    <a:lnTo>
                      <a:pt x="100" y="2595"/>
                    </a:lnTo>
                    <a:lnTo>
                      <a:pt x="136" y="2657"/>
                    </a:lnTo>
                    <a:lnTo>
                      <a:pt x="173" y="2718"/>
                    </a:lnTo>
                    <a:lnTo>
                      <a:pt x="210" y="2780"/>
                    </a:lnTo>
                    <a:lnTo>
                      <a:pt x="249" y="2839"/>
                    </a:lnTo>
                    <a:lnTo>
                      <a:pt x="289" y="2898"/>
                    </a:lnTo>
                    <a:lnTo>
                      <a:pt x="330" y="2957"/>
                    </a:lnTo>
                    <a:lnTo>
                      <a:pt x="372" y="3015"/>
                    </a:lnTo>
                    <a:lnTo>
                      <a:pt x="415" y="3072"/>
                    </a:lnTo>
                    <a:lnTo>
                      <a:pt x="459" y="3128"/>
                    </a:lnTo>
                    <a:lnTo>
                      <a:pt x="504" y="3183"/>
                    </a:lnTo>
                    <a:lnTo>
                      <a:pt x="550" y="3237"/>
                    </a:lnTo>
                    <a:lnTo>
                      <a:pt x="597" y="3291"/>
                    </a:lnTo>
                    <a:lnTo>
                      <a:pt x="646" y="3344"/>
                    </a:lnTo>
                    <a:lnTo>
                      <a:pt x="690" y="3322"/>
                    </a:lnTo>
                    <a:lnTo>
                      <a:pt x="733" y="3302"/>
                    </a:lnTo>
                    <a:lnTo>
                      <a:pt x="687" y="3252"/>
                    </a:lnTo>
                    <a:lnTo>
                      <a:pt x="641" y="3200"/>
                    </a:lnTo>
                    <a:lnTo>
                      <a:pt x="597" y="3148"/>
                    </a:lnTo>
                    <a:lnTo>
                      <a:pt x="553" y="3095"/>
                    </a:lnTo>
                    <a:lnTo>
                      <a:pt x="510" y="3042"/>
                    </a:lnTo>
                    <a:lnTo>
                      <a:pt x="468" y="2987"/>
                    </a:lnTo>
                    <a:lnTo>
                      <a:pt x="427" y="2933"/>
                    </a:lnTo>
                    <a:lnTo>
                      <a:pt x="387" y="2876"/>
                    </a:lnTo>
                    <a:lnTo>
                      <a:pt x="348" y="2820"/>
                    </a:lnTo>
                    <a:lnTo>
                      <a:pt x="310" y="2762"/>
                    </a:lnTo>
                    <a:lnTo>
                      <a:pt x="273" y="2705"/>
                    </a:lnTo>
                    <a:lnTo>
                      <a:pt x="237" y="2646"/>
                    </a:lnTo>
                    <a:lnTo>
                      <a:pt x="203" y="2586"/>
                    </a:lnTo>
                    <a:lnTo>
                      <a:pt x="168" y="2526"/>
                    </a:lnTo>
                    <a:lnTo>
                      <a:pt x="136" y="2465"/>
                    </a:lnTo>
                    <a:lnTo>
                      <a:pt x="104" y="2404"/>
                    </a:lnTo>
                    <a:lnTo>
                      <a:pt x="0" y="240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25840" y="4097160"/>
                <a:ext cx="1941480" cy="1125720"/>
              </a:xfrm>
              <a:custGeom>
                <a:avLst/>
                <a:gdLst/>
                <a:ahLst/>
                <a:rect l="l" t="t" r="r" b="b"/>
                <a:pathLst>
                  <a:path w="7335" h="4257">
                    <a:moveTo>
                      <a:pt x="7335" y="664"/>
                    </a:moveTo>
                    <a:lnTo>
                      <a:pt x="7334" y="579"/>
                    </a:lnTo>
                    <a:lnTo>
                      <a:pt x="7331" y="495"/>
                    </a:lnTo>
                    <a:lnTo>
                      <a:pt x="7326" y="412"/>
                    </a:lnTo>
                    <a:lnTo>
                      <a:pt x="7320" y="329"/>
                    </a:lnTo>
                    <a:lnTo>
                      <a:pt x="7312" y="246"/>
                    </a:lnTo>
                    <a:lnTo>
                      <a:pt x="7303" y="164"/>
                    </a:lnTo>
                    <a:lnTo>
                      <a:pt x="7292" y="82"/>
                    </a:lnTo>
                    <a:lnTo>
                      <a:pt x="7278" y="0"/>
                    </a:lnTo>
                    <a:lnTo>
                      <a:pt x="7260" y="9"/>
                    </a:lnTo>
                    <a:lnTo>
                      <a:pt x="7191" y="45"/>
                    </a:lnTo>
                    <a:lnTo>
                      <a:pt x="7203" y="120"/>
                    </a:lnTo>
                    <a:lnTo>
                      <a:pt x="7213" y="197"/>
                    </a:lnTo>
                    <a:lnTo>
                      <a:pt x="7221" y="273"/>
                    </a:lnTo>
                    <a:lnTo>
                      <a:pt x="7228" y="351"/>
                    </a:lnTo>
                    <a:lnTo>
                      <a:pt x="7234" y="429"/>
                    </a:lnTo>
                    <a:lnTo>
                      <a:pt x="7239" y="506"/>
                    </a:lnTo>
                    <a:lnTo>
                      <a:pt x="7241" y="585"/>
                    </a:lnTo>
                    <a:lnTo>
                      <a:pt x="7242" y="664"/>
                    </a:lnTo>
                    <a:lnTo>
                      <a:pt x="7239" y="821"/>
                    </a:lnTo>
                    <a:lnTo>
                      <a:pt x="7229" y="975"/>
                    </a:lnTo>
                    <a:lnTo>
                      <a:pt x="7213" y="1130"/>
                    </a:lnTo>
                    <a:lnTo>
                      <a:pt x="7191" y="1281"/>
                    </a:lnTo>
                    <a:lnTo>
                      <a:pt x="7164" y="1431"/>
                    </a:lnTo>
                    <a:lnTo>
                      <a:pt x="7130" y="1578"/>
                    </a:lnTo>
                    <a:lnTo>
                      <a:pt x="7091" y="1723"/>
                    </a:lnTo>
                    <a:lnTo>
                      <a:pt x="7046" y="1866"/>
                    </a:lnTo>
                    <a:lnTo>
                      <a:pt x="6995" y="2006"/>
                    </a:lnTo>
                    <a:lnTo>
                      <a:pt x="6940" y="2144"/>
                    </a:lnTo>
                    <a:lnTo>
                      <a:pt x="6879" y="2279"/>
                    </a:lnTo>
                    <a:lnTo>
                      <a:pt x="6813" y="2411"/>
                    </a:lnTo>
                    <a:lnTo>
                      <a:pt x="6743" y="2540"/>
                    </a:lnTo>
                    <a:lnTo>
                      <a:pt x="6666" y="2665"/>
                    </a:lnTo>
                    <a:lnTo>
                      <a:pt x="6587" y="2789"/>
                    </a:lnTo>
                    <a:lnTo>
                      <a:pt x="6501" y="2907"/>
                    </a:lnTo>
                    <a:lnTo>
                      <a:pt x="6412" y="3024"/>
                    </a:lnTo>
                    <a:lnTo>
                      <a:pt x="6318" y="3136"/>
                    </a:lnTo>
                    <a:lnTo>
                      <a:pt x="6220" y="3244"/>
                    </a:lnTo>
                    <a:lnTo>
                      <a:pt x="6119" y="3349"/>
                    </a:lnTo>
                    <a:lnTo>
                      <a:pt x="6012" y="3449"/>
                    </a:lnTo>
                    <a:lnTo>
                      <a:pt x="5903" y="3546"/>
                    </a:lnTo>
                    <a:lnTo>
                      <a:pt x="5789" y="3638"/>
                    </a:lnTo>
                    <a:lnTo>
                      <a:pt x="5672" y="3726"/>
                    </a:lnTo>
                    <a:lnTo>
                      <a:pt x="5551" y="3810"/>
                    </a:lnTo>
                    <a:lnTo>
                      <a:pt x="5428" y="3888"/>
                    </a:lnTo>
                    <a:lnTo>
                      <a:pt x="5301" y="3962"/>
                    </a:lnTo>
                    <a:lnTo>
                      <a:pt x="5170" y="4031"/>
                    </a:lnTo>
                    <a:lnTo>
                      <a:pt x="5037" y="4096"/>
                    </a:lnTo>
                    <a:lnTo>
                      <a:pt x="4902" y="4155"/>
                    </a:lnTo>
                    <a:lnTo>
                      <a:pt x="4762" y="4209"/>
                    </a:lnTo>
                    <a:lnTo>
                      <a:pt x="4621" y="4257"/>
                    </a:lnTo>
                    <a:lnTo>
                      <a:pt x="4811" y="4257"/>
                    </a:lnTo>
                    <a:lnTo>
                      <a:pt x="4965" y="4220"/>
                    </a:lnTo>
                    <a:lnTo>
                      <a:pt x="4987" y="4220"/>
                    </a:lnTo>
                    <a:lnTo>
                      <a:pt x="5115" y="4163"/>
                    </a:lnTo>
                    <a:lnTo>
                      <a:pt x="5241" y="4100"/>
                    </a:lnTo>
                    <a:lnTo>
                      <a:pt x="5363" y="4034"/>
                    </a:lnTo>
                    <a:lnTo>
                      <a:pt x="5484" y="3963"/>
                    </a:lnTo>
                    <a:lnTo>
                      <a:pt x="5602" y="3888"/>
                    </a:lnTo>
                    <a:lnTo>
                      <a:pt x="5716" y="3810"/>
                    </a:lnTo>
                    <a:lnTo>
                      <a:pt x="5828" y="3727"/>
                    </a:lnTo>
                    <a:lnTo>
                      <a:pt x="5936" y="3639"/>
                    </a:lnTo>
                    <a:lnTo>
                      <a:pt x="6041" y="3549"/>
                    </a:lnTo>
                    <a:lnTo>
                      <a:pt x="6143" y="3455"/>
                    </a:lnTo>
                    <a:lnTo>
                      <a:pt x="6241" y="3358"/>
                    </a:lnTo>
                    <a:lnTo>
                      <a:pt x="6337" y="3257"/>
                    </a:lnTo>
                    <a:lnTo>
                      <a:pt x="6428" y="3152"/>
                    </a:lnTo>
                    <a:lnTo>
                      <a:pt x="6515" y="3045"/>
                    </a:lnTo>
                    <a:lnTo>
                      <a:pt x="6598" y="2933"/>
                    </a:lnTo>
                    <a:lnTo>
                      <a:pt x="6678" y="2819"/>
                    </a:lnTo>
                    <a:lnTo>
                      <a:pt x="6754" y="2702"/>
                    </a:lnTo>
                    <a:lnTo>
                      <a:pt x="6826" y="2582"/>
                    </a:lnTo>
                    <a:lnTo>
                      <a:pt x="6892" y="2460"/>
                    </a:lnTo>
                    <a:lnTo>
                      <a:pt x="6956" y="2334"/>
                    </a:lnTo>
                    <a:lnTo>
                      <a:pt x="7015" y="2208"/>
                    </a:lnTo>
                    <a:lnTo>
                      <a:pt x="7068" y="2077"/>
                    </a:lnTo>
                    <a:lnTo>
                      <a:pt x="7117" y="1945"/>
                    </a:lnTo>
                    <a:lnTo>
                      <a:pt x="7162" y="1810"/>
                    </a:lnTo>
                    <a:lnTo>
                      <a:pt x="7202" y="1673"/>
                    </a:lnTo>
                    <a:lnTo>
                      <a:pt x="7236" y="1534"/>
                    </a:lnTo>
                    <a:lnTo>
                      <a:pt x="7266" y="1394"/>
                    </a:lnTo>
                    <a:lnTo>
                      <a:pt x="7290" y="1251"/>
                    </a:lnTo>
                    <a:lnTo>
                      <a:pt x="7310" y="1107"/>
                    </a:lnTo>
                    <a:lnTo>
                      <a:pt x="7324" y="960"/>
                    </a:lnTo>
                    <a:lnTo>
                      <a:pt x="7332" y="813"/>
                    </a:lnTo>
                    <a:lnTo>
                      <a:pt x="7335" y="664"/>
                    </a:lnTo>
                    <a:close/>
                    <a:moveTo>
                      <a:pt x="0" y="2382"/>
                    </a:moveTo>
                    <a:lnTo>
                      <a:pt x="32" y="2445"/>
                    </a:lnTo>
                    <a:lnTo>
                      <a:pt x="65" y="2506"/>
                    </a:lnTo>
                    <a:lnTo>
                      <a:pt x="99" y="2568"/>
                    </a:lnTo>
                    <a:lnTo>
                      <a:pt x="135" y="2630"/>
                    </a:lnTo>
                    <a:lnTo>
                      <a:pt x="170" y="2689"/>
                    </a:lnTo>
                    <a:lnTo>
                      <a:pt x="208" y="2749"/>
                    </a:lnTo>
                    <a:lnTo>
                      <a:pt x="247" y="2807"/>
                    </a:lnTo>
                    <a:lnTo>
                      <a:pt x="286" y="2866"/>
                    </a:lnTo>
                    <a:lnTo>
                      <a:pt x="326" y="2922"/>
                    </a:lnTo>
                    <a:lnTo>
                      <a:pt x="368" y="2979"/>
                    </a:lnTo>
                    <a:lnTo>
                      <a:pt x="410" y="3035"/>
                    </a:lnTo>
                    <a:lnTo>
                      <a:pt x="454" y="3090"/>
                    </a:lnTo>
                    <a:lnTo>
                      <a:pt x="498" y="3144"/>
                    </a:lnTo>
                    <a:lnTo>
                      <a:pt x="544" y="3197"/>
                    </a:lnTo>
                    <a:lnTo>
                      <a:pt x="590" y="3250"/>
                    </a:lnTo>
                    <a:lnTo>
                      <a:pt x="638" y="3300"/>
                    </a:lnTo>
                    <a:lnTo>
                      <a:pt x="638" y="3300"/>
                    </a:lnTo>
                    <a:lnTo>
                      <a:pt x="715" y="3264"/>
                    </a:lnTo>
                    <a:lnTo>
                      <a:pt x="725" y="3258"/>
                    </a:lnTo>
                    <a:lnTo>
                      <a:pt x="679" y="3209"/>
                    </a:lnTo>
                    <a:lnTo>
                      <a:pt x="634" y="3159"/>
                    </a:lnTo>
                    <a:lnTo>
                      <a:pt x="590" y="3108"/>
                    </a:lnTo>
                    <a:lnTo>
                      <a:pt x="548" y="3057"/>
                    </a:lnTo>
                    <a:lnTo>
                      <a:pt x="505" y="3004"/>
                    </a:lnTo>
                    <a:lnTo>
                      <a:pt x="463" y="2951"/>
                    </a:lnTo>
                    <a:lnTo>
                      <a:pt x="423" y="2897"/>
                    </a:lnTo>
                    <a:lnTo>
                      <a:pt x="384" y="2843"/>
                    </a:lnTo>
                    <a:lnTo>
                      <a:pt x="346" y="2787"/>
                    </a:lnTo>
                    <a:lnTo>
                      <a:pt x="308" y="2731"/>
                    </a:lnTo>
                    <a:lnTo>
                      <a:pt x="271" y="2675"/>
                    </a:lnTo>
                    <a:lnTo>
                      <a:pt x="236" y="2617"/>
                    </a:lnTo>
                    <a:lnTo>
                      <a:pt x="202" y="2559"/>
                    </a:lnTo>
                    <a:lnTo>
                      <a:pt x="168" y="2500"/>
                    </a:lnTo>
                    <a:lnTo>
                      <a:pt x="135" y="2441"/>
                    </a:lnTo>
                    <a:lnTo>
                      <a:pt x="104" y="2381"/>
                    </a:lnTo>
                    <a:lnTo>
                      <a:pt x="100" y="2382"/>
                    </a:lnTo>
                    <a:lnTo>
                      <a:pt x="0" y="238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39880" y="4102200"/>
                <a:ext cx="1914480" cy="1120680"/>
              </a:xfrm>
              <a:custGeom>
                <a:avLst/>
                <a:gdLst/>
                <a:ahLst/>
                <a:rect l="l" t="t" r="r" b="b"/>
                <a:pathLst>
                  <a:path w="7236" h="4234">
                    <a:moveTo>
                      <a:pt x="7236" y="641"/>
                    </a:moveTo>
                    <a:lnTo>
                      <a:pt x="7235" y="559"/>
                    </a:lnTo>
                    <a:lnTo>
                      <a:pt x="7233" y="477"/>
                    </a:lnTo>
                    <a:lnTo>
                      <a:pt x="7228" y="397"/>
                    </a:lnTo>
                    <a:lnTo>
                      <a:pt x="7222" y="316"/>
                    </a:lnTo>
                    <a:lnTo>
                      <a:pt x="7215" y="237"/>
                    </a:lnTo>
                    <a:lnTo>
                      <a:pt x="7206" y="157"/>
                    </a:lnTo>
                    <a:lnTo>
                      <a:pt x="7195" y="79"/>
                    </a:lnTo>
                    <a:lnTo>
                      <a:pt x="7183" y="0"/>
                    </a:lnTo>
                    <a:lnTo>
                      <a:pt x="7135" y="23"/>
                    </a:lnTo>
                    <a:lnTo>
                      <a:pt x="7095" y="44"/>
                    </a:lnTo>
                    <a:lnTo>
                      <a:pt x="7106" y="118"/>
                    </a:lnTo>
                    <a:lnTo>
                      <a:pt x="7116" y="192"/>
                    </a:lnTo>
                    <a:lnTo>
                      <a:pt x="7124" y="265"/>
                    </a:lnTo>
                    <a:lnTo>
                      <a:pt x="7131" y="339"/>
                    </a:lnTo>
                    <a:lnTo>
                      <a:pt x="7136" y="414"/>
                    </a:lnTo>
                    <a:lnTo>
                      <a:pt x="7140" y="489"/>
                    </a:lnTo>
                    <a:lnTo>
                      <a:pt x="7143" y="565"/>
                    </a:lnTo>
                    <a:lnTo>
                      <a:pt x="7143" y="641"/>
                    </a:lnTo>
                    <a:lnTo>
                      <a:pt x="7139" y="801"/>
                    </a:lnTo>
                    <a:lnTo>
                      <a:pt x="7130" y="959"/>
                    </a:lnTo>
                    <a:lnTo>
                      <a:pt x="7113" y="1115"/>
                    </a:lnTo>
                    <a:lnTo>
                      <a:pt x="7090" y="1269"/>
                    </a:lnTo>
                    <a:lnTo>
                      <a:pt x="7061" y="1422"/>
                    </a:lnTo>
                    <a:lnTo>
                      <a:pt x="7025" y="1571"/>
                    </a:lnTo>
                    <a:lnTo>
                      <a:pt x="6985" y="1720"/>
                    </a:lnTo>
                    <a:lnTo>
                      <a:pt x="6937" y="1864"/>
                    </a:lnTo>
                    <a:lnTo>
                      <a:pt x="6884" y="2007"/>
                    </a:lnTo>
                    <a:lnTo>
                      <a:pt x="6825" y="2147"/>
                    </a:lnTo>
                    <a:lnTo>
                      <a:pt x="6762" y="2284"/>
                    </a:lnTo>
                    <a:lnTo>
                      <a:pt x="6693" y="2416"/>
                    </a:lnTo>
                    <a:lnTo>
                      <a:pt x="6619" y="2547"/>
                    </a:lnTo>
                    <a:lnTo>
                      <a:pt x="6539" y="2675"/>
                    </a:lnTo>
                    <a:lnTo>
                      <a:pt x="6455" y="2798"/>
                    </a:lnTo>
                    <a:lnTo>
                      <a:pt x="6366" y="2918"/>
                    </a:lnTo>
                    <a:lnTo>
                      <a:pt x="6273" y="3034"/>
                    </a:lnTo>
                    <a:lnTo>
                      <a:pt x="6175" y="3146"/>
                    </a:lnTo>
                    <a:lnTo>
                      <a:pt x="6072" y="3254"/>
                    </a:lnTo>
                    <a:lnTo>
                      <a:pt x="5965" y="3358"/>
                    </a:lnTo>
                    <a:lnTo>
                      <a:pt x="5854" y="3458"/>
                    </a:lnTo>
                    <a:lnTo>
                      <a:pt x="5740" y="3554"/>
                    </a:lnTo>
                    <a:lnTo>
                      <a:pt x="5621" y="3644"/>
                    </a:lnTo>
                    <a:lnTo>
                      <a:pt x="5499" y="3730"/>
                    </a:lnTo>
                    <a:lnTo>
                      <a:pt x="5373" y="3812"/>
                    </a:lnTo>
                    <a:lnTo>
                      <a:pt x="5245" y="3888"/>
                    </a:lnTo>
                    <a:lnTo>
                      <a:pt x="5113" y="3960"/>
                    </a:lnTo>
                    <a:lnTo>
                      <a:pt x="4977" y="4026"/>
                    </a:lnTo>
                    <a:lnTo>
                      <a:pt x="4838" y="4086"/>
                    </a:lnTo>
                    <a:lnTo>
                      <a:pt x="4697" y="4141"/>
                    </a:lnTo>
                    <a:lnTo>
                      <a:pt x="4553" y="4190"/>
                    </a:lnTo>
                    <a:lnTo>
                      <a:pt x="4407" y="4234"/>
                    </a:lnTo>
                    <a:lnTo>
                      <a:pt x="4416" y="4234"/>
                    </a:lnTo>
                    <a:lnTo>
                      <a:pt x="4567" y="4234"/>
                    </a:lnTo>
                    <a:lnTo>
                      <a:pt x="4715" y="4234"/>
                    </a:lnTo>
                    <a:lnTo>
                      <a:pt x="4851" y="4181"/>
                    </a:lnTo>
                    <a:lnTo>
                      <a:pt x="4985" y="4125"/>
                    </a:lnTo>
                    <a:lnTo>
                      <a:pt x="5116" y="4061"/>
                    </a:lnTo>
                    <a:lnTo>
                      <a:pt x="5245" y="3994"/>
                    </a:lnTo>
                    <a:lnTo>
                      <a:pt x="5370" y="3923"/>
                    </a:lnTo>
                    <a:lnTo>
                      <a:pt x="5493" y="3847"/>
                    </a:lnTo>
                    <a:lnTo>
                      <a:pt x="5612" y="3766"/>
                    </a:lnTo>
                    <a:lnTo>
                      <a:pt x="5729" y="3681"/>
                    </a:lnTo>
                    <a:lnTo>
                      <a:pt x="5842" y="3591"/>
                    </a:lnTo>
                    <a:lnTo>
                      <a:pt x="5951" y="3498"/>
                    </a:lnTo>
                    <a:lnTo>
                      <a:pt x="6056" y="3401"/>
                    </a:lnTo>
                    <a:lnTo>
                      <a:pt x="6159" y="3299"/>
                    </a:lnTo>
                    <a:lnTo>
                      <a:pt x="6257" y="3194"/>
                    </a:lnTo>
                    <a:lnTo>
                      <a:pt x="6350" y="3086"/>
                    </a:lnTo>
                    <a:lnTo>
                      <a:pt x="6440" y="2973"/>
                    </a:lnTo>
                    <a:lnTo>
                      <a:pt x="6527" y="2858"/>
                    </a:lnTo>
                    <a:lnTo>
                      <a:pt x="6609" y="2739"/>
                    </a:lnTo>
                    <a:lnTo>
                      <a:pt x="6686" y="2617"/>
                    </a:lnTo>
                    <a:lnTo>
                      <a:pt x="6757" y="2492"/>
                    </a:lnTo>
                    <a:lnTo>
                      <a:pt x="6825" y="2364"/>
                    </a:lnTo>
                    <a:lnTo>
                      <a:pt x="6889" y="2233"/>
                    </a:lnTo>
                    <a:lnTo>
                      <a:pt x="6948" y="2099"/>
                    </a:lnTo>
                    <a:lnTo>
                      <a:pt x="7001" y="1963"/>
                    </a:lnTo>
                    <a:lnTo>
                      <a:pt x="7049" y="1825"/>
                    </a:lnTo>
                    <a:lnTo>
                      <a:pt x="7092" y="1684"/>
                    </a:lnTo>
                    <a:lnTo>
                      <a:pt x="7129" y="1541"/>
                    </a:lnTo>
                    <a:lnTo>
                      <a:pt x="7161" y="1395"/>
                    </a:lnTo>
                    <a:lnTo>
                      <a:pt x="7188" y="1249"/>
                    </a:lnTo>
                    <a:lnTo>
                      <a:pt x="7208" y="1099"/>
                    </a:lnTo>
                    <a:lnTo>
                      <a:pt x="7223" y="948"/>
                    </a:lnTo>
                    <a:lnTo>
                      <a:pt x="7233" y="796"/>
                    </a:lnTo>
                    <a:lnTo>
                      <a:pt x="7236" y="641"/>
                    </a:lnTo>
                    <a:close/>
                    <a:moveTo>
                      <a:pt x="0" y="2359"/>
                    </a:moveTo>
                    <a:lnTo>
                      <a:pt x="32" y="2420"/>
                    </a:lnTo>
                    <a:lnTo>
                      <a:pt x="64" y="2481"/>
                    </a:lnTo>
                    <a:lnTo>
                      <a:pt x="99" y="2541"/>
                    </a:lnTo>
                    <a:lnTo>
                      <a:pt x="133" y="2601"/>
                    </a:lnTo>
                    <a:lnTo>
                      <a:pt x="169" y="2660"/>
                    </a:lnTo>
                    <a:lnTo>
                      <a:pt x="206" y="2717"/>
                    </a:lnTo>
                    <a:lnTo>
                      <a:pt x="244" y="2775"/>
                    </a:lnTo>
                    <a:lnTo>
                      <a:pt x="283" y="2831"/>
                    </a:lnTo>
                    <a:lnTo>
                      <a:pt x="323" y="2888"/>
                    </a:lnTo>
                    <a:lnTo>
                      <a:pt x="364" y="2942"/>
                    </a:lnTo>
                    <a:lnTo>
                      <a:pt x="406" y="2997"/>
                    </a:lnTo>
                    <a:lnTo>
                      <a:pt x="449" y="3050"/>
                    </a:lnTo>
                    <a:lnTo>
                      <a:pt x="493" y="3103"/>
                    </a:lnTo>
                    <a:lnTo>
                      <a:pt x="537" y="3155"/>
                    </a:lnTo>
                    <a:lnTo>
                      <a:pt x="583" y="3207"/>
                    </a:lnTo>
                    <a:lnTo>
                      <a:pt x="629" y="3257"/>
                    </a:lnTo>
                    <a:lnTo>
                      <a:pt x="663" y="3241"/>
                    </a:lnTo>
                    <a:lnTo>
                      <a:pt x="716" y="3212"/>
                    </a:lnTo>
                    <a:lnTo>
                      <a:pt x="670" y="3163"/>
                    </a:lnTo>
                    <a:lnTo>
                      <a:pt x="626" y="3115"/>
                    </a:lnTo>
                    <a:lnTo>
                      <a:pt x="582" y="3064"/>
                    </a:lnTo>
                    <a:lnTo>
                      <a:pt x="539" y="3013"/>
                    </a:lnTo>
                    <a:lnTo>
                      <a:pt x="497" y="2962"/>
                    </a:lnTo>
                    <a:lnTo>
                      <a:pt x="456" y="2910"/>
                    </a:lnTo>
                    <a:lnTo>
                      <a:pt x="416" y="2857"/>
                    </a:lnTo>
                    <a:lnTo>
                      <a:pt x="377" y="2803"/>
                    </a:lnTo>
                    <a:lnTo>
                      <a:pt x="339" y="2748"/>
                    </a:lnTo>
                    <a:lnTo>
                      <a:pt x="301" y="2693"/>
                    </a:lnTo>
                    <a:lnTo>
                      <a:pt x="265" y="2637"/>
                    </a:lnTo>
                    <a:lnTo>
                      <a:pt x="229" y="2580"/>
                    </a:lnTo>
                    <a:lnTo>
                      <a:pt x="196" y="2522"/>
                    </a:lnTo>
                    <a:lnTo>
                      <a:pt x="162" y="2465"/>
                    </a:lnTo>
                    <a:lnTo>
                      <a:pt x="130" y="2406"/>
                    </a:lnTo>
                    <a:lnTo>
                      <a:pt x="99" y="2346"/>
                    </a:lnTo>
                    <a:lnTo>
                      <a:pt x="48" y="2359"/>
                    </a:lnTo>
                    <a:lnTo>
                      <a:pt x="0" y="235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52840" y="4108320"/>
                <a:ext cx="1888920" cy="1114560"/>
              </a:xfrm>
              <a:custGeom>
                <a:avLst/>
                <a:gdLst/>
                <a:ahLst/>
                <a:rect l="l" t="t" r="r" b="b"/>
                <a:pathLst>
                  <a:path w="7138" h="4212">
                    <a:moveTo>
                      <a:pt x="7138" y="619"/>
                    </a:moveTo>
                    <a:lnTo>
                      <a:pt x="7137" y="540"/>
                    </a:lnTo>
                    <a:lnTo>
                      <a:pt x="7135" y="461"/>
                    </a:lnTo>
                    <a:lnTo>
                      <a:pt x="7130" y="384"/>
                    </a:lnTo>
                    <a:lnTo>
                      <a:pt x="7124" y="306"/>
                    </a:lnTo>
                    <a:lnTo>
                      <a:pt x="7117" y="228"/>
                    </a:lnTo>
                    <a:lnTo>
                      <a:pt x="7109" y="152"/>
                    </a:lnTo>
                    <a:lnTo>
                      <a:pt x="7099" y="75"/>
                    </a:lnTo>
                    <a:lnTo>
                      <a:pt x="7087" y="0"/>
                    </a:lnTo>
                    <a:lnTo>
                      <a:pt x="7083" y="1"/>
                    </a:lnTo>
                    <a:lnTo>
                      <a:pt x="7005" y="42"/>
                    </a:lnTo>
                    <a:lnTo>
                      <a:pt x="7000" y="45"/>
                    </a:lnTo>
                    <a:lnTo>
                      <a:pt x="7010" y="115"/>
                    </a:lnTo>
                    <a:lnTo>
                      <a:pt x="7019" y="186"/>
                    </a:lnTo>
                    <a:lnTo>
                      <a:pt x="7027" y="257"/>
                    </a:lnTo>
                    <a:lnTo>
                      <a:pt x="7033" y="329"/>
                    </a:lnTo>
                    <a:lnTo>
                      <a:pt x="7038" y="401"/>
                    </a:lnTo>
                    <a:lnTo>
                      <a:pt x="7041" y="473"/>
                    </a:lnTo>
                    <a:lnTo>
                      <a:pt x="7043" y="545"/>
                    </a:lnTo>
                    <a:lnTo>
                      <a:pt x="7045" y="619"/>
                    </a:lnTo>
                    <a:lnTo>
                      <a:pt x="7041" y="783"/>
                    </a:lnTo>
                    <a:lnTo>
                      <a:pt x="7030" y="945"/>
                    </a:lnTo>
                    <a:lnTo>
                      <a:pt x="7012" y="1106"/>
                    </a:lnTo>
                    <a:lnTo>
                      <a:pt x="6988" y="1264"/>
                    </a:lnTo>
                    <a:lnTo>
                      <a:pt x="6957" y="1419"/>
                    </a:lnTo>
                    <a:lnTo>
                      <a:pt x="6920" y="1572"/>
                    </a:lnTo>
                    <a:lnTo>
                      <a:pt x="6876" y="1723"/>
                    </a:lnTo>
                    <a:lnTo>
                      <a:pt x="6825" y="1871"/>
                    </a:lnTo>
                    <a:lnTo>
                      <a:pt x="6770" y="2016"/>
                    </a:lnTo>
                    <a:lnTo>
                      <a:pt x="6708" y="2158"/>
                    </a:lnTo>
                    <a:lnTo>
                      <a:pt x="6640" y="2296"/>
                    </a:lnTo>
                    <a:lnTo>
                      <a:pt x="6567" y="2432"/>
                    </a:lnTo>
                    <a:lnTo>
                      <a:pt x="6489" y="2565"/>
                    </a:lnTo>
                    <a:lnTo>
                      <a:pt x="6404" y="2693"/>
                    </a:lnTo>
                    <a:lnTo>
                      <a:pt x="6316" y="2817"/>
                    </a:lnTo>
                    <a:lnTo>
                      <a:pt x="6221" y="2938"/>
                    </a:lnTo>
                    <a:lnTo>
                      <a:pt x="6122" y="3055"/>
                    </a:lnTo>
                    <a:lnTo>
                      <a:pt x="6018" y="3167"/>
                    </a:lnTo>
                    <a:lnTo>
                      <a:pt x="5911" y="3275"/>
                    </a:lnTo>
                    <a:lnTo>
                      <a:pt x="5798" y="3379"/>
                    </a:lnTo>
                    <a:lnTo>
                      <a:pt x="5681" y="3477"/>
                    </a:lnTo>
                    <a:lnTo>
                      <a:pt x="5560" y="3571"/>
                    </a:lnTo>
                    <a:lnTo>
                      <a:pt x="5436" y="3660"/>
                    </a:lnTo>
                    <a:lnTo>
                      <a:pt x="5308" y="3744"/>
                    </a:lnTo>
                    <a:lnTo>
                      <a:pt x="5175" y="3823"/>
                    </a:lnTo>
                    <a:lnTo>
                      <a:pt x="5039" y="3895"/>
                    </a:lnTo>
                    <a:lnTo>
                      <a:pt x="4900" y="3963"/>
                    </a:lnTo>
                    <a:lnTo>
                      <a:pt x="4758" y="4025"/>
                    </a:lnTo>
                    <a:lnTo>
                      <a:pt x="4613" y="4081"/>
                    </a:lnTo>
                    <a:lnTo>
                      <a:pt x="4464" y="4130"/>
                    </a:lnTo>
                    <a:lnTo>
                      <a:pt x="4314" y="4174"/>
                    </a:lnTo>
                    <a:lnTo>
                      <a:pt x="4161" y="4212"/>
                    </a:lnTo>
                    <a:lnTo>
                      <a:pt x="4173" y="4212"/>
                    </a:lnTo>
                    <a:lnTo>
                      <a:pt x="4364" y="4212"/>
                    </a:lnTo>
                    <a:lnTo>
                      <a:pt x="4515" y="4212"/>
                    </a:lnTo>
                    <a:lnTo>
                      <a:pt x="4517" y="4212"/>
                    </a:lnTo>
                    <a:lnTo>
                      <a:pt x="4658" y="4164"/>
                    </a:lnTo>
                    <a:lnTo>
                      <a:pt x="4798" y="4110"/>
                    </a:lnTo>
                    <a:lnTo>
                      <a:pt x="4933" y="4051"/>
                    </a:lnTo>
                    <a:lnTo>
                      <a:pt x="5066" y="3986"/>
                    </a:lnTo>
                    <a:lnTo>
                      <a:pt x="5197" y="3917"/>
                    </a:lnTo>
                    <a:lnTo>
                      <a:pt x="5324" y="3843"/>
                    </a:lnTo>
                    <a:lnTo>
                      <a:pt x="5447" y="3765"/>
                    </a:lnTo>
                    <a:lnTo>
                      <a:pt x="5568" y="3681"/>
                    </a:lnTo>
                    <a:lnTo>
                      <a:pt x="5685" y="3593"/>
                    </a:lnTo>
                    <a:lnTo>
                      <a:pt x="5799" y="3501"/>
                    </a:lnTo>
                    <a:lnTo>
                      <a:pt x="5908" y="3404"/>
                    </a:lnTo>
                    <a:lnTo>
                      <a:pt x="6015" y="3304"/>
                    </a:lnTo>
                    <a:lnTo>
                      <a:pt x="6116" y="3199"/>
                    </a:lnTo>
                    <a:lnTo>
                      <a:pt x="6214" y="3091"/>
                    </a:lnTo>
                    <a:lnTo>
                      <a:pt x="6308" y="2979"/>
                    </a:lnTo>
                    <a:lnTo>
                      <a:pt x="6397" y="2862"/>
                    </a:lnTo>
                    <a:lnTo>
                      <a:pt x="6483" y="2744"/>
                    </a:lnTo>
                    <a:lnTo>
                      <a:pt x="6562" y="2620"/>
                    </a:lnTo>
                    <a:lnTo>
                      <a:pt x="6639" y="2495"/>
                    </a:lnTo>
                    <a:lnTo>
                      <a:pt x="6709" y="2366"/>
                    </a:lnTo>
                    <a:lnTo>
                      <a:pt x="6775" y="2234"/>
                    </a:lnTo>
                    <a:lnTo>
                      <a:pt x="6836" y="2099"/>
                    </a:lnTo>
                    <a:lnTo>
                      <a:pt x="6891" y="1961"/>
                    </a:lnTo>
                    <a:lnTo>
                      <a:pt x="6942" y="1821"/>
                    </a:lnTo>
                    <a:lnTo>
                      <a:pt x="6987" y="1678"/>
                    </a:lnTo>
                    <a:lnTo>
                      <a:pt x="7026" y="1533"/>
                    </a:lnTo>
                    <a:lnTo>
                      <a:pt x="7060" y="1386"/>
                    </a:lnTo>
                    <a:lnTo>
                      <a:pt x="7087" y="1236"/>
                    </a:lnTo>
                    <a:lnTo>
                      <a:pt x="7109" y="1085"/>
                    </a:lnTo>
                    <a:lnTo>
                      <a:pt x="7125" y="930"/>
                    </a:lnTo>
                    <a:lnTo>
                      <a:pt x="7135" y="776"/>
                    </a:lnTo>
                    <a:lnTo>
                      <a:pt x="7138" y="619"/>
                    </a:lnTo>
                    <a:close/>
                    <a:moveTo>
                      <a:pt x="0" y="2336"/>
                    </a:moveTo>
                    <a:lnTo>
                      <a:pt x="31" y="2396"/>
                    </a:lnTo>
                    <a:lnTo>
                      <a:pt x="64" y="2455"/>
                    </a:lnTo>
                    <a:lnTo>
                      <a:pt x="98" y="2514"/>
                    </a:lnTo>
                    <a:lnTo>
                      <a:pt x="132" y="2572"/>
                    </a:lnTo>
                    <a:lnTo>
                      <a:pt x="167" y="2630"/>
                    </a:lnTo>
                    <a:lnTo>
                      <a:pt x="204" y="2686"/>
                    </a:lnTo>
                    <a:lnTo>
                      <a:pt x="242" y="2742"/>
                    </a:lnTo>
                    <a:lnTo>
                      <a:pt x="280" y="2798"/>
                    </a:lnTo>
                    <a:lnTo>
                      <a:pt x="319" y="2852"/>
                    </a:lnTo>
                    <a:lnTo>
                      <a:pt x="359" y="2906"/>
                    </a:lnTo>
                    <a:lnTo>
                      <a:pt x="401" y="2959"/>
                    </a:lnTo>
                    <a:lnTo>
                      <a:pt x="444" y="3012"/>
                    </a:lnTo>
                    <a:lnTo>
                      <a:pt x="486" y="3063"/>
                    </a:lnTo>
                    <a:lnTo>
                      <a:pt x="530" y="3114"/>
                    </a:lnTo>
                    <a:lnTo>
                      <a:pt x="575" y="3164"/>
                    </a:lnTo>
                    <a:lnTo>
                      <a:pt x="621" y="3213"/>
                    </a:lnTo>
                    <a:lnTo>
                      <a:pt x="685" y="3178"/>
                    </a:lnTo>
                    <a:lnTo>
                      <a:pt x="707" y="3168"/>
                    </a:lnTo>
                    <a:lnTo>
                      <a:pt x="662" y="3121"/>
                    </a:lnTo>
                    <a:lnTo>
                      <a:pt x="618" y="3071"/>
                    </a:lnTo>
                    <a:lnTo>
                      <a:pt x="574" y="3023"/>
                    </a:lnTo>
                    <a:lnTo>
                      <a:pt x="531" y="2972"/>
                    </a:lnTo>
                    <a:lnTo>
                      <a:pt x="490" y="2921"/>
                    </a:lnTo>
                    <a:lnTo>
                      <a:pt x="449" y="2869"/>
                    </a:lnTo>
                    <a:lnTo>
                      <a:pt x="409" y="2817"/>
                    </a:lnTo>
                    <a:lnTo>
                      <a:pt x="370" y="2763"/>
                    </a:lnTo>
                    <a:lnTo>
                      <a:pt x="332" y="2710"/>
                    </a:lnTo>
                    <a:lnTo>
                      <a:pt x="295" y="2655"/>
                    </a:lnTo>
                    <a:lnTo>
                      <a:pt x="259" y="2600"/>
                    </a:lnTo>
                    <a:lnTo>
                      <a:pt x="224" y="2544"/>
                    </a:lnTo>
                    <a:lnTo>
                      <a:pt x="190" y="2488"/>
                    </a:lnTo>
                    <a:lnTo>
                      <a:pt x="156" y="2430"/>
                    </a:lnTo>
                    <a:lnTo>
                      <a:pt x="124" y="2372"/>
                    </a:lnTo>
                    <a:lnTo>
                      <a:pt x="93" y="2314"/>
                    </a:lnTo>
                    <a:lnTo>
                      <a:pt x="0" y="2336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65440" y="4114800"/>
                <a:ext cx="1863720" cy="1108080"/>
              </a:xfrm>
              <a:custGeom>
                <a:avLst/>
                <a:gdLst/>
                <a:ahLst/>
                <a:rect l="l" t="t" r="r" b="b"/>
                <a:pathLst>
                  <a:path w="7044" h="4190">
                    <a:moveTo>
                      <a:pt x="7044" y="597"/>
                    </a:moveTo>
                    <a:lnTo>
                      <a:pt x="7044" y="521"/>
                    </a:lnTo>
                    <a:lnTo>
                      <a:pt x="7041" y="445"/>
                    </a:lnTo>
                    <a:lnTo>
                      <a:pt x="7037" y="370"/>
                    </a:lnTo>
                    <a:lnTo>
                      <a:pt x="7032" y="295"/>
                    </a:lnTo>
                    <a:lnTo>
                      <a:pt x="7025" y="221"/>
                    </a:lnTo>
                    <a:lnTo>
                      <a:pt x="7017" y="148"/>
                    </a:lnTo>
                    <a:lnTo>
                      <a:pt x="7007" y="74"/>
                    </a:lnTo>
                    <a:lnTo>
                      <a:pt x="6996" y="0"/>
                    </a:lnTo>
                    <a:lnTo>
                      <a:pt x="6958" y="20"/>
                    </a:lnTo>
                    <a:lnTo>
                      <a:pt x="6909" y="44"/>
                    </a:lnTo>
                    <a:lnTo>
                      <a:pt x="6919" y="112"/>
                    </a:lnTo>
                    <a:lnTo>
                      <a:pt x="6927" y="180"/>
                    </a:lnTo>
                    <a:lnTo>
                      <a:pt x="6934" y="249"/>
                    </a:lnTo>
                    <a:lnTo>
                      <a:pt x="6940" y="317"/>
                    </a:lnTo>
                    <a:lnTo>
                      <a:pt x="6944" y="387"/>
                    </a:lnTo>
                    <a:lnTo>
                      <a:pt x="6948" y="456"/>
                    </a:lnTo>
                    <a:lnTo>
                      <a:pt x="6950" y="527"/>
                    </a:lnTo>
                    <a:lnTo>
                      <a:pt x="6950" y="597"/>
                    </a:lnTo>
                    <a:lnTo>
                      <a:pt x="6947" y="767"/>
                    </a:lnTo>
                    <a:lnTo>
                      <a:pt x="6935" y="935"/>
                    </a:lnTo>
                    <a:lnTo>
                      <a:pt x="6916" y="1101"/>
                    </a:lnTo>
                    <a:lnTo>
                      <a:pt x="6889" y="1263"/>
                    </a:lnTo>
                    <a:lnTo>
                      <a:pt x="6856" y="1425"/>
                    </a:lnTo>
                    <a:lnTo>
                      <a:pt x="6815" y="1583"/>
                    </a:lnTo>
                    <a:lnTo>
                      <a:pt x="6768" y="1738"/>
                    </a:lnTo>
                    <a:lnTo>
                      <a:pt x="6714" y="1891"/>
                    </a:lnTo>
                    <a:lnTo>
                      <a:pt x="6653" y="2039"/>
                    </a:lnTo>
                    <a:lnTo>
                      <a:pt x="6586" y="2184"/>
                    </a:lnTo>
                    <a:lnTo>
                      <a:pt x="6513" y="2327"/>
                    </a:lnTo>
                    <a:lnTo>
                      <a:pt x="6434" y="2466"/>
                    </a:lnTo>
                    <a:lnTo>
                      <a:pt x="6349" y="2599"/>
                    </a:lnTo>
                    <a:lnTo>
                      <a:pt x="6258" y="2731"/>
                    </a:lnTo>
                    <a:lnTo>
                      <a:pt x="6162" y="2857"/>
                    </a:lnTo>
                    <a:lnTo>
                      <a:pt x="6061" y="2979"/>
                    </a:lnTo>
                    <a:lnTo>
                      <a:pt x="5955" y="3096"/>
                    </a:lnTo>
                    <a:lnTo>
                      <a:pt x="5843" y="3208"/>
                    </a:lnTo>
                    <a:lnTo>
                      <a:pt x="5726" y="3315"/>
                    </a:lnTo>
                    <a:lnTo>
                      <a:pt x="5605" y="3418"/>
                    </a:lnTo>
                    <a:lnTo>
                      <a:pt x="5481" y="3516"/>
                    </a:lnTo>
                    <a:lnTo>
                      <a:pt x="5352" y="3607"/>
                    </a:lnTo>
                    <a:lnTo>
                      <a:pt x="5218" y="3693"/>
                    </a:lnTo>
                    <a:lnTo>
                      <a:pt x="5079" y="3774"/>
                    </a:lnTo>
                    <a:lnTo>
                      <a:pt x="4939" y="3849"/>
                    </a:lnTo>
                    <a:lnTo>
                      <a:pt x="4793" y="3917"/>
                    </a:lnTo>
                    <a:lnTo>
                      <a:pt x="4646" y="3979"/>
                    </a:lnTo>
                    <a:lnTo>
                      <a:pt x="4493" y="4035"/>
                    </a:lnTo>
                    <a:lnTo>
                      <a:pt x="4339" y="4084"/>
                    </a:lnTo>
                    <a:lnTo>
                      <a:pt x="4182" y="4127"/>
                    </a:lnTo>
                    <a:lnTo>
                      <a:pt x="4022" y="4161"/>
                    </a:lnTo>
                    <a:lnTo>
                      <a:pt x="3859" y="4190"/>
                    </a:lnTo>
                    <a:lnTo>
                      <a:pt x="3971" y="4190"/>
                    </a:lnTo>
                    <a:lnTo>
                      <a:pt x="4126" y="4190"/>
                    </a:lnTo>
                    <a:lnTo>
                      <a:pt x="4308" y="4190"/>
                    </a:lnTo>
                    <a:lnTo>
                      <a:pt x="4454" y="4146"/>
                    </a:lnTo>
                    <a:lnTo>
                      <a:pt x="4598" y="4097"/>
                    </a:lnTo>
                    <a:lnTo>
                      <a:pt x="4739" y="4042"/>
                    </a:lnTo>
                    <a:lnTo>
                      <a:pt x="4878" y="3982"/>
                    </a:lnTo>
                    <a:lnTo>
                      <a:pt x="5014" y="3916"/>
                    </a:lnTo>
                    <a:lnTo>
                      <a:pt x="5146" y="3844"/>
                    </a:lnTo>
                    <a:lnTo>
                      <a:pt x="5274" y="3768"/>
                    </a:lnTo>
                    <a:lnTo>
                      <a:pt x="5400" y="3686"/>
                    </a:lnTo>
                    <a:lnTo>
                      <a:pt x="5522" y="3600"/>
                    </a:lnTo>
                    <a:lnTo>
                      <a:pt x="5641" y="3510"/>
                    </a:lnTo>
                    <a:lnTo>
                      <a:pt x="5755" y="3414"/>
                    </a:lnTo>
                    <a:lnTo>
                      <a:pt x="5866" y="3314"/>
                    </a:lnTo>
                    <a:lnTo>
                      <a:pt x="5973" y="3210"/>
                    </a:lnTo>
                    <a:lnTo>
                      <a:pt x="6076" y="3102"/>
                    </a:lnTo>
                    <a:lnTo>
                      <a:pt x="6174" y="2990"/>
                    </a:lnTo>
                    <a:lnTo>
                      <a:pt x="6267" y="2874"/>
                    </a:lnTo>
                    <a:lnTo>
                      <a:pt x="6356" y="2754"/>
                    </a:lnTo>
                    <a:lnTo>
                      <a:pt x="6440" y="2631"/>
                    </a:lnTo>
                    <a:lnTo>
                      <a:pt x="6520" y="2503"/>
                    </a:lnTo>
                    <a:lnTo>
                      <a:pt x="6594" y="2372"/>
                    </a:lnTo>
                    <a:lnTo>
                      <a:pt x="6663" y="2240"/>
                    </a:lnTo>
                    <a:lnTo>
                      <a:pt x="6726" y="2103"/>
                    </a:lnTo>
                    <a:lnTo>
                      <a:pt x="6785" y="1963"/>
                    </a:lnTo>
                    <a:lnTo>
                      <a:pt x="6838" y="1820"/>
                    </a:lnTo>
                    <a:lnTo>
                      <a:pt x="6886" y="1676"/>
                    </a:lnTo>
                    <a:lnTo>
                      <a:pt x="6926" y="1527"/>
                    </a:lnTo>
                    <a:lnTo>
                      <a:pt x="6962" y="1378"/>
                    </a:lnTo>
                    <a:lnTo>
                      <a:pt x="6991" y="1225"/>
                    </a:lnTo>
                    <a:lnTo>
                      <a:pt x="7014" y="1071"/>
                    </a:lnTo>
                    <a:lnTo>
                      <a:pt x="7031" y="915"/>
                    </a:lnTo>
                    <a:lnTo>
                      <a:pt x="7040" y="757"/>
                    </a:lnTo>
                    <a:lnTo>
                      <a:pt x="7044" y="597"/>
                    </a:lnTo>
                    <a:close/>
                    <a:moveTo>
                      <a:pt x="0" y="2302"/>
                    </a:moveTo>
                    <a:lnTo>
                      <a:pt x="31" y="2362"/>
                    </a:lnTo>
                    <a:lnTo>
                      <a:pt x="63" y="2421"/>
                    </a:lnTo>
                    <a:lnTo>
                      <a:pt x="97" y="2478"/>
                    </a:lnTo>
                    <a:lnTo>
                      <a:pt x="130" y="2536"/>
                    </a:lnTo>
                    <a:lnTo>
                      <a:pt x="166" y="2593"/>
                    </a:lnTo>
                    <a:lnTo>
                      <a:pt x="202" y="2649"/>
                    </a:lnTo>
                    <a:lnTo>
                      <a:pt x="240" y="2704"/>
                    </a:lnTo>
                    <a:lnTo>
                      <a:pt x="278" y="2759"/>
                    </a:lnTo>
                    <a:lnTo>
                      <a:pt x="317" y="2813"/>
                    </a:lnTo>
                    <a:lnTo>
                      <a:pt x="357" y="2866"/>
                    </a:lnTo>
                    <a:lnTo>
                      <a:pt x="398" y="2918"/>
                    </a:lnTo>
                    <a:lnTo>
                      <a:pt x="440" y="2969"/>
                    </a:lnTo>
                    <a:lnTo>
                      <a:pt x="483" y="3020"/>
                    </a:lnTo>
                    <a:lnTo>
                      <a:pt x="527" y="3071"/>
                    </a:lnTo>
                    <a:lnTo>
                      <a:pt x="571" y="3119"/>
                    </a:lnTo>
                    <a:lnTo>
                      <a:pt x="617" y="3168"/>
                    </a:lnTo>
                    <a:lnTo>
                      <a:pt x="638" y="3156"/>
                    </a:lnTo>
                    <a:lnTo>
                      <a:pt x="705" y="3125"/>
                    </a:lnTo>
                    <a:lnTo>
                      <a:pt x="660" y="3078"/>
                    </a:lnTo>
                    <a:lnTo>
                      <a:pt x="616" y="3029"/>
                    </a:lnTo>
                    <a:lnTo>
                      <a:pt x="572" y="2981"/>
                    </a:lnTo>
                    <a:lnTo>
                      <a:pt x="529" y="2931"/>
                    </a:lnTo>
                    <a:lnTo>
                      <a:pt x="488" y="2881"/>
                    </a:lnTo>
                    <a:lnTo>
                      <a:pt x="447" y="2830"/>
                    </a:lnTo>
                    <a:lnTo>
                      <a:pt x="408" y="2778"/>
                    </a:lnTo>
                    <a:lnTo>
                      <a:pt x="369" y="2725"/>
                    </a:lnTo>
                    <a:lnTo>
                      <a:pt x="331" y="2672"/>
                    </a:lnTo>
                    <a:lnTo>
                      <a:pt x="294" y="2618"/>
                    </a:lnTo>
                    <a:lnTo>
                      <a:pt x="258" y="2564"/>
                    </a:lnTo>
                    <a:lnTo>
                      <a:pt x="224" y="2508"/>
                    </a:lnTo>
                    <a:lnTo>
                      <a:pt x="189" y="2452"/>
                    </a:lnTo>
                    <a:lnTo>
                      <a:pt x="157" y="2395"/>
                    </a:lnTo>
                    <a:lnTo>
                      <a:pt x="124" y="2339"/>
                    </a:lnTo>
                    <a:lnTo>
                      <a:pt x="93" y="2280"/>
                    </a:lnTo>
                    <a:lnTo>
                      <a:pt x="0" y="230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78040" y="4121280"/>
                <a:ext cx="1839960" cy="1101600"/>
              </a:xfrm>
              <a:custGeom>
                <a:avLst/>
                <a:gdLst/>
                <a:ahLst/>
                <a:rect l="l" t="t" r="r" b="b"/>
                <a:pathLst>
                  <a:path w="6952" h="4167">
                    <a:moveTo>
                      <a:pt x="6952" y="574"/>
                    </a:moveTo>
                    <a:lnTo>
                      <a:pt x="6950" y="500"/>
                    </a:lnTo>
                    <a:lnTo>
                      <a:pt x="6948" y="428"/>
                    </a:lnTo>
                    <a:lnTo>
                      <a:pt x="6945" y="356"/>
                    </a:lnTo>
                    <a:lnTo>
                      <a:pt x="6940" y="284"/>
                    </a:lnTo>
                    <a:lnTo>
                      <a:pt x="6934" y="212"/>
                    </a:lnTo>
                    <a:lnTo>
                      <a:pt x="6926" y="141"/>
                    </a:lnTo>
                    <a:lnTo>
                      <a:pt x="6917" y="70"/>
                    </a:lnTo>
                    <a:lnTo>
                      <a:pt x="6907" y="0"/>
                    </a:lnTo>
                    <a:lnTo>
                      <a:pt x="6835" y="33"/>
                    </a:lnTo>
                    <a:lnTo>
                      <a:pt x="6818" y="33"/>
                    </a:lnTo>
                    <a:lnTo>
                      <a:pt x="6827" y="100"/>
                    </a:lnTo>
                    <a:lnTo>
                      <a:pt x="6835" y="166"/>
                    </a:lnTo>
                    <a:lnTo>
                      <a:pt x="6842" y="234"/>
                    </a:lnTo>
                    <a:lnTo>
                      <a:pt x="6848" y="301"/>
                    </a:lnTo>
                    <a:lnTo>
                      <a:pt x="6852" y="369"/>
                    </a:lnTo>
                    <a:lnTo>
                      <a:pt x="6856" y="437"/>
                    </a:lnTo>
                    <a:lnTo>
                      <a:pt x="6858" y="505"/>
                    </a:lnTo>
                    <a:lnTo>
                      <a:pt x="6858" y="574"/>
                    </a:lnTo>
                    <a:lnTo>
                      <a:pt x="6853" y="759"/>
                    </a:lnTo>
                    <a:lnTo>
                      <a:pt x="6840" y="941"/>
                    </a:lnTo>
                    <a:lnTo>
                      <a:pt x="6817" y="1121"/>
                    </a:lnTo>
                    <a:lnTo>
                      <a:pt x="6785" y="1297"/>
                    </a:lnTo>
                    <a:lnTo>
                      <a:pt x="6745" y="1470"/>
                    </a:lnTo>
                    <a:lnTo>
                      <a:pt x="6697" y="1640"/>
                    </a:lnTo>
                    <a:lnTo>
                      <a:pt x="6640" y="1808"/>
                    </a:lnTo>
                    <a:lnTo>
                      <a:pt x="6577" y="1970"/>
                    </a:lnTo>
                    <a:lnTo>
                      <a:pt x="6504" y="2129"/>
                    </a:lnTo>
                    <a:lnTo>
                      <a:pt x="6424" y="2284"/>
                    </a:lnTo>
                    <a:lnTo>
                      <a:pt x="6338" y="2434"/>
                    </a:lnTo>
                    <a:lnTo>
                      <a:pt x="6246" y="2579"/>
                    </a:lnTo>
                    <a:lnTo>
                      <a:pt x="6145" y="2719"/>
                    </a:lnTo>
                    <a:lnTo>
                      <a:pt x="6038" y="2855"/>
                    </a:lnTo>
                    <a:lnTo>
                      <a:pt x="5926" y="2986"/>
                    </a:lnTo>
                    <a:lnTo>
                      <a:pt x="5807" y="3110"/>
                    </a:lnTo>
                    <a:lnTo>
                      <a:pt x="5682" y="3229"/>
                    </a:lnTo>
                    <a:lnTo>
                      <a:pt x="5552" y="3342"/>
                    </a:lnTo>
                    <a:lnTo>
                      <a:pt x="5416" y="3448"/>
                    </a:lnTo>
                    <a:lnTo>
                      <a:pt x="5276" y="3548"/>
                    </a:lnTo>
                    <a:lnTo>
                      <a:pt x="5130" y="3642"/>
                    </a:lnTo>
                    <a:lnTo>
                      <a:pt x="4979" y="3728"/>
                    </a:lnTo>
                    <a:lnTo>
                      <a:pt x="4825" y="3808"/>
                    </a:lnTo>
                    <a:lnTo>
                      <a:pt x="4665" y="3879"/>
                    </a:lnTo>
                    <a:lnTo>
                      <a:pt x="4503" y="3944"/>
                    </a:lnTo>
                    <a:lnTo>
                      <a:pt x="4337" y="4000"/>
                    </a:lnTo>
                    <a:lnTo>
                      <a:pt x="4166" y="4047"/>
                    </a:lnTo>
                    <a:lnTo>
                      <a:pt x="3992" y="4088"/>
                    </a:lnTo>
                    <a:lnTo>
                      <a:pt x="3815" y="4120"/>
                    </a:lnTo>
                    <a:lnTo>
                      <a:pt x="3637" y="4142"/>
                    </a:lnTo>
                    <a:lnTo>
                      <a:pt x="3453" y="4156"/>
                    </a:lnTo>
                    <a:lnTo>
                      <a:pt x="3269" y="4160"/>
                    </a:lnTo>
                    <a:lnTo>
                      <a:pt x="3266" y="4160"/>
                    </a:lnTo>
                    <a:lnTo>
                      <a:pt x="3264" y="4160"/>
                    </a:lnTo>
                    <a:lnTo>
                      <a:pt x="3261" y="4160"/>
                    </a:lnTo>
                    <a:lnTo>
                      <a:pt x="3258" y="4160"/>
                    </a:lnTo>
                    <a:lnTo>
                      <a:pt x="3255" y="4160"/>
                    </a:lnTo>
                    <a:lnTo>
                      <a:pt x="3253" y="4160"/>
                    </a:lnTo>
                    <a:lnTo>
                      <a:pt x="3249" y="4160"/>
                    </a:lnTo>
                    <a:lnTo>
                      <a:pt x="3247" y="4160"/>
                    </a:lnTo>
                    <a:lnTo>
                      <a:pt x="3274" y="4167"/>
                    </a:lnTo>
                    <a:lnTo>
                      <a:pt x="3428" y="4167"/>
                    </a:lnTo>
                    <a:lnTo>
                      <a:pt x="3579" y="4167"/>
                    </a:lnTo>
                    <a:lnTo>
                      <a:pt x="3770" y="4167"/>
                    </a:lnTo>
                    <a:lnTo>
                      <a:pt x="3925" y="4167"/>
                    </a:lnTo>
                    <a:lnTo>
                      <a:pt x="4068" y="4167"/>
                    </a:lnTo>
                    <a:lnTo>
                      <a:pt x="4221" y="4129"/>
                    </a:lnTo>
                    <a:lnTo>
                      <a:pt x="4371" y="4085"/>
                    </a:lnTo>
                    <a:lnTo>
                      <a:pt x="4520" y="4036"/>
                    </a:lnTo>
                    <a:lnTo>
                      <a:pt x="4665" y="3980"/>
                    </a:lnTo>
                    <a:lnTo>
                      <a:pt x="4807" y="3918"/>
                    </a:lnTo>
                    <a:lnTo>
                      <a:pt x="4946" y="3850"/>
                    </a:lnTo>
                    <a:lnTo>
                      <a:pt x="5082" y="3778"/>
                    </a:lnTo>
                    <a:lnTo>
                      <a:pt x="5215" y="3699"/>
                    </a:lnTo>
                    <a:lnTo>
                      <a:pt x="5343" y="3615"/>
                    </a:lnTo>
                    <a:lnTo>
                      <a:pt x="5467" y="3526"/>
                    </a:lnTo>
                    <a:lnTo>
                      <a:pt x="5588" y="3432"/>
                    </a:lnTo>
                    <a:lnTo>
                      <a:pt x="5705" y="3334"/>
                    </a:lnTo>
                    <a:lnTo>
                      <a:pt x="5818" y="3230"/>
                    </a:lnTo>
                    <a:lnTo>
                      <a:pt x="5925" y="3122"/>
                    </a:lnTo>
                    <a:lnTo>
                      <a:pt x="6029" y="3010"/>
                    </a:lnTo>
                    <a:lnTo>
                      <a:pt x="6128" y="2893"/>
                    </a:lnTo>
                    <a:lnTo>
                      <a:pt x="6223" y="2772"/>
                    </a:lnTo>
                    <a:lnTo>
                      <a:pt x="6311" y="2648"/>
                    </a:lnTo>
                    <a:lnTo>
                      <a:pt x="6396" y="2520"/>
                    </a:lnTo>
                    <a:lnTo>
                      <a:pt x="6474" y="2387"/>
                    </a:lnTo>
                    <a:lnTo>
                      <a:pt x="6547" y="2251"/>
                    </a:lnTo>
                    <a:lnTo>
                      <a:pt x="6615" y="2113"/>
                    </a:lnTo>
                    <a:lnTo>
                      <a:pt x="6677" y="1971"/>
                    </a:lnTo>
                    <a:lnTo>
                      <a:pt x="6732" y="1826"/>
                    </a:lnTo>
                    <a:lnTo>
                      <a:pt x="6783" y="1678"/>
                    </a:lnTo>
                    <a:lnTo>
                      <a:pt x="6827" y="1527"/>
                    </a:lnTo>
                    <a:lnTo>
                      <a:pt x="6864" y="1374"/>
                    </a:lnTo>
                    <a:lnTo>
                      <a:pt x="6895" y="1219"/>
                    </a:lnTo>
                    <a:lnTo>
                      <a:pt x="6919" y="1061"/>
                    </a:lnTo>
                    <a:lnTo>
                      <a:pt x="6937" y="900"/>
                    </a:lnTo>
                    <a:lnTo>
                      <a:pt x="6948" y="738"/>
                    </a:lnTo>
                    <a:lnTo>
                      <a:pt x="6952" y="574"/>
                    </a:lnTo>
                    <a:close/>
                    <a:moveTo>
                      <a:pt x="0" y="2269"/>
                    </a:moveTo>
                    <a:lnTo>
                      <a:pt x="31" y="2327"/>
                    </a:lnTo>
                    <a:lnTo>
                      <a:pt x="63" y="2385"/>
                    </a:lnTo>
                    <a:lnTo>
                      <a:pt x="97" y="2443"/>
                    </a:lnTo>
                    <a:lnTo>
                      <a:pt x="131" y="2499"/>
                    </a:lnTo>
                    <a:lnTo>
                      <a:pt x="166" y="2555"/>
                    </a:lnTo>
                    <a:lnTo>
                      <a:pt x="202" y="2610"/>
                    </a:lnTo>
                    <a:lnTo>
                      <a:pt x="239" y="2665"/>
                    </a:lnTo>
                    <a:lnTo>
                      <a:pt x="277" y="2718"/>
                    </a:lnTo>
                    <a:lnTo>
                      <a:pt x="316" y="2772"/>
                    </a:lnTo>
                    <a:lnTo>
                      <a:pt x="356" y="2824"/>
                    </a:lnTo>
                    <a:lnTo>
                      <a:pt x="397" y="2876"/>
                    </a:lnTo>
                    <a:lnTo>
                      <a:pt x="438" y="2927"/>
                    </a:lnTo>
                    <a:lnTo>
                      <a:pt x="481" y="2978"/>
                    </a:lnTo>
                    <a:lnTo>
                      <a:pt x="525" y="3026"/>
                    </a:lnTo>
                    <a:lnTo>
                      <a:pt x="569" y="3076"/>
                    </a:lnTo>
                    <a:lnTo>
                      <a:pt x="614" y="3123"/>
                    </a:lnTo>
                    <a:lnTo>
                      <a:pt x="669" y="3096"/>
                    </a:lnTo>
                    <a:lnTo>
                      <a:pt x="709" y="3096"/>
                    </a:lnTo>
                    <a:lnTo>
                      <a:pt x="715" y="3094"/>
                    </a:lnTo>
                    <a:lnTo>
                      <a:pt x="670" y="3047"/>
                    </a:lnTo>
                    <a:lnTo>
                      <a:pt x="625" y="3000"/>
                    </a:lnTo>
                    <a:lnTo>
                      <a:pt x="581" y="2951"/>
                    </a:lnTo>
                    <a:lnTo>
                      <a:pt x="539" y="2902"/>
                    </a:lnTo>
                    <a:lnTo>
                      <a:pt x="497" y="2852"/>
                    </a:lnTo>
                    <a:lnTo>
                      <a:pt x="457" y="2801"/>
                    </a:lnTo>
                    <a:lnTo>
                      <a:pt x="416" y="2749"/>
                    </a:lnTo>
                    <a:lnTo>
                      <a:pt x="377" y="2697"/>
                    </a:lnTo>
                    <a:lnTo>
                      <a:pt x="339" y="2644"/>
                    </a:lnTo>
                    <a:lnTo>
                      <a:pt x="301" y="2591"/>
                    </a:lnTo>
                    <a:lnTo>
                      <a:pt x="265" y="2536"/>
                    </a:lnTo>
                    <a:lnTo>
                      <a:pt x="229" y="2482"/>
                    </a:lnTo>
                    <a:lnTo>
                      <a:pt x="195" y="2425"/>
                    </a:lnTo>
                    <a:lnTo>
                      <a:pt x="163" y="2369"/>
                    </a:lnTo>
                    <a:lnTo>
                      <a:pt x="129" y="2312"/>
                    </a:lnTo>
                    <a:lnTo>
                      <a:pt x="98" y="2255"/>
                    </a:lnTo>
                    <a:lnTo>
                      <a:pt x="58" y="2255"/>
                    </a:lnTo>
                    <a:lnTo>
                      <a:pt x="0" y="226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90640" y="4125960"/>
                <a:ext cx="1814760" cy="1096920"/>
              </a:xfrm>
              <a:custGeom>
                <a:avLst/>
                <a:gdLst/>
                <a:ahLst/>
                <a:rect l="l" t="t" r="r" b="b"/>
                <a:pathLst>
                  <a:path w="6857" h="4146">
                    <a:moveTo>
                      <a:pt x="6857" y="553"/>
                    </a:moveTo>
                    <a:lnTo>
                      <a:pt x="6857" y="483"/>
                    </a:lnTo>
                    <a:lnTo>
                      <a:pt x="6855" y="412"/>
                    </a:lnTo>
                    <a:lnTo>
                      <a:pt x="6851" y="343"/>
                    </a:lnTo>
                    <a:lnTo>
                      <a:pt x="6847" y="273"/>
                    </a:lnTo>
                    <a:lnTo>
                      <a:pt x="6841" y="205"/>
                    </a:lnTo>
                    <a:lnTo>
                      <a:pt x="6834" y="136"/>
                    </a:lnTo>
                    <a:lnTo>
                      <a:pt x="6826" y="68"/>
                    </a:lnTo>
                    <a:lnTo>
                      <a:pt x="6816" y="0"/>
                    </a:lnTo>
                    <a:lnTo>
                      <a:pt x="6788" y="12"/>
                    </a:lnTo>
                    <a:lnTo>
                      <a:pt x="6723" y="12"/>
                    </a:lnTo>
                    <a:lnTo>
                      <a:pt x="6733" y="79"/>
                    </a:lnTo>
                    <a:lnTo>
                      <a:pt x="6742" y="145"/>
                    </a:lnTo>
                    <a:lnTo>
                      <a:pt x="6749" y="213"/>
                    </a:lnTo>
                    <a:lnTo>
                      <a:pt x="6755" y="280"/>
                    </a:lnTo>
                    <a:lnTo>
                      <a:pt x="6759" y="348"/>
                    </a:lnTo>
                    <a:lnTo>
                      <a:pt x="6762" y="416"/>
                    </a:lnTo>
                    <a:lnTo>
                      <a:pt x="6764" y="484"/>
                    </a:lnTo>
                    <a:lnTo>
                      <a:pt x="6765" y="553"/>
                    </a:lnTo>
                    <a:lnTo>
                      <a:pt x="6760" y="735"/>
                    </a:lnTo>
                    <a:lnTo>
                      <a:pt x="6747" y="915"/>
                    </a:lnTo>
                    <a:lnTo>
                      <a:pt x="6723" y="1093"/>
                    </a:lnTo>
                    <a:lnTo>
                      <a:pt x="6692" y="1267"/>
                    </a:lnTo>
                    <a:lnTo>
                      <a:pt x="6653" y="1437"/>
                    </a:lnTo>
                    <a:lnTo>
                      <a:pt x="6605" y="1606"/>
                    </a:lnTo>
                    <a:lnTo>
                      <a:pt x="6549" y="1770"/>
                    </a:lnTo>
                    <a:lnTo>
                      <a:pt x="6486" y="1931"/>
                    </a:lnTo>
                    <a:lnTo>
                      <a:pt x="6415" y="2087"/>
                    </a:lnTo>
                    <a:lnTo>
                      <a:pt x="6337" y="2241"/>
                    </a:lnTo>
                    <a:lnTo>
                      <a:pt x="6252" y="2388"/>
                    </a:lnTo>
                    <a:lnTo>
                      <a:pt x="6159" y="2532"/>
                    </a:lnTo>
                    <a:lnTo>
                      <a:pt x="6060" y="2671"/>
                    </a:lnTo>
                    <a:lnTo>
                      <a:pt x="5955" y="2804"/>
                    </a:lnTo>
                    <a:lnTo>
                      <a:pt x="5845" y="2934"/>
                    </a:lnTo>
                    <a:lnTo>
                      <a:pt x="5727" y="3056"/>
                    </a:lnTo>
                    <a:lnTo>
                      <a:pt x="5603" y="3173"/>
                    </a:lnTo>
                    <a:lnTo>
                      <a:pt x="5475" y="3285"/>
                    </a:lnTo>
                    <a:lnTo>
                      <a:pt x="5342" y="3390"/>
                    </a:lnTo>
                    <a:lnTo>
                      <a:pt x="5202" y="3488"/>
                    </a:lnTo>
                    <a:lnTo>
                      <a:pt x="5059" y="3580"/>
                    </a:lnTo>
                    <a:lnTo>
                      <a:pt x="4910" y="3666"/>
                    </a:lnTo>
                    <a:lnTo>
                      <a:pt x="4758" y="3744"/>
                    </a:lnTo>
                    <a:lnTo>
                      <a:pt x="4601" y="3815"/>
                    </a:lnTo>
                    <a:lnTo>
                      <a:pt x="4440" y="3879"/>
                    </a:lnTo>
                    <a:lnTo>
                      <a:pt x="4276" y="3934"/>
                    </a:lnTo>
                    <a:lnTo>
                      <a:pt x="4108" y="3981"/>
                    </a:lnTo>
                    <a:lnTo>
                      <a:pt x="3936" y="4022"/>
                    </a:lnTo>
                    <a:lnTo>
                      <a:pt x="3761" y="4053"/>
                    </a:lnTo>
                    <a:lnTo>
                      <a:pt x="3584" y="4075"/>
                    </a:lnTo>
                    <a:lnTo>
                      <a:pt x="3404" y="4089"/>
                    </a:lnTo>
                    <a:lnTo>
                      <a:pt x="3222" y="4093"/>
                    </a:lnTo>
                    <a:lnTo>
                      <a:pt x="3169" y="4093"/>
                    </a:lnTo>
                    <a:lnTo>
                      <a:pt x="3116" y="4092"/>
                    </a:lnTo>
                    <a:lnTo>
                      <a:pt x="3063" y="4090"/>
                    </a:lnTo>
                    <a:lnTo>
                      <a:pt x="3011" y="4086"/>
                    </a:lnTo>
                    <a:lnTo>
                      <a:pt x="2958" y="4083"/>
                    </a:lnTo>
                    <a:lnTo>
                      <a:pt x="2906" y="4079"/>
                    </a:lnTo>
                    <a:lnTo>
                      <a:pt x="2854" y="4074"/>
                    </a:lnTo>
                    <a:lnTo>
                      <a:pt x="2802" y="4068"/>
                    </a:lnTo>
                    <a:lnTo>
                      <a:pt x="2804" y="4069"/>
                    </a:lnTo>
                    <a:lnTo>
                      <a:pt x="2922" y="4109"/>
                    </a:lnTo>
                    <a:lnTo>
                      <a:pt x="3073" y="4109"/>
                    </a:lnTo>
                    <a:lnTo>
                      <a:pt x="3227" y="4146"/>
                    </a:lnTo>
                    <a:lnTo>
                      <a:pt x="3381" y="4146"/>
                    </a:lnTo>
                    <a:lnTo>
                      <a:pt x="3532" y="4146"/>
                    </a:lnTo>
                    <a:lnTo>
                      <a:pt x="3723" y="4146"/>
                    </a:lnTo>
                    <a:lnTo>
                      <a:pt x="3766" y="4146"/>
                    </a:lnTo>
                    <a:lnTo>
                      <a:pt x="3929" y="4117"/>
                    </a:lnTo>
                    <a:lnTo>
                      <a:pt x="4089" y="4083"/>
                    </a:lnTo>
                    <a:lnTo>
                      <a:pt x="4247" y="4040"/>
                    </a:lnTo>
                    <a:lnTo>
                      <a:pt x="4402" y="3991"/>
                    </a:lnTo>
                    <a:lnTo>
                      <a:pt x="4553" y="3935"/>
                    </a:lnTo>
                    <a:lnTo>
                      <a:pt x="4702" y="3873"/>
                    </a:lnTo>
                    <a:lnTo>
                      <a:pt x="4846" y="3805"/>
                    </a:lnTo>
                    <a:lnTo>
                      <a:pt x="4988" y="3730"/>
                    </a:lnTo>
                    <a:lnTo>
                      <a:pt x="5125" y="3649"/>
                    </a:lnTo>
                    <a:lnTo>
                      <a:pt x="5259" y="3563"/>
                    </a:lnTo>
                    <a:lnTo>
                      <a:pt x="5388" y="3472"/>
                    </a:lnTo>
                    <a:lnTo>
                      <a:pt x="5514" y="3374"/>
                    </a:lnTo>
                    <a:lnTo>
                      <a:pt x="5633" y="3271"/>
                    </a:lnTo>
                    <a:lnTo>
                      <a:pt x="5750" y="3164"/>
                    </a:lnTo>
                    <a:lnTo>
                      <a:pt x="5862" y="3051"/>
                    </a:lnTo>
                    <a:lnTo>
                      <a:pt x="5968" y="2935"/>
                    </a:lnTo>
                    <a:lnTo>
                      <a:pt x="6069" y="2813"/>
                    </a:lnTo>
                    <a:lnTo>
                      <a:pt x="6165" y="2686"/>
                    </a:lnTo>
                    <a:lnTo>
                      <a:pt x="6256" y="2555"/>
                    </a:lnTo>
                    <a:lnTo>
                      <a:pt x="6341" y="2422"/>
                    </a:lnTo>
                    <a:lnTo>
                      <a:pt x="6420" y="2283"/>
                    </a:lnTo>
                    <a:lnTo>
                      <a:pt x="6493" y="2140"/>
                    </a:lnTo>
                    <a:lnTo>
                      <a:pt x="6560" y="1995"/>
                    </a:lnTo>
                    <a:lnTo>
                      <a:pt x="6621" y="1847"/>
                    </a:lnTo>
                    <a:lnTo>
                      <a:pt x="6675" y="1694"/>
                    </a:lnTo>
                    <a:lnTo>
                      <a:pt x="6722" y="1539"/>
                    </a:lnTo>
                    <a:lnTo>
                      <a:pt x="6763" y="1381"/>
                    </a:lnTo>
                    <a:lnTo>
                      <a:pt x="6796" y="1219"/>
                    </a:lnTo>
                    <a:lnTo>
                      <a:pt x="6823" y="1057"/>
                    </a:lnTo>
                    <a:lnTo>
                      <a:pt x="6842" y="891"/>
                    </a:lnTo>
                    <a:lnTo>
                      <a:pt x="6854" y="723"/>
                    </a:lnTo>
                    <a:lnTo>
                      <a:pt x="6857" y="553"/>
                    </a:lnTo>
                    <a:close/>
                    <a:moveTo>
                      <a:pt x="0" y="2236"/>
                    </a:moveTo>
                    <a:lnTo>
                      <a:pt x="31" y="2295"/>
                    </a:lnTo>
                    <a:lnTo>
                      <a:pt x="64" y="2351"/>
                    </a:lnTo>
                    <a:lnTo>
                      <a:pt x="96" y="2408"/>
                    </a:lnTo>
                    <a:lnTo>
                      <a:pt x="131" y="2464"/>
                    </a:lnTo>
                    <a:lnTo>
                      <a:pt x="165" y="2520"/>
                    </a:lnTo>
                    <a:lnTo>
                      <a:pt x="201" y="2574"/>
                    </a:lnTo>
                    <a:lnTo>
                      <a:pt x="238" y="2628"/>
                    </a:lnTo>
                    <a:lnTo>
                      <a:pt x="276" y="2681"/>
                    </a:lnTo>
                    <a:lnTo>
                      <a:pt x="315" y="2734"/>
                    </a:lnTo>
                    <a:lnTo>
                      <a:pt x="354" y="2786"/>
                    </a:lnTo>
                    <a:lnTo>
                      <a:pt x="395" y="2837"/>
                    </a:lnTo>
                    <a:lnTo>
                      <a:pt x="436" y="2887"/>
                    </a:lnTo>
                    <a:lnTo>
                      <a:pt x="479" y="2937"/>
                    </a:lnTo>
                    <a:lnTo>
                      <a:pt x="523" y="2985"/>
                    </a:lnTo>
                    <a:lnTo>
                      <a:pt x="567" y="3034"/>
                    </a:lnTo>
                    <a:lnTo>
                      <a:pt x="612" y="3081"/>
                    </a:lnTo>
                    <a:lnTo>
                      <a:pt x="622" y="3075"/>
                    </a:lnTo>
                    <a:lnTo>
                      <a:pt x="662" y="3075"/>
                    </a:lnTo>
                    <a:lnTo>
                      <a:pt x="711" y="3049"/>
                    </a:lnTo>
                    <a:lnTo>
                      <a:pt x="666" y="3004"/>
                    </a:lnTo>
                    <a:lnTo>
                      <a:pt x="623" y="2958"/>
                    </a:lnTo>
                    <a:lnTo>
                      <a:pt x="579" y="2910"/>
                    </a:lnTo>
                    <a:lnTo>
                      <a:pt x="538" y="2863"/>
                    </a:lnTo>
                    <a:lnTo>
                      <a:pt x="496" y="2814"/>
                    </a:lnTo>
                    <a:lnTo>
                      <a:pt x="457" y="2765"/>
                    </a:lnTo>
                    <a:lnTo>
                      <a:pt x="417" y="2715"/>
                    </a:lnTo>
                    <a:lnTo>
                      <a:pt x="379" y="2664"/>
                    </a:lnTo>
                    <a:lnTo>
                      <a:pt x="340" y="2613"/>
                    </a:lnTo>
                    <a:lnTo>
                      <a:pt x="305" y="2560"/>
                    </a:lnTo>
                    <a:lnTo>
                      <a:pt x="269" y="2508"/>
                    </a:lnTo>
                    <a:lnTo>
                      <a:pt x="234" y="2454"/>
                    </a:lnTo>
                    <a:lnTo>
                      <a:pt x="200" y="2400"/>
                    </a:lnTo>
                    <a:lnTo>
                      <a:pt x="167" y="2346"/>
                    </a:lnTo>
                    <a:lnTo>
                      <a:pt x="135" y="2290"/>
                    </a:lnTo>
                    <a:lnTo>
                      <a:pt x="104" y="2234"/>
                    </a:lnTo>
                    <a:lnTo>
                      <a:pt x="11" y="2234"/>
                    </a:lnTo>
                    <a:lnTo>
                      <a:pt x="0" y="2236"/>
                    </a:lnTo>
                    <a:close/>
                    <a:moveTo>
                      <a:pt x="2516" y="4023"/>
                    </a:moveTo>
                    <a:lnTo>
                      <a:pt x="2539" y="4032"/>
                    </a:lnTo>
                    <a:lnTo>
                      <a:pt x="2564" y="4032"/>
                    </a:lnTo>
                    <a:lnTo>
                      <a:pt x="2557" y="4031"/>
                    </a:lnTo>
                    <a:lnTo>
                      <a:pt x="2552" y="4030"/>
                    </a:lnTo>
                    <a:lnTo>
                      <a:pt x="2546" y="4029"/>
                    </a:lnTo>
                    <a:lnTo>
                      <a:pt x="2540" y="4028"/>
                    </a:lnTo>
                    <a:lnTo>
                      <a:pt x="2534" y="4026"/>
                    </a:lnTo>
                    <a:lnTo>
                      <a:pt x="2528" y="4025"/>
                    </a:lnTo>
                    <a:lnTo>
                      <a:pt x="2522" y="4024"/>
                    </a:lnTo>
                    <a:lnTo>
                      <a:pt x="2516" y="402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03600" y="4129200"/>
                <a:ext cx="1789200" cy="1092240"/>
              </a:xfrm>
              <a:custGeom>
                <a:avLst/>
                <a:gdLst/>
                <a:ahLst/>
                <a:rect l="l" t="t" r="r" b="b"/>
                <a:pathLst>
                  <a:path w="6760" h="4127">
                    <a:moveTo>
                      <a:pt x="6760" y="541"/>
                    </a:moveTo>
                    <a:lnTo>
                      <a:pt x="6759" y="472"/>
                    </a:lnTo>
                    <a:lnTo>
                      <a:pt x="6758" y="404"/>
                    </a:lnTo>
                    <a:lnTo>
                      <a:pt x="6754" y="336"/>
                    </a:lnTo>
                    <a:lnTo>
                      <a:pt x="6750" y="268"/>
                    </a:lnTo>
                    <a:lnTo>
                      <a:pt x="6744" y="201"/>
                    </a:lnTo>
                    <a:lnTo>
                      <a:pt x="6737" y="133"/>
                    </a:lnTo>
                    <a:lnTo>
                      <a:pt x="6729" y="67"/>
                    </a:lnTo>
                    <a:lnTo>
                      <a:pt x="6720" y="0"/>
                    </a:lnTo>
                    <a:lnTo>
                      <a:pt x="6625" y="0"/>
                    </a:lnTo>
                    <a:lnTo>
                      <a:pt x="6634" y="67"/>
                    </a:lnTo>
                    <a:lnTo>
                      <a:pt x="6644" y="133"/>
                    </a:lnTo>
                    <a:lnTo>
                      <a:pt x="6651" y="201"/>
                    </a:lnTo>
                    <a:lnTo>
                      <a:pt x="6656" y="268"/>
                    </a:lnTo>
                    <a:lnTo>
                      <a:pt x="6661" y="336"/>
                    </a:lnTo>
                    <a:lnTo>
                      <a:pt x="6664" y="404"/>
                    </a:lnTo>
                    <a:lnTo>
                      <a:pt x="6667" y="472"/>
                    </a:lnTo>
                    <a:lnTo>
                      <a:pt x="6667" y="541"/>
                    </a:lnTo>
                    <a:lnTo>
                      <a:pt x="6662" y="721"/>
                    </a:lnTo>
                    <a:lnTo>
                      <a:pt x="6649" y="898"/>
                    </a:lnTo>
                    <a:lnTo>
                      <a:pt x="6626" y="1073"/>
                    </a:lnTo>
                    <a:lnTo>
                      <a:pt x="6596" y="1245"/>
                    </a:lnTo>
                    <a:lnTo>
                      <a:pt x="6557" y="1414"/>
                    </a:lnTo>
                    <a:lnTo>
                      <a:pt x="6510" y="1580"/>
                    </a:lnTo>
                    <a:lnTo>
                      <a:pt x="6454" y="1742"/>
                    </a:lnTo>
                    <a:lnTo>
                      <a:pt x="6392" y="1900"/>
                    </a:lnTo>
                    <a:lnTo>
                      <a:pt x="6322" y="2056"/>
                    </a:lnTo>
                    <a:lnTo>
                      <a:pt x="6245" y="2206"/>
                    </a:lnTo>
                    <a:lnTo>
                      <a:pt x="6160" y="2352"/>
                    </a:lnTo>
                    <a:lnTo>
                      <a:pt x="6070" y="2494"/>
                    </a:lnTo>
                    <a:lnTo>
                      <a:pt x="5972" y="2631"/>
                    </a:lnTo>
                    <a:lnTo>
                      <a:pt x="5869" y="2764"/>
                    </a:lnTo>
                    <a:lnTo>
                      <a:pt x="5759" y="2890"/>
                    </a:lnTo>
                    <a:lnTo>
                      <a:pt x="5642" y="3011"/>
                    </a:lnTo>
                    <a:lnTo>
                      <a:pt x="5521" y="3127"/>
                    </a:lnTo>
                    <a:lnTo>
                      <a:pt x="5394" y="3236"/>
                    </a:lnTo>
                    <a:lnTo>
                      <a:pt x="5263" y="3340"/>
                    </a:lnTo>
                    <a:lnTo>
                      <a:pt x="5126" y="3438"/>
                    </a:lnTo>
                    <a:lnTo>
                      <a:pt x="4984" y="3529"/>
                    </a:lnTo>
                    <a:lnTo>
                      <a:pt x="4837" y="3613"/>
                    </a:lnTo>
                    <a:lnTo>
                      <a:pt x="4686" y="3690"/>
                    </a:lnTo>
                    <a:lnTo>
                      <a:pt x="4532" y="3760"/>
                    </a:lnTo>
                    <a:lnTo>
                      <a:pt x="4373" y="3823"/>
                    </a:lnTo>
                    <a:lnTo>
                      <a:pt x="4211" y="3877"/>
                    </a:lnTo>
                    <a:lnTo>
                      <a:pt x="4045" y="3924"/>
                    </a:lnTo>
                    <a:lnTo>
                      <a:pt x="3875" y="3964"/>
                    </a:lnTo>
                    <a:lnTo>
                      <a:pt x="3704" y="3995"/>
                    </a:lnTo>
                    <a:lnTo>
                      <a:pt x="3528" y="4017"/>
                    </a:lnTo>
                    <a:lnTo>
                      <a:pt x="3351" y="4030"/>
                    </a:lnTo>
                    <a:lnTo>
                      <a:pt x="3171" y="4034"/>
                    </a:lnTo>
                    <a:lnTo>
                      <a:pt x="3093" y="4034"/>
                    </a:lnTo>
                    <a:lnTo>
                      <a:pt x="3016" y="4032"/>
                    </a:lnTo>
                    <a:lnTo>
                      <a:pt x="2940" y="4027"/>
                    </a:lnTo>
                    <a:lnTo>
                      <a:pt x="2863" y="4021"/>
                    </a:lnTo>
                    <a:lnTo>
                      <a:pt x="2788" y="4013"/>
                    </a:lnTo>
                    <a:lnTo>
                      <a:pt x="2712" y="4005"/>
                    </a:lnTo>
                    <a:lnTo>
                      <a:pt x="2637" y="3994"/>
                    </a:lnTo>
                    <a:lnTo>
                      <a:pt x="2563" y="3982"/>
                    </a:lnTo>
                    <a:lnTo>
                      <a:pt x="2489" y="3968"/>
                    </a:lnTo>
                    <a:lnTo>
                      <a:pt x="2415" y="3952"/>
                    </a:lnTo>
                    <a:lnTo>
                      <a:pt x="2343" y="3936"/>
                    </a:lnTo>
                    <a:lnTo>
                      <a:pt x="2271" y="3918"/>
                    </a:lnTo>
                    <a:lnTo>
                      <a:pt x="2198" y="3898"/>
                    </a:lnTo>
                    <a:lnTo>
                      <a:pt x="2128" y="3876"/>
                    </a:lnTo>
                    <a:lnTo>
                      <a:pt x="2058" y="3853"/>
                    </a:lnTo>
                    <a:lnTo>
                      <a:pt x="1988" y="3829"/>
                    </a:lnTo>
                    <a:lnTo>
                      <a:pt x="2105" y="3906"/>
                    </a:lnTo>
                    <a:lnTo>
                      <a:pt x="2296" y="3943"/>
                    </a:lnTo>
                    <a:lnTo>
                      <a:pt x="2488" y="4020"/>
                    </a:lnTo>
                    <a:lnTo>
                      <a:pt x="2602" y="4020"/>
                    </a:lnTo>
                    <a:lnTo>
                      <a:pt x="2753" y="4057"/>
                    </a:lnTo>
                    <a:lnTo>
                      <a:pt x="2871" y="4097"/>
                    </a:lnTo>
                    <a:lnTo>
                      <a:pt x="3022" y="4097"/>
                    </a:lnTo>
                    <a:lnTo>
                      <a:pt x="3149" y="4127"/>
                    </a:lnTo>
                    <a:lnTo>
                      <a:pt x="3151" y="4127"/>
                    </a:lnTo>
                    <a:lnTo>
                      <a:pt x="3155" y="4127"/>
                    </a:lnTo>
                    <a:lnTo>
                      <a:pt x="3157" y="4127"/>
                    </a:lnTo>
                    <a:lnTo>
                      <a:pt x="3160" y="4127"/>
                    </a:lnTo>
                    <a:lnTo>
                      <a:pt x="3163" y="4127"/>
                    </a:lnTo>
                    <a:lnTo>
                      <a:pt x="3166" y="4127"/>
                    </a:lnTo>
                    <a:lnTo>
                      <a:pt x="3168" y="4127"/>
                    </a:lnTo>
                    <a:lnTo>
                      <a:pt x="3171" y="4127"/>
                    </a:lnTo>
                    <a:lnTo>
                      <a:pt x="3355" y="4123"/>
                    </a:lnTo>
                    <a:lnTo>
                      <a:pt x="3539" y="4109"/>
                    </a:lnTo>
                    <a:lnTo>
                      <a:pt x="3717" y="4087"/>
                    </a:lnTo>
                    <a:lnTo>
                      <a:pt x="3894" y="4055"/>
                    </a:lnTo>
                    <a:lnTo>
                      <a:pt x="4068" y="4014"/>
                    </a:lnTo>
                    <a:lnTo>
                      <a:pt x="4239" y="3966"/>
                    </a:lnTo>
                    <a:lnTo>
                      <a:pt x="4405" y="3911"/>
                    </a:lnTo>
                    <a:lnTo>
                      <a:pt x="4567" y="3846"/>
                    </a:lnTo>
                    <a:lnTo>
                      <a:pt x="4727" y="3775"/>
                    </a:lnTo>
                    <a:lnTo>
                      <a:pt x="4881" y="3695"/>
                    </a:lnTo>
                    <a:lnTo>
                      <a:pt x="5032" y="3609"/>
                    </a:lnTo>
                    <a:lnTo>
                      <a:pt x="5178" y="3515"/>
                    </a:lnTo>
                    <a:lnTo>
                      <a:pt x="5318" y="3415"/>
                    </a:lnTo>
                    <a:lnTo>
                      <a:pt x="5454" y="3309"/>
                    </a:lnTo>
                    <a:lnTo>
                      <a:pt x="5584" y="3196"/>
                    </a:lnTo>
                    <a:lnTo>
                      <a:pt x="5709" y="3077"/>
                    </a:lnTo>
                    <a:lnTo>
                      <a:pt x="5828" y="2953"/>
                    </a:lnTo>
                    <a:lnTo>
                      <a:pt x="5940" y="2822"/>
                    </a:lnTo>
                    <a:lnTo>
                      <a:pt x="6047" y="2686"/>
                    </a:lnTo>
                    <a:lnTo>
                      <a:pt x="6148" y="2546"/>
                    </a:lnTo>
                    <a:lnTo>
                      <a:pt x="6240" y="2401"/>
                    </a:lnTo>
                    <a:lnTo>
                      <a:pt x="6326" y="2251"/>
                    </a:lnTo>
                    <a:lnTo>
                      <a:pt x="6406" y="2096"/>
                    </a:lnTo>
                    <a:lnTo>
                      <a:pt x="6478" y="1937"/>
                    </a:lnTo>
                    <a:lnTo>
                      <a:pt x="6542" y="1775"/>
                    </a:lnTo>
                    <a:lnTo>
                      <a:pt x="6599" y="1607"/>
                    </a:lnTo>
                    <a:lnTo>
                      <a:pt x="6647" y="1437"/>
                    </a:lnTo>
                    <a:lnTo>
                      <a:pt x="6687" y="1264"/>
                    </a:lnTo>
                    <a:lnTo>
                      <a:pt x="6719" y="1088"/>
                    </a:lnTo>
                    <a:lnTo>
                      <a:pt x="6742" y="908"/>
                    </a:lnTo>
                    <a:lnTo>
                      <a:pt x="6755" y="726"/>
                    </a:lnTo>
                    <a:lnTo>
                      <a:pt x="6760" y="541"/>
                    </a:lnTo>
                    <a:close/>
                    <a:moveTo>
                      <a:pt x="0" y="2222"/>
                    </a:moveTo>
                    <a:lnTo>
                      <a:pt x="32" y="2279"/>
                    </a:lnTo>
                    <a:lnTo>
                      <a:pt x="65" y="2336"/>
                    </a:lnTo>
                    <a:lnTo>
                      <a:pt x="97" y="2392"/>
                    </a:lnTo>
                    <a:lnTo>
                      <a:pt x="131" y="2449"/>
                    </a:lnTo>
                    <a:lnTo>
                      <a:pt x="167" y="2503"/>
                    </a:lnTo>
                    <a:lnTo>
                      <a:pt x="203" y="2558"/>
                    </a:lnTo>
                    <a:lnTo>
                      <a:pt x="241" y="2611"/>
                    </a:lnTo>
                    <a:lnTo>
                      <a:pt x="279" y="2664"/>
                    </a:lnTo>
                    <a:lnTo>
                      <a:pt x="318" y="2716"/>
                    </a:lnTo>
                    <a:lnTo>
                      <a:pt x="359" y="2768"/>
                    </a:lnTo>
                    <a:lnTo>
                      <a:pt x="399" y="2819"/>
                    </a:lnTo>
                    <a:lnTo>
                      <a:pt x="441" y="2869"/>
                    </a:lnTo>
                    <a:lnTo>
                      <a:pt x="483" y="2918"/>
                    </a:lnTo>
                    <a:lnTo>
                      <a:pt x="527" y="2967"/>
                    </a:lnTo>
                    <a:lnTo>
                      <a:pt x="572" y="3014"/>
                    </a:lnTo>
                    <a:lnTo>
                      <a:pt x="617" y="3061"/>
                    </a:lnTo>
                    <a:lnTo>
                      <a:pt x="685" y="3023"/>
                    </a:lnTo>
                    <a:lnTo>
                      <a:pt x="712" y="3023"/>
                    </a:lnTo>
                    <a:lnTo>
                      <a:pt x="668" y="2979"/>
                    </a:lnTo>
                    <a:lnTo>
                      <a:pt x="624" y="2933"/>
                    </a:lnTo>
                    <a:lnTo>
                      <a:pt x="581" y="2887"/>
                    </a:lnTo>
                    <a:lnTo>
                      <a:pt x="540" y="2841"/>
                    </a:lnTo>
                    <a:lnTo>
                      <a:pt x="498" y="2792"/>
                    </a:lnTo>
                    <a:lnTo>
                      <a:pt x="458" y="2744"/>
                    </a:lnTo>
                    <a:lnTo>
                      <a:pt x="419" y="2696"/>
                    </a:lnTo>
                    <a:lnTo>
                      <a:pt x="381" y="2645"/>
                    </a:lnTo>
                    <a:lnTo>
                      <a:pt x="344" y="2594"/>
                    </a:lnTo>
                    <a:lnTo>
                      <a:pt x="307" y="2543"/>
                    </a:lnTo>
                    <a:lnTo>
                      <a:pt x="271" y="2492"/>
                    </a:lnTo>
                    <a:lnTo>
                      <a:pt x="236" y="2439"/>
                    </a:lnTo>
                    <a:lnTo>
                      <a:pt x="202" y="2386"/>
                    </a:lnTo>
                    <a:lnTo>
                      <a:pt x="170" y="2331"/>
                    </a:lnTo>
                    <a:lnTo>
                      <a:pt x="137" y="2277"/>
                    </a:lnTo>
                    <a:lnTo>
                      <a:pt x="106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129200"/>
                <a:ext cx="1762200" cy="1079280"/>
              </a:xfrm>
              <a:custGeom>
                <a:avLst/>
                <a:gdLst/>
                <a:ahLst/>
                <a:rect l="l" t="t" r="r" b="b"/>
                <a:pathLst>
                  <a:path w="6661" h="4081">
                    <a:moveTo>
                      <a:pt x="6661" y="541"/>
                    </a:moveTo>
                    <a:lnTo>
                      <a:pt x="6660" y="472"/>
                    </a:lnTo>
                    <a:lnTo>
                      <a:pt x="6658" y="404"/>
                    </a:lnTo>
                    <a:lnTo>
                      <a:pt x="6655" y="336"/>
                    </a:lnTo>
                    <a:lnTo>
                      <a:pt x="6651" y="268"/>
                    </a:lnTo>
                    <a:lnTo>
                      <a:pt x="6645" y="201"/>
                    </a:lnTo>
                    <a:lnTo>
                      <a:pt x="6638" y="133"/>
                    </a:lnTo>
                    <a:lnTo>
                      <a:pt x="6629" y="67"/>
                    </a:lnTo>
                    <a:lnTo>
                      <a:pt x="6619" y="0"/>
                    </a:lnTo>
                    <a:lnTo>
                      <a:pt x="6571" y="0"/>
                    </a:lnTo>
                    <a:lnTo>
                      <a:pt x="6528" y="21"/>
                    </a:lnTo>
                    <a:lnTo>
                      <a:pt x="6538" y="85"/>
                    </a:lnTo>
                    <a:lnTo>
                      <a:pt x="6546" y="149"/>
                    </a:lnTo>
                    <a:lnTo>
                      <a:pt x="6551" y="214"/>
                    </a:lnTo>
                    <a:lnTo>
                      <a:pt x="6557" y="278"/>
                    </a:lnTo>
                    <a:lnTo>
                      <a:pt x="6562" y="343"/>
                    </a:lnTo>
                    <a:lnTo>
                      <a:pt x="6565" y="409"/>
                    </a:lnTo>
                    <a:lnTo>
                      <a:pt x="6566" y="474"/>
                    </a:lnTo>
                    <a:lnTo>
                      <a:pt x="6568" y="541"/>
                    </a:lnTo>
                    <a:lnTo>
                      <a:pt x="6563" y="719"/>
                    </a:lnTo>
                    <a:lnTo>
                      <a:pt x="6549" y="894"/>
                    </a:lnTo>
                    <a:lnTo>
                      <a:pt x="6527" y="1066"/>
                    </a:lnTo>
                    <a:lnTo>
                      <a:pt x="6497" y="1235"/>
                    </a:lnTo>
                    <a:lnTo>
                      <a:pt x="6459" y="1402"/>
                    </a:lnTo>
                    <a:lnTo>
                      <a:pt x="6412" y="1566"/>
                    </a:lnTo>
                    <a:lnTo>
                      <a:pt x="6358" y="1726"/>
                    </a:lnTo>
                    <a:lnTo>
                      <a:pt x="6296" y="1883"/>
                    </a:lnTo>
                    <a:lnTo>
                      <a:pt x="6227" y="2035"/>
                    </a:lnTo>
                    <a:lnTo>
                      <a:pt x="6151" y="2184"/>
                    </a:lnTo>
                    <a:lnTo>
                      <a:pt x="6068" y="2328"/>
                    </a:lnTo>
                    <a:lnTo>
                      <a:pt x="5978" y="2469"/>
                    </a:lnTo>
                    <a:lnTo>
                      <a:pt x="5882" y="2603"/>
                    </a:lnTo>
                    <a:lnTo>
                      <a:pt x="5780" y="2734"/>
                    </a:lnTo>
                    <a:lnTo>
                      <a:pt x="5671" y="2858"/>
                    </a:lnTo>
                    <a:lnTo>
                      <a:pt x="5557" y="2978"/>
                    </a:lnTo>
                    <a:lnTo>
                      <a:pt x="5437" y="3092"/>
                    </a:lnTo>
                    <a:lnTo>
                      <a:pt x="5311" y="3201"/>
                    </a:lnTo>
                    <a:lnTo>
                      <a:pt x="5181" y="3303"/>
                    </a:lnTo>
                    <a:lnTo>
                      <a:pt x="5046" y="3399"/>
                    </a:lnTo>
                    <a:lnTo>
                      <a:pt x="4907" y="3489"/>
                    </a:lnTo>
                    <a:lnTo>
                      <a:pt x="4762" y="3572"/>
                    </a:lnTo>
                    <a:lnTo>
                      <a:pt x="4614" y="3648"/>
                    </a:lnTo>
                    <a:lnTo>
                      <a:pt x="4460" y="3717"/>
                    </a:lnTo>
                    <a:lnTo>
                      <a:pt x="4303" y="3779"/>
                    </a:lnTo>
                    <a:lnTo>
                      <a:pt x="4144" y="3833"/>
                    </a:lnTo>
                    <a:lnTo>
                      <a:pt x="3980" y="3879"/>
                    </a:lnTo>
                    <a:lnTo>
                      <a:pt x="3813" y="3918"/>
                    </a:lnTo>
                    <a:lnTo>
                      <a:pt x="3644" y="3949"/>
                    </a:lnTo>
                    <a:lnTo>
                      <a:pt x="3471" y="3971"/>
                    </a:lnTo>
                    <a:lnTo>
                      <a:pt x="3295" y="3983"/>
                    </a:lnTo>
                    <a:lnTo>
                      <a:pt x="3118" y="3988"/>
                    </a:lnTo>
                    <a:lnTo>
                      <a:pt x="3073" y="3988"/>
                    </a:lnTo>
                    <a:lnTo>
                      <a:pt x="3028" y="3987"/>
                    </a:lnTo>
                    <a:lnTo>
                      <a:pt x="2983" y="3986"/>
                    </a:lnTo>
                    <a:lnTo>
                      <a:pt x="2938" y="3983"/>
                    </a:lnTo>
                    <a:lnTo>
                      <a:pt x="2894" y="3981"/>
                    </a:lnTo>
                    <a:lnTo>
                      <a:pt x="2849" y="3977"/>
                    </a:lnTo>
                    <a:lnTo>
                      <a:pt x="2805" y="3974"/>
                    </a:lnTo>
                    <a:lnTo>
                      <a:pt x="2760" y="3969"/>
                    </a:lnTo>
                    <a:lnTo>
                      <a:pt x="2716" y="3965"/>
                    </a:lnTo>
                    <a:lnTo>
                      <a:pt x="2672" y="3959"/>
                    </a:lnTo>
                    <a:lnTo>
                      <a:pt x="2629" y="3953"/>
                    </a:lnTo>
                    <a:lnTo>
                      <a:pt x="2586" y="3947"/>
                    </a:lnTo>
                    <a:lnTo>
                      <a:pt x="2499" y="3933"/>
                    </a:lnTo>
                    <a:lnTo>
                      <a:pt x="2413" y="3916"/>
                    </a:lnTo>
                    <a:lnTo>
                      <a:pt x="2329" y="3897"/>
                    </a:lnTo>
                    <a:lnTo>
                      <a:pt x="2245" y="3876"/>
                    </a:lnTo>
                    <a:lnTo>
                      <a:pt x="2162" y="3853"/>
                    </a:lnTo>
                    <a:lnTo>
                      <a:pt x="2078" y="3829"/>
                    </a:lnTo>
                    <a:lnTo>
                      <a:pt x="1998" y="3802"/>
                    </a:lnTo>
                    <a:lnTo>
                      <a:pt x="1917" y="3773"/>
                    </a:lnTo>
                    <a:lnTo>
                      <a:pt x="1837" y="3742"/>
                    </a:lnTo>
                    <a:lnTo>
                      <a:pt x="1758" y="3709"/>
                    </a:lnTo>
                    <a:lnTo>
                      <a:pt x="1820" y="3752"/>
                    </a:lnTo>
                    <a:lnTo>
                      <a:pt x="1934" y="3829"/>
                    </a:lnTo>
                    <a:lnTo>
                      <a:pt x="2052" y="3906"/>
                    </a:lnTo>
                    <a:lnTo>
                      <a:pt x="2243" y="3943"/>
                    </a:lnTo>
                    <a:lnTo>
                      <a:pt x="2412" y="4011"/>
                    </a:lnTo>
                    <a:lnTo>
                      <a:pt x="2418" y="4012"/>
                    </a:lnTo>
                    <a:lnTo>
                      <a:pt x="2424" y="4013"/>
                    </a:lnTo>
                    <a:lnTo>
                      <a:pt x="2430" y="4014"/>
                    </a:lnTo>
                    <a:lnTo>
                      <a:pt x="2436" y="4016"/>
                    </a:lnTo>
                    <a:lnTo>
                      <a:pt x="2442" y="4017"/>
                    </a:lnTo>
                    <a:lnTo>
                      <a:pt x="2448" y="4018"/>
                    </a:lnTo>
                    <a:lnTo>
                      <a:pt x="2453" y="4019"/>
                    </a:lnTo>
                    <a:lnTo>
                      <a:pt x="2460" y="4020"/>
                    </a:lnTo>
                    <a:lnTo>
                      <a:pt x="2549" y="4020"/>
                    </a:lnTo>
                    <a:lnTo>
                      <a:pt x="2698" y="4056"/>
                    </a:lnTo>
                    <a:lnTo>
                      <a:pt x="2750" y="4062"/>
                    </a:lnTo>
                    <a:lnTo>
                      <a:pt x="2802" y="4067"/>
                    </a:lnTo>
                    <a:lnTo>
                      <a:pt x="2854" y="4071"/>
                    </a:lnTo>
                    <a:lnTo>
                      <a:pt x="2907" y="4074"/>
                    </a:lnTo>
                    <a:lnTo>
                      <a:pt x="2959" y="4078"/>
                    </a:lnTo>
                    <a:lnTo>
                      <a:pt x="3012" y="4080"/>
                    </a:lnTo>
                    <a:lnTo>
                      <a:pt x="3065" y="4081"/>
                    </a:lnTo>
                    <a:lnTo>
                      <a:pt x="3118" y="4081"/>
                    </a:lnTo>
                    <a:lnTo>
                      <a:pt x="3300" y="4077"/>
                    </a:lnTo>
                    <a:lnTo>
                      <a:pt x="3480" y="4063"/>
                    </a:lnTo>
                    <a:lnTo>
                      <a:pt x="3657" y="4041"/>
                    </a:lnTo>
                    <a:lnTo>
                      <a:pt x="3832" y="4010"/>
                    </a:lnTo>
                    <a:lnTo>
                      <a:pt x="4004" y="3969"/>
                    </a:lnTo>
                    <a:lnTo>
                      <a:pt x="4172" y="3922"/>
                    </a:lnTo>
                    <a:lnTo>
                      <a:pt x="4336" y="3867"/>
                    </a:lnTo>
                    <a:lnTo>
                      <a:pt x="4497" y="3803"/>
                    </a:lnTo>
                    <a:lnTo>
                      <a:pt x="4654" y="3732"/>
                    </a:lnTo>
                    <a:lnTo>
                      <a:pt x="4806" y="3654"/>
                    </a:lnTo>
                    <a:lnTo>
                      <a:pt x="4955" y="3568"/>
                    </a:lnTo>
                    <a:lnTo>
                      <a:pt x="5098" y="3476"/>
                    </a:lnTo>
                    <a:lnTo>
                      <a:pt x="5238" y="3378"/>
                    </a:lnTo>
                    <a:lnTo>
                      <a:pt x="5371" y="3273"/>
                    </a:lnTo>
                    <a:lnTo>
                      <a:pt x="5499" y="3161"/>
                    </a:lnTo>
                    <a:lnTo>
                      <a:pt x="5623" y="3044"/>
                    </a:lnTo>
                    <a:lnTo>
                      <a:pt x="5741" y="2922"/>
                    </a:lnTo>
                    <a:lnTo>
                      <a:pt x="5851" y="2792"/>
                    </a:lnTo>
                    <a:lnTo>
                      <a:pt x="5956" y="2659"/>
                    </a:lnTo>
                    <a:lnTo>
                      <a:pt x="6055" y="2520"/>
                    </a:lnTo>
                    <a:lnTo>
                      <a:pt x="6148" y="2376"/>
                    </a:lnTo>
                    <a:lnTo>
                      <a:pt x="6233" y="2229"/>
                    </a:lnTo>
                    <a:lnTo>
                      <a:pt x="6311" y="2075"/>
                    </a:lnTo>
                    <a:lnTo>
                      <a:pt x="6382" y="1919"/>
                    </a:lnTo>
                    <a:lnTo>
                      <a:pt x="6445" y="1758"/>
                    </a:lnTo>
                    <a:lnTo>
                      <a:pt x="6501" y="1594"/>
                    </a:lnTo>
                    <a:lnTo>
                      <a:pt x="6549" y="1425"/>
                    </a:lnTo>
                    <a:lnTo>
                      <a:pt x="6588" y="1255"/>
                    </a:lnTo>
                    <a:lnTo>
                      <a:pt x="6619" y="1081"/>
                    </a:lnTo>
                    <a:lnTo>
                      <a:pt x="6643" y="903"/>
                    </a:lnTo>
                    <a:lnTo>
                      <a:pt x="6656" y="723"/>
                    </a:lnTo>
                    <a:lnTo>
                      <a:pt x="6661" y="541"/>
                    </a:lnTo>
                    <a:close/>
                    <a:moveTo>
                      <a:pt x="0" y="2222"/>
                    </a:moveTo>
                    <a:lnTo>
                      <a:pt x="31" y="2278"/>
                    </a:lnTo>
                    <a:lnTo>
                      <a:pt x="63" y="2334"/>
                    </a:lnTo>
                    <a:lnTo>
                      <a:pt x="96" y="2388"/>
                    </a:lnTo>
                    <a:lnTo>
                      <a:pt x="130" y="2442"/>
                    </a:lnTo>
                    <a:lnTo>
                      <a:pt x="165" y="2496"/>
                    </a:lnTo>
                    <a:lnTo>
                      <a:pt x="201" y="2548"/>
                    </a:lnTo>
                    <a:lnTo>
                      <a:pt x="236" y="2601"/>
                    </a:lnTo>
                    <a:lnTo>
                      <a:pt x="275" y="2652"/>
                    </a:lnTo>
                    <a:lnTo>
                      <a:pt x="313" y="2703"/>
                    </a:lnTo>
                    <a:lnTo>
                      <a:pt x="353" y="2753"/>
                    </a:lnTo>
                    <a:lnTo>
                      <a:pt x="392" y="2802"/>
                    </a:lnTo>
                    <a:lnTo>
                      <a:pt x="434" y="2851"/>
                    </a:lnTo>
                    <a:lnTo>
                      <a:pt x="475" y="2898"/>
                    </a:lnTo>
                    <a:lnTo>
                      <a:pt x="519" y="2946"/>
                    </a:lnTo>
                    <a:lnTo>
                      <a:pt x="562" y="2992"/>
                    </a:lnTo>
                    <a:lnTo>
                      <a:pt x="607" y="3037"/>
                    </a:lnTo>
                    <a:lnTo>
                      <a:pt x="632" y="3023"/>
                    </a:lnTo>
                    <a:lnTo>
                      <a:pt x="709" y="3023"/>
                    </a:lnTo>
                    <a:lnTo>
                      <a:pt x="726" y="3023"/>
                    </a:lnTo>
                    <a:lnTo>
                      <a:pt x="681" y="2979"/>
                    </a:lnTo>
                    <a:lnTo>
                      <a:pt x="636" y="2933"/>
                    </a:lnTo>
                    <a:lnTo>
                      <a:pt x="592" y="2887"/>
                    </a:lnTo>
                    <a:lnTo>
                      <a:pt x="549" y="2841"/>
                    </a:lnTo>
                    <a:lnTo>
                      <a:pt x="508" y="2792"/>
                    </a:lnTo>
                    <a:lnTo>
                      <a:pt x="466" y="2744"/>
                    </a:lnTo>
                    <a:lnTo>
                      <a:pt x="426" y="2696"/>
                    </a:lnTo>
                    <a:lnTo>
                      <a:pt x="386" y="2645"/>
                    </a:lnTo>
                    <a:lnTo>
                      <a:pt x="348" y="2594"/>
                    </a:lnTo>
                    <a:lnTo>
                      <a:pt x="310" y="2543"/>
                    </a:lnTo>
                    <a:lnTo>
                      <a:pt x="273" y="2490"/>
                    </a:lnTo>
                    <a:lnTo>
                      <a:pt x="239" y="2439"/>
                    </a:lnTo>
                    <a:lnTo>
                      <a:pt x="204" y="2384"/>
                    </a:lnTo>
                    <a:lnTo>
                      <a:pt x="170" y="2330"/>
                    </a:lnTo>
                    <a:lnTo>
                      <a:pt x="137" y="2275"/>
                    </a:lnTo>
                    <a:lnTo>
                      <a:pt x="106" y="2220"/>
                    </a:lnTo>
                    <a:lnTo>
                      <a:pt x="98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32040" y="4129200"/>
                <a:ext cx="1735200" cy="1066680"/>
              </a:xfrm>
              <a:custGeom>
                <a:avLst/>
                <a:gdLst/>
                <a:ahLst/>
                <a:rect l="l" t="t" r="r" b="b"/>
                <a:pathLst>
                  <a:path w="6561" h="4034">
                    <a:moveTo>
                      <a:pt x="6561" y="541"/>
                    </a:moveTo>
                    <a:lnTo>
                      <a:pt x="6561" y="472"/>
                    </a:lnTo>
                    <a:lnTo>
                      <a:pt x="6558" y="404"/>
                    </a:lnTo>
                    <a:lnTo>
                      <a:pt x="6555" y="336"/>
                    </a:lnTo>
                    <a:lnTo>
                      <a:pt x="6550" y="268"/>
                    </a:lnTo>
                    <a:lnTo>
                      <a:pt x="6545" y="201"/>
                    </a:lnTo>
                    <a:lnTo>
                      <a:pt x="6538" y="133"/>
                    </a:lnTo>
                    <a:lnTo>
                      <a:pt x="6528" y="67"/>
                    </a:lnTo>
                    <a:lnTo>
                      <a:pt x="6519" y="0"/>
                    </a:lnTo>
                    <a:lnTo>
                      <a:pt x="6518" y="0"/>
                    </a:lnTo>
                    <a:lnTo>
                      <a:pt x="6441" y="37"/>
                    </a:lnTo>
                    <a:lnTo>
                      <a:pt x="6432" y="42"/>
                    </a:lnTo>
                    <a:lnTo>
                      <a:pt x="6440" y="103"/>
                    </a:lnTo>
                    <a:lnTo>
                      <a:pt x="6446" y="165"/>
                    </a:lnTo>
                    <a:lnTo>
                      <a:pt x="6453" y="226"/>
                    </a:lnTo>
                    <a:lnTo>
                      <a:pt x="6458" y="289"/>
                    </a:lnTo>
                    <a:lnTo>
                      <a:pt x="6463" y="352"/>
                    </a:lnTo>
                    <a:lnTo>
                      <a:pt x="6465" y="414"/>
                    </a:lnTo>
                    <a:lnTo>
                      <a:pt x="6467" y="478"/>
                    </a:lnTo>
                    <a:lnTo>
                      <a:pt x="6467" y="541"/>
                    </a:lnTo>
                    <a:lnTo>
                      <a:pt x="6463" y="716"/>
                    </a:lnTo>
                    <a:lnTo>
                      <a:pt x="6450" y="888"/>
                    </a:lnTo>
                    <a:lnTo>
                      <a:pt x="6428" y="1059"/>
                    </a:lnTo>
                    <a:lnTo>
                      <a:pt x="6398" y="1226"/>
                    </a:lnTo>
                    <a:lnTo>
                      <a:pt x="6360" y="1391"/>
                    </a:lnTo>
                    <a:lnTo>
                      <a:pt x="6315" y="1552"/>
                    </a:lnTo>
                    <a:lnTo>
                      <a:pt x="6261" y="1710"/>
                    </a:lnTo>
                    <a:lnTo>
                      <a:pt x="6201" y="1864"/>
                    </a:lnTo>
                    <a:lnTo>
                      <a:pt x="6132" y="2015"/>
                    </a:lnTo>
                    <a:lnTo>
                      <a:pt x="6057" y="2162"/>
                    </a:lnTo>
                    <a:lnTo>
                      <a:pt x="5975" y="2304"/>
                    </a:lnTo>
                    <a:lnTo>
                      <a:pt x="5886" y="2442"/>
                    </a:lnTo>
                    <a:lnTo>
                      <a:pt x="5791" y="2576"/>
                    </a:lnTo>
                    <a:lnTo>
                      <a:pt x="5691" y="2704"/>
                    </a:lnTo>
                    <a:lnTo>
                      <a:pt x="5584" y="2827"/>
                    </a:lnTo>
                    <a:lnTo>
                      <a:pt x="5471" y="2946"/>
                    </a:lnTo>
                    <a:lnTo>
                      <a:pt x="5353" y="3058"/>
                    </a:lnTo>
                    <a:lnTo>
                      <a:pt x="5230" y="3165"/>
                    </a:lnTo>
                    <a:lnTo>
                      <a:pt x="5100" y="3266"/>
                    </a:lnTo>
                    <a:lnTo>
                      <a:pt x="4968" y="3361"/>
                    </a:lnTo>
                    <a:lnTo>
                      <a:pt x="4829" y="3450"/>
                    </a:lnTo>
                    <a:lnTo>
                      <a:pt x="4686" y="3531"/>
                    </a:lnTo>
                    <a:lnTo>
                      <a:pt x="4540" y="3606"/>
                    </a:lnTo>
                    <a:lnTo>
                      <a:pt x="4390" y="3674"/>
                    </a:lnTo>
                    <a:lnTo>
                      <a:pt x="4235" y="3735"/>
                    </a:lnTo>
                    <a:lnTo>
                      <a:pt x="4077" y="3788"/>
                    </a:lnTo>
                    <a:lnTo>
                      <a:pt x="3916" y="3835"/>
                    </a:lnTo>
                    <a:lnTo>
                      <a:pt x="3751" y="3873"/>
                    </a:lnTo>
                    <a:lnTo>
                      <a:pt x="3584" y="3903"/>
                    </a:lnTo>
                    <a:lnTo>
                      <a:pt x="3413" y="3923"/>
                    </a:lnTo>
                    <a:lnTo>
                      <a:pt x="3240" y="3937"/>
                    </a:lnTo>
                    <a:lnTo>
                      <a:pt x="3065" y="3942"/>
                    </a:lnTo>
                    <a:lnTo>
                      <a:pt x="3015" y="3941"/>
                    </a:lnTo>
                    <a:lnTo>
                      <a:pt x="2966" y="3939"/>
                    </a:lnTo>
                    <a:lnTo>
                      <a:pt x="2916" y="3938"/>
                    </a:lnTo>
                    <a:lnTo>
                      <a:pt x="2866" y="3936"/>
                    </a:lnTo>
                    <a:lnTo>
                      <a:pt x="2817" y="3933"/>
                    </a:lnTo>
                    <a:lnTo>
                      <a:pt x="2767" y="3929"/>
                    </a:lnTo>
                    <a:lnTo>
                      <a:pt x="2719" y="3924"/>
                    </a:lnTo>
                    <a:lnTo>
                      <a:pt x="2669" y="3919"/>
                    </a:lnTo>
                    <a:lnTo>
                      <a:pt x="2621" y="3913"/>
                    </a:lnTo>
                    <a:lnTo>
                      <a:pt x="2572" y="3906"/>
                    </a:lnTo>
                    <a:lnTo>
                      <a:pt x="2524" y="3899"/>
                    </a:lnTo>
                    <a:lnTo>
                      <a:pt x="2476" y="3891"/>
                    </a:lnTo>
                    <a:lnTo>
                      <a:pt x="2429" y="3882"/>
                    </a:lnTo>
                    <a:lnTo>
                      <a:pt x="2381" y="3873"/>
                    </a:lnTo>
                    <a:lnTo>
                      <a:pt x="2335" y="3862"/>
                    </a:lnTo>
                    <a:lnTo>
                      <a:pt x="2287" y="3852"/>
                    </a:lnTo>
                    <a:lnTo>
                      <a:pt x="2240" y="3840"/>
                    </a:lnTo>
                    <a:lnTo>
                      <a:pt x="2194" y="3829"/>
                    </a:lnTo>
                    <a:lnTo>
                      <a:pt x="2148" y="3816"/>
                    </a:lnTo>
                    <a:lnTo>
                      <a:pt x="2102" y="3803"/>
                    </a:lnTo>
                    <a:lnTo>
                      <a:pt x="2057" y="3790"/>
                    </a:lnTo>
                    <a:lnTo>
                      <a:pt x="2010" y="3775"/>
                    </a:lnTo>
                    <a:lnTo>
                      <a:pt x="1965" y="3760"/>
                    </a:lnTo>
                    <a:lnTo>
                      <a:pt x="1921" y="3745"/>
                    </a:lnTo>
                    <a:lnTo>
                      <a:pt x="1876" y="3728"/>
                    </a:lnTo>
                    <a:lnTo>
                      <a:pt x="1832" y="3711"/>
                    </a:lnTo>
                    <a:lnTo>
                      <a:pt x="1788" y="3694"/>
                    </a:lnTo>
                    <a:lnTo>
                      <a:pt x="1744" y="3675"/>
                    </a:lnTo>
                    <a:lnTo>
                      <a:pt x="1701" y="3657"/>
                    </a:lnTo>
                    <a:lnTo>
                      <a:pt x="1658" y="3637"/>
                    </a:lnTo>
                    <a:lnTo>
                      <a:pt x="1615" y="3618"/>
                    </a:lnTo>
                    <a:lnTo>
                      <a:pt x="1573" y="3597"/>
                    </a:lnTo>
                    <a:lnTo>
                      <a:pt x="1576" y="3601"/>
                    </a:lnTo>
                    <a:lnTo>
                      <a:pt x="1653" y="3674"/>
                    </a:lnTo>
                    <a:lnTo>
                      <a:pt x="1767" y="3752"/>
                    </a:lnTo>
                    <a:lnTo>
                      <a:pt x="1881" y="3829"/>
                    </a:lnTo>
                    <a:lnTo>
                      <a:pt x="1882" y="3829"/>
                    </a:lnTo>
                    <a:lnTo>
                      <a:pt x="1952" y="3853"/>
                    </a:lnTo>
                    <a:lnTo>
                      <a:pt x="2022" y="3876"/>
                    </a:lnTo>
                    <a:lnTo>
                      <a:pt x="2092" y="3898"/>
                    </a:lnTo>
                    <a:lnTo>
                      <a:pt x="2165" y="3918"/>
                    </a:lnTo>
                    <a:lnTo>
                      <a:pt x="2237" y="3936"/>
                    </a:lnTo>
                    <a:lnTo>
                      <a:pt x="2309" y="3952"/>
                    </a:lnTo>
                    <a:lnTo>
                      <a:pt x="2383" y="3968"/>
                    </a:lnTo>
                    <a:lnTo>
                      <a:pt x="2457" y="3982"/>
                    </a:lnTo>
                    <a:lnTo>
                      <a:pt x="2531" y="3994"/>
                    </a:lnTo>
                    <a:lnTo>
                      <a:pt x="2606" y="4005"/>
                    </a:lnTo>
                    <a:lnTo>
                      <a:pt x="2682" y="4013"/>
                    </a:lnTo>
                    <a:lnTo>
                      <a:pt x="2757" y="4021"/>
                    </a:lnTo>
                    <a:lnTo>
                      <a:pt x="2834" y="4027"/>
                    </a:lnTo>
                    <a:lnTo>
                      <a:pt x="2910" y="4032"/>
                    </a:lnTo>
                    <a:lnTo>
                      <a:pt x="2987" y="4034"/>
                    </a:lnTo>
                    <a:lnTo>
                      <a:pt x="3065" y="4034"/>
                    </a:lnTo>
                    <a:lnTo>
                      <a:pt x="3245" y="4030"/>
                    </a:lnTo>
                    <a:lnTo>
                      <a:pt x="3422" y="4017"/>
                    </a:lnTo>
                    <a:lnTo>
                      <a:pt x="3598" y="3995"/>
                    </a:lnTo>
                    <a:lnTo>
                      <a:pt x="3769" y="3964"/>
                    </a:lnTo>
                    <a:lnTo>
                      <a:pt x="3939" y="3924"/>
                    </a:lnTo>
                    <a:lnTo>
                      <a:pt x="4105" y="3877"/>
                    </a:lnTo>
                    <a:lnTo>
                      <a:pt x="4267" y="3823"/>
                    </a:lnTo>
                    <a:lnTo>
                      <a:pt x="4426" y="3760"/>
                    </a:lnTo>
                    <a:lnTo>
                      <a:pt x="4580" y="3690"/>
                    </a:lnTo>
                    <a:lnTo>
                      <a:pt x="4731" y="3613"/>
                    </a:lnTo>
                    <a:lnTo>
                      <a:pt x="4878" y="3529"/>
                    </a:lnTo>
                    <a:lnTo>
                      <a:pt x="5020" y="3438"/>
                    </a:lnTo>
                    <a:lnTo>
                      <a:pt x="5157" y="3340"/>
                    </a:lnTo>
                    <a:lnTo>
                      <a:pt x="5288" y="3236"/>
                    </a:lnTo>
                    <a:lnTo>
                      <a:pt x="5415" y="3127"/>
                    </a:lnTo>
                    <a:lnTo>
                      <a:pt x="5536" y="3011"/>
                    </a:lnTo>
                    <a:lnTo>
                      <a:pt x="5653" y="2890"/>
                    </a:lnTo>
                    <a:lnTo>
                      <a:pt x="5763" y="2764"/>
                    </a:lnTo>
                    <a:lnTo>
                      <a:pt x="5866" y="2631"/>
                    </a:lnTo>
                    <a:lnTo>
                      <a:pt x="5964" y="2494"/>
                    </a:lnTo>
                    <a:lnTo>
                      <a:pt x="6054" y="2352"/>
                    </a:lnTo>
                    <a:lnTo>
                      <a:pt x="6139" y="2206"/>
                    </a:lnTo>
                    <a:lnTo>
                      <a:pt x="6216" y="2056"/>
                    </a:lnTo>
                    <a:lnTo>
                      <a:pt x="6286" y="1900"/>
                    </a:lnTo>
                    <a:lnTo>
                      <a:pt x="6348" y="1742"/>
                    </a:lnTo>
                    <a:lnTo>
                      <a:pt x="6404" y="1580"/>
                    </a:lnTo>
                    <a:lnTo>
                      <a:pt x="6451" y="1414"/>
                    </a:lnTo>
                    <a:lnTo>
                      <a:pt x="6490" y="1245"/>
                    </a:lnTo>
                    <a:lnTo>
                      <a:pt x="6520" y="1073"/>
                    </a:lnTo>
                    <a:lnTo>
                      <a:pt x="6543" y="898"/>
                    </a:lnTo>
                    <a:lnTo>
                      <a:pt x="6556" y="721"/>
                    </a:lnTo>
                    <a:lnTo>
                      <a:pt x="6561" y="541"/>
                    </a:lnTo>
                    <a:close/>
                    <a:moveTo>
                      <a:pt x="0" y="2222"/>
                    </a:moveTo>
                    <a:lnTo>
                      <a:pt x="31" y="2277"/>
                    </a:lnTo>
                    <a:lnTo>
                      <a:pt x="64" y="2331"/>
                    </a:lnTo>
                    <a:lnTo>
                      <a:pt x="96" y="2386"/>
                    </a:lnTo>
                    <a:lnTo>
                      <a:pt x="130" y="2439"/>
                    </a:lnTo>
                    <a:lnTo>
                      <a:pt x="165" y="2492"/>
                    </a:lnTo>
                    <a:lnTo>
                      <a:pt x="201" y="2543"/>
                    </a:lnTo>
                    <a:lnTo>
                      <a:pt x="238" y="2594"/>
                    </a:lnTo>
                    <a:lnTo>
                      <a:pt x="275" y="2645"/>
                    </a:lnTo>
                    <a:lnTo>
                      <a:pt x="313" y="2696"/>
                    </a:lnTo>
                    <a:lnTo>
                      <a:pt x="352" y="2744"/>
                    </a:lnTo>
                    <a:lnTo>
                      <a:pt x="392" y="2792"/>
                    </a:lnTo>
                    <a:lnTo>
                      <a:pt x="434" y="2841"/>
                    </a:lnTo>
                    <a:lnTo>
                      <a:pt x="475" y="2887"/>
                    </a:lnTo>
                    <a:lnTo>
                      <a:pt x="518" y="2933"/>
                    </a:lnTo>
                    <a:lnTo>
                      <a:pt x="562" y="2979"/>
                    </a:lnTo>
                    <a:lnTo>
                      <a:pt x="606" y="3023"/>
                    </a:lnTo>
                    <a:lnTo>
                      <a:pt x="656" y="3023"/>
                    </a:lnTo>
                    <a:lnTo>
                      <a:pt x="741" y="3023"/>
                    </a:lnTo>
                    <a:lnTo>
                      <a:pt x="693" y="2978"/>
                    </a:lnTo>
                    <a:lnTo>
                      <a:pt x="647" y="2933"/>
                    </a:lnTo>
                    <a:lnTo>
                      <a:pt x="602" y="2886"/>
                    </a:lnTo>
                    <a:lnTo>
                      <a:pt x="557" y="2839"/>
                    </a:lnTo>
                    <a:lnTo>
                      <a:pt x="513" y="2790"/>
                    </a:lnTo>
                    <a:lnTo>
                      <a:pt x="472" y="2742"/>
                    </a:lnTo>
                    <a:lnTo>
                      <a:pt x="429" y="2691"/>
                    </a:lnTo>
                    <a:lnTo>
                      <a:pt x="389" y="2640"/>
                    </a:lnTo>
                    <a:lnTo>
                      <a:pt x="350" y="2590"/>
                    </a:lnTo>
                    <a:lnTo>
                      <a:pt x="310" y="2537"/>
                    </a:lnTo>
                    <a:lnTo>
                      <a:pt x="272" y="2484"/>
                    </a:lnTo>
                    <a:lnTo>
                      <a:pt x="235" y="2429"/>
                    </a:lnTo>
                    <a:lnTo>
                      <a:pt x="200" y="2375"/>
                    </a:lnTo>
                    <a:lnTo>
                      <a:pt x="165" y="2320"/>
                    </a:lnTo>
                    <a:lnTo>
                      <a:pt x="132" y="2264"/>
                    </a:lnTo>
                    <a:lnTo>
                      <a:pt x="99" y="2207"/>
                    </a:lnTo>
                    <a:lnTo>
                      <a:pt x="45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46440" y="4135320"/>
                <a:ext cx="1709640" cy="1049400"/>
              </a:xfrm>
              <a:custGeom>
                <a:avLst/>
                <a:gdLst/>
                <a:ahLst/>
                <a:rect l="l" t="t" r="r" b="b"/>
                <a:pathLst>
                  <a:path w="6462" h="3967">
                    <a:moveTo>
                      <a:pt x="6462" y="520"/>
                    </a:moveTo>
                    <a:lnTo>
                      <a:pt x="6460" y="453"/>
                    </a:lnTo>
                    <a:lnTo>
                      <a:pt x="6459" y="388"/>
                    </a:lnTo>
                    <a:lnTo>
                      <a:pt x="6456" y="322"/>
                    </a:lnTo>
                    <a:lnTo>
                      <a:pt x="6451" y="257"/>
                    </a:lnTo>
                    <a:lnTo>
                      <a:pt x="6445" y="193"/>
                    </a:lnTo>
                    <a:lnTo>
                      <a:pt x="6440" y="128"/>
                    </a:lnTo>
                    <a:lnTo>
                      <a:pt x="6432" y="64"/>
                    </a:lnTo>
                    <a:lnTo>
                      <a:pt x="6422" y="0"/>
                    </a:lnTo>
                    <a:lnTo>
                      <a:pt x="6388" y="16"/>
                    </a:lnTo>
                    <a:lnTo>
                      <a:pt x="6335" y="44"/>
                    </a:lnTo>
                    <a:lnTo>
                      <a:pt x="6342" y="103"/>
                    </a:lnTo>
                    <a:lnTo>
                      <a:pt x="6349" y="162"/>
                    </a:lnTo>
                    <a:lnTo>
                      <a:pt x="6354" y="220"/>
                    </a:lnTo>
                    <a:lnTo>
                      <a:pt x="6359" y="279"/>
                    </a:lnTo>
                    <a:lnTo>
                      <a:pt x="6364" y="339"/>
                    </a:lnTo>
                    <a:lnTo>
                      <a:pt x="6366" y="399"/>
                    </a:lnTo>
                    <a:lnTo>
                      <a:pt x="6367" y="459"/>
                    </a:lnTo>
                    <a:lnTo>
                      <a:pt x="6368" y="520"/>
                    </a:lnTo>
                    <a:lnTo>
                      <a:pt x="6364" y="693"/>
                    </a:lnTo>
                    <a:lnTo>
                      <a:pt x="6351" y="862"/>
                    </a:lnTo>
                    <a:lnTo>
                      <a:pt x="6329" y="1031"/>
                    </a:lnTo>
                    <a:lnTo>
                      <a:pt x="6300" y="1196"/>
                    </a:lnTo>
                    <a:lnTo>
                      <a:pt x="6262" y="1358"/>
                    </a:lnTo>
                    <a:lnTo>
                      <a:pt x="6217" y="1517"/>
                    </a:lnTo>
                    <a:lnTo>
                      <a:pt x="6164" y="1673"/>
                    </a:lnTo>
                    <a:lnTo>
                      <a:pt x="6104" y="1825"/>
                    </a:lnTo>
                    <a:lnTo>
                      <a:pt x="6037" y="1974"/>
                    </a:lnTo>
                    <a:lnTo>
                      <a:pt x="5963" y="2119"/>
                    </a:lnTo>
                    <a:lnTo>
                      <a:pt x="5883" y="2258"/>
                    </a:lnTo>
                    <a:lnTo>
                      <a:pt x="5795" y="2394"/>
                    </a:lnTo>
                    <a:lnTo>
                      <a:pt x="5701" y="2527"/>
                    </a:lnTo>
                    <a:lnTo>
                      <a:pt x="5601" y="2653"/>
                    </a:lnTo>
                    <a:lnTo>
                      <a:pt x="5496" y="2775"/>
                    </a:lnTo>
                    <a:lnTo>
                      <a:pt x="5385" y="2891"/>
                    </a:lnTo>
                    <a:lnTo>
                      <a:pt x="5269" y="3002"/>
                    </a:lnTo>
                    <a:lnTo>
                      <a:pt x="5147" y="3108"/>
                    </a:lnTo>
                    <a:lnTo>
                      <a:pt x="5020" y="3207"/>
                    </a:lnTo>
                    <a:lnTo>
                      <a:pt x="4888" y="3301"/>
                    </a:lnTo>
                    <a:lnTo>
                      <a:pt x="4752" y="3388"/>
                    </a:lnTo>
                    <a:lnTo>
                      <a:pt x="4611" y="3469"/>
                    </a:lnTo>
                    <a:lnTo>
                      <a:pt x="4467" y="3543"/>
                    </a:lnTo>
                    <a:lnTo>
                      <a:pt x="4319" y="3611"/>
                    </a:lnTo>
                    <a:lnTo>
                      <a:pt x="4166" y="3671"/>
                    </a:lnTo>
                    <a:lnTo>
                      <a:pt x="4011" y="3722"/>
                    </a:lnTo>
                    <a:lnTo>
                      <a:pt x="3850" y="3769"/>
                    </a:lnTo>
                    <a:lnTo>
                      <a:pt x="3689" y="3805"/>
                    </a:lnTo>
                    <a:lnTo>
                      <a:pt x="3523" y="3835"/>
                    </a:lnTo>
                    <a:lnTo>
                      <a:pt x="3355" y="3856"/>
                    </a:lnTo>
                    <a:lnTo>
                      <a:pt x="3185" y="3869"/>
                    </a:lnTo>
                    <a:lnTo>
                      <a:pt x="3012" y="3873"/>
                    </a:lnTo>
                    <a:lnTo>
                      <a:pt x="2959" y="3873"/>
                    </a:lnTo>
                    <a:lnTo>
                      <a:pt x="2906" y="3872"/>
                    </a:lnTo>
                    <a:lnTo>
                      <a:pt x="2853" y="3870"/>
                    </a:lnTo>
                    <a:lnTo>
                      <a:pt x="2799" y="3868"/>
                    </a:lnTo>
                    <a:lnTo>
                      <a:pt x="2746" y="3863"/>
                    </a:lnTo>
                    <a:lnTo>
                      <a:pt x="2695" y="3858"/>
                    </a:lnTo>
                    <a:lnTo>
                      <a:pt x="2641" y="3854"/>
                    </a:lnTo>
                    <a:lnTo>
                      <a:pt x="2590" y="3847"/>
                    </a:lnTo>
                    <a:lnTo>
                      <a:pt x="2538" y="3841"/>
                    </a:lnTo>
                    <a:lnTo>
                      <a:pt x="2487" y="3833"/>
                    </a:lnTo>
                    <a:lnTo>
                      <a:pt x="2435" y="3824"/>
                    </a:lnTo>
                    <a:lnTo>
                      <a:pt x="2384" y="3815"/>
                    </a:lnTo>
                    <a:lnTo>
                      <a:pt x="2333" y="3805"/>
                    </a:lnTo>
                    <a:lnTo>
                      <a:pt x="2283" y="3794"/>
                    </a:lnTo>
                    <a:lnTo>
                      <a:pt x="2233" y="3782"/>
                    </a:lnTo>
                    <a:lnTo>
                      <a:pt x="2184" y="3771"/>
                    </a:lnTo>
                    <a:lnTo>
                      <a:pt x="2134" y="3757"/>
                    </a:lnTo>
                    <a:lnTo>
                      <a:pt x="2084" y="3744"/>
                    </a:lnTo>
                    <a:lnTo>
                      <a:pt x="2035" y="3729"/>
                    </a:lnTo>
                    <a:lnTo>
                      <a:pt x="1986" y="3714"/>
                    </a:lnTo>
                    <a:lnTo>
                      <a:pt x="1938" y="3698"/>
                    </a:lnTo>
                    <a:lnTo>
                      <a:pt x="1891" y="3682"/>
                    </a:lnTo>
                    <a:lnTo>
                      <a:pt x="1842" y="3665"/>
                    </a:lnTo>
                    <a:lnTo>
                      <a:pt x="1796" y="3646"/>
                    </a:lnTo>
                    <a:lnTo>
                      <a:pt x="1749" y="3628"/>
                    </a:lnTo>
                    <a:lnTo>
                      <a:pt x="1701" y="3608"/>
                    </a:lnTo>
                    <a:lnTo>
                      <a:pt x="1655" y="3589"/>
                    </a:lnTo>
                    <a:lnTo>
                      <a:pt x="1609" y="3568"/>
                    </a:lnTo>
                    <a:lnTo>
                      <a:pt x="1564" y="3546"/>
                    </a:lnTo>
                    <a:lnTo>
                      <a:pt x="1519" y="3524"/>
                    </a:lnTo>
                    <a:lnTo>
                      <a:pt x="1474" y="3501"/>
                    </a:lnTo>
                    <a:lnTo>
                      <a:pt x="1429" y="3478"/>
                    </a:lnTo>
                    <a:lnTo>
                      <a:pt x="1445" y="3502"/>
                    </a:lnTo>
                    <a:lnTo>
                      <a:pt x="1523" y="3580"/>
                    </a:lnTo>
                    <a:lnTo>
                      <a:pt x="1600" y="3653"/>
                    </a:lnTo>
                    <a:lnTo>
                      <a:pt x="1652" y="3688"/>
                    </a:lnTo>
                    <a:lnTo>
                      <a:pt x="1731" y="3721"/>
                    </a:lnTo>
                    <a:lnTo>
                      <a:pt x="1811" y="3752"/>
                    </a:lnTo>
                    <a:lnTo>
                      <a:pt x="1892" y="3781"/>
                    </a:lnTo>
                    <a:lnTo>
                      <a:pt x="1972" y="3808"/>
                    </a:lnTo>
                    <a:lnTo>
                      <a:pt x="2056" y="3832"/>
                    </a:lnTo>
                    <a:lnTo>
                      <a:pt x="2139" y="3855"/>
                    </a:lnTo>
                    <a:lnTo>
                      <a:pt x="2223" y="3876"/>
                    </a:lnTo>
                    <a:lnTo>
                      <a:pt x="2307" y="3895"/>
                    </a:lnTo>
                    <a:lnTo>
                      <a:pt x="2393" y="3912"/>
                    </a:lnTo>
                    <a:lnTo>
                      <a:pt x="2480" y="3926"/>
                    </a:lnTo>
                    <a:lnTo>
                      <a:pt x="2523" y="3932"/>
                    </a:lnTo>
                    <a:lnTo>
                      <a:pt x="2566" y="3938"/>
                    </a:lnTo>
                    <a:lnTo>
                      <a:pt x="2610" y="3944"/>
                    </a:lnTo>
                    <a:lnTo>
                      <a:pt x="2654" y="3948"/>
                    </a:lnTo>
                    <a:lnTo>
                      <a:pt x="2699" y="3953"/>
                    </a:lnTo>
                    <a:lnTo>
                      <a:pt x="2743" y="3956"/>
                    </a:lnTo>
                    <a:lnTo>
                      <a:pt x="2788" y="3960"/>
                    </a:lnTo>
                    <a:lnTo>
                      <a:pt x="2832" y="3962"/>
                    </a:lnTo>
                    <a:lnTo>
                      <a:pt x="2877" y="3965"/>
                    </a:lnTo>
                    <a:lnTo>
                      <a:pt x="2922" y="3966"/>
                    </a:lnTo>
                    <a:lnTo>
                      <a:pt x="2967" y="3967"/>
                    </a:lnTo>
                    <a:lnTo>
                      <a:pt x="3012" y="3967"/>
                    </a:lnTo>
                    <a:lnTo>
                      <a:pt x="3189" y="3962"/>
                    </a:lnTo>
                    <a:lnTo>
                      <a:pt x="3365" y="3950"/>
                    </a:lnTo>
                    <a:lnTo>
                      <a:pt x="3538" y="3928"/>
                    </a:lnTo>
                    <a:lnTo>
                      <a:pt x="3707" y="3897"/>
                    </a:lnTo>
                    <a:lnTo>
                      <a:pt x="3874" y="3858"/>
                    </a:lnTo>
                    <a:lnTo>
                      <a:pt x="4038" y="3812"/>
                    </a:lnTo>
                    <a:lnTo>
                      <a:pt x="4197" y="3758"/>
                    </a:lnTo>
                    <a:lnTo>
                      <a:pt x="4354" y="3696"/>
                    </a:lnTo>
                    <a:lnTo>
                      <a:pt x="4508" y="3627"/>
                    </a:lnTo>
                    <a:lnTo>
                      <a:pt x="4656" y="3551"/>
                    </a:lnTo>
                    <a:lnTo>
                      <a:pt x="4801" y="3468"/>
                    </a:lnTo>
                    <a:lnTo>
                      <a:pt x="4940" y="3378"/>
                    </a:lnTo>
                    <a:lnTo>
                      <a:pt x="5075" y="3282"/>
                    </a:lnTo>
                    <a:lnTo>
                      <a:pt x="5205" y="3180"/>
                    </a:lnTo>
                    <a:lnTo>
                      <a:pt x="5331" y="3071"/>
                    </a:lnTo>
                    <a:lnTo>
                      <a:pt x="5451" y="2957"/>
                    </a:lnTo>
                    <a:lnTo>
                      <a:pt x="5565" y="2837"/>
                    </a:lnTo>
                    <a:lnTo>
                      <a:pt x="5674" y="2713"/>
                    </a:lnTo>
                    <a:lnTo>
                      <a:pt x="5776" y="2582"/>
                    </a:lnTo>
                    <a:lnTo>
                      <a:pt x="5872" y="2448"/>
                    </a:lnTo>
                    <a:lnTo>
                      <a:pt x="5962" y="2307"/>
                    </a:lnTo>
                    <a:lnTo>
                      <a:pt x="6045" y="2163"/>
                    </a:lnTo>
                    <a:lnTo>
                      <a:pt x="6121" y="2014"/>
                    </a:lnTo>
                    <a:lnTo>
                      <a:pt x="6190" y="1862"/>
                    </a:lnTo>
                    <a:lnTo>
                      <a:pt x="6252" y="1705"/>
                    </a:lnTo>
                    <a:lnTo>
                      <a:pt x="6306" y="1545"/>
                    </a:lnTo>
                    <a:lnTo>
                      <a:pt x="6353" y="1381"/>
                    </a:lnTo>
                    <a:lnTo>
                      <a:pt x="6391" y="1214"/>
                    </a:lnTo>
                    <a:lnTo>
                      <a:pt x="6421" y="1045"/>
                    </a:lnTo>
                    <a:lnTo>
                      <a:pt x="6443" y="873"/>
                    </a:lnTo>
                    <a:lnTo>
                      <a:pt x="6457" y="698"/>
                    </a:lnTo>
                    <a:lnTo>
                      <a:pt x="6462" y="520"/>
                    </a:lnTo>
                    <a:close/>
                    <a:moveTo>
                      <a:pt x="0" y="2199"/>
                    </a:moveTo>
                    <a:lnTo>
                      <a:pt x="31" y="2254"/>
                    </a:lnTo>
                    <a:lnTo>
                      <a:pt x="64" y="2309"/>
                    </a:lnTo>
                    <a:lnTo>
                      <a:pt x="98" y="2363"/>
                    </a:lnTo>
                    <a:lnTo>
                      <a:pt x="133" y="2418"/>
                    </a:lnTo>
                    <a:lnTo>
                      <a:pt x="167" y="2469"/>
                    </a:lnTo>
                    <a:lnTo>
                      <a:pt x="204" y="2522"/>
                    </a:lnTo>
                    <a:lnTo>
                      <a:pt x="242" y="2573"/>
                    </a:lnTo>
                    <a:lnTo>
                      <a:pt x="280" y="2624"/>
                    </a:lnTo>
                    <a:lnTo>
                      <a:pt x="320" y="2675"/>
                    </a:lnTo>
                    <a:lnTo>
                      <a:pt x="360" y="2723"/>
                    </a:lnTo>
                    <a:lnTo>
                      <a:pt x="402" y="2771"/>
                    </a:lnTo>
                    <a:lnTo>
                      <a:pt x="443" y="2820"/>
                    </a:lnTo>
                    <a:lnTo>
                      <a:pt x="486" y="2866"/>
                    </a:lnTo>
                    <a:lnTo>
                      <a:pt x="530" y="2912"/>
                    </a:lnTo>
                    <a:lnTo>
                      <a:pt x="575" y="2958"/>
                    </a:lnTo>
                    <a:lnTo>
                      <a:pt x="620" y="3002"/>
                    </a:lnTo>
                    <a:lnTo>
                      <a:pt x="756" y="3002"/>
                    </a:lnTo>
                    <a:lnTo>
                      <a:pt x="707" y="2957"/>
                    </a:lnTo>
                    <a:lnTo>
                      <a:pt x="659" y="2911"/>
                    </a:lnTo>
                    <a:lnTo>
                      <a:pt x="613" y="2864"/>
                    </a:lnTo>
                    <a:lnTo>
                      <a:pt x="566" y="2816"/>
                    </a:lnTo>
                    <a:lnTo>
                      <a:pt x="521" y="2767"/>
                    </a:lnTo>
                    <a:lnTo>
                      <a:pt x="477" y="2717"/>
                    </a:lnTo>
                    <a:lnTo>
                      <a:pt x="434" y="2667"/>
                    </a:lnTo>
                    <a:lnTo>
                      <a:pt x="392" y="2615"/>
                    </a:lnTo>
                    <a:lnTo>
                      <a:pt x="351" y="2563"/>
                    </a:lnTo>
                    <a:lnTo>
                      <a:pt x="310" y="2510"/>
                    </a:lnTo>
                    <a:lnTo>
                      <a:pt x="271" y="2456"/>
                    </a:lnTo>
                    <a:lnTo>
                      <a:pt x="233" y="2401"/>
                    </a:lnTo>
                    <a:lnTo>
                      <a:pt x="196" y="2345"/>
                    </a:lnTo>
                    <a:lnTo>
                      <a:pt x="160" y="2288"/>
                    </a:lnTo>
                    <a:lnTo>
                      <a:pt x="126" y="2232"/>
                    </a:lnTo>
                    <a:lnTo>
                      <a:pt x="92" y="2174"/>
                    </a:lnTo>
                    <a:lnTo>
                      <a:pt x="0" y="219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59040" y="4140360"/>
                <a:ext cx="1684440" cy="1031760"/>
              </a:xfrm>
              <a:custGeom>
                <a:avLst/>
                <a:gdLst/>
                <a:ahLst/>
                <a:rect l="l" t="t" r="r" b="b"/>
                <a:pathLst>
                  <a:path w="6368" h="3900">
                    <a:moveTo>
                      <a:pt x="6368" y="499"/>
                    </a:moveTo>
                    <a:lnTo>
                      <a:pt x="6368" y="436"/>
                    </a:lnTo>
                    <a:lnTo>
                      <a:pt x="6366" y="372"/>
                    </a:lnTo>
                    <a:lnTo>
                      <a:pt x="6364" y="310"/>
                    </a:lnTo>
                    <a:lnTo>
                      <a:pt x="6359" y="247"/>
                    </a:lnTo>
                    <a:lnTo>
                      <a:pt x="6354" y="184"/>
                    </a:lnTo>
                    <a:lnTo>
                      <a:pt x="6347" y="123"/>
                    </a:lnTo>
                    <a:lnTo>
                      <a:pt x="6341" y="61"/>
                    </a:lnTo>
                    <a:lnTo>
                      <a:pt x="6333" y="0"/>
                    </a:lnTo>
                    <a:lnTo>
                      <a:pt x="6264" y="36"/>
                    </a:lnTo>
                    <a:lnTo>
                      <a:pt x="6244" y="36"/>
                    </a:lnTo>
                    <a:lnTo>
                      <a:pt x="6251" y="93"/>
                    </a:lnTo>
                    <a:lnTo>
                      <a:pt x="6258" y="150"/>
                    </a:lnTo>
                    <a:lnTo>
                      <a:pt x="6263" y="207"/>
                    </a:lnTo>
                    <a:lnTo>
                      <a:pt x="6268" y="265"/>
                    </a:lnTo>
                    <a:lnTo>
                      <a:pt x="6271" y="323"/>
                    </a:lnTo>
                    <a:lnTo>
                      <a:pt x="6274" y="382"/>
                    </a:lnTo>
                    <a:lnTo>
                      <a:pt x="6275" y="440"/>
                    </a:lnTo>
                    <a:lnTo>
                      <a:pt x="6276" y="499"/>
                    </a:lnTo>
                    <a:lnTo>
                      <a:pt x="6271" y="669"/>
                    </a:lnTo>
                    <a:lnTo>
                      <a:pt x="6259" y="837"/>
                    </a:lnTo>
                    <a:lnTo>
                      <a:pt x="6238" y="1003"/>
                    </a:lnTo>
                    <a:lnTo>
                      <a:pt x="6208" y="1165"/>
                    </a:lnTo>
                    <a:lnTo>
                      <a:pt x="6171" y="1326"/>
                    </a:lnTo>
                    <a:lnTo>
                      <a:pt x="6127" y="1482"/>
                    </a:lnTo>
                    <a:lnTo>
                      <a:pt x="6074" y="1636"/>
                    </a:lnTo>
                    <a:lnTo>
                      <a:pt x="6015" y="1787"/>
                    </a:lnTo>
                    <a:lnTo>
                      <a:pt x="5950" y="1933"/>
                    </a:lnTo>
                    <a:lnTo>
                      <a:pt x="5876" y="2075"/>
                    </a:lnTo>
                    <a:lnTo>
                      <a:pt x="5796" y="2214"/>
                    </a:lnTo>
                    <a:lnTo>
                      <a:pt x="5710" y="2348"/>
                    </a:lnTo>
                    <a:lnTo>
                      <a:pt x="5617" y="2477"/>
                    </a:lnTo>
                    <a:lnTo>
                      <a:pt x="5519" y="2603"/>
                    </a:lnTo>
                    <a:lnTo>
                      <a:pt x="5416" y="2723"/>
                    </a:lnTo>
                    <a:lnTo>
                      <a:pt x="5306" y="2838"/>
                    </a:lnTo>
                    <a:lnTo>
                      <a:pt x="5191" y="2948"/>
                    </a:lnTo>
                    <a:lnTo>
                      <a:pt x="5071" y="3051"/>
                    </a:lnTo>
                    <a:lnTo>
                      <a:pt x="4946" y="3149"/>
                    </a:lnTo>
                    <a:lnTo>
                      <a:pt x="4816" y="3242"/>
                    </a:lnTo>
                    <a:lnTo>
                      <a:pt x="4682" y="3328"/>
                    </a:lnTo>
                    <a:lnTo>
                      <a:pt x="4544" y="3408"/>
                    </a:lnTo>
                    <a:lnTo>
                      <a:pt x="4401" y="3480"/>
                    </a:lnTo>
                    <a:lnTo>
                      <a:pt x="4254" y="3546"/>
                    </a:lnTo>
                    <a:lnTo>
                      <a:pt x="4104" y="3606"/>
                    </a:lnTo>
                    <a:lnTo>
                      <a:pt x="3950" y="3658"/>
                    </a:lnTo>
                    <a:lnTo>
                      <a:pt x="3793" y="3703"/>
                    </a:lnTo>
                    <a:lnTo>
                      <a:pt x="3634" y="3739"/>
                    </a:lnTo>
                    <a:lnTo>
                      <a:pt x="3470" y="3768"/>
                    </a:lnTo>
                    <a:lnTo>
                      <a:pt x="3305" y="3789"/>
                    </a:lnTo>
                    <a:lnTo>
                      <a:pt x="3136" y="3802"/>
                    </a:lnTo>
                    <a:lnTo>
                      <a:pt x="2966" y="3806"/>
                    </a:lnTo>
                    <a:lnTo>
                      <a:pt x="2910" y="3806"/>
                    </a:lnTo>
                    <a:lnTo>
                      <a:pt x="2855" y="3804"/>
                    </a:lnTo>
                    <a:lnTo>
                      <a:pt x="2800" y="3802"/>
                    </a:lnTo>
                    <a:lnTo>
                      <a:pt x="2744" y="3799"/>
                    </a:lnTo>
                    <a:lnTo>
                      <a:pt x="2690" y="3795"/>
                    </a:lnTo>
                    <a:lnTo>
                      <a:pt x="2635" y="3790"/>
                    </a:lnTo>
                    <a:lnTo>
                      <a:pt x="2580" y="3784"/>
                    </a:lnTo>
                    <a:lnTo>
                      <a:pt x="2527" y="3778"/>
                    </a:lnTo>
                    <a:lnTo>
                      <a:pt x="2473" y="3769"/>
                    </a:lnTo>
                    <a:lnTo>
                      <a:pt x="2420" y="3761"/>
                    </a:lnTo>
                    <a:lnTo>
                      <a:pt x="2366" y="3752"/>
                    </a:lnTo>
                    <a:lnTo>
                      <a:pt x="2314" y="3742"/>
                    </a:lnTo>
                    <a:lnTo>
                      <a:pt x="2261" y="3731"/>
                    </a:lnTo>
                    <a:lnTo>
                      <a:pt x="2209" y="3719"/>
                    </a:lnTo>
                    <a:lnTo>
                      <a:pt x="2157" y="3707"/>
                    </a:lnTo>
                    <a:lnTo>
                      <a:pt x="2105" y="3693"/>
                    </a:lnTo>
                    <a:lnTo>
                      <a:pt x="2053" y="3680"/>
                    </a:lnTo>
                    <a:lnTo>
                      <a:pt x="2003" y="3665"/>
                    </a:lnTo>
                    <a:lnTo>
                      <a:pt x="1952" y="3648"/>
                    </a:lnTo>
                    <a:lnTo>
                      <a:pt x="1902" y="3631"/>
                    </a:lnTo>
                    <a:lnTo>
                      <a:pt x="1852" y="3614"/>
                    </a:lnTo>
                    <a:lnTo>
                      <a:pt x="1803" y="3597"/>
                    </a:lnTo>
                    <a:lnTo>
                      <a:pt x="1753" y="3577"/>
                    </a:lnTo>
                    <a:lnTo>
                      <a:pt x="1705" y="3557"/>
                    </a:lnTo>
                    <a:lnTo>
                      <a:pt x="1657" y="3537"/>
                    </a:lnTo>
                    <a:lnTo>
                      <a:pt x="1608" y="3516"/>
                    </a:lnTo>
                    <a:lnTo>
                      <a:pt x="1561" y="3494"/>
                    </a:lnTo>
                    <a:lnTo>
                      <a:pt x="1514" y="3471"/>
                    </a:lnTo>
                    <a:lnTo>
                      <a:pt x="1466" y="3448"/>
                    </a:lnTo>
                    <a:lnTo>
                      <a:pt x="1420" y="3424"/>
                    </a:lnTo>
                    <a:lnTo>
                      <a:pt x="1374" y="3399"/>
                    </a:lnTo>
                    <a:lnTo>
                      <a:pt x="1329" y="3374"/>
                    </a:lnTo>
                    <a:lnTo>
                      <a:pt x="1399" y="3481"/>
                    </a:lnTo>
                    <a:lnTo>
                      <a:pt x="1474" y="3555"/>
                    </a:lnTo>
                    <a:lnTo>
                      <a:pt x="1516" y="3576"/>
                    </a:lnTo>
                    <a:lnTo>
                      <a:pt x="1559" y="3595"/>
                    </a:lnTo>
                    <a:lnTo>
                      <a:pt x="1602" y="3615"/>
                    </a:lnTo>
                    <a:lnTo>
                      <a:pt x="1645" y="3633"/>
                    </a:lnTo>
                    <a:lnTo>
                      <a:pt x="1689" y="3652"/>
                    </a:lnTo>
                    <a:lnTo>
                      <a:pt x="1733" y="3669"/>
                    </a:lnTo>
                    <a:lnTo>
                      <a:pt x="1777" y="3686"/>
                    </a:lnTo>
                    <a:lnTo>
                      <a:pt x="1822" y="3703"/>
                    </a:lnTo>
                    <a:lnTo>
                      <a:pt x="1866" y="3718"/>
                    </a:lnTo>
                    <a:lnTo>
                      <a:pt x="1911" y="3733"/>
                    </a:lnTo>
                    <a:lnTo>
                      <a:pt x="1958" y="3748"/>
                    </a:lnTo>
                    <a:lnTo>
                      <a:pt x="2003" y="3761"/>
                    </a:lnTo>
                    <a:lnTo>
                      <a:pt x="2049" y="3774"/>
                    </a:lnTo>
                    <a:lnTo>
                      <a:pt x="2095" y="3787"/>
                    </a:lnTo>
                    <a:lnTo>
                      <a:pt x="2141" y="3798"/>
                    </a:lnTo>
                    <a:lnTo>
                      <a:pt x="2188" y="3810"/>
                    </a:lnTo>
                    <a:lnTo>
                      <a:pt x="2236" y="3820"/>
                    </a:lnTo>
                    <a:lnTo>
                      <a:pt x="2282" y="3831"/>
                    </a:lnTo>
                    <a:lnTo>
                      <a:pt x="2330" y="3840"/>
                    </a:lnTo>
                    <a:lnTo>
                      <a:pt x="2377" y="3849"/>
                    </a:lnTo>
                    <a:lnTo>
                      <a:pt x="2425" y="3857"/>
                    </a:lnTo>
                    <a:lnTo>
                      <a:pt x="2473" y="3864"/>
                    </a:lnTo>
                    <a:lnTo>
                      <a:pt x="2522" y="3871"/>
                    </a:lnTo>
                    <a:lnTo>
                      <a:pt x="2570" y="3877"/>
                    </a:lnTo>
                    <a:lnTo>
                      <a:pt x="2620" y="3882"/>
                    </a:lnTo>
                    <a:lnTo>
                      <a:pt x="2668" y="3887"/>
                    </a:lnTo>
                    <a:lnTo>
                      <a:pt x="2718" y="3891"/>
                    </a:lnTo>
                    <a:lnTo>
                      <a:pt x="2767" y="3894"/>
                    </a:lnTo>
                    <a:lnTo>
                      <a:pt x="2817" y="3896"/>
                    </a:lnTo>
                    <a:lnTo>
                      <a:pt x="2867" y="3897"/>
                    </a:lnTo>
                    <a:lnTo>
                      <a:pt x="2916" y="3899"/>
                    </a:lnTo>
                    <a:lnTo>
                      <a:pt x="2966" y="3900"/>
                    </a:lnTo>
                    <a:lnTo>
                      <a:pt x="3141" y="3895"/>
                    </a:lnTo>
                    <a:lnTo>
                      <a:pt x="3314" y="3881"/>
                    </a:lnTo>
                    <a:lnTo>
                      <a:pt x="3485" y="3861"/>
                    </a:lnTo>
                    <a:lnTo>
                      <a:pt x="3652" y="3831"/>
                    </a:lnTo>
                    <a:lnTo>
                      <a:pt x="3817" y="3793"/>
                    </a:lnTo>
                    <a:lnTo>
                      <a:pt x="3978" y="3746"/>
                    </a:lnTo>
                    <a:lnTo>
                      <a:pt x="4136" y="3693"/>
                    </a:lnTo>
                    <a:lnTo>
                      <a:pt x="4291" y="3632"/>
                    </a:lnTo>
                    <a:lnTo>
                      <a:pt x="4441" y="3564"/>
                    </a:lnTo>
                    <a:lnTo>
                      <a:pt x="4587" y="3489"/>
                    </a:lnTo>
                    <a:lnTo>
                      <a:pt x="4730" y="3408"/>
                    </a:lnTo>
                    <a:lnTo>
                      <a:pt x="4869" y="3319"/>
                    </a:lnTo>
                    <a:lnTo>
                      <a:pt x="5001" y="3224"/>
                    </a:lnTo>
                    <a:lnTo>
                      <a:pt x="5131" y="3123"/>
                    </a:lnTo>
                    <a:lnTo>
                      <a:pt x="5254" y="3016"/>
                    </a:lnTo>
                    <a:lnTo>
                      <a:pt x="5372" y="2904"/>
                    </a:lnTo>
                    <a:lnTo>
                      <a:pt x="5485" y="2785"/>
                    </a:lnTo>
                    <a:lnTo>
                      <a:pt x="5592" y="2662"/>
                    </a:lnTo>
                    <a:lnTo>
                      <a:pt x="5692" y="2534"/>
                    </a:lnTo>
                    <a:lnTo>
                      <a:pt x="5787" y="2400"/>
                    </a:lnTo>
                    <a:lnTo>
                      <a:pt x="5876" y="2262"/>
                    </a:lnTo>
                    <a:lnTo>
                      <a:pt x="5958" y="2120"/>
                    </a:lnTo>
                    <a:lnTo>
                      <a:pt x="6033" y="1973"/>
                    </a:lnTo>
                    <a:lnTo>
                      <a:pt x="6102" y="1822"/>
                    </a:lnTo>
                    <a:lnTo>
                      <a:pt x="6162" y="1668"/>
                    </a:lnTo>
                    <a:lnTo>
                      <a:pt x="6216" y="1510"/>
                    </a:lnTo>
                    <a:lnTo>
                      <a:pt x="6261" y="1349"/>
                    </a:lnTo>
                    <a:lnTo>
                      <a:pt x="6299" y="1184"/>
                    </a:lnTo>
                    <a:lnTo>
                      <a:pt x="6329" y="1017"/>
                    </a:lnTo>
                    <a:lnTo>
                      <a:pt x="6351" y="846"/>
                    </a:lnTo>
                    <a:lnTo>
                      <a:pt x="6364" y="674"/>
                    </a:lnTo>
                    <a:lnTo>
                      <a:pt x="6368" y="499"/>
                    </a:lnTo>
                    <a:close/>
                    <a:moveTo>
                      <a:pt x="0" y="2165"/>
                    </a:moveTo>
                    <a:lnTo>
                      <a:pt x="33" y="2222"/>
                    </a:lnTo>
                    <a:lnTo>
                      <a:pt x="66" y="2278"/>
                    </a:lnTo>
                    <a:lnTo>
                      <a:pt x="101" y="2333"/>
                    </a:lnTo>
                    <a:lnTo>
                      <a:pt x="136" y="2387"/>
                    </a:lnTo>
                    <a:lnTo>
                      <a:pt x="173" y="2442"/>
                    </a:lnTo>
                    <a:lnTo>
                      <a:pt x="211" y="2495"/>
                    </a:lnTo>
                    <a:lnTo>
                      <a:pt x="251" y="2548"/>
                    </a:lnTo>
                    <a:lnTo>
                      <a:pt x="290" y="2598"/>
                    </a:lnTo>
                    <a:lnTo>
                      <a:pt x="330" y="2649"/>
                    </a:lnTo>
                    <a:lnTo>
                      <a:pt x="373" y="2700"/>
                    </a:lnTo>
                    <a:lnTo>
                      <a:pt x="414" y="2748"/>
                    </a:lnTo>
                    <a:lnTo>
                      <a:pt x="458" y="2797"/>
                    </a:lnTo>
                    <a:lnTo>
                      <a:pt x="503" y="2844"/>
                    </a:lnTo>
                    <a:lnTo>
                      <a:pt x="548" y="2891"/>
                    </a:lnTo>
                    <a:lnTo>
                      <a:pt x="594" y="2936"/>
                    </a:lnTo>
                    <a:lnTo>
                      <a:pt x="642" y="2981"/>
                    </a:lnTo>
                    <a:lnTo>
                      <a:pt x="712" y="2981"/>
                    </a:lnTo>
                    <a:lnTo>
                      <a:pt x="826" y="3021"/>
                    </a:lnTo>
                    <a:lnTo>
                      <a:pt x="827" y="3022"/>
                    </a:lnTo>
                    <a:lnTo>
                      <a:pt x="773" y="2975"/>
                    </a:lnTo>
                    <a:lnTo>
                      <a:pt x="720" y="2927"/>
                    </a:lnTo>
                    <a:lnTo>
                      <a:pt x="667" y="2877"/>
                    </a:lnTo>
                    <a:lnTo>
                      <a:pt x="616" y="2827"/>
                    </a:lnTo>
                    <a:lnTo>
                      <a:pt x="565" y="2776"/>
                    </a:lnTo>
                    <a:lnTo>
                      <a:pt x="517" y="2723"/>
                    </a:lnTo>
                    <a:lnTo>
                      <a:pt x="469" y="2669"/>
                    </a:lnTo>
                    <a:lnTo>
                      <a:pt x="422" y="2614"/>
                    </a:lnTo>
                    <a:lnTo>
                      <a:pt x="376" y="2558"/>
                    </a:lnTo>
                    <a:lnTo>
                      <a:pt x="332" y="2501"/>
                    </a:lnTo>
                    <a:lnTo>
                      <a:pt x="290" y="2444"/>
                    </a:lnTo>
                    <a:lnTo>
                      <a:pt x="247" y="2385"/>
                    </a:lnTo>
                    <a:lnTo>
                      <a:pt x="207" y="2325"/>
                    </a:lnTo>
                    <a:lnTo>
                      <a:pt x="168" y="2264"/>
                    </a:lnTo>
                    <a:lnTo>
                      <a:pt x="129" y="2203"/>
                    </a:lnTo>
                    <a:lnTo>
                      <a:pt x="93" y="2141"/>
                    </a:lnTo>
                    <a:lnTo>
                      <a:pt x="0" y="2165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70200" y="4146480"/>
                <a:ext cx="1660680" cy="1013040"/>
              </a:xfrm>
              <a:custGeom>
                <a:avLst/>
                <a:gdLst/>
                <a:ahLst/>
                <a:rect l="l" t="t" r="r" b="b"/>
                <a:pathLst>
                  <a:path w="6276" h="3829">
                    <a:moveTo>
                      <a:pt x="6276" y="476"/>
                    </a:moveTo>
                    <a:lnTo>
                      <a:pt x="6275" y="415"/>
                    </a:lnTo>
                    <a:lnTo>
                      <a:pt x="6274" y="355"/>
                    </a:lnTo>
                    <a:lnTo>
                      <a:pt x="6272" y="295"/>
                    </a:lnTo>
                    <a:lnTo>
                      <a:pt x="6268" y="235"/>
                    </a:lnTo>
                    <a:lnTo>
                      <a:pt x="6262" y="176"/>
                    </a:lnTo>
                    <a:lnTo>
                      <a:pt x="6257" y="118"/>
                    </a:lnTo>
                    <a:lnTo>
                      <a:pt x="6251" y="59"/>
                    </a:lnTo>
                    <a:lnTo>
                      <a:pt x="6243" y="0"/>
                    </a:lnTo>
                    <a:lnTo>
                      <a:pt x="6218" y="13"/>
                    </a:lnTo>
                    <a:lnTo>
                      <a:pt x="6150" y="13"/>
                    </a:lnTo>
                    <a:lnTo>
                      <a:pt x="6157" y="70"/>
                    </a:lnTo>
                    <a:lnTo>
                      <a:pt x="6164" y="127"/>
                    </a:lnTo>
                    <a:lnTo>
                      <a:pt x="6170" y="184"/>
                    </a:lnTo>
                    <a:lnTo>
                      <a:pt x="6175" y="242"/>
                    </a:lnTo>
                    <a:lnTo>
                      <a:pt x="6178" y="300"/>
                    </a:lnTo>
                    <a:lnTo>
                      <a:pt x="6180" y="359"/>
                    </a:lnTo>
                    <a:lnTo>
                      <a:pt x="6183" y="417"/>
                    </a:lnTo>
                    <a:lnTo>
                      <a:pt x="6183" y="476"/>
                    </a:lnTo>
                    <a:lnTo>
                      <a:pt x="6178" y="643"/>
                    </a:lnTo>
                    <a:lnTo>
                      <a:pt x="6167" y="809"/>
                    </a:lnTo>
                    <a:lnTo>
                      <a:pt x="6145" y="973"/>
                    </a:lnTo>
                    <a:lnTo>
                      <a:pt x="6117" y="1133"/>
                    </a:lnTo>
                    <a:lnTo>
                      <a:pt x="6080" y="1291"/>
                    </a:lnTo>
                    <a:lnTo>
                      <a:pt x="6036" y="1446"/>
                    </a:lnTo>
                    <a:lnTo>
                      <a:pt x="5984" y="1597"/>
                    </a:lnTo>
                    <a:lnTo>
                      <a:pt x="5927" y="1745"/>
                    </a:lnTo>
                    <a:lnTo>
                      <a:pt x="5861" y="1889"/>
                    </a:lnTo>
                    <a:lnTo>
                      <a:pt x="5789" y="2030"/>
                    </a:lnTo>
                    <a:lnTo>
                      <a:pt x="5710" y="2167"/>
                    </a:lnTo>
                    <a:lnTo>
                      <a:pt x="5626" y="2299"/>
                    </a:lnTo>
                    <a:lnTo>
                      <a:pt x="5534" y="2427"/>
                    </a:lnTo>
                    <a:lnTo>
                      <a:pt x="5438" y="2550"/>
                    </a:lnTo>
                    <a:lnTo>
                      <a:pt x="5335" y="2669"/>
                    </a:lnTo>
                    <a:lnTo>
                      <a:pt x="5228" y="2782"/>
                    </a:lnTo>
                    <a:lnTo>
                      <a:pt x="5113" y="2890"/>
                    </a:lnTo>
                    <a:lnTo>
                      <a:pt x="4996" y="2993"/>
                    </a:lnTo>
                    <a:lnTo>
                      <a:pt x="4872" y="3089"/>
                    </a:lnTo>
                    <a:lnTo>
                      <a:pt x="4744" y="3179"/>
                    </a:lnTo>
                    <a:lnTo>
                      <a:pt x="4612" y="3265"/>
                    </a:lnTo>
                    <a:lnTo>
                      <a:pt x="4476" y="3343"/>
                    </a:lnTo>
                    <a:lnTo>
                      <a:pt x="4335" y="3416"/>
                    </a:lnTo>
                    <a:lnTo>
                      <a:pt x="4190" y="3480"/>
                    </a:lnTo>
                    <a:lnTo>
                      <a:pt x="4042" y="3539"/>
                    </a:lnTo>
                    <a:lnTo>
                      <a:pt x="3890" y="3590"/>
                    </a:lnTo>
                    <a:lnTo>
                      <a:pt x="3735" y="3635"/>
                    </a:lnTo>
                    <a:lnTo>
                      <a:pt x="3577" y="3670"/>
                    </a:lnTo>
                    <a:lnTo>
                      <a:pt x="3417" y="3699"/>
                    </a:lnTo>
                    <a:lnTo>
                      <a:pt x="3254" y="3720"/>
                    </a:lnTo>
                    <a:lnTo>
                      <a:pt x="3088" y="3733"/>
                    </a:lnTo>
                    <a:lnTo>
                      <a:pt x="2920" y="3736"/>
                    </a:lnTo>
                    <a:lnTo>
                      <a:pt x="2860" y="3736"/>
                    </a:lnTo>
                    <a:lnTo>
                      <a:pt x="2799" y="3735"/>
                    </a:lnTo>
                    <a:lnTo>
                      <a:pt x="2739" y="3731"/>
                    </a:lnTo>
                    <a:lnTo>
                      <a:pt x="2677" y="3728"/>
                    </a:lnTo>
                    <a:lnTo>
                      <a:pt x="2619" y="3723"/>
                    </a:lnTo>
                    <a:lnTo>
                      <a:pt x="2559" y="3716"/>
                    </a:lnTo>
                    <a:lnTo>
                      <a:pt x="2500" y="3710"/>
                    </a:lnTo>
                    <a:lnTo>
                      <a:pt x="2441" y="3702"/>
                    </a:lnTo>
                    <a:lnTo>
                      <a:pt x="2382" y="3692"/>
                    </a:lnTo>
                    <a:lnTo>
                      <a:pt x="2325" y="3682"/>
                    </a:lnTo>
                    <a:lnTo>
                      <a:pt x="2266" y="3672"/>
                    </a:lnTo>
                    <a:lnTo>
                      <a:pt x="2209" y="3659"/>
                    </a:lnTo>
                    <a:lnTo>
                      <a:pt x="2152" y="3646"/>
                    </a:lnTo>
                    <a:lnTo>
                      <a:pt x="2095" y="3631"/>
                    </a:lnTo>
                    <a:lnTo>
                      <a:pt x="2038" y="3616"/>
                    </a:lnTo>
                    <a:lnTo>
                      <a:pt x="1983" y="3600"/>
                    </a:lnTo>
                    <a:lnTo>
                      <a:pt x="1928" y="3583"/>
                    </a:lnTo>
                    <a:lnTo>
                      <a:pt x="1872" y="3564"/>
                    </a:lnTo>
                    <a:lnTo>
                      <a:pt x="1818" y="3546"/>
                    </a:lnTo>
                    <a:lnTo>
                      <a:pt x="1764" y="3526"/>
                    </a:lnTo>
                    <a:lnTo>
                      <a:pt x="1710" y="3506"/>
                    </a:lnTo>
                    <a:lnTo>
                      <a:pt x="1657" y="3484"/>
                    </a:lnTo>
                    <a:lnTo>
                      <a:pt x="1604" y="3461"/>
                    </a:lnTo>
                    <a:lnTo>
                      <a:pt x="1552" y="3436"/>
                    </a:lnTo>
                    <a:lnTo>
                      <a:pt x="1500" y="3412"/>
                    </a:lnTo>
                    <a:lnTo>
                      <a:pt x="1449" y="3387"/>
                    </a:lnTo>
                    <a:lnTo>
                      <a:pt x="1398" y="3360"/>
                    </a:lnTo>
                    <a:lnTo>
                      <a:pt x="1348" y="3334"/>
                    </a:lnTo>
                    <a:lnTo>
                      <a:pt x="1298" y="3306"/>
                    </a:lnTo>
                    <a:lnTo>
                      <a:pt x="1248" y="3277"/>
                    </a:lnTo>
                    <a:lnTo>
                      <a:pt x="1200" y="3247"/>
                    </a:lnTo>
                    <a:lnTo>
                      <a:pt x="1153" y="3216"/>
                    </a:lnTo>
                    <a:lnTo>
                      <a:pt x="1203" y="3267"/>
                    </a:lnTo>
                    <a:lnTo>
                      <a:pt x="1276" y="3341"/>
                    </a:lnTo>
                    <a:lnTo>
                      <a:pt x="1338" y="3434"/>
                    </a:lnTo>
                    <a:lnTo>
                      <a:pt x="1382" y="3457"/>
                    </a:lnTo>
                    <a:lnTo>
                      <a:pt x="1427" y="3480"/>
                    </a:lnTo>
                    <a:lnTo>
                      <a:pt x="1472" y="3502"/>
                    </a:lnTo>
                    <a:lnTo>
                      <a:pt x="1517" y="3524"/>
                    </a:lnTo>
                    <a:lnTo>
                      <a:pt x="1563" y="3545"/>
                    </a:lnTo>
                    <a:lnTo>
                      <a:pt x="1609" y="3564"/>
                    </a:lnTo>
                    <a:lnTo>
                      <a:pt x="1657" y="3584"/>
                    </a:lnTo>
                    <a:lnTo>
                      <a:pt x="1704" y="3602"/>
                    </a:lnTo>
                    <a:lnTo>
                      <a:pt x="1750" y="3621"/>
                    </a:lnTo>
                    <a:lnTo>
                      <a:pt x="1799" y="3638"/>
                    </a:lnTo>
                    <a:lnTo>
                      <a:pt x="1846" y="3654"/>
                    </a:lnTo>
                    <a:lnTo>
                      <a:pt x="1894" y="3670"/>
                    </a:lnTo>
                    <a:lnTo>
                      <a:pt x="1943" y="3685"/>
                    </a:lnTo>
                    <a:lnTo>
                      <a:pt x="1992" y="3700"/>
                    </a:lnTo>
                    <a:lnTo>
                      <a:pt x="2042" y="3714"/>
                    </a:lnTo>
                    <a:lnTo>
                      <a:pt x="2092" y="3727"/>
                    </a:lnTo>
                    <a:lnTo>
                      <a:pt x="2141" y="3738"/>
                    </a:lnTo>
                    <a:lnTo>
                      <a:pt x="2191" y="3750"/>
                    </a:lnTo>
                    <a:lnTo>
                      <a:pt x="2241" y="3761"/>
                    </a:lnTo>
                    <a:lnTo>
                      <a:pt x="2292" y="3771"/>
                    </a:lnTo>
                    <a:lnTo>
                      <a:pt x="2343" y="3781"/>
                    </a:lnTo>
                    <a:lnTo>
                      <a:pt x="2395" y="3789"/>
                    </a:lnTo>
                    <a:lnTo>
                      <a:pt x="2446" y="3797"/>
                    </a:lnTo>
                    <a:lnTo>
                      <a:pt x="2498" y="3803"/>
                    </a:lnTo>
                    <a:lnTo>
                      <a:pt x="2549" y="3810"/>
                    </a:lnTo>
                    <a:lnTo>
                      <a:pt x="2603" y="3814"/>
                    </a:lnTo>
                    <a:lnTo>
                      <a:pt x="2654" y="3819"/>
                    </a:lnTo>
                    <a:lnTo>
                      <a:pt x="2707" y="3824"/>
                    </a:lnTo>
                    <a:lnTo>
                      <a:pt x="2761" y="3826"/>
                    </a:lnTo>
                    <a:lnTo>
                      <a:pt x="2814" y="3828"/>
                    </a:lnTo>
                    <a:lnTo>
                      <a:pt x="2867" y="3829"/>
                    </a:lnTo>
                    <a:lnTo>
                      <a:pt x="2920" y="3829"/>
                    </a:lnTo>
                    <a:lnTo>
                      <a:pt x="3093" y="3826"/>
                    </a:lnTo>
                    <a:lnTo>
                      <a:pt x="3263" y="3812"/>
                    </a:lnTo>
                    <a:lnTo>
                      <a:pt x="3431" y="3791"/>
                    </a:lnTo>
                    <a:lnTo>
                      <a:pt x="3597" y="3761"/>
                    </a:lnTo>
                    <a:lnTo>
                      <a:pt x="3758" y="3725"/>
                    </a:lnTo>
                    <a:lnTo>
                      <a:pt x="3919" y="3680"/>
                    </a:lnTo>
                    <a:lnTo>
                      <a:pt x="4074" y="3627"/>
                    </a:lnTo>
                    <a:lnTo>
                      <a:pt x="4227" y="3567"/>
                    </a:lnTo>
                    <a:lnTo>
                      <a:pt x="4375" y="3499"/>
                    </a:lnTo>
                    <a:lnTo>
                      <a:pt x="4519" y="3425"/>
                    </a:lnTo>
                    <a:lnTo>
                      <a:pt x="4660" y="3344"/>
                    </a:lnTo>
                    <a:lnTo>
                      <a:pt x="4796" y="3257"/>
                    </a:lnTo>
                    <a:lnTo>
                      <a:pt x="4928" y="3163"/>
                    </a:lnTo>
                    <a:lnTo>
                      <a:pt x="5055" y="3064"/>
                    </a:lnTo>
                    <a:lnTo>
                      <a:pt x="5177" y="2958"/>
                    </a:lnTo>
                    <a:lnTo>
                      <a:pt x="5293" y="2847"/>
                    </a:lnTo>
                    <a:lnTo>
                      <a:pt x="5404" y="2731"/>
                    </a:lnTo>
                    <a:lnTo>
                      <a:pt x="5509" y="2609"/>
                    </a:lnTo>
                    <a:lnTo>
                      <a:pt x="5609" y="2483"/>
                    </a:lnTo>
                    <a:lnTo>
                      <a:pt x="5703" y="2352"/>
                    </a:lnTo>
                    <a:lnTo>
                      <a:pt x="5791" y="2214"/>
                    </a:lnTo>
                    <a:lnTo>
                      <a:pt x="5871" y="2075"/>
                    </a:lnTo>
                    <a:lnTo>
                      <a:pt x="5945" y="1930"/>
                    </a:lnTo>
                    <a:lnTo>
                      <a:pt x="6012" y="1781"/>
                    </a:lnTo>
                    <a:lnTo>
                      <a:pt x="6072" y="1629"/>
                    </a:lnTo>
                    <a:lnTo>
                      <a:pt x="6125" y="1473"/>
                    </a:lnTo>
                    <a:lnTo>
                      <a:pt x="6170" y="1314"/>
                    </a:lnTo>
                    <a:lnTo>
                      <a:pt x="6208" y="1152"/>
                    </a:lnTo>
                    <a:lnTo>
                      <a:pt x="6237" y="987"/>
                    </a:lnTo>
                    <a:lnTo>
                      <a:pt x="6259" y="818"/>
                    </a:lnTo>
                    <a:lnTo>
                      <a:pt x="6272" y="649"/>
                    </a:lnTo>
                    <a:lnTo>
                      <a:pt x="6276" y="476"/>
                    </a:lnTo>
                    <a:close/>
                    <a:moveTo>
                      <a:pt x="0" y="2130"/>
                    </a:moveTo>
                    <a:lnTo>
                      <a:pt x="34" y="2188"/>
                    </a:lnTo>
                    <a:lnTo>
                      <a:pt x="68" y="2244"/>
                    </a:lnTo>
                    <a:lnTo>
                      <a:pt x="104" y="2301"/>
                    </a:lnTo>
                    <a:lnTo>
                      <a:pt x="141" y="2357"/>
                    </a:lnTo>
                    <a:lnTo>
                      <a:pt x="179" y="2412"/>
                    </a:lnTo>
                    <a:lnTo>
                      <a:pt x="218" y="2466"/>
                    </a:lnTo>
                    <a:lnTo>
                      <a:pt x="259" y="2519"/>
                    </a:lnTo>
                    <a:lnTo>
                      <a:pt x="300" y="2571"/>
                    </a:lnTo>
                    <a:lnTo>
                      <a:pt x="342" y="2623"/>
                    </a:lnTo>
                    <a:lnTo>
                      <a:pt x="385" y="2673"/>
                    </a:lnTo>
                    <a:lnTo>
                      <a:pt x="429" y="2723"/>
                    </a:lnTo>
                    <a:lnTo>
                      <a:pt x="474" y="2772"/>
                    </a:lnTo>
                    <a:lnTo>
                      <a:pt x="521" y="2820"/>
                    </a:lnTo>
                    <a:lnTo>
                      <a:pt x="567" y="2867"/>
                    </a:lnTo>
                    <a:lnTo>
                      <a:pt x="615" y="2913"/>
                    </a:lnTo>
                    <a:lnTo>
                      <a:pt x="664" y="2958"/>
                    </a:lnTo>
                    <a:lnTo>
                      <a:pt x="666" y="2958"/>
                    </a:lnTo>
                    <a:lnTo>
                      <a:pt x="780" y="2998"/>
                    </a:lnTo>
                    <a:lnTo>
                      <a:pt x="894" y="3035"/>
                    </a:lnTo>
                    <a:lnTo>
                      <a:pt x="909" y="3043"/>
                    </a:lnTo>
                    <a:lnTo>
                      <a:pt x="849" y="2995"/>
                    </a:lnTo>
                    <a:lnTo>
                      <a:pt x="791" y="2945"/>
                    </a:lnTo>
                    <a:lnTo>
                      <a:pt x="732" y="2895"/>
                    </a:lnTo>
                    <a:lnTo>
                      <a:pt x="675" y="2842"/>
                    </a:lnTo>
                    <a:lnTo>
                      <a:pt x="620" y="2789"/>
                    </a:lnTo>
                    <a:lnTo>
                      <a:pt x="566" y="2733"/>
                    </a:lnTo>
                    <a:lnTo>
                      <a:pt x="513" y="2677"/>
                    </a:lnTo>
                    <a:lnTo>
                      <a:pt x="462" y="2619"/>
                    </a:lnTo>
                    <a:lnTo>
                      <a:pt x="411" y="2560"/>
                    </a:lnTo>
                    <a:lnTo>
                      <a:pt x="363" y="2500"/>
                    </a:lnTo>
                    <a:lnTo>
                      <a:pt x="315" y="2439"/>
                    </a:lnTo>
                    <a:lnTo>
                      <a:pt x="269" y="2377"/>
                    </a:lnTo>
                    <a:lnTo>
                      <a:pt x="224" y="2314"/>
                    </a:lnTo>
                    <a:lnTo>
                      <a:pt x="182" y="2249"/>
                    </a:lnTo>
                    <a:lnTo>
                      <a:pt x="140" y="2183"/>
                    </a:lnTo>
                    <a:lnTo>
                      <a:pt x="101" y="2116"/>
                    </a:lnTo>
                    <a:lnTo>
                      <a:pt x="51" y="2116"/>
                    </a:lnTo>
                    <a:lnTo>
                      <a:pt x="0" y="2130"/>
                    </a:lnTo>
                    <a:close/>
                    <a:moveTo>
                      <a:pt x="1037" y="3139"/>
                    </a:moveTo>
                    <a:lnTo>
                      <a:pt x="1049" y="3149"/>
                    </a:lnTo>
                    <a:lnTo>
                      <a:pt x="1066" y="3159"/>
                    </a:lnTo>
                    <a:lnTo>
                      <a:pt x="1062" y="3156"/>
                    </a:lnTo>
                    <a:lnTo>
                      <a:pt x="1058" y="3154"/>
                    </a:lnTo>
                    <a:lnTo>
                      <a:pt x="1055" y="3152"/>
                    </a:lnTo>
                    <a:lnTo>
                      <a:pt x="1051" y="3149"/>
                    </a:lnTo>
                    <a:lnTo>
                      <a:pt x="1048" y="3146"/>
                    </a:lnTo>
                    <a:lnTo>
                      <a:pt x="1044" y="3144"/>
                    </a:lnTo>
                    <a:lnTo>
                      <a:pt x="1041" y="3141"/>
                    </a:lnTo>
                    <a:lnTo>
                      <a:pt x="1037" y="313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82800" y="4149720"/>
                <a:ext cx="1635120" cy="996840"/>
              </a:xfrm>
              <a:custGeom>
                <a:avLst/>
                <a:gdLst/>
                <a:ahLst/>
                <a:rect l="l" t="t" r="r" b="b"/>
                <a:pathLst>
                  <a:path w="6183" h="3770">
                    <a:moveTo>
                      <a:pt x="6183" y="463"/>
                    </a:moveTo>
                    <a:lnTo>
                      <a:pt x="6182" y="404"/>
                    </a:lnTo>
                    <a:lnTo>
                      <a:pt x="6181" y="346"/>
                    </a:lnTo>
                    <a:lnTo>
                      <a:pt x="6178" y="287"/>
                    </a:lnTo>
                    <a:lnTo>
                      <a:pt x="6174" y="229"/>
                    </a:lnTo>
                    <a:lnTo>
                      <a:pt x="6169" y="171"/>
                    </a:lnTo>
                    <a:lnTo>
                      <a:pt x="6165" y="114"/>
                    </a:lnTo>
                    <a:lnTo>
                      <a:pt x="6158" y="57"/>
                    </a:lnTo>
                    <a:lnTo>
                      <a:pt x="6151" y="0"/>
                    </a:lnTo>
                    <a:lnTo>
                      <a:pt x="6094" y="0"/>
                    </a:lnTo>
                    <a:lnTo>
                      <a:pt x="6058" y="17"/>
                    </a:lnTo>
                    <a:lnTo>
                      <a:pt x="6065" y="72"/>
                    </a:lnTo>
                    <a:lnTo>
                      <a:pt x="6072" y="128"/>
                    </a:lnTo>
                    <a:lnTo>
                      <a:pt x="6077" y="183"/>
                    </a:lnTo>
                    <a:lnTo>
                      <a:pt x="6081" y="238"/>
                    </a:lnTo>
                    <a:lnTo>
                      <a:pt x="6085" y="294"/>
                    </a:lnTo>
                    <a:lnTo>
                      <a:pt x="6087" y="350"/>
                    </a:lnTo>
                    <a:lnTo>
                      <a:pt x="6088" y="407"/>
                    </a:lnTo>
                    <a:lnTo>
                      <a:pt x="6090" y="463"/>
                    </a:lnTo>
                    <a:lnTo>
                      <a:pt x="6085" y="628"/>
                    </a:lnTo>
                    <a:lnTo>
                      <a:pt x="6072" y="792"/>
                    </a:lnTo>
                    <a:lnTo>
                      <a:pt x="6053" y="952"/>
                    </a:lnTo>
                    <a:lnTo>
                      <a:pt x="6024" y="1111"/>
                    </a:lnTo>
                    <a:lnTo>
                      <a:pt x="5988" y="1267"/>
                    </a:lnTo>
                    <a:lnTo>
                      <a:pt x="5944" y="1419"/>
                    </a:lnTo>
                    <a:lnTo>
                      <a:pt x="5893" y="1569"/>
                    </a:lnTo>
                    <a:lnTo>
                      <a:pt x="5837" y="1714"/>
                    </a:lnTo>
                    <a:lnTo>
                      <a:pt x="5772" y="1857"/>
                    </a:lnTo>
                    <a:lnTo>
                      <a:pt x="5701" y="1995"/>
                    </a:lnTo>
                    <a:lnTo>
                      <a:pt x="5624" y="2130"/>
                    </a:lnTo>
                    <a:lnTo>
                      <a:pt x="5539" y="2260"/>
                    </a:lnTo>
                    <a:lnTo>
                      <a:pt x="5451" y="2386"/>
                    </a:lnTo>
                    <a:lnTo>
                      <a:pt x="5355" y="2507"/>
                    </a:lnTo>
                    <a:lnTo>
                      <a:pt x="5253" y="2625"/>
                    </a:lnTo>
                    <a:lnTo>
                      <a:pt x="5147" y="2735"/>
                    </a:lnTo>
                    <a:lnTo>
                      <a:pt x="5035" y="2842"/>
                    </a:lnTo>
                    <a:lnTo>
                      <a:pt x="4919" y="2943"/>
                    </a:lnTo>
                    <a:lnTo>
                      <a:pt x="4798" y="3038"/>
                    </a:lnTo>
                    <a:lnTo>
                      <a:pt x="4671" y="3128"/>
                    </a:lnTo>
                    <a:lnTo>
                      <a:pt x="4541" y="3211"/>
                    </a:lnTo>
                    <a:lnTo>
                      <a:pt x="4406" y="3290"/>
                    </a:lnTo>
                    <a:lnTo>
                      <a:pt x="4267" y="3360"/>
                    </a:lnTo>
                    <a:lnTo>
                      <a:pt x="4125" y="3425"/>
                    </a:lnTo>
                    <a:lnTo>
                      <a:pt x="3979" y="3482"/>
                    </a:lnTo>
                    <a:lnTo>
                      <a:pt x="3829" y="3533"/>
                    </a:lnTo>
                    <a:lnTo>
                      <a:pt x="3677" y="3576"/>
                    </a:lnTo>
                    <a:lnTo>
                      <a:pt x="3521" y="3611"/>
                    </a:lnTo>
                    <a:lnTo>
                      <a:pt x="3363" y="3640"/>
                    </a:lnTo>
                    <a:lnTo>
                      <a:pt x="3201" y="3661"/>
                    </a:lnTo>
                    <a:lnTo>
                      <a:pt x="3039" y="3672"/>
                    </a:lnTo>
                    <a:lnTo>
                      <a:pt x="2873" y="3677"/>
                    </a:lnTo>
                    <a:lnTo>
                      <a:pt x="2763" y="3675"/>
                    </a:lnTo>
                    <a:lnTo>
                      <a:pt x="2655" y="3670"/>
                    </a:lnTo>
                    <a:lnTo>
                      <a:pt x="2546" y="3661"/>
                    </a:lnTo>
                    <a:lnTo>
                      <a:pt x="2439" y="3648"/>
                    </a:lnTo>
                    <a:lnTo>
                      <a:pt x="2334" y="3632"/>
                    </a:lnTo>
                    <a:lnTo>
                      <a:pt x="2229" y="3612"/>
                    </a:lnTo>
                    <a:lnTo>
                      <a:pt x="2125" y="3589"/>
                    </a:lnTo>
                    <a:lnTo>
                      <a:pt x="2024" y="3564"/>
                    </a:lnTo>
                    <a:lnTo>
                      <a:pt x="1922" y="3534"/>
                    </a:lnTo>
                    <a:lnTo>
                      <a:pt x="1823" y="3502"/>
                    </a:lnTo>
                    <a:lnTo>
                      <a:pt x="1725" y="3466"/>
                    </a:lnTo>
                    <a:lnTo>
                      <a:pt x="1629" y="3428"/>
                    </a:lnTo>
                    <a:lnTo>
                      <a:pt x="1534" y="3386"/>
                    </a:lnTo>
                    <a:lnTo>
                      <a:pt x="1441" y="3342"/>
                    </a:lnTo>
                    <a:lnTo>
                      <a:pt x="1349" y="3294"/>
                    </a:lnTo>
                    <a:lnTo>
                      <a:pt x="1259" y="3244"/>
                    </a:lnTo>
                    <a:lnTo>
                      <a:pt x="1171" y="3191"/>
                    </a:lnTo>
                    <a:lnTo>
                      <a:pt x="1085" y="3135"/>
                    </a:lnTo>
                    <a:lnTo>
                      <a:pt x="1001" y="3076"/>
                    </a:lnTo>
                    <a:lnTo>
                      <a:pt x="919" y="3015"/>
                    </a:lnTo>
                    <a:lnTo>
                      <a:pt x="838" y="2952"/>
                    </a:lnTo>
                    <a:lnTo>
                      <a:pt x="761" y="2886"/>
                    </a:lnTo>
                    <a:lnTo>
                      <a:pt x="685" y="2817"/>
                    </a:lnTo>
                    <a:lnTo>
                      <a:pt x="611" y="2747"/>
                    </a:lnTo>
                    <a:lnTo>
                      <a:pt x="539" y="2674"/>
                    </a:lnTo>
                    <a:lnTo>
                      <a:pt x="470" y="2598"/>
                    </a:lnTo>
                    <a:lnTo>
                      <a:pt x="403" y="2521"/>
                    </a:lnTo>
                    <a:lnTo>
                      <a:pt x="339" y="2441"/>
                    </a:lnTo>
                    <a:lnTo>
                      <a:pt x="278" y="2359"/>
                    </a:lnTo>
                    <a:lnTo>
                      <a:pt x="218" y="2276"/>
                    </a:lnTo>
                    <a:lnTo>
                      <a:pt x="161" y="2191"/>
                    </a:lnTo>
                    <a:lnTo>
                      <a:pt x="108" y="2103"/>
                    </a:lnTo>
                    <a:lnTo>
                      <a:pt x="4" y="2103"/>
                    </a:lnTo>
                    <a:lnTo>
                      <a:pt x="0" y="2105"/>
                    </a:lnTo>
                    <a:lnTo>
                      <a:pt x="36" y="2167"/>
                    </a:lnTo>
                    <a:lnTo>
                      <a:pt x="75" y="2228"/>
                    </a:lnTo>
                    <a:lnTo>
                      <a:pt x="114" y="2289"/>
                    </a:lnTo>
                    <a:lnTo>
                      <a:pt x="154" y="2349"/>
                    </a:lnTo>
                    <a:lnTo>
                      <a:pt x="197" y="2408"/>
                    </a:lnTo>
                    <a:lnTo>
                      <a:pt x="239" y="2465"/>
                    </a:lnTo>
                    <a:lnTo>
                      <a:pt x="283" y="2522"/>
                    </a:lnTo>
                    <a:lnTo>
                      <a:pt x="329" y="2578"/>
                    </a:lnTo>
                    <a:lnTo>
                      <a:pt x="376" y="2633"/>
                    </a:lnTo>
                    <a:lnTo>
                      <a:pt x="424" y="2687"/>
                    </a:lnTo>
                    <a:lnTo>
                      <a:pt x="472" y="2740"/>
                    </a:lnTo>
                    <a:lnTo>
                      <a:pt x="523" y="2791"/>
                    </a:lnTo>
                    <a:lnTo>
                      <a:pt x="574" y="2841"/>
                    </a:lnTo>
                    <a:lnTo>
                      <a:pt x="627" y="2891"/>
                    </a:lnTo>
                    <a:lnTo>
                      <a:pt x="680" y="2939"/>
                    </a:lnTo>
                    <a:lnTo>
                      <a:pt x="734" y="2986"/>
                    </a:lnTo>
                    <a:lnTo>
                      <a:pt x="847" y="3022"/>
                    </a:lnTo>
                    <a:lnTo>
                      <a:pt x="925" y="3063"/>
                    </a:lnTo>
                    <a:lnTo>
                      <a:pt x="1002" y="3136"/>
                    </a:lnTo>
                    <a:lnTo>
                      <a:pt x="1079" y="3177"/>
                    </a:lnTo>
                    <a:lnTo>
                      <a:pt x="1156" y="3254"/>
                    </a:lnTo>
                    <a:lnTo>
                      <a:pt x="1229" y="3328"/>
                    </a:lnTo>
                    <a:lnTo>
                      <a:pt x="1236" y="3337"/>
                    </a:lnTo>
                    <a:lnTo>
                      <a:pt x="1281" y="3363"/>
                    </a:lnTo>
                    <a:lnTo>
                      <a:pt x="1327" y="3388"/>
                    </a:lnTo>
                    <a:lnTo>
                      <a:pt x="1373" y="3412"/>
                    </a:lnTo>
                    <a:lnTo>
                      <a:pt x="1421" y="3435"/>
                    </a:lnTo>
                    <a:lnTo>
                      <a:pt x="1468" y="3458"/>
                    </a:lnTo>
                    <a:lnTo>
                      <a:pt x="1515" y="3480"/>
                    </a:lnTo>
                    <a:lnTo>
                      <a:pt x="1564" y="3501"/>
                    </a:lnTo>
                    <a:lnTo>
                      <a:pt x="1612" y="3521"/>
                    </a:lnTo>
                    <a:lnTo>
                      <a:pt x="1660" y="3541"/>
                    </a:lnTo>
                    <a:lnTo>
                      <a:pt x="1710" y="3561"/>
                    </a:lnTo>
                    <a:lnTo>
                      <a:pt x="1759" y="3578"/>
                    </a:lnTo>
                    <a:lnTo>
                      <a:pt x="1809" y="3595"/>
                    </a:lnTo>
                    <a:lnTo>
                      <a:pt x="1859" y="3612"/>
                    </a:lnTo>
                    <a:lnTo>
                      <a:pt x="1910" y="3627"/>
                    </a:lnTo>
                    <a:lnTo>
                      <a:pt x="1960" y="3644"/>
                    </a:lnTo>
                    <a:lnTo>
                      <a:pt x="2012" y="3657"/>
                    </a:lnTo>
                    <a:lnTo>
                      <a:pt x="2064" y="3671"/>
                    </a:lnTo>
                    <a:lnTo>
                      <a:pt x="2116" y="3683"/>
                    </a:lnTo>
                    <a:lnTo>
                      <a:pt x="2168" y="3695"/>
                    </a:lnTo>
                    <a:lnTo>
                      <a:pt x="2221" y="3706"/>
                    </a:lnTo>
                    <a:lnTo>
                      <a:pt x="2273" y="3716"/>
                    </a:lnTo>
                    <a:lnTo>
                      <a:pt x="2327" y="3725"/>
                    </a:lnTo>
                    <a:lnTo>
                      <a:pt x="2380" y="3733"/>
                    </a:lnTo>
                    <a:lnTo>
                      <a:pt x="2434" y="3742"/>
                    </a:lnTo>
                    <a:lnTo>
                      <a:pt x="2487" y="3748"/>
                    </a:lnTo>
                    <a:lnTo>
                      <a:pt x="2542" y="3754"/>
                    </a:lnTo>
                    <a:lnTo>
                      <a:pt x="2597" y="3759"/>
                    </a:lnTo>
                    <a:lnTo>
                      <a:pt x="2651" y="3763"/>
                    </a:lnTo>
                    <a:lnTo>
                      <a:pt x="2707" y="3766"/>
                    </a:lnTo>
                    <a:lnTo>
                      <a:pt x="2762" y="3768"/>
                    </a:lnTo>
                    <a:lnTo>
                      <a:pt x="2817" y="3769"/>
                    </a:lnTo>
                    <a:lnTo>
                      <a:pt x="2873" y="3770"/>
                    </a:lnTo>
                    <a:lnTo>
                      <a:pt x="3043" y="3766"/>
                    </a:lnTo>
                    <a:lnTo>
                      <a:pt x="3212" y="3753"/>
                    </a:lnTo>
                    <a:lnTo>
                      <a:pt x="3377" y="3732"/>
                    </a:lnTo>
                    <a:lnTo>
                      <a:pt x="3541" y="3703"/>
                    </a:lnTo>
                    <a:lnTo>
                      <a:pt x="3700" y="3667"/>
                    </a:lnTo>
                    <a:lnTo>
                      <a:pt x="3857" y="3622"/>
                    </a:lnTo>
                    <a:lnTo>
                      <a:pt x="4011" y="3570"/>
                    </a:lnTo>
                    <a:lnTo>
                      <a:pt x="4161" y="3510"/>
                    </a:lnTo>
                    <a:lnTo>
                      <a:pt x="4308" y="3444"/>
                    </a:lnTo>
                    <a:lnTo>
                      <a:pt x="4451" y="3372"/>
                    </a:lnTo>
                    <a:lnTo>
                      <a:pt x="4589" y="3292"/>
                    </a:lnTo>
                    <a:lnTo>
                      <a:pt x="4723" y="3206"/>
                    </a:lnTo>
                    <a:lnTo>
                      <a:pt x="4853" y="3113"/>
                    </a:lnTo>
                    <a:lnTo>
                      <a:pt x="4978" y="3015"/>
                    </a:lnTo>
                    <a:lnTo>
                      <a:pt x="5098" y="2912"/>
                    </a:lnTo>
                    <a:lnTo>
                      <a:pt x="5213" y="2801"/>
                    </a:lnTo>
                    <a:lnTo>
                      <a:pt x="5323" y="2687"/>
                    </a:lnTo>
                    <a:lnTo>
                      <a:pt x="5426" y="2567"/>
                    </a:lnTo>
                    <a:lnTo>
                      <a:pt x="5524" y="2441"/>
                    </a:lnTo>
                    <a:lnTo>
                      <a:pt x="5617" y="2312"/>
                    </a:lnTo>
                    <a:lnTo>
                      <a:pt x="5703" y="2178"/>
                    </a:lnTo>
                    <a:lnTo>
                      <a:pt x="5783" y="2039"/>
                    </a:lnTo>
                    <a:lnTo>
                      <a:pt x="5857" y="1897"/>
                    </a:lnTo>
                    <a:lnTo>
                      <a:pt x="5922" y="1751"/>
                    </a:lnTo>
                    <a:lnTo>
                      <a:pt x="5981" y="1600"/>
                    </a:lnTo>
                    <a:lnTo>
                      <a:pt x="6034" y="1446"/>
                    </a:lnTo>
                    <a:lnTo>
                      <a:pt x="6078" y="1290"/>
                    </a:lnTo>
                    <a:lnTo>
                      <a:pt x="6115" y="1129"/>
                    </a:lnTo>
                    <a:lnTo>
                      <a:pt x="6144" y="967"/>
                    </a:lnTo>
                    <a:lnTo>
                      <a:pt x="6166" y="801"/>
                    </a:lnTo>
                    <a:lnTo>
                      <a:pt x="6178" y="633"/>
                    </a:lnTo>
                    <a:lnTo>
                      <a:pt x="6183" y="46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97200" y="4149720"/>
                <a:ext cx="1609560" cy="985680"/>
              </a:xfrm>
              <a:custGeom>
                <a:avLst/>
                <a:gdLst/>
                <a:ahLst/>
                <a:rect l="l" t="t" r="r" b="b"/>
                <a:pathLst>
                  <a:path w="6082" h="3723">
                    <a:moveTo>
                      <a:pt x="6082" y="463"/>
                    </a:moveTo>
                    <a:lnTo>
                      <a:pt x="6082" y="404"/>
                    </a:lnTo>
                    <a:lnTo>
                      <a:pt x="6079" y="346"/>
                    </a:lnTo>
                    <a:lnTo>
                      <a:pt x="6077" y="287"/>
                    </a:lnTo>
                    <a:lnTo>
                      <a:pt x="6074" y="229"/>
                    </a:lnTo>
                    <a:lnTo>
                      <a:pt x="6069" y="171"/>
                    </a:lnTo>
                    <a:lnTo>
                      <a:pt x="6063" y="114"/>
                    </a:lnTo>
                    <a:lnTo>
                      <a:pt x="6056" y="57"/>
                    </a:lnTo>
                    <a:lnTo>
                      <a:pt x="6049" y="0"/>
                    </a:lnTo>
                    <a:lnTo>
                      <a:pt x="6040" y="0"/>
                    </a:lnTo>
                    <a:lnTo>
                      <a:pt x="5966" y="37"/>
                    </a:lnTo>
                    <a:lnTo>
                      <a:pt x="5961" y="37"/>
                    </a:lnTo>
                    <a:lnTo>
                      <a:pt x="5966" y="90"/>
                    </a:lnTo>
                    <a:lnTo>
                      <a:pt x="5972" y="142"/>
                    </a:lnTo>
                    <a:lnTo>
                      <a:pt x="5977" y="195"/>
                    </a:lnTo>
                    <a:lnTo>
                      <a:pt x="5981" y="248"/>
                    </a:lnTo>
                    <a:lnTo>
                      <a:pt x="5985" y="302"/>
                    </a:lnTo>
                    <a:lnTo>
                      <a:pt x="5987" y="355"/>
                    </a:lnTo>
                    <a:lnTo>
                      <a:pt x="5988" y="409"/>
                    </a:lnTo>
                    <a:lnTo>
                      <a:pt x="5988" y="463"/>
                    </a:lnTo>
                    <a:lnTo>
                      <a:pt x="5985" y="626"/>
                    </a:lnTo>
                    <a:lnTo>
                      <a:pt x="5972" y="787"/>
                    </a:lnTo>
                    <a:lnTo>
                      <a:pt x="5953" y="945"/>
                    </a:lnTo>
                    <a:lnTo>
                      <a:pt x="5924" y="1102"/>
                    </a:lnTo>
                    <a:lnTo>
                      <a:pt x="5889" y="1255"/>
                    </a:lnTo>
                    <a:lnTo>
                      <a:pt x="5846" y="1405"/>
                    </a:lnTo>
                    <a:lnTo>
                      <a:pt x="5796" y="1552"/>
                    </a:lnTo>
                    <a:lnTo>
                      <a:pt x="5739" y="1695"/>
                    </a:lnTo>
                    <a:lnTo>
                      <a:pt x="5676" y="1836"/>
                    </a:lnTo>
                    <a:lnTo>
                      <a:pt x="5606" y="1973"/>
                    </a:lnTo>
                    <a:lnTo>
                      <a:pt x="5529" y="2106"/>
                    </a:lnTo>
                    <a:lnTo>
                      <a:pt x="5447" y="2234"/>
                    </a:lnTo>
                    <a:lnTo>
                      <a:pt x="5359" y="2358"/>
                    </a:lnTo>
                    <a:lnTo>
                      <a:pt x="5265" y="2478"/>
                    </a:lnTo>
                    <a:lnTo>
                      <a:pt x="5165" y="2592"/>
                    </a:lnTo>
                    <a:lnTo>
                      <a:pt x="5060" y="2703"/>
                    </a:lnTo>
                    <a:lnTo>
                      <a:pt x="4950" y="2808"/>
                    </a:lnTo>
                    <a:lnTo>
                      <a:pt x="4835" y="2907"/>
                    </a:lnTo>
                    <a:lnTo>
                      <a:pt x="4715" y="3001"/>
                    </a:lnTo>
                    <a:lnTo>
                      <a:pt x="4591" y="3089"/>
                    </a:lnTo>
                    <a:lnTo>
                      <a:pt x="4462" y="3172"/>
                    </a:lnTo>
                    <a:lnTo>
                      <a:pt x="4330" y="3248"/>
                    </a:lnTo>
                    <a:lnTo>
                      <a:pt x="4194" y="3318"/>
                    </a:lnTo>
                    <a:lnTo>
                      <a:pt x="4053" y="3382"/>
                    </a:lnTo>
                    <a:lnTo>
                      <a:pt x="3909" y="3438"/>
                    </a:lnTo>
                    <a:lnTo>
                      <a:pt x="3761" y="3488"/>
                    </a:lnTo>
                    <a:lnTo>
                      <a:pt x="3611" y="3531"/>
                    </a:lnTo>
                    <a:lnTo>
                      <a:pt x="3458" y="3566"/>
                    </a:lnTo>
                    <a:lnTo>
                      <a:pt x="3302" y="3594"/>
                    </a:lnTo>
                    <a:lnTo>
                      <a:pt x="3143" y="3614"/>
                    </a:lnTo>
                    <a:lnTo>
                      <a:pt x="2982" y="3626"/>
                    </a:lnTo>
                    <a:lnTo>
                      <a:pt x="2819" y="3631"/>
                    </a:lnTo>
                    <a:lnTo>
                      <a:pt x="2711" y="3629"/>
                    </a:lnTo>
                    <a:lnTo>
                      <a:pt x="2605" y="3623"/>
                    </a:lnTo>
                    <a:lnTo>
                      <a:pt x="2500" y="3615"/>
                    </a:lnTo>
                    <a:lnTo>
                      <a:pt x="2395" y="3602"/>
                    </a:lnTo>
                    <a:lnTo>
                      <a:pt x="2292" y="3587"/>
                    </a:lnTo>
                    <a:lnTo>
                      <a:pt x="2189" y="3567"/>
                    </a:lnTo>
                    <a:lnTo>
                      <a:pt x="2089" y="3546"/>
                    </a:lnTo>
                    <a:lnTo>
                      <a:pt x="1988" y="3520"/>
                    </a:lnTo>
                    <a:lnTo>
                      <a:pt x="1890" y="3493"/>
                    </a:lnTo>
                    <a:lnTo>
                      <a:pt x="1792" y="3460"/>
                    </a:lnTo>
                    <a:lnTo>
                      <a:pt x="1696" y="3426"/>
                    </a:lnTo>
                    <a:lnTo>
                      <a:pt x="1602" y="3389"/>
                    </a:lnTo>
                    <a:lnTo>
                      <a:pt x="1510" y="3348"/>
                    </a:lnTo>
                    <a:lnTo>
                      <a:pt x="1418" y="3305"/>
                    </a:lnTo>
                    <a:lnTo>
                      <a:pt x="1328" y="3259"/>
                    </a:lnTo>
                    <a:lnTo>
                      <a:pt x="1241" y="3210"/>
                    </a:lnTo>
                    <a:lnTo>
                      <a:pt x="1154" y="3158"/>
                    </a:lnTo>
                    <a:lnTo>
                      <a:pt x="1069" y="3104"/>
                    </a:lnTo>
                    <a:lnTo>
                      <a:pt x="987" y="3048"/>
                    </a:lnTo>
                    <a:lnTo>
                      <a:pt x="906" y="2989"/>
                    </a:lnTo>
                    <a:lnTo>
                      <a:pt x="827" y="2927"/>
                    </a:lnTo>
                    <a:lnTo>
                      <a:pt x="751" y="2863"/>
                    </a:lnTo>
                    <a:lnTo>
                      <a:pt x="676" y="2796"/>
                    </a:lnTo>
                    <a:lnTo>
                      <a:pt x="603" y="2728"/>
                    </a:lnTo>
                    <a:lnTo>
                      <a:pt x="533" y="2657"/>
                    </a:lnTo>
                    <a:lnTo>
                      <a:pt x="465" y="2584"/>
                    </a:lnTo>
                    <a:lnTo>
                      <a:pt x="399" y="2508"/>
                    </a:lnTo>
                    <a:lnTo>
                      <a:pt x="335" y="2431"/>
                    </a:lnTo>
                    <a:lnTo>
                      <a:pt x="275" y="2352"/>
                    </a:lnTo>
                    <a:lnTo>
                      <a:pt x="217" y="2271"/>
                    </a:lnTo>
                    <a:lnTo>
                      <a:pt x="160" y="2188"/>
                    </a:lnTo>
                    <a:lnTo>
                      <a:pt x="107" y="2102"/>
                    </a:lnTo>
                    <a:lnTo>
                      <a:pt x="105" y="2103"/>
                    </a:lnTo>
                    <a:lnTo>
                      <a:pt x="0" y="2103"/>
                    </a:lnTo>
                    <a:lnTo>
                      <a:pt x="39" y="2170"/>
                    </a:lnTo>
                    <a:lnTo>
                      <a:pt x="81" y="2236"/>
                    </a:lnTo>
                    <a:lnTo>
                      <a:pt x="123" y="2301"/>
                    </a:lnTo>
                    <a:lnTo>
                      <a:pt x="168" y="2364"/>
                    </a:lnTo>
                    <a:lnTo>
                      <a:pt x="214" y="2426"/>
                    </a:lnTo>
                    <a:lnTo>
                      <a:pt x="262" y="2487"/>
                    </a:lnTo>
                    <a:lnTo>
                      <a:pt x="310" y="2547"/>
                    </a:lnTo>
                    <a:lnTo>
                      <a:pt x="361" y="2606"/>
                    </a:lnTo>
                    <a:lnTo>
                      <a:pt x="412" y="2664"/>
                    </a:lnTo>
                    <a:lnTo>
                      <a:pt x="465" y="2720"/>
                    </a:lnTo>
                    <a:lnTo>
                      <a:pt x="519" y="2776"/>
                    </a:lnTo>
                    <a:lnTo>
                      <a:pt x="574" y="2829"/>
                    </a:lnTo>
                    <a:lnTo>
                      <a:pt x="631" y="2882"/>
                    </a:lnTo>
                    <a:lnTo>
                      <a:pt x="690" y="2932"/>
                    </a:lnTo>
                    <a:lnTo>
                      <a:pt x="748" y="2982"/>
                    </a:lnTo>
                    <a:lnTo>
                      <a:pt x="808" y="3030"/>
                    </a:lnTo>
                    <a:lnTo>
                      <a:pt x="871" y="3063"/>
                    </a:lnTo>
                    <a:lnTo>
                      <a:pt x="936" y="3126"/>
                    </a:lnTo>
                    <a:lnTo>
                      <a:pt x="940" y="3128"/>
                    </a:lnTo>
                    <a:lnTo>
                      <a:pt x="943" y="3131"/>
                    </a:lnTo>
                    <a:lnTo>
                      <a:pt x="947" y="3133"/>
                    </a:lnTo>
                    <a:lnTo>
                      <a:pt x="950" y="3136"/>
                    </a:lnTo>
                    <a:lnTo>
                      <a:pt x="954" y="3139"/>
                    </a:lnTo>
                    <a:lnTo>
                      <a:pt x="957" y="3141"/>
                    </a:lnTo>
                    <a:lnTo>
                      <a:pt x="961" y="3143"/>
                    </a:lnTo>
                    <a:lnTo>
                      <a:pt x="965" y="3146"/>
                    </a:lnTo>
                    <a:lnTo>
                      <a:pt x="1025" y="3177"/>
                    </a:lnTo>
                    <a:lnTo>
                      <a:pt x="1052" y="3203"/>
                    </a:lnTo>
                    <a:lnTo>
                      <a:pt x="1099" y="3234"/>
                    </a:lnTo>
                    <a:lnTo>
                      <a:pt x="1147" y="3264"/>
                    </a:lnTo>
                    <a:lnTo>
                      <a:pt x="1197" y="3293"/>
                    </a:lnTo>
                    <a:lnTo>
                      <a:pt x="1247" y="3321"/>
                    </a:lnTo>
                    <a:lnTo>
                      <a:pt x="1297" y="3347"/>
                    </a:lnTo>
                    <a:lnTo>
                      <a:pt x="1348" y="3374"/>
                    </a:lnTo>
                    <a:lnTo>
                      <a:pt x="1399" y="3399"/>
                    </a:lnTo>
                    <a:lnTo>
                      <a:pt x="1451" y="3423"/>
                    </a:lnTo>
                    <a:lnTo>
                      <a:pt x="1503" y="3448"/>
                    </a:lnTo>
                    <a:lnTo>
                      <a:pt x="1556" y="3471"/>
                    </a:lnTo>
                    <a:lnTo>
                      <a:pt x="1609" y="3493"/>
                    </a:lnTo>
                    <a:lnTo>
                      <a:pt x="1663" y="3513"/>
                    </a:lnTo>
                    <a:lnTo>
                      <a:pt x="1717" y="3533"/>
                    </a:lnTo>
                    <a:lnTo>
                      <a:pt x="1771" y="3551"/>
                    </a:lnTo>
                    <a:lnTo>
                      <a:pt x="1827" y="3570"/>
                    </a:lnTo>
                    <a:lnTo>
                      <a:pt x="1882" y="3587"/>
                    </a:lnTo>
                    <a:lnTo>
                      <a:pt x="1937" y="3603"/>
                    </a:lnTo>
                    <a:lnTo>
                      <a:pt x="1994" y="3618"/>
                    </a:lnTo>
                    <a:lnTo>
                      <a:pt x="2051" y="3633"/>
                    </a:lnTo>
                    <a:lnTo>
                      <a:pt x="2108" y="3646"/>
                    </a:lnTo>
                    <a:lnTo>
                      <a:pt x="2165" y="3659"/>
                    </a:lnTo>
                    <a:lnTo>
                      <a:pt x="2224" y="3669"/>
                    </a:lnTo>
                    <a:lnTo>
                      <a:pt x="2281" y="3679"/>
                    </a:lnTo>
                    <a:lnTo>
                      <a:pt x="2340" y="3689"/>
                    </a:lnTo>
                    <a:lnTo>
                      <a:pt x="2399" y="3697"/>
                    </a:lnTo>
                    <a:lnTo>
                      <a:pt x="2458" y="3703"/>
                    </a:lnTo>
                    <a:lnTo>
                      <a:pt x="2518" y="3710"/>
                    </a:lnTo>
                    <a:lnTo>
                      <a:pt x="2576" y="3715"/>
                    </a:lnTo>
                    <a:lnTo>
                      <a:pt x="2638" y="3718"/>
                    </a:lnTo>
                    <a:lnTo>
                      <a:pt x="2698" y="3722"/>
                    </a:lnTo>
                    <a:lnTo>
                      <a:pt x="2759" y="3723"/>
                    </a:lnTo>
                    <a:lnTo>
                      <a:pt x="2819" y="3723"/>
                    </a:lnTo>
                    <a:lnTo>
                      <a:pt x="2987" y="3720"/>
                    </a:lnTo>
                    <a:lnTo>
                      <a:pt x="3153" y="3707"/>
                    </a:lnTo>
                    <a:lnTo>
                      <a:pt x="3316" y="3686"/>
                    </a:lnTo>
                    <a:lnTo>
                      <a:pt x="3476" y="3657"/>
                    </a:lnTo>
                    <a:lnTo>
                      <a:pt x="3634" y="3622"/>
                    </a:lnTo>
                    <a:lnTo>
                      <a:pt x="3789" y="3577"/>
                    </a:lnTo>
                    <a:lnTo>
                      <a:pt x="3941" y="3526"/>
                    </a:lnTo>
                    <a:lnTo>
                      <a:pt x="4089" y="3467"/>
                    </a:lnTo>
                    <a:lnTo>
                      <a:pt x="4234" y="3403"/>
                    </a:lnTo>
                    <a:lnTo>
                      <a:pt x="4375" y="3330"/>
                    </a:lnTo>
                    <a:lnTo>
                      <a:pt x="4511" y="3252"/>
                    </a:lnTo>
                    <a:lnTo>
                      <a:pt x="4643" y="3166"/>
                    </a:lnTo>
                    <a:lnTo>
                      <a:pt x="4771" y="3076"/>
                    </a:lnTo>
                    <a:lnTo>
                      <a:pt x="4895" y="2980"/>
                    </a:lnTo>
                    <a:lnTo>
                      <a:pt x="5012" y="2877"/>
                    </a:lnTo>
                    <a:lnTo>
                      <a:pt x="5127" y="2769"/>
                    </a:lnTo>
                    <a:lnTo>
                      <a:pt x="5234" y="2656"/>
                    </a:lnTo>
                    <a:lnTo>
                      <a:pt x="5337" y="2537"/>
                    </a:lnTo>
                    <a:lnTo>
                      <a:pt x="5433" y="2414"/>
                    </a:lnTo>
                    <a:lnTo>
                      <a:pt x="5525" y="2286"/>
                    </a:lnTo>
                    <a:lnTo>
                      <a:pt x="5609" y="2154"/>
                    </a:lnTo>
                    <a:lnTo>
                      <a:pt x="5688" y="2017"/>
                    </a:lnTo>
                    <a:lnTo>
                      <a:pt x="5760" y="1876"/>
                    </a:lnTo>
                    <a:lnTo>
                      <a:pt x="5826" y="1732"/>
                    </a:lnTo>
                    <a:lnTo>
                      <a:pt x="5883" y="1584"/>
                    </a:lnTo>
                    <a:lnTo>
                      <a:pt x="5935" y="1433"/>
                    </a:lnTo>
                    <a:lnTo>
                      <a:pt x="5979" y="1278"/>
                    </a:lnTo>
                    <a:lnTo>
                      <a:pt x="6016" y="1120"/>
                    </a:lnTo>
                    <a:lnTo>
                      <a:pt x="6044" y="960"/>
                    </a:lnTo>
                    <a:lnTo>
                      <a:pt x="6066" y="796"/>
                    </a:lnTo>
                    <a:lnTo>
                      <a:pt x="6077" y="630"/>
                    </a:lnTo>
                    <a:lnTo>
                      <a:pt x="6082" y="46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11600" y="4154400"/>
                <a:ext cx="1582560" cy="968400"/>
              </a:xfrm>
              <a:custGeom>
                <a:avLst/>
                <a:gdLst/>
                <a:ahLst/>
                <a:rect l="l" t="t" r="r" b="b"/>
                <a:pathLst>
                  <a:path w="5982" h="3660">
                    <a:moveTo>
                      <a:pt x="5982" y="446"/>
                    </a:moveTo>
                    <a:lnTo>
                      <a:pt x="5980" y="390"/>
                    </a:lnTo>
                    <a:lnTo>
                      <a:pt x="5979" y="333"/>
                    </a:lnTo>
                    <a:lnTo>
                      <a:pt x="5977" y="277"/>
                    </a:lnTo>
                    <a:lnTo>
                      <a:pt x="5973" y="221"/>
                    </a:lnTo>
                    <a:lnTo>
                      <a:pt x="5969" y="166"/>
                    </a:lnTo>
                    <a:lnTo>
                      <a:pt x="5964" y="111"/>
                    </a:lnTo>
                    <a:lnTo>
                      <a:pt x="5957" y="55"/>
                    </a:lnTo>
                    <a:lnTo>
                      <a:pt x="5950" y="0"/>
                    </a:lnTo>
                    <a:lnTo>
                      <a:pt x="5912" y="20"/>
                    </a:lnTo>
                    <a:lnTo>
                      <a:pt x="5859" y="20"/>
                    </a:lnTo>
                    <a:lnTo>
                      <a:pt x="5866" y="73"/>
                    </a:lnTo>
                    <a:lnTo>
                      <a:pt x="5872" y="125"/>
                    </a:lnTo>
                    <a:lnTo>
                      <a:pt x="5877" y="178"/>
                    </a:lnTo>
                    <a:lnTo>
                      <a:pt x="5881" y="231"/>
                    </a:lnTo>
                    <a:lnTo>
                      <a:pt x="5884" y="285"/>
                    </a:lnTo>
                    <a:lnTo>
                      <a:pt x="5886" y="338"/>
                    </a:lnTo>
                    <a:lnTo>
                      <a:pt x="5887" y="392"/>
                    </a:lnTo>
                    <a:lnTo>
                      <a:pt x="5888" y="446"/>
                    </a:lnTo>
                    <a:lnTo>
                      <a:pt x="5884" y="606"/>
                    </a:lnTo>
                    <a:lnTo>
                      <a:pt x="5872" y="765"/>
                    </a:lnTo>
                    <a:lnTo>
                      <a:pt x="5852" y="921"/>
                    </a:lnTo>
                    <a:lnTo>
                      <a:pt x="5825" y="1074"/>
                    </a:lnTo>
                    <a:lnTo>
                      <a:pt x="5790" y="1225"/>
                    </a:lnTo>
                    <a:lnTo>
                      <a:pt x="5747" y="1374"/>
                    </a:lnTo>
                    <a:lnTo>
                      <a:pt x="5699" y="1519"/>
                    </a:lnTo>
                    <a:lnTo>
                      <a:pt x="5642" y="1661"/>
                    </a:lnTo>
                    <a:lnTo>
                      <a:pt x="5580" y="1799"/>
                    </a:lnTo>
                    <a:lnTo>
                      <a:pt x="5511" y="1933"/>
                    </a:lnTo>
                    <a:lnTo>
                      <a:pt x="5436" y="2065"/>
                    </a:lnTo>
                    <a:lnTo>
                      <a:pt x="5354" y="2190"/>
                    </a:lnTo>
                    <a:lnTo>
                      <a:pt x="5268" y="2314"/>
                    </a:lnTo>
                    <a:lnTo>
                      <a:pt x="5175" y="2431"/>
                    </a:lnTo>
                    <a:lnTo>
                      <a:pt x="5076" y="2544"/>
                    </a:lnTo>
                    <a:lnTo>
                      <a:pt x="4973" y="2652"/>
                    </a:lnTo>
                    <a:lnTo>
                      <a:pt x="4865" y="2756"/>
                    </a:lnTo>
                    <a:lnTo>
                      <a:pt x="4751" y="2854"/>
                    </a:lnTo>
                    <a:lnTo>
                      <a:pt x="4633" y="2946"/>
                    </a:lnTo>
                    <a:lnTo>
                      <a:pt x="4511" y="3034"/>
                    </a:lnTo>
                    <a:lnTo>
                      <a:pt x="4384" y="3115"/>
                    </a:lnTo>
                    <a:lnTo>
                      <a:pt x="4254" y="3190"/>
                    </a:lnTo>
                    <a:lnTo>
                      <a:pt x="4119" y="3259"/>
                    </a:lnTo>
                    <a:lnTo>
                      <a:pt x="3980" y="3321"/>
                    </a:lnTo>
                    <a:lnTo>
                      <a:pt x="3839" y="3378"/>
                    </a:lnTo>
                    <a:lnTo>
                      <a:pt x="3693" y="3427"/>
                    </a:lnTo>
                    <a:lnTo>
                      <a:pt x="3546" y="3469"/>
                    </a:lnTo>
                    <a:lnTo>
                      <a:pt x="3394" y="3503"/>
                    </a:lnTo>
                    <a:lnTo>
                      <a:pt x="3241" y="3531"/>
                    </a:lnTo>
                    <a:lnTo>
                      <a:pt x="3084" y="3550"/>
                    </a:lnTo>
                    <a:lnTo>
                      <a:pt x="2926" y="3563"/>
                    </a:lnTo>
                    <a:lnTo>
                      <a:pt x="2765" y="3567"/>
                    </a:lnTo>
                    <a:lnTo>
                      <a:pt x="2660" y="3565"/>
                    </a:lnTo>
                    <a:lnTo>
                      <a:pt x="2555" y="3560"/>
                    </a:lnTo>
                    <a:lnTo>
                      <a:pt x="2451" y="3552"/>
                    </a:lnTo>
                    <a:lnTo>
                      <a:pt x="2349" y="3539"/>
                    </a:lnTo>
                    <a:lnTo>
                      <a:pt x="2247" y="3524"/>
                    </a:lnTo>
                    <a:lnTo>
                      <a:pt x="2146" y="3506"/>
                    </a:lnTo>
                    <a:lnTo>
                      <a:pt x="2047" y="3484"/>
                    </a:lnTo>
                    <a:lnTo>
                      <a:pt x="1949" y="3459"/>
                    </a:lnTo>
                    <a:lnTo>
                      <a:pt x="1852" y="3432"/>
                    </a:lnTo>
                    <a:lnTo>
                      <a:pt x="1757" y="3401"/>
                    </a:lnTo>
                    <a:lnTo>
                      <a:pt x="1663" y="3367"/>
                    </a:lnTo>
                    <a:lnTo>
                      <a:pt x="1570" y="3330"/>
                    </a:lnTo>
                    <a:lnTo>
                      <a:pt x="1479" y="3291"/>
                    </a:lnTo>
                    <a:lnTo>
                      <a:pt x="1389" y="3248"/>
                    </a:lnTo>
                    <a:lnTo>
                      <a:pt x="1301" y="3203"/>
                    </a:lnTo>
                    <a:lnTo>
                      <a:pt x="1215" y="3155"/>
                    </a:lnTo>
                    <a:lnTo>
                      <a:pt x="1129" y="3104"/>
                    </a:lnTo>
                    <a:lnTo>
                      <a:pt x="1046" y="3052"/>
                    </a:lnTo>
                    <a:lnTo>
                      <a:pt x="965" y="2996"/>
                    </a:lnTo>
                    <a:lnTo>
                      <a:pt x="886" y="2938"/>
                    </a:lnTo>
                    <a:lnTo>
                      <a:pt x="809" y="2878"/>
                    </a:lnTo>
                    <a:lnTo>
                      <a:pt x="732" y="2815"/>
                    </a:lnTo>
                    <a:lnTo>
                      <a:pt x="660" y="2750"/>
                    </a:lnTo>
                    <a:lnTo>
                      <a:pt x="588" y="2684"/>
                    </a:lnTo>
                    <a:lnTo>
                      <a:pt x="519" y="2613"/>
                    </a:lnTo>
                    <a:lnTo>
                      <a:pt x="452" y="2542"/>
                    </a:lnTo>
                    <a:lnTo>
                      <a:pt x="386" y="2468"/>
                    </a:lnTo>
                    <a:lnTo>
                      <a:pt x="324" y="2393"/>
                    </a:lnTo>
                    <a:lnTo>
                      <a:pt x="264" y="2315"/>
                    </a:lnTo>
                    <a:lnTo>
                      <a:pt x="206" y="2235"/>
                    </a:lnTo>
                    <a:lnTo>
                      <a:pt x="151" y="2154"/>
                    </a:lnTo>
                    <a:lnTo>
                      <a:pt x="99" y="2070"/>
                    </a:lnTo>
                    <a:lnTo>
                      <a:pt x="51" y="2086"/>
                    </a:lnTo>
                    <a:lnTo>
                      <a:pt x="0" y="2086"/>
                    </a:lnTo>
                    <a:lnTo>
                      <a:pt x="53" y="2174"/>
                    </a:lnTo>
                    <a:lnTo>
                      <a:pt x="110" y="2259"/>
                    </a:lnTo>
                    <a:lnTo>
                      <a:pt x="170" y="2342"/>
                    </a:lnTo>
                    <a:lnTo>
                      <a:pt x="231" y="2424"/>
                    </a:lnTo>
                    <a:lnTo>
                      <a:pt x="295" y="2504"/>
                    </a:lnTo>
                    <a:lnTo>
                      <a:pt x="362" y="2581"/>
                    </a:lnTo>
                    <a:lnTo>
                      <a:pt x="431" y="2657"/>
                    </a:lnTo>
                    <a:lnTo>
                      <a:pt x="503" y="2730"/>
                    </a:lnTo>
                    <a:lnTo>
                      <a:pt x="577" y="2800"/>
                    </a:lnTo>
                    <a:lnTo>
                      <a:pt x="653" y="2869"/>
                    </a:lnTo>
                    <a:lnTo>
                      <a:pt x="730" y="2935"/>
                    </a:lnTo>
                    <a:lnTo>
                      <a:pt x="811" y="2998"/>
                    </a:lnTo>
                    <a:lnTo>
                      <a:pt x="893" y="3059"/>
                    </a:lnTo>
                    <a:lnTo>
                      <a:pt x="977" y="3118"/>
                    </a:lnTo>
                    <a:lnTo>
                      <a:pt x="1063" y="3174"/>
                    </a:lnTo>
                    <a:lnTo>
                      <a:pt x="1151" y="3227"/>
                    </a:lnTo>
                    <a:lnTo>
                      <a:pt x="1241" y="3277"/>
                    </a:lnTo>
                    <a:lnTo>
                      <a:pt x="1333" y="3325"/>
                    </a:lnTo>
                    <a:lnTo>
                      <a:pt x="1426" y="3369"/>
                    </a:lnTo>
                    <a:lnTo>
                      <a:pt x="1521" y="3411"/>
                    </a:lnTo>
                    <a:lnTo>
                      <a:pt x="1617" y="3449"/>
                    </a:lnTo>
                    <a:lnTo>
                      <a:pt x="1715" y="3485"/>
                    </a:lnTo>
                    <a:lnTo>
                      <a:pt x="1814" y="3517"/>
                    </a:lnTo>
                    <a:lnTo>
                      <a:pt x="1916" y="3547"/>
                    </a:lnTo>
                    <a:lnTo>
                      <a:pt x="2017" y="3572"/>
                    </a:lnTo>
                    <a:lnTo>
                      <a:pt x="2121" y="3595"/>
                    </a:lnTo>
                    <a:lnTo>
                      <a:pt x="2226" y="3615"/>
                    </a:lnTo>
                    <a:lnTo>
                      <a:pt x="2331" y="3631"/>
                    </a:lnTo>
                    <a:lnTo>
                      <a:pt x="2438" y="3644"/>
                    </a:lnTo>
                    <a:lnTo>
                      <a:pt x="2547" y="3653"/>
                    </a:lnTo>
                    <a:lnTo>
                      <a:pt x="2655" y="3658"/>
                    </a:lnTo>
                    <a:lnTo>
                      <a:pt x="2765" y="3660"/>
                    </a:lnTo>
                    <a:lnTo>
                      <a:pt x="2931" y="3655"/>
                    </a:lnTo>
                    <a:lnTo>
                      <a:pt x="3093" y="3644"/>
                    </a:lnTo>
                    <a:lnTo>
                      <a:pt x="3255" y="3623"/>
                    </a:lnTo>
                    <a:lnTo>
                      <a:pt x="3413" y="3594"/>
                    </a:lnTo>
                    <a:lnTo>
                      <a:pt x="3569" y="3559"/>
                    </a:lnTo>
                    <a:lnTo>
                      <a:pt x="3721" y="3516"/>
                    </a:lnTo>
                    <a:lnTo>
                      <a:pt x="3871" y="3465"/>
                    </a:lnTo>
                    <a:lnTo>
                      <a:pt x="4017" y="3408"/>
                    </a:lnTo>
                    <a:lnTo>
                      <a:pt x="4159" y="3343"/>
                    </a:lnTo>
                    <a:lnTo>
                      <a:pt x="4298" y="3273"/>
                    </a:lnTo>
                    <a:lnTo>
                      <a:pt x="4433" y="3194"/>
                    </a:lnTo>
                    <a:lnTo>
                      <a:pt x="4563" y="3111"/>
                    </a:lnTo>
                    <a:lnTo>
                      <a:pt x="4690" y="3021"/>
                    </a:lnTo>
                    <a:lnTo>
                      <a:pt x="4811" y="2926"/>
                    </a:lnTo>
                    <a:lnTo>
                      <a:pt x="4927" y="2825"/>
                    </a:lnTo>
                    <a:lnTo>
                      <a:pt x="5039" y="2718"/>
                    </a:lnTo>
                    <a:lnTo>
                      <a:pt x="5145" y="2608"/>
                    </a:lnTo>
                    <a:lnTo>
                      <a:pt x="5247" y="2490"/>
                    </a:lnTo>
                    <a:lnTo>
                      <a:pt x="5343" y="2369"/>
                    </a:lnTo>
                    <a:lnTo>
                      <a:pt x="5431" y="2243"/>
                    </a:lnTo>
                    <a:lnTo>
                      <a:pt x="5516" y="2113"/>
                    </a:lnTo>
                    <a:lnTo>
                      <a:pt x="5593" y="1978"/>
                    </a:lnTo>
                    <a:lnTo>
                      <a:pt x="5664" y="1840"/>
                    </a:lnTo>
                    <a:lnTo>
                      <a:pt x="5729" y="1697"/>
                    </a:lnTo>
                    <a:lnTo>
                      <a:pt x="5785" y="1552"/>
                    </a:lnTo>
                    <a:lnTo>
                      <a:pt x="5836" y="1402"/>
                    </a:lnTo>
                    <a:lnTo>
                      <a:pt x="5880" y="1250"/>
                    </a:lnTo>
                    <a:lnTo>
                      <a:pt x="5916" y="1094"/>
                    </a:lnTo>
                    <a:lnTo>
                      <a:pt x="5945" y="935"/>
                    </a:lnTo>
                    <a:lnTo>
                      <a:pt x="5964" y="775"/>
                    </a:lnTo>
                    <a:lnTo>
                      <a:pt x="5977" y="611"/>
                    </a:lnTo>
                    <a:lnTo>
                      <a:pt x="5982" y="44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25640" y="4159080"/>
                <a:ext cx="1555920" cy="951120"/>
              </a:xfrm>
              <a:custGeom>
                <a:avLst/>
                <a:gdLst/>
                <a:ahLst/>
                <a:rect l="l" t="t" r="r" b="b"/>
                <a:pathLst>
                  <a:path w="5881" h="3594">
                    <a:moveTo>
                      <a:pt x="5881" y="426"/>
                    </a:moveTo>
                    <a:lnTo>
                      <a:pt x="5881" y="372"/>
                    </a:lnTo>
                    <a:lnTo>
                      <a:pt x="5880" y="318"/>
                    </a:lnTo>
                    <a:lnTo>
                      <a:pt x="5878" y="265"/>
                    </a:lnTo>
                    <a:lnTo>
                      <a:pt x="5874" y="211"/>
                    </a:lnTo>
                    <a:lnTo>
                      <a:pt x="5870" y="158"/>
                    </a:lnTo>
                    <a:lnTo>
                      <a:pt x="5865" y="105"/>
                    </a:lnTo>
                    <a:lnTo>
                      <a:pt x="5859" y="53"/>
                    </a:lnTo>
                    <a:lnTo>
                      <a:pt x="5854" y="0"/>
                    </a:lnTo>
                    <a:lnTo>
                      <a:pt x="5759" y="0"/>
                    </a:lnTo>
                    <a:lnTo>
                      <a:pt x="5766" y="53"/>
                    </a:lnTo>
                    <a:lnTo>
                      <a:pt x="5772" y="105"/>
                    </a:lnTo>
                    <a:lnTo>
                      <a:pt x="5776" y="158"/>
                    </a:lnTo>
                    <a:lnTo>
                      <a:pt x="5781" y="211"/>
                    </a:lnTo>
                    <a:lnTo>
                      <a:pt x="5784" y="265"/>
                    </a:lnTo>
                    <a:lnTo>
                      <a:pt x="5787" y="318"/>
                    </a:lnTo>
                    <a:lnTo>
                      <a:pt x="5788" y="372"/>
                    </a:lnTo>
                    <a:lnTo>
                      <a:pt x="5789" y="426"/>
                    </a:lnTo>
                    <a:lnTo>
                      <a:pt x="5784" y="584"/>
                    </a:lnTo>
                    <a:lnTo>
                      <a:pt x="5773" y="740"/>
                    </a:lnTo>
                    <a:lnTo>
                      <a:pt x="5753" y="894"/>
                    </a:lnTo>
                    <a:lnTo>
                      <a:pt x="5726" y="1045"/>
                    </a:lnTo>
                    <a:lnTo>
                      <a:pt x="5691" y="1194"/>
                    </a:lnTo>
                    <a:lnTo>
                      <a:pt x="5651" y="1340"/>
                    </a:lnTo>
                    <a:lnTo>
                      <a:pt x="5602" y="1483"/>
                    </a:lnTo>
                    <a:lnTo>
                      <a:pt x="5547" y="1623"/>
                    </a:lnTo>
                    <a:lnTo>
                      <a:pt x="5484" y="1759"/>
                    </a:lnTo>
                    <a:lnTo>
                      <a:pt x="5416" y="1891"/>
                    </a:lnTo>
                    <a:lnTo>
                      <a:pt x="5343" y="2020"/>
                    </a:lnTo>
                    <a:lnTo>
                      <a:pt x="5263" y="2145"/>
                    </a:lnTo>
                    <a:lnTo>
                      <a:pt x="5177" y="2265"/>
                    </a:lnTo>
                    <a:lnTo>
                      <a:pt x="5085" y="2381"/>
                    </a:lnTo>
                    <a:lnTo>
                      <a:pt x="4990" y="2493"/>
                    </a:lnTo>
                    <a:lnTo>
                      <a:pt x="4887" y="2600"/>
                    </a:lnTo>
                    <a:lnTo>
                      <a:pt x="4781" y="2702"/>
                    </a:lnTo>
                    <a:lnTo>
                      <a:pt x="4669" y="2798"/>
                    </a:lnTo>
                    <a:lnTo>
                      <a:pt x="4553" y="2890"/>
                    </a:lnTo>
                    <a:lnTo>
                      <a:pt x="4431" y="2975"/>
                    </a:lnTo>
                    <a:lnTo>
                      <a:pt x="4307" y="3056"/>
                    </a:lnTo>
                    <a:lnTo>
                      <a:pt x="4179" y="3129"/>
                    </a:lnTo>
                    <a:lnTo>
                      <a:pt x="4046" y="3197"/>
                    </a:lnTo>
                    <a:lnTo>
                      <a:pt x="3910" y="3258"/>
                    </a:lnTo>
                    <a:lnTo>
                      <a:pt x="3769" y="3314"/>
                    </a:lnTo>
                    <a:lnTo>
                      <a:pt x="3626" y="3362"/>
                    </a:lnTo>
                    <a:lnTo>
                      <a:pt x="3481" y="3404"/>
                    </a:lnTo>
                    <a:lnTo>
                      <a:pt x="3332" y="3438"/>
                    </a:lnTo>
                    <a:lnTo>
                      <a:pt x="3181" y="3465"/>
                    </a:lnTo>
                    <a:lnTo>
                      <a:pt x="3027" y="3484"/>
                    </a:lnTo>
                    <a:lnTo>
                      <a:pt x="2871" y="3496"/>
                    </a:lnTo>
                    <a:lnTo>
                      <a:pt x="2712" y="3501"/>
                    </a:lnTo>
                    <a:lnTo>
                      <a:pt x="2609" y="3498"/>
                    </a:lnTo>
                    <a:lnTo>
                      <a:pt x="2506" y="3494"/>
                    </a:lnTo>
                    <a:lnTo>
                      <a:pt x="2405" y="3486"/>
                    </a:lnTo>
                    <a:lnTo>
                      <a:pt x="2303" y="3473"/>
                    </a:lnTo>
                    <a:lnTo>
                      <a:pt x="2204" y="3459"/>
                    </a:lnTo>
                    <a:lnTo>
                      <a:pt x="2105" y="3441"/>
                    </a:lnTo>
                    <a:lnTo>
                      <a:pt x="2008" y="3420"/>
                    </a:lnTo>
                    <a:lnTo>
                      <a:pt x="1911" y="3396"/>
                    </a:lnTo>
                    <a:lnTo>
                      <a:pt x="1817" y="3368"/>
                    </a:lnTo>
                    <a:lnTo>
                      <a:pt x="1722" y="3338"/>
                    </a:lnTo>
                    <a:lnTo>
                      <a:pt x="1630" y="3305"/>
                    </a:lnTo>
                    <a:lnTo>
                      <a:pt x="1539" y="3269"/>
                    </a:lnTo>
                    <a:lnTo>
                      <a:pt x="1449" y="3230"/>
                    </a:lnTo>
                    <a:lnTo>
                      <a:pt x="1361" y="3188"/>
                    </a:lnTo>
                    <a:lnTo>
                      <a:pt x="1275" y="3144"/>
                    </a:lnTo>
                    <a:lnTo>
                      <a:pt x="1189" y="3098"/>
                    </a:lnTo>
                    <a:lnTo>
                      <a:pt x="1106" y="3049"/>
                    </a:lnTo>
                    <a:lnTo>
                      <a:pt x="1024" y="2997"/>
                    </a:lnTo>
                    <a:lnTo>
                      <a:pt x="945" y="2943"/>
                    </a:lnTo>
                    <a:lnTo>
                      <a:pt x="866" y="2885"/>
                    </a:lnTo>
                    <a:lnTo>
                      <a:pt x="790" y="2826"/>
                    </a:lnTo>
                    <a:lnTo>
                      <a:pt x="716" y="2765"/>
                    </a:lnTo>
                    <a:lnTo>
                      <a:pt x="644" y="2702"/>
                    </a:lnTo>
                    <a:lnTo>
                      <a:pt x="573" y="2636"/>
                    </a:lnTo>
                    <a:lnTo>
                      <a:pt x="505" y="2568"/>
                    </a:lnTo>
                    <a:lnTo>
                      <a:pt x="439" y="2498"/>
                    </a:lnTo>
                    <a:lnTo>
                      <a:pt x="376" y="2425"/>
                    </a:lnTo>
                    <a:lnTo>
                      <a:pt x="314" y="2351"/>
                    </a:lnTo>
                    <a:lnTo>
                      <a:pt x="255" y="2275"/>
                    </a:lnTo>
                    <a:lnTo>
                      <a:pt x="198" y="2198"/>
                    </a:lnTo>
                    <a:lnTo>
                      <a:pt x="143" y="2117"/>
                    </a:lnTo>
                    <a:lnTo>
                      <a:pt x="91" y="2037"/>
                    </a:lnTo>
                    <a:lnTo>
                      <a:pt x="0" y="2065"/>
                    </a:lnTo>
                    <a:lnTo>
                      <a:pt x="53" y="2151"/>
                    </a:lnTo>
                    <a:lnTo>
                      <a:pt x="110" y="2234"/>
                    </a:lnTo>
                    <a:lnTo>
                      <a:pt x="168" y="2315"/>
                    </a:lnTo>
                    <a:lnTo>
                      <a:pt x="228" y="2394"/>
                    </a:lnTo>
                    <a:lnTo>
                      <a:pt x="292" y="2471"/>
                    </a:lnTo>
                    <a:lnTo>
                      <a:pt x="358" y="2547"/>
                    </a:lnTo>
                    <a:lnTo>
                      <a:pt x="426" y="2620"/>
                    </a:lnTo>
                    <a:lnTo>
                      <a:pt x="496" y="2691"/>
                    </a:lnTo>
                    <a:lnTo>
                      <a:pt x="569" y="2759"/>
                    </a:lnTo>
                    <a:lnTo>
                      <a:pt x="644" y="2826"/>
                    </a:lnTo>
                    <a:lnTo>
                      <a:pt x="720" y="2890"/>
                    </a:lnTo>
                    <a:lnTo>
                      <a:pt x="799" y="2952"/>
                    </a:lnTo>
                    <a:lnTo>
                      <a:pt x="880" y="3011"/>
                    </a:lnTo>
                    <a:lnTo>
                      <a:pt x="962" y="3067"/>
                    </a:lnTo>
                    <a:lnTo>
                      <a:pt x="1047" y="3121"/>
                    </a:lnTo>
                    <a:lnTo>
                      <a:pt x="1134" y="3173"/>
                    </a:lnTo>
                    <a:lnTo>
                      <a:pt x="1221" y="3222"/>
                    </a:lnTo>
                    <a:lnTo>
                      <a:pt x="1311" y="3268"/>
                    </a:lnTo>
                    <a:lnTo>
                      <a:pt x="1403" y="3311"/>
                    </a:lnTo>
                    <a:lnTo>
                      <a:pt x="1495" y="3352"/>
                    </a:lnTo>
                    <a:lnTo>
                      <a:pt x="1589" y="3389"/>
                    </a:lnTo>
                    <a:lnTo>
                      <a:pt x="1685" y="3423"/>
                    </a:lnTo>
                    <a:lnTo>
                      <a:pt x="1783" y="3456"/>
                    </a:lnTo>
                    <a:lnTo>
                      <a:pt x="1881" y="3483"/>
                    </a:lnTo>
                    <a:lnTo>
                      <a:pt x="1982" y="3509"/>
                    </a:lnTo>
                    <a:lnTo>
                      <a:pt x="2082" y="3530"/>
                    </a:lnTo>
                    <a:lnTo>
                      <a:pt x="2185" y="3550"/>
                    </a:lnTo>
                    <a:lnTo>
                      <a:pt x="2288" y="3565"/>
                    </a:lnTo>
                    <a:lnTo>
                      <a:pt x="2393" y="3578"/>
                    </a:lnTo>
                    <a:lnTo>
                      <a:pt x="2498" y="3586"/>
                    </a:lnTo>
                    <a:lnTo>
                      <a:pt x="2604" y="3592"/>
                    </a:lnTo>
                    <a:lnTo>
                      <a:pt x="2712" y="3594"/>
                    </a:lnTo>
                    <a:lnTo>
                      <a:pt x="2875" y="3589"/>
                    </a:lnTo>
                    <a:lnTo>
                      <a:pt x="3036" y="3577"/>
                    </a:lnTo>
                    <a:lnTo>
                      <a:pt x="3195" y="3557"/>
                    </a:lnTo>
                    <a:lnTo>
                      <a:pt x="3351" y="3529"/>
                    </a:lnTo>
                    <a:lnTo>
                      <a:pt x="3504" y="3494"/>
                    </a:lnTo>
                    <a:lnTo>
                      <a:pt x="3654" y="3451"/>
                    </a:lnTo>
                    <a:lnTo>
                      <a:pt x="3802" y="3401"/>
                    </a:lnTo>
                    <a:lnTo>
                      <a:pt x="3946" y="3345"/>
                    </a:lnTo>
                    <a:lnTo>
                      <a:pt x="4087" y="3281"/>
                    </a:lnTo>
                    <a:lnTo>
                      <a:pt x="4223" y="3211"/>
                    </a:lnTo>
                    <a:lnTo>
                      <a:pt x="4355" y="3135"/>
                    </a:lnTo>
                    <a:lnTo>
                      <a:pt x="4484" y="3052"/>
                    </a:lnTo>
                    <a:lnTo>
                      <a:pt x="4608" y="2964"/>
                    </a:lnTo>
                    <a:lnTo>
                      <a:pt x="4728" y="2870"/>
                    </a:lnTo>
                    <a:lnTo>
                      <a:pt x="4843" y="2771"/>
                    </a:lnTo>
                    <a:lnTo>
                      <a:pt x="4953" y="2666"/>
                    </a:lnTo>
                    <a:lnTo>
                      <a:pt x="5058" y="2555"/>
                    </a:lnTo>
                    <a:lnTo>
                      <a:pt x="5158" y="2441"/>
                    </a:lnTo>
                    <a:lnTo>
                      <a:pt x="5252" y="2321"/>
                    </a:lnTo>
                    <a:lnTo>
                      <a:pt x="5340" y="2197"/>
                    </a:lnTo>
                    <a:lnTo>
                      <a:pt x="5422" y="2069"/>
                    </a:lnTo>
                    <a:lnTo>
                      <a:pt x="5499" y="1936"/>
                    </a:lnTo>
                    <a:lnTo>
                      <a:pt x="5569" y="1799"/>
                    </a:lnTo>
                    <a:lnTo>
                      <a:pt x="5632" y="1658"/>
                    </a:lnTo>
                    <a:lnTo>
                      <a:pt x="5689" y="1515"/>
                    </a:lnTo>
                    <a:lnTo>
                      <a:pt x="5739" y="1368"/>
                    </a:lnTo>
                    <a:lnTo>
                      <a:pt x="5782" y="1218"/>
                    </a:lnTo>
                    <a:lnTo>
                      <a:pt x="5817" y="1065"/>
                    </a:lnTo>
                    <a:lnTo>
                      <a:pt x="5846" y="908"/>
                    </a:lnTo>
                    <a:lnTo>
                      <a:pt x="5865" y="750"/>
                    </a:lnTo>
                    <a:lnTo>
                      <a:pt x="5878" y="589"/>
                    </a:lnTo>
                    <a:lnTo>
                      <a:pt x="5881" y="4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38600" y="4159080"/>
                <a:ext cx="1530360" cy="938520"/>
              </a:xfrm>
              <a:custGeom>
                <a:avLst/>
                <a:gdLst/>
                <a:ahLst/>
                <a:rect l="l" t="t" r="r" b="b"/>
                <a:pathLst>
                  <a:path w="5789" h="3547">
                    <a:moveTo>
                      <a:pt x="5789" y="426"/>
                    </a:moveTo>
                    <a:lnTo>
                      <a:pt x="5788" y="372"/>
                    </a:lnTo>
                    <a:lnTo>
                      <a:pt x="5787" y="318"/>
                    </a:lnTo>
                    <a:lnTo>
                      <a:pt x="5785" y="265"/>
                    </a:lnTo>
                    <a:lnTo>
                      <a:pt x="5782" y="211"/>
                    </a:lnTo>
                    <a:lnTo>
                      <a:pt x="5778" y="158"/>
                    </a:lnTo>
                    <a:lnTo>
                      <a:pt x="5773" y="105"/>
                    </a:lnTo>
                    <a:lnTo>
                      <a:pt x="5767" y="53"/>
                    </a:lnTo>
                    <a:lnTo>
                      <a:pt x="5760" y="0"/>
                    </a:lnTo>
                    <a:lnTo>
                      <a:pt x="5696" y="0"/>
                    </a:lnTo>
                    <a:lnTo>
                      <a:pt x="5668" y="15"/>
                    </a:lnTo>
                    <a:lnTo>
                      <a:pt x="5674" y="65"/>
                    </a:lnTo>
                    <a:lnTo>
                      <a:pt x="5680" y="116"/>
                    </a:lnTo>
                    <a:lnTo>
                      <a:pt x="5684" y="167"/>
                    </a:lnTo>
                    <a:lnTo>
                      <a:pt x="5689" y="219"/>
                    </a:lnTo>
                    <a:lnTo>
                      <a:pt x="5692" y="269"/>
                    </a:lnTo>
                    <a:lnTo>
                      <a:pt x="5693" y="321"/>
                    </a:lnTo>
                    <a:lnTo>
                      <a:pt x="5696" y="373"/>
                    </a:lnTo>
                    <a:lnTo>
                      <a:pt x="5696" y="426"/>
                    </a:lnTo>
                    <a:lnTo>
                      <a:pt x="5692" y="582"/>
                    </a:lnTo>
                    <a:lnTo>
                      <a:pt x="5681" y="735"/>
                    </a:lnTo>
                    <a:lnTo>
                      <a:pt x="5661" y="887"/>
                    </a:lnTo>
                    <a:lnTo>
                      <a:pt x="5635" y="1036"/>
                    </a:lnTo>
                    <a:lnTo>
                      <a:pt x="5600" y="1182"/>
                    </a:lnTo>
                    <a:lnTo>
                      <a:pt x="5560" y="1326"/>
                    </a:lnTo>
                    <a:lnTo>
                      <a:pt x="5512" y="1467"/>
                    </a:lnTo>
                    <a:lnTo>
                      <a:pt x="5458" y="1604"/>
                    </a:lnTo>
                    <a:lnTo>
                      <a:pt x="5397" y="1739"/>
                    </a:lnTo>
                    <a:lnTo>
                      <a:pt x="5330" y="1869"/>
                    </a:lnTo>
                    <a:lnTo>
                      <a:pt x="5257" y="1996"/>
                    </a:lnTo>
                    <a:lnTo>
                      <a:pt x="5178" y="2118"/>
                    </a:lnTo>
                    <a:lnTo>
                      <a:pt x="5094" y="2237"/>
                    </a:lnTo>
                    <a:lnTo>
                      <a:pt x="5004" y="2352"/>
                    </a:lnTo>
                    <a:lnTo>
                      <a:pt x="4909" y="2462"/>
                    </a:lnTo>
                    <a:lnTo>
                      <a:pt x="4809" y="2567"/>
                    </a:lnTo>
                    <a:lnTo>
                      <a:pt x="4703" y="2667"/>
                    </a:lnTo>
                    <a:lnTo>
                      <a:pt x="4593" y="2763"/>
                    </a:lnTo>
                    <a:lnTo>
                      <a:pt x="4479" y="2853"/>
                    </a:lnTo>
                    <a:lnTo>
                      <a:pt x="4360" y="2937"/>
                    </a:lnTo>
                    <a:lnTo>
                      <a:pt x="4237" y="3015"/>
                    </a:lnTo>
                    <a:lnTo>
                      <a:pt x="4110" y="3088"/>
                    </a:lnTo>
                    <a:lnTo>
                      <a:pt x="3979" y="3155"/>
                    </a:lnTo>
                    <a:lnTo>
                      <a:pt x="3846" y="3216"/>
                    </a:lnTo>
                    <a:lnTo>
                      <a:pt x="3707" y="3270"/>
                    </a:lnTo>
                    <a:lnTo>
                      <a:pt x="3567" y="3317"/>
                    </a:lnTo>
                    <a:lnTo>
                      <a:pt x="3423" y="3359"/>
                    </a:lnTo>
                    <a:lnTo>
                      <a:pt x="3277" y="3392"/>
                    </a:lnTo>
                    <a:lnTo>
                      <a:pt x="3127" y="3419"/>
                    </a:lnTo>
                    <a:lnTo>
                      <a:pt x="2976" y="3438"/>
                    </a:lnTo>
                    <a:lnTo>
                      <a:pt x="2823" y="3450"/>
                    </a:lnTo>
                    <a:lnTo>
                      <a:pt x="2666" y="3453"/>
                    </a:lnTo>
                    <a:lnTo>
                      <a:pt x="2564" y="3452"/>
                    </a:lnTo>
                    <a:lnTo>
                      <a:pt x="2464" y="3447"/>
                    </a:lnTo>
                    <a:lnTo>
                      <a:pt x="2364" y="3439"/>
                    </a:lnTo>
                    <a:lnTo>
                      <a:pt x="2265" y="3428"/>
                    </a:lnTo>
                    <a:lnTo>
                      <a:pt x="2167" y="3413"/>
                    </a:lnTo>
                    <a:lnTo>
                      <a:pt x="2071" y="3396"/>
                    </a:lnTo>
                    <a:lnTo>
                      <a:pt x="1975" y="3375"/>
                    </a:lnTo>
                    <a:lnTo>
                      <a:pt x="1880" y="3351"/>
                    </a:lnTo>
                    <a:lnTo>
                      <a:pt x="1787" y="3324"/>
                    </a:lnTo>
                    <a:lnTo>
                      <a:pt x="1695" y="3294"/>
                    </a:lnTo>
                    <a:lnTo>
                      <a:pt x="1603" y="3262"/>
                    </a:lnTo>
                    <a:lnTo>
                      <a:pt x="1515" y="3227"/>
                    </a:lnTo>
                    <a:lnTo>
                      <a:pt x="1427" y="3189"/>
                    </a:lnTo>
                    <a:lnTo>
                      <a:pt x="1340" y="3149"/>
                    </a:lnTo>
                    <a:lnTo>
                      <a:pt x="1255" y="3106"/>
                    </a:lnTo>
                    <a:lnTo>
                      <a:pt x="1172" y="3060"/>
                    </a:lnTo>
                    <a:lnTo>
                      <a:pt x="1089" y="3012"/>
                    </a:lnTo>
                    <a:lnTo>
                      <a:pt x="1009" y="2961"/>
                    </a:lnTo>
                    <a:lnTo>
                      <a:pt x="931" y="2908"/>
                    </a:lnTo>
                    <a:lnTo>
                      <a:pt x="854" y="2853"/>
                    </a:lnTo>
                    <a:lnTo>
                      <a:pt x="779" y="2795"/>
                    </a:lnTo>
                    <a:lnTo>
                      <a:pt x="706" y="2735"/>
                    </a:lnTo>
                    <a:lnTo>
                      <a:pt x="636" y="2673"/>
                    </a:lnTo>
                    <a:lnTo>
                      <a:pt x="566" y="2608"/>
                    </a:lnTo>
                    <a:lnTo>
                      <a:pt x="500" y="2541"/>
                    </a:lnTo>
                    <a:lnTo>
                      <a:pt x="434" y="2473"/>
                    </a:lnTo>
                    <a:lnTo>
                      <a:pt x="372" y="2402"/>
                    </a:lnTo>
                    <a:lnTo>
                      <a:pt x="310" y="2329"/>
                    </a:lnTo>
                    <a:lnTo>
                      <a:pt x="253" y="2256"/>
                    </a:lnTo>
                    <a:lnTo>
                      <a:pt x="196" y="2179"/>
                    </a:lnTo>
                    <a:lnTo>
                      <a:pt x="142" y="2101"/>
                    </a:lnTo>
                    <a:lnTo>
                      <a:pt x="91" y="2022"/>
                    </a:lnTo>
                    <a:lnTo>
                      <a:pt x="66" y="2030"/>
                    </a:lnTo>
                    <a:lnTo>
                      <a:pt x="0" y="2050"/>
                    </a:lnTo>
                    <a:lnTo>
                      <a:pt x="52" y="2134"/>
                    </a:lnTo>
                    <a:lnTo>
                      <a:pt x="107" y="2215"/>
                    </a:lnTo>
                    <a:lnTo>
                      <a:pt x="165" y="2295"/>
                    </a:lnTo>
                    <a:lnTo>
                      <a:pt x="225" y="2373"/>
                    </a:lnTo>
                    <a:lnTo>
                      <a:pt x="287" y="2448"/>
                    </a:lnTo>
                    <a:lnTo>
                      <a:pt x="353" y="2522"/>
                    </a:lnTo>
                    <a:lnTo>
                      <a:pt x="420" y="2593"/>
                    </a:lnTo>
                    <a:lnTo>
                      <a:pt x="489" y="2664"/>
                    </a:lnTo>
                    <a:lnTo>
                      <a:pt x="561" y="2730"/>
                    </a:lnTo>
                    <a:lnTo>
                      <a:pt x="633" y="2795"/>
                    </a:lnTo>
                    <a:lnTo>
                      <a:pt x="710" y="2858"/>
                    </a:lnTo>
                    <a:lnTo>
                      <a:pt x="787" y="2918"/>
                    </a:lnTo>
                    <a:lnTo>
                      <a:pt x="866" y="2976"/>
                    </a:lnTo>
                    <a:lnTo>
                      <a:pt x="947" y="3032"/>
                    </a:lnTo>
                    <a:lnTo>
                      <a:pt x="1030" y="3084"/>
                    </a:lnTo>
                    <a:lnTo>
                      <a:pt x="1116" y="3135"/>
                    </a:lnTo>
                    <a:lnTo>
                      <a:pt x="1202" y="3183"/>
                    </a:lnTo>
                    <a:lnTo>
                      <a:pt x="1290" y="3228"/>
                    </a:lnTo>
                    <a:lnTo>
                      <a:pt x="1380" y="3271"/>
                    </a:lnTo>
                    <a:lnTo>
                      <a:pt x="1471" y="3310"/>
                    </a:lnTo>
                    <a:lnTo>
                      <a:pt x="1564" y="3347"/>
                    </a:lnTo>
                    <a:lnTo>
                      <a:pt x="1658" y="3381"/>
                    </a:lnTo>
                    <a:lnTo>
                      <a:pt x="1753" y="3412"/>
                    </a:lnTo>
                    <a:lnTo>
                      <a:pt x="1850" y="3439"/>
                    </a:lnTo>
                    <a:lnTo>
                      <a:pt x="1948" y="3464"/>
                    </a:lnTo>
                    <a:lnTo>
                      <a:pt x="2047" y="3486"/>
                    </a:lnTo>
                    <a:lnTo>
                      <a:pt x="2148" y="3504"/>
                    </a:lnTo>
                    <a:lnTo>
                      <a:pt x="2250" y="3519"/>
                    </a:lnTo>
                    <a:lnTo>
                      <a:pt x="2352" y="3532"/>
                    </a:lnTo>
                    <a:lnTo>
                      <a:pt x="2456" y="3540"/>
                    </a:lnTo>
                    <a:lnTo>
                      <a:pt x="2561" y="3545"/>
                    </a:lnTo>
                    <a:lnTo>
                      <a:pt x="2666" y="3547"/>
                    </a:lnTo>
                    <a:lnTo>
                      <a:pt x="2827" y="3543"/>
                    </a:lnTo>
                    <a:lnTo>
                      <a:pt x="2985" y="3530"/>
                    </a:lnTo>
                    <a:lnTo>
                      <a:pt x="3142" y="3511"/>
                    </a:lnTo>
                    <a:lnTo>
                      <a:pt x="3295" y="3483"/>
                    </a:lnTo>
                    <a:lnTo>
                      <a:pt x="3447" y="3449"/>
                    </a:lnTo>
                    <a:lnTo>
                      <a:pt x="3594" y="3407"/>
                    </a:lnTo>
                    <a:lnTo>
                      <a:pt x="3740" y="3358"/>
                    </a:lnTo>
                    <a:lnTo>
                      <a:pt x="3881" y="3301"/>
                    </a:lnTo>
                    <a:lnTo>
                      <a:pt x="4020" y="3239"/>
                    </a:lnTo>
                    <a:lnTo>
                      <a:pt x="4155" y="3170"/>
                    </a:lnTo>
                    <a:lnTo>
                      <a:pt x="4285" y="3095"/>
                    </a:lnTo>
                    <a:lnTo>
                      <a:pt x="4412" y="3014"/>
                    </a:lnTo>
                    <a:lnTo>
                      <a:pt x="4534" y="2926"/>
                    </a:lnTo>
                    <a:lnTo>
                      <a:pt x="4652" y="2834"/>
                    </a:lnTo>
                    <a:lnTo>
                      <a:pt x="4766" y="2736"/>
                    </a:lnTo>
                    <a:lnTo>
                      <a:pt x="4874" y="2632"/>
                    </a:lnTo>
                    <a:lnTo>
                      <a:pt x="4977" y="2524"/>
                    </a:lnTo>
                    <a:lnTo>
                      <a:pt x="5076" y="2411"/>
                    </a:lnTo>
                    <a:lnTo>
                      <a:pt x="5169" y="2294"/>
                    </a:lnTo>
                    <a:lnTo>
                      <a:pt x="5255" y="2170"/>
                    </a:lnTo>
                    <a:lnTo>
                      <a:pt x="5337" y="2045"/>
                    </a:lnTo>
                    <a:lnTo>
                      <a:pt x="5412" y="1913"/>
                    </a:lnTo>
                    <a:lnTo>
                      <a:pt x="5481" y="1779"/>
                    </a:lnTo>
                    <a:lnTo>
                      <a:pt x="5543" y="1641"/>
                    </a:lnTo>
                    <a:lnTo>
                      <a:pt x="5600" y="1499"/>
                    </a:lnTo>
                    <a:lnTo>
                      <a:pt x="5648" y="1354"/>
                    </a:lnTo>
                    <a:lnTo>
                      <a:pt x="5691" y="1205"/>
                    </a:lnTo>
                    <a:lnTo>
                      <a:pt x="5726" y="1054"/>
                    </a:lnTo>
                    <a:lnTo>
                      <a:pt x="5753" y="901"/>
                    </a:lnTo>
                    <a:lnTo>
                      <a:pt x="5773" y="745"/>
                    </a:lnTo>
                    <a:lnTo>
                      <a:pt x="5785" y="586"/>
                    </a:lnTo>
                    <a:lnTo>
                      <a:pt x="5789" y="42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49400" y="4159080"/>
                <a:ext cx="1508400" cy="927360"/>
              </a:xfrm>
              <a:custGeom>
                <a:avLst/>
                <a:gdLst/>
                <a:ahLst/>
                <a:rect l="l" t="t" r="r" b="b"/>
                <a:pathLst>
                  <a:path w="5698" h="3501">
                    <a:moveTo>
                      <a:pt x="5698" y="426"/>
                    </a:moveTo>
                    <a:lnTo>
                      <a:pt x="5697" y="372"/>
                    </a:lnTo>
                    <a:lnTo>
                      <a:pt x="5696" y="318"/>
                    </a:lnTo>
                    <a:lnTo>
                      <a:pt x="5693" y="265"/>
                    </a:lnTo>
                    <a:lnTo>
                      <a:pt x="5690" y="211"/>
                    </a:lnTo>
                    <a:lnTo>
                      <a:pt x="5685" y="158"/>
                    </a:lnTo>
                    <a:lnTo>
                      <a:pt x="5681" y="105"/>
                    </a:lnTo>
                    <a:lnTo>
                      <a:pt x="5675" y="53"/>
                    </a:lnTo>
                    <a:lnTo>
                      <a:pt x="5668" y="0"/>
                    </a:lnTo>
                    <a:lnTo>
                      <a:pt x="5651" y="0"/>
                    </a:lnTo>
                    <a:lnTo>
                      <a:pt x="5579" y="36"/>
                    </a:lnTo>
                    <a:lnTo>
                      <a:pt x="5585" y="85"/>
                    </a:lnTo>
                    <a:lnTo>
                      <a:pt x="5590" y="133"/>
                    </a:lnTo>
                    <a:lnTo>
                      <a:pt x="5594" y="182"/>
                    </a:lnTo>
                    <a:lnTo>
                      <a:pt x="5598" y="230"/>
                    </a:lnTo>
                    <a:lnTo>
                      <a:pt x="5601" y="279"/>
                    </a:lnTo>
                    <a:lnTo>
                      <a:pt x="5602" y="327"/>
                    </a:lnTo>
                    <a:lnTo>
                      <a:pt x="5603" y="377"/>
                    </a:lnTo>
                    <a:lnTo>
                      <a:pt x="5605" y="426"/>
                    </a:lnTo>
                    <a:lnTo>
                      <a:pt x="5600" y="579"/>
                    </a:lnTo>
                    <a:lnTo>
                      <a:pt x="5588" y="730"/>
                    </a:lnTo>
                    <a:lnTo>
                      <a:pt x="5570" y="880"/>
                    </a:lnTo>
                    <a:lnTo>
                      <a:pt x="5543" y="1027"/>
                    </a:lnTo>
                    <a:lnTo>
                      <a:pt x="5510" y="1171"/>
                    </a:lnTo>
                    <a:lnTo>
                      <a:pt x="5470" y="1313"/>
                    </a:lnTo>
                    <a:lnTo>
                      <a:pt x="5423" y="1451"/>
                    </a:lnTo>
                    <a:lnTo>
                      <a:pt x="5369" y="1586"/>
                    </a:lnTo>
                    <a:lnTo>
                      <a:pt x="5310" y="1718"/>
                    </a:lnTo>
                    <a:lnTo>
                      <a:pt x="5244" y="1847"/>
                    </a:lnTo>
                    <a:lnTo>
                      <a:pt x="5172" y="1972"/>
                    </a:lnTo>
                    <a:lnTo>
                      <a:pt x="5095" y="2093"/>
                    </a:lnTo>
                    <a:lnTo>
                      <a:pt x="5012" y="2209"/>
                    </a:lnTo>
                    <a:lnTo>
                      <a:pt x="4923" y="2322"/>
                    </a:lnTo>
                    <a:lnTo>
                      <a:pt x="4829" y="2431"/>
                    </a:lnTo>
                    <a:lnTo>
                      <a:pt x="4730" y="2533"/>
                    </a:lnTo>
                    <a:lnTo>
                      <a:pt x="4626" y="2632"/>
                    </a:lnTo>
                    <a:lnTo>
                      <a:pt x="4518" y="2726"/>
                    </a:lnTo>
                    <a:lnTo>
                      <a:pt x="4406" y="2815"/>
                    </a:lnTo>
                    <a:lnTo>
                      <a:pt x="4289" y="2898"/>
                    </a:lnTo>
                    <a:lnTo>
                      <a:pt x="4167" y="2976"/>
                    </a:lnTo>
                    <a:lnTo>
                      <a:pt x="4043" y="3047"/>
                    </a:lnTo>
                    <a:lnTo>
                      <a:pt x="3915" y="3113"/>
                    </a:lnTo>
                    <a:lnTo>
                      <a:pt x="3782" y="3173"/>
                    </a:lnTo>
                    <a:lnTo>
                      <a:pt x="3647" y="3226"/>
                    </a:lnTo>
                    <a:lnTo>
                      <a:pt x="3508" y="3273"/>
                    </a:lnTo>
                    <a:lnTo>
                      <a:pt x="3367" y="3314"/>
                    </a:lnTo>
                    <a:lnTo>
                      <a:pt x="3223" y="3347"/>
                    </a:lnTo>
                    <a:lnTo>
                      <a:pt x="3075" y="3373"/>
                    </a:lnTo>
                    <a:lnTo>
                      <a:pt x="2926" y="3392"/>
                    </a:lnTo>
                    <a:lnTo>
                      <a:pt x="2774" y="3404"/>
                    </a:lnTo>
                    <a:lnTo>
                      <a:pt x="2621" y="3407"/>
                    </a:lnTo>
                    <a:lnTo>
                      <a:pt x="2522" y="3406"/>
                    </a:lnTo>
                    <a:lnTo>
                      <a:pt x="2422" y="3400"/>
                    </a:lnTo>
                    <a:lnTo>
                      <a:pt x="2325" y="3392"/>
                    </a:lnTo>
                    <a:lnTo>
                      <a:pt x="2227" y="3382"/>
                    </a:lnTo>
                    <a:lnTo>
                      <a:pt x="2132" y="3368"/>
                    </a:lnTo>
                    <a:lnTo>
                      <a:pt x="2037" y="3351"/>
                    </a:lnTo>
                    <a:lnTo>
                      <a:pt x="1942" y="3330"/>
                    </a:lnTo>
                    <a:lnTo>
                      <a:pt x="1850" y="3307"/>
                    </a:lnTo>
                    <a:lnTo>
                      <a:pt x="1759" y="3280"/>
                    </a:lnTo>
                    <a:lnTo>
                      <a:pt x="1668" y="3252"/>
                    </a:lnTo>
                    <a:lnTo>
                      <a:pt x="1579" y="3220"/>
                    </a:lnTo>
                    <a:lnTo>
                      <a:pt x="1492" y="3186"/>
                    </a:lnTo>
                    <a:lnTo>
                      <a:pt x="1405" y="3149"/>
                    </a:lnTo>
                    <a:lnTo>
                      <a:pt x="1320" y="3110"/>
                    </a:lnTo>
                    <a:lnTo>
                      <a:pt x="1237" y="3067"/>
                    </a:lnTo>
                    <a:lnTo>
                      <a:pt x="1155" y="3022"/>
                    </a:lnTo>
                    <a:lnTo>
                      <a:pt x="1074" y="2975"/>
                    </a:lnTo>
                    <a:lnTo>
                      <a:pt x="996" y="2925"/>
                    </a:lnTo>
                    <a:lnTo>
                      <a:pt x="918" y="2873"/>
                    </a:lnTo>
                    <a:lnTo>
                      <a:pt x="843" y="2819"/>
                    </a:lnTo>
                    <a:lnTo>
                      <a:pt x="769" y="2763"/>
                    </a:lnTo>
                    <a:lnTo>
                      <a:pt x="698" y="2704"/>
                    </a:lnTo>
                    <a:lnTo>
                      <a:pt x="628" y="2644"/>
                    </a:lnTo>
                    <a:lnTo>
                      <a:pt x="560" y="2581"/>
                    </a:lnTo>
                    <a:lnTo>
                      <a:pt x="494" y="2515"/>
                    </a:lnTo>
                    <a:lnTo>
                      <a:pt x="429" y="2448"/>
                    </a:lnTo>
                    <a:lnTo>
                      <a:pt x="368" y="2379"/>
                    </a:lnTo>
                    <a:lnTo>
                      <a:pt x="308" y="2309"/>
                    </a:lnTo>
                    <a:lnTo>
                      <a:pt x="250" y="2236"/>
                    </a:lnTo>
                    <a:lnTo>
                      <a:pt x="195" y="2161"/>
                    </a:lnTo>
                    <a:lnTo>
                      <a:pt x="142" y="2085"/>
                    </a:lnTo>
                    <a:lnTo>
                      <a:pt x="92" y="2007"/>
                    </a:lnTo>
                    <a:lnTo>
                      <a:pt x="21" y="2030"/>
                    </a:lnTo>
                    <a:lnTo>
                      <a:pt x="0" y="2037"/>
                    </a:lnTo>
                    <a:lnTo>
                      <a:pt x="52" y="2117"/>
                    </a:lnTo>
                    <a:lnTo>
                      <a:pt x="107" y="2198"/>
                    </a:lnTo>
                    <a:lnTo>
                      <a:pt x="164" y="2275"/>
                    </a:lnTo>
                    <a:lnTo>
                      <a:pt x="223" y="2351"/>
                    </a:lnTo>
                    <a:lnTo>
                      <a:pt x="285" y="2425"/>
                    </a:lnTo>
                    <a:lnTo>
                      <a:pt x="348" y="2498"/>
                    </a:lnTo>
                    <a:lnTo>
                      <a:pt x="414" y="2568"/>
                    </a:lnTo>
                    <a:lnTo>
                      <a:pt x="482" y="2636"/>
                    </a:lnTo>
                    <a:lnTo>
                      <a:pt x="553" y="2702"/>
                    </a:lnTo>
                    <a:lnTo>
                      <a:pt x="625" y="2765"/>
                    </a:lnTo>
                    <a:lnTo>
                      <a:pt x="699" y="2826"/>
                    </a:lnTo>
                    <a:lnTo>
                      <a:pt x="775" y="2885"/>
                    </a:lnTo>
                    <a:lnTo>
                      <a:pt x="854" y="2943"/>
                    </a:lnTo>
                    <a:lnTo>
                      <a:pt x="933" y="2997"/>
                    </a:lnTo>
                    <a:lnTo>
                      <a:pt x="1015" y="3049"/>
                    </a:lnTo>
                    <a:lnTo>
                      <a:pt x="1098" y="3098"/>
                    </a:lnTo>
                    <a:lnTo>
                      <a:pt x="1184" y="3144"/>
                    </a:lnTo>
                    <a:lnTo>
                      <a:pt x="1270" y="3188"/>
                    </a:lnTo>
                    <a:lnTo>
                      <a:pt x="1358" y="3230"/>
                    </a:lnTo>
                    <a:lnTo>
                      <a:pt x="1448" y="3269"/>
                    </a:lnTo>
                    <a:lnTo>
                      <a:pt x="1539" y="3305"/>
                    </a:lnTo>
                    <a:lnTo>
                      <a:pt x="1631" y="3338"/>
                    </a:lnTo>
                    <a:lnTo>
                      <a:pt x="1726" y="3368"/>
                    </a:lnTo>
                    <a:lnTo>
                      <a:pt x="1820" y="3396"/>
                    </a:lnTo>
                    <a:lnTo>
                      <a:pt x="1917" y="3420"/>
                    </a:lnTo>
                    <a:lnTo>
                      <a:pt x="2014" y="3441"/>
                    </a:lnTo>
                    <a:lnTo>
                      <a:pt x="2113" y="3459"/>
                    </a:lnTo>
                    <a:lnTo>
                      <a:pt x="2212" y="3473"/>
                    </a:lnTo>
                    <a:lnTo>
                      <a:pt x="2314" y="3486"/>
                    </a:lnTo>
                    <a:lnTo>
                      <a:pt x="2415" y="3494"/>
                    </a:lnTo>
                    <a:lnTo>
                      <a:pt x="2518" y="3498"/>
                    </a:lnTo>
                    <a:lnTo>
                      <a:pt x="2621" y="3501"/>
                    </a:lnTo>
                    <a:lnTo>
                      <a:pt x="2780" y="3496"/>
                    </a:lnTo>
                    <a:lnTo>
                      <a:pt x="2936" y="3484"/>
                    </a:lnTo>
                    <a:lnTo>
                      <a:pt x="3090" y="3465"/>
                    </a:lnTo>
                    <a:lnTo>
                      <a:pt x="3241" y="3438"/>
                    </a:lnTo>
                    <a:lnTo>
                      <a:pt x="3390" y="3404"/>
                    </a:lnTo>
                    <a:lnTo>
                      <a:pt x="3535" y="3362"/>
                    </a:lnTo>
                    <a:lnTo>
                      <a:pt x="3678" y="3314"/>
                    </a:lnTo>
                    <a:lnTo>
                      <a:pt x="3819" y="3258"/>
                    </a:lnTo>
                    <a:lnTo>
                      <a:pt x="3955" y="3197"/>
                    </a:lnTo>
                    <a:lnTo>
                      <a:pt x="4088" y="3129"/>
                    </a:lnTo>
                    <a:lnTo>
                      <a:pt x="4216" y="3056"/>
                    </a:lnTo>
                    <a:lnTo>
                      <a:pt x="4340" y="2975"/>
                    </a:lnTo>
                    <a:lnTo>
                      <a:pt x="4462" y="2890"/>
                    </a:lnTo>
                    <a:lnTo>
                      <a:pt x="4578" y="2798"/>
                    </a:lnTo>
                    <a:lnTo>
                      <a:pt x="4690" y="2702"/>
                    </a:lnTo>
                    <a:lnTo>
                      <a:pt x="4796" y="2600"/>
                    </a:lnTo>
                    <a:lnTo>
                      <a:pt x="4899" y="2493"/>
                    </a:lnTo>
                    <a:lnTo>
                      <a:pt x="4994" y="2381"/>
                    </a:lnTo>
                    <a:lnTo>
                      <a:pt x="5086" y="2265"/>
                    </a:lnTo>
                    <a:lnTo>
                      <a:pt x="5172" y="2145"/>
                    </a:lnTo>
                    <a:lnTo>
                      <a:pt x="5252" y="2020"/>
                    </a:lnTo>
                    <a:lnTo>
                      <a:pt x="5325" y="1891"/>
                    </a:lnTo>
                    <a:lnTo>
                      <a:pt x="5393" y="1759"/>
                    </a:lnTo>
                    <a:lnTo>
                      <a:pt x="5456" y="1623"/>
                    </a:lnTo>
                    <a:lnTo>
                      <a:pt x="5511" y="1483"/>
                    </a:lnTo>
                    <a:lnTo>
                      <a:pt x="5560" y="1340"/>
                    </a:lnTo>
                    <a:lnTo>
                      <a:pt x="5600" y="1194"/>
                    </a:lnTo>
                    <a:lnTo>
                      <a:pt x="5635" y="1045"/>
                    </a:lnTo>
                    <a:lnTo>
                      <a:pt x="5662" y="894"/>
                    </a:lnTo>
                    <a:lnTo>
                      <a:pt x="5682" y="740"/>
                    </a:lnTo>
                    <a:lnTo>
                      <a:pt x="5693" y="584"/>
                    </a:lnTo>
                    <a:lnTo>
                      <a:pt x="5698" y="42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862360" y="4164120"/>
                <a:ext cx="1482480" cy="909360"/>
              </a:xfrm>
              <a:custGeom>
                <a:avLst/>
                <a:gdLst/>
                <a:ahLst/>
                <a:rect l="l" t="t" r="r" b="b"/>
                <a:pathLst>
                  <a:path w="5605" h="3438">
                    <a:moveTo>
                      <a:pt x="5605" y="411"/>
                    </a:moveTo>
                    <a:lnTo>
                      <a:pt x="5605" y="358"/>
                    </a:lnTo>
                    <a:lnTo>
                      <a:pt x="5604" y="306"/>
                    </a:lnTo>
                    <a:lnTo>
                      <a:pt x="5601" y="254"/>
                    </a:lnTo>
                    <a:lnTo>
                      <a:pt x="5598" y="204"/>
                    </a:lnTo>
                    <a:lnTo>
                      <a:pt x="5593" y="152"/>
                    </a:lnTo>
                    <a:lnTo>
                      <a:pt x="5589" y="101"/>
                    </a:lnTo>
                    <a:lnTo>
                      <a:pt x="5583" y="50"/>
                    </a:lnTo>
                    <a:lnTo>
                      <a:pt x="5577" y="0"/>
                    </a:lnTo>
                    <a:lnTo>
                      <a:pt x="5527" y="25"/>
                    </a:lnTo>
                    <a:lnTo>
                      <a:pt x="5486" y="25"/>
                    </a:lnTo>
                    <a:lnTo>
                      <a:pt x="5492" y="72"/>
                    </a:lnTo>
                    <a:lnTo>
                      <a:pt x="5497" y="121"/>
                    </a:lnTo>
                    <a:lnTo>
                      <a:pt x="5502" y="168"/>
                    </a:lnTo>
                    <a:lnTo>
                      <a:pt x="5506" y="216"/>
                    </a:lnTo>
                    <a:lnTo>
                      <a:pt x="5508" y="265"/>
                    </a:lnTo>
                    <a:lnTo>
                      <a:pt x="5510" y="313"/>
                    </a:lnTo>
                    <a:lnTo>
                      <a:pt x="5511" y="362"/>
                    </a:lnTo>
                    <a:lnTo>
                      <a:pt x="5511" y="411"/>
                    </a:lnTo>
                    <a:lnTo>
                      <a:pt x="5508" y="562"/>
                    </a:lnTo>
                    <a:lnTo>
                      <a:pt x="5496" y="711"/>
                    </a:lnTo>
                    <a:lnTo>
                      <a:pt x="5478" y="858"/>
                    </a:lnTo>
                    <a:lnTo>
                      <a:pt x="5452" y="1002"/>
                    </a:lnTo>
                    <a:lnTo>
                      <a:pt x="5419" y="1144"/>
                    </a:lnTo>
                    <a:lnTo>
                      <a:pt x="5380" y="1284"/>
                    </a:lnTo>
                    <a:lnTo>
                      <a:pt x="5334" y="1420"/>
                    </a:lnTo>
                    <a:lnTo>
                      <a:pt x="5281" y="1553"/>
                    </a:lnTo>
                    <a:lnTo>
                      <a:pt x="5222" y="1684"/>
                    </a:lnTo>
                    <a:lnTo>
                      <a:pt x="5157" y="1809"/>
                    </a:lnTo>
                    <a:lnTo>
                      <a:pt x="5087" y="1933"/>
                    </a:lnTo>
                    <a:lnTo>
                      <a:pt x="5010" y="2051"/>
                    </a:lnTo>
                    <a:lnTo>
                      <a:pt x="4928" y="2167"/>
                    </a:lnTo>
                    <a:lnTo>
                      <a:pt x="4841" y="2277"/>
                    </a:lnTo>
                    <a:lnTo>
                      <a:pt x="4749" y="2385"/>
                    </a:lnTo>
                    <a:lnTo>
                      <a:pt x="4652" y="2486"/>
                    </a:lnTo>
                    <a:lnTo>
                      <a:pt x="4549" y="2583"/>
                    </a:lnTo>
                    <a:lnTo>
                      <a:pt x="4443" y="2675"/>
                    </a:lnTo>
                    <a:lnTo>
                      <a:pt x="4331" y="2763"/>
                    </a:lnTo>
                    <a:lnTo>
                      <a:pt x="4217" y="2845"/>
                    </a:lnTo>
                    <a:lnTo>
                      <a:pt x="4097" y="2921"/>
                    </a:lnTo>
                    <a:lnTo>
                      <a:pt x="3975" y="2991"/>
                    </a:lnTo>
                    <a:lnTo>
                      <a:pt x="3848" y="3057"/>
                    </a:lnTo>
                    <a:lnTo>
                      <a:pt x="3718" y="3115"/>
                    </a:lnTo>
                    <a:lnTo>
                      <a:pt x="3585" y="3167"/>
                    </a:lnTo>
                    <a:lnTo>
                      <a:pt x="3448" y="3213"/>
                    </a:lnTo>
                    <a:lnTo>
                      <a:pt x="3309" y="3254"/>
                    </a:lnTo>
                    <a:lnTo>
                      <a:pt x="3166" y="3286"/>
                    </a:lnTo>
                    <a:lnTo>
                      <a:pt x="3022" y="3311"/>
                    </a:lnTo>
                    <a:lnTo>
                      <a:pt x="2876" y="3330"/>
                    </a:lnTo>
                    <a:lnTo>
                      <a:pt x="2726" y="3341"/>
                    </a:lnTo>
                    <a:lnTo>
                      <a:pt x="2575" y="3346"/>
                    </a:lnTo>
                    <a:lnTo>
                      <a:pt x="2478" y="3344"/>
                    </a:lnTo>
                    <a:lnTo>
                      <a:pt x="2381" y="3339"/>
                    </a:lnTo>
                    <a:lnTo>
                      <a:pt x="2284" y="3331"/>
                    </a:lnTo>
                    <a:lnTo>
                      <a:pt x="2189" y="3321"/>
                    </a:lnTo>
                    <a:lnTo>
                      <a:pt x="2095" y="3307"/>
                    </a:lnTo>
                    <a:lnTo>
                      <a:pt x="2003" y="3290"/>
                    </a:lnTo>
                    <a:lnTo>
                      <a:pt x="1910" y="3270"/>
                    </a:lnTo>
                    <a:lnTo>
                      <a:pt x="1819" y="3247"/>
                    </a:lnTo>
                    <a:lnTo>
                      <a:pt x="1729" y="3222"/>
                    </a:lnTo>
                    <a:lnTo>
                      <a:pt x="1640" y="3194"/>
                    </a:lnTo>
                    <a:lnTo>
                      <a:pt x="1553" y="3163"/>
                    </a:lnTo>
                    <a:lnTo>
                      <a:pt x="1466" y="3129"/>
                    </a:lnTo>
                    <a:lnTo>
                      <a:pt x="1382" y="3094"/>
                    </a:lnTo>
                    <a:lnTo>
                      <a:pt x="1299" y="3054"/>
                    </a:lnTo>
                    <a:lnTo>
                      <a:pt x="1217" y="3013"/>
                    </a:lnTo>
                    <a:lnTo>
                      <a:pt x="1136" y="2969"/>
                    </a:lnTo>
                    <a:lnTo>
                      <a:pt x="1057" y="2923"/>
                    </a:lnTo>
                    <a:lnTo>
                      <a:pt x="980" y="2875"/>
                    </a:lnTo>
                    <a:lnTo>
                      <a:pt x="903" y="2824"/>
                    </a:lnTo>
                    <a:lnTo>
                      <a:pt x="830" y="2771"/>
                    </a:lnTo>
                    <a:lnTo>
                      <a:pt x="758" y="2715"/>
                    </a:lnTo>
                    <a:lnTo>
                      <a:pt x="688" y="2659"/>
                    </a:lnTo>
                    <a:lnTo>
                      <a:pt x="619" y="2599"/>
                    </a:lnTo>
                    <a:lnTo>
                      <a:pt x="552" y="2538"/>
                    </a:lnTo>
                    <a:lnTo>
                      <a:pt x="487" y="2473"/>
                    </a:lnTo>
                    <a:lnTo>
                      <a:pt x="424" y="2409"/>
                    </a:lnTo>
                    <a:lnTo>
                      <a:pt x="364" y="2341"/>
                    </a:lnTo>
                    <a:lnTo>
                      <a:pt x="305" y="2272"/>
                    </a:lnTo>
                    <a:lnTo>
                      <a:pt x="248" y="2200"/>
                    </a:lnTo>
                    <a:lnTo>
                      <a:pt x="193" y="2128"/>
                    </a:lnTo>
                    <a:lnTo>
                      <a:pt x="141" y="2053"/>
                    </a:lnTo>
                    <a:lnTo>
                      <a:pt x="91" y="1977"/>
                    </a:lnTo>
                    <a:lnTo>
                      <a:pt x="89" y="1978"/>
                    </a:lnTo>
                    <a:lnTo>
                      <a:pt x="0" y="2007"/>
                    </a:lnTo>
                    <a:lnTo>
                      <a:pt x="51" y="2086"/>
                    </a:lnTo>
                    <a:lnTo>
                      <a:pt x="105" y="2164"/>
                    </a:lnTo>
                    <a:lnTo>
                      <a:pt x="162" y="2241"/>
                    </a:lnTo>
                    <a:lnTo>
                      <a:pt x="219" y="2314"/>
                    </a:lnTo>
                    <a:lnTo>
                      <a:pt x="281" y="2387"/>
                    </a:lnTo>
                    <a:lnTo>
                      <a:pt x="343" y="2458"/>
                    </a:lnTo>
                    <a:lnTo>
                      <a:pt x="409" y="2526"/>
                    </a:lnTo>
                    <a:lnTo>
                      <a:pt x="475" y="2593"/>
                    </a:lnTo>
                    <a:lnTo>
                      <a:pt x="545" y="2658"/>
                    </a:lnTo>
                    <a:lnTo>
                      <a:pt x="615" y="2720"/>
                    </a:lnTo>
                    <a:lnTo>
                      <a:pt x="688" y="2780"/>
                    </a:lnTo>
                    <a:lnTo>
                      <a:pt x="763" y="2838"/>
                    </a:lnTo>
                    <a:lnTo>
                      <a:pt x="840" y="2893"/>
                    </a:lnTo>
                    <a:lnTo>
                      <a:pt x="918" y="2946"/>
                    </a:lnTo>
                    <a:lnTo>
                      <a:pt x="998" y="2997"/>
                    </a:lnTo>
                    <a:lnTo>
                      <a:pt x="1081" y="3045"/>
                    </a:lnTo>
                    <a:lnTo>
                      <a:pt x="1164" y="3091"/>
                    </a:lnTo>
                    <a:lnTo>
                      <a:pt x="1249" y="3134"/>
                    </a:lnTo>
                    <a:lnTo>
                      <a:pt x="1336" y="3174"/>
                    </a:lnTo>
                    <a:lnTo>
                      <a:pt x="1424" y="3212"/>
                    </a:lnTo>
                    <a:lnTo>
                      <a:pt x="1512" y="3247"/>
                    </a:lnTo>
                    <a:lnTo>
                      <a:pt x="1604" y="3280"/>
                    </a:lnTo>
                    <a:lnTo>
                      <a:pt x="1696" y="3309"/>
                    </a:lnTo>
                    <a:lnTo>
                      <a:pt x="1789" y="3336"/>
                    </a:lnTo>
                    <a:lnTo>
                      <a:pt x="1884" y="3360"/>
                    </a:lnTo>
                    <a:lnTo>
                      <a:pt x="1980" y="3381"/>
                    </a:lnTo>
                    <a:lnTo>
                      <a:pt x="2076" y="3398"/>
                    </a:lnTo>
                    <a:lnTo>
                      <a:pt x="2174" y="3413"/>
                    </a:lnTo>
                    <a:lnTo>
                      <a:pt x="2273" y="3424"/>
                    </a:lnTo>
                    <a:lnTo>
                      <a:pt x="2373" y="3432"/>
                    </a:lnTo>
                    <a:lnTo>
                      <a:pt x="2473" y="3437"/>
                    </a:lnTo>
                    <a:lnTo>
                      <a:pt x="2575" y="3438"/>
                    </a:lnTo>
                    <a:lnTo>
                      <a:pt x="2732" y="3435"/>
                    </a:lnTo>
                    <a:lnTo>
                      <a:pt x="2885" y="3423"/>
                    </a:lnTo>
                    <a:lnTo>
                      <a:pt x="3036" y="3404"/>
                    </a:lnTo>
                    <a:lnTo>
                      <a:pt x="3186" y="3377"/>
                    </a:lnTo>
                    <a:lnTo>
                      <a:pt x="3332" y="3344"/>
                    </a:lnTo>
                    <a:lnTo>
                      <a:pt x="3476" y="3302"/>
                    </a:lnTo>
                    <a:lnTo>
                      <a:pt x="3616" y="3255"/>
                    </a:lnTo>
                    <a:lnTo>
                      <a:pt x="3755" y="3201"/>
                    </a:lnTo>
                    <a:lnTo>
                      <a:pt x="3888" y="3140"/>
                    </a:lnTo>
                    <a:lnTo>
                      <a:pt x="4019" y="3073"/>
                    </a:lnTo>
                    <a:lnTo>
                      <a:pt x="4146" y="3000"/>
                    </a:lnTo>
                    <a:lnTo>
                      <a:pt x="4269" y="2922"/>
                    </a:lnTo>
                    <a:lnTo>
                      <a:pt x="4388" y="2838"/>
                    </a:lnTo>
                    <a:lnTo>
                      <a:pt x="4502" y="2748"/>
                    </a:lnTo>
                    <a:lnTo>
                      <a:pt x="4612" y="2652"/>
                    </a:lnTo>
                    <a:lnTo>
                      <a:pt x="4718" y="2552"/>
                    </a:lnTo>
                    <a:lnTo>
                      <a:pt x="4818" y="2447"/>
                    </a:lnTo>
                    <a:lnTo>
                      <a:pt x="4913" y="2337"/>
                    </a:lnTo>
                    <a:lnTo>
                      <a:pt x="5003" y="2222"/>
                    </a:lnTo>
                    <a:lnTo>
                      <a:pt x="5087" y="2103"/>
                    </a:lnTo>
                    <a:lnTo>
                      <a:pt x="5166" y="1981"/>
                    </a:lnTo>
                    <a:lnTo>
                      <a:pt x="5239" y="1854"/>
                    </a:lnTo>
                    <a:lnTo>
                      <a:pt x="5306" y="1724"/>
                    </a:lnTo>
                    <a:lnTo>
                      <a:pt x="5367" y="1589"/>
                    </a:lnTo>
                    <a:lnTo>
                      <a:pt x="5421" y="1452"/>
                    </a:lnTo>
                    <a:lnTo>
                      <a:pt x="5469" y="1311"/>
                    </a:lnTo>
                    <a:lnTo>
                      <a:pt x="5509" y="1167"/>
                    </a:lnTo>
                    <a:lnTo>
                      <a:pt x="5544" y="1021"/>
                    </a:lnTo>
                    <a:lnTo>
                      <a:pt x="5570" y="872"/>
                    </a:lnTo>
                    <a:lnTo>
                      <a:pt x="5590" y="720"/>
                    </a:lnTo>
                    <a:lnTo>
                      <a:pt x="5601" y="567"/>
                    </a:lnTo>
                    <a:lnTo>
                      <a:pt x="5605" y="41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73520" y="4168800"/>
                <a:ext cx="1458720" cy="892080"/>
              </a:xfrm>
              <a:custGeom>
                <a:avLst/>
                <a:gdLst/>
                <a:ahLst/>
                <a:rect l="l" t="t" r="r" b="b"/>
                <a:pathLst>
                  <a:path w="5513" h="3371">
                    <a:moveTo>
                      <a:pt x="5513" y="390"/>
                    </a:moveTo>
                    <a:lnTo>
                      <a:pt x="5511" y="341"/>
                    </a:lnTo>
                    <a:lnTo>
                      <a:pt x="5510" y="291"/>
                    </a:lnTo>
                    <a:lnTo>
                      <a:pt x="5509" y="243"/>
                    </a:lnTo>
                    <a:lnTo>
                      <a:pt x="5506" y="194"/>
                    </a:lnTo>
                    <a:lnTo>
                      <a:pt x="5502" y="146"/>
                    </a:lnTo>
                    <a:lnTo>
                      <a:pt x="5498" y="97"/>
                    </a:lnTo>
                    <a:lnTo>
                      <a:pt x="5493" y="49"/>
                    </a:lnTo>
                    <a:lnTo>
                      <a:pt x="5487" y="0"/>
                    </a:lnTo>
                    <a:lnTo>
                      <a:pt x="5481" y="4"/>
                    </a:lnTo>
                    <a:lnTo>
                      <a:pt x="5394" y="4"/>
                    </a:lnTo>
                    <a:lnTo>
                      <a:pt x="5400" y="51"/>
                    </a:lnTo>
                    <a:lnTo>
                      <a:pt x="5404" y="100"/>
                    </a:lnTo>
                    <a:lnTo>
                      <a:pt x="5409" y="147"/>
                    </a:lnTo>
                    <a:lnTo>
                      <a:pt x="5412" y="195"/>
                    </a:lnTo>
                    <a:lnTo>
                      <a:pt x="5416" y="244"/>
                    </a:lnTo>
                    <a:lnTo>
                      <a:pt x="5417" y="292"/>
                    </a:lnTo>
                    <a:lnTo>
                      <a:pt x="5418" y="341"/>
                    </a:lnTo>
                    <a:lnTo>
                      <a:pt x="5419" y="390"/>
                    </a:lnTo>
                    <a:lnTo>
                      <a:pt x="5416" y="539"/>
                    </a:lnTo>
                    <a:lnTo>
                      <a:pt x="5404" y="685"/>
                    </a:lnTo>
                    <a:lnTo>
                      <a:pt x="5386" y="829"/>
                    </a:lnTo>
                    <a:lnTo>
                      <a:pt x="5360" y="972"/>
                    </a:lnTo>
                    <a:lnTo>
                      <a:pt x="5328" y="1112"/>
                    </a:lnTo>
                    <a:lnTo>
                      <a:pt x="5289" y="1249"/>
                    </a:lnTo>
                    <a:lnTo>
                      <a:pt x="5244" y="1383"/>
                    </a:lnTo>
                    <a:lnTo>
                      <a:pt x="5192" y="1514"/>
                    </a:lnTo>
                    <a:lnTo>
                      <a:pt x="5134" y="1642"/>
                    </a:lnTo>
                    <a:lnTo>
                      <a:pt x="5070" y="1767"/>
                    </a:lnTo>
                    <a:lnTo>
                      <a:pt x="5000" y="1888"/>
                    </a:lnTo>
                    <a:lnTo>
                      <a:pt x="4925" y="2005"/>
                    </a:lnTo>
                    <a:lnTo>
                      <a:pt x="4845" y="2118"/>
                    </a:lnTo>
                    <a:lnTo>
                      <a:pt x="4759" y="2226"/>
                    </a:lnTo>
                    <a:lnTo>
                      <a:pt x="4668" y="2331"/>
                    </a:lnTo>
                    <a:lnTo>
                      <a:pt x="4573" y="2432"/>
                    </a:lnTo>
                    <a:lnTo>
                      <a:pt x="4472" y="2527"/>
                    </a:lnTo>
                    <a:lnTo>
                      <a:pt x="4367" y="2618"/>
                    </a:lnTo>
                    <a:lnTo>
                      <a:pt x="4258" y="2704"/>
                    </a:lnTo>
                    <a:lnTo>
                      <a:pt x="4145" y="2784"/>
                    </a:lnTo>
                    <a:lnTo>
                      <a:pt x="4027" y="2860"/>
                    </a:lnTo>
                    <a:lnTo>
                      <a:pt x="3907" y="2930"/>
                    </a:lnTo>
                    <a:lnTo>
                      <a:pt x="3781" y="2993"/>
                    </a:lnTo>
                    <a:lnTo>
                      <a:pt x="3654" y="3051"/>
                    </a:lnTo>
                    <a:lnTo>
                      <a:pt x="3523" y="3103"/>
                    </a:lnTo>
                    <a:lnTo>
                      <a:pt x="3388" y="3149"/>
                    </a:lnTo>
                    <a:lnTo>
                      <a:pt x="3251" y="3187"/>
                    </a:lnTo>
                    <a:lnTo>
                      <a:pt x="3111" y="3219"/>
                    </a:lnTo>
                    <a:lnTo>
                      <a:pt x="2969" y="3244"/>
                    </a:lnTo>
                    <a:lnTo>
                      <a:pt x="2825" y="3263"/>
                    </a:lnTo>
                    <a:lnTo>
                      <a:pt x="2677" y="3274"/>
                    </a:lnTo>
                    <a:lnTo>
                      <a:pt x="2529" y="3278"/>
                    </a:lnTo>
                    <a:lnTo>
                      <a:pt x="2433" y="3277"/>
                    </a:lnTo>
                    <a:lnTo>
                      <a:pt x="2337" y="3272"/>
                    </a:lnTo>
                    <a:lnTo>
                      <a:pt x="2243" y="3264"/>
                    </a:lnTo>
                    <a:lnTo>
                      <a:pt x="2149" y="3254"/>
                    </a:lnTo>
                    <a:lnTo>
                      <a:pt x="2057" y="3240"/>
                    </a:lnTo>
                    <a:lnTo>
                      <a:pt x="1965" y="3224"/>
                    </a:lnTo>
                    <a:lnTo>
                      <a:pt x="1875" y="3204"/>
                    </a:lnTo>
                    <a:lnTo>
                      <a:pt x="1785" y="3181"/>
                    </a:lnTo>
                    <a:lnTo>
                      <a:pt x="1696" y="3157"/>
                    </a:lnTo>
                    <a:lnTo>
                      <a:pt x="1609" y="3129"/>
                    </a:lnTo>
                    <a:lnTo>
                      <a:pt x="1523" y="3098"/>
                    </a:lnTo>
                    <a:lnTo>
                      <a:pt x="1438" y="3064"/>
                    </a:lnTo>
                    <a:lnTo>
                      <a:pt x="1355" y="3030"/>
                    </a:lnTo>
                    <a:lnTo>
                      <a:pt x="1273" y="2991"/>
                    </a:lnTo>
                    <a:lnTo>
                      <a:pt x="1192" y="2950"/>
                    </a:lnTo>
                    <a:lnTo>
                      <a:pt x="1112" y="2908"/>
                    </a:lnTo>
                    <a:lnTo>
                      <a:pt x="1035" y="2863"/>
                    </a:lnTo>
                    <a:lnTo>
                      <a:pt x="959" y="2814"/>
                    </a:lnTo>
                    <a:lnTo>
                      <a:pt x="884" y="2765"/>
                    </a:lnTo>
                    <a:lnTo>
                      <a:pt x="811" y="2713"/>
                    </a:lnTo>
                    <a:lnTo>
                      <a:pt x="740" y="2658"/>
                    </a:lnTo>
                    <a:lnTo>
                      <a:pt x="671" y="2601"/>
                    </a:lnTo>
                    <a:lnTo>
                      <a:pt x="604" y="2543"/>
                    </a:lnTo>
                    <a:lnTo>
                      <a:pt x="538" y="2482"/>
                    </a:lnTo>
                    <a:lnTo>
                      <a:pt x="473" y="2420"/>
                    </a:lnTo>
                    <a:lnTo>
                      <a:pt x="412" y="2356"/>
                    </a:lnTo>
                    <a:lnTo>
                      <a:pt x="352" y="2289"/>
                    </a:lnTo>
                    <a:lnTo>
                      <a:pt x="295" y="2221"/>
                    </a:lnTo>
                    <a:lnTo>
                      <a:pt x="238" y="2150"/>
                    </a:lnTo>
                    <a:lnTo>
                      <a:pt x="185" y="2078"/>
                    </a:lnTo>
                    <a:lnTo>
                      <a:pt x="133" y="2005"/>
                    </a:lnTo>
                    <a:lnTo>
                      <a:pt x="85" y="1930"/>
                    </a:lnTo>
                    <a:lnTo>
                      <a:pt x="43" y="1957"/>
                    </a:lnTo>
                    <a:lnTo>
                      <a:pt x="0" y="1971"/>
                    </a:lnTo>
                    <a:lnTo>
                      <a:pt x="50" y="2049"/>
                    </a:lnTo>
                    <a:lnTo>
                      <a:pt x="103" y="2125"/>
                    </a:lnTo>
                    <a:lnTo>
                      <a:pt x="158" y="2200"/>
                    </a:lnTo>
                    <a:lnTo>
                      <a:pt x="216" y="2273"/>
                    </a:lnTo>
                    <a:lnTo>
                      <a:pt x="276" y="2343"/>
                    </a:lnTo>
                    <a:lnTo>
                      <a:pt x="337" y="2412"/>
                    </a:lnTo>
                    <a:lnTo>
                      <a:pt x="402" y="2479"/>
                    </a:lnTo>
                    <a:lnTo>
                      <a:pt x="468" y="2545"/>
                    </a:lnTo>
                    <a:lnTo>
                      <a:pt x="536" y="2608"/>
                    </a:lnTo>
                    <a:lnTo>
                      <a:pt x="606" y="2668"/>
                    </a:lnTo>
                    <a:lnTo>
                      <a:pt x="677" y="2727"/>
                    </a:lnTo>
                    <a:lnTo>
                      <a:pt x="751" y="2783"/>
                    </a:lnTo>
                    <a:lnTo>
                      <a:pt x="826" y="2837"/>
                    </a:lnTo>
                    <a:lnTo>
                      <a:pt x="904" y="2889"/>
                    </a:lnTo>
                    <a:lnTo>
                      <a:pt x="982" y="2939"/>
                    </a:lnTo>
                    <a:lnTo>
                      <a:pt x="1063" y="2986"/>
                    </a:lnTo>
                    <a:lnTo>
                      <a:pt x="1145" y="3031"/>
                    </a:lnTo>
                    <a:lnTo>
                      <a:pt x="1228" y="3074"/>
                    </a:lnTo>
                    <a:lnTo>
                      <a:pt x="1313" y="3113"/>
                    </a:lnTo>
                    <a:lnTo>
                      <a:pt x="1400" y="3150"/>
                    </a:lnTo>
                    <a:lnTo>
                      <a:pt x="1487" y="3184"/>
                    </a:lnTo>
                    <a:lnTo>
                      <a:pt x="1576" y="3216"/>
                    </a:lnTo>
                    <a:lnTo>
                      <a:pt x="1667" y="3244"/>
                    </a:lnTo>
                    <a:lnTo>
                      <a:pt x="1758" y="3271"/>
                    </a:lnTo>
                    <a:lnTo>
                      <a:pt x="1850" y="3294"/>
                    </a:lnTo>
                    <a:lnTo>
                      <a:pt x="1945" y="3313"/>
                    </a:lnTo>
                    <a:lnTo>
                      <a:pt x="2040" y="3331"/>
                    </a:lnTo>
                    <a:lnTo>
                      <a:pt x="2135" y="3346"/>
                    </a:lnTo>
                    <a:lnTo>
                      <a:pt x="2233" y="3356"/>
                    </a:lnTo>
                    <a:lnTo>
                      <a:pt x="2330" y="3364"/>
                    </a:lnTo>
                    <a:lnTo>
                      <a:pt x="2430" y="3370"/>
                    </a:lnTo>
                    <a:lnTo>
                      <a:pt x="2529" y="3371"/>
                    </a:lnTo>
                    <a:lnTo>
                      <a:pt x="2682" y="3368"/>
                    </a:lnTo>
                    <a:lnTo>
                      <a:pt x="2834" y="3356"/>
                    </a:lnTo>
                    <a:lnTo>
                      <a:pt x="2983" y="3337"/>
                    </a:lnTo>
                    <a:lnTo>
                      <a:pt x="3131" y="3310"/>
                    </a:lnTo>
                    <a:lnTo>
                      <a:pt x="3275" y="3278"/>
                    </a:lnTo>
                    <a:lnTo>
                      <a:pt x="3416" y="3237"/>
                    </a:lnTo>
                    <a:lnTo>
                      <a:pt x="3555" y="3190"/>
                    </a:lnTo>
                    <a:lnTo>
                      <a:pt x="3690" y="3137"/>
                    </a:lnTo>
                    <a:lnTo>
                      <a:pt x="3823" y="3077"/>
                    </a:lnTo>
                    <a:lnTo>
                      <a:pt x="3951" y="3011"/>
                    </a:lnTo>
                    <a:lnTo>
                      <a:pt x="4075" y="2940"/>
                    </a:lnTo>
                    <a:lnTo>
                      <a:pt x="4197" y="2862"/>
                    </a:lnTo>
                    <a:lnTo>
                      <a:pt x="4314" y="2779"/>
                    </a:lnTo>
                    <a:lnTo>
                      <a:pt x="4426" y="2690"/>
                    </a:lnTo>
                    <a:lnTo>
                      <a:pt x="4534" y="2596"/>
                    </a:lnTo>
                    <a:lnTo>
                      <a:pt x="4638" y="2497"/>
                    </a:lnTo>
                    <a:lnTo>
                      <a:pt x="4737" y="2395"/>
                    </a:lnTo>
                    <a:lnTo>
                      <a:pt x="4831" y="2286"/>
                    </a:lnTo>
                    <a:lnTo>
                      <a:pt x="4920" y="2173"/>
                    </a:lnTo>
                    <a:lnTo>
                      <a:pt x="5003" y="2057"/>
                    </a:lnTo>
                    <a:lnTo>
                      <a:pt x="5080" y="1936"/>
                    </a:lnTo>
                    <a:lnTo>
                      <a:pt x="5152" y="1811"/>
                    </a:lnTo>
                    <a:lnTo>
                      <a:pt x="5218" y="1682"/>
                    </a:lnTo>
                    <a:lnTo>
                      <a:pt x="5277" y="1550"/>
                    </a:lnTo>
                    <a:lnTo>
                      <a:pt x="5331" y="1415"/>
                    </a:lnTo>
                    <a:lnTo>
                      <a:pt x="5378" y="1277"/>
                    </a:lnTo>
                    <a:lnTo>
                      <a:pt x="5418" y="1135"/>
                    </a:lnTo>
                    <a:lnTo>
                      <a:pt x="5451" y="991"/>
                    </a:lnTo>
                    <a:lnTo>
                      <a:pt x="5478" y="844"/>
                    </a:lnTo>
                    <a:lnTo>
                      <a:pt x="5496" y="694"/>
                    </a:lnTo>
                    <a:lnTo>
                      <a:pt x="5508" y="543"/>
                    </a:lnTo>
                    <a:lnTo>
                      <a:pt x="5513" y="39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86120" y="4170240"/>
                <a:ext cx="1433520" cy="878040"/>
              </a:xfrm>
              <a:custGeom>
                <a:avLst/>
                <a:gdLst/>
                <a:ahLst/>
                <a:rect l="l" t="t" r="r" b="b"/>
                <a:pathLst>
                  <a:path w="5420" h="3321">
                    <a:moveTo>
                      <a:pt x="5420" y="386"/>
                    </a:moveTo>
                    <a:lnTo>
                      <a:pt x="5420" y="337"/>
                    </a:lnTo>
                    <a:lnTo>
                      <a:pt x="5419" y="288"/>
                    </a:lnTo>
                    <a:lnTo>
                      <a:pt x="5417" y="240"/>
                    </a:lnTo>
                    <a:lnTo>
                      <a:pt x="5415" y="191"/>
                    </a:lnTo>
                    <a:lnTo>
                      <a:pt x="5411" y="143"/>
                    </a:lnTo>
                    <a:lnTo>
                      <a:pt x="5406" y="96"/>
                    </a:lnTo>
                    <a:lnTo>
                      <a:pt x="5401" y="47"/>
                    </a:lnTo>
                    <a:lnTo>
                      <a:pt x="5395" y="0"/>
                    </a:lnTo>
                    <a:lnTo>
                      <a:pt x="5322" y="0"/>
                    </a:lnTo>
                    <a:lnTo>
                      <a:pt x="5301" y="0"/>
                    </a:lnTo>
                    <a:lnTo>
                      <a:pt x="5307" y="47"/>
                    </a:lnTo>
                    <a:lnTo>
                      <a:pt x="5313" y="96"/>
                    </a:lnTo>
                    <a:lnTo>
                      <a:pt x="5316" y="143"/>
                    </a:lnTo>
                    <a:lnTo>
                      <a:pt x="5321" y="191"/>
                    </a:lnTo>
                    <a:lnTo>
                      <a:pt x="5323" y="240"/>
                    </a:lnTo>
                    <a:lnTo>
                      <a:pt x="5326" y="288"/>
                    </a:lnTo>
                    <a:lnTo>
                      <a:pt x="5327" y="337"/>
                    </a:lnTo>
                    <a:lnTo>
                      <a:pt x="5327" y="386"/>
                    </a:lnTo>
                    <a:lnTo>
                      <a:pt x="5323" y="533"/>
                    </a:lnTo>
                    <a:lnTo>
                      <a:pt x="5313" y="677"/>
                    </a:lnTo>
                    <a:lnTo>
                      <a:pt x="5295" y="818"/>
                    </a:lnTo>
                    <a:lnTo>
                      <a:pt x="5269" y="959"/>
                    </a:lnTo>
                    <a:lnTo>
                      <a:pt x="5238" y="1096"/>
                    </a:lnTo>
                    <a:lnTo>
                      <a:pt x="5200" y="1231"/>
                    </a:lnTo>
                    <a:lnTo>
                      <a:pt x="5155" y="1362"/>
                    </a:lnTo>
                    <a:lnTo>
                      <a:pt x="5104" y="1492"/>
                    </a:lnTo>
                    <a:lnTo>
                      <a:pt x="5047" y="1617"/>
                    </a:lnTo>
                    <a:lnTo>
                      <a:pt x="4984" y="1741"/>
                    </a:lnTo>
                    <a:lnTo>
                      <a:pt x="4915" y="1859"/>
                    </a:lnTo>
                    <a:lnTo>
                      <a:pt x="4841" y="1975"/>
                    </a:lnTo>
                    <a:lnTo>
                      <a:pt x="4763" y="2086"/>
                    </a:lnTo>
                    <a:lnTo>
                      <a:pt x="4677" y="2194"/>
                    </a:lnTo>
                    <a:lnTo>
                      <a:pt x="4589" y="2296"/>
                    </a:lnTo>
                    <a:lnTo>
                      <a:pt x="4494" y="2395"/>
                    </a:lnTo>
                    <a:lnTo>
                      <a:pt x="4396" y="2489"/>
                    </a:lnTo>
                    <a:lnTo>
                      <a:pt x="4292" y="2579"/>
                    </a:lnTo>
                    <a:lnTo>
                      <a:pt x="4185" y="2663"/>
                    </a:lnTo>
                    <a:lnTo>
                      <a:pt x="4074" y="2742"/>
                    </a:lnTo>
                    <a:lnTo>
                      <a:pt x="3958" y="2816"/>
                    </a:lnTo>
                    <a:lnTo>
                      <a:pt x="3839" y="2884"/>
                    </a:lnTo>
                    <a:lnTo>
                      <a:pt x="3717" y="2948"/>
                    </a:lnTo>
                    <a:lnTo>
                      <a:pt x="3591" y="3004"/>
                    </a:lnTo>
                    <a:lnTo>
                      <a:pt x="3462" y="3055"/>
                    </a:lnTo>
                    <a:lnTo>
                      <a:pt x="3329" y="3100"/>
                    </a:lnTo>
                    <a:lnTo>
                      <a:pt x="3194" y="3138"/>
                    </a:lnTo>
                    <a:lnTo>
                      <a:pt x="3057" y="3170"/>
                    </a:lnTo>
                    <a:lnTo>
                      <a:pt x="2917" y="3194"/>
                    </a:lnTo>
                    <a:lnTo>
                      <a:pt x="2774" y="3213"/>
                    </a:lnTo>
                    <a:lnTo>
                      <a:pt x="2630" y="3224"/>
                    </a:lnTo>
                    <a:lnTo>
                      <a:pt x="2484" y="3228"/>
                    </a:lnTo>
                    <a:lnTo>
                      <a:pt x="2389" y="3225"/>
                    </a:lnTo>
                    <a:lnTo>
                      <a:pt x="2296" y="3221"/>
                    </a:lnTo>
                    <a:lnTo>
                      <a:pt x="2202" y="3214"/>
                    </a:lnTo>
                    <a:lnTo>
                      <a:pt x="2110" y="3203"/>
                    </a:lnTo>
                    <a:lnTo>
                      <a:pt x="2019" y="3190"/>
                    </a:lnTo>
                    <a:lnTo>
                      <a:pt x="1929" y="3173"/>
                    </a:lnTo>
                    <a:lnTo>
                      <a:pt x="1840" y="3154"/>
                    </a:lnTo>
                    <a:lnTo>
                      <a:pt x="1751" y="3132"/>
                    </a:lnTo>
                    <a:lnTo>
                      <a:pt x="1665" y="3108"/>
                    </a:lnTo>
                    <a:lnTo>
                      <a:pt x="1578" y="3080"/>
                    </a:lnTo>
                    <a:lnTo>
                      <a:pt x="1494" y="3050"/>
                    </a:lnTo>
                    <a:lnTo>
                      <a:pt x="1410" y="3018"/>
                    </a:lnTo>
                    <a:lnTo>
                      <a:pt x="1328" y="2983"/>
                    </a:lnTo>
                    <a:lnTo>
                      <a:pt x="1247" y="2945"/>
                    </a:lnTo>
                    <a:lnTo>
                      <a:pt x="1168" y="2905"/>
                    </a:lnTo>
                    <a:lnTo>
                      <a:pt x="1090" y="2863"/>
                    </a:lnTo>
                    <a:lnTo>
                      <a:pt x="1013" y="2818"/>
                    </a:lnTo>
                    <a:lnTo>
                      <a:pt x="938" y="2771"/>
                    </a:lnTo>
                    <a:lnTo>
                      <a:pt x="865" y="2722"/>
                    </a:lnTo>
                    <a:lnTo>
                      <a:pt x="794" y="2671"/>
                    </a:lnTo>
                    <a:lnTo>
                      <a:pt x="724" y="2617"/>
                    </a:lnTo>
                    <a:lnTo>
                      <a:pt x="656" y="2561"/>
                    </a:lnTo>
                    <a:lnTo>
                      <a:pt x="589" y="2504"/>
                    </a:lnTo>
                    <a:lnTo>
                      <a:pt x="524" y="2444"/>
                    </a:lnTo>
                    <a:lnTo>
                      <a:pt x="462" y="2383"/>
                    </a:lnTo>
                    <a:lnTo>
                      <a:pt x="401" y="2319"/>
                    </a:lnTo>
                    <a:lnTo>
                      <a:pt x="342" y="2254"/>
                    </a:lnTo>
                    <a:lnTo>
                      <a:pt x="284" y="2186"/>
                    </a:lnTo>
                    <a:lnTo>
                      <a:pt x="230" y="2118"/>
                    </a:lnTo>
                    <a:lnTo>
                      <a:pt x="177" y="2046"/>
                    </a:lnTo>
                    <a:lnTo>
                      <a:pt x="126" y="1975"/>
                    </a:lnTo>
                    <a:lnTo>
                      <a:pt x="79" y="1900"/>
                    </a:lnTo>
                    <a:lnTo>
                      <a:pt x="0" y="1952"/>
                    </a:lnTo>
                    <a:lnTo>
                      <a:pt x="50" y="2028"/>
                    </a:lnTo>
                    <a:lnTo>
                      <a:pt x="102" y="2103"/>
                    </a:lnTo>
                    <a:lnTo>
                      <a:pt x="157" y="2175"/>
                    </a:lnTo>
                    <a:lnTo>
                      <a:pt x="214" y="2247"/>
                    </a:lnTo>
                    <a:lnTo>
                      <a:pt x="273" y="2316"/>
                    </a:lnTo>
                    <a:lnTo>
                      <a:pt x="333" y="2384"/>
                    </a:lnTo>
                    <a:lnTo>
                      <a:pt x="396" y="2448"/>
                    </a:lnTo>
                    <a:lnTo>
                      <a:pt x="461" y="2513"/>
                    </a:lnTo>
                    <a:lnTo>
                      <a:pt x="528" y="2574"/>
                    </a:lnTo>
                    <a:lnTo>
                      <a:pt x="597" y="2634"/>
                    </a:lnTo>
                    <a:lnTo>
                      <a:pt x="667" y="2690"/>
                    </a:lnTo>
                    <a:lnTo>
                      <a:pt x="739" y="2746"/>
                    </a:lnTo>
                    <a:lnTo>
                      <a:pt x="812" y="2799"/>
                    </a:lnTo>
                    <a:lnTo>
                      <a:pt x="889" y="2850"/>
                    </a:lnTo>
                    <a:lnTo>
                      <a:pt x="966" y="2898"/>
                    </a:lnTo>
                    <a:lnTo>
                      <a:pt x="1045" y="2944"/>
                    </a:lnTo>
                    <a:lnTo>
                      <a:pt x="1126" y="2988"/>
                    </a:lnTo>
                    <a:lnTo>
                      <a:pt x="1208" y="3029"/>
                    </a:lnTo>
                    <a:lnTo>
                      <a:pt x="1291" y="3069"/>
                    </a:lnTo>
                    <a:lnTo>
                      <a:pt x="1375" y="3104"/>
                    </a:lnTo>
                    <a:lnTo>
                      <a:pt x="1462" y="3138"/>
                    </a:lnTo>
                    <a:lnTo>
                      <a:pt x="1549" y="3169"/>
                    </a:lnTo>
                    <a:lnTo>
                      <a:pt x="1638" y="3197"/>
                    </a:lnTo>
                    <a:lnTo>
                      <a:pt x="1728" y="3222"/>
                    </a:lnTo>
                    <a:lnTo>
                      <a:pt x="1819" y="3245"/>
                    </a:lnTo>
                    <a:lnTo>
                      <a:pt x="1912" y="3265"/>
                    </a:lnTo>
                    <a:lnTo>
                      <a:pt x="2004" y="3282"/>
                    </a:lnTo>
                    <a:lnTo>
                      <a:pt x="2098" y="3296"/>
                    </a:lnTo>
                    <a:lnTo>
                      <a:pt x="2193" y="3306"/>
                    </a:lnTo>
                    <a:lnTo>
                      <a:pt x="2290" y="3314"/>
                    </a:lnTo>
                    <a:lnTo>
                      <a:pt x="2387" y="3319"/>
                    </a:lnTo>
                    <a:lnTo>
                      <a:pt x="2484" y="3321"/>
                    </a:lnTo>
                    <a:lnTo>
                      <a:pt x="2635" y="3316"/>
                    </a:lnTo>
                    <a:lnTo>
                      <a:pt x="2785" y="3305"/>
                    </a:lnTo>
                    <a:lnTo>
                      <a:pt x="2931" y="3286"/>
                    </a:lnTo>
                    <a:lnTo>
                      <a:pt x="3075" y="3261"/>
                    </a:lnTo>
                    <a:lnTo>
                      <a:pt x="3218" y="3229"/>
                    </a:lnTo>
                    <a:lnTo>
                      <a:pt x="3357" y="3188"/>
                    </a:lnTo>
                    <a:lnTo>
                      <a:pt x="3494" y="3142"/>
                    </a:lnTo>
                    <a:lnTo>
                      <a:pt x="3627" y="3090"/>
                    </a:lnTo>
                    <a:lnTo>
                      <a:pt x="3757" y="3032"/>
                    </a:lnTo>
                    <a:lnTo>
                      <a:pt x="3884" y="2966"/>
                    </a:lnTo>
                    <a:lnTo>
                      <a:pt x="4006" y="2896"/>
                    </a:lnTo>
                    <a:lnTo>
                      <a:pt x="4126" y="2820"/>
                    </a:lnTo>
                    <a:lnTo>
                      <a:pt x="4240" y="2738"/>
                    </a:lnTo>
                    <a:lnTo>
                      <a:pt x="4352" y="2650"/>
                    </a:lnTo>
                    <a:lnTo>
                      <a:pt x="4458" y="2558"/>
                    </a:lnTo>
                    <a:lnTo>
                      <a:pt x="4561" y="2461"/>
                    </a:lnTo>
                    <a:lnTo>
                      <a:pt x="4658" y="2360"/>
                    </a:lnTo>
                    <a:lnTo>
                      <a:pt x="4750" y="2252"/>
                    </a:lnTo>
                    <a:lnTo>
                      <a:pt x="4837" y="2142"/>
                    </a:lnTo>
                    <a:lnTo>
                      <a:pt x="4919" y="2026"/>
                    </a:lnTo>
                    <a:lnTo>
                      <a:pt x="4996" y="1908"/>
                    </a:lnTo>
                    <a:lnTo>
                      <a:pt x="5066" y="1784"/>
                    </a:lnTo>
                    <a:lnTo>
                      <a:pt x="5131" y="1659"/>
                    </a:lnTo>
                    <a:lnTo>
                      <a:pt x="5190" y="1528"/>
                    </a:lnTo>
                    <a:lnTo>
                      <a:pt x="5243" y="1395"/>
                    </a:lnTo>
                    <a:lnTo>
                      <a:pt x="5289" y="1259"/>
                    </a:lnTo>
                    <a:lnTo>
                      <a:pt x="5328" y="1119"/>
                    </a:lnTo>
                    <a:lnTo>
                      <a:pt x="5361" y="977"/>
                    </a:lnTo>
                    <a:lnTo>
                      <a:pt x="5387" y="833"/>
                    </a:lnTo>
                    <a:lnTo>
                      <a:pt x="5405" y="686"/>
                    </a:lnTo>
                    <a:lnTo>
                      <a:pt x="5417" y="537"/>
                    </a:lnTo>
                    <a:lnTo>
                      <a:pt x="5420" y="38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95480" y="4170240"/>
                <a:ext cx="1413000" cy="865440"/>
              </a:xfrm>
              <a:custGeom>
                <a:avLst/>
                <a:gdLst/>
                <a:ahLst/>
                <a:rect l="l" t="t" r="r" b="b"/>
                <a:pathLst>
                  <a:path w="5334" h="3274">
                    <a:moveTo>
                      <a:pt x="5334" y="386"/>
                    </a:moveTo>
                    <a:lnTo>
                      <a:pt x="5333" y="337"/>
                    </a:lnTo>
                    <a:lnTo>
                      <a:pt x="5332" y="288"/>
                    </a:lnTo>
                    <a:lnTo>
                      <a:pt x="5331" y="240"/>
                    </a:lnTo>
                    <a:lnTo>
                      <a:pt x="5327" y="191"/>
                    </a:lnTo>
                    <a:lnTo>
                      <a:pt x="5324" y="143"/>
                    </a:lnTo>
                    <a:lnTo>
                      <a:pt x="5319" y="96"/>
                    </a:lnTo>
                    <a:lnTo>
                      <a:pt x="5315" y="47"/>
                    </a:lnTo>
                    <a:lnTo>
                      <a:pt x="5309" y="0"/>
                    </a:lnTo>
                    <a:lnTo>
                      <a:pt x="5282" y="0"/>
                    </a:lnTo>
                    <a:lnTo>
                      <a:pt x="5214" y="0"/>
                    </a:lnTo>
                    <a:lnTo>
                      <a:pt x="5220" y="47"/>
                    </a:lnTo>
                    <a:lnTo>
                      <a:pt x="5226" y="96"/>
                    </a:lnTo>
                    <a:lnTo>
                      <a:pt x="5230" y="143"/>
                    </a:lnTo>
                    <a:lnTo>
                      <a:pt x="5234" y="191"/>
                    </a:lnTo>
                    <a:lnTo>
                      <a:pt x="5237" y="240"/>
                    </a:lnTo>
                    <a:lnTo>
                      <a:pt x="5240" y="288"/>
                    </a:lnTo>
                    <a:lnTo>
                      <a:pt x="5241" y="337"/>
                    </a:lnTo>
                    <a:lnTo>
                      <a:pt x="5241" y="386"/>
                    </a:lnTo>
                    <a:lnTo>
                      <a:pt x="5237" y="530"/>
                    </a:lnTo>
                    <a:lnTo>
                      <a:pt x="5227" y="672"/>
                    </a:lnTo>
                    <a:lnTo>
                      <a:pt x="5208" y="811"/>
                    </a:lnTo>
                    <a:lnTo>
                      <a:pt x="5184" y="949"/>
                    </a:lnTo>
                    <a:lnTo>
                      <a:pt x="5153" y="1085"/>
                    </a:lnTo>
                    <a:lnTo>
                      <a:pt x="5115" y="1217"/>
                    </a:lnTo>
                    <a:lnTo>
                      <a:pt x="5071" y="1346"/>
                    </a:lnTo>
                    <a:lnTo>
                      <a:pt x="5020" y="1474"/>
                    </a:lnTo>
                    <a:lnTo>
                      <a:pt x="4965" y="1598"/>
                    </a:lnTo>
                    <a:lnTo>
                      <a:pt x="4903" y="1718"/>
                    </a:lnTo>
                    <a:lnTo>
                      <a:pt x="4836" y="1835"/>
                    </a:lnTo>
                    <a:lnTo>
                      <a:pt x="4763" y="1948"/>
                    </a:lnTo>
                    <a:lnTo>
                      <a:pt x="4685" y="2058"/>
                    </a:lnTo>
                    <a:lnTo>
                      <a:pt x="4602" y="2164"/>
                    </a:lnTo>
                    <a:lnTo>
                      <a:pt x="4514" y="2265"/>
                    </a:lnTo>
                    <a:lnTo>
                      <a:pt x="4422" y="2362"/>
                    </a:lnTo>
                    <a:lnTo>
                      <a:pt x="4325" y="2454"/>
                    </a:lnTo>
                    <a:lnTo>
                      <a:pt x="4223" y="2543"/>
                    </a:lnTo>
                    <a:lnTo>
                      <a:pt x="4117" y="2626"/>
                    </a:lnTo>
                    <a:lnTo>
                      <a:pt x="4008" y="2703"/>
                    </a:lnTo>
                    <a:lnTo>
                      <a:pt x="3894" y="2776"/>
                    </a:lnTo>
                    <a:lnTo>
                      <a:pt x="3777" y="2844"/>
                    </a:lnTo>
                    <a:lnTo>
                      <a:pt x="3656" y="2905"/>
                    </a:lnTo>
                    <a:lnTo>
                      <a:pt x="3533" y="2961"/>
                    </a:lnTo>
                    <a:lnTo>
                      <a:pt x="3406" y="3011"/>
                    </a:lnTo>
                    <a:lnTo>
                      <a:pt x="3275" y="3055"/>
                    </a:lnTo>
                    <a:lnTo>
                      <a:pt x="3143" y="3093"/>
                    </a:lnTo>
                    <a:lnTo>
                      <a:pt x="3008" y="3124"/>
                    </a:lnTo>
                    <a:lnTo>
                      <a:pt x="2870" y="3148"/>
                    </a:lnTo>
                    <a:lnTo>
                      <a:pt x="2730" y="3167"/>
                    </a:lnTo>
                    <a:lnTo>
                      <a:pt x="2588" y="3177"/>
                    </a:lnTo>
                    <a:lnTo>
                      <a:pt x="2444" y="3180"/>
                    </a:lnTo>
                    <a:lnTo>
                      <a:pt x="2351" y="3179"/>
                    </a:lnTo>
                    <a:lnTo>
                      <a:pt x="2259" y="3175"/>
                    </a:lnTo>
                    <a:lnTo>
                      <a:pt x="2167" y="3168"/>
                    </a:lnTo>
                    <a:lnTo>
                      <a:pt x="2077" y="3157"/>
                    </a:lnTo>
                    <a:lnTo>
                      <a:pt x="1987" y="3143"/>
                    </a:lnTo>
                    <a:lnTo>
                      <a:pt x="1898" y="3127"/>
                    </a:lnTo>
                    <a:lnTo>
                      <a:pt x="1810" y="3109"/>
                    </a:lnTo>
                    <a:lnTo>
                      <a:pt x="1723" y="3087"/>
                    </a:lnTo>
                    <a:lnTo>
                      <a:pt x="1637" y="3063"/>
                    </a:lnTo>
                    <a:lnTo>
                      <a:pt x="1553" y="3036"/>
                    </a:lnTo>
                    <a:lnTo>
                      <a:pt x="1469" y="3006"/>
                    </a:lnTo>
                    <a:lnTo>
                      <a:pt x="1387" y="2974"/>
                    </a:lnTo>
                    <a:lnTo>
                      <a:pt x="1306" y="2939"/>
                    </a:lnTo>
                    <a:lnTo>
                      <a:pt x="1227" y="2903"/>
                    </a:lnTo>
                    <a:lnTo>
                      <a:pt x="1148" y="2863"/>
                    </a:lnTo>
                    <a:lnTo>
                      <a:pt x="1072" y="2822"/>
                    </a:lnTo>
                    <a:lnTo>
                      <a:pt x="997" y="2778"/>
                    </a:lnTo>
                    <a:lnTo>
                      <a:pt x="924" y="2732"/>
                    </a:lnTo>
                    <a:lnTo>
                      <a:pt x="851" y="2684"/>
                    </a:lnTo>
                    <a:lnTo>
                      <a:pt x="780" y="2633"/>
                    </a:lnTo>
                    <a:lnTo>
                      <a:pt x="711" y="2580"/>
                    </a:lnTo>
                    <a:lnTo>
                      <a:pt x="644" y="2526"/>
                    </a:lnTo>
                    <a:lnTo>
                      <a:pt x="579" y="2468"/>
                    </a:lnTo>
                    <a:lnTo>
                      <a:pt x="515" y="2409"/>
                    </a:lnTo>
                    <a:lnTo>
                      <a:pt x="454" y="2349"/>
                    </a:lnTo>
                    <a:lnTo>
                      <a:pt x="394" y="2286"/>
                    </a:lnTo>
                    <a:lnTo>
                      <a:pt x="336" y="2222"/>
                    </a:lnTo>
                    <a:lnTo>
                      <a:pt x="280" y="2156"/>
                    </a:lnTo>
                    <a:lnTo>
                      <a:pt x="226" y="2088"/>
                    </a:lnTo>
                    <a:lnTo>
                      <a:pt x="174" y="2018"/>
                    </a:lnTo>
                    <a:lnTo>
                      <a:pt x="124" y="1947"/>
                    </a:lnTo>
                    <a:lnTo>
                      <a:pt x="77" y="1874"/>
                    </a:lnTo>
                    <a:lnTo>
                      <a:pt x="76" y="1875"/>
                    </a:lnTo>
                    <a:lnTo>
                      <a:pt x="0" y="1926"/>
                    </a:lnTo>
                    <a:lnTo>
                      <a:pt x="48" y="2001"/>
                    </a:lnTo>
                    <a:lnTo>
                      <a:pt x="100" y="2074"/>
                    </a:lnTo>
                    <a:lnTo>
                      <a:pt x="153" y="2146"/>
                    </a:lnTo>
                    <a:lnTo>
                      <a:pt x="210" y="2217"/>
                    </a:lnTo>
                    <a:lnTo>
                      <a:pt x="267" y="2285"/>
                    </a:lnTo>
                    <a:lnTo>
                      <a:pt x="327" y="2352"/>
                    </a:lnTo>
                    <a:lnTo>
                      <a:pt x="388" y="2416"/>
                    </a:lnTo>
                    <a:lnTo>
                      <a:pt x="453" y="2478"/>
                    </a:lnTo>
                    <a:lnTo>
                      <a:pt x="519" y="2539"/>
                    </a:lnTo>
                    <a:lnTo>
                      <a:pt x="586" y="2597"/>
                    </a:lnTo>
                    <a:lnTo>
                      <a:pt x="655" y="2654"/>
                    </a:lnTo>
                    <a:lnTo>
                      <a:pt x="726" y="2709"/>
                    </a:lnTo>
                    <a:lnTo>
                      <a:pt x="799" y="2761"/>
                    </a:lnTo>
                    <a:lnTo>
                      <a:pt x="874" y="2810"/>
                    </a:lnTo>
                    <a:lnTo>
                      <a:pt x="950" y="2859"/>
                    </a:lnTo>
                    <a:lnTo>
                      <a:pt x="1027" y="2904"/>
                    </a:lnTo>
                    <a:lnTo>
                      <a:pt x="1107" y="2946"/>
                    </a:lnTo>
                    <a:lnTo>
                      <a:pt x="1188" y="2987"/>
                    </a:lnTo>
                    <a:lnTo>
                      <a:pt x="1270" y="3026"/>
                    </a:lnTo>
                    <a:lnTo>
                      <a:pt x="1353" y="3060"/>
                    </a:lnTo>
                    <a:lnTo>
                      <a:pt x="1438" y="3094"/>
                    </a:lnTo>
                    <a:lnTo>
                      <a:pt x="1524" y="3125"/>
                    </a:lnTo>
                    <a:lnTo>
                      <a:pt x="1611" y="3153"/>
                    </a:lnTo>
                    <a:lnTo>
                      <a:pt x="1700" y="3177"/>
                    </a:lnTo>
                    <a:lnTo>
                      <a:pt x="1790" y="3200"/>
                    </a:lnTo>
                    <a:lnTo>
                      <a:pt x="1880" y="3220"/>
                    </a:lnTo>
                    <a:lnTo>
                      <a:pt x="1972" y="3236"/>
                    </a:lnTo>
                    <a:lnTo>
                      <a:pt x="2064" y="3250"/>
                    </a:lnTo>
                    <a:lnTo>
                      <a:pt x="2158" y="3260"/>
                    </a:lnTo>
                    <a:lnTo>
                      <a:pt x="2252" y="3268"/>
                    </a:lnTo>
                    <a:lnTo>
                      <a:pt x="2348" y="3273"/>
                    </a:lnTo>
                    <a:lnTo>
                      <a:pt x="2444" y="3274"/>
                    </a:lnTo>
                    <a:lnTo>
                      <a:pt x="2592" y="3270"/>
                    </a:lnTo>
                    <a:lnTo>
                      <a:pt x="2740" y="3259"/>
                    </a:lnTo>
                    <a:lnTo>
                      <a:pt x="2884" y="3240"/>
                    </a:lnTo>
                    <a:lnTo>
                      <a:pt x="3026" y="3215"/>
                    </a:lnTo>
                    <a:lnTo>
                      <a:pt x="3166" y="3183"/>
                    </a:lnTo>
                    <a:lnTo>
                      <a:pt x="3303" y="3145"/>
                    </a:lnTo>
                    <a:lnTo>
                      <a:pt x="3438" y="3099"/>
                    </a:lnTo>
                    <a:lnTo>
                      <a:pt x="3569" y="3047"/>
                    </a:lnTo>
                    <a:lnTo>
                      <a:pt x="3696" y="2989"/>
                    </a:lnTo>
                    <a:lnTo>
                      <a:pt x="3822" y="2926"/>
                    </a:lnTo>
                    <a:lnTo>
                      <a:pt x="3942" y="2856"/>
                    </a:lnTo>
                    <a:lnTo>
                      <a:pt x="4060" y="2780"/>
                    </a:lnTo>
                    <a:lnTo>
                      <a:pt x="4173" y="2700"/>
                    </a:lnTo>
                    <a:lnTo>
                      <a:pt x="4282" y="2614"/>
                    </a:lnTo>
                    <a:lnTo>
                      <a:pt x="4387" y="2523"/>
                    </a:lnTo>
                    <a:lnTo>
                      <a:pt x="4488" y="2428"/>
                    </a:lnTo>
                    <a:lnTo>
                      <a:pt x="4583" y="2327"/>
                    </a:lnTo>
                    <a:lnTo>
                      <a:pt x="4674" y="2222"/>
                    </a:lnTo>
                    <a:lnTo>
                      <a:pt x="4760" y="2114"/>
                    </a:lnTo>
                    <a:lnTo>
                      <a:pt x="4840" y="2001"/>
                    </a:lnTo>
                    <a:lnTo>
                      <a:pt x="4915" y="1884"/>
                    </a:lnTo>
                    <a:lnTo>
                      <a:pt x="4985" y="1763"/>
                    </a:lnTo>
                    <a:lnTo>
                      <a:pt x="5049" y="1638"/>
                    </a:lnTo>
                    <a:lnTo>
                      <a:pt x="5107" y="1510"/>
                    </a:lnTo>
                    <a:lnTo>
                      <a:pt x="5159" y="1379"/>
                    </a:lnTo>
                    <a:lnTo>
                      <a:pt x="5204" y="1245"/>
                    </a:lnTo>
                    <a:lnTo>
                      <a:pt x="5243" y="1108"/>
                    </a:lnTo>
                    <a:lnTo>
                      <a:pt x="5275" y="968"/>
                    </a:lnTo>
                    <a:lnTo>
                      <a:pt x="5301" y="825"/>
                    </a:lnTo>
                    <a:lnTo>
                      <a:pt x="5319" y="681"/>
                    </a:lnTo>
                    <a:lnTo>
                      <a:pt x="5331" y="535"/>
                    </a:lnTo>
                    <a:lnTo>
                      <a:pt x="5334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06640" y="4170240"/>
                <a:ext cx="1389240" cy="854280"/>
              </a:xfrm>
              <a:custGeom>
                <a:avLst/>
                <a:gdLst/>
                <a:ahLst/>
                <a:rect l="l" t="t" r="r" b="b"/>
                <a:pathLst>
                  <a:path w="5248" h="3228">
                    <a:moveTo>
                      <a:pt x="5248" y="386"/>
                    </a:moveTo>
                    <a:lnTo>
                      <a:pt x="5248" y="337"/>
                    </a:lnTo>
                    <a:lnTo>
                      <a:pt x="5247" y="288"/>
                    </a:lnTo>
                    <a:lnTo>
                      <a:pt x="5244" y="240"/>
                    </a:lnTo>
                    <a:lnTo>
                      <a:pt x="5242" y="191"/>
                    </a:lnTo>
                    <a:lnTo>
                      <a:pt x="5237" y="143"/>
                    </a:lnTo>
                    <a:lnTo>
                      <a:pt x="5234" y="96"/>
                    </a:lnTo>
                    <a:lnTo>
                      <a:pt x="5228" y="47"/>
                    </a:lnTo>
                    <a:lnTo>
                      <a:pt x="5222" y="0"/>
                    </a:lnTo>
                    <a:lnTo>
                      <a:pt x="5166" y="0"/>
                    </a:lnTo>
                    <a:lnTo>
                      <a:pt x="5128" y="0"/>
                    </a:lnTo>
                    <a:lnTo>
                      <a:pt x="5135" y="47"/>
                    </a:lnTo>
                    <a:lnTo>
                      <a:pt x="5139" y="96"/>
                    </a:lnTo>
                    <a:lnTo>
                      <a:pt x="5144" y="143"/>
                    </a:lnTo>
                    <a:lnTo>
                      <a:pt x="5149" y="191"/>
                    </a:lnTo>
                    <a:lnTo>
                      <a:pt x="5151" y="240"/>
                    </a:lnTo>
                    <a:lnTo>
                      <a:pt x="5153" y="288"/>
                    </a:lnTo>
                    <a:lnTo>
                      <a:pt x="5154" y="337"/>
                    </a:lnTo>
                    <a:lnTo>
                      <a:pt x="5156" y="386"/>
                    </a:lnTo>
                    <a:lnTo>
                      <a:pt x="5152" y="528"/>
                    </a:lnTo>
                    <a:lnTo>
                      <a:pt x="5141" y="667"/>
                    </a:lnTo>
                    <a:lnTo>
                      <a:pt x="5123" y="805"/>
                    </a:lnTo>
                    <a:lnTo>
                      <a:pt x="5099" y="939"/>
                    </a:lnTo>
                    <a:lnTo>
                      <a:pt x="5068" y="1073"/>
                    </a:lnTo>
                    <a:lnTo>
                      <a:pt x="5031" y="1203"/>
                    </a:lnTo>
                    <a:lnTo>
                      <a:pt x="4988" y="1331"/>
                    </a:lnTo>
                    <a:lnTo>
                      <a:pt x="4939" y="1456"/>
                    </a:lnTo>
                    <a:lnTo>
                      <a:pt x="4883" y="1577"/>
                    </a:lnTo>
                    <a:lnTo>
                      <a:pt x="4823" y="1696"/>
                    </a:lnTo>
                    <a:lnTo>
                      <a:pt x="4757" y="1811"/>
                    </a:lnTo>
                    <a:lnTo>
                      <a:pt x="4685" y="1923"/>
                    </a:lnTo>
                    <a:lnTo>
                      <a:pt x="4609" y="2030"/>
                    </a:lnTo>
                    <a:lnTo>
                      <a:pt x="4527" y="2134"/>
                    </a:lnTo>
                    <a:lnTo>
                      <a:pt x="4440" y="2234"/>
                    </a:lnTo>
                    <a:lnTo>
                      <a:pt x="4349" y="2330"/>
                    </a:lnTo>
                    <a:lnTo>
                      <a:pt x="4254" y="2421"/>
                    </a:lnTo>
                    <a:lnTo>
                      <a:pt x="4154" y="2507"/>
                    </a:lnTo>
                    <a:lnTo>
                      <a:pt x="4051" y="2588"/>
                    </a:lnTo>
                    <a:lnTo>
                      <a:pt x="3942" y="2665"/>
                    </a:lnTo>
                    <a:lnTo>
                      <a:pt x="3831" y="2737"/>
                    </a:lnTo>
                    <a:lnTo>
                      <a:pt x="3716" y="2802"/>
                    </a:lnTo>
                    <a:lnTo>
                      <a:pt x="3597" y="2863"/>
                    </a:lnTo>
                    <a:lnTo>
                      <a:pt x="3475" y="2919"/>
                    </a:lnTo>
                    <a:lnTo>
                      <a:pt x="3350" y="2967"/>
                    </a:lnTo>
                    <a:lnTo>
                      <a:pt x="3222" y="3011"/>
                    </a:lnTo>
                    <a:lnTo>
                      <a:pt x="3092" y="3048"/>
                    </a:lnTo>
                    <a:lnTo>
                      <a:pt x="2959" y="3078"/>
                    </a:lnTo>
                    <a:lnTo>
                      <a:pt x="2823" y="3103"/>
                    </a:lnTo>
                    <a:lnTo>
                      <a:pt x="2686" y="3120"/>
                    </a:lnTo>
                    <a:lnTo>
                      <a:pt x="2547" y="3131"/>
                    </a:lnTo>
                    <a:lnTo>
                      <a:pt x="2405" y="3134"/>
                    </a:lnTo>
                    <a:lnTo>
                      <a:pt x="2314" y="3133"/>
                    </a:lnTo>
                    <a:lnTo>
                      <a:pt x="2222" y="3129"/>
                    </a:lnTo>
                    <a:lnTo>
                      <a:pt x="2131" y="3120"/>
                    </a:lnTo>
                    <a:lnTo>
                      <a:pt x="2043" y="3110"/>
                    </a:lnTo>
                    <a:lnTo>
                      <a:pt x="1954" y="3097"/>
                    </a:lnTo>
                    <a:lnTo>
                      <a:pt x="1866" y="3081"/>
                    </a:lnTo>
                    <a:lnTo>
                      <a:pt x="1778" y="3063"/>
                    </a:lnTo>
                    <a:lnTo>
                      <a:pt x="1693" y="3041"/>
                    </a:lnTo>
                    <a:lnTo>
                      <a:pt x="1609" y="3017"/>
                    </a:lnTo>
                    <a:lnTo>
                      <a:pt x="1525" y="2990"/>
                    </a:lnTo>
                    <a:lnTo>
                      <a:pt x="1443" y="2961"/>
                    </a:lnTo>
                    <a:lnTo>
                      <a:pt x="1362" y="2929"/>
                    </a:lnTo>
                    <a:lnTo>
                      <a:pt x="1281" y="2896"/>
                    </a:lnTo>
                    <a:lnTo>
                      <a:pt x="1203" y="2859"/>
                    </a:lnTo>
                    <a:lnTo>
                      <a:pt x="1127" y="2820"/>
                    </a:lnTo>
                    <a:lnTo>
                      <a:pt x="1051" y="2778"/>
                    </a:lnTo>
                    <a:lnTo>
                      <a:pt x="977" y="2734"/>
                    </a:lnTo>
                    <a:lnTo>
                      <a:pt x="903" y="2688"/>
                    </a:lnTo>
                    <a:lnTo>
                      <a:pt x="833" y="2641"/>
                    </a:lnTo>
                    <a:lnTo>
                      <a:pt x="762" y="2590"/>
                    </a:lnTo>
                    <a:lnTo>
                      <a:pt x="695" y="2538"/>
                    </a:lnTo>
                    <a:lnTo>
                      <a:pt x="628" y="2484"/>
                    </a:lnTo>
                    <a:lnTo>
                      <a:pt x="564" y="2428"/>
                    </a:lnTo>
                    <a:lnTo>
                      <a:pt x="502" y="2369"/>
                    </a:lnTo>
                    <a:lnTo>
                      <a:pt x="440" y="2309"/>
                    </a:lnTo>
                    <a:lnTo>
                      <a:pt x="382" y="2247"/>
                    </a:lnTo>
                    <a:lnTo>
                      <a:pt x="325" y="2183"/>
                    </a:lnTo>
                    <a:lnTo>
                      <a:pt x="270" y="2118"/>
                    </a:lnTo>
                    <a:lnTo>
                      <a:pt x="217" y="2051"/>
                    </a:lnTo>
                    <a:lnTo>
                      <a:pt x="166" y="1982"/>
                    </a:lnTo>
                    <a:lnTo>
                      <a:pt x="117" y="1910"/>
                    </a:lnTo>
                    <a:lnTo>
                      <a:pt x="70" y="1839"/>
                    </a:lnTo>
                    <a:lnTo>
                      <a:pt x="37" y="1875"/>
                    </a:lnTo>
                    <a:lnTo>
                      <a:pt x="0" y="1900"/>
                    </a:lnTo>
                    <a:lnTo>
                      <a:pt x="47" y="1975"/>
                    </a:lnTo>
                    <a:lnTo>
                      <a:pt x="98" y="2046"/>
                    </a:lnTo>
                    <a:lnTo>
                      <a:pt x="151" y="2118"/>
                    </a:lnTo>
                    <a:lnTo>
                      <a:pt x="205" y="2186"/>
                    </a:lnTo>
                    <a:lnTo>
                      <a:pt x="263" y="2254"/>
                    </a:lnTo>
                    <a:lnTo>
                      <a:pt x="322" y="2319"/>
                    </a:lnTo>
                    <a:lnTo>
                      <a:pt x="383" y="2383"/>
                    </a:lnTo>
                    <a:lnTo>
                      <a:pt x="445" y="2444"/>
                    </a:lnTo>
                    <a:lnTo>
                      <a:pt x="510" y="2504"/>
                    </a:lnTo>
                    <a:lnTo>
                      <a:pt x="577" y="2561"/>
                    </a:lnTo>
                    <a:lnTo>
                      <a:pt x="645" y="2617"/>
                    </a:lnTo>
                    <a:lnTo>
                      <a:pt x="715" y="2671"/>
                    </a:lnTo>
                    <a:lnTo>
                      <a:pt x="786" y="2722"/>
                    </a:lnTo>
                    <a:lnTo>
                      <a:pt x="859" y="2771"/>
                    </a:lnTo>
                    <a:lnTo>
                      <a:pt x="934" y="2818"/>
                    </a:lnTo>
                    <a:lnTo>
                      <a:pt x="1011" y="2863"/>
                    </a:lnTo>
                    <a:lnTo>
                      <a:pt x="1089" y="2905"/>
                    </a:lnTo>
                    <a:lnTo>
                      <a:pt x="1168" y="2945"/>
                    </a:lnTo>
                    <a:lnTo>
                      <a:pt x="1249" y="2983"/>
                    </a:lnTo>
                    <a:lnTo>
                      <a:pt x="1331" y="3018"/>
                    </a:lnTo>
                    <a:lnTo>
                      <a:pt x="1415" y="3050"/>
                    </a:lnTo>
                    <a:lnTo>
                      <a:pt x="1499" y="3080"/>
                    </a:lnTo>
                    <a:lnTo>
                      <a:pt x="1586" y="3108"/>
                    </a:lnTo>
                    <a:lnTo>
                      <a:pt x="1672" y="3132"/>
                    </a:lnTo>
                    <a:lnTo>
                      <a:pt x="1761" y="3154"/>
                    </a:lnTo>
                    <a:lnTo>
                      <a:pt x="1850" y="3173"/>
                    </a:lnTo>
                    <a:lnTo>
                      <a:pt x="1940" y="3190"/>
                    </a:lnTo>
                    <a:lnTo>
                      <a:pt x="2031" y="3203"/>
                    </a:lnTo>
                    <a:lnTo>
                      <a:pt x="2123" y="3214"/>
                    </a:lnTo>
                    <a:lnTo>
                      <a:pt x="2217" y="3221"/>
                    </a:lnTo>
                    <a:lnTo>
                      <a:pt x="2310" y="3225"/>
                    </a:lnTo>
                    <a:lnTo>
                      <a:pt x="2405" y="3228"/>
                    </a:lnTo>
                    <a:lnTo>
                      <a:pt x="2551" y="3224"/>
                    </a:lnTo>
                    <a:lnTo>
                      <a:pt x="2695" y="3213"/>
                    </a:lnTo>
                    <a:lnTo>
                      <a:pt x="2838" y="3194"/>
                    </a:lnTo>
                    <a:lnTo>
                      <a:pt x="2978" y="3170"/>
                    </a:lnTo>
                    <a:lnTo>
                      <a:pt x="3115" y="3138"/>
                    </a:lnTo>
                    <a:lnTo>
                      <a:pt x="3250" y="3100"/>
                    </a:lnTo>
                    <a:lnTo>
                      <a:pt x="3383" y="3055"/>
                    </a:lnTo>
                    <a:lnTo>
                      <a:pt x="3512" y="3004"/>
                    </a:lnTo>
                    <a:lnTo>
                      <a:pt x="3638" y="2948"/>
                    </a:lnTo>
                    <a:lnTo>
                      <a:pt x="3760" y="2884"/>
                    </a:lnTo>
                    <a:lnTo>
                      <a:pt x="3879" y="2816"/>
                    </a:lnTo>
                    <a:lnTo>
                      <a:pt x="3995" y="2742"/>
                    </a:lnTo>
                    <a:lnTo>
                      <a:pt x="4106" y="2663"/>
                    </a:lnTo>
                    <a:lnTo>
                      <a:pt x="4213" y="2579"/>
                    </a:lnTo>
                    <a:lnTo>
                      <a:pt x="4317" y="2489"/>
                    </a:lnTo>
                    <a:lnTo>
                      <a:pt x="4415" y="2395"/>
                    </a:lnTo>
                    <a:lnTo>
                      <a:pt x="4510" y="2296"/>
                    </a:lnTo>
                    <a:lnTo>
                      <a:pt x="4598" y="2194"/>
                    </a:lnTo>
                    <a:lnTo>
                      <a:pt x="4684" y="2086"/>
                    </a:lnTo>
                    <a:lnTo>
                      <a:pt x="4762" y="1975"/>
                    </a:lnTo>
                    <a:lnTo>
                      <a:pt x="4836" y="1859"/>
                    </a:lnTo>
                    <a:lnTo>
                      <a:pt x="4905" y="1741"/>
                    </a:lnTo>
                    <a:lnTo>
                      <a:pt x="4968" y="1617"/>
                    </a:lnTo>
                    <a:lnTo>
                      <a:pt x="5025" y="1492"/>
                    </a:lnTo>
                    <a:lnTo>
                      <a:pt x="5076" y="1362"/>
                    </a:lnTo>
                    <a:lnTo>
                      <a:pt x="5121" y="1231"/>
                    </a:lnTo>
                    <a:lnTo>
                      <a:pt x="5159" y="1096"/>
                    </a:lnTo>
                    <a:lnTo>
                      <a:pt x="5190" y="959"/>
                    </a:lnTo>
                    <a:lnTo>
                      <a:pt x="5216" y="818"/>
                    </a:lnTo>
                    <a:lnTo>
                      <a:pt x="5234" y="677"/>
                    </a:lnTo>
                    <a:lnTo>
                      <a:pt x="5244" y="533"/>
                    </a:lnTo>
                    <a:lnTo>
                      <a:pt x="5248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16360" y="4170240"/>
                <a:ext cx="1366560" cy="841320"/>
              </a:xfrm>
              <a:custGeom>
                <a:avLst/>
                <a:gdLst/>
                <a:ahLst/>
                <a:rect l="l" t="t" r="r" b="b"/>
                <a:pathLst>
                  <a:path w="5164" h="3180">
                    <a:moveTo>
                      <a:pt x="5164" y="386"/>
                    </a:moveTo>
                    <a:lnTo>
                      <a:pt x="5164" y="337"/>
                    </a:lnTo>
                    <a:lnTo>
                      <a:pt x="5163" y="288"/>
                    </a:lnTo>
                    <a:lnTo>
                      <a:pt x="5160" y="240"/>
                    </a:lnTo>
                    <a:lnTo>
                      <a:pt x="5157" y="191"/>
                    </a:lnTo>
                    <a:lnTo>
                      <a:pt x="5153" y="143"/>
                    </a:lnTo>
                    <a:lnTo>
                      <a:pt x="5149" y="96"/>
                    </a:lnTo>
                    <a:lnTo>
                      <a:pt x="5143" y="47"/>
                    </a:lnTo>
                    <a:lnTo>
                      <a:pt x="5137" y="0"/>
                    </a:lnTo>
                    <a:lnTo>
                      <a:pt x="5128" y="0"/>
                    </a:lnTo>
                    <a:lnTo>
                      <a:pt x="5044" y="0"/>
                    </a:lnTo>
                    <a:lnTo>
                      <a:pt x="5050" y="47"/>
                    </a:lnTo>
                    <a:lnTo>
                      <a:pt x="5055" y="96"/>
                    </a:lnTo>
                    <a:lnTo>
                      <a:pt x="5060" y="143"/>
                    </a:lnTo>
                    <a:lnTo>
                      <a:pt x="5063" y="191"/>
                    </a:lnTo>
                    <a:lnTo>
                      <a:pt x="5067" y="240"/>
                    </a:lnTo>
                    <a:lnTo>
                      <a:pt x="5069" y="288"/>
                    </a:lnTo>
                    <a:lnTo>
                      <a:pt x="5070" y="337"/>
                    </a:lnTo>
                    <a:lnTo>
                      <a:pt x="5070" y="386"/>
                    </a:lnTo>
                    <a:lnTo>
                      <a:pt x="5067" y="524"/>
                    </a:lnTo>
                    <a:lnTo>
                      <a:pt x="5056" y="662"/>
                    </a:lnTo>
                    <a:lnTo>
                      <a:pt x="5039" y="798"/>
                    </a:lnTo>
                    <a:lnTo>
                      <a:pt x="5016" y="930"/>
                    </a:lnTo>
                    <a:lnTo>
                      <a:pt x="4985" y="1062"/>
                    </a:lnTo>
                    <a:lnTo>
                      <a:pt x="4949" y="1190"/>
                    </a:lnTo>
                    <a:lnTo>
                      <a:pt x="4907" y="1315"/>
                    </a:lnTo>
                    <a:lnTo>
                      <a:pt x="4858" y="1437"/>
                    </a:lnTo>
                    <a:lnTo>
                      <a:pt x="4804" y="1557"/>
                    </a:lnTo>
                    <a:lnTo>
                      <a:pt x="4744" y="1674"/>
                    </a:lnTo>
                    <a:lnTo>
                      <a:pt x="4679" y="1787"/>
                    </a:lnTo>
                    <a:lnTo>
                      <a:pt x="4609" y="1896"/>
                    </a:lnTo>
                    <a:lnTo>
                      <a:pt x="4533" y="2002"/>
                    </a:lnTo>
                    <a:lnTo>
                      <a:pt x="4453" y="2105"/>
                    </a:lnTo>
                    <a:lnTo>
                      <a:pt x="4368" y="2203"/>
                    </a:lnTo>
                    <a:lnTo>
                      <a:pt x="4279" y="2296"/>
                    </a:lnTo>
                    <a:lnTo>
                      <a:pt x="4184" y="2386"/>
                    </a:lnTo>
                    <a:lnTo>
                      <a:pt x="4086" y="2470"/>
                    </a:lnTo>
                    <a:lnTo>
                      <a:pt x="3985" y="2551"/>
                    </a:lnTo>
                    <a:lnTo>
                      <a:pt x="3879" y="2626"/>
                    </a:lnTo>
                    <a:lnTo>
                      <a:pt x="3769" y="2696"/>
                    </a:lnTo>
                    <a:lnTo>
                      <a:pt x="3656" y="2762"/>
                    </a:lnTo>
                    <a:lnTo>
                      <a:pt x="3539" y="2822"/>
                    </a:lnTo>
                    <a:lnTo>
                      <a:pt x="3420" y="2875"/>
                    </a:lnTo>
                    <a:lnTo>
                      <a:pt x="3296" y="2923"/>
                    </a:lnTo>
                    <a:lnTo>
                      <a:pt x="3171" y="2966"/>
                    </a:lnTo>
                    <a:lnTo>
                      <a:pt x="3043" y="3003"/>
                    </a:lnTo>
                    <a:lnTo>
                      <a:pt x="2912" y="3033"/>
                    </a:lnTo>
                    <a:lnTo>
                      <a:pt x="2778" y="3057"/>
                    </a:lnTo>
                    <a:lnTo>
                      <a:pt x="2644" y="3073"/>
                    </a:lnTo>
                    <a:lnTo>
                      <a:pt x="2506" y="3085"/>
                    </a:lnTo>
                    <a:lnTo>
                      <a:pt x="2367" y="3088"/>
                    </a:lnTo>
                    <a:lnTo>
                      <a:pt x="2277" y="3086"/>
                    </a:lnTo>
                    <a:lnTo>
                      <a:pt x="2187" y="3081"/>
                    </a:lnTo>
                    <a:lnTo>
                      <a:pt x="2097" y="3074"/>
                    </a:lnTo>
                    <a:lnTo>
                      <a:pt x="2009" y="3064"/>
                    </a:lnTo>
                    <a:lnTo>
                      <a:pt x="1921" y="3051"/>
                    </a:lnTo>
                    <a:lnTo>
                      <a:pt x="1835" y="3035"/>
                    </a:lnTo>
                    <a:lnTo>
                      <a:pt x="1748" y="3017"/>
                    </a:lnTo>
                    <a:lnTo>
                      <a:pt x="1664" y="2996"/>
                    </a:lnTo>
                    <a:lnTo>
                      <a:pt x="1581" y="2972"/>
                    </a:lnTo>
                    <a:lnTo>
                      <a:pt x="1498" y="2945"/>
                    </a:lnTo>
                    <a:lnTo>
                      <a:pt x="1417" y="2916"/>
                    </a:lnTo>
                    <a:lnTo>
                      <a:pt x="1338" y="2885"/>
                    </a:lnTo>
                    <a:lnTo>
                      <a:pt x="1258" y="2851"/>
                    </a:lnTo>
                    <a:lnTo>
                      <a:pt x="1181" y="2815"/>
                    </a:lnTo>
                    <a:lnTo>
                      <a:pt x="1105" y="2776"/>
                    </a:lnTo>
                    <a:lnTo>
                      <a:pt x="1031" y="2734"/>
                    </a:lnTo>
                    <a:lnTo>
                      <a:pt x="957" y="2692"/>
                    </a:lnTo>
                    <a:lnTo>
                      <a:pt x="886" y="2647"/>
                    </a:lnTo>
                    <a:lnTo>
                      <a:pt x="815" y="2598"/>
                    </a:lnTo>
                    <a:lnTo>
                      <a:pt x="747" y="2549"/>
                    </a:lnTo>
                    <a:lnTo>
                      <a:pt x="680" y="2497"/>
                    </a:lnTo>
                    <a:lnTo>
                      <a:pt x="615" y="2444"/>
                    </a:lnTo>
                    <a:lnTo>
                      <a:pt x="551" y="2387"/>
                    </a:lnTo>
                    <a:lnTo>
                      <a:pt x="490" y="2330"/>
                    </a:lnTo>
                    <a:lnTo>
                      <a:pt x="430" y="2270"/>
                    </a:lnTo>
                    <a:lnTo>
                      <a:pt x="372" y="2209"/>
                    </a:lnTo>
                    <a:lnTo>
                      <a:pt x="316" y="2145"/>
                    </a:lnTo>
                    <a:lnTo>
                      <a:pt x="262" y="2081"/>
                    </a:lnTo>
                    <a:lnTo>
                      <a:pt x="210" y="2014"/>
                    </a:lnTo>
                    <a:lnTo>
                      <a:pt x="160" y="1946"/>
                    </a:lnTo>
                    <a:lnTo>
                      <a:pt x="112" y="1875"/>
                    </a:lnTo>
                    <a:lnTo>
                      <a:pt x="67" y="1804"/>
                    </a:lnTo>
                    <a:lnTo>
                      <a:pt x="36" y="1835"/>
                    </a:lnTo>
                    <a:lnTo>
                      <a:pt x="0" y="1874"/>
                    </a:lnTo>
                    <a:lnTo>
                      <a:pt x="47" y="1947"/>
                    </a:lnTo>
                    <a:lnTo>
                      <a:pt x="97" y="2018"/>
                    </a:lnTo>
                    <a:lnTo>
                      <a:pt x="149" y="2088"/>
                    </a:lnTo>
                    <a:lnTo>
                      <a:pt x="203" y="2156"/>
                    </a:lnTo>
                    <a:lnTo>
                      <a:pt x="259" y="2222"/>
                    </a:lnTo>
                    <a:lnTo>
                      <a:pt x="317" y="2286"/>
                    </a:lnTo>
                    <a:lnTo>
                      <a:pt x="377" y="2349"/>
                    </a:lnTo>
                    <a:lnTo>
                      <a:pt x="438" y="2409"/>
                    </a:lnTo>
                    <a:lnTo>
                      <a:pt x="502" y="2468"/>
                    </a:lnTo>
                    <a:lnTo>
                      <a:pt x="567" y="2526"/>
                    </a:lnTo>
                    <a:lnTo>
                      <a:pt x="634" y="2580"/>
                    </a:lnTo>
                    <a:lnTo>
                      <a:pt x="703" y="2633"/>
                    </a:lnTo>
                    <a:lnTo>
                      <a:pt x="774" y="2684"/>
                    </a:lnTo>
                    <a:lnTo>
                      <a:pt x="847" y="2732"/>
                    </a:lnTo>
                    <a:lnTo>
                      <a:pt x="920" y="2778"/>
                    </a:lnTo>
                    <a:lnTo>
                      <a:pt x="995" y="2822"/>
                    </a:lnTo>
                    <a:lnTo>
                      <a:pt x="1071" y="2863"/>
                    </a:lnTo>
                    <a:lnTo>
                      <a:pt x="1150" y="2903"/>
                    </a:lnTo>
                    <a:lnTo>
                      <a:pt x="1229" y="2939"/>
                    </a:lnTo>
                    <a:lnTo>
                      <a:pt x="1310" y="2974"/>
                    </a:lnTo>
                    <a:lnTo>
                      <a:pt x="1392" y="3006"/>
                    </a:lnTo>
                    <a:lnTo>
                      <a:pt x="1476" y="3036"/>
                    </a:lnTo>
                    <a:lnTo>
                      <a:pt x="1560" y="3063"/>
                    </a:lnTo>
                    <a:lnTo>
                      <a:pt x="1646" y="3087"/>
                    </a:lnTo>
                    <a:lnTo>
                      <a:pt x="1733" y="3109"/>
                    </a:lnTo>
                    <a:lnTo>
                      <a:pt x="1821" y="3127"/>
                    </a:lnTo>
                    <a:lnTo>
                      <a:pt x="1910" y="3143"/>
                    </a:lnTo>
                    <a:lnTo>
                      <a:pt x="2000" y="3157"/>
                    </a:lnTo>
                    <a:lnTo>
                      <a:pt x="2090" y="3168"/>
                    </a:lnTo>
                    <a:lnTo>
                      <a:pt x="2182" y="3175"/>
                    </a:lnTo>
                    <a:lnTo>
                      <a:pt x="2274" y="3179"/>
                    </a:lnTo>
                    <a:lnTo>
                      <a:pt x="2367" y="3180"/>
                    </a:lnTo>
                    <a:lnTo>
                      <a:pt x="2511" y="3177"/>
                    </a:lnTo>
                    <a:lnTo>
                      <a:pt x="2653" y="3167"/>
                    </a:lnTo>
                    <a:lnTo>
                      <a:pt x="2793" y="3148"/>
                    </a:lnTo>
                    <a:lnTo>
                      <a:pt x="2931" y="3124"/>
                    </a:lnTo>
                    <a:lnTo>
                      <a:pt x="3066" y="3093"/>
                    </a:lnTo>
                    <a:lnTo>
                      <a:pt x="3198" y="3055"/>
                    </a:lnTo>
                    <a:lnTo>
                      <a:pt x="3329" y="3011"/>
                    </a:lnTo>
                    <a:lnTo>
                      <a:pt x="3456" y="2961"/>
                    </a:lnTo>
                    <a:lnTo>
                      <a:pt x="3579" y="2905"/>
                    </a:lnTo>
                    <a:lnTo>
                      <a:pt x="3700" y="2844"/>
                    </a:lnTo>
                    <a:lnTo>
                      <a:pt x="3817" y="2776"/>
                    </a:lnTo>
                    <a:lnTo>
                      <a:pt x="3931" y="2703"/>
                    </a:lnTo>
                    <a:lnTo>
                      <a:pt x="4040" y="2626"/>
                    </a:lnTo>
                    <a:lnTo>
                      <a:pt x="4146" y="2543"/>
                    </a:lnTo>
                    <a:lnTo>
                      <a:pt x="4248" y="2454"/>
                    </a:lnTo>
                    <a:lnTo>
                      <a:pt x="4345" y="2362"/>
                    </a:lnTo>
                    <a:lnTo>
                      <a:pt x="4437" y="2265"/>
                    </a:lnTo>
                    <a:lnTo>
                      <a:pt x="4525" y="2164"/>
                    </a:lnTo>
                    <a:lnTo>
                      <a:pt x="4608" y="2058"/>
                    </a:lnTo>
                    <a:lnTo>
                      <a:pt x="4686" y="1948"/>
                    </a:lnTo>
                    <a:lnTo>
                      <a:pt x="4759" y="1835"/>
                    </a:lnTo>
                    <a:lnTo>
                      <a:pt x="4826" y="1718"/>
                    </a:lnTo>
                    <a:lnTo>
                      <a:pt x="4888" y="1598"/>
                    </a:lnTo>
                    <a:lnTo>
                      <a:pt x="4943" y="1474"/>
                    </a:lnTo>
                    <a:lnTo>
                      <a:pt x="4994" y="1346"/>
                    </a:lnTo>
                    <a:lnTo>
                      <a:pt x="5038" y="1217"/>
                    </a:lnTo>
                    <a:lnTo>
                      <a:pt x="5076" y="1085"/>
                    </a:lnTo>
                    <a:lnTo>
                      <a:pt x="5107" y="949"/>
                    </a:lnTo>
                    <a:lnTo>
                      <a:pt x="5131" y="811"/>
                    </a:lnTo>
                    <a:lnTo>
                      <a:pt x="5150" y="672"/>
                    </a:lnTo>
                    <a:lnTo>
                      <a:pt x="5160" y="530"/>
                    </a:lnTo>
                    <a:lnTo>
                      <a:pt x="5164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25720" y="4170240"/>
                <a:ext cx="1344600" cy="828720"/>
              </a:xfrm>
              <a:custGeom>
                <a:avLst/>
                <a:gdLst/>
                <a:ahLst/>
                <a:rect l="l" t="t" r="r" b="b"/>
                <a:pathLst>
                  <a:path w="5086" h="3134">
                    <a:moveTo>
                      <a:pt x="5086" y="386"/>
                    </a:moveTo>
                    <a:lnTo>
                      <a:pt x="5084" y="337"/>
                    </a:lnTo>
                    <a:lnTo>
                      <a:pt x="5083" y="288"/>
                    </a:lnTo>
                    <a:lnTo>
                      <a:pt x="5081" y="240"/>
                    </a:lnTo>
                    <a:lnTo>
                      <a:pt x="5079" y="191"/>
                    </a:lnTo>
                    <a:lnTo>
                      <a:pt x="5074" y="143"/>
                    </a:lnTo>
                    <a:lnTo>
                      <a:pt x="5069" y="96"/>
                    </a:lnTo>
                    <a:lnTo>
                      <a:pt x="5065" y="47"/>
                    </a:lnTo>
                    <a:lnTo>
                      <a:pt x="5058" y="0"/>
                    </a:lnTo>
                    <a:lnTo>
                      <a:pt x="4982" y="0"/>
                    </a:lnTo>
                    <a:lnTo>
                      <a:pt x="4964" y="0"/>
                    </a:lnTo>
                    <a:lnTo>
                      <a:pt x="4970" y="47"/>
                    </a:lnTo>
                    <a:lnTo>
                      <a:pt x="4976" y="96"/>
                    </a:lnTo>
                    <a:lnTo>
                      <a:pt x="4981" y="143"/>
                    </a:lnTo>
                    <a:lnTo>
                      <a:pt x="4985" y="191"/>
                    </a:lnTo>
                    <a:lnTo>
                      <a:pt x="4988" y="240"/>
                    </a:lnTo>
                    <a:lnTo>
                      <a:pt x="4990" y="288"/>
                    </a:lnTo>
                    <a:lnTo>
                      <a:pt x="4991" y="337"/>
                    </a:lnTo>
                    <a:lnTo>
                      <a:pt x="4992" y="386"/>
                    </a:lnTo>
                    <a:lnTo>
                      <a:pt x="4989" y="522"/>
                    </a:lnTo>
                    <a:lnTo>
                      <a:pt x="4978" y="657"/>
                    </a:lnTo>
                    <a:lnTo>
                      <a:pt x="4961" y="791"/>
                    </a:lnTo>
                    <a:lnTo>
                      <a:pt x="4938" y="921"/>
                    </a:lnTo>
                    <a:lnTo>
                      <a:pt x="4908" y="1049"/>
                    </a:lnTo>
                    <a:lnTo>
                      <a:pt x="4872" y="1176"/>
                    </a:lnTo>
                    <a:lnTo>
                      <a:pt x="4831" y="1299"/>
                    </a:lnTo>
                    <a:lnTo>
                      <a:pt x="4783" y="1419"/>
                    </a:lnTo>
                    <a:lnTo>
                      <a:pt x="4730" y="1537"/>
                    </a:lnTo>
                    <a:lnTo>
                      <a:pt x="4672" y="1652"/>
                    </a:lnTo>
                    <a:lnTo>
                      <a:pt x="4607" y="1763"/>
                    </a:lnTo>
                    <a:lnTo>
                      <a:pt x="4538" y="1871"/>
                    </a:lnTo>
                    <a:lnTo>
                      <a:pt x="4464" y="1975"/>
                    </a:lnTo>
                    <a:lnTo>
                      <a:pt x="4385" y="2075"/>
                    </a:lnTo>
                    <a:lnTo>
                      <a:pt x="4301" y="2172"/>
                    </a:lnTo>
                    <a:lnTo>
                      <a:pt x="4214" y="2263"/>
                    </a:lnTo>
                    <a:lnTo>
                      <a:pt x="4121" y="2352"/>
                    </a:lnTo>
                    <a:lnTo>
                      <a:pt x="4024" y="2435"/>
                    </a:lnTo>
                    <a:lnTo>
                      <a:pt x="3924" y="2514"/>
                    </a:lnTo>
                    <a:lnTo>
                      <a:pt x="3820" y="2588"/>
                    </a:lnTo>
                    <a:lnTo>
                      <a:pt x="3713" y="2657"/>
                    </a:lnTo>
                    <a:lnTo>
                      <a:pt x="3601" y="2720"/>
                    </a:lnTo>
                    <a:lnTo>
                      <a:pt x="3487" y="2779"/>
                    </a:lnTo>
                    <a:lnTo>
                      <a:pt x="3369" y="2832"/>
                    </a:lnTo>
                    <a:lnTo>
                      <a:pt x="3248" y="2880"/>
                    </a:lnTo>
                    <a:lnTo>
                      <a:pt x="3125" y="2922"/>
                    </a:lnTo>
                    <a:lnTo>
                      <a:pt x="2999" y="2958"/>
                    </a:lnTo>
                    <a:lnTo>
                      <a:pt x="2871" y="2987"/>
                    </a:lnTo>
                    <a:lnTo>
                      <a:pt x="2740" y="3011"/>
                    </a:lnTo>
                    <a:lnTo>
                      <a:pt x="2607" y="3027"/>
                    </a:lnTo>
                    <a:lnTo>
                      <a:pt x="2472" y="3037"/>
                    </a:lnTo>
                    <a:lnTo>
                      <a:pt x="2335" y="3041"/>
                    </a:lnTo>
                    <a:lnTo>
                      <a:pt x="2245" y="3040"/>
                    </a:lnTo>
                    <a:lnTo>
                      <a:pt x="2156" y="3035"/>
                    </a:lnTo>
                    <a:lnTo>
                      <a:pt x="2067" y="3028"/>
                    </a:lnTo>
                    <a:lnTo>
                      <a:pt x="1979" y="3018"/>
                    </a:lnTo>
                    <a:lnTo>
                      <a:pt x="1893" y="3004"/>
                    </a:lnTo>
                    <a:lnTo>
                      <a:pt x="1806" y="2989"/>
                    </a:lnTo>
                    <a:lnTo>
                      <a:pt x="1722" y="2971"/>
                    </a:lnTo>
                    <a:lnTo>
                      <a:pt x="1638" y="2949"/>
                    </a:lnTo>
                    <a:lnTo>
                      <a:pt x="1556" y="2924"/>
                    </a:lnTo>
                    <a:lnTo>
                      <a:pt x="1474" y="2899"/>
                    </a:lnTo>
                    <a:lnTo>
                      <a:pt x="1394" y="2869"/>
                    </a:lnTo>
                    <a:lnTo>
                      <a:pt x="1314" y="2838"/>
                    </a:lnTo>
                    <a:lnTo>
                      <a:pt x="1237" y="2805"/>
                    </a:lnTo>
                    <a:lnTo>
                      <a:pt x="1159" y="2768"/>
                    </a:lnTo>
                    <a:lnTo>
                      <a:pt x="1084" y="2730"/>
                    </a:lnTo>
                    <a:lnTo>
                      <a:pt x="1011" y="2688"/>
                    </a:lnTo>
                    <a:lnTo>
                      <a:pt x="939" y="2646"/>
                    </a:lnTo>
                    <a:lnTo>
                      <a:pt x="868" y="2599"/>
                    </a:lnTo>
                    <a:lnTo>
                      <a:pt x="798" y="2552"/>
                    </a:lnTo>
                    <a:lnTo>
                      <a:pt x="730" y="2503"/>
                    </a:lnTo>
                    <a:lnTo>
                      <a:pt x="665" y="2451"/>
                    </a:lnTo>
                    <a:lnTo>
                      <a:pt x="600" y="2397"/>
                    </a:lnTo>
                    <a:lnTo>
                      <a:pt x="538" y="2341"/>
                    </a:lnTo>
                    <a:lnTo>
                      <a:pt x="477" y="2284"/>
                    </a:lnTo>
                    <a:lnTo>
                      <a:pt x="418" y="2224"/>
                    </a:lnTo>
                    <a:lnTo>
                      <a:pt x="361" y="2163"/>
                    </a:lnTo>
                    <a:lnTo>
                      <a:pt x="306" y="2100"/>
                    </a:lnTo>
                    <a:lnTo>
                      <a:pt x="253" y="2035"/>
                    </a:lnTo>
                    <a:lnTo>
                      <a:pt x="202" y="1968"/>
                    </a:lnTo>
                    <a:lnTo>
                      <a:pt x="152" y="1900"/>
                    </a:lnTo>
                    <a:lnTo>
                      <a:pt x="105" y="1831"/>
                    </a:lnTo>
                    <a:lnTo>
                      <a:pt x="61" y="1759"/>
                    </a:lnTo>
                    <a:lnTo>
                      <a:pt x="41" y="1798"/>
                    </a:lnTo>
                    <a:lnTo>
                      <a:pt x="4" y="1835"/>
                    </a:lnTo>
                    <a:lnTo>
                      <a:pt x="0" y="1839"/>
                    </a:lnTo>
                    <a:lnTo>
                      <a:pt x="47" y="1910"/>
                    </a:lnTo>
                    <a:lnTo>
                      <a:pt x="96" y="1982"/>
                    </a:lnTo>
                    <a:lnTo>
                      <a:pt x="147" y="2051"/>
                    </a:lnTo>
                    <a:lnTo>
                      <a:pt x="200" y="2118"/>
                    </a:lnTo>
                    <a:lnTo>
                      <a:pt x="255" y="2183"/>
                    </a:lnTo>
                    <a:lnTo>
                      <a:pt x="312" y="2247"/>
                    </a:lnTo>
                    <a:lnTo>
                      <a:pt x="370" y="2309"/>
                    </a:lnTo>
                    <a:lnTo>
                      <a:pt x="432" y="2369"/>
                    </a:lnTo>
                    <a:lnTo>
                      <a:pt x="494" y="2428"/>
                    </a:lnTo>
                    <a:lnTo>
                      <a:pt x="558" y="2484"/>
                    </a:lnTo>
                    <a:lnTo>
                      <a:pt x="625" y="2538"/>
                    </a:lnTo>
                    <a:lnTo>
                      <a:pt x="693" y="2590"/>
                    </a:lnTo>
                    <a:lnTo>
                      <a:pt x="763" y="2641"/>
                    </a:lnTo>
                    <a:lnTo>
                      <a:pt x="833" y="2688"/>
                    </a:lnTo>
                    <a:lnTo>
                      <a:pt x="907" y="2734"/>
                    </a:lnTo>
                    <a:lnTo>
                      <a:pt x="981" y="2778"/>
                    </a:lnTo>
                    <a:lnTo>
                      <a:pt x="1057" y="2820"/>
                    </a:lnTo>
                    <a:lnTo>
                      <a:pt x="1133" y="2859"/>
                    </a:lnTo>
                    <a:lnTo>
                      <a:pt x="1211" y="2896"/>
                    </a:lnTo>
                    <a:lnTo>
                      <a:pt x="1292" y="2929"/>
                    </a:lnTo>
                    <a:lnTo>
                      <a:pt x="1373" y="2961"/>
                    </a:lnTo>
                    <a:lnTo>
                      <a:pt x="1455" y="2990"/>
                    </a:lnTo>
                    <a:lnTo>
                      <a:pt x="1539" y="3017"/>
                    </a:lnTo>
                    <a:lnTo>
                      <a:pt x="1623" y="3041"/>
                    </a:lnTo>
                    <a:lnTo>
                      <a:pt x="1708" y="3063"/>
                    </a:lnTo>
                    <a:lnTo>
                      <a:pt x="1796" y="3081"/>
                    </a:lnTo>
                    <a:lnTo>
                      <a:pt x="1884" y="3097"/>
                    </a:lnTo>
                    <a:lnTo>
                      <a:pt x="1973" y="3110"/>
                    </a:lnTo>
                    <a:lnTo>
                      <a:pt x="2061" y="3120"/>
                    </a:lnTo>
                    <a:lnTo>
                      <a:pt x="2152" y="3129"/>
                    </a:lnTo>
                    <a:lnTo>
                      <a:pt x="2244" y="3133"/>
                    </a:lnTo>
                    <a:lnTo>
                      <a:pt x="2335" y="3134"/>
                    </a:lnTo>
                    <a:lnTo>
                      <a:pt x="2477" y="3131"/>
                    </a:lnTo>
                    <a:lnTo>
                      <a:pt x="2616" y="3120"/>
                    </a:lnTo>
                    <a:lnTo>
                      <a:pt x="2753" y="3103"/>
                    </a:lnTo>
                    <a:lnTo>
                      <a:pt x="2889" y="3079"/>
                    </a:lnTo>
                    <a:lnTo>
                      <a:pt x="3022" y="3048"/>
                    </a:lnTo>
                    <a:lnTo>
                      <a:pt x="3152" y="3011"/>
                    </a:lnTo>
                    <a:lnTo>
                      <a:pt x="3280" y="2967"/>
                    </a:lnTo>
                    <a:lnTo>
                      <a:pt x="3405" y="2919"/>
                    </a:lnTo>
                    <a:lnTo>
                      <a:pt x="3527" y="2863"/>
                    </a:lnTo>
                    <a:lnTo>
                      <a:pt x="3646" y="2802"/>
                    </a:lnTo>
                    <a:lnTo>
                      <a:pt x="3761" y="2737"/>
                    </a:lnTo>
                    <a:lnTo>
                      <a:pt x="3872" y="2665"/>
                    </a:lnTo>
                    <a:lnTo>
                      <a:pt x="3981" y="2588"/>
                    </a:lnTo>
                    <a:lnTo>
                      <a:pt x="4084" y="2507"/>
                    </a:lnTo>
                    <a:lnTo>
                      <a:pt x="4184" y="2421"/>
                    </a:lnTo>
                    <a:lnTo>
                      <a:pt x="4279" y="2330"/>
                    </a:lnTo>
                    <a:lnTo>
                      <a:pt x="4370" y="2234"/>
                    </a:lnTo>
                    <a:lnTo>
                      <a:pt x="4457" y="2134"/>
                    </a:lnTo>
                    <a:lnTo>
                      <a:pt x="4539" y="2030"/>
                    </a:lnTo>
                    <a:lnTo>
                      <a:pt x="4615" y="1923"/>
                    </a:lnTo>
                    <a:lnTo>
                      <a:pt x="4687" y="1811"/>
                    </a:lnTo>
                    <a:lnTo>
                      <a:pt x="4753" y="1696"/>
                    </a:lnTo>
                    <a:lnTo>
                      <a:pt x="4813" y="1577"/>
                    </a:lnTo>
                    <a:lnTo>
                      <a:pt x="4869" y="1456"/>
                    </a:lnTo>
                    <a:lnTo>
                      <a:pt x="4918" y="1331"/>
                    </a:lnTo>
                    <a:lnTo>
                      <a:pt x="4961" y="1203"/>
                    </a:lnTo>
                    <a:lnTo>
                      <a:pt x="4999" y="1073"/>
                    </a:lnTo>
                    <a:lnTo>
                      <a:pt x="5029" y="939"/>
                    </a:lnTo>
                    <a:lnTo>
                      <a:pt x="5053" y="805"/>
                    </a:lnTo>
                    <a:lnTo>
                      <a:pt x="5071" y="667"/>
                    </a:lnTo>
                    <a:lnTo>
                      <a:pt x="5082" y="528"/>
                    </a:lnTo>
                    <a:lnTo>
                      <a:pt x="5086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33640" y="4170240"/>
                <a:ext cx="1324080" cy="817560"/>
              </a:xfrm>
              <a:custGeom>
                <a:avLst/>
                <a:gdLst/>
                <a:ahLst/>
                <a:rect l="l" t="t" r="r" b="b"/>
                <a:pathLst>
                  <a:path w="5003" h="3088">
                    <a:moveTo>
                      <a:pt x="5003" y="386"/>
                    </a:moveTo>
                    <a:lnTo>
                      <a:pt x="5003" y="337"/>
                    </a:lnTo>
                    <a:lnTo>
                      <a:pt x="5002" y="288"/>
                    </a:lnTo>
                    <a:lnTo>
                      <a:pt x="5000" y="240"/>
                    </a:lnTo>
                    <a:lnTo>
                      <a:pt x="4996" y="191"/>
                    </a:lnTo>
                    <a:lnTo>
                      <a:pt x="4993" y="143"/>
                    </a:lnTo>
                    <a:lnTo>
                      <a:pt x="4988" y="96"/>
                    </a:lnTo>
                    <a:lnTo>
                      <a:pt x="4983" y="47"/>
                    </a:lnTo>
                    <a:lnTo>
                      <a:pt x="4976" y="0"/>
                    </a:lnTo>
                    <a:lnTo>
                      <a:pt x="4947" y="0"/>
                    </a:lnTo>
                    <a:lnTo>
                      <a:pt x="4882" y="0"/>
                    </a:lnTo>
                    <a:lnTo>
                      <a:pt x="4888" y="47"/>
                    </a:lnTo>
                    <a:lnTo>
                      <a:pt x="4894" y="96"/>
                    </a:lnTo>
                    <a:lnTo>
                      <a:pt x="4899" y="143"/>
                    </a:lnTo>
                    <a:lnTo>
                      <a:pt x="4903" y="191"/>
                    </a:lnTo>
                    <a:lnTo>
                      <a:pt x="4906" y="240"/>
                    </a:lnTo>
                    <a:lnTo>
                      <a:pt x="4909" y="288"/>
                    </a:lnTo>
                    <a:lnTo>
                      <a:pt x="4910" y="337"/>
                    </a:lnTo>
                    <a:lnTo>
                      <a:pt x="4910" y="386"/>
                    </a:lnTo>
                    <a:lnTo>
                      <a:pt x="4906" y="520"/>
                    </a:lnTo>
                    <a:lnTo>
                      <a:pt x="4897" y="652"/>
                    </a:lnTo>
                    <a:lnTo>
                      <a:pt x="4880" y="783"/>
                    </a:lnTo>
                    <a:lnTo>
                      <a:pt x="4857" y="912"/>
                    </a:lnTo>
                    <a:lnTo>
                      <a:pt x="4828" y="1037"/>
                    </a:lnTo>
                    <a:lnTo>
                      <a:pt x="4793" y="1162"/>
                    </a:lnTo>
                    <a:lnTo>
                      <a:pt x="4752" y="1283"/>
                    </a:lnTo>
                    <a:lnTo>
                      <a:pt x="4706" y="1402"/>
                    </a:lnTo>
                    <a:lnTo>
                      <a:pt x="4653" y="1517"/>
                    </a:lnTo>
                    <a:lnTo>
                      <a:pt x="4595" y="1629"/>
                    </a:lnTo>
                    <a:lnTo>
                      <a:pt x="4533" y="1738"/>
                    </a:lnTo>
                    <a:lnTo>
                      <a:pt x="4465" y="1844"/>
                    </a:lnTo>
                    <a:lnTo>
                      <a:pt x="4392" y="1947"/>
                    </a:lnTo>
                    <a:lnTo>
                      <a:pt x="4315" y="2045"/>
                    </a:lnTo>
                    <a:lnTo>
                      <a:pt x="4232" y="2139"/>
                    </a:lnTo>
                    <a:lnTo>
                      <a:pt x="4146" y="2231"/>
                    </a:lnTo>
                    <a:lnTo>
                      <a:pt x="4055" y="2317"/>
                    </a:lnTo>
                    <a:lnTo>
                      <a:pt x="3961" y="2399"/>
                    </a:lnTo>
                    <a:lnTo>
                      <a:pt x="3861" y="2476"/>
                    </a:lnTo>
                    <a:lnTo>
                      <a:pt x="3760" y="2549"/>
                    </a:lnTo>
                    <a:lnTo>
                      <a:pt x="3654" y="2617"/>
                    </a:lnTo>
                    <a:lnTo>
                      <a:pt x="3544" y="2680"/>
                    </a:lnTo>
                    <a:lnTo>
                      <a:pt x="3431" y="2738"/>
                    </a:lnTo>
                    <a:lnTo>
                      <a:pt x="3316" y="2790"/>
                    </a:lnTo>
                    <a:lnTo>
                      <a:pt x="3197" y="2836"/>
                    </a:lnTo>
                    <a:lnTo>
                      <a:pt x="3076" y="2877"/>
                    </a:lnTo>
                    <a:lnTo>
                      <a:pt x="2953" y="2913"/>
                    </a:lnTo>
                    <a:lnTo>
                      <a:pt x="2826" y="2942"/>
                    </a:lnTo>
                    <a:lnTo>
                      <a:pt x="2698" y="2965"/>
                    </a:lnTo>
                    <a:lnTo>
                      <a:pt x="2567" y="2981"/>
                    </a:lnTo>
                    <a:lnTo>
                      <a:pt x="2435" y="2991"/>
                    </a:lnTo>
                    <a:lnTo>
                      <a:pt x="2300" y="2995"/>
                    </a:lnTo>
                    <a:lnTo>
                      <a:pt x="2211" y="2992"/>
                    </a:lnTo>
                    <a:lnTo>
                      <a:pt x="2122" y="2989"/>
                    </a:lnTo>
                    <a:lnTo>
                      <a:pt x="2034" y="2981"/>
                    </a:lnTo>
                    <a:lnTo>
                      <a:pt x="1947" y="2971"/>
                    </a:lnTo>
                    <a:lnTo>
                      <a:pt x="1861" y="2958"/>
                    </a:lnTo>
                    <a:lnTo>
                      <a:pt x="1776" y="2942"/>
                    </a:lnTo>
                    <a:lnTo>
                      <a:pt x="1692" y="2923"/>
                    </a:lnTo>
                    <a:lnTo>
                      <a:pt x="1609" y="2901"/>
                    </a:lnTo>
                    <a:lnTo>
                      <a:pt x="1527" y="2878"/>
                    </a:lnTo>
                    <a:lnTo>
                      <a:pt x="1445" y="2852"/>
                    </a:lnTo>
                    <a:lnTo>
                      <a:pt x="1365" y="2822"/>
                    </a:lnTo>
                    <a:lnTo>
                      <a:pt x="1287" y="2791"/>
                    </a:lnTo>
                    <a:lnTo>
                      <a:pt x="1210" y="2757"/>
                    </a:lnTo>
                    <a:lnTo>
                      <a:pt x="1135" y="2720"/>
                    </a:lnTo>
                    <a:lnTo>
                      <a:pt x="1060" y="2681"/>
                    </a:lnTo>
                    <a:lnTo>
                      <a:pt x="987" y="2641"/>
                    </a:lnTo>
                    <a:lnTo>
                      <a:pt x="916" y="2597"/>
                    </a:lnTo>
                    <a:lnTo>
                      <a:pt x="845" y="2552"/>
                    </a:lnTo>
                    <a:lnTo>
                      <a:pt x="776" y="2504"/>
                    </a:lnTo>
                    <a:lnTo>
                      <a:pt x="709" y="2454"/>
                    </a:lnTo>
                    <a:lnTo>
                      <a:pt x="645" y="2402"/>
                    </a:lnTo>
                    <a:lnTo>
                      <a:pt x="581" y="2348"/>
                    </a:lnTo>
                    <a:lnTo>
                      <a:pt x="519" y="2293"/>
                    </a:lnTo>
                    <a:lnTo>
                      <a:pt x="459" y="2235"/>
                    </a:lnTo>
                    <a:lnTo>
                      <a:pt x="401" y="2175"/>
                    </a:lnTo>
                    <a:lnTo>
                      <a:pt x="345" y="2114"/>
                    </a:lnTo>
                    <a:lnTo>
                      <a:pt x="290" y="2051"/>
                    </a:lnTo>
                    <a:lnTo>
                      <a:pt x="239" y="1986"/>
                    </a:lnTo>
                    <a:lnTo>
                      <a:pt x="189" y="1919"/>
                    </a:lnTo>
                    <a:lnTo>
                      <a:pt x="141" y="1851"/>
                    </a:lnTo>
                    <a:lnTo>
                      <a:pt x="94" y="1781"/>
                    </a:lnTo>
                    <a:lnTo>
                      <a:pt x="52" y="1709"/>
                    </a:lnTo>
                    <a:lnTo>
                      <a:pt x="46" y="1721"/>
                    </a:lnTo>
                    <a:lnTo>
                      <a:pt x="6" y="1798"/>
                    </a:lnTo>
                    <a:lnTo>
                      <a:pt x="0" y="1804"/>
                    </a:lnTo>
                    <a:lnTo>
                      <a:pt x="45" y="1875"/>
                    </a:lnTo>
                    <a:lnTo>
                      <a:pt x="93" y="1946"/>
                    </a:lnTo>
                    <a:lnTo>
                      <a:pt x="143" y="2014"/>
                    </a:lnTo>
                    <a:lnTo>
                      <a:pt x="195" y="2081"/>
                    </a:lnTo>
                    <a:lnTo>
                      <a:pt x="249" y="2145"/>
                    </a:lnTo>
                    <a:lnTo>
                      <a:pt x="305" y="2209"/>
                    </a:lnTo>
                    <a:lnTo>
                      <a:pt x="363" y="2270"/>
                    </a:lnTo>
                    <a:lnTo>
                      <a:pt x="423" y="2330"/>
                    </a:lnTo>
                    <a:lnTo>
                      <a:pt x="484" y="2387"/>
                    </a:lnTo>
                    <a:lnTo>
                      <a:pt x="548" y="2444"/>
                    </a:lnTo>
                    <a:lnTo>
                      <a:pt x="613" y="2497"/>
                    </a:lnTo>
                    <a:lnTo>
                      <a:pt x="680" y="2549"/>
                    </a:lnTo>
                    <a:lnTo>
                      <a:pt x="748" y="2598"/>
                    </a:lnTo>
                    <a:lnTo>
                      <a:pt x="819" y="2647"/>
                    </a:lnTo>
                    <a:lnTo>
                      <a:pt x="890" y="2692"/>
                    </a:lnTo>
                    <a:lnTo>
                      <a:pt x="964" y="2734"/>
                    </a:lnTo>
                    <a:lnTo>
                      <a:pt x="1038" y="2776"/>
                    </a:lnTo>
                    <a:lnTo>
                      <a:pt x="1114" y="2815"/>
                    </a:lnTo>
                    <a:lnTo>
                      <a:pt x="1191" y="2851"/>
                    </a:lnTo>
                    <a:lnTo>
                      <a:pt x="1271" y="2884"/>
                    </a:lnTo>
                    <a:lnTo>
                      <a:pt x="1350" y="2916"/>
                    </a:lnTo>
                    <a:lnTo>
                      <a:pt x="1431" y="2945"/>
                    </a:lnTo>
                    <a:lnTo>
                      <a:pt x="1514" y="2972"/>
                    </a:lnTo>
                    <a:lnTo>
                      <a:pt x="1597" y="2996"/>
                    </a:lnTo>
                    <a:lnTo>
                      <a:pt x="1681" y="3017"/>
                    </a:lnTo>
                    <a:lnTo>
                      <a:pt x="1768" y="3035"/>
                    </a:lnTo>
                    <a:lnTo>
                      <a:pt x="1854" y="3051"/>
                    </a:lnTo>
                    <a:lnTo>
                      <a:pt x="1942" y="3064"/>
                    </a:lnTo>
                    <a:lnTo>
                      <a:pt x="2030" y="3074"/>
                    </a:lnTo>
                    <a:lnTo>
                      <a:pt x="2120" y="3081"/>
                    </a:lnTo>
                    <a:lnTo>
                      <a:pt x="2210" y="3086"/>
                    </a:lnTo>
                    <a:lnTo>
                      <a:pt x="2300" y="3088"/>
                    </a:lnTo>
                    <a:lnTo>
                      <a:pt x="2439" y="3084"/>
                    </a:lnTo>
                    <a:lnTo>
                      <a:pt x="2577" y="3073"/>
                    </a:lnTo>
                    <a:lnTo>
                      <a:pt x="2711" y="3057"/>
                    </a:lnTo>
                    <a:lnTo>
                      <a:pt x="2845" y="3033"/>
                    </a:lnTo>
                    <a:lnTo>
                      <a:pt x="2976" y="3003"/>
                    </a:lnTo>
                    <a:lnTo>
                      <a:pt x="3104" y="2966"/>
                    </a:lnTo>
                    <a:lnTo>
                      <a:pt x="3229" y="2923"/>
                    </a:lnTo>
                    <a:lnTo>
                      <a:pt x="3353" y="2875"/>
                    </a:lnTo>
                    <a:lnTo>
                      <a:pt x="3472" y="2821"/>
                    </a:lnTo>
                    <a:lnTo>
                      <a:pt x="3588" y="2762"/>
                    </a:lnTo>
                    <a:lnTo>
                      <a:pt x="3702" y="2696"/>
                    </a:lnTo>
                    <a:lnTo>
                      <a:pt x="3812" y="2626"/>
                    </a:lnTo>
                    <a:lnTo>
                      <a:pt x="3918" y="2551"/>
                    </a:lnTo>
                    <a:lnTo>
                      <a:pt x="4019" y="2470"/>
                    </a:lnTo>
                    <a:lnTo>
                      <a:pt x="4117" y="2386"/>
                    </a:lnTo>
                    <a:lnTo>
                      <a:pt x="4212" y="2296"/>
                    </a:lnTo>
                    <a:lnTo>
                      <a:pt x="4301" y="2203"/>
                    </a:lnTo>
                    <a:lnTo>
                      <a:pt x="4386" y="2105"/>
                    </a:lnTo>
                    <a:lnTo>
                      <a:pt x="4466" y="2002"/>
                    </a:lnTo>
                    <a:lnTo>
                      <a:pt x="4542" y="1896"/>
                    </a:lnTo>
                    <a:lnTo>
                      <a:pt x="4612" y="1787"/>
                    </a:lnTo>
                    <a:lnTo>
                      <a:pt x="4677" y="1674"/>
                    </a:lnTo>
                    <a:lnTo>
                      <a:pt x="4737" y="1557"/>
                    </a:lnTo>
                    <a:lnTo>
                      <a:pt x="4791" y="1437"/>
                    </a:lnTo>
                    <a:lnTo>
                      <a:pt x="4840" y="1315"/>
                    </a:lnTo>
                    <a:lnTo>
                      <a:pt x="4882" y="1190"/>
                    </a:lnTo>
                    <a:lnTo>
                      <a:pt x="4918" y="1062"/>
                    </a:lnTo>
                    <a:lnTo>
                      <a:pt x="4949" y="930"/>
                    </a:lnTo>
                    <a:lnTo>
                      <a:pt x="4972" y="798"/>
                    </a:lnTo>
                    <a:lnTo>
                      <a:pt x="4989" y="662"/>
                    </a:lnTo>
                    <a:lnTo>
                      <a:pt x="5000" y="524"/>
                    </a:lnTo>
                    <a:lnTo>
                      <a:pt x="5003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41560" y="4170240"/>
                <a:ext cx="1305000" cy="804960"/>
              </a:xfrm>
              <a:custGeom>
                <a:avLst/>
                <a:gdLst/>
                <a:ahLst/>
                <a:rect l="l" t="t" r="r" b="b"/>
                <a:pathLst>
                  <a:path w="4931" h="3041">
                    <a:moveTo>
                      <a:pt x="4931" y="386"/>
                    </a:moveTo>
                    <a:lnTo>
                      <a:pt x="4930" y="337"/>
                    </a:lnTo>
                    <a:lnTo>
                      <a:pt x="4929" y="288"/>
                    </a:lnTo>
                    <a:lnTo>
                      <a:pt x="4927" y="240"/>
                    </a:lnTo>
                    <a:lnTo>
                      <a:pt x="4924" y="191"/>
                    </a:lnTo>
                    <a:lnTo>
                      <a:pt x="4920" y="143"/>
                    </a:lnTo>
                    <a:lnTo>
                      <a:pt x="4915" y="96"/>
                    </a:lnTo>
                    <a:lnTo>
                      <a:pt x="4909" y="47"/>
                    </a:lnTo>
                    <a:lnTo>
                      <a:pt x="4903" y="0"/>
                    </a:lnTo>
                    <a:lnTo>
                      <a:pt x="4843" y="0"/>
                    </a:lnTo>
                    <a:lnTo>
                      <a:pt x="4809" y="0"/>
                    </a:lnTo>
                    <a:lnTo>
                      <a:pt x="4816" y="47"/>
                    </a:lnTo>
                    <a:lnTo>
                      <a:pt x="4822" y="96"/>
                    </a:lnTo>
                    <a:lnTo>
                      <a:pt x="4826" y="143"/>
                    </a:lnTo>
                    <a:lnTo>
                      <a:pt x="4831" y="191"/>
                    </a:lnTo>
                    <a:lnTo>
                      <a:pt x="4833" y="240"/>
                    </a:lnTo>
                    <a:lnTo>
                      <a:pt x="4835" y="288"/>
                    </a:lnTo>
                    <a:lnTo>
                      <a:pt x="4838" y="337"/>
                    </a:lnTo>
                    <a:lnTo>
                      <a:pt x="4838" y="386"/>
                    </a:lnTo>
                    <a:lnTo>
                      <a:pt x="4834" y="518"/>
                    </a:lnTo>
                    <a:lnTo>
                      <a:pt x="4824" y="648"/>
                    </a:lnTo>
                    <a:lnTo>
                      <a:pt x="4808" y="776"/>
                    </a:lnTo>
                    <a:lnTo>
                      <a:pt x="4786" y="903"/>
                    </a:lnTo>
                    <a:lnTo>
                      <a:pt x="4757" y="1026"/>
                    </a:lnTo>
                    <a:lnTo>
                      <a:pt x="4722" y="1148"/>
                    </a:lnTo>
                    <a:lnTo>
                      <a:pt x="4682" y="1267"/>
                    </a:lnTo>
                    <a:lnTo>
                      <a:pt x="4636" y="1383"/>
                    </a:lnTo>
                    <a:lnTo>
                      <a:pt x="4585" y="1496"/>
                    </a:lnTo>
                    <a:lnTo>
                      <a:pt x="4529" y="1607"/>
                    </a:lnTo>
                    <a:lnTo>
                      <a:pt x="4466" y="1714"/>
                    </a:lnTo>
                    <a:lnTo>
                      <a:pt x="4399" y="1818"/>
                    </a:lnTo>
                    <a:lnTo>
                      <a:pt x="4328" y="1919"/>
                    </a:lnTo>
                    <a:lnTo>
                      <a:pt x="4252" y="2016"/>
                    </a:lnTo>
                    <a:lnTo>
                      <a:pt x="4171" y="2108"/>
                    </a:lnTo>
                    <a:lnTo>
                      <a:pt x="4087" y="2197"/>
                    </a:lnTo>
                    <a:lnTo>
                      <a:pt x="3998" y="2282"/>
                    </a:lnTo>
                    <a:lnTo>
                      <a:pt x="3905" y="2363"/>
                    </a:lnTo>
                    <a:lnTo>
                      <a:pt x="3808" y="2439"/>
                    </a:lnTo>
                    <a:lnTo>
                      <a:pt x="3707" y="2511"/>
                    </a:lnTo>
                    <a:lnTo>
                      <a:pt x="3604" y="2577"/>
                    </a:lnTo>
                    <a:lnTo>
                      <a:pt x="3496" y="2639"/>
                    </a:lnTo>
                    <a:lnTo>
                      <a:pt x="3386" y="2695"/>
                    </a:lnTo>
                    <a:lnTo>
                      <a:pt x="3271" y="2747"/>
                    </a:lnTo>
                    <a:lnTo>
                      <a:pt x="3156" y="2792"/>
                    </a:lnTo>
                    <a:lnTo>
                      <a:pt x="3036" y="2832"/>
                    </a:lnTo>
                    <a:lnTo>
                      <a:pt x="2915" y="2867"/>
                    </a:lnTo>
                    <a:lnTo>
                      <a:pt x="2790" y="2896"/>
                    </a:lnTo>
                    <a:lnTo>
                      <a:pt x="2665" y="2919"/>
                    </a:lnTo>
                    <a:lnTo>
                      <a:pt x="2537" y="2935"/>
                    </a:lnTo>
                    <a:lnTo>
                      <a:pt x="2406" y="2944"/>
                    </a:lnTo>
                    <a:lnTo>
                      <a:pt x="2274" y="2948"/>
                    </a:lnTo>
                    <a:lnTo>
                      <a:pt x="2185" y="2946"/>
                    </a:lnTo>
                    <a:lnTo>
                      <a:pt x="2097" y="2942"/>
                    </a:lnTo>
                    <a:lnTo>
                      <a:pt x="2010" y="2935"/>
                    </a:lnTo>
                    <a:lnTo>
                      <a:pt x="1923" y="2924"/>
                    </a:lnTo>
                    <a:lnTo>
                      <a:pt x="1838" y="2911"/>
                    </a:lnTo>
                    <a:lnTo>
                      <a:pt x="1754" y="2895"/>
                    </a:lnTo>
                    <a:lnTo>
                      <a:pt x="1669" y="2876"/>
                    </a:lnTo>
                    <a:lnTo>
                      <a:pt x="1587" y="2855"/>
                    </a:lnTo>
                    <a:lnTo>
                      <a:pt x="1506" y="2831"/>
                    </a:lnTo>
                    <a:lnTo>
                      <a:pt x="1425" y="2805"/>
                    </a:lnTo>
                    <a:lnTo>
                      <a:pt x="1346" y="2775"/>
                    </a:lnTo>
                    <a:lnTo>
                      <a:pt x="1268" y="2743"/>
                    </a:lnTo>
                    <a:lnTo>
                      <a:pt x="1192" y="2709"/>
                    </a:lnTo>
                    <a:lnTo>
                      <a:pt x="1117" y="2672"/>
                    </a:lnTo>
                    <a:lnTo>
                      <a:pt x="1043" y="2634"/>
                    </a:lnTo>
                    <a:lnTo>
                      <a:pt x="970" y="2592"/>
                    </a:lnTo>
                    <a:lnTo>
                      <a:pt x="900" y="2549"/>
                    </a:lnTo>
                    <a:lnTo>
                      <a:pt x="831" y="2504"/>
                    </a:lnTo>
                    <a:lnTo>
                      <a:pt x="763" y="2455"/>
                    </a:lnTo>
                    <a:lnTo>
                      <a:pt x="697" y="2406"/>
                    </a:lnTo>
                    <a:lnTo>
                      <a:pt x="632" y="2354"/>
                    </a:lnTo>
                    <a:lnTo>
                      <a:pt x="569" y="2300"/>
                    </a:lnTo>
                    <a:lnTo>
                      <a:pt x="509" y="2243"/>
                    </a:lnTo>
                    <a:lnTo>
                      <a:pt x="449" y="2186"/>
                    </a:lnTo>
                    <a:lnTo>
                      <a:pt x="392" y="2126"/>
                    </a:lnTo>
                    <a:lnTo>
                      <a:pt x="337" y="2065"/>
                    </a:lnTo>
                    <a:lnTo>
                      <a:pt x="284" y="2001"/>
                    </a:lnTo>
                    <a:lnTo>
                      <a:pt x="233" y="1935"/>
                    </a:lnTo>
                    <a:lnTo>
                      <a:pt x="184" y="1869"/>
                    </a:lnTo>
                    <a:lnTo>
                      <a:pt x="136" y="1801"/>
                    </a:lnTo>
                    <a:lnTo>
                      <a:pt x="91" y="1730"/>
                    </a:lnTo>
                    <a:lnTo>
                      <a:pt x="50" y="1659"/>
                    </a:lnTo>
                    <a:lnTo>
                      <a:pt x="20" y="1721"/>
                    </a:lnTo>
                    <a:lnTo>
                      <a:pt x="0" y="1759"/>
                    </a:lnTo>
                    <a:lnTo>
                      <a:pt x="44" y="1831"/>
                    </a:lnTo>
                    <a:lnTo>
                      <a:pt x="91" y="1900"/>
                    </a:lnTo>
                    <a:lnTo>
                      <a:pt x="141" y="1968"/>
                    </a:lnTo>
                    <a:lnTo>
                      <a:pt x="192" y="2035"/>
                    </a:lnTo>
                    <a:lnTo>
                      <a:pt x="245" y="2100"/>
                    </a:lnTo>
                    <a:lnTo>
                      <a:pt x="300" y="2163"/>
                    </a:lnTo>
                    <a:lnTo>
                      <a:pt x="357" y="2224"/>
                    </a:lnTo>
                    <a:lnTo>
                      <a:pt x="416" y="2284"/>
                    </a:lnTo>
                    <a:lnTo>
                      <a:pt x="477" y="2341"/>
                    </a:lnTo>
                    <a:lnTo>
                      <a:pt x="539" y="2397"/>
                    </a:lnTo>
                    <a:lnTo>
                      <a:pt x="604" y="2451"/>
                    </a:lnTo>
                    <a:lnTo>
                      <a:pt x="669" y="2503"/>
                    </a:lnTo>
                    <a:lnTo>
                      <a:pt x="737" y="2552"/>
                    </a:lnTo>
                    <a:lnTo>
                      <a:pt x="807" y="2599"/>
                    </a:lnTo>
                    <a:lnTo>
                      <a:pt x="878" y="2646"/>
                    </a:lnTo>
                    <a:lnTo>
                      <a:pt x="950" y="2688"/>
                    </a:lnTo>
                    <a:lnTo>
                      <a:pt x="1023" y="2730"/>
                    </a:lnTo>
                    <a:lnTo>
                      <a:pt x="1098" y="2768"/>
                    </a:lnTo>
                    <a:lnTo>
                      <a:pt x="1176" y="2805"/>
                    </a:lnTo>
                    <a:lnTo>
                      <a:pt x="1253" y="2838"/>
                    </a:lnTo>
                    <a:lnTo>
                      <a:pt x="1333" y="2869"/>
                    </a:lnTo>
                    <a:lnTo>
                      <a:pt x="1413" y="2899"/>
                    </a:lnTo>
                    <a:lnTo>
                      <a:pt x="1495" y="2924"/>
                    </a:lnTo>
                    <a:lnTo>
                      <a:pt x="1577" y="2949"/>
                    </a:lnTo>
                    <a:lnTo>
                      <a:pt x="1661" y="2971"/>
                    </a:lnTo>
                    <a:lnTo>
                      <a:pt x="1745" y="2989"/>
                    </a:lnTo>
                    <a:lnTo>
                      <a:pt x="1832" y="3004"/>
                    </a:lnTo>
                    <a:lnTo>
                      <a:pt x="1918" y="3018"/>
                    </a:lnTo>
                    <a:lnTo>
                      <a:pt x="2006" y="3028"/>
                    </a:lnTo>
                    <a:lnTo>
                      <a:pt x="2095" y="3035"/>
                    </a:lnTo>
                    <a:lnTo>
                      <a:pt x="2184" y="3040"/>
                    </a:lnTo>
                    <a:lnTo>
                      <a:pt x="2274" y="3041"/>
                    </a:lnTo>
                    <a:lnTo>
                      <a:pt x="2411" y="3037"/>
                    </a:lnTo>
                    <a:lnTo>
                      <a:pt x="2546" y="3027"/>
                    </a:lnTo>
                    <a:lnTo>
                      <a:pt x="2679" y="3011"/>
                    </a:lnTo>
                    <a:lnTo>
                      <a:pt x="2810" y="2987"/>
                    </a:lnTo>
                    <a:lnTo>
                      <a:pt x="2938" y="2958"/>
                    </a:lnTo>
                    <a:lnTo>
                      <a:pt x="3064" y="2922"/>
                    </a:lnTo>
                    <a:lnTo>
                      <a:pt x="3187" y="2880"/>
                    </a:lnTo>
                    <a:lnTo>
                      <a:pt x="3308" y="2832"/>
                    </a:lnTo>
                    <a:lnTo>
                      <a:pt x="3426" y="2779"/>
                    </a:lnTo>
                    <a:lnTo>
                      <a:pt x="3540" y="2720"/>
                    </a:lnTo>
                    <a:lnTo>
                      <a:pt x="3652" y="2657"/>
                    </a:lnTo>
                    <a:lnTo>
                      <a:pt x="3759" y="2588"/>
                    </a:lnTo>
                    <a:lnTo>
                      <a:pt x="3863" y="2514"/>
                    </a:lnTo>
                    <a:lnTo>
                      <a:pt x="3963" y="2435"/>
                    </a:lnTo>
                    <a:lnTo>
                      <a:pt x="4060" y="2352"/>
                    </a:lnTo>
                    <a:lnTo>
                      <a:pt x="4153" y="2263"/>
                    </a:lnTo>
                    <a:lnTo>
                      <a:pt x="4240" y="2172"/>
                    </a:lnTo>
                    <a:lnTo>
                      <a:pt x="4324" y="2075"/>
                    </a:lnTo>
                    <a:lnTo>
                      <a:pt x="4403" y="1975"/>
                    </a:lnTo>
                    <a:lnTo>
                      <a:pt x="4477" y="1871"/>
                    </a:lnTo>
                    <a:lnTo>
                      <a:pt x="4546" y="1763"/>
                    </a:lnTo>
                    <a:lnTo>
                      <a:pt x="4611" y="1652"/>
                    </a:lnTo>
                    <a:lnTo>
                      <a:pt x="4669" y="1537"/>
                    </a:lnTo>
                    <a:lnTo>
                      <a:pt x="4722" y="1419"/>
                    </a:lnTo>
                    <a:lnTo>
                      <a:pt x="4770" y="1299"/>
                    </a:lnTo>
                    <a:lnTo>
                      <a:pt x="4811" y="1176"/>
                    </a:lnTo>
                    <a:lnTo>
                      <a:pt x="4847" y="1049"/>
                    </a:lnTo>
                    <a:lnTo>
                      <a:pt x="4877" y="921"/>
                    </a:lnTo>
                    <a:lnTo>
                      <a:pt x="4900" y="791"/>
                    </a:lnTo>
                    <a:lnTo>
                      <a:pt x="4917" y="657"/>
                    </a:lnTo>
                    <a:lnTo>
                      <a:pt x="4928" y="522"/>
                    </a:lnTo>
                    <a:lnTo>
                      <a:pt x="4931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48040" y="4170240"/>
                <a:ext cx="1285920" cy="792360"/>
              </a:xfrm>
              <a:custGeom>
                <a:avLst/>
                <a:gdLst/>
                <a:ahLst/>
                <a:rect l="l" t="t" r="r" b="b"/>
                <a:pathLst>
                  <a:path w="4858" h="2995">
                    <a:moveTo>
                      <a:pt x="4858" y="386"/>
                    </a:moveTo>
                    <a:lnTo>
                      <a:pt x="4858" y="337"/>
                    </a:lnTo>
                    <a:lnTo>
                      <a:pt x="4857" y="288"/>
                    </a:lnTo>
                    <a:lnTo>
                      <a:pt x="4854" y="240"/>
                    </a:lnTo>
                    <a:lnTo>
                      <a:pt x="4851" y="191"/>
                    </a:lnTo>
                    <a:lnTo>
                      <a:pt x="4847" y="143"/>
                    </a:lnTo>
                    <a:lnTo>
                      <a:pt x="4842" y="96"/>
                    </a:lnTo>
                    <a:lnTo>
                      <a:pt x="4836" y="47"/>
                    </a:lnTo>
                    <a:lnTo>
                      <a:pt x="4830" y="0"/>
                    </a:lnTo>
                    <a:lnTo>
                      <a:pt x="4817" y="0"/>
                    </a:lnTo>
                    <a:lnTo>
                      <a:pt x="4736" y="0"/>
                    </a:lnTo>
                    <a:lnTo>
                      <a:pt x="4743" y="47"/>
                    </a:lnTo>
                    <a:lnTo>
                      <a:pt x="4748" y="94"/>
                    </a:lnTo>
                    <a:lnTo>
                      <a:pt x="4753" y="143"/>
                    </a:lnTo>
                    <a:lnTo>
                      <a:pt x="4758" y="191"/>
                    </a:lnTo>
                    <a:lnTo>
                      <a:pt x="4761" y="240"/>
                    </a:lnTo>
                    <a:lnTo>
                      <a:pt x="4763" y="288"/>
                    </a:lnTo>
                    <a:lnTo>
                      <a:pt x="4764" y="337"/>
                    </a:lnTo>
                    <a:lnTo>
                      <a:pt x="4766" y="386"/>
                    </a:lnTo>
                    <a:lnTo>
                      <a:pt x="4762" y="515"/>
                    </a:lnTo>
                    <a:lnTo>
                      <a:pt x="4752" y="643"/>
                    </a:lnTo>
                    <a:lnTo>
                      <a:pt x="4736" y="769"/>
                    </a:lnTo>
                    <a:lnTo>
                      <a:pt x="4714" y="893"/>
                    </a:lnTo>
                    <a:lnTo>
                      <a:pt x="4686" y="1014"/>
                    </a:lnTo>
                    <a:lnTo>
                      <a:pt x="4651" y="1134"/>
                    </a:lnTo>
                    <a:lnTo>
                      <a:pt x="4612" y="1251"/>
                    </a:lnTo>
                    <a:lnTo>
                      <a:pt x="4567" y="1365"/>
                    </a:lnTo>
                    <a:lnTo>
                      <a:pt x="4516" y="1477"/>
                    </a:lnTo>
                    <a:lnTo>
                      <a:pt x="4461" y="1585"/>
                    </a:lnTo>
                    <a:lnTo>
                      <a:pt x="4401" y="1690"/>
                    </a:lnTo>
                    <a:lnTo>
                      <a:pt x="4335" y="1792"/>
                    </a:lnTo>
                    <a:lnTo>
                      <a:pt x="4265" y="1890"/>
                    </a:lnTo>
                    <a:lnTo>
                      <a:pt x="4190" y="1986"/>
                    </a:lnTo>
                    <a:lnTo>
                      <a:pt x="4112" y="2077"/>
                    </a:lnTo>
                    <a:lnTo>
                      <a:pt x="4027" y="2165"/>
                    </a:lnTo>
                    <a:lnTo>
                      <a:pt x="3941" y="2248"/>
                    </a:lnTo>
                    <a:lnTo>
                      <a:pt x="3849" y="2327"/>
                    </a:lnTo>
                    <a:lnTo>
                      <a:pt x="3754" y="2401"/>
                    </a:lnTo>
                    <a:lnTo>
                      <a:pt x="3655" y="2471"/>
                    </a:lnTo>
                    <a:lnTo>
                      <a:pt x="3553" y="2537"/>
                    </a:lnTo>
                    <a:lnTo>
                      <a:pt x="3447" y="2598"/>
                    </a:lnTo>
                    <a:lnTo>
                      <a:pt x="3339" y="2654"/>
                    </a:lnTo>
                    <a:lnTo>
                      <a:pt x="3228" y="2703"/>
                    </a:lnTo>
                    <a:lnTo>
                      <a:pt x="3114" y="2749"/>
                    </a:lnTo>
                    <a:lnTo>
                      <a:pt x="2996" y="2788"/>
                    </a:lnTo>
                    <a:lnTo>
                      <a:pt x="2877" y="2822"/>
                    </a:lnTo>
                    <a:lnTo>
                      <a:pt x="2755" y="2851"/>
                    </a:lnTo>
                    <a:lnTo>
                      <a:pt x="2632" y="2873"/>
                    </a:lnTo>
                    <a:lnTo>
                      <a:pt x="2505" y="2889"/>
                    </a:lnTo>
                    <a:lnTo>
                      <a:pt x="2378" y="2898"/>
                    </a:lnTo>
                    <a:lnTo>
                      <a:pt x="2248" y="2901"/>
                    </a:lnTo>
                    <a:lnTo>
                      <a:pt x="2160" y="2900"/>
                    </a:lnTo>
                    <a:lnTo>
                      <a:pt x="2072" y="2896"/>
                    </a:lnTo>
                    <a:lnTo>
                      <a:pt x="1986" y="2888"/>
                    </a:lnTo>
                    <a:lnTo>
                      <a:pt x="1899" y="2877"/>
                    </a:lnTo>
                    <a:lnTo>
                      <a:pt x="1815" y="2865"/>
                    </a:lnTo>
                    <a:lnTo>
                      <a:pt x="1731" y="2848"/>
                    </a:lnTo>
                    <a:lnTo>
                      <a:pt x="1648" y="2830"/>
                    </a:lnTo>
                    <a:lnTo>
                      <a:pt x="1566" y="2808"/>
                    </a:lnTo>
                    <a:lnTo>
                      <a:pt x="1485" y="2784"/>
                    </a:lnTo>
                    <a:lnTo>
                      <a:pt x="1406" y="2757"/>
                    </a:lnTo>
                    <a:lnTo>
                      <a:pt x="1327" y="2727"/>
                    </a:lnTo>
                    <a:lnTo>
                      <a:pt x="1250" y="2696"/>
                    </a:lnTo>
                    <a:lnTo>
                      <a:pt x="1174" y="2662"/>
                    </a:lnTo>
                    <a:lnTo>
                      <a:pt x="1100" y="2625"/>
                    </a:lnTo>
                    <a:lnTo>
                      <a:pt x="1026" y="2586"/>
                    </a:lnTo>
                    <a:lnTo>
                      <a:pt x="955" y="2544"/>
                    </a:lnTo>
                    <a:lnTo>
                      <a:pt x="886" y="2500"/>
                    </a:lnTo>
                    <a:lnTo>
                      <a:pt x="816" y="2455"/>
                    </a:lnTo>
                    <a:lnTo>
                      <a:pt x="749" y="2407"/>
                    </a:lnTo>
                    <a:lnTo>
                      <a:pt x="685" y="2357"/>
                    </a:lnTo>
                    <a:lnTo>
                      <a:pt x="620" y="2304"/>
                    </a:lnTo>
                    <a:lnTo>
                      <a:pt x="559" y="2250"/>
                    </a:lnTo>
                    <a:lnTo>
                      <a:pt x="499" y="2195"/>
                    </a:lnTo>
                    <a:lnTo>
                      <a:pt x="441" y="2136"/>
                    </a:lnTo>
                    <a:lnTo>
                      <a:pt x="385" y="2076"/>
                    </a:lnTo>
                    <a:lnTo>
                      <a:pt x="331" y="2015"/>
                    </a:lnTo>
                    <a:lnTo>
                      <a:pt x="278" y="1952"/>
                    </a:lnTo>
                    <a:lnTo>
                      <a:pt x="228" y="1886"/>
                    </a:lnTo>
                    <a:lnTo>
                      <a:pt x="180" y="1819"/>
                    </a:lnTo>
                    <a:lnTo>
                      <a:pt x="133" y="1751"/>
                    </a:lnTo>
                    <a:lnTo>
                      <a:pt x="90" y="1681"/>
                    </a:lnTo>
                    <a:lnTo>
                      <a:pt x="49" y="1609"/>
                    </a:lnTo>
                    <a:lnTo>
                      <a:pt x="31" y="1644"/>
                    </a:lnTo>
                    <a:lnTo>
                      <a:pt x="0" y="1709"/>
                    </a:lnTo>
                    <a:lnTo>
                      <a:pt x="42" y="1781"/>
                    </a:lnTo>
                    <a:lnTo>
                      <a:pt x="89" y="1851"/>
                    </a:lnTo>
                    <a:lnTo>
                      <a:pt x="137" y="1919"/>
                    </a:lnTo>
                    <a:lnTo>
                      <a:pt x="187" y="1986"/>
                    </a:lnTo>
                    <a:lnTo>
                      <a:pt x="238" y="2051"/>
                    </a:lnTo>
                    <a:lnTo>
                      <a:pt x="293" y="2114"/>
                    </a:lnTo>
                    <a:lnTo>
                      <a:pt x="349" y="2175"/>
                    </a:lnTo>
                    <a:lnTo>
                      <a:pt x="407" y="2235"/>
                    </a:lnTo>
                    <a:lnTo>
                      <a:pt x="467" y="2293"/>
                    </a:lnTo>
                    <a:lnTo>
                      <a:pt x="529" y="2348"/>
                    </a:lnTo>
                    <a:lnTo>
                      <a:pt x="593" y="2402"/>
                    </a:lnTo>
                    <a:lnTo>
                      <a:pt x="657" y="2454"/>
                    </a:lnTo>
                    <a:lnTo>
                      <a:pt x="724" y="2504"/>
                    </a:lnTo>
                    <a:lnTo>
                      <a:pt x="793" y="2552"/>
                    </a:lnTo>
                    <a:lnTo>
                      <a:pt x="864" y="2597"/>
                    </a:lnTo>
                    <a:lnTo>
                      <a:pt x="935" y="2641"/>
                    </a:lnTo>
                    <a:lnTo>
                      <a:pt x="1008" y="2681"/>
                    </a:lnTo>
                    <a:lnTo>
                      <a:pt x="1083" y="2720"/>
                    </a:lnTo>
                    <a:lnTo>
                      <a:pt x="1158" y="2757"/>
                    </a:lnTo>
                    <a:lnTo>
                      <a:pt x="1235" y="2791"/>
                    </a:lnTo>
                    <a:lnTo>
                      <a:pt x="1313" y="2822"/>
                    </a:lnTo>
                    <a:lnTo>
                      <a:pt x="1393" y="2852"/>
                    </a:lnTo>
                    <a:lnTo>
                      <a:pt x="1475" y="2878"/>
                    </a:lnTo>
                    <a:lnTo>
                      <a:pt x="1557" y="2901"/>
                    </a:lnTo>
                    <a:lnTo>
                      <a:pt x="1640" y="2923"/>
                    </a:lnTo>
                    <a:lnTo>
                      <a:pt x="1724" y="2942"/>
                    </a:lnTo>
                    <a:lnTo>
                      <a:pt x="1809" y="2958"/>
                    </a:lnTo>
                    <a:lnTo>
                      <a:pt x="1895" y="2971"/>
                    </a:lnTo>
                    <a:lnTo>
                      <a:pt x="1982" y="2981"/>
                    </a:lnTo>
                    <a:lnTo>
                      <a:pt x="2070" y="2989"/>
                    </a:lnTo>
                    <a:lnTo>
                      <a:pt x="2159" y="2992"/>
                    </a:lnTo>
                    <a:lnTo>
                      <a:pt x="2248" y="2995"/>
                    </a:lnTo>
                    <a:lnTo>
                      <a:pt x="2383" y="2991"/>
                    </a:lnTo>
                    <a:lnTo>
                      <a:pt x="2515" y="2981"/>
                    </a:lnTo>
                    <a:lnTo>
                      <a:pt x="2646" y="2965"/>
                    </a:lnTo>
                    <a:lnTo>
                      <a:pt x="2774" y="2942"/>
                    </a:lnTo>
                    <a:lnTo>
                      <a:pt x="2901" y="2913"/>
                    </a:lnTo>
                    <a:lnTo>
                      <a:pt x="3024" y="2877"/>
                    </a:lnTo>
                    <a:lnTo>
                      <a:pt x="3145" y="2836"/>
                    </a:lnTo>
                    <a:lnTo>
                      <a:pt x="3264" y="2790"/>
                    </a:lnTo>
                    <a:lnTo>
                      <a:pt x="3379" y="2738"/>
                    </a:lnTo>
                    <a:lnTo>
                      <a:pt x="3492" y="2680"/>
                    </a:lnTo>
                    <a:lnTo>
                      <a:pt x="3602" y="2617"/>
                    </a:lnTo>
                    <a:lnTo>
                      <a:pt x="3708" y="2549"/>
                    </a:lnTo>
                    <a:lnTo>
                      <a:pt x="3809" y="2476"/>
                    </a:lnTo>
                    <a:lnTo>
                      <a:pt x="3909" y="2399"/>
                    </a:lnTo>
                    <a:lnTo>
                      <a:pt x="4003" y="2317"/>
                    </a:lnTo>
                    <a:lnTo>
                      <a:pt x="4094" y="2231"/>
                    </a:lnTo>
                    <a:lnTo>
                      <a:pt x="4180" y="2139"/>
                    </a:lnTo>
                    <a:lnTo>
                      <a:pt x="4263" y="2045"/>
                    </a:lnTo>
                    <a:lnTo>
                      <a:pt x="4340" y="1947"/>
                    </a:lnTo>
                    <a:lnTo>
                      <a:pt x="4413" y="1844"/>
                    </a:lnTo>
                    <a:lnTo>
                      <a:pt x="4481" y="1738"/>
                    </a:lnTo>
                    <a:lnTo>
                      <a:pt x="4543" y="1629"/>
                    </a:lnTo>
                    <a:lnTo>
                      <a:pt x="4601" y="1517"/>
                    </a:lnTo>
                    <a:lnTo>
                      <a:pt x="4654" y="1402"/>
                    </a:lnTo>
                    <a:lnTo>
                      <a:pt x="4700" y="1283"/>
                    </a:lnTo>
                    <a:lnTo>
                      <a:pt x="4741" y="1162"/>
                    </a:lnTo>
                    <a:lnTo>
                      <a:pt x="4776" y="1037"/>
                    </a:lnTo>
                    <a:lnTo>
                      <a:pt x="4805" y="912"/>
                    </a:lnTo>
                    <a:lnTo>
                      <a:pt x="4828" y="783"/>
                    </a:lnTo>
                    <a:lnTo>
                      <a:pt x="4845" y="652"/>
                    </a:lnTo>
                    <a:lnTo>
                      <a:pt x="4854" y="520"/>
                    </a:lnTo>
                    <a:lnTo>
                      <a:pt x="4858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54160" y="4170240"/>
                <a:ext cx="1266840" cy="779760"/>
              </a:xfrm>
              <a:custGeom>
                <a:avLst/>
                <a:gdLst/>
                <a:ahLst/>
                <a:rect l="l" t="t" r="r" b="b"/>
                <a:pathLst>
                  <a:path w="4788" h="2948">
                    <a:moveTo>
                      <a:pt x="4788" y="386"/>
                    </a:moveTo>
                    <a:lnTo>
                      <a:pt x="4788" y="337"/>
                    </a:lnTo>
                    <a:lnTo>
                      <a:pt x="4785" y="288"/>
                    </a:lnTo>
                    <a:lnTo>
                      <a:pt x="4783" y="240"/>
                    </a:lnTo>
                    <a:lnTo>
                      <a:pt x="4781" y="191"/>
                    </a:lnTo>
                    <a:lnTo>
                      <a:pt x="4776" y="143"/>
                    </a:lnTo>
                    <a:lnTo>
                      <a:pt x="4772" y="96"/>
                    </a:lnTo>
                    <a:lnTo>
                      <a:pt x="4766" y="47"/>
                    </a:lnTo>
                    <a:lnTo>
                      <a:pt x="4759" y="0"/>
                    </a:lnTo>
                    <a:lnTo>
                      <a:pt x="4679" y="0"/>
                    </a:lnTo>
                    <a:lnTo>
                      <a:pt x="4664" y="0"/>
                    </a:lnTo>
                    <a:lnTo>
                      <a:pt x="4671" y="47"/>
                    </a:lnTo>
                    <a:lnTo>
                      <a:pt x="4677" y="94"/>
                    </a:lnTo>
                    <a:lnTo>
                      <a:pt x="4683" y="143"/>
                    </a:lnTo>
                    <a:lnTo>
                      <a:pt x="4687" y="191"/>
                    </a:lnTo>
                    <a:lnTo>
                      <a:pt x="4690" y="240"/>
                    </a:lnTo>
                    <a:lnTo>
                      <a:pt x="4693" y="288"/>
                    </a:lnTo>
                    <a:lnTo>
                      <a:pt x="4694" y="337"/>
                    </a:lnTo>
                    <a:lnTo>
                      <a:pt x="4694" y="386"/>
                    </a:lnTo>
                    <a:lnTo>
                      <a:pt x="4691" y="513"/>
                    </a:lnTo>
                    <a:lnTo>
                      <a:pt x="4682" y="639"/>
                    </a:lnTo>
                    <a:lnTo>
                      <a:pt x="4665" y="762"/>
                    </a:lnTo>
                    <a:lnTo>
                      <a:pt x="4645" y="883"/>
                    </a:lnTo>
                    <a:lnTo>
                      <a:pt x="4617" y="1003"/>
                    </a:lnTo>
                    <a:lnTo>
                      <a:pt x="4584" y="1120"/>
                    </a:lnTo>
                    <a:lnTo>
                      <a:pt x="4544" y="1235"/>
                    </a:lnTo>
                    <a:lnTo>
                      <a:pt x="4501" y="1346"/>
                    </a:lnTo>
                    <a:lnTo>
                      <a:pt x="4451" y="1456"/>
                    </a:lnTo>
                    <a:lnTo>
                      <a:pt x="4397" y="1563"/>
                    </a:lnTo>
                    <a:lnTo>
                      <a:pt x="4337" y="1666"/>
                    </a:lnTo>
                    <a:lnTo>
                      <a:pt x="4272" y="1766"/>
                    </a:lnTo>
                    <a:lnTo>
                      <a:pt x="4204" y="1863"/>
                    </a:lnTo>
                    <a:lnTo>
                      <a:pt x="4130" y="1956"/>
                    </a:lnTo>
                    <a:lnTo>
                      <a:pt x="4053" y="2046"/>
                    </a:lnTo>
                    <a:lnTo>
                      <a:pt x="3971" y="2131"/>
                    </a:lnTo>
                    <a:lnTo>
                      <a:pt x="3885" y="2213"/>
                    </a:lnTo>
                    <a:lnTo>
                      <a:pt x="3796" y="2290"/>
                    </a:lnTo>
                    <a:lnTo>
                      <a:pt x="3702" y="2364"/>
                    </a:lnTo>
                    <a:lnTo>
                      <a:pt x="3605" y="2433"/>
                    </a:lnTo>
                    <a:lnTo>
                      <a:pt x="3505" y="2497"/>
                    </a:lnTo>
                    <a:lnTo>
                      <a:pt x="3401" y="2557"/>
                    </a:lnTo>
                    <a:lnTo>
                      <a:pt x="3295" y="2611"/>
                    </a:lnTo>
                    <a:lnTo>
                      <a:pt x="3186" y="2660"/>
                    </a:lnTo>
                    <a:lnTo>
                      <a:pt x="3074" y="2705"/>
                    </a:lnTo>
                    <a:lnTo>
                      <a:pt x="2958" y="2743"/>
                    </a:lnTo>
                    <a:lnTo>
                      <a:pt x="2842" y="2777"/>
                    </a:lnTo>
                    <a:lnTo>
                      <a:pt x="2722" y="2805"/>
                    </a:lnTo>
                    <a:lnTo>
                      <a:pt x="2600" y="2826"/>
                    </a:lnTo>
                    <a:lnTo>
                      <a:pt x="2476" y="2841"/>
                    </a:lnTo>
                    <a:lnTo>
                      <a:pt x="2352" y="2852"/>
                    </a:lnTo>
                    <a:lnTo>
                      <a:pt x="2224" y="2854"/>
                    </a:lnTo>
                    <a:lnTo>
                      <a:pt x="2136" y="2853"/>
                    </a:lnTo>
                    <a:lnTo>
                      <a:pt x="2050" y="2848"/>
                    </a:lnTo>
                    <a:lnTo>
                      <a:pt x="1963" y="2841"/>
                    </a:lnTo>
                    <a:lnTo>
                      <a:pt x="1878" y="2831"/>
                    </a:lnTo>
                    <a:lnTo>
                      <a:pt x="1792" y="2817"/>
                    </a:lnTo>
                    <a:lnTo>
                      <a:pt x="1709" y="2801"/>
                    </a:lnTo>
                    <a:lnTo>
                      <a:pt x="1626" y="2782"/>
                    </a:lnTo>
                    <a:lnTo>
                      <a:pt x="1545" y="2761"/>
                    </a:lnTo>
                    <a:lnTo>
                      <a:pt x="1465" y="2735"/>
                    </a:lnTo>
                    <a:lnTo>
                      <a:pt x="1385" y="2709"/>
                    </a:lnTo>
                    <a:lnTo>
                      <a:pt x="1308" y="2679"/>
                    </a:lnTo>
                    <a:lnTo>
                      <a:pt x="1232" y="2647"/>
                    </a:lnTo>
                    <a:lnTo>
                      <a:pt x="1156" y="2612"/>
                    </a:lnTo>
                    <a:lnTo>
                      <a:pt x="1082" y="2575"/>
                    </a:lnTo>
                    <a:lnTo>
                      <a:pt x="1009" y="2536"/>
                    </a:lnTo>
                    <a:lnTo>
                      <a:pt x="939" y="2494"/>
                    </a:lnTo>
                    <a:lnTo>
                      <a:pt x="870" y="2451"/>
                    </a:lnTo>
                    <a:lnTo>
                      <a:pt x="802" y="2405"/>
                    </a:lnTo>
                    <a:lnTo>
                      <a:pt x="735" y="2356"/>
                    </a:lnTo>
                    <a:lnTo>
                      <a:pt x="671" y="2305"/>
                    </a:lnTo>
                    <a:lnTo>
                      <a:pt x="608" y="2252"/>
                    </a:lnTo>
                    <a:lnTo>
                      <a:pt x="547" y="2198"/>
                    </a:lnTo>
                    <a:lnTo>
                      <a:pt x="488" y="2142"/>
                    </a:lnTo>
                    <a:lnTo>
                      <a:pt x="430" y="2083"/>
                    </a:lnTo>
                    <a:lnTo>
                      <a:pt x="375" y="2023"/>
                    </a:lnTo>
                    <a:lnTo>
                      <a:pt x="322" y="1961"/>
                    </a:lnTo>
                    <a:lnTo>
                      <a:pt x="271" y="1897"/>
                    </a:lnTo>
                    <a:lnTo>
                      <a:pt x="221" y="1832"/>
                    </a:lnTo>
                    <a:lnTo>
                      <a:pt x="174" y="1765"/>
                    </a:lnTo>
                    <a:lnTo>
                      <a:pt x="130" y="1696"/>
                    </a:lnTo>
                    <a:lnTo>
                      <a:pt x="88" y="1625"/>
                    </a:lnTo>
                    <a:lnTo>
                      <a:pt x="47" y="1553"/>
                    </a:lnTo>
                    <a:lnTo>
                      <a:pt x="47" y="1567"/>
                    </a:lnTo>
                    <a:lnTo>
                      <a:pt x="7" y="1644"/>
                    </a:lnTo>
                    <a:lnTo>
                      <a:pt x="0" y="1659"/>
                    </a:lnTo>
                    <a:lnTo>
                      <a:pt x="41" y="1730"/>
                    </a:lnTo>
                    <a:lnTo>
                      <a:pt x="86" y="1801"/>
                    </a:lnTo>
                    <a:lnTo>
                      <a:pt x="134" y="1869"/>
                    </a:lnTo>
                    <a:lnTo>
                      <a:pt x="183" y="1935"/>
                    </a:lnTo>
                    <a:lnTo>
                      <a:pt x="234" y="2001"/>
                    </a:lnTo>
                    <a:lnTo>
                      <a:pt x="287" y="2065"/>
                    </a:lnTo>
                    <a:lnTo>
                      <a:pt x="342" y="2126"/>
                    </a:lnTo>
                    <a:lnTo>
                      <a:pt x="399" y="2186"/>
                    </a:lnTo>
                    <a:lnTo>
                      <a:pt x="459" y="2243"/>
                    </a:lnTo>
                    <a:lnTo>
                      <a:pt x="519" y="2300"/>
                    </a:lnTo>
                    <a:lnTo>
                      <a:pt x="582" y="2354"/>
                    </a:lnTo>
                    <a:lnTo>
                      <a:pt x="647" y="2406"/>
                    </a:lnTo>
                    <a:lnTo>
                      <a:pt x="713" y="2455"/>
                    </a:lnTo>
                    <a:lnTo>
                      <a:pt x="781" y="2504"/>
                    </a:lnTo>
                    <a:lnTo>
                      <a:pt x="850" y="2549"/>
                    </a:lnTo>
                    <a:lnTo>
                      <a:pt x="920" y="2592"/>
                    </a:lnTo>
                    <a:lnTo>
                      <a:pt x="993" y="2634"/>
                    </a:lnTo>
                    <a:lnTo>
                      <a:pt x="1067" y="2672"/>
                    </a:lnTo>
                    <a:lnTo>
                      <a:pt x="1142" y="2709"/>
                    </a:lnTo>
                    <a:lnTo>
                      <a:pt x="1218" y="2743"/>
                    </a:lnTo>
                    <a:lnTo>
                      <a:pt x="1296" y="2775"/>
                    </a:lnTo>
                    <a:lnTo>
                      <a:pt x="1375" y="2805"/>
                    </a:lnTo>
                    <a:lnTo>
                      <a:pt x="1456" y="2831"/>
                    </a:lnTo>
                    <a:lnTo>
                      <a:pt x="1537" y="2855"/>
                    </a:lnTo>
                    <a:lnTo>
                      <a:pt x="1619" y="2876"/>
                    </a:lnTo>
                    <a:lnTo>
                      <a:pt x="1704" y="2895"/>
                    </a:lnTo>
                    <a:lnTo>
                      <a:pt x="1788" y="2911"/>
                    </a:lnTo>
                    <a:lnTo>
                      <a:pt x="1873" y="2924"/>
                    </a:lnTo>
                    <a:lnTo>
                      <a:pt x="1960" y="2935"/>
                    </a:lnTo>
                    <a:lnTo>
                      <a:pt x="2047" y="2942"/>
                    </a:lnTo>
                    <a:lnTo>
                      <a:pt x="2135" y="2946"/>
                    </a:lnTo>
                    <a:lnTo>
                      <a:pt x="2224" y="2948"/>
                    </a:lnTo>
                    <a:lnTo>
                      <a:pt x="2356" y="2944"/>
                    </a:lnTo>
                    <a:lnTo>
                      <a:pt x="2487" y="2935"/>
                    </a:lnTo>
                    <a:lnTo>
                      <a:pt x="2615" y="2919"/>
                    </a:lnTo>
                    <a:lnTo>
                      <a:pt x="2740" y="2896"/>
                    </a:lnTo>
                    <a:lnTo>
                      <a:pt x="2865" y="2867"/>
                    </a:lnTo>
                    <a:lnTo>
                      <a:pt x="2986" y="2832"/>
                    </a:lnTo>
                    <a:lnTo>
                      <a:pt x="3106" y="2792"/>
                    </a:lnTo>
                    <a:lnTo>
                      <a:pt x="3221" y="2747"/>
                    </a:lnTo>
                    <a:lnTo>
                      <a:pt x="3336" y="2695"/>
                    </a:lnTo>
                    <a:lnTo>
                      <a:pt x="3446" y="2639"/>
                    </a:lnTo>
                    <a:lnTo>
                      <a:pt x="3554" y="2577"/>
                    </a:lnTo>
                    <a:lnTo>
                      <a:pt x="3657" y="2511"/>
                    </a:lnTo>
                    <a:lnTo>
                      <a:pt x="3758" y="2439"/>
                    </a:lnTo>
                    <a:lnTo>
                      <a:pt x="3855" y="2363"/>
                    </a:lnTo>
                    <a:lnTo>
                      <a:pt x="3948" y="2282"/>
                    </a:lnTo>
                    <a:lnTo>
                      <a:pt x="4037" y="2197"/>
                    </a:lnTo>
                    <a:lnTo>
                      <a:pt x="4121" y="2108"/>
                    </a:lnTo>
                    <a:lnTo>
                      <a:pt x="4202" y="2016"/>
                    </a:lnTo>
                    <a:lnTo>
                      <a:pt x="4278" y="1919"/>
                    </a:lnTo>
                    <a:lnTo>
                      <a:pt x="4349" y="1818"/>
                    </a:lnTo>
                    <a:lnTo>
                      <a:pt x="4416" y="1714"/>
                    </a:lnTo>
                    <a:lnTo>
                      <a:pt x="4479" y="1607"/>
                    </a:lnTo>
                    <a:lnTo>
                      <a:pt x="4535" y="1496"/>
                    </a:lnTo>
                    <a:lnTo>
                      <a:pt x="4586" y="1383"/>
                    </a:lnTo>
                    <a:lnTo>
                      <a:pt x="4632" y="1267"/>
                    </a:lnTo>
                    <a:lnTo>
                      <a:pt x="4672" y="1148"/>
                    </a:lnTo>
                    <a:lnTo>
                      <a:pt x="4707" y="1026"/>
                    </a:lnTo>
                    <a:lnTo>
                      <a:pt x="4736" y="903"/>
                    </a:lnTo>
                    <a:lnTo>
                      <a:pt x="4758" y="776"/>
                    </a:lnTo>
                    <a:lnTo>
                      <a:pt x="4774" y="648"/>
                    </a:lnTo>
                    <a:lnTo>
                      <a:pt x="4784" y="518"/>
                    </a:lnTo>
                    <a:lnTo>
                      <a:pt x="4788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60640" y="4170240"/>
                <a:ext cx="1247760" cy="766800"/>
              </a:xfrm>
              <a:custGeom>
                <a:avLst/>
                <a:gdLst/>
                <a:ahLst/>
                <a:rect l="l" t="t" r="r" b="b"/>
                <a:pathLst>
                  <a:path w="4717" h="2901">
                    <a:moveTo>
                      <a:pt x="4717" y="386"/>
                    </a:moveTo>
                    <a:lnTo>
                      <a:pt x="4715" y="337"/>
                    </a:lnTo>
                    <a:lnTo>
                      <a:pt x="4714" y="288"/>
                    </a:lnTo>
                    <a:lnTo>
                      <a:pt x="4712" y="240"/>
                    </a:lnTo>
                    <a:lnTo>
                      <a:pt x="4709" y="191"/>
                    </a:lnTo>
                    <a:lnTo>
                      <a:pt x="4704" y="143"/>
                    </a:lnTo>
                    <a:lnTo>
                      <a:pt x="4699" y="94"/>
                    </a:lnTo>
                    <a:lnTo>
                      <a:pt x="4694" y="47"/>
                    </a:lnTo>
                    <a:lnTo>
                      <a:pt x="4687" y="0"/>
                    </a:lnTo>
                    <a:lnTo>
                      <a:pt x="4654" y="0"/>
                    </a:lnTo>
                    <a:lnTo>
                      <a:pt x="4592" y="0"/>
                    </a:lnTo>
                    <a:lnTo>
                      <a:pt x="4599" y="47"/>
                    </a:lnTo>
                    <a:lnTo>
                      <a:pt x="4606" y="94"/>
                    </a:lnTo>
                    <a:lnTo>
                      <a:pt x="4610" y="143"/>
                    </a:lnTo>
                    <a:lnTo>
                      <a:pt x="4615" y="191"/>
                    </a:lnTo>
                    <a:lnTo>
                      <a:pt x="4619" y="240"/>
                    </a:lnTo>
                    <a:lnTo>
                      <a:pt x="4621" y="288"/>
                    </a:lnTo>
                    <a:lnTo>
                      <a:pt x="4622" y="337"/>
                    </a:lnTo>
                    <a:lnTo>
                      <a:pt x="4623" y="386"/>
                    </a:lnTo>
                    <a:lnTo>
                      <a:pt x="4620" y="511"/>
                    </a:lnTo>
                    <a:lnTo>
                      <a:pt x="4610" y="634"/>
                    </a:lnTo>
                    <a:lnTo>
                      <a:pt x="4594" y="755"/>
                    </a:lnTo>
                    <a:lnTo>
                      <a:pt x="4574" y="874"/>
                    </a:lnTo>
                    <a:lnTo>
                      <a:pt x="4547" y="991"/>
                    </a:lnTo>
                    <a:lnTo>
                      <a:pt x="4514" y="1107"/>
                    </a:lnTo>
                    <a:lnTo>
                      <a:pt x="4476" y="1218"/>
                    </a:lnTo>
                    <a:lnTo>
                      <a:pt x="4433" y="1329"/>
                    </a:lnTo>
                    <a:lnTo>
                      <a:pt x="4383" y="1436"/>
                    </a:lnTo>
                    <a:lnTo>
                      <a:pt x="4330" y="1540"/>
                    </a:lnTo>
                    <a:lnTo>
                      <a:pt x="4271" y="1641"/>
                    </a:lnTo>
                    <a:lnTo>
                      <a:pt x="4209" y="1741"/>
                    </a:lnTo>
                    <a:lnTo>
                      <a:pt x="4141" y="1835"/>
                    </a:lnTo>
                    <a:lnTo>
                      <a:pt x="4070" y="1926"/>
                    </a:lnTo>
                    <a:lnTo>
                      <a:pt x="3993" y="2015"/>
                    </a:lnTo>
                    <a:lnTo>
                      <a:pt x="3913" y="2099"/>
                    </a:lnTo>
                    <a:lnTo>
                      <a:pt x="3828" y="2179"/>
                    </a:lnTo>
                    <a:lnTo>
                      <a:pt x="3741" y="2255"/>
                    </a:lnTo>
                    <a:lnTo>
                      <a:pt x="3650" y="2327"/>
                    </a:lnTo>
                    <a:lnTo>
                      <a:pt x="3554" y="2394"/>
                    </a:lnTo>
                    <a:lnTo>
                      <a:pt x="3456" y="2458"/>
                    </a:lnTo>
                    <a:lnTo>
                      <a:pt x="3354" y="2515"/>
                    </a:lnTo>
                    <a:lnTo>
                      <a:pt x="3249" y="2569"/>
                    </a:lnTo>
                    <a:lnTo>
                      <a:pt x="3142" y="2618"/>
                    </a:lnTo>
                    <a:lnTo>
                      <a:pt x="3033" y="2662"/>
                    </a:lnTo>
                    <a:lnTo>
                      <a:pt x="2920" y="2700"/>
                    </a:lnTo>
                    <a:lnTo>
                      <a:pt x="2804" y="2732"/>
                    </a:lnTo>
                    <a:lnTo>
                      <a:pt x="2688" y="2758"/>
                    </a:lnTo>
                    <a:lnTo>
                      <a:pt x="2568" y="2780"/>
                    </a:lnTo>
                    <a:lnTo>
                      <a:pt x="2447" y="2795"/>
                    </a:lnTo>
                    <a:lnTo>
                      <a:pt x="2324" y="2805"/>
                    </a:lnTo>
                    <a:lnTo>
                      <a:pt x="2199" y="2808"/>
                    </a:lnTo>
                    <a:lnTo>
                      <a:pt x="2111" y="2807"/>
                    </a:lnTo>
                    <a:lnTo>
                      <a:pt x="2023" y="2802"/>
                    </a:lnTo>
                    <a:lnTo>
                      <a:pt x="1936" y="2794"/>
                    </a:lnTo>
                    <a:lnTo>
                      <a:pt x="1850" y="2783"/>
                    </a:lnTo>
                    <a:lnTo>
                      <a:pt x="1765" y="2770"/>
                    </a:lnTo>
                    <a:lnTo>
                      <a:pt x="1681" y="2753"/>
                    </a:lnTo>
                    <a:lnTo>
                      <a:pt x="1599" y="2733"/>
                    </a:lnTo>
                    <a:lnTo>
                      <a:pt x="1517" y="2711"/>
                    </a:lnTo>
                    <a:lnTo>
                      <a:pt x="1436" y="2686"/>
                    </a:lnTo>
                    <a:lnTo>
                      <a:pt x="1357" y="2658"/>
                    </a:lnTo>
                    <a:lnTo>
                      <a:pt x="1278" y="2627"/>
                    </a:lnTo>
                    <a:lnTo>
                      <a:pt x="1202" y="2594"/>
                    </a:lnTo>
                    <a:lnTo>
                      <a:pt x="1126" y="2559"/>
                    </a:lnTo>
                    <a:lnTo>
                      <a:pt x="1052" y="2521"/>
                    </a:lnTo>
                    <a:lnTo>
                      <a:pt x="981" y="2480"/>
                    </a:lnTo>
                    <a:lnTo>
                      <a:pt x="909" y="2437"/>
                    </a:lnTo>
                    <a:lnTo>
                      <a:pt x="840" y="2392"/>
                    </a:lnTo>
                    <a:lnTo>
                      <a:pt x="773" y="2345"/>
                    </a:lnTo>
                    <a:lnTo>
                      <a:pt x="707" y="2295"/>
                    </a:lnTo>
                    <a:lnTo>
                      <a:pt x="643" y="2243"/>
                    </a:lnTo>
                    <a:lnTo>
                      <a:pt x="580" y="2189"/>
                    </a:lnTo>
                    <a:lnTo>
                      <a:pt x="520" y="2133"/>
                    </a:lnTo>
                    <a:lnTo>
                      <a:pt x="462" y="2075"/>
                    </a:lnTo>
                    <a:lnTo>
                      <a:pt x="405" y="2015"/>
                    </a:lnTo>
                    <a:lnTo>
                      <a:pt x="351" y="1953"/>
                    </a:lnTo>
                    <a:lnTo>
                      <a:pt x="299" y="1889"/>
                    </a:lnTo>
                    <a:lnTo>
                      <a:pt x="248" y="1824"/>
                    </a:lnTo>
                    <a:lnTo>
                      <a:pt x="201" y="1757"/>
                    </a:lnTo>
                    <a:lnTo>
                      <a:pt x="155" y="1688"/>
                    </a:lnTo>
                    <a:lnTo>
                      <a:pt x="112" y="1617"/>
                    </a:lnTo>
                    <a:lnTo>
                      <a:pt x="71" y="1545"/>
                    </a:lnTo>
                    <a:lnTo>
                      <a:pt x="33" y="1472"/>
                    </a:lnTo>
                    <a:lnTo>
                      <a:pt x="22" y="1493"/>
                    </a:lnTo>
                    <a:lnTo>
                      <a:pt x="22" y="1567"/>
                    </a:lnTo>
                    <a:lnTo>
                      <a:pt x="0" y="1609"/>
                    </a:lnTo>
                    <a:lnTo>
                      <a:pt x="41" y="1681"/>
                    </a:lnTo>
                    <a:lnTo>
                      <a:pt x="84" y="1751"/>
                    </a:lnTo>
                    <a:lnTo>
                      <a:pt x="131" y="1819"/>
                    </a:lnTo>
                    <a:lnTo>
                      <a:pt x="179" y="1886"/>
                    </a:lnTo>
                    <a:lnTo>
                      <a:pt x="229" y="1952"/>
                    </a:lnTo>
                    <a:lnTo>
                      <a:pt x="282" y="2015"/>
                    </a:lnTo>
                    <a:lnTo>
                      <a:pt x="336" y="2076"/>
                    </a:lnTo>
                    <a:lnTo>
                      <a:pt x="392" y="2136"/>
                    </a:lnTo>
                    <a:lnTo>
                      <a:pt x="450" y="2195"/>
                    </a:lnTo>
                    <a:lnTo>
                      <a:pt x="510" y="2250"/>
                    </a:lnTo>
                    <a:lnTo>
                      <a:pt x="571" y="2304"/>
                    </a:lnTo>
                    <a:lnTo>
                      <a:pt x="636" y="2357"/>
                    </a:lnTo>
                    <a:lnTo>
                      <a:pt x="700" y="2407"/>
                    </a:lnTo>
                    <a:lnTo>
                      <a:pt x="767" y="2455"/>
                    </a:lnTo>
                    <a:lnTo>
                      <a:pt x="837" y="2500"/>
                    </a:lnTo>
                    <a:lnTo>
                      <a:pt x="906" y="2544"/>
                    </a:lnTo>
                    <a:lnTo>
                      <a:pt x="977" y="2586"/>
                    </a:lnTo>
                    <a:lnTo>
                      <a:pt x="1051" y="2625"/>
                    </a:lnTo>
                    <a:lnTo>
                      <a:pt x="1125" y="2662"/>
                    </a:lnTo>
                    <a:lnTo>
                      <a:pt x="1201" y="2696"/>
                    </a:lnTo>
                    <a:lnTo>
                      <a:pt x="1278" y="2727"/>
                    </a:lnTo>
                    <a:lnTo>
                      <a:pt x="1357" y="2757"/>
                    </a:lnTo>
                    <a:lnTo>
                      <a:pt x="1436" y="2784"/>
                    </a:lnTo>
                    <a:lnTo>
                      <a:pt x="1517" y="2808"/>
                    </a:lnTo>
                    <a:lnTo>
                      <a:pt x="1599" y="2830"/>
                    </a:lnTo>
                    <a:lnTo>
                      <a:pt x="1682" y="2848"/>
                    </a:lnTo>
                    <a:lnTo>
                      <a:pt x="1766" y="2865"/>
                    </a:lnTo>
                    <a:lnTo>
                      <a:pt x="1850" y="2877"/>
                    </a:lnTo>
                    <a:lnTo>
                      <a:pt x="1937" y="2888"/>
                    </a:lnTo>
                    <a:lnTo>
                      <a:pt x="2023" y="2896"/>
                    </a:lnTo>
                    <a:lnTo>
                      <a:pt x="2111" y="2900"/>
                    </a:lnTo>
                    <a:lnTo>
                      <a:pt x="2199" y="2901"/>
                    </a:lnTo>
                    <a:lnTo>
                      <a:pt x="2329" y="2898"/>
                    </a:lnTo>
                    <a:lnTo>
                      <a:pt x="2456" y="2889"/>
                    </a:lnTo>
                    <a:lnTo>
                      <a:pt x="2583" y="2873"/>
                    </a:lnTo>
                    <a:lnTo>
                      <a:pt x="2706" y="2851"/>
                    </a:lnTo>
                    <a:lnTo>
                      <a:pt x="2828" y="2822"/>
                    </a:lnTo>
                    <a:lnTo>
                      <a:pt x="2947" y="2788"/>
                    </a:lnTo>
                    <a:lnTo>
                      <a:pt x="3065" y="2749"/>
                    </a:lnTo>
                    <a:lnTo>
                      <a:pt x="3179" y="2703"/>
                    </a:lnTo>
                    <a:lnTo>
                      <a:pt x="3290" y="2654"/>
                    </a:lnTo>
                    <a:lnTo>
                      <a:pt x="3398" y="2598"/>
                    </a:lnTo>
                    <a:lnTo>
                      <a:pt x="3504" y="2537"/>
                    </a:lnTo>
                    <a:lnTo>
                      <a:pt x="3606" y="2471"/>
                    </a:lnTo>
                    <a:lnTo>
                      <a:pt x="3705" y="2401"/>
                    </a:lnTo>
                    <a:lnTo>
                      <a:pt x="3800" y="2327"/>
                    </a:lnTo>
                    <a:lnTo>
                      <a:pt x="3892" y="2248"/>
                    </a:lnTo>
                    <a:lnTo>
                      <a:pt x="3978" y="2165"/>
                    </a:lnTo>
                    <a:lnTo>
                      <a:pt x="4063" y="2077"/>
                    </a:lnTo>
                    <a:lnTo>
                      <a:pt x="4141" y="1986"/>
                    </a:lnTo>
                    <a:lnTo>
                      <a:pt x="4216" y="1890"/>
                    </a:lnTo>
                    <a:lnTo>
                      <a:pt x="4286" y="1792"/>
                    </a:lnTo>
                    <a:lnTo>
                      <a:pt x="4352" y="1690"/>
                    </a:lnTo>
                    <a:lnTo>
                      <a:pt x="4412" y="1585"/>
                    </a:lnTo>
                    <a:lnTo>
                      <a:pt x="4467" y="1477"/>
                    </a:lnTo>
                    <a:lnTo>
                      <a:pt x="4518" y="1365"/>
                    </a:lnTo>
                    <a:lnTo>
                      <a:pt x="4563" y="1251"/>
                    </a:lnTo>
                    <a:lnTo>
                      <a:pt x="4602" y="1134"/>
                    </a:lnTo>
                    <a:lnTo>
                      <a:pt x="4637" y="1014"/>
                    </a:lnTo>
                    <a:lnTo>
                      <a:pt x="4665" y="893"/>
                    </a:lnTo>
                    <a:lnTo>
                      <a:pt x="4687" y="769"/>
                    </a:lnTo>
                    <a:lnTo>
                      <a:pt x="4703" y="643"/>
                    </a:lnTo>
                    <a:lnTo>
                      <a:pt x="4713" y="515"/>
                    </a:lnTo>
                    <a:lnTo>
                      <a:pt x="4717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67120" y="4170240"/>
                <a:ext cx="1230120" cy="755640"/>
              </a:xfrm>
              <a:custGeom>
                <a:avLst/>
                <a:gdLst/>
                <a:ahLst/>
                <a:rect l="l" t="t" r="r" b="b"/>
                <a:pathLst>
                  <a:path w="4647" h="2854">
                    <a:moveTo>
                      <a:pt x="4647" y="386"/>
                    </a:moveTo>
                    <a:lnTo>
                      <a:pt x="4647" y="337"/>
                    </a:lnTo>
                    <a:lnTo>
                      <a:pt x="4646" y="288"/>
                    </a:lnTo>
                    <a:lnTo>
                      <a:pt x="4643" y="240"/>
                    </a:lnTo>
                    <a:lnTo>
                      <a:pt x="4640" y="191"/>
                    </a:lnTo>
                    <a:lnTo>
                      <a:pt x="4636" y="143"/>
                    </a:lnTo>
                    <a:lnTo>
                      <a:pt x="4630" y="94"/>
                    </a:lnTo>
                    <a:lnTo>
                      <a:pt x="4624" y="47"/>
                    </a:lnTo>
                    <a:lnTo>
                      <a:pt x="4617" y="0"/>
                    </a:lnTo>
                    <a:lnTo>
                      <a:pt x="4555" y="0"/>
                    </a:lnTo>
                    <a:lnTo>
                      <a:pt x="4523" y="0"/>
                    </a:lnTo>
                    <a:lnTo>
                      <a:pt x="4531" y="47"/>
                    </a:lnTo>
                    <a:lnTo>
                      <a:pt x="4537" y="94"/>
                    </a:lnTo>
                    <a:lnTo>
                      <a:pt x="4542" y="143"/>
                    </a:lnTo>
                    <a:lnTo>
                      <a:pt x="4547" y="191"/>
                    </a:lnTo>
                    <a:lnTo>
                      <a:pt x="4549" y="240"/>
                    </a:lnTo>
                    <a:lnTo>
                      <a:pt x="4553" y="288"/>
                    </a:lnTo>
                    <a:lnTo>
                      <a:pt x="4554" y="337"/>
                    </a:lnTo>
                    <a:lnTo>
                      <a:pt x="4554" y="386"/>
                    </a:lnTo>
                    <a:lnTo>
                      <a:pt x="4552" y="508"/>
                    </a:lnTo>
                    <a:lnTo>
                      <a:pt x="4542" y="629"/>
                    </a:lnTo>
                    <a:lnTo>
                      <a:pt x="4527" y="748"/>
                    </a:lnTo>
                    <a:lnTo>
                      <a:pt x="4507" y="865"/>
                    </a:lnTo>
                    <a:lnTo>
                      <a:pt x="4479" y="980"/>
                    </a:lnTo>
                    <a:lnTo>
                      <a:pt x="4448" y="1093"/>
                    </a:lnTo>
                    <a:lnTo>
                      <a:pt x="4410" y="1202"/>
                    </a:lnTo>
                    <a:lnTo>
                      <a:pt x="4367" y="1311"/>
                    </a:lnTo>
                    <a:lnTo>
                      <a:pt x="4320" y="1416"/>
                    </a:lnTo>
                    <a:lnTo>
                      <a:pt x="4268" y="1518"/>
                    </a:lnTo>
                    <a:lnTo>
                      <a:pt x="4210" y="1618"/>
                    </a:lnTo>
                    <a:lnTo>
                      <a:pt x="4148" y="1714"/>
                    </a:lnTo>
                    <a:lnTo>
                      <a:pt x="4082" y="1807"/>
                    </a:lnTo>
                    <a:lnTo>
                      <a:pt x="4012" y="1897"/>
                    </a:lnTo>
                    <a:lnTo>
                      <a:pt x="3937" y="1984"/>
                    </a:lnTo>
                    <a:lnTo>
                      <a:pt x="3858" y="2066"/>
                    </a:lnTo>
                    <a:lnTo>
                      <a:pt x="3775" y="2144"/>
                    </a:lnTo>
                    <a:lnTo>
                      <a:pt x="3689" y="2219"/>
                    </a:lnTo>
                    <a:lnTo>
                      <a:pt x="3599" y="2289"/>
                    </a:lnTo>
                    <a:lnTo>
                      <a:pt x="3507" y="2356"/>
                    </a:lnTo>
                    <a:lnTo>
                      <a:pt x="3410" y="2417"/>
                    </a:lnTo>
                    <a:lnTo>
                      <a:pt x="3311" y="2475"/>
                    </a:lnTo>
                    <a:lnTo>
                      <a:pt x="3208" y="2528"/>
                    </a:lnTo>
                    <a:lnTo>
                      <a:pt x="3103" y="2575"/>
                    </a:lnTo>
                    <a:lnTo>
                      <a:pt x="2994" y="2618"/>
                    </a:lnTo>
                    <a:lnTo>
                      <a:pt x="2884" y="2655"/>
                    </a:lnTo>
                    <a:lnTo>
                      <a:pt x="2771" y="2687"/>
                    </a:lnTo>
                    <a:lnTo>
                      <a:pt x="2657" y="2714"/>
                    </a:lnTo>
                    <a:lnTo>
                      <a:pt x="2539" y="2734"/>
                    </a:lnTo>
                    <a:lnTo>
                      <a:pt x="2420" y="2749"/>
                    </a:lnTo>
                    <a:lnTo>
                      <a:pt x="2299" y="2758"/>
                    </a:lnTo>
                    <a:lnTo>
                      <a:pt x="2177" y="2762"/>
                    </a:lnTo>
                    <a:lnTo>
                      <a:pt x="2089" y="2760"/>
                    </a:lnTo>
                    <a:lnTo>
                      <a:pt x="2003" y="2755"/>
                    </a:lnTo>
                    <a:lnTo>
                      <a:pt x="1916" y="2747"/>
                    </a:lnTo>
                    <a:lnTo>
                      <a:pt x="1831" y="2737"/>
                    </a:lnTo>
                    <a:lnTo>
                      <a:pt x="1745" y="2723"/>
                    </a:lnTo>
                    <a:lnTo>
                      <a:pt x="1662" y="2705"/>
                    </a:lnTo>
                    <a:lnTo>
                      <a:pt x="1580" y="2686"/>
                    </a:lnTo>
                    <a:lnTo>
                      <a:pt x="1498" y="2664"/>
                    </a:lnTo>
                    <a:lnTo>
                      <a:pt x="1419" y="2639"/>
                    </a:lnTo>
                    <a:lnTo>
                      <a:pt x="1340" y="2610"/>
                    </a:lnTo>
                    <a:lnTo>
                      <a:pt x="1263" y="2580"/>
                    </a:lnTo>
                    <a:lnTo>
                      <a:pt x="1187" y="2546"/>
                    </a:lnTo>
                    <a:lnTo>
                      <a:pt x="1112" y="2511"/>
                    </a:lnTo>
                    <a:lnTo>
                      <a:pt x="1039" y="2473"/>
                    </a:lnTo>
                    <a:lnTo>
                      <a:pt x="967" y="2431"/>
                    </a:lnTo>
                    <a:lnTo>
                      <a:pt x="898" y="2388"/>
                    </a:lnTo>
                    <a:lnTo>
                      <a:pt x="828" y="2342"/>
                    </a:lnTo>
                    <a:lnTo>
                      <a:pt x="761" y="2295"/>
                    </a:lnTo>
                    <a:lnTo>
                      <a:pt x="697" y="2244"/>
                    </a:lnTo>
                    <a:lnTo>
                      <a:pt x="633" y="2192"/>
                    </a:lnTo>
                    <a:lnTo>
                      <a:pt x="572" y="2138"/>
                    </a:lnTo>
                    <a:lnTo>
                      <a:pt x="512" y="2082"/>
                    </a:lnTo>
                    <a:lnTo>
                      <a:pt x="456" y="2024"/>
                    </a:lnTo>
                    <a:lnTo>
                      <a:pt x="400" y="1963"/>
                    </a:lnTo>
                    <a:lnTo>
                      <a:pt x="346" y="1902"/>
                    </a:lnTo>
                    <a:lnTo>
                      <a:pt x="295" y="1837"/>
                    </a:lnTo>
                    <a:lnTo>
                      <a:pt x="246" y="1772"/>
                    </a:lnTo>
                    <a:lnTo>
                      <a:pt x="200" y="1704"/>
                    </a:lnTo>
                    <a:lnTo>
                      <a:pt x="155" y="1635"/>
                    </a:lnTo>
                    <a:lnTo>
                      <a:pt x="113" y="1564"/>
                    </a:lnTo>
                    <a:lnTo>
                      <a:pt x="73" y="1492"/>
                    </a:lnTo>
                    <a:lnTo>
                      <a:pt x="36" y="1418"/>
                    </a:lnTo>
                    <a:lnTo>
                      <a:pt x="0" y="1493"/>
                    </a:lnTo>
                    <a:lnTo>
                      <a:pt x="0" y="1553"/>
                    </a:lnTo>
                    <a:lnTo>
                      <a:pt x="41" y="1625"/>
                    </a:lnTo>
                    <a:lnTo>
                      <a:pt x="83" y="1696"/>
                    </a:lnTo>
                    <a:lnTo>
                      <a:pt x="127" y="1765"/>
                    </a:lnTo>
                    <a:lnTo>
                      <a:pt x="174" y="1832"/>
                    </a:lnTo>
                    <a:lnTo>
                      <a:pt x="224" y="1897"/>
                    </a:lnTo>
                    <a:lnTo>
                      <a:pt x="275" y="1961"/>
                    </a:lnTo>
                    <a:lnTo>
                      <a:pt x="328" y="2023"/>
                    </a:lnTo>
                    <a:lnTo>
                      <a:pt x="383" y="2083"/>
                    </a:lnTo>
                    <a:lnTo>
                      <a:pt x="441" y="2142"/>
                    </a:lnTo>
                    <a:lnTo>
                      <a:pt x="500" y="2198"/>
                    </a:lnTo>
                    <a:lnTo>
                      <a:pt x="561" y="2252"/>
                    </a:lnTo>
                    <a:lnTo>
                      <a:pt x="624" y="2305"/>
                    </a:lnTo>
                    <a:lnTo>
                      <a:pt x="688" y="2356"/>
                    </a:lnTo>
                    <a:lnTo>
                      <a:pt x="755" y="2405"/>
                    </a:lnTo>
                    <a:lnTo>
                      <a:pt x="823" y="2451"/>
                    </a:lnTo>
                    <a:lnTo>
                      <a:pt x="892" y="2494"/>
                    </a:lnTo>
                    <a:lnTo>
                      <a:pt x="962" y="2536"/>
                    </a:lnTo>
                    <a:lnTo>
                      <a:pt x="1035" y="2575"/>
                    </a:lnTo>
                    <a:lnTo>
                      <a:pt x="1109" y="2612"/>
                    </a:lnTo>
                    <a:lnTo>
                      <a:pt x="1185" y="2647"/>
                    </a:lnTo>
                    <a:lnTo>
                      <a:pt x="1261" y="2679"/>
                    </a:lnTo>
                    <a:lnTo>
                      <a:pt x="1338" y="2709"/>
                    </a:lnTo>
                    <a:lnTo>
                      <a:pt x="1418" y="2735"/>
                    </a:lnTo>
                    <a:lnTo>
                      <a:pt x="1498" y="2761"/>
                    </a:lnTo>
                    <a:lnTo>
                      <a:pt x="1579" y="2782"/>
                    </a:lnTo>
                    <a:lnTo>
                      <a:pt x="1662" y="2801"/>
                    </a:lnTo>
                    <a:lnTo>
                      <a:pt x="1745" y="2817"/>
                    </a:lnTo>
                    <a:lnTo>
                      <a:pt x="1831" y="2831"/>
                    </a:lnTo>
                    <a:lnTo>
                      <a:pt x="1916" y="2841"/>
                    </a:lnTo>
                    <a:lnTo>
                      <a:pt x="2003" y="2848"/>
                    </a:lnTo>
                    <a:lnTo>
                      <a:pt x="2089" y="2853"/>
                    </a:lnTo>
                    <a:lnTo>
                      <a:pt x="2177" y="2854"/>
                    </a:lnTo>
                    <a:lnTo>
                      <a:pt x="2305" y="2852"/>
                    </a:lnTo>
                    <a:lnTo>
                      <a:pt x="2429" y="2841"/>
                    </a:lnTo>
                    <a:lnTo>
                      <a:pt x="2553" y="2826"/>
                    </a:lnTo>
                    <a:lnTo>
                      <a:pt x="2675" y="2805"/>
                    </a:lnTo>
                    <a:lnTo>
                      <a:pt x="2795" y="2777"/>
                    </a:lnTo>
                    <a:lnTo>
                      <a:pt x="2911" y="2743"/>
                    </a:lnTo>
                    <a:lnTo>
                      <a:pt x="3027" y="2705"/>
                    </a:lnTo>
                    <a:lnTo>
                      <a:pt x="3139" y="2660"/>
                    </a:lnTo>
                    <a:lnTo>
                      <a:pt x="3248" y="2611"/>
                    </a:lnTo>
                    <a:lnTo>
                      <a:pt x="3354" y="2557"/>
                    </a:lnTo>
                    <a:lnTo>
                      <a:pt x="3458" y="2497"/>
                    </a:lnTo>
                    <a:lnTo>
                      <a:pt x="3558" y="2433"/>
                    </a:lnTo>
                    <a:lnTo>
                      <a:pt x="3655" y="2364"/>
                    </a:lnTo>
                    <a:lnTo>
                      <a:pt x="3749" y="2290"/>
                    </a:lnTo>
                    <a:lnTo>
                      <a:pt x="3838" y="2213"/>
                    </a:lnTo>
                    <a:lnTo>
                      <a:pt x="3924" y="2131"/>
                    </a:lnTo>
                    <a:lnTo>
                      <a:pt x="4006" y="2046"/>
                    </a:lnTo>
                    <a:lnTo>
                      <a:pt x="4083" y="1956"/>
                    </a:lnTo>
                    <a:lnTo>
                      <a:pt x="4157" y="1863"/>
                    </a:lnTo>
                    <a:lnTo>
                      <a:pt x="4225" y="1766"/>
                    </a:lnTo>
                    <a:lnTo>
                      <a:pt x="4290" y="1666"/>
                    </a:lnTo>
                    <a:lnTo>
                      <a:pt x="4350" y="1563"/>
                    </a:lnTo>
                    <a:lnTo>
                      <a:pt x="4404" y="1456"/>
                    </a:lnTo>
                    <a:lnTo>
                      <a:pt x="4454" y="1346"/>
                    </a:lnTo>
                    <a:lnTo>
                      <a:pt x="4497" y="1235"/>
                    </a:lnTo>
                    <a:lnTo>
                      <a:pt x="4537" y="1120"/>
                    </a:lnTo>
                    <a:lnTo>
                      <a:pt x="4570" y="1003"/>
                    </a:lnTo>
                    <a:lnTo>
                      <a:pt x="4598" y="883"/>
                    </a:lnTo>
                    <a:lnTo>
                      <a:pt x="4618" y="762"/>
                    </a:lnTo>
                    <a:lnTo>
                      <a:pt x="4635" y="639"/>
                    </a:lnTo>
                    <a:lnTo>
                      <a:pt x="4644" y="513"/>
                    </a:lnTo>
                    <a:lnTo>
                      <a:pt x="4647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0360" y="4170240"/>
                <a:ext cx="1214280" cy="743040"/>
              </a:xfrm>
              <a:custGeom>
                <a:avLst/>
                <a:gdLst/>
                <a:ahLst/>
                <a:rect l="l" t="t" r="r" b="b"/>
                <a:pathLst>
                  <a:path w="4590" h="2808">
                    <a:moveTo>
                      <a:pt x="4590" y="386"/>
                    </a:moveTo>
                    <a:lnTo>
                      <a:pt x="4589" y="337"/>
                    </a:lnTo>
                    <a:lnTo>
                      <a:pt x="4588" y="288"/>
                    </a:lnTo>
                    <a:lnTo>
                      <a:pt x="4586" y="240"/>
                    </a:lnTo>
                    <a:lnTo>
                      <a:pt x="4582" y="191"/>
                    </a:lnTo>
                    <a:lnTo>
                      <a:pt x="4577" y="143"/>
                    </a:lnTo>
                    <a:lnTo>
                      <a:pt x="4573" y="94"/>
                    </a:lnTo>
                    <a:lnTo>
                      <a:pt x="4566" y="47"/>
                    </a:lnTo>
                    <a:lnTo>
                      <a:pt x="4559" y="0"/>
                    </a:lnTo>
                    <a:lnTo>
                      <a:pt x="4544" y="0"/>
                    </a:lnTo>
                    <a:lnTo>
                      <a:pt x="4470" y="0"/>
                    </a:lnTo>
                    <a:lnTo>
                      <a:pt x="4464" y="0"/>
                    </a:lnTo>
                    <a:lnTo>
                      <a:pt x="4473" y="47"/>
                    </a:lnTo>
                    <a:lnTo>
                      <a:pt x="4478" y="94"/>
                    </a:lnTo>
                    <a:lnTo>
                      <a:pt x="4484" y="143"/>
                    </a:lnTo>
                    <a:lnTo>
                      <a:pt x="4489" y="191"/>
                    </a:lnTo>
                    <a:lnTo>
                      <a:pt x="4492" y="240"/>
                    </a:lnTo>
                    <a:lnTo>
                      <a:pt x="4494" y="288"/>
                    </a:lnTo>
                    <a:lnTo>
                      <a:pt x="4497" y="337"/>
                    </a:lnTo>
                    <a:lnTo>
                      <a:pt x="4497" y="386"/>
                    </a:lnTo>
                    <a:lnTo>
                      <a:pt x="4493" y="506"/>
                    </a:lnTo>
                    <a:lnTo>
                      <a:pt x="4485" y="624"/>
                    </a:lnTo>
                    <a:lnTo>
                      <a:pt x="4470" y="741"/>
                    </a:lnTo>
                    <a:lnTo>
                      <a:pt x="4449" y="855"/>
                    </a:lnTo>
                    <a:lnTo>
                      <a:pt x="4423" y="968"/>
                    </a:lnTo>
                    <a:lnTo>
                      <a:pt x="4392" y="1079"/>
                    </a:lnTo>
                    <a:lnTo>
                      <a:pt x="4355" y="1187"/>
                    </a:lnTo>
                    <a:lnTo>
                      <a:pt x="4313" y="1292"/>
                    </a:lnTo>
                    <a:lnTo>
                      <a:pt x="4267" y="1396"/>
                    </a:lnTo>
                    <a:lnTo>
                      <a:pt x="4215" y="1496"/>
                    </a:lnTo>
                    <a:lnTo>
                      <a:pt x="4159" y="1594"/>
                    </a:lnTo>
                    <a:lnTo>
                      <a:pt x="4099" y="1688"/>
                    </a:lnTo>
                    <a:lnTo>
                      <a:pt x="4033" y="1780"/>
                    </a:lnTo>
                    <a:lnTo>
                      <a:pt x="3964" y="1867"/>
                    </a:lnTo>
                    <a:lnTo>
                      <a:pt x="3891" y="1952"/>
                    </a:lnTo>
                    <a:lnTo>
                      <a:pt x="3814" y="2032"/>
                    </a:lnTo>
                    <a:lnTo>
                      <a:pt x="3733" y="2109"/>
                    </a:lnTo>
                    <a:lnTo>
                      <a:pt x="3649" y="2183"/>
                    </a:lnTo>
                    <a:lnTo>
                      <a:pt x="3560" y="2252"/>
                    </a:lnTo>
                    <a:lnTo>
                      <a:pt x="3469" y="2317"/>
                    </a:lnTo>
                    <a:lnTo>
                      <a:pt x="3374" y="2378"/>
                    </a:lnTo>
                    <a:lnTo>
                      <a:pt x="3276" y="2433"/>
                    </a:lnTo>
                    <a:lnTo>
                      <a:pt x="3176" y="2485"/>
                    </a:lnTo>
                    <a:lnTo>
                      <a:pt x="3073" y="2531"/>
                    </a:lnTo>
                    <a:lnTo>
                      <a:pt x="2967" y="2574"/>
                    </a:lnTo>
                    <a:lnTo>
                      <a:pt x="2859" y="2610"/>
                    </a:lnTo>
                    <a:lnTo>
                      <a:pt x="2748" y="2642"/>
                    </a:lnTo>
                    <a:lnTo>
                      <a:pt x="2636" y="2667"/>
                    </a:lnTo>
                    <a:lnTo>
                      <a:pt x="2521" y="2688"/>
                    </a:lnTo>
                    <a:lnTo>
                      <a:pt x="2404" y="2703"/>
                    </a:lnTo>
                    <a:lnTo>
                      <a:pt x="2286" y="2712"/>
                    </a:lnTo>
                    <a:lnTo>
                      <a:pt x="2166" y="2715"/>
                    </a:lnTo>
                    <a:lnTo>
                      <a:pt x="2078" y="2714"/>
                    </a:lnTo>
                    <a:lnTo>
                      <a:pt x="1990" y="2709"/>
                    </a:lnTo>
                    <a:lnTo>
                      <a:pt x="1904" y="2701"/>
                    </a:lnTo>
                    <a:lnTo>
                      <a:pt x="1819" y="2689"/>
                    </a:lnTo>
                    <a:lnTo>
                      <a:pt x="1734" y="2675"/>
                    </a:lnTo>
                    <a:lnTo>
                      <a:pt x="1650" y="2658"/>
                    </a:lnTo>
                    <a:lnTo>
                      <a:pt x="1568" y="2637"/>
                    </a:lnTo>
                    <a:lnTo>
                      <a:pt x="1486" y="2614"/>
                    </a:lnTo>
                    <a:lnTo>
                      <a:pt x="1407" y="2589"/>
                    </a:lnTo>
                    <a:lnTo>
                      <a:pt x="1328" y="2560"/>
                    </a:lnTo>
                    <a:lnTo>
                      <a:pt x="1251" y="2529"/>
                    </a:lnTo>
                    <a:lnTo>
                      <a:pt x="1175" y="2494"/>
                    </a:lnTo>
                    <a:lnTo>
                      <a:pt x="1100" y="2458"/>
                    </a:lnTo>
                    <a:lnTo>
                      <a:pt x="1027" y="2418"/>
                    </a:lnTo>
                    <a:lnTo>
                      <a:pt x="956" y="2377"/>
                    </a:lnTo>
                    <a:lnTo>
                      <a:pt x="887" y="2333"/>
                    </a:lnTo>
                    <a:lnTo>
                      <a:pt x="819" y="2286"/>
                    </a:lnTo>
                    <a:lnTo>
                      <a:pt x="752" y="2237"/>
                    </a:lnTo>
                    <a:lnTo>
                      <a:pt x="688" y="2187"/>
                    </a:lnTo>
                    <a:lnTo>
                      <a:pt x="625" y="2134"/>
                    </a:lnTo>
                    <a:lnTo>
                      <a:pt x="565" y="2078"/>
                    </a:lnTo>
                    <a:lnTo>
                      <a:pt x="506" y="2021"/>
                    </a:lnTo>
                    <a:lnTo>
                      <a:pt x="449" y="1961"/>
                    </a:lnTo>
                    <a:lnTo>
                      <a:pt x="395" y="1900"/>
                    </a:lnTo>
                    <a:lnTo>
                      <a:pt x="342" y="1836"/>
                    </a:lnTo>
                    <a:lnTo>
                      <a:pt x="293" y="1771"/>
                    </a:lnTo>
                    <a:lnTo>
                      <a:pt x="244" y="1704"/>
                    </a:lnTo>
                    <a:lnTo>
                      <a:pt x="199" y="1635"/>
                    </a:lnTo>
                    <a:lnTo>
                      <a:pt x="155" y="1564"/>
                    </a:lnTo>
                    <a:lnTo>
                      <a:pt x="115" y="1493"/>
                    </a:lnTo>
                    <a:lnTo>
                      <a:pt x="77" y="1419"/>
                    </a:lnTo>
                    <a:lnTo>
                      <a:pt x="41" y="1344"/>
                    </a:lnTo>
                    <a:lnTo>
                      <a:pt x="26" y="1375"/>
                    </a:lnTo>
                    <a:lnTo>
                      <a:pt x="26" y="1416"/>
                    </a:lnTo>
                    <a:lnTo>
                      <a:pt x="0" y="1472"/>
                    </a:lnTo>
                    <a:lnTo>
                      <a:pt x="38" y="1545"/>
                    </a:lnTo>
                    <a:lnTo>
                      <a:pt x="79" y="1617"/>
                    </a:lnTo>
                    <a:lnTo>
                      <a:pt x="122" y="1688"/>
                    </a:lnTo>
                    <a:lnTo>
                      <a:pt x="168" y="1757"/>
                    </a:lnTo>
                    <a:lnTo>
                      <a:pt x="215" y="1824"/>
                    </a:lnTo>
                    <a:lnTo>
                      <a:pt x="266" y="1889"/>
                    </a:lnTo>
                    <a:lnTo>
                      <a:pt x="318" y="1953"/>
                    </a:lnTo>
                    <a:lnTo>
                      <a:pt x="372" y="2015"/>
                    </a:lnTo>
                    <a:lnTo>
                      <a:pt x="429" y="2075"/>
                    </a:lnTo>
                    <a:lnTo>
                      <a:pt x="487" y="2133"/>
                    </a:lnTo>
                    <a:lnTo>
                      <a:pt x="547" y="2189"/>
                    </a:lnTo>
                    <a:lnTo>
                      <a:pt x="610" y="2243"/>
                    </a:lnTo>
                    <a:lnTo>
                      <a:pt x="674" y="2295"/>
                    </a:lnTo>
                    <a:lnTo>
                      <a:pt x="740" y="2345"/>
                    </a:lnTo>
                    <a:lnTo>
                      <a:pt x="807" y="2392"/>
                    </a:lnTo>
                    <a:lnTo>
                      <a:pt x="876" y="2437"/>
                    </a:lnTo>
                    <a:lnTo>
                      <a:pt x="948" y="2480"/>
                    </a:lnTo>
                    <a:lnTo>
                      <a:pt x="1020" y="2521"/>
                    </a:lnTo>
                    <a:lnTo>
                      <a:pt x="1094" y="2559"/>
                    </a:lnTo>
                    <a:lnTo>
                      <a:pt x="1169" y="2595"/>
                    </a:lnTo>
                    <a:lnTo>
                      <a:pt x="1245" y="2627"/>
                    </a:lnTo>
                    <a:lnTo>
                      <a:pt x="1324" y="2658"/>
                    </a:lnTo>
                    <a:lnTo>
                      <a:pt x="1403" y="2686"/>
                    </a:lnTo>
                    <a:lnTo>
                      <a:pt x="1484" y="2711"/>
                    </a:lnTo>
                    <a:lnTo>
                      <a:pt x="1566" y="2733"/>
                    </a:lnTo>
                    <a:lnTo>
                      <a:pt x="1648" y="2753"/>
                    </a:lnTo>
                    <a:lnTo>
                      <a:pt x="1732" y="2770"/>
                    </a:lnTo>
                    <a:lnTo>
                      <a:pt x="1817" y="2783"/>
                    </a:lnTo>
                    <a:lnTo>
                      <a:pt x="1903" y="2794"/>
                    </a:lnTo>
                    <a:lnTo>
                      <a:pt x="1990" y="2802"/>
                    </a:lnTo>
                    <a:lnTo>
                      <a:pt x="2078" y="2807"/>
                    </a:lnTo>
                    <a:lnTo>
                      <a:pt x="2166" y="2808"/>
                    </a:lnTo>
                    <a:lnTo>
                      <a:pt x="2291" y="2805"/>
                    </a:lnTo>
                    <a:lnTo>
                      <a:pt x="2414" y="2795"/>
                    </a:lnTo>
                    <a:lnTo>
                      <a:pt x="2535" y="2780"/>
                    </a:lnTo>
                    <a:lnTo>
                      <a:pt x="2655" y="2758"/>
                    </a:lnTo>
                    <a:lnTo>
                      <a:pt x="2771" y="2732"/>
                    </a:lnTo>
                    <a:lnTo>
                      <a:pt x="2887" y="2700"/>
                    </a:lnTo>
                    <a:lnTo>
                      <a:pt x="3000" y="2662"/>
                    </a:lnTo>
                    <a:lnTo>
                      <a:pt x="3109" y="2618"/>
                    </a:lnTo>
                    <a:lnTo>
                      <a:pt x="3216" y="2569"/>
                    </a:lnTo>
                    <a:lnTo>
                      <a:pt x="3321" y="2515"/>
                    </a:lnTo>
                    <a:lnTo>
                      <a:pt x="3423" y="2458"/>
                    </a:lnTo>
                    <a:lnTo>
                      <a:pt x="3521" y="2394"/>
                    </a:lnTo>
                    <a:lnTo>
                      <a:pt x="3617" y="2327"/>
                    </a:lnTo>
                    <a:lnTo>
                      <a:pt x="3708" y="2255"/>
                    </a:lnTo>
                    <a:lnTo>
                      <a:pt x="3795" y="2179"/>
                    </a:lnTo>
                    <a:lnTo>
                      <a:pt x="3880" y="2099"/>
                    </a:lnTo>
                    <a:lnTo>
                      <a:pt x="3960" y="2015"/>
                    </a:lnTo>
                    <a:lnTo>
                      <a:pt x="4037" y="1926"/>
                    </a:lnTo>
                    <a:lnTo>
                      <a:pt x="4108" y="1835"/>
                    </a:lnTo>
                    <a:lnTo>
                      <a:pt x="4176" y="1741"/>
                    </a:lnTo>
                    <a:lnTo>
                      <a:pt x="4238" y="1641"/>
                    </a:lnTo>
                    <a:lnTo>
                      <a:pt x="4297" y="1540"/>
                    </a:lnTo>
                    <a:lnTo>
                      <a:pt x="4350" y="1436"/>
                    </a:lnTo>
                    <a:lnTo>
                      <a:pt x="4400" y="1329"/>
                    </a:lnTo>
                    <a:lnTo>
                      <a:pt x="4443" y="1218"/>
                    </a:lnTo>
                    <a:lnTo>
                      <a:pt x="4481" y="1107"/>
                    </a:lnTo>
                    <a:lnTo>
                      <a:pt x="4514" y="991"/>
                    </a:lnTo>
                    <a:lnTo>
                      <a:pt x="4541" y="874"/>
                    </a:lnTo>
                    <a:lnTo>
                      <a:pt x="4562" y="755"/>
                    </a:lnTo>
                    <a:lnTo>
                      <a:pt x="4577" y="634"/>
                    </a:lnTo>
                    <a:lnTo>
                      <a:pt x="4587" y="511"/>
                    </a:lnTo>
                    <a:lnTo>
                      <a:pt x="4590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76480" y="4170240"/>
                <a:ext cx="1195560" cy="730440"/>
              </a:xfrm>
              <a:custGeom>
                <a:avLst/>
                <a:gdLst/>
                <a:ahLst/>
                <a:rect l="l" t="t" r="r" b="b"/>
                <a:pathLst>
                  <a:path w="4518" h="2762">
                    <a:moveTo>
                      <a:pt x="4518" y="386"/>
                    </a:moveTo>
                    <a:lnTo>
                      <a:pt x="4518" y="337"/>
                    </a:lnTo>
                    <a:lnTo>
                      <a:pt x="4517" y="288"/>
                    </a:lnTo>
                    <a:lnTo>
                      <a:pt x="4513" y="240"/>
                    </a:lnTo>
                    <a:lnTo>
                      <a:pt x="4510" y="191"/>
                    </a:lnTo>
                    <a:lnTo>
                      <a:pt x="4506" y="143"/>
                    </a:lnTo>
                    <a:lnTo>
                      <a:pt x="4501" y="94"/>
                    </a:lnTo>
                    <a:lnTo>
                      <a:pt x="4494" y="47"/>
                    </a:lnTo>
                    <a:lnTo>
                      <a:pt x="4487" y="0"/>
                    </a:lnTo>
                    <a:lnTo>
                      <a:pt x="4445" y="0"/>
                    </a:lnTo>
                    <a:lnTo>
                      <a:pt x="4392" y="0"/>
                    </a:lnTo>
                    <a:lnTo>
                      <a:pt x="4400" y="47"/>
                    </a:lnTo>
                    <a:lnTo>
                      <a:pt x="4406" y="94"/>
                    </a:lnTo>
                    <a:lnTo>
                      <a:pt x="4412" y="143"/>
                    </a:lnTo>
                    <a:lnTo>
                      <a:pt x="4416" y="190"/>
                    </a:lnTo>
                    <a:lnTo>
                      <a:pt x="4420" y="239"/>
                    </a:lnTo>
                    <a:lnTo>
                      <a:pt x="4423" y="288"/>
                    </a:lnTo>
                    <a:lnTo>
                      <a:pt x="4424" y="337"/>
                    </a:lnTo>
                    <a:lnTo>
                      <a:pt x="4426" y="386"/>
                    </a:lnTo>
                    <a:lnTo>
                      <a:pt x="4422" y="504"/>
                    </a:lnTo>
                    <a:lnTo>
                      <a:pt x="4413" y="619"/>
                    </a:lnTo>
                    <a:lnTo>
                      <a:pt x="4399" y="733"/>
                    </a:lnTo>
                    <a:lnTo>
                      <a:pt x="4378" y="846"/>
                    </a:lnTo>
                    <a:lnTo>
                      <a:pt x="4353" y="957"/>
                    </a:lnTo>
                    <a:lnTo>
                      <a:pt x="4322" y="1065"/>
                    </a:lnTo>
                    <a:lnTo>
                      <a:pt x="4286" y="1171"/>
                    </a:lnTo>
                    <a:lnTo>
                      <a:pt x="4246" y="1274"/>
                    </a:lnTo>
                    <a:lnTo>
                      <a:pt x="4200" y="1375"/>
                    </a:lnTo>
                    <a:lnTo>
                      <a:pt x="4149" y="1474"/>
                    </a:lnTo>
                    <a:lnTo>
                      <a:pt x="4095" y="1570"/>
                    </a:lnTo>
                    <a:lnTo>
                      <a:pt x="4035" y="1662"/>
                    </a:lnTo>
                    <a:lnTo>
                      <a:pt x="3971" y="1752"/>
                    </a:lnTo>
                    <a:lnTo>
                      <a:pt x="3903" y="1837"/>
                    </a:lnTo>
                    <a:lnTo>
                      <a:pt x="3832" y="1920"/>
                    </a:lnTo>
                    <a:lnTo>
                      <a:pt x="3757" y="2000"/>
                    </a:lnTo>
                    <a:lnTo>
                      <a:pt x="3677" y="2075"/>
                    </a:lnTo>
                    <a:lnTo>
                      <a:pt x="3594" y="2148"/>
                    </a:lnTo>
                    <a:lnTo>
                      <a:pt x="3507" y="2214"/>
                    </a:lnTo>
                    <a:lnTo>
                      <a:pt x="3418" y="2279"/>
                    </a:lnTo>
                    <a:lnTo>
                      <a:pt x="3325" y="2338"/>
                    </a:lnTo>
                    <a:lnTo>
                      <a:pt x="3230" y="2393"/>
                    </a:lnTo>
                    <a:lnTo>
                      <a:pt x="3131" y="2444"/>
                    </a:lnTo>
                    <a:lnTo>
                      <a:pt x="3030" y="2489"/>
                    </a:lnTo>
                    <a:lnTo>
                      <a:pt x="2926" y="2530"/>
                    </a:lnTo>
                    <a:lnTo>
                      <a:pt x="2820" y="2566"/>
                    </a:lnTo>
                    <a:lnTo>
                      <a:pt x="2712" y="2597"/>
                    </a:lnTo>
                    <a:lnTo>
                      <a:pt x="2601" y="2622"/>
                    </a:lnTo>
                    <a:lnTo>
                      <a:pt x="2489" y="2642"/>
                    </a:lnTo>
                    <a:lnTo>
                      <a:pt x="2375" y="2657"/>
                    </a:lnTo>
                    <a:lnTo>
                      <a:pt x="2258" y="2665"/>
                    </a:lnTo>
                    <a:lnTo>
                      <a:pt x="2141" y="2669"/>
                    </a:lnTo>
                    <a:lnTo>
                      <a:pt x="2053" y="2666"/>
                    </a:lnTo>
                    <a:lnTo>
                      <a:pt x="1967" y="2662"/>
                    </a:lnTo>
                    <a:lnTo>
                      <a:pt x="1880" y="2654"/>
                    </a:lnTo>
                    <a:lnTo>
                      <a:pt x="1796" y="2642"/>
                    </a:lnTo>
                    <a:lnTo>
                      <a:pt x="1712" y="2628"/>
                    </a:lnTo>
                    <a:lnTo>
                      <a:pt x="1629" y="2611"/>
                    </a:lnTo>
                    <a:lnTo>
                      <a:pt x="1547" y="2590"/>
                    </a:lnTo>
                    <a:lnTo>
                      <a:pt x="1466" y="2567"/>
                    </a:lnTo>
                    <a:lnTo>
                      <a:pt x="1386" y="2541"/>
                    </a:lnTo>
                    <a:lnTo>
                      <a:pt x="1309" y="2512"/>
                    </a:lnTo>
                    <a:lnTo>
                      <a:pt x="1232" y="2481"/>
                    </a:lnTo>
                    <a:lnTo>
                      <a:pt x="1157" y="2446"/>
                    </a:lnTo>
                    <a:lnTo>
                      <a:pt x="1083" y="2409"/>
                    </a:lnTo>
                    <a:lnTo>
                      <a:pt x="1010" y="2370"/>
                    </a:lnTo>
                    <a:lnTo>
                      <a:pt x="940" y="2327"/>
                    </a:lnTo>
                    <a:lnTo>
                      <a:pt x="872" y="2284"/>
                    </a:lnTo>
                    <a:lnTo>
                      <a:pt x="804" y="2236"/>
                    </a:lnTo>
                    <a:lnTo>
                      <a:pt x="739" y="2188"/>
                    </a:lnTo>
                    <a:lnTo>
                      <a:pt x="675" y="2136"/>
                    </a:lnTo>
                    <a:lnTo>
                      <a:pt x="614" y="2083"/>
                    </a:lnTo>
                    <a:lnTo>
                      <a:pt x="554" y="2026"/>
                    </a:lnTo>
                    <a:lnTo>
                      <a:pt x="496" y="1969"/>
                    </a:lnTo>
                    <a:lnTo>
                      <a:pt x="441" y="1909"/>
                    </a:lnTo>
                    <a:lnTo>
                      <a:pt x="388" y="1848"/>
                    </a:lnTo>
                    <a:lnTo>
                      <a:pt x="336" y="1784"/>
                    </a:lnTo>
                    <a:lnTo>
                      <a:pt x="287" y="1719"/>
                    </a:lnTo>
                    <a:lnTo>
                      <a:pt x="240" y="1651"/>
                    </a:lnTo>
                    <a:lnTo>
                      <a:pt x="196" y="1583"/>
                    </a:lnTo>
                    <a:lnTo>
                      <a:pt x="155" y="1511"/>
                    </a:lnTo>
                    <a:lnTo>
                      <a:pt x="114" y="1440"/>
                    </a:lnTo>
                    <a:lnTo>
                      <a:pt x="78" y="1366"/>
                    </a:lnTo>
                    <a:lnTo>
                      <a:pt x="44" y="1290"/>
                    </a:lnTo>
                    <a:lnTo>
                      <a:pt x="38" y="1301"/>
                    </a:lnTo>
                    <a:lnTo>
                      <a:pt x="1" y="1375"/>
                    </a:lnTo>
                    <a:lnTo>
                      <a:pt x="1" y="1416"/>
                    </a:lnTo>
                    <a:lnTo>
                      <a:pt x="0" y="1418"/>
                    </a:lnTo>
                    <a:lnTo>
                      <a:pt x="37" y="1492"/>
                    </a:lnTo>
                    <a:lnTo>
                      <a:pt x="77" y="1564"/>
                    </a:lnTo>
                    <a:lnTo>
                      <a:pt x="119" y="1635"/>
                    </a:lnTo>
                    <a:lnTo>
                      <a:pt x="164" y="1704"/>
                    </a:lnTo>
                    <a:lnTo>
                      <a:pt x="210" y="1772"/>
                    </a:lnTo>
                    <a:lnTo>
                      <a:pt x="259" y="1837"/>
                    </a:lnTo>
                    <a:lnTo>
                      <a:pt x="310" y="1901"/>
                    </a:lnTo>
                    <a:lnTo>
                      <a:pt x="364" y="1963"/>
                    </a:lnTo>
                    <a:lnTo>
                      <a:pt x="420" y="2024"/>
                    </a:lnTo>
                    <a:lnTo>
                      <a:pt x="476" y="2082"/>
                    </a:lnTo>
                    <a:lnTo>
                      <a:pt x="536" y="2138"/>
                    </a:lnTo>
                    <a:lnTo>
                      <a:pt x="597" y="2192"/>
                    </a:lnTo>
                    <a:lnTo>
                      <a:pt x="661" y="2244"/>
                    </a:lnTo>
                    <a:lnTo>
                      <a:pt x="725" y="2295"/>
                    </a:lnTo>
                    <a:lnTo>
                      <a:pt x="792" y="2342"/>
                    </a:lnTo>
                    <a:lnTo>
                      <a:pt x="862" y="2388"/>
                    </a:lnTo>
                    <a:lnTo>
                      <a:pt x="931" y="2431"/>
                    </a:lnTo>
                    <a:lnTo>
                      <a:pt x="1003" y="2471"/>
                    </a:lnTo>
                    <a:lnTo>
                      <a:pt x="1076" y="2511"/>
                    </a:lnTo>
                    <a:lnTo>
                      <a:pt x="1151" y="2546"/>
                    </a:lnTo>
                    <a:lnTo>
                      <a:pt x="1227" y="2580"/>
                    </a:lnTo>
                    <a:lnTo>
                      <a:pt x="1304" y="2610"/>
                    </a:lnTo>
                    <a:lnTo>
                      <a:pt x="1383" y="2639"/>
                    </a:lnTo>
                    <a:lnTo>
                      <a:pt x="1462" y="2664"/>
                    </a:lnTo>
                    <a:lnTo>
                      <a:pt x="1544" y="2686"/>
                    </a:lnTo>
                    <a:lnTo>
                      <a:pt x="1626" y="2705"/>
                    </a:lnTo>
                    <a:lnTo>
                      <a:pt x="1709" y="2723"/>
                    </a:lnTo>
                    <a:lnTo>
                      <a:pt x="1795" y="2737"/>
                    </a:lnTo>
                    <a:lnTo>
                      <a:pt x="1880" y="2747"/>
                    </a:lnTo>
                    <a:lnTo>
                      <a:pt x="1967" y="2755"/>
                    </a:lnTo>
                    <a:lnTo>
                      <a:pt x="2053" y="2760"/>
                    </a:lnTo>
                    <a:lnTo>
                      <a:pt x="2141" y="2762"/>
                    </a:lnTo>
                    <a:lnTo>
                      <a:pt x="2263" y="2758"/>
                    </a:lnTo>
                    <a:lnTo>
                      <a:pt x="2384" y="2749"/>
                    </a:lnTo>
                    <a:lnTo>
                      <a:pt x="2503" y="2734"/>
                    </a:lnTo>
                    <a:lnTo>
                      <a:pt x="2621" y="2714"/>
                    </a:lnTo>
                    <a:lnTo>
                      <a:pt x="2735" y="2687"/>
                    </a:lnTo>
                    <a:lnTo>
                      <a:pt x="2848" y="2655"/>
                    </a:lnTo>
                    <a:lnTo>
                      <a:pt x="2958" y="2618"/>
                    </a:lnTo>
                    <a:lnTo>
                      <a:pt x="3067" y="2575"/>
                    </a:lnTo>
                    <a:lnTo>
                      <a:pt x="3172" y="2527"/>
                    </a:lnTo>
                    <a:lnTo>
                      <a:pt x="3275" y="2475"/>
                    </a:lnTo>
                    <a:lnTo>
                      <a:pt x="3374" y="2417"/>
                    </a:lnTo>
                    <a:lnTo>
                      <a:pt x="3471" y="2356"/>
                    </a:lnTo>
                    <a:lnTo>
                      <a:pt x="3563" y="2289"/>
                    </a:lnTo>
                    <a:lnTo>
                      <a:pt x="3653" y="2219"/>
                    </a:lnTo>
                    <a:lnTo>
                      <a:pt x="3739" y="2144"/>
                    </a:lnTo>
                    <a:lnTo>
                      <a:pt x="3822" y="2066"/>
                    </a:lnTo>
                    <a:lnTo>
                      <a:pt x="3901" y="1984"/>
                    </a:lnTo>
                    <a:lnTo>
                      <a:pt x="3976" y="1897"/>
                    </a:lnTo>
                    <a:lnTo>
                      <a:pt x="4046" y="1807"/>
                    </a:lnTo>
                    <a:lnTo>
                      <a:pt x="4112" y="1714"/>
                    </a:lnTo>
                    <a:lnTo>
                      <a:pt x="4174" y="1617"/>
                    </a:lnTo>
                    <a:lnTo>
                      <a:pt x="4232" y="1518"/>
                    </a:lnTo>
                    <a:lnTo>
                      <a:pt x="4284" y="1416"/>
                    </a:lnTo>
                    <a:lnTo>
                      <a:pt x="4331" y="1311"/>
                    </a:lnTo>
                    <a:lnTo>
                      <a:pt x="4374" y="1202"/>
                    </a:lnTo>
                    <a:lnTo>
                      <a:pt x="4412" y="1093"/>
                    </a:lnTo>
                    <a:lnTo>
                      <a:pt x="4443" y="980"/>
                    </a:lnTo>
                    <a:lnTo>
                      <a:pt x="4469" y="865"/>
                    </a:lnTo>
                    <a:lnTo>
                      <a:pt x="4491" y="748"/>
                    </a:lnTo>
                    <a:lnTo>
                      <a:pt x="4506" y="629"/>
                    </a:lnTo>
                    <a:lnTo>
                      <a:pt x="4516" y="508"/>
                    </a:lnTo>
                    <a:lnTo>
                      <a:pt x="4518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81160" y="4170240"/>
                <a:ext cx="1177920" cy="717840"/>
              </a:xfrm>
              <a:custGeom>
                <a:avLst/>
                <a:gdLst/>
                <a:ahLst/>
                <a:rect l="l" t="t" r="r" b="b"/>
                <a:pathLst>
                  <a:path w="4456" h="2715">
                    <a:moveTo>
                      <a:pt x="4456" y="386"/>
                    </a:moveTo>
                    <a:lnTo>
                      <a:pt x="4456" y="337"/>
                    </a:lnTo>
                    <a:lnTo>
                      <a:pt x="4453" y="288"/>
                    </a:lnTo>
                    <a:lnTo>
                      <a:pt x="4451" y="240"/>
                    </a:lnTo>
                    <a:lnTo>
                      <a:pt x="4448" y="191"/>
                    </a:lnTo>
                    <a:lnTo>
                      <a:pt x="4443" y="143"/>
                    </a:lnTo>
                    <a:lnTo>
                      <a:pt x="4437" y="94"/>
                    </a:lnTo>
                    <a:lnTo>
                      <a:pt x="4432" y="47"/>
                    </a:lnTo>
                    <a:lnTo>
                      <a:pt x="4423" y="0"/>
                    </a:lnTo>
                    <a:lnTo>
                      <a:pt x="4352" y="0"/>
                    </a:lnTo>
                    <a:lnTo>
                      <a:pt x="4329" y="0"/>
                    </a:lnTo>
                    <a:lnTo>
                      <a:pt x="4337" y="47"/>
                    </a:lnTo>
                    <a:lnTo>
                      <a:pt x="4344" y="94"/>
                    </a:lnTo>
                    <a:lnTo>
                      <a:pt x="4350" y="143"/>
                    </a:lnTo>
                    <a:lnTo>
                      <a:pt x="4354" y="190"/>
                    </a:lnTo>
                    <a:lnTo>
                      <a:pt x="4358" y="239"/>
                    </a:lnTo>
                    <a:lnTo>
                      <a:pt x="4360" y="288"/>
                    </a:lnTo>
                    <a:lnTo>
                      <a:pt x="4362" y="337"/>
                    </a:lnTo>
                    <a:lnTo>
                      <a:pt x="4362" y="386"/>
                    </a:lnTo>
                    <a:lnTo>
                      <a:pt x="4360" y="501"/>
                    </a:lnTo>
                    <a:lnTo>
                      <a:pt x="4351" y="614"/>
                    </a:lnTo>
                    <a:lnTo>
                      <a:pt x="4337" y="726"/>
                    </a:lnTo>
                    <a:lnTo>
                      <a:pt x="4317" y="837"/>
                    </a:lnTo>
                    <a:lnTo>
                      <a:pt x="4292" y="945"/>
                    </a:lnTo>
                    <a:lnTo>
                      <a:pt x="4262" y="1051"/>
                    </a:lnTo>
                    <a:lnTo>
                      <a:pt x="4226" y="1155"/>
                    </a:lnTo>
                    <a:lnTo>
                      <a:pt x="4187" y="1256"/>
                    </a:lnTo>
                    <a:lnTo>
                      <a:pt x="4142" y="1356"/>
                    </a:lnTo>
                    <a:lnTo>
                      <a:pt x="4092" y="1451"/>
                    </a:lnTo>
                    <a:lnTo>
                      <a:pt x="4038" y="1546"/>
                    </a:lnTo>
                    <a:lnTo>
                      <a:pt x="3981" y="1636"/>
                    </a:lnTo>
                    <a:lnTo>
                      <a:pt x="3918" y="1723"/>
                    </a:lnTo>
                    <a:lnTo>
                      <a:pt x="3851" y="1809"/>
                    </a:lnTo>
                    <a:lnTo>
                      <a:pt x="3781" y="1889"/>
                    </a:lnTo>
                    <a:lnTo>
                      <a:pt x="3707" y="1967"/>
                    </a:lnTo>
                    <a:lnTo>
                      <a:pt x="3630" y="2041"/>
                    </a:lnTo>
                    <a:lnTo>
                      <a:pt x="3548" y="2112"/>
                    </a:lnTo>
                    <a:lnTo>
                      <a:pt x="3464" y="2177"/>
                    </a:lnTo>
                    <a:lnTo>
                      <a:pt x="3376" y="2240"/>
                    </a:lnTo>
                    <a:lnTo>
                      <a:pt x="3285" y="2299"/>
                    </a:lnTo>
                    <a:lnTo>
                      <a:pt x="3192" y="2352"/>
                    </a:lnTo>
                    <a:lnTo>
                      <a:pt x="3095" y="2401"/>
                    </a:lnTo>
                    <a:lnTo>
                      <a:pt x="2996" y="2446"/>
                    </a:lnTo>
                    <a:lnTo>
                      <a:pt x="2894" y="2486"/>
                    </a:lnTo>
                    <a:lnTo>
                      <a:pt x="2790" y="2521"/>
                    </a:lnTo>
                    <a:lnTo>
                      <a:pt x="2684" y="2551"/>
                    </a:lnTo>
                    <a:lnTo>
                      <a:pt x="2576" y="2576"/>
                    </a:lnTo>
                    <a:lnTo>
                      <a:pt x="2466" y="2596"/>
                    </a:lnTo>
                    <a:lnTo>
                      <a:pt x="2354" y="2610"/>
                    </a:lnTo>
                    <a:lnTo>
                      <a:pt x="2240" y="2619"/>
                    </a:lnTo>
                    <a:lnTo>
                      <a:pt x="2125" y="2621"/>
                    </a:lnTo>
                    <a:lnTo>
                      <a:pt x="2038" y="2620"/>
                    </a:lnTo>
                    <a:lnTo>
                      <a:pt x="1952" y="2616"/>
                    </a:lnTo>
                    <a:lnTo>
                      <a:pt x="1866" y="2607"/>
                    </a:lnTo>
                    <a:lnTo>
                      <a:pt x="1782" y="2596"/>
                    </a:lnTo>
                    <a:lnTo>
                      <a:pt x="1698" y="2581"/>
                    </a:lnTo>
                    <a:lnTo>
                      <a:pt x="1616" y="2564"/>
                    </a:lnTo>
                    <a:lnTo>
                      <a:pt x="1535" y="2543"/>
                    </a:lnTo>
                    <a:lnTo>
                      <a:pt x="1455" y="2520"/>
                    </a:lnTo>
                    <a:lnTo>
                      <a:pt x="1376" y="2493"/>
                    </a:lnTo>
                    <a:lnTo>
                      <a:pt x="1299" y="2465"/>
                    </a:lnTo>
                    <a:lnTo>
                      <a:pt x="1223" y="2432"/>
                    </a:lnTo>
                    <a:lnTo>
                      <a:pt x="1148" y="2398"/>
                    </a:lnTo>
                    <a:lnTo>
                      <a:pt x="1075" y="2361"/>
                    </a:lnTo>
                    <a:lnTo>
                      <a:pt x="1004" y="2322"/>
                    </a:lnTo>
                    <a:lnTo>
                      <a:pt x="934" y="2279"/>
                    </a:lnTo>
                    <a:lnTo>
                      <a:pt x="866" y="2234"/>
                    </a:lnTo>
                    <a:lnTo>
                      <a:pt x="799" y="2187"/>
                    </a:lnTo>
                    <a:lnTo>
                      <a:pt x="735" y="2137"/>
                    </a:lnTo>
                    <a:lnTo>
                      <a:pt x="673" y="2086"/>
                    </a:lnTo>
                    <a:lnTo>
                      <a:pt x="611" y="2032"/>
                    </a:lnTo>
                    <a:lnTo>
                      <a:pt x="553" y="1976"/>
                    </a:lnTo>
                    <a:lnTo>
                      <a:pt x="496" y="1918"/>
                    </a:lnTo>
                    <a:lnTo>
                      <a:pt x="442" y="1858"/>
                    </a:lnTo>
                    <a:lnTo>
                      <a:pt x="389" y="1796"/>
                    </a:lnTo>
                    <a:lnTo>
                      <a:pt x="339" y="1733"/>
                    </a:lnTo>
                    <a:lnTo>
                      <a:pt x="291" y="1667"/>
                    </a:lnTo>
                    <a:lnTo>
                      <a:pt x="246" y="1599"/>
                    </a:lnTo>
                    <a:lnTo>
                      <a:pt x="203" y="1530"/>
                    </a:lnTo>
                    <a:lnTo>
                      <a:pt x="162" y="1458"/>
                    </a:lnTo>
                    <a:lnTo>
                      <a:pt x="124" y="1387"/>
                    </a:lnTo>
                    <a:lnTo>
                      <a:pt x="89" y="1312"/>
                    </a:lnTo>
                    <a:lnTo>
                      <a:pt x="55" y="1237"/>
                    </a:lnTo>
                    <a:lnTo>
                      <a:pt x="22" y="1301"/>
                    </a:lnTo>
                    <a:lnTo>
                      <a:pt x="0" y="1344"/>
                    </a:lnTo>
                    <a:lnTo>
                      <a:pt x="36" y="1419"/>
                    </a:lnTo>
                    <a:lnTo>
                      <a:pt x="74" y="1493"/>
                    </a:lnTo>
                    <a:lnTo>
                      <a:pt x="114" y="1564"/>
                    </a:lnTo>
                    <a:lnTo>
                      <a:pt x="158" y="1635"/>
                    </a:lnTo>
                    <a:lnTo>
                      <a:pt x="203" y="1704"/>
                    </a:lnTo>
                    <a:lnTo>
                      <a:pt x="252" y="1771"/>
                    </a:lnTo>
                    <a:lnTo>
                      <a:pt x="301" y="1836"/>
                    </a:lnTo>
                    <a:lnTo>
                      <a:pt x="354" y="1900"/>
                    </a:lnTo>
                    <a:lnTo>
                      <a:pt x="408" y="1961"/>
                    </a:lnTo>
                    <a:lnTo>
                      <a:pt x="465" y="2021"/>
                    </a:lnTo>
                    <a:lnTo>
                      <a:pt x="524" y="2078"/>
                    </a:lnTo>
                    <a:lnTo>
                      <a:pt x="584" y="2134"/>
                    </a:lnTo>
                    <a:lnTo>
                      <a:pt x="647" y="2187"/>
                    </a:lnTo>
                    <a:lnTo>
                      <a:pt x="711" y="2237"/>
                    </a:lnTo>
                    <a:lnTo>
                      <a:pt x="778" y="2286"/>
                    </a:lnTo>
                    <a:lnTo>
                      <a:pt x="846" y="2333"/>
                    </a:lnTo>
                    <a:lnTo>
                      <a:pt x="915" y="2377"/>
                    </a:lnTo>
                    <a:lnTo>
                      <a:pt x="986" y="2418"/>
                    </a:lnTo>
                    <a:lnTo>
                      <a:pt x="1059" y="2458"/>
                    </a:lnTo>
                    <a:lnTo>
                      <a:pt x="1134" y="2494"/>
                    </a:lnTo>
                    <a:lnTo>
                      <a:pt x="1210" y="2529"/>
                    </a:lnTo>
                    <a:lnTo>
                      <a:pt x="1287" y="2560"/>
                    </a:lnTo>
                    <a:lnTo>
                      <a:pt x="1366" y="2589"/>
                    </a:lnTo>
                    <a:lnTo>
                      <a:pt x="1445" y="2614"/>
                    </a:lnTo>
                    <a:lnTo>
                      <a:pt x="1527" y="2637"/>
                    </a:lnTo>
                    <a:lnTo>
                      <a:pt x="1609" y="2658"/>
                    </a:lnTo>
                    <a:lnTo>
                      <a:pt x="1693" y="2675"/>
                    </a:lnTo>
                    <a:lnTo>
                      <a:pt x="1778" y="2689"/>
                    </a:lnTo>
                    <a:lnTo>
                      <a:pt x="1863" y="2701"/>
                    </a:lnTo>
                    <a:lnTo>
                      <a:pt x="1949" y="2709"/>
                    </a:lnTo>
                    <a:lnTo>
                      <a:pt x="2037" y="2714"/>
                    </a:lnTo>
                    <a:lnTo>
                      <a:pt x="2125" y="2715"/>
                    </a:lnTo>
                    <a:lnTo>
                      <a:pt x="2245" y="2712"/>
                    </a:lnTo>
                    <a:lnTo>
                      <a:pt x="2363" y="2703"/>
                    </a:lnTo>
                    <a:lnTo>
                      <a:pt x="2480" y="2688"/>
                    </a:lnTo>
                    <a:lnTo>
                      <a:pt x="2595" y="2667"/>
                    </a:lnTo>
                    <a:lnTo>
                      <a:pt x="2707" y="2642"/>
                    </a:lnTo>
                    <a:lnTo>
                      <a:pt x="2818" y="2610"/>
                    </a:lnTo>
                    <a:lnTo>
                      <a:pt x="2926" y="2574"/>
                    </a:lnTo>
                    <a:lnTo>
                      <a:pt x="3032" y="2531"/>
                    </a:lnTo>
                    <a:lnTo>
                      <a:pt x="3135" y="2485"/>
                    </a:lnTo>
                    <a:lnTo>
                      <a:pt x="3235" y="2433"/>
                    </a:lnTo>
                    <a:lnTo>
                      <a:pt x="3333" y="2378"/>
                    </a:lnTo>
                    <a:lnTo>
                      <a:pt x="3428" y="2317"/>
                    </a:lnTo>
                    <a:lnTo>
                      <a:pt x="3519" y="2252"/>
                    </a:lnTo>
                    <a:lnTo>
                      <a:pt x="3608" y="2183"/>
                    </a:lnTo>
                    <a:lnTo>
                      <a:pt x="3692" y="2109"/>
                    </a:lnTo>
                    <a:lnTo>
                      <a:pt x="3773" y="2032"/>
                    </a:lnTo>
                    <a:lnTo>
                      <a:pt x="3850" y="1952"/>
                    </a:lnTo>
                    <a:lnTo>
                      <a:pt x="3923" y="1867"/>
                    </a:lnTo>
                    <a:lnTo>
                      <a:pt x="3992" y="1780"/>
                    </a:lnTo>
                    <a:lnTo>
                      <a:pt x="4058" y="1688"/>
                    </a:lnTo>
                    <a:lnTo>
                      <a:pt x="4118" y="1594"/>
                    </a:lnTo>
                    <a:lnTo>
                      <a:pt x="4174" y="1496"/>
                    </a:lnTo>
                    <a:lnTo>
                      <a:pt x="4226" y="1396"/>
                    </a:lnTo>
                    <a:lnTo>
                      <a:pt x="4272" y="1292"/>
                    </a:lnTo>
                    <a:lnTo>
                      <a:pt x="4314" y="1187"/>
                    </a:lnTo>
                    <a:lnTo>
                      <a:pt x="4351" y="1079"/>
                    </a:lnTo>
                    <a:lnTo>
                      <a:pt x="4382" y="968"/>
                    </a:lnTo>
                    <a:lnTo>
                      <a:pt x="4408" y="855"/>
                    </a:lnTo>
                    <a:lnTo>
                      <a:pt x="4429" y="741"/>
                    </a:lnTo>
                    <a:lnTo>
                      <a:pt x="4444" y="624"/>
                    </a:lnTo>
                    <a:lnTo>
                      <a:pt x="4452" y="506"/>
                    </a:lnTo>
                    <a:lnTo>
                      <a:pt x="4456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87640" y="4170240"/>
                <a:ext cx="1160640" cy="706680"/>
              </a:xfrm>
              <a:custGeom>
                <a:avLst/>
                <a:gdLst/>
                <a:ahLst/>
                <a:rect l="l" t="t" r="r" b="b"/>
                <a:pathLst>
                  <a:path w="4382" h="2669">
                    <a:moveTo>
                      <a:pt x="4382" y="386"/>
                    </a:moveTo>
                    <a:lnTo>
                      <a:pt x="4380" y="337"/>
                    </a:lnTo>
                    <a:lnTo>
                      <a:pt x="4379" y="288"/>
                    </a:lnTo>
                    <a:lnTo>
                      <a:pt x="4376" y="239"/>
                    </a:lnTo>
                    <a:lnTo>
                      <a:pt x="4372" y="190"/>
                    </a:lnTo>
                    <a:lnTo>
                      <a:pt x="4368" y="143"/>
                    </a:lnTo>
                    <a:lnTo>
                      <a:pt x="4362" y="94"/>
                    </a:lnTo>
                    <a:lnTo>
                      <a:pt x="4356" y="47"/>
                    </a:lnTo>
                    <a:lnTo>
                      <a:pt x="4348" y="0"/>
                    </a:lnTo>
                    <a:lnTo>
                      <a:pt x="4324" y="0"/>
                    </a:lnTo>
                    <a:lnTo>
                      <a:pt x="4254" y="0"/>
                    </a:lnTo>
                    <a:lnTo>
                      <a:pt x="4262" y="47"/>
                    </a:lnTo>
                    <a:lnTo>
                      <a:pt x="4269" y="94"/>
                    </a:lnTo>
                    <a:lnTo>
                      <a:pt x="4274" y="143"/>
                    </a:lnTo>
                    <a:lnTo>
                      <a:pt x="4279" y="190"/>
                    </a:lnTo>
                    <a:lnTo>
                      <a:pt x="4282" y="239"/>
                    </a:lnTo>
                    <a:lnTo>
                      <a:pt x="4286" y="288"/>
                    </a:lnTo>
                    <a:lnTo>
                      <a:pt x="4287" y="337"/>
                    </a:lnTo>
                    <a:lnTo>
                      <a:pt x="4288" y="386"/>
                    </a:lnTo>
                    <a:lnTo>
                      <a:pt x="4285" y="499"/>
                    </a:lnTo>
                    <a:lnTo>
                      <a:pt x="4277" y="610"/>
                    </a:lnTo>
                    <a:lnTo>
                      <a:pt x="4263" y="719"/>
                    </a:lnTo>
                    <a:lnTo>
                      <a:pt x="4243" y="828"/>
                    </a:lnTo>
                    <a:lnTo>
                      <a:pt x="4219" y="934"/>
                    </a:lnTo>
                    <a:lnTo>
                      <a:pt x="4189" y="1037"/>
                    </a:lnTo>
                    <a:lnTo>
                      <a:pt x="4154" y="1139"/>
                    </a:lnTo>
                    <a:lnTo>
                      <a:pt x="4115" y="1238"/>
                    </a:lnTo>
                    <a:lnTo>
                      <a:pt x="4071" y="1335"/>
                    </a:lnTo>
                    <a:lnTo>
                      <a:pt x="4023" y="1429"/>
                    </a:lnTo>
                    <a:lnTo>
                      <a:pt x="3971" y="1522"/>
                    </a:lnTo>
                    <a:lnTo>
                      <a:pt x="3913" y="1610"/>
                    </a:lnTo>
                    <a:lnTo>
                      <a:pt x="3852" y="1696"/>
                    </a:lnTo>
                    <a:lnTo>
                      <a:pt x="3788" y="1779"/>
                    </a:lnTo>
                    <a:lnTo>
                      <a:pt x="3718" y="1858"/>
                    </a:lnTo>
                    <a:lnTo>
                      <a:pt x="3646" y="1934"/>
                    </a:lnTo>
                    <a:lnTo>
                      <a:pt x="3570" y="2007"/>
                    </a:lnTo>
                    <a:lnTo>
                      <a:pt x="3490" y="2075"/>
                    </a:lnTo>
                    <a:lnTo>
                      <a:pt x="3408" y="2141"/>
                    </a:lnTo>
                    <a:lnTo>
                      <a:pt x="3322" y="2202"/>
                    </a:lnTo>
                    <a:lnTo>
                      <a:pt x="3233" y="2258"/>
                    </a:lnTo>
                    <a:lnTo>
                      <a:pt x="3142" y="2311"/>
                    </a:lnTo>
                    <a:lnTo>
                      <a:pt x="3047" y="2360"/>
                    </a:lnTo>
                    <a:lnTo>
                      <a:pt x="2950" y="2403"/>
                    </a:lnTo>
                    <a:lnTo>
                      <a:pt x="2850" y="2443"/>
                    </a:lnTo>
                    <a:lnTo>
                      <a:pt x="2748" y="2477"/>
                    </a:lnTo>
                    <a:lnTo>
                      <a:pt x="2645" y="2506"/>
                    </a:lnTo>
                    <a:lnTo>
                      <a:pt x="2538" y="2530"/>
                    </a:lnTo>
                    <a:lnTo>
                      <a:pt x="2431" y="2550"/>
                    </a:lnTo>
                    <a:lnTo>
                      <a:pt x="2322" y="2564"/>
                    </a:lnTo>
                    <a:lnTo>
                      <a:pt x="2210" y="2573"/>
                    </a:lnTo>
                    <a:lnTo>
                      <a:pt x="2097" y="2575"/>
                    </a:lnTo>
                    <a:lnTo>
                      <a:pt x="2009" y="2574"/>
                    </a:lnTo>
                    <a:lnTo>
                      <a:pt x="1923" y="2568"/>
                    </a:lnTo>
                    <a:lnTo>
                      <a:pt x="1836" y="2560"/>
                    </a:lnTo>
                    <a:lnTo>
                      <a:pt x="1751" y="2548"/>
                    </a:lnTo>
                    <a:lnTo>
                      <a:pt x="1666" y="2533"/>
                    </a:lnTo>
                    <a:lnTo>
                      <a:pt x="1583" y="2515"/>
                    </a:lnTo>
                    <a:lnTo>
                      <a:pt x="1502" y="2493"/>
                    </a:lnTo>
                    <a:lnTo>
                      <a:pt x="1422" y="2469"/>
                    </a:lnTo>
                    <a:lnTo>
                      <a:pt x="1342" y="2441"/>
                    </a:lnTo>
                    <a:lnTo>
                      <a:pt x="1265" y="2411"/>
                    </a:lnTo>
                    <a:lnTo>
                      <a:pt x="1188" y="2378"/>
                    </a:lnTo>
                    <a:lnTo>
                      <a:pt x="1114" y="2342"/>
                    </a:lnTo>
                    <a:lnTo>
                      <a:pt x="1040" y="2304"/>
                    </a:lnTo>
                    <a:lnTo>
                      <a:pt x="969" y="2263"/>
                    </a:lnTo>
                    <a:lnTo>
                      <a:pt x="899" y="2219"/>
                    </a:lnTo>
                    <a:lnTo>
                      <a:pt x="831" y="2173"/>
                    </a:lnTo>
                    <a:lnTo>
                      <a:pt x="766" y="2124"/>
                    </a:lnTo>
                    <a:lnTo>
                      <a:pt x="701" y="2073"/>
                    </a:lnTo>
                    <a:lnTo>
                      <a:pt x="639" y="2020"/>
                    </a:lnTo>
                    <a:lnTo>
                      <a:pt x="579" y="1964"/>
                    </a:lnTo>
                    <a:lnTo>
                      <a:pt x="521" y="1907"/>
                    </a:lnTo>
                    <a:lnTo>
                      <a:pt x="465" y="1847"/>
                    </a:lnTo>
                    <a:lnTo>
                      <a:pt x="412" y="1784"/>
                    </a:lnTo>
                    <a:lnTo>
                      <a:pt x="361" y="1720"/>
                    </a:lnTo>
                    <a:lnTo>
                      <a:pt x="311" y="1654"/>
                    </a:lnTo>
                    <a:lnTo>
                      <a:pt x="265" y="1586"/>
                    </a:lnTo>
                    <a:lnTo>
                      <a:pt x="221" y="1517"/>
                    </a:lnTo>
                    <a:lnTo>
                      <a:pt x="180" y="1445"/>
                    </a:lnTo>
                    <a:lnTo>
                      <a:pt x="141" y="1373"/>
                    </a:lnTo>
                    <a:lnTo>
                      <a:pt x="105" y="1298"/>
                    </a:lnTo>
                    <a:lnTo>
                      <a:pt x="72" y="1222"/>
                    </a:lnTo>
                    <a:lnTo>
                      <a:pt x="41" y="1143"/>
                    </a:lnTo>
                    <a:lnTo>
                      <a:pt x="34" y="1147"/>
                    </a:lnTo>
                    <a:lnTo>
                      <a:pt x="34" y="1224"/>
                    </a:lnTo>
                    <a:lnTo>
                      <a:pt x="0" y="1290"/>
                    </a:lnTo>
                    <a:lnTo>
                      <a:pt x="34" y="1366"/>
                    </a:lnTo>
                    <a:lnTo>
                      <a:pt x="70" y="1440"/>
                    </a:lnTo>
                    <a:lnTo>
                      <a:pt x="111" y="1511"/>
                    </a:lnTo>
                    <a:lnTo>
                      <a:pt x="152" y="1583"/>
                    </a:lnTo>
                    <a:lnTo>
                      <a:pt x="196" y="1651"/>
                    </a:lnTo>
                    <a:lnTo>
                      <a:pt x="243" y="1719"/>
                    </a:lnTo>
                    <a:lnTo>
                      <a:pt x="292" y="1784"/>
                    </a:lnTo>
                    <a:lnTo>
                      <a:pt x="344" y="1848"/>
                    </a:lnTo>
                    <a:lnTo>
                      <a:pt x="397" y="1909"/>
                    </a:lnTo>
                    <a:lnTo>
                      <a:pt x="452" y="1969"/>
                    </a:lnTo>
                    <a:lnTo>
                      <a:pt x="510" y="2026"/>
                    </a:lnTo>
                    <a:lnTo>
                      <a:pt x="570" y="2083"/>
                    </a:lnTo>
                    <a:lnTo>
                      <a:pt x="631" y="2136"/>
                    </a:lnTo>
                    <a:lnTo>
                      <a:pt x="695" y="2188"/>
                    </a:lnTo>
                    <a:lnTo>
                      <a:pt x="760" y="2236"/>
                    </a:lnTo>
                    <a:lnTo>
                      <a:pt x="828" y="2284"/>
                    </a:lnTo>
                    <a:lnTo>
                      <a:pt x="896" y="2327"/>
                    </a:lnTo>
                    <a:lnTo>
                      <a:pt x="966" y="2370"/>
                    </a:lnTo>
                    <a:lnTo>
                      <a:pt x="1039" y="2409"/>
                    </a:lnTo>
                    <a:lnTo>
                      <a:pt x="1113" y="2446"/>
                    </a:lnTo>
                    <a:lnTo>
                      <a:pt x="1188" y="2481"/>
                    </a:lnTo>
                    <a:lnTo>
                      <a:pt x="1265" y="2512"/>
                    </a:lnTo>
                    <a:lnTo>
                      <a:pt x="1342" y="2541"/>
                    </a:lnTo>
                    <a:lnTo>
                      <a:pt x="1422" y="2567"/>
                    </a:lnTo>
                    <a:lnTo>
                      <a:pt x="1503" y="2590"/>
                    </a:lnTo>
                    <a:lnTo>
                      <a:pt x="1585" y="2611"/>
                    </a:lnTo>
                    <a:lnTo>
                      <a:pt x="1668" y="2628"/>
                    </a:lnTo>
                    <a:lnTo>
                      <a:pt x="1752" y="2642"/>
                    </a:lnTo>
                    <a:lnTo>
                      <a:pt x="1836" y="2654"/>
                    </a:lnTo>
                    <a:lnTo>
                      <a:pt x="1923" y="2662"/>
                    </a:lnTo>
                    <a:lnTo>
                      <a:pt x="2009" y="2666"/>
                    </a:lnTo>
                    <a:lnTo>
                      <a:pt x="2097" y="2669"/>
                    </a:lnTo>
                    <a:lnTo>
                      <a:pt x="2214" y="2665"/>
                    </a:lnTo>
                    <a:lnTo>
                      <a:pt x="2331" y="2657"/>
                    </a:lnTo>
                    <a:lnTo>
                      <a:pt x="2445" y="2642"/>
                    </a:lnTo>
                    <a:lnTo>
                      <a:pt x="2557" y="2622"/>
                    </a:lnTo>
                    <a:lnTo>
                      <a:pt x="2668" y="2597"/>
                    </a:lnTo>
                    <a:lnTo>
                      <a:pt x="2776" y="2566"/>
                    </a:lnTo>
                    <a:lnTo>
                      <a:pt x="2882" y="2530"/>
                    </a:lnTo>
                    <a:lnTo>
                      <a:pt x="2986" y="2489"/>
                    </a:lnTo>
                    <a:lnTo>
                      <a:pt x="3087" y="2444"/>
                    </a:lnTo>
                    <a:lnTo>
                      <a:pt x="3186" y="2393"/>
                    </a:lnTo>
                    <a:lnTo>
                      <a:pt x="3281" y="2338"/>
                    </a:lnTo>
                    <a:lnTo>
                      <a:pt x="3374" y="2279"/>
                    </a:lnTo>
                    <a:lnTo>
                      <a:pt x="3463" y="2214"/>
                    </a:lnTo>
                    <a:lnTo>
                      <a:pt x="3550" y="2148"/>
                    </a:lnTo>
                    <a:lnTo>
                      <a:pt x="3633" y="2075"/>
                    </a:lnTo>
                    <a:lnTo>
                      <a:pt x="3713" y="2000"/>
                    </a:lnTo>
                    <a:lnTo>
                      <a:pt x="3788" y="1920"/>
                    </a:lnTo>
                    <a:lnTo>
                      <a:pt x="3859" y="1837"/>
                    </a:lnTo>
                    <a:lnTo>
                      <a:pt x="3927" y="1752"/>
                    </a:lnTo>
                    <a:lnTo>
                      <a:pt x="3991" y="1662"/>
                    </a:lnTo>
                    <a:lnTo>
                      <a:pt x="4051" y="1570"/>
                    </a:lnTo>
                    <a:lnTo>
                      <a:pt x="4105" y="1474"/>
                    </a:lnTo>
                    <a:lnTo>
                      <a:pt x="4156" y="1375"/>
                    </a:lnTo>
                    <a:lnTo>
                      <a:pt x="4202" y="1274"/>
                    </a:lnTo>
                    <a:lnTo>
                      <a:pt x="4242" y="1171"/>
                    </a:lnTo>
                    <a:lnTo>
                      <a:pt x="4278" y="1065"/>
                    </a:lnTo>
                    <a:lnTo>
                      <a:pt x="4309" y="957"/>
                    </a:lnTo>
                    <a:lnTo>
                      <a:pt x="4334" y="846"/>
                    </a:lnTo>
                    <a:lnTo>
                      <a:pt x="4355" y="733"/>
                    </a:lnTo>
                    <a:lnTo>
                      <a:pt x="4369" y="619"/>
                    </a:lnTo>
                    <a:lnTo>
                      <a:pt x="4378" y="504"/>
                    </a:lnTo>
                    <a:lnTo>
                      <a:pt x="4382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5560" y="4164120"/>
                <a:ext cx="1139760" cy="699840"/>
              </a:xfrm>
              <a:custGeom>
                <a:avLst/>
                <a:gdLst/>
                <a:ahLst/>
                <a:rect l="l" t="t" r="r" b="b"/>
                <a:pathLst>
                  <a:path w="4307" h="2644">
                    <a:moveTo>
                      <a:pt x="4307" y="409"/>
                    </a:moveTo>
                    <a:lnTo>
                      <a:pt x="4307" y="360"/>
                    </a:lnTo>
                    <a:lnTo>
                      <a:pt x="4305" y="311"/>
                    </a:lnTo>
                    <a:lnTo>
                      <a:pt x="4303" y="262"/>
                    </a:lnTo>
                    <a:lnTo>
                      <a:pt x="4299" y="213"/>
                    </a:lnTo>
                    <a:lnTo>
                      <a:pt x="4295" y="166"/>
                    </a:lnTo>
                    <a:lnTo>
                      <a:pt x="4289" y="117"/>
                    </a:lnTo>
                    <a:lnTo>
                      <a:pt x="4282" y="70"/>
                    </a:lnTo>
                    <a:lnTo>
                      <a:pt x="4274" y="23"/>
                    </a:lnTo>
                    <a:lnTo>
                      <a:pt x="4220" y="23"/>
                    </a:lnTo>
                    <a:lnTo>
                      <a:pt x="4175" y="0"/>
                    </a:lnTo>
                    <a:lnTo>
                      <a:pt x="4184" y="49"/>
                    </a:lnTo>
                    <a:lnTo>
                      <a:pt x="4192" y="100"/>
                    </a:lnTo>
                    <a:lnTo>
                      <a:pt x="4199" y="151"/>
                    </a:lnTo>
                    <a:lnTo>
                      <a:pt x="4205" y="202"/>
                    </a:lnTo>
                    <a:lnTo>
                      <a:pt x="4208" y="252"/>
                    </a:lnTo>
                    <a:lnTo>
                      <a:pt x="4212" y="304"/>
                    </a:lnTo>
                    <a:lnTo>
                      <a:pt x="4214" y="356"/>
                    </a:lnTo>
                    <a:lnTo>
                      <a:pt x="4214" y="409"/>
                    </a:lnTo>
                    <a:lnTo>
                      <a:pt x="4212" y="519"/>
                    </a:lnTo>
                    <a:lnTo>
                      <a:pt x="4204" y="628"/>
                    </a:lnTo>
                    <a:lnTo>
                      <a:pt x="4190" y="735"/>
                    </a:lnTo>
                    <a:lnTo>
                      <a:pt x="4170" y="840"/>
                    </a:lnTo>
                    <a:lnTo>
                      <a:pt x="4147" y="944"/>
                    </a:lnTo>
                    <a:lnTo>
                      <a:pt x="4118" y="1047"/>
                    </a:lnTo>
                    <a:lnTo>
                      <a:pt x="4084" y="1146"/>
                    </a:lnTo>
                    <a:lnTo>
                      <a:pt x="4045" y="1243"/>
                    </a:lnTo>
                    <a:lnTo>
                      <a:pt x="4003" y="1338"/>
                    </a:lnTo>
                    <a:lnTo>
                      <a:pt x="3956" y="1430"/>
                    </a:lnTo>
                    <a:lnTo>
                      <a:pt x="3904" y="1520"/>
                    </a:lnTo>
                    <a:lnTo>
                      <a:pt x="3848" y="1607"/>
                    </a:lnTo>
                    <a:lnTo>
                      <a:pt x="3788" y="1691"/>
                    </a:lnTo>
                    <a:lnTo>
                      <a:pt x="3725" y="1772"/>
                    </a:lnTo>
                    <a:lnTo>
                      <a:pt x="3657" y="1850"/>
                    </a:lnTo>
                    <a:lnTo>
                      <a:pt x="3586" y="1924"/>
                    </a:lnTo>
                    <a:lnTo>
                      <a:pt x="3511" y="1995"/>
                    </a:lnTo>
                    <a:lnTo>
                      <a:pt x="3434" y="2062"/>
                    </a:lnTo>
                    <a:lnTo>
                      <a:pt x="3352" y="2126"/>
                    </a:lnTo>
                    <a:lnTo>
                      <a:pt x="3269" y="2186"/>
                    </a:lnTo>
                    <a:lnTo>
                      <a:pt x="3182" y="2242"/>
                    </a:lnTo>
                    <a:lnTo>
                      <a:pt x="3092" y="2293"/>
                    </a:lnTo>
                    <a:lnTo>
                      <a:pt x="2999" y="2340"/>
                    </a:lnTo>
                    <a:lnTo>
                      <a:pt x="2905" y="2383"/>
                    </a:lnTo>
                    <a:lnTo>
                      <a:pt x="2807" y="2422"/>
                    </a:lnTo>
                    <a:lnTo>
                      <a:pt x="2708" y="2455"/>
                    </a:lnTo>
                    <a:lnTo>
                      <a:pt x="2606" y="2484"/>
                    </a:lnTo>
                    <a:lnTo>
                      <a:pt x="2502" y="2508"/>
                    </a:lnTo>
                    <a:lnTo>
                      <a:pt x="2396" y="2527"/>
                    </a:lnTo>
                    <a:lnTo>
                      <a:pt x="2289" y="2541"/>
                    </a:lnTo>
                    <a:lnTo>
                      <a:pt x="2180" y="2549"/>
                    </a:lnTo>
                    <a:lnTo>
                      <a:pt x="2070" y="2552"/>
                    </a:lnTo>
                    <a:lnTo>
                      <a:pt x="1984" y="2550"/>
                    </a:lnTo>
                    <a:lnTo>
                      <a:pt x="1899" y="2545"/>
                    </a:lnTo>
                    <a:lnTo>
                      <a:pt x="1814" y="2537"/>
                    </a:lnTo>
                    <a:lnTo>
                      <a:pt x="1731" y="2524"/>
                    </a:lnTo>
                    <a:lnTo>
                      <a:pt x="1648" y="2511"/>
                    </a:lnTo>
                    <a:lnTo>
                      <a:pt x="1567" y="2492"/>
                    </a:lnTo>
                    <a:lnTo>
                      <a:pt x="1487" y="2471"/>
                    </a:lnTo>
                    <a:lnTo>
                      <a:pt x="1408" y="2447"/>
                    </a:lnTo>
                    <a:lnTo>
                      <a:pt x="1330" y="2421"/>
                    </a:lnTo>
                    <a:lnTo>
                      <a:pt x="1254" y="2391"/>
                    </a:lnTo>
                    <a:lnTo>
                      <a:pt x="1179" y="2358"/>
                    </a:lnTo>
                    <a:lnTo>
                      <a:pt x="1107" y="2324"/>
                    </a:lnTo>
                    <a:lnTo>
                      <a:pt x="1034" y="2286"/>
                    </a:lnTo>
                    <a:lnTo>
                      <a:pt x="965" y="2245"/>
                    </a:lnTo>
                    <a:lnTo>
                      <a:pt x="897" y="2202"/>
                    </a:lnTo>
                    <a:lnTo>
                      <a:pt x="830" y="2157"/>
                    </a:lnTo>
                    <a:lnTo>
                      <a:pt x="765" y="2109"/>
                    </a:lnTo>
                    <a:lnTo>
                      <a:pt x="702" y="2059"/>
                    </a:lnTo>
                    <a:lnTo>
                      <a:pt x="641" y="2007"/>
                    </a:lnTo>
                    <a:lnTo>
                      <a:pt x="583" y="1951"/>
                    </a:lnTo>
                    <a:lnTo>
                      <a:pt x="525" y="1895"/>
                    </a:lnTo>
                    <a:lnTo>
                      <a:pt x="471" y="1836"/>
                    </a:lnTo>
                    <a:lnTo>
                      <a:pt x="418" y="1775"/>
                    </a:lnTo>
                    <a:lnTo>
                      <a:pt x="368" y="1712"/>
                    </a:lnTo>
                    <a:lnTo>
                      <a:pt x="320" y="1647"/>
                    </a:lnTo>
                    <a:lnTo>
                      <a:pt x="275" y="1581"/>
                    </a:lnTo>
                    <a:lnTo>
                      <a:pt x="232" y="1512"/>
                    </a:lnTo>
                    <a:lnTo>
                      <a:pt x="192" y="1443"/>
                    </a:lnTo>
                    <a:lnTo>
                      <a:pt x="154" y="1371"/>
                    </a:lnTo>
                    <a:lnTo>
                      <a:pt x="119" y="1298"/>
                    </a:lnTo>
                    <a:lnTo>
                      <a:pt x="87" y="1223"/>
                    </a:lnTo>
                    <a:lnTo>
                      <a:pt x="57" y="1147"/>
                    </a:lnTo>
                    <a:lnTo>
                      <a:pt x="7" y="1170"/>
                    </a:lnTo>
                    <a:lnTo>
                      <a:pt x="7" y="1247"/>
                    </a:lnTo>
                    <a:lnTo>
                      <a:pt x="0" y="1260"/>
                    </a:lnTo>
                    <a:lnTo>
                      <a:pt x="34" y="1335"/>
                    </a:lnTo>
                    <a:lnTo>
                      <a:pt x="69" y="1410"/>
                    </a:lnTo>
                    <a:lnTo>
                      <a:pt x="107" y="1481"/>
                    </a:lnTo>
                    <a:lnTo>
                      <a:pt x="148" y="1553"/>
                    </a:lnTo>
                    <a:lnTo>
                      <a:pt x="191" y="1622"/>
                    </a:lnTo>
                    <a:lnTo>
                      <a:pt x="236" y="1690"/>
                    </a:lnTo>
                    <a:lnTo>
                      <a:pt x="284" y="1756"/>
                    </a:lnTo>
                    <a:lnTo>
                      <a:pt x="334" y="1819"/>
                    </a:lnTo>
                    <a:lnTo>
                      <a:pt x="387" y="1881"/>
                    </a:lnTo>
                    <a:lnTo>
                      <a:pt x="441" y="1941"/>
                    </a:lnTo>
                    <a:lnTo>
                      <a:pt x="498" y="1999"/>
                    </a:lnTo>
                    <a:lnTo>
                      <a:pt x="556" y="2055"/>
                    </a:lnTo>
                    <a:lnTo>
                      <a:pt x="618" y="2109"/>
                    </a:lnTo>
                    <a:lnTo>
                      <a:pt x="680" y="2160"/>
                    </a:lnTo>
                    <a:lnTo>
                      <a:pt x="744" y="2210"/>
                    </a:lnTo>
                    <a:lnTo>
                      <a:pt x="811" y="2257"/>
                    </a:lnTo>
                    <a:lnTo>
                      <a:pt x="879" y="2302"/>
                    </a:lnTo>
                    <a:lnTo>
                      <a:pt x="949" y="2345"/>
                    </a:lnTo>
                    <a:lnTo>
                      <a:pt x="1020" y="2384"/>
                    </a:lnTo>
                    <a:lnTo>
                      <a:pt x="1093" y="2421"/>
                    </a:lnTo>
                    <a:lnTo>
                      <a:pt x="1168" y="2455"/>
                    </a:lnTo>
                    <a:lnTo>
                      <a:pt x="1244" y="2488"/>
                    </a:lnTo>
                    <a:lnTo>
                      <a:pt x="1321" y="2516"/>
                    </a:lnTo>
                    <a:lnTo>
                      <a:pt x="1400" y="2543"/>
                    </a:lnTo>
                    <a:lnTo>
                      <a:pt x="1480" y="2566"/>
                    </a:lnTo>
                    <a:lnTo>
                      <a:pt x="1561" y="2587"/>
                    </a:lnTo>
                    <a:lnTo>
                      <a:pt x="1643" y="2604"/>
                    </a:lnTo>
                    <a:lnTo>
                      <a:pt x="1727" y="2619"/>
                    </a:lnTo>
                    <a:lnTo>
                      <a:pt x="1811" y="2630"/>
                    </a:lnTo>
                    <a:lnTo>
                      <a:pt x="1897" y="2639"/>
                    </a:lnTo>
                    <a:lnTo>
                      <a:pt x="1983" y="2643"/>
                    </a:lnTo>
                    <a:lnTo>
                      <a:pt x="2070" y="2644"/>
                    </a:lnTo>
                    <a:lnTo>
                      <a:pt x="2185" y="2642"/>
                    </a:lnTo>
                    <a:lnTo>
                      <a:pt x="2299" y="2633"/>
                    </a:lnTo>
                    <a:lnTo>
                      <a:pt x="2411" y="2619"/>
                    </a:lnTo>
                    <a:lnTo>
                      <a:pt x="2521" y="2599"/>
                    </a:lnTo>
                    <a:lnTo>
                      <a:pt x="2629" y="2574"/>
                    </a:lnTo>
                    <a:lnTo>
                      <a:pt x="2735" y="2544"/>
                    </a:lnTo>
                    <a:lnTo>
                      <a:pt x="2839" y="2509"/>
                    </a:lnTo>
                    <a:lnTo>
                      <a:pt x="2941" y="2469"/>
                    </a:lnTo>
                    <a:lnTo>
                      <a:pt x="3040" y="2424"/>
                    </a:lnTo>
                    <a:lnTo>
                      <a:pt x="3137" y="2375"/>
                    </a:lnTo>
                    <a:lnTo>
                      <a:pt x="3230" y="2322"/>
                    </a:lnTo>
                    <a:lnTo>
                      <a:pt x="3321" y="2263"/>
                    </a:lnTo>
                    <a:lnTo>
                      <a:pt x="3409" y="2200"/>
                    </a:lnTo>
                    <a:lnTo>
                      <a:pt x="3493" y="2135"/>
                    </a:lnTo>
                    <a:lnTo>
                      <a:pt x="3575" y="2064"/>
                    </a:lnTo>
                    <a:lnTo>
                      <a:pt x="3652" y="1990"/>
                    </a:lnTo>
                    <a:lnTo>
                      <a:pt x="3726" y="1912"/>
                    </a:lnTo>
                    <a:lnTo>
                      <a:pt x="3796" y="1832"/>
                    </a:lnTo>
                    <a:lnTo>
                      <a:pt x="3863" y="1746"/>
                    </a:lnTo>
                    <a:lnTo>
                      <a:pt x="3926" y="1659"/>
                    </a:lnTo>
                    <a:lnTo>
                      <a:pt x="3983" y="1569"/>
                    </a:lnTo>
                    <a:lnTo>
                      <a:pt x="4037" y="1474"/>
                    </a:lnTo>
                    <a:lnTo>
                      <a:pt x="4087" y="1379"/>
                    </a:lnTo>
                    <a:lnTo>
                      <a:pt x="4132" y="1279"/>
                    </a:lnTo>
                    <a:lnTo>
                      <a:pt x="4171" y="1178"/>
                    </a:lnTo>
                    <a:lnTo>
                      <a:pt x="4207" y="1074"/>
                    </a:lnTo>
                    <a:lnTo>
                      <a:pt x="4237" y="968"/>
                    </a:lnTo>
                    <a:lnTo>
                      <a:pt x="4262" y="860"/>
                    </a:lnTo>
                    <a:lnTo>
                      <a:pt x="4282" y="749"/>
                    </a:lnTo>
                    <a:lnTo>
                      <a:pt x="4296" y="637"/>
                    </a:lnTo>
                    <a:lnTo>
                      <a:pt x="4305" y="524"/>
                    </a:lnTo>
                    <a:lnTo>
                      <a:pt x="4307" y="40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98800" y="4159080"/>
                <a:ext cx="1123920" cy="692280"/>
              </a:xfrm>
              <a:custGeom>
                <a:avLst/>
                <a:gdLst/>
                <a:ahLst/>
                <a:rect l="l" t="t" r="r" b="b"/>
                <a:pathLst>
                  <a:path w="4247" h="2615">
                    <a:moveTo>
                      <a:pt x="4247" y="426"/>
                    </a:moveTo>
                    <a:lnTo>
                      <a:pt x="4246" y="377"/>
                    </a:lnTo>
                    <a:lnTo>
                      <a:pt x="4245" y="328"/>
                    </a:lnTo>
                    <a:lnTo>
                      <a:pt x="4241" y="279"/>
                    </a:lnTo>
                    <a:lnTo>
                      <a:pt x="4238" y="230"/>
                    </a:lnTo>
                    <a:lnTo>
                      <a:pt x="4233" y="183"/>
                    </a:lnTo>
                    <a:lnTo>
                      <a:pt x="4228" y="134"/>
                    </a:lnTo>
                    <a:lnTo>
                      <a:pt x="4221" y="87"/>
                    </a:lnTo>
                    <a:lnTo>
                      <a:pt x="4213" y="40"/>
                    </a:lnTo>
                    <a:lnTo>
                      <a:pt x="4206" y="40"/>
                    </a:lnTo>
                    <a:lnTo>
                      <a:pt x="4128" y="0"/>
                    </a:lnTo>
                    <a:lnTo>
                      <a:pt x="4110" y="0"/>
                    </a:lnTo>
                    <a:lnTo>
                      <a:pt x="4120" y="51"/>
                    </a:lnTo>
                    <a:lnTo>
                      <a:pt x="4130" y="103"/>
                    </a:lnTo>
                    <a:lnTo>
                      <a:pt x="4136" y="156"/>
                    </a:lnTo>
                    <a:lnTo>
                      <a:pt x="4142" y="209"/>
                    </a:lnTo>
                    <a:lnTo>
                      <a:pt x="4147" y="264"/>
                    </a:lnTo>
                    <a:lnTo>
                      <a:pt x="4150" y="317"/>
                    </a:lnTo>
                    <a:lnTo>
                      <a:pt x="4153" y="371"/>
                    </a:lnTo>
                    <a:lnTo>
                      <a:pt x="4154" y="426"/>
                    </a:lnTo>
                    <a:lnTo>
                      <a:pt x="4150" y="533"/>
                    </a:lnTo>
                    <a:lnTo>
                      <a:pt x="4142" y="641"/>
                    </a:lnTo>
                    <a:lnTo>
                      <a:pt x="4130" y="745"/>
                    </a:lnTo>
                    <a:lnTo>
                      <a:pt x="4111" y="848"/>
                    </a:lnTo>
                    <a:lnTo>
                      <a:pt x="4088" y="949"/>
                    </a:lnTo>
                    <a:lnTo>
                      <a:pt x="4059" y="1049"/>
                    </a:lnTo>
                    <a:lnTo>
                      <a:pt x="4026" y="1147"/>
                    </a:lnTo>
                    <a:lnTo>
                      <a:pt x="3989" y="1242"/>
                    </a:lnTo>
                    <a:lnTo>
                      <a:pt x="3946" y="1334"/>
                    </a:lnTo>
                    <a:lnTo>
                      <a:pt x="3900" y="1426"/>
                    </a:lnTo>
                    <a:lnTo>
                      <a:pt x="3850" y="1513"/>
                    </a:lnTo>
                    <a:lnTo>
                      <a:pt x="3795" y="1597"/>
                    </a:lnTo>
                    <a:lnTo>
                      <a:pt x="3736" y="1680"/>
                    </a:lnTo>
                    <a:lnTo>
                      <a:pt x="3675" y="1759"/>
                    </a:lnTo>
                    <a:lnTo>
                      <a:pt x="3608" y="1835"/>
                    </a:lnTo>
                    <a:lnTo>
                      <a:pt x="3539" y="1909"/>
                    </a:lnTo>
                    <a:lnTo>
                      <a:pt x="3466" y="1978"/>
                    </a:lnTo>
                    <a:lnTo>
                      <a:pt x="3390" y="2043"/>
                    </a:lnTo>
                    <a:lnTo>
                      <a:pt x="3311" y="2106"/>
                    </a:lnTo>
                    <a:lnTo>
                      <a:pt x="3229" y="2164"/>
                    </a:lnTo>
                    <a:lnTo>
                      <a:pt x="3143" y="2219"/>
                    </a:lnTo>
                    <a:lnTo>
                      <a:pt x="3056" y="2269"/>
                    </a:lnTo>
                    <a:lnTo>
                      <a:pt x="2966" y="2315"/>
                    </a:lnTo>
                    <a:lnTo>
                      <a:pt x="2872" y="2357"/>
                    </a:lnTo>
                    <a:lnTo>
                      <a:pt x="2778" y="2395"/>
                    </a:lnTo>
                    <a:lnTo>
                      <a:pt x="2680" y="2427"/>
                    </a:lnTo>
                    <a:lnTo>
                      <a:pt x="2581" y="2456"/>
                    </a:lnTo>
                    <a:lnTo>
                      <a:pt x="2479" y="2479"/>
                    </a:lnTo>
                    <a:lnTo>
                      <a:pt x="2375" y="2498"/>
                    </a:lnTo>
                    <a:lnTo>
                      <a:pt x="2270" y="2511"/>
                    </a:lnTo>
                    <a:lnTo>
                      <a:pt x="2164" y="2520"/>
                    </a:lnTo>
                    <a:lnTo>
                      <a:pt x="2056" y="2522"/>
                    </a:lnTo>
                    <a:lnTo>
                      <a:pt x="1972" y="2521"/>
                    </a:lnTo>
                    <a:lnTo>
                      <a:pt x="1887" y="2515"/>
                    </a:lnTo>
                    <a:lnTo>
                      <a:pt x="1804" y="2507"/>
                    </a:lnTo>
                    <a:lnTo>
                      <a:pt x="1721" y="2495"/>
                    </a:lnTo>
                    <a:lnTo>
                      <a:pt x="1640" y="2480"/>
                    </a:lnTo>
                    <a:lnTo>
                      <a:pt x="1560" y="2463"/>
                    </a:lnTo>
                    <a:lnTo>
                      <a:pt x="1481" y="2442"/>
                    </a:lnTo>
                    <a:lnTo>
                      <a:pt x="1404" y="2418"/>
                    </a:lnTo>
                    <a:lnTo>
                      <a:pt x="1328" y="2392"/>
                    </a:lnTo>
                    <a:lnTo>
                      <a:pt x="1253" y="2363"/>
                    </a:lnTo>
                    <a:lnTo>
                      <a:pt x="1179" y="2330"/>
                    </a:lnTo>
                    <a:lnTo>
                      <a:pt x="1106" y="2296"/>
                    </a:lnTo>
                    <a:lnTo>
                      <a:pt x="1036" y="2258"/>
                    </a:lnTo>
                    <a:lnTo>
                      <a:pt x="968" y="2217"/>
                    </a:lnTo>
                    <a:lnTo>
                      <a:pt x="900" y="2175"/>
                    </a:lnTo>
                    <a:lnTo>
                      <a:pt x="835" y="2130"/>
                    </a:lnTo>
                    <a:lnTo>
                      <a:pt x="772" y="2083"/>
                    </a:lnTo>
                    <a:lnTo>
                      <a:pt x="710" y="2033"/>
                    </a:lnTo>
                    <a:lnTo>
                      <a:pt x="650" y="1981"/>
                    </a:lnTo>
                    <a:lnTo>
                      <a:pt x="592" y="1927"/>
                    </a:lnTo>
                    <a:lnTo>
                      <a:pt x="537" y="1871"/>
                    </a:lnTo>
                    <a:lnTo>
                      <a:pt x="484" y="1812"/>
                    </a:lnTo>
                    <a:lnTo>
                      <a:pt x="432" y="1752"/>
                    </a:lnTo>
                    <a:lnTo>
                      <a:pt x="383" y="1690"/>
                    </a:lnTo>
                    <a:lnTo>
                      <a:pt x="336" y="1626"/>
                    </a:lnTo>
                    <a:lnTo>
                      <a:pt x="292" y="1559"/>
                    </a:lnTo>
                    <a:lnTo>
                      <a:pt x="251" y="1492"/>
                    </a:lnTo>
                    <a:lnTo>
                      <a:pt x="211" y="1422"/>
                    </a:lnTo>
                    <a:lnTo>
                      <a:pt x="174" y="1352"/>
                    </a:lnTo>
                    <a:lnTo>
                      <a:pt x="140" y="1279"/>
                    </a:lnTo>
                    <a:lnTo>
                      <a:pt x="109" y="1205"/>
                    </a:lnTo>
                    <a:lnTo>
                      <a:pt x="80" y="1129"/>
                    </a:lnTo>
                    <a:lnTo>
                      <a:pt x="71" y="1151"/>
                    </a:lnTo>
                    <a:lnTo>
                      <a:pt x="0" y="1183"/>
                    </a:lnTo>
                    <a:lnTo>
                      <a:pt x="31" y="1262"/>
                    </a:lnTo>
                    <a:lnTo>
                      <a:pt x="64" y="1338"/>
                    </a:lnTo>
                    <a:lnTo>
                      <a:pt x="100" y="1413"/>
                    </a:lnTo>
                    <a:lnTo>
                      <a:pt x="139" y="1485"/>
                    </a:lnTo>
                    <a:lnTo>
                      <a:pt x="180" y="1557"/>
                    </a:lnTo>
                    <a:lnTo>
                      <a:pt x="224" y="1626"/>
                    </a:lnTo>
                    <a:lnTo>
                      <a:pt x="270" y="1694"/>
                    </a:lnTo>
                    <a:lnTo>
                      <a:pt x="320" y="1760"/>
                    </a:lnTo>
                    <a:lnTo>
                      <a:pt x="371" y="1824"/>
                    </a:lnTo>
                    <a:lnTo>
                      <a:pt x="424" y="1887"/>
                    </a:lnTo>
                    <a:lnTo>
                      <a:pt x="480" y="1947"/>
                    </a:lnTo>
                    <a:lnTo>
                      <a:pt x="538" y="2004"/>
                    </a:lnTo>
                    <a:lnTo>
                      <a:pt x="598" y="2060"/>
                    </a:lnTo>
                    <a:lnTo>
                      <a:pt x="660" y="2113"/>
                    </a:lnTo>
                    <a:lnTo>
                      <a:pt x="725" y="2164"/>
                    </a:lnTo>
                    <a:lnTo>
                      <a:pt x="790" y="2213"/>
                    </a:lnTo>
                    <a:lnTo>
                      <a:pt x="858" y="2259"/>
                    </a:lnTo>
                    <a:lnTo>
                      <a:pt x="928" y="2303"/>
                    </a:lnTo>
                    <a:lnTo>
                      <a:pt x="999" y="2344"/>
                    </a:lnTo>
                    <a:lnTo>
                      <a:pt x="1073" y="2382"/>
                    </a:lnTo>
                    <a:lnTo>
                      <a:pt x="1147" y="2418"/>
                    </a:lnTo>
                    <a:lnTo>
                      <a:pt x="1224" y="2451"/>
                    </a:lnTo>
                    <a:lnTo>
                      <a:pt x="1301" y="2481"/>
                    </a:lnTo>
                    <a:lnTo>
                      <a:pt x="1381" y="2509"/>
                    </a:lnTo>
                    <a:lnTo>
                      <a:pt x="1461" y="2533"/>
                    </a:lnTo>
                    <a:lnTo>
                      <a:pt x="1542" y="2555"/>
                    </a:lnTo>
                    <a:lnTo>
                      <a:pt x="1625" y="2573"/>
                    </a:lnTo>
                    <a:lnTo>
                      <a:pt x="1710" y="2588"/>
                    </a:lnTo>
                    <a:lnTo>
                      <a:pt x="1795" y="2600"/>
                    </a:lnTo>
                    <a:lnTo>
                      <a:pt x="1882" y="2608"/>
                    </a:lnTo>
                    <a:lnTo>
                      <a:pt x="1968" y="2614"/>
                    </a:lnTo>
                    <a:lnTo>
                      <a:pt x="2056" y="2615"/>
                    </a:lnTo>
                    <a:lnTo>
                      <a:pt x="2169" y="2613"/>
                    </a:lnTo>
                    <a:lnTo>
                      <a:pt x="2281" y="2604"/>
                    </a:lnTo>
                    <a:lnTo>
                      <a:pt x="2390" y="2590"/>
                    </a:lnTo>
                    <a:lnTo>
                      <a:pt x="2497" y="2570"/>
                    </a:lnTo>
                    <a:lnTo>
                      <a:pt x="2604" y="2546"/>
                    </a:lnTo>
                    <a:lnTo>
                      <a:pt x="2707" y="2517"/>
                    </a:lnTo>
                    <a:lnTo>
                      <a:pt x="2809" y="2483"/>
                    </a:lnTo>
                    <a:lnTo>
                      <a:pt x="2909" y="2443"/>
                    </a:lnTo>
                    <a:lnTo>
                      <a:pt x="3006" y="2400"/>
                    </a:lnTo>
                    <a:lnTo>
                      <a:pt x="3101" y="2351"/>
                    </a:lnTo>
                    <a:lnTo>
                      <a:pt x="3192" y="2298"/>
                    </a:lnTo>
                    <a:lnTo>
                      <a:pt x="3281" y="2242"/>
                    </a:lnTo>
                    <a:lnTo>
                      <a:pt x="3367" y="2181"/>
                    </a:lnTo>
                    <a:lnTo>
                      <a:pt x="3449" y="2115"/>
                    </a:lnTo>
                    <a:lnTo>
                      <a:pt x="3529" y="2047"/>
                    </a:lnTo>
                    <a:lnTo>
                      <a:pt x="3605" y="1974"/>
                    </a:lnTo>
                    <a:lnTo>
                      <a:pt x="3677" y="1898"/>
                    </a:lnTo>
                    <a:lnTo>
                      <a:pt x="3747" y="1819"/>
                    </a:lnTo>
                    <a:lnTo>
                      <a:pt x="3811" y="1736"/>
                    </a:lnTo>
                    <a:lnTo>
                      <a:pt x="3872" y="1650"/>
                    </a:lnTo>
                    <a:lnTo>
                      <a:pt x="3930" y="1562"/>
                    </a:lnTo>
                    <a:lnTo>
                      <a:pt x="3982" y="1469"/>
                    </a:lnTo>
                    <a:lnTo>
                      <a:pt x="4030" y="1375"/>
                    </a:lnTo>
                    <a:lnTo>
                      <a:pt x="4074" y="1278"/>
                    </a:lnTo>
                    <a:lnTo>
                      <a:pt x="4113" y="1179"/>
                    </a:lnTo>
                    <a:lnTo>
                      <a:pt x="4148" y="1077"/>
                    </a:lnTo>
                    <a:lnTo>
                      <a:pt x="4178" y="974"/>
                    </a:lnTo>
                    <a:lnTo>
                      <a:pt x="4202" y="868"/>
                    </a:lnTo>
                    <a:lnTo>
                      <a:pt x="4222" y="759"/>
                    </a:lnTo>
                    <a:lnTo>
                      <a:pt x="4236" y="650"/>
                    </a:lnTo>
                    <a:lnTo>
                      <a:pt x="4244" y="539"/>
                    </a:lnTo>
                    <a:lnTo>
                      <a:pt x="4247" y="42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430360" y="3583080"/>
              <a:ext cx="4235400" cy="1639800"/>
              <a:chOff x="2430360" y="3583080"/>
              <a:chExt cx="4235400" cy="1639800"/>
            </a:xfrm>
          </p:grpSpPr>
          <p:sp>
            <p:nvSpPr>
              <p:cNvPr id="314" name=""/>
              <p:cNvSpPr/>
              <p:nvPr/>
            </p:nvSpPr>
            <p:spPr>
              <a:xfrm>
                <a:off x="3009960" y="4159080"/>
                <a:ext cx="1100160" cy="679680"/>
              </a:xfrm>
              <a:custGeom>
                <a:avLst/>
                <a:gdLst/>
                <a:ahLst/>
                <a:rect l="l" t="t" r="r" b="b"/>
                <a:pathLst>
                  <a:path w="4157" h="2569">
                    <a:moveTo>
                      <a:pt x="4157" y="426"/>
                    </a:moveTo>
                    <a:lnTo>
                      <a:pt x="4157" y="373"/>
                    </a:lnTo>
                    <a:lnTo>
                      <a:pt x="4155" y="321"/>
                    </a:lnTo>
                    <a:lnTo>
                      <a:pt x="4151" y="269"/>
                    </a:lnTo>
                    <a:lnTo>
                      <a:pt x="4148" y="219"/>
                    </a:lnTo>
                    <a:lnTo>
                      <a:pt x="4142" y="168"/>
                    </a:lnTo>
                    <a:lnTo>
                      <a:pt x="4135" y="117"/>
                    </a:lnTo>
                    <a:lnTo>
                      <a:pt x="4127" y="66"/>
                    </a:lnTo>
                    <a:lnTo>
                      <a:pt x="4118" y="17"/>
                    </a:lnTo>
                    <a:lnTo>
                      <a:pt x="4085" y="0"/>
                    </a:lnTo>
                    <a:lnTo>
                      <a:pt x="4020" y="0"/>
                    </a:lnTo>
                    <a:lnTo>
                      <a:pt x="4030" y="51"/>
                    </a:lnTo>
                    <a:lnTo>
                      <a:pt x="4039" y="103"/>
                    </a:lnTo>
                    <a:lnTo>
                      <a:pt x="4046" y="156"/>
                    </a:lnTo>
                    <a:lnTo>
                      <a:pt x="4053" y="209"/>
                    </a:lnTo>
                    <a:lnTo>
                      <a:pt x="4058" y="264"/>
                    </a:lnTo>
                    <a:lnTo>
                      <a:pt x="4061" y="317"/>
                    </a:lnTo>
                    <a:lnTo>
                      <a:pt x="4063" y="371"/>
                    </a:lnTo>
                    <a:lnTo>
                      <a:pt x="4065" y="426"/>
                    </a:lnTo>
                    <a:lnTo>
                      <a:pt x="4061" y="531"/>
                    </a:lnTo>
                    <a:lnTo>
                      <a:pt x="4053" y="636"/>
                    </a:lnTo>
                    <a:lnTo>
                      <a:pt x="4040" y="739"/>
                    </a:lnTo>
                    <a:lnTo>
                      <a:pt x="4022" y="839"/>
                    </a:lnTo>
                    <a:lnTo>
                      <a:pt x="3999" y="938"/>
                    </a:lnTo>
                    <a:lnTo>
                      <a:pt x="3972" y="1036"/>
                    </a:lnTo>
                    <a:lnTo>
                      <a:pt x="3940" y="1130"/>
                    </a:lnTo>
                    <a:lnTo>
                      <a:pt x="3903" y="1224"/>
                    </a:lnTo>
                    <a:lnTo>
                      <a:pt x="3862" y="1315"/>
                    </a:lnTo>
                    <a:lnTo>
                      <a:pt x="3817" y="1402"/>
                    </a:lnTo>
                    <a:lnTo>
                      <a:pt x="3767" y="1489"/>
                    </a:lnTo>
                    <a:lnTo>
                      <a:pt x="3714" y="1572"/>
                    </a:lnTo>
                    <a:lnTo>
                      <a:pt x="3656" y="1653"/>
                    </a:lnTo>
                    <a:lnTo>
                      <a:pt x="3595" y="1730"/>
                    </a:lnTo>
                    <a:lnTo>
                      <a:pt x="3531" y="1804"/>
                    </a:lnTo>
                    <a:lnTo>
                      <a:pt x="3464" y="1875"/>
                    </a:lnTo>
                    <a:lnTo>
                      <a:pt x="3392" y="1943"/>
                    </a:lnTo>
                    <a:lnTo>
                      <a:pt x="3317" y="2008"/>
                    </a:lnTo>
                    <a:lnTo>
                      <a:pt x="3240" y="2069"/>
                    </a:lnTo>
                    <a:lnTo>
                      <a:pt x="3159" y="2125"/>
                    </a:lnTo>
                    <a:lnTo>
                      <a:pt x="3076" y="2179"/>
                    </a:lnTo>
                    <a:lnTo>
                      <a:pt x="2991" y="2228"/>
                    </a:lnTo>
                    <a:lnTo>
                      <a:pt x="2902" y="2274"/>
                    </a:lnTo>
                    <a:lnTo>
                      <a:pt x="2811" y="2314"/>
                    </a:lnTo>
                    <a:lnTo>
                      <a:pt x="2719" y="2351"/>
                    </a:lnTo>
                    <a:lnTo>
                      <a:pt x="2623" y="2383"/>
                    </a:lnTo>
                    <a:lnTo>
                      <a:pt x="2526" y="2411"/>
                    </a:lnTo>
                    <a:lnTo>
                      <a:pt x="2427" y="2434"/>
                    </a:lnTo>
                    <a:lnTo>
                      <a:pt x="2325" y="2451"/>
                    </a:lnTo>
                    <a:lnTo>
                      <a:pt x="2223" y="2465"/>
                    </a:lnTo>
                    <a:lnTo>
                      <a:pt x="2119" y="2473"/>
                    </a:lnTo>
                    <a:lnTo>
                      <a:pt x="2013" y="2476"/>
                    </a:lnTo>
                    <a:lnTo>
                      <a:pt x="1929" y="2473"/>
                    </a:lnTo>
                    <a:lnTo>
                      <a:pt x="1844" y="2469"/>
                    </a:lnTo>
                    <a:lnTo>
                      <a:pt x="1762" y="2461"/>
                    </a:lnTo>
                    <a:lnTo>
                      <a:pt x="1681" y="2449"/>
                    </a:lnTo>
                    <a:lnTo>
                      <a:pt x="1600" y="2434"/>
                    </a:lnTo>
                    <a:lnTo>
                      <a:pt x="1519" y="2416"/>
                    </a:lnTo>
                    <a:lnTo>
                      <a:pt x="1441" y="2395"/>
                    </a:lnTo>
                    <a:lnTo>
                      <a:pt x="1364" y="2371"/>
                    </a:lnTo>
                    <a:lnTo>
                      <a:pt x="1288" y="2344"/>
                    </a:lnTo>
                    <a:lnTo>
                      <a:pt x="1213" y="2314"/>
                    </a:lnTo>
                    <a:lnTo>
                      <a:pt x="1141" y="2282"/>
                    </a:lnTo>
                    <a:lnTo>
                      <a:pt x="1069" y="2246"/>
                    </a:lnTo>
                    <a:lnTo>
                      <a:pt x="1000" y="2208"/>
                    </a:lnTo>
                    <a:lnTo>
                      <a:pt x="932" y="2168"/>
                    </a:lnTo>
                    <a:lnTo>
                      <a:pt x="865" y="2124"/>
                    </a:lnTo>
                    <a:lnTo>
                      <a:pt x="800" y="2079"/>
                    </a:lnTo>
                    <a:lnTo>
                      <a:pt x="738" y="2031"/>
                    </a:lnTo>
                    <a:lnTo>
                      <a:pt x="677" y="1981"/>
                    </a:lnTo>
                    <a:lnTo>
                      <a:pt x="618" y="1928"/>
                    </a:lnTo>
                    <a:lnTo>
                      <a:pt x="562" y="1874"/>
                    </a:lnTo>
                    <a:lnTo>
                      <a:pt x="506" y="1816"/>
                    </a:lnTo>
                    <a:lnTo>
                      <a:pt x="454" y="1758"/>
                    </a:lnTo>
                    <a:lnTo>
                      <a:pt x="404" y="1696"/>
                    </a:lnTo>
                    <a:lnTo>
                      <a:pt x="356" y="1634"/>
                    </a:lnTo>
                    <a:lnTo>
                      <a:pt x="311" y="1570"/>
                    </a:lnTo>
                    <a:lnTo>
                      <a:pt x="268" y="1503"/>
                    </a:lnTo>
                    <a:lnTo>
                      <a:pt x="227" y="1435"/>
                    </a:lnTo>
                    <a:lnTo>
                      <a:pt x="190" y="1364"/>
                    </a:lnTo>
                    <a:lnTo>
                      <a:pt x="155" y="1293"/>
                    </a:lnTo>
                    <a:lnTo>
                      <a:pt x="122" y="1220"/>
                    </a:lnTo>
                    <a:lnTo>
                      <a:pt x="92" y="1147"/>
                    </a:lnTo>
                    <a:lnTo>
                      <a:pt x="66" y="1071"/>
                    </a:lnTo>
                    <a:lnTo>
                      <a:pt x="65" y="1074"/>
                    </a:lnTo>
                    <a:lnTo>
                      <a:pt x="28" y="1151"/>
                    </a:lnTo>
                    <a:lnTo>
                      <a:pt x="0" y="1164"/>
                    </a:lnTo>
                    <a:lnTo>
                      <a:pt x="30" y="1240"/>
                    </a:lnTo>
                    <a:lnTo>
                      <a:pt x="62" y="1315"/>
                    </a:lnTo>
                    <a:lnTo>
                      <a:pt x="97" y="1388"/>
                    </a:lnTo>
                    <a:lnTo>
                      <a:pt x="135" y="1460"/>
                    </a:lnTo>
                    <a:lnTo>
                      <a:pt x="175" y="1529"/>
                    </a:lnTo>
                    <a:lnTo>
                      <a:pt x="218" y="1598"/>
                    </a:lnTo>
                    <a:lnTo>
                      <a:pt x="263" y="1664"/>
                    </a:lnTo>
                    <a:lnTo>
                      <a:pt x="311" y="1729"/>
                    </a:lnTo>
                    <a:lnTo>
                      <a:pt x="361" y="1792"/>
                    </a:lnTo>
                    <a:lnTo>
                      <a:pt x="414" y="1853"/>
                    </a:lnTo>
                    <a:lnTo>
                      <a:pt x="468" y="1912"/>
                    </a:lnTo>
                    <a:lnTo>
                      <a:pt x="526" y="1968"/>
                    </a:lnTo>
                    <a:lnTo>
                      <a:pt x="584" y="2024"/>
                    </a:lnTo>
                    <a:lnTo>
                      <a:pt x="645" y="2076"/>
                    </a:lnTo>
                    <a:lnTo>
                      <a:pt x="708" y="2126"/>
                    </a:lnTo>
                    <a:lnTo>
                      <a:pt x="773" y="2174"/>
                    </a:lnTo>
                    <a:lnTo>
                      <a:pt x="840" y="2219"/>
                    </a:lnTo>
                    <a:lnTo>
                      <a:pt x="908" y="2262"/>
                    </a:lnTo>
                    <a:lnTo>
                      <a:pt x="977" y="2303"/>
                    </a:lnTo>
                    <a:lnTo>
                      <a:pt x="1050" y="2341"/>
                    </a:lnTo>
                    <a:lnTo>
                      <a:pt x="1122" y="2375"/>
                    </a:lnTo>
                    <a:lnTo>
                      <a:pt x="1197" y="2408"/>
                    </a:lnTo>
                    <a:lnTo>
                      <a:pt x="1273" y="2438"/>
                    </a:lnTo>
                    <a:lnTo>
                      <a:pt x="1351" y="2464"/>
                    </a:lnTo>
                    <a:lnTo>
                      <a:pt x="1430" y="2488"/>
                    </a:lnTo>
                    <a:lnTo>
                      <a:pt x="1510" y="2509"/>
                    </a:lnTo>
                    <a:lnTo>
                      <a:pt x="1591" y="2528"/>
                    </a:lnTo>
                    <a:lnTo>
                      <a:pt x="1674" y="2541"/>
                    </a:lnTo>
                    <a:lnTo>
                      <a:pt x="1757" y="2554"/>
                    </a:lnTo>
                    <a:lnTo>
                      <a:pt x="1842" y="2562"/>
                    </a:lnTo>
                    <a:lnTo>
                      <a:pt x="1927" y="2567"/>
                    </a:lnTo>
                    <a:lnTo>
                      <a:pt x="2013" y="2569"/>
                    </a:lnTo>
                    <a:lnTo>
                      <a:pt x="2123" y="2566"/>
                    </a:lnTo>
                    <a:lnTo>
                      <a:pt x="2232" y="2558"/>
                    </a:lnTo>
                    <a:lnTo>
                      <a:pt x="2339" y="2544"/>
                    </a:lnTo>
                    <a:lnTo>
                      <a:pt x="2445" y="2525"/>
                    </a:lnTo>
                    <a:lnTo>
                      <a:pt x="2549" y="2501"/>
                    </a:lnTo>
                    <a:lnTo>
                      <a:pt x="2651" y="2472"/>
                    </a:lnTo>
                    <a:lnTo>
                      <a:pt x="2750" y="2439"/>
                    </a:lnTo>
                    <a:lnTo>
                      <a:pt x="2848" y="2400"/>
                    </a:lnTo>
                    <a:lnTo>
                      <a:pt x="2942" y="2357"/>
                    </a:lnTo>
                    <a:lnTo>
                      <a:pt x="3035" y="2310"/>
                    </a:lnTo>
                    <a:lnTo>
                      <a:pt x="3125" y="2259"/>
                    </a:lnTo>
                    <a:lnTo>
                      <a:pt x="3212" y="2203"/>
                    </a:lnTo>
                    <a:lnTo>
                      <a:pt x="3295" y="2143"/>
                    </a:lnTo>
                    <a:lnTo>
                      <a:pt x="3377" y="2079"/>
                    </a:lnTo>
                    <a:lnTo>
                      <a:pt x="3454" y="2012"/>
                    </a:lnTo>
                    <a:lnTo>
                      <a:pt x="3529" y="1941"/>
                    </a:lnTo>
                    <a:lnTo>
                      <a:pt x="3600" y="1867"/>
                    </a:lnTo>
                    <a:lnTo>
                      <a:pt x="3668" y="1789"/>
                    </a:lnTo>
                    <a:lnTo>
                      <a:pt x="3731" y="1708"/>
                    </a:lnTo>
                    <a:lnTo>
                      <a:pt x="3791" y="1624"/>
                    </a:lnTo>
                    <a:lnTo>
                      <a:pt x="3847" y="1537"/>
                    </a:lnTo>
                    <a:lnTo>
                      <a:pt x="3899" y="1447"/>
                    </a:lnTo>
                    <a:lnTo>
                      <a:pt x="3946" y="1355"/>
                    </a:lnTo>
                    <a:lnTo>
                      <a:pt x="3988" y="1260"/>
                    </a:lnTo>
                    <a:lnTo>
                      <a:pt x="4027" y="1163"/>
                    </a:lnTo>
                    <a:lnTo>
                      <a:pt x="4061" y="1064"/>
                    </a:lnTo>
                    <a:lnTo>
                      <a:pt x="4090" y="961"/>
                    </a:lnTo>
                    <a:lnTo>
                      <a:pt x="4113" y="857"/>
                    </a:lnTo>
                    <a:lnTo>
                      <a:pt x="4133" y="752"/>
                    </a:lnTo>
                    <a:lnTo>
                      <a:pt x="4147" y="645"/>
                    </a:lnTo>
                    <a:lnTo>
                      <a:pt x="4155" y="536"/>
                    </a:lnTo>
                    <a:lnTo>
                      <a:pt x="4157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19320" y="4159080"/>
                <a:ext cx="1077840" cy="667080"/>
              </a:xfrm>
              <a:custGeom>
                <a:avLst/>
                <a:gdLst/>
                <a:ahLst/>
                <a:rect l="l" t="t" r="r" b="b"/>
                <a:pathLst>
                  <a:path w="4074" h="2522">
                    <a:moveTo>
                      <a:pt x="4074" y="426"/>
                    </a:moveTo>
                    <a:lnTo>
                      <a:pt x="4073" y="371"/>
                    </a:lnTo>
                    <a:lnTo>
                      <a:pt x="4071" y="317"/>
                    </a:lnTo>
                    <a:lnTo>
                      <a:pt x="4067" y="264"/>
                    </a:lnTo>
                    <a:lnTo>
                      <a:pt x="4062" y="209"/>
                    </a:lnTo>
                    <a:lnTo>
                      <a:pt x="4056" y="156"/>
                    </a:lnTo>
                    <a:lnTo>
                      <a:pt x="4050" y="103"/>
                    </a:lnTo>
                    <a:lnTo>
                      <a:pt x="4040" y="51"/>
                    </a:lnTo>
                    <a:lnTo>
                      <a:pt x="4030" y="0"/>
                    </a:lnTo>
                    <a:lnTo>
                      <a:pt x="3971" y="0"/>
                    </a:lnTo>
                    <a:lnTo>
                      <a:pt x="3935" y="0"/>
                    </a:lnTo>
                    <a:lnTo>
                      <a:pt x="3946" y="51"/>
                    </a:lnTo>
                    <a:lnTo>
                      <a:pt x="3955" y="103"/>
                    </a:lnTo>
                    <a:lnTo>
                      <a:pt x="3962" y="156"/>
                    </a:lnTo>
                    <a:lnTo>
                      <a:pt x="3969" y="209"/>
                    </a:lnTo>
                    <a:lnTo>
                      <a:pt x="3973" y="264"/>
                    </a:lnTo>
                    <a:lnTo>
                      <a:pt x="3978" y="317"/>
                    </a:lnTo>
                    <a:lnTo>
                      <a:pt x="3979" y="371"/>
                    </a:lnTo>
                    <a:lnTo>
                      <a:pt x="3980" y="426"/>
                    </a:lnTo>
                    <a:lnTo>
                      <a:pt x="3978" y="529"/>
                    </a:lnTo>
                    <a:lnTo>
                      <a:pt x="3970" y="630"/>
                    </a:lnTo>
                    <a:lnTo>
                      <a:pt x="3957" y="730"/>
                    </a:lnTo>
                    <a:lnTo>
                      <a:pt x="3940" y="830"/>
                    </a:lnTo>
                    <a:lnTo>
                      <a:pt x="3917" y="926"/>
                    </a:lnTo>
                    <a:lnTo>
                      <a:pt x="3890" y="1022"/>
                    </a:lnTo>
                    <a:lnTo>
                      <a:pt x="3859" y="1114"/>
                    </a:lnTo>
                    <a:lnTo>
                      <a:pt x="3822" y="1205"/>
                    </a:lnTo>
                    <a:lnTo>
                      <a:pt x="3783" y="1294"/>
                    </a:lnTo>
                    <a:lnTo>
                      <a:pt x="3738" y="1381"/>
                    </a:lnTo>
                    <a:lnTo>
                      <a:pt x="3690" y="1465"/>
                    </a:lnTo>
                    <a:lnTo>
                      <a:pt x="3638" y="1545"/>
                    </a:lnTo>
                    <a:lnTo>
                      <a:pt x="3582" y="1624"/>
                    </a:lnTo>
                    <a:lnTo>
                      <a:pt x="3522" y="1700"/>
                    </a:lnTo>
                    <a:lnTo>
                      <a:pt x="3460" y="1773"/>
                    </a:lnTo>
                    <a:lnTo>
                      <a:pt x="3393" y="1842"/>
                    </a:lnTo>
                    <a:lnTo>
                      <a:pt x="3324" y="1909"/>
                    </a:lnTo>
                    <a:lnTo>
                      <a:pt x="3251" y="1972"/>
                    </a:lnTo>
                    <a:lnTo>
                      <a:pt x="3175" y="2031"/>
                    </a:lnTo>
                    <a:lnTo>
                      <a:pt x="3097" y="2087"/>
                    </a:lnTo>
                    <a:lnTo>
                      <a:pt x="3015" y="2139"/>
                    </a:lnTo>
                    <a:lnTo>
                      <a:pt x="2932" y="2188"/>
                    </a:lnTo>
                    <a:lnTo>
                      <a:pt x="2845" y="2231"/>
                    </a:lnTo>
                    <a:lnTo>
                      <a:pt x="2757" y="2272"/>
                    </a:lnTo>
                    <a:lnTo>
                      <a:pt x="2665" y="2307"/>
                    </a:lnTo>
                    <a:lnTo>
                      <a:pt x="2572" y="2339"/>
                    </a:lnTo>
                    <a:lnTo>
                      <a:pt x="2477" y="2366"/>
                    </a:lnTo>
                    <a:lnTo>
                      <a:pt x="2381" y="2388"/>
                    </a:lnTo>
                    <a:lnTo>
                      <a:pt x="2281" y="2405"/>
                    </a:lnTo>
                    <a:lnTo>
                      <a:pt x="2181" y="2418"/>
                    </a:lnTo>
                    <a:lnTo>
                      <a:pt x="2080" y="2426"/>
                    </a:lnTo>
                    <a:lnTo>
                      <a:pt x="1976" y="2428"/>
                    </a:lnTo>
                    <a:lnTo>
                      <a:pt x="1892" y="2427"/>
                    </a:lnTo>
                    <a:lnTo>
                      <a:pt x="1808" y="2422"/>
                    </a:lnTo>
                    <a:lnTo>
                      <a:pt x="1727" y="2413"/>
                    </a:lnTo>
                    <a:lnTo>
                      <a:pt x="1645" y="2402"/>
                    </a:lnTo>
                    <a:lnTo>
                      <a:pt x="1565" y="2387"/>
                    </a:lnTo>
                    <a:lnTo>
                      <a:pt x="1485" y="2369"/>
                    </a:lnTo>
                    <a:lnTo>
                      <a:pt x="1407" y="2348"/>
                    </a:lnTo>
                    <a:lnTo>
                      <a:pt x="1331" y="2322"/>
                    </a:lnTo>
                    <a:lnTo>
                      <a:pt x="1256" y="2296"/>
                    </a:lnTo>
                    <a:lnTo>
                      <a:pt x="1182" y="2266"/>
                    </a:lnTo>
                    <a:lnTo>
                      <a:pt x="1109" y="2232"/>
                    </a:lnTo>
                    <a:lnTo>
                      <a:pt x="1039" y="2197"/>
                    </a:lnTo>
                    <a:lnTo>
                      <a:pt x="970" y="2159"/>
                    </a:lnTo>
                    <a:lnTo>
                      <a:pt x="903" y="2117"/>
                    </a:lnTo>
                    <a:lnTo>
                      <a:pt x="837" y="2075"/>
                    </a:lnTo>
                    <a:lnTo>
                      <a:pt x="773" y="2028"/>
                    </a:lnTo>
                    <a:lnTo>
                      <a:pt x="712" y="1980"/>
                    </a:lnTo>
                    <a:lnTo>
                      <a:pt x="652" y="1929"/>
                    </a:lnTo>
                    <a:lnTo>
                      <a:pt x="594" y="1876"/>
                    </a:lnTo>
                    <a:lnTo>
                      <a:pt x="537" y="1821"/>
                    </a:lnTo>
                    <a:lnTo>
                      <a:pt x="484" y="1763"/>
                    </a:lnTo>
                    <a:lnTo>
                      <a:pt x="434" y="1705"/>
                    </a:lnTo>
                    <a:lnTo>
                      <a:pt x="384" y="1642"/>
                    </a:lnTo>
                    <a:lnTo>
                      <a:pt x="338" y="1579"/>
                    </a:lnTo>
                    <a:lnTo>
                      <a:pt x="294" y="1514"/>
                    </a:lnTo>
                    <a:lnTo>
                      <a:pt x="251" y="1447"/>
                    </a:lnTo>
                    <a:lnTo>
                      <a:pt x="213" y="1378"/>
                    </a:lnTo>
                    <a:lnTo>
                      <a:pt x="176" y="1308"/>
                    </a:lnTo>
                    <a:lnTo>
                      <a:pt x="143" y="1237"/>
                    </a:lnTo>
                    <a:lnTo>
                      <a:pt x="112" y="1163"/>
                    </a:lnTo>
                    <a:lnTo>
                      <a:pt x="84" y="1088"/>
                    </a:lnTo>
                    <a:lnTo>
                      <a:pt x="60" y="1012"/>
                    </a:lnTo>
                    <a:lnTo>
                      <a:pt x="28" y="1074"/>
                    </a:lnTo>
                    <a:lnTo>
                      <a:pt x="0" y="1129"/>
                    </a:lnTo>
                    <a:lnTo>
                      <a:pt x="29" y="1205"/>
                    </a:lnTo>
                    <a:lnTo>
                      <a:pt x="60" y="1279"/>
                    </a:lnTo>
                    <a:lnTo>
                      <a:pt x="94" y="1352"/>
                    </a:lnTo>
                    <a:lnTo>
                      <a:pt x="131" y="1423"/>
                    </a:lnTo>
                    <a:lnTo>
                      <a:pt x="171" y="1492"/>
                    </a:lnTo>
                    <a:lnTo>
                      <a:pt x="212" y="1559"/>
                    </a:lnTo>
                    <a:lnTo>
                      <a:pt x="256" y="1626"/>
                    </a:lnTo>
                    <a:lnTo>
                      <a:pt x="303" y="1690"/>
                    </a:lnTo>
                    <a:lnTo>
                      <a:pt x="352" y="1752"/>
                    </a:lnTo>
                    <a:lnTo>
                      <a:pt x="404" y="1813"/>
                    </a:lnTo>
                    <a:lnTo>
                      <a:pt x="457" y="1871"/>
                    </a:lnTo>
                    <a:lnTo>
                      <a:pt x="512" y="1927"/>
                    </a:lnTo>
                    <a:lnTo>
                      <a:pt x="570" y="1981"/>
                    </a:lnTo>
                    <a:lnTo>
                      <a:pt x="630" y="2033"/>
                    </a:lnTo>
                    <a:lnTo>
                      <a:pt x="692" y="2083"/>
                    </a:lnTo>
                    <a:lnTo>
                      <a:pt x="755" y="2130"/>
                    </a:lnTo>
                    <a:lnTo>
                      <a:pt x="820" y="2175"/>
                    </a:lnTo>
                    <a:lnTo>
                      <a:pt x="888" y="2217"/>
                    </a:lnTo>
                    <a:lnTo>
                      <a:pt x="956" y="2258"/>
                    </a:lnTo>
                    <a:lnTo>
                      <a:pt x="1026" y="2296"/>
                    </a:lnTo>
                    <a:lnTo>
                      <a:pt x="1099" y="2330"/>
                    </a:lnTo>
                    <a:lnTo>
                      <a:pt x="1173" y="2363"/>
                    </a:lnTo>
                    <a:lnTo>
                      <a:pt x="1248" y="2392"/>
                    </a:lnTo>
                    <a:lnTo>
                      <a:pt x="1324" y="2419"/>
                    </a:lnTo>
                    <a:lnTo>
                      <a:pt x="1401" y="2442"/>
                    </a:lnTo>
                    <a:lnTo>
                      <a:pt x="1480" y="2463"/>
                    </a:lnTo>
                    <a:lnTo>
                      <a:pt x="1560" y="2481"/>
                    </a:lnTo>
                    <a:lnTo>
                      <a:pt x="1641" y="2495"/>
                    </a:lnTo>
                    <a:lnTo>
                      <a:pt x="1724" y="2507"/>
                    </a:lnTo>
                    <a:lnTo>
                      <a:pt x="1807" y="2515"/>
                    </a:lnTo>
                    <a:lnTo>
                      <a:pt x="1892" y="2521"/>
                    </a:lnTo>
                    <a:lnTo>
                      <a:pt x="1976" y="2522"/>
                    </a:lnTo>
                    <a:lnTo>
                      <a:pt x="2084" y="2520"/>
                    </a:lnTo>
                    <a:lnTo>
                      <a:pt x="2190" y="2511"/>
                    </a:lnTo>
                    <a:lnTo>
                      <a:pt x="2295" y="2498"/>
                    </a:lnTo>
                    <a:lnTo>
                      <a:pt x="2399" y="2479"/>
                    </a:lnTo>
                    <a:lnTo>
                      <a:pt x="2501" y="2456"/>
                    </a:lnTo>
                    <a:lnTo>
                      <a:pt x="2600" y="2428"/>
                    </a:lnTo>
                    <a:lnTo>
                      <a:pt x="2698" y="2395"/>
                    </a:lnTo>
                    <a:lnTo>
                      <a:pt x="2792" y="2357"/>
                    </a:lnTo>
                    <a:lnTo>
                      <a:pt x="2886" y="2315"/>
                    </a:lnTo>
                    <a:lnTo>
                      <a:pt x="2976" y="2269"/>
                    </a:lnTo>
                    <a:lnTo>
                      <a:pt x="3063" y="2219"/>
                    </a:lnTo>
                    <a:lnTo>
                      <a:pt x="3149" y="2164"/>
                    </a:lnTo>
                    <a:lnTo>
                      <a:pt x="3231" y="2106"/>
                    </a:lnTo>
                    <a:lnTo>
                      <a:pt x="3310" y="2043"/>
                    </a:lnTo>
                    <a:lnTo>
                      <a:pt x="3386" y="1978"/>
                    </a:lnTo>
                    <a:lnTo>
                      <a:pt x="3459" y="1909"/>
                    </a:lnTo>
                    <a:lnTo>
                      <a:pt x="3528" y="1835"/>
                    </a:lnTo>
                    <a:lnTo>
                      <a:pt x="3595" y="1760"/>
                    </a:lnTo>
                    <a:lnTo>
                      <a:pt x="3656" y="1680"/>
                    </a:lnTo>
                    <a:lnTo>
                      <a:pt x="3715" y="1597"/>
                    </a:lnTo>
                    <a:lnTo>
                      <a:pt x="3770" y="1513"/>
                    </a:lnTo>
                    <a:lnTo>
                      <a:pt x="3820" y="1426"/>
                    </a:lnTo>
                    <a:lnTo>
                      <a:pt x="3866" y="1334"/>
                    </a:lnTo>
                    <a:lnTo>
                      <a:pt x="3909" y="1242"/>
                    </a:lnTo>
                    <a:lnTo>
                      <a:pt x="3946" y="1147"/>
                    </a:lnTo>
                    <a:lnTo>
                      <a:pt x="3979" y="1050"/>
                    </a:lnTo>
                    <a:lnTo>
                      <a:pt x="4008" y="949"/>
                    </a:lnTo>
                    <a:lnTo>
                      <a:pt x="4031" y="848"/>
                    </a:lnTo>
                    <a:lnTo>
                      <a:pt x="4050" y="745"/>
                    </a:lnTo>
                    <a:lnTo>
                      <a:pt x="4063" y="641"/>
                    </a:lnTo>
                    <a:lnTo>
                      <a:pt x="4071" y="533"/>
                    </a:lnTo>
                    <a:lnTo>
                      <a:pt x="4074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7240" y="4159080"/>
                <a:ext cx="1059120" cy="655920"/>
              </a:xfrm>
              <a:custGeom>
                <a:avLst/>
                <a:gdLst/>
                <a:ahLst/>
                <a:rect l="l" t="t" r="r" b="b"/>
                <a:pathLst>
                  <a:path w="3999" h="2476">
                    <a:moveTo>
                      <a:pt x="3999" y="426"/>
                    </a:moveTo>
                    <a:lnTo>
                      <a:pt x="3997" y="371"/>
                    </a:lnTo>
                    <a:lnTo>
                      <a:pt x="3995" y="317"/>
                    </a:lnTo>
                    <a:lnTo>
                      <a:pt x="3992" y="264"/>
                    </a:lnTo>
                    <a:lnTo>
                      <a:pt x="3987" y="209"/>
                    </a:lnTo>
                    <a:lnTo>
                      <a:pt x="3980" y="156"/>
                    </a:lnTo>
                    <a:lnTo>
                      <a:pt x="3973" y="103"/>
                    </a:lnTo>
                    <a:lnTo>
                      <a:pt x="3964" y="51"/>
                    </a:lnTo>
                    <a:lnTo>
                      <a:pt x="3954" y="0"/>
                    </a:lnTo>
                    <a:lnTo>
                      <a:pt x="3942" y="0"/>
                    </a:lnTo>
                    <a:lnTo>
                      <a:pt x="3858" y="0"/>
                    </a:lnTo>
                    <a:lnTo>
                      <a:pt x="3868" y="51"/>
                    </a:lnTo>
                    <a:lnTo>
                      <a:pt x="3879" y="103"/>
                    </a:lnTo>
                    <a:lnTo>
                      <a:pt x="3887" y="156"/>
                    </a:lnTo>
                    <a:lnTo>
                      <a:pt x="3893" y="209"/>
                    </a:lnTo>
                    <a:lnTo>
                      <a:pt x="3898" y="262"/>
                    </a:lnTo>
                    <a:lnTo>
                      <a:pt x="3902" y="317"/>
                    </a:lnTo>
                    <a:lnTo>
                      <a:pt x="3904" y="371"/>
                    </a:lnTo>
                    <a:lnTo>
                      <a:pt x="3905" y="426"/>
                    </a:lnTo>
                    <a:lnTo>
                      <a:pt x="3902" y="526"/>
                    </a:lnTo>
                    <a:lnTo>
                      <a:pt x="3895" y="626"/>
                    </a:lnTo>
                    <a:lnTo>
                      <a:pt x="3882" y="724"/>
                    </a:lnTo>
                    <a:lnTo>
                      <a:pt x="3865" y="820"/>
                    </a:lnTo>
                    <a:lnTo>
                      <a:pt x="3843" y="915"/>
                    </a:lnTo>
                    <a:lnTo>
                      <a:pt x="3816" y="1008"/>
                    </a:lnTo>
                    <a:lnTo>
                      <a:pt x="3786" y="1098"/>
                    </a:lnTo>
                    <a:lnTo>
                      <a:pt x="3751" y="1187"/>
                    </a:lnTo>
                    <a:lnTo>
                      <a:pt x="3711" y="1275"/>
                    </a:lnTo>
                    <a:lnTo>
                      <a:pt x="3669" y="1359"/>
                    </a:lnTo>
                    <a:lnTo>
                      <a:pt x="3621" y="1441"/>
                    </a:lnTo>
                    <a:lnTo>
                      <a:pt x="3571" y="1520"/>
                    </a:lnTo>
                    <a:lnTo>
                      <a:pt x="3515" y="1596"/>
                    </a:lnTo>
                    <a:lnTo>
                      <a:pt x="3458" y="1670"/>
                    </a:lnTo>
                    <a:lnTo>
                      <a:pt x="3397" y="1741"/>
                    </a:lnTo>
                    <a:lnTo>
                      <a:pt x="3331" y="1809"/>
                    </a:lnTo>
                    <a:lnTo>
                      <a:pt x="3263" y="1874"/>
                    </a:lnTo>
                    <a:lnTo>
                      <a:pt x="3192" y="1935"/>
                    </a:lnTo>
                    <a:lnTo>
                      <a:pt x="3119" y="1994"/>
                    </a:lnTo>
                    <a:lnTo>
                      <a:pt x="3041" y="2048"/>
                    </a:lnTo>
                    <a:lnTo>
                      <a:pt x="2962" y="2099"/>
                    </a:lnTo>
                    <a:lnTo>
                      <a:pt x="2880" y="2146"/>
                    </a:lnTo>
                    <a:lnTo>
                      <a:pt x="2796" y="2190"/>
                    </a:lnTo>
                    <a:lnTo>
                      <a:pt x="2709" y="2229"/>
                    </a:lnTo>
                    <a:lnTo>
                      <a:pt x="2620" y="2264"/>
                    </a:lnTo>
                    <a:lnTo>
                      <a:pt x="2529" y="2295"/>
                    </a:lnTo>
                    <a:lnTo>
                      <a:pt x="2436" y="2321"/>
                    </a:lnTo>
                    <a:lnTo>
                      <a:pt x="2341" y="2342"/>
                    </a:lnTo>
                    <a:lnTo>
                      <a:pt x="2245" y="2359"/>
                    </a:lnTo>
                    <a:lnTo>
                      <a:pt x="2147" y="2372"/>
                    </a:lnTo>
                    <a:lnTo>
                      <a:pt x="2048" y="2380"/>
                    </a:lnTo>
                    <a:lnTo>
                      <a:pt x="1947" y="2382"/>
                    </a:lnTo>
                    <a:lnTo>
                      <a:pt x="1864" y="2380"/>
                    </a:lnTo>
                    <a:lnTo>
                      <a:pt x="1782" y="2375"/>
                    </a:lnTo>
                    <a:lnTo>
                      <a:pt x="1700" y="2367"/>
                    </a:lnTo>
                    <a:lnTo>
                      <a:pt x="1619" y="2355"/>
                    </a:lnTo>
                    <a:lnTo>
                      <a:pt x="1541" y="2340"/>
                    </a:lnTo>
                    <a:lnTo>
                      <a:pt x="1462" y="2321"/>
                    </a:lnTo>
                    <a:lnTo>
                      <a:pt x="1385" y="2300"/>
                    </a:lnTo>
                    <a:lnTo>
                      <a:pt x="1310" y="2276"/>
                    </a:lnTo>
                    <a:lnTo>
                      <a:pt x="1235" y="2249"/>
                    </a:lnTo>
                    <a:lnTo>
                      <a:pt x="1162" y="2219"/>
                    </a:lnTo>
                    <a:lnTo>
                      <a:pt x="1091" y="2186"/>
                    </a:lnTo>
                    <a:lnTo>
                      <a:pt x="1022" y="2151"/>
                    </a:lnTo>
                    <a:lnTo>
                      <a:pt x="954" y="2111"/>
                    </a:lnTo>
                    <a:lnTo>
                      <a:pt x="887" y="2071"/>
                    </a:lnTo>
                    <a:lnTo>
                      <a:pt x="822" y="2027"/>
                    </a:lnTo>
                    <a:lnTo>
                      <a:pt x="760" y="1981"/>
                    </a:lnTo>
                    <a:lnTo>
                      <a:pt x="699" y="1933"/>
                    </a:lnTo>
                    <a:lnTo>
                      <a:pt x="640" y="1882"/>
                    </a:lnTo>
                    <a:lnTo>
                      <a:pt x="583" y="1829"/>
                    </a:lnTo>
                    <a:lnTo>
                      <a:pt x="529" y="1775"/>
                    </a:lnTo>
                    <a:lnTo>
                      <a:pt x="476" y="1717"/>
                    </a:lnTo>
                    <a:lnTo>
                      <a:pt x="427" y="1658"/>
                    </a:lnTo>
                    <a:lnTo>
                      <a:pt x="379" y="1596"/>
                    </a:lnTo>
                    <a:lnTo>
                      <a:pt x="333" y="1534"/>
                    </a:lnTo>
                    <a:lnTo>
                      <a:pt x="290" y="1468"/>
                    </a:lnTo>
                    <a:lnTo>
                      <a:pt x="250" y="1401"/>
                    </a:lnTo>
                    <a:lnTo>
                      <a:pt x="212" y="1333"/>
                    </a:lnTo>
                    <a:lnTo>
                      <a:pt x="177" y="1263"/>
                    </a:lnTo>
                    <a:lnTo>
                      <a:pt x="145" y="1192"/>
                    </a:lnTo>
                    <a:lnTo>
                      <a:pt x="116" y="1118"/>
                    </a:lnTo>
                    <a:lnTo>
                      <a:pt x="90" y="1044"/>
                    </a:lnTo>
                    <a:lnTo>
                      <a:pt x="65" y="968"/>
                    </a:lnTo>
                    <a:lnTo>
                      <a:pt x="39" y="997"/>
                    </a:lnTo>
                    <a:lnTo>
                      <a:pt x="0" y="1069"/>
                    </a:lnTo>
                    <a:lnTo>
                      <a:pt x="26" y="1145"/>
                    </a:lnTo>
                    <a:lnTo>
                      <a:pt x="56" y="1220"/>
                    </a:lnTo>
                    <a:lnTo>
                      <a:pt x="89" y="1293"/>
                    </a:lnTo>
                    <a:lnTo>
                      <a:pt x="124" y="1364"/>
                    </a:lnTo>
                    <a:lnTo>
                      <a:pt x="161" y="1435"/>
                    </a:lnTo>
                    <a:lnTo>
                      <a:pt x="203" y="1503"/>
                    </a:lnTo>
                    <a:lnTo>
                      <a:pt x="245" y="1570"/>
                    </a:lnTo>
                    <a:lnTo>
                      <a:pt x="290" y="1634"/>
                    </a:lnTo>
                    <a:lnTo>
                      <a:pt x="339" y="1696"/>
                    </a:lnTo>
                    <a:lnTo>
                      <a:pt x="388" y="1758"/>
                    </a:lnTo>
                    <a:lnTo>
                      <a:pt x="440" y="1816"/>
                    </a:lnTo>
                    <a:lnTo>
                      <a:pt x="496" y="1874"/>
                    </a:lnTo>
                    <a:lnTo>
                      <a:pt x="552" y="1928"/>
                    </a:lnTo>
                    <a:lnTo>
                      <a:pt x="611" y="1981"/>
                    </a:lnTo>
                    <a:lnTo>
                      <a:pt x="672" y="2031"/>
                    </a:lnTo>
                    <a:lnTo>
                      <a:pt x="734" y="2079"/>
                    </a:lnTo>
                    <a:lnTo>
                      <a:pt x="799" y="2124"/>
                    </a:lnTo>
                    <a:lnTo>
                      <a:pt x="866" y="2168"/>
                    </a:lnTo>
                    <a:lnTo>
                      <a:pt x="934" y="2208"/>
                    </a:lnTo>
                    <a:lnTo>
                      <a:pt x="1003" y="2246"/>
                    </a:lnTo>
                    <a:lnTo>
                      <a:pt x="1075" y="2282"/>
                    </a:lnTo>
                    <a:lnTo>
                      <a:pt x="1147" y="2314"/>
                    </a:lnTo>
                    <a:lnTo>
                      <a:pt x="1222" y="2344"/>
                    </a:lnTo>
                    <a:lnTo>
                      <a:pt x="1298" y="2371"/>
                    </a:lnTo>
                    <a:lnTo>
                      <a:pt x="1375" y="2395"/>
                    </a:lnTo>
                    <a:lnTo>
                      <a:pt x="1453" y="2416"/>
                    </a:lnTo>
                    <a:lnTo>
                      <a:pt x="1534" y="2434"/>
                    </a:lnTo>
                    <a:lnTo>
                      <a:pt x="1615" y="2448"/>
                    </a:lnTo>
                    <a:lnTo>
                      <a:pt x="1696" y="2461"/>
                    </a:lnTo>
                    <a:lnTo>
                      <a:pt x="1778" y="2469"/>
                    </a:lnTo>
                    <a:lnTo>
                      <a:pt x="1863" y="2473"/>
                    </a:lnTo>
                    <a:lnTo>
                      <a:pt x="1947" y="2476"/>
                    </a:lnTo>
                    <a:lnTo>
                      <a:pt x="2053" y="2472"/>
                    </a:lnTo>
                    <a:lnTo>
                      <a:pt x="2157" y="2465"/>
                    </a:lnTo>
                    <a:lnTo>
                      <a:pt x="2259" y="2451"/>
                    </a:lnTo>
                    <a:lnTo>
                      <a:pt x="2361" y="2434"/>
                    </a:lnTo>
                    <a:lnTo>
                      <a:pt x="2460" y="2411"/>
                    </a:lnTo>
                    <a:lnTo>
                      <a:pt x="2557" y="2383"/>
                    </a:lnTo>
                    <a:lnTo>
                      <a:pt x="2653" y="2351"/>
                    </a:lnTo>
                    <a:lnTo>
                      <a:pt x="2745" y="2314"/>
                    </a:lnTo>
                    <a:lnTo>
                      <a:pt x="2836" y="2274"/>
                    </a:lnTo>
                    <a:lnTo>
                      <a:pt x="2925" y="2228"/>
                    </a:lnTo>
                    <a:lnTo>
                      <a:pt x="3010" y="2179"/>
                    </a:lnTo>
                    <a:lnTo>
                      <a:pt x="3093" y="2125"/>
                    </a:lnTo>
                    <a:lnTo>
                      <a:pt x="3174" y="2069"/>
                    </a:lnTo>
                    <a:lnTo>
                      <a:pt x="3251" y="2008"/>
                    </a:lnTo>
                    <a:lnTo>
                      <a:pt x="3326" y="1943"/>
                    </a:lnTo>
                    <a:lnTo>
                      <a:pt x="3398" y="1875"/>
                    </a:lnTo>
                    <a:lnTo>
                      <a:pt x="3465" y="1804"/>
                    </a:lnTo>
                    <a:lnTo>
                      <a:pt x="3529" y="1730"/>
                    </a:lnTo>
                    <a:lnTo>
                      <a:pt x="3590" y="1653"/>
                    </a:lnTo>
                    <a:lnTo>
                      <a:pt x="3648" y="1572"/>
                    </a:lnTo>
                    <a:lnTo>
                      <a:pt x="3701" y="1489"/>
                    </a:lnTo>
                    <a:lnTo>
                      <a:pt x="3751" y="1402"/>
                    </a:lnTo>
                    <a:lnTo>
                      <a:pt x="3796" y="1315"/>
                    </a:lnTo>
                    <a:lnTo>
                      <a:pt x="3837" y="1224"/>
                    </a:lnTo>
                    <a:lnTo>
                      <a:pt x="3873" y="1130"/>
                    </a:lnTo>
                    <a:lnTo>
                      <a:pt x="3905" y="1036"/>
                    </a:lnTo>
                    <a:lnTo>
                      <a:pt x="3933" y="938"/>
                    </a:lnTo>
                    <a:lnTo>
                      <a:pt x="3956" y="839"/>
                    </a:lnTo>
                    <a:lnTo>
                      <a:pt x="3974" y="739"/>
                    </a:lnTo>
                    <a:lnTo>
                      <a:pt x="3987" y="636"/>
                    </a:lnTo>
                    <a:lnTo>
                      <a:pt x="3995" y="531"/>
                    </a:lnTo>
                    <a:lnTo>
                      <a:pt x="3999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35160" y="4159080"/>
                <a:ext cx="1038240" cy="642960"/>
              </a:xfrm>
              <a:custGeom>
                <a:avLst/>
                <a:gdLst/>
                <a:ahLst/>
                <a:rect l="l" t="t" r="r" b="b"/>
                <a:pathLst>
                  <a:path w="3920" h="2428">
                    <a:moveTo>
                      <a:pt x="3920" y="426"/>
                    </a:moveTo>
                    <a:lnTo>
                      <a:pt x="3919" y="371"/>
                    </a:lnTo>
                    <a:lnTo>
                      <a:pt x="3918" y="317"/>
                    </a:lnTo>
                    <a:lnTo>
                      <a:pt x="3913" y="264"/>
                    </a:lnTo>
                    <a:lnTo>
                      <a:pt x="3909" y="209"/>
                    </a:lnTo>
                    <a:lnTo>
                      <a:pt x="3902" y="156"/>
                    </a:lnTo>
                    <a:lnTo>
                      <a:pt x="3895" y="103"/>
                    </a:lnTo>
                    <a:lnTo>
                      <a:pt x="3886" y="51"/>
                    </a:lnTo>
                    <a:lnTo>
                      <a:pt x="3875" y="0"/>
                    </a:lnTo>
                    <a:lnTo>
                      <a:pt x="3797" y="0"/>
                    </a:lnTo>
                    <a:lnTo>
                      <a:pt x="3780" y="0"/>
                    </a:lnTo>
                    <a:lnTo>
                      <a:pt x="3790" y="51"/>
                    </a:lnTo>
                    <a:lnTo>
                      <a:pt x="3800" y="103"/>
                    </a:lnTo>
                    <a:lnTo>
                      <a:pt x="3808" y="156"/>
                    </a:lnTo>
                    <a:lnTo>
                      <a:pt x="3815" y="209"/>
                    </a:lnTo>
                    <a:lnTo>
                      <a:pt x="3820" y="262"/>
                    </a:lnTo>
                    <a:lnTo>
                      <a:pt x="3825" y="317"/>
                    </a:lnTo>
                    <a:lnTo>
                      <a:pt x="3827" y="371"/>
                    </a:lnTo>
                    <a:lnTo>
                      <a:pt x="3827" y="426"/>
                    </a:lnTo>
                    <a:lnTo>
                      <a:pt x="3825" y="524"/>
                    </a:lnTo>
                    <a:lnTo>
                      <a:pt x="3818" y="621"/>
                    </a:lnTo>
                    <a:lnTo>
                      <a:pt x="3805" y="717"/>
                    </a:lnTo>
                    <a:lnTo>
                      <a:pt x="3789" y="811"/>
                    </a:lnTo>
                    <a:lnTo>
                      <a:pt x="3767" y="903"/>
                    </a:lnTo>
                    <a:lnTo>
                      <a:pt x="3742" y="993"/>
                    </a:lnTo>
                    <a:lnTo>
                      <a:pt x="3712" y="1082"/>
                    </a:lnTo>
                    <a:lnTo>
                      <a:pt x="3677" y="1170"/>
                    </a:lnTo>
                    <a:lnTo>
                      <a:pt x="3639" y="1254"/>
                    </a:lnTo>
                    <a:lnTo>
                      <a:pt x="3596" y="1337"/>
                    </a:lnTo>
                    <a:lnTo>
                      <a:pt x="3550" y="1416"/>
                    </a:lnTo>
                    <a:lnTo>
                      <a:pt x="3500" y="1494"/>
                    </a:lnTo>
                    <a:lnTo>
                      <a:pt x="3447" y="1568"/>
                    </a:lnTo>
                    <a:lnTo>
                      <a:pt x="3391" y="1641"/>
                    </a:lnTo>
                    <a:lnTo>
                      <a:pt x="3331" y="1710"/>
                    </a:lnTo>
                    <a:lnTo>
                      <a:pt x="3267" y="1776"/>
                    </a:lnTo>
                    <a:lnTo>
                      <a:pt x="3201" y="1839"/>
                    </a:lnTo>
                    <a:lnTo>
                      <a:pt x="3131" y="1899"/>
                    </a:lnTo>
                    <a:lnTo>
                      <a:pt x="3060" y="1956"/>
                    </a:lnTo>
                    <a:lnTo>
                      <a:pt x="2985" y="2010"/>
                    </a:lnTo>
                    <a:lnTo>
                      <a:pt x="2906" y="2060"/>
                    </a:lnTo>
                    <a:lnTo>
                      <a:pt x="2827" y="2106"/>
                    </a:lnTo>
                    <a:lnTo>
                      <a:pt x="2745" y="2147"/>
                    </a:lnTo>
                    <a:lnTo>
                      <a:pt x="2660" y="2185"/>
                    </a:lnTo>
                    <a:lnTo>
                      <a:pt x="2573" y="2220"/>
                    </a:lnTo>
                    <a:lnTo>
                      <a:pt x="2484" y="2250"/>
                    </a:lnTo>
                    <a:lnTo>
                      <a:pt x="2393" y="2275"/>
                    </a:lnTo>
                    <a:lnTo>
                      <a:pt x="2301" y="2297"/>
                    </a:lnTo>
                    <a:lnTo>
                      <a:pt x="2208" y="2314"/>
                    </a:lnTo>
                    <a:lnTo>
                      <a:pt x="2112" y="2326"/>
                    </a:lnTo>
                    <a:lnTo>
                      <a:pt x="2015" y="2333"/>
                    </a:lnTo>
                    <a:lnTo>
                      <a:pt x="1916" y="2336"/>
                    </a:lnTo>
                    <a:lnTo>
                      <a:pt x="1834" y="2334"/>
                    </a:lnTo>
                    <a:lnTo>
                      <a:pt x="1753" y="2329"/>
                    </a:lnTo>
                    <a:lnTo>
                      <a:pt x="1672" y="2320"/>
                    </a:lnTo>
                    <a:lnTo>
                      <a:pt x="1593" y="2309"/>
                    </a:lnTo>
                    <a:lnTo>
                      <a:pt x="1514" y="2294"/>
                    </a:lnTo>
                    <a:lnTo>
                      <a:pt x="1438" y="2275"/>
                    </a:lnTo>
                    <a:lnTo>
                      <a:pt x="1362" y="2254"/>
                    </a:lnTo>
                    <a:lnTo>
                      <a:pt x="1287" y="2230"/>
                    </a:lnTo>
                    <a:lnTo>
                      <a:pt x="1214" y="2203"/>
                    </a:lnTo>
                    <a:lnTo>
                      <a:pt x="1143" y="2173"/>
                    </a:lnTo>
                    <a:lnTo>
                      <a:pt x="1073" y="2140"/>
                    </a:lnTo>
                    <a:lnTo>
                      <a:pt x="1003" y="2105"/>
                    </a:lnTo>
                    <a:lnTo>
                      <a:pt x="936" y="2066"/>
                    </a:lnTo>
                    <a:lnTo>
                      <a:pt x="872" y="2025"/>
                    </a:lnTo>
                    <a:lnTo>
                      <a:pt x="808" y="1982"/>
                    </a:lnTo>
                    <a:lnTo>
                      <a:pt x="746" y="1936"/>
                    </a:lnTo>
                    <a:lnTo>
                      <a:pt x="687" y="1888"/>
                    </a:lnTo>
                    <a:lnTo>
                      <a:pt x="630" y="1838"/>
                    </a:lnTo>
                    <a:lnTo>
                      <a:pt x="573" y="1785"/>
                    </a:lnTo>
                    <a:lnTo>
                      <a:pt x="520" y="1730"/>
                    </a:lnTo>
                    <a:lnTo>
                      <a:pt x="469" y="1673"/>
                    </a:lnTo>
                    <a:lnTo>
                      <a:pt x="420" y="1615"/>
                    </a:lnTo>
                    <a:lnTo>
                      <a:pt x="374" y="1554"/>
                    </a:lnTo>
                    <a:lnTo>
                      <a:pt x="330" y="1490"/>
                    </a:lnTo>
                    <a:lnTo>
                      <a:pt x="288" y="1426"/>
                    </a:lnTo>
                    <a:lnTo>
                      <a:pt x="249" y="1360"/>
                    </a:lnTo>
                    <a:lnTo>
                      <a:pt x="212" y="1292"/>
                    </a:lnTo>
                    <a:lnTo>
                      <a:pt x="179" y="1222"/>
                    </a:lnTo>
                    <a:lnTo>
                      <a:pt x="148" y="1150"/>
                    </a:lnTo>
                    <a:lnTo>
                      <a:pt x="120" y="1077"/>
                    </a:lnTo>
                    <a:lnTo>
                      <a:pt x="94" y="1004"/>
                    </a:lnTo>
                    <a:lnTo>
                      <a:pt x="73" y="929"/>
                    </a:lnTo>
                    <a:lnTo>
                      <a:pt x="8" y="997"/>
                    </a:lnTo>
                    <a:lnTo>
                      <a:pt x="0" y="1012"/>
                    </a:lnTo>
                    <a:lnTo>
                      <a:pt x="24" y="1088"/>
                    </a:lnTo>
                    <a:lnTo>
                      <a:pt x="52" y="1163"/>
                    </a:lnTo>
                    <a:lnTo>
                      <a:pt x="83" y="1237"/>
                    </a:lnTo>
                    <a:lnTo>
                      <a:pt x="116" y="1308"/>
                    </a:lnTo>
                    <a:lnTo>
                      <a:pt x="153" y="1378"/>
                    </a:lnTo>
                    <a:lnTo>
                      <a:pt x="191" y="1447"/>
                    </a:lnTo>
                    <a:lnTo>
                      <a:pt x="234" y="1514"/>
                    </a:lnTo>
                    <a:lnTo>
                      <a:pt x="278" y="1579"/>
                    </a:lnTo>
                    <a:lnTo>
                      <a:pt x="324" y="1642"/>
                    </a:lnTo>
                    <a:lnTo>
                      <a:pt x="374" y="1705"/>
                    </a:lnTo>
                    <a:lnTo>
                      <a:pt x="424" y="1763"/>
                    </a:lnTo>
                    <a:lnTo>
                      <a:pt x="477" y="1821"/>
                    </a:lnTo>
                    <a:lnTo>
                      <a:pt x="534" y="1876"/>
                    </a:lnTo>
                    <a:lnTo>
                      <a:pt x="592" y="1929"/>
                    </a:lnTo>
                    <a:lnTo>
                      <a:pt x="652" y="1980"/>
                    </a:lnTo>
                    <a:lnTo>
                      <a:pt x="713" y="2028"/>
                    </a:lnTo>
                    <a:lnTo>
                      <a:pt x="777" y="2075"/>
                    </a:lnTo>
                    <a:lnTo>
                      <a:pt x="843" y="2117"/>
                    </a:lnTo>
                    <a:lnTo>
                      <a:pt x="910" y="2159"/>
                    </a:lnTo>
                    <a:lnTo>
                      <a:pt x="979" y="2197"/>
                    </a:lnTo>
                    <a:lnTo>
                      <a:pt x="1049" y="2232"/>
                    </a:lnTo>
                    <a:lnTo>
                      <a:pt x="1122" y="2266"/>
                    </a:lnTo>
                    <a:lnTo>
                      <a:pt x="1196" y="2296"/>
                    </a:lnTo>
                    <a:lnTo>
                      <a:pt x="1271" y="2322"/>
                    </a:lnTo>
                    <a:lnTo>
                      <a:pt x="1347" y="2348"/>
                    </a:lnTo>
                    <a:lnTo>
                      <a:pt x="1425" y="2369"/>
                    </a:lnTo>
                    <a:lnTo>
                      <a:pt x="1505" y="2387"/>
                    </a:lnTo>
                    <a:lnTo>
                      <a:pt x="1585" y="2402"/>
                    </a:lnTo>
                    <a:lnTo>
                      <a:pt x="1667" y="2413"/>
                    </a:lnTo>
                    <a:lnTo>
                      <a:pt x="1748" y="2422"/>
                    </a:lnTo>
                    <a:lnTo>
                      <a:pt x="1832" y="2427"/>
                    </a:lnTo>
                    <a:lnTo>
                      <a:pt x="1916" y="2428"/>
                    </a:lnTo>
                    <a:lnTo>
                      <a:pt x="2020" y="2426"/>
                    </a:lnTo>
                    <a:lnTo>
                      <a:pt x="2121" y="2418"/>
                    </a:lnTo>
                    <a:lnTo>
                      <a:pt x="2221" y="2405"/>
                    </a:lnTo>
                    <a:lnTo>
                      <a:pt x="2321" y="2388"/>
                    </a:lnTo>
                    <a:lnTo>
                      <a:pt x="2417" y="2366"/>
                    </a:lnTo>
                    <a:lnTo>
                      <a:pt x="2512" y="2339"/>
                    </a:lnTo>
                    <a:lnTo>
                      <a:pt x="2605" y="2307"/>
                    </a:lnTo>
                    <a:lnTo>
                      <a:pt x="2697" y="2272"/>
                    </a:lnTo>
                    <a:lnTo>
                      <a:pt x="2785" y="2231"/>
                    </a:lnTo>
                    <a:lnTo>
                      <a:pt x="2872" y="2188"/>
                    </a:lnTo>
                    <a:lnTo>
                      <a:pt x="2955" y="2139"/>
                    </a:lnTo>
                    <a:lnTo>
                      <a:pt x="3037" y="2087"/>
                    </a:lnTo>
                    <a:lnTo>
                      <a:pt x="3115" y="2031"/>
                    </a:lnTo>
                    <a:lnTo>
                      <a:pt x="3191" y="1972"/>
                    </a:lnTo>
                    <a:lnTo>
                      <a:pt x="3264" y="1909"/>
                    </a:lnTo>
                    <a:lnTo>
                      <a:pt x="3333" y="1842"/>
                    </a:lnTo>
                    <a:lnTo>
                      <a:pt x="3400" y="1773"/>
                    </a:lnTo>
                    <a:lnTo>
                      <a:pt x="3462" y="1700"/>
                    </a:lnTo>
                    <a:lnTo>
                      <a:pt x="3522" y="1624"/>
                    </a:lnTo>
                    <a:lnTo>
                      <a:pt x="3578" y="1545"/>
                    </a:lnTo>
                    <a:lnTo>
                      <a:pt x="3630" y="1465"/>
                    </a:lnTo>
                    <a:lnTo>
                      <a:pt x="3678" y="1381"/>
                    </a:lnTo>
                    <a:lnTo>
                      <a:pt x="3723" y="1294"/>
                    </a:lnTo>
                    <a:lnTo>
                      <a:pt x="3762" y="1205"/>
                    </a:lnTo>
                    <a:lnTo>
                      <a:pt x="3799" y="1114"/>
                    </a:lnTo>
                    <a:lnTo>
                      <a:pt x="3830" y="1022"/>
                    </a:lnTo>
                    <a:lnTo>
                      <a:pt x="3857" y="926"/>
                    </a:lnTo>
                    <a:lnTo>
                      <a:pt x="3880" y="830"/>
                    </a:lnTo>
                    <a:lnTo>
                      <a:pt x="3897" y="730"/>
                    </a:lnTo>
                    <a:lnTo>
                      <a:pt x="3910" y="630"/>
                    </a:lnTo>
                    <a:lnTo>
                      <a:pt x="3918" y="529"/>
                    </a:lnTo>
                    <a:lnTo>
                      <a:pt x="3920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44880" y="4159080"/>
                <a:ext cx="1015920" cy="630360"/>
              </a:xfrm>
              <a:custGeom>
                <a:avLst/>
                <a:gdLst/>
                <a:ahLst/>
                <a:rect l="l" t="t" r="r" b="b"/>
                <a:pathLst>
                  <a:path w="3840" h="2382">
                    <a:moveTo>
                      <a:pt x="3840" y="426"/>
                    </a:moveTo>
                    <a:lnTo>
                      <a:pt x="3839" y="371"/>
                    </a:lnTo>
                    <a:lnTo>
                      <a:pt x="3837" y="317"/>
                    </a:lnTo>
                    <a:lnTo>
                      <a:pt x="3833" y="262"/>
                    </a:lnTo>
                    <a:lnTo>
                      <a:pt x="3828" y="209"/>
                    </a:lnTo>
                    <a:lnTo>
                      <a:pt x="3822" y="156"/>
                    </a:lnTo>
                    <a:lnTo>
                      <a:pt x="3814" y="103"/>
                    </a:lnTo>
                    <a:lnTo>
                      <a:pt x="3803" y="51"/>
                    </a:lnTo>
                    <a:lnTo>
                      <a:pt x="3793" y="0"/>
                    </a:lnTo>
                    <a:lnTo>
                      <a:pt x="3763" y="0"/>
                    </a:lnTo>
                    <a:lnTo>
                      <a:pt x="3697" y="0"/>
                    </a:lnTo>
                    <a:lnTo>
                      <a:pt x="3709" y="51"/>
                    </a:lnTo>
                    <a:lnTo>
                      <a:pt x="3719" y="103"/>
                    </a:lnTo>
                    <a:lnTo>
                      <a:pt x="3727" y="156"/>
                    </a:lnTo>
                    <a:lnTo>
                      <a:pt x="3734" y="209"/>
                    </a:lnTo>
                    <a:lnTo>
                      <a:pt x="3740" y="262"/>
                    </a:lnTo>
                    <a:lnTo>
                      <a:pt x="3743" y="317"/>
                    </a:lnTo>
                    <a:lnTo>
                      <a:pt x="3746" y="371"/>
                    </a:lnTo>
                    <a:lnTo>
                      <a:pt x="3747" y="426"/>
                    </a:lnTo>
                    <a:lnTo>
                      <a:pt x="3744" y="522"/>
                    </a:lnTo>
                    <a:lnTo>
                      <a:pt x="3736" y="616"/>
                    </a:lnTo>
                    <a:lnTo>
                      <a:pt x="3725" y="710"/>
                    </a:lnTo>
                    <a:lnTo>
                      <a:pt x="3709" y="802"/>
                    </a:lnTo>
                    <a:lnTo>
                      <a:pt x="3688" y="892"/>
                    </a:lnTo>
                    <a:lnTo>
                      <a:pt x="3663" y="979"/>
                    </a:lnTo>
                    <a:lnTo>
                      <a:pt x="3634" y="1067"/>
                    </a:lnTo>
                    <a:lnTo>
                      <a:pt x="3600" y="1151"/>
                    </a:lnTo>
                    <a:lnTo>
                      <a:pt x="3562" y="1234"/>
                    </a:lnTo>
                    <a:lnTo>
                      <a:pt x="3522" y="1314"/>
                    </a:lnTo>
                    <a:lnTo>
                      <a:pt x="3477" y="1392"/>
                    </a:lnTo>
                    <a:lnTo>
                      <a:pt x="3428" y="1467"/>
                    </a:lnTo>
                    <a:lnTo>
                      <a:pt x="3377" y="1541"/>
                    </a:lnTo>
                    <a:lnTo>
                      <a:pt x="3321" y="1611"/>
                    </a:lnTo>
                    <a:lnTo>
                      <a:pt x="3262" y="1679"/>
                    </a:lnTo>
                    <a:lnTo>
                      <a:pt x="3200" y="1744"/>
                    </a:lnTo>
                    <a:lnTo>
                      <a:pt x="3135" y="1805"/>
                    </a:lnTo>
                    <a:lnTo>
                      <a:pt x="3069" y="1864"/>
                    </a:lnTo>
                    <a:lnTo>
                      <a:pt x="2997" y="1919"/>
                    </a:lnTo>
                    <a:lnTo>
                      <a:pt x="2924" y="1971"/>
                    </a:lnTo>
                    <a:lnTo>
                      <a:pt x="2848" y="2019"/>
                    </a:lnTo>
                    <a:lnTo>
                      <a:pt x="2771" y="2064"/>
                    </a:lnTo>
                    <a:lnTo>
                      <a:pt x="2690" y="2106"/>
                    </a:lnTo>
                    <a:lnTo>
                      <a:pt x="2608" y="2143"/>
                    </a:lnTo>
                    <a:lnTo>
                      <a:pt x="2523" y="2176"/>
                    </a:lnTo>
                    <a:lnTo>
                      <a:pt x="2436" y="2206"/>
                    </a:lnTo>
                    <a:lnTo>
                      <a:pt x="2348" y="2230"/>
                    </a:lnTo>
                    <a:lnTo>
                      <a:pt x="2258" y="2251"/>
                    </a:lnTo>
                    <a:lnTo>
                      <a:pt x="2167" y="2268"/>
                    </a:lnTo>
                    <a:lnTo>
                      <a:pt x="2073" y="2280"/>
                    </a:lnTo>
                    <a:lnTo>
                      <a:pt x="1979" y="2287"/>
                    </a:lnTo>
                    <a:lnTo>
                      <a:pt x="1882" y="2289"/>
                    </a:lnTo>
                    <a:lnTo>
                      <a:pt x="1801" y="2288"/>
                    </a:lnTo>
                    <a:lnTo>
                      <a:pt x="1720" y="2282"/>
                    </a:lnTo>
                    <a:lnTo>
                      <a:pt x="1639" y="2274"/>
                    </a:lnTo>
                    <a:lnTo>
                      <a:pt x="1561" y="2261"/>
                    </a:lnTo>
                    <a:lnTo>
                      <a:pt x="1484" y="2246"/>
                    </a:lnTo>
                    <a:lnTo>
                      <a:pt x="1406" y="2228"/>
                    </a:lnTo>
                    <a:lnTo>
                      <a:pt x="1332" y="2207"/>
                    </a:lnTo>
                    <a:lnTo>
                      <a:pt x="1258" y="2182"/>
                    </a:lnTo>
                    <a:lnTo>
                      <a:pt x="1185" y="2155"/>
                    </a:lnTo>
                    <a:lnTo>
                      <a:pt x="1115" y="2124"/>
                    </a:lnTo>
                    <a:lnTo>
                      <a:pt x="1045" y="2091"/>
                    </a:lnTo>
                    <a:lnTo>
                      <a:pt x="977" y="2055"/>
                    </a:lnTo>
                    <a:lnTo>
                      <a:pt x="912" y="2017"/>
                    </a:lnTo>
                    <a:lnTo>
                      <a:pt x="847" y="1975"/>
                    </a:lnTo>
                    <a:lnTo>
                      <a:pt x="785" y="1932"/>
                    </a:lnTo>
                    <a:lnTo>
                      <a:pt x="724" y="1885"/>
                    </a:lnTo>
                    <a:lnTo>
                      <a:pt x="665" y="1837"/>
                    </a:lnTo>
                    <a:lnTo>
                      <a:pt x="608" y="1786"/>
                    </a:lnTo>
                    <a:lnTo>
                      <a:pt x="554" y="1733"/>
                    </a:lnTo>
                    <a:lnTo>
                      <a:pt x="501" y="1678"/>
                    </a:lnTo>
                    <a:lnTo>
                      <a:pt x="451" y="1620"/>
                    </a:lnTo>
                    <a:lnTo>
                      <a:pt x="404" y="1562"/>
                    </a:lnTo>
                    <a:lnTo>
                      <a:pt x="359" y="1499"/>
                    </a:lnTo>
                    <a:lnTo>
                      <a:pt x="317" y="1437"/>
                    </a:lnTo>
                    <a:lnTo>
                      <a:pt x="276" y="1371"/>
                    </a:lnTo>
                    <a:lnTo>
                      <a:pt x="238" y="1305"/>
                    </a:lnTo>
                    <a:lnTo>
                      <a:pt x="203" y="1237"/>
                    </a:lnTo>
                    <a:lnTo>
                      <a:pt x="171" y="1166"/>
                    </a:lnTo>
                    <a:lnTo>
                      <a:pt x="142" y="1095"/>
                    </a:lnTo>
                    <a:lnTo>
                      <a:pt x="116" y="1022"/>
                    </a:lnTo>
                    <a:lnTo>
                      <a:pt x="92" y="947"/>
                    </a:lnTo>
                    <a:lnTo>
                      <a:pt x="72" y="872"/>
                    </a:lnTo>
                    <a:lnTo>
                      <a:pt x="48" y="919"/>
                    </a:lnTo>
                    <a:lnTo>
                      <a:pt x="0" y="968"/>
                    </a:lnTo>
                    <a:lnTo>
                      <a:pt x="25" y="1044"/>
                    </a:lnTo>
                    <a:lnTo>
                      <a:pt x="51" y="1118"/>
                    </a:lnTo>
                    <a:lnTo>
                      <a:pt x="80" y="1192"/>
                    </a:lnTo>
                    <a:lnTo>
                      <a:pt x="112" y="1263"/>
                    </a:lnTo>
                    <a:lnTo>
                      <a:pt x="147" y="1333"/>
                    </a:lnTo>
                    <a:lnTo>
                      <a:pt x="185" y="1401"/>
                    </a:lnTo>
                    <a:lnTo>
                      <a:pt x="225" y="1468"/>
                    </a:lnTo>
                    <a:lnTo>
                      <a:pt x="268" y="1534"/>
                    </a:lnTo>
                    <a:lnTo>
                      <a:pt x="314" y="1596"/>
                    </a:lnTo>
                    <a:lnTo>
                      <a:pt x="362" y="1658"/>
                    </a:lnTo>
                    <a:lnTo>
                      <a:pt x="411" y="1717"/>
                    </a:lnTo>
                    <a:lnTo>
                      <a:pt x="464" y="1775"/>
                    </a:lnTo>
                    <a:lnTo>
                      <a:pt x="518" y="1829"/>
                    </a:lnTo>
                    <a:lnTo>
                      <a:pt x="575" y="1882"/>
                    </a:lnTo>
                    <a:lnTo>
                      <a:pt x="634" y="1933"/>
                    </a:lnTo>
                    <a:lnTo>
                      <a:pt x="695" y="1981"/>
                    </a:lnTo>
                    <a:lnTo>
                      <a:pt x="757" y="2027"/>
                    </a:lnTo>
                    <a:lnTo>
                      <a:pt x="822" y="2071"/>
                    </a:lnTo>
                    <a:lnTo>
                      <a:pt x="889" y="2111"/>
                    </a:lnTo>
                    <a:lnTo>
                      <a:pt x="957" y="2151"/>
                    </a:lnTo>
                    <a:lnTo>
                      <a:pt x="1026" y="2186"/>
                    </a:lnTo>
                    <a:lnTo>
                      <a:pt x="1097" y="2219"/>
                    </a:lnTo>
                    <a:lnTo>
                      <a:pt x="1170" y="2249"/>
                    </a:lnTo>
                    <a:lnTo>
                      <a:pt x="1245" y="2276"/>
                    </a:lnTo>
                    <a:lnTo>
                      <a:pt x="1320" y="2300"/>
                    </a:lnTo>
                    <a:lnTo>
                      <a:pt x="1397" y="2321"/>
                    </a:lnTo>
                    <a:lnTo>
                      <a:pt x="1476" y="2340"/>
                    </a:lnTo>
                    <a:lnTo>
                      <a:pt x="1554" y="2355"/>
                    </a:lnTo>
                    <a:lnTo>
                      <a:pt x="1635" y="2367"/>
                    </a:lnTo>
                    <a:lnTo>
                      <a:pt x="1717" y="2375"/>
                    </a:lnTo>
                    <a:lnTo>
                      <a:pt x="1799" y="2380"/>
                    </a:lnTo>
                    <a:lnTo>
                      <a:pt x="1882" y="2382"/>
                    </a:lnTo>
                    <a:lnTo>
                      <a:pt x="1983" y="2380"/>
                    </a:lnTo>
                    <a:lnTo>
                      <a:pt x="2082" y="2372"/>
                    </a:lnTo>
                    <a:lnTo>
                      <a:pt x="2180" y="2359"/>
                    </a:lnTo>
                    <a:lnTo>
                      <a:pt x="2276" y="2342"/>
                    </a:lnTo>
                    <a:lnTo>
                      <a:pt x="2371" y="2321"/>
                    </a:lnTo>
                    <a:lnTo>
                      <a:pt x="2464" y="2295"/>
                    </a:lnTo>
                    <a:lnTo>
                      <a:pt x="2555" y="2264"/>
                    </a:lnTo>
                    <a:lnTo>
                      <a:pt x="2644" y="2229"/>
                    </a:lnTo>
                    <a:lnTo>
                      <a:pt x="2731" y="2190"/>
                    </a:lnTo>
                    <a:lnTo>
                      <a:pt x="2815" y="2146"/>
                    </a:lnTo>
                    <a:lnTo>
                      <a:pt x="2897" y="2099"/>
                    </a:lnTo>
                    <a:lnTo>
                      <a:pt x="2976" y="2048"/>
                    </a:lnTo>
                    <a:lnTo>
                      <a:pt x="3054" y="1994"/>
                    </a:lnTo>
                    <a:lnTo>
                      <a:pt x="3127" y="1935"/>
                    </a:lnTo>
                    <a:lnTo>
                      <a:pt x="3198" y="1874"/>
                    </a:lnTo>
                    <a:lnTo>
                      <a:pt x="3266" y="1809"/>
                    </a:lnTo>
                    <a:lnTo>
                      <a:pt x="3332" y="1741"/>
                    </a:lnTo>
                    <a:lnTo>
                      <a:pt x="3393" y="1670"/>
                    </a:lnTo>
                    <a:lnTo>
                      <a:pt x="3450" y="1596"/>
                    </a:lnTo>
                    <a:lnTo>
                      <a:pt x="3506" y="1520"/>
                    </a:lnTo>
                    <a:lnTo>
                      <a:pt x="3556" y="1441"/>
                    </a:lnTo>
                    <a:lnTo>
                      <a:pt x="3604" y="1359"/>
                    </a:lnTo>
                    <a:lnTo>
                      <a:pt x="3646" y="1275"/>
                    </a:lnTo>
                    <a:lnTo>
                      <a:pt x="3686" y="1187"/>
                    </a:lnTo>
                    <a:lnTo>
                      <a:pt x="3721" y="1098"/>
                    </a:lnTo>
                    <a:lnTo>
                      <a:pt x="3751" y="1008"/>
                    </a:lnTo>
                    <a:lnTo>
                      <a:pt x="3778" y="915"/>
                    </a:lnTo>
                    <a:lnTo>
                      <a:pt x="3800" y="820"/>
                    </a:lnTo>
                    <a:lnTo>
                      <a:pt x="3817" y="724"/>
                    </a:lnTo>
                    <a:lnTo>
                      <a:pt x="3830" y="626"/>
                    </a:lnTo>
                    <a:lnTo>
                      <a:pt x="3837" y="526"/>
                    </a:lnTo>
                    <a:lnTo>
                      <a:pt x="3840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56040" y="4159080"/>
                <a:ext cx="992160" cy="619200"/>
              </a:xfrm>
              <a:custGeom>
                <a:avLst/>
                <a:gdLst/>
                <a:ahLst/>
                <a:rect l="l" t="t" r="r" b="b"/>
                <a:pathLst>
                  <a:path w="3754" h="2336">
                    <a:moveTo>
                      <a:pt x="3754" y="426"/>
                    </a:moveTo>
                    <a:lnTo>
                      <a:pt x="3754" y="371"/>
                    </a:lnTo>
                    <a:lnTo>
                      <a:pt x="3752" y="317"/>
                    </a:lnTo>
                    <a:lnTo>
                      <a:pt x="3747" y="262"/>
                    </a:lnTo>
                    <a:lnTo>
                      <a:pt x="3742" y="209"/>
                    </a:lnTo>
                    <a:lnTo>
                      <a:pt x="3735" y="156"/>
                    </a:lnTo>
                    <a:lnTo>
                      <a:pt x="3727" y="103"/>
                    </a:lnTo>
                    <a:lnTo>
                      <a:pt x="3717" y="51"/>
                    </a:lnTo>
                    <a:lnTo>
                      <a:pt x="3707" y="0"/>
                    </a:lnTo>
                    <a:lnTo>
                      <a:pt x="3647" y="0"/>
                    </a:lnTo>
                    <a:lnTo>
                      <a:pt x="3611" y="0"/>
                    </a:lnTo>
                    <a:lnTo>
                      <a:pt x="3622" y="51"/>
                    </a:lnTo>
                    <a:lnTo>
                      <a:pt x="3633" y="103"/>
                    </a:lnTo>
                    <a:lnTo>
                      <a:pt x="3641" y="156"/>
                    </a:lnTo>
                    <a:lnTo>
                      <a:pt x="3648" y="209"/>
                    </a:lnTo>
                    <a:lnTo>
                      <a:pt x="3654" y="262"/>
                    </a:lnTo>
                    <a:lnTo>
                      <a:pt x="3658" y="317"/>
                    </a:lnTo>
                    <a:lnTo>
                      <a:pt x="3660" y="371"/>
                    </a:lnTo>
                    <a:lnTo>
                      <a:pt x="3660" y="426"/>
                    </a:lnTo>
                    <a:lnTo>
                      <a:pt x="3658" y="519"/>
                    </a:lnTo>
                    <a:lnTo>
                      <a:pt x="3651" y="612"/>
                    </a:lnTo>
                    <a:lnTo>
                      <a:pt x="3640" y="703"/>
                    </a:lnTo>
                    <a:lnTo>
                      <a:pt x="3624" y="792"/>
                    </a:lnTo>
                    <a:lnTo>
                      <a:pt x="3604" y="880"/>
                    </a:lnTo>
                    <a:lnTo>
                      <a:pt x="3579" y="966"/>
                    </a:lnTo>
                    <a:lnTo>
                      <a:pt x="3551" y="1051"/>
                    </a:lnTo>
                    <a:lnTo>
                      <a:pt x="3519" y="1133"/>
                    </a:lnTo>
                    <a:lnTo>
                      <a:pt x="3482" y="1213"/>
                    </a:lnTo>
                    <a:lnTo>
                      <a:pt x="3441" y="1292"/>
                    </a:lnTo>
                    <a:lnTo>
                      <a:pt x="3397" y="1368"/>
                    </a:lnTo>
                    <a:lnTo>
                      <a:pt x="3350" y="1442"/>
                    </a:lnTo>
                    <a:lnTo>
                      <a:pt x="3299" y="1513"/>
                    </a:lnTo>
                    <a:lnTo>
                      <a:pt x="3245" y="1581"/>
                    </a:lnTo>
                    <a:lnTo>
                      <a:pt x="3189" y="1647"/>
                    </a:lnTo>
                    <a:lnTo>
                      <a:pt x="3129" y="1710"/>
                    </a:lnTo>
                    <a:lnTo>
                      <a:pt x="3065" y="1770"/>
                    </a:lnTo>
                    <a:lnTo>
                      <a:pt x="3000" y="1828"/>
                    </a:lnTo>
                    <a:lnTo>
                      <a:pt x="2930" y="1882"/>
                    </a:lnTo>
                    <a:lnTo>
                      <a:pt x="2859" y="1933"/>
                    </a:lnTo>
                    <a:lnTo>
                      <a:pt x="2785" y="1980"/>
                    </a:lnTo>
                    <a:lnTo>
                      <a:pt x="2709" y="2024"/>
                    </a:lnTo>
                    <a:lnTo>
                      <a:pt x="2630" y="2063"/>
                    </a:lnTo>
                    <a:lnTo>
                      <a:pt x="2551" y="2100"/>
                    </a:lnTo>
                    <a:lnTo>
                      <a:pt x="2468" y="2132"/>
                    </a:lnTo>
                    <a:lnTo>
                      <a:pt x="2384" y="2161"/>
                    </a:lnTo>
                    <a:lnTo>
                      <a:pt x="2297" y="2185"/>
                    </a:lnTo>
                    <a:lnTo>
                      <a:pt x="2209" y="2206"/>
                    </a:lnTo>
                    <a:lnTo>
                      <a:pt x="2120" y="2222"/>
                    </a:lnTo>
                    <a:lnTo>
                      <a:pt x="2030" y="2234"/>
                    </a:lnTo>
                    <a:lnTo>
                      <a:pt x="1937" y="2241"/>
                    </a:lnTo>
                    <a:lnTo>
                      <a:pt x="1843" y="2243"/>
                    </a:lnTo>
                    <a:lnTo>
                      <a:pt x="1762" y="2241"/>
                    </a:lnTo>
                    <a:lnTo>
                      <a:pt x="1682" y="2236"/>
                    </a:lnTo>
                    <a:lnTo>
                      <a:pt x="1604" y="2227"/>
                    </a:lnTo>
                    <a:lnTo>
                      <a:pt x="1527" y="2215"/>
                    </a:lnTo>
                    <a:lnTo>
                      <a:pt x="1449" y="2200"/>
                    </a:lnTo>
                    <a:lnTo>
                      <a:pt x="1374" y="2182"/>
                    </a:lnTo>
                    <a:lnTo>
                      <a:pt x="1301" y="2160"/>
                    </a:lnTo>
                    <a:lnTo>
                      <a:pt x="1228" y="2136"/>
                    </a:lnTo>
                    <a:lnTo>
                      <a:pt x="1156" y="2108"/>
                    </a:lnTo>
                    <a:lnTo>
                      <a:pt x="1086" y="2078"/>
                    </a:lnTo>
                    <a:lnTo>
                      <a:pt x="1018" y="2045"/>
                    </a:lnTo>
                    <a:lnTo>
                      <a:pt x="951" y="2009"/>
                    </a:lnTo>
                    <a:lnTo>
                      <a:pt x="887" y="1971"/>
                    </a:lnTo>
                    <a:lnTo>
                      <a:pt x="823" y="1929"/>
                    </a:lnTo>
                    <a:lnTo>
                      <a:pt x="762" y="1885"/>
                    </a:lnTo>
                    <a:lnTo>
                      <a:pt x="702" y="1839"/>
                    </a:lnTo>
                    <a:lnTo>
                      <a:pt x="644" y="1792"/>
                    </a:lnTo>
                    <a:lnTo>
                      <a:pt x="589" y="1741"/>
                    </a:lnTo>
                    <a:lnTo>
                      <a:pt x="536" y="1688"/>
                    </a:lnTo>
                    <a:lnTo>
                      <a:pt x="485" y="1633"/>
                    </a:lnTo>
                    <a:lnTo>
                      <a:pt x="436" y="1575"/>
                    </a:lnTo>
                    <a:lnTo>
                      <a:pt x="389" y="1517"/>
                    </a:lnTo>
                    <a:lnTo>
                      <a:pt x="346" y="1456"/>
                    </a:lnTo>
                    <a:lnTo>
                      <a:pt x="304" y="1393"/>
                    </a:lnTo>
                    <a:lnTo>
                      <a:pt x="265" y="1328"/>
                    </a:lnTo>
                    <a:lnTo>
                      <a:pt x="229" y="1262"/>
                    </a:lnTo>
                    <a:lnTo>
                      <a:pt x="196" y="1194"/>
                    </a:lnTo>
                    <a:lnTo>
                      <a:pt x="164" y="1124"/>
                    </a:lnTo>
                    <a:lnTo>
                      <a:pt x="137" y="1053"/>
                    </a:lnTo>
                    <a:lnTo>
                      <a:pt x="111" y="981"/>
                    </a:lnTo>
                    <a:lnTo>
                      <a:pt x="90" y="907"/>
                    </a:lnTo>
                    <a:lnTo>
                      <a:pt x="71" y="831"/>
                    </a:lnTo>
                    <a:lnTo>
                      <a:pt x="49" y="842"/>
                    </a:lnTo>
                    <a:lnTo>
                      <a:pt x="9" y="919"/>
                    </a:lnTo>
                    <a:lnTo>
                      <a:pt x="0" y="929"/>
                    </a:lnTo>
                    <a:lnTo>
                      <a:pt x="21" y="1004"/>
                    </a:lnTo>
                    <a:lnTo>
                      <a:pt x="47" y="1077"/>
                    </a:lnTo>
                    <a:lnTo>
                      <a:pt x="75" y="1150"/>
                    </a:lnTo>
                    <a:lnTo>
                      <a:pt x="106" y="1222"/>
                    </a:lnTo>
                    <a:lnTo>
                      <a:pt x="139" y="1292"/>
                    </a:lnTo>
                    <a:lnTo>
                      <a:pt x="176" y="1360"/>
                    </a:lnTo>
                    <a:lnTo>
                      <a:pt x="215" y="1426"/>
                    </a:lnTo>
                    <a:lnTo>
                      <a:pt x="257" y="1490"/>
                    </a:lnTo>
                    <a:lnTo>
                      <a:pt x="301" y="1554"/>
                    </a:lnTo>
                    <a:lnTo>
                      <a:pt x="347" y="1615"/>
                    </a:lnTo>
                    <a:lnTo>
                      <a:pt x="396" y="1673"/>
                    </a:lnTo>
                    <a:lnTo>
                      <a:pt x="447" y="1730"/>
                    </a:lnTo>
                    <a:lnTo>
                      <a:pt x="500" y="1785"/>
                    </a:lnTo>
                    <a:lnTo>
                      <a:pt x="557" y="1838"/>
                    </a:lnTo>
                    <a:lnTo>
                      <a:pt x="614" y="1888"/>
                    </a:lnTo>
                    <a:lnTo>
                      <a:pt x="673" y="1936"/>
                    </a:lnTo>
                    <a:lnTo>
                      <a:pt x="735" y="1982"/>
                    </a:lnTo>
                    <a:lnTo>
                      <a:pt x="799" y="2025"/>
                    </a:lnTo>
                    <a:lnTo>
                      <a:pt x="863" y="2066"/>
                    </a:lnTo>
                    <a:lnTo>
                      <a:pt x="930" y="2105"/>
                    </a:lnTo>
                    <a:lnTo>
                      <a:pt x="1000" y="2140"/>
                    </a:lnTo>
                    <a:lnTo>
                      <a:pt x="1070" y="2173"/>
                    </a:lnTo>
                    <a:lnTo>
                      <a:pt x="1141" y="2203"/>
                    </a:lnTo>
                    <a:lnTo>
                      <a:pt x="1214" y="2230"/>
                    </a:lnTo>
                    <a:lnTo>
                      <a:pt x="1289" y="2254"/>
                    </a:lnTo>
                    <a:lnTo>
                      <a:pt x="1365" y="2275"/>
                    </a:lnTo>
                    <a:lnTo>
                      <a:pt x="1441" y="2294"/>
                    </a:lnTo>
                    <a:lnTo>
                      <a:pt x="1520" y="2309"/>
                    </a:lnTo>
                    <a:lnTo>
                      <a:pt x="1599" y="2320"/>
                    </a:lnTo>
                    <a:lnTo>
                      <a:pt x="1680" y="2329"/>
                    </a:lnTo>
                    <a:lnTo>
                      <a:pt x="1761" y="2334"/>
                    </a:lnTo>
                    <a:lnTo>
                      <a:pt x="1843" y="2336"/>
                    </a:lnTo>
                    <a:lnTo>
                      <a:pt x="1942" y="2333"/>
                    </a:lnTo>
                    <a:lnTo>
                      <a:pt x="2039" y="2326"/>
                    </a:lnTo>
                    <a:lnTo>
                      <a:pt x="2135" y="2314"/>
                    </a:lnTo>
                    <a:lnTo>
                      <a:pt x="2228" y="2297"/>
                    </a:lnTo>
                    <a:lnTo>
                      <a:pt x="2320" y="2275"/>
                    </a:lnTo>
                    <a:lnTo>
                      <a:pt x="2411" y="2250"/>
                    </a:lnTo>
                    <a:lnTo>
                      <a:pt x="2500" y="2220"/>
                    </a:lnTo>
                    <a:lnTo>
                      <a:pt x="2587" y="2185"/>
                    </a:lnTo>
                    <a:lnTo>
                      <a:pt x="2672" y="2147"/>
                    </a:lnTo>
                    <a:lnTo>
                      <a:pt x="2754" y="2106"/>
                    </a:lnTo>
                    <a:lnTo>
                      <a:pt x="2833" y="2060"/>
                    </a:lnTo>
                    <a:lnTo>
                      <a:pt x="2912" y="2010"/>
                    </a:lnTo>
                    <a:lnTo>
                      <a:pt x="2987" y="1956"/>
                    </a:lnTo>
                    <a:lnTo>
                      <a:pt x="3058" y="1899"/>
                    </a:lnTo>
                    <a:lnTo>
                      <a:pt x="3128" y="1839"/>
                    </a:lnTo>
                    <a:lnTo>
                      <a:pt x="3194" y="1776"/>
                    </a:lnTo>
                    <a:lnTo>
                      <a:pt x="3258" y="1710"/>
                    </a:lnTo>
                    <a:lnTo>
                      <a:pt x="3318" y="1641"/>
                    </a:lnTo>
                    <a:lnTo>
                      <a:pt x="3374" y="1568"/>
                    </a:lnTo>
                    <a:lnTo>
                      <a:pt x="3427" y="1494"/>
                    </a:lnTo>
                    <a:lnTo>
                      <a:pt x="3477" y="1416"/>
                    </a:lnTo>
                    <a:lnTo>
                      <a:pt x="3523" y="1337"/>
                    </a:lnTo>
                    <a:lnTo>
                      <a:pt x="3566" y="1254"/>
                    </a:lnTo>
                    <a:lnTo>
                      <a:pt x="3604" y="1170"/>
                    </a:lnTo>
                    <a:lnTo>
                      <a:pt x="3639" y="1082"/>
                    </a:lnTo>
                    <a:lnTo>
                      <a:pt x="3669" y="993"/>
                    </a:lnTo>
                    <a:lnTo>
                      <a:pt x="3694" y="903"/>
                    </a:lnTo>
                    <a:lnTo>
                      <a:pt x="3716" y="811"/>
                    </a:lnTo>
                    <a:lnTo>
                      <a:pt x="3732" y="717"/>
                    </a:lnTo>
                    <a:lnTo>
                      <a:pt x="3745" y="621"/>
                    </a:lnTo>
                    <a:lnTo>
                      <a:pt x="3752" y="524"/>
                    </a:lnTo>
                    <a:lnTo>
                      <a:pt x="3754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63960" y="4159080"/>
                <a:ext cx="973080" cy="606600"/>
              </a:xfrm>
              <a:custGeom>
                <a:avLst/>
                <a:gdLst/>
                <a:ahLst/>
                <a:rect l="l" t="t" r="r" b="b"/>
                <a:pathLst>
                  <a:path w="3675" h="2289">
                    <a:moveTo>
                      <a:pt x="3675" y="426"/>
                    </a:moveTo>
                    <a:lnTo>
                      <a:pt x="3674" y="371"/>
                    </a:lnTo>
                    <a:lnTo>
                      <a:pt x="3671" y="317"/>
                    </a:lnTo>
                    <a:lnTo>
                      <a:pt x="3668" y="262"/>
                    </a:lnTo>
                    <a:lnTo>
                      <a:pt x="3662" y="209"/>
                    </a:lnTo>
                    <a:lnTo>
                      <a:pt x="3655" y="156"/>
                    </a:lnTo>
                    <a:lnTo>
                      <a:pt x="3647" y="103"/>
                    </a:lnTo>
                    <a:lnTo>
                      <a:pt x="3637" y="51"/>
                    </a:lnTo>
                    <a:lnTo>
                      <a:pt x="3625" y="0"/>
                    </a:lnTo>
                    <a:lnTo>
                      <a:pt x="3614" y="0"/>
                    </a:lnTo>
                    <a:lnTo>
                      <a:pt x="3536" y="0"/>
                    </a:lnTo>
                    <a:lnTo>
                      <a:pt x="3529" y="0"/>
                    </a:lnTo>
                    <a:lnTo>
                      <a:pt x="3542" y="51"/>
                    </a:lnTo>
                    <a:lnTo>
                      <a:pt x="3553" y="103"/>
                    </a:lnTo>
                    <a:lnTo>
                      <a:pt x="3561" y="156"/>
                    </a:lnTo>
                    <a:lnTo>
                      <a:pt x="3569" y="209"/>
                    </a:lnTo>
                    <a:lnTo>
                      <a:pt x="3574" y="262"/>
                    </a:lnTo>
                    <a:lnTo>
                      <a:pt x="3578" y="317"/>
                    </a:lnTo>
                    <a:lnTo>
                      <a:pt x="3580" y="371"/>
                    </a:lnTo>
                    <a:lnTo>
                      <a:pt x="3581" y="426"/>
                    </a:lnTo>
                    <a:lnTo>
                      <a:pt x="3579" y="517"/>
                    </a:lnTo>
                    <a:lnTo>
                      <a:pt x="3572" y="607"/>
                    </a:lnTo>
                    <a:lnTo>
                      <a:pt x="3561" y="696"/>
                    </a:lnTo>
                    <a:lnTo>
                      <a:pt x="3546" y="782"/>
                    </a:lnTo>
                    <a:lnTo>
                      <a:pt x="3526" y="869"/>
                    </a:lnTo>
                    <a:lnTo>
                      <a:pt x="3502" y="952"/>
                    </a:lnTo>
                    <a:lnTo>
                      <a:pt x="3474" y="1035"/>
                    </a:lnTo>
                    <a:lnTo>
                      <a:pt x="3442" y="1115"/>
                    </a:lnTo>
                    <a:lnTo>
                      <a:pt x="3407" y="1194"/>
                    </a:lnTo>
                    <a:lnTo>
                      <a:pt x="3368" y="1270"/>
                    </a:lnTo>
                    <a:lnTo>
                      <a:pt x="3325" y="1344"/>
                    </a:lnTo>
                    <a:lnTo>
                      <a:pt x="3279" y="1415"/>
                    </a:lnTo>
                    <a:lnTo>
                      <a:pt x="3230" y="1485"/>
                    </a:lnTo>
                    <a:lnTo>
                      <a:pt x="3176" y="1552"/>
                    </a:lnTo>
                    <a:lnTo>
                      <a:pt x="3121" y="1616"/>
                    </a:lnTo>
                    <a:lnTo>
                      <a:pt x="3062" y="1678"/>
                    </a:lnTo>
                    <a:lnTo>
                      <a:pt x="3001" y="1737"/>
                    </a:lnTo>
                    <a:lnTo>
                      <a:pt x="2937" y="1792"/>
                    </a:lnTo>
                    <a:lnTo>
                      <a:pt x="2870" y="1844"/>
                    </a:lnTo>
                    <a:lnTo>
                      <a:pt x="2800" y="1894"/>
                    </a:lnTo>
                    <a:lnTo>
                      <a:pt x="2729" y="1940"/>
                    </a:lnTo>
                    <a:lnTo>
                      <a:pt x="2654" y="1982"/>
                    </a:lnTo>
                    <a:lnTo>
                      <a:pt x="2578" y="2022"/>
                    </a:lnTo>
                    <a:lnTo>
                      <a:pt x="2499" y="2057"/>
                    </a:lnTo>
                    <a:lnTo>
                      <a:pt x="2419" y="2088"/>
                    </a:lnTo>
                    <a:lnTo>
                      <a:pt x="2337" y="2116"/>
                    </a:lnTo>
                    <a:lnTo>
                      <a:pt x="2253" y="2140"/>
                    </a:lnTo>
                    <a:lnTo>
                      <a:pt x="2167" y="2160"/>
                    </a:lnTo>
                    <a:lnTo>
                      <a:pt x="2080" y="2176"/>
                    </a:lnTo>
                    <a:lnTo>
                      <a:pt x="1991" y="2186"/>
                    </a:lnTo>
                    <a:lnTo>
                      <a:pt x="1901" y="2193"/>
                    </a:lnTo>
                    <a:lnTo>
                      <a:pt x="1810" y="2196"/>
                    </a:lnTo>
                    <a:lnTo>
                      <a:pt x="1731" y="2194"/>
                    </a:lnTo>
                    <a:lnTo>
                      <a:pt x="1653" y="2189"/>
                    </a:lnTo>
                    <a:lnTo>
                      <a:pt x="1577" y="2181"/>
                    </a:lnTo>
                    <a:lnTo>
                      <a:pt x="1501" y="2169"/>
                    </a:lnTo>
                    <a:lnTo>
                      <a:pt x="1426" y="2154"/>
                    </a:lnTo>
                    <a:lnTo>
                      <a:pt x="1352" y="2136"/>
                    </a:lnTo>
                    <a:lnTo>
                      <a:pt x="1279" y="2115"/>
                    </a:lnTo>
                    <a:lnTo>
                      <a:pt x="1208" y="2091"/>
                    </a:lnTo>
                    <a:lnTo>
                      <a:pt x="1138" y="2064"/>
                    </a:lnTo>
                    <a:lnTo>
                      <a:pt x="1069" y="2034"/>
                    </a:lnTo>
                    <a:lnTo>
                      <a:pt x="1002" y="2002"/>
                    </a:lnTo>
                    <a:lnTo>
                      <a:pt x="938" y="1966"/>
                    </a:lnTo>
                    <a:lnTo>
                      <a:pt x="874" y="1929"/>
                    </a:lnTo>
                    <a:lnTo>
                      <a:pt x="812" y="1889"/>
                    </a:lnTo>
                    <a:lnTo>
                      <a:pt x="752" y="1846"/>
                    </a:lnTo>
                    <a:lnTo>
                      <a:pt x="694" y="1800"/>
                    </a:lnTo>
                    <a:lnTo>
                      <a:pt x="638" y="1753"/>
                    </a:lnTo>
                    <a:lnTo>
                      <a:pt x="584" y="1703"/>
                    </a:lnTo>
                    <a:lnTo>
                      <a:pt x="532" y="1651"/>
                    </a:lnTo>
                    <a:lnTo>
                      <a:pt x="482" y="1597"/>
                    </a:lnTo>
                    <a:lnTo>
                      <a:pt x="435" y="1541"/>
                    </a:lnTo>
                    <a:lnTo>
                      <a:pt x="390" y="1483"/>
                    </a:lnTo>
                    <a:lnTo>
                      <a:pt x="347" y="1423"/>
                    </a:lnTo>
                    <a:lnTo>
                      <a:pt x="307" y="1361"/>
                    </a:lnTo>
                    <a:lnTo>
                      <a:pt x="269" y="1298"/>
                    </a:lnTo>
                    <a:lnTo>
                      <a:pt x="233" y="1233"/>
                    </a:lnTo>
                    <a:lnTo>
                      <a:pt x="201" y="1166"/>
                    </a:lnTo>
                    <a:lnTo>
                      <a:pt x="171" y="1098"/>
                    </a:lnTo>
                    <a:lnTo>
                      <a:pt x="144" y="1028"/>
                    </a:lnTo>
                    <a:lnTo>
                      <a:pt x="120" y="956"/>
                    </a:lnTo>
                    <a:lnTo>
                      <a:pt x="99" y="885"/>
                    </a:lnTo>
                    <a:lnTo>
                      <a:pt x="81" y="810"/>
                    </a:lnTo>
                    <a:lnTo>
                      <a:pt x="16" y="842"/>
                    </a:lnTo>
                    <a:lnTo>
                      <a:pt x="0" y="872"/>
                    </a:lnTo>
                    <a:lnTo>
                      <a:pt x="20" y="947"/>
                    </a:lnTo>
                    <a:lnTo>
                      <a:pt x="44" y="1022"/>
                    </a:lnTo>
                    <a:lnTo>
                      <a:pt x="70" y="1095"/>
                    </a:lnTo>
                    <a:lnTo>
                      <a:pt x="99" y="1166"/>
                    </a:lnTo>
                    <a:lnTo>
                      <a:pt x="131" y="1237"/>
                    </a:lnTo>
                    <a:lnTo>
                      <a:pt x="166" y="1305"/>
                    </a:lnTo>
                    <a:lnTo>
                      <a:pt x="204" y="1371"/>
                    </a:lnTo>
                    <a:lnTo>
                      <a:pt x="245" y="1437"/>
                    </a:lnTo>
                    <a:lnTo>
                      <a:pt x="287" y="1499"/>
                    </a:lnTo>
                    <a:lnTo>
                      <a:pt x="332" y="1562"/>
                    </a:lnTo>
                    <a:lnTo>
                      <a:pt x="379" y="1620"/>
                    </a:lnTo>
                    <a:lnTo>
                      <a:pt x="429" y="1678"/>
                    </a:lnTo>
                    <a:lnTo>
                      <a:pt x="482" y="1733"/>
                    </a:lnTo>
                    <a:lnTo>
                      <a:pt x="536" y="1786"/>
                    </a:lnTo>
                    <a:lnTo>
                      <a:pt x="593" y="1837"/>
                    </a:lnTo>
                    <a:lnTo>
                      <a:pt x="652" y="1885"/>
                    </a:lnTo>
                    <a:lnTo>
                      <a:pt x="713" y="1932"/>
                    </a:lnTo>
                    <a:lnTo>
                      <a:pt x="775" y="1975"/>
                    </a:lnTo>
                    <a:lnTo>
                      <a:pt x="840" y="2017"/>
                    </a:lnTo>
                    <a:lnTo>
                      <a:pt x="905" y="2055"/>
                    </a:lnTo>
                    <a:lnTo>
                      <a:pt x="973" y="2091"/>
                    </a:lnTo>
                    <a:lnTo>
                      <a:pt x="1043" y="2124"/>
                    </a:lnTo>
                    <a:lnTo>
                      <a:pt x="1113" y="2155"/>
                    </a:lnTo>
                    <a:lnTo>
                      <a:pt x="1186" y="2182"/>
                    </a:lnTo>
                    <a:lnTo>
                      <a:pt x="1260" y="2207"/>
                    </a:lnTo>
                    <a:lnTo>
                      <a:pt x="1334" y="2228"/>
                    </a:lnTo>
                    <a:lnTo>
                      <a:pt x="1412" y="2246"/>
                    </a:lnTo>
                    <a:lnTo>
                      <a:pt x="1489" y="2261"/>
                    </a:lnTo>
                    <a:lnTo>
                      <a:pt x="1567" y="2274"/>
                    </a:lnTo>
                    <a:lnTo>
                      <a:pt x="1648" y="2282"/>
                    </a:lnTo>
                    <a:lnTo>
                      <a:pt x="1729" y="2288"/>
                    </a:lnTo>
                    <a:lnTo>
                      <a:pt x="1810" y="2289"/>
                    </a:lnTo>
                    <a:lnTo>
                      <a:pt x="1907" y="2287"/>
                    </a:lnTo>
                    <a:lnTo>
                      <a:pt x="2001" y="2280"/>
                    </a:lnTo>
                    <a:lnTo>
                      <a:pt x="2095" y="2268"/>
                    </a:lnTo>
                    <a:lnTo>
                      <a:pt x="2186" y="2251"/>
                    </a:lnTo>
                    <a:lnTo>
                      <a:pt x="2276" y="2230"/>
                    </a:lnTo>
                    <a:lnTo>
                      <a:pt x="2364" y="2206"/>
                    </a:lnTo>
                    <a:lnTo>
                      <a:pt x="2451" y="2176"/>
                    </a:lnTo>
                    <a:lnTo>
                      <a:pt x="2536" y="2143"/>
                    </a:lnTo>
                    <a:lnTo>
                      <a:pt x="2618" y="2106"/>
                    </a:lnTo>
                    <a:lnTo>
                      <a:pt x="2699" y="2064"/>
                    </a:lnTo>
                    <a:lnTo>
                      <a:pt x="2776" y="2019"/>
                    </a:lnTo>
                    <a:lnTo>
                      <a:pt x="2852" y="1971"/>
                    </a:lnTo>
                    <a:lnTo>
                      <a:pt x="2925" y="1919"/>
                    </a:lnTo>
                    <a:lnTo>
                      <a:pt x="2997" y="1864"/>
                    </a:lnTo>
                    <a:lnTo>
                      <a:pt x="3063" y="1805"/>
                    </a:lnTo>
                    <a:lnTo>
                      <a:pt x="3128" y="1744"/>
                    </a:lnTo>
                    <a:lnTo>
                      <a:pt x="3190" y="1679"/>
                    </a:lnTo>
                    <a:lnTo>
                      <a:pt x="3249" y="1611"/>
                    </a:lnTo>
                    <a:lnTo>
                      <a:pt x="3305" y="1541"/>
                    </a:lnTo>
                    <a:lnTo>
                      <a:pt x="3356" y="1467"/>
                    </a:lnTo>
                    <a:lnTo>
                      <a:pt x="3405" y="1392"/>
                    </a:lnTo>
                    <a:lnTo>
                      <a:pt x="3450" y="1314"/>
                    </a:lnTo>
                    <a:lnTo>
                      <a:pt x="3490" y="1234"/>
                    </a:lnTo>
                    <a:lnTo>
                      <a:pt x="3528" y="1151"/>
                    </a:lnTo>
                    <a:lnTo>
                      <a:pt x="3562" y="1067"/>
                    </a:lnTo>
                    <a:lnTo>
                      <a:pt x="3591" y="979"/>
                    </a:lnTo>
                    <a:lnTo>
                      <a:pt x="3616" y="892"/>
                    </a:lnTo>
                    <a:lnTo>
                      <a:pt x="3637" y="802"/>
                    </a:lnTo>
                    <a:lnTo>
                      <a:pt x="3653" y="710"/>
                    </a:lnTo>
                    <a:lnTo>
                      <a:pt x="3664" y="616"/>
                    </a:lnTo>
                    <a:lnTo>
                      <a:pt x="3672" y="522"/>
                    </a:lnTo>
                    <a:lnTo>
                      <a:pt x="3675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75120" y="4159080"/>
                <a:ext cx="949320" cy="594000"/>
              </a:xfrm>
              <a:custGeom>
                <a:avLst/>
                <a:gdLst/>
                <a:ahLst/>
                <a:rect l="l" t="t" r="r" b="b"/>
                <a:pathLst>
                  <a:path w="3589" h="2243">
                    <a:moveTo>
                      <a:pt x="3589" y="426"/>
                    </a:moveTo>
                    <a:lnTo>
                      <a:pt x="3589" y="371"/>
                    </a:lnTo>
                    <a:lnTo>
                      <a:pt x="3587" y="317"/>
                    </a:lnTo>
                    <a:lnTo>
                      <a:pt x="3583" y="262"/>
                    </a:lnTo>
                    <a:lnTo>
                      <a:pt x="3577" y="209"/>
                    </a:lnTo>
                    <a:lnTo>
                      <a:pt x="3570" y="156"/>
                    </a:lnTo>
                    <a:lnTo>
                      <a:pt x="3562" y="103"/>
                    </a:lnTo>
                    <a:lnTo>
                      <a:pt x="3551" y="51"/>
                    </a:lnTo>
                    <a:lnTo>
                      <a:pt x="3540" y="0"/>
                    </a:lnTo>
                    <a:lnTo>
                      <a:pt x="3498" y="0"/>
                    </a:lnTo>
                    <a:lnTo>
                      <a:pt x="3444" y="0"/>
                    </a:lnTo>
                    <a:lnTo>
                      <a:pt x="3456" y="51"/>
                    </a:lnTo>
                    <a:lnTo>
                      <a:pt x="3466" y="103"/>
                    </a:lnTo>
                    <a:lnTo>
                      <a:pt x="3475" y="155"/>
                    </a:lnTo>
                    <a:lnTo>
                      <a:pt x="3483" y="208"/>
                    </a:lnTo>
                    <a:lnTo>
                      <a:pt x="3489" y="262"/>
                    </a:lnTo>
                    <a:lnTo>
                      <a:pt x="3494" y="317"/>
                    </a:lnTo>
                    <a:lnTo>
                      <a:pt x="3496" y="371"/>
                    </a:lnTo>
                    <a:lnTo>
                      <a:pt x="3497" y="426"/>
                    </a:lnTo>
                    <a:lnTo>
                      <a:pt x="3495" y="515"/>
                    </a:lnTo>
                    <a:lnTo>
                      <a:pt x="3488" y="602"/>
                    </a:lnTo>
                    <a:lnTo>
                      <a:pt x="3476" y="689"/>
                    </a:lnTo>
                    <a:lnTo>
                      <a:pt x="3461" y="773"/>
                    </a:lnTo>
                    <a:lnTo>
                      <a:pt x="3442" y="857"/>
                    </a:lnTo>
                    <a:lnTo>
                      <a:pt x="3419" y="938"/>
                    </a:lnTo>
                    <a:lnTo>
                      <a:pt x="3392" y="1019"/>
                    </a:lnTo>
                    <a:lnTo>
                      <a:pt x="3361" y="1097"/>
                    </a:lnTo>
                    <a:lnTo>
                      <a:pt x="3326" y="1173"/>
                    </a:lnTo>
                    <a:lnTo>
                      <a:pt x="3288" y="1247"/>
                    </a:lnTo>
                    <a:lnTo>
                      <a:pt x="3247" y="1319"/>
                    </a:lnTo>
                    <a:lnTo>
                      <a:pt x="3202" y="1390"/>
                    </a:lnTo>
                    <a:lnTo>
                      <a:pt x="3153" y="1457"/>
                    </a:lnTo>
                    <a:lnTo>
                      <a:pt x="3103" y="1522"/>
                    </a:lnTo>
                    <a:lnTo>
                      <a:pt x="3049" y="1585"/>
                    </a:lnTo>
                    <a:lnTo>
                      <a:pt x="2992" y="1645"/>
                    </a:lnTo>
                    <a:lnTo>
                      <a:pt x="2932" y="1702"/>
                    </a:lnTo>
                    <a:lnTo>
                      <a:pt x="2869" y="1756"/>
                    </a:lnTo>
                    <a:lnTo>
                      <a:pt x="2804" y="1807"/>
                    </a:lnTo>
                    <a:lnTo>
                      <a:pt x="2736" y="1856"/>
                    </a:lnTo>
                    <a:lnTo>
                      <a:pt x="2667" y="1900"/>
                    </a:lnTo>
                    <a:lnTo>
                      <a:pt x="2594" y="1942"/>
                    </a:lnTo>
                    <a:lnTo>
                      <a:pt x="2520" y="1980"/>
                    </a:lnTo>
                    <a:lnTo>
                      <a:pt x="2443" y="2013"/>
                    </a:lnTo>
                    <a:lnTo>
                      <a:pt x="2365" y="2045"/>
                    </a:lnTo>
                    <a:lnTo>
                      <a:pt x="2285" y="2072"/>
                    </a:lnTo>
                    <a:lnTo>
                      <a:pt x="2203" y="2095"/>
                    </a:lnTo>
                    <a:lnTo>
                      <a:pt x="2120" y="2115"/>
                    </a:lnTo>
                    <a:lnTo>
                      <a:pt x="2035" y="2130"/>
                    </a:lnTo>
                    <a:lnTo>
                      <a:pt x="1948" y="2140"/>
                    </a:lnTo>
                    <a:lnTo>
                      <a:pt x="1861" y="2147"/>
                    </a:lnTo>
                    <a:lnTo>
                      <a:pt x="1772" y="2149"/>
                    </a:lnTo>
                    <a:lnTo>
                      <a:pt x="1694" y="2147"/>
                    </a:lnTo>
                    <a:lnTo>
                      <a:pt x="1618" y="2143"/>
                    </a:lnTo>
                    <a:lnTo>
                      <a:pt x="1542" y="2134"/>
                    </a:lnTo>
                    <a:lnTo>
                      <a:pt x="1467" y="2123"/>
                    </a:lnTo>
                    <a:lnTo>
                      <a:pt x="1393" y="2108"/>
                    </a:lnTo>
                    <a:lnTo>
                      <a:pt x="1321" y="2090"/>
                    </a:lnTo>
                    <a:lnTo>
                      <a:pt x="1249" y="2069"/>
                    </a:lnTo>
                    <a:lnTo>
                      <a:pt x="1180" y="2045"/>
                    </a:lnTo>
                    <a:lnTo>
                      <a:pt x="1111" y="2018"/>
                    </a:lnTo>
                    <a:lnTo>
                      <a:pt x="1044" y="1989"/>
                    </a:lnTo>
                    <a:lnTo>
                      <a:pt x="978" y="1957"/>
                    </a:lnTo>
                    <a:lnTo>
                      <a:pt x="915" y="1921"/>
                    </a:lnTo>
                    <a:lnTo>
                      <a:pt x="852" y="1884"/>
                    </a:lnTo>
                    <a:lnTo>
                      <a:pt x="791" y="1844"/>
                    </a:lnTo>
                    <a:lnTo>
                      <a:pt x="732" y="1801"/>
                    </a:lnTo>
                    <a:lnTo>
                      <a:pt x="676" y="1756"/>
                    </a:lnTo>
                    <a:lnTo>
                      <a:pt x="621" y="1709"/>
                    </a:lnTo>
                    <a:lnTo>
                      <a:pt x="569" y="1660"/>
                    </a:lnTo>
                    <a:lnTo>
                      <a:pt x="518" y="1609"/>
                    </a:lnTo>
                    <a:lnTo>
                      <a:pt x="469" y="1555"/>
                    </a:lnTo>
                    <a:lnTo>
                      <a:pt x="422" y="1499"/>
                    </a:lnTo>
                    <a:lnTo>
                      <a:pt x="378" y="1442"/>
                    </a:lnTo>
                    <a:lnTo>
                      <a:pt x="337" y="1382"/>
                    </a:lnTo>
                    <a:lnTo>
                      <a:pt x="298" y="1321"/>
                    </a:lnTo>
                    <a:lnTo>
                      <a:pt x="262" y="1258"/>
                    </a:lnTo>
                    <a:lnTo>
                      <a:pt x="227" y="1194"/>
                    </a:lnTo>
                    <a:lnTo>
                      <a:pt x="196" y="1127"/>
                    </a:lnTo>
                    <a:lnTo>
                      <a:pt x="168" y="1060"/>
                    </a:lnTo>
                    <a:lnTo>
                      <a:pt x="142" y="991"/>
                    </a:lnTo>
                    <a:lnTo>
                      <a:pt x="120" y="919"/>
                    </a:lnTo>
                    <a:lnTo>
                      <a:pt x="100" y="848"/>
                    </a:lnTo>
                    <a:lnTo>
                      <a:pt x="83" y="775"/>
                    </a:lnTo>
                    <a:lnTo>
                      <a:pt x="55" y="805"/>
                    </a:lnTo>
                    <a:lnTo>
                      <a:pt x="0" y="831"/>
                    </a:lnTo>
                    <a:lnTo>
                      <a:pt x="19" y="907"/>
                    </a:lnTo>
                    <a:lnTo>
                      <a:pt x="40" y="981"/>
                    </a:lnTo>
                    <a:lnTo>
                      <a:pt x="66" y="1053"/>
                    </a:lnTo>
                    <a:lnTo>
                      <a:pt x="93" y="1124"/>
                    </a:lnTo>
                    <a:lnTo>
                      <a:pt x="125" y="1194"/>
                    </a:lnTo>
                    <a:lnTo>
                      <a:pt x="158" y="1262"/>
                    </a:lnTo>
                    <a:lnTo>
                      <a:pt x="194" y="1328"/>
                    </a:lnTo>
                    <a:lnTo>
                      <a:pt x="233" y="1393"/>
                    </a:lnTo>
                    <a:lnTo>
                      <a:pt x="275" y="1456"/>
                    </a:lnTo>
                    <a:lnTo>
                      <a:pt x="318" y="1517"/>
                    </a:lnTo>
                    <a:lnTo>
                      <a:pt x="365" y="1575"/>
                    </a:lnTo>
                    <a:lnTo>
                      <a:pt x="414" y="1633"/>
                    </a:lnTo>
                    <a:lnTo>
                      <a:pt x="465" y="1688"/>
                    </a:lnTo>
                    <a:lnTo>
                      <a:pt x="518" y="1741"/>
                    </a:lnTo>
                    <a:lnTo>
                      <a:pt x="573" y="1792"/>
                    </a:lnTo>
                    <a:lnTo>
                      <a:pt x="631" y="1841"/>
                    </a:lnTo>
                    <a:lnTo>
                      <a:pt x="691" y="1887"/>
                    </a:lnTo>
                    <a:lnTo>
                      <a:pt x="752" y="1929"/>
                    </a:lnTo>
                    <a:lnTo>
                      <a:pt x="816" y="1971"/>
                    </a:lnTo>
                    <a:lnTo>
                      <a:pt x="880" y="2009"/>
                    </a:lnTo>
                    <a:lnTo>
                      <a:pt x="947" y="2045"/>
                    </a:lnTo>
                    <a:lnTo>
                      <a:pt x="1015" y="2078"/>
                    </a:lnTo>
                    <a:lnTo>
                      <a:pt x="1085" y="2108"/>
                    </a:lnTo>
                    <a:lnTo>
                      <a:pt x="1157" y="2136"/>
                    </a:lnTo>
                    <a:lnTo>
                      <a:pt x="1230" y="2160"/>
                    </a:lnTo>
                    <a:lnTo>
                      <a:pt x="1303" y="2182"/>
                    </a:lnTo>
                    <a:lnTo>
                      <a:pt x="1378" y="2200"/>
                    </a:lnTo>
                    <a:lnTo>
                      <a:pt x="1456" y="2215"/>
                    </a:lnTo>
                    <a:lnTo>
                      <a:pt x="1533" y="2227"/>
                    </a:lnTo>
                    <a:lnTo>
                      <a:pt x="1611" y="2236"/>
                    </a:lnTo>
                    <a:lnTo>
                      <a:pt x="1691" y="2241"/>
                    </a:lnTo>
                    <a:lnTo>
                      <a:pt x="1772" y="2243"/>
                    </a:lnTo>
                    <a:lnTo>
                      <a:pt x="1866" y="2241"/>
                    </a:lnTo>
                    <a:lnTo>
                      <a:pt x="1959" y="2234"/>
                    </a:lnTo>
                    <a:lnTo>
                      <a:pt x="2049" y="2222"/>
                    </a:lnTo>
                    <a:lnTo>
                      <a:pt x="2138" y="2206"/>
                    </a:lnTo>
                    <a:lnTo>
                      <a:pt x="2226" y="2185"/>
                    </a:lnTo>
                    <a:lnTo>
                      <a:pt x="2313" y="2161"/>
                    </a:lnTo>
                    <a:lnTo>
                      <a:pt x="2397" y="2132"/>
                    </a:lnTo>
                    <a:lnTo>
                      <a:pt x="2480" y="2100"/>
                    </a:lnTo>
                    <a:lnTo>
                      <a:pt x="2561" y="2063"/>
                    </a:lnTo>
                    <a:lnTo>
                      <a:pt x="2639" y="2024"/>
                    </a:lnTo>
                    <a:lnTo>
                      <a:pt x="2715" y="1980"/>
                    </a:lnTo>
                    <a:lnTo>
                      <a:pt x="2788" y="1933"/>
                    </a:lnTo>
                    <a:lnTo>
                      <a:pt x="2859" y="1882"/>
                    </a:lnTo>
                    <a:lnTo>
                      <a:pt x="2929" y="1828"/>
                    </a:lnTo>
                    <a:lnTo>
                      <a:pt x="2994" y="1770"/>
                    </a:lnTo>
                    <a:lnTo>
                      <a:pt x="3058" y="1710"/>
                    </a:lnTo>
                    <a:lnTo>
                      <a:pt x="3118" y="1647"/>
                    </a:lnTo>
                    <a:lnTo>
                      <a:pt x="3174" y="1581"/>
                    </a:lnTo>
                    <a:lnTo>
                      <a:pt x="3228" y="1513"/>
                    </a:lnTo>
                    <a:lnTo>
                      <a:pt x="3279" y="1442"/>
                    </a:lnTo>
                    <a:lnTo>
                      <a:pt x="3326" y="1368"/>
                    </a:lnTo>
                    <a:lnTo>
                      <a:pt x="3370" y="1292"/>
                    </a:lnTo>
                    <a:lnTo>
                      <a:pt x="3411" y="1213"/>
                    </a:lnTo>
                    <a:lnTo>
                      <a:pt x="3448" y="1133"/>
                    </a:lnTo>
                    <a:lnTo>
                      <a:pt x="3480" y="1051"/>
                    </a:lnTo>
                    <a:lnTo>
                      <a:pt x="3509" y="966"/>
                    </a:lnTo>
                    <a:lnTo>
                      <a:pt x="3533" y="880"/>
                    </a:lnTo>
                    <a:lnTo>
                      <a:pt x="3553" y="792"/>
                    </a:lnTo>
                    <a:lnTo>
                      <a:pt x="3569" y="703"/>
                    </a:lnTo>
                    <a:lnTo>
                      <a:pt x="3580" y="612"/>
                    </a:lnTo>
                    <a:lnTo>
                      <a:pt x="3587" y="519"/>
                    </a:lnTo>
                    <a:lnTo>
                      <a:pt x="3589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86280" y="4159080"/>
                <a:ext cx="925200" cy="581040"/>
              </a:xfrm>
              <a:custGeom>
                <a:avLst/>
                <a:gdLst/>
                <a:ahLst/>
                <a:rect l="l" t="t" r="r" b="b"/>
                <a:pathLst>
                  <a:path w="3500" h="2196">
                    <a:moveTo>
                      <a:pt x="3500" y="426"/>
                    </a:moveTo>
                    <a:lnTo>
                      <a:pt x="3499" y="371"/>
                    </a:lnTo>
                    <a:lnTo>
                      <a:pt x="3497" y="317"/>
                    </a:lnTo>
                    <a:lnTo>
                      <a:pt x="3493" y="262"/>
                    </a:lnTo>
                    <a:lnTo>
                      <a:pt x="3488" y="209"/>
                    </a:lnTo>
                    <a:lnTo>
                      <a:pt x="3480" y="156"/>
                    </a:lnTo>
                    <a:lnTo>
                      <a:pt x="3472" y="103"/>
                    </a:lnTo>
                    <a:lnTo>
                      <a:pt x="3460" y="51"/>
                    </a:lnTo>
                    <a:lnTo>
                      <a:pt x="3448" y="0"/>
                    </a:lnTo>
                    <a:lnTo>
                      <a:pt x="3353" y="0"/>
                    </a:lnTo>
                    <a:lnTo>
                      <a:pt x="3365" y="51"/>
                    </a:lnTo>
                    <a:lnTo>
                      <a:pt x="3376" y="103"/>
                    </a:lnTo>
                    <a:lnTo>
                      <a:pt x="3385" y="155"/>
                    </a:lnTo>
                    <a:lnTo>
                      <a:pt x="3393" y="208"/>
                    </a:lnTo>
                    <a:lnTo>
                      <a:pt x="3399" y="262"/>
                    </a:lnTo>
                    <a:lnTo>
                      <a:pt x="3403" y="317"/>
                    </a:lnTo>
                    <a:lnTo>
                      <a:pt x="3406" y="371"/>
                    </a:lnTo>
                    <a:lnTo>
                      <a:pt x="3407" y="426"/>
                    </a:lnTo>
                    <a:lnTo>
                      <a:pt x="3405" y="513"/>
                    </a:lnTo>
                    <a:lnTo>
                      <a:pt x="3399" y="598"/>
                    </a:lnTo>
                    <a:lnTo>
                      <a:pt x="3387" y="681"/>
                    </a:lnTo>
                    <a:lnTo>
                      <a:pt x="3373" y="764"/>
                    </a:lnTo>
                    <a:lnTo>
                      <a:pt x="3354" y="845"/>
                    </a:lnTo>
                    <a:lnTo>
                      <a:pt x="3332" y="924"/>
                    </a:lnTo>
                    <a:lnTo>
                      <a:pt x="3305" y="1002"/>
                    </a:lnTo>
                    <a:lnTo>
                      <a:pt x="3275" y="1079"/>
                    </a:lnTo>
                    <a:lnTo>
                      <a:pt x="3242" y="1154"/>
                    </a:lnTo>
                    <a:lnTo>
                      <a:pt x="3205" y="1225"/>
                    </a:lnTo>
                    <a:lnTo>
                      <a:pt x="3164" y="1295"/>
                    </a:lnTo>
                    <a:lnTo>
                      <a:pt x="3121" y="1363"/>
                    </a:lnTo>
                    <a:lnTo>
                      <a:pt x="3074" y="1429"/>
                    </a:lnTo>
                    <a:lnTo>
                      <a:pt x="3024" y="1492"/>
                    </a:lnTo>
                    <a:lnTo>
                      <a:pt x="2971" y="1554"/>
                    </a:lnTo>
                    <a:lnTo>
                      <a:pt x="2916" y="1611"/>
                    </a:lnTo>
                    <a:lnTo>
                      <a:pt x="2857" y="1668"/>
                    </a:lnTo>
                    <a:lnTo>
                      <a:pt x="2797" y="1720"/>
                    </a:lnTo>
                    <a:lnTo>
                      <a:pt x="2733" y="1770"/>
                    </a:lnTo>
                    <a:lnTo>
                      <a:pt x="2668" y="1816"/>
                    </a:lnTo>
                    <a:lnTo>
                      <a:pt x="2600" y="1860"/>
                    </a:lnTo>
                    <a:lnTo>
                      <a:pt x="2529" y="1900"/>
                    </a:lnTo>
                    <a:lnTo>
                      <a:pt x="2457" y="1937"/>
                    </a:lnTo>
                    <a:lnTo>
                      <a:pt x="2383" y="1971"/>
                    </a:lnTo>
                    <a:lnTo>
                      <a:pt x="2307" y="2001"/>
                    </a:lnTo>
                    <a:lnTo>
                      <a:pt x="2228" y="2027"/>
                    </a:lnTo>
                    <a:lnTo>
                      <a:pt x="2149" y="2050"/>
                    </a:lnTo>
                    <a:lnTo>
                      <a:pt x="2068" y="2069"/>
                    </a:lnTo>
                    <a:lnTo>
                      <a:pt x="1985" y="2084"/>
                    </a:lnTo>
                    <a:lnTo>
                      <a:pt x="1901" y="2094"/>
                    </a:lnTo>
                    <a:lnTo>
                      <a:pt x="1815" y="2101"/>
                    </a:lnTo>
                    <a:lnTo>
                      <a:pt x="1729" y="2102"/>
                    </a:lnTo>
                    <a:lnTo>
                      <a:pt x="1653" y="2101"/>
                    </a:lnTo>
                    <a:lnTo>
                      <a:pt x="1576" y="2096"/>
                    </a:lnTo>
                    <a:lnTo>
                      <a:pt x="1503" y="2087"/>
                    </a:lnTo>
                    <a:lnTo>
                      <a:pt x="1429" y="2076"/>
                    </a:lnTo>
                    <a:lnTo>
                      <a:pt x="1356" y="2061"/>
                    </a:lnTo>
                    <a:lnTo>
                      <a:pt x="1285" y="2043"/>
                    </a:lnTo>
                    <a:lnTo>
                      <a:pt x="1214" y="2023"/>
                    </a:lnTo>
                    <a:lnTo>
                      <a:pt x="1145" y="1998"/>
                    </a:lnTo>
                    <a:lnTo>
                      <a:pt x="1078" y="1972"/>
                    </a:lnTo>
                    <a:lnTo>
                      <a:pt x="1011" y="1942"/>
                    </a:lnTo>
                    <a:lnTo>
                      <a:pt x="947" y="1910"/>
                    </a:lnTo>
                    <a:lnTo>
                      <a:pt x="884" y="1875"/>
                    </a:lnTo>
                    <a:lnTo>
                      <a:pt x="823" y="1838"/>
                    </a:lnTo>
                    <a:lnTo>
                      <a:pt x="763" y="1798"/>
                    </a:lnTo>
                    <a:lnTo>
                      <a:pt x="707" y="1755"/>
                    </a:lnTo>
                    <a:lnTo>
                      <a:pt x="650" y="1710"/>
                    </a:lnTo>
                    <a:lnTo>
                      <a:pt x="597" y="1663"/>
                    </a:lnTo>
                    <a:lnTo>
                      <a:pt x="545" y="1615"/>
                    </a:lnTo>
                    <a:lnTo>
                      <a:pt x="496" y="1563"/>
                    </a:lnTo>
                    <a:lnTo>
                      <a:pt x="448" y="1510"/>
                    </a:lnTo>
                    <a:lnTo>
                      <a:pt x="403" y="1454"/>
                    </a:lnTo>
                    <a:lnTo>
                      <a:pt x="361" y="1397"/>
                    </a:lnTo>
                    <a:lnTo>
                      <a:pt x="320" y="1338"/>
                    </a:lnTo>
                    <a:lnTo>
                      <a:pt x="282" y="1277"/>
                    </a:lnTo>
                    <a:lnTo>
                      <a:pt x="248" y="1213"/>
                    </a:lnTo>
                    <a:lnTo>
                      <a:pt x="215" y="1150"/>
                    </a:lnTo>
                    <a:lnTo>
                      <a:pt x="185" y="1084"/>
                    </a:lnTo>
                    <a:lnTo>
                      <a:pt x="158" y="1016"/>
                    </a:lnTo>
                    <a:lnTo>
                      <a:pt x="135" y="948"/>
                    </a:lnTo>
                    <a:lnTo>
                      <a:pt x="113" y="878"/>
                    </a:lnTo>
                    <a:lnTo>
                      <a:pt x="94" y="807"/>
                    </a:lnTo>
                    <a:lnTo>
                      <a:pt x="79" y="734"/>
                    </a:lnTo>
                    <a:lnTo>
                      <a:pt x="12" y="805"/>
                    </a:lnTo>
                    <a:lnTo>
                      <a:pt x="0" y="810"/>
                    </a:lnTo>
                    <a:lnTo>
                      <a:pt x="18" y="885"/>
                    </a:lnTo>
                    <a:lnTo>
                      <a:pt x="39" y="956"/>
                    </a:lnTo>
                    <a:lnTo>
                      <a:pt x="63" y="1028"/>
                    </a:lnTo>
                    <a:lnTo>
                      <a:pt x="91" y="1098"/>
                    </a:lnTo>
                    <a:lnTo>
                      <a:pt x="120" y="1166"/>
                    </a:lnTo>
                    <a:lnTo>
                      <a:pt x="152" y="1233"/>
                    </a:lnTo>
                    <a:lnTo>
                      <a:pt x="188" y="1298"/>
                    </a:lnTo>
                    <a:lnTo>
                      <a:pt x="226" y="1361"/>
                    </a:lnTo>
                    <a:lnTo>
                      <a:pt x="266" y="1423"/>
                    </a:lnTo>
                    <a:lnTo>
                      <a:pt x="309" y="1483"/>
                    </a:lnTo>
                    <a:lnTo>
                      <a:pt x="354" y="1541"/>
                    </a:lnTo>
                    <a:lnTo>
                      <a:pt x="401" y="1597"/>
                    </a:lnTo>
                    <a:lnTo>
                      <a:pt x="451" y="1651"/>
                    </a:lnTo>
                    <a:lnTo>
                      <a:pt x="503" y="1703"/>
                    </a:lnTo>
                    <a:lnTo>
                      <a:pt x="557" y="1753"/>
                    </a:lnTo>
                    <a:lnTo>
                      <a:pt x="613" y="1800"/>
                    </a:lnTo>
                    <a:lnTo>
                      <a:pt x="671" y="1846"/>
                    </a:lnTo>
                    <a:lnTo>
                      <a:pt x="731" y="1889"/>
                    </a:lnTo>
                    <a:lnTo>
                      <a:pt x="793" y="1929"/>
                    </a:lnTo>
                    <a:lnTo>
                      <a:pt x="857" y="1966"/>
                    </a:lnTo>
                    <a:lnTo>
                      <a:pt x="921" y="2002"/>
                    </a:lnTo>
                    <a:lnTo>
                      <a:pt x="988" y="2034"/>
                    </a:lnTo>
                    <a:lnTo>
                      <a:pt x="1057" y="2064"/>
                    </a:lnTo>
                    <a:lnTo>
                      <a:pt x="1127" y="2091"/>
                    </a:lnTo>
                    <a:lnTo>
                      <a:pt x="1198" y="2115"/>
                    </a:lnTo>
                    <a:lnTo>
                      <a:pt x="1271" y="2136"/>
                    </a:lnTo>
                    <a:lnTo>
                      <a:pt x="1345" y="2154"/>
                    </a:lnTo>
                    <a:lnTo>
                      <a:pt x="1420" y="2169"/>
                    </a:lnTo>
                    <a:lnTo>
                      <a:pt x="1496" y="2181"/>
                    </a:lnTo>
                    <a:lnTo>
                      <a:pt x="1572" y="2189"/>
                    </a:lnTo>
                    <a:lnTo>
                      <a:pt x="1650" y="2194"/>
                    </a:lnTo>
                    <a:lnTo>
                      <a:pt x="1729" y="2196"/>
                    </a:lnTo>
                    <a:lnTo>
                      <a:pt x="1820" y="2193"/>
                    </a:lnTo>
                    <a:lnTo>
                      <a:pt x="1910" y="2186"/>
                    </a:lnTo>
                    <a:lnTo>
                      <a:pt x="1999" y="2176"/>
                    </a:lnTo>
                    <a:lnTo>
                      <a:pt x="2086" y="2160"/>
                    </a:lnTo>
                    <a:lnTo>
                      <a:pt x="2172" y="2140"/>
                    </a:lnTo>
                    <a:lnTo>
                      <a:pt x="2256" y="2116"/>
                    </a:lnTo>
                    <a:lnTo>
                      <a:pt x="2338" y="2088"/>
                    </a:lnTo>
                    <a:lnTo>
                      <a:pt x="2418" y="2057"/>
                    </a:lnTo>
                    <a:lnTo>
                      <a:pt x="2497" y="2022"/>
                    </a:lnTo>
                    <a:lnTo>
                      <a:pt x="2573" y="1982"/>
                    </a:lnTo>
                    <a:lnTo>
                      <a:pt x="2648" y="1940"/>
                    </a:lnTo>
                    <a:lnTo>
                      <a:pt x="2719" y="1894"/>
                    </a:lnTo>
                    <a:lnTo>
                      <a:pt x="2789" y="1844"/>
                    </a:lnTo>
                    <a:lnTo>
                      <a:pt x="2856" y="1792"/>
                    </a:lnTo>
                    <a:lnTo>
                      <a:pt x="2920" y="1736"/>
                    </a:lnTo>
                    <a:lnTo>
                      <a:pt x="2981" y="1678"/>
                    </a:lnTo>
                    <a:lnTo>
                      <a:pt x="3040" y="1616"/>
                    </a:lnTo>
                    <a:lnTo>
                      <a:pt x="3095" y="1552"/>
                    </a:lnTo>
                    <a:lnTo>
                      <a:pt x="3149" y="1485"/>
                    </a:lnTo>
                    <a:lnTo>
                      <a:pt x="3198" y="1415"/>
                    </a:lnTo>
                    <a:lnTo>
                      <a:pt x="3244" y="1344"/>
                    </a:lnTo>
                    <a:lnTo>
                      <a:pt x="3287" y="1270"/>
                    </a:lnTo>
                    <a:lnTo>
                      <a:pt x="3325" y="1194"/>
                    </a:lnTo>
                    <a:lnTo>
                      <a:pt x="3361" y="1114"/>
                    </a:lnTo>
                    <a:lnTo>
                      <a:pt x="3393" y="1035"/>
                    </a:lnTo>
                    <a:lnTo>
                      <a:pt x="3421" y="952"/>
                    </a:lnTo>
                    <a:lnTo>
                      <a:pt x="3445" y="869"/>
                    </a:lnTo>
                    <a:lnTo>
                      <a:pt x="3465" y="782"/>
                    </a:lnTo>
                    <a:lnTo>
                      <a:pt x="3480" y="696"/>
                    </a:lnTo>
                    <a:lnTo>
                      <a:pt x="3491" y="607"/>
                    </a:lnTo>
                    <a:lnTo>
                      <a:pt x="3498" y="517"/>
                    </a:lnTo>
                    <a:lnTo>
                      <a:pt x="3500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95640" y="4159080"/>
                <a:ext cx="903240" cy="568440"/>
              </a:xfrm>
              <a:custGeom>
                <a:avLst/>
                <a:gdLst/>
                <a:ahLst/>
                <a:rect l="l" t="t" r="r" b="b"/>
                <a:pathLst>
                  <a:path w="3414" h="2149">
                    <a:moveTo>
                      <a:pt x="3414" y="426"/>
                    </a:moveTo>
                    <a:lnTo>
                      <a:pt x="3413" y="371"/>
                    </a:lnTo>
                    <a:lnTo>
                      <a:pt x="3411" y="317"/>
                    </a:lnTo>
                    <a:lnTo>
                      <a:pt x="3406" y="262"/>
                    </a:lnTo>
                    <a:lnTo>
                      <a:pt x="3400" y="208"/>
                    </a:lnTo>
                    <a:lnTo>
                      <a:pt x="3392" y="155"/>
                    </a:lnTo>
                    <a:lnTo>
                      <a:pt x="3383" y="103"/>
                    </a:lnTo>
                    <a:lnTo>
                      <a:pt x="3373" y="51"/>
                    </a:lnTo>
                    <a:lnTo>
                      <a:pt x="3361" y="0"/>
                    </a:lnTo>
                    <a:lnTo>
                      <a:pt x="3302" y="0"/>
                    </a:lnTo>
                    <a:lnTo>
                      <a:pt x="3264" y="0"/>
                    </a:lnTo>
                    <a:lnTo>
                      <a:pt x="3277" y="51"/>
                    </a:lnTo>
                    <a:lnTo>
                      <a:pt x="3288" y="103"/>
                    </a:lnTo>
                    <a:lnTo>
                      <a:pt x="3298" y="155"/>
                    </a:lnTo>
                    <a:lnTo>
                      <a:pt x="3306" y="208"/>
                    </a:lnTo>
                    <a:lnTo>
                      <a:pt x="3313" y="262"/>
                    </a:lnTo>
                    <a:lnTo>
                      <a:pt x="3317" y="317"/>
                    </a:lnTo>
                    <a:lnTo>
                      <a:pt x="3320" y="371"/>
                    </a:lnTo>
                    <a:lnTo>
                      <a:pt x="3321" y="426"/>
                    </a:lnTo>
                    <a:lnTo>
                      <a:pt x="3318" y="510"/>
                    </a:lnTo>
                    <a:lnTo>
                      <a:pt x="3312" y="592"/>
                    </a:lnTo>
                    <a:lnTo>
                      <a:pt x="3301" y="674"/>
                    </a:lnTo>
                    <a:lnTo>
                      <a:pt x="3287" y="755"/>
                    </a:lnTo>
                    <a:lnTo>
                      <a:pt x="3269" y="833"/>
                    </a:lnTo>
                    <a:lnTo>
                      <a:pt x="3247" y="910"/>
                    </a:lnTo>
                    <a:lnTo>
                      <a:pt x="3222" y="986"/>
                    </a:lnTo>
                    <a:lnTo>
                      <a:pt x="3193" y="1060"/>
                    </a:lnTo>
                    <a:lnTo>
                      <a:pt x="3159" y="1133"/>
                    </a:lnTo>
                    <a:lnTo>
                      <a:pt x="3124" y="1203"/>
                    </a:lnTo>
                    <a:lnTo>
                      <a:pt x="3084" y="1271"/>
                    </a:lnTo>
                    <a:lnTo>
                      <a:pt x="3042" y="1338"/>
                    </a:lnTo>
                    <a:lnTo>
                      <a:pt x="2997" y="1401"/>
                    </a:lnTo>
                    <a:lnTo>
                      <a:pt x="2948" y="1462"/>
                    </a:lnTo>
                    <a:lnTo>
                      <a:pt x="2896" y="1522"/>
                    </a:lnTo>
                    <a:lnTo>
                      <a:pt x="2842" y="1579"/>
                    </a:lnTo>
                    <a:lnTo>
                      <a:pt x="2786" y="1633"/>
                    </a:lnTo>
                    <a:lnTo>
                      <a:pt x="2727" y="1684"/>
                    </a:lnTo>
                    <a:lnTo>
                      <a:pt x="2666" y="1732"/>
                    </a:lnTo>
                    <a:lnTo>
                      <a:pt x="2601" y="1778"/>
                    </a:lnTo>
                    <a:lnTo>
                      <a:pt x="2535" y="1820"/>
                    </a:lnTo>
                    <a:lnTo>
                      <a:pt x="2466" y="1859"/>
                    </a:lnTo>
                    <a:lnTo>
                      <a:pt x="2397" y="1896"/>
                    </a:lnTo>
                    <a:lnTo>
                      <a:pt x="2324" y="1928"/>
                    </a:lnTo>
                    <a:lnTo>
                      <a:pt x="2250" y="1957"/>
                    </a:lnTo>
                    <a:lnTo>
                      <a:pt x="2174" y="1983"/>
                    </a:lnTo>
                    <a:lnTo>
                      <a:pt x="2097" y="2005"/>
                    </a:lnTo>
                    <a:lnTo>
                      <a:pt x="2017" y="2023"/>
                    </a:lnTo>
                    <a:lnTo>
                      <a:pt x="1938" y="2038"/>
                    </a:lnTo>
                    <a:lnTo>
                      <a:pt x="1856" y="2048"/>
                    </a:lnTo>
                    <a:lnTo>
                      <a:pt x="1773" y="2054"/>
                    </a:lnTo>
                    <a:lnTo>
                      <a:pt x="1689" y="2056"/>
                    </a:lnTo>
                    <a:lnTo>
                      <a:pt x="1614" y="2055"/>
                    </a:lnTo>
                    <a:lnTo>
                      <a:pt x="1540" y="2049"/>
                    </a:lnTo>
                    <a:lnTo>
                      <a:pt x="1467" y="2041"/>
                    </a:lnTo>
                    <a:lnTo>
                      <a:pt x="1395" y="2030"/>
                    </a:lnTo>
                    <a:lnTo>
                      <a:pt x="1324" y="2016"/>
                    </a:lnTo>
                    <a:lnTo>
                      <a:pt x="1254" y="1997"/>
                    </a:lnTo>
                    <a:lnTo>
                      <a:pt x="1185" y="1977"/>
                    </a:lnTo>
                    <a:lnTo>
                      <a:pt x="1118" y="1954"/>
                    </a:lnTo>
                    <a:lnTo>
                      <a:pt x="1052" y="1927"/>
                    </a:lnTo>
                    <a:lnTo>
                      <a:pt x="987" y="1898"/>
                    </a:lnTo>
                    <a:lnTo>
                      <a:pt x="924" y="1866"/>
                    </a:lnTo>
                    <a:lnTo>
                      <a:pt x="863" y="1832"/>
                    </a:lnTo>
                    <a:lnTo>
                      <a:pt x="803" y="1796"/>
                    </a:lnTo>
                    <a:lnTo>
                      <a:pt x="745" y="1755"/>
                    </a:lnTo>
                    <a:lnTo>
                      <a:pt x="689" y="1714"/>
                    </a:lnTo>
                    <a:lnTo>
                      <a:pt x="634" y="1670"/>
                    </a:lnTo>
                    <a:lnTo>
                      <a:pt x="583" y="1624"/>
                    </a:lnTo>
                    <a:lnTo>
                      <a:pt x="532" y="1575"/>
                    </a:lnTo>
                    <a:lnTo>
                      <a:pt x="485" y="1525"/>
                    </a:lnTo>
                    <a:lnTo>
                      <a:pt x="438" y="1472"/>
                    </a:lnTo>
                    <a:lnTo>
                      <a:pt x="395" y="1417"/>
                    </a:lnTo>
                    <a:lnTo>
                      <a:pt x="353" y="1361"/>
                    </a:lnTo>
                    <a:lnTo>
                      <a:pt x="314" y="1303"/>
                    </a:lnTo>
                    <a:lnTo>
                      <a:pt x="277" y="1243"/>
                    </a:lnTo>
                    <a:lnTo>
                      <a:pt x="243" y="1181"/>
                    </a:lnTo>
                    <a:lnTo>
                      <a:pt x="212" y="1119"/>
                    </a:lnTo>
                    <a:lnTo>
                      <a:pt x="183" y="1054"/>
                    </a:lnTo>
                    <a:lnTo>
                      <a:pt x="157" y="988"/>
                    </a:lnTo>
                    <a:lnTo>
                      <a:pt x="134" y="921"/>
                    </a:lnTo>
                    <a:lnTo>
                      <a:pt x="114" y="851"/>
                    </a:lnTo>
                    <a:lnTo>
                      <a:pt x="97" y="781"/>
                    </a:lnTo>
                    <a:lnTo>
                      <a:pt x="83" y="710"/>
                    </a:lnTo>
                    <a:lnTo>
                      <a:pt x="45" y="728"/>
                    </a:lnTo>
                    <a:lnTo>
                      <a:pt x="0" y="775"/>
                    </a:lnTo>
                    <a:lnTo>
                      <a:pt x="17" y="848"/>
                    </a:lnTo>
                    <a:lnTo>
                      <a:pt x="37" y="919"/>
                    </a:lnTo>
                    <a:lnTo>
                      <a:pt x="59" y="991"/>
                    </a:lnTo>
                    <a:lnTo>
                      <a:pt x="85" y="1060"/>
                    </a:lnTo>
                    <a:lnTo>
                      <a:pt x="113" y="1127"/>
                    </a:lnTo>
                    <a:lnTo>
                      <a:pt x="144" y="1194"/>
                    </a:lnTo>
                    <a:lnTo>
                      <a:pt x="179" y="1258"/>
                    </a:lnTo>
                    <a:lnTo>
                      <a:pt x="215" y="1321"/>
                    </a:lnTo>
                    <a:lnTo>
                      <a:pt x="254" y="1382"/>
                    </a:lnTo>
                    <a:lnTo>
                      <a:pt x="295" y="1442"/>
                    </a:lnTo>
                    <a:lnTo>
                      <a:pt x="339" y="1499"/>
                    </a:lnTo>
                    <a:lnTo>
                      <a:pt x="386" y="1555"/>
                    </a:lnTo>
                    <a:lnTo>
                      <a:pt x="435" y="1609"/>
                    </a:lnTo>
                    <a:lnTo>
                      <a:pt x="486" y="1660"/>
                    </a:lnTo>
                    <a:lnTo>
                      <a:pt x="538" y="1709"/>
                    </a:lnTo>
                    <a:lnTo>
                      <a:pt x="593" y="1756"/>
                    </a:lnTo>
                    <a:lnTo>
                      <a:pt x="649" y="1801"/>
                    </a:lnTo>
                    <a:lnTo>
                      <a:pt x="708" y="1844"/>
                    </a:lnTo>
                    <a:lnTo>
                      <a:pt x="769" y="1884"/>
                    </a:lnTo>
                    <a:lnTo>
                      <a:pt x="832" y="1921"/>
                    </a:lnTo>
                    <a:lnTo>
                      <a:pt x="895" y="1957"/>
                    </a:lnTo>
                    <a:lnTo>
                      <a:pt x="961" y="1989"/>
                    </a:lnTo>
                    <a:lnTo>
                      <a:pt x="1028" y="2018"/>
                    </a:lnTo>
                    <a:lnTo>
                      <a:pt x="1097" y="2045"/>
                    </a:lnTo>
                    <a:lnTo>
                      <a:pt x="1166" y="2069"/>
                    </a:lnTo>
                    <a:lnTo>
                      <a:pt x="1238" y="2090"/>
                    </a:lnTo>
                    <a:lnTo>
                      <a:pt x="1310" y="2108"/>
                    </a:lnTo>
                    <a:lnTo>
                      <a:pt x="1384" y="2123"/>
                    </a:lnTo>
                    <a:lnTo>
                      <a:pt x="1459" y="2134"/>
                    </a:lnTo>
                    <a:lnTo>
                      <a:pt x="1535" y="2143"/>
                    </a:lnTo>
                    <a:lnTo>
                      <a:pt x="1611" y="2147"/>
                    </a:lnTo>
                    <a:lnTo>
                      <a:pt x="1689" y="2149"/>
                    </a:lnTo>
                    <a:lnTo>
                      <a:pt x="1778" y="2147"/>
                    </a:lnTo>
                    <a:lnTo>
                      <a:pt x="1865" y="2140"/>
                    </a:lnTo>
                    <a:lnTo>
                      <a:pt x="1952" y="2130"/>
                    </a:lnTo>
                    <a:lnTo>
                      <a:pt x="2037" y="2115"/>
                    </a:lnTo>
                    <a:lnTo>
                      <a:pt x="2120" y="2095"/>
                    </a:lnTo>
                    <a:lnTo>
                      <a:pt x="2202" y="2072"/>
                    </a:lnTo>
                    <a:lnTo>
                      <a:pt x="2282" y="2045"/>
                    </a:lnTo>
                    <a:lnTo>
                      <a:pt x="2360" y="2013"/>
                    </a:lnTo>
                    <a:lnTo>
                      <a:pt x="2437" y="1980"/>
                    </a:lnTo>
                    <a:lnTo>
                      <a:pt x="2511" y="1942"/>
                    </a:lnTo>
                    <a:lnTo>
                      <a:pt x="2584" y="1900"/>
                    </a:lnTo>
                    <a:lnTo>
                      <a:pt x="2653" y="1856"/>
                    </a:lnTo>
                    <a:lnTo>
                      <a:pt x="2721" y="1807"/>
                    </a:lnTo>
                    <a:lnTo>
                      <a:pt x="2786" y="1756"/>
                    </a:lnTo>
                    <a:lnTo>
                      <a:pt x="2849" y="1702"/>
                    </a:lnTo>
                    <a:lnTo>
                      <a:pt x="2909" y="1645"/>
                    </a:lnTo>
                    <a:lnTo>
                      <a:pt x="2966" y="1585"/>
                    </a:lnTo>
                    <a:lnTo>
                      <a:pt x="3020" y="1522"/>
                    </a:lnTo>
                    <a:lnTo>
                      <a:pt x="3070" y="1457"/>
                    </a:lnTo>
                    <a:lnTo>
                      <a:pt x="3119" y="1390"/>
                    </a:lnTo>
                    <a:lnTo>
                      <a:pt x="3164" y="1319"/>
                    </a:lnTo>
                    <a:lnTo>
                      <a:pt x="3205" y="1247"/>
                    </a:lnTo>
                    <a:lnTo>
                      <a:pt x="3243" y="1173"/>
                    </a:lnTo>
                    <a:lnTo>
                      <a:pt x="3278" y="1097"/>
                    </a:lnTo>
                    <a:lnTo>
                      <a:pt x="3309" y="1019"/>
                    </a:lnTo>
                    <a:lnTo>
                      <a:pt x="3336" y="938"/>
                    </a:lnTo>
                    <a:lnTo>
                      <a:pt x="3359" y="857"/>
                    </a:lnTo>
                    <a:lnTo>
                      <a:pt x="3378" y="773"/>
                    </a:lnTo>
                    <a:lnTo>
                      <a:pt x="3393" y="689"/>
                    </a:lnTo>
                    <a:lnTo>
                      <a:pt x="3405" y="602"/>
                    </a:lnTo>
                    <a:lnTo>
                      <a:pt x="3412" y="515"/>
                    </a:lnTo>
                    <a:lnTo>
                      <a:pt x="3414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06800" y="4159080"/>
                <a:ext cx="879480" cy="557280"/>
              </a:xfrm>
              <a:custGeom>
                <a:avLst/>
                <a:gdLst/>
                <a:ahLst/>
                <a:rect l="l" t="t" r="r" b="b"/>
                <a:pathLst>
                  <a:path w="3328" h="2102">
                    <a:moveTo>
                      <a:pt x="3328" y="426"/>
                    </a:moveTo>
                    <a:lnTo>
                      <a:pt x="3327" y="371"/>
                    </a:lnTo>
                    <a:lnTo>
                      <a:pt x="3324" y="317"/>
                    </a:lnTo>
                    <a:lnTo>
                      <a:pt x="3320" y="262"/>
                    </a:lnTo>
                    <a:lnTo>
                      <a:pt x="3314" y="208"/>
                    </a:lnTo>
                    <a:lnTo>
                      <a:pt x="3306" y="155"/>
                    </a:lnTo>
                    <a:lnTo>
                      <a:pt x="3297" y="103"/>
                    </a:lnTo>
                    <a:lnTo>
                      <a:pt x="3286" y="51"/>
                    </a:lnTo>
                    <a:lnTo>
                      <a:pt x="3274" y="0"/>
                    </a:lnTo>
                    <a:lnTo>
                      <a:pt x="3263" y="0"/>
                    </a:lnTo>
                    <a:lnTo>
                      <a:pt x="3186" y="0"/>
                    </a:lnTo>
                    <a:lnTo>
                      <a:pt x="3177" y="0"/>
                    </a:lnTo>
                    <a:lnTo>
                      <a:pt x="3191" y="51"/>
                    </a:lnTo>
                    <a:lnTo>
                      <a:pt x="3202" y="103"/>
                    </a:lnTo>
                    <a:lnTo>
                      <a:pt x="3211" y="155"/>
                    </a:lnTo>
                    <a:lnTo>
                      <a:pt x="3219" y="208"/>
                    </a:lnTo>
                    <a:lnTo>
                      <a:pt x="3226" y="262"/>
                    </a:lnTo>
                    <a:lnTo>
                      <a:pt x="3231" y="317"/>
                    </a:lnTo>
                    <a:lnTo>
                      <a:pt x="3234" y="371"/>
                    </a:lnTo>
                    <a:lnTo>
                      <a:pt x="3234" y="426"/>
                    </a:lnTo>
                    <a:lnTo>
                      <a:pt x="3233" y="508"/>
                    </a:lnTo>
                    <a:lnTo>
                      <a:pt x="3226" y="588"/>
                    </a:lnTo>
                    <a:lnTo>
                      <a:pt x="3216" y="667"/>
                    </a:lnTo>
                    <a:lnTo>
                      <a:pt x="3202" y="745"/>
                    </a:lnTo>
                    <a:lnTo>
                      <a:pt x="3185" y="822"/>
                    </a:lnTo>
                    <a:lnTo>
                      <a:pt x="3163" y="896"/>
                    </a:lnTo>
                    <a:lnTo>
                      <a:pt x="3139" y="970"/>
                    </a:lnTo>
                    <a:lnTo>
                      <a:pt x="3110" y="1043"/>
                    </a:lnTo>
                    <a:lnTo>
                      <a:pt x="3079" y="1113"/>
                    </a:lnTo>
                    <a:lnTo>
                      <a:pt x="3043" y="1181"/>
                    </a:lnTo>
                    <a:lnTo>
                      <a:pt x="3005" y="1247"/>
                    </a:lnTo>
                    <a:lnTo>
                      <a:pt x="2965" y="1311"/>
                    </a:lnTo>
                    <a:lnTo>
                      <a:pt x="2920" y="1374"/>
                    </a:lnTo>
                    <a:lnTo>
                      <a:pt x="2872" y="1434"/>
                    </a:lnTo>
                    <a:lnTo>
                      <a:pt x="2823" y="1491"/>
                    </a:lnTo>
                    <a:lnTo>
                      <a:pt x="2771" y="1545"/>
                    </a:lnTo>
                    <a:lnTo>
                      <a:pt x="2715" y="1598"/>
                    </a:lnTo>
                    <a:lnTo>
                      <a:pt x="2658" y="1648"/>
                    </a:lnTo>
                    <a:lnTo>
                      <a:pt x="2598" y="1695"/>
                    </a:lnTo>
                    <a:lnTo>
                      <a:pt x="2536" y="1739"/>
                    </a:lnTo>
                    <a:lnTo>
                      <a:pt x="2472" y="1781"/>
                    </a:lnTo>
                    <a:lnTo>
                      <a:pt x="2405" y="1819"/>
                    </a:lnTo>
                    <a:lnTo>
                      <a:pt x="2337" y="1853"/>
                    </a:lnTo>
                    <a:lnTo>
                      <a:pt x="2267" y="1885"/>
                    </a:lnTo>
                    <a:lnTo>
                      <a:pt x="2195" y="1913"/>
                    </a:lnTo>
                    <a:lnTo>
                      <a:pt x="2121" y="1939"/>
                    </a:lnTo>
                    <a:lnTo>
                      <a:pt x="2046" y="1959"/>
                    </a:lnTo>
                    <a:lnTo>
                      <a:pt x="1969" y="1978"/>
                    </a:lnTo>
                    <a:lnTo>
                      <a:pt x="1892" y="1992"/>
                    </a:lnTo>
                    <a:lnTo>
                      <a:pt x="1812" y="2002"/>
                    </a:lnTo>
                    <a:lnTo>
                      <a:pt x="1732" y="2008"/>
                    </a:lnTo>
                    <a:lnTo>
                      <a:pt x="1650" y="2010"/>
                    </a:lnTo>
                    <a:lnTo>
                      <a:pt x="1577" y="2008"/>
                    </a:lnTo>
                    <a:lnTo>
                      <a:pt x="1504" y="2003"/>
                    </a:lnTo>
                    <a:lnTo>
                      <a:pt x="1433" y="1995"/>
                    </a:lnTo>
                    <a:lnTo>
                      <a:pt x="1363" y="1983"/>
                    </a:lnTo>
                    <a:lnTo>
                      <a:pt x="1293" y="1970"/>
                    </a:lnTo>
                    <a:lnTo>
                      <a:pt x="1225" y="1952"/>
                    </a:lnTo>
                    <a:lnTo>
                      <a:pt x="1157" y="1932"/>
                    </a:lnTo>
                    <a:lnTo>
                      <a:pt x="1091" y="1909"/>
                    </a:lnTo>
                    <a:lnTo>
                      <a:pt x="1027" y="1883"/>
                    </a:lnTo>
                    <a:lnTo>
                      <a:pt x="965" y="1854"/>
                    </a:lnTo>
                    <a:lnTo>
                      <a:pt x="903" y="1823"/>
                    </a:lnTo>
                    <a:lnTo>
                      <a:pt x="843" y="1789"/>
                    </a:lnTo>
                    <a:lnTo>
                      <a:pt x="785" y="1753"/>
                    </a:lnTo>
                    <a:lnTo>
                      <a:pt x="728" y="1714"/>
                    </a:lnTo>
                    <a:lnTo>
                      <a:pt x="674" y="1673"/>
                    </a:lnTo>
                    <a:lnTo>
                      <a:pt x="621" y="1630"/>
                    </a:lnTo>
                    <a:lnTo>
                      <a:pt x="570" y="1585"/>
                    </a:lnTo>
                    <a:lnTo>
                      <a:pt x="521" y="1537"/>
                    </a:lnTo>
                    <a:lnTo>
                      <a:pt x="474" y="1488"/>
                    </a:lnTo>
                    <a:lnTo>
                      <a:pt x="429" y="1436"/>
                    </a:lnTo>
                    <a:lnTo>
                      <a:pt x="387" y="1382"/>
                    </a:lnTo>
                    <a:lnTo>
                      <a:pt x="346" y="1326"/>
                    </a:lnTo>
                    <a:lnTo>
                      <a:pt x="309" y="1270"/>
                    </a:lnTo>
                    <a:lnTo>
                      <a:pt x="274" y="1211"/>
                    </a:lnTo>
                    <a:lnTo>
                      <a:pt x="240" y="1150"/>
                    </a:lnTo>
                    <a:lnTo>
                      <a:pt x="210" y="1088"/>
                    </a:lnTo>
                    <a:lnTo>
                      <a:pt x="183" y="1024"/>
                    </a:lnTo>
                    <a:lnTo>
                      <a:pt x="158" y="960"/>
                    </a:lnTo>
                    <a:lnTo>
                      <a:pt x="136" y="894"/>
                    </a:lnTo>
                    <a:lnTo>
                      <a:pt x="117" y="826"/>
                    </a:lnTo>
                    <a:lnTo>
                      <a:pt x="101" y="757"/>
                    </a:lnTo>
                    <a:lnTo>
                      <a:pt x="87" y="688"/>
                    </a:lnTo>
                    <a:lnTo>
                      <a:pt x="83" y="691"/>
                    </a:lnTo>
                    <a:lnTo>
                      <a:pt x="6" y="728"/>
                    </a:lnTo>
                    <a:lnTo>
                      <a:pt x="0" y="734"/>
                    </a:lnTo>
                    <a:lnTo>
                      <a:pt x="15" y="807"/>
                    </a:lnTo>
                    <a:lnTo>
                      <a:pt x="34" y="878"/>
                    </a:lnTo>
                    <a:lnTo>
                      <a:pt x="56" y="948"/>
                    </a:lnTo>
                    <a:lnTo>
                      <a:pt x="79" y="1016"/>
                    </a:lnTo>
                    <a:lnTo>
                      <a:pt x="106" y="1084"/>
                    </a:lnTo>
                    <a:lnTo>
                      <a:pt x="136" y="1150"/>
                    </a:lnTo>
                    <a:lnTo>
                      <a:pt x="169" y="1213"/>
                    </a:lnTo>
                    <a:lnTo>
                      <a:pt x="203" y="1277"/>
                    </a:lnTo>
                    <a:lnTo>
                      <a:pt x="241" y="1338"/>
                    </a:lnTo>
                    <a:lnTo>
                      <a:pt x="282" y="1397"/>
                    </a:lnTo>
                    <a:lnTo>
                      <a:pt x="324" y="1454"/>
                    </a:lnTo>
                    <a:lnTo>
                      <a:pt x="369" y="1510"/>
                    </a:lnTo>
                    <a:lnTo>
                      <a:pt x="417" y="1563"/>
                    </a:lnTo>
                    <a:lnTo>
                      <a:pt x="466" y="1615"/>
                    </a:lnTo>
                    <a:lnTo>
                      <a:pt x="518" y="1663"/>
                    </a:lnTo>
                    <a:lnTo>
                      <a:pt x="571" y="1710"/>
                    </a:lnTo>
                    <a:lnTo>
                      <a:pt x="628" y="1755"/>
                    </a:lnTo>
                    <a:lnTo>
                      <a:pt x="684" y="1798"/>
                    </a:lnTo>
                    <a:lnTo>
                      <a:pt x="744" y="1838"/>
                    </a:lnTo>
                    <a:lnTo>
                      <a:pt x="805" y="1875"/>
                    </a:lnTo>
                    <a:lnTo>
                      <a:pt x="868" y="1910"/>
                    </a:lnTo>
                    <a:lnTo>
                      <a:pt x="932" y="1942"/>
                    </a:lnTo>
                    <a:lnTo>
                      <a:pt x="999" y="1972"/>
                    </a:lnTo>
                    <a:lnTo>
                      <a:pt x="1066" y="1998"/>
                    </a:lnTo>
                    <a:lnTo>
                      <a:pt x="1135" y="2023"/>
                    </a:lnTo>
                    <a:lnTo>
                      <a:pt x="1206" y="2043"/>
                    </a:lnTo>
                    <a:lnTo>
                      <a:pt x="1277" y="2061"/>
                    </a:lnTo>
                    <a:lnTo>
                      <a:pt x="1350" y="2076"/>
                    </a:lnTo>
                    <a:lnTo>
                      <a:pt x="1424" y="2087"/>
                    </a:lnTo>
                    <a:lnTo>
                      <a:pt x="1497" y="2096"/>
                    </a:lnTo>
                    <a:lnTo>
                      <a:pt x="1574" y="2101"/>
                    </a:lnTo>
                    <a:lnTo>
                      <a:pt x="1650" y="2102"/>
                    </a:lnTo>
                    <a:lnTo>
                      <a:pt x="1736" y="2101"/>
                    </a:lnTo>
                    <a:lnTo>
                      <a:pt x="1822" y="2094"/>
                    </a:lnTo>
                    <a:lnTo>
                      <a:pt x="1906" y="2084"/>
                    </a:lnTo>
                    <a:lnTo>
                      <a:pt x="1989" y="2069"/>
                    </a:lnTo>
                    <a:lnTo>
                      <a:pt x="2070" y="2050"/>
                    </a:lnTo>
                    <a:lnTo>
                      <a:pt x="2149" y="2027"/>
                    </a:lnTo>
                    <a:lnTo>
                      <a:pt x="2228" y="2001"/>
                    </a:lnTo>
                    <a:lnTo>
                      <a:pt x="2304" y="1971"/>
                    </a:lnTo>
                    <a:lnTo>
                      <a:pt x="2378" y="1937"/>
                    </a:lnTo>
                    <a:lnTo>
                      <a:pt x="2450" y="1900"/>
                    </a:lnTo>
                    <a:lnTo>
                      <a:pt x="2521" y="1860"/>
                    </a:lnTo>
                    <a:lnTo>
                      <a:pt x="2589" y="1816"/>
                    </a:lnTo>
                    <a:lnTo>
                      <a:pt x="2654" y="1770"/>
                    </a:lnTo>
                    <a:lnTo>
                      <a:pt x="2718" y="1720"/>
                    </a:lnTo>
                    <a:lnTo>
                      <a:pt x="2778" y="1668"/>
                    </a:lnTo>
                    <a:lnTo>
                      <a:pt x="2837" y="1611"/>
                    </a:lnTo>
                    <a:lnTo>
                      <a:pt x="2892" y="1554"/>
                    </a:lnTo>
                    <a:lnTo>
                      <a:pt x="2945" y="1492"/>
                    </a:lnTo>
                    <a:lnTo>
                      <a:pt x="2995" y="1429"/>
                    </a:lnTo>
                    <a:lnTo>
                      <a:pt x="3042" y="1363"/>
                    </a:lnTo>
                    <a:lnTo>
                      <a:pt x="3085" y="1295"/>
                    </a:lnTo>
                    <a:lnTo>
                      <a:pt x="3126" y="1225"/>
                    </a:lnTo>
                    <a:lnTo>
                      <a:pt x="3163" y="1154"/>
                    </a:lnTo>
                    <a:lnTo>
                      <a:pt x="3196" y="1079"/>
                    </a:lnTo>
                    <a:lnTo>
                      <a:pt x="3226" y="1002"/>
                    </a:lnTo>
                    <a:lnTo>
                      <a:pt x="3253" y="924"/>
                    </a:lnTo>
                    <a:lnTo>
                      <a:pt x="3275" y="845"/>
                    </a:lnTo>
                    <a:lnTo>
                      <a:pt x="3294" y="764"/>
                    </a:lnTo>
                    <a:lnTo>
                      <a:pt x="3308" y="681"/>
                    </a:lnTo>
                    <a:lnTo>
                      <a:pt x="3320" y="598"/>
                    </a:lnTo>
                    <a:lnTo>
                      <a:pt x="3326" y="513"/>
                    </a:lnTo>
                    <a:lnTo>
                      <a:pt x="3328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17960" y="4159080"/>
                <a:ext cx="857160" cy="544680"/>
              </a:xfrm>
              <a:custGeom>
                <a:avLst/>
                <a:gdLst/>
                <a:ahLst/>
                <a:rect l="l" t="t" r="r" b="b"/>
                <a:pathLst>
                  <a:path w="3238" h="2056">
                    <a:moveTo>
                      <a:pt x="3238" y="426"/>
                    </a:moveTo>
                    <a:lnTo>
                      <a:pt x="3237" y="371"/>
                    </a:lnTo>
                    <a:lnTo>
                      <a:pt x="3234" y="317"/>
                    </a:lnTo>
                    <a:lnTo>
                      <a:pt x="3230" y="262"/>
                    </a:lnTo>
                    <a:lnTo>
                      <a:pt x="3223" y="208"/>
                    </a:lnTo>
                    <a:lnTo>
                      <a:pt x="3215" y="155"/>
                    </a:lnTo>
                    <a:lnTo>
                      <a:pt x="3205" y="103"/>
                    </a:lnTo>
                    <a:lnTo>
                      <a:pt x="3194" y="51"/>
                    </a:lnTo>
                    <a:lnTo>
                      <a:pt x="3181" y="0"/>
                    </a:lnTo>
                    <a:lnTo>
                      <a:pt x="3142" y="0"/>
                    </a:lnTo>
                    <a:lnTo>
                      <a:pt x="3084" y="0"/>
                    </a:lnTo>
                    <a:lnTo>
                      <a:pt x="3098" y="50"/>
                    </a:lnTo>
                    <a:lnTo>
                      <a:pt x="3110" y="102"/>
                    </a:lnTo>
                    <a:lnTo>
                      <a:pt x="3120" y="155"/>
                    </a:lnTo>
                    <a:lnTo>
                      <a:pt x="3129" y="208"/>
                    </a:lnTo>
                    <a:lnTo>
                      <a:pt x="3135" y="261"/>
                    </a:lnTo>
                    <a:lnTo>
                      <a:pt x="3141" y="315"/>
                    </a:lnTo>
                    <a:lnTo>
                      <a:pt x="3143" y="371"/>
                    </a:lnTo>
                    <a:lnTo>
                      <a:pt x="3144" y="426"/>
                    </a:lnTo>
                    <a:lnTo>
                      <a:pt x="3142" y="505"/>
                    </a:lnTo>
                    <a:lnTo>
                      <a:pt x="3136" y="583"/>
                    </a:lnTo>
                    <a:lnTo>
                      <a:pt x="3127" y="660"/>
                    </a:lnTo>
                    <a:lnTo>
                      <a:pt x="3113" y="736"/>
                    </a:lnTo>
                    <a:lnTo>
                      <a:pt x="3096" y="810"/>
                    </a:lnTo>
                    <a:lnTo>
                      <a:pt x="3075" y="883"/>
                    </a:lnTo>
                    <a:lnTo>
                      <a:pt x="3051" y="954"/>
                    </a:lnTo>
                    <a:lnTo>
                      <a:pt x="3023" y="1024"/>
                    </a:lnTo>
                    <a:lnTo>
                      <a:pt x="2992" y="1092"/>
                    </a:lnTo>
                    <a:lnTo>
                      <a:pt x="2959" y="1158"/>
                    </a:lnTo>
                    <a:lnTo>
                      <a:pt x="2922" y="1223"/>
                    </a:lnTo>
                    <a:lnTo>
                      <a:pt x="2881" y="1285"/>
                    </a:lnTo>
                    <a:lnTo>
                      <a:pt x="2839" y="1346"/>
                    </a:lnTo>
                    <a:lnTo>
                      <a:pt x="2793" y="1404"/>
                    </a:lnTo>
                    <a:lnTo>
                      <a:pt x="2744" y="1459"/>
                    </a:lnTo>
                    <a:lnTo>
                      <a:pt x="2693" y="1513"/>
                    </a:lnTo>
                    <a:lnTo>
                      <a:pt x="2640" y="1564"/>
                    </a:lnTo>
                    <a:lnTo>
                      <a:pt x="2585" y="1612"/>
                    </a:lnTo>
                    <a:lnTo>
                      <a:pt x="2526" y="1657"/>
                    </a:lnTo>
                    <a:lnTo>
                      <a:pt x="2466" y="1701"/>
                    </a:lnTo>
                    <a:lnTo>
                      <a:pt x="2404" y="1740"/>
                    </a:lnTo>
                    <a:lnTo>
                      <a:pt x="2339" y="1777"/>
                    </a:lnTo>
                    <a:lnTo>
                      <a:pt x="2272" y="1812"/>
                    </a:lnTo>
                    <a:lnTo>
                      <a:pt x="2204" y="1842"/>
                    </a:lnTo>
                    <a:lnTo>
                      <a:pt x="2135" y="1869"/>
                    </a:lnTo>
                    <a:lnTo>
                      <a:pt x="2064" y="1894"/>
                    </a:lnTo>
                    <a:lnTo>
                      <a:pt x="1991" y="1914"/>
                    </a:lnTo>
                    <a:lnTo>
                      <a:pt x="1916" y="1932"/>
                    </a:lnTo>
                    <a:lnTo>
                      <a:pt x="1840" y="1945"/>
                    </a:lnTo>
                    <a:lnTo>
                      <a:pt x="1764" y="1955"/>
                    </a:lnTo>
                    <a:lnTo>
                      <a:pt x="1685" y="1962"/>
                    </a:lnTo>
                    <a:lnTo>
                      <a:pt x="1606" y="1963"/>
                    </a:lnTo>
                    <a:lnTo>
                      <a:pt x="1534" y="1962"/>
                    </a:lnTo>
                    <a:lnTo>
                      <a:pt x="1463" y="1957"/>
                    </a:lnTo>
                    <a:lnTo>
                      <a:pt x="1392" y="1949"/>
                    </a:lnTo>
                    <a:lnTo>
                      <a:pt x="1323" y="1937"/>
                    </a:lnTo>
                    <a:lnTo>
                      <a:pt x="1255" y="1922"/>
                    </a:lnTo>
                    <a:lnTo>
                      <a:pt x="1187" y="1905"/>
                    </a:lnTo>
                    <a:lnTo>
                      <a:pt x="1121" y="1885"/>
                    </a:lnTo>
                    <a:lnTo>
                      <a:pt x="1057" y="1862"/>
                    </a:lnTo>
                    <a:lnTo>
                      <a:pt x="993" y="1836"/>
                    </a:lnTo>
                    <a:lnTo>
                      <a:pt x="932" y="1808"/>
                    </a:lnTo>
                    <a:lnTo>
                      <a:pt x="871" y="1777"/>
                    </a:lnTo>
                    <a:lnTo>
                      <a:pt x="812" y="1743"/>
                    </a:lnTo>
                    <a:lnTo>
                      <a:pt x="756" y="1707"/>
                    </a:lnTo>
                    <a:lnTo>
                      <a:pt x="700" y="1668"/>
                    </a:lnTo>
                    <a:lnTo>
                      <a:pt x="646" y="1627"/>
                    </a:lnTo>
                    <a:lnTo>
                      <a:pt x="595" y="1583"/>
                    </a:lnTo>
                    <a:lnTo>
                      <a:pt x="545" y="1539"/>
                    </a:lnTo>
                    <a:lnTo>
                      <a:pt x="497" y="1491"/>
                    </a:lnTo>
                    <a:lnTo>
                      <a:pt x="452" y="1442"/>
                    </a:lnTo>
                    <a:lnTo>
                      <a:pt x="408" y="1390"/>
                    </a:lnTo>
                    <a:lnTo>
                      <a:pt x="367" y="1337"/>
                    </a:lnTo>
                    <a:lnTo>
                      <a:pt x="329" y="1281"/>
                    </a:lnTo>
                    <a:lnTo>
                      <a:pt x="292" y="1225"/>
                    </a:lnTo>
                    <a:lnTo>
                      <a:pt x="259" y="1166"/>
                    </a:lnTo>
                    <a:lnTo>
                      <a:pt x="226" y="1106"/>
                    </a:lnTo>
                    <a:lnTo>
                      <a:pt x="197" y="1045"/>
                    </a:lnTo>
                    <a:lnTo>
                      <a:pt x="172" y="982"/>
                    </a:lnTo>
                    <a:lnTo>
                      <a:pt x="149" y="917"/>
                    </a:lnTo>
                    <a:lnTo>
                      <a:pt x="128" y="851"/>
                    </a:lnTo>
                    <a:lnTo>
                      <a:pt x="110" y="785"/>
                    </a:lnTo>
                    <a:lnTo>
                      <a:pt x="96" y="715"/>
                    </a:lnTo>
                    <a:lnTo>
                      <a:pt x="84" y="646"/>
                    </a:lnTo>
                    <a:lnTo>
                      <a:pt x="80" y="651"/>
                    </a:lnTo>
                    <a:lnTo>
                      <a:pt x="39" y="691"/>
                    </a:lnTo>
                    <a:lnTo>
                      <a:pt x="0" y="710"/>
                    </a:lnTo>
                    <a:lnTo>
                      <a:pt x="14" y="781"/>
                    </a:lnTo>
                    <a:lnTo>
                      <a:pt x="31" y="851"/>
                    </a:lnTo>
                    <a:lnTo>
                      <a:pt x="51" y="921"/>
                    </a:lnTo>
                    <a:lnTo>
                      <a:pt x="74" y="988"/>
                    </a:lnTo>
                    <a:lnTo>
                      <a:pt x="100" y="1054"/>
                    </a:lnTo>
                    <a:lnTo>
                      <a:pt x="129" y="1119"/>
                    </a:lnTo>
                    <a:lnTo>
                      <a:pt x="160" y="1181"/>
                    </a:lnTo>
                    <a:lnTo>
                      <a:pt x="194" y="1243"/>
                    </a:lnTo>
                    <a:lnTo>
                      <a:pt x="231" y="1303"/>
                    </a:lnTo>
                    <a:lnTo>
                      <a:pt x="270" y="1361"/>
                    </a:lnTo>
                    <a:lnTo>
                      <a:pt x="312" y="1417"/>
                    </a:lnTo>
                    <a:lnTo>
                      <a:pt x="355" y="1472"/>
                    </a:lnTo>
                    <a:lnTo>
                      <a:pt x="402" y="1525"/>
                    </a:lnTo>
                    <a:lnTo>
                      <a:pt x="449" y="1575"/>
                    </a:lnTo>
                    <a:lnTo>
                      <a:pt x="500" y="1624"/>
                    </a:lnTo>
                    <a:lnTo>
                      <a:pt x="551" y="1670"/>
                    </a:lnTo>
                    <a:lnTo>
                      <a:pt x="606" y="1714"/>
                    </a:lnTo>
                    <a:lnTo>
                      <a:pt x="662" y="1755"/>
                    </a:lnTo>
                    <a:lnTo>
                      <a:pt x="720" y="1796"/>
                    </a:lnTo>
                    <a:lnTo>
                      <a:pt x="780" y="1832"/>
                    </a:lnTo>
                    <a:lnTo>
                      <a:pt x="841" y="1866"/>
                    </a:lnTo>
                    <a:lnTo>
                      <a:pt x="904" y="1898"/>
                    </a:lnTo>
                    <a:lnTo>
                      <a:pt x="969" y="1927"/>
                    </a:lnTo>
                    <a:lnTo>
                      <a:pt x="1035" y="1954"/>
                    </a:lnTo>
                    <a:lnTo>
                      <a:pt x="1102" y="1977"/>
                    </a:lnTo>
                    <a:lnTo>
                      <a:pt x="1171" y="1997"/>
                    </a:lnTo>
                    <a:lnTo>
                      <a:pt x="1241" y="2016"/>
                    </a:lnTo>
                    <a:lnTo>
                      <a:pt x="1312" y="2030"/>
                    </a:lnTo>
                    <a:lnTo>
                      <a:pt x="1384" y="2041"/>
                    </a:lnTo>
                    <a:lnTo>
                      <a:pt x="1457" y="2049"/>
                    </a:lnTo>
                    <a:lnTo>
                      <a:pt x="1531" y="2055"/>
                    </a:lnTo>
                    <a:lnTo>
                      <a:pt x="1606" y="2056"/>
                    </a:lnTo>
                    <a:lnTo>
                      <a:pt x="1690" y="2054"/>
                    </a:lnTo>
                    <a:lnTo>
                      <a:pt x="1773" y="2048"/>
                    </a:lnTo>
                    <a:lnTo>
                      <a:pt x="1855" y="2038"/>
                    </a:lnTo>
                    <a:lnTo>
                      <a:pt x="1934" y="2023"/>
                    </a:lnTo>
                    <a:lnTo>
                      <a:pt x="2014" y="2005"/>
                    </a:lnTo>
                    <a:lnTo>
                      <a:pt x="2091" y="1983"/>
                    </a:lnTo>
                    <a:lnTo>
                      <a:pt x="2167" y="1957"/>
                    </a:lnTo>
                    <a:lnTo>
                      <a:pt x="2241" y="1928"/>
                    </a:lnTo>
                    <a:lnTo>
                      <a:pt x="2314" y="1896"/>
                    </a:lnTo>
                    <a:lnTo>
                      <a:pt x="2383" y="1859"/>
                    </a:lnTo>
                    <a:lnTo>
                      <a:pt x="2452" y="1820"/>
                    </a:lnTo>
                    <a:lnTo>
                      <a:pt x="2518" y="1778"/>
                    </a:lnTo>
                    <a:lnTo>
                      <a:pt x="2583" y="1732"/>
                    </a:lnTo>
                    <a:lnTo>
                      <a:pt x="2644" y="1684"/>
                    </a:lnTo>
                    <a:lnTo>
                      <a:pt x="2703" y="1633"/>
                    </a:lnTo>
                    <a:lnTo>
                      <a:pt x="2759" y="1579"/>
                    </a:lnTo>
                    <a:lnTo>
                      <a:pt x="2813" y="1522"/>
                    </a:lnTo>
                    <a:lnTo>
                      <a:pt x="2865" y="1462"/>
                    </a:lnTo>
                    <a:lnTo>
                      <a:pt x="2914" y="1401"/>
                    </a:lnTo>
                    <a:lnTo>
                      <a:pt x="2959" y="1338"/>
                    </a:lnTo>
                    <a:lnTo>
                      <a:pt x="3001" y="1271"/>
                    </a:lnTo>
                    <a:lnTo>
                      <a:pt x="3041" y="1203"/>
                    </a:lnTo>
                    <a:lnTo>
                      <a:pt x="3076" y="1133"/>
                    </a:lnTo>
                    <a:lnTo>
                      <a:pt x="3110" y="1060"/>
                    </a:lnTo>
                    <a:lnTo>
                      <a:pt x="3139" y="986"/>
                    </a:lnTo>
                    <a:lnTo>
                      <a:pt x="3164" y="910"/>
                    </a:lnTo>
                    <a:lnTo>
                      <a:pt x="3186" y="833"/>
                    </a:lnTo>
                    <a:lnTo>
                      <a:pt x="3204" y="755"/>
                    </a:lnTo>
                    <a:lnTo>
                      <a:pt x="3218" y="674"/>
                    </a:lnTo>
                    <a:lnTo>
                      <a:pt x="3229" y="592"/>
                    </a:lnTo>
                    <a:lnTo>
                      <a:pt x="3235" y="510"/>
                    </a:lnTo>
                    <a:lnTo>
                      <a:pt x="3238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29120" y="4159080"/>
                <a:ext cx="833400" cy="532080"/>
              </a:xfrm>
              <a:custGeom>
                <a:avLst/>
                <a:gdLst/>
                <a:ahLst/>
                <a:rect l="l" t="t" r="r" b="b"/>
                <a:pathLst>
                  <a:path w="3147" h="2010">
                    <a:moveTo>
                      <a:pt x="3147" y="426"/>
                    </a:moveTo>
                    <a:lnTo>
                      <a:pt x="3147" y="371"/>
                    </a:lnTo>
                    <a:lnTo>
                      <a:pt x="3144" y="317"/>
                    </a:lnTo>
                    <a:lnTo>
                      <a:pt x="3139" y="262"/>
                    </a:lnTo>
                    <a:lnTo>
                      <a:pt x="3132" y="208"/>
                    </a:lnTo>
                    <a:lnTo>
                      <a:pt x="3124" y="155"/>
                    </a:lnTo>
                    <a:lnTo>
                      <a:pt x="3115" y="103"/>
                    </a:lnTo>
                    <a:lnTo>
                      <a:pt x="3104" y="51"/>
                    </a:lnTo>
                    <a:lnTo>
                      <a:pt x="3090" y="0"/>
                    </a:lnTo>
                    <a:lnTo>
                      <a:pt x="3025" y="0"/>
                    </a:lnTo>
                    <a:lnTo>
                      <a:pt x="2993" y="0"/>
                    </a:lnTo>
                    <a:lnTo>
                      <a:pt x="3007" y="50"/>
                    </a:lnTo>
                    <a:lnTo>
                      <a:pt x="3019" y="102"/>
                    </a:lnTo>
                    <a:lnTo>
                      <a:pt x="3030" y="155"/>
                    </a:lnTo>
                    <a:lnTo>
                      <a:pt x="3039" y="208"/>
                    </a:lnTo>
                    <a:lnTo>
                      <a:pt x="3046" y="261"/>
                    </a:lnTo>
                    <a:lnTo>
                      <a:pt x="3051" y="315"/>
                    </a:lnTo>
                    <a:lnTo>
                      <a:pt x="3054" y="371"/>
                    </a:lnTo>
                    <a:lnTo>
                      <a:pt x="3055" y="426"/>
                    </a:lnTo>
                    <a:lnTo>
                      <a:pt x="3053" y="502"/>
                    </a:lnTo>
                    <a:lnTo>
                      <a:pt x="3047" y="578"/>
                    </a:lnTo>
                    <a:lnTo>
                      <a:pt x="3038" y="653"/>
                    </a:lnTo>
                    <a:lnTo>
                      <a:pt x="3024" y="726"/>
                    </a:lnTo>
                    <a:lnTo>
                      <a:pt x="3008" y="798"/>
                    </a:lnTo>
                    <a:lnTo>
                      <a:pt x="2987" y="869"/>
                    </a:lnTo>
                    <a:lnTo>
                      <a:pt x="2964" y="938"/>
                    </a:lnTo>
                    <a:lnTo>
                      <a:pt x="2938" y="1006"/>
                    </a:lnTo>
                    <a:lnTo>
                      <a:pt x="2908" y="1072"/>
                    </a:lnTo>
                    <a:lnTo>
                      <a:pt x="2874" y="1136"/>
                    </a:lnTo>
                    <a:lnTo>
                      <a:pt x="2838" y="1198"/>
                    </a:lnTo>
                    <a:lnTo>
                      <a:pt x="2800" y="1260"/>
                    </a:lnTo>
                    <a:lnTo>
                      <a:pt x="2759" y="1317"/>
                    </a:lnTo>
                    <a:lnTo>
                      <a:pt x="2714" y="1374"/>
                    </a:lnTo>
                    <a:lnTo>
                      <a:pt x="2668" y="1428"/>
                    </a:lnTo>
                    <a:lnTo>
                      <a:pt x="2618" y="1480"/>
                    </a:lnTo>
                    <a:lnTo>
                      <a:pt x="2566" y="1529"/>
                    </a:lnTo>
                    <a:lnTo>
                      <a:pt x="2512" y="1577"/>
                    </a:lnTo>
                    <a:lnTo>
                      <a:pt x="2455" y="1620"/>
                    </a:lnTo>
                    <a:lnTo>
                      <a:pt x="2397" y="1662"/>
                    </a:lnTo>
                    <a:lnTo>
                      <a:pt x="2337" y="1701"/>
                    </a:lnTo>
                    <a:lnTo>
                      <a:pt x="2274" y="1737"/>
                    </a:lnTo>
                    <a:lnTo>
                      <a:pt x="2210" y="1769"/>
                    </a:lnTo>
                    <a:lnTo>
                      <a:pt x="2144" y="1799"/>
                    </a:lnTo>
                    <a:lnTo>
                      <a:pt x="2076" y="1826"/>
                    </a:lnTo>
                    <a:lnTo>
                      <a:pt x="2007" y="1850"/>
                    </a:lnTo>
                    <a:lnTo>
                      <a:pt x="1936" y="1869"/>
                    </a:lnTo>
                    <a:lnTo>
                      <a:pt x="1864" y="1887"/>
                    </a:lnTo>
                    <a:lnTo>
                      <a:pt x="1790" y="1899"/>
                    </a:lnTo>
                    <a:lnTo>
                      <a:pt x="1716" y="1909"/>
                    </a:lnTo>
                    <a:lnTo>
                      <a:pt x="1640" y="1914"/>
                    </a:lnTo>
                    <a:lnTo>
                      <a:pt x="1563" y="1917"/>
                    </a:lnTo>
                    <a:lnTo>
                      <a:pt x="1492" y="1914"/>
                    </a:lnTo>
                    <a:lnTo>
                      <a:pt x="1422" y="1910"/>
                    </a:lnTo>
                    <a:lnTo>
                      <a:pt x="1353" y="1902"/>
                    </a:lnTo>
                    <a:lnTo>
                      <a:pt x="1284" y="1890"/>
                    </a:lnTo>
                    <a:lnTo>
                      <a:pt x="1217" y="1876"/>
                    </a:lnTo>
                    <a:lnTo>
                      <a:pt x="1151" y="1859"/>
                    </a:lnTo>
                    <a:lnTo>
                      <a:pt x="1085" y="1838"/>
                    </a:lnTo>
                    <a:lnTo>
                      <a:pt x="1022" y="1815"/>
                    </a:lnTo>
                    <a:lnTo>
                      <a:pt x="959" y="1790"/>
                    </a:lnTo>
                    <a:lnTo>
                      <a:pt x="899" y="1761"/>
                    </a:lnTo>
                    <a:lnTo>
                      <a:pt x="840" y="1730"/>
                    </a:lnTo>
                    <a:lnTo>
                      <a:pt x="782" y="1696"/>
                    </a:lnTo>
                    <a:lnTo>
                      <a:pt x="726" y="1660"/>
                    </a:lnTo>
                    <a:lnTo>
                      <a:pt x="672" y="1622"/>
                    </a:lnTo>
                    <a:lnTo>
                      <a:pt x="619" y="1580"/>
                    </a:lnTo>
                    <a:lnTo>
                      <a:pt x="570" y="1537"/>
                    </a:lnTo>
                    <a:lnTo>
                      <a:pt x="521" y="1492"/>
                    </a:lnTo>
                    <a:lnTo>
                      <a:pt x="474" y="1445"/>
                    </a:lnTo>
                    <a:lnTo>
                      <a:pt x="430" y="1396"/>
                    </a:lnTo>
                    <a:lnTo>
                      <a:pt x="389" y="1344"/>
                    </a:lnTo>
                    <a:lnTo>
                      <a:pt x="348" y="1291"/>
                    </a:lnTo>
                    <a:lnTo>
                      <a:pt x="311" y="1235"/>
                    </a:lnTo>
                    <a:lnTo>
                      <a:pt x="275" y="1179"/>
                    </a:lnTo>
                    <a:lnTo>
                      <a:pt x="243" y="1120"/>
                    </a:lnTo>
                    <a:lnTo>
                      <a:pt x="213" y="1060"/>
                    </a:lnTo>
                    <a:lnTo>
                      <a:pt x="187" y="999"/>
                    </a:lnTo>
                    <a:lnTo>
                      <a:pt x="161" y="937"/>
                    </a:lnTo>
                    <a:lnTo>
                      <a:pt x="139" y="872"/>
                    </a:lnTo>
                    <a:lnTo>
                      <a:pt x="121" y="807"/>
                    </a:lnTo>
                    <a:lnTo>
                      <a:pt x="105" y="740"/>
                    </a:lnTo>
                    <a:lnTo>
                      <a:pt x="92" y="672"/>
                    </a:lnTo>
                    <a:lnTo>
                      <a:pt x="83" y="604"/>
                    </a:lnTo>
                    <a:lnTo>
                      <a:pt x="37" y="651"/>
                    </a:lnTo>
                    <a:lnTo>
                      <a:pt x="0" y="688"/>
                    </a:lnTo>
                    <a:lnTo>
                      <a:pt x="14" y="757"/>
                    </a:lnTo>
                    <a:lnTo>
                      <a:pt x="30" y="826"/>
                    </a:lnTo>
                    <a:lnTo>
                      <a:pt x="49" y="894"/>
                    </a:lnTo>
                    <a:lnTo>
                      <a:pt x="71" y="960"/>
                    </a:lnTo>
                    <a:lnTo>
                      <a:pt x="96" y="1024"/>
                    </a:lnTo>
                    <a:lnTo>
                      <a:pt x="123" y="1088"/>
                    </a:lnTo>
                    <a:lnTo>
                      <a:pt x="153" y="1150"/>
                    </a:lnTo>
                    <a:lnTo>
                      <a:pt x="187" y="1211"/>
                    </a:lnTo>
                    <a:lnTo>
                      <a:pt x="222" y="1270"/>
                    </a:lnTo>
                    <a:lnTo>
                      <a:pt x="259" y="1326"/>
                    </a:lnTo>
                    <a:lnTo>
                      <a:pt x="300" y="1382"/>
                    </a:lnTo>
                    <a:lnTo>
                      <a:pt x="342" y="1436"/>
                    </a:lnTo>
                    <a:lnTo>
                      <a:pt x="387" y="1488"/>
                    </a:lnTo>
                    <a:lnTo>
                      <a:pt x="434" y="1537"/>
                    </a:lnTo>
                    <a:lnTo>
                      <a:pt x="483" y="1585"/>
                    </a:lnTo>
                    <a:lnTo>
                      <a:pt x="534" y="1630"/>
                    </a:lnTo>
                    <a:lnTo>
                      <a:pt x="587" y="1673"/>
                    </a:lnTo>
                    <a:lnTo>
                      <a:pt x="641" y="1714"/>
                    </a:lnTo>
                    <a:lnTo>
                      <a:pt x="698" y="1753"/>
                    </a:lnTo>
                    <a:lnTo>
                      <a:pt x="756" y="1789"/>
                    </a:lnTo>
                    <a:lnTo>
                      <a:pt x="816" y="1823"/>
                    </a:lnTo>
                    <a:lnTo>
                      <a:pt x="878" y="1854"/>
                    </a:lnTo>
                    <a:lnTo>
                      <a:pt x="940" y="1883"/>
                    </a:lnTo>
                    <a:lnTo>
                      <a:pt x="1004" y="1909"/>
                    </a:lnTo>
                    <a:lnTo>
                      <a:pt x="1070" y="1932"/>
                    </a:lnTo>
                    <a:lnTo>
                      <a:pt x="1138" y="1952"/>
                    </a:lnTo>
                    <a:lnTo>
                      <a:pt x="1206" y="1970"/>
                    </a:lnTo>
                    <a:lnTo>
                      <a:pt x="1276" y="1983"/>
                    </a:lnTo>
                    <a:lnTo>
                      <a:pt x="1346" y="1995"/>
                    </a:lnTo>
                    <a:lnTo>
                      <a:pt x="1417" y="2003"/>
                    </a:lnTo>
                    <a:lnTo>
                      <a:pt x="1490" y="2008"/>
                    </a:lnTo>
                    <a:lnTo>
                      <a:pt x="1563" y="2010"/>
                    </a:lnTo>
                    <a:lnTo>
                      <a:pt x="1645" y="2008"/>
                    </a:lnTo>
                    <a:lnTo>
                      <a:pt x="1725" y="2002"/>
                    </a:lnTo>
                    <a:lnTo>
                      <a:pt x="1805" y="1992"/>
                    </a:lnTo>
                    <a:lnTo>
                      <a:pt x="1882" y="1978"/>
                    </a:lnTo>
                    <a:lnTo>
                      <a:pt x="1959" y="1959"/>
                    </a:lnTo>
                    <a:lnTo>
                      <a:pt x="2034" y="1939"/>
                    </a:lnTo>
                    <a:lnTo>
                      <a:pt x="2108" y="1913"/>
                    </a:lnTo>
                    <a:lnTo>
                      <a:pt x="2180" y="1885"/>
                    </a:lnTo>
                    <a:lnTo>
                      <a:pt x="2250" y="1853"/>
                    </a:lnTo>
                    <a:lnTo>
                      <a:pt x="2318" y="1819"/>
                    </a:lnTo>
                    <a:lnTo>
                      <a:pt x="2385" y="1781"/>
                    </a:lnTo>
                    <a:lnTo>
                      <a:pt x="2449" y="1739"/>
                    </a:lnTo>
                    <a:lnTo>
                      <a:pt x="2511" y="1695"/>
                    </a:lnTo>
                    <a:lnTo>
                      <a:pt x="2571" y="1648"/>
                    </a:lnTo>
                    <a:lnTo>
                      <a:pt x="2628" y="1598"/>
                    </a:lnTo>
                    <a:lnTo>
                      <a:pt x="2684" y="1545"/>
                    </a:lnTo>
                    <a:lnTo>
                      <a:pt x="2736" y="1491"/>
                    </a:lnTo>
                    <a:lnTo>
                      <a:pt x="2785" y="1434"/>
                    </a:lnTo>
                    <a:lnTo>
                      <a:pt x="2833" y="1374"/>
                    </a:lnTo>
                    <a:lnTo>
                      <a:pt x="2878" y="1311"/>
                    </a:lnTo>
                    <a:lnTo>
                      <a:pt x="2918" y="1247"/>
                    </a:lnTo>
                    <a:lnTo>
                      <a:pt x="2956" y="1181"/>
                    </a:lnTo>
                    <a:lnTo>
                      <a:pt x="2992" y="1113"/>
                    </a:lnTo>
                    <a:lnTo>
                      <a:pt x="3023" y="1043"/>
                    </a:lnTo>
                    <a:lnTo>
                      <a:pt x="3052" y="970"/>
                    </a:lnTo>
                    <a:lnTo>
                      <a:pt x="3076" y="896"/>
                    </a:lnTo>
                    <a:lnTo>
                      <a:pt x="3098" y="822"/>
                    </a:lnTo>
                    <a:lnTo>
                      <a:pt x="3115" y="745"/>
                    </a:lnTo>
                    <a:lnTo>
                      <a:pt x="3129" y="667"/>
                    </a:lnTo>
                    <a:lnTo>
                      <a:pt x="3139" y="588"/>
                    </a:lnTo>
                    <a:lnTo>
                      <a:pt x="3146" y="508"/>
                    </a:lnTo>
                    <a:lnTo>
                      <a:pt x="3147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39920" y="4159080"/>
                <a:ext cx="809640" cy="519120"/>
              </a:xfrm>
              <a:custGeom>
                <a:avLst/>
                <a:gdLst/>
                <a:ahLst/>
                <a:rect l="l" t="t" r="r" b="b"/>
                <a:pathLst>
                  <a:path w="3060" h="1963">
                    <a:moveTo>
                      <a:pt x="3060" y="426"/>
                    </a:moveTo>
                    <a:lnTo>
                      <a:pt x="3059" y="371"/>
                    </a:lnTo>
                    <a:lnTo>
                      <a:pt x="3057" y="315"/>
                    </a:lnTo>
                    <a:lnTo>
                      <a:pt x="3051" y="261"/>
                    </a:lnTo>
                    <a:lnTo>
                      <a:pt x="3045" y="208"/>
                    </a:lnTo>
                    <a:lnTo>
                      <a:pt x="3036" y="155"/>
                    </a:lnTo>
                    <a:lnTo>
                      <a:pt x="3026" y="102"/>
                    </a:lnTo>
                    <a:lnTo>
                      <a:pt x="3014" y="50"/>
                    </a:lnTo>
                    <a:lnTo>
                      <a:pt x="3000" y="0"/>
                    </a:lnTo>
                    <a:lnTo>
                      <a:pt x="2984" y="0"/>
                    </a:lnTo>
                    <a:lnTo>
                      <a:pt x="2903" y="0"/>
                    </a:lnTo>
                    <a:lnTo>
                      <a:pt x="2917" y="50"/>
                    </a:lnTo>
                    <a:lnTo>
                      <a:pt x="2931" y="102"/>
                    </a:lnTo>
                    <a:lnTo>
                      <a:pt x="2942" y="155"/>
                    </a:lnTo>
                    <a:lnTo>
                      <a:pt x="2951" y="207"/>
                    </a:lnTo>
                    <a:lnTo>
                      <a:pt x="2958" y="261"/>
                    </a:lnTo>
                    <a:lnTo>
                      <a:pt x="2963" y="315"/>
                    </a:lnTo>
                    <a:lnTo>
                      <a:pt x="2966" y="371"/>
                    </a:lnTo>
                    <a:lnTo>
                      <a:pt x="2967" y="426"/>
                    </a:lnTo>
                    <a:lnTo>
                      <a:pt x="2966" y="500"/>
                    </a:lnTo>
                    <a:lnTo>
                      <a:pt x="2960" y="574"/>
                    </a:lnTo>
                    <a:lnTo>
                      <a:pt x="2951" y="646"/>
                    </a:lnTo>
                    <a:lnTo>
                      <a:pt x="2938" y="717"/>
                    </a:lnTo>
                    <a:lnTo>
                      <a:pt x="2922" y="787"/>
                    </a:lnTo>
                    <a:lnTo>
                      <a:pt x="2902" y="855"/>
                    </a:lnTo>
                    <a:lnTo>
                      <a:pt x="2879" y="923"/>
                    </a:lnTo>
                    <a:lnTo>
                      <a:pt x="2854" y="988"/>
                    </a:lnTo>
                    <a:lnTo>
                      <a:pt x="2825" y="1052"/>
                    </a:lnTo>
                    <a:lnTo>
                      <a:pt x="2793" y="1114"/>
                    </a:lnTo>
                    <a:lnTo>
                      <a:pt x="2758" y="1174"/>
                    </a:lnTo>
                    <a:lnTo>
                      <a:pt x="2720" y="1233"/>
                    </a:lnTo>
                    <a:lnTo>
                      <a:pt x="2680" y="1290"/>
                    </a:lnTo>
                    <a:lnTo>
                      <a:pt x="2637" y="1345"/>
                    </a:lnTo>
                    <a:lnTo>
                      <a:pt x="2592" y="1397"/>
                    </a:lnTo>
                    <a:lnTo>
                      <a:pt x="2544" y="1447"/>
                    </a:lnTo>
                    <a:lnTo>
                      <a:pt x="2494" y="1495"/>
                    </a:lnTo>
                    <a:lnTo>
                      <a:pt x="2441" y="1541"/>
                    </a:lnTo>
                    <a:lnTo>
                      <a:pt x="2387" y="1583"/>
                    </a:lnTo>
                    <a:lnTo>
                      <a:pt x="2330" y="1624"/>
                    </a:lnTo>
                    <a:lnTo>
                      <a:pt x="2271" y="1661"/>
                    </a:lnTo>
                    <a:lnTo>
                      <a:pt x="2210" y="1695"/>
                    </a:lnTo>
                    <a:lnTo>
                      <a:pt x="2148" y="1728"/>
                    </a:lnTo>
                    <a:lnTo>
                      <a:pt x="2085" y="1756"/>
                    </a:lnTo>
                    <a:lnTo>
                      <a:pt x="2019" y="1783"/>
                    </a:lnTo>
                    <a:lnTo>
                      <a:pt x="1952" y="1805"/>
                    </a:lnTo>
                    <a:lnTo>
                      <a:pt x="1883" y="1824"/>
                    </a:lnTo>
                    <a:lnTo>
                      <a:pt x="1814" y="1841"/>
                    </a:lnTo>
                    <a:lnTo>
                      <a:pt x="1742" y="1853"/>
                    </a:lnTo>
                    <a:lnTo>
                      <a:pt x="1669" y="1862"/>
                    </a:lnTo>
                    <a:lnTo>
                      <a:pt x="1597" y="1868"/>
                    </a:lnTo>
                    <a:lnTo>
                      <a:pt x="1522" y="1869"/>
                    </a:lnTo>
                    <a:lnTo>
                      <a:pt x="1452" y="1868"/>
                    </a:lnTo>
                    <a:lnTo>
                      <a:pt x="1383" y="1864"/>
                    </a:lnTo>
                    <a:lnTo>
                      <a:pt x="1315" y="1856"/>
                    </a:lnTo>
                    <a:lnTo>
                      <a:pt x="1248" y="1844"/>
                    </a:lnTo>
                    <a:lnTo>
                      <a:pt x="1181" y="1830"/>
                    </a:lnTo>
                    <a:lnTo>
                      <a:pt x="1117" y="1813"/>
                    </a:lnTo>
                    <a:lnTo>
                      <a:pt x="1053" y="1792"/>
                    </a:lnTo>
                    <a:lnTo>
                      <a:pt x="991" y="1769"/>
                    </a:lnTo>
                    <a:lnTo>
                      <a:pt x="930" y="1744"/>
                    </a:lnTo>
                    <a:lnTo>
                      <a:pt x="870" y="1715"/>
                    </a:lnTo>
                    <a:lnTo>
                      <a:pt x="812" y="1684"/>
                    </a:lnTo>
                    <a:lnTo>
                      <a:pt x="756" y="1650"/>
                    </a:lnTo>
                    <a:lnTo>
                      <a:pt x="702" y="1615"/>
                    </a:lnTo>
                    <a:lnTo>
                      <a:pt x="649" y="1577"/>
                    </a:lnTo>
                    <a:lnTo>
                      <a:pt x="598" y="1535"/>
                    </a:lnTo>
                    <a:lnTo>
                      <a:pt x="548" y="1492"/>
                    </a:lnTo>
                    <a:lnTo>
                      <a:pt x="501" y="1447"/>
                    </a:lnTo>
                    <a:lnTo>
                      <a:pt x="456" y="1400"/>
                    </a:lnTo>
                    <a:lnTo>
                      <a:pt x="413" y="1352"/>
                    </a:lnTo>
                    <a:lnTo>
                      <a:pt x="373" y="1300"/>
                    </a:lnTo>
                    <a:lnTo>
                      <a:pt x="334" y="1248"/>
                    </a:lnTo>
                    <a:lnTo>
                      <a:pt x="298" y="1193"/>
                    </a:lnTo>
                    <a:lnTo>
                      <a:pt x="264" y="1137"/>
                    </a:lnTo>
                    <a:lnTo>
                      <a:pt x="233" y="1079"/>
                    </a:lnTo>
                    <a:lnTo>
                      <a:pt x="205" y="1020"/>
                    </a:lnTo>
                    <a:lnTo>
                      <a:pt x="179" y="959"/>
                    </a:lnTo>
                    <a:lnTo>
                      <a:pt x="156" y="896"/>
                    </a:lnTo>
                    <a:lnTo>
                      <a:pt x="135" y="833"/>
                    </a:lnTo>
                    <a:lnTo>
                      <a:pt x="118" y="767"/>
                    </a:lnTo>
                    <a:lnTo>
                      <a:pt x="104" y="702"/>
                    </a:lnTo>
                    <a:lnTo>
                      <a:pt x="93" y="635"/>
                    </a:lnTo>
                    <a:lnTo>
                      <a:pt x="85" y="567"/>
                    </a:lnTo>
                    <a:lnTo>
                      <a:pt x="70" y="574"/>
                    </a:lnTo>
                    <a:lnTo>
                      <a:pt x="0" y="646"/>
                    </a:lnTo>
                    <a:lnTo>
                      <a:pt x="12" y="715"/>
                    </a:lnTo>
                    <a:lnTo>
                      <a:pt x="26" y="785"/>
                    </a:lnTo>
                    <a:lnTo>
                      <a:pt x="44" y="851"/>
                    </a:lnTo>
                    <a:lnTo>
                      <a:pt x="65" y="917"/>
                    </a:lnTo>
                    <a:lnTo>
                      <a:pt x="88" y="982"/>
                    </a:lnTo>
                    <a:lnTo>
                      <a:pt x="113" y="1045"/>
                    </a:lnTo>
                    <a:lnTo>
                      <a:pt x="142" y="1106"/>
                    </a:lnTo>
                    <a:lnTo>
                      <a:pt x="175" y="1166"/>
                    </a:lnTo>
                    <a:lnTo>
                      <a:pt x="208" y="1225"/>
                    </a:lnTo>
                    <a:lnTo>
                      <a:pt x="245" y="1281"/>
                    </a:lnTo>
                    <a:lnTo>
                      <a:pt x="283" y="1337"/>
                    </a:lnTo>
                    <a:lnTo>
                      <a:pt x="324" y="1390"/>
                    </a:lnTo>
                    <a:lnTo>
                      <a:pt x="368" y="1442"/>
                    </a:lnTo>
                    <a:lnTo>
                      <a:pt x="413" y="1491"/>
                    </a:lnTo>
                    <a:lnTo>
                      <a:pt x="461" y="1539"/>
                    </a:lnTo>
                    <a:lnTo>
                      <a:pt x="511" y="1583"/>
                    </a:lnTo>
                    <a:lnTo>
                      <a:pt x="562" y="1627"/>
                    </a:lnTo>
                    <a:lnTo>
                      <a:pt x="616" y="1668"/>
                    </a:lnTo>
                    <a:lnTo>
                      <a:pt x="672" y="1707"/>
                    </a:lnTo>
                    <a:lnTo>
                      <a:pt x="728" y="1743"/>
                    </a:lnTo>
                    <a:lnTo>
                      <a:pt x="787" y="1777"/>
                    </a:lnTo>
                    <a:lnTo>
                      <a:pt x="848" y="1808"/>
                    </a:lnTo>
                    <a:lnTo>
                      <a:pt x="909" y="1836"/>
                    </a:lnTo>
                    <a:lnTo>
                      <a:pt x="973" y="1862"/>
                    </a:lnTo>
                    <a:lnTo>
                      <a:pt x="1037" y="1885"/>
                    </a:lnTo>
                    <a:lnTo>
                      <a:pt x="1103" y="1905"/>
                    </a:lnTo>
                    <a:lnTo>
                      <a:pt x="1171" y="1922"/>
                    </a:lnTo>
                    <a:lnTo>
                      <a:pt x="1239" y="1937"/>
                    </a:lnTo>
                    <a:lnTo>
                      <a:pt x="1308" y="1949"/>
                    </a:lnTo>
                    <a:lnTo>
                      <a:pt x="1379" y="1957"/>
                    </a:lnTo>
                    <a:lnTo>
                      <a:pt x="1450" y="1962"/>
                    </a:lnTo>
                    <a:lnTo>
                      <a:pt x="1522" y="1963"/>
                    </a:lnTo>
                    <a:lnTo>
                      <a:pt x="1601" y="1962"/>
                    </a:lnTo>
                    <a:lnTo>
                      <a:pt x="1680" y="1955"/>
                    </a:lnTo>
                    <a:lnTo>
                      <a:pt x="1756" y="1945"/>
                    </a:lnTo>
                    <a:lnTo>
                      <a:pt x="1832" y="1932"/>
                    </a:lnTo>
                    <a:lnTo>
                      <a:pt x="1907" y="1914"/>
                    </a:lnTo>
                    <a:lnTo>
                      <a:pt x="1980" y="1894"/>
                    </a:lnTo>
                    <a:lnTo>
                      <a:pt x="2051" y="1869"/>
                    </a:lnTo>
                    <a:lnTo>
                      <a:pt x="2120" y="1842"/>
                    </a:lnTo>
                    <a:lnTo>
                      <a:pt x="2188" y="1812"/>
                    </a:lnTo>
                    <a:lnTo>
                      <a:pt x="2255" y="1777"/>
                    </a:lnTo>
                    <a:lnTo>
                      <a:pt x="2320" y="1740"/>
                    </a:lnTo>
                    <a:lnTo>
                      <a:pt x="2382" y="1701"/>
                    </a:lnTo>
                    <a:lnTo>
                      <a:pt x="2442" y="1657"/>
                    </a:lnTo>
                    <a:lnTo>
                      <a:pt x="2501" y="1612"/>
                    </a:lnTo>
                    <a:lnTo>
                      <a:pt x="2556" y="1564"/>
                    </a:lnTo>
                    <a:lnTo>
                      <a:pt x="2609" y="1513"/>
                    </a:lnTo>
                    <a:lnTo>
                      <a:pt x="2660" y="1459"/>
                    </a:lnTo>
                    <a:lnTo>
                      <a:pt x="2709" y="1404"/>
                    </a:lnTo>
                    <a:lnTo>
                      <a:pt x="2755" y="1346"/>
                    </a:lnTo>
                    <a:lnTo>
                      <a:pt x="2797" y="1285"/>
                    </a:lnTo>
                    <a:lnTo>
                      <a:pt x="2838" y="1223"/>
                    </a:lnTo>
                    <a:lnTo>
                      <a:pt x="2875" y="1158"/>
                    </a:lnTo>
                    <a:lnTo>
                      <a:pt x="2908" y="1092"/>
                    </a:lnTo>
                    <a:lnTo>
                      <a:pt x="2939" y="1024"/>
                    </a:lnTo>
                    <a:lnTo>
                      <a:pt x="2967" y="954"/>
                    </a:lnTo>
                    <a:lnTo>
                      <a:pt x="2991" y="883"/>
                    </a:lnTo>
                    <a:lnTo>
                      <a:pt x="3012" y="810"/>
                    </a:lnTo>
                    <a:lnTo>
                      <a:pt x="3029" y="736"/>
                    </a:lnTo>
                    <a:lnTo>
                      <a:pt x="3043" y="660"/>
                    </a:lnTo>
                    <a:lnTo>
                      <a:pt x="3052" y="583"/>
                    </a:lnTo>
                    <a:lnTo>
                      <a:pt x="3058" y="505"/>
                    </a:lnTo>
                    <a:lnTo>
                      <a:pt x="3060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51080" y="4159080"/>
                <a:ext cx="787680" cy="508320"/>
              </a:xfrm>
              <a:custGeom>
                <a:avLst/>
                <a:gdLst/>
                <a:ahLst/>
                <a:rect l="l" t="t" r="r" b="b"/>
                <a:pathLst>
                  <a:path w="2972" h="1917">
                    <a:moveTo>
                      <a:pt x="2972" y="426"/>
                    </a:moveTo>
                    <a:lnTo>
                      <a:pt x="2971" y="371"/>
                    </a:lnTo>
                    <a:lnTo>
                      <a:pt x="2968" y="315"/>
                    </a:lnTo>
                    <a:lnTo>
                      <a:pt x="2963" y="261"/>
                    </a:lnTo>
                    <a:lnTo>
                      <a:pt x="2956" y="208"/>
                    </a:lnTo>
                    <a:lnTo>
                      <a:pt x="2947" y="155"/>
                    </a:lnTo>
                    <a:lnTo>
                      <a:pt x="2936" y="102"/>
                    </a:lnTo>
                    <a:lnTo>
                      <a:pt x="2924" y="50"/>
                    </a:lnTo>
                    <a:lnTo>
                      <a:pt x="2910" y="0"/>
                    </a:lnTo>
                    <a:lnTo>
                      <a:pt x="2825" y="0"/>
                    </a:lnTo>
                    <a:lnTo>
                      <a:pt x="2812" y="0"/>
                    </a:lnTo>
                    <a:lnTo>
                      <a:pt x="2827" y="50"/>
                    </a:lnTo>
                    <a:lnTo>
                      <a:pt x="2841" y="102"/>
                    </a:lnTo>
                    <a:lnTo>
                      <a:pt x="2852" y="154"/>
                    </a:lnTo>
                    <a:lnTo>
                      <a:pt x="2861" y="207"/>
                    </a:lnTo>
                    <a:lnTo>
                      <a:pt x="2868" y="261"/>
                    </a:lnTo>
                    <a:lnTo>
                      <a:pt x="2874" y="315"/>
                    </a:lnTo>
                    <a:lnTo>
                      <a:pt x="2878" y="371"/>
                    </a:lnTo>
                    <a:lnTo>
                      <a:pt x="2879" y="426"/>
                    </a:lnTo>
                    <a:lnTo>
                      <a:pt x="2876" y="498"/>
                    </a:lnTo>
                    <a:lnTo>
                      <a:pt x="2871" y="569"/>
                    </a:lnTo>
                    <a:lnTo>
                      <a:pt x="2863" y="638"/>
                    </a:lnTo>
                    <a:lnTo>
                      <a:pt x="2850" y="707"/>
                    </a:lnTo>
                    <a:lnTo>
                      <a:pt x="2835" y="775"/>
                    </a:lnTo>
                    <a:lnTo>
                      <a:pt x="2815" y="841"/>
                    </a:lnTo>
                    <a:lnTo>
                      <a:pt x="2793" y="907"/>
                    </a:lnTo>
                    <a:lnTo>
                      <a:pt x="2768" y="970"/>
                    </a:lnTo>
                    <a:lnTo>
                      <a:pt x="2740" y="1031"/>
                    </a:lnTo>
                    <a:lnTo>
                      <a:pt x="2709" y="1092"/>
                    </a:lnTo>
                    <a:lnTo>
                      <a:pt x="2676" y="1150"/>
                    </a:lnTo>
                    <a:lnTo>
                      <a:pt x="2640" y="1208"/>
                    </a:lnTo>
                    <a:lnTo>
                      <a:pt x="2601" y="1262"/>
                    </a:lnTo>
                    <a:lnTo>
                      <a:pt x="2559" y="1315"/>
                    </a:lnTo>
                    <a:lnTo>
                      <a:pt x="2515" y="1366"/>
                    </a:lnTo>
                    <a:lnTo>
                      <a:pt x="2469" y="1414"/>
                    </a:lnTo>
                    <a:lnTo>
                      <a:pt x="2420" y="1460"/>
                    </a:lnTo>
                    <a:lnTo>
                      <a:pt x="2369" y="1504"/>
                    </a:lnTo>
                    <a:lnTo>
                      <a:pt x="2317" y="1545"/>
                    </a:lnTo>
                    <a:lnTo>
                      <a:pt x="2262" y="1585"/>
                    </a:lnTo>
                    <a:lnTo>
                      <a:pt x="2205" y="1622"/>
                    </a:lnTo>
                    <a:lnTo>
                      <a:pt x="2146" y="1655"/>
                    </a:lnTo>
                    <a:lnTo>
                      <a:pt x="2086" y="1686"/>
                    </a:lnTo>
                    <a:lnTo>
                      <a:pt x="2024" y="1714"/>
                    </a:lnTo>
                    <a:lnTo>
                      <a:pt x="1961" y="1739"/>
                    </a:lnTo>
                    <a:lnTo>
                      <a:pt x="1896" y="1761"/>
                    </a:lnTo>
                    <a:lnTo>
                      <a:pt x="1829" y="1779"/>
                    </a:lnTo>
                    <a:lnTo>
                      <a:pt x="1762" y="1794"/>
                    </a:lnTo>
                    <a:lnTo>
                      <a:pt x="1693" y="1807"/>
                    </a:lnTo>
                    <a:lnTo>
                      <a:pt x="1623" y="1816"/>
                    </a:lnTo>
                    <a:lnTo>
                      <a:pt x="1552" y="1822"/>
                    </a:lnTo>
                    <a:lnTo>
                      <a:pt x="1480" y="1823"/>
                    </a:lnTo>
                    <a:lnTo>
                      <a:pt x="1412" y="1822"/>
                    </a:lnTo>
                    <a:lnTo>
                      <a:pt x="1345" y="1816"/>
                    </a:lnTo>
                    <a:lnTo>
                      <a:pt x="1278" y="1809"/>
                    </a:lnTo>
                    <a:lnTo>
                      <a:pt x="1212" y="1798"/>
                    </a:lnTo>
                    <a:lnTo>
                      <a:pt x="1149" y="1784"/>
                    </a:lnTo>
                    <a:lnTo>
                      <a:pt x="1085" y="1767"/>
                    </a:lnTo>
                    <a:lnTo>
                      <a:pt x="1023" y="1747"/>
                    </a:lnTo>
                    <a:lnTo>
                      <a:pt x="962" y="1724"/>
                    </a:lnTo>
                    <a:lnTo>
                      <a:pt x="903" y="1699"/>
                    </a:lnTo>
                    <a:lnTo>
                      <a:pt x="845" y="1671"/>
                    </a:lnTo>
                    <a:lnTo>
                      <a:pt x="789" y="1641"/>
                    </a:lnTo>
                    <a:lnTo>
                      <a:pt x="733" y="1608"/>
                    </a:lnTo>
                    <a:lnTo>
                      <a:pt x="680" y="1572"/>
                    </a:lnTo>
                    <a:lnTo>
                      <a:pt x="628" y="1535"/>
                    </a:lnTo>
                    <a:lnTo>
                      <a:pt x="579" y="1495"/>
                    </a:lnTo>
                    <a:lnTo>
                      <a:pt x="532" y="1453"/>
                    </a:lnTo>
                    <a:lnTo>
                      <a:pt x="485" y="1408"/>
                    </a:lnTo>
                    <a:lnTo>
                      <a:pt x="443" y="1362"/>
                    </a:lnTo>
                    <a:lnTo>
                      <a:pt x="401" y="1315"/>
                    </a:lnTo>
                    <a:lnTo>
                      <a:pt x="361" y="1264"/>
                    </a:lnTo>
                    <a:lnTo>
                      <a:pt x="324" y="1212"/>
                    </a:lnTo>
                    <a:lnTo>
                      <a:pt x="289" y="1159"/>
                    </a:lnTo>
                    <a:lnTo>
                      <a:pt x="257" y="1104"/>
                    </a:lnTo>
                    <a:lnTo>
                      <a:pt x="227" y="1047"/>
                    </a:lnTo>
                    <a:lnTo>
                      <a:pt x="199" y="989"/>
                    </a:lnTo>
                    <a:lnTo>
                      <a:pt x="175" y="929"/>
                    </a:lnTo>
                    <a:lnTo>
                      <a:pt x="153" y="868"/>
                    </a:lnTo>
                    <a:lnTo>
                      <a:pt x="134" y="805"/>
                    </a:lnTo>
                    <a:lnTo>
                      <a:pt x="118" y="742"/>
                    </a:lnTo>
                    <a:lnTo>
                      <a:pt x="105" y="677"/>
                    </a:lnTo>
                    <a:lnTo>
                      <a:pt x="94" y="612"/>
                    </a:lnTo>
                    <a:lnTo>
                      <a:pt x="88" y="545"/>
                    </a:lnTo>
                    <a:lnTo>
                      <a:pt x="28" y="574"/>
                    </a:lnTo>
                    <a:lnTo>
                      <a:pt x="0" y="604"/>
                    </a:lnTo>
                    <a:lnTo>
                      <a:pt x="9" y="672"/>
                    </a:lnTo>
                    <a:lnTo>
                      <a:pt x="22" y="740"/>
                    </a:lnTo>
                    <a:lnTo>
                      <a:pt x="38" y="807"/>
                    </a:lnTo>
                    <a:lnTo>
                      <a:pt x="56" y="872"/>
                    </a:lnTo>
                    <a:lnTo>
                      <a:pt x="78" y="937"/>
                    </a:lnTo>
                    <a:lnTo>
                      <a:pt x="103" y="999"/>
                    </a:lnTo>
                    <a:lnTo>
                      <a:pt x="130" y="1060"/>
                    </a:lnTo>
                    <a:lnTo>
                      <a:pt x="160" y="1120"/>
                    </a:lnTo>
                    <a:lnTo>
                      <a:pt x="192" y="1179"/>
                    </a:lnTo>
                    <a:lnTo>
                      <a:pt x="228" y="1235"/>
                    </a:lnTo>
                    <a:lnTo>
                      <a:pt x="265" y="1291"/>
                    </a:lnTo>
                    <a:lnTo>
                      <a:pt x="306" y="1344"/>
                    </a:lnTo>
                    <a:lnTo>
                      <a:pt x="347" y="1396"/>
                    </a:lnTo>
                    <a:lnTo>
                      <a:pt x="391" y="1445"/>
                    </a:lnTo>
                    <a:lnTo>
                      <a:pt x="438" y="1492"/>
                    </a:lnTo>
                    <a:lnTo>
                      <a:pt x="487" y="1537"/>
                    </a:lnTo>
                    <a:lnTo>
                      <a:pt x="536" y="1580"/>
                    </a:lnTo>
                    <a:lnTo>
                      <a:pt x="589" y="1622"/>
                    </a:lnTo>
                    <a:lnTo>
                      <a:pt x="643" y="1660"/>
                    </a:lnTo>
                    <a:lnTo>
                      <a:pt x="699" y="1696"/>
                    </a:lnTo>
                    <a:lnTo>
                      <a:pt x="757" y="1730"/>
                    </a:lnTo>
                    <a:lnTo>
                      <a:pt x="816" y="1761"/>
                    </a:lnTo>
                    <a:lnTo>
                      <a:pt x="876" y="1790"/>
                    </a:lnTo>
                    <a:lnTo>
                      <a:pt x="939" y="1815"/>
                    </a:lnTo>
                    <a:lnTo>
                      <a:pt x="1002" y="1838"/>
                    </a:lnTo>
                    <a:lnTo>
                      <a:pt x="1068" y="1859"/>
                    </a:lnTo>
                    <a:lnTo>
                      <a:pt x="1134" y="1876"/>
                    </a:lnTo>
                    <a:lnTo>
                      <a:pt x="1201" y="1890"/>
                    </a:lnTo>
                    <a:lnTo>
                      <a:pt x="1270" y="1902"/>
                    </a:lnTo>
                    <a:lnTo>
                      <a:pt x="1339" y="1910"/>
                    </a:lnTo>
                    <a:lnTo>
                      <a:pt x="1409" y="1914"/>
                    </a:lnTo>
                    <a:lnTo>
                      <a:pt x="1480" y="1917"/>
                    </a:lnTo>
                    <a:lnTo>
                      <a:pt x="1557" y="1914"/>
                    </a:lnTo>
                    <a:lnTo>
                      <a:pt x="1633" y="1909"/>
                    </a:lnTo>
                    <a:lnTo>
                      <a:pt x="1707" y="1899"/>
                    </a:lnTo>
                    <a:lnTo>
                      <a:pt x="1781" y="1887"/>
                    </a:lnTo>
                    <a:lnTo>
                      <a:pt x="1853" y="1869"/>
                    </a:lnTo>
                    <a:lnTo>
                      <a:pt x="1924" y="1850"/>
                    </a:lnTo>
                    <a:lnTo>
                      <a:pt x="1993" y="1826"/>
                    </a:lnTo>
                    <a:lnTo>
                      <a:pt x="2061" y="1799"/>
                    </a:lnTo>
                    <a:lnTo>
                      <a:pt x="2127" y="1769"/>
                    </a:lnTo>
                    <a:lnTo>
                      <a:pt x="2191" y="1737"/>
                    </a:lnTo>
                    <a:lnTo>
                      <a:pt x="2254" y="1701"/>
                    </a:lnTo>
                    <a:lnTo>
                      <a:pt x="2314" y="1662"/>
                    </a:lnTo>
                    <a:lnTo>
                      <a:pt x="2372" y="1620"/>
                    </a:lnTo>
                    <a:lnTo>
                      <a:pt x="2429" y="1577"/>
                    </a:lnTo>
                    <a:lnTo>
                      <a:pt x="2483" y="1529"/>
                    </a:lnTo>
                    <a:lnTo>
                      <a:pt x="2535" y="1480"/>
                    </a:lnTo>
                    <a:lnTo>
                      <a:pt x="2585" y="1428"/>
                    </a:lnTo>
                    <a:lnTo>
                      <a:pt x="2631" y="1374"/>
                    </a:lnTo>
                    <a:lnTo>
                      <a:pt x="2676" y="1317"/>
                    </a:lnTo>
                    <a:lnTo>
                      <a:pt x="2717" y="1260"/>
                    </a:lnTo>
                    <a:lnTo>
                      <a:pt x="2755" y="1198"/>
                    </a:lnTo>
                    <a:lnTo>
                      <a:pt x="2791" y="1136"/>
                    </a:lnTo>
                    <a:lnTo>
                      <a:pt x="2825" y="1072"/>
                    </a:lnTo>
                    <a:lnTo>
                      <a:pt x="2855" y="1006"/>
                    </a:lnTo>
                    <a:lnTo>
                      <a:pt x="2881" y="938"/>
                    </a:lnTo>
                    <a:lnTo>
                      <a:pt x="2904" y="869"/>
                    </a:lnTo>
                    <a:lnTo>
                      <a:pt x="2925" y="798"/>
                    </a:lnTo>
                    <a:lnTo>
                      <a:pt x="2941" y="726"/>
                    </a:lnTo>
                    <a:lnTo>
                      <a:pt x="2955" y="653"/>
                    </a:lnTo>
                    <a:lnTo>
                      <a:pt x="2964" y="578"/>
                    </a:lnTo>
                    <a:lnTo>
                      <a:pt x="2970" y="502"/>
                    </a:lnTo>
                    <a:lnTo>
                      <a:pt x="2972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62240" y="4159080"/>
                <a:ext cx="763560" cy="495360"/>
              </a:xfrm>
              <a:custGeom>
                <a:avLst/>
                <a:gdLst/>
                <a:ahLst/>
                <a:rect l="l" t="t" r="r" b="b"/>
                <a:pathLst>
                  <a:path w="2882" h="1869">
                    <a:moveTo>
                      <a:pt x="2882" y="426"/>
                    </a:moveTo>
                    <a:lnTo>
                      <a:pt x="2881" y="371"/>
                    </a:lnTo>
                    <a:lnTo>
                      <a:pt x="2878" y="315"/>
                    </a:lnTo>
                    <a:lnTo>
                      <a:pt x="2873" y="261"/>
                    </a:lnTo>
                    <a:lnTo>
                      <a:pt x="2866" y="208"/>
                    </a:lnTo>
                    <a:lnTo>
                      <a:pt x="2857" y="155"/>
                    </a:lnTo>
                    <a:lnTo>
                      <a:pt x="2846" y="102"/>
                    </a:lnTo>
                    <a:lnTo>
                      <a:pt x="2832" y="50"/>
                    </a:lnTo>
                    <a:lnTo>
                      <a:pt x="2818" y="0"/>
                    </a:lnTo>
                    <a:lnTo>
                      <a:pt x="2782" y="0"/>
                    </a:lnTo>
                    <a:lnTo>
                      <a:pt x="2720" y="0"/>
                    </a:lnTo>
                    <a:lnTo>
                      <a:pt x="2735" y="50"/>
                    </a:lnTo>
                    <a:lnTo>
                      <a:pt x="2749" y="102"/>
                    </a:lnTo>
                    <a:lnTo>
                      <a:pt x="2762" y="154"/>
                    </a:lnTo>
                    <a:lnTo>
                      <a:pt x="2771" y="207"/>
                    </a:lnTo>
                    <a:lnTo>
                      <a:pt x="2779" y="261"/>
                    </a:lnTo>
                    <a:lnTo>
                      <a:pt x="2784" y="315"/>
                    </a:lnTo>
                    <a:lnTo>
                      <a:pt x="2787" y="371"/>
                    </a:lnTo>
                    <a:lnTo>
                      <a:pt x="2788" y="426"/>
                    </a:lnTo>
                    <a:lnTo>
                      <a:pt x="2787" y="495"/>
                    </a:lnTo>
                    <a:lnTo>
                      <a:pt x="2782" y="564"/>
                    </a:lnTo>
                    <a:lnTo>
                      <a:pt x="2774" y="631"/>
                    </a:lnTo>
                    <a:lnTo>
                      <a:pt x="2761" y="698"/>
                    </a:lnTo>
                    <a:lnTo>
                      <a:pt x="2746" y="764"/>
                    </a:lnTo>
                    <a:lnTo>
                      <a:pt x="2729" y="827"/>
                    </a:lnTo>
                    <a:lnTo>
                      <a:pt x="2707" y="891"/>
                    </a:lnTo>
                    <a:lnTo>
                      <a:pt x="2682" y="952"/>
                    </a:lnTo>
                    <a:lnTo>
                      <a:pt x="2656" y="1012"/>
                    </a:lnTo>
                    <a:lnTo>
                      <a:pt x="2626" y="1069"/>
                    </a:lnTo>
                    <a:lnTo>
                      <a:pt x="2594" y="1127"/>
                    </a:lnTo>
                    <a:lnTo>
                      <a:pt x="2558" y="1181"/>
                    </a:lnTo>
                    <a:lnTo>
                      <a:pt x="2520" y="1234"/>
                    </a:lnTo>
                    <a:lnTo>
                      <a:pt x="2481" y="1285"/>
                    </a:lnTo>
                    <a:lnTo>
                      <a:pt x="2438" y="1334"/>
                    </a:lnTo>
                    <a:lnTo>
                      <a:pt x="2393" y="1381"/>
                    </a:lnTo>
                    <a:lnTo>
                      <a:pt x="2346" y="1426"/>
                    </a:lnTo>
                    <a:lnTo>
                      <a:pt x="2297" y="1468"/>
                    </a:lnTo>
                    <a:lnTo>
                      <a:pt x="2245" y="1509"/>
                    </a:lnTo>
                    <a:lnTo>
                      <a:pt x="2193" y="1547"/>
                    </a:lnTo>
                    <a:lnTo>
                      <a:pt x="2138" y="1581"/>
                    </a:lnTo>
                    <a:lnTo>
                      <a:pt x="2081" y="1613"/>
                    </a:lnTo>
                    <a:lnTo>
                      <a:pt x="2023" y="1643"/>
                    </a:lnTo>
                    <a:lnTo>
                      <a:pt x="1964" y="1671"/>
                    </a:lnTo>
                    <a:lnTo>
                      <a:pt x="1902" y="1695"/>
                    </a:lnTo>
                    <a:lnTo>
                      <a:pt x="1839" y="1716"/>
                    </a:lnTo>
                    <a:lnTo>
                      <a:pt x="1775" y="1734"/>
                    </a:lnTo>
                    <a:lnTo>
                      <a:pt x="1710" y="1749"/>
                    </a:lnTo>
                    <a:lnTo>
                      <a:pt x="1643" y="1761"/>
                    </a:lnTo>
                    <a:lnTo>
                      <a:pt x="1575" y="1770"/>
                    </a:lnTo>
                    <a:lnTo>
                      <a:pt x="1507" y="1775"/>
                    </a:lnTo>
                    <a:lnTo>
                      <a:pt x="1437" y="1777"/>
                    </a:lnTo>
                    <a:lnTo>
                      <a:pt x="1371" y="1775"/>
                    </a:lnTo>
                    <a:lnTo>
                      <a:pt x="1305" y="1770"/>
                    </a:lnTo>
                    <a:lnTo>
                      <a:pt x="1242" y="1762"/>
                    </a:lnTo>
                    <a:lnTo>
                      <a:pt x="1178" y="1752"/>
                    </a:lnTo>
                    <a:lnTo>
                      <a:pt x="1116" y="1738"/>
                    </a:lnTo>
                    <a:lnTo>
                      <a:pt x="1054" y="1722"/>
                    </a:lnTo>
                    <a:lnTo>
                      <a:pt x="994" y="1702"/>
                    </a:lnTo>
                    <a:lnTo>
                      <a:pt x="935" y="1680"/>
                    </a:lnTo>
                    <a:lnTo>
                      <a:pt x="877" y="1656"/>
                    </a:lnTo>
                    <a:lnTo>
                      <a:pt x="822" y="1628"/>
                    </a:lnTo>
                    <a:lnTo>
                      <a:pt x="768" y="1600"/>
                    </a:lnTo>
                    <a:lnTo>
                      <a:pt x="715" y="1567"/>
                    </a:lnTo>
                    <a:lnTo>
                      <a:pt x="663" y="1533"/>
                    </a:lnTo>
                    <a:lnTo>
                      <a:pt x="613" y="1497"/>
                    </a:lnTo>
                    <a:lnTo>
                      <a:pt x="565" y="1458"/>
                    </a:lnTo>
                    <a:lnTo>
                      <a:pt x="519" y="1417"/>
                    </a:lnTo>
                    <a:lnTo>
                      <a:pt x="475" y="1374"/>
                    </a:lnTo>
                    <a:lnTo>
                      <a:pt x="432" y="1330"/>
                    </a:lnTo>
                    <a:lnTo>
                      <a:pt x="392" y="1283"/>
                    </a:lnTo>
                    <a:lnTo>
                      <a:pt x="354" y="1234"/>
                    </a:lnTo>
                    <a:lnTo>
                      <a:pt x="318" y="1183"/>
                    </a:lnTo>
                    <a:lnTo>
                      <a:pt x="284" y="1132"/>
                    </a:lnTo>
                    <a:lnTo>
                      <a:pt x="253" y="1079"/>
                    </a:lnTo>
                    <a:lnTo>
                      <a:pt x="224" y="1023"/>
                    </a:lnTo>
                    <a:lnTo>
                      <a:pt x="198" y="967"/>
                    </a:lnTo>
                    <a:lnTo>
                      <a:pt x="175" y="909"/>
                    </a:lnTo>
                    <a:lnTo>
                      <a:pt x="153" y="849"/>
                    </a:lnTo>
                    <a:lnTo>
                      <a:pt x="134" y="789"/>
                    </a:lnTo>
                    <a:lnTo>
                      <a:pt x="120" y="728"/>
                    </a:lnTo>
                    <a:lnTo>
                      <a:pt x="107" y="665"/>
                    </a:lnTo>
                    <a:lnTo>
                      <a:pt x="96" y="601"/>
                    </a:lnTo>
                    <a:lnTo>
                      <a:pt x="91" y="537"/>
                    </a:lnTo>
                    <a:lnTo>
                      <a:pt x="62" y="537"/>
                    </a:lnTo>
                    <a:lnTo>
                      <a:pt x="0" y="567"/>
                    </a:lnTo>
                    <a:lnTo>
                      <a:pt x="8" y="635"/>
                    </a:lnTo>
                    <a:lnTo>
                      <a:pt x="19" y="702"/>
                    </a:lnTo>
                    <a:lnTo>
                      <a:pt x="33" y="767"/>
                    </a:lnTo>
                    <a:lnTo>
                      <a:pt x="50" y="833"/>
                    </a:lnTo>
                    <a:lnTo>
                      <a:pt x="71" y="896"/>
                    </a:lnTo>
                    <a:lnTo>
                      <a:pt x="94" y="959"/>
                    </a:lnTo>
                    <a:lnTo>
                      <a:pt x="120" y="1020"/>
                    </a:lnTo>
                    <a:lnTo>
                      <a:pt x="148" y="1079"/>
                    </a:lnTo>
                    <a:lnTo>
                      <a:pt x="179" y="1137"/>
                    </a:lnTo>
                    <a:lnTo>
                      <a:pt x="213" y="1193"/>
                    </a:lnTo>
                    <a:lnTo>
                      <a:pt x="249" y="1248"/>
                    </a:lnTo>
                    <a:lnTo>
                      <a:pt x="288" y="1300"/>
                    </a:lnTo>
                    <a:lnTo>
                      <a:pt x="328" y="1352"/>
                    </a:lnTo>
                    <a:lnTo>
                      <a:pt x="371" y="1400"/>
                    </a:lnTo>
                    <a:lnTo>
                      <a:pt x="416" y="1447"/>
                    </a:lnTo>
                    <a:lnTo>
                      <a:pt x="463" y="1492"/>
                    </a:lnTo>
                    <a:lnTo>
                      <a:pt x="513" y="1535"/>
                    </a:lnTo>
                    <a:lnTo>
                      <a:pt x="564" y="1577"/>
                    </a:lnTo>
                    <a:lnTo>
                      <a:pt x="617" y="1615"/>
                    </a:lnTo>
                    <a:lnTo>
                      <a:pt x="671" y="1650"/>
                    </a:lnTo>
                    <a:lnTo>
                      <a:pt x="727" y="1684"/>
                    </a:lnTo>
                    <a:lnTo>
                      <a:pt x="785" y="1715"/>
                    </a:lnTo>
                    <a:lnTo>
                      <a:pt x="845" y="1744"/>
                    </a:lnTo>
                    <a:lnTo>
                      <a:pt x="906" y="1769"/>
                    </a:lnTo>
                    <a:lnTo>
                      <a:pt x="968" y="1792"/>
                    </a:lnTo>
                    <a:lnTo>
                      <a:pt x="1032" y="1813"/>
                    </a:lnTo>
                    <a:lnTo>
                      <a:pt x="1096" y="1830"/>
                    </a:lnTo>
                    <a:lnTo>
                      <a:pt x="1163" y="1844"/>
                    </a:lnTo>
                    <a:lnTo>
                      <a:pt x="1230" y="1856"/>
                    </a:lnTo>
                    <a:lnTo>
                      <a:pt x="1298" y="1864"/>
                    </a:lnTo>
                    <a:lnTo>
                      <a:pt x="1367" y="1868"/>
                    </a:lnTo>
                    <a:lnTo>
                      <a:pt x="1437" y="1869"/>
                    </a:lnTo>
                    <a:lnTo>
                      <a:pt x="1512" y="1868"/>
                    </a:lnTo>
                    <a:lnTo>
                      <a:pt x="1584" y="1862"/>
                    </a:lnTo>
                    <a:lnTo>
                      <a:pt x="1657" y="1853"/>
                    </a:lnTo>
                    <a:lnTo>
                      <a:pt x="1729" y="1841"/>
                    </a:lnTo>
                    <a:lnTo>
                      <a:pt x="1798" y="1824"/>
                    </a:lnTo>
                    <a:lnTo>
                      <a:pt x="1867" y="1805"/>
                    </a:lnTo>
                    <a:lnTo>
                      <a:pt x="1934" y="1783"/>
                    </a:lnTo>
                    <a:lnTo>
                      <a:pt x="2000" y="1756"/>
                    </a:lnTo>
                    <a:lnTo>
                      <a:pt x="2063" y="1728"/>
                    </a:lnTo>
                    <a:lnTo>
                      <a:pt x="2125" y="1695"/>
                    </a:lnTo>
                    <a:lnTo>
                      <a:pt x="2186" y="1661"/>
                    </a:lnTo>
                    <a:lnTo>
                      <a:pt x="2245" y="1624"/>
                    </a:lnTo>
                    <a:lnTo>
                      <a:pt x="2302" y="1583"/>
                    </a:lnTo>
                    <a:lnTo>
                      <a:pt x="2356" y="1540"/>
                    </a:lnTo>
                    <a:lnTo>
                      <a:pt x="2409" y="1495"/>
                    </a:lnTo>
                    <a:lnTo>
                      <a:pt x="2459" y="1447"/>
                    </a:lnTo>
                    <a:lnTo>
                      <a:pt x="2507" y="1397"/>
                    </a:lnTo>
                    <a:lnTo>
                      <a:pt x="2552" y="1345"/>
                    </a:lnTo>
                    <a:lnTo>
                      <a:pt x="2595" y="1290"/>
                    </a:lnTo>
                    <a:lnTo>
                      <a:pt x="2635" y="1233"/>
                    </a:lnTo>
                    <a:lnTo>
                      <a:pt x="2673" y="1174"/>
                    </a:lnTo>
                    <a:lnTo>
                      <a:pt x="2708" y="1114"/>
                    </a:lnTo>
                    <a:lnTo>
                      <a:pt x="2740" y="1052"/>
                    </a:lnTo>
                    <a:lnTo>
                      <a:pt x="2769" y="988"/>
                    </a:lnTo>
                    <a:lnTo>
                      <a:pt x="2794" y="923"/>
                    </a:lnTo>
                    <a:lnTo>
                      <a:pt x="2817" y="855"/>
                    </a:lnTo>
                    <a:lnTo>
                      <a:pt x="2837" y="787"/>
                    </a:lnTo>
                    <a:lnTo>
                      <a:pt x="2853" y="717"/>
                    </a:lnTo>
                    <a:lnTo>
                      <a:pt x="2866" y="646"/>
                    </a:lnTo>
                    <a:lnTo>
                      <a:pt x="2875" y="574"/>
                    </a:lnTo>
                    <a:lnTo>
                      <a:pt x="2881" y="500"/>
                    </a:lnTo>
                    <a:lnTo>
                      <a:pt x="2882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74840" y="4159080"/>
                <a:ext cx="738360" cy="482760"/>
              </a:xfrm>
              <a:custGeom>
                <a:avLst/>
                <a:gdLst/>
                <a:ahLst/>
                <a:rect l="l" t="t" r="r" b="b"/>
                <a:pathLst>
                  <a:path w="2791" h="1823">
                    <a:moveTo>
                      <a:pt x="2791" y="426"/>
                    </a:moveTo>
                    <a:lnTo>
                      <a:pt x="2790" y="371"/>
                    </a:lnTo>
                    <a:lnTo>
                      <a:pt x="2786" y="315"/>
                    </a:lnTo>
                    <a:lnTo>
                      <a:pt x="2780" y="261"/>
                    </a:lnTo>
                    <a:lnTo>
                      <a:pt x="2773" y="207"/>
                    </a:lnTo>
                    <a:lnTo>
                      <a:pt x="2764" y="154"/>
                    </a:lnTo>
                    <a:lnTo>
                      <a:pt x="2753" y="102"/>
                    </a:lnTo>
                    <a:lnTo>
                      <a:pt x="2739" y="50"/>
                    </a:lnTo>
                    <a:lnTo>
                      <a:pt x="2724" y="0"/>
                    </a:lnTo>
                    <a:lnTo>
                      <a:pt x="2659" y="0"/>
                    </a:lnTo>
                    <a:lnTo>
                      <a:pt x="2626" y="0"/>
                    </a:lnTo>
                    <a:lnTo>
                      <a:pt x="2642" y="50"/>
                    </a:lnTo>
                    <a:lnTo>
                      <a:pt x="2657" y="102"/>
                    </a:lnTo>
                    <a:lnTo>
                      <a:pt x="2669" y="154"/>
                    </a:lnTo>
                    <a:lnTo>
                      <a:pt x="2679" y="207"/>
                    </a:lnTo>
                    <a:lnTo>
                      <a:pt x="2687" y="261"/>
                    </a:lnTo>
                    <a:lnTo>
                      <a:pt x="2693" y="315"/>
                    </a:lnTo>
                    <a:lnTo>
                      <a:pt x="2696" y="370"/>
                    </a:lnTo>
                    <a:lnTo>
                      <a:pt x="2697" y="426"/>
                    </a:lnTo>
                    <a:lnTo>
                      <a:pt x="2695" y="493"/>
                    </a:lnTo>
                    <a:lnTo>
                      <a:pt x="2690" y="559"/>
                    </a:lnTo>
                    <a:lnTo>
                      <a:pt x="2682" y="624"/>
                    </a:lnTo>
                    <a:lnTo>
                      <a:pt x="2671" y="689"/>
                    </a:lnTo>
                    <a:lnTo>
                      <a:pt x="2656" y="752"/>
                    </a:lnTo>
                    <a:lnTo>
                      <a:pt x="2639" y="813"/>
                    </a:lnTo>
                    <a:lnTo>
                      <a:pt x="2618" y="875"/>
                    </a:lnTo>
                    <a:lnTo>
                      <a:pt x="2595" y="933"/>
                    </a:lnTo>
                    <a:lnTo>
                      <a:pt x="2568" y="991"/>
                    </a:lnTo>
                    <a:lnTo>
                      <a:pt x="2539" y="1047"/>
                    </a:lnTo>
                    <a:lnTo>
                      <a:pt x="2508" y="1103"/>
                    </a:lnTo>
                    <a:lnTo>
                      <a:pt x="2475" y="1155"/>
                    </a:lnTo>
                    <a:lnTo>
                      <a:pt x="2438" y="1207"/>
                    </a:lnTo>
                    <a:lnTo>
                      <a:pt x="2399" y="1256"/>
                    </a:lnTo>
                    <a:lnTo>
                      <a:pt x="2358" y="1303"/>
                    </a:lnTo>
                    <a:lnTo>
                      <a:pt x="2314" y="1348"/>
                    </a:lnTo>
                    <a:lnTo>
                      <a:pt x="2269" y="1391"/>
                    </a:lnTo>
                    <a:lnTo>
                      <a:pt x="2222" y="1432"/>
                    </a:lnTo>
                    <a:lnTo>
                      <a:pt x="2173" y="1472"/>
                    </a:lnTo>
                    <a:lnTo>
                      <a:pt x="2122" y="1507"/>
                    </a:lnTo>
                    <a:lnTo>
                      <a:pt x="2069" y="1541"/>
                    </a:lnTo>
                    <a:lnTo>
                      <a:pt x="2015" y="1573"/>
                    </a:lnTo>
                    <a:lnTo>
                      <a:pt x="1958" y="1602"/>
                    </a:lnTo>
                    <a:lnTo>
                      <a:pt x="1900" y="1627"/>
                    </a:lnTo>
                    <a:lnTo>
                      <a:pt x="1840" y="1651"/>
                    </a:lnTo>
                    <a:lnTo>
                      <a:pt x="1780" y="1671"/>
                    </a:lnTo>
                    <a:lnTo>
                      <a:pt x="1718" y="1690"/>
                    </a:lnTo>
                    <a:lnTo>
                      <a:pt x="1655" y="1703"/>
                    </a:lnTo>
                    <a:lnTo>
                      <a:pt x="1591" y="1715"/>
                    </a:lnTo>
                    <a:lnTo>
                      <a:pt x="1525" y="1723"/>
                    </a:lnTo>
                    <a:lnTo>
                      <a:pt x="1460" y="1729"/>
                    </a:lnTo>
                    <a:lnTo>
                      <a:pt x="1392" y="1730"/>
                    </a:lnTo>
                    <a:lnTo>
                      <a:pt x="1328" y="1729"/>
                    </a:lnTo>
                    <a:lnTo>
                      <a:pt x="1266" y="1724"/>
                    </a:lnTo>
                    <a:lnTo>
                      <a:pt x="1204" y="1717"/>
                    </a:lnTo>
                    <a:lnTo>
                      <a:pt x="1143" y="1707"/>
                    </a:lnTo>
                    <a:lnTo>
                      <a:pt x="1083" y="1693"/>
                    </a:lnTo>
                    <a:lnTo>
                      <a:pt x="1024" y="1677"/>
                    </a:lnTo>
                    <a:lnTo>
                      <a:pt x="965" y="1658"/>
                    </a:lnTo>
                    <a:lnTo>
                      <a:pt x="908" y="1638"/>
                    </a:lnTo>
                    <a:lnTo>
                      <a:pt x="853" y="1615"/>
                    </a:lnTo>
                    <a:lnTo>
                      <a:pt x="799" y="1588"/>
                    </a:lnTo>
                    <a:lnTo>
                      <a:pt x="747" y="1559"/>
                    </a:lnTo>
                    <a:lnTo>
                      <a:pt x="695" y="1529"/>
                    </a:lnTo>
                    <a:lnTo>
                      <a:pt x="645" y="1496"/>
                    </a:lnTo>
                    <a:lnTo>
                      <a:pt x="598" y="1460"/>
                    </a:lnTo>
                    <a:lnTo>
                      <a:pt x="551" y="1423"/>
                    </a:lnTo>
                    <a:lnTo>
                      <a:pt x="507" y="1384"/>
                    </a:lnTo>
                    <a:lnTo>
                      <a:pt x="464" y="1343"/>
                    </a:lnTo>
                    <a:lnTo>
                      <a:pt x="423" y="1300"/>
                    </a:lnTo>
                    <a:lnTo>
                      <a:pt x="385" y="1255"/>
                    </a:lnTo>
                    <a:lnTo>
                      <a:pt x="348" y="1208"/>
                    </a:lnTo>
                    <a:lnTo>
                      <a:pt x="313" y="1159"/>
                    </a:lnTo>
                    <a:lnTo>
                      <a:pt x="281" y="1110"/>
                    </a:lnTo>
                    <a:lnTo>
                      <a:pt x="251" y="1058"/>
                    </a:lnTo>
                    <a:lnTo>
                      <a:pt x="223" y="1005"/>
                    </a:lnTo>
                    <a:lnTo>
                      <a:pt x="197" y="951"/>
                    </a:lnTo>
                    <a:lnTo>
                      <a:pt x="174" y="895"/>
                    </a:lnTo>
                    <a:lnTo>
                      <a:pt x="154" y="838"/>
                    </a:lnTo>
                    <a:lnTo>
                      <a:pt x="136" y="780"/>
                    </a:lnTo>
                    <a:lnTo>
                      <a:pt x="121" y="720"/>
                    </a:lnTo>
                    <a:lnTo>
                      <a:pt x="108" y="660"/>
                    </a:lnTo>
                    <a:lnTo>
                      <a:pt x="99" y="599"/>
                    </a:lnTo>
                    <a:lnTo>
                      <a:pt x="92" y="537"/>
                    </a:lnTo>
                    <a:lnTo>
                      <a:pt x="17" y="537"/>
                    </a:lnTo>
                    <a:lnTo>
                      <a:pt x="0" y="545"/>
                    </a:lnTo>
                    <a:lnTo>
                      <a:pt x="6" y="612"/>
                    </a:lnTo>
                    <a:lnTo>
                      <a:pt x="17" y="677"/>
                    </a:lnTo>
                    <a:lnTo>
                      <a:pt x="30" y="742"/>
                    </a:lnTo>
                    <a:lnTo>
                      <a:pt x="46" y="805"/>
                    </a:lnTo>
                    <a:lnTo>
                      <a:pt x="65" y="868"/>
                    </a:lnTo>
                    <a:lnTo>
                      <a:pt x="87" y="929"/>
                    </a:lnTo>
                    <a:lnTo>
                      <a:pt x="111" y="989"/>
                    </a:lnTo>
                    <a:lnTo>
                      <a:pt x="139" y="1047"/>
                    </a:lnTo>
                    <a:lnTo>
                      <a:pt x="169" y="1104"/>
                    </a:lnTo>
                    <a:lnTo>
                      <a:pt x="201" y="1159"/>
                    </a:lnTo>
                    <a:lnTo>
                      <a:pt x="236" y="1212"/>
                    </a:lnTo>
                    <a:lnTo>
                      <a:pt x="273" y="1264"/>
                    </a:lnTo>
                    <a:lnTo>
                      <a:pt x="313" y="1315"/>
                    </a:lnTo>
                    <a:lnTo>
                      <a:pt x="355" y="1362"/>
                    </a:lnTo>
                    <a:lnTo>
                      <a:pt x="397" y="1408"/>
                    </a:lnTo>
                    <a:lnTo>
                      <a:pt x="444" y="1453"/>
                    </a:lnTo>
                    <a:lnTo>
                      <a:pt x="491" y="1495"/>
                    </a:lnTo>
                    <a:lnTo>
                      <a:pt x="540" y="1535"/>
                    </a:lnTo>
                    <a:lnTo>
                      <a:pt x="592" y="1572"/>
                    </a:lnTo>
                    <a:lnTo>
                      <a:pt x="645" y="1608"/>
                    </a:lnTo>
                    <a:lnTo>
                      <a:pt x="701" y="1641"/>
                    </a:lnTo>
                    <a:lnTo>
                      <a:pt x="757" y="1671"/>
                    </a:lnTo>
                    <a:lnTo>
                      <a:pt x="815" y="1699"/>
                    </a:lnTo>
                    <a:lnTo>
                      <a:pt x="874" y="1724"/>
                    </a:lnTo>
                    <a:lnTo>
                      <a:pt x="935" y="1747"/>
                    </a:lnTo>
                    <a:lnTo>
                      <a:pt x="997" y="1767"/>
                    </a:lnTo>
                    <a:lnTo>
                      <a:pt x="1061" y="1784"/>
                    </a:lnTo>
                    <a:lnTo>
                      <a:pt x="1124" y="1798"/>
                    </a:lnTo>
                    <a:lnTo>
                      <a:pt x="1190" y="1809"/>
                    </a:lnTo>
                    <a:lnTo>
                      <a:pt x="1257" y="1816"/>
                    </a:lnTo>
                    <a:lnTo>
                      <a:pt x="1324" y="1822"/>
                    </a:lnTo>
                    <a:lnTo>
                      <a:pt x="1392" y="1823"/>
                    </a:lnTo>
                    <a:lnTo>
                      <a:pt x="1464" y="1822"/>
                    </a:lnTo>
                    <a:lnTo>
                      <a:pt x="1535" y="1816"/>
                    </a:lnTo>
                    <a:lnTo>
                      <a:pt x="1605" y="1807"/>
                    </a:lnTo>
                    <a:lnTo>
                      <a:pt x="1674" y="1794"/>
                    </a:lnTo>
                    <a:lnTo>
                      <a:pt x="1741" y="1779"/>
                    </a:lnTo>
                    <a:lnTo>
                      <a:pt x="1808" y="1761"/>
                    </a:lnTo>
                    <a:lnTo>
                      <a:pt x="1873" y="1739"/>
                    </a:lnTo>
                    <a:lnTo>
                      <a:pt x="1936" y="1714"/>
                    </a:lnTo>
                    <a:lnTo>
                      <a:pt x="1998" y="1686"/>
                    </a:lnTo>
                    <a:lnTo>
                      <a:pt x="2058" y="1655"/>
                    </a:lnTo>
                    <a:lnTo>
                      <a:pt x="2117" y="1622"/>
                    </a:lnTo>
                    <a:lnTo>
                      <a:pt x="2174" y="1585"/>
                    </a:lnTo>
                    <a:lnTo>
                      <a:pt x="2229" y="1545"/>
                    </a:lnTo>
                    <a:lnTo>
                      <a:pt x="2281" y="1504"/>
                    </a:lnTo>
                    <a:lnTo>
                      <a:pt x="2332" y="1460"/>
                    </a:lnTo>
                    <a:lnTo>
                      <a:pt x="2381" y="1414"/>
                    </a:lnTo>
                    <a:lnTo>
                      <a:pt x="2427" y="1366"/>
                    </a:lnTo>
                    <a:lnTo>
                      <a:pt x="2471" y="1315"/>
                    </a:lnTo>
                    <a:lnTo>
                      <a:pt x="2513" y="1262"/>
                    </a:lnTo>
                    <a:lnTo>
                      <a:pt x="2552" y="1208"/>
                    </a:lnTo>
                    <a:lnTo>
                      <a:pt x="2588" y="1150"/>
                    </a:lnTo>
                    <a:lnTo>
                      <a:pt x="2621" y="1092"/>
                    </a:lnTo>
                    <a:lnTo>
                      <a:pt x="2652" y="1031"/>
                    </a:lnTo>
                    <a:lnTo>
                      <a:pt x="2680" y="970"/>
                    </a:lnTo>
                    <a:lnTo>
                      <a:pt x="2705" y="907"/>
                    </a:lnTo>
                    <a:lnTo>
                      <a:pt x="2727" y="841"/>
                    </a:lnTo>
                    <a:lnTo>
                      <a:pt x="2747" y="775"/>
                    </a:lnTo>
                    <a:lnTo>
                      <a:pt x="2762" y="707"/>
                    </a:lnTo>
                    <a:lnTo>
                      <a:pt x="2775" y="638"/>
                    </a:lnTo>
                    <a:lnTo>
                      <a:pt x="2783" y="569"/>
                    </a:lnTo>
                    <a:lnTo>
                      <a:pt x="2788" y="498"/>
                    </a:lnTo>
                    <a:lnTo>
                      <a:pt x="2791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86000" y="4159080"/>
                <a:ext cx="714600" cy="470160"/>
              </a:xfrm>
              <a:custGeom>
                <a:avLst/>
                <a:gdLst/>
                <a:ahLst/>
                <a:rect l="l" t="t" r="r" b="b"/>
                <a:pathLst>
                  <a:path w="2697" h="1777">
                    <a:moveTo>
                      <a:pt x="2697" y="426"/>
                    </a:moveTo>
                    <a:lnTo>
                      <a:pt x="2696" y="371"/>
                    </a:lnTo>
                    <a:lnTo>
                      <a:pt x="2693" y="315"/>
                    </a:lnTo>
                    <a:lnTo>
                      <a:pt x="2688" y="261"/>
                    </a:lnTo>
                    <a:lnTo>
                      <a:pt x="2680" y="207"/>
                    </a:lnTo>
                    <a:lnTo>
                      <a:pt x="2671" y="154"/>
                    </a:lnTo>
                    <a:lnTo>
                      <a:pt x="2658" y="102"/>
                    </a:lnTo>
                    <a:lnTo>
                      <a:pt x="2644" y="50"/>
                    </a:lnTo>
                    <a:lnTo>
                      <a:pt x="2629" y="0"/>
                    </a:lnTo>
                    <a:lnTo>
                      <a:pt x="2613" y="0"/>
                    </a:lnTo>
                    <a:lnTo>
                      <a:pt x="2539" y="0"/>
                    </a:lnTo>
                    <a:lnTo>
                      <a:pt x="2533" y="7"/>
                    </a:lnTo>
                    <a:lnTo>
                      <a:pt x="2549" y="56"/>
                    </a:lnTo>
                    <a:lnTo>
                      <a:pt x="2564" y="107"/>
                    </a:lnTo>
                    <a:lnTo>
                      <a:pt x="2576" y="158"/>
                    </a:lnTo>
                    <a:lnTo>
                      <a:pt x="2586" y="211"/>
                    </a:lnTo>
                    <a:lnTo>
                      <a:pt x="2594" y="264"/>
                    </a:lnTo>
                    <a:lnTo>
                      <a:pt x="2599" y="317"/>
                    </a:lnTo>
                    <a:lnTo>
                      <a:pt x="2603" y="371"/>
                    </a:lnTo>
                    <a:lnTo>
                      <a:pt x="2605" y="426"/>
                    </a:lnTo>
                    <a:lnTo>
                      <a:pt x="2603" y="491"/>
                    </a:lnTo>
                    <a:lnTo>
                      <a:pt x="2598" y="554"/>
                    </a:lnTo>
                    <a:lnTo>
                      <a:pt x="2590" y="617"/>
                    </a:lnTo>
                    <a:lnTo>
                      <a:pt x="2579" y="680"/>
                    </a:lnTo>
                    <a:lnTo>
                      <a:pt x="2565" y="741"/>
                    </a:lnTo>
                    <a:lnTo>
                      <a:pt x="2548" y="800"/>
                    </a:lnTo>
                    <a:lnTo>
                      <a:pt x="2528" y="858"/>
                    </a:lnTo>
                    <a:lnTo>
                      <a:pt x="2506" y="915"/>
                    </a:lnTo>
                    <a:lnTo>
                      <a:pt x="2481" y="971"/>
                    </a:lnTo>
                    <a:lnTo>
                      <a:pt x="2453" y="1026"/>
                    </a:lnTo>
                    <a:lnTo>
                      <a:pt x="2422" y="1079"/>
                    </a:lnTo>
                    <a:lnTo>
                      <a:pt x="2390" y="1129"/>
                    </a:lnTo>
                    <a:lnTo>
                      <a:pt x="2355" y="1179"/>
                    </a:lnTo>
                    <a:lnTo>
                      <a:pt x="2317" y="1226"/>
                    </a:lnTo>
                    <a:lnTo>
                      <a:pt x="2278" y="1271"/>
                    </a:lnTo>
                    <a:lnTo>
                      <a:pt x="2236" y="1315"/>
                    </a:lnTo>
                    <a:lnTo>
                      <a:pt x="2192" y="1356"/>
                    </a:lnTo>
                    <a:lnTo>
                      <a:pt x="2146" y="1397"/>
                    </a:lnTo>
                    <a:lnTo>
                      <a:pt x="2099" y="1434"/>
                    </a:lnTo>
                    <a:lnTo>
                      <a:pt x="2049" y="1468"/>
                    </a:lnTo>
                    <a:lnTo>
                      <a:pt x="1999" y="1502"/>
                    </a:lnTo>
                    <a:lnTo>
                      <a:pt x="1945" y="1532"/>
                    </a:lnTo>
                    <a:lnTo>
                      <a:pt x="1891" y="1559"/>
                    </a:lnTo>
                    <a:lnTo>
                      <a:pt x="1836" y="1585"/>
                    </a:lnTo>
                    <a:lnTo>
                      <a:pt x="1778" y="1608"/>
                    </a:lnTo>
                    <a:lnTo>
                      <a:pt x="1721" y="1627"/>
                    </a:lnTo>
                    <a:lnTo>
                      <a:pt x="1661" y="1643"/>
                    </a:lnTo>
                    <a:lnTo>
                      <a:pt x="1599" y="1658"/>
                    </a:lnTo>
                    <a:lnTo>
                      <a:pt x="1537" y="1669"/>
                    </a:lnTo>
                    <a:lnTo>
                      <a:pt x="1475" y="1677"/>
                    </a:lnTo>
                    <a:lnTo>
                      <a:pt x="1411" y="1681"/>
                    </a:lnTo>
                    <a:lnTo>
                      <a:pt x="1346" y="1684"/>
                    </a:lnTo>
                    <a:lnTo>
                      <a:pt x="1285" y="1683"/>
                    </a:lnTo>
                    <a:lnTo>
                      <a:pt x="1223" y="1678"/>
                    </a:lnTo>
                    <a:lnTo>
                      <a:pt x="1162" y="1670"/>
                    </a:lnTo>
                    <a:lnTo>
                      <a:pt x="1103" y="1661"/>
                    </a:lnTo>
                    <a:lnTo>
                      <a:pt x="1045" y="1647"/>
                    </a:lnTo>
                    <a:lnTo>
                      <a:pt x="987" y="1632"/>
                    </a:lnTo>
                    <a:lnTo>
                      <a:pt x="932" y="1613"/>
                    </a:lnTo>
                    <a:lnTo>
                      <a:pt x="876" y="1593"/>
                    </a:lnTo>
                    <a:lnTo>
                      <a:pt x="822" y="1570"/>
                    </a:lnTo>
                    <a:lnTo>
                      <a:pt x="770" y="1544"/>
                    </a:lnTo>
                    <a:lnTo>
                      <a:pt x="718" y="1517"/>
                    </a:lnTo>
                    <a:lnTo>
                      <a:pt x="669" y="1487"/>
                    </a:lnTo>
                    <a:lnTo>
                      <a:pt x="621" y="1454"/>
                    </a:lnTo>
                    <a:lnTo>
                      <a:pt x="574" y="1420"/>
                    </a:lnTo>
                    <a:lnTo>
                      <a:pt x="530" y="1383"/>
                    </a:lnTo>
                    <a:lnTo>
                      <a:pt x="486" y="1345"/>
                    </a:lnTo>
                    <a:lnTo>
                      <a:pt x="446" y="1305"/>
                    </a:lnTo>
                    <a:lnTo>
                      <a:pt x="406" y="1262"/>
                    </a:lnTo>
                    <a:lnTo>
                      <a:pt x="369" y="1218"/>
                    </a:lnTo>
                    <a:lnTo>
                      <a:pt x="333" y="1172"/>
                    </a:lnTo>
                    <a:lnTo>
                      <a:pt x="300" y="1125"/>
                    </a:lnTo>
                    <a:lnTo>
                      <a:pt x="268" y="1076"/>
                    </a:lnTo>
                    <a:lnTo>
                      <a:pt x="240" y="1026"/>
                    </a:lnTo>
                    <a:lnTo>
                      <a:pt x="213" y="974"/>
                    </a:lnTo>
                    <a:lnTo>
                      <a:pt x="189" y="921"/>
                    </a:lnTo>
                    <a:lnTo>
                      <a:pt x="167" y="866"/>
                    </a:lnTo>
                    <a:lnTo>
                      <a:pt x="147" y="811"/>
                    </a:lnTo>
                    <a:lnTo>
                      <a:pt x="131" y="753"/>
                    </a:lnTo>
                    <a:lnTo>
                      <a:pt x="117" y="696"/>
                    </a:lnTo>
                    <a:lnTo>
                      <a:pt x="106" y="637"/>
                    </a:lnTo>
                    <a:lnTo>
                      <a:pt x="97" y="577"/>
                    </a:lnTo>
                    <a:lnTo>
                      <a:pt x="91" y="516"/>
                    </a:lnTo>
                    <a:lnTo>
                      <a:pt x="48" y="537"/>
                    </a:lnTo>
                    <a:lnTo>
                      <a:pt x="0" y="537"/>
                    </a:lnTo>
                    <a:lnTo>
                      <a:pt x="5" y="601"/>
                    </a:lnTo>
                    <a:lnTo>
                      <a:pt x="16" y="665"/>
                    </a:lnTo>
                    <a:lnTo>
                      <a:pt x="29" y="728"/>
                    </a:lnTo>
                    <a:lnTo>
                      <a:pt x="43" y="789"/>
                    </a:lnTo>
                    <a:lnTo>
                      <a:pt x="62" y="849"/>
                    </a:lnTo>
                    <a:lnTo>
                      <a:pt x="84" y="909"/>
                    </a:lnTo>
                    <a:lnTo>
                      <a:pt x="107" y="967"/>
                    </a:lnTo>
                    <a:lnTo>
                      <a:pt x="133" y="1023"/>
                    </a:lnTo>
                    <a:lnTo>
                      <a:pt x="162" y="1079"/>
                    </a:lnTo>
                    <a:lnTo>
                      <a:pt x="193" y="1132"/>
                    </a:lnTo>
                    <a:lnTo>
                      <a:pt x="227" y="1183"/>
                    </a:lnTo>
                    <a:lnTo>
                      <a:pt x="263" y="1234"/>
                    </a:lnTo>
                    <a:lnTo>
                      <a:pt x="301" y="1283"/>
                    </a:lnTo>
                    <a:lnTo>
                      <a:pt x="341" y="1330"/>
                    </a:lnTo>
                    <a:lnTo>
                      <a:pt x="384" y="1374"/>
                    </a:lnTo>
                    <a:lnTo>
                      <a:pt x="428" y="1417"/>
                    </a:lnTo>
                    <a:lnTo>
                      <a:pt x="474" y="1458"/>
                    </a:lnTo>
                    <a:lnTo>
                      <a:pt x="522" y="1497"/>
                    </a:lnTo>
                    <a:lnTo>
                      <a:pt x="572" y="1533"/>
                    </a:lnTo>
                    <a:lnTo>
                      <a:pt x="624" y="1567"/>
                    </a:lnTo>
                    <a:lnTo>
                      <a:pt x="677" y="1600"/>
                    </a:lnTo>
                    <a:lnTo>
                      <a:pt x="731" y="1628"/>
                    </a:lnTo>
                    <a:lnTo>
                      <a:pt x="786" y="1656"/>
                    </a:lnTo>
                    <a:lnTo>
                      <a:pt x="844" y="1680"/>
                    </a:lnTo>
                    <a:lnTo>
                      <a:pt x="903" y="1702"/>
                    </a:lnTo>
                    <a:lnTo>
                      <a:pt x="963" y="1722"/>
                    </a:lnTo>
                    <a:lnTo>
                      <a:pt x="1025" y="1738"/>
                    </a:lnTo>
                    <a:lnTo>
                      <a:pt x="1087" y="1752"/>
                    </a:lnTo>
                    <a:lnTo>
                      <a:pt x="1151" y="1762"/>
                    </a:lnTo>
                    <a:lnTo>
                      <a:pt x="1214" y="1770"/>
                    </a:lnTo>
                    <a:lnTo>
                      <a:pt x="1280" y="1775"/>
                    </a:lnTo>
                    <a:lnTo>
                      <a:pt x="1346" y="1777"/>
                    </a:lnTo>
                    <a:lnTo>
                      <a:pt x="1416" y="1775"/>
                    </a:lnTo>
                    <a:lnTo>
                      <a:pt x="1484" y="1770"/>
                    </a:lnTo>
                    <a:lnTo>
                      <a:pt x="1552" y="1761"/>
                    </a:lnTo>
                    <a:lnTo>
                      <a:pt x="1619" y="1749"/>
                    </a:lnTo>
                    <a:lnTo>
                      <a:pt x="1684" y="1734"/>
                    </a:lnTo>
                    <a:lnTo>
                      <a:pt x="1748" y="1716"/>
                    </a:lnTo>
                    <a:lnTo>
                      <a:pt x="1811" y="1695"/>
                    </a:lnTo>
                    <a:lnTo>
                      <a:pt x="1873" y="1671"/>
                    </a:lnTo>
                    <a:lnTo>
                      <a:pt x="1932" y="1643"/>
                    </a:lnTo>
                    <a:lnTo>
                      <a:pt x="1990" y="1613"/>
                    </a:lnTo>
                    <a:lnTo>
                      <a:pt x="2047" y="1581"/>
                    </a:lnTo>
                    <a:lnTo>
                      <a:pt x="2102" y="1547"/>
                    </a:lnTo>
                    <a:lnTo>
                      <a:pt x="2154" y="1509"/>
                    </a:lnTo>
                    <a:lnTo>
                      <a:pt x="2206" y="1468"/>
                    </a:lnTo>
                    <a:lnTo>
                      <a:pt x="2255" y="1426"/>
                    </a:lnTo>
                    <a:lnTo>
                      <a:pt x="2302" y="1381"/>
                    </a:lnTo>
                    <a:lnTo>
                      <a:pt x="2347" y="1334"/>
                    </a:lnTo>
                    <a:lnTo>
                      <a:pt x="2390" y="1285"/>
                    </a:lnTo>
                    <a:lnTo>
                      <a:pt x="2429" y="1234"/>
                    </a:lnTo>
                    <a:lnTo>
                      <a:pt x="2467" y="1181"/>
                    </a:lnTo>
                    <a:lnTo>
                      <a:pt x="2503" y="1127"/>
                    </a:lnTo>
                    <a:lnTo>
                      <a:pt x="2535" y="1069"/>
                    </a:lnTo>
                    <a:lnTo>
                      <a:pt x="2565" y="1012"/>
                    </a:lnTo>
                    <a:lnTo>
                      <a:pt x="2591" y="952"/>
                    </a:lnTo>
                    <a:lnTo>
                      <a:pt x="2616" y="891"/>
                    </a:lnTo>
                    <a:lnTo>
                      <a:pt x="2638" y="827"/>
                    </a:lnTo>
                    <a:lnTo>
                      <a:pt x="2655" y="764"/>
                    </a:lnTo>
                    <a:lnTo>
                      <a:pt x="2670" y="698"/>
                    </a:lnTo>
                    <a:lnTo>
                      <a:pt x="2683" y="631"/>
                    </a:lnTo>
                    <a:lnTo>
                      <a:pt x="2691" y="564"/>
                    </a:lnTo>
                    <a:lnTo>
                      <a:pt x="2696" y="495"/>
                    </a:lnTo>
                    <a:lnTo>
                      <a:pt x="2697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98960" y="4159080"/>
                <a:ext cx="688680" cy="457200"/>
              </a:xfrm>
              <a:custGeom>
                <a:avLst/>
                <a:gdLst/>
                <a:ahLst/>
                <a:rect l="l" t="t" r="r" b="b"/>
                <a:pathLst>
                  <a:path w="2605" h="1730">
                    <a:moveTo>
                      <a:pt x="2605" y="426"/>
                    </a:moveTo>
                    <a:lnTo>
                      <a:pt x="2604" y="370"/>
                    </a:lnTo>
                    <a:lnTo>
                      <a:pt x="2601" y="315"/>
                    </a:lnTo>
                    <a:lnTo>
                      <a:pt x="2595" y="261"/>
                    </a:lnTo>
                    <a:lnTo>
                      <a:pt x="2587" y="207"/>
                    </a:lnTo>
                    <a:lnTo>
                      <a:pt x="2577" y="154"/>
                    </a:lnTo>
                    <a:lnTo>
                      <a:pt x="2565" y="102"/>
                    </a:lnTo>
                    <a:lnTo>
                      <a:pt x="2550" y="50"/>
                    </a:lnTo>
                    <a:lnTo>
                      <a:pt x="2534" y="0"/>
                    </a:lnTo>
                    <a:lnTo>
                      <a:pt x="2493" y="0"/>
                    </a:lnTo>
                    <a:lnTo>
                      <a:pt x="2453" y="40"/>
                    </a:lnTo>
                    <a:lnTo>
                      <a:pt x="2450" y="40"/>
                    </a:lnTo>
                    <a:lnTo>
                      <a:pt x="2463" y="86"/>
                    </a:lnTo>
                    <a:lnTo>
                      <a:pt x="2476" y="132"/>
                    </a:lnTo>
                    <a:lnTo>
                      <a:pt x="2487" y="179"/>
                    </a:lnTo>
                    <a:lnTo>
                      <a:pt x="2496" y="228"/>
                    </a:lnTo>
                    <a:lnTo>
                      <a:pt x="2503" y="276"/>
                    </a:lnTo>
                    <a:lnTo>
                      <a:pt x="2507" y="326"/>
                    </a:lnTo>
                    <a:lnTo>
                      <a:pt x="2511" y="375"/>
                    </a:lnTo>
                    <a:lnTo>
                      <a:pt x="2512" y="426"/>
                    </a:lnTo>
                    <a:lnTo>
                      <a:pt x="2511" y="488"/>
                    </a:lnTo>
                    <a:lnTo>
                      <a:pt x="2506" y="549"/>
                    </a:lnTo>
                    <a:lnTo>
                      <a:pt x="2498" y="611"/>
                    </a:lnTo>
                    <a:lnTo>
                      <a:pt x="2488" y="671"/>
                    </a:lnTo>
                    <a:lnTo>
                      <a:pt x="2474" y="728"/>
                    </a:lnTo>
                    <a:lnTo>
                      <a:pt x="2458" y="786"/>
                    </a:lnTo>
                    <a:lnTo>
                      <a:pt x="2438" y="842"/>
                    </a:lnTo>
                    <a:lnTo>
                      <a:pt x="2416" y="898"/>
                    </a:lnTo>
                    <a:lnTo>
                      <a:pt x="2392" y="951"/>
                    </a:lnTo>
                    <a:lnTo>
                      <a:pt x="2365" y="1004"/>
                    </a:lnTo>
                    <a:lnTo>
                      <a:pt x="2337" y="1054"/>
                    </a:lnTo>
                    <a:lnTo>
                      <a:pt x="2305" y="1103"/>
                    </a:lnTo>
                    <a:lnTo>
                      <a:pt x="2271" y="1150"/>
                    </a:lnTo>
                    <a:lnTo>
                      <a:pt x="2235" y="1196"/>
                    </a:lnTo>
                    <a:lnTo>
                      <a:pt x="2197" y="1240"/>
                    </a:lnTo>
                    <a:lnTo>
                      <a:pt x="2157" y="1283"/>
                    </a:lnTo>
                    <a:lnTo>
                      <a:pt x="2115" y="1322"/>
                    </a:lnTo>
                    <a:lnTo>
                      <a:pt x="2071" y="1360"/>
                    </a:lnTo>
                    <a:lnTo>
                      <a:pt x="2025" y="1397"/>
                    </a:lnTo>
                    <a:lnTo>
                      <a:pt x="1978" y="1430"/>
                    </a:lnTo>
                    <a:lnTo>
                      <a:pt x="1928" y="1461"/>
                    </a:lnTo>
                    <a:lnTo>
                      <a:pt x="1878" y="1491"/>
                    </a:lnTo>
                    <a:lnTo>
                      <a:pt x="1826" y="1518"/>
                    </a:lnTo>
                    <a:lnTo>
                      <a:pt x="1771" y="1542"/>
                    </a:lnTo>
                    <a:lnTo>
                      <a:pt x="1717" y="1564"/>
                    </a:lnTo>
                    <a:lnTo>
                      <a:pt x="1661" y="1582"/>
                    </a:lnTo>
                    <a:lnTo>
                      <a:pt x="1603" y="1598"/>
                    </a:lnTo>
                    <a:lnTo>
                      <a:pt x="1544" y="1612"/>
                    </a:lnTo>
                    <a:lnTo>
                      <a:pt x="1484" y="1623"/>
                    </a:lnTo>
                    <a:lnTo>
                      <a:pt x="1424" y="1631"/>
                    </a:lnTo>
                    <a:lnTo>
                      <a:pt x="1362" y="1635"/>
                    </a:lnTo>
                    <a:lnTo>
                      <a:pt x="1300" y="1637"/>
                    </a:lnTo>
                    <a:lnTo>
                      <a:pt x="1240" y="1635"/>
                    </a:lnTo>
                    <a:lnTo>
                      <a:pt x="1181" y="1631"/>
                    </a:lnTo>
                    <a:lnTo>
                      <a:pt x="1122" y="1624"/>
                    </a:lnTo>
                    <a:lnTo>
                      <a:pt x="1064" y="1615"/>
                    </a:lnTo>
                    <a:lnTo>
                      <a:pt x="1008" y="1602"/>
                    </a:lnTo>
                    <a:lnTo>
                      <a:pt x="951" y="1586"/>
                    </a:lnTo>
                    <a:lnTo>
                      <a:pt x="897" y="1568"/>
                    </a:lnTo>
                    <a:lnTo>
                      <a:pt x="844" y="1548"/>
                    </a:lnTo>
                    <a:lnTo>
                      <a:pt x="792" y="1526"/>
                    </a:lnTo>
                    <a:lnTo>
                      <a:pt x="740" y="1500"/>
                    </a:lnTo>
                    <a:lnTo>
                      <a:pt x="691" y="1473"/>
                    </a:lnTo>
                    <a:lnTo>
                      <a:pt x="643" y="1444"/>
                    </a:lnTo>
                    <a:lnTo>
                      <a:pt x="596" y="1412"/>
                    </a:lnTo>
                    <a:lnTo>
                      <a:pt x="552" y="1378"/>
                    </a:lnTo>
                    <a:lnTo>
                      <a:pt x="508" y="1343"/>
                    </a:lnTo>
                    <a:lnTo>
                      <a:pt x="467" y="1305"/>
                    </a:lnTo>
                    <a:lnTo>
                      <a:pt x="427" y="1265"/>
                    </a:lnTo>
                    <a:lnTo>
                      <a:pt x="389" y="1224"/>
                    </a:lnTo>
                    <a:lnTo>
                      <a:pt x="353" y="1181"/>
                    </a:lnTo>
                    <a:lnTo>
                      <a:pt x="319" y="1136"/>
                    </a:lnTo>
                    <a:lnTo>
                      <a:pt x="287" y="1090"/>
                    </a:lnTo>
                    <a:lnTo>
                      <a:pt x="257" y="1043"/>
                    </a:lnTo>
                    <a:lnTo>
                      <a:pt x="229" y="993"/>
                    </a:lnTo>
                    <a:lnTo>
                      <a:pt x="204" y="943"/>
                    </a:lnTo>
                    <a:lnTo>
                      <a:pt x="181" y="891"/>
                    </a:lnTo>
                    <a:lnTo>
                      <a:pt x="160" y="838"/>
                    </a:lnTo>
                    <a:lnTo>
                      <a:pt x="142" y="783"/>
                    </a:lnTo>
                    <a:lnTo>
                      <a:pt x="127" y="728"/>
                    </a:lnTo>
                    <a:lnTo>
                      <a:pt x="113" y="672"/>
                    </a:lnTo>
                    <a:lnTo>
                      <a:pt x="102" y="614"/>
                    </a:lnTo>
                    <a:lnTo>
                      <a:pt x="96" y="555"/>
                    </a:lnTo>
                    <a:lnTo>
                      <a:pt x="91" y="496"/>
                    </a:lnTo>
                    <a:lnTo>
                      <a:pt x="79" y="500"/>
                    </a:lnTo>
                    <a:lnTo>
                      <a:pt x="2" y="537"/>
                    </a:lnTo>
                    <a:lnTo>
                      <a:pt x="0" y="537"/>
                    </a:lnTo>
                    <a:lnTo>
                      <a:pt x="7" y="599"/>
                    </a:lnTo>
                    <a:lnTo>
                      <a:pt x="16" y="660"/>
                    </a:lnTo>
                    <a:lnTo>
                      <a:pt x="29" y="720"/>
                    </a:lnTo>
                    <a:lnTo>
                      <a:pt x="44" y="780"/>
                    </a:lnTo>
                    <a:lnTo>
                      <a:pt x="62" y="838"/>
                    </a:lnTo>
                    <a:lnTo>
                      <a:pt x="82" y="895"/>
                    </a:lnTo>
                    <a:lnTo>
                      <a:pt x="105" y="951"/>
                    </a:lnTo>
                    <a:lnTo>
                      <a:pt x="131" y="1005"/>
                    </a:lnTo>
                    <a:lnTo>
                      <a:pt x="159" y="1058"/>
                    </a:lnTo>
                    <a:lnTo>
                      <a:pt x="189" y="1110"/>
                    </a:lnTo>
                    <a:lnTo>
                      <a:pt x="221" y="1159"/>
                    </a:lnTo>
                    <a:lnTo>
                      <a:pt x="256" y="1208"/>
                    </a:lnTo>
                    <a:lnTo>
                      <a:pt x="293" y="1255"/>
                    </a:lnTo>
                    <a:lnTo>
                      <a:pt x="331" y="1300"/>
                    </a:lnTo>
                    <a:lnTo>
                      <a:pt x="372" y="1343"/>
                    </a:lnTo>
                    <a:lnTo>
                      <a:pt x="415" y="1384"/>
                    </a:lnTo>
                    <a:lnTo>
                      <a:pt x="459" y="1423"/>
                    </a:lnTo>
                    <a:lnTo>
                      <a:pt x="506" y="1460"/>
                    </a:lnTo>
                    <a:lnTo>
                      <a:pt x="553" y="1496"/>
                    </a:lnTo>
                    <a:lnTo>
                      <a:pt x="603" y="1529"/>
                    </a:lnTo>
                    <a:lnTo>
                      <a:pt x="655" y="1559"/>
                    </a:lnTo>
                    <a:lnTo>
                      <a:pt x="707" y="1588"/>
                    </a:lnTo>
                    <a:lnTo>
                      <a:pt x="761" y="1615"/>
                    </a:lnTo>
                    <a:lnTo>
                      <a:pt x="816" y="1638"/>
                    </a:lnTo>
                    <a:lnTo>
                      <a:pt x="873" y="1658"/>
                    </a:lnTo>
                    <a:lnTo>
                      <a:pt x="932" y="1677"/>
                    </a:lnTo>
                    <a:lnTo>
                      <a:pt x="991" y="1693"/>
                    </a:lnTo>
                    <a:lnTo>
                      <a:pt x="1051" y="1707"/>
                    </a:lnTo>
                    <a:lnTo>
                      <a:pt x="1112" y="1717"/>
                    </a:lnTo>
                    <a:lnTo>
                      <a:pt x="1174" y="1724"/>
                    </a:lnTo>
                    <a:lnTo>
                      <a:pt x="1236" y="1729"/>
                    </a:lnTo>
                    <a:lnTo>
                      <a:pt x="1300" y="1730"/>
                    </a:lnTo>
                    <a:lnTo>
                      <a:pt x="1368" y="1729"/>
                    </a:lnTo>
                    <a:lnTo>
                      <a:pt x="1433" y="1723"/>
                    </a:lnTo>
                    <a:lnTo>
                      <a:pt x="1499" y="1715"/>
                    </a:lnTo>
                    <a:lnTo>
                      <a:pt x="1563" y="1703"/>
                    </a:lnTo>
                    <a:lnTo>
                      <a:pt x="1626" y="1690"/>
                    </a:lnTo>
                    <a:lnTo>
                      <a:pt x="1688" y="1671"/>
                    </a:lnTo>
                    <a:lnTo>
                      <a:pt x="1748" y="1651"/>
                    </a:lnTo>
                    <a:lnTo>
                      <a:pt x="1808" y="1627"/>
                    </a:lnTo>
                    <a:lnTo>
                      <a:pt x="1866" y="1602"/>
                    </a:lnTo>
                    <a:lnTo>
                      <a:pt x="1923" y="1573"/>
                    </a:lnTo>
                    <a:lnTo>
                      <a:pt x="1977" y="1541"/>
                    </a:lnTo>
                    <a:lnTo>
                      <a:pt x="2030" y="1507"/>
                    </a:lnTo>
                    <a:lnTo>
                      <a:pt x="2081" y="1472"/>
                    </a:lnTo>
                    <a:lnTo>
                      <a:pt x="2130" y="1432"/>
                    </a:lnTo>
                    <a:lnTo>
                      <a:pt x="2177" y="1391"/>
                    </a:lnTo>
                    <a:lnTo>
                      <a:pt x="2222" y="1348"/>
                    </a:lnTo>
                    <a:lnTo>
                      <a:pt x="2266" y="1303"/>
                    </a:lnTo>
                    <a:lnTo>
                      <a:pt x="2307" y="1256"/>
                    </a:lnTo>
                    <a:lnTo>
                      <a:pt x="2346" y="1207"/>
                    </a:lnTo>
                    <a:lnTo>
                      <a:pt x="2383" y="1155"/>
                    </a:lnTo>
                    <a:lnTo>
                      <a:pt x="2416" y="1103"/>
                    </a:lnTo>
                    <a:lnTo>
                      <a:pt x="2447" y="1047"/>
                    </a:lnTo>
                    <a:lnTo>
                      <a:pt x="2476" y="991"/>
                    </a:lnTo>
                    <a:lnTo>
                      <a:pt x="2503" y="933"/>
                    </a:lnTo>
                    <a:lnTo>
                      <a:pt x="2526" y="875"/>
                    </a:lnTo>
                    <a:lnTo>
                      <a:pt x="2547" y="813"/>
                    </a:lnTo>
                    <a:lnTo>
                      <a:pt x="2564" y="752"/>
                    </a:lnTo>
                    <a:lnTo>
                      <a:pt x="2579" y="689"/>
                    </a:lnTo>
                    <a:lnTo>
                      <a:pt x="2590" y="624"/>
                    </a:lnTo>
                    <a:lnTo>
                      <a:pt x="2598" y="559"/>
                    </a:lnTo>
                    <a:lnTo>
                      <a:pt x="2603" y="493"/>
                    </a:lnTo>
                    <a:lnTo>
                      <a:pt x="2605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11560" y="4160880"/>
                <a:ext cx="665280" cy="444600"/>
              </a:xfrm>
              <a:custGeom>
                <a:avLst/>
                <a:gdLst/>
                <a:ahLst/>
                <a:rect l="l" t="t" r="r" b="b"/>
                <a:pathLst>
                  <a:path w="2514" h="1677">
                    <a:moveTo>
                      <a:pt x="2514" y="419"/>
                    </a:moveTo>
                    <a:lnTo>
                      <a:pt x="2512" y="364"/>
                    </a:lnTo>
                    <a:lnTo>
                      <a:pt x="2508" y="310"/>
                    </a:lnTo>
                    <a:lnTo>
                      <a:pt x="2503" y="257"/>
                    </a:lnTo>
                    <a:lnTo>
                      <a:pt x="2495" y="204"/>
                    </a:lnTo>
                    <a:lnTo>
                      <a:pt x="2485" y="151"/>
                    </a:lnTo>
                    <a:lnTo>
                      <a:pt x="2473" y="100"/>
                    </a:lnTo>
                    <a:lnTo>
                      <a:pt x="2458" y="49"/>
                    </a:lnTo>
                    <a:lnTo>
                      <a:pt x="2442" y="0"/>
                    </a:lnTo>
                    <a:lnTo>
                      <a:pt x="2408" y="33"/>
                    </a:lnTo>
                    <a:lnTo>
                      <a:pt x="2355" y="33"/>
                    </a:lnTo>
                    <a:lnTo>
                      <a:pt x="2370" y="79"/>
                    </a:lnTo>
                    <a:lnTo>
                      <a:pt x="2383" y="125"/>
                    </a:lnTo>
                    <a:lnTo>
                      <a:pt x="2394" y="172"/>
                    </a:lnTo>
                    <a:lnTo>
                      <a:pt x="2403" y="221"/>
                    </a:lnTo>
                    <a:lnTo>
                      <a:pt x="2410" y="269"/>
                    </a:lnTo>
                    <a:lnTo>
                      <a:pt x="2416" y="319"/>
                    </a:lnTo>
                    <a:lnTo>
                      <a:pt x="2420" y="368"/>
                    </a:lnTo>
                    <a:lnTo>
                      <a:pt x="2421" y="419"/>
                    </a:lnTo>
                    <a:lnTo>
                      <a:pt x="2418" y="479"/>
                    </a:lnTo>
                    <a:lnTo>
                      <a:pt x="2415" y="538"/>
                    </a:lnTo>
                    <a:lnTo>
                      <a:pt x="2407" y="597"/>
                    </a:lnTo>
                    <a:lnTo>
                      <a:pt x="2397" y="653"/>
                    </a:lnTo>
                    <a:lnTo>
                      <a:pt x="2384" y="710"/>
                    </a:lnTo>
                    <a:lnTo>
                      <a:pt x="2368" y="765"/>
                    </a:lnTo>
                    <a:lnTo>
                      <a:pt x="2349" y="819"/>
                    </a:lnTo>
                    <a:lnTo>
                      <a:pt x="2329" y="872"/>
                    </a:lnTo>
                    <a:lnTo>
                      <a:pt x="2305" y="924"/>
                    </a:lnTo>
                    <a:lnTo>
                      <a:pt x="2280" y="974"/>
                    </a:lnTo>
                    <a:lnTo>
                      <a:pt x="2251" y="1023"/>
                    </a:lnTo>
                    <a:lnTo>
                      <a:pt x="2221" y="1070"/>
                    </a:lnTo>
                    <a:lnTo>
                      <a:pt x="2189" y="1115"/>
                    </a:lnTo>
                    <a:lnTo>
                      <a:pt x="2154" y="1159"/>
                    </a:lnTo>
                    <a:lnTo>
                      <a:pt x="2117" y="1202"/>
                    </a:lnTo>
                    <a:lnTo>
                      <a:pt x="2079" y="1242"/>
                    </a:lnTo>
                    <a:lnTo>
                      <a:pt x="2039" y="1281"/>
                    </a:lnTo>
                    <a:lnTo>
                      <a:pt x="1996" y="1317"/>
                    </a:lnTo>
                    <a:lnTo>
                      <a:pt x="1953" y="1352"/>
                    </a:lnTo>
                    <a:lnTo>
                      <a:pt x="1906" y="1385"/>
                    </a:lnTo>
                    <a:lnTo>
                      <a:pt x="1859" y="1415"/>
                    </a:lnTo>
                    <a:lnTo>
                      <a:pt x="1811" y="1443"/>
                    </a:lnTo>
                    <a:lnTo>
                      <a:pt x="1760" y="1469"/>
                    </a:lnTo>
                    <a:lnTo>
                      <a:pt x="1709" y="1492"/>
                    </a:lnTo>
                    <a:lnTo>
                      <a:pt x="1656" y="1513"/>
                    </a:lnTo>
                    <a:lnTo>
                      <a:pt x="1602" y="1532"/>
                    </a:lnTo>
                    <a:lnTo>
                      <a:pt x="1547" y="1547"/>
                    </a:lnTo>
                    <a:lnTo>
                      <a:pt x="1490" y="1560"/>
                    </a:lnTo>
                    <a:lnTo>
                      <a:pt x="1432" y="1571"/>
                    </a:lnTo>
                    <a:lnTo>
                      <a:pt x="1375" y="1578"/>
                    </a:lnTo>
                    <a:lnTo>
                      <a:pt x="1315" y="1582"/>
                    </a:lnTo>
                    <a:lnTo>
                      <a:pt x="1255" y="1583"/>
                    </a:lnTo>
                    <a:lnTo>
                      <a:pt x="1197" y="1582"/>
                    </a:lnTo>
                    <a:lnTo>
                      <a:pt x="1139" y="1578"/>
                    </a:lnTo>
                    <a:lnTo>
                      <a:pt x="1083" y="1571"/>
                    </a:lnTo>
                    <a:lnTo>
                      <a:pt x="1026" y="1561"/>
                    </a:lnTo>
                    <a:lnTo>
                      <a:pt x="972" y="1549"/>
                    </a:lnTo>
                    <a:lnTo>
                      <a:pt x="918" y="1534"/>
                    </a:lnTo>
                    <a:lnTo>
                      <a:pt x="865" y="1517"/>
                    </a:lnTo>
                    <a:lnTo>
                      <a:pt x="813" y="1497"/>
                    </a:lnTo>
                    <a:lnTo>
                      <a:pt x="763" y="1475"/>
                    </a:lnTo>
                    <a:lnTo>
                      <a:pt x="714" y="1451"/>
                    </a:lnTo>
                    <a:lnTo>
                      <a:pt x="665" y="1424"/>
                    </a:lnTo>
                    <a:lnTo>
                      <a:pt x="619" y="1395"/>
                    </a:lnTo>
                    <a:lnTo>
                      <a:pt x="574" y="1364"/>
                    </a:lnTo>
                    <a:lnTo>
                      <a:pt x="532" y="1331"/>
                    </a:lnTo>
                    <a:lnTo>
                      <a:pt x="489" y="1296"/>
                    </a:lnTo>
                    <a:lnTo>
                      <a:pt x="450" y="1259"/>
                    </a:lnTo>
                    <a:lnTo>
                      <a:pt x="410" y="1221"/>
                    </a:lnTo>
                    <a:lnTo>
                      <a:pt x="375" y="1181"/>
                    </a:lnTo>
                    <a:lnTo>
                      <a:pt x="340" y="1140"/>
                    </a:lnTo>
                    <a:lnTo>
                      <a:pt x="307" y="1096"/>
                    </a:lnTo>
                    <a:lnTo>
                      <a:pt x="277" y="1051"/>
                    </a:lnTo>
                    <a:lnTo>
                      <a:pt x="248" y="1005"/>
                    </a:lnTo>
                    <a:lnTo>
                      <a:pt x="221" y="956"/>
                    </a:lnTo>
                    <a:lnTo>
                      <a:pt x="197" y="907"/>
                    </a:lnTo>
                    <a:lnTo>
                      <a:pt x="175" y="857"/>
                    </a:lnTo>
                    <a:lnTo>
                      <a:pt x="155" y="805"/>
                    </a:lnTo>
                    <a:lnTo>
                      <a:pt x="138" y="752"/>
                    </a:lnTo>
                    <a:lnTo>
                      <a:pt x="123" y="698"/>
                    </a:lnTo>
                    <a:lnTo>
                      <a:pt x="112" y="643"/>
                    </a:lnTo>
                    <a:lnTo>
                      <a:pt x="102" y="587"/>
                    </a:lnTo>
                    <a:lnTo>
                      <a:pt x="96" y="530"/>
                    </a:lnTo>
                    <a:lnTo>
                      <a:pt x="91" y="472"/>
                    </a:lnTo>
                    <a:lnTo>
                      <a:pt x="34" y="493"/>
                    </a:lnTo>
                    <a:lnTo>
                      <a:pt x="0" y="509"/>
                    </a:lnTo>
                    <a:lnTo>
                      <a:pt x="6" y="570"/>
                    </a:lnTo>
                    <a:lnTo>
                      <a:pt x="15" y="630"/>
                    </a:lnTo>
                    <a:lnTo>
                      <a:pt x="26" y="689"/>
                    </a:lnTo>
                    <a:lnTo>
                      <a:pt x="40" y="746"/>
                    </a:lnTo>
                    <a:lnTo>
                      <a:pt x="56" y="804"/>
                    </a:lnTo>
                    <a:lnTo>
                      <a:pt x="76" y="859"/>
                    </a:lnTo>
                    <a:lnTo>
                      <a:pt x="98" y="914"/>
                    </a:lnTo>
                    <a:lnTo>
                      <a:pt x="122" y="967"/>
                    </a:lnTo>
                    <a:lnTo>
                      <a:pt x="149" y="1019"/>
                    </a:lnTo>
                    <a:lnTo>
                      <a:pt x="177" y="1069"/>
                    </a:lnTo>
                    <a:lnTo>
                      <a:pt x="209" y="1118"/>
                    </a:lnTo>
                    <a:lnTo>
                      <a:pt x="242" y="1165"/>
                    </a:lnTo>
                    <a:lnTo>
                      <a:pt x="278" y="1211"/>
                    </a:lnTo>
                    <a:lnTo>
                      <a:pt x="315" y="1255"/>
                    </a:lnTo>
                    <a:lnTo>
                      <a:pt x="355" y="1298"/>
                    </a:lnTo>
                    <a:lnTo>
                      <a:pt x="395" y="1338"/>
                    </a:lnTo>
                    <a:lnTo>
                      <a:pt x="439" y="1376"/>
                    </a:lnTo>
                    <a:lnTo>
                      <a:pt x="483" y="1413"/>
                    </a:lnTo>
                    <a:lnTo>
                      <a:pt x="530" y="1447"/>
                    </a:lnTo>
                    <a:lnTo>
                      <a:pt x="578" y="1480"/>
                    </a:lnTo>
                    <a:lnTo>
                      <a:pt x="627" y="1510"/>
                    </a:lnTo>
                    <a:lnTo>
                      <a:pt x="679" y="1537"/>
                    </a:lnTo>
                    <a:lnTo>
                      <a:pt x="731" y="1563"/>
                    </a:lnTo>
                    <a:lnTo>
                      <a:pt x="785" y="1586"/>
                    </a:lnTo>
                    <a:lnTo>
                      <a:pt x="841" y="1606"/>
                    </a:lnTo>
                    <a:lnTo>
                      <a:pt x="896" y="1625"/>
                    </a:lnTo>
                    <a:lnTo>
                      <a:pt x="954" y="1640"/>
                    </a:lnTo>
                    <a:lnTo>
                      <a:pt x="1012" y="1654"/>
                    </a:lnTo>
                    <a:lnTo>
                      <a:pt x="1071" y="1663"/>
                    </a:lnTo>
                    <a:lnTo>
                      <a:pt x="1132" y="1671"/>
                    </a:lnTo>
                    <a:lnTo>
                      <a:pt x="1194" y="1676"/>
                    </a:lnTo>
                    <a:lnTo>
                      <a:pt x="1255" y="1677"/>
                    </a:lnTo>
                    <a:lnTo>
                      <a:pt x="1320" y="1674"/>
                    </a:lnTo>
                    <a:lnTo>
                      <a:pt x="1384" y="1670"/>
                    </a:lnTo>
                    <a:lnTo>
                      <a:pt x="1446" y="1662"/>
                    </a:lnTo>
                    <a:lnTo>
                      <a:pt x="1508" y="1651"/>
                    </a:lnTo>
                    <a:lnTo>
                      <a:pt x="1570" y="1636"/>
                    </a:lnTo>
                    <a:lnTo>
                      <a:pt x="1630" y="1620"/>
                    </a:lnTo>
                    <a:lnTo>
                      <a:pt x="1687" y="1601"/>
                    </a:lnTo>
                    <a:lnTo>
                      <a:pt x="1745" y="1578"/>
                    </a:lnTo>
                    <a:lnTo>
                      <a:pt x="1800" y="1552"/>
                    </a:lnTo>
                    <a:lnTo>
                      <a:pt x="1854" y="1525"/>
                    </a:lnTo>
                    <a:lnTo>
                      <a:pt x="1908" y="1495"/>
                    </a:lnTo>
                    <a:lnTo>
                      <a:pt x="1958" y="1461"/>
                    </a:lnTo>
                    <a:lnTo>
                      <a:pt x="2008" y="1427"/>
                    </a:lnTo>
                    <a:lnTo>
                      <a:pt x="2055" y="1390"/>
                    </a:lnTo>
                    <a:lnTo>
                      <a:pt x="2101" y="1349"/>
                    </a:lnTo>
                    <a:lnTo>
                      <a:pt x="2145" y="1308"/>
                    </a:lnTo>
                    <a:lnTo>
                      <a:pt x="2187" y="1264"/>
                    </a:lnTo>
                    <a:lnTo>
                      <a:pt x="2226" y="1219"/>
                    </a:lnTo>
                    <a:lnTo>
                      <a:pt x="2264" y="1172"/>
                    </a:lnTo>
                    <a:lnTo>
                      <a:pt x="2299" y="1122"/>
                    </a:lnTo>
                    <a:lnTo>
                      <a:pt x="2331" y="1072"/>
                    </a:lnTo>
                    <a:lnTo>
                      <a:pt x="2362" y="1019"/>
                    </a:lnTo>
                    <a:lnTo>
                      <a:pt x="2390" y="964"/>
                    </a:lnTo>
                    <a:lnTo>
                      <a:pt x="2415" y="908"/>
                    </a:lnTo>
                    <a:lnTo>
                      <a:pt x="2437" y="851"/>
                    </a:lnTo>
                    <a:lnTo>
                      <a:pt x="2457" y="793"/>
                    </a:lnTo>
                    <a:lnTo>
                      <a:pt x="2474" y="734"/>
                    </a:lnTo>
                    <a:lnTo>
                      <a:pt x="2488" y="673"/>
                    </a:lnTo>
                    <a:lnTo>
                      <a:pt x="2499" y="610"/>
                    </a:lnTo>
                    <a:lnTo>
                      <a:pt x="2507" y="547"/>
                    </a:lnTo>
                    <a:lnTo>
                      <a:pt x="2512" y="484"/>
                    </a:lnTo>
                    <a:lnTo>
                      <a:pt x="2514" y="419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22720" y="4170240"/>
                <a:ext cx="641160" cy="422280"/>
              </a:xfrm>
              <a:custGeom>
                <a:avLst/>
                <a:gdLst/>
                <a:ahLst/>
                <a:rect l="l" t="t" r="r" b="b"/>
                <a:pathLst>
                  <a:path w="2421" h="1597">
                    <a:moveTo>
                      <a:pt x="2421" y="386"/>
                    </a:moveTo>
                    <a:lnTo>
                      <a:pt x="2420" y="335"/>
                    </a:lnTo>
                    <a:lnTo>
                      <a:pt x="2417" y="286"/>
                    </a:lnTo>
                    <a:lnTo>
                      <a:pt x="2412" y="236"/>
                    </a:lnTo>
                    <a:lnTo>
                      <a:pt x="2405" y="188"/>
                    </a:lnTo>
                    <a:lnTo>
                      <a:pt x="2396" y="139"/>
                    </a:lnTo>
                    <a:lnTo>
                      <a:pt x="2385" y="92"/>
                    </a:lnTo>
                    <a:lnTo>
                      <a:pt x="2372" y="46"/>
                    </a:lnTo>
                    <a:lnTo>
                      <a:pt x="2359" y="0"/>
                    </a:lnTo>
                    <a:lnTo>
                      <a:pt x="2285" y="0"/>
                    </a:lnTo>
                    <a:lnTo>
                      <a:pt x="2259" y="0"/>
                    </a:lnTo>
                    <a:lnTo>
                      <a:pt x="2276" y="46"/>
                    </a:lnTo>
                    <a:lnTo>
                      <a:pt x="2288" y="92"/>
                    </a:lnTo>
                    <a:lnTo>
                      <a:pt x="2301" y="139"/>
                    </a:lnTo>
                    <a:lnTo>
                      <a:pt x="2310" y="188"/>
                    </a:lnTo>
                    <a:lnTo>
                      <a:pt x="2318" y="236"/>
                    </a:lnTo>
                    <a:lnTo>
                      <a:pt x="2323" y="286"/>
                    </a:lnTo>
                    <a:lnTo>
                      <a:pt x="2326" y="335"/>
                    </a:lnTo>
                    <a:lnTo>
                      <a:pt x="2328" y="386"/>
                    </a:lnTo>
                    <a:lnTo>
                      <a:pt x="2326" y="444"/>
                    </a:lnTo>
                    <a:lnTo>
                      <a:pt x="2322" y="500"/>
                    </a:lnTo>
                    <a:lnTo>
                      <a:pt x="2315" y="556"/>
                    </a:lnTo>
                    <a:lnTo>
                      <a:pt x="2306" y="611"/>
                    </a:lnTo>
                    <a:lnTo>
                      <a:pt x="2293" y="665"/>
                    </a:lnTo>
                    <a:lnTo>
                      <a:pt x="2278" y="718"/>
                    </a:lnTo>
                    <a:lnTo>
                      <a:pt x="2259" y="770"/>
                    </a:lnTo>
                    <a:lnTo>
                      <a:pt x="2240" y="821"/>
                    </a:lnTo>
                    <a:lnTo>
                      <a:pt x="2218" y="870"/>
                    </a:lnTo>
                    <a:lnTo>
                      <a:pt x="2193" y="919"/>
                    </a:lnTo>
                    <a:lnTo>
                      <a:pt x="2166" y="966"/>
                    </a:lnTo>
                    <a:lnTo>
                      <a:pt x="2137" y="1011"/>
                    </a:lnTo>
                    <a:lnTo>
                      <a:pt x="2106" y="1055"/>
                    </a:lnTo>
                    <a:lnTo>
                      <a:pt x="2073" y="1097"/>
                    </a:lnTo>
                    <a:lnTo>
                      <a:pt x="2037" y="1138"/>
                    </a:lnTo>
                    <a:lnTo>
                      <a:pt x="2000" y="1176"/>
                    </a:lnTo>
                    <a:lnTo>
                      <a:pt x="1961" y="1214"/>
                    </a:lnTo>
                    <a:lnTo>
                      <a:pt x="1920" y="1248"/>
                    </a:lnTo>
                    <a:lnTo>
                      <a:pt x="1879" y="1282"/>
                    </a:lnTo>
                    <a:lnTo>
                      <a:pt x="1835" y="1313"/>
                    </a:lnTo>
                    <a:lnTo>
                      <a:pt x="1789" y="1342"/>
                    </a:lnTo>
                    <a:lnTo>
                      <a:pt x="1743" y="1369"/>
                    </a:lnTo>
                    <a:lnTo>
                      <a:pt x="1694" y="1394"/>
                    </a:lnTo>
                    <a:lnTo>
                      <a:pt x="1645" y="1416"/>
                    </a:lnTo>
                    <a:lnTo>
                      <a:pt x="1594" y="1436"/>
                    </a:lnTo>
                    <a:lnTo>
                      <a:pt x="1542" y="1454"/>
                    </a:lnTo>
                    <a:lnTo>
                      <a:pt x="1489" y="1469"/>
                    </a:lnTo>
                    <a:lnTo>
                      <a:pt x="1435" y="1481"/>
                    </a:lnTo>
                    <a:lnTo>
                      <a:pt x="1379" y="1492"/>
                    </a:lnTo>
                    <a:lnTo>
                      <a:pt x="1324" y="1499"/>
                    </a:lnTo>
                    <a:lnTo>
                      <a:pt x="1266" y="1502"/>
                    </a:lnTo>
                    <a:lnTo>
                      <a:pt x="1209" y="1504"/>
                    </a:lnTo>
                    <a:lnTo>
                      <a:pt x="1153" y="1502"/>
                    </a:lnTo>
                    <a:lnTo>
                      <a:pt x="1097" y="1499"/>
                    </a:lnTo>
                    <a:lnTo>
                      <a:pt x="1043" y="1492"/>
                    </a:lnTo>
                    <a:lnTo>
                      <a:pt x="988" y="1482"/>
                    </a:lnTo>
                    <a:lnTo>
                      <a:pt x="935" y="1470"/>
                    </a:lnTo>
                    <a:lnTo>
                      <a:pt x="883" y="1456"/>
                    </a:lnTo>
                    <a:lnTo>
                      <a:pt x="832" y="1439"/>
                    </a:lnTo>
                    <a:lnTo>
                      <a:pt x="782" y="1419"/>
                    </a:lnTo>
                    <a:lnTo>
                      <a:pt x="733" y="1398"/>
                    </a:lnTo>
                    <a:lnTo>
                      <a:pt x="686" y="1374"/>
                    </a:lnTo>
                    <a:lnTo>
                      <a:pt x="639" y="1349"/>
                    </a:lnTo>
                    <a:lnTo>
                      <a:pt x="595" y="1320"/>
                    </a:lnTo>
                    <a:lnTo>
                      <a:pt x="551" y="1290"/>
                    </a:lnTo>
                    <a:lnTo>
                      <a:pt x="510" y="1259"/>
                    </a:lnTo>
                    <a:lnTo>
                      <a:pt x="469" y="1224"/>
                    </a:lnTo>
                    <a:lnTo>
                      <a:pt x="430" y="1188"/>
                    </a:lnTo>
                    <a:lnTo>
                      <a:pt x="393" y="1152"/>
                    </a:lnTo>
                    <a:lnTo>
                      <a:pt x="359" y="1112"/>
                    </a:lnTo>
                    <a:lnTo>
                      <a:pt x="325" y="1071"/>
                    </a:lnTo>
                    <a:lnTo>
                      <a:pt x="294" y="1029"/>
                    </a:lnTo>
                    <a:lnTo>
                      <a:pt x="264" y="986"/>
                    </a:lnTo>
                    <a:lnTo>
                      <a:pt x="238" y="939"/>
                    </a:lnTo>
                    <a:lnTo>
                      <a:pt x="212" y="893"/>
                    </a:lnTo>
                    <a:lnTo>
                      <a:pt x="189" y="845"/>
                    </a:lnTo>
                    <a:lnTo>
                      <a:pt x="168" y="796"/>
                    </a:lnTo>
                    <a:lnTo>
                      <a:pt x="150" y="746"/>
                    </a:lnTo>
                    <a:lnTo>
                      <a:pt x="134" y="695"/>
                    </a:lnTo>
                    <a:lnTo>
                      <a:pt x="120" y="642"/>
                    </a:lnTo>
                    <a:lnTo>
                      <a:pt x="109" y="589"/>
                    </a:lnTo>
                    <a:lnTo>
                      <a:pt x="100" y="535"/>
                    </a:lnTo>
                    <a:lnTo>
                      <a:pt x="95" y="479"/>
                    </a:lnTo>
                    <a:lnTo>
                      <a:pt x="91" y="423"/>
                    </a:lnTo>
                    <a:lnTo>
                      <a:pt x="0" y="456"/>
                    </a:lnTo>
                    <a:lnTo>
                      <a:pt x="5" y="515"/>
                    </a:lnTo>
                    <a:lnTo>
                      <a:pt x="11" y="574"/>
                    </a:lnTo>
                    <a:lnTo>
                      <a:pt x="22" y="632"/>
                    </a:lnTo>
                    <a:lnTo>
                      <a:pt x="36" y="688"/>
                    </a:lnTo>
                    <a:lnTo>
                      <a:pt x="51" y="743"/>
                    </a:lnTo>
                    <a:lnTo>
                      <a:pt x="69" y="798"/>
                    </a:lnTo>
                    <a:lnTo>
                      <a:pt x="90" y="851"/>
                    </a:lnTo>
                    <a:lnTo>
                      <a:pt x="113" y="903"/>
                    </a:lnTo>
                    <a:lnTo>
                      <a:pt x="138" y="953"/>
                    </a:lnTo>
                    <a:lnTo>
                      <a:pt x="166" y="1003"/>
                    </a:lnTo>
                    <a:lnTo>
                      <a:pt x="196" y="1050"/>
                    </a:lnTo>
                    <a:lnTo>
                      <a:pt x="228" y="1096"/>
                    </a:lnTo>
                    <a:lnTo>
                      <a:pt x="262" y="1141"/>
                    </a:lnTo>
                    <a:lnTo>
                      <a:pt x="298" y="1184"/>
                    </a:lnTo>
                    <a:lnTo>
                      <a:pt x="336" y="1225"/>
                    </a:lnTo>
                    <a:lnTo>
                      <a:pt x="376" y="1265"/>
                    </a:lnTo>
                    <a:lnTo>
                      <a:pt x="417" y="1303"/>
                    </a:lnTo>
                    <a:lnTo>
                      <a:pt x="461" y="1338"/>
                    </a:lnTo>
                    <a:lnTo>
                      <a:pt x="505" y="1372"/>
                    </a:lnTo>
                    <a:lnTo>
                      <a:pt x="552" y="1404"/>
                    </a:lnTo>
                    <a:lnTo>
                      <a:pt x="600" y="1433"/>
                    </a:lnTo>
                    <a:lnTo>
                      <a:pt x="649" y="1460"/>
                    </a:lnTo>
                    <a:lnTo>
                      <a:pt x="701" y="1486"/>
                    </a:lnTo>
                    <a:lnTo>
                      <a:pt x="753" y="1508"/>
                    </a:lnTo>
                    <a:lnTo>
                      <a:pt x="806" y="1528"/>
                    </a:lnTo>
                    <a:lnTo>
                      <a:pt x="860" y="1546"/>
                    </a:lnTo>
                    <a:lnTo>
                      <a:pt x="917" y="1562"/>
                    </a:lnTo>
                    <a:lnTo>
                      <a:pt x="973" y="1575"/>
                    </a:lnTo>
                    <a:lnTo>
                      <a:pt x="1031" y="1584"/>
                    </a:lnTo>
                    <a:lnTo>
                      <a:pt x="1090" y="1591"/>
                    </a:lnTo>
                    <a:lnTo>
                      <a:pt x="1149" y="1595"/>
                    </a:lnTo>
                    <a:lnTo>
                      <a:pt x="1209" y="1597"/>
                    </a:lnTo>
                    <a:lnTo>
                      <a:pt x="1271" y="1595"/>
                    </a:lnTo>
                    <a:lnTo>
                      <a:pt x="1333" y="1591"/>
                    </a:lnTo>
                    <a:lnTo>
                      <a:pt x="1393" y="1583"/>
                    </a:lnTo>
                    <a:lnTo>
                      <a:pt x="1453" y="1572"/>
                    </a:lnTo>
                    <a:lnTo>
                      <a:pt x="1512" y="1558"/>
                    </a:lnTo>
                    <a:lnTo>
                      <a:pt x="1570" y="1542"/>
                    </a:lnTo>
                    <a:lnTo>
                      <a:pt x="1626" y="1524"/>
                    </a:lnTo>
                    <a:lnTo>
                      <a:pt x="1680" y="1502"/>
                    </a:lnTo>
                    <a:lnTo>
                      <a:pt x="1735" y="1478"/>
                    </a:lnTo>
                    <a:lnTo>
                      <a:pt x="1787" y="1451"/>
                    </a:lnTo>
                    <a:lnTo>
                      <a:pt x="1837" y="1421"/>
                    </a:lnTo>
                    <a:lnTo>
                      <a:pt x="1887" y="1390"/>
                    </a:lnTo>
                    <a:lnTo>
                      <a:pt x="1934" y="1357"/>
                    </a:lnTo>
                    <a:lnTo>
                      <a:pt x="1980" y="1321"/>
                    </a:lnTo>
                    <a:lnTo>
                      <a:pt x="2024" y="1283"/>
                    </a:lnTo>
                    <a:lnTo>
                      <a:pt x="2066" y="1243"/>
                    </a:lnTo>
                    <a:lnTo>
                      <a:pt x="2106" y="1200"/>
                    </a:lnTo>
                    <a:lnTo>
                      <a:pt x="2144" y="1156"/>
                    </a:lnTo>
                    <a:lnTo>
                      <a:pt x="2180" y="1110"/>
                    </a:lnTo>
                    <a:lnTo>
                      <a:pt x="2214" y="1063"/>
                    </a:lnTo>
                    <a:lnTo>
                      <a:pt x="2246" y="1014"/>
                    </a:lnTo>
                    <a:lnTo>
                      <a:pt x="2274" y="964"/>
                    </a:lnTo>
                    <a:lnTo>
                      <a:pt x="2301" y="911"/>
                    </a:lnTo>
                    <a:lnTo>
                      <a:pt x="2326" y="858"/>
                    </a:lnTo>
                    <a:lnTo>
                      <a:pt x="2347" y="802"/>
                    </a:lnTo>
                    <a:lnTo>
                      <a:pt x="2367" y="746"/>
                    </a:lnTo>
                    <a:lnTo>
                      <a:pt x="2383" y="688"/>
                    </a:lnTo>
                    <a:lnTo>
                      <a:pt x="2397" y="631"/>
                    </a:lnTo>
                    <a:lnTo>
                      <a:pt x="2407" y="571"/>
                    </a:lnTo>
                    <a:lnTo>
                      <a:pt x="2415" y="509"/>
                    </a:lnTo>
                    <a:lnTo>
                      <a:pt x="2420" y="448"/>
                    </a:lnTo>
                    <a:lnTo>
                      <a:pt x="2421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35320" y="4170240"/>
                <a:ext cx="615960" cy="409680"/>
              </a:xfrm>
              <a:custGeom>
                <a:avLst/>
                <a:gdLst/>
                <a:ahLst/>
                <a:rect l="l" t="t" r="r" b="b"/>
                <a:pathLst>
                  <a:path w="2330" h="1550">
                    <a:moveTo>
                      <a:pt x="2330" y="386"/>
                    </a:moveTo>
                    <a:lnTo>
                      <a:pt x="2329" y="335"/>
                    </a:lnTo>
                    <a:lnTo>
                      <a:pt x="2325" y="286"/>
                    </a:lnTo>
                    <a:lnTo>
                      <a:pt x="2319" y="236"/>
                    </a:lnTo>
                    <a:lnTo>
                      <a:pt x="2312" y="188"/>
                    </a:lnTo>
                    <a:lnTo>
                      <a:pt x="2303" y="139"/>
                    </a:lnTo>
                    <a:lnTo>
                      <a:pt x="2292" y="92"/>
                    </a:lnTo>
                    <a:lnTo>
                      <a:pt x="2279" y="46"/>
                    </a:lnTo>
                    <a:lnTo>
                      <a:pt x="2264" y="0"/>
                    </a:lnTo>
                    <a:lnTo>
                      <a:pt x="2240" y="0"/>
                    </a:lnTo>
                    <a:lnTo>
                      <a:pt x="2165" y="0"/>
                    </a:lnTo>
                    <a:lnTo>
                      <a:pt x="2181" y="46"/>
                    </a:lnTo>
                    <a:lnTo>
                      <a:pt x="2195" y="92"/>
                    </a:lnTo>
                    <a:lnTo>
                      <a:pt x="2208" y="139"/>
                    </a:lnTo>
                    <a:lnTo>
                      <a:pt x="2218" y="187"/>
                    </a:lnTo>
                    <a:lnTo>
                      <a:pt x="2226" y="235"/>
                    </a:lnTo>
                    <a:lnTo>
                      <a:pt x="2232" y="285"/>
                    </a:lnTo>
                    <a:lnTo>
                      <a:pt x="2235" y="335"/>
                    </a:lnTo>
                    <a:lnTo>
                      <a:pt x="2236" y="386"/>
                    </a:lnTo>
                    <a:lnTo>
                      <a:pt x="2235" y="441"/>
                    </a:lnTo>
                    <a:lnTo>
                      <a:pt x="2231" y="496"/>
                    </a:lnTo>
                    <a:lnTo>
                      <a:pt x="2224" y="549"/>
                    </a:lnTo>
                    <a:lnTo>
                      <a:pt x="2214" y="602"/>
                    </a:lnTo>
                    <a:lnTo>
                      <a:pt x="2202" y="654"/>
                    </a:lnTo>
                    <a:lnTo>
                      <a:pt x="2188" y="704"/>
                    </a:lnTo>
                    <a:lnTo>
                      <a:pt x="2171" y="754"/>
                    </a:lnTo>
                    <a:lnTo>
                      <a:pt x="2152" y="803"/>
                    </a:lnTo>
                    <a:lnTo>
                      <a:pt x="2130" y="851"/>
                    </a:lnTo>
                    <a:lnTo>
                      <a:pt x="2107" y="897"/>
                    </a:lnTo>
                    <a:lnTo>
                      <a:pt x="2081" y="942"/>
                    </a:lnTo>
                    <a:lnTo>
                      <a:pt x="2053" y="984"/>
                    </a:lnTo>
                    <a:lnTo>
                      <a:pt x="2023" y="1027"/>
                    </a:lnTo>
                    <a:lnTo>
                      <a:pt x="1992" y="1067"/>
                    </a:lnTo>
                    <a:lnTo>
                      <a:pt x="1957" y="1107"/>
                    </a:lnTo>
                    <a:lnTo>
                      <a:pt x="1923" y="1143"/>
                    </a:lnTo>
                    <a:lnTo>
                      <a:pt x="1885" y="1179"/>
                    </a:lnTo>
                    <a:lnTo>
                      <a:pt x="1847" y="1213"/>
                    </a:lnTo>
                    <a:lnTo>
                      <a:pt x="1805" y="1245"/>
                    </a:lnTo>
                    <a:lnTo>
                      <a:pt x="1763" y="1275"/>
                    </a:lnTo>
                    <a:lnTo>
                      <a:pt x="1720" y="1303"/>
                    </a:lnTo>
                    <a:lnTo>
                      <a:pt x="1675" y="1328"/>
                    </a:lnTo>
                    <a:lnTo>
                      <a:pt x="1629" y="1352"/>
                    </a:lnTo>
                    <a:lnTo>
                      <a:pt x="1581" y="1373"/>
                    </a:lnTo>
                    <a:lnTo>
                      <a:pt x="1533" y="1392"/>
                    </a:lnTo>
                    <a:lnTo>
                      <a:pt x="1483" y="1409"/>
                    </a:lnTo>
                    <a:lnTo>
                      <a:pt x="1432" y="1424"/>
                    </a:lnTo>
                    <a:lnTo>
                      <a:pt x="1381" y="1435"/>
                    </a:lnTo>
                    <a:lnTo>
                      <a:pt x="1327" y="1445"/>
                    </a:lnTo>
                    <a:lnTo>
                      <a:pt x="1273" y="1451"/>
                    </a:lnTo>
                    <a:lnTo>
                      <a:pt x="1219" y="1456"/>
                    </a:lnTo>
                    <a:lnTo>
                      <a:pt x="1164" y="1457"/>
                    </a:lnTo>
                    <a:lnTo>
                      <a:pt x="1109" y="1456"/>
                    </a:lnTo>
                    <a:lnTo>
                      <a:pt x="1056" y="1452"/>
                    </a:lnTo>
                    <a:lnTo>
                      <a:pt x="1003" y="1445"/>
                    </a:lnTo>
                    <a:lnTo>
                      <a:pt x="951" y="1436"/>
                    </a:lnTo>
                    <a:lnTo>
                      <a:pt x="900" y="1425"/>
                    </a:lnTo>
                    <a:lnTo>
                      <a:pt x="850" y="1411"/>
                    </a:lnTo>
                    <a:lnTo>
                      <a:pt x="800" y="1394"/>
                    </a:lnTo>
                    <a:lnTo>
                      <a:pt x="752" y="1375"/>
                    </a:lnTo>
                    <a:lnTo>
                      <a:pt x="706" y="1354"/>
                    </a:lnTo>
                    <a:lnTo>
                      <a:pt x="660" y="1331"/>
                    </a:lnTo>
                    <a:lnTo>
                      <a:pt x="615" y="1306"/>
                    </a:lnTo>
                    <a:lnTo>
                      <a:pt x="572" y="1279"/>
                    </a:lnTo>
                    <a:lnTo>
                      <a:pt x="530" y="1250"/>
                    </a:lnTo>
                    <a:lnTo>
                      <a:pt x="490" y="1220"/>
                    </a:lnTo>
                    <a:lnTo>
                      <a:pt x="452" y="1186"/>
                    </a:lnTo>
                    <a:lnTo>
                      <a:pt x="414" y="1152"/>
                    </a:lnTo>
                    <a:lnTo>
                      <a:pt x="379" y="1116"/>
                    </a:lnTo>
                    <a:lnTo>
                      <a:pt x="346" y="1078"/>
                    </a:lnTo>
                    <a:lnTo>
                      <a:pt x="314" y="1039"/>
                    </a:lnTo>
                    <a:lnTo>
                      <a:pt x="284" y="997"/>
                    </a:lnTo>
                    <a:lnTo>
                      <a:pt x="256" y="954"/>
                    </a:lnTo>
                    <a:lnTo>
                      <a:pt x="229" y="911"/>
                    </a:lnTo>
                    <a:lnTo>
                      <a:pt x="205" y="866"/>
                    </a:lnTo>
                    <a:lnTo>
                      <a:pt x="183" y="820"/>
                    </a:lnTo>
                    <a:lnTo>
                      <a:pt x="164" y="772"/>
                    </a:lnTo>
                    <a:lnTo>
                      <a:pt x="146" y="723"/>
                    </a:lnTo>
                    <a:lnTo>
                      <a:pt x="131" y="673"/>
                    </a:lnTo>
                    <a:lnTo>
                      <a:pt x="119" y="622"/>
                    </a:lnTo>
                    <a:lnTo>
                      <a:pt x="108" y="571"/>
                    </a:lnTo>
                    <a:lnTo>
                      <a:pt x="100" y="519"/>
                    </a:lnTo>
                    <a:lnTo>
                      <a:pt x="96" y="466"/>
                    </a:lnTo>
                    <a:lnTo>
                      <a:pt x="92" y="411"/>
                    </a:lnTo>
                    <a:lnTo>
                      <a:pt x="58" y="420"/>
                    </a:lnTo>
                    <a:lnTo>
                      <a:pt x="0" y="439"/>
                    </a:lnTo>
                    <a:lnTo>
                      <a:pt x="5" y="497"/>
                    </a:lnTo>
                    <a:lnTo>
                      <a:pt x="11" y="554"/>
                    </a:lnTo>
                    <a:lnTo>
                      <a:pt x="21" y="610"/>
                    </a:lnTo>
                    <a:lnTo>
                      <a:pt x="32" y="665"/>
                    </a:lnTo>
                    <a:lnTo>
                      <a:pt x="47" y="719"/>
                    </a:lnTo>
                    <a:lnTo>
                      <a:pt x="64" y="772"/>
                    </a:lnTo>
                    <a:lnTo>
                      <a:pt x="84" y="824"/>
                    </a:lnTo>
                    <a:lnTo>
                      <a:pt x="106" y="874"/>
                    </a:lnTo>
                    <a:lnTo>
                      <a:pt x="130" y="923"/>
                    </a:lnTo>
                    <a:lnTo>
                      <a:pt x="157" y="972"/>
                    </a:lnTo>
                    <a:lnTo>
                      <a:pt x="186" y="1018"/>
                    </a:lnTo>
                    <a:lnTo>
                      <a:pt x="216" y="1063"/>
                    </a:lnTo>
                    <a:lnTo>
                      <a:pt x="249" y="1107"/>
                    </a:lnTo>
                    <a:lnTo>
                      <a:pt x="284" y="1148"/>
                    </a:lnTo>
                    <a:lnTo>
                      <a:pt x="319" y="1188"/>
                    </a:lnTo>
                    <a:lnTo>
                      <a:pt x="359" y="1226"/>
                    </a:lnTo>
                    <a:lnTo>
                      <a:pt x="398" y="1263"/>
                    </a:lnTo>
                    <a:lnTo>
                      <a:pt x="441" y="1298"/>
                    </a:lnTo>
                    <a:lnTo>
                      <a:pt x="483" y="1331"/>
                    </a:lnTo>
                    <a:lnTo>
                      <a:pt x="528" y="1362"/>
                    </a:lnTo>
                    <a:lnTo>
                      <a:pt x="574" y="1391"/>
                    </a:lnTo>
                    <a:lnTo>
                      <a:pt x="623" y="1418"/>
                    </a:lnTo>
                    <a:lnTo>
                      <a:pt x="672" y="1442"/>
                    </a:lnTo>
                    <a:lnTo>
                      <a:pt x="722" y="1464"/>
                    </a:lnTo>
                    <a:lnTo>
                      <a:pt x="774" y="1484"/>
                    </a:lnTo>
                    <a:lnTo>
                      <a:pt x="827" y="1501"/>
                    </a:lnTo>
                    <a:lnTo>
                      <a:pt x="881" y="1516"/>
                    </a:lnTo>
                    <a:lnTo>
                      <a:pt x="935" y="1528"/>
                    </a:lnTo>
                    <a:lnTo>
                      <a:pt x="992" y="1538"/>
                    </a:lnTo>
                    <a:lnTo>
                      <a:pt x="1048" y="1545"/>
                    </a:lnTo>
                    <a:lnTo>
                      <a:pt x="1106" y="1549"/>
                    </a:lnTo>
                    <a:lnTo>
                      <a:pt x="1164" y="1550"/>
                    </a:lnTo>
                    <a:lnTo>
                      <a:pt x="1224" y="1549"/>
                    </a:lnTo>
                    <a:lnTo>
                      <a:pt x="1284" y="1545"/>
                    </a:lnTo>
                    <a:lnTo>
                      <a:pt x="1341" y="1537"/>
                    </a:lnTo>
                    <a:lnTo>
                      <a:pt x="1399" y="1527"/>
                    </a:lnTo>
                    <a:lnTo>
                      <a:pt x="1456" y="1514"/>
                    </a:lnTo>
                    <a:lnTo>
                      <a:pt x="1511" y="1499"/>
                    </a:lnTo>
                    <a:lnTo>
                      <a:pt x="1565" y="1480"/>
                    </a:lnTo>
                    <a:lnTo>
                      <a:pt x="1618" y="1459"/>
                    </a:lnTo>
                    <a:lnTo>
                      <a:pt x="1669" y="1435"/>
                    </a:lnTo>
                    <a:lnTo>
                      <a:pt x="1720" y="1410"/>
                    </a:lnTo>
                    <a:lnTo>
                      <a:pt x="1768" y="1382"/>
                    </a:lnTo>
                    <a:lnTo>
                      <a:pt x="1815" y="1352"/>
                    </a:lnTo>
                    <a:lnTo>
                      <a:pt x="1862" y="1319"/>
                    </a:lnTo>
                    <a:lnTo>
                      <a:pt x="1905" y="1284"/>
                    </a:lnTo>
                    <a:lnTo>
                      <a:pt x="1948" y="1248"/>
                    </a:lnTo>
                    <a:lnTo>
                      <a:pt x="1988" y="1209"/>
                    </a:lnTo>
                    <a:lnTo>
                      <a:pt x="2026" y="1169"/>
                    </a:lnTo>
                    <a:lnTo>
                      <a:pt x="2063" y="1126"/>
                    </a:lnTo>
                    <a:lnTo>
                      <a:pt x="2098" y="1082"/>
                    </a:lnTo>
                    <a:lnTo>
                      <a:pt x="2130" y="1037"/>
                    </a:lnTo>
                    <a:lnTo>
                      <a:pt x="2160" y="990"/>
                    </a:lnTo>
                    <a:lnTo>
                      <a:pt x="2189" y="941"/>
                    </a:lnTo>
                    <a:lnTo>
                      <a:pt x="2214" y="891"/>
                    </a:lnTo>
                    <a:lnTo>
                      <a:pt x="2238" y="839"/>
                    </a:lnTo>
                    <a:lnTo>
                      <a:pt x="2258" y="786"/>
                    </a:lnTo>
                    <a:lnTo>
                      <a:pt x="2277" y="732"/>
                    </a:lnTo>
                    <a:lnTo>
                      <a:pt x="2293" y="677"/>
                    </a:lnTo>
                    <a:lnTo>
                      <a:pt x="2306" y="620"/>
                    </a:lnTo>
                    <a:lnTo>
                      <a:pt x="2316" y="564"/>
                    </a:lnTo>
                    <a:lnTo>
                      <a:pt x="2323" y="505"/>
                    </a:lnTo>
                    <a:lnTo>
                      <a:pt x="2327" y="446"/>
                    </a:lnTo>
                    <a:lnTo>
                      <a:pt x="2330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47920" y="4170240"/>
                <a:ext cx="590760" cy="398520"/>
              </a:xfrm>
              <a:custGeom>
                <a:avLst/>
                <a:gdLst/>
                <a:ahLst/>
                <a:rect l="l" t="t" r="r" b="b"/>
                <a:pathLst>
                  <a:path w="2237" h="1504">
                    <a:moveTo>
                      <a:pt x="2237" y="386"/>
                    </a:moveTo>
                    <a:lnTo>
                      <a:pt x="2235" y="335"/>
                    </a:lnTo>
                    <a:lnTo>
                      <a:pt x="2232" y="286"/>
                    </a:lnTo>
                    <a:lnTo>
                      <a:pt x="2227" y="236"/>
                    </a:lnTo>
                    <a:lnTo>
                      <a:pt x="2219" y="188"/>
                    </a:lnTo>
                    <a:lnTo>
                      <a:pt x="2210" y="139"/>
                    </a:lnTo>
                    <a:lnTo>
                      <a:pt x="2197" y="92"/>
                    </a:lnTo>
                    <a:lnTo>
                      <a:pt x="2185" y="46"/>
                    </a:lnTo>
                    <a:lnTo>
                      <a:pt x="2168" y="0"/>
                    </a:lnTo>
                    <a:lnTo>
                      <a:pt x="2068" y="0"/>
                    </a:lnTo>
                    <a:lnTo>
                      <a:pt x="2085" y="45"/>
                    </a:lnTo>
                    <a:lnTo>
                      <a:pt x="2100" y="91"/>
                    </a:lnTo>
                    <a:lnTo>
                      <a:pt x="2113" y="138"/>
                    </a:lnTo>
                    <a:lnTo>
                      <a:pt x="2125" y="187"/>
                    </a:lnTo>
                    <a:lnTo>
                      <a:pt x="2133" y="235"/>
                    </a:lnTo>
                    <a:lnTo>
                      <a:pt x="2138" y="285"/>
                    </a:lnTo>
                    <a:lnTo>
                      <a:pt x="2141" y="310"/>
                    </a:lnTo>
                    <a:lnTo>
                      <a:pt x="2142" y="335"/>
                    </a:lnTo>
                    <a:lnTo>
                      <a:pt x="2143" y="361"/>
                    </a:lnTo>
                    <a:lnTo>
                      <a:pt x="2143" y="386"/>
                    </a:lnTo>
                    <a:lnTo>
                      <a:pt x="2142" y="439"/>
                    </a:lnTo>
                    <a:lnTo>
                      <a:pt x="2138" y="491"/>
                    </a:lnTo>
                    <a:lnTo>
                      <a:pt x="2132" y="542"/>
                    </a:lnTo>
                    <a:lnTo>
                      <a:pt x="2122" y="592"/>
                    </a:lnTo>
                    <a:lnTo>
                      <a:pt x="2111" y="642"/>
                    </a:lnTo>
                    <a:lnTo>
                      <a:pt x="2097" y="690"/>
                    </a:lnTo>
                    <a:lnTo>
                      <a:pt x="2081" y="739"/>
                    </a:lnTo>
                    <a:lnTo>
                      <a:pt x="2063" y="785"/>
                    </a:lnTo>
                    <a:lnTo>
                      <a:pt x="2043" y="830"/>
                    </a:lnTo>
                    <a:lnTo>
                      <a:pt x="2020" y="875"/>
                    </a:lnTo>
                    <a:lnTo>
                      <a:pt x="1995" y="918"/>
                    </a:lnTo>
                    <a:lnTo>
                      <a:pt x="1969" y="959"/>
                    </a:lnTo>
                    <a:lnTo>
                      <a:pt x="1940" y="999"/>
                    </a:lnTo>
                    <a:lnTo>
                      <a:pt x="1909" y="1037"/>
                    </a:lnTo>
                    <a:lnTo>
                      <a:pt x="1877" y="1075"/>
                    </a:lnTo>
                    <a:lnTo>
                      <a:pt x="1843" y="1110"/>
                    </a:lnTo>
                    <a:lnTo>
                      <a:pt x="1807" y="1145"/>
                    </a:lnTo>
                    <a:lnTo>
                      <a:pt x="1771" y="1177"/>
                    </a:lnTo>
                    <a:lnTo>
                      <a:pt x="1731" y="1207"/>
                    </a:lnTo>
                    <a:lnTo>
                      <a:pt x="1691" y="1236"/>
                    </a:lnTo>
                    <a:lnTo>
                      <a:pt x="1649" y="1262"/>
                    </a:lnTo>
                    <a:lnTo>
                      <a:pt x="1607" y="1288"/>
                    </a:lnTo>
                    <a:lnTo>
                      <a:pt x="1563" y="1309"/>
                    </a:lnTo>
                    <a:lnTo>
                      <a:pt x="1517" y="1330"/>
                    </a:lnTo>
                    <a:lnTo>
                      <a:pt x="1471" y="1349"/>
                    </a:lnTo>
                    <a:lnTo>
                      <a:pt x="1423" y="1365"/>
                    </a:lnTo>
                    <a:lnTo>
                      <a:pt x="1375" y="1379"/>
                    </a:lnTo>
                    <a:lnTo>
                      <a:pt x="1325" y="1390"/>
                    </a:lnTo>
                    <a:lnTo>
                      <a:pt x="1275" y="1399"/>
                    </a:lnTo>
                    <a:lnTo>
                      <a:pt x="1223" y="1405"/>
                    </a:lnTo>
                    <a:lnTo>
                      <a:pt x="1171" y="1410"/>
                    </a:lnTo>
                    <a:lnTo>
                      <a:pt x="1118" y="1411"/>
                    </a:lnTo>
                    <a:lnTo>
                      <a:pt x="1066" y="1410"/>
                    </a:lnTo>
                    <a:lnTo>
                      <a:pt x="1014" y="1405"/>
                    </a:lnTo>
                    <a:lnTo>
                      <a:pt x="963" y="1399"/>
                    </a:lnTo>
                    <a:lnTo>
                      <a:pt x="914" y="1390"/>
                    </a:lnTo>
                    <a:lnTo>
                      <a:pt x="864" y="1379"/>
                    </a:lnTo>
                    <a:lnTo>
                      <a:pt x="816" y="1365"/>
                    </a:lnTo>
                    <a:lnTo>
                      <a:pt x="768" y="1350"/>
                    </a:lnTo>
                    <a:lnTo>
                      <a:pt x="722" y="1331"/>
                    </a:lnTo>
                    <a:lnTo>
                      <a:pt x="677" y="1312"/>
                    </a:lnTo>
                    <a:lnTo>
                      <a:pt x="633" y="1289"/>
                    </a:lnTo>
                    <a:lnTo>
                      <a:pt x="591" y="1265"/>
                    </a:lnTo>
                    <a:lnTo>
                      <a:pt x="549" y="1238"/>
                    </a:lnTo>
                    <a:lnTo>
                      <a:pt x="509" y="1210"/>
                    </a:lnTo>
                    <a:lnTo>
                      <a:pt x="471" y="1180"/>
                    </a:lnTo>
                    <a:lnTo>
                      <a:pt x="434" y="1149"/>
                    </a:lnTo>
                    <a:lnTo>
                      <a:pt x="398" y="1115"/>
                    </a:lnTo>
                    <a:lnTo>
                      <a:pt x="363" y="1080"/>
                    </a:lnTo>
                    <a:lnTo>
                      <a:pt x="332" y="1043"/>
                    </a:lnTo>
                    <a:lnTo>
                      <a:pt x="301" y="1005"/>
                    </a:lnTo>
                    <a:lnTo>
                      <a:pt x="272" y="966"/>
                    </a:lnTo>
                    <a:lnTo>
                      <a:pt x="246" y="924"/>
                    </a:lnTo>
                    <a:lnTo>
                      <a:pt x="221" y="883"/>
                    </a:lnTo>
                    <a:lnTo>
                      <a:pt x="198" y="839"/>
                    </a:lnTo>
                    <a:lnTo>
                      <a:pt x="178" y="794"/>
                    </a:lnTo>
                    <a:lnTo>
                      <a:pt x="159" y="748"/>
                    </a:lnTo>
                    <a:lnTo>
                      <a:pt x="142" y="701"/>
                    </a:lnTo>
                    <a:lnTo>
                      <a:pt x="128" y="654"/>
                    </a:lnTo>
                    <a:lnTo>
                      <a:pt x="117" y="604"/>
                    </a:lnTo>
                    <a:lnTo>
                      <a:pt x="106" y="554"/>
                    </a:lnTo>
                    <a:lnTo>
                      <a:pt x="99" y="504"/>
                    </a:lnTo>
                    <a:lnTo>
                      <a:pt x="95" y="452"/>
                    </a:lnTo>
                    <a:lnTo>
                      <a:pt x="93" y="400"/>
                    </a:lnTo>
                    <a:lnTo>
                      <a:pt x="12" y="420"/>
                    </a:lnTo>
                    <a:lnTo>
                      <a:pt x="0" y="423"/>
                    </a:lnTo>
                    <a:lnTo>
                      <a:pt x="4" y="479"/>
                    </a:lnTo>
                    <a:lnTo>
                      <a:pt x="9" y="535"/>
                    </a:lnTo>
                    <a:lnTo>
                      <a:pt x="18" y="589"/>
                    </a:lnTo>
                    <a:lnTo>
                      <a:pt x="29" y="642"/>
                    </a:lnTo>
                    <a:lnTo>
                      <a:pt x="43" y="695"/>
                    </a:lnTo>
                    <a:lnTo>
                      <a:pt x="59" y="746"/>
                    </a:lnTo>
                    <a:lnTo>
                      <a:pt x="77" y="796"/>
                    </a:lnTo>
                    <a:lnTo>
                      <a:pt x="98" y="845"/>
                    </a:lnTo>
                    <a:lnTo>
                      <a:pt x="121" y="893"/>
                    </a:lnTo>
                    <a:lnTo>
                      <a:pt x="147" y="939"/>
                    </a:lnTo>
                    <a:lnTo>
                      <a:pt x="173" y="986"/>
                    </a:lnTo>
                    <a:lnTo>
                      <a:pt x="203" y="1029"/>
                    </a:lnTo>
                    <a:lnTo>
                      <a:pt x="234" y="1071"/>
                    </a:lnTo>
                    <a:lnTo>
                      <a:pt x="268" y="1112"/>
                    </a:lnTo>
                    <a:lnTo>
                      <a:pt x="302" y="1152"/>
                    </a:lnTo>
                    <a:lnTo>
                      <a:pt x="339" y="1188"/>
                    </a:lnTo>
                    <a:lnTo>
                      <a:pt x="378" y="1224"/>
                    </a:lnTo>
                    <a:lnTo>
                      <a:pt x="419" y="1259"/>
                    </a:lnTo>
                    <a:lnTo>
                      <a:pt x="460" y="1290"/>
                    </a:lnTo>
                    <a:lnTo>
                      <a:pt x="504" y="1320"/>
                    </a:lnTo>
                    <a:lnTo>
                      <a:pt x="548" y="1349"/>
                    </a:lnTo>
                    <a:lnTo>
                      <a:pt x="595" y="1374"/>
                    </a:lnTo>
                    <a:lnTo>
                      <a:pt x="642" y="1398"/>
                    </a:lnTo>
                    <a:lnTo>
                      <a:pt x="691" y="1419"/>
                    </a:lnTo>
                    <a:lnTo>
                      <a:pt x="741" y="1439"/>
                    </a:lnTo>
                    <a:lnTo>
                      <a:pt x="792" y="1456"/>
                    </a:lnTo>
                    <a:lnTo>
                      <a:pt x="844" y="1470"/>
                    </a:lnTo>
                    <a:lnTo>
                      <a:pt x="897" y="1482"/>
                    </a:lnTo>
                    <a:lnTo>
                      <a:pt x="952" y="1492"/>
                    </a:lnTo>
                    <a:lnTo>
                      <a:pt x="1006" y="1499"/>
                    </a:lnTo>
                    <a:lnTo>
                      <a:pt x="1062" y="1502"/>
                    </a:lnTo>
                    <a:lnTo>
                      <a:pt x="1118" y="1504"/>
                    </a:lnTo>
                    <a:lnTo>
                      <a:pt x="1175" y="1502"/>
                    </a:lnTo>
                    <a:lnTo>
                      <a:pt x="1233" y="1499"/>
                    </a:lnTo>
                    <a:lnTo>
                      <a:pt x="1288" y="1492"/>
                    </a:lnTo>
                    <a:lnTo>
                      <a:pt x="1344" y="1481"/>
                    </a:lnTo>
                    <a:lnTo>
                      <a:pt x="1398" y="1469"/>
                    </a:lnTo>
                    <a:lnTo>
                      <a:pt x="1451" y="1454"/>
                    </a:lnTo>
                    <a:lnTo>
                      <a:pt x="1503" y="1436"/>
                    </a:lnTo>
                    <a:lnTo>
                      <a:pt x="1554" y="1416"/>
                    </a:lnTo>
                    <a:lnTo>
                      <a:pt x="1603" y="1394"/>
                    </a:lnTo>
                    <a:lnTo>
                      <a:pt x="1652" y="1369"/>
                    </a:lnTo>
                    <a:lnTo>
                      <a:pt x="1698" y="1342"/>
                    </a:lnTo>
                    <a:lnTo>
                      <a:pt x="1744" y="1313"/>
                    </a:lnTo>
                    <a:lnTo>
                      <a:pt x="1788" y="1282"/>
                    </a:lnTo>
                    <a:lnTo>
                      <a:pt x="1829" y="1248"/>
                    </a:lnTo>
                    <a:lnTo>
                      <a:pt x="1870" y="1214"/>
                    </a:lnTo>
                    <a:lnTo>
                      <a:pt x="1909" y="1176"/>
                    </a:lnTo>
                    <a:lnTo>
                      <a:pt x="1946" y="1138"/>
                    </a:lnTo>
                    <a:lnTo>
                      <a:pt x="1982" y="1097"/>
                    </a:lnTo>
                    <a:lnTo>
                      <a:pt x="2015" y="1055"/>
                    </a:lnTo>
                    <a:lnTo>
                      <a:pt x="2046" y="1011"/>
                    </a:lnTo>
                    <a:lnTo>
                      <a:pt x="2075" y="966"/>
                    </a:lnTo>
                    <a:lnTo>
                      <a:pt x="2102" y="919"/>
                    </a:lnTo>
                    <a:lnTo>
                      <a:pt x="2127" y="870"/>
                    </a:lnTo>
                    <a:lnTo>
                      <a:pt x="2149" y="821"/>
                    </a:lnTo>
                    <a:lnTo>
                      <a:pt x="2168" y="770"/>
                    </a:lnTo>
                    <a:lnTo>
                      <a:pt x="2187" y="718"/>
                    </a:lnTo>
                    <a:lnTo>
                      <a:pt x="2202" y="665"/>
                    </a:lnTo>
                    <a:lnTo>
                      <a:pt x="2215" y="611"/>
                    </a:lnTo>
                    <a:lnTo>
                      <a:pt x="2224" y="556"/>
                    </a:lnTo>
                    <a:lnTo>
                      <a:pt x="2231" y="500"/>
                    </a:lnTo>
                    <a:lnTo>
                      <a:pt x="2235" y="444"/>
                    </a:lnTo>
                    <a:lnTo>
                      <a:pt x="2237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9080" y="4170240"/>
                <a:ext cx="568440" cy="385920"/>
              </a:xfrm>
              <a:custGeom>
                <a:avLst/>
                <a:gdLst/>
                <a:ahLst/>
                <a:rect l="l" t="t" r="r" b="b"/>
                <a:pathLst>
                  <a:path w="2144" h="1457">
                    <a:moveTo>
                      <a:pt x="2144" y="386"/>
                    </a:moveTo>
                    <a:lnTo>
                      <a:pt x="2143" y="335"/>
                    </a:lnTo>
                    <a:lnTo>
                      <a:pt x="2140" y="285"/>
                    </a:lnTo>
                    <a:lnTo>
                      <a:pt x="2134" y="235"/>
                    </a:lnTo>
                    <a:lnTo>
                      <a:pt x="2126" y="187"/>
                    </a:lnTo>
                    <a:lnTo>
                      <a:pt x="2116" y="139"/>
                    </a:lnTo>
                    <a:lnTo>
                      <a:pt x="2103" y="92"/>
                    </a:lnTo>
                    <a:lnTo>
                      <a:pt x="2089" y="46"/>
                    </a:lnTo>
                    <a:lnTo>
                      <a:pt x="2073" y="0"/>
                    </a:lnTo>
                    <a:lnTo>
                      <a:pt x="1997" y="0"/>
                    </a:lnTo>
                    <a:lnTo>
                      <a:pt x="1971" y="0"/>
                    </a:lnTo>
                    <a:lnTo>
                      <a:pt x="1990" y="45"/>
                    </a:lnTo>
                    <a:lnTo>
                      <a:pt x="2006" y="91"/>
                    </a:lnTo>
                    <a:lnTo>
                      <a:pt x="2013" y="114"/>
                    </a:lnTo>
                    <a:lnTo>
                      <a:pt x="2019" y="138"/>
                    </a:lnTo>
                    <a:lnTo>
                      <a:pt x="2026" y="162"/>
                    </a:lnTo>
                    <a:lnTo>
                      <a:pt x="2030" y="186"/>
                    </a:lnTo>
                    <a:lnTo>
                      <a:pt x="2035" y="211"/>
                    </a:lnTo>
                    <a:lnTo>
                      <a:pt x="2039" y="235"/>
                    </a:lnTo>
                    <a:lnTo>
                      <a:pt x="2043" y="259"/>
                    </a:lnTo>
                    <a:lnTo>
                      <a:pt x="2045" y="285"/>
                    </a:lnTo>
                    <a:lnTo>
                      <a:pt x="2047" y="310"/>
                    </a:lnTo>
                    <a:lnTo>
                      <a:pt x="2050" y="334"/>
                    </a:lnTo>
                    <a:lnTo>
                      <a:pt x="2051" y="361"/>
                    </a:lnTo>
                    <a:lnTo>
                      <a:pt x="2051" y="386"/>
                    </a:lnTo>
                    <a:lnTo>
                      <a:pt x="2050" y="437"/>
                    </a:lnTo>
                    <a:lnTo>
                      <a:pt x="2046" y="486"/>
                    </a:lnTo>
                    <a:lnTo>
                      <a:pt x="2039" y="535"/>
                    </a:lnTo>
                    <a:lnTo>
                      <a:pt x="2031" y="583"/>
                    </a:lnTo>
                    <a:lnTo>
                      <a:pt x="2020" y="631"/>
                    </a:lnTo>
                    <a:lnTo>
                      <a:pt x="2007" y="677"/>
                    </a:lnTo>
                    <a:lnTo>
                      <a:pt x="1991" y="723"/>
                    </a:lnTo>
                    <a:lnTo>
                      <a:pt x="1974" y="767"/>
                    </a:lnTo>
                    <a:lnTo>
                      <a:pt x="1954" y="810"/>
                    </a:lnTo>
                    <a:lnTo>
                      <a:pt x="1933" y="852"/>
                    </a:lnTo>
                    <a:lnTo>
                      <a:pt x="1909" y="893"/>
                    </a:lnTo>
                    <a:lnTo>
                      <a:pt x="1884" y="933"/>
                    </a:lnTo>
                    <a:lnTo>
                      <a:pt x="1856" y="972"/>
                    </a:lnTo>
                    <a:lnTo>
                      <a:pt x="1827" y="1009"/>
                    </a:lnTo>
                    <a:lnTo>
                      <a:pt x="1796" y="1043"/>
                    </a:lnTo>
                    <a:lnTo>
                      <a:pt x="1764" y="1078"/>
                    </a:lnTo>
                    <a:lnTo>
                      <a:pt x="1730" y="1110"/>
                    </a:lnTo>
                    <a:lnTo>
                      <a:pt x="1695" y="1141"/>
                    </a:lnTo>
                    <a:lnTo>
                      <a:pt x="1658" y="1170"/>
                    </a:lnTo>
                    <a:lnTo>
                      <a:pt x="1620" y="1197"/>
                    </a:lnTo>
                    <a:lnTo>
                      <a:pt x="1579" y="1223"/>
                    </a:lnTo>
                    <a:lnTo>
                      <a:pt x="1539" y="1246"/>
                    </a:lnTo>
                    <a:lnTo>
                      <a:pt x="1496" y="1268"/>
                    </a:lnTo>
                    <a:lnTo>
                      <a:pt x="1453" y="1288"/>
                    </a:lnTo>
                    <a:lnTo>
                      <a:pt x="1408" y="1305"/>
                    </a:lnTo>
                    <a:lnTo>
                      <a:pt x="1364" y="1320"/>
                    </a:lnTo>
                    <a:lnTo>
                      <a:pt x="1316" y="1334"/>
                    </a:lnTo>
                    <a:lnTo>
                      <a:pt x="1269" y="1344"/>
                    </a:lnTo>
                    <a:lnTo>
                      <a:pt x="1222" y="1353"/>
                    </a:lnTo>
                    <a:lnTo>
                      <a:pt x="1172" y="1359"/>
                    </a:lnTo>
                    <a:lnTo>
                      <a:pt x="1122" y="1362"/>
                    </a:lnTo>
                    <a:lnTo>
                      <a:pt x="1072" y="1364"/>
                    </a:lnTo>
                    <a:lnTo>
                      <a:pt x="1022" y="1362"/>
                    </a:lnTo>
                    <a:lnTo>
                      <a:pt x="973" y="1359"/>
                    </a:lnTo>
                    <a:lnTo>
                      <a:pt x="923" y="1353"/>
                    </a:lnTo>
                    <a:lnTo>
                      <a:pt x="876" y="1344"/>
                    </a:lnTo>
                    <a:lnTo>
                      <a:pt x="828" y="1334"/>
                    </a:lnTo>
                    <a:lnTo>
                      <a:pt x="782" y="1320"/>
                    </a:lnTo>
                    <a:lnTo>
                      <a:pt x="736" y="1305"/>
                    </a:lnTo>
                    <a:lnTo>
                      <a:pt x="692" y="1288"/>
                    </a:lnTo>
                    <a:lnTo>
                      <a:pt x="648" y="1268"/>
                    </a:lnTo>
                    <a:lnTo>
                      <a:pt x="607" y="1246"/>
                    </a:lnTo>
                    <a:lnTo>
                      <a:pt x="565" y="1223"/>
                    </a:lnTo>
                    <a:lnTo>
                      <a:pt x="526" y="1198"/>
                    </a:lnTo>
                    <a:lnTo>
                      <a:pt x="487" y="1170"/>
                    </a:lnTo>
                    <a:lnTo>
                      <a:pt x="450" y="1141"/>
                    </a:lnTo>
                    <a:lnTo>
                      <a:pt x="415" y="1111"/>
                    </a:lnTo>
                    <a:lnTo>
                      <a:pt x="381" y="1079"/>
                    </a:lnTo>
                    <a:lnTo>
                      <a:pt x="349" y="1044"/>
                    </a:lnTo>
                    <a:lnTo>
                      <a:pt x="319" y="1010"/>
                    </a:lnTo>
                    <a:lnTo>
                      <a:pt x="289" y="973"/>
                    </a:lnTo>
                    <a:lnTo>
                      <a:pt x="262" y="935"/>
                    </a:lnTo>
                    <a:lnTo>
                      <a:pt x="237" y="894"/>
                    </a:lnTo>
                    <a:lnTo>
                      <a:pt x="212" y="854"/>
                    </a:lnTo>
                    <a:lnTo>
                      <a:pt x="190" y="811"/>
                    </a:lnTo>
                    <a:lnTo>
                      <a:pt x="171" y="769"/>
                    </a:lnTo>
                    <a:lnTo>
                      <a:pt x="154" y="724"/>
                    </a:lnTo>
                    <a:lnTo>
                      <a:pt x="139" y="679"/>
                    </a:lnTo>
                    <a:lnTo>
                      <a:pt x="125" y="633"/>
                    </a:lnTo>
                    <a:lnTo>
                      <a:pt x="114" y="586"/>
                    </a:lnTo>
                    <a:lnTo>
                      <a:pt x="105" y="537"/>
                    </a:lnTo>
                    <a:lnTo>
                      <a:pt x="98" y="489"/>
                    </a:lnTo>
                    <a:lnTo>
                      <a:pt x="95" y="439"/>
                    </a:lnTo>
                    <a:lnTo>
                      <a:pt x="94" y="388"/>
                    </a:lnTo>
                    <a:lnTo>
                      <a:pt x="0" y="411"/>
                    </a:lnTo>
                    <a:lnTo>
                      <a:pt x="4" y="466"/>
                    </a:lnTo>
                    <a:lnTo>
                      <a:pt x="8" y="519"/>
                    </a:lnTo>
                    <a:lnTo>
                      <a:pt x="16" y="571"/>
                    </a:lnTo>
                    <a:lnTo>
                      <a:pt x="27" y="622"/>
                    </a:lnTo>
                    <a:lnTo>
                      <a:pt x="39" y="673"/>
                    </a:lnTo>
                    <a:lnTo>
                      <a:pt x="54" y="723"/>
                    </a:lnTo>
                    <a:lnTo>
                      <a:pt x="72" y="772"/>
                    </a:lnTo>
                    <a:lnTo>
                      <a:pt x="91" y="820"/>
                    </a:lnTo>
                    <a:lnTo>
                      <a:pt x="113" y="866"/>
                    </a:lnTo>
                    <a:lnTo>
                      <a:pt x="137" y="911"/>
                    </a:lnTo>
                    <a:lnTo>
                      <a:pt x="164" y="954"/>
                    </a:lnTo>
                    <a:lnTo>
                      <a:pt x="192" y="997"/>
                    </a:lnTo>
                    <a:lnTo>
                      <a:pt x="222" y="1039"/>
                    </a:lnTo>
                    <a:lnTo>
                      <a:pt x="254" y="1078"/>
                    </a:lnTo>
                    <a:lnTo>
                      <a:pt x="287" y="1116"/>
                    </a:lnTo>
                    <a:lnTo>
                      <a:pt x="322" y="1152"/>
                    </a:lnTo>
                    <a:lnTo>
                      <a:pt x="360" y="1186"/>
                    </a:lnTo>
                    <a:lnTo>
                      <a:pt x="398" y="1220"/>
                    </a:lnTo>
                    <a:lnTo>
                      <a:pt x="438" y="1250"/>
                    </a:lnTo>
                    <a:lnTo>
                      <a:pt x="480" y="1279"/>
                    </a:lnTo>
                    <a:lnTo>
                      <a:pt x="523" y="1306"/>
                    </a:lnTo>
                    <a:lnTo>
                      <a:pt x="568" y="1331"/>
                    </a:lnTo>
                    <a:lnTo>
                      <a:pt x="614" y="1354"/>
                    </a:lnTo>
                    <a:lnTo>
                      <a:pt x="660" y="1375"/>
                    </a:lnTo>
                    <a:lnTo>
                      <a:pt x="708" y="1394"/>
                    </a:lnTo>
                    <a:lnTo>
                      <a:pt x="758" y="1411"/>
                    </a:lnTo>
                    <a:lnTo>
                      <a:pt x="808" y="1425"/>
                    </a:lnTo>
                    <a:lnTo>
                      <a:pt x="859" y="1436"/>
                    </a:lnTo>
                    <a:lnTo>
                      <a:pt x="911" y="1445"/>
                    </a:lnTo>
                    <a:lnTo>
                      <a:pt x="964" y="1452"/>
                    </a:lnTo>
                    <a:lnTo>
                      <a:pt x="1017" y="1456"/>
                    </a:lnTo>
                    <a:lnTo>
                      <a:pt x="1072" y="1457"/>
                    </a:lnTo>
                    <a:lnTo>
                      <a:pt x="1127" y="1456"/>
                    </a:lnTo>
                    <a:lnTo>
                      <a:pt x="1181" y="1451"/>
                    </a:lnTo>
                    <a:lnTo>
                      <a:pt x="1235" y="1445"/>
                    </a:lnTo>
                    <a:lnTo>
                      <a:pt x="1289" y="1435"/>
                    </a:lnTo>
                    <a:lnTo>
                      <a:pt x="1340" y="1424"/>
                    </a:lnTo>
                    <a:lnTo>
                      <a:pt x="1391" y="1409"/>
                    </a:lnTo>
                    <a:lnTo>
                      <a:pt x="1441" y="1392"/>
                    </a:lnTo>
                    <a:lnTo>
                      <a:pt x="1489" y="1373"/>
                    </a:lnTo>
                    <a:lnTo>
                      <a:pt x="1537" y="1352"/>
                    </a:lnTo>
                    <a:lnTo>
                      <a:pt x="1583" y="1328"/>
                    </a:lnTo>
                    <a:lnTo>
                      <a:pt x="1628" y="1303"/>
                    </a:lnTo>
                    <a:lnTo>
                      <a:pt x="1671" y="1275"/>
                    </a:lnTo>
                    <a:lnTo>
                      <a:pt x="1713" y="1245"/>
                    </a:lnTo>
                    <a:lnTo>
                      <a:pt x="1755" y="1213"/>
                    </a:lnTo>
                    <a:lnTo>
                      <a:pt x="1793" y="1179"/>
                    </a:lnTo>
                    <a:lnTo>
                      <a:pt x="1831" y="1143"/>
                    </a:lnTo>
                    <a:lnTo>
                      <a:pt x="1865" y="1107"/>
                    </a:lnTo>
                    <a:lnTo>
                      <a:pt x="1900" y="1067"/>
                    </a:lnTo>
                    <a:lnTo>
                      <a:pt x="1931" y="1027"/>
                    </a:lnTo>
                    <a:lnTo>
                      <a:pt x="1961" y="984"/>
                    </a:lnTo>
                    <a:lnTo>
                      <a:pt x="1989" y="942"/>
                    </a:lnTo>
                    <a:lnTo>
                      <a:pt x="2015" y="897"/>
                    </a:lnTo>
                    <a:lnTo>
                      <a:pt x="2038" y="851"/>
                    </a:lnTo>
                    <a:lnTo>
                      <a:pt x="2060" y="803"/>
                    </a:lnTo>
                    <a:lnTo>
                      <a:pt x="2079" y="754"/>
                    </a:lnTo>
                    <a:lnTo>
                      <a:pt x="2096" y="704"/>
                    </a:lnTo>
                    <a:lnTo>
                      <a:pt x="2110" y="654"/>
                    </a:lnTo>
                    <a:lnTo>
                      <a:pt x="2122" y="602"/>
                    </a:lnTo>
                    <a:lnTo>
                      <a:pt x="2132" y="549"/>
                    </a:lnTo>
                    <a:lnTo>
                      <a:pt x="2139" y="496"/>
                    </a:lnTo>
                    <a:lnTo>
                      <a:pt x="2143" y="441"/>
                    </a:lnTo>
                    <a:lnTo>
                      <a:pt x="2144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71680" y="4170240"/>
                <a:ext cx="543240" cy="373320"/>
              </a:xfrm>
              <a:custGeom>
                <a:avLst/>
                <a:gdLst/>
                <a:ahLst/>
                <a:rect l="l" t="t" r="r" b="b"/>
                <a:pathLst>
                  <a:path w="2050" h="1411">
                    <a:moveTo>
                      <a:pt x="2050" y="386"/>
                    </a:moveTo>
                    <a:lnTo>
                      <a:pt x="2050" y="361"/>
                    </a:lnTo>
                    <a:lnTo>
                      <a:pt x="2049" y="335"/>
                    </a:lnTo>
                    <a:lnTo>
                      <a:pt x="2048" y="310"/>
                    </a:lnTo>
                    <a:lnTo>
                      <a:pt x="2045" y="285"/>
                    </a:lnTo>
                    <a:lnTo>
                      <a:pt x="2040" y="235"/>
                    </a:lnTo>
                    <a:lnTo>
                      <a:pt x="2032" y="187"/>
                    </a:lnTo>
                    <a:lnTo>
                      <a:pt x="2020" y="138"/>
                    </a:lnTo>
                    <a:lnTo>
                      <a:pt x="2007" y="91"/>
                    </a:lnTo>
                    <a:lnTo>
                      <a:pt x="1992" y="45"/>
                    </a:lnTo>
                    <a:lnTo>
                      <a:pt x="1975" y="0"/>
                    </a:lnTo>
                    <a:lnTo>
                      <a:pt x="1950" y="0"/>
                    </a:lnTo>
                    <a:lnTo>
                      <a:pt x="1874" y="0"/>
                    </a:lnTo>
                    <a:lnTo>
                      <a:pt x="1884" y="22"/>
                    </a:lnTo>
                    <a:lnTo>
                      <a:pt x="1893" y="45"/>
                    </a:lnTo>
                    <a:lnTo>
                      <a:pt x="1901" y="68"/>
                    </a:lnTo>
                    <a:lnTo>
                      <a:pt x="1909" y="91"/>
                    </a:lnTo>
                    <a:lnTo>
                      <a:pt x="1917" y="114"/>
                    </a:lnTo>
                    <a:lnTo>
                      <a:pt x="1924" y="137"/>
                    </a:lnTo>
                    <a:lnTo>
                      <a:pt x="1930" y="161"/>
                    </a:lnTo>
                    <a:lnTo>
                      <a:pt x="1936" y="186"/>
                    </a:lnTo>
                    <a:lnTo>
                      <a:pt x="1941" y="210"/>
                    </a:lnTo>
                    <a:lnTo>
                      <a:pt x="1945" y="234"/>
                    </a:lnTo>
                    <a:lnTo>
                      <a:pt x="1949" y="259"/>
                    </a:lnTo>
                    <a:lnTo>
                      <a:pt x="1952" y="284"/>
                    </a:lnTo>
                    <a:lnTo>
                      <a:pt x="1954" y="309"/>
                    </a:lnTo>
                    <a:lnTo>
                      <a:pt x="1956" y="334"/>
                    </a:lnTo>
                    <a:lnTo>
                      <a:pt x="1957" y="361"/>
                    </a:lnTo>
                    <a:lnTo>
                      <a:pt x="1958" y="386"/>
                    </a:lnTo>
                    <a:lnTo>
                      <a:pt x="1957" y="433"/>
                    </a:lnTo>
                    <a:lnTo>
                      <a:pt x="1952" y="481"/>
                    </a:lnTo>
                    <a:lnTo>
                      <a:pt x="1946" y="528"/>
                    </a:lnTo>
                    <a:lnTo>
                      <a:pt x="1938" y="574"/>
                    </a:lnTo>
                    <a:lnTo>
                      <a:pt x="1928" y="619"/>
                    </a:lnTo>
                    <a:lnTo>
                      <a:pt x="1915" y="663"/>
                    </a:lnTo>
                    <a:lnTo>
                      <a:pt x="1900" y="707"/>
                    </a:lnTo>
                    <a:lnTo>
                      <a:pt x="1884" y="748"/>
                    </a:lnTo>
                    <a:lnTo>
                      <a:pt x="1866" y="790"/>
                    </a:lnTo>
                    <a:lnTo>
                      <a:pt x="1845" y="830"/>
                    </a:lnTo>
                    <a:lnTo>
                      <a:pt x="1822" y="869"/>
                    </a:lnTo>
                    <a:lnTo>
                      <a:pt x="1797" y="907"/>
                    </a:lnTo>
                    <a:lnTo>
                      <a:pt x="1772" y="943"/>
                    </a:lnTo>
                    <a:lnTo>
                      <a:pt x="1744" y="979"/>
                    </a:lnTo>
                    <a:lnTo>
                      <a:pt x="1716" y="1012"/>
                    </a:lnTo>
                    <a:lnTo>
                      <a:pt x="1684" y="1044"/>
                    </a:lnTo>
                    <a:lnTo>
                      <a:pt x="1652" y="1075"/>
                    </a:lnTo>
                    <a:lnTo>
                      <a:pt x="1618" y="1104"/>
                    </a:lnTo>
                    <a:lnTo>
                      <a:pt x="1583" y="1132"/>
                    </a:lnTo>
                    <a:lnTo>
                      <a:pt x="1546" y="1158"/>
                    </a:lnTo>
                    <a:lnTo>
                      <a:pt x="1508" y="1183"/>
                    </a:lnTo>
                    <a:lnTo>
                      <a:pt x="1470" y="1205"/>
                    </a:lnTo>
                    <a:lnTo>
                      <a:pt x="1430" y="1225"/>
                    </a:lnTo>
                    <a:lnTo>
                      <a:pt x="1388" y="1244"/>
                    </a:lnTo>
                    <a:lnTo>
                      <a:pt x="1345" y="1261"/>
                    </a:lnTo>
                    <a:lnTo>
                      <a:pt x="1303" y="1276"/>
                    </a:lnTo>
                    <a:lnTo>
                      <a:pt x="1258" y="1289"/>
                    </a:lnTo>
                    <a:lnTo>
                      <a:pt x="1213" y="1299"/>
                    </a:lnTo>
                    <a:lnTo>
                      <a:pt x="1167" y="1307"/>
                    </a:lnTo>
                    <a:lnTo>
                      <a:pt x="1120" y="1313"/>
                    </a:lnTo>
                    <a:lnTo>
                      <a:pt x="1073" y="1316"/>
                    </a:lnTo>
                    <a:lnTo>
                      <a:pt x="1025" y="1318"/>
                    </a:lnTo>
                    <a:lnTo>
                      <a:pt x="977" y="1316"/>
                    </a:lnTo>
                    <a:lnTo>
                      <a:pt x="930" y="1313"/>
                    </a:lnTo>
                    <a:lnTo>
                      <a:pt x="883" y="1307"/>
                    </a:lnTo>
                    <a:lnTo>
                      <a:pt x="838" y="1299"/>
                    </a:lnTo>
                    <a:lnTo>
                      <a:pt x="792" y="1289"/>
                    </a:lnTo>
                    <a:lnTo>
                      <a:pt x="748" y="1276"/>
                    </a:lnTo>
                    <a:lnTo>
                      <a:pt x="704" y="1261"/>
                    </a:lnTo>
                    <a:lnTo>
                      <a:pt x="663" y="1244"/>
                    </a:lnTo>
                    <a:lnTo>
                      <a:pt x="621" y="1225"/>
                    </a:lnTo>
                    <a:lnTo>
                      <a:pt x="581" y="1205"/>
                    </a:lnTo>
                    <a:lnTo>
                      <a:pt x="541" y="1183"/>
                    </a:lnTo>
                    <a:lnTo>
                      <a:pt x="505" y="1158"/>
                    </a:lnTo>
                    <a:lnTo>
                      <a:pt x="468" y="1132"/>
                    </a:lnTo>
                    <a:lnTo>
                      <a:pt x="432" y="1104"/>
                    </a:lnTo>
                    <a:lnTo>
                      <a:pt x="398" y="1075"/>
                    </a:lnTo>
                    <a:lnTo>
                      <a:pt x="366" y="1044"/>
                    </a:lnTo>
                    <a:lnTo>
                      <a:pt x="335" y="1012"/>
                    </a:lnTo>
                    <a:lnTo>
                      <a:pt x="306" y="979"/>
                    </a:lnTo>
                    <a:lnTo>
                      <a:pt x="278" y="943"/>
                    </a:lnTo>
                    <a:lnTo>
                      <a:pt x="252" y="907"/>
                    </a:lnTo>
                    <a:lnTo>
                      <a:pt x="228" y="869"/>
                    </a:lnTo>
                    <a:lnTo>
                      <a:pt x="206" y="830"/>
                    </a:lnTo>
                    <a:lnTo>
                      <a:pt x="185" y="790"/>
                    </a:lnTo>
                    <a:lnTo>
                      <a:pt x="167" y="748"/>
                    </a:lnTo>
                    <a:lnTo>
                      <a:pt x="149" y="707"/>
                    </a:lnTo>
                    <a:lnTo>
                      <a:pt x="135" y="663"/>
                    </a:lnTo>
                    <a:lnTo>
                      <a:pt x="123" y="619"/>
                    </a:lnTo>
                    <a:lnTo>
                      <a:pt x="112" y="574"/>
                    </a:lnTo>
                    <a:lnTo>
                      <a:pt x="104" y="528"/>
                    </a:lnTo>
                    <a:lnTo>
                      <a:pt x="97" y="481"/>
                    </a:lnTo>
                    <a:lnTo>
                      <a:pt x="94" y="433"/>
                    </a:lnTo>
                    <a:lnTo>
                      <a:pt x="93" y="386"/>
                    </a:lnTo>
                    <a:lnTo>
                      <a:pt x="93" y="384"/>
                    </a:lnTo>
                    <a:lnTo>
                      <a:pt x="93" y="382"/>
                    </a:lnTo>
                    <a:lnTo>
                      <a:pt x="93" y="379"/>
                    </a:lnTo>
                    <a:lnTo>
                      <a:pt x="93" y="377"/>
                    </a:lnTo>
                    <a:lnTo>
                      <a:pt x="93" y="376"/>
                    </a:lnTo>
                    <a:lnTo>
                      <a:pt x="93" y="373"/>
                    </a:lnTo>
                    <a:lnTo>
                      <a:pt x="93" y="371"/>
                    </a:lnTo>
                    <a:lnTo>
                      <a:pt x="94" y="369"/>
                    </a:lnTo>
                    <a:lnTo>
                      <a:pt x="73" y="383"/>
                    </a:lnTo>
                    <a:lnTo>
                      <a:pt x="0" y="400"/>
                    </a:lnTo>
                    <a:lnTo>
                      <a:pt x="2" y="452"/>
                    </a:lnTo>
                    <a:lnTo>
                      <a:pt x="6" y="504"/>
                    </a:lnTo>
                    <a:lnTo>
                      <a:pt x="13" y="554"/>
                    </a:lnTo>
                    <a:lnTo>
                      <a:pt x="24" y="604"/>
                    </a:lnTo>
                    <a:lnTo>
                      <a:pt x="35" y="654"/>
                    </a:lnTo>
                    <a:lnTo>
                      <a:pt x="49" y="701"/>
                    </a:lnTo>
                    <a:lnTo>
                      <a:pt x="66" y="748"/>
                    </a:lnTo>
                    <a:lnTo>
                      <a:pt x="85" y="794"/>
                    </a:lnTo>
                    <a:lnTo>
                      <a:pt x="105" y="839"/>
                    </a:lnTo>
                    <a:lnTo>
                      <a:pt x="128" y="883"/>
                    </a:lnTo>
                    <a:lnTo>
                      <a:pt x="153" y="924"/>
                    </a:lnTo>
                    <a:lnTo>
                      <a:pt x="179" y="966"/>
                    </a:lnTo>
                    <a:lnTo>
                      <a:pt x="208" y="1005"/>
                    </a:lnTo>
                    <a:lnTo>
                      <a:pt x="239" y="1043"/>
                    </a:lnTo>
                    <a:lnTo>
                      <a:pt x="270" y="1080"/>
                    </a:lnTo>
                    <a:lnTo>
                      <a:pt x="305" y="1115"/>
                    </a:lnTo>
                    <a:lnTo>
                      <a:pt x="341" y="1149"/>
                    </a:lnTo>
                    <a:lnTo>
                      <a:pt x="378" y="1180"/>
                    </a:lnTo>
                    <a:lnTo>
                      <a:pt x="416" y="1210"/>
                    </a:lnTo>
                    <a:lnTo>
                      <a:pt x="456" y="1238"/>
                    </a:lnTo>
                    <a:lnTo>
                      <a:pt x="498" y="1265"/>
                    </a:lnTo>
                    <a:lnTo>
                      <a:pt x="540" y="1289"/>
                    </a:lnTo>
                    <a:lnTo>
                      <a:pt x="584" y="1312"/>
                    </a:lnTo>
                    <a:lnTo>
                      <a:pt x="629" y="1331"/>
                    </a:lnTo>
                    <a:lnTo>
                      <a:pt x="675" y="1350"/>
                    </a:lnTo>
                    <a:lnTo>
                      <a:pt x="723" y="1365"/>
                    </a:lnTo>
                    <a:lnTo>
                      <a:pt x="771" y="1379"/>
                    </a:lnTo>
                    <a:lnTo>
                      <a:pt x="821" y="1390"/>
                    </a:lnTo>
                    <a:lnTo>
                      <a:pt x="870" y="1399"/>
                    </a:lnTo>
                    <a:lnTo>
                      <a:pt x="921" y="1405"/>
                    </a:lnTo>
                    <a:lnTo>
                      <a:pt x="973" y="1410"/>
                    </a:lnTo>
                    <a:lnTo>
                      <a:pt x="1025" y="1411"/>
                    </a:lnTo>
                    <a:lnTo>
                      <a:pt x="1078" y="1410"/>
                    </a:lnTo>
                    <a:lnTo>
                      <a:pt x="1130" y="1405"/>
                    </a:lnTo>
                    <a:lnTo>
                      <a:pt x="1182" y="1399"/>
                    </a:lnTo>
                    <a:lnTo>
                      <a:pt x="1232" y="1390"/>
                    </a:lnTo>
                    <a:lnTo>
                      <a:pt x="1282" y="1379"/>
                    </a:lnTo>
                    <a:lnTo>
                      <a:pt x="1330" y="1365"/>
                    </a:lnTo>
                    <a:lnTo>
                      <a:pt x="1378" y="1349"/>
                    </a:lnTo>
                    <a:lnTo>
                      <a:pt x="1424" y="1330"/>
                    </a:lnTo>
                    <a:lnTo>
                      <a:pt x="1470" y="1309"/>
                    </a:lnTo>
                    <a:lnTo>
                      <a:pt x="1514" y="1288"/>
                    </a:lnTo>
                    <a:lnTo>
                      <a:pt x="1556" y="1262"/>
                    </a:lnTo>
                    <a:lnTo>
                      <a:pt x="1598" y="1236"/>
                    </a:lnTo>
                    <a:lnTo>
                      <a:pt x="1638" y="1207"/>
                    </a:lnTo>
                    <a:lnTo>
                      <a:pt x="1678" y="1177"/>
                    </a:lnTo>
                    <a:lnTo>
                      <a:pt x="1714" y="1145"/>
                    </a:lnTo>
                    <a:lnTo>
                      <a:pt x="1750" y="1110"/>
                    </a:lnTo>
                    <a:lnTo>
                      <a:pt x="1784" y="1075"/>
                    </a:lnTo>
                    <a:lnTo>
                      <a:pt x="1816" y="1037"/>
                    </a:lnTo>
                    <a:lnTo>
                      <a:pt x="1847" y="999"/>
                    </a:lnTo>
                    <a:lnTo>
                      <a:pt x="1876" y="959"/>
                    </a:lnTo>
                    <a:lnTo>
                      <a:pt x="1902" y="918"/>
                    </a:lnTo>
                    <a:lnTo>
                      <a:pt x="1927" y="875"/>
                    </a:lnTo>
                    <a:lnTo>
                      <a:pt x="1950" y="830"/>
                    </a:lnTo>
                    <a:lnTo>
                      <a:pt x="1970" y="785"/>
                    </a:lnTo>
                    <a:lnTo>
                      <a:pt x="1988" y="739"/>
                    </a:lnTo>
                    <a:lnTo>
                      <a:pt x="2004" y="690"/>
                    </a:lnTo>
                    <a:lnTo>
                      <a:pt x="2018" y="642"/>
                    </a:lnTo>
                    <a:lnTo>
                      <a:pt x="2029" y="592"/>
                    </a:lnTo>
                    <a:lnTo>
                      <a:pt x="2039" y="542"/>
                    </a:lnTo>
                    <a:lnTo>
                      <a:pt x="2045" y="491"/>
                    </a:lnTo>
                    <a:lnTo>
                      <a:pt x="2049" y="439"/>
                    </a:lnTo>
                    <a:lnTo>
                      <a:pt x="2050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84640" y="4170240"/>
                <a:ext cx="517320" cy="360360"/>
              </a:xfrm>
              <a:custGeom>
                <a:avLst/>
                <a:gdLst/>
                <a:ahLst/>
                <a:rect l="l" t="t" r="r" b="b"/>
                <a:pathLst>
                  <a:path w="1957" h="1364">
                    <a:moveTo>
                      <a:pt x="1957" y="386"/>
                    </a:moveTo>
                    <a:lnTo>
                      <a:pt x="1957" y="361"/>
                    </a:lnTo>
                    <a:lnTo>
                      <a:pt x="1956" y="334"/>
                    </a:lnTo>
                    <a:lnTo>
                      <a:pt x="1953" y="310"/>
                    </a:lnTo>
                    <a:lnTo>
                      <a:pt x="1951" y="285"/>
                    </a:lnTo>
                    <a:lnTo>
                      <a:pt x="1949" y="259"/>
                    </a:lnTo>
                    <a:lnTo>
                      <a:pt x="1945" y="235"/>
                    </a:lnTo>
                    <a:lnTo>
                      <a:pt x="1941" y="211"/>
                    </a:lnTo>
                    <a:lnTo>
                      <a:pt x="1936" y="186"/>
                    </a:lnTo>
                    <a:lnTo>
                      <a:pt x="1932" y="162"/>
                    </a:lnTo>
                    <a:lnTo>
                      <a:pt x="1925" y="138"/>
                    </a:lnTo>
                    <a:lnTo>
                      <a:pt x="1919" y="114"/>
                    </a:lnTo>
                    <a:lnTo>
                      <a:pt x="1912" y="91"/>
                    </a:lnTo>
                    <a:lnTo>
                      <a:pt x="1896" y="45"/>
                    </a:lnTo>
                    <a:lnTo>
                      <a:pt x="1877" y="0"/>
                    </a:lnTo>
                    <a:lnTo>
                      <a:pt x="1789" y="0"/>
                    </a:lnTo>
                    <a:lnTo>
                      <a:pt x="1777" y="3"/>
                    </a:lnTo>
                    <a:lnTo>
                      <a:pt x="1787" y="25"/>
                    </a:lnTo>
                    <a:lnTo>
                      <a:pt x="1797" y="47"/>
                    </a:lnTo>
                    <a:lnTo>
                      <a:pt x="1806" y="70"/>
                    </a:lnTo>
                    <a:lnTo>
                      <a:pt x="1814" y="92"/>
                    </a:lnTo>
                    <a:lnTo>
                      <a:pt x="1822" y="115"/>
                    </a:lnTo>
                    <a:lnTo>
                      <a:pt x="1829" y="139"/>
                    </a:lnTo>
                    <a:lnTo>
                      <a:pt x="1836" y="162"/>
                    </a:lnTo>
                    <a:lnTo>
                      <a:pt x="1842" y="187"/>
                    </a:lnTo>
                    <a:lnTo>
                      <a:pt x="1846" y="211"/>
                    </a:lnTo>
                    <a:lnTo>
                      <a:pt x="1851" y="235"/>
                    </a:lnTo>
                    <a:lnTo>
                      <a:pt x="1854" y="259"/>
                    </a:lnTo>
                    <a:lnTo>
                      <a:pt x="1858" y="285"/>
                    </a:lnTo>
                    <a:lnTo>
                      <a:pt x="1860" y="310"/>
                    </a:lnTo>
                    <a:lnTo>
                      <a:pt x="1862" y="334"/>
                    </a:lnTo>
                    <a:lnTo>
                      <a:pt x="1864" y="361"/>
                    </a:lnTo>
                    <a:lnTo>
                      <a:pt x="1864" y="386"/>
                    </a:lnTo>
                    <a:lnTo>
                      <a:pt x="1862" y="431"/>
                    </a:lnTo>
                    <a:lnTo>
                      <a:pt x="1859" y="476"/>
                    </a:lnTo>
                    <a:lnTo>
                      <a:pt x="1853" y="521"/>
                    </a:lnTo>
                    <a:lnTo>
                      <a:pt x="1846" y="564"/>
                    </a:lnTo>
                    <a:lnTo>
                      <a:pt x="1836" y="607"/>
                    </a:lnTo>
                    <a:lnTo>
                      <a:pt x="1824" y="649"/>
                    </a:lnTo>
                    <a:lnTo>
                      <a:pt x="1810" y="690"/>
                    </a:lnTo>
                    <a:lnTo>
                      <a:pt x="1794" y="731"/>
                    </a:lnTo>
                    <a:lnTo>
                      <a:pt x="1776" y="770"/>
                    </a:lnTo>
                    <a:lnTo>
                      <a:pt x="1756" y="808"/>
                    </a:lnTo>
                    <a:lnTo>
                      <a:pt x="1735" y="845"/>
                    </a:lnTo>
                    <a:lnTo>
                      <a:pt x="1712" y="881"/>
                    </a:lnTo>
                    <a:lnTo>
                      <a:pt x="1688" y="915"/>
                    </a:lnTo>
                    <a:lnTo>
                      <a:pt x="1662" y="949"/>
                    </a:lnTo>
                    <a:lnTo>
                      <a:pt x="1634" y="981"/>
                    </a:lnTo>
                    <a:lnTo>
                      <a:pt x="1604" y="1012"/>
                    </a:lnTo>
                    <a:lnTo>
                      <a:pt x="1574" y="1041"/>
                    </a:lnTo>
                    <a:lnTo>
                      <a:pt x="1542" y="1069"/>
                    </a:lnTo>
                    <a:lnTo>
                      <a:pt x="1508" y="1095"/>
                    </a:lnTo>
                    <a:lnTo>
                      <a:pt x="1474" y="1119"/>
                    </a:lnTo>
                    <a:lnTo>
                      <a:pt x="1437" y="1142"/>
                    </a:lnTo>
                    <a:lnTo>
                      <a:pt x="1400" y="1164"/>
                    </a:lnTo>
                    <a:lnTo>
                      <a:pt x="1362" y="1184"/>
                    </a:lnTo>
                    <a:lnTo>
                      <a:pt x="1323" y="1201"/>
                    </a:lnTo>
                    <a:lnTo>
                      <a:pt x="1282" y="1217"/>
                    </a:lnTo>
                    <a:lnTo>
                      <a:pt x="1242" y="1231"/>
                    </a:lnTo>
                    <a:lnTo>
                      <a:pt x="1199" y="1243"/>
                    </a:lnTo>
                    <a:lnTo>
                      <a:pt x="1156" y="1253"/>
                    </a:lnTo>
                    <a:lnTo>
                      <a:pt x="1113" y="1261"/>
                    </a:lnTo>
                    <a:lnTo>
                      <a:pt x="1069" y="1267"/>
                    </a:lnTo>
                    <a:lnTo>
                      <a:pt x="1024" y="1270"/>
                    </a:lnTo>
                    <a:lnTo>
                      <a:pt x="978" y="1270"/>
                    </a:lnTo>
                    <a:lnTo>
                      <a:pt x="933" y="1270"/>
                    </a:lnTo>
                    <a:lnTo>
                      <a:pt x="888" y="1267"/>
                    </a:lnTo>
                    <a:lnTo>
                      <a:pt x="843" y="1261"/>
                    </a:lnTo>
                    <a:lnTo>
                      <a:pt x="800" y="1253"/>
                    </a:lnTo>
                    <a:lnTo>
                      <a:pt x="757" y="1243"/>
                    </a:lnTo>
                    <a:lnTo>
                      <a:pt x="715" y="1231"/>
                    </a:lnTo>
                    <a:lnTo>
                      <a:pt x="673" y="1217"/>
                    </a:lnTo>
                    <a:lnTo>
                      <a:pt x="634" y="1201"/>
                    </a:lnTo>
                    <a:lnTo>
                      <a:pt x="595" y="1184"/>
                    </a:lnTo>
                    <a:lnTo>
                      <a:pt x="556" y="1164"/>
                    </a:lnTo>
                    <a:lnTo>
                      <a:pt x="519" y="1142"/>
                    </a:lnTo>
                    <a:lnTo>
                      <a:pt x="483" y="1119"/>
                    </a:lnTo>
                    <a:lnTo>
                      <a:pt x="448" y="1095"/>
                    </a:lnTo>
                    <a:lnTo>
                      <a:pt x="415" y="1069"/>
                    </a:lnTo>
                    <a:lnTo>
                      <a:pt x="383" y="1041"/>
                    </a:lnTo>
                    <a:lnTo>
                      <a:pt x="353" y="1012"/>
                    </a:lnTo>
                    <a:lnTo>
                      <a:pt x="323" y="981"/>
                    </a:lnTo>
                    <a:lnTo>
                      <a:pt x="295" y="949"/>
                    </a:lnTo>
                    <a:lnTo>
                      <a:pt x="268" y="915"/>
                    </a:lnTo>
                    <a:lnTo>
                      <a:pt x="244" y="881"/>
                    </a:lnTo>
                    <a:lnTo>
                      <a:pt x="221" y="845"/>
                    </a:lnTo>
                    <a:lnTo>
                      <a:pt x="199" y="808"/>
                    </a:lnTo>
                    <a:lnTo>
                      <a:pt x="180" y="770"/>
                    </a:lnTo>
                    <a:lnTo>
                      <a:pt x="162" y="731"/>
                    </a:lnTo>
                    <a:lnTo>
                      <a:pt x="146" y="690"/>
                    </a:lnTo>
                    <a:lnTo>
                      <a:pt x="132" y="649"/>
                    </a:lnTo>
                    <a:lnTo>
                      <a:pt x="121" y="607"/>
                    </a:lnTo>
                    <a:lnTo>
                      <a:pt x="110" y="564"/>
                    </a:lnTo>
                    <a:lnTo>
                      <a:pt x="103" y="521"/>
                    </a:lnTo>
                    <a:lnTo>
                      <a:pt x="98" y="476"/>
                    </a:lnTo>
                    <a:lnTo>
                      <a:pt x="94" y="431"/>
                    </a:lnTo>
                    <a:lnTo>
                      <a:pt x="93" y="386"/>
                    </a:lnTo>
                    <a:lnTo>
                      <a:pt x="93" y="379"/>
                    </a:lnTo>
                    <a:lnTo>
                      <a:pt x="93" y="373"/>
                    </a:lnTo>
                    <a:lnTo>
                      <a:pt x="93" y="368"/>
                    </a:lnTo>
                    <a:lnTo>
                      <a:pt x="93" y="361"/>
                    </a:lnTo>
                    <a:lnTo>
                      <a:pt x="93" y="355"/>
                    </a:lnTo>
                    <a:lnTo>
                      <a:pt x="93" y="349"/>
                    </a:lnTo>
                    <a:lnTo>
                      <a:pt x="94" y="342"/>
                    </a:lnTo>
                    <a:lnTo>
                      <a:pt x="94" y="337"/>
                    </a:lnTo>
                    <a:lnTo>
                      <a:pt x="26" y="383"/>
                    </a:lnTo>
                    <a:lnTo>
                      <a:pt x="0" y="388"/>
                    </a:lnTo>
                    <a:lnTo>
                      <a:pt x="1" y="439"/>
                    </a:lnTo>
                    <a:lnTo>
                      <a:pt x="4" y="489"/>
                    </a:lnTo>
                    <a:lnTo>
                      <a:pt x="11" y="537"/>
                    </a:lnTo>
                    <a:lnTo>
                      <a:pt x="20" y="586"/>
                    </a:lnTo>
                    <a:lnTo>
                      <a:pt x="31" y="633"/>
                    </a:lnTo>
                    <a:lnTo>
                      <a:pt x="45" y="679"/>
                    </a:lnTo>
                    <a:lnTo>
                      <a:pt x="60" y="724"/>
                    </a:lnTo>
                    <a:lnTo>
                      <a:pt x="77" y="769"/>
                    </a:lnTo>
                    <a:lnTo>
                      <a:pt x="96" y="811"/>
                    </a:lnTo>
                    <a:lnTo>
                      <a:pt x="118" y="854"/>
                    </a:lnTo>
                    <a:lnTo>
                      <a:pt x="143" y="894"/>
                    </a:lnTo>
                    <a:lnTo>
                      <a:pt x="168" y="935"/>
                    </a:lnTo>
                    <a:lnTo>
                      <a:pt x="195" y="973"/>
                    </a:lnTo>
                    <a:lnTo>
                      <a:pt x="225" y="1010"/>
                    </a:lnTo>
                    <a:lnTo>
                      <a:pt x="255" y="1044"/>
                    </a:lnTo>
                    <a:lnTo>
                      <a:pt x="287" y="1079"/>
                    </a:lnTo>
                    <a:lnTo>
                      <a:pt x="321" y="1111"/>
                    </a:lnTo>
                    <a:lnTo>
                      <a:pt x="356" y="1141"/>
                    </a:lnTo>
                    <a:lnTo>
                      <a:pt x="393" y="1170"/>
                    </a:lnTo>
                    <a:lnTo>
                      <a:pt x="432" y="1198"/>
                    </a:lnTo>
                    <a:lnTo>
                      <a:pt x="471" y="1223"/>
                    </a:lnTo>
                    <a:lnTo>
                      <a:pt x="513" y="1246"/>
                    </a:lnTo>
                    <a:lnTo>
                      <a:pt x="554" y="1268"/>
                    </a:lnTo>
                    <a:lnTo>
                      <a:pt x="598" y="1288"/>
                    </a:lnTo>
                    <a:lnTo>
                      <a:pt x="642" y="1305"/>
                    </a:lnTo>
                    <a:lnTo>
                      <a:pt x="688" y="1320"/>
                    </a:lnTo>
                    <a:lnTo>
                      <a:pt x="734" y="1334"/>
                    </a:lnTo>
                    <a:lnTo>
                      <a:pt x="782" y="1344"/>
                    </a:lnTo>
                    <a:lnTo>
                      <a:pt x="829" y="1353"/>
                    </a:lnTo>
                    <a:lnTo>
                      <a:pt x="879" y="1359"/>
                    </a:lnTo>
                    <a:lnTo>
                      <a:pt x="928" y="1362"/>
                    </a:lnTo>
                    <a:lnTo>
                      <a:pt x="978" y="1364"/>
                    </a:lnTo>
                    <a:lnTo>
                      <a:pt x="1028" y="1362"/>
                    </a:lnTo>
                    <a:lnTo>
                      <a:pt x="1078" y="1359"/>
                    </a:lnTo>
                    <a:lnTo>
                      <a:pt x="1128" y="1353"/>
                    </a:lnTo>
                    <a:lnTo>
                      <a:pt x="1175" y="1344"/>
                    </a:lnTo>
                    <a:lnTo>
                      <a:pt x="1222" y="1334"/>
                    </a:lnTo>
                    <a:lnTo>
                      <a:pt x="1270" y="1320"/>
                    </a:lnTo>
                    <a:lnTo>
                      <a:pt x="1314" y="1305"/>
                    </a:lnTo>
                    <a:lnTo>
                      <a:pt x="1359" y="1288"/>
                    </a:lnTo>
                    <a:lnTo>
                      <a:pt x="1402" y="1268"/>
                    </a:lnTo>
                    <a:lnTo>
                      <a:pt x="1445" y="1246"/>
                    </a:lnTo>
                    <a:lnTo>
                      <a:pt x="1485" y="1223"/>
                    </a:lnTo>
                    <a:lnTo>
                      <a:pt x="1526" y="1197"/>
                    </a:lnTo>
                    <a:lnTo>
                      <a:pt x="1564" y="1170"/>
                    </a:lnTo>
                    <a:lnTo>
                      <a:pt x="1601" y="1141"/>
                    </a:lnTo>
                    <a:lnTo>
                      <a:pt x="1636" y="1110"/>
                    </a:lnTo>
                    <a:lnTo>
                      <a:pt x="1670" y="1078"/>
                    </a:lnTo>
                    <a:lnTo>
                      <a:pt x="1702" y="1043"/>
                    </a:lnTo>
                    <a:lnTo>
                      <a:pt x="1733" y="1009"/>
                    </a:lnTo>
                    <a:lnTo>
                      <a:pt x="1762" y="972"/>
                    </a:lnTo>
                    <a:lnTo>
                      <a:pt x="1790" y="933"/>
                    </a:lnTo>
                    <a:lnTo>
                      <a:pt x="1815" y="893"/>
                    </a:lnTo>
                    <a:lnTo>
                      <a:pt x="1839" y="852"/>
                    </a:lnTo>
                    <a:lnTo>
                      <a:pt x="1860" y="810"/>
                    </a:lnTo>
                    <a:lnTo>
                      <a:pt x="1880" y="767"/>
                    </a:lnTo>
                    <a:lnTo>
                      <a:pt x="1897" y="723"/>
                    </a:lnTo>
                    <a:lnTo>
                      <a:pt x="1913" y="677"/>
                    </a:lnTo>
                    <a:lnTo>
                      <a:pt x="1926" y="631"/>
                    </a:lnTo>
                    <a:lnTo>
                      <a:pt x="1937" y="583"/>
                    </a:lnTo>
                    <a:lnTo>
                      <a:pt x="1945" y="535"/>
                    </a:lnTo>
                    <a:lnTo>
                      <a:pt x="1952" y="486"/>
                    </a:lnTo>
                    <a:lnTo>
                      <a:pt x="1956" y="437"/>
                    </a:lnTo>
                    <a:lnTo>
                      <a:pt x="1957" y="38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5800" y="4170240"/>
                <a:ext cx="493560" cy="347760"/>
              </a:xfrm>
              <a:custGeom>
                <a:avLst/>
                <a:gdLst/>
                <a:ahLst/>
                <a:rect l="l" t="t" r="r" b="b"/>
                <a:pathLst>
                  <a:path w="1865" h="1318">
                    <a:moveTo>
                      <a:pt x="1865" y="386"/>
                    </a:moveTo>
                    <a:lnTo>
                      <a:pt x="1864" y="361"/>
                    </a:lnTo>
                    <a:lnTo>
                      <a:pt x="1863" y="334"/>
                    </a:lnTo>
                    <a:lnTo>
                      <a:pt x="1861" y="309"/>
                    </a:lnTo>
                    <a:lnTo>
                      <a:pt x="1859" y="284"/>
                    </a:lnTo>
                    <a:lnTo>
                      <a:pt x="1856" y="259"/>
                    </a:lnTo>
                    <a:lnTo>
                      <a:pt x="1852" y="234"/>
                    </a:lnTo>
                    <a:lnTo>
                      <a:pt x="1848" y="210"/>
                    </a:lnTo>
                    <a:lnTo>
                      <a:pt x="1843" y="186"/>
                    </a:lnTo>
                    <a:lnTo>
                      <a:pt x="1837" y="161"/>
                    </a:lnTo>
                    <a:lnTo>
                      <a:pt x="1831" y="137"/>
                    </a:lnTo>
                    <a:lnTo>
                      <a:pt x="1824" y="114"/>
                    </a:lnTo>
                    <a:lnTo>
                      <a:pt x="1816" y="91"/>
                    </a:lnTo>
                    <a:lnTo>
                      <a:pt x="1808" y="68"/>
                    </a:lnTo>
                    <a:lnTo>
                      <a:pt x="1800" y="45"/>
                    </a:lnTo>
                    <a:lnTo>
                      <a:pt x="1791" y="22"/>
                    </a:lnTo>
                    <a:lnTo>
                      <a:pt x="1781" y="0"/>
                    </a:lnTo>
                    <a:lnTo>
                      <a:pt x="1743" y="0"/>
                    </a:lnTo>
                    <a:lnTo>
                      <a:pt x="1685" y="14"/>
                    </a:lnTo>
                    <a:lnTo>
                      <a:pt x="1694" y="36"/>
                    </a:lnTo>
                    <a:lnTo>
                      <a:pt x="1704" y="56"/>
                    </a:lnTo>
                    <a:lnTo>
                      <a:pt x="1713" y="78"/>
                    </a:lnTo>
                    <a:lnTo>
                      <a:pt x="1722" y="100"/>
                    </a:lnTo>
                    <a:lnTo>
                      <a:pt x="1729" y="123"/>
                    </a:lnTo>
                    <a:lnTo>
                      <a:pt x="1737" y="145"/>
                    </a:lnTo>
                    <a:lnTo>
                      <a:pt x="1743" y="168"/>
                    </a:lnTo>
                    <a:lnTo>
                      <a:pt x="1748" y="192"/>
                    </a:lnTo>
                    <a:lnTo>
                      <a:pt x="1754" y="216"/>
                    </a:lnTo>
                    <a:lnTo>
                      <a:pt x="1759" y="239"/>
                    </a:lnTo>
                    <a:lnTo>
                      <a:pt x="1762" y="263"/>
                    </a:lnTo>
                    <a:lnTo>
                      <a:pt x="1766" y="287"/>
                    </a:lnTo>
                    <a:lnTo>
                      <a:pt x="1768" y="311"/>
                    </a:lnTo>
                    <a:lnTo>
                      <a:pt x="1770" y="337"/>
                    </a:lnTo>
                    <a:lnTo>
                      <a:pt x="1770" y="361"/>
                    </a:lnTo>
                    <a:lnTo>
                      <a:pt x="1771" y="386"/>
                    </a:lnTo>
                    <a:lnTo>
                      <a:pt x="1770" y="429"/>
                    </a:lnTo>
                    <a:lnTo>
                      <a:pt x="1767" y="471"/>
                    </a:lnTo>
                    <a:lnTo>
                      <a:pt x="1761" y="514"/>
                    </a:lnTo>
                    <a:lnTo>
                      <a:pt x="1754" y="554"/>
                    </a:lnTo>
                    <a:lnTo>
                      <a:pt x="1745" y="596"/>
                    </a:lnTo>
                    <a:lnTo>
                      <a:pt x="1733" y="635"/>
                    </a:lnTo>
                    <a:lnTo>
                      <a:pt x="1721" y="674"/>
                    </a:lnTo>
                    <a:lnTo>
                      <a:pt x="1706" y="712"/>
                    </a:lnTo>
                    <a:lnTo>
                      <a:pt x="1688" y="749"/>
                    </a:lnTo>
                    <a:lnTo>
                      <a:pt x="1670" y="786"/>
                    </a:lnTo>
                    <a:lnTo>
                      <a:pt x="1649" y="821"/>
                    </a:lnTo>
                    <a:lnTo>
                      <a:pt x="1628" y="855"/>
                    </a:lnTo>
                    <a:lnTo>
                      <a:pt x="1604" y="888"/>
                    </a:lnTo>
                    <a:lnTo>
                      <a:pt x="1580" y="920"/>
                    </a:lnTo>
                    <a:lnTo>
                      <a:pt x="1553" y="950"/>
                    </a:lnTo>
                    <a:lnTo>
                      <a:pt x="1526" y="979"/>
                    </a:lnTo>
                    <a:lnTo>
                      <a:pt x="1496" y="1006"/>
                    </a:lnTo>
                    <a:lnTo>
                      <a:pt x="1466" y="1033"/>
                    </a:lnTo>
                    <a:lnTo>
                      <a:pt x="1435" y="1058"/>
                    </a:lnTo>
                    <a:lnTo>
                      <a:pt x="1401" y="1081"/>
                    </a:lnTo>
                    <a:lnTo>
                      <a:pt x="1368" y="1103"/>
                    </a:lnTo>
                    <a:lnTo>
                      <a:pt x="1332" y="1124"/>
                    </a:lnTo>
                    <a:lnTo>
                      <a:pt x="1296" y="1142"/>
                    </a:lnTo>
                    <a:lnTo>
                      <a:pt x="1258" y="1158"/>
                    </a:lnTo>
                    <a:lnTo>
                      <a:pt x="1220" y="1173"/>
                    </a:lnTo>
                    <a:lnTo>
                      <a:pt x="1182" y="1187"/>
                    </a:lnTo>
                    <a:lnTo>
                      <a:pt x="1142" y="1198"/>
                    </a:lnTo>
                    <a:lnTo>
                      <a:pt x="1101" y="1207"/>
                    </a:lnTo>
                    <a:lnTo>
                      <a:pt x="1060" y="1215"/>
                    </a:lnTo>
                    <a:lnTo>
                      <a:pt x="1018" y="1220"/>
                    </a:lnTo>
                    <a:lnTo>
                      <a:pt x="976" y="1223"/>
                    </a:lnTo>
                    <a:lnTo>
                      <a:pt x="932" y="1224"/>
                    </a:lnTo>
                    <a:lnTo>
                      <a:pt x="889" y="1223"/>
                    </a:lnTo>
                    <a:lnTo>
                      <a:pt x="846" y="1220"/>
                    </a:lnTo>
                    <a:lnTo>
                      <a:pt x="805" y="1215"/>
                    </a:lnTo>
                    <a:lnTo>
                      <a:pt x="763" y="1207"/>
                    </a:lnTo>
                    <a:lnTo>
                      <a:pt x="723" y="1198"/>
                    </a:lnTo>
                    <a:lnTo>
                      <a:pt x="683" y="1187"/>
                    </a:lnTo>
                    <a:lnTo>
                      <a:pt x="643" y="1173"/>
                    </a:lnTo>
                    <a:lnTo>
                      <a:pt x="605" y="1158"/>
                    </a:lnTo>
                    <a:lnTo>
                      <a:pt x="568" y="1142"/>
                    </a:lnTo>
                    <a:lnTo>
                      <a:pt x="533" y="1124"/>
                    </a:lnTo>
                    <a:lnTo>
                      <a:pt x="497" y="1103"/>
                    </a:lnTo>
                    <a:lnTo>
                      <a:pt x="463" y="1081"/>
                    </a:lnTo>
                    <a:lnTo>
                      <a:pt x="430" y="1058"/>
                    </a:lnTo>
                    <a:lnTo>
                      <a:pt x="399" y="1033"/>
                    </a:lnTo>
                    <a:lnTo>
                      <a:pt x="368" y="1006"/>
                    </a:lnTo>
                    <a:lnTo>
                      <a:pt x="339" y="979"/>
                    </a:lnTo>
                    <a:lnTo>
                      <a:pt x="311" y="950"/>
                    </a:lnTo>
                    <a:lnTo>
                      <a:pt x="285" y="920"/>
                    </a:lnTo>
                    <a:lnTo>
                      <a:pt x="259" y="888"/>
                    </a:lnTo>
                    <a:lnTo>
                      <a:pt x="236" y="855"/>
                    </a:lnTo>
                    <a:lnTo>
                      <a:pt x="214" y="821"/>
                    </a:lnTo>
                    <a:lnTo>
                      <a:pt x="195" y="786"/>
                    </a:lnTo>
                    <a:lnTo>
                      <a:pt x="176" y="749"/>
                    </a:lnTo>
                    <a:lnTo>
                      <a:pt x="159" y="712"/>
                    </a:lnTo>
                    <a:lnTo>
                      <a:pt x="144" y="674"/>
                    </a:lnTo>
                    <a:lnTo>
                      <a:pt x="131" y="635"/>
                    </a:lnTo>
                    <a:lnTo>
                      <a:pt x="120" y="596"/>
                    </a:lnTo>
                    <a:lnTo>
                      <a:pt x="110" y="554"/>
                    </a:lnTo>
                    <a:lnTo>
                      <a:pt x="102" y="514"/>
                    </a:lnTo>
                    <a:lnTo>
                      <a:pt x="98" y="471"/>
                    </a:lnTo>
                    <a:lnTo>
                      <a:pt x="94" y="429"/>
                    </a:lnTo>
                    <a:lnTo>
                      <a:pt x="93" y="386"/>
                    </a:lnTo>
                    <a:lnTo>
                      <a:pt x="93" y="376"/>
                    </a:lnTo>
                    <a:lnTo>
                      <a:pt x="93" y="365"/>
                    </a:lnTo>
                    <a:lnTo>
                      <a:pt x="93" y="355"/>
                    </a:lnTo>
                    <a:lnTo>
                      <a:pt x="94" y="345"/>
                    </a:lnTo>
                    <a:lnTo>
                      <a:pt x="94" y="335"/>
                    </a:lnTo>
                    <a:lnTo>
                      <a:pt x="95" y="325"/>
                    </a:lnTo>
                    <a:lnTo>
                      <a:pt x="97" y="315"/>
                    </a:lnTo>
                    <a:lnTo>
                      <a:pt x="98" y="304"/>
                    </a:lnTo>
                    <a:lnTo>
                      <a:pt x="94" y="305"/>
                    </a:lnTo>
                    <a:lnTo>
                      <a:pt x="1" y="369"/>
                    </a:lnTo>
                    <a:lnTo>
                      <a:pt x="0" y="371"/>
                    </a:lnTo>
                    <a:lnTo>
                      <a:pt x="0" y="373"/>
                    </a:lnTo>
                    <a:lnTo>
                      <a:pt x="0" y="376"/>
                    </a:lnTo>
                    <a:lnTo>
                      <a:pt x="0" y="377"/>
                    </a:lnTo>
                    <a:lnTo>
                      <a:pt x="0" y="379"/>
                    </a:lnTo>
                    <a:lnTo>
                      <a:pt x="0" y="382"/>
                    </a:lnTo>
                    <a:lnTo>
                      <a:pt x="0" y="384"/>
                    </a:lnTo>
                    <a:lnTo>
                      <a:pt x="0" y="386"/>
                    </a:lnTo>
                    <a:lnTo>
                      <a:pt x="1" y="433"/>
                    </a:lnTo>
                    <a:lnTo>
                      <a:pt x="4" y="481"/>
                    </a:lnTo>
                    <a:lnTo>
                      <a:pt x="11" y="528"/>
                    </a:lnTo>
                    <a:lnTo>
                      <a:pt x="19" y="574"/>
                    </a:lnTo>
                    <a:lnTo>
                      <a:pt x="30" y="619"/>
                    </a:lnTo>
                    <a:lnTo>
                      <a:pt x="42" y="663"/>
                    </a:lnTo>
                    <a:lnTo>
                      <a:pt x="56" y="707"/>
                    </a:lnTo>
                    <a:lnTo>
                      <a:pt x="74" y="748"/>
                    </a:lnTo>
                    <a:lnTo>
                      <a:pt x="92" y="790"/>
                    </a:lnTo>
                    <a:lnTo>
                      <a:pt x="113" y="830"/>
                    </a:lnTo>
                    <a:lnTo>
                      <a:pt x="135" y="869"/>
                    </a:lnTo>
                    <a:lnTo>
                      <a:pt x="159" y="907"/>
                    </a:lnTo>
                    <a:lnTo>
                      <a:pt x="185" y="943"/>
                    </a:lnTo>
                    <a:lnTo>
                      <a:pt x="213" y="979"/>
                    </a:lnTo>
                    <a:lnTo>
                      <a:pt x="242" y="1012"/>
                    </a:lnTo>
                    <a:lnTo>
                      <a:pt x="273" y="1044"/>
                    </a:lnTo>
                    <a:lnTo>
                      <a:pt x="305" y="1075"/>
                    </a:lnTo>
                    <a:lnTo>
                      <a:pt x="339" y="1104"/>
                    </a:lnTo>
                    <a:lnTo>
                      <a:pt x="375" y="1132"/>
                    </a:lnTo>
                    <a:lnTo>
                      <a:pt x="412" y="1158"/>
                    </a:lnTo>
                    <a:lnTo>
                      <a:pt x="448" y="1183"/>
                    </a:lnTo>
                    <a:lnTo>
                      <a:pt x="488" y="1205"/>
                    </a:lnTo>
                    <a:lnTo>
                      <a:pt x="528" y="1225"/>
                    </a:lnTo>
                    <a:lnTo>
                      <a:pt x="570" y="1244"/>
                    </a:lnTo>
                    <a:lnTo>
                      <a:pt x="611" y="1261"/>
                    </a:lnTo>
                    <a:lnTo>
                      <a:pt x="655" y="1276"/>
                    </a:lnTo>
                    <a:lnTo>
                      <a:pt x="699" y="1289"/>
                    </a:lnTo>
                    <a:lnTo>
                      <a:pt x="745" y="1299"/>
                    </a:lnTo>
                    <a:lnTo>
                      <a:pt x="790" y="1307"/>
                    </a:lnTo>
                    <a:lnTo>
                      <a:pt x="837" y="1313"/>
                    </a:lnTo>
                    <a:lnTo>
                      <a:pt x="884" y="1316"/>
                    </a:lnTo>
                    <a:lnTo>
                      <a:pt x="932" y="1318"/>
                    </a:lnTo>
                    <a:lnTo>
                      <a:pt x="980" y="1316"/>
                    </a:lnTo>
                    <a:lnTo>
                      <a:pt x="1027" y="1313"/>
                    </a:lnTo>
                    <a:lnTo>
                      <a:pt x="1074" y="1307"/>
                    </a:lnTo>
                    <a:lnTo>
                      <a:pt x="1120" y="1299"/>
                    </a:lnTo>
                    <a:lnTo>
                      <a:pt x="1165" y="1289"/>
                    </a:lnTo>
                    <a:lnTo>
                      <a:pt x="1210" y="1276"/>
                    </a:lnTo>
                    <a:lnTo>
                      <a:pt x="1252" y="1261"/>
                    </a:lnTo>
                    <a:lnTo>
                      <a:pt x="1295" y="1244"/>
                    </a:lnTo>
                    <a:lnTo>
                      <a:pt x="1337" y="1225"/>
                    </a:lnTo>
                    <a:lnTo>
                      <a:pt x="1377" y="1205"/>
                    </a:lnTo>
                    <a:lnTo>
                      <a:pt x="1415" y="1183"/>
                    </a:lnTo>
                    <a:lnTo>
                      <a:pt x="1453" y="1158"/>
                    </a:lnTo>
                    <a:lnTo>
                      <a:pt x="1490" y="1132"/>
                    </a:lnTo>
                    <a:lnTo>
                      <a:pt x="1525" y="1104"/>
                    </a:lnTo>
                    <a:lnTo>
                      <a:pt x="1559" y="1075"/>
                    </a:lnTo>
                    <a:lnTo>
                      <a:pt x="1591" y="1044"/>
                    </a:lnTo>
                    <a:lnTo>
                      <a:pt x="1623" y="1012"/>
                    </a:lnTo>
                    <a:lnTo>
                      <a:pt x="1651" y="979"/>
                    </a:lnTo>
                    <a:lnTo>
                      <a:pt x="1679" y="943"/>
                    </a:lnTo>
                    <a:lnTo>
                      <a:pt x="1704" y="907"/>
                    </a:lnTo>
                    <a:lnTo>
                      <a:pt x="1729" y="869"/>
                    </a:lnTo>
                    <a:lnTo>
                      <a:pt x="1752" y="830"/>
                    </a:lnTo>
                    <a:lnTo>
                      <a:pt x="1773" y="790"/>
                    </a:lnTo>
                    <a:lnTo>
                      <a:pt x="1791" y="748"/>
                    </a:lnTo>
                    <a:lnTo>
                      <a:pt x="1807" y="707"/>
                    </a:lnTo>
                    <a:lnTo>
                      <a:pt x="1822" y="663"/>
                    </a:lnTo>
                    <a:lnTo>
                      <a:pt x="1835" y="619"/>
                    </a:lnTo>
                    <a:lnTo>
                      <a:pt x="1845" y="574"/>
                    </a:lnTo>
                    <a:lnTo>
                      <a:pt x="1853" y="528"/>
                    </a:lnTo>
                    <a:lnTo>
                      <a:pt x="1859" y="481"/>
                    </a:lnTo>
                    <a:lnTo>
                      <a:pt x="1864" y="433"/>
                    </a:lnTo>
                    <a:lnTo>
                      <a:pt x="1865" y="38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8400" y="4170240"/>
                <a:ext cx="468360" cy="336600"/>
              </a:xfrm>
              <a:custGeom>
                <a:avLst/>
                <a:gdLst/>
                <a:ahLst/>
                <a:rect l="l" t="t" r="r" b="b"/>
                <a:pathLst>
                  <a:path w="1771" h="1268">
                    <a:moveTo>
                      <a:pt x="1771" y="383"/>
                    </a:moveTo>
                    <a:lnTo>
                      <a:pt x="1771" y="358"/>
                    </a:lnTo>
                    <a:lnTo>
                      <a:pt x="1769" y="331"/>
                    </a:lnTo>
                    <a:lnTo>
                      <a:pt x="1767" y="307"/>
                    </a:lnTo>
                    <a:lnTo>
                      <a:pt x="1765" y="282"/>
                    </a:lnTo>
                    <a:lnTo>
                      <a:pt x="1761" y="256"/>
                    </a:lnTo>
                    <a:lnTo>
                      <a:pt x="1758" y="232"/>
                    </a:lnTo>
                    <a:lnTo>
                      <a:pt x="1753" y="208"/>
                    </a:lnTo>
                    <a:lnTo>
                      <a:pt x="1749" y="184"/>
                    </a:lnTo>
                    <a:lnTo>
                      <a:pt x="1743" y="159"/>
                    </a:lnTo>
                    <a:lnTo>
                      <a:pt x="1736" y="136"/>
                    </a:lnTo>
                    <a:lnTo>
                      <a:pt x="1729" y="112"/>
                    </a:lnTo>
                    <a:lnTo>
                      <a:pt x="1721" y="89"/>
                    </a:lnTo>
                    <a:lnTo>
                      <a:pt x="1713" y="66"/>
                    </a:lnTo>
                    <a:lnTo>
                      <a:pt x="1704" y="44"/>
                    </a:lnTo>
                    <a:lnTo>
                      <a:pt x="1694" y="22"/>
                    </a:lnTo>
                    <a:lnTo>
                      <a:pt x="1684" y="0"/>
                    </a:lnTo>
                    <a:lnTo>
                      <a:pt x="1591" y="22"/>
                    </a:lnTo>
                    <a:lnTo>
                      <a:pt x="1601" y="43"/>
                    </a:lnTo>
                    <a:lnTo>
                      <a:pt x="1610" y="64"/>
                    </a:lnTo>
                    <a:lnTo>
                      <a:pt x="1619" y="85"/>
                    </a:lnTo>
                    <a:lnTo>
                      <a:pt x="1627" y="106"/>
                    </a:lnTo>
                    <a:lnTo>
                      <a:pt x="1636" y="127"/>
                    </a:lnTo>
                    <a:lnTo>
                      <a:pt x="1642" y="149"/>
                    </a:lnTo>
                    <a:lnTo>
                      <a:pt x="1649" y="172"/>
                    </a:lnTo>
                    <a:lnTo>
                      <a:pt x="1655" y="194"/>
                    </a:lnTo>
                    <a:lnTo>
                      <a:pt x="1660" y="217"/>
                    </a:lnTo>
                    <a:lnTo>
                      <a:pt x="1664" y="240"/>
                    </a:lnTo>
                    <a:lnTo>
                      <a:pt x="1669" y="263"/>
                    </a:lnTo>
                    <a:lnTo>
                      <a:pt x="1671" y="286"/>
                    </a:lnTo>
                    <a:lnTo>
                      <a:pt x="1675" y="310"/>
                    </a:lnTo>
                    <a:lnTo>
                      <a:pt x="1676" y="335"/>
                    </a:lnTo>
                    <a:lnTo>
                      <a:pt x="1677" y="359"/>
                    </a:lnTo>
                    <a:lnTo>
                      <a:pt x="1677" y="383"/>
                    </a:lnTo>
                    <a:lnTo>
                      <a:pt x="1677" y="423"/>
                    </a:lnTo>
                    <a:lnTo>
                      <a:pt x="1674" y="464"/>
                    </a:lnTo>
                    <a:lnTo>
                      <a:pt x="1668" y="503"/>
                    </a:lnTo>
                    <a:lnTo>
                      <a:pt x="1661" y="542"/>
                    </a:lnTo>
                    <a:lnTo>
                      <a:pt x="1653" y="581"/>
                    </a:lnTo>
                    <a:lnTo>
                      <a:pt x="1641" y="618"/>
                    </a:lnTo>
                    <a:lnTo>
                      <a:pt x="1630" y="655"/>
                    </a:lnTo>
                    <a:lnTo>
                      <a:pt x="1615" y="691"/>
                    </a:lnTo>
                    <a:lnTo>
                      <a:pt x="1600" y="727"/>
                    </a:lnTo>
                    <a:lnTo>
                      <a:pt x="1581" y="760"/>
                    </a:lnTo>
                    <a:lnTo>
                      <a:pt x="1563" y="793"/>
                    </a:lnTo>
                    <a:lnTo>
                      <a:pt x="1542" y="826"/>
                    </a:lnTo>
                    <a:lnTo>
                      <a:pt x="1520" y="857"/>
                    </a:lnTo>
                    <a:lnTo>
                      <a:pt x="1496" y="887"/>
                    </a:lnTo>
                    <a:lnTo>
                      <a:pt x="1472" y="916"/>
                    </a:lnTo>
                    <a:lnTo>
                      <a:pt x="1445" y="943"/>
                    </a:lnTo>
                    <a:lnTo>
                      <a:pt x="1418" y="969"/>
                    </a:lnTo>
                    <a:lnTo>
                      <a:pt x="1389" y="994"/>
                    </a:lnTo>
                    <a:lnTo>
                      <a:pt x="1359" y="1017"/>
                    </a:lnTo>
                    <a:lnTo>
                      <a:pt x="1328" y="1039"/>
                    </a:lnTo>
                    <a:lnTo>
                      <a:pt x="1296" y="1060"/>
                    </a:lnTo>
                    <a:lnTo>
                      <a:pt x="1263" y="1079"/>
                    </a:lnTo>
                    <a:lnTo>
                      <a:pt x="1228" y="1097"/>
                    </a:lnTo>
                    <a:lnTo>
                      <a:pt x="1194" y="1113"/>
                    </a:lnTo>
                    <a:lnTo>
                      <a:pt x="1158" y="1127"/>
                    </a:lnTo>
                    <a:lnTo>
                      <a:pt x="1121" y="1139"/>
                    </a:lnTo>
                    <a:lnTo>
                      <a:pt x="1083" y="1150"/>
                    </a:lnTo>
                    <a:lnTo>
                      <a:pt x="1045" y="1159"/>
                    </a:lnTo>
                    <a:lnTo>
                      <a:pt x="1006" y="1166"/>
                    </a:lnTo>
                    <a:lnTo>
                      <a:pt x="967" y="1170"/>
                    </a:lnTo>
                    <a:lnTo>
                      <a:pt x="926" y="1174"/>
                    </a:lnTo>
                    <a:lnTo>
                      <a:pt x="885" y="1175"/>
                    </a:lnTo>
                    <a:lnTo>
                      <a:pt x="844" y="1174"/>
                    </a:lnTo>
                    <a:lnTo>
                      <a:pt x="804" y="1170"/>
                    </a:lnTo>
                    <a:lnTo>
                      <a:pt x="765" y="1166"/>
                    </a:lnTo>
                    <a:lnTo>
                      <a:pt x="726" y="1159"/>
                    </a:lnTo>
                    <a:lnTo>
                      <a:pt x="687" y="1150"/>
                    </a:lnTo>
                    <a:lnTo>
                      <a:pt x="649" y="1139"/>
                    </a:lnTo>
                    <a:lnTo>
                      <a:pt x="612" y="1127"/>
                    </a:lnTo>
                    <a:lnTo>
                      <a:pt x="577" y="1113"/>
                    </a:lnTo>
                    <a:lnTo>
                      <a:pt x="542" y="1097"/>
                    </a:lnTo>
                    <a:lnTo>
                      <a:pt x="508" y="1079"/>
                    </a:lnTo>
                    <a:lnTo>
                      <a:pt x="474" y="1060"/>
                    </a:lnTo>
                    <a:lnTo>
                      <a:pt x="442" y="1039"/>
                    </a:lnTo>
                    <a:lnTo>
                      <a:pt x="411" y="1017"/>
                    </a:lnTo>
                    <a:lnTo>
                      <a:pt x="381" y="994"/>
                    </a:lnTo>
                    <a:lnTo>
                      <a:pt x="352" y="969"/>
                    </a:lnTo>
                    <a:lnTo>
                      <a:pt x="325" y="943"/>
                    </a:lnTo>
                    <a:lnTo>
                      <a:pt x="299" y="916"/>
                    </a:lnTo>
                    <a:lnTo>
                      <a:pt x="273" y="887"/>
                    </a:lnTo>
                    <a:lnTo>
                      <a:pt x="250" y="857"/>
                    </a:lnTo>
                    <a:lnTo>
                      <a:pt x="228" y="826"/>
                    </a:lnTo>
                    <a:lnTo>
                      <a:pt x="208" y="793"/>
                    </a:lnTo>
                    <a:lnTo>
                      <a:pt x="188" y="760"/>
                    </a:lnTo>
                    <a:lnTo>
                      <a:pt x="171" y="727"/>
                    </a:lnTo>
                    <a:lnTo>
                      <a:pt x="155" y="691"/>
                    </a:lnTo>
                    <a:lnTo>
                      <a:pt x="141" y="655"/>
                    </a:lnTo>
                    <a:lnTo>
                      <a:pt x="128" y="618"/>
                    </a:lnTo>
                    <a:lnTo>
                      <a:pt x="118" y="581"/>
                    </a:lnTo>
                    <a:lnTo>
                      <a:pt x="108" y="542"/>
                    </a:lnTo>
                    <a:lnTo>
                      <a:pt x="102" y="503"/>
                    </a:lnTo>
                    <a:lnTo>
                      <a:pt x="97" y="464"/>
                    </a:lnTo>
                    <a:lnTo>
                      <a:pt x="93" y="423"/>
                    </a:lnTo>
                    <a:lnTo>
                      <a:pt x="93" y="383"/>
                    </a:lnTo>
                    <a:lnTo>
                      <a:pt x="93" y="372"/>
                    </a:lnTo>
                    <a:lnTo>
                      <a:pt x="93" y="359"/>
                    </a:lnTo>
                    <a:lnTo>
                      <a:pt x="93" y="347"/>
                    </a:lnTo>
                    <a:lnTo>
                      <a:pt x="95" y="336"/>
                    </a:lnTo>
                    <a:lnTo>
                      <a:pt x="95" y="324"/>
                    </a:lnTo>
                    <a:lnTo>
                      <a:pt x="96" y="313"/>
                    </a:lnTo>
                    <a:lnTo>
                      <a:pt x="97" y="301"/>
                    </a:lnTo>
                    <a:lnTo>
                      <a:pt x="98" y="290"/>
                    </a:lnTo>
                    <a:lnTo>
                      <a:pt x="47" y="302"/>
                    </a:lnTo>
                    <a:lnTo>
                      <a:pt x="1" y="334"/>
                    </a:lnTo>
                    <a:lnTo>
                      <a:pt x="1" y="339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0" y="358"/>
                    </a:lnTo>
                    <a:lnTo>
                      <a:pt x="0" y="365"/>
                    </a:lnTo>
                    <a:lnTo>
                      <a:pt x="0" y="370"/>
                    </a:lnTo>
                    <a:lnTo>
                      <a:pt x="0" y="376"/>
                    </a:lnTo>
                    <a:lnTo>
                      <a:pt x="0" y="383"/>
                    </a:lnTo>
                    <a:lnTo>
                      <a:pt x="1" y="428"/>
                    </a:lnTo>
                    <a:lnTo>
                      <a:pt x="5" y="473"/>
                    </a:lnTo>
                    <a:lnTo>
                      <a:pt x="9" y="518"/>
                    </a:lnTo>
                    <a:lnTo>
                      <a:pt x="17" y="562"/>
                    </a:lnTo>
                    <a:lnTo>
                      <a:pt x="28" y="604"/>
                    </a:lnTo>
                    <a:lnTo>
                      <a:pt x="39" y="646"/>
                    </a:lnTo>
                    <a:lnTo>
                      <a:pt x="53" y="687"/>
                    </a:lnTo>
                    <a:lnTo>
                      <a:pt x="69" y="728"/>
                    </a:lnTo>
                    <a:lnTo>
                      <a:pt x="87" y="767"/>
                    </a:lnTo>
                    <a:lnTo>
                      <a:pt x="106" y="805"/>
                    </a:lnTo>
                    <a:lnTo>
                      <a:pt x="128" y="842"/>
                    </a:lnTo>
                    <a:lnTo>
                      <a:pt x="151" y="878"/>
                    </a:lnTo>
                    <a:lnTo>
                      <a:pt x="175" y="912"/>
                    </a:lnTo>
                    <a:lnTo>
                      <a:pt x="202" y="946"/>
                    </a:lnTo>
                    <a:lnTo>
                      <a:pt x="230" y="978"/>
                    </a:lnTo>
                    <a:lnTo>
                      <a:pt x="260" y="1009"/>
                    </a:lnTo>
                    <a:lnTo>
                      <a:pt x="290" y="1038"/>
                    </a:lnTo>
                    <a:lnTo>
                      <a:pt x="322" y="1066"/>
                    </a:lnTo>
                    <a:lnTo>
                      <a:pt x="355" y="1092"/>
                    </a:lnTo>
                    <a:lnTo>
                      <a:pt x="390" y="1116"/>
                    </a:lnTo>
                    <a:lnTo>
                      <a:pt x="426" y="1139"/>
                    </a:lnTo>
                    <a:lnTo>
                      <a:pt x="463" y="1161"/>
                    </a:lnTo>
                    <a:lnTo>
                      <a:pt x="501" y="1181"/>
                    </a:lnTo>
                    <a:lnTo>
                      <a:pt x="541" y="1198"/>
                    </a:lnTo>
                    <a:lnTo>
                      <a:pt x="580" y="1214"/>
                    </a:lnTo>
                    <a:lnTo>
                      <a:pt x="622" y="1228"/>
                    </a:lnTo>
                    <a:lnTo>
                      <a:pt x="663" y="1240"/>
                    </a:lnTo>
                    <a:lnTo>
                      <a:pt x="707" y="1250"/>
                    </a:lnTo>
                    <a:lnTo>
                      <a:pt x="750" y="1258"/>
                    </a:lnTo>
                    <a:lnTo>
                      <a:pt x="795" y="1264"/>
                    </a:lnTo>
                    <a:lnTo>
                      <a:pt x="840" y="1267"/>
                    </a:lnTo>
                    <a:lnTo>
                      <a:pt x="885" y="1268"/>
                    </a:lnTo>
                    <a:lnTo>
                      <a:pt x="931" y="1267"/>
                    </a:lnTo>
                    <a:lnTo>
                      <a:pt x="976" y="1264"/>
                    </a:lnTo>
                    <a:lnTo>
                      <a:pt x="1020" y="1258"/>
                    </a:lnTo>
                    <a:lnTo>
                      <a:pt x="1063" y="1250"/>
                    </a:lnTo>
                    <a:lnTo>
                      <a:pt x="1106" y="1240"/>
                    </a:lnTo>
                    <a:lnTo>
                      <a:pt x="1149" y="1228"/>
                    </a:lnTo>
                    <a:lnTo>
                      <a:pt x="1189" y="1214"/>
                    </a:lnTo>
                    <a:lnTo>
                      <a:pt x="1230" y="1198"/>
                    </a:lnTo>
                    <a:lnTo>
                      <a:pt x="1269" y="1181"/>
                    </a:lnTo>
                    <a:lnTo>
                      <a:pt x="1307" y="1161"/>
                    </a:lnTo>
                    <a:lnTo>
                      <a:pt x="1344" y="1139"/>
                    </a:lnTo>
                    <a:lnTo>
                      <a:pt x="1381" y="1116"/>
                    </a:lnTo>
                    <a:lnTo>
                      <a:pt x="1415" y="1092"/>
                    </a:lnTo>
                    <a:lnTo>
                      <a:pt x="1449" y="1066"/>
                    </a:lnTo>
                    <a:lnTo>
                      <a:pt x="1481" y="1038"/>
                    </a:lnTo>
                    <a:lnTo>
                      <a:pt x="1511" y="1009"/>
                    </a:lnTo>
                    <a:lnTo>
                      <a:pt x="1541" y="978"/>
                    </a:lnTo>
                    <a:lnTo>
                      <a:pt x="1569" y="946"/>
                    </a:lnTo>
                    <a:lnTo>
                      <a:pt x="1595" y="912"/>
                    </a:lnTo>
                    <a:lnTo>
                      <a:pt x="1619" y="878"/>
                    </a:lnTo>
                    <a:lnTo>
                      <a:pt x="1642" y="842"/>
                    </a:lnTo>
                    <a:lnTo>
                      <a:pt x="1664" y="805"/>
                    </a:lnTo>
                    <a:lnTo>
                      <a:pt x="1683" y="767"/>
                    </a:lnTo>
                    <a:lnTo>
                      <a:pt x="1701" y="728"/>
                    </a:lnTo>
                    <a:lnTo>
                      <a:pt x="1717" y="687"/>
                    </a:lnTo>
                    <a:lnTo>
                      <a:pt x="1731" y="646"/>
                    </a:lnTo>
                    <a:lnTo>
                      <a:pt x="1743" y="604"/>
                    </a:lnTo>
                    <a:lnTo>
                      <a:pt x="1753" y="562"/>
                    </a:lnTo>
                    <a:lnTo>
                      <a:pt x="1760" y="518"/>
                    </a:lnTo>
                    <a:lnTo>
                      <a:pt x="1766" y="473"/>
                    </a:lnTo>
                    <a:lnTo>
                      <a:pt x="1769" y="428"/>
                    </a:lnTo>
                    <a:lnTo>
                      <a:pt x="1771" y="38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1000" y="4173480"/>
                <a:ext cx="444600" cy="320760"/>
              </a:xfrm>
              <a:custGeom>
                <a:avLst/>
                <a:gdLst/>
                <a:ahLst/>
                <a:rect l="l" t="t" r="r" b="b"/>
                <a:pathLst>
                  <a:path w="1678" h="1210">
                    <a:moveTo>
                      <a:pt x="1678" y="372"/>
                    </a:moveTo>
                    <a:lnTo>
                      <a:pt x="1677" y="347"/>
                    </a:lnTo>
                    <a:lnTo>
                      <a:pt x="1677" y="323"/>
                    </a:lnTo>
                    <a:lnTo>
                      <a:pt x="1675" y="297"/>
                    </a:lnTo>
                    <a:lnTo>
                      <a:pt x="1673" y="273"/>
                    </a:lnTo>
                    <a:lnTo>
                      <a:pt x="1669" y="249"/>
                    </a:lnTo>
                    <a:lnTo>
                      <a:pt x="1666" y="225"/>
                    </a:lnTo>
                    <a:lnTo>
                      <a:pt x="1661" y="202"/>
                    </a:lnTo>
                    <a:lnTo>
                      <a:pt x="1655" y="178"/>
                    </a:lnTo>
                    <a:lnTo>
                      <a:pt x="1650" y="154"/>
                    </a:lnTo>
                    <a:lnTo>
                      <a:pt x="1644" y="131"/>
                    </a:lnTo>
                    <a:lnTo>
                      <a:pt x="1636" y="109"/>
                    </a:lnTo>
                    <a:lnTo>
                      <a:pt x="1629" y="86"/>
                    </a:lnTo>
                    <a:lnTo>
                      <a:pt x="1620" y="64"/>
                    </a:lnTo>
                    <a:lnTo>
                      <a:pt x="1611" y="42"/>
                    </a:lnTo>
                    <a:lnTo>
                      <a:pt x="1601" y="22"/>
                    </a:lnTo>
                    <a:lnTo>
                      <a:pt x="1592" y="0"/>
                    </a:lnTo>
                    <a:lnTo>
                      <a:pt x="1498" y="23"/>
                    </a:lnTo>
                    <a:lnTo>
                      <a:pt x="1508" y="42"/>
                    </a:lnTo>
                    <a:lnTo>
                      <a:pt x="1518" y="62"/>
                    </a:lnTo>
                    <a:lnTo>
                      <a:pt x="1526" y="83"/>
                    </a:lnTo>
                    <a:lnTo>
                      <a:pt x="1535" y="104"/>
                    </a:lnTo>
                    <a:lnTo>
                      <a:pt x="1542" y="124"/>
                    </a:lnTo>
                    <a:lnTo>
                      <a:pt x="1549" y="145"/>
                    </a:lnTo>
                    <a:lnTo>
                      <a:pt x="1556" y="167"/>
                    </a:lnTo>
                    <a:lnTo>
                      <a:pt x="1562" y="189"/>
                    </a:lnTo>
                    <a:lnTo>
                      <a:pt x="1568" y="211"/>
                    </a:lnTo>
                    <a:lnTo>
                      <a:pt x="1572" y="234"/>
                    </a:lnTo>
                    <a:lnTo>
                      <a:pt x="1576" y="256"/>
                    </a:lnTo>
                    <a:lnTo>
                      <a:pt x="1579" y="279"/>
                    </a:lnTo>
                    <a:lnTo>
                      <a:pt x="1581" y="302"/>
                    </a:lnTo>
                    <a:lnTo>
                      <a:pt x="1584" y="325"/>
                    </a:lnTo>
                    <a:lnTo>
                      <a:pt x="1585" y="348"/>
                    </a:lnTo>
                    <a:lnTo>
                      <a:pt x="1585" y="372"/>
                    </a:lnTo>
                    <a:lnTo>
                      <a:pt x="1584" y="410"/>
                    </a:lnTo>
                    <a:lnTo>
                      <a:pt x="1581" y="448"/>
                    </a:lnTo>
                    <a:lnTo>
                      <a:pt x="1576" y="485"/>
                    </a:lnTo>
                    <a:lnTo>
                      <a:pt x="1570" y="522"/>
                    </a:lnTo>
                    <a:lnTo>
                      <a:pt x="1562" y="558"/>
                    </a:lnTo>
                    <a:lnTo>
                      <a:pt x="1552" y="593"/>
                    </a:lnTo>
                    <a:lnTo>
                      <a:pt x="1540" y="628"/>
                    </a:lnTo>
                    <a:lnTo>
                      <a:pt x="1526" y="661"/>
                    </a:lnTo>
                    <a:lnTo>
                      <a:pt x="1511" y="695"/>
                    </a:lnTo>
                    <a:lnTo>
                      <a:pt x="1495" y="727"/>
                    </a:lnTo>
                    <a:lnTo>
                      <a:pt x="1477" y="758"/>
                    </a:lnTo>
                    <a:lnTo>
                      <a:pt x="1458" y="788"/>
                    </a:lnTo>
                    <a:lnTo>
                      <a:pt x="1436" y="818"/>
                    </a:lnTo>
                    <a:lnTo>
                      <a:pt x="1414" y="846"/>
                    </a:lnTo>
                    <a:lnTo>
                      <a:pt x="1391" y="874"/>
                    </a:lnTo>
                    <a:lnTo>
                      <a:pt x="1367" y="899"/>
                    </a:lnTo>
                    <a:lnTo>
                      <a:pt x="1340" y="923"/>
                    </a:lnTo>
                    <a:lnTo>
                      <a:pt x="1314" y="947"/>
                    </a:lnTo>
                    <a:lnTo>
                      <a:pt x="1285" y="969"/>
                    </a:lnTo>
                    <a:lnTo>
                      <a:pt x="1256" y="990"/>
                    </a:lnTo>
                    <a:lnTo>
                      <a:pt x="1226" y="1010"/>
                    </a:lnTo>
                    <a:lnTo>
                      <a:pt x="1195" y="1027"/>
                    </a:lnTo>
                    <a:lnTo>
                      <a:pt x="1163" y="1044"/>
                    </a:lnTo>
                    <a:lnTo>
                      <a:pt x="1129" y="1059"/>
                    </a:lnTo>
                    <a:lnTo>
                      <a:pt x="1096" y="1072"/>
                    </a:lnTo>
                    <a:lnTo>
                      <a:pt x="1061" y="1083"/>
                    </a:lnTo>
                    <a:lnTo>
                      <a:pt x="1026" y="1094"/>
                    </a:lnTo>
                    <a:lnTo>
                      <a:pt x="990" y="1102"/>
                    </a:lnTo>
                    <a:lnTo>
                      <a:pt x="953" y="1109"/>
                    </a:lnTo>
                    <a:lnTo>
                      <a:pt x="915" y="1113"/>
                    </a:lnTo>
                    <a:lnTo>
                      <a:pt x="878" y="1116"/>
                    </a:lnTo>
                    <a:lnTo>
                      <a:pt x="839" y="1117"/>
                    </a:lnTo>
                    <a:lnTo>
                      <a:pt x="801" y="1116"/>
                    </a:lnTo>
                    <a:lnTo>
                      <a:pt x="763" y="1113"/>
                    </a:lnTo>
                    <a:lnTo>
                      <a:pt x="726" y="1109"/>
                    </a:lnTo>
                    <a:lnTo>
                      <a:pt x="689" y="1102"/>
                    </a:lnTo>
                    <a:lnTo>
                      <a:pt x="653" y="1094"/>
                    </a:lnTo>
                    <a:lnTo>
                      <a:pt x="617" y="1083"/>
                    </a:lnTo>
                    <a:lnTo>
                      <a:pt x="583" y="1072"/>
                    </a:lnTo>
                    <a:lnTo>
                      <a:pt x="549" y="1059"/>
                    </a:lnTo>
                    <a:lnTo>
                      <a:pt x="516" y="1044"/>
                    </a:lnTo>
                    <a:lnTo>
                      <a:pt x="483" y="1027"/>
                    </a:lnTo>
                    <a:lnTo>
                      <a:pt x="452" y="1010"/>
                    </a:lnTo>
                    <a:lnTo>
                      <a:pt x="422" y="990"/>
                    </a:lnTo>
                    <a:lnTo>
                      <a:pt x="393" y="969"/>
                    </a:lnTo>
                    <a:lnTo>
                      <a:pt x="365" y="947"/>
                    </a:lnTo>
                    <a:lnTo>
                      <a:pt x="338" y="923"/>
                    </a:lnTo>
                    <a:lnTo>
                      <a:pt x="312" y="899"/>
                    </a:lnTo>
                    <a:lnTo>
                      <a:pt x="287" y="874"/>
                    </a:lnTo>
                    <a:lnTo>
                      <a:pt x="264" y="846"/>
                    </a:lnTo>
                    <a:lnTo>
                      <a:pt x="241" y="818"/>
                    </a:lnTo>
                    <a:lnTo>
                      <a:pt x="220" y="788"/>
                    </a:lnTo>
                    <a:lnTo>
                      <a:pt x="201" y="758"/>
                    </a:lnTo>
                    <a:lnTo>
                      <a:pt x="184" y="727"/>
                    </a:lnTo>
                    <a:lnTo>
                      <a:pt x="167" y="695"/>
                    </a:lnTo>
                    <a:lnTo>
                      <a:pt x="152" y="661"/>
                    </a:lnTo>
                    <a:lnTo>
                      <a:pt x="139" y="628"/>
                    </a:lnTo>
                    <a:lnTo>
                      <a:pt x="127" y="593"/>
                    </a:lnTo>
                    <a:lnTo>
                      <a:pt x="117" y="558"/>
                    </a:lnTo>
                    <a:lnTo>
                      <a:pt x="109" y="522"/>
                    </a:lnTo>
                    <a:lnTo>
                      <a:pt x="102" y="485"/>
                    </a:lnTo>
                    <a:lnTo>
                      <a:pt x="97" y="448"/>
                    </a:lnTo>
                    <a:lnTo>
                      <a:pt x="95" y="410"/>
                    </a:lnTo>
                    <a:lnTo>
                      <a:pt x="94" y="372"/>
                    </a:lnTo>
                    <a:lnTo>
                      <a:pt x="94" y="358"/>
                    </a:lnTo>
                    <a:lnTo>
                      <a:pt x="94" y="346"/>
                    </a:lnTo>
                    <a:lnTo>
                      <a:pt x="95" y="332"/>
                    </a:lnTo>
                    <a:lnTo>
                      <a:pt x="96" y="319"/>
                    </a:lnTo>
                    <a:lnTo>
                      <a:pt x="96" y="306"/>
                    </a:lnTo>
                    <a:lnTo>
                      <a:pt x="98" y="294"/>
                    </a:lnTo>
                    <a:lnTo>
                      <a:pt x="99" y="281"/>
                    </a:lnTo>
                    <a:lnTo>
                      <a:pt x="101" y="267"/>
                    </a:lnTo>
                    <a:lnTo>
                      <a:pt x="5" y="290"/>
                    </a:lnTo>
                    <a:lnTo>
                      <a:pt x="4" y="301"/>
                    </a:lnTo>
                    <a:lnTo>
                      <a:pt x="2" y="311"/>
                    </a:lnTo>
                    <a:lnTo>
                      <a:pt x="1" y="321"/>
                    </a:lnTo>
                    <a:lnTo>
                      <a:pt x="1" y="331"/>
                    </a:lnTo>
                    <a:lnTo>
                      <a:pt x="1" y="341"/>
                    </a:lnTo>
                    <a:lnTo>
                      <a:pt x="0" y="351"/>
                    </a:lnTo>
                    <a:lnTo>
                      <a:pt x="0" y="362"/>
                    </a:lnTo>
                    <a:lnTo>
                      <a:pt x="0" y="372"/>
                    </a:lnTo>
                    <a:lnTo>
                      <a:pt x="1" y="415"/>
                    </a:lnTo>
                    <a:lnTo>
                      <a:pt x="5" y="457"/>
                    </a:lnTo>
                    <a:lnTo>
                      <a:pt x="9" y="500"/>
                    </a:lnTo>
                    <a:lnTo>
                      <a:pt x="17" y="540"/>
                    </a:lnTo>
                    <a:lnTo>
                      <a:pt x="27" y="582"/>
                    </a:lnTo>
                    <a:lnTo>
                      <a:pt x="38" y="621"/>
                    </a:lnTo>
                    <a:lnTo>
                      <a:pt x="51" y="660"/>
                    </a:lnTo>
                    <a:lnTo>
                      <a:pt x="66" y="698"/>
                    </a:lnTo>
                    <a:lnTo>
                      <a:pt x="83" y="735"/>
                    </a:lnTo>
                    <a:lnTo>
                      <a:pt x="102" y="772"/>
                    </a:lnTo>
                    <a:lnTo>
                      <a:pt x="121" y="807"/>
                    </a:lnTo>
                    <a:lnTo>
                      <a:pt x="143" y="841"/>
                    </a:lnTo>
                    <a:lnTo>
                      <a:pt x="166" y="874"/>
                    </a:lnTo>
                    <a:lnTo>
                      <a:pt x="192" y="906"/>
                    </a:lnTo>
                    <a:lnTo>
                      <a:pt x="218" y="936"/>
                    </a:lnTo>
                    <a:lnTo>
                      <a:pt x="246" y="965"/>
                    </a:lnTo>
                    <a:lnTo>
                      <a:pt x="275" y="992"/>
                    </a:lnTo>
                    <a:lnTo>
                      <a:pt x="306" y="1019"/>
                    </a:lnTo>
                    <a:lnTo>
                      <a:pt x="337" y="1044"/>
                    </a:lnTo>
                    <a:lnTo>
                      <a:pt x="370" y="1067"/>
                    </a:lnTo>
                    <a:lnTo>
                      <a:pt x="404" y="1089"/>
                    </a:lnTo>
                    <a:lnTo>
                      <a:pt x="440" y="1109"/>
                    </a:lnTo>
                    <a:lnTo>
                      <a:pt x="475" y="1128"/>
                    </a:lnTo>
                    <a:lnTo>
                      <a:pt x="512" y="1144"/>
                    </a:lnTo>
                    <a:lnTo>
                      <a:pt x="550" y="1159"/>
                    </a:lnTo>
                    <a:lnTo>
                      <a:pt x="590" y="1173"/>
                    </a:lnTo>
                    <a:lnTo>
                      <a:pt x="630" y="1184"/>
                    </a:lnTo>
                    <a:lnTo>
                      <a:pt x="670" y="1193"/>
                    </a:lnTo>
                    <a:lnTo>
                      <a:pt x="712" y="1201"/>
                    </a:lnTo>
                    <a:lnTo>
                      <a:pt x="753" y="1206"/>
                    </a:lnTo>
                    <a:lnTo>
                      <a:pt x="796" y="1209"/>
                    </a:lnTo>
                    <a:lnTo>
                      <a:pt x="839" y="1210"/>
                    </a:lnTo>
                    <a:lnTo>
                      <a:pt x="883" y="1209"/>
                    </a:lnTo>
                    <a:lnTo>
                      <a:pt x="925" y="1206"/>
                    </a:lnTo>
                    <a:lnTo>
                      <a:pt x="967" y="1201"/>
                    </a:lnTo>
                    <a:lnTo>
                      <a:pt x="1008" y="1193"/>
                    </a:lnTo>
                    <a:lnTo>
                      <a:pt x="1049" y="1184"/>
                    </a:lnTo>
                    <a:lnTo>
                      <a:pt x="1089" y="1173"/>
                    </a:lnTo>
                    <a:lnTo>
                      <a:pt x="1127" y="1159"/>
                    </a:lnTo>
                    <a:lnTo>
                      <a:pt x="1165" y="1144"/>
                    </a:lnTo>
                    <a:lnTo>
                      <a:pt x="1203" y="1128"/>
                    </a:lnTo>
                    <a:lnTo>
                      <a:pt x="1239" y="1109"/>
                    </a:lnTo>
                    <a:lnTo>
                      <a:pt x="1274" y="1089"/>
                    </a:lnTo>
                    <a:lnTo>
                      <a:pt x="1308" y="1067"/>
                    </a:lnTo>
                    <a:lnTo>
                      <a:pt x="1342" y="1044"/>
                    </a:lnTo>
                    <a:lnTo>
                      <a:pt x="1373" y="1019"/>
                    </a:lnTo>
                    <a:lnTo>
                      <a:pt x="1403" y="992"/>
                    </a:lnTo>
                    <a:lnTo>
                      <a:pt x="1433" y="965"/>
                    </a:lnTo>
                    <a:lnTo>
                      <a:pt x="1460" y="936"/>
                    </a:lnTo>
                    <a:lnTo>
                      <a:pt x="1487" y="906"/>
                    </a:lnTo>
                    <a:lnTo>
                      <a:pt x="1511" y="874"/>
                    </a:lnTo>
                    <a:lnTo>
                      <a:pt x="1535" y="841"/>
                    </a:lnTo>
                    <a:lnTo>
                      <a:pt x="1556" y="807"/>
                    </a:lnTo>
                    <a:lnTo>
                      <a:pt x="1577" y="772"/>
                    </a:lnTo>
                    <a:lnTo>
                      <a:pt x="1595" y="735"/>
                    </a:lnTo>
                    <a:lnTo>
                      <a:pt x="1613" y="698"/>
                    </a:lnTo>
                    <a:lnTo>
                      <a:pt x="1628" y="660"/>
                    </a:lnTo>
                    <a:lnTo>
                      <a:pt x="1640" y="621"/>
                    </a:lnTo>
                    <a:lnTo>
                      <a:pt x="1652" y="582"/>
                    </a:lnTo>
                    <a:lnTo>
                      <a:pt x="1661" y="540"/>
                    </a:lnTo>
                    <a:lnTo>
                      <a:pt x="1668" y="500"/>
                    </a:lnTo>
                    <a:lnTo>
                      <a:pt x="1674" y="457"/>
                    </a:lnTo>
                    <a:lnTo>
                      <a:pt x="1677" y="415"/>
                    </a:lnTo>
                    <a:lnTo>
                      <a:pt x="1678" y="37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4176720"/>
                <a:ext cx="419400" cy="304920"/>
              </a:xfrm>
              <a:custGeom>
                <a:avLst/>
                <a:gdLst/>
                <a:ahLst/>
                <a:rect l="l" t="t" r="r" b="b"/>
                <a:pathLst>
                  <a:path w="1584" h="1153">
                    <a:moveTo>
                      <a:pt x="1584" y="361"/>
                    </a:moveTo>
                    <a:lnTo>
                      <a:pt x="1584" y="337"/>
                    </a:lnTo>
                    <a:lnTo>
                      <a:pt x="1583" y="313"/>
                    </a:lnTo>
                    <a:lnTo>
                      <a:pt x="1582" y="288"/>
                    </a:lnTo>
                    <a:lnTo>
                      <a:pt x="1578" y="264"/>
                    </a:lnTo>
                    <a:lnTo>
                      <a:pt x="1576" y="241"/>
                    </a:lnTo>
                    <a:lnTo>
                      <a:pt x="1571" y="218"/>
                    </a:lnTo>
                    <a:lnTo>
                      <a:pt x="1567" y="195"/>
                    </a:lnTo>
                    <a:lnTo>
                      <a:pt x="1562" y="172"/>
                    </a:lnTo>
                    <a:lnTo>
                      <a:pt x="1556" y="150"/>
                    </a:lnTo>
                    <a:lnTo>
                      <a:pt x="1549" y="127"/>
                    </a:lnTo>
                    <a:lnTo>
                      <a:pt x="1543" y="105"/>
                    </a:lnTo>
                    <a:lnTo>
                      <a:pt x="1534" y="84"/>
                    </a:lnTo>
                    <a:lnTo>
                      <a:pt x="1526" y="63"/>
                    </a:lnTo>
                    <a:lnTo>
                      <a:pt x="1517" y="42"/>
                    </a:lnTo>
                    <a:lnTo>
                      <a:pt x="1508" y="21"/>
                    </a:lnTo>
                    <a:lnTo>
                      <a:pt x="1498" y="0"/>
                    </a:lnTo>
                    <a:lnTo>
                      <a:pt x="1448" y="12"/>
                    </a:lnTo>
                    <a:lnTo>
                      <a:pt x="1398" y="12"/>
                    </a:lnTo>
                    <a:lnTo>
                      <a:pt x="1409" y="31"/>
                    </a:lnTo>
                    <a:lnTo>
                      <a:pt x="1419" y="51"/>
                    </a:lnTo>
                    <a:lnTo>
                      <a:pt x="1428" y="72"/>
                    </a:lnTo>
                    <a:lnTo>
                      <a:pt x="1438" y="91"/>
                    </a:lnTo>
                    <a:lnTo>
                      <a:pt x="1446" y="113"/>
                    </a:lnTo>
                    <a:lnTo>
                      <a:pt x="1454" y="134"/>
                    </a:lnTo>
                    <a:lnTo>
                      <a:pt x="1461" y="156"/>
                    </a:lnTo>
                    <a:lnTo>
                      <a:pt x="1466" y="178"/>
                    </a:lnTo>
                    <a:lnTo>
                      <a:pt x="1472" y="200"/>
                    </a:lnTo>
                    <a:lnTo>
                      <a:pt x="1478" y="222"/>
                    </a:lnTo>
                    <a:lnTo>
                      <a:pt x="1481" y="245"/>
                    </a:lnTo>
                    <a:lnTo>
                      <a:pt x="1485" y="268"/>
                    </a:lnTo>
                    <a:lnTo>
                      <a:pt x="1487" y="291"/>
                    </a:lnTo>
                    <a:lnTo>
                      <a:pt x="1490" y="314"/>
                    </a:lnTo>
                    <a:lnTo>
                      <a:pt x="1491" y="337"/>
                    </a:lnTo>
                    <a:lnTo>
                      <a:pt x="1492" y="361"/>
                    </a:lnTo>
                    <a:lnTo>
                      <a:pt x="1491" y="397"/>
                    </a:lnTo>
                    <a:lnTo>
                      <a:pt x="1487" y="433"/>
                    </a:lnTo>
                    <a:lnTo>
                      <a:pt x="1484" y="467"/>
                    </a:lnTo>
                    <a:lnTo>
                      <a:pt x="1477" y="502"/>
                    </a:lnTo>
                    <a:lnTo>
                      <a:pt x="1469" y="535"/>
                    </a:lnTo>
                    <a:lnTo>
                      <a:pt x="1460" y="569"/>
                    </a:lnTo>
                    <a:lnTo>
                      <a:pt x="1449" y="601"/>
                    </a:lnTo>
                    <a:lnTo>
                      <a:pt x="1436" y="633"/>
                    </a:lnTo>
                    <a:lnTo>
                      <a:pt x="1423" y="664"/>
                    </a:lnTo>
                    <a:lnTo>
                      <a:pt x="1406" y="694"/>
                    </a:lnTo>
                    <a:lnTo>
                      <a:pt x="1390" y="723"/>
                    </a:lnTo>
                    <a:lnTo>
                      <a:pt x="1372" y="752"/>
                    </a:lnTo>
                    <a:lnTo>
                      <a:pt x="1352" y="778"/>
                    </a:lnTo>
                    <a:lnTo>
                      <a:pt x="1331" y="805"/>
                    </a:lnTo>
                    <a:lnTo>
                      <a:pt x="1310" y="830"/>
                    </a:lnTo>
                    <a:lnTo>
                      <a:pt x="1287" y="854"/>
                    </a:lnTo>
                    <a:lnTo>
                      <a:pt x="1262" y="878"/>
                    </a:lnTo>
                    <a:lnTo>
                      <a:pt x="1237" y="901"/>
                    </a:lnTo>
                    <a:lnTo>
                      <a:pt x="1210" y="921"/>
                    </a:lnTo>
                    <a:lnTo>
                      <a:pt x="1183" y="940"/>
                    </a:lnTo>
                    <a:lnTo>
                      <a:pt x="1155" y="958"/>
                    </a:lnTo>
                    <a:lnTo>
                      <a:pt x="1125" y="976"/>
                    </a:lnTo>
                    <a:lnTo>
                      <a:pt x="1095" y="991"/>
                    </a:lnTo>
                    <a:lnTo>
                      <a:pt x="1064" y="1004"/>
                    </a:lnTo>
                    <a:lnTo>
                      <a:pt x="1033" y="1017"/>
                    </a:lnTo>
                    <a:lnTo>
                      <a:pt x="1000" y="1029"/>
                    </a:lnTo>
                    <a:lnTo>
                      <a:pt x="967" y="1038"/>
                    </a:lnTo>
                    <a:lnTo>
                      <a:pt x="934" y="1046"/>
                    </a:lnTo>
                    <a:lnTo>
                      <a:pt x="899" y="1052"/>
                    </a:lnTo>
                    <a:lnTo>
                      <a:pt x="863" y="1056"/>
                    </a:lnTo>
                    <a:lnTo>
                      <a:pt x="829" y="1059"/>
                    </a:lnTo>
                    <a:lnTo>
                      <a:pt x="792" y="1060"/>
                    </a:lnTo>
                    <a:lnTo>
                      <a:pt x="756" y="1059"/>
                    </a:lnTo>
                    <a:lnTo>
                      <a:pt x="720" y="1056"/>
                    </a:lnTo>
                    <a:lnTo>
                      <a:pt x="686" y="1052"/>
                    </a:lnTo>
                    <a:lnTo>
                      <a:pt x="651" y="1046"/>
                    </a:lnTo>
                    <a:lnTo>
                      <a:pt x="618" y="1038"/>
                    </a:lnTo>
                    <a:lnTo>
                      <a:pt x="584" y="1029"/>
                    </a:lnTo>
                    <a:lnTo>
                      <a:pt x="552" y="1017"/>
                    </a:lnTo>
                    <a:lnTo>
                      <a:pt x="519" y="1004"/>
                    </a:lnTo>
                    <a:lnTo>
                      <a:pt x="490" y="991"/>
                    </a:lnTo>
                    <a:lnTo>
                      <a:pt x="458" y="976"/>
                    </a:lnTo>
                    <a:lnTo>
                      <a:pt x="430" y="958"/>
                    </a:lnTo>
                    <a:lnTo>
                      <a:pt x="402" y="940"/>
                    </a:lnTo>
                    <a:lnTo>
                      <a:pt x="374" y="921"/>
                    </a:lnTo>
                    <a:lnTo>
                      <a:pt x="348" y="901"/>
                    </a:lnTo>
                    <a:lnTo>
                      <a:pt x="322" y="878"/>
                    </a:lnTo>
                    <a:lnTo>
                      <a:pt x="298" y="854"/>
                    </a:lnTo>
                    <a:lnTo>
                      <a:pt x="275" y="830"/>
                    </a:lnTo>
                    <a:lnTo>
                      <a:pt x="253" y="805"/>
                    </a:lnTo>
                    <a:lnTo>
                      <a:pt x="232" y="778"/>
                    </a:lnTo>
                    <a:lnTo>
                      <a:pt x="213" y="752"/>
                    </a:lnTo>
                    <a:lnTo>
                      <a:pt x="194" y="723"/>
                    </a:lnTo>
                    <a:lnTo>
                      <a:pt x="177" y="694"/>
                    </a:lnTo>
                    <a:lnTo>
                      <a:pt x="162" y="664"/>
                    </a:lnTo>
                    <a:lnTo>
                      <a:pt x="148" y="633"/>
                    </a:lnTo>
                    <a:lnTo>
                      <a:pt x="135" y="601"/>
                    </a:lnTo>
                    <a:lnTo>
                      <a:pt x="125" y="569"/>
                    </a:lnTo>
                    <a:lnTo>
                      <a:pt x="115" y="535"/>
                    </a:lnTo>
                    <a:lnTo>
                      <a:pt x="108" y="502"/>
                    </a:lnTo>
                    <a:lnTo>
                      <a:pt x="101" y="467"/>
                    </a:lnTo>
                    <a:lnTo>
                      <a:pt x="96" y="433"/>
                    </a:lnTo>
                    <a:lnTo>
                      <a:pt x="94" y="397"/>
                    </a:lnTo>
                    <a:lnTo>
                      <a:pt x="93" y="361"/>
                    </a:lnTo>
                    <a:lnTo>
                      <a:pt x="93" y="346"/>
                    </a:lnTo>
                    <a:lnTo>
                      <a:pt x="94" y="331"/>
                    </a:lnTo>
                    <a:lnTo>
                      <a:pt x="94" y="317"/>
                    </a:lnTo>
                    <a:lnTo>
                      <a:pt x="95" y="302"/>
                    </a:lnTo>
                    <a:lnTo>
                      <a:pt x="97" y="288"/>
                    </a:lnTo>
                    <a:lnTo>
                      <a:pt x="98" y="274"/>
                    </a:lnTo>
                    <a:lnTo>
                      <a:pt x="101" y="260"/>
                    </a:lnTo>
                    <a:lnTo>
                      <a:pt x="103" y="245"/>
                    </a:lnTo>
                    <a:lnTo>
                      <a:pt x="5" y="268"/>
                    </a:lnTo>
                    <a:lnTo>
                      <a:pt x="4" y="279"/>
                    </a:lnTo>
                    <a:lnTo>
                      <a:pt x="3" y="291"/>
                    </a:lnTo>
                    <a:lnTo>
                      <a:pt x="2" y="302"/>
                    </a:lnTo>
                    <a:lnTo>
                      <a:pt x="2" y="314"/>
                    </a:lnTo>
                    <a:lnTo>
                      <a:pt x="0" y="325"/>
                    </a:lnTo>
                    <a:lnTo>
                      <a:pt x="0" y="337"/>
                    </a:lnTo>
                    <a:lnTo>
                      <a:pt x="0" y="350"/>
                    </a:lnTo>
                    <a:lnTo>
                      <a:pt x="0" y="361"/>
                    </a:lnTo>
                    <a:lnTo>
                      <a:pt x="0" y="401"/>
                    </a:lnTo>
                    <a:lnTo>
                      <a:pt x="4" y="442"/>
                    </a:lnTo>
                    <a:lnTo>
                      <a:pt x="9" y="481"/>
                    </a:lnTo>
                    <a:lnTo>
                      <a:pt x="15" y="520"/>
                    </a:lnTo>
                    <a:lnTo>
                      <a:pt x="25" y="559"/>
                    </a:lnTo>
                    <a:lnTo>
                      <a:pt x="35" y="596"/>
                    </a:lnTo>
                    <a:lnTo>
                      <a:pt x="48" y="633"/>
                    </a:lnTo>
                    <a:lnTo>
                      <a:pt x="62" y="669"/>
                    </a:lnTo>
                    <a:lnTo>
                      <a:pt x="78" y="705"/>
                    </a:lnTo>
                    <a:lnTo>
                      <a:pt x="95" y="738"/>
                    </a:lnTo>
                    <a:lnTo>
                      <a:pt x="115" y="771"/>
                    </a:lnTo>
                    <a:lnTo>
                      <a:pt x="135" y="804"/>
                    </a:lnTo>
                    <a:lnTo>
                      <a:pt x="157" y="835"/>
                    </a:lnTo>
                    <a:lnTo>
                      <a:pt x="180" y="865"/>
                    </a:lnTo>
                    <a:lnTo>
                      <a:pt x="206" y="894"/>
                    </a:lnTo>
                    <a:lnTo>
                      <a:pt x="232" y="921"/>
                    </a:lnTo>
                    <a:lnTo>
                      <a:pt x="259" y="947"/>
                    </a:lnTo>
                    <a:lnTo>
                      <a:pt x="288" y="972"/>
                    </a:lnTo>
                    <a:lnTo>
                      <a:pt x="318" y="995"/>
                    </a:lnTo>
                    <a:lnTo>
                      <a:pt x="349" y="1017"/>
                    </a:lnTo>
                    <a:lnTo>
                      <a:pt x="381" y="1038"/>
                    </a:lnTo>
                    <a:lnTo>
                      <a:pt x="415" y="1057"/>
                    </a:lnTo>
                    <a:lnTo>
                      <a:pt x="449" y="1075"/>
                    </a:lnTo>
                    <a:lnTo>
                      <a:pt x="484" y="1091"/>
                    </a:lnTo>
                    <a:lnTo>
                      <a:pt x="519" y="1105"/>
                    </a:lnTo>
                    <a:lnTo>
                      <a:pt x="556" y="1117"/>
                    </a:lnTo>
                    <a:lnTo>
                      <a:pt x="594" y="1128"/>
                    </a:lnTo>
                    <a:lnTo>
                      <a:pt x="633" y="1137"/>
                    </a:lnTo>
                    <a:lnTo>
                      <a:pt x="672" y="1144"/>
                    </a:lnTo>
                    <a:lnTo>
                      <a:pt x="711" y="1148"/>
                    </a:lnTo>
                    <a:lnTo>
                      <a:pt x="751" y="1152"/>
                    </a:lnTo>
                    <a:lnTo>
                      <a:pt x="792" y="1153"/>
                    </a:lnTo>
                    <a:lnTo>
                      <a:pt x="833" y="1152"/>
                    </a:lnTo>
                    <a:lnTo>
                      <a:pt x="874" y="1148"/>
                    </a:lnTo>
                    <a:lnTo>
                      <a:pt x="913" y="1144"/>
                    </a:lnTo>
                    <a:lnTo>
                      <a:pt x="952" y="1137"/>
                    </a:lnTo>
                    <a:lnTo>
                      <a:pt x="990" y="1128"/>
                    </a:lnTo>
                    <a:lnTo>
                      <a:pt x="1028" y="1117"/>
                    </a:lnTo>
                    <a:lnTo>
                      <a:pt x="1065" y="1105"/>
                    </a:lnTo>
                    <a:lnTo>
                      <a:pt x="1101" y="1091"/>
                    </a:lnTo>
                    <a:lnTo>
                      <a:pt x="1135" y="1075"/>
                    </a:lnTo>
                    <a:lnTo>
                      <a:pt x="1170" y="1057"/>
                    </a:lnTo>
                    <a:lnTo>
                      <a:pt x="1203" y="1038"/>
                    </a:lnTo>
                    <a:lnTo>
                      <a:pt x="1235" y="1017"/>
                    </a:lnTo>
                    <a:lnTo>
                      <a:pt x="1266" y="995"/>
                    </a:lnTo>
                    <a:lnTo>
                      <a:pt x="1296" y="972"/>
                    </a:lnTo>
                    <a:lnTo>
                      <a:pt x="1325" y="947"/>
                    </a:lnTo>
                    <a:lnTo>
                      <a:pt x="1352" y="921"/>
                    </a:lnTo>
                    <a:lnTo>
                      <a:pt x="1379" y="894"/>
                    </a:lnTo>
                    <a:lnTo>
                      <a:pt x="1403" y="865"/>
                    </a:lnTo>
                    <a:lnTo>
                      <a:pt x="1427" y="835"/>
                    </a:lnTo>
                    <a:lnTo>
                      <a:pt x="1449" y="804"/>
                    </a:lnTo>
                    <a:lnTo>
                      <a:pt x="1470" y="771"/>
                    </a:lnTo>
                    <a:lnTo>
                      <a:pt x="1488" y="738"/>
                    </a:lnTo>
                    <a:lnTo>
                      <a:pt x="1507" y="705"/>
                    </a:lnTo>
                    <a:lnTo>
                      <a:pt x="1522" y="669"/>
                    </a:lnTo>
                    <a:lnTo>
                      <a:pt x="1537" y="633"/>
                    </a:lnTo>
                    <a:lnTo>
                      <a:pt x="1548" y="596"/>
                    </a:lnTo>
                    <a:lnTo>
                      <a:pt x="1560" y="559"/>
                    </a:lnTo>
                    <a:lnTo>
                      <a:pt x="1568" y="520"/>
                    </a:lnTo>
                    <a:lnTo>
                      <a:pt x="1575" y="481"/>
                    </a:lnTo>
                    <a:lnTo>
                      <a:pt x="1581" y="442"/>
                    </a:lnTo>
                    <a:lnTo>
                      <a:pt x="1584" y="401"/>
                    </a:lnTo>
                    <a:lnTo>
                      <a:pt x="1584" y="36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6560" y="4179960"/>
                <a:ext cx="393480" cy="288720"/>
              </a:xfrm>
              <a:custGeom>
                <a:avLst/>
                <a:gdLst/>
                <a:ahLst/>
                <a:rect l="l" t="t" r="r" b="b"/>
                <a:pathLst>
                  <a:path w="1491" h="1094">
                    <a:moveTo>
                      <a:pt x="1491" y="349"/>
                    </a:moveTo>
                    <a:lnTo>
                      <a:pt x="1491" y="325"/>
                    </a:lnTo>
                    <a:lnTo>
                      <a:pt x="1490" y="302"/>
                    </a:lnTo>
                    <a:lnTo>
                      <a:pt x="1487" y="279"/>
                    </a:lnTo>
                    <a:lnTo>
                      <a:pt x="1485" y="256"/>
                    </a:lnTo>
                    <a:lnTo>
                      <a:pt x="1482" y="233"/>
                    </a:lnTo>
                    <a:lnTo>
                      <a:pt x="1478" y="211"/>
                    </a:lnTo>
                    <a:lnTo>
                      <a:pt x="1474" y="188"/>
                    </a:lnTo>
                    <a:lnTo>
                      <a:pt x="1468" y="166"/>
                    </a:lnTo>
                    <a:lnTo>
                      <a:pt x="1462" y="144"/>
                    </a:lnTo>
                    <a:lnTo>
                      <a:pt x="1455" y="122"/>
                    </a:lnTo>
                    <a:lnTo>
                      <a:pt x="1448" y="101"/>
                    </a:lnTo>
                    <a:lnTo>
                      <a:pt x="1441" y="81"/>
                    </a:lnTo>
                    <a:lnTo>
                      <a:pt x="1432" y="60"/>
                    </a:lnTo>
                    <a:lnTo>
                      <a:pt x="1424" y="39"/>
                    </a:lnTo>
                    <a:lnTo>
                      <a:pt x="1414" y="19"/>
                    </a:lnTo>
                    <a:lnTo>
                      <a:pt x="1404" y="0"/>
                    </a:lnTo>
                    <a:lnTo>
                      <a:pt x="1401" y="0"/>
                    </a:lnTo>
                    <a:lnTo>
                      <a:pt x="1296" y="0"/>
                    </a:lnTo>
                    <a:lnTo>
                      <a:pt x="1309" y="19"/>
                    </a:lnTo>
                    <a:lnTo>
                      <a:pt x="1319" y="39"/>
                    </a:lnTo>
                    <a:lnTo>
                      <a:pt x="1329" y="59"/>
                    </a:lnTo>
                    <a:lnTo>
                      <a:pt x="1340" y="79"/>
                    </a:lnTo>
                    <a:lnTo>
                      <a:pt x="1348" y="100"/>
                    </a:lnTo>
                    <a:lnTo>
                      <a:pt x="1357" y="121"/>
                    </a:lnTo>
                    <a:lnTo>
                      <a:pt x="1364" y="143"/>
                    </a:lnTo>
                    <a:lnTo>
                      <a:pt x="1371" y="165"/>
                    </a:lnTo>
                    <a:lnTo>
                      <a:pt x="1377" y="187"/>
                    </a:lnTo>
                    <a:lnTo>
                      <a:pt x="1383" y="208"/>
                    </a:lnTo>
                    <a:lnTo>
                      <a:pt x="1387" y="232"/>
                    </a:lnTo>
                    <a:lnTo>
                      <a:pt x="1391" y="255"/>
                    </a:lnTo>
                    <a:lnTo>
                      <a:pt x="1394" y="278"/>
                    </a:lnTo>
                    <a:lnTo>
                      <a:pt x="1396" y="301"/>
                    </a:lnTo>
                    <a:lnTo>
                      <a:pt x="1398" y="325"/>
                    </a:lnTo>
                    <a:lnTo>
                      <a:pt x="1398" y="349"/>
                    </a:lnTo>
                    <a:lnTo>
                      <a:pt x="1396" y="383"/>
                    </a:lnTo>
                    <a:lnTo>
                      <a:pt x="1394" y="416"/>
                    </a:lnTo>
                    <a:lnTo>
                      <a:pt x="1391" y="448"/>
                    </a:lnTo>
                    <a:lnTo>
                      <a:pt x="1385" y="481"/>
                    </a:lnTo>
                    <a:lnTo>
                      <a:pt x="1377" y="512"/>
                    </a:lnTo>
                    <a:lnTo>
                      <a:pt x="1369" y="543"/>
                    </a:lnTo>
                    <a:lnTo>
                      <a:pt x="1358" y="573"/>
                    </a:lnTo>
                    <a:lnTo>
                      <a:pt x="1347" y="603"/>
                    </a:lnTo>
                    <a:lnTo>
                      <a:pt x="1333" y="632"/>
                    </a:lnTo>
                    <a:lnTo>
                      <a:pt x="1319" y="659"/>
                    </a:lnTo>
                    <a:lnTo>
                      <a:pt x="1303" y="687"/>
                    </a:lnTo>
                    <a:lnTo>
                      <a:pt x="1286" y="713"/>
                    </a:lnTo>
                    <a:lnTo>
                      <a:pt x="1268" y="739"/>
                    </a:lnTo>
                    <a:lnTo>
                      <a:pt x="1249" y="764"/>
                    </a:lnTo>
                    <a:lnTo>
                      <a:pt x="1228" y="787"/>
                    </a:lnTo>
                    <a:lnTo>
                      <a:pt x="1206" y="810"/>
                    </a:lnTo>
                    <a:lnTo>
                      <a:pt x="1184" y="832"/>
                    </a:lnTo>
                    <a:lnTo>
                      <a:pt x="1160" y="852"/>
                    </a:lnTo>
                    <a:lnTo>
                      <a:pt x="1136" y="871"/>
                    </a:lnTo>
                    <a:lnTo>
                      <a:pt x="1110" y="890"/>
                    </a:lnTo>
                    <a:lnTo>
                      <a:pt x="1084" y="907"/>
                    </a:lnTo>
                    <a:lnTo>
                      <a:pt x="1056" y="922"/>
                    </a:lnTo>
                    <a:lnTo>
                      <a:pt x="1028" y="937"/>
                    </a:lnTo>
                    <a:lnTo>
                      <a:pt x="1000" y="950"/>
                    </a:lnTo>
                    <a:lnTo>
                      <a:pt x="970" y="961"/>
                    </a:lnTo>
                    <a:lnTo>
                      <a:pt x="940" y="972"/>
                    </a:lnTo>
                    <a:lnTo>
                      <a:pt x="908" y="981"/>
                    </a:lnTo>
                    <a:lnTo>
                      <a:pt x="876" y="988"/>
                    </a:lnTo>
                    <a:lnTo>
                      <a:pt x="844" y="994"/>
                    </a:lnTo>
                    <a:lnTo>
                      <a:pt x="812" y="998"/>
                    </a:lnTo>
                    <a:lnTo>
                      <a:pt x="778" y="1000"/>
                    </a:lnTo>
                    <a:lnTo>
                      <a:pt x="745" y="1000"/>
                    </a:lnTo>
                    <a:lnTo>
                      <a:pt x="711" y="1000"/>
                    </a:lnTo>
                    <a:lnTo>
                      <a:pt x="679" y="998"/>
                    </a:lnTo>
                    <a:lnTo>
                      <a:pt x="646" y="994"/>
                    </a:lnTo>
                    <a:lnTo>
                      <a:pt x="613" y="988"/>
                    </a:lnTo>
                    <a:lnTo>
                      <a:pt x="582" y="981"/>
                    </a:lnTo>
                    <a:lnTo>
                      <a:pt x="551" y="972"/>
                    </a:lnTo>
                    <a:lnTo>
                      <a:pt x="521" y="961"/>
                    </a:lnTo>
                    <a:lnTo>
                      <a:pt x="491" y="950"/>
                    </a:lnTo>
                    <a:lnTo>
                      <a:pt x="462" y="937"/>
                    </a:lnTo>
                    <a:lnTo>
                      <a:pt x="434" y="922"/>
                    </a:lnTo>
                    <a:lnTo>
                      <a:pt x="407" y="907"/>
                    </a:lnTo>
                    <a:lnTo>
                      <a:pt x="380" y="890"/>
                    </a:lnTo>
                    <a:lnTo>
                      <a:pt x="355" y="871"/>
                    </a:lnTo>
                    <a:lnTo>
                      <a:pt x="331" y="852"/>
                    </a:lnTo>
                    <a:lnTo>
                      <a:pt x="306" y="832"/>
                    </a:lnTo>
                    <a:lnTo>
                      <a:pt x="283" y="810"/>
                    </a:lnTo>
                    <a:lnTo>
                      <a:pt x="263" y="787"/>
                    </a:lnTo>
                    <a:lnTo>
                      <a:pt x="242" y="764"/>
                    </a:lnTo>
                    <a:lnTo>
                      <a:pt x="222" y="739"/>
                    </a:lnTo>
                    <a:lnTo>
                      <a:pt x="204" y="713"/>
                    </a:lnTo>
                    <a:lnTo>
                      <a:pt x="188" y="687"/>
                    </a:lnTo>
                    <a:lnTo>
                      <a:pt x="171" y="659"/>
                    </a:lnTo>
                    <a:lnTo>
                      <a:pt x="156" y="632"/>
                    </a:lnTo>
                    <a:lnTo>
                      <a:pt x="144" y="603"/>
                    </a:lnTo>
                    <a:lnTo>
                      <a:pt x="132" y="573"/>
                    </a:lnTo>
                    <a:lnTo>
                      <a:pt x="122" y="543"/>
                    </a:lnTo>
                    <a:lnTo>
                      <a:pt x="113" y="512"/>
                    </a:lnTo>
                    <a:lnTo>
                      <a:pt x="106" y="481"/>
                    </a:lnTo>
                    <a:lnTo>
                      <a:pt x="100" y="448"/>
                    </a:lnTo>
                    <a:lnTo>
                      <a:pt x="96" y="416"/>
                    </a:lnTo>
                    <a:lnTo>
                      <a:pt x="93" y="383"/>
                    </a:lnTo>
                    <a:lnTo>
                      <a:pt x="93" y="349"/>
                    </a:lnTo>
                    <a:lnTo>
                      <a:pt x="93" y="333"/>
                    </a:lnTo>
                    <a:lnTo>
                      <a:pt x="93" y="316"/>
                    </a:lnTo>
                    <a:lnTo>
                      <a:pt x="94" y="300"/>
                    </a:lnTo>
                    <a:lnTo>
                      <a:pt x="96" y="283"/>
                    </a:lnTo>
                    <a:lnTo>
                      <a:pt x="98" y="267"/>
                    </a:lnTo>
                    <a:lnTo>
                      <a:pt x="100" y="251"/>
                    </a:lnTo>
                    <a:lnTo>
                      <a:pt x="102" y="236"/>
                    </a:lnTo>
                    <a:lnTo>
                      <a:pt x="106" y="220"/>
                    </a:lnTo>
                    <a:lnTo>
                      <a:pt x="62" y="232"/>
                    </a:lnTo>
                    <a:lnTo>
                      <a:pt x="7" y="244"/>
                    </a:lnTo>
                    <a:lnTo>
                      <a:pt x="5" y="258"/>
                    </a:lnTo>
                    <a:lnTo>
                      <a:pt x="4" y="271"/>
                    </a:lnTo>
                    <a:lnTo>
                      <a:pt x="2" y="283"/>
                    </a:lnTo>
                    <a:lnTo>
                      <a:pt x="2" y="296"/>
                    </a:lnTo>
                    <a:lnTo>
                      <a:pt x="1" y="309"/>
                    </a:lnTo>
                    <a:lnTo>
                      <a:pt x="0" y="323"/>
                    </a:lnTo>
                    <a:lnTo>
                      <a:pt x="0" y="335"/>
                    </a:lnTo>
                    <a:lnTo>
                      <a:pt x="0" y="349"/>
                    </a:lnTo>
                    <a:lnTo>
                      <a:pt x="1" y="387"/>
                    </a:lnTo>
                    <a:lnTo>
                      <a:pt x="3" y="425"/>
                    </a:lnTo>
                    <a:lnTo>
                      <a:pt x="8" y="462"/>
                    </a:lnTo>
                    <a:lnTo>
                      <a:pt x="15" y="499"/>
                    </a:lnTo>
                    <a:lnTo>
                      <a:pt x="23" y="535"/>
                    </a:lnTo>
                    <a:lnTo>
                      <a:pt x="33" y="570"/>
                    </a:lnTo>
                    <a:lnTo>
                      <a:pt x="45" y="605"/>
                    </a:lnTo>
                    <a:lnTo>
                      <a:pt x="58" y="638"/>
                    </a:lnTo>
                    <a:lnTo>
                      <a:pt x="73" y="672"/>
                    </a:lnTo>
                    <a:lnTo>
                      <a:pt x="90" y="704"/>
                    </a:lnTo>
                    <a:lnTo>
                      <a:pt x="107" y="735"/>
                    </a:lnTo>
                    <a:lnTo>
                      <a:pt x="126" y="765"/>
                    </a:lnTo>
                    <a:lnTo>
                      <a:pt x="147" y="795"/>
                    </a:lnTo>
                    <a:lnTo>
                      <a:pt x="170" y="823"/>
                    </a:lnTo>
                    <a:lnTo>
                      <a:pt x="193" y="851"/>
                    </a:lnTo>
                    <a:lnTo>
                      <a:pt x="218" y="876"/>
                    </a:lnTo>
                    <a:lnTo>
                      <a:pt x="244" y="900"/>
                    </a:lnTo>
                    <a:lnTo>
                      <a:pt x="271" y="924"/>
                    </a:lnTo>
                    <a:lnTo>
                      <a:pt x="299" y="946"/>
                    </a:lnTo>
                    <a:lnTo>
                      <a:pt x="328" y="967"/>
                    </a:lnTo>
                    <a:lnTo>
                      <a:pt x="358" y="987"/>
                    </a:lnTo>
                    <a:lnTo>
                      <a:pt x="389" y="1004"/>
                    </a:lnTo>
                    <a:lnTo>
                      <a:pt x="422" y="1021"/>
                    </a:lnTo>
                    <a:lnTo>
                      <a:pt x="455" y="1036"/>
                    </a:lnTo>
                    <a:lnTo>
                      <a:pt x="489" y="1049"/>
                    </a:lnTo>
                    <a:lnTo>
                      <a:pt x="523" y="1060"/>
                    </a:lnTo>
                    <a:lnTo>
                      <a:pt x="559" y="1071"/>
                    </a:lnTo>
                    <a:lnTo>
                      <a:pt x="595" y="1079"/>
                    </a:lnTo>
                    <a:lnTo>
                      <a:pt x="632" y="1086"/>
                    </a:lnTo>
                    <a:lnTo>
                      <a:pt x="669" y="1090"/>
                    </a:lnTo>
                    <a:lnTo>
                      <a:pt x="707" y="1093"/>
                    </a:lnTo>
                    <a:lnTo>
                      <a:pt x="745" y="1094"/>
                    </a:lnTo>
                    <a:lnTo>
                      <a:pt x="784" y="1093"/>
                    </a:lnTo>
                    <a:lnTo>
                      <a:pt x="821" y="1090"/>
                    </a:lnTo>
                    <a:lnTo>
                      <a:pt x="859" y="1086"/>
                    </a:lnTo>
                    <a:lnTo>
                      <a:pt x="896" y="1079"/>
                    </a:lnTo>
                    <a:lnTo>
                      <a:pt x="932" y="1071"/>
                    </a:lnTo>
                    <a:lnTo>
                      <a:pt x="967" y="1060"/>
                    </a:lnTo>
                    <a:lnTo>
                      <a:pt x="1002" y="1049"/>
                    </a:lnTo>
                    <a:lnTo>
                      <a:pt x="1035" y="1036"/>
                    </a:lnTo>
                    <a:lnTo>
                      <a:pt x="1069" y="1021"/>
                    </a:lnTo>
                    <a:lnTo>
                      <a:pt x="1101" y="1004"/>
                    </a:lnTo>
                    <a:lnTo>
                      <a:pt x="1132" y="987"/>
                    </a:lnTo>
                    <a:lnTo>
                      <a:pt x="1162" y="967"/>
                    </a:lnTo>
                    <a:lnTo>
                      <a:pt x="1191" y="946"/>
                    </a:lnTo>
                    <a:lnTo>
                      <a:pt x="1220" y="924"/>
                    </a:lnTo>
                    <a:lnTo>
                      <a:pt x="1246" y="900"/>
                    </a:lnTo>
                    <a:lnTo>
                      <a:pt x="1273" y="876"/>
                    </a:lnTo>
                    <a:lnTo>
                      <a:pt x="1297" y="851"/>
                    </a:lnTo>
                    <a:lnTo>
                      <a:pt x="1320" y="823"/>
                    </a:lnTo>
                    <a:lnTo>
                      <a:pt x="1342" y="795"/>
                    </a:lnTo>
                    <a:lnTo>
                      <a:pt x="1364" y="765"/>
                    </a:lnTo>
                    <a:lnTo>
                      <a:pt x="1383" y="735"/>
                    </a:lnTo>
                    <a:lnTo>
                      <a:pt x="1401" y="704"/>
                    </a:lnTo>
                    <a:lnTo>
                      <a:pt x="1417" y="672"/>
                    </a:lnTo>
                    <a:lnTo>
                      <a:pt x="1432" y="638"/>
                    </a:lnTo>
                    <a:lnTo>
                      <a:pt x="1446" y="605"/>
                    </a:lnTo>
                    <a:lnTo>
                      <a:pt x="1458" y="570"/>
                    </a:lnTo>
                    <a:lnTo>
                      <a:pt x="1468" y="535"/>
                    </a:lnTo>
                    <a:lnTo>
                      <a:pt x="1476" y="499"/>
                    </a:lnTo>
                    <a:lnTo>
                      <a:pt x="1482" y="462"/>
                    </a:lnTo>
                    <a:lnTo>
                      <a:pt x="1487" y="425"/>
                    </a:lnTo>
                    <a:lnTo>
                      <a:pt x="1490" y="387"/>
                    </a:lnTo>
                    <a:lnTo>
                      <a:pt x="1491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7720" y="4179960"/>
                <a:ext cx="369720" cy="277920"/>
              </a:xfrm>
              <a:custGeom>
                <a:avLst/>
                <a:gdLst/>
                <a:ahLst/>
                <a:rect l="l" t="t" r="r" b="b"/>
                <a:pathLst>
                  <a:path w="1399" h="1048">
                    <a:moveTo>
                      <a:pt x="1399" y="349"/>
                    </a:moveTo>
                    <a:lnTo>
                      <a:pt x="1398" y="325"/>
                    </a:lnTo>
                    <a:lnTo>
                      <a:pt x="1397" y="302"/>
                    </a:lnTo>
                    <a:lnTo>
                      <a:pt x="1394" y="279"/>
                    </a:lnTo>
                    <a:lnTo>
                      <a:pt x="1392" y="256"/>
                    </a:lnTo>
                    <a:lnTo>
                      <a:pt x="1388" y="233"/>
                    </a:lnTo>
                    <a:lnTo>
                      <a:pt x="1385" y="210"/>
                    </a:lnTo>
                    <a:lnTo>
                      <a:pt x="1379" y="188"/>
                    </a:lnTo>
                    <a:lnTo>
                      <a:pt x="1373" y="166"/>
                    </a:lnTo>
                    <a:lnTo>
                      <a:pt x="1368" y="144"/>
                    </a:lnTo>
                    <a:lnTo>
                      <a:pt x="1361" y="122"/>
                    </a:lnTo>
                    <a:lnTo>
                      <a:pt x="1353" y="101"/>
                    </a:lnTo>
                    <a:lnTo>
                      <a:pt x="1345" y="79"/>
                    </a:lnTo>
                    <a:lnTo>
                      <a:pt x="1335" y="60"/>
                    </a:lnTo>
                    <a:lnTo>
                      <a:pt x="1326" y="39"/>
                    </a:lnTo>
                    <a:lnTo>
                      <a:pt x="1316" y="19"/>
                    </a:lnTo>
                    <a:lnTo>
                      <a:pt x="1305" y="0"/>
                    </a:lnTo>
                    <a:lnTo>
                      <a:pt x="1241" y="0"/>
                    </a:lnTo>
                    <a:lnTo>
                      <a:pt x="1202" y="10"/>
                    </a:lnTo>
                    <a:lnTo>
                      <a:pt x="1213" y="29"/>
                    </a:lnTo>
                    <a:lnTo>
                      <a:pt x="1225" y="47"/>
                    </a:lnTo>
                    <a:lnTo>
                      <a:pt x="1235" y="67"/>
                    </a:lnTo>
                    <a:lnTo>
                      <a:pt x="1245" y="86"/>
                    </a:lnTo>
                    <a:lnTo>
                      <a:pt x="1255" y="106"/>
                    </a:lnTo>
                    <a:lnTo>
                      <a:pt x="1263" y="127"/>
                    </a:lnTo>
                    <a:lnTo>
                      <a:pt x="1271" y="147"/>
                    </a:lnTo>
                    <a:lnTo>
                      <a:pt x="1278" y="169"/>
                    </a:lnTo>
                    <a:lnTo>
                      <a:pt x="1283" y="190"/>
                    </a:lnTo>
                    <a:lnTo>
                      <a:pt x="1289" y="212"/>
                    </a:lnTo>
                    <a:lnTo>
                      <a:pt x="1294" y="234"/>
                    </a:lnTo>
                    <a:lnTo>
                      <a:pt x="1298" y="257"/>
                    </a:lnTo>
                    <a:lnTo>
                      <a:pt x="1301" y="279"/>
                    </a:lnTo>
                    <a:lnTo>
                      <a:pt x="1303" y="302"/>
                    </a:lnTo>
                    <a:lnTo>
                      <a:pt x="1304" y="325"/>
                    </a:lnTo>
                    <a:lnTo>
                      <a:pt x="1305" y="349"/>
                    </a:lnTo>
                    <a:lnTo>
                      <a:pt x="1304" y="380"/>
                    </a:lnTo>
                    <a:lnTo>
                      <a:pt x="1302" y="411"/>
                    </a:lnTo>
                    <a:lnTo>
                      <a:pt x="1298" y="441"/>
                    </a:lnTo>
                    <a:lnTo>
                      <a:pt x="1293" y="471"/>
                    </a:lnTo>
                    <a:lnTo>
                      <a:pt x="1286" y="500"/>
                    </a:lnTo>
                    <a:lnTo>
                      <a:pt x="1278" y="529"/>
                    </a:lnTo>
                    <a:lnTo>
                      <a:pt x="1268" y="557"/>
                    </a:lnTo>
                    <a:lnTo>
                      <a:pt x="1257" y="584"/>
                    </a:lnTo>
                    <a:lnTo>
                      <a:pt x="1245" y="612"/>
                    </a:lnTo>
                    <a:lnTo>
                      <a:pt x="1232" y="637"/>
                    </a:lnTo>
                    <a:lnTo>
                      <a:pt x="1218" y="663"/>
                    </a:lnTo>
                    <a:lnTo>
                      <a:pt x="1202" y="687"/>
                    </a:lnTo>
                    <a:lnTo>
                      <a:pt x="1184" y="711"/>
                    </a:lnTo>
                    <a:lnTo>
                      <a:pt x="1167" y="734"/>
                    </a:lnTo>
                    <a:lnTo>
                      <a:pt x="1147" y="756"/>
                    </a:lnTo>
                    <a:lnTo>
                      <a:pt x="1128" y="777"/>
                    </a:lnTo>
                    <a:lnTo>
                      <a:pt x="1107" y="798"/>
                    </a:lnTo>
                    <a:lnTo>
                      <a:pt x="1084" y="816"/>
                    </a:lnTo>
                    <a:lnTo>
                      <a:pt x="1062" y="834"/>
                    </a:lnTo>
                    <a:lnTo>
                      <a:pt x="1038" y="851"/>
                    </a:lnTo>
                    <a:lnTo>
                      <a:pt x="1014" y="867"/>
                    </a:lnTo>
                    <a:lnTo>
                      <a:pt x="988" y="882"/>
                    </a:lnTo>
                    <a:lnTo>
                      <a:pt x="962" y="894"/>
                    </a:lnTo>
                    <a:lnTo>
                      <a:pt x="935" y="907"/>
                    </a:lnTo>
                    <a:lnTo>
                      <a:pt x="907" y="917"/>
                    </a:lnTo>
                    <a:lnTo>
                      <a:pt x="880" y="927"/>
                    </a:lnTo>
                    <a:lnTo>
                      <a:pt x="851" y="936"/>
                    </a:lnTo>
                    <a:lnTo>
                      <a:pt x="821" y="942"/>
                    </a:lnTo>
                    <a:lnTo>
                      <a:pt x="791" y="947"/>
                    </a:lnTo>
                    <a:lnTo>
                      <a:pt x="761" y="951"/>
                    </a:lnTo>
                    <a:lnTo>
                      <a:pt x="730" y="953"/>
                    </a:lnTo>
                    <a:lnTo>
                      <a:pt x="699" y="954"/>
                    </a:lnTo>
                    <a:lnTo>
                      <a:pt x="668" y="953"/>
                    </a:lnTo>
                    <a:lnTo>
                      <a:pt x="638" y="951"/>
                    </a:lnTo>
                    <a:lnTo>
                      <a:pt x="606" y="947"/>
                    </a:lnTo>
                    <a:lnTo>
                      <a:pt x="578" y="942"/>
                    </a:lnTo>
                    <a:lnTo>
                      <a:pt x="548" y="936"/>
                    </a:lnTo>
                    <a:lnTo>
                      <a:pt x="519" y="927"/>
                    </a:lnTo>
                    <a:lnTo>
                      <a:pt x="491" y="917"/>
                    </a:lnTo>
                    <a:lnTo>
                      <a:pt x="463" y="907"/>
                    </a:lnTo>
                    <a:lnTo>
                      <a:pt x="437" y="894"/>
                    </a:lnTo>
                    <a:lnTo>
                      <a:pt x="410" y="882"/>
                    </a:lnTo>
                    <a:lnTo>
                      <a:pt x="385" y="867"/>
                    </a:lnTo>
                    <a:lnTo>
                      <a:pt x="361" y="851"/>
                    </a:lnTo>
                    <a:lnTo>
                      <a:pt x="337" y="834"/>
                    </a:lnTo>
                    <a:lnTo>
                      <a:pt x="313" y="816"/>
                    </a:lnTo>
                    <a:lnTo>
                      <a:pt x="292" y="798"/>
                    </a:lnTo>
                    <a:lnTo>
                      <a:pt x="271" y="777"/>
                    </a:lnTo>
                    <a:lnTo>
                      <a:pt x="251" y="756"/>
                    </a:lnTo>
                    <a:lnTo>
                      <a:pt x="232" y="734"/>
                    </a:lnTo>
                    <a:lnTo>
                      <a:pt x="213" y="711"/>
                    </a:lnTo>
                    <a:lnTo>
                      <a:pt x="197" y="687"/>
                    </a:lnTo>
                    <a:lnTo>
                      <a:pt x="181" y="663"/>
                    </a:lnTo>
                    <a:lnTo>
                      <a:pt x="166" y="637"/>
                    </a:lnTo>
                    <a:lnTo>
                      <a:pt x="153" y="612"/>
                    </a:lnTo>
                    <a:lnTo>
                      <a:pt x="140" y="584"/>
                    </a:lnTo>
                    <a:lnTo>
                      <a:pt x="130" y="557"/>
                    </a:lnTo>
                    <a:lnTo>
                      <a:pt x="121" y="529"/>
                    </a:lnTo>
                    <a:lnTo>
                      <a:pt x="113" y="500"/>
                    </a:lnTo>
                    <a:lnTo>
                      <a:pt x="106" y="471"/>
                    </a:lnTo>
                    <a:lnTo>
                      <a:pt x="100" y="441"/>
                    </a:lnTo>
                    <a:lnTo>
                      <a:pt x="97" y="411"/>
                    </a:lnTo>
                    <a:lnTo>
                      <a:pt x="94" y="380"/>
                    </a:lnTo>
                    <a:lnTo>
                      <a:pt x="93" y="349"/>
                    </a:lnTo>
                    <a:lnTo>
                      <a:pt x="93" y="331"/>
                    </a:lnTo>
                    <a:lnTo>
                      <a:pt x="94" y="312"/>
                    </a:lnTo>
                    <a:lnTo>
                      <a:pt x="95" y="294"/>
                    </a:lnTo>
                    <a:lnTo>
                      <a:pt x="98" y="276"/>
                    </a:lnTo>
                    <a:lnTo>
                      <a:pt x="100" y="258"/>
                    </a:lnTo>
                    <a:lnTo>
                      <a:pt x="104" y="241"/>
                    </a:lnTo>
                    <a:lnTo>
                      <a:pt x="107" y="223"/>
                    </a:lnTo>
                    <a:lnTo>
                      <a:pt x="110" y="206"/>
                    </a:lnTo>
                    <a:lnTo>
                      <a:pt x="16" y="232"/>
                    </a:lnTo>
                    <a:lnTo>
                      <a:pt x="10" y="233"/>
                    </a:lnTo>
                    <a:lnTo>
                      <a:pt x="8" y="248"/>
                    </a:lnTo>
                    <a:lnTo>
                      <a:pt x="5" y="262"/>
                    </a:lnTo>
                    <a:lnTo>
                      <a:pt x="4" y="276"/>
                    </a:lnTo>
                    <a:lnTo>
                      <a:pt x="2" y="290"/>
                    </a:lnTo>
                    <a:lnTo>
                      <a:pt x="1" y="305"/>
                    </a:lnTo>
                    <a:lnTo>
                      <a:pt x="1" y="319"/>
                    </a:lnTo>
                    <a:lnTo>
                      <a:pt x="0" y="334"/>
                    </a:lnTo>
                    <a:lnTo>
                      <a:pt x="0" y="349"/>
                    </a:lnTo>
                    <a:lnTo>
                      <a:pt x="1" y="385"/>
                    </a:lnTo>
                    <a:lnTo>
                      <a:pt x="3" y="421"/>
                    </a:lnTo>
                    <a:lnTo>
                      <a:pt x="8" y="455"/>
                    </a:lnTo>
                    <a:lnTo>
                      <a:pt x="15" y="490"/>
                    </a:lnTo>
                    <a:lnTo>
                      <a:pt x="22" y="523"/>
                    </a:lnTo>
                    <a:lnTo>
                      <a:pt x="32" y="557"/>
                    </a:lnTo>
                    <a:lnTo>
                      <a:pt x="42" y="589"/>
                    </a:lnTo>
                    <a:lnTo>
                      <a:pt x="55" y="621"/>
                    </a:lnTo>
                    <a:lnTo>
                      <a:pt x="69" y="652"/>
                    </a:lnTo>
                    <a:lnTo>
                      <a:pt x="84" y="682"/>
                    </a:lnTo>
                    <a:lnTo>
                      <a:pt x="101" y="711"/>
                    </a:lnTo>
                    <a:lnTo>
                      <a:pt x="120" y="740"/>
                    </a:lnTo>
                    <a:lnTo>
                      <a:pt x="139" y="766"/>
                    </a:lnTo>
                    <a:lnTo>
                      <a:pt x="160" y="793"/>
                    </a:lnTo>
                    <a:lnTo>
                      <a:pt x="182" y="818"/>
                    </a:lnTo>
                    <a:lnTo>
                      <a:pt x="205" y="842"/>
                    </a:lnTo>
                    <a:lnTo>
                      <a:pt x="229" y="866"/>
                    </a:lnTo>
                    <a:lnTo>
                      <a:pt x="255" y="889"/>
                    </a:lnTo>
                    <a:lnTo>
                      <a:pt x="281" y="909"/>
                    </a:lnTo>
                    <a:lnTo>
                      <a:pt x="309" y="928"/>
                    </a:lnTo>
                    <a:lnTo>
                      <a:pt x="337" y="946"/>
                    </a:lnTo>
                    <a:lnTo>
                      <a:pt x="365" y="964"/>
                    </a:lnTo>
                    <a:lnTo>
                      <a:pt x="397" y="979"/>
                    </a:lnTo>
                    <a:lnTo>
                      <a:pt x="426" y="992"/>
                    </a:lnTo>
                    <a:lnTo>
                      <a:pt x="459" y="1005"/>
                    </a:lnTo>
                    <a:lnTo>
                      <a:pt x="491" y="1017"/>
                    </a:lnTo>
                    <a:lnTo>
                      <a:pt x="525" y="1026"/>
                    </a:lnTo>
                    <a:lnTo>
                      <a:pt x="558" y="1034"/>
                    </a:lnTo>
                    <a:lnTo>
                      <a:pt x="593" y="1040"/>
                    </a:lnTo>
                    <a:lnTo>
                      <a:pt x="627" y="1044"/>
                    </a:lnTo>
                    <a:lnTo>
                      <a:pt x="663" y="1047"/>
                    </a:lnTo>
                    <a:lnTo>
                      <a:pt x="699" y="1048"/>
                    </a:lnTo>
                    <a:lnTo>
                      <a:pt x="736" y="1047"/>
                    </a:lnTo>
                    <a:lnTo>
                      <a:pt x="770" y="1044"/>
                    </a:lnTo>
                    <a:lnTo>
                      <a:pt x="806" y="1040"/>
                    </a:lnTo>
                    <a:lnTo>
                      <a:pt x="841" y="1034"/>
                    </a:lnTo>
                    <a:lnTo>
                      <a:pt x="874" y="1026"/>
                    </a:lnTo>
                    <a:lnTo>
                      <a:pt x="907" y="1017"/>
                    </a:lnTo>
                    <a:lnTo>
                      <a:pt x="940" y="1005"/>
                    </a:lnTo>
                    <a:lnTo>
                      <a:pt x="971" y="992"/>
                    </a:lnTo>
                    <a:lnTo>
                      <a:pt x="1002" y="979"/>
                    </a:lnTo>
                    <a:lnTo>
                      <a:pt x="1032" y="964"/>
                    </a:lnTo>
                    <a:lnTo>
                      <a:pt x="1062" y="946"/>
                    </a:lnTo>
                    <a:lnTo>
                      <a:pt x="1090" y="928"/>
                    </a:lnTo>
                    <a:lnTo>
                      <a:pt x="1117" y="909"/>
                    </a:lnTo>
                    <a:lnTo>
                      <a:pt x="1144" y="889"/>
                    </a:lnTo>
                    <a:lnTo>
                      <a:pt x="1169" y="866"/>
                    </a:lnTo>
                    <a:lnTo>
                      <a:pt x="1194" y="842"/>
                    </a:lnTo>
                    <a:lnTo>
                      <a:pt x="1217" y="818"/>
                    </a:lnTo>
                    <a:lnTo>
                      <a:pt x="1238" y="793"/>
                    </a:lnTo>
                    <a:lnTo>
                      <a:pt x="1259" y="766"/>
                    </a:lnTo>
                    <a:lnTo>
                      <a:pt x="1279" y="740"/>
                    </a:lnTo>
                    <a:lnTo>
                      <a:pt x="1297" y="711"/>
                    </a:lnTo>
                    <a:lnTo>
                      <a:pt x="1313" y="682"/>
                    </a:lnTo>
                    <a:lnTo>
                      <a:pt x="1330" y="652"/>
                    </a:lnTo>
                    <a:lnTo>
                      <a:pt x="1343" y="621"/>
                    </a:lnTo>
                    <a:lnTo>
                      <a:pt x="1356" y="589"/>
                    </a:lnTo>
                    <a:lnTo>
                      <a:pt x="1367" y="557"/>
                    </a:lnTo>
                    <a:lnTo>
                      <a:pt x="1376" y="523"/>
                    </a:lnTo>
                    <a:lnTo>
                      <a:pt x="1384" y="490"/>
                    </a:lnTo>
                    <a:lnTo>
                      <a:pt x="1391" y="455"/>
                    </a:lnTo>
                    <a:lnTo>
                      <a:pt x="1394" y="421"/>
                    </a:lnTo>
                    <a:lnTo>
                      <a:pt x="1398" y="385"/>
                    </a:lnTo>
                    <a:lnTo>
                      <a:pt x="1399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0320" y="417996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1305" h="1000">
                    <a:moveTo>
                      <a:pt x="1305" y="349"/>
                    </a:moveTo>
                    <a:lnTo>
                      <a:pt x="1305" y="325"/>
                    </a:lnTo>
                    <a:lnTo>
                      <a:pt x="1303" y="301"/>
                    </a:lnTo>
                    <a:lnTo>
                      <a:pt x="1301" y="278"/>
                    </a:lnTo>
                    <a:lnTo>
                      <a:pt x="1298" y="255"/>
                    </a:lnTo>
                    <a:lnTo>
                      <a:pt x="1294" y="232"/>
                    </a:lnTo>
                    <a:lnTo>
                      <a:pt x="1290" y="208"/>
                    </a:lnTo>
                    <a:lnTo>
                      <a:pt x="1284" y="187"/>
                    </a:lnTo>
                    <a:lnTo>
                      <a:pt x="1278" y="165"/>
                    </a:lnTo>
                    <a:lnTo>
                      <a:pt x="1271" y="143"/>
                    </a:lnTo>
                    <a:lnTo>
                      <a:pt x="1264" y="121"/>
                    </a:lnTo>
                    <a:lnTo>
                      <a:pt x="1255" y="100"/>
                    </a:lnTo>
                    <a:lnTo>
                      <a:pt x="1247" y="79"/>
                    </a:lnTo>
                    <a:lnTo>
                      <a:pt x="1236" y="59"/>
                    </a:lnTo>
                    <a:lnTo>
                      <a:pt x="1226" y="39"/>
                    </a:lnTo>
                    <a:lnTo>
                      <a:pt x="1216" y="19"/>
                    </a:lnTo>
                    <a:lnTo>
                      <a:pt x="1203" y="0"/>
                    </a:lnTo>
                    <a:lnTo>
                      <a:pt x="1194" y="0"/>
                    </a:lnTo>
                    <a:lnTo>
                      <a:pt x="1106" y="23"/>
                    </a:lnTo>
                    <a:lnTo>
                      <a:pt x="1119" y="40"/>
                    </a:lnTo>
                    <a:lnTo>
                      <a:pt x="1130" y="59"/>
                    </a:lnTo>
                    <a:lnTo>
                      <a:pt x="1141" y="77"/>
                    </a:lnTo>
                    <a:lnTo>
                      <a:pt x="1151" y="96"/>
                    </a:lnTo>
                    <a:lnTo>
                      <a:pt x="1160" y="115"/>
                    </a:lnTo>
                    <a:lnTo>
                      <a:pt x="1168" y="135"/>
                    </a:lnTo>
                    <a:lnTo>
                      <a:pt x="1177" y="154"/>
                    </a:lnTo>
                    <a:lnTo>
                      <a:pt x="1183" y="175"/>
                    </a:lnTo>
                    <a:lnTo>
                      <a:pt x="1190" y="196"/>
                    </a:lnTo>
                    <a:lnTo>
                      <a:pt x="1196" y="217"/>
                    </a:lnTo>
                    <a:lnTo>
                      <a:pt x="1201" y="238"/>
                    </a:lnTo>
                    <a:lnTo>
                      <a:pt x="1204" y="259"/>
                    </a:lnTo>
                    <a:lnTo>
                      <a:pt x="1208" y="281"/>
                    </a:lnTo>
                    <a:lnTo>
                      <a:pt x="1210" y="304"/>
                    </a:lnTo>
                    <a:lnTo>
                      <a:pt x="1211" y="326"/>
                    </a:lnTo>
                    <a:lnTo>
                      <a:pt x="1211" y="349"/>
                    </a:lnTo>
                    <a:lnTo>
                      <a:pt x="1211" y="378"/>
                    </a:lnTo>
                    <a:lnTo>
                      <a:pt x="1209" y="406"/>
                    </a:lnTo>
                    <a:lnTo>
                      <a:pt x="1205" y="434"/>
                    </a:lnTo>
                    <a:lnTo>
                      <a:pt x="1201" y="462"/>
                    </a:lnTo>
                    <a:lnTo>
                      <a:pt x="1194" y="489"/>
                    </a:lnTo>
                    <a:lnTo>
                      <a:pt x="1187" y="515"/>
                    </a:lnTo>
                    <a:lnTo>
                      <a:pt x="1178" y="542"/>
                    </a:lnTo>
                    <a:lnTo>
                      <a:pt x="1167" y="567"/>
                    </a:lnTo>
                    <a:lnTo>
                      <a:pt x="1156" y="591"/>
                    </a:lnTo>
                    <a:lnTo>
                      <a:pt x="1144" y="615"/>
                    </a:lnTo>
                    <a:lnTo>
                      <a:pt x="1130" y="638"/>
                    </a:lnTo>
                    <a:lnTo>
                      <a:pt x="1117" y="662"/>
                    </a:lnTo>
                    <a:lnTo>
                      <a:pt x="1100" y="683"/>
                    </a:lnTo>
                    <a:lnTo>
                      <a:pt x="1084" y="704"/>
                    </a:lnTo>
                    <a:lnTo>
                      <a:pt x="1066" y="725"/>
                    </a:lnTo>
                    <a:lnTo>
                      <a:pt x="1047" y="745"/>
                    </a:lnTo>
                    <a:lnTo>
                      <a:pt x="1028" y="763"/>
                    </a:lnTo>
                    <a:lnTo>
                      <a:pt x="1008" y="780"/>
                    </a:lnTo>
                    <a:lnTo>
                      <a:pt x="986" y="796"/>
                    </a:lnTo>
                    <a:lnTo>
                      <a:pt x="964" y="813"/>
                    </a:lnTo>
                    <a:lnTo>
                      <a:pt x="942" y="828"/>
                    </a:lnTo>
                    <a:lnTo>
                      <a:pt x="919" y="840"/>
                    </a:lnTo>
                    <a:lnTo>
                      <a:pt x="895" y="853"/>
                    </a:lnTo>
                    <a:lnTo>
                      <a:pt x="870" y="864"/>
                    </a:lnTo>
                    <a:lnTo>
                      <a:pt x="844" y="874"/>
                    </a:lnTo>
                    <a:lnTo>
                      <a:pt x="819" y="883"/>
                    </a:lnTo>
                    <a:lnTo>
                      <a:pt x="792" y="891"/>
                    </a:lnTo>
                    <a:lnTo>
                      <a:pt x="765" y="897"/>
                    </a:lnTo>
                    <a:lnTo>
                      <a:pt x="737" y="901"/>
                    </a:lnTo>
                    <a:lnTo>
                      <a:pt x="709" y="905"/>
                    </a:lnTo>
                    <a:lnTo>
                      <a:pt x="681" y="907"/>
                    </a:lnTo>
                    <a:lnTo>
                      <a:pt x="652" y="908"/>
                    </a:lnTo>
                    <a:lnTo>
                      <a:pt x="623" y="907"/>
                    </a:lnTo>
                    <a:lnTo>
                      <a:pt x="595" y="905"/>
                    </a:lnTo>
                    <a:lnTo>
                      <a:pt x="568" y="901"/>
                    </a:lnTo>
                    <a:lnTo>
                      <a:pt x="540" y="897"/>
                    </a:lnTo>
                    <a:lnTo>
                      <a:pt x="512" y="891"/>
                    </a:lnTo>
                    <a:lnTo>
                      <a:pt x="486" y="883"/>
                    </a:lnTo>
                    <a:lnTo>
                      <a:pt x="460" y="874"/>
                    </a:lnTo>
                    <a:lnTo>
                      <a:pt x="435" y="864"/>
                    </a:lnTo>
                    <a:lnTo>
                      <a:pt x="409" y="853"/>
                    </a:lnTo>
                    <a:lnTo>
                      <a:pt x="385" y="840"/>
                    </a:lnTo>
                    <a:lnTo>
                      <a:pt x="362" y="828"/>
                    </a:lnTo>
                    <a:lnTo>
                      <a:pt x="339" y="813"/>
                    </a:lnTo>
                    <a:lnTo>
                      <a:pt x="317" y="796"/>
                    </a:lnTo>
                    <a:lnTo>
                      <a:pt x="296" y="780"/>
                    </a:lnTo>
                    <a:lnTo>
                      <a:pt x="276" y="763"/>
                    </a:lnTo>
                    <a:lnTo>
                      <a:pt x="257" y="745"/>
                    </a:lnTo>
                    <a:lnTo>
                      <a:pt x="238" y="725"/>
                    </a:lnTo>
                    <a:lnTo>
                      <a:pt x="220" y="704"/>
                    </a:lnTo>
                    <a:lnTo>
                      <a:pt x="204" y="683"/>
                    </a:lnTo>
                    <a:lnTo>
                      <a:pt x="188" y="662"/>
                    </a:lnTo>
                    <a:lnTo>
                      <a:pt x="174" y="638"/>
                    </a:lnTo>
                    <a:lnTo>
                      <a:pt x="160" y="615"/>
                    </a:lnTo>
                    <a:lnTo>
                      <a:pt x="148" y="591"/>
                    </a:lnTo>
                    <a:lnTo>
                      <a:pt x="137" y="567"/>
                    </a:lnTo>
                    <a:lnTo>
                      <a:pt x="127" y="542"/>
                    </a:lnTo>
                    <a:lnTo>
                      <a:pt x="118" y="515"/>
                    </a:lnTo>
                    <a:lnTo>
                      <a:pt x="111" y="489"/>
                    </a:lnTo>
                    <a:lnTo>
                      <a:pt x="104" y="462"/>
                    </a:lnTo>
                    <a:lnTo>
                      <a:pt x="99" y="434"/>
                    </a:lnTo>
                    <a:lnTo>
                      <a:pt x="96" y="406"/>
                    </a:lnTo>
                    <a:lnTo>
                      <a:pt x="93" y="378"/>
                    </a:lnTo>
                    <a:lnTo>
                      <a:pt x="92" y="349"/>
                    </a:lnTo>
                    <a:lnTo>
                      <a:pt x="93" y="328"/>
                    </a:lnTo>
                    <a:lnTo>
                      <a:pt x="95" y="309"/>
                    </a:lnTo>
                    <a:lnTo>
                      <a:pt x="96" y="289"/>
                    </a:lnTo>
                    <a:lnTo>
                      <a:pt x="99" y="268"/>
                    </a:lnTo>
                    <a:lnTo>
                      <a:pt x="102" y="250"/>
                    </a:lnTo>
                    <a:lnTo>
                      <a:pt x="106" y="230"/>
                    </a:lnTo>
                    <a:lnTo>
                      <a:pt x="110" y="211"/>
                    </a:lnTo>
                    <a:lnTo>
                      <a:pt x="115" y="192"/>
                    </a:lnTo>
                    <a:lnTo>
                      <a:pt x="13" y="220"/>
                    </a:lnTo>
                    <a:lnTo>
                      <a:pt x="9" y="236"/>
                    </a:lnTo>
                    <a:lnTo>
                      <a:pt x="7" y="251"/>
                    </a:lnTo>
                    <a:lnTo>
                      <a:pt x="5" y="267"/>
                    </a:lnTo>
                    <a:lnTo>
                      <a:pt x="3" y="283"/>
                    </a:lnTo>
                    <a:lnTo>
                      <a:pt x="1" y="300"/>
                    </a:lnTo>
                    <a:lnTo>
                      <a:pt x="0" y="316"/>
                    </a:lnTo>
                    <a:lnTo>
                      <a:pt x="0" y="333"/>
                    </a:lnTo>
                    <a:lnTo>
                      <a:pt x="0" y="349"/>
                    </a:lnTo>
                    <a:lnTo>
                      <a:pt x="0" y="383"/>
                    </a:lnTo>
                    <a:lnTo>
                      <a:pt x="3" y="416"/>
                    </a:lnTo>
                    <a:lnTo>
                      <a:pt x="7" y="448"/>
                    </a:lnTo>
                    <a:lnTo>
                      <a:pt x="13" y="481"/>
                    </a:lnTo>
                    <a:lnTo>
                      <a:pt x="20" y="512"/>
                    </a:lnTo>
                    <a:lnTo>
                      <a:pt x="29" y="543"/>
                    </a:lnTo>
                    <a:lnTo>
                      <a:pt x="39" y="573"/>
                    </a:lnTo>
                    <a:lnTo>
                      <a:pt x="51" y="603"/>
                    </a:lnTo>
                    <a:lnTo>
                      <a:pt x="63" y="632"/>
                    </a:lnTo>
                    <a:lnTo>
                      <a:pt x="78" y="659"/>
                    </a:lnTo>
                    <a:lnTo>
                      <a:pt x="95" y="687"/>
                    </a:lnTo>
                    <a:lnTo>
                      <a:pt x="111" y="713"/>
                    </a:lnTo>
                    <a:lnTo>
                      <a:pt x="129" y="739"/>
                    </a:lnTo>
                    <a:lnTo>
                      <a:pt x="149" y="764"/>
                    </a:lnTo>
                    <a:lnTo>
                      <a:pt x="170" y="787"/>
                    </a:lnTo>
                    <a:lnTo>
                      <a:pt x="190" y="810"/>
                    </a:lnTo>
                    <a:lnTo>
                      <a:pt x="213" y="832"/>
                    </a:lnTo>
                    <a:lnTo>
                      <a:pt x="238" y="852"/>
                    </a:lnTo>
                    <a:lnTo>
                      <a:pt x="262" y="871"/>
                    </a:lnTo>
                    <a:lnTo>
                      <a:pt x="287" y="890"/>
                    </a:lnTo>
                    <a:lnTo>
                      <a:pt x="314" y="907"/>
                    </a:lnTo>
                    <a:lnTo>
                      <a:pt x="341" y="922"/>
                    </a:lnTo>
                    <a:lnTo>
                      <a:pt x="369" y="937"/>
                    </a:lnTo>
                    <a:lnTo>
                      <a:pt x="398" y="950"/>
                    </a:lnTo>
                    <a:lnTo>
                      <a:pt x="428" y="961"/>
                    </a:lnTo>
                    <a:lnTo>
                      <a:pt x="458" y="972"/>
                    </a:lnTo>
                    <a:lnTo>
                      <a:pt x="489" y="981"/>
                    </a:lnTo>
                    <a:lnTo>
                      <a:pt x="520" y="988"/>
                    </a:lnTo>
                    <a:lnTo>
                      <a:pt x="553" y="994"/>
                    </a:lnTo>
                    <a:lnTo>
                      <a:pt x="586" y="998"/>
                    </a:lnTo>
                    <a:lnTo>
                      <a:pt x="618" y="1000"/>
                    </a:lnTo>
                    <a:lnTo>
                      <a:pt x="652" y="1000"/>
                    </a:lnTo>
                    <a:lnTo>
                      <a:pt x="685" y="1000"/>
                    </a:lnTo>
                    <a:lnTo>
                      <a:pt x="719" y="998"/>
                    </a:lnTo>
                    <a:lnTo>
                      <a:pt x="751" y="994"/>
                    </a:lnTo>
                    <a:lnTo>
                      <a:pt x="783" y="988"/>
                    </a:lnTo>
                    <a:lnTo>
                      <a:pt x="815" y="981"/>
                    </a:lnTo>
                    <a:lnTo>
                      <a:pt x="847" y="972"/>
                    </a:lnTo>
                    <a:lnTo>
                      <a:pt x="877" y="961"/>
                    </a:lnTo>
                    <a:lnTo>
                      <a:pt x="907" y="950"/>
                    </a:lnTo>
                    <a:lnTo>
                      <a:pt x="935" y="937"/>
                    </a:lnTo>
                    <a:lnTo>
                      <a:pt x="963" y="922"/>
                    </a:lnTo>
                    <a:lnTo>
                      <a:pt x="991" y="907"/>
                    </a:lnTo>
                    <a:lnTo>
                      <a:pt x="1017" y="890"/>
                    </a:lnTo>
                    <a:lnTo>
                      <a:pt x="1043" y="871"/>
                    </a:lnTo>
                    <a:lnTo>
                      <a:pt x="1067" y="852"/>
                    </a:lnTo>
                    <a:lnTo>
                      <a:pt x="1091" y="832"/>
                    </a:lnTo>
                    <a:lnTo>
                      <a:pt x="1113" y="810"/>
                    </a:lnTo>
                    <a:lnTo>
                      <a:pt x="1135" y="787"/>
                    </a:lnTo>
                    <a:lnTo>
                      <a:pt x="1156" y="764"/>
                    </a:lnTo>
                    <a:lnTo>
                      <a:pt x="1175" y="739"/>
                    </a:lnTo>
                    <a:lnTo>
                      <a:pt x="1193" y="713"/>
                    </a:lnTo>
                    <a:lnTo>
                      <a:pt x="1210" y="687"/>
                    </a:lnTo>
                    <a:lnTo>
                      <a:pt x="1226" y="659"/>
                    </a:lnTo>
                    <a:lnTo>
                      <a:pt x="1240" y="632"/>
                    </a:lnTo>
                    <a:lnTo>
                      <a:pt x="1254" y="603"/>
                    </a:lnTo>
                    <a:lnTo>
                      <a:pt x="1265" y="573"/>
                    </a:lnTo>
                    <a:lnTo>
                      <a:pt x="1276" y="543"/>
                    </a:lnTo>
                    <a:lnTo>
                      <a:pt x="1284" y="512"/>
                    </a:lnTo>
                    <a:lnTo>
                      <a:pt x="1292" y="481"/>
                    </a:lnTo>
                    <a:lnTo>
                      <a:pt x="1298" y="448"/>
                    </a:lnTo>
                    <a:lnTo>
                      <a:pt x="1301" y="416"/>
                    </a:lnTo>
                    <a:lnTo>
                      <a:pt x="1303" y="383"/>
                    </a:lnTo>
                    <a:lnTo>
                      <a:pt x="1305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82920" y="4183200"/>
                <a:ext cx="320760" cy="249120"/>
              </a:xfrm>
              <a:custGeom>
                <a:avLst/>
                <a:gdLst/>
                <a:ahLst/>
                <a:rect l="l" t="t" r="r" b="b"/>
                <a:pathLst>
                  <a:path w="1212" h="944">
                    <a:moveTo>
                      <a:pt x="1212" y="339"/>
                    </a:moveTo>
                    <a:lnTo>
                      <a:pt x="1211" y="315"/>
                    </a:lnTo>
                    <a:lnTo>
                      <a:pt x="1210" y="292"/>
                    </a:lnTo>
                    <a:lnTo>
                      <a:pt x="1208" y="269"/>
                    </a:lnTo>
                    <a:lnTo>
                      <a:pt x="1205" y="247"/>
                    </a:lnTo>
                    <a:lnTo>
                      <a:pt x="1201" y="224"/>
                    </a:lnTo>
                    <a:lnTo>
                      <a:pt x="1196" y="202"/>
                    </a:lnTo>
                    <a:lnTo>
                      <a:pt x="1192" y="180"/>
                    </a:lnTo>
                    <a:lnTo>
                      <a:pt x="1185" y="159"/>
                    </a:lnTo>
                    <a:lnTo>
                      <a:pt x="1178" y="137"/>
                    </a:lnTo>
                    <a:lnTo>
                      <a:pt x="1170" y="117"/>
                    </a:lnTo>
                    <a:lnTo>
                      <a:pt x="1162" y="96"/>
                    </a:lnTo>
                    <a:lnTo>
                      <a:pt x="1152" y="76"/>
                    </a:lnTo>
                    <a:lnTo>
                      <a:pt x="1142" y="57"/>
                    </a:lnTo>
                    <a:lnTo>
                      <a:pt x="1132" y="37"/>
                    </a:lnTo>
                    <a:lnTo>
                      <a:pt x="1120" y="19"/>
                    </a:lnTo>
                    <a:lnTo>
                      <a:pt x="1109" y="0"/>
                    </a:lnTo>
                    <a:lnTo>
                      <a:pt x="1012" y="26"/>
                    </a:lnTo>
                    <a:lnTo>
                      <a:pt x="1024" y="42"/>
                    </a:lnTo>
                    <a:lnTo>
                      <a:pt x="1036" y="59"/>
                    </a:lnTo>
                    <a:lnTo>
                      <a:pt x="1046" y="76"/>
                    </a:lnTo>
                    <a:lnTo>
                      <a:pt x="1057" y="95"/>
                    </a:lnTo>
                    <a:lnTo>
                      <a:pt x="1066" y="113"/>
                    </a:lnTo>
                    <a:lnTo>
                      <a:pt x="1075" y="132"/>
                    </a:lnTo>
                    <a:lnTo>
                      <a:pt x="1083" y="151"/>
                    </a:lnTo>
                    <a:lnTo>
                      <a:pt x="1090" y="171"/>
                    </a:lnTo>
                    <a:lnTo>
                      <a:pt x="1097" y="190"/>
                    </a:lnTo>
                    <a:lnTo>
                      <a:pt x="1103" y="211"/>
                    </a:lnTo>
                    <a:lnTo>
                      <a:pt x="1107" y="232"/>
                    </a:lnTo>
                    <a:lnTo>
                      <a:pt x="1112" y="253"/>
                    </a:lnTo>
                    <a:lnTo>
                      <a:pt x="1114" y="273"/>
                    </a:lnTo>
                    <a:lnTo>
                      <a:pt x="1117" y="295"/>
                    </a:lnTo>
                    <a:lnTo>
                      <a:pt x="1119" y="317"/>
                    </a:lnTo>
                    <a:lnTo>
                      <a:pt x="1119" y="339"/>
                    </a:lnTo>
                    <a:lnTo>
                      <a:pt x="1118" y="366"/>
                    </a:lnTo>
                    <a:lnTo>
                      <a:pt x="1117" y="391"/>
                    </a:lnTo>
                    <a:lnTo>
                      <a:pt x="1113" y="418"/>
                    </a:lnTo>
                    <a:lnTo>
                      <a:pt x="1109" y="442"/>
                    </a:lnTo>
                    <a:lnTo>
                      <a:pt x="1103" y="467"/>
                    </a:lnTo>
                    <a:lnTo>
                      <a:pt x="1096" y="491"/>
                    </a:lnTo>
                    <a:lnTo>
                      <a:pt x="1088" y="515"/>
                    </a:lnTo>
                    <a:lnTo>
                      <a:pt x="1079" y="539"/>
                    </a:lnTo>
                    <a:lnTo>
                      <a:pt x="1068" y="562"/>
                    </a:lnTo>
                    <a:lnTo>
                      <a:pt x="1057" y="584"/>
                    </a:lnTo>
                    <a:lnTo>
                      <a:pt x="1044" y="604"/>
                    </a:lnTo>
                    <a:lnTo>
                      <a:pt x="1031" y="625"/>
                    </a:lnTo>
                    <a:lnTo>
                      <a:pt x="1017" y="646"/>
                    </a:lnTo>
                    <a:lnTo>
                      <a:pt x="1001" y="665"/>
                    </a:lnTo>
                    <a:lnTo>
                      <a:pt x="985" y="684"/>
                    </a:lnTo>
                    <a:lnTo>
                      <a:pt x="969" y="701"/>
                    </a:lnTo>
                    <a:lnTo>
                      <a:pt x="951" y="718"/>
                    </a:lnTo>
                    <a:lnTo>
                      <a:pt x="932" y="735"/>
                    </a:lnTo>
                    <a:lnTo>
                      <a:pt x="913" y="749"/>
                    </a:lnTo>
                    <a:lnTo>
                      <a:pt x="893" y="763"/>
                    </a:lnTo>
                    <a:lnTo>
                      <a:pt x="872" y="777"/>
                    </a:lnTo>
                    <a:lnTo>
                      <a:pt x="850" y="790"/>
                    </a:lnTo>
                    <a:lnTo>
                      <a:pt x="828" y="801"/>
                    </a:lnTo>
                    <a:lnTo>
                      <a:pt x="805" y="811"/>
                    </a:lnTo>
                    <a:lnTo>
                      <a:pt x="782" y="820"/>
                    </a:lnTo>
                    <a:lnTo>
                      <a:pt x="759" y="828"/>
                    </a:lnTo>
                    <a:lnTo>
                      <a:pt x="734" y="835"/>
                    </a:lnTo>
                    <a:lnTo>
                      <a:pt x="710" y="841"/>
                    </a:lnTo>
                    <a:lnTo>
                      <a:pt x="684" y="845"/>
                    </a:lnTo>
                    <a:lnTo>
                      <a:pt x="659" y="849"/>
                    </a:lnTo>
                    <a:lnTo>
                      <a:pt x="632" y="851"/>
                    </a:lnTo>
                    <a:lnTo>
                      <a:pt x="606" y="851"/>
                    </a:lnTo>
                    <a:lnTo>
                      <a:pt x="580" y="851"/>
                    </a:lnTo>
                    <a:lnTo>
                      <a:pt x="554" y="849"/>
                    </a:lnTo>
                    <a:lnTo>
                      <a:pt x="528" y="845"/>
                    </a:lnTo>
                    <a:lnTo>
                      <a:pt x="503" y="841"/>
                    </a:lnTo>
                    <a:lnTo>
                      <a:pt x="478" y="835"/>
                    </a:lnTo>
                    <a:lnTo>
                      <a:pt x="453" y="828"/>
                    </a:lnTo>
                    <a:lnTo>
                      <a:pt x="430" y="820"/>
                    </a:lnTo>
                    <a:lnTo>
                      <a:pt x="406" y="811"/>
                    </a:lnTo>
                    <a:lnTo>
                      <a:pt x="384" y="801"/>
                    </a:lnTo>
                    <a:lnTo>
                      <a:pt x="362" y="790"/>
                    </a:lnTo>
                    <a:lnTo>
                      <a:pt x="340" y="777"/>
                    </a:lnTo>
                    <a:lnTo>
                      <a:pt x="320" y="763"/>
                    </a:lnTo>
                    <a:lnTo>
                      <a:pt x="300" y="749"/>
                    </a:lnTo>
                    <a:lnTo>
                      <a:pt x="280" y="735"/>
                    </a:lnTo>
                    <a:lnTo>
                      <a:pt x="262" y="718"/>
                    </a:lnTo>
                    <a:lnTo>
                      <a:pt x="244" y="701"/>
                    </a:lnTo>
                    <a:lnTo>
                      <a:pt x="226" y="684"/>
                    </a:lnTo>
                    <a:lnTo>
                      <a:pt x="210" y="665"/>
                    </a:lnTo>
                    <a:lnTo>
                      <a:pt x="195" y="646"/>
                    </a:lnTo>
                    <a:lnTo>
                      <a:pt x="181" y="625"/>
                    </a:lnTo>
                    <a:lnTo>
                      <a:pt x="167" y="604"/>
                    </a:lnTo>
                    <a:lnTo>
                      <a:pt x="156" y="584"/>
                    </a:lnTo>
                    <a:lnTo>
                      <a:pt x="144" y="562"/>
                    </a:lnTo>
                    <a:lnTo>
                      <a:pt x="134" y="539"/>
                    </a:lnTo>
                    <a:lnTo>
                      <a:pt x="125" y="515"/>
                    </a:lnTo>
                    <a:lnTo>
                      <a:pt x="117" y="491"/>
                    </a:lnTo>
                    <a:lnTo>
                      <a:pt x="110" y="467"/>
                    </a:lnTo>
                    <a:lnTo>
                      <a:pt x="104" y="442"/>
                    </a:lnTo>
                    <a:lnTo>
                      <a:pt x="99" y="418"/>
                    </a:lnTo>
                    <a:lnTo>
                      <a:pt x="96" y="391"/>
                    </a:lnTo>
                    <a:lnTo>
                      <a:pt x="94" y="366"/>
                    </a:lnTo>
                    <a:lnTo>
                      <a:pt x="94" y="339"/>
                    </a:lnTo>
                    <a:lnTo>
                      <a:pt x="94" y="318"/>
                    </a:lnTo>
                    <a:lnTo>
                      <a:pt x="95" y="298"/>
                    </a:lnTo>
                    <a:lnTo>
                      <a:pt x="97" y="278"/>
                    </a:lnTo>
                    <a:lnTo>
                      <a:pt x="101" y="258"/>
                    </a:lnTo>
                    <a:lnTo>
                      <a:pt x="104" y="239"/>
                    </a:lnTo>
                    <a:lnTo>
                      <a:pt x="107" y="219"/>
                    </a:lnTo>
                    <a:lnTo>
                      <a:pt x="113" y="200"/>
                    </a:lnTo>
                    <a:lnTo>
                      <a:pt x="119" y="181"/>
                    </a:lnTo>
                    <a:lnTo>
                      <a:pt x="74" y="181"/>
                    </a:lnTo>
                    <a:lnTo>
                      <a:pt x="17" y="196"/>
                    </a:lnTo>
                    <a:lnTo>
                      <a:pt x="14" y="213"/>
                    </a:lnTo>
                    <a:lnTo>
                      <a:pt x="11" y="231"/>
                    </a:lnTo>
                    <a:lnTo>
                      <a:pt x="7" y="248"/>
                    </a:lnTo>
                    <a:lnTo>
                      <a:pt x="5" y="266"/>
                    </a:lnTo>
                    <a:lnTo>
                      <a:pt x="2" y="284"/>
                    </a:lnTo>
                    <a:lnTo>
                      <a:pt x="1" y="302"/>
                    </a:lnTo>
                    <a:lnTo>
                      <a:pt x="0" y="321"/>
                    </a:lnTo>
                    <a:lnTo>
                      <a:pt x="0" y="339"/>
                    </a:lnTo>
                    <a:lnTo>
                      <a:pt x="1" y="370"/>
                    </a:lnTo>
                    <a:lnTo>
                      <a:pt x="4" y="401"/>
                    </a:lnTo>
                    <a:lnTo>
                      <a:pt x="7" y="431"/>
                    </a:lnTo>
                    <a:lnTo>
                      <a:pt x="13" y="461"/>
                    </a:lnTo>
                    <a:lnTo>
                      <a:pt x="20" y="490"/>
                    </a:lnTo>
                    <a:lnTo>
                      <a:pt x="28" y="519"/>
                    </a:lnTo>
                    <a:lnTo>
                      <a:pt x="37" y="547"/>
                    </a:lnTo>
                    <a:lnTo>
                      <a:pt x="47" y="574"/>
                    </a:lnTo>
                    <a:lnTo>
                      <a:pt x="60" y="602"/>
                    </a:lnTo>
                    <a:lnTo>
                      <a:pt x="73" y="627"/>
                    </a:lnTo>
                    <a:lnTo>
                      <a:pt x="88" y="653"/>
                    </a:lnTo>
                    <a:lnTo>
                      <a:pt x="104" y="678"/>
                    </a:lnTo>
                    <a:lnTo>
                      <a:pt x="120" y="701"/>
                    </a:lnTo>
                    <a:lnTo>
                      <a:pt x="139" y="724"/>
                    </a:lnTo>
                    <a:lnTo>
                      <a:pt x="158" y="746"/>
                    </a:lnTo>
                    <a:lnTo>
                      <a:pt x="178" y="767"/>
                    </a:lnTo>
                    <a:lnTo>
                      <a:pt x="199" y="788"/>
                    </a:lnTo>
                    <a:lnTo>
                      <a:pt x="220" y="806"/>
                    </a:lnTo>
                    <a:lnTo>
                      <a:pt x="244" y="824"/>
                    </a:lnTo>
                    <a:lnTo>
                      <a:pt x="268" y="841"/>
                    </a:lnTo>
                    <a:lnTo>
                      <a:pt x="292" y="857"/>
                    </a:lnTo>
                    <a:lnTo>
                      <a:pt x="317" y="872"/>
                    </a:lnTo>
                    <a:lnTo>
                      <a:pt x="344" y="884"/>
                    </a:lnTo>
                    <a:lnTo>
                      <a:pt x="370" y="897"/>
                    </a:lnTo>
                    <a:lnTo>
                      <a:pt x="398" y="907"/>
                    </a:lnTo>
                    <a:lnTo>
                      <a:pt x="426" y="918"/>
                    </a:lnTo>
                    <a:lnTo>
                      <a:pt x="455" y="926"/>
                    </a:lnTo>
                    <a:lnTo>
                      <a:pt x="485" y="932"/>
                    </a:lnTo>
                    <a:lnTo>
                      <a:pt x="513" y="937"/>
                    </a:lnTo>
                    <a:lnTo>
                      <a:pt x="545" y="941"/>
                    </a:lnTo>
                    <a:lnTo>
                      <a:pt x="575" y="943"/>
                    </a:lnTo>
                    <a:lnTo>
                      <a:pt x="606" y="944"/>
                    </a:lnTo>
                    <a:lnTo>
                      <a:pt x="637" y="943"/>
                    </a:lnTo>
                    <a:lnTo>
                      <a:pt x="668" y="941"/>
                    </a:lnTo>
                    <a:lnTo>
                      <a:pt x="698" y="937"/>
                    </a:lnTo>
                    <a:lnTo>
                      <a:pt x="728" y="932"/>
                    </a:lnTo>
                    <a:lnTo>
                      <a:pt x="758" y="926"/>
                    </a:lnTo>
                    <a:lnTo>
                      <a:pt x="787" y="918"/>
                    </a:lnTo>
                    <a:lnTo>
                      <a:pt x="814" y="907"/>
                    </a:lnTo>
                    <a:lnTo>
                      <a:pt x="842" y="897"/>
                    </a:lnTo>
                    <a:lnTo>
                      <a:pt x="869" y="884"/>
                    </a:lnTo>
                    <a:lnTo>
                      <a:pt x="895" y="872"/>
                    </a:lnTo>
                    <a:lnTo>
                      <a:pt x="921" y="857"/>
                    </a:lnTo>
                    <a:lnTo>
                      <a:pt x="945" y="841"/>
                    </a:lnTo>
                    <a:lnTo>
                      <a:pt x="969" y="824"/>
                    </a:lnTo>
                    <a:lnTo>
                      <a:pt x="992" y="806"/>
                    </a:lnTo>
                    <a:lnTo>
                      <a:pt x="1014" y="788"/>
                    </a:lnTo>
                    <a:lnTo>
                      <a:pt x="1035" y="767"/>
                    </a:lnTo>
                    <a:lnTo>
                      <a:pt x="1054" y="746"/>
                    </a:lnTo>
                    <a:lnTo>
                      <a:pt x="1074" y="724"/>
                    </a:lnTo>
                    <a:lnTo>
                      <a:pt x="1091" y="701"/>
                    </a:lnTo>
                    <a:lnTo>
                      <a:pt x="1109" y="678"/>
                    </a:lnTo>
                    <a:lnTo>
                      <a:pt x="1125" y="653"/>
                    </a:lnTo>
                    <a:lnTo>
                      <a:pt x="1139" y="627"/>
                    </a:lnTo>
                    <a:lnTo>
                      <a:pt x="1152" y="602"/>
                    </a:lnTo>
                    <a:lnTo>
                      <a:pt x="1164" y="574"/>
                    </a:lnTo>
                    <a:lnTo>
                      <a:pt x="1175" y="547"/>
                    </a:lnTo>
                    <a:lnTo>
                      <a:pt x="1185" y="519"/>
                    </a:lnTo>
                    <a:lnTo>
                      <a:pt x="1193" y="490"/>
                    </a:lnTo>
                    <a:lnTo>
                      <a:pt x="1200" y="461"/>
                    </a:lnTo>
                    <a:lnTo>
                      <a:pt x="1205" y="431"/>
                    </a:lnTo>
                    <a:lnTo>
                      <a:pt x="1209" y="401"/>
                    </a:lnTo>
                    <a:lnTo>
                      <a:pt x="1211" y="370"/>
                    </a:lnTo>
                    <a:lnTo>
                      <a:pt x="1212" y="33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95520" y="4186080"/>
                <a:ext cx="295560" cy="233640"/>
              </a:xfrm>
              <a:custGeom>
                <a:avLst/>
                <a:gdLst/>
                <a:ahLst/>
                <a:rect l="l" t="t" r="r" b="b"/>
                <a:pathLst>
                  <a:path w="1118" h="885">
                    <a:moveTo>
                      <a:pt x="1118" y="326"/>
                    </a:moveTo>
                    <a:lnTo>
                      <a:pt x="1118" y="303"/>
                    </a:lnTo>
                    <a:lnTo>
                      <a:pt x="1117" y="281"/>
                    </a:lnTo>
                    <a:lnTo>
                      <a:pt x="1115" y="258"/>
                    </a:lnTo>
                    <a:lnTo>
                      <a:pt x="1111" y="236"/>
                    </a:lnTo>
                    <a:lnTo>
                      <a:pt x="1108" y="215"/>
                    </a:lnTo>
                    <a:lnTo>
                      <a:pt x="1103" y="194"/>
                    </a:lnTo>
                    <a:lnTo>
                      <a:pt x="1097" y="173"/>
                    </a:lnTo>
                    <a:lnTo>
                      <a:pt x="1090" y="152"/>
                    </a:lnTo>
                    <a:lnTo>
                      <a:pt x="1084" y="131"/>
                    </a:lnTo>
                    <a:lnTo>
                      <a:pt x="1075" y="112"/>
                    </a:lnTo>
                    <a:lnTo>
                      <a:pt x="1067" y="92"/>
                    </a:lnTo>
                    <a:lnTo>
                      <a:pt x="1058" y="73"/>
                    </a:lnTo>
                    <a:lnTo>
                      <a:pt x="1048" y="54"/>
                    </a:lnTo>
                    <a:lnTo>
                      <a:pt x="1037" y="36"/>
                    </a:lnTo>
                    <a:lnTo>
                      <a:pt x="1026" y="17"/>
                    </a:lnTo>
                    <a:lnTo>
                      <a:pt x="1013" y="0"/>
                    </a:lnTo>
                    <a:lnTo>
                      <a:pt x="946" y="17"/>
                    </a:lnTo>
                    <a:lnTo>
                      <a:pt x="915" y="25"/>
                    </a:lnTo>
                    <a:lnTo>
                      <a:pt x="928" y="40"/>
                    </a:lnTo>
                    <a:lnTo>
                      <a:pt x="939" y="56"/>
                    </a:lnTo>
                    <a:lnTo>
                      <a:pt x="951" y="73"/>
                    </a:lnTo>
                    <a:lnTo>
                      <a:pt x="961" y="90"/>
                    </a:lnTo>
                    <a:lnTo>
                      <a:pt x="970" y="107"/>
                    </a:lnTo>
                    <a:lnTo>
                      <a:pt x="980" y="126"/>
                    </a:lnTo>
                    <a:lnTo>
                      <a:pt x="988" y="144"/>
                    </a:lnTo>
                    <a:lnTo>
                      <a:pt x="996" y="162"/>
                    </a:lnTo>
                    <a:lnTo>
                      <a:pt x="1003" y="182"/>
                    </a:lnTo>
                    <a:lnTo>
                      <a:pt x="1009" y="202"/>
                    </a:lnTo>
                    <a:lnTo>
                      <a:pt x="1013" y="221"/>
                    </a:lnTo>
                    <a:lnTo>
                      <a:pt x="1018" y="242"/>
                    </a:lnTo>
                    <a:lnTo>
                      <a:pt x="1021" y="263"/>
                    </a:lnTo>
                    <a:lnTo>
                      <a:pt x="1024" y="283"/>
                    </a:lnTo>
                    <a:lnTo>
                      <a:pt x="1025" y="304"/>
                    </a:lnTo>
                    <a:lnTo>
                      <a:pt x="1026" y="326"/>
                    </a:lnTo>
                    <a:lnTo>
                      <a:pt x="1025" y="350"/>
                    </a:lnTo>
                    <a:lnTo>
                      <a:pt x="1022" y="373"/>
                    </a:lnTo>
                    <a:lnTo>
                      <a:pt x="1020" y="396"/>
                    </a:lnTo>
                    <a:lnTo>
                      <a:pt x="1015" y="419"/>
                    </a:lnTo>
                    <a:lnTo>
                      <a:pt x="1011" y="443"/>
                    </a:lnTo>
                    <a:lnTo>
                      <a:pt x="1004" y="464"/>
                    </a:lnTo>
                    <a:lnTo>
                      <a:pt x="997" y="486"/>
                    </a:lnTo>
                    <a:lnTo>
                      <a:pt x="989" y="507"/>
                    </a:lnTo>
                    <a:lnTo>
                      <a:pt x="980" y="528"/>
                    </a:lnTo>
                    <a:lnTo>
                      <a:pt x="969" y="547"/>
                    </a:lnTo>
                    <a:lnTo>
                      <a:pt x="958" y="567"/>
                    </a:lnTo>
                    <a:lnTo>
                      <a:pt x="945" y="587"/>
                    </a:lnTo>
                    <a:lnTo>
                      <a:pt x="932" y="605"/>
                    </a:lnTo>
                    <a:lnTo>
                      <a:pt x="919" y="622"/>
                    </a:lnTo>
                    <a:lnTo>
                      <a:pt x="904" y="640"/>
                    </a:lnTo>
                    <a:lnTo>
                      <a:pt x="889" y="656"/>
                    </a:lnTo>
                    <a:lnTo>
                      <a:pt x="872" y="671"/>
                    </a:lnTo>
                    <a:lnTo>
                      <a:pt x="855" y="686"/>
                    </a:lnTo>
                    <a:lnTo>
                      <a:pt x="838" y="700"/>
                    </a:lnTo>
                    <a:lnTo>
                      <a:pt x="819" y="712"/>
                    </a:lnTo>
                    <a:lnTo>
                      <a:pt x="801" y="724"/>
                    </a:lnTo>
                    <a:lnTo>
                      <a:pt x="781" y="735"/>
                    </a:lnTo>
                    <a:lnTo>
                      <a:pt x="761" y="746"/>
                    </a:lnTo>
                    <a:lnTo>
                      <a:pt x="741" y="755"/>
                    </a:lnTo>
                    <a:lnTo>
                      <a:pt x="719" y="763"/>
                    </a:lnTo>
                    <a:lnTo>
                      <a:pt x="698" y="771"/>
                    </a:lnTo>
                    <a:lnTo>
                      <a:pt x="675" y="777"/>
                    </a:lnTo>
                    <a:lnTo>
                      <a:pt x="653" y="783"/>
                    </a:lnTo>
                    <a:lnTo>
                      <a:pt x="630" y="786"/>
                    </a:lnTo>
                    <a:lnTo>
                      <a:pt x="607" y="790"/>
                    </a:lnTo>
                    <a:lnTo>
                      <a:pt x="583" y="791"/>
                    </a:lnTo>
                    <a:lnTo>
                      <a:pt x="559" y="792"/>
                    </a:lnTo>
                    <a:lnTo>
                      <a:pt x="536" y="791"/>
                    </a:lnTo>
                    <a:lnTo>
                      <a:pt x="511" y="790"/>
                    </a:lnTo>
                    <a:lnTo>
                      <a:pt x="488" y="786"/>
                    </a:lnTo>
                    <a:lnTo>
                      <a:pt x="465" y="783"/>
                    </a:lnTo>
                    <a:lnTo>
                      <a:pt x="442" y="777"/>
                    </a:lnTo>
                    <a:lnTo>
                      <a:pt x="420" y="771"/>
                    </a:lnTo>
                    <a:lnTo>
                      <a:pt x="398" y="763"/>
                    </a:lnTo>
                    <a:lnTo>
                      <a:pt x="378" y="755"/>
                    </a:lnTo>
                    <a:lnTo>
                      <a:pt x="357" y="746"/>
                    </a:lnTo>
                    <a:lnTo>
                      <a:pt x="337" y="735"/>
                    </a:lnTo>
                    <a:lnTo>
                      <a:pt x="318" y="724"/>
                    </a:lnTo>
                    <a:lnTo>
                      <a:pt x="298" y="712"/>
                    </a:lnTo>
                    <a:lnTo>
                      <a:pt x="281" y="700"/>
                    </a:lnTo>
                    <a:lnTo>
                      <a:pt x="262" y="686"/>
                    </a:lnTo>
                    <a:lnTo>
                      <a:pt x="246" y="671"/>
                    </a:lnTo>
                    <a:lnTo>
                      <a:pt x="230" y="656"/>
                    </a:lnTo>
                    <a:lnTo>
                      <a:pt x="214" y="640"/>
                    </a:lnTo>
                    <a:lnTo>
                      <a:pt x="200" y="622"/>
                    </a:lnTo>
                    <a:lnTo>
                      <a:pt x="186" y="605"/>
                    </a:lnTo>
                    <a:lnTo>
                      <a:pt x="172" y="587"/>
                    </a:lnTo>
                    <a:lnTo>
                      <a:pt x="161" y="567"/>
                    </a:lnTo>
                    <a:lnTo>
                      <a:pt x="149" y="547"/>
                    </a:lnTo>
                    <a:lnTo>
                      <a:pt x="139" y="528"/>
                    </a:lnTo>
                    <a:lnTo>
                      <a:pt x="130" y="507"/>
                    </a:lnTo>
                    <a:lnTo>
                      <a:pt x="122" y="486"/>
                    </a:lnTo>
                    <a:lnTo>
                      <a:pt x="113" y="464"/>
                    </a:lnTo>
                    <a:lnTo>
                      <a:pt x="108" y="443"/>
                    </a:lnTo>
                    <a:lnTo>
                      <a:pt x="103" y="419"/>
                    </a:lnTo>
                    <a:lnTo>
                      <a:pt x="98" y="396"/>
                    </a:lnTo>
                    <a:lnTo>
                      <a:pt x="95" y="373"/>
                    </a:lnTo>
                    <a:lnTo>
                      <a:pt x="94" y="350"/>
                    </a:lnTo>
                    <a:lnTo>
                      <a:pt x="93" y="326"/>
                    </a:lnTo>
                    <a:lnTo>
                      <a:pt x="94" y="305"/>
                    </a:lnTo>
                    <a:lnTo>
                      <a:pt x="95" y="285"/>
                    </a:lnTo>
                    <a:lnTo>
                      <a:pt x="97" y="265"/>
                    </a:lnTo>
                    <a:lnTo>
                      <a:pt x="101" y="244"/>
                    </a:lnTo>
                    <a:lnTo>
                      <a:pt x="104" y="225"/>
                    </a:lnTo>
                    <a:lnTo>
                      <a:pt x="109" y="206"/>
                    </a:lnTo>
                    <a:lnTo>
                      <a:pt x="115" y="187"/>
                    </a:lnTo>
                    <a:lnTo>
                      <a:pt x="120" y="168"/>
                    </a:lnTo>
                    <a:lnTo>
                      <a:pt x="27" y="168"/>
                    </a:lnTo>
                    <a:lnTo>
                      <a:pt x="22" y="169"/>
                    </a:lnTo>
                    <a:lnTo>
                      <a:pt x="17" y="188"/>
                    </a:lnTo>
                    <a:lnTo>
                      <a:pt x="13" y="207"/>
                    </a:lnTo>
                    <a:lnTo>
                      <a:pt x="9" y="227"/>
                    </a:lnTo>
                    <a:lnTo>
                      <a:pt x="6" y="245"/>
                    </a:lnTo>
                    <a:lnTo>
                      <a:pt x="3" y="266"/>
                    </a:lnTo>
                    <a:lnTo>
                      <a:pt x="2" y="286"/>
                    </a:lnTo>
                    <a:lnTo>
                      <a:pt x="0" y="305"/>
                    </a:lnTo>
                    <a:lnTo>
                      <a:pt x="0" y="326"/>
                    </a:lnTo>
                    <a:lnTo>
                      <a:pt x="0" y="355"/>
                    </a:lnTo>
                    <a:lnTo>
                      <a:pt x="3" y="383"/>
                    </a:lnTo>
                    <a:lnTo>
                      <a:pt x="6" y="411"/>
                    </a:lnTo>
                    <a:lnTo>
                      <a:pt x="11" y="439"/>
                    </a:lnTo>
                    <a:lnTo>
                      <a:pt x="18" y="466"/>
                    </a:lnTo>
                    <a:lnTo>
                      <a:pt x="25" y="492"/>
                    </a:lnTo>
                    <a:lnTo>
                      <a:pt x="34" y="519"/>
                    </a:lnTo>
                    <a:lnTo>
                      <a:pt x="44" y="544"/>
                    </a:lnTo>
                    <a:lnTo>
                      <a:pt x="55" y="568"/>
                    </a:lnTo>
                    <a:lnTo>
                      <a:pt x="67" y="592"/>
                    </a:lnTo>
                    <a:lnTo>
                      <a:pt x="81" y="615"/>
                    </a:lnTo>
                    <a:lnTo>
                      <a:pt x="95" y="639"/>
                    </a:lnTo>
                    <a:lnTo>
                      <a:pt x="111" y="660"/>
                    </a:lnTo>
                    <a:lnTo>
                      <a:pt x="127" y="681"/>
                    </a:lnTo>
                    <a:lnTo>
                      <a:pt x="145" y="702"/>
                    </a:lnTo>
                    <a:lnTo>
                      <a:pt x="164" y="722"/>
                    </a:lnTo>
                    <a:lnTo>
                      <a:pt x="183" y="740"/>
                    </a:lnTo>
                    <a:lnTo>
                      <a:pt x="203" y="757"/>
                    </a:lnTo>
                    <a:lnTo>
                      <a:pt x="224" y="773"/>
                    </a:lnTo>
                    <a:lnTo>
                      <a:pt x="246" y="790"/>
                    </a:lnTo>
                    <a:lnTo>
                      <a:pt x="269" y="805"/>
                    </a:lnTo>
                    <a:lnTo>
                      <a:pt x="292" y="817"/>
                    </a:lnTo>
                    <a:lnTo>
                      <a:pt x="316" y="830"/>
                    </a:lnTo>
                    <a:lnTo>
                      <a:pt x="342" y="841"/>
                    </a:lnTo>
                    <a:lnTo>
                      <a:pt x="367" y="851"/>
                    </a:lnTo>
                    <a:lnTo>
                      <a:pt x="393" y="860"/>
                    </a:lnTo>
                    <a:lnTo>
                      <a:pt x="419" y="868"/>
                    </a:lnTo>
                    <a:lnTo>
                      <a:pt x="447" y="874"/>
                    </a:lnTo>
                    <a:lnTo>
                      <a:pt x="475" y="878"/>
                    </a:lnTo>
                    <a:lnTo>
                      <a:pt x="502" y="882"/>
                    </a:lnTo>
                    <a:lnTo>
                      <a:pt x="530" y="884"/>
                    </a:lnTo>
                    <a:lnTo>
                      <a:pt x="559" y="885"/>
                    </a:lnTo>
                    <a:lnTo>
                      <a:pt x="588" y="884"/>
                    </a:lnTo>
                    <a:lnTo>
                      <a:pt x="616" y="882"/>
                    </a:lnTo>
                    <a:lnTo>
                      <a:pt x="644" y="878"/>
                    </a:lnTo>
                    <a:lnTo>
                      <a:pt x="672" y="874"/>
                    </a:lnTo>
                    <a:lnTo>
                      <a:pt x="699" y="868"/>
                    </a:lnTo>
                    <a:lnTo>
                      <a:pt x="726" y="860"/>
                    </a:lnTo>
                    <a:lnTo>
                      <a:pt x="751" y="851"/>
                    </a:lnTo>
                    <a:lnTo>
                      <a:pt x="777" y="841"/>
                    </a:lnTo>
                    <a:lnTo>
                      <a:pt x="802" y="830"/>
                    </a:lnTo>
                    <a:lnTo>
                      <a:pt x="826" y="817"/>
                    </a:lnTo>
                    <a:lnTo>
                      <a:pt x="849" y="805"/>
                    </a:lnTo>
                    <a:lnTo>
                      <a:pt x="871" y="790"/>
                    </a:lnTo>
                    <a:lnTo>
                      <a:pt x="893" y="773"/>
                    </a:lnTo>
                    <a:lnTo>
                      <a:pt x="915" y="757"/>
                    </a:lnTo>
                    <a:lnTo>
                      <a:pt x="935" y="740"/>
                    </a:lnTo>
                    <a:lnTo>
                      <a:pt x="954" y="722"/>
                    </a:lnTo>
                    <a:lnTo>
                      <a:pt x="973" y="702"/>
                    </a:lnTo>
                    <a:lnTo>
                      <a:pt x="991" y="681"/>
                    </a:lnTo>
                    <a:lnTo>
                      <a:pt x="1007" y="660"/>
                    </a:lnTo>
                    <a:lnTo>
                      <a:pt x="1022" y="639"/>
                    </a:lnTo>
                    <a:lnTo>
                      <a:pt x="1037" y="615"/>
                    </a:lnTo>
                    <a:lnTo>
                      <a:pt x="1051" y="592"/>
                    </a:lnTo>
                    <a:lnTo>
                      <a:pt x="1063" y="568"/>
                    </a:lnTo>
                    <a:lnTo>
                      <a:pt x="1074" y="544"/>
                    </a:lnTo>
                    <a:lnTo>
                      <a:pt x="1085" y="519"/>
                    </a:lnTo>
                    <a:lnTo>
                      <a:pt x="1094" y="492"/>
                    </a:lnTo>
                    <a:lnTo>
                      <a:pt x="1101" y="466"/>
                    </a:lnTo>
                    <a:lnTo>
                      <a:pt x="1107" y="439"/>
                    </a:lnTo>
                    <a:lnTo>
                      <a:pt x="1112" y="411"/>
                    </a:lnTo>
                    <a:lnTo>
                      <a:pt x="1116" y="383"/>
                    </a:lnTo>
                    <a:lnTo>
                      <a:pt x="1118" y="355"/>
                    </a:lnTo>
                    <a:lnTo>
                      <a:pt x="1118" y="32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06680" y="418932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1025" h="825">
                    <a:moveTo>
                      <a:pt x="1025" y="313"/>
                    </a:moveTo>
                    <a:lnTo>
                      <a:pt x="1025" y="291"/>
                    </a:lnTo>
                    <a:lnTo>
                      <a:pt x="1023" y="269"/>
                    </a:lnTo>
                    <a:lnTo>
                      <a:pt x="1020" y="247"/>
                    </a:lnTo>
                    <a:lnTo>
                      <a:pt x="1018" y="227"/>
                    </a:lnTo>
                    <a:lnTo>
                      <a:pt x="1013" y="206"/>
                    </a:lnTo>
                    <a:lnTo>
                      <a:pt x="1009" y="185"/>
                    </a:lnTo>
                    <a:lnTo>
                      <a:pt x="1003" y="164"/>
                    </a:lnTo>
                    <a:lnTo>
                      <a:pt x="996" y="145"/>
                    </a:lnTo>
                    <a:lnTo>
                      <a:pt x="989" y="125"/>
                    </a:lnTo>
                    <a:lnTo>
                      <a:pt x="981" y="106"/>
                    </a:lnTo>
                    <a:lnTo>
                      <a:pt x="972" y="87"/>
                    </a:lnTo>
                    <a:lnTo>
                      <a:pt x="963" y="69"/>
                    </a:lnTo>
                    <a:lnTo>
                      <a:pt x="952" y="50"/>
                    </a:lnTo>
                    <a:lnTo>
                      <a:pt x="942" y="33"/>
                    </a:lnTo>
                    <a:lnTo>
                      <a:pt x="930" y="16"/>
                    </a:lnTo>
                    <a:lnTo>
                      <a:pt x="918" y="0"/>
                    </a:lnTo>
                    <a:lnTo>
                      <a:pt x="899" y="4"/>
                    </a:lnTo>
                    <a:lnTo>
                      <a:pt x="816" y="24"/>
                    </a:lnTo>
                    <a:lnTo>
                      <a:pt x="830" y="39"/>
                    </a:lnTo>
                    <a:lnTo>
                      <a:pt x="842" y="54"/>
                    </a:lnTo>
                    <a:lnTo>
                      <a:pt x="853" y="69"/>
                    </a:lnTo>
                    <a:lnTo>
                      <a:pt x="865" y="85"/>
                    </a:lnTo>
                    <a:lnTo>
                      <a:pt x="875" y="102"/>
                    </a:lnTo>
                    <a:lnTo>
                      <a:pt x="884" y="119"/>
                    </a:lnTo>
                    <a:lnTo>
                      <a:pt x="892" y="137"/>
                    </a:lnTo>
                    <a:lnTo>
                      <a:pt x="900" y="155"/>
                    </a:lnTo>
                    <a:lnTo>
                      <a:pt x="907" y="174"/>
                    </a:lnTo>
                    <a:lnTo>
                      <a:pt x="914" y="192"/>
                    </a:lnTo>
                    <a:lnTo>
                      <a:pt x="919" y="212"/>
                    </a:lnTo>
                    <a:lnTo>
                      <a:pt x="923" y="231"/>
                    </a:lnTo>
                    <a:lnTo>
                      <a:pt x="927" y="251"/>
                    </a:lnTo>
                    <a:lnTo>
                      <a:pt x="929" y="272"/>
                    </a:lnTo>
                    <a:lnTo>
                      <a:pt x="932" y="292"/>
                    </a:lnTo>
                    <a:lnTo>
                      <a:pt x="932" y="313"/>
                    </a:lnTo>
                    <a:lnTo>
                      <a:pt x="932" y="335"/>
                    </a:lnTo>
                    <a:lnTo>
                      <a:pt x="929" y="356"/>
                    </a:lnTo>
                    <a:lnTo>
                      <a:pt x="927" y="377"/>
                    </a:lnTo>
                    <a:lnTo>
                      <a:pt x="923" y="397"/>
                    </a:lnTo>
                    <a:lnTo>
                      <a:pt x="919" y="418"/>
                    </a:lnTo>
                    <a:lnTo>
                      <a:pt x="913" y="438"/>
                    </a:lnTo>
                    <a:lnTo>
                      <a:pt x="906" y="457"/>
                    </a:lnTo>
                    <a:lnTo>
                      <a:pt x="898" y="476"/>
                    </a:lnTo>
                    <a:lnTo>
                      <a:pt x="890" y="495"/>
                    </a:lnTo>
                    <a:lnTo>
                      <a:pt x="881" y="513"/>
                    </a:lnTo>
                    <a:lnTo>
                      <a:pt x="870" y="530"/>
                    </a:lnTo>
                    <a:lnTo>
                      <a:pt x="860" y="547"/>
                    </a:lnTo>
                    <a:lnTo>
                      <a:pt x="848" y="563"/>
                    </a:lnTo>
                    <a:lnTo>
                      <a:pt x="836" y="579"/>
                    </a:lnTo>
                    <a:lnTo>
                      <a:pt x="823" y="594"/>
                    </a:lnTo>
                    <a:lnTo>
                      <a:pt x="809" y="609"/>
                    </a:lnTo>
                    <a:lnTo>
                      <a:pt x="794" y="623"/>
                    </a:lnTo>
                    <a:lnTo>
                      <a:pt x="779" y="637"/>
                    </a:lnTo>
                    <a:lnTo>
                      <a:pt x="763" y="649"/>
                    </a:lnTo>
                    <a:lnTo>
                      <a:pt x="747" y="660"/>
                    </a:lnTo>
                    <a:lnTo>
                      <a:pt x="730" y="672"/>
                    </a:lnTo>
                    <a:lnTo>
                      <a:pt x="712" y="682"/>
                    </a:lnTo>
                    <a:lnTo>
                      <a:pt x="694" y="691"/>
                    </a:lnTo>
                    <a:lnTo>
                      <a:pt x="675" y="699"/>
                    </a:lnTo>
                    <a:lnTo>
                      <a:pt x="656" y="706"/>
                    </a:lnTo>
                    <a:lnTo>
                      <a:pt x="636" y="713"/>
                    </a:lnTo>
                    <a:lnTo>
                      <a:pt x="617" y="719"/>
                    </a:lnTo>
                    <a:lnTo>
                      <a:pt x="597" y="723"/>
                    </a:lnTo>
                    <a:lnTo>
                      <a:pt x="576" y="727"/>
                    </a:lnTo>
                    <a:lnTo>
                      <a:pt x="556" y="730"/>
                    </a:lnTo>
                    <a:lnTo>
                      <a:pt x="534" y="732"/>
                    </a:lnTo>
                    <a:lnTo>
                      <a:pt x="512" y="732"/>
                    </a:lnTo>
                    <a:lnTo>
                      <a:pt x="491" y="732"/>
                    </a:lnTo>
                    <a:lnTo>
                      <a:pt x="469" y="730"/>
                    </a:lnTo>
                    <a:lnTo>
                      <a:pt x="448" y="727"/>
                    </a:lnTo>
                    <a:lnTo>
                      <a:pt x="428" y="723"/>
                    </a:lnTo>
                    <a:lnTo>
                      <a:pt x="408" y="719"/>
                    </a:lnTo>
                    <a:lnTo>
                      <a:pt x="387" y="713"/>
                    </a:lnTo>
                    <a:lnTo>
                      <a:pt x="368" y="706"/>
                    </a:lnTo>
                    <a:lnTo>
                      <a:pt x="349" y="699"/>
                    </a:lnTo>
                    <a:lnTo>
                      <a:pt x="331" y="691"/>
                    </a:lnTo>
                    <a:lnTo>
                      <a:pt x="312" y="682"/>
                    </a:lnTo>
                    <a:lnTo>
                      <a:pt x="295" y="672"/>
                    </a:lnTo>
                    <a:lnTo>
                      <a:pt x="278" y="660"/>
                    </a:lnTo>
                    <a:lnTo>
                      <a:pt x="261" y="649"/>
                    </a:lnTo>
                    <a:lnTo>
                      <a:pt x="245" y="637"/>
                    </a:lnTo>
                    <a:lnTo>
                      <a:pt x="230" y="623"/>
                    </a:lnTo>
                    <a:lnTo>
                      <a:pt x="215" y="609"/>
                    </a:lnTo>
                    <a:lnTo>
                      <a:pt x="201" y="594"/>
                    </a:lnTo>
                    <a:lnTo>
                      <a:pt x="189" y="579"/>
                    </a:lnTo>
                    <a:lnTo>
                      <a:pt x="176" y="563"/>
                    </a:lnTo>
                    <a:lnTo>
                      <a:pt x="165" y="547"/>
                    </a:lnTo>
                    <a:lnTo>
                      <a:pt x="153" y="530"/>
                    </a:lnTo>
                    <a:lnTo>
                      <a:pt x="144" y="513"/>
                    </a:lnTo>
                    <a:lnTo>
                      <a:pt x="135" y="495"/>
                    </a:lnTo>
                    <a:lnTo>
                      <a:pt x="125" y="476"/>
                    </a:lnTo>
                    <a:lnTo>
                      <a:pt x="118" y="457"/>
                    </a:lnTo>
                    <a:lnTo>
                      <a:pt x="111" y="438"/>
                    </a:lnTo>
                    <a:lnTo>
                      <a:pt x="106" y="418"/>
                    </a:lnTo>
                    <a:lnTo>
                      <a:pt x="101" y="397"/>
                    </a:lnTo>
                    <a:lnTo>
                      <a:pt x="98" y="377"/>
                    </a:lnTo>
                    <a:lnTo>
                      <a:pt x="95" y="356"/>
                    </a:lnTo>
                    <a:lnTo>
                      <a:pt x="93" y="335"/>
                    </a:lnTo>
                    <a:lnTo>
                      <a:pt x="93" y="313"/>
                    </a:lnTo>
                    <a:lnTo>
                      <a:pt x="93" y="292"/>
                    </a:lnTo>
                    <a:lnTo>
                      <a:pt x="95" y="272"/>
                    </a:lnTo>
                    <a:lnTo>
                      <a:pt x="98" y="251"/>
                    </a:lnTo>
                    <a:lnTo>
                      <a:pt x="101" y="231"/>
                    </a:lnTo>
                    <a:lnTo>
                      <a:pt x="106" y="212"/>
                    </a:lnTo>
                    <a:lnTo>
                      <a:pt x="110" y="192"/>
                    </a:lnTo>
                    <a:lnTo>
                      <a:pt x="117" y="174"/>
                    </a:lnTo>
                    <a:lnTo>
                      <a:pt x="124" y="155"/>
                    </a:lnTo>
                    <a:lnTo>
                      <a:pt x="25" y="155"/>
                    </a:lnTo>
                    <a:lnTo>
                      <a:pt x="19" y="174"/>
                    </a:lnTo>
                    <a:lnTo>
                      <a:pt x="13" y="193"/>
                    </a:lnTo>
                    <a:lnTo>
                      <a:pt x="10" y="213"/>
                    </a:lnTo>
                    <a:lnTo>
                      <a:pt x="7" y="232"/>
                    </a:lnTo>
                    <a:lnTo>
                      <a:pt x="3" y="252"/>
                    </a:lnTo>
                    <a:lnTo>
                      <a:pt x="1" y="272"/>
                    </a:lnTo>
                    <a:lnTo>
                      <a:pt x="0" y="292"/>
                    </a:lnTo>
                    <a:lnTo>
                      <a:pt x="0" y="313"/>
                    </a:lnTo>
                    <a:lnTo>
                      <a:pt x="0" y="340"/>
                    </a:lnTo>
                    <a:lnTo>
                      <a:pt x="2" y="365"/>
                    </a:lnTo>
                    <a:lnTo>
                      <a:pt x="5" y="392"/>
                    </a:lnTo>
                    <a:lnTo>
                      <a:pt x="10" y="416"/>
                    </a:lnTo>
                    <a:lnTo>
                      <a:pt x="16" y="441"/>
                    </a:lnTo>
                    <a:lnTo>
                      <a:pt x="23" y="465"/>
                    </a:lnTo>
                    <a:lnTo>
                      <a:pt x="31" y="489"/>
                    </a:lnTo>
                    <a:lnTo>
                      <a:pt x="40" y="513"/>
                    </a:lnTo>
                    <a:lnTo>
                      <a:pt x="50" y="536"/>
                    </a:lnTo>
                    <a:lnTo>
                      <a:pt x="62" y="558"/>
                    </a:lnTo>
                    <a:lnTo>
                      <a:pt x="73" y="578"/>
                    </a:lnTo>
                    <a:lnTo>
                      <a:pt x="87" y="599"/>
                    </a:lnTo>
                    <a:lnTo>
                      <a:pt x="101" y="620"/>
                    </a:lnTo>
                    <a:lnTo>
                      <a:pt x="116" y="639"/>
                    </a:lnTo>
                    <a:lnTo>
                      <a:pt x="132" y="658"/>
                    </a:lnTo>
                    <a:lnTo>
                      <a:pt x="150" y="675"/>
                    </a:lnTo>
                    <a:lnTo>
                      <a:pt x="168" y="692"/>
                    </a:lnTo>
                    <a:lnTo>
                      <a:pt x="186" y="709"/>
                    </a:lnTo>
                    <a:lnTo>
                      <a:pt x="206" y="723"/>
                    </a:lnTo>
                    <a:lnTo>
                      <a:pt x="226" y="737"/>
                    </a:lnTo>
                    <a:lnTo>
                      <a:pt x="246" y="751"/>
                    </a:lnTo>
                    <a:lnTo>
                      <a:pt x="268" y="764"/>
                    </a:lnTo>
                    <a:lnTo>
                      <a:pt x="290" y="775"/>
                    </a:lnTo>
                    <a:lnTo>
                      <a:pt x="312" y="785"/>
                    </a:lnTo>
                    <a:lnTo>
                      <a:pt x="336" y="794"/>
                    </a:lnTo>
                    <a:lnTo>
                      <a:pt x="359" y="802"/>
                    </a:lnTo>
                    <a:lnTo>
                      <a:pt x="384" y="809"/>
                    </a:lnTo>
                    <a:lnTo>
                      <a:pt x="409" y="815"/>
                    </a:lnTo>
                    <a:lnTo>
                      <a:pt x="434" y="819"/>
                    </a:lnTo>
                    <a:lnTo>
                      <a:pt x="460" y="823"/>
                    </a:lnTo>
                    <a:lnTo>
                      <a:pt x="486" y="825"/>
                    </a:lnTo>
                    <a:lnTo>
                      <a:pt x="512" y="825"/>
                    </a:lnTo>
                    <a:lnTo>
                      <a:pt x="538" y="825"/>
                    </a:lnTo>
                    <a:lnTo>
                      <a:pt x="565" y="823"/>
                    </a:lnTo>
                    <a:lnTo>
                      <a:pt x="590" y="819"/>
                    </a:lnTo>
                    <a:lnTo>
                      <a:pt x="616" y="815"/>
                    </a:lnTo>
                    <a:lnTo>
                      <a:pt x="640" y="809"/>
                    </a:lnTo>
                    <a:lnTo>
                      <a:pt x="665" y="802"/>
                    </a:lnTo>
                    <a:lnTo>
                      <a:pt x="688" y="794"/>
                    </a:lnTo>
                    <a:lnTo>
                      <a:pt x="711" y="785"/>
                    </a:lnTo>
                    <a:lnTo>
                      <a:pt x="734" y="775"/>
                    </a:lnTo>
                    <a:lnTo>
                      <a:pt x="756" y="764"/>
                    </a:lnTo>
                    <a:lnTo>
                      <a:pt x="778" y="751"/>
                    </a:lnTo>
                    <a:lnTo>
                      <a:pt x="799" y="737"/>
                    </a:lnTo>
                    <a:lnTo>
                      <a:pt x="819" y="723"/>
                    </a:lnTo>
                    <a:lnTo>
                      <a:pt x="838" y="709"/>
                    </a:lnTo>
                    <a:lnTo>
                      <a:pt x="857" y="692"/>
                    </a:lnTo>
                    <a:lnTo>
                      <a:pt x="875" y="675"/>
                    </a:lnTo>
                    <a:lnTo>
                      <a:pt x="891" y="658"/>
                    </a:lnTo>
                    <a:lnTo>
                      <a:pt x="907" y="639"/>
                    </a:lnTo>
                    <a:lnTo>
                      <a:pt x="923" y="620"/>
                    </a:lnTo>
                    <a:lnTo>
                      <a:pt x="937" y="599"/>
                    </a:lnTo>
                    <a:lnTo>
                      <a:pt x="950" y="578"/>
                    </a:lnTo>
                    <a:lnTo>
                      <a:pt x="963" y="558"/>
                    </a:lnTo>
                    <a:lnTo>
                      <a:pt x="974" y="536"/>
                    </a:lnTo>
                    <a:lnTo>
                      <a:pt x="985" y="513"/>
                    </a:lnTo>
                    <a:lnTo>
                      <a:pt x="994" y="489"/>
                    </a:lnTo>
                    <a:lnTo>
                      <a:pt x="1002" y="465"/>
                    </a:lnTo>
                    <a:lnTo>
                      <a:pt x="1009" y="441"/>
                    </a:lnTo>
                    <a:lnTo>
                      <a:pt x="1015" y="416"/>
                    </a:lnTo>
                    <a:lnTo>
                      <a:pt x="1019" y="392"/>
                    </a:lnTo>
                    <a:lnTo>
                      <a:pt x="1023" y="365"/>
                    </a:lnTo>
                    <a:lnTo>
                      <a:pt x="1024" y="340"/>
                    </a:lnTo>
                    <a:lnTo>
                      <a:pt x="1025" y="31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19640" y="4192560"/>
                <a:ext cx="247320" cy="203400"/>
              </a:xfrm>
              <a:custGeom>
                <a:avLst/>
                <a:gdLst/>
                <a:ahLst/>
                <a:rect l="l" t="t" r="r" b="b"/>
                <a:pathLst>
                  <a:path w="933" h="767">
                    <a:moveTo>
                      <a:pt x="933" y="301"/>
                    </a:moveTo>
                    <a:lnTo>
                      <a:pt x="932" y="279"/>
                    </a:lnTo>
                    <a:lnTo>
                      <a:pt x="931" y="258"/>
                    </a:lnTo>
                    <a:lnTo>
                      <a:pt x="928" y="238"/>
                    </a:lnTo>
                    <a:lnTo>
                      <a:pt x="925" y="217"/>
                    </a:lnTo>
                    <a:lnTo>
                      <a:pt x="920" y="196"/>
                    </a:lnTo>
                    <a:lnTo>
                      <a:pt x="916" y="177"/>
                    </a:lnTo>
                    <a:lnTo>
                      <a:pt x="910" y="157"/>
                    </a:lnTo>
                    <a:lnTo>
                      <a:pt x="903" y="137"/>
                    </a:lnTo>
                    <a:lnTo>
                      <a:pt x="895" y="119"/>
                    </a:lnTo>
                    <a:lnTo>
                      <a:pt x="887" y="101"/>
                    </a:lnTo>
                    <a:lnTo>
                      <a:pt x="877" y="82"/>
                    </a:lnTo>
                    <a:lnTo>
                      <a:pt x="868" y="65"/>
                    </a:lnTo>
                    <a:lnTo>
                      <a:pt x="858" y="48"/>
                    </a:lnTo>
                    <a:lnTo>
                      <a:pt x="846" y="31"/>
                    </a:lnTo>
                    <a:lnTo>
                      <a:pt x="835" y="15"/>
                    </a:lnTo>
                    <a:lnTo>
                      <a:pt x="822" y="0"/>
                    </a:lnTo>
                    <a:lnTo>
                      <a:pt x="717" y="24"/>
                    </a:lnTo>
                    <a:lnTo>
                      <a:pt x="731" y="38"/>
                    </a:lnTo>
                    <a:lnTo>
                      <a:pt x="744" y="52"/>
                    </a:lnTo>
                    <a:lnTo>
                      <a:pt x="756" y="66"/>
                    </a:lnTo>
                    <a:lnTo>
                      <a:pt x="768" y="81"/>
                    </a:lnTo>
                    <a:lnTo>
                      <a:pt x="778" y="97"/>
                    </a:lnTo>
                    <a:lnTo>
                      <a:pt x="789" y="113"/>
                    </a:lnTo>
                    <a:lnTo>
                      <a:pt x="798" y="131"/>
                    </a:lnTo>
                    <a:lnTo>
                      <a:pt x="806" y="148"/>
                    </a:lnTo>
                    <a:lnTo>
                      <a:pt x="814" y="165"/>
                    </a:lnTo>
                    <a:lnTo>
                      <a:pt x="820" y="184"/>
                    </a:lnTo>
                    <a:lnTo>
                      <a:pt x="826" y="202"/>
                    </a:lnTo>
                    <a:lnTo>
                      <a:pt x="830" y="222"/>
                    </a:lnTo>
                    <a:lnTo>
                      <a:pt x="834" y="241"/>
                    </a:lnTo>
                    <a:lnTo>
                      <a:pt x="837" y="261"/>
                    </a:lnTo>
                    <a:lnTo>
                      <a:pt x="838" y="280"/>
                    </a:lnTo>
                    <a:lnTo>
                      <a:pt x="839" y="301"/>
                    </a:lnTo>
                    <a:lnTo>
                      <a:pt x="838" y="320"/>
                    </a:lnTo>
                    <a:lnTo>
                      <a:pt x="837" y="339"/>
                    </a:lnTo>
                    <a:lnTo>
                      <a:pt x="835" y="358"/>
                    </a:lnTo>
                    <a:lnTo>
                      <a:pt x="831" y="376"/>
                    </a:lnTo>
                    <a:lnTo>
                      <a:pt x="827" y="394"/>
                    </a:lnTo>
                    <a:lnTo>
                      <a:pt x="822" y="412"/>
                    </a:lnTo>
                    <a:lnTo>
                      <a:pt x="816" y="429"/>
                    </a:lnTo>
                    <a:lnTo>
                      <a:pt x="809" y="446"/>
                    </a:lnTo>
                    <a:lnTo>
                      <a:pt x="802" y="463"/>
                    </a:lnTo>
                    <a:lnTo>
                      <a:pt x="794" y="479"/>
                    </a:lnTo>
                    <a:lnTo>
                      <a:pt x="785" y="494"/>
                    </a:lnTo>
                    <a:lnTo>
                      <a:pt x="775" y="510"/>
                    </a:lnTo>
                    <a:lnTo>
                      <a:pt x="764" y="524"/>
                    </a:lnTo>
                    <a:lnTo>
                      <a:pt x="754" y="537"/>
                    </a:lnTo>
                    <a:lnTo>
                      <a:pt x="743" y="551"/>
                    </a:lnTo>
                    <a:lnTo>
                      <a:pt x="730" y="564"/>
                    </a:lnTo>
                    <a:lnTo>
                      <a:pt x="717" y="577"/>
                    </a:lnTo>
                    <a:lnTo>
                      <a:pt x="703" y="588"/>
                    </a:lnTo>
                    <a:lnTo>
                      <a:pt x="689" y="600"/>
                    </a:lnTo>
                    <a:lnTo>
                      <a:pt x="674" y="610"/>
                    </a:lnTo>
                    <a:lnTo>
                      <a:pt x="659" y="619"/>
                    </a:lnTo>
                    <a:lnTo>
                      <a:pt x="643" y="628"/>
                    </a:lnTo>
                    <a:lnTo>
                      <a:pt x="627" y="637"/>
                    </a:lnTo>
                    <a:lnTo>
                      <a:pt x="611" y="645"/>
                    </a:lnTo>
                    <a:lnTo>
                      <a:pt x="594" y="650"/>
                    </a:lnTo>
                    <a:lnTo>
                      <a:pt x="576" y="657"/>
                    </a:lnTo>
                    <a:lnTo>
                      <a:pt x="559" y="662"/>
                    </a:lnTo>
                    <a:lnTo>
                      <a:pt x="542" y="665"/>
                    </a:lnTo>
                    <a:lnTo>
                      <a:pt x="523" y="669"/>
                    </a:lnTo>
                    <a:lnTo>
                      <a:pt x="504" y="671"/>
                    </a:lnTo>
                    <a:lnTo>
                      <a:pt x="485" y="673"/>
                    </a:lnTo>
                    <a:lnTo>
                      <a:pt x="466" y="673"/>
                    </a:lnTo>
                    <a:lnTo>
                      <a:pt x="447" y="673"/>
                    </a:lnTo>
                    <a:lnTo>
                      <a:pt x="428" y="671"/>
                    </a:lnTo>
                    <a:lnTo>
                      <a:pt x="409" y="669"/>
                    </a:lnTo>
                    <a:lnTo>
                      <a:pt x="391" y="665"/>
                    </a:lnTo>
                    <a:lnTo>
                      <a:pt x="373" y="662"/>
                    </a:lnTo>
                    <a:lnTo>
                      <a:pt x="355" y="657"/>
                    </a:lnTo>
                    <a:lnTo>
                      <a:pt x="338" y="650"/>
                    </a:lnTo>
                    <a:lnTo>
                      <a:pt x="322" y="645"/>
                    </a:lnTo>
                    <a:lnTo>
                      <a:pt x="304" y="637"/>
                    </a:lnTo>
                    <a:lnTo>
                      <a:pt x="288" y="628"/>
                    </a:lnTo>
                    <a:lnTo>
                      <a:pt x="273" y="619"/>
                    </a:lnTo>
                    <a:lnTo>
                      <a:pt x="258" y="610"/>
                    </a:lnTo>
                    <a:lnTo>
                      <a:pt x="243" y="600"/>
                    </a:lnTo>
                    <a:lnTo>
                      <a:pt x="229" y="588"/>
                    </a:lnTo>
                    <a:lnTo>
                      <a:pt x="215" y="577"/>
                    </a:lnTo>
                    <a:lnTo>
                      <a:pt x="203" y="564"/>
                    </a:lnTo>
                    <a:lnTo>
                      <a:pt x="190" y="551"/>
                    </a:lnTo>
                    <a:lnTo>
                      <a:pt x="179" y="537"/>
                    </a:lnTo>
                    <a:lnTo>
                      <a:pt x="167" y="524"/>
                    </a:lnTo>
                    <a:lnTo>
                      <a:pt x="157" y="510"/>
                    </a:lnTo>
                    <a:lnTo>
                      <a:pt x="147" y="494"/>
                    </a:lnTo>
                    <a:lnTo>
                      <a:pt x="138" y="479"/>
                    </a:lnTo>
                    <a:lnTo>
                      <a:pt x="130" y="463"/>
                    </a:lnTo>
                    <a:lnTo>
                      <a:pt x="123" y="446"/>
                    </a:lnTo>
                    <a:lnTo>
                      <a:pt x="116" y="429"/>
                    </a:lnTo>
                    <a:lnTo>
                      <a:pt x="110" y="412"/>
                    </a:lnTo>
                    <a:lnTo>
                      <a:pt x="105" y="394"/>
                    </a:lnTo>
                    <a:lnTo>
                      <a:pt x="101" y="376"/>
                    </a:lnTo>
                    <a:lnTo>
                      <a:pt x="98" y="358"/>
                    </a:lnTo>
                    <a:lnTo>
                      <a:pt x="95" y="339"/>
                    </a:lnTo>
                    <a:lnTo>
                      <a:pt x="94" y="320"/>
                    </a:lnTo>
                    <a:lnTo>
                      <a:pt x="93" y="301"/>
                    </a:lnTo>
                    <a:lnTo>
                      <a:pt x="94" y="278"/>
                    </a:lnTo>
                    <a:lnTo>
                      <a:pt x="95" y="256"/>
                    </a:lnTo>
                    <a:lnTo>
                      <a:pt x="99" y="234"/>
                    </a:lnTo>
                    <a:lnTo>
                      <a:pt x="104" y="212"/>
                    </a:lnTo>
                    <a:lnTo>
                      <a:pt x="109" y="192"/>
                    </a:lnTo>
                    <a:lnTo>
                      <a:pt x="116" y="172"/>
                    </a:lnTo>
                    <a:lnTo>
                      <a:pt x="124" y="151"/>
                    </a:lnTo>
                    <a:lnTo>
                      <a:pt x="134" y="133"/>
                    </a:lnTo>
                    <a:lnTo>
                      <a:pt x="89" y="143"/>
                    </a:lnTo>
                    <a:lnTo>
                      <a:pt x="27" y="143"/>
                    </a:lnTo>
                    <a:lnTo>
                      <a:pt x="22" y="162"/>
                    </a:lnTo>
                    <a:lnTo>
                      <a:pt x="16" y="181"/>
                    </a:lnTo>
                    <a:lnTo>
                      <a:pt x="11" y="200"/>
                    </a:lnTo>
                    <a:lnTo>
                      <a:pt x="8" y="219"/>
                    </a:lnTo>
                    <a:lnTo>
                      <a:pt x="4" y="240"/>
                    </a:lnTo>
                    <a:lnTo>
                      <a:pt x="2" y="260"/>
                    </a:lnTo>
                    <a:lnTo>
                      <a:pt x="1" y="280"/>
                    </a:lnTo>
                    <a:lnTo>
                      <a:pt x="0" y="301"/>
                    </a:lnTo>
                    <a:lnTo>
                      <a:pt x="1" y="325"/>
                    </a:lnTo>
                    <a:lnTo>
                      <a:pt x="2" y="348"/>
                    </a:lnTo>
                    <a:lnTo>
                      <a:pt x="5" y="371"/>
                    </a:lnTo>
                    <a:lnTo>
                      <a:pt x="10" y="394"/>
                    </a:lnTo>
                    <a:lnTo>
                      <a:pt x="15" y="418"/>
                    </a:lnTo>
                    <a:lnTo>
                      <a:pt x="20" y="439"/>
                    </a:lnTo>
                    <a:lnTo>
                      <a:pt x="29" y="461"/>
                    </a:lnTo>
                    <a:lnTo>
                      <a:pt x="37" y="482"/>
                    </a:lnTo>
                    <a:lnTo>
                      <a:pt x="46" y="503"/>
                    </a:lnTo>
                    <a:lnTo>
                      <a:pt x="56" y="522"/>
                    </a:lnTo>
                    <a:lnTo>
                      <a:pt x="68" y="542"/>
                    </a:lnTo>
                    <a:lnTo>
                      <a:pt x="79" y="562"/>
                    </a:lnTo>
                    <a:lnTo>
                      <a:pt x="93" y="580"/>
                    </a:lnTo>
                    <a:lnTo>
                      <a:pt x="107" y="597"/>
                    </a:lnTo>
                    <a:lnTo>
                      <a:pt x="121" y="615"/>
                    </a:lnTo>
                    <a:lnTo>
                      <a:pt x="137" y="631"/>
                    </a:lnTo>
                    <a:lnTo>
                      <a:pt x="153" y="646"/>
                    </a:lnTo>
                    <a:lnTo>
                      <a:pt x="169" y="661"/>
                    </a:lnTo>
                    <a:lnTo>
                      <a:pt x="188" y="675"/>
                    </a:lnTo>
                    <a:lnTo>
                      <a:pt x="205" y="687"/>
                    </a:lnTo>
                    <a:lnTo>
                      <a:pt x="225" y="699"/>
                    </a:lnTo>
                    <a:lnTo>
                      <a:pt x="244" y="710"/>
                    </a:lnTo>
                    <a:lnTo>
                      <a:pt x="264" y="721"/>
                    </a:lnTo>
                    <a:lnTo>
                      <a:pt x="285" y="730"/>
                    </a:lnTo>
                    <a:lnTo>
                      <a:pt x="305" y="738"/>
                    </a:lnTo>
                    <a:lnTo>
                      <a:pt x="327" y="746"/>
                    </a:lnTo>
                    <a:lnTo>
                      <a:pt x="349" y="752"/>
                    </a:lnTo>
                    <a:lnTo>
                      <a:pt x="372" y="758"/>
                    </a:lnTo>
                    <a:lnTo>
                      <a:pt x="395" y="761"/>
                    </a:lnTo>
                    <a:lnTo>
                      <a:pt x="418" y="765"/>
                    </a:lnTo>
                    <a:lnTo>
                      <a:pt x="443" y="766"/>
                    </a:lnTo>
                    <a:lnTo>
                      <a:pt x="466" y="767"/>
                    </a:lnTo>
                    <a:lnTo>
                      <a:pt x="490" y="766"/>
                    </a:lnTo>
                    <a:lnTo>
                      <a:pt x="514" y="765"/>
                    </a:lnTo>
                    <a:lnTo>
                      <a:pt x="537" y="761"/>
                    </a:lnTo>
                    <a:lnTo>
                      <a:pt x="560" y="758"/>
                    </a:lnTo>
                    <a:lnTo>
                      <a:pt x="582" y="752"/>
                    </a:lnTo>
                    <a:lnTo>
                      <a:pt x="605" y="746"/>
                    </a:lnTo>
                    <a:lnTo>
                      <a:pt x="626" y="738"/>
                    </a:lnTo>
                    <a:lnTo>
                      <a:pt x="648" y="730"/>
                    </a:lnTo>
                    <a:lnTo>
                      <a:pt x="668" y="721"/>
                    </a:lnTo>
                    <a:lnTo>
                      <a:pt x="688" y="710"/>
                    </a:lnTo>
                    <a:lnTo>
                      <a:pt x="708" y="699"/>
                    </a:lnTo>
                    <a:lnTo>
                      <a:pt x="726" y="687"/>
                    </a:lnTo>
                    <a:lnTo>
                      <a:pt x="745" y="675"/>
                    </a:lnTo>
                    <a:lnTo>
                      <a:pt x="762" y="661"/>
                    </a:lnTo>
                    <a:lnTo>
                      <a:pt x="779" y="646"/>
                    </a:lnTo>
                    <a:lnTo>
                      <a:pt x="796" y="631"/>
                    </a:lnTo>
                    <a:lnTo>
                      <a:pt x="811" y="615"/>
                    </a:lnTo>
                    <a:lnTo>
                      <a:pt x="826" y="597"/>
                    </a:lnTo>
                    <a:lnTo>
                      <a:pt x="839" y="580"/>
                    </a:lnTo>
                    <a:lnTo>
                      <a:pt x="852" y="562"/>
                    </a:lnTo>
                    <a:lnTo>
                      <a:pt x="865" y="542"/>
                    </a:lnTo>
                    <a:lnTo>
                      <a:pt x="876" y="522"/>
                    </a:lnTo>
                    <a:lnTo>
                      <a:pt x="887" y="503"/>
                    </a:lnTo>
                    <a:lnTo>
                      <a:pt x="896" y="482"/>
                    </a:lnTo>
                    <a:lnTo>
                      <a:pt x="904" y="461"/>
                    </a:lnTo>
                    <a:lnTo>
                      <a:pt x="911" y="439"/>
                    </a:lnTo>
                    <a:lnTo>
                      <a:pt x="918" y="418"/>
                    </a:lnTo>
                    <a:lnTo>
                      <a:pt x="922" y="394"/>
                    </a:lnTo>
                    <a:lnTo>
                      <a:pt x="927" y="371"/>
                    </a:lnTo>
                    <a:lnTo>
                      <a:pt x="929" y="348"/>
                    </a:lnTo>
                    <a:lnTo>
                      <a:pt x="932" y="325"/>
                    </a:lnTo>
                    <a:lnTo>
                      <a:pt x="933" y="30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32240" y="4195800"/>
                <a:ext cx="222120" cy="187200"/>
              </a:xfrm>
              <a:custGeom>
                <a:avLst/>
                <a:gdLst/>
                <a:ahLst/>
                <a:rect l="l" t="t" r="r" b="b"/>
                <a:pathLst>
                  <a:path w="839" h="708">
                    <a:moveTo>
                      <a:pt x="839" y="289"/>
                    </a:moveTo>
                    <a:lnTo>
                      <a:pt x="839" y="268"/>
                    </a:lnTo>
                    <a:lnTo>
                      <a:pt x="836" y="248"/>
                    </a:lnTo>
                    <a:lnTo>
                      <a:pt x="834" y="227"/>
                    </a:lnTo>
                    <a:lnTo>
                      <a:pt x="830" y="207"/>
                    </a:lnTo>
                    <a:lnTo>
                      <a:pt x="826" y="188"/>
                    </a:lnTo>
                    <a:lnTo>
                      <a:pt x="821" y="168"/>
                    </a:lnTo>
                    <a:lnTo>
                      <a:pt x="814" y="150"/>
                    </a:lnTo>
                    <a:lnTo>
                      <a:pt x="807" y="131"/>
                    </a:lnTo>
                    <a:lnTo>
                      <a:pt x="799" y="113"/>
                    </a:lnTo>
                    <a:lnTo>
                      <a:pt x="791" y="95"/>
                    </a:lnTo>
                    <a:lnTo>
                      <a:pt x="782" y="78"/>
                    </a:lnTo>
                    <a:lnTo>
                      <a:pt x="772" y="61"/>
                    </a:lnTo>
                    <a:lnTo>
                      <a:pt x="760" y="45"/>
                    </a:lnTo>
                    <a:lnTo>
                      <a:pt x="749" y="30"/>
                    </a:lnTo>
                    <a:lnTo>
                      <a:pt x="737" y="15"/>
                    </a:lnTo>
                    <a:lnTo>
                      <a:pt x="723" y="0"/>
                    </a:lnTo>
                    <a:lnTo>
                      <a:pt x="652" y="17"/>
                    </a:lnTo>
                    <a:lnTo>
                      <a:pt x="600" y="17"/>
                    </a:lnTo>
                    <a:lnTo>
                      <a:pt x="616" y="29"/>
                    </a:lnTo>
                    <a:lnTo>
                      <a:pt x="631" y="41"/>
                    </a:lnTo>
                    <a:lnTo>
                      <a:pt x="646" y="54"/>
                    </a:lnTo>
                    <a:lnTo>
                      <a:pt x="660" y="68"/>
                    </a:lnTo>
                    <a:lnTo>
                      <a:pt x="672" y="83"/>
                    </a:lnTo>
                    <a:lnTo>
                      <a:pt x="684" y="99"/>
                    </a:lnTo>
                    <a:lnTo>
                      <a:pt x="696" y="115"/>
                    </a:lnTo>
                    <a:lnTo>
                      <a:pt x="706" y="132"/>
                    </a:lnTo>
                    <a:lnTo>
                      <a:pt x="714" y="151"/>
                    </a:lnTo>
                    <a:lnTo>
                      <a:pt x="722" y="168"/>
                    </a:lnTo>
                    <a:lnTo>
                      <a:pt x="729" y="188"/>
                    </a:lnTo>
                    <a:lnTo>
                      <a:pt x="735" y="207"/>
                    </a:lnTo>
                    <a:lnTo>
                      <a:pt x="739" y="227"/>
                    </a:lnTo>
                    <a:lnTo>
                      <a:pt x="743" y="246"/>
                    </a:lnTo>
                    <a:lnTo>
                      <a:pt x="745" y="268"/>
                    </a:lnTo>
                    <a:lnTo>
                      <a:pt x="745" y="289"/>
                    </a:lnTo>
                    <a:lnTo>
                      <a:pt x="745" y="305"/>
                    </a:lnTo>
                    <a:lnTo>
                      <a:pt x="744" y="323"/>
                    </a:lnTo>
                    <a:lnTo>
                      <a:pt x="742" y="339"/>
                    </a:lnTo>
                    <a:lnTo>
                      <a:pt x="738" y="355"/>
                    </a:lnTo>
                    <a:lnTo>
                      <a:pt x="735" y="371"/>
                    </a:lnTo>
                    <a:lnTo>
                      <a:pt x="731" y="386"/>
                    </a:lnTo>
                    <a:lnTo>
                      <a:pt x="726" y="401"/>
                    </a:lnTo>
                    <a:lnTo>
                      <a:pt x="720" y="416"/>
                    </a:lnTo>
                    <a:lnTo>
                      <a:pt x="713" y="430"/>
                    </a:lnTo>
                    <a:lnTo>
                      <a:pt x="706" y="445"/>
                    </a:lnTo>
                    <a:lnTo>
                      <a:pt x="698" y="459"/>
                    </a:lnTo>
                    <a:lnTo>
                      <a:pt x="690" y="471"/>
                    </a:lnTo>
                    <a:lnTo>
                      <a:pt x="681" y="484"/>
                    </a:lnTo>
                    <a:lnTo>
                      <a:pt x="671" y="497"/>
                    </a:lnTo>
                    <a:lnTo>
                      <a:pt x="661" y="508"/>
                    </a:lnTo>
                    <a:lnTo>
                      <a:pt x="649" y="520"/>
                    </a:lnTo>
                    <a:lnTo>
                      <a:pt x="638" y="530"/>
                    </a:lnTo>
                    <a:lnTo>
                      <a:pt x="626" y="540"/>
                    </a:lnTo>
                    <a:lnTo>
                      <a:pt x="615" y="551"/>
                    </a:lnTo>
                    <a:lnTo>
                      <a:pt x="601" y="559"/>
                    </a:lnTo>
                    <a:lnTo>
                      <a:pt x="588" y="568"/>
                    </a:lnTo>
                    <a:lnTo>
                      <a:pt x="574" y="576"/>
                    </a:lnTo>
                    <a:lnTo>
                      <a:pt x="561" y="583"/>
                    </a:lnTo>
                    <a:lnTo>
                      <a:pt x="546" y="589"/>
                    </a:lnTo>
                    <a:lnTo>
                      <a:pt x="532" y="596"/>
                    </a:lnTo>
                    <a:lnTo>
                      <a:pt x="516" y="600"/>
                    </a:lnTo>
                    <a:lnTo>
                      <a:pt x="501" y="605"/>
                    </a:lnTo>
                    <a:lnTo>
                      <a:pt x="484" y="608"/>
                    </a:lnTo>
                    <a:lnTo>
                      <a:pt x="468" y="611"/>
                    </a:lnTo>
                    <a:lnTo>
                      <a:pt x="452" y="613"/>
                    </a:lnTo>
                    <a:lnTo>
                      <a:pt x="436" y="614"/>
                    </a:lnTo>
                    <a:lnTo>
                      <a:pt x="419" y="615"/>
                    </a:lnTo>
                    <a:lnTo>
                      <a:pt x="403" y="614"/>
                    </a:lnTo>
                    <a:lnTo>
                      <a:pt x="385" y="613"/>
                    </a:lnTo>
                    <a:lnTo>
                      <a:pt x="369" y="611"/>
                    </a:lnTo>
                    <a:lnTo>
                      <a:pt x="353" y="608"/>
                    </a:lnTo>
                    <a:lnTo>
                      <a:pt x="338" y="605"/>
                    </a:lnTo>
                    <a:lnTo>
                      <a:pt x="322" y="600"/>
                    </a:lnTo>
                    <a:lnTo>
                      <a:pt x="307" y="596"/>
                    </a:lnTo>
                    <a:lnTo>
                      <a:pt x="292" y="589"/>
                    </a:lnTo>
                    <a:lnTo>
                      <a:pt x="278" y="583"/>
                    </a:lnTo>
                    <a:lnTo>
                      <a:pt x="264" y="576"/>
                    </a:lnTo>
                    <a:lnTo>
                      <a:pt x="250" y="568"/>
                    </a:lnTo>
                    <a:lnTo>
                      <a:pt x="236" y="559"/>
                    </a:lnTo>
                    <a:lnTo>
                      <a:pt x="224" y="551"/>
                    </a:lnTo>
                    <a:lnTo>
                      <a:pt x="211" y="540"/>
                    </a:lnTo>
                    <a:lnTo>
                      <a:pt x="200" y="530"/>
                    </a:lnTo>
                    <a:lnTo>
                      <a:pt x="188" y="520"/>
                    </a:lnTo>
                    <a:lnTo>
                      <a:pt x="178" y="508"/>
                    </a:lnTo>
                    <a:lnTo>
                      <a:pt x="167" y="497"/>
                    </a:lnTo>
                    <a:lnTo>
                      <a:pt x="158" y="484"/>
                    </a:lnTo>
                    <a:lnTo>
                      <a:pt x="149" y="471"/>
                    </a:lnTo>
                    <a:lnTo>
                      <a:pt x="140" y="459"/>
                    </a:lnTo>
                    <a:lnTo>
                      <a:pt x="133" y="445"/>
                    </a:lnTo>
                    <a:lnTo>
                      <a:pt x="125" y="430"/>
                    </a:lnTo>
                    <a:lnTo>
                      <a:pt x="119" y="416"/>
                    </a:lnTo>
                    <a:lnTo>
                      <a:pt x="113" y="401"/>
                    </a:lnTo>
                    <a:lnTo>
                      <a:pt x="107" y="386"/>
                    </a:lnTo>
                    <a:lnTo>
                      <a:pt x="103" y="371"/>
                    </a:lnTo>
                    <a:lnTo>
                      <a:pt x="99" y="355"/>
                    </a:lnTo>
                    <a:lnTo>
                      <a:pt x="97" y="339"/>
                    </a:lnTo>
                    <a:lnTo>
                      <a:pt x="95" y="323"/>
                    </a:lnTo>
                    <a:lnTo>
                      <a:pt x="93" y="305"/>
                    </a:lnTo>
                    <a:lnTo>
                      <a:pt x="93" y="289"/>
                    </a:lnTo>
                    <a:lnTo>
                      <a:pt x="93" y="264"/>
                    </a:lnTo>
                    <a:lnTo>
                      <a:pt x="97" y="238"/>
                    </a:lnTo>
                    <a:lnTo>
                      <a:pt x="102" y="214"/>
                    </a:lnTo>
                    <a:lnTo>
                      <a:pt x="108" y="191"/>
                    </a:lnTo>
                    <a:lnTo>
                      <a:pt x="117" y="168"/>
                    </a:lnTo>
                    <a:lnTo>
                      <a:pt x="126" y="146"/>
                    </a:lnTo>
                    <a:lnTo>
                      <a:pt x="137" y="125"/>
                    </a:lnTo>
                    <a:lnTo>
                      <a:pt x="150" y="106"/>
                    </a:lnTo>
                    <a:lnTo>
                      <a:pt x="42" y="131"/>
                    </a:lnTo>
                    <a:lnTo>
                      <a:pt x="31" y="131"/>
                    </a:lnTo>
                    <a:lnTo>
                      <a:pt x="24" y="150"/>
                    </a:lnTo>
                    <a:lnTo>
                      <a:pt x="17" y="168"/>
                    </a:lnTo>
                    <a:lnTo>
                      <a:pt x="13" y="188"/>
                    </a:lnTo>
                    <a:lnTo>
                      <a:pt x="8" y="207"/>
                    </a:lnTo>
                    <a:lnTo>
                      <a:pt x="5" y="227"/>
                    </a:lnTo>
                    <a:lnTo>
                      <a:pt x="2" y="248"/>
                    </a:lnTo>
                    <a:lnTo>
                      <a:pt x="0" y="268"/>
                    </a:lnTo>
                    <a:lnTo>
                      <a:pt x="0" y="289"/>
                    </a:lnTo>
                    <a:lnTo>
                      <a:pt x="0" y="311"/>
                    </a:lnTo>
                    <a:lnTo>
                      <a:pt x="2" y="332"/>
                    </a:lnTo>
                    <a:lnTo>
                      <a:pt x="5" y="353"/>
                    </a:lnTo>
                    <a:lnTo>
                      <a:pt x="8" y="373"/>
                    </a:lnTo>
                    <a:lnTo>
                      <a:pt x="13" y="394"/>
                    </a:lnTo>
                    <a:lnTo>
                      <a:pt x="18" y="414"/>
                    </a:lnTo>
                    <a:lnTo>
                      <a:pt x="25" y="433"/>
                    </a:lnTo>
                    <a:lnTo>
                      <a:pt x="32" y="452"/>
                    </a:lnTo>
                    <a:lnTo>
                      <a:pt x="42" y="471"/>
                    </a:lnTo>
                    <a:lnTo>
                      <a:pt x="51" y="489"/>
                    </a:lnTo>
                    <a:lnTo>
                      <a:pt x="60" y="506"/>
                    </a:lnTo>
                    <a:lnTo>
                      <a:pt x="72" y="523"/>
                    </a:lnTo>
                    <a:lnTo>
                      <a:pt x="83" y="539"/>
                    </a:lnTo>
                    <a:lnTo>
                      <a:pt x="96" y="555"/>
                    </a:lnTo>
                    <a:lnTo>
                      <a:pt x="108" y="570"/>
                    </a:lnTo>
                    <a:lnTo>
                      <a:pt x="122" y="585"/>
                    </a:lnTo>
                    <a:lnTo>
                      <a:pt x="137" y="599"/>
                    </a:lnTo>
                    <a:lnTo>
                      <a:pt x="152" y="613"/>
                    </a:lnTo>
                    <a:lnTo>
                      <a:pt x="168" y="625"/>
                    </a:lnTo>
                    <a:lnTo>
                      <a:pt x="185" y="636"/>
                    </a:lnTo>
                    <a:lnTo>
                      <a:pt x="202" y="648"/>
                    </a:lnTo>
                    <a:lnTo>
                      <a:pt x="219" y="658"/>
                    </a:lnTo>
                    <a:lnTo>
                      <a:pt x="238" y="667"/>
                    </a:lnTo>
                    <a:lnTo>
                      <a:pt x="256" y="675"/>
                    </a:lnTo>
                    <a:lnTo>
                      <a:pt x="275" y="682"/>
                    </a:lnTo>
                    <a:lnTo>
                      <a:pt x="294" y="689"/>
                    </a:lnTo>
                    <a:lnTo>
                      <a:pt x="315" y="695"/>
                    </a:lnTo>
                    <a:lnTo>
                      <a:pt x="335" y="699"/>
                    </a:lnTo>
                    <a:lnTo>
                      <a:pt x="355" y="703"/>
                    </a:lnTo>
                    <a:lnTo>
                      <a:pt x="376" y="706"/>
                    </a:lnTo>
                    <a:lnTo>
                      <a:pt x="398" y="708"/>
                    </a:lnTo>
                    <a:lnTo>
                      <a:pt x="419" y="708"/>
                    </a:lnTo>
                    <a:lnTo>
                      <a:pt x="441" y="708"/>
                    </a:lnTo>
                    <a:lnTo>
                      <a:pt x="463" y="706"/>
                    </a:lnTo>
                    <a:lnTo>
                      <a:pt x="483" y="703"/>
                    </a:lnTo>
                    <a:lnTo>
                      <a:pt x="504" y="699"/>
                    </a:lnTo>
                    <a:lnTo>
                      <a:pt x="524" y="695"/>
                    </a:lnTo>
                    <a:lnTo>
                      <a:pt x="543" y="689"/>
                    </a:lnTo>
                    <a:lnTo>
                      <a:pt x="563" y="682"/>
                    </a:lnTo>
                    <a:lnTo>
                      <a:pt x="582" y="675"/>
                    </a:lnTo>
                    <a:lnTo>
                      <a:pt x="601" y="667"/>
                    </a:lnTo>
                    <a:lnTo>
                      <a:pt x="619" y="658"/>
                    </a:lnTo>
                    <a:lnTo>
                      <a:pt x="637" y="648"/>
                    </a:lnTo>
                    <a:lnTo>
                      <a:pt x="654" y="636"/>
                    </a:lnTo>
                    <a:lnTo>
                      <a:pt x="670" y="625"/>
                    </a:lnTo>
                    <a:lnTo>
                      <a:pt x="686" y="613"/>
                    </a:lnTo>
                    <a:lnTo>
                      <a:pt x="701" y="599"/>
                    </a:lnTo>
                    <a:lnTo>
                      <a:pt x="716" y="585"/>
                    </a:lnTo>
                    <a:lnTo>
                      <a:pt x="730" y="570"/>
                    </a:lnTo>
                    <a:lnTo>
                      <a:pt x="743" y="555"/>
                    </a:lnTo>
                    <a:lnTo>
                      <a:pt x="755" y="539"/>
                    </a:lnTo>
                    <a:lnTo>
                      <a:pt x="767" y="523"/>
                    </a:lnTo>
                    <a:lnTo>
                      <a:pt x="777" y="506"/>
                    </a:lnTo>
                    <a:lnTo>
                      <a:pt x="788" y="489"/>
                    </a:lnTo>
                    <a:lnTo>
                      <a:pt x="797" y="471"/>
                    </a:lnTo>
                    <a:lnTo>
                      <a:pt x="805" y="452"/>
                    </a:lnTo>
                    <a:lnTo>
                      <a:pt x="813" y="433"/>
                    </a:lnTo>
                    <a:lnTo>
                      <a:pt x="820" y="414"/>
                    </a:lnTo>
                    <a:lnTo>
                      <a:pt x="826" y="394"/>
                    </a:lnTo>
                    <a:lnTo>
                      <a:pt x="830" y="373"/>
                    </a:lnTo>
                    <a:lnTo>
                      <a:pt x="834" y="353"/>
                    </a:lnTo>
                    <a:lnTo>
                      <a:pt x="836" y="332"/>
                    </a:lnTo>
                    <a:lnTo>
                      <a:pt x="839" y="311"/>
                    </a:lnTo>
                    <a:lnTo>
                      <a:pt x="839" y="289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44840" y="4199040"/>
                <a:ext cx="196920" cy="171360"/>
              </a:xfrm>
              <a:custGeom>
                <a:avLst/>
                <a:gdLst/>
                <a:ahLst/>
                <a:rect l="l" t="t" r="r" b="b"/>
                <a:pathLst>
                  <a:path w="746" h="649">
                    <a:moveTo>
                      <a:pt x="746" y="277"/>
                    </a:moveTo>
                    <a:lnTo>
                      <a:pt x="745" y="256"/>
                    </a:lnTo>
                    <a:lnTo>
                      <a:pt x="744" y="237"/>
                    </a:lnTo>
                    <a:lnTo>
                      <a:pt x="741" y="217"/>
                    </a:lnTo>
                    <a:lnTo>
                      <a:pt x="737" y="198"/>
                    </a:lnTo>
                    <a:lnTo>
                      <a:pt x="733" y="178"/>
                    </a:lnTo>
                    <a:lnTo>
                      <a:pt x="727" y="160"/>
                    </a:lnTo>
                    <a:lnTo>
                      <a:pt x="721" y="141"/>
                    </a:lnTo>
                    <a:lnTo>
                      <a:pt x="713" y="124"/>
                    </a:lnTo>
                    <a:lnTo>
                      <a:pt x="705" y="107"/>
                    </a:lnTo>
                    <a:lnTo>
                      <a:pt x="696" y="89"/>
                    </a:lnTo>
                    <a:lnTo>
                      <a:pt x="685" y="73"/>
                    </a:lnTo>
                    <a:lnTo>
                      <a:pt x="675" y="57"/>
                    </a:lnTo>
                    <a:lnTo>
                      <a:pt x="663" y="42"/>
                    </a:lnTo>
                    <a:lnTo>
                      <a:pt x="651" y="28"/>
                    </a:lnTo>
                    <a:lnTo>
                      <a:pt x="638" y="14"/>
                    </a:lnTo>
                    <a:lnTo>
                      <a:pt x="624" y="0"/>
                    </a:lnTo>
                    <a:lnTo>
                      <a:pt x="606" y="5"/>
                    </a:lnTo>
                    <a:lnTo>
                      <a:pt x="456" y="5"/>
                    </a:lnTo>
                    <a:lnTo>
                      <a:pt x="447" y="7"/>
                    </a:lnTo>
                    <a:lnTo>
                      <a:pt x="468" y="14"/>
                    </a:lnTo>
                    <a:lnTo>
                      <a:pt x="489" y="22"/>
                    </a:lnTo>
                    <a:lnTo>
                      <a:pt x="510" y="33"/>
                    </a:lnTo>
                    <a:lnTo>
                      <a:pt x="528" y="44"/>
                    </a:lnTo>
                    <a:lnTo>
                      <a:pt x="547" y="58"/>
                    </a:lnTo>
                    <a:lnTo>
                      <a:pt x="564" y="73"/>
                    </a:lnTo>
                    <a:lnTo>
                      <a:pt x="579" y="89"/>
                    </a:lnTo>
                    <a:lnTo>
                      <a:pt x="594" y="105"/>
                    </a:lnTo>
                    <a:lnTo>
                      <a:pt x="607" y="124"/>
                    </a:lnTo>
                    <a:lnTo>
                      <a:pt x="618" y="143"/>
                    </a:lnTo>
                    <a:lnTo>
                      <a:pt x="629" y="164"/>
                    </a:lnTo>
                    <a:lnTo>
                      <a:pt x="637" y="185"/>
                    </a:lnTo>
                    <a:lnTo>
                      <a:pt x="644" y="207"/>
                    </a:lnTo>
                    <a:lnTo>
                      <a:pt x="648" y="230"/>
                    </a:lnTo>
                    <a:lnTo>
                      <a:pt x="652" y="253"/>
                    </a:lnTo>
                    <a:lnTo>
                      <a:pt x="653" y="277"/>
                    </a:lnTo>
                    <a:lnTo>
                      <a:pt x="652" y="291"/>
                    </a:lnTo>
                    <a:lnTo>
                      <a:pt x="652" y="306"/>
                    </a:lnTo>
                    <a:lnTo>
                      <a:pt x="650" y="320"/>
                    </a:lnTo>
                    <a:lnTo>
                      <a:pt x="647" y="334"/>
                    </a:lnTo>
                    <a:lnTo>
                      <a:pt x="644" y="346"/>
                    </a:lnTo>
                    <a:lnTo>
                      <a:pt x="640" y="360"/>
                    </a:lnTo>
                    <a:lnTo>
                      <a:pt x="636" y="373"/>
                    </a:lnTo>
                    <a:lnTo>
                      <a:pt x="631" y="385"/>
                    </a:lnTo>
                    <a:lnTo>
                      <a:pt x="625" y="398"/>
                    </a:lnTo>
                    <a:lnTo>
                      <a:pt x="618" y="410"/>
                    </a:lnTo>
                    <a:lnTo>
                      <a:pt x="613" y="421"/>
                    </a:lnTo>
                    <a:lnTo>
                      <a:pt x="605" y="433"/>
                    </a:lnTo>
                    <a:lnTo>
                      <a:pt x="598" y="444"/>
                    </a:lnTo>
                    <a:lnTo>
                      <a:pt x="588" y="455"/>
                    </a:lnTo>
                    <a:lnTo>
                      <a:pt x="580" y="465"/>
                    </a:lnTo>
                    <a:lnTo>
                      <a:pt x="571" y="474"/>
                    </a:lnTo>
                    <a:lnTo>
                      <a:pt x="561" y="483"/>
                    </a:lnTo>
                    <a:lnTo>
                      <a:pt x="551" y="493"/>
                    </a:lnTo>
                    <a:lnTo>
                      <a:pt x="540" y="501"/>
                    </a:lnTo>
                    <a:lnTo>
                      <a:pt x="530" y="509"/>
                    </a:lnTo>
                    <a:lnTo>
                      <a:pt x="518" y="516"/>
                    </a:lnTo>
                    <a:lnTo>
                      <a:pt x="506" y="523"/>
                    </a:lnTo>
                    <a:lnTo>
                      <a:pt x="494" y="528"/>
                    </a:lnTo>
                    <a:lnTo>
                      <a:pt x="482" y="534"/>
                    </a:lnTo>
                    <a:lnTo>
                      <a:pt x="470" y="540"/>
                    </a:lnTo>
                    <a:lnTo>
                      <a:pt x="456" y="543"/>
                    </a:lnTo>
                    <a:lnTo>
                      <a:pt x="443" y="548"/>
                    </a:lnTo>
                    <a:lnTo>
                      <a:pt x="429" y="550"/>
                    </a:lnTo>
                    <a:lnTo>
                      <a:pt x="415" y="553"/>
                    </a:lnTo>
                    <a:lnTo>
                      <a:pt x="402" y="555"/>
                    </a:lnTo>
                    <a:lnTo>
                      <a:pt x="388" y="556"/>
                    </a:lnTo>
                    <a:lnTo>
                      <a:pt x="373" y="556"/>
                    </a:lnTo>
                    <a:lnTo>
                      <a:pt x="359" y="556"/>
                    </a:lnTo>
                    <a:lnTo>
                      <a:pt x="345" y="555"/>
                    </a:lnTo>
                    <a:lnTo>
                      <a:pt x="330" y="553"/>
                    </a:lnTo>
                    <a:lnTo>
                      <a:pt x="317" y="550"/>
                    </a:lnTo>
                    <a:lnTo>
                      <a:pt x="303" y="548"/>
                    </a:lnTo>
                    <a:lnTo>
                      <a:pt x="290" y="543"/>
                    </a:lnTo>
                    <a:lnTo>
                      <a:pt x="277" y="540"/>
                    </a:lnTo>
                    <a:lnTo>
                      <a:pt x="264" y="534"/>
                    </a:lnTo>
                    <a:lnTo>
                      <a:pt x="252" y="528"/>
                    </a:lnTo>
                    <a:lnTo>
                      <a:pt x="240" y="523"/>
                    </a:lnTo>
                    <a:lnTo>
                      <a:pt x="229" y="516"/>
                    </a:lnTo>
                    <a:lnTo>
                      <a:pt x="217" y="509"/>
                    </a:lnTo>
                    <a:lnTo>
                      <a:pt x="205" y="501"/>
                    </a:lnTo>
                    <a:lnTo>
                      <a:pt x="195" y="493"/>
                    </a:lnTo>
                    <a:lnTo>
                      <a:pt x="185" y="483"/>
                    </a:lnTo>
                    <a:lnTo>
                      <a:pt x="175" y="474"/>
                    </a:lnTo>
                    <a:lnTo>
                      <a:pt x="166" y="465"/>
                    </a:lnTo>
                    <a:lnTo>
                      <a:pt x="157" y="455"/>
                    </a:lnTo>
                    <a:lnTo>
                      <a:pt x="149" y="444"/>
                    </a:lnTo>
                    <a:lnTo>
                      <a:pt x="141" y="433"/>
                    </a:lnTo>
                    <a:lnTo>
                      <a:pt x="134" y="421"/>
                    </a:lnTo>
                    <a:lnTo>
                      <a:pt x="127" y="410"/>
                    </a:lnTo>
                    <a:lnTo>
                      <a:pt x="121" y="398"/>
                    </a:lnTo>
                    <a:lnTo>
                      <a:pt x="115" y="385"/>
                    </a:lnTo>
                    <a:lnTo>
                      <a:pt x="111" y="373"/>
                    </a:lnTo>
                    <a:lnTo>
                      <a:pt x="106" y="360"/>
                    </a:lnTo>
                    <a:lnTo>
                      <a:pt x="103" y="346"/>
                    </a:lnTo>
                    <a:lnTo>
                      <a:pt x="99" y="334"/>
                    </a:lnTo>
                    <a:lnTo>
                      <a:pt x="97" y="320"/>
                    </a:lnTo>
                    <a:lnTo>
                      <a:pt x="95" y="306"/>
                    </a:lnTo>
                    <a:lnTo>
                      <a:pt x="94" y="291"/>
                    </a:lnTo>
                    <a:lnTo>
                      <a:pt x="94" y="277"/>
                    </a:lnTo>
                    <a:lnTo>
                      <a:pt x="94" y="262"/>
                    </a:lnTo>
                    <a:lnTo>
                      <a:pt x="95" y="247"/>
                    </a:lnTo>
                    <a:lnTo>
                      <a:pt x="97" y="233"/>
                    </a:lnTo>
                    <a:lnTo>
                      <a:pt x="99" y="218"/>
                    </a:lnTo>
                    <a:lnTo>
                      <a:pt x="103" y="204"/>
                    </a:lnTo>
                    <a:lnTo>
                      <a:pt x="107" y="191"/>
                    </a:lnTo>
                    <a:lnTo>
                      <a:pt x="112" y="178"/>
                    </a:lnTo>
                    <a:lnTo>
                      <a:pt x="118" y="164"/>
                    </a:lnTo>
                    <a:lnTo>
                      <a:pt x="124" y="151"/>
                    </a:lnTo>
                    <a:lnTo>
                      <a:pt x="129" y="140"/>
                    </a:lnTo>
                    <a:lnTo>
                      <a:pt x="137" y="127"/>
                    </a:lnTo>
                    <a:lnTo>
                      <a:pt x="145" y="116"/>
                    </a:lnTo>
                    <a:lnTo>
                      <a:pt x="154" y="105"/>
                    </a:lnTo>
                    <a:lnTo>
                      <a:pt x="162" y="94"/>
                    </a:lnTo>
                    <a:lnTo>
                      <a:pt x="172" y="83"/>
                    </a:lnTo>
                    <a:lnTo>
                      <a:pt x="181" y="74"/>
                    </a:lnTo>
                    <a:lnTo>
                      <a:pt x="150" y="82"/>
                    </a:lnTo>
                    <a:lnTo>
                      <a:pt x="41" y="109"/>
                    </a:lnTo>
                    <a:lnTo>
                      <a:pt x="31" y="127"/>
                    </a:lnTo>
                    <a:lnTo>
                      <a:pt x="23" y="148"/>
                    </a:lnTo>
                    <a:lnTo>
                      <a:pt x="16" y="168"/>
                    </a:lnTo>
                    <a:lnTo>
                      <a:pt x="11" y="188"/>
                    </a:lnTo>
                    <a:lnTo>
                      <a:pt x="6" y="210"/>
                    </a:lnTo>
                    <a:lnTo>
                      <a:pt x="2" y="232"/>
                    </a:lnTo>
                    <a:lnTo>
                      <a:pt x="1" y="254"/>
                    </a:lnTo>
                    <a:lnTo>
                      <a:pt x="0" y="277"/>
                    </a:lnTo>
                    <a:lnTo>
                      <a:pt x="1" y="296"/>
                    </a:lnTo>
                    <a:lnTo>
                      <a:pt x="2" y="315"/>
                    </a:lnTo>
                    <a:lnTo>
                      <a:pt x="5" y="334"/>
                    </a:lnTo>
                    <a:lnTo>
                      <a:pt x="8" y="352"/>
                    </a:lnTo>
                    <a:lnTo>
                      <a:pt x="12" y="370"/>
                    </a:lnTo>
                    <a:lnTo>
                      <a:pt x="17" y="388"/>
                    </a:lnTo>
                    <a:lnTo>
                      <a:pt x="23" y="405"/>
                    </a:lnTo>
                    <a:lnTo>
                      <a:pt x="30" y="422"/>
                    </a:lnTo>
                    <a:lnTo>
                      <a:pt x="37" y="439"/>
                    </a:lnTo>
                    <a:lnTo>
                      <a:pt x="45" y="455"/>
                    </a:lnTo>
                    <a:lnTo>
                      <a:pt x="54" y="470"/>
                    </a:lnTo>
                    <a:lnTo>
                      <a:pt x="64" y="486"/>
                    </a:lnTo>
                    <a:lnTo>
                      <a:pt x="74" y="500"/>
                    </a:lnTo>
                    <a:lnTo>
                      <a:pt x="86" y="513"/>
                    </a:lnTo>
                    <a:lnTo>
                      <a:pt x="97" y="527"/>
                    </a:lnTo>
                    <a:lnTo>
                      <a:pt x="110" y="540"/>
                    </a:lnTo>
                    <a:lnTo>
                      <a:pt x="122" y="553"/>
                    </a:lnTo>
                    <a:lnTo>
                      <a:pt x="136" y="564"/>
                    </a:lnTo>
                    <a:lnTo>
                      <a:pt x="150" y="576"/>
                    </a:lnTo>
                    <a:lnTo>
                      <a:pt x="165" y="586"/>
                    </a:lnTo>
                    <a:lnTo>
                      <a:pt x="180" y="595"/>
                    </a:lnTo>
                    <a:lnTo>
                      <a:pt x="195" y="604"/>
                    </a:lnTo>
                    <a:lnTo>
                      <a:pt x="211" y="613"/>
                    </a:lnTo>
                    <a:lnTo>
                      <a:pt x="229" y="621"/>
                    </a:lnTo>
                    <a:lnTo>
                      <a:pt x="245" y="626"/>
                    </a:lnTo>
                    <a:lnTo>
                      <a:pt x="262" y="633"/>
                    </a:lnTo>
                    <a:lnTo>
                      <a:pt x="280" y="638"/>
                    </a:lnTo>
                    <a:lnTo>
                      <a:pt x="298" y="641"/>
                    </a:lnTo>
                    <a:lnTo>
                      <a:pt x="316" y="645"/>
                    </a:lnTo>
                    <a:lnTo>
                      <a:pt x="335" y="647"/>
                    </a:lnTo>
                    <a:lnTo>
                      <a:pt x="354" y="649"/>
                    </a:lnTo>
                    <a:lnTo>
                      <a:pt x="373" y="649"/>
                    </a:lnTo>
                    <a:lnTo>
                      <a:pt x="392" y="649"/>
                    </a:lnTo>
                    <a:lnTo>
                      <a:pt x="411" y="647"/>
                    </a:lnTo>
                    <a:lnTo>
                      <a:pt x="430" y="645"/>
                    </a:lnTo>
                    <a:lnTo>
                      <a:pt x="449" y="641"/>
                    </a:lnTo>
                    <a:lnTo>
                      <a:pt x="466" y="638"/>
                    </a:lnTo>
                    <a:lnTo>
                      <a:pt x="483" y="633"/>
                    </a:lnTo>
                    <a:lnTo>
                      <a:pt x="501" y="626"/>
                    </a:lnTo>
                    <a:lnTo>
                      <a:pt x="518" y="621"/>
                    </a:lnTo>
                    <a:lnTo>
                      <a:pt x="534" y="613"/>
                    </a:lnTo>
                    <a:lnTo>
                      <a:pt x="550" y="604"/>
                    </a:lnTo>
                    <a:lnTo>
                      <a:pt x="566" y="595"/>
                    </a:lnTo>
                    <a:lnTo>
                      <a:pt x="581" y="586"/>
                    </a:lnTo>
                    <a:lnTo>
                      <a:pt x="596" y="576"/>
                    </a:lnTo>
                    <a:lnTo>
                      <a:pt x="610" y="564"/>
                    </a:lnTo>
                    <a:lnTo>
                      <a:pt x="624" y="553"/>
                    </a:lnTo>
                    <a:lnTo>
                      <a:pt x="637" y="540"/>
                    </a:lnTo>
                    <a:lnTo>
                      <a:pt x="650" y="527"/>
                    </a:lnTo>
                    <a:lnTo>
                      <a:pt x="661" y="513"/>
                    </a:lnTo>
                    <a:lnTo>
                      <a:pt x="671" y="500"/>
                    </a:lnTo>
                    <a:lnTo>
                      <a:pt x="682" y="486"/>
                    </a:lnTo>
                    <a:lnTo>
                      <a:pt x="692" y="470"/>
                    </a:lnTo>
                    <a:lnTo>
                      <a:pt x="701" y="455"/>
                    </a:lnTo>
                    <a:lnTo>
                      <a:pt x="709" y="439"/>
                    </a:lnTo>
                    <a:lnTo>
                      <a:pt x="716" y="422"/>
                    </a:lnTo>
                    <a:lnTo>
                      <a:pt x="723" y="405"/>
                    </a:lnTo>
                    <a:lnTo>
                      <a:pt x="729" y="388"/>
                    </a:lnTo>
                    <a:lnTo>
                      <a:pt x="734" y="370"/>
                    </a:lnTo>
                    <a:lnTo>
                      <a:pt x="738" y="352"/>
                    </a:lnTo>
                    <a:lnTo>
                      <a:pt x="742" y="334"/>
                    </a:lnTo>
                    <a:lnTo>
                      <a:pt x="744" y="315"/>
                    </a:lnTo>
                    <a:lnTo>
                      <a:pt x="745" y="296"/>
                    </a:lnTo>
                    <a:lnTo>
                      <a:pt x="746" y="27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57440" y="4200480"/>
                <a:ext cx="171720" cy="158760"/>
              </a:xfrm>
              <a:custGeom>
                <a:avLst/>
                <a:gdLst/>
                <a:ahLst/>
                <a:rect l="l" t="t" r="r" b="b"/>
                <a:pathLst>
                  <a:path w="652" h="598">
                    <a:moveTo>
                      <a:pt x="652" y="272"/>
                    </a:moveTo>
                    <a:lnTo>
                      <a:pt x="652" y="251"/>
                    </a:lnTo>
                    <a:lnTo>
                      <a:pt x="650" y="229"/>
                    </a:lnTo>
                    <a:lnTo>
                      <a:pt x="646" y="210"/>
                    </a:lnTo>
                    <a:lnTo>
                      <a:pt x="642" y="190"/>
                    </a:lnTo>
                    <a:lnTo>
                      <a:pt x="636" y="171"/>
                    </a:lnTo>
                    <a:lnTo>
                      <a:pt x="629" y="151"/>
                    </a:lnTo>
                    <a:lnTo>
                      <a:pt x="621" y="134"/>
                    </a:lnTo>
                    <a:lnTo>
                      <a:pt x="613" y="115"/>
                    </a:lnTo>
                    <a:lnTo>
                      <a:pt x="603" y="98"/>
                    </a:lnTo>
                    <a:lnTo>
                      <a:pt x="591" y="82"/>
                    </a:lnTo>
                    <a:lnTo>
                      <a:pt x="579" y="66"/>
                    </a:lnTo>
                    <a:lnTo>
                      <a:pt x="567" y="51"/>
                    </a:lnTo>
                    <a:lnTo>
                      <a:pt x="553" y="37"/>
                    </a:lnTo>
                    <a:lnTo>
                      <a:pt x="538" y="24"/>
                    </a:lnTo>
                    <a:lnTo>
                      <a:pt x="523" y="12"/>
                    </a:lnTo>
                    <a:lnTo>
                      <a:pt x="507" y="0"/>
                    </a:lnTo>
                    <a:lnTo>
                      <a:pt x="409" y="0"/>
                    </a:lnTo>
                    <a:lnTo>
                      <a:pt x="254" y="37"/>
                    </a:lnTo>
                    <a:lnTo>
                      <a:pt x="103" y="77"/>
                    </a:lnTo>
                    <a:lnTo>
                      <a:pt x="57" y="89"/>
                    </a:lnTo>
                    <a:lnTo>
                      <a:pt x="44" y="108"/>
                    </a:lnTo>
                    <a:lnTo>
                      <a:pt x="33" y="129"/>
                    </a:lnTo>
                    <a:lnTo>
                      <a:pt x="24" y="151"/>
                    </a:lnTo>
                    <a:lnTo>
                      <a:pt x="15" y="174"/>
                    </a:lnTo>
                    <a:lnTo>
                      <a:pt x="9" y="197"/>
                    </a:lnTo>
                    <a:lnTo>
                      <a:pt x="4" y="221"/>
                    </a:lnTo>
                    <a:lnTo>
                      <a:pt x="0" y="247"/>
                    </a:lnTo>
                    <a:lnTo>
                      <a:pt x="0" y="272"/>
                    </a:lnTo>
                    <a:lnTo>
                      <a:pt x="0" y="288"/>
                    </a:lnTo>
                    <a:lnTo>
                      <a:pt x="2" y="306"/>
                    </a:lnTo>
                    <a:lnTo>
                      <a:pt x="4" y="322"/>
                    </a:lnTo>
                    <a:lnTo>
                      <a:pt x="6" y="338"/>
                    </a:lnTo>
                    <a:lnTo>
                      <a:pt x="10" y="354"/>
                    </a:lnTo>
                    <a:lnTo>
                      <a:pt x="14" y="369"/>
                    </a:lnTo>
                    <a:lnTo>
                      <a:pt x="20" y="384"/>
                    </a:lnTo>
                    <a:lnTo>
                      <a:pt x="26" y="399"/>
                    </a:lnTo>
                    <a:lnTo>
                      <a:pt x="32" y="413"/>
                    </a:lnTo>
                    <a:lnTo>
                      <a:pt x="40" y="428"/>
                    </a:lnTo>
                    <a:lnTo>
                      <a:pt x="47" y="442"/>
                    </a:lnTo>
                    <a:lnTo>
                      <a:pt x="56" y="454"/>
                    </a:lnTo>
                    <a:lnTo>
                      <a:pt x="65" y="467"/>
                    </a:lnTo>
                    <a:lnTo>
                      <a:pt x="74" y="480"/>
                    </a:lnTo>
                    <a:lnTo>
                      <a:pt x="85" y="491"/>
                    </a:lnTo>
                    <a:lnTo>
                      <a:pt x="95" y="503"/>
                    </a:lnTo>
                    <a:lnTo>
                      <a:pt x="107" y="513"/>
                    </a:lnTo>
                    <a:lnTo>
                      <a:pt x="118" y="523"/>
                    </a:lnTo>
                    <a:lnTo>
                      <a:pt x="131" y="534"/>
                    </a:lnTo>
                    <a:lnTo>
                      <a:pt x="143" y="542"/>
                    </a:lnTo>
                    <a:lnTo>
                      <a:pt x="157" y="551"/>
                    </a:lnTo>
                    <a:lnTo>
                      <a:pt x="171" y="559"/>
                    </a:lnTo>
                    <a:lnTo>
                      <a:pt x="185" y="566"/>
                    </a:lnTo>
                    <a:lnTo>
                      <a:pt x="199" y="572"/>
                    </a:lnTo>
                    <a:lnTo>
                      <a:pt x="214" y="579"/>
                    </a:lnTo>
                    <a:lnTo>
                      <a:pt x="229" y="583"/>
                    </a:lnTo>
                    <a:lnTo>
                      <a:pt x="245" y="588"/>
                    </a:lnTo>
                    <a:lnTo>
                      <a:pt x="260" y="591"/>
                    </a:lnTo>
                    <a:lnTo>
                      <a:pt x="276" y="594"/>
                    </a:lnTo>
                    <a:lnTo>
                      <a:pt x="292" y="596"/>
                    </a:lnTo>
                    <a:lnTo>
                      <a:pt x="310" y="597"/>
                    </a:lnTo>
                    <a:lnTo>
                      <a:pt x="326" y="598"/>
                    </a:lnTo>
                    <a:lnTo>
                      <a:pt x="343" y="597"/>
                    </a:lnTo>
                    <a:lnTo>
                      <a:pt x="359" y="596"/>
                    </a:lnTo>
                    <a:lnTo>
                      <a:pt x="375" y="594"/>
                    </a:lnTo>
                    <a:lnTo>
                      <a:pt x="391" y="591"/>
                    </a:lnTo>
                    <a:lnTo>
                      <a:pt x="408" y="588"/>
                    </a:lnTo>
                    <a:lnTo>
                      <a:pt x="423" y="583"/>
                    </a:lnTo>
                    <a:lnTo>
                      <a:pt x="439" y="579"/>
                    </a:lnTo>
                    <a:lnTo>
                      <a:pt x="453" y="572"/>
                    </a:lnTo>
                    <a:lnTo>
                      <a:pt x="468" y="566"/>
                    </a:lnTo>
                    <a:lnTo>
                      <a:pt x="481" y="559"/>
                    </a:lnTo>
                    <a:lnTo>
                      <a:pt x="495" y="551"/>
                    </a:lnTo>
                    <a:lnTo>
                      <a:pt x="508" y="542"/>
                    </a:lnTo>
                    <a:lnTo>
                      <a:pt x="522" y="534"/>
                    </a:lnTo>
                    <a:lnTo>
                      <a:pt x="533" y="523"/>
                    </a:lnTo>
                    <a:lnTo>
                      <a:pt x="545" y="513"/>
                    </a:lnTo>
                    <a:lnTo>
                      <a:pt x="556" y="503"/>
                    </a:lnTo>
                    <a:lnTo>
                      <a:pt x="568" y="491"/>
                    </a:lnTo>
                    <a:lnTo>
                      <a:pt x="578" y="480"/>
                    </a:lnTo>
                    <a:lnTo>
                      <a:pt x="588" y="467"/>
                    </a:lnTo>
                    <a:lnTo>
                      <a:pt x="597" y="454"/>
                    </a:lnTo>
                    <a:lnTo>
                      <a:pt x="605" y="442"/>
                    </a:lnTo>
                    <a:lnTo>
                      <a:pt x="613" y="428"/>
                    </a:lnTo>
                    <a:lnTo>
                      <a:pt x="620" y="413"/>
                    </a:lnTo>
                    <a:lnTo>
                      <a:pt x="627" y="399"/>
                    </a:lnTo>
                    <a:lnTo>
                      <a:pt x="633" y="384"/>
                    </a:lnTo>
                    <a:lnTo>
                      <a:pt x="638" y="369"/>
                    </a:lnTo>
                    <a:lnTo>
                      <a:pt x="642" y="354"/>
                    </a:lnTo>
                    <a:lnTo>
                      <a:pt x="645" y="338"/>
                    </a:lnTo>
                    <a:lnTo>
                      <a:pt x="649" y="322"/>
                    </a:lnTo>
                    <a:lnTo>
                      <a:pt x="651" y="306"/>
                    </a:lnTo>
                    <a:lnTo>
                      <a:pt x="652" y="288"/>
                    </a:lnTo>
                    <a:lnTo>
                      <a:pt x="652" y="272"/>
                    </a:lnTo>
                    <a:close/>
                    <a:moveTo>
                      <a:pt x="560" y="272"/>
                    </a:moveTo>
                    <a:lnTo>
                      <a:pt x="559" y="284"/>
                    </a:lnTo>
                    <a:lnTo>
                      <a:pt x="558" y="295"/>
                    </a:lnTo>
                    <a:lnTo>
                      <a:pt x="556" y="308"/>
                    </a:lnTo>
                    <a:lnTo>
                      <a:pt x="554" y="319"/>
                    </a:lnTo>
                    <a:lnTo>
                      <a:pt x="548" y="341"/>
                    </a:lnTo>
                    <a:lnTo>
                      <a:pt x="541" y="362"/>
                    </a:lnTo>
                    <a:lnTo>
                      <a:pt x="531" y="383"/>
                    </a:lnTo>
                    <a:lnTo>
                      <a:pt x="519" y="402"/>
                    </a:lnTo>
                    <a:lnTo>
                      <a:pt x="506" y="420"/>
                    </a:lnTo>
                    <a:lnTo>
                      <a:pt x="491" y="437"/>
                    </a:lnTo>
                    <a:lnTo>
                      <a:pt x="474" y="452"/>
                    </a:lnTo>
                    <a:lnTo>
                      <a:pt x="456" y="465"/>
                    </a:lnTo>
                    <a:lnTo>
                      <a:pt x="438" y="476"/>
                    </a:lnTo>
                    <a:lnTo>
                      <a:pt x="417" y="487"/>
                    </a:lnTo>
                    <a:lnTo>
                      <a:pt x="395" y="495"/>
                    </a:lnTo>
                    <a:lnTo>
                      <a:pt x="373" y="500"/>
                    </a:lnTo>
                    <a:lnTo>
                      <a:pt x="361" y="503"/>
                    </a:lnTo>
                    <a:lnTo>
                      <a:pt x="350" y="504"/>
                    </a:lnTo>
                    <a:lnTo>
                      <a:pt x="338" y="505"/>
                    </a:lnTo>
                    <a:lnTo>
                      <a:pt x="326" y="505"/>
                    </a:lnTo>
                    <a:lnTo>
                      <a:pt x="314" y="505"/>
                    </a:lnTo>
                    <a:lnTo>
                      <a:pt x="303" y="504"/>
                    </a:lnTo>
                    <a:lnTo>
                      <a:pt x="291" y="503"/>
                    </a:lnTo>
                    <a:lnTo>
                      <a:pt x="280" y="500"/>
                    </a:lnTo>
                    <a:lnTo>
                      <a:pt x="268" y="498"/>
                    </a:lnTo>
                    <a:lnTo>
                      <a:pt x="256" y="495"/>
                    </a:lnTo>
                    <a:lnTo>
                      <a:pt x="246" y="491"/>
                    </a:lnTo>
                    <a:lnTo>
                      <a:pt x="236" y="487"/>
                    </a:lnTo>
                    <a:lnTo>
                      <a:pt x="215" y="476"/>
                    </a:lnTo>
                    <a:lnTo>
                      <a:pt x="195" y="465"/>
                    </a:lnTo>
                    <a:lnTo>
                      <a:pt x="178" y="452"/>
                    </a:lnTo>
                    <a:lnTo>
                      <a:pt x="162" y="437"/>
                    </a:lnTo>
                    <a:lnTo>
                      <a:pt x="147" y="420"/>
                    </a:lnTo>
                    <a:lnTo>
                      <a:pt x="133" y="402"/>
                    </a:lnTo>
                    <a:lnTo>
                      <a:pt x="122" y="383"/>
                    </a:lnTo>
                    <a:lnTo>
                      <a:pt x="111" y="362"/>
                    </a:lnTo>
                    <a:lnTo>
                      <a:pt x="108" y="352"/>
                    </a:lnTo>
                    <a:lnTo>
                      <a:pt x="103" y="341"/>
                    </a:lnTo>
                    <a:lnTo>
                      <a:pt x="101" y="330"/>
                    </a:lnTo>
                    <a:lnTo>
                      <a:pt x="97" y="319"/>
                    </a:lnTo>
                    <a:lnTo>
                      <a:pt x="96" y="308"/>
                    </a:lnTo>
                    <a:lnTo>
                      <a:pt x="94" y="295"/>
                    </a:lnTo>
                    <a:lnTo>
                      <a:pt x="94" y="284"/>
                    </a:lnTo>
                    <a:lnTo>
                      <a:pt x="93" y="272"/>
                    </a:lnTo>
                    <a:lnTo>
                      <a:pt x="94" y="259"/>
                    </a:lnTo>
                    <a:lnTo>
                      <a:pt x="94" y="248"/>
                    </a:lnTo>
                    <a:lnTo>
                      <a:pt x="96" y="236"/>
                    </a:lnTo>
                    <a:lnTo>
                      <a:pt x="97" y="225"/>
                    </a:lnTo>
                    <a:lnTo>
                      <a:pt x="103" y="203"/>
                    </a:lnTo>
                    <a:lnTo>
                      <a:pt x="111" y="181"/>
                    </a:lnTo>
                    <a:lnTo>
                      <a:pt x="122" y="161"/>
                    </a:lnTo>
                    <a:lnTo>
                      <a:pt x="133" y="142"/>
                    </a:lnTo>
                    <a:lnTo>
                      <a:pt x="147" y="123"/>
                    </a:lnTo>
                    <a:lnTo>
                      <a:pt x="162" y="107"/>
                    </a:lnTo>
                    <a:lnTo>
                      <a:pt x="178" y="92"/>
                    </a:lnTo>
                    <a:lnTo>
                      <a:pt x="195" y="78"/>
                    </a:lnTo>
                    <a:lnTo>
                      <a:pt x="215" y="67"/>
                    </a:lnTo>
                    <a:lnTo>
                      <a:pt x="236" y="58"/>
                    </a:lnTo>
                    <a:lnTo>
                      <a:pt x="256" y="50"/>
                    </a:lnTo>
                    <a:lnTo>
                      <a:pt x="280" y="44"/>
                    </a:lnTo>
                    <a:lnTo>
                      <a:pt x="291" y="42"/>
                    </a:lnTo>
                    <a:lnTo>
                      <a:pt x="303" y="40"/>
                    </a:lnTo>
                    <a:lnTo>
                      <a:pt x="314" y="39"/>
                    </a:lnTo>
                    <a:lnTo>
                      <a:pt x="326" y="39"/>
                    </a:lnTo>
                    <a:lnTo>
                      <a:pt x="338" y="39"/>
                    </a:lnTo>
                    <a:lnTo>
                      <a:pt x="350" y="40"/>
                    </a:lnTo>
                    <a:lnTo>
                      <a:pt x="361" y="42"/>
                    </a:lnTo>
                    <a:lnTo>
                      <a:pt x="373" y="44"/>
                    </a:lnTo>
                    <a:lnTo>
                      <a:pt x="395" y="50"/>
                    </a:lnTo>
                    <a:lnTo>
                      <a:pt x="417" y="58"/>
                    </a:lnTo>
                    <a:lnTo>
                      <a:pt x="438" y="67"/>
                    </a:lnTo>
                    <a:lnTo>
                      <a:pt x="456" y="78"/>
                    </a:lnTo>
                    <a:lnTo>
                      <a:pt x="474" y="92"/>
                    </a:lnTo>
                    <a:lnTo>
                      <a:pt x="491" y="107"/>
                    </a:lnTo>
                    <a:lnTo>
                      <a:pt x="506" y="123"/>
                    </a:lnTo>
                    <a:lnTo>
                      <a:pt x="519" y="142"/>
                    </a:lnTo>
                    <a:lnTo>
                      <a:pt x="531" y="161"/>
                    </a:lnTo>
                    <a:lnTo>
                      <a:pt x="541" y="181"/>
                    </a:lnTo>
                    <a:lnTo>
                      <a:pt x="548" y="203"/>
                    </a:lnTo>
                    <a:lnTo>
                      <a:pt x="554" y="225"/>
                    </a:lnTo>
                    <a:lnTo>
                      <a:pt x="556" y="236"/>
                    </a:lnTo>
                    <a:lnTo>
                      <a:pt x="558" y="248"/>
                    </a:lnTo>
                    <a:lnTo>
                      <a:pt x="559" y="259"/>
                    </a:lnTo>
                    <a:lnTo>
                      <a:pt x="560" y="272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68600" y="4200480"/>
                <a:ext cx="147600" cy="146160"/>
              </a:xfrm>
              <a:custGeom>
                <a:avLst/>
                <a:gdLst/>
                <a:ahLst/>
                <a:rect l="l" t="t" r="r" b="b"/>
                <a:pathLst>
                  <a:path w="559" h="549">
                    <a:moveTo>
                      <a:pt x="559" y="270"/>
                    </a:moveTo>
                    <a:lnTo>
                      <a:pt x="558" y="246"/>
                    </a:lnTo>
                    <a:lnTo>
                      <a:pt x="554" y="223"/>
                    </a:lnTo>
                    <a:lnTo>
                      <a:pt x="550" y="200"/>
                    </a:lnTo>
                    <a:lnTo>
                      <a:pt x="543" y="178"/>
                    </a:lnTo>
                    <a:lnTo>
                      <a:pt x="535" y="157"/>
                    </a:lnTo>
                    <a:lnTo>
                      <a:pt x="524" y="136"/>
                    </a:lnTo>
                    <a:lnTo>
                      <a:pt x="513" y="117"/>
                    </a:lnTo>
                    <a:lnTo>
                      <a:pt x="500" y="98"/>
                    </a:lnTo>
                    <a:lnTo>
                      <a:pt x="486" y="82"/>
                    </a:lnTo>
                    <a:lnTo>
                      <a:pt x="470" y="66"/>
                    </a:lnTo>
                    <a:lnTo>
                      <a:pt x="453" y="51"/>
                    </a:lnTo>
                    <a:lnTo>
                      <a:pt x="434" y="37"/>
                    </a:lnTo>
                    <a:lnTo>
                      <a:pt x="416" y="26"/>
                    </a:lnTo>
                    <a:lnTo>
                      <a:pt x="395" y="15"/>
                    </a:lnTo>
                    <a:lnTo>
                      <a:pt x="374" y="7"/>
                    </a:lnTo>
                    <a:lnTo>
                      <a:pt x="353" y="0"/>
                    </a:lnTo>
                    <a:lnTo>
                      <a:pt x="207" y="35"/>
                    </a:lnTo>
                    <a:lnTo>
                      <a:pt x="87" y="67"/>
                    </a:lnTo>
                    <a:lnTo>
                      <a:pt x="77" y="76"/>
                    </a:lnTo>
                    <a:lnTo>
                      <a:pt x="68" y="87"/>
                    </a:lnTo>
                    <a:lnTo>
                      <a:pt x="60" y="98"/>
                    </a:lnTo>
                    <a:lnTo>
                      <a:pt x="50" y="109"/>
                    </a:lnTo>
                    <a:lnTo>
                      <a:pt x="43" y="120"/>
                    </a:lnTo>
                    <a:lnTo>
                      <a:pt x="35" y="133"/>
                    </a:lnTo>
                    <a:lnTo>
                      <a:pt x="30" y="144"/>
                    </a:lnTo>
                    <a:lnTo>
                      <a:pt x="23" y="157"/>
                    </a:lnTo>
                    <a:lnTo>
                      <a:pt x="18" y="171"/>
                    </a:lnTo>
                    <a:lnTo>
                      <a:pt x="13" y="184"/>
                    </a:lnTo>
                    <a:lnTo>
                      <a:pt x="9" y="197"/>
                    </a:lnTo>
                    <a:lnTo>
                      <a:pt x="5" y="211"/>
                    </a:lnTo>
                    <a:lnTo>
                      <a:pt x="3" y="226"/>
                    </a:lnTo>
                    <a:lnTo>
                      <a:pt x="1" y="240"/>
                    </a:lnTo>
                    <a:lnTo>
                      <a:pt x="0" y="255"/>
                    </a:lnTo>
                    <a:lnTo>
                      <a:pt x="0" y="270"/>
                    </a:lnTo>
                    <a:lnTo>
                      <a:pt x="0" y="284"/>
                    </a:lnTo>
                    <a:lnTo>
                      <a:pt x="1" y="299"/>
                    </a:lnTo>
                    <a:lnTo>
                      <a:pt x="3" y="313"/>
                    </a:lnTo>
                    <a:lnTo>
                      <a:pt x="5" y="327"/>
                    </a:lnTo>
                    <a:lnTo>
                      <a:pt x="9" y="339"/>
                    </a:lnTo>
                    <a:lnTo>
                      <a:pt x="12" y="353"/>
                    </a:lnTo>
                    <a:lnTo>
                      <a:pt x="17" y="366"/>
                    </a:lnTo>
                    <a:lnTo>
                      <a:pt x="21" y="378"/>
                    </a:lnTo>
                    <a:lnTo>
                      <a:pt x="27" y="391"/>
                    </a:lnTo>
                    <a:lnTo>
                      <a:pt x="33" y="403"/>
                    </a:lnTo>
                    <a:lnTo>
                      <a:pt x="40" y="415"/>
                    </a:lnTo>
                    <a:lnTo>
                      <a:pt x="47" y="426"/>
                    </a:lnTo>
                    <a:lnTo>
                      <a:pt x="55" y="437"/>
                    </a:lnTo>
                    <a:lnTo>
                      <a:pt x="63" y="448"/>
                    </a:lnTo>
                    <a:lnTo>
                      <a:pt x="72" y="458"/>
                    </a:lnTo>
                    <a:lnTo>
                      <a:pt x="81" y="467"/>
                    </a:lnTo>
                    <a:lnTo>
                      <a:pt x="91" y="476"/>
                    </a:lnTo>
                    <a:lnTo>
                      <a:pt x="101" y="486"/>
                    </a:lnTo>
                    <a:lnTo>
                      <a:pt x="111" y="494"/>
                    </a:lnTo>
                    <a:lnTo>
                      <a:pt x="123" y="502"/>
                    </a:lnTo>
                    <a:lnTo>
                      <a:pt x="135" y="509"/>
                    </a:lnTo>
                    <a:lnTo>
                      <a:pt x="146" y="516"/>
                    </a:lnTo>
                    <a:lnTo>
                      <a:pt x="158" y="521"/>
                    </a:lnTo>
                    <a:lnTo>
                      <a:pt x="170" y="527"/>
                    </a:lnTo>
                    <a:lnTo>
                      <a:pt x="183" y="533"/>
                    </a:lnTo>
                    <a:lnTo>
                      <a:pt x="196" y="536"/>
                    </a:lnTo>
                    <a:lnTo>
                      <a:pt x="209" y="541"/>
                    </a:lnTo>
                    <a:lnTo>
                      <a:pt x="223" y="543"/>
                    </a:lnTo>
                    <a:lnTo>
                      <a:pt x="236" y="546"/>
                    </a:lnTo>
                    <a:lnTo>
                      <a:pt x="251" y="548"/>
                    </a:lnTo>
                    <a:lnTo>
                      <a:pt x="265" y="549"/>
                    </a:lnTo>
                    <a:lnTo>
                      <a:pt x="279" y="549"/>
                    </a:lnTo>
                    <a:lnTo>
                      <a:pt x="294" y="549"/>
                    </a:lnTo>
                    <a:lnTo>
                      <a:pt x="308" y="548"/>
                    </a:lnTo>
                    <a:lnTo>
                      <a:pt x="321" y="546"/>
                    </a:lnTo>
                    <a:lnTo>
                      <a:pt x="335" y="543"/>
                    </a:lnTo>
                    <a:lnTo>
                      <a:pt x="349" y="541"/>
                    </a:lnTo>
                    <a:lnTo>
                      <a:pt x="362" y="536"/>
                    </a:lnTo>
                    <a:lnTo>
                      <a:pt x="376" y="533"/>
                    </a:lnTo>
                    <a:lnTo>
                      <a:pt x="388" y="527"/>
                    </a:lnTo>
                    <a:lnTo>
                      <a:pt x="400" y="521"/>
                    </a:lnTo>
                    <a:lnTo>
                      <a:pt x="412" y="516"/>
                    </a:lnTo>
                    <a:lnTo>
                      <a:pt x="424" y="509"/>
                    </a:lnTo>
                    <a:lnTo>
                      <a:pt x="436" y="502"/>
                    </a:lnTo>
                    <a:lnTo>
                      <a:pt x="446" y="494"/>
                    </a:lnTo>
                    <a:lnTo>
                      <a:pt x="457" y="486"/>
                    </a:lnTo>
                    <a:lnTo>
                      <a:pt x="467" y="476"/>
                    </a:lnTo>
                    <a:lnTo>
                      <a:pt x="477" y="467"/>
                    </a:lnTo>
                    <a:lnTo>
                      <a:pt x="486" y="458"/>
                    </a:lnTo>
                    <a:lnTo>
                      <a:pt x="494" y="448"/>
                    </a:lnTo>
                    <a:lnTo>
                      <a:pt x="504" y="437"/>
                    </a:lnTo>
                    <a:lnTo>
                      <a:pt x="511" y="426"/>
                    </a:lnTo>
                    <a:lnTo>
                      <a:pt x="519" y="415"/>
                    </a:lnTo>
                    <a:lnTo>
                      <a:pt x="526" y="403"/>
                    </a:lnTo>
                    <a:lnTo>
                      <a:pt x="531" y="391"/>
                    </a:lnTo>
                    <a:lnTo>
                      <a:pt x="537" y="378"/>
                    </a:lnTo>
                    <a:lnTo>
                      <a:pt x="542" y="366"/>
                    </a:lnTo>
                    <a:lnTo>
                      <a:pt x="546" y="353"/>
                    </a:lnTo>
                    <a:lnTo>
                      <a:pt x="550" y="339"/>
                    </a:lnTo>
                    <a:lnTo>
                      <a:pt x="553" y="327"/>
                    </a:lnTo>
                    <a:lnTo>
                      <a:pt x="556" y="313"/>
                    </a:lnTo>
                    <a:lnTo>
                      <a:pt x="558" y="299"/>
                    </a:lnTo>
                    <a:lnTo>
                      <a:pt x="559" y="284"/>
                    </a:lnTo>
                    <a:lnTo>
                      <a:pt x="559" y="270"/>
                    </a:lnTo>
                    <a:close/>
                    <a:moveTo>
                      <a:pt x="466" y="270"/>
                    </a:moveTo>
                    <a:lnTo>
                      <a:pt x="464" y="289"/>
                    </a:lnTo>
                    <a:lnTo>
                      <a:pt x="462" y="307"/>
                    </a:lnTo>
                    <a:lnTo>
                      <a:pt x="457" y="325"/>
                    </a:lnTo>
                    <a:lnTo>
                      <a:pt x="451" y="343"/>
                    </a:lnTo>
                    <a:lnTo>
                      <a:pt x="442" y="359"/>
                    </a:lnTo>
                    <a:lnTo>
                      <a:pt x="433" y="374"/>
                    </a:lnTo>
                    <a:lnTo>
                      <a:pt x="423" y="389"/>
                    </a:lnTo>
                    <a:lnTo>
                      <a:pt x="411" y="402"/>
                    </a:lnTo>
                    <a:lnTo>
                      <a:pt x="398" y="414"/>
                    </a:lnTo>
                    <a:lnTo>
                      <a:pt x="384" y="425"/>
                    </a:lnTo>
                    <a:lnTo>
                      <a:pt x="368" y="434"/>
                    </a:lnTo>
                    <a:lnTo>
                      <a:pt x="351" y="442"/>
                    </a:lnTo>
                    <a:lnTo>
                      <a:pt x="334" y="448"/>
                    </a:lnTo>
                    <a:lnTo>
                      <a:pt x="317" y="452"/>
                    </a:lnTo>
                    <a:lnTo>
                      <a:pt x="298" y="456"/>
                    </a:lnTo>
                    <a:lnTo>
                      <a:pt x="279" y="456"/>
                    </a:lnTo>
                    <a:lnTo>
                      <a:pt x="260" y="456"/>
                    </a:lnTo>
                    <a:lnTo>
                      <a:pt x="242" y="452"/>
                    </a:lnTo>
                    <a:lnTo>
                      <a:pt x="223" y="448"/>
                    </a:lnTo>
                    <a:lnTo>
                      <a:pt x="207" y="442"/>
                    </a:lnTo>
                    <a:lnTo>
                      <a:pt x="190" y="434"/>
                    </a:lnTo>
                    <a:lnTo>
                      <a:pt x="175" y="425"/>
                    </a:lnTo>
                    <a:lnTo>
                      <a:pt x="161" y="414"/>
                    </a:lnTo>
                    <a:lnTo>
                      <a:pt x="147" y="402"/>
                    </a:lnTo>
                    <a:lnTo>
                      <a:pt x="136" y="389"/>
                    </a:lnTo>
                    <a:lnTo>
                      <a:pt x="124" y="374"/>
                    </a:lnTo>
                    <a:lnTo>
                      <a:pt x="115" y="359"/>
                    </a:lnTo>
                    <a:lnTo>
                      <a:pt x="108" y="343"/>
                    </a:lnTo>
                    <a:lnTo>
                      <a:pt x="101" y="325"/>
                    </a:lnTo>
                    <a:lnTo>
                      <a:pt x="96" y="307"/>
                    </a:lnTo>
                    <a:lnTo>
                      <a:pt x="94" y="289"/>
                    </a:lnTo>
                    <a:lnTo>
                      <a:pt x="93" y="270"/>
                    </a:lnTo>
                    <a:lnTo>
                      <a:pt x="94" y="251"/>
                    </a:lnTo>
                    <a:lnTo>
                      <a:pt x="96" y="232"/>
                    </a:lnTo>
                    <a:lnTo>
                      <a:pt x="101" y="215"/>
                    </a:lnTo>
                    <a:lnTo>
                      <a:pt x="108" y="197"/>
                    </a:lnTo>
                    <a:lnTo>
                      <a:pt x="115" y="181"/>
                    </a:lnTo>
                    <a:lnTo>
                      <a:pt x="124" y="166"/>
                    </a:lnTo>
                    <a:lnTo>
                      <a:pt x="136" y="151"/>
                    </a:lnTo>
                    <a:lnTo>
                      <a:pt x="147" y="139"/>
                    </a:lnTo>
                    <a:lnTo>
                      <a:pt x="161" y="126"/>
                    </a:lnTo>
                    <a:lnTo>
                      <a:pt x="175" y="116"/>
                    </a:lnTo>
                    <a:lnTo>
                      <a:pt x="190" y="106"/>
                    </a:lnTo>
                    <a:lnTo>
                      <a:pt x="207" y="98"/>
                    </a:lnTo>
                    <a:lnTo>
                      <a:pt x="223" y="93"/>
                    </a:lnTo>
                    <a:lnTo>
                      <a:pt x="242" y="87"/>
                    </a:lnTo>
                    <a:lnTo>
                      <a:pt x="260" y="85"/>
                    </a:lnTo>
                    <a:lnTo>
                      <a:pt x="279" y="83"/>
                    </a:lnTo>
                    <a:lnTo>
                      <a:pt x="298" y="85"/>
                    </a:lnTo>
                    <a:lnTo>
                      <a:pt x="317" y="87"/>
                    </a:lnTo>
                    <a:lnTo>
                      <a:pt x="334" y="93"/>
                    </a:lnTo>
                    <a:lnTo>
                      <a:pt x="351" y="98"/>
                    </a:lnTo>
                    <a:lnTo>
                      <a:pt x="368" y="106"/>
                    </a:lnTo>
                    <a:lnTo>
                      <a:pt x="384" y="116"/>
                    </a:lnTo>
                    <a:lnTo>
                      <a:pt x="398" y="126"/>
                    </a:lnTo>
                    <a:lnTo>
                      <a:pt x="411" y="139"/>
                    </a:lnTo>
                    <a:lnTo>
                      <a:pt x="423" y="151"/>
                    </a:lnTo>
                    <a:lnTo>
                      <a:pt x="433" y="166"/>
                    </a:lnTo>
                    <a:lnTo>
                      <a:pt x="442" y="181"/>
                    </a:lnTo>
                    <a:lnTo>
                      <a:pt x="451" y="197"/>
                    </a:lnTo>
                    <a:lnTo>
                      <a:pt x="457" y="215"/>
                    </a:lnTo>
                    <a:lnTo>
                      <a:pt x="462" y="232"/>
                    </a:lnTo>
                    <a:lnTo>
                      <a:pt x="464" y="251"/>
                    </a:lnTo>
                    <a:lnTo>
                      <a:pt x="466" y="27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81560" y="4210200"/>
                <a:ext cx="123480" cy="123840"/>
              </a:xfrm>
              <a:custGeom>
                <a:avLst/>
                <a:gdLst/>
                <a:ahLst/>
                <a:rect l="l" t="t" r="r" b="b"/>
                <a:pathLst>
                  <a:path w="467" h="466">
                    <a:moveTo>
                      <a:pt x="467" y="233"/>
                    </a:moveTo>
                    <a:lnTo>
                      <a:pt x="466" y="220"/>
                    </a:lnTo>
                    <a:lnTo>
                      <a:pt x="465" y="209"/>
                    </a:lnTo>
                    <a:lnTo>
                      <a:pt x="463" y="197"/>
                    </a:lnTo>
                    <a:lnTo>
                      <a:pt x="461" y="186"/>
                    </a:lnTo>
                    <a:lnTo>
                      <a:pt x="455" y="164"/>
                    </a:lnTo>
                    <a:lnTo>
                      <a:pt x="448" y="142"/>
                    </a:lnTo>
                    <a:lnTo>
                      <a:pt x="438" y="122"/>
                    </a:lnTo>
                    <a:lnTo>
                      <a:pt x="426" y="103"/>
                    </a:lnTo>
                    <a:lnTo>
                      <a:pt x="413" y="84"/>
                    </a:lnTo>
                    <a:lnTo>
                      <a:pt x="398" y="68"/>
                    </a:lnTo>
                    <a:lnTo>
                      <a:pt x="381" y="53"/>
                    </a:lnTo>
                    <a:lnTo>
                      <a:pt x="363" y="39"/>
                    </a:lnTo>
                    <a:lnTo>
                      <a:pt x="345" y="28"/>
                    </a:lnTo>
                    <a:lnTo>
                      <a:pt x="324" y="19"/>
                    </a:lnTo>
                    <a:lnTo>
                      <a:pt x="302" y="11"/>
                    </a:lnTo>
                    <a:lnTo>
                      <a:pt x="280" y="5"/>
                    </a:lnTo>
                    <a:lnTo>
                      <a:pt x="268" y="3"/>
                    </a:lnTo>
                    <a:lnTo>
                      <a:pt x="257" y="1"/>
                    </a:lnTo>
                    <a:lnTo>
                      <a:pt x="245" y="0"/>
                    </a:lnTo>
                    <a:lnTo>
                      <a:pt x="233" y="0"/>
                    </a:lnTo>
                    <a:lnTo>
                      <a:pt x="221" y="0"/>
                    </a:lnTo>
                    <a:lnTo>
                      <a:pt x="210" y="1"/>
                    </a:lnTo>
                    <a:lnTo>
                      <a:pt x="198" y="3"/>
                    </a:lnTo>
                    <a:lnTo>
                      <a:pt x="187" y="5"/>
                    </a:lnTo>
                    <a:lnTo>
                      <a:pt x="163" y="11"/>
                    </a:lnTo>
                    <a:lnTo>
                      <a:pt x="143" y="19"/>
                    </a:lnTo>
                    <a:lnTo>
                      <a:pt x="122" y="28"/>
                    </a:lnTo>
                    <a:lnTo>
                      <a:pt x="102" y="39"/>
                    </a:lnTo>
                    <a:lnTo>
                      <a:pt x="85" y="53"/>
                    </a:lnTo>
                    <a:lnTo>
                      <a:pt x="69" y="68"/>
                    </a:lnTo>
                    <a:lnTo>
                      <a:pt x="54" y="84"/>
                    </a:lnTo>
                    <a:lnTo>
                      <a:pt x="40" y="103"/>
                    </a:lnTo>
                    <a:lnTo>
                      <a:pt x="29" y="122"/>
                    </a:lnTo>
                    <a:lnTo>
                      <a:pt x="18" y="142"/>
                    </a:lnTo>
                    <a:lnTo>
                      <a:pt x="10" y="164"/>
                    </a:lnTo>
                    <a:lnTo>
                      <a:pt x="4" y="186"/>
                    </a:lnTo>
                    <a:lnTo>
                      <a:pt x="3" y="197"/>
                    </a:lnTo>
                    <a:lnTo>
                      <a:pt x="1" y="209"/>
                    </a:lnTo>
                    <a:lnTo>
                      <a:pt x="1" y="220"/>
                    </a:lnTo>
                    <a:lnTo>
                      <a:pt x="0" y="233"/>
                    </a:lnTo>
                    <a:lnTo>
                      <a:pt x="1" y="245"/>
                    </a:lnTo>
                    <a:lnTo>
                      <a:pt x="1" y="256"/>
                    </a:lnTo>
                    <a:lnTo>
                      <a:pt x="3" y="269"/>
                    </a:lnTo>
                    <a:lnTo>
                      <a:pt x="4" y="280"/>
                    </a:lnTo>
                    <a:lnTo>
                      <a:pt x="8" y="291"/>
                    </a:lnTo>
                    <a:lnTo>
                      <a:pt x="10" y="302"/>
                    </a:lnTo>
                    <a:lnTo>
                      <a:pt x="15" y="313"/>
                    </a:lnTo>
                    <a:lnTo>
                      <a:pt x="18" y="323"/>
                    </a:lnTo>
                    <a:lnTo>
                      <a:pt x="29" y="344"/>
                    </a:lnTo>
                    <a:lnTo>
                      <a:pt x="40" y="363"/>
                    </a:lnTo>
                    <a:lnTo>
                      <a:pt x="54" y="381"/>
                    </a:lnTo>
                    <a:lnTo>
                      <a:pt x="69" y="398"/>
                    </a:lnTo>
                    <a:lnTo>
                      <a:pt x="85" y="413"/>
                    </a:lnTo>
                    <a:lnTo>
                      <a:pt x="102" y="426"/>
                    </a:lnTo>
                    <a:lnTo>
                      <a:pt x="122" y="437"/>
                    </a:lnTo>
                    <a:lnTo>
                      <a:pt x="143" y="448"/>
                    </a:lnTo>
                    <a:lnTo>
                      <a:pt x="153" y="452"/>
                    </a:lnTo>
                    <a:lnTo>
                      <a:pt x="163" y="456"/>
                    </a:lnTo>
                    <a:lnTo>
                      <a:pt x="175" y="459"/>
                    </a:lnTo>
                    <a:lnTo>
                      <a:pt x="187" y="461"/>
                    </a:lnTo>
                    <a:lnTo>
                      <a:pt x="198" y="464"/>
                    </a:lnTo>
                    <a:lnTo>
                      <a:pt x="210" y="465"/>
                    </a:lnTo>
                    <a:lnTo>
                      <a:pt x="221" y="466"/>
                    </a:lnTo>
                    <a:lnTo>
                      <a:pt x="233" y="466"/>
                    </a:lnTo>
                    <a:lnTo>
                      <a:pt x="245" y="466"/>
                    </a:lnTo>
                    <a:lnTo>
                      <a:pt x="257" y="465"/>
                    </a:lnTo>
                    <a:lnTo>
                      <a:pt x="268" y="464"/>
                    </a:lnTo>
                    <a:lnTo>
                      <a:pt x="280" y="461"/>
                    </a:lnTo>
                    <a:lnTo>
                      <a:pt x="302" y="456"/>
                    </a:lnTo>
                    <a:lnTo>
                      <a:pt x="324" y="448"/>
                    </a:lnTo>
                    <a:lnTo>
                      <a:pt x="345" y="437"/>
                    </a:lnTo>
                    <a:lnTo>
                      <a:pt x="363" y="426"/>
                    </a:lnTo>
                    <a:lnTo>
                      <a:pt x="381" y="413"/>
                    </a:lnTo>
                    <a:lnTo>
                      <a:pt x="398" y="398"/>
                    </a:lnTo>
                    <a:lnTo>
                      <a:pt x="413" y="381"/>
                    </a:lnTo>
                    <a:lnTo>
                      <a:pt x="426" y="363"/>
                    </a:lnTo>
                    <a:lnTo>
                      <a:pt x="438" y="344"/>
                    </a:lnTo>
                    <a:lnTo>
                      <a:pt x="448" y="323"/>
                    </a:lnTo>
                    <a:lnTo>
                      <a:pt x="455" y="302"/>
                    </a:lnTo>
                    <a:lnTo>
                      <a:pt x="461" y="280"/>
                    </a:lnTo>
                    <a:lnTo>
                      <a:pt x="463" y="269"/>
                    </a:lnTo>
                    <a:lnTo>
                      <a:pt x="465" y="256"/>
                    </a:lnTo>
                    <a:lnTo>
                      <a:pt x="466" y="245"/>
                    </a:lnTo>
                    <a:lnTo>
                      <a:pt x="467" y="233"/>
                    </a:lnTo>
                    <a:close/>
                    <a:moveTo>
                      <a:pt x="373" y="233"/>
                    </a:moveTo>
                    <a:lnTo>
                      <a:pt x="372" y="247"/>
                    </a:lnTo>
                    <a:lnTo>
                      <a:pt x="370" y="261"/>
                    </a:lnTo>
                    <a:lnTo>
                      <a:pt x="366" y="275"/>
                    </a:lnTo>
                    <a:lnTo>
                      <a:pt x="362" y="287"/>
                    </a:lnTo>
                    <a:lnTo>
                      <a:pt x="356" y="300"/>
                    </a:lnTo>
                    <a:lnTo>
                      <a:pt x="349" y="312"/>
                    </a:lnTo>
                    <a:lnTo>
                      <a:pt x="341" y="322"/>
                    </a:lnTo>
                    <a:lnTo>
                      <a:pt x="332" y="331"/>
                    </a:lnTo>
                    <a:lnTo>
                      <a:pt x="322" y="340"/>
                    </a:lnTo>
                    <a:lnTo>
                      <a:pt x="311" y="348"/>
                    </a:lnTo>
                    <a:lnTo>
                      <a:pt x="300" y="355"/>
                    </a:lnTo>
                    <a:lnTo>
                      <a:pt x="288" y="361"/>
                    </a:lnTo>
                    <a:lnTo>
                      <a:pt x="274" y="367"/>
                    </a:lnTo>
                    <a:lnTo>
                      <a:pt x="262" y="370"/>
                    </a:lnTo>
                    <a:lnTo>
                      <a:pt x="248" y="371"/>
                    </a:lnTo>
                    <a:lnTo>
                      <a:pt x="233" y="373"/>
                    </a:lnTo>
                    <a:lnTo>
                      <a:pt x="219" y="371"/>
                    </a:lnTo>
                    <a:lnTo>
                      <a:pt x="205" y="370"/>
                    </a:lnTo>
                    <a:lnTo>
                      <a:pt x="191" y="367"/>
                    </a:lnTo>
                    <a:lnTo>
                      <a:pt x="178" y="361"/>
                    </a:lnTo>
                    <a:lnTo>
                      <a:pt x="167" y="355"/>
                    </a:lnTo>
                    <a:lnTo>
                      <a:pt x="155" y="348"/>
                    </a:lnTo>
                    <a:lnTo>
                      <a:pt x="144" y="340"/>
                    </a:lnTo>
                    <a:lnTo>
                      <a:pt x="135" y="331"/>
                    </a:lnTo>
                    <a:lnTo>
                      <a:pt x="125" y="322"/>
                    </a:lnTo>
                    <a:lnTo>
                      <a:pt x="117" y="312"/>
                    </a:lnTo>
                    <a:lnTo>
                      <a:pt x="110" y="300"/>
                    </a:lnTo>
                    <a:lnTo>
                      <a:pt x="105" y="287"/>
                    </a:lnTo>
                    <a:lnTo>
                      <a:pt x="100" y="275"/>
                    </a:lnTo>
                    <a:lnTo>
                      <a:pt x="97" y="261"/>
                    </a:lnTo>
                    <a:lnTo>
                      <a:pt x="94" y="247"/>
                    </a:lnTo>
                    <a:lnTo>
                      <a:pt x="93" y="233"/>
                    </a:lnTo>
                    <a:lnTo>
                      <a:pt x="94" y="218"/>
                    </a:lnTo>
                    <a:lnTo>
                      <a:pt x="97" y="204"/>
                    </a:lnTo>
                    <a:lnTo>
                      <a:pt x="100" y="192"/>
                    </a:lnTo>
                    <a:lnTo>
                      <a:pt x="105" y="179"/>
                    </a:lnTo>
                    <a:lnTo>
                      <a:pt x="110" y="166"/>
                    </a:lnTo>
                    <a:lnTo>
                      <a:pt x="117" y="155"/>
                    </a:lnTo>
                    <a:lnTo>
                      <a:pt x="125" y="144"/>
                    </a:lnTo>
                    <a:lnTo>
                      <a:pt x="135" y="134"/>
                    </a:lnTo>
                    <a:lnTo>
                      <a:pt x="144" y="125"/>
                    </a:lnTo>
                    <a:lnTo>
                      <a:pt x="155" y="117"/>
                    </a:lnTo>
                    <a:lnTo>
                      <a:pt x="167" y="110"/>
                    </a:lnTo>
                    <a:lnTo>
                      <a:pt x="178" y="104"/>
                    </a:lnTo>
                    <a:lnTo>
                      <a:pt x="191" y="99"/>
                    </a:lnTo>
                    <a:lnTo>
                      <a:pt x="205" y="96"/>
                    </a:lnTo>
                    <a:lnTo>
                      <a:pt x="219" y="94"/>
                    </a:lnTo>
                    <a:lnTo>
                      <a:pt x="233" y="94"/>
                    </a:lnTo>
                    <a:lnTo>
                      <a:pt x="248" y="94"/>
                    </a:lnTo>
                    <a:lnTo>
                      <a:pt x="262" y="96"/>
                    </a:lnTo>
                    <a:lnTo>
                      <a:pt x="274" y="99"/>
                    </a:lnTo>
                    <a:lnTo>
                      <a:pt x="288" y="104"/>
                    </a:lnTo>
                    <a:lnTo>
                      <a:pt x="300" y="110"/>
                    </a:lnTo>
                    <a:lnTo>
                      <a:pt x="311" y="117"/>
                    </a:lnTo>
                    <a:lnTo>
                      <a:pt x="322" y="125"/>
                    </a:lnTo>
                    <a:lnTo>
                      <a:pt x="332" y="134"/>
                    </a:lnTo>
                    <a:lnTo>
                      <a:pt x="341" y="144"/>
                    </a:lnTo>
                    <a:lnTo>
                      <a:pt x="349" y="155"/>
                    </a:lnTo>
                    <a:lnTo>
                      <a:pt x="356" y="166"/>
                    </a:lnTo>
                    <a:lnTo>
                      <a:pt x="362" y="179"/>
                    </a:lnTo>
                    <a:lnTo>
                      <a:pt x="366" y="192"/>
                    </a:lnTo>
                    <a:lnTo>
                      <a:pt x="370" y="204"/>
                    </a:lnTo>
                    <a:lnTo>
                      <a:pt x="372" y="218"/>
                    </a:lnTo>
                    <a:lnTo>
                      <a:pt x="373" y="23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94160" y="42228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373" h="373">
                    <a:moveTo>
                      <a:pt x="373" y="187"/>
                    </a:moveTo>
                    <a:lnTo>
                      <a:pt x="371" y="168"/>
                    </a:lnTo>
                    <a:lnTo>
                      <a:pt x="369" y="149"/>
                    </a:lnTo>
                    <a:lnTo>
                      <a:pt x="364" y="132"/>
                    </a:lnTo>
                    <a:lnTo>
                      <a:pt x="358" y="114"/>
                    </a:lnTo>
                    <a:lnTo>
                      <a:pt x="349" y="98"/>
                    </a:lnTo>
                    <a:lnTo>
                      <a:pt x="340" y="83"/>
                    </a:lnTo>
                    <a:lnTo>
                      <a:pt x="330" y="68"/>
                    </a:lnTo>
                    <a:lnTo>
                      <a:pt x="318" y="56"/>
                    </a:lnTo>
                    <a:lnTo>
                      <a:pt x="305" y="43"/>
                    </a:lnTo>
                    <a:lnTo>
                      <a:pt x="291" y="33"/>
                    </a:lnTo>
                    <a:lnTo>
                      <a:pt x="275" y="23"/>
                    </a:lnTo>
                    <a:lnTo>
                      <a:pt x="258" y="15"/>
                    </a:lnTo>
                    <a:lnTo>
                      <a:pt x="241" y="10"/>
                    </a:lnTo>
                    <a:lnTo>
                      <a:pt x="224" y="4"/>
                    </a:lnTo>
                    <a:lnTo>
                      <a:pt x="205" y="2"/>
                    </a:lnTo>
                    <a:lnTo>
                      <a:pt x="186" y="0"/>
                    </a:lnTo>
                    <a:lnTo>
                      <a:pt x="167" y="2"/>
                    </a:lnTo>
                    <a:lnTo>
                      <a:pt x="149" y="4"/>
                    </a:lnTo>
                    <a:lnTo>
                      <a:pt x="130" y="10"/>
                    </a:lnTo>
                    <a:lnTo>
                      <a:pt x="114" y="15"/>
                    </a:lnTo>
                    <a:lnTo>
                      <a:pt x="97" y="23"/>
                    </a:lnTo>
                    <a:lnTo>
                      <a:pt x="82" y="33"/>
                    </a:lnTo>
                    <a:lnTo>
                      <a:pt x="68" y="43"/>
                    </a:lnTo>
                    <a:lnTo>
                      <a:pt x="54" y="56"/>
                    </a:lnTo>
                    <a:lnTo>
                      <a:pt x="43" y="68"/>
                    </a:lnTo>
                    <a:lnTo>
                      <a:pt x="31" y="83"/>
                    </a:lnTo>
                    <a:lnTo>
                      <a:pt x="22" y="98"/>
                    </a:lnTo>
                    <a:lnTo>
                      <a:pt x="15" y="114"/>
                    </a:lnTo>
                    <a:lnTo>
                      <a:pt x="8" y="132"/>
                    </a:lnTo>
                    <a:lnTo>
                      <a:pt x="3" y="149"/>
                    </a:lnTo>
                    <a:lnTo>
                      <a:pt x="1" y="168"/>
                    </a:lnTo>
                    <a:lnTo>
                      <a:pt x="0" y="187"/>
                    </a:lnTo>
                    <a:lnTo>
                      <a:pt x="1" y="206"/>
                    </a:lnTo>
                    <a:lnTo>
                      <a:pt x="3" y="224"/>
                    </a:lnTo>
                    <a:lnTo>
                      <a:pt x="8" y="242"/>
                    </a:lnTo>
                    <a:lnTo>
                      <a:pt x="15" y="260"/>
                    </a:lnTo>
                    <a:lnTo>
                      <a:pt x="22" y="276"/>
                    </a:lnTo>
                    <a:lnTo>
                      <a:pt x="31" y="291"/>
                    </a:lnTo>
                    <a:lnTo>
                      <a:pt x="43" y="306"/>
                    </a:lnTo>
                    <a:lnTo>
                      <a:pt x="54" y="319"/>
                    </a:lnTo>
                    <a:lnTo>
                      <a:pt x="68" y="331"/>
                    </a:lnTo>
                    <a:lnTo>
                      <a:pt x="82" y="342"/>
                    </a:lnTo>
                    <a:lnTo>
                      <a:pt x="97" y="351"/>
                    </a:lnTo>
                    <a:lnTo>
                      <a:pt x="114" y="359"/>
                    </a:lnTo>
                    <a:lnTo>
                      <a:pt x="130" y="365"/>
                    </a:lnTo>
                    <a:lnTo>
                      <a:pt x="149" y="369"/>
                    </a:lnTo>
                    <a:lnTo>
                      <a:pt x="167" y="373"/>
                    </a:lnTo>
                    <a:lnTo>
                      <a:pt x="186" y="373"/>
                    </a:lnTo>
                    <a:lnTo>
                      <a:pt x="205" y="373"/>
                    </a:lnTo>
                    <a:lnTo>
                      <a:pt x="224" y="369"/>
                    </a:lnTo>
                    <a:lnTo>
                      <a:pt x="241" y="365"/>
                    </a:lnTo>
                    <a:lnTo>
                      <a:pt x="258" y="359"/>
                    </a:lnTo>
                    <a:lnTo>
                      <a:pt x="275" y="351"/>
                    </a:lnTo>
                    <a:lnTo>
                      <a:pt x="291" y="342"/>
                    </a:lnTo>
                    <a:lnTo>
                      <a:pt x="305" y="331"/>
                    </a:lnTo>
                    <a:lnTo>
                      <a:pt x="318" y="319"/>
                    </a:lnTo>
                    <a:lnTo>
                      <a:pt x="330" y="306"/>
                    </a:lnTo>
                    <a:lnTo>
                      <a:pt x="340" y="291"/>
                    </a:lnTo>
                    <a:lnTo>
                      <a:pt x="349" y="276"/>
                    </a:lnTo>
                    <a:lnTo>
                      <a:pt x="358" y="260"/>
                    </a:lnTo>
                    <a:lnTo>
                      <a:pt x="364" y="242"/>
                    </a:lnTo>
                    <a:lnTo>
                      <a:pt x="369" y="224"/>
                    </a:lnTo>
                    <a:lnTo>
                      <a:pt x="371" y="206"/>
                    </a:lnTo>
                    <a:lnTo>
                      <a:pt x="373" y="187"/>
                    </a:lnTo>
                    <a:close/>
                    <a:moveTo>
                      <a:pt x="279" y="187"/>
                    </a:moveTo>
                    <a:lnTo>
                      <a:pt x="279" y="196"/>
                    </a:lnTo>
                    <a:lnTo>
                      <a:pt x="278" y="206"/>
                    </a:lnTo>
                    <a:lnTo>
                      <a:pt x="276" y="215"/>
                    </a:lnTo>
                    <a:lnTo>
                      <a:pt x="272" y="223"/>
                    </a:lnTo>
                    <a:lnTo>
                      <a:pt x="268" y="231"/>
                    </a:lnTo>
                    <a:lnTo>
                      <a:pt x="263" y="239"/>
                    </a:lnTo>
                    <a:lnTo>
                      <a:pt x="258" y="246"/>
                    </a:lnTo>
                    <a:lnTo>
                      <a:pt x="253" y="253"/>
                    </a:lnTo>
                    <a:lnTo>
                      <a:pt x="246" y="259"/>
                    </a:lnTo>
                    <a:lnTo>
                      <a:pt x="239" y="264"/>
                    </a:lnTo>
                    <a:lnTo>
                      <a:pt x="231" y="269"/>
                    </a:lnTo>
                    <a:lnTo>
                      <a:pt x="223" y="272"/>
                    </a:lnTo>
                    <a:lnTo>
                      <a:pt x="213" y="276"/>
                    </a:lnTo>
                    <a:lnTo>
                      <a:pt x="205" y="278"/>
                    </a:lnTo>
                    <a:lnTo>
                      <a:pt x="196" y="279"/>
                    </a:lnTo>
                    <a:lnTo>
                      <a:pt x="186" y="280"/>
                    </a:lnTo>
                    <a:lnTo>
                      <a:pt x="176" y="279"/>
                    </a:lnTo>
                    <a:lnTo>
                      <a:pt x="167" y="278"/>
                    </a:lnTo>
                    <a:lnTo>
                      <a:pt x="158" y="276"/>
                    </a:lnTo>
                    <a:lnTo>
                      <a:pt x="150" y="272"/>
                    </a:lnTo>
                    <a:lnTo>
                      <a:pt x="142" y="269"/>
                    </a:lnTo>
                    <a:lnTo>
                      <a:pt x="134" y="264"/>
                    </a:lnTo>
                    <a:lnTo>
                      <a:pt x="127" y="259"/>
                    </a:lnTo>
                    <a:lnTo>
                      <a:pt x="120" y="253"/>
                    </a:lnTo>
                    <a:lnTo>
                      <a:pt x="114" y="246"/>
                    </a:lnTo>
                    <a:lnTo>
                      <a:pt x="108" y="239"/>
                    </a:lnTo>
                    <a:lnTo>
                      <a:pt x="104" y="231"/>
                    </a:lnTo>
                    <a:lnTo>
                      <a:pt x="100" y="223"/>
                    </a:lnTo>
                    <a:lnTo>
                      <a:pt x="97" y="215"/>
                    </a:lnTo>
                    <a:lnTo>
                      <a:pt x="95" y="206"/>
                    </a:lnTo>
                    <a:lnTo>
                      <a:pt x="93" y="196"/>
                    </a:lnTo>
                    <a:lnTo>
                      <a:pt x="93" y="187"/>
                    </a:lnTo>
                    <a:lnTo>
                      <a:pt x="93" y="178"/>
                    </a:lnTo>
                    <a:lnTo>
                      <a:pt x="95" y="169"/>
                    </a:lnTo>
                    <a:lnTo>
                      <a:pt x="97" y="159"/>
                    </a:lnTo>
                    <a:lnTo>
                      <a:pt x="100" y="150"/>
                    </a:lnTo>
                    <a:lnTo>
                      <a:pt x="104" y="142"/>
                    </a:lnTo>
                    <a:lnTo>
                      <a:pt x="108" y="135"/>
                    </a:lnTo>
                    <a:lnTo>
                      <a:pt x="114" y="127"/>
                    </a:lnTo>
                    <a:lnTo>
                      <a:pt x="120" y="121"/>
                    </a:lnTo>
                    <a:lnTo>
                      <a:pt x="127" y="116"/>
                    </a:lnTo>
                    <a:lnTo>
                      <a:pt x="134" y="110"/>
                    </a:lnTo>
                    <a:lnTo>
                      <a:pt x="142" y="105"/>
                    </a:lnTo>
                    <a:lnTo>
                      <a:pt x="150" y="101"/>
                    </a:lnTo>
                    <a:lnTo>
                      <a:pt x="158" y="98"/>
                    </a:lnTo>
                    <a:lnTo>
                      <a:pt x="167" y="96"/>
                    </a:lnTo>
                    <a:lnTo>
                      <a:pt x="176" y="94"/>
                    </a:lnTo>
                    <a:lnTo>
                      <a:pt x="186" y="94"/>
                    </a:lnTo>
                    <a:lnTo>
                      <a:pt x="196" y="94"/>
                    </a:lnTo>
                    <a:lnTo>
                      <a:pt x="205" y="96"/>
                    </a:lnTo>
                    <a:lnTo>
                      <a:pt x="213" y="98"/>
                    </a:lnTo>
                    <a:lnTo>
                      <a:pt x="223" y="101"/>
                    </a:lnTo>
                    <a:lnTo>
                      <a:pt x="231" y="105"/>
                    </a:lnTo>
                    <a:lnTo>
                      <a:pt x="239" y="110"/>
                    </a:lnTo>
                    <a:lnTo>
                      <a:pt x="246" y="116"/>
                    </a:lnTo>
                    <a:lnTo>
                      <a:pt x="253" y="121"/>
                    </a:lnTo>
                    <a:lnTo>
                      <a:pt x="258" y="127"/>
                    </a:lnTo>
                    <a:lnTo>
                      <a:pt x="263" y="135"/>
                    </a:lnTo>
                    <a:lnTo>
                      <a:pt x="268" y="142"/>
                    </a:lnTo>
                    <a:lnTo>
                      <a:pt x="272" y="150"/>
                    </a:lnTo>
                    <a:lnTo>
                      <a:pt x="276" y="159"/>
                    </a:lnTo>
                    <a:lnTo>
                      <a:pt x="278" y="169"/>
                    </a:lnTo>
                    <a:lnTo>
                      <a:pt x="279" y="178"/>
                    </a:lnTo>
                    <a:lnTo>
                      <a:pt x="279" y="187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06760" y="42354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280" h="279">
                    <a:moveTo>
                      <a:pt x="280" y="139"/>
                    </a:moveTo>
                    <a:lnTo>
                      <a:pt x="279" y="124"/>
                    </a:lnTo>
                    <a:lnTo>
                      <a:pt x="277" y="110"/>
                    </a:lnTo>
                    <a:lnTo>
                      <a:pt x="273" y="98"/>
                    </a:lnTo>
                    <a:lnTo>
                      <a:pt x="269" y="85"/>
                    </a:lnTo>
                    <a:lnTo>
                      <a:pt x="263" y="72"/>
                    </a:lnTo>
                    <a:lnTo>
                      <a:pt x="256" y="61"/>
                    </a:lnTo>
                    <a:lnTo>
                      <a:pt x="248" y="50"/>
                    </a:lnTo>
                    <a:lnTo>
                      <a:pt x="239" y="40"/>
                    </a:lnTo>
                    <a:lnTo>
                      <a:pt x="229" y="31"/>
                    </a:lnTo>
                    <a:lnTo>
                      <a:pt x="218" y="23"/>
                    </a:lnTo>
                    <a:lnTo>
                      <a:pt x="207" y="16"/>
                    </a:lnTo>
                    <a:lnTo>
                      <a:pt x="195" y="10"/>
                    </a:lnTo>
                    <a:lnTo>
                      <a:pt x="181" y="5"/>
                    </a:lnTo>
                    <a:lnTo>
                      <a:pt x="169" y="2"/>
                    </a:lnTo>
                    <a:lnTo>
                      <a:pt x="155" y="0"/>
                    </a:lnTo>
                    <a:lnTo>
                      <a:pt x="140" y="0"/>
                    </a:lnTo>
                    <a:lnTo>
                      <a:pt x="126" y="0"/>
                    </a:lnTo>
                    <a:lnTo>
                      <a:pt x="112" y="2"/>
                    </a:lnTo>
                    <a:lnTo>
                      <a:pt x="98" y="5"/>
                    </a:lnTo>
                    <a:lnTo>
                      <a:pt x="85" y="10"/>
                    </a:lnTo>
                    <a:lnTo>
                      <a:pt x="74" y="16"/>
                    </a:lnTo>
                    <a:lnTo>
                      <a:pt x="62" y="23"/>
                    </a:lnTo>
                    <a:lnTo>
                      <a:pt x="51" y="31"/>
                    </a:lnTo>
                    <a:lnTo>
                      <a:pt x="42" y="40"/>
                    </a:lnTo>
                    <a:lnTo>
                      <a:pt x="32" y="50"/>
                    </a:lnTo>
                    <a:lnTo>
                      <a:pt x="24" y="61"/>
                    </a:lnTo>
                    <a:lnTo>
                      <a:pt x="17" y="72"/>
                    </a:lnTo>
                    <a:lnTo>
                      <a:pt x="12" y="85"/>
                    </a:lnTo>
                    <a:lnTo>
                      <a:pt x="7" y="98"/>
                    </a:lnTo>
                    <a:lnTo>
                      <a:pt x="4" y="110"/>
                    </a:lnTo>
                    <a:lnTo>
                      <a:pt x="1" y="124"/>
                    </a:lnTo>
                    <a:lnTo>
                      <a:pt x="0" y="139"/>
                    </a:lnTo>
                    <a:lnTo>
                      <a:pt x="1" y="153"/>
                    </a:lnTo>
                    <a:lnTo>
                      <a:pt x="4" y="167"/>
                    </a:lnTo>
                    <a:lnTo>
                      <a:pt x="7" y="181"/>
                    </a:lnTo>
                    <a:lnTo>
                      <a:pt x="12" y="193"/>
                    </a:lnTo>
                    <a:lnTo>
                      <a:pt x="17" y="206"/>
                    </a:lnTo>
                    <a:lnTo>
                      <a:pt x="24" y="218"/>
                    </a:lnTo>
                    <a:lnTo>
                      <a:pt x="32" y="228"/>
                    </a:lnTo>
                    <a:lnTo>
                      <a:pt x="42" y="237"/>
                    </a:lnTo>
                    <a:lnTo>
                      <a:pt x="51" y="246"/>
                    </a:lnTo>
                    <a:lnTo>
                      <a:pt x="62" y="254"/>
                    </a:lnTo>
                    <a:lnTo>
                      <a:pt x="74" y="261"/>
                    </a:lnTo>
                    <a:lnTo>
                      <a:pt x="85" y="267"/>
                    </a:lnTo>
                    <a:lnTo>
                      <a:pt x="98" y="273"/>
                    </a:lnTo>
                    <a:lnTo>
                      <a:pt x="112" y="276"/>
                    </a:lnTo>
                    <a:lnTo>
                      <a:pt x="126" y="277"/>
                    </a:lnTo>
                    <a:lnTo>
                      <a:pt x="140" y="279"/>
                    </a:lnTo>
                    <a:lnTo>
                      <a:pt x="155" y="277"/>
                    </a:lnTo>
                    <a:lnTo>
                      <a:pt x="169" y="276"/>
                    </a:lnTo>
                    <a:lnTo>
                      <a:pt x="181" y="273"/>
                    </a:lnTo>
                    <a:lnTo>
                      <a:pt x="195" y="267"/>
                    </a:lnTo>
                    <a:lnTo>
                      <a:pt x="207" y="261"/>
                    </a:lnTo>
                    <a:lnTo>
                      <a:pt x="218" y="254"/>
                    </a:lnTo>
                    <a:lnTo>
                      <a:pt x="229" y="246"/>
                    </a:lnTo>
                    <a:lnTo>
                      <a:pt x="239" y="237"/>
                    </a:lnTo>
                    <a:lnTo>
                      <a:pt x="248" y="228"/>
                    </a:lnTo>
                    <a:lnTo>
                      <a:pt x="256" y="218"/>
                    </a:lnTo>
                    <a:lnTo>
                      <a:pt x="263" y="206"/>
                    </a:lnTo>
                    <a:lnTo>
                      <a:pt x="269" y="193"/>
                    </a:lnTo>
                    <a:lnTo>
                      <a:pt x="273" y="181"/>
                    </a:lnTo>
                    <a:lnTo>
                      <a:pt x="277" y="167"/>
                    </a:lnTo>
                    <a:lnTo>
                      <a:pt x="279" y="153"/>
                    </a:lnTo>
                    <a:lnTo>
                      <a:pt x="280" y="13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17920" y="424800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86" h="186">
                    <a:moveTo>
                      <a:pt x="186" y="93"/>
                    </a:moveTo>
                    <a:lnTo>
                      <a:pt x="186" y="84"/>
                    </a:lnTo>
                    <a:lnTo>
                      <a:pt x="185" y="75"/>
                    </a:lnTo>
                    <a:lnTo>
                      <a:pt x="183" y="65"/>
                    </a:lnTo>
                    <a:lnTo>
                      <a:pt x="179" y="56"/>
                    </a:lnTo>
                    <a:lnTo>
                      <a:pt x="175" y="48"/>
                    </a:lnTo>
                    <a:lnTo>
                      <a:pt x="170" y="41"/>
                    </a:lnTo>
                    <a:lnTo>
                      <a:pt x="165" y="33"/>
                    </a:lnTo>
                    <a:lnTo>
                      <a:pt x="160" y="27"/>
                    </a:lnTo>
                    <a:lnTo>
                      <a:pt x="153" y="22"/>
                    </a:lnTo>
                    <a:lnTo>
                      <a:pt x="146" y="16"/>
                    </a:lnTo>
                    <a:lnTo>
                      <a:pt x="138" y="11"/>
                    </a:lnTo>
                    <a:lnTo>
                      <a:pt x="130" y="7"/>
                    </a:lnTo>
                    <a:lnTo>
                      <a:pt x="120" y="4"/>
                    </a:lnTo>
                    <a:lnTo>
                      <a:pt x="112" y="2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4" y="2"/>
                    </a:lnTo>
                    <a:lnTo>
                      <a:pt x="65" y="4"/>
                    </a:lnTo>
                    <a:lnTo>
                      <a:pt x="57" y="7"/>
                    </a:lnTo>
                    <a:lnTo>
                      <a:pt x="49" y="11"/>
                    </a:lnTo>
                    <a:lnTo>
                      <a:pt x="41" y="16"/>
                    </a:lnTo>
                    <a:lnTo>
                      <a:pt x="34" y="22"/>
                    </a:lnTo>
                    <a:lnTo>
                      <a:pt x="27" y="27"/>
                    </a:lnTo>
                    <a:lnTo>
                      <a:pt x="21" y="33"/>
                    </a:lnTo>
                    <a:lnTo>
                      <a:pt x="15" y="41"/>
                    </a:lnTo>
                    <a:lnTo>
                      <a:pt x="11" y="48"/>
                    </a:lnTo>
                    <a:lnTo>
                      <a:pt x="7" y="56"/>
                    </a:lnTo>
                    <a:lnTo>
                      <a:pt x="4" y="65"/>
                    </a:lnTo>
                    <a:lnTo>
                      <a:pt x="2" y="75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1"/>
                    </a:lnTo>
                    <a:lnTo>
                      <a:pt x="7" y="129"/>
                    </a:lnTo>
                    <a:lnTo>
                      <a:pt x="11" y="137"/>
                    </a:lnTo>
                    <a:lnTo>
                      <a:pt x="15" y="145"/>
                    </a:lnTo>
                    <a:lnTo>
                      <a:pt x="21" y="152"/>
                    </a:lnTo>
                    <a:lnTo>
                      <a:pt x="27" y="159"/>
                    </a:lnTo>
                    <a:lnTo>
                      <a:pt x="34" y="165"/>
                    </a:lnTo>
                    <a:lnTo>
                      <a:pt x="41" y="170"/>
                    </a:lnTo>
                    <a:lnTo>
                      <a:pt x="49" y="175"/>
                    </a:lnTo>
                    <a:lnTo>
                      <a:pt x="57" y="178"/>
                    </a:lnTo>
                    <a:lnTo>
                      <a:pt x="65" y="182"/>
                    </a:lnTo>
                    <a:lnTo>
                      <a:pt x="74" y="184"/>
                    </a:lnTo>
                    <a:lnTo>
                      <a:pt x="83" y="185"/>
                    </a:lnTo>
                    <a:lnTo>
                      <a:pt x="93" y="186"/>
                    </a:lnTo>
                    <a:lnTo>
                      <a:pt x="103" y="185"/>
                    </a:lnTo>
                    <a:lnTo>
                      <a:pt x="112" y="184"/>
                    </a:lnTo>
                    <a:lnTo>
                      <a:pt x="120" y="182"/>
                    </a:lnTo>
                    <a:lnTo>
                      <a:pt x="130" y="178"/>
                    </a:lnTo>
                    <a:lnTo>
                      <a:pt x="138" y="175"/>
                    </a:lnTo>
                    <a:lnTo>
                      <a:pt x="146" y="170"/>
                    </a:lnTo>
                    <a:lnTo>
                      <a:pt x="153" y="165"/>
                    </a:lnTo>
                    <a:lnTo>
                      <a:pt x="160" y="159"/>
                    </a:lnTo>
                    <a:lnTo>
                      <a:pt x="165" y="152"/>
                    </a:lnTo>
                    <a:lnTo>
                      <a:pt x="170" y="145"/>
                    </a:lnTo>
                    <a:lnTo>
                      <a:pt x="175" y="137"/>
                    </a:lnTo>
                    <a:lnTo>
                      <a:pt x="179" y="129"/>
                    </a:lnTo>
                    <a:lnTo>
                      <a:pt x="183" y="121"/>
                    </a:lnTo>
                    <a:lnTo>
                      <a:pt x="185" y="112"/>
                    </a:lnTo>
                    <a:lnTo>
                      <a:pt x="186" y="102"/>
                    </a:lnTo>
                    <a:lnTo>
                      <a:pt x="186" y="9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30520" y="42591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93" y="47"/>
                    </a:moveTo>
                    <a:lnTo>
                      <a:pt x="92" y="38"/>
                    </a:lnTo>
                    <a:lnTo>
                      <a:pt x="90" y="29"/>
                    </a:lnTo>
                    <a:lnTo>
                      <a:pt x="85" y="21"/>
                    </a:lnTo>
                    <a:lnTo>
                      <a:pt x="79" y="14"/>
                    </a:lnTo>
                    <a:lnTo>
                      <a:pt x="72" y="8"/>
                    </a:lnTo>
                    <a:lnTo>
                      <a:pt x="64" y="4"/>
                    </a:lnTo>
                    <a:lnTo>
                      <a:pt x="56" y="1"/>
                    </a:lnTo>
                    <a:lnTo>
                      <a:pt x="46" y="0"/>
                    </a:lnTo>
                    <a:lnTo>
                      <a:pt x="36" y="1"/>
                    </a:lnTo>
                    <a:lnTo>
                      <a:pt x="28" y="4"/>
                    </a:lnTo>
                    <a:lnTo>
                      <a:pt x="20" y="8"/>
                    </a:lnTo>
                    <a:lnTo>
                      <a:pt x="13" y="14"/>
                    </a:lnTo>
                    <a:lnTo>
                      <a:pt x="8" y="21"/>
                    </a:lnTo>
                    <a:lnTo>
                      <a:pt x="3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1" y="56"/>
                    </a:lnTo>
                    <a:lnTo>
                      <a:pt x="3" y="66"/>
                    </a:lnTo>
                    <a:lnTo>
                      <a:pt x="8" y="72"/>
                    </a:lnTo>
                    <a:lnTo>
                      <a:pt x="13" y="79"/>
                    </a:lnTo>
                    <a:lnTo>
                      <a:pt x="20" y="85"/>
                    </a:lnTo>
                    <a:lnTo>
                      <a:pt x="28" y="90"/>
                    </a:lnTo>
                    <a:lnTo>
                      <a:pt x="36" y="92"/>
                    </a:lnTo>
                    <a:lnTo>
                      <a:pt x="46" y="93"/>
                    </a:lnTo>
                    <a:lnTo>
                      <a:pt x="56" y="92"/>
                    </a:lnTo>
                    <a:lnTo>
                      <a:pt x="64" y="90"/>
                    </a:lnTo>
                    <a:lnTo>
                      <a:pt x="72" y="85"/>
                    </a:lnTo>
                    <a:lnTo>
                      <a:pt x="79" y="79"/>
                    </a:lnTo>
                    <a:lnTo>
                      <a:pt x="85" y="72"/>
                    </a:lnTo>
                    <a:lnTo>
                      <a:pt x="90" y="66"/>
                    </a:lnTo>
                    <a:lnTo>
                      <a:pt x="92" y="56"/>
                    </a:lnTo>
                    <a:lnTo>
                      <a:pt x="93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30360" y="3713040"/>
                <a:ext cx="4122720" cy="1509840"/>
              </a:xfrm>
              <a:custGeom>
                <a:avLst/>
                <a:gdLst/>
                <a:ahLst/>
                <a:rect l="l" t="t" r="r" b="b"/>
                <a:pathLst>
                  <a:path w="15586" h="5704">
                    <a:moveTo>
                      <a:pt x="37" y="4711"/>
                    </a:moveTo>
                    <a:lnTo>
                      <a:pt x="77" y="4784"/>
                    </a:lnTo>
                    <a:lnTo>
                      <a:pt x="155" y="4862"/>
                    </a:lnTo>
                    <a:lnTo>
                      <a:pt x="228" y="4939"/>
                    </a:lnTo>
                    <a:lnTo>
                      <a:pt x="306" y="5016"/>
                    </a:lnTo>
                    <a:lnTo>
                      <a:pt x="383" y="5053"/>
                    </a:lnTo>
                    <a:lnTo>
                      <a:pt x="460" y="5053"/>
                    </a:lnTo>
                    <a:lnTo>
                      <a:pt x="538" y="5093"/>
                    </a:lnTo>
                    <a:lnTo>
                      <a:pt x="574" y="5053"/>
                    </a:lnTo>
                    <a:lnTo>
                      <a:pt x="689" y="5053"/>
                    </a:lnTo>
                    <a:lnTo>
                      <a:pt x="766" y="5053"/>
                    </a:lnTo>
                    <a:lnTo>
                      <a:pt x="842" y="5016"/>
                    </a:lnTo>
                    <a:lnTo>
                      <a:pt x="919" y="5016"/>
                    </a:lnTo>
                    <a:lnTo>
                      <a:pt x="997" y="4976"/>
                    </a:lnTo>
                    <a:lnTo>
                      <a:pt x="1070" y="4939"/>
                    </a:lnTo>
                    <a:lnTo>
                      <a:pt x="1148" y="4902"/>
                    </a:lnTo>
                    <a:lnTo>
                      <a:pt x="1225" y="4862"/>
                    </a:lnTo>
                    <a:lnTo>
                      <a:pt x="1302" y="4784"/>
                    </a:lnTo>
                    <a:lnTo>
                      <a:pt x="1380" y="4747"/>
                    </a:lnTo>
                    <a:lnTo>
                      <a:pt x="1457" y="4711"/>
                    </a:lnTo>
                    <a:lnTo>
                      <a:pt x="1531" y="4670"/>
                    </a:lnTo>
                    <a:lnTo>
                      <a:pt x="1608" y="4633"/>
                    </a:lnTo>
                    <a:lnTo>
                      <a:pt x="1648" y="4633"/>
                    </a:lnTo>
                    <a:lnTo>
                      <a:pt x="1722" y="4593"/>
                    </a:lnTo>
                    <a:lnTo>
                      <a:pt x="1799" y="4593"/>
                    </a:lnTo>
                    <a:lnTo>
                      <a:pt x="1954" y="4593"/>
                    </a:lnTo>
                    <a:lnTo>
                      <a:pt x="2068" y="4633"/>
                    </a:lnTo>
                    <a:lnTo>
                      <a:pt x="2182" y="4670"/>
                    </a:lnTo>
                    <a:lnTo>
                      <a:pt x="2260" y="4711"/>
                    </a:lnTo>
                    <a:lnTo>
                      <a:pt x="2337" y="4784"/>
                    </a:lnTo>
                    <a:lnTo>
                      <a:pt x="2414" y="4825"/>
                    </a:lnTo>
                    <a:lnTo>
                      <a:pt x="2491" y="4902"/>
                    </a:lnTo>
                    <a:lnTo>
                      <a:pt x="2564" y="4976"/>
                    </a:lnTo>
                    <a:lnTo>
                      <a:pt x="2641" y="5093"/>
                    </a:lnTo>
                    <a:lnTo>
                      <a:pt x="2719" y="5171"/>
                    </a:lnTo>
                    <a:lnTo>
                      <a:pt x="2796" y="5244"/>
                    </a:lnTo>
                    <a:lnTo>
                      <a:pt x="2910" y="5322"/>
                    </a:lnTo>
                    <a:lnTo>
                      <a:pt x="3024" y="5399"/>
                    </a:lnTo>
                    <a:lnTo>
                      <a:pt x="3142" y="5476"/>
                    </a:lnTo>
                    <a:lnTo>
                      <a:pt x="3333" y="5513"/>
                    </a:lnTo>
                    <a:lnTo>
                      <a:pt x="3525" y="5590"/>
                    </a:lnTo>
                    <a:lnTo>
                      <a:pt x="3639" y="5590"/>
                    </a:lnTo>
                    <a:lnTo>
                      <a:pt x="3790" y="5627"/>
                    </a:lnTo>
                    <a:lnTo>
                      <a:pt x="3908" y="5667"/>
                    </a:lnTo>
                    <a:lnTo>
                      <a:pt x="4059" y="5667"/>
                    </a:lnTo>
                    <a:lnTo>
                      <a:pt x="4213" y="5704"/>
                    </a:lnTo>
                    <a:lnTo>
                      <a:pt x="4367" y="5704"/>
                    </a:lnTo>
                    <a:lnTo>
                      <a:pt x="4518" y="5704"/>
                    </a:lnTo>
                    <a:lnTo>
                      <a:pt x="4709" y="5704"/>
                    </a:lnTo>
                    <a:lnTo>
                      <a:pt x="4864" y="5704"/>
                    </a:lnTo>
                    <a:lnTo>
                      <a:pt x="5019" y="5704"/>
                    </a:lnTo>
                    <a:lnTo>
                      <a:pt x="5210" y="5704"/>
                    </a:lnTo>
                    <a:lnTo>
                      <a:pt x="5361" y="5704"/>
                    </a:lnTo>
                    <a:lnTo>
                      <a:pt x="5553" y="5704"/>
                    </a:lnTo>
                    <a:lnTo>
                      <a:pt x="5707" y="5667"/>
                    </a:lnTo>
                    <a:lnTo>
                      <a:pt x="5899" y="5667"/>
                    </a:lnTo>
                    <a:lnTo>
                      <a:pt x="6053" y="5667"/>
                    </a:lnTo>
                    <a:lnTo>
                      <a:pt x="6243" y="5627"/>
                    </a:lnTo>
                    <a:lnTo>
                      <a:pt x="6395" y="5590"/>
                    </a:lnTo>
                    <a:lnTo>
                      <a:pt x="6586" y="5590"/>
                    </a:lnTo>
                    <a:lnTo>
                      <a:pt x="6777" y="5553"/>
                    </a:lnTo>
                    <a:lnTo>
                      <a:pt x="6932" y="5513"/>
                    </a:lnTo>
                    <a:lnTo>
                      <a:pt x="7087" y="5476"/>
                    </a:lnTo>
                    <a:lnTo>
                      <a:pt x="7278" y="5436"/>
                    </a:lnTo>
                    <a:lnTo>
                      <a:pt x="7429" y="5399"/>
                    </a:lnTo>
                    <a:lnTo>
                      <a:pt x="7584" y="5322"/>
                    </a:lnTo>
                    <a:lnTo>
                      <a:pt x="7738" y="5285"/>
                    </a:lnTo>
                    <a:lnTo>
                      <a:pt x="7888" y="5244"/>
                    </a:lnTo>
                    <a:lnTo>
                      <a:pt x="8043" y="5171"/>
                    </a:lnTo>
                    <a:lnTo>
                      <a:pt x="8197" y="5130"/>
                    </a:lnTo>
                    <a:lnTo>
                      <a:pt x="8348" y="5053"/>
                    </a:lnTo>
                    <a:lnTo>
                      <a:pt x="8463" y="5016"/>
                    </a:lnTo>
                    <a:lnTo>
                      <a:pt x="8580" y="4939"/>
                    </a:lnTo>
                    <a:lnTo>
                      <a:pt x="8809" y="4825"/>
                    </a:lnTo>
                    <a:lnTo>
                      <a:pt x="9000" y="4747"/>
                    </a:lnTo>
                    <a:lnTo>
                      <a:pt x="9192" y="4670"/>
                    </a:lnTo>
                    <a:lnTo>
                      <a:pt x="9423" y="4593"/>
                    </a:lnTo>
                    <a:lnTo>
                      <a:pt x="9614" y="4520"/>
                    </a:lnTo>
                    <a:lnTo>
                      <a:pt x="9842" y="4479"/>
                    </a:lnTo>
                    <a:lnTo>
                      <a:pt x="10034" y="4443"/>
                    </a:lnTo>
                    <a:lnTo>
                      <a:pt x="10265" y="4402"/>
                    </a:lnTo>
                    <a:lnTo>
                      <a:pt x="10457" y="4366"/>
                    </a:lnTo>
                    <a:lnTo>
                      <a:pt x="10685" y="4329"/>
                    </a:lnTo>
                    <a:lnTo>
                      <a:pt x="10917" y="4289"/>
                    </a:lnTo>
                    <a:lnTo>
                      <a:pt x="11109" y="4289"/>
                    </a:lnTo>
                    <a:lnTo>
                      <a:pt x="11336" y="4252"/>
                    </a:lnTo>
                    <a:lnTo>
                      <a:pt x="11564" y="4252"/>
                    </a:lnTo>
                    <a:lnTo>
                      <a:pt x="11759" y="4252"/>
                    </a:lnTo>
                    <a:lnTo>
                      <a:pt x="11987" y="4211"/>
                    </a:lnTo>
                    <a:lnTo>
                      <a:pt x="12216" y="4211"/>
                    </a:lnTo>
                    <a:lnTo>
                      <a:pt x="12407" y="4211"/>
                    </a:lnTo>
                    <a:lnTo>
                      <a:pt x="12639" y="4175"/>
                    </a:lnTo>
                    <a:lnTo>
                      <a:pt x="12866" y="4134"/>
                    </a:lnTo>
                    <a:lnTo>
                      <a:pt x="13058" y="4134"/>
                    </a:lnTo>
                    <a:lnTo>
                      <a:pt x="13290" y="4097"/>
                    </a:lnTo>
                    <a:lnTo>
                      <a:pt x="13481" y="4060"/>
                    </a:lnTo>
                    <a:lnTo>
                      <a:pt x="13709" y="3983"/>
                    </a:lnTo>
                    <a:lnTo>
                      <a:pt x="13901" y="3943"/>
                    </a:lnTo>
                    <a:lnTo>
                      <a:pt x="14092" y="3869"/>
                    </a:lnTo>
                    <a:lnTo>
                      <a:pt x="14324" y="3792"/>
                    </a:lnTo>
                    <a:lnTo>
                      <a:pt x="14516" y="3715"/>
                    </a:lnTo>
                    <a:lnTo>
                      <a:pt x="14706" y="3637"/>
                    </a:lnTo>
                    <a:lnTo>
                      <a:pt x="14898" y="3523"/>
                    </a:lnTo>
                    <a:lnTo>
                      <a:pt x="15089" y="3409"/>
                    </a:lnTo>
                    <a:lnTo>
                      <a:pt x="15244" y="3255"/>
                    </a:lnTo>
                    <a:lnTo>
                      <a:pt x="15280" y="3255"/>
                    </a:lnTo>
                    <a:lnTo>
                      <a:pt x="15321" y="3218"/>
                    </a:lnTo>
                    <a:lnTo>
                      <a:pt x="15395" y="3218"/>
                    </a:lnTo>
                    <a:lnTo>
                      <a:pt x="15435" y="3177"/>
                    </a:lnTo>
                    <a:lnTo>
                      <a:pt x="15472" y="3141"/>
                    </a:lnTo>
                    <a:lnTo>
                      <a:pt x="15549" y="3100"/>
                    </a:lnTo>
                    <a:lnTo>
                      <a:pt x="15586" y="3063"/>
                    </a:lnTo>
                    <a:lnTo>
                      <a:pt x="15586" y="3026"/>
                    </a:lnTo>
                    <a:lnTo>
                      <a:pt x="15472" y="2986"/>
                    </a:lnTo>
                    <a:lnTo>
                      <a:pt x="15358" y="2909"/>
                    </a:lnTo>
                    <a:lnTo>
                      <a:pt x="15244" y="2836"/>
                    </a:lnTo>
                    <a:lnTo>
                      <a:pt x="15129" y="2717"/>
                    </a:lnTo>
                    <a:lnTo>
                      <a:pt x="14975" y="2568"/>
                    </a:lnTo>
                    <a:lnTo>
                      <a:pt x="14861" y="2413"/>
                    </a:lnTo>
                    <a:lnTo>
                      <a:pt x="14706" y="2259"/>
                    </a:lnTo>
                    <a:lnTo>
                      <a:pt x="14593" y="2108"/>
                    </a:lnTo>
                    <a:lnTo>
                      <a:pt x="14479" y="1916"/>
                    </a:lnTo>
                    <a:lnTo>
                      <a:pt x="14361" y="1725"/>
                    </a:lnTo>
                    <a:lnTo>
                      <a:pt x="14247" y="1570"/>
                    </a:lnTo>
                    <a:lnTo>
                      <a:pt x="14133" y="1416"/>
                    </a:lnTo>
                    <a:lnTo>
                      <a:pt x="14056" y="1265"/>
                    </a:lnTo>
                    <a:lnTo>
                      <a:pt x="13978" y="1152"/>
                    </a:lnTo>
                    <a:lnTo>
                      <a:pt x="13901" y="1033"/>
                    </a:lnTo>
                    <a:lnTo>
                      <a:pt x="13864" y="961"/>
                    </a:lnTo>
                    <a:lnTo>
                      <a:pt x="13864" y="843"/>
                    </a:lnTo>
                    <a:lnTo>
                      <a:pt x="13827" y="729"/>
                    </a:lnTo>
                    <a:lnTo>
                      <a:pt x="13787" y="615"/>
                    </a:lnTo>
                    <a:lnTo>
                      <a:pt x="13750" y="460"/>
                    </a:lnTo>
                    <a:lnTo>
                      <a:pt x="13709" y="309"/>
                    </a:lnTo>
                    <a:lnTo>
                      <a:pt x="13673" y="192"/>
                    </a:lnTo>
                    <a:lnTo>
                      <a:pt x="13673" y="78"/>
                    </a:lnTo>
                    <a:lnTo>
                      <a:pt x="13673" y="0"/>
                    </a:lnTo>
                    <a:lnTo>
                      <a:pt x="13518" y="78"/>
                    </a:lnTo>
                    <a:lnTo>
                      <a:pt x="13404" y="118"/>
                    </a:lnTo>
                    <a:lnTo>
                      <a:pt x="13249" y="155"/>
                    </a:lnTo>
                    <a:lnTo>
                      <a:pt x="13175" y="192"/>
                    </a:lnTo>
                    <a:lnTo>
                      <a:pt x="13058" y="232"/>
                    </a:lnTo>
                    <a:lnTo>
                      <a:pt x="12944" y="232"/>
                    </a:lnTo>
                    <a:lnTo>
                      <a:pt x="12866" y="269"/>
                    </a:lnTo>
                    <a:lnTo>
                      <a:pt x="12794" y="269"/>
                    </a:lnTo>
                    <a:lnTo>
                      <a:pt x="12676" y="269"/>
                    </a:lnTo>
                    <a:lnTo>
                      <a:pt x="12602" y="269"/>
                    </a:lnTo>
                    <a:lnTo>
                      <a:pt x="12485" y="269"/>
                    </a:lnTo>
                    <a:lnTo>
                      <a:pt x="12370" y="269"/>
                    </a:lnTo>
                    <a:lnTo>
                      <a:pt x="12256" y="269"/>
                    </a:lnTo>
                    <a:lnTo>
                      <a:pt x="12142" y="309"/>
                    </a:lnTo>
                    <a:lnTo>
                      <a:pt x="11987" y="309"/>
                    </a:lnTo>
                    <a:lnTo>
                      <a:pt x="11833" y="309"/>
                    </a:lnTo>
                    <a:lnTo>
                      <a:pt x="11759" y="309"/>
                    </a:lnTo>
                    <a:lnTo>
                      <a:pt x="11682" y="309"/>
                    </a:lnTo>
                    <a:lnTo>
                      <a:pt x="11605" y="309"/>
                    </a:lnTo>
                    <a:lnTo>
                      <a:pt x="11527" y="309"/>
                    </a:lnTo>
                    <a:lnTo>
                      <a:pt x="11450" y="309"/>
                    </a:lnTo>
                    <a:lnTo>
                      <a:pt x="11373" y="309"/>
                    </a:lnTo>
                    <a:lnTo>
                      <a:pt x="11299" y="309"/>
                    </a:lnTo>
                    <a:lnTo>
                      <a:pt x="11222" y="309"/>
                    </a:lnTo>
                    <a:lnTo>
                      <a:pt x="11144" y="309"/>
                    </a:lnTo>
                    <a:lnTo>
                      <a:pt x="11031" y="309"/>
                    </a:lnTo>
                    <a:lnTo>
                      <a:pt x="10954" y="309"/>
                    </a:lnTo>
                    <a:lnTo>
                      <a:pt x="10877" y="346"/>
                    </a:lnTo>
                    <a:lnTo>
                      <a:pt x="10799" y="346"/>
                    </a:lnTo>
                    <a:lnTo>
                      <a:pt x="10722" y="346"/>
                    </a:lnTo>
                    <a:lnTo>
                      <a:pt x="10648" y="383"/>
                    </a:lnTo>
                    <a:lnTo>
                      <a:pt x="10531" y="383"/>
                    </a:lnTo>
                    <a:lnTo>
                      <a:pt x="10457" y="383"/>
                    </a:lnTo>
                    <a:lnTo>
                      <a:pt x="10380" y="423"/>
                    </a:lnTo>
                    <a:lnTo>
                      <a:pt x="10302" y="423"/>
                    </a:lnTo>
                    <a:lnTo>
                      <a:pt x="10225" y="423"/>
                    </a:lnTo>
                    <a:lnTo>
                      <a:pt x="10111" y="460"/>
                    </a:lnTo>
                    <a:lnTo>
                      <a:pt x="10034" y="460"/>
                    </a:lnTo>
                    <a:lnTo>
                      <a:pt x="9956" y="501"/>
                    </a:lnTo>
                    <a:lnTo>
                      <a:pt x="9879" y="538"/>
                    </a:lnTo>
                    <a:lnTo>
                      <a:pt x="9805" y="538"/>
                    </a:lnTo>
                    <a:lnTo>
                      <a:pt x="9728" y="575"/>
                    </a:lnTo>
                    <a:lnTo>
                      <a:pt x="9651" y="615"/>
                    </a:lnTo>
                    <a:lnTo>
                      <a:pt x="9573" y="615"/>
                    </a:lnTo>
                    <a:lnTo>
                      <a:pt x="9459" y="652"/>
                    </a:lnTo>
                    <a:lnTo>
                      <a:pt x="9382" y="692"/>
                    </a:lnTo>
                    <a:lnTo>
                      <a:pt x="9305" y="729"/>
                    </a:lnTo>
                    <a:lnTo>
                      <a:pt x="9232" y="766"/>
                    </a:lnTo>
                    <a:lnTo>
                      <a:pt x="9155" y="806"/>
                    </a:lnTo>
                    <a:lnTo>
                      <a:pt x="9077" y="843"/>
                    </a:lnTo>
                    <a:lnTo>
                      <a:pt x="9000" y="883"/>
                    </a:lnTo>
                    <a:lnTo>
                      <a:pt x="8923" y="920"/>
                    </a:lnTo>
                    <a:lnTo>
                      <a:pt x="8846" y="961"/>
                    </a:lnTo>
                    <a:lnTo>
                      <a:pt x="8772" y="1033"/>
                    </a:lnTo>
                    <a:lnTo>
                      <a:pt x="8694" y="1075"/>
                    </a:lnTo>
                    <a:lnTo>
                      <a:pt x="8617" y="1111"/>
                    </a:lnTo>
                    <a:lnTo>
                      <a:pt x="8540" y="1152"/>
                    </a:lnTo>
                    <a:lnTo>
                      <a:pt x="8463" y="1188"/>
                    </a:lnTo>
                    <a:lnTo>
                      <a:pt x="8389" y="1225"/>
                    </a:lnTo>
                    <a:lnTo>
                      <a:pt x="8312" y="1302"/>
                    </a:lnTo>
                    <a:lnTo>
                      <a:pt x="8234" y="1342"/>
                    </a:lnTo>
                    <a:lnTo>
                      <a:pt x="8157" y="1379"/>
                    </a:lnTo>
                    <a:lnTo>
                      <a:pt x="8080" y="1416"/>
                    </a:lnTo>
                    <a:lnTo>
                      <a:pt x="8002" y="1456"/>
                    </a:lnTo>
                    <a:lnTo>
                      <a:pt x="7929" y="1493"/>
                    </a:lnTo>
                    <a:lnTo>
                      <a:pt x="7851" y="1534"/>
                    </a:lnTo>
                    <a:lnTo>
                      <a:pt x="7774" y="1570"/>
                    </a:lnTo>
                    <a:lnTo>
                      <a:pt x="7661" y="1570"/>
                    </a:lnTo>
                    <a:lnTo>
                      <a:pt x="7584" y="1607"/>
                    </a:lnTo>
                    <a:lnTo>
                      <a:pt x="7506" y="1648"/>
                    </a:lnTo>
                    <a:lnTo>
                      <a:pt x="7429" y="1648"/>
                    </a:lnTo>
                    <a:lnTo>
                      <a:pt x="7355" y="1685"/>
                    </a:lnTo>
                    <a:lnTo>
                      <a:pt x="7238" y="1685"/>
                    </a:lnTo>
                    <a:lnTo>
                      <a:pt x="7160" y="1725"/>
                    </a:lnTo>
                    <a:lnTo>
                      <a:pt x="7046" y="1725"/>
                    </a:lnTo>
                    <a:lnTo>
                      <a:pt x="6969" y="1725"/>
                    </a:lnTo>
                    <a:lnTo>
                      <a:pt x="6855" y="1725"/>
                    </a:lnTo>
                    <a:lnTo>
                      <a:pt x="6777" y="1725"/>
                    </a:lnTo>
                    <a:lnTo>
                      <a:pt x="6663" y="1725"/>
                    </a:lnTo>
                    <a:lnTo>
                      <a:pt x="6586" y="1725"/>
                    </a:lnTo>
                    <a:lnTo>
                      <a:pt x="6512" y="1725"/>
                    </a:lnTo>
                    <a:lnTo>
                      <a:pt x="6435" y="1725"/>
                    </a:lnTo>
                    <a:lnTo>
                      <a:pt x="6358" y="1725"/>
                    </a:lnTo>
                    <a:lnTo>
                      <a:pt x="6280" y="1685"/>
                    </a:lnTo>
                    <a:lnTo>
                      <a:pt x="6203" y="1685"/>
                    </a:lnTo>
                    <a:lnTo>
                      <a:pt x="6089" y="1685"/>
                    </a:lnTo>
                    <a:lnTo>
                      <a:pt x="6012" y="1685"/>
                    </a:lnTo>
                    <a:lnTo>
                      <a:pt x="5934" y="1685"/>
                    </a:lnTo>
                    <a:lnTo>
                      <a:pt x="5821" y="1685"/>
                    </a:lnTo>
                    <a:lnTo>
                      <a:pt x="5744" y="1685"/>
                    </a:lnTo>
                    <a:lnTo>
                      <a:pt x="5670" y="1685"/>
                    </a:lnTo>
                    <a:lnTo>
                      <a:pt x="5553" y="1685"/>
                    </a:lnTo>
                    <a:lnTo>
                      <a:pt x="5475" y="1685"/>
                    </a:lnTo>
                    <a:lnTo>
                      <a:pt x="5401" y="1685"/>
                    </a:lnTo>
                    <a:lnTo>
                      <a:pt x="5361" y="1725"/>
                    </a:lnTo>
                    <a:lnTo>
                      <a:pt x="5284" y="1725"/>
                    </a:lnTo>
                    <a:lnTo>
                      <a:pt x="5133" y="1725"/>
                    </a:lnTo>
                    <a:lnTo>
                      <a:pt x="5019" y="1725"/>
                    </a:lnTo>
                    <a:lnTo>
                      <a:pt x="4864" y="1762"/>
                    </a:lnTo>
                    <a:lnTo>
                      <a:pt x="4750" y="1762"/>
                    </a:lnTo>
                    <a:lnTo>
                      <a:pt x="4595" y="1802"/>
                    </a:lnTo>
                    <a:lnTo>
                      <a:pt x="4441" y="1839"/>
                    </a:lnTo>
                    <a:lnTo>
                      <a:pt x="4291" y="1839"/>
                    </a:lnTo>
                    <a:lnTo>
                      <a:pt x="4136" y="1876"/>
                    </a:lnTo>
                    <a:lnTo>
                      <a:pt x="3985" y="1916"/>
                    </a:lnTo>
                    <a:lnTo>
                      <a:pt x="3831" y="1953"/>
                    </a:lnTo>
                    <a:lnTo>
                      <a:pt x="3676" y="1953"/>
                    </a:lnTo>
                    <a:lnTo>
                      <a:pt x="3525" y="1994"/>
                    </a:lnTo>
                    <a:lnTo>
                      <a:pt x="3370" y="2030"/>
                    </a:lnTo>
                    <a:lnTo>
                      <a:pt x="3256" y="2108"/>
                    </a:lnTo>
                    <a:lnTo>
                      <a:pt x="3102" y="2145"/>
                    </a:lnTo>
                    <a:lnTo>
                      <a:pt x="2987" y="2185"/>
                    </a:lnTo>
                    <a:lnTo>
                      <a:pt x="2910" y="2222"/>
                    </a:lnTo>
                    <a:lnTo>
                      <a:pt x="2833" y="2222"/>
                    </a:lnTo>
                    <a:lnTo>
                      <a:pt x="2756" y="2259"/>
                    </a:lnTo>
                    <a:lnTo>
                      <a:pt x="2682" y="2336"/>
                    </a:lnTo>
                    <a:lnTo>
                      <a:pt x="2641" y="2376"/>
                    </a:lnTo>
                    <a:lnTo>
                      <a:pt x="2564" y="2413"/>
                    </a:lnTo>
                    <a:lnTo>
                      <a:pt x="2491" y="2490"/>
                    </a:lnTo>
                    <a:lnTo>
                      <a:pt x="2414" y="2527"/>
                    </a:lnTo>
                    <a:lnTo>
                      <a:pt x="2374" y="2604"/>
                    </a:lnTo>
                    <a:lnTo>
                      <a:pt x="2300" y="2682"/>
                    </a:lnTo>
                    <a:lnTo>
                      <a:pt x="2260" y="2759"/>
                    </a:lnTo>
                    <a:lnTo>
                      <a:pt x="2223" y="2836"/>
                    </a:lnTo>
                    <a:lnTo>
                      <a:pt x="2145" y="2872"/>
                    </a:lnTo>
                    <a:lnTo>
                      <a:pt x="2145" y="2949"/>
                    </a:lnTo>
                    <a:lnTo>
                      <a:pt x="2105" y="3026"/>
                    </a:lnTo>
                    <a:lnTo>
                      <a:pt x="2068" y="3100"/>
                    </a:lnTo>
                    <a:lnTo>
                      <a:pt x="2068" y="3141"/>
                    </a:lnTo>
                    <a:lnTo>
                      <a:pt x="2031" y="3218"/>
                    </a:lnTo>
                    <a:lnTo>
                      <a:pt x="2031" y="3292"/>
                    </a:lnTo>
                    <a:lnTo>
                      <a:pt x="1991" y="3369"/>
                    </a:lnTo>
                    <a:lnTo>
                      <a:pt x="1954" y="3446"/>
                    </a:lnTo>
                    <a:lnTo>
                      <a:pt x="1914" y="3523"/>
                    </a:lnTo>
                    <a:lnTo>
                      <a:pt x="1877" y="3560"/>
                    </a:lnTo>
                    <a:lnTo>
                      <a:pt x="1840" y="3600"/>
                    </a:lnTo>
                    <a:lnTo>
                      <a:pt x="1722" y="3678"/>
                    </a:lnTo>
                    <a:lnTo>
                      <a:pt x="1608" y="3715"/>
                    </a:lnTo>
                    <a:lnTo>
                      <a:pt x="1494" y="3751"/>
                    </a:lnTo>
                    <a:lnTo>
                      <a:pt x="1339" y="3751"/>
                    </a:lnTo>
                    <a:lnTo>
                      <a:pt x="1188" y="3792"/>
                    </a:lnTo>
                    <a:lnTo>
                      <a:pt x="997" y="3792"/>
                    </a:lnTo>
                    <a:lnTo>
                      <a:pt x="842" y="3829"/>
                    </a:lnTo>
                    <a:lnTo>
                      <a:pt x="689" y="3829"/>
                    </a:lnTo>
                    <a:lnTo>
                      <a:pt x="538" y="3869"/>
                    </a:lnTo>
                    <a:lnTo>
                      <a:pt x="383" y="3906"/>
                    </a:lnTo>
                    <a:lnTo>
                      <a:pt x="269" y="3983"/>
                    </a:lnTo>
                    <a:lnTo>
                      <a:pt x="155" y="4060"/>
                    </a:lnTo>
                    <a:lnTo>
                      <a:pt x="77" y="4175"/>
                    </a:lnTo>
                    <a:lnTo>
                      <a:pt x="0" y="4329"/>
                    </a:lnTo>
                    <a:lnTo>
                      <a:pt x="0" y="4479"/>
                    </a:lnTo>
                    <a:lnTo>
                      <a:pt x="37" y="4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45240" y="4533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27960" y="451944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114" h="87">
                    <a:moveTo>
                      <a:pt x="0" y="87"/>
                    </a:moveTo>
                    <a:lnTo>
                      <a:pt x="67" y="52"/>
                    </a:lnTo>
                    <a:lnTo>
                      <a:pt x="107" y="15"/>
                    </a:lnTo>
                    <a:lnTo>
                      <a:pt x="114" y="0"/>
                    </a:lnTo>
                    <a:lnTo>
                      <a:pt x="101" y="12"/>
                    </a:lnTo>
                    <a:lnTo>
                      <a:pt x="87" y="23"/>
                    </a:lnTo>
                    <a:lnTo>
                      <a:pt x="72" y="34"/>
                    </a:lnTo>
                    <a:lnTo>
                      <a:pt x="58" y="44"/>
                    </a:lnTo>
                    <a:lnTo>
                      <a:pt x="44" y="56"/>
                    </a:lnTo>
                    <a:lnTo>
                      <a:pt x="29" y="66"/>
                    </a:lnTo>
                    <a:lnTo>
                      <a:pt x="15" y="7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0040" y="451476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53" h="116">
                    <a:moveTo>
                      <a:pt x="93" y="76"/>
                    </a:moveTo>
                    <a:lnTo>
                      <a:pt x="93" y="76"/>
                    </a:lnTo>
                    <a:lnTo>
                      <a:pt x="93" y="75"/>
                    </a:lnTo>
                    <a:lnTo>
                      <a:pt x="94" y="75"/>
                    </a:lnTo>
                    <a:lnTo>
                      <a:pt x="94" y="75"/>
                    </a:lnTo>
                    <a:lnTo>
                      <a:pt x="94" y="75"/>
                    </a:lnTo>
                    <a:lnTo>
                      <a:pt x="95" y="74"/>
                    </a:lnTo>
                    <a:lnTo>
                      <a:pt x="95" y="74"/>
                    </a:lnTo>
                    <a:lnTo>
                      <a:pt x="95" y="74"/>
                    </a:lnTo>
                    <a:lnTo>
                      <a:pt x="134" y="38"/>
                    </a:lnTo>
                    <a:lnTo>
                      <a:pt x="153" y="0"/>
                    </a:lnTo>
                    <a:lnTo>
                      <a:pt x="134" y="15"/>
                    </a:lnTo>
                    <a:lnTo>
                      <a:pt x="115" y="30"/>
                    </a:lnTo>
                    <a:lnTo>
                      <a:pt x="96" y="44"/>
                    </a:lnTo>
                    <a:lnTo>
                      <a:pt x="77" y="59"/>
                    </a:lnTo>
                    <a:lnTo>
                      <a:pt x="58" y="74"/>
                    </a:lnTo>
                    <a:lnTo>
                      <a:pt x="39" y="88"/>
                    </a:lnTo>
                    <a:lnTo>
                      <a:pt x="19" y="102"/>
                    </a:lnTo>
                    <a:lnTo>
                      <a:pt x="0" y="116"/>
                    </a:lnTo>
                    <a:lnTo>
                      <a:pt x="17" y="116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15000" y="4508640"/>
                <a:ext cx="49320" cy="36360"/>
              </a:xfrm>
              <a:custGeom>
                <a:avLst/>
                <a:gdLst/>
                <a:ahLst/>
                <a:rect l="l" t="t" r="r" b="b"/>
                <a:pathLst>
                  <a:path w="184" h="140">
                    <a:moveTo>
                      <a:pt x="47" y="134"/>
                    </a:moveTo>
                    <a:lnTo>
                      <a:pt x="62" y="123"/>
                    </a:lnTo>
                    <a:lnTo>
                      <a:pt x="76" y="113"/>
                    </a:lnTo>
                    <a:lnTo>
                      <a:pt x="91" y="103"/>
                    </a:lnTo>
                    <a:lnTo>
                      <a:pt x="105" y="91"/>
                    </a:lnTo>
                    <a:lnTo>
                      <a:pt x="119" y="81"/>
                    </a:lnTo>
                    <a:lnTo>
                      <a:pt x="134" y="70"/>
                    </a:lnTo>
                    <a:lnTo>
                      <a:pt x="148" y="59"/>
                    </a:lnTo>
                    <a:lnTo>
                      <a:pt x="161" y="47"/>
                    </a:lnTo>
                    <a:lnTo>
                      <a:pt x="184" y="0"/>
                    </a:lnTo>
                    <a:lnTo>
                      <a:pt x="161" y="18"/>
                    </a:lnTo>
                    <a:lnTo>
                      <a:pt x="139" y="36"/>
                    </a:lnTo>
                    <a:lnTo>
                      <a:pt x="116" y="54"/>
                    </a:lnTo>
                    <a:lnTo>
                      <a:pt x="93" y="72"/>
                    </a:lnTo>
                    <a:lnTo>
                      <a:pt x="70" y="89"/>
                    </a:lnTo>
                    <a:lnTo>
                      <a:pt x="47" y="106"/>
                    </a:lnTo>
                    <a:lnTo>
                      <a:pt x="24" y="123"/>
                    </a:lnTo>
                    <a:lnTo>
                      <a:pt x="0" y="140"/>
                    </a:lnTo>
                    <a:lnTo>
                      <a:pt x="37" y="140"/>
                    </a:lnTo>
                    <a:lnTo>
                      <a:pt x="47" y="13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10320" y="4502160"/>
                <a:ext cx="55440" cy="42840"/>
              </a:xfrm>
              <a:custGeom>
                <a:avLst/>
                <a:gdLst/>
                <a:ahLst/>
                <a:rect l="l" t="t" r="r" b="b"/>
                <a:pathLst>
                  <a:path w="211" h="161">
                    <a:moveTo>
                      <a:pt x="40" y="161"/>
                    </a:moveTo>
                    <a:lnTo>
                      <a:pt x="59" y="147"/>
                    </a:lnTo>
                    <a:lnTo>
                      <a:pt x="79" y="133"/>
                    </a:lnTo>
                    <a:lnTo>
                      <a:pt x="98" y="119"/>
                    </a:lnTo>
                    <a:lnTo>
                      <a:pt x="117" y="104"/>
                    </a:lnTo>
                    <a:lnTo>
                      <a:pt x="136" y="89"/>
                    </a:lnTo>
                    <a:lnTo>
                      <a:pt x="155" y="75"/>
                    </a:lnTo>
                    <a:lnTo>
                      <a:pt x="174" y="60"/>
                    </a:lnTo>
                    <a:lnTo>
                      <a:pt x="193" y="45"/>
                    </a:lnTo>
                    <a:lnTo>
                      <a:pt x="211" y="6"/>
                    </a:lnTo>
                    <a:lnTo>
                      <a:pt x="211" y="0"/>
                    </a:lnTo>
                    <a:lnTo>
                      <a:pt x="185" y="21"/>
                    </a:lnTo>
                    <a:lnTo>
                      <a:pt x="159" y="42"/>
                    </a:lnTo>
                    <a:lnTo>
                      <a:pt x="134" y="63"/>
                    </a:lnTo>
                    <a:lnTo>
                      <a:pt x="108" y="83"/>
                    </a:lnTo>
                    <a:lnTo>
                      <a:pt x="81" y="103"/>
                    </a:lnTo>
                    <a:lnTo>
                      <a:pt x="55" y="122"/>
                    </a:lnTo>
                    <a:lnTo>
                      <a:pt x="27" y="142"/>
                    </a:lnTo>
                    <a:lnTo>
                      <a:pt x="0" y="161"/>
                    </a:lnTo>
                    <a:lnTo>
                      <a:pt x="40" y="16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03840" y="449892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230" h="176">
                    <a:moveTo>
                      <a:pt x="39" y="176"/>
                    </a:moveTo>
                    <a:lnTo>
                      <a:pt x="63" y="159"/>
                    </a:lnTo>
                    <a:lnTo>
                      <a:pt x="86" y="142"/>
                    </a:lnTo>
                    <a:lnTo>
                      <a:pt x="109" y="125"/>
                    </a:lnTo>
                    <a:lnTo>
                      <a:pt x="132" y="108"/>
                    </a:lnTo>
                    <a:lnTo>
                      <a:pt x="155" y="90"/>
                    </a:lnTo>
                    <a:lnTo>
                      <a:pt x="178" y="72"/>
                    </a:lnTo>
                    <a:lnTo>
                      <a:pt x="200" y="54"/>
                    </a:lnTo>
                    <a:lnTo>
                      <a:pt x="223" y="36"/>
                    </a:lnTo>
                    <a:lnTo>
                      <a:pt x="230" y="21"/>
                    </a:lnTo>
                    <a:lnTo>
                      <a:pt x="230" y="0"/>
                    </a:lnTo>
                    <a:lnTo>
                      <a:pt x="203" y="23"/>
                    </a:lnTo>
                    <a:lnTo>
                      <a:pt x="174" y="46"/>
                    </a:lnTo>
                    <a:lnTo>
                      <a:pt x="145" y="69"/>
                    </a:lnTo>
                    <a:lnTo>
                      <a:pt x="117" y="91"/>
                    </a:lnTo>
                    <a:lnTo>
                      <a:pt x="87" y="113"/>
                    </a:lnTo>
                    <a:lnTo>
                      <a:pt x="59" y="134"/>
                    </a:lnTo>
                    <a:lnTo>
                      <a:pt x="29" y="155"/>
                    </a:lnTo>
                    <a:lnTo>
                      <a:pt x="0" y="176"/>
                    </a:lnTo>
                    <a:lnTo>
                      <a:pt x="39" y="17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99160" y="449424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251" h="191">
                    <a:moveTo>
                      <a:pt x="40" y="191"/>
                    </a:moveTo>
                    <a:lnTo>
                      <a:pt x="67" y="172"/>
                    </a:lnTo>
                    <a:lnTo>
                      <a:pt x="95" y="152"/>
                    </a:lnTo>
                    <a:lnTo>
                      <a:pt x="121" y="133"/>
                    </a:lnTo>
                    <a:lnTo>
                      <a:pt x="148" y="113"/>
                    </a:lnTo>
                    <a:lnTo>
                      <a:pt x="174" y="93"/>
                    </a:lnTo>
                    <a:lnTo>
                      <a:pt x="199" y="72"/>
                    </a:lnTo>
                    <a:lnTo>
                      <a:pt x="225" y="51"/>
                    </a:lnTo>
                    <a:lnTo>
                      <a:pt x="251" y="30"/>
                    </a:lnTo>
                    <a:lnTo>
                      <a:pt x="251" y="0"/>
                    </a:lnTo>
                    <a:lnTo>
                      <a:pt x="220" y="26"/>
                    </a:lnTo>
                    <a:lnTo>
                      <a:pt x="190" y="51"/>
                    </a:lnTo>
                    <a:lnTo>
                      <a:pt x="159" y="75"/>
                    </a:lnTo>
                    <a:lnTo>
                      <a:pt x="128" y="99"/>
                    </a:lnTo>
                    <a:lnTo>
                      <a:pt x="97" y="123"/>
                    </a:lnTo>
                    <a:lnTo>
                      <a:pt x="65" y="146"/>
                    </a:lnTo>
                    <a:lnTo>
                      <a:pt x="32" y="169"/>
                    </a:lnTo>
                    <a:lnTo>
                      <a:pt x="0" y="191"/>
                    </a:lnTo>
                    <a:lnTo>
                      <a:pt x="20" y="191"/>
                    </a:lnTo>
                    <a:lnTo>
                      <a:pt x="40" y="19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93040" y="449100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272" h="206">
                    <a:moveTo>
                      <a:pt x="42" y="206"/>
                    </a:moveTo>
                    <a:lnTo>
                      <a:pt x="71" y="185"/>
                    </a:lnTo>
                    <a:lnTo>
                      <a:pt x="101" y="164"/>
                    </a:lnTo>
                    <a:lnTo>
                      <a:pt x="129" y="143"/>
                    </a:lnTo>
                    <a:lnTo>
                      <a:pt x="159" y="121"/>
                    </a:lnTo>
                    <a:lnTo>
                      <a:pt x="187" y="99"/>
                    </a:lnTo>
                    <a:lnTo>
                      <a:pt x="216" y="76"/>
                    </a:lnTo>
                    <a:lnTo>
                      <a:pt x="245" y="53"/>
                    </a:lnTo>
                    <a:lnTo>
                      <a:pt x="272" y="30"/>
                    </a:lnTo>
                    <a:lnTo>
                      <a:pt x="272" y="0"/>
                    </a:lnTo>
                    <a:lnTo>
                      <a:pt x="239" y="28"/>
                    </a:lnTo>
                    <a:lnTo>
                      <a:pt x="207" y="55"/>
                    </a:lnTo>
                    <a:lnTo>
                      <a:pt x="173" y="81"/>
                    </a:lnTo>
                    <a:lnTo>
                      <a:pt x="140" y="108"/>
                    </a:lnTo>
                    <a:lnTo>
                      <a:pt x="105" y="133"/>
                    </a:lnTo>
                    <a:lnTo>
                      <a:pt x="71" y="158"/>
                    </a:lnTo>
                    <a:lnTo>
                      <a:pt x="36" y="182"/>
                    </a:lnTo>
                    <a:lnTo>
                      <a:pt x="0" y="206"/>
                    </a:lnTo>
                    <a:lnTo>
                      <a:pt x="41" y="206"/>
                    </a:lnTo>
                    <a:lnTo>
                      <a:pt x="42" y="20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88000" y="4486320"/>
                <a:ext cx="77760" cy="58680"/>
              </a:xfrm>
              <a:custGeom>
                <a:avLst/>
                <a:gdLst/>
                <a:ahLst/>
                <a:rect l="l" t="t" r="r" b="b"/>
                <a:pathLst>
                  <a:path w="293" h="221">
                    <a:moveTo>
                      <a:pt x="42" y="221"/>
                    </a:moveTo>
                    <a:lnTo>
                      <a:pt x="74" y="199"/>
                    </a:lnTo>
                    <a:lnTo>
                      <a:pt x="107" y="176"/>
                    </a:lnTo>
                    <a:lnTo>
                      <a:pt x="139" y="153"/>
                    </a:lnTo>
                    <a:lnTo>
                      <a:pt x="170" y="129"/>
                    </a:lnTo>
                    <a:lnTo>
                      <a:pt x="201" y="105"/>
                    </a:lnTo>
                    <a:lnTo>
                      <a:pt x="232" y="81"/>
                    </a:lnTo>
                    <a:lnTo>
                      <a:pt x="262" y="56"/>
                    </a:lnTo>
                    <a:lnTo>
                      <a:pt x="293" y="30"/>
                    </a:lnTo>
                    <a:lnTo>
                      <a:pt x="293" y="0"/>
                    </a:lnTo>
                    <a:lnTo>
                      <a:pt x="258" y="30"/>
                    </a:lnTo>
                    <a:lnTo>
                      <a:pt x="223" y="59"/>
                    </a:lnTo>
                    <a:lnTo>
                      <a:pt x="187" y="88"/>
                    </a:lnTo>
                    <a:lnTo>
                      <a:pt x="150" y="116"/>
                    </a:lnTo>
                    <a:lnTo>
                      <a:pt x="113" y="143"/>
                    </a:lnTo>
                    <a:lnTo>
                      <a:pt x="77" y="170"/>
                    </a:lnTo>
                    <a:lnTo>
                      <a:pt x="38" y="195"/>
                    </a:lnTo>
                    <a:lnTo>
                      <a:pt x="0" y="221"/>
                    </a:lnTo>
                    <a:lnTo>
                      <a:pt x="42" y="22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81880" y="4483080"/>
                <a:ext cx="83880" cy="61920"/>
              </a:xfrm>
              <a:custGeom>
                <a:avLst/>
                <a:gdLst/>
                <a:ahLst/>
                <a:rect l="l" t="t" r="r" b="b"/>
                <a:pathLst>
                  <a:path w="313" h="236">
                    <a:moveTo>
                      <a:pt x="41" y="236"/>
                    </a:moveTo>
                    <a:lnTo>
                      <a:pt x="77" y="212"/>
                    </a:lnTo>
                    <a:lnTo>
                      <a:pt x="112" y="188"/>
                    </a:lnTo>
                    <a:lnTo>
                      <a:pt x="146" y="163"/>
                    </a:lnTo>
                    <a:lnTo>
                      <a:pt x="181" y="138"/>
                    </a:lnTo>
                    <a:lnTo>
                      <a:pt x="214" y="111"/>
                    </a:lnTo>
                    <a:lnTo>
                      <a:pt x="248" y="85"/>
                    </a:lnTo>
                    <a:lnTo>
                      <a:pt x="280" y="58"/>
                    </a:lnTo>
                    <a:lnTo>
                      <a:pt x="313" y="30"/>
                    </a:lnTo>
                    <a:lnTo>
                      <a:pt x="313" y="4"/>
                    </a:lnTo>
                    <a:lnTo>
                      <a:pt x="313" y="0"/>
                    </a:lnTo>
                    <a:lnTo>
                      <a:pt x="275" y="33"/>
                    </a:lnTo>
                    <a:lnTo>
                      <a:pt x="238" y="64"/>
                    </a:lnTo>
                    <a:lnTo>
                      <a:pt x="199" y="94"/>
                    </a:lnTo>
                    <a:lnTo>
                      <a:pt x="161" y="124"/>
                    </a:lnTo>
                    <a:lnTo>
                      <a:pt x="122" y="153"/>
                    </a:lnTo>
                    <a:lnTo>
                      <a:pt x="82" y="181"/>
                    </a:lnTo>
                    <a:lnTo>
                      <a:pt x="41" y="209"/>
                    </a:lnTo>
                    <a:lnTo>
                      <a:pt x="0" y="236"/>
                    </a:lnTo>
                    <a:lnTo>
                      <a:pt x="8" y="236"/>
                    </a:lnTo>
                    <a:lnTo>
                      <a:pt x="41" y="23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76840" y="4478400"/>
                <a:ext cx="88920" cy="66600"/>
              </a:xfrm>
              <a:custGeom>
                <a:avLst/>
                <a:gdLst/>
                <a:ahLst/>
                <a:rect l="l" t="t" r="r" b="b"/>
                <a:pathLst>
                  <a:path w="334" h="251">
                    <a:moveTo>
                      <a:pt x="41" y="251"/>
                    </a:moveTo>
                    <a:lnTo>
                      <a:pt x="79" y="225"/>
                    </a:lnTo>
                    <a:lnTo>
                      <a:pt x="118" y="200"/>
                    </a:lnTo>
                    <a:lnTo>
                      <a:pt x="154" y="173"/>
                    </a:lnTo>
                    <a:lnTo>
                      <a:pt x="191" y="146"/>
                    </a:lnTo>
                    <a:lnTo>
                      <a:pt x="228" y="118"/>
                    </a:lnTo>
                    <a:lnTo>
                      <a:pt x="264" y="89"/>
                    </a:lnTo>
                    <a:lnTo>
                      <a:pt x="299" y="60"/>
                    </a:lnTo>
                    <a:lnTo>
                      <a:pt x="334" y="30"/>
                    </a:lnTo>
                    <a:lnTo>
                      <a:pt x="334" y="19"/>
                    </a:lnTo>
                    <a:lnTo>
                      <a:pt x="334" y="0"/>
                    </a:lnTo>
                    <a:lnTo>
                      <a:pt x="294" y="35"/>
                    </a:lnTo>
                    <a:lnTo>
                      <a:pt x="254" y="68"/>
                    </a:lnTo>
                    <a:lnTo>
                      <a:pt x="213" y="101"/>
                    </a:lnTo>
                    <a:lnTo>
                      <a:pt x="172" y="132"/>
                    </a:lnTo>
                    <a:lnTo>
                      <a:pt x="130" y="163"/>
                    </a:lnTo>
                    <a:lnTo>
                      <a:pt x="88" y="193"/>
                    </a:lnTo>
                    <a:lnTo>
                      <a:pt x="44" y="223"/>
                    </a:lnTo>
                    <a:lnTo>
                      <a:pt x="0" y="251"/>
                    </a:lnTo>
                    <a:lnTo>
                      <a:pt x="29" y="251"/>
                    </a:lnTo>
                    <a:lnTo>
                      <a:pt x="41" y="25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70720" y="4475160"/>
                <a:ext cx="95040" cy="69840"/>
              </a:xfrm>
              <a:custGeom>
                <a:avLst/>
                <a:gdLst/>
                <a:ahLst/>
                <a:rect l="l" t="t" r="r" b="b"/>
                <a:pathLst>
                  <a:path w="356" h="266">
                    <a:moveTo>
                      <a:pt x="43" y="266"/>
                    </a:moveTo>
                    <a:lnTo>
                      <a:pt x="84" y="239"/>
                    </a:lnTo>
                    <a:lnTo>
                      <a:pt x="125" y="211"/>
                    </a:lnTo>
                    <a:lnTo>
                      <a:pt x="165" y="183"/>
                    </a:lnTo>
                    <a:lnTo>
                      <a:pt x="204" y="154"/>
                    </a:lnTo>
                    <a:lnTo>
                      <a:pt x="242" y="124"/>
                    </a:lnTo>
                    <a:lnTo>
                      <a:pt x="281" y="94"/>
                    </a:lnTo>
                    <a:lnTo>
                      <a:pt x="318" y="63"/>
                    </a:lnTo>
                    <a:lnTo>
                      <a:pt x="356" y="30"/>
                    </a:lnTo>
                    <a:lnTo>
                      <a:pt x="356" y="0"/>
                    </a:lnTo>
                    <a:lnTo>
                      <a:pt x="314" y="36"/>
                    </a:lnTo>
                    <a:lnTo>
                      <a:pt x="271" y="72"/>
                    </a:lnTo>
                    <a:lnTo>
                      <a:pt x="228" y="106"/>
                    </a:lnTo>
                    <a:lnTo>
                      <a:pt x="183" y="140"/>
                    </a:lnTo>
                    <a:lnTo>
                      <a:pt x="138" y="173"/>
                    </a:lnTo>
                    <a:lnTo>
                      <a:pt x="93" y="204"/>
                    </a:lnTo>
                    <a:lnTo>
                      <a:pt x="47" y="236"/>
                    </a:lnTo>
                    <a:lnTo>
                      <a:pt x="0" y="266"/>
                    </a:lnTo>
                    <a:lnTo>
                      <a:pt x="43" y="26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66040" y="4470480"/>
                <a:ext cx="99720" cy="74520"/>
              </a:xfrm>
              <a:custGeom>
                <a:avLst/>
                <a:gdLst/>
                <a:ahLst/>
                <a:rect l="l" t="t" r="r" b="b"/>
                <a:pathLst>
                  <a:path w="377" h="281">
                    <a:moveTo>
                      <a:pt x="43" y="281"/>
                    </a:moveTo>
                    <a:lnTo>
                      <a:pt x="87" y="253"/>
                    </a:lnTo>
                    <a:lnTo>
                      <a:pt x="131" y="223"/>
                    </a:lnTo>
                    <a:lnTo>
                      <a:pt x="173" y="193"/>
                    </a:lnTo>
                    <a:lnTo>
                      <a:pt x="215" y="162"/>
                    </a:lnTo>
                    <a:lnTo>
                      <a:pt x="256" y="131"/>
                    </a:lnTo>
                    <a:lnTo>
                      <a:pt x="297" y="98"/>
                    </a:lnTo>
                    <a:lnTo>
                      <a:pt x="337" y="65"/>
                    </a:lnTo>
                    <a:lnTo>
                      <a:pt x="377" y="30"/>
                    </a:lnTo>
                    <a:lnTo>
                      <a:pt x="377" y="0"/>
                    </a:lnTo>
                    <a:lnTo>
                      <a:pt x="332" y="38"/>
                    </a:lnTo>
                    <a:lnTo>
                      <a:pt x="287" y="76"/>
                    </a:lnTo>
                    <a:lnTo>
                      <a:pt x="241" y="113"/>
                    </a:lnTo>
                    <a:lnTo>
                      <a:pt x="195" y="149"/>
                    </a:lnTo>
                    <a:lnTo>
                      <a:pt x="147" y="184"/>
                    </a:lnTo>
                    <a:lnTo>
                      <a:pt x="98" y="217"/>
                    </a:lnTo>
                    <a:lnTo>
                      <a:pt x="50" y="249"/>
                    </a:lnTo>
                    <a:lnTo>
                      <a:pt x="0" y="281"/>
                    </a:lnTo>
                    <a:lnTo>
                      <a:pt x="43" y="28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61000" y="446724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392" h="296">
                    <a:moveTo>
                      <a:pt x="36" y="296"/>
                    </a:moveTo>
                    <a:lnTo>
                      <a:pt x="83" y="266"/>
                    </a:lnTo>
                    <a:lnTo>
                      <a:pt x="129" y="234"/>
                    </a:lnTo>
                    <a:lnTo>
                      <a:pt x="174" y="203"/>
                    </a:lnTo>
                    <a:lnTo>
                      <a:pt x="219" y="170"/>
                    </a:lnTo>
                    <a:lnTo>
                      <a:pt x="264" y="136"/>
                    </a:lnTo>
                    <a:lnTo>
                      <a:pt x="307" y="102"/>
                    </a:lnTo>
                    <a:lnTo>
                      <a:pt x="350" y="66"/>
                    </a:lnTo>
                    <a:lnTo>
                      <a:pt x="392" y="30"/>
                    </a:lnTo>
                    <a:lnTo>
                      <a:pt x="392" y="0"/>
                    </a:lnTo>
                    <a:lnTo>
                      <a:pt x="346" y="40"/>
                    </a:lnTo>
                    <a:lnTo>
                      <a:pt x="299" y="79"/>
                    </a:lnTo>
                    <a:lnTo>
                      <a:pt x="252" y="117"/>
                    </a:lnTo>
                    <a:lnTo>
                      <a:pt x="203" y="155"/>
                    </a:lnTo>
                    <a:lnTo>
                      <a:pt x="154" y="191"/>
                    </a:lnTo>
                    <a:lnTo>
                      <a:pt x="104" y="225"/>
                    </a:lnTo>
                    <a:lnTo>
                      <a:pt x="52" y="259"/>
                    </a:lnTo>
                    <a:lnTo>
                      <a:pt x="0" y="291"/>
                    </a:lnTo>
                    <a:lnTo>
                      <a:pt x="9" y="296"/>
                    </a:lnTo>
                    <a:lnTo>
                      <a:pt x="36" y="29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58120" y="4462560"/>
                <a:ext cx="107640" cy="82440"/>
              </a:xfrm>
              <a:custGeom>
                <a:avLst/>
                <a:gdLst/>
                <a:ahLst/>
                <a:rect l="l" t="t" r="r" b="b"/>
                <a:pathLst>
                  <a:path w="403" h="312">
                    <a:moveTo>
                      <a:pt x="26" y="312"/>
                    </a:moveTo>
                    <a:lnTo>
                      <a:pt x="76" y="280"/>
                    </a:lnTo>
                    <a:lnTo>
                      <a:pt x="124" y="248"/>
                    </a:lnTo>
                    <a:lnTo>
                      <a:pt x="173" y="215"/>
                    </a:lnTo>
                    <a:lnTo>
                      <a:pt x="221" y="180"/>
                    </a:lnTo>
                    <a:lnTo>
                      <a:pt x="267" y="144"/>
                    </a:lnTo>
                    <a:lnTo>
                      <a:pt x="313" y="107"/>
                    </a:lnTo>
                    <a:lnTo>
                      <a:pt x="358" y="69"/>
                    </a:lnTo>
                    <a:lnTo>
                      <a:pt x="403" y="31"/>
                    </a:lnTo>
                    <a:lnTo>
                      <a:pt x="403" y="0"/>
                    </a:lnTo>
                    <a:lnTo>
                      <a:pt x="356" y="42"/>
                    </a:lnTo>
                    <a:lnTo>
                      <a:pt x="308" y="83"/>
                    </a:lnTo>
                    <a:lnTo>
                      <a:pt x="259" y="122"/>
                    </a:lnTo>
                    <a:lnTo>
                      <a:pt x="208" y="161"/>
                    </a:lnTo>
                    <a:lnTo>
                      <a:pt x="158" y="197"/>
                    </a:lnTo>
                    <a:lnTo>
                      <a:pt x="106" y="233"/>
                    </a:lnTo>
                    <a:lnTo>
                      <a:pt x="54" y="268"/>
                    </a:lnTo>
                    <a:lnTo>
                      <a:pt x="0" y="301"/>
                    </a:lnTo>
                    <a:lnTo>
                      <a:pt x="20" y="312"/>
                    </a:lnTo>
                    <a:lnTo>
                      <a:pt x="26" y="312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56320" y="4457880"/>
                <a:ext cx="109440" cy="85680"/>
              </a:xfrm>
              <a:custGeom>
                <a:avLst/>
                <a:gdLst/>
                <a:ahLst/>
                <a:rect l="l" t="t" r="r" b="b"/>
                <a:pathLst>
                  <a:path w="415" h="322">
                    <a:moveTo>
                      <a:pt x="23" y="322"/>
                    </a:moveTo>
                    <a:lnTo>
                      <a:pt x="75" y="290"/>
                    </a:lnTo>
                    <a:lnTo>
                      <a:pt x="127" y="256"/>
                    </a:lnTo>
                    <a:lnTo>
                      <a:pt x="177" y="222"/>
                    </a:lnTo>
                    <a:lnTo>
                      <a:pt x="226" y="186"/>
                    </a:lnTo>
                    <a:lnTo>
                      <a:pt x="275" y="148"/>
                    </a:lnTo>
                    <a:lnTo>
                      <a:pt x="322" y="110"/>
                    </a:lnTo>
                    <a:lnTo>
                      <a:pt x="369" y="71"/>
                    </a:lnTo>
                    <a:lnTo>
                      <a:pt x="415" y="31"/>
                    </a:lnTo>
                    <a:lnTo>
                      <a:pt x="415" y="0"/>
                    </a:lnTo>
                    <a:lnTo>
                      <a:pt x="367" y="43"/>
                    </a:lnTo>
                    <a:lnTo>
                      <a:pt x="317" y="86"/>
                    </a:lnTo>
                    <a:lnTo>
                      <a:pt x="267" y="126"/>
                    </a:lnTo>
                    <a:lnTo>
                      <a:pt x="216" y="165"/>
                    </a:lnTo>
                    <a:lnTo>
                      <a:pt x="163" y="203"/>
                    </a:lnTo>
                    <a:lnTo>
                      <a:pt x="110" y="240"/>
                    </a:lnTo>
                    <a:lnTo>
                      <a:pt x="56" y="276"/>
                    </a:lnTo>
                    <a:lnTo>
                      <a:pt x="0" y="310"/>
                    </a:lnTo>
                    <a:lnTo>
                      <a:pt x="23" y="322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53080" y="445464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426" h="331">
                    <a:moveTo>
                      <a:pt x="23" y="331"/>
                    </a:moveTo>
                    <a:lnTo>
                      <a:pt x="77" y="298"/>
                    </a:lnTo>
                    <a:lnTo>
                      <a:pt x="129" y="263"/>
                    </a:lnTo>
                    <a:lnTo>
                      <a:pt x="181" y="227"/>
                    </a:lnTo>
                    <a:lnTo>
                      <a:pt x="231" y="191"/>
                    </a:lnTo>
                    <a:lnTo>
                      <a:pt x="282" y="152"/>
                    </a:lnTo>
                    <a:lnTo>
                      <a:pt x="331" y="113"/>
                    </a:lnTo>
                    <a:lnTo>
                      <a:pt x="379" y="72"/>
                    </a:lnTo>
                    <a:lnTo>
                      <a:pt x="426" y="30"/>
                    </a:lnTo>
                    <a:lnTo>
                      <a:pt x="426" y="0"/>
                    </a:lnTo>
                    <a:lnTo>
                      <a:pt x="377" y="44"/>
                    </a:lnTo>
                    <a:lnTo>
                      <a:pt x="326" y="88"/>
                    </a:lnTo>
                    <a:lnTo>
                      <a:pt x="274" y="129"/>
                    </a:lnTo>
                    <a:lnTo>
                      <a:pt x="221" y="170"/>
                    </a:lnTo>
                    <a:lnTo>
                      <a:pt x="167" y="209"/>
                    </a:lnTo>
                    <a:lnTo>
                      <a:pt x="113" y="247"/>
                    </a:lnTo>
                    <a:lnTo>
                      <a:pt x="56" y="284"/>
                    </a:lnTo>
                    <a:lnTo>
                      <a:pt x="0" y="318"/>
                    </a:lnTo>
                    <a:lnTo>
                      <a:pt x="23" y="331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50200" y="4451400"/>
                <a:ext cx="115560" cy="88920"/>
              </a:xfrm>
              <a:custGeom>
                <a:avLst/>
                <a:gdLst/>
                <a:ahLst/>
                <a:rect l="l" t="t" r="r" b="b"/>
                <a:pathLst>
                  <a:path w="438" h="337">
                    <a:moveTo>
                      <a:pt x="23" y="337"/>
                    </a:moveTo>
                    <a:lnTo>
                      <a:pt x="79" y="303"/>
                    </a:lnTo>
                    <a:lnTo>
                      <a:pt x="133" y="267"/>
                    </a:lnTo>
                    <a:lnTo>
                      <a:pt x="186" y="230"/>
                    </a:lnTo>
                    <a:lnTo>
                      <a:pt x="239" y="192"/>
                    </a:lnTo>
                    <a:lnTo>
                      <a:pt x="290" y="153"/>
                    </a:lnTo>
                    <a:lnTo>
                      <a:pt x="340" y="113"/>
                    </a:lnTo>
                    <a:lnTo>
                      <a:pt x="390" y="70"/>
                    </a:lnTo>
                    <a:lnTo>
                      <a:pt x="438" y="27"/>
                    </a:lnTo>
                    <a:lnTo>
                      <a:pt x="438" y="8"/>
                    </a:lnTo>
                    <a:lnTo>
                      <a:pt x="434" y="0"/>
                    </a:lnTo>
                    <a:lnTo>
                      <a:pt x="383" y="46"/>
                    </a:lnTo>
                    <a:lnTo>
                      <a:pt x="332" y="90"/>
                    </a:lnTo>
                    <a:lnTo>
                      <a:pt x="279" y="132"/>
                    </a:lnTo>
                    <a:lnTo>
                      <a:pt x="225" y="174"/>
                    </a:lnTo>
                    <a:lnTo>
                      <a:pt x="171" y="213"/>
                    </a:lnTo>
                    <a:lnTo>
                      <a:pt x="114" y="252"/>
                    </a:lnTo>
                    <a:lnTo>
                      <a:pt x="58" y="289"/>
                    </a:lnTo>
                    <a:lnTo>
                      <a:pt x="0" y="325"/>
                    </a:lnTo>
                    <a:lnTo>
                      <a:pt x="23" y="337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46960" y="4448160"/>
                <a:ext cx="118800" cy="90360"/>
              </a:xfrm>
              <a:custGeom>
                <a:avLst/>
                <a:gdLst/>
                <a:ahLst/>
                <a:rect l="l" t="t" r="r" b="b"/>
                <a:pathLst>
                  <a:path w="451" h="341">
                    <a:moveTo>
                      <a:pt x="25" y="341"/>
                    </a:moveTo>
                    <a:lnTo>
                      <a:pt x="81" y="307"/>
                    </a:lnTo>
                    <a:lnTo>
                      <a:pt x="138" y="270"/>
                    </a:lnTo>
                    <a:lnTo>
                      <a:pt x="192" y="232"/>
                    </a:lnTo>
                    <a:lnTo>
                      <a:pt x="246" y="193"/>
                    </a:lnTo>
                    <a:lnTo>
                      <a:pt x="299" y="152"/>
                    </a:lnTo>
                    <a:lnTo>
                      <a:pt x="351" y="111"/>
                    </a:lnTo>
                    <a:lnTo>
                      <a:pt x="402" y="67"/>
                    </a:lnTo>
                    <a:lnTo>
                      <a:pt x="451" y="23"/>
                    </a:lnTo>
                    <a:lnTo>
                      <a:pt x="451" y="19"/>
                    </a:lnTo>
                    <a:lnTo>
                      <a:pt x="442" y="0"/>
                    </a:lnTo>
                    <a:lnTo>
                      <a:pt x="390" y="46"/>
                    </a:lnTo>
                    <a:lnTo>
                      <a:pt x="338" y="91"/>
                    </a:lnTo>
                    <a:lnTo>
                      <a:pt x="285" y="134"/>
                    </a:lnTo>
                    <a:lnTo>
                      <a:pt x="230" y="177"/>
                    </a:lnTo>
                    <a:lnTo>
                      <a:pt x="175" y="217"/>
                    </a:lnTo>
                    <a:lnTo>
                      <a:pt x="118" y="256"/>
                    </a:lnTo>
                    <a:lnTo>
                      <a:pt x="59" y="293"/>
                    </a:lnTo>
                    <a:lnTo>
                      <a:pt x="0" y="330"/>
                    </a:lnTo>
                    <a:lnTo>
                      <a:pt x="25" y="341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541920" y="4444920"/>
                <a:ext cx="122400" cy="92160"/>
              </a:xfrm>
              <a:custGeom>
                <a:avLst/>
                <a:gdLst/>
                <a:ahLst/>
                <a:rect l="l" t="t" r="r" b="b"/>
                <a:pathLst>
                  <a:path w="460" h="346">
                    <a:moveTo>
                      <a:pt x="26" y="346"/>
                    </a:moveTo>
                    <a:lnTo>
                      <a:pt x="84" y="310"/>
                    </a:lnTo>
                    <a:lnTo>
                      <a:pt x="140" y="273"/>
                    </a:lnTo>
                    <a:lnTo>
                      <a:pt x="197" y="234"/>
                    </a:lnTo>
                    <a:lnTo>
                      <a:pt x="251" y="195"/>
                    </a:lnTo>
                    <a:lnTo>
                      <a:pt x="305" y="153"/>
                    </a:lnTo>
                    <a:lnTo>
                      <a:pt x="358" y="111"/>
                    </a:lnTo>
                    <a:lnTo>
                      <a:pt x="410" y="67"/>
                    </a:lnTo>
                    <a:lnTo>
                      <a:pt x="460" y="21"/>
                    </a:lnTo>
                    <a:lnTo>
                      <a:pt x="449" y="0"/>
                    </a:lnTo>
                    <a:lnTo>
                      <a:pt x="397" y="47"/>
                    </a:lnTo>
                    <a:lnTo>
                      <a:pt x="344" y="92"/>
                    </a:lnTo>
                    <a:lnTo>
                      <a:pt x="290" y="136"/>
                    </a:lnTo>
                    <a:lnTo>
                      <a:pt x="235" y="179"/>
                    </a:lnTo>
                    <a:lnTo>
                      <a:pt x="177" y="220"/>
                    </a:lnTo>
                    <a:lnTo>
                      <a:pt x="120" y="259"/>
                    </a:lnTo>
                    <a:lnTo>
                      <a:pt x="61" y="298"/>
                    </a:lnTo>
                    <a:lnTo>
                      <a:pt x="0" y="334"/>
                    </a:lnTo>
                    <a:lnTo>
                      <a:pt x="4" y="334"/>
                    </a:lnTo>
                    <a:lnTo>
                      <a:pt x="26" y="346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37240" y="4441680"/>
                <a:ext cx="125640" cy="93960"/>
              </a:xfrm>
              <a:custGeom>
                <a:avLst/>
                <a:gdLst/>
                <a:ahLst/>
                <a:rect l="l" t="t" r="r" b="b"/>
                <a:pathLst>
                  <a:path w="477" h="352">
                    <a:moveTo>
                      <a:pt x="35" y="352"/>
                    </a:moveTo>
                    <a:lnTo>
                      <a:pt x="94" y="315"/>
                    </a:lnTo>
                    <a:lnTo>
                      <a:pt x="153" y="278"/>
                    </a:lnTo>
                    <a:lnTo>
                      <a:pt x="210" y="239"/>
                    </a:lnTo>
                    <a:lnTo>
                      <a:pt x="265" y="199"/>
                    </a:lnTo>
                    <a:lnTo>
                      <a:pt x="320" y="156"/>
                    </a:lnTo>
                    <a:lnTo>
                      <a:pt x="373" y="113"/>
                    </a:lnTo>
                    <a:lnTo>
                      <a:pt x="425" y="68"/>
                    </a:lnTo>
                    <a:lnTo>
                      <a:pt x="477" y="22"/>
                    </a:lnTo>
                    <a:lnTo>
                      <a:pt x="467" y="0"/>
                    </a:lnTo>
                    <a:lnTo>
                      <a:pt x="413" y="50"/>
                    </a:lnTo>
                    <a:lnTo>
                      <a:pt x="357" y="97"/>
                    </a:lnTo>
                    <a:lnTo>
                      <a:pt x="301" y="142"/>
                    </a:lnTo>
                    <a:lnTo>
                      <a:pt x="243" y="186"/>
                    </a:lnTo>
                    <a:lnTo>
                      <a:pt x="184" y="229"/>
                    </a:lnTo>
                    <a:lnTo>
                      <a:pt x="124" y="270"/>
                    </a:lnTo>
                    <a:lnTo>
                      <a:pt x="62" y="309"/>
                    </a:lnTo>
                    <a:lnTo>
                      <a:pt x="0" y="346"/>
                    </a:lnTo>
                    <a:lnTo>
                      <a:pt x="26" y="346"/>
                    </a:lnTo>
                    <a:lnTo>
                      <a:pt x="35" y="35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32560" y="4440240"/>
                <a:ext cx="128520" cy="93600"/>
              </a:xfrm>
              <a:custGeom>
                <a:avLst/>
                <a:gdLst/>
                <a:ahLst/>
                <a:rect l="l" t="t" r="r" b="b"/>
                <a:pathLst>
                  <a:path w="489" h="356">
                    <a:moveTo>
                      <a:pt x="40" y="356"/>
                    </a:moveTo>
                    <a:lnTo>
                      <a:pt x="101" y="320"/>
                    </a:lnTo>
                    <a:lnTo>
                      <a:pt x="160" y="281"/>
                    </a:lnTo>
                    <a:lnTo>
                      <a:pt x="217" y="242"/>
                    </a:lnTo>
                    <a:lnTo>
                      <a:pt x="275" y="201"/>
                    </a:lnTo>
                    <a:lnTo>
                      <a:pt x="330" y="158"/>
                    </a:lnTo>
                    <a:lnTo>
                      <a:pt x="384" y="114"/>
                    </a:lnTo>
                    <a:lnTo>
                      <a:pt x="437" y="69"/>
                    </a:lnTo>
                    <a:lnTo>
                      <a:pt x="489" y="22"/>
                    </a:lnTo>
                    <a:lnTo>
                      <a:pt x="480" y="0"/>
                    </a:lnTo>
                    <a:lnTo>
                      <a:pt x="425" y="51"/>
                    </a:lnTo>
                    <a:lnTo>
                      <a:pt x="368" y="98"/>
                    </a:lnTo>
                    <a:lnTo>
                      <a:pt x="309" y="145"/>
                    </a:lnTo>
                    <a:lnTo>
                      <a:pt x="251" y="190"/>
                    </a:lnTo>
                    <a:lnTo>
                      <a:pt x="190" y="234"/>
                    </a:lnTo>
                    <a:lnTo>
                      <a:pt x="128" y="275"/>
                    </a:lnTo>
                    <a:lnTo>
                      <a:pt x="65" y="315"/>
                    </a:lnTo>
                    <a:lnTo>
                      <a:pt x="0" y="353"/>
                    </a:lnTo>
                    <a:lnTo>
                      <a:pt x="7" y="356"/>
                    </a:lnTo>
                    <a:lnTo>
                      <a:pt x="40" y="35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529320" y="4437000"/>
                <a:ext cx="130320" cy="96840"/>
              </a:xfrm>
              <a:custGeom>
                <a:avLst/>
                <a:gdLst/>
                <a:ahLst/>
                <a:rect l="l" t="t" r="r" b="b"/>
                <a:pathLst>
                  <a:path w="497" h="366">
                    <a:moveTo>
                      <a:pt x="30" y="366"/>
                    </a:moveTo>
                    <a:lnTo>
                      <a:pt x="92" y="329"/>
                    </a:lnTo>
                    <a:lnTo>
                      <a:pt x="154" y="290"/>
                    </a:lnTo>
                    <a:lnTo>
                      <a:pt x="214" y="249"/>
                    </a:lnTo>
                    <a:lnTo>
                      <a:pt x="273" y="206"/>
                    </a:lnTo>
                    <a:lnTo>
                      <a:pt x="331" y="162"/>
                    </a:lnTo>
                    <a:lnTo>
                      <a:pt x="387" y="117"/>
                    </a:lnTo>
                    <a:lnTo>
                      <a:pt x="443" y="70"/>
                    </a:lnTo>
                    <a:lnTo>
                      <a:pt x="497" y="20"/>
                    </a:lnTo>
                    <a:lnTo>
                      <a:pt x="486" y="0"/>
                    </a:lnTo>
                    <a:lnTo>
                      <a:pt x="431" y="50"/>
                    </a:lnTo>
                    <a:lnTo>
                      <a:pt x="373" y="99"/>
                    </a:lnTo>
                    <a:lnTo>
                      <a:pt x="315" y="147"/>
                    </a:lnTo>
                    <a:lnTo>
                      <a:pt x="255" y="192"/>
                    </a:lnTo>
                    <a:lnTo>
                      <a:pt x="192" y="236"/>
                    </a:lnTo>
                    <a:lnTo>
                      <a:pt x="130" y="279"/>
                    </a:lnTo>
                    <a:lnTo>
                      <a:pt x="65" y="319"/>
                    </a:lnTo>
                    <a:lnTo>
                      <a:pt x="0" y="357"/>
                    </a:lnTo>
                    <a:lnTo>
                      <a:pt x="19" y="366"/>
                    </a:lnTo>
                    <a:lnTo>
                      <a:pt x="30" y="36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24640" y="4433760"/>
                <a:ext cx="135000" cy="98640"/>
              </a:xfrm>
              <a:custGeom>
                <a:avLst/>
                <a:gdLst/>
                <a:ahLst/>
                <a:rect l="l" t="t" r="r" b="b"/>
                <a:pathLst>
                  <a:path w="505" h="375">
                    <a:moveTo>
                      <a:pt x="25" y="375"/>
                    </a:moveTo>
                    <a:lnTo>
                      <a:pt x="90" y="337"/>
                    </a:lnTo>
                    <a:lnTo>
                      <a:pt x="153" y="297"/>
                    </a:lnTo>
                    <a:lnTo>
                      <a:pt x="215" y="256"/>
                    </a:lnTo>
                    <a:lnTo>
                      <a:pt x="276" y="212"/>
                    </a:lnTo>
                    <a:lnTo>
                      <a:pt x="334" y="167"/>
                    </a:lnTo>
                    <a:lnTo>
                      <a:pt x="393" y="120"/>
                    </a:lnTo>
                    <a:lnTo>
                      <a:pt x="450" y="73"/>
                    </a:lnTo>
                    <a:lnTo>
                      <a:pt x="505" y="22"/>
                    </a:lnTo>
                    <a:lnTo>
                      <a:pt x="495" y="0"/>
                    </a:lnTo>
                    <a:lnTo>
                      <a:pt x="437" y="52"/>
                    </a:lnTo>
                    <a:lnTo>
                      <a:pt x="379" y="102"/>
                    </a:lnTo>
                    <a:lnTo>
                      <a:pt x="319" y="150"/>
                    </a:lnTo>
                    <a:lnTo>
                      <a:pt x="258" y="196"/>
                    </a:lnTo>
                    <a:lnTo>
                      <a:pt x="196" y="241"/>
                    </a:lnTo>
                    <a:lnTo>
                      <a:pt x="133" y="284"/>
                    </a:lnTo>
                    <a:lnTo>
                      <a:pt x="67" y="324"/>
                    </a:lnTo>
                    <a:lnTo>
                      <a:pt x="0" y="363"/>
                    </a:lnTo>
                    <a:lnTo>
                      <a:pt x="25" y="375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23200" y="4430880"/>
                <a:ext cx="134640" cy="99720"/>
              </a:xfrm>
              <a:custGeom>
                <a:avLst/>
                <a:gdLst/>
                <a:ahLst/>
                <a:rect l="l" t="t" r="r" b="b"/>
                <a:pathLst>
                  <a:path w="511" h="382">
                    <a:moveTo>
                      <a:pt x="25" y="382"/>
                    </a:moveTo>
                    <a:lnTo>
                      <a:pt x="90" y="344"/>
                    </a:lnTo>
                    <a:lnTo>
                      <a:pt x="155" y="304"/>
                    </a:lnTo>
                    <a:lnTo>
                      <a:pt x="217" y="261"/>
                    </a:lnTo>
                    <a:lnTo>
                      <a:pt x="280" y="217"/>
                    </a:lnTo>
                    <a:lnTo>
                      <a:pt x="340" y="172"/>
                    </a:lnTo>
                    <a:lnTo>
                      <a:pt x="398" y="124"/>
                    </a:lnTo>
                    <a:lnTo>
                      <a:pt x="456" y="75"/>
                    </a:lnTo>
                    <a:lnTo>
                      <a:pt x="511" y="25"/>
                    </a:lnTo>
                    <a:lnTo>
                      <a:pt x="504" y="8"/>
                    </a:lnTo>
                    <a:lnTo>
                      <a:pt x="504" y="0"/>
                    </a:lnTo>
                    <a:lnTo>
                      <a:pt x="447" y="53"/>
                    </a:lnTo>
                    <a:lnTo>
                      <a:pt x="387" y="104"/>
                    </a:lnTo>
                    <a:lnTo>
                      <a:pt x="326" y="153"/>
                    </a:lnTo>
                    <a:lnTo>
                      <a:pt x="263" y="201"/>
                    </a:lnTo>
                    <a:lnTo>
                      <a:pt x="232" y="223"/>
                    </a:lnTo>
                    <a:lnTo>
                      <a:pt x="200" y="246"/>
                    </a:lnTo>
                    <a:lnTo>
                      <a:pt x="168" y="268"/>
                    </a:lnTo>
                    <a:lnTo>
                      <a:pt x="134" y="290"/>
                    </a:lnTo>
                    <a:lnTo>
                      <a:pt x="102" y="310"/>
                    </a:lnTo>
                    <a:lnTo>
                      <a:pt x="67" y="331"/>
                    </a:lnTo>
                    <a:lnTo>
                      <a:pt x="34" y="351"/>
                    </a:lnTo>
                    <a:lnTo>
                      <a:pt x="0" y="370"/>
                    </a:lnTo>
                    <a:lnTo>
                      <a:pt x="25" y="38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18160" y="4425840"/>
                <a:ext cx="138240" cy="104760"/>
              </a:xfrm>
              <a:custGeom>
                <a:avLst/>
                <a:gdLst/>
                <a:ahLst/>
                <a:rect l="l" t="t" r="r" b="b"/>
                <a:pathLst>
                  <a:path w="519" h="392">
                    <a:moveTo>
                      <a:pt x="24" y="392"/>
                    </a:moveTo>
                    <a:lnTo>
                      <a:pt x="91" y="353"/>
                    </a:lnTo>
                    <a:lnTo>
                      <a:pt x="157" y="313"/>
                    </a:lnTo>
                    <a:lnTo>
                      <a:pt x="220" y="270"/>
                    </a:lnTo>
                    <a:lnTo>
                      <a:pt x="282" y="225"/>
                    </a:lnTo>
                    <a:lnTo>
                      <a:pt x="343" y="179"/>
                    </a:lnTo>
                    <a:lnTo>
                      <a:pt x="403" y="131"/>
                    </a:lnTo>
                    <a:lnTo>
                      <a:pt x="461" y="81"/>
                    </a:lnTo>
                    <a:lnTo>
                      <a:pt x="519" y="29"/>
                    </a:lnTo>
                    <a:lnTo>
                      <a:pt x="516" y="24"/>
                    </a:lnTo>
                    <a:lnTo>
                      <a:pt x="516" y="0"/>
                    </a:lnTo>
                    <a:lnTo>
                      <a:pt x="486" y="28"/>
                    </a:lnTo>
                    <a:lnTo>
                      <a:pt x="458" y="56"/>
                    </a:lnTo>
                    <a:lnTo>
                      <a:pt x="427" y="81"/>
                    </a:lnTo>
                    <a:lnTo>
                      <a:pt x="397" y="107"/>
                    </a:lnTo>
                    <a:lnTo>
                      <a:pt x="365" y="133"/>
                    </a:lnTo>
                    <a:lnTo>
                      <a:pt x="334" y="158"/>
                    </a:lnTo>
                    <a:lnTo>
                      <a:pt x="302" y="182"/>
                    </a:lnTo>
                    <a:lnTo>
                      <a:pt x="270" y="207"/>
                    </a:lnTo>
                    <a:lnTo>
                      <a:pt x="237" y="230"/>
                    </a:lnTo>
                    <a:lnTo>
                      <a:pt x="205" y="253"/>
                    </a:lnTo>
                    <a:lnTo>
                      <a:pt x="172" y="276"/>
                    </a:lnTo>
                    <a:lnTo>
                      <a:pt x="138" y="298"/>
                    </a:lnTo>
                    <a:lnTo>
                      <a:pt x="104" y="320"/>
                    </a:lnTo>
                    <a:lnTo>
                      <a:pt x="69" y="340"/>
                    </a:lnTo>
                    <a:lnTo>
                      <a:pt x="34" y="360"/>
                    </a:lnTo>
                    <a:lnTo>
                      <a:pt x="0" y="381"/>
                    </a:lnTo>
                    <a:lnTo>
                      <a:pt x="24" y="39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15280" y="4422600"/>
                <a:ext cx="141120" cy="106560"/>
              </a:xfrm>
              <a:custGeom>
                <a:avLst/>
                <a:gdLst/>
                <a:ahLst/>
                <a:rect l="l" t="t" r="r" b="b"/>
                <a:pathLst>
                  <a:path w="529" h="401">
                    <a:moveTo>
                      <a:pt x="25" y="401"/>
                    </a:moveTo>
                    <a:lnTo>
                      <a:pt x="59" y="382"/>
                    </a:lnTo>
                    <a:lnTo>
                      <a:pt x="92" y="362"/>
                    </a:lnTo>
                    <a:lnTo>
                      <a:pt x="127" y="341"/>
                    </a:lnTo>
                    <a:lnTo>
                      <a:pt x="159" y="321"/>
                    </a:lnTo>
                    <a:lnTo>
                      <a:pt x="193" y="299"/>
                    </a:lnTo>
                    <a:lnTo>
                      <a:pt x="225" y="277"/>
                    </a:lnTo>
                    <a:lnTo>
                      <a:pt x="257" y="254"/>
                    </a:lnTo>
                    <a:lnTo>
                      <a:pt x="288" y="232"/>
                    </a:lnTo>
                    <a:lnTo>
                      <a:pt x="351" y="184"/>
                    </a:lnTo>
                    <a:lnTo>
                      <a:pt x="412" y="135"/>
                    </a:lnTo>
                    <a:lnTo>
                      <a:pt x="472" y="84"/>
                    </a:lnTo>
                    <a:lnTo>
                      <a:pt x="529" y="31"/>
                    </a:lnTo>
                    <a:lnTo>
                      <a:pt x="529" y="0"/>
                    </a:lnTo>
                    <a:lnTo>
                      <a:pt x="499" y="28"/>
                    </a:lnTo>
                    <a:lnTo>
                      <a:pt x="468" y="56"/>
                    </a:lnTo>
                    <a:lnTo>
                      <a:pt x="438" y="83"/>
                    </a:lnTo>
                    <a:lnTo>
                      <a:pt x="407" y="110"/>
                    </a:lnTo>
                    <a:lnTo>
                      <a:pt x="375" y="136"/>
                    </a:lnTo>
                    <a:lnTo>
                      <a:pt x="343" y="162"/>
                    </a:lnTo>
                    <a:lnTo>
                      <a:pt x="310" y="187"/>
                    </a:lnTo>
                    <a:lnTo>
                      <a:pt x="278" y="211"/>
                    </a:lnTo>
                    <a:lnTo>
                      <a:pt x="245" y="235"/>
                    </a:lnTo>
                    <a:lnTo>
                      <a:pt x="210" y="260"/>
                    </a:lnTo>
                    <a:lnTo>
                      <a:pt x="177" y="283"/>
                    </a:lnTo>
                    <a:lnTo>
                      <a:pt x="142" y="305"/>
                    </a:lnTo>
                    <a:lnTo>
                      <a:pt x="106" y="326"/>
                    </a:lnTo>
                    <a:lnTo>
                      <a:pt x="72" y="348"/>
                    </a:lnTo>
                    <a:lnTo>
                      <a:pt x="36" y="369"/>
                    </a:lnTo>
                    <a:lnTo>
                      <a:pt x="0" y="389"/>
                    </a:lnTo>
                    <a:lnTo>
                      <a:pt x="25" y="40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12040" y="4417920"/>
                <a:ext cx="144360" cy="109800"/>
              </a:xfrm>
              <a:custGeom>
                <a:avLst/>
                <a:gdLst/>
                <a:ahLst/>
                <a:rect l="l" t="t" r="r" b="b"/>
                <a:pathLst>
                  <a:path w="540" h="412">
                    <a:moveTo>
                      <a:pt x="24" y="412"/>
                    </a:moveTo>
                    <a:lnTo>
                      <a:pt x="58" y="391"/>
                    </a:lnTo>
                    <a:lnTo>
                      <a:pt x="93" y="371"/>
                    </a:lnTo>
                    <a:lnTo>
                      <a:pt x="128" y="351"/>
                    </a:lnTo>
                    <a:lnTo>
                      <a:pt x="162" y="329"/>
                    </a:lnTo>
                    <a:lnTo>
                      <a:pt x="196" y="307"/>
                    </a:lnTo>
                    <a:lnTo>
                      <a:pt x="229" y="284"/>
                    </a:lnTo>
                    <a:lnTo>
                      <a:pt x="261" y="261"/>
                    </a:lnTo>
                    <a:lnTo>
                      <a:pt x="294" y="238"/>
                    </a:lnTo>
                    <a:lnTo>
                      <a:pt x="326" y="213"/>
                    </a:lnTo>
                    <a:lnTo>
                      <a:pt x="358" y="189"/>
                    </a:lnTo>
                    <a:lnTo>
                      <a:pt x="389" y="164"/>
                    </a:lnTo>
                    <a:lnTo>
                      <a:pt x="421" y="138"/>
                    </a:lnTo>
                    <a:lnTo>
                      <a:pt x="451" y="112"/>
                    </a:lnTo>
                    <a:lnTo>
                      <a:pt x="482" y="87"/>
                    </a:lnTo>
                    <a:lnTo>
                      <a:pt x="510" y="59"/>
                    </a:lnTo>
                    <a:lnTo>
                      <a:pt x="540" y="31"/>
                    </a:lnTo>
                    <a:lnTo>
                      <a:pt x="540" y="0"/>
                    </a:lnTo>
                    <a:lnTo>
                      <a:pt x="509" y="29"/>
                    </a:lnTo>
                    <a:lnTo>
                      <a:pt x="478" y="58"/>
                    </a:lnTo>
                    <a:lnTo>
                      <a:pt x="447" y="85"/>
                    </a:lnTo>
                    <a:lnTo>
                      <a:pt x="416" y="113"/>
                    </a:lnTo>
                    <a:lnTo>
                      <a:pt x="384" y="140"/>
                    </a:lnTo>
                    <a:lnTo>
                      <a:pt x="350" y="166"/>
                    </a:lnTo>
                    <a:lnTo>
                      <a:pt x="317" y="191"/>
                    </a:lnTo>
                    <a:lnTo>
                      <a:pt x="283" y="217"/>
                    </a:lnTo>
                    <a:lnTo>
                      <a:pt x="250" y="242"/>
                    </a:lnTo>
                    <a:lnTo>
                      <a:pt x="215" y="266"/>
                    </a:lnTo>
                    <a:lnTo>
                      <a:pt x="181" y="289"/>
                    </a:lnTo>
                    <a:lnTo>
                      <a:pt x="145" y="313"/>
                    </a:lnTo>
                    <a:lnTo>
                      <a:pt x="109" y="334"/>
                    </a:lnTo>
                    <a:lnTo>
                      <a:pt x="73" y="356"/>
                    </a:lnTo>
                    <a:lnTo>
                      <a:pt x="36" y="378"/>
                    </a:lnTo>
                    <a:lnTo>
                      <a:pt x="0" y="399"/>
                    </a:lnTo>
                    <a:lnTo>
                      <a:pt x="3" y="401"/>
                    </a:lnTo>
                    <a:lnTo>
                      <a:pt x="24" y="412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510240" y="4413240"/>
                <a:ext cx="146160" cy="111240"/>
              </a:xfrm>
              <a:custGeom>
                <a:avLst/>
                <a:gdLst/>
                <a:ahLst/>
                <a:rect l="l" t="t" r="r" b="b"/>
                <a:pathLst>
                  <a:path w="550" h="421">
                    <a:moveTo>
                      <a:pt x="21" y="421"/>
                    </a:moveTo>
                    <a:lnTo>
                      <a:pt x="57" y="401"/>
                    </a:lnTo>
                    <a:lnTo>
                      <a:pt x="93" y="380"/>
                    </a:lnTo>
                    <a:lnTo>
                      <a:pt x="127" y="358"/>
                    </a:lnTo>
                    <a:lnTo>
                      <a:pt x="163" y="337"/>
                    </a:lnTo>
                    <a:lnTo>
                      <a:pt x="198" y="315"/>
                    </a:lnTo>
                    <a:lnTo>
                      <a:pt x="231" y="292"/>
                    </a:lnTo>
                    <a:lnTo>
                      <a:pt x="266" y="267"/>
                    </a:lnTo>
                    <a:lnTo>
                      <a:pt x="299" y="243"/>
                    </a:lnTo>
                    <a:lnTo>
                      <a:pt x="331" y="219"/>
                    </a:lnTo>
                    <a:lnTo>
                      <a:pt x="364" y="194"/>
                    </a:lnTo>
                    <a:lnTo>
                      <a:pt x="396" y="168"/>
                    </a:lnTo>
                    <a:lnTo>
                      <a:pt x="428" y="142"/>
                    </a:lnTo>
                    <a:lnTo>
                      <a:pt x="459" y="115"/>
                    </a:lnTo>
                    <a:lnTo>
                      <a:pt x="489" y="88"/>
                    </a:lnTo>
                    <a:lnTo>
                      <a:pt x="520" y="60"/>
                    </a:lnTo>
                    <a:lnTo>
                      <a:pt x="550" y="32"/>
                    </a:lnTo>
                    <a:lnTo>
                      <a:pt x="550" y="0"/>
                    </a:lnTo>
                    <a:lnTo>
                      <a:pt x="519" y="30"/>
                    </a:lnTo>
                    <a:lnTo>
                      <a:pt x="488" y="59"/>
                    </a:lnTo>
                    <a:lnTo>
                      <a:pt x="456" y="88"/>
                    </a:lnTo>
                    <a:lnTo>
                      <a:pt x="424" y="115"/>
                    </a:lnTo>
                    <a:lnTo>
                      <a:pt x="391" y="143"/>
                    </a:lnTo>
                    <a:lnTo>
                      <a:pt x="358" y="169"/>
                    </a:lnTo>
                    <a:lnTo>
                      <a:pt x="324" y="196"/>
                    </a:lnTo>
                    <a:lnTo>
                      <a:pt x="290" y="221"/>
                    </a:lnTo>
                    <a:lnTo>
                      <a:pt x="255" y="247"/>
                    </a:lnTo>
                    <a:lnTo>
                      <a:pt x="219" y="272"/>
                    </a:lnTo>
                    <a:lnTo>
                      <a:pt x="185" y="295"/>
                    </a:lnTo>
                    <a:lnTo>
                      <a:pt x="149" y="319"/>
                    </a:lnTo>
                    <a:lnTo>
                      <a:pt x="112" y="342"/>
                    </a:lnTo>
                    <a:lnTo>
                      <a:pt x="75" y="364"/>
                    </a:lnTo>
                    <a:lnTo>
                      <a:pt x="38" y="386"/>
                    </a:lnTo>
                    <a:lnTo>
                      <a:pt x="0" y="407"/>
                    </a:lnTo>
                    <a:lnTo>
                      <a:pt x="13" y="417"/>
                    </a:lnTo>
                    <a:lnTo>
                      <a:pt x="21" y="42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508800" y="4410000"/>
                <a:ext cx="147600" cy="112680"/>
              </a:xfrm>
              <a:custGeom>
                <a:avLst/>
                <a:gdLst/>
                <a:ahLst/>
                <a:rect l="l" t="t" r="r" b="b"/>
                <a:pathLst>
                  <a:path w="558" h="430">
                    <a:moveTo>
                      <a:pt x="18" y="430"/>
                    </a:moveTo>
                    <a:lnTo>
                      <a:pt x="54" y="409"/>
                    </a:lnTo>
                    <a:lnTo>
                      <a:pt x="91" y="387"/>
                    </a:lnTo>
                    <a:lnTo>
                      <a:pt x="127" y="365"/>
                    </a:lnTo>
                    <a:lnTo>
                      <a:pt x="163" y="344"/>
                    </a:lnTo>
                    <a:lnTo>
                      <a:pt x="199" y="320"/>
                    </a:lnTo>
                    <a:lnTo>
                      <a:pt x="233" y="297"/>
                    </a:lnTo>
                    <a:lnTo>
                      <a:pt x="268" y="273"/>
                    </a:lnTo>
                    <a:lnTo>
                      <a:pt x="301" y="248"/>
                    </a:lnTo>
                    <a:lnTo>
                      <a:pt x="335" y="222"/>
                    </a:lnTo>
                    <a:lnTo>
                      <a:pt x="368" y="197"/>
                    </a:lnTo>
                    <a:lnTo>
                      <a:pt x="402" y="171"/>
                    </a:lnTo>
                    <a:lnTo>
                      <a:pt x="434" y="144"/>
                    </a:lnTo>
                    <a:lnTo>
                      <a:pt x="465" y="116"/>
                    </a:lnTo>
                    <a:lnTo>
                      <a:pt x="496" y="89"/>
                    </a:lnTo>
                    <a:lnTo>
                      <a:pt x="527" y="60"/>
                    </a:lnTo>
                    <a:lnTo>
                      <a:pt x="558" y="31"/>
                    </a:lnTo>
                    <a:lnTo>
                      <a:pt x="558" y="0"/>
                    </a:lnTo>
                    <a:lnTo>
                      <a:pt x="527" y="30"/>
                    </a:lnTo>
                    <a:lnTo>
                      <a:pt x="495" y="59"/>
                    </a:lnTo>
                    <a:lnTo>
                      <a:pt x="463" y="89"/>
                    </a:lnTo>
                    <a:lnTo>
                      <a:pt x="430" y="118"/>
                    </a:lnTo>
                    <a:lnTo>
                      <a:pt x="397" y="145"/>
                    </a:lnTo>
                    <a:lnTo>
                      <a:pt x="362" y="173"/>
                    </a:lnTo>
                    <a:lnTo>
                      <a:pt x="329" y="199"/>
                    </a:lnTo>
                    <a:lnTo>
                      <a:pt x="294" y="226"/>
                    </a:lnTo>
                    <a:lnTo>
                      <a:pt x="259" y="251"/>
                    </a:lnTo>
                    <a:lnTo>
                      <a:pt x="223" y="277"/>
                    </a:lnTo>
                    <a:lnTo>
                      <a:pt x="187" y="301"/>
                    </a:lnTo>
                    <a:lnTo>
                      <a:pt x="150" y="325"/>
                    </a:lnTo>
                    <a:lnTo>
                      <a:pt x="113" y="348"/>
                    </a:lnTo>
                    <a:lnTo>
                      <a:pt x="76" y="370"/>
                    </a:lnTo>
                    <a:lnTo>
                      <a:pt x="38" y="392"/>
                    </a:lnTo>
                    <a:lnTo>
                      <a:pt x="0" y="414"/>
                    </a:lnTo>
                    <a:lnTo>
                      <a:pt x="18" y="430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05560" y="4405320"/>
                <a:ext cx="150840" cy="115920"/>
              </a:xfrm>
              <a:custGeom>
                <a:avLst/>
                <a:gdLst/>
                <a:ahLst/>
                <a:rect l="l" t="t" r="r" b="b"/>
                <a:pathLst>
                  <a:path w="567" h="438">
                    <a:moveTo>
                      <a:pt x="17" y="438"/>
                    </a:moveTo>
                    <a:lnTo>
                      <a:pt x="55" y="417"/>
                    </a:lnTo>
                    <a:lnTo>
                      <a:pt x="92" y="395"/>
                    </a:lnTo>
                    <a:lnTo>
                      <a:pt x="129" y="373"/>
                    </a:lnTo>
                    <a:lnTo>
                      <a:pt x="166" y="350"/>
                    </a:lnTo>
                    <a:lnTo>
                      <a:pt x="202" y="326"/>
                    </a:lnTo>
                    <a:lnTo>
                      <a:pt x="236" y="303"/>
                    </a:lnTo>
                    <a:lnTo>
                      <a:pt x="272" y="278"/>
                    </a:lnTo>
                    <a:lnTo>
                      <a:pt x="307" y="252"/>
                    </a:lnTo>
                    <a:lnTo>
                      <a:pt x="341" y="227"/>
                    </a:lnTo>
                    <a:lnTo>
                      <a:pt x="375" y="200"/>
                    </a:lnTo>
                    <a:lnTo>
                      <a:pt x="408" y="174"/>
                    </a:lnTo>
                    <a:lnTo>
                      <a:pt x="441" y="146"/>
                    </a:lnTo>
                    <a:lnTo>
                      <a:pt x="473" y="119"/>
                    </a:lnTo>
                    <a:lnTo>
                      <a:pt x="505" y="90"/>
                    </a:lnTo>
                    <a:lnTo>
                      <a:pt x="536" y="61"/>
                    </a:lnTo>
                    <a:lnTo>
                      <a:pt x="567" y="31"/>
                    </a:lnTo>
                    <a:lnTo>
                      <a:pt x="567" y="0"/>
                    </a:lnTo>
                    <a:lnTo>
                      <a:pt x="535" y="30"/>
                    </a:lnTo>
                    <a:lnTo>
                      <a:pt x="503" y="61"/>
                    </a:lnTo>
                    <a:lnTo>
                      <a:pt x="471" y="91"/>
                    </a:lnTo>
                    <a:lnTo>
                      <a:pt x="437" y="120"/>
                    </a:lnTo>
                    <a:lnTo>
                      <a:pt x="404" y="149"/>
                    </a:lnTo>
                    <a:lnTo>
                      <a:pt x="369" y="176"/>
                    </a:lnTo>
                    <a:lnTo>
                      <a:pt x="334" y="204"/>
                    </a:lnTo>
                    <a:lnTo>
                      <a:pt x="299" y="230"/>
                    </a:lnTo>
                    <a:lnTo>
                      <a:pt x="263" y="257"/>
                    </a:lnTo>
                    <a:lnTo>
                      <a:pt x="227" y="282"/>
                    </a:lnTo>
                    <a:lnTo>
                      <a:pt x="190" y="307"/>
                    </a:lnTo>
                    <a:lnTo>
                      <a:pt x="153" y="331"/>
                    </a:lnTo>
                    <a:lnTo>
                      <a:pt x="115" y="355"/>
                    </a:lnTo>
                    <a:lnTo>
                      <a:pt x="77" y="378"/>
                    </a:lnTo>
                    <a:lnTo>
                      <a:pt x="39" y="400"/>
                    </a:lnTo>
                    <a:lnTo>
                      <a:pt x="0" y="422"/>
                    </a:lnTo>
                    <a:lnTo>
                      <a:pt x="17" y="438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02320" y="4402080"/>
                <a:ext cx="154080" cy="117360"/>
              </a:xfrm>
              <a:custGeom>
                <a:avLst/>
                <a:gdLst/>
                <a:ahLst/>
                <a:rect l="l" t="t" r="r" b="b"/>
                <a:pathLst>
                  <a:path w="576" h="445">
                    <a:moveTo>
                      <a:pt x="18" y="445"/>
                    </a:moveTo>
                    <a:lnTo>
                      <a:pt x="56" y="423"/>
                    </a:lnTo>
                    <a:lnTo>
                      <a:pt x="94" y="401"/>
                    </a:lnTo>
                    <a:lnTo>
                      <a:pt x="131" y="379"/>
                    </a:lnTo>
                    <a:lnTo>
                      <a:pt x="168" y="355"/>
                    </a:lnTo>
                    <a:lnTo>
                      <a:pt x="205" y="332"/>
                    </a:lnTo>
                    <a:lnTo>
                      <a:pt x="241" y="308"/>
                    </a:lnTo>
                    <a:lnTo>
                      <a:pt x="277" y="282"/>
                    </a:lnTo>
                    <a:lnTo>
                      <a:pt x="312" y="257"/>
                    </a:lnTo>
                    <a:lnTo>
                      <a:pt x="347" y="230"/>
                    </a:lnTo>
                    <a:lnTo>
                      <a:pt x="380" y="204"/>
                    </a:lnTo>
                    <a:lnTo>
                      <a:pt x="415" y="176"/>
                    </a:lnTo>
                    <a:lnTo>
                      <a:pt x="448" y="147"/>
                    </a:lnTo>
                    <a:lnTo>
                      <a:pt x="481" y="120"/>
                    </a:lnTo>
                    <a:lnTo>
                      <a:pt x="513" y="90"/>
                    </a:lnTo>
                    <a:lnTo>
                      <a:pt x="545" y="61"/>
                    </a:lnTo>
                    <a:lnTo>
                      <a:pt x="576" y="30"/>
                    </a:lnTo>
                    <a:lnTo>
                      <a:pt x="576" y="4"/>
                    </a:lnTo>
                    <a:lnTo>
                      <a:pt x="575" y="0"/>
                    </a:lnTo>
                    <a:lnTo>
                      <a:pt x="543" y="31"/>
                    </a:lnTo>
                    <a:lnTo>
                      <a:pt x="511" y="62"/>
                    </a:lnTo>
                    <a:lnTo>
                      <a:pt x="477" y="92"/>
                    </a:lnTo>
                    <a:lnTo>
                      <a:pt x="444" y="122"/>
                    </a:lnTo>
                    <a:lnTo>
                      <a:pt x="409" y="151"/>
                    </a:lnTo>
                    <a:lnTo>
                      <a:pt x="375" y="180"/>
                    </a:lnTo>
                    <a:lnTo>
                      <a:pt x="339" y="207"/>
                    </a:lnTo>
                    <a:lnTo>
                      <a:pt x="303" y="235"/>
                    </a:lnTo>
                    <a:lnTo>
                      <a:pt x="267" y="262"/>
                    </a:lnTo>
                    <a:lnTo>
                      <a:pt x="230" y="287"/>
                    </a:lnTo>
                    <a:lnTo>
                      <a:pt x="194" y="312"/>
                    </a:lnTo>
                    <a:lnTo>
                      <a:pt x="155" y="336"/>
                    </a:lnTo>
                    <a:lnTo>
                      <a:pt x="117" y="361"/>
                    </a:lnTo>
                    <a:lnTo>
                      <a:pt x="78" y="384"/>
                    </a:lnTo>
                    <a:lnTo>
                      <a:pt x="39" y="407"/>
                    </a:lnTo>
                    <a:lnTo>
                      <a:pt x="0" y="429"/>
                    </a:lnTo>
                    <a:lnTo>
                      <a:pt x="18" y="445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00880" y="439884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588" h="449">
                    <a:moveTo>
                      <a:pt x="21" y="449"/>
                    </a:moveTo>
                    <a:lnTo>
                      <a:pt x="60" y="427"/>
                    </a:lnTo>
                    <a:lnTo>
                      <a:pt x="98" y="405"/>
                    </a:lnTo>
                    <a:lnTo>
                      <a:pt x="136" y="382"/>
                    </a:lnTo>
                    <a:lnTo>
                      <a:pt x="174" y="358"/>
                    </a:lnTo>
                    <a:lnTo>
                      <a:pt x="211" y="334"/>
                    </a:lnTo>
                    <a:lnTo>
                      <a:pt x="248" y="309"/>
                    </a:lnTo>
                    <a:lnTo>
                      <a:pt x="284" y="284"/>
                    </a:lnTo>
                    <a:lnTo>
                      <a:pt x="320" y="257"/>
                    </a:lnTo>
                    <a:lnTo>
                      <a:pt x="355" y="231"/>
                    </a:lnTo>
                    <a:lnTo>
                      <a:pt x="390" y="203"/>
                    </a:lnTo>
                    <a:lnTo>
                      <a:pt x="425" y="176"/>
                    </a:lnTo>
                    <a:lnTo>
                      <a:pt x="458" y="147"/>
                    </a:lnTo>
                    <a:lnTo>
                      <a:pt x="492" y="118"/>
                    </a:lnTo>
                    <a:lnTo>
                      <a:pt x="524" y="88"/>
                    </a:lnTo>
                    <a:lnTo>
                      <a:pt x="556" y="57"/>
                    </a:lnTo>
                    <a:lnTo>
                      <a:pt x="588" y="27"/>
                    </a:lnTo>
                    <a:lnTo>
                      <a:pt x="588" y="16"/>
                    </a:lnTo>
                    <a:lnTo>
                      <a:pt x="583" y="0"/>
                    </a:lnTo>
                    <a:lnTo>
                      <a:pt x="550" y="31"/>
                    </a:lnTo>
                    <a:lnTo>
                      <a:pt x="517" y="64"/>
                    </a:lnTo>
                    <a:lnTo>
                      <a:pt x="484" y="94"/>
                    </a:lnTo>
                    <a:lnTo>
                      <a:pt x="450" y="124"/>
                    </a:lnTo>
                    <a:lnTo>
                      <a:pt x="415" y="154"/>
                    </a:lnTo>
                    <a:lnTo>
                      <a:pt x="380" y="182"/>
                    </a:lnTo>
                    <a:lnTo>
                      <a:pt x="344" y="210"/>
                    </a:lnTo>
                    <a:lnTo>
                      <a:pt x="308" y="238"/>
                    </a:lnTo>
                    <a:lnTo>
                      <a:pt x="271" y="264"/>
                    </a:lnTo>
                    <a:lnTo>
                      <a:pt x="234" y="291"/>
                    </a:lnTo>
                    <a:lnTo>
                      <a:pt x="196" y="316"/>
                    </a:lnTo>
                    <a:lnTo>
                      <a:pt x="158" y="342"/>
                    </a:lnTo>
                    <a:lnTo>
                      <a:pt x="119" y="366"/>
                    </a:lnTo>
                    <a:lnTo>
                      <a:pt x="80" y="389"/>
                    </a:lnTo>
                    <a:lnTo>
                      <a:pt x="41" y="412"/>
                    </a:lnTo>
                    <a:lnTo>
                      <a:pt x="0" y="434"/>
                    </a:lnTo>
                    <a:lnTo>
                      <a:pt x="11" y="438"/>
                    </a:lnTo>
                    <a:lnTo>
                      <a:pt x="21" y="449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7640" y="4395960"/>
                <a:ext cx="157320" cy="118800"/>
              </a:xfrm>
              <a:custGeom>
                <a:avLst/>
                <a:gdLst/>
                <a:ahLst/>
                <a:rect l="l" t="t" r="r" b="b"/>
                <a:pathLst>
                  <a:path w="598" h="453">
                    <a:moveTo>
                      <a:pt x="23" y="453"/>
                    </a:moveTo>
                    <a:lnTo>
                      <a:pt x="62" y="431"/>
                    </a:lnTo>
                    <a:lnTo>
                      <a:pt x="101" y="408"/>
                    </a:lnTo>
                    <a:lnTo>
                      <a:pt x="140" y="385"/>
                    </a:lnTo>
                    <a:lnTo>
                      <a:pt x="178" y="360"/>
                    </a:lnTo>
                    <a:lnTo>
                      <a:pt x="217" y="336"/>
                    </a:lnTo>
                    <a:lnTo>
                      <a:pt x="253" y="311"/>
                    </a:lnTo>
                    <a:lnTo>
                      <a:pt x="290" y="286"/>
                    </a:lnTo>
                    <a:lnTo>
                      <a:pt x="326" y="259"/>
                    </a:lnTo>
                    <a:lnTo>
                      <a:pt x="362" y="231"/>
                    </a:lnTo>
                    <a:lnTo>
                      <a:pt x="398" y="204"/>
                    </a:lnTo>
                    <a:lnTo>
                      <a:pt x="432" y="175"/>
                    </a:lnTo>
                    <a:lnTo>
                      <a:pt x="467" y="146"/>
                    </a:lnTo>
                    <a:lnTo>
                      <a:pt x="500" y="116"/>
                    </a:lnTo>
                    <a:lnTo>
                      <a:pt x="534" y="86"/>
                    </a:lnTo>
                    <a:lnTo>
                      <a:pt x="566" y="55"/>
                    </a:lnTo>
                    <a:lnTo>
                      <a:pt x="598" y="24"/>
                    </a:lnTo>
                    <a:lnTo>
                      <a:pt x="589" y="0"/>
                    </a:lnTo>
                    <a:lnTo>
                      <a:pt x="557" y="33"/>
                    </a:lnTo>
                    <a:lnTo>
                      <a:pt x="523" y="64"/>
                    </a:lnTo>
                    <a:lnTo>
                      <a:pt x="490" y="95"/>
                    </a:lnTo>
                    <a:lnTo>
                      <a:pt x="455" y="125"/>
                    </a:lnTo>
                    <a:lnTo>
                      <a:pt x="420" y="155"/>
                    </a:lnTo>
                    <a:lnTo>
                      <a:pt x="384" y="185"/>
                    </a:lnTo>
                    <a:lnTo>
                      <a:pt x="348" y="213"/>
                    </a:lnTo>
                    <a:lnTo>
                      <a:pt x="311" y="241"/>
                    </a:lnTo>
                    <a:lnTo>
                      <a:pt x="274" y="268"/>
                    </a:lnTo>
                    <a:lnTo>
                      <a:pt x="236" y="295"/>
                    </a:lnTo>
                    <a:lnTo>
                      <a:pt x="198" y="320"/>
                    </a:lnTo>
                    <a:lnTo>
                      <a:pt x="160" y="346"/>
                    </a:lnTo>
                    <a:lnTo>
                      <a:pt x="120" y="370"/>
                    </a:lnTo>
                    <a:lnTo>
                      <a:pt x="80" y="394"/>
                    </a:lnTo>
                    <a:lnTo>
                      <a:pt x="40" y="417"/>
                    </a:lnTo>
                    <a:lnTo>
                      <a:pt x="0" y="439"/>
                    </a:lnTo>
                    <a:lnTo>
                      <a:pt x="22" y="450"/>
                    </a:lnTo>
                    <a:lnTo>
                      <a:pt x="23" y="45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94400" y="4392720"/>
                <a:ext cx="160560" cy="120600"/>
              </a:xfrm>
              <a:custGeom>
                <a:avLst/>
                <a:gdLst/>
                <a:ahLst/>
                <a:rect l="l" t="t" r="r" b="b"/>
                <a:pathLst>
                  <a:path w="606" h="458">
                    <a:moveTo>
                      <a:pt x="23" y="458"/>
                    </a:moveTo>
                    <a:lnTo>
                      <a:pt x="64" y="436"/>
                    </a:lnTo>
                    <a:lnTo>
                      <a:pt x="103" y="413"/>
                    </a:lnTo>
                    <a:lnTo>
                      <a:pt x="142" y="390"/>
                    </a:lnTo>
                    <a:lnTo>
                      <a:pt x="181" y="366"/>
                    </a:lnTo>
                    <a:lnTo>
                      <a:pt x="219" y="340"/>
                    </a:lnTo>
                    <a:lnTo>
                      <a:pt x="257" y="315"/>
                    </a:lnTo>
                    <a:lnTo>
                      <a:pt x="294" y="288"/>
                    </a:lnTo>
                    <a:lnTo>
                      <a:pt x="331" y="262"/>
                    </a:lnTo>
                    <a:lnTo>
                      <a:pt x="367" y="234"/>
                    </a:lnTo>
                    <a:lnTo>
                      <a:pt x="403" y="206"/>
                    </a:lnTo>
                    <a:lnTo>
                      <a:pt x="438" y="178"/>
                    </a:lnTo>
                    <a:lnTo>
                      <a:pt x="473" y="148"/>
                    </a:lnTo>
                    <a:lnTo>
                      <a:pt x="507" y="118"/>
                    </a:lnTo>
                    <a:lnTo>
                      <a:pt x="540" y="88"/>
                    </a:lnTo>
                    <a:lnTo>
                      <a:pt x="573" y="55"/>
                    </a:lnTo>
                    <a:lnTo>
                      <a:pt x="606" y="24"/>
                    </a:lnTo>
                    <a:lnTo>
                      <a:pt x="598" y="0"/>
                    </a:lnTo>
                    <a:lnTo>
                      <a:pt x="564" y="34"/>
                    </a:lnTo>
                    <a:lnTo>
                      <a:pt x="531" y="65"/>
                    </a:lnTo>
                    <a:lnTo>
                      <a:pt x="496" y="97"/>
                    </a:lnTo>
                    <a:lnTo>
                      <a:pt x="462" y="128"/>
                    </a:lnTo>
                    <a:lnTo>
                      <a:pt x="426" y="158"/>
                    </a:lnTo>
                    <a:lnTo>
                      <a:pt x="390" y="188"/>
                    </a:lnTo>
                    <a:lnTo>
                      <a:pt x="353" y="217"/>
                    </a:lnTo>
                    <a:lnTo>
                      <a:pt x="316" y="245"/>
                    </a:lnTo>
                    <a:lnTo>
                      <a:pt x="278" y="272"/>
                    </a:lnTo>
                    <a:lnTo>
                      <a:pt x="240" y="299"/>
                    </a:lnTo>
                    <a:lnTo>
                      <a:pt x="201" y="325"/>
                    </a:lnTo>
                    <a:lnTo>
                      <a:pt x="162" y="351"/>
                    </a:lnTo>
                    <a:lnTo>
                      <a:pt x="122" y="375"/>
                    </a:lnTo>
                    <a:lnTo>
                      <a:pt x="82" y="399"/>
                    </a:lnTo>
                    <a:lnTo>
                      <a:pt x="41" y="422"/>
                    </a:lnTo>
                    <a:lnTo>
                      <a:pt x="0" y="444"/>
                    </a:lnTo>
                    <a:lnTo>
                      <a:pt x="23" y="458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91160" y="4389480"/>
                <a:ext cx="162000" cy="122040"/>
              </a:xfrm>
              <a:custGeom>
                <a:avLst/>
                <a:gdLst/>
                <a:ahLst/>
                <a:rect l="l" t="t" r="r" b="b"/>
                <a:pathLst>
                  <a:path w="614" h="462">
                    <a:moveTo>
                      <a:pt x="25" y="462"/>
                    </a:moveTo>
                    <a:lnTo>
                      <a:pt x="65" y="440"/>
                    </a:lnTo>
                    <a:lnTo>
                      <a:pt x="105" y="417"/>
                    </a:lnTo>
                    <a:lnTo>
                      <a:pt x="145" y="393"/>
                    </a:lnTo>
                    <a:lnTo>
                      <a:pt x="185" y="369"/>
                    </a:lnTo>
                    <a:lnTo>
                      <a:pt x="223" y="343"/>
                    </a:lnTo>
                    <a:lnTo>
                      <a:pt x="261" y="318"/>
                    </a:lnTo>
                    <a:lnTo>
                      <a:pt x="299" y="291"/>
                    </a:lnTo>
                    <a:lnTo>
                      <a:pt x="336" y="264"/>
                    </a:lnTo>
                    <a:lnTo>
                      <a:pt x="373" y="236"/>
                    </a:lnTo>
                    <a:lnTo>
                      <a:pt x="409" y="208"/>
                    </a:lnTo>
                    <a:lnTo>
                      <a:pt x="445" y="178"/>
                    </a:lnTo>
                    <a:lnTo>
                      <a:pt x="480" y="148"/>
                    </a:lnTo>
                    <a:lnTo>
                      <a:pt x="515" y="118"/>
                    </a:lnTo>
                    <a:lnTo>
                      <a:pt x="548" y="87"/>
                    </a:lnTo>
                    <a:lnTo>
                      <a:pt x="582" y="56"/>
                    </a:lnTo>
                    <a:lnTo>
                      <a:pt x="614" y="23"/>
                    </a:lnTo>
                    <a:lnTo>
                      <a:pt x="606" y="0"/>
                    </a:lnTo>
                    <a:lnTo>
                      <a:pt x="573" y="33"/>
                    </a:lnTo>
                    <a:lnTo>
                      <a:pt x="538" y="65"/>
                    </a:lnTo>
                    <a:lnTo>
                      <a:pt x="503" y="98"/>
                    </a:lnTo>
                    <a:lnTo>
                      <a:pt x="469" y="129"/>
                    </a:lnTo>
                    <a:lnTo>
                      <a:pt x="433" y="160"/>
                    </a:lnTo>
                    <a:lnTo>
                      <a:pt x="396" y="190"/>
                    </a:lnTo>
                    <a:lnTo>
                      <a:pt x="359" y="219"/>
                    </a:lnTo>
                    <a:lnTo>
                      <a:pt x="321" y="247"/>
                    </a:lnTo>
                    <a:lnTo>
                      <a:pt x="283" y="275"/>
                    </a:lnTo>
                    <a:lnTo>
                      <a:pt x="245" y="302"/>
                    </a:lnTo>
                    <a:lnTo>
                      <a:pt x="205" y="328"/>
                    </a:lnTo>
                    <a:lnTo>
                      <a:pt x="165" y="354"/>
                    </a:lnTo>
                    <a:lnTo>
                      <a:pt x="125" y="379"/>
                    </a:lnTo>
                    <a:lnTo>
                      <a:pt x="85" y="403"/>
                    </a:lnTo>
                    <a:lnTo>
                      <a:pt x="43" y="426"/>
                    </a:lnTo>
                    <a:lnTo>
                      <a:pt x="0" y="449"/>
                    </a:lnTo>
                    <a:lnTo>
                      <a:pt x="25" y="462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88280" y="4386240"/>
                <a:ext cx="163440" cy="123840"/>
              </a:xfrm>
              <a:custGeom>
                <a:avLst/>
                <a:gdLst/>
                <a:ahLst/>
                <a:rect l="l" t="t" r="r" b="b"/>
                <a:pathLst>
                  <a:path w="622" h="468">
                    <a:moveTo>
                      <a:pt x="24" y="468"/>
                    </a:moveTo>
                    <a:lnTo>
                      <a:pt x="65" y="446"/>
                    </a:lnTo>
                    <a:lnTo>
                      <a:pt x="106" y="423"/>
                    </a:lnTo>
                    <a:lnTo>
                      <a:pt x="146" y="399"/>
                    </a:lnTo>
                    <a:lnTo>
                      <a:pt x="186" y="375"/>
                    </a:lnTo>
                    <a:lnTo>
                      <a:pt x="225" y="349"/>
                    </a:lnTo>
                    <a:lnTo>
                      <a:pt x="264" y="323"/>
                    </a:lnTo>
                    <a:lnTo>
                      <a:pt x="302" y="296"/>
                    </a:lnTo>
                    <a:lnTo>
                      <a:pt x="340" y="269"/>
                    </a:lnTo>
                    <a:lnTo>
                      <a:pt x="377" y="241"/>
                    </a:lnTo>
                    <a:lnTo>
                      <a:pt x="414" y="212"/>
                    </a:lnTo>
                    <a:lnTo>
                      <a:pt x="450" y="182"/>
                    </a:lnTo>
                    <a:lnTo>
                      <a:pt x="486" y="152"/>
                    </a:lnTo>
                    <a:lnTo>
                      <a:pt x="520" y="121"/>
                    </a:lnTo>
                    <a:lnTo>
                      <a:pt x="555" y="89"/>
                    </a:lnTo>
                    <a:lnTo>
                      <a:pt x="588" y="58"/>
                    </a:lnTo>
                    <a:lnTo>
                      <a:pt x="622" y="24"/>
                    </a:lnTo>
                    <a:lnTo>
                      <a:pt x="612" y="0"/>
                    </a:lnTo>
                    <a:lnTo>
                      <a:pt x="579" y="35"/>
                    </a:lnTo>
                    <a:lnTo>
                      <a:pt x="544" y="68"/>
                    </a:lnTo>
                    <a:lnTo>
                      <a:pt x="510" y="100"/>
                    </a:lnTo>
                    <a:lnTo>
                      <a:pt x="474" y="131"/>
                    </a:lnTo>
                    <a:lnTo>
                      <a:pt x="437" y="162"/>
                    </a:lnTo>
                    <a:lnTo>
                      <a:pt x="400" y="194"/>
                    </a:lnTo>
                    <a:lnTo>
                      <a:pt x="363" y="222"/>
                    </a:lnTo>
                    <a:lnTo>
                      <a:pt x="325" y="251"/>
                    </a:lnTo>
                    <a:lnTo>
                      <a:pt x="286" y="280"/>
                    </a:lnTo>
                    <a:lnTo>
                      <a:pt x="247" y="308"/>
                    </a:lnTo>
                    <a:lnTo>
                      <a:pt x="208" y="334"/>
                    </a:lnTo>
                    <a:lnTo>
                      <a:pt x="167" y="360"/>
                    </a:lnTo>
                    <a:lnTo>
                      <a:pt x="126" y="385"/>
                    </a:lnTo>
                    <a:lnTo>
                      <a:pt x="84" y="409"/>
                    </a:lnTo>
                    <a:lnTo>
                      <a:pt x="43" y="432"/>
                    </a:lnTo>
                    <a:lnTo>
                      <a:pt x="0" y="455"/>
                    </a:lnTo>
                    <a:lnTo>
                      <a:pt x="24" y="46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85040" y="4383000"/>
                <a:ext cx="166680" cy="125640"/>
              </a:xfrm>
              <a:custGeom>
                <a:avLst/>
                <a:gdLst/>
                <a:ahLst/>
                <a:rect l="l" t="t" r="r" b="b"/>
                <a:pathLst>
                  <a:path w="629" h="474">
                    <a:moveTo>
                      <a:pt x="23" y="474"/>
                    </a:moveTo>
                    <a:lnTo>
                      <a:pt x="66" y="451"/>
                    </a:lnTo>
                    <a:lnTo>
                      <a:pt x="108" y="428"/>
                    </a:lnTo>
                    <a:lnTo>
                      <a:pt x="148" y="404"/>
                    </a:lnTo>
                    <a:lnTo>
                      <a:pt x="188" y="379"/>
                    </a:lnTo>
                    <a:lnTo>
                      <a:pt x="228" y="353"/>
                    </a:lnTo>
                    <a:lnTo>
                      <a:pt x="268" y="327"/>
                    </a:lnTo>
                    <a:lnTo>
                      <a:pt x="306" y="300"/>
                    </a:lnTo>
                    <a:lnTo>
                      <a:pt x="344" y="272"/>
                    </a:lnTo>
                    <a:lnTo>
                      <a:pt x="382" y="244"/>
                    </a:lnTo>
                    <a:lnTo>
                      <a:pt x="419" y="215"/>
                    </a:lnTo>
                    <a:lnTo>
                      <a:pt x="456" y="185"/>
                    </a:lnTo>
                    <a:lnTo>
                      <a:pt x="492" y="154"/>
                    </a:lnTo>
                    <a:lnTo>
                      <a:pt x="526" y="123"/>
                    </a:lnTo>
                    <a:lnTo>
                      <a:pt x="561" y="90"/>
                    </a:lnTo>
                    <a:lnTo>
                      <a:pt x="596" y="58"/>
                    </a:lnTo>
                    <a:lnTo>
                      <a:pt x="629" y="25"/>
                    </a:lnTo>
                    <a:lnTo>
                      <a:pt x="621" y="0"/>
                    </a:lnTo>
                    <a:lnTo>
                      <a:pt x="586" y="35"/>
                    </a:lnTo>
                    <a:lnTo>
                      <a:pt x="552" y="68"/>
                    </a:lnTo>
                    <a:lnTo>
                      <a:pt x="516" y="102"/>
                    </a:lnTo>
                    <a:lnTo>
                      <a:pt x="480" y="133"/>
                    </a:lnTo>
                    <a:lnTo>
                      <a:pt x="443" y="165"/>
                    </a:lnTo>
                    <a:lnTo>
                      <a:pt x="406" y="195"/>
                    </a:lnTo>
                    <a:lnTo>
                      <a:pt x="368" y="226"/>
                    </a:lnTo>
                    <a:lnTo>
                      <a:pt x="329" y="255"/>
                    </a:lnTo>
                    <a:lnTo>
                      <a:pt x="290" y="284"/>
                    </a:lnTo>
                    <a:lnTo>
                      <a:pt x="251" y="312"/>
                    </a:lnTo>
                    <a:lnTo>
                      <a:pt x="210" y="338"/>
                    </a:lnTo>
                    <a:lnTo>
                      <a:pt x="169" y="365"/>
                    </a:lnTo>
                    <a:lnTo>
                      <a:pt x="127" y="390"/>
                    </a:lnTo>
                    <a:lnTo>
                      <a:pt x="86" y="414"/>
                    </a:lnTo>
                    <a:lnTo>
                      <a:pt x="43" y="438"/>
                    </a:lnTo>
                    <a:lnTo>
                      <a:pt x="0" y="460"/>
                    </a:lnTo>
                    <a:lnTo>
                      <a:pt x="23" y="47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81800" y="4379760"/>
                <a:ext cx="168120" cy="127080"/>
              </a:xfrm>
              <a:custGeom>
                <a:avLst/>
                <a:gdLst/>
                <a:ahLst/>
                <a:rect l="l" t="t" r="r" b="b"/>
                <a:pathLst>
                  <a:path w="634" h="478">
                    <a:moveTo>
                      <a:pt x="22" y="478"/>
                    </a:moveTo>
                    <a:lnTo>
                      <a:pt x="65" y="455"/>
                    </a:lnTo>
                    <a:lnTo>
                      <a:pt x="106" y="432"/>
                    </a:lnTo>
                    <a:lnTo>
                      <a:pt x="148" y="408"/>
                    </a:lnTo>
                    <a:lnTo>
                      <a:pt x="189" y="383"/>
                    </a:lnTo>
                    <a:lnTo>
                      <a:pt x="230" y="357"/>
                    </a:lnTo>
                    <a:lnTo>
                      <a:pt x="269" y="331"/>
                    </a:lnTo>
                    <a:lnTo>
                      <a:pt x="308" y="303"/>
                    </a:lnTo>
                    <a:lnTo>
                      <a:pt x="347" y="274"/>
                    </a:lnTo>
                    <a:lnTo>
                      <a:pt x="385" y="245"/>
                    </a:lnTo>
                    <a:lnTo>
                      <a:pt x="422" y="217"/>
                    </a:lnTo>
                    <a:lnTo>
                      <a:pt x="459" y="185"/>
                    </a:lnTo>
                    <a:lnTo>
                      <a:pt x="496" y="154"/>
                    </a:lnTo>
                    <a:lnTo>
                      <a:pt x="532" y="123"/>
                    </a:lnTo>
                    <a:lnTo>
                      <a:pt x="566" y="91"/>
                    </a:lnTo>
                    <a:lnTo>
                      <a:pt x="601" y="58"/>
                    </a:lnTo>
                    <a:lnTo>
                      <a:pt x="634" y="23"/>
                    </a:lnTo>
                    <a:lnTo>
                      <a:pt x="626" y="0"/>
                    </a:lnTo>
                    <a:lnTo>
                      <a:pt x="592" y="34"/>
                    </a:lnTo>
                    <a:lnTo>
                      <a:pt x="557" y="68"/>
                    </a:lnTo>
                    <a:lnTo>
                      <a:pt x="521" y="101"/>
                    </a:lnTo>
                    <a:lnTo>
                      <a:pt x="484" y="134"/>
                    </a:lnTo>
                    <a:lnTo>
                      <a:pt x="448" y="166"/>
                    </a:lnTo>
                    <a:lnTo>
                      <a:pt x="410" y="197"/>
                    </a:lnTo>
                    <a:lnTo>
                      <a:pt x="371" y="227"/>
                    </a:lnTo>
                    <a:lnTo>
                      <a:pt x="333" y="257"/>
                    </a:lnTo>
                    <a:lnTo>
                      <a:pt x="293" y="286"/>
                    </a:lnTo>
                    <a:lnTo>
                      <a:pt x="254" y="313"/>
                    </a:lnTo>
                    <a:lnTo>
                      <a:pt x="212" y="341"/>
                    </a:lnTo>
                    <a:lnTo>
                      <a:pt x="171" y="368"/>
                    </a:lnTo>
                    <a:lnTo>
                      <a:pt x="129" y="393"/>
                    </a:lnTo>
                    <a:lnTo>
                      <a:pt x="87" y="417"/>
                    </a:lnTo>
                    <a:lnTo>
                      <a:pt x="44" y="441"/>
                    </a:lnTo>
                    <a:lnTo>
                      <a:pt x="0" y="464"/>
                    </a:lnTo>
                    <a:lnTo>
                      <a:pt x="6" y="469"/>
                    </a:lnTo>
                    <a:lnTo>
                      <a:pt x="22" y="47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80000" y="4376880"/>
                <a:ext cx="168480" cy="126720"/>
              </a:xfrm>
              <a:custGeom>
                <a:avLst/>
                <a:gdLst/>
                <a:ahLst/>
                <a:rect l="l" t="t" r="r" b="b"/>
                <a:pathLst>
                  <a:path w="639" h="484">
                    <a:moveTo>
                      <a:pt x="18" y="484"/>
                    </a:moveTo>
                    <a:lnTo>
                      <a:pt x="61" y="462"/>
                    </a:lnTo>
                    <a:lnTo>
                      <a:pt x="104" y="438"/>
                    </a:lnTo>
                    <a:lnTo>
                      <a:pt x="145" y="414"/>
                    </a:lnTo>
                    <a:lnTo>
                      <a:pt x="187" y="389"/>
                    </a:lnTo>
                    <a:lnTo>
                      <a:pt x="228" y="362"/>
                    </a:lnTo>
                    <a:lnTo>
                      <a:pt x="269" y="336"/>
                    </a:lnTo>
                    <a:lnTo>
                      <a:pt x="308" y="308"/>
                    </a:lnTo>
                    <a:lnTo>
                      <a:pt x="347" y="279"/>
                    </a:lnTo>
                    <a:lnTo>
                      <a:pt x="386" y="250"/>
                    </a:lnTo>
                    <a:lnTo>
                      <a:pt x="424" y="219"/>
                    </a:lnTo>
                    <a:lnTo>
                      <a:pt x="461" y="189"/>
                    </a:lnTo>
                    <a:lnTo>
                      <a:pt x="498" y="157"/>
                    </a:lnTo>
                    <a:lnTo>
                      <a:pt x="534" y="126"/>
                    </a:lnTo>
                    <a:lnTo>
                      <a:pt x="570" y="92"/>
                    </a:lnTo>
                    <a:lnTo>
                      <a:pt x="604" y="59"/>
                    </a:lnTo>
                    <a:lnTo>
                      <a:pt x="639" y="24"/>
                    </a:lnTo>
                    <a:lnTo>
                      <a:pt x="630" y="0"/>
                    </a:lnTo>
                    <a:lnTo>
                      <a:pt x="595" y="36"/>
                    </a:lnTo>
                    <a:lnTo>
                      <a:pt x="561" y="71"/>
                    </a:lnTo>
                    <a:lnTo>
                      <a:pt x="525" y="104"/>
                    </a:lnTo>
                    <a:lnTo>
                      <a:pt x="488" y="136"/>
                    </a:lnTo>
                    <a:lnTo>
                      <a:pt x="451" y="169"/>
                    </a:lnTo>
                    <a:lnTo>
                      <a:pt x="413" y="200"/>
                    </a:lnTo>
                    <a:lnTo>
                      <a:pt x="374" y="231"/>
                    </a:lnTo>
                    <a:lnTo>
                      <a:pt x="334" y="260"/>
                    </a:lnTo>
                    <a:lnTo>
                      <a:pt x="295" y="290"/>
                    </a:lnTo>
                    <a:lnTo>
                      <a:pt x="255" y="317"/>
                    </a:lnTo>
                    <a:lnTo>
                      <a:pt x="213" y="345"/>
                    </a:lnTo>
                    <a:lnTo>
                      <a:pt x="172" y="371"/>
                    </a:lnTo>
                    <a:lnTo>
                      <a:pt x="130" y="397"/>
                    </a:lnTo>
                    <a:lnTo>
                      <a:pt x="88" y="422"/>
                    </a:lnTo>
                    <a:lnTo>
                      <a:pt x="44" y="445"/>
                    </a:lnTo>
                    <a:lnTo>
                      <a:pt x="0" y="468"/>
                    </a:lnTo>
                    <a:lnTo>
                      <a:pt x="14" y="482"/>
                    </a:lnTo>
                    <a:lnTo>
                      <a:pt x="18" y="48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477120" y="437364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642" h="488">
                    <a:moveTo>
                      <a:pt x="16" y="488"/>
                    </a:moveTo>
                    <a:lnTo>
                      <a:pt x="60" y="465"/>
                    </a:lnTo>
                    <a:lnTo>
                      <a:pt x="103" y="441"/>
                    </a:lnTo>
                    <a:lnTo>
                      <a:pt x="145" y="417"/>
                    </a:lnTo>
                    <a:lnTo>
                      <a:pt x="187" y="392"/>
                    </a:lnTo>
                    <a:lnTo>
                      <a:pt x="228" y="365"/>
                    </a:lnTo>
                    <a:lnTo>
                      <a:pt x="270" y="337"/>
                    </a:lnTo>
                    <a:lnTo>
                      <a:pt x="309" y="310"/>
                    </a:lnTo>
                    <a:lnTo>
                      <a:pt x="349" y="281"/>
                    </a:lnTo>
                    <a:lnTo>
                      <a:pt x="387" y="251"/>
                    </a:lnTo>
                    <a:lnTo>
                      <a:pt x="426" y="221"/>
                    </a:lnTo>
                    <a:lnTo>
                      <a:pt x="464" y="190"/>
                    </a:lnTo>
                    <a:lnTo>
                      <a:pt x="500" y="158"/>
                    </a:lnTo>
                    <a:lnTo>
                      <a:pt x="537" y="125"/>
                    </a:lnTo>
                    <a:lnTo>
                      <a:pt x="573" y="92"/>
                    </a:lnTo>
                    <a:lnTo>
                      <a:pt x="608" y="58"/>
                    </a:lnTo>
                    <a:lnTo>
                      <a:pt x="642" y="24"/>
                    </a:lnTo>
                    <a:lnTo>
                      <a:pt x="634" y="0"/>
                    </a:lnTo>
                    <a:lnTo>
                      <a:pt x="599" y="35"/>
                    </a:lnTo>
                    <a:lnTo>
                      <a:pt x="564" y="70"/>
                    </a:lnTo>
                    <a:lnTo>
                      <a:pt x="527" y="103"/>
                    </a:lnTo>
                    <a:lnTo>
                      <a:pt x="491" y="137"/>
                    </a:lnTo>
                    <a:lnTo>
                      <a:pt x="453" y="169"/>
                    </a:lnTo>
                    <a:lnTo>
                      <a:pt x="415" y="200"/>
                    </a:lnTo>
                    <a:lnTo>
                      <a:pt x="376" y="231"/>
                    </a:lnTo>
                    <a:lnTo>
                      <a:pt x="337" y="261"/>
                    </a:lnTo>
                    <a:lnTo>
                      <a:pt x="296" y="290"/>
                    </a:lnTo>
                    <a:lnTo>
                      <a:pt x="256" y="319"/>
                    </a:lnTo>
                    <a:lnTo>
                      <a:pt x="214" y="347"/>
                    </a:lnTo>
                    <a:lnTo>
                      <a:pt x="173" y="373"/>
                    </a:lnTo>
                    <a:lnTo>
                      <a:pt x="130" y="399"/>
                    </a:lnTo>
                    <a:lnTo>
                      <a:pt x="88" y="424"/>
                    </a:lnTo>
                    <a:lnTo>
                      <a:pt x="44" y="448"/>
                    </a:lnTo>
                    <a:lnTo>
                      <a:pt x="0" y="471"/>
                    </a:lnTo>
                    <a:lnTo>
                      <a:pt x="16" y="48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75320" y="4370400"/>
                <a:ext cx="171720" cy="130320"/>
              </a:xfrm>
              <a:custGeom>
                <a:avLst/>
                <a:gdLst/>
                <a:ahLst/>
                <a:rect l="l" t="t" r="r" b="b"/>
                <a:pathLst>
                  <a:path w="647" h="491">
                    <a:moveTo>
                      <a:pt x="17" y="491"/>
                    </a:moveTo>
                    <a:lnTo>
                      <a:pt x="61" y="468"/>
                    </a:lnTo>
                    <a:lnTo>
                      <a:pt x="105" y="445"/>
                    </a:lnTo>
                    <a:lnTo>
                      <a:pt x="147" y="420"/>
                    </a:lnTo>
                    <a:lnTo>
                      <a:pt x="189" y="394"/>
                    </a:lnTo>
                    <a:lnTo>
                      <a:pt x="230" y="368"/>
                    </a:lnTo>
                    <a:lnTo>
                      <a:pt x="272" y="340"/>
                    </a:lnTo>
                    <a:lnTo>
                      <a:pt x="312" y="313"/>
                    </a:lnTo>
                    <a:lnTo>
                      <a:pt x="351" y="283"/>
                    </a:lnTo>
                    <a:lnTo>
                      <a:pt x="391" y="254"/>
                    </a:lnTo>
                    <a:lnTo>
                      <a:pt x="430" y="223"/>
                    </a:lnTo>
                    <a:lnTo>
                      <a:pt x="468" y="192"/>
                    </a:lnTo>
                    <a:lnTo>
                      <a:pt x="505" y="159"/>
                    </a:lnTo>
                    <a:lnTo>
                      <a:pt x="542" y="127"/>
                    </a:lnTo>
                    <a:lnTo>
                      <a:pt x="578" y="94"/>
                    </a:lnTo>
                    <a:lnTo>
                      <a:pt x="612" y="59"/>
                    </a:lnTo>
                    <a:lnTo>
                      <a:pt x="647" y="23"/>
                    </a:lnTo>
                    <a:lnTo>
                      <a:pt x="642" y="9"/>
                    </a:lnTo>
                    <a:lnTo>
                      <a:pt x="638" y="0"/>
                    </a:lnTo>
                    <a:lnTo>
                      <a:pt x="603" y="36"/>
                    </a:lnTo>
                    <a:lnTo>
                      <a:pt x="567" y="72"/>
                    </a:lnTo>
                    <a:lnTo>
                      <a:pt x="531" y="105"/>
                    </a:lnTo>
                    <a:lnTo>
                      <a:pt x="494" y="138"/>
                    </a:lnTo>
                    <a:lnTo>
                      <a:pt x="456" y="171"/>
                    </a:lnTo>
                    <a:lnTo>
                      <a:pt x="418" y="203"/>
                    </a:lnTo>
                    <a:lnTo>
                      <a:pt x="379" y="234"/>
                    </a:lnTo>
                    <a:lnTo>
                      <a:pt x="340" y="264"/>
                    </a:lnTo>
                    <a:lnTo>
                      <a:pt x="300" y="293"/>
                    </a:lnTo>
                    <a:lnTo>
                      <a:pt x="258" y="322"/>
                    </a:lnTo>
                    <a:lnTo>
                      <a:pt x="217" y="349"/>
                    </a:lnTo>
                    <a:lnTo>
                      <a:pt x="175" y="376"/>
                    </a:lnTo>
                    <a:lnTo>
                      <a:pt x="132" y="402"/>
                    </a:lnTo>
                    <a:lnTo>
                      <a:pt x="88" y="428"/>
                    </a:lnTo>
                    <a:lnTo>
                      <a:pt x="45" y="452"/>
                    </a:lnTo>
                    <a:lnTo>
                      <a:pt x="0" y="475"/>
                    </a:lnTo>
                    <a:lnTo>
                      <a:pt x="17" y="49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72080" y="436716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651" h="493">
                    <a:moveTo>
                      <a:pt x="17" y="493"/>
                    </a:moveTo>
                    <a:lnTo>
                      <a:pt x="61" y="470"/>
                    </a:lnTo>
                    <a:lnTo>
                      <a:pt x="105" y="446"/>
                    </a:lnTo>
                    <a:lnTo>
                      <a:pt x="147" y="421"/>
                    </a:lnTo>
                    <a:lnTo>
                      <a:pt x="190" y="395"/>
                    </a:lnTo>
                    <a:lnTo>
                      <a:pt x="231" y="369"/>
                    </a:lnTo>
                    <a:lnTo>
                      <a:pt x="273" y="341"/>
                    </a:lnTo>
                    <a:lnTo>
                      <a:pt x="314" y="312"/>
                    </a:lnTo>
                    <a:lnTo>
                      <a:pt x="354" y="283"/>
                    </a:lnTo>
                    <a:lnTo>
                      <a:pt x="393" y="253"/>
                    </a:lnTo>
                    <a:lnTo>
                      <a:pt x="432" y="222"/>
                    </a:lnTo>
                    <a:lnTo>
                      <a:pt x="470" y="191"/>
                    </a:lnTo>
                    <a:lnTo>
                      <a:pt x="508" y="159"/>
                    </a:lnTo>
                    <a:lnTo>
                      <a:pt x="544" y="125"/>
                    </a:lnTo>
                    <a:lnTo>
                      <a:pt x="581" y="92"/>
                    </a:lnTo>
                    <a:lnTo>
                      <a:pt x="616" y="57"/>
                    </a:lnTo>
                    <a:lnTo>
                      <a:pt x="651" y="22"/>
                    </a:lnTo>
                    <a:lnTo>
                      <a:pt x="650" y="19"/>
                    </a:lnTo>
                    <a:lnTo>
                      <a:pt x="641" y="0"/>
                    </a:lnTo>
                    <a:lnTo>
                      <a:pt x="605" y="36"/>
                    </a:lnTo>
                    <a:lnTo>
                      <a:pt x="571" y="71"/>
                    </a:lnTo>
                    <a:lnTo>
                      <a:pt x="534" y="105"/>
                    </a:lnTo>
                    <a:lnTo>
                      <a:pt x="497" y="138"/>
                    </a:lnTo>
                    <a:lnTo>
                      <a:pt x="459" y="172"/>
                    </a:lnTo>
                    <a:lnTo>
                      <a:pt x="421" y="204"/>
                    </a:lnTo>
                    <a:lnTo>
                      <a:pt x="381" y="235"/>
                    </a:lnTo>
                    <a:lnTo>
                      <a:pt x="341" y="265"/>
                    </a:lnTo>
                    <a:lnTo>
                      <a:pt x="301" y="295"/>
                    </a:lnTo>
                    <a:lnTo>
                      <a:pt x="259" y="323"/>
                    </a:lnTo>
                    <a:lnTo>
                      <a:pt x="218" y="350"/>
                    </a:lnTo>
                    <a:lnTo>
                      <a:pt x="175" y="378"/>
                    </a:lnTo>
                    <a:lnTo>
                      <a:pt x="132" y="403"/>
                    </a:lnTo>
                    <a:lnTo>
                      <a:pt x="88" y="429"/>
                    </a:lnTo>
                    <a:lnTo>
                      <a:pt x="45" y="453"/>
                    </a:lnTo>
                    <a:lnTo>
                      <a:pt x="0" y="476"/>
                    </a:lnTo>
                    <a:lnTo>
                      <a:pt x="17" y="493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470640" y="4363920"/>
                <a:ext cx="173160" cy="131760"/>
              </a:xfrm>
              <a:custGeom>
                <a:avLst/>
                <a:gdLst/>
                <a:ahLst/>
                <a:rect l="l" t="t" r="r" b="b"/>
                <a:pathLst>
                  <a:path w="654" h="497">
                    <a:moveTo>
                      <a:pt x="16" y="497"/>
                    </a:moveTo>
                    <a:lnTo>
                      <a:pt x="61" y="474"/>
                    </a:lnTo>
                    <a:lnTo>
                      <a:pt x="104" y="450"/>
                    </a:lnTo>
                    <a:lnTo>
                      <a:pt x="148" y="424"/>
                    </a:lnTo>
                    <a:lnTo>
                      <a:pt x="191" y="398"/>
                    </a:lnTo>
                    <a:lnTo>
                      <a:pt x="233" y="371"/>
                    </a:lnTo>
                    <a:lnTo>
                      <a:pt x="274" y="344"/>
                    </a:lnTo>
                    <a:lnTo>
                      <a:pt x="316" y="315"/>
                    </a:lnTo>
                    <a:lnTo>
                      <a:pt x="356" y="286"/>
                    </a:lnTo>
                    <a:lnTo>
                      <a:pt x="395" y="256"/>
                    </a:lnTo>
                    <a:lnTo>
                      <a:pt x="434" y="225"/>
                    </a:lnTo>
                    <a:lnTo>
                      <a:pt x="472" y="193"/>
                    </a:lnTo>
                    <a:lnTo>
                      <a:pt x="510" y="160"/>
                    </a:lnTo>
                    <a:lnTo>
                      <a:pt x="547" y="127"/>
                    </a:lnTo>
                    <a:lnTo>
                      <a:pt x="583" y="94"/>
                    </a:lnTo>
                    <a:lnTo>
                      <a:pt x="619" y="58"/>
                    </a:lnTo>
                    <a:lnTo>
                      <a:pt x="654" y="22"/>
                    </a:lnTo>
                    <a:lnTo>
                      <a:pt x="643" y="0"/>
                    </a:lnTo>
                    <a:lnTo>
                      <a:pt x="609" y="37"/>
                    </a:lnTo>
                    <a:lnTo>
                      <a:pt x="573" y="72"/>
                    </a:lnTo>
                    <a:lnTo>
                      <a:pt x="536" y="106"/>
                    </a:lnTo>
                    <a:lnTo>
                      <a:pt x="499" y="141"/>
                    </a:lnTo>
                    <a:lnTo>
                      <a:pt x="461" y="173"/>
                    </a:lnTo>
                    <a:lnTo>
                      <a:pt x="422" y="205"/>
                    </a:lnTo>
                    <a:lnTo>
                      <a:pt x="382" y="237"/>
                    </a:lnTo>
                    <a:lnTo>
                      <a:pt x="343" y="268"/>
                    </a:lnTo>
                    <a:lnTo>
                      <a:pt x="302" y="298"/>
                    </a:lnTo>
                    <a:lnTo>
                      <a:pt x="260" y="325"/>
                    </a:lnTo>
                    <a:lnTo>
                      <a:pt x="219" y="354"/>
                    </a:lnTo>
                    <a:lnTo>
                      <a:pt x="176" y="381"/>
                    </a:lnTo>
                    <a:lnTo>
                      <a:pt x="132" y="407"/>
                    </a:lnTo>
                    <a:lnTo>
                      <a:pt x="88" y="433"/>
                    </a:lnTo>
                    <a:lnTo>
                      <a:pt x="45" y="457"/>
                    </a:lnTo>
                    <a:lnTo>
                      <a:pt x="0" y="480"/>
                    </a:lnTo>
                    <a:lnTo>
                      <a:pt x="16" y="497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69200" y="4361040"/>
                <a:ext cx="172800" cy="131760"/>
              </a:xfrm>
              <a:custGeom>
                <a:avLst/>
                <a:gdLst/>
                <a:ahLst/>
                <a:rect l="l" t="t" r="r" b="b"/>
                <a:pathLst>
                  <a:path w="659" h="498">
                    <a:moveTo>
                      <a:pt x="18" y="498"/>
                    </a:moveTo>
                    <a:lnTo>
                      <a:pt x="63" y="475"/>
                    </a:lnTo>
                    <a:lnTo>
                      <a:pt x="106" y="451"/>
                    </a:lnTo>
                    <a:lnTo>
                      <a:pt x="150" y="425"/>
                    </a:lnTo>
                    <a:lnTo>
                      <a:pt x="193" y="400"/>
                    </a:lnTo>
                    <a:lnTo>
                      <a:pt x="236" y="372"/>
                    </a:lnTo>
                    <a:lnTo>
                      <a:pt x="277" y="345"/>
                    </a:lnTo>
                    <a:lnTo>
                      <a:pt x="319" y="317"/>
                    </a:lnTo>
                    <a:lnTo>
                      <a:pt x="359" y="287"/>
                    </a:lnTo>
                    <a:lnTo>
                      <a:pt x="399" y="257"/>
                    </a:lnTo>
                    <a:lnTo>
                      <a:pt x="439" y="226"/>
                    </a:lnTo>
                    <a:lnTo>
                      <a:pt x="477" y="194"/>
                    </a:lnTo>
                    <a:lnTo>
                      <a:pt x="515" y="160"/>
                    </a:lnTo>
                    <a:lnTo>
                      <a:pt x="552" y="127"/>
                    </a:lnTo>
                    <a:lnTo>
                      <a:pt x="589" y="93"/>
                    </a:lnTo>
                    <a:lnTo>
                      <a:pt x="623" y="58"/>
                    </a:lnTo>
                    <a:lnTo>
                      <a:pt x="659" y="22"/>
                    </a:lnTo>
                    <a:lnTo>
                      <a:pt x="649" y="0"/>
                    </a:lnTo>
                    <a:lnTo>
                      <a:pt x="613" y="36"/>
                    </a:lnTo>
                    <a:lnTo>
                      <a:pt x="577" y="71"/>
                    </a:lnTo>
                    <a:lnTo>
                      <a:pt x="540" y="106"/>
                    </a:lnTo>
                    <a:lnTo>
                      <a:pt x="503" y="141"/>
                    </a:lnTo>
                    <a:lnTo>
                      <a:pt x="465" y="174"/>
                    </a:lnTo>
                    <a:lnTo>
                      <a:pt x="426" y="206"/>
                    </a:lnTo>
                    <a:lnTo>
                      <a:pt x="387" y="237"/>
                    </a:lnTo>
                    <a:lnTo>
                      <a:pt x="346" y="268"/>
                    </a:lnTo>
                    <a:lnTo>
                      <a:pt x="305" y="298"/>
                    </a:lnTo>
                    <a:lnTo>
                      <a:pt x="263" y="327"/>
                    </a:lnTo>
                    <a:lnTo>
                      <a:pt x="222" y="355"/>
                    </a:lnTo>
                    <a:lnTo>
                      <a:pt x="178" y="381"/>
                    </a:lnTo>
                    <a:lnTo>
                      <a:pt x="135" y="408"/>
                    </a:lnTo>
                    <a:lnTo>
                      <a:pt x="90" y="433"/>
                    </a:lnTo>
                    <a:lnTo>
                      <a:pt x="46" y="458"/>
                    </a:lnTo>
                    <a:lnTo>
                      <a:pt x="0" y="481"/>
                    </a:lnTo>
                    <a:lnTo>
                      <a:pt x="18" y="498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65960" y="4359240"/>
                <a:ext cx="174600" cy="131760"/>
              </a:xfrm>
              <a:custGeom>
                <a:avLst/>
                <a:gdLst/>
                <a:ahLst/>
                <a:rect l="l" t="t" r="r" b="b"/>
                <a:pathLst>
                  <a:path w="661" h="502">
                    <a:moveTo>
                      <a:pt x="18" y="502"/>
                    </a:moveTo>
                    <a:lnTo>
                      <a:pt x="63" y="479"/>
                    </a:lnTo>
                    <a:lnTo>
                      <a:pt x="106" y="455"/>
                    </a:lnTo>
                    <a:lnTo>
                      <a:pt x="150" y="429"/>
                    </a:lnTo>
                    <a:lnTo>
                      <a:pt x="194" y="403"/>
                    </a:lnTo>
                    <a:lnTo>
                      <a:pt x="237" y="376"/>
                    </a:lnTo>
                    <a:lnTo>
                      <a:pt x="278" y="347"/>
                    </a:lnTo>
                    <a:lnTo>
                      <a:pt x="320" y="320"/>
                    </a:lnTo>
                    <a:lnTo>
                      <a:pt x="361" y="290"/>
                    </a:lnTo>
                    <a:lnTo>
                      <a:pt x="400" y="259"/>
                    </a:lnTo>
                    <a:lnTo>
                      <a:pt x="440" y="227"/>
                    </a:lnTo>
                    <a:lnTo>
                      <a:pt x="479" y="195"/>
                    </a:lnTo>
                    <a:lnTo>
                      <a:pt x="517" y="163"/>
                    </a:lnTo>
                    <a:lnTo>
                      <a:pt x="554" y="128"/>
                    </a:lnTo>
                    <a:lnTo>
                      <a:pt x="591" y="94"/>
                    </a:lnTo>
                    <a:lnTo>
                      <a:pt x="627" y="59"/>
                    </a:lnTo>
                    <a:lnTo>
                      <a:pt x="661" y="22"/>
                    </a:lnTo>
                    <a:lnTo>
                      <a:pt x="651" y="0"/>
                    </a:lnTo>
                    <a:lnTo>
                      <a:pt x="615" y="37"/>
                    </a:lnTo>
                    <a:lnTo>
                      <a:pt x="579" y="73"/>
                    </a:lnTo>
                    <a:lnTo>
                      <a:pt x="542" y="108"/>
                    </a:lnTo>
                    <a:lnTo>
                      <a:pt x="505" y="142"/>
                    </a:lnTo>
                    <a:lnTo>
                      <a:pt x="466" y="176"/>
                    </a:lnTo>
                    <a:lnTo>
                      <a:pt x="428" y="208"/>
                    </a:lnTo>
                    <a:lnTo>
                      <a:pt x="388" y="240"/>
                    </a:lnTo>
                    <a:lnTo>
                      <a:pt x="347" y="271"/>
                    </a:lnTo>
                    <a:lnTo>
                      <a:pt x="306" y="301"/>
                    </a:lnTo>
                    <a:lnTo>
                      <a:pt x="264" y="330"/>
                    </a:lnTo>
                    <a:lnTo>
                      <a:pt x="222" y="358"/>
                    </a:lnTo>
                    <a:lnTo>
                      <a:pt x="179" y="385"/>
                    </a:lnTo>
                    <a:lnTo>
                      <a:pt x="135" y="412"/>
                    </a:lnTo>
                    <a:lnTo>
                      <a:pt x="91" y="437"/>
                    </a:lnTo>
                    <a:lnTo>
                      <a:pt x="46" y="461"/>
                    </a:lnTo>
                    <a:lnTo>
                      <a:pt x="0" y="485"/>
                    </a:lnTo>
                    <a:lnTo>
                      <a:pt x="18" y="502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64160" y="4356000"/>
                <a:ext cx="176400" cy="133560"/>
              </a:xfrm>
              <a:custGeom>
                <a:avLst/>
                <a:gdLst/>
                <a:ahLst/>
                <a:rect l="l" t="t" r="r" b="b"/>
                <a:pathLst>
                  <a:path w="665" h="503">
                    <a:moveTo>
                      <a:pt x="16" y="503"/>
                    </a:moveTo>
                    <a:lnTo>
                      <a:pt x="62" y="480"/>
                    </a:lnTo>
                    <a:lnTo>
                      <a:pt x="106" y="455"/>
                    </a:lnTo>
                    <a:lnTo>
                      <a:pt x="151" y="430"/>
                    </a:lnTo>
                    <a:lnTo>
                      <a:pt x="194" y="403"/>
                    </a:lnTo>
                    <a:lnTo>
                      <a:pt x="238" y="377"/>
                    </a:lnTo>
                    <a:lnTo>
                      <a:pt x="279" y="349"/>
                    </a:lnTo>
                    <a:lnTo>
                      <a:pt x="321" y="320"/>
                    </a:lnTo>
                    <a:lnTo>
                      <a:pt x="362" y="290"/>
                    </a:lnTo>
                    <a:lnTo>
                      <a:pt x="403" y="259"/>
                    </a:lnTo>
                    <a:lnTo>
                      <a:pt x="442" y="228"/>
                    </a:lnTo>
                    <a:lnTo>
                      <a:pt x="481" y="196"/>
                    </a:lnTo>
                    <a:lnTo>
                      <a:pt x="519" y="163"/>
                    </a:lnTo>
                    <a:lnTo>
                      <a:pt x="556" y="128"/>
                    </a:lnTo>
                    <a:lnTo>
                      <a:pt x="593" y="93"/>
                    </a:lnTo>
                    <a:lnTo>
                      <a:pt x="629" y="58"/>
                    </a:lnTo>
                    <a:lnTo>
                      <a:pt x="665" y="22"/>
                    </a:lnTo>
                    <a:lnTo>
                      <a:pt x="654" y="0"/>
                    </a:lnTo>
                    <a:lnTo>
                      <a:pt x="618" y="37"/>
                    </a:lnTo>
                    <a:lnTo>
                      <a:pt x="581" y="73"/>
                    </a:lnTo>
                    <a:lnTo>
                      <a:pt x="545" y="108"/>
                    </a:lnTo>
                    <a:lnTo>
                      <a:pt x="508" y="142"/>
                    </a:lnTo>
                    <a:lnTo>
                      <a:pt x="468" y="176"/>
                    </a:lnTo>
                    <a:lnTo>
                      <a:pt x="429" y="209"/>
                    </a:lnTo>
                    <a:lnTo>
                      <a:pt x="390" y="241"/>
                    </a:lnTo>
                    <a:lnTo>
                      <a:pt x="348" y="271"/>
                    </a:lnTo>
                    <a:lnTo>
                      <a:pt x="308" y="302"/>
                    </a:lnTo>
                    <a:lnTo>
                      <a:pt x="265" y="331"/>
                    </a:lnTo>
                    <a:lnTo>
                      <a:pt x="223" y="360"/>
                    </a:lnTo>
                    <a:lnTo>
                      <a:pt x="180" y="386"/>
                    </a:lnTo>
                    <a:lnTo>
                      <a:pt x="135" y="413"/>
                    </a:lnTo>
                    <a:lnTo>
                      <a:pt x="91" y="438"/>
                    </a:lnTo>
                    <a:lnTo>
                      <a:pt x="45" y="462"/>
                    </a:lnTo>
                    <a:lnTo>
                      <a:pt x="0" y="486"/>
                    </a:lnTo>
                    <a:lnTo>
                      <a:pt x="16" y="50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61280" y="4352760"/>
                <a:ext cx="177480" cy="133560"/>
              </a:xfrm>
              <a:custGeom>
                <a:avLst/>
                <a:gdLst/>
                <a:ahLst/>
                <a:rect l="l" t="t" r="r" b="b"/>
                <a:pathLst>
                  <a:path w="668" h="507">
                    <a:moveTo>
                      <a:pt x="17" y="507"/>
                    </a:moveTo>
                    <a:lnTo>
                      <a:pt x="63" y="483"/>
                    </a:lnTo>
                    <a:lnTo>
                      <a:pt x="108" y="459"/>
                    </a:lnTo>
                    <a:lnTo>
                      <a:pt x="152" y="434"/>
                    </a:lnTo>
                    <a:lnTo>
                      <a:pt x="196" y="407"/>
                    </a:lnTo>
                    <a:lnTo>
                      <a:pt x="239" y="380"/>
                    </a:lnTo>
                    <a:lnTo>
                      <a:pt x="281" y="352"/>
                    </a:lnTo>
                    <a:lnTo>
                      <a:pt x="323" y="323"/>
                    </a:lnTo>
                    <a:lnTo>
                      <a:pt x="364" y="293"/>
                    </a:lnTo>
                    <a:lnTo>
                      <a:pt x="405" y="262"/>
                    </a:lnTo>
                    <a:lnTo>
                      <a:pt x="445" y="230"/>
                    </a:lnTo>
                    <a:lnTo>
                      <a:pt x="483" y="198"/>
                    </a:lnTo>
                    <a:lnTo>
                      <a:pt x="522" y="164"/>
                    </a:lnTo>
                    <a:lnTo>
                      <a:pt x="559" y="130"/>
                    </a:lnTo>
                    <a:lnTo>
                      <a:pt x="596" y="95"/>
                    </a:lnTo>
                    <a:lnTo>
                      <a:pt x="632" y="59"/>
                    </a:lnTo>
                    <a:lnTo>
                      <a:pt x="668" y="22"/>
                    </a:lnTo>
                    <a:lnTo>
                      <a:pt x="657" y="0"/>
                    </a:lnTo>
                    <a:lnTo>
                      <a:pt x="622" y="37"/>
                    </a:lnTo>
                    <a:lnTo>
                      <a:pt x="586" y="74"/>
                    </a:lnTo>
                    <a:lnTo>
                      <a:pt x="548" y="110"/>
                    </a:lnTo>
                    <a:lnTo>
                      <a:pt x="511" y="145"/>
                    </a:lnTo>
                    <a:lnTo>
                      <a:pt x="472" y="178"/>
                    </a:lnTo>
                    <a:lnTo>
                      <a:pt x="432" y="211"/>
                    </a:lnTo>
                    <a:lnTo>
                      <a:pt x="392" y="243"/>
                    </a:lnTo>
                    <a:lnTo>
                      <a:pt x="352" y="274"/>
                    </a:lnTo>
                    <a:lnTo>
                      <a:pt x="310" y="305"/>
                    </a:lnTo>
                    <a:lnTo>
                      <a:pt x="268" y="334"/>
                    </a:lnTo>
                    <a:lnTo>
                      <a:pt x="225" y="362"/>
                    </a:lnTo>
                    <a:lnTo>
                      <a:pt x="181" y="390"/>
                    </a:lnTo>
                    <a:lnTo>
                      <a:pt x="136" y="417"/>
                    </a:lnTo>
                    <a:lnTo>
                      <a:pt x="91" y="442"/>
                    </a:lnTo>
                    <a:lnTo>
                      <a:pt x="46" y="466"/>
                    </a:lnTo>
                    <a:lnTo>
                      <a:pt x="0" y="490"/>
                    </a:lnTo>
                    <a:lnTo>
                      <a:pt x="5" y="494"/>
                    </a:lnTo>
                    <a:lnTo>
                      <a:pt x="17" y="50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459480" y="4349880"/>
                <a:ext cx="177840" cy="134640"/>
              </a:xfrm>
              <a:custGeom>
                <a:avLst/>
                <a:gdLst/>
                <a:ahLst/>
                <a:rect l="l" t="t" r="r" b="b"/>
                <a:pathLst>
                  <a:path w="672" h="508">
                    <a:moveTo>
                      <a:pt x="18" y="508"/>
                    </a:moveTo>
                    <a:lnTo>
                      <a:pt x="63" y="484"/>
                    </a:lnTo>
                    <a:lnTo>
                      <a:pt x="109" y="460"/>
                    </a:lnTo>
                    <a:lnTo>
                      <a:pt x="153" y="435"/>
                    </a:lnTo>
                    <a:lnTo>
                      <a:pt x="198" y="408"/>
                    </a:lnTo>
                    <a:lnTo>
                      <a:pt x="241" y="382"/>
                    </a:lnTo>
                    <a:lnTo>
                      <a:pt x="283" y="353"/>
                    </a:lnTo>
                    <a:lnTo>
                      <a:pt x="326" y="324"/>
                    </a:lnTo>
                    <a:lnTo>
                      <a:pt x="366" y="293"/>
                    </a:lnTo>
                    <a:lnTo>
                      <a:pt x="408" y="263"/>
                    </a:lnTo>
                    <a:lnTo>
                      <a:pt x="447" y="231"/>
                    </a:lnTo>
                    <a:lnTo>
                      <a:pt x="486" y="198"/>
                    </a:lnTo>
                    <a:lnTo>
                      <a:pt x="526" y="164"/>
                    </a:lnTo>
                    <a:lnTo>
                      <a:pt x="563" y="130"/>
                    </a:lnTo>
                    <a:lnTo>
                      <a:pt x="599" y="95"/>
                    </a:lnTo>
                    <a:lnTo>
                      <a:pt x="636" y="59"/>
                    </a:lnTo>
                    <a:lnTo>
                      <a:pt x="672" y="22"/>
                    </a:lnTo>
                    <a:lnTo>
                      <a:pt x="665" y="8"/>
                    </a:lnTo>
                    <a:lnTo>
                      <a:pt x="661" y="0"/>
                    </a:lnTo>
                    <a:lnTo>
                      <a:pt x="625" y="37"/>
                    </a:lnTo>
                    <a:lnTo>
                      <a:pt x="589" y="74"/>
                    </a:lnTo>
                    <a:lnTo>
                      <a:pt x="551" y="110"/>
                    </a:lnTo>
                    <a:lnTo>
                      <a:pt x="513" y="144"/>
                    </a:lnTo>
                    <a:lnTo>
                      <a:pt x="475" y="179"/>
                    </a:lnTo>
                    <a:lnTo>
                      <a:pt x="435" y="212"/>
                    </a:lnTo>
                    <a:lnTo>
                      <a:pt x="394" y="244"/>
                    </a:lnTo>
                    <a:lnTo>
                      <a:pt x="354" y="276"/>
                    </a:lnTo>
                    <a:lnTo>
                      <a:pt x="311" y="306"/>
                    </a:lnTo>
                    <a:lnTo>
                      <a:pt x="270" y="336"/>
                    </a:lnTo>
                    <a:lnTo>
                      <a:pt x="226" y="363"/>
                    </a:lnTo>
                    <a:lnTo>
                      <a:pt x="182" y="391"/>
                    </a:lnTo>
                    <a:lnTo>
                      <a:pt x="137" y="419"/>
                    </a:lnTo>
                    <a:lnTo>
                      <a:pt x="92" y="444"/>
                    </a:lnTo>
                    <a:lnTo>
                      <a:pt x="47" y="468"/>
                    </a:lnTo>
                    <a:lnTo>
                      <a:pt x="0" y="491"/>
                    </a:lnTo>
                    <a:lnTo>
                      <a:pt x="14" y="504"/>
                    </a:lnTo>
                    <a:lnTo>
                      <a:pt x="18" y="50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56240" y="43466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676" h="510">
                    <a:moveTo>
                      <a:pt x="19" y="510"/>
                    </a:moveTo>
                    <a:lnTo>
                      <a:pt x="65" y="486"/>
                    </a:lnTo>
                    <a:lnTo>
                      <a:pt x="110" y="462"/>
                    </a:lnTo>
                    <a:lnTo>
                      <a:pt x="155" y="437"/>
                    </a:lnTo>
                    <a:lnTo>
                      <a:pt x="200" y="410"/>
                    </a:lnTo>
                    <a:lnTo>
                      <a:pt x="244" y="382"/>
                    </a:lnTo>
                    <a:lnTo>
                      <a:pt x="287" y="354"/>
                    </a:lnTo>
                    <a:lnTo>
                      <a:pt x="329" y="325"/>
                    </a:lnTo>
                    <a:lnTo>
                      <a:pt x="371" y="294"/>
                    </a:lnTo>
                    <a:lnTo>
                      <a:pt x="411" y="263"/>
                    </a:lnTo>
                    <a:lnTo>
                      <a:pt x="451" y="231"/>
                    </a:lnTo>
                    <a:lnTo>
                      <a:pt x="491" y="198"/>
                    </a:lnTo>
                    <a:lnTo>
                      <a:pt x="530" y="165"/>
                    </a:lnTo>
                    <a:lnTo>
                      <a:pt x="567" y="130"/>
                    </a:lnTo>
                    <a:lnTo>
                      <a:pt x="605" y="94"/>
                    </a:lnTo>
                    <a:lnTo>
                      <a:pt x="641" y="57"/>
                    </a:lnTo>
                    <a:lnTo>
                      <a:pt x="676" y="20"/>
                    </a:lnTo>
                    <a:lnTo>
                      <a:pt x="675" y="18"/>
                    </a:lnTo>
                    <a:lnTo>
                      <a:pt x="665" y="0"/>
                    </a:lnTo>
                    <a:lnTo>
                      <a:pt x="629" y="37"/>
                    </a:lnTo>
                    <a:lnTo>
                      <a:pt x="593" y="73"/>
                    </a:lnTo>
                    <a:lnTo>
                      <a:pt x="555" y="109"/>
                    </a:lnTo>
                    <a:lnTo>
                      <a:pt x="517" y="145"/>
                    </a:lnTo>
                    <a:lnTo>
                      <a:pt x="478" y="180"/>
                    </a:lnTo>
                    <a:lnTo>
                      <a:pt x="439" y="212"/>
                    </a:lnTo>
                    <a:lnTo>
                      <a:pt x="398" y="245"/>
                    </a:lnTo>
                    <a:lnTo>
                      <a:pt x="357" y="276"/>
                    </a:lnTo>
                    <a:lnTo>
                      <a:pt x="314" y="306"/>
                    </a:lnTo>
                    <a:lnTo>
                      <a:pt x="272" y="336"/>
                    </a:lnTo>
                    <a:lnTo>
                      <a:pt x="228" y="365"/>
                    </a:lnTo>
                    <a:lnTo>
                      <a:pt x="184" y="393"/>
                    </a:lnTo>
                    <a:lnTo>
                      <a:pt x="139" y="419"/>
                    </a:lnTo>
                    <a:lnTo>
                      <a:pt x="94" y="446"/>
                    </a:lnTo>
                    <a:lnTo>
                      <a:pt x="48" y="470"/>
                    </a:lnTo>
                    <a:lnTo>
                      <a:pt x="0" y="493"/>
                    </a:lnTo>
                    <a:lnTo>
                      <a:pt x="19" y="51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454800" y="434484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679" h="513">
                    <a:moveTo>
                      <a:pt x="18" y="513"/>
                    </a:moveTo>
                    <a:lnTo>
                      <a:pt x="65" y="490"/>
                    </a:lnTo>
                    <a:lnTo>
                      <a:pt x="110" y="466"/>
                    </a:lnTo>
                    <a:lnTo>
                      <a:pt x="155" y="441"/>
                    </a:lnTo>
                    <a:lnTo>
                      <a:pt x="200" y="413"/>
                    </a:lnTo>
                    <a:lnTo>
                      <a:pt x="244" y="385"/>
                    </a:lnTo>
                    <a:lnTo>
                      <a:pt x="288" y="358"/>
                    </a:lnTo>
                    <a:lnTo>
                      <a:pt x="329" y="328"/>
                    </a:lnTo>
                    <a:lnTo>
                      <a:pt x="372" y="298"/>
                    </a:lnTo>
                    <a:lnTo>
                      <a:pt x="412" y="266"/>
                    </a:lnTo>
                    <a:lnTo>
                      <a:pt x="453" y="234"/>
                    </a:lnTo>
                    <a:lnTo>
                      <a:pt x="493" y="201"/>
                    </a:lnTo>
                    <a:lnTo>
                      <a:pt x="531" y="166"/>
                    </a:lnTo>
                    <a:lnTo>
                      <a:pt x="569" y="132"/>
                    </a:lnTo>
                    <a:lnTo>
                      <a:pt x="607" y="96"/>
                    </a:lnTo>
                    <a:lnTo>
                      <a:pt x="643" y="59"/>
                    </a:lnTo>
                    <a:lnTo>
                      <a:pt x="679" y="22"/>
                    </a:lnTo>
                    <a:lnTo>
                      <a:pt x="667" y="0"/>
                    </a:lnTo>
                    <a:lnTo>
                      <a:pt x="631" y="38"/>
                    </a:lnTo>
                    <a:lnTo>
                      <a:pt x="594" y="75"/>
                    </a:lnTo>
                    <a:lnTo>
                      <a:pt x="557" y="112"/>
                    </a:lnTo>
                    <a:lnTo>
                      <a:pt x="519" y="147"/>
                    </a:lnTo>
                    <a:lnTo>
                      <a:pt x="480" y="181"/>
                    </a:lnTo>
                    <a:lnTo>
                      <a:pt x="440" y="215"/>
                    </a:lnTo>
                    <a:lnTo>
                      <a:pt x="399" y="248"/>
                    </a:lnTo>
                    <a:lnTo>
                      <a:pt x="358" y="279"/>
                    </a:lnTo>
                    <a:lnTo>
                      <a:pt x="315" y="310"/>
                    </a:lnTo>
                    <a:lnTo>
                      <a:pt x="273" y="340"/>
                    </a:lnTo>
                    <a:lnTo>
                      <a:pt x="229" y="369"/>
                    </a:lnTo>
                    <a:lnTo>
                      <a:pt x="184" y="397"/>
                    </a:lnTo>
                    <a:lnTo>
                      <a:pt x="139" y="423"/>
                    </a:lnTo>
                    <a:lnTo>
                      <a:pt x="94" y="449"/>
                    </a:lnTo>
                    <a:lnTo>
                      <a:pt x="47" y="474"/>
                    </a:lnTo>
                    <a:lnTo>
                      <a:pt x="0" y="497"/>
                    </a:lnTo>
                    <a:lnTo>
                      <a:pt x="18" y="51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51560" y="434196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682" h="515">
                    <a:moveTo>
                      <a:pt x="17" y="515"/>
                    </a:moveTo>
                    <a:lnTo>
                      <a:pt x="65" y="492"/>
                    </a:lnTo>
                    <a:lnTo>
                      <a:pt x="111" y="468"/>
                    </a:lnTo>
                    <a:lnTo>
                      <a:pt x="156" y="441"/>
                    </a:lnTo>
                    <a:lnTo>
                      <a:pt x="201" y="415"/>
                    </a:lnTo>
                    <a:lnTo>
                      <a:pt x="245" y="387"/>
                    </a:lnTo>
                    <a:lnTo>
                      <a:pt x="289" y="358"/>
                    </a:lnTo>
                    <a:lnTo>
                      <a:pt x="331" y="328"/>
                    </a:lnTo>
                    <a:lnTo>
                      <a:pt x="374" y="298"/>
                    </a:lnTo>
                    <a:lnTo>
                      <a:pt x="415" y="267"/>
                    </a:lnTo>
                    <a:lnTo>
                      <a:pt x="456" y="234"/>
                    </a:lnTo>
                    <a:lnTo>
                      <a:pt x="495" y="202"/>
                    </a:lnTo>
                    <a:lnTo>
                      <a:pt x="534" y="167"/>
                    </a:lnTo>
                    <a:lnTo>
                      <a:pt x="572" y="131"/>
                    </a:lnTo>
                    <a:lnTo>
                      <a:pt x="610" y="95"/>
                    </a:lnTo>
                    <a:lnTo>
                      <a:pt x="646" y="59"/>
                    </a:lnTo>
                    <a:lnTo>
                      <a:pt x="682" y="22"/>
                    </a:lnTo>
                    <a:lnTo>
                      <a:pt x="671" y="0"/>
                    </a:lnTo>
                    <a:lnTo>
                      <a:pt x="635" y="38"/>
                    </a:lnTo>
                    <a:lnTo>
                      <a:pt x="598" y="75"/>
                    </a:lnTo>
                    <a:lnTo>
                      <a:pt x="561" y="112"/>
                    </a:lnTo>
                    <a:lnTo>
                      <a:pt x="522" y="147"/>
                    </a:lnTo>
                    <a:lnTo>
                      <a:pt x="482" y="182"/>
                    </a:lnTo>
                    <a:lnTo>
                      <a:pt x="442" y="215"/>
                    </a:lnTo>
                    <a:lnTo>
                      <a:pt x="402" y="249"/>
                    </a:lnTo>
                    <a:lnTo>
                      <a:pt x="360" y="280"/>
                    </a:lnTo>
                    <a:lnTo>
                      <a:pt x="317" y="311"/>
                    </a:lnTo>
                    <a:lnTo>
                      <a:pt x="274" y="341"/>
                    </a:lnTo>
                    <a:lnTo>
                      <a:pt x="230" y="370"/>
                    </a:lnTo>
                    <a:lnTo>
                      <a:pt x="185" y="397"/>
                    </a:lnTo>
                    <a:lnTo>
                      <a:pt x="140" y="425"/>
                    </a:lnTo>
                    <a:lnTo>
                      <a:pt x="94" y="451"/>
                    </a:lnTo>
                    <a:lnTo>
                      <a:pt x="47" y="476"/>
                    </a:lnTo>
                    <a:lnTo>
                      <a:pt x="0" y="499"/>
                    </a:lnTo>
                    <a:lnTo>
                      <a:pt x="0" y="499"/>
                    </a:lnTo>
                    <a:lnTo>
                      <a:pt x="17" y="51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48320" y="43387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689" h="518">
                    <a:moveTo>
                      <a:pt x="22" y="518"/>
                    </a:moveTo>
                    <a:lnTo>
                      <a:pt x="69" y="495"/>
                    </a:lnTo>
                    <a:lnTo>
                      <a:pt x="116" y="470"/>
                    </a:lnTo>
                    <a:lnTo>
                      <a:pt x="161" y="444"/>
                    </a:lnTo>
                    <a:lnTo>
                      <a:pt x="206" y="418"/>
                    </a:lnTo>
                    <a:lnTo>
                      <a:pt x="251" y="390"/>
                    </a:lnTo>
                    <a:lnTo>
                      <a:pt x="295" y="361"/>
                    </a:lnTo>
                    <a:lnTo>
                      <a:pt x="337" y="331"/>
                    </a:lnTo>
                    <a:lnTo>
                      <a:pt x="380" y="300"/>
                    </a:lnTo>
                    <a:lnTo>
                      <a:pt x="421" y="269"/>
                    </a:lnTo>
                    <a:lnTo>
                      <a:pt x="462" y="236"/>
                    </a:lnTo>
                    <a:lnTo>
                      <a:pt x="502" y="202"/>
                    </a:lnTo>
                    <a:lnTo>
                      <a:pt x="541" y="168"/>
                    </a:lnTo>
                    <a:lnTo>
                      <a:pt x="579" y="133"/>
                    </a:lnTo>
                    <a:lnTo>
                      <a:pt x="616" y="96"/>
                    </a:lnTo>
                    <a:lnTo>
                      <a:pt x="653" y="59"/>
                    </a:lnTo>
                    <a:lnTo>
                      <a:pt x="689" y="21"/>
                    </a:lnTo>
                    <a:lnTo>
                      <a:pt x="679" y="0"/>
                    </a:lnTo>
                    <a:lnTo>
                      <a:pt x="642" y="38"/>
                    </a:lnTo>
                    <a:lnTo>
                      <a:pt x="605" y="76"/>
                    </a:lnTo>
                    <a:lnTo>
                      <a:pt x="567" y="113"/>
                    </a:lnTo>
                    <a:lnTo>
                      <a:pt x="528" y="149"/>
                    </a:lnTo>
                    <a:lnTo>
                      <a:pt x="488" y="185"/>
                    </a:lnTo>
                    <a:lnTo>
                      <a:pt x="448" y="218"/>
                    </a:lnTo>
                    <a:lnTo>
                      <a:pt x="406" y="252"/>
                    </a:lnTo>
                    <a:lnTo>
                      <a:pt x="364" y="284"/>
                    </a:lnTo>
                    <a:lnTo>
                      <a:pt x="321" y="315"/>
                    </a:lnTo>
                    <a:lnTo>
                      <a:pt x="277" y="345"/>
                    </a:lnTo>
                    <a:lnTo>
                      <a:pt x="232" y="374"/>
                    </a:lnTo>
                    <a:lnTo>
                      <a:pt x="187" y="403"/>
                    </a:lnTo>
                    <a:lnTo>
                      <a:pt x="141" y="429"/>
                    </a:lnTo>
                    <a:lnTo>
                      <a:pt x="95" y="456"/>
                    </a:lnTo>
                    <a:lnTo>
                      <a:pt x="48" y="480"/>
                    </a:lnTo>
                    <a:lnTo>
                      <a:pt x="0" y="504"/>
                    </a:lnTo>
                    <a:lnTo>
                      <a:pt x="13" y="510"/>
                    </a:lnTo>
                    <a:lnTo>
                      <a:pt x="22" y="518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5080" y="4335480"/>
                <a:ext cx="184320" cy="138240"/>
              </a:xfrm>
              <a:custGeom>
                <a:avLst/>
                <a:gdLst/>
                <a:ahLst/>
                <a:rect l="l" t="t" r="r" b="b"/>
                <a:pathLst>
                  <a:path w="697" h="520">
                    <a:moveTo>
                      <a:pt x="26" y="520"/>
                    </a:moveTo>
                    <a:lnTo>
                      <a:pt x="73" y="497"/>
                    </a:lnTo>
                    <a:lnTo>
                      <a:pt x="120" y="472"/>
                    </a:lnTo>
                    <a:lnTo>
                      <a:pt x="166" y="446"/>
                    </a:lnTo>
                    <a:lnTo>
                      <a:pt x="211" y="418"/>
                    </a:lnTo>
                    <a:lnTo>
                      <a:pt x="256" y="391"/>
                    </a:lnTo>
                    <a:lnTo>
                      <a:pt x="300" y="362"/>
                    </a:lnTo>
                    <a:lnTo>
                      <a:pt x="343" y="332"/>
                    </a:lnTo>
                    <a:lnTo>
                      <a:pt x="386" y="301"/>
                    </a:lnTo>
                    <a:lnTo>
                      <a:pt x="428" y="270"/>
                    </a:lnTo>
                    <a:lnTo>
                      <a:pt x="468" y="236"/>
                    </a:lnTo>
                    <a:lnTo>
                      <a:pt x="508" y="203"/>
                    </a:lnTo>
                    <a:lnTo>
                      <a:pt x="548" y="168"/>
                    </a:lnTo>
                    <a:lnTo>
                      <a:pt x="587" y="133"/>
                    </a:lnTo>
                    <a:lnTo>
                      <a:pt x="624" y="96"/>
                    </a:lnTo>
                    <a:lnTo>
                      <a:pt x="661" y="59"/>
                    </a:lnTo>
                    <a:lnTo>
                      <a:pt x="697" y="21"/>
                    </a:lnTo>
                    <a:lnTo>
                      <a:pt x="686" y="0"/>
                    </a:lnTo>
                    <a:lnTo>
                      <a:pt x="649" y="39"/>
                    </a:lnTo>
                    <a:lnTo>
                      <a:pt x="612" y="77"/>
                    </a:lnTo>
                    <a:lnTo>
                      <a:pt x="573" y="114"/>
                    </a:lnTo>
                    <a:lnTo>
                      <a:pt x="534" y="150"/>
                    </a:lnTo>
                    <a:lnTo>
                      <a:pt x="493" y="186"/>
                    </a:lnTo>
                    <a:lnTo>
                      <a:pt x="453" y="220"/>
                    </a:lnTo>
                    <a:lnTo>
                      <a:pt x="411" y="254"/>
                    </a:lnTo>
                    <a:lnTo>
                      <a:pt x="369" y="286"/>
                    </a:lnTo>
                    <a:lnTo>
                      <a:pt x="325" y="317"/>
                    </a:lnTo>
                    <a:lnTo>
                      <a:pt x="281" y="348"/>
                    </a:lnTo>
                    <a:lnTo>
                      <a:pt x="236" y="377"/>
                    </a:lnTo>
                    <a:lnTo>
                      <a:pt x="190" y="406"/>
                    </a:lnTo>
                    <a:lnTo>
                      <a:pt x="144" y="432"/>
                    </a:lnTo>
                    <a:lnTo>
                      <a:pt x="97" y="459"/>
                    </a:lnTo>
                    <a:lnTo>
                      <a:pt x="48" y="483"/>
                    </a:lnTo>
                    <a:lnTo>
                      <a:pt x="0" y="507"/>
                    </a:lnTo>
                    <a:lnTo>
                      <a:pt x="26" y="520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42200" y="4332240"/>
                <a:ext cx="185760" cy="139680"/>
              </a:xfrm>
              <a:custGeom>
                <a:avLst/>
                <a:gdLst/>
                <a:ahLst/>
                <a:rect l="l" t="t" r="r" b="b"/>
                <a:pathLst>
                  <a:path w="705" h="525">
                    <a:moveTo>
                      <a:pt x="26" y="525"/>
                    </a:moveTo>
                    <a:lnTo>
                      <a:pt x="74" y="501"/>
                    </a:lnTo>
                    <a:lnTo>
                      <a:pt x="121" y="477"/>
                    </a:lnTo>
                    <a:lnTo>
                      <a:pt x="167" y="450"/>
                    </a:lnTo>
                    <a:lnTo>
                      <a:pt x="213" y="424"/>
                    </a:lnTo>
                    <a:lnTo>
                      <a:pt x="258" y="395"/>
                    </a:lnTo>
                    <a:lnTo>
                      <a:pt x="303" y="366"/>
                    </a:lnTo>
                    <a:lnTo>
                      <a:pt x="347" y="336"/>
                    </a:lnTo>
                    <a:lnTo>
                      <a:pt x="390" y="305"/>
                    </a:lnTo>
                    <a:lnTo>
                      <a:pt x="432" y="273"/>
                    </a:lnTo>
                    <a:lnTo>
                      <a:pt x="474" y="239"/>
                    </a:lnTo>
                    <a:lnTo>
                      <a:pt x="514" y="206"/>
                    </a:lnTo>
                    <a:lnTo>
                      <a:pt x="554" y="170"/>
                    </a:lnTo>
                    <a:lnTo>
                      <a:pt x="593" y="134"/>
                    </a:lnTo>
                    <a:lnTo>
                      <a:pt x="631" y="97"/>
                    </a:lnTo>
                    <a:lnTo>
                      <a:pt x="668" y="59"/>
                    </a:lnTo>
                    <a:lnTo>
                      <a:pt x="705" y="21"/>
                    </a:lnTo>
                    <a:lnTo>
                      <a:pt x="693" y="0"/>
                    </a:lnTo>
                    <a:lnTo>
                      <a:pt x="656" y="40"/>
                    </a:lnTo>
                    <a:lnTo>
                      <a:pt x="618" y="78"/>
                    </a:lnTo>
                    <a:lnTo>
                      <a:pt x="580" y="116"/>
                    </a:lnTo>
                    <a:lnTo>
                      <a:pt x="540" y="153"/>
                    </a:lnTo>
                    <a:lnTo>
                      <a:pt x="499" y="189"/>
                    </a:lnTo>
                    <a:lnTo>
                      <a:pt x="458" y="223"/>
                    </a:lnTo>
                    <a:lnTo>
                      <a:pt x="416" y="257"/>
                    </a:lnTo>
                    <a:lnTo>
                      <a:pt x="372" y="289"/>
                    </a:lnTo>
                    <a:lnTo>
                      <a:pt x="329" y="321"/>
                    </a:lnTo>
                    <a:lnTo>
                      <a:pt x="284" y="351"/>
                    </a:lnTo>
                    <a:lnTo>
                      <a:pt x="239" y="381"/>
                    </a:lnTo>
                    <a:lnTo>
                      <a:pt x="193" y="410"/>
                    </a:lnTo>
                    <a:lnTo>
                      <a:pt x="145" y="436"/>
                    </a:lnTo>
                    <a:lnTo>
                      <a:pt x="98" y="463"/>
                    </a:lnTo>
                    <a:lnTo>
                      <a:pt x="50" y="488"/>
                    </a:lnTo>
                    <a:lnTo>
                      <a:pt x="0" y="511"/>
                    </a:lnTo>
                    <a:lnTo>
                      <a:pt x="26" y="52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38960" y="433080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712" h="529">
                    <a:moveTo>
                      <a:pt x="26" y="529"/>
                    </a:moveTo>
                    <a:lnTo>
                      <a:pt x="74" y="505"/>
                    </a:lnTo>
                    <a:lnTo>
                      <a:pt x="123" y="481"/>
                    </a:lnTo>
                    <a:lnTo>
                      <a:pt x="170" y="454"/>
                    </a:lnTo>
                    <a:lnTo>
                      <a:pt x="216" y="427"/>
                    </a:lnTo>
                    <a:lnTo>
                      <a:pt x="262" y="399"/>
                    </a:lnTo>
                    <a:lnTo>
                      <a:pt x="307" y="370"/>
                    </a:lnTo>
                    <a:lnTo>
                      <a:pt x="351" y="339"/>
                    </a:lnTo>
                    <a:lnTo>
                      <a:pt x="395" y="308"/>
                    </a:lnTo>
                    <a:lnTo>
                      <a:pt x="437" y="276"/>
                    </a:lnTo>
                    <a:lnTo>
                      <a:pt x="479" y="242"/>
                    </a:lnTo>
                    <a:lnTo>
                      <a:pt x="519" y="208"/>
                    </a:lnTo>
                    <a:lnTo>
                      <a:pt x="560" y="172"/>
                    </a:lnTo>
                    <a:lnTo>
                      <a:pt x="599" y="136"/>
                    </a:lnTo>
                    <a:lnTo>
                      <a:pt x="638" y="99"/>
                    </a:lnTo>
                    <a:lnTo>
                      <a:pt x="675" y="61"/>
                    </a:lnTo>
                    <a:lnTo>
                      <a:pt x="712" y="22"/>
                    </a:lnTo>
                    <a:lnTo>
                      <a:pt x="704" y="6"/>
                    </a:lnTo>
                    <a:lnTo>
                      <a:pt x="700" y="0"/>
                    </a:lnTo>
                    <a:lnTo>
                      <a:pt x="663" y="40"/>
                    </a:lnTo>
                    <a:lnTo>
                      <a:pt x="625" y="79"/>
                    </a:lnTo>
                    <a:lnTo>
                      <a:pt x="586" y="117"/>
                    </a:lnTo>
                    <a:lnTo>
                      <a:pt x="546" y="155"/>
                    </a:lnTo>
                    <a:lnTo>
                      <a:pt x="505" y="190"/>
                    </a:lnTo>
                    <a:lnTo>
                      <a:pt x="464" y="225"/>
                    </a:lnTo>
                    <a:lnTo>
                      <a:pt x="421" y="260"/>
                    </a:lnTo>
                    <a:lnTo>
                      <a:pt x="377" y="292"/>
                    </a:lnTo>
                    <a:lnTo>
                      <a:pt x="332" y="324"/>
                    </a:lnTo>
                    <a:lnTo>
                      <a:pt x="287" y="355"/>
                    </a:lnTo>
                    <a:lnTo>
                      <a:pt x="241" y="385"/>
                    </a:lnTo>
                    <a:lnTo>
                      <a:pt x="195" y="414"/>
                    </a:lnTo>
                    <a:lnTo>
                      <a:pt x="147" y="440"/>
                    </a:lnTo>
                    <a:lnTo>
                      <a:pt x="98" y="467"/>
                    </a:lnTo>
                    <a:lnTo>
                      <a:pt x="50" y="492"/>
                    </a:lnTo>
                    <a:lnTo>
                      <a:pt x="0" y="517"/>
                    </a:lnTo>
                    <a:lnTo>
                      <a:pt x="26" y="529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35720" y="4327560"/>
                <a:ext cx="189000" cy="141120"/>
              </a:xfrm>
              <a:custGeom>
                <a:avLst/>
                <a:gdLst/>
                <a:ahLst/>
                <a:rect l="l" t="t" r="r" b="b"/>
                <a:pathLst>
                  <a:path w="718" h="533">
                    <a:moveTo>
                      <a:pt x="25" y="533"/>
                    </a:moveTo>
                    <a:lnTo>
                      <a:pt x="75" y="510"/>
                    </a:lnTo>
                    <a:lnTo>
                      <a:pt x="123" y="485"/>
                    </a:lnTo>
                    <a:lnTo>
                      <a:pt x="170" y="458"/>
                    </a:lnTo>
                    <a:lnTo>
                      <a:pt x="218" y="432"/>
                    </a:lnTo>
                    <a:lnTo>
                      <a:pt x="264" y="403"/>
                    </a:lnTo>
                    <a:lnTo>
                      <a:pt x="309" y="373"/>
                    </a:lnTo>
                    <a:lnTo>
                      <a:pt x="354" y="343"/>
                    </a:lnTo>
                    <a:lnTo>
                      <a:pt x="397" y="311"/>
                    </a:lnTo>
                    <a:lnTo>
                      <a:pt x="441" y="279"/>
                    </a:lnTo>
                    <a:lnTo>
                      <a:pt x="483" y="245"/>
                    </a:lnTo>
                    <a:lnTo>
                      <a:pt x="524" y="211"/>
                    </a:lnTo>
                    <a:lnTo>
                      <a:pt x="565" y="175"/>
                    </a:lnTo>
                    <a:lnTo>
                      <a:pt x="605" y="138"/>
                    </a:lnTo>
                    <a:lnTo>
                      <a:pt x="643" y="100"/>
                    </a:lnTo>
                    <a:lnTo>
                      <a:pt x="681" y="62"/>
                    </a:lnTo>
                    <a:lnTo>
                      <a:pt x="718" y="22"/>
                    </a:lnTo>
                    <a:lnTo>
                      <a:pt x="716" y="17"/>
                    </a:lnTo>
                    <a:lnTo>
                      <a:pt x="708" y="0"/>
                    </a:lnTo>
                    <a:lnTo>
                      <a:pt x="670" y="40"/>
                    </a:lnTo>
                    <a:lnTo>
                      <a:pt x="632" y="80"/>
                    </a:lnTo>
                    <a:lnTo>
                      <a:pt x="592" y="118"/>
                    </a:lnTo>
                    <a:lnTo>
                      <a:pt x="552" y="156"/>
                    </a:lnTo>
                    <a:lnTo>
                      <a:pt x="511" y="192"/>
                    </a:lnTo>
                    <a:lnTo>
                      <a:pt x="468" y="228"/>
                    </a:lnTo>
                    <a:lnTo>
                      <a:pt x="425" y="262"/>
                    </a:lnTo>
                    <a:lnTo>
                      <a:pt x="380" y="296"/>
                    </a:lnTo>
                    <a:lnTo>
                      <a:pt x="335" y="328"/>
                    </a:lnTo>
                    <a:lnTo>
                      <a:pt x="290" y="359"/>
                    </a:lnTo>
                    <a:lnTo>
                      <a:pt x="243" y="389"/>
                    </a:lnTo>
                    <a:lnTo>
                      <a:pt x="196" y="418"/>
                    </a:lnTo>
                    <a:lnTo>
                      <a:pt x="148" y="446"/>
                    </a:lnTo>
                    <a:lnTo>
                      <a:pt x="99" y="472"/>
                    </a:lnTo>
                    <a:lnTo>
                      <a:pt x="49" y="496"/>
                    </a:lnTo>
                    <a:lnTo>
                      <a:pt x="0" y="521"/>
                    </a:lnTo>
                    <a:lnTo>
                      <a:pt x="25" y="53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32480" y="432432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723" h="539">
                    <a:moveTo>
                      <a:pt x="23" y="539"/>
                    </a:moveTo>
                    <a:lnTo>
                      <a:pt x="73" y="514"/>
                    </a:lnTo>
                    <a:lnTo>
                      <a:pt x="121" y="489"/>
                    </a:lnTo>
                    <a:lnTo>
                      <a:pt x="170" y="462"/>
                    </a:lnTo>
                    <a:lnTo>
                      <a:pt x="218" y="436"/>
                    </a:lnTo>
                    <a:lnTo>
                      <a:pt x="264" y="407"/>
                    </a:lnTo>
                    <a:lnTo>
                      <a:pt x="310" y="377"/>
                    </a:lnTo>
                    <a:lnTo>
                      <a:pt x="355" y="346"/>
                    </a:lnTo>
                    <a:lnTo>
                      <a:pt x="400" y="314"/>
                    </a:lnTo>
                    <a:lnTo>
                      <a:pt x="444" y="282"/>
                    </a:lnTo>
                    <a:lnTo>
                      <a:pt x="487" y="247"/>
                    </a:lnTo>
                    <a:lnTo>
                      <a:pt x="528" y="212"/>
                    </a:lnTo>
                    <a:lnTo>
                      <a:pt x="569" y="177"/>
                    </a:lnTo>
                    <a:lnTo>
                      <a:pt x="609" y="139"/>
                    </a:lnTo>
                    <a:lnTo>
                      <a:pt x="648" y="101"/>
                    </a:lnTo>
                    <a:lnTo>
                      <a:pt x="686" y="62"/>
                    </a:lnTo>
                    <a:lnTo>
                      <a:pt x="723" y="22"/>
                    </a:lnTo>
                    <a:lnTo>
                      <a:pt x="713" y="0"/>
                    </a:lnTo>
                    <a:lnTo>
                      <a:pt x="675" y="41"/>
                    </a:lnTo>
                    <a:lnTo>
                      <a:pt x="637" y="81"/>
                    </a:lnTo>
                    <a:lnTo>
                      <a:pt x="597" y="119"/>
                    </a:lnTo>
                    <a:lnTo>
                      <a:pt x="556" y="157"/>
                    </a:lnTo>
                    <a:lnTo>
                      <a:pt x="515" y="194"/>
                    </a:lnTo>
                    <a:lnTo>
                      <a:pt x="472" y="230"/>
                    </a:lnTo>
                    <a:lnTo>
                      <a:pt x="428" y="264"/>
                    </a:lnTo>
                    <a:lnTo>
                      <a:pt x="384" y="298"/>
                    </a:lnTo>
                    <a:lnTo>
                      <a:pt x="339" y="330"/>
                    </a:lnTo>
                    <a:lnTo>
                      <a:pt x="293" y="361"/>
                    </a:lnTo>
                    <a:lnTo>
                      <a:pt x="246" y="392"/>
                    </a:lnTo>
                    <a:lnTo>
                      <a:pt x="199" y="421"/>
                    </a:lnTo>
                    <a:lnTo>
                      <a:pt x="150" y="449"/>
                    </a:lnTo>
                    <a:lnTo>
                      <a:pt x="101" y="475"/>
                    </a:lnTo>
                    <a:lnTo>
                      <a:pt x="51" y="501"/>
                    </a:lnTo>
                    <a:lnTo>
                      <a:pt x="0" y="525"/>
                    </a:lnTo>
                    <a:lnTo>
                      <a:pt x="1" y="528"/>
                    </a:lnTo>
                    <a:lnTo>
                      <a:pt x="23" y="53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31040" y="4321080"/>
                <a:ext cx="191880" cy="144720"/>
              </a:xfrm>
              <a:custGeom>
                <a:avLst/>
                <a:gdLst/>
                <a:ahLst/>
                <a:rect l="l" t="t" r="r" b="b"/>
                <a:pathLst>
                  <a:path w="725" h="543">
                    <a:moveTo>
                      <a:pt x="17" y="543"/>
                    </a:moveTo>
                    <a:lnTo>
                      <a:pt x="66" y="518"/>
                    </a:lnTo>
                    <a:lnTo>
                      <a:pt x="116" y="494"/>
                    </a:lnTo>
                    <a:lnTo>
                      <a:pt x="165" y="468"/>
                    </a:lnTo>
                    <a:lnTo>
                      <a:pt x="213" y="440"/>
                    </a:lnTo>
                    <a:lnTo>
                      <a:pt x="260" y="411"/>
                    </a:lnTo>
                    <a:lnTo>
                      <a:pt x="307" y="381"/>
                    </a:lnTo>
                    <a:lnTo>
                      <a:pt x="352" y="350"/>
                    </a:lnTo>
                    <a:lnTo>
                      <a:pt x="397" y="318"/>
                    </a:lnTo>
                    <a:lnTo>
                      <a:pt x="442" y="284"/>
                    </a:lnTo>
                    <a:lnTo>
                      <a:pt x="485" y="250"/>
                    </a:lnTo>
                    <a:lnTo>
                      <a:pt x="528" y="214"/>
                    </a:lnTo>
                    <a:lnTo>
                      <a:pt x="569" y="178"/>
                    </a:lnTo>
                    <a:lnTo>
                      <a:pt x="609" y="140"/>
                    </a:lnTo>
                    <a:lnTo>
                      <a:pt x="649" y="102"/>
                    </a:lnTo>
                    <a:lnTo>
                      <a:pt x="687" y="62"/>
                    </a:lnTo>
                    <a:lnTo>
                      <a:pt x="725" y="22"/>
                    </a:lnTo>
                    <a:lnTo>
                      <a:pt x="714" y="0"/>
                    </a:lnTo>
                    <a:lnTo>
                      <a:pt x="676" y="41"/>
                    </a:lnTo>
                    <a:lnTo>
                      <a:pt x="637" y="80"/>
                    </a:lnTo>
                    <a:lnTo>
                      <a:pt x="598" y="120"/>
                    </a:lnTo>
                    <a:lnTo>
                      <a:pt x="558" y="158"/>
                    </a:lnTo>
                    <a:lnTo>
                      <a:pt x="516" y="195"/>
                    </a:lnTo>
                    <a:lnTo>
                      <a:pt x="473" y="230"/>
                    </a:lnTo>
                    <a:lnTo>
                      <a:pt x="429" y="265"/>
                    </a:lnTo>
                    <a:lnTo>
                      <a:pt x="386" y="298"/>
                    </a:lnTo>
                    <a:lnTo>
                      <a:pt x="340" y="331"/>
                    </a:lnTo>
                    <a:lnTo>
                      <a:pt x="293" y="362"/>
                    </a:lnTo>
                    <a:lnTo>
                      <a:pt x="247" y="393"/>
                    </a:lnTo>
                    <a:lnTo>
                      <a:pt x="199" y="422"/>
                    </a:lnTo>
                    <a:lnTo>
                      <a:pt x="150" y="449"/>
                    </a:lnTo>
                    <a:lnTo>
                      <a:pt x="101" y="476"/>
                    </a:lnTo>
                    <a:lnTo>
                      <a:pt x="51" y="501"/>
                    </a:lnTo>
                    <a:lnTo>
                      <a:pt x="0" y="525"/>
                    </a:lnTo>
                    <a:lnTo>
                      <a:pt x="7" y="539"/>
                    </a:lnTo>
                    <a:lnTo>
                      <a:pt x="17" y="543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429240" y="4317840"/>
                <a:ext cx="192240" cy="144720"/>
              </a:xfrm>
              <a:custGeom>
                <a:avLst/>
                <a:gdLst/>
                <a:ahLst/>
                <a:rect l="l" t="t" r="r" b="b"/>
                <a:pathLst>
                  <a:path w="724" h="548">
                    <a:moveTo>
                      <a:pt x="11" y="548"/>
                    </a:moveTo>
                    <a:lnTo>
                      <a:pt x="62" y="524"/>
                    </a:lnTo>
                    <a:lnTo>
                      <a:pt x="112" y="498"/>
                    </a:lnTo>
                    <a:lnTo>
                      <a:pt x="161" y="472"/>
                    </a:lnTo>
                    <a:lnTo>
                      <a:pt x="210" y="444"/>
                    </a:lnTo>
                    <a:lnTo>
                      <a:pt x="257" y="415"/>
                    </a:lnTo>
                    <a:lnTo>
                      <a:pt x="304" y="384"/>
                    </a:lnTo>
                    <a:lnTo>
                      <a:pt x="350" y="353"/>
                    </a:lnTo>
                    <a:lnTo>
                      <a:pt x="395" y="321"/>
                    </a:lnTo>
                    <a:lnTo>
                      <a:pt x="439" y="287"/>
                    </a:lnTo>
                    <a:lnTo>
                      <a:pt x="483" y="253"/>
                    </a:lnTo>
                    <a:lnTo>
                      <a:pt x="526" y="217"/>
                    </a:lnTo>
                    <a:lnTo>
                      <a:pt x="567" y="180"/>
                    </a:lnTo>
                    <a:lnTo>
                      <a:pt x="608" y="142"/>
                    </a:lnTo>
                    <a:lnTo>
                      <a:pt x="648" y="104"/>
                    </a:lnTo>
                    <a:lnTo>
                      <a:pt x="686" y="64"/>
                    </a:lnTo>
                    <a:lnTo>
                      <a:pt x="724" y="23"/>
                    </a:lnTo>
                    <a:lnTo>
                      <a:pt x="714" y="0"/>
                    </a:lnTo>
                    <a:lnTo>
                      <a:pt x="676" y="42"/>
                    </a:lnTo>
                    <a:lnTo>
                      <a:pt x="637" y="82"/>
                    </a:lnTo>
                    <a:lnTo>
                      <a:pt x="597" y="121"/>
                    </a:lnTo>
                    <a:lnTo>
                      <a:pt x="557" y="158"/>
                    </a:lnTo>
                    <a:lnTo>
                      <a:pt x="515" y="196"/>
                    </a:lnTo>
                    <a:lnTo>
                      <a:pt x="473" y="232"/>
                    </a:lnTo>
                    <a:lnTo>
                      <a:pt x="430" y="266"/>
                    </a:lnTo>
                    <a:lnTo>
                      <a:pt x="385" y="300"/>
                    </a:lnTo>
                    <a:lnTo>
                      <a:pt x="340" y="332"/>
                    </a:lnTo>
                    <a:lnTo>
                      <a:pt x="294" y="364"/>
                    </a:lnTo>
                    <a:lnTo>
                      <a:pt x="246" y="394"/>
                    </a:lnTo>
                    <a:lnTo>
                      <a:pt x="199" y="423"/>
                    </a:lnTo>
                    <a:lnTo>
                      <a:pt x="151" y="451"/>
                    </a:lnTo>
                    <a:lnTo>
                      <a:pt x="101" y="477"/>
                    </a:lnTo>
                    <a:lnTo>
                      <a:pt x="50" y="503"/>
                    </a:lnTo>
                    <a:lnTo>
                      <a:pt x="0" y="527"/>
                    </a:lnTo>
                    <a:lnTo>
                      <a:pt x="11" y="548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27800" y="4314960"/>
                <a:ext cx="192240" cy="145800"/>
              </a:xfrm>
              <a:custGeom>
                <a:avLst/>
                <a:gdLst/>
                <a:ahLst/>
                <a:rect l="l" t="t" r="r" b="b"/>
                <a:pathLst>
                  <a:path w="724" h="547">
                    <a:moveTo>
                      <a:pt x="10" y="547"/>
                    </a:moveTo>
                    <a:lnTo>
                      <a:pt x="61" y="523"/>
                    </a:lnTo>
                    <a:lnTo>
                      <a:pt x="111" y="498"/>
                    </a:lnTo>
                    <a:lnTo>
                      <a:pt x="160" y="471"/>
                    </a:lnTo>
                    <a:lnTo>
                      <a:pt x="209" y="444"/>
                    </a:lnTo>
                    <a:lnTo>
                      <a:pt x="257" y="415"/>
                    </a:lnTo>
                    <a:lnTo>
                      <a:pt x="303" y="384"/>
                    </a:lnTo>
                    <a:lnTo>
                      <a:pt x="350" y="353"/>
                    </a:lnTo>
                    <a:lnTo>
                      <a:pt x="396" y="320"/>
                    </a:lnTo>
                    <a:lnTo>
                      <a:pt x="439" y="287"/>
                    </a:lnTo>
                    <a:lnTo>
                      <a:pt x="483" y="252"/>
                    </a:lnTo>
                    <a:lnTo>
                      <a:pt x="526" y="217"/>
                    </a:lnTo>
                    <a:lnTo>
                      <a:pt x="568" y="180"/>
                    </a:lnTo>
                    <a:lnTo>
                      <a:pt x="608" y="142"/>
                    </a:lnTo>
                    <a:lnTo>
                      <a:pt x="647" y="102"/>
                    </a:lnTo>
                    <a:lnTo>
                      <a:pt x="686" y="63"/>
                    </a:lnTo>
                    <a:lnTo>
                      <a:pt x="724" y="22"/>
                    </a:lnTo>
                    <a:lnTo>
                      <a:pt x="713" y="0"/>
                    </a:lnTo>
                    <a:lnTo>
                      <a:pt x="676" y="40"/>
                    </a:lnTo>
                    <a:lnTo>
                      <a:pt x="637" y="81"/>
                    </a:lnTo>
                    <a:lnTo>
                      <a:pt x="598" y="120"/>
                    </a:lnTo>
                    <a:lnTo>
                      <a:pt x="557" y="158"/>
                    </a:lnTo>
                    <a:lnTo>
                      <a:pt x="516" y="195"/>
                    </a:lnTo>
                    <a:lnTo>
                      <a:pt x="473" y="232"/>
                    </a:lnTo>
                    <a:lnTo>
                      <a:pt x="429" y="266"/>
                    </a:lnTo>
                    <a:lnTo>
                      <a:pt x="385" y="300"/>
                    </a:lnTo>
                    <a:lnTo>
                      <a:pt x="340" y="332"/>
                    </a:lnTo>
                    <a:lnTo>
                      <a:pt x="294" y="364"/>
                    </a:lnTo>
                    <a:lnTo>
                      <a:pt x="247" y="394"/>
                    </a:lnTo>
                    <a:lnTo>
                      <a:pt x="200" y="423"/>
                    </a:lnTo>
                    <a:lnTo>
                      <a:pt x="150" y="451"/>
                    </a:lnTo>
                    <a:lnTo>
                      <a:pt x="100" y="477"/>
                    </a:lnTo>
                    <a:lnTo>
                      <a:pt x="51" y="502"/>
                    </a:lnTo>
                    <a:lnTo>
                      <a:pt x="0" y="527"/>
                    </a:lnTo>
                    <a:lnTo>
                      <a:pt x="10" y="547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26360" y="4313160"/>
                <a:ext cx="191880" cy="144720"/>
              </a:xfrm>
              <a:custGeom>
                <a:avLst/>
                <a:gdLst/>
                <a:ahLst/>
                <a:rect l="l" t="t" r="r" b="b"/>
                <a:pathLst>
                  <a:path w="725" h="549">
                    <a:moveTo>
                      <a:pt x="11" y="549"/>
                    </a:moveTo>
                    <a:lnTo>
                      <a:pt x="61" y="525"/>
                    </a:lnTo>
                    <a:lnTo>
                      <a:pt x="112" y="499"/>
                    </a:lnTo>
                    <a:lnTo>
                      <a:pt x="162" y="473"/>
                    </a:lnTo>
                    <a:lnTo>
                      <a:pt x="210" y="445"/>
                    </a:lnTo>
                    <a:lnTo>
                      <a:pt x="257" y="416"/>
                    </a:lnTo>
                    <a:lnTo>
                      <a:pt x="305" y="386"/>
                    </a:lnTo>
                    <a:lnTo>
                      <a:pt x="351" y="354"/>
                    </a:lnTo>
                    <a:lnTo>
                      <a:pt x="396" y="322"/>
                    </a:lnTo>
                    <a:lnTo>
                      <a:pt x="441" y="288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8" y="180"/>
                    </a:lnTo>
                    <a:lnTo>
                      <a:pt x="608" y="143"/>
                    </a:lnTo>
                    <a:lnTo>
                      <a:pt x="648" y="104"/>
                    </a:lnTo>
                    <a:lnTo>
                      <a:pt x="687" y="64"/>
                    </a:lnTo>
                    <a:lnTo>
                      <a:pt x="725" y="22"/>
                    </a:lnTo>
                    <a:lnTo>
                      <a:pt x="714" y="0"/>
                    </a:lnTo>
                    <a:lnTo>
                      <a:pt x="676" y="42"/>
                    </a:lnTo>
                    <a:lnTo>
                      <a:pt x="638" y="82"/>
                    </a:lnTo>
                    <a:lnTo>
                      <a:pt x="599" y="121"/>
                    </a:lnTo>
                    <a:lnTo>
                      <a:pt x="557" y="159"/>
                    </a:lnTo>
                    <a:lnTo>
                      <a:pt x="516" y="196"/>
                    </a:lnTo>
                    <a:lnTo>
                      <a:pt x="474" y="232"/>
                    </a:lnTo>
                    <a:lnTo>
                      <a:pt x="430" y="268"/>
                    </a:lnTo>
                    <a:lnTo>
                      <a:pt x="386" y="301"/>
                    </a:lnTo>
                    <a:lnTo>
                      <a:pt x="341" y="333"/>
                    </a:lnTo>
                    <a:lnTo>
                      <a:pt x="294" y="366"/>
                    </a:lnTo>
                    <a:lnTo>
                      <a:pt x="247" y="396"/>
                    </a:lnTo>
                    <a:lnTo>
                      <a:pt x="200" y="424"/>
                    </a:lnTo>
                    <a:lnTo>
                      <a:pt x="151" y="453"/>
                    </a:lnTo>
                    <a:lnTo>
                      <a:pt x="102" y="480"/>
                    </a:lnTo>
                    <a:lnTo>
                      <a:pt x="51" y="505"/>
                    </a:lnTo>
                    <a:lnTo>
                      <a:pt x="0" y="529"/>
                    </a:lnTo>
                    <a:lnTo>
                      <a:pt x="11" y="54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24560" y="4309920"/>
                <a:ext cx="192240" cy="144720"/>
              </a:xfrm>
              <a:custGeom>
                <a:avLst/>
                <a:gdLst/>
                <a:ahLst/>
                <a:rect l="l" t="t" r="r" b="b"/>
                <a:pathLst>
                  <a:path w="723" h="549">
                    <a:moveTo>
                      <a:pt x="10" y="549"/>
                    </a:moveTo>
                    <a:lnTo>
                      <a:pt x="61" y="524"/>
                    </a:lnTo>
                    <a:lnTo>
                      <a:pt x="110" y="499"/>
                    </a:lnTo>
                    <a:lnTo>
                      <a:pt x="160" y="473"/>
                    </a:lnTo>
                    <a:lnTo>
                      <a:pt x="210" y="445"/>
                    </a:lnTo>
                    <a:lnTo>
                      <a:pt x="257" y="416"/>
                    </a:lnTo>
                    <a:lnTo>
                      <a:pt x="304" y="386"/>
                    </a:lnTo>
                    <a:lnTo>
                      <a:pt x="350" y="354"/>
                    </a:lnTo>
                    <a:lnTo>
                      <a:pt x="395" y="322"/>
                    </a:lnTo>
                    <a:lnTo>
                      <a:pt x="439" y="288"/>
                    </a:lnTo>
                    <a:lnTo>
                      <a:pt x="483" y="254"/>
                    </a:lnTo>
                    <a:lnTo>
                      <a:pt x="526" y="217"/>
                    </a:lnTo>
                    <a:lnTo>
                      <a:pt x="567" y="180"/>
                    </a:lnTo>
                    <a:lnTo>
                      <a:pt x="608" y="142"/>
                    </a:lnTo>
                    <a:lnTo>
                      <a:pt x="647" y="103"/>
                    </a:lnTo>
                    <a:lnTo>
                      <a:pt x="686" y="62"/>
                    </a:lnTo>
                    <a:lnTo>
                      <a:pt x="723" y="22"/>
                    </a:lnTo>
                    <a:lnTo>
                      <a:pt x="716" y="6"/>
                    </a:lnTo>
                    <a:lnTo>
                      <a:pt x="712" y="0"/>
                    </a:lnTo>
                    <a:lnTo>
                      <a:pt x="674" y="40"/>
                    </a:lnTo>
                    <a:lnTo>
                      <a:pt x="636" y="81"/>
                    </a:lnTo>
                    <a:lnTo>
                      <a:pt x="597" y="121"/>
                    </a:lnTo>
                    <a:lnTo>
                      <a:pt x="557" y="159"/>
                    </a:lnTo>
                    <a:lnTo>
                      <a:pt x="515" y="196"/>
                    </a:lnTo>
                    <a:lnTo>
                      <a:pt x="473" y="232"/>
                    </a:lnTo>
                    <a:lnTo>
                      <a:pt x="429" y="267"/>
                    </a:lnTo>
                    <a:lnTo>
                      <a:pt x="385" y="301"/>
                    </a:lnTo>
                    <a:lnTo>
                      <a:pt x="340" y="334"/>
                    </a:lnTo>
                    <a:lnTo>
                      <a:pt x="294" y="365"/>
                    </a:lnTo>
                    <a:lnTo>
                      <a:pt x="246" y="395"/>
                    </a:lnTo>
                    <a:lnTo>
                      <a:pt x="199" y="425"/>
                    </a:lnTo>
                    <a:lnTo>
                      <a:pt x="150" y="453"/>
                    </a:lnTo>
                    <a:lnTo>
                      <a:pt x="100" y="479"/>
                    </a:lnTo>
                    <a:lnTo>
                      <a:pt x="50" y="505"/>
                    </a:lnTo>
                    <a:lnTo>
                      <a:pt x="0" y="529"/>
                    </a:lnTo>
                    <a:lnTo>
                      <a:pt x="10" y="54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23120" y="4307040"/>
                <a:ext cx="191880" cy="145800"/>
              </a:xfrm>
              <a:custGeom>
                <a:avLst/>
                <a:gdLst/>
                <a:ahLst/>
                <a:rect l="l" t="t" r="r" b="b"/>
                <a:pathLst>
                  <a:path w="724" h="551">
                    <a:moveTo>
                      <a:pt x="10" y="551"/>
                    </a:moveTo>
                    <a:lnTo>
                      <a:pt x="61" y="527"/>
                    </a:lnTo>
                    <a:lnTo>
                      <a:pt x="112" y="502"/>
                    </a:lnTo>
                    <a:lnTo>
                      <a:pt x="161" y="475"/>
                    </a:lnTo>
                    <a:lnTo>
                      <a:pt x="210" y="446"/>
                    </a:lnTo>
                    <a:lnTo>
                      <a:pt x="257" y="418"/>
                    </a:lnTo>
                    <a:lnTo>
                      <a:pt x="304" y="388"/>
                    </a:lnTo>
                    <a:lnTo>
                      <a:pt x="351" y="355"/>
                    </a:lnTo>
                    <a:lnTo>
                      <a:pt x="396" y="323"/>
                    </a:lnTo>
                    <a:lnTo>
                      <a:pt x="440" y="290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7" y="181"/>
                    </a:lnTo>
                    <a:lnTo>
                      <a:pt x="609" y="143"/>
                    </a:lnTo>
                    <a:lnTo>
                      <a:pt x="648" y="104"/>
                    </a:lnTo>
                    <a:lnTo>
                      <a:pt x="686" y="64"/>
                    </a:lnTo>
                    <a:lnTo>
                      <a:pt x="724" y="22"/>
                    </a:lnTo>
                    <a:lnTo>
                      <a:pt x="722" y="18"/>
                    </a:lnTo>
                    <a:lnTo>
                      <a:pt x="713" y="0"/>
                    </a:lnTo>
                    <a:lnTo>
                      <a:pt x="675" y="42"/>
                    </a:lnTo>
                    <a:lnTo>
                      <a:pt x="637" y="83"/>
                    </a:lnTo>
                    <a:lnTo>
                      <a:pt x="597" y="123"/>
                    </a:lnTo>
                    <a:lnTo>
                      <a:pt x="557" y="161"/>
                    </a:lnTo>
                    <a:lnTo>
                      <a:pt x="515" y="197"/>
                    </a:lnTo>
                    <a:lnTo>
                      <a:pt x="473" y="234"/>
                    </a:lnTo>
                    <a:lnTo>
                      <a:pt x="430" y="269"/>
                    </a:lnTo>
                    <a:lnTo>
                      <a:pt x="385" y="302"/>
                    </a:lnTo>
                    <a:lnTo>
                      <a:pt x="340" y="336"/>
                    </a:lnTo>
                    <a:lnTo>
                      <a:pt x="294" y="367"/>
                    </a:lnTo>
                    <a:lnTo>
                      <a:pt x="247" y="398"/>
                    </a:lnTo>
                    <a:lnTo>
                      <a:pt x="199" y="427"/>
                    </a:lnTo>
                    <a:lnTo>
                      <a:pt x="151" y="455"/>
                    </a:lnTo>
                    <a:lnTo>
                      <a:pt x="101" y="481"/>
                    </a:lnTo>
                    <a:lnTo>
                      <a:pt x="51" y="506"/>
                    </a:lnTo>
                    <a:lnTo>
                      <a:pt x="0" y="531"/>
                    </a:lnTo>
                    <a:lnTo>
                      <a:pt x="10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423120" y="4303800"/>
                <a:ext cx="190440" cy="145800"/>
              </a:xfrm>
              <a:custGeom>
                <a:avLst/>
                <a:gdLst/>
                <a:ahLst/>
                <a:rect l="l" t="t" r="r" b="b"/>
                <a:pathLst>
                  <a:path w="723" h="551">
                    <a:moveTo>
                      <a:pt x="11" y="551"/>
                    </a:moveTo>
                    <a:lnTo>
                      <a:pt x="61" y="527"/>
                    </a:lnTo>
                    <a:lnTo>
                      <a:pt x="111" y="501"/>
                    </a:lnTo>
                    <a:lnTo>
                      <a:pt x="161" y="475"/>
                    </a:lnTo>
                    <a:lnTo>
                      <a:pt x="210" y="447"/>
                    </a:lnTo>
                    <a:lnTo>
                      <a:pt x="257" y="417"/>
                    </a:lnTo>
                    <a:lnTo>
                      <a:pt x="305" y="387"/>
                    </a:lnTo>
                    <a:lnTo>
                      <a:pt x="351" y="356"/>
                    </a:lnTo>
                    <a:lnTo>
                      <a:pt x="396" y="323"/>
                    </a:lnTo>
                    <a:lnTo>
                      <a:pt x="440" y="289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8" y="181"/>
                    </a:lnTo>
                    <a:lnTo>
                      <a:pt x="608" y="143"/>
                    </a:lnTo>
                    <a:lnTo>
                      <a:pt x="647" y="103"/>
                    </a:lnTo>
                    <a:lnTo>
                      <a:pt x="685" y="62"/>
                    </a:lnTo>
                    <a:lnTo>
                      <a:pt x="723" y="22"/>
                    </a:lnTo>
                    <a:lnTo>
                      <a:pt x="712" y="0"/>
                    </a:lnTo>
                    <a:lnTo>
                      <a:pt x="675" y="42"/>
                    </a:lnTo>
                    <a:lnTo>
                      <a:pt x="636" y="83"/>
                    </a:lnTo>
                    <a:lnTo>
                      <a:pt x="597" y="122"/>
                    </a:lnTo>
                    <a:lnTo>
                      <a:pt x="556" y="160"/>
                    </a:lnTo>
                    <a:lnTo>
                      <a:pt x="515" y="197"/>
                    </a:lnTo>
                    <a:lnTo>
                      <a:pt x="473" y="234"/>
                    </a:lnTo>
                    <a:lnTo>
                      <a:pt x="429" y="269"/>
                    </a:lnTo>
                    <a:lnTo>
                      <a:pt x="386" y="303"/>
                    </a:lnTo>
                    <a:lnTo>
                      <a:pt x="339" y="335"/>
                    </a:lnTo>
                    <a:lnTo>
                      <a:pt x="294" y="368"/>
                    </a:lnTo>
                    <a:lnTo>
                      <a:pt x="247" y="398"/>
                    </a:lnTo>
                    <a:lnTo>
                      <a:pt x="199" y="427"/>
                    </a:lnTo>
                    <a:lnTo>
                      <a:pt x="150" y="455"/>
                    </a:lnTo>
                    <a:lnTo>
                      <a:pt x="101" y="482"/>
                    </a:lnTo>
                    <a:lnTo>
                      <a:pt x="51" y="507"/>
                    </a:lnTo>
                    <a:lnTo>
                      <a:pt x="0" y="530"/>
                    </a:lnTo>
                    <a:lnTo>
                      <a:pt x="11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19880" y="4300560"/>
                <a:ext cx="191880" cy="146160"/>
              </a:xfrm>
              <a:custGeom>
                <a:avLst/>
                <a:gdLst/>
                <a:ahLst/>
                <a:rect l="l" t="t" r="r" b="b"/>
                <a:pathLst>
                  <a:path w="726" h="551">
                    <a:moveTo>
                      <a:pt x="13" y="551"/>
                    </a:moveTo>
                    <a:lnTo>
                      <a:pt x="64" y="526"/>
                    </a:lnTo>
                    <a:lnTo>
                      <a:pt x="114" y="501"/>
                    </a:lnTo>
                    <a:lnTo>
                      <a:pt x="164" y="475"/>
                    </a:lnTo>
                    <a:lnTo>
                      <a:pt x="212" y="447"/>
                    </a:lnTo>
                    <a:lnTo>
                      <a:pt x="260" y="418"/>
                    </a:lnTo>
                    <a:lnTo>
                      <a:pt x="307" y="387"/>
                    </a:lnTo>
                    <a:lnTo>
                      <a:pt x="353" y="356"/>
                    </a:lnTo>
                    <a:lnTo>
                      <a:pt x="398" y="322"/>
                    </a:lnTo>
                    <a:lnTo>
                      <a:pt x="443" y="289"/>
                    </a:lnTo>
                    <a:lnTo>
                      <a:pt x="486" y="254"/>
                    </a:lnTo>
                    <a:lnTo>
                      <a:pt x="528" y="217"/>
                    </a:lnTo>
                    <a:lnTo>
                      <a:pt x="570" y="181"/>
                    </a:lnTo>
                    <a:lnTo>
                      <a:pt x="610" y="143"/>
                    </a:lnTo>
                    <a:lnTo>
                      <a:pt x="650" y="102"/>
                    </a:lnTo>
                    <a:lnTo>
                      <a:pt x="688" y="62"/>
                    </a:lnTo>
                    <a:lnTo>
                      <a:pt x="726" y="20"/>
                    </a:lnTo>
                    <a:lnTo>
                      <a:pt x="714" y="0"/>
                    </a:lnTo>
                    <a:lnTo>
                      <a:pt x="677" y="41"/>
                    </a:lnTo>
                    <a:lnTo>
                      <a:pt x="638" y="83"/>
                    </a:lnTo>
                    <a:lnTo>
                      <a:pt x="599" y="122"/>
                    </a:lnTo>
                    <a:lnTo>
                      <a:pt x="558" y="160"/>
                    </a:lnTo>
                    <a:lnTo>
                      <a:pt x="517" y="198"/>
                    </a:lnTo>
                    <a:lnTo>
                      <a:pt x="474" y="234"/>
                    </a:lnTo>
                    <a:lnTo>
                      <a:pt x="432" y="269"/>
                    </a:lnTo>
                    <a:lnTo>
                      <a:pt x="387" y="303"/>
                    </a:lnTo>
                    <a:lnTo>
                      <a:pt x="342" y="336"/>
                    </a:lnTo>
                    <a:lnTo>
                      <a:pt x="295" y="367"/>
                    </a:lnTo>
                    <a:lnTo>
                      <a:pt x="248" y="398"/>
                    </a:lnTo>
                    <a:lnTo>
                      <a:pt x="201" y="427"/>
                    </a:lnTo>
                    <a:lnTo>
                      <a:pt x="151" y="455"/>
                    </a:lnTo>
                    <a:lnTo>
                      <a:pt x="102" y="483"/>
                    </a:lnTo>
                    <a:lnTo>
                      <a:pt x="52" y="508"/>
                    </a:lnTo>
                    <a:lnTo>
                      <a:pt x="0" y="531"/>
                    </a:lnTo>
                    <a:lnTo>
                      <a:pt x="6" y="538"/>
                    </a:lnTo>
                    <a:lnTo>
                      <a:pt x="13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18440" y="4299120"/>
                <a:ext cx="191880" cy="145800"/>
              </a:xfrm>
              <a:custGeom>
                <a:avLst/>
                <a:gdLst/>
                <a:ahLst/>
                <a:rect l="l" t="t" r="r" b="b"/>
                <a:pathLst>
                  <a:path w="727" h="551">
                    <a:moveTo>
                      <a:pt x="15" y="551"/>
                    </a:moveTo>
                    <a:lnTo>
                      <a:pt x="66" y="528"/>
                    </a:lnTo>
                    <a:lnTo>
                      <a:pt x="116" y="503"/>
                    </a:lnTo>
                    <a:lnTo>
                      <a:pt x="165" y="475"/>
                    </a:lnTo>
                    <a:lnTo>
                      <a:pt x="214" y="448"/>
                    </a:lnTo>
                    <a:lnTo>
                      <a:pt x="262" y="419"/>
                    </a:lnTo>
                    <a:lnTo>
                      <a:pt x="308" y="388"/>
                    </a:lnTo>
                    <a:lnTo>
                      <a:pt x="354" y="356"/>
                    </a:lnTo>
                    <a:lnTo>
                      <a:pt x="401" y="324"/>
                    </a:lnTo>
                    <a:lnTo>
                      <a:pt x="444" y="290"/>
                    </a:lnTo>
                    <a:lnTo>
                      <a:pt x="488" y="255"/>
                    </a:lnTo>
                    <a:lnTo>
                      <a:pt x="530" y="218"/>
                    </a:lnTo>
                    <a:lnTo>
                      <a:pt x="571" y="181"/>
                    </a:lnTo>
                    <a:lnTo>
                      <a:pt x="612" y="143"/>
                    </a:lnTo>
                    <a:lnTo>
                      <a:pt x="651" y="104"/>
                    </a:lnTo>
                    <a:lnTo>
                      <a:pt x="690" y="63"/>
                    </a:lnTo>
                    <a:lnTo>
                      <a:pt x="727" y="21"/>
                    </a:lnTo>
                    <a:lnTo>
                      <a:pt x="715" y="0"/>
                    </a:lnTo>
                    <a:lnTo>
                      <a:pt x="677" y="42"/>
                    </a:lnTo>
                    <a:lnTo>
                      <a:pt x="639" y="83"/>
                    </a:lnTo>
                    <a:lnTo>
                      <a:pt x="600" y="122"/>
                    </a:lnTo>
                    <a:lnTo>
                      <a:pt x="560" y="162"/>
                    </a:lnTo>
                    <a:lnTo>
                      <a:pt x="518" y="199"/>
                    </a:lnTo>
                    <a:lnTo>
                      <a:pt x="475" y="235"/>
                    </a:lnTo>
                    <a:lnTo>
                      <a:pt x="432" y="271"/>
                    </a:lnTo>
                    <a:lnTo>
                      <a:pt x="388" y="305"/>
                    </a:lnTo>
                    <a:lnTo>
                      <a:pt x="342" y="338"/>
                    </a:lnTo>
                    <a:lnTo>
                      <a:pt x="296" y="370"/>
                    </a:lnTo>
                    <a:lnTo>
                      <a:pt x="248" y="400"/>
                    </a:lnTo>
                    <a:lnTo>
                      <a:pt x="200" y="429"/>
                    </a:lnTo>
                    <a:lnTo>
                      <a:pt x="151" y="458"/>
                    </a:lnTo>
                    <a:lnTo>
                      <a:pt x="102" y="484"/>
                    </a:lnTo>
                    <a:lnTo>
                      <a:pt x="51" y="510"/>
                    </a:lnTo>
                    <a:lnTo>
                      <a:pt x="0" y="534"/>
                    </a:lnTo>
                    <a:lnTo>
                      <a:pt x="13" y="549"/>
                    </a:lnTo>
                    <a:lnTo>
                      <a:pt x="15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16640" y="4295880"/>
                <a:ext cx="192240" cy="145800"/>
              </a:xfrm>
              <a:custGeom>
                <a:avLst/>
                <a:gdLst/>
                <a:ahLst/>
                <a:rect l="l" t="t" r="r" b="b"/>
                <a:pathLst>
                  <a:path w="729" h="552">
                    <a:moveTo>
                      <a:pt x="15" y="552"/>
                    </a:moveTo>
                    <a:lnTo>
                      <a:pt x="67" y="529"/>
                    </a:lnTo>
                    <a:lnTo>
                      <a:pt x="117" y="504"/>
                    </a:lnTo>
                    <a:lnTo>
                      <a:pt x="166" y="476"/>
                    </a:lnTo>
                    <a:lnTo>
                      <a:pt x="216" y="448"/>
                    </a:lnTo>
                    <a:lnTo>
                      <a:pt x="263" y="419"/>
                    </a:lnTo>
                    <a:lnTo>
                      <a:pt x="310" y="388"/>
                    </a:lnTo>
                    <a:lnTo>
                      <a:pt x="357" y="357"/>
                    </a:lnTo>
                    <a:lnTo>
                      <a:pt x="402" y="324"/>
                    </a:lnTo>
                    <a:lnTo>
                      <a:pt x="447" y="290"/>
                    </a:lnTo>
                    <a:lnTo>
                      <a:pt x="489" y="255"/>
                    </a:lnTo>
                    <a:lnTo>
                      <a:pt x="532" y="219"/>
                    </a:lnTo>
                    <a:lnTo>
                      <a:pt x="573" y="181"/>
                    </a:lnTo>
                    <a:lnTo>
                      <a:pt x="614" y="143"/>
                    </a:lnTo>
                    <a:lnTo>
                      <a:pt x="653" y="104"/>
                    </a:lnTo>
                    <a:lnTo>
                      <a:pt x="692" y="62"/>
                    </a:lnTo>
                    <a:lnTo>
                      <a:pt x="729" y="21"/>
                    </a:lnTo>
                    <a:lnTo>
                      <a:pt x="718" y="0"/>
                    </a:lnTo>
                    <a:lnTo>
                      <a:pt x="680" y="41"/>
                    </a:lnTo>
                    <a:lnTo>
                      <a:pt x="642" y="83"/>
                    </a:lnTo>
                    <a:lnTo>
                      <a:pt x="602" y="123"/>
                    </a:lnTo>
                    <a:lnTo>
                      <a:pt x="562" y="161"/>
                    </a:lnTo>
                    <a:lnTo>
                      <a:pt x="519" y="199"/>
                    </a:lnTo>
                    <a:lnTo>
                      <a:pt x="477" y="236"/>
                    </a:lnTo>
                    <a:lnTo>
                      <a:pt x="434" y="272"/>
                    </a:lnTo>
                    <a:lnTo>
                      <a:pt x="389" y="305"/>
                    </a:lnTo>
                    <a:lnTo>
                      <a:pt x="343" y="339"/>
                    </a:lnTo>
                    <a:lnTo>
                      <a:pt x="297" y="371"/>
                    </a:lnTo>
                    <a:lnTo>
                      <a:pt x="249" y="401"/>
                    </a:lnTo>
                    <a:lnTo>
                      <a:pt x="201" y="431"/>
                    </a:lnTo>
                    <a:lnTo>
                      <a:pt x="151" y="459"/>
                    </a:lnTo>
                    <a:lnTo>
                      <a:pt x="102" y="485"/>
                    </a:lnTo>
                    <a:lnTo>
                      <a:pt x="51" y="511"/>
                    </a:lnTo>
                    <a:lnTo>
                      <a:pt x="0" y="535"/>
                    </a:lnTo>
                    <a:lnTo>
                      <a:pt x="15" y="55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15200" y="4292640"/>
                <a:ext cx="191880" cy="147600"/>
              </a:xfrm>
              <a:custGeom>
                <a:avLst/>
                <a:gdLst/>
                <a:ahLst/>
                <a:rect l="l" t="t" r="r" b="b"/>
                <a:pathLst>
                  <a:path w="731" h="556">
                    <a:moveTo>
                      <a:pt x="16" y="556"/>
                    </a:moveTo>
                    <a:lnTo>
                      <a:pt x="67" y="532"/>
                    </a:lnTo>
                    <a:lnTo>
                      <a:pt x="118" y="506"/>
                    </a:lnTo>
                    <a:lnTo>
                      <a:pt x="167" y="480"/>
                    </a:lnTo>
                    <a:lnTo>
                      <a:pt x="216" y="451"/>
                    </a:lnTo>
                    <a:lnTo>
                      <a:pt x="264" y="422"/>
                    </a:lnTo>
                    <a:lnTo>
                      <a:pt x="312" y="392"/>
                    </a:lnTo>
                    <a:lnTo>
                      <a:pt x="358" y="360"/>
                    </a:lnTo>
                    <a:lnTo>
                      <a:pt x="404" y="327"/>
                    </a:lnTo>
                    <a:lnTo>
                      <a:pt x="448" y="293"/>
                    </a:lnTo>
                    <a:lnTo>
                      <a:pt x="491" y="257"/>
                    </a:lnTo>
                    <a:lnTo>
                      <a:pt x="534" y="221"/>
                    </a:lnTo>
                    <a:lnTo>
                      <a:pt x="576" y="184"/>
                    </a:lnTo>
                    <a:lnTo>
                      <a:pt x="616" y="144"/>
                    </a:lnTo>
                    <a:lnTo>
                      <a:pt x="655" y="105"/>
                    </a:lnTo>
                    <a:lnTo>
                      <a:pt x="693" y="64"/>
                    </a:lnTo>
                    <a:lnTo>
                      <a:pt x="731" y="22"/>
                    </a:lnTo>
                    <a:lnTo>
                      <a:pt x="720" y="0"/>
                    </a:lnTo>
                    <a:lnTo>
                      <a:pt x="682" y="43"/>
                    </a:lnTo>
                    <a:lnTo>
                      <a:pt x="644" y="85"/>
                    </a:lnTo>
                    <a:lnTo>
                      <a:pt x="603" y="125"/>
                    </a:lnTo>
                    <a:lnTo>
                      <a:pt x="563" y="164"/>
                    </a:lnTo>
                    <a:lnTo>
                      <a:pt x="521" y="202"/>
                    </a:lnTo>
                    <a:lnTo>
                      <a:pt x="479" y="238"/>
                    </a:lnTo>
                    <a:lnTo>
                      <a:pt x="435" y="274"/>
                    </a:lnTo>
                    <a:lnTo>
                      <a:pt x="390" y="308"/>
                    </a:lnTo>
                    <a:lnTo>
                      <a:pt x="344" y="342"/>
                    </a:lnTo>
                    <a:lnTo>
                      <a:pt x="298" y="374"/>
                    </a:lnTo>
                    <a:lnTo>
                      <a:pt x="250" y="404"/>
                    </a:lnTo>
                    <a:lnTo>
                      <a:pt x="202" y="434"/>
                    </a:lnTo>
                    <a:lnTo>
                      <a:pt x="152" y="461"/>
                    </a:lnTo>
                    <a:lnTo>
                      <a:pt x="103" y="489"/>
                    </a:lnTo>
                    <a:lnTo>
                      <a:pt x="51" y="514"/>
                    </a:lnTo>
                    <a:lnTo>
                      <a:pt x="0" y="538"/>
                    </a:lnTo>
                    <a:lnTo>
                      <a:pt x="16" y="556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1960" y="4290840"/>
                <a:ext cx="193680" cy="146160"/>
              </a:xfrm>
              <a:custGeom>
                <a:avLst/>
                <a:gdLst/>
                <a:ahLst/>
                <a:rect l="l" t="t" r="r" b="b"/>
                <a:pathLst>
                  <a:path w="735" h="555">
                    <a:moveTo>
                      <a:pt x="17" y="555"/>
                    </a:moveTo>
                    <a:lnTo>
                      <a:pt x="68" y="531"/>
                    </a:lnTo>
                    <a:lnTo>
                      <a:pt x="119" y="505"/>
                    </a:lnTo>
                    <a:lnTo>
                      <a:pt x="168" y="479"/>
                    </a:lnTo>
                    <a:lnTo>
                      <a:pt x="218" y="451"/>
                    </a:lnTo>
                    <a:lnTo>
                      <a:pt x="266" y="421"/>
                    </a:lnTo>
                    <a:lnTo>
                      <a:pt x="314" y="391"/>
                    </a:lnTo>
                    <a:lnTo>
                      <a:pt x="360" y="359"/>
                    </a:lnTo>
                    <a:lnTo>
                      <a:pt x="406" y="325"/>
                    </a:lnTo>
                    <a:lnTo>
                      <a:pt x="451" y="292"/>
                    </a:lnTo>
                    <a:lnTo>
                      <a:pt x="494" y="256"/>
                    </a:lnTo>
                    <a:lnTo>
                      <a:pt x="536" y="219"/>
                    </a:lnTo>
                    <a:lnTo>
                      <a:pt x="579" y="181"/>
                    </a:lnTo>
                    <a:lnTo>
                      <a:pt x="619" y="143"/>
                    </a:lnTo>
                    <a:lnTo>
                      <a:pt x="659" y="103"/>
                    </a:lnTo>
                    <a:lnTo>
                      <a:pt x="697" y="61"/>
                    </a:lnTo>
                    <a:lnTo>
                      <a:pt x="735" y="20"/>
                    </a:lnTo>
                    <a:lnTo>
                      <a:pt x="727" y="5"/>
                    </a:lnTo>
                    <a:lnTo>
                      <a:pt x="722" y="0"/>
                    </a:lnTo>
                    <a:lnTo>
                      <a:pt x="684" y="42"/>
                    </a:lnTo>
                    <a:lnTo>
                      <a:pt x="646" y="83"/>
                    </a:lnTo>
                    <a:lnTo>
                      <a:pt x="605" y="124"/>
                    </a:lnTo>
                    <a:lnTo>
                      <a:pt x="565" y="163"/>
                    </a:lnTo>
                    <a:lnTo>
                      <a:pt x="524" y="201"/>
                    </a:lnTo>
                    <a:lnTo>
                      <a:pt x="481" y="238"/>
                    </a:lnTo>
                    <a:lnTo>
                      <a:pt x="437" y="273"/>
                    </a:lnTo>
                    <a:lnTo>
                      <a:pt x="392" y="308"/>
                    </a:lnTo>
                    <a:lnTo>
                      <a:pt x="346" y="341"/>
                    </a:lnTo>
                    <a:lnTo>
                      <a:pt x="300" y="373"/>
                    </a:lnTo>
                    <a:lnTo>
                      <a:pt x="251" y="404"/>
                    </a:lnTo>
                    <a:lnTo>
                      <a:pt x="203" y="433"/>
                    </a:lnTo>
                    <a:lnTo>
                      <a:pt x="153" y="461"/>
                    </a:lnTo>
                    <a:lnTo>
                      <a:pt x="104" y="488"/>
                    </a:lnTo>
                    <a:lnTo>
                      <a:pt x="52" y="513"/>
                    </a:lnTo>
                    <a:lnTo>
                      <a:pt x="0" y="537"/>
                    </a:lnTo>
                    <a:lnTo>
                      <a:pt x="1" y="537"/>
                    </a:lnTo>
                    <a:lnTo>
                      <a:pt x="17" y="555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10160" y="4287960"/>
                <a:ext cx="193680" cy="147600"/>
              </a:xfrm>
              <a:custGeom>
                <a:avLst/>
                <a:gdLst/>
                <a:ahLst/>
                <a:rect l="l" t="t" r="r" b="b"/>
                <a:pathLst>
                  <a:path w="737" h="555">
                    <a:moveTo>
                      <a:pt x="17" y="555"/>
                    </a:moveTo>
                    <a:lnTo>
                      <a:pt x="68" y="531"/>
                    </a:lnTo>
                    <a:lnTo>
                      <a:pt x="120" y="506"/>
                    </a:lnTo>
                    <a:lnTo>
                      <a:pt x="169" y="478"/>
                    </a:lnTo>
                    <a:lnTo>
                      <a:pt x="219" y="451"/>
                    </a:lnTo>
                    <a:lnTo>
                      <a:pt x="267" y="421"/>
                    </a:lnTo>
                    <a:lnTo>
                      <a:pt x="315" y="391"/>
                    </a:lnTo>
                    <a:lnTo>
                      <a:pt x="361" y="359"/>
                    </a:lnTo>
                    <a:lnTo>
                      <a:pt x="407" y="325"/>
                    </a:lnTo>
                    <a:lnTo>
                      <a:pt x="452" y="291"/>
                    </a:lnTo>
                    <a:lnTo>
                      <a:pt x="496" y="255"/>
                    </a:lnTo>
                    <a:lnTo>
                      <a:pt x="538" y="219"/>
                    </a:lnTo>
                    <a:lnTo>
                      <a:pt x="580" y="181"/>
                    </a:lnTo>
                    <a:lnTo>
                      <a:pt x="620" y="142"/>
                    </a:lnTo>
                    <a:lnTo>
                      <a:pt x="661" y="102"/>
                    </a:lnTo>
                    <a:lnTo>
                      <a:pt x="699" y="60"/>
                    </a:lnTo>
                    <a:lnTo>
                      <a:pt x="737" y="17"/>
                    </a:lnTo>
                    <a:lnTo>
                      <a:pt x="735" y="14"/>
                    </a:lnTo>
                    <a:lnTo>
                      <a:pt x="722" y="0"/>
                    </a:lnTo>
                    <a:lnTo>
                      <a:pt x="684" y="43"/>
                    </a:lnTo>
                    <a:lnTo>
                      <a:pt x="646" y="84"/>
                    </a:lnTo>
                    <a:lnTo>
                      <a:pt x="605" y="125"/>
                    </a:lnTo>
                    <a:lnTo>
                      <a:pt x="565" y="164"/>
                    </a:lnTo>
                    <a:lnTo>
                      <a:pt x="523" y="202"/>
                    </a:lnTo>
                    <a:lnTo>
                      <a:pt x="481" y="239"/>
                    </a:lnTo>
                    <a:lnTo>
                      <a:pt x="437" y="274"/>
                    </a:lnTo>
                    <a:lnTo>
                      <a:pt x="392" y="309"/>
                    </a:lnTo>
                    <a:lnTo>
                      <a:pt x="346" y="341"/>
                    </a:lnTo>
                    <a:lnTo>
                      <a:pt x="299" y="374"/>
                    </a:lnTo>
                    <a:lnTo>
                      <a:pt x="251" y="405"/>
                    </a:lnTo>
                    <a:lnTo>
                      <a:pt x="203" y="433"/>
                    </a:lnTo>
                    <a:lnTo>
                      <a:pt x="153" y="462"/>
                    </a:lnTo>
                    <a:lnTo>
                      <a:pt x="102" y="489"/>
                    </a:lnTo>
                    <a:lnTo>
                      <a:pt x="52" y="514"/>
                    </a:lnTo>
                    <a:lnTo>
                      <a:pt x="0" y="537"/>
                    </a:lnTo>
                    <a:lnTo>
                      <a:pt x="9" y="546"/>
                    </a:lnTo>
                    <a:lnTo>
                      <a:pt x="17" y="555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07280" y="4286160"/>
                <a:ext cx="195120" cy="146160"/>
              </a:xfrm>
              <a:custGeom>
                <a:avLst/>
                <a:gdLst/>
                <a:ahLst/>
                <a:rect l="l" t="t" r="r" b="b"/>
                <a:pathLst>
                  <a:path w="739" h="554">
                    <a:moveTo>
                      <a:pt x="17" y="554"/>
                    </a:moveTo>
                    <a:lnTo>
                      <a:pt x="69" y="530"/>
                    </a:lnTo>
                    <a:lnTo>
                      <a:pt x="121" y="505"/>
                    </a:lnTo>
                    <a:lnTo>
                      <a:pt x="170" y="478"/>
                    </a:lnTo>
                    <a:lnTo>
                      <a:pt x="220" y="450"/>
                    </a:lnTo>
                    <a:lnTo>
                      <a:pt x="268" y="421"/>
                    </a:lnTo>
                    <a:lnTo>
                      <a:pt x="317" y="390"/>
                    </a:lnTo>
                    <a:lnTo>
                      <a:pt x="363" y="358"/>
                    </a:lnTo>
                    <a:lnTo>
                      <a:pt x="409" y="325"/>
                    </a:lnTo>
                    <a:lnTo>
                      <a:pt x="454" y="290"/>
                    </a:lnTo>
                    <a:lnTo>
                      <a:pt x="498" y="255"/>
                    </a:lnTo>
                    <a:lnTo>
                      <a:pt x="541" y="218"/>
                    </a:lnTo>
                    <a:lnTo>
                      <a:pt x="582" y="180"/>
                    </a:lnTo>
                    <a:lnTo>
                      <a:pt x="622" y="141"/>
                    </a:lnTo>
                    <a:lnTo>
                      <a:pt x="663" y="100"/>
                    </a:lnTo>
                    <a:lnTo>
                      <a:pt x="701" y="59"/>
                    </a:lnTo>
                    <a:lnTo>
                      <a:pt x="739" y="17"/>
                    </a:lnTo>
                    <a:lnTo>
                      <a:pt x="723" y="0"/>
                    </a:lnTo>
                    <a:lnTo>
                      <a:pt x="685" y="43"/>
                    </a:lnTo>
                    <a:lnTo>
                      <a:pt x="647" y="84"/>
                    </a:lnTo>
                    <a:lnTo>
                      <a:pt x="607" y="124"/>
                    </a:lnTo>
                    <a:lnTo>
                      <a:pt x="566" y="164"/>
                    </a:lnTo>
                    <a:lnTo>
                      <a:pt x="524" y="202"/>
                    </a:lnTo>
                    <a:lnTo>
                      <a:pt x="482" y="239"/>
                    </a:lnTo>
                    <a:lnTo>
                      <a:pt x="438" y="274"/>
                    </a:lnTo>
                    <a:lnTo>
                      <a:pt x="393" y="309"/>
                    </a:lnTo>
                    <a:lnTo>
                      <a:pt x="347" y="341"/>
                    </a:lnTo>
                    <a:lnTo>
                      <a:pt x="299" y="373"/>
                    </a:lnTo>
                    <a:lnTo>
                      <a:pt x="252" y="405"/>
                    </a:lnTo>
                    <a:lnTo>
                      <a:pt x="203" y="433"/>
                    </a:lnTo>
                    <a:lnTo>
                      <a:pt x="153" y="461"/>
                    </a:lnTo>
                    <a:lnTo>
                      <a:pt x="103" y="488"/>
                    </a:lnTo>
                    <a:lnTo>
                      <a:pt x="52" y="513"/>
                    </a:lnTo>
                    <a:lnTo>
                      <a:pt x="0" y="537"/>
                    </a:lnTo>
                    <a:lnTo>
                      <a:pt x="17" y="554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05480" y="4282920"/>
                <a:ext cx="195480" cy="147960"/>
              </a:xfrm>
              <a:custGeom>
                <a:avLst/>
                <a:gdLst/>
                <a:ahLst/>
                <a:rect l="l" t="t" r="r" b="b"/>
                <a:pathLst>
                  <a:path w="741" h="553">
                    <a:moveTo>
                      <a:pt x="19" y="553"/>
                    </a:moveTo>
                    <a:lnTo>
                      <a:pt x="71" y="530"/>
                    </a:lnTo>
                    <a:lnTo>
                      <a:pt x="121" y="505"/>
                    </a:lnTo>
                    <a:lnTo>
                      <a:pt x="172" y="478"/>
                    </a:lnTo>
                    <a:lnTo>
                      <a:pt x="222" y="449"/>
                    </a:lnTo>
                    <a:lnTo>
                      <a:pt x="270" y="421"/>
                    </a:lnTo>
                    <a:lnTo>
                      <a:pt x="318" y="390"/>
                    </a:lnTo>
                    <a:lnTo>
                      <a:pt x="365" y="357"/>
                    </a:lnTo>
                    <a:lnTo>
                      <a:pt x="411" y="325"/>
                    </a:lnTo>
                    <a:lnTo>
                      <a:pt x="456" y="290"/>
                    </a:lnTo>
                    <a:lnTo>
                      <a:pt x="500" y="255"/>
                    </a:lnTo>
                    <a:lnTo>
                      <a:pt x="542" y="218"/>
                    </a:lnTo>
                    <a:lnTo>
                      <a:pt x="584" y="180"/>
                    </a:lnTo>
                    <a:lnTo>
                      <a:pt x="624" y="141"/>
                    </a:lnTo>
                    <a:lnTo>
                      <a:pt x="665" y="100"/>
                    </a:lnTo>
                    <a:lnTo>
                      <a:pt x="703" y="59"/>
                    </a:lnTo>
                    <a:lnTo>
                      <a:pt x="741" y="16"/>
                    </a:lnTo>
                    <a:lnTo>
                      <a:pt x="725" y="0"/>
                    </a:lnTo>
                    <a:lnTo>
                      <a:pt x="688" y="43"/>
                    </a:lnTo>
                    <a:lnTo>
                      <a:pt x="649" y="84"/>
                    </a:lnTo>
                    <a:lnTo>
                      <a:pt x="609" y="124"/>
                    </a:lnTo>
                    <a:lnTo>
                      <a:pt x="568" y="164"/>
                    </a:lnTo>
                    <a:lnTo>
                      <a:pt x="526" y="202"/>
                    </a:lnTo>
                    <a:lnTo>
                      <a:pt x="484" y="239"/>
                    </a:lnTo>
                    <a:lnTo>
                      <a:pt x="440" y="274"/>
                    </a:lnTo>
                    <a:lnTo>
                      <a:pt x="395" y="309"/>
                    </a:lnTo>
                    <a:lnTo>
                      <a:pt x="349" y="341"/>
                    </a:lnTo>
                    <a:lnTo>
                      <a:pt x="301" y="373"/>
                    </a:lnTo>
                    <a:lnTo>
                      <a:pt x="253" y="405"/>
                    </a:lnTo>
                    <a:lnTo>
                      <a:pt x="205" y="433"/>
                    </a:lnTo>
                    <a:lnTo>
                      <a:pt x="155" y="461"/>
                    </a:lnTo>
                    <a:lnTo>
                      <a:pt x="104" y="488"/>
                    </a:lnTo>
                    <a:lnTo>
                      <a:pt x="53" y="513"/>
                    </a:lnTo>
                    <a:lnTo>
                      <a:pt x="0" y="536"/>
                    </a:lnTo>
                    <a:lnTo>
                      <a:pt x="19" y="55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02240" y="428148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1" h="553">
                    <a:moveTo>
                      <a:pt x="18" y="553"/>
                    </a:moveTo>
                    <a:lnTo>
                      <a:pt x="70" y="529"/>
                    </a:lnTo>
                    <a:lnTo>
                      <a:pt x="121" y="504"/>
                    </a:lnTo>
                    <a:lnTo>
                      <a:pt x="171" y="477"/>
                    </a:lnTo>
                    <a:lnTo>
                      <a:pt x="221" y="449"/>
                    </a:lnTo>
                    <a:lnTo>
                      <a:pt x="270" y="421"/>
                    </a:lnTo>
                    <a:lnTo>
                      <a:pt x="317" y="389"/>
                    </a:lnTo>
                    <a:lnTo>
                      <a:pt x="365" y="357"/>
                    </a:lnTo>
                    <a:lnTo>
                      <a:pt x="411" y="325"/>
                    </a:lnTo>
                    <a:lnTo>
                      <a:pt x="456" y="290"/>
                    </a:lnTo>
                    <a:lnTo>
                      <a:pt x="500" y="255"/>
                    </a:lnTo>
                    <a:lnTo>
                      <a:pt x="542" y="218"/>
                    </a:lnTo>
                    <a:lnTo>
                      <a:pt x="584" y="180"/>
                    </a:lnTo>
                    <a:lnTo>
                      <a:pt x="625" y="140"/>
                    </a:lnTo>
                    <a:lnTo>
                      <a:pt x="665" y="100"/>
                    </a:lnTo>
                    <a:lnTo>
                      <a:pt x="703" y="59"/>
                    </a:lnTo>
                    <a:lnTo>
                      <a:pt x="741" y="16"/>
                    </a:lnTo>
                    <a:lnTo>
                      <a:pt x="725" y="0"/>
                    </a:lnTo>
                    <a:lnTo>
                      <a:pt x="688" y="43"/>
                    </a:lnTo>
                    <a:lnTo>
                      <a:pt x="649" y="84"/>
                    </a:lnTo>
                    <a:lnTo>
                      <a:pt x="609" y="124"/>
                    </a:lnTo>
                    <a:lnTo>
                      <a:pt x="568" y="164"/>
                    </a:lnTo>
                    <a:lnTo>
                      <a:pt x="526" y="202"/>
                    </a:lnTo>
                    <a:lnTo>
                      <a:pt x="484" y="238"/>
                    </a:lnTo>
                    <a:lnTo>
                      <a:pt x="440" y="274"/>
                    </a:lnTo>
                    <a:lnTo>
                      <a:pt x="395" y="308"/>
                    </a:lnTo>
                    <a:lnTo>
                      <a:pt x="347" y="341"/>
                    </a:lnTo>
                    <a:lnTo>
                      <a:pt x="301" y="373"/>
                    </a:lnTo>
                    <a:lnTo>
                      <a:pt x="253" y="403"/>
                    </a:lnTo>
                    <a:lnTo>
                      <a:pt x="204" y="433"/>
                    </a:lnTo>
                    <a:lnTo>
                      <a:pt x="155" y="461"/>
                    </a:lnTo>
                    <a:lnTo>
                      <a:pt x="104" y="487"/>
                    </a:lnTo>
                    <a:lnTo>
                      <a:pt x="52" y="513"/>
                    </a:lnTo>
                    <a:lnTo>
                      <a:pt x="0" y="536"/>
                    </a:lnTo>
                    <a:lnTo>
                      <a:pt x="18" y="55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00800" y="4280040"/>
                <a:ext cx="195120" cy="145800"/>
              </a:xfrm>
              <a:custGeom>
                <a:avLst/>
                <a:gdLst/>
                <a:ahLst/>
                <a:rect l="l" t="t" r="r" b="b"/>
                <a:pathLst>
                  <a:path w="742" h="552">
                    <a:moveTo>
                      <a:pt x="17" y="552"/>
                    </a:moveTo>
                    <a:lnTo>
                      <a:pt x="70" y="529"/>
                    </a:lnTo>
                    <a:lnTo>
                      <a:pt x="121" y="504"/>
                    </a:lnTo>
                    <a:lnTo>
                      <a:pt x="172" y="477"/>
                    </a:lnTo>
                    <a:lnTo>
                      <a:pt x="222" y="449"/>
                    </a:lnTo>
                    <a:lnTo>
                      <a:pt x="270" y="421"/>
                    </a:lnTo>
                    <a:lnTo>
                      <a:pt x="318" y="389"/>
                    </a:lnTo>
                    <a:lnTo>
                      <a:pt x="366" y="357"/>
                    </a:lnTo>
                    <a:lnTo>
                      <a:pt x="412" y="325"/>
                    </a:lnTo>
                    <a:lnTo>
                      <a:pt x="457" y="290"/>
                    </a:lnTo>
                    <a:lnTo>
                      <a:pt x="501" y="255"/>
                    </a:lnTo>
                    <a:lnTo>
                      <a:pt x="543" y="218"/>
                    </a:lnTo>
                    <a:lnTo>
                      <a:pt x="585" y="180"/>
                    </a:lnTo>
                    <a:lnTo>
                      <a:pt x="626" y="140"/>
                    </a:lnTo>
                    <a:lnTo>
                      <a:pt x="666" y="100"/>
                    </a:lnTo>
                    <a:lnTo>
                      <a:pt x="705" y="59"/>
                    </a:lnTo>
                    <a:lnTo>
                      <a:pt x="742" y="16"/>
                    </a:lnTo>
                    <a:lnTo>
                      <a:pt x="726" y="0"/>
                    </a:lnTo>
                    <a:lnTo>
                      <a:pt x="689" y="42"/>
                    </a:lnTo>
                    <a:lnTo>
                      <a:pt x="649" y="84"/>
                    </a:lnTo>
                    <a:lnTo>
                      <a:pt x="610" y="124"/>
                    </a:lnTo>
                    <a:lnTo>
                      <a:pt x="570" y="163"/>
                    </a:lnTo>
                    <a:lnTo>
                      <a:pt x="527" y="202"/>
                    </a:lnTo>
                    <a:lnTo>
                      <a:pt x="485" y="238"/>
                    </a:lnTo>
                    <a:lnTo>
                      <a:pt x="441" y="274"/>
                    </a:lnTo>
                    <a:lnTo>
                      <a:pt x="395" y="308"/>
                    </a:lnTo>
                    <a:lnTo>
                      <a:pt x="348" y="341"/>
                    </a:lnTo>
                    <a:lnTo>
                      <a:pt x="302" y="373"/>
                    </a:lnTo>
                    <a:lnTo>
                      <a:pt x="254" y="403"/>
                    </a:lnTo>
                    <a:lnTo>
                      <a:pt x="205" y="433"/>
                    </a:lnTo>
                    <a:lnTo>
                      <a:pt x="155" y="461"/>
                    </a:lnTo>
                    <a:lnTo>
                      <a:pt x="104" y="487"/>
                    </a:lnTo>
                    <a:lnTo>
                      <a:pt x="53" y="512"/>
                    </a:lnTo>
                    <a:lnTo>
                      <a:pt x="0" y="536"/>
                    </a:lnTo>
                    <a:lnTo>
                      <a:pt x="17" y="55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97560" y="4276800"/>
                <a:ext cx="196920" cy="145800"/>
              </a:xfrm>
              <a:custGeom>
                <a:avLst/>
                <a:gdLst/>
                <a:ahLst/>
                <a:rect l="l" t="t" r="r" b="b"/>
                <a:pathLst>
                  <a:path w="742" h="552">
                    <a:moveTo>
                      <a:pt x="17" y="552"/>
                    </a:moveTo>
                    <a:lnTo>
                      <a:pt x="69" y="529"/>
                    </a:lnTo>
                    <a:lnTo>
                      <a:pt x="121" y="503"/>
                    </a:lnTo>
                    <a:lnTo>
                      <a:pt x="172" y="477"/>
                    </a:lnTo>
                    <a:lnTo>
                      <a:pt x="221" y="449"/>
                    </a:lnTo>
                    <a:lnTo>
                      <a:pt x="270" y="419"/>
                    </a:lnTo>
                    <a:lnTo>
                      <a:pt x="318" y="389"/>
                    </a:lnTo>
                    <a:lnTo>
                      <a:pt x="364" y="357"/>
                    </a:lnTo>
                    <a:lnTo>
                      <a:pt x="412" y="324"/>
                    </a:lnTo>
                    <a:lnTo>
                      <a:pt x="457" y="290"/>
                    </a:lnTo>
                    <a:lnTo>
                      <a:pt x="501" y="254"/>
                    </a:lnTo>
                    <a:lnTo>
                      <a:pt x="543" y="218"/>
                    </a:lnTo>
                    <a:lnTo>
                      <a:pt x="585" y="180"/>
                    </a:lnTo>
                    <a:lnTo>
                      <a:pt x="626" y="140"/>
                    </a:lnTo>
                    <a:lnTo>
                      <a:pt x="666" y="100"/>
                    </a:lnTo>
                    <a:lnTo>
                      <a:pt x="705" y="59"/>
                    </a:lnTo>
                    <a:lnTo>
                      <a:pt x="742" y="16"/>
                    </a:lnTo>
                    <a:lnTo>
                      <a:pt x="727" y="0"/>
                    </a:lnTo>
                    <a:lnTo>
                      <a:pt x="689" y="42"/>
                    </a:lnTo>
                    <a:lnTo>
                      <a:pt x="651" y="84"/>
                    </a:lnTo>
                    <a:lnTo>
                      <a:pt x="610" y="124"/>
                    </a:lnTo>
                    <a:lnTo>
                      <a:pt x="570" y="163"/>
                    </a:lnTo>
                    <a:lnTo>
                      <a:pt x="527" y="201"/>
                    </a:lnTo>
                    <a:lnTo>
                      <a:pt x="484" y="238"/>
                    </a:lnTo>
                    <a:lnTo>
                      <a:pt x="439" y="274"/>
                    </a:lnTo>
                    <a:lnTo>
                      <a:pt x="394" y="307"/>
                    </a:lnTo>
                    <a:lnTo>
                      <a:pt x="348" y="341"/>
                    </a:lnTo>
                    <a:lnTo>
                      <a:pt x="301" y="373"/>
                    </a:lnTo>
                    <a:lnTo>
                      <a:pt x="254" y="403"/>
                    </a:lnTo>
                    <a:lnTo>
                      <a:pt x="204" y="432"/>
                    </a:lnTo>
                    <a:lnTo>
                      <a:pt x="155" y="461"/>
                    </a:lnTo>
                    <a:lnTo>
                      <a:pt x="104" y="486"/>
                    </a:lnTo>
                    <a:lnTo>
                      <a:pt x="52" y="512"/>
                    </a:lnTo>
                    <a:lnTo>
                      <a:pt x="0" y="535"/>
                    </a:lnTo>
                    <a:lnTo>
                      <a:pt x="17" y="55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96120" y="427500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3" h="554">
                    <a:moveTo>
                      <a:pt x="17" y="554"/>
                    </a:moveTo>
                    <a:lnTo>
                      <a:pt x="70" y="530"/>
                    </a:lnTo>
                    <a:lnTo>
                      <a:pt x="121" y="505"/>
                    </a:lnTo>
                    <a:lnTo>
                      <a:pt x="172" y="479"/>
                    </a:lnTo>
                    <a:lnTo>
                      <a:pt x="222" y="451"/>
                    </a:lnTo>
                    <a:lnTo>
                      <a:pt x="271" y="421"/>
                    </a:lnTo>
                    <a:lnTo>
                      <a:pt x="319" y="391"/>
                    </a:lnTo>
                    <a:lnTo>
                      <a:pt x="365" y="359"/>
                    </a:lnTo>
                    <a:lnTo>
                      <a:pt x="412" y="326"/>
                    </a:lnTo>
                    <a:lnTo>
                      <a:pt x="458" y="292"/>
                    </a:lnTo>
                    <a:lnTo>
                      <a:pt x="502" y="256"/>
                    </a:lnTo>
                    <a:lnTo>
                      <a:pt x="544" y="220"/>
                    </a:lnTo>
                    <a:lnTo>
                      <a:pt x="587" y="181"/>
                    </a:lnTo>
                    <a:lnTo>
                      <a:pt x="627" y="142"/>
                    </a:lnTo>
                    <a:lnTo>
                      <a:pt x="666" y="102"/>
                    </a:lnTo>
                    <a:lnTo>
                      <a:pt x="706" y="60"/>
                    </a:lnTo>
                    <a:lnTo>
                      <a:pt x="743" y="18"/>
                    </a:lnTo>
                    <a:lnTo>
                      <a:pt x="728" y="0"/>
                    </a:lnTo>
                    <a:lnTo>
                      <a:pt x="690" y="44"/>
                    </a:lnTo>
                    <a:lnTo>
                      <a:pt x="651" y="86"/>
                    </a:lnTo>
                    <a:lnTo>
                      <a:pt x="611" y="126"/>
                    </a:lnTo>
                    <a:lnTo>
                      <a:pt x="571" y="165"/>
                    </a:lnTo>
                    <a:lnTo>
                      <a:pt x="528" y="203"/>
                    </a:lnTo>
                    <a:lnTo>
                      <a:pt x="485" y="240"/>
                    </a:lnTo>
                    <a:lnTo>
                      <a:pt x="442" y="276"/>
                    </a:lnTo>
                    <a:lnTo>
                      <a:pt x="395" y="311"/>
                    </a:lnTo>
                    <a:lnTo>
                      <a:pt x="349" y="343"/>
                    </a:lnTo>
                    <a:lnTo>
                      <a:pt x="302" y="375"/>
                    </a:lnTo>
                    <a:lnTo>
                      <a:pt x="254" y="405"/>
                    </a:lnTo>
                    <a:lnTo>
                      <a:pt x="205" y="434"/>
                    </a:lnTo>
                    <a:lnTo>
                      <a:pt x="155" y="463"/>
                    </a:lnTo>
                    <a:lnTo>
                      <a:pt x="104" y="488"/>
                    </a:lnTo>
                    <a:lnTo>
                      <a:pt x="53" y="513"/>
                    </a:lnTo>
                    <a:lnTo>
                      <a:pt x="0" y="537"/>
                    </a:lnTo>
                    <a:lnTo>
                      <a:pt x="17" y="554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392880" y="427356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5" h="553">
                    <a:moveTo>
                      <a:pt x="18" y="553"/>
                    </a:moveTo>
                    <a:lnTo>
                      <a:pt x="70" y="530"/>
                    </a:lnTo>
                    <a:lnTo>
                      <a:pt x="122" y="504"/>
                    </a:lnTo>
                    <a:lnTo>
                      <a:pt x="173" y="479"/>
                    </a:lnTo>
                    <a:lnTo>
                      <a:pt x="222" y="451"/>
                    </a:lnTo>
                    <a:lnTo>
                      <a:pt x="272" y="421"/>
                    </a:lnTo>
                    <a:lnTo>
                      <a:pt x="319" y="391"/>
                    </a:lnTo>
                    <a:lnTo>
                      <a:pt x="366" y="359"/>
                    </a:lnTo>
                    <a:lnTo>
                      <a:pt x="412" y="325"/>
                    </a:lnTo>
                    <a:lnTo>
                      <a:pt x="459" y="292"/>
                    </a:lnTo>
                    <a:lnTo>
                      <a:pt x="502" y="256"/>
                    </a:lnTo>
                    <a:lnTo>
                      <a:pt x="545" y="219"/>
                    </a:lnTo>
                    <a:lnTo>
                      <a:pt x="588" y="181"/>
                    </a:lnTo>
                    <a:lnTo>
                      <a:pt x="628" y="142"/>
                    </a:lnTo>
                    <a:lnTo>
                      <a:pt x="669" y="102"/>
                    </a:lnTo>
                    <a:lnTo>
                      <a:pt x="707" y="60"/>
                    </a:lnTo>
                    <a:lnTo>
                      <a:pt x="745" y="18"/>
                    </a:lnTo>
                    <a:lnTo>
                      <a:pt x="729" y="0"/>
                    </a:lnTo>
                    <a:lnTo>
                      <a:pt x="690" y="43"/>
                    </a:lnTo>
                    <a:lnTo>
                      <a:pt x="652" y="85"/>
                    </a:lnTo>
                    <a:lnTo>
                      <a:pt x="612" y="126"/>
                    </a:lnTo>
                    <a:lnTo>
                      <a:pt x="572" y="165"/>
                    </a:lnTo>
                    <a:lnTo>
                      <a:pt x="529" y="203"/>
                    </a:lnTo>
                    <a:lnTo>
                      <a:pt x="486" y="240"/>
                    </a:lnTo>
                    <a:lnTo>
                      <a:pt x="442" y="276"/>
                    </a:lnTo>
                    <a:lnTo>
                      <a:pt x="396" y="309"/>
                    </a:lnTo>
                    <a:lnTo>
                      <a:pt x="350" y="343"/>
                    </a:lnTo>
                    <a:lnTo>
                      <a:pt x="303" y="375"/>
                    </a:lnTo>
                    <a:lnTo>
                      <a:pt x="254" y="405"/>
                    </a:lnTo>
                    <a:lnTo>
                      <a:pt x="206" y="434"/>
                    </a:lnTo>
                    <a:lnTo>
                      <a:pt x="155" y="462"/>
                    </a:lnTo>
                    <a:lnTo>
                      <a:pt x="105" y="488"/>
                    </a:lnTo>
                    <a:lnTo>
                      <a:pt x="53" y="512"/>
                    </a:lnTo>
                    <a:lnTo>
                      <a:pt x="0" y="535"/>
                    </a:lnTo>
                    <a:lnTo>
                      <a:pt x="18" y="553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91440" y="4270320"/>
                <a:ext cx="196560" cy="146160"/>
              </a:xfrm>
              <a:custGeom>
                <a:avLst/>
                <a:gdLst/>
                <a:ahLst/>
                <a:rect l="l" t="t" r="r" b="b"/>
                <a:pathLst>
                  <a:path w="746" h="554">
                    <a:moveTo>
                      <a:pt x="18" y="554"/>
                    </a:moveTo>
                    <a:lnTo>
                      <a:pt x="70" y="530"/>
                    </a:lnTo>
                    <a:lnTo>
                      <a:pt x="122" y="505"/>
                    </a:lnTo>
                    <a:lnTo>
                      <a:pt x="172" y="479"/>
                    </a:lnTo>
                    <a:lnTo>
                      <a:pt x="223" y="451"/>
                    </a:lnTo>
                    <a:lnTo>
                      <a:pt x="272" y="422"/>
                    </a:lnTo>
                    <a:lnTo>
                      <a:pt x="320" y="392"/>
                    </a:lnTo>
                    <a:lnTo>
                      <a:pt x="367" y="360"/>
                    </a:lnTo>
                    <a:lnTo>
                      <a:pt x="413" y="328"/>
                    </a:lnTo>
                    <a:lnTo>
                      <a:pt x="460" y="293"/>
                    </a:lnTo>
                    <a:lnTo>
                      <a:pt x="503" y="257"/>
                    </a:lnTo>
                    <a:lnTo>
                      <a:pt x="546" y="220"/>
                    </a:lnTo>
                    <a:lnTo>
                      <a:pt x="589" y="182"/>
                    </a:lnTo>
                    <a:lnTo>
                      <a:pt x="629" y="143"/>
                    </a:lnTo>
                    <a:lnTo>
                      <a:pt x="669" y="103"/>
                    </a:lnTo>
                    <a:lnTo>
                      <a:pt x="708" y="60"/>
                    </a:lnTo>
                    <a:lnTo>
                      <a:pt x="746" y="17"/>
                    </a:lnTo>
                    <a:lnTo>
                      <a:pt x="732" y="4"/>
                    </a:lnTo>
                    <a:lnTo>
                      <a:pt x="731" y="0"/>
                    </a:lnTo>
                    <a:lnTo>
                      <a:pt x="693" y="44"/>
                    </a:lnTo>
                    <a:lnTo>
                      <a:pt x="654" y="86"/>
                    </a:lnTo>
                    <a:lnTo>
                      <a:pt x="614" y="126"/>
                    </a:lnTo>
                    <a:lnTo>
                      <a:pt x="573" y="165"/>
                    </a:lnTo>
                    <a:lnTo>
                      <a:pt x="531" y="203"/>
                    </a:lnTo>
                    <a:lnTo>
                      <a:pt x="487" y="240"/>
                    </a:lnTo>
                    <a:lnTo>
                      <a:pt x="443" y="276"/>
                    </a:lnTo>
                    <a:lnTo>
                      <a:pt x="398" y="310"/>
                    </a:lnTo>
                    <a:lnTo>
                      <a:pt x="351" y="344"/>
                    </a:lnTo>
                    <a:lnTo>
                      <a:pt x="304" y="376"/>
                    </a:lnTo>
                    <a:lnTo>
                      <a:pt x="255" y="406"/>
                    </a:lnTo>
                    <a:lnTo>
                      <a:pt x="206" y="435"/>
                    </a:lnTo>
                    <a:lnTo>
                      <a:pt x="156" y="462"/>
                    </a:lnTo>
                    <a:lnTo>
                      <a:pt x="104" y="489"/>
                    </a:lnTo>
                    <a:lnTo>
                      <a:pt x="52" y="513"/>
                    </a:lnTo>
                    <a:lnTo>
                      <a:pt x="0" y="536"/>
                    </a:lnTo>
                    <a:lnTo>
                      <a:pt x="18" y="55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88200" y="4267080"/>
                <a:ext cx="198360" cy="147600"/>
              </a:xfrm>
              <a:custGeom>
                <a:avLst/>
                <a:gdLst/>
                <a:ahLst/>
                <a:rect l="l" t="t" r="r" b="b"/>
                <a:pathLst>
                  <a:path w="747" h="554">
                    <a:moveTo>
                      <a:pt x="18" y="554"/>
                    </a:moveTo>
                    <a:lnTo>
                      <a:pt x="71" y="531"/>
                    </a:lnTo>
                    <a:lnTo>
                      <a:pt x="123" y="507"/>
                    </a:lnTo>
                    <a:lnTo>
                      <a:pt x="173" y="481"/>
                    </a:lnTo>
                    <a:lnTo>
                      <a:pt x="224" y="453"/>
                    </a:lnTo>
                    <a:lnTo>
                      <a:pt x="272" y="424"/>
                    </a:lnTo>
                    <a:lnTo>
                      <a:pt x="321" y="394"/>
                    </a:lnTo>
                    <a:lnTo>
                      <a:pt x="368" y="362"/>
                    </a:lnTo>
                    <a:lnTo>
                      <a:pt x="414" y="328"/>
                    </a:lnTo>
                    <a:lnTo>
                      <a:pt x="460" y="295"/>
                    </a:lnTo>
                    <a:lnTo>
                      <a:pt x="504" y="259"/>
                    </a:lnTo>
                    <a:lnTo>
                      <a:pt x="547" y="222"/>
                    </a:lnTo>
                    <a:lnTo>
                      <a:pt x="590" y="184"/>
                    </a:lnTo>
                    <a:lnTo>
                      <a:pt x="630" y="145"/>
                    </a:lnTo>
                    <a:lnTo>
                      <a:pt x="670" y="104"/>
                    </a:lnTo>
                    <a:lnTo>
                      <a:pt x="708" y="62"/>
                    </a:lnTo>
                    <a:lnTo>
                      <a:pt x="747" y="19"/>
                    </a:lnTo>
                    <a:lnTo>
                      <a:pt x="741" y="14"/>
                    </a:lnTo>
                    <a:lnTo>
                      <a:pt x="734" y="0"/>
                    </a:lnTo>
                    <a:lnTo>
                      <a:pt x="696" y="42"/>
                    </a:lnTo>
                    <a:lnTo>
                      <a:pt x="657" y="85"/>
                    </a:lnTo>
                    <a:lnTo>
                      <a:pt x="617" y="125"/>
                    </a:lnTo>
                    <a:lnTo>
                      <a:pt x="576" y="166"/>
                    </a:lnTo>
                    <a:lnTo>
                      <a:pt x="533" y="204"/>
                    </a:lnTo>
                    <a:lnTo>
                      <a:pt x="490" y="241"/>
                    </a:lnTo>
                    <a:lnTo>
                      <a:pt x="445" y="276"/>
                    </a:lnTo>
                    <a:lnTo>
                      <a:pt x="400" y="311"/>
                    </a:lnTo>
                    <a:lnTo>
                      <a:pt x="353" y="344"/>
                    </a:lnTo>
                    <a:lnTo>
                      <a:pt x="306" y="377"/>
                    </a:lnTo>
                    <a:lnTo>
                      <a:pt x="257" y="407"/>
                    </a:lnTo>
                    <a:lnTo>
                      <a:pt x="208" y="436"/>
                    </a:lnTo>
                    <a:lnTo>
                      <a:pt x="157" y="463"/>
                    </a:lnTo>
                    <a:lnTo>
                      <a:pt x="105" y="490"/>
                    </a:lnTo>
                    <a:lnTo>
                      <a:pt x="53" y="515"/>
                    </a:lnTo>
                    <a:lnTo>
                      <a:pt x="0" y="537"/>
                    </a:lnTo>
                    <a:lnTo>
                      <a:pt x="18" y="55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386400" y="4265640"/>
                <a:ext cx="198720" cy="146160"/>
              </a:xfrm>
              <a:custGeom>
                <a:avLst/>
                <a:gdLst/>
                <a:ahLst/>
                <a:rect l="l" t="t" r="r" b="b"/>
                <a:pathLst>
                  <a:path w="749" h="557">
                    <a:moveTo>
                      <a:pt x="18" y="557"/>
                    </a:moveTo>
                    <a:lnTo>
                      <a:pt x="70" y="534"/>
                    </a:lnTo>
                    <a:lnTo>
                      <a:pt x="122" y="510"/>
                    </a:lnTo>
                    <a:lnTo>
                      <a:pt x="174" y="483"/>
                    </a:lnTo>
                    <a:lnTo>
                      <a:pt x="224" y="456"/>
                    </a:lnTo>
                    <a:lnTo>
                      <a:pt x="273" y="427"/>
                    </a:lnTo>
                    <a:lnTo>
                      <a:pt x="322" y="397"/>
                    </a:lnTo>
                    <a:lnTo>
                      <a:pt x="369" y="365"/>
                    </a:lnTo>
                    <a:lnTo>
                      <a:pt x="416" y="331"/>
                    </a:lnTo>
                    <a:lnTo>
                      <a:pt x="461" y="297"/>
                    </a:lnTo>
                    <a:lnTo>
                      <a:pt x="505" y="261"/>
                    </a:lnTo>
                    <a:lnTo>
                      <a:pt x="549" y="224"/>
                    </a:lnTo>
                    <a:lnTo>
                      <a:pt x="591" y="186"/>
                    </a:lnTo>
                    <a:lnTo>
                      <a:pt x="632" y="147"/>
                    </a:lnTo>
                    <a:lnTo>
                      <a:pt x="672" y="107"/>
                    </a:lnTo>
                    <a:lnTo>
                      <a:pt x="711" y="65"/>
                    </a:lnTo>
                    <a:lnTo>
                      <a:pt x="749" y="21"/>
                    </a:lnTo>
                    <a:lnTo>
                      <a:pt x="737" y="0"/>
                    </a:lnTo>
                    <a:lnTo>
                      <a:pt x="699" y="43"/>
                    </a:lnTo>
                    <a:lnTo>
                      <a:pt x="660" y="86"/>
                    </a:lnTo>
                    <a:lnTo>
                      <a:pt x="621" y="127"/>
                    </a:lnTo>
                    <a:lnTo>
                      <a:pt x="579" y="166"/>
                    </a:lnTo>
                    <a:lnTo>
                      <a:pt x="536" y="206"/>
                    </a:lnTo>
                    <a:lnTo>
                      <a:pt x="493" y="243"/>
                    </a:lnTo>
                    <a:lnTo>
                      <a:pt x="448" y="278"/>
                    </a:lnTo>
                    <a:lnTo>
                      <a:pt x="403" y="313"/>
                    </a:lnTo>
                    <a:lnTo>
                      <a:pt x="355" y="346"/>
                    </a:lnTo>
                    <a:lnTo>
                      <a:pt x="307" y="379"/>
                    </a:lnTo>
                    <a:lnTo>
                      <a:pt x="258" y="410"/>
                    </a:lnTo>
                    <a:lnTo>
                      <a:pt x="209" y="438"/>
                    </a:lnTo>
                    <a:lnTo>
                      <a:pt x="158" y="466"/>
                    </a:lnTo>
                    <a:lnTo>
                      <a:pt x="106" y="493"/>
                    </a:lnTo>
                    <a:lnTo>
                      <a:pt x="53" y="517"/>
                    </a:lnTo>
                    <a:lnTo>
                      <a:pt x="0" y="540"/>
                    </a:lnTo>
                    <a:lnTo>
                      <a:pt x="18" y="55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383160" y="4262400"/>
                <a:ext cx="200160" cy="147600"/>
              </a:xfrm>
              <a:custGeom>
                <a:avLst/>
                <a:gdLst/>
                <a:ahLst/>
                <a:rect l="l" t="t" r="r" b="b"/>
                <a:pathLst>
                  <a:path w="752" h="559">
                    <a:moveTo>
                      <a:pt x="18" y="559"/>
                    </a:moveTo>
                    <a:lnTo>
                      <a:pt x="71" y="537"/>
                    </a:lnTo>
                    <a:lnTo>
                      <a:pt x="123" y="512"/>
                    </a:lnTo>
                    <a:lnTo>
                      <a:pt x="175" y="485"/>
                    </a:lnTo>
                    <a:lnTo>
                      <a:pt x="226" y="458"/>
                    </a:lnTo>
                    <a:lnTo>
                      <a:pt x="275" y="429"/>
                    </a:lnTo>
                    <a:lnTo>
                      <a:pt x="324" y="399"/>
                    </a:lnTo>
                    <a:lnTo>
                      <a:pt x="371" y="366"/>
                    </a:lnTo>
                    <a:lnTo>
                      <a:pt x="418" y="333"/>
                    </a:lnTo>
                    <a:lnTo>
                      <a:pt x="463" y="298"/>
                    </a:lnTo>
                    <a:lnTo>
                      <a:pt x="508" y="263"/>
                    </a:lnTo>
                    <a:lnTo>
                      <a:pt x="551" y="226"/>
                    </a:lnTo>
                    <a:lnTo>
                      <a:pt x="594" y="188"/>
                    </a:lnTo>
                    <a:lnTo>
                      <a:pt x="635" y="147"/>
                    </a:lnTo>
                    <a:lnTo>
                      <a:pt x="675" y="107"/>
                    </a:lnTo>
                    <a:lnTo>
                      <a:pt x="714" y="64"/>
                    </a:lnTo>
                    <a:lnTo>
                      <a:pt x="752" y="22"/>
                    </a:lnTo>
                    <a:lnTo>
                      <a:pt x="740" y="0"/>
                    </a:lnTo>
                    <a:lnTo>
                      <a:pt x="702" y="44"/>
                    </a:lnTo>
                    <a:lnTo>
                      <a:pt x="663" y="86"/>
                    </a:lnTo>
                    <a:lnTo>
                      <a:pt x="623" y="128"/>
                    </a:lnTo>
                    <a:lnTo>
                      <a:pt x="582" y="168"/>
                    </a:lnTo>
                    <a:lnTo>
                      <a:pt x="540" y="206"/>
                    </a:lnTo>
                    <a:lnTo>
                      <a:pt x="496" y="244"/>
                    </a:lnTo>
                    <a:lnTo>
                      <a:pt x="451" y="280"/>
                    </a:lnTo>
                    <a:lnTo>
                      <a:pt x="405" y="315"/>
                    </a:lnTo>
                    <a:lnTo>
                      <a:pt x="357" y="349"/>
                    </a:lnTo>
                    <a:lnTo>
                      <a:pt x="309" y="380"/>
                    </a:lnTo>
                    <a:lnTo>
                      <a:pt x="260" y="411"/>
                    </a:lnTo>
                    <a:lnTo>
                      <a:pt x="210" y="440"/>
                    </a:lnTo>
                    <a:lnTo>
                      <a:pt x="159" y="468"/>
                    </a:lnTo>
                    <a:lnTo>
                      <a:pt x="107" y="494"/>
                    </a:lnTo>
                    <a:lnTo>
                      <a:pt x="54" y="520"/>
                    </a:lnTo>
                    <a:lnTo>
                      <a:pt x="0" y="542"/>
                    </a:lnTo>
                    <a:lnTo>
                      <a:pt x="18" y="55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81720" y="4259160"/>
                <a:ext cx="200160" cy="147600"/>
              </a:xfrm>
              <a:custGeom>
                <a:avLst/>
                <a:gdLst/>
                <a:ahLst/>
                <a:rect l="l" t="t" r="r" b="b"/>
                <a:pathLst>
                  <a:path w="754" h="561">
                    <a:moveTo>
                      <a:pt x="17" y="561"/>
                    </a:moveTo>
                    <a:lnTo>
                      <a:pt x="70" y="538"/>
                    </a:lnTo>
                    <a:lnTo>
                      <a:pt x="123" y="514"/>
                    </a:lnTo>
                    <a:lnTo>
                      <a:pt x="175" y="487"/>
                    </a:lnTo>
                    <a:lnTo>
                      <a:pt x="226" y="459"/>
                    </a:lnTo>
                    <a:lnTo>
                      <a:pt x="275" y="431"/>
                    </a:lnTo>
                    <a:lnTo>
                      <a:pt x="324" y="400"/>
                    </a:lnTo>
                    <a:lnTo>
                      <a:pt x="372" y="367"/>
                    </a:lnTo>
                    <a:lnTo>
                      <a:pt x="420" y="334"/>
                    </a:lnTo>
                    <a:lnTo>
                      <a:pt x="465" y="299"/>
                    </a:lnTo>
                    <a:lnTo>
                      <a:pt x="510" y="264"/>
                    </a:lnTo>
                    <a:lnTo>
                      <a:pt x="553" y="227"/>
                    </a:lnTo>
                    <a:lnTo>
                      <a:pt x="596" y="187"/>
                    </a:lnTo>
                    <a:lnTo>
                      <a:pt x="638" y="148"/>
                    </a:lnTo>
                    <a:lnTo>
                      <a:pt x="677" y="107"/>
                    </a:lnTo>
                    <a:lnTo>
                      <a:pt x="716" y="64"/>
                    </a:lnTo>
                    <a:lnTo>
                      <a:pt x="754" y="21"/>
                    </a:lnTo>
                    <a:lnTo>
                      <a:pt x="743" y="0"/>
                    </a:lnTo>
                    <a:lnTo>
                      <a:pt x="704" y="43"/>
                    </a:lnTo>
                    <a:lnTo>
                      <a:pt x="665" y="86"/>
                    </a:lnTo>
                    <a:lnTo>
                      <a:pt x="625" y="128"/>
                    </a:lnTo>
                    <a:lnTo>
                      <a:pt x="583" y="168"/>
                    </a:lnTo>
                    <a:lnTo>
                      <a:pt x="541" y="207"/>
                    </a:lnTo>
                    <a:lnTo>
                      <a:pt x="497" y="245"/>
                    </a:lnTo>
                    <a:lnTo>
                      <a:pt x="452" y="281"/>
                    </a:lnTo>
                    <a:lnTo>
                      <a:pt x="406" y="317"/>
                    </a:lnTo>
                    <a:lnTo>
                      <a:pt x="358" y="350"/>
                    </a:lnTo>
                    <a:lnTo>
                      <a:pt x="310" y="382"/>
                    </a:lnTo>
                    <a:lnTo>
                      <a:pt x="260" y="413"/>
                    </a:lnTo>
                    <a:lnTo>
                      <a:pt x="211" y="442"/>
                    </a:lnTo>
                    <a:lnTo>
                      <a:pt x="159" y="470"/>
                    </a:lnTo>
                    <a:lnTo>
                      <a:pt x="107" y="496"/>
                    </a:lnTo>
                    <a:lnTo>
                      <a:pt x="54" y="521"/>
                    </a:lnTo>
                    <a:lnTo>
                      <a:pt x="0" y="544"/>
                    </a:lnTo>
                    <a:lnTo>
                      <a:pt x="17" y="561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80280" y="4255920"/>
                <a:ext cx="199800" cy="149400"/>
              </a:xfrm>
              <a:custGeom>
                <a:avLst/>
                <a:gdLst/>
                <a:ahLst/>
                <a:rect l="l" t="t" r="r" b="b"/>
                <a:pathLst>
                  <a:path w="755" h="564">
                    <a:moveTo>
                      <a:pt x="15" y="564"/>
                    </a:moveTo>
                    <a:lnTo>
                      <a:pt x="69" y="542"/>
                    </a:lnTo>
                    <a:lnTo>
                      <a:pt x="122" y="516"/>
                    </a:lnTo>
                    <a:lnTo>
                      <a:pt x="174" y="490"/>
                    </a:lnTo>
                    <a:lnTo>
                      <a:pt x="225" y="462"/>
                    </a:lnTo>
                    <a:lnTo>
                      <a:pt x="275" y="433"/>
                    </a:lnTo>
                    <a:lnTo>
                      <a:pt x="324" y="402"/>
                    </a:lnTo>
                    <a:lnTo>
                      <a:pt x="372" y="371"/>
                    </a:lnTo>
                    <a:lnTo>
                      <a:pt x="420" y="337"/>
                    </a:lnTo>
                    <a:lnTo>
                      <a:pt x="466" y="302"/>
                    </a:lnTo>
                    <a:lnTo>
                      <a:pt x="511" y="266"/>
                    </a:lnTo>
                    <a:lnTo>
                      <a:pt x="555" y="228"/>
                    </a:lnTo>
                    <a:lnTo>
                      <a:pt x="597" y="190"/>
                    </a:lnTo>
                    <a:lnTo>
                      <a:pt x="638" y="150"/>
                    </a:lnTo>
                    <a:lnTo>
                      <a:pt x="678" y="108"/>
                    </a:lnTo>
                    <a:lnTo>
                      <a:pt x="717" y="66"/>
                    </a:lnTo>
                    <a:lnTo>
                      <a:pt x="755" y="22"/>
                    </a:lnTo>
                    <a:lnTo>
                      <a:pt x="744" y="0"/>
                    </a:lnTo>
                    <a:lnTo>
                      <a:pt x="706" y="45"/>
                    </a:lnTo>
                    <a:lnTo>
                      <a:pt x="666" y="88"/>
                    </a:lnTo>
                    <a:lnTo>
                      <a:pt x="626" y="129"/>
                    </a:lnTo>
                    <a:lnTo>
                      <a:pt x="585" y="169"/>
                    </a:lnTo>
                    <a:lnTo>
                      <a:pt x="542" y="209"/>
                    </a:lnTo>
                    <a:lnTo>
                      <a:pt x="498" y="247"/>
                    </a:lnTo>
                    <a:lnTo>
                      <a:pt x="453" y="284"/>
                    </a:lnTo>
                    <a:lnTo>
                      <a:pt x="407" y="318"/>
                    </a:lnTo>
                    <a:lnTo>
                      <a:pt x="360" y="352"/>
                    </a:lnTo>
                    <a:lnTo>
                      <a:pt x="311" y="385"/>
                    </a:lnTo>
                    <a:lnTo>
                      <a:pt x="262" y="415"/>
                    </a:lnTo>
                    <a:lnTo>
                      <a:pt x="211" y="445"/>
                    </a:lnTo>
                    <a:lnTo>
                      <a:pt x="159" y="473"/>
                    </a:lnTo>
                    <a:lnTo>
                      <a:pt x="107" y="499"/>
                    </a:lnTo>
                    <a:lnTo>
                      <a:pt x="54" y="523"/>
                    </a:lnTo>
                    <a:lnTo>
                      <a:pt x="0" y="546"/>
                    </a:lnTo>
                    <a:lnTo>
                      <a:pt x="4" y="554"/>
                    </a:lnTo>
                    <a:lnTo>
                      <a:pt x="15" y="564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378480" y="425304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7" h="566">
                    <a:moveTo>
                      <a:pt x="14" y="566"/>
                    </a:moveTo>
                    <a:lnTo>
                      <a:pt x="68" y="543"/>
                    </a:lnTo>
                    <a:lnTo>
                      <a:pt x="121" y="518"/>
                    </a:lnTo>
                    <a:lnTo>
                      <a:pt x="173" y="492"/>
                    </a:lnTo>
                    <a:lnTo>
                      <a:pt x="225" y="464"/>
                    </a:lnTo>
                    <a:lnTo>
                      <a:pt x="274" y="435"/>
                    </a:lnTo>
                    <a:lnTo>
                      <a:pt x="324" y="404"/>
                    </a:lnTo>
                    <a:lnTo>
                      <a:pt x="372" y="372"/>
                    </a:lnTo>
                    <a:lnTo>
                      <a:pt x="420" y="339"/>
                    </a:lnTo>
                    <a:lnTo>
                      <a:pt x="466" y="303"/>
                    </a:lnTo>
                    <a:lnTo>
                      <a:pt x="511" y="267"/>
                    </a:lnTo>
                    <a:lnTo>
                      <a:pt x="555" y="229"/>
                    </a:lnTo>
                    <a:lnTo>
                      <a:pt x="597" y="190"/>
                    </a:lnTo>
                    <a:lnTo>
                      <a:pt x="639" y="150"/>
                    </a:lnTo>
                    <a:lnTo>
                      <a:pt x="679" y="108"/>
                    </a:lnTo>
                    <a:lnTo>
                      <a:pt x="718" y="65"/>
                    </a:lnTo>
                    <a:lnTo>
                      <a:pt x="757" y="22"/>
                    </a:lnTo>
                    <a:lnTo>
                      <a:pt x="745" y="0"/>
                    </a:lnTo>
                    <a:lnTo>
                      <a:pt x="707" y="43"/>
                    </a:lnTo>
                    <a:lnTo>
                      <a:pt x="668" y="87"/>
                    </a:lnTo>
                    <a:lnTo>
                      <a:pt x="627" y="129"/>
                    </a:lnTo>
                    <a:lnTo>
                      <a:pt x="586" y="169"/>
                    </a:lnTo>
                    <a:lnTo>
                      <a:pt x="543" y="208"/>
                    </a:lnTo>
                    <a:lnTo>
                      <a:pt x="499" y="246"/>
                    </a:lnTo>
                    <a:lnTo>
                      <a:pt x="454" y="283"/>
                    </a:lnTo>
                    <a:lnTo>
                      <a:pt x="408" y="318"/>
                    </a:lnTo>
                    <a:lnTo>
                      <a:pt x="361" y="352"/>
                    </a:lnTo>
                    <a:lnTo>
                      <a:pt x="312" y="385"/>
                    </a:lnTo>
                    <a:lnTo>
                      <a:pt x="263" y="416"/>
                    </a:lnTo>
                    <a:lnTo>
                      <a:pt x="212" y="445"/>
                    </a:lnTo>
                    <a:lnTo>
                      <a:pt x="160" y="472"/>
                    </a:lnTo>
                    <a:lnTo>
                      <a:pt x="108" y="499"/>
                    </a:lnTo>
                    <a:lnTo>
                      <a:pt x="54" y="523"/>
                    </a:lnTo>
                    <a:lnTo>
                      <a:pt x="0" y="546"/>
                    </a:lnTo>
                    <a:lnTo>
                      <a:pt x="11" y="564"/>
                    </a:lnTo>
                    <a:lnTo>
                      <a:pt x="14" y="566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77040" y="4249800"/>
                <a:ext cx="199800" cy="150840"/>
              </a:xfrm>
              <a:custGeom>
                <a:avLst/>
                <a:gdLst/>
                <a:ahLst/>
                <a:rect l="l" t="t" r="r" b="b"/>
                <a:pathLst>
                  <a:path w="757" h="568">
                    <a:moveTo>
                      <a:pt x="13" y="568"/>
                    </a:moveTo>
                    <a:lnTo>
                      <a:pt x="67" y="545"/>
                    </a:lnTo>
                    <a:lnTo>
                      <a:pt x="120" y="521"/>
                    </a:lnTo>
                    <a:lnTo>
                      <a:pt x="172" y="495"/>
                    </a:lnTo>
                    <a:lnTo>
                      <a:pt x="224" y="467"/>
                    </a:lnTo>
                    <a:lnTo>
                      <a:pt x="275" y="437"/>
                    </a:lnTo>
                    <a:lnTo>
                      <a:pt x="324" y="407"/>
                    </a:lnTo>
                    <a:lnTo>
                      <a:pt x="373" y="374"/>
                    </a:lnTo>
                    <a:lnTo>
                      <a:pt x="420" y="340"/>
                    </a:lnTo>
                    <a:lnTo>
                      <a:pt x="466" y="306"/>
                    </a:lnTo>
                    <a:lnTo>
                      <a:pt x="511" y="269"/>
                    </a:lnTo>
                    <a:lnTo>
                      <a:pt x="555" y="231"/>
                    </a:lnTo>
                    <a:lnTo>
                      <a:pt x="598" y="191"/>
                    </a:lnTo>
                    <a:lnTo>
                      <a:pt x="639" y="151"/>
                    </a:lnTo>
                    <a:lnTo>
                      <a:pt x="679" y="110"/>
                    </a:lnTo>
                    <a:lnTo>
                      <a:pt x="719" y="67"/>
                    </a:lnTo>
                    <a:lnTo>
                      <a:pt x="757" y="22"/>
                    </a:lnTo>
                    <a:lnTo>
                      <a:pt x="746" y="2"/>
                    </a:lnTo>
                    <a:lnTo>
                      <a:pt x="745" y="0"/>
                    </a:lnTo>
                    <a:lnTo>
                      <a:pt x="707" y="45"/>
                    </a:lnTo>
                    <a:lnTo>
                      <a:pt x="669" y="88"/>
                    </a:lnTo>
                    <a:lnTo>
                      <a:pt x="629" y="130"/>
                    </a:lnTo>
                    <a:lnTo>
                      <a:pt x="587" y="171"/>
                    </a:lnTo>
                    <a:lnTo>
                      <a:pt x="545" y="210"/>
                    </a:lnTo>
                    <a:lnTo>
                      <a:pt x="500" y="248"/>
                    </a:lnTo>
                    <a:lnTo>
                      <a:pt x="455" y="285"/>
                    </a:lnTo>
                    <a:lnTo>
                      <a:pt x="408" y="321"/>
                    </a:lnTo>
                    <a:lnTo>
                      <a:pt x="361" y="354"/>
                    </a:lnTo>
                    <a:lnTo>
                      <a:pt x="313" y="387"/>
                    </a:lnTo>
                    <a:lnTo>
                      <a:pt x="263" y="417"/>
                    </a:lnTo>
                    <a:lnTo>
                      <a:pt x="212" y="447"/>
                    </a:lnTo>
                    <a:lnTo>
                      <a:pt x="160" y="475"/>
                    </a:lnTo>
                    <a:lnTo>
                      <a:pt x="107" y="502"/>
                    </a:lnTo>
                    <a:lnTo>
                      <a:pt x="54" y="526"/>
                    </a:lnTo>
                    <a:lnTo>
                      <a:pt x="0" y="549"/>
                    </a:lnTo>
                    <a:lnTo>
                      <a:pt x="13" y="56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75240" y="424656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8" h="569">
                    <a:moveTo>
                      <a:pt x="13" y="569"/>
                    </a:moveTo>
                    <a:lnTo>
                      <a:pt x="67" y="546"/>
                    </a:lnTo>
                    <a:lnTo>
                      <a:pt x="121" y="522"/>
                    </a:lnTo>
                    <a:lnTo>
                      <a:pt x="173" y="495"/>
                    </a:lnTo>
                    <a:lnTo>
                      <a:pt x="225" y="468"/>
                    </a:lnTo>
                    <a:lnTo>
                      <a:pt x="276" y="439"/>
                    </a:lnTo>
                    <a:lnTo>
                      <a:pt x="325" y="408"/>
                    </a:lnTo>
                    <a:lnTo>
                      <a:pt x="374" y="375"/>
                    </a:lnTo>
                    <a:lnTo>
                      <a:pt x="421" y="341"/>
                    </a:lnTo>
                    <a:lnTo>
                      <a:pt x="467" y="306"/>
                    </a:lnTo>
                    <a:lnTo>
                      <a:pt x="512" y="269"/>
                    </a:lnTo>
                    <a:lnTo>
                      <a:pt x="556" y="231"/>
                    </a:lnTo>
                    <a:lnTo>
                      <a:pt x="599" y="192"/>
                    </a:lnTo>
                    <a:lnTo>
                      <a:pt x="640" y="152"/>
                    </a:lnTo>
                    <a:lnTo>
                      <a:pt x="681" y="110"/>
                    </a:lnTo>
                    <a:lnTo>
                      <a:pt x="720" y="66"/>
                    </a:lnTo>
                    <a:lnTo>
                      <a:pt x="758" y="23"/>
                    </a:lnTo>
                    <a:lnTo>
                      <a:pt x="753" y="13"/>
                    </a:lnTo>
                    <a:lnTo>
                      <a:pt x="746" y="0"/>
                    </a:lnTo>
                    <a:lnTo>
                      <a:pt x="710" y="45"/>
                    </a:lnTo>
                    <a:lnTo>
                      <a:pt x="670" y="88"/>
                    </a:lnTo>
                    <a:lnTo>
                      <a:pt x="630" y="130"/>
                    </a:lnTo>
                    <a:lnTo>
                      <a:pt x="588" y="171"/>
                    </a:lnTo>
                    <a:lnTo>
                      <a:pt x="546" y="211"/>
                    </a:lnTo>
                    <a:lnTo>
                      <a:pt x="502" y="249"/>
                    </a:lnTo>
                    <a:lnTo>
                      <a:pt x="457" y="285"/>
                    </a:lnTo>
                    <a:lnTo>
                      <a:pt x="410" y="321"/>
                    </a:lnTo>
                    <a:lnTo>
                      <a:pt x="362" y="356"/>
                    </a:lnTo>
                    <a:lnTo>
                      <a:pt x="314" y="388"/>
                    </a:lnTo>
                    <a:lnTo>
                      <a:pt x="264" y="419"/>
                    </a:lnTo>
                    <a:lnTo>
                      <a:pt x="214" y="448"/>
                    </a:lnTo>
                    <a:lnTo>
                      <a:pt x="162" y="476"/>
                    </a:lnTo>
                    <a:lnTo>
                      <a:pt x="109" y="502"/>
                    </a:lnTo>
                    <a:lnTo>
                      <a:pt x="56" y="528"/>
                    </a:lnTo>
                    <a:lnTo>
                      <a:pt x="0" y="549"/>
                    </a:lnTo>
                    <a:lnTo>
                      <a:pt x="13" y="56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73800" y="424512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8" h="571">
                    <a:moveTo>
                      <a:pt x="13" y="571"/>
                    </a:moveTo>
                    <a:lnTo>
                      <a:pt x="67" y="548"/>
                    </a:lnTo>
                    <a:lnTo>
                      <a:pt x="120" y="524"/>
                    </a:lnTo>
                    <a:lnTo>
                      <a:pt x="173" y="497"/>
                    </a:lnTo>
                    <a:lnTo>
                      <a:pt x="225" y="469"/>
                    </a:lnTo>
                    <a:lnTo>
                      <a:pt x="276" y="439"/>
                    </a:lnTo>
                    <a:lnTo>
                      <a:pt x="326" y="409"/>
                    </a:lnTo>
                    <a:lnTo>
                      <a:pt x="374" y="376"/>
                    </a:lnTo>
                    <a:lnTo>
                      <a:pt x="421" y="343"/>
                    </a:lnTo>
                    <a:lnTo>
                      <a:pt x="468" y="307"/>
                    </a:lnTo>
                    <a:lnTo>
                      <a:pt x="513" y="270"/>
                    </a:lnTo>
                    <a:lnTo>
                      <a:pt x="558" y="232"/>
                    </a:lnTo>
                    <a:lnTo>
                      <a:pt x="600" y="193"/>
                    </a:lnTo>
                    <a:lnTo>
                      <a:pt x="642" y="152"/>
                    </a:lnTo>
                    <a:lnTo>
                      <a:pt x="682" y="110"/>
                    </a:lnTo>
                    <a:lnTo>
                      <a:pt x="720" y="67"/>
                    </a:lnTo>
                    <a:lnTo>
                      <a:pt x="758" y="22"/>
                    </a:lnTo>
                    <a:lnTo>
                      <a:pt x="748" y="0"/>
                    </a:lnTo>
                    <a:lnTo>
                      <a:pt x="710" y="45"/>
                    </a:lnTo>
                    <a:lnTo>
                      <a:pt x="671" y="88"/>
                    </a:lnTo>
                    <a:lnTo>
                      <a:pt x="630" y="130"/>
                    </a:lnTo>
                    <a:lnTo>
                      <a:pt x="589" y="172"/>
                    </a:lnTo>
                    <a:lnTo>
                      <a:pt x="546" y="211"/>
                    </a:lnTo>
                    <a:lnTo>
                      <a:pt x="502" y="249"/>
                    </a:lnTo>
                    <a:lnTo>
                      <a:pt x="457" y="287"/>
                    </a:lnTo>
                    <a:lnTo>
                      <a:pt x="411" y="322"/>
                    </a:lnTo>
                    <a:lnTo>
                      <a:pt x="363" y="356"/>
                    </a:lnTo>
                    <a:lnTo>
                      <a:pt x="314" y="389"/>
                    </a:lnTo>
                    <a:lnTo>
                      <a:pt x="265" y="420"/>
                    </a:lnTo>
                    <a:lnTo>
                      <a:pt x="214" y="450"/>
                    </a:lnTo>
                    <a:lnTo>
                      <a:pt x="162" y="477"/>
                    </a:lnTo>
                    <a:lnTo>
                      <a:pt x="109" y="504"/>
                    </a:lnTo>
                    <a:lnTo>
                      <a:pt x="55" y="528"/>
                    </a:lnTo>
                    <a:lnTo>
                      <a:pt x="0" y="551"/>
                    </a:lnTo>
                    <a:lnTo>
                      <a:pt x="13" y="571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72360" y="4241880"/>
                <a:ext cx="199800" cy="150840"/>
              </a:xfrm>
              <a:custGeom>
                <a:avLst/>
                <a:gdLst/>
                <a:ahLst/>
                <a:rect l="l" t="t" r="r" b="b"/>
                <a:pathLst>
                  <a:path w="757" h="571">
                    <a:moveTo>
                      <a:pt x="11" y="571"/>
                    </a:moveTo>
                    <a:lnTo>
                      <a:pt x="67" y="550"/>
                    </a:lnTo>
                    <a:lnTo>
                      <a:pt x="120" y="524"/>
                    </a:lnTo>
                    <a:lnTo>
                      <a:pt x="173" y="498"/>
                    </a:lnTo>
                    <a:lnTo>
                      <a:pt x="225" y="470"/>
                    </a:lnTo>
                    <a:lnTo>
                      <a:pt x="275" y="441"/>
                    </a:lnTo>
                    <a:lnTo>
                      <a:pt x="325" y="410"/>
                    </a:lnTo>
                    <a:lnTo>
                      <a:pt x="373" y="378"/>
                    </a:lnTo>
                    <a:lnTo>
                      <a:pt x="421" y="343"/>
                    </a:lnTo>
                    <a:lnTo>
                      <a:pt x="468" y="307"/>
                    </a:lnTo>
                    <a:lnTo>
                      <a:pt x="513" y="271"/>
                    </a:lnTo>
                    <a:lnTo>
                      <a:pt x="557" y="233"/>
                    </a:lnTo>
                    <a:lnTo>
                      <a:pt x="599" y="193"/>
                    </a:lnTo>
                    <a:lnTo>
                      <a:pt x="641" y="152"/>
                    </a:lnTo>
                    <a:lnTo>
                      <a:pt x="681" y="110"/>
                    </a:lnTo>
                    <a:lnTo>
                      <a:pt x="721" y="67"/>
                    </a:lnTo>
                    <a:lnTo>
                      <a:pt x="757" y="22"/>
                    </a:lnTo>
                    <a:lnTo>
                      <a:pt x="747" y="0"/>
                    </a:lnTo>
                    <a:lnTo>
                      <a:pt x="709" y="45"/>
                    </a:lnTo>
                    <a:lnTo>
                      <a:pt x="671" y="88"/>
                    </a:lnTo>
                    <a:lnTo>
                      <a:pt x="631" y="131"/>
                    </a:lnTo>
                    <a:lnTo>
                      <a:pt x="589" y="173"/>
                    </a:lnTo>
                    <a:lnTo>
                      <a:pt x="546" y="212"/>
                    </a:lnTo>
                    <a:lnTo>
                      <a:pt x="503" y="251"/>
                    </a:lnTo>
                    <a:lnTo>
                      <a:pt x="456" y="288"/>
                    </a:lnTo>
                    <a:lnTo>
                      <a:pt x="410" y="324"/>
                    </a:lnTo>
                    <a:lnTo>
                      <a:pt x="363" y="357"/>
                    </a:lnTo>
                    <a:lnTo>
                      <a:pt x="313" y="390"/>
                    </a:lnTo>
                    <a:lnTo>
                      <a:pt x="264" y="422"/>
                    </a:lnTo>
                    <a:lnTo>
                      <a:pt x="213" y="450"/>
                    </a:lnTo>
                    <a:lnTo>
                      <a:pt x="161" y="479"/>
                    </a:lnTo>
                    <a:lnTo>
                      <a:pt x="108" y="506"/>
                    </a:lnTo>
                    <a:lnTo>
                      <a:pt x="54" y="530"/>
                    </a:lnTo>
                    <a:lnTo>
                      <a:pt x="0" y="553"/>
                    </a:lnTo>
                    <a:lnTo>
                      <a:pt x="11" y="571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69120" y="423864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0" h="574">
                    <a:moveTo>
                      <a:pt x="12" y="574"/>
                    </a:moveTo>
                    <a:lnTo>
                      <a:pt x="67" y="551"/>
                    </a:lnTo>
                    <a:lnTo>
                      <a:pt x="121" y="527"/>
                    </a:lnTo>
                    <a:lnTo>
                      <a:pt x="174" y="500"/>
                    </a:lnTo>
                    <a:lnTo>
                      <a:pt x="226" y="473"/>
                    </a:lnTo>
                    <a:lnTo>
                      <a:pt x="277" y="443"/>
                    </a:lnTo>
                    <a:lnTo>
                      <a:pt x="326" y="412"/>
                    </a:lnTo>
                    <a:lnTo>
                      <a:pt x="375" y="379"/>
                    </a:lnTo>
                    <a:lnTo>
                      <a:pt x="423" y="345"/>
                    </a:lnTo>
                    <a:lnTo>
                      <a:pt x="469" y="310"/>
                    </a:lnTo>
                    <a:lnTo>
                      <a:pt x="514" y="273"/>
                    </a:lnTo>
                    <a:lnTo>
                      <a:pt x="558" y="234"/>
                    </a:lnTo>
                    <a:lnTo>
                      <a:pt x="601" y="195"/>
                    </a:lnTo>
                    <a:lnTo>
                      <a:pt x="643" y="153"/>
                    </a:lnTo>
                    <a:lnTo>
                      <a:pt x="683" y="111"/>
                    </a:lnTo>
                    <a:lnTo>
                      <a:pt x="722" y="68"/>
                    </a:lnTo>
                    <a:lnTo>
                      <a:pt x="760" y="23"/>
                    </a:lnTo>
                    <a:lnTo>
                      <a:pt x="748" y="0"/>
                    </a:lnTo>
                    <a:lnTo>
                      <a:pt x="711" y="45"/>
                    </a:lnTo>
                    <a:lnTo>
                      <a:pt x="672" y="89"/>
                    </a:lnTo>
                    <a:lnTo>
                      <a:pt x="632" y="132"/>
                    </a:lnTo>
                    <a:lnTo>
                      <a:pt x="590" y="173"/>
                    </a:lnTo>
                    <a:lnTo>
                      <a:pt x="548" y="213"/>
                    </a:lnTo>
                    <a:lnTo>
                      <a:pt x="504" y="253"/>
                    </a:lnTo>
                    <a:lnTo>
                      <a:pt x="459" y="290"/>
                    </a:lnTo>
                    <a:lnTo>
                      <a:pt x="412" y="325"/>
                    </a:lnTo>
                    <a:lnTo>
                      <a:pt x="364" y="360"/>
                    </a:lnTo>
                    <a:lnTo>
                      <a:pt x="315" y="392"/>
                    </a:lnTo>
                    <a:lnTo>
                      <a:pt x="265" y="423"/>
                    </a:lnTo>
                    <a:lnTo>
                      <a:pt x="214" y="453"/>
                    </a:lnTo>
                    <a:lnTo>
                      <a:pt x="162" y="481"/>
                    </a:lnTo>
                    <a:lnTo>
                      <a:pt x="109" y="507"/>
                    </a:lnTo>
                    <a:lnTo>
                      <a:pt x="55" y="533"/>
                    </a:lnTo>
                    <a:lnTo>
                      <a:pt x="0" y="555"/>
                    </a:lnTo>
                    <a:lnTo>
                      <a:pt x="12" y="574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67320" y="423540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0" h="576">
                    <a:moveTo>
                      <a:pt x="13" y="576"/>
                    </a:moveTo>
                    <a:lnTo>
                      <a:pt x="67" y="553"/>
                    </a:lnTo>
                    <a:lnTo>
                      <a:pt x="121" y="528"/>
                    </a:lnTo>
                    <a:lnTo>
                      <a:pt x="174" y="502"/>
                    </a:lnTo>
                    <a:lnTo>
                      <a:pt x="226" y="473"/>
                    </a:lnTo>
                    <a:lnTo>
                      <a:pt x="277" y="445"/>
                    </a:lnTo>
                    <a:lnTo>
                      <a:pt x="326" y="413"/>
                    </a:lnTo>
                    <a:lnTo>
                      <a:pt x="376" y="380"/>
                    </a:lnTo>
                    <a:lnTo>
                      <a:pt x="423" y="347"/>
                    </a:lnTo>
                    <a:lnTo>
                      <a:pt x="469" y="311"/>
                    </a:lnTo>
                    <a:lnTo>
                      <a:pt x="514" y="274"/>
                    </a:lnTo>
                    <a:lnTo>
                      <a:pt x="559" y="235"/>
                    </a:lnTo>
                    <a:lnTo>
                      <a:pt x="602" y="194"/>
                    </a:lnTo>
                    <a:lnTo>
                      <a:pt x="644" y="154"/>
                    </a:lnTo>
                    <a:lnTo>
                      <a:pt x="684" y="111"/>
                    </a:lnTo>
                    <a:lnTo>
                      <a:pt x="722" y="68"/>
                    </a:lnTo>
                    <a:lnTo>
                      <a:pt x="760" y="23"/>
                    </a:lnTo>
                    <a:lnTo>
                      <a:pt x="750" y="0"/>
                    </a:lnTo>
                    <a:lnTo>
                      <a:pt x="712" y="45"/>
                    </a:lnTo>
                    <a:lnTo>
                      <a:pt x="672" y="90"/>
                    </a:lnTo>
                    <a:lnTo>
                      <a:pt x="633" y="132"/>
                    </a:lnTo>
                    <a:lnTo>
                      <a:pt x="592" y="174"/>
                    </a:lnTo>
                    <a:lnTo>
                      <a:pt x="548" y="214"/>
                    </a:lnTo>
                    <a:lnTo>
                      <a:pt x="504" y="253"/>
                    </a:lnTo>
                    <a:lnTo>
                      <a:pt x="459" y="290"/>
                    </a:lnTo>
                    <a:lnTo>
                      <a:pt x="412" y="326"/>
                    </a:lnTo>
                    <a:lnTo>
                      <a:pt x="364" y="360"/>
                    </a:lnTo>
                    <a:lnTo>
                      <a:pt x="316" y="394"/>
                    </a:lnTo>
                    <a:lnTo>
                      <a:pt x="265" y="425"/>
                    </a:lnTo>
                    <a:lnTo>
                      <a:pt x="215" y="454"/>
                    </a:lnTo>
                    <a:lnTo>
                      <a:pt x="163" y="483"/>
                    </a:lnTo>
                    <a:lnTo>
                      <a:pt x="108" y="509"/>
                    </a:lnTo>
                    <a:lnTo>
                      <a:pt x="54" y="533"/>
                    </a:lnTo>
                    <a:lnTo>
                      <a:pt x="0" y="556"/>
                    </a:lnTo>
                    <a:lnTo>
                      <a:pt x="13" y="576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65880" y="423216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1" h="578">
                    <a:moveTo>
                      <a:pt x="13" y="578"/>
                    </a:moveTo>
                    <a:lnTo>
                      <a:pt x="68" y="556"/>
                    </a:lnTo>
                    <a:lnTo>
                      <a:pt x="122" y="530"/>
                    </a:lnTo>
                    <a:lnTo>
                      <a:pt x="175" y="504"/>
                    </a:lnTo>
                    <a:lnTo>
                      <a:pt x="227" y="476"/>
                    </a:lnTo>
                    <a:lnTo>
                      <a:pt x="278" y="446"/>
                    </a:lnTo>
                    <a:lnTo>
                      <a:pt x="328" y="415"/>
                    </a:lnTo>
                    <a:lnTo>
                      <a:pt x="377" y="383"/>
                    </a:lnTo>
                    <a:lnTo>
                      <a:pt x="425" y="348"/>
                    </a:lnTo>
                    <a:lnTo>
                      <a:pt x="472" y="313"/>
                    </a:lnTo>
                    <a:lnTo>
                      <a:pt x="517" y="276"/>
                    </a:lnTo>
                    <a:lnTo>
                      <a:pt x="561" y="236"/>
                    </a:lnTo>
                    <a:lnTo>
                      <a:pt x="603" y="196"/>
                    </a:lnTo>
                    <a:lnTo>
                      <a:pt x="645" y="155"/>
                    </a:lnTo>
                    <a:lnTo>
                      <a:pt x="685" y="112"/>
                    </a:lnTo>
                    <a:lnTo>
                      <a:pt x="724" y="68"/>
                    </a:lnTo>
                    <a:lnTo>
                      <a:pt x="761" y="23"/>
                    </a:lnTo>
                    <a:lnTo>
                      <a:pt x="751" y="0"/>
                    </a:lnTo>
                    <a:lnTo>
                      <a:pt x="713" y="46"/>
                    </a:lnTo>
                    <a:lnTo>
                      <a:pt x="675" y="90"/>
                    </a:lnTo>
                    <a:lnTo>
                      <a:pt x="634" y="134"/>
                    </a:lnTo>
                    <a:lnTo>
                      <a:pt x="593" y="175"/>
                    </a:lnTo>
                    <a:lnTo>
                      <a:pt x="550" y="216"/>
                    </a:lnTo>
                    <a:lnTo>
                      <a:pt x="506" y="255"/>
                    </a:lnTo>
                    <a:lnTo>
                      <a:pt x="460" y="292"/>
                    </a:lnTo>
                    <a:lnTo>
                      <a:pt x="414" y="327"/>
                    </a:lnTo>
                    <a:lnTo>
                      <a:pt x="366" y="362"/>
                    </a:lnTo>
                    <a:lnTo>
                      <a:pt x="317" y="396"/>
                    </a:lnTo>
                    <a:lnTo>
                      <a:pt x="266" y="427"/>
                    </a:lnTo>
                    <a:lnTo>
                      <a:pt x="216" y="457"/>
                    </a:lnTo>
                    <a:lnTo>
                      <a:pt x="164" y="484"/>
                    </a:lnTo>
                    <a:lnTo>
                      <a:pt x="110" y="511"/>
                    </a:lnTo>
                    <a:lnTo>
                      <a:pt x="55" y="536"/>
                    </a:lnTo>
                    <a:lnTo>
                      <a:pt x="0" y="558"/>
                    </a:lnTo>
                    <a:lnTo>
                      <a:pt x="13" y="578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64440" y="422928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3" h="579">
                    <a:moveTo>
                      <a:pt x="13" y="579"/>
                    </a:moveTo>
                    <a:lnTo>
                      <a:pt x="67" y="556"/>
                    </a:lnTo>
                    <a:lnTo>
                      <a:pt x="121" y="532"/>
                    </a:lnTo>
                    <a:lnTo>
                      <a:pt x="176" y="506"/>
                    </a:lnTo>
                    <a:lnTo>
                      <a:pt x="228" y="477"/>
                    </a:lnTo>
                    <a:lnTo>
                      <a:pt x="278" y="448"/>
                    </a:lnTo>
                    <a:lnTo>
                      <a:pt x="329" y="417"/>
                    </a:lnTo>
                    <a:lnTo>
                      <a:pt x="377" y="383"/>
                    </a:lnTo>
                    <a:lnTo>
                      <a:pt x="425" y="349"/>
                    </a:lnTo>
                    <a:lnTo>
                      <a:pt x="472" y="313"/>
                    </a:lnTo>
                    <a:lnTo>
                      <a:pt x="517" y="276"/>
                    </a:lnTo>
                    <a:lnTo>
                      <a:pt x="561" y="237"/>
                    </a:lnTo>
                    <a:lnTo>
                      <a:pt x="605" y="197"/>
                    </a:lnTo>
                    <a:lnTo>
                      <a:pt x="646" y="155"/>
                    </a:lnTo>
                    <a:lnTo>
                      <a:pt x="685" y="113"/>
                    </a:lnTo>
                    <a:lnTo>
                      <a:pt x="725" y="68"/>
                    </a:lnTo>
                    <a:lnTo>
                      <a:pt x="763" y="23"/>
                    </a:lnTo>
                    <a:lnTo>
                      <a:pt x="753" y="4"/>
                    </a:lnTo>
                    <a:lnTo>
                      <a:pt x="751" y="0"/>
                    </a:lnTo>
                    <a:lnTo>
                      <a:pt x="714" y="46"/>
                    </a:lnTo>
                    <a:lnTo>
                      <a:pt x="675" y="91"/>
                    </a:lnTo>
                    <a:lnTo>
                      <a:pt x="635" y="133"/>
                    </a:lnTo>
                    <a:lnTo>
                      <a:pt x="593" y="176"/>
                    </a:lnTo>
                    <a:lnTo>
                      <a:pt x="550" y="216"/>
                    </a:lnTo>
                    <a:lnTo>
                      <a:pt x="507" y="255"/>
                    </a:lnTo>
                    <a:lnTo>
                      <a:pt x="460" y="292"/>
                    </a:lnTo>
                    <a:lnTo>
                      <a:pt x="414" y="329"/>
                    </a:lnTo>
                    <a:lnTo>
                      <a:pt x="366" y="364"/>
                    </a:lnTo>
                    <a:lnTo>
                      <a:pt x="317" y="396"/>
                    </a:lnTo>
                    <a:lnTo>
                      <a:pt x="267" y="428"/>
                    </a:lnTo>
                    <a:lnTo>
                      <a:pt x="216" y="458"/>
                    </a:lnTo>
                    <a:lnTo>
                      <a:pt x="163" y="486"/>
                    </a:lnTo>
                    <a:lnTo>
                      <a:pt x="110" y="513"/>
                    </a:lnTo>
                    <a:lnTo>
                      <a:pt x="56" y="537"/>
                    </a:lnTo>
                    <a:lnTo>
                      <a:pt x="0" y="560"/>
                    </a:lnTo>
                    <a:lnTo>
                      <a:pt x="13" y="57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62640" y="422604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4" h="580">
                    <a:moveTo>
                      <a:pt x="13" y="580"/>
                    </a:moveTo>
                    <a:lnTo>
                      <a:pt x="68" y="558"/>
                    </a:lnTo>
                    <a:lnTo>
                      <a:pt x="123" y="533"/>
                    </a:lnTo>
                    <a:lnTo>
                      <a:pt x="177" y="506"/>
                    </a:lnTo>
                    <a:lnTo>
                      <a:pt x="229" y="479"/>
                    </a:lnTo>
                    <a:lnTo>
                      <a:pt x="279" y="449"/>
                    </a:lnTo>
                    <a:lnTo>
                      <a:pt x="330" y="418"/>
                    </a:lnTo>
                    <a:lnTo>
                      <a:pt x="379" y="384"/>
                    </a:lnTo>
                    <a:lnTo>
                      <a:pt x="427" y="349"/>
                    </a:lnTo>
                    <a:lnTo>
                      <a:pt x="473" y="314"/>
                    </a:lnTo>
                    <a:lnTo>
                      <a:pt x="519" y="277"/>
                    </a:lnTo>
                    <a:lnTo>
                      <a:pt x="563" y="238"/>
                    </a:lnTo>
                    <a:lnTo>
                      <a:pt x="606" y="197"/>
                    </a:lnTo>
                    <a:lnTo>
                      <a:pt x="647" y="156"/>
                    </a:lnTo>
                    <a:lnTo>
                      <a:pt x="688" y="112"/>
                    </a:lnTo>
                    <a:lnTo>
                      <a:pt x="726" y="68"/>
                    </a:lnTo>
                    <a:lnTo>
                      <a:pt x="764" y="22"/>
                    </a:lnTo>
                    <a:lnTo>
                      <a:pt x="760" y="15"/>
                    </a:lnTo>
                    <a:lnTo>
                      <a:pt x="752" y="0"/>
                    </a:lnTo>
                    <a:lnTo>
                      <a:pt x="715" y="46"/>
                    </a:lnTo>
                    <a:lnTo>
                      <a:pt x="676" y="91"/>
                    </a:lnTo>
                    <a:lnTo>
                      <a:pt x="637" y="134"/>
                    </a:lnTo>
                    <a:lnTo>
                      <a:pt x="596" y="177"/>
                    </a:lnTo>
                    <a:lnTo>
                      <a:pt x="552" y="217"/>
                    </a:lnTo>
                    <a:lnTo>
                      <a:pt x="508" y="256"/>
                    </a:lnTo>
                    <a:lnTo>
                      <a:pt x="463" y="294"/>
                    </a:lnTo>
                    <a:lnTo>
                      <a:pt x="416" y="330"/>
                    </a:lnTo>
                    <a:lnTo>
                      <a:pt x="368" y="364"/>
                    </a:lnTo>
                    <a:lnTo>
                      <a:pt x="319" y="398"/>
                    </a:lnTo>
                    <a:lnTo>
                      <a:pt x="268" y="429"/>
                    </a:lnTo>
                    <a:lnTo>
                      <a:pt x="217" y="459"/>
                    </a:lnTo>
                    <a:lnTo>
                      <a:pt x="164" y="488"/>
                    </a:lnTo>
                    <a:lnTo>
                      <a:pt x="111" y="513"/>
                    </a:lnTo>
                    <a:lnTo>
                      <a:pt x="57" y="539"/>
                    </a:lnTo>
                    <a:lnTo>
                      <a:pt x="0" y="562"/>
                    </a:lnTo>
                    <a:lnTo>
                      <a:pt x="13" y="58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1200" y="422280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3" h="582">
                    <a:moveTo>
                      <a:pt x="12" y="582"/>
                    </a:moveTo>
                    <a:lnTo>
                      <a:pt x="68" y="559"/>
                    </a:lnTo>
                    <a:lnTo>
                      <a:pt x="122" y="535"/>
                    </a:lnTo>
                    <a:lnTo>
                      <a:pt x="175" y="508"/>
                    </a:lnTo>
                    <a:lnTo>
                      <a:pt x="228" y="480"/>
                    </a:lnTo>
                    <a:lnTo>
                      <a:pt x="279" y="450"/>
                    </a:lnTo>
                    <a:lnTo>
                      <a:pt x="329" y="418"/>
                    </a:lnTo>
                    <a:lnTo>
                      <a:pt x="378" y="386"/>
                    </a:lnTo>
                    <a:lnTo>
                      <a:pt x="426" y="351"/>
                    </a:lnTo>
                    <a:lnTo>
                      <a:pt x="472" y="314"/>
                    </a:lnTo>
                    <a:lnTo>
                      <a:pt x="519" y="277"/>
                    </a:lnTo>
                    <a:lnTo>
                      <a:pt x="562" y="238"/>
                    </a:lnTo>
                    <a:lnTo>
                      <a:pt x="605" y="198"/>
                    </a:lnTo>
                    <a:lnTo>
                      <a:pt x="647" y="155"/>
                    </a:lnTo>
                    <a:lnTo>
                      <a:pt x="687" y="113"/>
                    </a:lnTo>
                    <a:lnTo>
                      <a:pt x="726" y="68"/>
                    </a:lnTo>
                    <a:lnTo>
                      <a:pt x="763" y="22"/>
                    </a:lnTo>
                    <a:lnTo>
                      <a:pt x="752" y="0"/>
                    </a:lnTo>
                    <a:lnTo>
                      <a:pt x="715" y="46"/>
                    </a:lnTo>
                    <a:lnTo>
                      <a:pt x="675" y="91"/>
                    </a:lnTo>
                    <a:lnTo>
                      <a:pt x="636" y="135"/>
                    </a:lnTo>
                    <a:lnTo>
                      <a:pt x="595" y="176"/>
                    </a:lnTo>
                    <a:lnTo>
                      <a:pt x="551" y="218"/>
                    </a:lnTo>
                    <a:lnTo>
                      <a:pt x="507" y="257"/>
                    </a:lnTo>
                    <a:lnTo>
                      <a:pt x="462" y="295"/>
                    </a:lnTo>
                    <a:lnTo>
                      <a:pt x="415" y="331"/>
                    </a:lnTo>
                    <a:lnTo>
                      <a:pt x="368" y="366"/>
                    </a:lnTo>
                    <a:lnTo>
                      <a:pt x="318" y="399"/>
                    </a:lnTo>
                    <a:lnTo>
                      <a:pt x="267" y="431"/>
                    </a:lnTo>
                    <a:lnTo>
                      <a:pt x="216" y="461"/>
                    </a:lnTo>
                    <a:lnTo>
                      <a:pt x="163" y="488"/>
                    </a:lnTo>
                    <a:lnTo>
                      <a:pt x="110" y="515"/>
                    </a:lnTo>
                    <a:lnTo>
                      <a:pt x="55" y="539"/>
                    </a:lnTo>
                    <a:lnTo>
                      <a:pt x="0" y="562"/>
                    </a:lnTo>
                    <a:lnTo>
                      <a:pt x="0" y="563"/>
                    </a:lnTo>
                    <a:lnTo>
                      <a:pt x="12" y="58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59400" y="4221000"/>
                <a:ext cx="203400" cy="154080"/>
              </a:xfrm>
              <a:custGeom>
                <a:avLst/>
                <a:gdLst/>
                <a:ahLst/>
                <a:rect l="l" t="t" r="r" b="b"/>
                <a:pathLst>
                  <a:path w="764" h="585">
                    <a:moveTo>
                      <a:pt x="12" y="585"/>
                    </a:moveTo>
                    <a:lnTo>
                      <a:pt x="69" y="562"/>
                    </a:lnTo>
                    <a:lnTo>
                      <a:pt x="123" y="536"/>
                    </a:lnTo>
                    <a:lnTo>
                      <a:pt x="176" y="511"/>
                    </a:lnTo>
                    <a:lnTo>
                      <a:pt x="229" y="482"/>
                    </a:lnTo>
                    <a:lnTo>
                      <a:pt x="280" y="452"/>
                    </a:lnTo>
                    <a:lnTo>
                      <a:pt x="331" y="421"/>
                    </a:lnTo>
                    <a:lnTo>
                      <a:pt x="380" y="387"/>
                    </a:lnTo>
                    <a:lnTo>
                      <a:pt x="428" y="353"/>
                    </a:lnTo>
                    <a:lnTo>
                      <a:pt x="475" y="317"/>
                    </a:lnTo>
                    <a:lnTo>
                      <a:pt x="520" y="279"/>
                    </a:lnTo>
                    <a:lnTo>
                      <a:pt x="564" y="240"/>
                    </a:lnTo>
                    <a:lnTo>
                      <a:pt x="608" y="200"/>
                    </a:lnTo>
                    <a:lnTo>
                      <a:pt x="649" y="157"/>
                    </a:lnTo>
                    <a:lnTo>
                      <a:pt x="688" y="114"/>
                    </a:lnTo>
                    <a:lnTo>
                      <a:pt x="727" y="69"/>
                    </a:lnTo>
                    <a:lnTo>
                      <a:pt x="764" y="23"/>
                    </a:lnTo>
                    <a:lnTo>
                      <a:pt x="753" y="0"/>
                    </a:lnTo>
                    <a:lnTo>
                      <a:pt x="716" y="47"/>
                    </a:lnTo>
                    <a:lnTo>
                      <a:pt x="677" y="92"/>
                    </a:lnTo>
                    <a:lnTo>
                      <a:pt x="638" y="136"/>
                    </a:lnTo>
                    <a:lnTo>
                      <a:pt x="596" y="178"/>
                    </a:lnTo>
                    <a:lnTo>
                      <a:pt x="553" y="219"/>
                    </a:lnTo>
                    <a:lnTo>
                      <a:pt x="508" y="258"/>
                    </a:lnTo>
                    <a:lnTo>
                      <a:pt x="463" y="296"/>
                    </a:lnTo>
                    <a:lnTo>
                      <a:pt x="416" y="333"/>
                    </a:lnTo>
                    <a:lnTo>
                      <a:pt x="368" y="368"/>
                    </a:lnTo>
                    <a:lnTo>
                      <a:pt x="319" y="401"/>
                    </a:lnTo>
                    <a:lnTo>
                      <a:pt x="268" y="432"/>
                    </a:lnTo>
                    <a:lnTo>
                      <a:pt x="217" y="462"/>
                    </a:lnTo>
                    <a:lnTo>
                      <a:pt x="165" y="491"/>
                    </a:lnTo>
                    <a:lnTo>
                      <a:pt x="110" y="518"/>
                    </a:lnTo>
                    <a:lnTo>
                      <a:pt x="56" y="542"/>
                    </a:lnTo>
                    <a:lnTo>
                      <a:pt x="0" y="565"/>
                    </a:lnTo>
                    <a:lnTo>
                      <a:pt x="7" y="575"/>
                    </a:lnTo>
                    <a:lnTo>
                      <a:pt x="12" y="585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57960" y="4218120"/>
                <a:ext cx="203040" cy="153720"/>
              </a:xfrm>
              <a:custGeom>
                <a:avLst/>
                <a:gdLst/>
                <a:ahLst/>
                <a:rect l="l" t="t" r="r" b="b"/>
                <a:pathLst>
                  <a:path w="765" h="584">
                    <a:moveTo>
                      <a:pt x="13" y="584"/>
                    </a:moveTo>
                    <a:lnTo>
                      <a:pt x="68" y="561"/>
                    </a:lnTo>
                    <a:lnTo>
                      <a:pt x="123" y="537"/>
                    </a:lnTo>
                    <a:lnTo>
                      <a:pt x="176" y="510"/>
                    </a:lnTo>
                    <a:lnTo>
                      <a:pt x="229" y="483"/>
                    </a:lnTo>
                    <a:lnTo>
                      <a:pt x="280" y="453"/>
                    </a:lnTo>
                    <a:lnTo>
                      <a:pt x="331" y="421"/>
                    </a:lnTo>
                    <a:lnTo>
                      <a:pt x="381" y="388"/>
                    </a:lnTo>
                    <a:lnTo>
                      <a:pt x="428" y="353"/>
                    </a:lnTo>
                    <a:lnTo>
                      <a:pt x="475" y="317"/>
                    </a:lnTo>
                    <a:lnTo>
                      <a:pt x="520" y="279"/>
                    </a:lnTo>
                    <a:lnTo>
                      <a:pt x="564" y="240"/>
                    </a:lnTo>
                    <a:lnTo>
                      <a:pt x="608" y="198"/>
                    </a:lnTo>
                    <a:lnTo>
                      <a:pt x="649" y="157"/>
                    </a:lnTo>
                    <a:lnTo>
                      <a:pt x="688" y="113"/>
                    </a:lnTo>
                    <a:lnTo>
                      <a:pt x="728" y="68"/>
                    </a:lnTo>
                    <a:lnTo>
                      <a:pt x="765" y="22"/>
                    </a:lnTo>
                    <a:lnTo>
                      <a:pt x="753" y="0"/>
                    </a:lnTo>
                    <a:lnTo>
                      <a:pt x="716" y="46"/>
                    </a:lnTo>
                    <a:lnTo>
                      <a:pt x="677" y="92"/>
                    </a:lnTo>
                    <a:lnTo>
                      <a:pt x="638" y="136"/>
                    </a:lnTo>
                    <a:lnTo>
                      <a:pt x="596" y="177"/>
                    </a:lnTo>
                    <a:lnTo>
                      <a:pt x="554" y="219"/>
                    </a:lnTo>
                    <a:lnTo>
                      <a:pt x="509" y="259"/>
                    </a:lnTo>
                    <a:lnTo>
                      <a:pt x="464" y="297"/>
                    </a:lnTo>
                    <a:lnTo>
                      <a:pt x="416" y="333"/>
                    </a:lnTo>
                    <a:lnTo>
                      <a:pt x="369" y="369"/>
                    </a:lnTo>
                    <a:lnTo>
                      <a:pt x="319" y="401"/>
                    </a:lnTo>
                    <a:lnTo>
                      <a:pt x="269" y="433"/>
                    </a:lnTo>
                    <a:lnTo>
                      <a:pt x="217" y="463"/>
                    </a:lnTo>
                    <a:lnTo>
                      <a:pt x="164" y="491"/>
                    </a:lnTo>
                    <a:lnTo>
                      <a:pt x="111" y="517"/>
                    </a:lnTo>
                    <a:lnTo>
                      <a:pt x="55" y="543"/>
                    </a:lnTo>
                    <a:lnTo>
                      <a:pt x="0" y="565"/>
                    </a:lnTo>
                    <a:lnTo>
                      <a:pt x="13" y="584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56520" y="421488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766" h="587">
                    <a:moveTo>
                      <a:pt x="13" y="587"/>
                    </a:moveTo>
                    <a:lnTo>
                      <a:pt x="69" y="564"/>
                    </a:lnTo>
                    <a:lnTo>
                      <a:pt x="123" y="540"/>
                    </a:lnTo>
                    <a:lnTo>
                      <a:pt x="178" y="513"/>
                    </a:lnTo>
                    <a:lnTo>
                      <a:pt x="230" y="484"/>
                    </a:lnTo>
                    <a:lnTo>
                      <a:pt x="281" y="454"/>
                    </a:lnTo>
                    <a:lnTo>
                      <a:pt x="332" y="423"/>
                    </a:lnTo>
                    <a:lnTo>
                      <a:pt x="381" y="390"/>
                    </a:lnTo>
                    <a:lnTo>
                      <a:pt x="429" y="355"/>
                    </a:lnTo>
                    <a:lnTo>
                      <a:pt x="476" y="318"/>
                    </a:lnTo>
                    <a:lnTo>
                      <a:pt x="521" y="280"/>
                    </a:lnTo>
                    <a:lnTo>
                      <a:pt x="566" y="241"/>
                    </a:lnTo>
                    <a:lnTo>
                      <a:pt x="609" y="200"/>
                    </a:lnTo>
                    <a:lnTo>
                      <a:pt x="651" y="158"/>
                    </a:lnTo>
                    <a:lnTo>
                      <a:pt x="690" y="114"/>
                    </a:lnTo>
                    <a:lnTo>
                      <a:pt x="729" y="69"/>
                    </a:lnTo>
                    <a:lnTo>
                      <a:pt x="766" y="22"/>
                    </a:lnTo>
                    <a:lnTo>
                      <a:pt x="754" y="0"/>
                    </a:lnTo>
                    <a:lnTo>
                      <a:pt x="717" y="48"/>
                    </a:lnTo>
                    <a:lnTo>
                      <a:pt x="678" y="92"/>
                    </a:lnTo>
                    <a:lnTo>
                      <a:pt x="639" y="136"/>
                    </a:lnTo>
                    <a:lnTo>
                      <a:pt x="597" y="179"/>
                    </a:lnTo>
                    <a:lnTo>
                      <a:pt x="555" y="220"/>
                    </a:lnTo>
                    <a:lnTo>
                      <a:pt x="510" y="261"/>
                    </a:lnTo>
                    <a:lnTo>
                      <a:pt x="465" y="299"/>
                    </a:lnTo>
                    <a:lnTo>
                      <a:pt x="418" y="336"/>
                    </a:lnTo>
                    <a:lnTo>
                      <a:pt x="369" y="370"/>
                    </a:lnTo>
                    <a:lnTo>
                      <a:pt x="321" y="404"/>
                    </a:lnTo>
                    <a:lnTo>
                      <a:pt x="270" y="436"/>
                    </a:lnTo>
                    <a:lnTo>
                      <a:pt x="218" y="466"/>
                    </a:lnTo>
                    <a:lnTo>
                      <a:pt x="165" y="494"/>
                    </a:lnTo>
                    <a:lnTo>
                      <a:pt x="111" y="520"/>
                    </a:lnTo>
                    <a:lnTo>
                      <a:pt x="55" y="544"/>
                    </a:lnTo>
                    <a:lnTo>
                      <a:pt x="0" y="567"/>
                    </a:lnTo>
                    <a:lnTo>
                      <a:pt x="13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54720" y="4211640"/>
                <a:ext cx="203400" cy="155520"/>
              </a:xfrm>
              <a:custGeom>
                <a:avLst/>
                <a:gdLst/>
                <a:ahLst/>
                <a:rect l="l" t="t" r="r" b="b"/>
                <a:pathLst>
                  <a:path w="767" h="587">
                    <a:moveTo>
                      <a:pt x="14" y="587"/>
                    </a:moveTo>
                    <a:lnTo>
                      <a:pt x="69" y="565"/>
                    </a:lnTo>
                    <a:lnTo>
                      <a:pt x="125" y="539"/>
                    </a:lnTo>
                    <a:lnTo>
                      <a:pt x="178" y="513"/>
                    </a:lnTo>
                    <a:lnTo>
                      <a:pt x="231" y="485"/>
                    </a:lnTo>
                    <a:lnTo>
                      <a:pt x="283" y="455"/>
                    </a:lnTo>
                    <a:lnTo>
                      <a:pt x="333" y="423"/>
                    </a:lnTo>
                    <a:lnTo>
                      <a:pt x="383" y="391"/>
                    </a:lnTo>
                    <a:lnTo>
                      <a:pt x="430" y="355"/>
                    </a:lnTo>
                    <a:lnTo>
                      <a:pt x="478" y="319"/>
                    </a:lnTo>
                    <a:lnTo>
                      <a:pt x="523" y="281"/>
                    </a:lnTo>
                    <a:lnTo>
                      <a:pt x="568" y="241"/>
                    </a:lnTo>
                    <a:lnTo>
                      <a:pt x="610" y="199"/>
                    </a:lnTo>
                    <a:lnTo>
                      <a:pt x="652" y="158"/>
                    </a:lnTo>
                    <a:lnTo>
                      <a:pt x="691" y="114"/>
                    </a:lnTo>
                    <a:lnTo>
                      <a:pt x="730" y="68"/>
                    </a:lnTo>
                    <a:lnTo>
                      <a:pt x="767" y="22"/>
                    </a:lnTo>
                    <a:lnTo>
                      <a:pt x="756" y="0"/>
                    </a:lnTo>
                    <a:lnTo>
                      <a:pt x="719" y="46"/>
                    </a:lnTo>
                    <a:lnTo>
                      <a:pt x="681" y="92"/>
                    </a:lnTo>
                    <a:lnTo>
                      <a:pt x="640" y="136"/>
                    </a:lnTo>
                    <a:lnTo>
                      <a:pt x="599" y="179"/>
                    </a:lnTo>
                    <a:lnTo>
                      <a:pt x="556" y="220"/>
                    </a:lnTo>
                    <a:lnTo>
                      <a:pt x="512" y="260"/>
                    </a:lnTo>
                    <a:lnTo>
                      <a:pt x="466" y="298"/>
                    </a:lnTo>
                    <a:lnTo>
                      <a:pt x="419" y="335"/>
                    </a:lnTo>
                    <a:lnTo>
                      <a:pt x="370" y="371"/>
                    </a:lnTo>
                    <a:lnTo>
                      <a:pt x="322" y="404"/>
                    </a:lnTo>
                    <a:lnTo>
                      <a:pt x="271" y="436"/>
                    </a:lnTo>
                    <a:lnTo>
                      <a:pt x="219" y="466"/>
                    </a:lnTo>
                    <a:lnTo>
                      <a:pt x="166" y="494"/>
                    </a:lnTo>
                    <a:lnTo>
                      <a:pt x="112" y="521"/>
                    </a:lnTo>
                    <a:lnTo>
                      <a:pt x="57" y="545"/>
                    </a:lnTo>
                    <a:lnTo>
                      <a:pt x="0" y="568"/>
                    </a:lnTo>
                    <a:lnTo>
                      <a:pt x="14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53280" y="420840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767" h="588">
                    <a:moveTo>
                      <a:pt x="13" y="588"/>
                    </a:moveTo>
                    <a:lnTo>
                      <a:pt x="68" y="565"/>
                    </a:lnTo>
                    <a:lnTo>
                      <a:pt x="124" y="541"/>
                    </a:lnTo>
                    <a:lnTo>
                      <a:pt x="178" y="515"/>
                    </a:lnTo>
                    <a:lnTo>
                      <a:pt x="231" y="487"/>
                    </a:lnTo>
                    <a:lnTo>
                      <a:pt x="283" y="457"/>
                    </a:lnTo>
                    <a:lnTo>
                      <a:pt x="334" y="425"/>
                    </a:lnTo>
                    <a:lnTo>
                      <a:pt x="382" y="391"/>
                    </a:lnTo>
                    <a:lnTo>
                      <a:pt x="431" y="357"/>
                    </a:lnTo>
                    <a:lnTo>
                      <a:pt x="478" y="320"/>
                    </a:lnTo>
                    <a:lnTo>
                      <a:pt x="523" y="282"/>
                    </a:lnTo>
                    <a:lnTo>
                      <a:pt x="568" y="241"/>
                    </a:lnTo>
                    <a:lnTo>
                      <a:pt x="610" y="200"/>
                    </a:lnTo>
                    <a:lnTo>
                      <a:pt x="652" y="157"/>
                    </a:lnTo>
                    <a:lnTo>
                      <a:pt x="691" y="113"/>
                    </a:lnTo>
                    <a:lnTo>
                      <a:pt x="730" y="69"/>
                    </a:lnTo>
                    <a:lnTo>
                      <a:pt x="767" y="21"/>
                    </a:lnTo>
                    <a:lnTo>
                      <a:pt x="758" y="4"/>
                    </a:lnTo>
                    <a:lnTo>
                      <a:pt x="755" y="0"/>
                    </a:lnTo>
                    <a:lnTo>
                      <a:pt x="718" y="48"/>
                    </a:lnTo>
                    <a:lnTo>
                      <a:pt x="680" y="94"/>
                    </a:lnTo>
                    <a:lnTo>
                      <a:pt x="639" y="138"/>
                    </a:lnTo>
                    <a:lnTo>
                      <a:pt x="599" y="180"/>
                    </a:lnTo>
                    <a:lnTo>
                      <a:pt x="555" y="222"/>
                    </a:lnTo>
                    <a:lnTo>
                      <a:pt x="511" y="262"/>
                    </a:lnTo>
                    <a:lnTo>
                      <a:pt x="466" y="300"/>
                    </a:lnTo>
                    <a:lnTo>
                      <a:pt x="419" y="337"/>
                    </a:lnTo>
                    <a:lnTo>
                      <a:pt x="371" y="372"/>
                    </a:lnTo>
                    <a:lnTo>
                      <a:pt x="321" y="406"/>
                    </a:lnTo>
                    <a:lnTo>
                      <a:pt x="270" y="437"/>
                    </a:lnTo>
                    <a:lnTo>
                      <a:pt x="218" y="467"/>
                    </a:lnTo>
                    <a:lnTo>
                      <a:pt x="165" y="496"/>
                    </a:lnTo>
                    <a:lnTo>
                      <a:pt x="111" y="522"/>
                    </a:lnTo>
                    <a:lnTo>
                      <a:pt x="56" y="547"/>
                    </a:lnTo>
                    <a:lnTo>
                      <a:pt x="0" y="569"/>
                    </a:lnTo>
                    <a:lnTo>
                      <a:pt x="13" y="58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351480" y="4206960"/>
                <a:ext cx="203400" cy="155520"/>
              </a:xfrm>
              <a:custGeom>
                <a:avLst/>
                <a:gdLst/>
                <a:ahLst/>
                <a:rect l="l" t="t" r="r" b="b"/>
                <a:pathLst>
                  <a:path w="769" h="587">
                    <a:moveTo>
                      <a:pt x="13" y="587"/>
                    </a:moveTo>
                    <a:lnTo>
                      <a:pt x="70" y="564"/>
                    </a:lnTo>
                    <a:lnTo>
                      <a:pt x="125" y="540"/>
                    </a:lnTo>
                    <a:lnTo>
                      <a:pt x="179" y="513"/>
                    </a:lnTo>
                    <a:lnTo>
                      <a:pt x="232" y="485"/>
                    </a:lnTo>
                    <a:lnTo>
                      <a:pt x="284" y="455"/>
                    </a:lnTo>
                    <a:lnTo>
                      <a:pt x="335" y="423"/>
                    </a:lnTo>
                    <a:lnTo>
                      <a:pt x="383" y="390"/>
                    </a:lnTo>
                    <a:lnTo>
                      <a:pt x="432" y="354"/>
                    </a:lnTo>
                    <a:lnTo>
                      <a:pt x="479" y="317"/>
                    </a:lnTo>
                    <a:lnTo>
                      <a:pt x="525" y="279"/>
                    </a:lnTo>
                    <a:lnTo>
                      <a:pt x="569" y="239"/>
                    </a:lnTo>
                    <a:lnTo>
                      <a:pt x="612" y="199"/>
                    </a:lnTo>
                    <a:lnTo>
                      <a:pt x="653" y="155"/>
                    </a:lnTo>
                    <a:lnTo>
                      <a:pt x="694" y="111"/>
                    </a:lnTo>
                    <a:lnTo>
                      <a:pt x="732" y="66"/>
                    </a:lnTo>
                    <a:lnTo>
                      <a:pt x="769" y="19"/>
                    </a:lnTo>
                    <a:lnTo>
                      <a:pt x="765" y="12"/>
                    </a:lnTo>
                    <a:lnTo>
                      <a:pt x="754" y="0"/>
                    </a:lnTo>
                    <a:lnTo>
                      <a:pt x="717" y="48"/>
                    </a:lnTo>
                    <a:lnTo>
                      <a:pt x="679" y="93"/>
                    </a:lnTo>
                    <a:lnTo>
                      <a:pt x="639" y="138"/>
                    </a:lnTo>
                    <a:lnTo>
                      <a:pt x="598" y="180"/>
                    </a:lnTo>
                    <a:lnTo>
                      <a:pt x="555" y="222"/>
                    </a:lnTo>
                    <a:lnTo>
                      <a:pt x="511" y="261"/>
                    </a:lnTo>
                    <a:lnTo>
                      <a:pt x="465" y="300"/>
                    </a:lnTo>
                    <a:lnTo>
                      <a:pt x="419" y="336"/>
                    </a:lnTo>
                    <a:lnTo>
                      <a:pt x="371" y="372"/>
                    </a:lnTo>
                    <a:lnTo>
                      <a:pt x="321" y="405"/>
                    </a:lnTo>
                    <a:lnTo>
                      <a:pt x="270" y="436"/>
                    </a:lnTo>
                    <a:lnTo>
                      <a:pt x="218" y="466"/>
                    </a:lnTo>
                    <a:lnTo>
                      <a:pt x="165" y="494"/>
                    </a:lnTo>
                    <a:lnTo>
                      <a:pt x="111" y="520"/>
                    </a:lnTo>
                    <a:lnTo>
                      <a:pt x="57" y="545"/>
                    </a:lnTo>
                    <a:lnTo>
                      <a:pt x="0" y="568"/>
                    </a:lnTo>
                    <a:lnTo>
                      <a:pt x="13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50040" y="420516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9" h="585">
                    <a:moveTo>
                      <a:pt x="14" y="585"/>
                    </a:moveTo>
                    <a:lnTo>
                      <a:pt x="70" y="563"/>
                    </a:lnTo>
                    <a:lnTo>
                      <a:pt x="125" y="538"/>
                    </a:lnTo>
                    <a:lnTo>
                      <a:pt x="179" y="512"/>
                    </a:lnTo>
                    <a:lnTo>
                      <a:pt x="232" y="483"/>
                    </a:lnTo>
                    <a:lnTo>
                      <a:pt x="284" y="453"/>
                    </a:lnTo>
                    <a:lnTo>
                      <a:pt x="335" y="421"/>
                    </a:lnTo>
                    <a:lnTo>
                      <a:pt x="385" y="388"/>
                    </a:lnTo>
                    <a:lnTo>
                      <a:pt x="433" y="353"/>
                    </a:lnTo>
                    <a:lnTo>
                      <a:pt x="479" y="316"/>
                    </a:lnTo>
                    <a:lnTo>
                      <a:pt x="525" y="278"/>
                    </a:lnTo>
                    <a:lnTo>
                      <a:pt x="569" y="238"/>
                    </a:lnTo>
                    <a:lnTo>
                      <a:pt x="612" y="196"/>
                    </a:lnTo>
                    <a:lnTo>
                      <a:pt x="653" y="154"/>
                    </a:lnTo>
                    <a:lnTo>
                      <a:pt x="694" y="110"/>
                    </a:lnTo>
                    <a:lnTo>
                      <a:pt x="732" y="64"/>
                    </a:lnTo>
                    <a:lnTo>
                      <a:pt x="769" y="16"/>
                    </a:lnTo>
                    <a:lnTo>
                      <a:pt x="752" y="0"/>
                    </a:lnTo>
                    <a:lnTo>
                      <a:pt x="716" y="48"/>
                    </a:lnTo>
                    <a:lnTo>
                      <a:pt x="678" y="93"/>
                    </a:lnTo>
                    <a:lnTo>
                      <a:pt x="638" y="138"/>
                    </a:lnTo>
                    <a:lnTo>
                      <a:pt x="597" y="180"/>
                    </a:lnTo>
                    <a:lnTo>
                      <a:pt x="554" y="221"/>
                    </a:lnTo>
                    <a:lnTo>
                      <a:pt x="510" y="261"/>
                    </a:lnTo>
                    <a:lnTo>
                      <a:pt x="465" y="299"/>
                    </a:lnTo>
                    <a:lnTo>
                      <a:pt x="418" y="336"/>
                    </a:lnTo>
                    <a:lnTo>
                      <a:pt x="371" y="370"/>
                    </a:lnTo>
                    <a:lnTo>
                      <a:pt x="321" y="404"/>
                    </a:lnTo>
                    <a:lnTo>
                      <a:pt x="270" y="435"/>
                    </a:lnTo>
                    <a:lnTo>
                      <a:pt x="218" y="465"/>
                    </a:lnTo>
                    <a:lnTo>
                      <a:pt x="165" y="493"/>
                    </a:lnTo>
                    <a:lnTo>
                      <a:pt x="111" y="519"/>
                    </a:lnTo>
                    <a:lnTo>
                      <a:pt x="57" y="543"/>
                    </a:lnTo>
                    <a:lnTo>
                      <a:pt x="0" y="565"/>
                    </a:lnTo>
                    <a:lnTo>
                      <a:pt x="14" y="5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48240" y="4202280"/>
                <a:ext cx="201960" cy="155520"/>
              </a:xfrm>
              <a:custGeom>
                <a:avLst/>
                <a:gdLst/>
                <a:ahLst/>
                <a:rect l="l" t="t" r="r" b="b"/>
                <a:pathLst>
                  <a:path w="766" h="584">
                    <a:moveTo>
                      <a:pt x="12" y="584"/>
                    </a:moveTo>
                    <a:lnTo>
                      <a:pt x="69" y="561"/>
                    </a:lnTo>
                    <a:lnTo>
                      <a:pt x="123" y="536"/>
                    </a:lnTo>
                    <a:lnTo>
                      <a:pt x="177" y="510"/>
                    </a:lnTo>
                    <a:lnTo>
                      <a:pt x="230" y="482"/>
                    </a:lnTo>
                    <a:lnTo>
                      <a:pt x="282" y="452"/>
                    </a:lnTo>
                    <a:lnTo>
                      <a:pt x="333" y="421"/>
                    </a:lnTo>
                    <a:lnTo>
                      <a:pt x="383" y="388"/>
                    </a:lnTo>
                    <a:lnTo>
                      <a:pt x="431" y="352"/>
                    </a:lnTo>
                    <a:lnTo>
                      <a:pt x="477" y="316"/>
                    </a:lnTo>
                    <a:lnTo>
                      <a:pt x="523" y="277"/>
                    </a:lnTo>
                    <a:lnTo>
                      <a:pt x="567" y="238"/>
                    </a:lnTo>
                    <a:lnTo>
                      <a:pt x="610" y="196"/>
                    </a:lnTo>
                    <a:lnTo>
                      <a:pt x="651" y="154"/>
                    </a:lnTo>
                    <a:lnTo>
                      <a:pt x="691" y="109"/>
                    </a:lnTo>
                    <a:lnTo>
                      <a:pt x="729" y="64"/>
                    </a:lnTo>
                    <a:lnTo>
                      <a:pt x="766" y="16"/>
                    </a:lnTo>
                    <a:lnTo>
                      <a:pt x="749" y="0"/>
                    </a:lnTo>
                    <a:lnTo>
                      <a:pt x="713" y="48"/>
                    </a:lnTo>
                    <a:lnTo>
                      <a:pt x="674" y="93"/>
                    </a:lnTo>
                    <a:lnTo>
                      <a:pt x="635" y="136"/>
                    </a:lnTo>
                    <a:lnTo>
                      <a:pt x="595" y="179"/>
                    </a:lnTo>
                    <a:lnTo>
                      <a:pt x="552" y="220"/>
                    </a:lnTo>
                    <a:lnTo>
                      <a:pt x="508" y="260"/>
                    </a:lnTo>
                    <a:lnTo>
                      <a:pt x="462" y="299"/>
                    </a:lnTo>
                    <a:lnTo>
                      <a:pt x="416" y="335"/>
                    </a:lnTo>
                    <a:lnTo>
                      <a:pt x="368" y="369"/>
                    </a:lnTo>
                    <a:lnTo>
                      <a:pt x="319" y="403"/>
                    </a:lnTo>
                    <a:lnTo>
                      <a:pt x="268" y="434"/>
                    </a:lnTo>
                    <a:lnTo>
                      <a:pt x="217" y="464"/>
                    </a:lnTo>
                    <a:lnTo>
                      <a:pt x="163" y="491"/>
                    </a:lnTo>
                    <a:lnTo>
                      <a:pt x="110" y="518"/>
                    </a:lnTo>
                    <a:lnTo>
                      <a:pt x="55" y="542"/>
                    </a:lnTo>
                    <a:lnTo>
                      <a:pt x="0" y="564"/>
                    </a:lnTo>
                    <a:lnTo>
                      <a:pt x="12" y="5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45360" y="420048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4" h="581">
                    <a:moveTo>
                      <a:pt x="12" y="581"/>
                    </a:moveTo>
                    <a:lnTo>
                      <a:pt x="69" y="559"/>
                    </a:lnTo>
                    <a:lnTo>
                      <a:pt x="123" y="535"/>
                    </a:lnTo>
                    <a:lnTo>
                      <a:pt x="177" y="509"/>
                    </a:lnTo>
                    <a:lnTo>
                      <a:pt x="230" y="481"/>
                    </a:lnTo>
                    <a:lnTo>
                      <a:pt x="282" y="451"/>
                    </a:lnTo>
                    <a:lnTo>
                      <a:pt x="333" y="420"/>
                    </a:lnTo>
                    <a:lnTo>
                      <a:pt x="383" y="386"/>
                    </a:lnTo>
                    <a:lnTo>
                      <a:pt x="430" y="352"/>
                    </a:lnTo>
                    <a:lnTo>
                      <a:pt x="477" y="315"/>
                    </a:lnTo>
                    <a:lnTo>
                      <a:pt x="522" y="277"/>
                    </a:lnTo>
                    <a:lnTo>
                      <a:pt x="566" y="237"/>
                    </a:lnTo>
                    <a:lnTo>
                      <a:pt x="609" y="196"/>
                    </a:lnTo>
                    <a:lnTo>
                      <a:pt x="650" y="154"/>
                    </a:lnTo>
                    <a:lnTo>
                      <a:pt x="690" y="109"/>
                    </a:lnTo>
                    <a:lnTo>
                      <a:pt x="728" y="64"/>
                    </a:lnTo>
                    <a:lnTo>
                      <a:pt x="764" y="16"/>
                    </a:lnTo>
                    <a:lnTo>
                      <a:pt x="748" y="0"/>
                    </a:lnTo>
                    <a:lnTo>
                      <a:pt x="711" y="47"/>
                    </a:lnTo>
                    <a:lnTo>
                      <a:pt x="675" y="92"/>
                    </a:lnTo>
                    <a:lnTo>
                      <a:pt x="634" y="136"/>
                    </a:lnTo>
                    <a:lnTo>
                      <a:pt x="594" y="179"/>
                    </a:lnTo>
                    <a:lnTo>
                      <a:pt x="551" y="220"/>
                    </a:lnTo>
                    <a:lnTo>
                      <a:pt x="507" y="260"/>
                    </a:lnTo>
                    <a:lnTo>
                      <a:pt x="462" y="298"/>
                    </a:lnTo>
                    <a:lnTo>
                      <a:pt x="416" y="335"/>
                    </a:lnTo>
                    <a:lnTo>
                      <a:pt x="368" y="369"/>
                    </a:lnTo>
                    <a:lnTo>
                      <a:pt x="318" y="401"/>
                    </a:lnTo>
                    <a:lnTo>
                      <a:pt x="269" y="434"/>
                    </a:lnTo>
                    <a:lnTo>
                      <a:pt x="217" y="462"/>
                    </a:lnTo>
                    <a:lnTo>
                      <a:pt x="164" y="490"/>
                    </a:lnTo>
                    <a:lnTo>
                      <a:pt x="111" y="517"/>
                    </a:lnTo>
                    <a:lnTo>
                      <a:pt x="55" y="541"/>
                    </a:lnTo>
                    <a:lnTo>
                      <a:pt x="0" y="563"/>
                    </a:lnTo>
                    <a:lnTo>
                      <a:pt x="12" y="58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343560" y="4199040"/>
                <a:ext cx="203400" cy="152280"/>
              </a:xfrm>
              <a:custGeom>
                <a:avLst/>
                <a:gdLst/>
                <a:ahLst/>
                <a:rect l="l" t="t" r="r" b="b"/>
                <a:pathLst>
                  <a:path w="763" h="580">
                    <a:moveTo>
                      <a:pt x="14" y="580"/>
                    </a:moveTo>
                    <a:lnTo>
                      <a:pt x="69" y="558"/>
                    </a:lnTo>
                    <a:lnTo>
                      <a:pt x="124" y="534"/>
                    </a:lnTo>
                    <a:lnTo>
                      <a:pt x="177" y="507"/>
                    </a:lnTo>
                    <a:lnTo>
                      <a:pt x="231" y="480"/>
                    </a:lnTo>
                    <a:lnTo>
                      <a:pt x="282" y="450"/>
                    </a:lnTo>
                    <a:lnTo>
                      <a:pt x="333" y="419"/>
                    </a:lnTo>
                    <a:lnTo>
                      <a:pt x="382" y="385"/>
                    </a:lnTo>
                    <a:lnTo>
                      <a:pt x="430" y="351"/>
                    </a:lnTo>
                    <a:lnTo>
                      <a:pt x="476" y="315"/>
                    </a:lnTo>
                    <a:lnTo>
                      <a:pt x="522" y="276"/>
                    </a:lnTo>
                    <a:lnTo>
                      <a:pt x="566" y="236"/>
                    </a:lnTo>
                    <a:lnTo>
                      <a:pt x="609" y="195"/>
                    </a:lnTo>
                    <a:lnTo>
                      <a:pt x="649" y="152"/>
                    </a:lnTo>
                    <a:lnTo>
                      <a:pt x="688" y="109"/>
                    </a:lnTo>
                    <a:lnTo>
                      <a:pt x="727" y="64"/>
                    </a:lnTo>
                    <a:lnTo>
                      <a:pt x="763" y="16"/>
                    </a:lnTo>
                    <a:lnTo>
                      <a:pt x="747" y="0"/>
                    </a:lnTo>
                    <a:lnTo>
                      <a:pt x="710" y="47"/>
                    </a:lnTo>
                    <a:lnTo>
                      <a:pt x="673" y="92"/>
                    </a:lnTo>
                    <a:lnTo>
                      <a:pt x="634" y="136"/>
                    </a:lnTo>
                    <a:lnTo>
                      <a:pt x="593" y="179"/>
                    </a:lnTo>
                    <a:lnTo>
                      <a:pt x="551" y="219"/>
                    </a:lnTo>
                    <a:lnTo>
                      <a:pt x="507" y="260"/>
                    </a:lnTo>
                    <a:lnTo>
                      <a:pt x="462" y="298"/>
                    </a:lnTo>
                    <a:lnTo>
                      <a:pt x="415" y="333"/>
                    </a:lnTo>
                    <a:lnTo>
                      <a:pt x="368" y="368"/>
                    </a:lnTo>
                    <a:lnTo>
                      <a:pt x="318" y="401"/>
                    </a:lnTo>
                    <a:lnTo>
                      <a:pt x="269" y="432"/>
                    </a:lnTo>
                    <a:lnTo>
                      <a:pt x="217" y="461"/>
                    </a:lnTo>
                    <a:lnTo>
                      <a:pt x="165" y="489"/>
                    </a:lnTo>
                    <a:lnTo>
                      <a:pt x="111" y="515"/>
                    </a:lnTo>
                    <a:lnTo>
                      <a:pt x="56" y="538"/>
                    </a:lnTo>
                    <a:lnTo>
                      <a:pt x="0" y="560"/>
                    </a:lnTo>
                    <a:lnTo>
                      <a:pt x="14" y="58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42120" y="4195800"/>
                <a:ext cx="201600" cy="154080"/>
              </a:xfrm>
              <a:custGeom>
                <a:avLst/>
                <a:gdLst/>
                <a:ahLst/>
                <a:rect l="l" t="t" r="r" b="b"/>
                <a:pathLst>
                  <a:path w="761" h="579">
                    <a:moveTo>
                      <a:pt x="13" y="579"/>
                    </a:moveTo>
                    <a:lnTo>
                      <a:pt x="68" y="557"/>
                    </a:lnTo>
                    <a:lnTo>
                      <a:pt x="124" y="533"/>
                    </a:lnTo>
                    <a:lnTo>
                      <a:pt x="177" y="506"/>
                    </a:lnTo>
                    <a:lnTo>
                      <a:pt x="230" y="478"/>
                    </a:lnTo>
                    <a:lnTo>
                      <a:pt x="282" y="450"/>
                    </a:lnTo>
                    <a:lnTo>
                      <a:pt x="331" y="417"/>
                    </a:lnTo>
                    <a:lnTo>
                      <a:pt x="381" y="385"/>
                    </a:lnTo>
                    <a:lnTo>
                      <a:pt x="429" y="351"/>
                    </a:lnTo>
                    <a:lnTo>
                      <a:pt x="475" y="314"/>
                    </a:lnTo>
                    <a:lnTo>
                      <a:pt x="520" y="276"/>
                    </a:lnTo>
                    <a:lnTo>
                      <a:pt x="564" y="236"/>
                    </a:lnTo>
                    <a:lnTo>
                      <a:pt x="607" y="195"/>
                    </a:lnTo>
                    <a:lnTo>
                      <a:pt x="647" y="152"/>
                    </a:lnTo>
                    <a:lnTo>
                      <a:pt x="688" y="108"/>
                    </a:lnTo>
                    <a:lnTo>
                      <a:pt x="724" y="63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2"/>
                    </a:lnTo>
                    <a:lnTo>
                      <a:pt x="632" y="136"/>
                    </a:lnTo>
                    <a:lnTo>
                      <a:pt x="592" y="178"/>
                    </a:lnTo>
                    <a:lnTo>
                      <a:pt x="549" y="219"/>
                    </a:lnTo>
                    <a:lnTo>
                      <a:pt x="505" y="258"/>
                    </a:lnTo>
                    <a:lnTo>
                      <a:pt x="460" y="296"/>
                    </a:lnTo>
                    <a:lnTo>
                      <a:pt x="414" y="332"/>
                    </a:lnTo>
                    <a:lnTo>
                      <a:pt x="367" y="367"/>
                    </a:lnTo>
                    <a:lnTo>
                      <a:pt x="317" y="400"/>
                    </a:lnTo>
                    <a:lnTo>
                      <a:pt x="268" y="431"/>
                    </a:lnTo>
                    <a:lnTo>
                      <a:pt x="216" y="460"/>
                    </a:lnTo>
                    <a:lnTo>
                      <a:pt x="164" y="488"/>
                    </a:lnTo>
                    <a:lnTo>
                      <a:pt x="110" y="514"/>
                    </a:lnTo>
                    <a:lnTo>
                      <a:pt x="55" y="537"/>
                    </a:lnTo>
                    <a:lnTo>
                      <a:pt x="0" y="559"/>
                    </a:lnTo>
                    <a:lnTo>
                      <a:pt x="13" y="579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40320" y="419400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1" h="576">
                    <a:moveTo>
                      <a:pt x="14" y="576"/>
                    </a:moveTo>
                    <a:lnTo>
                      <a:pt x="70" y="554"/>
                    </a:lnTo>
                    <a:lnTo>
                      <a:pt x="125" y="531"/>
                    </a:lnTo>
                    <a:lnTo>
                      <a:pt x="179" y="505"/>
                    </a:lnTo>
                    <a:lnTo>
                      <a:pt x="231" y="477"/>
                    </a:lnTo>
                    <a:lnTo>
                      <a:pt x="283" y="448"/>
                    </a:lnTo>
                    <a:lnTo>
                      <a:pt x="332" y="417"/>
                    </a:lnTo>
                    <a:lnTo>
                      <a:pt x="382" y="384"/>
                    </a:lnTo>
                    <a:lnTo>
                      <a:pt x="429" y="349"/>
                    </a:lnTo>
                    <a:lnTo>
                      <a:pt x="476" y="314"/>
                    </a:lnTo>
                    <a:lnTo>
                      <a:pt x="521" y="276"/>
                    </a:lnTo>
                    <a:lnTo>
                      <a:pt x="565" y="235"/>
                    </a:lnTo>
                    <a:lnTo>
                      <a:pt x="607" y="195"/>
                    </a:lnTo>
                    <a:lnTo>
                      <a:pt x="648" y="152"/>
                    </a:lnTo>
                    <a:lnTo>
                      <a:pt x="687" y="108"/>
                    </a:lnTo>
                    <a:lnTo>
                      <a:pt x="724" y="63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1"/>
                    </a:lnTo>
                    <a:lnTo>
                      <a:pt x="632" y="135"/>
                    </a:lnTo>
                    <a:lnTo>
                      <a:pt x="592" y="178"/>
                    </a:lnTo>
                    <a:lnTo>
                      <a:pt x="549" y="219"/>
                    </a:lnTo>
                    <a:lnTo>
                      <a:pt x="506" y="258"/>
                    </a:lnTo>
                    <a:lnTo>
                      <a:pt x="461" y="296"/>
                    </a:lnTo>
                    <a:lnTo>
                      <a:pt x="415" y="332"/>
                    </a:lnTo>
                    <a:lnTo>
                      <a:pt x="367" y="367"/>
                    </a:lnTo>
                    <a:lnTo>
                      <a:pt x="318" y="399"/>
                    </a:lnTo>
                    <a:lnTo>
                      <a:pt x="268" y="430"/>
                    </a:lnTo>
                    <a:lnTo>
                      <a:pt x="217" y="460"/>
                    </a:lnTo>
                    <a:lnTo>
                      <a:pt x="164" y="486"/>
                    </a:lnTo>
                    <a:lnTo>
                      <a:pt x="111" y="512"/>
                    </a:lnTo>
                    <a:lnTo>
                      <a:pt x="57" y="536"/>
                    </a:lnTo>
                    <a:lnTo>
                      <a:pt x="0" y="558"/>
                    </a:lnTo>
                    <a:lnTo>
                      <a:pt x="2" y="560"/>
                    </a:lnTo>
                    <a:lnTo>
                      <a:pt x="14" y="57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38880" y="419256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1" h="575">
                    <a:moveTo>
                      <a:pt x="16" y="575"/>
                    </a:moveTo>
                    <a:lnTo>
                      <a:pt x="71" y="553"/>
                    </a:lnTo>
                    <a:lnTo>
                      <a:pt x="126" y="530"/>
                    </a:lnTo>
                    <a:lnTo>
                      <a:pt x="180" y="504"/>
                    </a:lnTo>
                    <a:lnTo>
                      <a:pt x="232" y="476"/>
                    </a:lnTo>
                    <a:lnTo>
                      <a:pt x="284" y="447"/>
                    </a:lnTo>
                    <a:lnTo>
                      <a:pt x="333" y="416"/>
                    </a:lnTo>
                    <a:lnTo>
                      <a:pt x="383" y="383"/>
                    </a:lnTo>
                    <a:lnTo>
                      <a:pt x="430" y="348"/>
                    </a:lnTo>
                    <a:lnTo>
                      <a:pt x="476" y="312"/>
                    </a:lnTo>
                    <a:lnTo>
                      <a:pt x="521" y="274"/>
                    </a:lnTo>
                    <a:lnTo>
                      <a:pt x="565" y="235"/>
                    </a:lnTo>
                    <a:lnTo>
                      <a:pt x="608" y="194"/>
                    </a:lnTo>
                    <a:lnTo>
                      <a:pt x="648" y="152"/>
                    </a:lnTo>
                    <a:lnTo>
                      <a:pt x="687" y="108"/>
                    </a:lnTo>
                    <a:lnTo>
                      <a:pt x="725" y="62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1"/>
                    </a:lnTo>
                    <a:lnTo>
                      <a:pt x="632" y="135"/>
                    </a:lnTo>
                    <a:lnTo>
                      <a:pt x="592" y="177"/>
                    </a:lnTo>
                    <a:lnTo>
                      <a:pt x="549" y="219"/>
                    </a:lnTo>
                    <a:lnTo>
                      <a:pt x="506" y="258"/>
                    </a:lnTo>
                    <a:lnTo>
                      <a:pt x="461" y="296"/>
                    </a:lnTo>
                    <a:lnTo>
                      <a:pt x="415" y="332"/>
                    </a:lnTo>
                    <a:lnTo>
                      <a:pt x="367" y="367"/>
                    </a:lnTo>
                    <a:lnTo>
                      <a:pt x="318" y="399"/>
                    </a:lnTo>
                    <a:lnTo>
                      <a:pt x="268" y="430"/>
                    </a:lnTo>
                    <a:lnTo>
                      <a:pt x="217" y="459"/>
                    </a:lnTo>
                    <a:lnTo>
                      <a:pt x="164" y="486"/>
                    </a:lnTo>
                    <a:lnTo>
                      <a:pt x="111" y="512"/>
                    </a:lnTo>
                    <a:lnTo>
                      <a:pt x="55" y="535"/>
                    </a:lnTo>
                    <a:lnTo>
                      <a:pt x="0" y="557"/>
                    </a:lnTo>
                    <a:lnTo>
                      <a:pt x="10" y="568"/>
                    </a:lnTo>
                    <a:lnTo>
                      <a:pt x="16" y="57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35640" y="418932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2" h="575">
                    <a:moveTo>
                      <a:pt x="17" y="575"/>
                    </a:moveTo>
                    <a:lnTo>
                      <a:pt x="74" y="553"/>
                    </a:lnTo>
                    <a:lnTo>
                      <a:pt x="128" y="529"/>
                    </a:lnTo>
                    <a:lnTo>
                      <a:pt x="181" y="503"/>
                    </a:lnTo>
                    <a:lnTo>
                      <a:pt x="234" y="477"/>
                    </a:lnTo>
                    <a:lnTo>
                      <a:pt x="285" y="447"/>
                    </a:lnTo>
                    <a:lnTo>
                      <a:pt x="335" y="416"/>
                    </a:lnTo>
                    <a:lnTo>
                      <a:pt x="384" y="384"/>
                    </a:lnTo>
                    <a:lnTo>
                      <a:pt x="432" y="349"/>
                    </a:lnTo>
                    <a:lnTo>
                      <a:pt x="478" y="313"/>
                    </a:lnTo>
                    <a:lnTo>
                      <a:pt x="523" y="275"/>
                    </a:lnTo>
                    <a:lnTo>
                      <a:pt x="566" y="236"/>
                    </a:lnTo>
                    <a:lnTo>
                      <a:pt x="609" y="195"/>
                    </a:lnTo>
                    <a:lnTo>
                      <a:pt x="649" y="152"/>
                    </a:lnTo>
                    <a:lnTo>
                      <a:pt x="688" y="108"/>
                    </a:lnTo>
                    <a:lnTo>
                      <a:pt x="726" y="63"/>
                    </a:lnTo>
                    <a:lnTo>
                      <a:pt x="762" y="17"/>
                    </a:lnTo>
                    <a:lnTo>
                      <a:pt x="748" y="3"/>
                    </a:lnTo>
                    <a:lnTo>
                      <a:pt x="746" y="0"/>
                    </a:lnTo>
                    <a:lnTo>
                      <a:pt x="710" y="46"/>
                    </a:lnTo>
                    <a:lnTo>
                      <a:pt x="673" y="92"/>
                    </a:lnTo>
                    <a:lnTo>
                      <a:pt x="634" y="136"/>
                    </a:lnTo>
                    <a:lnTo>
                      <a:pt x="594" y="178"/>
                    </a:lnTo>
                    <a:lnTo>
                      <a:pt x="551" y="219"/>
                    </a:lnTo>
                    <a:lnTo>
                      <a:pt x="507" y="258"/>
                    </a:lnTo>
                    <a:lnTo>
                      <a:pt x="462" y="296"/>
                    </a:lnTo>
                    <a:lnTo>
                      <a:pt x="416" y="332"/>
                    </a:lnTo>
                    <a:lnTo>
                      <a:pt x="368" y="366"/>
                    </a:lnTo>
                    <a:lnTo>
                      <a:pt x="319" y="400"/>
                    </a:lnTo>
                    <a:lnTo>
                      <a:pt x="268" y="431"/>
                    </a:lnTo>
                    <a:lnTo>
                      <a:pt x="218" y="460"/>
                    </a:lnTo>
                    <a:lnTo>
                      <a:pt x="165" y="487"/>
                    </a:lnTo>
                    <a:lnTo>
                      <a:pt x="110" y="512"/>
                    </a:lnTo>
                    <a:lnTo>
                      <a:pt x="56" y="536"/>
                    </a:lnTo>
                    <a:lnTo>
                      <a:pt x="0" y="557"/>
                    </a:lnTo>
                    <a:lnTo>
                      <a:pt x="17" y="5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334200" y="418608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2" h="578">
                    <a:moveTo>
                      <a:pt x="17" y="578"/>
                    </a:moveTo>
                    <a:lnTo>
                      <a:pt x="72" y="556"/>
                    </a:lnTo>
                    <a:lnTo>
                      <a:pt x="128" y="533"/>
                    </a:lnTo>
                    <a:lnTo>
                      <a:pt x="181" y="507"/>
                    </a:lnTo>
                    <a:lnTo>
                      <a:pt x="234" y="480"/>
                    </a:lnTo>
                    <a:lnTo>
                      <a:pt x="285" y="451"/>
                    </a:lnTo>
                    <a:lnTo>
                      <a:pt x="335" y="420"/>
                    </a:lnTo>
                    <a:lnTo>
                      <a:pt x="384" y="388"/>
                    </a:lnTo>
                    <a:lnTo>
                      <a:pt x="432" y="353"/>
                    </a:lnTo>
                    <a:lnTo>
                      <a:pt x="478" y="317"/>
                    </a:lnTo>
                    <a:lnTo>
                      <a:pt x="523" y="279"/>
                    </a:lnTo>
                    <a:lnTo>
                      <a:pt x="566" y="240"/>
                    </a:lnTo>
                    <a:lnTo>
                      <a:pt x="609" y="198"/>
                    </a:lnTo>
                    <a:lnTo>
                      <a:pt x="649" y="156"/>
                    </a:lnTo>
                    <a:lnTo>
                      <a:pt x="688" y="112"/>
                    </a:lnTo>
                    <a:lnTo>
                      <a:pt x="726" y="67"/>
                    </a:lnTo>
                    <a:lnTo>
                      <a:pt x="762" y="21"/>
                    </a:lnTo>
                    <a:lnTo>
                      <a:pt x="756" y="15"/>
                    </a:lnTo>
                    <a:lnTo>
                      <a:pt x="748" y="0"/>
                    </a:lnTo>
                    <a:lnTo>
                      <a:pt x="712" y="47"/>
                    </a:lnTo>
                    <a:lnTo>
                      <a:pt x="676" y="94"/>
                    </a:lnTo>
                    <a:lnTo>
                      <a:pt x="636" y="137"/>
                    </a:lnTo>
                    <a:lnTo>
                      <a:pt x="595" y="180"/>
                    </a:lnTo>
                    <a:lnTo>
                      <a:pt x="553" y="222"/>
                    </a:lnTo>
                    <a:lnTo>
                      <a:pt x="509" y="261"/>
                    </a:lnTo>
                    <a:lnTo>
                      <a:pt x="463" y="299"/>
                    </a:lnTo>
                    <a:lnTo>
                      <a:pt x="417" y="334"/>
                    </a:lnTo>
                    <a:lnTo>
                      <a:pt x="370" y="369"/>
                    </a:lnTo>
                    <a:lnTo>
                      <a:pt x="320" y="403"/>
                    </a:lnTo>
                    <a:lnTo>
                      <a:pt x="270" y="434"/>
                    </a:lnTo>
                    <a:lnTo>
                      <a:pt x="218" y="462"/>
                    </a:lnTo>
                    <a:lnTo>
                      <a:pt x="165" y="490"/>
                    </a:lnTo>
                    <a:lnTo>
                      <a:pt x="110" y="515"/>
                    </a:lnTo>
                    <a:lnTo>
                      <a:pt x="83" y="527"/>
                    </a:lnTo>
                    <a:lnTo>
                      <a:pt x="55" y="539"/>
                    </a:lnTo>
                    <a:lnTo>
                      <a:pt x="27" y="550"/>
                    </a:lnTo>
                    <a:lnTo>
                      <a:pt x="0" y="559"/>
                    </a:lnTo>
                    <a:lnTo>
                      <a:pt x="17" y="57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330960" y="418320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4" h="580">
                    <a:moveTo>
                      <a:pt x="18" y="580"/>
                    </a:moveTo>
                    <a:lnTo>
                      <a:pt x="74" y="559"/>
                    </a:lnTo>
                    <a:lnTo>
                      <a:pt x="128" y="535"/>
                    </a:lnTo>
                    <a:lnTo>
                      <a:pt x="183" y="510"/>
                    </a:lnTo>
                    <a:lnTo>
                      <a:pt x="236" y="483"/>
                    </a:lnTo>
                    <a:lnTo>
                      <a:pt x="286" y="454"/>
                    </a:lnTo>
                    <a:lnTo>
                      <a:pt x="337" y="423"/>
                    </a:lnTo>
                    <a:lnTo>
                      <a:pt x="386" y="389"/>
                    </a:lnTo>
                    <a:lnTo>
                      <a:pt x="434" y="355"/>
                    </a:lnTo>
                    <a:lnTo>
                      <a:pt x="480" y="319"/>
                    </a:lnTo>
                    <a:lnTo>
                      <a:pt x="525" y="281"/>
                    </a:lnTo>
                    <a:lnTo>
                      <a:pt x="569" y="242"/>
                    </a:lnTo>
                    <a:lnTo>
                      <a:pt x="612" y="201"/>
                    </a:lnTo>
                    <a:lnTo>
                      <a:pt x="652" y="159"/>
                    </a:lnTo>
                    <a:lnTo>
                      <a:pt x="691" y="115"/>
                    </a:lnTo>
                    <a:lnTo>
                      <a:pt x="728" y="69"/>
                    </a:lnTo>
                    <a:lnTo>
                      <a:pt x="764" y="23"/>
                    </a:lnTo>
                    <a:lnTo>
                      <a:pt x="752" y="0"/>
                    </a:lnTo>
                    <a:lnTo>
                      <a:pt x="717" y="47"/>
                    </a:lnTo>
                    <a:lnTo>
                      <a:pt x="679" y="93"/>
                    </a:lnTo>
                    <a:lnTo>
                      <a:pt x="639" y="138"/>
                    </a:lnTo>
                    <a:lnTo>
                      <a:pt x="599" y="181"/>
                    </a:lnTo>
                    <a:lnTo>
                      <a:pt x="556" y="222"/>
                    </a:lnTo>
                    <a:lnTo>
                      <a:pt x="513" y="262"/>
                    </a:lnTo>
                    <a:lnTo>
                      <a:pt x="468" y="301"/>
                    </a:lnTo>
                    <a:lnTo>
                      <a:pt x="420" y="336"/>
                    </a:lnTo>
                    <a:lnTo>
                      <a:pt x="373" y="372"/>
                    </a:lnTo>
                    <a:lnTo>
                      <a:pt x="323" y="404"/>
                    </a:lnTo>
                    <a:lnTo>
                      <a:pt x="273" y="435"/>
                    </a:lnTo>
                    <a:lnTo>
                      <a:pt x="221" y="464"/>
                    </a:lnTo>
                    <a:lnTo>
                      <a:pt x="194" y="479"/>
                    </a:lnTo>
                    <a:lnTo>
                      <a:pt x="167" y="492"/>
                    </a:lnTo>
                    <a:lnTo>
                      <a:pt x="140" y="505"/>
                    </a:lnTo>
                    <a:lnTo>
                      <a:pt x="112" y="517"/>
                    </a:lnTo>
                    <a:lnTo>
                      <a:pt x="85" y="529"/>
                    </a:lnTo>
                    <a:lnTo>
                      <a:pt x="57" y="540"/>
                    </a:lnTo>
                    <a:lnTo>
                      <a:pt x="29" y="552"/>
                    </a:lnTo>
                    <a:lnTo>
                      <a:pt x="0" y="562"/>
                    </a:lnTo>
                    <a:lnTo>
                      <a:pt x="18" y="58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29520" y="4181400"/>
                <a:ext cx="203040" cy="152640"/>
              </a:xfrm>
              <a:custGeom>
                <a:avLst/>
                <a:gdLst/>
                <a:ahLst/>
                <a:rect l="l" t="t" r="r" b="b"/>
                <a:pathLst>
                  <a:path w="766" h="581">
                    <a:moveTo>
                      <a:pt x="18" y="581"/>
                    </a:moveTo>
                    <a:lnTo>
                      <a:pt x="45" y="572"/>
                    </a:lnTo>
                    <a:lnTo>
                      <a:pt x="73" y="561"/>
                    </a:lnTo>
                    <a:lnTo>
                      <a:pt x="101" y="549"/>
                    </a:lnTo>
                    <a:lnTo>
                      <a:pt x="128" y="537"/>
                    </a:lnTo>
                    <a:lnTo>
                      <a:pt x="183" y="512"/>
                    </a:lnTo>
                    <a:lnTo>
                      <a:pt x="236" y="484"/>
                    </a:lnTo>
                    <a:lnTo>
                      <a:pt x="288" y="456"/>
                    </a:lnTo>
                    <a:lnTo>
                      <a:pt x="338" y="425"/>
                    </a:lnTo>
                    <a:lnTo>
                      <a:pt x="388" y="391"/>
                    </a:lnTo>
                    <a:lnTo>
                      <a:pt x="435" y="356"/>
                    </a:lnTo>
                    <a:lnTo>
                      <a:pt x="481" y="321"/>
                    </a:lnTo>
                    <a:lnTo>
                      <a:pt x="527" y="283"/>
                    </a:lnTo>
                    <a:lnTo>
                      <a:pt x="571" y="244"/>
                    </a:lnTo>
                    <a:lnTo>
                      <a:pt x="613" y="202"/>
                    </a:lnTo>
                    <a:lnTo>
                      <a:pt x="654" y="159"/>
                    </a:lnTo>
                    <a:lnTo>
                      <a:pt x="694" y="116"/>
                    </a:lnTo>
                    <a:lnTo>
                      <a:pt x="730" y="69"/>
                    </a:lnTo>
                    <a:lnTo>
                      <a:pt x="766" y="22"/>
                    </a:lnTo>
                    <a:lnTo>
                      <a:pt x="755" y="0"/>
                    </a:lnTo>
                    <a:lnTo>
                      <a:pt x="719" y="48"/>
                    </a:lnTo>
                    <a:lnTo>
                      <a:pt x="681" y="94"/>
                    </a:lnTo>
                    <a:lnTo>
                      <a:pt x="642" y="139"/>
                    </a:lnTo>
                    <a:lnTo>
                      <a:pt x="601" y="181"/>
                    </a:lnTo>
                    <a:lnTo>
                      <a:pt x="559" y="224"/>
                    </a:lnTo>
                    <a:lnTo>
                      <a:pt x="515" y="263"/>
                    </a:lnTo>
                    <a:lnTo>
                      <a:pt x="469" y="302"/>
                    </a:lnTo>
                    <a:lnTo>
                      <a:pt x="422" y="338"/>
                    </a:lnTo>
                    <a:lnTo>
                      <a:pt x="398" y="356"/>
                    </a:lnTo>
                    <a:lnTo>
                      <a:pt x="374" y="374"/>
                    </a:lnTo>
                    <a:lnTo>
                      <a:pt x="349" y="390"/>
                    </a:lnTo>
                    <a:lnTo>
                      <a:pt x="324" y="406"/>
                    </a:lnTo>
                    <a:lnTo>
                      <a:pt x="273" y="437"/>
                    </a:lnTo>
                    <a:lnTo>
                      <a:pt x="221" y="467"/>
                    </a:lnTo>
                    <a:lnTo>
                      <a:pt x="194" y="481"/>
                    </a:lnTo>
                    <a:lnTo>
                      <a:pt x="168" y="495"/>
                    </a:lnTo>
                    <a:lnTo>
                      <a:pt x="140" y="508"/>
                    </a:lnTo>
                    <a:lnTo>
                      <a:pt x="112" y="519"/>
                    </a:lnTo>
                    <a:lnTo>
                      <a:pt x="85" y="532"/>
                    </a:lnTo>
                    <a:lnTo>
                      <a:pt x="57" y="543"/>
                    </a:lnTo>
                    <a:lnTo>
                      <a:pt x="28" y="554"/>
                    </a:lnTo>
                    <a:lnTo>
                      <a:pt x="0" y="564"/>
                    </a:lnTo>
                    <a:lnTo>
                      <a:pt x="18" y="58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26280" y="4178160"/>
                <a:ext cx="204840" cy="154080"/>
              </a:xfrm>
              <a:custGeom>
                <a:avLst/>
                <a:gdLst/>
                <a:ahLst/>
                <a:rect l="l" t="t" r="r" b="b"/>
                <a:pathLst>
                  <a:path w="769" h="584">
                    <a:moveTo>
                      <a:pt x="17" y="584"/>
                    </a:moveTo>
                    <a:lnTo>
                      <a:pt x="46" y="574"/>
                    </a:lnTo>
                    <a:lnTo>
                      <a:pt x="74" y="562"/>
                    </a:lnTo>
                    <a:lnTo>
                      <a:pt x="102" y="551"/>
                    </a:lnTo>
                    <a:lnTo>
                      <a:pt x="129" y="539"/>
                    </a:lnTo>
                    <a:lnTo>
                      <a:pt x="157" y="527"/>
                    </a:lnTo>
                    <a:lnTo>
                      <a:pt x="184" y="514"/>
                    </a:lnTo>
                    <a:lnTo>
                      <a:pt x="211" y="501"/>
                    </a:lnTo>
                    <a:lnTo>
                      <a:pt x="238" y="486"/>
                    </a:lnTo>
                    <a:lnTo>
                      <a:pt x="290" y="457"/>
                    </a:lnTo>
                    <a:lnTo>
                      <a:pt x="340" y="426"/>
                    </a:lnTo>
                    <a:lnTo>
                      <a:pt x="390" y="394"/>
                    </a:lnTo>
                    <a:lnTo>
                      <a:pt x="437" y="358"/>
                    </a:lnTo>
                    <a:lnTo>
                      <a:pt x="485" y="323"/>
                    </a:lnTo>
                    <a:lnTo>
                      <a:pt x="530" y="284"/>
                    </a:lnTo>
                    <a:lnTo>
                      <a:pt x="573" y="244"/>
                    </a:lnTo>
                    <a:lnTo>
                      <a:pt x="616" y="203"/>
                    </a:lnTo>
                    <a:lnTo>
                      <a:pt x="656" y="160"/>
                    </a:lnTo>
                    <a:lnTo>
                      <a:pt x="696" y="115"/>
                    </a:lnTo>
                    <a:lnTo>
                      <a:pt x="734" y="69"/>
                    </a:lnTo>
                    <a:lnTo>
                      <a:pt x="769" y="22"/>
                    </a:lnTo>
                    <a:lnTo>
                      <a:pt x="758" y="0"/>
                    </a:lnTo>
                    <a:lnTo>
                      <a:pt x="722" y="48"/>
                    </a:lnTo>
                    <a:lnTo>
                      <a:pt x="684" y="94"/>
                    </a:lnTo>
                    <a:lnTo>
                      <a:pt x="645" y="139"/>
                    </a:lnTo>
                    <a:lnTo>
                      <a:pt x="604" y="183"/>
                    </a:lnTo>
                    <a:lnTo>
                      <a:pt x="562" y="225"/>
                    </a:lnTo>
                    <a:lnTo>
                      <a:pt x="518" y="265"/>
                    </a:lnTo>
                    <a:lnTo>
                      <a:pt x="472" y="304"/>
                    </a:lnTo>
                    <a:lnTo>
                      <a:pt x="425" y="340"/>
                    </a:lnTo>
                    <a:lnTo>
                      <a:pt x="400" y="358"/>
                    </a:lnTo>
                    <a:lnTo>
                      <a:pt x="376" y="376"/>
                    </a:lnTo>
                    <a:lnTo>
                      <a:pt x="351" y="392"/>
                    </a:lnTo>
                    <a:lnTo>
                      <a:pt x="327" y="409"/>
                    </a:lnTo>
                    <a:lnTo>
                      <a:pt x="300" y="424"/>
                    </a:lnTo>
                    <a:lnTo>
                      <a:pt x="275" y="440"/>
                    </a:lnTo>
                    <a:lnTo>
                      <a:pt x="249" y="455"/>
                    </a:lnTo>
                    <a:lnTo>
                      <a:pt x="223" y="469"/>
                    </a:lnTo>
                    <a:lnTo>
                      <a:pt x="195" y="483"/>
                    </a:lnTo>
                    <a:lnTo>
                      <a:pt x="169" y="497"/>
                    </a:lnTo>
                    <a:lnTo>
                      <a:pt x="141" y="509"/>
                    </a:lnTo>
                    <a:lnTo>
                      <a:pt x="113" y="522"/>
                    </a:lnTo>
                    <a:lnTo>
                      <a:pt x="85" y="533"/>
                    </a:lnTo>
                    <a:lnTo>
                      <a:pt x="58" y="545"/>
                    </a:lnTo>
                    <a:lnTo>
                      <a:pt x="29" y="555"/>
                    </a:lnTo>
                    <a:lnTo>
                      <a:pt x="0" y="566"/>
                    </a:lnTo>
                    <a:lnTo>
                      <a:pt x="17" y="58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24480" y="4175280"/>
                <a:ext cx="204840" cy="153720"/>
              </a:xfrm>
              <a:custGeom>
                <a:avLst/>
                <a:gdLst/>
                <a:ahLst/>
                <a:rect l="l" t="t" r="r" b="b"/>
                <a:pathLst>
                  <a:path w="772" h="587">
                    <a:moveTo>
                      <a:pt x="17" y="587"/>
                    </a:moveTo>
                    <a:lnTo>
                      <a:pt x="45" y="577"/>
                    </a:lnTo>
                    <a:lnTo>
                      <a:pt x="74" y="566"/>
                    </a:lnTo>
                    <a:lnTo>
                      <a:pt x="102" y="555"/>
                    </a:lnTo>
                    <a:lnTo>
                      <a:pt x="129" y="542"/>
                    </a:lnTo>
                    <a:lnTo>
                      <a:pt x="157" y="531"/>
                    </a:lnTo>
                    <a:lnTo>
                      <a:pt x="185" y="518"/>
                    </a:lnTo>
                    <a:lnTo>
                      <a:pt x="211" y="504"/>
                    </a:lnTo>
                    <a:lnTo>
                      <a:pt x="238" y="490"/>
                    </a:lnTo>
                    <a:lnTo>
                      <a:pt x="290" y="460"/>
                    </a:lnTo>
                    <a:lnTo>
                      <a:pt x="341" y="429"/>
                    </a:lnTo>
                    <a:lnTo>
                      <a:pt x="366" y="413"/>
                    </a:lnTo>
                    <a:lnTo>
                      <a:pt x="391" y="397"/>
                    </a:lnTo>
                    <a:lnTo>
                      <a:pt x="415" y="379"/>
                    </a:lnTo>
                    <a:lnTo>
                      <a:pt x="439" y="361"/>
                    </a:lnTo>
                    <a:lnTo>
                      <a:pt x="486" y="325"/>
                    </a:lnTo>
                    <a:lnTo>
                      <a:pt x="532" y="286"/>
                    </a:lnTo>
                    <a:lnTo>
                      <a:pt x="576" y="247"/>
                    </a:lnTo>
                    <a:lnTo>
                      <a:pt x="618" y="204"/>
                    </a:lnTo>
                    <a:lnTo>
                      <a:pt x="659" y="162"/>
                    </a:lnTo>
                    <a:lnTo>
                      <a:pt x="698" y="117"/>
                    </a:lnTo>
                    <a:lnTo>
                      <a:pt x="736" y="71"/>
                    </a:lnTo>
                    <a:lnTo>
                      <a:pt x="772" y="23"/>
                    </a:lnTo>
                    <a:lnTo>
                      <a:pt x="760" y="0"/>
                    </a:lnTo>
                    <a:lnTo>
                      <a:pt x="724" y="49"/>
                    </a:lnTo>
                    <a:lnTo>
                      <a:pt x="686" y="96"/>
                    </a:lnTo>
                    <a:lnTo>
                      <a:pt x="647" y="141"/>
                    </a:lnTo>
                    <a:lnTo>
                      <a:pt x="607" y="185"/>
                    </a:lnTo>
                    <a:lnTo>
                      <a:pt x="585" y="207"/>
                    </a:lnTo>
                    <a:lnTo>
                      <a:pt x="564" y="227"/>
                    </a:lnTo>
                    <a:lnTo>
                      <a:pt x="541" y="247"/>
                    </a:lnTo>
                    <a:lnTo>
                      <a:pt x="519" y="268"/>
                    </a:lnTo>
                    <a:lnTo>
                      <a:pt x="496" y="287"/>
                    </a:lnTo>
                    <a:lnTo>
                      <a:pt x="473" y="306"/>
                    </a:lnTo>
                    <a:lnTo>
                      <a:pt x="450" y="325"/>
                    </a:lnTo>
                    <a:lnTo>
                      <a:pt x="426" y="343"/>
                    </a:lnTo>
                    <a:lnTo>
                      <a:pt x="401" y="361"/>
                    </a:lnTo>
                    <a:lnTo>
                      <a:pt x="377" y="378"/>
                    </a:lnTo>
                    <a:lnTo>
                      <a:pt x="352" y="396"/>
                    </a:lnTo>
                    <a:lnTo>
                      <a:pt x="328" y="412"/>
                    </a:lnTo>
                    <a:lnTo>
                      <a:pt x="301" y="428"/>
                    </a:lnTo>
                    <a:lnTo>
                      <a:pt x="276" y="443"/>
                    </a:lnTo>
                    <a:lnTo>
                      <a:pt x="249" y="458"/>
                    </a:lnTo>
                    <a:lnTo>
                      <a:pt x="223" y="473"/>
                    </a:lnTo>
                    <a:lnTo>
                      <a:pt x="196" y="487"/>
                    </a:lnTo>
                    <a:lnTo>
                      <a:pt x="168" y="499"/>
                    </a:lnTo>
                    <a:lnTo>
                      <a:pt x="141" y="512"/>
                    </a:lnTo>
                    <a:lnTo>
                      <a:pt x="113" y="525"/>
                    </a:lnTo>
                    <a:lnTo>
                      <a:pt x="85" y="536"/>
                    </a:lnTo>
                    <a:lnTo>
                      <a:pt x="57" y="548"/>
                    </a:lnTo>
                    <a:lnTo>
                      <a:pt x="29" y="559"/>
                    </a:lnTo>
                    <a:lnTo>
                      <a:pt x="0" y="569"/>
                    </a:lnTo>
                    <a:lnTo>
                      <a:pt x="17" y="587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21600" y="417204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75" h="589">
                    <a:moveTo>
                      <a:pt x="17" y="589"/>
                    </a:moveTo>
                    <a:lnTo>
                      <a:pt x="46" y="578"/>
                    </a:lnTo>
                    <a:lnTo>
                      <a:pt x="75" y="568"/>
                    </a:lnTo>
                    <a:lnTo>
                      <a:pt x="102" y="556"/>
                    </a:lnTo>
                    <a:lnTo>
                      <a:pt x="130" y="545"/>
                    </a:lnTo>
                    <a:lnTo>
                      <a:pt x="158" y="532"/>
                    </a:lnTo>
                    <a:lnTo>
                      <a:pt x="186" y="520"/>
                    </a:lnTo>
                    <a:lnTo>
                      <a:pt x="212" y="506"/>
                    </a:lnTo>
                    <a:lnTo>
                      <a:pt x="240" y="492"/>
                    </a:lnTo>
                    <a:lnTo>
                      <a:pt x="266" y="478"/>
                    </a:lnTo>
                    <a:lnTo>
                      <a:pt x="292" y="463"/>
                    </a:lnTo>
                    <a:lnTo>
                      <a:pt x="317" y="447"/>
                    </a:lnTo>
                    <a:lnTo>
                      <a:pt x="344" y="432"/>
                    </a:lnTo>
                    <a:lnTo>
                      <a:pt x="368" y="415"/>
                    </a:lnTo>
                    <a:lnTo>
                      <a:pt x="393" y="399"/>
                    </a:lnTo>
                    <a:lnTo>
                      <a:pt x="417" y="381"/>
                    </a:lnTo>
                    <a:lnTo>
                      <a:pt x="442" y="363"/>
                    </a:lnTo>
                    <a:lnTo>
                      <a:pt x="489" y="327"/>
                    </a:lnTo>
                    <a:lnTo>
                      <a:pt x="535" y="288"/>
                    </a:lnTo>
                    <a:lnTo>
                      <a:pt x="579" y="248"/>
                    </a:lnTo>
                    <a:lnTo>
                      <a:pt x="621" y="206"/>
                    </a:lnTo>
                    <a:lnTo>
                      <a:pt x="662" y="162"/>
                    </a:lnTo>
                    <a:lnTo>
                      <a:pt x="701" y="117"/>
                    </a:lnTo>
                    <a:lnTo>
                      <a:pt x="739" y="71"/>
                    </a:lnTo>
                    <a:lnTo>
                      <a:pt x="775" y="23"/>
                    </a:lnTo>
                    <a:lnTo>
                      <a:pt x="763" y="0"/>
                    </a:lnTo>
                    <a:lnTo>
                      <a:pt x="745" y="25"/>
                    </a:lnTo>
                    <a:lnTo>
                      <a:pt x="728" y="49"/>
                    </a:lnTo>
                    <a:lnTo>
                      <a:pt x="708" y="72"/>
                    </a:lnTo>
                    <a:lnTo>
                      <a:pt x="690" y="95"/>
                    </a:lnTo>
                    <a:lnTo>
                      <a:pt x="670" y="118"/>
                    </a:lnTo>
                    <a:lnTo>
                      <a:pt x="650" y="141"/>
                    </a:lnTo>
                    <a:lnTo>
                      <a:pt x="630" y="163"/>
                    </a:lnTo>
                    <a:lnTo>
                      <a:pt x="609" y="185"/>
                    </a:lnTo>
                    <a:lnTo>
                      <a:pt x="588" y="207"/>
                    </a:lnTo>
                    <a:lnTo>
                      <a:pt x="566" y="228"/>
                    </a:lnTo>
                    <a:lnTo>
                      <a:pt x="544" y="249"/>
                    </a:lnTo>
                    <a:lnTo>
                      <a:pt x="522" y="268"/>
                    </a:lnTo>
                    <a:lnTo>
                      <a:pt x="476" y="307"/>
                    </a:lnTo>
                    <a:lnTo>
                      <a:pt x="429" y="344"/>
                    </a:lnTo>
                    <a:lnTo>
                      <a:pt x="379" y="380"/>
                    </a:lnTo>
                    <a:lnTo>
                      <a:pt x="329" y="414"/>
                    </a:lnTo>
                    <a:lnTo>
                      <a:pt x="303" y="430"/>
                    </a:lnTo>
                    <a:lnTo>
                      <a:pt x="278" y="445"/>
                    </a:lnTo>
                    <a:lnTo>
                      <a:pt x="251" y="460"/>
                    </a:lnTo>
                    <a:lnTo>
                      <a:pt x="225" y="475"/>
                    </a:lnTo>
                    <a:lnTo>
                      <a:pt x="197" y="488"/>
                    </a:lnTo>
                    <a:lnTo>
                      <a:pt x="169" y="502"/>
                    </a:lnTo>
                    <a:lnTo>
                      <a:pt x="142" y="515"/>
                    </a:lnTo>
                    <a:lnTo>
                      <a:pt x="114" y="527"/>
                    </a:lnTo>
                    <a:lnTo>
                      <a:pt x="86" y="539"/>
                    </a:lnTo>
                    <a:lnTo>
                      <a:pt x="57" y="550"/>
                    </a:lnTo>
                    <a:lnTo>
                      <a:pt x="29" y="561"/>
                    </a:lnTo>
                    <a:lnTo>
                      <a:pt x="0" y="571"/>
                    </a:lnTo>
                    <a:lnTo>
                      <a:pt x="17" y="589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19800" y="416880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77" h="590">
                    <a:moveTo>
                      <a:pt x="17" y="590"/>
                    </a:moveTo>
                    <a:lnTo>
                      <a:pt x="46" y="580"/>
                    </a:lnTo>
                    <a:lnTo>
                      <a:pt x="74" y="569"/>
                    </a:lnTo>
                    <a:lnTo>
                      <a:pt x="102" y="557"/>
                    </a:lnTo>
                    <a:lnTo>
                      <a:pt x="130" y="546"/>
                    </a:lnTo>
                    <a:lnTo>
                      <a:pt x="158" y="533"/>
                    </a:lnTo>
                    <a:lnTo>
                      <a:pt x="185" y="520"/>
                    </a:lnTo>
                    <a:lnTo>
                      <a:pt x="213" y="508"/>
                    </a:lnTo>
                    <a:lnTo>
                      <a:pt x="240" y="494"/>
                    </a:lnTo>
                    <a:lnTo>
                      <a:pt x="266" y="479"/>
                    </a:lnTo>
                    <a:lnTo>
                      <a:pt x="293" y="464"/>
                    </a:lnTo>
                    <a:lnTo>
                      <a:pt x="318" y="449"/>
                    </a:lnTo>
                    <a:lnTo>
                      <a:pt x="345" y="433"/>
                    </a:lnTo>
                    <a:lnTo>
                      <a:pt x="369" y="417"/>
                    </a:lnTo>
                    <a:lnTo>
                      <a:pt x="394" y="399"/>
                    </a:lnTo>
                    <a:lnTo>
                      <a:pt x="418" y="382"/>
                    </a:lnTo>
                    <a:lnTo>
                      <a:pt x="443" y="364"/>
                    </a:lnTo>
                    <a:lnTo>
                      <a:pt x="467" y="346"/>
                    </a:lnTo>
                    <a:lnTo>
                      <a:pt x="490" y="327"/>
                    </a:lnTo>
                    <a:lnTo>
                      <a:pt x="513" y="308"/>
                    </a:lnTo>
                    <a:lnTo>
                      <a:pt x="536" y="289"/>
                    </a:lnTo>
                    <a:lnTo>
                      <a:pt x="558" y="268"/>
                    </a:lnTo>
                    <a:lnTo>
                      <a:pt x="581" y="248"/>
                    </a:lnTo>
                    <a:lnTo>
                      <a:pt x="602" y="228"/>
                    </a:lnTo>
                    <a:lnTo>
                      <a:pt x="624" y="206"/>
                    </a:lnTo>
                    <a:lnTo>
                      <a:pt x="664" y="162"/>
                    </a:lnTo>
                    <a:lnTo>
                      <a:pt x="703" y="117"/>
                    </a:lnTo>
                    <a:lnTo>
                      <a:pt x="741" y="70"/>
                    </a:lnTo>
                    <a:lnTo>
                      <a:pt x="777" y="21"/>
                    </a:lnTo>
                    <a:lnTo>
                      <a:pt x="768" y="4"/>
                    </a:lnTo>
                    <a:lnTo>
                      <a:pt x="764" y="0"/>
                    </a:lnTo>
                    <a:lnTo>
                      <a:pt x="729" y="49"/>
                    </a:lnTo>
                    <a:lnTo>
                      <a:pt x="691" y="96"/>
                    </a:lnTo>
                    <a:lnTo>
                      <a:pt x="671" y="119"/>
                    </a:lnTo>
                    <a:lnTo>
                      <a:pt x="651" y="142"/>
                    </a:lnTo>
                    <a:lnTo>
                      <a:pt x="631" y="164"/>
                    </a:lnTo>
                    <a:lnTo>
                      <a:pt x="610" y="186"/>
                    </a:lnTo>
                    <a:lnTo>
                      <a:pt x="589" y="208"/>
                    </a:lnTo>
                    <a:lnTo>
                      <a:pt x="567" y="229"/>
                    </a:lnTo>
                    <a:lnTo>
                      <a:pt x="545" y="249"/>
                    </a:lnTo>
                    <a:lnTo>
                      <a:pt x="523" y="270"/>
                    </a:lnTo>
                    <a:lnTo>
                      <a:pt x="500" y="290"/>
                    </a:lnTo>
                    <a:lnTo>
                      <a:pt x="477" y="309"/>
                    </a:lnTo>
                    <a:lnTo>
                      <a:pt x="453" y="328"/>
                    </a:lnTo>
                    <a:lnTo>
                      <a:pt x="429" y="346"/>
                    </a:lnTo>
                    <a:lnTo>
                      <a:pt x="405" y="365"/>
                    </a:lnTo>
                    <a:lnTo>
                      <a:pt x="380" y="382"/>
                    </a:lnTo>
                    <a:lnTo>
                      <a:pt x="355" y="398"/>
                    </a:lnTo>
                    <a:lnTo>
                      <a:pt x="330" y="415"/>
                    </a:lnTo>
                    <a:lnTo>
                      <a:pt x="303" y="432"/>
                    </a:lnTo>
                    <a:lnTo>
                      <a:pt x="278" y="447"/>
                    </a:lnTo>
                    <a:lnTo>
                      <a:pt x="251" y="462"/>
                    </a:lnTo>
                    <a:lnTo>
                      <a:pt x="225" y="475"/>
                    </a:lnTo>
                    <a:lnTo>
                      <a:pt x="197" y="490"/>
                    </a:lnTo>
                    <a:lnTo>
                      <a:pt x="169" y="503"/>
                    </a:lnTo>
                    <a:lnTo>
                      <a:pt x="142" y="516"/>
                    </a:lnTo>
                    <a:lnTo>
                      <a:pt x="114" y="528"/>
                    </a:lnTo>
                    <a:lnTo>
                      <a:pt x="86" y="540"/>
                    </a:lnTo>
                    <a:lnTo>
                      <a:pt x="57" y="552"/>
                    </a:lnTo>
                    <a:lnTo>
                      <a:pt x="29" y="562"/>
                    </a:lnTo>
                    <a:lnTo>
                      <a:pt x="0" y="572"/>
                    </a:lnTo>
                    <a:lnTo>
                      <a:pt x="17" y="590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18360" y="416736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80" h="589">
                    <a:moveTo>
                      <a:pt x="17" y="589"/>
                    </a:moveTo>
                    <a:lnTo>
                      <a:pt x="46" y="579"/>
                    </a:lnTo>
                    <a:lnTo>
                      <a:pt x="74" y="568"/>
                    </a:lnTo>
                    <a:lnTo>
                      <a:pt x="103" y="557"/>
                    </a:lnTo>
                    <a:lnTo>
                      <a:pt x="131" y="545"/>
                    </a:lnTo>
                    <a:lnTo>
                      <a:pt x="159" y="533"/>
                    </a:lnTo>
                    <a:lnTo>
                      <a:pt x="186" y="520"/>
                    </a:lnTo>
                    <a:lnTo>
                      <a:pt x="214" y="506"/>
                    </a:lnTo>
                    <a:lnTo>
                      <a:pt x="242" y="493"/>
                    </a:lnTo>
                    <a:lnTo>
                      <a:pt x="268" y="478"/>
                    </a:lnTo>
                    <a:lnTo>
                      <a:pt x="295" y="463"/>
                    </a:lnTo>
                    <a:lnTo>
                      <a:pt x="320" y="448"/>
                    </a:lnTo>
                    <a:lnTo>
                      <a:pt x="346" y="432"/>
                    </a:lnTo>
                    <a:lnTo>
                      <a:pt x="396" y="398"/>
                    </a:lnTo>
                    <a:lnTo>
                      <a:pt x="446" y="362"/>
                    </a:lnTo>
                    <a:lnTo>
                      <a:pt x="493" y="325"/>
                    </a:lnTo>
                    <a:lnTo>
                      <a:pt x="539" y="286"/>
                    </a:lnTo>
                    <a:lnTo>
                      <a:pt x="561" y="267"/>
                    </a:lnTo>
                    <a:lnTo>
                      <a:pt x="583" y="246"/>
                    </a:lnTo>
                    <a:lnTo>
                      <a:pt x="605" y="225"/>
                    </a:lnTo>
                    <a:lnTo>
                      <a:pt x="626" y="203"/>
                    </a:lnTo>
                    <a:lnTo>
                      <a:pt x="647" y="181"/>
                    </a:lnTo>
                    <a:lnTo>
                      <a:pt x="667" y="159"/>
                    </a:lnTo>
                    <a:lnTo>
                      <a:pt x="687" y="136"/>
                    </a:lnTo>
                    <a:lnTo>
                      <a:pt x="707" y="113"/>
                    </a:lnTo>
                    <a:lnTo>
                      <a:pt x="725" y="90"/>
                    </a:lnTo>
                    <a:lnTo>
                      <a:pt x="745" y="67"/>
                    </a:lnTo>
                    <a:lnTo>
                      <a:pt x="762" y="43"/>
                    </a:lnTo>
                    <a:lnTo>
                      <a:pt x="780" y="18"/>
                    </a:lnTo>
                    <a:lnTo>
                      <a:pt x="777" y="12"/>
                    </a:lnTo>
                    <a:lnTo>
                      <a:pt x="764" y="0"/>
                    </a:lnTo>
                    <a:lnTo>
                      <a:pt x="747" y="25"/>
                    </a:lnTo>
                    <a:lnTo>
                      <a:pt x="728" y="49"/>
                    </a:lnTo>
                    <a:lnTo>
                      <a:pt x="710" y="73"/>
                    </a:lnTo>
                    <a:lnTo>
                      <a:pt x="692" y="96"/>
                    </a:lnTo>
                    <a:lnTo>
                      <a:pt x="672" y="119"/>
                    </a:lnTo>
                    <a:lnTo>
                      <a:pt x="652" y="142"/>
                    </a:lnTo>
                    <a:lnTo>
                      <a:pt x="632" y="164"/>
                    </a:lnTo>
                    <a:lnTo>
                      <a:pt x="611" y="186"/>
                    </a:lnTo>
                    <a:lnTo>
                      <a:pt x="590" y="208"/>
                    </a:lnTo>
                    <a:lnTo>
                      <a:pt x="568" y="229"/>
                    </a:lnTo>
                    <a:lnTo>
                      <a:pt x="546" y="249"/>
                    </a:lnTo>
                    <a:lnTo>
                      <a:pt x="523" y="270"/>
                    </a:lnTo>
                    <a:lnTo>
                      <a:pt x="501" y="290"/>
                    </a:lnTo>
                    <a:lnTo>
                      <a:pt x="477" y="309"/>
                    </a:lnTo>
                    <a:lnTo>
                      <a:pt x="454" y="328"/>
                    </a:lnTo>
                    <a:lnTo>
                      <a:pt x="430" y="346"/>
                    </a:lnTo>
                    <a:lnTo>
                      <a:pt x="406" y="364"/>
                    </a:lnTo>
                    <a:lnTo>
                      <a:pt x="381" y="381"/>
                    </a:lnTo>
                    <a:lnTo>
                      <a:pt x="356" y="398"/>
                    </a:lnTo>
                    <a:lnTo>
                      <a:pt x="331" y="414"/>
                    </a:lnTo>
                    <a:lnTo>
                      <a:pt x="304" y="430"/>
                    </a:lnTo>
                    <a:lnTo>
                      <a:pt x="279" y="447"/>
                    </a:lnTo>
                    <a:lnTo>
                      <a:pt x="252" y="462"/>
                    </a:lnTo>
                    <a:lnTo>
                      <a:pt x="224" y="475"/>
                    </a:lnTo>
                    <a:lnTo>
                      <a:pt x="198" y="489"/>
                    </a:lnTo>
                    <a:lnTo>
                      <a:pt x="170" y="503"/>
                    </a:lnTo>
                    <a:lnTo>
                      <a:pt x="143" y="516"/>
                    </a:lnTo>
                    <a:lnTo>
                      <a:pt x="115" y="527"/>
                    </a:lnTo>
                    <a:lnTo>
                      <a:pt x="86" y="539"/>
                    </a:lnTo>
                    <a:lnTo>
                      <a:pt x="57" y="550"/>
                    </a:lnTo>
                    <a:lnTo>
                      <a:pt x="28" y="561"/>
                    </a:lnTo>
                    <a:lnTo>
                      <a:pt x="0" y="571"/>
                    </a:lnTo>
                    <a:lnTo>
                      <a:pt x="17" y="589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15120" y="4165560"/>
                <a:ext cx="208080" cy="155520"/>
              </a:xfrm>
              <a:custGeom>
                <a:avLst/>
                <a:gdLst/>
                <a:ahLst/>
                <a:rect l="l" t="t" r="r" b="b"/>
                <a:pathLst>
                  <a:path w="783" h="588">
                    <a:moveTo>
                      <a:pt x="19" y="588"/>
                    </a:moveTo>
                    <a:lnTo>
                      <a:pt x="48" y="578"/>
                    </a:lnTo>
                    <a:lnTo>
                      <a:pt x="76" y="568"/>
                    </a:lnTo>
                    <a:lnTo>
                      <a:pt x="105" y="556"/>
                    </a:lnTo>
                    <a:lnTo>
                      <a:pt x="133" y="544"/>
                    </a:lnTo>
                    <a:lnTo>
                      <a:pt x="161" y="532"/>
                    </a:lnTo>
                    <a:lnTo>
                      <a:pt x="188" y="519"/>
                    </a:lnTo>
                    <a:lnTo>
                      <a:pt x="216" y="506"/>
                    </a:lnTo>
                    <a:lnTo>
                      <a:pt x="244" y="491"/>
                    </a:lnTo>
                    <a:lnTo>
                      <a:pt x="270" y="478"/>
                    </a:lnTo>
                    <a:lnTo>
                      <a:pt x="297" y="463"/>
                    </a:lnTo>
                    <a:lnTo>
                      <a:pt x="322" y="448"/>
                    </a:lnTo>
                    <a:lnTo>
                      <a:pt x="349" y="431"/>
                    </a:lnTo>
                    <a:lnTo>
                      <a:pt x="374" y="414"/>
                    </a:lnTo>
                    <a:lnTo>
                      <a:pt x="399" y="398"/>
                    </a:lnTo>
                    <a:lnTo>
                      <a:pt x="424" y="381"/>
                    </a:lnTo>
                    <a:lnTo>
                      <a:pt x="448" y="362"/>
                    </a:lnTo>
                    <a:lnTo>
                      <a:pt x="472" y="344"/>
                    </a:lnTo>
                    <a:lnTo>
                      <a:pt x="496" y="325"/>
                    </a:lnTo>
                    <a:lnTo>
                      <a:pt x="519" y="306"/>
                    </a:lnTo>
                    <a:lnTo>
                      <a:pt x="542" y="286"/>
                    </a:lnTo>
                    <a:lnTo>
                      <a:pt x="564" y="265"/>
                    </a:lnTo>
                    <a:lnTo>
                      <a:pt x="586" y="245"/>
                    </a:lnTo>
                    <a:lnTo>
                      <a:pt x="608" y="224"/>
                    </a:lnTo>
                    <a:lnTo>
                      <a:pt x="629" y="202"/>
                    </a:lnTo>
                    <a:lnTo>
                      <a:pt x="650" y="180"/>
                    </a:lnTo>
                    <a:lnTo>
                      <a:pt x="670" y="158"/>
                    </a:lnTo>
                    <a:lnTo>
                      <a:pt x="690" y="135"/>
                    </a:lnTo>
                    <a:lnTo>
                      <a:pt x="710" y="112"/>
                    </a:lnTo>
                    <a:lnTo>
                      <a:pt x="748" y="65"/>
                    </a:lnTo>
                    <a:lnTo>
                      <a:pt x="783" y="16"/>
                    </a:lnTo>
                    <a:lnTo>
                      <a:pt x="766" y="0"/>
                    </a:lnTo>
                    <a:lnTo>
                      <a:pt x="749" y="25"/>
                    </a:lnTo>
                    <a:lnTo>
                      <a:pt x="730" y="49"/>
                    </a:lnTo>
                    <a:lnTo>
                      <a:pt x="712" y="73"/>
                    </a:lnTo>
                    <a:lnTo>
                      <a:pt x="693" y="96"/>
                    </a:lnTo>
                    <a:lnTo>
                      <a:pt x="674" y="119"/>
                    </a:lnTo>
                    <a:lnTo>
                      <a:pt x="654" y="142"/>
                    </a:lnTo>
                    <a:lnTo>
                      <a:pt x="634" y="164"/>
                    </a:lnTo>
                    <a:lnTo>
                      <a:pt x="613" y="186"/>
                    </a:lnTo>
                    <a:lnTo>
                      <a:pt x="592" y="208"/>
                    </a:lnTo>
                    <a:lnTo>
                      <a:pt x="570" y="229"/>
                    </a:lnTo>
                    <a:lnTo>
                      <a:pt x="548" y="249"/>
                    </a:lnTo>
                    <a:lnTo>
                      <a:pt x="525" y="270"/>
                    </a:lnTo>
                    <a:lnTo>
                      <a:pt x="503" y="290"/>
                    </a:lnTo>
                    <a:lnTo>
                      <a:pt x="479" y="309"/>
                    </a:lnTo>
                    <a:lnTo>
                      <a:pt x="456" y="328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1"/>
                    </a:lnTo>
                    <a:lnTo>
                      <a:pt x="358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5"/>
                    </a:lnTo>
                    <a:lnTo>
                      <a:pt x="199" y="489"/>
                    </a:lnTo>
                    <a:lnTo>
                      <a:pt x="172" y="502"/>
                    </a:lnTo>
                    <a:lnTo>
                      <a:pt x="143" y="514"/>
                    </a:lnTo>
                    <a:lnTo>
                      <a:pt x="116" y="527"/>
                    </a:lnTo>
                    <a:lnTo>
                      <a:pt x="87" y="539"/>
                    </a:lnTo>
                    <a:lnTo>
                      <a:pt x="59" y="549"/>
                    </a:lnTo>
                    <a:lnTo>
                      <a:pt x="29" y="559"/>
                    </a:lnTo>
                    <a:lnTo>
                      <a:pt x="0" y="570"/>
                    </a:lnTo>
                    <a:lnTo>
                      <a:pt x="19" y="5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13320" y="4162320"/>
                <a:ext cx="206640" cy="155520"/>
              </a:xfrm>
              <a:custGeom>
                <a:avLst/>
                <a:gdLst/>
                <a:ahLst/>
                <a:rect l="l" t="t" r="r" b="b"/>
                <a:pathLst>
                  <a:path w="782" h="587">
                    <a:moveTo>
                      <a:pt x="18" y="587"/>
                    </a:moveTo>
                    <a:lnTo>
                      <a:pt x="46" y="577"/>
                    </a:lnTo>
                    <a:lnTo>
                      <a:pt x="75" y="566"/>
                    </a:lnTo>
                    <a:lnTo>
                      <a:pt x="104" y="555"/>
                    </a:lnTo>
                    <a:lnTo>
                      <a:pt x="133" y="543"/>
                    </a:lnTo>
                    <a:lnTo>
                      <a:pt x="161" y="532"/>
                    </a:lnTo>
                    <a:lnTo>
                      <a:pt x="188" y="519"/>
                    </a:lnTo>
                    <a:lnTo>
                      <a:pt x="216" y="505"/>
                    </a:lnTo>
                    <a:lnTo>
                      <a:pt x="242" y="491"/>
                    </a:lnTo>
                    <a:lnTo>
                      <a:pt x="270" y="478"/>
                    </a:lnTo>
                    <a:lnTo>
                      <a:pt x="297" y="463"/>
                    </a:lnTo>
                    <a:lnTo>
                      <a:pt x="322" y="446"/>
                    </a:lnTo>
                    <a:lnTo>
                      <a:pt x="349" y="430"/>
                    </a:lnTo>
                    <a:lnTo>
                      <a:pt x="374" y="414"/>
                    </a:lnTo>
                    <a:lnTo>
                      <a:pt x="399" y="397"/>
                    </a:lnTo>
                    <a:lnTo>
                      <a:pt x="424" y="380"/>
                    </a:lnTo>
                    <a:lnTo>
                      <a:pt x="448" y="362"/>
                    </a:lnTo>
                    <a:lnTo>
                      <a:pt x="472" y="344"/>
                    </a:lnTo>
                    <a:lnTo>
                      <a:pt x="495" y="325"/>
                    </a:lnTo>
                    <a:lnTo>
                      <a:pt x="519" y="306"/>
                    </a:lnTo>
                    <a:lnTo>
                      <a:pt x="541" y="286"/>
                    </a:lnTo>
                    <a:lnTo>
                      <a:pt x="564" y="265"/>
                    </a:lnTo>
                    <a:lnTo>
                      <a:pt x="586" y="245"/>
                    </a:lnTo>
                    <a:lnTo>
                      <a:pt x="608" y="224"/>
                    </a:lnTo>
                    <a:lnTo>
                      <a:pt x="629" y="202"/>
                    </a:lnTo>
                    <a:lnTo>
                      <a:pt x="650" y="180"/>
                    </a:lnTo>
                    <a:lnTo>
                      <a:pt x="670" y="158"/>
                    </a:lnTo>
                    <a:lnTo>
                      <a:pt x="690" y="135"/>
                    </a:lnTo>
                    <a:lnTo>
                      <a:pt x="710" y="112"/>
                    </a:lnTo>
                    <a:lnTo>
                      <a:pt x="728" y="89"/>
                    </a:lnTo>
                    <a:lnTo>
                      <a:pt x="746" y="65"/>
                    </a:lnTo>
                    <a:lnTo>
                      <a:pt x="765" y="41"/>
                    </a:lnTo>
                    <a:lnTo>
                      <a:pt x="782" y="16"/>
                    </a:lnTo>
                    <a:lnTo>
                      <a:pt x="766" y="0"/>
                    </a:lnTo>
                    <a:lnTo>
                      <a:pt x="749" y="24"/>
                    </a:lnTo>
                    <a:lnTo>
                      <a:pt x="730" y="49"/>
                    </a:lnTo>
                    <a:lnTo>
                      <a:pt x="712" y="73"/>
                    </a:lnTo>
                    <a:lnTo>
                      <a:pt x="693" y="96"/>
                    </a:lnTo>
                    <a:lnTo>
                      <a:pt x="674" y="119"/>
                    </a:lnTo>
                    <a:lnTo>
                      <a:pt x="654" y="142"/>
                    </a:lnTo>
                    <a:lnTo>
                      <a:pt x="633" y="165"/>
                    </a:lnTo>
                    <a:lnTo>
                      <a:pt x="613" y="186"/>
                    </a:lnTo>
                    <a:lnTo>
                      <a:pt x="592" y="208"/>
                    </a:lnTo>
                    <a:lnTo>
                      <a:pt x="570" y="229"/>
                    </a:lnTo>
                    <a:lnTo>
                      <a:pt x="548" y="249"/>
                    </a:lnTo>
                    <a:lnTo>
                      <a:pt x="525" y="270"/>
                    </a:lnTo>
                    <a:lnTo>
                      <a:pt x="503" y="290"/>
                    </a:lnTo>
                    <a:lnTo>
                      <a:pt x="479" y="309"/>
                    </a:lnTo>
                    <a:lnTo>
                      <a:pt x="456" y="328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1"/>
                    </a:lnTo>
                    <a:lnTo>
                      <a:pt x="357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4"/>
                    </a:lnTo>
                    <a:lnTo>
                      <a:pt x="199" y="488"/>
                    </a:lnTo>
                    <a:lnTo>
                      <a:pt x="171" y="502"/>
                    </a:lnTo>
                    <a:lnTo>
                      <a:pt x="143" y="514"/>
                    </a:lnTo>
                    <a:lnTo>
                      <a:pt x="116" y="526"/>
                    </a:lnTo>
                    <a:lnTo>
                      <a:pt x="87" y="537"/>
                    </a:lnTo>
                    <a:lnTo>
                      <a:pt x="58" y="549"/>
                    </a:lnTo>
                    <a:lnTo>
                      <a:pt x="29" y="559"/>
                    </a:lnTo>
                    <a:lnTo>
                      <a:pt x="0" y="569"/>
                    </a:lnTo>
                    <a:lnTo>
                      <a:pt x="18" y="58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10440" y="4160880"/>
                <a:ext cx="207720" cy="154080"/>
              </a:xfrm>
              <a:custGeom>
                <a:avLst/>
                <a:gdLst/>
                <a:ahLst/>
                <a:rect l="l" t="t" r="r" b="b"/>
                <a:pathLst>
                  <a:path w="783" h="587">
                    <a:moveTo>
                      <a:pt x="17" y="587"/>
                    </a:moveTo>
                    <a:lnTo>
                      <a:pt x="46" y="576"/>
                    </a:lnTo>
                    <a:lnTo>
                      <a:pt x="76" y="566"/>
                    </a:lnTo>
                    <a:lnTo>
                      <a:pt x="104" y="556"/>
                    </a:lnTo>
                    <a:lnTo>
                      <a:pt x="133" y="544"/>
                    </a:lnTo>
                    <a:lnTo>
                      <a:pt x="160" y="531"/>
                    </a:lnTo>
                    <a:lnTo>
                      <a:pt x="189" y="519"/>
                    </a:lnTo>
                    <a:lnTo>
                      <a:pt x="216" y="506"/>
                    </a:lnTo>
                    <a:lnTo>
                      <a:pt x="243" y="492"/>
                    </a:lnTo>
                    <a:lnTo>
                      <a:pt x="270" y="477"/>
                    </a:lnTo>
                    <a:lnTo>
                      <a:pt x="296" y="462"/>
                    </a:lnTo>
                    <a:lnTo>
                      <a:pt x="323" y="447"/>
                    </a:lnTo>
                    <a:lnTo>
                      <a:pt x="348" y="431"/>
                    </a:lnTo>
                    <a:lnTo>
                      <a:pt x="375" y="415"/>
                    </a:lnTo>
                    <a:lnTo>
                      <a:pt x="399" y="398"/>
                    </a:lnTo>
                    <a:lnTo>
                      <a:pt x="424" y="380"/>
                    </a:lnTo>
                    <a:lnTo>
                      <a:pt x="449" y="363"/>
                    </a:lnTo>
                    <a:lnTo>
                      <a:pt x="473" y="345"/>
                    </a:lnTo>
                    <a:lnTo>
                      <a:pt x="496" y="326"/>
                    </a:lnTo>
                    <a:lnTo>
                      <a:pt x="520" y="307"/>
                    </a:lnTo>
                    <a:lnTo>
                      <a:pt x="542" y="287"/>
                    </a:lnTo>
                    <a:lnTo>
                      <a:pt x="565" y="266"/>
                    </a:lnTo>
                    <a:lnTo>
                      <a:pt x="587" y="246"/>
                    </a:lnTo>
                    <a:lnTo>
                      <a:pt x="609" y="225"/>
                    </a:lnTo>
                    <a:lnTo>
                      <a:pt x="630" y="203"/>
                    </a:lnTo>
                    <a:lnTo>
                      <a:pt x="651" y="181"/>
                    </a:lnTo>
                    <a:lnTo>
                      <a:pt x="671" y="159"/>
                    </a:lnTo>
                    <a:lnTo>
                      <a:pt x="691" y="136"/>
                    </a:lnTo>
                    <a:lnTo>
                      <a:pt x="710" y="113"/>
                    </a:lnTo>
                    <a:lnTo>
                      <a:pt x="729" y="90"/>
                    </a:lnTo>
                    <a:lnTo>
                      <a:pt x="747" y="66"/>
                    </a:lnTo>
                    <a:lnTo>
                      <a:pt x="766" y="42"/>
                    </a:lnTo>
                    <a:lnTo>
                      <a:pt x="783" y="17"/>
                    </a:lnTo>
                    <a:lnTo>
                      <a:pt x="767" y="0"/>
                    </a:lnTo>
                    <a:lnTo>
                      <a:pt x="750" y="25"/>
                    </a:lnTo>
                    <a:lnTo>
                      <a:pt x="731" y="50"/>
                    </a:lnTo>
                    <a:lnTo>
                      <a:pt x="713" y="74"/>
                    </a:lnTo>
                    <a:lnTo>
                      <a:pt x="694" y="97"/>
                    </a:lnTo>
                    <a:lnTo>
                      <a:pt x="675" y="120"/>
                    </a:lnTo>
                    <a:lnTo>
                      <a:pt x="655" y="143"/>
                    </a:lnTo>
                    <a:lnTo>
                      <a:pt x="634" y="165"/>
                    </a:lnTo>
                    <a:lnTo>
                      <a:pt x="614" y="187"/>
                    </a:lnTo>
                    <a:lnTo>
                      <a:pt x="593" y="209"/>
                    </a:lnTo>
                    <a:lnTo>
                      <a:pt x="571" y="229"/>
                    </a:lnTo>
                    <a:lnTo>
                      <a:pt x="549" y="250"/>
                    </a:lnTo>
                    <a:lnTo>
                      <a:pt x="527" y="271"/>
                    </a:lnTo>
                    <a:lnTo>
                      <a:pt x="504" y="291"/>
                    </a:lnTo>
                    <a:lnTo>
                      <a:pt x="481" y="309"/>
                    </a:lnTo>
                    <a:lnTo>
                      <a:pt x="457" y="329"/>
                    </a:lnTo>
                    <a:lnTo>
                      <a:pt x="433" y="347"/>
                    </a:lnTo>
                    <a:lnTo>
                      <a:pt x="408" y="364"/>
                    </a:lnTo>
                    <a:lnTo>
                      <a:pt x="383" y="382"/>
                    </a:lnTo>
                    <a:lnTo>
                      <a:pt x="358" y="399"/>
                    </a:lnTo>
                    <a:lnTo>
                      <a:pt x="332" y="415"/>
                    </a:lnTo>
                    <a:lnTo>
                      <a:pt x="307" y="431"/>
                    </a:lnTo>
                    <a:lnTo>
                      <a:pt x="280" y="446"/>
                    </a:lnTo>
                    <a:lnTo>
                      <a:pt x="254" y="461"/>
                    </a:lnTo>
                    <a:lnTo>
                      <a:pt x="227" y="475"/>
                    </a:lnTo>
                    <a:lnTo>
                      <a:pt x="200" y="489"/>
                    </a:lnTo>
                    <a:lnTo>
                      <a:pt x="172" y="502"/>
                    </a:lnTo>
                    <a:lnTo>
                      <a:pt x="144" y="514"/>
                    </a:lnTo>
                    <a:lnTo>
                      <a:pt x="115" y="526"/>
                    </a:lnTo>
                    <a:lnTo>
                      <a:pt x="88" y="537"/>
                    </a:lnTo>
                    <a:lnTo>
                      <a:pt x="59" y="549"/>
                    </a:lnTo>
                    <a:lnTo>
                      <a:pt x="30" y="559"/>
                    </a:lnTo>
                    <a:lnTo>
                      <a:pt x="0" y="568"/>
                    </a:lnTo>
                    <a:lnTo>
                      <a:pt x="2" y="571"/>
                    </a:lnTo>
                    <a:lnTo>
                      <a:pt x="17" y="58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08640" y="4157640"/>
                <a:ext cx="206640" cy="155520"/>
              </a:xfrm>
              <a:custGeom>
                <a:avLst/>
                <a:gdLst/>
                <a:ahLst/>
                <a:rect l="l" t="t" r="r" b="b"/>
                <a:pathLst>
                  <a:path w="781" h="586">
                    <a:moveTo>
                      <a:pt x="15" y="586"/>
                    </a:moveTo>
                    <a:lnTo>
                      <a:pt x="44" y="576"/>
                    </a:lnTo>
                    <a:lnTo>
                      <a:pt x="73" y="566"/>
                    </a:lnTo>
                    <a:lnTo>
                      <a:pt x="102" y="554"/>
                    </a:lnTo>
                    <a:lnTo>
                      <a:pt x="131" y="543"/>
                    </a:lnTo>
                    <a:lnTo>
                      <a:pt x="158" y="531"/>
                    </a:lnTo>
                    <a:lnTo>
                      <a:pt x="186" y="519"/>
                    </a:lnTo>
                    <a:lnTo>
                      <a:pt x="214" y="505"/>
                    </a:lnTo>
                    <a:lnTo>
                      <a:pt x="241" y="491"/>
                    </a:lnTo>
                    <a:lnTo>
                      <a:pt x="268" y="477"/>
                    </a:lnTo>
                    <a:lnTo>
                      <a:pt x="294" y="462"/>
                    </a:lnTo>
                    <a:lnTo>
                      <a:pt x="321" y="447"/>
                    </a:lnTo>
                    <a:lnTo>
                      <a:pt x="346" y="431"/>
                    </a:lnTo>
                    <a:lnTo>
                      <a:pt x="372" y="415"/>
                    </a:lnTo>
                    <a:lnTo>
                      <a:pt x="397" y="398"/>
                    </a:lnTo>
                    <a:lnTo>
                      <a:pt x="422" y="380"/>
                    </a:lnTo>
                    <a:lnTo>
                      <a:pt x="447" y="363"/>
                    </a:lnTo>
                    <a:lnTo>
                      <a:pt x="471" y="345"/>
                    </a:lnTo>
                    <a:lnTo>
                      <a:pt x="494" y="326"/>
                    </a:lnTo>
                    <a:lnTo>
                      <a:pt x="518" y="307"/>
                    </a:lnTo>
                    <a:lnTo>
                      <a:pt x="540" y="287"/>
                    </a:lnTo>
                    <a:lnTo>
                      <a:pt x="563" y="266"/>
                    </a:lnTo>
                    <a:lnTo>
                      <a:pt x="585" y="246"/>
                    </a:lnTo>
                    <a:lnTo>
                      <a:pt x="607" y="225"/>
                    </a:lnTo>
                    <a:lnTo>
                      <a:pt x="628" y="203"/>
                    </a:lnTo>
                    <a:lnTo>
                      <a:pt x="648" y="182"/>
                    </a:lnTo>
                    <a:lnTo>
                      <a:pt x="669" y="159"/>
                    </a:lnTo>
                    <a:lnTo>
                      <a:pt x="689" y="136"/>
                    </a:lnTo>
                    <a:lnTo>
                      <a:pt x="708" y="113"/>
                    </a:lnTo>
                    <a:lnTo>
                      <a:pt x="727" y="90"/>
                    </a:lnTo>
                    <a:lnTo>
                      <a:pt x="745" y="66"/>
                    </a:lnTo>
                    <a:lnTo>
                      <a:pt x="764" y="41"/>
                    </a:lnTo>
                    <a:lnTo>
                      <a:pt x="781" y="17"/>
                    </a:lnTo>
                    <a:lnTo>
                      <a:pt x="765" y="0"/>
                    </a:lnTo>
                    <a:lnTo>
                      <a:pt x="748" y="25"/>
                    </a:lnTo>
                    <a:lnTo>
                      <a:pt x="729" y="50"/>
                    </a:lnTo>
                    <a:lnTo>
                      <a:pt x="711" y="74"/>
                    </a:lnTo>
                    <a:lnTo>
                      <a:pt x="692" y="97"/>
                    </a:lnTo>
                    <a:lnTo>
                      <a:pt x="673" y="120"/>
                    </a:lnTo>
                    <a:lnTo>
                      <a:pt x="653" y="143"/>
                    </a:lnTo>
                    <a:lnTo>
                      <a:pt x="633" y="165"/>
                    </a:lnTo>
                    <a:lnTo>
                      <a:pt x="613" y="187"/>
                    </a:lnTo>
                    <a:lnTo>
                      <a:pt x="591" y="209"/>
                    </a:lnTo>
                    <a:lnTo>
                      <a:pt x="570" y="229"/>
                    </a:lnTo>
                    <a:lnTo>
                      <a:pt x="548" y="250"/>
                    </a:lnTo>
                    <a:lnTo>
                      <a:pt x="525" y="270"/>
                    </a:lnTo>
                    <a:lnTo>
                      <a:pt x="502" y="289"/>
                    </a:lnTo>
                    <a:lnTo>
                      <a:pt x="479" y="309"/>
                    </a:lnTo>
                    <a:lnTo>
                      <a:pt x="456" y="327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0"/>
                    </a:lnTo>
                    <a:lnTo>
                      <a:pt x="357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4"/>
                    </a:lnTo>
                    <a:lnTo>
                      <a:pt x="199" y="488"/>
                    </a:lnTo>
                    <a:lnTo>
                      <a:pt x="171" y="500"/>
                    </a:lnTo>
                    <a:lnTo>
                      <a:pt x="143" y="513"/>
                    </a:lnTo>
                    <a:lnTo>
                      <a:pt x="116" y="524"/>
                    </a:lnTo>
                    <a:lnTo>
                      <a:pt x="87" y="536"/>
                    </a:lnTo>
                    <a:lnTo>
                      <a:pt x="58" y="546"/>
                    </a:lnTo>
                    <a:lnTo>
                      <a:pt x="29" y="557"/>
                    </a:lnTo>
                    <a:lnTo>
                      <a:pt x="0" y="566"/>
                    </a:lnTo>
                    <a:lnTo>
                      <a:pt x="8" y="579"/>
                    </a:lnTo>
                    <a:lnTo>
                      <a:pt x="15" y="586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07200" y="4156200"/>
                <a:ext cx="206280" cy="153720"/>
              </a:xfrm>
              <a:custGeom>
                <a:avLst/>
                <a:gdLst/>
                <a:ahLst/>
                <a:rect l="l" t="t" r="r" b="b"/>
                <a:pathLst>
                  <a:path w="780" h="584">
                    <a:moveTo>
                      <a:pt x="13" y="584"/>
                    </a:moveTo>
                    <a:lnTo>
                      <a:pt x="43" y="575"/>
                    </a:lnTo>
                    <a:lnTo>
                      <a:pt x="72" y="565"/>
                    </a:lnTo>
                    <a:lnTo>
                      <a:pt x="101" y="553"/>
                    </a:lnTo>
                    <a:lnTo>
                      <a:pt x="128" y="542"/>
                    </a:lnTo>
                    <a:lnTo>
                      <a:pt x="157" y="530"/>
                    </a:lnTo>
                    <a:lnTo>
                      <a:pt x="185" y="518"/>
                    </a:lnTo>
                    <a:lnTo>
                      <a:pt x="213" y="505"/>
                    </a:lnTo>
                    <a:lnTo>
                      <a:pt x="240" y="491"/>
                    </a:lnTo>
                    <a:lnTo>
                      <a:pt x="267" y="477"/>
                    </a:lnTo>
                    <a:lnTo>
                      <a:pt x="293" y="462"/>
                    </a:lnTo>
                    <a:lnTo>
                      <a:pt x="320" y="447"/>
                    </a:lnTo>
                    <a:lnTo>
                      <a:pt x="345" y="431"/>
                    </a:lnTo>
                    <a:lnTo>
                      <a:pt x="371" y="415"/>
                    </a:lnTo>
                    <a:lnTo>
                      <a:pt x="396" y="398"/>
                    </a:lnTo>
                    <a:lnTo>
                      <a:pt x="421" y="380"/>
                    </a:lnTo>
                    <a:lnTo>
                      <a:pt x="446" y="363"/>
                    </a:lnTo>
                    <a:lnTo>
                      <a:pt x="470" y="345"/>
                    </a:lnTo>
                    <a:lnTo>
                      <a:pt x="494" y="325"/>
                    </a:lnTo>
                    <a:lnTo>
                      <a:pt x="517" y="307"/>
                    </a:lnTo>
                    <a:lnTo>
                      <a:pt x="540" y="287"/>
                    </a:lnTo>
                    <a:lnTo>
                      <a:pt x="562" y="266"/>
                    </a:lnTo>
                    <a:lnTo>
                      <a:pt x="584" y="245"/>
                    </a:lnTo>
                    <a:lnTo>
                      <a:pt x="606" y="225"/>
                    </a:lnTo>
                    <a:lnTo>
                      <a:pt x="627" y="203"/>
                    </a:lnTo>
                    <a:lnTo>
                      <a:pt x="647" y="181"/>
                    </a:lnTo>
                    <a:lnTo>
                      <a:pt x="668" y="159"/>
                    </a:lnTo>
                    <a:lnTo>
                      <a:pt x="688" y="136"/>
                    </a:lnTo>
                    <a:lnTo>
                      <a:pt x="707" y="113"/>
                    </a:lnTo>
                    <a:lnTo>
                      <a:pt x="726" y="90"/>
                    </a:lnTo>
                    <a:lnTo>
                      <a:pt x="744" y="66"/>
                    </a:lnTo>
                    <a:lnTo>
                      <a:pt x="763" y="41"/>
                    </a:lnTo>
                    <a:lnTo>
                      <a:pt x="780" y="16"/>
                    </a:lnTo>
                    <a:lnTo>
                      <a:pt x="764" y="0"/>
                    </a:lnTo>
                    <a:lnTo>
                      <a:pt x="747" y="25"/>
                    </a:lnTo>
                    <a:lnTo>
                      <a:pt x="729" y="49"/>
                    </a:lnTo>
                    <a:lnTo>
                      <a:pt x="711" y="74"/>
                    </a:lnTo>
                    <a:lnTo>
                      <a:pt x="691" y="97"/>
                    </a:lnTo>
                    <a:lnTo>
                      <a:pt x="673" y="120"/>
                    </a:lnTo>
                    <a:lnTo>
                      <a:pt x="652" y="143"/>
                    </a:lnTo>
                    <a:lnTo>
                      <a:pt x="632" y="165"/>
                    </a:lnTo>
                    <a:lnTo>
                      <a:pt x="612" y="187"/>
                    </a:lnTo>
                    <a:lnTo>
                      <a:pt x="591" y="209"/>
                    </a:lnTo>
                    <a:lnTo>
                      <a:pt x="569" y="229"/>
                    </a:lnTo>
                    <a:lnTo>
                      <a:pt x="547" y="250"/>
                    </a:lnTo>
                    <a:lnTo>
                      <a:pt x="525" y="270"/>
                    </a:lnTo>
                    <a:lnTo>
                      <a:pt x="502" y="289"/>
                    </a:lnTo>
                    <a:lnTo>
                      <a:pt x="479" y="309"/>
                    </a:lnTo>
                    <a:lnTo>
                      <a:pt x="455" y="327"/>
                    </a:lnTo>
                    <a:lnTo>
                      <a:pt x="432" y="345"/>
                    </a:lnTo>
                    <a:lnTo>
                      <a:pt x="406" y="363"/>
                    </a:lnTo>
                    <a:lnTo>
                      <a:pt x="382" y="380"/>
                    </a:lnTo>
                    <a:lnTo>
                      <a:pt x="357" y="396"/>
                    </a:lnTo>
                    <a:lnTo>
                      <a:pt x="331" y="413"/>
                    </a:lnTo>
                    <a:lnTo>
                      <a:pt x="306" y="429"/>
                    </a:lnTo>
                    <a:lnTo>
                      <a:pt x="279" y="444"/>
                    </a:lnTo>
                    <a:lnTo>
                      <a:pt x="253" y="459"/>
                    </a:lnTo>
                    <a:lnTo>
                      <a:pt x="226" y="473"/>
                    </a:lnTo>
                    <a:lnTo>
                      <a:pt x="199" y="486"/>
                    </a:lnTo>
                    <a:lnTo>
                      <a:pt x="171" y="499"/>
                    </a:lnTo>
                    <a:lnTo>
                      <a:pt x="143" y="512"/>
                    </a:lnTo>
                    <a:lnTo>
                      <a:pt x="116" y="523"/>
                    </a:lnTo>
                    <a:lnTo>
                      <a:pt x="87" y="535"/>
                    </a:lnTo>
                    <a:lnTo>
                      <a:pt x="58" y="545"/>
                    </a:lnTo>
                    <a:lnTo>
                      <a:pt x="29" y="556"/>
                    </a:lnTo>
                    <a:lnTo>
                      <a:pt x="0" y="565"/>
                    </a:lnTo>
                    <a:lnTo>
                      <a:pt x="13" y="58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05400" y="4154400"/>
                <a:ext cx="206640" cy="154080"/>
              </a:xfrm>
              <a:custGeom>
                <a:avLst/>
                <a:gdLst/>
                <a:ahLst/>
                <a:rect l="l" t="t" r="r" b="b"/>
                <a:pathLst>
                  <a:path w="779" h="582">
                    <a:moveTo>
                      <a:pt x="14" y="582"/>
                    </a:moveTo>
                    <a:lnTo>
                      <a:pt x="43" y="573"/>
                    </a:lnTo>
                    <a:lnTo>
                      <a:pt x="72" y="562"/>
                    </a:lnTo>
                    <a:lnTo>
                      <a:pt x="101" y="552"/>
                    </a:lnTo>
                    <a:lnTo>
                      <a:pt x="130" y="540"/>
                    </a:lnTo>
                    <a:lnTo>
                      <a:pt x="157" y="529"/>
                    </a:lnTo>
                    <a:lnTo>
                      <a:pt x="185" y="516"/>
                    </a:lnTo>
                    <a:lnTo>
                      <a:pt x="213" y="504"/>
                    </a:lnTo>
                    <a:lnTo>
                      <a:pt x="240" y="490"/>
                    </a:lnTo>
                    <a:lnTo>
                      <a:pt x="267" y="476"/>
                    </a:lnTo>
                    <a:lnTo>
                      <a:pt x="293" y="461"/>
                    </a:lnTo>
                    <a:lnTo>
                      <a:pt x="320" y="446"/>
                    </a:lnTo>
                    <a:lnTo>
                      <a:pt x="345" y="430"/>
                    </a:lnTo>
                    <a:lnTo>
                      <a:pt x="371" y="414"/>
                    </a:lnTo>
                    <a:lnTo>
                      <a:pt x="396" y="396"/>
                    </a:lnTo>
                    <a:lnTo>
                      <a:pt x="421" y="379"/>
                    </a:lnTo>
                    <a:lnTo>
                      <a:pt x="446" y="362"/>
                    </a:lnTo>
                    <a:lnTo>
                      <a:pt x="470" y="343"/>
                    </a:lnTo>
                    <a:lnTo>
                      <a:pt x="493" y="325"/>
                    </a:lnTo>
                    <a:lnTo>
                      <a:pt x="516" y="305"/>
                    </a:lnTo>
                    <a:lnTo>
                      <a:pt x="539" y="286"/>
                    </a:lnTo>
                    <a:lnTo>
                      <a:pt x="562" y="266"/>
                    </a:lnTo>
                    <a:lnTo>
                      <a:pt x="584" y="245"/>
                    </a:lnTo>
                    <a:lnTo>
                      <a:pt x="605" y="225"/>
                    </a:lnTo>
                    <a:lnTo>
                      <a:pt x="627" y="203"/>
                    </a:lnTo>
                    <a:lnTo>
                      <a:pt x="647" y="181"/>
                    </a:lnTo>
                    <a:lnTo>
                      <a:pt x="667" y="159"/>
                    </a:lnTo>
                    <a:lnTo>
                      <a:pt x="687" y="136"/>
                    </a:lnTo>
                    <a:lnTo>
                      <a:pt x="706" y="113"/>
                    </a:lnTo>
                    <a:lnTo>
                      <a:pt x="725" y="90"/>
                    </a:lnTo>
                    <a:lnTo>
                      <a:pt x="743" y="66"/>
                    </a:lnTo>
                    <a:lnTo>
                      <a:pt x="762" y="41"/>
                    </a:lnTo>
                    <a:lnTo>
                      <a:pt x="779" y="16"/>
                    </a:lnTo>
                    <a:lnTo>
                      <a:pt x="763" y="0"/>
                    </a:lnTo>
                    <a:lnTo>
                      <a:pt x="745" y="25"/>
                    </a:lnTo>
                    <a:lnTo>
                      <a:pt x="728" y="49"/>
                    </a:lnTo>
                    <a:lnTo>
                      <a:pt x="710" y="72"/>
                    </a:lnTo>
                    <a:lnTo>
                      <a:pt x="690" y="97"/>
                    </a:lnTo>
                    <a:lnTo>
                      <a:pt x="672" y="120"/>
                    </a:lnTo>
                    <a:lnTo>
                      <a:pt x="652" y="142"/>
                    </a:lnTo>
                    <a:lnTo>
                      <a:pt x="631" y="165"/>
                    </a:lnTo>
                    <a:lnTo>
                      <a:pt x="611" y="187"/>
                    </a:lnTo>
                    <a:lnTo>
                      <a:pt x="590" y="207"/>
                    </a:lnTo>
                    <a:lnTo>
                      <a:pt x="569" y="228"/>
                    </a:lnTo>
                    <a:lnTo>
                      <a:pt x="547" y="249"/>
                    </a:lnTo>
                    <a:lnTo>
                      <a:pt x="524" y="268"/>
                    </a:lnTo>
                    <a:lnTo>
                      <a:pt x="501" y="288"/>
                    </a:lnTo>
                    <a:lnTo>
                      <a:pt x="478" y="308"/>
                    </a:lnTo>
                    <a:lnTo>
                      <a:pt x="455" y="326"/>
                    </a:lnTo>
                    <a:lnTo>
                      <a:pt x="431" y="345"/>
                    </a:lnTo>
                    <a:lnTo>
                      <a:pt x="406" y="362"/>
                    </a:lnTo>
                    <a:lnTo>
                      <a:pt x="382" y="379"/>
                    </a:lnTo>
                    <a:lnTo>
                      <a:pt x="357" y="396"/>
                    </a:lnTo>
                    <a:lnTo>
                      <a:pt x="331" y="413"/>
                    </a:lnTo>
                    <a:lnTo>
                      <a:pt x="306" y="428"/>
                    </a:lnTo>
                    <a:lnTo>
                      <a:pt x="279" y="443"/>
                    </a:lnTo>
                    <a:lnTo>
                      <a:pt x="253" y="457"/>
                    </a:lnTo>
                    <a:lnTo>
                      <a:pt x="226" y="471"/>
                    </a:lnTo>
                    <a:lnTo>
                      <a:pt x="199" y="485"/>
                    </a:lnTo>
                    <a:lnTo>
                      <a:pt x="171" y="498"/>
                    </a:lnTo>
                    <a:lnTo>
                      <a:pt x="143" y="511"/>
                    </a:lnTo>
                    <a:lnTo>
                      <a:pt x="116" y="522"/>
                    </a:lnTo>
                    <a:lnTo>
                      <a:pt x="87" y="534"/>
                    </a:lnTo>
                    <a:lnTo>
                      <a:pt x="58" y="544"/>
                    </a:lnTo>
                    <a:lnTo>
                      <a:pt x="29" y="553"/>
                    </a:lnTo>
                    <a:lnTo>
                      <a:pt x="0" y="562"/>
                    </a:lnTo>
                    <a:lnTo>
                      <a:pt x="14" y="582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03960" y="4151160"/>
                <a:ext cx="204840" cy="154080"/>
              </a:xfrm>
              <a:custGeom>
                <a:avLst/>
                <a:gdLst/>
                <a:ahLst/>
                <a:rect l="l" t="t" r="r" b="b"/>
                <a:pathLst>
                  <a:path w="778" h="581">
                    <a:moveTo>
                      <a:pt x="14" y="581"/>
                    </a:moveTo>
                    <a:lnTo>
                      <a:pt x="43" y="572"/>
                    </a:lnTo>
                    <a:lnTo>
                      <a:pt x="72" y="561"/>
                    </a:lnTo>
                    <a:lnTo>
                      <a:pt x="101" y="551"/>
                    </a:lnTo>
                    <a:lnTo>
                      <a:pt x="130" y="539"/>
                    </a:lnTo>
                    <a:lnTo>
                      <a:pt x="157" y="528"/>
                    </a:lnTo>
                    <a:lnTo>
                      <a:pt x="185" y="515"/>
                    </a:lnTo>
                    <a:lnTo>
                      <a:pt x="213" y="502"/>
                    </a:lnTo>
                    <a:lnTo>
                      <a:pt x="240" y="489"/>
                    </a:lnTo>
                    <a:lnTo>
                      <a:pt x="267" y="475"/>
                    </a:lnTo>
                    <a:lnTo>
                      <a:pt x="293" y="460"/>
                    </a:lnTo>
                    <a:lnTo>
                      <a:pt x="320" y="445"/>
                    </a:lnTo>
                    <a:lnTo>
                      <a:pt x="345" y="429"/>
                    </a:lnTo>
                    <a:lnTo>
                      <a:pt x="371" y="412"/>
                    </a:lnTo>
                    <a:lnTo>
                      <a:pt x="396" y="396"/>
                    </a:lnTo>
                    <a:lnTo>
                      <a:pt x="420" y="379"/>
                    </a:lnTo>
                    <a:lnTo>
                      <a:pt x="446" y="361"/>
                    </a:lnTo>
                    <a:lnTo>
                      <a:pt x="469" y="343"/>
                    </a:lnTo>
                    <a:lnTo>
                      <a:pt x="493" y="325"/>
                    </a:lnTo>
                    <a:lnTo>
                      <a:pt x="516" y="305"/>
                    </a:lnTo>
                    <a:lnTo>
                      <a:pt x="539" y="286"/>
                    </a:lnTo>
                    <a:lnTo>
                      <a:pt x="561" y="266"/>
                    </a:lnTo>
                    <a:lnTo>
                      <a:pt x="583" y="245"/>
                    </a:lnTo>
                    <a:lnTo>
                      <a:pt x="605" y="225"/>
                    </a:lnTo>
                    <a:lnTo>
                      <a:pt x="626" y="203"/>
                    </a:lnTo>
                    <a:lnTo>
                      <a:pt x="646" y="181"/>
                    </a:lnTo>
                    <a:lnTo>
                      <a:pt x="666" y="159"/>
                    </a:lnTo>
                    <a:lnTo>
                      <a:pt x="687" y="136"/>
                    </a:lnTo>
                    <a:lnTo>
                      <a:pt x="705" y="113"/>
                    </a:lnTo>
                    <a:lnTo>
                      <a:pt x="725" y="90"/>
                    </a:lnTo>
                    <a:lnTo>
                      <a:pt x="743" y="65"/>
                    </a:lnTo>
                    <a:lnTo>
                      <a:pt x="761" y="41"/>
                    </a:lnTo>
                    <a:lnTo>
                      <a:pt x="778" y="16"/>
                    </a:lnTo>
                    <a:lnTo>
                      <a:pt x="762" y="0"/>
                    </a:lnTo>
                    <a:lnTo>
                      <a:pt x="744" y="25"/>
                    </a:lnTo>
                    <a:lnTo>
                      <a:pt x="727" y="49"/>
                    </a:lnTo>
                    <a:lnTo>
                      <a:pt x="709" y="72"/>
                    </a:lnTo>
                    <a:lnTo>
                      <a:pt x="690" y="97"/>
                    </a:lnTo>
                    <a:lnTo>
                      <a:pt x="671" y="120"/>
                    </a:lnTo>
                    <a:lnTo>
                      <a:pt x="651" y="142"/>
                    </a:lnTo>
                    <a:lnTo>
                      <a:pt x="631" y="163"/>
                    </a:lnTo>
                    <a:lnTo>
                      <a:pt x="611" y="185"/>
                    </a:lnTo>
                    <a:lnTo>
                      <a:pt x="590" y="207"/>
                    </a:lnTo>
                    <a:lnTo>
                      <a:pt x="568" y="228"/>
                    </a:lnTo>
                    <a:lnTo>
                      <a:pt x="546" y="249"/>
                    </a:lnTo>
                    <a:lnTo>
                      <a:pt x="524" y="268"/>
                    </a:lnTo>
                    <a:lnTo>
                      <a:pt x="501" y="288"/>
                    </a:lnTo>
                    <a:lnTo>
                      <a:pt x="478" y="308"/>
                    </a:lnTo>
                    <a:lnTo>
                      <a:pt x="455" y="326"/>
                    </a:lnTo>
                    <a:lnTo>
                      <a:pt x="431" y="343"/>
                    </a:lnTo>
                    <a:lnTo>
                      <a:pt x="406" y="362"/>
                    </a:lnTo>
                    <a:lnTo>
                      <a:pt x="381" y="378"/>
                    </a:lnTo>
                    <a:lnTo>
                      <a:pt x="357" y="395"/>
                    </a:lnTo>
                    <a:lnTo>
                      <a:pt x="331" y="411"/>
                    </a:lnTo>
                    <a:lnTo>
                      <a:pt x="305" y="426"/>
                    </a:lnTo>
                    <a:lnTo>
                      <a:pt x="280" y="441"/>
                    </a:lnTo>
                    <a:lnTo>
                      <a:pt x="253" y="456"/>
                    </a:lnTo>
                    <a:lnTo>
                      <a:pt x="227" y="470"/>
                    </a:lnTo>
                    <a:lnTo>
                      <a:pt x="199" y="484"/>
                    </a:lnTo>
                    <a:lnTo>
                      <a:pt x="171" y="497"/>
                    </a:lnTo>
                    <a:lnTo>
                      <a:pt x="143" y="508"/>
                    </a:lnTo>
                    <a:lnTo>
                      <a:pt x="116" y="521"/>
                    </a:lnTo>
                    <a:lnTo>
                      <a:pt x="87" y="531"/>
                    </a:lnTo>
                    <a:lnTo>
                      <a:pt x="59" y="542"/>
                    </a:lnTo>
                    <a:lnTo>
                      <a:pt x="30" y="552"/>
                    </a:lnTo>
                    <a:lnTo>
                      <a:pt x="0" y="561"/>
                    </a:lnTo>
                    <a:lnTo>
                      <a:pt x="14" y="58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02520" y="4149720"/>
                <a:ext cx="204480" cy="152280"/>
              </a:xfrm>
              <a:custGeom>
                <a:avLst/>
                <a:gdLst/>
                <a:ahLst/>
                <a:rect l="l" t="t" r="r" b="b"/>
                <a:pathLst>
                  <a:path w="776" h="578">
                    <a:moveTo>
                      <a:pt x="13" y="578"/>
                    </a:moveTo>
                    <a:lnTo>
                      <a:pt x="42" y="569"/>
                    </a:lnTo>
                    <a:lnTo>
                      <a:pt x="71" y="560"/>
                    </a:lnTo>
                    <a:lnTo>
                      <a:pt x="100" y="550"/>
                    </a:lnTo>
                    <a:lnTo>
                      <a:pt x="129" y="538"/>
                    </a:lnTo>
                    <a:lnTo>
                      <a:pt x="156" y="527"/>
                    </a:lnTo>
                    <a:lnTo>
                      <a:pt x="184" y="514"/>
                    </a:lnTo>
                    <a:lnTo>
                      <a:pt x="212" y="501"/>
                    </a:lnTo>
                    <a:lnTo>
                      <a:pt x="239" y="487"/>
                    </a:lnTo>
                    <a:lnTo>
                      <a:pt x="266" y="473"/>
                    </a:lnTo>
                    <a:lnTo>
                      <a:pt x="292" y="459"/>
                    </a:lnTo>
                    <a:lnTo>
                      <a:pt x="319" y="444"/>
                    </a:lnTo>
                    <a:lnTo>
                      <a:pt x="344" y="429"/>
                    </a:lnTo>
                    <a:lnTo>
                      <a:pt x="370" y="412"/>
                    </a:lnTo>
                    <a:lnTo>
                      <a:pt x="395" y="395"/>
                    </a:lnTo>
                    <a:lnTo>
                      <a:pt x="419" y="378"/>
                    </a:lnTo>
                    <a:lnTo>
                      <a:pt x="444" y="361"/>
                    </a:lnTo>
                    <a:lnTo>
                      <a:pt x="468" y="342"/>
                    </a:lnTo>
                    <a:lnTo>
                      <a:pt x="491" y="324"/>
                    </a:lnTo>
                    <a:lnTo>
                      <a:pt x="514" y="304"/>
                    </a:lnTo>
                    <a:lnTo>
                      <a:pt x="537" y="284"/>
                    </a:lnTo>
                    <a:lnTo>
                      <a:pt x="560" y="265"/>
                    </a:lnTo>
                    <a:lnTo>
                      <a:pt x="582" y="244"/>
                    </a:lnTo>
                    <a:lnTo>
                      <a:pt x="603" y="223"/>
                    </a:lnTo>
                    <a:lnTo>
                      <a:pt x="624" y="203"/>
                    </a:lnTo>
                    <a:lnTo>
                      <a:pt x="644" y="181"/>
                    </a:lnTo>
                    <a:lnTo>
                      <a:pt x="665" y="158"/>
                    </a:lnTo>
                    <a:lnTo>
                      <a:pt x="685" y="136"/>
                    </a:lnTo>
                    <a:lnTo>
                      <a:pt x="703" y="113"/>
                    </a:lnTo>
                    <a:lnTo>
                      <a:pt x="723" y="88"/>
                    </a:lnTo>
                    <a:lnTo>
                      <a:pt x="741" y="65"/>
                    </a:lnTo>
                    <a:lnTo>
                      <a:pt x="758" y="41"/>
                    </a:lnTo>
                    <a:lnTo>
                      <a:pt x="776" y="16"/>
                    </a:lnTo>
                    <a:lnTo>
                      <a:pt x="760" y="0"/>
                    </a:lnTo>
                    <a:lnTo>
                      <a:pt x="760" y="0"/>
                    </a:lnTo>
                    <a:lnTo>
                      <a:pt x="742" y="24"/>
                    </a:lnTo>
                    <a:lnTo>
                      <a:pt x="725" y="48"/>
                    </a:lnTo>
                    <a:lnTo>
                      <a:pt x="707" y="72"/>
                    </a:lnTo>
                    <a:lnTo>
                      <a:pt x="688" y="95"/>
                    </a:lnTo>
                    <a:lnTo>
                      <a:pt x="669" y="118"/>
                    </a:lnTo>
                    <a:lnTo>
                      <a:pt x="649" y="142"/>
                    </a:lnTo>
                    <a:lnTo>
                      <a:pt x="629" y="163"/>
                    </a:lnTo>
                    <a:lnTo>
                      <a:pt x="609" y="185"/>
                    </a:lnTo>
                    <a:lnTo>
                      <a:pt x="588" y="207"/>
                    </a:lnTo>
                    <a:lnTo>
                      <a:pt x="566" y="228"/>
                    </a:lnTo>
                    <a:lnTo>
                      <a:pt x="545" y="248"/>
                    </a:lnTo>
                    <a:lnTo>
                      <a:pt x="522" y="268"/>
                    </a:lnTo>
                    <a:lnTo>
                      <a:pt x="500" y="288"/>
                    </a:lnTo>
                    <a:lnTo>
                      <a:pt x="477" y="306"/>
                    </a:lnTo>
                    <a:lnTo>
                      <a:pt x="453" y="325"/>
                    </a:lnTo>
                    <a:lnTo>
                      <a:pt x="430" y="343"/>
                    </a:lnTo>
                    <a:lnTo>
                      <a:pt x="406" y="361"/>
                    </a:lnTo>
                    <a:lnTo>
                      <a:pt x="380" y="378"/>
                    </a:lnTo>
                    <a:lnTo>
                      <a:pt x="356" y="394"/>
                    </a:lnTo>
                    <a:lnTo>
                      <a:pt x="331" y="410"/>
                    </a:lnTo>
                    <a:lnTo>
                      <a:pt x="304" y="426"/>
                    </a:lnTo>
                    <a:lnTo>
                      <a:pt x="279" y="440"/>
                    </a:lnTo>
                    <a:lnTo>
                      <a:pt x="252" y="455"/>
                    </a:lnTo>
                    <a:lnTo>
                      <a:pt x="226" y="469"/>
                    </a:lnTo>
                    <a:lnTo>
                      <a:pt x="198" y="483"/>
                    </a:lnTo>
                    <a:lnTo>
                      <a:pt x="170" y="495"/>
                    </a:lnTo>
                    <a:lnTo>
                      <a:pt x="143" y="507"/>
                    </a:lnTo>
                    <a:lnTo>
                      <a:pt x="115" y="518"/>
                    </a:lnTo>
                    <a:lnTo>
                      <a:pt x="87" y="530"/>
                    </a:lnTo>
                    <a:lnTo>
                      <a:pt x="58" y="540"/>
                    </a:lnTo>
                    <a:lnTo>
                      <a:pt x="30" y="550"/>
                    </a:lnTo>
                    <a:lnTo>
                      <a:pt x="0" y="559"/>
                    </a:lnTo>
                    <a:lnTo>
                      <a:pt x="13" y="57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64200" y="3583080"/>
                <a:ext cx="441360" cy="717480"/>
              </a:xfrm>
              <a:custGeom>
                <a:avLst/>
                <a:gdLst/>
                <a:ahLst/>
                <a:rect l="l" t="t" r="r" b="b"/>
                <a:pathLst>
                  <a:path w="1664" h="2713">
                    <a:moveTo>
                      <a:pt x="902" y="2713"/>
                    </a:moveTo>
                    <a:lnTo>
                      <a:pt x="932" y="2704"/>
                    </a:lnTo>
                    <a:lnTo>
                      <a:pt x="961" y="2694"/>
                    </a:lnTo>
                    <a:lnTo>
                      <a:pt x="989" y="2683"/>
                    </a:lnTo>
                    <a:lnTo>
                      <a:pt x="1018" y="2673"/>
                    </a:lnTo>
                    <a:lnTo>
                      <a:pt x="1045" y="2660"/>
                    </a:lnTo>
                    <a:lnTo>
                      <a:pt x="1073" y="2649"/>
                    </a:lnTo>
                    <a:lnTo>
                      <a:pt x="1101" y="2636"/>
                    </a:lnTo>
                    <a:lnTo>
                      <a:pt x="1129" y="2622"/>
                    </a:lnTo>
                    <a:lnTo>
                      <a:pt x="1155" y="2608"/>
                    </a:lnTo>
                    <a:lnTo>
                      <a:pt x="1182" y="2593"/>
                    </a:lnTo>
                    <a:lnTo>
                      <a:pt x="1207" y="2578"/>
                    </a:lnTo>
                    <a:lnTo>
                      <a:pt x="1233" y="2563"/>
                    </a:lnTo>
                    <a:lnTo>
                      <a:pt x="1259" y="2547"/>
                    </a:lnTo>
                    <a:lnTo>
                      <a:pt x="1283" y="2530"/>
                    </a:lnTo>
                    <a:lnTo>
                      <a:pt x="1308" y="2514"/>
                    </a:lnTo>
                    <a:lnTo>
                      <a:pt x="1333" y="2495"/>
                    </a:lnTo>
                    <a:lnTo>
                      <a:pt x="1357" y="2478"/>
                    </a:lnTo>
                    <a:lnTo>
                      <a:pt x="1380" y="2460"/>
                    </a:lnTo>
                    <a:lnTo>
                      <a:pt x="1403" y="2440"/>
                    </a:lnTo>
                    <a:lnTo>
                      <a:pt x="1426" y="2420"/>
                    </a:lnTo>
                    <a:lnTo>
                      <a:pt x="1448" y="2401"/>
                    </a:lnTo>
                    <a:lnTo>
                      <a:pt x="1470" y="2380"/>
                    </a:lnTo>
                    <a:lnTo>
                      <a:pt x="1492" y="2359"/>
                    </a:lnTo>
                    <a:lnTo>
                      <a:pt x="1513" y="2337"/>
                    </a:lnTo>
                    <a:lnTo>
                      <a:pt x="1533" y="2315"/>
                    </a:lnTo>
                    <a:lnTo>
                      <a:pt x="1553" y="2294"/>
                    </a:lnTo>
                    <a:lnTo>
                      <a:pt x="1573" y="2272"/>
                    </a:lnTo>
                    <a:lnTo>
                      <a:pt x="1592" y="2249"/>
                    </a:lnTo>
                    <a:lnTo>
                      <a:pt x="1611" y="2224"/>
                    </a:lnTo>
                    <a:lnTo>
                      <a:pt x="1629" y="2201"/>
                    </a:lnTo>
                    <a:lnTo>
                      <a:pt x="1646" y="2177"/>
                    </a:lnTo>
                    <a:lnTo>
                      <a:pt x="1664" y="2152"/>
                    </a:lnTo>
                    <a:lnTo>
                      <a:pt x="1656" y="2144"/>
                    </a:lnTo>
                    <a:lnTo>
                      <a:pt x="1650" y="2132"/>
                    </a:lnTo>
                    <a:lnTo>
                      <a:pt x="1633" y="2156"/>
                    </a:lnTo>
                    <a:lnTo>
                      <a:pt x="1615" y="2181"/>
                    </a:lnTo>
                    <a:lnTo>
                      <a:pt x="1597" y="2205"/>
                    </a:lnTo>
                    <a:lnTo>
                      <a:pt x="1578" y="2229"/>
                    </a:lnTo>
                    <a:lnTo>
                      <a:pt x="1560" y="2252"/>
                    </a:lnTo>
                    <a:lnTo>
                      <a:pt x="1540" y="2274"/>
                    </a:lnTo>
                    <a:lnTo>
                      <a:pt x="1520" y="2297"/>
                    </a:lnTo>
                    <a:lnTo>
                      <a:pt x="1500" y="2319"/>
                    </a:lnTo>
                    <a:lnTo>
                      <a:pt x="1478" y="2340"/>
                    </a:lnTo>
                    <a:lnTo>
                      <a:pt x="1457" y="2360"/>
                    </a:lnTo>
                    <a:lnTo>
                      <a:pt x="1435" y="2381"/>
                    </a:lnTo>
                    <a:lnTo>
                      <a:pt x="1413" y="2402"/>
                    </a:lnTo>
                    <a:lnTo>
                      <a:pt x="1390" y="2422"/>
                    </a:lnTo>
                    <a:lnTo>
                      <a:pt x="1367" y="2440"/>
                    </a:lnTo>
                    <a:lnTo>
                      <a:pt x="1344" y="2458"/>
                    </a:lnTo>
                    <a:lnTo>
                      <a:pt x="1320" y="2477"/>
                    </a:lnTo>
                    <a:lnTo>
                      <a:pt x="1296" y="2494"/>
                    </a:lnTo>
                    <a:lnTo>
                      <a:pt x="1270" y="2511"/>
                    </a:lnTo>
                    <a:lnTo>
                      <a:pt x="1246" y="2529"/>
                    </a:lnTo>
                    <a:lnTo>
                      <a:pt x="1221" y="2544"/>
                    </a:lnTo>
                    <a:lnTo>
                      <a:pt x="1194" y="2560"/>
                    </a:lnTo>
                    <a:lnTo>
                      <a:pt x="1169" y="2575"/>
                    </a:lnTo>
                    <a:lnTo>
                      <a:pt x="1142" y="2589"/>
                    </a:lnTo>
                    <a:lnTo>
                      <a:pt x="1116" y="2604"/>
                    </a:lnTo>
                    <a:lnTo>
                      <a:pt x="1088" y="2616"/>
                    </a:lnTo>
                    <a:lnTo>
                      <a:pt x="1060" y="2629"/>
                    </a:lnTo>
                    <a:lnTo>
                      <a:pt x="1033" y="2642"/>
                    </a:lnTo>
                    <a:lnTo>
                      <a:pt x="1005" y="2653"/>
                    </a:lnTo>
                    <a:lnTo>
                      <a:pt x="976" y="2664"/>
                    </a:lnTo>
                    <a:lnTo>
                      <a:pt x="947" y="2674"/>
                    </a:lnTo>
                    <a:lnTo>
                      <a:pt x="919" y="2684"/>
                    </a:lnTo>
                    <a:lnTo>
                      <a:pt x="890" y="2694"/>
                    </a:lnTo>
                    <a:lnTo>
                      <a:pt x="902" y="2713"/>
                    </a:lnTo>
                    <a:close/>
                    <a:moveTo>
                      <a:pt x="67" y="0"/>
                    </a:moveTo>
                    <a:lnTo>
                      <a:pt x="48" y="0"/>
                    </a:lnTo>
                    <a:lnTo>
                      <a:pt x="0" y="23"/>
                    </a:lnTo>
                    <a:lnTo>
                      <a:pt x="9" y="20"/>
                    </a:lnTo>
                    <a:lnTo>
                      <a:pt x="17" y="17"/>
                    </a:lnTo>
                    <a:lnTo>
                      <a:pt x="25" y="15"/>
                    </a:lnTo>
                    <a:lnTo>
                      <a:pt x="34" y="11"/>
                    </a:lnTo>
                    <a:lnTo>
                      <a:pt x="42" y="9"/>
                    </a:lnTo>
                    <a:lnTo>
                      <a:pt x="50" y="5"/>
                    </a:lnTo>
                    <a:lnTo>
                      <a:pt x="59" y="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37200" y="3583080"/>
                <a:ext cx="465120" cy="714240"/>
              </a:xfrm>
              <a:custGeom>
                <a:avLst/>
                <a:gdLst/>
                <a:ahLst/>
                <a:rect l="l" t="t" r="r" b="b"/>
                <a:pathLst>
                  <a:path w="1759" h="2703">
                    <a:moveTo>
                      <a:pt x="999" y="2703"/>
                    </a:moveTo>
                    <a:lnTo>
                      <a:pt x="1029" y="2694"/>
                    </a:lnTo>
                    <a:lnTo>
                      <a:pt x="1057" y="2684"/>
                    </a:lnTo>
                    <a:lnTo>
                      <a:pt x="1086" y="2674"/>
                    </a:lnTo>
                    <a:lnTo>
                      <a:pt x="1114" y="2662"/>
                    </a:lnTo>
                    <a:lnTo>
                      <a:pt x="1142" y="2651"/>
                    </a:lnTo>
                    <a:lnTo>
                      <a:pt x="1169" y="2639"/>
                    </a:lnTo>
                    <a:lnTo>
                      <a:pt x="1197" y="2627"/>
                    </a:lnTo>
                    <a:lnTo>
                      <a:pt x="1225" y="2613"/>
                    </a:lnTo>
                    <a:lnTo>
                      <a:pt x="1251" y="2599"/>
                    </a:lnTo>
                    <a:lnTo>
                      <a:pt x="1278" y="2584"/>
                    </a:lnTo>
                    <a:lnTo>
                      <a:pt x="1303" y="2570"/>
                    </a:lnTo>
                    <a:lnTo>
                      <a:pt x="1330" y="2554"/>
                    </a:lnTo>
                    <a:lnTo>
                      <a:pt x="1355" y="2538"/>
                    </a:lnTo>
                    <a:lnTo>
                      <a:pt x="1379" y="2522"/>
                    </a:lnTo>
                    <a:lnTo>
                      <a:pt x="1405" y="2505"/>
                    </a:lnTo>
                    <a:lnTo>
                      <a:pt x="1429" y="2487"/>
                    </a:lnTo>
                    <a:lnTo>
                      <a:pt x="1452" y="2469"/>
                    </a:lnTo>
                    <a:lnTo>
                      <a:pt x="1476" y="2450"/>
                    </a:lnTo>
                    <a:lnTo>
                      <a:pt x="1499" y="2432"/>
                    </a:lnTo>
                    <a:lnTo>
                      <a:pt x="1521" y="2412"/>
                    </a:lnTo>
                    <a:lnTo>
                      <a:pt x="1544" y="2392"/>
                    </a:lnTo>
                    <a:lnTo>
                      <a:pt x="1565" y="2372"/>
                    </a:lnTo>
                    <a:lnTo>
                      <a:pt x="1587" y="2351"/>
                    </a:lnTo>
                    <a:lnTo>
                      <a:pt x="1608" y="2329"/>
                    </a:lnTo>
                    <a:lnTo>
                      <a:pt x="1628" y="2307"/>
                    </a:lnTo>
                    <a:lnTo>
                      <a:pt x="1648" y="2286"/>
                    </a:lnTo>
                    <a:lnTo>
                      <a:pt x="1668" y="2262"/>
                    </a:lnTo>
                    <a:lnTo>
                      <a:pt x="1687" y="2239"/>
                    </a:lnTo>
                    <a:lnTo>
                      <a:pt x="1706" y="2216"/>
                    </a:lnTo>
                    <a:lnTo>
                      <a:pt x="1724" y="2192"/>
                    </a:lnTo>
                    <a:lnTo>
                      <a:pt x="1741" y="2168"/>
                    </a:lnTo>
                    <a:lnTo>
                      <a:pt x="1759" y="2144"/>
                    </a:lnTo>
                    <a:lnTo>
                      <a:pt x="1747" y="2120"/>
                    </a:lnTo>
                    <a:lnTo>
                      <a:pt x="1730" y="2145"/>
                    </a:lnTo>
                    <a:lnTo>
                      <a:pt x="1712" y="2169"/>
                    </a:lnTo>
                    <a:lnTo>
                      <a:pt x="1694" y="2193"/>
                    </a:lnTo>
                    <a:lnTo>
                      <a:pt x="1676" y="2217"/>
                    </a:lnTo>
                    <a:lnTo>
                      <a:pt x="1657" y="2241"/>
                    </a:lnTo>
                    <a:lnTo>
                      <a:pt x="1638" y="2264"/>
                    </a:lnTo>
                    <a:lnTo>
                      <a:pt x="1618" y="2286"/>
                    </a:lnTo>
                    <a:lnTo>
                      <a:pt x="1597" y="2307"/>
                    </a:lnTo>
                    <a:lnTo>
                      <a:pt x="1576" y="2329"/>
                    </a:lnTo>
                    <a:lnTo>
                      <a:pt x="1554" y="2350"/>
                    </a:lnTo>
                    <a:lnTo>
                      <a:pt x="1533" y="2371"/>
                    </a:lnTo>
                    <a:lnTo>
                      <a:pt x="1511" y="2390"/>
                    </a:lnTo>
                    <a:lnTo>
                      <a:pt x="1488" y="2411"/>
                    </a:lnTo>
                    <a:lnTo>
                      <a:pt x="1465" y="2430"/>
                    </a:lnTo>
                    <a:lnTo>
                      <a:pt x="1441" y="2448"/>
                    </a:lnTo>
                    <a:lnTo>
                      <a:pt x="1417" y="2466"/>
                    </a:lnTo>
                    <a:lnTo>
                      <a:pt x="1393" y="2485"/>
                    </a:lnTo>
                    <a:lnTo>
                      <a:pt x="1369" y="2501"/>
                    </a:lnTo>
                    <a:lnTo>
                      <a:pt x="1343" y="2518"/>
                    </a:lnTo>
                    <a:lnTo>
                      <a:pt x="1318" y="2534"/>
                    </a:lnTo>
                    <a:lnTo>
                      <a:pt x="1291" y="2549"/>
                    </a:lnTo>
                    <a:lnTo>
                      <a:pt x="1266" y="2564"/>
                    </a:lnTo>
                    <a:lnTo>
                      <a:pt x="1240" y="2579"/>
                    </a:lnTo>
                    <a:lnTo>
                      <a:pt x="1212" y="2593"/>
                    </a:lnTo>
                    <a:lnTo>
                      <a:pt x="1185" y="2607"/>
                    </a:lnTo>
                    <a:lnTo>
                      <a:pt x="1158" y="2620"/>
                    </a:lnTo>
                    <a:lnTo>
                      <a:pt x="1130" y="2631"/>
                    </a:lnTo>
                    <a:lnTo>
                      <a:pt x="1101" y="2643"/>
                    </a:lnTo>
                    <a:lnTo>
                      <a:pt x="1074" y="2654"/>
                    </a:lnTo>
                    <a:lnTo>
                      <a:pt x="1045" y="2665"/>
                    </a:lnTo>
                    <a:lnTo>
                      <a:pt x="1015" y="2674"/>
                    </a:lnTo>
                    <a:lnTo>
                      <a:pt x="986" y="2683"/>
                    </a:lnTo>
                    <a:lnTo>
                      <a:pt x="999" y="2703"/>
                    </a:lnTo>
                    <a:close/>
                    <a:moveTo>
                      <a:pt x="212" y="0"/>
                    </a:moveTo>
                    <a:lnTo>
                      <a:pt x="151" y="0"/>
                    </a:lnTo>
                    <a:lnTo>
                      <a:pt x="73" y="36"/>
                    </a:lnTo>
                    <a:lnTo>
                      <a:pt x="0" y="77"/>
                    </a:lnTo>
                    <a:lnTo>
                      <a:pt x="0" y="78"/>
                    </a:lnTo>
                    <a:lnTo>
                      <a:pt x="25" y="66"/>
                    </a:lnTo>
                    <a:lnTo>
                      <a:pt x="50" y="55"/>
                    </a:lnTo>
                    <a:lnTo>
                      <a:pt x="77" y="45"/>
                    </a:lnTo>
                    <a:lnTo>
                      <a:pt x="103" y="35"/>
                    </a:lnTo>
                    <a:lnTo>
                      <a:pt x="130" y="25"/>
                    </a:lnTo>
                    <a:lnTo>
                      <a:pt x="157" y="17"/>
                    </a:lnTo>
                    <a:lnTo>
                      <a:pt x="184" y="8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29280" y="3583080"/>
                <a:ext cx="471600" cy="712800"/>
              </a:xfrm>
              <a:custGeom>
                <a:avLst/>
                <a:gdLst/>
                <a:ahLst/>
                <a:rect l="l" t="t" r="r" b="b"/>
                <a:pathLst>
                  <a:path w="1783" h="2694">
                    <a:moveTo>
                      <a:pt x="200" y="0"/>
                    </a:moveTo>
                    <a:lnTo>
                      <a:pt x="192" y="3"/>
                    </a:lnTo>
                    <a:lnTo>
                      <a:pt x="183" y="5"/>
                    </a:lnTo>
                    <a:lnTo>
                      <a:pt x="175" y="9"/>
                    </a:lnTo>
                    <a:lnTo>
                      <a:pt x="167" y="11"/>
                    </a:lnTo>
                    <a:lnTo>
                      <a:pt x="158" y="15"/>
                    </a:lnTo>
                    <a:lnTo>
                      <a:pt x="150" y="17"/>
                    </a:lnTo>
                    <a:lnTo>
                      <a:pt x="142" y="20"/>
                    </a:lnTo>
                    <a:lnTo>
                      <a:pt x="133" y="23"/>
                    </a:lnTo>
                    <a:lnTo>
                      <a:pt x="103" y="36"/>
                    </a:lnTo>
                    <a:lnTo>
                      <a:pt x="30" y="77"/>
                    </a:lnTo>
                    <a:lnTo>
                      <a:pt x="0" y="104"/>
                    </a:lnTo>
                    <a:lnTo>
                      <a:pt x="34" y="88"/>
                    </a:lnTo>
                    <a:lnTo>
                      <a:pt x="69" y="72"/>
                    </a:lnTo>
                    <a:lnTo>
                      <a:pt x="103" y="58"/>
                    </a:lnTo>
                    <a:lnTo>
                      <a:pt x="139" y="45"/>
                    </a:lnTo>
                    <a:lnTo>
                      <a:pt x="176" y="32"/>
                    </a:lnTo>
                    <a:lnTo>
                      <a:pt x="212" y="20"/>
                    </a:lnTo>
                    <a:lnTo>
                      <a:pt x="250" y="10"/>
                    </a:lnTo>
                    <a:lnTo>
                      <a:pt x="287" y="0"/>
                    </a:lnTo>
                    <a:lnTo>
                      <a:pt x="258" y="0"/>
                    </a:lnTo>
                    <a:lnTo>
                      <a:pt x="200" y="0"/>
                    </a:lnTo>
                    <a:close/>
                    <a:moveTo>
                      <a:pt x="1023" y="2694"/>
                    </a:moveTo>
                    <a:lnTo>
                      <a:pt x="1052" y="2684"/>
                    </a:lnTo>
                    <a:lnTo>
                      <a:pt x="1080" y="2674"/>
                    </a:lnTo>
                    <a:lnTo>
                      <a:pt x="1109" y="2664"/>
                    </a:lnTo>
                    <a:lnTo>
                      <a:pt x="1138" y="2653"/>
                    </a:lnTo>
                    <a:lnTo>
                      <a:pt x="1166" y="2642"/>
                    </a:lnTo>
                    <a:lnTo>
                      <a:pt x="1193" y="2629"/>
                    </a:lnTo>
                    <a:lnTo>
                      <a:pt x="1221" y="2616"/>
                    </a:lnTo>
                    <a:lnTo>
                      <a:pt x="1249" y="2604"/>
                    </a:lnTo>
                    <a:lnTo>
                      <a:pt x="1275" y="2589"/>
                    </a:lnTo>
                    <a:lnTo>
                      <a:pt x="1302" y="2575"/>
                    </a:lnTo>
                    <a:lnTo>
                      <a:pt x="1327" y="2560"/>
                    </a:lnTo>
                    <a:lnTo>
                      <a:pt x="1354" y="2544"/>
                    </a:lnTo>
                    <a:lnTo>
                      <a:pt x="1379" y="2529"/>
                    </a:lnTo>
                    <a:lnTo>
                      <a:pt x="1403" y="2511"/>
                    </a:lnTo>
                    <a:lnTo>
                      <a:pt x="1429" y="2494"/>
                    </a:lnTo>
                    <a:lnTo>
                      <a:pt x="1453" y="2477"/>
                    </a:lnTo>
                    <a:lnTo>
                      <a:pt x="1477" y="2458"/>
                    </a:lnTo>
                    <a:lnTo>
                      <a:pt x="1500" y="2440"/>
                    </a:lnTo>
                    <a:lnTo>
                      <a:pt x="1523" y="2422"/>
                    </a:lnTo>
                    <a:lnTo>
                      <a:pt x="1546" y="2402"/>
                    </a:lnTo>
                    <a:lnTo>
                      <a:pt x="1568" y="2381"/>
                    </a:lnTo>
                    <a:lnTo>
                      <a:pt x="1590" y="2360"/>
                    </a:lnTo>
                    <a:lnTo>
                      <a:pt x="1611" y="2340"/>
                    </a:lnTo>
                    <a:lnTo>
                      <a:pt x="1633" y="2319"/>
                    </a:lnTo>
                    <a:lnTo>
                      <a:pt x="1653" y="2297"/>
                    </a:lnTo>
                    <a:lnTo>
                      <a:pt x="1673" y="2274"/>
                    </a:lnTo>
                    <a:lnTo>
                      <a:pt x="1693" y="2252"/>
                    </a:lnTo>
                    <a:lnTo>
                      <a:pt x="1711" y="2229"/>
                    </a:lnTo>
                    <a:lnTo>
                      <a:pt x="1730" y="2205"/>
                    </a:lnTo>
                    <a:lnTo>
                      <a:pt x="1748" y="2181"/>
                    </a:lnTo>
                    <a:lnTo>
                      <a:pt x="1766" y="2156"/>
                    </a:lnTo>
                    <a:lnTo>
                      <a:pt x="1783" y="2132"/>
                    </a:lnTo>
                    <a:lnTo>
                      <a:pt x="1771" y="2108"/>
                    </a:lnTo>
                    <a:lnTo>
                      <a:pt x="1754" y="2133"/>
                    </a:lnTo>
                    <a:lnTo>
                      <a:pt x="1737" y="2158"/>
                    </a:lnTo>
                    <a:lnTo>
                      <a:pt x="1719" y="2182"/>
                    </a:lnTo>
                    <a:lnTo>
                      <a:pt x="1701" y="2206"/>
                    </a:lnTo>
                    <a:lnTo>
                      <a:pt x="1681" y="2229"/>
                    </a:lnTo>
                    <a:lnTo>
                      <a:pt x="1662" y="2252"/>
                    </a:lnTo>
                    <a:lnTo>
                      <a:pt x="1642" y="2275"/>
                    </a:lnTo>
                    <a:lnTo>
                      <a:pt x="1621" y="2297"/>
                    </a:lnTo>
                    <a:lnTo>
                      <a:pt x="1601" y="2319"/>
                    </a:lnTo>
                    <a:lnTo>
                      <a:pt x="1580" y="2340"/>
                    </a:lnTo>
                    <a:lnTo>
                      <a:pt x="1558" y="2360"/>
                    </a:lnTo>
                    <a:lnTo>
                      <a:pt x="1535" y="2380"/>
                    </a:lnTo>
                    <a:lnTo>
                      <a:pt x="1513" y="2401"/>
                    </a:lnTo>
                    <a:lnTo>
                      <a:pt x="1490" y="2419"/>
                    </a:lnTo>
                    <a:lnTo>
                      <a:pt x="1466" y="2439"/>
                    </a:lnTo>
                    <a:lnTo>
                      <a:pt x="1443" y="2456"/>
                    </a:lnTo>
                    <a:lnTo>
                      <a:pt x="1417" y="2475"/>
                    </a:lnTo>
                    <a:lnTo>
                      <a:pt x="1393" y="2492"/>
                    </a:lnTo>
                    <a:lnTo>
                      <a:pt x="1368" y="2508"/>
                    </a:lnTo>
                    <a:lnTo>
                      <a:pt x="1342" y="2524"/>
                    </a:lnTo>
                    <a:lnTo>
                      <a:pt x="1316" y="2540"/>
                    </a:lnTo>
                    <a:lnTo>
                      <a:pt x="1290" y="2555"/>
                    </a:lnTo>
                    <a:lnTo>
                      <a:pt x="1264" y="2570"/>
                    </a:lnTo>
                    <a:lnTo>
                      <a:pt x="1236" y="2584"/>
                    </a:lnTo>
                    <a:lnTo>
                      <a:pt x="1210" y="2597"/>
                    </a:lnTo>
                    <a:lnTo>
                      <a:pt x="1182" y="2609"/>
                    </a:lnTo>
                    <a:lnTo>
                      <a:pt x="1153" y="2622"/>
                    </a:lnTo>
                    <a:lnTo>
                      <a:pt x="1125" y="2634"/>
                    </a:lnTo>
                    <a:lnTo>
                      <a:pt x="1097" y="2644"/>
                    </a:lnTo>
                    <a:lnTo>
                      <a:pt x="1068" y="2654"/>
                    </a:lnTo>
                    <a:lnTo>
                      <a:pt x="1039" y="2665"/>
                    </a:lnTo>
                    <a:lnTo>
                      <a:pt x="1009" y="2674"/>
                    </a:lnTo>
                    <a:lnTo>
                      <a:pt x="1023" y="2694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24600" y="3583080"/>
                <a:ext cx="474480" cy="709560"/>
              </a:xfrm>
              <a:custGeom>
                <a:avLst/>
                <a:gdLst/>
                <a:ahLst/>
                <a:rect l="l" t="t" r="r" b="b"/>
                <a:pathLst>
                  <a:path w="1793" h="2683">
                    <a:moveTo>
                      <a:pt x="258" y="0"/>
                    </a:moveTo>
                    <a:lnTo>
                      <a:pt x="230" y="8"/>
                    </a:lnTo>
                    <a:lnTo>
                      <a:pt x="203" y="17"/>
                    </a:lnTo>
                    <a:lnTo>
                      <a:pt x="176" y="25"/>
                    </a:lnTo>
                    <a:lnTo>
                      <a:pt x="149" y="35"/>
                    </a:lnTo>
                    <a:lnTo>
                      <a:pt x="123" y="45"/>
                    </a:lnTo>
                    <a:lnTo>
                      <a:pt x="96" y="55"/>
                    </a:lnTo>
                    <a:lnTo>
                      <a:pt x="71" y="66"/>
                    </a:lnTo>
                    <a:lnTo>
                      <a:pt x="46" y="78"/>
                    </a:lnTo>
                    <a:lnTo>
                      <a:pt x="5" y="114"/>
                    </a:lnTo>
                    <a:lnTo>
                      <a:pt x="0" y="125"/>
                    </a:lnTo>
                    <a:lnTo>
                      <a:pt x="39" y="106"/>
                    </a:lnTo>
                    <a:lnTo>
                      <a:pt x="78" y="88"/>
                    </a:lnTo>
                    <a:lnTo>
                      <a:pt x="117" y="71"/>
                    </a:lnTo>
                    <a:lnTo>
                      <a:pt x="158" y="56"/>
                    </a:lnTo>
                    <a:lnTo>
                      <a:pt x="198" y="42"/>
                    </a:lnTo>
                    <a:lnTo>
                      <a:pt x="239" y="28"/>
                    </a:lnTo>
                    <a:lnTo>
                      <a:pt x="282" y="17"/>
                    </a:lnTo>
                    <a:lnTo>
                      <a:pt x="325" y="7"/>
                    </a:lnTo>
                    <a:lnTo>
                      <a:pt x="311" y="0"/>
                    </a:lnTo>
                    <a:lnTo>
                      <a:pt x="274" y="0"/>
                    </a:lnTo>
                    <a:lnTo>
                      <a:pt x="258" y="0"/>
                    </a:lnTo>
                    <a:close/>
                    <a:moveTo>
                      <a:pt x="1032" y="2683"/>
                    </a:moveTo>
                    <a:lnTo>
                      <a:pt x="1061" y="2674"/>
                    </a:lnTo>
                    <a:lnTo>
                      <a:pt x="1091" y="2665"/>
                    </a:lnTo>
                    <a:lnTo>
                      <a:pt x="1120" y="2654"/>
                    </a:lnTo>
                    <a:lnTo>
                      <a:pt x="1147" y="2643"/>
                    </a:lnTo>
                    <a:lnTo>
                      <a:pt x="1176" y="2631"/>
                    </a:lnTo>
                    <a:lnTo>
                      <a:pt x="1204" y="2620"/>
                    </a:lnTo>
                    <a:lnTo>
                      <a:pt x="1231" y="2607"/>
                    </a:lnTo>
                    <a:lnTo>
                      <a:pt x="1258" y="2593"/>
                    </a:lnTo>
                    <a:lnTo>
                      <a:pt x="1286" y="2579"/>
                    </a:lnTo>
                    <a:lnTo>
                      <a:pt x="1312" y="2564"/>
                    </a:lnTo>
                    <a:lnTo>
                      <a:pt x="1337" y="2549"/>
                    </a:lnTo>
                    <a:lnTo>
                      <a:pt x="1364" y="2534"/>
                    </a:lnTo>
                    <a:lnTo>
                      <a:pt x="1389" y="2518"/>
                    </a:lnTo>
                    <a:lnTo>
                      <a:pt x="1415" y="2501"/>
                    </a:lnTo>
                    <a:lnTo>
                      <a:pt x="1439" y="2485"/>
                    </a:lnTo>
                    <a:lnTo>
                      <a:pt x="1463" y="2466"/>
                    </a:lnTo>
                    <a:lnTo>
                      <a:pt x="1487" y="2448"/>
                    </a:lnTo>
                    <a:lnTo>
                      <a:pt x="1511" y="2430"/>
                    </a:lnTo>
                    <a:lnTo>
                      <a:pt x="1534" y="2411"/>
                    </a:lnTo>
                    <a:lnTo>
                      <a:pt x="1557" y="2390"/>
                    </a:lnTo>
                    <a:lnTo>
                      <a:pt x="1579" y="2371"/>
                    </a:lnTo>
                    <a:lnTo>
                      <a:pt x="1600" y="2350"/>
                    </a:lnTo>
                    <a:lnTo>
                      <a:pt x="1622" y="2329"/>
                    </a:lnTo>
                    <a:lnTo>
                      <a:pt x="1643" y="2307"/>
                    </a:lnTo>
                    <a:lnTo>
                      <a:pt x="1664" y="2286"/>
                    </a:lnTo>
                    <a:lnTo>
                      <a:pt x="1684" y="2264"/>
                    </a:lnTo>
                    <a:lnTo>
                      <a:pt x="1703" y="2241"/>
                    </a:lnTo>
                    <a:lnTo>
                      <a:pt x="1722" y="2217"/>
                    </a:lnTo>
                    <a:lnTo>
                      <a:pt x="1740" y="2193"/>
                    </a:lnTo>
                    <a:lnTo>
                      <a:pt x="1758" y="2169"/>
                    </a:lnTo>
                    <a:lnTo>
                      <a:pt x="1776" y="2145"/>
                    </a:lnTo>
                    <a:lnTo>
                      <a:pt x="1793" y="2120"/>
                    </a:lnTo>
                    <a:lnTo>
                      <a:pt x="1782" y="2096"/>
                    </a:lnTo>
                    <a:lnTo>
                      <a:pt x="1765" y="2121"/>
                    </a:lnTo>
                    <a:lnTo>
                      <a:pt x="1747" y="2146"/>
                    </a:lnTo>
                    <a:lnTo>
                      <a:pt x="1730" y="2170"/>
                    </a:lnTo>
                    <a:lnTo>
                      <a:pt x="1711" y="2194"/>
                    </a:lnTo>
                    <a:lnTo>
                      <a:pt x="1692" y="2217"/>
                    </a:lnTo>
                    <a:lnTo>
                      <a:pt x="1673" y="2241"/>
                    </a:lnTo>
                    <a:lnTo>
                      <a:pt x="1652" y="2264"/>
                    </a:lnTo>
                    <a:lnTo>
                      <a:pt x="1633" y="2286"/>
                    </a:lnTo>
                    <a:lnTo>
                      <a:pt x="1612" y="2307"/>
                    </a:lnTo>
                    <a:lnTo>
                      <a:pt x="1590" y="2329"/>
                    </a:lnTo>
                    <a:lnTo>
                      <a:pt x="1568" y="2350"/>
                    </a:lnTo>
                    <a:lnTo>
                      <a:pt x="1546" y="2370"/>
                    </a:lnTo>
                    <a:lnTo>
                      <a:pt x="1523" y="2390"/>
                    </a:lnTo>
                    <a:lnTo>
                      <a:pt x="1500" y="2409"/>
                    </a:lnTo>
                    <a:lnTo>
                      <a:pt x="1477" y="2428"/>
                    </a:lnTo>
                    <a:lnTo>
                      <a:pt x="1453" y="2447"/>
                    </a:lnTo>
                    <a:lnTo>
                      <a:pt x="1429" y="2464"/>
                    </a:lnTo>
                    <a:lnTo>
                      <a:pt x="1403" y="2481"/>
                    </a:lnTo>
                    <a:lnTo>
                      <a:pt x="1378" y="2499"/>
                    </a:lnTo>
                    <a:lnTo>
                      <a:pt x="1352" y="2515"/>
                    </a:lnTo>
                    <a:lnTo>
                      <a:pt x="1326" y="2530"/>
                    </a:lnTo>
                    <a:lnTo>
                      <a:pt x="1301" y="2545"/>
                    </a:lnTo>
                    <a:lnTo>
                      <a:pt x="1273" y="2560"/>
                    </a:lnTo>
                    <a:lnTo>
                      <a:pt x="1246" y="2574"/>
                    </a:lnTo>
                    <a:lnTo>
                      <a:pt x="1219" y="2588"/>
                    </a:lnTo>
                    <a:lnTo>
                      <a:pt x="1191" y="2600"/>
                    </a:lnTo>
                    <a:lnTo>
                      <a:pt x="1163" y="2612"/>
                    </a:lnTo>
                    <a:lnTo>
                      <a:pt x="1134" y="2624"/>
                    </a:lnTo>
                    <a:lnTo>
                      <a:pt x="1106" y="2635"/>
                    </a:lnTo>
                    <a:lnTo>
                      <a:pt x="1077" y="2645"/>
                    </a:lnTo>
                    <a:lnTo>
                      <a:pt x="1048" y="2654"/>
                    </a:lnTo>
                    <a:lnTo>
                      <a:pt x="1018" y="2664"/>
                    </a:lnTo>
                    <a:lnTo>
                      <a:pt x="1032" y="2683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022800" y="3583080"/>
                <a:ext cx="474840" cy="706320"/>
              </a:xfrm>
              <a:custGeom>
                <a:avLst/>
                <a:gdLst/>
                <a:ahLst/>
                <a:rect l="l" t="t" r="r" b="b"/>
                <a:pathLst>
                  <a:path w="1796" h="2674">
                    <a:moveTo>
                      <a:pt x="312" y="0"/>
                    </a:moveTo>
                    <a:lnTo>
                      <a:pt x="275" y="10"/>
                    </a:lnTo>
                    <a:lnTo>
                      <a:pt x="237" y="20"/>
                    </a:lnTo>
                    <a:lnTo>
                      <a:pt x="201" y="32"/>
                    </a:lnTo>
                    <a:lnTo>
                      <a:pt x="164" y="45"/>
                    </a:lnTo>
                    <a:lnTo>
                      <a:pt x="128" y="58"/>
                    </a:lnTo>
                    <a:lnTo>
                      <a:pt x="94" y="72"/>
                    </a:lnTo>
                    <a:lnTo>
                      <a:pt x="59" y="88"/>
                    </a:lnTo>
                    <a:lnTo>
                      <a:pt x="25" y="104"/>
                    </a:lnTo>
                    <a:lnTo>
                      <a:pt x="14" y="114"/>
                    </a:lnTo>
                    <a:lnTo>
                      <a:pt x="0" y="143"/>
                    </a:lnTo>
                    <a:lnTo>
                      <a:pt x="42" y="122"/>
                    </a:lnTo>
                    <a:lnTo>
                      <a:pt x="84" y="102"/>
                    </a:lnTo>
                    <a:lnTo>
                      <a:pt x="126" y="84"/>
                    </a:lnTo>
                    <a:lnTo>
                      <a:pt x="170" y="66"/>
                    </a:lnTo>
                    <a:lnTo>
                      <a:pt x="214" y="51"/>
                    </a:lnTo>
                    <a:lnTo>
                      <a:pt x="259" y="38"/>
                    </a:lnTo>
                    <a:lnTo>
                      <a:pt x="304" y="25"/>
                    </a:lnTo>
                    <a:lnTo>
                      <a:pt x="350" y="15"/>
                    </a:lnTo>
                    <a:lnTo>
                      <a:pt x="320" y="0"/>
                    </a:lnTo>
                    <a:lnTo>
                      <a:pt x="312" y="0"/>
                    </a:lnTo>
                    <a:close/>
                    <a:moveTo>
                      <a:pt x="1034" y="2674"/>
                    </a:moveTo>
                    <a:lnTo>
                      <a:pt x="1064" y="2665"/>
                    </a:lnTo>
                    <a:lnTo>
                      <a:pt x="1093" y="2654"/>
                    </a:lnTo>
                    <a:lnTo>
                      <a:pt x="1122" y="2644"/>
                    </a:lnTo>
                    <a:lnTo>
                      <a:pt x="1150" y="2634"/>
                    </a:lnTo>
                    <a:lnTo>
                      <a:pt x="1178" y="2622"/>
                    </a:lnTo>
                    <a:lnTo>
                      <a:pt x="1207" y="2609"/>
                    </a:lnTo>
                    <a:lnTo>
                      <a:pt x="1235" y="2597"/>
                    </a:lnTo>
                    <a:lnTo>
                      <a:pt x="1261" y="2584"/>
                    </a:lnTo>
                    <a:lnTo>
                      <a:pt x="1289" y="2570"/>
                    </a:lnTo>
                    <a:lnTo>
                      <a:pt x="1315" y="2555"/>
                    </a:lnTo>
                    <a:lnTo>
                      <a:pt x="1341" y="2540"/>
                    </a:lnTo>
                    <a:lnTo>
                      <a:pt x="1367" y="2524"/>
                    </a:lnTo>
                    <a:lnTo>
                      <a:pt x="1393" y="2508"/>
                    </a:lnTo>
                    <a:lnTo>
                      <a:pt x="1418" y="2492"/>
                    </a:lnTo>
                    <a:lnTo>
                      <a:pt x="1442" y="2475"/>
                    </a:lnTo>
                    <a:lnTo>
                      <a:pt x="1468" y="2456"/>
                    </a:lnTo>
                    <a:lnTo>
                      <a:pt x="1491" y="2439"/>
                    </a:lnTo>
                    <a:lnTo>
                      <a:pt x="1515" y="2419"/>
                    </a:lnTo>
                    <a:lnTo>
                      <a:pt x="1538" y="2401"/>
                    </a:lnTo>
                    <a:lnTo>
                      <a:pt x="1560" y="2380"/>
                    </a:lnTo>
                    <a:lnTo>
                      <a:pt x="1583" y="2360"/>
                    </a:lnTo>
                    <a:lnTo>
                      <a:pt x="1605" y="2340"/>
                    </a:lnTo>
                    <a:lnTo>
                      <a:pt x="1626" y="2319"/>
                    </a:lnTo>
                    <a:lnTo>
                      <a:pt x="1646" y="2297"/>
                    </a:lnTo>
                    <a:lnTo>
                      <a:pt x="1667" y="2275"/>
                    </a:lnTo>
                    <a:lnTo>
                      <a:pt x="1687" y="2252"/>
                    </a:lnTo>
                    <a:lnTo>
                      <a:pt x="1706" y="2229"/>
                    </a:lnTo>
                    <a:lnTo>
                      <a:pt x="1726" y="2206"/>
                    </a:lnTo>
                    <a:lnTo>
                      <a:pt x="1744" y="2182"/>
                    </a:lnTo>
                    <a:lnTo>
                      <a:pt x="1762" y="2158"/>
                    </a:lnTo>
                    <a:lnTo>
                      <a:pt x="1779" y="2133"/>
                    </a:lnTo>
                    <a:lnTo>
                      <a:pt x="1796" y="2108"/>
                    </a:lnTo>
                    <a:lnTo>
                      <a:pt x="1785" y="2084"/>
                    </a:lnTo>
                    <a:lnTo>
                      <a:pt x="1769" y="2109"/>
                    </a:lnTo>
                    <a:lnTo>
                      <a:pt x="1751" y="2134"/>
                    </a:lnTo>
                    <a:lnTo>
                      <a:pt x="1733" y="2159"/>
                    </a:lnTo>
                    <a:lnTo>
                      <a:pt x="1714" y="2183"/>
                    </a:lnTo>
                    <a:lnTo>
                      <a:pt x="1696" y="2207"/>
                    </a:lnTo>
                    <a:lnTo>
                      <a:pt x="1676" y="2230"/>
                    </a:lnTo>
                    <a:lnTo>
                      <a:pt x="1657" y="2252"/>
                    </a:lnTo>
                    <a:lnTo>
                      <a:pt x="1636" y="2275"/>
                    </a:lnTo>
                    <a:lnTo>
                      <a:pt x="1615" y="2297"/>
                    </a:lnTo>
                    <a:lnTo>
                      <a:pt x="1593" y="2318"/>
                    </a:lnTo>
                    <a:lnTo>
                      <a:pt x="1571" y="2340"/>
                    </a:lnTo>
                    <a:lnTo>
                      <a:pt x="1549" y="2359"/>
                    </a:lnTo>
                    <a:lnTo>
                      <a:pt x="1526" y="2380"/>
                    </a:lnTo>
                    <a:lnTo>
                      <a:pt x="1503" y="2398"/>
                    </a:lnTo>
                    <a:lnTo>
                      <a:pt x="1480" y="2418"/>
                    </a:lnTo>
                    <a:lnTo>
                      <a:pt x="1456" y="2437"/>
                    </a:lnTo>
                    <a:lnTo>
                      <a:pt x="1432" y="2454"/>
                    </a:lnTo>
                    <a:lnTo>
                      <a:pt x="1406" y="2471"/>
                    </a:lnTo>
                    <a:lnTo>
                      <a:pt x="1381" y="2488"/>
                    </a:lnTo>
                    <a:lnTo>
                      <a:pt x="1356" y="2505"/>
                    </a:lnTo>
                    <a:lnTo>
                      <a:pt x="1330" y="2521"/>
                    </a:lnTo>
                    <a:lnTo>
                      <a:pt x="1304" y="2536"/>
                    </a:lnTo>
                    <a:lnTo>
                      <a:pt x="1276" y="2551"/>
                    </a:lnTo>
                    <a:lnTo>
                      <a:pt x="1250" y="2564"/>
                    </a:lnTo>
                    <a:lnTo>
                      <a:pt x="1222" y="2577"/>
                    </a:lnTo>
                    <a:lnTo>
                      <a:pt x="1194" y="2590"/>
                    </a:lnTo>
                    <a:lnTo>
                      <a:pt x="1167" y="2603"/>
                    </a:lnTo>
                    <a:lnTo>
                      <a:pt x="1138" y="2614"/>
                    </a:lnTo>
                    <a:lnTo>
                      <a:pt x="1109" y="2626"/>
                    </a:lnTo>
                    <a:lnTo>
                      <a:pt x="1080" y="2636"/>
                    </a:lnTo>
                    <a:lnTo>
                      <a:pt x="1050" y="2645"/>
                    </a:lnTo>
                    <a:lnTo>
                      <a:pt x="1020" y="2654"/>
                    </a:lnTo>
                    <a:lnTo>
                      <a:pt x="1034" y="267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21360" y="3584520"/>
                <a:ext cx="474840" cy="703440"/>
              </a:xfrm>
              <a:custGeom>
                <a:avLst/>
                <a:gdLst/>
                <a:ahLst/>
                <a:rect l="l" t="t" r="r" b="b"/>
                <a:pathLst>
                  <a:path w="1799" h="2657">
                    <a:moveTo>
                      <a:pt x="342" y="0"/>
                    </a:moveTo>
                    <a:lnTo>
                      <a:pt x="299" y="10"/>
                    </a:lnTo>
                    <a:lnTo>
                      <a:pt x="256" y="21"/>
                    </a:lnTo>
                    <a:lnTo>
                      <a:pt x="215" y="35"/>
                    </a:lnTo>
                    <a:lnTo>
                      <a:pt x="175" y="49"/>
                    </a:lnTo>
                    <a:lnTo>
                      <a:pt x="134" y="64"/>
                    </a:lnTo>
                    <a:lnTo>
                      <a:pt x="95" y="81"/>
                    </a:lnTo>
                    <a:lnTo>
                      <a:pt x="56" y="99"/>
                    </a:lnTo>
                    <a:lnTo>
                      <a:pt x="17" y="118"/>
                    </a:lnTo>
                    <a:lnTo>
                      <a:pt x="0" y="153"/>
                    </a:lnTo>
                    <a:lnTo>
                      <a:pt x="44" y="130"/>
                    </a:lnTo>
                    <a:lnTo>
                      <a:pt x="89" y="108"/>
                    </a:lnTo>
                    <a:lnTo>
                      <a:pt x="134" y="88"/>
                    </a:lnTo>
                    <a:lnTo>
                      <a:pt x="181" y="71"/>
                    </a:lnTo>
                    <a:lnTo>
                      <a:pt x="229" y="54"/>
                    </a:lnTo>
                    <a:lnTo>
                      <a:pt x="276" y="40"/>
                    </a:lnTo>
                    <a:lnTo>
                      <a:pt x="326" y="27"/>
                    </a:lnTo>
                    <a:lnTo>
                      <a:pt x="375" y="16"/>
                    </a:lnTo>
                    <a:lnTo>
                      <a:pt x="342" y="0"/>
                    </a:lnTo>
                    <a:close/>
                    <a:moveTo>
                      <a:pt x="1035" y="2657"/>
                    </a:moveTo>
                    <a:lnTo>
                      <a:pt x="1065" y="2647"/>
                    </a:lnTo>
                    <a:lnTo>
                      <a:pt x="1094" y="2638"/>
                    </a:lnTo>
                    <a:lnTo>
                      <a:pt x="1123" y="2628"/>
                    </a:lnTo>
                    <a:lnTo>
                      <a:pt x="1151" y="2617"/>
                    </a:lnTo>
                    <a:lnTo>
                      <a:pt x="1180" y="2605"/>
                    </a:lnTo>
                    <a:lnTo>
                      <a:pt x="1208" y="2593"/>
                    </a:lnTo>
                    <a:lnTo>
                      <a:pt x="1236" y="2581"/>
                    </a:lnTo>
                    <a:lnTo>
                      <a:pt x="1263" y="2567"/>
                    </a:lnTo>
                    <a:lnTo>
                      <a:pt x="1290" y="2553"/>
                    </a:lnTo>
                    <a:lnTo>
                      <a:pt x="1318" y="2538"/>
                    </a:lnTo>
                    <a:lnTo>
                      <a:pt x="1343" y="2523"/>
                    </a:lnTo>
                    <a:lnTo>
                      <a:pt x="1369" y="2508"/>
                    </a:lnTo>
                    <a:lnTo>
                      <a:pt x="1395" y="2492"/>
                    </a:lnTo>
                    <a:lnTo>
                      <a:pt x="1420" y="2474"/>
                    </a:lnTo>
                    <a:lnTo>
                      <a:pt x="1446" y="2457"/>
                    </a:lnTo>
                    <a:lnTo>
                      <a:pt x="1470" y="2440"/>
                    </a:lnTo>
                    <a:lnTo>
                      <a:pt x="1494" y="2421"/>
                    </a:lnTo>
                    <a:lnTo>
                      <a:pt x="1517" y="2402"/>
                    </a:lnTo>
                    <a:lnTo>
                      <a:pt x="1540" y="2383"/>
                    </a:lnTo>
                    <a:lnTo>
                      <a:pt x="1563" y="2363"/>
                    </a:lnTo>
                    <a:lnTo>
                      <a:pt x="1585" y="2343"/>
                    </a:lnTo>
                    <a:lnTo>
                      <a:pt x="1607" y="2322"/>
                    </a:lnTo>
                    <a:lnTo>
                      <a:pt x="1629" y="2300"/>
                    </a:lnTo>
                    <a:lnTo>
                      <a:pt x="1650" y="2279"/>
                    </a:lnTo>
                    <a:lnTo>
                      <a:pt x="1669" y="2257"/>
                    </a:lnTo>
                    <a:lnTo>
                      <a:pt x="1690" y="2234"/>
                    </a:lnTo>
                    <a:lnTo>
                      <a:pt x="1709" y="2210"/>
                    </a:lnTo>
                    <a:lnTo>
                      <a:pt x="1728" y="2187"/>
                    </a:lnTo>
                    <a:lnTo>
                      <a:pt x="1747" y="2163"/>
                    </a:lnTo>
                    <a:lnTo>
                      <a:pt x="1764" y="2139"/>
                    </a:lnTo>
                    <a:lnTo>
                      <a:pt x="1782" y="2114"/>
                    </a:lnTo>
                    <a:lnTo>
                      <a:pt x="1799" y="2089"/>
                    </a:lnTo>
                    <a:lnTo>
                      <a:pt x="1787" y="2065"/>
                    </a:lnTo>
                    <a:lnTo>
                      <a:pt x="1771" y="2091"/>
                    </a:lnTo>
                    <a:lnTo>
                      <a:pt x="1754" y="2116"/>
                    </a:lnTo>
                    <a:lnTo>
                      <a:pt x="1735" y="2140"/>
                    </a:lnTo>
                    <a:lnTo>
                      <a:pt x="1717" y="2164"/>
                    </a:lnTo>
                    <a:lnTo>
                      <a:pt x="1698" y="2189"/>
                    </a:lnTo>
                    <a:lnTo>
                      <a:pt x="1679" y="2212"/>
                    </a:lnTo>
                    <a:lnTo>
                      <a:pt x="1659" y="2235"/>
                    </a:lnTo>
                    <a:lnTo>
                      <a:pt x="1638" y="2257"/>
                    </a:lnTo>
                    <a:lnTo>
                      <a:pt x="1617" y="2279"/>
                    </a:lnTo>
                    <a:lnTo>
                      <a:pt x="1597" y="2300"/>
                    </a:lnTo>
                    <a:lnTo>
                      <a:pt x="1575" y="2321"/>
                    </a:lnTo>
                    <a:lnTo>
                      <a:pt x="1553" y="2342"/>
                    </a:lnTo>
                    <a:lnTo>
                      <a:pt x="1530" y="2363"/>
                    </a:lnTo>
                    <a:lnTo>
                      <a:pt x="1507" y="2382"/>
                    </a:lnTo>
                    <a:lnTo>
                      <a:pt x="1483" y="2401"/>
                    </a:lnTo>
                    <a:lnTo>
                      <a:pt x="1458" y="2419"/>
                    </a:lnTo>
                    <a:lnTo>
                      <a:pt x="1434" y="2438"/>
                    </a:lnTo>
                    <a:lnTo>
                      <a:pt x="1410" y="2455"/>
                    </a:lnTo>
                    <a:lnTo>
                      <a:pt x="1384" y="2472"/>
                    </a:lnTo>
                    <a:lnTo>
                      <a:pt x="1358" y="2488"/>
                    </a:lnTo>
                    <a:lnTo>
                      <a:pt x="1333" y="2503"/>
                    </a:lnTo>
                    <a:lnTo>
                      <a:pt x="1306" y="2519"/>
                    </a:lnTo>
                    <a:lnTo>
                      <a:pt x="1278" y="2533"/>
                    </a:lnTo>
                    <a:lnTo>
                      <a:pt x="1252" y="2547"/>
                    </a:lnTo>
                    <a:lnTo>
                      <a:pt x="1224" y="2561"/>
                    </a:lnTo>
                    <a:lnTo>
                      <a:pt x="1196" y="2574"/>
                    </a:lnTo>
                    <a:lnTo>
                      <a:pt x="1168" y="2586"/>
                    </a:lnTo>
                    <a:lnTo>
                      <a:pt x="1139" y="2598"/>
                    </a:lnTo>
                    <a:lnTo>
                      <a:pt x="1110" y="2608"/>
                    </a:lnTo>
                    <a:lnTo>
                      <a:pt x="1081" y="2619"/>
                    </a:lnTo>
                    <a:lnTo>
                      <a:pt x="1052" y="2628"/>
                    </a:lnTo>
                    <a:lnTo>
                      <a:pt x="1022" y="2637"/>
                    </a:lnTo>
                    <a:lnTo>
                      <a:pt x="1035" y="2657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18120" y="3586320"/>
                <a:ext cx="476280" cy="698400"/>
              </a:xfrm>
              <a:custGeom>
                <a:avLst/>
                <a:gdLst/>
                <a:ahLst/>
                <a:rect l="l" t="t" r="r" b="b"/>
                <a:pathLst>
                  <a:path w="1801" h="2639">
                    <a:moveTo>
                      <a:pt x="366" y="0"/>
                    </a:moveTo>
                    <a:lnTo>
                      <a:pt x="320" y="10"/>
                    </a:lnTo>
                    <a:lnTo>
                      <a:pt x="275" y="23"/>
                    </a:lnTo>
                    <a:lnTo>
                      <a:pt x="230" y="36"/>
                    </a:lnTo>
                    <a:lnTo>
                      <a:pt x="186" y="51"/>
                    </a:lnTo>
                    <a:lnTo>
                      <a:pt x="142" y="69"/>
                    </a:lnTo>
                    <a:lnTo>
                      <a:pt x="100" y="87"/>
                    </a:lnTo>
                    <a:lnTo>
                      <a:pt x="58" y="107"/>
                    </a:lnTo>
                    <a:lnTo>
                      <a:pt x="16" y="128"/>
                    </a:lnTo>
                    <a:lnTo>
                      <a:pt x="0" y="162"/>
                    </a:lnTo>
                    <a:lnTo>
                      <a:pt x="46" y="138"/>
                    </a:lnTo>
                    <a:lnTo>
                      <a:pt x="95" y="115"/>
                    </a:lnTo>
                    <a:lnTo>
                      <a:pt x="143" y="93"/>
                    </a:lnTo>
                    <a:lnTo>
                      <a:pt x="193" y="73"/>
                    </a:lnTo>
                    <a:lnTo>
                      <a:pt x="244" y="56"/>
                    </a:lnTo>
                    <a:lnTo>
                      <a:pt x="294" y="41"/>
                    </a:lnTo>
                    <a:lnTo>
                      <a:pt x="347" y="27"/>
                    </a:lnTo>
                    <a:lnTo>
                      <a:pt x="401" y="16"/>
                    </a:lnTo>
                    <a:lnTo>
                      <a:pt x="366" y="0"/>
                    </a:lnTo>
                    <a:close/>
                    <a:moveTo>
                      <a:pt x="1036" y="2639"/>
                    </a:moveTo>
                    <a:lnTo>
                      <a:pt x="1066" y="2630"/>
                    </a:lnTo>
                    <a:lnTo>
                      <a:pt x="1096" y="2621"/>
                    </a:lnTo>
                    <a:lnTo>
                      <a:pt x="1125" y="2611"/>
                    </a:lnTo>
                    <a:lnTo>
                      <a:pt x="1154" y="2599"/>
                    </a:lnTo>
                    <a:lnTo>
                      <a:pt x="1183" y="2588"/>
                    </a:lnTo>
                    <a:lnTo>
                      <a:pt x="1210" y="2575"/>
                    </a:lnTo>
                    <a:lnTo>
                      <a:pt x="1238" y="2562"/>
                    </a:lnTo>
                    <a:lnTo>
                      <a:pt x="1266" y="2549"/>
                    </a:lnTo>
                    <a:lnTo>
                      <a:pt x="1292" y="2536"/>
                    </a:lnTo>
                    <a:lnTo>
                      <a:pt x="1320" y="2521"/>
                    </a:lnTo>
                    <a:lnTo>
                      <a:pt x="1346" y="2506"/>
                    </a:lnTo>
                    <a:lnTo>
                      <a:pt x="1372" y="2490"/>
                    </a:lnTo>
                    <a:lnTo>
                      <a:pt x="1397" y="2473"/>
                    </a:lnTo>
                    <a:lnTo>
                      <a:pt x="1422" y="2456"/>
                    </a:lnTo>
                    <a:lnTo>
                      <a:pt x="1448" y="2439"/>
                    </a:lnTo>
                    <a:lnTo>
                      <a:pt x="1472" y="2422"/>
                    </a:lnTo>
                    <a:lnTo>
                      <a:pt x="1496" y="2403"/>
                    </a:lnTo>
                    <a:lnTo>
                      <a:pt x="1519" y="2383"/>
                    </a:lnTo>
                    <a:lnTo>
                      <a:pt x="1542" y="2365"/>
                    </a:lnTo>
                    <a:lnTo>
                      <a:pt x="1565" y="2344"/>
                    </a:lnTo>
                    <a:lnTo>
                      <a:pt x="1587" y="2325"/>
                    </a:lnTo>
                    <a:lnTo>
                      <a:pt x="1609" y="2303"/>
                    </a:lnTo>
                    <a:lnTo>
                      <a:pt x="1631" y="2282"/>
                    </a:lnTo>
                    <a:lnTo>
                      <a:pt x="1652" y="2260"/>
                    </a:lnTo>
                    <a:lnTo>
                      <a:pt x="1673" y="2237"/>
                    </a:lnTo>
                    <a:lnTo>
                      <a:pt x="1692" y="2215"/>
                    </a:lnTo>
                    <a:lnTo>
                      <a:pt x="1712" y="2192"/>
                    </a:lnTo>
                    <a:lnTo>
                      <a:pt x="1730" y="2168"/>
                    </a:lnTo>
                    <a:lnTo>
                      <a:pt x="1749" y="2144"/>
                    </a:lnTo>
                    <a:lnTo>
                      <a:pt x="1767" y="2119"/>
                    </a:lnTo>
                    <a:lnTo>
                      <a:pt x="1785" y="2094"/>
                    </a:lnTo>
                    <a:lnTo>
                      <a:pt x="1801" y="2069"/>
                    </a:lnTo>
                    <a:lnTo>
                      <a:pt x="1793" y="2051"/>
                    </a:lnTo>
                    <a:lnTo>
                      <a:pt x="1788" y="2047"/>
                    </a:lnTo>
                    <a:lnTo>
                      <a:pt x="1772" y="2072"/>
                    </a:lnTo>
                    <a:lnTo>
                      <a:pt x="1755" y="2098"/>
                    </a:lnTo>
                    <a:lnTo>
                      <a:pt x="1736" y="2123"/>
                    </a:lnTo>
                    <a:lnTo>
                      <a:pt x="1718" y="2147"/>
                    </a:lnTo>
                    <a:lnTo>
                      <a:pt x="1699" y="2170"/>
                    </a:lnTo>
                    <a:lnTo>
                      <a:pt x="1680" y="2194"/>
                    </a:lnTo>
                    <a:lnTo>
                      <a:pt x="1660" y="2216"/>
                    </a:lnTo>
                    <a:lnTo>
                      <a:pt x="1640" y="2239"/>
                    </a:lnTo>
                    <a:lnTo>
                      <a:pt x="1620" y="2261"/>
                    </a:lnTo>
                    <a:lnTo>
                      <a:pt x="1598" y="2283"/>
                    </a:lnTo>
                    <a:lnTo>
                      <a:pt x="1576" y="2304"/>
                    </a:lnTo>
                    <a:lnTo>
                      <a:pt x="1554" y="2325"/>
                    </a:lnTo>
                    <a:lnTo>
                      <a:pt x="1531" y="2344"/>
                    </a:lnTo>
                    <a:lnTo>
                      <a:pt x="1508" y="2364"/>
                    </a:lnTo>
                    <a:lnTo>
                      <a:pt x="1485" y="2383"/>
                    </a:lnTo>
                    <a:lnTo>
                      <a:pt x="1461" y="2402"/>
                    </a:lnTo>
                    <a:lnTo>
                      <a:pt x="1436" y="2420"/>
                    </a:lnTo>
                    <a:lnTo>
                      <a:pt x="1411" y="2438"/>
                    </a:lnTo>
                    <a:lnTo>
                      <a:pt x="1386" y="2454"/>
                    </a:lnTo>
                    <a:lnTo>
                      <a:pt x="1360" y="2471"/>
                    </a:lnTo>
                    <a:lnTo>
                      <a:pt x="1334" y="2486"/>
                    </a:lnTo>
                    <a:lnTo>
                      <a:pt x="1307" y="2501"/>
                    </a:lnTo>
                    <a:lnTo>
                      <a:pt x="1281" y="2516"/>
                    </a:lnTo>
                    <a:lnTo>
                      <a:pt x="1253" y="2530"/>
                    </a:lnTo>
                    <a:lnTo>
                      <a:pt x="1225" y="2544"/>
                    </a:lnTo>
                    <a:lnTo>
                      <a:pt x="1198" y="2556"/>
                    </a:lnTo>
                    <a:lnTo>
                      <a:pt x="1169" y="2568"/>
                    </a:lnTo>
                    <a:lnTo>
                      <a:pt x="1141" y="2579"/>
                    </a:lnTo>
                    <a:lnTo>
                      <a:pt x="1112" y="2591"/>
                    </a:lnTo>
                    <a:lnTo>
                      <a:pt x="1082" y="2601"/>
                    </a:lnTo>
                    <a:lnTo>
                      <a:pt x="1053" y="2611"/>
                    </a:lnTo>
                    <a:lnTo>
                      <a:pt x="1023" y="2619"/>
                    </a:lnTo>
                    <a:lnTo>
                      <a:pt x="1028" y="2626"/>
                    </a:lnTo>
                    <a:lnTo>
                      <a:pt x="1036" y="263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016680" y="3587760"/>
                <a:ext cx="477720" cy="693720"/>
              </a:xfrm>
              <a:custGeom>
                <a:avLst/>
                <a:gdLst/>
                <a:ahLst/>
                <a:rect l="l" t="t" r="r" b="b"/>
                <a:pathLst>
                  <a:path w="1802" h="2621">
                    <a:moveTo>
                      <a:pt x="390" y="0"/>
                    </a:moveTo>
                    <a:lnTo>
                      <a:pt x="341" y="11"/>
                    </a:lnTo>
                    <a:lnTo>
                      <a:pt x="291" y="24"/>
                    </a:lnTo>
                    <a:lnTo>
                      <a:pt x="244" y="38"/>
                    </a:lnTo>
                    <a:lnTo>
                      <a:pt x="196" y="55"/>
                    </a:lnTo>
                    <a:lnTo>
                      <a:pt x="149" y="72"/>
                    </a:lnTo>
                    <a:lnTo>
                      <a:pt x="104" y="92"/>
                    </a:lnTo>
                    <a:lnTo>
                      <a:pt x="59" y="114"/>
                    </a:lnTo>
                    <a:lnTo>
                      <a:pt x="15" y="137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25" y="158"/>
                    </a:lnTo>
                    <a:lnTo>
                      <a:pt x="50" y="144"/>
                    </a:lnTo>
                    <a:lnTo>
                      <a:pt x="74" y="131"/>
                    </a:lnTo>
                    <a:lnTo>
                      <a:pt x="100" y="120"/>
                    </a:lnTo>
                    <a:lnTo>
                      <a:pt x="125" y="108"/>
                    </a:lnTo>
                    <a:lnTo>
                      <a:pt x="151" y="96"/>
                    </a:lnTo>
                    <a:lnTo>
                      <a:pt x="177" y="86"/>
                    </a:lnTo>
                    <a:lnTo>
                      <a:pt x="203" y="76"/>
                    </a:lnTo>
                    <a:lnTo>
                      <a:pt x="230" y="67"/>
                    </a:lnTo>
                    <a:lnTo>
                      <a:pt x="258" y="57"/>
                    </a:lnTo>
                    <a:lnTo>
                      <a:pt x="284" y="49"/>
                    </a:lnTo>
                    <a:lnTo>
                      <a:pt x="312" y="41"/>
                    </a:lnTo>
                    <a:lnTo>
                      <a:pt x="340" y="34"/>
                    </a:lnTo>
                    <a:lnTo>
                      <a:pt x="367" y="27"/>
                    </a:lnTo>
                    <a:lnTo>
                      <a:pt x="396" y="22"/>
                    </a:lnTo>
                    <a:lnTo>
                      <a:pt x="424" y="16"/>
                    </a:lnTo>
                    <a:lnTo>
                      <a:pt x="420" y="13"/>
                    </a:lnTo>
                    <a:lnTo>
                      <a:pt x="390" y="0"/>
                    </a:lnTo>
                    <a:close/>
                    <a:moveTo>
                      <a:pt x="1037" y="2621"/>
                    </a:moveTo>
                    <a:lnTo>
                      <a:pt x="1067" y="2612"/>
                    </a:lnTo>
                    <a:lnTo>
                      <a:pt x="1096" y="2603"/>
                    </a:lnTo>
                    <a:lnTo>
                      <a:pt x="1125" y="2592"/>
                    </a:lnTo>
                    <a:lnTo>
                      <a:pt x="1154" y="2582"/>
                    </a:lnTo>
                    <a:lnTo>
                      <a:pt x="1183" y="2570"/>
                    </a:lnTo>
                    <a:lnTo>
                      <a:pt x="1211" y="2558"/>
                    </a:lnTo>
                    <a:lnTo>
                      <a:pt x="1239" y="2545"/>
                    </a:lnTo>
                    <a:lnTo>
                      <a:pt x="1267" y="2531"/>
                    </a:lnTo>
                    <a:lnTo>
                      <a:pt x="1293" y="2517"/>
                    </a:lnTo>
                    <a:lnTo>
                      <a:pt x="1321" y="2503"/>
                    </a:lnTo>
                    <a:lnTo>
                      <a:pt x="1348" y="2487"/>
                    </a:lnTo>
                    <a:lnTo>
                      <a:pt x="1373" y="2472"/>
                    </a:lnTo>
                    <a:lnTo>
                      <a:pt x="1399" y="2456"/>
                    </a:lnTo>
                    <a:lnTo>
                      <a:pt x="1425" y="2439"/>
                    </a:lnTo>
                    <a:lnTo>
                      <a:pt x="1449" y="2422"/>
                    </a:lnTo>
                    <a:lnTo>
                      <a:pt x="1473" y="2403"/>
                    </a:lnTo>
                    <a:lnTo>
                      <a:pt x="1498" y="2385"/>
                    </a:lnTo>
                    <a:lnTo>
                      <a:pt x="1522" y="2366"/>
                    </a:lnTo>
                    <a:lnTo>
                      <a:pt x="1545" y="2347"/>
                    </a:lnTo>
                    <a:lnTo>
                      <a:pt x="1568" y="2326"/>
                    </a:lnTo>
                    <a:lnTo>
                      <a:pt x="1590" y="2305"/>
                    </a:lnTo>
                    <a:lnTo>
                      <a:pt x="1612" y="2284"/>
                    </a:lnTo>
                    <a:lnTo>
                      <a:pt x="1632" y="2263"/>
                    </a:lnTo>
                    <a:lnTo>
                      <a:pt x="1653" y="2241"/>
                    </a:lnTo>
                    <a:lnTo>
                      <a:pt x="1674" y="2219"/>
                    </a:lnTo>
                    <a:lnTo>
                      <a:pt x="1694" y="2196"/>
                    </a:lnTo>
                    <a:lnTo>
                      <a:pt x="1713" y="2173"/>
                    </a:lnTo>
                    <a:lnTo>
                      <a:pt x="1732" y="2148"/>
                    </a:lnTo>
                    <a:lnTo>
                      <a:pt x="1750" y="2124"/>
                    </a:lnTo>
                    <a:lnTo>
                      <a:pt x="1769" y="2100"/>
                    </a:lnTo>
                    <a:lnTo>
                      <a:pt x="1786" y="2075"/>
                    </a:lnTo>
                    <a:lnTo>
                      <a:pt x="1802" y="2049"/>
                    </a:lnTo>
                    <a:lnTo>
                      <a:pt x="1800" y="2043"/>
                    </a:lnTo>
                    <a:lnTo>
                      <a:pt x="1787" y="2031"/>
                    </a:lnTo>
                    <a:lnTo>
                      <a:pt x="1770" y="2056"/>
                    </a:lnTo>
                    <a:lnTo>
                      <a:pt x="1754" y="2082"/>
                    </a:lnTo>
                    <a:lnTo>
                      <a:pt x="1735" y="2106"/>
                    </a:lnTo>
                    <a:lnTo>
                      <a:pt x="1718" y="2130"/>
                    </a:lnTo>
                    <a:lnTo>
                      <a:pt x="1698" y="2154"/>
                    </a:lnTo>
                    <a:lnTo>
                      <a:pt x="1680" y="2177"/>
                    </a:lnTo>
                    <a:lnTo>
                      <a:pt x="1660" y="2200"/>
                    </a:lnTo>
                    <a:lnTo>
                      <a:pt x="1639" y="2223"/>
                    </a:lnTo>
                    <a:lnTo>
                      <a:pt x="1619" y="2245"/>
                    </a:lnTo>
                    <a:lnTo>
                      <a:pt x="1598" y="2267"/>
                    </a:lnTo>
                    <a:lnTo>
                      <a:pt x="1576" y="2288"/>
                    </a:lnTo>
                    <a:lnTo>
                      <a:pt x="1553" y="2309"/>
                    </a:lnTo>
                    <a:lnTo>
                      <a:pt x="1531" y="2328"/>
                    </a:lnTo>
                    <a:lnTo>
                      <a:pt x="1508" y="2348"/>
                    </a:lnTo>
                    <a:lnTo>
                      <a:pt x="1484" y="2366"/>
                    </a:lnTo>
                    <a:lnTo>
                      <a:pt x="1461" y="2385"/>
                    </a:lnTo>
                    <a:lnTo>
                      <a:pt x="1435" y="2403"/>
                    </a:lnTo>
                    <a:lnTo>
                      <a:pt x="1411" y="2420"/>
                    </a:lnTo>
                    <a:lnTo>
                      <a:pt x="1386" y="2438"/>
                    </a:lnTo>
                    <a:lnTo>
                      <a:pt x="1360" y="2454"/>
                    </a:lnTo>
                    <a:lnTo>
                      <a:pt x="1334" y="2470"/>
                    </a:lnTo>
                    <a:lnTo>
                      <a:pt x="1307" y="2485"/>
                    </a:lnTo>
                    <a:lnTo>
                      <a:pt x="1281" y="2499"/>
                    </a:lnTo>
                    <a:lnTo>
                      <a:pt x="1253" y="2513"/>
                    </a:lnTo>
                    <a:lnTo>
                      <a:pt x="1225" y="2526"/>
                    </a:lnTo>
                    <a:lnTo>
                      <a:pt x="1198" y="2539"/>
                    </a:lnTo>
                    <a:lnTo>
                      <a:pt x="1170" y="2551"/>
                    </a:lnTo>
                    <a:lnTo>
                      <a:pt x="1141" y="2562"/>
                    </a:lnTo>
                    <a:lnTo>
                      <a:pt x="1112" y="2573"/>
                    </a:lnTo>
                    <a:lnTo>
                      <a:pt x="1083" y="2583"/>
                    </a:lnTo>
                    <a:lnTo>
                      <a:pt x="1053" y="2592"/>
                    </a:lnTo>
                    <a:lnTo>
                      <a:pt x="1023" y="2601"/>
                    </a:lnTo>
                    <a:lnTo>
                      <a:pt x="1035" y="2618"/>
                    </a:lnTo>
                    <a:lnTo>
                      <a:pt x="1037" y="262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16680" y="3591000"/>
                <a:ext cx="474480" cy="689040"/>
              </a:xfrm>
              <a:custGeom>
                <a:avLst/>
                <a:gdLst/>
                <a:ahLst/>
                <a:rect l="l" t="t" r="r" b="b"/>
                <a:pathLst>
                  <a:path w="1795" h="2603">
                    <a:moveTo>
                      <a:pt x="408" y="0"/>
                    </a:moveTo>
                    <a:lnTo>
                      <a:pt x="354" y="11"/>
                    </a:lnTo>
                    <a:lnTo>
                      <a:pt x="301" y="25"/>
                    </a:lnTo>
                    <a:lnTo>
                      <a:pt x="251" y="40"/>
                    </a:lnTo>
                    <a:lnTo>
                      <a:pt x="200" y="57"/>
                    </a:lnTo>
                    <a:lnTo>
                      <a:pt x="150" y="77"/>
                    </a:lnTo>
                    <a:lnTo>
                      <a:pt x="102" y="99"/>
                    </a:lnTo>
                    <a:lnTo>
                      <a:pt x="53" y="122"/>
                    </a:lnTo>
                    <a:lnTo>
                      <a:pt x="7" y="146"/>
                    </a:lnTo>
                    <a:lnTo>
                      <a:pt x="0" y="160"/>
                    </a:lnTo>
                    <a:lnTo>
                      <a:pt x="0" y="176"/>
                    </a:lnTo>
                    <a:lnTo>
                      <a:pt x="26" y="162"/>
                    </a:lnTo>
                    <a:lnTo>
                      <a:pt x="51" y="148"/>
                    </a:lnTo>
                    <a:lnTo>
                      <a:pt x="78" y="135"/>
                    </a:lnTo>
                    <a:lnTo>
                      <a:pt x="103" y="122"/>
                    </a:lnTo>
                    <a:lnTo>
                      <a:pt x="130" y="110"/>
                    </a:lnTo>
                    <a:lnTo>
                      <a:pt x="157" y="99"/>
                    </a:lnTo>
                    <a:lnTo>
                      <a:pt x="184" y="87"/>
                    </a:lnTo>
                    <a:lnTo>
                      <a:pt x="211" y="77"/>
                    </a:lnTo>
                    <a:lnTo>
                      <a:pt x="239" y="68"/>
                    </a:lnTo>
                    <a:lnTo>
                      <a:pt x="267" y="59"/>
                    </a:lnTo>
                    <a:lnTo>
                      <a:pt x="296" y="50"/>
                    </a:lnTo>
                    <a:lnTo>
                      <a:pt x="325" y="42"/>
                    </a:lnTo>
                    <a:lnTo>
                      <a:pt x="353" y="34"/>
                    </a:lnTo>
                    <a:lnTo>
                      <a:pt x="382" y="29"/>
                    </a:lnTo>
                    <a:lnTo>
                      <a:pt x="411" y="23"/>
                    </a:lnTo>
                    <a:lnTo>
                      <a:pt x="441" y="17"/>
                    </a:lnTo>
                    <a:lnTo>
                      <a:pt x="420" y="5"/>
                    </a:lnTo>
                    <a:lnTo>
                      <a:pt x="408" y="0"/>
                    </a:lnTo>
                    <a:close/>
                    <a:moveTo>
                      <a:pt x="1030" y="2603"/>
                    </a:moveTo>
                    <a:lnTo>
                      <a:pt x="1060" y="2595"/>
                    </a:lnTo>
                    <a:lnTo>
                      <a:pt x="1089" y="2585"/>
                    </a:lnTo>
                    <a:lnTo>
                      <a:pt x="1119" y="2575"/>
                    </a:lnTo>
                    <a:lnTo>
                      <a:pt x="1148" y="2563"/>
                    </a:lnTo>
                    <a:lnTo>
                      <a:pt x="1176" y="2552"/>
                    </a:lnTo>
                    <a:lnTo>
                      <a:pt x="1205" y="2540"/>
                    </a:lnTo>
                    <a:lnTo>
                      <a:pt x="1232" y="2528"/>
                    </a:lnTo>
                    <a:lnTo>
                      <a:pt x="1260" y="2514"/>
                    </a:lnTo>
                    <a:lnTo>
                      <a:pt x="1288" y="2500"/>
                    </a:lnTo>
                    <a:lnTo>
                      <a:pt x="1314" y="2485"/>
                    </a:lnTo>
                    <a:lnTo>
                      <a:pt x="1341" y="2470"/>
                    </a:lnTo>
                    <a:lnTo>
                      <a:pt x="1367" y="2455"/>
                    </a:lnTo>
                    <a:lnTo>
                      <a:pt x="1393" y="2438"/>
                    </a:lnTo>
                    <a:lnTo>
                      <a:pt x="1418" y="2422"/>
                    </a:lnTo>
                    <a:lnTo>
                      <a:pt x="1443" y="2404"/>
                    </a:lnTo>
                    <a:lnTo>
                      <a:pt x="1468" y="2386"/>
                    </a:lnTo>
                    <a:lnTo>
                      <a:pt x="1492" y="2367"/>
                    </a:lnTo>
                    <a:lnTo>
                      <a:pt x="1515" y="2348"/>
                    </a:lnTo>
                    <a:lnTo>
                      <a:pt x="1538" y="2328"/>
                    </a:lnTo>
                    <a:lnTo>
                      <a:pt x="1561" y="2309"/>
                    </a:lnTo>
                    <a:lnTo>
                      <a:pt x="1583" y="2288"/>
                    </a:lnTo>
                    <a:lnTo>
                      <a:pt x="1605" y="2267"/>
                    </a:lnTo>
                    <a:lnTo>
                      <a:pt x="1627" y="2245"/>
                    </a:lnTo>
                    <a:lnTo>
                      <a:pt x="1647" y="2223"/>
                    </a:lnTo>
                    <a:lnTo>
                      <a:pt x="1667" y="2200"/>
                    </a:lnTo>
                    <a:lnTo>
                      <a:pt x="1687" y="2178"/>
                    </a:lnTo>
                    <a:lnTo>
                      <a:pt x="1706" y="2154"/>
                    </a:lnTo>
                    <a:lnTo>
                      <a:pt x="1725" y="2131"/>
                    </a:lnTo>
                    <a:lnTo>
                      <a:pt x="1743" y="2107"/>
                    </a:lnTo>
                    <a:lnTo>
                      <a:pt x="1762" y="2082"/>
                    </a:lnTo>
                    <a:lnTo>
                      <a:pt x="1779" y="2056"/>
                    </a:lnTo>
                    <a:lnTo>
                      <a:pt x="1795" y="2031"/>
                    </a:lnTo>
                    <a:lnTo>
                      <a:pt x="1779" y="2015"/>
                    </a:lnTo>
                    <a:lnTo>
                      <a:pt x="1762" y="2040"/>
                    </a:lnTo>
                    <a:lnTo>
                      <a:pt x="1746" y="2065"/>
                    </a:lnTo>
                    <a:lnTo>
                      <a:pt x="1727" y="2090"/>
                    </a:lnTo>
                    <a:lnTo>
                      <a:pt x="1710" y="2114"/>
                    </a:lnTo>
                    <a:lnTo>
                      <a:pt x="1690" y="2138"/>
                    </a:lnTo>
                    <a:lnTo>
                      <a:pt x="1672" y="2161"/>
                    </a:lnTo>
                    <a:lnTo>
                      <a:pt x="1652" y="2184"/>
                    </a:lnTo>
                    <a:lnTo>
                      <a:pt x="1631" y="2206"/>
                    </a:lnTo>
                    <a:lnTo>
                      <a:pt x="1611" y="2228"/>
                    </a:lnTo>
                    <a:lnTo>
                      <a:pt x="1590" y="2250"/>
                    </a:lnTo>
                    <a:lnTo>
                      <a:pt x="1568" y="2271"/>
                    </a:lnTo>
                    <a:lnTo>
                      <a:pt x="1546" y="2291"/>
                    </a:lnTo>
                    <a:lnTo>
                      <a:pt x="1523" y="2311"/>
                    </a:lnTo>
                    <a:lnTo>
                      <a:pt x="1500" y="2331"/>
                    </a:lnTo>
                    <a:lnTo>
                      <a:pt x="1477" y="2350"/>
                    </a:lnTo>
                    <a:lnTo>
                      <a:pt x="1453" y="2369"/>
                    </a:lnTo>
                    <a:lnTo>
                      <a:pt x="1428" y="2386"/>
                    </a:lnTo>
                    <a:lnTo>
                      <a:pt x="1403" y="2403"/>
                    </a:lnTo>
                    <a:lnTo>
                      <a:pt x="1378" y="2420"/>
                    </a:lnTo>
                    <a:lnTo>
                      <a:pt x="1352" y="2437"/>
                    </a:lnTo>
                    <a:lnTo>
                      <a:pt x="1327" y="2453"/>
                    </a:lnTo>
                    <a:lnTo>
                      <a:pt x="1300" y="2468"/>
                    </a:lnTo>
                    <a:lnTo>
                      <a:pt x="1274" y="2482"/>
                    </a:lnTo>
                    <a:lnTo>
                      <a:pt x="1246" y="2495"/>
                    </a:lnTo>
                    <a:lnTo>
                      <a:pt x="1218" y="2509"/>
                    </a:lnTo>
                    <a:lnTo>
                      <a:pt x="1191" y="2522"/>
                    </a:lnTo>
                    <a:lnTo>
                      <a:pt x="1163" y="2533"/>
                    </a:lnTo>
                    <a:lnTo>
                      <a:pt x="1134" y="2545"/>
                    </a:lnTo>
                    <a:lnTo>
                      <a:pt x="1105" y="2555"/>
                    </a:lnTo>
                    <a:lnTo>
                      <a:pt x="1077" y="2566"/>
                    </a:lnTo>
                    <a:lnTo>
                      <a:pt x="1047" y="2575"/>
                    </a:lnTo>
                    <a:lnTo>
                      <a:pt x="1017" y="2583"/>
                    </a:lnTo>
                    <a:lnTo>
                      <a:pt x="1030" y="2603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016680" y="3592440"/>
                <a:ext cx="473040" cy="684360"/>
              </a:xfrm>
              <a:custGeom>
                <a:avLst/>
                <a:gdLst/>
                <a:ahLst/>
                <a:rect l="l" t="t" r="r" b="b"/>
                <a:pathLst>
                  <a:path w="1787" h="2585">
                    <a:moveTo>
                      <a:pt x="424" y="0"/>
                    </a:moveTo>
                    <a:lnTo>
                      <a:pt x="396" y="6"/>
                    </a:lnTo>
                    <a:lnTo>
                      <a:pt x="367" y="11"/>
                    </a:lnTo>
                    <a:lnTo>
                      <a:pt x="340" y="18"/>
                    </a:lnTo>
                    <a:lnTo>
                      <a:pt x="312" y="25"/>
                    </a:lnTo>
                    <a:lnTo>
                      <a:pt x="284" y="33"/>
                    </a:lnTo>
                    <a:lnTo>
                      <a:pt x="258" y="41"/>
                    </a:lnTo>
                    <a:lnTo>
                      <a:pt x="230" y="51"/>
                    </a:lnTo>
                    <a:lnTo>
                      <a:pt x="203" y="60"/>
                    </a:lnTo>
                    <a:lnTo>
                      <a:pt x="177" y="70"/>
                    </a:lnTo>
                    <a:lnTo>
                      <a:pt x="151" y="80"/>
                    </a:lnTo>
                    <a:lnTo>
                      <a:pt x="125" y="92"/>
                    </a:lnTo>
                    <a:lnTo>
                      <a:pt x="100" y="104"/>
                    </a:lnTo>
                    <a:lnTo>
                      <a:pt x="74" y="115"/>
                    </a:lnTo>
                    <a:lnTo>
                      <a:pt x="50" y="128"/>
                    </a:lnTo>
                    <a:lnTo>
                      <a:pt x="25" y="142"/>
                    </a:lnTo>
                    <a:lnTo>
                      <a:pt x="0" y="155"/>
                    </a:lnTo>
                    <a:lnTo>
                      <a:pt x="0" y="181"/>
                    </a:lnTo>
                    <a:lnTo>
                      <a:pt x="27" y="167"/>
                    </a:lnTo>
                    <a:lnTo>
                      <a:pt x="53" y="152"/>
                    </a:lnTo>
                    <a:lnTo>
                      <a:pt x="80" y="138"/>
                    </a:lnTo>
                    <a:lnTo>
                      <a:pt x="107" y="125"/>
                    </a:lnTo>
                    <a:lnTo>
                      <a:pt x="134" y="113"/>
                    </a:lnTo>
                    <a:lnTo>
                      <a:pt x="162" y="101"/>
                    </a:lnTo>
                    <a:lnTo>
                      <a:pt x="191" y="90"/>
                    </a:lnTo>
                    <a:lnTo>
                      <a:pt x="220" y="78"/>
                    </a:lnTo>
                    <a:lnTo>
                      <a:pt x="247" y="69"/>
                    </a:lnTo>
                    <a:lnTo>
                      <a:pt x="277" y="60"/>
                    </a:lnTo>
                    <a:lnTo>
                      <a:pt x="306" y="51"/>
                    </a:lnTo>
                    <a:lnTo>
                      <a:pt x="336" y="42"/>
                    </a:lnTo>
                    <a:lnTo>
                      <a:pt x="366" y="36"/>
                    </a:lnTo>
                    <a:lnTo>
                      <a:pt x="396" y="29"/>
                    </a:lnTo>
                    <a:lnTo>
                      <a:pt x="426" y="23"/>
                    </a:lnTo>
                    <a:lnTo>
                      <a:pt x="457" y="17"/>
                    </a:lnTo>
                    <a:lnTo>
                      <a:pt x="424" y="0"/>
                    </a:lnTo>
                    <a:close/>
                    <a:moveTo>
                      <a:pt x="1023" y="2585"/>
                    </a:moveTo>
                    <a:lnTo>
                      <a:pt x="1053" y="2576"/>
                    </a:lnTo>
                    <a:lnTo>
                      <a:pt x="1083" y="2567"/>
                    </a:lnTo>
                    <a:lnTo>
                      <a:pt x="1112" y="2557"/>
                    </a:lnTo>
                    <a:lnTo>
                      <a:pt x="1141" y="2546"/>
                    </a:lnTo>
                    <a:lnTo>
                      <a:pt x="1170" y="2535"/>
                    </a:lnTo>
                    <a:lnTo>
                      <a:pt x="1198" y="2523"/>
                    </a:lnTo>
                    <a:lnTo>
                      <a:pt x="1225" y="2510"/>
                    </a:lnTo>
                    <a:lnTo>
                      <a:pt x="1253" y="2497"/>
                    </a:lnTo>
                    <a:lnTo>
                      <a:pt x="1281" y="2483"/>
                    </a:lnTo>
                    <a:lnTo>
                      <a:pt x="1307" y="2469"/>
                    </a:lnTo>
                    <a:lnTo>
                      <a:pt x="1334" y="2454"/>
                    </a:lnTo>
                    <a:lnTo>
                      <a:pt x="1360" y="2438"/>
                    </a:lnTo>
                    <a:lnTo>
                      <a:pt x="1386" y="2422"/>
                    </a:lnTo>
                    <a:lnTo>
                      <a:pt x="1411" y="2404"/>
                    </a:lnTo>
                    <a:lnTo>
                      <a:pt x="1435" y="2387"/>
                    </a:lnTo>
                    <a:lnTo>
                      <a:pt x="1461" y="2369"/>
                    </a:lnTo>
                    <a:lnTo>
                      <a:pt x="1484" y="2350"/>
                    </a:lnTo>
                    <a:lnTo>
                      <a:pt x="1508" y="2332"/>
                    </a:lnTo>
                    <a:lnTo>
                      <a:pt x="1531" y="2312"/>
                    </a:lnTo>
                    <a:lnTo>
                      <a:pt x="1553" y="2293"/>
                    </a:lnTo>
                    <a:lnTo>
                      <a:pt x="1576" y="2272"/>
                    </a:lnTo>
                    <a:lnTo>
                      <a:pt x="1598" y="2251"/>
                    </a:lnTo>
                    <a:lnTo>
                      <a:pt x="1619" y="2229"/>
                    </a:lnTo>
                    <a:lnTo>
                      <a:pt x="1639" y="2207"/>
                    </a:lnTo>
                    <a:lnTo>
                      <a:pt x="1660" y="2184"/>
                    </a:lnTo>
                    <a:lnTo>
                      <a:pt x="1680" y="2161"/>
                    </a:lnTo>
                    <a:lnTo>
                      <a:pt x="1698" y="2138"/>
                    </a:lnTo>
                    <a:lnTo>
                      <a:pt x="1718" y="2114"/>
                    </a:lnTo>
                    <a:lnTo>
                      <a:pt x="1735" y="2090"/>
                    </a:lnTo>
                    <a:lnTo>
                      <a:pt x="1754" y="2066"/>
                    </a:lnTo>
                    <a:lnTo>
                      <a:pt x="1770" y="2040"/>
                    </a:lnTo>
                    <a:lnTo>
                      <a:pt x="1787" y="2015"/>
                    </a:lnTo>
                    <a:lnTo>
                      <a:pt x="1771" y="1999"/>
                    </a:lnTo>
                    <a:lnTo>
                      <a:pt x="1754" y="2024"/>
                    </a:lnTo>
                    <a:lnTo>
                      <a:pt x="1737" y="2049"/>
                    </a:lnTo>
                    <a:lnTo>
                      <a:pt x="1719" y="2074"/>
                    </a:lnTo>
                    <a:lnTo>
                      <a:pt x="1702" y="2098"/>
                    </a:lnTo>
                    <a:lnTo>
                      <a:pt x="1683" y="2122"/>
                    </a:lnTo>
                    <a:lnTo>
                      <a:pt x="1664" y="2145"/>
                    </a:lnTo>
                    <a:lnTo>
                      <a:pt x="1644" y="2168"/>
                    </a:lnTo>
                    <a:lnTo>
                      <a:pt x="1624" y="2190"/>
                    </a:lnTo>
                    <a:lnTo>
                      <a:pt x="1604" y="2212"/>
                    </a:lnTo>
                    <a:lnTo>
                      <a:pt x="1582" y="2234"/>
                    </a:lnTo>
                    <a:lnTo>
                      <a:pt x="1561" y="2255"/>
                    </a:lnTo>
                    <a:lnTo>
                      <a:pt x="1539" y="2275"/>
                    </a:lnTo>
                    <a:lnTo>
                      <a:pt x="1516" y="2295"/>
                    </a:lnTo>
                    <a:lnTo>
                      <a:pt x="1493" y="2315"/>
                    </a:lnTo>
                    <a:lnTo>
                      <a:pt x="1470" y="2333"/>
                    </a:lnTo>
                    <a:lnTo>
                      <a:pt x="1446" y="2351"/>
                    </a:lnTo>
                    <a:lnTo>
                      <a:pt x="1421" y="2370"/>
                    </a:lnTo>
                    <a:lnTo>
                      <a:pt x="1396" y="2387"/>
                    </a:lnTo>
                    <a:lnTo>
                      <a:pt x="1371" y="2403"/>
                    </a:lnTo>
                    <a:lnTo>
                      <a:pt x="1345" y="2419"/>
                    </a:lnTo>
                    <a:lnTo>
                      <a:pt x="1320" y="2436"/>
                    </a:lnTo>
                    <a:lnTo>
                      <a:pt x="1293" y="2451"/>
                    </a:lnTo>
                    <a:lnTo>
                      <a:pt x="1267" y="2464"/>
                    </a:lnTo>
                    <a:lnTo>
                      <a:pt x="1239" y="2478"/>
                    </a:lnTo>
                    <a:lnTo>
                      <a:pt x="1211" y="2492"/>
                    </a:lnTo>
                    <a:lnTo>
                      <a:pt x="1184" y="2504"/>
                    </a:lnTo>
                    <a:lnTo>
                      <a:pt x="1156" y="2516"/>
                    </a:lnTo>
                    <a:lnTo>
                      <a:pt x="1127" y="2528"/>
                    </a:lnTo>
                    <a:lnTo>
                      <a:pt x="1098" y="2538"/>
                    </a:lnTo>
                    <a:lnTo>
                      <a:pt x="1070" y="2547"/>
                    </a:lnTo>
                    <a:lnTo>
                      <a:pt x="1040" y="2557"/>
                    </a:lnTo>
                    <a:lnTo>
                      <a:pt x="1010" y="2566"/>
                    </a:lnTo>
                    <a:lnTo>
                      <a:pt x="1023" y="258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16680" y="3595680"/>
                <a:ext cx="471600" cy="677880"/>
              </a:xfrm>
              <a:custGeom>
                <a:avLst/>
                <a:gdLst/>
                <a:ahLst/>
                <a:rect l="l" t="t" r="r" b="b"/>
                <a:pathLst>
                  <a:path w="1779" h="2566">
                    <a:moveTo>
                      <a:pt x="441" y="0"/>
                    </a:moveTo>
                    <a:lnTo>
                      <a:pt x="411" y="6"/>
                    </a:lnTo>
                    <a:lnTo>
                      <a:pt x="382" y="12"/>
                    </a:lnTo>
                    <a:lnTo>
                      <a:pt x="353" y="17"/>
                    </a:lnTo>
                    <a:lnTo>
                      <a:pt x="325" y="25"/>
                    </a:lnTo>
                    <a:lnTo>
                      <a:pt x="296" y="33"/>
                    </a:lnTo>
                    <a:lnTo>
                      <a:pt x="267" y="42"/>
                    </a:lnTo>
                    <a:lnTo>
                      <a:pt x="239" y="51"/>
                    </a:lnTo>
                    <a:lnTo>
                      <a:pt x="211" y="60"/>
                    </a:lnTo>
                    <a:lnTo>
                      <a:pt x="184" y="70"/>
                    </a:lnTo>
                    <a:lnTo>
                      <a:pt x="157" y="82"/>
                    </a:lnTo>
                    <a:lnTo>
                      <a:pt x="130" y="93"/>
                    </a:lnTo>
                    <a:lnTo>
                      <a:pt x="103" y="105"/>
                    </a:lnTo>
                    <a:lnTo>
                      <a:pt x="78" y="118"/>
                    </a:lnTo>
                    <a:lnTo>
                      <a:pt x="51" y="131"/>
                    </a:lnTo>
                    <a:lnTo>
                      <a:pt x="26" y="145"/>
                    </a:lnTo>
                    <a:lnTo>
                      <a:pt x="0" y="159"/>
                    </a:lnTo>
                    <a:lnTo>
                      <a:pt x="0" y="186"/>
                    </a:lnTo>
                    <a:lnTo>
                      <a:pt x="27" y="171"/>
                    </a:lnTo>
                    <a:lnTo>
                      <a:pt x="55" y="156"/>
                    </a:lnTo>
                    <a:lnTo>
                      <a:pt x="82" y="141"/>
                    </a:lnTo>
                    <a:lnTo>
                      <a:pt x="111" y="127"/>
                    </a:lnTo>
                    <a:lnTo>
                      <a:pt x="139" y="114"/>
                    </a:lnTo>
                    <a:lnTo>
                      <a:pt x="168" y="101"/>
                    </a:lnTo>
                    <a:lnTo>
                      <a:pt x="198" y="90"/>
                    </a:lnTo>
                    <a:lnTo>
                      <a:pt x="226" y="80"/>
                    </a:lnTo>
                    <a:lnTo>
                      <a:pt x="256" y="69"/>
                    </a:lnTo>
                    <a:lnTo>
                      <a:pt x="286" y="59"/>
                    </a:lnTo>
                    <a:lnTo>
                      <a:pt x="318" y="51"/>
                    </a:lnTo>
                    <a:lnTo>
                      <a:pt x="349" y="43"/>
                    </a:lnTo>
                    <a:lnTo>
                      <a:pt x="379" y="35"/>
                    </a:lnTo>
                    <a:lnTo>
                      <a:pt x="411" y="29"/>
                    </a:lnTo>
                    <a:lnTo>
                      <a:pt x="442" y="23"/>
                    </a:lnTo>
                    <a:lnTo>
                      <a:pt x="474" y="17"/>
                    </a:lnTo>
                    <a:lnTo>
                      <a:pt x="441" y="0"/>
                    </a:lnTo>
                    <a:close/>
                    <a:moveTo>
                      <a:pt x="1017" y="2566"/>
                    </a:moveTo>
                    <a:lnTo>
                      <a:pt x="1047" y="2558"/>
                    </a:lnTo>
                    <a:lnTo>
                      <a:pt x="1077" y="2549"/>
                    </a:lnTo>
                    <a:lnTo>
                      <a:pt x="1105" y="2538"/>
                    </a:lnTo>
                    <a:lnTo>
                      <a:pt x="1134" y="2528"/>
                    </a:lnTo>
                    <a:lnTo>
                      <a:pt x="1163" y="2516"/>
                    </a:lnTo>
                    <a:lnTo>
                      <a:pt x="1191" y="2505"/>
                    </a:lnTo>
                    <a:lnTo>
                      <a:pt x="1218" y="2492"/>
                    </a:lnTo>
                    <a:lnTo>
                      <a:pt x="1246" y="2478"/>
                    </a:lnTo>
                    <a:lnTo>
                      <a:pt x="1274" y="2465"/>
                    </a:lnTo>
                    <a:lnTo>
                      <a:pt x="1300" y="2451"/>
                    </a:lnTo>
                    <a:lnTo>
                      <a:pt x="1327" y="2436"/>
                    </a:lnTo>
                    <a:lnTo>
                      <a:pt x="1352" y="2420"/>
                    </a:lnTo>
                    <a:lnTo>
                      <a:pt x="1379" y="2403"/>
                    </a:lnTo>
                    <a:lnTo>
                      <a:pt x="1403" y="2386"/>
                    </a:lnTo>
                    <a:lnTo>
                      <a:pt x="1428" y="2369"/>
                    </a:lnTo>
                    <a:lnTo>
                      <a:pt x="1453" y="2352"/>
                    </a:lnTo>
                    <a:lnTo>
                      <a:pt x="1477" y="2333"/>
                    </a:lnTo>
                    <a:lnTo>
                      <a:pt x="1500" y="2314"/>
                    </a:lnTo>
                    <a:lnTo>
                      <a:pt x="1523" y="2295"/>
                    </a:lnTo>
                    <a:lnTo>
                      <a:pt x="1546" y="2274"/>
                    </a:lnTo>
                    <a:lnTo>
                      <a:pt x="1568" y="2254"/>
                    </a:lnTo>
                    <a:lnTo>
                      <a:pt x="1590" y="2233"/>
                    </a:lnTo>
                    <a:lnTo>
                      <a:pt x="1611" y="2212"/>
                    </a:lnTo>
                    <a:lnTo>
                      <a:pt x="1631" y="2189"/>
                    </a:lnTo>
                    <a:lnTo>
                      <a:pt x="1652" y="2167"/>
                    </a:lnTo>
                    <a:lnTo>
                      <a:pt x="1672" y="2144"/>
                    </a:lnTo>
                    <a:lnTo>
                      <a:pt x="1691" y="2121"/>
                    </a:lnTo>
                    <a:lnTo>
                      <a:pt x="1710" y="2097"/>
                    </a:lnTo>
                    <a:lnTo>
                      <a:pt x="1727" y="2073"/>
                    </a:lnTo>
                    <a:lnTo>
                      <a:pt x="1746" y="2048"/>
                    </a:lnTo>
                    <a:lnTo>
                      <a:pt x="1762" y="2023"/>
                    </a:lnTo>
                    <a:lnTo>
                      <a:pt x="1779" y="1998"/>
                    </a:lnTo>
                    <a:lnTo>
                      <a:pt x="1762" y="1982"/>
                    </a:lnTo>
                    <a:lnTo>
                      <a:pt x="1746" y="2007"/>
                    </a:lnTo>
                    <a:lnTo>
                      <a:pt x="1729" y="2031"/>
                    </a:lnTo>
                    <a:lnTo>
                      <a:pt x="1712" y="2057"/>
                    </a:lnTo>
                    <a:lnTo>
                      <a:pt x="1694" y="2081"/>
                    </a:lnTo>
                    <a:lnTo>
                      <a:pt x="1675" y="2104"/>
                    </a:lnTo>
                    <a:lnTo>
                      <a:pt x="1656" y="2128"/>
                    </a:lnTo>
                    <a:lnTo>
                      <a:pt x="1636" y="2150"/>
                    </a:lnTo>
                    <a:lnTo>
                      <a:pt x="1616" y="2173"/>
                    </a:lnTo>
                    <a:lnTo>
                      <a:pt x="1596" y="2195"/>
                    </a:lnTo>
                    <a:lnTo>
                      <a:pt x="1575" y="2216"/>
                    </a:lnTo>
                    <a:lnTo>
                      <a:pt x="1553" y="2238"/>
                    </a:lnTo>
                    <a:lnTo>
                      <a:pt x="1531" y="2257"/>
                    </a:lnTo>
                    <a:lnTo>
                      <a:pt x="1509" y="2278"/>
                    </a:lnTo>
                    <a:lnTo>
                      <a:pt x="1486" y="2296"/>
                    </a:lnTo>
                    <a:lnTo>
                      <a:pt x="1462" y="2316"/>
                    </a:lnTo>
                    <a:lnTo>
                      <a:pt x="1439" y="2334"/>
                    </a:lnTo>
                    <a:lnTo>
                      <a:pt x="1414" y="2352"/>
                    </a:lnTo>
                    <a:lnTo>
                      <a:pt x="1389" y="2369"/>
                    </a:lnTo>
                    <a:lnTo>
                      <a:pt x="1364" y="2386"/>
                    </a:lnTo>
                    <a:lnTo>
                      <a:pt x="1338" y="2401"/>
                    </a:lnTo>
                    <a:lnTo>
                      <a:pt x="1313" y="2417"/>
                    </a:lnTo>
                    <a:lnTo>
                      <a:pt x="1286" y="2432"/>
                    </a:lnTo>
                    <a:lnTo>
                      <a:pt x="1260" y="2446"/>
                    </a:lnTo>
                    <a:lnTo>
                      <a:pt x="1232" y="2460"/>
                    </a:lnTo>
                    <a:lnTo>
                      <a:pt x="1205" y="2474"/>
                    </a:lnTo>
                    <a:lnTo>
                      <a:pt x="1177" y="2485"/>
                    </a:lnTo>
                    <a:lnTo>
                      <a:pt x="1149" y="2498"/>
                    </a:lnTo>
                    <a:lnTo>
                      <a:pt x="1120" y="2508"/>
                    </a:lnTo>
                    <a:lnTo>
                      <a:pt x="1092" y="2519"/>
                    </a:lnTo>
                    <a:lnTo>
                      <a:pt x="1063" y="2529"/>
                    </a:lnTo>
                    <a:lnTo>
                      <a:pt x="1033" y="2538"/>
                    </a:lnTo>
                    <a:lnTo>
                      <a:pt x="1004" y="2546"/>
                    </a:lnTo>
                    <a:lnTo>
                      <a:pt x="1017" y="2566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16680" y="3597120"/>
                <a:ext cx="468360" cy="675000"/>
              </a:xfrm>
              <a:custGeom>
                <a:avLst/>
                <a:gdLst/>
                <a:ahLst/>
                <a:rect l="l" t="t" r="r" b="b"/>
                <a:pathLst>
                  <a:path w="1771" h="2549">
                    <a:moveTo>
                      <a:pt x="457" y="0"/>
                    </a:moveTo>
                    <a:lnTo>
                      <a:pt x="427" y="6"/>
                    </a:lnTo>
                    <a:lnTo>
                      <a:pt x="396" y="12"/>
                    </a:lnTo>
                    <a:lnTo>
                      <a:pt x="366" y="19"/>
                    </a:lnTo>
                    <a:lnTo>
                      <a:pt x="336" y="25"/>
                    </a:lnTo>
                    <a:lnTo>
                      <a:pt x="306" y="34"/>
                    </a:lnTo>
                    <a:lnTo>
                      <a:pt x="277" y="43"/>
                    </a:lnTo>
                    <a:lnTo>
                      <a:pt x="247" y="52"/>
                    </a:lnTo>
                    <a:lnTo>
                      <a:pt x="220" y="61"/>
                    </a:lnTo>
                    <a:lnTo>
                      <a:pt x="191" y="73"/>
                    </a:lnTo>
                    <a:lnTo>
                      <a:pt x="162" y="84"/>
                    </a:lnTo>
                    <a:lnTo>
                      <a:pt x="134" y="96"/>
                    </a:lnTo>
                    <a:lnTo>
                      <a:pt x="107" y="108"/>
                    </a:lnTo>
                    <a:lnTo>
                      <a:pt x="80" y="121"/>
                    </a:lnTo>
                    <a:lnTo>
                      <a:pt x="53" y="135"/>
                    </a:lnTo>
                    <a:lnTo>
                      <a:pt x="27" y="150"/>
                    </a:lnTo>
                    <a:lnTo>
                      <a:pt x="0" y="165"/>
                    </a:lnTo>
                    <a:lnTo>
                      <a:pt x="0" y="190"/>
                    </a:lnTo>
                    <a:lnTo>
                      <a:pt x="28" y="174"/>
                    </a:lnTo>
                    <a:lnTo>
                      <a:pt x="57" y="159"/>
                    </a:lnTo>
                    <a:lnTo>
                      <a:pt x="86" y="144"/>
                    </a:lnTo>
                    <a:lnTo>
                      <a:pt x="115" y="129"/>
                    </a:lnTo>
                    <a:lnTo>
                      <a:pt x="143" y="117"/>
                    </a:lnTo>
                    <a:lnTo>
                      <a:pt x="173" y="104"/>
                    </a:lnTo>
                    <a:lnTo>
                      <a:pt x="203" y="91"/>
                    </a:lnTo>
                    <a:lnTo>
                      <a:pt x="235" y="81"/>
                    </a:lnTo>
                    <a:lnTo>
                      <a:pt x="266" y="70"/>
                    </a:lnTo>
                    <a:lnTo>
                      <a:pt x="297" y="60"/>
                    </a:lnTo>
                    <a:lnTo>
                      <a:pt x="329" y="51"/>
                    </a:lnTo>
                    <a:lnTo>
                      <a:pt x="360" y="43"/>
                    </a:lnTo>
                    <a:lnTo>
                      <a:pt x="393" y="36"/>
                    </a:lnTo>
                    <a:lnTo>
                      <a:pt x="426" y="29"/>
                    </a:lnTo>
                    <a:lnTo>
                      <a:pt x="458" y="23"/>
                    </a:lnTo>
                    <a:lnTo>
                      <a:pt x="492" y="19"/>
                    </a:lnTo>
                    <a:lnTo>
                      <a:pt x="457" y="0"/>
                    </a:lnTo>
                    <a:close/>
                    <a:moveTo>
                      <a:pt x="1010" y="2549"/>
                    </a:moveTo>
                    <a:lnTo>
                      <a:pt x="1040" y="2540"/>
                    </a:lnTo>
                    <a:lnTo>
                      <a:pt x="1070" y="2530"/>
                    </a:lnTo>
                    <a:lnTo>
                      <a:pt x="1098" y="2521"/>
                    </a:lnTo>
                    <a:lnTo>
                      <a:pt x="1127" y="2510"/>
                    </a:lnTo>
                    <a:lnTo>
                      <a:pt x="1156" y="2499"/>
                    </a:lnTo>
                    <a:lnTo>
                      <a:pt x="1184" y="2487"/>
                    </a:lnTo>
                    <a:lnTo>
                      <a:pt x="1211" y="2475"/>
                    </a:lnTo>
                    <a:lnTo>
                      <a:pt x="1239" y="2461"/>
                    </a:lnTo>
                    <a:lnTo>
                      <a:pt x="1267" y="2447"/>
                    </a:lnTo>
                    <a:lnTo>
                      <a:pt x="1293" y="2434"/>
                    </a:lnTo>
                    <a:lnTo>
                      <a:pt x="1320" y="2419"/>
                    </a:lnTo>
                    <a:lnTo>
                      <a:pt x="1345" y="2402"/>
                    </a:lnTo>
                    <a:lnTo>
                      <a:pt x="1371" y="2386"/>
                    </a:lnTo>
                    <a:lnTo>
                      <a:pt x="1396" y="2370"/>
                    </a:lnTo>
                    <a:lnTo>
                      <a:pt x="1421" y="2353"/>
                    </a:lnTo>
                    <a:lnTo>
                      <a:pt x="1446" y="2334"/>
                    </a:lnTo>
                    <a:lnTo>
                      <a:pt x="1470" y="2316"/>
                    </a:lnTo>
                    <a:lnTo>
                      <a:pt x="1493" y="2298"/>
                    </a:lnTo>
                    <a:lnTo>
                      <a:pt x="1516" y="2278"/>
                    </a:lnTo>
                    <a:lnTo>
                      <a:pt x="1539" y="2258"/>
                    </a:lnTo>
                    <a:lnTo>
                      <a:pt x="1561" y="2238"/>
                    </a:lnTo>
                    <a:lnTo>
                      <a:pt x="1582" y="2217"/>
                    </a:lnTo>
                    <a:lnTo>
                      <a:pt x="1604" y="2195"/>
                    </a:lnTo>
                    <a:lnTo>
                      <a:pt x="1624" y="2173"/>
                    </a:lnTo>
                    <a:lnTo>
                      <a:pt x="1644" y="2151"/>
                    </a:lnTo>
                    <a:lnTo>
                      <a:pt x="1664" y="2128"/>
                    </a:lnTo>
                    <a:lnTo>
                      <a:pt x="1683" y="2105"/>
                    </a:lnTo>
                    <a:lnTo>
                      <a:pt x="1702" y="2081"/>
                    </a:lnTo>
                    <a:lnTo>
                      <a:pt x="1719" y="2057"/>
                    </a:lnTo>
                    <a:lnTo>
                      <a:pt x="1737" y="2032"/>
                    </a:lnTo>
                    <a:lnTo>
                      <a:pt x="1754" y="2007"/>
                    </a:lnTo>
                    <a:lnTo>
                      <a:pt x="1771" y="1982"/>
                    </a:lnTo>
                    <a:lnTo>
                      <a:pt x="1754" y="1964"/>
                    </a:lnTo>
                    <a:lnTo>
                      <a:pt x="1737" y="1991"/>
                    </a:lnTo>
                    <a:lnTo>
                      <a:pt x="1721" y="2015"/>
                    </a:lnTo>
                    <a:lnTo>
                      <a:pt x="1704" y="2040"/>
                    </a:lnTo>
                    <a:lnTo>
                      <a:pt x="1686" y="2064"/>
                    </a:lnTo>
                    <a:lnTo>
                      <a:pt x="1667" y="2088"/>
                    </a:lnTo>
                    <a:lnTo>
                      <a:pt x="1649" y="2111"/>
                    </a:lnTo>
                    <a:lnTo>
                      <a:pt x="1629" y="2134"/>
                    </a:lnTo>
                    <a:lnTo>
                      <a:pt x="1608" y="2156"/>
                    </a:lnTo>
                    <a:lnTo>
                      <a:pt x="1589" y="2178"/>
                    </a:lnTo>
                    <a:lnTo>
                      <a:pt x="1567" y="2200"/>
                    </a:lnTo>
                    <a:lnTo>
                      <a:pt x="1546" y="2220"/>
                    </a:lnTo>
                    <a:lnTo>
                      <a:pt x="1524" y="2241"/>
                    </a:lnTo>
                    <a:lnTo>
                      <a:pt x="1501" y="2261"/>
                    </a:lnTo>
                    <a:lnTo>
                      <a:pt x="1478" y="2280"/>
                    </a:lnTo>
                    <a:lnTo>
                      <a:pt x="1455" y="2299"/>
                    </a:lnTo>
                    <a:lnTo>
                      <a:pt x="1431" y="2317"/>
                    </a:lnTo>
                    <a:lnTo>
                      <a:pt x="1406" y="2334"/>
                    </a:lnTo>
                    <a:lnTo>
                      <a:pt x="1382" y="2352"/>
                    </a:lnTo>
                    <a:lnTo>
                      <a:pt x="1357" y="2369"/>
                    </a:lnTo>
                    <a:lnTo>
                      <a:pt x="1331" y="2385"/>
                    </a:lnTo>
                    <a:lnTo>
                      <a:pt x="1305" y="2400"/>
                    </a:lnTo>
                    <a:lnTo>
                      <a:pt x="1280" y="2415"/>
                    </a:lnTo>
                    <a:lnTo>
                      <a:pt x="1252" y="2429"/>
                    </a:lnTo>
                    <a:lnTo>
                      <a:pt x="1225" y="2443"/>
                    </a:lnTo>
                    <a:lnTo>
                      <a:pt x="1198" y="2455"/>
                    </a:lnTo>
                    <a:lnTo>
                      <a:pt x="1170" y="2468"/>
                    </a:lnTo>
                    <a:lnTo>
                      <a:pt x="1142" y="2480"/>
                    </a:lnTo>
                    <a:lnTo>
                      <a:pt x="1113" y="2491"/>
                    </a:lnTo>
                    <a:lnTo>
                      <a:pt x="1085" y="2502"/>
                    </a:lnTo>
                    <a:lnTo>
                      <a:pt x="1056" y="2511"/>
                    </a:lnTo>
                    <a:lnTo>
                      <a:pt x="1026" y="2520"/>
                    </a:lnTo>
                    <a:lnTo>
                      <a:pt x="997" y="2528"/>
                    </a:lnTo>
                    <a:lnTo>
                      <a:pt x="1010" y="2549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16680" y="3600360"/>
                <a:ext cx="466560" cy="668520"/>
              </a:xfrm>
              <a:custGeom>
                <a:avLst/>
                <a:gdLst/>
                <a:ahLst/>
                <a:rect l="l" t="t" r="r" b="b"/>
                <a:pathLst>
                  <a:path w="1762" h="2529">
                    <a:moveTo>
                      <a:pt x="474" y="0"/>
                    </a:moveTo>
                    <a:lnTo>
                      <a:pt x="442" y="6"/>
                    </a:lnTo>
                    <a:lnTo>
                      <a:pt x="411" y="12"/>
                    </a:lnTo>
                    <a:lnTo>
                      <a:pt x="379" y="18"/>
                    </a:lnTo>
                    <a:lnTo>
                      <a:pt x="349" y="26"/>
                    </a:lnTo>
                    <a:lnTo>
                      <a:pt x="318" y="34"/>
                    </a:lnTo>
                    <a:lnTo>
                      <a:pt x="286" y="42"/>
                    </a:lnTo>
                    <a:lnTo>
                      <a:pt x="256" y="52"/>
                    </a:lnTo>
                    <a:lnTo>
                      <a:pt x="226" y="63"/>
                    </a:lnTo>
                    <a:lnTo>
                      <a:pt x="198" y="73"/>
                    </a:lnTo>
                    <a:lnTo>
                      <a:pt x="168" y="84"/>
                    </a:lnTo>
                    <a:lnTo>
                      <a:pt x="139" y="97"/>
                    </a:lnTo>
                    <a:lnTo>
                      <a:pt x="111" y="110"/>
                    </a:lnTo>
                    <a:lnTo>
                      <a:pt x="82" y="124"/>
                    </a:lnTo>
                    <a:lnTo>
                      <a:pt x="55" y="139"/>
                    </a:lnTo>
                    <a:lnTo>
                      <a:pt x="27" y="154"/>
                    </a:lnTo>
                    <a:lnTo>
                      <a:pt x="0" y="169"/>
                    </a:lnTo>
                    <a:lnTo>
                      <a:pt x="0" y="195"/>
                    </a:lnTo>
                    <a:lnTo>
                      <a:pt x="29" y="178"/>
                    </a:lnTo>
                    <a:lnTo>
                      <a:pt x="58" y="162"/>
                    </a:lnTo>
                    <a:lnTo>
                      <a:pt x="87" y="147"/>
                    </a:lnTo>
                    <a:lnTo>
                      <a:pt x="117" y="132"/>
                    </a:lnTo>
                    <a:lnTo>
                      <a:pt x="147" y="118"/>
                    </a:lnTo>
                    <a:lnTo>
                      <a:pt x="178" y="105"/>
                    </a:lnTo>
                    <a:lnTo>
                      <a:pt x="209" y="93"/>
                    </a:lnTo>
                    <a:lnTo>
                      <a:pt x="240" y="81"/>
                    </a:lnTo>
                    <a:lnTo>
                      <a:pt x="271" y="71"/>
                    </a:lnTo>
                    <a:lnTo>
                      <a:pt x="304" y="61"/>
                    </a:lnTo>
                    <a:lnTo>
                      <a:pt x="336" y="52"/>
                    </a:lnTo>
                    <a:lnTo>
                      <a:pt x="369" y="44"/>
                    </a:lnTo>
                    <a:lnTo>
                      <a:pt x="403" y="36"/>
                    </a:lnTo>
                    <a:lnTo>
                      <a:pt x="436" y="30"/>
                    </a:lnTo>
                    <a:lnTo>
                      <a:pt x="470" y="25"/>
                    </a:lnTo>
                    <a:lnTo>
                      <a:pt x="504" y="19"/>
                    </a:lnTo>
                    <a:lnTo>
                      <a:pt x="498" y="12"/>
                    </a:lnTo>
                    <a:lnTo>
                      <a:pt x="474" y="0"/>
                    </a:lnTo>
                    <a:close/>
                    <a:moveTo>
                      <a:pt x="1004" y="2529"/>
                    </a:moveTo>
                    <a:lnTo>
                      <a:pt x="1033" y="2521"/>
                    </a:lnTo>
                    <a:lnTo>
                      <a:pt x="1063" y="2512"/>
                    </a:lnTo>
                    <a:lnTo>
                      <a:pt x="1092" y="2502"/>
                    </a:lnTo>
                    <a:lnTo>
                      <a:pt x="1120" y="2491"/>
                    </a:lnTo>
                    <a:lnTo>
                      <a:pt x="1149" y="2481"/>
                    </a:lnTo>
                    <a:lnTo>
                      <a:pt x="1177" y="2468"/>
                    </a:lnTo>
                    <a:lnTo>
                      <a:pt x="1205" y="2457"/>
                    </a:lnTo>
                    <a:lnTo>
                      <a:pt x="1232" y="2443"/>
                    </a:lnTo>
                    <a:lnTo>
                      <a:pt x="1260" y="2429"/>
                    </a:lnTo>
                    <a:lnTo>
                      <a:pt x="1286" y="2415"/>
                    </a:lnTo>
                    <a:lnTo>
                      <a:pt x="1313" y="2400"/>
                    </a:lnTo>
                    <a:lnTo>
                      <a:pt x="1338" y="2384"/>
                    </a:lnTo>
                    <a:lnTo>
                      <a:pt x="1364" y="2369"/>
                    </a:lnTo>
                    <a:lnTo>
                      <a:pt x="1389" y="2352"/>
                    </a:lnTo>
                    <a:lnTo>
                      <a:pt x="1414" y="2335"/>
                    </a:lnTo>
                    <a:lnTo>
                      <a:pt x="1439" y="2317"/>
                    </a:lnTo>
                    <a:lnTo>
                      <a:pt x="1462" y="2299"/>
                    </a:lnTo>
                    <a:lnTo>
                      <a:pt x="1486" y="2279"/>
                    </a:lnTo>
                    <a:lnTo>
                      <a:pt x="1509" y="2261"/>
                    </a:lnTo>
                    <a:lnTo>
                      <a:pt x="1531" y="2240"/>
                    </a:lnTo>
                    <a:lnTo>
                      <a:pt x="1553" y="2221"/>
                    </a:lnTo>
                    <a:lnTo>
                      <a:pt x="1575" y="2199"/>
                    </a:lnTo>
                    <a:lnTo>
                      <a:pt x="1596" y="2178"/>
                    </a:lnTo>
                    <a:lnTo>
                      <a:pt x="1616" y="2156"/>
                    </a:lnTo>
                    <a:lnTo>
                      <a:pt x="1636" y="2133"/>
                    </a:lnTo>
                    <a:lnTo>
                      <a:pt x="1656" y="2111"/>
                    </a:lnTo>
                    <a:lnTo>
                      <a:pt x="1675" y="2087"/>
                    </a:lnTo>
                    <a:lnTo>
                      <a:pt x="1694" y="2064"/>
                    </a:lnTo>
                    <a:lnTo>
                      <a:pt x="1712" y="2040"/>
                    </a:lnTo>
                    <a:lnTo>
                      <a:pt x="1729" y="2014"/>
                    </a:lnTo>
                    <a:lnTo>
                      <a:pt x="1746" y="1990"/>
                    </a:lnTo>
                    <a:lnTo>
                      <a:pt x="1762" y="1965"/>
                    </a:lnTo>
                    <a:lnTo>
                      <a:pt x="1746" y="1947"/>
                    </a:lnTo>
                    <a:lnTo>
                      <a:pt x="1729" y="1973"/>
                    </a:lnTo>
                    <a:lnTo>
                      <a:pt x="1713" y="1998"/>
                    </a:lnTo>
                    <a:lnTo>
                      <a:pt x="1696" y="2022"/>
                    </a:lnTo>
                    <a:lnTo>
                      <a:pt x="1677" y="2046"/>
                    </a:lnTo>
                    <a:lnTo>
                      <a:pt x="1659" y="2071"/>
                    </a:lnTo>
                    <a:lnTo>
                      <a:pt x="1641" y="2094"/>
                    </a:lnTo>
                    <a:lnTo>
                      <a:pt x="1621" y="2117"/>
                    </a:lnTo>
                    <a:lnTo>
                      <a:pt x="1601" y="2139"/>
                    </a:lnTo>
                    <a:lnTo>
                      <a:pt x="1581" y="2161"/>
                    </a:lnTo>
                    <a:lnTo>
                      <a:pt x="1560" y="2182"/>
                    </a:lnTo>
                    <a:lnTo>
                      <a:pt x="1538" y="2203"/>
                    </a:lnTo>
                    <a:lnTo>
                      <a:pt x="1516" y="2223"/>
                    </a:lnTo>
                    <a:lnTo>
                      <a:pt x="1494" y="2244"/>
                    </a:lnTo>
                    <a:lnTo>
                      <a:pt x="1471" y="2262"/>
                    </a:lnTo>
                    <a:lnTo>
                      <a:pt x="1448" y="2282"/>
                    </a:lnTo>
                    <a:lnTo>
                      <a:pt x="1424" y="2299"/>
                    </a:lnTo>
                    <a:lnTo>
                      <a:pt x="1399" y="2317"/>
                    </a:lnTo>
                    <a:lnTo>
                      <a:pt x="1375" y="2335"/>
                    </a:lnTo>
                    <a:lnTo>
                      <a:pt x="1350" y="2351"/>
                    </a:lnTo>
                    <a:lnTo>
                      <a:pt x="1325" y="2367"/>
                    </a:lnTo>
                    <a:lnTo>
                      <a:pt x="1298" y="2382"/>
                    </a:lnTo>
                    <a:lnTo>
                      <a:pt x="1273" y="2397"/>
                    </a:lnTo>
                    <a:lnTo>
                      <a:pt x="1245" y="2411"/>
                    </a:lnTo>
                    <a:lnTo>
                      <a:pt x="1218" y="2425"/>
                    </a:lnTo>
                    <a:lnTo>
                      <a:pt x="1191" y="2437"/>
                    </a:lnTo>
                    <a:lnTo>
                      <a:pt x="1163" y="2450"/>
                    </a:lnTo>
                    <a:lnTo>
                      <a:pt x="1135" y="2461"/>
                    </a:lnTo>
                    <a:lnTo>
                      <a:pt x="1107" y="2473"/>
                    </a:lnTo>
                    <a:lnTo>
                      <a:pt x="1078" y="2483"/>
                    </a:lnTo>
                    <a:lnTo>
                      <a:pt x="1049" y="2493"/>
                    </a:lnTo>
                    <a:lnTo>
                      <a:pt x="1020" y="2502"/>
                    </a:lnTo>
                    <a:lnTo>
                      <a:pt x="990" y="2510"/>
                    </a:lnTo>
                    <a:lnTo>
                      <a:pt x="1004" y="2529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16680" y="3602160"/>
                <a:ext cx="463320" cy="663480"/>
              </a:xfrm>
              <a:custGeom>
                <a:avLst/>
                <a:gdLst/>
                <a:ahLst/>
                <a:rect l="l" t="t" r="r" b="b"/>
                <a:pathLst>
                  <a:path w="1754" h="2509">
                    <a:moveTo>
                      <a:pt x="492" y="0"/>
                    </a:moveTo>
                    <a:lnTo>
                      <a:pt x="458" y="4"/>
                    </a:lnTo>
                    <a:lnTo>
                      <a:pt x="426" y="10"/>
                    </a:lnTo>
                    <a:lnTo>
                      <a:pt x="393" y="17"/>
                    </a:lnTo>
                    <a:lnTo>
                      <a:pt x="360" y="24"/>
                    </a:lnTo>
                    <a:lnTo>
                      <a:pt x="329" y="32"/>
                    </a:lnTo>
                    <a:lnTo>
                      <a:pt x="297" y="41"/>
                    </a:lnTo>
                    <a:lnTo>
                      <a:pt x="266" y="51"/>
                    </a:lnTo>
                    <a:lnTo>
                      <a:pt x="235" y="62"/>
                    </a:lnTo>
                    <a:lnTo>
                      <a:pt x="203" y="72"/>
                    </a:lnTo>
                    <a:lnTo>
                      <a:pt x="173" y="85"/>
                    </a:lnTo>
                    <a:lnTo>
                      <a:pt x="143" y="98"/>
                    </a:lnTo>
                    <a:lnTo>
                      <a:pt x="115" y="110"/>
                    </a:lnTo>
                    <a:lnTo>
                      <a:pt x="86" y="125"/>
                    </a:lnTo>
                    <a:lnTo>
                      <a:pt x="57" y="140"/>
                    </a:lnTo>
                    <a:lnTo>
                      <a:pt x="28" y="155"/>
                    </a:lnTo>
                    <a:lnTo>
                      <a:pt x="0" y="171"/>
                    </a:lnTo>
                    <a:lnTo>
                      <a:pt x="0" y="193"/>
                    </a:lnTo>
                    <a:lnTo>
                      <a:pt x="0" y="199"/>
                    </a:lnTo>
                    <a:lnTo>
                      <a:pt x="29" y="182"/>
                    </a:lnTo>
                    <a:lnTo>
                      <a:pt x="59" y="164"/>
                    </a:lnTo>
                    <a:lnTo>
                      <a:pt x="88" y="149"/>
                    </a:lnTo>
                    <a:lnTo>
                      <a:pt x="119" y="133"/>
                    </a:lnTo>
                    <a:lnTo>
                      <a:pt x="149" y="119"/>
                    </a:lnTo>
                    <a:lnTo>
                      <a:pt x="181" y="107"/>
                    </a:lnTo>
                    <a:lnTo>
                      <a:pt x="213" y="94"/>
                    </a:lnTo>
                    <a:lnTo>
                      <a:pt x="245" y="81"/>
                    </a:lnTo>
                    <a:lnTo>
                      <a:pt x="277" y="71"/>
                    </a:lnTo>
                    <a:lnTo>
                      <a:pt x="310" y="61"/>
                    </a:lnTo>
                    <a:lnTo>
                      <a:pt x="343" y="51"/>
                    </a:lnTo>
                    <a:lnTo>
                      <a:pt x="376" y="43"/>
                    </a:lnTo>
                    <a:lnTo>
                      <a:pt x="411" y="36"/>
                    </a:lnTo>
                    <a:lnTo>
                      <a:pt x="444" y="29"/>
                    </a:lnTo>
                    <a:lnTo>
                      <a:pt x="479" y="24"/>
                    </a:lnTo>
                    <a:lnTo>
                      <a:pt x="515" y="19"/>
                    </a:lnTo>
                    <a:lnTo>
                      <a:pt x="498" y="2"/>
                    </a:lnTo>
                    <a:lnTo>
                      <a:pt x="492" y="0"/>
                    </a:lnTo>
                    <a:close/>
                    <a:moveTo>
                      <a:pt x="997" y="2509"/>
                    </a:moveTo>
                    <a:lnTo>
                      <a:pt x="1026" y="2501"/>
                    </a:lnTo>
                    <a:lnTo>
                      <a:pt x="1056" y="2492"/>
                    </a:lnTo>
                    <a:lnTo>
                      <a:pt x="1085" y="2483"/>
                    </a:lnTo>
                    <a:lnTo>
                      <a:pt x="1113" y="2472"/>
                    </a:lnTo>
                    <a:lnTo>
                      <a:pt x="1142" y="2461"/>
                    </a:lnTo>
                    <a:lnTo>
                      <a:pt x="1170" y="2449"/>
                    </a:lnTo>
                    <a:lnTo>
                      <a:pt x="1198" y="2436"/>
                    </a:lnTo>
                    <a:lnTo>
                      <a:pt x="1225" y="2424"/>
                    </a:lnTo>
                    <a:lnTo>
                      <a:pt x="1252" y="2410"/>
                    </a:lnTo>
                    <a:lnTo>
                      <a:pt x="1280" y="2396"/>
                    </a:lnTo>
                    <a:lnTo>
                      <a:pt x="1305" y="2381"/>
                    </a:lnTo>
                    <a:lnTo>
                      <a:pt x="1331" y="2366"/>
                    </a:lnTo>
                    <a:lnTo>
                      <a:pt x="1357" y="2350"/>
                    </a:lnTo>
                    <a:lnTo>
                      <a:pt x="1382" y="2333"/>
                    </a:lnTo>
                    <a:lnTo>
                      <a:pt x="1406" y="2315"/>
                    </a:lnTo>
                    <a:lnTo>
                      <a:pt x="1431" y="2298"/>
                    </a:lnTo>
                    <a:lnTo>
                      <a:pt x="1455" y="2280"/>
                    </a:lnTo>
                    <a:lnTo>
                      <a:pt x="1478" y="2261"/>
                    </a:lnTo>
                    <a:lnTo>
                      <a:pt x="1501" y="2242"/>
                    </a:lnTo>
                    <a:lnTo>
                      <a:pt x="1524" y="2222"/>
                    </a:lnTo>
                    <a:lnTo>
                      <a:pt x="1546" y="2201"/>
                    </a:lnTo>
                    <a:lnTo>
                      <a:pt x="1567" y="2181"/>
                    </a:lnTo>
                    <a:lnTo>
                      <a:pt x="1589" y="2159"/>
                    </a:lnTo>
                    <a:lnTo>
                      <a:pt x="1608" y="2137"/>
                    </a:lnTo>
                    <a:lnTo>
                      <a:pt x="1629" y="2115"/>
                    </a:lnTo>
                    <a:lnTo>
                      <a:pt x="1649" y="2092"/>
                    </a:lnTo>
                    <a:lnTo>
                      <a:pt x="1667" y="2069"/>
                    </a:lnTo>
                    <a:lnTo>
                      <a:pt x="1686" y="2045"/>
                    </a:lnTo>
                    <a:lnTo>
                      <a:pt x="1704" y="2021"/>
                    </a:lnTo>
                    <a:lnTo>
                      <a:pt x="1721" y="1996"/>
                    </a:lnTo>
                    <a:lnTo>
                      <a:pt x="1737" y="1972"/>
                    </a:lnTo>
                    <a:lnTo>
                      <a:pt x="1754" y="1945"/>
                    </a:lnTo>
                    <a:lnTo>
                      <a:pt x="1737" y="1929"/>
                    </a:lnTo>
                    <a:lnTo>
                      <a:pt x="1721" y="1955"/>
                    </a:lnTo>
                    <a:lnTo>
                      <a:pt x="1705" y="1980"/>
                    </a:lnTo>
                    <a:lnTo>
                      <a:pt x="1688" y="2004"/>
                    </a:lnTo>
                    <a:lnTo>
                      <a:pt x="1669" y="2028"/>
                    </a:lnTo>
                    <a:lnTo>
                      <a:pt x="1651" y="2053"/>
                    </a:lnTo>
                    <a:lnTo>
                      <a:pt x="1632" y="2076"/>
                    </a:lnTo>
                    <a:lnTo>
                      <a:pt x="1613" y="2099"/>
                    </a:lnTo>
                    <a:lnTo>
                      <a:pt x="1593" y="2121"/>
                    </a:lnTo>
                    <a:lnTo>
                      <a:pt x="1572" y="2142"/>
                    </a:lnTo>
                    <a:lnTo>
                      <a:pt x="1552" y="2163"/>
                    </a:lnTo>
                    <a:lnTo>
                      <a:pt x="1531" y="2184"/>
                    </a:lnTo>
                    <a:lnTo>
                      <a:pt x="1509" y="2205"/>
                    </a:lnTo>
                    <a:lnTo>
                      <a:pt x="1486" y="2224"/>
                    </a:lnTo>
                    <a:lnTo>
                      <a:pt x="1464" y="2244"/>
                    </a:lnTo>
                    <a:lnTo>
                      <a:pt x="1440" y="2262"/>
                    </a:lnTo>
                    <a:lnTo>
                      <a:pt x="1417" y="2281"/>
                    </a:lnTo>
                    <a:lnTo>
                      <a:pt x="1393" y="2298"/>
                    </a:lnTo>
                    <a:lnTo>
                      <a:pt x="1367" y="2315"/>
                    </a:lnTo>
                    <a:lnTo>
                      <a:pt x="1343" y="2332"/>
                    </a:lnTo>
                    <a:lnTo>
                      <a:pt x="1318" y="2348"/>
                    </a:lnTo>
                    <a:lnTo>
                      <a:pt x="1291" y="2363"/>
                    </a:lnTo>
                    <a:lnTo>
                      <a:pt x="1265" y="2378"/>
                    </a:lnTo>
                    <a:lnTo>
                      <a:pt x="1238" y="2391"/>
                    </a:lnTo>
                    <a:lnTo>
                      <a:pt x="1211" y="2405"/>
                    </a:lnTo>
                    <a:lnTo>
                      <a:pt x="1184" y="2418"/>
                    </a:lnTo>
                    <a:lnTo>
                      <a:pt x="1156" y="2431"/>
                    </a:lnTo>
                    <a:lnTo>
                      <a:pt x="1128" y="2442"/>
                    </a:lnTo>
                    <a:lnTo>
                      <a:pt x="1100" y="2453"/>
                    </a:lnTo>
                    <a:lnTo>
                      <a:pt x="1071" y="2463"/>
                    </a:lnTo>
                    <a:lnTo>
                      <a:pt x="1042" y="2472"/>
                    </a:lnTo>
                    <a:lnTo>
                      <a:pt x="1013" y="2481"/>
                    </a:lnTo>
                    <a:lnTo>
                      <a:pt x="983" y="2489"/>
                    </a:lnTo>
                    <a:lnTo>
                      <a:pt x="997" y="250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16680" y="3605040"/>
                <a:ext cx="461880" cy="659160"/>
              </a:xfrm>
              <a:custGeom>
                <a:avLst/>
                <a:gdLst/>
                <a:ahLst/>
                <a:rect l="l" t="t" r="r" b="b"/>
                <a:pathLst>
                  <a:path w="1746" h="2491">
                    <a:moveTo>
                      <a:pt x="504" y="0"/>
                    </a:moveTo>
                    <a:lnTo>
                      <a:pt x="470" y="6"/>
                    </a:lnTo>
                    <a:lnTo>
                      <a:pt x="436" y="11"/>
                    </a:lnTo>
                    <a:lnTo>
                      <a:pt x="403" y="17"/>
                    </a:lnTo>
                    <a:lnTo>
                      <a:pt x="369" y="25"/>
                    </a:lnTo>
                    <a:lnTo>
                      <a:pt x="336" y="33"/>
                    </a:lnTo>
                    <a:lnTo>
                      <a:pt x="304" y="42"/>
                    </a:lnTo>
                    <a:lnTo>
                      <a:pt x="271" y="52"/>
                    </a:lnTo>
                    <a:lnTo>
                      <a:pt x="240" y="62"/>
                    </a:lnTo>
                    <a:lnTo>
                      <a:pt x="209" y="74"/>
                    </a:lnTo>
                    <a:lnTo>
                      <a:pt x="178" y="86"/>
                    </a:lnTo>
                    <a:lnTo>
                      <a:pt x="147" y="99"/>
                    </a:lnTo>
                    <a:lnTo>
                      <a:pt x="117" y="113"/>
                    </a:lnTo>
                    <a:lnTo>
                      <a:pt x="87" y="128"/>
                    </a:lnTo>
                    <a:lnTo>
                      <a:pt x="58" y="143"/>
                    </a:lnTo>
                    <a:lnTo>
                      <a:pt x="29" y="159"/>
                    </a:lnTo>
                    <a:lnTo>
                      <a:pt x="0" y="176"/>
                    </a:lnTo>
                    <a:lnTo>
                      <a:pt x="0" y="184"/>
                    </a:lnTo>
                    <a:lnTo>
                      <a:pt x="0" y="203"/>
                    </a:lnTo>
                    <a:lnTo>
                      <a:pt x="30" y="185"/>
                    </a:lnTo>
                    <a:lnTo>
                      <a:pt x="59" y="168"/>
                    </a:lnTo>
                    <a:lnTo>
                      <a:pt x="90" y="152"/>
                    </a:lnTo>
                    <a:lnTo>
                      <a:pt x="122" y="137"/>
                    </a:lnTo>
                    <a:lnTo>
                      <a:pt x="153" y="122"/>
                    </a:lnTo>
                    <a:lnTo>
                      <a:pt x="184" y="108"/>
                    </a:lnTo>
                    <a:lnTo>
                      <a:pt x="216" y="95"/>
                    </a:lnTo>
                    <a:lnTo>
                      <a:pt x="250" y="83"/>
                    </a:lnTo>
                    <a:lnTo>
                      <a:pt x="282" y="72"/>
                    </a:lnTo>
                    <a:lnTo>
                      <a:pt x="315" y="62"/>
                    </a:lnTo>
                    <a:lnTo>
                      <a:pt x="350" y="53"/>
                    </a:lnTo>
                    <a:lnTo>
                      <a:pt x="384" y="45"/>
                    </a:lnTo>
                    <a:lnTo>
                      <a:pt x="419" y="37"/>
                    </a:lnTo>
                    <a:lnTo>
                      <a:pt x="454" y="31"/>
                    </a:lnTo>
                    <a:lnTo>
                      <a:pt x="489" y="25"/>
                    </a:lnTo>
                    <a:lnTo>
                      <a:pt x="525" y="20"/>
                    </a:lnTo>
                    <a:lnTo>
                      <a:pt x="504" y="0"/>
                    </a:lnTo>
                    <a:close/>
                    <a:moveTo>
                      <a:pt x="990" y="2491"/>
                    </a:moveTo>
                    <a:lnTo>
                      <a:pt x="1020" y="2483"/>
                    </a:lnTo>
                    <a:lnTo>
                      <a:pt x="1049" y="2474"/>
                    </a:lnTo>
                    <a:lnTo>
                      <a:pt x="1078" y="2464"/>
                    </a:lnTo>
                    <a:lnTo>
                      <a:pt x="1107" y="2454"/>
                    </a:lnTo>
                    <a:lnTo>
                      <a:pt x="1135" y="2442"/>
                    </a:lnTo>
                    <a:lnTo>
                      <a:pt x="1163" y="2431"/>
                    </a:lnTo>
                    <a:lnTo>
                      <a:pt x="1191" y="2418"/>
                    </a:lnTo>
                    <a:lnTo>
                      <a:pt x="1218" y="2406"/>
                    </a:lnTo>
                    <a:lnTo>
                      <a:pt x="1245" y="2392"/>
                    </a:lnTo>
                    <a:lnTo>
                      <a:pt x="1273" y="2378"/>
                    </a:lnTo>
                    <a:lnTo>
                      <a:pt x="1298" y="2363"/>
                    </a:lnTo>
                    <a:lnTo>
                      <a:pt x="1325" y="2348"/>
                    </a:lnTo>
                    <a:lnTo>
                      <a:pt x="1350" y="2332"/>
                    </a:lnTo>
                    <a:lnTo>
                      <a:pt x="1375" y="2316"/>
                    </a:lnTo>
                    <a:lnTo>
                      <a:pt x="1399" y="2298"/>
                    </a:lnTo>
                    <a:lnTo>
                      <a:pt x="1424" y="2280"/>
                    </a:lnTo>
                    <a:lnTo>
                      <a:pt x="1448" y="2263"/>
                    </a:lnTo>
                    <a:lnTo>
                      <a:pt x="1471" y="2243"/>
                    </a:lnTo>
                    <a:lnTo>
                      <a:pt x="1494" y="2225"/>
                    </a:lnTo>
                    <a:lnTo>
                      <a:pt x="1516" y="2204"/>
                    </a:lnTo>
                    <a:lnTo>
                      <a:pt x="1538" y="2184"/>
                    </a:lnTo>
                    <a:lnTo>
                      <a:pt x="1560" y="2163"/>
                    </a:lnTo>
                    <a:lnTo>
                      <a:pt x="1581" y="2142"/>
                    </a:lnTo>
                    <a:lnTo>
                      <a:pt x="1601" y="2120"/>
                    </a:lnTo>
                    <a:lnTo>
                      <a:pt x="1621" y="2098"/>
                    </a:lnTo>
                    <a:lnTo>
                      <a:pt x="1641" y="2075"/>
                    </a:lnTo>
                    <a:lnTo>
                      <a:pt x="1659" y="2052"/>
                    </a:lnTo>
                    <a:lnTo>
                      <a:pt x="1677" y="2027"/>
                    </a:lnTo>
                    <a:lnTo>
                      <a:pt x="1696" y="2003"/>
                    </a:lnTo>
                    <a:lnTo>
                      <a:pt x="1713" y="1979"/>
                    </a:lnTo>
                    <a:lnTo>
                      <a:pt x="1729" y="1954"/>
                    </a:lnTo>
                    <a:lnTo>
                      <a:pt x="1746" y="1928"/>
                    </a:lnTo>
                    <a:lnTo>
                      <a:pt x="1729" y="1912"/>
                    </a:lnTo>
                    <a:lnTo>
                      <a:pt x="1713" y="1938"/>
                    </a:lnTo>
                    <a:lnTo>
                      <a:pt x="1697" y="1963"/>
                    </a:lnTo>
                    <a:lnTo>
                      <a:pt x="1680" y="1987"/>
                    </a:lnTo>
                    <a:lnTo>
                      <a:pt x="1661" y="2011"/>
                    </a:lnTo>
                    <a:lnTo>
                      <a:pt x="1644" y="2034"/>
                    </a:lnTo>
                    <a:lnTo>
                      <a:pt x="1624" y="2057"/>
                    </a:lnTo>
                    <a:lnTo>
                      <a:pt x="1606" y="2080"/>
                    </a:lnTo>
                    <a:lnTo>
                      <a:pt x="1585" y="2102"/>
                    </a:lnTo>
                    <a:lnTo>
                      <a:pt x="1566" y="2124"/>
                    </a:lnTo>
                    <a:lnTo>
                      <a:pt x="1545" y="2146"/>
                    </a:lnTo>
                    <a:lnTo>
                      <a:pt x="1523" y="2167"/>
                    </a:lnTo>
                    <a:lnTo>
                      <a:pt x="1501" y="2187"/>
                    </a:lnTo>
                    <a:lnTo>
                      <a:pt x="1479" y="2207"/>
                    </a:lnTo>
                    <a:lnTo>
                      <a:pt x="1456" y="2226"/>
                    </a:lnTo>
                    <a:lnTo>
                      <a:pt x="1433" y="2245"/>
                    </a:lnTo>
                    <a:lnTo>
                      <a:pt x="1409" y="2263"/>
                    </a:lnTo>
                    <a:lnTo>
                      <a:pt x="1384" y="2281"/>
                    </a:lnTo>
                    <a:lnTo>
                      <a:pt x="1360" y="2297"/>
                    </a:lnTo>
                    <a:lnTo>
                      <a:pt x="1335" y="2314"/>
                    </a:lnTo>
                    <a:lnTo>
                      <a:pt x="1310" y="2329"/>
                    </a:lnTo>
                    <a:lnTo>
                      <a:pt x="1284" y="2346"/>
                    </a:lnTo>
                    <a:lnTo>
                      <a:pt x="1258" y="2359"/>
                    </a:lnTo>
                    <a:lnTo>
                      <a:pt x="1231" y="2373"/>
                    </a:lnTo>
                    <a:lnTo>
                      <a:pt x="1205" y="2387"/>
                    </a:lnTo>
                    <a:lnTo>
                      <a:pt x="1177" y="2400"/>
                    </a:lnTo>
                    <a:lnTo>
                      <a:pt x="1149" y="2412"/>
                    </a:lnTo>
                    <a:lnTo>
                      <a:pt x="1122" y="2424"/>
                    </a:lnTo>
                    <a:lnTo>
                      <a:pt x="1093" y="2434"/>
                    </a:lnTo>
                    <a:lnTo>
                      <a:pt x="1064" y="2445"/>
                    </a:lnTo>
                    <a:lnTo>
                      <a:pt x="1035" y="2454"/>
                    </a:lnTo>
                    <a:lnTo>
                      <a:pt x="1006" y="2463"/>
                    </a:lnTo>
                    <a:lnTo>
                      <a:pt x="976" y="2470"/>
                    </a:lnTo>
                    <a:lnTo>
                      <a:pt x="990" y="2491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16680" y="3606840"/>
                <a:ext cx="460440" cy="654120"/>
              </a:xfrm>
              <a:custGeom>
                <a:avLst/>
                <a:gdLst/>
                <a:ahLst/>
                <a:rect l="l" t="t" r="r" b="b"/>
                <a:pathLst>
                  <a:path w="1737" h="2470">
                    <a:moveTo>
                      <a:pt x="515" y="0"/>
                    </a:moveTo>
                    <a:lnTo>
                      <a:pt x="479" y="5"/>
                    </a:lnTo>
                    <a:lnTo>
                      <a:pt x="444" y="10"/>
                    </a:lnTo>
                    <a:lnTo>
                      <a:pt x="411" y="17"/>
                    </a:lnTo>
                    <a:lnTo>
                      <a:pt x="376" y="24"/>
                    </a:lnTo>
                    <a:lnTo>
                      <a:pt x="343" y="32"/>
                    </a:lnTo>
                    <a:lnTo>
                      <a:pt x="310" y="42"/>
                    </a:lnTo>
                    <a:lnTo>
                      <a:pt x="277" y="52"/>
                    </a:lnTo>
                    <a:lnTo>
                      <a:pt x="245" y="62"/>
                    </a:lnTo>
                    <a:lnTo>
                      <a:pt x="213" y="75"/>
                    </a:lnTo>
                    <a:lnTo>
                      <a:pt x="181" y="88"/>
                    </a:lnTo>
                    <a:lnTo>
                      <a:pt x="149" y="100"/>
                    </a:lnTo>
                    <a:lnTo>
                      <a:pt x="119" y="114"/>
                    </a:lnTo>
                    <a:lnTo>
                      <a:pt x="88" y="130"/>
                    </a:lnTo>
                    <a:lnTo>
                      <a:pt x="59" y="145"/>
                    </a:lnTo>
                    <a:lnTo>
                      <a:pt x="29" y="163"/>
                    </a:lnTo>
                    <a:lnTo>
                      <a:pt x="0" y="180"/>
                    </a:lnTo>
                    <a:lnTo>
                      <a:pt x="0" y="206"/>
                    </a:lnTo>
                    <a:lnTo>
                      <a:pt x="30" y="188"/>
                    </a:lnTo>
                    <a:lnTo>
                      <a:pt x="60" y="171"/>
                    </a:lnTo>
                    <a:lnTo>
                      <a:pt x="92" y="153"/>
                    </a:lnTo>
                    <a:lnTo>
                      <a:pt x="123" y="138"/>
                    </a:lnTo>
                    <a:lnTo>
                      <a:pt x="155" y="123"/>
                    </a:lnTo>
                    <a:lnTo>
                      <a:pt x="187" y="108"/>
                    </a:lnTo>
                    <a:lnTo>
                      <a:pt x="221" y="96"/>
                    </a:lnTo>
                    <a:lnTo>
                      <a:pt x="254" y="83"/>
                    </a:lnTo>
                    <a:lnTo>
                      <a:pt x="288" y="73"/>
                    </a:lnTo>
                    <a:lnTo>
                      <a:pt x="322" y="62"/>
                    </a:lnTo>
                    <a:lnTo>
                      <a:pt x="357" y="53"/>
                    </a:lnTo>
                    <a:lnTo>
                      <a:pt x="391" y="44"/>
                    </a:lnTo>
                    <a:lnTo>
                      <a:pt x="427" y="37"/>
                    </a:lnTo>
                    <a:lnTo>
                      <a:pt x="463" y="30"/>
                    </a:lnTo>
                    <a:lnTo>
                      <a:pt x="499" y="25"/>
                    </a:lnTo>
                    <a:lnTo>
                      <a:pt x="536" y="21"/>
                    </a:lnTo>
                    <a:lnTo>
                      <a:pt x="534" y="20"/>
                    </a:lnTo>
                    <a:lnTo>
                      <a:pt x="515" y="0"/>
                    </a:lnTo>
                    <a:close/>
                    <a:moveTo>
                      <a:pt x="983" y="2470"/>
                    </a:moveTo>
                    <a:lnTo>
                      <a:pt x="1013" y="2462"/>
                    </a:lnTo>
                    <a:lnTo>
                      <a:pt x="1042" y="2453"/>
                    </a:lnTo>
                    <a:lnTo>
                      <a:pt x="1071" y="2444"/>
                    </a:lnTo>
                    <a:lnTo>
                      <a:pt x="1100" y="2434"/>
                    </a:lnTo>
                    <a:lnTo>
                      <a:pt x="1128" y="2423"/>
                    </a:lnTo>
                    <a:lnTo>
                      <a:pt x="1156" y="2412"/>
                    </a:lnTo>
                    <a:lnTo>
                      <a:pt x="1184" y="2399"/>
                    </a:lnTo>
                    <a:lnTo>
                      <a:pt x="1211" y="2386"/>
                    </a:lnTo>
                    <a:lnTo>
                      <a:pt x="1238" y="2372"/>
                    </a:lnTo>
                    <a:lnTo>
                      <a:pt x="1265" y="2359"/>
                    </a:lnTo>
                    <a:lnTo>
                      <a:pt x="1291" y="2344"/>
                    </a:lnTo>
                    <a:lnTo>
                      <a:pt x="1318" y="2329"/>
                    </a:lnTo>
                    <a:lnTo>
                      <a:pt x="1343" y="2313"/>
                    </a:lnTo>
                    <a:lnTo>
                      <a:pt x="1367" y="2296"/>
                    </a:lnTo>
                    <a:lnTo>
                      <a:pt x="1393" y="2279"/>
                    </a:lnTo>
                    <a:lnTo>
                      <a:pt x="1417" y="2262"/>
                    </a:lnTo>
                    <a:lnTo>
                      <a:pt x="1440" y="2243"/>
                    </a:lnTo>
                    <a:lnTo>
                      <a:pt x="1464" y="2225"/>
                    </a:lnTo>
                    <a:lnTo>
                      <a:pt x="1486" y="2205"/>
                    </a:lnTo>
                    <a:lnTo>
                      <a:pt x="1509" y="2186"/>
                    </a:lnTo>
                    <a:lnTo>
                      <a:pt x="1531" y="2165"/>
                    </a:lnTo>
                    <a:lnTo>
                      <a:pt x="1552" y="2144"/>
                    </a:lnTo>
                    <a:lnTo>
                      <a:pt x="1572" y="2123"/>
                    </a:lnTo>
                    <a:lnTo>
                      <a:pt x="1593" y="2102"/>
                    </a:lnTo>
                    <a:lnTo>
                      <a:pt x="1613" y="2080"/>
                    </a:lnTo>
                    <a:lnTo>
                      <a:pt x="1632" y="2057"/>
                    </a:lnTo>
                    <a:lnTo>
                      <a:pt x="1651" y="2034"/>
                    </a:lnTo>
                    <a:lnTo>
                      <a:pt x="1669" y="2009"/>
                    </a:lnTo>
                    <a:lnTo>
                      <a:pt x="1688" y="1985"/>
                    </a:lnTo>
                    <a:lnTo>
                      <a:pt x="1705" y="1961"/>
                    </a:lnTo>
                    <a:lnTo>
                      <a:pt x="1721" y="1936"/>
                    </a:lnTo>
                    <a:lnTo>
                      <a:pt x="1737" y="1910"/>
                    </a:lnTo>
                    <a:lnTo>
                      <a:pt x="1722" y="1895"/>
                    </a:lnTo>
                    <a:lnTo>
                      <a:pt x="1721" y="1893"/>
                    </a:lnTo>
                    <a:lnTo>
                      <a:pt x="1705" y="1918"/>
                    </a:lnTo>
                    <a:lnTo>
                      <a:pt x="1689" y="1944"/>
                    </a:lnTo>
                    <a:lnTo>
                      <a:pt x="1672" y="1968"/>
                    </a:lnTo>
                    <a:lnTo>
                      <a:pt x="1654" y="1992"/>
                    </a:lnTo>
                    <a:lnTo>
                      <a:pt x="1636" y="2016"/>
                    </a:lnTo>
                    <a:lnTo>
                      <a:pt x="1617" y="2039"/>
                    </a:lnTo>
                    <a:lnTo>
                      <a:pt x="1598" y="2062"/>
                    </a:lnTo>
                    <a:lnTo>
                      <a:pt x="1578" y="2084"/>
                    </a:lnTo>
                    <a:lnTo>
                      <a:pt x="1559" y="2106"/>
                    </a:lnTo>
                    <a:lnTo>
                      <a:pt x="1538" y="2127"/>
                    </a:lnTo>
                    <a:lnTo>
                      <a:pt x="1516" y="2148"/>
                    </a:lnTo>
                    <a:lnTo>
                      <a:pt x="1494" y="2168"/>
                    </a:lnTo>
                    <a:lnTo>
                      <a:pt x="1472" y="2188"/>
                    </a:lnTo>
                    <a:lnTo>
                      <a:pt x="1449" y="2208"/>
                    </a:lnTo>
                    <a:lnTo>
                      <a:pt x="1426" y="2226"/>
                    </a:lnTo>
                    <a:lnTo>
                      <a:pt x="1403" y="2245"/>
                    </a:lnTo>
                    <a:lnTo>
                      <a:pt x="1378" y="2262"/>
                    </a:lnTo>
                    <a:lnTo>
                      <a:pt x="1353" y="2279"/>
                    </a:lnTo>
                    <a:lnTo>
                      <a:pt x="1329" y="2295"/>
                    </a:lnTo>
                    <a:lnTo>
                      <a:pt x="1304" y="2310"/>
                    </a:lnTo>
                    <a:lnTo>
                      <a:pt x="1277" y="2326"/>
                    </a:lnTo>
                    <a:lnTo>
                      <a:pt x="1251" y="2340"/>
                    </a:lnTo>
                    <a:lnTo>
                      <a:pt x="1224" y="2355"/>
                    </a:lnTo>
                    <a:lnTo>
                      <a:pt x="1198" y="2368"/>
                    </a:lnTo>
                    <a:lnTo>
                      <a:pt x="1170" y="2381"/>
                    </a:lnTo>
                    <a:lnTo>
                      <a:pt x="1142" y="2393"/>
                    </a:lnTo>
                    <a:lnTo>
                      <a:pt x="1115" y="2404"/>
                    </a:lnTo>
                    <a:lnTo>
                      <a:pt x="1086" y="2415"/>
                    </a:lnTo>
                    <a:lnTo>
                      <a:pt x="1058" y="2426"/>
                    </a:lnTo>
                    <a:lnTo>
                      <a:pt x="1028" y="2435"/>
                    </a:lnTo>
                    <a:lnTo>
                      <a:pt x="999" y="2443"/>
                    </a:lnTo>
                    <a:lnTo>
                      <a:pt x="969" y="2451"/>
                    </a:lnTo>
                    <a:lnTo>
                      <a:pt x="983" y="247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6680" y="3610080"/>
                <a:ext cx="457200" cy="647640"/>
              </a:xfrm>
              <a:custGeom>
                <a:avLst/>
                <a:gdLst/>
                <a:ahLst/>
                <a:rect l="l" t="t" r="r" b="b"/>
                <a:pathLst>
                  <a:path w="1729" h="2450">
                    <a:moveTo>
                      <a:pt x="525" y="0"/>
                    </a:moveTo>
                    <a:lnTo>
                      <a:pt x="489" y="5"/>
                    </a:lnTo>
                    <a:lnTo>
                      <a:pt x="454" y="11"/>
                    </a:lnTo>
                    <a:lnTo>
                      <a:pt x="419" y="17"/>
                    </a:lnTo>
                    <a:lnTo>
                      <a:pt x="384" y="25"/>
                    </a:lnTo>
                    <a:lnTo>
                      <a:pt x="350" y="33"/>
                    </a:lnTo>
                    <a:lnTo>
                      <a:pt x="315" y="42"/>
                    </a:lnTo>
                    <a:lnTo>
                      <a:pt x="282" y="52"/>
                    </a:lnTo>
                    <a:lnTo>
                      <a:pt x="250" y="63"/>
                    </a:lnTo>
                    <a:lnTo>
                      <a:pt x="216" y="75"/>
                    </a:lnTo>
                    <a:lnTo>
                      <a:pt x="184" y="88"/>
                    </a:lnTo>
                    <a:lnTo>
                      <a:pt x="153" y="102"/>
                    </a:lnTo>
                    <a:lnTo>
                      <a:pt x="122" y="117"/>
                    </a:lnTo>
                    <a:lnTo>
                      <a:pt x="90" y="132"/>
                    </a:lnTo>
                    <a:lnTo>
                      <a:pt x="59" y="148"/>
                    </a:lnTo>
                    <a:lnTo>
                      <a:pt x="30" y="165"/>
                    </a:lnTo>
                    <a:lnTo>
                      <a:pt x="0" y="183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32" y="191"/>
                    </a:lnTo>
                    <a:lnTo>
                      <a:pt x="63" y="172"/>
                    </a:lnTo>
                    <a:lnTo>
                      <a:pt x="95" y="155"/>
                    </a:lnTo>
                    <a:lnTo>
                      <a:pt x="127" y="139"/>
                    </a:lnTo>
                    <a:lnTo>
                      <a:pt x="160" y="124"/>
                    </a:lnTo>
                    <a:lnTo>
                      <a:pt x="194" y="109"/>
                    </a:lnTo>
                    <a:lnTo>
                      <a:pt x="228" y="95"/>
                    </a:lnTo>
                    <a:lnTo>
                      <a:pt x="262" y="82"/>
                    </a:lnTo>
                    <a:lnTo>
                      <a:pt x="297" y="72"/>
                    </a:lnTo>
                    <a:lnTo>
                      <a:pt x="333" y="60"/>
                    </a:lnTo>
                    <a:lnTo>
                      <a:pt x="368" y="51"/>
                    </a:lnTo>
                    <a:lnTo>
                      <a:pt x="405" y="43"/>
                    </a:lnTo>
                    <a:lnTo>
                      <a:pt x="442" y="36"/>
                    </a:lnTo>
                    <a:lnTo>
                      <a:pt x="479" y="29"/>
                    </a:lnTo>
                    <a:lnTo>
                      <a:pt x="516" y="25"/>
                    </a:lnTo>
                    <a:lnTo>
                      <a:pt x="554" y="21"/>
                    </a:lnTo>
                    <a:lnTo>
                      <a:pt x="534" y="10"/>
                    </a:lnTo>
                    <a:lnTo>
                      <a:pt x="525" y="0"/>
                    </a:lnTo>
                    <a:close/>
                    <a:moveTo>
                      <a:pt x="976" y="2450"/>
                    </a:moveTo>
                    <a:lnTo>
                      <a:pt x="1006" y="2443"/>
                    </a:lnTo>
                    <a:lnTo>
                      <a:pt x="1035" y="2434"/>
                    </a:lnTo>
                    <a:lnTo>
                      <a:pt x="1064" y="2425"/>
                    </a:lnTo>
                    <a:lnTo>
                      <a:pt x="1093" y="2414"/>
                    </a:lnTo>
                    <a:lnTo>
                      <a:pt x="1122" y="2404"/>
                    </a:lnTo>
                    <a:lnTo>
                      <a:pt x="1149" y="2392"/>
                    </a:lnTo>
                    <a:lnTo>
                      <a:pt x="1177" y="2380"/>
                    </a:lnTo>
                    <a:lnTo>
                      <a:pt x="1205" y="2367"/>
                    </a:lnTo>
                    <a:lnTo>
                      <a:pt x="1231" y="2353"/>
                    </a:lnTo>
                    <a:lnTo>
                      <a:pt x="1258" y="2339"/>
                    </a:lnTo>
                    <a:lnTo>
                      <a:pt x="1284" y="2326"/>
                    </a:lnTo>
                    <a:lnTo>
                      <a:pt x="1310" y="2309"/>
                    </a:lnTo>
                    <a:lnTo>
                      <a:pt x="1335" y="2294"/>
                    </a:lnTo>
                    <a:lnTo>
                      <a:pt x="1360" y="2277"/>
                    </a:lnTo>
                    <a:lnTo>
                      <a:pt x="1384" y="2261"/>
                    </a:lnTo>
                    <a:lnTo>
                      <a:pt x="1409" y="2243"/>
                    </a:lnTo>
                    <a:lnTo>
                      <a:pt x="1433" y="2225"/>
                    </a:lnTo>
                    <a:lnTo>
                      <a:pt x="1456" y="2206"/>
                    </a:lnTo>
                    <a:lnTo>
                      <a:pt x="1479" y="2187"/>
                    </a:lnTo>
                    <a:lnTo>
                      <a:pt x="1501" y="2167"/>
                    </a:lnTo>
                    <a:lnTo>
                      <a:pt x="1523" y="2147"/>
                    </a:lnTo>
                    <a:lnTo>
                      <a:pt x="1545" y="2126"/>
                    </a:lnTo>
                    <a:lnTo>
                      <a:pt x="1566" y="2104"/>
                    </a:lnTo>
                    <a:lnTo>
                      <a:pt x="1585" y="2082"/>
                    </a:lnTo>
                    <a:lnTo>
                      <a:pt x="1606" y="2060"/>
                    </a:lnTo>
                    <a:lnTo>
                      <a:pt x="1624" y="2037"/>
                    </a:lnTo>
                    <a:lnTo>
                      <a:pt x="1644" y="2014"/>
                    </a:lnTo>
                    <a:lnTo>
                      <a:pt x="1661" y="1991"/>
                    </a:lnTo>
                    <a:lnTo>
                      <a:pt x="1680" y="1967"/>
                    </a:lnTo>
                    <a:lnTo>
                      <a:pt x="1697" y="1943"/>
                    </a:lnTo>
                    <a:lnTo>
                      <a:pt x="1713" y="1918"/>
                    </a:lnTo>
                    <a:lnTo>
                      <a:pt x="1729" y="1892"/>
                    </a:lnTo>
                    <a:lnTo>
                      <a:pt x="1722" y="1885"/>
                    </a:lnTo>
                    <a:lnTo>
                      <a:pt x="1716" y="1870"/>
                    </a:lnTo>
                    <a:lnTo>
                      <a:pt x="1699" y="1897"/>
                    </a:lnTo>
                    <a:lnTo>
                      <a:pt x="1683" y="1922"/>
                    </a:lnTo>
                    <a:lnTo>
                      <a:pt x="1666" y="1946"/>
                    </a:lnTo>
                    <a:lnTo>
                      <a:pt x="1649" y="1971"/>
                    </a:lnTo>
                    <a:lnTo>
                      <a:pt x="1630" y="1995"/>
                    </a:lnTo>
                    <a:lnTo>
                      <a:pt x="1612" y="2018"/>
                    </a:lnTo>
                    <a:lnTo>
                      <a:pt x="1593" y="2041"/>
                    </a:lnTo>
                    <a:lnTo>
                      <a:pt x="1574" y="2063"/>
                    </a:lnTo>
                    <a:lnTo>
                      <a:pt x="1553" y="2085"/>
                    </a:lnTo>
                    <a:lnTo>
                      <a:pt x="1532" y="2107"/>
                    </a:lnTo>
                    <a:lnTo>
                      <a:pt x="1510" y="2127"/>
                    </a:lnTo>
                    <a:lnTo>
                      <a:pt x="1489" y="2148"/>
                    </a:lnTo>
                    <a:lnTo>
                      <a:pt x="1466" y="2168"/>
                    </a:lnTo>
                    <a:lnTo>
                      <a:pt x="1443" y="2187"/>
                    </a:lnTo>
                    <a:lnTo>
                      <a:pt x="1420" y="2206"/>
                    </a:lnTo>
                    <a:lnTo>
                      <a:pt x="1397" y="2224"/>
                    </a:lnTo>
                    <a:lnTo>
                      <a:pt x="1373" y="2241"/>
                    </a:lnTo>
                    <a:lnTo>
                      <a:pt x="1348" y="2259"/>
                    </a:lnTo>
                    <a:lnTo>
                      <a:pt x="1323" y="2275"/>
                    </a:lnTo>
                    <a:lnTo>
                      <a:pt x="1298" y="2291"/>
                    </a:lnTo>
                    <a:lnTo>
                      <a:pt x="1271" y="2306"/>
                    </a:lnTo>
                    <a:lnTo>
                      <a:pt x="1245" y="2321"/>
                    </a:lnTo>
                    <a:lnTo>
                      <a:pt x="1218" y="2335"/>
                    </a:lnTo>
                    <a:lnTo>
                      <a:pt x="1192" y="2347"/>
                    </a:lnTo>
                    <a:lnTo>
                      <a:pt x="1164" y="2361"/>
                    </a:lnTo>
                    <a:lnTo>
                      <a:pt x="1137" y="2373"/>
                    </a:lnTo>
                    <a:lnTo>
                      <a:pt x="1109" y="2384"/>
                    </a:lnTo>
                    <a:lnTo>
                      <a:pt x="1080" y="2395"/>
                    </a:lnTo>
                    <a:lnTo>
                      <a:pt x="1051" y="2405"/>
                    </a:lnTo>
                    <a:lnTo>
                      <a:pt x="1022" y="2414"/>
                    </a:lnTo>
                    <a:lnTo>
                      <a:pt x="992" y="2422"/>
                    </a:lnTo>
                    <a:lnTo>
                      <a:pt x="962" y="2430"/>
                    </a:lnTo>
                    <a:lnTo>
                      <a:pt x="976" y="245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16680" y="3613320"/>
                <a:ext cx="455400" cy="642600"/>
              </a:xfrm>
              <a:custGeom>
                <a:avLst/>
                <a:gdLst/>
                <a:ahLst/>
                <a:rect l="l" t="t" r="r" b="b"/>
                <a:pathLst>
                  <a:path w="1721" h="2430">
                    <a:moveTo>
                      <a:pt x="536" y="0"/>
                    </a:moveTo>
                    <a:lnTo>
                      <a:pt x="499" y="4"/>
                    </a:lnTo>
                    <a:lnTo>
                      <a:pt x="463" y="9"/>
                    </a:lnTo>
                    <a:lnTo>
                      <a:pt x="427" y="16"/>
                    </a:lnTo>
                    <a:lnTo>
                      <a:pt x="391" y="23"/>
                    </a:lnTo>
                    <a:lnTo>
                      <a:pt x="357" y="32"/>
                    </a:lnTo>
                    <a:lnTo>
                      <a:pt x="322" y="41"/>
                    </a:lnTo>
                    <a:lnTo>
                      <a:pt x="288" y="52"/>
                    </a:lnTo>
                    <a:lnTo>
                      <a:pt x="254" y="62"/>
                    </a:lnTo>
                    <a:lnTo>
                      <a:pt x="221" y="75"/>
                    </a:lnTo>
                    <a:lnTo>
                      <a:pt x="187" y="87"/>
                    </a:lnTo>
                    <a:lnTo>
                      <a:pt x="155" y="102"/>
                    </a:lnTo>
                    <a:lnTo>
                      <a:pt x="123" y="117"/>
                    </a:lnTo>
                    <a:lnTo>
                      <a:pt x="92" y="132"/>
                    </a:lnTo>
                    <a:lnTo>
                      <a:pt x="60" y="150"/>
                    </a:lnTo>
                    <a:lnTo>
                      <a:pt x="30" y="167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0" y="212"/>
                    </a:lnTo>
                    <a:lnTo>
                      <a:pt x="32" y="192"/>
                    </a:lnTo>
                    <a:lnTo>
                      <a:pt x="65" y="174"/>
                    </a:lnTo>
                    <a:lnTo>
                      <a:pt x="97" y="155"/>
                    </a:lnTo>
                    <a:lnTo>
                      <a:pt x="131" y="138"/>
                    </a:lnTo>
                    <a:lnTo>
                      <a:pt x="165" y="123"/>
                    </a:lnTo>
                    <a:lnTo>
                      <a:pt x="200" y="108"/>
                    </a:lnTo>
                    <a:lnTo>
                      <a:pt x="235" y="94"/>
                    </a:lnTo>
                    <a:lnTo>
                      <a:pt x="270" y="81"/>
                    </a:lnTo>
                    <a:lnTo>
                      <a:pt x="307" y="69"/>
                    </a:lnTo>
                    <a:lnTo>
                      <a:pt x="344" y="59"/>
                    </a:lnTo>
                    <a:lnTo>
                      <a:pt x="381" y="49"/>
                    </a:lnTo>
                    <a:lnTo>
                      <a:pt x="418" y="41"/>
                    </a:lnTo>
                    <a:lnTo>
                      <a:pt x="456" y="33"/>
                    </a:lnTo>
                    <a:lnTo>
                      <a:pt x="495" y="28"/>
                    </a:lnTo>
                    <a:lnTo>
                      <a:pt x="534" y="23"/>
                    </a:lnTo>
                    <a:lnTo>
                      <a:pt x="574" y="19"/>
                    </a:lnTo>
                    <a:lnTo>
                      <a:pt x="536" y="0"/>
                    </a:lnTo>
                    <a:close/>
                    <a:moveTo>
                      <a:pt x="969" y="2430"/>
                    </a:moveTo>
                    <a:lnTo>
                      <a:pt x="999" y="2422"/>
                    </a:lnTo>
                    <a:lnTo>
                      <a:pt x="1028" y="2414"/>
                    </a:lnTo>
                    <a:lnTo>
                      <a:pt x="1058" y="2405"/>
                    </a:lnTo>
                    <a:lnTo>
                      <a:pt x="1086" y="2394"/>
                    </a:lnTo>
                    <a:lnTo>
                      <a:pt x="1115" y="2383"/>
                    </a:lnTo>
                    <a:lnTo>
                      <a:pt x="1142" y="2372"/>
                    </a:lnTo>
                    <a:lnTo>
                      <a:pt x="1170" y="2360"/>
                    </a:lnTo>
                    <a:lnTo>
                      <a:pt x="1198" y="2347"/>
                    </a:lnTo>
                    <a:lnTo>
                      <a:pt x="1224" y="2334"/>
                    </a:lnTo>
                    <a:lnTo>
                      <a:pt x="1251" y="2319"/>
                    </a:lnTo>
                    <a:lnTo>
                      <a:pt x="1277" y="2305"/>
                    </a:lnTo>
                    <a:lnTo>
                      <a:pt x="1304" y="2289"/>
                    </a:lnTo>
                    <a:lnTo>
                      <a:pt x="1329" y="2274"/>
                    </a:lnTo>
                    <a:lnTo>
                      <a:pt x="1353" y="2258"/>
                    </a:lnTo>
                    <a:lnTo>
                      <a:pt x="1378" y="2241"/>
                    </a:lnTo>
                    <a:lnTo>
                      <a:pt x="1403" y="2224"/>
                    </a:lnTo>
                    <a:lnTo>
                      <a:pt x="1426" y="2205"/>
                    </a:lnTo>
                    <a:lnTo>
                      <a:pt x="1449" y="2187"/>
                    </a:lnTo>
                    <a:lnTo>
                      <a:pt x="1472" y="2167"/>
                    </a:lnTo>
                    <a:lnTo>
                      <a:pt x="1494" y="2147"/>
                    </a:lnTo>
                    <a:lnTo>
                      <a:pt x="1516" y="2127"/>
                    </a:lnTo>
                    <a:lnTo>
                      <a:pt x="1538" y="2106"/>
                    </a:lnTo>
                    <a:lnTo>
                      <a:pt x="1559" y="2085"/>
                    </a:lnTo>
                    <a:lnTo>
                      <a:pt x="1578" y="2063"/>
                    </a:lnTo>
                    <a:lnTo>
                      <a:pt x="1598" y="2041"/>
                    </a:lnTo>
                    <a:lnTo>
                      <a:pt x="1617" y="2018"/>
                    </a:lnTo>
                    <a:lnTo>
                      <a:pt x="1636" y="1995"/>
                    </a:lnTo>
                    <a:lnTo>
                      <a:pt x="1654" y="1971"/>
                    </a:lnTo>
                    <a:lnTo>
                      <a:pt x="1672" y="1947"/>
                    </a:lnTo>
                    <a:lnTo>
                      <a:pt x="1689" y="1923"/>
                    </a:lnTo>
                    <a:lnTo>
                      <a:pt x="1705" y="1897"/>
                    </a:lnTo>
                    <a:lnTo>
                      <a:pt x="1721" y="1872"/>
                    </a:lnTo>
                    <a:lnTo>
                      <a:pt x="1710" y="1848"/>
                    </a:lnTo>
                    <a:lnTo>
                      <a:pt x="1694" y="1873"/>
                    </a:lnTo>
                    <a:lnTo>
                      <a:pt x="1677" y="1898"/>
                    </a:lnTo>
                    <a:lnTo>
                      <a:pt x="1661" y="1924"/>
                    </a:lnTo>
                    <a:lnTo>
                      <a:pt x="1643" y="1948"/>
                    </a:lnTo>
                    <a:lnTo>
                      <a:pt x="1626" y="1972"/>
                    </a:lnTo>
                    <a:lnTo>
                      <a:pt x="1607" y="1995"/>
                    </a:lnTo>
                    <a:lnTo>
                      <a:pt x="1587" y="2018"/>
                    </a:lnTo>
                    <a:lnTo>
                      <a:pt x="1568" y="2041"/>
                    </a:lnTo>
                    <a:lnTo>
                      <a:pt x="1547" y="2063"/>
                    </a:lnTo>
                    <a:lnTo>
                      <a:pt x="1526" y="2085"/>
                    </a:lnTo>
                    <a:lnTo>
                      <a:pt x="1506" y="2106"/>
                    </a:lnTo>
                    <a:lnTo>
                      <a:pt x="1484" y="2127"/>
                    </a:lnTo>
                    <a:lnTo>
                      <a:pt x="1461" y="2146"/>
                    </a:lnTo>
                    <a:lnTo>
                      <a:pt x="1439" y="2166"/>
                    </a:lnTo>
                    <a:lnTo>
                      <a:pt x="1414" y="2184"/>
                    </a:lnTo>
                    <a:lnTo>
                      <a:pt x="1391" y="2203"/>
                    </a:lnTo>
                    <a:lnTo>
                      <a:pt x="1367" y="2220"/>
                    </a:lnTo>
                    <a:lnTo>
                      <a:pt x="1343" y="2237"/>
                    </a:lnTo>
                    <a:lnTo>
                      <a:pt x="1318" y="2255"/>
                    </a:lnTo>
                    <a:lnTo>
                      <a:pt x="1292" y="2270"/>
                    </a:lnTo>
                    <a:lnTo>
                      <a:pt x="1266" y="2286"/>
                    </a:lnTo>
                    <a:lnTo>
                      <a:pt x="1239" y="2300"/>
                    </a:lnTo>
                    <a:lnTo>
                      <a:pt x="1213" y="2315"/>
                    </a:lnTo>
                    <a:lnTo>
                      <a:pt x="1186" y="2327"/>
                    </a:lnTo>
                    <a:lnTo>
                      <a:pt x="1158" y="2340"/>
                    </a:lnTo>
                    <a:lnTo>
                      <a:pt x="1130" y="2353"/>
                    </a:lnTo>
                    <a:lnTo>
                      <a:pt x="1102" y="2364"/>
                    </a:lnTo>
                    <a:lnTo>
                      <a:pt x="1073" y="2375"/>
                    </a:lnTo>
                    <a:lnTo>
                      <a:pt x="1044" y="2384"/>
                    </a:lnTo>
                    <a:lnTo>
                      <a:pt x="1015" y="2393"/>
                    </a:lnTo>
                    <a:lnTo>
                      <a:pt x="985" y="2402"/>
                    </a:lnTo>
                    <a:lnTo>
                      <a:pt x="955" y="2410"/>
                    </a:lnTo>
                    <a:lnTo>
                      <a:pt x="958" y="2411"/>
                    </a:lnTo>
                    <a:lnTo>
                      <a:pt x="969" y="243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16680" y="3616200"/>
                <a:ext cx="453960" cy="636840"/>
              </a:xfrm>
              <a:custGeom>
                <a:avLst/>
                <a:gdLst/>
                <a:ahLst/>
                <a:rect l="l" t="t" r="r" b="b"/>
                <a:pathLst>
                  <a:path w="1716" h="2409">
                    <a:moveTo>
                      <a:pt x="554" y="0"/>
                    </a:moveTo>
                    <a:lnTo>
                      <a:pt x="516" y="4"/>
                    </a:lnTo>
                    <a:lnTo>
                      <a:pt x="479" y="8"/>
                    </a:lnTo>
                    <a:lnTo>
                      <a:pt x="442" y="15"/>
                    </a:lnTo>
                    <a:lnTo>
                      <a:pt x="405" y="22"/>
                    </a:lnTo>
                    <a:lnTo>
                      <a:pt x="368" y="30"/>
                    </a:lnTo>
                    <a:lnTo>
                      <a:pt x="333" y="39"/>
                    </a:lnTo>
                    <a:lnTo>
                      <a:pt x="297" y="51"/>
                    </a:lnTo>
                    <a:lnTo>
                      <a:pt x="262" y="61"/>
                    </a:lnTo>
                    <a:lnTo>
                      <a:pt x="228" y="74"/>
                    </a:lnTo>
                    <a:lnTo>
                      <a:pt x="194" y="88"/>
                    </a:lnTo>
                    <a:lnTo>
                      <a:pt x="160" y="103"/>
                    </a:lnTo>
                    <a:lnTo>
                      <a:pt x="127" y="118"/>
                    </a:lnTo>
                    <a:lnTo>
                      <a:pt x="95" y="134"/>
                    </a:lnTo>
                    <a:lnTo>
                      <a:pt x="63" y="151"/>
                    </a:lnTo>
                    <a:lnTo>
                      <a:pt x="32" y="170"/>
                    </a:lnTo>
                    <a:lnTo>
                      <a:pt x="0" y="188"/>
                    </a:lnTo>
                    <a:lnTo>
                      <a:pt x="0" y="216"/>
                    </a:lnTo>
                    <a:lnTo>
                      <a:pt x="33" y="195"/>
                    </a:lnTo>
                    <a:lnTo>
                      <a:pt x="66" y="175"/>
                    </a:lnTo>
                    <a:lnTo>
                      <a:pt x="100" y="157"/>
                    </a:lnTo>
                    <a:lnTo>
                      <a:pt x="134" y="140"/>
                    </a:lnTo>
                    <a:lnTo>
                      <a:pt x="170" y="122"/>
                    </a:lnTo>
                    <a:lnTo>
                      <a:pt x="206" y="107"/>
                    </a:lnTo>
                    <a:lnTo>
                      <a:pt x="243" y="94"/>
                    </a:lnTo>
                    <a:lnTo>
                      <a:pt x="280" y="80"/>
                    </a:lnTo>
                    <a:lnTo>
                      <a:pt x="316" y="68"/>
                    </a:lnTo>
                    <a:lnTo>
                      <a:pt x="354" y="58"/>
                    </a:lnTo>
                    <a:lnTo>
                      <a:pt x="393" y="48"/>
                    </a:lnTo>
                    <a:lnTo>
                      <a:pt x="432" y="39"/>
                    </a:lnTo>
                    <a:lnTo>
                      <a:pt x="472" y="33"/>
                    </a:lnTo>
                    <a:lnTo>
                      <a:pt x="511" y="27"/>
                    </a:lnTo>
                    <a:lnTo>
                      <a:pt x="552" y="23"/>
                    </a:lnTo>
                    <a:lnTo>
                      <a:pt x="592" y="20"/>
                    </a:lnTo>
                    <a:lnTo>
                      <a:pt x="554" y="0"/>
                    </a:lnTo>
                    <a:close/>
                    <a:moveTo>
                      <a:pt x="962" y="2409"/>
                    </a:moveTo>
                    <a:lnTo>
                      <a:pt x="992" y="2401"/>
                    </a:lnTo>
                    <a:lnTo>
                      <a:pt x="1022" y="2393"/>
                    </a:lnTo>
                    <a:lnTo>
                      <a:pt x="1051" y="2384"/>
                    </a:lnTo>
                    <a:lnTo>
                      <a:pt x="1080" y="2374"/>
                    </a:lnTo>
                    <a:lnTo>
                      <a:pt x="1109" y="2363"/>
                    </a:lnTo>
                    <a:lnTo>
                      <a:pt x="1137" y="2352"/>
                    </a:lnTo>
                    <a:lnTo>
                      <a:pt x="1164" y="2340"/>
                    </a:lnTo>
                    <a:lnTo>
                      <a:pt x="1192" y="2326"/>
                    </a:lnTo>
                    <a:lnTo>
                      <a:pt x="1218" y="2314"/>
                    </a:lnTo>
                    <a:lnTo>
                      <a:pt x="1245" y="2300"/>
                    </a:lnTo>
                    <a:lnTo>
                      <a:pt x="1271" y="2285"/>
                    </a:lnTo>
                    <a:lnTo>
                      <a:pt x="1298" y="2270"/>
                    </a:lnTo>
                    <a:lnTo>
                      <a:pt x="1323" y="2254"/>
                    </a:lnTo>
                    <a:lnTo>
                      <a:pt x="1348" y="2238"/>
                    </a:lnTo>
                    <a:lnTo>
                      <a:pt x="1373" y="2220"/>
                    </a:lnTo>
                    <a:lnTo>
                      <a:pt x="1397" y="2203"/>
                    </a:lnTo>
                    <a:lnTo>
                      <a:pt x="1420" y="2185"/>
                    </a:lnTo>
                    <a:lnTo>
                      <a:pt x="1443" y="2166"/>
                    </a:lnTo>
                    <a:lnTo>
                      <a:pt x="1466" y="2147"/>
                    </a:lnTo>
                    <a:lnTo>
                      <a:pt x="1489" y="2127"/>
                    </a:lnTo>
                    <a:lnTo>
                      <a:pt x="1510" y="2106"/>
                    </a:lnTo>
                    <a:lnTo>
                      <a:pt x="1532" y="2086"/>
                    </a:lnTo>
                    <a:lnTo>
                      <a:pt x="1553" y="2064"/>
                    </a:lnTo>
                    <a:lnTo>
                      <a:pt x="1574" y="2042"/>
                    </a:lnTo>
                    <a:lnTo>
                      <a:pt x="1593" y="2020"/>
                    </a:lnTo>
                    <a:lnTo>
                      <a:pt x="1612" y="1997"/>
                    </a:lnTo>
                    <a:lnTo>
                      <a:pt x="1630" y="1974"/>
                    </a:lnTo>
                    <a:lnTo>
                      <a:pt x="1649" y="1950"/>
                    </a:lnTo>
                    <a:lnTo>
                      <a:pt x="1666" y="1925"/>
                    </a:lnTo>
                    <a:lnTo>
                      <a:pt x="1683" y="1901"/>
                    </a:lnTo>
                    <a:lnTo>
                      <a:pt x="1699" y="1876"/>
                    </a:lnTo>
                    <a:lnTo>
                      <a:pt x="1716" y="1849"/>
                    </a:lnTo>
                    <a:lnTo>
                      <a:pt x="1704" y="1825"/>
                    </a:lnTo>
                    <a:lnTo>
                      <a:pt x="1688" y="1852"/>
                    </a:lnTo>
                    <a:lnTo>
                      <a:pt x="1672" y="1877"/>
                    </a:lnTo>
                    <a:lnTo>
                      <a:pt x="1656" y="1902"/>
                    </a:lnTo>
                    <a:lnTo>
                      <a:pt x="1637" y="1926"/>
                    </a:lnTo>
                    <a:lnTo>
                      <a:pt x="1620" y="1951"/>
                    </a:lnTo>
                    <a:lnTo>
                      <a:pt x="1601" y="1975"/>
                    </a:lnTo>
                    <a:lnTo>
                      <a:pt x="1582" y="1998"/>
                    </a:lnTo>
                    <a:lnTo>
                      <a:pt x="1562" y="2020"/>
                    </a:lnTo>
                    <a:lnTo>
                      <a:pt x="1541" y="2043"/>
                    </a:lnTo>
                    <a:lnTo>
                      <a:pt x="1521" y="2065"/>
                    </a:lnTo>
                    <a:lnTo>
                      <a:pt x="1500" y="2086"/>
                    </a:lnTo>
                    <a:lnTo>
                      <a:pt x="1478" y="2106"/>
                    </a:lnTo>
                    <a:lnTo>
                      <a:pt x="1455" y="2126"/>
                    </a:lnTo>
                    <a:lnTo>
                      <a:pt x="1432" y="2146"/>
                    </a:lnTo>
                    <a:lnTo>
                      <a:pt x="1409" y="2165"/>
                    </a:lnTo>
                    <a:lnTo>
                      <a:pt x="1384" y="2184"/>
                    </a:lnTo>
                    <a:lnTo>
                      <a:pt x="1360" y="2201"/>
                    </a:lnTo>
                    <a:lnTo>
                      <a:pt x="1336" y="2218"/>
                    </a:lnTo>
                    <a:lnTo>
                      <a:pt x="1311" y="2235"/>
                    </a:lnTo>
                    <a:lnTo>
                      <a:pt x="1285" y="2252"/>
                    </a:lnTo>
                    <a:lnTo>
                      <a:pt x="1259" y="2267"/>
                    </a:lnTo>
                    <a:lnTo>
                      <a:pt x="1232" y="2282"/>
                    </a:lnTo>
                    <a:lnTo>
                      <a:pt x="1205" y="2295"/>
                    </a:lnTo>
                    <a:lnTo>
                      <a:pt x="1178" y="2308"/>
                    </a:lnTo>
                    <a:lnTo>
                      <a:pt x="1150" y="2322"/>
                    </a:lnTo>
                    <a:lnTo>
                      <a:pt x="1122" y="2333"/>
                    </a:lnTo>
                    <a:lnTo>
                      <a:pt x="1094" y="2345"/>
                    </a:lnTo>
                    <a:lnTo>
                      <a:pt x="1065" y="2355"/>
                    </a:lnTo>
                    <a:lnTo>
                      <a:pt x="1035" y="2366"/>
                    </a:lnTo>
                    <a:lnTo>
                      <a:pt x="1006" y="2374"/>
                    </a:lnTo>
                    <a:lnTo>
                      <a:pt x="976" y="2383"/>
                    </a:lnTo>
                    <a:lnTo>
                      <a:pt x="946" y="2390"/>
                    </a:lnTo>
                    <a:lnTo>
                      <a:pt x="958" y="2401"/>
                    </a:lnTo>
                    <a:lnTo>
                      <a:pt x="962" y="240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16680" y="3618000"/>
                <a:ext cx="452520" cy="633240"/>
              </a:xfrm>
              <a:custGeom>
                <a:avLst/>
                <a:gdLst/>
                <a:ahLst/>
                <a:rect l="l" t="t" r="r" b="b"/>
                <a:pathLst>
                  <a:path w="1710" h="2391">
                    <a:moveTo>
                      <a:pt x="574" y="0"/>
                    </a:moveTo>
                    <a:lnTo>
                      <a:pt x="534" y="4"/>
                    </a:lnTo>
                    <a:lnTo>
                      <a:pt x="495" y="9"/>
                    </a:lnTo>
                    <a:lnTo>
                      <a:pt x="456" y="14"/>
                    </a:lnTo>
                    <a:lnTo>
                      <a:pt x="418" y="22"/>
                    </a:lnTo>
                    <a:lnTo>
                      <a:pt x="381" y="30"/>
                    </a:lnTo>
                    <a:lnTo>
                      <a:pt x="344" y="40"/>
                    </a:lnTo>
                    <a:lnTo>
                      <a:pt x="307" y="50"/>
                    </a:lnTo>
                    <a:lnTo>
                      <a:pt x="270" y="62"/>
                    </a:lnTo>
                    <a:lnTo>
                      <a:pt x="235" y="75"/>
                    </a:lnTo>
                    <a:lnTo>
                      <a:pt x="200" y="89"/>
                    </a:lnTo>
                    <a:lnTo>
                      <a:pt x="165" y="104"/>
                    </a:lnTo>
                    <a:lnTo>
                      <a:pt x="131" y="119"/>
                    </a:lnTo>
                    <a:lnTo>
                      <a:pt x="97" y="136"/>
                    </a:lnTo>
                    <a:lnTo>
                      <a:pt x="65" y="155"/>
                    </a:lnTo>
                    <a:lnTo>
                      <a:pt x="32" y="173"/>
                    </a:lnTo>
                    <a:lnTo>
                      <a:pt x="0" y="193"/>
                    </a:lnTo>
                    <a:lnTo>
                      <a:pt x="0" y="221"/>
                    </a:lnTo>
                    <a:lnTo>
                      <a:pt x="34" y="199"/>
                    </a:lnTo>
                    <a:lnTo>
                      <a:pt x="68" y="178"/>
                    </a:lnTo>
                    <a:lnTo>
                      <a:pt x="103" y="160"/>
                    </a:lnTo>
                    <a:lnTo>
                      <a:pt x="139" y="141"/>
                    </a:lnTo>
                    <a:lnTo>
                      <a:pt x="175" y="124"/>
                    </a:lnTo>
                    <a:lnTo>
                      <a:pt x="211" y="108"/>
                    </a:lnTo>
                    <a:lnTo>
                      <a:pt x="250" y="94"/>
                    </a:lnTo>
                    <a:lnTo>
                      <a:pt x="288" y="80"/>
                    </a:lnTo>
                    <a:lnTo>
                      <a:pt x="327" y="68"/>
                    </a:lnTo>
                    <a:lnTo>
                      <a:pt x="366" y="57"/>
                    </a:lnTo>
                    <a:lnTo>
                      <a:pt x="405" y="48"/>
                    </a:lnTo>
                    <a:lnTo>
                      <a:pt x="446" y="40"/>
                    </a:lnTo>
                    <a:lnTo>
                      <a:pt x="486" y="33"/>
                    </a:lnTo>
                    <a:lnTo>
                      <a:pt x="528" y="28"/>
                    </a:lnTo>
                    <a:lnTo>
                      <a:pt x="569" y="24"/>
                    </a:lnTo>
                    <a:lnTo>
                      <a:pt x="612" y="21"/>
                    </a:lnTo>
                    <a:lnTo>
                      <a:pt x="612" y="20"/>
                    </a:lnTo>
                    <a:lnTo>
                      <a:pt x="574" y="0"/>
                    </a:lnTo>
                    <a:close/>
                    <a:moveTo>
                      <a:pt x="955" y="2391"/>
                    </a:moveTo>
                    <a:lnTo>
                      <a:pt x="985" y="2383"/>
                    </a:lnTo>
                    <a:lnTo>
                      <a:pt x="1015" y="2374"/>
                    </a:lnTo>
                    <a:lnTo>
                      <a:pt x="1044" y="2365"/>
                    </a:lnTo>
                    <a:lnTo>
                      <a:pt x="1073" y="2356"/>
                    </a:lnTo>
                    <a:lnTo>
                      <a:pt x="1102" y="2345"/>
                    </a:lnTo>
                    <a:lnTo>
                      <a:pt x="1130" y="2334"/>
                    </a:lnTo>
                    <a:lnTo>
                      <a:pt x="1158" y="2321"/>
                    </a:lnTo>
                    <a:lnTo>
                      <a:pt x="1186" y="2308"/>
                    </a:lnTo>
                    <a:lnTo>
                      <a:pt x="1213" y="2296"/>
                    </a:lnTo>
                    <a:lnTo>
                      <a:pt x="1239" y="2281"/>
                    </a:lnTo>
                    <a:lnTo>
                      <a:pt x="1266" y="2267"/>
                    </a:lnTo>
                    <a:lnTo>
                      <a:pt x="1292" y="2251"/>
                    </a:lnTo>
                    <a:lnTo>
                      <a:pt x="1318" y="2236"/>
                    </a:lnTo>
                    <a:lnTo>
                      <a:pt x="1343" y="2218"/>
                    </a:lnTo>
                    <a:lnTo>
                      <a:pt x="1367" y="2201"/>
                    </a:lnTo>
                    <a:lnTo>
                      <a:pt x="1391" y="2184"/>
                    </a:lnTo>
                    <a:lnTo>
                      <a:pt x="1414" y="2165"/>
                    </a:lnTo>
                    <a:lnTo>
                      <a:pt x="1439" y="2147"/>
                    </a:lnTo>
                    <a:lnTo>
                      <a:pt x="1461" y="2127"/>
                    </a:lnTo>
                    <a:lnTo>
                      <a:pt x="1484" y="2108"/>
                    </a:lnTo>
                    <a:lnTo>
                      <a:pt x="1506" y="2087"/>
                    </a:lnTo>
                    <a:lnTo>
                      <a:pt x="1526" y="2066"/>
                    </a:lnTo>
                    <a:lnTo>
                      <a:pt x="1547" y="2044"/>
                    </a:lnTo>
                    <a:lnTo>
                      <a:pt x="1568" y="2022"/>
                    </a:lnTo>
                    <a:lnTo>
                      <a:pt x="1587" y="1999"/>
                    </a:lnTo>
                    <a:lnTo>
                      <a:pt x="1607" y="1976"/>
                    </a:lnTo>
                    <a:lnTo>
                      <a:pt x="1626" y="1953"/>
                    </a:lnTo>
                    <a:lnTo>
                      <a:pt x="1643" y="1929"/>
                    </a:lnTo>
                    <a:lnTo>
                      <a:pt x="1661" y="1905"/>
                    </a:lnTo>
                    <a:lnTo>
                      <a:pt x="1677" y="1879"/>
                    </a:lnTo>
                    <a:lnTo>
                      <a:pt x="1694" y="1854"/>
                    </a:lnTo>
                    <a:lnTo>
                      <a:pt x="1710" y="1829"/>
                    </a:lnTo>
                    <a:lnTo>
                      <a:pt x="1698" y="1803"/>
                    </a:lnTo>
                    <a:lnTo>
                      <a:pt x="1682" y="1830"/>
                    </a:lnTo>
                    <a:lnTo>
                      <a:pt x="1666" y="1855"/>
                    </a:lnTo>
                    <a:lnTo>
                      <a:pt x="1650" y="1881"/>
                    </a:lnTo>
                    <a:lnTo>
                      <a:pt x="1632" y="1906"/>
                    </a:lnTo>
                    <a:lnTo>
                      <a:pt x="1614" y="1930"/>
                    </a:lnTo>
                    <a:lnTo>
                      <a:pt x="1596" y="1954"/>
                    </a:lnTo>
                    <a:lnTo>
                      <a:pt x="1576" y="1977"/>
                    </a:lnTo>
                    <a:lnTo>
                      <a:pt x="1556" y="2000"/>
                    </a:lnTo>
                    <a:lnTo>
                      <a:pt x="1536" y="2024"/>
                    </a:lnTo>
                    <a:lnTo>
                      <a:pt x="1515" y="2045"/>
                    </a:lnTo>
                    <a:lnTo>
                      <a:pt x="1494" y="2066"/>
                    </a:lnTo>
                    <a:lnTo>
                      <a:pt x="1472" y="2087"/>
                    </a:lnTo>
                    <a:lnTo>
                      <a:pt x="1449" y="2108"/>
                    </a:lnTo>
                    <a:lnTo>
                      <a:pt x="1426" y="2127"/>
                    </a:lnTo>
                    <a:lnTo>
                      <a:pt x="1403" y="2147"/>
                    </a:lnTo>
                    <a:lnTo>
                      <a:pt x="1379" y="2165"/>
                    </a:lnTo>
                    <a:lnTo>
                      <a:pt x="1355" y="2183"/>
                    </a:lnTo>
                    <a:lnTo>
                      <a:pt x="1329" y="2200"/>
                    </a:lnTo>
                    <a:lnTo>
                      <a:pt x="1304" y="2217"/>
                    </a:lnTo>
                    <a:lnTo>
                      <a:pt x="1278" y="2233"/>
                    </a:lnTo>
                    <a:lnTo>
                      <a:pt x="1252" y="2248"/>
                    </a:lnTo>
                    <a:lnTo>
                      <a:pt x="1225" y="2263"/>
                    </a:lnTo>
                    <a:lnTo>
                      <a:pt x="1198" y="2277"/>
                    </a:lnTo>
                    <a:lnTo>
                      <a:pt x="1170" y="2291"/>
                    </a:lnTo>
                    <a:lnTo>
                      <a:pt x="1142" y="2304"/>
                    </a:lnTo>
                    <a:lnTo>
                      <a:pt x="1113" y="2315"/>
                    </a:lnTo>
                    <a:lnTo>
                      <a:pt x="1086" y="2327"/>
                    </a:lnTo>
                    <a:lnTo>
                      <a:pt x="1056" y="2337"/>
                    </a:lnTo>
                    <a:lnTo>
                      <a:pt x="1027" y="2347"/>
                    </a:lnTo>
                    <a:lnTo>
                      <a:pt x="997" y="2357"/>
                    </a:lnTo>
                    <a:lnTo>
                      <a:pt x="967" y="2365"/>
                    </a:lnTo>
                    <a:lnTo>
                      <a:pt x="937" y="2372"/>
                    </a:lnTo>
                    <a:lnTo>
                      <a:pt x="955" y="239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16680" y="3621240"/>
                <a:ext cx="450720" cy="626760"/>
              </a:xfrm>
              <a:custGeom>
                <a:avLst/>
                <a:gdLst/>
                <a:ahLst/>
                <a:rect l="l" t="t" r="r" b="b"/>
                <a:pathLst>
                  <a:path w="1704" h="2370">
                    <a:moveTo>
                      <a:pt x="592" y="0"/>
                    </a:moveTo>
                    <a:lnTo>
                      <a:pt x="552" y="3"/>
                    </a:lnTo>
                    <a:lnTo>
                      <a:pt x="511" y="7"/>
                    </a:lnTo>
                    <a:lnTo>
                      <a:pt x="472" y="13"/>
                    </a:lnTo>
                    <a:lnTo>
                      <a:pt x="432" y="19"/>
                    </a:lnTo>
                    <a:lnTo>
                      <a:pt x="393" y="28"/>
                    </a:lnTo>
                    <a:lnTo>
                      <a:pt x="354" y="38"/>
                    </a:lnTo>
                    <a:lnTo>
                      <a:pt x="316" y="48"/>
                    </a:lnTo>
                    <a:lnTo>
                      <a:pt x="280" y="60"/>
                    </a:lnTo>
                    <a:lnTo>
                      <a:pt x="243" y="74"/>
                    </a:lnTo>
                    <a:lnTo>
                      <a:pt x="206" y="87"/>
                    </a:lnTo>
                    <a:lnTo>
                      <a:pt x="170" y="102"/>
                    </a:lnTo>
                    <a:lnTo>
                      <a:pt x="134" y="120"/>
                    </a:lnTo>
                    <a:lnTo>
                      <a:pt x="100" y="137"/>
                    </a:lnTo>
                    <a:lnTo>
                      <a:pt x="66" y="155"/>
                    </a:lnTo>
                    <a:lnTo>
                      <a:pt x="33" y="175"/>
                    </a:lnTo>
                    <a:lnTo>
                      <a:pt x="0" y="196"/>
                    </a:lnTo>
                    <a:lnTo>
                      <a:pt x="0" y="223"/>
                    </a:lnTo>
                    <a:lnTo>
                      <a:pt x="34" y="202"/>
                    </a:lnTo>
                    <a:lnTo>
                      <a:pt x="68" y="181"/>
                    </a:lnTo>
                    <a:lnTo>
                      <a:pt x="104" y="161"/>
                    </a:lnTo>
                    <a:lnTo>
                      <a:pt x="140" y="142"/>
                    </a:lnTo>
                    <a:lnTo>
                      <a:pt x="176" y="124"/>
                    </a:lnTo>
                    <a:lnTo>
                      <a:pt x="214" y="109"/>
                    </a:lnTo>
                    <a:lnTo>
                      <a:pt x="252" y="94"/>
                    </a:lnTo>
                    <a:lnTo>
                      <a:pt x="290" y="81"/>
                    </a:lnTo>
                    <a:lnTo>
                      <a:pt x="329" y="68"/>
                    </a:lnTo>
                    <a:lnTo>
                      <a:pt x="368" y="57"/>
                    </a:lnTo>
                    <a:lnTo>
                      <a:pt x="409" y="48"/>
                    </a:lnTo>
                    <a:lnTo>
                      <a:pt x="450" y="39"/>
                    </a:lnTo>
                    <a:lnTo>
                      <a:pt x="491" y="33"/>
                    </a:lnTo>
                    <a:lnTo>
                      <a:pt x="533" y="28"/>
                    </a:lnTo>
                    <a:lnTo>
                      <a:pt x="575" y="24"/>
                    </a:lnTo>
                    <a:lnTo>
                      <a:pt x="617" y="22"/>
                    </a:lnTo>
                    <a:lnTo>
                      <a:pt x="612" y="9"/>
                    </a:lnTo>
                    <a:lnTo>
                      <a:pt x="592" y="0"/>
                    </a:lnTo>
                    <a:close/>
                    <a:moveTo>
                      <a:pt x="946" y="2370"/>
                    </a:moveTo>
                    <a:lnTo>
                      <a:pt x="976" y="2363"/>
                    </a:lnTo>
                    <a:lnTo>
                      <a:pt x="1006" y="2354"/>
                    </a:lnTo>
                    <a:lnTo>
                      <a:pt x="1035" y="2346"/>
                    </a:lnTo>
                    <a:lnTo>
                      <a:pt x="1065" y="2335"/>
                    </a:lnTo>
                    <a:lnTo>
                      <a:pt x="1094" y="2325"/>
                    </a:lnTo>
                    <a:lnTo>
                      <a:pt x="1122" y="2313"/>
                    </a:lnTo>
                    <a:lnTo>
                      <a:pt x="1150" y="2302"/>
                    </a:lnTo>
                    <a:lnTo>
                      <a:pt x="1178" y="2288"/>
                    </a:lnTo>
                    <a:lnTo>
                      <a:pt x="1205" y="2275"/>
                    </a:lnTo>
                    <a:lnTo>
                      <a:pt x="1232" y="2262"/>
                    </a:lnTo>
                    <a:lnTo>
                      <a:pt x="1259" y="2247"/>
                    </a:lnTo>
                    <a:lnTo>
                      <a:pt x="1285" y="2232"/>
                    </a:lnTo>
                    <a:lnTo>
                      <a:pt x="1311" y="2215"/>
                    </a:lnTo>
                    <a:lnTo>
                      <a:pt x="1336" y="2198"/>
                    </a:lnTo>
                    <a:lnTo>
                      <a:pt x="1360" y="2181"/>
                    </a:lnTo>
                    <a:lnTo>
                      <a:pt x="1384" y="2164"/>
                    </a:lnTo>
                    <a:lnTo>
                      <a:pt x="1409" y="2145"/>
                    </a:lnTo>
                    <a:lnTo>
                      <a:pt x="1432" y="2126"/>
                    </a:lnTo>
                    <a:lnTo>
                      <a:pt x="1455" y="2106"/>
                    </a:lnTo>
                    <a:lnTo>
                      <a:pt x="1478" y="2086"/>
                    </a:lnTo>
                    <a:lnTo>
                      <a:pt x="1500" y="2066"/>
                    </a:lnTo>
                    <a:lnTo>
                      <a:pt x="1521" y="2045"/>
                    </a:lnTo>
                    <a:lnTo>
                      <a:pt x="1541" y="2023"/>
                    </a:lnTo>
                    <a:lnTo>
                      <a:pt x="1562" y="2000"/>
                    </a:lnTo>
                    <a:lnTo>
                      <a:pt x="1582" y="1978"/>
                    </a:lnTo>
                    <a:lnTo>
                      <a:pt x="1601" y="1955"/>
                    </a:lnTo>
                    <a:lnTo>
                      <a:pt x="1620" y="1931"/>
                    </a:lnTo>
                    <a:lnTo>
                      <a:pt x="1637" y="1906"/>
                    </a:lnTo>
                    <a:lnTo>
                      <a:pt x="1656" y="1882"/>
                    </a:lnTo>
                    <a:lnTo>
                      <a:pt x="1672" y="1857"/>
                    </a:lnTo>
                    <a:lnTo>
                      <a:pt x="1688" y="1832"/>
                    </a:lnTo>
                    <a:lnTo>
                      <a:pt x="1704" y="1805"/>
                    </a:lnTo>
                    <a:lnTo>
                      <a:pt x="1691" y="1780"/>
                    </a:lnTo>
                    <a:lnTo>
                      <a:pt x="1676" y="1806"/>
                    </a:lnTo>
                    <a:lnTo>
                      <a:pt x="1660" y="1833"/>
                    </a:lnTo>
                    <a:lnTo>
                      <a:pt x="1644" y="1858"/>
                    </a:lnTo>
                    <a:lnTo>
                      <a:pt x="1627" y="1883"/>
                    </a:lnTo>
                    <a:lnTo>
                      <a:pt x="1608" y="1908"/>
                    </a:lnTo>
                    <a:lnTo>
                      <a:pt x="1590" y="1932"/>
                    </a:lnTo>
                    <a:lnTo>
                      <a:pt x="1570" y="1956"/>
                    </a:lnTo>
                    <a:lnTo>
                      <a:pt x="1551" y="1979"/>
                    </a:lnTo>
                    <a:lnTo>
                      <a:pt x="1530" y="2002"/>
                    </a:lnTo>
                    <a:lnTo>
                      <a:pt x="1509" y="2024"/>
                    </a:lnTo>
                    <a:lnTo>
                      <a:pt x="1487" y="2046"/>
                    </a:lnTo>
                    <a:lnTo>
                      <a:pt x="1465" y="2067"/>
                    </a:lnTo>
                    <a:lnTo>
                      <a:pt x="1443" y="2086"/>
                    </a:lnTo>
                    <a:lnTo>
                      <a:pt x="1420" y="2107"/>
                    </a:lnTo>
                    <a:lnTo>
                      <a:pt x="1396" y="2126"/>
                    </a:lnTo>
                    <a:lnTo>
                      <a:pt x="1372" y="2145"/>
                    </a:lnTo>
                    <a:lnTo>
                      <a:pt x="1348" y="2162"/>
                    </a:lnTo>
                    <a:lnTo>
                      <a:pt x="1322" y="2180"/>
                    </a:lnTo>
                    <a:lnTo>
                      <a:pt x="1297" y="2197"/>
                    </a:lnTo>
                    <a:lnTo>
                      <a:pt x="1270" y="2213"/>
                    </a:lnTo>
                    <a:lnTo>
                      <a:pt x="1244" y="2228"/>
                    </a:lnTo>
                    <a:lnTo>
                      <a:pt x="1217" y="2243"/>
                    </a:lnTo>
                    <a:lnTo>
                      <a:pt x="1190" y="2257"/>
                    </a:lnTo>
                    <a:lnTo>
                      <a:pt x="1163" y="2271"/>
                    </a:lnTo>
                    <a:lnTo>
                      <a:pt x="1134" y="2283"/>
                    </a:lnTo>
                    <a:lnTo>
                      <a:pt x="1105" y="2295"/>
                    </a:lnTo>
                    <a:lnTo>
                      <a:pt x="1077" y="2306"/>
                    </a:lnTo>
                    <a:lnTo>
                      <a:pt x="1048" y="2317"/>
                    </a:lnTo>
                    <a:lnTo>
                      <a:pt x="1018" y="2327"/>
                    </a:lnTo>
                    <a:lnTo>
                      <a:pt x="988" y="2336"/>
                    </a:lnTo>
                    <a:lnTo>
                      <a:pt x="958" y="2345"/>
                    </a:lnTo>
                    <a:lnTo>
                      <a:pt x="928" y="2351"/>
                    </a:lnTo>
                    <a:lnTo>
                      <a:pt x="946" y="237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016680" y="3624120"/>
                <a:ext cx="449280" cy="621000"/>
              </a:xfrm>
              <a:custGeom>
                <a:avLst/>
                <a:gdLst/>
                <a:ahLst/>
                <a:rect l="l" t="t" r="r" b="b"/>
                <a:pathLst>
                  <a:path w="1698" h="2351">
                    <a:moveTo>
                      <a:pt x="612" y="0"/>
                    </a:moveTo>
                    <a:lnTo>
                      <a:pt x="569" y="3"/>
                    </a:lnTo>
                    <a:lnTo>
                      <a:pt x="528" y="7"/>
                    </a:lnTo>
                    <a:lnTo>
                      <a:pt x="486" y="12"/>
                    </a:lnTo>
                    <a:lnTo>
                      <a:pt x="446" y="19"/>
                    </a:lnTo>
                    <a:lnTo>
                      <a:pt x="405" y="27"/>
                    </a:lnTo>
                    <a:lnTo>
                      <a:pt x="366" y="36"/>
                    </a:lnTo>
                    <a:lnTo>
                      <a:pt x="327" y="47"/>
                    </a:lnTo>
                    <a:lnTo>
                      <a:pt x="288" y="59"/>
                    </a:lnTo>
                    <a:lnTo>
                      <a:pt x="250" y="73"/>
                    </a:lnTo>
                    <a:lnTo>
                      <a:pt x="211" y="87"/>
                    </a:lnTo>
                    <a:lnTo>
                      <a:pt x="175" y="103"/>
                    </a:lnTo>
                    <a:lnTo>
                      <a:pt x="139" y="120"/>
                    </a:lnTo>
                    <a:lnTo>
                      <a:pt x="103" y="139"/>
                    </a:lnTo>
                    <a:lnTo>
                      <a:pt x="68" y="157"/>
                    </a:lnTo>
                    <a:lnTo>
                      <a:pt x="34" y="178"/>
                    </a:lnTo>
                    <a:lnTo>
                      <a:pt x="0" y="200"/>
                    </a:lnTo>
                    <a:lnTo>
                      <a:pt x="0" y="226"/>
                    </a:lnTo>
                    <a:lnTo>
                      <a:pt x="34" y="204"/>
                    </a:lnTo>
                    <a:lnTo>
                      <a:pt x="70" y="184"/>
                    </a:lnTo>
                    <a:lnTo>
                      <a:pt x="104" y="163"/>
                    </a:lnTo>
                    <a:lnTo>
                      <a:pt x="141" y="144"/>
                    </a:lnTo>
                    <a:lnTo>
                      <a:pt x="178" y="127"/>
                    </a:lnTo>
                    <a:lnTo>
                      <a:pt x="215" y="110"/>
                    </a:lnTo>
                    <a:lnTo>
                      <a:pt x="253" y="95"/>
                    </a:lnTo>
                    <a:lnTo>
                      <a:pt x="292" y="81"/>
                    </a:lnTo>
                    <a:lnTo>
                      <a:pt x="331" y="69"/>
                    </a:lnTo>
                    <a:lnTo>
                      <a:pt x="372" y="58"/>
                    </a:lnTo>
                    <a:lnTo>
                      <a:pt x="412" y="49"/>
                    </a:lnTo>
                    <a:lnTo>
                      <a:pt x="454" y="41"/>
                    </a:lnTo>
                    <a:lnTo>
                      <a:pt x="495" y="34"/>
                    </a:lnTo>
                    <a:lnTo>
                      <a:pt x="538" y="28"/>
                    </a:lnTo>
                    <a:lnTo>
                      <a:pt x="581" y="24"/>
                    </a:lnTo>
                    <a:lnTo>
                      <a:pt x="623" y="22"/>
                    </a:lnTo>
                    <a:lnTo>
                      <a:pt x="612" y="0"/>
                    </a:lnTo>
                    <a:close/>
                    <a:moveTo>
                      <a:pt x="937" y="2351"/>
                    </a:moveTo>
                    <a:lnTo>
                      <a:pt x="967" y="2344"/>
                    </a:lnTo>
                    <a:lnTo>
                      <a:pt x="997" y="2336"/>
                    </a:lnTo>
                    <a:lnTo>
                      <a:pt x="1027" y="2326"/>
                    </a:lnTo>
                    <a:lnTo>
                      <a:pt x="1056" y="2316"/>
                    </a:lnTo>
                    <a:lnTo>
                      <a:pt x="1086" y="2306"/>
                    </a:lnTo>
                    <a:lnTo>
                      <a:pt x="1113" y="2294"/>
                    </a:lnTo>
                    <a:lnTo>
                      <a:pt x="1142" y="2283"/>
                    </a:lnTo>
                    <a:lnTo>
                      <a:pt x="1170" y="2270"/>
                    </a:lnTo>
                    <a:lnTo>
                      <a:pt x="1198" y="2256"/>
                    </a:lnTo>
                    <a:lnTo>
                      <a:pt x="1225" y="2242"/>
                    </a:lnTo>
                    <a:lnTo>
                      <a:pt x="1252" y="2227"/>
                    </a:lnTo>
                    <a:lnTo>
                      <a:pt x="1278" y="2212"/>
                    </a:lnTo>
                    <a:lnTo>
                      <a:pt x="1304" y="2196"/>
                    </a:lnTo>
                    <a:lnTo>
                      <a:pt x="1329" y="2179"/>
                    </a:lnTo>
                    <a:lnTo>
                      <a:pt x="1355" y="2162"/>
                    </a:lnTo>
                    <a:lnTo>
                      <a:pt x="1379" y="2144"/>
                    </a:lnTo>
                    <a:lnTo>
                      <a:pt x="1403" y="2126"/>
                    </a:lnTo>
                    <a:lnTo>
                      <a:pt x="1426" y="2106"/>
                    </a:lnTo>
                    <a:lnTo>
                      <a:pt x="1449" y="2087"/>
                    </a:lnTo>
                    <a:lnTo>
                      <a:pt x="1472" y="2066"/>
                    </a:lnTo>
                    <a:lnTo>
                      <a:pt x="1494" y="2045"/>
                    </a:lnTo>
                    <a:lnTo>
                      <a:pt x="1515" y="2024"/>
                    </a:lnTo>
                    <a:lnTo>
                      <a:pt x="1536" y="2003"/>
                    </a:lnTo>
                    <a:lnTo>
                      <a:pt x="1556" y="1979"/>
                    </a:lnTo>
                    <a:lnTo>
                      <a:pt x="1576" y="1956"/>
                    </a:lnTo>
                    <a:lnTo>
                      <a:pt x="1596" y="1933"/>
                    </a:lnTo>
                    <a:lnTo>
                      <a:pt x="1614" y="1909"/>
                    </a:lnTo>
                    <a:lnTo>
                      <a:pt x="1632" y="1885"/>
                    </a:lnTo>
                    <a:lnTo>
                      <a:pt x="1650" y="1860"/>
                    </a:lnTo>
                    <a:lnTo>
                      <a:pt x="1666" y="1834"/>
                    </a:lnTo>
                    <a:lnTo>
                      <a:pt x="1682" y="1809"/>
                    </a:lnTo>
                    <a:lnTo>
                      <a:pt x="1698" y="1782"/>
                    </a:lnTo>
                    <a:lnTo>
                      <a:pt x="1686" y="1758"/>
                    </a:lnTo>
                    <a:lnTo>
                      <a:pt x="1671" y="1785"/>
                    </a:lnTo>
                    <a:lnTo>
                      <a:pt x="1654" y="1811"/>
                    </a:lnTo>
                    <a:lnTo>
                      <a:pt x="1638" y="1837"/>
                    </a:lnTo>
                    <a:lnTo>
                      <a:pt x="1621" y="1862"/>
                    </a:lnTo>
                    <a:lnTo>
                      <a:pt x="1602" y="1887"/>
                    </a:lnTo>
                    <a:lnTo>
                      <a:pt x="1584" y="1911"/>
                    </a:lnTo>
                    <a:lnTo>
                      <a:pt x="1564" y="1936"/>
                    </a:lnTo>
                    <a:lnTo>
                      <a:pt x="1545" y="1959"/>
                    </a:lnTo>
                    <a:lnTo>
                      <a:pt x="1524" y="1982"/>
                    </a:lnTo>
                    <a:lnTo>
                      <a:pt x="1503" y="2004"/>
                    </a:lnTo>
                    <a:lnTo>
                      <a:pt x="1481" y="2026"/>
                    </a:lnTo>
                    <a:lnTo>
                      <a:pt x="1459" y="2046"/>
                    </a:lnTo>
                    <a:lnTo>
                      <a:pt x="1436" y="2067"/>
                    </a:lnTo>
                    <a:lnTo>
                      <a:pt x="1413" y="2087"/>
                    </a:lnTo>
                    <a:lnTo>
                      <a:pt x="1390" y="2106"/>
                    </a:lnTo>
                    <a:lnTo>
                      <a:pt x="1366" y="2125"/>
                    </a:lnTo>
                    <a:lnTo>
                      <a:pt x="1341" y="2143"/>
                    </a:lnTo>
                    <a:lnTo>
                      <a:pt x="1315" y="2160"/>
                    </a:lnTo>
                    <a:lnTo>
                      <a:pt x="1290" y="2178"/>
                    </a:lnTo>
                    <a:lnTo>
                      <a:pt x="1263" y="2194"/>
                    </a:lnTo>
                    <a:lnTo>
                      <a:pt x="1237" y="2209"/>
                    </a:lnTo>
                    <a:lnTo>
                      <a:pt x="1210" y="2224"/>
                    </a:lnTo>
                    <a:lnTo>
                      <a:pt x="1183" y="2239"/>
                    </a:lnTo>
                    <a:lnTo>
                      <a:pt x="1155" y="2252"/>
                    </a:lnTo>
                    <a:lnTo>
                      <a:pt x="1126" y="2264"/>
                    </a:lnTo>
                    <a:lnTo>
                      <a:pt x="1097" y="2277"/>
                    </a:lnTo>
                    <a:lnTo>
                      <a:pt x="1068" y="2287"/>
                    </a:lnTo>
                    <a:lnTo>
                      <a:pt x="1040" y="2298"/>
                    </a:lnTo>
                    <a:lnTo>
                      <a:pt x="1010" y="2308"/>
                    </a:lnTo>
                    <a:lnTo>
                      <a:pt x="980" y="2317"/>
                    </a:lnTo>
                    <a:lnTo>
                      <a:pt x="949" y="2325"/>
                    </a:lnTo>
                    <a:lnTo>
                      <a:pt x="917" y="2332"/>
                    </a:lnTo>
                    <a:lnTo>
                      <a:pt x="937" y="235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16680" y="3625920"/>
                <a:ext cx="447480" cy="617400"/>
              </a:xfrm>
              <a:custGeom>
                <a:avLst/>
                <a:gdLst/>
                <a:ahLst/>
                <a:rect l="l" t="t" r="r" b="b"/>
                <a:pathLst>
                  <a:path w="1691" h="2329">
                    <a:moveTo>
                      <a:pt x="617" y="0"/>
                    </a:moveTo>
                    <a:lnTo>
                      <a:pt x="575" y="2"/>
                    </a:lnTo>
                    <a:lnTo>
                      <a:pt x="533" y="6"/>
                    </a:lnTo>
                    <a:lnTo>
                      <a:pt x="491" y="11"/>
                    </a:lnTo>
                    <a:lnTo>
                      <a:pt x="450" y="17"/>
                    </a:lnTo>
                    <a:lnTo>
                      <a:pt x="409" y="26"/>
                    </a:lnTo>
                    <a:lnTo>
                      <a:pt x="368" y="35"/>
                    </a:lnTo>
                    <a:lnTo>
                      <a:pt x="329" y="46"/>
                    </a:lnTo>
                    <a:lnTo>
                      <a:pt x="290" y="59"/>
                    </a:lnTo>
                    <a:lnTo>
                      <a:pt x="252" y="72"/>
                    </a:lnTo>
                    <a:lnTo>
                      <a:pt x="214" y="86"/>
                    </a:lnTo>
                    <a:lnTo>
                      <a:pt x="176" y="102"/>
                    </a:lnTo>
                    <a:lnTo>
                      <a:pt x="140" y="120"/>
                    </a:lnTo>
                    <a:lnTo>
                      <a:pt x="104" y="138"/>
                    </a:lnTo>
                    <a:lnTo>
                      <a:pt x="68" y="158"/>
                    </a:lnTo>
                    <a:lnTo>
                      <a:pt x="34" y="180"/>
                    </a:lnTo>
                    <a:lnTo>
                      <a:pt x="0" y="201"/>
                    </a:lnTo>
                    <a:lnTo>
                      <a:pt x="0" y="215"/>
                    </a:lnTo>
                    <a:lnTo>
                      <a:pt x="0" y="228"/>
                    </a:lnTo>
                    <a:lnTo>
                      <a:pt x="35" y="206"/>
                    </a:lnTo>
                    <a:lnTo>
                      <a:pt x="70" y="184"/>
                    </a:lnTo>
                    <a:lnTo>
                      <a:pt x="105" y="163"/>
                    </a:lnTo>
                    <a:lnTo>
                      <a:pt x="141" y="145"/>
                    </a:lnTo>
                    <a:lnTo>
                      <a:pt x="179" y="127"/>
                    </a:lnTo>
                    <a:lnTo>
                      <a:pt x="217" y="110"/>
                    </a:lnTo>
                    <a:lnTo>
                      <a:pt x="255" y="94"/>
                    </a:lnTo>
                    <a:lnTo>
                      <a:pt x="295" y="80"/>
                    </a:lnTo>
                    <a:lnTo>
                      <a:pt x="335" y="68"/>
                    </a:lnTo>
                    <a:lnTo>
                      <a:pt x="375" y="57"/>
                    </a:lnTo>
                    <a:lnTo>
                      <a:pt x="417" y="47"/>
                    </a:lnTo>
                    <a:lnTo>
                      <a:pt x="458" y="39"/>
                    </a:lnTo>
                    <a:lnTo>
                      <a:pt x="500" y="32"/>
                    </a:lnTo>
                    <a:lnTo>
                      <a:pt x="544" y="27"/>
                    </a:lnTo>
                    <a:lnTo>
                      <a:pt x="586" y="24"/>
                    </a:lnTo>
                    <a:lnTo>
                      <a:pt x="630" y="22"/>
                    </a:lnTo>
                    <a:lnTo>
                      <a:pt x="617" y="0"/>
                    </a:lnTo>
                    <a:close/>
                    <a:moveTo>
                      <a:pt x="928" y="2329"/>
                    </a:moveTo>
                    <a:lnTo>
                      <a:pt x="958" y="2323"/>
                    </a:lnTo>
                    <a:lnTo>
                      <a:pt x="988" y="2314"/>
                    </a:lnTo>
                    <a:lnTo>
                      <a:pt x="1018" y="2305"/>
                    </a:lnTo>
                    <a:lnTo>
                      <a:pt x="1048" y="2295"/>
                    </a:lnTo>
                    <a:lnTo>
                      <a:pt x="1077" y="2284"/>
                    </a:lnTo>
                    <a:lnTo>
                      <a:pt x="1105" y="2273"/>
                    </a:lnTo>
                    <a:lnTo>
                      <a:pt x="1134" y="2261"/>
                    </a:lnTo>
                    <a:lnTo>
                      <a:pt x="1163" y="2249"/>
                    </a:lnTo>
                    <a:lnTo>
                      <a:pt x="1190" y="2235"/>
                    </a:lnTo>
                    <a:lnTo>
                      <a:pt x="1217" y="2221"/>
                    </a:lnTo>
                    <a:lnTo>
                      <a:pt x="1244" y="2206"/>
                    </a:lnTo>
                    <a:lnTo>
                      <a:pt x="1270" y="2191"/>
                    </a:lnTo>
                    <a:lnTo>
                      <a:pt x="1297" y="2175"/>
                    </a:lnTo>
                    <a:lnTo>
                      <a:pt x="1322" y="2158"/>
                    </a:lnTo>
                    <a:lnTo>
                      <a:pt x="1348" y="2140"/>
                    </a:lnTo>
                    <a:lnTo>
                      <a:pt x="1372" y="2123"/>
                    </a:lnTo>
                    <a:lnTo>
                      <a:pt x="1396" y="2104"/>
                    </a:lnTo>
                    <a:lnTo>
                      <a:pt x="1420" y="2085"/>
                    </a:lnTo>
                    <a:lnTo>
                      <a:pt x="1443" y="2065"/>
                    </a:lnTo>
                    <a:lnTo>
                      <a:pt x="1465" y="2045"/>
                    </a:lnTo>
                    <a:lnTo>
                      <a:pt x="1487" y="2024"/>
                    </a:lnTo>
                    <a:lnTo>
                      <a:pt x="1509" y="2002"/>
                    </a:lnTo>
                    <a:lnTo>
                      <a:pt x="1530" y="1980"/>
                    </a:lnTo>
                    <a:lnTo>
                      <a:pt x="1551" y="1957"/>
                    </a:lnTo>
                    <a:lnTo>
                      <a:pt x="1570" y="1934"/>
                    </a:lnTo>
                    <a:lnTo>
                      <a:pt x="1590" y="1910"/>
                    </a:lnTo>
                    <a:lnTo>
                      <a:pt x="1608" y="1886"/>
                    </a:lnTo>
                    <a:lnTo>
                      <a:pt x="1627" y="1861"/>
                    </a:lnTo>
                    <a:lnTo>
                      <a:pt x="1644" y="1836"/>
                    </a:lnTo>
                    <a:lnTo>
                      <a:pt x="1660" y="1811"/>
                    </a:lnTo>
                    <a:lnTo>
                      <a:pt x="1676" y="1784"/>
                    </a:lnTo>
                    <a:lnTo>
                      <a:pt x="1691" y="1758"/>
                    </a:lnTo>
                    <a:lnTo>
                      <a:pt x="1686" y="1745"/>
                    </a:lnTo>
                    <a:lnTo>
                      <a:pt x="1677" y="1737"/>
                    </a:lnTo>
                    <a:lnTo>
                      <a:pt x="1662" y="1765"/>
                    </a:lnTo>
                    <a:lnTo>
                      <a:pt x="1646" y="1791"/>
                    </a:lnTo>
                    <a:lnTo>
                      <a:pt x="1629" y="1816"/>
                    </a:lnTo>
                    <a:lnTo>
                      <a:pt x="1612" y="1842"/>
                    </a:lnTo>
                    <a:lnTo>
                      <a:pt x="1594" y="1867"/>
                    </a:lnTo>
                    <a:lnTo>
                      <a:pt x="1576" y="1891"/>
                    </a:lnTo>
                    <a:lnTo>
                      <a:pt x="1556" y="1916"/>
                    </a:lnTo>
                    <a:lnTo>
                      <a:pt x="1537" y="1939"/>
                    </a:lnTo>
                    <a:lnTo>
                      <a:pt x="1516" y="1962"/>
                    </a:lnTo>
                    <a:lnTo>
                      <a:pt x="1495" y="1984"/>
                    </a:lnTo>
                    <a:lnTo>
                      <a:pt x="1473" y="2006"/>
                    </a:lnTo>
                    <a:lnTo>
                      <a:pt x="1451" y="2026"/>
                    </a:lnTo>
                    <a:lnTo>
                      <a:pt x="1428" y="2047"/>
                    </a:lnTo>
                    <a:lnTo>
                      <a:pt x="1405" y="2067"/>
                    </a:lnTo>
                    <a:lnTo>
                      <a:pt x="1381" y="2086"/>
                    </a:lnTo>
                    <a:lnTo>
                      <a:pt x="1357" y="2105"/>
                    </a:lnTo>
                    <a:lnTo>
                      <a:pt x="1333" y="2123"/>
                    </a:lnTo>
                    <a:lnTo>
                      <a:pt x="1307" y="2140"/>
                    </a:lnTo>
                    <a:lnTo>
                      <a:pt x="1282" y="2158"/>
                    </a:lnTo>
                    <a:lnTo>
                      <a:pt x="1255" y="2174"/>
                    </a:lnTo>
                    <a:lnTo>
                      <a:pt x="1229" y="2189"/>
                    </a:lnTo>
                    <a:lnTo>
                      <a:pt x="1201" y="2204"/>
                    </a:lnTo>
                    <a:lnTo>
                      <a:pt x="1173" y="2218"/>
                    </a:lnTo>
                    <a:lnTo>
                      <a:pt x="1146" y="2231"/>
                    </a:lnTo>
                    <a:lnTo>
                      <a:pt x="1117" y="2244"/>
                    </a:lnTo>
                    <a:lnTo>
                      <a:pt x="1088" y="2256"/>
                    </a:lnTo>
                    <a:lnTo>
                      <a:pt x="1059" y="2267"/>
                    </a:lnTo>
                    <a:lnTo>
                      <a:pt x="1030" y="2278"/>
                    </a:lnTo>
                    <a:lnTo>
                      <a:pt x="1000" y="2287"/>
                    </a:lnTo>
                    <a:lnTo>
                      <a:pt x="969" y="2296"/>
                    </a:lnTo>
                    <a:lnTo>
                      <a:pt x="939" y="2303"/>
                    </a:lnTo>
                    <a:lnTo>
                      <a:pt x="908" y="2311"/>
                    </a:lnTo>
                    <a:lnTo>
                      <a:pt x="928" y="23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016680" y="3629160"/>
                <a:ext cx="446040" cy="610920"/>
              </a:xfrm>
              <a:custGeom>
                <a:avLst/>
                <a:gdLst/>
                <a:ahLst/>
                <a:rect l="l" t="t" r="r" b="b"/>
                <a:pathLst>
                  <a:path w="1686" h="2310">
                    <a:moveTo>
                      <a:pt x="624" y="0"/>
                    </a:moveTo>
                    <a:lnTo>
                      <a:pt x="581" y="2"/>
                    </a:lnTo>
                    <a:lnTo>
                      <a:pt x="538" y="6"/>
                    </a:lnTo>
                    <a:lnTo>
                      <a:pt x="495" y="12"/>
                    </a:lnTo>
                    <a:lnTo>
                      <a:pt x="454" y="19"/>
                    </a:lnTo>
                    <a:lnTo>
                      <a:pt x="412" y="27"/>
                    </a:lnTo>
                    <a:lnTo>
                      <a:pt x="372" y="36"/>
                    </a:lnTo>
                    <a:lnTo>
                      <a:pt x="331" y="47"/>
                    </a:lnTo>
                    <a:lnTo>
                      <a:pt x="292" y="59"/>
                    </a:lnTo>
                    <a:lnTo>
                      <a:pt x="253" y="73"/>
                    </a:lnTo>
                    <a:lnTo>
                      <a:pt x="215" y="89"/>
                    </a:lnTo>
                    <a:lnTo>
                      <a:pt x="178" y="105"/>
                    </a:lnTo>
                    <a:lnTo>
                      <a:pt x="141" y="122"/>
                    </a:lnTo>
                    <a:lnTo>
                      <a:pt x="104" y="141"/>
                    </a:lnTo>
                    <a:lnTo>
                      <a:pt x="70" y="162"/>
                    </a:lnTo>
                    <a:lnTo>
                      <a:pt x="34" y="182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33"/>
                    </a:lnTo>
                    <a:lnTo>
                      <a:pt x="35" y="209"/>
                    </a:lnTo>
                    <a:lnTo>
                      <a:pt x="70" y="187"/>
                    </a:lnTo>
                    <a:lnTo>
                      <a:pt x="105" y="166"/>
                    </a:lnTo>
                    <a:lnTo>
                      <a:pt x="142" y="147"/>
                    </a:lnTo>
                    <a:lnTo>
                      <a:pt x="180" y="128"/>
                    </a:lnTo>
                    <a:lnTo>
                      <a:pt x="218" y="112"/>
                    </a:lnTo>
                    <a:lnTo>
                      <a:pt x="258" y="96"/>
                    </a:lnTo>
                    <a:lnTo>
                      <a:pt x="297" y="82"/>
                    </a:lnTo>
                    <a:lnTo>
                      <a:pt x="337" y="69"/>
                    </a:lnTo>
                    <a:lnTo>
                      <a:pt x="379" y="58"/>
                    </a:lnTo>
                    <a:lnTo>
                      <a:pt x="420" y="49"/>
                    </a:lnTo>
                    <a:lnTo>
                      <a:pt x="463" y="39"/>
                    </a:lnTo>
                    <a:lnTo>
                      <a:pt x="506" y="34"/>
                    </a:lnTo>
                    <a:lnTo>
                      <a:pt x="548" y="28"/>
                    </a:lnTo>
                    <a:lnTo>
                      <a:pt x="592" y="24"/>
                    </a:lnTo>
                    <a:lnTo>
                      <a:pt x="636" y="23"/>
                    </a:lnTo>
                    <a:lnTo>
                      <a:pt x="624" y="0"/>
                    </a:lnTo>
                    <a:close/>
                    <a:moveTo>
                      <a:pt x="917" y="2310"/>
                    </a:moveTo>
                    <a:lnTo>
                      <a:pt x="949" y="2303"/>
                    </a:lnTo>
                    <a:lnTo>
                      <a:pt x="980" y="2295"/>
                    </a:lnTo>
                    <a:lnTo>
                      <a:pt x="1010" y="2286"/>
                    </a:lnTo>
                    <a:lnTo>
                      <a:pt x="1040" y="2276"/>
                    </a:lnTo>
                    <a:lnTo>
                      <a:pt x="1068" y="2265"/>
                    </a:lnTo>
                    <a:lnTo>
                      <a:pt x="1097" y="2255"/>
                    </a:lnTo>
                    <a:lnTo>
                      <a:pt x="1126" y="2242"/>
                    </a:lnTo>
                    <a:lnTo>
                      <a:pt x="1155" y="2230"/>
                    </a:lnTo>
                    <a:lnTo>
                      <a:pt x="1183" y="2217"/>
                    </a:lnTo>
                    <a:lnTo>
                      <a:pt x="1210" y="2202"/>
                    </a:lnTo>
                    <a:lnTo>
                      <a:pt x="1237" y="2187"/>
                    </a:lnTo>
                    <a:lnTo>
                      <a:pt x="1263" y="2172"/>
                    </a:lnTo>
                    <a:lnTo>
                      <a:pt x="1290" y="2156"/>
                    </a:lnTo>
                    <a:lnTo>
                      <a:pt x="1315" y="2138"/>
                    </a:lnTo>
                    <a:lnTo>
                      <a:pt x="1341" y="2121"/>
                    </a:lnTo>
                    <a:lnTo>
                      <a:pt x="1366" y="2103"/>
                    </a:lnTo>
                    <a:lnTo>
                      <a:pt x="1390" y="2084"/>
                    </a:lnTo>
                    <a:lnTo>
                      <a:pt x="1413" y="2065"/>
                    </a:lnTo>
                    <a:lnTo>
                      <a:pt x="1436" y="2045"/>
                    </a:lnTo>
                    <a:lnTo>
                      <a:pt x="1459" y="2024"/>
                    </a:lnTo>
                    <a:lnTo>
                      <a:pt x="1481" y="2004"/>
                    </a:lnTo>
                    <a:lnTo>
                      <a:pt x="1503" y="1982"/>
                    </a:lnTo>
                    <a:lnTo>
                      <a:pt x="1524" y="1960"/>
                    </a:lnTo>
                    <a:lnTo>
                      <a:pt x="1545" y="1937"/>
                    </a:lnTo>
                    <a:lnTo>
                      <a:pt x="1564" y="1913"/>
                    </a:lnTo>
                    <a:lnTo>
                      <a:pt x="1584" y="1889"/>
                    </a:lnTo>
                    <a:lnTo>
                      <a:pt x="1602" y="1865"/>
                    </a:lnTo>
                    <a:lnTo>
                      <a:pt x="1621" y="1840"/>
                    </a:lnTo>
                    <a:lnTo>
                      <a:pt x="1638" y="1815"/>
                    </a:lnTo>
                    <a:lnTo>
                      <a:pt x="1654" y="1789"/>
                    </a:lnTo>
                    <a:lnTo>
                      <a:pt x="1671" y="1763"/>
                    </a:lnTo>
                    <a:lnTo>
                      <a:pt x="1686" y="1735"/>
                    </a:lnTo>
                    <a:lnTo>
                      <a:pt x="1686" y="1735"/>
                    </a:lnTo>
                    <a:lnTo>
                      <a:pt x="1669" y="1719"/>
                    </a:lnTo>
                    <a:lnTo>
                      <a:pt x="1653" y="1747"/>
                    </a:lnTo>
                    <a:lnTo>
                      <a:pt x="1638" y="1773"/>
                    </a:lnTo>
                    <a:lnTo>
                      <a:pt x="1621" y="1798"/>
                    </a:lnTo>
                    <a:lnTo>
                      <a:pt x="1604" y="1824"/>
                    </a:lnTo>
                    <a:lnTo>
                      <a:pt x="1586" y="1849"/>
                    </a:lnTo>
                    <a:lnTo>
                      <a:pt x="1568" y="1873"/>
                    </a:lnTo>
                    <a:lnTo>
                      <a:pt x="1548" y="1898"/>
                    </a:lnTo>
                    <a:lnTo>
                      <a:pt x="1529" y="1921"/>
                    </a:lnTo>
                    <a:lnTo>
                      <a:pt x="1508" y="1944"/>
                    </a:lnTo>
                    <a:lnTo>
                      <a:pt x="1487" y="1966"/>
                    </a:lnTo>
                    <a:lnTo>
                      <a:pt x="1465" y="1987"/>
                    </a:lnTo>
                    <a:lnTo>
                      <a:pt x="1443" y="2009"/>
                    </a:lnTo>
                    <a:lnTo>
                      <a:pt x="1420" y="2030"/>
                    </a:lnTo>
                    <a:lnTo>
                      <a:pt x="1397" y="2050"/>
                    </a:lnTo>
                    <a:lnTo>
                      <a:pt x="1373" y="2069"/>
                    </a:lnTo>
                    <a:lnTo>
                      <a:pt x="1349" y="2088"/>
                    </a:lnTo>
                    <a:lnTo>
                      <a:pt x="1325" y="2105"/>
                    </a:lnTo>
                    <a:lnTo>
                      <a:pt x="1299" y="2123"/>
                    </a:lnTo>
                    <a:lnTo>
                      <a:pt x="1273" y="2140"/>
                    </a:lnTo>
                    <a:lnTo>
                      <a:pt x="1246" y="2156"/>
                    </a:lnTo>
                    <a:lnTo>
                      <a:pt x="1220" y="2171"/>
                    </a:lnTo>
                    <a:lnTo>
                      <a:pt x="1193" y="2186"/>
                    </a:lnTo>
                    <a:lnTo>
                      <a:pt x="1165" y="2200"/>
                    </a:lnTo>
                    <a:lnTo>
                      <a:pt x="1137" y="2213"/>
                    </a:lnTo>
                    <a:lnTo>
                      <a:pt x="1109" y="2226"/>
                    </a:lnTo>
                    <a:lnTo>
                      <a:pt x="1080" y="2238"/>
                    </a:lnTo>
                    <a:lnTo>
                      <a:pt x="1050" y="2248"/>
                    </a:lnTo>
                    <a:lnTo>
                      <a:pt x="1021" y="2258"/>
                    </a:lnTo>
                    <a:lnTo>
                      <a:pt x="990" y="2268"/>
                    </a:lnTo>
                    <a:lnTo>
                      <a:pt x="960" y="2277"/>
                    </a:lnTo>
                    <a:lnTo>
                      <a:pt x="930" y="2284"/>
                    </a:lnTo>
                    <a:lnTo>
                      <a:pt x="899" y="2291"/>
                    </a:lnTo>
                    <a:lnTo>
                      <a:pt x="917" y="231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16680" y="3632040"/>
                <a:ext cx="444600" cy="606600"/>
              </a:xfrm>
              <a:custGeom>
                <a:avLst/>
                <a:gdLst/>
                <a:ahLst/>
                <a:rect l="l" t="t" r="r" b="b"/>
                <a:pathLst>
                  <a:path w="1677" h="2289">
                    <a:moveTo>
                      <a:pt x="630" y="0"/>
                    </a:moveTo>
                    <a:lnTo>
                      <a:pt x="586" y="2"/>
                    </a:lnTo>
                    <a:lnTo>
                      <a:pt x="544" y="5"/>
                    </a:lnTo>
                    <a:lnTo>
                      <a:pt x="500" y="10"/>
                    </a:lnTo>
                    <a:lnTo>
                      <a:pt x="458" y="17"/>
                    </a:lnTo>
                    <a:lnTo>
                      <a:pt x="417" y="25"/>
                    </a:lnTo>
                    <a:lnTo>
                      <a:pt x="375" y="35"/>
                    </a:lnTo>
                    <a:lnTo>
                      <a:pt x="335" y="46"/>
                    </a:lnTo>
                    <a:lnTo>
                      <a:pt x="295" y="58"/>
                    </a:lnTo>
                    <a:lnTo>
                      <a:pt x="255" y="72"/>
                    </a:lnTo>
                    <a:lnTo>
                      <a:pt x="217" y="88"/>
                    </a:lnTo>
                    <a:lnTo>
                      <a:pt x="179" y="105"/>
                    </a:lnTo>
                    <a:lnTo>
                      <a:pt x="141" y="123"/>
                    </a:lnTo>
                    <a:lnTo>
                      <a:pt x="105" y="141"/>
                    </a:lnTo>
                    <a:lnTo>
                      <a:pt x="70" y="162"/>
                    </a:lnTo>
                    <a:lnTo>
                      <a:pt x="35" y="184"/>
                    </a:lnTo>
                    <a:lnTo>
                      <a:pt x="0" y="206"/>
                    </a:lnTo>
                    <a:lnTo>
                      <a:pt x="0" y="235"/>
                    </a:lnTo>
                    <a:lnTo>
                      <a:pt x="35" y="211"/>
                    </a:lnTo>
                    <a:lnTo>
                      <a:pt x="71" y="189"/>
                    </a:lnTo>
                    <a:lnTo>
                      <a:pt x="107" y="167"/>
                    </a:lnTo>
                    <a:lnTo>
                      <a:pt x="143" y="147"/>
                    </a:lnTo>
                    <a:lnTo>
                      <a:pt x="181" y="129"/>
                    </a:lnTo>
                    <a:lnTo>
                      <a:pt x="221" y="111"/>
                    </a:lnTo>
                    <a:lnTo>
                      <a:pt x="260" y="95"/>
                    </a:lnTo>
                    <a:lnTo>
                      <a:pt x="299" y="81"/>
                    </a:lnTo>
                    <a:lnTo>
                      <a:pt x="341" y="68"/>
                    </a:lnTo>
                    <a:lnTo>
                      <a:pt x="382" y="57"/>
                    </a:lnTo>
                    <a:lnTo>
                      <a:pt x="424" y="47"/>
                    </a:lnTo>
                    <a:lnTo>
                      <a:pt x="466" y="39"/>
                    </a:lnTo>
                    <a:lnTo>
                      <a:pt x="510" y="32"/>
                    </a:lnTo>
                    <a:lnTo>
                      <a:pt x="553" y="27"/>
                    </a:lnTo>
                    <a:lnTo>
                      <a:pt x="598" y="24"/>
                    </a:lnTo>
                    <a:lnTo>
                      <a:pt x="643" y="22"/>
                    </a:lnTo>
                    <a:lnTo>
                      <a:pt x="630" y="0"/>
                    </a:lnTo>
                    <a:close/>
                    <a:moveTo>
                      <a:pt x="908" y="2289"/>
                    </a:moveTo>
                    <a:lnTo>
                      <a:pt x="939" y="2281"/>
                    </a:lnTo>
                    <a:lnTo>
                      <a:pt x="969" y="2274"/>
                    </a:lnTo>
                    <a:lnTo>
                      <a:pt x="1000" y="2265"/>
                    </a:lnTo>
                    <a:lnTo>
                      <a:pt x="1030" y="2256"/>
                    </a:lnTo>
                    <a:lnTo>
                      <a:pt x="1059" y="2245"/>
                    </a:lnTo>
                    <a:lnTo>
                      <a:pt x="1088" y="2234"/>
                    </a:lnTo>
                    <a:lnTo>
                      <a:pt x="1117" y="2222"/>
                    </a:lnTo>
                    <a:lnTo>
                      <a:pt x="1146" y="2209"/>
                    </a:lnTo>
                    <a:lnTo>
                      <a:pt x="1173" y="2196"/>
                    </a:lnTo>
                    <a:lnTo>
                      <a:pt x="1201" y="2182"/>
                    </a:lnTo>
                    <a:lnTo>
                      <a:pt x="1229" y="2167"/>
                    </a:lnTo>
                    <a:lnTo>
                      <a:pt x="1255" y="2152"/>
                    </a:lnTo>
                    <a:lnTo>
                      <a:pt x="1282" y="2136"/>
                    </a:lnTo>
                    <a:lnTo>
                      <a:pt x="1307" y="2118"/>
                    </a:lnTo>
                    <a:lnTo>
                      <a:pt x="1333" y="2101"/>
                    </a:lnTo>
                    <a:lnTo>
                      <a:pt x="1357" y="2083"/>
                    </a:lnTo>
                    <a:lnTo>
                      <a:pt x="1381" y="2064"/>
                    </a:lnTo>
                    <a:lnTo>
                      <a:pt x="1405" y="2045"/>
                    </a:lnTo>
                    <a:lnTo>
                      <a:pt x="1428" y="2025"/>
                    </a:lnTo>
                    <a:lnTo>
                      <a:pt x="1451" y="2004"/>
                    </a:lnTo>
                    <a:lnTo>
                      <a:pt x="1473" y="1984"/>
                    </a:lnTo>
                    <a:lnTo>
                      <a:pt x="1495" y="1962"/>
                    </a:lnTo>
                    <a:lnTo>
                      <a:pt x="1516" y="1940"/>
                    </a:lnTo>
                    <a:lnTo>
                      <a:pt x="1537" y="1917"/>
                    </a:lnTo>
                    <a:lnTo>
                      <a:pt x="1556" y="1894"/>
                    </a:lnTo>
                    <a:lnTo>
                      <a:pt x="1576" y="1869"/>
                    </a:lnTo>
                    <a:lnTo>
                      <a:pt x="1594" y="1845"/>
                    </a:lnTo>
                    <a:lnTo>
                      <a:pt x="1612" y="1820"/>
                    </a:lnTo>
                    <a:lnTo>
                      <a:pt x="1629" y="1794"/>
                    </a:lnTo>
                    <a:lnTo>
                      <a:pt x="1646" y="1769"/>
                    </a:lnTo>
                    <a:lnTo>
                      <a:pt x="1662" y="1743"/>
                    </a:lnTo>
                    <a:lnTo>
                      <a:pt x="1677" y="1715"/>
                    </a:lnTo>
                    <a:lnTo>
                      <a:pt x="1660" y="1699"/>
                    </a:lnTo>
                    <a:lnTo>
                      <a:pt x="1645" y="1726"/>
                    </a:lnTo>
                    <a:lnTo>
                      <a:pt x="1629" y="1753"/>
                    </a:lnTo>
                    <a:lnTo>
                      <a:pt x="1613" y="1778"/>
                    </a:lnTo>
                    <a:lnTo>
                      <a:pt x="1596" y="1804"/>
                    </a:lnTo>
                    <a:lnTo>
                      <a:pt x="1577" y="1829"/>
                    </a:lnTo>
                    <a:lnTo>
                      <a:pt x="1559" y="1853"/>
                    </a:lnTo>
                    <a:lnTo>
                      <a:pt x="1540" y="1877"/>
                    </a:lnTo>
                    <a:lnTo>
                      <a:pt x="1521" y="1901"/>
                    </a:lnTo>
                    <a:lnTo>
                      <a:pt x="1500" y="1924"/>
                    </a:lnTo>
                    <a:lnTo>
                      <a:pt x="1478" y="1947"/>
                    </a:lnTo>
                    <a:lnTo>
                      <a:pt x="1457" y="1969"/>
                    </a:lnTo>
                    <a:lnTo>
                      <a:pt x="1435" y="1989"/>
                    </a:lnTo>
                    <a:lnTo>
                      <a:pt x="1412" y="2010"/>
                    </a:lnTo>
                    <a:lnTo>
                      <a:pt x="1389" y="2030"/>
                    </a:lnTo>
                    <a:lnTo>
                      <a:pt x="1365" y="2049"/>
                    </a:lnTo>
                    <a:lnTo>
                      <a:pt x="1341" y="2068"/>
                    </a:lnTo>
                    <a:lnTo>
                      <a:pt x="1315" y="2086"/>
                    </a:lnTo>
                    <a:lnTo>
                      <a:pt x="1290" y="2103"/>
                    </a:lnTo>
                    <a:lnTo>
                      <a:pt x="1265" y="2120"/>
                    </a:lnTo>
                    <a:lnTo>
                      <a:pt x="1238" y="2136"/>
                    </a:lnTo>
                    <a:lnTo>
                      <a:pt x="1210" y="2151"/>
                    </a:lnTo>
                    <a:lnTo>
                      <a:pt x="1184" y="2166"/>
                    </a:lnTo>
                    <a:lnTo>
                      <a:pt x="1156" y="2179"/>
                    </a:lnTo>
                    <a:lnTo>
                      <a:pt x="1128" y="2192"/>
                    </a:lnTo>
                    <a:lnTo>
                      <a:pt x="1100" y="2205"/>
                    </a:lnTo>
                    <a:lnTo>
                      <a:pt x="1071" y="2216"/>
                    </a:lnTo>
                    <a:lnTo>
                      <a:pt x="1041" y="2228"/>
                    </a:lnTo>
                    <a:lnTo>
                      <a:pt x="1012" y="2237"/>
                    </a:lnTo>
                    <a:lnTo>
                      <a:pt x="981" y="2246"/>
                    </a:lnTo>
                    <a:lnTo>
                      <a:pt x="951" y="2256"/>
                    </a:lnTo>
                    <a:lnTo>
                      <a:pt x="920" y="2262"/>
                    </a:lnTo>
                    <a:lnTo>
                      <a:pt x="890" y="2269"/>
                    </a:lnTo>
                    <a:lnTo>
                      <a:pt x="908" y="2289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16680" y="3635280"/>
                <a:ext cx="441360" cy="600120"/>
              </a:xfrm>
              <a:custGeom>
                <a:avLst/>
                <a:gdLst/>
                <a:ahLst/>
                <a:rect l="l" t="t" r="r" b="b"/>
                <a:pathLst>
                  <a:path w="1669" h="2268">
                    <a:moveTo>
                      <a:pt x="636" y="0"/>
                    </a:moveTo>
                    <a:lnTo>
                      <a:pt x="592" y="1"/>
                    </a:lnTo>
                    <a:lnTo>
                      <a:pt x="548" y="5"/>
                    </a:lnTo>
                    <a:lnTo>
                      <a:pt x="506" y="11"/>
                    </a:lnTo>
                    <a:lnTo>
                      <a:pt x="463" y="16"/>
                    </a:lnTo>
                    <a:lnTo>
                      <a:pt x="420" y="26"/>
                    </a:lnTo>
                    <a:lnTo>
                      <a:pt x="379" y="35"/>
                    </a:lnTo>
                    <a:lnTo>
                      <a:pt x="337" y="46"/>
                    </a:lnTo>
                    <a:lnTo>
                      <a:pt x="297" y="59"/>
                    </a:lnTo>
                    <a:lnTo>
                      <a:pt x="258" y="73"/>
                    </a:lnTo>
                    <a:lnTo>
                      <a:pt x="218" y="89"/>
                    </a:lnTo>
                    <a:lnTo>
                      <a:pt x="180" y="105"/>
                    </a:lnTo>
                    <a:lnTo>
                      <a:pt x="142" y="124"/>
                    </a:lnTo>
                    <a:lnTo>
                      <a:pt x="105" y="143"/>
                    </a:lnTo>
                    <a:lnTo>
                      <a:pt x="70" y="164"/>
                    </a:lnTo>
                    <a:lnTo>
                      <a:pt x="35" y="186"/>
                    </a:lnTo>
                    <a:lnTo>
                      <a:pt x="0" y="210"/>
                    </a:lnTo>
                    <a:lnTo>
                      <a:pt x="0" y="238"/>
                    </a:lnTo>
                    <a:lnTo>
                      <a:pt x="35" y="213"/>
                    </a:lnTo>
                    <a:lnTo>
                      <a:pt x="71" y="190"/>
                    </a:lnTo>
                    <a:lnTo>
                      <a:pt x="108" y="168"/>
                    </a:lnTo>
                    <a:lnTo>
                      <a:pt x="145" y="148"/>
                    </a:lnTo>
                    <a:lnTo>
                      <a:pt x="183" y="129"/>
                    </a:lnTo>
                    <a:lnTo>
                      <a:pt x="222" y="112"/>
                    </a:lnTo>
                    <a:lnTo>
                      <a:pt x="261" y="96"/>
                    </a:lnTo>
                    <a:lnTo>
                      <a:pt x="303" y="81"/>
                    </a:lnTo>
                    <a:lnTo>
                      <a:pt x="343" y="68"/>
                    </a:lnTo>
                    <a:lnTo>
                      <a:pt x="384" y="57"/>
                    </a:lnTo>
                    <a:lnTo>
                      <a:pt x="427" y="46"/>
                    </a:lnTo>
                    <a:lnTo>
                      <a:pt x="471" y="38"/>
                    </a:lnTo>
                    <a:lnTo>
                      <a:pt x="515" y="32"/>
                    </a:lnTo>
                    <a:lnTo>
                      <a:pt x="559" y="27"/>
                    </a:lnTo>
                    <a:lnTo>
                      <a:pt x="604" y="23"/>
                    </a:lnTo>
                    <a:lnTo>
                      <a:pt x="649" y="22"/>
                    </a:lnTo>
                    <a:lnTo>
                      <a:pt x="636" y="0"/>
                    </a:lnTo>
                    <a:close/>
                    <a:moveTo>
                      <a:pt x="899" y="2268"/>
                    </a:moveTo>
                    <a:lnTo>
                      <a:pt x="930" y="2261"/>
                    </a:lnTo>
                    <a:lnTo>
                      <a:pt x="960" y="2254"/>
                    </a:lnTo>
                    <a:lnTo>
                      <a:pt x="990" y="2245"/>
                    </a:lnTo>
                    <a:lnTo>
                      <a:pt x="1021" y="2235"/>
                    </a:lnTo>
                    <a:lnTo>
                      <a:pt x="1050" y="2225"/>
                    </a:lnTo>
                    <a:lnTo>
                      <a:pt x="1080" y="2215"/>
                    </a:lnTo>
                    <a:lnTo>
                      <a:pt x="1109" y="2203"/>
                    </a:lnTo>
                    <a:lnTo>
                      <a:pt x="1137" y="2190"/>
                    </a:lnTo>
                    <a:lnTo>
                      <a:pt x="1165" y="2177"/>
                    </a:lnTo>
                    <a:lnTo>
                      <a:pt x="1193" y="2163"/>
                    </a:lnTo>
                    <a:lnTo>
                      <a:pt x="1220" y="2148"/>
                    </a:lnTo>
                    <a:lnTo>
                      <a:pt x="1246" y="2133"/>
                    </a:lnTo>
                    <a:lnTo>
                      <a:pt x="1273" y="2117"/>
                    </a:lnTo>
                    <a:lnTo>
                      <a:pt x="1299" y="2100"/>
                    </a:lnTo>
                    <a:lnTo>
                      <a:pt x="1325" y="2082"/>
                    </a:lnTo>
                    <a:lnTo>
                      <a:pt x="1349" y="2065"/>
                    </a:lnTo>
                    <a:lnTo>
                      <a:pt x="1373" y="2046"/>
                    </a:lnTo>
                    <a:lnTo>
                      <a:pt x="1397" y="2027"/>
                    </a:lnTo>
                    <a:lnTo>
                      <a:pt x="1420" y="2007"/>
                    </a:lnTo>
                    <a:lnTo>
                      <a:pt x="1443" y="1986"/>
                    </a:lnTo>
                    <a:lnTo>
                      <a:pt x="1465" y="1964"/>
                    </a:lnTo>
                    <a:lnTo>
                      <a:pt x="1487" y="1943"/>
                    </a:lnTo>
                    <a:lnTo>
                      <a:pt x="1508" y="1921"/>
                    </a:lnTo>
                    <a:lnTo>
                      <a:pt x="1529" y="1898"/>
                    </a:lnTo>
                    <a:lnTo>
                      <a:pt x="1548" y="1875"/>
                    </a:lnTo>
                    <a:lnTo>
                      <a:pt x="1568" y="1850"/>
                    </a:lnTo>
                    <a:lnTo>
                      <a:pt x="1586" y="1826"/>
                    </a:lnTo>
                    <a:lnTo>
                      <a:pt x="1604" y="1801"/>
                    </a:lnTo>
                    <a:lnTo>
                      <a:pt x="1621" y="1775"/>
                    </a:lnTo>
                    <a:lnTo>
                      <a:pt x="1638" y="1750"/>
                    </a:lnTo>
                    <a:lnTo>
                      <a:pt x="1653" y="1724"/>
                    </a:lnTo>
                    <a:lnTo>
                      <a:pt x="1669" y="1696"/>
                    </a:lnTo>
                    <a:lnTo>
                      <a:pt x="1652" y="1680"/>
                    </a:lnTo>
                    <a:lnTo>
                      <a:pt x="1637" y="1707"/>
                    </a:lnTo>
                    <a:lnTo>
                      <a:pt x="1621" y="1734"/>
                    </a:lnTo>
                    <a:lnTo>
                      <a:pt x="1605" y="1759"/>
                    </a:lnTo>
                    <a:lnTo>
                      <a:pt x="1587" y="1785"/>
                    </a:lnTo>
                    <a:lnTo>
                      <a:pt x="1569" y="1810"/>
                    </a:lnTo>
                    <a:lnTo>
                      <a:pt x="1551" y="1834"/>
                    </a:lnTo>
                    <a:lnTo>
                      <a:pt x="1531" y="1858"/>
                    </a:lnTo>
                    <a:lnTo>
                      <a:pt x="1511" y="1883"/>
                    </a:lnTo>
                    <a:lnTo>
                      <a:pt x="1492" y="1906"/>
                    </a:lnTo>
                    <a:lnTo>
                      <a:pt x="1470" y="1928"/>
                    </a:lnTo>
                    <a:lnTo>
                      <a:pt x="1449" y="1949"/>
                    </a:lnTo>
                    <a:lnTo>
                      <a:pt x="1426" y="1970"/>
                    </a:lnTo>
                    <a:lnTo>
                      <a:pt x="1404" y="1991"/>
                    </a:lnTo>
                    <a:lnTo>
                      <a:pt x="1380" y="2011"/>
                    </a:lnTo>
                    <a:lnTo>
                      <a:pt x="1357" y="2030"/>
                    </a:lnTo>
                    <a:lnTo>
                      <a:pt x="1331" y="2049"/>
                    </a:lnTo>
                    <a:lnTo>
                      <a:pt x="1307" y="2067"/>
                    </a:lnTo>
                    <a:lnTo>
                      <a:pt x="1282" y="2084"/>
                    </a:lnTo>
                    <a:lnTo>
                      <a:pt x="1255" y="2100"/>
                    </a:lnTo>
                    <a:lnTo>
                      <a:pt x="1229" y="2117"/>
                    </a:lnTo>
                    <a:lnTo>
                      <a:pt x="1202" y="2132"/>
                    </a:lnTo>
                    <a:lnTo>
                      <a:pt x="1175" y="2147"/>
                    </a:lnTo>
                    <a:lnTo>
                      <a:pt x="1147" y="2160"/>
                    </a:lnTo>
                    <a:lnTo>
                      <a:pt x="1119" y="2173"/>
                    </a:lnTo>
                    <a:lnTo>
                      <a:pt x="1090" y="2186"/>
                    </a:lnTo>
                    <a:lnTo>
                      <a:pt x="1062" y="2197"/>
                    </a:lnTo>
                    <a:lnTo>
                      <a:pt x="1032" y="2208"/>
                    </a:lnTo>
                    <a:lnTo>
                      <a:pt x="1002" y="2217"/>
                    </a:lnTo>
                    <a:lnTo>
                      <a:pt x="972" y="2226"/>
                    </a:lnTo>
                    <a:lnTo>
                      <a:pt x="942" y="2234"/>
                    </a:lnTo>
                    <a:lnTo>
                      <a:pt x="910" y="2242"/>
                    </a:lnTo>
                    <a:lnTo>
                      <a:pt x="879" y="2248"/>
                    </a:lnTo>
                    <a:lnTo>
                      <a:pt x="899" y="226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078000" y="3583080"/>
              <a:ext cx="3608640" cy="2278080"/>
              <a:chOff x="3078000" y="3583080"/>
              <a:chExt cx="3608640" cy="2278080"/>
            </a:xfrm>
          </p:grpSpPr>
          <p:sp>
            <p:nvSpPr>
              <p:cNvPr id="515" name=""/>
              <p:cNvSpPr/>
              <p:nvPr/>
            </p:nvSpPr>
            <p:spPr>
              <a:xfrm>
                <a:off x="6016680" y="3638520"/>
                <a:ext cx="439560" cy="593640"/>
              </a:xfrm>
              <a:custGeom>
                <a:avLst/>
                <a:gdLst/>
                <a:ahLst/>
                <a:rect l="l" t="t" r="r" b="b"/>
                <a:pathLst>
                  <a:path w="1660" h="2247">
                    <a:moveTo>
                      <a:pt x="643" y="0"/>
                    </a:moveTo>
                    <a:lnTo>
                      <a:pt x="598" y="2"/>
                    </a:lnTo>
                    <a:lnTo>
                      <a:pt x="553" y="5"/>
                    </a:lnTo>
                    <a:lnTo>
                      <a:pt x="510" y="10"/>
                    </a:lnTo>
                    <a:lnTo>
                      <a:pt x="466" y="17"/>
                    </a:lnTo>
                    <a:lnTo>
                      <a:pt x="424" y="25"/>
                    </a:lnTo>
                    <a:lnTo>
                      <a:pt x="382" y="35"/>
                    </a:lnTo>
                    <a:lnTo>
                      <a:pt x="341" y="46"/>
                    </a:lnTo>
                    <a:lnTo>
                      <a:pt x="299" y="59"/>
                    </a:lnTo>
                    <a:lnTo>
                      <a:pt x="260" y="73"/>
                    </a:lnTo>
                    <a:lnTo>
                      <a:pt x="221" y="89"/>
                    </a:lnTo>
                    <a:lnTo>
                      <a:pt x="181" y="107"/>
                    </a:lnTo>
                    <a:lnTo>
                      <a:pt x="143" y="125"/>
                    </a:lnTo>
                    <a:lnTo>
                      <a:pt x="107" y="145"/>
                    </a:lnTo>
                    <a:lnTo>
                      <a:pt x="71" y="167"/>
                    </a:lnTo>
                    <a:lnTo>
                      <a:pt x="35" y="189"/>
                    </a:lnTo>
                    <a:lnTo>
                      <a:pt x="0" y="213"/>
                    </a:lnTo>
                    <a:lnTo>
                      <a:pt x="0" y="240"/>
                    </a:lnTo>
                    <a:lnTo>
                      <a:pt x="35" y="216"/>
                    </a:lnTo>
                    <a:lnTo>
                      <a:pt x="71" y="192"/>
                    </a:lnTo>
                    <a:lnTo>
                      <a:pt x="108" y="170"/>
                    </a:lnTo>
                    <a:lnTo>
                      <a:pt x="146" y="149"/>
                    </a:lnTo>
                    <a:lnTo>
                      <a:pt x="185" y="130"/>
                    </a:lnTo>
                    <a:lnTo>
                      <a:pt x="224" y="113"/>
                    </a:lnTo>
                    <a:lnTo>
                      <a:pt x="265" y="96"/>
                    </a:lnTo>
                    <a:lnTo>
                      <a:pt x="305" y="81"/>
                    </a:lnTo>
                    <a:lnTo>
                      <a:pt x="346" y="68"/>
                    </a:lnTo>
                    <a:lnTo>
                      <a:pt x="389" y="56"/>
                    </a:lnTo>
                    <a:lnTo>
                      <a:pt x="433" y="47"/>
                    </a:lnTo>
                    <a:lnTo>
                      <a:pt x="477" y="38"/>
                    </a:lnTo>
                    <a:lnTo>
                      <a:pt x="521" y="32"/>
                    </a:lnTo>
                    <a:lnTo>
                      <a:pt x="566" y="27"/>
                    </a:lnTo>
                    <a:lnTo>
                      <a:pt x="611" y="24"/>
                    </a:lnTo>
                    <a:lnTo>
                      <a:pt x="657" y="23"/>
                    </a:lnTo>
                    <a:lnTo>
                      <a:pt x="652" y="17"/>
                    </a:lnTo>
                    <a:lnTo>
                      <a:pt x="643" y="0"/>
                    </a:lnTo>
                    <a:close/>
                    <a:moveTo>
                      <a:pt x="890" y="2247"/>
                    </a:moveTo>
                    <a:lnTo>
                      <a:pt x="920" y="2240"/>
                    </a:lnTo>
                    <a:lnTo>
                      <a:pt x="951" y="2234"/>
                    </a:lnTo>
                    <a:lnTo>
                      <a:pt x="981" y="2224"/>
                    </a:lnTo>
                    <a:lnTo>
                      <a:pt x="1012" y="2215"/>
                    </a:lnTo>
                    <a:lnTo>
                      <a:pt x="1041" y="2206"/>
                    </a:lnTo>
                    <a:lnTo>
                      <a:pt x="1071" y="2194"/>
                    </a:lnTo>
                    <a:lnTo>
                      <a:pt x="1100" y="2183"/>
                    </a:lnTo>
                    <a:lnTo>
                      <a:pt x="1128" y="2170"/>
                    </a:lnTo>
                    <a:lnTo>
                      <a:pt x="1156" y="2157"/>
                    </a:lnTo>
                    <a:lnTo>
                      <a:pt x="1184" y="2144"/>
                    </a:lnTo>
                    <a:lnTo>
                      <a:pt x="1210" y="2129"/>
                    </a:lnTo>
                    <a:lnTo>
                      <a:pt x="1238" y="2114"/>
                    </a:lnTo>
                    <a:lnTo>
                      <a:pt x="1265" y="2098"/>
                    </a:lnTo>
                    <a:lnTo>
                      <a:pt x="1290" y="2081"/>
                    </a:lnTo>
                    <a:lnTo>
                      <a:pt x="1315" y="2064"/>
                    </a:lnTo>
                    <a:lnTo>
                      <a:pt x="1341" y="2046"/>
                    </a:lnTo>
                    <a:lnTo>
                      <a:pt x="1365" y="2027"/>
                    </a:lnTo>
                    <a:lnTo>
                      <a:pt x="1389" y="2008"/>
                    </a:lnTo>
                    <a:lnTo>
                      <a:pt x="1412" y="1988"/>
                    </a:lnTo>
                    <a:lnTo>
                      <a:pt x="1435" y="1967"/>
                    </a:lnTo>
                    <a:lnTo>
                      <a:pt x="1457" y="1947"/>
                    </a:lnTo>
                    <a:lnTo>
                      <a:pt x="1478" y="1925"/>
                    </a:lnTo>
                    <a:lnTo>
                      <a:pt x="1500" y="1902"/>
                    </a:lnTo>
                    <a:lnTo>
                      <a:pt x="1521" y="1879"/>
                    </a:lnTo>
                    <a:lnTo>
                      <a:pt x="1540" y="1855"/>
                    </a:lnTo>
                    <a:lnTo>
                      <a:pt x="1559" y="1831"/>
                    </a:lnTo>
                    <a:lnTo>
                      <a:pt x="1577" y="1807"/>
                    </a:lnTo>
                    <a:lnTo>
                      <a:pt x="1596" y="1782"/>
                    </a:lnTo>
                    <a:lnTo>
                      <a:pt x="1613" y="1756"/>
                    </a:lnTo>
                    <a:lnTo>
                      <a:pt x="1629" y="1731"/>
                    </a:lnTo>
                    <a:lnTo>
                      <a:pt x="1645" y="1704"/>
                    </a:lnTo>
                    <a:lnTo>
                      <a:pt x="1660" y="1677"/>
                    </a:lnTo>
                    <a:lnTo>
                      <a:pt x="1643" y="1661"/>
                    </a:lnTo>
                    <a:lnTo>
                      <a:pt x="1628" y="1688"/>
                    </a:lnTo>
                    <a:lnTo>
                      <a:pt x="1613" y="1715"/>
                    </a:lnTo>
                    <a:lnTo>
                      <a:pt x="1596" y="1740"/>
                    </a:lnTo>
                    <a:lnTo>
                      <a:pt x="1578" y="1767"/>
                    </a:lnTo>
                    <a:lnTo>
                      <a:pt x="1561" y="1791"/>
                    </a:lnTo>
                    <a:lnTo>
                      <a:pt x="1543" y="1816"/>
                    </a:lnTo>
                    <a:lnTo>
                      <a:pt x="1523" y="1840"/>
                    </a:lnTo>
                    <a:lnTo>
                      <a:pt x="1503" y="1864"/>
                    </a:lnTo>
                    <a:lnTo>
                      <a:pt x="1483" y="1887"/>
                    </a:lnTo>
                    <a:lnTo>
                      <a:pt x="1462" y="1909"/>
                    </a:lnTo>
                    <a:lnTo>
                      <a:pt x="1440" y="1930"/>
                    </a:lnTo>
                    <a:lnTo>
                      <a:pt x="1418" y="1951"/>
                    </a:lnTo>
                    <a:lnTo>
                      <a:pt x="1395" y="1972"/>
                    </a:lnTo>
                    <a:lnTo>
                      <a:pt x="1372" y="1993"/>
                    </a:lnTo>
                    <a:lnTo>
                      <a:pt x="1348" y="2011"/>
                    </a:lnTo>
                    <a:lnTo>
                      <a:pt x="1323" y="2030"/>
                    </a:lnTo>
                    <a:lnTo>
                      <a:pt x="1298" y="2048"/>
                    </a:lnTo>
                    <a:lnTo>
                      <a:pt x="1273" y="2065"/>
                    </a:lnTo>
                    <a:lnTo>
                      <a:pt x="1247" y="2081"/>
                    </a:lnTo>
                    <a:lnTo>
                      <a:pt x="1221" y="2098"/>
                    </a:lnTo>
                    <a:lnTo>
                      <a:pt x="1193" y="2113"/>
                    </a:lnTo>
                    <a:lnTo>
                      <a:pt x="1166" y="2128"/>
                    </a:lnTo>
                    <a:lnTo>
                      <a:pt x="1138" y="2141"/>
                    </a:lnTo>
                    <a:lnTo>
                      <a:pt x="1110" y="2154"/>
                    </a:lnTo>
                    <a:lnTo>
                      <a:pt x="1081" y="2166"/>
                    </a:lnTo>
                    <a:lnTo>
                      <a:pt x="1052" y="2177"/>
                    </a:lnTo>
                    <a:lnTo>
                      <a:pt x="1022" y="2187"/>
                    </a:lnTo>
                    <a:lnTo>
                      <a:pt x="992" y="2198"/>
                    </a:lnTo>
                    <a:lnTo>
                      <a:pt x="962" y="2207"/>
                    </a:lnTo>
                    <a:lnTo>
                      <a:pt x="932" y="2214"/>
                    </a:lnTo>
                    <a:lnTo>
                      <a:pt x="901" y="2222"/>
                    </a:lnTo>
                    <a:lnTo>
                      <a:pt x="870" y="2228"/>
                    </a:lnTo>
                    <a:lnTo>
                      <a:pt x="890" y="224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16680" y="3641760"/>
                <a:ext cx="438120" cy="588960"/>
              </a:xfrm>
              <a:custGeom>
                <a:avLst/>
                <a:gdLst/>
                <a:ahLst/>
                <a:rect l="l" t="t" r="r" b="b"/>
                <a:pathLst>
                  <a:path w="1652" h="2226">
                    <a:moveTo>
                      <a:pt x="649" y="0"/>
                    </a:moveTo>
                    <a:lnTo>
                      <a:pt x="604" y="1"/>
                    </a:lnTo>
                    <a:lnTo>
                      <a:pt x="559" y="5"/>
                    </a:lnTo>
                    <a:lnTo>
                      <a:pt x="515" y="10"/>
                    </a:lnTo>
                    <a:lnTo>
                      <a:pt x="471" y="16"/>
                    </a:lnTo>
                    <a:lnTo>
                      <a:pt x="427" y="24"/>
                    </a:lnTo>
                    <a:lnTo>
                      <a:pt x="384" y="35"/>
                    </a:lnTo>
                    <a:lnTo>
                      <a:pt x="343" y="46"/>
                    </a:lnTo>
                    <a:lnTo>
                      <a:pt x="303" y="59"/>
                    </a:lnTo>
                    <a:lnTo>
                      <a:pt x="261" y="74"/>
                    </a:lnTo>
                    <a:lnTo>
                      <a:pt x="222" y="90"/>
                    </a:lnTo>
                    <a:lnTo>
                      <a:pt x="183" y="107"/>
                    </a:lnTo>
                    <a:lnTo>
                      <a:pt x="145" y="126"/>
                    </a:lnTo>
                    <a:lnTo>
                      <a:pt x="108" y="146"/>
                    </a:lnTo>
                    <a:lnTo>
                      <a:pt x="71" y="168"/>
                    </a:lnTo>
                    <a:lnTo>
                      <a:pt x="35" y="191"/>
                    </a:lnTo>
                    <a:lnTo>
                      <a:pt x="0" y="216"/>
                    </a:lnTo>
                    <a:lnTo>
                      <a:pt x="0" y="243"/>
                    </a:lnTo>
                    <a:lnTo>
                      <a:pt x="35" y="218"/>
                    </a:lnTo>
                    <a:lnTo>
                      <a:pt x="72" y="195"/>
                    </a:lnTo>
                    <a:lnTo>
                      <a:pt x="109" y="172"/>
                    </a:lnTo>
                    <a:lnTo>
                      <a:pt x="147" y="151"/>
                    </a:lnTo>
                    <a:lnTo>
                      <a:pt x="186" y="131"/>
                    </a:lnTo>
                    <a:lnTo>
                      <a:pt x="225" y="113"/>
                    </a:lnTo>
                    <a:lnTo>
                      <a:pt x="266" y="96"/>
                    </a:lnTo>
                    <a:lnTo>
                      <a:pt x="307" y="81"/>
                    </a:lnTo>
                    <a:lnTo>
                      <a:pt x="350" y="68"/>
                    </a:lnTo>
                    <a:lnTo>
                      <a:pt x="393" y="57"/>
                    </a:lnTo>
                    <a:lnTo>
                      <a:pt x="435" y="46"/>
                    </a:lnTo>
                    <a:lnTo>
                      <a:pt x="480" y="38"/>
                    </a:lnTo>
                    <a:lnTo>
                      <a:pt x="524" y="31"/>
                    </a:lnTo>
                    <a:lnTo>
                      <a:pt x="570" y="27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2" y="23"/>
                    </a:lnTo>
                    <a:lnTo>
                      <a:pt x="664" y="23"/>
                    </a:lnTo>
                    <a:lnTo>
                      <a:pt x="664" y="23"/>
                    </a:lnTo>
                    <a:lnTo>
                      <a:pt x="665" y="23"/>
                    </a:lnTo>
                    <a:lnTo>
                      <a:pt x="665" y="23"/>
                    </a:lnTo>
                    <a:lnTo>
                      <a:pt x="666" y="23"/>
                    </a:lnTo>
                    <a:lnTo>
                      <a:pt x="666" y="23"/>
                    </a:lnTo>
                    <a:lnTo>
                      <a:pt x="667" y="23"/>
                    </a:lnTo>
                    <a:lnTo>
                      <a:pt x="652" y="6"/>
                    </a:lnTo>
                    <a:lnTo>
                      <a:pt x="649" y="0"/>
                    </a:lnTo>
                    <a:close/>
                    <a:moveTo>
                      <a:pt x="879" y="2226"/>
                    </a:moveTo>
                    <a:lnTo>
                      <a:pt x="910" y="2220"/>
                    </a:lnTo>
                    <a:lnTo>
                      <a:pt x="942" y="2212"/>
                    </a:lnTo>
                    <a:lnTo>
                      <a:pt x="972" y="2204"/>
                    </a:lnTo>
                    <a:lnTo>
                      <a:pt x="1002" y="2195"/>
                    </a:lnTo>
                    <a:lnTo>
                      <a:pt x="1032" y="2186"/>
                    </a:lnTo>
                    <a:lnTo>
                      <a:pt x="1062" y="2175"/>
                    </a:lnTo>
                    <a:lnTo>
                      <a:pt x="1090" y="2164"/>
                    </a:lnTo>
                    <a:lnTo>
                      <a:pt x="1119" y="2151"/>
                    </a:lnTo>
                    <a:lnTo>
                      <a:pt x="1147" y="2138"/>
                    </a:lnTo>
                    <a:lnTo>
                      <a:pt x="1175" y="2125"/>
                    </a:lnTo>
                    <a:lnTo>
                      <a:pt x="1202" y="2110"/>
                    </a:lnTo>
                    <a:lnTo>
                      <a:pt x="1229" y="2095"/>
                    </a:lnTo>
                    <a:lnTo>
                      <a:pt x="1255" y="2078"/>
                    </a:lnTo>
                    <a:lnTo>
                      <a:pt x="1282" y="2062"/>
                    </a:lnTo>
                    <a:lnTo>
                      <a:pt x="1307" y="2045"/>
                    </a:lnTo>
                    <a:lnTo>
                      <a:pt x="1331" y="2027"/>
                    </a:lnTo>
                    <a:lnTo>
                      <a:pt x="1357" y="2008"/>
                    </a:lnTo>
                    <a:lnTo>
                      <a:pt x="1380" y="1989"/>
                    </a:lnTo>
                    <a:lnTo>
                      <a:pt x="1404" y="1969"/>
                    </a:lnTo>
                    <a:lnTo>
                      <a:pt x="1426" y="1948"/>
                    </a:lnTo>
                    <a:lnTo>
                      <a:pt x="1449" y="1927"/>
                    </a:lnTo>
                    <a:lnTo>
                      <a:pt x="1470" y="1906"/>
                    </a:lnTo>
                    <a:lnTo>
                      <a:pt x="1492" y="1884"/>
                    </a:lnTo>
                    <a:lnTo>
                      <a:pt x="1511" y="1861"/>
                    </a:lnTo>
                    <a:lnTo>
                      <a:pt x="1531" y="1836"/>
                    </a:lnTo>
                    <a:lnTo>
                      <a:pt x="1551" y="1812"/>
                    </a:lnTo>
                    <a:lnTo>
                      <a:pt x="1569" y="1788"/>
                    </a:lnTo>
                    <a:lnTo>
                      <a:pt x="1587" y="1763"/>
                    </a:lnTo>
                    <a:lnTo>
                      <a:pt x="1605" y="1737"/>
                    </a:lnTo>
                    <a:lnTo>
                      <a:pt x="1621" y="1712"/>
                    </a:lnTo>
                    <a:lnTo>
                      <a:pt x="1637" y="1685"/>
                    </a:lnTo>
                    <a:lnTo>
                      <a:pt x="1652" y="1658"/>
                    </a:lnTo>
                    <a:lnTo>
                      <a:pt x="1635" y="1642"/>
                    </a:lnTo>
                    <a:lnTo>
                      <a:pt x="1620" y="1669"/>
                    </a:lnTo>
                    <a:lnTo>
                      <a:pt x="1604" y="1696"/>
                    </a:lnTo>
                    <a:lnTo>
                      <a:pt x="1587" y="1722"/>
                    </a:lnTo>
                    <a:lnTo>
                      <a:pt x="1570" y="1748"/>
                    </a:lnTo>
                    <a:lnTo>
                      <a:pt x="1553" y="1773"/>
                    </a:lnTo>
                    <a:lnTo>
                      <a:pt x="1534" y="1797"/>
                    </a:lnTo>
                    <a:lnTo>
                      <a:pt x="1515" y="1821"/>
                    </a:lnTo>
                    <a:lnTo>
                      <a:pt x="1495" y="1844"/>
                    </a:lnTo>
                    <a:lnTo>
                      <a:pt x="1474" y="1868"/>
                    </a:lnTo>
                    <a:lnTo>
                      <a:pt x="1454" y="1889"/>
                    </a:lnTo>
                    <a:lnTo>
                      <a:pt x="1432" y="1911"/>
                    </a:lnTo>
                    <a:lnTo>
                      <a:pt x="1410" y="1933"/>
                    </a:lnTo>
                    <a:lnTo>
                      <a:pt x="1387" y="1954"/>
                    </a:lnTo>
                    <a:lnTo>
                      <a:pt x="1364" y="1974"/>
                    </a:lnTo>
                    <a:lnTo>
                      <a:pt x="1340" y="1992"/>
                    </a:lnTo>
                    <a:lnTo>
                      <a:pt x="1315" y="2010"/>
                    </a:lnTo>
                    <a:lnTo>
                      <a:pt x="1290" y="2029"/>
                    </a:lnTo>
                    <a:lnTo>
                      <a:pt x="1265" y="2046"/>
                    </a:lnTo>
                    <a:lnTo>
                      <a:pt x="1238" y="2062"/>
                    </a:lnTo>
                    <a:lnTo>
                      <a:pt x="1211" y="2078"/>
                    </a:lnTo>
                    <a:lnTo>
                      <a:pt x="1185" y="2093"/>
                    </a:lnTo>
                    <a:lnTo>
                      <a:pt x="1157" y="2108"/>
                    </a:lnTo>
                    <a:lnTo>
                      <a:pt x="1130" y="2121"/>
                    </a:lnTo>
                    <a:lnTo>
                      <a:pt x="1101" y="2134"/>
                    </a:lnTo>
                    <a:lnTo>
                      <a:pt x="1072" y="2146"/>
                    </a:lnTo>
                    <a:lnTo>
                      <a:pt x="1043" y="2158"/>
                    </a:lnTo>
                    <a:lnTo>
                      <a:pt x="1013" y="2168"/>
                    </a:lnTo>
                    <a:lnTo>
                      <a:pt x="983" y="2178"/>
                    </a:lnTo>
                    <a:lnTo>
                      <a:pt x="953" y="2187"/>
                    </a:lnTo>
                    <a:lnTo>
                      <a:pt x="922" y="2194"/>
                    </a:lnTo>
                    <a:lnTo>
                      <a:pt x="891" y="2201"/>
                    </a:lnTo>
                    <a:lnTo>
                      <a:pt x="860" y="2208"/>
                    </a:lnTo>
                    <a:lnTo>
                      <a:pt x="879" y="222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16680" y="3645000"/>
                <a:ext cx="434880" cy="582480"/>
              </a:xfrm>
              <a:custGeom>
                <a:avLst/>
                <a:gdLst/>
                <a:ahLst/>
                <a:rect l="l" t="t" r="r" b="b"/>
                <a:pathLst>
                  <a:path w="1643" h="2205">
                    <a:moveTo>
                      <a:pt x="657" y="0"/>
                    </a:moveTo>
                    <a:lnTo>
                      <a:pt x="611" y="1"/>
                    </a:lnTo>
                    <a:lnTo>
                      <a:pt x="566" y="4"/>
                    </a:lnTo>
                    <a:lnTo>
                      <a:pt x="521" y="9"/>
                    </a:lnTo>
                    <a:lnTo>
                      <a:pt x="477" y="15"/>
                    </a:lnTo>
                    <a:lnTo>
                      <a:pt x="433" y="24"/>
                    </a:lnTo>
                    <a:lnTo>
                      <a:pt x="389" y="33"/>
                    </a:lnTo>
                    <a:lnTo>
                      <a:pt x="346" y="45"/>
                    </a:lnTo>
                    <a:lnTo>
                      <a:pt x="305" y="58"/>
                    </a:lnTo>
                    <a:lnTo>
                      <a:pt x="265" y="73"/>
                    </a:lnTo>
                    <a:lnTo>
                      <a:pt x="224" y="90"/>
                    </a:lnTo>
                    <a:lnTo>
                      <a:pt x="185" y="107"/>
                    </a:lnTo>
                    <a:lnTo>
                      <a:pt x="146" y="126"/>
                    </a:lnTo>
                    <a:lnTo>
                      <a:pt x="108" y="147"/>
                    </a:lnTo>
                    <a:lnTo>
                      <a:pt x="71" y="169"/>
                    </a:lnTo>
                    <a:lnTo>
                      <a:pt x="35" y="193"/>
                    </a:lnTo>
                    <a:lnTo>
                      <a:pt x="0" y="217"/>
                    </a:lnTo>
                    <a:lnTo>
                      <a:pt x="0" y="246"/>
                    </a:lnTo>
                    <a:lnTo>
                      <a:pt x="35" y="221"/>
                    </a:lnTo>
                    <a:lnTo>
                      <a:pt x="72" y="197"/>
                    </a:lnTo>
                    <a:lnTo>
                      <a:pt x="109" y="174"/>
                    </a:lnTo>
                    <a:lnTo>
                      <a:pt x="146" y="152"/>
                    </a:lnTo>
                    <a:lnTo>
                      <a:pt x="185" y="132"/>
                    </a:lnTo>
                    <a:lnTo>
                      <a:pt x="225" y="114"/>
                    </a:lnTo>
                    <a:lnTo>
                      <a:pt x="266" y="96"/>
                    </a:lnTo>
                    <a:lnTo>
                      <a:pt x="307" y="81"/>
                    </a:lnTo>
                    <a:lnTo>
                      <a:pt x="349" y="68"/>
                    </a:lnTo>
                    <a:lnTo>
                      <a:pt x="391" y="56"/>
                    </a:lnTo>
                    <a:lnTo>
                      <a:pt x="435" y="46"/>
                    </a:lnTo>
                    <a:lnTo>
                      <a:pt x="479" y="38"/>
                    </a:lnTo>
                    <a:lnTo>
                      <a:pt x="524" y="31"/>
                    </a:lnTo>
                    <a:lnTo>
                      <a:pt x="570" y="26"/>
                    </a:lnTo>
                    <a:lnTo>
                      <a:pt x="616" y="23"/>
                    </a:lnTo>
                    <a:lnTo>
                      <a:pt x="662" y="22"/>
                    </a:lnTo>
                    <a:lnTo>
                      <a:pt x="664" y="23"/>
                    </a:lnTo>
                    <a:lnTo>
                      <a:pt x="666" y="23"/>
                    </a:lnTo>
                    <a:lnTo>
                      <a:pt x="668" y="23"/>
                    </a:lnTo>
                    <a:lnTo>
                      <a:pt x="669" y="23"/>
                    </a:lnTo>
                    <a:lnTo>
                      <a:pt x="672" y="23"/>
                    </a:lnTo>
                    <a:lnTo>
                      <a:pt x="674" y="23"/>
                    </a:lnTo>
                    <a:lnTo>
                      <a:pt x="675" y="23"/>
                    </a:lnTo>
                    <a:lnTo>
                      <a:pt x="677" y="23"/>
                    </a:lnTo>
                    <a:lnTo>
                      <a:pt x="657" y="0"/>
                    </a:lnTo>
                    <a:close/>
                    <a:moveTo>
                      <a:pt x="870" y="2205"/>
                    </a:moveTo>
                    <a:lnTo>
                      <a:pt x="901" y="2199"/>
                    </a:lnTo>
                    <a:lnTo>
                      <a:pt x="932" y="2191"/>
                    </a:lnTo>
                    <a:lnTo>
                      <a:pt x="962" y="2184"/>
                    </a:lnTo>
                    <a:lnTo>
                      <a:pt x="992" y="2175"/>
                    </a:lnTo>
                    <a:lnTo>
                      <a:pt x="1022" y="2164"/>
                    </a:lnTo>
                    <a:lnTo>
                      <a:pt x="1052" y="2154"/>
                    </a:lnTo>
                    <a:lnTo>
                      <a:pt x="1081" y="2143"/>
                    </a:lnTo>
                    <a:lnTo>
                      <a:pt x="1110" y="2131"/>
                    </a:lnTo>
                    <a:lnTo>
                      <a:pt x="1138" y="2118"/>
                    </a:lnTo>
                    <a:lnTo>
                      <a:pt x="1166" y="2105"/>
                    </a:lnTo>
                    <a:lnTo>
                      <a:pt x="1193" y="2090"/>
                    </a:lnTo>
                    <a:lnTo>
                      <a:pt x="1221" y="2075"/>
                    </a:lnTo>
                    <a:lnTo>
                      <a:pt x="1247" y="2058"/>
                    </a:lnTo>
                    <a:lnTo>
                      <a:pt x="1273" y="2042"/>
                    </a:lnTo>
                    <a:lnTo>
                      <a:pt x="1298" y="2025"/>
                    </a:lnTo>
                    <a:lnTo>
                      <a:pt x="1323" y="2007"/>
                    </a:lnTo>
                    <a:lnTo>
                      <a:pt x="1348" y="1988"/>
                    </a:lnTo>
                    <a:lnTo>
                      <a:pt x="1372" y="1970"/>
                    </a:lnTo>
                    <a:lnTo>
                      <a:pt x="1395" y="1949"/>
                    </a:lnTo>
                    <a:lnTo>
                      <a:pt x="1418" y="1928"/>
                    </a:lnTo>
                    <a:lnTo>
                      <a:pt x="1440" y="1907"/>
                    </a:lnTo>
                    <a:lnTo>
                      <a:pt x="1462" y="1886"/>
                    </a:lnTo>
                    <a:lnTo>
                      <a:pt x="1483" y="1864"/>
                    </a:lnTo>
                    <a:lnTo>
                      <a:pt x="1503" y="1841"/>
                    </a:lnTo>
                    <a:lnTo>
                      <a:pt x="1523" y="1817"/>
                    </a:lnTo>
                    <a:lnTo>
                      <a:pt x="1543" y="1793"/>
                    </a:lnTo>
                    <a:lnTo>
                      <a:pt x="1561" y="1768"/>
                    </a:lnTo>
                    <a:lnTo>
                      <a:pt x="1578" y="1744"/>
                    </a:lnTo>
                    <a:lnTo>
                      <a:pt x="1596" y="1717"/>
                    </a:lnTo>
                    <a:lnTo>
                      <a:pt x="1613" y="1692"/>
                    </a:lnTo>
                    <a:lnTo>
                      <a:pt x="1628" y="1665"/>
                    </a:lnTo>
                    <a:lnTo>
                      <a:pt x="1643" y="1638"/>
                    </a:lnTo>
                    <a:lnTo>
                      <a:pt x="1627" y="1622"/>
                    </a:lnTo>
                    <a:lnTo>
                      <a:pt x="1612" y="1649"/>
                    </a:lnTo>
                    <a:lnTo>
                      <a:pt x="1596" y="1676"/>
                    </a:lnTo>
                    <a:lnTo>
                      <a:pt x="1579" y="1702"/>
                    </a:lnTo>
                    <a:lnTo>
                      <a:pt x="1562" y="1728"/>
                    </a:lnTo>
                    <a:lnTo>
                      <a:pt x="1545" y="1753"/>
                    </a:lnTo>
                    <a:lnTo>
                      <a:pt x="1526" y="1777"/>
                    </a:lnTo>
                    <a:lnTo>
                      <a:pt x="1507" y="1801"/>
                    </a:lnTo>
                    <a:lnTo>
                      <a:pt x="1487" y="1824"/>
                    </a:lnTo>
                    <a:lnTo>
                      <a:pt x="1466" y="1847"/>
                    </a:lnTo>
                    <a:lnTo>
                      <a:pt x="1446" y="1871"/>
                    </a:lnTo>
                    <a:lnTo>
                      <a:pt x="1424" y="1892"/>
                    </a:lnTo>
                    <a:lnTo>
                      <a:pt x="1402" y="1913"/>
                    </a:lnTo>
                    <a:lnTo>
                      <a:pt x="1379" y="1934"/>
                    </a:lnTo>
                    <a:lnTo>
                      <a:pt x="1355" y="1954"/>
                    </a:lnTo>
                    <a:lnTo>
                      <a:pt x="1331" y="1973"/>
                    </a:lnTo>
                    <a:lnTo>
                      <a:pt x="1306" y="1992"/>
                    </a:lnTo>
                    <a:lnTo>
                      <a:pt x="1281" y="2009"/>
                    </a:lnTo>
                    <a:lnTo>
                      <a:pt x="1255" y="2026"/>
                    </a:lnTo>
                    <a:lnTo>
                      <a:pt x="1230" y="2042"/>
                    </a:lnTo>
                    <a:lnTo>
                      <a:pt x="1203" y="2058"/>
                    </a:lnTo>
                    <a:lnTo>
                      <a:pt x="1176" y="2073"/>
                    </a:lnTo>
                    <a:lnTo>
                      <a:pt x="1148" y="2087"/>
                    </a:lnTo>
                    <a:lnTo>
                      <a:pt x="1120" y="2101"/>
                    </a:lnTo>
                    <a:lnTo>
                      <a:pt x="1092" y="2114"/>
                    </a:lnTo>
                    <a:lnTo>
                      <a:pt x="1063" y="2125"/>
                    </a:lnTo>
                    <a:lnTo>
                      <a:pt x="1034" y="2137"/>
                    </a:lnTo>
                    <a:lnTo>
                      <a:pt x="1004" y="2147"/>
                    </a:lnTo>
                    <a:lnTo>
                      <a:pt x="974" y="2156"/>
                    </a:lnTo>
                    <a:lnTo>
                      <a:pt x="944" y="2166"/>
                    </a:lnTo>
                    <a:lnTo>
                      <a:pt x="913" y="2173"/>
                    </a:lnTo>
                    <a:lnTo>
                      <a:pt x="882" y="2179"/>
                    </a:lnTo>
                    <a:lnTo>
                      <a:pt x="850" y="2185"/>
                    </a:lnTo>
                    <a:lnTo>
                      <a:pt x="870" y="2205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16680" y="3648240"/>
                <a:ext cx="433440" cy="577800"/>
              </a:xfrm>
              <a:custGeom>
                <a:avLst/>
                <a:gdLst/>
                <a:ahLst/>
                <a:rect l="l" t="t" r="r" b="b"/>
                <a:pathLst>
                  <a:path w="1635" h="2185">
                    <a:moveTo>
                      <a:pt x="667" y="0"/>
                    </a:moveTo>
                    <a:lnTo>
                      <a:pt x="666" y="0"/>
                    </a:lnTo>
                    <a:lnTo>
                      <a:pt x="666" y="0"/>
                    </a:lnTo>
                    <a:lnTo>
                      <a:pt x="665" y="0"/>
                    </a:lnTo>
                    <a:lnTo>
                      <a:pt x="665" y="0"/>
                    </a:lnTo>
                    <a:lnTo>
                      <a:pt x="664" y="0"/>
                    </a:lnTo>
                    <a:lnTo>
                      <a:pt x="664" y="0"/>
                    </a:lnTo>
                    <a:lnTo>
                      <a:pt x="662" y="0"/>
                    </a:lnTo>
                    <a:lnTo>
                      <a:pt x="662" y="0"/>
                    </a:lnTo>
                    <a:lnTo>
                      <a:pt x="616" y="1"/>
                    </a:lnTo>
                    <a:lnTo>
                      <a:pt x="570" y="4"/>
                    </a:lnTo>
                    <a:lnTo>
                      <a:pt x="524" y="8"/>
                    </a:lnTo>
                    <a:lnTo>
                      <a:pt x="480" y="15"/>
                    </a:lnTo>
                    <a:lnTo>
                      <a:pt x="435" y="23"/>
                    </a:lnTo>
                    <a:lnTo>
                      <a:pt x="393" y="34"/>
                    </a:lnTo>
                    <a:lnTo>
                      <a:pt x="350" y="45"/>
                    </a:lnTo>
                    <a:lnTo>
                      <a:pt x="307" y="58"/>
                    </a:lnTo>
                    <a:lnTo>
                      <a:pt x="266" y="73"/>
                    </a:lnTo>
                    <a:lnTo>
                      <a:pt x="225" y="90"/>
                    </a:lnTo>
                    <a:lnTo>
                      <a:pt x="186" y="108"/>
                    </a:lnTo>
                    <a:lnTo>
                      <a:pt x="147" y="128"/>
                    </a:lnTo>
                    <a:lnTo>
                      <a:pt x="109" y="149"/>
                    </a:lnTo>
                    <a:lnTo>
                      <a:pt x="72" y="172"/>
                    </a:lnTo>
                    <a:lnTo>
                      <a:pt x="35" y="195"/>
                    </a:lnTo>
                    <a:lnTo>
                      <a:pt x="0" y="220"/>
                    </a:lnTo>
                    <a:lnTo>
                      <a:pt x="0" y="249"/>
                    </a:lnTo>
                    <a:lnTo>
                      <a:pt x="35" y="224"/>
                    </a:lnTo>
                    <a:lnTo>
                      <a:pt x="71" y="198"/>
                    </a:lnTo>
                    <a:lnTo>
                      <a:pt x="108" y="175"/>
                    </a:lnTo>
                    <a:lnTo>
                      <a:pt x="146" y="155"/>
                    </a:lnTo>
                    <a:lnTo>
                      <a:pt x="185" y="134"/>
                    </a:lnTo>
                    <a:lnTo>
                      <a:pt x="224" y="115"/>
                    </a:lnTo>
                    <a:lnTo>
                      <a:pt x="265" y="98"/>
                    </a:lnTo>
                    <a:lnTo>
                      <a:pt x="306" y="83"/>
                    </a:lnTo>
                    <a:lnTo>
                      <a:pt x="349" y="69"/>
                    </a:lnTo>
                    <a:lnTo>
                      <a:pt x="391" y="57"/>
                    </a:lnTo>
                    <a:lnTo>
                      <a:pt x="435" y="46"/>
                    </a:lnTo>
                    <a:lnTo>
                      <a:pt x="479" y="38"/>
                    </a:lnTo>
                    <a:lnTo>
                      <a:pt x="524" y="31"/>
                    </a:lnTo>
                    <a:lnTo>
                      <a:pt x="569" y="27"/>
                    </a:lnTo>
                    <a:lnTo>
                      <a:pt x="615" y="23"/>
                    </a:lnTo>
                    <a:lnTo>
                      <a:pt x="662" y="22"/>
                    </a:lnTo>
                    <a:lnTo>
                      <a:pt x="666" y="22"/>
                    </a:lnTo>
                    <a:lnTo>
                      <a:pt x="668" y="22"/>
                    </a:lnTo>
                    <a:lnTo>
                      <a:pt x="672" y="22"/>
                    </a:lnTo>
                    <a:lnTo>
                      <a:pt x="675" y="22"/>
                    </a:lnTo>
                    <a:lnTo>
                      <a:pt x="679" y="23"/>
                    </a:lnTo>
                    <a:lnTo>
                      <a:pt x="682" y="23"/>
                    </a:lnTo>
                    <a:lnTo>
                      <a:pt x="684" y="23"/>
                    </a:lnTo>
                    <a:lnTo>
                      <a:pt x="688" y="23"/>
                    </a:lnTo>
                    <a:lnTo>
                      <a:pt x="667" y="0"/>
                    </a:lnTo>
                    <a:close/>
                    <a:moveTo>
                      <a:pt x="860" y="2185"/>
                    </a:moveTo>
                    <a:lnTo>
                      <a:pt x="891" y="2178"/>
                    </a:lnTo>
                    <a:lnTo>
                      <a:pt x="922" y="2171"/>
                    </a:lnTo>
                    <a:lnTo>
                      <a:pt x="953" y="2164"/>
                    </a:lnTo>
                    <a:lnTo>
                      <a:pt x="983" y="2155"/>
                    </a:lnTo>
                    <a:lnTo>
                      <a:pt x="1013" y="2145"/>
                    </a:lnTo>
                    <a:lnTo>
                      <a:pt x="1043" y="2135"/>
                    </a:lnTo>
                    <a:lnTo>
                      <a:pt x="1072" y="2123"/>
                    </a:lnTo>
                    <a:lnTo>
                      <a:pt x="1101" y="2111"/>
                    </a:lnTo>
                    <a:lnTo>
                      <a:pt x="1130" y="2098"/>
                    </a:lnTo>
                    <a:lnTo>
                      <a:pt x="1157" y="2085"/>
                    </a:lnTo>
                    <a:lnTo>
                      <a:pt x="1185" y="2070"/>
                    </a:lnTo>
                    <a:lnTo>
                      <a:pt x="1211" y="2055"/>
                    </a:lnTo>
                    <a:lnTo>
                      <a:pt x="1238" y="2039"/>
                    </a:lnTo>
                    <a:lnTo>
                      <a:pt x="1265" y="2023"/>
                    </a:lnTo>
                    <a:lnTo>
                      <a:pt x="1290" y="2006"/>
                    </a:lnTo>
                    <a:lnTo>
                      <a:pt x="1315" y="1987"/>
                    </a:lnTo>
                    <a:lnTo>
                      <a:pt x="1340" y="1969"/>
                    </a:lnTo>
                    <a:lnTo>
                      <a:pt x="1364" y="1951"/>
                    </a:lnTo>
                    <a:lnTo>
                      <a:pt x="1387" y="1931"/>
                    </a:lnTo>
                    <a:lnTo>
                      <a:pt x="1410" y="1910"/>
                    </a:lnTo>
                    <a:lnTo>
                      <a:pt x="1432" y="1888"/>
                    </a:lnTo>
                    <a:lnTo>
                      <a:pt x="1454" y="1866"/>
                    </a:lnTo>
                    <a:lnTo>
                      <a:pt x="1474" y="1845"/>
                    </a:lnTo>
                    <a:lnTo>
                      <a:pt x="1495" y="1821"/>
                    </a:lnTo>
                    <a:lnTo>
                      <a:pt x="1515" y="1798"/>
                    </a:lnTo>
                    <a:lnTo>
                      <a:pt x="1534" y="1774"/>
                    </a:lnTo>
                    <a:lnTo>
                      <a:pt x="1553" y="1750"/>
                    </a:lnTo>
                    <a:lnTo>
                      <a:pt x="1570" y="1725"/>
                    </a:lnTo>
                    <a:lnTo>
                      <a:pt x="1587" y="1699"/>
                    </a:lnTo>
                    <a:lnTo>
                      <a:pt x="1604" y="1673"/>
                    </a:lnTo>
                    <a:lnTo>
                      <a:pt x="1620" y="1646"/>
                    </a:lnTo>
                    <a:lnTo>
                      <a:pt x="1635" y="1619"/>
                    </a:lnTo>
                    <a:lnTo>
                      <a:pt x="1617" y="1602"/>
                    </a:lnTo>
                    <a:lnTo>
                      <a:pt x="1602" y="1630"/>
                    </a:lnTo>
                    <a:lnTo>
                      <a:pt x="1587" y="1657"/>
                    </a:lnTo>
                    <a:lnTo>
                      <a:pt x="1571" y="1683"/>
                    </a:lnTo>
                    <a:lnTo>
                      <a:pt x="1554" y="1709"/>
                    </a:lnTo>
                    <a:lnTo>
                      <a:pt x="1536" y="1734"/>
                    </a:lnTo>
                    <a:lnTo>
                      <a:pt x="1517" y="1758"/>
                    </a:lnTo>
                    <a:lnTo>
                      <a:pt x="1499" y="1782"/>
                    </a:lnTo>
                    <a:lnTo>
                      <a:pt x="1479" y="1805"/>
                    </a:lnTo>
                    <a:lnTo>
                      <a:pt x="1458" y="1828"/>
                    </a:lnTo>
                    <a:lnTo>
                      <a:pt x="1438" y="1851"/>
                    </a:lnTo>
                    <a:lnTo>
                      <a:pt x="1416" y="1873"/>
                    </a:lnTo>
                    <a:lnTo>
                      <a:pt x="1394" y="1894"/>
                    </a:lnTo>
                    <a:lnTo>
                      <a:pt x="1371" y="1915"/>
                    </a:lnTo>
                    <a:lnTo>
                      <a:pt x="1346" y="1934"/>
                    </a:lnTo>
                    <a:lnTo>
                      <a:pt x="1323" y="1954"/>
                    </a:lnTo>
                    <a:lnTo>
                      <a:pt x="1298" y="1972"/>
                    </a:lnTo>
                    <a:lnTo>
                      <a:pt x="1273" y="1990"/>
                    </a:lnTo>
                    <a:lnTo>
                      <a:pt x="1247" y="2007"/>
                    </a:lnTo>
                    <a:lnTo>
                      <a:pt x="1221" y="2023"/>
                    </a:lnTo>
                    <a:lnTo>
                      <a:pt x="1194" y="2039"/>
                    </a:lnTo>
                    <a:lnTo>
                      <a:pt x="1168" y="2054"/>
                    </a:lnTo>
                    <a:lnTo>
                      <a:pt x="1140" y="2068"/>
                    </a:lnTo>
                    <a:lnTo>
                      <a:pt x="1111" y="2082"/>
                    </a:lnTo>
                    <a:lnTo>
                      <a:pt x="1083" y="2094"/>
                    </a:lnTo>
                    <a:lnTo>
                      <a:pt x="1055" y="2106"/>
                    </a:lnTo>
                    <a:lnTo>
                      <a:pt x="1025" y="2117"/>
                    </a:lnTo>
                    <a:lnTo>
                      <a:pt x="995" y="2127"/>
                    </a:lnTo>
                    <a:lnTo>
                      <a:pt x="965" y="2136"/>
                    </a:lnTo>
                    <a:lnTo>
                      <a:pt x="935" y="2144"/>
                    </a:lnTo>
                    <a:lnTo>
                      <a:pt x="904" y="2152"/>
                    </a:lnTo>
                    <a:lnTo>
                      <a:pt x="872" y="2159"/>
                    </a:lnTo>
                    <a:lnTo>
                      <a:pt x="841" y="2164"/>
                    </a:lnTo>
                    <a:lnTo>
                      <a:pt x="844" y="2167"/>
                    </a:lnTo>
                    <a:lnTo>
                      <a:pt x="860" y="218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16680" y="3649680"/>
                <a:ext cx="430200" cy="573120"/>
              </a:xfrm>
              <a:custGeom>
                <a:avLst/>
                <a:gdLst/>
                <a:ahLst/>
                <a:rect l="l" t="t" r="r" b="b"/>
                <a:pathLst>
                  <a:path w="1627" h="2163">
                    <a:moveTo>
                      <a:pt x="677" y="1"/>
                    </a:moveTo>
                    <a:lnTo>
                      <a:pt x="675" y="1"/>
                    </a:lnTo>
                    <a:lnTo>
                      <a:pt x="674" y="1"/>
                    </a:lnTo>
                    <a:lnTo>
                      <a:pt x="672" y="1"/>
                    </a:lnTo>
                    <a:lnTo>
                      <a:pt x="669" y="1"/>
                    </a:lnTo>
                    <a:lnTo>
                      <a:pt x="668" y="1"/>
                    </a:lnTo>
                    <a:lnTo>
                      <a:pt x="666" y="1"/>
                    </a:lnTo>
                    <a:lnTo>
                      <a:pt x="664" y="1"/>
                    </a:lnTo>
                    <a:lnTo>
                      <a:pt x="662" y="0"/>
                    </a:lnTo>
                    <a:lnTo>
                      <a:pt x="616" y="1"/>
                    </a:lnTo>
                    <a:lnTo>
                      <a:pt x="570" y="4"/>
                    </a:lnTo>
                    <a:lnTo>
                      <a:pt x="524" y="9"/>
                    </a:lnTo>
                    <a:lnTo>
                      <a:pt x="479" y="16"/>
                    </a:lnTo>
                    <a:lnTo>
                      <a:pt x="435" y="24"/>
                    </a:lnTo>
                    <a:lnTo>
                      <a:pt x="391" y="34"/>
                    </a:lnTo>
                    <a:lnTo>
                      <a:pt x="349" y="46"/>
                    </a:lnTo>
                    <a:lnTo>
                      <a:pt x="307" y="59"/>
                    </a:lnTo>
                    <a:lnTo>
                      <a:pt x="266" y="74"/>
                    </a:lnTo>
                    <a:lnTo>
                      <a:pt x="225" y="92"/>
                    </a:lnTo>
                    <a:lnTo>
                      <a:pt x="185" y="110"/>
                    </a:lnTo>
                    <a:lnTo>
                      <a:pt x="146" y="130"/>
                    </a:lnTo>
                    <a:lnTo>
                      <a:pt x="109" y="152"/>
                    </a:lnTo>
                    <a:lnTo>
                      <a:pt x="72" y="175"/>
                    </a:lnTo>
                    <a:lnTo>
                      <a:pt x="35" y="199"/>
                    </a:lnTo>
                    <a:lnTo>
                      <a:pt x="0" y="224"/>
                    </a:lnTo>
                    <a:lnTo>
                      <a:pt x="0" y="240"/>
                    </a:lnTo>
                    <a:lnTo>
                      <a:pt x="3" y="251"/>
                    </a:lnTo>
                    <a:lnTo>
                      <a:pt x="37" y="224"/>
                    </a:lnTo>
                    <a:lnTo>
                      <a:pt x="73" y="200"/>
                    </a:lnTo>
                    <a:lnTo>
                      <a:pt x="110" y="177"/>
                    </a:lnTo>
                    <a:lnTo>
                      <a:pt x="148" y="155"/>
                    </a:lnTo>
                    <a:lnTo>
                      <a:pt x="186" y="134"/>
                    </a:lnTo>
                    <a:lnTo>
                      <a:pt x="225" y="116"/>
                    </a:lnTo>
                    <a:lnTo>
                      <a:pt x="266" y="99"/>
                    </a:lnTo>
                    <a:lnTo>
                      <a:pt x="307" y="84"/>
                    </a:lnTo>
                    <a:lnTo>
                      <a:pt x="350" y="70"/>
                    </a:lnTo>
                    <a:lnTo>
                      <a:pt x="393" y="57"/>
                    </a:lnTo>
                    <a:lnTo>
                      <a:pt x="435" y="47"/>
                    </a:lnTo>
                    <a:lnTo>
                      <a:pt x="480" y="39"/>
                    </a:lnTo>
                    <a:lnTo>
                      <a:pt x="524" y="32"/>
                    </a:lnTo>
                    <a:lnTo>
                      <a:pt x="570" y="27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6" y="23"/>
                    </a:lnTo>
                    <a:lnTo>
                      <a:pt x="671" y="23"/>
                    </a:lnTo>
                    <a:lnTo>
                      <a:pt x="674" y="23"/>
                    </a:lnTo>
                    <a:lnTo>
                      <a:pt x="679" y="23"/>
                    </a:lnTo>
                    <a:lnTo>
                      <a:pt x="682" y="24"/>
                    </a:lnTo>
                    <a:lnTo>
                      <a:pt x="687" y="24"/>
                    </a:lnTo>
                    <a:lnTo>
                      <a:pt x="690" y="24"/>
                    </a:lnTo>
                    <a:lnTo>
                      <a:pt x="695" y="24"/>
                    </a:lnTo>
                    <a:lnTo>
                      <a:pt x="689" y="12"/>
                    </a:lnTo>
                    <a:lnTo>
                      <a:pt x="677" y="1"/>
                    </a:lnTo>
                    <a:close/>
                    <a:moveTo>
                      <a:pt x="850" y="2163"/>
                    </a:moveTo>
                    <a:lnTo>
                      <a:pt x="882" y="2157"/>
                    </a:lnTo>
                    <a:lnTo>
                      <a:pt x="913" y="2151"/>
                    </a:lnTo>
                    <a:lnTo>
                      <a:pt x="944" y="2144"/>
                    </a:lnTo>
                    <a:lnTo>
                      <a:pt x="974" y="2134"/>
                    </a:lnTo>
                    <a:lnTo>
                      <a:pt x="1004" y="2125"/>
                    </a:lnTo>
                    <a:lnTo>
                      <a:pt x="1034" y="2115"/>
                    </a:lnTo>
                    <a:lnTo>
                      <a:pt x="1063" y="2103"/>
                    </a:lnTo>
                    <a:lnTo>
                      <a:pt x="1092" y="2092"/>
                    </a:lnTo>
                    <a:lnTo>
                      <a:pt x="1120" y="2079"/>
                    </a:lnTo>
                    <a:lnTo>
                      <a:pt x="1148" y="2065"/>
                    </a:lnTo>
                    <a:lnTo>
                      <a:pt x="1176" y="2051"/>
                    </a:lnTo>
                    <a:lnTo>
                      <a:pt x="1203" y="2036"/>
                    </a:lnTo>
                    <a:lnTo>
                      <a:pt x="1230" y="2020"/>
                    </a:lnTo>
                    <a:lnTo>
                      <a:pt x="1255" y="2004"/>
                    </a:lnTo>
                    <a:lnTo>
                      <a:pt x="1281" y="1987"/>
                    </a:lnTo>
                    <a:lnTo>
                      <a:pt x="1306" y="1970"/>
                    </a:lnTo>
                    <a:lnTo>
                      <a:pt x="1331" y="1951"/>
                    </a:lnTo>
                    <a:lnTo>
                      <a:pt x="1355" y="1932"/>
                    </a:lnTo>
                    <a:lnTo>
                      <a:pt x="1379" y="1912"/>
                    </a:lnTo>
                    <a:lnTo>
                      <a:pt x="1402" y="1891"/>
                    </a:lnTo>
                    <a:lnTo>
                      <a:pt x="1424" y="1870"/>
                    </a:lnTo>
                    <a:lnTo>
                      <a:pt x="1446" y="1849"/>
                    </a:lnTo>
                    <a:lnTo>
                      <a:pt x="1466" y="1825"/>
                    </a:lnTo>
                    <a:lnTo>
                      <a:pt x="1487" y="1802"/>
                    </a:lnTo>
                    <a:lnTo>
                      <a:pt x="1507" y="1779"/>
                    </a:lnTo>
                    <a:lnTo>
                      <a:pt x="1526" y="1755"/>
                    </a:lnTo>
                    <a:lnTo>
                      <a:pt x="1545" y="1731"/>
                    </a:lnTo>
                    <a:lnTo>
                      <a:pt x="1562" y="1706"/>
                    </a:lnTo>
                    <a:lnTo>
                      <a:pt x="1579" y="1680"/>
                    </a:lnTo>
                    <a:lnTo>
                      <a:pt x="1596" y="1654"/>
                    </a:lnTo>
                    <a:lnTo>
                      <a:pt x="1612" y="1627"/>
                    </a:lnTo>
                    <a:lnTo>
                      <a:pt x="1627" y="1600"/>
                    </a:lnTo>
                    <a:lnTo>
                      <a:pt x="1609" y="1583"/>
                    </a:lnTo>
                    <a:lnTo>
                      <a:pt x="1594" y="1611"/>
                    </a:lnTo>
                    <a:lnTo>
                      <a:pt x="1579" y="1638"/>
                    </a:lnTo>
                    <a:lnTo>
                      <a:pt x="1563" y="1664"/>
                    </a:lnTo>
                    <a:lnTo>
                      <a:pt x="1546" y="1689"/>
                    </a:lnTo>
                    <a:lnTo>
                      <a:pt x="1528" y="1715"/>
                    </a:lnTo>
                    <a:lnTo>
                      <a:pt x="1510" y="1739"/>
                    </a:lnTo>
                    <a:lnTo>
                      <a:pt x="1491" y="1763"/>
                    </a:lnTo>
                    <a:lnTo>
                      <a:pt x="1471" y="1786"/>
                    </a:lnTo>
                    <a:lnTo>
                      <a:pt x="1450" y="1809"/>
                    </a:lnTo>
                    <a:lnTo>
                      <a:pt x="1429" y="1832"/>
                    </a:lnTo>
                    <a:lnTo>
                      <a:pt x="1408" y="1854"/>
                    </a:lnTo>
                    <a:lnTo>
                      <a:pt x="1386" y="1875"/>
                    </a:lnTo>
                    <a:lnTo>
                      <a:pt x="1363" y="1896"/>
                    </a:lnTo>
                    <a:lnTo>
                      <a:pt x="1340" y="1915"/>
                    </a:lnTo>
                    <a:lnTo>
                      <a:pt x="1315" y="1934"/>
                    </a:lnTo>
                    <a:lnTo>
                      <a:pt x="1291" y="1952"/>
                    </a:lnTo>
                    <a:lnTo>
                      <a:pt x="1266" y="1971"/>
                    </a:lnTo>
                    <a:lnTo>
                      <a:pt x="1240" y="1987"/>
                    </a:lnTo>
                    <a:lnTo>
                      <a:pt x="1214" y="2004"/>
                    </a:lnTo>
                    <a:lnTo>
                      <a:pt x="1187" y="2019"/>
                    </a:lnTo>
                    <a:lnTo>
                      <a:pt x="1160" y="2034"/>
                    </a:lnTo>
                    <a:lnTo>
                      <a:pt x="1133" y="2048"/>
                    </a:lnTo>
                    <a:lnTo>
                      <a:pt x="1104" y="2062"/>
                    </a:lnTo>
                    <a:lnTo>
                      <a:pt x="1077" y="2073"/>
                    </a:lnTo>
                    <a:lnTo>
                      <a:pt x="1047" y="2086"/>
                    </a:lnTo>
                    <a:lnTo>
                      <a:pt x="1018" y="2096"/>
                    </a:lnTo>
                    <a:lnTo>
                      <a:pt x="988" y="2107"/>
                    </a:lnTo>
                    <a:lnTo>
                      <a:pt x="958" y="2116"/>
                    </a:lnTo>
                    <a:lnTo>
                      <a:pt x="928" y="2124"/>
                    </a:lnTo>
                    <a:lnTo>
                      <a:pt x="897" y="2131"/>
                    </a:lnTo>
                    <a:lnTo>
                      <a:pt x="865" y="2138"/>
                    </a:lnTo>
                    <a:lnTo>
                      <a:pt x="834" y="2144"/>
                    </a:lnTo>
                    <a:lnTo>
                      <a:pt x="844" y="2156"/>
                    </a:lnTo>
                    <a:lnTo>
                      <a:pt x="850" y="2163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16680" y="3652920"/>
                <a:ext cx="428400" cy="566640"/>
              </a:xfrm>
              <a:custGeom>
                <a:avLst/>
                <a:gdLst/>
                <a:ahLst/>
                <a:rect l="l" t="t" r="r" b="b"/>
                <a:pathLst>
                  <a:path w="1617" h="2142">
                    <a:moveTo>
                      <a:pt x="688" y="1"/>
                    </a:moveTo>
                    <a:lnTo>
                      <a:pt x="684" y="1"/>
                    </a:lnTo>
                    <a:lnTo>
                      <a:pt x="682" y="1"/>
                    </a:lnTo>
                    <a:lnTo>
                      <a:pt x="679" y="1"/>
                    </a:lnTo>
                    <a:lnTo>
                      <a:pt x="675" y="0"/>
                    </a:lnTo>
                    <a:lnTo>
                      <a:pt x="672" y="0"/>
                    </a:lnTo>
                    <a:lnTo>
                      <a:pt x="668" y="0"/>
                    </a:lnTo>
                    <a:lnTo>
                      <a:pt x="666" y="0"/>
                    </a:lnTo>
                    <a:lnTo>
                      <a:pt x="662" y="0"/>
                    </a:lnTo>
                    <a:lnTo>
                      <a:pt x="615" y="1"/>
                    </a:lnTo>
                    <a:lnTo>
                      <a:pt x="569" y="5"/>
                    </a:lnTo>
                    <a:lnTo>
                      <a:pt x="524" y="9"/>
                    </a:lnTo>
                    <a:lnTo>
                      <a:pt x="479" y="16"/>
                    </a:lnTo>
                    <a:lnTo>
                      <a:pt x="435" y="24"/>
                    </a:lnTo>
                    <a:lnTo>
                      <a:pt x="391" y="35"/>
                    </a:lnTo>
                    <a:lnTo>
                      <a:pt x="349" y="47"/>
                    </a:lnTo>
                    <a:lnTo>
                      <a:pt x="306" y="61"/>
                    </a:lnTo>
                    <a:lnTo>
                      <a:pt x="265" y="76"/>
                    </a:lnTo>
                    <a:lnTo>
                      <a:pt x="224" y="93"/>
                    </a:lnTo>
                    <a:lnTo>
                      <a:pt x="185" y="112"/>
                    </a:lnTo>
                    <a:lnTo>
                      <a:pt x="146" y="133"/>
                    </a:lnTo>
                    <a:lnTo>
                      <a:pt x="108" y="153"/>
                    </a:lnTo>
                    <a:lnTo>
                      <a:pt x="71" y="176"/>
                    </a:lnTo>
                    <a:lnTo>
                      <a:pt x="35" y="202"/>
                    </a:lnTo>
                    <a:lnTo>
                      <a:pt x="0" y="227"/>
                    </a:lnTo>
                    <a:lnTo>
                      <a:pt x="0" y="229"/>
                    </a:lnTo>
                    <a:lnTo>
                      <a:pt x="6" y="252"/>
                    </a:lnTo>
                    <a:lnTo>
                      <a:pt x="40" y="226"/>
                    </a:lnTo>
                    <a:lnTo>
                      <a:pt x="75" y="202"/>
                    </a:lnTo>
                    <a:lnTo>
                      <a:pt x="112" y="178"/>
                    </a:lnTo>
                    <a:lnTo>
                      <a:pt x="149" y="156"/>
                    </a:lnTo>
                    <a:lnTo>
                      <a:pt x="188" y="136"/>
                    </a:lnTo>
                    <a:lnTo>
                      <a:pt x="228" y="116"/>
                    </a:lnTo>
                    <a:lnTo>
                      <a:pt x="268" y="99"/>
                    </a:lnTo>
                    <a:lnTo>
                      <a:pt x="308" y="84"/>
                    </a:lnTo>
                    <a:lnTo>
                      <a:pt x="350" y="70"/>
                    </a:lnTo>
                    <a:lnTo>
                      <a:pt x="393" y="58"/>
                    </a:lnTo>
                    <a:lnTo>
                      <a:pt x="436" y="47"/>
                    </a:lnTo>
                    <a:lnTo>
                      <a:pt x="480" y="39"/>
                    </a:lnTo>
                    <a:lnTo>
                      <a:pt x="525" y="32"/>
                    </a:lnTo>
                    <a:lnTo>
                      <a:pt x="570" y="28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7" y="23"/>
                    </a:lnTo>
                    <a:lnTo>
                      <a:pt x="672" y="23"/>
                    </a:lnTo>
                    <a:lnTo>
                      <a:pt x="676" y="23"/>
                    </a:lnTo>
                    <a:lnTo>
                      <a:pt x="681" y="23"/>
                    </a:lnTo>
                    <a:lnTo>
                      <a:pt x="686" y="23"/>
                    </a:lnTo>
                    <a:lnTo>
                      <a:pt x="691" y="23"/>
                    </a:lnTo>
                    <a:lnTo>
                      <a:pt x="696" y="24"/>
                    </a:lnTo>
                    <a:lnTo>
                      <a:pt x="701" y="24"/>
                    </a:lnTo>
                    <a:lnTo>
                      <a:pt x="689" y="1"/>
                    </a:lnTo>
                    <a:lnTo>
                      <a:pt x="688" y="1"/>
                    </a:lnTo>
                    <a:close/>
                    <a:moveTo>
                      <a:pt x="841" y="2142"/>
                    </a:moveTo>
                    <a:lnTo>
                      <a:pt x="872" y="2137"/>
                    </a:lnTo>
                    <a:lnTo>
                      <a:pt x="904" y="2130"/>
                    </a:lnTo>
                    <a:lnTo>
                      <a:pt x="935" y="2122"/>
                    </a:lnTo>
                    <a:lnTo>
                      <a:pt x="965" y="2114"/>
                    </a:lnTo>
                    <a:lnTo>
                      <a:pt x="995" y="2105"/>
                    </a:lnTo>
                    <a:lnTo>
                      <a:pt x="1025" y="2095"/>
                    </a:lnTo>
                    <a:lnTo>
                      <a:pt x="1055" y="2084"/>
                    </a:lnTo>
                    <a:lnTo>
                      <a:pt x="1083" y="2072"/>
                    </a:lnTo>
                    <a:lnTo>
                      <a:pt x="1111" y="2060"/>
                    </a:lnTo>
                    <a:lnTo>
                      <a:pt x="1140" y="2046"/>
                    </a:lnTo>
                    <a:lnTo>
                      <a:pt x="1168" y="2032"/>
                    </a:lnTo>
                    <a:lnTo>
                      <a:pt x="1194" y="2017"/>
                    </a:lnTo>
                    <a:lnTo>
                      <a:pt x="1221" y="2001"/>
                    </a:lnTo>
                    <a:lnTo>
                      <a:pt x="1247" y="1985"/>
                    </a:lnTo>
                    <a:lnTo>
                      <a:pt x="1273" y="1968"/>
                    </a:lnTo>
                    <a:lnTo>
                      <a:pt x="1298" y="1950"/>
                    </a:lnTo>
                    <a:lnTo>
                      <a:pt x="1323" y="1932"/>
                    </a:lnTo>
                    <a:lnTo>
                      <a:pt x="1346" y="1912"/>
                    </a:lnTo>
                    <a:lnTo>
                      <a:pt x="1371" y="1893"/>
                    </a:lnTo>
                    <a:lnTo>
                      <a:pt x="1394" y="1872"/>
                    </a:lnTo>
                    <a:lnTo>
                      <a:pt x="1416" y="1851"/>
                    </a:lnTo>
                    <a:lnTo>
                      <a:pt x="1438" y="1829"/>
                    </a:lnTo>
                    <a:lnTo>
                      <a:pt x="1458" y="1806"/>
                    </a:lnTo>
                    <a:lnTo>
                      <a:pt x="1479" y="1783"/>
                    </a:lnTo>
                    <a:lnTo>
                      <a:pt x="1499" y="1760"/>
                    </a:lnTo>
                    <a:lnTo>
                      <a:pt x="1517" y="1736"/>
                    </a:lnTo>
                    <a:lnTo>
                      <a:pt x="1536" y="1712"/>
                    </a:lnTo>
                    <a:lnTo>
                      <a:pt x="1554" y="1687"/>
                    </a:lnTo>
                    <a:lnTo>
                      <a:pt x="1571" y="1661"/>
                    </a:lnTo>
                    <a:lnTo>
                      <a:pt x="1587" y="1635"/>
                    </a:lnTo>
                    <a:lnTo>
                      <a:pt x="1602" y="1608"/>
                    </a:lnTo>
                    <a:lnTo>
                      <a:pt x="1617" y="1580"/>
                    </a:lnTo>
                    <a:lnTo>
                      <a:pt x="1608" y="1571"/>
                    </a:lnTo>
                    <a:lnTo>
                      <a:pt x="1601" y="1563"/>
                    </a:lnTo>
                    <a:lnTo>
                      <a:pt x="1586" y="1591"/>
                    </a:lnTo>
                    <a:lnTo>
                      <a:pt x="1571" y="1617"/>
                    </a:lnTo>
                    <a:lnTo>
                      <a:pt x="1555" y="1644"/>
                    </a:lnTo>
                    <a:lnTo>
                      <a:pt x="1538" y="1669"/>
                    </a:lnTo>
                    <a:lnTo>
                      <a:pt x="1521" y="1695"/>
                    </a:lnTo>
                    <a:lnTo>
                      <a:pt x="1502" y="1719"/>
                    </a:lnTo>
                    <a:lnTo>
                      <a:pt x="1483" y="1743"/>
                    </a:lnTo>
                    <a:lnTo>
                      <a:pt x="1464" y="1767"/>
                    </a:lnTo>
                    <a:lnTo>
                      <a:pt x="1443" y="1790"/>
                    </a:lnTo>
                    <a:lnTo>
                      <a:pt x="1423" y="1812"/>
                    </a:lnTo>
                    <a:lnTo>
                      <a:pt x="1401" y="1834"/>
                    </a:lnTo>
                    <a:lnTo>
                      <a:pt x="1379" y="1855"/>
                    </a:lnTo>
                    <a:lnTo>
                      <a:pt x="1356" y="1876"/>
                    </a:lnTo>
                    <a:lnTo>
                      <a:pt x="1333" y="1895"/>
                    </a:lnTo>
                    <a:lnTo>
                      <a:pt x="1308" y="1915"/>
                    </a:lnTo>
                    <a:lnTo>
                      <a:pt x="1284" y="1932"/>
                    </a:lnTo>
                    <a:lnTo>
                      <a:pt x="1259" y="1950"/>
                    </a:lnTo>
                    <a:lnTo>
                      <a:pt x="1233" y="1968"/>
                    </a:lnTo>
                    <a:lnTo>
                      <a:pt x="1207" y="1984"/>
                    </a:lnTo>
                    <a:lnTo>
                      <a:pt x="1180" y="1999"/>
                    </a:lnTo>
                    <a:lnTo>
                      <a:pt x="1153" y="2014"/>
                    </a:lnTo>
                    <a:lnTo>
                      <a:pt x="1125" y="2028"/>
                    </a:lnTo>
                    <a:lnTo>
                      <a:pt x="1097" y="2042"/>
                    </a:lnTo>
                    <a:lnTo>
                      <a:pt x="1070" y="2053"/>
                    </a:lnTo>
                    <a:lnTo>
                      <a:pt x="1040" y="2065"/>
                    </a:lnTo>
                    <a:lnTo>
                      <a:pt x="1011" y="2076"/>
                    </a:lnTo>
                    <a:lnTo>
                      <a:pt x="981" y="2085"/>
                    </a:lnTo>
                    <a:lnTo>
                      <a:pt x="951" y="2095"/>
                    </a:lnTo>
                    <a:lnTo>
                      <a:pt x="921" y="2103"/>
                    </a:lnTo>
                    <a:lnTo>
                      <a:pt x="890" y="2110"/>
                    </a:lnTo>
                    <a:lnTo>
                      <a:pt x="859" y="2116"/>
                    </a:lnTo>
                    <a:lnTo>
                      <a:pt x="827" y="2122"/>
                    </a:lnTo>
                    <a:lnTo>
                      <a:pt x="841" y="2142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18120" y="3656160"/>
                <a:ext cx="424080" cy="561960"/>
              </a:xfrm>
              <a:custGeom>
                <a:avLst/>
                <a:gdLst/>
                <a:ahLst/>
                <a:rect l="l" t="t" r="r" b="b"/>
                <a:pathLst>
                  <a:path w="1606" h="2121">
                    <a:moveTo>
                      <a:pt x="692" y="1"/>
                    </a:moveTo>
                    <a:lnTo>
                      <a:pt x="687" y="1"/>
                    </a:lnTo>
                    <a:lnTo>
                      <a:pt x="684" y="1"/>
                    </a:lnTo>
                    <a:lnTo>
                      <a:pt x="679" y="1"/>
                    </a:lnTo>
                    <a:lnTo>
                      <a:pt x="676" y="0"/>
                    </a:lnTo>
                    <a:lnTo>
                      <a:pt x="671" y="0"/>
                    </a:lnTo>
                    <a:lnTo>
                      <a:pt x="668" y="0"/>
                    </a:lnTo>
                    <a:lnTo>
                      <a:pt x="663" y="0"/>
                    </a:lnTo>
                    <a:lnTo>
                      <a:pt x="659" y="0"/>
                    </a:lnTo>
                    <a:lnTo>
                      <a:pt x="613" y="1"/>
                    </a:lnTo>
                    <a:lnTo>
                      <a:pt x="567" y="4"/>
                    </a:lnTo>
                    <a:lnTo>
                      <a:pt x="521" y="9"/>
                    </a:lnTo>
                    <a:lnTo>
                      <a:pt x="477" y="16"/>
                    </a:lnTo>
                    <a:lnTo>
                      <a:pt x="432" y="24"/>
                    </a:lnTo>
                    <a:lnTo>
                      <a:pt x="390" y="34"/>
                    </a:lnTo>
                    <a:lnTo>
                      <a:pt x="347" y="47"/>
                    </a:lnTo>
                    <a:lnTo>
                      <a:pt x="304" y="61"/>
                    </a:lnTo>
                    <a:lnTo>
                      <a:pt x="263" y="76"/>
                    </a:lnTo>
                    <a:lnTo>
                      <a:pt x="222" y="93"/>
                    </a:lnTo>
                    <a:lnTo>
                      <a:pt x="183" y="111"/>
                    </a:lnTo>
                    <a:lnTo>
                      <a:pt x="145" y="132"/>
                    </a:lnTo>
                    <a:lnTo>
                      <a:pt x="107" y="154"/>
                    </a:lnTo>
                    <a:lnTo>
                      <a:pt x="70" y="177"/>
                    </a:lnTo>
                    <a:lnTo>
                      <a:pt x="34" y="201"/>
                    </a:lnTo>
                    <a:lnTo>
                      <a:pt x="0" y="228"/>
                    </a:lnTo>
                    <a:lnTo>
                      <a:pt x="5" y="252"/>
                    </a:lnTo>
                    <a:lnTo>
                      <a:pt x="40" y="226"/>
                    </a:lnTo>
                    <a:lnTo>
                      <a:pt x="75" y="201"/>
                    </a:lnTo>
                    <a:lnTo>
                      <a:pt x="112" y="178"/>
                    </a:lnTo>
                    <a:lnTo>
                      <a:pt x="148" y="155"/>
                    </a:lnTo>
                    <a:lnTo>
                      <a:pt x="187" y="136"/>
                    </a:lnTo>
                    <a:lnTo>
                      <a:pt x="226" y="116"/>
                    </a:lnTo>
                    <a:lnTo>
                      <a:pt x="266" y="99"/>
                    </a:lnTo>
                    <a:lnTo>
                      <a:pt x="307" y="84"/>
                    </a:lnTo>
                    <a:lnTo>
                      <a:pt x="348" y="70"/>
                    </a:lnTo>
                    <a:lnTo>
                      <a:pt x="391" y="57"/>
                    </a:lnTo>
                    <a:lnTo>
                      <a:pt x="435" y="47"/>
                    </a:lnTo>
                    <a:lnTo>
                      <a:pt x="478" y="38"/>
                    </a:lnTo>
                    <a:lnTo>
                      <a:pt x="522" y="32"/>
                    </a:lnTo>
                    <a:lnTo>
                      <a:pt x="567" y="26"/>
                    </a:lnTo>
                    <a:lnTo>
                      <a:pt x="613" y="24"/>
                    </a:lnTo>
                    <a:lnTo>
                      <a:pt x="659" y="23"/>
                    </a:lnTo>
                    <a:lnTo>
                      <a:pt x="665" y="23"/>
                    </a:lnTo>
                    <a:lnTo>
                      <a:pt x="670" y="23"/>
                    </a:lnTo>
                    <a:lnTo>
                      <a:pt x="676" y="23"/>
                    </a:lnTo>
                    <a:lnTo>
                      <a:pt x="681" y="23"/>
                    </a:lnTo>
                    <a:lnTo>
                      <a:pt x="687" y="23"/>
                    </a:lnTo>
                    <a:lnTo>
                      <a:pt x="692" y="23"/>
                    </a:lnTo>
                    <a:lnTo>
                      <a:pt x="698" y="23"/>
                    </a:lnTo>
                    <a:lnTo>
                      <a:pt x="703" y="24"/>
                    </a:lnTo>
                    <a:lnTo>
                      <a:pt x="692" y="1"/>
                    </a:lnTo>
                    <a:close/>
                    <a:moveTo>
                      <a:pt x="831" y="2121"/>
                    </a:moveTo>
                    <a:lnTo>
                      <a:pt x="862" y="2115"/>
                    </a:lnTo>
                    <a:lnTo>
                      <a:pt x="894" y="2108"/>
                    </a:lnTo>
                    <a:lnTo>
                      <a:pt x="925" y="2101"/>
                    </a:lnTo>
                    <a:lnTo>
                      <a:pt x="955" y="2093"/>
                    </a:lnTo>
                    <a:lnTo>
                      <a:pt x="985" y="2084"/>
                    </a:lnTo>
                    <a:lnTo>
                      <a:pt x="1015" y="2073"/>
                    </a:lnTo>
                    <a:lnTo>
                      <a:pt x="1044" y="2063"/>
                    </a:lnTo>
                    <a:lnTo>
                      <a:pt x="1074" y="2050"/>
                    </a:lnTo>
                    <a:lnTo>
                      <a:pt x="1101" y="2039"/>
                    </a:lnTo>
                    <a:lnTo>
                      <a:pt x="1130" y="2025"/>
                    </a:lnTo>
                    <a:lnTo>
                      <a:pt x="1157" y="2011"/>
                    </a:lnTo>
                    <a:lnTo>
                      <a:pt x="1184" y="1996"/>
                    </a:lnTo>
                    <a:lnTo>
                      <a:pt x="1211" y="1981"/>
                    </a:lnTo>
                    <a:lnTo>
                      <a:pt x="1237" y="1964"/>
                    </a:lnTo>
                    <a:lnTo>
                      <a:pt x="1263" y="1948"/>
                    </a:lnTo>
                    <a:lnTo>
                      <a:pt x="1288" y="1929"/>
                    </a:lnTo>
                    <a:lnTo>
                      <a:pt x="1312" y="1911"/>
                    </a:lnTo>
                    <a:lnTo>
                      <a:pt x="1337" y="1892"/>
                    </a:lnTo>
                    <a:lnTo>
                      <a:pt x="1360" y="1873"/>
                    </a:lnTo>
                    <a:lnTo>
                      <a:pt x="1383" y="1852"/>
                    </a:lnTo>
                    <a:lnTo>
                      <a:pt x="1405" y="1831"/>
                    </a:lnTo>
                    <a:lnTo>
                      <a:pt x="1426" y="1809"/>
                    </a:lnTo>
                    <a:lnTo>
                      <a:pt x="1447" y="1786"/>
                    </a:lnTo>
                    <a:lnTo>
                      <a:pt x="1468" y="1763"/>
                    </a:lnTo>
                    <a:lnTo>
                      <a:pt x="1488" y="1740"/>
                    </a:lnTo>
                    <a:lnTo>
                      <a:pt x="1507" y="1716"/>
                    </a:lnTo>
                    <a:lnTo>
                      <a:pt x="1525" y="1692"/>
                    </a:lnTo>
                    <a:lnTo>
                      <a:pt x="1543" y="1666"/>
                    </a:lnTo>
                    <a:lnTo>
                      <a:pt x="1560" y="1641"/>
                    </a:lnTo>
                    <a:lnTo>
                      <a:pt x="1576" y="1615"/>
                    </a:lnTo>
                    <a:lnTo>
                      <a:pt x="1591" y="1588"/>
                    </a:lnTo>
                    <a:lnTo>
                      <a:pt x="1606" y="1560"/>
                    </a:lnTo>
                    <a:lnTo>
                      <a:pt x="1605" y="1559"/>
                    </a:lnTo>
                    <a:lnTo>
                      <a:pt x="1590" y="1543"/>
                    </a:lnTo>
                    <a:lnTo>
                      <a:pt x="1575" y="1570"/>
                    </a:lnTo>
                    <a:lnTo>
                      <a:pt x="1560" y="1596"/>
                    </a:lnTo>
                    <a:lnTo>
                      <a:pt x="1544" y="1623"/>
                    </a:lnTo>
                    <a:lnTo>
                      <a:pt x="1527" y="1649"/>
                    </a:lnTo>
                    <a:lnTo>
                      <a:pt x="1510" y="1673"/>
                    </a:lnTo>
                    <a:lnTo>
                      <a:pt x="1491" y="1699"/>
                    </a:lnTo>
                    <a:lnTo>
                      <a:pt x="1473" y="1723"/>
                    </a:lnTo>
                    <a:lnTo>
                      <a:pt x="1453" y="1746"/>
                    </a:lnTo>
                    <a:lnTo>
                      <a:pt x="1433" y="1769"/>
                    </a:lnTo>
                    <a:lnTo>
                      <a:pt x="1411" y="1791"/>
                    </a:lnTo>
                    <a:lnTo>
                      <a:pt x="1391" y="1813"/>
                    </a:lnTo>
                    <a:lnTo>
                      <a:pt x="1369" y="1835"/>
                    </a:lnTo>
                    <a:lnTo>
                      <a:pt x="1346" y="1854"/>
                    </a:lnTo>
                    <a:lnTo>
                      <a:pt x="1323" y="1874"/>
                    </a:lnTo>
                    <a:lnTo>
                      <a:pt x="1298" y="1894"/>
                    </a:lnTo>
                    <a:lnTo>
                      <a:pt x="1274" y="1912"/>
                    </a:lnTo>
                    <a:lnTo>
                      <a:pt x="1249" y="1929"/>
                    </a:lnTo>
                    <a:lnTo>
                      <a:pt x="1223" y="1947"/>
                    </a:lnTo>
                    <a:lnTo>
                      <a:pt x="1197" y="1963"/>
                    </a:lnTo>
                    <a:lnTo>
                      <a:pt x="1170" y="1978"/>
                    </a:lnTo>
                    <a:lnTo>
                      <a:pt x="1143" y="1993"/>
                    </a:lnTo>
                    <a:lnTo>
                      <a:pt x="1116" y="2007"/>
                    </a:lnTo>
                    <a:lnTo>
                      <a:pt x="1087" y="2020"/>
                    </a:lnTo>
                    <a:lnTo>
                      <a:pt x="1060" y="2032"/>
                    </a:lnTo>
                    <a:lnTo>
                      <a:pt x="1030" y="2043"/>
                    </a:lnTo>
                    <a:lnTo>
                      <a:pt x="1001" y="2054"/>
                    </a:lnTo>
                    <a:lnTo>
                      <a:pt x="971" y="2064"/>
                    </a:lnTo>
                    <a:lnTo>
                      <a:pt x="941" y="2073"/>
                    </a:lnTo>
                    <a:lnTo>
                      <a:pt x="911" y="2081"/>
                    </a:lnTo>
                    <a:lnTo>
                      <a:pt x="880" y="2088"/>
                    </a:lnTo>
                    <a:lnTo>
                      <a:pt x="849" y="2094"/>
                    </a:lnTo>
                    <a:lnTo>
                      <a:pt x="817" y="2100"/>
                    </a:lnTo>
                    <a:lnTo>
                      <a:pt x="831" y="212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8120" y="3659040"/>
                <a:ext cx="422280" cy="555840"/>
              </a:xfrm>
              <a:custGeom>
                <a:avLst/>
                <a:gdLst/>
                <a:ahLst/>
                <a:rect l="l" t="t" r="r" b="b"/>
                <a:pathLst>
                  <a:path w="1595" h="2099">
                    <a:moveTo>
                      <a:pt x="695" y="1"/>
                    </a:moveTo>
                    <a:lnTo>
                      <a:pt x="690" y="1"/>
                    </a:lnTo>
                    <a:lnTo>
                      <a:pt x="684" y="0"/>
                    </a:lnTo>
                    <a:lnTo>
                      <a:pt x="680" y="0"/>
                    </a:lnTo>
                    <a:lnTo>
                      <a:pt x="675" y="0"/>
                    </a:lnTo>
                    <a:lnTo>
                      <a:pt x="670" y="0"/>
                    </a:lnTo>
                    <a:lnTo>
                      <a:pt x="666" y="0"/>
                    </a:lnTo>
                    <a:lnTo>
                      <a:pt x="661" y="0"/>
                    </a:lnTo>
                    <a:lnTo>
                      <a:pt x="656" y="0"/>
                    </a:lnTo>
                    <a:lnTo>
                      <a:pt x="610" y="1"/>
                    </a:lnTo>
                    <a:lnTo>
                      <a:pt x="564" y="5"/>
                    </a:lnTo>
                    <a:lnTo>
                      <a:pt x="519" y="9"/>
                    </a:lnTo>
                    <a:lnTo>
                      <a:pt x="474" y="16"/>
                    </a:lnTo>
                    <a:lnTo>
                      <a:pt x="430" y="24"/>
                    </a:lnTo>
                    <a:lnTo>
                      <a:pt x="387" y="35"/>
                    </a:lnTo>
                    <a:lnTo>
                      <a:pt x="344" y="47"/>
                    </a:lnTo>
                    <a:lnTo>
                      <a:pt x="302" y="61"/>
                    </a:lnTo>
                    <a:lnTo>
                      <a:pt x="262" y="76"/>
                    </a:lnTo>
                    <a:lnTo>
                      <a:pt x="222" y="93"/>
                    </a:lnTo>
                    <a:lnTo>
                      <a:pt x="182" y="113"/>
                    </a:lnTo>
                    <a:lnTo>
                      <a:pt x="143" y="133"/>
                    </a:lnTo>
                    <a:lnTo>
                      <a:pt x="106" y="155"/>
                    </a:lnTo>
                    <a:lnTo>
                      <a:pt x="69" y="178"/>
                    </a:lnTo>
                    <a:lnTo>
                      <a:pt x="34" y="203"/>
                    </a:lnTo>
                    <a:lnTo>
                      <a:pt x="0" y="229"/>
                    </a:lnTo>
                    <a:lnTo>
                      <a:pt x="6" y="254"/>
                    </a:lnTo>
                    <a:lnTo>
                      <a:pt x="39" y="227"/>
                    </a:lnTo>
                    <a:lnTo>
                      <a:pt x="74" y="202"/>
                    </a:lnTo>
                    <a:lnTo>
                      <a:pt x="111" y="179"/>
                    </a:lnTo>
                    <a:lnTo>
                      <a:pt x="148" y="157"/>
                    </a:lnTo>
                    <a:lnTo>
                      <a:pt x="186" y="136"/>
                    </a:lnTo>
                    <a:lnTo>
                      <a:pt x="225" y="118"/>
                    </a:lnTo>
                    <a:lnTo>
                      <a:pt x="264" y="100"/>
                    </a:lnTo>
                    <a:lnTo>
                      <a:pt x="305" y="84"/>
                    </a:lnTo>
                    <a:lnTo>
                      <a:pt x="346" y="70"/>
                    </a:lnTo>
                    <a:lnTo>
                      <a:pt x="389" y="58"/>
                    </a:lnTo>
                    <a:lnTo>
                      <a:pt x="432" y="47"/>
                    </a:lnTo>
                    <a:lnTo>
                      <a:pt x="475" y="38"/>
                    </a:lnTo>
                    <a:lnTo>
                      <a:pt x="519" y="32"/>
                    </a:lnTo>
                    <a:lnTo>
                      <a:pt x="564" y="27"/>
                    </a:lnTo>
                    <a:lnTo>
                      <a:pt x="610" y="24"/>
                    </a:lnTo>
                    <a:lnTo>
                      <a:pt x="656" y="23"/>
                    </a:lnTo>
                    <a:lnTo>
                      <a:pt x="662" y="23"/>
                    </a:lnTo>
                    <a:lnTo>
                      <a:pt x="669" y="23"/>
                    </a:lnTo>
                    <a:lnTo>
                      <a:pt x="675" y="23"/>
                    </a:lnTo>
                    <a:lnTo>
                      <a:pt x="682" y="23"/>
                    </a:lnTo>
                    <a:lnTo>
                      <a:pt x="688" y="23"/>
                    </a:lnTo>
                    <a:lnTo>
                      <a:pt x="693" y="23"/>
                    </a:lnTo>
                    <a:lnTo>
                      <a:pt x="700" y="24"/>
                    </a:lnTo>
                    <a:lnTo>
                      <a:pt x="706" y="24"/>
                    </a:lnTo>
                    <a:lnTo>
                      <a:pt x="695" y="1"/>
                    </a:lnTo>
                    <a:close/>
                    <a:moveTo>
                      <a:pt x="821" y="2099"/>
                    </a:moveTo>
                    <a:lnTo>
                      <a:pt x="853" y="2093"/>
                    </a:lnTo>
                    <a:lnTo>
                      <a:pt x="884" y="2087"/>
                    </a:lnTo>
                    <a:lnTo>
                      <a:pt x="915" y="2080"/>
                    </a:lnTo>
                    <a:lnTo>
                      <a:pt x="945" y="2072"/>
                    </a:lnTo>
                    <a:lnTo>
                      <a:pt x="975" y="2062"/>
                    </a:lnTo>
                    <a:lnTo>
                      <a:pt x="1005" y="2053"/>
                    </a:lnTo>
                    <a:lnTo>
                      <a:pt x="1034" y="2042"/>
                    </a:lnTo>
                    <a:lnTo>
                      <a:pt x="1064" y="2030"/>
                    </a:lnTo>
                    <a:lnTo>
                      <a:pt x="1091" y="2019"/>
                    </a:lnTo>
                    <a:lnTo>
                      <a:pt x="1120" y="2005"/>
                    </a:lnTo>
                    <a:lnTo>
                      <a:pt x="1147" y="1991"/>
                    </a:lnTo>
                    <a:lnTo>
                      <a:pt x="1174" y="1976"/>
                    </a:lnTo>
                    <a:lnTo>
                      <a:pt x="1201" y="1961"/>
                    </a:lnTo>
                    <a:lnTo>
                      <a:pt x="1227" y="1945"/>
                    </a:lnTo>
                    <a:lnTo>
                      <a:pt x="1253" y="1927"/>
                    </a:lnTo>
                    <a:lnTo>
                      <a:pt x="1278" y="1909"/>
                    </a:lnTo>
                    <a:lnTo>
                      <a:pt x="1302" y="1892"/>
                    </a:lnTo>
                    <a:lnTo>
                      <a:pt x="1327" y="1872"/>
                    </a:lnTo>
                    <a:lnTo>
                      <a:pt x="1350" y="1853"/>
                    </a:lnTo>
                    <a:lnTo>
                      <a:pt x="1373" y="1832"/>
                    </a:lnTo>
                    <a:lnTo>
                      <a:pt x="1395" y="1811"/>
                    </a:lnTo>
                    <a:lnTo>
                      <a:pt x="1417" y="1789"/>
                    </a:lnTo>
                    <a:lnTo>
                      <a:pt x="1437" y="1767"/>
                    </a:lnTo>
                    <a:lnTo>
                      <a:pt x="1458" y="1744"/>
                    </a:lnTo>
                    <a:lnTo>
                      <a:pt x="1478" y="1720"/>
                    </a:lnTo>
                    <a:lnTo>
                      <a:pt x="1496" y="1696"/>
                    </a:lnTo>
                    <a:lnTo>
                      <a:pt x="1515" y="1672"/>
                    </a:lnTo>
                    <a:lnTo>
                      <a:pt x="1532" y="1646"/>
                    </a:lnTo>
                    <a:lnTo>
                      <a:pt x="1549" y="1621"/>
                    </a:lnTo>
                    <a:lnTo>
                      <a:pt x="1565" y="1594"/>
                    </a:lnTo>
                    <a:lnTo>
                      <a:pt x="1580" y="1568"/>
                    </a:lnTo>
                    <a:lnTo>
                      <a:pt x="1595" y="1540"/>
                    </a:lnTo>
                    <a:lnTo>
                      <a:pt x="1579" y="1523"/>
                    </a:lnTo>
                    <a:lnTo>
                      <a:pt x="1564" y="1551"/>
                    </a:lnTo>
                    <a:lnTo>
                      <a:pt x="1549" y="1577"/>
                    </a:lnTo>
                    <a:lnTo>
                      <a:pt x="1533" y="1604"/>
                    </a:lnTo>
                    <a:lnTo>
                      <a:pt x="1517" y="1629"/>
                    </a:lnTo>
                    <a:lnTo>
                      <a:pt x="1500" y="1654"/>
                    </a:lnTo>
                    <a:lnTo>
                      <a:pt x="1481" y="1678"/>
                    </a:lnTo>
                    <a:lnTo>
                      <a:pt x="1463" y="1703"/>
                    </a:lnTo>
                    <a:lnTo>
                      <a:pt x="1443" y="1726"/>
                    </a:lnTo>
                    <a:lnTo>
                      <a:pt x="1422" y="1749"/>
                    </a:lnTo>
                    <a:lnTo>
                      <a:pt x="1402" y="1772"/>
                    </a:lnTo>
                    <a:lnTo>
                      <a:pt x="1380" y="1794"/>
                    </a:lnTo>
                    <a:lnTo>
                      <a:pt x="1358" y="1815"/>
                    </a:lnTo>
                    <a:lnTo>
                      <a:pt x="1336" y="1835"/>
                    </a:lnTo>
                    <a:lnTo>
                      <a:pt x="1312" y="1855"/>
                    </a:lnTo>
                    <a:lnTo>
                      <a:pt x="1289" y="1873"/>
                    </a:lnTo>
                    <a:lnTo>
                      <a:pt x="1263" y="1892"/>
                    </a:lnTo>
                    <a:lnTo>
                      <a:pt x="1239" y="1909"/>
                    </a:lnTo>
                    <a:lnTo>
                      <a:pt x="1214" y="1926"/>
                    </a:lnTo>
                    <a:lnTo>
                      <a:pt x="1187" y="1942"/>
                    </a:lnTo>
                    <a:lnTo>
                      <a:pt x="1160" y="1957"/>
                    </a:lnTo>
                    <a:lnTo>
                      <a:pt x="1133" y="1972"/>
                    </a:lnTo>
                    <a:lnTo>
                      <a:pt x="1105" y="1986"/>
                    </a:lnTo>
                    <a:lnTo>
                      <a:pt x="1077" y="1999"/>
                    </a:lnTo>
                    <a:lnTo>
                      <a:pt x="1049" y="2012"/>
                    </a:lnTo>
                    <a:lnTo>
                      <a:pt x="1020" y="2023"/>
                    </a:lnTo>
                    <a:lnTo>
                      <a:pt x="991" y="2034"/>
                    </a:lnTo>
                    <a:lnTo>
                      <a:pt x="961" y="2043"/>
                    </a:lnTo>
                    <a:lnTo>
                      <a:pt x="931" y="2052"/>
                    </a:lnTo>
                    <a:lnTo>
                      <a:pt x="900" y="2060"/>
                    </a:lnTo>
                    <a:lnTo>
                      <a:pt x="870" y="2067"/>
                    </a:lnTo>
                    <a:lnTo>
                      <a:pt x="839" y="2073"/>
                    </a:lnTo>
                    <a:lnTo>
                      <a:pt x="806" y="2077"/>
                    </a:lnTo>
                    <a:lnTo>
                      <a:pt x="821" y="2099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019920" y="3662280"/>
                <a:ext cx="419040" cy="549360"/>
              </a:xfrm>
              <a:custGeom>
                <a:avLst/>
                <a:gdLst/>
                <a:ahLst/>
                <a:rect l="l" t="t" r="r" b="b"/>
                <a:pathLst>
                  <a:path w="1585" h="2077">
                    <a:moveTo>
                      <a:pt x="698" y="1"/>
                    </a:moveTo>
                    <a:lnTo>
                      <a:pt x="693" y="1"/>
                    </a:lnTo>
                    <a:lnTo>
                      <a:pt x="687" y="0"/>
                    </a:lnTo>
                    <a:lnTo>
                      <a:pt x="682" y="0"/>
                    </a:lnTo>
                    <a:lnTo>
                      <a:pt x="676" y="0"/>
                    </a:lnTo>
                    <a:lnTo>
                      <a:pt x="671" y="0"/>
                    </a:lnTo>
                    <a:lnTo>
                      <a:pt x="665" y="0"/>
                    </a:lnTo>
                    <a:lnTo>
                      <a:pt x="660" y="0"/>
                    </a:lnTo>
                    <a:lnTo>
                      <a:pt x="654" y="0"/>
                    </a:lnTo>
                    <a:lnTo>
                      <a:pt x="608" y="1"/>
                    </a:lnTo>
                    <a:lnTo>
                      <a:pt x="562" y="3"/>
                    </a:lnTo>
                    <a:lnTo>
                      <a:pt x="517" y="9"/>
                    </a:lnTo>
                    <a:lnTo>
                      <a:pt x="473" y="15"/>
                    </a:lnTo>
                    <a:lnTo>
                      <a:pt x="430" y="24"/>
                    </a:lnTo>
                    <a:lnTo>
                      <a:pt x="386" y="34"/>
                    </a:lnTo>
                    <a:lnTo>
                      <a:pt x="343" y="47"/>
                    </a:lnTo>
                    <a:lnTo>
                      <a:pt x="302" y="61"/>
                    </a:lnTo>
                    <a:lnTo>
                      <a:pt x="261" y="76"/>
                    </a:lnTo>
                    <a:lnTo>
                      <a:pt x="221" y="93"/>
                    </a:lnTo>
                    <a:lnTo>
                      <a:pt x="182" y="113"/>
                    </a:lnTo>
                    <a:lnTo>
                      <a:pt x="143" y="132"/>
                    </a:lnTo>
                    <a:lnTo>
                      <a:pt x="107" y="155"/>
                    </a:lnTo>
                    <a:lnTo>
                      <a:pt x="70" y="178"/>
                    </a:lnTo>
                    <a:lnTo>
                      <a:pt x="35" y="203"/>
                    </a:lnTo>
                    <a:lnTo>
                      <a:pt x="0" y="229"/>
                    </a:lnTo>
                    <a:lnTo>
                      <a:pt x="6" y="253"/>
                    </a:lnTo>
                    <a:lnTo>
                      <a:pt x="40" y="227"/>
                    </a:lnTo>
                    <a:lnTo>
                      <a:pt x="75" y="203"/>
                    </a:lnTo>
                    <a:lnTo>
                      <a:pt x="111" y="178"/>
                    </a:lnTo>
                    <a:lnTo>
                      <a:pt x="148" y="156"/>
                    </a:lnTo>
                    <a:lnTo>
                      <a:pt x="185" y="136"/>
                    </a:lnTo>
                    <a:lnTo>
                      <a:pt x="224" y="117"/>
                    </a:lnTo>
                    <a:lnTo>
                      <a:pt x="263" y="100"/>
                    </a:lnTo>
                    <a:lnTo>
                      <a:pt x="304" y="84"/>
                    </a:lnTo>
                    <a:lnTo>
                      <a:pt x="345" y="70"/>
                    </a:lnTo>
                    <a:lnTo>
                      <a:pt x="388" y="57"/>
                    </a:lnTo>
                    <a:lnTo>
                      <a:pt x="431" y="47"/>
                    </a:lnTo>
                    <a:lnTo>
                      <a:pt x="475" y="38"/>
                    </a:lnTo>
                    <a:lnTo>
                      <a:pt x="518" y="31"/>
                    </a:lnTo>
                    <a:lnTo>
                      <a:pt x="563" y="26"/>
                    </a:lnTo>
                    <a:lnTo>
                      <a:pt x="608" y="23"/>
                    </a:lnTo>
                    <a:lnTo>
                      <a:pt x="654" y="23"/>
                    </a:lnTo>
                    <a:lnTo>
                      <a:pt x="661" y="23"/>
                    </a:lnTo>
                    <a:lnTo>
                      <a:pt x="668" y="23"/>
                    </a:lnTo>
                    <a:lnTo>
                      <a:pt x="675" y="23"/>
                    </a:lnTo>
                    <a:lnTo>
                      <a:pt x="682" y="23"/>
                    </a:lnTo>
                    <a:lnTo>
                      <a:pt x="689" y="23"/>
                    </a:lnTo>
                    <a:lnTo>
                      <a:pt x="696" y="23"/>
                    </a:lnTo>
                    <a:lnTo>
                      <a:pt x="703" y="24"/>
                    </a:lnTo>
                    <a:lnTo>
                      <a:pt x="711" y="24"/>
                    </a:lnTo>
                    <a:lnTo>
                      <a:pt x="698" y="1"/>
                    </a:lnTo>
                    <a:close/>
                    <a:moveTo>
                      <a:pt x="812" y="2077"/>
                    </a:moveTo>
                    <a:lnTo>
                      <a:pt x="844" y="2071"/>
                    </a:lnTo>
                    <a:lnTo>
                      <a:pt x="875" y="2065"/>
                    </a:lnTo>
                    <a:lnTo>
                      <a:pt x="906" y="2058"/>
                    </a:lnTo>
                    <a:lnTo>
                      <a:pt x="936" y="2050"/>
                    </a:lnTo>
                    <a:lnTo>
                      <a:pt x="966" y="2041"/>
                    </a:lnTo>
                    <a:lnTo>
                      <a:pt x="996" y="2031"/>
                    </a:lnTo>
                    <a:lnTo>
                      <a:pt x="1025" y="2020"/>
                    </a:lnTo>
                    <a:lnTo>
                      <a:pt x="1055" y="2009"/>
                    </a:lnTo>
                    <a:lnTo>
                      <a:pt x="1082" y="1997"/>
                    </a:lnTo>
                    <a:lnTo>
                      <a:pt x="1111" y="1984"/>
                    </a:lnTo>
                    <a:lnTo>
                      <a:pt x="1138" y="1970"/>
                    </a:lnTo>
                    <a:lnTo>
                      <a:pt x="1165" y="1955"/>
                    </a:lnTo>
                    <a:lnTo>
                      <a:pt x="1192" y="1940"/>
                    </a:lnTo>
                    <a:lnTo>
                      <a:pt x="1218" y="1924"/>
                    </a:lnTo>
                    <a:lnTo>
                      <a:pt x="1244" y="1906"/>
                    </a:lnTo>
                    <a:lnTo>
                      <a:pt x="1269" y="1889"/>
                    </a:lnTo>
                    <a:lnTo>
                      <a:pt x="1293" y="1871"/>
                    </a:lnTo>
                    <a:lnTo>
                      <a:pt x="1318" y="1851"/>
                    </a:lnTo>
                    <a:lnTo>
                      <a:pt x="1341" y="1831"/>
                    </a:lnTo>
                    <a:lnTo>
                      <a:pt x="1364" y="1811"/>
                    </a:lnTo>
                    <a:lnTo>
                      <a:pt x="1386" y="1790"/>
                    </a:lnTo>
                    <a:lnTo>
                      <a:pt x="1406" y="1768"/>
                    </a:lnTo>
                    <a:lnTo>
                      <a:pt x="1428" y="1746"/>
                    </a:lnTo>
                    <a:lnTo>
                      <a:pt x="1448" y="1723"/>
                    </a:lnTo>
                    <a:lnTo>
                      <a:pt x="1468" y="1700"/>
                    </a:lnTo>
                    <a:lnTo>
                      <a:pt x="1486" y="1676"/>
                    </a:lnTo>
                    <a:lnTo>
                      <a:pt x="1505" y="1650"/>
                    </a:lnTo>
                    <a:lnTo>
                      <a:pt x="1522" y="1626"/>
                    </a:lnTo>
                    <a:lnTo>
                      <a:pt x="1539" y="1600"/>
                    </a:lnTo>
                    <a:lnTo>
                      <a:pt x="1555" y="1573"/>
                    </a:lnTo>
                    <a:lnTo>
                      <a:pt x="1570" y="1547"/>
                    </a:lnTo>
                    <a:lnTo>
                      <a:pt x="1585" y="1520"/>
                    </a:lnTo>
                    <a:lnTo>
                      <a:pt x="1568" y="1502"/>
                    </a:lnTo>
                    <a:lnTo>
                      <a:pt x="1554" y="1529"/>
                    </a:lnTo>
                    <a:lnTo>
                      <a:pt x="1539" y="1556"/>
                    </a:lnTo>
                    <a:lnTo>
                      <a:pt x="1523" y="1582"/>
                    </a:lnTo>
                    <a:lnTo>
                      <a:pt x="1507" y="1608"/>
                    </a:lnTo>
                    <a:lnTo>
                      <a:pt x="1490" y="1633"/>
                    </a:lnTo>
                    <a:lnTo>
                      <a:pt x="1471" y="1657"/>
                    </a:lnTo>
                    <a:lnTo>
                      <a:pt x="1453" y="1681"/>
                    </a:lnTo>
                    <a:lnTo>
                      <a:pt x="1433" y="1706"/>
                    </a:lnTo>
                    <a:lnTo>
                      <a:pt x="1413" y="1729"/>
                    </a:lnTo>
                    <a:lnTo>
                      <a:pt x="1393" y="1751"/>
                    </a:lnTo>
                    <a:lnTo>
                      <a:pt x="1371" y="1773"/>
                    </a:lnTo>
                    <a:lnTo>
                      <a:pt x="1349" y="1793"/>
                    </a:lnTo>
                    <a:lnTo>
                      <a:pt x="1326" y="1814"/>
                    </a:lnTo>
                    <a:lnTo>
                      <a:pt x="1303" y="1834"/>
                    </a:lnTo>
                    <a:lnTo>
                      <a:pt x="1280" y="1852"/>
                    </a:lnTo>
                    <a:lnTo>
                      <a:pt x="1254" y="1871"/>
                    </a:lnTo>
                    <a:lnTo>
                      <a:pt x="1230" y="1889"/>
                    </a:lnTo>
                    <a:lnTo>
                      <a:pt x="1203" y="1905"/>
                    </a:lnTo>
                    <a:lnTo>
                      <a:pt x="1178" y="1921"/>
                    </a:lnTo>
                    <a:lnTo>
                      <a:pt x="1152" y="1937"/>
                    </a:lnTo>
                    <a:lnTo>
                      <a:pt x="1124" y="1951"/>
                    </a:lnTo>
                    <a:lnTo>
                      <a:pt x="1096" y="1965"/>
                    </a:lnTo>
                    <a:lnTo>
                      <a:pt x="1069" y="1978"/>
                    </a:lnTo>
                    <a:lnTo>
                      <a:pt x="1040" y="1990"/>
                    </a:lnTo>
                    <a:lnTo>
                      <a:pt x="1011" y="2002"/>
                    </a:lnTo>
                    <a:lnTo>
                      <a:pt x="982" y="2012"/>
                    </a:lnTo>
                    <a:lnTo>
                      <a:pt x="952" y="2022"/>
                    </a:lnTo>
                    <a:lnTo>
                      <a:pt x="922" y="2030"/>
                    </a:lnTo>
                    <a:lnTo>
                      <a:pt x="891" y="2038"/>
                    </a:lnTo>
                    <a:lnTo>
                      <a:pt x="861" y="2045"/>
                    </a:lnTo>
                    <a:lnTo>
                      <a:pt x="830" y="2050"/>
                    </a:lnTo>
                    <a:lnTo>
                      <a:pt x="797" y="2055"/>
                    </a:lnTo>
                    <a:lnTo>
                      <a:pt x="812" y="2077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019920" y="3665520"/>
                <a:ext cx="415800" cy="542880"/>
              </a:xfrm>
              <a:custGeom>
                <a:avLst/>
                <a:gdLst/>
                <a:ahLst/>
                <a:rect l="l" t="t" r="r" b="b"/>
                <a:pathLst>
                  <a:path w="1573" h="2054">
                    <a:moveTo>
                      <a:pt x="700" y="1"/>
                    </a:moveTo>
                    <a:lnTo>
                      <a:pt x="694" y="1"/>
                    </a:lnTo>
                    <a:lnTo>
                      <a:pt x="687" y="0"/>
                    </a:lnTo>
                    <a:lnTo>
                      <a:pt x="682" y="0"/>
                    </a:lnTo>
                    <a:lnTo>
                      <a:pt x="676" y="0"/>
                    </a:lnTo>
                    <a:lnTo>
                      <a:pt x="669" y="0"/>
                    </a:lnTo>
                    <a:lnTo>
                      <a:pt x="663" y="0"/>
                    </a:lnTo>
                    <a:lnTo>
                      <a:pt x="656" y="0"/>
                    </a:lnTo>
                    <a:lnTo>
                      <a:pt x="650" y="0"/>
                    </a:lnTo>
                    <a:lnTo>
                      <a:pt x="604" y="1"/>
                    </a:lnTo>
                    <a:lnTo>
                      <a:pt x="558" y="4"/>
                    </a:lnTo>
                    <a:lnTo>
                      <a:pt x="513" y="9"/>
                    </a:lnTo>
                    <a:lnTo>
                      <a:pt x="469" y="15"/>
                    </a:lnTo>
                    <a:lnTo>
                      <a:pt x="426" y="24"/>
                    </a:lnTo>
                    <a:lnTo>
                      <a:pt x="383" y="35"/>
                    </a:lnTo>
                    <a:lnTo>
                      <a:pt x="340" y="47"/>
                    </a:lnTo>
                    <a:lnTo>
                      <a:pt x="299" y="61"/>
                    </a:lnTo>
                    <a:lnTo>
                      <a:pt x="258" y="77"/>
                    </a:lnTo>
                    <a:lnTo>
                      <a:pt x="219" y="95"/>
                    </a:lnTo>
                    <a:lnTo>
                      <a:pt x="180" y="113"/>
                    </a:lnTo>
                    <a:lnTo>
                      <a:pt x="142" y="134"/>
                    </a:lnTo>
                    <a:lnTo>
                      <a:pt x="105" y="156"/>
                    </a:lnTo>
                    <a:lnTo>
                      <a:pt x="68" y="179"/>
                    </a:lnTo>
                    <a:lnTo>
                      <a:pt x="33" y="204"/>
                    </a:lnTo>
                    <a:lnTo>
                      <a:pt x="0" y="231"/>
                    </a:lnTo>
                    <a:lnTo>
                      <a:pt x="6" y="255"/>
                    </a:lnTo>
                    <a:lnTo>
                      <a:pt x="39" y="228"/>
                    </a:lnTo>
                    <a:lnTo>
                      <a:pt x="74" y="203"/>
                    </a:lnTo>
                    <a:lnTo>
                      <a:pt x="108" y="180"/>
                    </a:lnTo>
                    <a:lnTo>
                      <a:pt x="145" y="157"/>
                    </a:lnTo>
                    <a:lnTo>
                      <a:pt x="183" y="137"/>
                    </a:lnTo>
                    <a:lnTo>
                      <a:pt x="221" y="118"/>
                    </a:lnTo>
                    <a:lnTo>
                      <a:pt x="261" y="100"/>
                    </a:lnTo>
                    <a:lnTo>
                      <a:pt x="302" y="84"/>
                    </a:lnTo>
                    <a:lnTo>
                      <a:pt x="342" y="70"/>
                    </a:lnTo>
                    <a:lnTo>
                      <a:pt x="385" y="58"/>
                    </a:lnTo>
                    <a:lnTo>
                      <a:pt x="428" y="47"/>
                    </a:lnTo>
                    <a:lnTo>
                      <a:pt x="471" y="38"/>
                    </a:lnTo>
                    <a:lnTo>
                      <a:pt x="514" y="31"/>
                    </a:lnTo>
                    <a:lnTo>
                      <a:pt x="559" y="27"/>
                    </a:lnTo>
                    <a:lnTo>
                      <a:pt x="604" y="23"/>
                    </a:lnTo>
                    <a:lnTo>
                      <a:pt x="650" y="22"/>
                    </a:lnTo>
                    <a:lnTo>
                      <a:pt x="659" y="22"/>
                    </a:lnTo>
                    <a:lnTo>
                      <a:pt x="665" y="23"/>
                    </a:lnTo>
                    <a:lnTo>
                      <a:pt x="674" y="23"/>
                    </a:lnTo>
                    <a:lnTo>
                      <a:pt x="682" y="23"/>
                    </a:lnTo>
                    <a:lnTo>
                      <a:pt x="690" y="23"/>
                    </a:lnTo>
                    <a:lnTo>
                      <a:pt x="697" y="23"/>
                    </a:lnTo>
                    <a:lnTo>
                      <a:pt x="705" y="24"/>
                    </a:lnTo>
                    <a:lnTo>
                      <a:pt x="713" y="24"/>
                    </a:lnTo>
                    <a:lnTo>
                      <a:pt x="700" y="1"/>
                    </a:lnTo>
                    <a:close/>
                    <a:moveTo>
                      <a:pt x="800" y="2054"/>
                    </a:moveTo>
                    <a:lnTo>
                      <a:pt x="833" y="2050"/>
                    </a:lnTo>
                    <a:lnTo>
                      <a:pt x="864" y="2044"/>
                    </a:lnTo>
                    <a:lnTo>
                      <a:pt x="894" y="2037"/>
                    </a:lnTo>
                    <a:lnTo>
                      <a:pt x="925" y="2029"/>
                    </a:lnTo>
                    <a:lnTo>
                      <a:pt x="955" y="2020"/>
                    </a:lnTo>
                    <a:lnTo>
                      <a:pt x="985" y="2011"/>
                    </a:lnTo>
                    <a:lnTo>
                      <a:pt x="1014" y="2000"/>
                    </a:lnTo>
                    <a:lnTo>
                      <a:pt x="1043" y="1989"/>
                    </a:lnTo>
                    <a:lnTo>
                      <a:pt x="1071" y="1976"/>
                    </a:lnTo>
                    <a:lnTo>
                      <a:pt x="1099" y="1963"/>
                    </a:lnTo>
                    <a:lnTo>
                      <a:pt x="1127" y="1949"/>
                    </a:lnTo>
                    <a:lnTo>
                      <a:pt x="1154" y="1934"/>
                    </a:lnTo>
                    <a:lnTo>
                      <a:pt x="1181" y="1919"/>
                    </a:lnTo>
                    <a:lnTo>
                      <a:pt x="1208" y="1903"/>
                    </a:lnTo>
                    <a:lnTo>
                      <a:pt x="1233" y="1886"/>
                    </a:lnTo>
                    <a:lnTo>
                      <a:pt x="1257" y="1869"/>
                    </a:lnTo>
                    <a:lnTo>
                      <a:pt x="1283" y="1850"/>
                    </a:lnTo>
                    <a:lnTo>
                      <a:pt x="1306" y="1832"/>
                    </a:lnTo>
                    <a:lnTo>
                      <a:pt x="1330" y="1812"/>
                    </a:lnTo>
                    <a:lnTo>
                      <a:pt x="1352" y="1792"/>
                    </a:lnTo>
                    <a:lnTo>
                      <a:pt x="1374" y="1771"/>
                    </a:lnTo>
                    <a:lnTo>
                      <a:pt x="1396" y="1749"/>
                    </a:lnTo>
                    <a:lnTo>
                      <a:pt x="1416" y="1726"/>
                    </a:lnTo>
                    <a:lnTo>
                      <a:pt x="1437" y="1703"/>
                    </a:lnTo>
                    <a:lnTo>
                      <a:pt x="1457" y="1680"/>
                    </a:lnTo>
                    <a:lnTo>
                      <a:pt x="1475" y="1655"/>
                    </a:lnTo>
                    <a:lnTo>
                      <a:pt x="1494" y="1631"/>
                    </a:lnTo>
                    <a:lnTo>
                      <a:pt x="1511" y="1606"/>
                    </a:lnTo>
                    <a:lnTo>
                      <a:pt x="1527" y="1581"/>
                    </a:lnTo>
                    <a:lnTo>
                      <a:pt x="1543" y="1554"/>
                    </a:lnTo>
                    <a:lnTo>
                      <a:pt x="1558" y="1528"/>
                    </a:lnTo>
                    <a:lnTo>
                      <a:pt x="1573" y="1500"/>
                    </a:lnTo>
                    <a:lnTo>
                      <a:pt x="1559" y="1485"/>
                    </a:lnTo>
                    <a:lnTo>
                      <a:pt x="1557" y="1480"/>
                    </a:lnTo>
                    <a:lnTo>
                      <a:pt x="1543" y="1508"/>
                    </a:lnTo>
                    <a:lnTo>
                      <a:pt x="1528" y="1534"/>
                    </a:lnTo>
                    <a:lnTo>
                      <a:pt x="1512" y="1561"/>
                    </a:lnTo>
                    <a:lnTo>
                      <a:pt x="1496" y="1586"/>
                    </a:lnTo>
                    <a:lnTo>
                      <a:pt x="1479" y="1612"/>
                    </a:lnTo>
                    <a:lnTo>
                      <a:pt x="1460" y="1637"/>
                    </a:lnTo>
                    <a:lnTo>
                      <a:pt x="1442" y="1661"/>
                    </a:lnTo>
                    <a:lnTo>
                      <a:pt x="1423" y="1684"/>
                    </a:lnTo>
                    <a:lnTo>
                      <a:pt x="1402" y="1707"/>
                    </a:lnTo>
                    <a:lnTo>
                      <a:pt x="1382" y="1730"/>
                    </a:lnTo>
                    <a:lnTo>
                      <a:pt x="1361" y="1752"/>
                    </a:lnTo>
                    <a:lnTo>
                      <a:pt x="1339" y="1773"/>
                    </a:lnTo>
                    <a:lnTo>
                      <a:pt x="1316" y="1794"/>
                    </a:lnTo>
                    <a:lnTo>
                      <a:pt x="1293" y="1813"/>
                    </a:lnTo>
                    <a:lnTo>
                      <a:pt x="1269" y="1832"/>
                    </a:lnTo>
                    <a:lnTo>
                      <a:pt x="1244" y="1850"/>
                    </a:lnTo>
                    <a:lnTo>
                      <a:pt x="1219" y="1868"/>
                    </a:lnTo>
                    <a:lnTo>
                      <a:pt x="1194" y="1885"/>
                    </a:lnTo>
                    <a:lnTo>
                      <a:pt x="1167" y="1901"/>
                    </a:lnTo>
                    <a:lnTo>
                      <a:pt x="1141" y="1916"/>
                    </a:lnTo>
                    <a:lnTo>
                      <a:pt x="1114" y="1931"/>
                    </a:lnTo>
                    <a:lnTo>
                      <a:pt x="1086" y="1945"/>
                    </a:lnTo>
                    <a:lnTo>
                      <a:pt x="1058" y="1958"/>
                    </a:lnTo>
                    <a:lnTo>
                      <a:pt x="1030" y="1970"/>
                    </a:lnTo>
                    <a:lnTo>
                      <a:pt x="1001" y="1981"/>
                    </a:lnTo>
                    <a:lnTo>
                      <a:pt x="971" y="1991"/>
                    </a:lnTo>
                    <a:lnTo>
                      <a:pt x="941" y="2000"/>
                    </a:lnTo>
                    <a:lnTo>
                      <a:pt x="911" y="2009"/>
                    </a:lnTo>
                    <a:lnTo>
                      <a:pt x="880" y="2016"/>
                    </a:lnTo>
                    <a:lnTo>
                      <a:pt x="850" y="2023"/>
                    </a:lnTo>
                    <a:lnTo>
                      <a:pt x="819" y="2029"/>
                    </a:lnTo>
                    <a:lnTo>
                      <a:pt x="787" y="2034"/>
                    </a:lnTo>
                    <a:lnTo>
                      <a:pt x="800" y="205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21360" y="3668760"/>
                <a:ext cx="412920" cy="536400"/>
              </a:xfrm>
              <a:custGeom>
                <a:avLst/>
                <a:gdLst/>
                <a:ahLst/>
                <a:rect l="l" t="t" r="r" b="b"/>
                <a:pathLst>
                  <a:path w="1562" h="2032">
                    <a:moveTo>
                      <a:pt x="705" y="1"/>
                    </a:moveTo>
                    <a:lnTo>
                      <a:pt x="697" y="1"/>
                    </a:lnTo>
                    <a:lnTo>
                      <a:pt x="690" y="0"/>
                    </a:lnTo>
                    <a:lnTo>
                      <a:pt x="683" y="0"/>
                    </a:lnTo>
                    <a:lnTo>
                      <a:pt x="676" y="0"/>
                    </a:lnTo>
                    <a:lnTo>
                      <a:pt x="669" y="0"/>
                    </a:lnTo>
                    <a:lnTo>
                      <a:pt x="662" y="0"/>
                    </a:lnTo>
                    <a:lnTo>
                      <a:pt x="655" y="0"/>
                    </a:lnTo>
                    <a:lnTo>
                      <a:pt x="648" y="0"/>
                    </a:lnTo>
                    <a:lnTo>
                      <a:pt x="602" y="0"/>
                    </a:lnTo>
                    <a:lnTo>
                      <a:pt x="557" y="3"/>
                    </a:lnTo>
                    <a:lnTo>
                      <a:pt x="512" y="8"/>
                    </a:lnTo>
                    <a:lnTo>
                      <a:pt x="469" y="15"/>
                    </a:lnTo>
                    <a:lnTo>
                      <a:pt x="425" y="24"/>
                    </a:lnTo>
                    <a:lnTo>
                      <a:pt x="382" y="34"/>
                    </a:lnTo>
                    <a:lnTo>
                      <a:pt x="339" y="47"/>
                    </a:lnTo>
                    <a:lnTo>
                      <a:pt x="298" y="61"/>
                    </a:lnTo>
                    <a:lnTo>
                      <a:pt x="257" y="77"/>
                    </a:lnTo>
                    <a:lnTo>
                      <a:pt x="218" y="94"/>
                    </a:lnTo>
                    <a:lnTo>
                      <a:pt x="179" y="113"/>
                    </a:lnTo>
                    <a:lnTo>
                      <a:pt x="142" y="133"/>
                    </a:lnTo>
                    <a:lnTo>
                      <a:pt x="105" y="155"/>
                    </a:lnTo>
                    <a:lnTo>
                      <a:pt x="69" y="180"/>
                    </a:lnTo>
                    <a:lnTo>
                      <a:pt x="34" y="204"/>
                    </a:lnTo>
                    <a:lnTo>
                      <a:pt x="0" y="230"/>
                    </a:lnTo>
                    <a:lnTo>
                      <a:pt x="6" y="256"/>
                    </a:lnTo>
                    <a:lnTo>
                      <a:pt x="39" y="229"/>
                    </a:lnTo>
                    <a:lnTo>
                      <a:pt x="74" y="204"/>
                    </a:lnTo>
                    <a:lnTo>
                      <a:pt x="109" y="180"/>
                    </a:lnTo>
                    <a:lnTo>
                      <a:pt x="146" y="158"/>
                    </a:lnTo>
                    <a:lnTo>
                      <a:pt x="182" y="137"/>
                    </a:lnTo>
                    <a:lnTo>
                      <a:pt x="222" y="117"/>
                    </a:lnTo>
                    <a:lnTo>
                      <a:pt x="261" y="100"/>
                    </a:lnTo>
                    <a:lnTo>
                      <a:pt x="301" y="84"/>
                    </a:lnTo>
                    <a:lnTo>
                      <a:pt x="342" y="70"/>
                    </a:lnTo>
                    <a:lnTo>
                      <a:pt x="383" y="57"/>
                    </a:lnTo>
                    <a:lnTo>
                      <a:pt x="426" y="47"/>
                    </a:lnTo>
                    <a:lnTo>
                      <a:pt x="470" y="38"/>
                    </a:lnTo>
                    <a:lnTo>
                      <a:pt x="514" y="31"/>
                    </a:lnTo>
                    <a:lnTo>
                      <a:pt x="557" y="26"/>
                    </a:lnTo>
                    <a:lnTo>
                      <a:pt x="602" y="23"/>
                    </a:lnTo>
                    <a:lnTo>
                      <a:pt x="648" y="22"/>
                    </a:lnTo>
                    <a:lnTo>
                      <a:pt x="657" y="22"/>
                    </a:lnTo>
                    <a:lnTo>
                      <a:pt x="666" y="22"/>
                    </a:lnTo>
                    <a:lnTo>
                      <a:pt x="674" y="23"/>
                    </a:lnTo>
                    <a:lnTo>
                      <a:pt x="683" y="23"/>
                    </a:lnTo>
                    <a:lnTo>
                      <a:pt x="691" y="23"/>
                    </a:lnTo>
                    <a:lnTo>
                      <a:pt x="699" y="24"/>
                    </a:lnTo>
                    <a:lnTo>
                      <a:pt x="708" y="24"/>
                    </a:lnTo>
                    <a:lnTo>
                      <a:pt x="717" y="24"/>
                    </a:lnTo>
                    <a:lnTo>
                      <a:pt x="715" y="20"/>
                    </a:lnTo>
                    <a:lnTo>
                      <a:pt x="705" y="1"/>
                    </a:lnTo>
                    <a:close/>
                    <a:moveTo>
                      <a:pt x="791" y="2032"/>
                    </a:moveTo>
                    <a:lnTo>
                      <a:pt x="824" y="2027"/>
                    </a:lnTo>
                    <a:lnTo>
                      <a:pt x="855" y="2022"/>
                    </a:lnTo>
                    <a:lnTo>
                      <a:pt x="885" y="2015"/>
                    </a:lnTo>
                    <a:lnTo>
                      <a:pt x="916" y="2007"/>
                    </a:lnTo>
                    <a:lnTo>
                      <a:pt x="946" y="1999"/>
                    </a:lnTo>
                    <a:lnTo>
                      <a:pt x="976" y="1989"/>
                    </a:lnTo>
                    <a:lnTo>
                      <a:pt x="1005" y="1979"/>
                    </a:lnTo>
                    <a:lnTo>
                      <a:pt x="1034" y="1967"/>
                    </a:lnTo>
                    <a:lnTo>
                      <a:pt x="1063" y="1955"/>
                    </a:lnTo>
                    <a:lnTo>
                      <a:pt x="1090" y="1942"/>
                    </a:lnTo>
                    <a:lnTo>
                      <a:pt x="1118" y="1928"/>
                    </a:lnTo>
                    <a:lnTo>
                      <a:pt x="1146" y="1914"/>
                    </a:lnTo>
                    <a:lnTo>
                      <a:pt x="1172" y="1898"/>
                    </a:lnTo>
                    <a:lnTo>
                      <a:pt x="1197" y="1882"/>
                    </a:lnTo>
                    <a:lnTo>
                      <a:pt x="1224" y="1866"/>
                    </a:lnTo>
                    <a:lnTo>
                      <a:pt x="1248" y="1848"/>
                    </a:lnTo>
                    <a:lnTo>
                      <a:pt x="1274" y="1829"/>
                    </a:lnTo>
                    <a:lnTo>
                      <a:pt x="1297" y="1811"/>
                    </a:lnTo>
                    <a:lnTo>
                      <a:pt x="1320" y="1791"/>
                    </a:lnTo>
                    <a:lnTo>
                      <a:pt x="1343" y="1770"/>
                    </a:lnTo>
                    <a:lnTo>
                      <a:pt x="1365" y="1750"/>
                    </a:lnTo>
                    <a:lnTo>
                      <a:pt x="1387" y="1728"/>
                    </a:lnTo>
                    <a:lnTo>
                      <a:pt x="1407" y="1706"/>
                    </a:lnTo>
                    <a:lnTo>
                      <a:pt x="1427" y="1683"/>
                    </a:lnTo>
                    <a:lnTo>
                      <a:pt x="1447" y="1658"/>
                    </a:lnTo>
                    <a:lnTo>
                      <a:pt x="1465" y="1634"/>
                    </a:lnTo>
                    <a:lnTo>
                      <a:pt x="1484" y="1610"/>
                    </a:lnTo>
                    <a:lnTo>
                      <a:pt x="1501" y="1585"/>
                    </a:lnTo>
                    <a:lnTo>
                      <a:pt x="1517" y="1559"/>
                    </a:lnTo>
                    <a:lnTo>
                      <a:pt x="1533" y="1533"/>
                    </a:lnTo>
                    <a:lnTo>
                      <a:pt x="1548" y="1506"/>
                    </a:lnTo>
                    <a:lnTo>
                      <a:pt x="1562" y="1479"/>
                    </a:lnTo>
                    <a:lnTo>
                      <a:pt x="1557" y="1473"/>
                    </a:lnTo>
                    <a:lnTo>
                      <a:pt x="1548" y="1456"/>
                    </a:lnTo>
                    <a:lnTo>
                      <a:pt x="1534" y="1483"/>
                    </a:lnTo>
                    <a:lnTo>
                      <a:pt x="1519" y="1511"/>
                    </a:lnTo>
                    <a:lnTo>
                      <a:pt x="1504" y="1537"/>
                    </a:lnTo>
                    <a:lnTo>
                      <a:pt x="1488" y="1563"/>
                    </a:lnTo>
                    <a:lnTo>
                      <a:pt x="1471" y="1588"/>
                    </a:lnTo>
                    <a:lnTo>
                      <a:pt x="1452" y="1614"/>
                    </a:lnTo>
                    <a:lnTo>
                      <a:pt x="1434" y="1638"/>
                    </a:lnTo>
                    <a:lnTo>
                      <a:pt x="1415" y="1662"/>
                    </a:lnTo>
                    <a:lnTo>
                      <a:pt x="1395" y="1685"/>
                    </a:lnTo>
                    <a:lnTo>
                      <a:pt x="1374" y="1707"/>
                    </a:lnTo>
                    <a:lnTo>
                      <a:pt x="1353" y="1729"/>
                    </a:lnTo>
                    <a:lnTo>
                      <a:pt x="1331" y="1751"/>
                    </a:lnTo>
                    <a:lnTo>
                      <a:pt x="1308" y="1771"/>
                    </a:lnTo>
                    <a:lnTo>
                      <a:pt x="1285" y="1791"/>
                    </a:lnTo>
                    <a:lnTo>
                      <a:pt x="1261" y="1811"/>
                    </a:lnTo>
                    <a:lnTo>
                      <a:pt x="1237" y="1828"/>
                    </a:lnTo>
                    <a:lnTo>
                      <a:pt x="1211" y="1846"/>
                    </a:lnTo>
                    <a:lnTo>
                      <a:pt x="1186" y="1864"/>
                    </a:lnTo>
                    <a:lnTo>
                      <a:pt x="1159" y="1880"/>
                    </a:lnTo>
                    <a:lnTo>
                      <a:pt x="1133" y="1895"/>
                    </a:lnTo>
                    <a:lnTo>
                      <a:pt x="1106" y="1910"/>
                    </a:lnTo>
                    <a:lnTo>
                      <a:pt x="1079" y="1922"/>
                    </a:lnTo>
                    <a:lnTo>
                      <a:pt x="1050" y="1936"/>
                    </a:lnTo>
                    <a:lnTo>
                      <a:pt x="1021" y="1948"/>
                    </a:lnTo>
                    <a:lnTo>
                      <a:pt x="992" y="1959"/>
                    </a:lnTo>
                    <a:lnTo>
                      <a:pt x="962" y="1970"/>
                    </a:lnTo>
                    <a:lnTo>
                      <a:pt x="933" y="1979"/>
                    </a:lnTo>
                    <a:lnTo>
                      <a:pt x="902" y="1987"/>
                    </a:lnTo>
                    <a:lnTo>
                      <a:pt x="872" y="1995"/>
                    </a:lnTo>
                    <a:lnTo>
                      <a:pt x="841" y="2001"/>
                    </a:lnTo>
                    <a:lnTo>
                      <a:pt x="810" y="2007"/>
                    </a:lnTo>
                    <a:lnTo>
                      <a:pt x="778" y="2011"/>
                    </a:lnTo>
                    <a:lnTo>
                      <a:pt x="791" y="203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21360" y="3672000"/>
                <a:ext cx="411120" cy="531720"/>
              </a:xfrm>
              <a:custGeom>
                <a:avLst/>
                <a:gdLst/>
                <a:ahLst/>
                <a:rect l="l" t="t" r="r" b="b"/>
                <a:pathLst>
                  <a:path w="1551" h="2012">
                    <a:moveTo>
                      <a:pt x="707" y="2"/>
                    </a:moveTo>
                    <a:lnTo>
                      <a:pt x="699" y="2"/>
                    </a:lnTo>
                    <a:lnTo>
                      <a:pt x="691" y="1"/>
                    </a:lnTo>
                    <a:lnTo>
                      <a:pt x="684" y="1"/>
                    </a:lnTo>
                    <a:lnTo>
                      <a:pt x="676" y="1"/>
                    </a:lnTo>
                    <a:lnTo>
                      <a:pt x="668" y="1"/>
                    </a:lnTo>
                    <a:lnTo>
                      <a:pt x="659" y="1"/>
                    </a:lnTo>
                    <a:lnTo>
                      <a:pt x="653" y="0"/>
                    </a:lnTo>
                    <a:lnTo>
                      <a:pt x="644" y="0"/>
                    </a:lnTo>
                    <a:lnTo>
                      <a:pt x="598" y="1"/>
                    </a:lnTo>
                    <a:lnTo>
                      <a:pt x="553" y="5"/>
                    </a:lnTo>
                    <a:lnTo>
                      <a:pt x="508" y="9"/>
                    </a:lnTo>
                    <a:lnTo>
                      <a:pt x="465" y="16"/>
                    </a:lnTo>
                    <a:lnTo>
                      <a:pt x="422" y="25"/>
                    </a:lnTo>
                    <a:lnTo>
                      <a:pt x="379" y="36"/>
                    </a:lnTo>
                    <a:lnTo>
                      <a:pt x="336" y="48"/>
                    </a:lnTo>
                    <a:lnTo>
                      <a:pt x="296" y="62"/>
                    </a:lnTo>
                    <a:lnTo>
                      <a:pt x="255" y="78"/>
                    </a:lnTo>
                    <a:lnTo>
                      <a:pt x="215" y="96"/>
                    </a:lnTo>
                    <a:lnTo>
                      <a:pt x="177" y="115"/>
                    </a:lnTo>
                    <a:lnTo>
                      <a:pt x="139" y="135"/>
                    </a:lnTo>
                    <a:lnTo>
                      <a:pt x="102" y="158"/>
                    </a:lnTo>
                    <a:lnTo>
                      <a:pt x="68" y="181"/>
                    </a:lnTo>
                    <a:lnTo>
                      <a:pt x="33" y="206"/>
                    </a:lnTo>
                    <a:lnTo>
                      <a:pt x="0" y="233"/>
                    </a:lnTo>
                    <a:lnTo>
                      <a:pt x="5" y="258"/>
                    </a:lnTo>
                    <a:lnTo>
                      <a:pt x="38" y="231"/>
                    </a:lnTo>
                    <a:lnTo>
                      <a:pt x="72" y="205"/>
                    </a:lnTo>
                    <a:lnTo>
                      <a:pt x="107" y="182"/>
                    </a:lnTo>
                    <a:lnTo>
                      <a:pt x="144" y="159"/>
                    </a:lnTo>
                    <a:lnTo>
                      <a:pt x="181" y="138"/>
                    </a:lnTo>
                    <a:lnTo>
                      <a:pt x="219" y="120"/>
                    </a:lnTo>
                    <a:lnTo>
                      <a:pt x="258" y="101"/>
                    </a:lnTo>
                    <a:lnTo>
                      <a:pt x="298" y="85"/>
                    </a:lnTo>
                    <a:lnTo>
                      <a:pt x="339" y="72"/>
                    </a:lnTo>
                    <a:lnTo>
                      <a:pt x="380" y="59"/>
                    </a:lnTo>
                    <a:lnTo>
                      <a:pt x="423" y="48"/>
                    </a:lnTo>
                    <a:lnTo>
                      <a:pt x="466" y="39"/>
                    </a:lnTo>
                    <a:lnTo>
                      <a:pt x="510" y="32"/>
                    </a:lnTo>
                    <a:lnTo>
                      <a:pt x="553" y="28"/>
                    </a:lnTo>
                    <a:lnTo>
                      <a:pt x="598" y="24"/>
                    </a:lnTo>
                    <a:lnTo>
                      <a:pt x="644" y="23"/>
                    </a:lnTo>
                    <a:lnTo>
                      <a:pt x="654" y="23"/>
                    </a:lnTo>
                    <a:lnTo>
                      <a:pt x="663" y="23"/>
                    </a:lnTo>
                    <a:lnTo>
                      <a:pt x="672" y="24"/>
                    </a:lnTo>
                    <a:lnTo>
                      <a:pt x="681" y="24"/>
                    </a:lnTo>
                    <a:lnTo>
                      <a:pt x="691" y="24"/>
                    </a:lnTo>
                    <a:lnTo>
                      <a:pt x="700" y="25"/>
                    </a:lnTo>
                    <a:lnTo>
                      <a:pt x="709" y="25"/>
                    </a:lnTo>
                    <a:lnTo>
                      <a:pt x="718" y="27"/>
                    </a:lnTo>
                    <a:lnTo>
                      <a:pt x="711" y="10"/>
                    </a:lnTo>
                    <a:lnTo>
                      <a:pt x="707" y="2"/>
                    </a:lnTo>
                    <a:close/>
                    <a:moveTo>
                      <a:pt x="781" y="2012"/>
                    </a:moveTo>
                    <a:lnTo>
                      <a:pt x="813" y="2007"/>
                    </a:lnTo>
                    <a:lnTo>
                      <a:pt x="844" y="2001"/>
                    </a:lnTo>
                    <a:lnTo>
                      <a:pt x="874" y="1994"/>
                    </a:lnTo>
                    <a:lnTo>
                      <a:pt x="905" y="1987"/>
                    </a:lnTo>
                    <a:lnTo>
                      <a:pt x="935" y="1978"/>
                    </a:lnTo>
                    <a:lnTo>
                      <a:pt x="965" y="1969"/>
                    </a:lnTo>
                    <a:lnTo>
                      <a:pt x="995" y="1959"/>
                    </a:lnTo>
                    <a:lnTo>
                      <a:pt x="1024" y="1948"/>
                    </a:lnTo>
                    <a:lnTo>
                      <a:pt x="1052" y="1936"/>
                    </a:lnTo>
                    <a:lnTo>
                      <a:pt x="1080" y="1923"/>
                    </a:lnTo>
                    <a:lnTo>
                      <a:pt x="1108" y="1909"/>
                    </a:lnTo>
                    <a:lnTo>
                      <a:pt x="1135" y="1894"/>
                    </a:lnTo>
                    <a:lnTo>
                      <a:pt x="1161" y="1879"/>
                    </a:lnTo>
                    <a:lnTo>
                      <a:pt x="1188" y="1863"/>
                    </a:lnTo>
                    <a:lnTo>
                      <a:pt x="1213" y="1846"/>
                    </a:lnTo>
                    <a:lnTo>
                      <a:pt x="1238" y="1828"/>
                    </a:lnTo>
                    <a:lnTo>
                      <a:pt x="1263" y="1810"/>
                    </a:lnTo>
                    <a:lnTo>
                      <a:pt x="1287" y="1791"/>
                    </a:lnTo>
                    <a:lnTo>
                      <a:pt x="1310" y="1772"/>
                    </a:lnTo>
                    <a:lnTo>
                      <a:pt x="1333" y="1751"/>
                    </a:lnTo>
                    <a:lnTo>
                      <a:pt x="1355" y="1730"/>
                    </a:lnTo>
                    <a:lnTo>
                      <a:pt x="1376" y="1708"/>
                    </a:lnTo>
                    <a:lnTo>
                      <a:pt x="1396" y="1685"/>
                    </a:lnTo>
                    <a:lnTo>
                      <a:pt x="1417" y="1662"/>
                    </a:lnTo>
                    <a:lnTo>
                      <a:pt x="1436" y="1639"/>
                    </a:lnTo>
                    <a:lnTo>
                      <a:pt x="1454" y="1615"/>
                    </a:lnTo>
                    <a:lnTo>
                      <a:pt x="1473" y="1590"/>
                    </a:lnTo>
                    <a:lnTo>
                      <a:pt x="1490" y="1564"/>
                    </a:lnTo>
                    <a:lnTo>
                      <a:pt x="1506" y="1539"/>
                    </a:lnTo>
                    <a:lnTo>
                      <a:pt x="1522" y="1512"/>
                    </a:lnTo>
                    <a:lnTo>
                      <a:pt x="1537" y="1486"/>
                    </a:lnTo>
                    <a:lnTo>
                      <a:pt x="1551" y="1458"/>
                    </a:lnTo>
                    <a:lnTo>
                      <a:pt x="1538" y="1433"/>
                    </a:lnTo>
                    <a:lnTo>
                      <a:pt x="1525" y="1461"/>
                    </a:lnTo>
                    <a:lnTo>
                      <a:pt x="1510" y="1488"/>
                    </a:lnTo>
                    <a:lnTo>
                      <a:pt x="1495" y="1515"/>
                    </a:lnTo>
                    <a:lnTo>
                      <a:pt x="1478" y="1541"/>
                    </a:lnTo>
                    <a:lnTo>
                      <a:pt x="1461" y="1567"/>
                    </a:lnTo>
                    <a:lnTo>
                      <a:pt x="1443" y="1592"/>
                    </a:lnTo>
                    <a:lnTo>
                      <a:pt x="1424" y="1616"/>
                    </a:lnTo>
                    <a:lnTo>
                      <a:pt x="1406" y="1640"/>
                    </a:lnTo>
                    <a:lnTo>
                      <a:pt x="1385" y="1663"/>
                    </a:lnTo>
                    <a:lnTo>
                      <a:pt x="1365" y="1687"/>
                    </a:lnTo>
                    <a:lnTo>
                      <a:pt x="1343" y="1708"/>
                    </a:lnTo>
                    <a:lnTo>
                      <a:pt x="1322" y="1730"/>
                    </a:lnTo>
                    <a:lnTo>
                      <a:pt x="1298" y="1751"/>
                    </a:lnTo>
                    <a:lnTo>
                      <a:pt x="1275" y="1771"/>
                    </a:lnTo>
                    <a:lnTo>
                      <a:pt x="1251" y="1790"/>
                    </a:lnTo>
                    <a:lnTo>
                      <a:pt x="1227" y="1809"/>
                    </a:lnTo>
                    <a:lnTo>
                      <a:pt x="1202" y="1826"/>
                    </a:lnTo>
                    <a:lnTo>
                      <a:pt x="1176" y="1843"/>
                    </a:lnTo>
                    <a:lnTo>
                      <a:pt x="1150" y="1859"/>
                    </a:lnTo>
                    <a:lnTo>
                      <a:pt x="1123" y="1874"/>
                    </a:lnTo>
                    <a:lnTo>
                      <a:pt x="1095" y="1889"/>
                    </a:lnTo>
                    <a:lnTo>
                      <a:pt x="1068" y="1903"/>
                    </a:lnTo>
                    <a:lnTo>
                      <a:pt x="1040" y="1916"/>
                    </a:lnTo>
                    <a:lnTo>
                      <a:pt x="1011" y="1929"/>
                    </a:lnTo>
                    <a:lnTo>
                      <a:pt x="982" y="1939"/>
                    </a:lnTo>
                    <a:lnTo>
                      <a:pt x="952" y="1949"/>
                    </a:lnTo>
                    <a:lnTo>
                      <a:pt x="922" y="1959"/>
                    </a:lnTo>
                    <a:lnTo>
                      <a:pt x="892" y="1967"/>
                    </a:lnTo>
                    <a:lnTo>
                      <a:pt x="861" y="1975"/>
                    </a:lnTo>
                    <a:lnTo>
                      <a:pt x="830" y="1980"/>
                    </a:lnTo>
                    <a:lnTo>
                      <a:pt x="798" y="1986"/>
                    </a:lnTo>
                    <a:lnTo>
                      <a:pt x="767" y="1991"/>
                    </a:lnTo>
                    <a:lnTo>
                      <a:pt x="781" y="201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22800" y="3673440"/>
                <a:ext cx="408240" cy="527040"/>
              </a:xfrm>
              <a:custGeom>
                <a:avLst/>
                <a:gdLst/>
                <a:ahLst/>
                <a:rect l="l" t="t" r="r" b="b"/>
                <a:pathLst>
                  <a:path w="1542" h="1989">
                    <a:moveTo>
                      <a:pt x="711" y="2"/>
                    </a:moveTo>
                    <a:lnTo>
                      <a:pt x="702" y="2"/>
                    </a:lnTo>
                    <a:lnTo>
                      <a:pt x="693" y="2"/>
                    </a:lnTo>
                    <a:lnTo>
                      <a:pt x="685" y="1"/>
                    </a:lnTo>
                    <a:lnTo>
                      <a:pt x="677" y="1"/>
                    </a:lnTo>
                    <a:lnTo>
                      <a:pt x="668" y="1"/>
                    </a:lnTo>
                    <a:lnTo>
                      <a:pt x="660" y="0"/>
                    </a:lnTo>
                    <a:lnTo>
                      <a:pt x="651" y="0"/>
                    </a:lnTo>
                    <a:lnTo>
                      <a:pt x="642" y="0"/>
                    </a:lnTo>
                    <a:lnTo>
                      <a:pt x="596" y="1"/>
                    </a:lnTo>
                    <a:lnTo>
                      <a:pt x="551" y="4"/>
                    </a:lnTo>
                    <a:lnTo>
                      <a:pt x="508" y="9"/>
                    </a:lnTo>
                    <a:lnTo>
                      <a:pt x="464" y="16"/>
                    </a:lnTo>
                    <a:lnTo>
                      <a:pt x="420" y="25"/>
                    </a:lnTo>
                    <a:lnTo>
                      <a:pt x="377" y="35"/>
                    </a:lnTo>
                    <a:lnTo>
                      <a:pt x="336" y="48"/>
                    </a:lnTo>
                    <a:lnTo>
                      <a:pt x="295" y="62"/>
                    </a:lnTo>
                    <a:lnTo>
                      <a:pt x="255" y="78"/>
                    </a:lnTo>
                    <a:lnTo>
                      <a:pt x="216" y="95"/>
                    </a:lnTo>
                    <a:lnTo>
                      <a:pt x="176" y="115"/>
                    </a:lnTo>
                    <a:lnTo>
                      <a:pt x="140" y="136"/>
                    </a:lnTo>
                    <a:lnTo>
                      <a:pt x="103" y="158"/>
                    </a:lnTo>
                    <a:lnTo>
                      <a:pt x="68" y="182"/>
                    </a:lnTo>
                    <a:lnTo>
                      <a:pt x="33" y="207"/>
                    </a:lnTo>
                    <a:lnTo>
                      <a:pt x="0" y="234"/>
                    </a:lnTo>
                    <a:lnTo>
                      <a:pt x="7" y="258"/>
                    </a:lnTo>
                    <a:lnTo>
                      <a:pt x="39" y="231"/>
                    </a:lnTo>
                    <a:lnTo>
                      <a:pt x="73" y="206"/>
                    </a:lnTo>
                    <a:lnTo>
                      <a:pt x="107" y="182"/>
                    </a:lnTo>
                    <a:lnTo>
                      <a:pt x="144" y="160"/>
                    </a:lnTo>
                    <a:lnTo>
                      <a:pt x="180" y="139"/>
                    </a:lnTo>
                    <a:lnTo>
                      <a:pt x="218" y="119"/>
                    </a:lnTo>
                    <a:lnTo>
                      <a:pt x="257" y="101"/>
                    </a:lnTo>
                    <a:lnTo>
                      <a:pt x="298" y="85"/>
                    </a:lnTo>
                    <a:lnTo>
                      <a:pt x="338" y="71"/>
                    </a:lnTo>
                    <a:lnTo>
                      <a:pt x="379" y="58"/>
                    </a:lnTo>
                    <a:lnTo>
                      <a:pt x="421" y="48"/>
                    </a:lnTo>
                    <a:lnTo>
                      <a:pt x="465" y="39"/>
                    </a:lnTo>
                    <a:lnTo>
                      <a:pt x="508" y="32"/>
                    </a:lnTo>
                    <a:lnTo>
                      <a:pt x="552" y="27"/>
                    </a:lnTo>
                    <a:lnTo>
                      <a:pt x="596" y="24"/>
                    </a:lnTo>
                    <a:lnTo>
                      <a:pt x="642" y="23"/>
                    </a:lnTo>
                    <a:lnTo>
                      <a:pt x="653" y="23"/>
                    </a:lnTo>
                    <a:lnTo>
                      <a:pt x="662" y="23"/>
                    </a:lnTo>
                    <a:lnTo>
                      <a:pt x="672" y="23"/>
                    </a:lnTo>
                    <a:lnTo>
                      <a:pt x="683" y="24"/>
                    </a:lnTo>
                    <a:lnTo>
                      <a:pt x="692" y="24"/>
                    </a:lnTo>
                    <a:lnTo>
                      <a:pt x="702" y="25"/>
                    </a:lnTo>
                    <a:lnTo>
                      <a:pt x="713" y="25"/>
                    </a:lnTo>
                    <a:lnTo>
                      <a:pt x="723" y="26"/>
                    </a:lnTo>
                    <a:lnTo>
                      <a:pt x="711" y="2"/>
                    </a:lnTo>
                    <a:close/>
                    <a:moveTo>
                      <a:pt x="772" y="1989"/>
                    </a:moveTo>
                    <a:lnTo>
                      <a:pt x="804" y="1985"/>
                    </a:lnTo>
                    <a:lnTo>
                      <a:pt x="835" y="1979"/>
                    </a:lnTo>
                    <a:lnTo>
                      <a:pt x="866" y="1973"/>
                    </a:lnTo>
                    <a:lnTo>
                      <a:pt x="896" y="1965"/>
                    </a:lnTo>
                    <a:lnTo>
                      <a:pt x="927" y="1957"/>
                    </a:lnTo>
                    <a:lnTo>
                      <a:pt x="956" y="1948"/>
                    </a:lnTo>
                    <a:lnTo>
                      <a:pt x="986" y="1937"/>
                    </a:lnTo>
                    <a:lnTo>
                      <a:pt x="1015" y="1926"/>
                    </a:lnTo>
                    <a:lnTo>
                      <a:pt x="1044" y="1914"/>
                    </a:lnTo>
                    <a:lnTo>
                      <a:pt x="1073" y="1900"/>
                    </a:lnTo>
                    <a:lnTo>
                      <a:pt x="1100" y="1888"/>
                    </a:lnTo>
                    <a:lnTo>
                      <a:pt x="1127" y="1873"/>
                    </a:lnTo>
                    <a:lnTo>
                      <a:pt x="1153" y="1858"/>
                    </a:lnTo>
                    <a:lnTo>
                      <a:pt x="1180" y="1842"/>
                    </a:lnTo>
                    <a:lnTo>
                      <a:pt x="1205" y="1824"/>
                    </a:lnTo>
                    <a:lnTo>
                      <a:pt x="1231" y="1806"/>
                    </a:lnTo>
                    <a:lnTo>
                      <a:pt x="1255" y="1789"/>
                    </a:lnTo>
                    <a:lnTo>
                      <a:pt x="1279" y="1769"/>
                    </a:lnTo>
                    <a:lnTo>
                      <a:pt x="1302" y="1749"/>
                    </a:lnTo>
                    <a:lnTo>
                      <a:pt x="1325" y="1729"/>
                    </a:lnTo>
                    <a:lnTo>
                      <a:pt x="1347" y="1707"/>
                    </a:lnTo>
                    <a:lnTo>
                      <a:pt x="1368" y="1685"/>
                    </a:lnTo>
                    <a:lnTo>
                      <a:pt x="1389" y="1663"/>
                    </a:lnTo>
                    <a:lnTo>
                      <a:pt x="1409" y="1640"/>
                    </a:lnTo>
                    <a:lnTo>
                      <a:pt x="1428" y="1616"/>
                    </a:lnTo>
                    <a:lnTo>
                      <a:pt x="1446" y="1592"/>
                    </a:lnTo>
                    <a:lnTo>
                      <a:pt x="1465" y="1566"/>
                    </a:lnTo>
                    <a:lnTo>
                      <a:pt x="1482" y="1541"/>
                    </a:lnTo>
                    <a:lnTo>
                      <a:pt x="1498" y="1515"/>
                    </a:lnTo>
                    <a:lnTo>
                      <a:pt x="1513" y="1489"/>
                    </a:lnTo>
                    <a:lnTo>
                      <a:pt x="1528" y="1461"/>
                    </a:lnTo>
                    <a:lnTo>
                      <a:pt x="1542" y="1434"/>
                    </a:lnTo>
                    <a:lnTo>
                      <a:pt x="1529" y="1408"/>
                    </a:lnTo>
                    <a:lnTo>
                      <a:pt x="1516" y="1437"/>
                    </a:lnTo>
                    <a:lnTo>
                      <a:pt x="1502" y="1464"/>
                    </a:lnTo>
                    <a:lnTo>
                      <a:pt x="1486" y="1491"/>
                    </a:lnTo>
                    <a:lnTo>
                      <a:pt x="1469" y="1518"/>
                    </a:lnTo>
                    <a:lnTo>
                      <a:pt x="1453" y="1543"/>
                    </a:lnTo>
                    <a:lnTo>
                      <a:pt x="1435" y="1568"/>
                    </a:lnTo>
                    <a:lnTo>
                      <a:pt x="1416" y="1594"/>
                    </a:lnTo>
                    <a:lnTo>
                      <a:pt x="1398" y="1617"/>
                    </a:lnTo>
                    <a:lnTo>
                      <a:pt x="1378" y="1641"/>
                    </a:lnTo>
                    <a:lnTo>
                      <a:pt x="1358" y="1664"/>
                    </a:lnTo>
                    <a:lnTo>
                      <a:pt x="1336" y="1686"/>
                    </a:lnTo>
                    <a:lnTo>
                      <a:pt x="1314" y="1708"/>
                    </a:lnTo>
                    <a:lnTo>
                      <a:pt x="1292" y="1729"/>
                    </a:lnTo>
                    <a:lnTo>
                      <a:pt x="1268" y="1748"/>
                    </a:lnTo>
                    <a:lnTo>
                      <a:pt x="1245" y="1768"/>
                    </a:lnTo>
                    <a:lnTo>
                      <a:pt x="1219" y="1786"/>
                    </a:lnTo>
                    <a:lnTo>
                      <a:pt x="1195" y="1805"/>
                    </a:lnTo>
                    <a:lnTo>
                      <a:pt x="1168" y="1821"/>
                    </a:lnTo>
                    <a:lnTo>
                      <a:pt x="1142" y="1838"/>
                    </a:lnTo>
                    <a:lnTo>
                      <a:pt x="1115" y="1853"/>
                    </a:lnTo>
                    <a:lnTo>
                      <a:pt x="1088" y="1868"/>
                    </a:lnTo>
                    <a:lnTo>
                      <a:pt x="1060" y="1882"/>
                    </a:lnTo>
                    <a:lnTo>
                      <a:pt x="1032" y="1895"/>
                    </a:lnTo>
                    <a:lnTo>
                      <a:pt x="1003" y="1906"/>
                    </a:lnTo>
                    <a:lnTo>
                      <a:pt x="973" y="1918"/>
                    </a:lnTo>
                    <a:lnTo>
                      <a:pt x="943" y="1928"/>
                    </a:lnTo>
                    <a:lnTo>
                      <a:pt x="914" y="1937"/>
                    </a:lnTo>
                    <a:lnTo>
                      <a:pt x="884" y="1945"/>
                    </a:lnTo>
                    <a:lnTo>
                      <a:pt x="852" y="1952"/>
                    </a:lnTo>
                    <a:lnTo>
                      <a:pt x="821" y="1959"/>
                    </a:lnTo>
                    <a:lnTo>
                      <a:pt x="789" y="1964"/>
                    </a:lnTo>
                    <a:lnTo>
                      <a:pt x="758" y="1968"/>
                    </a:lnTo>
                    <a:lnTo>
                      <a:pt x="772" y="198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22800" y="3676680"/>
                <a:ext cx="406440" cy="520560"/>
              </a:xfrm>
              <a:custGeom>
                <a:avLst/>
                <a:gdLst/>
                <a:ahLst/>
                <a:rect l="l" t="t" r="r" b="b"/>
                <a:pathLst>
                  <a:path w="1533" h="1968">
                    <a:moveTo>
                      <a:pt x="713" y="4"/>
                    </a:moveTo>
                    <a:lnTo>
                      <a:pt x="704" y="2"/>
                    </a:lnTo>
                    <a:lnTo>
                      <a:pt x="695" y="2"/>
                    </a:lnTo>
                    <a:lnTo>
                      <a:pt x="686" y="1"/>
                    </a:lnTo>
                    <a:lnTo>
                      <a:pt x="676" y="1"/>
                    </a:lnTo>
                    <a:lnTo>
                      <a:pt x="667" y="1"/>
                    </a:lnTo>
                    <a:lnTo>
                      <a:pt x="658" y="0"/>
                    </a:lnTo>
                    <a:lnTo>
                      <a:pt x="649" y="0"/>
                    </a:lnTo>
                    <a:lnTo>
                      <a:pt x="639" y="0"/>
                    </a:lnTo>
                    <a:lnTo>
                      <a:pt x="593" y="1"/>
                    </a:lnTo>
                    <a:lnTo>
                      <a:pt x="548" y="5"/>
                    </a:lnTo>
                    <a:lnTo>
                      <a:pt x="505" y="9"/>
                    </a:lnTo>
                    <a:lnTo>
                      <a:pt x="461" y="16"/>
                    </a:lnTo>
                    <a:lnTo>
                      <a:pt x="418" y="25"/>
                    </a:lnTo>
                    <a:lnTo>
                      <a:pt x="375" y="36"/>
                    </a:lnTo>
                    <a:lnTo>
                      <a:pt x="334" y="49"/>
                    </a:lnTo>
                    <a:lnTo>
                      <a:pt x="293" y="62"/>
                    </a:lnTo>
                    <a:lnTo>
                      <a:pt x="253" y="78"/>
                    </a:lnTo>
                    <a:lnTo>
                      <a:pt x="214" y="97"/>
                    </a:lnTo>
                    <a:lnTo>
                      <a:pt x="176" y="115"/>
                    </a:lnTo>
                    <a:lnTo>
                      <a:pt x="139" y="136"/>
                    </a:lnTo>
                    <a:lnTo>
                      <a:pt x="102" y="159"/>
                    </a:lnTo>
                    <a:lnTo>
                      <a:pt x="67" y="182"/>
                    </a:lnTo>
                    <a:lnTo>
                      <a:pt x="33" y="208"/>
                    </a:lnTo>
                    <a:lnTo>
                      <a:pt x="0" y="235"/>
                    </a:lnTo>
                    <a:lnTo>
                      <a:pt x="6" y="259"/>
                    </a:lnTo>
                    <a:lnTo>
                      <a:pt x="39" y="233"/>
                    </a:lnTo>
                    <a:lnTo>
                      <a:pt x="72" y="208"/>
                    </a:lnTo>
                    <a:lnTo>
                      <a:pt x="107" y="183"/>
                    </a:lnTo>
                    <a:lnTo>
                      <a:pt x="142" y="160"/>
                    </a:lnTo>
                    <a:lnTo>
                      <a:pt x="179" y="140"/>
                    </a:lnTo>
                    <a:lnTo>
                      <a:pt x="217" y="120"/>
                    </a:lnTo>
                    <a:lnTo>
                      <a:pt x="255" y="103"/>
                    </a:lnTo>
                    <a:lnTo>
                      <a:pt x="296" y="87"/>
                    </a:lnTo>
                    <a:lnTo>
                      <a:pt x="336" y="72"/>
                    </a:lnTo>
                    <a:lnTo>
                      <a:pt x="378" y="59"/>
                    </a:lnTo>
                    <a:lnTo>
                      <a:pt x="419" y="49"/>
                    </a:lnTo>
                    <a:lnTo>
                      <a:pt x="462" y="39"/>
                    </a:lnTo>
                    <a:lnTo>
                      <a:pt x="506" y="32"/>
                    </a:lnTo>
                    <a:lnTo>
                      <a:pt x="549" y="27"/>
                    </a:lnTo>
                    <a:lnTo>
                      <a:pt x="594" y="24"/>
                    </a:lnTo>
                    <a:lnTo>
                      <a:pt x="639" y="23"/>
                    </a:lnTo>
                    <a:lnTo>
                      <a:pt x="650" y="23"/>
                    </a:lnTo>
                    <a:lnTo>
                      <a:pt x="661" y="23"/>
                    </a:lnTo>
                    <a:lnTo>
                      <a:pt x="672" y="23"/>
                    </a:lnTo>
                    <a:lnTo>
                      <a:pt x="682" y="24"/>
                    </a:lnTo>
                    <a:lnTo>
                      <a:pt x="694" y="24"/>
                    </a:lnTo>
                    <a:lnTo>
                      <a:pt x="704" y="25"/>
                    </a:lnTo>
                    <a:lnTo>
                      <a:pt x="714" y="27"/>
                    </a:lnTo>
                    <a:lnTo>
                      <a:pt x="726" y="27"/>
                    </a:lnTo>
                    <a:lnTo>
                      <a:pt x="713" y="4"/>
                    </a:lnTo>
                    <a:close/>
                    <a:moveTo>
                      <a:pt x="762" y="1968"/>
                    </a:moveTo>
                    <a:lnTo>
                      <a:pt x="793" y="1963"/>
                    </a:lnTo>
                    <a:lnTo>
                      <a:pt x="825" y="1957"/>
                    </a:lnTo>
                    <a:lnTo>
                      <a:pt x="856" y="1952"/>
                    </a:lnTo>
                    <a:lnTo>
                      <a:pt x="887" y="1944"/>
                    </a:lnTo>
                    <a:lnTo>
                      <a:pt x="917" y="1936"/>
                    </a:lnTo>
                    <a:lnTo>
                      <a:pt x="947" y="1926"/>
                    </a:lnTo>
                    <a:lnTo>
                      <a:pt x="977" y="1916"/>
                    </a:lnTo>
                    <a:lnTo>
                      <a:pt x="1006" y="1906"/>
                    </a:lnTo>
                    <a:lnTo>
                      <a:pt x="1035" y="1893"/>
                    </a:lnTo>
                    <a:lnTo>
                      <a:pt x="1063" y="1880"/>
                    </a:lnTo>
                    <a:lnTo>
                      <a:pt x="1090" y="1866"/>
                    </a:lnTo>
                    <a:lnTo>
                      <a:pt x="1118" y="1851"/>
                    </a:lnTo>
                    <a:lnTo>
                      <a:pt x="1145" y="1836"/>
                    </a:lnTo>
                    <a:lnTo>
                      <a:pt x="1171" y="1820"/>
                    </a:lnTo>
                    <a:lnTo>
                      <a:pt x="1197" y="1803"/>
                    </a:lnTo>
                    <a:lnTo>
                      <a:pt x="1222" y="1786"/>
                    </a:lnTo>
                    <a:lnTo>
                      <a:pt x="1246" y="1767"/>
                    </a:lnTo>
                    <a:lnTo>
                      <a:pt x="1270" y="1748"/>
                    </a:lnTo>
                    <a:lnTo>
                      <a:pt x="1293" y="1728"/>
                    </a:lnTo>
                    <a:lnTo>
                      <a:pt x="1317" y="1707"/>
                    </a:lnTo>
                    <a:lnTo>
                      <a:pt x="1338" y="1685"/>
                    </a:lnTo>
                    <a:lnTo>
                      <a:pt x="1360" y="1664"/>
                    </a:lnTo>
                    <a:lnTo>
                      <a:pt x="1380" y="1640"/>
                    </a:lnTo>
                    <a:lnTo>
                      <a:pt x="1401" y="1617"/>
                    </a:lnTo>
                    <a:lnTo>
                      <a:pt x="1419" y="1593"/>
                    </a:lnTo>
                    <a:lnTo>
                      <a:pt x="1438" y="1569"/>
                    </a:lnTo>
                    <a:lnTo>
                      <a:pt x="1456" y="1544"/>
                    </a:lnTo>
                    <a:lnTo>
                      <a:pt x="1473" y="1518"/>
                    </a:lnTo>
                    <a:lnTo>
                      <a:pt x="1490" y="1492"/>
                    </a:lnTo>
                    <a:lnTo>
                      <a:pt x="1505" y="1465"/>
                    </a:lnTo>
                    <a:lnTo>
                      <a:pt x="1520" y="1438"/>
                    </a:lnTo>
                    <a:lnTo>
                      <a:pt x="1533" y="1410"/>
                    </a:lnTo>
                    <a:lnTo>
                      <a:pt x="1520" y="1385"/>
                    </a:lnTo>
                    <a:lnTo>
                      <a:pt x="1506" y="1413"/>
                    </a:lnTo>
                    <a:lnTo>
                      <a:pt x="1492" y="1441"/>
                    </a:lnTo>
                    <a:lnTo>
                      <a:pt x="1477" y="1468"/>
                    </a:lnTo>
                    <a:lnTo>
                      <a:pt x="1461" y="1495"/>
                    </a:lnTo>
                    <a:lnTo>
                      <a:pt x="1445" y="1521"/>
                    </a:lnTo>
                    <a:lnTo>
                      <a:pt x="1427" y="1546"/>
                    </a:lnTo>
                    <a:lnTo>
                      <a:pt x="1409" y="1571"/>
                    </a:lnTo>
                    <a:lnTo>
                      <a:pt x="1389" y="1596"/>
                    </a:lnTo>
                    <a:lnTo>
                      <a:pt x="1370" y="1620"/>
                    </a:lnTo>
                    <a:lnTo>
                      <a:pt x="1349" y="1642"/>
                    </a:lnTo>
                    <a:lnTo>
                      <a:pt x="1328" y="1665"/>
                    </a:lnTo>
                    <a:lnTo>
                      <a:pt x="1306" y="1687"/>
                    </a:lnTo>
                    <a:lnTo>
                      <a:pt x="1283" y="1707"/>
                    </a:lnTo>
                    <a:lnTo>
                      <a:pt x="1260" y="1727"/>
                    </a:lnTo>
                    <a:lnTo>
                      <a:pt x="1236" y="1747"/>
                    </a:lnTo>
                    <a:lnTo>
                      <a:pt x="1212" y="1765"/>
                    </a:lnTo>
                    <a:lnTo>
                      <a:pt x="1186" y="1783"/>
                    </a:lnTo>
                    <a:lnTo>
                      <a:pt x="1160" y="1801"/>
                    </a:lnTo>
                    <a:lnTo>
                      <a:pt x="1133" y="1817"/>
                    </a:lnTo>
                    <a:lnTo>
                      <a:pt x="1107" y="1832"/>
                    </a:lnTo>
                    <a:lnTo>
                      <a:pt x="1079" y="1847"/>
                    </a:lnTo>
                    <a:lnTo>
                      <a:pt x="1051" y="1861"/>
                    </a:lnTo>
                    <a:lnTo>
                      <a:pt x="1022" y="1873"/>
                    </a:lnTo>
                    <a:lnTo>
                      <a:pt x="994" y="1886"/>
                    </a:lnTo>
                    <a:lnTo>
                      <a:pt x="965" y="1896"/>
                    </a:lnTo>
                    <a:lnTo>
                      <a:pt x="935" y="1907"/>
                    </a:lnTo>
                    <a:lnTo>
                      <a:pt x="905" y="1916"/>
                    </a:lnTo>
                    <a:lnTo>
                      <a:pt x="874" y="1924"/>
                    </a:lnTo>
                    <a:lnTo>
                      <a:pt x="842" y="1931"/>
                    </a:lnTo>
                    <a:lnTo>
                      <a:pt x="811" y="1938"/>
                    </a:lnTo>
                    <a:lnTo>
                      <a:pt x="779" y="1942"/>
                    </a:lnTo>
                    <a:lnTo>
                      <a:pt x="747" y="1947"/>
                    </a:lnTo>
                    <a:lnTo>
                      <a:pt x="762" y="1968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24600" y="3679920"/>
                <a:ext cx="401760" cy="515880"/>
              </a:xfrm>
              <a:custGeom>
                <a:avLst/>
                <a:gdLst/>
                <a:ahLst/>
                <a:rect l="l" t="t" r="r" b="b"/>
                <a:pathLst>
                  <a:path w="1522" h="1945">
                    <a:moveTo>
                      <a:pt x="716" y="3"/>
                    </a:moveTo>
                    <a:lnTo>
                      <a:pt x="706" y="2"/>
                    </a:lnTo>
                    <a:lnTo>
                      <a:pt x="695" y="2"/>
                    </a:lnTo>
                    <a:lnTo>
                      <a:pt x="685" y="1"/>
                    </a:lnTo>
                    <a:lnTo>
                      <a:pt x="676" y="1"/>
                    </a:lnTo>
                    <a:lnTo>
                      <a:pt x="665" y="0"/>
                    </a:lnTo>
                    <a:lnTo>
                      <a:pt x="655" y="0"/>
                    </a:lnTo>
                    <a:lnTo>
                      <a:pt x="646" y="0"/>
                    </a:lnTo>
                    <a:lnTo>
                      <a:pt x="635" y="0"/>
                    </a:lnTo>
                    <a:lnTo>
                      <a:pt x="589" y="1"/>
                    </a:lnTo>
                    <a:lnTo>
                      <a:pt x="545" y="4"/>
                    </a:lnTo>
                    <a:lnTo>
                      <a:pt x="501" y="9"/>
                    </a:lnTo>
                    <a:lnTo>
                      <a:pt x="458" y="16"/>
                    </a:lnTo>
                    <a:lnTo>
                      <a:pt x="414" y="25"/>
                    </a:lnTo>
                    <a:lnTo>
                      <a:pt x="372" y="35"/>
                    </a:lnTo>
                    <a:lnTo>
                      <a:pt x="331" y="48"/>
                    </a:lnTo>
                    <a:lnTo>
                      <a:pt x="291" y="62"/>
                    </a:lnTo>
                    <a:lnTo>
                      <a:pt x="250" y="78"/>
                    </a:lnTo>
                    <a:lnTo>
                      <a:pt x="211" y="96"/>
                    </a:lnTo>
                    <a:lnTo>
                      <a:pt x="173" y="116"/>
                    </a:lnTo>
                    <a:lnTo>
                      <a:pt x="137" y="137"/>
                    </a:lnTo>
                    <a:lnTo>
                      <a:pt x="100" y="159"/>
                    </a:lnTo>
                    <a:lnTo>
                      <a:pt x="66" y="183"/>
                    </a:lnTo>
                    <a:lnTo>
                      <a:pt x="32" y="208"/>
                    </a:lnTo>
                    <a:lnTo>
                      <a:pt x="0" y="235"/>
                    </a:lnTo>
                    <a:lnTo>
                      <a:pt x="6" y="260"/>
                    </a:lnTo>
                    <a:lnTo>
                      <a:pt x="37" y="234"/>
                    </a:lnTo>
                    <a:lnTo>
                      <a:pt x="70" y="207"/>
                    </a:lnTo>
                    <a:lnTo>
                      <a:pt x="105" y="183"/>
                    </a:lnTo>
                    <a:lnTo>
                      <a:pt x="141" y="161"/>
                    </a:lnTo>
                    <a:lnTo>
                      <a:pt x="178" y="139"/>
                    </a:lnTo>
                    <a:lnTo>
                      <a:pt x="214" y="120"/>
                    </a:lnTo>
                    <a:lnTo>
                      <a:pt x="254" y="102"/>
                    </a:lnTo>
                    <a:lnTo>
                      <a:pt x="293" y="86"/>
                    </a:lnTo>
                    <a:lnTo>
                      <a:pt x="333" y="71"/>
                    </a:lnTo>
                    <a:lnTo>
                      <a:pt x="374" y="58"/>
                    </a:lnTo>
                    <a:lnTo>
                      <a:pt x="416" y="48"/>
                    </a:lnTo>
                    <a:lnTo>
                      <a:pt x="459" y="39"/>
                    </a:lnTo>
                    <a:lnTo>
                      <a:pt x="502" y="32"/>
                    </a:lnTo>
                    <a:lnTo>
                      <a:pt x="545" y="26"/>
                    </a:lnTo>
                    <a:lnTo>
                      <a:pt x="590" y="24"/>
                    </a:lnTo>
                    <a:lnTo>
                      <a:pt x="635" y="23"/>
                    </a:lnTo>
                    <a:lnTo>
                      <a:pt x="647" y="23"/>
                    </a:lnTo>
                    <a:lnTo>
                      <a:pt x="659" y="23"/>
                    </a:lnTo>
                    <a:lnTo>
                      <a:pt x="670" y="23"/>
                    </a:lnTo>
                    <a:lnTo>
                      <a:pt x="682" y="24"/>
                    </a:lnTo>
                    <a:lnTo>
                      <a:pt x="693" y="24"/>
                    </a:lnTo>
                    <a:lnTo>
                      <a:pt x="705" y="25"/>
                    </a:lnTo>
                    <a:lnTo>
                      <a:pt x="716" y="26"/>
                    </a:lnTo>
                    <a:lnTo>
                      <a:pt x="728" y="27"/>
                    </a:lnTo>
                    <a:lnTo>
                      <a:pt x="716" y="3"/>
                    </a:lnTo>
                    <a:close/>
                    <a:moveTo>
                      <a:pt x="751" y="1945"/>
                    </a:moveTo>
                    <a:lnTo>
                      <a:pt x="782" y="1941"/>
                    </a:lnTo>
                    <a:lnTo>
                      <a:pt x="814" y="1936"/>
                    </a:lnTo>
                    <a:lnTo>
                      <a:pt x="845" y="1929"/>
                    </a:lnTo>
                    <a:lnTo>
                      <a:pt x="877" y="1922"/>
                    </a:lnTo>
                    <a:lnTo>
                      <a:pt x="907" y="1914"/>
                    </a:lnTo>
                    <a:lnTo>
                      <a:pt x="936" y="1905"/>
                    </a:lnTo>
                    <a:lnTo>
                      <a:pt x="966" y="1895"/>
                    </a:lnTo>
                    <a:lnTo>
                      <a:pt x="996" y="1883"/>
                    </a:lnTo>
                    <a:lnTo>
                      <a:pt x="1025" y="1872"/>
                    </a:lnTo>
                    <a:lnTo>
                      <a:pt x="1053" y="1859"/>
                    </a:lnTo>
                    <a:lnTo>
                      <a:pt x="1081" y="1845"/>
                    </a:lnTo>
                    <a:lnTo>
                      <a:pt x="1108" y="1830"/>
                    </a:lnTo>
                    <a:lnTo>
                      <a:pt x="1135" y="1815"/>
                    </a:lnTo>
                    <a:lnTo>
                      <a:pt x="1161" y="1798"/>
                    </a:lnTo>
                    <a:lnTo>
                      <a:pt x="1188" y="1782"/>
                    </a:lnTo>
                    <a:lnTo>
                      <a:pt x="1212" y="1763"/>
                    </a:lnTo>
                    <a:lnTo>
                      <a:pt x="1238" y="1745"/>
                    </a:lnTo>
                    <a:lnTo>
                      <a:pt x="1261" y="1725"/>
                    </a:lnTo>
                    <a:lnTo>
                      <a:pt x="1285" y="1706"/>
                    </a:lnTo>
                    <a:lnTo>
                      <a:pt x="1307" y="1685"/>
                    </a:lnTo>
                    <a:lnTo>
                      <a:pt x="1329" y="1663"/>
                    </a:lnTo>
                    <a:lnTo>
                      <a:pt x="1351" y="1641"/>
                    </a:lnTo>
                    <a:lnTo>
                      <a:pt x="1371" y="1618"/>
                    </a:lnTo>
                    <a:lnTo>
                      <a:pt x="1391" y="1594"/>
                    </a:lnTo>
                    <a:lnTo>
                      <a:pt x="1409" y="1571"/>
                    </a:lnTo>
                    <a:lnTo>
                      <a:pt x="1428" y="1545"/>
                    </a:lnTo>
                    <a:lnTo>
                      <a:pt x="1446" y="1520"/>
                    </a:lnTo>
                    <a:lnTo>
                      <a:pt x="1462" y="1495"/>
                    </a:lnTo>
                    <a:lnTo>
                      <a:pt x="1479" y="1468"/>
                    </a:lnTo>
                    <a:lnTo>
                      <a:pt x="1495" y="1441"/>
                    </a:lnTo>
                    <a:lnTo>
                      <a:pt x="1509" y="1414"/>
                    </a:lnTo>
                    <a:lnTo>
                      <a:pt x="1522" y="1385"/>
                    </a:lnTo>
                    <a:lnTo>
                      <a:pt x="1509" y="1360"/>
                    </a:lnTo>
                    <a:lnTo>
                      <a:pt x="1496" y="1389"/>
                    </a:lnTo>
                    <a:lnTo>
                      <a:pt x="1482" y="1416"/>
                    </a:lnTo>
                    <a:lnTo>
                      <a:pt x="1467" y="1444"/>
                    </a:lnTo>
                    <a:lnTo>
                      <a:pt x="1451" y="1471"/>
                    </a:lnTo>
                    <a:lnTo>
                      <a:pt x="1435" y="1497"/>
                    </a:lnTo>
                    <a:lnTo>
                      <a:pt x="1417" y="1522"/>
                    </a:lnTo>
                    <a:lnTo>
                      <a:pt x="1399" y="1548"/>
                    </a:lnTo>
                    <a:lnTo>
                      <a:pt x="1379" y="1572"/>
                    </a:lnTo>
                    <a:lnTo>
                      <a:pt x="1360" y="1596"/>
                    </a:lnTo>
                    <a:lnTo>
                      <a:pt x="1339" y="1619"/>
                    </a:lnTo>
                    <a:lnTo>
                      <a:pt x="1318" y="1641"/>
                    </a:lnTo>
                    <a:lnTo>
                      <a:pt x="1296" y="1663"/>
                    </a:lnTo>
                    <a:lnTo>
                      <a:pt x="1273" y="1685"/>
                    </a:lnTo>
                    <a:lnTo>
                      <a:pt x="1250" y="1705"/>
                    </a:lnTo>
                    <a:lnTo>
                      <a:pt x="1226" y="1724"/>
                    </a:lnTo>
                    <a:lnTo>
                      <a:pt x="1202" y="1743"/>
                    </a:lnTo>
                    <a:lnTo>
                      <a:pt x="1176" y="1761"/>
                    </a:lnTo>
                    <a:lnTo>
                      <a:pt x="1151" y="1778"/>
                    </a:lnTo>
                    <a:lnTo>
                      <a:pt x="1125" y="1794"/>
                    </a:lnTo>
                    <a:lnTo>
                      <a:pt x="1097" y="1811"/>
                    </a:lnTo>
                    <a:lnTo>
                      <a:pt x="1069" y="1826"/>
                    </a:lnTo>
                    <a:lnTo>
                      <a:pt x="1041" y="1839"/>
                    </a:lnTo>
                    <a:lnTo>
                      <a:pt x="1013" y="1852"/>
                    </a:lnTo>
                    <a:lnTo>
                      <a:pt x="984" y="1864"/>
                    </a:lnTo>
                    <a:lnTo>
                      <a:pt x="954" y="1875"/>
                    </a:lnTo>
                    <a:lnTo>
                      <a:pt x="924" y="1884"/>
                    </a:lnTo>
                    <a:lnTo>
                      <a:pt x="894" y="1894"/>
                    </a:lnTo>
                    <a:lnTo>
                      <a:pt x="863" y="1902"/>
                    </a:lnTo>
                    <a:lnTo>
                      <a:pt x="832" y="1909"/>
                    </a:lnTo>
                    <a:lnTo>
                      <a:pt x="800" y="1916"/>
                    </a:lnTo>
                    <a:lnTo>
                      <a:pt x="768" y="1920"/>
                    </a:lnTo>
                    <a:lnTo>
                      <a:pt x="736" y="1924"/>
                    </a:lnTo>
                    <a:lnTo>
                      <a:pt x="739" y="1928"/>
                    </a:lnTo>
                    <a:lnTo>
                      <a:pt x="751" y="194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24600" y="3683160"/>
                <a:ext cx="399960" cy="509400"/>
              </a:xfrm>
              <a:custGeom>
                <a:avLst/>
                <a:gdLst/>
                <a:ahLst/>
                <a:rect l="l" t="t" r="r" b="b"/>
                <a:pathLst>
                  <a:path w="1514" h="1924">
                    <a:moveTo>
                      <a:pt x="720" y="4"/>
                    </a:moveTo>
                    <a:lnTo>
                      <a:pt x="708" y="4"/>
                    </a:lnTo>
                    <a:lnTo>
                      <a:pt x="698" y="2"/>
                    </a:lnTo>
                    <a:lnTo>
                      <a:pt x="688" y="1"/>
                    </a:lnTo>
                    <a:lnTo>
                      <a:pt x="676" y="1"/>
                    </a:lnTo>
                    <a:lnTo>
                      <a:pt x="666" y="0"/>
                    </a:lnTo>
                    <a:lnTo>
                      <a:pt x="655" y="0"/>
                    </a:lnTo>
                    <a:lnTo>
                      <a:pt x="644" y="0"/>
                    </a:lnTo>
                    <a:lnTo>
                      <a:pt x="633" y="0"/>
                    </a:lnTo>
                    <a:lnTo>
                      <a:pt x="588" y="1"/>
                    </a:lnTo>
                    <a:lnTo>
                      <a:pt x="543" y="4"/>
                    </a:lnTo>
                    <a:lnTo>
                      <a:pt x="500" y="9"/>
                    </a:lnTo>
                    <a:lnTo>
                      <a:pt x="456" y="16"/>
                    </a:lnTo>
                    <a:lnTo>
                      <a:pt x="413" y="26"/>
                    </a:lnTo>
                    <a:lnTo>
                      <a:pt x="372" y="36"/>
                    </a:lnTo>
                    <a:lnTo>
                      <a:pt x="330" y="49"/>
                    </a:lnTo>
                    <a:lnTo>
                      <a:pt x="290" y="64"/>
                    </a:lnTo>
                    <a:lnTo>
                      <a:pt x="249" y="80"/>
                    </a:lnTo>
                    <a:lnTo>
                      <a:pt x="211" y="97"/>
                    </a:lnTo>
                    <a:lnTo>
                      <a:pt x="173" y="117"/>
                    </a:lnTo>
                    <a:lnTo>
                      <a:pt x="136" y="137"/>
                    </a:lnTo>
                    <a:lnTo>
                      <a:pt x="101" y="160"/>
                    </a:lnTo>
                    <a:lnTo>
                      <a:pt x="66" y="185"/>
                    </a:lnTo>
                    <a:lnTo>
                      <a:pt x="33" y="210"/>
                    </a:lnTo>
                    <a:lnTo>
                      <a:pt x="0" y="236"/>
                    </a:lnTo>
                    <a:lnTo>
                      <a:pt x="6" y="262"/>
                    </a:lnTo>
                    <a:lnTo>
                      <a:pt x="38" y="234"/>
                    </a:lnTo>
                    <a:lnTo>
                      <a:pt x="71" y="209"/>
                    </a:lnTo>
                    <a:lnTo>
                      <a:pt x="105" y="185"/>
                    </a:lnTo>
                    <a:lnTo>
                      <a:pt x="141" y="162"/>
                    </a:lnTo>
                    <a:lnTo>
                      <a:pt x="177" y="141"/>
                    </a:lnTo>
                    <a:lnTo>
                      <a:pt x="215" y="121"/>
                    </a:lnTo>
                    <a:lnTo>
                      <a:pt x="253" y="103"/>
                    </a:lnTo>
                    <a:lnTo>
                      <a:pt x="292" y="87"/>
                    </a:lnTo>
                    <a:lnTo>
                      <a:pt x="332" y="72"/>
                    </a:lnTo>
                    <a:lnTo>
                      <a:pt x="373" y="59"/>
                    </a:lnTo>
                    <a:lnTo>
                      <a:pt x="414" y="49"/>
                    </a:lnTo>
                    <a:lnTo>
                      <a:pt x="457" y="39"/>
                    </a:lnTo>
                    <a:lnTo>
                      <a:pt x="500" y="32"/>
                    </a:lnTo>
                    <a:lnTo>
                      <a:pt x="543" y="27"/>
                    </a:lnTo>
                    <a:lnTo>
                      <a:pt x="588" y="23"/>
                    </a:lnTo>
                    <a:lnTo>
                      <a:pt x="633" y="22"/>
                    </a:lnTo>
                    <a:lnTo>
                      <a:pt x="646" y="23"/>
                    </a:lnTo>
                    <a:lnTo>
                      <a:pt x="658" y="23"/>
                    </a:lnTo>
                    <a:lnTo>
                      <a:pt x="670" y="23"/>
                    </a:lnTo>
                    <a:lnTo>
                      <a:pt x="683" y="24"/>
                    </a:lnTo>
                    <a:lnTo>
                      <a:pt x="695" y="24"/>
                    </a:lnTo>
                    <a:lnTo>
                      <a:pt x="707" y="26"/>
                    </a:lnTo>
                    <a:lnTo>
                      <a:pt x="720" y="27"/>
                    </a:lnTo>
                    <a:lnTo>
                      <a:pt x="731" y="28"/>
                    </a:lnTo>
                    <a:lnTo>
                      <a:pt x="720" y="4"/>
                    </a:lnTo>
                    <a:close/>
                    <a:moveTo>
                      <a:pt x="741" y="1924"/>
                    </a:moveTo>
                    <a:lnTo>
                      <a:pt x="773" y="1919"/>
                    </a:lnTo>
                    <a:lnTo>
                      <a:pt x="805" y="1915"/>
                    </a:lnTo>
                    <a:lnTo>
                      <a:pt x="836" y="1908"/>
                    </a:lnTo>
                    <a:lnTo>
                      <a:pt x="868" y="1901"/>
                    </a:lnTo>
                    <a:lnTo>
                      <a:pt x="899" y="1893"/>
                    </a:lnTo>
                    <a:lnTo>
                      <a:pt x="929" y="1884"/>
                    </a:lnTo>
                    <a:lnTo>
                      <a:pt x="959" y="1873"/>
                    </a:lnTo>
                    <a:lnTo>
                      <a:pt x="988" y="1863"/>
                    </a:lnTo>
                    <a:lnTo>
                      <a:pt x="1016" y="1850"/>
                    </a:lnTo>
                    <a:lnTo>
                      <a:pt x="1045" y="1838"/>
                    </a:lnTo>
                    <a:lnTo>
                      <a:pt x="1073" y="1824"/>
                    </a:lnTo>
                    <a:lnTo>
                      <a:pt x="1101" y="1809"/>
                    </a:lnTo>
                    <a:lnTo>
                      <a:pt x="1127" y="1794"/>
                    </a:lnTo>
                    <a:lnTo>
                      <a:pt x="1154" y="1778"/>
                    </a:lnTo>
                    <a:lnTo>
                      <a:pt x="1180" y="1760"/>
                    </a:lnTo>
                    <a:lnTo>
                      <a:pt x="1206" y="1742"/>
                    </a:lnTo>
                    <a:lnTo>
                      <a:pt x="1230" y="1724"/>
                    </a:lnTo>
                    <a:lnTo>
                      <a:pt x="1254" y="1704"/>
                    </a:lnTo>
                    <a:lnTo>
                      <a:pt x="1277" y="1684"/>
                    </a:lnTo>
                    <a:lnTo>
                      <a:pt x="1300" y="1664"/>
                    </a:lnTo>
                    <a:lnTo>
                      <a:pt x="1322" y="1642"/>
                    </a:lnTo>
                    <a:lnTo>
                      <a:pt x="1343" y="1619"/>
                    </a:lnTo>
                    <a:lnTo>
                      <a:pt x="1364" y="1597"/>
                    </a:lnTo>
                    <a:lnTo>
                      <a:pt x="1383" y="1573"/>
                    </a:lnTo>
                    <a:lnTo>
                      <a:pt x="1403" y="1548"/>
                    </a:lnTo>
                    <a:lnTo>
                      <a:pt x="1421" y="1523"/>
                    </a:lnTo>
                    <a:lnTo>
                      <a:pt x="1439" y="1498"/>
                    </a:lnTo>
                    <a:lnTo>
                      <a:pt x="1455" y="1472"/>
                    </a:lnTo>
                    <a:lnTo>
                      <a:pt x="1471" y="1445"/>
                    </a:lnTo>
                    <a:lnTo>
                      <a:pt x="1486" y="1418"/>
                    </a:lnTo>
                    <a:lnTo>
                      <a:pt x="1500" y="1390"/>
                    </a:lnTo>
                    <a:lnTo>
                      <a:pt x="1514" y="1362"/>
                    </a:lnTo>
                    <a:lnTo>
                      <a:pt x="1502" y="1340"/>
                    </a:lnTo>
                    <a:lnTo>
                      <a:pt x="1500" y="1337"/>
                    </a:lnTo>
                    <a:lnTo>
                      <a:pt x="1487" y="1366"/>
                    </a:lnTo>
                    <a:lnTo>
                      <a:pt x="1473" y="1394"/>
                    </a:lnTo>
                    <a:lnTo>
                      <a:pt x="1458" y="1421"/>
                    </a:lnTo>
                    <a:lnTo>
                      <a:pt x="1442" y="1449"/>
                    </a:lnTo>
                    <a:lnTo>
                      <a:pt x="1426" y="1476"/>
                    </a:lnTo>
                    <a:lnTo>
                      <a:pt x="1409" y="1501"/>
                    </a:lnTo>
                    <a:lnTo>
                      <a:pt x="1390" y="1526"/>
                    </a:lnTo>
                    <a:lnTo>
                      <a:pt x="1372" y="1551"/>
                    </a:lnTo>
                    <a:lnTo>
                      <a:pt x="1352" y="1575"/>
                    </a:lnTo>
                    <a:lnTo>
                      <a:pt x="1331" y="1598"/>
                    </a:lnTo>
                    <a:lnTo>
                      <a:pt x="1311" y="1621"/>
                    </a:lnTo>
                    <a:lnTo>
                      <a:pt x="1289" y="1643"/>
                    </a:lnTo>
                    <a:lnTo>
                      <a:pt x="1266" y="1664"/>
                    </a:lnTo>
                    <a:lnTo>
                      <a:pt x="1242" y="1684"/>
                    </a:lnTo>
                    <a:lnTo>
                      <a:pt x="1218" y="1704"/>
                    </a:lnTo>
                    <a:lnTo>
                      <a:pt x="1194" y="1722"/>
                    </a:lnTo>
                    <a:lnTo>
                      <a:pt x="1169" y="1741"/>
                    </a:lnTo>
                    <a:lnTo>
                      <a:pt x="1142" y="1758"/>
                    </a:lnTo>
                    <a:lnTo>
                      <a:pt x="1116" y="1774"/>
                    </a:lnTo>
                    <a:lnTo>
                      <a:pt x="1089" y="1789"/>
                    </a:lnTo>
                    <a:lnTo>
                      <a:pt x="1061" y="1804"/>
                    </a:lnTo>
                    <a:lnTo>
                      <a:pt x="1034" y="1818"/>
                    </a:lnTo>
                    <a:lnTo>
                      <a:pt x="1005" y="1831"/>
                    </a:lnTo>
                    <a:lnTo>
                      <a:pt x="976" y="1843"/>
                    </a:lnTo>
                    <a:lnTo>
                      <a:pt x="946" y="1854"/>
                    </a:lnTo>
                    <a:lnTo>
                      <a:pt x="916" y="1864"/>
                    </a:lnTo>
                    <a:lnTo>
                      <a:pt x="885" y="1873"/>
                    </a:lnTo>
                    <a:lnTo>
                      <a:pt x="855" y="1881"/>
                    </a:lnTo>
                    <a:lnTo>
                      <a:pt x="823" y="1888"/>
                    </a:lnTo>
                    <a:lnTo>
                      <a:pt x="791" y="1894"/>
                    </a:lnTo>
                    <a:lnTo>
                      <a:pt x="759" y="1899"/>
                    </a:lnTo>
                    <a:lnTo>
                      <a:pt x="727" y="1902"/>
                    </a:lnTo>
                    <a:lnTo>
                      <a:pt x="737" y="1917"/>
                    </a:lnTo>
                    <a:lnTo>
                      <a:pt x="741" y="192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026040" y="3686040"/>
                <a:ext cx="397080" cy="503280"/>
              </a:xfrm>
              <a:custGeom>
                <a:avLst/>
                <a:gdLst/>
                <a:ahLst/>
                <a:rect l="l" t="t" r="r" b="b"/>
                <a:pathLst>
                  <a:path w="1503" h="1901">
                    <a:moveTo>
                      <a:pt x="722" y="4"/>
                    </a:moveTo>
                    <a:lnTo>
                      <a:pt x="710" y="3"/>
                    </a:lnTo>
                    <a:lnTo>
                      <a:pt x="699" y="2"/>
                    </a:lnTo>
                    <a:lnTo>
                      <a:pt x="687" y="1"/>
                    </a:lnTo>
                    <a:lnTo>
                      <a:pt x="676" y="1"/>
                    </a:lnTo>
                    <a:lnTo>
                      <a:pt x="664" y="0"/>
                    </a:lnTo>
                    <a:lnTo>
                      <a:pt x="653" y="0"/>
                    </a:lnTo>
                    <a:lnTo>
                      <a:pt x="641" y="0"/>
                    </a:lnTo>
                    <a:lnTo>
                      <a:pt x="629" y="0"/>
                    </a:lnTo>
                    <a:lnTo>
                      <a:pt x="584" y="1"/>
                    </a:lnTo>
                    <a:lnTo>
                      <a:pt x="539" y="3"/>
                    </a:lnTo>
                    <a:lnTo>
                      <a:pt x="496" y="9"/>
                    </a:lnTo>
                    <a:lnTo>
                      <a:pt x="453" y="16"/>
                    </a:lnTo>
                    <a:lnTo>
                      <a:pt x="410" y="25"/>
                    </a:lnTo>
                    <a:lnTo>
                      <a:pt x="368" y="35"/>
                    </a:lnTo>
                    <a:lnTo>
                      <a:pt x="327" y="48"/>
                    </a:lnTo>
                    <a:lnTo>
                      <a:pt x="287" y="63"/>
                    </a:lnTo>
                    <a:lnTo>
                      <a:pt x="248" y="79"/>
                    </a:lnTo>
                    <a:lnTo>
                      <a:pt x="208" y="97"/>
                    </a:lnTo>
                    <a:lnTo>
                      <a:pt x="172" y="116"/>
                    </a:lnTo>
                    <a:lnTo>
                      <a:pt x="135" y="138"/>
                    </a:lnTo>
                    <a:lnTo>
                      <a:pt x="99" y="160"/>
                    </a:lnTo>
                    <a:lnTo>
                      <a:pt x="64" y="184"/>
                    </a:lnTo>
                    <a:lnTo>
                      <a:pt x="31" y="211"/>
                    </a:lnTo>
                    <a:lnTo>
                      <a:pt x="0" y="237"/>
                    </a:lnTo>
                    <a:lnTo>
                      <a:pt x="4" y="258"/>
                    </a:lnTo>
                    <a:lnTo>
                      <a:pt x="4" y="263"/>
                    </a:lnTo>
                    <a:lnTo>
                      <a:pt x="35" y="236"/>
                    </a:lnTo>
                    <a:lnTo>
                      <a:pt x="69" y="209"/>
                    </a:lnTo>
                    <a:lnTo>
                      <a:pt x="102" y="185"/>
                    </a:lnTo>
                    <a:lnTo>
                      <a:pt x="138" y="162"/>
                    </a:lnTo>
                    <a:lnTo>
                      <a:pt x="174" y="141"/>
                    </a:lnTo>
                    <a:lnTo>
                      <a:pt x="211" y="121"/>
                    </a:lnTo>
                    <a:lnTo>
                      <a:pt x="249" y="103"/>
                    </a:lnTo>
                    <a:lnTo>
                      <a:pt x="288" y="86"/>
                    </a:lnTo>
                    <a:lnTo>
                      <a:pt x="328" y="72"/>
                    </a:lnTo>
                    <a:lnTo>
                      <a:pt x="369" y="58"/>
                    </a:lnTo>
                    <a:lnTo>
                      <a:pt x="411" y="48"/>
                    </a:lnTo>
                    <a:lnTo>
                      <a:pt x="453" y="39"/>
                    </a:lnTo>
                    <a:lnTo>
                      <a:pt x="497" y="32"/>
                    </a:lnTo>
                    <a:lnTo>
                      <a:pt x="539" y="26"/>
                    </a:lnTo>
                    <a:lnTo>
                      <a:pt x="584" y="23"/>
                    </a:lnTo>
                    <a:lnTo>
                      <a:pt x="629" y="22"/>
                    </a:lnTo>
                    <a:lnTo>
                      <a:pt x="642" y="23"/>
                    </a:lnTo>
                    <a:lnTo>
                      <a:pt x="656" y="23"/>
                    </a:lnTo>
                    <a:lnTo>
                      <a:pt x="669" y="23"/>
                    </a:lnTo>
                    <a:lnTo>
                      <a:pt x="683" y="24"/>
                    </a:lnTo>
                    <a:lnTo>
                      <a:pt x="695" y="25"/>
                    </a:lnTo>
                    <a:lnTo>
                      <a:pt x="708" y="25"/>
                    </a:lnTo>
                    <a:lnTo>
                      <a:pt x="722" y="26"/>
                    </a:lnTo>
                    <a:lnTo>
                      <a:pt x="734" y="29"/>
                    </a:lnTo>
                    <a:lnTo>
                      <a:pt x="733" y="26"/>
                    </a:lnTo>
                    <a:lnTo>
                      <a:pt x="722" y="4"/>
                    </a:lnTo>
                    <a:close/>
                    <a:moveTo>
                      <a:pt x="730" y="1901"/>
                    </a:moveTo>
                    <a:lnTo>
                      <a:pt x="762" y="1897"/>
                    </a:lnTo>
                    <a:lnTo>
                      <a:pt x="794" y="1893"/>
                    </a:lnTo>
                    <a:lnTo>
                      <a:pt x="826" y="1886"/>
                    </a:lnTo>
                    <a:lnTo>
                      <a:pt x="857" y="1879"/>
                    </a:lnTo>
                    <a:lnTo>
                      <a:pt x="888" y="1871"/>
                    </a:lnTo>
                    <a:lnTo>
                      <a:pt x="918" y="1861"/>
                    </a:lnTo>
                    <a:lnTo>
                      <a:pt x="948" y="1852"/>
                    </a:lnTo>
                    <a:lnTo>
                      <a:pt x="978" y="1841"/>
                    </a:lnTo>
                    <a:lnTo>
                      <a:pt x="1007" y="1829"/>
                    </a:lnTo>
                    <a:lnTo>
                      <a:pt x="1035" y="1816"/>
                    </a:lnTo>
                    <a:lnTo>
                      <a:pt x="1063" y="1803"/>
                    </a:lnTo>
                    <a:lnTo>
                      <a:pt x="1091" y="1788"/>
                    </a:lnTo>
                    <a:lnTo>
                      <a:pt x="1119" y="1771"/>
                    </a:lnTo>
                    <a:lnTo>
                      <a:pt x="1145" y="1755"/>
                    </a:lnTo>
                    <a:lnTo>
                      <a:pt x="1170" y="1738"/>
                    </a:lnTo>
                    <a:lnTo>
                      <a:pt x="1196" y="1720"/>
                    </a:lnTo>
                    <a:lnTo>
                      <a:pt x="1220" y="1701"/>
                    </a:lnTo>
                    <a:lnTo>
                      <a:pt x="1244" y="1682"/>
                    </a:lnTo>
                    <a:lnTo>
                      <a:pt x="1267" y="1662"/>
                    </a:lnTo>
                    <a:lnTo>
                      <a:pt x="1290" y="1640"/>
                    </a:lnTo>
                    <a:lnTo>
                      <a:pt x="1312" y="1618"/>
                    </a:lnTo>
                    <a:lnTo>
                      <a:pt x="1333" y="1596"/>
                    </a:lnTo>
                    <a:lnTo>
                      <a:pt x="1354" y="1573"/>
                    </a:lnTo>
                    <a:lnTo>
                      <a:pt x="1373" y="1549"/>
                    </a:lnTo>
                    <a:lnTo>
                      <a:pt x="1393" y="1525"/>
                    </a:lnTo>
                    <a:lnTo>
                      <a:pt x="1411" y="1499"/>
                    </a:lnTo>
                    <a:lnTo>
                      <a:pt x="1429" y="1474"/>
                    </a:lnTo>
                    <a:lnTo>
                      <a:pt x="1445" y="1448"/>
                    </a:lnTo>
                    <a:lnTo>
                      <a:pt x="1461" y="1421"/>
                    </a:lnTo>
                    <a:lnTo>
                      <a:pt x="1476" y="1393"/>
                    </a:lnTo>
                    <a:lnTo>
                      <a:pt x="1490" y="1366"/>
                    </a:lnTo>
                    <a:lnTo>
                      <a:pt x="1503" y="1337"/>
                    </a:lnTo>
                    <a:lnTo>
                      <a:pt x="1498" y="1328"/>
                    </a:lnTo>
                    <a:lnTo>
                      <a:pt x="1486" y="1317"/>
                    </a:lnTo>
                    <a:lnTo>
                      <a:pt x="1474" y="1346"/>
                    </a:lnTo>
                    <a:lnTo>
                      <a:pt x="1460" y="1374"/>
                    </a:lnTo>
                    <a:lnTo>
                      <a:pt x="1445" y="1401"/>
                    </a:lnTo>
                    <a:lnTo>
                      <a:pt x="1430" y="1428"/>
                    </a:lnTo>
                    <a:lnTo>
                      <a:pt x="1414" y="1454"/>
                    </a:lnTo>
                    <a:lnTo>
                      <a:pt x="1396" y="1481"/>
                    </a:lnTo>
                    <a:lnTo>
                      <a:pt x="1378" y="1506"/>
                    </a:lnTo>
                    <a:lnTo>
                      <a:pt x="1360" y="1531"/>
                    </a:lnTo>
                    <a:lnTo>
                      <a:pt x="1340" y="1555"/>
                    </a:lnTo>
                    <a:lnTo>
                      <a:pt x="1319" y="1578"/>
                    </a:lnTo>
                    <a:lnTo>
                      <a:pt x="1298" y="1600"/>
                    </a:lnTo>
                    <a:lnTo>
                      <a:pt x="1277" y="1622"/>
                    </a:lnTo>
                    <a:lnTo>
                      <a:pt x="1255" y="1644"/>
                    </a:lnTo>
                    <a:lnTo>
                      <a:pt x="1230" y="1663"/>
                    </a:lnTo>
                    <a:lnTo>
                      <a:pt x="1207" y="1683"/>
                    </a:lnTo>
                    <a:lnTo>
                      <a:pt x="1182" y="1702"/>
                    </a:lnTo>
                    <a:lnTo>
                      <a:pt x="1157" y="1720"/>
                    </a:lnTo>
                    <a:lnTo>
                      <a:pt x="1131" y="1737"/>
                    </a:lnTo>
                    <a:lnTo>
                      <a:pt x="1105" y="1753"/>
                    </a:lnTo>
                    <a:lnTo>
                      <a:pt x="1078" y="1769"/>
                    </a:lnTo>
                    <a:lnTo>
                      <a:pt x="1050" y="1783"/>
                    </a:lnTo>
                    <a:lnTo>
                      <a:pt x="1022" y="1797"/>
                    </a:lnTo>
                    <a:lnTo>
                      <a:pt x="994" y="1810"/>
                    </a:lnTo>
                    <a:lnTo>
                      <a:pt x="964" y="1821"/>
                    </a:lnTo>
                    <a:lnTo>
                      <a:pt x="935" y="1833"/>
                    </a:lnTo>
                    <a:lnTo>
                      <a:pt x="905" y="1842"/>
                    </a:lnTo>
                    <a:lnTo>
                      <a:pt x="874" y="1851"/>
                    </a:lnTo>
                    <a:lnTo>
                      <a:pt x="843" y="1859"/>
                    </a:lnTo>
                    <a:lnTo>
                      <a:pt x="812" y="1866"/>
                    </a:lnTo>
                    <a:lnTo>
                      <a:pt x="781" y="1872"/>
                    </a:lnTo>
                    <a:lnTo>
                      <a:pt x="748" y="1876"/>
                    </a:lnTo>
                    <a:lnTo>
                      <a:pt x="716" y="1880"/>
                    </a:lnTo>
                    <a:lnTo>
                      <a:pt x="730" y="1901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26040" y="3689280"/>
                <a:ext cx="395280" cy="496800"/>
              </a:xfrm>
              <a:custGeom>
                <a:avLst/>
                <a:gdLst/>
                <a:ahLst/>
                <a:rect l="l" t="t" r="r" b="b"/>
                <a:pathLst>
                  <a:path w="1494" h="1880">
                    <a:moveTo>
                      <a:pt x="725" y="6"/>
                    </a:moveTo>
                    <a:lnTo>
                      <a:pt x="714" y="5"/>
                    </a:lnTo>
                    <a:lnTo>
                      <a:pt x="701" y="4"/>
                    </a:lnTo>
                    <a:lnTo>
                      <a:pt x="689" y="2"/>
                    </a:lnTo>
                    <a:lnTo>
                      <a:pt x="677" y="2"/>
                    </a:lnTo>
                    <a:lnTo>
                      <a:pt x="664" y="1"/>
                    </a:lnTo>
                    <a:lnTo>
                      <a:pt x="652" y="1"/>
                    </a:lnTo>
                    <a:lnTo>
                      <a:pt x="640" y="1"/>
                    </a:lnTo>
                    <a:lnTo>
                      <a:pt x="627" y="0"/>
                    </a:lnTo>
                    <a:lnTo>
                      <a:pt x="582" y="1"/>
                    </a:lnTo>
                    <a:lnTo>
                      <a:pt x="537" y="5"/>
                    </a:lnTo>
                    <a:lnTo>
                      <a:pt x="494" y="10"/>
                    </a:lnTo>
                    <a:lnTo>
                      <a:pt x="451" y="17"/>
                    </a:lnTo>
                    <a:lnTo>
                      <a:pt x="408" y="27"/>
                    </a:lnTo>
                    <a:lnTo>
                      <a:pt x="367" y="37"/>
                    </a:lnTo>
                    <a:lnTo>
                      <a:pt x="326" y="50"/>
                    </a:lnTo>
                    <a:lnTo>
                      <a:pt x="286" y="65"/>
                    </a:lnTo>
                    <a:lnTo>
                      <a:pt x="247" y="81"/>
                    </a:lnTo>
                    <a:lnTo>
                      <a:pt x="209" y="99"/>
                    </a:lnTo>
                    <a:lnTo>
                      <a:pt x="171" y="119"/>
                    </a:lnTo>
                    <a:lnTo>
                      <a:pt x="135" y="140"/>
                    </a:lnTo>
                    <a:lnTo>
                      <a:pt x="99" y="163"/>
                    </a:lnTo>
                    <a:lnTo>
                      <a:pt x="65" y="187"/>
                    </a:lnTo>
                    <a:lnTo>
                      <a:pt x="32" y="212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2" y="269"/>
                    </a:lnTo>
                    <a:lnTo>
                      <a:pt x="33" y="241"/>
                    </a:lnTo>
                    <a:lnTo>
                      <a:pt x="66" y="214"/>
                    </a:lnTo>
                    <a:lnTo>
                      <a:pt x="100" y="189"/>
                    </a:lnTo>
                    <a:lnTo>
                      <a:pt x="135" y="166"/>
                    </a:lnTo>
                    <a:lnTo>
                      <a:pt x="171" y="144"/>
                    </a:lnTo>
                    <a:lnTo>
                      <a:pt x="209" y="125"/>
                    </a:lnTo>
                    <a:lnTo>
                      <a:pt x="247" y="106"/>
                    </a:lnTo>
                    <a:lnTo>
                      <a:pt x="286" y="89"/>
                    </a:lnTo>
                    <a:lnTo>
                      <a:pt x="325" y="74"/>
                    </a:lnTo>
                    <a:lnTo>
                      <a:pt x="367" y="61"/>
                    </a:lnTo>
                    <a:lnTo>
                      <a:pt x="408" y="50"/>
                    </a:lnTo>
                    <a:lnTo>
                      <a:pt x="451" y="40"/>
                    </a:lnTo>
                    <a:lnTo>
                      <a:pt x="494" y="33"/>
                    </a:lnTo>
                    <a:lnTo>
                      <a:pt x="537" y="28"/>
                    </a:lnTo>
                    <a:lnTo>
                      <a:pt x="582" y="24"/>
                    </a:lnTo>
                    <a:lnTo>
                      <a:pt x="627" y="23"/>
                    </a:lnTo>
                    <a:lnTo>
                      <a:pt x="642" y="23"/>
                    </a:lnTo>
                    <a:lnTo>
                      <a:pt x="656" y="24"/>
                    </a:lnTo>
                    <a:lnTo>
                      <a:pt x="671" y="24"/>
                    </a:lnTo>
                    <a:lnTo>
                      <a:pt x="686" y="25"/>
                    </a:lnTo>
                    <a:lnTo>
                      <a:pt x="700" y="27"/>
                    </a:lnTo>
                    <a:lnTo>
                      <a:pt x="715" y="28"/>
                    </a:lnTo>
                    <a:lnTo>
                      <a:pt x="730" y="29"/>
                    </a:lnTo>
                    <a:lnTo>
                      <a:pt x="744" y="31"/>
                    </a:lnTo>
                    <a:lnTo>
                      <a:pt x="731" y="16"/>
                    </a:lnTo>
                    <a:lnTo>
                      <a:pt x="725" y="6"/>
                    </a:lnTo>
                    <a:close/>
                    <a:moveTo>
                      <a:pt x="721" y="1880"/>
                    </a:moveTo>
                    <a:lnTo>
                      <a:pt x="753" y="1877"/>
                    </a:lnTo>
                    <a:lnTo>
                      <a:pt x="785" y="1872"/>
                    </a:lnTo>
                    <a:lnTo>
                      <a:pt x="817" y="1866"/>
                    </a:lnTo>
                    <a:lnTo>
                      <a:pt x="849" y="1859"/>
                    </a:lnTo>
                    <a:lnTo>
                      <a:pt x="879" y="1851"/>
                    </a:lnTo>
                    <a:lnTo>
                      <a:pt x="910" y="1842"/>
                    </a:lnTo>
                    <a:lnTo>
                      <a:pt x="940" y="1832"/>
                    </a:lnTo>
                    <a:lnTo>
                      <a:pt x="970" y="1821"/>
                    </a:lnTo>
                    <a:lnTo>
                      <a:pt x="999" y="1809"/>
                    </a:lnTo>
                    <a:lnTo>
                      <a:pt x="1028" y="1796"/>
                    </a:lnTo>
                    <a:lnTo>
                      <a:pt x="1055" y="1782"/>
                    </a:lnTo>
                    <a:lnTo>
                      <a:pt x="1083" y="1767"/>
                    </a:lnTo>
                    <a:lnTo>
                      <a:pt x="1110" y="1752"/>
                    </a:lnTo>
                    <a:lnTo>
                      <a:pt x="1136" y="1736"/>
                    </a:lnTo>
                    <a:lnTo>
                      <a:pt x="1163" y="1719"/>
                    </a:lnTo>
                    <a:lnTo>
                      <a:pt x="1188" y="1700"/>
                    </a:lnTo>
                    <a:lnTo>
                      <a:pt x="1212" y="1682"/>
                    </a:lnTo>
                    <a:lnTo>
                      <a:pt x="1236" y="1662"/>
                    </a:lnTo>
                    <a:lnTo>
                      <a:pt x="1260" y="1642"/>
                    </a:lnTo>
                    <a:lnTo>
                      <a:pt x="1283" y="1621"/>
                    </a:lnTo>
                    <a:lnTo>
                      <a:pt x="1305" y="1599"/>
                    </a:lnTo>
                    <a:lnTo>
                      <a:pt x="1325" y="1576"/>
                    </a:lnTo>
                    <a:lnTo>
                      <a:pt x="1346" y="1553"/>
                    </a:lnTo>
                    <a:lnTo>
                      <a:pt x="1366" y="1529"/>
                    </a:lnTo>
                    <a:lnTo>
                      <a:pt x="1384" y="1504"/>
                    </a:lnTo>
                    <a:lnTo>
                      <a:pt x="1403" y="1479"/>
                    </a:lnTo>
                    <a:lnTo>
                      <a:pt x="1420" y="1454"/>
                    </a:lnTo>
                    <a:lnTo>
                      <a:pt x="1436" y="1427"/>
                    </a:lnTo>
                    <a:lnTo>
                      <a:pt x="1452" y="1399"/>
                    </a:lnTo>
                    <a:lnTo>
                      <a:pt x="1467" y="1372"/>
                    </a:lnTo>
                    <a:lnTo>
                      <a:pt x="1481" y="1344"/>
                    </a:lnTo>
                    <a:lnTo>
                      <a:pt x="1494" y="1315"/>
                    </a:lnTo>
                    <a:lnTo>
                      <a:pt x="1476" y="1299"/>
                    </a:lnTo>
                    <a:lnTo>
                      <a:pt x="1464" y="1327"/>
                    </a:lnTo>
                    <a:lnTo>
                      <a:pt x="1450" y="1356"/>
                    </a:lnTo>
                    <a:lnTo>
                      <a:pt x="1435" y="1383"/>
                    </a:lnTo>
                    <a:lnTo>
                      <a:pt x="1420" y="1410"/>
                    </a:lnTo>
                    <a:lnTo>
                      <a:pt x="1404" y="1436"/>
                    </a:lnTo>
                    <a:lnTo>
                      <a:pt x="1386" y="1462"/>
                    </a:lnTo>
                    <a:lnTo>
                      <a:pt x="1369" y="1487"/>
                    </a:lnTo>
                    <a:lnTo>
                      <a:pt x="1349" y="1512"/>
                    </a:lnTo>
                    <a:lnTo>
                      <a:pt x="1330" y="1536"/>
                    </a:lnTo>
                    <a:lnTo>
                      <a:pt x="1310" y="1559"/>
                    </a:lnTo>
                    <a:lnTo>
                      <a:pt x="1288" y="1582"/>
                    </a:lnTo>
                    <a:lnTo>
                      <a:pt x="1268" y="1604"/>
                    </a:lnTo>
                    <a:lnTo>
                      <a:pt x="1245" y="1624"/>
                    </a:lnTo>
                    <a:lnTo>
                      <a:pt x="1221" y="1645"/>
                    </a:lnTo>
                    <a:lnTo>
                      <a:pt x="1197" y="1665"/>
                    </a:lnTo>
                    <a:lnTo>
                      <a:pt x="1173" y="1683"/>
                    </a:lnTo>
                    <a:lnTo>
                      <a:pt x="1148" y="1702"/>
                    </a:lnTo>
                    <a:lnTo>
                      <a:pt x="1122" y="1718"/>
                    </a:lnTo>
                    <a:lnTo>
                      <a:pt x="1096" y="1735"/>
                    </a:lnTo>
                    <a:lnTo>
                      <a:pt x="1068" y="1750"/>
                    </a:lnTo>
                    <a:lnTo>
                      <a:pt x="1042" y="1764"/>
                    </a:lnTo>
                    <a:lnTo>
                      <a:pt x="1013" y="1778"/>
                    </a:lnTo>
                    <a:lnTo>
                      <a:pt x="984" y="1790"/>
                    </a:lnTo>
                    <a:lnTo>
                      <a:pt x="955" y="1802"/>
                    </a:lnTo>
                    <a:lnTo>
                      <a:pt x="926" y="1813"/>
                    </a:lnTo>
                    <a:lnTo>
                      <a:pt x="895" y="1823"/>
                    </a:lnTo>
                    <a:lnTo>
                      <a:pt x="865" y="1832"/>
                    </a:lnTo>
                    <a:lnTo>
                      <a:pt x="834" y="1839"/>
                    </a:lnTo>
                    <a:lnTo>
                      <a:pt x="803" y="1846"/>
                    </a:lnTo>
                    <a:lnTo>
                      <a:pt x="772" y="1851"/>
                    </a:lnTo>
                    <a:lnTo>
                      <a:pt x="739" y="1856"/>
                    </a:lnTo>
                    <a:lnTo>
                      <a:pt x="707" y="1858"/>
                    </a:lnTo>
                    <a:lnTo>
                      <a:pt x="721" y="188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026040" y="3692520"/>
                <a:ext cx="392400" cy="490680"/>
              </a:xfrm>
              <a:custGeom>
                <a:avLst/>
                <a:gdLst/>
                <a:ahLst/>
                <a:rect l="l" t="t" r="r" b="b"/>
                <a:pathLst>
                  <a:path w="1482" h="1858">
                    <a:moveTo>
                      <a:pt x="730" y="7"/>
                    </a:moveTo>
                    <a:lnTo>
                      <a:pt x="718" y="4"/>
                    </a:lnTo>
                    <a:lnTo>
                      <a:pt x="704" y="3"/>
                    </a:lnTo>
                    <a:lnTo>
                      <a:pt x="691" y="3"/>
                    </a:lnTo>
                    <a:lnTo>
                      <a:pt x="679" y="2"/>
                    </a:lnTo>
                    <a:lnTo>
                      <a:pt x="665" y="1"/>
                    </a:lnTo>
                    <a:lnTo>
                      <a:pt x="652" y="1"/>
                    </a:lnTo>
                    <a:lnTo>
                      <a:pt x="638" y="1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4"/>
                    </a:lnTo>
                    <a:lnTo>
                      <a:pt x="493" y="10"/>
                    </a:lnTo>
                    <a:lnTo>
                      <a:pt x="449" y="17"/>
                    </a:lnTo>
                    <a:lnTo>
                      <a:pt x="407" y="26"/>
                    </a:lnTo>
                    <a:lnTo>
                      <a:pt x="365" y="36"/>
                    </a:lnTo>
                    <a:lnTo>
                      <a:pt x="324" y="50"/>
                    </a:lnTo>
                    <a:lnTo>
                      <a:pt x="284" y="64"/>
                    </a:lnTo>
                    <a:lnTo>
                      <a:pt x="245" y="81"/>
                    </a:lnTo>
                    <a:lnTo>
                      <a:pt x="207" y="99"/>
                    </a:lnTo>
                    <a:lnTo>
                      <a:pt x="170" y="119"/>
                    </a:lnTo>
                    <a:lnTo>
                      <a:pt x="134" y="140"/>
                    </a:lnTo>
                    <a:lnTo>
                      <a:pt x="98" y="163"/>
                    </a:lnTo>
                    <a:lnTo>
                      <a:pt x="65" y="187"/>
                    </a:lnTo>
                    <a:lnTo>
                      <a:pt x="31" y="214"/>
                    </a:lnTo>
                    <a:lnTo>
                      <a:pt x="0" y="241"/>
                    </a:lnTo>
                    <a:lnTo>
                      <a:pt x="0" y="272"/>
                    </a:lnTo>
                    <a:lnTo>
                      <a:pt x="31" y="244"/>
                    </a:lnTo>
                    <a:lnTo>
                      <a:pt x="64" y="216"/>
                    </a:lnTo>
                    <a:lnTo>
                      <a:pt x="97" y="192"/>
                    </a:lnTo>
                    <a:lnTo>
                      <a:pt x="133" y="168"/>
                    </a:lnTo>
                    <a:lnTo>
                      <a:pt x="169" y="146"/>
                    </a:lnTo>
                    <a:lnTo>
                      <a:pt x="206" y="125"/>
                    </a:lnTo>
                    <a:lnTo>
                      <a:pt x="244" y="107"/>
                    </a:lnTo>
                    <a:lnTo>
                      <a:pt x="283" y="90"/>
                    </a:lnTo>
                    <a:lnTo>
                      <a:pt x="323" y="75"/>
                    </a:lnTo>
                    <a:lnTo>
                      <a:pt x="364" y="61"/>
                    </a:lnTo>
                    <a:lnTo>
                      <a:pt x="406" y="49"/>
                    </a:lnTo>
                    <a:lnTo>
                      <a:pt x="448" y="40"/>
                    </a:lnTo>
                    <a:lnTo>
                      <a:pt x="492" y="32"/>
                    </a:lnTo>
                    <a:lnTo>
                      <a:pt x="535" y="27"/>
                    </a:lnTo>
                    <a:lnTo>
                      <a:pt x="580" y="24"/>
                    </a:lnTo>
                    <a:lnTo>
                      <a:pt x="625" y="23"/>
                    </a:lnTo>
                    <a:lnTo>
                      <a:pt x="642" y="23"/>
                    </a:lnTo>
                    <a:lnTo>
                      <a:pt x="658" y="24"/>
                    </a:lnTo>
                    <a:lnTo>
                      <a:pt x="674" y="24"/>
                    </a:lnTo>
                    <a:lnTo>
                      <a:pt x="690" y="25"/>
                    </a:lnTo>
                    <a:lnTo>
                      <a:pt x="706" y="26"/>
                    </a:lnTo>
                    <a:lnTo>
                      <a:pt x="722" y="28"/>
                    </a:lnTo>
                    <a:lnTo>
                      <a:pt x="738" y="30"/>
                    </a:lnTo>
                    <a:lnTo>
                      <a:pt x="753" y="32"/>
                    </a:lnTo>
                    <a:lnTo>
                      <a:pt x="730" y="7"/>
                    </a:lnTo>
                    <a:close/>
                    <a:moveTo>
                      <a:pt x="712" y="1858"/>
                    </a:moveTo>
                    <a:lnTo>
                      <a:pt x="744" y="1854"/>
                    </a:lnTo>
                    <a:lnTo>
                      <a:pt x="777" y="1850"/>
                    </a:lnTo>
                    <a:lnTo>
                      <a:pt x="808" y="1844"/>
                    </a:lnTo>
                    <a:lnTo>
                      <a:pt x="839" y="1837"/>
                    </a:lnTo>
                    <a:lnTo>
                      <a:pt x="870" y="1829"/>
                    </a:lnTo>
                    <a:lnTo>
                      <a:pt x="901" y="1820"/>
                    </a:lnTo>
                    <a:lnTo>
                      <a:pt x="931" y="1811"/>
                    </a:lnTo>
                    <a:lnTo>
                      <a:pt x="960" y="1799"/>
                    </a:lnTo>
                    <a:lnTo>
                      <a:pt x="990" y="1788"/>
                    </a:lnTo>
                    <a:lnTo>
                      <a:pt x="1018" y="1775"/>
                    </a:lnTo>
                    <a:lnTo>
                      <a:pt x="1046" y="1761"/>
                    </a:lnTo>
                    <a:lnTo>
                      <a:pt x="1074" y="1747"/>
                    </a:lnTo>
                    <a:lnTo>
                      <a:pt x="1101" y="1731"/>
                    </a:lnTo>
                    <a:lnTo>
                      <a:pt x="1127" y="1715"/>
                    </a:lnTo>
                    <a:lnTo>
                      <a:pt x="1153" y="1698"/>
                    </a:lnTo>
                    <a:lnTo>
                      <a:pt x="1178" y="1680"/>
                    </a:lnTo>
                    <a:lnTo>
                      <a:pt x="1203" y="1661"/>
                    </a:lnTo>
                    <a:lnTo>
                      <a:pt x="1226" y="1641"/>
                    </a:lnTo>
                    <a:lnTo>
                      <a:pt x="1251" y="1622"/>
                    </a:lnTo>
                    <a:lnTo>
                      <a:pt x="1273" y="1600"/>
                    </a:lnTo>
                    <a:lnTo>
                      <a:pt x="1294" y="1578"/>
                    </a:lnTo>
                    <a:lnTo>
                      <a:pt x="1315" y="1556"/>
                    </a:lnTo>
                    <a:lnTo>
                      <a:pt x="1336" y="1533"/>
                    </a:lnTo>
                    <a:lnTo>
                      <a:pt x="1356" y="1509"/>
                    </a:lnTo>
                    <a:lnTo>
                      <a:pt x="1374" y="1484"/>
                    </a:lnTo>
                    <a:lnTo>
                      <a:pt x="1392" y="1459"/>
                    </a:lnTo>
                    <a:lnTo>
                      <a:pt x="1410" y="1432"/>
                    </a:lnTo>
                    <a:lnTo>
                      <a:pt x="1426" y="1406"/>
                    </a:lnTo>
                    <a:lnTo>
                      <a:pt x="1441" y="1379"/>
                    </a:lnTo>
                    <a:lnTo>
                      <a:pt x="1456" y="1352"/>
                    </a:lnTo>
                    <a:lnTo>
                      <a:pt x="1470" y="1324"/>
                    </a:lnTo>
                    <a:lnTo>
                      <a:pt x="1482" y="1295"/>
                    </a:lnTo>
                    <a:lnTo>
                      <a:pt x="1465" y="1278"/>
                    </a:lnTo>
                    <a:lnTo>
                      <a:pt x="1452" y="1307"/>
                    </a:lnTo>
                    <a:lnTo>
                      <a:pt x="1439" y="1336"/>
                    </a:lnTo>
                    <a:lnTo>
                      <a:pt x="1425" y="1363"/>
                    </a:lnTo>
                    <a:lnTo>
                      <a:pt x="1410" y="1390"/>
                    </a:lnTo>
                    <a:lnTo>
                      <a:pt x="1394" y="1416"/>
                    </a:lnTo>
                    <a:lnTo>
                      <a:pt x="1376" y="1442"/>
                    </a:lnTo>
                    <a:lnTo>
                      <a:pt x="1359" y="1467"/>
                    </a:lnTo>
                    <a:lnTo>
                      <a:pt x="1341" y="1491"/>
                    </a:lnTo>
                    <a:lnTo>
                      <a:pt x="1321" y="1515"/>
                    </a:lnTo>
                    <a:lnTo>
                      <a:pt x="1300" y="1539"/>
                    </a:lnTo>
                    <a:lnTo>
                      <a:pt x="1279" y="1562"/>
                    </a:lnTo>
                    <a:lnTo>
                      <a:pt x="1258" y="1583"/>
                    </a:lnTo>
                    <a:lnTo>
                      <a:pt x="1236" y="1604"/>
                    </a:lnTo>
                    <a:lnTo>
                      <a:pt x="1213" y="1625"/>
                    </a:lnTo>
                    <a:lnTo>
                      <a:pt x="1188" y="1643"/>
                    </a:lnTo>
                    <a:lnTo>
                      <a:pt x="1164" y="1663"/>
                    </a:lnTo>
                    <a:lnTo>
                      <a:pt x="1139" y="1680"/>
                    </a:lnTo>
                    <a:lnTo>
                      <a:pt x="1112" y="1698"/>
                    </a:lnTo>
                    <a:lnTo>
                      <a:pt x="1087" y="1714"/>
                    </a:lnTo>
                    <a:lnTo>
                      <a:pt x="1059" y="1729"/>
                    </a:lnTo>
                    <a:lnTo>
                      <a:pt x="1031" y="1744"/>
                    </a:lnTo>
                    <a:lnTo>
                      <a:pt x="1004" y="1756"/>
                    </a:lnTo>
                    <a:lnTo>
                      <a:pt x="975" y="1769"/>
                    </a:lnTo>
                    <a:lnTo>
                      <a:pt x="946" y="1781"/>
                    </a:lnTo>
                    <a:lnTo>
                      <a:pt x="916" y="1791"/>
                    </a:lnTo>
                    <a:lnTo>
                      <a:pt x="886" y="1801"/>
                    </a:lnTo>
                    <a:lnTo>
                      <a:pt x="856" y="1809"/>
                    </a:lnTo>
                    <a:lnTo>
                      <a:pt x="825" y="1817"/>
                    </a:lnTo>
                    <a:lnTo>
                      <a:pt x="794" y="1823"/>
                    </a:lnTo>
                    <a:lnTo>
                      <a:pt x="763" y="1829"/>
                    </a:lnTo>
                    <a:lnTo>
                      <a:pt x="730" y="1834"/>
                    </a:lnTo>
                    <a:lnTo>
                      <a:pt x="698" y="1836"/>
                    </a:lnTo>
                    <a:lnTo>
                      <a:pt x="712" y="185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26040" y="3695760"/>
                <a:ext cx="390600" cy="485640"/>
              </a:xfrm>
              <a:custGeom>
                <a:avLst/>
                <a:gdLst/>
                <a:ahLst/>
                <a:rect l="l" t="t" r="r" b="b"/>
                <a:pathLst>
                  <a:path w="1474" h="1836">
                    <a:moveTo>
                      <a:pt x="742" y="8"/>
                    </a:moveTo>
                    <a:lnTo>
                      <a:pt x="727" y="6"/>
                    </a:lnTo>
                    <a:lnTo>
                      <a:pt x="713" y="5"/>
                    </a:lnTo>
                    <a:lnTo>
                      <a:pt x="698" y="4"/>
                    </a:lnTo>
                    <a:lnTo>
                      <a:pt x="684" y="2"/>
                    </a:lnTo>
                    <a:lnTo>
                      <a:pt x="669" y="1"/>
                    </a:lnTo>
                    <a:lnTo>
                      <a:pt x="654" y="1"/>
                    </a:lnTo>
                    <a:lnTo>
                      <a:pt x="640" y="0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5"/>
                    </a:lnTo>
                    <a:lnTo>
                      <a:pt x="492" y="10"/>
                    </a:lnTo>
                    <a:lnTo>
                      <a:pt x="449" y="17"/>
                    </a:lnTo>
                    <a:lnTo>
                      <a:pt x="406" y="27"/>
                    </a:lnTo>
                    <a:lnTo>
                      <a:pt x="365" y="38"/>
                    </a:lnTo>
                    <a:lnTo>
                      <a:pt x="323" y="51"/>
                    </a:lnTo>
                    <a:lnTo>
                      <a:pt x="284" y="66"/>
                    </a:lnTo>
                    <a:lnTo>
                      <a:pt x="245" y="83"/>
                    </a:lnTo>
                    <a:lnTo>
                      <a:pt x="207" y="102"/>
                    </a:lnTo>
                    <a:lnTo>
                      <a:pt x="169" y="121"/>
                    </a:lnTo>
                    <a:lnTo>
                      <a:pt x="133" y="143"/>
                    </a:lnTo>
                    <a:lnTo>
                      <a:pt x="98" y="166"/>
                    </a:lnTo>
                    <a:lnTo>
                      <a:pt x="64" y="191"/>
                    </a:lnTo>
                    <a:lnTo>
                      <a:pt x="31" y="218"/>
                    </a:lnTo>
                    <a:lnTo>
                      <a:pt x="0" y="246"/>
                    </a:lnTo>
                    <a:lnTo>
                      <a:pt x="0" y="277"/>
                    </a:lnTo>
                    <a:lnTo>
                      <a:pt x="31" y="248"/>
                    </a:lnTo>
                    <a:lnTo>
                      <a:pt x="64" y="220"/>
                    </a:lnTo>
                    <a:lnTo>
                      <a:pt x="97" y="195"/>
                    </a:lnTo>
                    <a:lnTo>
                      <a:pt x="132" y="171"/>
                    </a:lnTo>
                    <a:lnTo>
                      <a:pt x="168" y="149"/>
                    </a:lnTo>
                    <a:lnTo>
                      <a:pt x="204" y="128"/>
                    </a:lnTo>
                    <a:lnTo>
                      <a:pt x="243" y="108"/>
                    </a:lnTo>
                    <a:lnTo>
                      <a:pt x="282" y="91"/>
                    </a:lnTo>
                    <a:lnTo>
                      <a:pt x="322" y="75"/>
                    </a:lnTo>
                    <a:lnTo>
                      <a:pt x="364" y="62"/>
                    </a:lnTo>
                    <a:lnTo>
                      <a:pt x="405" y="51"/>
                    </a:lnTo>
                    <a:lnTo>
                      <a:pt x="448" y="40"/>
                    </a:lnTo>
                    <a:lnTo>
                      <a:pt x="492" y="34"/>
                    </a:lnTo>
                    <a:lnTo>
                      <a:pt x="535" y="28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3" y="23"/>
                    </a:lnTo>
                    <a:lnTo>
                      <a:pt x="661" y="24"/>
                    </a:lnTo>
                    <a:lnTo>
                      <a:pt x="679" y="24"/>
                    </a:lnTo>
                    <a:lnTo>
                      <a:pt x="696" y="25"/>
                    </a:lnTo>
                    <a:lnTo>
                      <a:pt x="714" y="28"/>
                    </a:lnTo>
                    <a:lnTo>
                      <a:pt x="732" y="29"/>
                    </a:lnTo>
                    <a:lnTo>
                      <a:pt x="749" y="31"/>
                    </a:lnTo>
                    <a:lnTo>
                      <a:pt x="766" y="34"/>
                    </a:lnTo>
                    <a:lnTo>
                      <a:pt x="766" y="34"/>
                    </a:lnTo>
                    <a:lnTo>
                      <a:pt x="742" y="8"/>
                    </a:lnTo>
                    <a:close/>
                    <a:moveTo>
                      <a:pt x="705" y="1836"/>
                    </a:moveTo>
                    <a:lnTo>
                      <a:pt x="737" y="1833"/>
                    </a:lnTo>
                    <a:lnTo>
                      <a:pt x="770" y="1828"/>
                    </a:lnTo>
                    <a:lnTo>
                      <a:pt x="801" y="1823"/>
                    </a:lnTo>
                    <a:lnTo>
                      <a:pt x="832" y="1816"/>
                    </a:lnTo>
                    <a:lnTo>
                      <a:pt x="863" y="1809"/>
                    </a:lnTo>
                    <a:lnTo>
                      <a:pt x="893" y="1800"/>
                    </a:lnTo>
                    <a:lnTo>
                      <a:pt x="924" y="1790"/>
                    </a:lnTo>
                    <a:lnTo>
                      <a:pt x="953" y="1779"/>
                    </a:lnTo>
                    <a:lnTo>
                      <a:pt x="982" y="1767"/>
                    </a:lnTo>
                    <a:lnTo>
                      <a:pt x="1011" y="1755"/>
                    </a:lnTo>
                    <a:lnTo>
                      <a:pt x="1038" y="1742"/>
                    </a:lnTo>
                    <a:lnTo>
                      <a:pt x="1066" y="1727"/>
                    </a:lnTo>
                    <a:lnTo>
                      <a:pt x="1094" y="1712"/>
                    </a:lnTo>
                    <a:lnTo>
                      <a:pt x="1120" y="1695"/>
                    </a:lnTo>
                    <a:lnTo>
                      <a:pt x="1146" y="1679"/>
                    </a:lnTo>
                    <a:lnTo>
                      <a:pt x="1171" y="1660"/>
                    </a:lnTo>
                    <a:lnTo>
                      <a:pt x="1195" y="1642"/>
                    </a:lnTo>
                    <a:lnTo>
                      <a:pt x="1219" y="1622"/>
                    </a:lnTo>
                    <a:lnTo>
                      <a:pt x="1243" y="1601"/>
                    </a:lnTo>
                    <a:lnTo>
                      <a:pt x="1266" y="1581"/>
                    </a:lnTo>
                    <a:lnTo>
                      <a:pt x="1286" y="1559"/>
                    </a:lnTo>
                    <a:lnTo>
                      <a:pt x="1308" y="1536"/>
                    </a:lnTo>
                    <a:lnTo>
                      <a:pt x="1328" y="1513"/>
                    </a:lnTo>
                    <a:lnTo>
                      <a:pt x="1347" y="1489"/>
                    </a:lnTo>
                    <a:lnTo>
                      <a:pt x="1366" y="1464"/>
                    </a:lnTo>
                    <a:lnTo>
                      <a:pt x="1384" y="1439"/>
                    </a:lnTo>
                    <a:lnTo>
                      <a:pt x="1402" y="1413"/>
                    </a:lnTo>
                    <a:lnTo>
                      <a:pt x="1418" y="1387"/>
                    </a:lnTo>
                    <a:lnTo>
                      <a:pt x="1433" y="1360"/>
                    </a:lnTo>
                    <a:lnTo>
                      <a:pt x="1448" y="1333"/>
                    </a:lnTo>
                    <a:lnTo>
                      <a:pt x="1462" y="1304"/>
                    </a:lnTo>
                    <a:lnTo>
                      <a:pt x="1474" y="1276"/>
                    </a:lnTo>
                    <a:lnTo>
                      <a:pt x="1456" y="1259"/>
                    </a:lnTo>
                    <a:lnTo>
                      <a:pt x="1444" y="1288"/>
                    </a:lnTo>
                    <a:lnTo>
                      <a:pt x="1431" y="1315"/>
                    </a:lnTo>
                    <a:lnTo>
                      <a:pt x="1417" y="1343"/>
                    </a:lnTo>
                    <a:lnTo>
                      <a:pt x="1402" y="1371"/>
                    </a:lnTo>
                    <a:lnTo>
                      <a:pt x="1386" y="1397"/>
                    </a:lnTo>
                    <a:lnTo>
                      <a:pt x="1368" y="1423"/>
                    </a:lnTo>
                    <a:lnTo>
                      <a:pt x="1351" y="1448"/>
                    </a:lnTo>
                    <a:lnTo>
                      <a:pt x="1332" y="1472"/>
                    </a:lnTo>
                    <a:lnTo>
                      <a:pt x="1313" y="1496"/>
                    </a:lnTo>
                    <a:lnTo>
                      <a:pt x="1292" y="1519"/>
                    </a:lnTo>
                    <a:lnTo>
                      <a:pt x="1271" y="1541"/>
                    </a:lnTo>
                    <a:lnTo>
                      <a:pt x="1251" y="1563"/>
                    </a:lnTo>
                    <a:lnTo>
                      <a:pt x="1228" y="1584"/>
                    </a:lnTo>
                    <a:lnTo>
                      <a:pt x="1204" y="1605"/>
                    </a:lnTo>
                    <a:lnTo>
                      <a:pt x="1180" y="1624"/>
                    </a:lnTo>
                    <a:lnTo>
                      <a:pt x="1156" y="1643"/>
                    </a:lnTo>
                    <a:lnTo>
                      <a:pt x="1131" y="1660"/>
                    </a:lnTo>
                    <a:lnTo>
                      <a:pt x="1105" y="1677"/>
                    </a:lnTo>
                    <a:lnTo>
                      <a:pt x="1079" y="1694"/>
                    </a:lnTo>
                    <a:lnTo>
                      <a:pt x="1052" y="1708"/>
                    </a:lnTo>
                    <a:lnTo>
                      <a:pt x="1025" y="1723"/>
                    </a:lnTo>
                    <a:lnTo>
                      <a:pt x="997" y="1736"/>
                    </a:lnTo>
                    <a:lnTo>
                      <a:pt x="968" y="1749"/>
                    </a:lnTo>
                    <a:lnTo>
                      <a:pt x="939" y="1760"/>
                    </a:lnTo>
                    <a:lnTo>
                      <a:pt x="909" y="1771"/>
                    </a:lnTo>
                    <a:lnTo>
                      <a:pt x="879" y="1780"/>
                    </a:lnTo>
                    <a:lnTo>
                      <a:pt x="849" y="1788"/>
                    </a:lnTo>
                    <a:lnTo>
                      <a:pt x="818" y="1796"/>
                    </a:lnTo>
                    <a:lnTo>
                      <a:pt x="787" y="1802"/>
                    </a:lnTo>
                    <a:lnTo>
                      <a:pt x="755" y="1808"/>
                    </a:lnTo>
                    <a:lnTo>
                      <a:pt x="723" y="1811"/>
                    </a:lnTo>
                    <a:lnTo>
                      <a:pt x="691" y="1815"/>
                    </a:lnTo>
                    <a:lnTo>
                      <a:pt x="705" y="1836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26040" y="3699000"/>
                <a:ext cx="389160" cy="479160"/>
              </a:xfrm>
              <a:custGeom>
                <a:avLst/>
                <a:gdLst/>
                <a:ahLst/>
                <a:rect l="l" t="t" r="r" b="b"/>
                <a:pathLst>
                  <a:path w="1465" h="1813">
                    <a:moveTo>
                      <a:pt x="753" y="9"/>
                    </a:moveTo>
                    <a:lnTo>
                      <a:pt x="738" y="7"/>
                    </a:lnTo>
                    <a:lnTo>
                      <a:pt x="722" y="5"/>
                    </a:lnTo>
                    <a:lnTo>
                      <a:pt x="706" y="3"/>
                    </a:lnTo>
                    <a:lnTo>
                      <a:pt x="690" y="2"/>
                    </a:lnTo>
                    <a:lnTo>
                      <a:pt x="674" y="1"/>
                    </a:lnTo>
                    <a:lnTo>
                      <a:pt x="658" y="1"/>
                    </a:lnTo>
                    <a:lnTo>
                      <a:pt x="642" y="0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4"/>
                    </a:lnTo>
                    <a:lnTo>
                      <a:pt x="492" y="10"/>
                    </a:lnTo>
                    <a:lnTo>
                      <a:pt x="448" y="17"/>
                    </a:lnTo>
                    <a:lnTo>
                      <a:pt x="405" y="26"/>
                    </a:lnTo>
                    <a:lnTo>
                      <a:pt x="364" y="38"/>
                    </a:lnTo>
                    <a:lnTo>
                      <a:pt x="323" y="52"/>
                    </a:lnTo>
                    <a:lnTo>
                      <a:pt x="283" y="67"/>
                    </a:lnTo>
                    <a:lnTo>
                      <a:pt x="244" y="84"/>
                    </a:lnTo>
                    <a:lnTo>
                      <a:pt x="206" y="102"/>
                    </a:lnTo>
                    <a:lnTo>
                      <a:pt x="169" y="123"/>
                    </a:lnTo>
                    <a:lnTo>
                      <a:pt x="133" y="145"/>
                    </a:lnTo>
                    <a:lnTo>
                      <a:pt x="97" y="169"/>
                    </a:lnTo>
                    <a:lnTo>
                      <a:pt x="64" y="193"/>
                    </a:lnTo>
                    <a:lnTo>
                      <a:pt x="31" y="221"/>
                    </a:lnTo>
                    <a:lnTo>
                      <a:pt x="0" y="249"/>
                    </a:lnTo>
                    <a:lnTo>
                      <a:pt x="0" y="281"/>
                    </a:lnTo>
                    <a:lnTo>
                      <a:pt x="31" y="251"/>
                    </a:lnTo>
                    <a:lnTo>
                      <a:pt x="63" y="223"/>
                    </a:lnTo>
                    <a:lnTo>
                      <a:pt x="96" y="198"/>
                    </a:lnTo>
                    <a:lnTo>
                      <a:pt x="131" y="173"/>
                    </a:lnTo>
                    <a:lnTo>
                      <a:pt x="168" y="149"/>
                    </a:lnTo>
                    <a:lnTo>
                      <a:pt x="204" y="129"/>
                    </a:lnTo>
                    <a:lnTo>
                      <a:pt x="243" y="109"/>
                    </a:lnTo>
                    <a:lnTo>
                      <a:pt x="282" y="92"/>
                    </a:lnTo>
                    <a:lnTo>
                      <a:pt x="321" y="76"/>
                    </a:lnTo>
                    <a:lnTo>
                      <a:pt x="362" y="62"/>
                    </a:lnTo>
                    <a:lnTo>
                      <a:pt x="404" y="50"/>
                    </a:lnTo>
                    <a:lnTo>
                      <a:pt x="447" y="40"/>
                    </a:lnTo>
                    <a:lnTo>
                      <a:pt x="491" y="33"/>
                    </a:lnTo>
                    <a:lnTo>
                      <a:pt x="534" y="27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4" y="23"/>
                    </a:lnTo>
                    <a:lnTo>
                      <a:pt x="662" y="23"/>
                    </a:lnTo>
                    <a:lnTo>
                      <a:pt x="681" y="24"/>
                    </a:lnTo>
                    <a:lnTo>
                      <a:pt x="699" y="25"/>
                    </a:lnTo>
                    <a:lnTo>
                      <a:pt x="718" y="27"/>
                    </a:lnTo>
                    <a:lnTo>
                      <a:pt x="736" y="30"/>
                    </a:lnTo>
                    <a:lnTo>
                      <a:pt x="755" y="32"/>
                    </a:lnTo>
                    <a:lnTo>
                      <a:pt x="772" y="34"/>
                    </a:lnTo>
                    <a:lnTo>
                      <a:pt x="766" y="22"/>
                    </a:lnTo>
                    <a:lnTo>
                      <a:pt x="753" y="9"/>
                    </a:lnTo>
                    <a:close/>
                    <a:moveTo>
                      <a:pt x="698" y="1813"/>
                    </a:moveTo>
                    <a:lnTo>
                      <a:pt x="730" y="1809"/>
                    </a:lnTo>
                    <a:lnTo>
                      <a:pt x="763" y="1806"/>
                    </a:lnTo>
                    <a:lnTo>
                      <a:pt x="794" y="1800"/>
                    </a:lnTo>
                    <a:lnTo>
                      <a:pt x="825" y="1794"/>
                    </a:lnTo>
                    <a:lnTo>
                      <a:pt x="856" y="1786"/>
                    </a:lnTo>
                    <a:lnTo>
                      <a:pt x="886" y="1778"/>
                    </a:lnTo>
                    <a:lnTo>
                      <a:pt x="916" y="1768"/>
                    </a:lnTo>
                    <a:lnTo>
                      <a:pt x="946" y="1758"/>
                    </a:lnTo>
                    <a:lnTo>
                      <a:pt x="975" y="1746"/>
                    </a:lnTo>
                    <a:lnTo>
                      <a:pt x="1004" y="1733"/>
                    </a:lnTo>
                    <a:lnTo>
                      <a:pt x="1031" y="1721"/>
                    </a:lnTo>
                    <a:lnTo>
                      <a:pt x="1059" y="1706"/>
                    </a:lnTo>
                    <a:lnTo>
                      <a:pt x="1087" y="1691"/>
                    </a:lnTo>
                    <a:lnTo>
                      <a:pt x="1112" y="1675"/>
                    </a:lnTo>
                    <a:lnTo>
                      <a:pt x="1139" y="1657"/>
                    </a:lnTo>
                    <a:lnTo>
                      <a:pt x="1164" y="1640"/>
                    </a:lnTo>
                    <a:lnTo>
                      <a:pt x="1188" y="1620"/>
                    </a:lnTo>
                    <a:lnTo>
                      <a:pt x="1211" y="1601"/>
                    </a:lnTo>
                    <a:lnTo>
                      <a:pt x="1234" y="1581"/>
                    </a:lnTo>
                    <a:lnTo>
                      <a:pt x="1258" y="1560"/>
                    </a:lnTo>
                    <a:lnTo>
                      <a:pt x="1279" y="1539"/>
                    </a:lnTo>
                    <a:lnTo>
                      <a:pt x="1300" y="1516"/>
                    </a:lnTo>
                    <a:lnTo>
                      <a:pt x="1321" y="1492"/>
                    </a:lnTo>
                    <a:lnTo>
                      <a:pt x="1341" y="1468"/>
                    </a:lnTo>
                    <a:lnTo>
                      <a:pt x="1359" y="1444"/>
                    </a:lnTo>
                    <a:lnTo>
                      <a:pt x="1376" y="1419"/>
                    </a:lnTo>
                    <a:lnTo>
                      <a:pt x="1394" y="1393"/>
                    </a:lnTo>
                    <a:lnTo>
                      <a:pt x="1410" y="1367"/>
                    </a:lnTo>
                    <a:lnTo>
                      <a:pt x="1425" y="1339"/>
                    </a:lnTo>
                    <a:lnTo>
                      <a:pt x="1439" y="1313"/>
                    </a:lnTo>
                    <a:lnTo>
                      <a:pt x="1452" y="1284"/>
                    </a:lnTo>
                    <a:lnTo>
                      <a:pt x="1465" y="1255"/>
                    </a:lnTo>
                    <a:lnTo>
                      <a:pt x="1448" y="1239"/>
                    </a:lnTo>
                    <a:lnTo>
                      <a:pt x="1435" y="1268"/>
                    </a:lnTo>
                    <a:lnTo>
                      <a:pt x="1422" y="1295"/>
                    </a:lnTo>
                    <a:lnTo>
                      <a:pt x="1407" y="1323"/>
                    </a:lnTo>
                    <a:lnTo>
                      <a:pt x="1394" y="1350"/>
                    </a:lnTo>
                    <a:lnTo>
                      <a:pt x="1377" y="1376"/>
                    </a:lnTo>
                    <a:lnTo>
                      <a:pt x="1360" y="1403"/>
                    </a:lnTo>
                    <a:lnTo>
                      <a:pt x="1343" y="1428"/>
                    </a:lnTo>
                    <a:lnTo>
                      <a:pt x="1324" y="1452"/>
                    </a:lnTo>
                    <a:lnTo>
                      <a:pt x="1305" y="1475"/>
                    </a:lnTo>
                    <a:lnTo>
                      <a:pt x="1285" y="1499"/>
                    </a:lnTo>
                    <a:lnTo>
                      <a:pt x="1264" y="1521"/>
                    </a:lnTo>
                    <a:lnTo>
                      <a:pt x="1243" y="1543"/>
                    </a:lnTo>
                    <a:lnTo>
                      <a:pt x="1221" y="1564"/>
                    </a:lnTo>
                    <a:lnTo>
                      <a:pt x="1198" y="1585"/>
                    </a:lnTo>
                    <a:lnTo>
                      <a:pt x="1173" y="1603"/>
                    </a:lnTo>
                    <a:lnTo>
                      <a:pt x="1149" y="1622"/>
                    </a:lnTo>
                    <a:lnTo>
                      <a:pt x="1124" y="1640"/>
                    </a:lnTo>
                    <a:lnTo>
                      <a:pt x="1098" y="1657"/>
                    </a:lnTo>
                    <a:lnTo>
                      <a:pt x="1072" y="1672"/>
                    </a:lnTo>
                    <a:lnTo>
                      <a:pt x="1045" y="1688"/>
                    </a:lnTo>
                    <a:lnTo>
                      <a:pt x="1018" y="1702"/>
                    </a:lnTo>
                    <a:lnTo>
                      <a:pt x="989" y="1715"/>
                    </a:lnTo>
                    <a:lnTo>
                      <a:pt x="961" y="1728"/>
                    </a:lnTo>
                    <a:lnTo>
                      <a:pt x="932" y="1739"/>
                    </a:lnTo>
                    <a:lnTo>
                      <a:pt x="902" y="1750"/>
                    </a:lnTo>
                    <a:lnTo>
                      <a:pt x="872" y="1759"/>
                    </a:lnTo>
                    <a:lnTo>
                      <a:pt x="841" y="1767"/>
                    </a:lnTo>
                    <a:lnTo>
                      <a:pt x="811" y="1774"/>
                    </a:lnTo>
                    <a:lnTo>
                      <a:pt x="780" y="1779"/>
                    </a:lnTo>
                    <a:lnTo>
                      <a:pt x="748" y="1785"/>
                    </a:lnTo>
                    <a:lnTo>
                      <a:pt x="715" y="1789"/>
                    </a:lnTo>
                    <a:lnTo>
                      <a:pt x="683" y="1791"/>
                    </a:lnTo>
                    <a:lnTo>
                      <a:pt x="698" y="181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26040" y="3701880"/>
                <a:ext cx="385920" cy="473400"/>
              </a:xfrm>
              <a:custGeom>
                <a:avLst/>
                <a:gdLst/>
                <a:ahLst/>
                <a:rect l="l" t="t" r="r" b="b"/>
                <a:pathLst>
                  <a:path w="1456" h="1792">
                    <a:moveTo>
                      <a:pt x="766" y="11"/>
                    </a:moveTo>
                    <a:lnTo>
                      <a:pt x="749" y="8"/>
                    </a:lnTo>
                    <a:lnTo>
                      <a:pt x="732" y="6"/>
                    </a:lnTo>
                    <a:lnTo>
                      <a:pt x="714" y="5"/>
                    </a:lnTo>
                    <a:lnTo>
                      <a:pt x="696" y="2"/>
                    </a:lnTo>
                    <a:lnTo>
                      <a:pt x="679" y="1"/>
                    </a:lnTo>
                    <a:lnTo>
                      <a:pt x="661" y="1"/>
                    </a:lnTo>
                    <a:lnTo>
                      <a:pt x="643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5" y="5"/>
                    </a:lnTo>
                    <a:lnTo>
                      <a:pt x="492" y="11"/>
                    </a:lnTo>
                    <a:lnTo>
                      <a:pt x="448" y="17"/>
                    </a:lnTo>
                    <a:lnTo>
                      <a:pt x="405" y="28"/>
                    </a:lnTo>
                    <a:lnTo>
                      <a:pt x="364" y="39"/>
                    </a:lnTo>
                    <a:lnTo>
                      <a:pt x="322" y="52"/>
                    </a:lnTo>
                    <a:lnTo>
                      <a:pt x="282" y="68"/>
                    </a:lnTo>
                    <a:lnTo>
                      <a:pt x="243" y="85"/>
                    </a:lnTo>
                    <a:lnTo>
                      <a:pt x="204" y="105"/>
                    </a:lnTo>
                    <a:lnTo>
                      <a:pt x="168" y="126"/>
                    </a:lnTo>
                    <a:lnTo>
                      <a:pt x="132" y="148"/>
                    </a:lnTo>
                    <a:lnTo>
                      <a:pt x="97" y="172"/>
                    </a:lnTo>
                    <a:lnTo>
                      <a:pt x="64" y="197"/>
                    </a:lnTo>
                    <a:lnTo>
                      <a:pt x="31" y="225"/>
                    </a:lnTo>
                    <a:lnTo>
                      <a:pt x="0" y="254"/>
                    </a:lnTo>
                    <a:lnTo>
                      <a:pt x="0" y="286"/>
                    </a:lnTo>
                    <a:lnTo>
                      <a:pt x="30" y="256"/>
                    </a:lnTo>
                    <a:lnTo>
                      <a:pt x="63" y="227"/>
                    </a:lnTo>
                    <a:lnTo>
                      <a:pt x="96" y="201"/>
                    </a:lnTo>
                    <a:lnTo>
                      <a:pt x="131" y="177"/>
                    </a:lnTo>
                    <a:lnTo>
                      <a:pt x="166" y="152"/>
                    </a:lnTo>
                    <a:lnTo>
                      <a:pt x="203" y="132"/>
                    </a:lnTo>
                    <a:lnTo>
                      <a:pt x="241" y="112"/>
                    </a:lnTo>
                    <a:lnTo>
                      <a:pt x="281" y="94"/>
                    </a:lnTo>
                    <a:lnTo>
                      <a:pt x="321" y="77"/>
                    </a:lnTo>
                    <a:lnTo>
                      <a:pt x="361" y="64"/>
                    </a:lnTo>
                    <a:lnTo>
                      <a:pt x="404" y="51"/>
                    </a:lnTo>
                    <a:lnTo>
                      <a:pt x="447" y="41"/>
                    </a:lnTo>
                    <a:lnTo>
                      <a:pt x="491" y="34"/>
                    </a:lnTo>
                    <a:lnTo>
                      <a:pt x="534" y="28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5" y="23"/>
                    </a:lnTo>
                    <a:lnTo>
                      <a:pt x="665" y="23"/>
                    </a:lnTo>
                    <a:lnTo>
                      <a:pt x="684" y="24"/>
                    </a:lnTo>
                    <a:lnTo>
                      <a:pt x="703" y="27"/>
                    </a:lnTo>
                    <a:lnTo>
                      <a:pt x="722" y="28"/>
                    </a:lnTo>
                    <a:lnTo>
                      <a:pt x="741" y="30"/>
                    </a:lnTo>
                    <a:lnTo>
                      <a:pt x="760" y="34"/>
                    </a:lnTo>
                    <a:lnTo>
                      <a:pt x="779" y="36"/>
                    </a:lnTo>
                    <a:lnTo>
                      <a:pt x="766" y="11"/>
                    </a:lnTo>
                    <a:close/>
                    <a:moveTo>
                      <a:pt x="691" y="1792"/>
                    </a:moveTo>
                    <a:lnTo>
                      <a:pt x="723" y="1788"/>
                    </a:lnTo>
                    <a:lnTo>
                      <a:pt x="755" y="1785"/>
                    </a:lnTo>
                    <a:lnTo>
                      <a:pt x="787" y="1779"/>
                    </a:lnTo>
                    <a:lnTo>
                      <a:pt x="818" y="1773"/>
                    </a:lnTo>
                    <a:lnTo>
                      <a:pt x="849" y="1765"/>
                    </a:lnTo>
                    <a:lnTo>
                      <a:pt x="879" y="1757"/>
                    </a:lnTo>
                    <a:lnTo>
                      <a:pt x="909" y="1748"/>
                    </a:lnTo>
                    <a:lnTo>
                      <a:pt x="939" y="1737"/>
                    </a:lnTo>
                    <a:lnTo>
                      <a:pt x="968" y="1726"/>
                    </a:lnTo>
                    <a:lnTo>
                      <a:pt x="997" y="1713"/>
                    </a:lnTo>
                    <a:lnTo>
                      <a:pt x="1025" y="1700"/>
                    </a:lnTo>
                    <a:lnTo>
                      <a:pt x="1052" y="1685"/>
                    </a:lnTo>
                    <a:lnTo>
                      <a:pt x="1079" y="1671"/>
                    </a:lnTo>
                    <a:lnTo>
                      <a:pt x="1105" y="1654"/>
                    </a:lnTo>
                    <a:lnTo>
                      <a:pt x="1131" y="1637"/>
                    </a:lnTo>
                    <a:lnTo>
                      <a:pt x="1156" y="1620"/>
                    </a:lnTo>
                    <a:lnTo>
                      <a:pt x="1180" y="1601"/>
                    </a:lnTo>
                    <a:lnTo>
                      <a:pt x="1204" y="1582"/>
                    </a:lnTo>
                    <a:lnTo>
                      <a:pt x="1228" y="1561"/>
                    </a:lnTo>
                    <a:lnTo>
                      <a:pt x="1251" y="1540"/>
                    </a:lnTo>
                    <a:lnTo>
                      <a:pt x="1271" y="1518"/>
                    </a:lnTo>
                    <a:lnTo>
                      <a:pt x="1292" y="1496"/>
                    </a:lnTo>
                    <a:lnTo>
                      <a:pt x="1313" y="1473"/>
                    </a:lnTo>
                    <a:lnTo>
                      <a:pt x="1332" y="1449"/>
                    </a:lnTo>
                    <a:lnTo>
                      <a:pt x="1351" y="1425"/>
                    </a:lnTo>
                    <a:lnTo>
                      <a:pt x="1368" y="1400"/>
                    </a:lnTo>
                    <a:lnTo>
                      <a:pt x="1386" y="1374"/>
                    </a:lnTo>
                    <a:lnTo>
                      <a:pt x="1402" y="1348"/>
                    </a:lnTo>
                    <a:lnTo>
                      <a:pt x="1417" y="1320"/>
                    </a:lnTo>
                    <a:lnTo>
                      <a:pt x="1431" y="1292"/>
                    </a:lnTo>
                    <a:lnTo>
                      <a:pt x="1444" y="1265"/>
                    </a:lnTo>
                    <a:lnTo>
                      <a:pt x="1456" y="1236"/>
                    </a:lnTo>
                    <a:lnTo>
                      <a:pt x="1439" y="1219"/>
                    </a:lnTo>
                    <a:lnTo>
                      <a:pt x="1426" y="1247"/>
                    </a:lnTo>
                    <a:lnTo>
                      <a:pt x="1413" y="1276"/>
                    </a:lnTo>
                    <a:lnTo>
                      <a:pt x="1399" y="1304"/>
                    </a:lnTo>
                    <a:lnTo>
                      <a:pt x="1384" y="1330"/>
                    </a:lnTo>
                    <a:lnTo>
                      <a:pt x="1369" y="1357"/>
                    </a:lnTo>
                    <a:lnTo>
                      <a:pt x="1352" y="1382"/>
                    </a:lnTo>
                    <a:lnTo>
                      <a:pt x="1335" y="1408"/>
                    </a:lnTo>
                    <a:lnTo>
                      <a:pt x="1316" y="1432"/>
                    </a:lnTo>
                    <a:lnTo>
                      <a:pt x="1297" y="1456"/>
                    </a:lnTo>
                    <a:lnTo>
                      <a:pt x="1277" y="1479"/>
                    </a:lnTo>
                    <a:lnTo>
                      <a:pt x="1256" y="1502"/>
                    </a:lnTo>
                    <a:lnTo>
                      <a:pt x="1234" y="1524"/>
                    </a:lnTo>
                    <a:lnTo>
                      <a:pt x="1213" y="1545"/>
                    </a:lnTo>
                    <a:lnTo>
                      <a:pt x="1189" y="1564"/>
                    </a:lnTo>
                    <a:lnTo>
                      <a:pt x="1166" y="1584"/>
                    </a:lnTo>
                    <a:lnTo>
                      <a:pt x="1142" y="1602"/>
                    </a:lnTo>
                    <a:lnTo>
                      <a:pt x="1117" y="1620"/>
                    </a:lnTo>
                    <a:lnTo>
                      <a:pt x="1090" y="1637"/>
                    </a:lnTo>
                    <a:lnTo>
                      <a:pt x="1065" y="1653"/>
                    </a:lnTo>
                    <a:lnTo>
                      <a:pt x="1037" y="1668"/>
                    </a:lnTo>
                    <a:lnTo>
                      <a:pt x="1010" y="1682"/>
                    </a:lnTo>
                    <a:lnTo>
                      <a:pt x="982" y="1695"/>
                    </a:lnTo>
                    <a:lnTo>
                      <a:pt x="953" y="1707"/>
                    </a:lnTo>
                    <a:lnTo>
                      <a:pt x="924" y="1719"/>
                    </a:lnTo>
                    <a:lnTo>
                      <a:pt x="895" y="1728"/>
                    </a:lnTo>
                    <a:lnTo>
                      <a:pt x="865" y="1737"/>
                    </a:lnTo>
                    <a:lnTo>
                      <a:pt x="834" y="1745"/>
                    </a:lnTo>
                    <a:lnTo>
                      <a:pt x="803" y="1752"/>
                    </a:lnTo>
                    <a:lnTo>
                      <a:pt x="772" y="1758"/>
                    </a:lnTo>
                    <a:lnTo>
                      <a:pt x="741" y="1764"/>
                    </a:lnTo>
                    <a:lnTo>
                      <a:pt x="709" y="1767"/>
                    </a:lnTo>
                    <a:lnTo>
                      <a:pt x="676" y="1770"/>
                    </a:lnTo>
                    <a:lnTo>
                      <a:pt x="691" y="179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26040" y="3703680"/>
                <a:ext cx="384120" cy="468360"/>
              </a:xfrm>
              <a:custGeom>
                <a:avLst/>
                <a:gdLst/>
                <a:ahLst/>
                <a:rect l="l" t="t" r="r" b="b"/>
                <a:pathLst>
                  <a:path w="1448" h="1768">
                    <a:moveTo>
                      <a:pt x="772" y="11"/>
                    </a:moveTo>
                    <a:lnTo>
                      <a:pt x="755" y="9"/>
                    </a:lnTo>
                    <a:lnTo>
                      <a:pt x="736" y="7"/>
                    </a:lnTo>
                    <a:lnTo>
                      <a:pt x="718" y="4"/>
                    </a:lnTo>
                    <a:lnTo>
                      <a:pt x="699" y="2"/>
                    </a:lnTo>
                    <a:lnTo>
                      <a:pt x="681" y="1"/>
                    </a:lnTo>
                    <a:lnTo>
                      <a:pt x="662" y="0"/>
                    </a:lnTo>
                    <a:lnTo>
                      <a:pt x="644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4" y="4"/>
                    </a:lnTo>
                    <a:lnTo>
                      <a:pt x="491" y="10"/>
                    </a:lnTo>
                    <a:lnTo>
                      <a:pt x="447" y="17"/>
                    </a:lnTo>
                    <a:lnTo>
                      <a:pt x="404" y="27"/>
                    </a:lnTo>
                    <a:lnTo>
                      <a:pt x="362" y="39"/>
                    </a:lnTo>
                    <a:lnTo>
                      <a:pt x="321" y="53"/>
                    </a:lnTo>
                    <a:lnTo>
                      <a:pt x="282" y="69"/>
                    </a:lnTo>
                    <a:lnTo>
                      <a:pt x="243" y="86"/>
                    </a:lnTo>
                    <a:lnTo>
                      <a:pt x="204" y="106"/>
                    </a:lnTo>
                    <a:lnTo>
                      <a:pt x="168" y="126"/>
                    </a:lnTo>
                    <a:lnTo>
                      <a:pt x="131" y="150"/>
                    </a:lnTo>
                    <a:lnTo>
                      <a:pt x="96" y="175"/>
                    </a:lnTo>
                    <a:lnTo>
                      <a:pt x="63" y="200"/>
                    </a:lnTo>
                    <a:lnTo>
                      <a:pt x="31" y="228"/>
                    </a:lnTo>
                    <a:lnTo>
                      <a:pt x="0" y="258"/>
                    </a:lnTo>
                    <a:lnTo>
                      <a:pt x="0" y="290"/>
                    </a:lnTo>
                    <a:lnTo>
                      <a:pt x="30" y="260"/>
                    </a:lnTo>
                    <a:lnTo>
                      <a:pt x="63" y="231"/>
                    </a:lnTo>
                    <a:lnTo>
                      <a:pt x="95" y="204"/>
                    </a:lnTo>
                    <a:lnTo>
                      <a:pt x="129" y="178"/>
                    </a:lnTo>
                    <a:lnTo>
                      <a:pt x="165" y="155"/>
                    </a:lnTo>
                    <a:lnTo>
                      <a:pt x="202" y="132"/>
                    </a:lnTo>
                    <a:lnTo>
                      <a:pt x="240" y="113"/>
                    </a:lnTo>
                    <a:lnTo>
                      <a:pt x="279" y="94"/>
                    </a:lnTo>
                    <a:lnTo>
                      <a:pt x="320" y="78"/>
                    </a:lnTo>
                    <a:lnTo>
                      <a:pt x="361" y="63"/>
                    </a:lnTo>
                    <a:lnTo>
                      <a:pt x="403" y="52"/>
                    </a:lnTo>
                    <a:lnTo>
                      <a:pt x="446" y="41"/>
                    </a:lnTo>
                    <a:lnTo>
                      <a:pt x="489" y="33"/>
                    </a:lnTo>
                    <a:lnTo>
                      <a:pt x="534" y="27"/>
                    </a:lnTo>
                    <a:lnTo>
                      <a:pt x="556" y="25"/>
                    </a:lnTo>
                    <a:lnTo>
                      <a:pt x="579" y="23"/>
                    </a:lnTo>
                    <a:lnTo>
                      <a:pt x="602" y="23"/>
                    </a:lnTo>
                    <a:lnTo>
                      <a:pt x="625" y="22"/>
                    </a:lnTo>
                    <a:lnTo>
                      <a:pt x="646" y="23"/>
                    </a:lnTo>
                    <a:lnTo>
                      <a:pt x="666" y="23"/>
                    </a:lnTo>
                    <a:lnTo>
                      <a:pt x="687" y="24"/>
                    </a:lnTo>
                    <a:lnTo>
                      <a:pt x="706" y="26"/>
                    </a:lnTo>
                    <a:lnTo>
                      <a:pt x="727" y="29"/>
                    </a:lnTo>
                    <a:lnTo>
                      <a:pt x="747" y="31"/>
                    </a:lnTo>
                    <a:lnTo>
                      <a:pt x="766" y="34"/>
                    </a:lnTo>
                    <a:lnTo>
                      <a:pt x="786" y="37"/>
                    </a:lnTo>
                    <a:lnTo>
                      <a:pt x="772" y="11"/>
                    </a:lnTo>
                    <a:close/>
                    <a:moveTo>
                      <a:pt x="683" y="1768"/>
                    </a:moveTo>
                    <a:lnTo>
                      <a:pt x="715" y="1766"/>
                    </a:lnTo>
                    <a:lnTo>
                      <a:pt x="748" y="1762"/>
                    </a:lnTo>
                    <a:lnTo>
                      <a:pt x="780" y="1756"/>
                    </a:lnTo>
                    <a:lnTo>
                      <a:pt x="811" y="1751"/>
                    </a:lnTo>
                    <a:lnTo>
                      <a:pt x="841" y="1744"/>
                    </a:lnTo>
                    <a:lnTo>
                      <a:pt x="872" y="1736"/>
                    </a:lnTo>
                    <a:lnTo>
                      <a:pt x="902" y="1727"/>
                    </a:lnTo>
                    <a:lnTo>
                      <a:pt x="932" y="1716"/>
                    </a:lnTo>
                    <a:lnTo>
                      <a:pt x="961" y="1705"/>
                    </a:lnTo>
                    <a:lnTo>
                      <a:pt x="989" y="1692"/>
                    </a:lnTo>
                    <a:lnTo>
                      <a:pt x="1018" y="1679"/>
                    </a:lnTo>
                    <a:lnTo>
                      <a:pt x="1045" y="1665"/>
                    </a:lnTo>
                    <a:lnTo>
                      <a:pt x="1072" y="1649"/>
                    </a:lnTo>
                    <a:lnTo>
                      <a:pt x="1098" y="1634"/>
                    </a:lnTo>
                    <a:lnTo>
                      <a:pt x="1124" y="1617"/>
                    </a:lnTo>
                    <a:lnTo>
                      <a:pt x="1149" y="1599"/>
                    </a:lnTo>
                    <a:lnTo>
                      <a:pt x="1173" y="1580"/>
                    </a:lnTo>
                    <a:lnTo>
                      <a:pt x="1198" y="1562"/>
                    </a:lnTo>
                    <a:lnTo>
                      <a:pt x="1221" y="1541"/>
                    </a:lnTo>
                    <a:lnTo>
                      <a:pt x="1243" y="1520"/>
                    </a:lnTo>
                    <a:lnTo>
                      <a:pt x="1264" y="1498"/>
                    </a:lnTo>
                    <a:lnTo>
                      <a:pt x="1285" y="1476"/>
                    </a:lnTo>
                    <a:lnTo>
                      <a:pt x="1305" y="1452"/>
                    </a:lnTo>
                    <a:lnTo>
                      <a:pt x="1324" y="1429"/>
                    </a:lnTo>
                    <a:lnTo>
                      <a:pt x="1343" y="1405"/>
                    </a:lnTo>
                    <a:lnTo>
                      <a:pt x="1360" y="1380"/>
                    </a:lnTo>
                    <a:lnTo>
                      <a:pt x="1377" y="1353"/>
                    </a:lnTo>
                    <a:lnTo>
                      <a:pt x="1394" y="1327"/>
                    </a:lnTo>
                    <a:lnTo>
                      <a:pt x="1407" y="1300"/>
                    </a:lnTo>
                    <a:lnTo>
                      <a:pt x="1422" y="1272"/>
                    </a:lnTo>
                    <a:lnTo>
                      <a:pt x="1435" y="1245"/>
                    </a:lnTo>
                    <a:lnTo>
                      <a:pt x="1448" y="1216"/>
                    </a:lnTo>
                    <a:lnTo>
                      <a:pt x="1429" y="1199"/>
                    </a:lnTo>
                    <a:lnTo>
                      <a:pt x="1418" y="1227"/>
                    </a:lnTo>
                    <a:lnTo>
                      <a:pt x="1405" y="1255"/>
                    </a:lnTo>
                    <a:lnTo>
                      <a:pt x="1391" y="1283"/>
                    </a:lnTo>
                    <a:lnTo>
                      <a:pt x="1376" y="1310"/>
                    </a:lnTo>
                    <a:lnTo>
                      <a:pt x="1361" y="1337"/>
                    </a:lnTo>
                    <a:lnTo>
                      <a:pt x="1344" y="1362"/>
                    </a:lnTo>
                    <a:lnTo>
                      <a:pt x="1327" y="1388"/>
                    </a:lnTo>
                    <a:lnTo>
                      <a:pt x="1308" y="1412"/>
                    </a:lnTo>
                    <a:lnTo>
                      <a:pt x="1290" y="1436"/>
                    </a:lnTo>
                    <a:lnTo>
                      <a:pt x="1269" y="1459"/>
                    </a:lnTo>
                    <a:lnTo>
                      <a:pt x="1248" y="1481"/>
                    </a:lnTo>
                    <a:lnTo>
                      <a:pt x="1228" y="1503"/>
                    </a:lnTo>
                    <a:lnTo>
                      <a:pt x="1206" y="1524"/>
                    </a:lnTo>
                    <a:lnTo>
                      <a:pt x="1183" y="1544"/>
                    </a:lnTo>
                    <a:lnTo>
                      <a:pt x="1158" y="1563"/>
                    </a:lnTo>
                    <a:lnTo>
                      <a:pt x="1134" y="1581"/>
                    </a:lnTo>
                    <a:lnTo>
                      <a:pt x="1109" y="1600"/>
                    </a:lnTo>
                    <a:lnTo>
                      <a:pt x="1083" y="1616"/>
                    </a:lnTo>
                    <a:lnTo>
                      <a:pt x="1057" y="1632"/>
                    </a:lnTo>
                    <a:lnTo>
                      <a:pt x="1030" y="1647"/>
                    </a:lnTo>
                    <a:lnTo>
                      <a:pt x="1003" y="1661"/>
                    </a:lnTo>
                    <a:lnTo>
                      <a:pt x="975" y="1673"/>
                    </a:lnTo>
                    <a:lnTo>
                      <a:pt x="946" y="1686"/>
                    </a:lnTo>
                    <a:lnTo>
                      <a:pt x="917" y="1697"/>
                    </a:lnTo>
                    <a:lnTo>
                      <a:pt x="887" y="1707"/>
                    </a:lnTo>
                    <a:lnTo>
                      <a:pt x="857" y="1716"/>
                    </a:lnTo>
                    <a:lnTo>
                      <a:pt x="827" y="1724"/>
                    </a:lnTo>
                    <a:lnTo>
                      <a:pt x="796" y="1731"/>
                    </a:lnTo>
                    <a:lnTo>
                      <a:pt x="765" y="1737"/>
                    </a:lnTo>
                    <a:lnTo>
                      <a:pt x="734" y="1740"/>
                    </a:lnTo>
                    <a:lnTo>
                      <a:pt x="702" y="1744"/>
                    </a:lnTo>
                    <a:lnTo>
                      <a:pt x="669" y="1746"/>
                    </a:lnTo>
                    <a:lnTo>
                      <a:pt x="683" y="176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26040" y="3706920"/>
                <a:ext cx="381240" cy="461880"/>
              </a:xfrm>
              <a:custGeom>
                <a:avLst/>
                <a:gdLst/>
                <a:ahLst/>
                <a:rect l="l" t="t" r="r" b="b"/>
                <a:pathLst>
                  <a:path w="1439" h="1747">
                    <a:moveTo>
                      <a:pt x="779" y="13"/>
                    </a:moveTo>
                    <a:lnTo>
                      <a:pt x="760" y="11"/>
                    </a:lnTo>
                    <a:lnTo>
                      <a:pt x="741" y="7"/>
                    </a:lnTo>
                    <a:lnTo>
                      <a:pt x="722" y="5"/>
                    </a:lnTo>
                    <a:lnTo>
                      <a:pt x="703" y="4"/>
                    </a:lnTo>
                    <a:lnTo>
                      <a:pt x="684" y="1"/>
                    </a:lnTo>
                    <a:lnTo>
                      <a:pt x="665" y="0"/>
                    </a:lnTo>
                    <a:lnTo>
                      <a:pt x="645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4" y="5"/>
                    </a:lnTo>
                    <a:lnTo>
                      <a:pt x="491" y="11"/>
                    </a:lnTo>
                    <a:lnTo>
                      <a:pt x="447" y="18"/>
                    </a:lnTo>
                    <a:lnTo>
                      <a:pt x="404" y="28"/>
                    </a:lnTo>
                    <a:lnTo>
                      <a:pt x="361" y="41"/>
                    </a:lnTo>
                    <a:lnTo>
                      <a:pt x="321" y="54"/>
                    </a:lnTo>
                    <a:lnTo>
                      <a:pt x="281" y="71"/>
                    </a:lnTo>
                    <a:lnTo>
                      <a:pt x="241" y="89"/>
                    </a:lnTo>
                    <a:lnTo>
                      <a:pt x="203" y="109"/>
                    </a:lnTo>
                    <a:lnTo>
                      <a:pt x="166" y="129"/>
                    </a:lnTo>
                    <a:lnTo>
                      <a:pt x="131" y="154"/>
                    </a:lnTo>
                    <a:lnTo>
                      <a:pt x="96" y="178"/>
                    </a:lnTo>
                    <a:lnTo>
                      <a:pt x="63" y="204"/>
                    </a:lnTo>
                    <a:lnTo>
                      <a:pt x="30" y="233"/>
                    </a:lnTo>
                    <a:lnTo>
                      <a:pt x="0" y="263"/>
                    </a:lnTo>
                    <a:lnTo>
                      <a:pt x="0" y="293"/>
                    </a:lnTo>
                    <a:lnTo>
                      <a:pt x="0" y="295"/>
                    </a:lnTo>
                    <a:lnTo>
                      <a:pt x="30" y="264"/>
                    </a:lnTo>
                    <a:lnTo>
                      <a:pt x="63" y="235"/>
                    </a:lnTo>
                    <a:lnTo>
                      <a:pt x="95" y="208"/>
                    </a:lnTo>
                    <a:lnTo>
                      <a:pt x="129" y="182"/>
                    </a:lnTo>
                    <a:lnTo>
                      <a:pt x="165" y="158"/>
                    </a:lnTo>
                    <a:lnTo>
                      <a:pt x="202" y="135"/>
                    </a:lnTo>
                    <a:lnTo>
                      <a:pt x="240" y="114"/>
                    </a:lnTo>
                    <a:lnTo>
                      <a:pt x="278" y="96"/>
                    </a:lnTo>
                    <a:lnTo>
                      <a:pt x="319" y="80"/>
                    </a:lnTo>
                    <a:lnTo>
                      <a:pt x="360" y="65"/>
                    </a:lnTo>
                    <a:lnTo>
                      <a:pt x="403" y="52"/>
                    </a:lnTo>
                    <a:lnTo>
                      <a:pt x="446" y="42"/>
                    </a:lnTo>
                    <a:lnTo>
                      <a:pt x="489" y="34"/>
                    </a:lnTo>
                    <a:lnTo>
                      <a:pt x="534" y="28"/>
                    </a:lnTo>
                    <a:lnTo>
                      <a:pt x="556" y="26"/>
                    </a:lnTo>
                    <a:lnTo>
                      <a:pt x="579" y="23"/>
                    </a:lnTo>
                    <a:lnTo>
                      <a:pt x="602" y="23"/>
                    </a:lnTo>
                    <a:lnTo>
                      <a:pt x="625" y="22"/>
                    </a:lnTo>
                    <a:lnTo>
                      <a:pt x="646" y="23"/>
                    </a:lnTo>
                    <a:lnTo>
                      <a:pt x="668" y="23"/>
                    </a:lnTo>
                    <a:lnTo>
                      <a:pt x="689" y="24"/>
                    </a:lnTo>
                    <a:lnTo>
                      <a:pt x="710" y="27"/>
                    </a:lnTo>
                    <a:lnTo>
                      <a:pt x="730" y="29"/>
                    </a:lnTo>
                    <a:lnTo>
                      <a:pt x="751" y="31"/>
                    </a:lnTo>
                    <a:lnTo>
                      <a:pt x="772" y="35"/>
                    </a:lnTo>
                    <a:lnTo>
                      <a:pt x="793" y="39"/>
                    </a:lnTo>
                    <a:lnTo>
                      <a:pt x="779" y="13"/>
                    </a:lnTo>
                    <a:close/>
                    <a:moveTo>
                      <a:pt x="676" y="1747"/>
                    </a:moveTo>
                    <a:lnTo>
                      <a:pt x="709" y="1744"/>
                    </a:lnTo>
                    <a:lnTo>
                      <a:pt x="741" y="1741"/>
                    </a:lnTo>
                    <a:lnTo>
                      <a:pt x="772" y="1735"/>
                    </a:lnTo>
                    <a:lnTo>
                      <a:pt x="803" y="1729"/>
                    </a:lnTo>
                    <a:lnTo>
                      <a:pt x="834" y="1722"/>
                    </a:lnTo>
                    <a:lnTo>
                      <a:pt x="865" y="1714"/>
                    </a:lnTo>
                    <a:lnTo>
                      <a:pt x="895" y="1705"/>
                    </a:lnTo>
                    <a:lnTo>
                      <a:pt x="924" y="1696"/>
                    </a:lnTo>
                    <a:lnTo>
                      <a:pt x="953" y="1684"/>
                    </a:lnTo>
                    <a:lnTo>
                      <a:pt x="982" y="1672"/>
                    </a:lnTo>
                    <a:lnTo>
                      <a:pt x="1010" y="1659"/>
                    </a:lnTo>
                    <a:lnTo>
                      <a:pt x="1037" y="1645"/>
                    </a:lnTo>
                    <a:lnTo>
                      <a:pt x="1065" y="1630"/>
                    </a:lnTo>
                    <a:lnTo>
                      <a:pt x="1090" y="1614"/>
                    </a:lnTo>
                    <a:lnTo>
                      <a:pt x="1117" y="1597"/>
                    </a:lnTo>
                    <a:lnTo>
                      <a:pt x="1142" y="1579"/>
                    </a:lnTo>
                    <a:lnTo>
                      <a:pt x="1166" y="1561"/>
                    </a:lnTo>
                    <a:lnTo>
                      <a:pt x="1189" y="1541"/>
                    </a:lnTo>
                    <a:lnTo>
                      <a:pt x="1213" y="1522"/>
                    </a:lnTo>
                    <a:lnTo>
                      <a:pt x="1234" y="1501"/>
                    </a:lnTo>
                    <a:lnTo>
                      <a:pt x="1256" y="1479"/>
                    </a:lnTo>
                    <a:lnTo>
                      <a:pt x="1277" y="1456"/>
                    </a:lnTo>
                    <a:lnTo>
                      <a:pt x="1297" y="1433"/>
                    </a:lnTo>
                    <a:lnTo>
                      <a:pt x="1316" y="1409"/>
                    </a:lnTo>
                    <a:lnTo>
                      <a:pt x="1335" y="1385"/>
                    </a:lnTo>
                    <a:lnTo>
                      <a:pt x="1352" y="1359"/>
                    </a:lnTo>
                    <a:lnTo>
                      <a:pt x="1369" y="1334"/>
                    </a:lnTo>
                    <a:lnTo>
                      <a:pt x="1384" y="1307"/>
                    </a:lnTo>
                    <a:lnTo>
                      <a:pt x="1399" y="1281"/>
                    </a:lnTo>
                    <a:lnTo>
                      <a:pt x="1413" y="1253"/>
                    </a:lnTo>
                    <a:lnTo>
                      <a:pt x="1426" y="1224"/>
                    </a:lnTo>
                    <a:lnTo>
                      <a:pt x="1439" y="1196"/>
                    </a:lnTo>
                    <a:lnTo>
                      <a:pt x="1421" y="1179"/>
                    </a:lnTo>
                    <a:lnTo>
                      <a:pt x="1409" y="1208"/>
                    </a:lnTo>
                    <a:lnTo>
                      <a:pt x="1396" y="1236"/>
                    </a:lnTo>
                    <a:lnTo>
                      <a:pt x="1383" y="1264"/>
                    </a:lnTo>
                    <a:lnTo>
                      <a:pt x="1368" y="1290"/>
                    </a:lnTo>
                    <a:lnTo>
                      <a:pt x="1352" y="1317"/>
                    </a:lnTo>
                    <a:lnTo>
                      <a:pt x="1336" y="1343"/>
                    </a:lnTo>
                    <a:lnTo>
                      <a:pt x="1319" y="1369"/>
                    </a:lnTo>
                    <a:lnTo>
                      <a:pt x="1300" y="1393"/>
                    </a:lnTo>
                    <a:lnTo>
                      <a:pt x="1282" y="1417"/>
                    </a:lnTo>
                    <a:lnTo>
                      <a:pt x="1262" y="1440"/>
                    </a:lnTo>
                    <a:lnTo>
                      <a:pt x="1241" y="1462"/>
                    </a:lnTo>
                    <a:lnTo>
                      <a:pt x="1219" y="1484"/>
                    </a:lnTo>
                    <a:lnTo>
                      <a:pt x="1198" y="1505"/>
                    </a:lnTo>
                    <a:lnTo>
                      <a:pt x="1174" y="1524"/>
                    </a:lnTo>
                    <a:lnTo>
                      <a:pt x="1151" y="1544"/>
                    </a:lnTo>
                    <a:lnTo>
                      <a:pt x="1127" y="1562"/>
                    </a:lnTo>
                    <a:lnTo>
                      <a:pt x="1102" y="1579"/>
                    </a:lnTo>
                    <a:lnTo>
                      <a:pt x="1076" y="1597"/>
                    </a:lnTo>
                    <a:lnTo>
                      <a:pt x="1050" y="1612"/>
                    </a:lnTo>
                    <a:lnTo>
                      <a:pt x="1023" y="1627"/>
                    </a:lnTo>
                    <a:lnTo>
                      <a:pt x="996" y="1641"/>
                    </a:lnTo>
                    <a:lnTo>
                      <a:pt x="968" y="1653"/>
                    </a:lnTo>
                    <a:lnTo>
                      <a:pt x="939" y="1666"/>
                    </a:lnTo>
                    <a:lnTo>
                      <a:pt x="910" y="1676"/>
                    </a:lnTo>
                    <a:lnTo>
                      <a:pt x="880" y="1687"/>
                    </a:lnTo>
                    <a:lnTo>
                      <a:pt x="850" y="1695"/>
                    </a:lnTo>
                    <a:lnTo>
                      <a:pt x="820" y="1703"/>
                    </a:lnTo>
                    <a:lnTo>
                      <a:pt x="789" y="1710"/>
                    </a:lnTo>
                    <a:lnTo>
                      <a:pt x="758" y="1716"/>
                    </a:lnTo>
                    <a:lnTo>
                      <a:pt x="726" y="1719"/>
                    </a:lnTo>
                    <a:lnTo>
                      <a:pt x="695" y="1722"/>
                    </a:lnTo>
                    <a:lnTo>
                      <a:pt x="662" y="1725"/>
                    </a:lnTo>
                    <a:lnTo>
                      <a:pt x="676" y="174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26040" y="3710160"/>
                <a:ext cx="379440" cy="457200"/>
              </a:xfrm>
              <a:custGeom>
                <a:avLst/>
                <a:gdLst/>
                <a:ahLst/>
                <a:rect l="l" t="t" r="r" b="b"/>
                <a:pathLst>
                  <a:path w="1429" h="1724">
                    <a:moveTo>
                      <a:pt x="786" y="15"/>
                    </a:moveTo>
                    <a:lnTo>
                      <a:pt x="766" y="12"/>
                    </a:lnTo>
                    <a:lnTo>
                      <a:pt x="747" y="9"/>
                    </a:lnTo>
                    <a:lnTo>
                      <a:pt x="727" y="7"/>
                    </a:lnTo>
                    <a:lnTo>
                      <a:pt x="706" y="4"/>
                    </a:lnTo>
                    <a:lnTo>
                      <a:pt x="687" y="2"/>
                    </a:lnTo>
                    <a:lnTo>
                      <a:pt x="666" y="1"/>
                    </a:lnTo>
                    <a:lnTo>
                      <a:pt x="646" y="1"/>
                    </a:lnTo>
                    <a:lnTo>
                      <a:pt x="625" y="0"/>
                    </a:lnTo>
                    <a:lnTo>
                      <a:pt x="602" y="1"/>
                    </a:lnTo>
                    <a:lnTo>
                      <a:pt x="579" y="1"/>
                    </a:lnTo>
                    <a:lnTo>
                      <a:pt x="556" y="3"/>
                    </a:lnTo>
                    <a:lnTo>
                      <a:pt x="534" y="5"/>
                    </a:lnTo>
                    <a:lnTo>
                      <a:pt x="489" y="11"/>
                    </a:lnTo>
                    <a:lnTo>
                      <a:pt x="446" y="19"/>
                    </a:lnTo>
                    <a:lnTo>
                      <a:pt x="403" y="30"/>
                    </a:lnTo>
                    <a:lnTo>
                      <a:pt x="361" y="41"/>
                    </a:lnTo>
                    <a:lnTo>
                      <a:pt x="320" y="56"/>
                    </a:lnTo>
                    <a:lnTo>
                      <a:pt x="279" y="72"/>
                    </a:lnTo>
                    <a:lnTo>
                      <a:pt x="240" y="91"/>
                    </a:lnTo>
                    <a:lnTo>
                      <a:pt x="202" y="110"/>
                    </a:lnTo>
                    <a:lnTo>
                      <a:pt x="165" y="133"/>
                    </a:lnTo>
                    <a:lnTo>
                      <a:pt x="129" y="156"/>
                    </a:lnTo>
                    <a:lnTo>
                      <a:pt x="95" y="182"/>
                    </a:lnTo>
                    <a:lnTo>
                      <a:pt x="63" y="209"/>
                    </a:lnTo>
                    <a:lnTo>
                      <a:pt x="30" y="238"/>
                    </a:lnTo>
                    <a:lnTo>
                      <a:pt x="0" y="268"/>
                    </a:lnTo>
                    <a:lnTo>
                      <a:pt x="0" y="282"/>
                    </a:lnTo>
                    <a:lnTo>
                      <a:pt x="4" y="297"/>
                    </a:lnTo>
                    <a:lnTo>
                      <a:pt x="34" y="266"/>
                    </a:lnTo>
                    <a:lnTo>
                      <a:pt x="65" y="237"/>
                    </a:lnTo>
                    <a:lnTo>
                      <a:pt x="97" y="209"/>
                    </a:lnTo>
                    <a:lnTo>
                      <a:pt x="132" y="183"/>
                    </a:lnTo>
                    <a:lnTo>
                      <a:pt x="166" y="159"/>
                    </a:lnTo>
                    <a:lnTo>
                      <a:pt x="203" y="137"/>
                    </a:lnTo>
                    <a:lnTo>
                      <a:pt x="241" y="116"/>
                    </a:lnTo>
                    <a:lnTo>
                      <a:pt x="281" y="96"/>
                    </a:lnTo>
                    <a:lnTo>
                      <a:pt x="320" y="80"/>
                    </a:lnTo>
                    <a:lnTo>
                      <a:pt x="361" y="65"/>
                    </a:lnTo>
                    <a:lnTo>
                      <a:pt x="403" y="53"/>
                    </a:lnTo>
                    <a:lnTo>
                      <a:pt x="446" y="42"/>
                    </a:lnTo>
                    <a:lnTo>
                      <a:pt x="467" y="38"/>
                    </a:lnTo>
                    <a:lnTo>
                      <a:pt x="489" y="34"/>
                    </a:lnTo>
                    <a:lnTo>
                      <a:pt x="511" y="31"/>
                    </a:lnTo>
                    <a:lnTo>
                      <a:pt x="534" y="27"/>
                    </a:lnTo>
                    <a:lnTo>
                      <a:pt x="556" y="26"/>
                    </a:lnTo>
                    <a:lnTo>
                      <a:pt x="579" y="24"/>
                    </a:lnTo>
                    <a:lnTo>
                      <a:pt x="602" y="23"/>
                    </a:lnTo>
                    <a:lnTo>
                      <a:pt x="625" y="23"/>
                    </a:lnTo>
                    <a:lnTo>
                      <a:pt x="647" y="23"/>
                    </a:lnTo>
                    <a:lnTo>
                      <a:pt x="669" y="24"/>
                    </a:lnTo>
                    <a:lnTo>
                      <a:pt x="691" y="25"/>
                    </a:lnTo>
                    <a:lnTo>
                      <a:pt x="713" y="27"/>
                    </a:lnTo>
                    <a:lnTo>
                      <a:pt x="735" y="30"/>
                    </a:lnTo>
                    <a:lnTo>
                      <a:pt x="757" y="33"/>
                    </a:lnTo>
                    <a:lnTo>
                      <a:pt x="778" y="36"/>
                    </a:lnTo>
                    <a:lnTo>
                      <a:pt x="800" y="41"/>
                    </a:lnTo>
                    <a:lnTo>
                      <a:pt x="786" y="15"/>
                    </a:lnTo>
                    <a:close/>
                    <a:moveTo>
                      <a:pt x="669" y="1724"/>
                    </a:moveTo>
                    <a:lnTo>
                      <a:pt x="702" y="1722"/>
                    </a:lnTo>
                    <a:lnTo>
                      <a:pt x="734" y="1718"/>
                    </a:lnTo>
                    <a:lnTo>
                      <a:pt x="765" y="1715"/>
                    </a:lnTo>
                    <a:lnTo>
                      <a:pt x="796" y="1709"/>
                    </a:lnTo>
                    <a:lnTo>
                      <a:pt x="827" y="1702"/>
                    </a:lnTo>
                    <a:lnTo>
                      <a:pt x="857" y="1694"/>
                    </a:lnTo>
                    <a:lnTo>
                      <a:pt x="887" y="1685"/>
                    </a:lnTo>
                    <a:lnTo>
                      <a:pt x="917" y="1675"/>
                    </a:lnTo>
                    <a:lnTo>
                      <a:pt x="946" y="1664"/>
                    </a:lnTo>
                    <a:lnTo>
                      <a:pt x="975" y="1651"/>
                    </a:lnTo>
                    <a:lnTo>
                      <a:pt x="1003" y="1639"/>
                    </a:lnTo>
                    <a:lnTo>
                      <a:pt x="1030" y="1625"/>
                    </a:lnTo>
                    <a:lnTo>
                      <a:pt x="1057" y="1610"/>
                    </a:lnTo>
                    <a:lnTo>
                      <a:pt x="1083" y="1594"/>
                    </a:lnTo>
                    <a:lnTo>
                      <a:pt x="1109" y="1578"/>
                    </a:lnTo>
                    <a:lnTo>
                      <a:pt x="1134" y="1559"/>
                    </a:lnTo>
                    <a:lnTo>
                      <a:pt x="1158" y="1541"/>
                    </a:lnTo>
                    <a:lnTo>
                      <a:pt x="1183" y="1522"/>
                    </a:lnTo>
                    <a:lnTo>
                      <a:pt x="1206" y="1502"/>
                    </a:lnTo>
                    <a:lnTo>
                      <a:pt x="1228" y="1481"/>
                    </a:lnTo>
                    <a:lnTo>
                      <a:pt x="1248" y="1459"/>
                    </a:lnTo>
                    <a:lnTo>
                      <a:pt x="1269" y="1437"/>
                    </a:lnTo>
                    <a:lnTo>
                      <a:pt x="1290" y="1414"/>
                    </a:lnTo>
                    <a:lnTo>
                      <a:pt x="1308" y="1390"/>
                    </a:lnTo>
                    <a:lnTo>
                      <a:pt x="1327" y="1366"/>
                    </a:lnTo>
                    <a:lnTo>
                      <a:pt x="1344" y="1340"/>
                    </a:lnTo>
                    <a:lnTo>
                      <a:pt x="1361" y="1315"/>
                    </a:lnTo>
                    <a:lnTo>
                      <a:pt x="1376" y="1288"/>
                    </a:lnTo>
                    <a:lnTo>
                      <a:pt x="1391" y="1261"/>
                    </a:lnTo>
                    <a:lnTo>
                      <a:pt x="1405" y="1233"/>
                    </a:lnTo>
                    <a:lnTo>
                      <a:pt x="1418" y="1205"/>
                    </a:lnTo>
                    <a:lnTo>
                      <a:pt x="1429" y="1177"/>
                    </a:lnTo>
                    <a:lnTo>
                      <a:pt x="1417" y="1165"/>
                    </a:lnTo>
                    <a:lnTo>
                      <a:pt x="1413" y="1156"/>
                    </a:lnTo>
                    <a:lnTo>
                      <a:pt x="1402" y="1186"/>
                    </a:lnTo>
                    <a:lnTo>
                      <a:pt x="1389" y="1213"/>
                    </a:lnTo>
                    <a:lnTo>
                      <a:pt x="1375" y="1241"/>
                    </a:lnTo>
                    <a:lnTo>
                      <a:pt x="1361" y="1269"/>
                    </a:lnTo>
                    <a:lnTo>
                      <a:pt x="1346" y="1295"/>
                    </a:lnTo>
                    <a:lnTo>
                      <a:pt x="1330" y="1321"/>
                    </a:lnTo>
                    <a:lnTo>
                      <a:pt x="1313" y="1346"/>
                    </a:lnTo>
                    <a:lnTo>
                      <a:pt x="1294" y="1371"/>
                    </a:lnTo>
                    <a:lnTo>
                      <a:pt x="1276" y="1396"/>
                    </a:lnTo>
                    <a:lnTo>
                      <a:pt x="1255" y="1419"/>
                    </a:lnTo>
                    <a:lnTo>
                      <a:pt x="1234" y="1441"/>
                    </a:lnTo>
                    <a:lnTo>
                      <a:pt x="1214" y="1462"/>
                    </a:lnTo>
                    <a:lnTo>
                      <a:pt x="1192" y="1483"/>
                    </a:lnTo>
                    <a:lnTo>
                      <a:pt x="1169" y="1504"/>
                    </a:lnTo>
                    <a:lnTo>
                      <a:pt x="1144" y="1522"/>
                    </a:lnTo>
                    <a:lnTo>
                      <a:pt x="1120" y="1541"/>
                    </a:lnTo>
                    <a:lnTo>
                      <a:pt x="1096" y="1559"/>
                    </a:lnTo>
                    <a:lnTo>
                      <a:pt x="1070" y="1575"/>
                    </a:lnTo>
                    <a:lnTo>
                      <a:pt x="1044" y="1592"/>
                    </a:lnTo>
                    <a:lnTo>
                      <a:pt x="1016" y="1607"/>
                    </a:lnTo>
                    <a:lnTo>
                      <a:pt x="989" y="1620"/>
                    </a:lnTo>
                    <a:lnTo>
                      <a:pt x="961" y="1633"/>
                    </a:lnTo>
                    <a:lnTo>
                      <a:pt x="932" y="1645"/>
                    </a:lnTo>
                    <a:lnTo>
                      <a:pt x="903" y="1656"/>
                    </a:lnTo>
                    <a:lnTo>
                      <a:pt x="873" y="1665"/>
                    </a:lnTo>
                    <a:lnTo>
                      <a:pt x="843" y="1675"/>
                    </a:lnTo>
                    <a:lnTo>
                      <a:pt x="813" y="1681"/>
                    </a:lnTo>
                    <a:lnTo>
                      <a:pt x="782" y="1688"/>
                    </a:lnTo>
                    <a:lnTo>
                      <a:pt x="751" y="1693"/>
                    </a:lnTo>
                    <a:lnTo>
                      <a:pt x="719" y="1698"/>
                    </a:lnTo>
                    <a:lnTo>
                      <a:pt x="687" y="1701"/>
                    </a:lnTo>
                    <a:lnTo>
                      <a:pt x="654" y="1702"/>
                    </a:lnTo>
                    <a:lnTo>
                      <a:pt x="669" y="1724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26040" y="3713040"/>
                <a:ext cx="376200" cy="451080"/>
              </a:xfrm>
              <a:custGeom>
                <a:avLst/>
                <a:gdLst/>
                <a:ahLst/>
                <a:rect l="l" t="t" r="r" b="b"/>
                <a:pathLst>
                  <a:path w="1421" h="1703">
                    <a:moveTo>
                      <a:pt x="793" y="17"/>
                    </a:moveTo>
                    <a:lnTo>
                      <a:pt x="772" y="13"/>
                    </a:lnTo>
                    <a:lnTo>
                      <a:pt x="751" y="9"/>
                    </a:lnTo>
                    <a:lnTo>
                      <a:pt x="730" y="7"/>
                    </a:lnTo>
                    <a:lnTo>
                      <a:pt x="710" y="5"/>
                    </a:lnTo>
                    <a:lnTo>
                      <a:pt x="689" y="2"/>
                    </a:lnTo>
                    <a:lnTo>
                      <a:pt x="668" y="1"/>
                    </a:lnTo>
                    <a:lnTo>
                      <a:pt x="646" y="1"/>
                    </a:lnTo>
                    <a:lnTo>
                      <a:pt x="625" y="0"/>
                    </a:lnTo>
                    <a:lnTo>
                      <a:pt x="602" y="1"/>
                    </a:lnTo>
                    <a:lnTo>
                      <a:pt x="579" y="1"/>
                    </a:lnTo>
                    <a:lnTo>
                      <a:pt x="556" y="4"/>
                    </a:lnTo>
                    <a:lnTo>
                      <a:pt x="534" y="6"/>
                    </a:lnTo>
                    <a:lnTo>
                      <a:pt x="489" y="12"/>
                    </a:lnTo>
                    <a:lnTo>
                      <a:pt x="446" y="20"/>
                    </a:lnTo>
                    <a:lnTo>
                      <a:pt x="403" y="30"/>
                    </a:lnTo>
                    <a:lnTo>
                      <a:pt x="360" y="43"/>
                    </a:lnTo>
                    <a:lnTo>
                      <a:pt x="319" y="58"/>
                    </a:lnTo>
                    <a:lnTo>
                      <a:pt x="278" y="74"/>
                    </a:lnTo>
                    <a:lnTo>
                      <a:pt x="240" y="92"/>
                    </a:lnTo>
                    <a:lnTo>
                      <a:pt x="202" y="113"/>
                    </a:lnTo>
                    <a:lnTo>
                      <a:pt x="165" y="136"/>
                    </a:lnTo>
                    <a:lnTo>
                      <a:pt x="129" y="160"/>
                    </a:lnTo>
                    <a:lnTo>
                      <a:pt x="95" y="186"/>
                    </a:lnTo>
                    <a:lnTo>
                      <a:pt x="63" y="213"/>
                    </a:lnTo>
                    <a:lnTo>
                      <a:pt x="30" y="242"/>
                    </a:lnTo>
                    <a:lnTo>
                      <a:pt x="0" y="273"/>
                    </a:lnTo>
                    <a:lnTo>
                      <a:pt x="7" y="299"/>
                    </a:lnTo>
                    <a:lnTo>
                      <a:pt x="37" y="269"/>
                    </a:lnTo>
                    <a:lnTo>
                      <a:pt x="67" y="239"/>
                    </a:lnTo>
                    <a:lnTo>
                      <a:pt x="100" y="211"/>
                    </a:lnTo>
                    <a:lnTo>
                      <a:pt x="134" y="185"/>
                    </a:lnTo>
                    <a:lnTo>
                      <a:pt x="169" y="160"/>
                    </a:lnTo>
                    <a:lnTo>
                      <a:pt x="206" y="137"/>
                    </a:lnTo>
                    <a:lnTo>
                      <a:pt x="243" y="117"/>
                    </a:lnTo>
                    <a:lnTo>
                      <a:pt x="282" y="98"/>
                    </a:lnTo>
                    <a:lnTo>
                      <a:pt x="321" y="81"/>
                    </a:lnTo>
                    <a:lnTo>
                      <a:pt x="362" y="66"/>
                    </a:lnTo>
                    <a:lnTo>
                      <a:pt x="404" y="53"/>
                    </a:lnTo>
                    <a:lnTo>
                      <a:pt x="447" y="43"/>
                    </a:lnTo>
                    <a:lnTo>
                      <a:pt x="491" y="35"/>
                    </a:lnTo>
                    <a:lnTo>
                      <a:pt x="534" y="28"/>
                    </a:lnTo>
                    <a:lnTo>
                      <a:pt x="557" y="25"/>
                    </a:lnTo>
                    <a:lnTo>
                      <a:pt x="579" y="24"/>
                    </a:lnTo>
                    <a:lnTo>
                      <a:pt x="602" y="23"/>
                    </a:lnTo>
                    <a:lnTo>
                      <a:pt x="625" y="23"/>
                    </a:lnTo>
                    <a:lnTo>
                      <a:pt x="649" y="23"/>
                    </a:lnTo>
                    <a:lnTo>
                      <a:pt x="672" y="24"/>
                    </a:lnTo>
                    <a:lnTo>
                      <a:pt x="695" y="25"/>
                    </a:lnTo>
                    <a:lnTo>
                      <a:pt x="718" y="28"/>
                    </a:lnTo>
                    <a:lnTo>
                      <a:pt x="740" y="31"/>
                    </a:lnTo>
                    <a:lnTo>
                      <a:pt x="763" y="35"/>
                    </a:lnTo>
                    <a:lnTo>
                      <a:pt x="785" y="38"/>
                    </a:lnTo>
                    <a:lnTo>
                      <a:pt x="807" y="43"/>
                    </a:lnTo>
                    <a:lnTo>
                      <a:pt x="807" y="43"/>
                    </a:lnTo>
                    <a:lnTo>
                      <a:pt x="793" y="17"/>
                    </a:lnTo>
                    <a:close/>
                    <a:moveTo>
                      <a:pt x="662" y="1703"/>
                    </a:moveTo>
                    <a:lnTo>
                      <a:pt x="695" y="1700"/>
                    </a:lnTo>
                    <a:lnTo>
                      <a:pt x="726" y="1697"/>
                    </a:lnTo>
                    <a:lnTo>
                      <a:pt x="758" y="1694"/>
                    </a:lnTo>
                    <a:lnTo>
                      <a:pt x="789" y="1688"/>
                    </a:lnTo>
                    <a:lnTo>
                      <a:pt x="820" y="1681"/>
                    </a:lnTo>
                    <a:lnTo>
                      <a:pt x="850" y="1673"/>
                    </a:lnTo>
                    <a:lnTo>
                      <a:pt x="880" y="1665"/>
                    </a:lnTo>
                    <a:lnTo>
                      <a:pt x="910" y="1654"/>
                    </a:lnTo>
                    <a:lnTo>
                      <a:pt x="939" y="1644"/>
                    </a:lnTo>
                    <a:lnTo>
                      <a:pt x="968" y="1631"/>
                    </a:lnTo>
                    <a:lnTo>
                      <a:pt x="996" y="1619"/>
                    </a:lnTo>
                    <a:lnTo>
                      <a:pt x="1023" y="1605"/>
                    </a:lnTo>
                    <a:lnTo>
                      <a:pt x="1050" y="1590"/>
                    </a:lnTo>
                    <a:lnTo>
                      <a:pt x="1076" y="1575"/>
                    </a:lnTo>
                    <a:lnTo>
                      <a:pt x="1102" y="1557"/>
                    </a:lnTo>
                    <a:lnTo>
                      <a:pt x="1127" y="1540"/>
                    </a:lnTo>
                    <a:lnTo>
                      <a:pt x="1151" y="1522"/>
                    </a:lnTo>
                    <a:lnTo>
                      <a:pt x="1174" y="1502"/>
                    </a:lnTo>
                    <a:lnTo>
                      <a:pt x="1198" y="1483"/>
                    </a:lnTo>
                    <a:lnTo>
                      <a:pt x="1219" y="1462"/>
                    </a:lnTo>
                    <a:lnTo>
                      <a:pt x="1241" y="1440"/>
                    </a:lnTo>
                    <a:lnTo>
                      <a:pt x="1262" y="1418"/>
                    </a:lnTo>
                    <a:lnTo>
                      <a:pt x="1282" y="1395"/>
                    </a:lnTo>
                    <a:lnTo>
                      <a:pt x="1300" y="1371"/>
                    </a:lnTo>
                    <a:lnTo>
                      <a:pt x="1319" y="1347"/>
                    </a:lnTo>
                    <a:lnTo>
                      <a:pt x="1336" y="1321"/>
                    </a:lnTo>
                    <a:lnTo>
                      <a:pt x="1352" y="1295"/>
                    </a:lnTo>
                    <a:lnTo>
                      <a:pt x="1368" y="1268"/>
                    </a:lnTo>
                    <a:lnTo>
                      <a:pt x="1383" y="1242"/>
                    </a:lnTo>
                    <a:lnTo>
                      <a:pt x="1396" y="1214"/>
                    </a:lnTo>
                    <a:lnTo>
                      <a:pt x="1409" y="1186"/>
                    </a:lnTo>
                    <a:lnTo>
                      <a:pt x="1421" y="1157"/>
                    </a:lnTo>
                    <a:lnTo>
                      <a:pt x="1417" y="1154"/>
                    </a:lnTo>
                    <a:lnTo>
                      <a:pt x="1406" y="1131"/>
                    </a:lnTo>
                    <a:lnTo>
                      <a:pt x="1395" y="1160"/>
                    </a:lnTo>
                    <a:lnTo>
                      <a:pt x="1383" y="1189"/>
                    </a:lnTo>
                    <a:lnTo>
                      <a:pt x="1369" y="1217"/>
                    </a:lnTo>
                    <a:lnTo>
                      <a:pt x="1356" y="1244"/>
                    </a:lnTo>
                    <a:lnTo>
                      <a:pt x="1341" y="1272"/>
                    </a:lnTo>
                    <a:lnTo>
                      <a:pt x="1324" y="1297"/>
                    </a:lnTo>
                    <a:lnTo>
                      <a:pt x="1307" y="1323"/>
                    </a:lnTo>
                    <a:lnTo>
                      <a:pt x="1290" y="1348"/>
                    </a:lnTo>
                    <a:lnTo>
                      <a:pt x="1270" y="1372"/>
                    </a:lnTo>
                    <a:lnTo>
                      <a:pt x="1251" y="1395"/>
                    </a:lnTo>
                    <a:lnTo>
                      <a:pt x="1231" y="1418"/>
                    </a:lnTo>
                    <a:lnTo>
                      <a:pt x="1209" y="1440"/>
                    </a:lnTo>
                    <a:lnTo>
                      <a:pt x="1187" y="1462"/>
                    </a:lnTo>
                    <a:lnTo>
                      <a:pt x="1164" y="1481"/>
                    </a:lnTo>
                    <a:lnTo>
                      <a:pt x="1141" y="1501"/>
                    </a:lnTo>
                    <a:lnTo>
                      <a:pt x="1117" y="1519"/>
                    </a:lnTo>
                    <a:lnTo>
                      <a:pt x="1091" y="1538"/>
                    </a:lnTo>
                    <a:lnTo>
                      <a:pt x="1065" y="1554"/>
                    </a:lnTo>
                    <a:lnTo>
                      <a:pt x="1040" y="1570"/>
                    </a:lnTo>
                    <a:lnTo>
                      <a:pt x="1012" y="1585"/>
                    </a:lnTo>
                    <a:lnTo>
                      <a:pt x="984" y="1599"/>
                    </a:lnTo>
                    <a:lnTo>
                      <a:pt x="956" y="1612"/>
                    </a:lnTo>
                    <a:lnTo>
                      <a:pt x="928" y="1623"/>
                    </a:lnTo>
                    <a:lnTo>
                      <a:pt x="899" y="1635"/>
                    </a:lnTo>
                    <a:lnTo>
                      <a:pt x="869" y="1644"/>
                    </a:lnTo>
                    <a:lnTo>
                      <a:pt x="839" y="1653"/>
                    </a:lnTo>
                    <a:lnTo>
                      <a:pt x="808" y="1660"/>
                    </a:lnTo>
                    <a:lnTo>
                      <a:pt x="777" y="1667"/>
                    </a:lnTo>
                    <a:lnTo>
                      <a:pt x="745" y="1672"/>
                    </a:lnTo>
                    <a:lnTo>
                      <a:pt x="713" y="1676"/>
                    </a:lnTo>
                    <a:lnTo>
                      <a:pt x="681" y="1679"/>
                    </a:lnTo>
                    <a:lnTo>
                      <a:pt x="649" y="1680"/>
                    </a:lnTo>
                    <a:lnTo>
                      <a:pt x="652" y="1687"/>
                    </a:lnTo>
                    <a:lnTo>
                      <a:pt x="662" y="170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27840" y="3716280"/>
                <a:ext cx="372960" cy="444600"/>
              </a:xfrm>
              <a:custGeom>
                <a:avLst/>
                <a:gdLst/>
                <a:ahLst/>
                <a:rect l="l" t="t" r="r" b="b"/>
                <a:pathLst>
                  <a:path w="1409" h="1679">
                    <a:moveTo>
                      <a:pt x="796" y="18"/>
                    </a:moveTo>
                    <a:lnTo>
                      <a:pt x="774" y="13"/>
                    </a:lnTo>
                    <a:lnTo>
                      <a:pt x="753" y="10"/>
                    </a:lnTo>
                    <a:lnTo>
                      <a:pt x="731" y="7"/>
                    </a:lnTo>
                    <a:lnTo>
                      <a:pt x="709" y="4"/>
                    </a:lnTo>
                    <a:lnTo>
                      <a:pt x="687" y="2"/>
                    </a:lnTo>
                    <a:lnTo>
                      <a:pt x="665" y="1"/>
                    </a:lnTo>
                    <a:lnTo>
                      <a:pt x="643" y="0"/>
                    </a:lnTo>
                    <a:lnTo>
                      <a:pt x="621" y="0"/>
                    </a:lnTo>
                    <a:lnTo>
                      <a:pt x="598" y="0"/>
                    </a:lnTo>
                    <a:lnTo>
                      <a:pt x="575" y="1"/>
                    </a:lnTo>
                    <a:lnTo>
                      <a:pt x="552" y="3"/>
                    </a:lnTo>
                    <a:lnTo>
                      <a:pt x="530" y="4"/>
                    </a:lnTo>
                    <a:lnTo>
                      <a:pt x="507" y="8"/>
                    </a:lnTo>
                    <a:lnTo>
                      <a:pt x="485" y="11"/>
                    </a:lnTo>
                    <a:lnTo>
                      <a:pt x="463" y="15"/>
                    </a:lnTo>
                    <a:lnTo>
                      <a:pt x="442" y="19"/>
                    </a:lnTo>
                    <a:lnTo>
                      <a:pt x="399" y="30"/>
                    </a:lnTo>
                    <a:lnTo>
                      <a:pt x="357" y="42"/>
                    </a:lnTo>
                    <a:lnTo>
                      <a:pt x="316" y="57"/>
                    </a:lnTo>
                    <a:lnTo>
                      <a:pt x="277" y="73"/>
                    </a:lnTo>
                    <a:lnTo>
                      <a:pt x="237" y="93"/>
                    </a:lnTo>
                    <a:lnTo>
                      <a:pt x="199" y="114"/>
                    </a:lnTo>
                    <a:lnTo>
                      <a:pt x="162" y="136"/>
                    </a:lnTo>
                    <a:lnTo>
                      <a:pt x="128" y="160"/>
                    </a:lnTo>
                    <a:lnTo>
                      <a:pt x="93" y="186"/>
                    </a:lnTo>
                    <a:lnTo>
                      <a:pt x="61" y="214"/>
                    </a:lnTo>
                    <a:lnTo>
                      <a:pt x="30" y="243"/>
                    </a:lnTo>
                    <a:lnTo>
                      <a:pt x="0" y="274"/>
                    </a:lnTo>
                    <a:lnTo>
                      <a:pt x="7" y="301"/>
                    </a:lnTo>
                    <a:lnTo>
                      <a:pt x="36" y="269"/>
                    </a:lnTo>
                    <a:lnTo>
                      <a:pt x="67" y="239"/>
                    </a:lnTo>
                    <a:lnTo>
                      <a:pt x="99" y="212"/>
                    </a:lnTo>
                    <a:lnTo>
                      <a:pt x="132" y="185"/>
                    </a:lnTo>
                    <a:lnTo>
                      <a:pt x="167" y="161"/>
                    </a:lnTo>
                    <a:lnTo>
                      <a:pt x="203" y="138"/>
                    </a:lnTo>
                    <a:lnTo>
                      <a:pt x="240" y="117"/>
                    </a:lnTo>
                    <a:lnTo>
                      <a:pt x="279" y="98"/>
                    </a:lnTo>
                    <a:lnTo>
                      <a:pt x="318" y="80"/>
                    </a:lnTo>
                    <a:lnTo>
                      <a:pt x="358" y="65"/>
                    </a:lnTo>
                    <a:lnTo>
                      <a:pt x="400" y="53"/>
                    </a:lnTo>
                    <a:lnTo>
                      <a:pt x="443" y="42"/>
                    </a:lnTo>
                    <a:lnTo>
                      <a:pt x="465" y="38"/>
                    </a:lnTo>
                    <a:lnTo>
                      <a:pt x="487" y="33"/>
                    </a:lnTo>
                    <a:lnTo>
                      <a:pt x="508" y="31"/>
                    </a:lnTo>
                    <a:lnTo>
                      <a:pt x="530" y="27"/>
                    </a:lnTo>
                    <a:lnTo>
                      <a:pt x="553" y="25"/>
                    </a:lnTo>
                    <a:lnTo>
                      <a:pt x="575" y="24"/>
                    </a:lnTo>
                    <a:lnTo>
                      <a:pt x="598" y="23"/>
                    </a:lnTo>
                    <a:lnTo>
                      <a:pt x="621" y="23"/>
                    </a:lnTo>
                    <a:lnTo>
                      <a:pt x="647" y="23"/>
                    </a:lnTo>
                    <a:lnTo>
                      <a:pt x="671" y="24"/>
                    </a:lnTo>
                    <a:lnTo>
                      <a:pt x="696" y="26"/>
                    </a:lnTo>
                    <a:lnTo>
                      <a:pt x="721" y="28"/>
                    </a:lnTo>
                    <a:lnTo>
                      <a:pt x="746" y="32"/>
                    </a:lnTo>
                    <a:lnTo>
                      <a:pt x="770" y="37"/>
                    </a:lnTo>
                    <a:lnTo>
                      <a:pt x="793" y="41"/>
                    </a:lnTo>
                    <a:lnTo>
                      <a:pt x="818" y="47"/>
                    </a:lnTo>
                    <a:lnTo>
                      <a:pt x="803" y="31"/>
                    </a:lnTo>
                    <a:lnTo>
                      <a:pt x="796" y="18"/>
                    </a:lnTo>
                    <a:close/>
                    <a:moveTo>
                      <a:pt x="650" y="1679"/>
                    </a:moveTo>
                    <a:lnTo>
                      <a:pt x="683" y="1678"/>
                    </a:lnTo>
                    <a:lnTo>
                      <a:pt x="715" y="1675"/>
                    </a:lnTo>
                    <a:lnTo>
                      <a:pt x="747" y="1670"/>
                    </a:lnTo>
                    <a:lnTo>
                      <a:pt x="778" y="1665"/>
                    </a:lnTo>
                    <a:lnTo>
                      <a:pt x="809" y="1658"/>
                    </a:lnTo>
                    <a:lnTo>
                      <a:pt x="839" y="1652"/>
                    </a:lnTo>
                    <a:lnTo>
                      <a:pt x="869" y="1642"/>
                    </a:lnTo>
                    <a:lnTo>
                      <a:pt x="899" y="1633"/>
                    </a:lnTo>
                    <a:lnTo>
                      <a:pt x="928" y="1622"/>
                    </a:lnTo>
                    <a:lnTo>
                      <a:pt x="957" y="1610"/>
                    </a:lnTo>
                    <a:lnTo>
                      <a:pt x="985" y="1597"/>
                    </a:lnTo>
                    <a:lnTo>
                      <a:pt x="1012" y="1584"/>
                    </a:lnTo>
                    <a:lnTo>
                      <a:pt x="1040" y="1569"/>
                    </a:lnTo>
                    <a:lnTo>
                      <a:pt x="1066" y="1552"/>
                    </a:lnTo>
                    <a:lnTo>
                      <a:pt x="1092" y="1536"/>
                    </a:lnTo>
                    <a:lnTo>
                      <a:pt x="1116" y="1518"/>
                    </a:lnTo>
                    <a:lnTo>
                      <a:pt x="1140" y="1499"/>
                    </a:lnTo>
                    <a:lnTo>
                      <a:pt x="1165" y="1481"/>
                    </a:lnTo>
                    <a:lnTo>
                      <a:pt x="1188" y="1460"/>
                    </a:lnTo>
                    <a:lnTo>
                      <a:pt x="1210" y="1439"/>
                    </a:lnTo>
                    <a:lnTo>
                      <a:pt x="1230" y="1418"/>
                    </a:lnTo>
                    <a:lnTo>
                      <a:pt x="1251" y="1396"/>
                    </a:lnTo>
                    <a:lnTo>
                      <a:pt x="1272" y="1373"/>
                    </a:lnTo>
                    <a:lnTo>
                      <a:pt x="1290" y="1348"/>
                    </a:lnTo>
                    <a:lnTo>
                      <a:pt x="1309" y="1323"/>
                    </a:lnTo>
                    <a:lnTo>
                      <a:pt x="1326" y="1298"/>
                    </a:lnTo>
                    <a:lnTo>
                      <a:pt x="1342" y="1272"/>
                    </a:lnTo>
                    <a:lnTo>
                      <a:pt x="1357" y="1246"/>
                    </a:lnTo>
                    <a:lnTo>
                      <a:pt x="1371" y="1218"/>
                    </a:lnTo>
                    <a:lnTo>
                      <a:pt x="1385" y="1190"/>
                    </a:lnTo>
                    <a:lnTo>
                      <a:pt x="1398" y="1163"/>
                    </a:lnTo>
                    <a:lnTo>
                      <a:pt x="1409" y="1133"/>
                    </a:lnTo>
                    <a:lnTo>
                      <a:pt x="1395" y="1105"/>
                    </a:lnTo>
                    <a:lnTo>
                      <a:pt x="1385" y="1134"/>
                    </a:lnTo>
                    <a:lnTo>
                      <a:pt x="1372" y="1163"/>
                    </a:lnTo>
                    <a:lnTo>
                      <a:pt x="1360" y="1192"/>
                    </a:lnTo>
                    <a:lnTo>
                      <a:pt x="1346" y="1219"/>
                    </a:lnTo>
                    <a:lnTo>
                      <a:pt x="1331" y="1246"/>
                    </a:lnTo>
                    <a:lnTo>
                      <a:pt x="1316" y="1272"/>
                    </a:lnTo>
                    <a:lnTo>
                      <a:pt x="1299" y="1299"/>
                    </a:lnTo>
                    <a:lnTo>
                      <a:pt x="1281" y="1323"/>
                    </a:lnTo>
                    <a:lnTo>
                      <a:pt x="1262" y="1347"/>
                    </a:lnTo>
                    <a:lnTo>
                      <a:pt x="1242" y="1371"/>
                    </a:lnTo>
                    <a:lnTo>
                      <a:pt x="1222" y="1394"/>
                    </a:lnTo>
                    <a:lnTo>
                      <a:pt x="1200" y="1416"/>
                    </a:lnTo>
                    <a:lnTo>
                      <a:pt x="1179" y="1438"/>
                    </a:lnTo>
                    <a:lnTo>
                      <a:pt x="1155" y="1458"/>
                    </a:lnTo>
                    <a:lnTo>
                      <a:pt x="1132" y="1477"/>
                    </a:lnTo>
                    <a:lnTo>
                      <a:pt x="1108" y="1497"/>
                    </a:lnTo>
                    <a:lnTo>
                      <a:pt x="1083" y="1514"/>
                    </a:lnTo>
                    <a:lnTo>
                      <a:pt x="1057" y="1532"/>
                    </a:lnTo>
                    <a:lnTo>
                      <a:pt x="1031" y="1548"/>
                    </a:lnTo>
                    <a:lnTo>
                      <a:pt x="1003" y="1563"/>
                    </a:lnTo>
                    <a:lnTo>
                      <a:pt x="976" y="1577"/>
                    </a:lnTo>
                    <a:lnTo>
                      <a:pt x="948" y="1589"/>
                    </a:lnTo>
                    <a:lnTo>
                      <a:pt x="919" y="1601"/>
                    </a:lnTo>
                    <a:lnTo>
                      <a:pt x="890" y="1612"/>
                    </a:lnTo>
                    <a:lnTo>
                      <a:pt x="860" y="1622"/>
                    </a:lnTo>
                    <a:lnTo>
                      <a:pt x="829" y="1631"/>
                    </a:lnTo>
                    <a:lnTo>
                      <a:pt x="799" y="1638"/>
                    </a:lnTo>
                    <a:lnTo>
                      <a:pt x="767" y="1645"/>
                    </a:lnTo>
                    <a:lnTo>
                      <a:pt x="736" y="1649"/>
                    </a:lnTo>
                    <a:lnTo>
                      <a:pt x="703" y="1653"/>
                    </a:lnTo>
                    <a:lnTo>
                      <a:pt x="671" y="1656"/>
                    </a:lnTo>
                    <a:lnTo>
                      <a:pt x="639" y="1657"/>
                    </a:lnTo>
                    <a:lnTo>
                      <a:pt x="648" y="1675"/>
                    </a:lnTo>
                    <a:lnTo>
                      <a:pt x="650" y="167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29280" y="3719520"/>
                <a:ext cx="370080" cy="438120"/>
              </a:xfrm>
              <a:custGeom>
                <a:avLst/>
                <a:gdLst/>
                <a:ahLst/>
                <a:rect l="l" t="t" r="r" b="b"/>
                <a:pathLst>
                  <a:path w="1399" h="1657">
                    <a:moveTo>
                      <a:pt x="800" y="20"/>
                    </a:moveTo>
                    <a:lnTo>
                      <a:pt x="778" y="15"/>
                    </a:lnTo>
                    <a:lnTo>
                      <a:pt x="756" y="12"/>
                    </a:lnTo>
                    <a:lnTo>
                      <a:pt x="733" y="8"/>
                    </a:lnTo>
                    <a:lnTo>
                      <a:pt x="711" y="5"/>
                    </a:lnTo>
                    <a:lnTo>
                      <a:pt x="688" y="2"/>
                    </a:lnTo>
                    <a:lnTo>
                      <a:pt x="665" y="1"/>
                    </a:lnTo>
                    <a:lnTo>
                      <a:pt x="642" y="0"/>
                    </a:lnTo>
                    <a:lnTo>
                      <a:pt x="618" y="0"/>
                    </a:lnTo>
                    <a:lnTo>
                      <a:pt x="595" y="0"/>
                    </a:lnTo>
                    <a:lnTo>
                      <a:pt x="572" y="1"/>
                    </a:lnTo>
                    <a:lnTo>
                      <a:pt x="550" y="2"/>
                    </a:lnTo>
                    <a:lnTo>
                      <a:pt x="527" y="5"/>
                    </a:lnTo>
                    <a:lnTo>
                      <a:pt x="484" y="12"/>
                    </a:lnTo>
                    <a:lnTo>
                      <a:pt x="440" y="20"/>
                    </a:lnTo>
                    <a:lnTo>
                      <a:pt x="397" y="30"/>
                    </a:lnTo>
                    <a:lnTo>
                      <a:pt x="355" y="43"/>
                    </a:lnTo>
                    <a:lnTo>
                      <a:pt x="314" y="58"/>
                    </a:lnTo>
                    <a:lnTo>
                      <a:pt x="275" y="75"/>
                    </a:lnTo>
                    <a:lnTo>
                      <a:pt x="236" y="94"/>
                    </a:lnTo>
                    <a:lnTo>
                      <a:pt x="199" y="114"/>
                    </a:lnTo>
                    <a:lnTo>
                      <a:pt x="162" y="137"/>
                    </a:lnTo>
                    <a:lnTo>
                      <a:pt x="127" y="162"/>
                    </a:lnTo>
                    <a:lnTo>
                      <a:pt x="93" y="188"/>
                    </a:lnTo>
                    <a:lnTo>
                      <a:pt x="60" y="216"/>
                    </a:lnTo>
                    <a:lnTo>
                      <a:pt x="30" y="246"/>
                    </a:lnTo>
                    <a:lnTo>
                      <a:pt x="0" y="276"/>
                    </a:lnTo>
                    <a:lnTo>
                      <a:pt x="8" y="302"/>
                    </a:lnTo>
                    <a:lnTo>
                      <a:pt x="36" y="271"/>
                    </a:lnTo>
                    <a:lnTo>
                      <a:pt x="66" y="241"/>
                    </a:lnTo>
                    <a:lnTo>
                      <a:pt x="98" y="213"/>
                    </a:lnTo>
                    <a:lnTo>
                      <a:pt x="131" y="187"/>
                    </a:lnTo>
                    <a:lnTo>
                      <a:pt x="165" y="162"/>
                    </a:lnTo>
                    <a:lnTo>
                      <a:pt x="201" y="139"/>
                    </a:lnTo>
                    <a:lnTo>
                      <a:pt x="239" y="118"/>
                    </a:lnTo>
                    <a:lnTo>
                      <a:pt x="277" y="98"/>
                    </a:lnTo>
                    <a:lnTo>
                      <a:pt x="316" y="81"/>
                    </a:lnTo>
                    <a:lnTo>
                      <a:pt x="357" y="66"/>
                    </a:lnTo>
                    <a:lnTo>
                      <a:pt x="398" y="53"/>
                    </a:lnTo>
                    <a:lnTo>
                      <a:pt x="441" y="43"/>
                    </a:lnTo>
                    <a:lnTo>
                      <a:pt x="462" y="38"/>
                    </a:lnTo>
                    <a:lnTo>
                      <a:pt x="484" y="34"/>
                    </a:lnTo>
                    <a:lnTo>
                      <a:pt x="505" y="31"/>
                    </a:lnTo>
                    <a:lnTo>
                      <a:pt x="528" y="28"/>
                    </a:lnTo>
                    <a:lnTo>
                      <a:pt x="550" y="26"/>
                    </a:lnTo>
                    <a:lnTo>
                      <a:pt x="572" y="24"/>
                    </a:lnTo>
                    <a:lnTo>
                      <a:pt x="595" y="23"/>
                    </a:lnTo>
                    <a:lnTo>
                      <a:pt x="618" y="23"/>
                    </a:lnTo>
                    <a:lnTo>
                      <a:pt x="646" y="23"/>
                    </a:lnTo>
                    <a:lnTo>
                      <a:pt x="673" y="24"/>
                    </a:lnTo>
                    <a:lnTo>
                      <a:pt x="699" y="27"/>
                    </a:lnTo>
                    <a:lnTo>
                      <a:pt x="727" y="30"/>
                    </a:lnTo>
                    <a:lnTo>
                      <a:pt x="753" y="35"/>
                    </a:lnTo>
                    <a:lnTo>
                      <a:pt x="779" y="39"/>
                    </a:lnTo>
                    <a:lnTo>
                      <a:pt x="805" y="45"/>
                    </a:lnTo>
                    <a:lnTo>
                      <a:pt x="831" y="51"/>
                    </a:lnTo>
                    <a:lnTo>
                      <a:pt x="800" y="20"/>
                    </a:lnTo>
                    <a:close/>
                    <a:moveTo>
                      <a:pt x="642" y="1657"/>
                    </a:moveTo>
                    <a:lnTo>
                      <a:pt x="674" y="1656"/>
                    </a:lnTo>
                    <a:lnTo>
                      <a:pt x="706" y="1653"/>
                    </a:lnTo>
                    <a:lnTo>
                      <a:pt x="738" y="1649"/>
                    </a:lnTo>
                    <a:lnTo>
                      <a:pt x="770" y="1644"/>
                    </a:lnTo>
                    <a:lnTo>
                      <a:pt x="801" y="1637"/>
                    </a:lnTo>
                    <a:lnTo>
                      <a:pt x="832" y="1630"/>
                    </a:lnTo>
                    <a:lnTo>
                      <a:pt x="862" y="1621"/>
                    </a:lnTo>
                    <a:lnTo>
                      <a:pt x="892" y="1612"/>
                    </a:lnTo>
                    <a:lnTo>
                      <a:pt x="921" y="1600"/>
                    </a:lnTo>
                    <a:lnTo>
                      <a:pt x="949" y="1589"/>
                    </a:lnTo>
                    <a:lnTo>
                      <a:pt x="977" y="1576"/>
                    </a:lnTo>
                    <a:lnTo>
                      <a:pt x="1005" y="1562"/>
                    </a:lnTo>
                    <a:lnTo>
                      <a:pt x="1033" y="1547"/>
                    </a:lnTo>
                    <a:lnTo>
                      <a:pt x="1058" y="1531"/>
                    </a:lnTo>
                    <a:lnTo>
                      <a:pt x="1084" y="1515"/>
                    </a:lnTo>
                    <a:lnTo>
                      <a:pt x="1110" y="1496"/>
                    </a:lnTo>
                    <a:lnTo>
                      <a:pt x="1134" y="1478"/>
                    </a:lnTo>
                    <a:lnTo>
                      <a:pt x="1157" y="1458"/>
                    </a:lnTo>
                    <a:lnTo>
                      <a:pt x="1180" y="1439"/>
                    </a:lnTo>
                    <a:lnTo>
                      <a:pt x="1202" y="1417"/>
                    </a:lnTo>
                    <a:lnTo>
                      <a:pt x="1224" y="1395"/>
                    </a:lnTo>
                    <a:lnTo>
                      <a:pt x="1244" y="1372"/>
                    </a:lnTo>
                    <a:lnTo>
                      <a:pt x="1263" y="1349"/>
                    </a:lnTo>
                    <a:lnTo>
                      <a:pt x="1283" y="1325"/>
                    </a:lnTo>
                    <a:lnTo>
                      <a:pt x="1300" y="1300"/>
                    </a:lnTo>
                    <a:lnTo>
                      <a:pt x="1317" y="1274"/>
                    </a:lnTo>
                    <a:lnTo>
                      <a:pt x="1334" y="1249"/>
                    </a:lnTo>
                    <a:lnTo>
                      <a:pt x="1349" y="1221"/>
                    </a:lnTo>
                    <a:lnTo>
                      <a:pt x="1362" y="1194"/>
                    </a:lnTo>
                    <a:lnTo>
                      <a:pt x="1376" y="1166"/>
                    </a:lnTo>
                    <a:lnTo>
                      <a:pt x="1388" y="1137"/>
                    </a:lnTo>
                    <a:lnTo>
                      <a:pt x="1399" y="1108"/>
                    </a:lnTo>
                    <a:lnTo>
                      <a:pt x="1385" y="1079"/>
                    </a:lnTo>
                    <a:lnTo>
                      <a:pt x="1375" y="1108"/>
                    </a:lnTo>
                    <a:lnTo>
                      <a:pt x="1364" y="1138"/>
                    </a:lnTo>
                    <a:lnTo>
                      <a:pt x="1351" y="1166"/>
                    </a:lnTo>
                    <a:lnTo>
                      <a:pt x="1337" y="1194"/>
                    </a:lnTo>
                    <a:lnTo>
                      <a:pt x="1322" y="1222"/>
                    </a:lnTo>
                    <a:lnTo>
                      <a:pt x="1307" y="1249"/>
                    </a:lnTo>
                    <a:lnTo>
                      <a:pt x="1291" y="1274"/>
                    </a:lnTo>
                    <a:lnTo>
                      <a:pt x="1272" y="1299"/>
                    </a:lnTo>
                    <a:lnTo>
                      <a:pt x="1254" y="1325"/>
                    </a:lnTo>
                    <a:lnTo>
                      <a:pt x="1234" y="1348"/>
                    </a:lnTo>
                    <a:lnTo>
                      <a:pt x="1215" y="1372"/>
                    </a:lnTo>
                    <a:lnTo>
                      <a:pt x="1193" y="1394"/>
                    </a:lnTo>
                    <a:lnTo>
                      <a:pt x="1171" y="1416"/>
                    </a:lnTo>
                    <a:lnTo>
                      <a:pt x="1149" y="1435"/>
                    </a:lnTo>
                    <a:lnTo>
                      <a:pt x="1125" y="1456"/>
                    </a:lnTo>
                    <a:lnTo>
                      <a:pt x="1101" y="1475"/>
                    </a:lnTo>
                    <a:lnTo>
                      <a:pt x="1075" y="1493"/>
                    </a:lnTo>
                    <a:lnTo>
                      <a:pt x="1050" y="1509"/>
                    </a:lnTo>
                    <a:lnTo>
                      <a:pt x="1023" y="1525"/>
                    </a:lnTo>
                    <a:lnTo>
                      <a:pt x="997" y="1541"/>
                    </a:lnTo>
                    <a:lnTo>
                      <a:pt x="969" y="1555"/>
                    </a:lnTo>
                    <a:lnTo>
                      <a:pt x="940" y="1568"/>
                    </a:lnTo>
                    <a:lnTo>
                      <a:pt x="911" y="1579"/>
                    </a:lnTo>
                    <a:lnTo>
                      <a:pt x="881" y="1591"/>
                    </a:lnTo>
                    <a:lnTo>
                      <a:pt x="851" y="1600"/>
                    </a:lnTo>
                    <a:lnTo>
                      <a:pt x="821" y="1609"/>
                    </a:lnTo>
                    <a:lnTo>
                      <a:pt x="790" y="1616"/>
                    </a:lnTo>
                    <a:lnTo>
                      <a:pt x="759" y="1622"/>
                    </a:lnTo>
                    <a:lnTo>
                      <a:pt x="727" y="1628"/>
                    </a:lnTo>
                    <a:lnTo>
                      <a:pt x="695" y="1631"/>
                    </a:lnTo>
                    <a:lnTo>
                      <a:pt x="662" y="1634"/>
                    </a:lnTo>
                    <a:lnTo>
                      <a:pt x="630" y="1635"/>
                    </a:lnTo>
                    <a:lnTo>
                      <a:pt x="642" y="165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29280" y="3722760"/>
                <a:ext cx="368280" cy="431640"/>
              </a:xfrm>
              <a:custGeom>
                <a:avLst/>
                <a:gdLst/>
                <a:ahLst/>
                <a:rect l="l" t="t" r="r" b="b"/>
                <a:pathLst>
                  <a:path w="1388" h="1634">
                    <a:moveTo>
                      <a:pt x="811" y="24"/>
                    </a:moveTo>
                    <a:lnTo>
                      <a:pt x="786" y="18"/>
                    </a:lnTo>
                    <a:lnTo>
                      <a:pt x="763" y="14"/>
                    </a:lnTo>
                    <a:lnTo>
                      <a:pt x="739" y="9"/>
                    </a:lnTo>
                    <a:lnTo>
                      <a:pt x="714" y="5"/>
                    </a:lnTo>
                    <a:lnTo>
                      <a:pt x="689" y="3"/>
                    </a:lnTo>
                    <a:lnTo>
                      <a:pt x="664" y="1"/>
                    </a:lnTo>
                    <a:lnTo>
                      <a:pt x="640" y="0"/>
                    </a:lnTo>
                    <a:lnTo>
                      <a:pt x="614" y="0"/>
                    </a:lnTo>
                    <a:lnTo>
                      <a:pt x="591" y="0"/>
                    </a:lnTo>
                    <a:lnTo>
                      <a:pt x="568" y="1"/>
                    </a:lnTo>
                    <a:lnTo>
                      <a:pt x="546" y="2"/>
                    </a:lnTo>
                    <a:lnTo>
                      <a:pt x="523" y="4"/>
                    </a:lnTo>
                    <a:lnTo>
                      <a:pt x="501" y="8"/>
                    </a:lnTo>
                    <a:lnTo>
                      <a:pt x="480" y="10"/>
                    </a:lnTo>
                    <a:lnTo>
                      <a:pt x="458" y="15"/>
                    </a:lnTo>
                    <a:lnTo>
                      <a:pt x="436" y="19"/>
                    </a:lnTo>
                    <a:lnTo>
                      <a:pt x="393" y="30"/>
                    </a:lnTo>
                    <a:lnTo>
                      <a:pt x="351" y="42"/>
                    </a:lnTo>
                    <a:lnTo>
                      <a:pt x="311" y="57"/>
                    </a:lnTo>
                    <a:lnTo>
                      <a:pt x="272" y="75"/>
                    </a:lnTo>
                    <a:lnTo>
                      <a:pt x="233" y="94"/>
                    </a:lnTo>
                    <a:lnTo>
                      <a:pt x="196" y="115"/>
                    </a:lnTo>
                    <a:lnTo>
                      <a:pt x="160" y="138"/>
                    </a:lnTo>
                    <a:lnTo>
                      <a:pt x="125" y="162"/>
                    </a:lnTo>
                    <a:lnTo>
                      <a:pt x="92" y="189"/>
                    </a:lnTo>
                    <a:lnTo>
                      <a:pt x="60" y="216"/>
                    </a:lnTo>
                    <a:lnTo>
                      <a:pt x="29" y="246"/>
                    </a:lnTo>
                    <a:lnTo>
                      <a:pt x="0" y="278"/>
                    </a:lnTo>
                    <a:lnTo>
                      <a:pt x="8" y="304"/>
                    </a:lnTo>
                    <a:lnTo>
                      <a:pt x="35" y="273"/>
                    </a:lnTo>
                    <a:lnTo>
                      <a:pt x="65" y="243"/>
                    </a:lnTo>
                    <a:lnTo>
                      <a:pt x="97" y="214"/>
                    </a:lnTo>
                    <a:lnTo>
                      <a:pt x="129" y="188"/>
                    </a:lnTo>
                    <a:lnTo>
                      <a:pt x="163" y="162"/>
                    </a:lnTo>
                    <a:lnTo>
                      <a:pt x="199" y="139"/>
                    </a:lnTo>
                    <a:lnTo>
                      <a:pt x="236" y="118"/>
                    </a:lnTo>
                    <a:lnTo>
                      <a:pt x="274" y="99"/>
                    </a:lnTo>
                    <a:lnTo>
                      <a:pt x="294" y="90"/>
                    </a:lnTo>
                    <a:lnTo>
                      <a:pt x="313" y="82"/>
                    </a:lnTo>
                    <a:lnTo>
                      <a:pt x="333" y="73"/>
                    </a:lnTo>
                    <a:lnTo>
                      <a:pt x="354" y="67"/>
                    </a:lnTo>
                    <a:lnTo>
                      <a:pt x="395" y="53"/>
                    </a:lnTo>
                    <a:lnTo>
                      <a:pt x="437" y="42"/>
                    </a:lnTo>
                    <a:lnTo>
                      <a:pt x="459" y="38"/>
                    </a:lnTo>
                    <a:lnTo>
                      <a:pt x="481" y="33"/>
                    </a:lnTo>
                    <a:lnTo>
                      <a:pt x="503" y="30"/>
                    </a:lnTo>
                    <a:lnTo>
                      <a:pt x="524" y="27"/>
                    </a:lnTo>
                    <a:lnTo>
                      <a:pt x="546" y="25"/>
                    </a:lnTo>
                    <a:lnTo>
                      <a:pt x="568" y="24"/>
                    </a:lnTo>
                    <a:lnTo>
                      <a:pt x="591" y="23"/>
                    </a:lnTo>
                    <a:lnTo>
                      <a:pt x="614" y="23"/>
                    </a:lnTo>
                    <a:lnTo>
                      <a:pt x="643" y="23"/>
                    </a:lnTo>
                    <a:lnTo>
                      <a:pt x="672" y="24"/>
                    </a:lnTo>
                    <a:lnTo>
                      <a:pt x="700" y="27"/>
                    </a:lnTo>
                    <a:lnTo>
                      <a:pt x="727" y="31"/>
                    </a:lnTo>
                    <a:lnTo>
                      <a:pt x="755" y="35"/>
                    </a:lnTo>
                    <a:lnTo>
                      <a:pt x="783" y="40"/>
                    </a:lnTo>
                    <a:lnTo>
                      <a:pt x="811" y="47"/>
                    </a:lnTo>
                    <a:lnTo>
                      <a:pt x="837" y="54"/>
                    </a:lnTo>
                    <a:lnTo>
                      <a:pt x="832" y="45"/>
                    </a:lnTo>
                    <a:lnTo>
                      <a:pt x="811" y="24"/>
                    </a:lnTo>
                    <a:close/>
                    <a:moveTo>
                      <a:pt x="632" y="1634"/>
                    </a:moveTo>
                    <a:lnTo>
                      <a:pt x="664" y="1633"/>
                    </a:lnTo>
                    <a:lnTo>
                      <a:pt x="696" y="1630"/>
                    </a:lnTo>
                    <a:lnTo>
                      <a:pt x="729" y="1626"/>
                    </a:lnTo>
                    <a:lnTo>
                      <a:pt x="760" y="1622"/>
                    </a:lnTo>
                    <a:lnTo>
                      <a:pt x="792" y="1615"/>
                    </a:lnTo>
                    <a:lnTo>
                      <a:pt x="822" y="1608"/>
                    </a:lnTo>
                    <a:lnTo>
                      <a:pt x="853" y="1599"/>
                    </a:lnTo>
                    <a:lnTo>
                      <a:pt x="883" y="1589"/>
                    </a:lnTo>
                    <a:lnTo>
                      <a:pt x="912" y="1578"/>
                    </a:lnTo>
                    <a:lnTo>
                      <a:pt x="941" y="1566"/>
                    </a:lnTo>
                    <a:lnTo>
                      <a:pt x="969" y="1554"/>
                    </a:lnTo>
                    <a:lnTo>
                      <a:pt x="996" y="1540"/>
                    </a:lnTo>
                    <a:lnTo>
                      <a:pt x="1024" y="1525"/>
                    </a:lnTo>
                    <a:lnTo>
                      <a:pt x="1050" y="1509"/>
                    </a:lnTo>
                    <a:lnTo>
                      <a:pt x="1076" y="1491"/>
                    </a:lnTo>
                    <a:lnTo>
                      <a:pt x="1101" y="1474"/>
                    </a:lnTo>
                    <a:lnTo>
                      <a:pt x="1125" y="1454"/>
                    </a:lnTo>
                    <a:lnTo>
                      <a:pt x="1148" y="1435"/>
                    </a:lnTo>
                    <a:lnTo>
                      <a:pt x="1172" y="1415"/>
                    </a:lnTo>
                    <a:lnTo>
                      <a:pt x="1193" y="1393"/>
                    </a:lnTo>
                    <a:lnTo>
                      <a:pt x="1215" y="1371"/>
                    </a:lnTo>
                    <a:lnTo>
                      <a:pt x="1235" y="1348"/>
                    </a:lnTo>
                    <a:lnTo>
                      <a:pt x="1255" y="1324"/>
                    </a:lnTo>
                    <a:lnTo>
                      <a:pt x="1274" y="1300"/>
                    </a:lnTo>
                    <a:lnTo>
                      <a:pt x="1292" y="1276"/>
                    </a:lnTo>
                    <a:lnTo>
                      <a:pt x="1309" y="1249"/>
                    </a:lnTo>
                    <a:lnTo>
                      <a:pt x="1324" y="1223"/>
                    </a:lnTo>
                    <a:lnTo>
                      <a:pt x="1339" y="1196"/>
                    </a:lnTo>
                    <a:lnTo>
                      <a:pt x="1353" y="1169"/>
                    </a:lnTo>
                    <a:lnTo>
                      <a:pt x="1365" y="1140"/>
                    </a:lnTo>
                    <a:lnTo>
                      <a:pt x="1378" y="1111"/>
                    </a:lnTo>
                    <a:lnTo>
                      <a:pt x="1388" y="1082"/>
                    </a:lnTo>
                    <a:lnTo>
                      <a:pt x="1375" y="1052"/>
                    </a:lnTo>
                    <a:lnTo>
                      <a:pt x="1364" y="1082"/>
                    </a:lnTo>
                    <a:lnTo>
                      <a:pt x="1353" y="1111"/>
                    </a:lnTo>
                    <a:lnTo>
                      <a:pt x="1341" y="1140"/>
                    </a:lnTo>
                    <a:lnTo>
                      <a:pt x="1327" y="1169"/>
                    </a:lnTo>
                    <a:lnTo>
                      <a:pt x="1313" y="1196"/>
                    </a:lnTo>
                    <a:lnTo>
                      <a:pt x="1297" y="1223"/>
                    </a:lnTo>
                    <a:lnTo>
                      <a:pt x="1281" y="1249"/>
                    </a:lnTo>
                    <a:lnTo>
                      <a:pt x="1264" y="1275"/>
                    </a:lnTo>
                    <a:lnTo>
                      <a:pt x="1245" y="1300"/>
                    </a:lnTo>
                    <a:lnTo>
                      <a:pt x="1226" y="1324"/>
                    </a:lnTo>
                    <a:lnTo>
                      <a:pt x="1206" y="1347"/>
                    </a:lnTo>
                    <a:lnTo>
                      <a:pt x="1185" y="1370"/>
                    </a:lnTo>
                    <a:lnTo>
                      <a:pt x="1163" y="1391"/>
                    </a:lnTo>
                    <a:lnTo>
                      <a:pt x="1140" y="1413"/>
                    </a:lnTo>
                    <a:lnTo>
                      <a:pt x="1116" y="1433"/>
                    </a:lnTo>
                    <a:lnTo>
                      <a:pt x="1092" y="1451"/>
                    </a:lnTo>
                    <a:lnTo>
                      <a:pt x="1068" y="1469"/>
                    </a:lnTo>
                    <a:lnTo>
                      <a:pt x="1041" y="1487"/>
                    </a:lnTo>
                    <a:lnTo>
                      <a:pt x="1015" y="1503"/>
                    </a:lnTo>
                    <a:lnTo>
                      <a:pt x="988" y="1518"/>
                    </a:lnTo>
                    <a:lnTo>
                      <a:pt x="960" y="1533"/>
                    </a:lnTo>
                    <a:lnTo>
                      <a:pt x="932" y="1546"/>
                    </a:lnTo>
                    <a:lnTo>
                      <a:pt x="903" y="1557"/>
                    </a:lnTo>
                    <a:lnTo>
                      <a:pt x="873" y="1569"/>
                    </a:lnTo>
                    <a:lnTo>
                      <a:pt x="843" y="1578"/>
                    </a:lnTo>
                    <a:lnTo>
                      <a:pt x="813" y="1586"/>
                    </a:lnTo>
                    <a:lnTo>
                      <a:pt x="782" y="1594"/>
                    </a:lnTo>
                    <a:lnTo>
                      <a:pt x="749" y="1600"/>
                    </a:lnTo>
                    <a:lnTo>
                      <a:pt x="718" y="1604"/>
                    </a:lnTo>
                    <a:lnTo>
                      <a:pt x="686" y="1608"/>
                    </a:lnTo>
                    <a:lnTo>
                      <a:pt x="653" y="1610"/>
                    </a:lnTo>
                    <a:lnTo>
                      <a:pt x="620" y="1611"/>
                    </a:lnTo>
                    <a:lnTo>
                      <a:pt x="632" y="1634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31080" y="3726000"/>
                <a:ext cx="363240" cy="425160"/>
              </a:xfrm>
              <a:custGeom>
                <a:avLst/>
                <a:gdLst/>
                <a:ahLst/>
                <a:rect l="l" t="t" r="r" b="b"/>
                <a:pathLst>
                  <a:path w="1377" h="1612">
                    <a:moveTo>
                      <a:pt x="823" y="28"/>
                    </a:moveTo>
                    <a:lnTo>
                      <a:pt x="797" y="22"/>
                    </a:lnTo>
                    <a:lnTo>
                      <a:pt x="771" y="16"/>
                    </a:lnTo>
                    <a:lnTo>
                      <a:pt x="745" y="12"/>
                    </a:lnTo>
                    <a:lnTo>
                      <a:pt x="719" y="7"/>
                    </a:lnTo>
                    <a:lnTo>
                      <a:pt x="691" y="4"/>
                    </a:lnTo>
                    <a:lnTo>
                      <a:pt x="665" y="1"/>
                    </a:lnTo>
                    <a:lnTo>
                      <a:pt x="638" y="0"/>
                    </a:lnTo>
                    <a:lnTo>
                      <a:pt x="610" y="0"/>
                    </a:lnTo>
                    <a:lnTo>
                      <a:pt x="587" y="0"/>
                    </a:lnTo>
                    <a:lnTo>
                      <a:pt x="564" y="1"/>
                    </a:lnTo>
                    <a:lnTo>
                      <a:pt x="542" y="3"/>
                    </a:lnTo>
                    <a:lnTo>
                      <a:pt x="520" y="5"/>
                    </a:lnTo>
                    <a:lnTo>
                      <a:pt x="497" y="8"/>
                    </a:lnTo>
                    <a:lnTo>
                      <a:pt x="476" y="11"/>
                    </a:lnTo>
                    <a:lnTo>
                      <a:pt x="454" y="15"/>
                    </a:lnTo>
                    <a:lnTo>
                      <a:pt x="433" y="20"/>
                    </a:lnTo>
                    <a:lnTo>
                      <a:pt x="390" y="30"/>
                    </a:lnTo>
                    <a:lnTo>
                      <a:pt x="349" y="43"/>
                    </a:lnTo>
                    <a:lnTo>
                      <a:pt x="308" y="58"/>
                    </a:lnTo>
                    <a:lnTo>
                      <a:pt x="269" y="75"/>
                    </a:lnTo>
                    <a:lnTo>
                      <a:pt x="231" y="95"/>
                    </a:lnTo>
                    <a:lnTo>
                      <a:pt x="193" y="116"/>
                    </a:lnTo>
                    <a:lnTo>
                      <a:pt x="157" y="139"/>
                    </a:lnTo>
                    <a:lnTo>
                      <a:pt x="123" y="164"/>
                    </a:lnTo>
                    <a:lnTo>
                      <a:pt x="90" y="190"/>
                    </a:lnTo>
                    <a:lnTo>
                      <a:pt x="58" y="218"/>
                    </a:lnTo>
                    <a:lnTo>
                      <a:pt x="28" y="248"/>
                    </a:lnTo>
                    <a:lnTo>
                      <a:pt x="0" y="279"/>
                    </a:lnTo>
                    <a:lnTo>
                      <a:pt x="7" y="307"/>
                    </a:lnTo>
                    <a:lnTo>
                      <a:pt x="35" y="275"/>
                    </a:lnTo>
                    <a:lnTo>
                      <a:pt x="64" y="245"/>
                    </a:lnTo>
                    <a:lnTo>
                      <a:pt x="95" y="216"/>
                    </a:lnTo>
                    <a:lnTo>
                      <a:pt x="127" y="189"/>
                    </a:lnTo>
                    <a:lnTo>
                      <a:pt x="162" y="164"/>
                    </a:lnTo>
                    <a:lnTo>
                      <a:pt x="196" y="141"/>
                    </a:lnTo>
                    <a:lnTo>
                      <a:pt x="215" y="129"/>
                    </a:lnTo>
                    <a:lnTo>
                      <a:pt x="233" y="119"/>
                    </a:lnTo>
                    <a:lnTo>
                      <a:pt x="252" y="109"/>
                    </a:lnTo>
                    <a:lnTo>
                      <a:pt x="271" y="99"/>
                    </a:lnTo>
                    <a:lnTo>
                      <a:pt x="311" y="82"/>
                    </a:lnTo>
                    <a:lnTo>
                      <a:pt x="350" y="67"/>
                    </a:lnTo>
                    <a:lnTo>
                      <a:pt x="391" y="53"/>
                    </a:lnTo>
                    <a:lnTo>
                      <a:pt x="434" y="43"/>
                    </a:lnTo>
                    <a:lnTo>
                      <a:pt x="455" y="38"/>
                    </a:lnTo>
                    <a:lnTo>
                      <a:pt x="477" y="34"/>
                    </a:lnTo>
                    <a:lnTo>
                      <a:pt x="499" y="30"/>
                    </a:lnTo>
                    <a:lnTo>
                      <a:pt x="520" y="28"/>
                    </a:lnTo>
                    <a:lnTo>
                      <a:pt x="542" y="26"/>
                    </a:lnTo>
                    <a:lnTo>
                      <a:pt x="565" y="24"/>
                    </a:lnTo>
                    <a:lnTo>
                      <a:pt x="587" y="23"/>
                    </a:lnTo>
                    <a:lnTo>
                      <a:pt x="610" y="22"/>
                    </a:lnTo>
                    <a:lnTo>
                      <a:pt x="640" y="23"/>
                    </a:lnTo>
                    <a:lnTo>
                      <a:pt x="669" y="24"/>
                    </a:lnTo>
                    <a:lnTo>
                      <a:pt x="699" y="28"/>
                    </a:lnTo>
                    <a:lnTo>
                      <a:pt x="728" y="31"/>
                    </a:lnTo>
                    <a:lnTo>
                      <a:pt x="757" y="36"/>
                    </a:lnTo>
                    <a:lnTo>
                      <a:pt x="785" y="42"/>
                    </a:lnTo>
                    <a:lnTo>
                      <a:pt x="812" y="49"/>
                    </a:lnTo>
                    <a:lnTo>
                      <a:pt x="840" y="57"/>
                    </a:lnTo>
                    <a:lnTo>
                      <a:pt x="828" y="34"/>
                    </a:lnTo>
                    <a:lnTo>
                      <a:pt x="823" y="28"/>
                    </a:lnTo>
                    <a:close/>
                    <a:moveTo>
                      <a:pt x="622" y="1612"/>
                    </a:moveTo>
                    <a:lnTo>
                      <a:pt x="654" y="1611"/>
                    </a:lnTo>
                    <a:lnTo>
                      <a:pt x="687" y="1608"/>
                    </a:lnTo>
                    <a:lnTo>
                      <a:pt x="719" y="1605"/>
                    </a:lnTo>
                    <a:lnTo>
                      <a:pt x="751" y="1599"/>
                    </a:lnTo>
                    <a:lnTo>
                      <a:pt x="782" y="1593"/>
                    </a:lnTo>
                    <a:lnTo>
                      <a:pt x="813" y="1586"/>
                    </a:lnTo>
                    <a:lnTo>
                      <a:pt x="843" y="1577"/>
                    </a:lnTo>
                    <a:lnTo>
                      <a:pt x="873" y="1568"/>
                    </a:lnTo>
                    <a:lnTo>
                      <a:pt x="903" y="1556"/>
                    </a:lnTo>
                    <a:lnTo>
                      <a:pt x="932" y="1545"/>
                    </a:lnTo>
                    <a:lnTo>
                      <a:pt x="961" y="1532"/>
                    </a:lnTo>
                    <a:lnTo>
                      <a:pt x="989" y="1518"/>
                    </a:lnTo>
                    <a:lnTo>
                      <a:pt x="1015" y="1502"/>
                    </a:lnTo>
                    <a:lnTo>
                      <a:pt x="1042" y="1486"/>
                    </a:lnTo>
                    <a:lnTo>
                      <a:pt x="1067" y="1470"/>
                    </a:lnTo>
                    <a:lnTo>
                      <a:pt x="1093" y="1452"/>
                    </a:lnTo>
                    <a:lnTo>
                      <a:pt x="1117" y="1433"/>
                    </a:lnTo>
                    <a:lnTo>
                      <a:pt x="1141" y="1412"/>
                    </a:lnTo>
                    <a:lnTo>
                      <a:pt x="1163" y="1393"/>
                    </a:lnTo>
                    <a:lnTo>
                      <a:pt x="1185" y="1371"/>
                    </a:lnTo>
                    <a:lnTo>
                      <a:pt x="1207" y="1349"/>
                    </a:lnTo>
                    <a:lnTo>
                      <a:pt x="1226" y="1325"/>
                    </a:lnTo>
                    <a:lnTo>
                      <a:pt x="1246" y="1302"/>
                    </a:lnTo>
                    <a:lnTo>
                      <a:pt x="1264" y="1276"/>
                    </a:lnTo>
                    <a:lnTo>
                      <a:pt x="1283" y="1251"/>
                    </a:lnTo>
                    <a:lnTo>
                      <a:pt x="1299" y="1226"/>
                    </a:lnTo>
                    <a:lnTo>
                      <a:pt x="1314" y="1199"/>
                    </a:lnTo>
                    <a:lnTo>
                      <a:pt x="1329" y="1171"/>
                    </a:lnTo>
                    <a:lnTo>
                      <a:pt x="1343" y="1143"/>
                    </a:lnTo>
                    <a:lnTo>
                      <a:pt x="1356" y="1115"/>
                    </a:lnTo>
                    <a:lnTo>
                      <a:pt x="1367" y="1085"/>
                    </a:lnTo>
                    <a:lnTo>
                      <a:pt x="1377" y="1056"/>
                    </a:lnTo>
                    <a:lnTo>
                      <a:pt x="1365" y="1031"/>
                    </a:lnTo>
                    <a:lnTo>
                      <a:pt x="1362" y="1026"/>
                    </a:lnTo>
                    <a:lnTo>
                      <a:pt x="1353" y="1056"/>
                    </a:lnTo>
                    <a:lnTo>
                      <a:pt x="1342" y="1086"/>
                    </a:lnTo>
                    <a:lnTo>
                      <a:pt x="1330" y="1116"/>
                    </a:lnTo>
                    <a:lnTo>
                      <a:pt x="1317" y="1144"/>
                    </a:lnTo>
                    <a:lnTo>
                      <a:pt x="1304" y="1171"/>
                    </a:lnTo>
                    <a:lnTo>
                      <a:pt x="1288" y="1199"/>
                    </a:lnTo>
                    <a:lnTo>
                      <a:pt x="1271" y="1226"/>
                    </a:lnTo>
                    <a:lnTo>
                      <a:pt x="1255" y="1252"/>
                    </a:lnTo>
                    <a:lnTo>
                      <a:pt x="1237" y="1276"/>
                    </a:lnTo>
                    <a:lnTo>
                      <a:pt x="1217" y="1302"/>
                    </a:lnTo>
                    <a:lnTo>
                      <a:pt x="1198" y="1325"/>
                    </a:lnTo>
                    <a:lnTo>
                      <a:pt x="1177" y="1348"/>
                    </a:lnTo>
                    <a:lnTo>
                      <a:pt x="1155" y="1370"/>
                    </a:lnTo>
                    <a:lnTo>
                      <a:pt x="1132" y="1390"/>
                    </a:lnTo>
                    <a:lnTo>
                      <a:pt x="1109" y="1410"/>
                    </a:lnTo>
                    <a:lnTo>
                      <a:pt x="1085" y="1430"/>
                    </a:lnTo>
                    <a:lnTo>
                      <a:pt x="1059" y="1448"/>
                    </a:lnTo>
                    <a:lnTo>
                      <a:pt x="1034" y="1465"/>
                    </a:lnTo>
                    <a:lnTo>
                      <a:pt x="1006" y="1482"/>
                    </a:lnTo>
                    <a:lnTo>
                      <a:pt x="980" y="1497"/>
                    </a:lnTo>
                    <a:lnTo>
                      <a:pt x="952" y="1511"/>
                    </a:lnTo>
                    <a:lnTo>
                      <a:pt x="923" y="1524"/>
                    </a:lnTo>
                    <a:lnTo>
                      <a:pt x="894" y="1536"/>
                    </a:lnTo>
                    <a:lnTo>
                      <a:pt x="864" y="1547"/>
                    </a:lnTo>
                    <a:lnTo>
                      <a:pt x="834" y="1556"/>
                    </a:lnTo>
                    <a:lnTo>
                      <a:pt x="803" y="1565"/>
                    </a:lnTo>
                    <a:lnTo>
                      <a:pt x="772" y="1573"/>
                    </a:lnTo>
                    <a:lnTo>
                      <a:pt x="741" y="1578"/>
                    </a:lnTo>
                    <a:lnTo>
                      <a:pt x="708" y="1583"/>
                    </a:lnTo>
                    <a:lnTo>
                      <a:pt x="676" y="1586"/>
                    </a:lnTo>
                    <a:lnTo>
                      <a:pt x="644" y="1589"/>
                    </a:lnTo>
                    <a:lnTo>
                      <a:pt x="610" y="1589"/>
                    </a:lnTo>
                    <a:lnTo>
                      <a:pt x="610" y="1589"/>
                    </a:lnTo>
                    <a:lnTo>
                      <a:pt x="622" y="161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31080" y="3728880"/>
                <a:ext cx="361800" cy="419400"/>
              </a:xfrm>
              <a:custGeom>
                <a:avLst/>
                <a:gdLst/>
                <a:ahLst/>
                <a:rect l="l" t="t" r="r" b="b"/>
                <a:pathLst>
                  <a:path w="1367" h="1588">
                    <a:moveTo>
                      <a:pt x="829" y="31"/>
                    </a:moveTo>
                    <a:lnTo>
                      <a:pt x="803" y="24"/>
                    </a:lnTo>
                    <a:lnTo>
                      <a:pt x="775" y="17"/>
                    </a:lnTo>
                    <a:lnTo>
                      <a:pt x="747" y="12"/>
                    </a:lnTo>
                    <a:lnTo>
                      <a:pt x="719" y="8"/>
                    </a:lnTo>
                    <a:lnTo>
                      <a:pt x="692" y="4"/>
                    </a:lnTo>
                    <a:lnTo>
                      <a:pt x="664" y="1"/>
                    </a:lnTo>
                    <a:lnTo>
                      <a:pt x="635" y="0"/>
                    </a:lnTo>
                    <a:lnTo>
                      <a:pt x="606" y="0"/>
                    </a:lnTo>
                    <a:lnTo>
                      <a:pt x="583" y="0"/>
                    </a:lnTo>
                    <a:lnTo>
                      <a:pt x="560" y="1"/>
                    </a:lnTo>
                    <a:lnTo>
                      <a:pt x="538" y="2"/>
                    </a:lnTo>
                    <a:lnTo>
                      <a:pt x="516" y="4"/>
                    </a:lnTo>
                    <a:lnTo>
                      <a:pt x="495" y="7"/>
                    </a:lnTo>
                    <a:lnTo>
                      <a:pt x="473" y="10"/>
                    </a:lnTo>
                    <a:lnTo>
                      <a:pt x="451" y="15"/>
                    </a:lnTo>
                    <a:lnTo>
                      <a:pt x="429" y="19"/>
                    </a:lnTo>
                    <a:lnTo>
                      <a:pt x="387" y="30"/>
                    </a:lnTo>
                    <a:lnTo>
                      <a:pt x="346" y="44"/>
                    </a:lnTo>
                    <a:lnTo>
                      <a:pt x="325" y="50"/>
                    </a:lnTo>
                    <a:lnTo>
                      <a:pt x="305" y="59"/>
                    </a:lnTo>
                    <a:lnTo>
                      <a:pt x="286" y="67"/>
                    </a:lnTo>
                    <a:lnTo>
                      <a:pt x="266" y="76"/>
                    </a:lnTo>
                    <a:lnTo>
                      <a:pt x="228" y="95"/>
                    </a:lnTo>
                    <a:lnTo>
                      <a:pt x="191" y="116"/>
                    </a:lnTo>
                    <a:lnTo>
                      <a:pt x="155" y="139"/>
                    </a:lnTo>
                    <a:lnTo>
                      <a:pt x="121" y="165"/>
                    </a:lnTo>
                    <a:lnTo>
                      <a:pt x="89" y="191"/>
                    </a:lnTo>
                    <a:lnTo>
                      <a:pt x="57" y="220"/>
                    </a:lnTo>
                    <a:lnTo>
                      <a:pt x="27" y="250"/>
                    </a:lnTo>
                    <a:lnTo>
                      <a:pt x="0" y="281"/>
                    </a:lnTo>
                    <a:lnTo>
                      <a:pt x="7" y="308"/>
                    </a:lnTo>
                    <a:lnTo>
                      <a:pt x="33" y="276"/>
                    </a:lnTo>
                    <a:lnTo>
                      <a:pt x="63" y="245"/>
                    </a:lnTo>
                    <a:lnTo>
                      <a:pt x="93" y="216"/>
                    </a:lnTo>
                    <a:lnTo>
                      <a:pt x="125" y="190"/>
                    </a:lnTo>
                    <a:lnTo>
                      <a:pt x="159" y="165"/>
                    </a:lnTo>
                    <a:lnTo>
                      <a:pt x="195" y="140"/>
                    </a:lnTo>
                    <a:lnTo>
                      <a:pt x="230" y="120"/>
                    </a:lnTo>
                    <a:lnTo>
                      <a:pt x="269" y="100"/>
                    </a:lnTo>
                    <a:lnTo>
                      <a:pt x="308" y="82"/>
                    </a:lnTo>
                    <a:lnTo>
                      <a:pt x="347" y="67"/>
                    </a:lnTo>
                    <a:lnTo>
                      <a:pt x="368" y="60"/>
                    </a:lnTo>
                    <a:lnTo>
                      <a:pt x="388" y="53"/>
                    </a:lnTo>
                    <a:lnTo>
                      <a:pt x="409" y="47"/>
                    </a:lnTo>
                    <a:lnTo>
                      <a:pt x="430" y="42"/>
                    </a:lnTo>
                    <a:lnTo>
                      <a:pt x="451" y="38"/>
                    </a:lnTo>
                    <a:lnTo>
                      <a:pt x="473" y="33"/>
                    </a:lnTo>
                    <a:lnTo>
                      <a:pt x="495" y="30"/>
                    </a:lnTo>
                    <a:lnTo>
                      <a:pt x="516" y="27"/>
                    </a:lnTo>
                    <a:lnTo>
                      <a:pt x="538" y="25"/>
                    </a:lnTo>
                    <a:lnTo>
                      <a:pt x="561" y="23"/>
                    </a:lnTo>
                    <a:lnTo>
                      <a:pt x="583" y="22"/>
                    </a:lnTo>
                    <a:lnTo>
                      <a:pt x="606" y="22"/>
                    </a:lnTo>
                    <a:lnTo>
                      <a:pt x="638" y="23"/>
                    </a:lnTo>
                    <a:lnTo>
                      <a:pt x="668" y="24"/>
                    </a:lnTo>
                    <a:lnTo>
                      <a:pt x="698" y="27"/>
                    </a:lnTo>
                    <a:lnTo>
                      <a:pt x="728" y="31"/>
                    </a:lnTo>
                    <a:lnTo>
                      <a:pt x="758" y="37"/>
                    </a:lnTo>
                    <a:lnTo>
                      <a:pt x="786" y="44"/>
                    </a:lnTo>
                    <a:lnTo>
                      <a:pt x="815" y="50"/>
                    </a:lnTo>
                    <a:lnTo>
                      <a:pt x="843" y="59"/>
                    </a:lnTo>
                    <a:lnTo>
                      <a:pt x="829" y="31"/>
                    </a:lnTo>
                    <a:close/>
                    <a:moveTo>
                      <a:pt x="612" y="1588"/>
                    </a:moveTo>
                    <a:lnTo>
                      <a:pt x="645" y="1587"/>
                    </a:lnTo>
                    <a:lnTo>
                      <a:pt x="678" y="1585"/>
                    </a:lnTo>
                    <a:lnTo>
                      <a:pt x="710" y="1581"/>
                    </a:lnTo>
                    <a:lnTo>
                      <a:pt x="741" y="1577"/>
                    </a:lnTo>
                    <a:lnTo>
                      <a:pt x="774" y="1571"/>
                    </a:lnTo>
                    <a:lnTo>
                      <a:pt x="805" y="1563"/>
                    </a:lnTo>
                    <a:lnTo>
                      <a:pt x="835" y="1555"/>
                    </a:lnTo>
                    <a:lnTo>
                      <a:pt x="865" y="1546"/>
                    </a:lnTo>
                    <a:lnTo>
                      <a:pt x="895" y="1534"/>
                    </a:lnTo>
                    <a:lnTo>
                      <a:pt x="924" y="1523"/>
                    </a:lnTo>
                    <a:lnTo>
                      <a:pt x="952" y="1510"/>
                    </a:lnTo>
                    <a:lnTo>
                      <a:pt x="980" y="1495"/>
                    </a:lnTo>
                    <a:lnTo>
                      <a:pt x="1007" y="1480"/>
                    </a:lnTo>
                    <a:lnTo>
                      <a:pt x="1033" y="1464"/>
                    </a:lnTo>
                    <a:lnTo>
                      <a:pt x="1060" y="1446"/>
                    </a:lnTo>
                    <a:lnTo>
                      <a:pt x="1084" y="1428"/>
                    </a:lnTo>
                    <a:lnTo>
                      <a:pt x="1108" y="1410"/>
                    </a:lnTo>
                    <a:lnTo>
                      <a:pt x="1132" y="1390"/>
                    </a:lnTo>
                    <a:lnTo>
                      <a:pt x="1155" y="1368"/>
                    </a:lnTo>
                    <a:lnTo>
                      <a:pt x="1177" y="1347"/>
                    </a:lnTo>
                    <a:lnTo>
                      <a:pt x="1198" y="1324"/>
                    </a:lnTo>
                    <a:lnTo>
                      <a:pt x="1218" y="1301"/>
                    </a:lnTo>
                    <a:lnTo>
                      <a:pt x="1237" y="1277"/>
                    </a:lnTo>
                    <a:lnTo>
                      <a:pt x="1256" y="1252"/>
                    </a:lnTo>
                    <a:lnTo>
                      <a:pt x="1273" y="1226"/>
                    </a:lnTo>
                    <a:lnTo>
                      <a:pt x="1289" y="1200"/>
                    </a:lnTo>
                    <a:lnTo>
                      <a:pt x="1305" y="1173"/>
                    </a:lnTo>
                    <a:lnTo>
                      <a:pt x="1319" y="1146"/>
                    </a:lnTo>
                    <a:lnTo>
                      <a:pt x="1333" y="1117"/>
                    </a:lnTo>
                    <a:lnTo>
                      <a:pt x="1345" y="1088"/>
                    </a:lnTo>
                    <a:lnTo>
                      <a:pt x="1356" y="1059"/>
                    </a:lnTo>
                    <a:lnTo>
                      <a:pt x="1367" y="1029"/>
                    </a:lnTo>
                    <a:lnTo>
                      <a:pt x="1361" y="1019"/>
                    </a:lnTo>
                    <a:lnTo>
                      <a:pt x="1350" y="1003"/>
                    </a:lnTo>
                    <a:lnTo>
                      <a:pt x="1341" y="1033"/>
                    </a:lnTo>
                    <a:lnTo>
                      <a:pt x="1331" y="1063"/>
                    </a:lnTo>
                    <a:lnTo>
                      <a:pt x="1319" y="1091"/>
                    </a:lnTo>
                    <a:lnTo>
                      <a:pt x="1307" y="1120"/>
                    </a:lnTo>
                    <a:lnTo>
                      <a:pt x="1293" y="1148"/>
                    </a:lnTo>
                    <a:lnTo>
                      <a:pt x="1278" y="1176"/>
                    </a:lnTo>
                    <a:lnTo>
                      <a:pt x="1262" y="1202"/>
                    </a:lnTo>
                    <a:lnTo>
                      <a:pt x="1245" y="1227"/>
                    </a:lnTo>
                    <a:lnTo>
                      <a:pt x="1227" y="1253"/>
                    </a:lnTo>
                    <a:lnTo>
                      <a:pt x="1209" y="1277"/>
                    </a:lnTo>
                    <a:lnTo>
                      <a:pt x="1189" y="1301"/>
                    </a:lnTo>
                    <a:lnTo>
                      <a:pt x="1168" y="1323"/>
                    </a:lnTo>
                    <a:lnTo>
                      <a:pt x="1146" y="1345"/>
                    </a:lnTo>
                    <a:lnTo>
                      <a:pt x="1124" y="1367"/>
                    </a:lnTo>
                    <a:lnTo>
                      <a:pt x="1101" y="1387"/>
                    </a:lnTo>
                    <a:lnTo>
                      <a:pt x="1077" y="1406"/>
                    </a:lnTo>
                    <a:lnTo>
                      <a:pt x="1052" y="1425"/>
                    </a:lnTo>
                    <a:lnTo>
                      <a:pt x="1026" y="1442"/>
                    </a:lnTo>
                    <a:lnTo>
                      <a:pt x="1000" y="1458"/>
                    </a:lnTo>
                    <a:lnTo>
                      <a:pt x="973" y="1473"/>
                    </a:lnTo>
                    <a:lnTo>
                      <a:pt x="946" y="1488"/>
                    </a:lnTo>
                    <a:lnTo>
                      <a:pt x="918" y="1501"/>
                    </a:lnTo>
                    <a:lnTo>
                      <a:pt x="888" y="1512"/>
                    </a:lnTo>
                    <a:lnTo>
                      <a:pt x="859" y="1524"/>
                    </a:lnTo>
                    <a:lnTo>
                      <a:pt x="829" y="1533"/>
                    </a:lnTo>
                    <a:lnTo>
                      <a:pt x="799" y="1542"/>
                    </a:lnTo>
                    <a:lnTo>
                      <a:pt x="768" y="1549"/>
                    </a:lnTo>
                    <a:lnTo>
                      <a:pt x="736" y="1555"/>
                    </a:lnTo>
                    <a:lnTo>
                      <a:pt x="704" y="1559"/>
                    </a:lnTo>
                    <a:lnTo>
                      <a:pt x="672" y="1563"/>
                    </a:lnTo>
                    <a:lnTo>
                      <a:pt x="639" y="1565"/>
                    </a:lnTo>
                    <a:lnTo>
                      <a:pt x="606" y="1565"/>
                    </a:lnTo>
                    <a:lnTo>
                      <a:pt x="605" y="1565"/>
                    </a:lnTo>
                    <a:lnTo>
                      <a:pt x="604" y="1565"/>
                    </a:lnTo>
                    <a:lnTo>
                      <a:pt x="604" y="1565"/>
                    </a:lnTo>
                    <a:lnTo>
                      <a:pt x="603" y="1565"/>
                    </a:lnTo>
                    <a:lnTo>
                      <a:pt x="602" y="1565"/>
                    </a:lnTo>
                    <a:lnTo>
                      <a:pt x="602" y="1565"/>
                    </a:lnTo>
                    <a:lnTo>
                      <a:pt x="601" y="1565"/>
                    </a:lnTo>
                    <a:lnTo>
                      <a:pt x="601" y="1565"/>
                    </a:lnTo>
                    <a:lnTo>
                      <a:pt x="612" y="1588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32520" y="3730680"/>
                <a:ext cx="358920" cy="414360"/>
              </a:xfrm>
              <a:custGeom>
                <a:avLst/>
                <a:gdLst/>
                <a:ahLst/>
                <a:rect l="l" t="t" r="r" b="b"/>
                <a:pathLst>
                  <a:path w="1355" h="1567">
                    <a:moveTo>
                      <a:pt x="833" y="35"/>
                    </a:moveTo>
                    <a:lnTo>
                      <a:pt x="805" y="27"/>
                    </a:lnTo>
                    <a:lnTo>
                      <a:pt x="778" y="20"/>
                    </a:lnTo>
                    <a:lnTo>
                      <a:pt x="749" y="14"/>
                    </a:lnTo>
                    <a:lnTo>
                      <a:pt x="721" y="9"/>
                    </a:lnTo>
                    <a:lnTo>
                      <a:pt x="692" y="6"/>
                    </a:lnTo>
                    <a:lnTo>
                      <a:pt x="662" y="2"/>
                    </a:lnTo>
                    <a:lnTo>
                      <a:pt x="633" y="1"/>
                    </a:lnTo>
                    <a:lnTo>
                      <a:pt x="603" y="0"/>
                    </a:lnTo>
                    <a:lnTo>
                      <a:pt x="580" y="1"/>
                    </a:lnTo>
                    <a:lnTo>
                      <a:pt x="558" y="1"/>
                    </a:lnTo>
                    <a:lnTo>
                      <a:pt x="535" y="4"/>
                    </a:lnTo>
                    <a:lnTo>
                      <a:pt x="513" y="6"/>
                    </a:lnTo>
                    <a:lnTo>
                      <a:pt x="492" y="8"/>
                    </a:lnTo>
                    <a:lnTo>
                      <a:pt x="470" y="12"/>
                    </a:lnTo>
                    <a:lnTo>
                      <a:pt x="448" y="16"/>
                    </a:lnTo>
                    <a:lnTo>
                      <a:pt x="427" y="21"/>
                    </a:lnTo>
                    <a:lnTo>
                      <a:pt x="384" y="31"/>
                    </a:lnTo>
                    <a:lnTo>
                      <a:pt x="343" y="45"/>
                    </a:lnTo>
                    <a:lnTo>
                      <a:pt x="304" y="60"/>
                    </a:lnTo>
                    <a:lnTo>
                      <a:pt x="264" y="77"/>
                    </a:lnTo>
                    <a:lnTo>
                      <a:pt x="226" y="97"/>
                    </a:lnTo>
                    <a:lnTo>
                      <a:pt x="189" y="119"/>
                    </a:lnTo>
                    <a:lnTo>
                      <a:pt x="155" y="142"/>
                    </a:lnTo>
                    <a:lnTo>
                      <a:pt x="120" y="167"/>
                    </a:lnTo>
                    <a:lnTo>
                      <a:pt x="88" y="194"/>
                    </a:lnTo>
                    <a:lnTo>
                      <a:pt x="57" y="223"/>
                    </a:lnTo>
                    <a:lnTo>
                      <a:pt x="28" y="253"/>
                    </a:lnTo>
                    <a:lnTo>
                      <a:pt x="0" y="285"/>
                    </a:lnTo>
                    <a:lnTo>
                      <a:pt x="7" y="311"/>
                    </a:lnTo>
                    <a:lnTo>
                      <a:pt x="20" y="295"/>
                    </a:lnTo>
                    <a:lnTo>
                      <a:pt x="34" y="279"/>
                    </a:lnTo>
                    <a:lnTo>
                      <a:pt x="48" y="264"/>
                    </a:lnTo>
                    <a:lnTo>
                      <a:pt x="63" y="249"/>
                    </a:lnTo>
                    <a:lnTo>
                      <a:pt x="78" y="234"/>
                    </a:lnTo>
                    <a:lnTo>
                      <a:pt x="92" y="220"/>
                    </a:lnTo>
                    <a:lnTo>
                      <a:pt x="109" y="206"/>
                    </a:lnTo>
                    <a:lnTo>
                      <a:pt x="125" y="193"/>
                    </a:lnTo>
                    <a:lnTo>
                      <a:pt x="158" y="167"/>
                    </a:lnTo>
                    <a:lnTo>
                      <a:pt x="193" y="143"/>
                    </a:lnTo>
                    <a:lnTo>
                      <a:pt x="229" y="121"/>
                    </a:lnTo>
                    <a:lnTo>
                      <a:pt x="267" y="102"/>
                    </a:lnTo>
                    <a:lnTo>
                      <a:pt x="286" y="92"/>
                    </a:lnTo>
                    <a:lnTo>
                      <a:pt x="305" y="84"/>
                    </a:lnTo>
                    <a:lnTo>
                      <a:pt x="324" y="76"/>
                    </a:lnTo>
                    <a:lnTo>
                      <a:pt x="345" y="68"/>
                    </a:lnTo>
                    <a:lnTo>
                      <a:pt x="365" y="61"/>
                    </a:lnTo>
                    <a:lnTo>
                      <a:pt x="385" y="55"/>
                    </a:lnTo>
                    <a:lnTo>
                      <a:pt x="406" y="49"/>
                    </a:lnTo>
                    <a:lnTo>
                      <a:pt x="428" y="44"/>
                    </a:lnTo>
                    <a:lnTo>
                      <a:pt x="449" y="39"/>
                    </a:lnTo>
                    <a:lnTo>
                      <a:pt x="471" y="35"/>
                    </a:lnTo>
                    <a:lnTo>
                      <a:pt x="492" y="31"/>
                    </a:lnTo>
                    <a:lnTo>
                      <a:pt x="513" y="29"/>
                    </a:lnTo>
                    <a:lnTo>
                      <a:pt x="535" y="27"/>
                    </a:lnTo>
                    <a:lnTo>
                      <a:pt x="558" y="24"/>
                    </a:lnTo>
                    <a:lnTo>
                      <a:pt x="580" y="23"/>
                    </a:lnTo>
                    <a:lnTo>
                      <a:pt x="603" y="23"/>
                    </a:lnTo>
                    <a:lnTo>
                      <a:pt x="635" y="24"/>
                    </a:lnTo>
                    <a:lnTo>
                      <a:pt x="667" y="25"/>
                    </a:lnTo>
                    <a:lnTo>
                      <a:pt x="698" y="29"/>
                    </a:lnTo>
                    <a:lnTo>
                      <a:pt x="729" y="34"/>
                    </a:lnTo>
                    <a:lnTo>
                      <a:pt x="759" y="39"/>
                    </a:lnTo>
                    <a:lnTo>
                      <a:pt x="789" y="46"/>
                    </a:lnTo>
                    <a:lnTo>
                      <a:pt x="819" y="54"/>
                    </a:lnTo>
                    <a:lnTo>
                      <a:pt x="848" y="64"/>
                    </a:lnTo>
                    <a:lnTo>
                      <a:pt x="833" y="35"/>
                    </a:lnTo>
                    <a:close/>
                    <a:moveTo>
                      <a:pt x="603" y="1567"/>
                    </a:moveTo>
                    <a:lnTo>
                      <a:pt x="603" y="1567"/>
                    </a:lnTo>
                    <a:lnTo>
                      <a:pt x="637" y="1567"/>
                    </a:lnTo>
                    <a:lnTo>
                      <a:pt x="669" y="1564"/>
                    </a:lnTo>
                    <a:lnTo>
                      <a:pt x="701" y="1561"/>
                    </a:lnTo>
                    <a:lnTo>
                      <a:pt x="734" y="1556"/>
                    </a:lnTo>
                    <a:lnTo>
                      <a:pt x="765" y="1551"/>
                    </a:lnTo>
                    <a:lnTo>
                      <a:pt x="797" y="1544"/>
                    </a:lnTo>
                    <a:lnTo>
                      <a:pt x="827" y="1534"/>
                    </a:lnTo>
                    <a:lnTo>
                      <a:pt x="857" y="1525"/>
                    </a:lnTo>
                    <a:lnTo>
                      <a:pt x="887" y="1514"/>
                    </a:lnTo>
                    <a:lnTo>
                      <a:pt x="916" y="1502"/>
                    </a:lnTo>
                    <a:lnTo>
                      <a:pt x="945" y="1489"/>
                    </a:lnTo>
                    <a:lnTo>
                      <a:pt x="973" y="1475"/>
                    </a:lnTo>
                    <a:lnTo>
                      <a:pt x="999" y="1460"/>
                    </a:lnTo>
                    <a:lnTo>
                      <a:pt x="1027" y="1443"/>
                    </a:lnTo>
                    <a:lnTo>
                      <a:pt x="1052" y="1426"/>
                    </a:lnTo>
                    <a:lnTo>
                      <a:pt x="1078" y="1408"/>
                    </a:lnTo>
                    <a:lnTo>
                      <a:pt x="1102" y="1389"/>
                    </a:lnTo>
                    <a:lnTo>
                      <a:pt x="1125" y="1368"/>
                    </a:lnTo>
                    <a:lnTo>
                      <a:pt x="1148" y="1348"/>
                    </a:lnTo>
                    <a:lnTo>
                      <a:pt x="1170" y="1326"/>
                    </a:lnTo>
                    <a:lnTo>
                      <a:pt x="1191" y="1303"/>
                    </a:lnTo>
                    <a:lnTo>
                      <a:pt x="1210" y="1280"/>
                    </a:lnTo>
                    <a:lnTo>
                      <a:pt x="1230" y="1254"/>
                    </a:lnTo>
                    <a:lnTo>
                      <a:pt x="1248" y="1230"/>
                    </a:lnTo>
                    <a:lnTo>
                      <a:pt x="1264" y="1204"/>
                    </a:lnTo>
                    <a:lnTo>
                      <a:pt x="1282" y="1177"/>
                    </a:lnTo>
                    <a:lnTo>
                      <a:pt x="1297" y="1151"/>
                    </a:lnTo>
                    <a:lnTo>
                      <a:pt x="1310" y="1122"/>
                    </a:lnTo>
                    <a:lnTo>
                      <a:pt x="1323" y="1094"/>
                    </a:lnTo>
                    <a:lnTo>
                      <a:pt x="1335" y="1064"/>
                    </a:lnTo>
                    <a:lnTo>
                      <a:pt x="1346" y="1035"/>
                    </a:lnTo>
                    <a:lnTo>
                      <a:pt x="1355" y="1004"/>
                    </a:lnTo>
                    <a:lnTo>
                      <a:pt x="1339" y="980"/>
                    </a:lnTo>
                    <a:lnTo>
                      <a:pt x="1330" y="1010"/>
                    </a:lnTo>
                    <a:lnTo>
                      <a:pt x="1320" y="1040"/>
                    </a:lnTo>
                    <a:lnTo>
                      <a:pt x="1309" y="1069"/>
                    </a:lnTo>
                    <a:lnTo>
                      <a:pt x="1297" y="1098"/>
                    </a:lnTo>
                    <a:lnTo>
                      <a:pt x="1283" y="1125"/>
                    </a:lnTo>
                    <a:lnTo>
                      <a:pt x="1269" y="1153"/>
                    </a:lnTo>
                    <a:lnTo>
                      <a:pt x="1253" y="1179"/>
                    </a:lnTo>
                    <a:lnTo>
                      <a:pt x="1237" y="1205"/>
                    </a:lnTo>
                    <a:lnTo>
                      <a:pt x="1219" y="1230"/>
                    </a:lnTo>
                    <a:lnTo>
                      <a:pt x="1201" y="1255"/>
                    </a:lnTo>
                    <a:lnTo>
                      <a:pt x="1181" y="1279"/>
                    </a:lnTo>
                    <a:lnTo>
                      <a:pt x="1161" y="1302"/>
                    </a:lnTo>
                    <a:lnTo>
                      <a:pt x="1140" y="1323"/>
                    </a:lnTo>
                    <a:lnTo>
                      <a:pt x="1118" y="1344"/>
                    </a:lnTo>
                    <a:lnTo>
                      <a:pt x="1095" y="1365"/>
                    </a:lnTo>
                    <a:lnTo>
                      <a:pt x="1071" y="1385"/>
                    </a:lnTo>
                    <a:lnTo>
                      <a:pt x="1046" y="1403"/>
                    </a:lnTo>
                    <a:lnTo>
                      <a:pt x="1021" y="1420"/>
                    </a:lnTo>
                    <a:lnTo>
                      <a:pt x="994" y="1436"/>
                    </a:lnTo>
                    <a:lnTo>
                      <a:pt x="968" y="1451"/>
                    </a:lnTo>
                    <a:lnTo>
                      <a:pt x="940" y="1466"/>
                    </a:lnTo>
                    <a:lnTo>
                      <a:pt x="913" y="1479"/>
                    </a:lnTo>
                    <a:lnTo>
                      <a:pt x="884" y="1491"/>
                    </a:lnTo>
                    <a:lnTo>
                      <a:pt x="855" y="1502"/>
                    </a:lnTo>
                    <a:lnTo>
                      <a:pt x="825" y="1511"/>
                    </a:lnTo>
                    <a:lnTo>
                      <a:pt x="795" y="1521"/>
                    </a:lnTo>
                    <a:lnTo>
                      <a:pt x="764" y="1528"/>
                    </a:lnTo>
                    <a:lnTo>
                      <a:pt x="733" y="1533"/>
                    </a:lnTo>
                    <a:lnTo>
                      <a:pt x="700" y="1538"/>
                    </a:lnTo>
                    <a:lnTo>
                      <a:pt x="668" y="1541"/>
                    </a:lnTo>
                    <a:lnTo>
                      <a:pt x="636" y="1544"/>
                    </a:lnTo>
                    <a:lnTo>
                      <a:pt x="603" y="1545"/>
                    </a:lnTo>
                    <a:lnTo>
                      <a:pt x="601" y="1545"/>
                    </a:lnTo>
                    <a:lnTo>
                      <a:pt x="600" y="1545"/>
                    </a:lnTo>
                    <a:lnTo>
                      <a:pt x="599" y="1545"/>
                    </a:lnTo>
                    <a:lnTo>
                      <a:pt x="598" y="1545"/>
                    </a:lnTo>
                    <a:lnTo>
                      <a:pt x="595" y="1545"/>
                    </a:lnTo>
                    <a:lnTo>
                      <a:pt x="594" y="1545"/>
                    </a:lnTo>
                    <a:lnTo>
                      <a:pt x="593" y="1545"/>
                    </a:lnTo>
                    <a:lnTo>
                      <a:pt x="592" y="1544"/>
                    </a:lnTo>
                    <a:lnTo>
                      <a:pt x="603" y="156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33960" y="3733920"/>
                <a:ext cx="355680" cy="409320"/>
              </a:xfrm>
              <a:custGeom>
                <a:avLst/>
                <a:gdLst/>
                <a:ahLst/>
                <a:rect l="l" t="t" r="r" b="b"/>
                <a:pathLst>
                  <a:path w="1343" h="1543">
                    <a:moveTo>
                      <a:pt x="837" y="37"/>
                    </a:moveTo>
                    <a:lnTo>
                      <a:pt x="808" y="28"/>
                    </a:lnTo>
                    <a:lnTo>
                      <a:pt x="779" y="22"/>
                    </a:lnTo>
                    <a:lnTo>
                      <a:pt x="751" y="15"/>
                    </a:lnTo>
                    <a:lnTo>
                      <a:pt x="721" y="10"/>
                    </a:lnTo>
                    <a:lnTo>
                      <a:pt x="691" y="5"/>
                    </a:lnTo>
                    <a:lnTo>
                      <a:pt x="661" y="2"/>
                    </a:lnTo>
                    <a:lnTo>
                      <a:pt x="631" y="1"/>
                    </a:lnTo>
                    <a:lnTo>
                      <a:pt x="599" y="0"/>
                    </a:lnTo>
                    <a:lnTo>
                      <a:pt x="576" y="0"/>
                    </a:lnTo>
                    <a:lnTo>
                      <a:pt x="554" y="1"/>
                    </a:lnTo>
                    <a:lnTo>
                      <a:pt x="531" y="3"/>
                    </a:lnTo>
                    <a:lnTo>
                      <a:pt x="509" y="5"/>
                    </a:lnTo>
                    <a:lnTo>
                      <a:pt x="488" y="8"/>
                    </a:lnTo>
                    <a:lnTo>
                      <a:pt x="466" y="11"/>
                    </a:lnTo>
                    <a:lnTo>
                      <a:pt x="444" y="16"/>
                    </a:lnTo>
                    <a:lnTo>
                      <a:pt x="423" y="20"/>
                    </a:lnTo>
                    <a:lnTo>
                      <a:pt x="402" y="25"/>
                    </a:lnTo>
                    <a:lnTo>
                      <a:pt x="381" y="31"/>
                    </a:lnTo>
                    <a:lnTo>
                      <a:pt x="361" y="38"/>
                    </a:lnTo>
                    <a:lnTo>
                      <a:pt x="340" y="45"/>
                    </a:lnTo>
                    <a:lnTo>
                      <a:pt x="301" y="60"/>
                    </a:lnTo>
                    <a:lnTo>
                      <a:pt x="262" y="78"/>
                    </a:lnTo>
                    <a:lnTo>
                      <a:pt x="223" y="98"/>
                    </a:lnTo>
                    <a:lnTo>
                      <a:pt x="188" y="118"/>
                    </a:lnTo>
                    <a:lnTo>
                      <a:pt x="152" y="143"/>
                    </a:lnTo>
                    <a:lnTo>
                      <a:pt x="118" y="168"/>
                    </a:lnTo>
                    <a:lnTo>
                      <a:pt x="86" y="194"/>
                    </a:lnTo>
                    <a:lnTo>
                      <a:pt x="56" y="223"/>
                    </a:lnTo>
                    <a:lnTo>
                      <a:pt x="26" y="254"/>
                    </a:lnTo>
                    <a:lnTo>
                      <a:pt x="0" y="286"/>
                    </a:lnTo>
                    <a:lnTo>
                      <a:pt x="7" y="313"/>
                    </a:lnTo>
                    <a:lnTo>
                      <a:pt x="33" y="281"/>
                    </a:lnTo>
                    <a:lnTo>
                      <a:pt x="61" y="250"/>
                    </a:lnTo>
                    <a:lnTo>
                      <a:pt x="91" y="221"/>
                    </a:lnTo>
                    <a:lnTo>
                      <a:pt x="123" y="193"/>
                    </a:lnTo>
                    <a:lnTo>
                      <a:pt x="157" y="168"/>
                    </a:lnTo>
                    <a:lnTo>
                      <a:pt x="191" y="144"/>
                    </a:lnTo>
                    <a:lnTo>
                      <a:pt x="227" y="122"/>
                    </a:lnTo>
                    <a:lnTo>
                      <a:pt x="264" y="102"/>
                    </a:lnTo>
                    <a:lnTo>
                      <a:pt x="302" y="84"/>
                    </a:lnTo>
                    <a:lnTo>
                      <a:pt x="342" y="68"/>
                    </a:lnTo>
                    <a:lnTo>
                      <a:pt x="362" y="61"/>
                    </a:lnTo>
                    <a:lnTo>
                      <a:pt x="383" y="55"/>
                    </a:lnTo>
                    <a:lnTo>
                      <a:pt x="403" y="48"/>
                    </a:lnTo>
                    <a:lnTo>
                      <a:pt x="424" y="43"/>
                    </a:lnTo>
                    <a:lnTo>
                      <a:pt x="445" y="39"/>
                    </a:lnTo>
                    <a:lnTo>
                      <a:pt x="467" y="34"/>
                    </a:lnTo>
                    <a:lnTo>
                      <a:pt x="489" y="31"/>
                    </a:lnTo>
                    <a:lnTo>
                      <a:pt x="509" y="27"/>
                    </a:lnTo>
                    <a:lnTo>
                      <a:pt x="533" y="26"/>
                    </a:lnTo>
                    <a:lnTo>
                      <a:pt x="554" y="24"/>
                    </a:lnTo>
                    <a:lnTo>
                      <a:pt x="576" y="23"/>
                    </a:lnTo>
                    <a:lnTo>
                      <a:pt x="599" y="23"/>
                    </a:lnTo>
                    <a:lnTo>
                      <a:pt x="632" y="24"/>
                    </a:lnTo>
                    <a:lnTo>
                      <a:pt x="665" y="25"/>
                    </a:lnTo>
                    <a:lnTo>
                      <a:pt x="697" y="28"/>
                    </a:lnTo>
                    <a:lnTo>
                      <a:pt x="729" y="34"/>
                    </a:lnTo>
                    <a:lnTo>
                      <a:pt x="761" y="40"/>
                    </a:lnTo>
                    <a:lnTo>
                      <a:pt x="792" y="48"/>
                    </a:lnTo>
                    <a:lnTo>
                      <a:pt x="822" y="56"/>
                    </a:lnTo>
                    <a:lnTo>
                      <a:pt x="852" y="67"/>
                    </a:lnTo>
                    <a:lnTo>
                      <a:pt x="837" y="37"/>
                    </a:lnTo>
                    <a:close/>
                    <a:moveTo>
                      <a:pt x="594" y="1543"/>
                    </a:moveTo>
                    <a:lnTo>
                      <a:pt x="594" y="1543"/>
                    </a:lnTo>
                    <a:lnTo>
                      <a:pt x="595" y="1543"/>
                    </a:lnTo>
                    <a:lnTo>
                      <a:pt x="595" y="1543"/>
                    </a:lnTo>
                    <a:lnTo>
                      <a:pt x="596" y="1543"/>
                    </a:lnTo>
                    <a:lnTo>
                      <a:pt x="597" y="1543"/>
                    </a:lnTo>
                    <a:lnTo>
                      <a:pt x="597" y="1543"/>
                    </a:lnTo>
                    <a:lnTo>
                      <a:pt x="598" y="1543"/>
                    </a:lnTo>
                    <a:lnTo>
                      <a:pt x="599" y="1543"/>
                    </a:lnTo>
                    <a:lnTo>
                      <a:pt x="632" y="1543"/>
                    </a:lnTo>
                    <a:lnTo>
                      <a:pt x="665" y="1541"/>
                    </a:lnTo>
                    <a:lnTo>
                      <a:pt x="697" y="1537"/>
                    </a:lnTo>
                    <a:lnTo>
                      <a:pt x="729" y="1533"/>
                    </a:lnTo>
                    <a:lnTo>
                      <a:pt x="761" y="1527"/>
                    </a:lnTo>
                    <a:lnTo>
                      <a:pt x="792" y="1520"/>
                    </a:lnTo>
                    <a:lnTo>
                      <a:pt x="822" y="1511"/>
                    </a:lnTo>
                    <a:lnTo>
                      <a:pt x="852" y="1502"/>
                    </a:lnTo>
                    <a:lnTo>
                      <a:pt x="881" y="1490"/>
                    </a:lnTo>
                    <a:lnTo>
                      <a:pt x="911" y="1479"/>
                    </a:lnTo>
                    <a:lnTo>
                      <a:pt x="939" y="1466"/>
                    </a:lnTo>
                    <a:lnTo>
                      <a:pt x="966" y="1451"/>
                    </a:lnTo>
                    <a:lnTo>
                      <a:pt x="993" y="1436"/>
                    </a:lnTo>
                    <a:lnTo>
                      <a:pt x="1019" y="1420"/>
                    </a:lnTo>
                    <a:lnTo>
                      <a:pt x="1045" y="1403"/>
                    </a:lnTo>
                    <a:lnTo>
                      <a:pt x="1070" y="1384"/>
                    </a:lnTo>
                    <a:lnTo>
                      <a:pt x="1094" y="1365"/>
                    </a:lnTo>
                    <a:lnTo>
                      <a:pt x="1117" y="1345"/>
                    </a:lnTo>
                    <a:lnTo>
                      <a:pt x="1139" y="1323"/>
                    </a:lnTo>
                    <a:lnTo>
                      <a:pt x="1161" y="1301"/>
                    </a:lnTo>
                    <a:lnTo>
                      <a:pt x="1182" y="1279"/>
                    </a:lnTo>
                    <a:lnTo>
                      <a:pt x="1202" y="1255"/>
                    </a:lnTo>
                    <a:lnTo>
                      <a:pt x="1220" y="1231"/>
                    </a:lnTo>
                    <a:lnTo>
                      <a:pt x="1238" y="1205"/>
                    </a:lnTo>
                    <a:lnTo>
                      <a:pt x="1255" y="1180"/>
                    </a:lnTo>
                    <a:lnTo>
                      <a:pt x="1271" y="1154"/>
                    </a:lnTo>
                    <a:lnTo>
                      <a:pt x="1286" y="1126"/>
                    </a:lnTo>
                    <a:lnTo>
                      <a:pt x="1300" y="1098"/>
                    </a:lnTo>
                    <a:lnTo>
                      <a:pt x="1312" y="1069"/>
                    </a:lnTo>
                    <a:lnTo>
                      <a:pt x="1324" y="1041"/>
                    </a:lnTo>
                    <a:lnTo>
                      <a:pt x="1334" y="1011"/>
                    </a:lnTo>
                    <a:lnTo>
                      <a:pt x="1343" y="981"/>
                    </a:lnTo>
                    <a:lnTo>
                      <a:pt x="1326" y="955"/>
                    </a:lnTo>
                    <a:lnTo>
                      <a:pt x="1318" y="985"/>
                    </a:lnTo>
                    <a:lnTo>
                      <a:pt x="1309" y="1015"/>
                    </a:lnTo>
                    <a:lnTo>
                      <a:pt x="1297" y="1044"/>
                    </a:lnTo>
                    <a:lnTo>
                      <a:pt x="1286" y="1073"/>
                    </a:lnTo>
                    <a:lnTo>
                      <a:pt x="1273" y="1101"/>
                    </a:lnTo>
                    <a:lnTo>
                      <a:pt x="1259" y="1128"/>
                    </a:lnTo>
                    <a:lnTo>
                      <a:pt x="1243" y="1155"/>
                    </a:lnTo>
                    <a:lnTo>
                      <a:pt x="1227" y="1181"/>
                    </a:lnTo>
                    <a:lnTo>
                      <a:pt x="1210" y="1207"/>
                    </a:lnTo>
                    <a:lnTo>
                      <a:pt x="1192" y="1231"/>
                    </a:lnTo>
                    <a:lnTo>
                      <a:pt x="1173" y="1254"/>
                    </a:lnTo>
                    <a:lnTo>
                      <a:pt x="1153" y="1277"/>
                    </a:lnTo>
                    <a:lnTo>
                      <a:pt x="1131" y="1299"/>
                    </a:lnTo>
                    <a:lnTo>
                      <a:pt x="1109" y="1321"/>
                    </a:lnTo>
                    <a:lnTo>
                      <a:pt x="1087" y="1340"/>
                    </a:lnTo>
                    <a:lnTo>
                      <a:pt x="1063" y="1360"/>
                    </a:lnTo>
                    <a:lnTo>
                      <a:pt x="1039" y="1378"/>
                    </a:lnTo>
                    <a:lnTo>
                      <a:pt x="1014" y="1396"/>
                    </a:lnTo>
                    <a:lnTo>
                      <a:pt x="988" y="1413"/>
                    </a:lnTo>
                    <a:lnTo>
                      <a:pt x="962" y="1428"/>
                    </a:lnTo>
                    <a:lnTo>
                      <a:pt x="934" y="1442"/>
                    </a:lnTo>
                    <a:lnTo>
                      <a:pt x="906" y="1456"/>
                    </a:lnTo>
                    <a:lnTo>
                      <a:pt x="879" y="1467"/>
                    </a:lnTo>
                    <a:lnTo>
                      <a:pt x="850" y="1479"/>
                    </a:lnTo>
                    <a:lnTo>
                      <a:pt x="820" y="1488"/>
                    </a:lnTo>
                    <a:lnTo>
                      <a:pt x="790" y="1497"/>
                    </a:lnTo>
                    <a:lnTo>
                      <a:pt x="759" y="1504"/>
                    </a:lnTo>
                    <a:lnTo>
                      <a:pt x="727" y="1510"/>
                    </a:lnTo>
                    <a:lnTo>
                      <a:pt x="696" y="1514"/>
                    </a:lnTo>
                    <a:lnTo>
                      <a:pt x="664" y="1518"/>
                    </a:lnTo>
                    <a:lnTo>
                      <a:pt x="632" y="1520"/>
                    </a:lnTo>
                    <a:lnTo>
                      <a:pt x="599" y="1521"/>
                    </a:lnTo>
                    <a:lnTo>
                      <a:pt x="597" y="1521"/>
                    </a:lnTo>
                    <a:lnTo>
                      <a:pt x="595" y="1521"/>
                    </a:lnTo>
                    <a:lnTo>
                      <a:pt x="593" y="1521"/>
                    </a:lnTo>
                    <a:lnTo>
                      <a:pt x="590" y="1521"/>
                    </a:lnTo>
                    <a:lnTo>
                      <a:pt x="588" y="1521"/>
                    </a:lnTo>
                    <a:lnTo>
                      <a:pt x="586" y="1521"/>
                    </a:lnTo>
                    <a:lnTo>
                      <a:pt x="583" y="1521"/>
                    </a:lnTo>
                    <a:lnTo>
                      <a:pt x="582" y="1521"/>
                    </a:lnTo>
                    <a:lnTo>
                      <a:pt x="594" y="154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33960" y="3736800"/>
                <a:ext cx="352440" cy="403560"/>
              </a:xfrm>
              <a:custGeom>
                <a:avLst/>
                <a:gdLst/>
                <a:ahLst/>
                <a:rect l="l" t="t" r="r" b="b"/>
                <a:pathLst>
                  <a:path w="1332" h="1522">
                    <a:moveTo>
                      <a:pt x="841" y="41"/>
                    </a:moveTo>
                    <a:lnTo>
                      <a:pt x="812" y="31"/>
                    </a:lnTo>
                    <a:lnTo>
                      <a:pt x="782" y="23"/>
                    </a:lnTo>
                    <a:lnTo>
                      <a:pt x="752" y="16"/>
                    </a:lnTo>
                    <a:lnTo>
                      <a:pt x="722" y="11"/>
                    </a:lnTo>
                    <a:lnTo>
                      <a:pt x="691" y="6"/>
                    </a:lnTo>
                    <a:lnTo>
                      <a:pt x="660" y="2"/>
                    </a:lnTo>
                    <a:lnTo>
                      <a:pt x="628" y="1"/>
                    </a:lnTo>
                    <a:lnTo>
                      <a:pt x="596" y="0"/>
                    </a:lnTo>
                    <a:lnTo>
                      <a:pt x="573" y="0"/>
                    </a:lnTo>
                    <a:lnTo>
                      <a:pt x="551" y="1"/>
                    </a:lnTo>
                    <a:lnTo>
                      <a:pt x="528" y="4"/>
                    </a:lnTo>
                    <a:lnTo>
                      <a:pt x="506" y="6"/>
                    </a:lnTo>
                    <a:lnTo>
                      <a:pt x="485" y="8"/>
                    </a:lnTo>
                    <a:lnTo>
                      <a:pt x="464" y="12"/>
                    </a:lnTo>
                    <a:lnTo>
                      <a:pt x="442" y="16"/>
                    </a:lnTo>
                    <a:lnTo>
                      <a:pt x="421" y="21"/>
                    </a:lnTo>
                    <a:lnTo>
                      <a:pt x="399" y="26"/>
                    </a:lnTo>
                    <a:lnTo>
                      <a:pt x="378" y="32"/>
                    </a:lnTo>
                    <a:lnTo>
                      <a:pt x="358" y="38"/>
                    </a:lnTo>
                    <a:lnTo>
                      <a:pt x="338" y="45"/>
                    </a:lnTo>
                    <a:lnTo>
                      <a:pt x="317" y="53"/>
                    </a:lnTo>
                    <a:lnTo>
                      <a:pt x="298" y="61"/>
                    </a:lnTo>
                    <a:lnTo>
                      <a:pt x="279" y="69"/>
                    </a:lnTo>
                    <a:lnTo>
                      <a:pt x="260" y="79"/>
                    </a:lnTo>
                    <a:lnTo>
                      <a:pt x="222" y="98"/>
                    </a:lnTo>
                    <a:lnTo>
                      <a:pt x="186" y="120"/>
                    </a:lnTo>
                    <a:lnTo>
                      <a:pt x="151" y="144"/>
                    </a:lnTo>
                    <a:lnTo>
                      <a:pt x="118" y="170"/>
                    </a:lnTo>
                    <a:lnTo>
                      <a:pt x="102" y="183"/>
                    </a:lnTo>
                    <a:lnTo>
                      <a:pt x="85" y="197"/>
                    </a:lnTo>
                    <a:lnTo>
                      <a:pt x="71" y="211"/>
                    </a:lnTo>
                    <a:lnTo>
                      <a:pt x="56" y="226"/>
                    </a:lnTo>
                    <a:lnTo>
                      <a:pt x="41" y="241"/>
                    </a:lnTo>
                    <a:lnTo>
                      <a:pt x="27" y="256"/>
                    </a:lnTo>
                    <a:lnTo>
                      <a:pt x="13" y="272"/>
                    </a:lnTo>
                    <a:lnTo>
                      <a:pt x="0" y="288"/>
                    </a:lnTo>
                    <a:lnTo>
                      <a:pt x="7" y="316"/>
                    </a:lnTo>
                    <a:lnTo>
                      <a:pt x="34" y="284"/>
                    </a:lnTo>
                    <a:lnTo>
                      <a:pt x="61" y="253"/>
                    </a:lnTo>
                    <a:lnTo>
                      <a:pt x="76" y="238"/>
                    </a:lnTo>
                    <a:lnTo>
                      <a:pt x="91" y="224"/>
                    </a:lnTo>
                    <a:lnTo>
                      <a:pt x="106" y="209"/>
                    </a:lnTo>
                    <a:lnTo>
                      <a:pt x="122" y="195"/>
                    </a:lnTo>
                    <a:lnTo>
                      <a:pt x="155" y="170"/>
                    </a:lnTo>
                    <a:lnTo>
                      <a:pt x="189" y="145"/>
                    </a:lnTo>
                    <a:lnTo>
                      <a:pt x="207" y="134"/>
                    </a:lnTo>
                    <a:lnTo>
                      <a:pt x="225" y="124"/>
                    </a:lnTo>
                    <a:lnTo>
                      <a:pt x="244" y="113"/>
                    </a:lnTo>
                    <a:lnTo>
                      <a:pt x="262" y="103"/>
                    </a:lnTo>
                    <a:lnTo>
                      <a:pt x="300" y="85"/>
                    </a:lnTo>
                    <a:lnTo>
                      <a:pt x="339" y="69"/>
                    </a:lnTo>
                    <a:lnTo>
                      <a:pt x="360" y="61"/>
                    </a:lnTo>
                    <a:lnTo>
                      <a:pt x="380" y="56"/>
                    </a:lnTo>
                    <a:lnTo>
                      <a:pt x="400" y="50"/>
                    </a:lnTo>
                    <a:lnTo>
                      <a:pt x="421" y="44"/>
                    </a:lnTo>
                    <a:lnTo>
                      <a:pt x="443" y="39"/>
                    </a:lnTo>
                    <a:lnTo>
                      <a:pt x="464" y="35"/>
                    </a:lnTo>
                    <a:lnTo>
                      <a:pt x="486" y="31"/>
                    </a:lnTo>
                    <a:lnTo>
                      <a:pt x="508" y="28"/>
                    </a:lnTo>
                    <a:lnTo>
                      <a:pt x="530" y="26"/>
                    </a:lnTo>
                    <a:lnTo>
                      <a:pt x="551" y="24"/>
                    </a:lnTo>
                    <a:lnTo>
                      <a:pt x="573" y="23"/>
                    </a:lnTo>
                    <a:lnTo>
                      <a:pt x="596" y="23"/>
                    </a:lnTo>
                    <a:lnTo>
                      <a:pt x="630" y="23"/>
                    </a:lnTo>
                    <a:lnTo>
                      <a:pt x="663" y="26"/>
                    </a:lnTo>
                    <a:lnTo>
                      <a:pt x="697" y="30"/>
                    </a:lnTo>
                    <a:lnTo>
                      <a:pt x="730" y="35"/>
                    </a:lnTo>
                    <a:lnTo>
                      <a:pt x="763" y="42"/>
                    </a:lnTo>
                    <a:lnTo>
                      <a:pt x="794" y="50"/>
                    </a:lnTo>
                    <a:lnTo>
                      <a:pt x="825" y="59"/>
                    </a:lnTo>
                    <a:lnTo>
                      <a:pt x="856" y="69"/>
                    </a:lnTo>
                    <a:lnTo>
                      <a:pt x="855" y="66"/>
                    </a:lnTo>
                    <a:lnTo>
                      <a:pt x="841" y="41"/>
                    </a:lnTo>
                    <a:close/>
                    <a:moveTo>
                      <a:pt x="585" y="1521"/>
                    </a:moveTo>
                    <a:lnTo>
                      <a:pt x="586" y="1522"/>
                    </a:lnTo>
                    <a:lnTo>
                      <a:pt x="587" y="1522"/>
                    </a:lnTo>
                    <a:lnTo>
                      <a:pt x="588" y="1522"/>
                    </a:lnTo>
                    <a:lnTo>
                      <a:pt x="591" y="1522"/>
                    </a:lnTo>
                    <a:lnTo>
                      <a:pt x="592" y="1522"/>
                    </a:lnTo>
                    <a:lnTo>
                      <a:pt x="593" y="1522"/>
                    </a:lnTo>
                    <a:lnTo>
                      <a:pt x="594" y="1522"/>
                    </a:lnTo>
                    <a:lnTo>
                      <a:pt x="596" y="1522"/>
                    </a:lnTo>
                    <a:lnTo>
                      <a:pt x="629" y="1521"/>
                    </a:lnTo>
                    <a:lnTo>
                      <a:pt x="661" y="1518"/>
                    </a:lnTo>
                    <a:lnTo>
                      <a:pt x="693" y="1515"/>
                    </a:lnTo>
                    <a:lnTo>
                      <a:pt x="726" y="1510"/>
                    </a:lnTo>
                    <a:lnTo>
                      <a:pt x="757" y="1505"/>
                    </a:lnTo>
                    <a:lnTo>
                      <a:pt x="788" y="1498"/>
                    </a:lnTo>
                    <a:lnTo>
                      <a:pt x="818" y="1488"/>
                    </a:lnTo>
                    <a:lnTo>
                      <a:pt x="848" y="1479"/>
                    </a:lnTo>
                    <a:lnTo>
                      <a:pt x="877" y="1468"/>
                    </a:lnTo>
                    <a:lnTo>
                      <a:pt x="906" y="1456"/>
                    </a:lnTo>
                    <a:lnTo>
                      <a:pt x="933" y="1443"/>
                    </a:lnTo>
                    <a:lnTo>
                      <a:pt x="961" y="1428"/>
                    </a:lnTo>
                    <a:lnTo>
                      <a:pt x="987" y="1413"/>
                    </a:lnTo>
                    <a:lnTo>
                      <a:pt x="1014" y="1397"/>
                    </a:lnTo>
                    <a:lnTo>
                      <a:pt x="1039" y="1380"/>
                    </a:lnTo>
                    <a:lnTo>
                      <a:pt x="1064" y="1362"/>
                    </a:lnTo>
                    <a:lnTo>
                      <a:pt x="1088" y="1342"/>
                    </a:lnTo>
                    <a:lnTo>
                      <a:pt x="1111" y="1321"/>
                    </a:lnTo>
                    <a:lnTo>
                      <a:pt x="1133" y="1300"/>
                    </a:lnTo>
                    <a:lnTo>
                      <a:pt x="1154" y="1279"/>
                    </a:lnTo>
                    <a:lnTo>
                      <a:pt x="1174" y="1256"/>
                    </a:lnTo>
                    <a:lnTo>
                      <a:pt x="1194" y="1232"/>
                    </a:lnTo>
                    <a:lnTo>
                      <a:pt x="1212" y="1207"/>
                    </a:lnTo>
                    <a:lnTo>
                      <a:pt x="1230" y="1182"/>
                    </a:lnTo>
                    <a:lnTo>
                      <a:pt x="1246" y="1156"/>
                    </a:lnTo>
                    <a:lnTo>
                      <a:pt x="1262" y="1130"/>
                    </a:lnTo>
                    <a:lnTo>
                      <a:pt x="1276" y="1102"/>
                    </a:lnTo>
                    <a:lnTo>
                      <a:pt x="1290" y="1075"/>
                    </a:lnTo>
                    <a:lnTo>
                      <a:pt x="1302" y="1046"/>
                    </a:lnTo>
                    <a:lnTo>
                      <a:pt x="1313" y="1017"/>
                    </a:lnTo>
                    <a:lnTo>
                      <a:pt x="1323" y="987"/>
                    </a:lnTo>
                    <a:lnTo>
                      <a:pt x="1332" y="957"/>
                    </a:lnTo>
                    <a:lnTo>
                      <a:pt x="1315" y="932"/>
                    </a:lnTo>
                    <a:lnTo>
                      <a:pt x="1307" y="962"/>
                    </a:lnTo>
                    <a:lnTo>
                      <a:pt x="1298" y="992"/>
                    </a:lnTo>
                    <a:lnTo>
                      <a:pt x="1287" y="1020"/>
                    </a:lnTo>
                    <a:lnTo>
                      <a:pt x="1276" y="1049"/>
                    </a:lnTo>
                    <a:lnTo>
                      <a:pt x="1263" y="1078"/>
                    </a:lnTo>
                    <a:lnTo>
                      <a:pt x="1249" y="1105"/>
                    </a:lnTo>
                    <a:lnTo>
                      <a:pt x="1234" y="1131"/>
                    </a:lnTo>
                    <a:lnTo>
                      <a:pt x="1219" y="1158"/>
                    </a:lnTo>
                    <a:lnTo>
                      <a:pt x="1202" y="1183"/>
                    </a:lnTo>
                    <a:lnTo>
                      <a:pt x="1184" y="1207"/>
                    </a:lnTo>
                    <a:lnTo>
                      <a:pt x="1165" y="1231"/>
                    </a:lnTo>
                    <a:lnTo>
                      <a:pt x="1145" y="1254"/>
                    </a:lnTo>
                    <a:lnTo>
                      <a:pt x="1125" y="1276"/>
                    </a:lnTo>
                    <a:lnTo>
                      <a:pt x="1103" y="1297"/>
                    </a:lnTo>
                    <a:lnTo>
                      <a:pt x="1081" y="1318"/>
                    </a:lnTo>
                    <a:lnTo>
                      <a:pt x="1058" y="1337"/>
                    </a:lnTo>
                    <a:lnTo>
                      <a:pt x="1034" y="1356"/>
                    </a:lnTo>
                    <a:lnTo>
                      <a:pt x="1008" y="1373"/>
                    </a:lnTo>
                    <a:lnTo>
                      <a:pt x="983" y="1389"/>
                    </a:lnTo>
                    <a:lnTo>
                      <a:pt x="956" y="1405"/>
                    </a:lnTo>
                    <a:lnTo>
                      <a:pt x="930" y="1419"/>
                    </a:lnTo>
                    <a:lnTo>
                      <a:pt x="902" y="1433"/>
                    </a:lnTo>
                    <a:lnTo>
                      <a:pt x="873" y="1445"/>
                    </a:lnTo>
                    <a:lnTo>
                      <a:pt x="844" y="1456"/>
                    </a:lnTo>
                    <a:lnTo>
                      <a:pt x="816" y="1465"/>
                    </a:lnTo>
                    <a:lnTo>
                      <a:pt x="786" y="1475"/>
                    </a:lnTo>
                    <a:lnTo>
                      <a:pt x="754" y="1481"/>
                    </a:lnTo>
                    <a:lnTo>
                      <a:pt x="724" y="1487"/>
                    </a:lnTo>
                    <a:lnTo>
                      <a:pt x="692" y="1493"/>
                    </a:lnTo>
                    <a:lnTo>
                      <a:pt x="661" y="1495"/>
                    </a:lnTo>
                    <a:lnTo>
                      <a:pt x="629" y="1498"/>
                    </a:lnTo>
                    <a:lnTo>
                      <a:pt x="596" y="1499"/>
                    </a:lnTo>
                    <a:lnTo>
                      <a:pt x="593" y="1499"/>
                    </a:lnTo>
                    <a:lnTo>
                      <a:pt x="591" y="1499"/>
                    </a:lnTo>
                    <a:lnTo>
                      <a:pt x="587" y="1499"/>
                    </a:lnTo>
                    <a:lnTo>
                      <a:pt x="585" y="1499"/>
                    </a:lnTo>
                    <a:lnTo>
                      <a:pt x="581" y="1499"/>
                    </a:lnTo>
                    <a:lnTo>
                      <a:pt x="578" y="1499"/>
                    </a:lnTo>
                    <a:lnTo>
                      <a:pt x="576" y="1499"/>
                    </a:lnTo>
                    <a:lnTo>
                      <a:pt x="572" y="1499"/>
                    </a:lnTo>
                    <a:lnTo>
                      <a:pt x="585" y="152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35760" y="3740040"/>
                <a:ext cx="349200" cy="397080"/>
              </a:xfrm>
              <a:custGeom>
                <a:avLst/>
                <a:gdLst/>
                <a:ahLst/>
                <a:rect l="l" t="t" r="r" b="b"/>
                <a:pathLst>
                  <a:path w="1319" h="1498">
                    <a:moveTo>
                      <a:pt x="845" y="44"/>
                    </a:moveTo>
                    <a:lnTo>
                      <a:pt x="815" y="33"/>
                    </a:lnTo>
                    <a:lnTo>
                      <a:pt x="785" y="25"/>
                    </a:lnTo>
                    <a:lnTo>
                      <a:pt x="754" y="17"/>
                    </a:lnTo>
                    <a:lnTo>
                      <a:pt x="722" y="11"/>
                    </a:lnTo>
                    <a:lnTo>
                      <a:pt x="690" y="5"/>
                    </a:lnTo>
                    <a:lnTo>
                      <a:pt x="658" y="2"/>
                    </a:lnTo>
                    <a:lnTo>
                      <a:pt x="625" y="1"/>
                    </a:lnTo>
                    <a:lnTo>
                      <a:pt x="592" y="0"/>
                    </a:lnTo>
                    <a:lnTo>
                      <a:pt x="569" y="0"/>
                    </a:lnTo>
                    <a:lnTo>
                      <a:pt x="547" y="1"/>
                    </a:lnTo>
                    <a:lnTo>
                      <a:pt x="526" y="3"/>
                    </a:lnTo>
                    <a:lnTo>
                      <a:pt x="502" y="4"/>
                    </a:lnTo>
                    <a:lnTo>
                      <a:pt x="482" y="8"/>
                    </a:lnTo>
                    <a:lnTo>
                      <a:pt x="460" y="11"/>
                    </a:lnTo>
                    <a:lnTo>
                      <a:pt x="438" y="16"/>
                    </a:lnTo>
                    <a:lnTo>
                      <a:pt x="417" y="20"/>
                    </a:lnTo>
                    <a:lnTo>
                      <a:pt x="396" y="25"/>
                    </a:lnTo>
                    <a:lnTo>
                      <a:pt x="376" y="32"/>
                    </a:lnTo>
                    <a:lnTo>
                      <a:pt x="355" y="38"/>
                    </a:lnTo>
                    <a:lnTo>
                      <a:pt x="335" y="45"/>
                    </a:lnTo>
                    <a:lnTo>
                      <a:pt x="295" y="61"/>
                    </a:lnTo>
                    <a:lnTo>
                      <a:pt x="257" y="79"/>
                    </a:lnTo>
                    <a:lnTo>
                      <a:pt x="220" y="99"/>
                    </a:lnTo>
                    <a:lnTo>
                      <a:pt x="184" y="121"/>
                    </a:lnTo>
                    <a:lnTo>
                      <a:pt x="150" y="145"/>
                    </a:lnTo>
                    <a:lnTo>
                      <a:pt x="116" y="170"/>
                    </a:lnTo>
                    <a:lnTo>
                      <a:pt x="84" y="198"/>
                    </a:lnTo>
                    <a:lnTo>
                      <a:pt x="54" y="227"/>
                    </a:lnTo>
                    <a:lnTo>
                      <a:pt x="26" y="258"/>
                    </a:lnTo>
                    <a:lnTo>
                      <a:pt x="0" y="290"/>
                    </a:lnTo>
                    <a:lnTo>
                      <a:pt x="7" y="319"/>
                    </a:lnTo>
                    <a:lnTo>
                      <a:pt x="19" y="302"/>
                    </a:lnTo>
                    <a:lnTo>
                      <a:pt x="33" y="286"/>
                    </a:lnTo>
                    <a:lnTo>
                      <a:pt x="46" y="269"/>
                    </a:lnTo>
                    <a:lnTo>
                      <a:pt x="60" y="254"/>
                    </a:lnTo>
                    <a:lnTo>
                      <a:pt x="75" y="239"/>
                    </a:lnTo>
                    <a:lnTo>
                      <a:pt x="90" y="225"/>
                    </a:lnTo>
                    <a:lnTo>
                      <a:pt x="105" y="211"/>
                    </a:lnTo>
                    <a:lnTo>
                      <a:pt x="121" y="197"/>
                    </a:lnTo>
                    <a:lnTo>
                      <a:pt x="137" y="183"/>
                    </a:lnTo>
                    <a:lnTo>
                      <a:pt x="153" y="170"/>
                    </a:lnTo>
                    <a:lnTo>
                      <a:pt x="169" y="158"/>
                    </a:lnTo>
                    <a:lnTo>
                      <a:pt x="186" y="146"/>
                    </a:lnTo>
                    <a:lnTo>
                      <a:pt x="204" y="135"/>
                    </a:lnTo>
                    <a:lnTo>
                      <a:pt x="222" y="123"/>
                    </a:lnTo>
                    <a:lnTo>
                      <a:pt x="241" y="113"/>
                    </a:lnTo>
                    <a:lnTo>
                      <a:pt x="259" y="103"/>
                    </a:lnTo>
                    <a:lnTo>
                      <a:pt x="297" y="85"/>
                    </a:lnTo>
                    <a:lnTo>
                      <a:pt x="336" y="69"/>
                    </a:lnTo>
                    <a:lnTo>
                      <a:pt x="356" y="62"/>
                    </a:lnTo>
                    <a:lnTo>
                      <a:pt x="377" y="55"/>
                    </a:lnTo>
                    <a:lnTo>
                      <a:pt x="398" y="49"/>
                    </a:lnTo>
                    <a:lnTo>
                      <a:pt x="418" y="44"/>
                    </a:lnTo>
                    <a:lnTo>
                      <a:pt x="439" y="39"/>
                    </a:lnTo>
                    <a:lnTo>
                      <a:pt x="460" y="34"/>
                    </a:lnTo>
                    <a:lnTo>
                      <a:pt x="482" y="31"/>
                    </a:lnTo>
                    <a:lnTo>
                      <a:pt x="504" y="27"/>
                    </a:lnTo>
                    <a:lnTo>
                      <a:pt x="526" y="25"/>
                    </a:lnTo>
                    <a:lnTo>
                      <a:pt x="547" y="24"/>
                    </a:lnTo>
                    <a:lnTo>
                      <a:pt x="569" y="23"/>
                    </a:lnTo>
                    <a:lnTo>
                      <a:pt x="592" y="23"/>
                    </a:lnTo>
                    <a:lnTo>
                      <a:pt x="627" y="23"/>
                    </a:lnTo>
                    <a:lnTo>
                      <a:pt x="662" y="25"/>
                    </a:lnTo>
                    <a:lnTo>
                      <a:pt x="695" y="30"/>
                    </a:lnTo>
                    <a:lnTo>
                      <a:pt x="729" y="35"/>
                    </a:lnTo>
                    <a:lnTo>
                      <a:pt x="761" y="42"/>
                    </a:lnTo>
                    <a:lnTo>
                      <a:pt x="793" y="50"/>
                    </a:lnTo>
                    <a:lnTo>
                      <a:pt x="825" y="61"/>
                    </a:lnTo>
                    <a:lnTo>
                      <a:pt x="857" y="72"/>
                    </a:lnTo>
                    <a:lnTo>
                      <a:pt x="851" y="54"/>
                    </a:lnTo>
                    <a:lnTo>
                      <a:pt x="845" y="44"/>
                    </a:lnTo>
                    <a:close/>
                    <a:moveTo>
                      <a:pt x="575" y="1498"/>
                    </a:moveTo>
                    <a:lnTo>
                      <a:pt x="576" y="1498"/>
                    </a:lnTo>
                    <a:lnTo>
                      <a:pt x="579" y="1498"/>
                    </a:lnTo>
                    <a:lnTo>
                      <a:pt x="581" y="1498"/>
                    </a:lnTo>
                    <a:lnTo>
                      <a:pt x="583" y="1498"/>
                    </a:lnTo>
                    <a:lnTo>
                      <a:pt x="586" y="1498"/>
                    </a:lnTo>
                    <a:lnTo>
                      <a:pt x="588" y="1498"/>
                    </a:lnTo>
                    <a:lnTo>
                      <a:pt x="590" y="1498"/>
                    </a:lnTo>
                    <a:lnTo>
                      <a:pt x="592" y="1498"/>
                    </a:lnTo>
                    <a:lnTo>
                      <a:pt x="625" y="1497"/>
                    </a:lnTo>
                    <a:lnTo>
                      <a:pt x="657" y="1495"/>
                    </a:lnTo>
                    <a:lnTo>
                      <a:pt x="689" y="1491"/>
                    </a:lnTo>
                    <a:lnTo>
                      <a:pt x="720" y="1487"/>
                    </a:lnTo>
                    <a:lnTo>
                      <a:pt x="752" y="1481"/>
                    </a:lnTo>
                    <a:lnTo>
                      <a:pt x="783" y="1474"/>
                    </a:lnTo>
                    <a:lnTo>
                      <a:pt x="813" y="1465"/>
                    </a:lnTo>
                    <a:lnTo>
                      <a:pt x="843" y="1456"/>
                    </a:lnTo>
                    <a:lnTo>
                      <a:pt x="872" y="1444"/>
                    </a:lnTo>
                    <a:lnTo>
                      <a:pt x="899" y="1433"/>
                    </a:lnTo>
                    <a:lnTo>
                      <a:pt x="927" y="1419"/>
                    </a:lnTo>
                    <a:lnTo>
                      <a:pt x="955" y="1405"/>
                    </a:lnTo>
                    <a:lnTo>
                      <a:pt x="981" y="1390"/>
                    </a:lnTo>
                    <a:lnTo>
                      <a:pt x="1007" y="1373"/>
                    </a:lnTo>
                    <a:lnTo>
                      <a:pt x="1032" y="1355"/>
                    </a:lnTo>
                    <a:lnTo>
                      <a:pt x="1056" y="1337"/>
                    </a:lnTo>
                    <a:lnTo>
                      <a:pt x="1080" y="1317"/>
                    </a:lnTo>
                    <a:lnTo>
                      <a:pt x="1102" y="1298"/>
                    </a:lnTo>
                    <a:lnTo>
                      <a:pt x="1124" y="1276"/>
                    </a:lnTo>
                    <a:lnTo>
                      <a:pt x="1146" y="1254"/>
                    </a:lnTo>
                    <a:lnTo>
                      <a:pt x="1166" y="1231"/>
                    </a:lnTo>
                    <a:lnTo>
                      <a:pt x="1185" y="1208"/>
                    </a:lnTo>
                    <a:lnTo>
                      <a:pt x="1203" y="1184"/>
                    </a:lnTo>
                    <a:lnTo>
                      <a:pt x="1220" y="1158"/>
                    </a:lnTo>
                    <a:lnTo>
                      <a:pt x="1236" y="1132"/>
                    </a:lnTo>
                    <a:lnTo>
                      <a:pt x="1252" y="1105"/>
                    </a:lnTo>
                    <a:lnTo>
                      <a:pt x="1266" y="1078"/>
                    </a:lnTo>
                    <a:lnTo>
                      <a:pt x="1279" y="1050"/>
                    </a:lnTo>
                    <a:lnTo>
                      <a:pt x="1290" y="1021"/>
                    </a:lnTo>
                    <a:lnTo>
                      <a:pt x="1302" y="992"/>
                    </a:lnTo>
                    <a:lnTo>
                      <a:pt x="1311" y="962"/>
                    </a:lnTo>
                    <a:lnTo>
                      <a:pt x="1319" y="932"/>
                    </a:lnTo>
                    <a:lnTo>
                      <a:pt x="1302" y="907"/>
                    </a:lnTo>
                    <a:lnTo>
                      <a:pt x="1295" y="937"/>
                    </a:lnTo>
                    <a:lnTo>
                      <a:pt x="1286" y="967"/>
                    </a:lnTo>
                    <a:lnTo>
                      <a:pt x="1276" y="996"/>
                    </a:lnTo>
                    <a:lnTo>
                      <a:pt x="1265" y="1025"/>
                    </a:lnTo>
                    <a:lnTo>
                      <a:pt x="1252" y="1052"/>
                    </a:lnTo>
                    <a:lnTo>
                      <a:pt x="1240" y="1080"/>
                    </a:lnTo>
                    <a:lnTo>
                      <a:pt x="1225" y="1106"/>
                    </a:lnTo>
                    <a:lnTo>
                      <a:pt x="1210" y="1133"/>
                    </a:lnTo>
                    <a:lnTo>
                      <a:pt x="1192" y="1158"/>
                    </a:lnTo>
                    <a:lnTo>
                      <a:pt x="1175" y="1182"/>
                    </a:lnTo>
                    <a:lnTo>
                      <a:pt x="1156" y="1207"/>
                    </a:lnTo>
                    <a:lnTo>
                      <a:pt x="1137" y="1230"/>
                    </a:lnTo>
                    <a:lnTo>
                      <a:pt x="1116" y="1252"/>
                    </a:lnTo>
                    <a:lnTo>
                      <a:pt x="1095" y="1274"/>
                    </a:lnTo>
                    <a:lnTo>
                      <a:pt x="1073" y="1293"/>
                    </a:lnTo>
                    <a:lnTo>
                      <a:pt x="1050" y="1313"/>
                    </a:lnTo>
                    <a:lnTo>
                      <a:pt x="1026" y="1331"/>
                    </a:lnTo>
                    <a:lnTo>
                      <a:pt x="1002" y="1350"/>
                    </a:lnTo>
                    <a:lnTo>
                      <a:pt x="977" y="1366"/>
                    </a:lnTo>
                    <a:lnTo>
                      <a:pt x="950" y="1381"/>
                    </a:lnTo>
                    <a:lnTo>
                      <a:pt x="923" y="1396"/>
                    </a:lnTo>
                    <a:lnTo>
                      <a:pt x="896" y="1410"/>
                    </a:lnTo>
                    <a:lnTo>
                      <a:pt x="868" y="1421"/>
                    </a:lnTo>
                    <a:lnTo>
                      <a:pt x="839" y="1433"/>
                    </a:lnTo>
                    <a:lnTo>
                      <a:pt x="810" y="1442"/>
                    </a:lnTo>
                    <a:lnTo>
                      <a:pt x="780" y="1451"/>
                    </a:lnTo>
                    <a:lnTo>
                      <a:pt x="750" y="1458"/>
                    </a:lnTo>
                    <a:lnTo>
                      <a:pt x="719" y="1464"/>
                    </a:lnTo>
                    <a:lnTo>
                      <a:pt x="688" y="1469"/>
                    </a:lnTo>
                    <a:lnTo>
                      <a:pt x="657" y="1473"/>
                    </a:lnTo>
                    <a:lnTo>
                      <a:pt x="625" y="1474"/>
                    </a:lnTo>
                    <a:lnTo>
                      <a:pt x="592" y="1475"/>
                    </a:lnTo>
                    <a:lnTo>
                      <a:pt x="588" y="1475"/>
                    </a:lnTo>
                    <a:lnTo>
                      <a:pt x="584" y="1475"/>
                    </a:lnTo>
                    <a:lnTo>
                      <a:pt x="581" y="1475"/>
                    </a:lnTo>
                    <a:lnTo>
                      <a:pt x="577" y="1475"/>
                    </a:lnTo>
                    <a:lnTo>
                      <a:pt x="574" y="1475"/>
                    </a:lnTo>
                    <a:lnTo>
                      <a:pt x="571" y="1475"/>
                    </a:lnTo>
                    <a:lnTo>
                      <a:pt x="566" y="1475"/>
                    </a:lnTo>
                    <a:lnTo>
                      <a:pt x="562" y="1475"/>
                    </a:lnTo>
                    <a:lnTo>
                      <a:pt x="575" y="1498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35760" y="3743280"/>
                <a:ext cx="345960" cy="390600"/>
              </a:xfrm>
              <a:custGeom>
                <a:avLst/>
                <a:gdLst/>
                <a:ahLst/>
                <a:rect l="l" t="t" r="r" b="b"/>
                <a:pathLst>
                  <a:path w="1308" h="1476">
                    <a:moveTo>
                      <a:pt x="849" y="46"/>
                    </a:moveTo>
                    <a:lnTo>
                      <a:pt x="818" y="36"/>
                    </a:lnTo>
                    <a:lnTo>
                      <a:pt x="787" y="27"/>
                    </a:lnTo>
                    <a:lnTo>
                      <a:pt x="756" y="19"/>
                    </a:lnTo>
                    <a:lnTo>
                      <a:pt x="723" y="12"/>
                    </a:lnTo>
                    <a:lnTo>
                      <a:pt x="690" y="7"/>
                    </a:lnTo>
                    <a:lnTo>
                      <a:pt x="656" y="3"/>
                    </a:lnTo>
                    <a:lnTo>
                      <a:pt x="623" y="0"/>
                    </a:lnTo>
                    <a:lnTo>
                      <a:pt x="589" y="0"/>
                    </a:lnTo>
                    <a:lnTo>
                      <a:pt x="566" y="0"/>
                    </a:lnTo>
                    <a:lnTo>
                      <a:pt x="544" y="1"/>
                    </a:lnTo>
                    <a:lnTo>
                      <a:pt x="523" y="3"/>
                    </a:lnTo>
                    <a:lnTo>
                      <a:pt x="501" y="5"/>
                    </a:lnTo>
                    <a:lnTo>
                      <a:pt x="479" y="8"/>
                    </a:lnTo>
                    <a:lnTo>
                      <a:pt x="457" y="12"/>
                    </a:lnTo>
                    <a:lnTo>
                      <a:pt x="436" y="16"/>
                    </a:lnTo>
                    <a:lnTo>
                      <a:pt x="414" y="21"/>
                    </a:lnTo>
                    <a:lnTo>
                      <a:pt x="393" y="27"/>
                    </a:lnTo>
                    <a:lnTo>
                      <a:pt x="373" y="33"/>
                    </a:lnTo>
                    <a:lnTo>
                      <a:pt x="353" y="38"/>
                    </a:lnTo>
                    <a:lnTo>
                      <a:pt x="332" y="46"/>
                    </a:lnTo>
                    <a:lnTo>
                      <a:pt x="293" y="62"/>
                    </a:lnTo>
                    <a:lnTo>
                      <a:pt x="255" y="80"/>
                    </a:lnTo>
                    <a:lnTo>
                      <a:pt x="237" y="90"/>
                    </a:lnTo>
                    <a:lnTo>
                      <a:pt x="218" y="101"/>
                    </a:lnTo>
                    <a:lnTo>
                      <a:pt x="200" y="111"/>
                    </a:lnTo>
                    <a:lnTo>
                      <a:pt x="182" y="122"/>
                    </a:lnTo>
                    <a:lnTo>
                      <a:pt x="148" y="147"/>
                    </a:lnTo>
                    <a:lnTo>
                      <a:pt x="115" y="172"/>
                    </a:lnTo>
                    <a:lnTo>
                      <a:pt x="99" y="186"/>
                    </a:lnTo>
                    <a:lnTo>
                      <a:pt x="84" y="201"/>
                    </a:lnTo>
                    <a:lnTo>
                      <a:pt x="69" y="215"/>
                    </a:lnTo>
                    <a:lnTo>
                      <a:pt x="54" y="230"/>
                    </a:lnTo>
                    <a:lnTo>
                      <a:pt x="27" y="261"/>
                    </a:lnTo>
                    <a:lnTo>
                      <a:pt x="0" y="293"/>
                    </a:lnTo>
                    <a:lnTo>
                      <a:pt x="5" y="311"/>
                    </a:lnTo>
                    <a:lnTo>
                      <a:pt x="8" y="321"/>
                    </a:lnTo>
                    <a:lnTo>
                      <a:pt x="21" y="305"/>
                    </a:lnTo>
                    <a:lnTo>
                      <a:pt x="34" y="288"/>
                    </a:lnTo>
                    <a:lnTo>
                      <a:pt x="46" y="272"/>
                    </a:lnTo>
                    <a:lnTo>
                      <a:pt x="60" y="256"/>
                    </a:lnTo>
                    <a:lnTo>
                      <a:pt x="75" y="241"/>
                    </a:lnTo>
                    <a:lnTo>
                      <a:pt x="89" y="226"/>
                    </a:lnTo>
                    <a:lnTo>
                      <a:pt x="104" y="212"/>
                    </a:lnTo>
                    <a:lnTo>
                      <a:pt x="120" y="199"/>
                    </a:lnTo>
                    <a:lnTo>
                      <a:pt x="136" y="185"/>
                    </a:lnTo>
                    <a:lnTo>
                      <a:pt x="152" y="172"/>
                    </a:lnTo>
                    <a:lnTo>
                      <a:pt x="168" y="159"/>
                    </a:lnTo>
                    <a:lnTo>
                      <a:pt x="186" y="148"/>
                    </a:lnTo>
                    <a:lnTo>
                      <a:pt x="203" y="136"/>
                    </a:lnTo>
                    <a:lnTo>
                      <a:pt x="220" y="125"/>
                    </a:lnTo>
                    <a:lnTo>
                      <a:pt x="239" y="114"/>
                    </a:lnTo>
                    <a:lnTo>
                      <a:pt x="257" y="104"/>
                    </a:lnTo>
                    <a:lnTo>
                      <a:pt x="276" y="95"/>
                    </a:lnTo>
                    <a:lnTo>
                      <a:pt x="295" y="86"/>
                    </a:lnTo>
                    <a:lnTo>
                      <a:pt x="315" y="77"/>
                    </a:lnTo>
                    <a:lnTo>
                      <a:pt x="335" y="69"/>
                    </a:lnTo>
                    <a:lnTo>
                      <a:pt x="354" y="62"/>
                    </a:lnTo>
                    <a:lnTo>
                      <a:pt x="374" y="56"/>
                    </a:lnTo>
                    <a:lnTo>
                      <a:pt x="395" y="50"/>
                    </a:lnTo>
                    <a:lnTo>
                      <a:pt x="415" y="44"/>
                    </a:lnTo>
                    <a:lnTo>
                      <a:pt x="436" y="39"/>
                    </a:lnTo>
                    <a:lnTo>
                      <a:pt x="458" y="35"/>
                    </a:lnTo>
                    <a:lnTo>
                      <a:pt x="479" y="31"/>
                    </a:lnTo>
                    <a:lnTo>
                      <a:pt x="501" y="28"/>
                    </a:lnTo>
                    <a:lnTo>
                      <a:pt x="523" y="26"/>
                    </a:lnTo>
                    <a:lnTo>
                      <a:pt x="544" y="24"/>
                    </a:lnTo>
                    <a:lnTo>
                      <a:pt x="566" y="23"/>
                    </a:lnTo>
                    <a:lnTo>
                      <a:pt x="589" y="22"/>
                    </a:lnTo>
                    <a:lnTo>
                      <a:pt x="624" y="23"/>
                    </a:lnTo>
                    <a:lnTo>
                      <a:pt x="660" y="26"/>
                    </a:lnTo>
                    <a:lnTo>
                      <a:pt x="694" y="30"/>
                    </a:lnTo>
                    <a:lnTo>
                      <a:pt x="728" y="36"/>
                    </a:lnTo>
                    <a:lnTo>
                      <a:pt x="761" y="44"/>
                    </a:lnTo>
                    <a:lnTo>
                      <a:pt x="794" y="52"/>
                    </a:lnTo>
                    <a:lnTo>
                      <a:pt x="826" y="62"/>
                    </a:lnTo>
                    <a:lnTo>
                      <a:pt x="858" y="75"/>
                    </a:lnTo>
                    <a:lnTo>
                      <a:pt x="849" y="46"/>
                    </a:lnTo>
                    <a:close/>
                    <a:moveTo>
                      <a:pt x="565" y="1476"/>
                    </a:moveTo>
                    <a:lnTo>
                      <a:pt x="569" y="1476"/>
                    </a:lnTo>
                    <a:lnTo>
                      <a:pt x="571" y="1476"/>
                    </a:lnTo>
                    <a:lnTo>
                      <a:pt x="574" y="1476"/>
                    </a:lnTo>
                    <a:lnTo>
                      <a:pt x="578" y="1476"/>
                    </a:lnTo>
                    <a:lnTo>
                      <a:pt x="580" y="1476"/>
                    </a:lnTo>
                    <a:lnTo>
                      <a:pt x="584" y="1476"/>
                    </a:lnTo>
                    <a:lnTo>
                      <a:pt x="586" y="1476"/>
                    </a:lnTo>
                    <a:lnTo>
                      <a:pt x="589" y="1476"/>
                    </a:lnTo>
                    <a:lnTo>
                      <a:pt x="622" y="1475"/>
                    </a:lnTo>
                    <a:lnTo>
                      <a:pt x="654" y="1472"/>
                    </a:lnTo>
                    <a:lnTo>
                      <a:pt x="685" y="1470"/>
                    </a:lnTo>
                    <a:lnTo>
                      <a:pt x="717" y="1464"/>
                    </a:lnTo>
                    <a:lnTo>
                      <a:pt x="747" y="1458"/>
                    </a:lnTo>
                    <a:lnTo>
                      <a:pt x="779" y="1452"/>
                    </a:lnTo>
                    <a:lnTo>
                      <a:pt x="809" y="1442"/>
                    </a:lnTo>
                    <a:lnTo>
                      <a:pt x="837" y="1433"/>
                    </a:lnTo>
                    <a:lnTo>
                      <a:pt x="866" y="1422"/>
                    </a:lnTo>
                    <a:lnTo>
                      <a:pt x="895" y="1410"/>
                    </a:lnTo>
                    <a:lnTo>
                      <a:pt x="923" y="1396"/>
                    </a:lnTo>
                    <a:lnTo>
                      <a:pt x="949" y="1382"/>
                    </a:lnTo>
                    <a:lnTo>
                      <a:pt x="976" y="1366"/>
                    </a:lnTo>
                    <a:lnTo>
                      <a:pt x="1001" y="1350"/>
                    </a:lnTo>
                    <a:lnTo>
                      <a:pt x="1027" y="1333"/>
                    </a:lnTo>
                    <a:lnTo>
                      <a:pt x="1051" y="1314"/>
                    </a:lnTo>
                    <a:lnTo>
                      <a:pt x="1074" y="1295"/>
                    </a:lnTo>
                    <a:lnTo>
                      <a:pt x="1096" y="1274"/>
                    </a:lnTo>
                    <a:lnTo>
                      <a:pt x="1118" y="1253"/>
                    </a:lnTo>
                    <a:lnTo>
                      <a:pt x="1138" y="1231"/>
                    </a:lnTo>
                    <a:lnTo>
                      <a:pt x="1158" y="1208"/>
                    </a:lnTo>
                    <a:lnTo>
                      <a:pt x="1177" y="1184"/>
                    </a:lnTo>
                    <a:lnTo>
                      <a:pt x="1195" y="1160"/>
                    </a:lnTo>
                    <a:lnTo>
                      <a:pt x="1212" y="1135"/>
                    </a:lnTo>
                    <a:lnTo>
                      <a:pt x="1227" y="1108"/>
                    </a:lnTo>
                    <a:lnTo>
                      <a:pt x="1242" y="1082"/>
                    </a:lnTo>
                    <a:lnTo>
                      <a:pt x="1256" y="1055"/>
                    </a:lnTo>
                    <a:lnTo>
                      <a:pt x="1269" y="1026"/>
                    </a:lnTo>
                    <a:lnTo>
                      <a:pt x="1280" y="997"/>
                    </a:lnTo>
                    <a:lnTo>
                      <a:pt x="1291" y="969"/>
                    </a:lnTo>
                    <a:lnTo>
                      <a:pt x="1300" y="939"/>
                    </a:lnTo>
                    <a:lnTo>
                      <a:pt x="1308" y="909"/>
                    </a:lnTo>
                    <a:lnTo>
                      <a:pt x="1291" y="882"/>
                    </a:lnTo>
                    <a:lnTo>
                      <a:pt x="1283" y="913"/>
                    </a:lnTo>
                    <a:lnTo>
                      <a:pt x="1275" y="943"/>
                    </a:lnTo>
                    <a:lnTo>
                      <a:pt x="1265" y="972"/>
                    </a:lnTo>
                    <a:lnTo>
                      <a:pt x="1255" y="1001"/>
                    </a:lnTo>
                    <a:lnTo>
                      <a:pt x="1243" y="1029"/>
                    </a:lnTo>
                    <a:lnTo>
                      <a:pt x="1230" y="1056"/>
                    </a:lnTo>
                    <a:lnTo>
                      <a:pt x="1216" y="1083"/>
                    </a:lnTo>
                    <a:lnTo>
                      <a:pt x="1201" y="1109"/>
                    </a:lnTo>
                    <a:lnTo>
                      <a:pt x="1185" y="1135"/>
                    </a:lnTo>
                    <a:lnTo>
                      <a:pt x="1167" y="1159"/>
                    </a:lnTo>
                    <a:lnTo>
                      <a:pt x="1149" y="1183"/>
                    </a:lnTo>
                    <a:lnTo>
                      <a:pt x="1130" y="1206"/>
                    </a:lnTo>
                    <a:lnTo>
                      <a:pt x="1110" y="1228"/>
                    </a:lnTo>
                    <a:lnTo>
                      <a:pt x="1089" y="1250"/>
                    </a:lnTo>
                    <a:lnTo>
                      <a:pt x="1067" y="1271"/>
                    </a:lnTo>
                    <a:lnTo>
                      <a:pt x="1044" y="1290"/>
                    </a:lnTo>
                    <a:lnTo>
                      <a:pt x="1021" y="1309"/>
                    </a:lnTo>
                    <a:lnTo>
                      <a:pt x="997" y="1326"/>
                    </a:lnTo>
                    <a:lnTo>
                      <a:pt x="971" y="1343"/>
                    </a:lnTo>
                    <a:lnTo>
                      <a:pt x="945" y="1358"/>
                    </a:lnTo>
                    <a:lnTo>
                      <a:pt x="918" y="1373"/>
                    </a:lnTo>
                    <a:lnTo>
                      <a:pt x="892" y="1386"/>
                    </a:lnTo>
                    <a:lnTo>
                      <a:pt x="864" y="1399"/>
                    </a:lnTo>
                    <a:lnTo>
                      <a:pt x="835" y="1410"/>
                    </a:lnTo>
                    <a:lnTo>
                      <a:pt x="806" y="1419"/>
                    </a:lnTo>
                    <a:lnTo>
                      <a:pt x="776" y="1429"/>
                    </a:lnTo>
                    <a:lnTo>
                      <a:pt x="746" y="1435"/>
                    </a:lnTo>
                    <a:lnTo>
                      <a:pt x="715" y="1442"/>
                    </a:lnTo>
                    <a:lnTo>
                      <a:pt x="685" y="1447"/>
                    </a:lnTo>
                    <a:lnTo>
                      <a:pt x="653" y="1450"/>
                    </a:lnTo>
                    <a:lnTo>
                      <a:pt x="622" y="1453"/>
                    </a:lnTo>
                    <a:lnTo>
                      <a:pt x="589" y="1453"/>
                    </a:lnTo>
                    <a:lnTo>
                      <a:pt x="585" y="1453"/>
                    </a:lnTo>
                    <a:lnTo>
                      <a:pt x="580" y="1453"/>
                    </a:lnTo>
                    <a:lnTo>
                      <a:pt x="576" y="1453"/>
                    </a:lnTo>
                    <a:lnTo>
                      <a:pt x="571" y="1453"/>
                    </a:lnTo>
                    <a:lnTo>
                      <a:pt x="566" y="1453"/>
                    </a:lnTo>
                    <a:lnTo>
                      <a:pt x="563" y="1453"/>
                    </a:lnTo>
                    <a:lnTo>
                      <a:pt x="558" y="1453"/>
                    </a:lnTo>
                    <a:lnTo>
                      <a:pt x="554" y="1452"/>
                    </a:lnTo>
                    <a:lnTo>
                      <a:pt x="565" y="147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37200" y="3746520"/>
                <a:ext cx="343080" cy="384120"/>
              </a:xfrm>
              <a:custGeom>
                <a:avLst/>
                <a:gdLst/>
                <a:ahLst/>
                <a:rect l="l" t="t" r="r" b="b"/>
                <a:pathLst>
                  <a:path w="1295" h="1452">
                    <a:moveTo>
                      <a:pt x="850" y="49"/>
                    </a:moveTo>
                    <a:lnTo>
                      <a:pt x="818" y="38"/>
                    </a:lnTo>
                    <a:lnTo>
                      <a:pt x="786" y="27"/>
                    </a:lnTo>
                    <a:lnTo>
                      <a:pt x="754" y="19"/>
                    </a:lnTo>
                    <a:lnTo>
                      <a:pt x="722" y="12"/>
                    </a:lnTo>
                    <a:lnTo>
                      <a:pt x="688" y="7"/>
                    </a:lnTo>
                    <a:lnTo>
                      <a:pt x="655" y="2"/>
                    </a:lnTo>
                    <a:lnTo>
                      <a:pt x="620" y="0"/>
                    </a:lnTo>
                    <a:lnTo>
                      <a:pt x="585" y="0"/>
                    </a:lnTo>
                    <a:lnTo>
                      <a:pt x="562" y="0"/>
                    </a:lnTo>
                    <a:lnTo>
                      <a:pt x="540" y="1"/>
                    </a:lnTo>
                    <a:lnTo>
                      <a:pt x="519" y="2"/>
                    </a:lnTo>
                    <a:lnTo>
                      <a:pt x="497" y="4"/>
                    </a:lnTo>
                    <a:lnTo>
                      <a:pt x="475" y="8"/>
                    </a:lnTo>
                    <a:lnTo>
                      <a:pt x="453" y="11"/>
                    </a:lnTo>
                    <a:lnTo>
                      <a:pt x="432" y="16"/>
                    </a:lnTo>
                    <a:lnTo>
                      <a:pt x="411" y="21"/>
                    </a:lnTo>
                    <a:lnTo>
                      <a:pt x="391" y="26"/>
                    </a:lnTo>
                    <a:lnTo>
                      <a:pt x="370" y="32"/>
                    </a:lnTo>
                    <a:lnTo>
                      <a:pt x="349" y="39"/>
                    </a:lnTo>
                    <a:lnTo>
                      <a:pt x="329" y="46"/>
                    </a:lnTo>
                    <a:lnTo>
                      <a:pt x="290" y="62"/>
                    </a:lnTo>
                    <a:lnTo>
                      <a:pt x="252" y="80"/>
                    </a:lnTo>
                    <a:lnTo>
                      <a:pt x="234" y="90"/>
                    </a:lnTo>
                    <a:lnTo>
                      <a:pt x="215" y="100"/>
                    </a:lnTo>
                    <a:lnTo>
                      <a:pt x="197" y="112"/>
                    </a:lnTo>
                    <a:lnTo>
                      <a:pt x="179" y="123"/>
                    </a:lnTo>
                    <a:lnTo>
                      <a:pt x="162" y="135"/>
                    </a:lnTo>
                    <a:lnTo>
                      <a:pt x="146" y="147"/>
                    </a:lnTo>
                    <a:lnTo>
                      <a:pt x="130" y="160"/>
                    </a:lnTo>
                    <a:lnTo>
                      <a:pt x="114" y="174"/>
                    </a:lnTo>
                    <a:lnTo>
                      <a:pt x="98" y="188"/>
                    </a:lnTo>
                    <a:lnTo>
                      <a:pt x="83" y="202"/>
                    </a:lnTo>
                    <a:lnTo>
                      <a:pt x="68" y="216"/>
                    </a:lnTo>
                    <a:lnTo>
                      <a:pt x="53" y="231"/>
                    </a:lnTo>
                    <a:lnTo>
                      <a:pt x="39" y="246"/>
                    </a:lnTo>
                    <a:lnTo>
                      <a:pt x="26" y="263"/>
                    </a:lnTo>
                    <a:lnTo>
                      <a:pt x="12" y="279"/>
                    </a:lnTo>
                    <a:lnTo>
                      <a:pt x="0" y="296"/>
                    </a:lnTo>
                    <a:lnTo>
                      <a:pt x="1" y="299"/>
                    </a:lnTo>
                    <a:lnTo>
                      <a:pt x="9" y="323"/>
                    </a:lnTo>
                    <a:lnTo>
                      <a:pt x="20" y="305"/>
                    </a:lnTo>
                    <a:lnTo>
                      <a:pt x="33" y="289"/>
                    </a:lnTo>
                    <a:lnTo>
                      <a:pt x="46" y="273"/>
                    </a:lnTo>
                    <a:lnTo>
                      <a:pt x="60" y="258"/>
                    </a:lnTo>
                    <a:lnTo>
                      <a:pt x="73" y="242"/>
                    </a:lnTo>
                    <a:lnTo>
                      <a:pt x="88" y="228"/>
                    </a:lnTo>
                    <a:lnTo>
                      <a:pt x="103" y="213"/>
                    </a:lnTo>
                    <a:lnTo>
                      <a:pt x="118" y="199"/>
                    </a:lnTo>
                    <a:lnTo>
                      <a:pt x="134" y="185"/>
                    </a:lnTo>
                    <a:lnTo>
                      <a:pt x="151" y="173"/>
                    </a:lnTo>
                    <a:lnTo>
                      <a:pt x="167" y="160"/>
                    </a:lnTo>
                    <a:lnTo>
                      <a:pt x="184" y="147"/>
                    </a:lnTo>
                    <a:lnTo>
                      <a:pt x="201" y="136"/>
                    </a:lnTo>
                    <a:lnTo>
                      <a:pt x="219" y="125"/>
                    </a:lnTo>
                    <a:lnTo>
                      <a:pt x="237" y="114"/>
                    </a:lnTo>
                    <a:lnTo>
                      <a:pt x="254" y="105"/>
                    </a:lnTo>
                    <a:lnTo>
                      <a:pt x="274" y="94"/>
                    </a:lnTo>
                    <a:lnTo>
                      <a:pt x="292" y="86"/>
                    </a:lnTo>
                    <a:lnTo>
                      <a:pt x="312" y="77"/>
                    </a:lnTo>
                    <a:lnTo>
                      <a:pt x="332" y="69"/>
                    </a:lnTo>
                    <a:lnTo>
                      <a:pt x="351" y="62"/>
                    </a:lnTo>
                    <a:lnTo>
                      <a:pt x="371" y="55"/>
                    </a:lnTo>
                    <a:lnTo>
                      <a:pt x="392" y="49"/>
                    </a:lnTo>
                    <a:lnTo>
                      <a:pt x="412" y="44"/>
                    </a:lnTo>
                    <a:lnTo>
                      <a:pt x="433" y="39"/>
                    </a:lnTo>
                    <a:lnTo>
                      <a:pt x="454" y="34"/>
                    </a:lnTo>
                    <a:lnTo>
                      <a:pt x="476" y="31"/>
                    </a:lnTo>
                    <a:lnTo>
                      <a:pt x="497" y="27"/>
                    </a:lnTo>
                    <a:lnTo>
                      <a:pt x="519" y="25"/>
                    </a:lnTo>
                    <a:lnTo>
                      <a:pt x="540" y="23"/>
                    </a:lnTo>
                    <a:lnTo>
                      <a:pt x="562" y="23"/>
                    </a:lnTo>
                    <a:lnTo>
                      <a:pt x="585" y="22"/>
                    </a:lnTo>
                    <a:lnTo>
                      <a:pt x="621" y="23"/>
                    </a:lnTo>
                    <a:lnTo>
                      <a:pt x="657" y="25"/>
                    </a:lnTo>
                    <a:lnTo>
                      <a:pt x="692" y="30"/>
                    </a:lnTo>
                    <a:lnTo>
                      <a:pt x="726" y="37"/>
                    </a:lnTo>
                    <a:lnTo>
                      <a:pt x="761" y="44"/>
                    </a:lnTo>
                    <a:lnTo>
                      <a:pt x="794" y="54"/>
                    </a:lnTo>
                    <a:lnTo>
                      <a:pt x="827" y="64"/>
                    </a:lnTo>
                    <a:lnTo>
                      <a:pt x="858" y="77"/>
                    </a:lnTo>
                    <a:lnTo>
                      <a:pt x="850" y="49"/>
                    </a:lnTo>
                    <a:close/>
                    <a:moveTo>
                      <a:pt x="555" y="1452"/>
                    </a:moveTo>
                    <a:lnTo>
                      <a:pt x="559" y="1452"/>
                    </a:lnTo>
                    <a:lnTo>
                      <a:pt x="564" y="1452"/>
                    </a:lnTo>
                    <a:lnTo>
                      <a:pt x="567" y="1452"/>
                    </a:lnTo>
                    <a:lnTo>
                      <a:pt x="570" y="1452"/>
                    </a:lnTo>
                    <a:lnTo>
                      <a:pt x="574" y="1452"/>
                    </a:lnTo>
                    <a:lnTo>
                      <a:pt x="577" y="1452"/>
                    </a:lnTo>
                    <a:lnTo>
                      <a:pt x="581" y="1452"/>
                    </a:lnTo>
                    <a:lnTo>
                      <a:pt x="585" y="1452"/>
                    </a:lnTo>
                    <a:lnTo>
                      <a:pt x="618" y="1451"/>
                    </a:lnTo>
                    <a:lnTo>
                      <a:pt x="650" y="1450"/>
                    </a:lnTo>
                    <a:lnTo>
                      <a:pt x="681" y="1446"/>
                    </a:lnTo>
                    <a:lnTo>
                      <a:pt x="712" y="1441"/>
                    </a:lnTo>
                    <a:lnTo>
                      <a:pt x="743" y="1435"/>
                    </a:lnTo>
                    <a:lnTo>
                      <a:pt x="773" y="1428"/>
                    </a:lnTo>
                    <a:lnTo>
                      <a:pt x="803" y="1419"/>
                    </a:lnTo>
                    <a:lnTo>
                      <a:pt x="832" y="1410"/>
                    </a:lnTo>
                    <a:lnTo>
                      <a:pt x="861" y="1398"/>
                    </a:lnTo>
                    <a:lnTo>
                      <a:pt x="889" y="1387"/>
                    </a:lnTo>
                    <a:lnTo>
                      <a:pt x="916" y="1373"/>
                    </a:lnTo>
                    <a:lnTo>
                      <a:pt x="943" y="1358"/>
                    </a:lnTo>
                    <a:lnTo>
                      <a:pt x="970" y="1343"/>
                    </a:lnTo>
                    <a:lnTo>
                      <a:pt x="995" y="1327"/>
                    </a:lnTo>
                    <a:lnTo>
                      <a:pt x="1019" y="1308"/>
                    </a:lnTo>
                    <a:lnTo>
                      <a:pt x="1043" y="1290"/>
                    </a:lnTo>
                    <a:lnTo>
                      <a:pt x="1066" y="1270"/>
                    </a:lnTo>
                    <a:lnTo>
                      <a:pt x="1088" y="1251"/>
                    </a:lnTo>
                    <a:lnTo>
                      <a:pt x="1109" y="1229"/>
                    </a:lnTo>
                    <a:lnTo>
                      <a:pt x="1130" y="1207"/>
                    </a:lnTo>
                    <a:lnTo>
                      <a:pt x="1149" y="1184"/>
                    </a:lnTo>
                    <a:lnTo>
                      <a:pt x="1168" y="1159"/>
                    </a:lnTo>
                    <a:lnTo>
                      <a:pt x="1185" y="1135"/>
                    </a:lnTo>
                    <a:lnTo>
                      <a:pt x="1203" y="1110"/>
                    </a:lnTo>
                    <a:lnTo>
                      <a:pt x="1218" y="1083"/>
                    </a:lnTo>
                    <a:lnTo>
                      <a:pt x="1233" y="1057"/>
                    </a:lnTo>
                    <a:lnTo>
                      <a:pt x="1245" y="1029"/>
                    </a:lnTo>
                    <a:lnTo>
                      <a:pt x="1258" y="1002"/>
                    </a:lnTo>
                    <a:lnTo>
                      <a:pt x="1269" y="973"/>
                    </a:lnTo>
                    <a:lnTo>
                      <a:pt x="1279" y="944"/>
                    </a:lnTo>
                    <a:lnTo>
                      <a:pt x="1288" y="914"/>
                    </a:lnTo>
                    <a:lnTo>
                      <a:pt x="1295" y="884"/>
                    </a:lnTo>
                    <a:lnTo>
                      <a:pt x="1278" y="857"/>
                    </a:lnTo>
                    <a:lnTo>
                      <a:pt x="1271" y="887"/>
                    </a:lnTo>
                    <a:lnTo>
                      <a:pt x="1263" y="917"/>
                    </a:lnTo>
                    <a:lnTo>
                      <a:pt x="1254" y="947"/>
                    </a:lnTo>
                    <a:lnTo>
                      <a:pt x="1244" y="975"/>
                    </a:lnTo>
                    <a:lnTo>
                      <a:pt x="1233" y="1004"/>
                    </a:lnTo>
                    <a:lnTo>
                      <a:pt x="1220" y="1031"/>
                    </a:lnTo>
                    <a:lnTo>
                      <a:pt x="1206" y="1058"/>
                    </a:lnTo>
                    <a:lnTo>
                      <a:pt x="1191" y="1085"/>
                    </a:lnTo>
                    <a:lnTo>
                      <a:pt x="1176" y="1110"/>
                    </a:lnTo>
                    <a:lnTo>
                      <a:pt x="1159" y="1134"/>
                    </a:lnTo>
                    <a:lnTo>
                      <a:pt x="1140" y="1158"/>
                    </a:lnTo>
                    <a:lnTo>
                      <a:pt x="1122" y="1181"/>
                    </a:lnTo>
                    <a:lnTo>
                      <a:pt x="1102" y="1204"/>
                    </a:lnTo>
                    <a:lnTo>
                      <a:pt x="1081" y="1225"/>
                    </a:lnTo>
                    <a:lnTo>
                      <a:pt x="1060" y="1246"/>
                    </a:lnTo>
                    <a:lnTo>
                      <a:pt x="1038" y="1265"/>
                    </a:lnTo>
                    <a:lnTo>
                      <a:pt x="1013" y="1284"/>
                    </a:lnTo>
                    <a:lnTo>
                      <a:pt x="989" y="1302"/>
                    </a:lnTo>
                    <a:lnTo>
                      <a:pt x="965" y="1319"/>
                    </a:lnTo>
                    <a:lnTo>
                      <a:pt x="940" y="1335"/>
                    </a:lnTo>
                    <a:lnTo>
                      <a:pt x="913" y="1350"/>
                    </a:lnTo>
                    <a:lnTo>
                      <a:pt x="885" y="1362"/>
                    </a:lnTo>
                    <a:lnTo>
                      <a:pt x="858" y="1375"/>
                    </a:lnTo>
                    <a:lnTo>
                      <a:pt x="830" y="1387"/>
                    </a:lnTo>
                    <a:lnTo>
                      <a:pt x="801" y="1396"/>
                    </a:lnTo>
                    <a:lnTo>
                      <a:pt x="771" y="1405"/>
                    </a:lnTo>
                    <a:lnTo>
                      <a:pt x="741" y="1412"/>
                    </a:lnTo>
                    <a:lnTo>
                      <a:pt x="711" y="1419"/>
                    </a:lnTo>
                    <a:lnTo>
                      <a:pt x="680" y="1423"/>
                    </a:lnTo>
                    <a:lnTo>
                      <a:pt x="649" y="1427"/>
                    </a:lnTo>
                    <a:lnTo>
                      <a:pt x="618" y="1429"/>
                    </a:lnTo>
                    <a:lnTo>
                      <a:pt x="585" y="1429"/>
                    </a:lnTo>
                    <a:lnTo>
                      <a:pt x="580" y="1429"/>
                    </a:lnTo>
                    <a:lnTo>
                      <a:pt x="575" y="1429"/>
                    </a:lnTo>
                    <a:lnTo>
                      <a:pt x="569" y="1429"/>
                    </a:lnTo>
                    <a:lnTo>
                      <a:pt x="565" y="1429"/>
                    </a:lnTo>
                    <a:lnTo>
                      <a:pt x="559" y="1429"/>
                    </a:lnTo>
                    <a:lnTo>
                      <a:pt x="554" y="1429"/>
                    </a:lnTo>
                    <a:lnTo>
                      <a:pt x="549" y="1429"/>
                    </a:lnTo>
                    <a:lnTo>
                      <a:pt x="544" y="1428"/>
                    </a:lnTo>
                    <a:lnTo>
                      <a:pt x="555" y="145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39000" y="3749760"/>
                <a:ext cx="338040" cy="377640"/>
              </a:xfrm>
              <a:custGeom>
                <a:avLst/>
                <a:gdLst/>
                <a:ahLst/>
                <a:rect l="l" t="t" r="r" b="b"/>
                <a:pathLst>
                  <a:path w="1283" h="1431">
                    <a:moveTo>
                      <a:pt x="850" y="53"/>
                    </a:moveTo>
                    <a:lnTo>
                      <a:pt x="818" y="40"/>
                    </a:lnTo>
                    <a:lnTo>
                      <a:pt x="786" y="30"/>
                    </a:lnTo>
                    <a:lnTo>
                      <a:pt x="753" y="22"/>
                    </a:lnTo>
                    <a:lnTo>
                      <a:pt x="720" y="14"/>
                    </a:lnTo>
                    <a:lnTo>
                      <a:pt x="686" y="8"/>
                    </a:lnTo>
                    <a:lnTo>
                      <a:pt x="652" y="4"/>
                    </a:lnTo>
                    <a:lnTo>
                      <a:pt x="616" y="1"/>
                    </a:lnTo>
                    <a:lnTo>
                      <a:pt x="581" y="0"/>
                    </a:lnTo>
                    <a:lnTo>
                      <a:pt x="558" y="1"/>
                    </a:lnTo>
                    <a:lnTo>
                      <a:pt x="536" y="2"/>
                    </a:lnTo>
                    <a:lnTo>
                      <a:pt x="515" y="4"/>
                    </a:lnTo>
                    <a:lnTo>
                      <a:pt x="493" y="6"/>
                    </a:lnTo>
                    <a:lnTo>
                      <a:pt x="471" y="9"/>
                    </a:lnTo>
                    <a:lnTo>
                      <a:pt x="450" y="13"/>
                    </a:lnTo>
                    <a:lnTo>
                      <a:pt x="428" y="17"/>
                    </a:lnTo>
                    <a:lnTo>
                      <a:pt x="407" y="22"/>
                    </a:lnTo>
                    <a:lnTo>
                      <a:pt x="387" y="28"/>
                    </a:lnTo>
                    <a:lnTo>
                      <a:pt x="366" y="34"/>
                    </a:lnTo>
                    <a:lnTo>
                      <a:pt x="346" y="40"/>
                    </a:lnTo>
                    <a:lnTo>
                      <a:pt x="327" y="47"/>
                    </a:lnTo>
                    <a:lnTo>
                      <a:pt x="307" y="55"/>
                    </a:lnTo>
                    <a:lnTo>
                      <a:pt x="287" y="64"/>
                    </a:lnTo>
                    <a:lnTo>
                      <a:pt x="268" y="73"/>
                    </a:lnTo>
                    <a:lnTo>
                      <a:pt x="249" y="82"/>
                    </a:lnTo>
                    <a:lnTo>
                      <a:pt x="231" y="92"/>
                    </a:lnTo>
                    <a:lnTo>
                      <a:pt x="212" y="103"/>
                    </a:lnTo>
                    <a:lnTo>
                      <a:pt x="195" y="114"/>
                    </a:lnTo>
                    <a:lnTo>
                      <a:pt x="178" y="126"/>
                    </a:lnTo>
                    <a:lnTo>
                      <a:pt x="160" y="137"/>
                    </a:lnTo>
                    <a:lnTo>
                      <a:pt x="144" y="150"/>
                    </a:lnTo>
                    <a:lnTo>
                      <a:pt x="128" y="163"/>
                    </a:lnTo>
                    <a:lnTo>
                      <a:pt x="112" y="177"/>
                    </a:lnTo>
                    <a:lnTo>
                      <a:pt x="96" y="190"/>
                    </a:lnTo>
                    <a:lnTo>
                      <a:pt x="81" y="204"/>
                    </a:lnTo>
                    <a:lnTo>
                      <a:pt x="67" y="219"/>
                    </a:lnTo>
                    <a:lnTo>
                      <a:pt x="52" y="234"/>
                    </a:lnTo>
                    <a:lnTo>
                      <a:pt x="38" y="250"/>
                    </a:lnTo>
                    <a:lnTo>
                      <a:pt x="26" y="266"/>
                    </a:lnTo>
                    <a:lnTo>
                      <a:pt x="13" y="283"/>
                    </a:lnTo>
                    <a:lnTo>
                      <a:pt x="0" y="299"/>
                    </a:lnTo>
                    <a:lnTo>
                      <a:pt x="8" y="326"/>
                    </a:lnTo>
                    <a:lnTo>
                      <a:pt x="21" y="309"/>
                    </a:lnTo>
                    <a:lnTo>
                      <a:pt x="32" y="293"/>
                    </a:lnTo>
                    <a:lnTo>
                      <a:pt x="46" y="277"/>
                    </a:lnTo>
                    <a:lnTo>
                      <a:pt x="59" y="261"/>
                    </a:lnTo>
                    <a:lnTo>
                      <a:pt x="73" y="246"/>
                    </a:lnTo>
                    <a:lnTo>
                      <a:pt x="88" y="231"/>
                    </a:lnTo>
                    <a:lnTo>
                      <a:pt x="102" y="216"/>
                    </a:lnTo>
                    <a:lnTo>
                      <a:pt x="118" y="202"/>
                    </a:lnTo>
                    <a:lnTo>
                      <a:pt x="133" y="188"/>
                    </a:lnTo>
                    <a:lnTo>
                      <a:pt x="149" y="175"/>
                    </a:lnTo>
                    <a:lnTo>
                      <a:pt x="165" y="163"/>
                    </a:lnTo>
                    <a:lnTo>
                      <a:pt x="181" y="150"/>
                    </a:lnTo>
                    <a:lnTo>
                      <a:pt x="199" y="138"/>
                    </a:lnTo>
                    <a:lnTo>
                      <a:pt x="216" y="127"/>
                    </a:lnTo>
                    <a:lnTo>
                      <a:pt x="234" y="117"/>
                    </a:lnTo>
                    <a:lnTo>
                      <a:pt x="253" y="106"/>
                    </a:lnTo>
                    <a:lnTo>
                      <a:pt x="271" y="97"/>
                    </a:lnTo>
                    <a:lnTo>
                      <a:pt x="290" y="88"/>
                    </a:lnTo>
                    <a:lnTo>
                      <a:pt x="309" y="79"/>
                    </a:lnTo>
                    <a:lnTo>
                      <a:pt x="329" y="72"/>
                    </a:lnTo>
                    <a:lnTo>
                      <a:pt x="348" y="64"/>
                    </a:lnTo>
                    <a:lnTo>
                      <a:pt x="368" y="57"/>
                    </a:lnTo>
                    <a:lnTo>
                      <a:pt x="388" y="51"/>
                    </a:lnTo>
                    <a:lnTo>
                      <a:pt x="408" y="45"/>
                    </a:lnTo>
                    <a:lnTo>
                      <a:pt x="429" y="40"/>
                    </a:lnTo>
                    <a:lnTo>
                      <a:pt x="451" y="36"/>
                    </a:lnTo>
                    <a:lnTo>
                      <a:pt x="472" y="32"/>
                    </a:lnTo>
                    <a:lnTo>
                      <a:pt x="494" y="29"/>
                    </a:lnTo>
                    <a:lnTo>
                      <a:pt x="515" y="27"/>
                    </a:lnTo>
                    <a:lnTo>
                      <a:pt x="536" y="24"/>
                    </a:lnTo>
                    <a:lnTo>
                      <a:pt x="558" y="23"/>
                    </a:lnTo>
                    <a:lnTo>
                      <a:pt x="581" y="23"/>
                    </a:lnTo>
                    <a:lnTo>
                      <a:pt x="618" y="24"/>
                    </a:lnTo>
                    <a:lnTo>
                      <a:pt x="654" y="28"/>
                    </a:lnTo>
                    <a:lnTo>
                      <a:pt x="690" y="32"/>
                    </a:lnTo>
                    <a:lnTo>
                      <a:pt x="726" y="38"/>
                    </a:lnTo>
                    <a:lnTo>
                      <a:pt x="759" y="46"/>
                    </a:lnTo>
                    <a:lnTo>
                      <a:pt x="794" y="57"/>
                    </a:lnTo>
                    <a:lnTo>
                      <a:pt x="826" y="68"/>
                    </a:lnTo>
                    <a:lnTo>
                      <a:pt x="859" y="81"/>
                    </a:lnTo>
                    <a:lnTo>
                      <a:pt x="850" y="53"/>
                    </a:lnTo>
                    <a:close/>
                    <a:moveTo>
                      <a:pt x="546" y="1430"/>
                    </a:moveTo>
                    <a:lnTo>
                      <a:pt x="550" y="1431"/>
                    </a:lnTo>
                    <a:lnTo>
                      <a:pt x="555" y="1431"/>
                    </a:lnTo>
                    <a:lnTo>
                      <a:pt x="558" y="1431"/>
                    </a:lnTo>
                    <a:lnTo>
                      <a:pt x="563" y="1431"/>
                    </a:lnTo>
                    <a:lnTo>
                      <a:pt x="568" y="1431"/>
                    </a:lnTo>
                    <a:lnTo>
                      <a:pt x="572" y="1431"/>
                    </a:lnTo>
                    <a:lnTo>
                      <a:pt x="577" y="1431"/>
                    </a:lnTo>
                    <a:lnTo>
                      <a:pt x="581" y="1431"/>
                    </a:lnTo>
                    <a:lnTo>
                      <a:pt x="614" y="1431"/>
                    </a:lnTo>
                    <a:lnTo>
                      <a:pt x="645" y="1428"/>
                    </a:lnTo>
                    <a:lnTo>
                      <a:pt x="677" y="1425"/>
                    </a:lnTo>
                    <a:lnTo>
                      <a:pt x="707" y="1420"/>
                    </a:lnTo>
                    <a:lnTo>
                      <a:pt x="738" y="1413"/>
                    </a:lnTo>
                    <a:lnTo>
                      <a:pt x="768" y="1407"/>
                    </a:lnTo>
                    <a:lnTo>
                      <a:pt x="798" y="1397"/>
                    </a:lnTo>
                    <a:lnTo>
                      <a:pt x="827" y="1388"/>
                    </a:lnTo>
                    <a:lnTo>
                      <a:pt x="856" y="1377"/>
                    </a:lnTo>
                    <a:lnTo>
                      <a:pt x="884" y="1364"/>
                    </a:lnTo>
                    <a:lnTo>
                      <a:pt x="910" y="1351"/>
                    </a:lnTo>
                    <a:lnTo>
                      <a:pt x="937" y="1336"/>
                    </a:lnTo>
                    <a:lnTo>
                      <a:pt x="963" y="1321"/>
                    </a:lnTo>
                    <a:lnTo>
                      <a:pt x="989" y="1304"/>
                    </a:lnTo>
                    <a:lnTo>
                      <a:pt x="1013" y="1287"/>
                    </a:lnTo>
                    <a:lnTo>
                      <a:pt x="1036" y="1268"/>
                    </a:lnTo>
                    <a:lnTo>
                      <a:pt x="1059" y="1249"/>
                    </a:lnTo>
                    <a:lnTo>
                      <a:pt x="1081" y="1228"/>
                    </a:lnTo>
                    <a:lnTo>
                      <a:pt x="1102" y="1206"/>
                    </a:lnTo>
                    <a:lnTo>
                      <a:pt x="1122" y="1184"/>
                    </a:lnTo>
                    <a:lnTo>
                      <a:pt x="1141" y="1161"/>
                    </a:lnTo>
                    <a:lnTo>
                      <a:pt x="1159" y="1137"/>
                    </a:lnTo>
                    <a:lnTo>
                      <a:pt x="1177" y="1113"/>
                    </a:lnTo>
                    <a:lnTo>
                      <a:pt x="1193" y="1087"/>
                    </a:lnTo>
                    <a:lnTo>
                      <a:pt x="1208" y="1061"/>
                    </a:lnTo>
                    <a:lnTo>
                      <a:pt x="1222" y="1034"/>
                    </a:lnTo>
                    <a:lnTo>
                      <a:pt x="1235" y="1007"/>
                    </a:lnTo>
                    <a:lnTo>
                      <a:pt x="1247" y="979"/>
                    </a:lnTo>
                    <a:lnTo>
                      <a:pt x="1257" y="950"/>
                    </a:lnTo>
                    <a:lnTo>
                      <a:pt x="1267" y="921"/>
                    </a:lnTo>
                    <a:lnTo>
                      <a:pt x="1275" y="891"/>
                    </a:lnTo>
                    <a:lnTo>
                      <a:pt x="1283" y="860"/>
                    </a:lnTo>
                    <a:lnTo>
                      <a:pt x="1264" y="834"/>
                    </a:lnTo>
                    <a:lnTo>
                      <a:pt x="1259" y="865"/>
                    </a:lnTo>
                    <a:lnTo>
                      <a:pt x="1250" y="895"/>
                    </a:lnTo>
                    <a:lnTo>
                      <a:pt x="1242" y="924"/>
                    </a:lnTo>
                    <a:lnTo>
                      <a:pt x="1233" y="952"/>
                    </a:lnTo>
                    <a:lnTo>
                      <a:pt x="1222" y="981"/>
                    </a:lnTo>
                    <a:lnTo>
                      <a:pt x="1209" y="1008"/>
                    </a:lnTo>
                    <a:lnTo>
                      <a:pt x="1196" y="1035"/>
                    </a:lnTo>
                    <a:lnTo>
                      <a:pt x="1182" y="1062"/>
                    </a:lnTo>
                    <a:lnTo>
                      <a:pt x="1166" y="1087"/>
                    </a:lnTo>
                    <a:lnTo>
                      <a:pt x="1150" y="1111"/>
                    </a:lnTo>
                    <a:lnTo>
                      <a:pt x="1132" y="1136"/>
                    </a:lnTo>
                    <a:lnTo>
                      <a:pt x="1113" y="1159"/>
                    </a:lnTo>
                    <a:lnTo>
                      <a:pt x="1094" y="1182"/>
                    </a:lnTo>
                    <a:lnTo>
                      <a:pt x="1074" y="1204"/>
                    </a:lnTo>
                    <a:lnTo>
                      <a:pt x="1052" y="1223"/>
                    </a:lnTo>
                    <a:lnTo>
                      <a:pt x="1030" y="1244"/>
                    </a:lnTo>
                    <a:lnTo>
                      <a:pt x="1007" y="1262"/>
                    </a:lnTo>
                    <a:lnTo>
                      <a:pt x="983" y="1280"/>
                    </a:lnTo>
                    <a:lnTo>
                      <a:pt x="959" y="1297"/>
                    </a:lnTo>
                    <a:lnTo>
                      <a:pt x="933" y="1312"/>
                    </a:lnTo>
                    <a:lnTo>
                      <a:pt x="907" y="1327"/>
                    </a:lnTo>
                    <a:lnTo>
                      <a:pt x="880" y="1341"/>
                    </a:lnTo>
                    <a:lnTo>
                      <a:pt x="853" y="1353"/>
                    </a:lnTo>
                    <a:lnTo>
                      <a:pt x="825" y="1364"/>
                    </a:lnTo>
                    <a:lnTo>
                      <a:pt x="796" y="1374"/>
                    </a:lnTo>
                    <a:lnTo>
                      <a:pt x="766" y="1383"/>
                    </a:lnTo>
                    <a:lnTo>
                      <a:pt x="737" y="1390"/>
                    </a:lnTo>
                    <a:lnTo>
                      <a:pt x="706" y="1397"/>
                    </a:lnTo>
                    <a:lnTo>
                      <a:pt x="676" y="1402"/>
                    </a:lnTo>
                    <a:lnTo>
                      <a:pt x="645" y="1405"/>
                    </a:lnTo>
                    <a:lnTo>
                      <a:pt x="613" y="1408"/>
                    </a:lnTo>
                    <a:lnTo>
                      <a:pt x="581" y="1408"/>
                    </a:lnTo>
                    <a:lnTo>
                      <a:pt x="576" y="1408"/>
                    </a:lnTo>
                    <a:lnTo>
                      <a:pt x="569" y="1408"/>
                    </a:lnTo>
                    <a:lnTo>
                      <a:pt x="563" y="1408"/>
                    </a:lnTo>
                    <a:lnTo>
                      <a:pt x="557" y="1408"/>
                    </a:lnTo>
                    <a:lnTo>
                      <a:pt x="551" y="1408"/>
                    </a:lnTo>
                    <a:lnTo>
                      <a:pt x="546" y="1408"/>
                    </a:lnTo>
                    <a:lnTo>
                      <a:pt x="540" y="1407"/>
                    </a:lnTo>
                    <a:lnTo>
                      <a:pt x="534" y="1407"/>
                    </a:lnTo>
                    <a:lnTo>
                      <a:pt x="546" y="143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39000" y="3753000"/>
                <a:ext cx="336240" cy="371160"/>
              </a:xfrm>
              <a:custGeom>
                <a:avLst/>
                <a:gdLst/>
                <a:ahLst/>
                <a:rect l="l" t="t" r="r" b="b"/>
                <a:pathLst>
                  <a:path w="1269" h="1407">
                    <a:moveTo>
                      <a:pt x="849" y="55"/>
                    </a:moveTo>
                    <a:lnTo>
                      <a:pt x="818" y="42"/>
                    </a:lnTo>
                    <a:lnTo>
                      <a:pt x="785" y="32"/>
                    </a:lnTo>
                    <a:lnTo>
                      <a:pt x="752" y="22"/>
                    </a:lnTo>
                    <a:lnTo>
                      <a:pt x="717" y="15"/>
                    </a:lnTo>
                    <a:lnTo>
                      <a:pt x="683" y="8"/>
                    </a:lnTo>
                    <a:lnTo>
                      <a:pt x="648" y="3"/>
                    </a:lnTo>
                    <a:lnTo>
                      <a:pt x="612" y="1"/>
                    </a:lnTo>
                    <a:lnTo>
                      <a:pt x="576" y="0"/>
                    </a:lnTo>
                    <a:lnTo>
                      <a:pt x="553" y="1"/>
                    </a:lnTo>
                    <a:lnTo>
                      <a:pt x="531" y="1"/>
                    </a:lnTo>
                    <a:lnTo>
                      <a:pt x="510" y="3"/>
                    </a:lnTo>
                    <a:lnTo>
                      <a:pt x="488" y="5"/>
                    </a:lnTo>
                    <a:lnTo>
                      <a:pt x="467" y="9"/>
                    </a:lnTo>
                    <a:lnTo>
                      <a:pt x="445" y="12"/>
                    </a:lnTo>
                    <a:lnTo>
                      <a:pt x="424" y="17"/>
                    </a:lnTo>
                    <a:lnTo>
                      <a:pt x="403" y="22"/>
                    </a:lnTo>
                    <a:lnTo>
                      <a:pt x="383" y="27"/>
                    </a:lnTo>
                    <a:lnTo>
                      <a:pt x="362" y="33"/>
                    </a:lnTo>
                    <a:lnTo>
                      <a:pt x="342" y="40"/>
                    </a:lnTo>
                    <a:lnTo>
                      <a:pt x="323" y="47"/>
                    </a:lnTo>
                    <a:lnTo>
                      <a:pt x="303" y="55"/>
                    </a:lnTo>
                    <a:lnTo>
                      <a:pt x="283" y="64"/>
                    </a:lnTo>
                    <a:lnTo>
                      <a:pt x="265" y="72"/>
                    </a:lnTo>
                    <a:lnTo>
                      <a:pt x="245" y="83"/>
                    </a:lnTo>
                    <a:lnTo>
                      <a:pt x="228" y="92"/>
                    </a:lnTo>
                    <a:lnTo>
                      <a:pt x="210" y="103"/>
                    </a:lnTo>
                    <a:lnTo>
                      <a:pt x="192" y="114"/>
                    </a:lnTo>
                    <a:lnTo>
                      <a:pt x="175" y="125"/>
                    </a:lnTo>
                    <a:lnTo>
                      <a:pt x="158" y="138"/>
                    </a:lnTo>
                    <a:lnTo>
                      <a:pt x="142" y="151"/>
                    </a:lnTo>
                    <a:lnTo>
                      <a:pt x="125" y="163"/>
                    </a:lnTo>
                    <a:lnTo>
                      <a:pt x="109" y="177"/>
                    </a:lnTo>
                    <a:lnTo>
                      <a:pt x="94" y="191"/>
                    </a:lnTo>
                    <a:lnTo>
                      <a:pt x="79" y="206"/>
                    </a:lnTo>
                    <a:lnTo>
                      <a:pt x="64" y="220"/>
                    </a:lnTo>
                    <a:lnTo>
                      <a:pt x="51" y="236"/>
                    </a:lnTo>
                    <a:lnTo>
                      <a:pt x="37" y="251"/>
                    </a:lnTo>
                    <a:lnTo>
                      <a:pt x="24" y="267"/>
                    </a:lnTo>
                    <a:lnTo>
                      <a:pt x="11" y="283"/>
                    </a:lnTo>
                    <a:lnTo>
                      <a:pt x="0" y="301"/>
                    </a:lnTo>
                    <a:lnTo>
                      <a:pt x="8" y="328"/>
                    </a:lnTo>
                    <a:lnTo>
                      <a:pt x="19" y="311"/>
                    </a:lnTo>
                    <a:lnTo>
                      <a:pt x="32" y="295"/>
                    </a:lnTo>
                    <a:lnTo>
                      <a:pt x="45" y="279"/>
                    </a:lnTo>
                    <a:lnTo>
                      <a:pt x="57" y="263"/>
                    </a:lnTo>
                    <a:lnTo>
                      <a:pt x="71" y="246"/>
                    </a:lnTo>
                    <a:lnTo>
                      <a:pt x="85" y="231"/>
                    </a:lnTo>
                    <a:lnTo>
                      <a:pt x="100" y="218"/>
                    </a:lnTo>
                    <a:lnTo>
                      <a:pt x="115" y="203"/>
                    </a:lnTo>
                    <a:lnTo>
                      <a:pt x="130" y="189"/>
                    </a:lnTo>
                    <a:lnTo>
                      <a:pt x="146" y="176"/>
                    </a:lnTo>
                    <a:lnTo>
                      <a:pt x="162" y="163"/>
                    </a:lnTo>
                    <a:lnTo>
                      <a:pt x="179" y="151"/>
                    </a:lnTo>
                    <a:lnTo>
                      <a:pt x="196" y="139"/>
                    </a:lnTo>
                    <a:lnTo>
                      <a:pt x="213" y="128"/>
                    </a:lnTo>
                    <a:lnTo>
                      <a:pt x="230" y="117"/>
                    </a:lnTo>
                    <a:lnTo>
                      <a:pt x="249" y="107"/>
                    </a:lnTo>
                    <a:lnTo>
                      <a:pt x="267" y="97"/>
                    </a:lnTo>
                    <a:lnTo>
                      <a:pt x="286" y="87"/>
                    </a:lnTo>
                    <a:lnTo>
                      <a:pt x="305" y="79"/>
                    </a:lnTo>
                    <a:lnTo>
                      <a:pt x="324" y="71"/>
                    </a:lnTo>
                    <a:lnTo>
                      <a:pt x="343" y="63"/>
                    </a:lnTo>
                    <a:lnTo>
                      <a:pt x="364" y="56"/>
                    </a:lnTo>
                    <a:lnTo>
                      <a:pt x="384" y="50"/>
                    </a:lnTo>
                    <a:lnTo>
                      <a:pt x="405" y="45"/>
                    </a:lnTo>
                    <a:lnTo>
                      <a:pt x="425" y="40"/>
                    </a:lnTo>
                    <a:lnTo>
                      <a:pt x="446" y="35"/>
                    </a:lnTo>
                    <a:lnTo>
                      <a:pt x="467" y="32"/>
                    </a:lnTo>
                    <a:lnTo>
                      <a:pt x="489" y="28"/>
                    </a:lnTo>
                    <a:lnTo>
                      <a:pt x="511" y="26"/>
                    </a:lnTo>
                    <a:lnTo>
                      <a:pt x="531" y="24"/>
                    </a:lnTo>
                    <a:lnTo>
                      <a:pt x="555" y="23"/>
                    </a:lnTo>
                    <a:lnTo>
                      <a:pt x="576" y="23"/>
                    </a:lnTo>
                    <a:lnTo>
                      <a:pt x="613" y="24"/>
                    </a:lnTo>
                    <a:lnTo>
                      <a:pt x="650" y="27"/>
                    </a:lnTo>
                    <a:lnTo>
                      <a:pt x="687" y="32"/>
                    </a:lnTo>
                    <a:lnTo>
                      <a:pt x="723" y="39"/>
                    </a:lnTo>
                    <a:lnTo>
                      <a:pt x="758" y="47"/>
                    </a:lnTo>
                    <a:lnTo>
                      <a:pt x="792" y="57"/>
                    </a:lnTo>
                    <a:lnTo>
                      <a:pt x="826" y="70"/>
                    </a:lnTo>
                    <a:lnTo>
                      <a:pt x="859" y="84"/>
                    </a:lnTo>
                    <a:lnTo>
                      <a:pt x="849" y="55"/>
                    </a:lnTo>
                    <a:close/>
                    <a:moveTo>
                      <a:pt x="535" y="1406"/>
                    </a:moveTo>
                    <a:lnTo>
                      <a:pt x="540" y="1407"/>
                    </a:lnTo>
                    <a:lnTo>
                      <a:pt x="545" y="1407"/>
                    </a:lnTo>
                    <a:lnTo>
                      <a:pt x="550" y="1407"/>
                    </a:lnTo>
                    <a:lnTo>
                      <a:pt x="556" y="1407"/>
                    </a:lnTo>
                    <a:lnTo>
                      <a:pt x="560" y="1407"/>
                    </a:lnTo>
                    <a:lnTo>
                      <a:pt x="566" y="1407"/>
                    </a:lnTo>
                    <a:lnTo>
                      <a:pt x="571" y="1407"/>
                    </a:lnTo>
                    <a:lnTo>
                      <a:pt x="576" y="1407"/>
                    </a:lnTo>
                    <a:lnTo>
                      <a:pt x="609" y="1407"/>
                    </a:lnTo>
                    <a:lnTo>
                      <a:pt x="640" y="1405"/>
                    </a:lnTo>
                    <a:lnTo>
                      <a:pt x="671" y="1401"/>
                    </a:lnTo>
                    <a:lnTo>
                      <a:pt x="702" y="1397"/>
                    </a:lnTo>
                    <a:lnTo>
                      <a:pt x="732" y="1390"/>
                    </a:lnTo>
                    <a:lnTo>
                      <a:pt x="762" y="1383"/>
                    </a:lnTo>
                    <a:lnTo>
                      <a:pt x="792" y="1374"/>
                    </a:lnTo>
                    <a:lnTo>
                      <a:pt x="821" y="1365"/>
                    </a:lnTo>
                    <a:lnTo>
                      <a:pt x="849" y="1353"/>
                    </a:lnTo>
                    <a:lnTo>
                      <a:pt x="876" y="1340"/>
                    </a:lnTo>
                    <a:lnTo>
                      <a:pt x="904" y="1328"/>
                    </a:lnTo>
                    <a:lnTo>
                      <a:pt x="931" y="1313"/>
                    </a:lnTo>
                    <a:lnTo>
                      <a:pt x="956" y="1297"/>
                    </a:lnTo>
                    <a:lnTo>
                      <a:pt x="980" y="1280"/>
                    </a:lnTo>
                    <a:lnTo>
                      <a:pt x="1004" y="1262"/>
                    </a:lnTo>
                    <a:lnTo>
                      <a:pt x="1029" y="1243"/>
                    </a:lnTo>
                    <a:lnTo>
                      <a:pt x="1051" y="1224"/>
                    </a:lnTo>
                    <a:lnTo>
                      <a:pt x="1072" y="1203"/>
                    </a:lnTo>
                    <a:lnTo>
                      <a:pt x="1093" y="1182"/>
                    </a:lnTo>
                    <a:lnTo>
                      <a:pt x="1113" y="1159"/>
                    </a:lnTo>
                    <a:lnTo>
                      <a:pt x="1131" y="1136"/>
                    </a:lnTo>
                    <a:lnTo>
                      <a:pt x="1150" y="1112"/>
                    </a:lnTo>
                    <a:lnTo>
                      <a:pt x="1167" y="1088"/>
                    </a:lnTo>
                    <a:lnTo>
                      <a:pt x="1182" y="1063"/>
                    </a:lnTo>
                    <a:lnTo>
                      <a:pt x="1197" y="1036"/>
                    </a:lnTo>
                    <a:lnTo>
                      <a:pt x="1211" y="1009"/>
                    </a:lnTo>
                    <a:lnTo>
                      <a:pt x="1224" y="982"/>
                    </a:lnTo>
                    <a:lnTo>
                      <a:pt x="1235" y="953"/>
                    </a:lnTo>
                    <a:lnTo>
                      <a:pt x="1245" y="925"/>
                    </a:lnTo>
                    <a:lnTo>
                      <a:pt x="1254" y="895"/>
                    </a:lnTo>
                    <a:lnTo>
                      <a:pt x="1262" y="865"/>
                    </a:lnTo>
                    <a:lnTo>
                      <a:pt x="1269" y="835"/>
                    </a:lnTo>
                    <a:lnTo>
                      <a:pt x="1254" y="815"/>
                    </a:lnTo>
                    <a:lnTo>
                      <a:pt x="1250" y="803"/>
                    </a:lnTo>
                    <a:lnTo>
                      <a:pt x="1245" y="834"/>
                    </a:lnTo>
                    <a:lnTo>
                      <a:pt x="1239" y="864"/>
                    </a:lnTo>
                    <a:lnTo>
                      <a:pt x="1230" y="894"/>
                    </a:lnTo>
                    <a:lnTo>
                      <a:pt x="1221" y="923"/>
                    </a:lnTo>
                    <a:lnTo>
                      <a:pt x="1211" y="952"/>
                    </a:lnTo>
                    <a:lnTo>
                      <a:pt x="1199" y="980"/>
                    </a:lnTo>
                    <a:lnTo>
                      <a:pt x="1187" y="1007"/>
                    </a:lnTo>
                    <a:lnTo>
                      <a:pt x="1173" y="1034"/>
                    </a:lnTo>
                    <a:lnTo>
                      <a:pt x="1158" y="1059"/>
                    </a:lnTo>
                    <a:lnTo>
                      <a:pt x="1142" y="1084"/>
                    </a:lnTo>
                    <a:lnTo>
                      <a:pt x="1124" y="1109"/>
                    </a:lnTo>
                    <a:lnTo>
                      <a:pt x="1106" y="1132"/>
                    </a:lnTo>
                    <a:lnTo>
                      <a:pt x="1087" y="1155"/>
                    </a:lnTo>
                    <a:lnTo>
                      <a:pt x="1067" y="1177"/>
                    </a:lnTo>
                    <a:lnTo>
                      <a:pt x="1046" y="1197"/>
                    </a:lnTo>
                    <a:lnTo>
                      <a:pt x="1024" y="1218"/>
                    </a:lnTo>
                    <a:lnTo>
                      <a:pt x="1001" y="1237"/>
                    </a:lnTo>
                    <a:lnTo>
                      <a:pt x="977" y="1255"/>
                    </a:lnTo>
                    <a:lnTo>
                      <a:pt x="952" y="1272"/>
                    </a:lnTo>
                    <a:lnTo>
                      <a:pt x="927" y="1287"/>
                    </a:lnTo>
                    <a:lnTo>
                      <a:pt x="901" y="1302"/>
                    </a:lnTo>
                    <a:lnTo>
                      <a:pt x="874" y="1316"/>
                    </a:lnTo>
                    <a:lnTo>
                      <a:pt x="848" y="1329"/>
                    </a:lnTo>
                    <a:lnTo>
                      <a:pt x="819" y="1340"/>
                    </a:lnTo>
                    <a:lnTo>
                      <a:pt x="791" y="1351"/>
                    </a:lnTo>
                    <a:lnTo>
                      <a:pt x="761" y="1360"/>
                    </a:lnTo>
                    <a:lnTo>
                      <a:pt x="731" y="1367"/>
                    </a:lnTo>
                    <a:lnTo>
                      <a:pt x="701" y="1374"/>
                    </a:lnTo>
                    <a:lnTo>
                      <a:pt x="671" y="1378"/>
                    </a:lnTo>
                    <a:lnTo>
                      <a:pt x="640" y="1382"/>
                    </a:lnTo>
                    <a:lnTo>
                      <a:pt x="608" y="1384"/>
                    </a:lnTo>
                    <a:lnTo>
                      <a:pt x="576" y="1385"/>
                    </a:lnTo>
                    <a:lnTo>
                      <a:pt x="570" y="1385"/>
                    </a:lnTo>
                    <a:lnTo>
                      <a:pt x="563" y="1385"/>
                    </a:lnTo>
                    <a:lnTo>
                      <a:pt x="556" y="1384"/>
                    </a:lnTo>
                    <a:lnTo>
                      <a:pt x="549" y="1384"/>
                    </a:lnTo>
                    <a:lnTo>
                      <a:pt x="542" y="1384"/>
                    </a:lnTo>
                    <a:lnTo>
                      <a:pt x="535" y="1384"/>
                    </a:lnTo>
                    <a:lnTo>
                      <a:pt x="528" y="1383"/>
                    </a:lnTo>
                    <a:lnTo>
                      <a:pt x="522" y="1383"/>
                    </a:lnTo>
                    <a:lnTo>
                      <a:pt x="526" y="1388"/>
                    </a:lnTo>
                    <a:lnTo>
                      <a:pt x="535" y="140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40440" y="3755880"/>
                <a:ext cx="331920" cy="365400"/>
              </a:xfrm>
              <a:custGeom>
                <a:avLst/>
                <a:gdLst/>
                <a:ahLst/>
                <a:rect l="l" t="t" r="r" b="b"/>
                <a:pathLst>
                  <a:path w="1256" h="1385">
                    <a:moveTo>
                      <a:pt x="851" y="58"/>
                    </a:moveTo>
                    <a:lnTo>
                      <a:pt x="818" y="45"/>
                    </a:lnTo>
                    <a:lnTo>
                      <a:pt x="786" y="34"/>
                    </a:lnTo>
                    <a:lnTo>
                      <a:pt x="751" y="23"/>
                    </a:lnTo>
                    <a:lnTo>
                      <a:pt x="718" y="15"/>
                    </a:lnTo>
                    <a:lnTo>
                      <a:pt x="682" y="9"/>
                    </a:lnTo>
                    <a:lnTo>
                      <a:pt x="646" y="5"/>
                    </a:lnTo>
                    <a:lnTo>
                      <a:pt x="610" y="1"/>
                    </a:lnTo>
                    <a:lnTo>
                      <a:pt x="573" y="0"/>
                    </a:lnTo>
                    <a:lnTo>
                      <a:pt x="550" y="0"/>
                    </a:lnTo>
                    <a:lnTo>
                      <a:pt x="528" y="1"/>
                    </a:lnTo>
                    <a:lnTo>
                      <a:pt x="507" y="4"/>
                    </a:lnTo>
                    <a:lnTo>
                      <a:pt x="486" y="6"/>
                    </a:lnTo>
                    <a:lnTo>
                      <a:pt x="464" y="9"/>
                    </a:lnTo>
                    <a:lnTo>
                      <a:pt x="443" y="13"/>
                    </a:lnTo>
                    <a:lnTo>
                      <a:pt x="421" y="17"/>
                    </a:lnTo>
                    <a:lnTo>
                      <a:pt x="400" y="22"/>
                    </a:lnTo>
                    <a:lnTo>
                      <a:pt x="380" y="28"/>
                    </a:lnTo>
                    <a:lnTo>
                      <a:pt x="360" y="34"/>
                    </a:lnTo>
                    <a:lnTo>
                      <a:pt x="340" y="41"/>
                    </a:lnTo>
                    <a:lnTo>
                      <a:pt x="321" y="49"/>
                    </a:lnTo>
                    <a:lnTo>
                      <a:pt x="301" y="56"/>
                    </a:lnTo>
                    <a:lnTo>
                      <a:pt x="282" y="65"/>
                    </a:lnTo>
                    <a:lnTo>
                      <a:pt x="263" y="74"/>
                    </a:lnTo>
                    <a:lnTo>
                      <a:pt x="245" y="83"/>
                    </a:lnTo>
                    <a:lnTo>
                      <a:pt x="226" y="94"/>
                    </a:lnTo>
                    <a:lnTo>
                      <a:pt x="208" y="104"/>
                    </a:lnTo>
                    <a:lnTo>
                      <a:pt x="191" y="115"/>
                    </a:lnTo>
                    <a:lnTo>
                      <a:pt x="173" y="127"/>
                    </a:lnTo>
                    <a:lnTo>
                      <a:pt x="157" y="140"/>
                    </a:lnTo>
                    <a:lnTo>
                      <a:pt x="141" y="152"/>
                    </a:lnTo>
                    <a:lnTo>
                      <a:pt x="125" y="165"/>
                    </a:lnTo>
                    <a:lnTo>
                      <a:pt x="110" y="179"/>
                    </a:lnTo>
                    <a:lnTo>
                      <a:pt x="94" y="193"/>
                    </a:lnTo>
                    <a:lnTo>
                      <a:pt x="80" y="208"/>
                    </a:lnTo>
                    <a:lnTo>
                      <a:pt x="65" y="223"/>
                    </a:lnTo>
                    <a:lnTo>
                      <a:pt x="51" y="238"/>
                    </a:lnTo>
                    <a:lnTo>
                      <a:pt x="38" y="254"/>
                    </a:lnTo>
                    <a:lnTo>
                      <a:pt x="24" y="270"/>
                    </a:lnTo>
                    <a:lnTo>
                      <a:pt x="13" y="286"/>
                    </a:lnTo>
                    <a:lnTo>
                      <a:pt x="0" y="303"/>
                    </a:lnTo>
                    <a:lnTo>
                      <a:pt x="9" y="331"/>
                    </a:lnTo>
                    <a:lnTo>
                      <a:pt x="21" y="314"/>
                    </a:lnTo>
                    <a:lnTo>
                      <a:pt x="33" y="296"/>
                    </a:lnTo>
                    <a:lnTo>
                      <a:pt x="45" y="280"/>
                    </a:lnTo>
                    <a:lnTo>
                      <a:pt x="58" y="264"/>
                    </a:lnTo>
                    <a:lnTo>
                      <a:pt x="72" y="249"/>
                    </a:lnTo>
                    <a:lnTo>
                      <a:pt x="86" y="234"/>
                    </a:lnTo>
                    <a:lnTo>
                      <a:pt x="99" y="219"/>
                    </a:lnTo>
                    <a:lnTo>
                      <a:pt x="114" y="204"/>
                    </a:lnTo>
                    <a:lnTo>
                      <a:pt x="129" y="190"/>
                    </a:lnTo>
                    <a:lnTo>
                      <a:pt x="146" y="178"/>
                    </a:lnTo>
                    <a:lnTo>
                      <a:pt x="162" y="165"/>
                    </a:lnTo>
                    <a:lnTo>
                      <a:pt x="178" y="152"/>
                    </a:lnTo>
                    <a:lnTo>
                      <a:pt x="195" y="141"/>
                    </a:lnTo>
                    <a:lnTo>
                      <a:pt x="212" y="129"/>
                    </a:lnTo>
                    <a:lnTo>
                      <a:pt x="230" y="118"/>
                    </a:lnTo>
                    <a:lnTo>
                      <a:pt x="247" y="107"/>
                    </a:lnTo>
                    <a:lnTo>
                      <a:pt x="265" y="98"/>
                    </a:lnTo>
                    <a:lnTo>
                      <a:pt x="284" y="89"/>
                    </a:lnTo>
                    <a:lnTo>
                      <a:pt x="304" y="80"/>
                    </a:lnTo>
                    <a:lnTo>
                      <a:pt x="322" y="72"/>
                    </a:lnTo>
                    <a:lnTo>
                      <a:pt x="342" y="65"/>
                    </a:lnTo>
                    <a:lnTo>
                      <a:pt x="361" y="57"/>
                    </a:lnTo>
                    <a:lnTo>
                      <a:pt x="382" y="51"/>
                    </a:lnTo>
                    <a:lnTo>
                      <a:pt x="402" y="45"/>
                    </a:lnTo>
                    <a:lnTo>
                      <a:pt x="422" y="41"/>
                    </a:lnTo>
                    <a:lnTo>
                      <a:pt x="443" y="36"/>
                    </a:lnTo>
                    <a:lnTo>
                      <a:pt x="465" y="31"/>
                    </a:lnTo>
                    <a:lnTo>
                      <a:pt x="486" y="29"/>
                    </a:lnTo>
                    <a:lnTo>
                      <a:pt x="508" y="27"/>
                    </a:lnTo>
                    <a:lnTo>
                      <a:pt x="530" y="24"/>
                    </a:lnTo>
                    <a:lnTo>
                      <a:pt x="552" y="23"/>
                    </a:lnTo>
                    <a:lnTo>
                      <a:pt x="573" y="23"/>
                    </a:lnTo>
                    <a:lnTo>
                      <a:pt x="612" y="24"/>
                    </a:lnTo>
                    <a:lnTo>
                      <a:pt x="650" y="28"/>
                    </a:lnTo>
                    <a:lnTo>
                      <a:pt x="686" y="32"/>
                    </a:lnTo>
                    <a:lnTo>
                      <a:pt x="722" y="39"/>
                    </a:lnTo>
                    <a:lnTo>
                      <a:pt x="758" y="49"/>
                    </a:lnTo>
                    <a:lnTo>
                      <a:pt x="794" y="60"/>
                    </a:lnTo>
                    <a:lnTo>
                      <a:pt x="827" y="73"/>
                    </a:lnTo>
                    <a:lnTo>
                      <a:pt x="861" y="88"/>
                    </a:lnTo>
                    <a:lnTo>
                      <a:pt x="851" y="58"/>
                    </a:lnTo>
                    <a:close/>
                    <a:moveTo>
                      <a:pt x="526" y="1384"/>
                    </a:moveTo>
                    <a:lnTo>
                      <a:pt x="532" y="1384"/>
                    </a:lnTo>
                    <a:lnTo>
                      <a:pt x="538" y="1385"/>
                    </a:lnTo>
                    <a:lnTo>
                      <a:pt x="543" y="1385"/>
                    </a:lnTo>
                    <a:lnTo>
                      <a:pt x="549" y="1385"/>
                    </a:lnTo>
                    <a:lnTo>
                      <a:pt x="555" y="1385"/>
                    </a:lnTo>
                    <a:lnTo>
                      <a:pt x="561" y="1385"/>
                    </a:lnTo>
                    <a:lnTo>
                      <a:pt x="568" y="1385"/>
                    </a:lnTo>
                    <a:lnTo>
                      <a:pt x="573" y="1385"/>
                    </a:lnTo>
                    <a:lnTo>
                      <a:pt x="605" y="1385"/>
                    </a:lnTo>
                    <a:lnTo>
                      <a:pt x="637" y="1382"/>
                    </a:lnTo>
                    <a:lnTo>
                      <a:pt x="668" y="1379"/>
                    </a:lnTo>
                    <a:lnTo>
                      <a:pt x="698" y="1374"/>
                    </a:lnTo>
                    <a:lnTo>
                      <a:pt x="729" y="1367"/>
                    </a:lnTo>
                    <a:lnTo>
                      <a:pt x="758" y="1360"/>
                    </a:lnTo>
                    <a:lnTo>
                      <a:pt x="788" y="1351"/>
                    </a:lnTo>
                    <a:lnTo>
                      <a:pt x="817" y="1341"/>
                    </a:lnTo>
                    <a:lnTo>
                      <a:pt x="845" y="1330"/>
                    </a:lnTo>
                    <a:lnTo>
                      <a:pt x="872" y="1318"/>
                    </a:lnTo>
                    <a:lnTo>
                      <a:pt x="899" y="1304"/>
                    </a:lnTo>
                    <a:lnTo>
                      <a:pt x="925" y="1289"/>
                    </a:lnTo>
                    <a:lnTo>
                      <a:pt x="951" y="1274"/>
                    </a:lnTo>
                    <a:lnTo>
                      <a:pt x="975" y="1257"/>
                    </a:lnTo>
                    <a:lnTo>
                      <a:pt x="999" y="1239"/>
                    </a:lnTo>
                    <a:lnTo>
                      <a:pt x="1022" y="1221"/>
                    </a:lnTo>
                    <a:lnTo>
                      <a:pt x="1044" y="1200"/>
                    </a:lnTo>
                    <a:lnTo>
                      <a:pt x="1066" y="1181"/>
                    </a:lnTo>
                    <a:lnTo>
                      <a:pt x="1086" y="1159"/>
                    </a:lnTo>
                    <a:lnTo>
                      <a:pt x="1105" y="1136"/>
                    </a:lnTo>
                    <a:lnTo>
                      <a:pt x="1124" y="1113"/>
                    </a:lnTo>
                    <a:lnTo>
                      <a:pt x="1142" y="1088"/>
                    </a:lnTo>
                    <a:lnTo>
                      <a:pt x="1158" y="1064"/>
                    </a:lnTo>
                    <a:lnTo>
                      <a:pt x="1174" y="1039"/>
                    </a:lnTo>
                    <a:lnTo>
                      <a:pt x="1188" y="1012"/>
                    </a:lnTo>
                    <a:lnTo>
                      <a:pt x="1201" y="985"/>
                    </a:lnTo>
                    <a:lnTo>
                      <a:pt x="1214" y="958"/>
                    </a:lnTo>
                    <a:lnTo>
                      <a:pt x="1225" y="929"/>
                    </a:lnTo>
                    <a:lnTo>
                      <a:pt x="1234" y="901"/>
                    </a:lnTo>
                    <a:lnTo>
                      <a:pt x="1242" y="872"/>
                    </a:lnTo>
                    <a:lnTo>
                      <a:pt x="1251" y="842"/>
                    </a:lnTo>
                    <a:lnTo>
                      <a:pt x="1256" y="811"/>
                    </a:lnTo>
                    <a:lnTo>
                      <a:pt x="1251" y="804"/>
                    </a:lnTo>
                    <a:lnTo>
                      <a:pt x="1239" y="767"/>
                    </a:lnTo>
                    <a:lnTo>
                      <a:pt x="1236" y="798"/>
                    </a:lnTo>
                    <a:lnTo>
                      <a:pt x="1230" y="829"/>
                    </a:lnTo>
                    <a:lnTo>
                      <a:pt x="1223" y="859"/>
                    </a:lnTo>
                    <a:lnTo>
                      <a:pt x="1215" y="888"/>
                    </a:lnTo>
                    <a:lnTo>
                      <a:pt x="1204" y="918"/>
                    </a:lnTo>
                    <a:lnTo>
                      <a:pt x="1194" y="947"/>
                    </a:lnTo>
                    <a:lnTo>
                      <a:pt x="1181" y="974"/>
                    </a:lnTo>
                    <a:lnTo>
                      <a:pt x="1169" y="1001"/>
                    </a:lnTo>
                    <a:lnTo>
                      <a:pt x="1154" y="1027"/>
                    </a:lnTo>
                    <a:lnTo>
                      <a:pt x="1137" y="1054"/>
                    </a:lnTo>
                    <a:lnTo>
                      <a:pt x="1121" y="1078"/>
                    </a:lnTo>
                    <a:lnTo>
                      <a:pt x="1103" y="1102"/>
                    </a:lnTo>
                    <a:lnTo>
                      <a:pt x="1084" y="1125"/>
                    </a:lnTo>
                    <a:lnTo>
                      <a:pt x="1065" y="1148"/>
                    </a:lnTo>
                    <a:lnTo>
                      <a:pt x="1044" y="1170"/>
                    </a:lnTo>
                    <a:lnTo>
                      <a:pt x="1022" y="1190"/>
                    </a:lnTo>
                    <a:lnTo>
                      <a:pt x="999" y="1209"/>
                    </a:lnTo>
                    <a:lnTo>
                      <a:pt x="976" y="1228"/>
                    </a:lnTo>
                    <a:lnTo>
                      <a:pt x="951" y="1246"/>
                    </a:lnTo>
                    <a:lnTo>
                      <a:pt x="926" y="1262"/>
                    </a:lnTo>
                    <a:lnTo>
                      <a:pt x="900" y="1277"/>
                    </a:lnTo>
                    <a:lnTo>
                      <a:pt x="873" y="1292"/>
                    </a:lnTo>
                    <a:lnTo>
                      <a:pt x="846" y="1305"/>
                    </a:lnTo>
                    <a:lnTo>
                      <a:pt x="818" y="1317"/>
                    </a:lnTo>
                    <a:lnTo>
                      <a:pt x="789" y="1327"/>
                    </a:lnTo>
                    <a:lnTo>
                      <a:pt x="759" y="1336"/>
                    </a:lnTo>
                    <a:lnTo>
                      <a:pt x="729" y="1344"/>
                    </a:lnTo>
                    <a:lnTo>
                      <a:pt x="699" y="1351"/>
                    </a:lnTo>
                    <a:lnTo>
                      <a:pt x="668" y="1356"/>
                    </a:lnTo>
                    <a:lnTo>
                      <a:pt x="637" y="1359"/>
                    </a:lnTo>
                    <a:lnTo>
                      <a:pt x="606" y="1362"/>
                    </a:lnTo>
                    <a:lnTo>
                      <a:pt x="573" y="1363"/>
                    </a:lnTo>
                    <a:lnTo>
                      <a:pt x="565" y="1363"/>
                    </a:lnTo>
                    <a:lnTo>
                      <a:pt x="557" y="1363"/>
                    </a:lnTo>
                    <a:lnTo>
                      <a:pt x="549" y="1362"/>
                    </a:lnTo>
                    <a:lnTo>
                      <a:pt x="542" y="1362"/>
                    </a:lnTo>
                    <a:lnTo>
                      <a:pt x="534" y="1362"/>
                    </a:lnTo>
                    <a:lnTo>
                      <a:pt x="526" y="1360"/>
                    </a:lnTo>
                    <a:lnTo>
                      <a:pt x="518" y="1360"/>
                    </a:lnTo>
                    <a:lnTo>
                      <a:pt x="511" y="1359"/>
                    </a:lnTo>
                    <a:lnTo>
                      <a:pt x="523" y="1377"/>
                    </a:lnTo>
                    <a:lnTo>
                      <a:pt x="526" y="1384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41880" y="3757680"/>
                <a:ext cx="328680" cy="361800"/>
              </a:xfrm>
              <a:custGeom>
                <a:avLst/>
                <a:gdLst/>
                <a:ahLst/>
                <a:rect l="l" t="t" r="r" b="b"/>
                <a:pathLst>
                  <a:path w="1242" h="1362">
                    <a:moveTo>
                      <a:pt x="851" y="61"/>
                    </a:moveTo>
                    <a:lnTo>
                      <a:pt x="818" y="47"/>
                    </a:lnTo>
                    <a:lnTo>
                      <a:pt x="784" y="34"/>
                    </a:lnTo>
                    <a:lnTo>
                      <a:pt x="750" y="24"/>
                    </a:lnTo>
                    <a:lnTo>
                      <a:pt x="715" y="16"/>
                    </a:lnTo>
                    <a:lnTo>
                      <a:pt x="679" y="9"/>
                    </a:lnTo>
                    <a:lnTo>
                      <a:pt x="642" y="4"/>
                    </a:lnTo>
                    <a:lnTo>
                      <a:pt x="605" y="1"/>
                    </a:lnTo>
                    <a:lnTo>
                      <a:pt x="568" y="0"/>
                    </a:lnTo>
                    <a:lnTo>
                      <a:pt x="547" y="0"/>
                    </a:lnTo>
                    <a:lnTo>
                      <a:pt x="523" y="1"/>
                    </a:lnTo>
                    <a:lnTo>
                      <a:pt x="503" y="3"/>
                    </a:lnTo>
                    <a:lnTo>
                      <a:pt x="481" y="5"/>
                    </a:lnTo>
                    <a:lnTo>
                      <a:pt x="459" y="9"/>
                    </a:lnTo>
                    <a:lnTo>
                      <a:pt x="438" y="12"/>
                    </a:lnTo>
                    <a:lnTo>
                      <a:pt x="417" y="17"/>
                    </a:lnTo>
                    <a:lnTo>
                      <a:pt x="397" y="22"/>
                    </a:lnTo>
                    <a:lnTo>
                      <a:pt x="376" y="27"/>
                    </a:lnTo>
                    <a:lnTo>
                      <a:pt x="356" y="33"/>
                    </a:lnTo>
                    <a:lnTo>
                      <a:pt x="335" y="40"/>
                    </a:lnTo>
                    <a:lnTo>
                      <a:pt x="316" y="48"/>
                    </a:lnTo>
                    <a:lnTo>
                      <a:pt x="297" y="56"/>
                    </a:lnTo>
                    <a:lnTo>
                      <a:pt x="278" y="64"/>
                    </a:lnTo>
                    <a:lnTo>
                      <a:pt x="259" y="74"/>
                    </a:lnTo>
                    <a:lnTo>
                      <a:pt x="241" y="84"/>
                    </a:lnTo>
                    <a:lnTo>
                      <a:pt x="222" y="94"/>
                    </a:lnTo>
                    <a:lnTo>
                      <a:pt x="205" y="105"/>
                    </a:lnTo>
                    <a:lnTo>
                      <a:pt x="188" y="116"/>
                    </a:lnTo>
                    <a:lnTo>
                      <a:pt x="171" y="128"/>
                    </a:lnTo>
                    <a:lnTo>
                      <a:pt x="154" y="140"/>
                    </a:lnTo>
                    <a:lnTo>
                      <a:pt x="138" y="153"/>
                    </a:lnTo>
                    <a:lnTo>
                      <a:pt x="122" y="166"/>
                    </a:lnTo>
                    <a:lnTo>
                      <a:pt x="107" y="180"/>
                    </a:lnTo>
                    <a:lnTo>
                      <a:pt x="92" y="195"/>
                    </a:lnTo>
                    <a:lnTo>
                      <a:pt x="77" y="208"/>
                    </a:lnTo>
                    <a:lnTo>
                      <a:pt x="63" y="223"/>
                    </a:lnTo>
                    <a:lnTo>
                      <a:pt x="49" y="240"/>
                    </a:lnTo>
                    <a:lnTo>
                      <a:pt x="37" y="256"/>
                    </a:lnTo>
                    <a:lnTo>
                      <a:pt x="24" y="272"/>
                    </a:lnTo>
                    <a:lnTo>
                      <a:pt x="11" y="288"/>
                    </a:lnTo>
                    <a:lnTo>
                      <a:pt x="0" y="305"/>
                    </a:lnTo>
                    <a:lnTo>
                      <a:pt x="9" y="333"/>
                    </a:lnTo>
                    <a:lnTo>
                      <a:pt x="21" y="316"/>
                    </a:lnTo>
                    <a:lnTo>
                      <a:pt x="32" y="299"/>
                    </a:lnTo>
                    <a:lnTo>
                      <a:pt x="44" y="282"/>
                    </a:lnTo>
                    <a:lnTo>
                      <a:pt x="56" y="266"/>
                    </a:lnTo>
                    <a:lnTo>
                      <a:pt x="70" y="251"/>
                    </a:lnTo>
                    <a:lnTo>
                      <a:pt x="84" y="235"/>
                    </a:lnTo>
                    <a:lnTo>
                      <a:pt x="98" y="220"/>
                    </a:lnTo>
                    <a:lnTo>
                      <a:pt x="113" y="206"/>
                    </a:lnTo>
                    <a:lnTo>
                      <a:pt x="128" y="192"/>
                    </a:lnTo>
                    <a:lnTo>
                      <a:pt x="143" y="178"/>
                    </a:lnTo>
                    <a:lnTo>
                      <a:pt x="159" y="166"/>
                    </a:lnTo>
                    <a:lnTo>
                      <a:pt x="175" y="153"/>
                    </a:lnTo>
                    <a:lnTo>
                      <a:pt x="191" y="142"/>
                    </a:lnTo>
                    <a:lnTo>
                      <a:pt x="209" y="130"/>
                    </a:lnTo>
                    <a:lnTo>
                      <a:pt x="226" y="118"/>
                    </a:lnTo>
                    <a:lnTo>
                      <a:pt x="244" y="108"/>
                    </a:lnTo>
                    <a:lnTo>
                      <a:pt x="262" y="98"/>
                    </a:lnTo>
                    <a:lnTo>
                      <a:pt x="280" y="88"/>
                    </a:lnTo>
                    <a:lnTo>
                      <a:pt x="299" y="80"/>
                    </a:lnTo>
                    <a:lnTo>
                      <a:pt x="318" y="71"/>
                    </a:lnTo>
                    <a:lnTo>
                      <a:pt x="338" y="64"/>
                    </a:lnTo>
                    <a:lnTo>
                      <a:pt x="357" y="57"/>
                    </a:lnTo>
                    <a:lnTo>
                      <a:pt x="377" y="50"/>
                    </a:lnTo>
                    <a:lnTo>
                      <a:pt x="398" y="45"/>
                    </a:lnTo>
                    <a:lnTo>
                      <a:pt x="419" y="40"/>
                    </a:lnTo>
                    <a:lnTo>
                      <a:pt x="439" y="35"/>
                    </a:lnTo>
                    <a:lnTo>
                      <a:pt x="460" y="31"/>
                    </a:lnTo>
                    <a:lnTo>
                      <a:pt x="481" y="29"/>
                    </a:lnTo>
                    <a:lnTo>
                      <a:pt x="503" y="26"/>
                    </a:lnTo>
                    <a:lnTo>
                      <a:pt x="525" y="24"/>
                    </a:lnTo>
                    <a:lnTo>
                      <a:pt x="547" y="23"/>
                    </a:lnTo>
                    <a:lnTo>
                      <a:pt x="568" y="23"/>
                    </a:lnTo>
                    <a:lnTo>
                      <a:pt x="608" y="24"/>
                    </a:lnTo>
                    <a:lnTo>
                      <a:pt x="646" y="27"/>
                    </a:lnTo>
                    <a:lnTo>
                      <a:pt x="684" y="33"/>
                    </a:lnTo>
                    <a:lnTo>
                      <a:pt x="721" y="40"/>
                    </a:lnTo>
                    <a:lnTo>
                      <a:pt x="756" y="50"/>
                    </a:lnTo>
                    <a:lnTo>
                      <a:pt x="792" y="62"/>
                    </a:lnTo>
                    <a:lnTo>
                      <a:pt x="827" y="76"/>
                    </a:lnTo>
                    <a:lnTo>
                      <a:pt x="860" y="91"/>
                    </a:lnTo>
                    <a:lnTo>
                      <a:pt x="851" y="61"/>
                    </a:lnTo>
                    <a:close/>
                    <a:moveTo>
                      <a:pt x="514" y="1360"/>
                    </a:moveTo>
                    <a:lnTo>
                      <a:pt x="520" y="1360"/>
                    </a:lnTo>
                    <a:lnTo>
                      <a:pt x="527" y="1361"/>
                    </a:lnTo>
                    <a:lnTo>
                      <a:pt x="534" y="1361"/>
                    </a:lnTo>
                    <a:lnTo>
                      <a:pt x="541" y="1361"/>
                    </a:lnTo>
                    <a:lnTo>
                      <a:pt x="548" y="1361"/>
                    </a:lnTo>
                    <a:lnTo>
                      <a:pt x="555" y="1362"/>
                    </a:lnTo>
                    <a:lnTo>
                      <a:pt x="562" y="1362"/>
                    </a:lnTo>
                    <a:lnTo>
                      <a:pt x="568" y="1362"/>
                    </a:lnTo>
                    <a:lnTo>
                      <a:pt x="600" y="1361"/>
                    </a:lnTo>
                    <a:lnTo>
                      <a:pt x="632" y="1359"/>
                    </a:lnTo>
                    <a:lnTo>
                      <a:pt x="663" y="1355"/>
                    </a:lnTo>
                    <a:lnTo>
                      <a:pt x="693" y="1351"/>
                    </a:lnTo>
                    <a:lnTo>
                      <a:pt x="723" y="1344"/>
                    </a:lnTo>
                    <a:lnTo>
                      <a:pt x="753" y="1337"/>
                    </a:lnTo>
                    <a:lnTo>
                      <a:pt x="783" y="1328"/>
                    </a:lnTo>
                    <a:lnTo>
                      <a:pt x="811" y="1317"/>
                    </a:lnTo>
                    <a:lnTo>
                      <a:pt x="840" y="1306"/>
                    </a:lnTo>
                    <a:lnTo>
                      <a:pt x="866" y="1293"/>
                    </a:lnTo>
                    <a:lnTo>
                      <a:pt x="893" y="1279"/>
                    </a:lnTo>
                    <a:lnTo>
                      <a:pt x="919" y="1264"/>
                    </a:lnTo>
                    <a:lnTo>
                      <a:pt x="944" y="1249"/>
                    </a:lnTo>
                    <a:lnTo>
                      <a:pt x="969" y="1232"/>
                    </a:lnTo>
                    <a:lnTo>
                      <a:pt x="993" y="1214"/>
                    </a:lnTo>
                    <a:lnTo>
                      <a:pt x="1016" y="1195"/>
                    </a:lnTo>
                    <a:lnTo>
                      <a:pt x="1038" y="1174"/>
                    </a:lnTo>
                    <a:lnTo>
                      <a:pt x="1059" y="1154"/>
                    </a:lnTo>
                    <a:lnTo>
                      <a:pt x="1079" y="1132"/>
                    </a:lnTo>
                    <a:lnTo>
                      <a:pt x="1098" y="1109"/>
                    </a:lnTo>
                    <a:lnTo>
                      <a:pt x="1116" y="1086"/>
                    </a:lnTo>
                    <a:lnTo>
                      <a:pt x="1134" y="1061"/>
                    </a:lnTo>
                    <a:lnTo>
                      <a:pt x="1150" y="1036"/>
                    </a:lnTo>
                    <a:lnTo>
                      <a:pt x="1165" y="1011"/>
                    </a:lnTo>
                    <a:lnTo>
                      <a:pt x="1179" y="984"/>
                    </a:lnTo>
                    <a:lnTo>
                      <a:pt x="1191" y="957"/>
                    </a:lnTo>
                    <a:lnTo>
                      <a:pt x="1203" y="929"/>
                    </a:lnTo>
                    <a:lnTo>
                      <a:pt x="1213" y="900"/>
                    </a:lnTo>
                    <a:lnTo>
                      <a:pt x="1222" y="871"/>
                    </a:lnTo>
                    <a:lnTo>
                      <a:pt x="1231" y="841"/>
                    </a:lnTo>
                    <a:lnTo>
                      <a:pt x="1237" y="811"/>
                    </a:lnTo>
                    <a:lnTo>
                      <a:pt x="1242" y="780"/>
                    </a:lnTo>
                    <a:lnTo>
                      <a:pt x="1226" y="726"/>
                    </a:lnTo>
                    <a:lnTo>
                      <a:pt x="1222" y="758"/>
                    </a:lnTo>
                    <a:lnTo>
                      <a:pt x="1218" y="789"/>
                    </a:lnTo>
                    <a:lnTo>
                      <a:pt x="1212" y="820"/>
                    </a:lnTo>
                    <a:lnTo>
                      <a:pt x="1205" y="850"/>
                    </a:lnTo>
                    <a:lnTo>
                      <a:pt x="1196" y="880"/>
                    </a:lnTo>
                    <a:lnTo>
                      <a:pt x="1186" y="910"/>
                    </a:lnTo>
                    <a:lnTo>
                      <a:pt x="1174" y="939"/>
                    </a:lnTo>
                    <a:lnTo>
                      <a:pt x="1162" y="967"/>
                    </a:lnTo>
                    <a:lnTo>
                      <a:pt x="1147" y="993"/>
                    </a:lnTo>
                    <a:lnTo>
                      <a:pt x="1132" y="1020"/>
                    </a:lnTo>
                    <a:lnTo>
                      <a:pt x="1116" y="1046"/>
                    </a:lnTo>
                    <a:lnTo>
                      <a:pt x="1099" y="1071"/>
                    </a:lnTo>
                    <a:lnTo>
                      <a:pt x="1081" y="1095"/>
                    </a:lnTo>
                    <a:lnTo>
                      <a:pt x="1061" y="1118"/>
                    </a:lnTo>
                    <a:lnTo>
                      <a:pt x="1040" y="1140"/>
                    </a:lnTo>
                    <a:lnTo>
                      <a:pt x="1018" y="1161"/>
                    </a:lnTo>
                    <a:lnTo>
                      <a:pt x="996" y="1181"/>
                    </a:lnTo>
                    <a:lnTo>
                      <a:pt x="972" y="1201"/>
                    </a:lnTo>
                    <a:lnTo>
                      <a:pt x="948" y="1218"/>
                    </a:lnTo>
                    <a:lnTo>
                      <a:pt x="924" y="1235"/>
                    </a:lnTo>
                    <a:lnTo>
                      <a:pt x="897" y="1252"/>
                    </a:lnTo>
                    <a:lnTo>
                      <a:pt x="871" y="1267"/>
                    </a:lnTo>
                    <a:lnTo>
                      <a:pt x="843" y="1279"/>
                    </a:lnTo>
                    <a:lnTo>
                      <a:pt x="814" y="1292"/>
                    </a:lnTo>
                    <a:lnTo>
                      <a:pt x="785" y="1302"/>
                    </a:lnTo>
                    <a:lnTo>
                      <a:pt x="756" y="1312"/>
                    </a:lnTo>
                    <a:lnTo>
                      <a:pt x="726" y="1320"/>
                    </a:lnTo>
                    <a:lnTo>
                      <a:pt x="695" y="1327"/>
                    </a:lnTo>
                    <a:lnTo>
                      <a:pt x="664" y="1332"/>
                    </a:lnTo>
                    <a:lnTo>
                      <a:pt x="633" y="1336"/>
                    </a:lnTo>
                    <a:lnTo>
                      <a:pt x="601" y="1338"/>
                    </a:lnTo>
                    <a:lnTo>
                      <a:pt x="568" y="1339"/>
                    </a:lnTo>
                    <a:lnTo>
                      <a:pt x="559" y="1339"/>
                    </a:lnTo>
                    <a:lnTo>
                      <a:pt x="550" y="1339"/>
                    </a:lnTo>
                    <a:lnTo>
                      <a:pt x="542" y="1338"/>
                    </a:lnTo>
                    <a:lnTo>
                      <a:pt x="533" y="1338"/>
                    </a:lnTo>
                    <a:lnTo>
                      <a:pt x="523" y="1338"/>
                    </a:lnTo>
                    <a:lnTo>
                      <a:pt x="515" y="1337"/>
                    </a:lnTo>
                    <a:lnTo>
                      <a:pt x="506" y="1337"/>
                    </a:lnTo>
                    <a:lnTo>
                      <a:pt x="498" y="1336"/>
                    </a:lnTo>
                    <a:lnTo>
                      <a:pt x="514" y="1360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43680" y="3760920"/>
                <a:ext cx="323640" cy="355320"/>
              </a:xfrm>
              <a:custGeom>
                <a:avLst/>
                <a:gdLst/>
                <a:ahLst/>
                <a:rect l="l" t="t" r="r" b="b"/>
                <a:pathLst>
                  <a:path w="1230" h="1340">
                    <a:moveTo>
                      <a:pt x="852" y="65"/>
                    </a:moveTo>
                    <a:lnTo>
                      <a:pt x="818" y="50"/>
                    </a:lnTo>
                    <a:lnTo>
                      <a:pt x="785" y="37"/>
                    </a:lnTo>
                    <a:lnTo>
                      <a:pt x="749" y="26"/>
                    </a:lnTo>
                    <a:lnTo>
                      <a:pt x="713" y="16"/>
                    </a:lnTo>
                    <a:lnTo>
                      <a:pt x="677" y="9"/>
                    </a:lnTo>
                    <a:lnTo>
                      <a:pt x="641" y="5"/>
                    </a:lnTo>
                    <a:lnTo>
                      <a:pt x="603" y="1"/>
                    </a:lnTo>
                    <a:lnTo>
                      <a:pt x="564" y="0"/>
                    </a:lnTo>
                    <a:lnTo>
                      <a:pt x="543" y="0"/>
                    </a:lnTo>
                    <a:lnTo>
                      <a:pt x="521" y="1"/>
                    </a:lnTo>
                    <a:lnTo>
                      <a:pt x="499" y="4"/>
                    </a:lnTo>
                    <a:lnTo>
                      <a:pt x="477" y="6"/>
                    </a:lnTo>
                    <a:lnTo>
                      <a:pt x="456" y="8"/>
                    </a:lnTo>
                    <a:lnTo>
                      <a:pt x="434" y="13"/>
                    </a:lnTo>
                    <a:lnTo>
                      <a:pt x="413" y="18"/>
                    </a:lnTo>
                    <a:lnTo>
                      <a:pt x="393" y="22"/>
                    </a:lnTo>
                    <a:lnTo>
                      <a:pt x="373" y="28"/>
                    </a:lnTo>
                    <a:lnTo>
                      <a:pt x="352" y="34"/>
                    </a:lnTo>
                    <a:lnTo>
                      <a:pt x="333" y="42"/>
                    </a:lnTo>
                    <a:lnTo>
                      <a:pt x="313" y="49"/>
                    </a:lnTo>
                    <a:lnTo>
                      <a:pt x="295" y="57"/>
                    </a:lnTo>
                    <a:lnTo>
                      <a:pt x="275" y="66"/>
                    </a:lnTo>
                    <a:lnTo>
                      <a:pt x="256" y="75"/>
                    </a:lnTo>
                    <a:lnTo>
                      <a:pt x="238" y="84"/>
                    </a:lnTo>
                    <a:lnTo>
                      <a:pt x="221" y="95"/>
                    </a:lnTo>
                    <a:lnTo>
                      <a:pt x="203" y="106"/>
                    </a:lnTo>
                    <a:lnTo>
                      <a:pt x="186" y="118"/>
                    </a:lnTo>
                    <a:lnTo>
                      <a:pt x="169" y="129"/>
                    </a:lnTo>
                    <a:lnTo>
                      <a:pt x="153" y="142"/>
                    </a:lnTo>
                    <a:lnTo>
                      <a:pt x="137" y="155"/>
                    </a:lnTo>
                    <a:lnTo>
                      <a:pt x="120" y="167"/>
                    </a:lnTo>
                    <a:lnTo>
                      <a:pt x="105" y="181"/>
                    </a:lnTo>
                    <a:lnTo>
                      <a:pt x="90" y="196"/>
                    </a:lnTo>
                    <a:lnTo>
                      <a:pt x="77" y="211"/>
                    </a:lnTo>
                    <a:lnTo>
                      <a:pt x="63" y="226"/>
                    </a:lnTo>
                    <a:lnTo>
                      <a:pt x="49" y="241"/>
                    </a:lnTo>
                    <a:lnTo>
                      <a:pt x="36" y="257"/>
                    </a:lnTo>
                    <a:lnTo>
                      <a:pt x="24" y="273"/>
                    </a:lnTo>
                    <a:lnTo>
                      <a:pt x="12" y="291"/>
                    </a:lnTo>
                    <a:lnTo>
                      <a:pt x="0" y="308"/>
                    </a:lnTo>
                    <a:lnTo>
                      <a:pt x="10" y="336"/>
                    </a:lnTo>
                    <a:lnTo>
                      <a:pt x="20" y="318"/>
                    </a:lnTo>
                    <a:lnTo>
                      <a:pt x="32" y="301"/>
                    </a:lnTo>
                    <a:lnTo>
                      <a:pt x="44" y="285"/>
                    </a:lnTo>
                    <a:lnTo>
                      <a:pt x="56" y="269"/>
                    </a:lnTo>
                    <a:lnTo>
                      <a:pt x="70" y="253"/>
                    </a:lnTo>
                    <a:lnTo>
                      <a:pt x="82" y="238"/>
                    </a:lnTo>
                    <a:lnTo>
                      <a:pt x="96" y="223"/>
                    </a:lnTo>
                    <a:lnTo>
                      <a:pt x="111" y="208"/>
                    </a:lnTo>
                    <a:lnTo>
                      <a:pt x="126" y="194"/>
                    </a:lnTo>
                    <a:lnTo>
                      <a:pt x="141" y="180"/>
                    </a:lnTo>
                    <a:lnTo>
                      <a:pt x="157" y="167"/>
                    </a:lnTo>
                    <a:lnTo>
                      <a:pt x="173" y="155"/>
                    </a:lnTo>
                    <a:lnTo>
                      <a:pt x="190" y="142"/>
                    </a:lnTo>
                    <a:lnTo>
                      <a:pt x="206" y="131"/>
                    </a:lnTo>
                    <a:lnTo>
                      <a:pt x="223" y="120"/>
                    </a:lnTo>
                    <a:lnTo>
                      <a:pt x="242" y="109"/>
                    </a:lnTo>
                    <a:lnTo>
                      <a:pt x="259" y="99"/>
                    </a:lnTo>
                    <a:lnTo>
                      <a:pt x="277" y="89"/>
                    </a:lnTo>
                    <a:lnTo>
                      <a:pt x="296" y="81"/>
                    </a:lnTo>
                    <a:lnTo>
                      <a:pt x="315" y="73"/>
                    </a:lnTo>
                    <a:lnTo>
                      <a:pt x="335" y="65"/>
                    </a:lnTo>
                    <a:lnTo>
                      <a:pt x="355" y="58"/>
                    </a:lnTo>
                    <a:lnTo>
                      <a:pt x="374" y="51"/>
                    </a:lnTo>
                    <a:lnTo>
                      <a:pt x="394" y="45"/>
                    </a:lnTo>
                    <a:lnTo>
                      <a:pt x="415" y="41"/>
                    </a:lnTo>
                    <a:lnTo>
                      <a:pt x="435" y="36"/>
                    </a:lnTo>
                    <a:lnTo>
                      <a:pt x="456" y="31"/>
                    </a:lnTo>
                    <a:lnTo>
                      <a:pt x="478" y="28"/>
                    </a:lnTo>
                    <a:lnTo>
                      <a:pt x="499" y="26"/>
                    </a:lnTo>
                    <a:lnTo>
                      <a:pt x="521" y="24"/>
                    </a:lnTo>
                    <a:lnTo>
                      <a:pt x="543" y="23"/>
                    </a:lnTo>
                    <a:lnTo>
                      <a:pt x="564" y="22"/>
                    </a:lnTo>
                    <a:lnTo>
                      <a:pt x="584" y="23"/>
                    </a:lnTo>
                    <a:lnTo>
                      <a:pt x="605" y="24"/>
                    </a:lnTo>
                    <a:lnTo>
                      <a:pt x="624" y="26"/>
                    </a:lnTo>
                    <a:lnTo>
                      <a:pt x="644" y="28"/>
                    </a:lnTo>
                    <a:lnTo>
                      <a:pt x="683" y="34"/>
                    </a:lnTo>
                    <a:lnTo>
                      <a:pt x="721" y="42"/>
                    </a:lnTo>
                    <a:lnTo>
                      <a:pt x="758" y="52"/>
                    </a:lnTo>
                    <a:lnTo>
                      <a:pt x="794" y="65"/>
                    </a:lnTo>
                    <a:lnTo>
                      <a:pt x="830" y="80"/>
                    </a:lnTo>
                    <a:lnTo>
                      <a:pt x="864" y="96"/>
                    </a:lnTo>
                    <a:lnTo>
                      <a:pt x="860" y="89"/>
                    </a:lnTo>
                    <a:lnTo>
                      <a:pt x="852" y="65"/>
                    </a:lnTo>
                    <a:close/>
                    <a:moveTo>
                      <a:pt x="502" y="1336"/>
                    </a:moveTo>
                    <a:lnTo>
                      <a:pt x="509" y="1337"/>
                    </a:lnTo>
                    <a:lnTo>
                      <a:pt x="517" y="1337"/>
                    </a:lnTo>
                    <a:lnTo>
                      <a:pt x="525" y="1339"/>
                    </a:lnTo>
                    <a:lnTo>
                      <a:pt x="533" y="1339"/>
                    </a:lnTo>
                    <a:lnTo>
                      <a:pt x="540" y="1339"/>
                    </a:lnTo>
                    <a:lnTo>
                      <a:pt x="548" y="1340"/>
                    </a:lnTo>
                    <a:lnTo>
                      <a:pt x="556" y="1340"/>
                    </a:lnTo>
                    <a:lnTo>
                      <a:pt x="564" y="1340"/>
                    </a:lnTo>
                    <a:lnTo>
                      <a:pt x="597" y="1339"/>
                    </a:lnTo>
                    <a:lnTo>
                      <a:pt x="628" y="1336"/>
                    </a:lnTo>
                    <a:lnTo>
                      <a:pt x="659" y="1333"/>
                    </a:lnTo>
                    <a:lnTo>
                      <a:pt x="690" y="1328"/>
                    </a:lnTo>
                    <a:lnTo>
                      <a:pt x="720" y="1321"/>
                    </a:lnTo>
                    <a:lnTo>
                      <a:pt x="750" y="1313"/>
                    </a:lnTo>
                    <a:lnTo>
                      <a:pt x="780" y="1304"/>
                    </a:lnTo>
                    <a:lnTo>
                      <a:pt x="809" y="1294"/>
                    </a:lnTo>
                    <a:lnTo>
                      <a:pt x="837" y="1282"/>
                    </a:lnTo>
                    <a:lnTo>
                      <a:pt x="864" y="1269"/>
                    </a:lnTo>
                    <a:lnTo>
                      <a:pt x="891" y="1254"/>
                    </a:lnTo>
                    <a:lnTo>
                      <a:pt x="917" y="1239"/>
                    </a:lnTo>
                    <a:lnTo>
                      <a:pt x="942" y="1223"/>
                    </a:lnTo>
                    <a:lnTo>
                      <a:pt x="967" y="1205"/>
                    </a:lnTo>
                    <a:lnTo>
                      <a:pt x="990" y="1186"/>
                    </a:lnTo>
                    <a:lnTo>
                      <a:pt x="1013" y="1167"/>
                    </a:lnTo>
                    <a:lnTo>
                      <a:pt x="1035" y="1147"/>
                    </a:lnTo>
                    <a:lnTo>
                      <a:pt x="1056" y="1125"/>
                    </a:lnTo>
                    <a:lnTo>
                      <a:pt x="1075" y="1102"/>
                    </a:lnTo>
                    <a:lnTo>
                      <a:pt x="1094" y="1079"/>
                    </a:lnTo>
                    <a:lnTo>
                      <a:pt x="1112" y="1055"/>
                    </a:lnTo>
                    <a:lnTo>
                      <a:pt x="1128" y="1031"/>
                    </a:lnTo>
                    <a:lnTo>
                      <a:pt x="1145" y="1004"/>
                    </a:lnTo>
                    <a:lnTo>
                      <a:pt x="1160" y="978"/>
                    </a:lnTo>
                    <a:lnTo>
                      <a:pt x="1172" y="951"/>
                    </a:lnTo>
                    <a:lnTo>
                      <a:pt x="1185" y="924"/>
                    </a:lnTo>
                    <a:lnTo>
                      <a:pt x="1195" y="895"/>
                    </a:lnTo>
                    <a:lnTo>
                      <a:pt x="1206" y="865"/>
                    </a:lnTo>
                    <a:lnTo>
                      <a:pt x="1214" y="836"/>
                    </a:lnTo>
                    <a:lnTo>
                      <a:pt x="1221" y="806"/>
                    </a:lnTo>
                    <a:lnTo>
                      <a:pt x="1227" y="775"/>
                    </a:lnTo>
                    <a:lnTo>
                      <a:pt x="1230" y="744"/>
                    </a:lnTo>
                    <a:lnTo>
                      <a:pt x="1212" y="684"/>
                    </a:lnTo>
                    <a:lnTo>
                      <a:pt x="1210" y="716"/>
                    </a:lnTo>
                    <a:lnTo>
                      <a:pt x="1207" y="748"/>
                    </a:lnTo>
                    <a:lnTo>
                      <a:pt x="1202" y="781"/>
                    </a:lnTo>
                    <a:lnTo>
                      <a:pt x="1197" y="812"/>
                    </a:lnTo>
                    <a:lnTo>
                      <a:pt x="1188" y="843"/>
                    </a:lnTo>
                    <a:lnTo>
                      <a:pt x="1179" y="873"/>
                    </a:lnTo>
                    <a:lnTo>
                      <a:pt x="1169" y="902"/>
                    </a:lnTo>
                    <a:lnTo>
                      <a:pt x="1157" y="931"/>
                    </a:lnTo>
                    <a:lnTo>
                      <a:pt x="1143" y="958"/>
                    </a:lnTo>
                    <a:lnTo>
                      <a:pt x="1130" y="986"/>
                    </a:lnTo>
                    <a:lnTo>
                      <a:pt x="1113" y="1012"/>
                    </a:lnTo>
                    <a:lnTo>
                      <a:pt x="1096" y="1038"/>
                    </a:lnTo>
                    <a:lnTo>
                      <a:pt x="1078" y="1063"/>
                    </a:lnTo>
                    <a:lnTo>
                      <a:pt x="1059" y="1087"/>
                    </a:lnTo>
                    <a:lnTo>
                      <a:pt x="1039" y="1110"/>
                    </a:lnTo>
                    <a:lnTo>
                      <a:pt x="1018" y="1132"/>
                    </a:lnTo>
                    <a:lnTo>
                      <a:pt x="995" y="1153"/>
                    </a:lnTo>
                    <a:lnTo>
                      <a:pt x="972" y="1173"/>
                    </a:lnTo>
                    <a:lnTo>
                      <a:pt x="947" y="1191"/>
                    </a:lnTo>
                    <a:lnTo>
                      <a:pt x="922" y="1209"/>
                    </a:lnTo>
                    <a:lnTo>
                      <a:pt x="895" y="1226"/>
                    </a:lnTo>
                    <a:lnTo>
                      <a:pt x="869" y="1241"/>
                    </a:lnTo>
                    <a:lnTo>
                      <a:pt x="841" y="1254"/>
                    </a:lnTo>
                    <a:lnTo>
                      <a:pt x="814" y="1267"/>
                    </a:lnTo>
                    <a:lnTo>
                      <a:pt x="784" y="1279"/>
                    </a:lnTo>
                    <a:lnTo>
                      <a:pt x="755" y="1289"/>
                    </a:lnTo>
                    <a:lnTo>
                      <a:pt x="724" y="1297"/>
                    </a:lnTo>
                    <a:lnTo>
                      <a:pt x="692" y="1304"/>
                    </a:lnTo>
                    <a:lnTo>
                      <a:pt x="661" y="1310"/>
                    </a:lnTo>
                    <a:lnTo>
                      <a:pt x="629" y="1313"/>
                    </a:lnTo>
                    <a:lnTo>
                      <a:pt x="597" y="1316"/>
                    </a:lnTo>
                    <a:lnTo>
                      <a:pt x="564" y="1317"/>
                    </a:lnTo>
                    <a:lnTo>
                      <a:pt x="554" y="1317"/>
                    </a:lnTo>
                    <a:lnTo>
                      <a:pt x="545" y="1317"/>
                    </a:lnTo>
                    <a:lnTo>
                      <a:pt x="534" y="1317"/>
                    </a:lnTo>
                    <a:lnTo>
                      <a:pt x="525" y="1316"/>
                    </a:lnTo>
                    <a:lnTo>
                      <a:pt x="515" y="1316"/>
                    </a:lnTo>
                    <a:lnTo>
                      <a:pt x="506" y="1314"/>
                    </a:lnTo>
                    <a:lnTo>
                      <a:pt x="495" y="1313"/>
                    </a:lnTo>
                    <a:lnTo>
                      <a:pt x="486" y="1312"/>
                    </a:lnTo>
                    <a:lnTo>
                      <a:pt x="502" y="133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43680" y="3763800"/>
                <a:ext cx="322200" cy="349560"/>
              </a:xfrm>
              <a:custGeom>
                <a:avLst/>
                <a:gdLst/>
                <a:ahLst/>
                <a:rect l="l" t="t" r="r" b="b"/>
                <a:pathLst>
                  <a:path w="1217" h="1316">
                    <a:moveTo>
                      <a:pt x="851" y="68"/>
                    </a:moveTo>
                    <a:lnTo>
                      <a:pt x="818" y="52"/>
                    </a:lnTo>
                    <a:lnTo>
                      <a:pt x="783" y="39"/>
                    </a:lnTo>
                    <a:lnTo>
                      <a:pt x="747" y="27"/>
                    </a:lnTo>
                    <a:lnTo>
                      <a:pt x="712" y="17"/>
                    </a:lnTo>
                    <a:lnTo>
                      <a:pt x="675" y="9"/>
                    </a:lnTo>
                    <a:lnTo>
                      <a:pt x="637" y="4"/>
                    </a:lnTo>
                    <a:lnTo>
                      <a:pt x="599" y="1"/>
                    </a:lnTo>
                    <a:lnTo>
                      <a:pt x="559" y="0"/>
                    </a:lnTo>
                    <a:lnTo>
                      <a:pt x="538" y="0"/>
                    </a:lnTo>
                    <a:lnTo>
                      <a:pt x="516" y="1"/>
                    </a:lnTo>
                    <a:lnTo>
                      <a:pt x="494" y="3"/>
                    </a:lnTo>
                    <a:lnTo>
                      <a:pt x="472" y="6"/>
                    </a:lnTo>
                    <a:lnTo>
                      <a:pt x="451" y="8"/>
                    </a:lnTo>
                    <a:lnTo>
                      <a:pt x="430" y="12"/>
                    </a:lnTo>
                    <a:lnTo>
                      <a:pt x="410" y="17"/>
                    </a:lnTo>
                    <a:lnTo>
                      <a:pt x="389" y="22"/>
                    </a:lnTo>
                    <a:lnTo>
                      <a:pt x="368" y="27"/>
                    </a:lnTo>
                    <a:lnTo>
                      <a:pt x="348" y="34"/>
                    </a:lnTo>
                    <a:lnTo>
                      <a:pt x="329" y="41"/>
                    </a:lnTo>
                    <a:lnTo>
                      <a:pt x="309" y="48"/>
                    </a:lnTo>
                    <a:lnTo>
                      <a:pt x="290" y="56"/>
                    </a:lnTo>
                    <a:lnTo>
                      <a:pt x="271" y="65"/>
                    </a:lnTo>
                    <a:lnTo>
                      <a:pt x="253" y="75"/>
                    </a:lnTo>
                    <a:lnTo>
                      <a:pt x="235" y="85"/>
                    </a:lnTo>
                    <a:lnTo>
                      <a:pt x="217" y="95"/>
                    </a:lnTo>
                    <a:lnTo>
                      <a:pt x="200" y="106"/>
                    </a:lnTo>
                    <a:lnTo>
                      <a:pt x="182" y="117"/>
                    </a:lnTo>
                    <a:lnTo>
                      <a:pt x="166" y="130"/>
                    </a:lnTo>
                    <a:lnTo>
                      <a:pt x="150" y="143"/>
                    </a:lnTo>
                    <a:lnTo>
                      <a:pt x="134" y="155"/>
                    </a:lnTo>
                    <a:lnTo>
                      <a:pt x="119" y="169"/>
                    </a:lnTo>
                    <a:lnTo>
                      <a:pt x="104" y="183"/>
                    </a:lnTo>
                    <a:lnTo>
                      <a:pt x="89" y="197"/>
                    </a:lnTo>
                    <a:lnTo>
                      <a:pt x="75" y="212"/>
                    </a:lnTo>
                    <a:lnTo>
                      <a:pt x="61" y="228"/>
                    </a:lnTo>
                    <a:lnTo>
                      <a:pt x="47" y="243"/>
                    </a:lnTo>
                    <a:lnTo>
                      <a:pt x="35" y="259"/>
                    </a:lnTo>
                    <a:lnTo>
                      <a:pt x="23" y="275"/>
                    </a:lnTo>
                    <a:lnTo>
                      <a:pt x="12" y="293"/>
                    </a:lnTo>
                    <a:lnTo>
                      <a:pt x="0" y="310"/>
                    </a:lnTo>
                    <a:lnTo>
                      <a:pt x="9" y="339"/>
                    </a:lnTo>
                    <a:lnTo>
                      <a:pt x="20" y="321"/>
                    </a:lnTo>
                    <a:lnTo>
                      <a:pt x="31" y="304"/>
                    </a:lnTo>
                    <a:lnTo>
                      <a:pt x="43" y="287"/>
                    </a:lnTo>
                    <a:lnTo>
                      <a:pt x="55" y="271"/>
                    </a:lnTo>
                    <a:lnTo>
                      <a:pt x="68" y="255"/>
                    </a:lnTo>
                    <a:lnTo>
                      <a:pt x="81" y="240"/>
                    </a:lnTo>
                    <a:lnTo>
                      <a:pt x="95" y="225"/>
                    </a:lnTo>
                    <a:lnTo>
                      <a:pt x="108" y="210"/>
                    </a:lnTo>
                    <a:lnTo>
                      <a:pt x="123" y="196"/>
                    </a:lnTo>
                    <a:lnTo>
                      <a:pt x="138" y="182"/>
                    </a:lnTo>
                    <a:lnTo>
                      <a:pt x="153" y="168"/>
                    </a:lnTo>
                    <a:lnTo>
                      <a:pt x="170" y="155"/>
                    </a:lnTo>
                    <a:lnTo>
                      <a:pt x="186" y="143"/>
                    </a:lnTo>
                    <a:lnTo>
                      <a:pt x="203" y="131"/>
                    </a:lnTo>
                    <a:lnTo>
                      <a:pt x="220" y="120"/>
                    </a:lnTo>
                    <a:lnTo>
                      <a:pt x="238" y="109"/>
                    </a:lnTo>
                    <a:lnTo>
                      <a:pt x="255" y="99"/>
                    </a:lnTo>
                    <a:lnTo>
                      <a:pt x="273" y="90"/>
                    </a:lnTo>
                    <a:lnTo>
                      <a:pt x="292" y="80"/>
                    </a:lnTo>
                    <a:lnTo>
                      <a:pt x="311" y="72"/>
                    </a:lnTo>
                    <a:lnTo>
                      <a:pt x="330" y="64"/>
                    </a:lnTo>
                    <a:lnTo>
                      <a:pt x="350" y="57"/>
                    </a:lnTo>
                    <a:lnTo>
                      <a:pt x="369" y="51"/>
                    </a:lnTo>
                    <a:lnTo>
                      <a:pt x="390" y="45"/>
                    </a:lnTo>
                    <a:lnTo>
                      <a:pt x="410" y="40"/>
                    </a:lnTo>
                    <a:lnTo>
                      <a:pt x="430" y="36"/>
                    </a:lnTo>
                    <a:lnTo>
                      <a:pt x="451" y="31"/>
                    </a:lnTo>
                    <a:lnTo>
                      <a:pt x="473" y="27"/>
                    </a:lnTo>
                    <a:lnTo>
                      <a:pt x="494" y="25"/>
                    </a:lnTo>
                    <a:lnTo>
                      <a:pt x="516" y="24"/>
                    </a:lnTo>
                    <a:lnTo>
                      <a:pt x="538" y="23"/>
                    </a:lnTo>
                    <a:lnTo>
                      <a:pt x="559" y="22"/>
                    </a:lnTo>
                    <a:lnTo>
                      <a:pt x="580" y="23"/>
                    </a:lnTo>
                    <a:lnTo>
                      <a:pt x="602" y="24"/>
                    </a:lnTo>
                    <a:lnTo>
                      <a:pt x="623" y="25"/>
                    </a:lnTo>
                    <a:lnTo>
                      <a:pt x="644" y="27"/>
                    </a:lnTo>
                    <a:lnTo>
                      <a:pt x="663" y="31"/>
                    </a:lnTo>
                    <a:lnTo>
                      <a:pt x="684" y="34"/>
                    </a:lnTo>
                    <a:lnTo>
                      <a:pt x="705" y="39"/>
                    </a:lnTo>
                    <a:lnTo>
                      <a:pt x="724" y="44"/>
                    </a:lnTo>
                    <a:lnTo>
                      <a:pt x="744" y="49"/>
                    </a:lnTo>
                    <a:lnTo>
                      <a:pt x="764" y="55"/>
                    </a:lnTo>
                    <a:lnTo>
                      <a:pt x="782" y="62"/>
                    </a:lnTo>
                    <a:lnTo>
                      <a:pt x="801" y="70"/>
                    </a:lnTo>
                    <a:lnTo>
                      <a:pt x="819" y="78"/>
                    </a:lnTo>
                    <a:lnTo>
                      <a:pt x="837" y="86"/>
                    </a:lnTo>
                    <a:lnTo>
                      <a:pt x="856" y="95"/>
                    </a:lnTo>
                    <a:lnTo>
                      <a:pt x="873" y="105"/>
                    </a:lnTo>
                    <a:lnTo>
                      <a:pt x="855" y="77"/>
                    </a:lnTo>
                    <a:lnTo>
                      <a:pt x="851" y="68"/>
                    </a:lnTo>
                    <a:close/>
                    <a:moveTo>
                      <a:pt x="489" y="1313"/>
                    </a:moveTo>
                    <a:lnTo>
                      <a:pt x="497" y="1314"/>
                    </a:lnTo>
                    <a:lnTo>
                      <a:pt x="506" y="1314"/>
                    </a:lnTo>
                    <a:lnTo>
                      <a:pt x="516" y="1315"/>
                    </a:lnTo>
                    <a:lnTo>
                      <a:pt x="524" y="1315"/>
                    </a:lnTo>
                    <a:lnTo>
                      <a:pt x="533" y="1316"/>
                    </a:lnTo>
                    <a:lnTo>
                      <a:pt x="541" y="1316"/>
                    </a:lnTo>
                    <a:lnTo>
                      <a:pt x="550" y="1316"/>
                    </a:lnTo>
                    <a:lnTo>
                      <a:pt x="559" y="1316"/>
                    </a:lnTo>
                    <a:lnTo>
                      <a:pt x="592" y="1315"/>
                    </a:lnTo>
                    <a:lnTo>
                      <a:pt x="624" y="1313"/>
                    </a:lnTo>
                    <a:lnTo>
                      <a:pt x="655" y="1309"/>
                    </a:lnTo>
                    <a:lnTo>
                      <a:pt x="686" y="1304"/>
                    </a:lnTo>
                    <a:lnTo>
                      <a:pt x="717" y="1298"/>
                    </a:lnTo>
                    <a:lnTo>
                      <a:pt x="747" y="1289"/>
                    </a:lnTo>
                    <a:lnTo>
                      <a:pt x="776" y="1279"/>
                    </a:lnTo>
                    <a:lnTo>
                      <a:pt x="805" y="1269"/>
                    </a:lnTo>
                    <a:lnTo>
                      <a:pt x="834" y="1256"/>
                    </a:lnTo>
                    <a:lnTo>
                      <a:pt x="862" y="1244"/>
                    </a:lnTo>
                    <a:lnTo>
                      <a:pt x="888" y="1229"/>
                    </a:lnTo>
                    <a:lnTo>
                      <a:pt x="915" y="1212"/>
                    </a:lnTo>
                    <a:lnTo>
                      <a:pt x="939" y="1195"/>
                    </a:lnTo>
                    <a:lnTo>
                      <a:pt x="963" y="1178"/>
                    </a:lnTo>
                    <a:lnTo>
                      <a:pt x="987" y="1158"/>
                    </a:lnTo>
                    <a:lnTo>
                      <a:pt x="1009" y="1139"/>
                    </a:lnTo>
                    <a:lnTo>
                      <a:pt x="1031" y="1117"/>
                    </a:lnTo>
                    <a:lnTo>
                      <a:pt x="1052" y="1095"/>
                    </a:lnTo>
                    <a:lnTo>
                      <a:pt x="1072" y="1072"/>
                    </a:lnTo>
                    <a:lnTo>
                      <a:pt x="1090" y="1048"/>
                    </a:lnTo>
                    <a:lnTo>
                      <a:pt x="1107" y="1023"/>
                    </a:lnTo>
                    <a:lnTo>
                      <a:pt x="1123" y="997"/>
                    </a:lnTo>
                    <a:lnTo>
                      <a:pt x="1138" y="970"/>
                    </a:lnTo>
                    <a:lnTo>
                      <a:pt x="1153" y="944"/>
                    </a:lnTo>
                    <a:lnTo>
                      <a:pt x="1166" y="916"/>
                    </a:lnTo>
                    <a:lnTo>
                      <a:pt x="1177" y="887"/>
                    </a:lnTo>
                    <a:lnTo>
                      <a:pt x="1187" y="857"/>
                    </a:lnTo>
                    <a:lnTo>
                      <a:pt x="1196" y="829"/>
                    </a:lnTo>
                    <a:lnTo>
                      <a:pt x="1203" y="797"/>
                    </a:lnTo>
                    <a:lnTo>
                      <a:pt x="1209" y="766"/>
                    </a:lnTo>
                    <a:lnTo>
                      <a:pt x="1213" y="735"/>
                    </a:lnTo>
                    <a:lnTo>
                      <a:pt x="1217" y="703"/>
                    </a:lnTo>
                    <a:lnTo>
                      <a:pt x="1200" y="651"/>
                    </a:lnTo>
                    <a:lnTo>
                      <a:pt x="1195" y="643"/>
                    </a:lnTo>
                    <a:lnTo>
                      <a:pt x="1195" y="645"/>
                    </a:lnTo>
                    <a:lnTo>
                      <a:pt x="1195" y="646"/>
                    </a:lnTo>
                    <a:lnTo>
                      <a:pt x="1195" y="649"/>
                    </a:lnTo>
                    <a:lnTo>
                      <a:pt x="1195" y="651"/>
                    </a:lnTo>
                    <a:lnTo>
                      <a:pt x="1195" y="652"/>
                    </a:lnTo>
                    <a:lnTo>
                      <a:pt x="1195" y="655"/>
                    </a:lnTo>
                    <a:lnTo>
                      <a:pt x="1195" y="656"/>
                    </a:lnTo>
                    <a:lnTo>
                      <a:pt x="1195" y="658"/>
                    </a:lnTo>
                    <a:lnTo>
                      <a:pt x="1195" y="690"/>
                    </a:lnTo>
                    <a:lnTo>
                      <a:pt x="1192" y="723"/>
                    </a:lnTo>
                    <a:lnTo>
                      <a:pt x="1188" y="755"/>
                    </a:lnTo>
                    <a:lnTo>
                      <a:pt x="1182" y="786"/>
                    </a:lnTo>
                    <a:lnTo>
                      <a:pt x="1175" y="817"/>
                    </a:lnTo>
                    <a:lnTo>
                      <a:pt x="1166" y="847"/>
                    </a:lnTo>
                    <a:lnTo>
                      <a:pt x="1157" y="876"/>
                    </a:lnTo>
                    <a:lnTo>
                      <a:pt x="1145" y="905"/>
                    </a:lnTo>
                    <a:lnTo>
                      <a:pt x="1133" y="934"/>
                    </a:lnTo>
                    <a:lnTo>
                      <a:pt x="1119" y="961"/>
                    </a:lnTo>
                    <a:lnTo>
                      <a:pt x="1103" y="988"/>
                    </a:lnTo>
                    <a:lnTo>
                      <a:pt x="1087" y="1013"/>
                    </a:lnTo>
                    <a:lnTo>
                      <a:pt x="1069" y="1038"/>
                    </a:lnTo>
                    <a:lnTo>
                      <a:pt x="1050" y="1063"/>
                    </a:lnTo>
                    <a:lnTo>
                      <a:pt x="1030" y="1086"/>
                    </a:lnTo>
                    <a:lnTo>
                      <a:pt x="1009" y="1108"/>
                    </a:lnTo>
                    <a:lnTo>
                      <a:pt x="987" y="1128"/>
                    </a:lnTo>
                    <a:lnTo>
                      <a:pt x="964" y="1148"/>
                    </a:lnTo>
                    <a:lnTo>
                      <a:pt x="940" y="1168"/>
                    </a:lnTo>
                    <a:lnTo>
                      <a:pt x="915" y="1185"/>
                    </a:lnTo>
                    <a:lnTo>
                      <a:pt x="889" y="1202"/>
                    </a:lnTo>
                    <a:lnTo>
                      <a:pt x="863" y="1217"/>
                    </a:lnTo>
                    <a:lnTo>
                      <a:pt x="835" y="1231"/>
                    </a:lnTo>
                    <a:lnTo>
                      <a:pt x="806" y="1244"/>
                    </a:lnTo>
                    <a:lnTo>
                      <a:pt x="777" y="1255"/>
                    </a:lnTo>
                    <a:lnTo>
                      <a:pt x="749" y="1266"/>
                    </a:lnTo>
                    <a:lnTo>
                      <a:pt x="719" y="1274"/>
                    </a:lnTo>
                    <a:lnTo>
                      <a:pt x="687" y="1280"/>
                    </a:lnTo>
                    <a:lnTo>
                      <a:pt x="656" y="1286"/>
                    </a:lnTo>
                    <a:lnTo>
                      <a:pt x="624" y="1290"/>
                    </a:lnTo>
                    <a:lnTo>
                      <a:pt x="592" y="1293"/>
                    </a:lnTo>
                    <a:lnTo>
                      <a:pt x="559" y="1293"/>
                    </a:lnTo>
                    <a:lnTo>
                      <a:pt x="548" y="1293"/>
                    </a:lnTo>
                    <a:lnTo>
                      <a:pt x="538" y="1293"/>
                    </a:lnTo>
                    <a:lnTo>
                      <a:pt x="526" y="1293"/>
                    </a:lnTo>
                    <a:lnTo>
                      <a:pt x="516" y="1292"/>
                    </a:lnTo>
                    <a:lnTo>
                      <a:pt x="504" y="1291"/>
                    </a:lnTo>
                    <a:lnTo>
                      <a:pt x="494" y="1290"/>
                    </a:lnTo>
                    <a:lnTo>
                      <a:pt x="483" y="1289"/>
                    </a:lnTo>
                    <a:lnTo>
                      <a:pt x="473" y="1287"/>
                    </a:lnTo>
                    <a:lnTo>
                      <a:pt x="489" y="1313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45120" y="3767040"/>
                <a:ext cx="317520" cy="343080"/>
              </a:xfrm>
              <a:custGeom>
                <a:avLst/>
                <a:gdLst/>
                <a:ahLst/>
                <a:rect l="l" t="t" r="r" b="b"/>
                <a:pathLst>
                  <a:path w="1202" h="1295">
                    <a:moveTo>
                      <a:pt x="854" y="74"/>
                    </a:moveTo>
                    <a:lnTo>
                      <a:pt x="820" y="58"/>
                    </a:lnTo>
                    <a:lnTo>
                      <a:pt x="784" y="43"/>
                    </a:lnTo>
                    <a:lnTo>
                      <a:pt x="748" y="30"/>
                    </a:lnTo>
                    <a:lnTo>
                      <a:pt x="711" y="20"/>
                    </a:lnTo>
                    <a:lnTo>
                      <a:pt x="673" y="12"/>
                    </a:lnTo>
                    <a:lnTo>
                      <a:pt x="634" y="6"/>
                    </a:lnTo>
                    <a:lnTo>
                      <a:pt x="614" y="4"/>
                    </a:lnTo>
                    <a:lnTo>
                      <a:pt x="595" y="2"/>
                    </a:lnTo>
                    <a:lnTo>
                      <a:pt x="574" y="1"/>
                    </a:lnTo>
                    <a:lnTo>
                      <a:pt x="554" y="0"/>
                    </a:lnTo>
                    <a:lnTo>
                      <a:pt x="533" y="1"/>
                    </a:lnTo>
                    <a:lnTo>
                      <a:pt x="511" y="2"/>
                    </a:lnTo>
                    <a:lnTo>
                      <a:pt x="489" y="4"/>
                    </a:lnTo>
                    <a:lnTo>
                      <a:pt x="468" y="7"/>
                    </a:lnTo>
                    <a:lnTo>
                      <a:pt x="446" y="9"/>
                    </a:lnTo>
                    <a:lnTo>
                      <a:pt x="425" y="14"/>
                    </a:lnTo>
                    <a:lnTo>
                      <a:pt x="405" y="19"/>
                    </a:lnTo>
                    <a:lnTo>
                      <a:pt x="384" y="23"/>
                    </a:lnTo>
                    <a:lnTo>
                      <a:pt x="364" y="29"/>
                    </a:lnTo>
                    <a:lnTo>
                      <a:pt x="345" y="36"/>
                    </a:lnTo>
                    <a:lnTo>
                      <a:pt x="325" y="43"/>
                    </a:lnTo>
                    <a:lnTo>
                      <a:pt x="305" y="51"/>
                    </a:lnTo>
                    <a:lnTo>
                      <a:pt x="286" y="59"/>
                    </a:lnTo>
                    <a:lnTo>
                      <a:pt x="267" y="68"/>
                    </a:lnTo>
                    <a:lnTo>
                      <a:pt x="249" y="77"/>
                    </a:lnTo>
                    <a:lnTo>
                      <a:pt x="232" y="87"/>
                    </a:lnTo>
                    <a:lnTo>
                      <a:pt x="213" y="98"/>
                    </a:lnTo>
                    <a:lnTo>
                      <a:pt x="196" y="109"/>
                    </a:lnTo>
                    <a:lnTo>
                      <a:pt x="180" y="120"/>
                    </a:lnTo>
                    <a:lnTo>
                      <a:pt x="163" y="133"/>
                    </a:lnTo>
                    <a:lnTo>
                      <a:pt x="147" y="145"/>
                    </a:lnTo>
                    <a:lnTo>
                      <a:pt x="131" y="158"/>
                    </a:lnTo>
                    <a:lnTo>
                      <a:pt x="116" y="172"/>
                    </a:lnTo>
                    <a:lnTo>
                      <a:pt x="101" y="186"/>
                    </a:lnTo>
                    <a:lnTo>
                      <a:pt x="86" y="201"/>
                    </a:lnTo>
                    <a:lnTo>
                      <a:pt x="72" y="216"/>
                    </a:lnTo>
                    <a:lnTo>
                      <a:pt x="60" y="231"/>
                    </a:lnTo>
                    <a:lnTo>
                      <a:pt x="46" y="247"/>
                    </a:lnTo>
                    <a:lnTo>
                      <a:pt x="34" y="263"/>
                    </a:lnTo>
                    <a:lnTo>
                      <a:pt x="22" y="279"/>
                    </a:lnTo>
                    <a:lnTo>
                      <a:pt x="10" y="296"/>
                    </a:lnTo>
                    <a:lnTo>
                      <a:pt x="0" y="314"/>
                    </a:lnTo>
                    <a:lnTo>
                      <a:pt x="7" y="336"/>
                    </a:lnTo>
                    <a:lnTo>
                      <a:pt x="9" y="344"/>
                    </a:lnTo>
                    <a:lnTo>
                      <a:pt x="19" y="325"/>
                    </a:lnTo>
                    <a:lnTo>
                      <a:pt x="30" y="308"/>
                    </a:lnTo>
                    <a:lnTo>
                      <a:pt x="41" y="292"/>
                    </a:lnTo>
                    <a:lnTo>
                      <a:pt x="54" y="275"/>
                    </a:lnTo>
                    <a:lnTo>
                      <a:pt x="65" y="258"/>
                    </a:lnTo>
                    <a:lnTo>
                      <a:pt x="79" y="243"/>
                    </a:lnTo>
                    <a:lnTo>
                      <a:pt x="92" y="227"/>
                    </a:lnTo>
                    <a:lnTo>
                      <a:pt x="107" y="212"/>
                    </a:lnTo>
                    <a:lnTo>
                      <a:pt x="121" y="198"/>
                    </a:lnTo>
                    <a:lnTo>
                      <a:pt x="136" y="185"/>
                    </a:lnTo>
                    <a:lnTo>
                      <a:pt x="151" y="171"/>
                    </a:lnTo>
                    <a:lnTo>
                      <a:pt x="167" y="158"/>
                    </a:lnTo>
                    <a:lnTo>
                      <a:pt x="183" y="145"/>
                    </a:lnTo>
                    <a:lnTo>
                      <a:pt x="199" y="134"/>
                    </a:lnTo>
                    <a:lnTo>
                      <a:pt x="217" y="122"/>
                    </a:lnTo>
                    <a:lnTo>
                      <a:pt x="234" y="112"/>
                    </a:lnTo>
                    <a:lnTo>
                      <a:pt x="251" y="102"/>
                    </a:lnTo>
                    <a:lnTo>
                      <a:pt x="270" y="92"/>
                    </a:lnTo>
                    <a:lnTo>
                      <a:pt x="288" y="83"/>
                    </a:lnTo>
                    <a:lnTo>
                      <a:pt x="306" y="74"/>
                    </a:lnTo>
                    <a:lnTo>
                      <a:pt x="326" y="67"/>
                    </a:lnTo>
                    <a:lnTo>
                      <a:pt x="346" y="59"/>
                    </a:lnTo>
                    <a:lnTo>
                      <a:pt x="365" y="53"/>
                    </a:lnTo>
                    <a:lnTo>
                      <a:pt x="385" y="46"/>
                    </a:lnTo>
                    <a:lnTo>
                      <a:pt x="406" y="42"/>
                    </a:lnTo>
                    <a:lnTo>
                      <a:pt x="426" y="37"/>
                    </a:lnTo>
                    <a:lnTo>
                      <a:pt x="447" y="32"/>
                    </a:lnTo>
                    <a:lnTo>
                      <a:pt x="468" y="29"/>
                    </a:lnTo>
                    <a:lnTo>
                      <a:pt x="489" y="27"/>
                    </a:lnTo>
                    <a:lnTo>
                      <a:pt x="511" y="26"/>
                    </a:lnTo>
                    <a:lnTo>
                      <a:pt x="533" y="24"/>
                    </a:lnTo>
                    <a:lnTo>
                      <a:pt x="554" y="23"/>
                    </a:lnTo>
                    <a:lnTo>
                      <a:pt x="576" y="24"/>
                    </a:lnTo>
                    <a:lnTo>
                      <a:pt x="599" y="26"/>
                    </a:lnTo>
                    <a:lnTo>
                      <a:pt x="621" y="27"/>
                    </a:lnTo>
                    <a:lnTo>
                      <a:pt x="643" y="30"/>
                    </a:lnTo>
                    <a:lnTo>
                      <a:pt x="665" y="34"/>
                    </a:lnTo>
                    <a:lnTo>
                      <a:pt x="686" y="37"/>
                    </a:lnTo>
                    <a:lnTo>
                      <a:pt x="707" y="43"/>
                    </a:lnTo>
                    <a:lnTo>
                      <a:pt x="729" y="49"/>
                    </a:lnTo>
                    <a:lnTo>
                      <a:pt x="748" y="54"/>
                    </a:lnTo>
                    <a:lnTo>
                      <a:pt x="769" y="61"/>
                    </a:lnTo>
                    <a:lnTo>
                      <a:pt x="789" y="69"/>
                    </a:lnTo>
                    <a:lnTo>
                      <a:pt x="808" y="77"/>
                    </a:lnTo>
                    <a:lnTo>
                      <a:pt x="828" y="87"/>
                    </a:lnTo>
                    <a:lnTo>
                      <a:pt x="846" y="96"/>
                    </a:lnTo>
                    <a:lnTo>
                      <a:pt x="865" y="106"/>
                    </a:lnTo>
                    <a:lnTo>
                      <a:pt x="883" y="117"/>
                    </a:lnTo>
                    <a:lnTo>
                      <a:pt x="854" y="74"/>
                    </a:lnTo>
                    <a:close/>
                    <a:moveTo>
                      <a:pt x="476" y="1290"/>
                    </a:moveTo>
                    <a:lnTo>
                      <a:pt x="485" y="1291"/>
                    </a:lnTo>
                    <a:lnTo>
                      <a:pt x="496" y="1292"/>
                    </a:lnTo>
                    <a:lnTo>
                      <a:pt x="505" y="1294"/>
                    </a:lnTo>
                    <a:lnTo>
                      <a:pt x="515" y="1294"/>
                    </a:lnTo>
                    <a:lnTo>
                      <a:pt x="524" y="1295"/>
                    </a:lnTo>
                    <a:lnTo>
                      <a:pt x="535" y="1295"/>
                    </a:lnTo>
                    <a:lnTo>
                      <a:pt x="544" y="1295"/>
                    </a:lnTo>
                    <a:lnTo>
                      <a:pt x="554" y="1295"/>
                    </a:lnTo>
                    <a:lnTo>
                      <a:pt x="587" y="1294"/>
                    </a:lnTo>
                    <a:lnTo>
                      <a:pt x="619" y="1291"/>
                    </a:lnTo>
                    <a:lnTo>
                      <a:pt x="651" y="1288"/>
                    </a:lnTo>
                    <a:lnTo>
                      <a:pt x="682" y="1282"/>
                    </a:lnTo>
                    <a:lnTo>
                      <a:pt x="714" y="1275"/>
                    </a:lnTo>
                    <a:lnTo>
                      <a:pt x="745" y="1267"/>
                    </a:lnTo>
                    <a:lnTo>
                      <a:pt x="774" y="1257"/>
                    </a:lnTo>
                    <a:lnTo>
                      <a:pt x="804" y="1245"/>
                    </a:lnTo>
                    <a:lnTo>
                      <a:pt x="831" y="1232"/>
                    </a:lnTo>
                    <a:lnTo>
                      <a:pt x="859" y="1219"/>
                    </a:lnTo>
                    <a:lnTo>
                      <a:pt x="887" y="1204"/>
                    </a:lnTo>
                    <a:lnTo>
                      <a:pt x="912" y="1187"/>
                    </a:lnTo>
                    <a:lnTo>
                      <a:pt x="937" y="1169"/>
                    </a:lnTo>
                    <a:lnTo>
                      <a:pt x="962" y="1151"/>
                    </a:lnTo>
                    <a:lnTo>
                      <a:pt x="985" y="1131"/>
                    </a:lnTo>
                    <a:lnTo>
                      <a:pt x="1008" y="1110"/>
                    </a:lnTo>
                    <a:lnTo>
                      <a:pt x="1029" y="1088"/>
                    </a:lnTo>
                    <a:lnTo>
                      <a:pt x="1049" y="1065"/>
                    </a:lnTo>
                    <a:lnTo>
                      <a:pt x="1069" y="1041"/>
                    </a:lnTo>
                    <a:lnTo>
                      <a:pt x="1086" y="1016"/>
                    </a:lnTo>
                    <a:lnTo>
                      <a:pt x="1103" y="990"/>
                    </a:lnTo>
                    <a:lnTo>
                      <a:pt x="1120" y="964"/>
                    </a:lnTo>
                    <a:lnTo>
                      <a:pt x="1133" y="936"/>
                    </a:lnTo>
                    <a:lnTo>
                      <a:pt x="1147" y="909"/>
                    </a:lnTo>
                    <a:lnTo>
                      <a:pt x="1159" y="880"/>
                    </a:lnTo>
                    <a:lnTo>
                      <a:pt x="1169" y="850"/>
                    </a:lnTo>
                    <a:lnTo>
                      <a:pt x="1178" y="820"/>
                    </a:lnTo>
                    <a:lnTo>
                      <a:pt x="1187" y="790"/>
                    </a:lnTo>
                    <a:lnTo>
                      <a:pt x="1192" y="759"/>
                    </a:lnTo>
                    <a:lnTo>
                      <a:pt x="1197" y="726"/>
                    </a:lnTo>
                    <a:lnTo>
                      <a:pt x="1200" y="694"/>
                    </a:lnTo>
                    <a:lnTo>
                      <a:pt x="1202" y="662"/>
                    </a:lnTo>
                    <a:lnTo>
                      <a:pt x="1195" y="641"/>
                    </a:lnTo>
                    <a:lnTo>
                      <a:pt x="1178" y="616"/>
                    </a:lnTo>
                    <a:lnTo>
                      <a:pt x="1178" y="619"/>
                    </a:lnTo>
                    <a:lnTo>
                      <a:pt x="1178" y="624"/>
                    </a:lnTo>
                    <a:lnTo>
                      <a:pt x="1178" y="627"/>
                    </a:lnTo>
                    <a:lnTo>
                      <a:pt x="1178" y="632"/>
                    </a:lnTo>
                    <a:lnTo>
                      <a:pt x="1178" y="635"/>
                    </a:lnTo>
                    <a:lnTo>
                      <a:pt x="1178" y="640"/>
                    </a:lnTo>
                    <a:lnTo>
                      <a:pt x="1178" y="643"/>
                    </a:lnTo>
                    <a:lnTo>
                      <a:pt x="1178" y="648"/>
                    </a:lnTo>
                    <a:lnTo>
                      <a:pt x="1178" y="680"/>
                    </a:lnTo>
                    <a:lnTo>
                      <a:pt x="1176" y="711"/>
                    </a:lnTo>
                    <a:lnTo>
                      <a:pt x="1172" y="743"/>
                    </a:lnTo>
                    <a:lnTo>
                      <a:pt x="1166" y="774"/>
                    </a:lnTo>
                    <a:lnTo>
                      <a:pt x="1159" y="804"/>
                    </a:lnTo>
                    <a:lnTo>
                      <a:pt x="1151" y="834"/>
                    </a:lnTo>
                    <a:lnTo>
                      <a:pt x="1140" y="862"/>
                    </a:lnTo>
                    <a:lnTo>
                      <a:pt x="1130" y="891"/>
                    </a:lnTo>
                    <a:lnTo>
                      <a:pt x="1117" y="919"/>
                    </a:lnTo>
                    <a:lnTo>
                      <a:pt x="1103" y="945"/>
                    </a:lnTo>
                    <a:lnTo>
                      <a:pt x="1088" y="972"/>
                    </a:lnTo>
                    <a:lnTo>
                      <a:pt x="1072" y="997"/>
                    </a:lnTo>
                    <a:lnTo>
                      <a:pt x="1055" y="1022"/>
                    </a:lnTo>
                    <a:lnTo>
                      <a:pt x="1037" y="1045"/>
                    </a:lnTo>
                    <a:lnTo>
                      <a:pt x="1017" y="1068"/>
                    </a:lnTo>
                    <a:lnTo>
                      <a:pt x="996" y="1090"/>
                    </a:lnTo>
                    <a:lnTo>
                      <a:pt x="974" y="1110"/>
                    </a:lnTo>
                    <a:lnTo>
                      <a:pt x="951" y="1130"/>
                    </a:lnTo>
                    <a:lnTo>
                      <a:pt x="928" y="1148"/>
                    </a:lnTo>
                    <a:lnTo>
                      <a:pt x="904" y="1166"/>
                    </a:lnTo>
                    <a:lnTo>
                      <a:pt x="879" y="1182"/>
                    </a:lnTo>
                    <a:lnTo>
                      <a:pt x="852" y="1197"/>
                    </a:lnTo>
                    <a:lnTo>
                      <a:pt x="826" y="1211"/>
                    </a:lnTo>
                    <a:lnTo>
                      <a:pt x="798" y="1223"/>
                    </a:lnTo>
                    <a:lnTo>
                      <a:pt x="769" y="1235"/>
                    </a:lnTo>
                    <a:lnTo>
                      <a:pt x="740" y="1244"/>
                    </a:lnTo>
                    <a:lnTo>
                      <a:pt x="710" y="1252"/>
                    </a:lnTo>
                    <a:lnTo>
                      <a:pt x="680" y="1259"/>
                    </a:lnTo>
                    <a:lnTo>
                      <a:pt x="649" y="1265"/>
                    </a:lnTo>
                    <a:lnTo>
                      <a:pt x="618" y="1269"/>
                    </a:lnTo>
                    <a:lnTo>
                      <a:pt x="587" y="1272"/>
                    </a:lnTo>
                    <a:lnTo>
                      <a:pt x="554" y="1272"/>
                    </a:lnTo>
                    <a:lnTo>
                      <a:pt x="542" y="1272"/>
                    </a:lnTo>
                    <a:lnTo>
                      <a:pt x="530" y="1272"/>
                    </a:lnTo>
                    <a:lnTo>
                      <a:pt x="519" y="1272"/>
                    </a:lnTo>
                    <a:lnTo>
                      <a:pt x="506" y="1270"/>
                    </a:lnTo>
                    <a:lnTo>
                      <a:pt x="494" y="1269"/>
                    </a:lnTo>
                    <a:lnTo>
                      <a:pt x="483" y="1268"/>
                    </a:lnTo>
                    <a:lnTo>
                      <a:pt x="471" y="1267"/>
                    </a:lnTo>
                    <a:lnTo>
                      <a:pt x="460" y="1265"/>
                    </a:lnTo>
                    <a:lnTo>
                      <a:pt x="476" y="129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46920" y="3770280"/>
                <a:ext cx="312480" cy="336600"/>
              </a:xfrm>
              <a:custGeom>
                <a:avLst/>
                <a:gdLst/>
                <a:ahLst/>
                <a:rect l="l" t="t" r="r" b="b"/>
                <a:pathLst>
                  <a:path w="1186" h="1271">
                    <a:moveTo>
                      <a:pt x="1186" y="636"/>
                    </a:moveTo>
                    <a:lnTo>
                      <a:pt x="1186" y="634"/>
                    </a:lnTo>
                    <a:lnTo>
                      <a:pt x="1186" y="633"/>
                    </a:lnTo>
                    <a:lnTo>
                      <a:pt x="1186" y="630"/>
                    </a:lnTo>
                    <a:lnTo>
                      <a:pt x="1186" y="629"/>
                    </a:lnTo>
                    <a:lnTo>
                      <a:pt x="1186" y="627"/>
                    </a:lnTo>
                    <a:lnTo>
                      <a:pt x="1186" y="624"/>
                    </a:lnTo>
                    <a:lnTo>
                      <a:pt x="1186" y="623"/>
                    </a:lnTo>
                    <a:lnTo>
                      <a:pt x="1186" y="621"/>
                    </a:lnTo>
                    <a:lnTo>
                      <a:pt x="1162" y="585"/>
                    </a:lnTo>
                    <a:lnTo>
                      <a:pt x="1162" y="591"/>
                    </a:lnTo>
                    <a:lnTo>
                      <a:pt x="1163" y="598"/>
                    </a:lnTo>
                    <a:lnTo>
                      <a:pt x="1163" y="604"/>
                    </a:lnTo>
                    <a:lnTo>
                      <a:pt x="1163" y="611"/>
                    </a:lnTo>
                    <a:lnTo>
                      <a:pt x="1163" y="616"/>
                    </a:lnTo>
                    <a:lnTo>
                      <a:pt x="1163" y="623"/>
                    </a:lnTo>
                    <a:lnTo>
                      <a:pt x="1163" y="629"/>
                    </a:lnTo>
                    <a:lnTo>
                      <a:pt x="1164" y="636"/>
                    </a:lnTo>
                    <a:lnTo>
                      <a:pt x="1163" y="667"/>
                    </a:lnTo>
                    <a:lnTo>
                      <a:pt x="1161" y="698"/>
                    </a:lnTo>
                    <a:lnTo>
                      <a:pt x="1156" y="729"/>
                    </a:lnTo>
                    <a:lnTo>
                      <a:pt x="1151" y="759"/>
                    </a:lnTo>
                    <a:lnTo>
                      <a:pt x="1144" y="789"/>
                    </a:lnTo>
                    <a:lnTo>
                      <a:pt x="1136" y="818"/>
                    </a:lnTo>
                    <a:lnTo>
                      <a:pt x="1126" y="847"/>
                    </a:lnTo>
                    <a:lnTo>
                      <a:pt x="1116" y="875"/>
                    </a:lnTo>
                    <a:lnTo>
                      <a:pt x="1103" y="901"/>
                    </a:lnTo>
                    <a:lnTo>
                      <a:pt x="1089" y="928"/>
                    </a:lnTo>
                    <a:lnTo>
                      <a:pt x="1074" y="954"/>
                    </a:lnTo>
                    <a:lnTo>
                      <a:pt x="1059" y="978"/>
                    </a:lnTo>
                    <a:lnTo>
                      <a:pt x="1042" y="1003"/>
                    </a:lnTo>
                    <a:lnTo>
                      <a:pt x="1023" y="1026"/>
                    </a:lnTo>
                    <a:lnTo>
                      <a:pt x="1004" y="1048"/>
                    </a:lnTo>
                    <a:lnTo>
                      <a:pt x="984" y="1069"/>
                    </a:lnTo>
                    <a:lnTo>
                      <a:pt x="962" y="1090"/>
                    </a:lnTo>
                    <a:lnTo>
                      <a:pt x="940" y="1109"/>
                    </a:lnTo>
                    <a:lnTo>
                      <a:pt x="917" y="1127"/>
                    </a:lnTo>
                    <a:lnTo>
                      <a:pt x="893" y="1144"/>
                    </a:lnTo>
                    <a:lnTo>
                      <a:pt x="868" y="1161"/>
                    </a:lnTo>
                    <a:lnTo>
                      <a:pt x="842" y="1174"/>
                    </a:lnTo>
                    <a:lnTo>
                      <a:pt x="816" y="1188"/>
                    </a:lnTo>
                    <a:lnTo>
                      <a:pt x="789" y="1201"/>
                    </a:lnTo>
                    <a:lnTo>
                      <a:pt x="762" y="1211"/>
                    </a:lnTo>
                    <a:lnTo>
                      <a:pt x="733" y="1222"/>
                    </a:lnTo>
                    <a:lnTo>
                      <a:pt x="704" y="1230"/>
                    </a:lnTo>
                    <a:lnTo>
                      <a:pt x="674" y="1237"/>
                    </a:lnTo>
                    <a:lnTo>
                      <a:pt x="644" y="1241"/>
                    </a:lnTo>
                    <a:lnTo>
                      <a:pt x="613" y="1246"/>
                    </a:lnTo>
                    <a:lnTo>
                      <a:pt x="582" y="1248"/>
                    </a:lnTo>
                    <a:lnTo>
                      <a:pt x="550" y="1249"/>
                    </a:lnTo>
                    <a:lnTo>
                      <a:pt x="537" y="1248"/>
                    </a:lnTo>
                    <a:lnTo>
                      <a:pt x="524" y="1248"/>
                    </a:lnTo>
                    <a:lnTo>
                      <a:pt x="511" y="1248"/>
                    </a:lnTo>
                    <a:lnTo>
                      <a:pt x="497" y="1247"/>
                    </a:lnTo>
                    <a:lnTo>
                      <a:pt x="485" y="1246"/>
                    </a:lnTo>
                    <a:lnTo>
                      <a:pt x="472" y="1244"/>
                    </a:lnTo>
                    <a:lnTo>
                      <a:pt x="459" y="1242"/>
                    </a:lnTo>
                    <a:lnTo>
                      <a:pt x="447" y="1240"/>
                    </a:lnTo>
                    <a:lnTo>
                      <a:pt x="464" y="1265"/>
                    </a:lnTo>
                    <a:lnTo>
                      <a:pt x="474" y="1267"/>
                    </a:lnTo>
                    <a:lnTo>
                      <a:pt x="485" y="1268"/>
                    </a:lnTo>
                    <a:lnTo>
                      <a:pt x="495" y="1269"/>
                    </a:lnTo>
                    <a:lnTo>
                      <a:pt x="507" y="1270"/>
                    </a:lnTo>
                    <a:lnTo>
                      <a:pt x="517" y="1271"/>
                    </a:lnTo>
                    <a:lnTo>
                      <a:pt x="529" y="1271"/>
                    </a:lnTo>
                    <a:lnTo>
                      <a:pt x="539" y="1271"/>
                    </a:lnTo>
                    <a:lnTo>
                      <a:pt x="550" y="1271"/>
                    </a:lnTo>
                    <a:lnTo>
                      <a:pt x="583" y="1271"/>
                    </a:lnTo>
                    <a:lnTo>
                      <a:pt x="615" y="1268"/>
                    </a:lnTo>
                    <a:lnTo>
                      <a:pt x="647" y="1264"/>
                    </a:lnTo>
                    <a:lnTo>
                      <a:pt x="678" y="1258"/>
                    </a:lnTo>
                    <a:lnTo>
                      <a:pt x="710" y="1252"/>
                    </a:lnTo>
                    <a:lnTo>
                      <a:pt x="740" y="1244"/>
                    </a:lnTo>
                    <a:lnTo>
                      <a:pt x="768" y="1233"/>
                    </a:lnTo>
                    <a:lnTo>
                      <a:pt x="797" y="1222"/>
                    </a:lnTo>
                    <a:lnTo>
                      <a:pt x="826" y="1209"/>
                    </a:lnTo>
                    <a:lnTo>
                      <a:pt x="854" y="1195"/>
                    </a:lnTo>
                    <a:lnTo>
                      <a:pt x="880" y="1180"/>
                    </a:lnTo>
                    <a:lnTo>
                      <a:pt x="906" y="1163"/>
                    </a:lnTo>
                    <a:lnTo>
                      <a:pt x="931" y="1146"/>
                    </a:lnTo>
                    <a:lnTo>
                      <a:pt x="955" y="1126"/>
                    </a:lnTo>
                    <a:lnTo>
                      <a:pt x="978" y="1106"/>
                    </a:lnTo>
                    <a:lnTo>
                      <a:pt x="1000" y="1086"/>
                    </a:lnTo>
                    <a:lnTo>
                      <a:pt x="1021" y="1064"/>
                    </a:lnTo>
                    <a:lnTo>
                      <a:pt x="1041" y="1041"/>
                    </a:lnTo>
                    <a:lnTo>
                      <a:pt x="1060" y="1016"/>
                    </a:lnTo>
                    <a:lnTo>
                      <a:pt x="1078" y="991"/>
                    </a:lnTo>
                    <a:lnTo>
                      <a:pt x="1094" y="966"/>
                    </a:lnTo>
                    <a:lnTo>
                      <a:pt x="1110" y="939"/>
                    </a:lnTo>
                    <a:lnTo>
                      <a:pt x="1124" y="912"/>
                    </a:lnTo>
                    <a:lnTo>
                      <a:pt x="1136" y="883"/>
                    </a:lnTo>
                    <a:lnTo>
                      <a:pt x="1148" y="854"/>
                    </a:lnTo>
                    <a:lnTo>
                      <a:pt x="1157" y="825"/>
                    </a:lnTo>
                    <a:lnTo>
                      <a:pt x="1166" y="795"/>
                    </a:lnTo>
                    <a:lnTo>
                      <a:pt x="1173" y="764"/>
                    </a:lnTo>
                    <a:lnTo>
                      <a:pt x="1179" y="733"/>
                    </a:lnTo>
                    <a:lnTo>
                      <a:pt x="1183" y="701"/>
                    </a:lnTo>
                    <a:lnTo>
                      <a:pt x="1186" y="668"/>
                    </a:lnTo>
                    <a:lnTo>
                      <a:pt x="1186" y="636"/>
                    </a:lnTo>
                    <a:close/>
                    <a:moveTo>
                      <a:pt x="864" y="83"/>
                    </a:moveTo>
                    <a:lnTo>
                      <a:pt x="847" y="73"/>
                    </a:lnTo>
                    <a:lnTo>
                      <a:pt x="828" y="64"/>
                    </a:lnTo>
                    <a:lnTo>
                      <a:pt x="810" y="56"/>
                    </a:lnTo>
                    <a:lnTo>
                      <a:pt x="792" y="48"/>
                    </a:lnTo>
                    <a:lnTo>
                      <a:pt x="773" y="40"/>
                    </a:lnTo>
                    <a:lnTo>
                      <a:pt x="755" y="33"/>
                    </a:lnTo>
                    <a:lnTo>
                      <a:pt x="735" y="27"/>
                    </a:lnTo>
                    <a:lnTo>
                      <a:pt x="715" y="22"/>
                    </a:lnTo>
                    <a:lnTo>
                      <a:pt x="696" y="17"/>
                    </a:lnTo>
                    <a:lnTo>
                      <a:pt x="675" y="12"/>
                    </a:lnTo>
                    <a:lnTo>
                      <a:pt x="654" y="9"/>
                    </a:lnTo>
                    <a:lnTo>
                      <a:pt x="635" y="5"/>
                    </a:lnTo>
                    <a:lnTo>
                      <a:pt x="614" y="3"/>
                    </a:lnTo>
                    <a:lnTo>
                      <a:pt x="593" y="2"/>
                    </a:lnTo>
                    <a:lnTo>
                      <a:pt x="571" y="1"/>
                    </a:lnTo>
                    <a:lnTo>
                      <a:pt x="550" y="0"/>
                    </a:lnTo>
                    <a:lnTo>
                      <a:pt x="529" y="1"/>
                    </a:lnTo>
                    <a:lnTo>
                      <a:pt x="507" y="2"/>
                    </a:lnTo>
                    <a:lnTo>
                      <a:pt x="485" y="3"/>
                    </a:lnTo>
                    <a:lnTo>
                      <a:pt x="464" y="5"/>
                    </a:lnTo>
                    <a:lnTo>
                      <a:pt x="442" y="9"/>
                    </a:lnTo>
                    <a:lnTo>
                      <a:pt x="421" y="14"/>
                    </a:lnTo>
                    <a:lnTo>
                      <a:pt x="401" y="18"/>
                    </a:lnTo>
                    <a:lnTo>
                      <a:pt x="381" y="23"/>
                    </a:lnTo>
                    <a:lnTo>
                      <a:pt x="360" y="29"/>
                    </a:lnTo>
                    <a:lnTo>
                      <a:pt x="341" y="35"/>
                    </a:lnTo>
                    <a:lnTo>
                      <a:pt x="321" y="42"/>
                    </a:lnTo>
                    <a:lnTo>
                      <a:pt x="302" y="50"/>
                    </a:lnTo>
                    <a:lnTo>
                      <a:pt x="283" y="58"/>
                    </a:lnTo>
                    <a:lnTo>
                      <a:pt x="264" y="68"/>
                    </a:lnTo>
                    <a:lnTo>
                      <a:pt x="246" y="77"/>
                    </a:lnTo>
                    <a:lnTo>
                      <a:pt x="229" y="87"/>
                    </a:lnTo>
                    <a:lnTo>
                      <a:pt x="211" y="98"/>
                    </a:lnTo>
                    <a:lnTo>
                      <a:pt x="194" y="109"/>
                    </a:lnTo>
                    <a:lnTo>
                      <a:pt x="177" y="121"/>
                    </a:lnTo>
                    <a:lnTo>
                      <a:pt x="161" y="133"/>
                    </a:lnTo>
                    <a:lnTo>
                      <a:pt x="144" y="146"/>
                    </a:lnTo>
                    <a:lnTo>
                      <a:pt x="129" y="160"/>
                    </a:lnTo>
                    <a:lnTo>
                      <a:pt x="114" y="174"/>
                    </a:lnTo>
                    <a:lnTo>
                      <a:pt x="99" y="188"/>
                    </a:lnTo>
                    <a:lnTo>
                      <a:pt x="86" y="203"/>
                    </a:lnTo>
                    <a:lnTo>
                      <a:pt x="72" y="218"/>
                    </a:lnTo>
                    <a:lnTo>
                      <a:pt x="59" y="233"/>
                    </a:lnTo>
                    <a:lnTo>
                      <a:pt x="46" y="249"/>
                    </a:lnTo>
                    <a:lnTo>
                      <a:pt x="34" y="265"/>
                    </a:lnTo>
                    <a:lnTo>
                      <a:pt x="22" y="282"/>
                    </a:lnTo>
                    <a:lnTo>
                      <a:pt x="11" y="299"/>
                    </a:lnTo>
                    <a:lnTo>
                      <a:pt x="0" y="317"/>
                    </a:lnTo>
                    <a:lnTo>
                      <a:pt x="3" y="324"/>
                    </a:lnTo>
                    <a:lnTo>
                      <a:pt x="10" y="346"/>
                    </a:lnTo>
                    <a:lnTo>
                      <a:pt x="20" y="328"/>
                    </a:lnTo>
                    <a:lnTo>
                      <a:pt x="30" y="311"/>
                    </a:lnTo>
                    <a:lnTo>
                      <a:pt x="42" y="294"/>
                    </a:lnTo>
                    <a:lnTo>
                      <a:pt x="53" y="278"/>
                    </a:lnTo>
                    <a:lnTo>
                      <a:pt x="65" y="261"/>
                    </a:lnTo>
                    <a:lnTo>
                      <a:pt x="78" y="245"/>
                    </a:lnTo>
                    <a:lnTo>
                      <a:pt x="91" y="229"/>
                    </a:lnTo>
                    <a:lnTo>
                      <a:pt x="105" y="214"/>
                    </a:lnTo>
                    <a:lnTo>
                      <a:pt x="119" y="200"/>
                    </a:lnTo>
                    <a:lnTo>
                      <a:pt x="134" y="186"/>
                    </a:lnTo>
                    <a:lnTo>
                      <a:pt x="149" y="173"/>
                    </a:lnTo>
                    <a:lnTo>
                      <a:pt x="164" y="160"/>
                    </a:lnTo>
                    <a:lnTo>
                      <a:pt x="180" y="147"/>
                    </a:lnTo>
                    <a:lnTo>
                      <a:pt x="198" y="135"/>
                    </a:lnTo>
                    <a:lnTo>
                      <a:pt x="214" y="123"/>
                    </a:lnTo>
                    <a:lnTo>
                      <a:pt x="231" y="113"/>
                    </a:lnTo>
                    <a:lnTo>
                      <a:pt x="248" y="102"/>
                    </a:lnTo>
                    <a:lnTo>
                      <a:pt x="267" y="92"/>
                    </a:lnTo>
                    <a:lnTo>
                      <a:pt x="285" y="83"/>
                    </a:lnTo>
                    <a:lnTo>
                      <a:pt x="304" y="75"/>
                    </a:lnTo>
                    <a:lnTo>
                      <a:pt x="322" y="67"/>
                    </a:lnTo>
                    <a:lnTo>
                      <a:pt x="342" y="60"/>
                    </a:lnTo>
                    <a:lnTo>
                      <a:pt x="361" y="53"/>
                    </a:lnTo>
                    <a:lnTo>
                      <a:pt x="382" y="46"/>
                    </a:lnTo>
                    <a:lnTo>
                      <a:pt x="402" y="41"/>
                    </a:lnTo>
                    <a:lnTo>
                      <a:pt x="422" y="37"/>
                    </a:lnTo>
                    <a:lnTo>
                      <a:pt x="443" y="32"/>
                    </a:lnTo>
                    <a:lnTo>
                      <a:pt x="464" y="29"/>
                    </a:lnTo>
                    <a:lnTo>
                      <a:pt x="485" y="26"/>
                    </a:lnTo>
                    <a:lnTo>
                      <a:pt x="507" y="24"/>
                    </a:lnTo>
                    <a:lnTo>
                      <a:pt x="529" y="23"/>
                    </a:lnTo>
                    <a:lnTo>
                      <a:pt x="550" y="23"/>
                    </a:lnTo>
                    <a:lnTo>
                      <a:pt x="574" y="24"/>
                    </a:lnTo>
                    <a:lnTo>
                      <a:pt x="598" y="25"/>
                    </a:lnTo>
                    <a:lnTo>
                      <a:pt x="621" y="27"/>
                    </a:lnTo>
                    <a:lnTo>
                      <a:pt x="644" y="30"/>
                    </a:lnTo>
                    <a:lnTo>
                      <a:pt x="667" y="34"/>
                    </a:lnTo>
                    <a:lnTo>
                      <a:pt x="690" y="39"/>
                    </a:lnTo>
                    <a:lnTo>
                      <a:pt x="712" y="45"/>
                    </a:lnTo>
                    <a:lnTo>
                      <a:pt x="734" y="50"/>
                    </a:lnTo>
                    <a:lnTo>
                      <a:pt x="756" y="58"/>
                    </a:lnTo>
                    <a:lnTo>
                      <a:pt x="777" y="67"/>
                    </a:lnTo>
                    <a:lnTo>
                      <a:pt x="797" y="75"/>
                    </a:lnTo>
                    <a:lnTo>
                      <a:pt x="818" y="84"/>
                    </a:lnTo>
                    <a:lnTo>
                      <a:pt x="838" y="94"/>
                    </a:lnTo>
                    <a:lnTo>
                      <a:pt x="857" y="106"/>
                    </a:lnTo>
                    <a:lnTo>
                      <a:pt x="877" y="117"/>
                    </a:lnTo>
                    <a:lnTo>
                      <a:pt x="895" y="129"/>
                    </a:lnTo>
                    <a:lnTo>
                      <a:pt x="864" y="8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48360" y="3773520"/>
                <a:ext cx="309600" cy="330120"/>
              </a:xfrm>
              <a:custGeom>
                <a:avLst/>
                <a:gdLst/>
                <a:ahLst/>
                <a:rect l="l" t="t" r="r" b="b"/>
                <a:pathLst>
                  <a:path w="1169" h="1249">
                    <a:moveTo>
                      <a:pt x="1169" y="625"/>
                    </a:moveTo>
                    <a:lnTo>
                      <a:pt x="1169" y="620"/>
                    </a:lnTo>
                    <a:lnTo>
                      <a:pt x="1169" y="617"/>
                    </a:lnTo>
                    <a:lnTo>
                      <a:pt x="1169" y="612"/>
                    </a:lnTo>
                    <a:lnTo>
                      <a:pt x="1169" y="609"/>
                    </a:lnTo>
                    <a:lnTo>
                      <a:pt x="1169" y="604"/>
                    </a:lnTo>
                    <a:lnTo>
                      <a:pt x="1169" y="601"/>
                    </a:lnTo>
                    <a:lnTo>
                      <a:pt x="1169" y="596"/>
                    </a:lnTo>
                    <a:lnTo>
                      <a:pt x="1169" y="593"/>
                    </a:lnTo>
                    <a:lnTo>
                      <a:pt x="1143" y="555"/>
                    </a:lnTo>
                    <a:lnTo>
                      <a:pt x="1144" y="563"/>
                    </a:lnTo>
                    <a:lnTo>
                      <a:pt x="1145" y="572"/>
                    </a:lnTo>
                    <a:lnTo>
                      <a:pt x="1145" y="580"/>
                    </a:lnTo>
                    <a:lnTo>
                      <a:pt x="1146" y="589"/>
                    </a:lnTo>
                    <a:lnTo>
                      <a:pt x="1146" y="598"/>
                    </a:lnTo>
                    <a:lnTo>
                      <a:pt x="1146" y="607"/>
                    </a:lnTo>
                    <a:lnTo>
                      <a:pt x="1148" y="616"/>
                    </a:lnTo>
                    <a:lnTo>
                      <a:pt x="1148" y="625"/>
                    </a:lnTo>
                    <a:lnTo>
                      <a:pt x="1146" y="656"/>
                    </a:lnTo>
                    <a:lnTo>
                      <a:pt x="1144" y="686"/>
                    </a:lnTo>
                    <a:lnTo>
                      <a:pt x="1141" y="716"/>
                    </a:lnTo>
                    <a:lnTo>
                      <a:pt x="1135" y="746"/>
                    </a:lnTo>
                    <a:lnTo>
                      <a:pt x="1128" y="775"/>
                    </a:lnTo>
                    <a:lnTo>
                      <a:pt x="1120" y="804"/>
                    </a:lnTo>
                    <a:lnTo>
                      <a:pt x="1111" y="831"/>
                    </a:lnTo>
                    <a:lnTo>
                      <a:pt x="1100" y="859"/>
                    </a:lnTo>
                    <a:lnTo>
                      <a:pt x="1088" y="886"/>
                    </a:lnTo>
                    <a:lnTo>
                      <a:pt x="1075" y="912"/>
                    </a:lnTo>
                    <a:lnTo>
                      <a:pt x="1060" y="936"/>
                    </a:lnTo>
                    <a:lnTo>
                      <a:pt x="1045" y="962"/>
                    </a:lnTo>
                    <a:lnTo>
                      <a:pt x="1028" y="985"/>
                    </a:lnTo>
                    <a:lnTo>
                      <a:pt x="1009" y="1008"/>
                    </a:lnTo>
                    <a:lnTo>
                      <a:pt x="991" y="1030"/>
                    </a:lnTo>
                    <a:lnTo>
                      <a:pt x="971" y="1050"/>
                    </a:lnTo>
                    <a:lnTo>
                      <a:pt x="950" y="1070"/>
                    </a:lnTo>
                    <a:lnTo>
                      <a:pt x="928" y="1090"/>
                    </a:lnTo>
                    <a:lnTo>
                      <a:pt x="905" y="1107"/>
                    </a:lnTo>
                    <a:lnTo>
                      <a:pt x="881" y="1124"/>
                    </a:lnTo>
                    <a:lnTo>
                      <a:pt x="857" y="1139"/>
                    </a:lnTo>
                    <a:lnTo>
                      <a:pt x="832" y="1154"/>
                    </a:lnTo>
                    <a:lnTo>
                      <a:pt x="806" y="1167"/>
                    </a:lnTo>
                    <a:lnTo>
                      <a:pt x="780" y="1179"/>
                    </a:lnTo>
                    <a:lnTo>
                      <a:pt x="752" y="1190"/>
                    </a:lnTo>
                    <a:lnTo>
                      <a:pt x="724" y="1199"/>
                    </a:lnTo>
                    <a:lnTo>
                      <a:pt x="695" y="1207"/>
                    </a:lnTo>
                    <a:lnTo>
                      <a:pt x="667" y="1214"/>
                    </a:lnTo>
                    <a:lnTo>
                      <a:pt x="637" y="1220"/>
                    </a:lnTo>
                    <a:lnTo>
                      <a:pt x="607" y="1223"/>
                    </a:lnTo>
                    <a:lnTo>
                      <a:pt x="577" y="1226"/>
                    </a:lnTo>
                    <a:lnTo>
                      <a:pt x="545" y="1227"/>
                    </a:lnTo>
                    <a:lnTo>
                      <a:pt x="530" y="1227"/>
                    </a:lnTo>
                    <a:lnTo>
                      <a:pt x="517" y="1226"/>
                    </a:lnTo>
                    <a:lnTo>
                      <a:pt x="503" y="1226"/>
                    </a:lnTo>
                    <a:lnTo>
                      <a:pt x="489" y="1223"/>
                    </a:lnTo>
                    <a:lnTo>
                      <a:pt x="474" y="1222"/>
                    </a:lnTo>
                    <a:lnTo>
                      <a:pt x="461" y="1221"/>
                    </a:lnTo>
                    <a:lnTo>
                      <a:pt x="447" y="1219"/>
                    </a:lnTo>
                    <a:lnTo>
                      <a:pt x="434" y="1216"/>
                    </a:lnTo>
                    <a:lnTo>
                      <a:pt x="451" y="1242"/>
                    </a:lnTo>
                    <a:lnTo>
                      <a:pt x="462" y="1244"/>
                    </a:lnTo>
                    <a:lnTo>
                      <a:pt x="474" y="1245"/>
                    </a:lnTo>
                    <a:lnTo>
                      <a:pt x="485" y="1246"/>
                    </a:lnTo>
                    <a:lnTo>
                      <a:pt x="497" y="1247"/>
                    </a:lnTo>
                    <a:lnTo>
                      <a:pt x="510" y="1249"/>
                    </a:lnTo>
                    <a:lnTo>
                      <a:pt x="521" y="1249"/>
                    </a:lnTo>
                    <a:lnTo>
                      <a:pt x="533" y="1249"/>
                    </a:lnTo>
                    <a:lnTo>
                      <a:pt x="545" y="1249"/>
                    </a:lnTo>
                    <a:lnTo>
                      <a:pt x="578" y="1249"/>
                    </a:lnTo>
                    <a:lnTo>
                      <a:pt x="609" y="1246"/>
                    </a:lnTo>
                    <a:lnTo>
                      <a:pt x="640" y="1242"/>
                    </a:lnTo>
                    <a:lnTo>
                      <a:pt x="671" y="1236"/>
                    </a:lnTo>
                    <a:lnTo>
                      <a:pt x="701" y="1229"/>
                    </a:lnTo>
                    <a:lnTo>
                      <a:pt x="731" y="1221"/>
                    </a:lnTo>
                    <a:lnTo>
                      <a:pt x="760" y="1212"/>
                    </a:lnTo>
                    <a:lnTo>
                      <a:pt x="789" y="1200"/>
                    </a:lnTo>
                    <a:lnTo>
                      <a:pt x="817" y="1188"/>
                    </a:lnTo>
                    <a:lnTo>
                      <a:pt x="843" y="1174"/>
                    </a:lnTo>
                    <a:lnTo>
                      <a:pt x="870" y="1159"/>
                    </a:lnTo>
                    <a:lnTo>
                      <a:pt x="895" y="1143"/>
                    </a:lnTo>
                    <a:lnTo>
                      <a:pt x="919" y="1125"/>
                    </a:lnTo>
                    <a:lnTo>
                      <a:pt x="942" y="1107"/>
                    </a:lnTo>
                    <a:lnTo>
                      <a:pt x="965" y="1087"/>
                    </a:lnTo>
                    <a:lnTo>
                      <a:pt x="987" y="1067"/>
                    </a:lnTo>
                    <a:lnTo>
                      <a:pt x="1008" y="1045"/>
                    </a:lnTo>
                    <a:lnTo>
                      <a:pt x="1028" y="1022"/>
                    </a:lnTo>
                    <a:lnTo>
                      <a:pt x="1046" y="999"/>
                    </a:lnTo>
                    <a:lnTo>
                      <a:pt x="1063" y="974"/>
                    </a:lnTo>
                    <a:lnTo>
                      <a:pt x="1079" y="949"/>
                    </a:lnTo>
                    <a:lnTo>
                      <a:pt x="1094" y="922"/>
                    </a:lnTo>
                    <a:lnTo>
                      <a:pt x="1108" y="896"/>
                    </a:lnTo>
                    <a:lnTo>
                      <a:pt x="1121" y="868"/>
                    </a:lnTo>
                    <a:lnTo>
                      <a:pt x="1131" y="839"/>
                    </a:lnTo>
                    <a:lnTo>
                      <a:pt x="1142" y="811"/>
                    </a:lnTo>
                    <a:lnTo>
                      <a:pt x="1150" y="781"/>
                    </a:lnTo>
                    <a:lnTo>
                      <a:pt x="1157" y="751"/>
                    </a:lnTo>
                    <a:lnTo>
                      <a:pt x="1163" y="720"/>
                    </a:lnTo>
                    <a:lnTo>
                      <a:pt x="1167" y="688"/>
                    </a:lnTo>
                    <a:lnTo>
                      <a:pt x="1169" y="657"/>
                    </a:lnTo>
                    <a:lnTo>
                      <a:pt x="1169" y="625"/>
                    </a:lnTo>
                    <a:close/>
                    <a:moveTo>
                      <a:pt x="874" y="94"/>
                    </a:moveTo>
                    <a:lnTo>
                      <a:pt x="856" y="83"/>
                    </a:lnTo>
                    <a:lnTo>
                      <a:pt x="837" y="73"/>
                    </a:lnTo>
                    <a:lnTo>
                      <a:pt x="819" y="64"/>
                    </a:lnTo>
                    <a:lnTo>
                      <a:pt x="799" y="54"/>
                    </a:lnTo>
                    <a:lnTo>
                      <a:pt x="780" y="46"/>
                    </a:lnTo>
                    <a:lnTo>
                      <a:pt x="760" y="38"/>
                    </a:lnTo>
                    <a:lnTo>
                      <a:pt x="739" y="31"/>
                    </a:lnTo>
                    <a:lnTo>
                      <a:pt x="720" y="26"/>
                    </a:lnTo>
                    <a:lnTo>
                      <a:pt x="698" y="20"/>
                    </a:lnTo>
                    <a:lnTo>
                      <a:pt x="677" y="14"/>
                    </a:lnTo>
                    <a:lnTo>
                      <a:pt x="656" y="11"/>
                    </a:lnTo>
                    <a:lnTo>
                      <a:pt x="634" y="7"/>
                    </a:lnTo>
                    <a:lnTo>
                      <a:pt x="612" y="4"/>
                    </a:lnTo>
                    <a:lnTo>
                      <a:pt x="590" y="3"/>
                    </a:lnTo>
                    <a:lnTo>
                      <a:pt x="567" y="1"/>
                    </a:lnTo>
                    <a:lnTo>
                      <a:pt x="545" y="0"/>
                    </a:lnTo>
                    <a:lnTo>
                      <a:pt x="524" y="1"/>
                    </a:lnTo>
                    <a:lnTo>
                      <a:pt x="502" y="3"/>
                    </a:lnTo>
                    <a:lnTo>
                      <a:pt x="480" y="4"/>
                    </a:lnTo>
                    <a:lnTo>
                      <a:pt x="459" y="6"/>
                    </a:lnTo>
                    <a:lnTo>
                      <a:pt x="438" y="9"/>
                    </a:lnTo>
                    <a:lnTo>
                      <a:pt x="417" y="14"/>
                    </a:lnTo>
                    <a:lnTo>
                      <a:pt x="397" y="19"/>
                    </a:lnTo>
                    <a:lnTo>
                      <a:pt x="376" y="23"/>
                    </a:lnTo>
                    <a:lnTo>
                      <a:pt x="356" y="30"/>
                    </a:lnTo>
                    <a:lnTo>
                      <a:pt x="337" y="36"/>
                    </a:lnTo>
                    <a:lnTo>
                      <a:pt x="317" y="44"/>
                    </a:lnTo>
                    <a:lnTo>
                      <a:pt x="297" y="51"/>
                    </a:lnTo>
                    <a:lnTo>
                      <a:pt x="279" y="60"/>
                    </a:lnTo>
                    <a:lnTo>
                      <a:pt x="261" y="69"/>
                    </a:lnTo>
                    <a:lnTo>
                      <a:pt x="242" y="79"/>
                    </a:lnTo>
                    <a:lnTo>
                      <a:pt x="225" y="89"/>
                    </a:lnTo>
                    <a:lnTo>
                      <a:pt x="208" y="99"/>
                    </a:lnTo>
                    <a:lnTo>
                      <a:pt x="190" y="111"/>
                    </a:lnTo>
                    <a:lnTo>
                      <a:pt x="174" y="122"/>
                    </a:lnTo>
                    <a:lnTo>
                      <a:pt x="158" y="135"/>
                    </a:lnTo>
                    <a:lnTo>
                      <a:pt x="142" y="148"/>
                    </a:lnTo>
                    <a:lnTo>
                      <a:pt x="127" y="162"/>
                    </a:lnTo>
                    <a:lnTo>
                      <a:pt x="112" y="175"/>
                    </a:lnTo>
                    <a:lnTo>
                      <a:pt x="98" y="189"/>
                    </a:lnTo>
                    <a:lnTo>
                      <a:pt x="83" y="204"/>
                    </a:lnTo>
                    <a:lnTo>
                      <a:pt x="70" y="220"/>
                    </a:lnTo>
                    <a:lnTo>
                      <a:pt x="56" y="235"/>
                    </a:lnTo>
                    <a:lnTo>
                      <a:pt x="45" y="252"/>
                    </a:lnTo>
                    <a:lnTo>
                      <a:pt x="32" y="269"/>
                    </a:lnTo>
                    <a:lnTo>
                      <a:pt x="21" y="285"/>
                    </a:lnTo>
                    <a:lnTo>
                      <a:pt x="10" y="302"/>
                    </a:lnTo>
                    <a:lnTo>
                      <a:pt x="0" y="321"/>
                    </a:lnTo>
                    <a:lnTo>
                      <a:pt x="10" y="351"/>
                    </a:lnTo>
                    <a:lnTo>
                      <a:pt x="20" y="332"/>
                    </a:lnTo>
                    <a:lnTo>
                      <a:pt x="30" y="315"/>
                    </a:lnTo>
                    <a:lnTo>
                      <a:pt x="40" y="298"/>
                    </a:lnTo>
                    <a:lnTo>
                      <a:pt x="52" y="280"/>
                    </a:lnTo>
                    <a:lnTo>
                      <a:pt x="63" y="264"/>
                    </a:lnTo>
                    <a:lnTo>
                      <a:pt x="76" y="248"/>
                    </a:lnTo>
                    <a:lnTo>
                      <a:pt x="89" y="232"/>
                    </a:lnTo>
                    <a:lnTo>
                      <a:pt x="103" y="217"/>
                    </a:lnTo>
                    <a:lnTo>
                      <a:pt x="116" y="203"/>
                    </a:lnTo>
                    <a:lnTo>
                      <a:pt x="131" y="188"/>
                    </a:lnTo>
                    <a:lnTo>
                      <a:pt x="146" y="174"/>
                    </a:lnTo>
                    <a:lnTo>
                      <a:pt x="161" y="162"/>
                    </a:lnTo>
                    <a:lnTo>
                      <a:pt x="178" y="149"/>
                    </a:lnTo>
                    <a:lnTo>
                      <a:pt x="194" y="136"/>
                    </a:lnTo>
                    <a:lnTo>
                      <a:pt x="210" y="125"/>
                    </a:lnTo>
                    <a:lnTo>
                      <a:pt x="227" y="114"/>
                    </a:lnTo>
                    <a:lnTo>
                      <a:pt x="244" y="104"/>
                    </a:lnTo>
                    <a:lnTo>
                      <a:pt x="263" y="94"/>
                    </a:lnTo>
                    <a:lnTo>
                      <a:pt x="281" y="84"/>
                    </a:lnTo>
                    <a:lnTo>
                      <a:pt x="300" y="75"/>
                    </a:lnTo>
                    <a:lnTo>
                      <a:pt x="318" y="67"/>
                    </a:lnTo>
                    <a:lnTo>
                      <a:pt x="338" y="60"/>
                    </a:lnTo>
                    <a:lnTo>
                      <a:pt x="357" y="53"/>
                    </a:lnTo>
                    <a:lnTo>
                      <a:pt x="377" y="47"/>
                    </a:lnTo>
                    <a:lnTo>
                      <a:pt x="397" y="42"/>
                    </a:lnTo>
                    <a:lnTo>
                      <a:pt x="417" y="37"/>
                    </a:lnTo>
                    <a:lnTo>
                      <a:pt x="438" y="32"/>
                    </a:lnTo>
                    <a:lnTo>
                      <a:pt x="459" y="29"/>
                    </a:lnTo>
                    <a:lnTo>
                      <a:pt x="481" y="27"/>
                    </a:lnTo>
                    <a:lnTo>
                      <a:pt x="502" y="24"/>
                    </a:lnTo>
                    <a:lnTo>
                      <a:pt x="524" y="23"/>
                    </a:lnTo>
                    <a:lnTo>
                      <a:pt x="545" y="23"/>
                    </a:lnTo>
                    <a:lnTo>
                      <a:pt x="571" y="23"/>
                    </a:lnTo>
                    <a:lnTo>
                      <a:pt x="596" y="26"/>
                    </a:lnTo>
                    <a:lnTo>
                      <a:pt x="620" y="28"/>
                    </a:lnTo>
                    <a:lnTo>
                      <a:pt x="646" y="31"/>
                    </a:lnTo>
                    <a:lnTo>
                      <a:pt x="670" y="36"/>
                    </a:lnTo>
                    <a:lnTo>
                      <a:pt x="694" y="42"/>
                    </a:lnTo>
                    <a:lnTo>
                      <a:pt x="717" y="49"/>
                    </a:lnTo>
                    <a:lnTo>
                      <a:pt x="740" y="56"/>
                    </a:lnTo>
                    <a:lnTo>
                      <a:pt x="763" y="64"/>
                    </a:lnTo>
                    <a:lnTo>
                      <a:pt x="785" y="73"/>
                    </a:lnTo>
                    <a:lnTo>
                      <a:pt x="807" y="83"/>
                    </a:lnTo>
                    <a:lnTo>
                      <a:pt x="829" y="95"/>
                    </a:lnTo>
                    <a:lnTo>
                      <a:pt x="850" y="106"/>
                    </a:lnTo>
                    <a:lnTo>
                      <a:pt x="870" y="119"/>
                    </a:lnTo>
                    <a:lnTo>
                      <a:pt x="890" y="132"/>
                    </a:lnTo>
                    <a:lnTo>
                      <a:pt x="909" y="145"/>
                    </a:lnTo>
                    <a:lnTo>
                      <a:pt x="874" y="94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48360" y="3776760"/>
                <a:ext cx="306360" cy="323640"/>
              </a:xfrm>
              <a:custGeom>
                <a:avLst/>
                <a:gdLst/>
                <a:ahLst/>
                <a:rect l="l" t="t" r="r" b="b"/>
                <a:pathLst>
                  <a:path w="1154" h="1226">
                    <a:moveTo>
                      <a:pt x="1154" y="613"/>
                    </a:moveTo>
                    <a:lnTo>
                      <a:pt x="1153" y="606"/>
                    </a:lnTo>
                    <a:lnTo>
                      <a:pt x="1153" y="600"/>
                    </a:lnTo>
                    <a:lnTo>
                      <a:pt x="1153" y="593"/>
                    </a:lnTo>
                    <a:lnTo>
                      <a:pt x="1153" y="588"/>
                    </a:lnTo>
                    <a:lnTo>
                      <a:pt x="1153" y="581"/>
                    </a:lnTo>
                    <a:lnTo>
                      <a:pt x="1153" y="575"/>
                    </a:lnTo>
                    <a:lnTo>
                      <a:pt x="1152" y="568"/>
                    </a:lnTo>
                    <a:lnTo>
                      <a:pt x="1152" y="562"/>
                    </a:lnTo>
                    <a:lnTo>
                      <a:pt x="1124" y="521"/>
                    </a:lnTo>
                    <a:lnTo>
                      <a:pt x="1125" y="532"/>
                    </a:lnTo>
                    <a:lnTo>
                      <a:pt x="1126" y="544"/>
                    </a:lnTo>
                    <a:lnTo>
                      <a:pt x="1128" y="555"/>
                    </a:lnTo>
                    <a:lnTo>
                      <a:pt x="1129" y="567"/>
                    </a:lnTo>
                    <a:lnTo>
                      <a:pt x="1130" y="578"/>
                    </a:lnTo>
                    <a:lnTo>
                      <a:pt x="1130" y="590"/>
                    </a:lnTo>
                    <a:lnTo>
                      <a:pt x="1131" y="601"/>
                    </a:lnTo>
                    <a:lnTo>
                      <a:pt x="1131" y="613"/>
                    </a:lnTo>
                    <a:lnTo>
                      <a:pt x="1130" y="643"/>
                    </a:lnTo>
                    <a:lnTo>
                      <a:pt x="1128" y="673"/>
                    </a:lnTo>
                    <a:lnTo>
                      <a:pt x="1124" y="703"/>
                    </a:lnTo>
                    <a:lnTo>
                      <a:pt x="1118" y="732"/>
                    </a:lnTo>
                    <a:lnTo>
                      <a:pt x="1113" y="761"/>
                    </a:lnTo>
                    <a:lnTo>
                      <a:pt x="1104" y="788"/>
                    </a:lnTo>
                    <a:lnTo>
                      <a:pt x="1095" y="816"/>
                    </a:lnTo>
                    <a:lnTo>
                      <a:pt x="1085" y="842"/>
                    </a:lnTo>
                    <a:lnTo>
                      <a:pt x="1072" y="869"/>
                    </a:lnTo>
                    <a:lnTo>
                      <a:pt x="1059" y="894"/>
                    </a:lnTo>
                    <a:lnTo>
                      <a:pt x="1046" y="918"/>
                    </a:lnTo>
                    <a:lnTo>
                      <a:pt x="1030" y="943"/>
                    </a:lnTo>
                    <a:lnTo>
                      <a:pt x="1013" y="966"/>
                    </a:lnTo>
                    <a:lnTo>
                      <a:pt x="996" y="989"/>
                    </a:lnTo>
                    <a:lnTo>
                      <a:pt x="978" y="1010"/>
                    </a:lnTo>
                    <a:lnTo>
                      <a:pt x="958" y="1030"/>
                    </a:lnTo>
                    <a:lnTo>
                      <a:pt x="937" y="1050"/>
                    </a:lnTo>
                    <a:lnTo>
                      <a:pt x="915" y="1068"/>
                    </a:lnTo>
                    <a:lnTo>
                      <a:pt x="893" y="1086"/>
                    </a:lnTo>
                    <a:lnTo>
                      <a:pt x="870" y="1102"/>
                    </a:lnTo>
                    <a:lnTo>
                      <a:pt x="846" y="1118"/>
                    </a:lnTo>
                    <a:lnTo>
                      <a:pt x="822" y="1132"/>
                    </a:lnTo>
                    <a:lnTo>
                      <a:pt x="797" y="1144"/>
                    </a:lnTo>
                    <a:lnTo>
                      <a:pt x="770" y="1157"/>
                    </a:lnTo>
                    <a:lnTo>
                      <a:pt x="743" y="1167"/>
                    </a:lnTo>
                    <a:lnTo>
                      <a:pt x="716" y="1177"/>
                    </a:lnTo>
                    <a:lnTo>
                      <a:pt x="688" y="1185"/>
                    </a:lnTo>
                    <a:lnTo>
                      <a:pt x="659" y="1191"/>
                    </a:lnTo>
                    <a:lnTo>
                      <a:pt x="630" y="1196"/>
                    </a:lnTo>
                    <a:lnTo>
                      <a:pt x="600" y="1200"/>
                    </a:lnTo>
                    <a:lnTo>
                      <a:pt x="570" y="1202"/>
                    </a:lnTo>
                    <a:lnTo>
                      <a:pt x="540" y="1203"/>
                    </a:lnTo>
                    <a:lnTo>
                      <a:pt x="524" y="1203"/>
                    </a:lnTo>
                    <a:lnTo>
                      <a:pt x="509" y="1202"/>
                    </a:lnTo>
                    <a:lnTo>
                      <a:pt x="494" y="1201"/>
                    </a:lnTo>
                    <a:lnTo>
                      <a:pt x="479" y="1200"/>
                    </a:lnTo>
                    <a:lnTo>
                      <a:pt x="464" y="1199"/>
                    </a:lnTo>
                    <a:lnTo>
                      <a:pt x="449" y="1196"/>
                    </a:lnTo>
                    <a:lnTo>
                      <a:pt x="434" y="1194"/>
                    </a:lnTo>
                    <a:lnTo>
                      <a:pt x="419" y="1191"/>
                    </a:lnTo>
                    <a:lnTo>
                      <a:pt x="437" y="1217"/>
                    </a:lnTo>
                    <a:lnTo>
                      <a:pt x="449" y="1219"/>
                    </a:lnTo>
                    <a:lnTo>
                      <a:pt x="462" y="1221"/>
                    </a:lnTo>
                    <a:lnTo>
                      <a:pt x="475" y="1223"/>
                    </a:lnTo>
                    <a:lnTo>
                      <a:pt x="487" y="1224"/>
                    </a:lnTo>
                    <a:lnTo>
                      <a:pt x="501" y="1225"/>
                    </a:lnTo>
                    <a:lnTo>
                      <a:pt x="514" y="1225"/>
                    </a:lnTo>
                    <a:lnTo>
                      <a:pt x="527" y="1225"/>
                    </a:lnTo>
                    <a:lnTo>
                      <a:pt x="540" y="1226"/>
                    </a:lnTo>
                    <a:lnTo>
                      <a:pt x="572" y="1225"/>
                    </a:lnTo>
                    <a:lnTo>
                      <a:pt x="603" y="1223"/>
                    </a:lnTo>
                    <a:lnTo>
                      <a:pt x="634" y="1218"/>
                    </a:lnTo>
                    <a:lnTo>
                      <a:pt x="664" y="1214"/>
                    </a:lnTo>
                    <a:lnTo>
                      <a:pt x="694" y="1207"/>
                    </a:lnTo>
                    <a:lnTo>
                      <a:pt x="723" y="1199"/>
                    </a:lnTo>
                    <a:lnTo>
                      <a:pt x="752" y="1188"/>
                    </a:lnTo>
                    <a:lnTo>
                      <a:pt x="779" y="1178"/>
                    </a:lnTo>
                    <a:lnTo>
                      <a:pt x="806" y="1165"/>
                    </a:lnTo>
                    <a:lnTo>
                      <a:pt x="832" y="1151"/>
                    </a:lnTo>
                    <a:lnTo>
                      <a:pt x="858" y="1138"/>
                    </a:lnTo>
                    <a:lnTo>
                      <a:pt x="883" y="1121"/>
                    </a:lnTo>
                    <a:lnTo>
                      <a:pt x="907" y="1104"/>
                    </a:lnTo>
                    <a:lnTo>
                      <a:pt x="930" y="1086"/>
                    </a:lnTo>
                    <a:lnTo>
                      <a:pt x="952" y="1067"/>
                    </a:lnTo>
                    <a:lnTo>
                      <a:pt x="974" y="1046"/>
                    </a:lnTo>
                    <a:lnTo>
                      <a:pt x="994" y="1025"/>
                    </a:lnTo>
                    <a:lnTo>
                      <a:pt x="1013" y="1003"/>
                    </a:lnTo>
                    <a:lnTo>
                      <a:pt x="1032" y="980"/>
                    </a:lnTo>
                    <a:lnTo>
                      <a:pt x="1049" y="955"/>
                    </a:lnTo>
                    <a:lnTo>
                      <a:pt x="1064" y="931"/>
                    </a:lnTo>
                    <a:lnTo>
                      <a:pt x="1079" y="905"/>
                    </a:lnTo>
                    <a:lnTo>
                      <a:pt x="1093" y="878"/>
                    </a:lnTo>
                    <a:lnTo>
                      <a:pt x="1106" y="852"/>
                    </a:lnTo>
                    <a:lnTo>
                      <a:pt x="1116" y="824"/>
                    </a:lnTo>
                    <a:lnTo>
                      <a:pt x="1126" y="795"/>
                    </a:lnTo>
                    <a:lnTo>
                      <a:pt x="1134" y="766"/>
                    </a:lnTo>
                    <a:lnTo>
                      <a:pt x="1141" y="736"/>
                    </a:lnTo>
                    <a:lnTo>
                      <a:pt x="1146" y="706"/>
                    </a:lnTo>
                    <a:lnTo>
                      <a:pt x="1151" y="675"/>
                    </a:lnTo>
                    <a:lnTo>
                      <a:pt x="1153" y="644"/>
                    </a:lnTo>
                    <a:lnTo>
                      <a:pt x="1154" y="613"/>
                    </a:lnTo>
                    <a:close/>
                    <a:moveTo>
                      <a:pt x="885" y="106"/>
                    </a:moveTo>
                    <a:lnTo>
                      <a:pt x="867" y="94"/>
                    </a:lnTo>
                    <a:lnTo>
                      <a:pt x="847" y="83"/>
                    </a:lnTo>
                    <a:lnTo>
                      <a:pt x="828" y="71"/>
                    </a:lnTo>
                    <a:lnTo>
                      <a:pt x="808" y="61"/>
                    </a:lnTo>
                    <a:lnTo>
                      <a:pt x="787" y="52"/>
                    </a:lnTo>
                    <a:lnTo>
                      <a:pt x="767" y="44"/>
                    </a:lnTo>
                    <a:lnTo>
                      <a:pt x="746" y="35"/>
                    </a:lnTo>
                    <a:lnTo>
                      <a:pt x="724" y="27"/>
                    </a:lnTo>
                    <a:lnTo>
                      <a:pt x="702" y="22"/>
                    </a:lnTo>
                    <a:lnTo>
                      <a:pt x="680" y="16"/>
                    </a:lnTo>
                    <a:lnTo>
                      <a:pt x="657" y="11"/>
                    </a:lnTo>
                    <a:lnTo>
                      <a:pt x="634" y="7"/>
                    </a:lnTo>
                    <a:lnTo>
                      <a:pt x="611" y="4"/>
                    </a:lnTo>
                    <a:lnTo>
                      <a:pt x="588" y="2"/>
                    </a:lnTo>
                    <a:lnTo>
                      <a:pt x="564" y="1"/>
                    </a:lnTo>
                    <a:lnTo>
                      <a:pt x="540" y="0"/>
                    </a:lnTo>
                    <a:lnTo>
                      <a:pt x="519" y="0"/>
                    </a:lnTo>
                    <a:lnTo>
                      <a:pt x="497" y="1"/>
                    </a:lnTo>
                    <a:lnTo>
                      <a:pt x="475" y="3"/>
                    </a:lnTo>
                    <a:lnTo>
                      <a:pt x="454" y="6"/>
                    </a:lnTo>
                    <a:lnTo>
                      <a:pt x="433" y="9"/>
                    </a:lnTo>
                    <a:lnTo>
                      <a:pt x="412" y="14"/>
                    </a:lnTo>
                    <a:lnTo>
                      <a:pt x="392" y="18"/>
                    </a:lnTo>
                    <a:lnTo>
                      <a:pt x="372" y="23"/>
                    </a:lnTo>
                    <a:lnTo>
                      <a:pt x="351" y="30"/>
                    </a:lnTo>
                    <a:lnTo>
                      <a:pt x="332" y="37"/>
                    </a:lnTo>
                    <a:lnTo>
                      <a:pt x="312" y="44"/>
                    </a:lnTo>
                    <a:lnTo>
                      <a:pt x="294" y="52"/>
                    </a:lnTo>
                    <a:lnTo>
                      <a:pt x="275" y="60"/>
                    </a:lnTo>
                    <a:lnTo>
                      <a:pt x="257" y="69"/>
                    </a:lnTo>
                    <a:lnTo>
                      <a:pt x="238" y="79"/>
                    </a:lnTo>
                    <a:lnTo>
                      <a:pt x="221" y="90"/>
                    </a:lnTo>
                    <a:lnTo>
                      <a:pt x="204" y="100"/>
                    </a:lnTo>
                    <a:lnTo>
                      <a:pt x="188" y="112"/>
                    </a:lnTo>
                    <a:lnTo>
                      <a:pt x="170" y="124"/>
                    </a:lnTo>
                    <a:lnTo>
                      <a:pt x="154" y="137"/>
                    </a:lnTo>
                    <a:lnTo>
                      <a:pt x="139" y="150"/>
                    </a:lnTo>
                    <a:lnTo>
                      <a:pt x="124" y="163"/>
                    </a:lnTo>
                    <a:lnTo>
                      <a:pt x="109" y="177"/>
                    </a:lnTo>
                    <a:lnTo>
                      <a:pt x="95" y="191"/>
                    </a:lnTo>
                    <a:lnTo>
                      <a:pt x="81" y="206"/>
                    </a:lnTo>
                    <a:lnTo>
                      <a:pt x="68" y="222"/>
                    </a:lnTo>
                    <a:lnTo>
                      <a:pt x="55" y="238"/>
                    </a:lnTo>
                    <a:lnTo>
                      <a:pt x="43" y="255"/>
                    </a:lnTo>
                    <a:lnTo>
                      <a:pt x="32" y="271"/>
                    </a:lnTo>
                    <a:lnTo>
                      <a:pt x="20" y="288"/>
                    </a:lnTo>
                    <a:lnTo>
                      <a:pt x="10" y="305"/>
                    </a:lnTo>
                    <a:lnTo>
                      <a:pt x="0" y="323"/>
                    </a:lnTo>
                    <a:lnTo>
                      <a:pt x="10" y="354"/>
                    </a:lnTo>
                    <a:lnTo>
                      <a:pt x="19" y="335"/>
                    </a:lnTo>
                    <a:lnTo>
                      <a:pt x="29" y="318"/>
                    </a:lnTo>
                    <a:lnTo>
                      <a:pt x="40" y="301"/>
                    </a:lnTo>
                    <a:lnTo>
                      <a:pt x="50" y="283"/>
                    </a:lnTo>
                    <a:lnTo>
                      <a:pt x="62" y="267"/>
                    </a:lnTo>
                    <a:lnTo>
                      <a:pt x="74" y="250"/>
                    </a:lnTo>
                    <a:lnTo>
                      <a:pt x="87" y="235"/>
                    </a:lnTo>
                    <a:lnTo>
                      <a:pt x="100" y="220"/>
                    </a:lnTo>
                    <a:lnTo>
                      <a:pt x="114" y="205"/>
                    </a:lnTo>
                    <a:lnTo>
                      <a:pt x="129" y="190"/>
                    </a:lnTo>
                    <a:lnTo>
                      <a:pt x="143" y="176"/>
                    </a:lnTo>
                    <a:lnTo>
                      <a:pt x="159" y="163"/>
                    </a:lnTo>
                    <a:lnTo>
                      <a:pt x="174" y="150"/>
                    </a:lnTo>
                    <a:lnTo>
                      <a:pt x="190" y="138"/>
                    </a:lnTo>
                    <a:lnTo>
                      <a:pt x="207" y="125"/>
                    </a:lnTo>
                    <a:lnTo>
                      <a:pt x="223" y="115"/>
                    </a:lnTo>
                    <a:lnTo>
                      <a:pt x="241" y="103"/>
                    </a:lnTo>
                    <a:lnTo>
                      <a:pt x="259" y="94"/>
                    </a:lnTo>
                    <a:lnTo>
                      <a:pt x="276" y="85"/>
                    </a:lnTo>
                    <a:lnTo>
                      <a:pt x="295" y="76"/>
                    </a:lnTo>
                    <a:lnTo>
                      <a:pt x="314" y="68"/>
                    </a:lnTo>
                    <a:lnTo>
                      <a:pt x="333" y="60"/>
                    </a:lnTo>
                    <a:lnTo>
                      <a:pt x="352" y="53"/>
                    </a:lnTo>
                    <a:lnTo>
                      <a:pt x="372" y="47"/>
                    </a:lnTo>
                    <a:lnTo>
                      <a:pt x="393" y="41"/>
                    </a:lnTo>
                    <a:lnTo>
                      <a:pt x="412" y="37"/>
                    </a:lnTo>
                    <a:lnTo>
                      <a:pt x="433" y="32"/>
                    </a:lnTo>
                    <a:lnTo>
                      <a:pt x="454" y="29"/>
                    </a:lnTo>
                    <a:lnTo>
                      <a:pt x="476" y="26"/>
                    </a:lnTo>
                    <a:lnTo>
                      <a:pt x="497" y="24"/>
                    </a:lnTo>
                    <a:lnTo>
                      <a:pt x="519" y="23"/>
                    </a:lnTo>
                    <a:lnTo>
                      <a:pt x="540" y="23"/>
                    </a:lnTo>
                    <a:lnTo>
                      <a:pt x="567" y="23"/>
                    </a:lnTo>
                    <a:lnTo>
                      <a:pt x="594" y="25"/>
                    </a:lnTo>
                    <a:lnTo>
                      <a:pt x="619" y="27"/>
                    </a:lnTo>
                    <a:lnTo>
                      <a:pt x="644" y="32"/>
                    </a:lnTo>
                    <a:lnTo>
                      <a:pt x="670" y="37"/>
                    </a:lnTo>
                    <a:lnTo>
                      <a:pt x="695" y="44"/>
                    </a:lnTo>
                    <a:lnTo>
                      <a:pt x="719" y="50"/>
                    </a:lnTo>
                    <a:lnTo>
                      <a:pt x="743" y="59"/>
                    </a:lnTo>
                    <a:lnTo>
                      <a:pt x="767" y="68"/>
                    </a:lnTo>
                    <a:lnTo>
                      <a:pt x="790" y="78"/>
                    </a:lnTo>
                    <a:lnTo>
                      <a:pt x="813" y="89"/>
                    </a:lnTo>
                    <a:lnTo>
                      <a:pt x="835" y="101"/>
                    </a:lnTo>
                    <a:lnTo>
                      <a:pt x="855" y="114"/>
                    </a:lnTo>
                    <a:lnTo>
                      <a:pt x="876" y="128"/>
                    </a:lnTo>
                    <a:lnTo>
                      <a:pt x="897" y="143"/>
                    </a:lnTo>
                    <a:lnTo>
                      <a:pt x="916" y="158"/>
                    </a:lnTo>
                    <a:lnTo>
                      <a:pt x="913" y="146"/>
                    </a:lnTo>
                    <a:lnTo>
                      <a:pt x="885" y="10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49800" y="3780000"/>
                <a:ext cx="301680" cy="317160"/>
              </a:xfrm>
              <a:custGeom>
                <a:avLst/>
                <a:gdLst/>
                <a:ahLst/>
                <a:rect l="l" t="t" r="r" b="b"/>
                <a:pathLst>
                  <a:path w="1138" h="1204">
                    <a:moveTo>
                      <a:pt x="1138" y="602"/>
                    </a:moveTo>
                    <a:lnTo>
                      <a:pt x="1138" y="593"/>
                    </a:lnTo>
                    <a:lnTo>
                      <a:pt x="1136" y="584"/>
                    </a:lnTo>
                    <a:lnTo>
                      <a:pt x="1136" y="575"/>
                    </a:lnTo>
                    <a:lnTo>
                      <a:pt x="1136" y="566"/>
                    </a:lnTo>
                    <a:lnTo>
                      <a:pt x="1135" y="557"/>
                    </a:lnTo>
                    <a:lnTo>
                      <a:pt x="1135" y="549"/>
                    </a:lnTo>
                    <a:lnTo>
                      <a:pt x="1134" y="540"/>
                    </a:lnTo>
                    <a:lnTo>
                      <a:pt x="1133" y="532"/>
                    </a:lnTo>
                    <a:lnTo>
                      <a:pt x="1103" y="487"/>
                    </a:lnTo>
                    <a:lnTo>
                      <a:pt x="1105" y="501"/>
                    </a:lnTo>
                    <a:lnTo>
                      <a:pt x="1108" y="516"/>
                    </a:lnTo>
                    <a:lnTo>
                      <a:pt x="1110" y="529"/>
                    </a:lnTo>
                    <a:lnTo>
                      <a:pt x="1111" y="543"/>
                    </a:lnTo>
                    <a:lnTo>
                      <a:pt x="1113" y="558"/>
                    </a:lnTo>
                    <a:lnTo>
                      <a:pt x="1113" y="572"/>
                    </a:lnTo>
                    <a:lnTo>
                      <a:pt x="1114" y="587"/>
                    </a:lnTo>
                    <a:lnTo>
                      <a:pt x="1114" y="602"/>
                    </a:lnTo>
                    <a:lnTo>
                      <a:pt x="1113" y="632"/>
                    </a:lnTo>
                    <a:lnTo>
                      <a:pt x="1111" y="661"/>
                    </a:lnTo>
                    <a:lnTo>
                      <a:pt x="1108" y="690"/>
                    </a:lnTo>
                    <a:lnTo>
                      <a:pt x="1103" y="718"/>
                    </a:lnTo>
                    <a:lnTo>
                      <a:pt x="1096" y="746"/>
                    </a:lnTo>
                    <a:lnTo>
                      <a:pt x="1088" y="774"/>
                    </a:lnTo>
                    <a:lnTo>
                      <a:pt x="1079" y="801"/>
                    </a:lnTo>
                    <a:lnTo>
                      <a:pt x="1069" y="827"/>
                    </a:lnTo>
                    <a:lnTo>
                      <a:pt x="1057" y="853"/>
                    </a:lnTo>
                    <a:lnTo>
                      <a:pt x="1044" y="878"/>
                    </a:lnTo>
                    <a:lnTo>
                      <a:pt x="1030" y="902"/>
                    </a:lnTo>
                    <a:lnTo>
                      <a:pt x="1015" y="926"/>
                    </a:lnTo>
                    <a:lnTo>
                      <a:pt x="999" y="948"/>
                    </a:lnTo>
                    <a:lnTo>
                      <a:pt x="982" y="970"/>
                    </a:lnTo>
                    <a:lnTo>
                      <a:pt x="963" y="992"/>
                    </a:lnTo>
                    <a:lnTo>
                      <a:pt x="945" y="1011"/>
                    </a:lnTo>
                    <a:lnTo>
                      <a:pt x="924" y="1031"/>
                    </a:lnTo>
                    <a:lnTo>
                      <a:pt x="903" y="1048"/>
                    </a:lnTo>
                    <a:lnTo>
                      <a:pt x="881" y="1065"/>
                    </a:lnTo>
                    <a:lnTo>
                      <a:pt x="860" y="1082"/>
                    </a:lnTo>
                    <a:lnTo>
                      <a:pt x="835" y="1097"/>
                    </a:lnTo>
                    <a:lnTo>
                      <a:pt x="811" y="1110"/>
                    </a:lnTo>
                    <a:lnTo>
                      <a:pt x="786" y="1124"/>
                    </a:lnTo>
                    <a:lnTo>
                      <a:pt x="760" y="1136"/>
                    </a:lnTo>
                    <a:lnTo>
                      <a:pt x="734" y="1146"/>
                    </a:lnTo>
                    <a:lnTo>
                      <a:pt x="707" y="1155"/>
                    </a:lnTo>
                    <a:lnTo>
                      <a:pt x="680" y="1162"/>
                    </a:lnTo>
                    <a:lnTo>
                      <a:pt x="652" y="1169"/>
                    </a:lnTo>
                    <a:lnTo>
                      <a:pt x="623" y="1174"/>
                    </a:lnTo>
                    <a:lnTo>
                      <a:pt x="594" y="1177"/>
                    </a:lnTo>
                    <a:lnTo>
                      <a:pt x="565" y="1180"/>
                    </a:lnTo>
                    <a:lnTo>
                      <a:pt x="535" y="1181"/>
                    </a:lnTo>
                    <a:lnTo>
                      <a:pt x="518" y="1181"/>
                    </a:lnTo>
                    <a:lnTo>
                      <a:pt x="502" y="1180"/>
                    </a:lnTo>
                    <a:lnTo>
                      <a:pt x="486" y="1178"/>
                    </a:lnTo>
                    <a:lnTo>
                      <a:pt x="470" y="1177"/>
                    </a:lnTo>
                    <a:lnTo>
                      <a:pt x="454" y="1175"/>
                    </a:lnTo>
                    <a:lnTo>
                      <a:pt x="437" y="1173"/>
                    </a:lnTo>
                    <a:lnTo>
                      <a:pt x="421" y="1169"/>
                    </a:lnTo>
                    <a:lnTo>
                      <a:pt x="406" y="1166"/>
                    </a:lnTo>
                    <a:lnTo>
                      <a:pt x="407" y="1168"/>
                    </a:lnTo>
                    <a:lnTo>
                      <a:pt x="424" y="1193"/>
                    </a:lnTo>
                    <a:lnTo>
                      <a:pt x="437" y="1196"/>
                    </a:lnTo>
                    <a:lnTo>
                      <a:pt x="451" y="1198"/>
                    </a:lnTo>
                    <a:lnTo>
                      <a:pt x="464" y="1199"/>
                    </a:lnTo>
                    <a:lnTo>
                      <a:pt x="479" y="1200"/>
                    </a:lnTo>
                    <a:lnTo>
                      <a:pt x="493" y="1203"/>
                    </a:lnTo>
                    <a:lnTo>
                      <a:pt x="507" y="1203"/>
                    </a:lnTo>
                    <a:lnTo>
                      <a:pt x="520" y="1204"/>
                    </a:lnTo>
                    <a:lnTo>
                      <a:pt x="535" y="1204"/>
                    </a:lnTo>
                    <a:lnTo>
                      <a:pt x="567" y="1203"/>
                    </a:lnTo>
                    <a:lnTo>
                      <a:pt x="597" y="1200"/>
                    </a:lnTo>
                    <a:lnTo>
                      <a:pt x="627" y="1197"/>
                    </a:lnTo>
                    <a:lnTo>
                      <a:pt x="657" y="1191"/>
                    </a:lnTo>
                    <a:lnTo>
                      <a:pt x="685" y="1184"/>
                    </a:lnTo>
                    <a:lnTo>
                      <a:pt x="714" y="1176"/>
                    </a:lnTo>
                    <a:lnTo>
                      <a:pt x="742" y="1167"/>
                    </a:lnTo>
                    <a:lnTo>
                      <a:pt x="770" y="1156"/>
                    </a:lnTo>
                    <a:lnTo>
                      <a:pt x="796" y="1144"/>
                    </a:lnTo>
                    <a:lnTo>
                      <a:pt x="822" y="1131"/>
                    </a:lnTo>
                    <a:lnTo>
                      <a:pt x="847" y="1116"/>
                    </a:lnTo>
                    <a:lnTo>
                      <a:pt x="871" y="1101"/>
                    </a:lnTo>
                    <a:lnTo>
                      <a:pt x="895" y="1084"/>
                    </a:lnTo>
                    <a:lnTo>
                      <a:pt x="918" y="1067"/>
                    </a:lnTo>
                    <a:lnTo>
                      <a:pt x="940" y="1047"/>
                    </a:lnTo>
                    <a:lnTo>
                      <a:pt x="961" y="1027"/>
                    </a:lnTo>
                    <a:lnTo>
                      <a:pt x="981" y="1007"/>
                    </a:lnTo>
                    <a:lnTo>
                      <a:pt x="999" y="985"/>
                    </a:lnTo>
                    <a:lnTo>
                      <a:pt x="1018" y="962"/>
                    </a:lnTo>
                    <a:lnTo>
                      <a:pt x="1035" y="939"/>
                    </a:lnTo>
                    <a:lnTo>
                      <a:pt x="1050" y="913"/>
                    </a:lnTo>
                    <a:lnTo>
                      <a:pt x="1065" y="889"/>
                    </a:lnTo>
                    <a:lnTo>
                      <a:pt x="1078" y="863"/>
                    </a:lnTo>
                    <a:lnTo>
                      <a:pt x="1090" y="836"/>
                    </a:lnTo>
                    <a:lnTo>
                      <a:pt x="1101" y="808"/>
                    </a:lnTo>
                    <a:lnTo>
                      <a:pt x="1110" y="781"/>
                    </a:lnTo>
                    <a:lnTo>
                      <a:pt x="1118" y="752"/>
                    </a:lnTo>
                    <a:lnTo>
                      <a:pt x="1125" y="723"/>
                    </a:lnTo>
                    <a:lnTo>
                      <a:pt x="1131" y="693"/>
                    </a:lnTo>
                    <a:lnTo>
                      <a:pt x="1134" y="663"/>
                    </a:lnTo>
                    <a:lnTo>
                      <a:pt x="1136" y="633"/>
                    </a:lnTo>
                    <a:lnTo>
                      <a:pt x="1138" y="602"/>
                    </a:lnTo>
                    <a:close/>
                    <a:moveTo>
                      <a:pt x="899" y="122"/>
                    </a:moveTo>
                    <a:lnTo>
                      <a:pt x="880" y="109"/>
                    </a:lnTo>
                    <a:lnTo>
                      <a:pt x="860" y="96"/>
                    </a:lnTo>
                    <a:lnTo>
                      <a:pt x="840" y="83"/>
                    </a:lnTo>
                    <a:lnTo>
                      <a:pt x="819" y="72"/>
                    </a:lnTo>
                    <a:lnTo>
                      <a:pt x="797" y="60"/>
                    </a:lnTo>
                    <a:lnTo>
                      <a:pt x="775" y="50"/>
                    </a:lnTo>
                    <a:lnTo>
                      <a:pt x="753" y="41"/>
                    </a:lnTo>
                    <a:lnTo>
                      <a:pt x="730" y="33"/>
                    </a:lnTo>
                    <a:lnTo>
                      <a:pt x="707" y="26"/>
                    </a:lnTo>
                    <a:lnTo>
                      <a:pt x="684" y="19"/>
                    </a:lnTo>
                    <a:lnTo>
                      <a:pt x="660" y="13"/>
                    </a:lnTo>
                    <a:lnTo>
                      <a:pt x="636" y="8"/>
                    </a:lnTo>
                    <a:lnTo>
                      <a:pt x="610" y="5"/>
                    </a:lnTo>
                    <a:lnTo>
                      <a:pt x="586" y="3"/>
                    </a:lnTo>
                    <a:lnTo>
                      <a:pt x="561" y="0"/>
                    </a:lnTo>
                    <a:lnTo>
                      <a:pt x="535" y="0"/>
                    </a:lnTo>
                    <a:lnTo>
                      <a:pt x="514" y="0"/>
                    </a:lnTo>
                    <a:lnTo>
                      <a:pt x="492" y="1"/>
                    </a:lnTo>
                    <a:lnTo>
                      <a:pt x="471" y="4"/>
                    </a:lnTo>
                    <a:lnTo>
                      <a:pt x="449" y="6"/>
                    </a:lnTo>
                    <a:lnTo>
                      <a:pt x="428" y="9"/>
                    </a:lnTo>
                    <a:lnTo>
                      <a:pt x="407" y="14"/>
                    </a:lnTo>
                    <a:lnTo>
                      <a:pt x="387" y="19"/>
                    </a:lnTo>
                    <a:lnTo>
                      <a:pt x="367" y="24"/>
                    </a:lnTo>
                    <a:lnTo>
                      <a:pt x="347" y="30"/>
                    </a:lnTo>
                    <a:lnTo>
                      <a:pt x="328" y="37"/>
                    </a:lnTo>
                    <a:lnTo>
                      <a:pt x="308" y="44"/>
                    </a:lnTo>
                    <a:lnTo>
                      <a:pt x="290" y="52"/>
                    </a:lnTo>
                    <a:lnTo>
                      <a:pt x="271" y="61"/>
                    </a:lnTo>
                    <a:lnTo>
                      <a:pt x="253" y="71"/>
                    </a:lnTo>
                    <a:lnTo>
                      <a:pt x="234" y="81"/>
                    </a:lnTo>
                    <a:lnTo>
                      <a:pt x="217" y="91"/>
                    </a:lnTo>
                    <a:lnTo>
                      <a:pt x="200" y="102"/>
                    </a:lnTo>
                    <a:lnTo>
                      <a:pt x="184" y="113"/>
                    </a:lnTo>
                    <a:lnTo>
                      <a:pt x="168" y="126"/>
                    </a:lnTo>
                    <a:lnTo>
                      <a:pt x="151" y="139"/>
                    </a:lnTo>
                    <a:lnTo>
                      <a:pt x="136" y="151"/>
                    </a:lnTo>
                    <a:lnTo>
                      <a:pt x="121" y="165"/>
                    </a:lnTo>
                    <a:lnTo>
                      <a:pt x="106" y="180"/>
                    </a:lnTo>
                    <a:lnTo>
                      <a:pt x="93" y="194"/>
                    </a:lnTo>
                    <a:lnTo>
                      <a:pt x="79" y="209"/>
                    </a:lnTo>
                    <a:lnTo>
                      <a:pt x="66" y="225"/>
                    </a:lnTo>
                    <a:lnTo>
                      <a:pt x="53" y="241"/>
                    </a:lnTo>
                    <a:lnTo>
                      <a:pt x="42" y="257"/>
                    </a:lnTo>
                    <a:lnTo>
                      <a:pt x="30" y="275"/>
                    </a:lnTo>
                    <a:lnTo>
                      <a:pt x="20" y="292"/>
                    </a:lnTo>
                    <a:lnTo>
                      <a:pt x="10" y="309"/>
                    </a:lnTo>
                    <a:lnTo>
                      <a:pt x="0" y="328"/>
                    </a:lnTo>
                    <a:lnTo>
                      <a:pt x="10" y="359"/>
                    </a:lnTo>
                    <a:lnTo>
                      <a:pt x="19" y="340"/>
                    </a:lnTo>
                    <a:lnTo>
                      <a:pt x="28" y="322"/>
                    </a:lnTo>
                    <a:lnTo>
                      <a:pt x="38" y="305"/>
                    </a:lnTo>
                    <a:lnTo>
                      <a:pt x="49" y="287"/>
                    </a:lnTo>
                    <a:lnTo>
                      <a:pt x="60" y="270"/>
                    </a:lnTo>
                    <a:lnTo>
                      <a:pt x="73" y="254"/>
                    </a:lnTo>
                    <a:lnTo>
                      <a:pt x="84" y="238"/>
                    </a:lnTo>
                    <a:lnTo>
                      <a:pt x="98" y="223"/>
                    </a:lnTo>
                    <a:lnTo>
                      <a:pt x="111" y="208"/>
                    </a:lnTo>
                    <a:lnTo>
                      <a:pt x="126" y="193"/>
                    </a:lnTo>
                    <a:lnTo>
                      <a:pt x="140" y="179"/>
                    </a:lnTo>
                    <a:lnTo>
                      <a:pt x="155" y="165"/>
                    </a:lnTo>
                    <a:lnTo>
                      <a:pt x="171" y="152"/>
                    </a:lnTo>
                    <a:lnTo>
                      <a:pt x="186" y="140"/>
                    </a:lnTo>
                    <a:lnTo>
                      <a:pt x="203" y="128"/>
                    </a:lnTo>
                    <a:lnTo>
                      <a:pt x="219" y="117"/>
                    </a:lnTo>
                    <a:lnTo>
                      <a:pt x="237" y="105"/>
                    </a:lnTo>
                    <a:lnTo>
                      <a:pt x="254" y="96"/>
                    </a:lnTo>
                    <a:lnTo>
                      <a:pt x="272" y="86"/>
                    </a:lnTo>
                    <a:lnTo>
                      <a:pt x="291" y="76"/>
                    </a:lnTo>
                    <a:lnTo>
                      <a:pt x="309" y="68"/>
                    </a:lnTo>
                    <a:lnTo>
                      <a:pt x="329" y="61"/>
                    </a:lnTo>
                    <a:lnTo>
                      <a:pt x="347" y="54"/>
                    </a:lnTo>
                    <a:lnTo>
                      <a:pt x="368" y="48"/>
                    </a:lnTo>
                    <a:lnTo>
                      <a:pt x="388" y="42"/>
                    </a:lnTo>
                    <a:lnTo>
                      <a:pt x="409" y="37"/>
                    </a:lnTo>
                    <a:lnTo>
                      <a:pt x="428" y="33"/>
                    </a:lnTo>
                    <a:lnTo>
                      <a:pt x="450" y="29"/>
                    </a:lnTo>
                    <a:lnTo>
                      <a:pt x="471" y="27"/>
                    </a:lnTo>
                    <a:lnTo>
                      <a:pt x="492" y="24"/>
                    </a:lnTo>
                    <a:lnTo>
                      <a:pt x="514" y="23"/>
                    </a:lnTo>
                    <a:lnTo>
                      <a:pt x="535" y="23"/>
                    </a:lnTo>
                    <a:lnTo>
                      <a:pt x="562" y="23"/>
                    </a:lnTo>
                    <a:lnTo>
                      <a:pt x="590" y="26"/>
                    </a:lnTo>
                    <a:lnTo>
                      <a:pt x="616" y="29"/>
                    </a:lnTo>
                    <a:lnTo>
                      <a:pt x="643" y="33"/>
                    </a:lnTo>
                    <a:lnTo>
                      <a:pt x="668" y="38"/>
                    </a:lnTo>
                    <a:lnTo>
                      <a:pt x="693" y="45"/>
                    </a:lnTo>
                    <a:lnTo>
                      <a:pt x="719" y="52"/>
                    </a:lnTo>
                    <a:lnTo>
                      <a:pt x="743" y="61"/>
                    </a:lnTo>
                    <a:lnTo>
                      <a:pt x="767" y="72"/>
                    </a:lnTo>
                    <a:lnTo>
                      <a:pt x="790" y="82"/>
                    </a:lnTo>
                    <a:lnTo>
                      <a:pt x="813" y="94"/>
                    </a:lnTo>
                    <a:lnTo>
                      <a:pt x="835" y="106"/>
                    </a:lnTo>
                    <a:lnTo>
                      <a:pt x="856" y="120"/>
                    </a:lnTo>
                    <a:lnTo>
                      <a:pt x="878" y="135"/>
                    </a:lnTo>
                    <a:lnTo>
                      <a:pt x="898" y="150"/>
                    </a:lnTo>
                    <a:lnTo>
                      <a:pt x="917" y="166"/>
                    </a:lnTo>
                    <a:lnTo>
                      <a:pt x="908" y="135"/>
                    </a:lnTo>
                    <a:lnTo>
                      <a:pt x="899" y="122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1600" y="3782880"/>
                <a:ext cx="296640" cy="311400"/>
              </a:xfrm>
              <a:custGeom>
                <a:avLst/>
                <a:gdLst/>
                <a:ahLst/>
                <a:rect l="l" t="t" r="r" b="b"/>
                <a:pathLst>
                  <a:path w="1121" h="1180">
                    <a:moveTo>
                      <a:pt x="1121" y="590"/>
                    </a:moveTo>
                    <a:lnTo>
                      <a:pt x="1121" y="578"/>
                    </a:lnTo>
                    <a:lnTo>
                      <a:pt x="1120" y="567"/>
                    </a:lnTo>
                    <a:lnTo>
                      <a:pt x="1120" y="555"/>
                    </a:lnTo>
                    <a:lnTo>
                      <a:pt x="1119" y="544"/>
                    </a:lnTo>
                    <a:lnTo>
                      <a:pt x="1118" y="532"/>
                    </a:lnTo>
                    <a:lnTo>
                      <a:pt x="1116" y="521"/>
                    </a:lnTo>
                    <a:lnTo>
                      <a:pt x="1115" y="509"/>
                    </a:lnTo>
                    <a:lnTo>
                      <a:pt x="1114" y="498"/>
                    </a:lnTo>
                    <a:lnTo>
                      <a:pt x="1093" y="469"/>
                    </a:lnTo>
                    <a:lnTo>
                      <a:pt x="1081" y="449"/>
                    </a:lnTo>
                    <a:lnTo>
                      <a:pt x="1084" y="467"/>
                    </a:lnTo>
                    <a:lnTo>
                      <a:pt x="1089" y="484"/>
                    </a:lnTo>
                    <a:lnTo>
                      <a:pt x="1091" y="501"/>
                    </a:lnTo>
                    <a:lnTo>
                      <a:pt x="1093" y="519"/>
                    </a:lnTo>
                    <a:lnTo>
                      <a:pt x="1096" y="536"/>
                    </a:lnTo>
                    <a:lnTo>
                      <a:pt x="1097" y="553"/>
                    </a:lnTo>
                    <a:lnTo>
                      <a:pt x="1098" y="572"/>
                    </a:lnTo>
                    <a:lnTo>
                      <a:pt x="1098" y="590"/>
                    </a:lnTo>
                    <a:lnTo>
                      <a:pt x="1097" y="619"/>
                    </a:lnTo>
                    <a:lnTo>
                      <a:pt x="1096" y="648"/>
                    </a:lnTo>
                    <a:lnTo>
                      <a:pt x="1091" y="676"/>
                    </a:lnTo>
                    <a:lnTo>
                      <a:pt x="1086" y="704"/>
                    </a:lnTo>
                    <a:lnTo>
                      <a:pt x="1081" y="732"/>
                    </a:lnTo>
                    <a:lnTo>
                      <a:pt x="1073" y="758"/>
                    </a:lnTo>
                    <a:lnTo>
                      <a:pt x="1063" y="785"/>
                    </a:lnTo>
                    <a:lnTo>
                      <a:pt x="1053" y="810"/>
                    </a:lnTo>
                    <a:lnTo>
                      <a:pt x="1041" y="836"/>
                    </a:lnTo>
                    <a:lnTo>
                      <a:pt x="1030" y="861"/>
                    </a:lnTo>
                    <a:lnTo>
                      <a:pt x="1016" y="884"/>
                    </a:lnTo>
                    <a:lnTo>
                      <a:pt x="1001" y="907"/>
                    </a:lnTo>
                    <a:lnTo>
                      <a:pt x="985" y="929"/>
                    </a:lnTo>
                    <a:lnTo>
                      <a:pt x="969" y="951"/>
                    </a:lnTo>
                    <a:lnTo>
                      <a:pt x="950" y="972"/>
                    </a:lnTo>
                    <a:lnTo>
                      <a:pt x="932" y="991"/>
                    </a:lnTo>
                    <a:lnTo>
                      <a:pt x="912" y="1010"/>
                    </a:lnTo>
                    <a:lnTo>
                      <a:pt x="891" y="1028"/>
                    </a:lnTo>
                    <a:lnTo>
                      <a:pt x="870" y="1044"/>
                    </a:lnTo>
                    <a:lnTo>
                      <a:pt x="848" y="1060"/>
                    </a:lnTo>
                    <a:lnTo>
                      <a:pt x="825" y="1075"/>
                    </a:lnTo>
                    <a:lnTo>
                      <a:pt x="800" y="1089"/>
                    </a:lnTo>
                    <a:lnTo>
                      <a:pt x="776" y="1102"/>
                    </a:lnTo>
                    <a:lnTo>
                      <a:pt x="751" y="1112"/>
                    </a:lnTo>
                    <a:lnTo>
                      <a:pt x="725" y="1123"/>
                    </a:lnTo>
                    <a:lnTo>
                      <a:pt x="699" y="1132"/>
                    </a:lnTo>
                    <a:lnTo>
                      <a:pt x="672" y="1140"/>
                    </a:lnTo>
                    <a:lnTo>
                      <a:pt x="645" y="1146"/>
                    </a:lnTo>
                    <a:lnTo>
                      <a:pt x="617" y="1151"/>
                    </a:lnTo>
                    <a:lnTo>
                      <a:pt x="588" y="1155"/>
                    </a:lnTo>
                    <a:lnTo>
                      <a:pt x="559" y="1157"/>
                    </a:lnTo>
                    <a:lnTo>
                      <a:pt x="530" y="1157"/>
                    </a:lnTo>
                    <a:lnTo>
                      <a:pt x="512" y="1157"/>
                    </a:lnTo>
                    <a:lnTo>
                      <a:pt x="495" y="1156"/>
                    </a:lnTo>
                    <a:lnTo>
                      <a:pt x="477" y="1155"/>
                    </a:lnTo>
                    <a:lnTo>
                      <a:pt x="460" y="1153"/>
                    </a:lnTo>
                    <a:lnTo>
                      <a:pt x="443" y="1150"/>
                    </a:lnTo>
                    <a:lnTo>
                      <a:pt x="425" y="1148"/>
                    </a:lnTo>
                    <a:lnTo>
                      <a:pt x="408" y="1144"/>
                    </a:lnTo>
                    <a:lnTo>
                      <a:pt x="392" y="1140"/>
                    </a:lnTo>
                    <a:lnTo>
                      <a:pt x="402" y="1156"/>
                    </a:lnTo>
                    <a:lnTo>
                      <a:pt x="409" y="1168"/>
                    </a:lnTo>
                    <a:lnTo>
                      <a:pt x="424" y="1171"/>
                    </a:lnTo>
                    <a:lnTo>
                      <a:pt x="439" y="1173"/>
                    </a:lnTo>
                    <a:lnTo>
                      <a:pt x="454" y="1176"/>
                    </a:lnTo>
                    <a:lnTo>
                      <a:pt x="469" y="1177"/>
                    </a:lnTo>
                    <a:lnTo>
                      <a:pt x="484" y="1178"/>
                    </a:lnTo>
                    <a:lnTo>
                      <a:pt x="499" y="1179"/>
                    </a:lnTo>
                    <a:lnTo>
                      <a:pt x="514" y="1180"/>
                    </a:lnTo>
                    <a:lnTo>
                      <a:pt x="530" y="1180"/>
                    </a:lnTo>
                    <a:lnTo>
                      <a:pt x="560" y="1179"/>
                    </a:lnTo>
                    <a:lnTo>
                      <a:pt x="590" y="1177"/>
                    </a:lnTo>
                    <a:lnTo>
                      <a:pt x="620" y="1173"/>
                    </a:lnTo>
                    <a:lnTo>
                      <a:pt x="649" y="1168"/>
                    </a:lnTo>
                    <a:lnTo>
                      <a:pt x="678" y="1162"/>
                    </a:lnTo>
                    <a:lnTo>
                      <a:pt x="706" y="1154"/>
                    </a:lnTo>
                    <a:lnTo>
                      <a:pt x="733" y="1144"/>
                    </a:lnTo>
                    <a:lnTo>
                      <a:pt x="760" y="1134"/>
                    </a:lnTo>
                    <a:lnTo>
                      <a:pt x="787" y="1121"/>
                    </a:lnTo>
                    <a:lnTo>
                      <a:pt x="812" y="1109"/>
                    </a:lnTo>
                    <a:lnTo>
                      <a:pt x="836" y="1095"/>
                    </a:lnTo>
                    <a:lnTo>
                      <a:pt x="860" y="1079"/>
                    </a:lnTo>
                    <a:lnTo>
                      <a:pt x="883" y="1063"/>
                    </a:lnTo>
                    <a:lnTo>
                      <a:pt x="905" y="1045"/>
                    </a:lnTo>
                    <a:lnTo>
                      <a:pt x="927" y="1027"/>
                    </a:lnTo>
                    <a:lnTo>
                      <a:pt x="948" y="1007"/>
                    </a:lnTo>
                    <a:lnTo>
                      <a:pt x="968" y="987"/>
                    </a:lnTo>
                    <a:lnTo>
                      <a:pt x="986" y="966"/>
                    </a:lnTo>
                    <a:lnTo>
                      <a:pt x="1003" y="943"/>
                    </a:lnTo>
                    <a:lnTo>
                      <a:pt x="1020" y="920"/>
                    </a:lnTo>
                    <a:lnTo>
                      <a:pt x="1036" y="895"/>
                    </a:lnTo>
                    <a:lnTo>
                      <a:pt x="1049" y="871"/>
                    </a:lnTo>
                    <a:lnTo>
                      <a:pt x="1062" y="846"/>
                    </a:lnTo>
                    <a:lnTo>
                      <a:pt x="1075" y="819"/>
                    </a:lnTo>
                    <a:lnTo>
                      <a:pt x="1085" y="793"/>
                    </a:lnTo>
                    <a:lnTo>
                      <a:pt x="1094" y="765"/>
                    </a:lnTo>
                    <a:lnTo>
                      <a:pt x="1103" y="738"/>
                    </a:lnTo>
                    <a:lnTo>
                      <a:pt x="1108" y="709"/>
                    </a:lnTo>
                    <a:lnTo>
                      <a:pt x="1114" y="680"/>
                    </a:lnTo>
                    <a:lnTo>
                      <a:pt x="1118" y="650"/>
                    </a:lnTo>
                    <a:lnTo>
                      <a:pt x="1120" y="620"/>
                    </a:lnTo>
                    <a:lnTo>
                      <a:pt x="1121" y="590"/>
                    </a:lnTo>
                    <a:close/>
                    <a:moveTo>
                      <a:pt x="906" y="135"/>
                    </a:moveTo>
                    <a:lnTo>
                      <a:pt x="887" y="120"/>
                    </a:lnTo>
                    <a:lnTo>
                      <a:pt x="866" y="105"/>
                    </a:lnTo>
                    <a:lnTo>
                      <a:pt x="845" y="91"/>
                    </a:lnTo>
                    <a:lnTo>
                      <a:pt x="825" y="78"/>
                    </a:lnTo>
                    <a:lnTo>
                      <a:pt x="803" y="66"/>
                    </a:lnTo>
                    <a:lnTo>
                      <a:pt x="780" y="55"/>
                    </a:lnTo>
                    <a:lnTo>
                      <a:pt x="757" y="45"/>
                    </a:lnTo>
                    <a:lnTo>
                      <a:pt x="733" y="36"/>
                    </a:lnTo>
                    <a:lnTo>
                      <a:pt x="709" y="27"/>
                    </a:lnTo>
                    <a:lnTo>
                      <a:pt x="685" y="21"/>
                    </a:lnTo>
                    <a:lnTo>
                      <a:pt x="660" y="14"/>
                    </a:lnTo>
                    <a:lnTo>
                      <a:pt x="634" y="9"/>
                    </a:lnTo>
                    <a:lnTo>
                      <a:pt x="609" y="4"/>
                    </a:lnTo>
                    <a:lnTo>
                      <a:pt x="584" y="2"/>
                    </a:lnTo>
                    <a:lnTo>
                      <a:pt x="557" y="0"/>
                    </a:lnTo>
                    <a:lnTo>
                      <a:pt x="530" y="0"/>
                    </a:lnTo>
                    <a:lnTo>
                      <a:pt x="509" y="0"/>
                    </a:lnTo>
                    <a:lnTo>
                      <a:pt x="487" y="1"/>
                    </a:lnTo>
                    <a:lnTo>
                      <a:pt x="466" y="3"/>
                    </a:lnTo>
                    <a:lnTo>
                      <a:pt x="444" y="6"/>
                    </a:lnTo>
                    <a:lnTo>
                      <a:pt x="423" y="9"/>
                    </a:lnTo>
                    <a:lnTo>
                      <a:pt x="402" y="14"/>
                    </a:lnTo>
                    <a:lnTo>
                      <a:pt x="383" y="18"/>
                    </a:lnTo>
                    <a:lnTo>
                      <a:pt x="362" y="24"/>
                    </a:lnTo>
                    <a:lnTo>
                      <a:pt x="342" y="30"/>
                    </a:lnTo>
                    <a:lnTo>
                      <a:pt x="323" y="37"/>
                    </a:lnTo>
                    <a:lnTo>
                      <a:pt x="304" y="45"/>
                    </a:lnTo>
                    <a:lnTo>
                      <a:pt x="285" y="53"/>
                    </a:lnTo>
                    <a:lnTo>
                      <a:pt x="266" y="62"/>
                    </a:lnTo>
                    <a:lnTo>
                      <a:pt x="249" y="71"/>
                    </a:lnTo>
                    <a:lnTo>
                      <a:pt x="231" y="80"/>
                    </a:lnTo>
                    <a:lnTo>
                      <a:pt x="213" y="92"/>
                    </a:lnTo>
                    <a:lnTo>
                      <a:pt x="197" y="102"/>
                    </a:lnTo>
                    <a:lnTo>
                      <a:pt x="180" y="115"/>
                    </a:lnTo>
                    <a:lnTo>
                      <a:pt x="164" y="127"/>
                    </a:lnTo>
                    <a:lnTo>
                      <a:pt x="149" y="140"/>
                    </a:lnTo>
                    <a:lnTo>
                      <a:pt x="133" y="153"/>
                    </a:lnTo>
                    <a:lnTo>
                      <a:pt x="119" y="167"/>
                    </a:lnTo>
                    <a:lnTo>
                      <a:pt x="104" y="182"/>
                    </a:lnTo>
                    <a:lnTo>
                      <a:pt x="90" y="197"/>
                    </a:lnTo>
                    <a:lnTo>
                      <a:pt x="77" y="212"/>
                    </a:lnTo>
                    <a:lnTo>
                      <a:pt x="64" y="227"/>
                    </a:lnTo>
                    <a:lnTo>
                      <a:pt x="52" y="244"/>
                    </a:lnTo>
                    <a:lnTo>
                      <a:pt x="40" y="260"/>
                    </a:lnTo>
                    <a:lnTo>
                      <a:pt x="30" y="278"/>
                    </a:lnTo>
                    <a:lnTo>
                      <a:pt x="19" y="295"/>
                    </a:lnTo>
                    <a:lnTo>
                      <a:pt x="9" y="312"/>
                    </a:lnTo>
                    <a:lnTo>
                      <a:pt x="0" y="331"/>
                    </a:lnTo>
                    <a:lnTo>
                      <a:pt x="10" y="363"/>
                    </a:lnTo>
                    <a:lnTo>
                      <a:pt x="18" y="343"/>
                    </a:lnTo>
                    <a:lnTo>
                      <a:pt x="28" y="326"/>
                    </a:lnTo>
                    <a:lnTo>
                      <a:pt x="38" y="308"/>
                    </a:lnTo>
                    <a:lnTo>
                      <a:pt x="48" y="290"/>
                    </a:lnTo>
                    <a:lnTo>
                      <a:pt x="59" y="273"/>
                    </a:lnTo>
                    <a:lnTo>
                      <a:pt x="70" y="257"/>
                    </a:lnTo>
                    <a:lnTo>
                      <a:pt x="83" y="241"/>
                    </a:lnTo>
                    <a:lnTo>
                      <a:pt x="96" y="225"/>
                    </a:lnTo>
                    <a:lnTo>
                      <a:pt x="108" y="210"/>
                    </a:lnTo>
                    <a:lnTo>
                      <a:pt x="122" y="195"/>
                    </a:lnTo>
                    <a:lnTo>
                      <a:pt x="137" y="181"/>
                    </a:lnTo>
                    <a:lnTo>
                      <a:pt x="152" y="167"/>
                    </a:lnTo>
                    <a:lnTo>
                      <a:pt x="167" y="154"/>
                    </a:lnTo>
                    <a:lnTo>
                      <a:pt x="183" y="142"/>
                    </a:lnTo>
                    <a:lnTo>
                      <a:pt x="199" y="129"/>
                    </a:lnTo>
                    <a:lnTo>
                      <a:pt x="216" y="117"/>
                    </a:lnTo>
                    <a:lnTo>
                      <a:pt x="233" y="106"/>
                    </a:lnTo>
                    <a:lnTo>
                      <a:pt x="250" y="95"/>
                    </a:lnTo>
                    <a:lnTo>
                      <a:pt x="269" y="86"/>
                    </a:lnTo>
                    <a:lnTo>
                      <a:pt x="286" y="77"/>
                    </a:lnTo>
                    <a:lnTo>
                      <a:pt x="306" y="69"/>
                    </a:lnTo>
                    <a:lnTo>
                      <a:pt x="324" y="61"/>
                    </a:lnTo>
                    <a:lnTo>
                      <a:pt x="344" y="54"/>
                    </a:lnTo>
                    <a:lnTo>
                      <a:pt x="363" y="47"/>
                    </a:lnTo>
                    <a:lnTo>
                      <a:pt x="383" y="41"/>
                    </a:lnTo>
                    <a:lnTo>
                      <a:pt x="404" y="37"/>
                    </a:lnTo>
                    <a:lnTo>
                      <a:pt x="423" y="32"/>
                    </a:lnTo>
                    <a:lnTo>
                      <a:pt x="445" y="29"/>
                    </a:lnTo>
                    <a:lnTo>
                      <a:pt x="466" y="26"/>
                    </a:lnTo>
                    <a:lnTo>
                      <a:pt x="487" y="24"/>
                    </a:lnTo>
                    <a:lnTo>
                      <a:pt x="509" y="23"/>
                    </a:lnTo>
                    <a:lnTo>
                      <a:pt x="530" y="22"/>
                    </a:lnTo>
                    <a:lnTo>
                      <a:pt x="558" y="23"/>
                    </a:lnTo>
                    <a:lnTo>
                      <a:pt x="586" y="25"/>
                    </a:lnTo>
                    <a:lnTo>
                      <a:pt x="614" y="29"/>
                    </a:lnTo>
                    <a:lnTo>
                      <a:pt x="640" y="33"/>
                    </a:lnTo>
                    <a:lnTo>
                      <a:pt x="667" y="39"/>
                    </a:lnTo>
                    <a:lnTo>
                      <a:pt x="692" y="46"/>
                    </a:lnTo>
                    <a:lnTo>
                      <a:pt x="718" y="54"/>
                    </a:lnTo>
                    <a:lnTo>
                      <a:pt x="743" y="63"/>
                    </a:lnTo>
                    <a:lnTo>
                      <a:pt x="767" y="74"/>
                    </a:lnTo>
                    <a:lnTo>
                      <a:pt x="791" y="85"/>
                    </a:lnTo>
                    <a:lnTo>
                      <a:pt x="814" y="98"/>
                    </a:lnTo>
                    <a:lnTo>
                      <a:pt x="836" y="112"/>
                    </a:lnTo>
                    <a:lnTo>
                      <a:pt x="858" y="127"/>
                    </a:lnTo>
                    <a:lnTo>
                      <a:pt x="880" y="143"/>
                    </a:lnTo>
                    <a:lnTo>
                      <a:pt x="900" y="159"/>
                    </a:lnTo>
                    <a:lnTo>
                      <a:pt x="919" y="176"/>
                    </a:lnTo>
                    <a:lnTo>
                      <a:pt x="906" y="13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3786120"/>
                <a:ext cx="292320" cy="304920"/>
              </a:xfrm>
              <a:custGeom>
                <a:avLst/>
                <a:gdLst/>
                <a:ahLst/>
                <a:rect l="l" t="t" r="r" b="b"/>
                <a:pathLst>
                  <a:path w="1104" h="1158">
                    <a:moveTo>
                      <a:pt x="1104" y="579"/>
                    </a:moveTo>
                    <a:lnTo>
                      <a:pt x="1104" y="564"/>
                    </a:lnTo>
                    <a:lnTo>
                      <a:pt x="1103" y="549"/>
                    </a:lnTo>
                    <a:lnTo>
                      <a:pt x="1103" y="535"/>
                    </a:lnTo>
                    <a:lnTo>
                      <a:pt x="1101" y="520"/>
                    </a:lnTo>
                    <a:lnTo>
                      <a:pt x="1100" y="506"/>
                    </a:lnTo>
                    <a:lnTo>
                      <a:pt x="1098" y="493"/>
                    </a:lnTo>
                    <a:lnTo>
                      <a:pt x="1095" y="478"/>
                    </a:lnTo>
                    <a:lnTo>
                      <a:pt x="1093" y="464"/>
                    </a:lnTo>
                    <a:lnTo>
                      <a:pt x="1088" y="458"/>
                    </a:lnTo>
                    <a:lnTo>
                      <a:pt x="1055" y="407"/>
                    </a:lnTo>
                    <a:lnTo>
                      <a:pt x="1061" y="428"/>
                    </a:lnTo>
                    <a:lnTo>
                      <a:pt x="1066" y="449"/>
                    </a:lnTo>
                    <a:lnTo>
                      <a:pt x="1071" y="469"/>
                    </a:lnTo>
                    <a:lnTo>
                      <a:pt x="1074" y="491"/>
                    </a:lnTo>
                    <a:lnTo>
                      <a:pt x="1078" y="512"/>
                    </a:lnTo>
                    <a:lnTo>
                      <a:pt x="1080" y="534"/>
                    </a:lnTo>
                    <a:lnTo>
                      <a:pt x="1081" y="556"/>
                    </a:lnTo>
                    <a:lnTo>
                      <a:pt x="1081" y="579"/>
                    </a:lnTo>
                    <a:lnTo>
                      <a:pt x="1081" y="608"/>
                    </a:lnTo>
                    <a:lnTo>
                      <a:pt x="1079" y="635"/>
                    </a:lnTo>
                    <a:lnTo>
                      <a:pt x="1076" y="663"/>
                    </a:lnTo>
                    <a:lnTo>
                      <a:pt x="1070" y="691"/>
                    </a:lnTo>
                    <a:lnTo>
                      <a:pt x="1064" y="717"/>
                    </a:lnTo>
                    <a:lnTo>
                      <a:pt x="1057" y="744"/>
                    </a:lnTo>
                    <a:lnTo>
                      <a:pt x="1048" y="770"/>
                    </a:lnTo>
                    <a:lnTo>
                      <a:pt x="1038" y="796"/>
                    </a:lnTo>
                    <a:lnTo>
                      <a:pt x="1027" y="820"/>
                    </a:lnTo>
                    <a:lnTo>
                      <a:pt x="1015" y="844"/>
                    </a:lnTo>
                    <a:lnTo>
                      <a:pt x="1001" y="867"/>
                    </a:lnTo>
                    <a:lnTo>
                      <a:pt x="987" y="890"/>
                    </a:lnTo>
                    <a:lnTo>
                      <a:pt x="971" y="912"/>
                    </a:lnTo>
                    <a:lnTo>
                      <a:pt x="955" y="933"/>
                    </a:lnTo>
                    <a:lnTo>
                      <a:pt x="937" y="953"/>
                    </a:lnTo>
                    <a:lnTo>
                      <a:pt x="919" y="972"/>
                    </a:lnTo>
                    <a:lnTo>
                      <a:pt x="899" y="991"/>
                    </a:lnTo>
                    <a:lnTo>
                      <a:pt x="880" y="1008"/>
                    </a:lnTo>
                    <a:lnTo>
                      <a:pt x="858" y="1025"/>
                    </a:lnTo>
                    <a:lnTo>
                      <a:pt x="836" y="1040"/>
                    </a:lnTo>
                    <a:lnTo>
                      <a:pt x="814" y="1055"/>
                    </a:lnTo>
                    <a:lnTo>
                      <a:pt x="791" y="1068"/>
                    </a:lnTo>
                    <a:lnTo>
                      <a:pt x="767" y="1080"/>
                    </a:lnTo>
                    <a:lnTo>
                      <a:pt x="742" y="1091"/>
                    </a:lnTo>
                    <a:lnTo>
                      <a:pt x="717" y="1101"/>
                    </a:lnTo>
                    <a:lnTo>
                      <a:pt x="690" y="1110"/>
                    </a:lnTo>
                    <a:lnTo>
                      <a:pt x="664" y="1117"/>
                    </a:lnTo>
                    <a:lnTo>
                      <a:pt x="637" y="1124"/>
                    </a:lnTo>
                    <a:lnTo>
                      <a:pt x="610" y="1129"/>
                    </a:lnTo>
                    <a:lnTo>
                      <a:pt x="582" y="1132"/>
                    </a:lnTo>
                    <a:lnTo>
                      <a:pt x="554" y="1135"/>
                    </a:lnTo>
                    <a:lnTo>
                      <a:pt x="525" y="1135"/>
                    </a:lnTo>
                    <a:lnTo>
                      <a:pt x="506" y="1135"/>
                    </a:lnTo>
                    <a:lnTo>
                      <a:pt x="487" y="1133"/>
                    </a:lnTo>
                    <a:lnTo>
                      <a:pt x="469" y="1132"/>
                    </a:lnTo>
                    <a:lnTo>
                      <a:pt x="449" y="1130"/>
                    </a:lnTo>
                    <a:lnTo>
                      <a:pt x="431" y="1128"/>
                    </a:lnTo>
                    <a:lnTo>
                      <a:pt x="414" y="1124"/>
                    </a:lnTo>
                    <a:lnTo>
                      <a:pt x="395" y="1120"/>
                    </a:lnTo>
                    <a:lnTo>
                      <a:pt x="378" y="1115"/>
                    </a:lnTo>
                    <a:lnTo>
                      <a:pt x="396" y="1143"/>
                    </a:lnTo>
                    <a:lnTo>
                      <a:pt x="411" y="1146"/>
                    </a:lnTo>
                    <a:lnTo>
                      <a:pt x="427" y="1150"/>
                    </a:lnTo>
                    <a:lnTo>
                      <a:pt x="444" y="1152"/>
                    </a:lnTo>
                    <a:lnTo>
                      <a:pt x="460" y="1154"/>
                    </a:lnTo>
                    <a:lnTo>
                      <a:pt x="476" y="1155"/>
                    </a:lnTo>
                    <a:lnTo>
                      <a:pt x="492" y="1157"/>
                    </a:lnTo>
                    <a:lnTo>
                      <a:pt x="508" y="1158"/>
                    </a:lnTo>
                    <a:lnTo>
                      <a:pt x="525" y="1158"/>
                    </a:lnTo>
                    <a:lnTo>
                      <a:pt x="555" y="1157"/>
                    </a:lnTo>
                    <a:lnTo>
                      <a:pt x="584" y="1154"/>
                    </a:lnTo>
                    <a:lnTo>
                      <a:pt x="613" y="1151"/>
                    </a:lnTo>
                    <a:lnTo>
                      <a:pt x="642" y="1146"/>
                    </a:lnTo>
                    <a:lnTo>
                      <a:pt x="670" y="1139"/>
                    </a:lnTo>
                    <a:lnTo>
                      <a:pt x="697" y="1132"/>
                    </a:lnTo>
                    <a:lnTo>
                      <a:pt x="724" y="1123"/>
                    </a:lnTo>
                    <a:lnTo>
                      <a:pt x="750" y="1113"/>
                    </a:lnTo>
                    <a:lnTo>
                      <a:pt x="776" y="1101"/>
                    </a:lnTo>
                    <a:lnTo>
                      <a:pt x="801" y="1087"/>
                    </a:lnTo>
                    <a:lnTo>
                      <a:pt x="825" y="1074"/>
                    </a:lnTo>
                    <a:lnTo>
                      <a:pt x="850" y="1059"/>
                    </a:lnTo>
                    <a:lnTo>
                      <a:pt x="871" y="1042"/>
                    </a:lnTo>
                    <a:lnTo>
                      <a:pt x="893" y="1025"/>
                    </a:lnTo>
                    <a:lnTo>
                      <a:pt x="914" y="1008"/>
                    </a:lnTo>
                    <a:lnTo>
                      <a:pt x="935" y="988"/>
                    </a:lnTo>
                    <a:lnTo>
                      <a:pt x="953" y="969"/>
                    </a:lnTo>
                    <a:lnTo>
                      <a:pt x="972" y="947"/>
                    </a:lnTo>
                    <a:lnTo>
                      <a:pt x="989" y="925"/>
                    </a:lnTo>
                    <a:lnTo>
                      <a:pt x="1005" y="903"/>
                    </a:lnTo>
                    <a:lnTo>
                      <a:pt x="1020" y="879"/>
                    </a:lnTo>
                    <a:lnTo>
                      <a:pt x="1034" y="855"/>
                    </a:lnTo>
                    <a:lnTo>
                      <a:pt x="1047" y="830"/>
                    </a:lnTo>
                    <a:lnTo>
                      <a:pt x="1059" y="804"/>
                    </a:lnTo>
                    <a:lnTo>
                      <a:pt x="1069" y="778"/>
                    </a:lnTo>
                    <a:lnTo>
                      <a:pt x="1078" y="751"/>
                    </a:lnTo>
                    <a:lnTo>
                      <a:pt x="1086" y="723"/>
                    </a:lnTo>
                    <a:lnTo>
                      <a:pt x="1093" y="695"/>
                    </a:lnTo>
                    <a:lnTo>
                      <a:pt x="1098" y="667"/>
                    </a:lnTo>
                    <a:lnTo>
                      <a:pt x="1101" y="638"/>
                    </a:lnTo>
                    <a:lnTo>
                      <a:pt x="1103" y="609"/>
                    </a:lnTo>
                    <a:lnTo>
                      <a:pt x="1104" y="579"/>
                    </a:lnTo>
                    <a:close/>
                    <a:moveTo>
                      <a:pt x="907" y="143"/>
                    </a:moveTo>
                    <a:lnTo>
                      <a:pt x="888" y="127"/>
                    </a:lnTo>
                    <a:lnTo>
                      <a:pt x="868" y="112"/>
                    </a:lnTo>
                    <a:lnTo>
                      <a:pt x="846" y="97"/>
                    </a:lnTo>
                    <a:lnTo>
                      <a:pt x="825" y="83"/>
                    </a:lnTo>
                    <a:lnTo>
                      <a:pt x="803" y="71"/>
                    </a:lnTo>
                    <a:lnTo>
                      <a:pt x="780" y="59"/>
                    </a:lnTo>
                    <a:lnTo>
                      <a:pt x="757" y="49"/>
                    </a:lnTo>
                    <a:lnTo>
                      <a:pt x="733" y="38"/>
                    </a:lnTo>
                    <a:lnTo>
                      <a:pt x="709" y="29"/>
                    </a:lnTo>
                    <a:lnTo>
                      <a:pt x="683" y="22"/>
                    </a:lnTo>
                    <a:lnTo>
                      <a:pt x="658" y="15"/>
                    </a:lnTo>
                    <a:lnTo>
                      <a:pt x="633" y="10"/>
                    </a:lnTo>
                    <a:lnTo>
                      <a:pt x="606" y="6"/>
                    </a:lnTo>
                    <a:lnTo>
                      <a:pt x="580" y="3"/>
                    </a:lnTo>
                    <a:lnTo>
                      <a:pt x="552" y="0"/>
                    </a:lnTo>
                    <a:lnTo>
                      <a:pt x="525" y="0"/>
                    </a:lnTo>
                    <a:lnTo>
                      <a:pt x="504" y="0"/>
                    </a:lnTo>
                    <a:lnTo>
                      <a:pt x="482" y="1"/>
                    </a:lnTo>
                    <a:lnTo>
                      <a:pt x="461" y="4"/>
                    </a:lnTo>
                    <a:lnTo>
                      <a:pt x="440" y="6"/>
                    </a:lnTo>
                    <a:lnTo>
                      <a:pt x="418" y="10"/>
                    </a:lnTo>
                    <a:lnTo>
                      <a:pt x="399" y="14"/>
                    </a:lnTo>
                    <a:lnTo>
                      <a:pt x="378" y="19"/>
                    </a:lnTo>
                    <a:lnTo>
                      <a:pt x="358" y="25"/>
                    </a:lnTo>
                    <a:lnTo>
                      <a:pt x="337" y="31"/>
                    </a:lnTo>
                    <a:lnTo>
                      <a:pt x="319" y="38"/>
                    </a:lnTo>
                    <a:lnTo>
                      <a:pt x="299" y="45"/>
                    </a:lnTo>
                    <a:lnTo>
                      <a:pt x="281" y="53"/>
                    </a:lnTo>
                    <a:lnTo>
                      <a:pt x="262" y="63"/>
                    </a:lnTo>
                    <a:lnTo>
                      <a:pt x="244" y="73"/>
                    </a:lnTo>
                    <a:lnTo>
                      <a:pt x="227" y="82"/>
                    </a:lnTo>
                    <a:lnTo>
                      <a:pt x="209" y="94"/>
                    </a:lnTo>
                    <a:lnTo>
                      <a:pt x="193" y="105"/>
                    </a:lnTo>
                    <a:lnTo>
                      <a:pt x="176" y="117"/>
                    </a:lnTo>
                    <a:lnTo>
                      <a:pt x="161" y="129"/>
                    </a:lnTo>
                    <a:lnTo>
                      <a:pt x="145" y="142"/>
                    </a:lnTo>
                    <a:lnTo>
                      <a:pt x="130" y="156"/>
                    </a:lnTo>
                    <a:lnTo>
                      <a:pt x="116" y="170"/>
                    </a:lnTo>
                    <a:lnTo>
                      <a:pt x="101" y="185"/>
                    </a:lnTo>
                    <a:lnTo>
                      <a:pt x="88" y="200"/>
                    </a:lnTo>
                    <a:lnTo>
                      <a:pt x="74" y="215"/>
                    </a:lnTo>
                    <a:lnTo>
                      <a:pt x="63" y="231"/>
                    </a:lnTo>
                    <a:lnTo>
                      <a:pt x="50" y="247"/>
                    </a:lnTo>
                    <a:lnTo>
                      <a:pt x="39" y="264"/>
                    </a:lnTo>
                    <a:lnTo>
                      <a:pt x="28" y="282"/>
                    </a:lnTo>
                    <a:lnTo>
                      <a:pt x="18" y="299"/>
                    </a:lnTo>
                    <a:lnTo>
                      <a:pt x="9" y="317"/>
                    </a:lnTo>
                    <a:lnTo>
                      <a:pt x="0" y="336"/>
                    </a:lnTo>
                    <a:lnTo>
                      <a:pt x="10" y="368"/>
                    </a:lnTo>
                    <a:lnTo>
                      <a:pt x="18" y="350"/>
                    </a:lnTo>
                    <a:lnTo>
                      <a:pt x="27" y="331"/>
                    </a:lnTo>
                    <a:lnTo>
                      <a:pt x="36" y="313"/>
                    </a:lnTo>
                    <a:lnTo>
                      <a:pt x="47" y="295"/>
                    </a:lnTo>
                    <a:lnTo>
                      <a:pt x="57" y="278"/>
                    </a:lnTo>
                    <a:lnTo>
                      <a:pt x="69" y="261"/>
                    </a:lnTo>
                    <a:lnTo>
                      <a:pt x="80" y="245"/>
                    </a:lnTo>
                    <a:lnTo>
                      <a:pt x="93" y="229"/>
                    </a:lnTo>
                    <a:lnTo>
                      <a:pt x="106" y="214"/>
                    </a:lnTo>
                    <a:lnTo>
                      <a:pt x="119" y="199"/>
                    </a:lnTo>
                    <a:lnTo>
                      <a:pt x="133" y="184"/>
                    </a:lnTo>
                    <a:lnTo>
                      <a:pt x="148" y="170"/>
                    </a:lnTo>
                    <a:lnTo>
                      <a:pt x="163" y="156"/>
                    </a:lnTo>
                    <a:lnTo>
                      <a:pt x="179" y="143"/>
                    </a:lnTo>
                    <a:lnTo>
                      <a:pt x="196" y="131"/>
                    </a:lnTo>
                    <a:lnTo>
                      <a:pt x="212" y="119"/>
                    </a:lnTo>
                    <a:lnTo>
                      <a:pt x="229" y="109"/>
                    </a:lnTo>
                    <a:lnTo>
                      <a:pt x="246" y="98"/>
                    </a:lnTo>
                    <a:lnTo>
                      <a:pt x="264" y="88"/>
                    </a:lnTo>
                    <a:lnTo>
                      <a:pt x="282" y="79"/>
                    </a:lnTo>
                    <a:lnTo>
                      <a:pt x="301" y="69"/>
                    </a:lnTo>
                    <a:lnTo>
                      <a:pt x="319" y="63"/>
                    </a:lnTo>
                    <a:lnTo>
                      <a:pt x="339" y="55"/>
                    </a:lnTo>
                    <a:lnTo>
                      <a:pt x="358" y="48"/>
                    </a:lnTo>
                    <a:lnTo>
                      <a:pt x="378" y="42"/>
                    </a:lnTo>
                    <a:lnTo>
                      <a:pt x="399" y="37"/>
                    </a:lnTo>
                    <a:lnTo>
                      <a:pt x="419" y="33"/>
                    </a:lnTo>
                    <a:lnTo>
                      <a:pt x="440" y="29"/>
                    </a:lnTo>
                    <a:lnTo>
                      <a:pt x="461" y="27"/>
                    </a:lnTo>
                    <a:lnTo>
                      <a:pt x="482" y="25"/>
                    </a:lnTo>
                    <a:lnTo>
                      <a:pt x="504" y="23"/>
                    </a:lnTo>
                    <a:lnTo>
                      <a:pt x="525" y="22"/>
                    </a:lnTo>
                    <a:lnTo>
                      <a:pt x="554" y="23"/>
                    </a:lnTo>
                    <a:lnTo>
                      <a:pt x="582" y="26"/>
                    </a:lnTo>
                    <a:lnTo>
                      <a:pt x="611" y="29"/>
                    </a:lnTo>
                    <a:lnTo>
                      <a:pt x="638" y="34"/>
                    </a:lnTo>
                    <a:lnTo>
                      <a:pt x="665" y="41"/>
                    </a:lnTo>
                    <a:lnTo>
                      <a:pt x="692" y="48"/>
                    </a:lnTo>
                    <a:lnTo>
                      <a:pt x="718" y="57"/>
                    </a:lnTo>
                    <a:lnTo>
                      <a:pt x="743" y="67"/>
                    </a:lnTo>
                    <a:lnTo>
                      <a:pt x="769" y="79"/>
                    </a:lnTo>
                    <a:lnTo>
                      <a:pt x="792" y="91"/>
                    </a:lnTo>
                    <a:lnTo>
                      <a:pt x="816" y="104"/>
                    </a:lnTo>
                    <a:lnTo>
                      <a:pt x="838" y="119"/>
                    </a:lnTo>
                    <a:lnTo>
                      <a:pt x="860" y="135"/>
                    </a:lnTo>
                    <a:lnTo>
                      <a:pt x="882" y="151"/>
                    </a:lnTo>
                    <a:lnTo>
                      <a:pt x="901" y="170"/>
                    </a:lnTo>
                    <a:lnTo>
                      <a:pt x="921" y="188"/>
                    </a:lnTo>
                    <a:lnTo>
                      <a:pt x="907" y="143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4840" y="3787920"/>
                <a:ext cx="287280" cy="301320"/>
              </a:xfrm>
              <a:custGeom>
                <a:avLst/>
                <a:gdLst/>
                <a:ahLst/>
                <a:rect l="l" t="t" r="r" b="b"/>
                <a:pathLst>
                  <a:path w="1088" h="1135">
                    <a:moveTo>
                      <a:pt x="1088" y="568"/>
                    </a:moveTo>
                    <a:lnTo>
                      <a:pt x="1088" y="550"/>
                    </a:lnTo>
                    <a:lnTo>
                      <a:pt x="1087" y="531"/>
                    </a:lnTo>
                    <a:lnTo>
                      <a:pt x="1086" y="514"/>
                    </a:lnTo>
                    <a:lnTo>
                      <a:pt x="1083" y="497"/>
                    </a:lnTo>
                    <a:lnTo>
                      <a:pt x="1081" y="479"/>
                    </a:lnTo>
                    <a:lnTo>
                      <a:pt x="1079" y="462"/>
                    </a:lnTo>
                    <a:lnTo>
                      <a:pt x="1074" y="445"/>
                    </a:lnTo>
                    <a:lnTo>
                      <a:pt x="1071" y="427"/>
                    </a:lnTo>
                    <a:lnTo>
                      <a:pt x="1023" y="357"/>
                    </a:lnTo>
                    <a:lnTo>
                      <a:pt x="1033" y="382"/>
                    </a:lnTo>
                    <a:lnTo>
                      <a:pt x="1042" y="407"/>
                    </a:lnTo>
                    <a:lnTo>
                      <a:pt x="1049" y="433"/>
                    </a:lnTo>
                    <a:lnTo>
                      <a:pt x="1054" y="458"/>
                    </a:lnTo>
                    <a:lnTo>
                      <a:pt x="1059" y="486"/>
                    </a:lnTo>
                    <a:lnTo>
                      <a:pt x="1063" y="513"/>
                    </a:lnTo>
                    <a:lnTo>
                      <a:pt x="1065" y="540"/>
                    </a:lnTo>
                    <a:lnTo>
                      <a:pt x="1065" y="568"/>
                    </a:lnTo>
                    <a:lnTo>
                      <a:pt x="1065" y="596"/>
                    </a:lnTo>
                    <a:lnTo>
                      <a:pt x="1063" y="623"/>
                    </a:lnTo>
                    <a:lnTo>
                      <a:pt x="1059" y="651"/>
                    </a:lnTo>
                    <a:lnTo>
                      <a:pt x="1054" y="678"/>
                    </a:lnTo>
                    <a:lnTo>
                      <a:pt x="1049" y="704"/>
                    </a:lnTo>
                    <a:lnTo>
                      <a:pt x="1041" y="729"/>
                    </a:lnTo>
                    <a:lnTo>
                      <a:pt x="1033" y="755"/>
                    </a:lnTo>
                    <a:lnTo>
                      <a:pt x="1022" y="780"/>
                    </a:lnTo>
                    <a:lnTo>
                      <a:pt x="1012" y="804"/>
                    </a:lnTo>
                    <a:lnTo>
                      <a:pt x="999" y="827"/>
                    </a:lnTo>
                    <a:lnTo>
                      <a:pt x="986" y="850"/>
                    </a:lnTo>
                    <a:lnTo>
                      <a:pt x="973" y="872"/>
                    </a:lnTo>
                    <a:lnTo>
                      <a:pt x="956" y="894"/>
                    </a:lnTo>
                    <a:lnTo>
                      <a:pt x="940" y="915"/>
                    </a:lnTo>
                    <a:lnTo>
                      <a:pt x="924" y="935"/>
                    </a:lnTo>
                    <a:lnTo>
                      <a:pt x="906" y="953"/>
                    </a:lnTo>
                    <a:lnTo>
                      <a:pt x="887" y="971"/>
                    </a:lnTo>
                    <a:lnTo>
                      <a:pt x="866" y="989"/>
                    </a:lnTo>
                    <a:lnTo>
                      <a:pt x="846" y="1005"/>
                    </a:lnTo>
                    <a:lnTo>
                      <a:pt x="825" y="1020"/>
                    </a:lnTo>
                    <a:lnTo>
                      <a:pt x="803" y="1034"/>
                    </a:lnTo>
                    <a:lnTo>
                      <a:pt x="780" y="1046"/>
                    </a:lnTo>
                    <a:lnTo>
                      <a:pt x="757" y="1059"/>
                    </a:lnTo>
                    <a:lnTo>
                      <a:pt x="733" y="1069"/>
                    </a:lnTo>
                    <a:lnTo>
                      <a:pt x="707" y="1080"/>
                    </a:lnTo>
                    <a:lnTo>
                      <a:pt x="682" y="1088"/>
                    </a:lnTo>
                    <a:lnTo>
                      <a:pt x="657" y="1096"/>
                    </a:lnTo>
                    <a:lnTo>
                      <a:pt x="630" y="1102"/>
                    </a:lnTo>
                    <a:lnTo>
                      <a:pt x="604" y="1106"/>
                    </a:lnTo>
                    <a:lnTo>
                      <a:pt x="576" y="1110"/>
                    </a:lnTo>
                    <a:lnTo>
                      <a:pt x="548" y="1112"/>
                    </a:lnTo>
                    <a:lnTo>
                      <a:pt x="520" y="1112"/>
                    </a:lnTo>
                    <a:lnTo>
                      <a:pt x="500" y="1112"/>
                    </a:lnTo>
                    <a:lnTo>
                      <a:pt x="480" y="1111"/>
                    </a:lnTo>
                    <a:lnTo>
                      <a:pt x="459" y="1110"/>
                    </a:lnTo>
                    <a:lnTo>
                      <a:pt x="440" y="1106"/>
                    </a:lnTo>
                    <a:lnTo>
                      <a:pt x="420" y="1104"/>
                    </a:lnTo>
                    <a:lnTo>
                      <a:pt x="402" y="1099"/>
                    </a:lnTo>
                    <a:lnTo>
                      <a:pt x="382" y="1095"/>
                    </a:lnTo>
                    <a:lnTo>
                      <a:pt x="364" y="1090"/>
                    </a:lnTo>
                    <a:lnTo>
                      <a:pt x="382" y="1118"/>
                    </a:lnTo>
                    <a:lnTo>
                      <a:pt x="398" y="1122"/>
                    </a:lnTo>
                    <a:lnTo>
                      <a:pt x="415" y="1126"/>
                    </a:lnTo>
                    <a:lnTo>
                      <a:pt x="433" y="1128"/>
                    </a:lnTo>
                    <a:lnTo>
                      <a:pt x="450" y="1131"/>
                    </a:lnTo>
                    <a:lnTo>
                      <a:pt x="467" y="1133"/>
                    </a:lnTo>
                    <a:lnTo>
                      <a:pt x="485" y="1134"/>
                    </a:lnTo>
                    <a:lnTo>
                      <a:pt x="502" y="1135"/>
                    </a:lnTo>
                    <a:lnTo>
                      <a:pt x="520" y="1135"/>
                    </a:lnTo>
                    <a:lnTo>
                      <a:pt x="549" y="1135"/>
                    </a:lnTo>
                    <a:lnTo>
                      <a:pt x="578" y="1133"/>
                    </a:lnTo>
                    <a:lnTo>
                      <a:pt x="607" y="1129"/>
                    </a:lnTo>
                    <a:lnTo>
                      <a:pt x="635" y="1124"/>
                    </a:lnTo>
                    <a:lnTo>
                      <a:pt x="662" y="1118"/>
                    </a:lnTo>
                    <a:lnTo>
                      <a:pt x="689" y="1110"/>
                    </a:lnTo>
                    <a:lnTo>
                      <a:pt x="715" y="1101"/>
                    </a:lnTo>
                    <a:lnTo>
                      <a:pt x="741" y="1090"/>
                    </a:lnTo>
                    <a:lnTo>
                      <a:pt x="766" y="1080"/>
                    </a:lnTo>
                    <a:lnTo>
                      <a:pt x="790" y="1067"/>
                    </a:lnTo>
                    <a:lnTo>
                      <a:pt x="815" y="1053"/>
                    </a:lnTo>
                    <a:lnTo>
                      <a:pt x="838" y="1038"/>
                    </a:lnTo>
                    <a:lnTo>
                      <a:pt x="860" y="1022"/>
                    </a:lnTo>
                    <a:lnTo>
                      <a:pt x="881" y="1006"/>
                    </a:lnTo>
                    <a:lnTo>
                      <a:pt x="902" y="988"/>
                    </a:lnTo>
                    <a:lnTo>
                      <a:pt x="922" y="969"/>
                    </a:lnTo>
                    <a:lnTo>
                      <a:pt x="940" y="950"/>
                    </a:lnTo>
                    <a:lnTo>
                      <a:pt x="959" y="929"/>
                    </a:lnTo>
                    <a:lnTo>
                      <a:pt x="975" y="907"/>
                    </a:lnTo>
                    <a:lnTo>
                      <a:pt x="991" y="885"/>
                    </a:lnTo>
                    <a:lnTo>
                      <a:pt x="1006" y="862"/>
                    </a:lnTo>
                    <a:lnTo>
                      <a:pt x="1020" y="839"/>
                    </a:lnTo>
                    <a:lnTo>
                      <a:pt x="1031" y="814"/>
                    </a:lnTo>
                    <a:lnTo>
                      <a:pt x="1043" y="788"/>
                    </a:lnTo>
                    <a:lnTo>
                      <a:pt x="1053" y="763"/>
                    </a:lnTo>
                    <a:lnTo>
                      <a:pt x="1063" y="736"/>
                    </a:lnTo>
                    <a:lnTo>
                      <a:pt x="1071" y="710"/>
                    </a:lnTo>
                    <a:lnTo>
                      <a:pt x="1076" y="682"/>
                    </a:lnTo>
                    <a:lnTo>
                      <a:pt x="1081" y="654"/>
                    </a:lnTo>
                    <a:lnTo>
                      <a:pt x="1086" y="626"/>
                    </a:lnTo>
                    <a:lnTo>
                      <a:pt x="1087" y="597"/>
                    </a:lnTo>
                    <a:lnTo>
                      <a:pt x="1088" y="568"/>
                    </a:lnTo>
                    <a:close/>
                    <a:moveTo>
                      <a:pt x="909" y="154"/>
                    </a:moveTo>
                    <a:lnTo>
                      <a:pt x="890" y="137"/>
                    </a:lnTo>
                    <a:lnTo>
                      <a:pt x="870" y="121"/>
                    </a:lnTo>
                    <a:lnTo>
                      <a:pt x="848" y="105"/>
                    </a:lnTo>
                    <a:lnTo>
                      <a:pt x="826" y="90"/>
                    </a:lnTo>
                    <a:lnTo>
                      <a:pt x="804" y="76"/>
                    </a:lnTo>
                    <a:lnTo>
                      <a:pt x="781" y="63"/>
                    </a:lnTo>
                    <a:lnTo>
                      <a:pt x="757" y="52"/>
                    </a:lnTo>
                    <a:lnTo>
                      <a:pt x="733" y="41"/>
                    </a:lnTo>
                    <a:lnTo>
                      <a:pt x="708" y="32"/>
                    </a:lnTo>
                    <a:lnTo>
                      <a:pt x="682" y="24"/>
                    </a:lnTo>
                    <a:lnTo>
                      <a:pt x="657" y="17"/>
                    </a:lnTo>
                    <a:lnTo>
                      <a:pt x="630" y="11"/>
                    </a:lnTo>
                    <a:lnTo>
                      <a:pt x="604" y="7"/>
                    </a:lnTo>
                    <a:lnTo>
                      <a:pt x="576" y="3"/>
                    </a:lnTo>
                    <a:lnTo>
                      <a:pt x="548" y="1"/>
                    </a:lnTo>
                    <a:lnTo>
                      <a:pt x="520" y="0"/>
                    </a:lnTo>
                    <a:lnTo>
                      <a:pt x="499" y="1"/>
                    </a:lnTo>
                    <a:lnTo>
                      <a:pt x="477" y="2"/>
                    </a:lnTo>
                    <a:lnTo>
                      <a:pt x="456" y="4"/>
                    </a:lnTo>
                    <a:lnTo>
                      <a:pt x="435" y="7"/>
                    </a:lnTo>
                    <a:lnTo>
                      <a:pt x="413" y="10"/>
                    </a:lnTo>
                    <a:lnTo>
                      <a:pt x="394" y="15"/>
                    </a:lnTo>
                    <a:lnTo>
                      <a:pt x="373" y="19"/>
                    </a:lnTo>
                    <a:lnTo>
                      <a:pt x="353" y="25"/>
                    </a:lnTo>
                    <a:lnTo>
                      <a:pt x="334" y="32"/>
                    </a:lnTo>
                    <a:lnTo>
                      <a:pt x="314" y="39"/>
                    </a:lnTo>
                    <a:lnTo>
                      <a:pt x="296" y="47"/>
                    </a:lnTo>
                    <a:lnTo>
                      <a:pt x="276" y="55"/>
                    </a:lnTo>
                    <a:lnTo>
                      <a:pt x="259" y="64"/>
                    </a:lnTo>
                    <a:lnTo>
                      <a:pt x="240" y="73"/>
                    </a:lnTo>
                    <a:lnTo>
                      <a:pt x="223" y="84"/>
                    </a:lnTo>
                    <a:lnTo>
                      <a:pt x="206" y="95"/>
                    </a:lnTo>
                    <a:lnTo>
                      <a:pt x="189" y="107"/>
                    </a:lnTo>
                    <a:lnTo>
                      <a:pt x="173" y="120"/>
                    </a:lnTo>
                    <a:lnTo>
                      <a:pt x="157" y="132"/>
                    </a:lnTo>
                    <a:lnTo>
                      <a:pt x="142" y="145"/>
                    </a:lnTo>
                    <a:lnTo>
                      <a:pt x="127" y="159"/>
                    </a:lnTo>
                    <a:lnTo>
                      <a:pt x="112" y="173"/>
                    </a:lnTo>
                    <a:lnTo>
                      <a:pt x="98" y="188"/>
                    </a:lnTo>
                    <a:lnTo>
                      <a:pt x="86" y="203"/>
                    </a:lnTo>
                    <a:lnTo>
                      <a:pt x="73" y="219"/>
                    </a:lnTo>
                    <a:lnTo>
                      <a:pt x="60" y="235"/>
                    </a:lnTo>
                    <a:lnTo>
                      <a:pt x="49" y="251"/>
                    </a:lnTo>
                    <a:lnTo>
                      <a:pt x="38" y="268"/>
                    </a:lnTo>
                    <a:lnTo>
                      <a:pt x="28" y="286"/>
                    </a:lnTo>
                    <a:lnTo>
                      <a:pt x="18" y="304"/>
                    </a:lnTo>
                    <a:lnTo>
                      <a:pt x="8" y="321"/>
                    </a:lnTo>
                    <a:lnTo>
                      <a:pt x="0" y="341"/>
                    </a:lnTo>
                    <a:lnTo>
                      <a:pt x="9" y="370"/>
                    </a:lnTo>
                    <a:lnTo>
                      <a:pt x="12" y="373"/>
                    </a:lnTo>
                    <a:lnTo>
                      <a:pt x="19" y="354"/>
                    </a:lnTo>
                    <a:lnTo>
                      <a:pt x="27" y="335"/>
                    </a:lnTo>
                    <a:lnTo>
                      <a:pt x="36" y="317"/>
                    </a:lnTo>
                    <a:lnTo>
                      <a:pt x="46" y="299"/>
                    </a:lnTo>
                    <a:lnTo>
                      <a:pt x="57" y="282"/>
                    </a:lnTo>
                    <a:lnTo>
                      <a:pt x="67" y="265"/>
                    </a:lnTo>
                    <a:lnTo>
                      <a:pt x="79" y="249"/>
                    </a:lnTo>
                    <a:lnTo>
                      <a:pt x="91" y="233"/>
                    </a:lnTo>
                    <a:lnTo>
                      <a:pt x="104" y="216"/>
                    </a:lnTo>
                    <a:lnTo>
                      <a:pt x="117" y="201"/>
                    </a:lnTo>
                    <a:lnTo>
                      <a:pt x="131" y="186"/>
                    </a:lnTo>
                    <a:lnTo>
                      <a:pt x="146" y="173"/>
                    </a:lnTo>
                    <a:lnTo>
                      <a:pt x="161" y="159"/>
                    </a:lnTo>
                    <a:lnTo>
                      <a:pt x="176" y="146"/>
                    </a:lnTo>
                    <a:lnTo>
                      <a:pt x="192" y="133"/>
                    </a:lnTo>
                    <a:lnTo>
                      <a:pt x="208" y="121"/>
                    </a:lnTo>
                    <a:lnTo>
                      <a:pt x="225" y="110"/>
                    </a:lnTo>
                    <a:lnTo>
                      <a:pt x="242" y="99"/>
                    </a:lnTo>
                    <a:lnTo>
                      <a:pt x="260" y="90"/>
                    </a:lnTo>
                    <a:lnTo>
                      <a:pt x="278" y="80"/>
                    </a:lnTo>
                    <a:lnTo>
                      <a:pt x="296" y="71"/>
                    </a:lnTo>
                    <a:lnTo>
                      <a:pt x="315" y="63"/>
                    </a:lnTo>
                    <a:lnTo>
                      <a:pt x="334" y="56"/>
                    </a:lnTo>
                    <a:lnTo>
                      <a:pt x="353" y="49"/>
                    </a:lnTo>
                    <a:lnTo>
                      <a:pt x="374" y="44"/>
                    </a:lnTo>
                    <a:lnTo>
                      <a:pt x="394" y="38"/>
                    </a:lnTo>
                    <a:lnTo>
                      <a:pt x="414" y="33"/>
                    </a:lnTo>
                    <a:lnTo>
                      <a:pt x="435" y="30"/>
                    </a:lnTo>
                    <a:lnTo>
                      <a:pt x="456" y="27"/>
                    </a:lnTo>
                    <a:lnTo>
                      <a:pt x="477" y="25"/>
                    </a:lnTo>
                    <a:lnTo>
                      <a:pt x="499" y="24"/>
                    </a:lnTo>
                    <a:lnTo>
                      <a:pt x="520" y="23"/>
                    </a:lnTo>
                    <a:lnTo>
                      <a:pt x="550" y="24"/>
                    </a:lnTo>
                    <a:lnTo>
                      <a:pt x="579" y="26"/>
                    </a:lnTo>
                    <a:lnTo>
                      <a:pt x="608" y="30"/>
                    </a:lnTo>
                    <a:lnTo>
                      <a:pt x="637" y="35"/>
                    </a:lnTo>
                    <a:lnTo>
                      <a:pt x="665" y="42"/>
                    </a:lnTo>
                    <a:lnTo>
                      <a:pt x="692" y="50"/>
                    </a:lnTo>
                    <a:lnTo>
                      <a:pt x="719" y="60"/>
                    </a:lnTo>
                    <a:lnTo>
                      <a:pt x="744" y="71"/>
                    </a:lnTo>
                    <a:lnTo>
                      <a:pt x="770" y="84"/>
                    </a:lnTo>
                    <a:lnTo>
                      <a:pt x="794" y="97"/>
                    </a:lnTo>
                    <a:lnTo>
                      <a:pt x="818" y="112"/>
                    </a:lnTo>
                    <a:lnTo>
                      <a:pt x="841" y="128"/>
                    </a:lnTo>
                    <a:lnTo>
                      <a:pt x="863" y="145"/>
                    </a:lnTo>
                    <a:lnTo>
                      <a:pt x="885" y="162"/>
                    </a:lnTo>
                    <a:lnTo>
                      <a:pt x="905" y="182"/>
                    </a:lnTo>
                    <a:lnTo>
                      <a:pt x="924" y="201"/>
                    </a:lnTo>
                    <a:lnTo>
                      <a:pt x="909" y="15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6280" y="3790800"/>
                <a:ext cx="282600" cy="295560"/>
              </a:xfrm>
              <a:custGeom>
                <a:avLst/>
                <a:gdLst/>
                <a:ahLst/>
                <a:rect l="l" t="t" r="r" b="b"/>
                <a:pathLst>
                  <a:path w="1071" h="1113">
                    <a:moveTo>
                      <a:pt x="1071" y="557"/>
                    </a:moveTo>
                    <a:lnTo>
                      <a:pt x="1071" y="534"/>
                    </a:lnTo>
                    <a:lnTo>
                      <a:pt x="1070" y="512"/>
                    </a:lnTo>
                    <a:lnTo>
                      <a:pt x="1068" y="490"/>
                    </a:lnTo>
                    <a:lnTo>
                      <a:pt x="1064" y="469"/>
                    </a:lnTo>
                    <a:lnTo>
                      <a:pt x="1061" y="447"/>
                    </a:lnTo>
                    <a:lnTo>
                      <a:pt x="1056" y="427"/>
                    </a:lnTo>
                    <a:lnTo>
                      <a:pt x="1051" y="406"/>
                    </a:lnTo>
                    <a:lnTo>
                      <a:pt x="1045" y="385"/>
                    </a:lnTo>
                    <a:lnTo>
                      <a:pt x="1001" y="322"/>
                    </a:lnTo>
                    <a:lnTo>
                      <a:pt x="924" y="208"/>
                    </a:lnTo>
                    <a:lnTo>
                      <a:pt x="911" y="166"/>
                    </a:lnTo>
                    <a:lnTo>
                      <a:pt x="891" y="148"/>
                    </a:lnTo>
                    <a:lnTo>
                      <a:pt x="872" y="129"/>
                    </a:lnTo>
                    <a:lnTo>
                      <a:pt x="850" y="113"/>
                    </a:lnTo>
                    <a:lnTo>
                      <a:pt x="828" y="97"/>
                    </a:lnTo>
                    <a:lnTo>
                      <a:pt x="806" y="82"/>
                    </a:lnTo>
                    <a:lnTo>
                      <a:pt x="782" y="69"/>
                    </a:lnTo>
                    <a:lnTo>
                      <a:pt x="759" y="57"/>
                    </a:lnTo>
                    <a:lnTo>
                      <a:pt x="733" y="45"/>
                    </a:lnTo>
                    <a:lnTo>
                      <a:pt x="708" y="35"/>
                    </a:lnTo>
                    <a:lnTo>
                      <a:pt x="682" y="26"/>
                    </a:lnTo>
                    <a:lnTo>
                      <a:pt x="655" y="19"/>
                    </a:lnTo>
                    <a:lnTo>
                      <a:pt x="628" y="12"/>
                    </a:lnTo>
                    <a:lnTo>
                      <a:pt x="601" y="7"/>
                    </a:lnTo>
                    <a:lnTo>
                      <a:pt x="572" y="4"/>
                    </a:lnTo>
                    <a:lnTo>
                      <a:pt x="544" y="1"/>
                    </a:lnTo>
                    <a:lnTo>
                      <a:pt x="515" y="0"/>
                    </a:lnTo>
                    <a:lnTo>
                      <a:pt x="494" y="1"/>
                    </a:lnTo>
                    <a:lnTo>
                      <a:pt x="472" y="3"/>
                    </a:lnTo>
                    <a:lnTo>
                      <a:pt x="451" y="5"/>
                    </a:lnTo>
                    <a:lnTo>
                      <a:pt x="430" y="7"/>
                    </a:lnTo>
                    <a:lnTo>
                      <a:pt x="409" y="11"/>
                    </a:lnTo>
                    <a:lnTo>
                      <a:pt x="389" y="15"/>
                    </a:lnTo>
                    <a:lnTo>
                      <a:pt x="368" y="20"/>
                    </a:lnTo>
                    <a:lnTo>
                      <a:pt x="348" y="26"/>
                    </a:lnTo>
                    <a:lnTo>
                      <a:pt x="329" y="33"/>
                    </a:lnTo>
                    <a:lnTo>
                      <a:pt x="309" y="41"/>
                    </a:lnTo>
                    <a:lnTo>
                      <a:pt x="291" y="47"/>
                    </a:lnTo>
                    <a:lnTo>
                      <a:pt x="272" y="57"/>
                    </a:lnTo>
                    <a:lnTo>
                      <a:pt x="254" y="66"/>
                    </a:lnTo>
                    <a:lnTo>
                      <a:pt x="236" y="76"/>
                    </a:lnTo>
                    <a:lnTo>
                      <a:pt x="219" y="87"/>
                    </a:lnTo>
                    <a:lnTo>
                      <a:pt x="202" y="97"/>
                    </a:lnTo>
                    <a:lnTo>
                      <a:pt x="186" y="109"/>
                    </a:lnTo>
                    <a:lnTo>
                      <a:pt x="169" y="121"/>
                    </a:lnTo>
                    <a:lnTo>
                      <a:pt x="153" y="134"/>
                    </a:lnTo>
                    <a:lnTo>
                      <a:pt x="138" y="148"/>
                    </a:lnTo>
                    <a:lnTo>
                      <a:pt x="123" y="162"/>
                    </a:lnTo>
                    <a:lnTo>
                      <a:pt x="109" y="177"/>
                    </a:lnTo>
                    <a:lnTo>
                      <a:pt x="96" y="192"/>
                    </a:lnTo>
                    <a:lnTo>
                      <a:pt x="83" y="207"/>
                    </a:lnTo>
                    <a:lnTo>
                      <a:pt x="70" y="223"/>
                    </a:lnTo>
                    <a:lnTo>
                      <a:pt x="59" y="239"/>
                    </a:lnTo>
                    <a:lnTo>
                      <a:pt x="47" y="256"/>
                    </a:lnTo>
                    <a:lnTo>
                      <a:pt x="37" y="273"/>
                    </a:lnTo>
                    <a:lnTo>
                      <a:pt x="26" y="291"/>
                    </a:lnTo>
                    <a:lnTo>
                      <a:pt x="17" y="309"/>
                    </a:lnTo>
                    <a:lnTo>
                      <a:pt x="8" y="328"/>
                    </a:lnTo>
                    <a:lnTo>
                      <a:pt x="0" y="346"/>
                    </a:lnTo>
                    <a:lnTo>
                      <a:pt x="4" y="359"/>
                    </a:lnTo>
                    <a:lnTo>
                      <a:pt x="14" y="375"/>
                    </a:lnTo>
                    <a:lnTo>
                      <a:pt x="21" y="356"/>
                    </a:lnTo>
                    <a:lnTo>
                      <a:pt x="29" y="338"/>
                    </a:lnTo>
                    <a:lnTo>
                      <a:pt x="37" y="320"/>
                    </a:lnTo>
                    <a:lnTo>
                      <a:pt x="47" y="301"/>
                    </a:lnTo>
                    <a:lnTo>
                      <a:pt x="56" y="284"/>
                    </a:lnTo>
                    <a:lnTo>
                      <a:pt x="67" y="267"/>
                    </a:lnTo>
                    <a:lnTo>
                      <a:pt x="78" y="250"/>
                    </a:lnTo>
                    <a:lnTo>
                      <a:pt x="91" y="234"/>
                    </a:lnTo>
                    <a:lnTo>
                      <a:pt x="103" y="218"/>
                    </a:lnTo>
                    <a:lnTo>
                      <a:pt x="116" y="203"/>
                    </a:lnTo>
                    <a:lnTo>
                      <a:pt x="129" y="188"/>
                    </a:lnTo>
                    <a:lnTo>
                      <a:pt x="144" y="174"/>
                    </a:lnTo>
                    <a:lnTo>
                      <a:pt x="158" y="160"/>
                    </a:lnTo>
                    <a:lnTo>
                      <a:pt x="174" y="147"/>
                    </a:lnTo>
                    <a:lnTo>
                      <a:pt x="189" y="134"/>
                    </a:lnTo>
                    <a:lnTo>
                      <a:pt x="205" y="122"/>
                    </a:lnTo>
                    <a:lnTo>
                      <a:pt x="222" y="111"/>
                    </a:lnTo>
                    <a:lnTo>
                      <a:pt x="239" y="101"/>
                    </a:lnTo>
                    <a:lnTo>
                      <a:pt x="256" y="90"/>
                    </a:lnTo>
                    <a:lnTo>
                      <a:pt x="274" y="81"/>
                    </a:lnTo>
                    <a:lnTo>
                      <a:pt x="293" y="72"/>
                    </a:lnTo>
                    <a:lnTo>
                      <a:pt x="311" y="64"/>
                    </a:lnTo>
                    <a:lnTo>
                      <a:pt x="331" y="57"/>
                    </a:lnTo>
                    <a:lnTo>
                      <a:pt x="349" y="50"/>
                    </a:lnTo>
                    <a:lnTo>
                      <a:pt x="369" y="44"/>
                    </a:lnTo>
                    <a:lnTo>
                      <a:pt x="390" y="38"/>
                    </a:lnTo>
                    <a:lnTo>
                      <a:pt x="409" y="34"/>
                    </a:lnTo>
                    <a:lnTo>
                      <a:pt x="430" y="30"/>
                    </a:lnTo>
                    <a:lnTo>
                      <a:pt x="451" y="27"/>
                    </a:lnTo>
                    <a:lnTo>
                      <a:pt x="473" y="26"/>
                    </a:lnTo>
                    <a:lnTo>
                      <a:pt x="494" y="23"/>
                    </a:lnTo>
                    <a:lnTo>
                      <a:pt x="515" y="23"/>
                    </a:lnTo>
                    <a:lnTo>
                      <a:pt x="543" y="24"/>
                    </a:lnTo>
                    <a:lnTo>
                      <a:pt x="570" y="26"/>
                    </a:lnTo>
                    <a:lnTo>
                      <a:pt x="596" y="29"/>
                    </a:lnTo>
                    <a:lnTo>
                      <a:pt x="623" y="34"/>
                    </a:lnTo>
                    <a:lnTo>
                      <a:pt x="648" y="41"/>
                    </a:lnTo>
                    <a:lnTo>
                      <a:pt x="673" y="47"/>
                    </a:lnTo>
                    <a:lnTo>
                      <a:pt x="699" y="56"/>
                    </a:lnTo>
                    <a:lnTo>
                      <a:pt x="723" y="65"/>
                    </a:lnTo>
                    <a:lnTo>
                      <a:pt x="746" y="76"/>
                    </a:lnTo>
                    <a:lnTo>
                      <a:pt x="769" y="88"/>
                    </a:lnTo>
                    <a:lnTo>
                      <a:pt x="792" y="101"/>
                    </a:lnTo>
                    <a:lnTo>
                      <a:pt x="813" y="114"/>
                    </a:lnTo>
                    <a:lnTo>
                      <a:pt x="835" y="129"/>
                    </a:lnTo>
                    <a:lnTo>
                      <a:pt x="855" y="145"/>
                    </a:lnTo>
                    <a:lnTo>
                      <a:pt x="874" y="162"/>
                    </a:lnTo>
                    <a:lnTo>
                      <a:pt x="893" y="180"/>
                    </a:lnTo>
                    <a:lnTo>
                      <a:pt x="910" y="199"/>
                    </a:lnTo>
                    <a:lnTo>
                      <a:pt x="927" y="218"/>
                    </a:lnTo>
                    <a:lnTo>
                      <a:pt x="943" y="238"/>
                    </a:lnTo>
                    <a:lnTo>
                      <a:pt x="957" y="258"/>
                    </a:lnTo>
                    <a:lnTo>
                      <a:pt x="971" y="280"/>
                    </a:lnTo>
                    <a:lnTo>
                      <a:pt x="985" y="302"/>
                    </a:lnTo>
                    <a:lnTo>
                      <a:pt x="996" y="325"/>
                    </a:lnTo>
                    <a:lnTo>
                      <a:pt x="1007" y="350"/>
                    </a:lnTo>
                    <a:lnTo>
                      <a:pt x="1016" y="374"/>
                    </a:lnTo>
                    <a:lnTo>
                      <a:pt x="1025" y="398"/>
                    </a:lnTo>
                    <a:lnTo>
                      <a:pt x="1032" y="423"/>
                    </a:lnTo>
                    <a:lnTo>
                      <a:pt x="1038" y="450"/>
                    </a:lnTo>
                    <a:lnTo>
                      <a:pt x="1043" y="475"/>
                    </a:lnTo>
                    <a:lnTo>
                      <a:pt x="1046" y="503"/>
                    </a:lnTo>
                    <a:lnTo>
                      <a:pt x="1048" y="529"/>
                    </a:lnTo>
                    <a:lnTo>
                      <a:pt x="1049" y="557"/>
                    </a:lnTo>
                    <a:lnTo>
                      <a:pt x="1048" y="585"/>
                    </a:lnTo>
                    <a:lnTo>
                      <a:pt x="1046" y="611"/>
                    </a:lnTo>
                    <a:lnTo>
                      <a:pt x="1043" y="638"/>
                    </a:lnTo>
                    <a:lnTo>
                      <a:pt x="1038" y="664"/>
                    </a:lnTo>
                    <a:lnTo>
                      <a:pt x="1032" y="691"/>
                    </a:lnTo>
                    <a:lnTo>
                      <a:pt x="1025" y="715"/>
                    </a:lnTo>
                    <a:lnTo>
                      <a:pt x="1016" y="740"/>
                    </a:lnTo>
                    <a:lnTo>
                      <a:pt x="1007" y="765"/>
                    </a:lnTo>
                    <a:lnTo>
                      <a:pt x="996" y="789"/>
                    </a:lnTo>
                    <a:lnTo>
                      <a:pt x="985" y="811"/>
                    </a:lnTo>
                    <a:lnTo>
                      <a:pt x="971" y="834"/>
                    </a:lnTo>
                    <a:lnTo>
                      <a:pt x="957" y="856"/>
                    </a:lnTo>
                    <a:lnTo>
                      <a:pt x="943" y="876"/>
                    </a:lnTo>
                    <a:lnTo>
                      <a:pt x="927" y="896"/>
                    </a:lnTo>
                    <a:lnTo>
                      <a:pt x="910" y="916"/>
                    </a:lnTo>
                    <a:lnTo>
                      <a:pt x="893" y="934"/>
                    </a:lnTo>
                    <a:lnTo>
                      <a:pt x="874" y="951"/>
                    </a:lnTo>
                    <a:lnTo>
                      <a:pt x="855" y="969"/>
                    </a:lnTo>
                    <a:lnTo>
                      <a:pt x="835" y="985"/>
                    </a:lnTo>
                    <a:lnTo>
                      <a:pt x="813" y="1000"/>
                    </a:lnTo>
                    <a:lnTo>
                      <a:pt x="792" y="1013"/>
                    </a:lnTo>
                    <a:lnTo>
                      <a:pt x="769" y="1026"/>
                    </a:lnTo>
                    <a:lnTo>
                      <a:pt x="746" y="1038"/>
                    </a:lnTo>
                    <a:lnTo>
                      <a:pt x="723" y="1048"/>
                    </a:lnTo>
                    <a:lnTo>
                      <a:pt x="699" y="1058"/>
                    </a:lnTo>
                    <a:lnTo>
                      <a:pt x="673" y="1067"/>
                    </a:lnTo>
                    <a:lnTo>
                      <a:pt x="648" y="1073"/>
                    </a:lnTo>
                    <a:lnTo>
                      <a:pt x="623" y="1079"/>
                    </a:lnTo>
                    <a:lnTo>
                      <a:pt x="596" y="1084"/>
                    </a:lnTo>
                    <a:lnTo>
                      <a:pt x="570" y="1087"/>
                    </a:lnTo>
                    <a:lnTo>
                      <a:pt x="543" y="1090"/>
                    </a:lnTo>
                    <a:lnTo>
                      <a:pt x="515" y="1091"/>
                    </a:lnTo>
                    <a:lnTo>
                      <a:pt x="494" y="1090"/>
                    </a:lnTo>
                    <a:lnTo>
                      <a:pt x="472" y="1088"/>
                    </a:lnTo>
                    <a:lnTo>
                      <a:pt x="451" y="1086"/>
                    </a:lnTo>
                    <a:lnTo>
                      <a:pt x="430" y="1084"/>
                    </a:lnTo>
                    <a:lnTo>
                      <a:pt x="409" y="1080"/>
                    </a:lnTo>
                    <a:lnTo>
                      <a:pt x="389" y="1076"/>
                    </a:lnTo>
                    <a:lnTo>
                      <a:pt x="369" y="1070"/>
                    </a:lnTo>
                    <a:lnTo>
                      <a:pt x="348" y="1064"/>
                    </a:lnTo>
                    <a:lnTo>
                      <a:pt x="368" y="1093"/>
                    </a:lnTo>
                    <a:lnTo>
                      <a:pt x="385" y="1098"/>
                    </a:lnTo>
                    <a:lnTo>
                      <a:pt x="404" y="1102"/>
                    </a:lnTo>
                    <a:lnTo>
                      <a:pt x="421" y="1106"/>
                    </a:lnTo>
                    <a:lnTo>
                      <a:pt x="439" y="1108"/>
                    </a:lnTo>
                    <a:lnTo>
                      <a:pt x="459" y="1110"/>
                    </a:lnTo>
                    <a:lnTo>
                      <a:pt x="477" y="1111"/>
                    </a:lnTo>
                    <a:lnTo>
                      <a:pt x="496" y="1113"/>
                    </a:lnTo>
                    <a:lnTo>
                      <a:pt x="515" y="1113"/>
                    </a:lnTo>
                    <a:lnTo>
                      <a:pt x="544" y="1113"/>
                    </a:lnTo>
                    <a:lnTo>
                      <a:pt x="572" y="1110"/>
                    </a:lnTo>
                    <a:lnTo>
                      <a:pt x="600" y="1107"/>
                    </a:lnTo>
                    <a:lnTo>
                      <a:pt x="627" y="1102"/>
                    </a:lnTo>
                    <a:lnTo>
                      <a:pt x="654" y="1095"/>
                    </a:lnTo>
                    <a:lnTo>
                      <a:pt x="680" y="1088"/>
                    </a:lnTo>
                    <a:lnTo>
                      <a:pt x="707" y="1079"/>
                    </a:lnTo>
                    <a:lnTo>
                      <a:pt x="732" y="1069"/>
                    </a:lnTo>
                    <a:lnTo>
                      <a:pt x="757" y="1058"/>
                    </a:lnTo>
                    <a:lnTo>
                      <a:pt x="781" y="1046"/>
                    </a:lnTo>
                    <a:lnTo>
                      <a:pt x="804" y="1033"/>
                    </a:lnTo>
                    <a:lnTo>
                      <a:pt x="826" y="1018"/>
                    </a:lnTo>
                    <a:lnTo>
                      <a:pt x="848" y="1003"/>
                    </a:lnTo>
                    <a:lnTo>
                      <a:pt x="870" y="986"/>
                    </a:lnTo>
                    <a:lnTo>
                      <a:pt x="889" y="969"/>
                    </a:lnTo>
                    <a:lnTo>
                      <a:pt x="909" y="950"/>
                    </a:lnTo>
                    <a:lnTo>
                      <a:pt x="927" y="931"/>
                    </a:lnTo>
                    <a:lnTo>
                      <a:pt x="945" y="911"/>
                    </a:lnTo>
                    <a:lnTo>
                      <a:pt x="961" y="890"/>
                    </a:lnTo>
                    <a:lnTo>
                      <a:pt x="977" y="868"/>
                    </a:lnTo>
                    <a:lnTo>
                      <a:pt x="991" y="845"/>
                    </a:lnTo>
                    <a:lnTo>
                      <a:pt x="1005" y="822"/>
                    </a:lnTo>
                    <a:lnTo>
                      <a:pt x="1017" y="798"/>
                    </a:lnTo>
                    <a:lnTo>
                      <a:pt x="1028" y="774"/>
                    </a:lnTo>
                    <a:lnTo>
                      <a:pt x="1038" y="748"/>
                    </a:lnTo>
                    <a:lnTo>
                      <a:pt x="1047" y="722"/>
                    </a:lnTo>
                    <a:lnTo>
                      <a:pt x="1054" y="695"/>
                    </a:lnTo>
                    <a:lnTo>
                      <a:pt x="1060" y="669"/>
                    </a:lnTo>
                    <a:lnTo>
                      <a:pt x="1066" y="641"/>
                    </a:lnTo>
                    <a:lnTo>
                      <a:pt x="1069" y="613"/>
                    </a:lnTo>
                    <a:lnTo>
                      <a:pt x="1071" y="586"/>
                    </a:lnTo>
                    <a:lnTo>
                      <a:pt x="1071" y="557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8080" y="3794040"/>
                <a:ext cx="277560" cy="289080"/>
              </a:xfrm>
              <a:custGeom>
                <a:avLst/>
                <a:gdLst/>
                <a:ahLst/>
                <a:rect l="l" t="t" r="r" b="b"/>
                <a:pathLst>
                  <a:path w="1053" h="1089">
                    <a:moveTo>
                      <a:pt x="1053" y="545"/>
                    </a:moveTo>
                    <a:lnTo>
                      <a:pt x="1053" y="517"/>
                    </a:lnTo>
                    <a:lnTo>
                      <a:pt x="1051" y="490"/>
                    </a:lnTo>
                    <a:lnTo>
                      <a:pt x="1047" y="463"/>
                    </a:lnTo>
                    <a:lnTo>
                      <a:pt x="1042" y="435"/>
                    </a:lnTo>
                    <a:lnTo>
                      <a:pt x="1037" y="410"/>
                    </a:lnTo>
                    <a:lnTo>
                      <a:pt x="1030" y="384"/>
                    </a:lnTo>
                    <a:lnTo>
                      <a:pt x="1021" y="359"/>
                    </a:lnTo>
                    <a:lnTo>
                      <a:pt x="1011" y="334"/>
                    </a:lnTo>
                    <a:lnTo>
                      <a:pt x="994" y="310"/>
                    </a:lnTo>
                    <a:lnTo>
                      <a:pt x="917" y="196"/>
                    </a:lnTo>
                    <a:lnTo>
                      <a:pt x="912" y="178"/>
                    </a:lnTo>
                    <a:lnTo>
                      <a:pt x="893" y="159"/>
                    </a:lnTo>
                    <a:lnTo>
                      <a:pt x="873" y="139"/>
                    </a:lnTo>
                    <a:lnTo>
                      <a:pt x="851" y="122"/>
                    </a:lnTo>
                    <a:lnTo>
                      <a:pt x="829" y="105"/>
                    </a:lnTo>
                    <a:lnTo>
                      <a:pt x="806" y="89"/>
                    </a:lnTo>
                    <a:lnTo>
                      <a:pt x="782" y="74"/>
                    </a:lnTo>
                    <a:lnTo>
                      <a:pt x="758" y="61"/>
                    </a:lnTo>
                    <a:lnTo>
                      <a:pt x="732" y="48"/>
                    </a:lnTo>
                    <a:lnTo>
                      <a:pt x="707" y="37"/>
                    </a:lnTo>
                    <a:lnTo>
                      <a:pt x="680" y="27"/>
                    </a:lnTo>
                    <a:lnTo>
                      <a:pt x="653" y="19"/>
                    </a:lnTo>
                    <a:lnTo>
                      <a:pt x="625" y="12"/>
                    </a:lnTo>
                    <a:lnTo>
                      <a:pt x="596" y="7"/>
                    </a:lnTo>
                    <a:lnTo>
                      <a:pt x="567" y="3"/>
                    </a:lnTo>
                    <a:lnTo>
                      <a:pt x="538" y="1"/>
                    </a:lnTo>
                    <a:lnTo>
                      <a:pt x="508" y="0"/>
                    </a:lnTo>
                    <a:lnTo>
                      <a:pt x="487" y="1"/>
                    </a:lnTo>
                    <a:lnTo>
                      <a:pt x="465" y="2"/>
                    </a:lnTo>
                    <a:lnTo>
                      <a:pt x="444" y="4"/>
                    </a:lnTo>
                    <a:lnTo>
                      <a:pt x="423" y="7"/>
                    </a:lnTo>
                    <a:lnTo>
                      <a:pt x="402" y="10"/>
                    </a:lnTo>
                    <a:lnTo>
                      <a:pt x="382" y="15"/>
                    </a:lnTo>
                    <a:lnTo>
                      <a:pt x="362" y="21"/>
                    </a:lnTo>
                    <a:lnTo>
                      <a:pt x="341" y="26"/>
                    </a:lnTo>
                    <a:lnTo>
                      <a:pt x="322" y="33"/>
                    </a:lnTo>
                    <a:lnTo>
                      <a:pt x="303" y="40"/>
                    </a:lnTo>
                    <a:lnTo>
                      <a:pt x="284" y="48"/>
                    </a:lnTo>
                    <a:lnTo>
                      <a:pt x="266" y="57"/>
                    </a:lnTo>
                    <a:lnTo>
                      <a:pt x="248" y="67"/>
                    </a:lnTo>
                    <a:lnTo>
                      <a:pt x="230" y="76"/>
                    </a:lnTo>
                    <a:lnTo>
                      <a:pt x="213" y="87"/>
                    </a:lnTo>
                    <a:lnTo>
                      <a:pt x="196" y="98"/>
                    </a:lnTo>
                    <a:lnTo>
                      <a:pt x="180" y="110"/>
                    </a:lnTo>
                    <a:lnTo>
                      <a:pt x="164" y="123"/>
                    </a:lnTo>
                    <a:lnTo>
                      <a:pt x="149" y="136"/>
                    </a:lnTo>
                    <a:lnTo>
                      <a:pt x="134" y="150"/>
                    </a:lnTo>
                    <a:lnTo>
                      <a:pt x="119" y="163"/>
                    </a:lnTo>
                    <a:lnTo>
                      <a:pt x="105" y="178"/>
                    </a:lnTo>
                    <a:lnTo>
                      <a:pt x="92" y="193"/>
                    </a:lnTo>
                    <a:lnTo>
                      <a:pt x="79" y="210"/>
                    </a:lnTo>
                    <a:lnTo>
                      <a:pt x="67" y="226"/>
                    </a:lnTo>
                    <a:lnTo>
                      <a:pt x="55" y="242"/>
                    </a:lnTo>
                    <a:lnTo>
                      <a:pt x="45" y="259"/>
                    </a:lnTo>
                    <a:lnTo>
                      <a:pt x="34" y="276"/>
                    </a:lnTo>
                    <a:lnTo>
                      <a:pt x="24" y="294"/>
                    </a:lnTo>
                    <a:lnTo>
                      <a:pt x="15" y="312"/>
                    </a:lnTo>
                    <a:lnTo>
                      <a:pt x="7" y="331"/>
                    </a:lnTo>
                    <a:lnTo>
                      <a:pt x="0" y="350"/>
                    </a:lnTo>
                    <a:lnTo>
                      <a:pt x="14" y="377"/>
                    </a:lnTo>
                    <a:lnTo>
                      <a:pt x="21" y="358"/>
                    </a:lnTo>
                    <a:lnTo>
                      <a:pt x="27" y="340"/>
                    </a:lnTo>
                    <a:lnTo>
                      <a:pt x="37" y="321"/>
                    </a:lnTo>
                    <a:lnTo>
                      <a:pt x="46" y="303"/>
                    </a:lnTo>
                    <a:lnTo>
                      <a:pt x="55" y="286"/>
                    </a:lnTo>
                    <a:lnTo>
                      <a:pt x="66" y="268"/>
                    </a:lnTo>
                    <a:lnTo>
                      <a:pt x="76" y="251"/>
                    </a:lnTo>
                    <a:lnTo>
                      <a:pt x="87" y="235"/>
                    </a:lnTo>
                    <a:lnTo>
                      <a:pt x="100" y="219"/>
                    </a:lnTo>
                    <a:lnTo>
                      <a:pt x="113" y="204"/>
                    </a:lnTo>
                    <a:lnTo>
                      <a:pt x="127" y="189"/>
                    </a:lnTo>
                    <a:lnTo>
                      <a:pt x="141" y="175"/>
                    </a:lnTo>
                    <a:lnTo>
                      <a:pt x="154" y="161"/>
                    </a:lnTo>
                    <a:lnTo>
                      <a:pt x="169" y="147"/>
                    </a:lnTo>
                    <a:lnTo>
                      <a:pt x="186" y="135"/>
                    </a:lnTo>
                    <a:lnTo>
                      <a:pt x="200" y="123"/>
                    </a:lnTo>
                    <a:lnTo>
                      <a:pt x="218" y="112"/>
                    </a:lnTo>
                    <a:lnTo>
                      <a:pt x="234" y="100"/>
                    </a:lnTo>
                    <a:lnTo>
                      <a:pt x="251" y="90"/>
                    </a:lnTo>
                    <a:lnTo>
                      <a:pt x="269" y="80"/>
                    </a:lnTo>
                    <a:lnTo>
                      <a:pt x="287" y="71"/>
                    </a:lnTo>
                    <a:lnTo>
                      <a:pt x="305" y="63"/>
                    </a:lnTo>
                    <a:lnTo>
                      <a:pt x="325" y="56"/>
                    </a:lnTo>
                    <a:lnTo>
                      <a:pt x="344" y="49"/>
                    </a:lnTo>
                    <a:lnTo>
                      <a:pt x="363" y="44"/>
                    </a:lnTo>
                    <a:lnTo>
                      <a:pt x="383" y="38"/>
                    </a:lnTo>
                    <a:lnTo>
                      <a:pt x="403" y="33"/>
                    </a:lnTo>
                    <a:lnTo>
                      <a:pt x="424" y="30"/>
                    </a:lnTo>
                    <a:lnTo>
                      <a:pt x="445" y="26"/>
                    </a:lnTo>
                    <a:lnTo>
                      <a:pt x="466" y="24"/>
                    </a:lnTo>
                    <a:lnTo>
                      <a:pt x="487" y="23"/>
                    </a:lnTo>
                    <a:lnTo>
                      <a:pt x="508" y="23"/>
                    </a:lnTo>
                    <a:lnTo>
                      <a:pt x="535" y="23"/>
                    </a:lnTo>
                    <a:lnTo>
                      <a:pt x="562" y="25"/>
                    </a:lnTo>
                    <a:lnTo>
                      <a:pt x="588" y="29"/>
                    </a:lnTo>
                    <a:lnTo>
                      <a:pt x="613" y="33"/>
                    </a:lnTo>
                    <a:lnTo>
                      <a:pt x="639" y="39"/>
                    </a:lnTo>
                    <a:lnTo>
                      <a:pt x="663" y="46"/>
                    </a:lnTo>
                    <a:lnTo>
                      <a:pt x="687" y="54"/>
                    </a:lnTo>
                    <a:lnTo>
                      <a:pt x="711" y="63"/>
                    </a:lnTo>
                    <a:lnTo>
                      <a:pt x="735" y="75"/>
                    </a:lnTo>
                    <a:lnTo>
                      <a:pt x="758" y="86"/>
                    </a:lnTo>
                    <a:lnTo>
                      <a:pt x="780" y="99"/>
                    </a:lnTo>
                    <a:lnTo>
                      <a:pt x="800" y="112"/>
                    </a:lnTo>
                    <a:lnTo>
                      <a:pt x="821" y="127"/>
                    </a:lnTo>
                    <a:lnTo>
                      <a:pt x="841" y="142"/>
                    </a:lnTo>
                    <a:lnTo>
                      <a:pt x="859" y="159"/>
                    </a:lnTo>
                    <a:lnTo>
                      <a:pt x="878" y="176"/>
                    </a:lnTo>
                    <a:lnTo>
                      <a:pt x="895" y="193"/>
                    </a:lnTo>
                    <a:lnTo>
                      <a:pt x="911" y="213"/>
                    </a:lnTo>
                    <a:lnTo>
                      <a:pt x="927" y="233"/>
                    </a:lnTo>
                    <a:lnTo>
                      <a:pt x="941" y="253"/>
                    </a:lnTo>
                    <a:lnTo>
                      <a:pt x="955" y="274"/>
                    </a:lnTo>
                    <a:lnTo>
                      <a:pt x="968" y="296"/>
                    </a:lnTo>
                    <a:lnTo>
                      <a:pt x="979" y="319"/>
                    </a:lnTo>
                    <a:lnTo>
                      <a:pt x="989" y="342"/>
                    </a:lnTo>
                    <a:lnTo>
                      <a:pt x="999" y="365"/>
                    </a:lnTo>
                    <a:lnTo>
                      <a:pt x="1007" y="389"/>
                    </a:lnTo>
                    <a:lnTo>
                      <a:pt x="1014" y="415"/>
                    </a:lnTo>
                    <a:lnTo>
                      <a:pt x="1021" y="440"/>
                    </a:lnTo>
                    <a:lnTo>
                      <a:pt x="1024" y="465"/>
                    </a:lnTo>
                    <a:lnTo>
                      <a:pt x="1027" y="492"/>
                    </a:lnTo>
                    <a:lnTo>
                      <a:pt x="1030" y="518"/>
                    </a:lnTo>
                    <a:lnTo>
                      <a:pt x="1031" y="545"/>
                    </a:lnTo>
                    <a:lnTo>
                      <a:pt x="1030" y="572"/>
                    </a:lnTo>
                    <a:lnTo>
                      <a:pt x="1027" y="598"/>
                    </a:lnTo>
                    <a:lnTo>
                      <a:pt x="1024" y="625"/>
                    </a:lnTo>
                    <a:lnTo>
                      <a:pt x="1021" y="650"/>
                    </a:lnTo>
                    <a:lnTo>
                      <a:pt x="1014" y="675"/>
                    </a:lnTo>
                    <a:lnTo>
                      <a:pt x="1007" y="701"/>
                    </a:lnTo>
                    <a:lnTo>
                      <a:pt x="999" y="725"/>
                    </a:lnTo>
                    <a:lnTo>
                      <a:pt x="989" y="748"/>
                    </a:lnTo>
                    <a:lnTo>
                      <a:pt x="979" y="771"/>
                    </a:lnTo>
                    <a:lnTo>
                      <a:pt x="968" y="794"/>
                    </a:lnTo>
                    <a:lnTo>
                      <a:pt x="955" y="816"/>
                    </a:lnTo>
                    <a:lnTo>
                      <a:pt x="941" y="837"/>
                    </a:lnTo>
                    <a:lnTo>
                      <a:pt x="927" y="857"/>
                    </a:lnTo>
                    <a:lnTo>
                      <a:pt x="911" y="877"/>
                    </a:lnTo>
                    <a:lnTo>
                      <a:pt x="895" y="895"/>
                    </a:lnTo>
                    <a:lnTo>
                      <a:pt x="878" y="914"/>
                    </a:lnTo>
                    <a:lnTo>
                      <a:pt x="859" y="931"/>
                    </a:lnTo>
                    <a:lnTo>
                      <a:pt x="841" y="947"/>
                    </a:lnTo>
                    <a:lnTo>
                      <a:pt x="821" y="963"/>
                    </a:lnTo>
                    <a:lnTo>
                      <a:pt x="800" y="977"/>
                    </a:lnTo>
                    <a:lnTo>
                      <a:pt x="780" y="991"/>
                    </a:lnTo>
                    <a:lnTo>
                      <a:pt x="758" y="1004"/>
                    </a:lnTo>
                    <a:lnTo>
                      <a:pt x="735" y="1015"/>
                    </a:lnTo>
                    <a:lnTo>
                      <a:pt x="711" y="1026"/>
                    </a:lnTo>
                    <a:lnTo>
                      <a:pt x="687" y="1035"/>
                    </a:lnTo>
                    <a:lnTo>
                      <a:pt x="663" y="1043"/>
                    </a:lnTo>
                    <a:lnTo>
                      <a:pt x="639" y="1051"/>
                    </a:lnTo>
                    <a:lnTo>
                      <a:pt x="613" y="1057"/>
                    </a:lnTo>
                    <a:lnTo>
                      <a:pt x="588" y="1061"/>
                    </a:lnTo>
                    <a:lnTo>
                      <a:pt x="562" y="1064"/>
                    </a:lnTo>
                    <a:lnTo>
                      <a:pt x="535" y="1066"/>
                    </a:lnTo>
                    <a:lnTo>
                      <a:pt x="508" y="1067"/>
                    </a:lnTo>
                    <a:lnTo>
                      <a:pt x="485" y="1066"/>
                    </a:lnTo>
                    <a:lnTo>
                      <a:pt x="462" y="1065"/>
                    </a:lnTo>
                    <a:lnTo>
                      <a:pt x="439" y="1063"/>
                    </a:lnTo>
                    <a:lnTo>
                      <a:pt x="417" y="1059"/>
                    </a:lnTo>
                    <a:lnTo>
                      <a:pt x="395" y="1055"/>
                    </a:lnTo>
                    <a:lnTo>
                      <a:pt x="374" y="1050"/>
                    </a:lnTo>
                    <a:lnTo>
                      <a:pt x="353" y="1043"/>
                    </a:lnTo>
                    <a:lnTo>
                      <a:pt x="332" y="1036"/>
                    </a:lnTo>
                    <a:lnTo>
                      <a:pt x="352" y="1067"/>
                    </a:lnTo>
                    <a:lnTo>
                      <a:pt x="370" y="1072"/>
                    </a:lnTo>
                    <a:lnTo>
                      <a:pt x="390" y="1076"/>
                    </a:lnTo>
                    <a:lnTo>
                      <a:pt x="408" y="1081"/>
                    </a:lnTo>
                    <a:lnTo>
                      <a:pt x="428" y="1083"/>
                    </a:lnTo>
                    <a:lnTo>
                      <a:pt x="447" y="1087"/>
                    </a:lnTo>
                    <a:lnTo>
                      <a:pt x="468" y="1088"/>
                    </a:lnTo>
                    <a:lnTo>
                      <a:pt x="488" y="1089"/>
                    </a:lnTo>
                    <a:lnTo>
                      <a:pt x="508" y="1089"/>
                    </a:lnTo>
                    <a:lnTo>
                      <a:pt x="536" y="1089"/>
                    </a:lnTo>
                    <a:lnTo>
                      <a:pt x="564" y="1087"/>
                    </a:lnTo>
                    <a:lnTo>
                      <a:pt x="592" y="1083"/>
                    </a:lnTo>
                    <a:lnTo>
                      <a:pt x="618" y="1079"/>
                    </a:lnTo>
                    <a:lnTo>
                      <a:pt x="645" y="1073"/>
                    </a:lnTo>
                    <a:lnTo>
                      <a:pt x="670" y="1065"/>
                    </a:lnTo>
                    <a:lnTo>
                      <a:pt x="695" y="1057"/>
                    </a:lnTo>
                    <a:lnTo>
                      <a:pt x="721" y="1046"/>
                    </a:lnTo>
                    <a:lnTo>
                      <a:pt x="745" y="1036"/>
                    </a:lnTo>
                    <a:lnTo>
                      <a:pt x="768" y="1023"/>
                    </a:lnTo>
                    <a:lnTo>
                      <a:pt x="791" y="1011"/>
                    </a:lnTo>
                    <a:lnTo>
                      <a:pt x="813" y="997"/>
                    </a:lnTo>
                    <a:lnTo>
                      <a:pt x="834" y="982"/>
                    </a:lnTo>
                    <a:lnTo>
                      <a:pt x="854" y="966"/>
                    </a:lnTo>
                    <a:lnTo>
                      <a:pt x="875" y="948"/>
                    </a:lnTo>
                    <a:lnTo>
                      <a:pt x="894" y="930"/>
                    </a:lnTo>
                    <a:lnTo>
                      <a:pt x="912" y="912"/>
                    </a:lnTo>
                    <a:lnTo>
                      <a:pt x="928" y="892"/>
                    </a:lnTo>
                    <a:lnTo>
                      <a:pt x="944" y="871"/>
                    </a:lnTo>
                    <a:lnTo>
                      <a:pt x="961" y="849"/>
                    </a:lnTo>
                    <a:lnTo>
                      <a:pt x="974" y="827"/>
                    </a:lnTo>
                    <a:lnTo>
                      <a:pt x="987" y="804"/>
                    </a:lnTo>
                    <a:lnTo>
                      <a:pt x="1000" y="781"/>
                    </a:lnTo>
                    <a:lnTo>
                      <a:pt x="1010" y="757"/>
                    </a:lnTo>
                    <a:lnTo>
                      <a:pt x="1021" y="732"/>
                    </a:lnTo>
                    <a:lnTo>
                      <a:pt x="1029" y="706"/>
                    </a:lnTo>
                    <a:lnTo>
                      <a:pt x="1037" y="681"/>
                    </a:lnTo>
                    <a:lnTo>
                      <a:pt x="1042" y="655"/>
                    </a:lnTo>
                    <a:lnTo>
                      <a:pt x="1047" y="628"/>
                    </a:lnTo>
                    <a:lnTo>
                      <a:pt x="1051" y="600"/>
                    </a:lnTo>
                    <a:lnTo>
                      <a:pt x="1053" y="573"/>
                    </a:lnTo>
                    <a:lnTo>
                      <a:pt x="1053" y="54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9520" y="3797280"/>
                <a:ext cx="274680" cy="282600"/>
              </a:xfrm>
              <a:custGeom>
                <a:avLst/>
                <a:gdLst/>
                <a:ahLst/>
                <a:rect l="l" t="t" r="r" b="b"/>
                <a:pathLst>
                  <a:path w="1035" h="1068">
                    <a:moveTo>
                      <a:pt x="1035" y="534"/>
                    </a:moveTo>
                    <a:lnTo>
                      <a:pt x="1034" y="506"/>
                    </a:lnTo>
                    <a:lnTo>
                      <a:pt x="1032" y="480"/>
                    </a:lnTo>
                    <a:lnTo>
                      <a:pt x="1029" y="452"/>
                    </a:lnTo>
                    <a:lnTo>
                      <a:pt x="1024" y="427"/>
                    </a:lnTo>
                    <a:lnTo>
                      <a:pt x="1018" y="400"/>
                    </a:lnTo>
                    <a:lnTo>
                      <a:pt x="1011" y="375"/>
                    </a:lnTo>
                    <a:lnTo>
                      <a:pt x="1002" y="351"/>
                    </a:lnTo>
                    <a:lnTo>
                      <a:pt x="993" y="327"/>
                    </a:lnTo>
                    <a:lnTo>
                      <a:pt x="982" y="302"/>
                    </a:lnTo>
                    <a:lnTo>
                      <a:pt x="971" y="279"/>
                    </a:lnTo>
                    <a:lnTo>
                      <a:pt x="957" y="257"/>
                    </a:lnTo>
                    <a:lnTo>
                      <a:pt x="943" y="235"/>
                    </a:lnTo>
                    <a:lnTo>
                      <a:pt x="929" y="215"/>
                    </a:lnTo>
                    <a:lnTo>
                      <a:pt x="913" y="195"/>
                    </a:lnTo>
                    <a:lnTo>
                      <a:pt x="896" y="176"/>
                    </a:lnTo>
                    <a:lnTo>
                      <a:pt x="879" y="157"/>
                    </a:lnTo>
                    <a:lnTo>
                      <a:pt x="860" y="139"/>
                    </a:lnTo>
                    <a:lnTo>
                      <a:pt x="841" y="122"/>
                    </a:lnTo>
                    <a:lnTo>
                      <a:pt x="821" y="106"/>
                    </a:lnTo>
                    <a:lnTo>
                      <a:pt x="799" y="91"/>
                    </a:lnTo>
                    <a:lnTo>
                      <a:pt x="778" y="78"/>
                    </a:lnTo>
                    <a:lnTo>
                      <a:pt x="755" y="65"/>
                    </a:lnTo>
                    <a:lnTo>
                      <a:pt x="732" y="53"/>
                    </a:lnTo>
                    <a:lnTo>
                      <a:pt x="709" y="42"/>
                    </a:lnTo>
                    <a:lnTo>
                      <a:pt x="685" y="33"/>
                    </a:lnTo>
                    <a:lnTo>
                      <a:pt x="659" y="24"/>
                    </a:lnTo>
                    <a:lnTo>
                      <a:pt x="634" y="18"/>
                    </a:lnTo>
                    <a:lnTo>
                      <a:pt x="609" y="11"/>
                    </a:lnTo>
                    <a:lnTo>
                      <a:pt x="582" y="6"/>
                    </a:lnTo>
                    <a:lnTo>
                      <a:pt x="556" y="3"/>
                    </a:lnTo>
                    <a:lnTo>
                      <a:pt x="529" y="1"/>
                    </a:lnTo>
                    <a:lnTo>
                      <a:pt x="501" y="0"/>
                    </a:lnTo>
                    <a:lnTo>
                      <a:pt x="480" y="0"/>
                    </a:lnTo>
                    <a:lnTo>
                      <a:pt x="459" y="3"/>
                    </a:lnTo>
                    <a:lnTo>
                      <a:pt x="437" y="4"/>
                    </a:lnTo>
                    <a:lnTo>
                      <a:pt x="416" y="7"/>
                    </a:lnTo>
                    <a:lnTo>
                      <a:pt x="395" y="11"/>
                    </a:lnTo>
                    <a:lnTo>
                      <a:pt x="376" y="15"/>
                    </a:lnTo>
                    <a:lnTo>
                      <a:pt x="355" y="21"/>
                    </a:lnTo>
                    <a:lnTo>
                      <a:pt x="335" y="27"/>
                    </a:lnTo>
                    <a:lnTo>
                      <a:pt x="317" y="34"/>
                    </a:lnTo>
                    <a:lnTo>
                      <a:pt x="297" y="41"/>
                    </a:lnTo>
                    <a:lnTo>
                      <a:pt x="279" y="49"/>
                    </a:lnTo>
                    <a:lnTo>
                      <a:pt x="260" y="58"/>
                    </a:lnTo>
                    <a:lnTo>
                      <a:pt x="242" y="67"/>
                    </a:lnTo>
                    <a:lnTo>
                      <a:pt x="225" y="78"/>
                    </a:lnTo>
                    <a:lnTo>
                      <a:pt x="208" y="88"/>
                    </a:lnTo>
                    <a:lnTo>
                      <a:pt x="191" y="99"/>
                    </a:lnTo>
                    <a:lnTo>
                      <a:pt x="175" y="111"/>
                    </a:lnTo>
                    <a:lnTo>
                      <a:pt x="160" y="124"/>
                    </a:lnTo>
                    <a:lnTo>
                      <a:pt x="144" y="137"/>
                    </a:lnTo>
                    <a:lnTo>
                      <a:pt x="130" y="151"/>
                    </a:lnTo>
                    <a:lnTo>
                      <a:pt x="115" y="165"/>
                    </a:lnTo>
                    <a:lnTo>
                      <a:pt x="102" y="180"/>
                    </a:lnTo>
                    <a:lnTo>
                      <a:pt x="89" y="195"/>
                    </a:lnTo>
                    <a:lnTo>
                      <a:pt x="77" y="211"/>
                    </a:lnTo>
                    <a:lnTo>
                      <a:pt x="64" y="227"/>
                    </a:lnTo>
                    <a:lnTo>
                      <a:pt x="53" y="244"/>
                    </a:lnTo>
                    <a:lnTo>
                      <a:pt x="42" y="261"/>
                    </a:lnTo>
                    <a:lnTo>
                      <a:pt x="33" y="278"/>
                    </a:lnTo>
                    <a:lnTo>
                      <a:pt x="23" y="297"/>
                    </a:lnTo>
                    <a:lnTo>
                      <a:pt x="15" y="315"/>
                    </a:lnTo>
                    <a:lnTo>
                      <a:pt x="7" y="333"/>
                    </a:lnTo>
                    <a:lnTo>
                      <a:pt x="0" y="352"/>
                    </a:lnTo>
                    <a:lnTo>
                      <a:pt x="14" y="380"/>
                    </a:lnTo>
                    <a:lnTo>
                      <a:pt x="20" y="361"/>
                    </a:lnTo>
                    <a:lnTo>
                      <a:pt x="27" y="341"/>
                    </a:lnTo>
                    <a:lnTo>
                      <a:pt x="35" y="323"/>
                    </a:lnTo>
                    <a:lnTo>
                      <a:pt x="44" y="306"/>
                    </a:lnTo>
                    <a:lnTo>
                      <a:pt x="53" y="287"/>
                    </a:lnTo>
                    <a:lnTo>
                      <a:pt x="63" y="270"/>
                    </a:lnTo>
                    <a:lnTo>
                      <a:pt x="74" y="254"/>
                    </a:lnTo>
                    <a:lnTo>
                      <a:pt x="85" y="237"/>
                    </a:lnTo>
                    <a:lnTo>
                      <a:pt x="97" y="222"/>
                    </a:lnTo>
                    <a:lnTo>
                      <a:pt x="109" y="205"/>
                    </a:lnTo>
                    <a:lnTo>
                      <a:pt x="123" y="190"/>
                    </a:lnTo>
                    <a:lnTo>
                      <a:pt x="136" y="177"/>
                    </a:lnTo>
                    <a:lnTo>
                      <a:pt x="151" y="163"/>
                    </a:lnTo>
                    <a:lnTo>
                      <a:pt x="165" y="149"/>
                    </a:lnTo>
                    <a:lnTo>
                      <a:pt x="181" y="136"/>
                    </a:lnTo>
                    <a:lnTo>
                      <a:pt x="196" y="124"/>
                    </a:lnTo>
                    <a:lnTo>
                      <a:pt x="212" y="112"/>
                    </a:lnTo>
                    <a:lnTo>
                      <a:pt x="229" y="102"/>
                    </a:lnTo>
                    <a:lnTo>
                      <a:pt x="247" y="91"/>
                    </a:lnTo>
                    <a:lnTo>
                      <a:pt x="264" y="81"/>
                    </a:lnTo>
                    <a:lnTo>
                      <a:pt x="281" y="73"/>
                    </a:lnTo>
                    <a:lnTo>
                      <a:pt x="300" y="64"/>
                    </a:lnTo>
                    <a:lnTo>
                      <a:pt x="318" y="57"/>
                    </a:lnTo>
                    <a:lnTo>
                      <a:pt x="338" y="50"/>
                    </a:lnTo>
                    <a:lnTo>
                      <a:pt x="357" y="44"/>
                    </a:lnTo>
                    <a:lnTo>
                      <a:pt x="377" y="38"/>
                    </a:lnTo>
                    <a:lnTo>
                      <a:pt x="396" y="34"/>
                    </a:lnTo>
                    <a:lnTo>
                      <a:pt x="417" y="30"/>
                    </a:lnTo>
                    <a:lnTo>
                      <a:pt x="438" y="27"/>
                    </a:lnTo>
                    <a:lnTo>
                      <a:pt x="459" y="24"/>
                    </a:lnTo>
                    <a:lnTo>
                      <a:pt x="480" y="23"/>
                    </a:lnTo>
                    <a:lnTo>
                      <a:pt x="501" y="23"/>
                    </a:lnTo>
                    <a:lnTo>
                      <a:pt x="528" y="23"/>
                    </a:lnTo>
                    <a:lnTo>
                      <a:pt x="553" y="26"/>
                    </a:lnTo>
                    <a:lnTo>
                      <a:pt x="579" y="29"/>
                    </a:lnTo>
                    <a:lnTo>
                      <a:pt x="604" y="34"/>
                    </a:lnTo>
                    <a:lnTo>
                      <a:pt x="628" y="39"/>
                    </a:lnTo>
                    <a:lnTo>
                      <a:pt x="653" y="46"/>
                    </a:lnTo>
                    <a:lnTo>
                      <a:pt x="677" y="54"/>
                    </a:lnTo>
                    <a:lnTo>
                      <a:pt x="700" y="63"/>
                    </a:lnTo>
                    <a:lnTo>
                      <a:pt x="723" y="73"/>
                    </a:lnTo>
                    <a:lnTo>
                      <a:pt x="745" y="84"/>
                    </a:lnTo>
                    <a:lnTo>
                      <a:pt x="767" y="97"/>
                    </a:lnTo>
                    <a:lnTo>
                      <a:pt x="788" y="110"/>
                    </a:lnTo>
                    <a:lnTo>
                      <a:pt x="807" y="125"/>
                    </a:lnTo>
                    <a:lnTo>
                      <a:pt x="827" y="140"/>
                    </a:lnTo>
                    <a:lnTo>
                      <a:pt x="845" y="156"/>
                    </a:lnTo>
                    <a:lnTo>
                      <a:pt x="862" y="172"/>
                    </a:lnTo>
                    <a:lnTo>
                      <a:pt x="880" y="190"/>
                    </a:lnTo>
                    <a:lnTo>
                      <a:pt x="896" y="209"/>
                    </a:lnTo>
                    <a:lnTo>
                      <a:pt x="911" y="229"/>
                    </a:lnTo>
                    <a:lnTo>
                      <a:pt x="925" y="248"/>
                    </a:lnTo>
                    <a:lnTo>
                      <a:pt x="939" y="269"/>
                    </a:lnTo>
                    <a:lnTo>
                      <a:pt x="950" y="291"/>
                    </a:lnTo>
                    <a:lnTo>
                      <a:pt x="962" y="313"/>
                    </a:lnTo>
                    <a:lnTo>
                      <a:pt x="972" y="335"/>
                    </a:lnTo>
                    <a:lnTo>
                      <a:pt x="981" y="359"/>
                    </a:lnTo>
                    <a:lnTo>
                      <a:pt x="989" y="382"/>
                    </a:lnTo>
                    <a:lnTo>
                      <a:pt x="996" y="406"/>
                    </a:lnTo>
                    <a:lnTo>
                      <a:pt x="1002" y="431"/>
                    </a:lnTo>
                    <a:lnTo>
                      <a:pt x="1007" y="456"/>
                    </a:lnTo>
                    <a:lnTo>
                      <a:pt x="1010" y="482"/>
                    </a:lnTo>
                    <a:lnTo>
                      <a:pt x="1011" y="507"/>
                    </a:lnTo>
                    <a:lnTo>
                      <a:pt x="1012" y="534"/>
                    </a:lnTo>
                    <a:lnTo>
                      <a:pt x="1011" y="561"/>
                    </a:lnTo>
                    <a:lnTo>
                      <a:pt x="1010" y="586"/>
                    </a:lnTo>
                    <a:lnTo>
                      <a:pt x="1007" y="611"/>
                    </a:lnTo>
                    <a:lnTo>
                      <a:pt x="1002" y="637"/>
                    </a:lnTo>
                    <a:lnTo>
                      <a:pt x="996" y="662"/>
                    </a:lnTo>
                    <a:lnTo>
                      <a:pt x="989" y="686"/>
                    </a:lnTo>
                    <a:lnTo>
                      <a:pt x="981" y="709"/>
                    </a:lnTo>
                    <a:lnTo>
                      <a:pt x="972" y="732"/>
                    </a:lnTo>
                    <a:lnTo>
                      <a:pt x="962" y="755"/>
                    </a:lnTo>
                    <a:lnTo>
                      <a:pt x="950" y="777"/>
                    </a:lnTo>
                    <a:lnTo>
                      <a:pt x="939" y="799"/>
                    </a:lnTo>
                    <a:lnTo>
                      <a:pt x="925" y="820"/>
                    </a:lnTo>
                    <a:lnTo>
                      <a:pt x="911" y="839"/>
                    </a:lnTo>
                    <a:lnTo>
                      <a:pt x="896" y="859"/>
                    </a:lnTo>
                    <a:lnTo>
                      <a:pt x="880" y="878"/>
                    </a:lnTo>
                    <a:lnTo>
                      <a:pt x="862" y="895"/>
                    </a:lnTo>
                    <a:lnTo>
                      <a:pt x="845" y="912"/>
                    </a:lnTo>
                    <a:lnTo>
                      <a:pt x="827" y="928"/>
                    </a:lnTo>
                    <a:lnTo>
                      <a:pt x="807" y="943"/>
                    </a:lnTo>
                    <a:lnTo>
                      <a:pt x="788" y="957"/>
                    </a:lnTo>
                    <a:lnTo>
                      <a:pt x="767" y="971"/>
                    </a:lnTo>
                    <a:lnTo>
                      <a:pt x="745" y="984"/>
                    </a:lnTo>
                    <a:lnTo>
                      <a:pt x="723" y="994"/>
                    </a:lnTo>
                    <a:lnTo>
                      <a:pt x="700" y="1004"/>
                    </a:lnTo>
                    <a:lnTo>
                      <a:pt x="677" y="1014"/>
                    </a:lnTo>
                    <a:lnTo>
                      <a:pt x="653" y="1022"/>
                    </a:lnTo>
                    <a:lnTo>
                      <a:pt x="628" y="1029"/>
                    </a:lnTo>
                    <a:lnTo>
                      <a:pt x="604" y="1034"/>
                    </a:lnTo>
                    <a:lnTo>
                      <a:pt x="579" y="1039"/>
                    </a:lnTo>
                    <a:lnTo>
                      <a:pt x="553" y="1042"/>
                    </a:lnTo>
                    <a:lnTo>
                      <a:pt x="528" y="1044"/>
                    </a:lnTo>
                    <a:lnTo>
                      <a:pt x="501" y="1045"/>
                    </a:lnTo>
                    <a:lnTo>
                      <a:pt x="476" y="1045"/>
                    </a:lnTo>
                    <a:lnTo>
                      <a:pt x="452" y="1042"/>
                    </a:lnTo>
                    <a:lnTo>
                      <a:pt x="429" y="1040"/>
                    </a:lnTo>
                    <a:lnTo>
                      <a:pt x="405" y="1035"/>
                    </a:lnTo>
                    <a:lnTo>
                      <a:pt x="382" y="1031"/>
                    </a:lnTo>
                    <a:lnTo>
                      <a:pt x="358" y="1025"/>
                    </a:lnTo>
                    <a:lnTo>
                      <a:pt x="337" y="1018"/>
                    </a:lnTo>
                    <a:lnTo>
                      <a:pt x="315" y="1010"/>
                    </a:lnTo>
                    <a:lnTo>
                      <a:pt x="334" y="1041"/>
                    </a:lnTo>
                    <a:lnTo>
                      <a:pt x="355" y="1047"/>
                    </a:lnTo>
                    <a:lnTo>
                      <a:pt x="375" y="1053"/>
                    </a:lnTo>
                    <a:lnTo>
                      <a:pt x="395" y="1057"/>
                    </a:lnTo>
                    <a:lnTo>
                      <a:pt x="416" y="1061"/>
                    </a:lnTo>
                    <a:lnTo>
                      <a:pt x="437" y="1063"/>
                    </a:lnTo>
                    <a:lnTo>
                      <a:pt x="458" y="1065"/>
                    </a:lnTo>
                    <a:lnTo>
                      <a:pt x="480" y="1067"/>
                    </a:lnTo>
                    <a:lnTo>
                      <a:pt x="501" y="1068"/>
                    </a:lnTo>
                    <a:lnTo>
                      <a:pt x="529" y="1067"/>
                    </a:lnTo>
                    <a:lnTo>
                      <a:pt x="556" y="1064"/>
                    </a:lnTo>
                    <a:lnTo>
                      <a:pt x="582" y="1061"/>
                    </a:lnTo>
                    <a:lnTo>
                      <a:pt x="609" y="1056"/>
                    </a:lnTo>
                    <a:lnTo>
                      <a:pt x="634" y="1050"/>
                    </a:lnTo>
                    <a:lnTo>
                      <a:pt x="659" y="1044"/>
                    </a:lnTo>
                    <a:lnTo>
                      <a:pt x="685" y="1035"/>
                    </a:lnTo>
                    <a:lnTo>
                      <a:pt x="709" y="1025"/>
                    </a:lnTo>
                    <a:lnTo>
                      <a:pt x="732" y="1015"/>
                    </a:lnTo>
                    <a:lnTo>
                      <a:pt x="755" y="1003"/>
                    </a:lnTo>
                    <a:lnTo>
                      <a:pt x="778" y="990"/>
                    </a:lnTo>
                    <a:lnTo>
                      <a:pt x="799" y="977"/>
                    </a:lnTo>
                    <a:lnTo>
                      <a:pt x="821" y="962"/>
                    </a:lnTo>
                    <a:lnTo>
                      <a:pt x="841" y="946"/>
                    </a:lnTo>
                    <a:lnTo>
                      <a:pt x="860" y="928"/>
                    </a:lnTo>
                    <a:lnTo>
                      <a:pt x="879" y="911"/>
                    </a:lnTo>
                    <a:lnTo>
                      <a:pt x="896" y="893"/>
                    </a:lnTo>
                    <a:lnTo>
                      <a:pt x="913" y="873"/>
                    </a:lnTo>
                    <a:lnTo>
                      <a:pt x="929" y="853"/>
                    </a:lnTo>
                    <a:lnTo>
                      <a:pt x="943" y="833"/>
                    </a:lnTo>
                    <a:lnTo>
                      <a:pt x="957" y="811"/>
                    </a:lnTo>
                    <a:lnTo>
                      <a:pt x="971" y="788"/>
                    </a:lnTo>
                    <a:lnTo>
                      <a:pt x="982" y="766"/>
                    </a:lnTo>
                    <a:lnTo>
                      <a:pt x="993" y="742"/>
                    </a:lnTo>
                    <a:lnTo>
                      <a:pt x="1002" y="717"/>
                    </a:lnTo>
                    <a:lnTo>
                      <a:pt x="1011" y="692"/>
                    </a:lnTo>
                    <a:lnTo>
                      <a:pt x="1018" y="668"/>
                    </a:lnTo>
                    <a:lnTo>
                      <a:pt x="1024" y="641"/>
                    </a:lnTo>
                    <a:lnTo>
                      <a:pt x="1029" y="615"/>
                    </a:lnTo>
                    <a:lnTo>
                      <a:pt x="1032" y="588"/>
                    </a:lnTo>
                    <a:lnTo>
                      <a:pt x="1034" y="562"/>
                    </a:lnTo>
                    <a:lnTo>
                      <a:pt x="1035" y="53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60960" y="3800520"/>
                <a:ext cx="270000" cy="276120"/>
              </a:xfrm>
              <a:custGeom>
                <a:avLst/>
                <a:gdLst/>
                <a:ahLst/>
                <a:rect l="l" t="t" r="r" b="b"/>
                <a:pathLst>
                  <a:path w="1017" h="1044">
                    <a:moveTo>
                      <a:pt x="1017" y="522"/>
                    </a:moveTo>
                    <a:lnTo>
                      <a:pt x="1016" y="495"/>
                    </a:lnTo>
                    <a:lnTo>
                      <a:pt x="1013" y="469"/>
                    </a:lnTo>
                    <a:lnTo>
                      <a:pt x="1011" y="442"/>
                    </a:lnTo>
                    <a:lnTo>
                      <a:pt x="1007" y="417"/>
                    </a:lnTo>
                    <a:lnTo>
                      <a:pt x="1000" y="392"/>
                    </a:lnTo>
                    <a:lnTo>
                      <a:pt x="993" y="366"/>
                    </a:lnTo>
                    <a:lnTo>
                      <a:pt x="985" y="342"/>
                    </a:lnTo>
                    <a:lnTo>
                      <a:pt x="975" y="319"/>
                    </a:lnTo>
                    <a:lnTo>
                      <a:pt x="965" y="296"/>
                    </a:lnTo>
                    <a:lnTo>
                      <a:pt x="954" y="273"/>
                    </a:lnTo>
                    <a:lnTo>
                      <a:pt x="941" y="251"/>
                    </a:lnTo>
                    <a:lnTo>
                      <a:pt x="927" y="230"/>
                    </a:lnTo>
                    <a:lnTo>
                      <a:pt x="913" y="210"/>
                    </a:lnTo>
                    <a:lnTo>
                      <a:pt x="897" y="190"/>
                    </a:lnTo>
                    <a:lnTo>
                      <a:pt x="881" y="170"/>
                    </a:lnTo>
                    <a:lnTo>
                      <a:pt x="864" y="153"/>
                    </a:lnTo>
                    <a:lnTo>
                      <a:pt x="845" y="136"/>
                    </a:lnTo>
                    <a:lnTo>
                      <a:pt x="827" y="119"/>
                    </a:lnTo>
                    <a:lnTo>
                      <a:pt x="807" y="104"/>
                    </a:lnTo>
                    <a:lnTo>
                      <a:pt x="786" y="89"/>
                    </a:lnTo>
                    <a:lnTo>
                      <a:pt x="766" y="75"/>
                    </a:lnTo>
                    <a:lnTo>
                      <a:pt x="744" y="63"/>
                    </a:lnTo>
                    <a:lnTo>
                      <a:pt x="721" y="52"/>
                    </a:lnTo>
                    <a:lnTo>
                      <a:pt x="697" y="40"/>
                    </a:lnTo>
                    <a:lnTo>
                      <a:pt x="673" y="31"/>
                    </a:lnTo>
                    <a:lnTo>
                      <a:pt x="649" y="23"/>
                    </a:lnTo>
                    <a:lnTo>
                      <a:pt x="625" y="16"/>
                    </a:lnTo>
                    <a:lnTo>
                      <a:pt x="599" y="10"/>
                    </a:lnTo>
                    <a:lnTo>
                      <a:pt x="574" y="6"/>
                    </a:lnTo>
                    <a:lnTo>
                      <a:pt x="548" y="2"/>
                    </a:lnTo>
                    <a:lnTo>
                      <a:pt x="521" y="0"/>
                    </a:lnTo>
                    <a:lnTo>
                      <a:pt x="494" y="0"/>
                    </a:lnTo>
                    <a:lnTo>
                      <a:pt x="473" y="0"/>
                    </a:lnTo>
                    <a:lnTo>
                      <a:pt x="452" y="1"/>
                    </a:lnTo>
                    <a:lnTo>
                      <a:pt x="431" y="3"/>
                    </a:lnTo>
                    <a:lnTo>
                      <a:pt x="410" y="7"/>
                    </a:lnTo>
                    <a:lnTo>
                      <a:pt x="389" y="10"/>
                    </a:lnTo>
                    <a:lnTo>
                      <a:pt x="369" y="15"/>
                    </a:lnTo>
                    <a:lnTo>
                      <a:pt x="349" y="21"/>
                    </a:lnTo>
                    <a:lnTo>
                      <a:pt x="330" y="26"/>
                    </a:lnTo>
                    <a:lnTo>
                      <a:pt x="311" y="33"/>
                    </a:lnTo>
                    <a:lnTo>
                      <a:pt x="291" y="40"/>
                    </a:lnTo>
                    <a:lnTo>
                      <a:pt x="273" y="48"/>
                    </a:lnTo>
                    <a:lnTo>
                      <a:pt x="255" y="57"/>
                    </a:lnTo>
                    <a:lnTo>
                      <a:pt x="237" y="67"/>
                    </a:lnTo>
                    <a:lnTo>
                      <a:pt x="220" y="77"/>
                    </a:lnTo>
                    <a:lnTo>
                      <a:pt x="204" y="89"/>
                    </a:lnTo>
                    <a:lnTo>
                      <a:pt x="186" y="100"/>
                    </a:lnTo>
                    <a:lnTo>
                      <a:pt x="170" y="112"/>
                    </a:lnTo>
                    <a:lnTo>
                      <a:pt x="155" y="124"/>
                    </a:lnTo>
                    <a:lnTo>
                      <a:pt x="140" y="138"/>
                    </a:lnTo>
                    <a:lnTo>
                      <a:pt x="127" y="152"/>
                    </a:lnTo>
                    <a:lnTo>
                      <a:pt x="113" y="166"/>
                    </a:lnTo>
                    <a:lnTo>
                      <a:pt x="99" y="181"/>
                    </a:lnTo>
                    <a:lnTo>
                      <a:pt x="86" y="196"/>
                    </a:lnTo>
                    <a:lnTo>
                      <a:pt x="73" y="212"/>
                    </a:lnTo>
                    <a:lnTo>
                      <a:pt x="62" y="228"/>
                    </a:lnTo>
                    <a:lnTo>
                      <a:pt x="52" y="245"/>
                    </a:lnTo>
                    <a:lnTo>
                      <a:pt x="41" y="263"/>
                    </a:lnTo>
                    <a:lnTo>
                      <a:pt x="31" y="280"/>
                    </a:lnTo>
                    <a:lnTo>
                      <a:pt x="23" y="298"/>
                    </a:lnTo>
                    <a:lnTo>
                      <a:pt x="13" y="317"/>
                    </a:lnTo>
                    <a:lnTo>
                      <a:pt x="7" y="335"/>
                    </a:lnTo>
                    <a:lnTo>
                      <a:pt x="0" y="354"/>
                    </a:lnTo>
                    <a:lnTo>
                      <a:pt x="15" y="383"/>
                    </a:lnTo>
                    <a:lnTo>
                      <a:pt x="20" y="363"/>
                    </a:lnTo>
                    <a:lnTo>
                      <a:pt x="27" y="344"/>
                    </a:lnTo>
                    <a:lnTo>
                      <a:pt x="34" y="326"/>
                    </a:lnTo>
                    <a:lnTo>
                      <a:pt x="43" y="308"/>
                    </a:lnTo>
                    <a:lnTo>
                      <a:pt x="52" y="289"/>
                    </a:lnTo>
                    <a:lnTo>
                      <a:pt x="62" y="272"/>
                    </a:lnTo>
                    <a:lnTo>
                      <a:pt x="72" y="256"/>
                    </a:lnTo>
                    <a:lnTo>
                      <a:pt x="83" y="238"/>
                    </a:lnTo>
                    <a:lnTo>
                      <a:pt x="94" y="222"/>
                    </a:lnTo>
                    <a:lnTo>
                      <a:pt x="107" y="207"/>
                    </a:lnTo>
                    <a:lnTo>
                      <a:pt x="120" y="192"/>
                    </a:lnTo>
                    <a:lnTo>
                      <a:pt x="132" y="177"/>
                    </a:lnTo>
                    <a:lnTo>
                      <a:pt x="146" y="164"/>
                    </a:lnTo>
                    <a:lnTo>
                      <a:pt x="161" y="150"/>
                    </a:lnTo>
                    <a:lnTo>
                      <a:pt x="176" y="137"/>
                    </a:lnTo>
                    <a:lnTo>
                      <a:pt x="191" y="124"/>
                    </a:lnTo>
                    <a:lnTo>
                      <a:pt x="207" y="113"/>
                    </a:lnTo>
                    <a:lnTo>
                      <a:pt x="225" y="101"/>
                    </a:lnTo>
                    <a:lnTo>
                      <a:pt x="241" y="91"/>
                    </a:lnTo>
                    <a:lnTo>
                      <a:pt x="258" y="82"/>
                    </a:lnTo>
                    <a:lnTo>
                      <a:pt x="276" y="72"/>
                    </a:lnTo>
                    <a:lnTo>
                      <a:pt x="294" y="64"/>
                    </a:lnTo>
                    <a:lnTo>
                      <a:pt x="312" y="56"/>
                    </a:lnTo>
                    <a:lnTo>
                      <a:pt x="332" y="49"/>
                    </a:lnTo>
                    <a:lnTo>
                      <a:pt x="351" y="44"/>
                    </a:lnTo>
                    <a:lnTo>
                      <a:pt x="371" y="38"/>
                    </a:lnTo>
                    <a:lnTo>
                      <a:pt x="391" y="33"/>
                    </a:lnTo>
                    <a:lnTo>
                      <a:pt x="410" y="30"/>
                    </a:lnTo>
                    <a:lnTo>
                      <a:pt x="431" y="26"/>
                    </a:lnTo>
                    <a:lnTo>
                      <a:pt x="452" y="24"/>
                    </a:lnTo>
                    <a:lnTo>
                      <a:pt x="473" y="23"/>
                    </a:lnTo>
                    <a:lnTo>
                      <a:pt x="494" y="23"/>
                    </a:lnTo>
                    <a:lnTo>
                      <a:pt x="520" y="23"/>
                    </a:lnTo>
                    <a:lnTo>
                      <a:pt x="545" y="25"/>
                    </a:lnTo>
                    <a:lnTo>
                      <a:pt x="571" y="29"/>
                    </a:lnTo>
                    <a:lnTo>
                      <a:pt x="595" y="32"/>
                    </a:lnTo>
                    <a:lnTo>
                      <a:pt x="619" y="38"/>
                    </a:lnTo>
                    <a:lnTo>
                      <a:pt x="643" y="45"/>
                    </a:lnTo>
                    <a:lnTo>
                      <a:pt x="666" y="53"/>
                    </a:lnTo>
                    <a:lnTo>
                      <a:pt x="688" y="62"/>
                    </a:lnTo>
                    <a:lnTo>
                      <a:pt x="711" y="71"/>
                    </a:lnTo>
                    <a:lnTo>
                      <a:pt x="732" y="83"/>
                    </a:lnTo>
                    <a:lnTo>
                      <a:pt x="753" y="94"/>
                    </a:lnTo>
                    <a:lnTo>
                      <a:pt x="774" y="108"/>
                    </a:lnTo>
                    <a:lnTo>
                      <a:pt x="793" y="122"/>
                    </a:lnTo>
                    <a:lnTo>
                      <a:pt x="812" y="136"/>
                    </a:lnTo>
                    <a:lnTo>
                      <a:pt x="830" y="152"/>
                    </a:lnTo>
                    <a:lnTo>
                      <a:pt x="847" y="168"/>
                    </a:lnTo>
                    <a:lnTo>
                      <a:pt x="864" y="187"/>
                    </a:lnTo>
                    <a:lnTo>
                      <a:pt x="880" y="204"/>
                    </a:lnTo>
                    <a:lnTo>
                      <a:pt x="895" y="223"/>
                    </a:lnTo>
                    <a:lnTo>
                      <a:pt x="909" y="243"/>
                    </a:lnTo>
                    <a:lnTo>
                      <a:pt x="921" y="263"/>
                    </a:lnTo>
                    <a:lnTo>
                      <a:pt x="934" y="283"/>
                    </a:lnTo>
                    <a:lnTo>
                      <a:pt x="944" y="305"/>
                    </a:lnTo>
                    <a:lnTo>
                      <a:pt x="955" y="327"/>
                    </a:lnTo>
                    <a:lnTo>
                      <a:pt x="964" y="350"/>
                    </a:lnTo>
                    <a:lnTo>
                      <a:pt x="972" y="373"/>
                    </a:lnTo>
                    <a:lnTo>
                      <a:pt x="978" y="398"/>
                    </a:lnTo>
                    <a:lnTo>
                      <a:pt x="984" y="421"/>
                    </a:lnTo>
                    <a:lnTo>
                      <a:pt x="988" y="446"/>
                    </a:lnTo>
                    <a:lnTo>
                      <a:pt x="992" y="471"/>
                    </a:lnTo>
                    <a:lnTo>
                      <a:pt x="994" y="497"/>
                    </a:lnTo>
                    <a:lnTo>
                      <a:pt x="994" y="522"/>
                    </a:lnTo>
                    <a:lnTo>
                      <a:pt x="994" y="547"/>
                    </a:lnTo>
                    <a:lnTo>
                      <a:pt x="992" y="573"/>
                    </a:lnTo>
                    <a:lnTo>
                      <a:pt x="988" y="598"/>
                    </a:lnTo>
                    <a:lnTo>
                      <a:pt x="984" y="622"/>
                    </a:lnTo>
                    <a:lnTo>
                      <a:pt x="978" y="647"/>
                    </a:lnTo>
                    <a:lnTo>
                      <a:pt x="972" y="671"/>
                    </a:lnTo>
                    <a:lnTo>
                      <a:pt x="964" y="694"/>
                    </a:lnTo>
                    <a:lnTo>
                      <a:pt x="955" y="716"/>
                    </a:lnTo>
                    <a:lnTo>
                      <a:pt x="944" y="739"/>
                    </a:lnTo>
                    <a:lnTo>
                      <a:pt x="934" y="759"/>
                    </a:lnTo>
                    <a:lnTo>
                      <a:pt x="921" y="781"/>
                    </a:lnTo>
                    <a:lnTo>
                      <a:pt x="909" y="801"/>
                    </a:lnTo>
                    <a:lnTo>
                      <a:pt x="895" y="821"/>
                    </a:lnTo>
                    <a:lnTo>
                      <a:pt x="880" y="839"/>
                    </a:lnTo>
                    <a:lnTo>
                      <a:pt x="864" y="857"/>
                    </a:lnTo>
                    <a:lnTo>
                      <a:pt x="847" y="875"/>
                    </a:lnTo>
                    <a:lnTo>
                      <a:pt x="830" y="892"/>
                    </a:lnTo>
                    <a:lnTo>
                      <a:pt x="812" y="907"/>
                    </a:lnTo>
                    <a:lnTo>
                      <a:pt x="793" y="922"/>
                    </a:lnTo>
                    <a:lnTo>
                      <a:pt x="774" y="936"/>
                    </a:lnTo>
                    <a:lnTo>
                      <a:pt x="753" y="949"/>
                    </a:lnTo>
                    <a:lnTo>
                      <a:pt x="732" y="961"/>
                    </a:lnTo>
                    <a:lnTo>
                      <a:pt x="711" y="972"/>
                    </a:lnTo>
                    <a:lnTo>
                      <a:pt x="688" y="982"/>
                    </a:lnTo>
                    <a:lnTo>
                      <a:pt x="666" y="991"/>
                    </a:lnTo>
                    <a:lnTo>
                      <a:pt x="643" y="999"/>
                    </a:lnTo>
                    <a:lnTo>
                      <a:pt x="619" y="1005"/>
                    </a:lnTo>
                    <a:lnTo>
                      <a:pt x="595" y="1011"/>
                    </a:lnTo>
                    <a:lnTo>
                      <a:pt x="571" y="1015"/>
                    </a:lnTo>
                    <a:lnTo>
                      <a:pt x="545" y="1019"/>
                    </a:lnTo>
                    <a:lnTo>
                      <a:pt x="520" y="1021"/>
                    </a:lnTo>
                    <a:lnTo>
                      <a:pt x="494" y="1021"/>
                    </a:lnTo>
                    <a:lnTo>
                      <a:pt x="468" y="1021"/>
                    </a:lnTo>
                    <a:lnTo>
                      <a:pt x="443" y="1019"/>
                    </a:lnTo>
                    <a:lnTo>
                      <a:pt x="417" y="1015"/>
                    </a:lnTo>
                    <a:lnTo>
                      <a:pt x="392" y="1011"/>
                    </a:lnTo>
                    <a:lnTo>
                      <a:pt x="368" y="1005"/>
                    </a:lnTo>
                    <a:lnTo>
                      <a:pt x="343" y="998"/>
                    </a:lnTo>
                    <a:lnTo>
                      <a:pt x="319" y="990"/>
                    </a:lnTo>
                    <a:lnTo>
                      <a:pt x="296" y="981"/>
                    </a:lnTo>
                    <a:lnTo>
                      <a:pt x="318" y="1013"/>
                    </a:lnTo>
                    <a:lnTo>
                      <a:pt x="339" y="1021"/>
                    </a:lnTo>
                    <a:lnTo>
                      <a:pt x="360" y="1027"/>
                    </a:lnTo>
                    <a:lnTo>
                      <a:pt x="381" y="1032"/>
                    </a:lnTo>
                    <a:lnTo>
                      <a:pt x="403" y="1036"/>
                    </a:lnTo>
                    <a:lnTo>
                      <a:pt x="425" y="1040"/>
                    </a:lnTo>
                    <a:lnTo>
                      <a:pt x="448" y="1042"/>
                    </a:lnTo>
                    <a:lnTo>
                      <a:pt x="471" y="1043"/>
                    </a:lnTo>
                    <a:lnTo>
                      <a:pt x="494" y="1044"/>
                    </a:lnTo>
                    <a:lnTo>
                      <a:pt x="521" y="1043"/>
                    </a:lnTo>
                    <a:lnTo>
                      <a:pt x="548" y="1042"/>
                    </a:lnTo>
                    <a:lnTo>
                      <a:pt x="574" y="1038"/>
                    </a:lnTo>
                    <a:lnTo>
                      <a:pt x="599" y="1034"/>
                    </a:lnTo>
                    <a:lnTo>
                      <a:pt x="625" y="1028"/>
                    </a:lnTo>
                    <a:lnTo>
                      <a:pt x="649" y="1021"/>
                    </a:lnTo>
                    <a:lnTo>
                      <a:pt x="673" y="1012"/>
                    </a:lnTo>
                    <a:lnTo>
                      <a:pt x="697" y="1003"/>
                    </a:lnTo>
                    <a:lnTo>
                      <a:pt x="721" y="992"/>
                    </a:lnTo>
                    <a:lnTo>
                      <a:pt x="744" y="981"/>
                    </a:lnTo>
                    <a:lnTo>
                      <a:pt x="766" y="968"/>
                    </a:lnTo>
                    <a:lnTo>
                      <a:pt x="786" y="955"/>
                    </a:lnTo>
                    <a:lnTo>
                      <a:pt x="807" y="940"/>
                    </a:lnTo>
                    <a:lnTo>
                      <a:pt x="827" y="924"/>
                    </a:lnTo>
                    <a:lnTo>
                      <a:pt x="845" y="908"/>
                    </a:lnTo>
                    <a:lnTo>
                      <a:pt x="864" y="891"/>
                    </a:lnTo>
                    <a:lnTo>
                      <a:pt x="881" y="872"/>
                    </a:lnTo>
                    <a:lnTo>
                      <a:pt x="897" y="854"/>
                    </a:lnTo>
                    <a:lnTo>
                      <a:pt x="913" y="834"/>
                    </a:lnTo>
                    <a:lnTo>
                      <a:pt x="927" y="814"/>
                    </a:lnTo>
                    <a:lnTo>
                      <a:pt x="941" y="793"/>
                    </a:lnTo>
                    <a:lnTo>
                      <a:pt x="954" y="771"/>
                    </a:lnTo>
                    <a:lnTo>
                      <a:pt x="965" y="748"/>
                    </a:lnTo>
                    <a:lnTo>
                      <a:pt x="975" y="725"/>
                    </a:lnTo>
                    <a:lnTo>
                      <a:pt x="985" y="702"/>
                    </a:lnTo>
                    <a:lnTo>
                      <a:pt x="993" y="678"/>
                    </a:lnTo>
                    <a:lnTo>
                      <a:pt x="1000" y="652"/>
                    </a:lnTo>
                    <a:lnTo>
                      <a:pt x="1007" y="627"/>
                    </a:lnTo>
                    <a:lnTo>
                      <a:pt x="1011" y="602"/>
                    </a:lnTo>
                    <a:lnTo>
                      <a:pt x="1013" y="575"/>
                    </a:lnTo>
                    <a:lnTo>
                      <a:pt x="1016" y="549"/>
                    </a:lnTo>
                    <a:lnTo>
                      <a:pt x="1017" y="522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62760" y="3803760"/>
                <a:ext cx="264960" cy="269640"/>
              </a:xfrm>
              <a:custGeom>
                <a:avLst/>
                <a:gdLst/>
                <a:ahLst/>
                <a:rect l="l" t="t" r="r" b="b"/>
                <a:pathLst>
                  <a:path w="998" h="1022">
                    <a:moveTo>
                      <a:pt x="998" y="511"/>
                    </a:moveTo>
                    <a:lnTo>
                      <a:pt x="997" y="484"/>
                    </a:lnTo>
                    <a:lnTo>
                      <a:pt x="996" y="459"/>
                    </a:lnTo>
                    <a:lnTo>
                      <a:pt x="993" y="433"/>
                    </a:lnTo>
                    <a:lnTo>
                      <a:pt x="988" y="408"/>
                    </a:lnTo>
                    <a:lnTo>
                      <a:pt x="982" y="383"/>
                    </a:lnTo>
                    <a:lnTo>
                      <a:pt x="975" y="359"/>
                    </a:lnTo>
                    <a:lnTo>
                      <a:pt x="967" y="336"/>
                    </a:lnTo>
                    <a:lnTo>
                      <a:pt x="958" y="312"/>
                    </a:lnTo>
                    <a:lnTo>
                      <a:pt x="948" y="290"/>
                    </a:lnTo>
                    <a:lnTo>
                      <a:pt x="936" y="268"/>
                    </a:lnTo>
                    <a:lnTo>
                      <a:pt x="925" y="246"/>
                    </a:lnTo>
                    <a:lnTo>
                      <a:pt x="911" y="225"/>
                    </a:lnTo>
                    <a:lnTo>
                      <a:pt x="897" y="206"/>
                    </a:lnTo>
                    <a:lnTo>
                      <a:pt x="882" y="186"/>
                    </a:lnTo>
                    <a:lnTo>
                      <a:pt x="866" y="167"/>
                    </a:lnTo>
                    <a:lnTo>
                      <a:pt x="848" y="150"/>
                    </a:lnTo>
                    <a:lnTo>
                      <a:pt x="831" y="133"/>
                    </a:lnTo>
                    <a:lnTo>
                      <a:pt x="813" y="117"/>
                    </a:lnTo>
                    <a:lnTo>
                      <a:pt x="793" y="102"/>
                    </a:lnTo>
                    <a:lnTo>
                      <a:pt x="772" y="87"/>
                    </a:lnTo>
                    <a:lnTo>
                      <a:pt x="752" y="74"/>
                    </a:lnTo>
                    <a:lnTo>
                      <a:pt x="731" y="61"/>
                    </a:lnTo>
                    <a:lnTo>
                      <a:pt x="709" y="50"/>
                    </a:lnTo>
                    <a:lnTo>
                      <a:pt x="686" y="41"/>
                    </a:lnTo>
                    <a:lnTo>
                      <a:pt x="663" y="31"/>
                    </a:lnTo>
                    <a:lnTo>
                      <a:pt x="639" y="23"/>
                    </a:lnTo>
                    <a:lnTo>
                      <a:pt x="614" y="16"/>
                    </a:lnTo>
                    <a:lnTo>
                      <a:pt x="590" y="11"/>
                    </a:lnTo>
                    <a:lnTo>
                      <a:pt x="565" y="6"/>
                    </a:lnTo>
                    <a:lnTo>
                      <a:pt x="539" y="3"/>
                    </a:lnTo>
                    <a:lnTo>
                      <a:pt x="514" y="0"/>
                    </a:lnTo>
                    <a:lnTo>
                      <a:pt x="487" y="0"/>
                    </a:lnTo>
                    <a:lnTo>
                      <a:pt x="466" y="0"/>
                    </a:lnTo>
                    <a:lnTo>
                      <a:pt x="445" y="1"/>
                    </a:lnTo>
                    <a:lnTo>
                      <a:pt x="424" y="4"/>
                    </a:lnTo>
                    <a:lnTo>
                      <a:pt x="403" y="7"/>
                    </a:lnTo>
                    <a:lnTo>
                      <a:pt x="382" y="11"/>
                    </a:lnTo>
                    <a:lnTo>
                      <a:pt x="363" y="15"/>
                    </a:lnTo>
                    <a:lnTo>
                      <a:pt x="343" y="21"/>
                    </a:lnTo>
                    <a:lnTo>
                      <a:pt x="324" y="27"/>
                    </a:lnTo>
                    <a:lnTo>
                      <a:pt x="304" y="34"/>
                    </a:lnTo>
                    <a:lnTo>
                      <a:pt x="286" y="41"/>
                    </a:lnTo>
                    <a:lnTo>
                      <a:pt x="267" y="50"/>
                    </a:lnTo>
                    <a:lnTo>
                      <a:pt x="250" y="58"/>
                    </a:lnTo>
                    <a:lnTo>
                      <a:pt x="233" y="68"/>
                    </a:lnTo>
                    <a:lnTo>
                      <a:pt x="215" y="79"/>
                    </a:lnTo>
                    <a:lnTo>
                      <a:pt x="198" y="89"/>
                    </a:lnTo>
                    <a:lnTo>
                      <a:pt x="182" y="101"/>
                    </a:lnTo>
                    <a:lnTo>
                      <a:pt x="167" y="113"/>
                    </a:lnTo>
                    <a:lnTo>
                      <a:pt x="152" y="126"/>
                    </a:lnTo>
                    <a:lnTo>
                      <a:pt x="137" y="140"/>
                    </a:lnTo>
                    <a:lnTo>
                      <a:pt x="123" y="154"/>
                    </a:lnTo>
                    <a:lnTo>
                      <a:pt x="109" y="167"/>
                    </a:lnTo>
                    <a:lnTo>
                      <a:pt x="95" y="182"/>
                    </a:lnTo>
                    <a:lnTo>
                      <a:pt x="83" y="199"/>
                    </a:lnTo>
                    <a:lnTo>
                      <a:pt x="71" y="214"/>
                    </a:lnTo>
                    <a:lnTo>
                      <a:pt x="60" y="231"/>
                    </a:lnTo>
                    <a:lnTo>
                      <a:pt x="49" y="247"/>
                    </a:lnTo>
                    <a:lnTo>
                      <a:pt x="40" y="264"/>
                    </a:lnTo>
                    <a:lnTo>
                      <a:pt x="30" y="283"/>
                    </a:lnTo>
                    <a:lnTo>
                      <a:pt x="21" y="301"/>
                    </a:lnTo>
                    <a:lnTo>
                      <a:pt x="13" y="320"/>
                    </a:lnTo>
                    <a:lnTo>
                      <a:pt x="6" y="338"/>
                    </a:lnTo>
                    <a:lnTo>
                      <a:pt x="0" y="358"/>
                    </a:lnTo>
                    <a:lnTo>
                      <a:pt x="15" y="387"/>
                    </a:lnTo>
                    <a:lnTo>
                      <a:pt x="20" y="367"/>
                    </a:lnTo>
                    <a:lnTo>
                      <a:pt x="27" y="347"/>
                    </a:lnTo>
                    <a:lnTo>
                      <a:pt x="34" y="329"/>
                    </a:lnTo>
                    <a:lnTo>
                      <a:pt x="42" y="310"/>
                    </a:lnTo>
                    <a:lnTo>
                      <a:pt x="50" y="293"/>
                    </a:lnTo>
                    <a:lnTo>
                      <a:pt x="60" y="275"/>
                    </a:lnTo>
                    <a:lnTo>
                      <a:pt x="70" y="259"/>
                    </a:lnTo>
                    <a:lnTo>
                      <a:pt x="80" y="241"/>
                    </a:lnTo>
                    <a:lnTo>
                      <a:pt x="92" y="225"/>
                    </a:lnTo>
                    <a:lnTo>
                      <a:pt x="103" y="209"/>
                    </a:lnTo>
                    <a:lnTo>
                      <a:pt x="116" y="194"/>
                    </a:lnTo>
                    <a:lnTo>
                      <a:pt x="129" y="179"/>
                    </a:lnTo>
                    <a:lnTo>
                      <a:pt x="143" y="165"/>
                    </a:lnTo>
                    <a:lnTo>
                      <a:pt x="156" y="151"/>
                    </a:lnTo>
                    <a:lnTo>
                      <a:pt x="171" y="139"/>
                    </a:lnTo>
                    <a:lnTo>
                      <a:pt x="186" y="126"/>
                    </a:lnTo>
                    <a:lnTo>
                      <a:pt x="203" y="114"/>
                    </a:lnTo>
                    <a:lnTo>
                      <a:pt x="219" y="103"/>
                    </a:lnTo>
                    <a:lnTo>
                      <a:pt x="236" y="93"/>
                    </a:lnTo>
                    <a:lnTo>
                      <a:pt x="253" y="82"/>
                    </a:lnTo>
                    <a:lnTo>
                      <a:pt x="271" y="74"/>
                    </a:lnTo>
                    <a:lnTo>
                      <a:pt x="288" y="65"/>
                    </a:lnTo>
                    <a:lnTo>
                      <a:pt x="306" y="57"/>
                    </a:lnTo>
                    <a:lnTo>
                      <a:pt x="326" y="50"/>
                    </a:lnTo>
                    <a:lnTo>
                      <a:pt x="344" y="44"/>
                    </a:lnTo>
                    <a:lnTo>
                      <a:pt x="364" y="38"/>
                    </a:lnTo>
                    <a:lnTo>
                      <a:pt x="384" y="34"/>
                    </a:lnTo>
                    <a:lnTo>
                      <a:pt x="404" y="30"/>
                    </a:lnTo>
                    <a:lnTo>
                      <a:pt x="424" y="27"/>
                    </a:lnTo>
                    <a:lnTo>
                      <a:pt x="445" y="25"/>
                    </a:lnTo>
                    <a:lnTo>
                      <a:pt x="466" y="23"/>
                    </a:lnTo>
                    <a:lnTo>
                      <a:pt x="487" y="22"/>
                    </a:lnTo>
                    <a:lnTo>
                      <a:pt x="513" y="23"/>
                    </a:lnTo>
                    <a:lnTo>
                      <a:pt x="537" y="26"/>
                    </a:lnTo>
                    <a:lnTo>
                      <a:pt x="561" y="28"/>
                    </a:lnTo>
                    <a:lnTo>
                      <a:pt x="585" y="33"/>
                    </a:lnTo>
                    <a:lnTo>
                      <a:pt x="610" y="38"/>
                    </a:lnTo>
                    <a:lnTo>
                      <a:pt x="633" y="45"/>
                    </a:lnTo>
                    <a:lnTo>
                      <a:pt x="655" y="52"/>
                    </a:lnTo>
                    <a:lnTo>
                      <a:pt x="678" y="61"/>
                    </a:lnTo>
                    <a:lnTo>
                      <a:pt x="699" y="71"/>
                    </a:lnTo>
                    <a:lnTo>
                      <a:pt x="720" y="82"/>
                    </a:lnTo>
                    <a:lnTo>
                      <a:pt x="740" y="94"/>
                    </a:lnTo>
                    <a:lnTo>
                      <a:pt x="760" y="106"/>
                    </a:lnTo>
                    <a:lnTo>
                      <a:pt x="779" y="120"/>
                    </a:lnTo>
                    <a:lnTo>
                      <a:pt x="798" y="134"/>
                    </a:lnTo>
                    <a:lnTo>
                      <a:pt x="815" y="150"/>
                    </a:lnTo>
                    <a:lnTo>
                      <a:pt x="832" y="165"/>
                    </a:lnTo>
                    <a:lnTo>
                      <a:pt x="848" y="182"/>
                    </a:lnTo>
                    <a:lnTo>
                      <a:pt x="863" y="201"/>
                    </a:lnTo>
                    <a:lnTo>
                      <a:pt x="878" y="219"/>
                    </a:lnTo>
                    <a:lnTo>
                      <a:pt x="892" y="238"/>
                    </a:lnTo>
                    <a:lnTo>
                      <a:pt x="905" y="257"/>
                    </a:lnTo>
                    <a:lnTo>
                      <a:pt x="917" y="278"/>
                    </a:lnTo>
                    <a:lnTo>
                      <a:pt x="927" y="299"/>
                    </a:lnTo>
                    <a:lnTo>
                      <a:pt x="937" y="321"/>
                    </a:lnTo>
                    <a:lnTo>
                      <a:pt x="945" y="343"/>
                    </a:lnTo>
                    <a:lnTo>
                      <a:pt x="953" y="366"/>
                    </a:lnTo>
                    <a:lnTo>
                      <a:pt x="960" y="389"/>
                    </a:lnTo>
                    <a:lnTo>
                      <a:pt x="966" y="413"/>
                    </a:lnTo>
                    <a:lnTo>
                      <a:pt x="970" y="436"/>
                    </a:lnTo>
                    <a:lnTo>
                      <a:pt x="973" y="461"/>
                    </a:lnTo>
                    <a:lnTo>
                      <a:pt x="975" y="486"/>
                    </a:lnTo>
                    <a:lnTo>
                      <a:pt x="975" y="511"/>
                    </a:lnTo>
                    <a:lnTo>
                      <a:pt x="975" y="536"/>
                    </a:lnTo>
                    <a:lnTo>
                      <a:pt x="973" y="561"/>
                    </a:lnTo>
                    <a:lnTo>
                      <a:pt x="970" y="585"/>
                    </a:lnTo>
                    <a:lnTo>
                      <a:pt x="966" y="609"/>
                    </a:lnTo>
                    <a:lnTo>
                      <a:pt x="960" y="633"/>
                    </a:lnTo>
                    <a:lnTo>
                      <a:pt x="953" y="656"/>
                    </a:lnTo>
                    <a:lnTo>
                      <a:pt x="945" y="678"/>
                    </a:lnTo>
                    <a:lnTo>
                      <a:pt x="937" y="701"/>
                    </a:lnTo>
                    <a:lnTo>
                      <a:pt x="927" y="722"/>
                    </a:lnTo>
                    <a:lnTo>
                      <a:pt x="917" y="744"/>
                    </a:lnTo>
                    <a:lnTo>
                      <a:pt x="905" y="765"/>
                    </a:lnTo>
                    <a:lnTo>
                      <a:pt x="892" y="784"/>
                    </a:lnTo>
                    <a:lnTo>
                      <a:pt x="878" y="803"/>
                    </a:lnTo>
                    <a:lnTo>
                      <a:pt x="863" y="821"/>
                    </a:lnTo>
                    <a:lnTo>
                      <a:pt x="848" y="840"/>
                    </a:lnTo>
                    <a:lnTo>
                      <a:pt x="832" y="856"/>
                    </a:lnTo>
                    <a:lnTo>
                      <a:pt x="815" y="872"/>
                    </a:lnTo>
                    <a:lnTo>
                      <a:pt x="798" y="888"/>
                    </a:lnTo>
                    <a:lnTo>
                      <a:pt x="779" y="902"/>
                    </a:lnTo>
                    <a:lnTo>
                      <a:pt x="760" y="916"/>
                    </a:lnTo>
                    <a:lnTo>
                      <a:pt x="740" y="928"/>
                    </a:lnTo>
                    <a:lnTo>
                      <a:pt x="720" y="940"/>
                    </a:lnTo>
                    <a:lnTo>
                      <a:pt x="699" y="951"/>
                    </a:lnTo>
                    <a:lnTo>
                      <a:pt x="678" y="961"/>
                    </a:lnTo>
                    <a:lnTo>
                      <a:pt x="655" y="970"/>
                    </a:lnTo>
                    <a:lnTo>
                      <a:pt x="633" y="977"/>
                    </a:lnTo>
                    <a:lnTo>
                      <a:pt x="610" y="984"/>
                    </a:lnTo>
                    <a:lnTo>
                      <a:pt x="585" y="989"/>
                    </a:lnTo>
                    <a:lnTo>
                      <a:pt x="561" y="993"/>
                    </a:lnTo>
                    <a:lnTo>
                      <a:pt x="537" y="996"/>
                    </a:lnTo>
                    <a:lnTo>
                      <a:pt x="513" y="999"/>
                    </a:lnTo>
                    <a:lnTo>
                      <a:pt x="487" y="999"/>
                    </a:lnTo>
                    <a:lnTo>
                      <a:pt x="460" y="999"/>
                    </a:lnTo>
                    <a:lnTo>
                      <a:pt x="432" y="996"/>
                    </a:lnTo>
                    <a:lnTo>
                      <a:pt x="406" y="992"/>
                    </a:lnTo>
                    <a:lnTo>
                      <a:pt x="379" y="987"/>
                    </a:lnTo>
                    <a:lnTo>
                      <a:pt x="354" y="980"/>
                    </a:lnTo>
                    <a:lnTo>
                      <a:pt x="328" y="972"/>
                    </a:lnTo>
                    <a:lnTo>
                      <a:pt x="304" y="964"/>
                    </a:lnTo>
                    <a:lnTo>
                      <a:pt x="280" y="953"/>
                    </a:lnTo>
                    <a:lnTo>
                      <a:pt x="286" y="963"/>
                    </a:lnTo>
                    <a:lnTo>
                      <a:pt x="301" y="986"/>
                    </a:lnTo>
                    <a:lnTo>
                      <a:pt x="323" y="994"/>
                    </a:lnTo>
                    <a:lnTo>
                      <a:pt x="344" y="1002"/>
                    </a:lnTo>
                    <a:lnTo>
                      <a:pt x="368" y="1008"/>
                    </a:lnTo>
                    <a:lnTo>
                      <a:pt x="391" y="1012"/>
                    </a:lnTo>
                    <a:lnTo>
                      <a:pt x="415" y="1017"/>
                    </a:lnTo>
                    <a:lnTo>
                      <a:pt x="438" y="1019"/>
                    </a:lnTo>
                    <a:lnTo>
                      <a:pt x="462" y="1021"/>
                    </a:lnTo>
                    <a:lnTo>
                      <a:pt x="487" y="1022"/>
                    </a:lnTo>
                    <a:lnTo>
                      <a:pt x="514" y="1021"/>
                    </a:lnTo>
                    <a:lnTo>
                      <a:pt x="539" y="1019"/>
                    </a:lnTo>
                    <a:lnTo>
                      <a:pt x="565" y="1016"/>
                    </a:lnTo>
                    <a:lnTo>
                      <a:pt x="590" y="1011"/>
                    </a:lnTo>
                    <a:lnTo>
                      <a:pt x="614" y="1006"/>
                    </a:lnTo>
                    <a:lnTo>
                      <a:pt x="639" y="999"/>
                    </a:lnTo>
                    <a:lnTo>
                      <a:pt x="663" y="991"/>
                    </a:lnTo>
                    <a:lnTo>
                      <a:pt x="686" y="981"/>
                    </a:lnTo>
                    <a:lnTo>
                      <a:pt x="709" y="971"/>
                    </a:lnTo>
                    <a:lnTo>
                      <a:pt x="731" y="961"/>
                    </a:lnTo>
                    <a:lnTo>
                      <a:pt x="752" y="948"/>
                    </a:lnTo>
                    <a:lnTo>
                      <a:pt x="772" y="934"/>
                    </a:lnTo>
                    <a:lnTo>
                      <a:pt x="793" y="920"/>
                    </a:lnTo>
                    <a:lnTo>
                      <a:pt x="813" y="905"/>
                    </a:lnTo>
                    <a:lnTo>
                      <a:pt x="831" y="889"/>
                    </a:lnTo>
                    <a:lnTo>
                      <a:pt x="848" y="872"/>
                    </a:lnTo>
                    <a:lnTo>
                      <a:pt x="866" y="855"/>
                    </a:lnTo>
                    <a:lnTo>
                      <a:pt x="882" y="836"/>
                    </a:lnTo>
                    <a:lnTo>
                      <a:pt x="897" y="816"/>
                    </a:lnTo>
                    <a:lnTo>
                      <a:pt x="911" y="797"/>
                    </a:lnTo>
                    <a:lnTo>
                      <a:pt x="925" y="776"/>
                    </a:lnTo>
                    <a:lnTo>
                      <a:pt x="936" y="754"/>
                    </a:lnTo>
                    <a:lnTo>
                      <a:pt x="948" y="732"/>
                    </a:lnTo>
                    <a:lnTo>
                      <a:pt x="958" y="709"/>
                    </a:lnTo>
                    <a:lnTo>
                      <a:pt x="967" y="686"/>
                    </a:lnTo>
                    <a:lnTo>
                      <a:pt x="975" y="663"/>
                    </a:lnTo>
                    <a:lnTo>
                      <a:pt x="982" y="639"/>
                    </a:lnTo>
                    <a:lnTo>
                      <a:pt x="988" y="614"/>
                    </a:lnTo>
                    <a:lnTo>
                      <a:pt x="993" y="588"/>
                    </a:lnTo>
                    <a:lnTo>
                      <a:pt x="996" y="563"/>
                    </a:lnTo>
                    <a:lnTo>
                      <a:pt x="997" y="538"/>
                    </a:lnTo>
                    <a:lnTo>
                      <a:pt x="998" y="511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66000" y="3807000"/>
                <a:ext cx="258480" cy="263520"/>
              </a:xfrm>
              <a:custGeom>
                <a:avLst/>
                <a:gdLst/>
                <a:ahLst/>
                <a:rect l="l" t="t" r="r" b="b"/>
                <a:pathLst>
                  <a:path w="979" h="998">
                    <a:moveTo>
                      <a:pt x="979" y="499"/>
                    </a:moveTo>
                    <a:lnTo>
                      <a:pt x="979" y="474"/>
                    </a:lnTo>
                    <a:lnTo>
                      <a:pt x="977" y="448"/>
                    </a:lnTo>
                    <a:lnTo>
                      <a:pt x="973" y="423"/>
                    </a:lnTo>
                    <a:lnTo>
                      <a:pt x="969" y="398"/>
                    </a:lnTo>
                    <a:lnTo>
                      <a:pt x="963" y="375"/>
                    </a:lnTo>
                    <a:lnTo>
                      <a:pt x="957" y="350"/>
                    </a:lnTo>
                    <a:lnTo>
                      <a:pt x="949" y="327"/>
                    </a:lnTo>
                    <a:lnTo>
                      <a:pt x="940" y="304"/>
                    </a:lnTo>
                    <a:lnTo>
                      <a:pt x="929" y="282"/>
                    </a:lnTo>
                    <a:lnTo>
                      <a:pt x="919" y="260"/>
                    </a:lnTo>
                    <a:lnTo>
                      <a:pt x="906" y="240"/>
                    </a:lnTo>
                    <a:lnTo>
                      <a:pt x="894" y="220"/>
                    </a:lnTo>
                    <a:lnTo>
                      <a:pt x="880" y="200"/>
                    </a:lnTo>
                    <a:lnTo>
                      <a:pt x="865" y="181"/>
                    </a:lnTo>
                    <a:lnTo>
                      <a:pt x="849" y="164"/>
                    </a:lnTo>
                    <a:lnTo>
                      <a:pt x="832" y="145"/>
                    </a:lnTo>
                    <a:lnTo>
                      <a:pt x="815" y="129"/>
                    </a:lnTo>
                    <a:lnTo>
                      <a:pt x="797" y="113"/>
                    </a:lnTo>
                    <a:lnTo>
                      <a:pt x="778" y="99"/>
                    </a:lnTo>
                    <a:lnTo>
                      <a:pt x="759" y="85"/>
                    </a:lnTo>
                    <a:lnTo>
                      <a:pt x="738" y="71"/>
                    </a:lnTo>
                    <a:lnTo>
                      <a:pt x="717" y="60"/>
                    </a:lnTo>
                    <a:lnTo>
                      <a:pt x="696" y="48"/>
                    </a:lnTo>
                    <a:lnTo>
                      <a:pt x="673" y="39"/>
                    </a:lnTo>
                    <a:lnTo>
                      <a:pt x="651" y="30"/>
                    </a:lnTo>
                    <a:lnTo>
                      <a:pt x="628" y="22"/>
                    </a:lnTo>
                    <a:lnTo>
                      <a:pt x="604" y="15"/>
                    </a:lnTo>
                    <a:lnTo>
                      <a:pt x="580" y="9"/>
                    </a:lnTo>
                    <a:lnTo>
                      <a:pt x="556" y="6"/>
                    </a:lnTo>
                    <a:lnTo>
                      <a:pt x="530" y="2"/>
                    </a:lnTo>
                    <a:lnTo>
                      <a:pt x="505" y="0"/>
                    </a:lnTo>
                    <a:lnTo>
                      <a:pt x="479" y="0"/>
                    </a:lnTo>
                    <a:lnTo>
                      <a:pt x="458" y="0"/>
                    </a:lnTo>
                    <a:lnTo>
                      <a:pt x="437" y="1"/>
                    </a:lnTo>
                    <a:lnTo>
                      <a:pt x="416" y="3"/>
                    </a:lnTo>
                    <a:lnTo>
                      <a:pt x="395" y="7"/>
                    </a:lnTo>
                    <a:lnTo>
                      <a:pt x="376" y="10"/>
                    </a:lnTo>
                    <a:lnTo>
                      <a:pt x="356" y="15"/>
                    </a:lnTo>
                    <a:lnTo>
                      <a:pt x="336" y="21"/>
                    </a:lnTo>
                    <a:lnTo>
                      <a:pt x="317" y="26"/>
                    </a:lnTo>
                    <a:lnTo>
                      <a:pt x="297" y="33"/>
                    </a:lnTo>
                    <a:lnTo>
                      <a:pt x="279" y="41"/>
                    </a:lnTo>
                    <a:lnTo>
                      <a:pt x="261" y="49"/>
                    </a:lnTo>
                    <a:lnTo>
                      <a:pt x="243" y="59"/>
                    </a:lnTo>
                    <a:lnTo>
                      <a:pt x="226" y="68"/>
                    </a:lnTo>
                    <a:lnTo>
                      <a:pt x="210" y="78"/>
                    </a:lnTo>
                    <a:lnTo>
                      <a:pt x="192" y="90"/>
                    </a:lnTo>
                    <a:lnTo>
                      <a:pt x="176" y="101"/>
                    </a:lnTo>
                    <a:lnTo>
                      <a:pt x="161" y="114"/>
                    </a:lnTo>
                    <a:lnTo>
                      <a:pt x="146" y="127"/>
                    </a:lnTo>
                    <a:lnTo>
                      <a:pt x="131" y="141"/>
                    </a:lnTo>
                    <a:lnTo>
                      <a:pt x="117" y="154"/>
                    </a:lnTo>
                    <a:lnTo>
                      <a:pt x="105" y="169"/>
                    </a:lnTo>
                    <a:lnTo>
                      <a:pt x="92" y="184"/>
                    </a:lnTo>
                    <a:lnTo>
                      <a:pt x="79" y="199"/>
                    </a:lnTo>
                    <a:lnTo>
                      <a:pt x="68" y="215"/>
                    </a:lnTo>
                    <a:lnTo>
                      <a:pt x="57" y="233"/>
                    </a:lnTo>
                    <a:lnTo>
                      <a:pt x="47" y="249"/>
                    </a:lnTo>
                    <a:lnTo>
                      <a:pt x="37" y="266"/>
                    </a:lnTo>
                    <a:lnTo>
                      <a:pt x="28" y="285"/>
                    </a:lnTo>
                    <a:lnTo>
                      <a:pt x="19" y="303"/>
                    </a:lnTo>
                    <a:lnTo>
                      <a:pt x="12" y="321"/>
                    </a:lnTo>
                    <a:lnTo>
                      <a:pt x="5" y="340"/>
                    </a:lnTo>
                    <a:lnTo>
                      <a:pt x="0" y="360"/>
                    </a:lnTo>
                    <a:lnTo>
                      <a:pt x="9" y="378"/>
                    </a:lnTo>
                    <a:lnTo>
                      <a:pt x="15" y="389"/>
                    </a:lnTo>
                    <a:lnTo>
                      <a:pt x="20" y="370"/>
                    </a:lnTo>
                    <a:lnTo>
                      <a:pt x="26" y="351"/>
                    </a:lnTo>
                    <a:lnTo>
                      <a:pt x="32" y="332"/>
                    </a:lnTo>
                    <a:lnTo>
                      <a:pt x="40" y="313"/>
                    </a:lnTo>
                    <a:lnTo>
                      <a:pt x="48" y="295"/>
                    </a:lnTo>
                    <a:lnTo>
                      <a:pt x="56" y="278"/>
                    </a:lnTo>
                    <a:lnTo>
                      <a:pt x="67" y="260"/>
                    </a:lnTo>
                    <a:lnTo>
                      <a:pt x="77" y="243"/>
                    </a:lnTo>
                    <a:lnTo>
                      <a:pt x="87" y="227"/>
                    </a:lnTo>
                    <a:lnTo>
                      <a:pt x="99" y="211"/>
                    </a:lnTo>
                    <a:lnTo>
                      <a:pt x="112" y="196"/>
                    </a:lnTo>
                    <a:lnTo>
                      <a:pt x="124" y="181"/>
                    </a:lnTo>
                    <a:lnTo>
                      <a:pt x="137" y="167"/>
                    </a:lnTo>
                    <a:lnTo>
                      <a:pt x="151" y="153"/>
                    </a:lnTo>
                    <a:lnTo>
                      <a:pt x="166" y="139"/>
                    </a:lnTo>
                    <a:lnTo>
                      <a:pt x="181" y="127"/>
                    </a:lnTo>
                    <a:lnTo>
                      <a:pt x="197" y="115"/>
                    </a:lnTo>
                    <a:lnTo>
                      <a:pt x="213" y="104"/>
                    </a:lnTo>
                    <a:lnTo>
                      <a:pt x="229" y="93"/>
                    </a:lnTo>
                    <a:lnTo>
                      <a:pt x="246" y="83"/>
                    </a:lnTo>
                    <a:lnTo>
                      <a:pt x="264" y="74"/>
                    </a:lnTo>
                    <a:lnTo>
                      <a:pt x="281" y="66"/>
                    </a:lnTo>
                    <a:lnTo>
                      <a:pt x="300" y="58"/>
                    </a:lnTo>
                    <a:lnTo>
                      <a:pt x="318" y="49"/>
                    </a:lnTo>
                    <a:lnTo>
                      <a:pt x="338" y="44"/>
                    </a:lnTo>
                    <a:lnTo>
                      <a:pt x="357" y="38"/>
                    </a:lnTo>
                    <a:lnTo>
                      <a:pt x="377" y="33"/>
                    </a:lnTo>
                    <a:lnTo>
                      <a:pt x="396" y="29"/>
                    </a:lnTo>
                    <a:lnTo>
                      <a:pt x="417" y="26"/>
                    </a:lnTo>
                    <a:lnTo>
                      <a:pt x="437" y="24"/>
                    </a:lnTo>
                    <a:lnTo>
                      <a:pt x="458" y="23"/>
                    </a:lnTo>
                    <a:lnTo>
                      <a:pt x="479" y="22"/>
                    </a:lnTo>
                    <a:lnTo>
                      <a:pt x="504" y="23"/>
                    </a:lnTo>
                    <a:lnTo>
                      <a:pt x="528" y="24"/>
                    </a:lnTo>
                    <a:lnTo>
                      <a:pt x="552" y="28"/>
                    </a:lnTo>
                    <a:lnTo>
                      <a:pt x="575" y="32"/>
                    </a:lnTo>
                    <a:lnTo>
                      <a:pt x="598" y="37"/>
                    </a:lnTo>
                    <a:lnTo>
                      <a:pt x="621" y="44"/>
                    </a:lnTo>
                    <a:lnTo>
                      <a:pt x="643" y="51"/>
                    </a:lnTo>
                    <a:lnTo>
                      <a:pt x="665" y="60"/>
                    </a:lnTo>
                    <a:lnTo>
                      <a:pt x="686" y="69"/>
                    </a:lnTo>
                    <a:lnTo>
                      <a:pt x="707" y="79"/>
                    </a:lnTo>
                    <a:lnTo>
                      <a:pt x="726" y="91"/>
                    </a:lnTo>
                    <a:lnTo>
                      <a:pt x="746" y="104"/>
                    </a:lnTo>
                    <a:lnTo>
                      <a:pt x="764" y="117"/>
                    </a:lnTo>
                    <a:lnTo>
                      <a:pt x="783" y="131"/>
                    </a:lnTo>
                    <a:lnTo>
                      <a:pt x="800" y="146"/>
                    </a:lnTo>
                    <a:lnTo>
                      <a:pt x="816" y="161"/>
                    </a:lnTo>
                    <a:lnTo>
                      <a:pt x="832" y="179"/>
                    </a:lnTo>
                    <a:lnTo>
                      <a:pt x="847" y="196"/>
                    </a:lnTo>
                    <a:lnTo>
                      <a:pt x="861" y="213"/>
                    </a:lnTo>
                    <a:lnTo>
                      <a:pt x="875" y="233"/>
                    </a:lnTo>
                    <a:lnTo>
                      <a:pt x="887" y="252"/>
                    </a:lnTo>
                    <a:lnTo>
                      <a:pt x="898" y="272"/>
                    </a:lnTo>
                    <a:lnTo>
                      <a:pt x="909" y="293"/>
                    </a:lnTo>
                    <a:lnTo>
                      <a:pt x="919" y="313"/>
                    </a:lnTo>
                    <a:lnTo>
                      <a:pt x="927" y="335"/>
                    </a:lnTo>
                    <a:lnTo>
                      <a:pt x="935" y="357"/>
                    </a:lnTo>
                    <a:lnTo>
                      <a:pt x="941" y="380"/>
                    </a:lnTo>
                    <a:lnTo>
                      <a:pt x="947" y="403"/>
                    </a:lnTo>
                    <a:lnTo>
                      <a:pt x="951" y="426"/>
                    </a:lnTo>
                    <a:lnTo>
                      <a:pt x="954" y="451"/>
                    </a:lnTo>
                    <a:lnTo>
                      <a:pt x="956" y="475"/>
                    </a:lnTo>
                    <a:lnTo>
                      <a:pt x="956" y="499"/>
                    </a:lnTo>
                    <a:lnTo>
                      <a:pt x="956" y="523"/>
                    </a:lnTo>
                    <a:lnTo>
                      <a:pt x="954" y="547"/>
                    </a:lnTo>
                    <a:lnTo>
                      <a:pt x="951" y="572"/>
                    </a:lnTo>
                    <a:lnTo>
                      <a:pt x="947" y="595"/>
                    </a:lnTo>
                    <a:lnTo>
                      <a:pt x="941" y="618"/>
                    </a:lnTo>
                    <a:lnTo>
                      <a:pt x="935" y="641"/>
                    </a:lnTo>
                    <a:lnTo>
                      <a:pt x="927" y="663"/>
                    </a:lnTo>
                    <a:lnTo>
                      <a:pt x="919" y="685"/>
                    </a:lnTo>
                    <a:lnTo>
                      <a:pt x="909" y="705"/>
                    </a:lnTo>
                    <a:lnTo>
                      <a:pt x="898" y="726"/>
                    </a:lnTo>
                    <a:lnTo>
                      <a:pt x="887" y="746"/>
                    </a:lnTo>
                    <a:lnTo>
                      <a:pt x="875" y="765"/>
                    </a:lnTo>
                    <a:lnTo>
                      <a:pt x="861" y="784"/>
                    </a:lnTo>
                    <a:lnTo>
                      <a:pt x="847" y="802"/>
                    </a:lnTo>
                    <a:lnTo>
                      <a:pt x="832" y="819"/>
                    </a:lnTo>
                    <a:lnTo>
                      <a:pt x="816" y="836"/>
                    </a:lnTo>
                    <a:lnTo>
                      <a:pt x="800" y="852"/>
                    </a:lnTo>
                    <a:lnTo>
                      <a:pt x="783" y="867"/>
                    </a:lnTo>
                    <a:lnTo>
                      <a:pt x="764" y="881"/>
                    </a:lnTo>
                    <a:lnTo>
                      <a:pt x="746" y="894"/>
                    </a:lnTo>
                    <a:lnTo>
                      <a:pt x="726" y="907"/>
                    </a:lnTo>
                    <a:lnTo>
                      <a:pt x="707" y="919"/>
                    </a:lnTo>
                    <a:lnTo>
                      <a:pt x="686" y="929"/>
                    </a:lnTo>
                    <a:lnTo>
                      <a:pt x="665" y="938"/>
                    </a:lnTo>
                    <a:lnTo>
                      <a:pt x="643" y="946"/>
                    </a:lnTo>
                    <a:lnTo>
                      <a:pt x="621" y="954"/>
                    </a:lnTo>
                    <a:lnTo>
                      <a:pt x="598" y="960"/>
                    </a:lnTo>
                    <a:lnTo>
                      <a:pt x="575" y="966"/>
                    </a:lnTo>
                    <a:lnTo>
                      <a:pt x="552" y="970"/>
                    </a:lnTo>
                    <a:lnTo>
                      <a:pt x="528" y="973"/>
                    </a:lnTo>
                    <a:lnTo>
                      <a:pt x="504" y="975"/>
                    </a:lnTo>
                    <a:lnTo>
                      <a:pt x="479" y="975"/>
                    </a:lnTo>
                    <a:lnTo>
                      <a:pt x="451" y="975"/>
                    </a:lnTo>
                    <a:lnTo>
                      <a:pt x="422" y="972"/>
                    </a:lnTo>
                    <a:lnTo>
                      <a:pt x="394" y="968"/>
                    </a:lnTo>
                    <a:lnTo>
                      <a:pt x="366" y="962"/>
                    </a:lnTo>
                    <a:lnTo>
                      <a:pt x="340" y="955"/>
                    </a:lnTo>
                    <a:lnTo>
                      <a:pt x="313" y="946"/>
                    </a:lnTo>
                    <a:lnTo>
                      <a:pt x="288" y="936"/>
                    </a:lnTo>
                    <a:lnTo>
                      <a:pt x="264" y="924"/>
                    </a:lnTo>
                    <a:lnTo>
                      <a:pt x="278" y="951"/>
                    </a:lnTo>
                    <a:lnTo>
                      <a:pt x="281" y="958"/>
                    </a:lnTo>
                    <a:lnTo>
                      <a:pt x="304" y="967"/>
                    </a:lnTo>
                    <a:lnTo>
                      <a:pt x="328" y="975"/>
                    </a:lnTo>
                    <a:lnTo>
                      <a:pt x="353" y="982"/>
                    </a:lnTo>
                    <a:lnTo>
                      <a:pt x="377" y="988"/>
                    </a:lnTo>
                    <a:lnTo>
                      <a:pt x="402" y="992"/>
                    </a:lnTo>
                    <a:lnTo>
                      <a:pt x="428" y="996"/>
                    </a:lnTo>
                    <a:lnTo>
                      <a:pt x="453" y="998"/>
                    </a:lnTo>
                    <a:lnTo>
                      <a:pt x="479" y="998"/>
                    </a:lnTo>
                    <a:lnTo>
                      <a:pt x="505" y="998"/>
                    </a:lnTo>
                    <a:lnTo>
                      <a:pt x="530" y="996"/>
                    </a:lnTo>
                    <a:lnTo>
                      <a:pt x="556" y="992"/>
                    </a:lnTo>
                    <a:lnTo>
                      <a:pt x="580" y="988"/>
                    </a:lnTo>
                    <a:lnTo>
                      <a:pt x="604" y="982"/>
                    </a:lnTo>
                    <a:lnTo>
                      <a:pt x="628" y="976"/>
                    </a:lnTo>
                    <a:lnTo>
                      <a:pt x="651" y="968"/>
                    </a:lnTo>
                    <a:lnTo>
                      <a:pt x="673" y="959"/>
                    </a:lnTo>
                    <a:lnTo>
                      <a:pt x="696" y="949"/>
                    </a:lnTo>
                    <a:lnTo>
                      <a:pt x="717" y="938"/>
                    </a:lnTo>
                    <a:lnTo>
                      <a:pt x="738" y="926"/>
                    </a:lnTo>
                    <a:lnTo>
                      <a:pt x="759" y="913"/>
                    </a:lnTo>
                    <a:lnTo>
                      <a:pt x="778" y="899"/>
                    </a:lnTo>
                    <a:lnTo>
                      <a:pt x="797" y="884"/>
                    </a:lnTo>
                    <a:lnTo>
                      <a:pt x="815" y="869"/>
                    </a:lnTo>
                    <a:lnTo>
                      <a:pt x="832" y="852"/>
                    </a:lnTo>
                    <a:lnTo>
                      <a:pt x="849" y="834"/>
                    </a:lnTo>
                    <a:lnTo>
                      <a:pt x="865" y="816"/>
                    </a:lnTo>
                    <a:lnTo>
                      <a:pt x="880" y="798"/>
                    </a:lnTo>
                    <a:lnTo>
                      <a:pt x="894" y="778"/>
                    </a:lnTo>
                    <a:lnTo>
                      <a:pt x="906" y="758"/>
                    </a:lnTo>
                    <a:lnTo>
                      <a:pt x="919" y="736"/>
                    </a:lnTo>
                    <a:lnTo>
                      <a:pt x="929" y="716"/>
                    </a:lnTo>
                    <a:lnTo>
                      <a:pt x="940" y="693"/>
                    </a:lnTo>
                    <a:lnTo>
                      <a:pt x="949" y="671"/>
                    </a:lnTo>
                    <a:lnTo>
                      <a:pt x="957" y="648"/>
                    </a:lnTo>
                    <a:lnTo>
                      <a:pt x="963" y="624"/>
                    </a:lnTo>
                    <a:lnTo>
                      <a:pt x="969" y="599"/>
                    </a:lnTo>
                    <a:lnTo>
                      <a:pt x="973" y="575"/>
                    </a:lnTo>
                    <a:lnTo>
                      <a:pt x="977" y="550"/>
                    </a:lnTo>
                    <a:lnTo>
                      <a:pt x="979" y="524"/>
                    </a:lnTo>
                    <a:lnTo>
                      <a:pt x="979" y="49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67440" y="3809880"/>
                <a:ext cx="254160" cy="257400"/>
              </a:xfrm>
              <a:custGeom>
                <a:avLst/>
                <a:gdLst/>
                <a:ahLst/>
                <a:rect l="l" t="t" r="r" b="b"/>
                <a:pathLst>
                  <a:path w="960" h="977">
                    <a:moveTo>
                      <a:pt x="960" y="489"/>
                    </a:moveTo>
                    <a:lnTo>
                      <a:pt x="960" y="464"/>
                    </a:lnTo>
                    <a:lnTo>
                      <a:pt x="958" y="439"/>
                    </a:lnTo>
                    <a:lnTo>
                      <a:pt x="955" y="414"/>
                    </a:lnTo>
                    <a:lnTo>
                      <a:pt x="951" y="391"/>
                    </a:lnTo>
                    <a:lnTo>
                      <a:pt x="945" y="367"/>
                    </a:lnTo>
                    <a:lnTo>
                      <a:pt x="938" y="344"/>
                    </a:lnTo>
                    <a:lnTo>
                      <a:pt x="930" y="321"/>
                    </a:lnTo>
                    <a:lnTo>
                      <a:pt x="922" y="299"/>
                    </a:lnTo>
                    <a:lnTo>
                      <a:pt x="912" y="277"/>
                    </a:lnTo>
                    <a:lnTo>
                      <a:pt x="902" y="256"/>
                    </a:lnTo>
                    <a:lnTo>
                      <a:pt x="890" y="235"/>
                    </a:lnTo>
                    <a:lnTo>
                      <a:pt x="877" y="216"/>
                    </a:lnTo>
                    <a:lnTo>
                      <a:pt x="863" y="197"/>
                    </a:lnTo>
                    <a:lnTo>
                      <a:pt x="848" y="179"/>
                    </a:lnTo>
                    <a:lnTo>
                      <a:pt x="833" y="160"/>
                    </a:lnTo>
                    <a:lnTo>
                      <a:pt x="817" y="143"/>
                    </a:lnTo>
                    <a:lnTo>
                      <a:pt x="800" y="128"/>
                    </a:lnTo>
                    <a:lnTo>
                      <a:pt x="783" y="112"/>
                    </a:lnTo>
                    <a:lnTo>
                      <a:pt x="764" y="98"/>
                    </a:lnTo>
                    <a:lnTo>
                      <a:pt x="745" y="84"/>
                    </a:lnTo>
                    <a:lnTo>
                      <a:pt x="725" y="72"/>
                    </a:lnTo>
                    <a:lnTo>
                      <a:pt x="705" y="60"/>
                    </a:lnTo>
                    <a:lnTo>
                      <a:pt x="684" y="49"/>
                    </a:lnTo>
                    <a:lnTo>
                      <a:pt x="663" y="39"/>
                    </a:lnTo>
                    <a:lnTo>
                      <a:pt x="640" y="30"/>
                    </a:lnTo>
                    <a:lnTo>
                      <a:pt x="618" y="23"/>
                    </a:lnTo>
                    <a:lnTo>
                      <a:pt x="595" y="16"/>
                    </a:lnTo>
                    <a:lnTo>
                      <a:pt x="570" y="11"/>
                    </a:lnTo>
                    <a:lnTo>
                      <a:pt x="546" y="6"/>
                    </a:lnTo>
                    <a:lnTo>
                      <a:pt x="522" y="4"/>
                    </a:lnTo>
                    <a:lnTo>
                      <a:pt x="498" y="1"/>
                    </a:lnTo>
                    <a:lnTo>
                      <a:pt x="472" y="0"/>
                    </a:lnTo>
                    <a:lnTo>
                      <a:pt x="451" y="1"/>
                    </a:lnTo>
                    <a:lnTo>
                      <a:pt x="430" y="3"/>
                    </a:lnTo>
                    <a:lnTo>
                      <a:pt x="409" y="5"/>
                    </a:lnTo>
                    <a:lnTo>
                      <a:pt x="389" y="8"/>
                    </a:lnTo>
                    <a:lnTo>
                      <a:pt x="369" y="12"/>
                    </a:lnTo>
                    <a:lnTo>
                      <a:pt x="349" y="16"/>
                    </a:lnTo>
                    <a:lnTo>
                      <a:pt x="329" y="22"/>
                    </a:lnTo>
                    <a:lnTo>
                      <a:pt x="311" y="28"/>
                    </a:lnTo>
                    <a:lnTo>
                      <a:pt x="291" y="35"/>
                    </a:lnTo>
                    <a:lnTo>
                      <a:pt x="273" y="43"/>
                    </a:lnTo>
                    <a:lnTo>
                      <a:pt x="256" y="52"/>
                    </a:lnTo>
                    <a:lnTo>
                      <a:pt x="238" y="60"/>
                    </a:lnTo>
                    <a:lnTo>
                      <a:pt x="221" y="71"/>
                    </a:lnTo>
                    <a:lnTo>
                      <a:pt x="204" y="81"/>
                    </a:lnTo>
                    <a:lnTo>
                      <a:pt x="188" y="92"/>
                    </a:lnTo>
                    <a:lnTo>
                      <a:pt x="171" y="104"/>
                    </a:lnTo>
                    <a:lnTo>
                      <a:pt x="156" y="117"/>
                    </a:lnTo>
                    <a:lnTo>
                      <a:pt x="141" y="129"/>
                    </a:lnTo>
                    <a:lnTo>
                      <a:pt x="128" y="143"/>
                    </a:lnTo>
                    <a:lnTo>
                      <a:pt x="114" y="157"/>
                    </a:lnTo>
                    <a:lnTo>
                      <a:pt x="101" y="172"/>
                    </a:lnTo>
                    <a:lnTo>
                      <a:pt x="88" y="187"/>
                    </a:lnTo>
                    <a:lnTo>
                      <a:pt x="77" y="203"/>
                    </a:lnTo>
                    <a:lnTo>
                      <a:pt x="65" y="219"/>
                    </a:lnTo>
                    <a:lnTo>
                      <a:pt x="55" y="237"/>
                    </a:lnTo>
                    <a:lnTo>
                      <a:pt x="45" y="253"/>
                    </a:lnTo>
                    <a:lnTo>
                      <a:pt x="35" y="271"/>
                    </a:lnTo>
                    <a:lnTo>
                      <a:pt x="27" y="288"/>
                    </a:lnTo>
                    <a:lnTo>
                      <a:pt x="19" y="307"/>
                    </a:lnTo>
                    <a:lnTo>
                      <a:pt x="12" y="325"/>
                    </a:lnTo>
                    <a:lnTo>
                      <a:pt x="5" y="345"/>
                    </a:lnTo>
                    <a:lnTo>
                      <a:pt x="0" y="365"/>
                    </a:lnTo>
                    <a:lnTo>
                      <a:pt x="2" y="368"/>
                    </a:lnTo>
                    <a:lnTo>
                      <a:pt x="16" y="396"/>
                    </a:lnTo>
                    <a:lnTo>
                      <a:pt x="20" y="376"/>
                    </a:lnTo>
                    <a:lnTo>
                      <a:pt x="26" y="356"/>
                    </a:lnTo>
                    <a:lnTo>
                      <a:pt x="32" y="338"/>
                    </a:lnTo>
                    <a:lnTo>
                      <a:pt x="39" y="318"/>
                    </a:lnTo>
                    <a:lnTo>
                      <a:pt x="47" y="301"/>
                    </a:lnTo>
                    <a:lnTo>
                      <a:pt x="55" y="283"/>
                    </a:lnTo>
                    <a:lnTo>
                      <a:pt x="64" y="265"/>
                    </a:lnTo>
                    <a:lnTo>
                      <a:pt x="73" y="248"/>
                    </a:lnTo>
                    <a:lnTo>
                      <a:pt x="84" y="232"/>
                    </a:lnTo>
                    <a:lnTo>
                      <a:pt x="95" y="216"/>
                    </a:lnTo>
                    <a:lnTo>
                      <a:pt x="107" y="200"/>
                    </a:lnTo>
                    <a:lnTo>
                      <a:pt x="120" y="185"/>
                    </a:lnTo>
                    <a:lnTo>
                      <a:pt x="133" y="170"/>
                    </a:lnTo>
                    <a:lnTo>
                      <a:pt x="147" y="156"/>
                    </a:lnTo>
                    <a:lnTo>
                      <a:pt x="161" y="143"/>
                    </a:lnTo>
                    <a:lnTo>
                      <a:pt x="176" y="131"/>
                    </a:lnTo>
                    <a:lnTo>
                      <a:pt x="191" y="118"/>
                    </a:lnTo>
                    <a:lnTo>
                      <a:pt x="207" y="106"/>
                    </a:lnTo>
                    <a:lnTo>
                      <a:pt x="223" y="96"/>
                    </a:lnTo>
                    <a:lnTo>
                      <a:pt x="241" y="86"/>
                    </a:lnTo>
                    <a:lnTo>
                      <a:pt x="258" y="76"/>
                    </a:lnTo>
                    <a:lnTo>
                      <a:pt x="275" y="67"/>
                    </a:lnTo>
                    <a:lnTo>
                      <a:pt x="294" y="59"/>
                    </a:lnTo>
                    <a:lnTo>
                      <a:pt x="312" y="52"/>
                    </a:lnTo>
                    <a:lnTo>
                      <a:pt x="331" y="45"/>
                    </a:lnTo>
                    <a:lnTo>
                      <a:pt x="350" y="39"/>
                    </a:lnTo>
                    <a:lnTo>
                      <a:pt x="370" y="35"/>
                    </a:lnTo>
                    <a:lnTo>
                      <a:pt x="389" y="30"/>
                    </a:lnTo>
                    <a:lnTo>
                      <a:pt x="410" y="28"/>
                    </a:lnTo>
                    <a:lnTo>
                      <a:pt x="431" y="26"/>
                    </a:lnTo>
                    <a:lnTo>
                      <a:pt x="452" y="24"/>
                    </a:lnTo>
                    <a:lnTo>
                      <a:pt x="472" y="23"/>
                    </a:lnTo>
                    <a:lnTo>
                      <a:pt x="497" y="24"/>
                    </a:lnTo>
                    <a:lnTo>
                      <a:pt x="520" y="26"/>
                    </a:lnTo>
                    <a:lnTo>
                      <a:pt x="543" y="29"/>
                    </a:lnTo>
                    <a:lnTo>
                      <a:pt x="566" y="33"/>
                    </a:lnTo>
                    <a:lnTo>
                      <a:pt x="589" y="38"/>
                    </a:lnTo>
                    <a:lnTo>
                      <a:pt x="611" y="44"/>
                    </a:lnTo>
                    <a:lnTo>
                      <a:pt x="633" y="52"/>
                    </a:lnTo>
                    <a:lnTo>
                      <a:pt x="654" y="60"/>
                    </a:lnTo>
                    <a:lnTo>
                      <a:pt x="674" y="69"/>
                    </a:lnTo>
                    <a:lnTo>
                      <a:pt x="694" y="80"/>
                    </a:lnTo>
                    <a:lnTo>
                      <a:pt x="714" y="91"/>
                    </a:lnTo>
                    <a:lnTo>
                      <a:pt x="732" y="103"/>
                    </a:lnTo>
                    <a:lnTo>
                      <a:pt x="750" y="116"/>
                    </a:lnTo>
                    <a:lnTo>
                      <a:pt x="768" y="129"/>
                    </a:lnTo>
                    <a:lnTo>
                      <a:pt x="785" y="144"/>
                    </a:lnTo>
                    <a:lnTo>
                      <a:pt x="801" y="159"/>
                    </a:lnTo>
                    <a:lnTo>
                      <a:pt x="817" y="175"/>
                    </a:lnTo>
                    <a:lnTo>
                      <a:pt x="831" y="193"/>
                    </a:lnTo>
                    <a:lnTo>
                      <a:pt x="845" y="210"/>
                    </a:lnTo>
                    <a:lnTo>
                      <a:pt x="858" y="228"/>
                    </a:lnTo>
                    <a:lnTo>
                      <a:pt x="870" y="248"/>
                    </a:lnTo>
                    <a:lnTo>
                      <a:pt x="882" y="267"/>
                    </a:lnTo>
                    <a:lnTo>
                      <a:pt x="892" y="287"/>
                    </a:lnTo>
                    <a:lnTo>
                      <a:pt x="902" y="308"/>
                    </a:lnTo>
                    <a:lnTo>
                      <a:pt x="910" y="329"/>
                    </a:lnTo>
                    <a:lnTo>
                      <a:pt x="917" y="351"/>
                    </a:lnTo>
                    <a:lnTo>
                      <a:pt x="923" y="373"/>
                    </a:lnTo>
                    <a:lnTo>
                      <a:pt x="928" y="396"/>
                    </a:lnTo>
                    <a:lnTo>
                      <a:pt x="933" y="418"/>
                    </a:lnTo>
                    <a:lnTo>
                      <a:pt x="935" y="442"/>
                    </a:lnTo>
                    <a:lnTo>
                      <a:pt x="937" y="465"/>
                    </a:lnTo>
                    <a:lnTo>
                      <a:pt x="938" y="489"/>
                    </a:lnTo>
                    <a:lnTo>
                      <a:pt x="937" y="513"/>
                    </a:lnTo>
                    <a:lnTo>
                      <a:pt x="935" y="536"/>
                    </a:lnTo>
                    <a:lnTo>
                      <a:pt x="933" y="559"/>
                    </a:lnTo>
                    <a:lnTo>
                      <a:pt x="928" y="582"/>
                    </a:lnTo>
                    <a:lnTo>
                      <a:pt x="923" y="605"/>
                    </a:lnTo>
                    <a:lnTo>
                      <a:pt x="917" y="627"/>
                    </a:lnTo>
                    <a:lnTo>
                      <a:pt x="910" y="649"/>
                    </a:lnTo>
                    <a:lnTo>
                      <a:pt x="902" y="670"/>
                    </a:lnTo>
                    <a:lnTo>
                      <a:pt x="892" y="691"/>
                    </a:lnTo>
                    <a:lnTo>
                      <a:pt x="882" y="710"/>
                    </a:lnTo>
                    <a:lnTo>
                      <a:pt x="870" y="730"/>
                    </a:lnTo>
                    <a:lnTo>
                      <a:pt x="858" y="750"/>
                    </a:lnTo>
                    <a:lnTo>
                      <a:pt x="845" y="767"/>
                    </a:lnTo>
                    <a:lnTo>
                      <a:pt x="831" y="785"/>
                    </a:lnTo>
                    <a:lnTo>
                      <a:pt x="817" y="801"/>
                    </a:lnTo>
                    <a:lnTo>
                      <a:pt x="801" y="818"/>
                    </a:lnTo>
                    <a:lnTo>
                      <a:pt x="785" y="834"/>
                    </a:lnTo>
                    <a:lnTo>
                      <a:pt x="768" y="848"/>
                    </a:lnTo>
                    <a:lnTo>
                      <a:pt x="750" y="861"/>
                    </a:lnTo>
                    <a:lnTo>
                      <a:pt x="732" y="875"/>
                    </a:lnTo>
                    <a:lnTo>
                      <a:pt x="714" y="887"/>
                    </a:lnTo>
                    <a:lnTo>
                      <a:pt x="694" y="898"/>
                    </a:lnTo>
                    <a:lnTo>
                      <a:pt x="674" y="909"/>
                    </a:lnTo>
                    <a:lnTo>
                      <a:pt x="654" y="918"/>
                    </a:lnTo>
                    <a:lnTo>
                      <a:pt x="633" y="926"/>
                    </a:lnTo>
                    <a:lnTo>
                      <a:pt x="611" y="933"/>
                    </a:lnTo>
                    <a:lnTo>
                      <a:pt x="589" y="940"/>
                    </a:lnTo>
                    <a:lnTo>
                      <a:pt x="566" y="944"/>
                    </a:lnTo>
                    <a:lnTo>
                      <a:pt x="543" y="949"/>
                    </a:lnTo>
                    <a:lnTo>
                      <a:pt x="520" y="951"/>
                    </a:lnTo>
                    <a:lnTo>
                      <a:pt x="497" y="954"/>
                    </a:lnTo>
                    <a:lnTo>
                      <a:pt x="472" y="955"/>
                    </a:lnTo>
                    <a:lnTo>
                      <a:pt x="441" y="954"/>
                    </a:lnTo>
                    <a:lnTo>
                      <a:pt x="412" y="950"/>
                    </a:lnTo>
                    <a:lnTo>
                      <a:pt x="382" y="945"/>
                    </a:lnTo>
                    <a:lnTo>
                      <a:pt x="355" y="940"/>
                    </a:lnTo>
                    <a:lnTo>
                      <a:pt x="326" y="931"/>
                    </a:lnTo>
                    <a:lnTo>
                      <a:pt x="299" y="921"/>
                    </a:lnTo>
                    <a:lnTo>
                      <a:pt x="273" y="910"/>
                    </a:lnTo>
                    <a:lnTo>
                      <a:pt x="248" y="897"/>
                    </a:lnTo>
                    <a:lnTo>
                      <a:pt x="265" y="931"/>
                    </a:lnTo>
                    <a:lnTo>
                      <a:pt x="289" y="942"/>
                    </a:lnTo>
                    <a:lnTo>
                      <a:pt x="313" y="950"/>
                    </a:lnTo>
                    <a:lnTo>
                      <a:pt x="339" y="958"/>
                    </a:lnTo>
                    <a:lnTo>
                      <a:pt x="364" y="965"/>
                    </a:lnTo>
                    <a:lnTo>
                      <a:pt x="391" y="970"/>
                    </a:lnTo>
                    <a:lnTo>
                      <a:pt x="417" y="974"/>
                    </a:lnTo>
                    <a:lnTo>
                      <a:pt x="445" y="977"/>
                    </a:lnTo>
                    <a:lnTo>
                      <a:pt x="472" y="977"/>
                    </a:lnTo>
                    <a:lnTo>
                      <a:pt x="498" y="977"/>
                    </a:lnTo>
                    <a:lnTo>
                      <a:pt x="522" y="974"/>
                    </a:lnTo>
                    <a:lnTo>
                      <a:pt x="546" y="971"/>
                    </a:lnTo>
                    <a:lnTo>
                      <a:pt x="570" y="967"/>
                    </a:lnTo>
                    <a:lnTo>
                      <a:pt x="595" y="962"/>
                    </a:lnTo>
                    <a:lnTo>
                      <a:pt x="618" y="955"/>
                    </a:lnTo>
                    <a:lnTo>
                      <a:pt x="640" y="948"/>
                    </a:lnTo>
                    <a:lnTo>
                      <a:pt x="663" y="939"/>
                    </a:lnTo>
                    <a:lnTo>
                      <a:pt x="684" y="929"/>
                    </a:lnTo>
                    <a:lnTo>
                      <a:pt x="705" y="918"/>
                    </a:lnTo>
                    <a:lnTo>
                      <a:pt x="725" y="906"/>
                    </a:lnTo>
                    <a:lnTo>
                      <a:pt x="745" y="894"/>
                    </a:lnTo>
                    <a:lnTo>
                      <a:pt x="764" y="880"/>
                    </a:lnTo>
                    <a:lnTo>
                      <a:pt x="783" y="866"/>
                    </a:lnTo>
                    <a:lnTo>
                      <a:pt x="800" y="850"/>
                    </a:lnTo>
                    <a:lnTo>
                      <a:pt x="817" y="834"/>
                    </a:lnTo>
                    <a:lnTo>
                      <a:pt x="833" y="818"/>
                    </a:lnTo>
                    <a:lnTo>
                      <a:pt x="848" y="799"/>
                    </a:lnTo>
                    <a:lnTo>
                      <a:pt x="863" y="781"/>
                    </a:lnTo>
                    <a:lnTo>
                      <a:pt x="877" y="762"/>
                    </a:lnTo>
                    <a:lnTo>
                      <a:pt x="890" y="743"/>
                    </a:lnTo>
                    <a:lnTo>
                      <a:pt x="902" y="722"/>
                    </a:lnTo>
                    <a:lnTo>
                      <a:pt x="912" y="700"/>
                    </a:lnTo>
                    <a:lnTo>
                      <a:pt x="922" y="679"/>
                    </a:lnTo>
                    <a:lnTo>
                      <a:pt x="930" y="656"/>
                    </a:lnTo>
                    <a:lnTo>
                      <a:pt x="938" y="634"/>
                    </a:lnTo>
                    <a:lnTo>
                      <a:pt x="945" y="611"/>
                    </a:lnTo>
                    <a:lnTo>
                      <a:pt x="951" y="587"/>
                    </a:lnTo>
                    <a:lnTo>
                      <a:pt x="955" y="563"/>
                    </a:lnTo>
                    <a:lnTo>
                      <a:pt x="958" y="539"/>
                    </a:lnTo>
                    <a:lnTo>
                      <a:pt x="960" y="514"/>
                    </a:lnTo>
                    <a:lnTo>
                      <a:pt x="960" y="48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68880" y="3811680"/>
                <a:ext cx="249480" cy="252360"/>
              </a:xfrm>
              <a:custGeom>
                <a:avLst/>
                <a:gdLst/>
                <a:ahLst/>
                <a:rect l="l" t="t" r="r" b="b"/>
                <a:pathLst>
                  <a:path w="941" h="953">
                    <a:moveTo>
                      <a:pt x="941" y="477"/>
                    </a:moveTo>
                    <a:lnTo>
                      <a:pt x="941" y="453"/>
                    </a:lnTo>
                    <a:lnTo>
                      <a:pt x="939" y="429"/>
                    </a:lnTo>
                    <a:lnTo>
                      <a:pt x="936" y="404"/>
                    </a:lnTo>
                    <a:lnTo>
                      <a:pt x="932" y="381"/>
                    </a:lnTo>
                    <a:lnTo>
                      <a:pt x="926" y="358"/>
                    </a:lnTo>
                    <a:lnTo>
                      <a:pt x="920" y="335"/>
                    </a:lnTo>
                    <a:lnTo>
                      <a:pt x="912" y="313"/>
                    </a:lnTo>
                    <a:lnTo>
                      <a:pt x="904" y="291"/>
                    </a:lnTo>
                    <a:lnTo>
                      <a:pt x="894" y="271"/>
                    </a:lnTo>
                    <a:lnTo>
                      <a:pt x="883" y="250"/>
                    </a:lnTo>
                    <a:lnTo>
                      <a:pt x="872" y="230"/>
                    </a:lnTo>
                    <a:lnTo>
                      <a:pt x="860" y="211"/>
                    </a:lnTo>
                    <a:lnTo>
                      <a:pt x="846" y="191"/>
                    </a:lnTo>
                    <a:lnTo>
                      <a:pt x="832" y="174"/>
                    </a:lnTo>
                    <a:lnTo>
                      <a:pt x="817" y="157"/>
                    </a:lnTo>
                    <a:lnTo>
                      <a:pt x="801" y="139"/>
                    </a:lnTo>
                    <a:lnTo>
                      <a:pt x="785" y="124"/>
                    </a:lnTo>
                    <a:lnTo>
                      <a:pt x="768" y="109"/>
                    </a:lnTo>
                    <a:lnTo>
                      <a:pt x="749" y="95"/>
                    </a:lnTo>
                    <a:lnTo>
                      <a:pt x="731" y="82"/>
                    </a:lnTo>
                    <a:lnTo>
                      <a:pt x="711" y="69"/>
                    </a:lnTo>
                    <a:lnTo>
                      <a:pt x="692" y="57"/>
                    </a:lnTo>
                    <a:lnTo>
                      <a:pt x="671" y="47"/>
                    </a:lnTo>
                    <a:lnTo>
                      <a:pt x="650" y="38"/>
                    </a:lnTo>
                    <a:lnTo>
                      <a:pt x="628" y="29"/>
                    </a:lnTo>
                    <a:lnTo>
                      <a:pt x="606" y="22"/>
                    </a:lnTo>
                    <a:lnTo>
                      <a:pt x="583" y="15"/>
                    </a:lnTo>
                    <a:lnTo>
                      <a:pt x="560" y="10"/>
                    </a:lnTo>
                    <a:lnTo>
                      <a:pt x="537" y="6"/>
                    </a:lnTo>
                    <a:lnTo>
                      <a:pt x="513" y="2"/>
                    </a:lnTo>
                    <a:lnTo>
                      <a:pt x="489" y="1"/>
                    </a:lnTo>
                    <a:lnTo>
                      <a:pt x="464" y="0"/>
                    </a:lnTo>
                    <a:lnTo>
                      <a:pt x="443" y="1"/>
                    </a:lnTo>
                    <a:lnTo>
                      <a:pt x="422" y="2"/>
                    </a:lnTo>
                    <a:lnTo>
                      <a:pt x="402" y="4"/>
                    </a:lnTo>
                    <a:lnTo>
                      <a:pt x="381" y="7"/>
                    </a:lnTo>
                    <a:lnTo>
                      <a:pt x="362" y="11"/>
                    </a:lnTo>
                    <a:lnTo>
                      <a:pt x="342" y="16"/>
                    </a:lnTo>
                    <a:lnTo>
                      <a:pt x="323" y="22"/>
                    </a:lnTo>
                    <a:lnTo>
                      <a:pt x="303" y="27"/>
                    </a:lnTo>
                    <a:lnTo>
                      <a:pt x="285" y="36"/>
                    </a:lnTo>
                    <a:lnTo>
                      <a:pt x="266" y="44"/>
                    </a:lnTo>
                    <a:lnTo>
                      <a:pt x="249" y="52"/>
                    </a:lnTo>
                    <a:lnTo>
                      <a:pt x="231" y="61"/>
                    </a:lnTo>
                    <a:lnTo>
                      <a:pt x="214" y="71"/>
                    </a:lnTo>
                    <a:lnTo>
                      <a:pt x="198" y="82"/>
                    </a:lnTo>
                    <a:lnTo>
                      <a:pt x="182" y="93"/>
                    </a:lnTo>
                    <a:lnTo>
                      <a:pt x="166" y="105"/>
                    </a:lnTo>
                    <a:lnTo>
                      <a:pt x="151" y="117"/>
                    </a:lnTo>
                    <a:lnTo>
                      <a:pt x="136" y="131"/>
                    </a:lnTo>
                    <a:lnTo>
                      <a:pt x="122" y="145"/>
                    </a:lnTo>
                    <a:lnTo>
                      <a:pt x="109" y="159"/>
                    </a:lnTo>
                    <a:lnTo>
                      <a:pt x="97" y="174"/>
                    </a:lnTo>
                    <a:lnTo>
                      <a:pt x="84" y="189"/>
                    </a:lnTo>
                    <a:lnTo>
                      <a:pt x="72" y="205"/>
                    </a:lnTo>
                    <a:lnTo>
                      <a:pt x="62" y="221"/>
                    </a:lnTo>
                    <a:lnTo>
                      <a:pt x="52" y="238"/>
                    </a:lnTo>
                    <a:lnTo>
                      <a:pt x="41" y="256"/>
                    </a:lnTo>
                    <a:lnTo>
                      <a:pt x="33" y="273"/>
                    </a:lnTo>
                    <a:lnTo>
                      <a:pt x="25" y="291"/>
                    </a:lnTo>
                    <a:lnTo>
                      <a:pt x="17" y="310"/>
                    </a:lnTo>
                    <a:lnTo>
                      <a:pt x="11" y="329"/>
                    </a:lnTo>
                    <a:lnTo>
                      <a:pt x="5" y="348"/>
                    </a:lnTo>
                    <a:lnTo>
                      <a:pt x="0" y="367"/>
                    </a:lnTo>
                    <a:lnTo>
                      <a:pt x="17" y="401"/>
                    </a:lnTo>
                    <a:lnTo>
                      <a:pt x="20" y="381"/>
                    </a:lnTo>
                    <a:lnTo>
                      <a:pt x="25" y="362"/>
                    </a:lnTo>
                    <a:lnTo>
                      <a:pt x="31" y="342"/>
                    </a:lnTo>
                    <a:lnTo>
                      <a:pt x="37" y="323"/>
                    </a:lnTo>
                    <a:lnTo>
                      <a:pt x="43" y="304"/>
                    </a:lnTo>
                    <a:lnTo>
                      <a:pt x="52" y="287"/>
                    </a:lnTo>
                    <a:lnTo>
                      <a:pt x="61" y="268"/>
                    </a:lnTo>
                    <a:lnTo>
                      <a:pt x="70" y="251"/>
                    </a:lnTo>
                    <a:lnTo>
                      <a:pt x="80" y="235"/>
                    </a:lnTo>
                    <a:lnTo>
                      <a:pt x="91" y="218"/>
                    </a:lnTo>
                    <a:lnTo>
                      <a:pt x="102" y="203"/>
                    </a:lnTo>
                    <a:lnTo>
                      <a:pt x="115" y="187"/>
                    </a:lnTo>
                    <a:lnTo>
                      <a:pt x="128" y="173"/>
                    </a:lnTo>
                    <a:lnTo>
                      <a:pt x="142" y="158"/>
                    </a:lnTo>
                    <a:lnTo>
                      <a:pt x="155" y="145"/>
                    </a:lnTo>
                    <a:lnTo>
                      <a:pt x="169" y="131"/>
                    </a:lnTo>
                    <a:lnTo>
                      <a:pt x="184" y="119"/>
                    </a:lnTo>
                    <a:lnTo>
                      <a:pt x="200" y="107"/>
                    </a:lnTo>
                    <a:lnTo>
                      <a:pt x="216" y="97"/>
                    </a:lnTo>
                    <a:lnTo>
                      <a:pt x="234" y="86"/>
                    </a:lnTo>
                    <a:lnTo>
                      <a:pt x="250" y="76"/>
                    </a:lnTo>
                    <a:lnTo>
                      <a:pt x="268" y="68"/>
                    </a:lnTo>
                    <a:lnTo>
                      <a:pt x="286" y="60"/>
                    </a:lnTo>
                    <a:lnTo>
                      <a:pt x="304" y="52"/>
                    </a:lnTo>
                    <a:lnTo>
                      <a:pt x="324" y="45"/>
                    </a:lnTo>
                    <a:lnTo>
                      <a:pt x="342" y="39"/>
                    </a:lnTo>
                    <a:lnTo>
                      <a:pt x="362" y="34"/>
                    </a:lnTo>
                    <a:lnTo>
                      <a:pt x="381" y="30"/>
                    </a:lnTo>
                    <a:lnTo>
                      <a:pt x="402" y="27"/>
                    </a:lnTo>
                    <a:lnTo>
                      <a:pt x="423" y="25"/>
                    </a:lnTo>
                    <a:lnTo>
                      <a:pt x="444" y="23"/>
                    </a:lnTo>
                    <a:lnTo>
                      <a:pt x="464" y="23"/>
                    </a:lnTo>
                    <a:lnTo>
                      <a:pt x="488" y="23"/>
                    </a:lnTo>
                    <a:lnTo>
                      <a:pt x="511" y="25"/>
                    </a:lnTo>
                    <a:lnTo>
                      <a:pt x="534" y="29"/>
                    </a:lnTo>
                    <a:lnTo>
                      <a:pt x="556" y="32"/>
                    </a:lnTo>
                    <a:lnTo>
                      <a:pt x="577" y="37"/>
                    </a:lnTo>
                    <a:lnTo>
                      <a:pt x="599" y="44"/>
                    </a:lnTo>
                    <a:lnTo>
                      <a:pt x="620" y="50"/>
                    </a:lnTo>
                    <a:lnTo>
                      <a:pt x="641" y="59"/>
                    </a:lnTo>
                    <a:lnTo>
                      <a:pt x="661" y="68"/>
                    </a:lnTo>
                    <a:lnTo>
                      <a:pt x="680" y="78"/>
                    </a:lnTo>
                    <a:lnTo>
                      <a:pt x="700" y="89"/>
                    </a:lnTo>
                    <a:lnTo>
                      <a:pt x="718" y="100"/>
                    </a:lnTo>
                    <a:lnTo>
                      <a:pt x="736" y="113"/>
                    </a:lnTo>
                    <a:lnTo>
                      <a:pt x="753" y="127"/>
                    </a:lnTo>
                    <a:lnTo>
                      <a:pt x="770" y="140"/>
                    </a:lnTo>
                    <a:lnTo>
                      <a:pt x="785" y="155"/>
                    </a:lnTo>
                    <a:lnTo>
                      <a:pt x="800" y="172"/>
                    </a:lnTo>
                    <a:lnTo>
                      <a:pt x="815" y="188"/>
                    </a:lnTo>
                    <a:lnTo>
                      <a:pt x="828" y="205"/>
                    </a:lnTo>
                    <a:lnTo>
                      <a:pt x="840" y="223"/>
                    </a:lnTo>
                    <a:lnTo>
                      <a:pt x="853" y="242"/>
                    </a:lnTo>
                    <a:lnTo>
                      <a:pt x="864" y="260"/>
                    </a:lnTo>
                    <a:lnTo>
                      <a:pt x="874" y="280"/>
                    </a:lnTo>
                    <a:lnTo>
                      <a:pt x="883" y="301"/>
                    </a:lnTo>
                    <a:lnTo>
                      <a:pt x="891" y="320"/>
                    </a:lnTo>
                    <a:lnTo>
                      <a:pt x="898" y="342"/>
                    </a:lnTo>
                    <a:lnTo>
                      <a:pt x="904" y="364"/>
                    </a:lnTo>
                    <a:lnTo>
                      <a:pt x="910" y="385"/>
                    </a:lnTo>
                    <a:lnTo>
                      <a:pt x="913" y="408"/>
                    </a:lnTo>
                    <a:lnTo>
                      <a:pt x="917" y="431"/>
                    </a:lnTo>
                    <a:lnTo>
                      <a:pt x="918" y="454"/>
                    </a:lnTo>
                    <a:lnTo>
                      <a:pt x="919" y="477"/>
                    </a:lnTo>
                    <a:lnTo>
                      <a:pt x="918" y="500"/>
                    </a:lnTo>
                    <a:lnTo>
                      <a:pt x="917" y="523"/>
                    </a:lnTo>
                    <a:lnTo>
                      <a:pt x="913" y="546"/>
                    </a:lnTo>
                    <a:lnTo>
                      <a:pt x="910" y="568"/>
                    </a:lnTo>
                    <a:lnTo>
                      <a:pt x="904" y="590"/>
                    </a:lnTo>
                    <a:lnTo>
                      <a:pt x="898" y="612"/>
                    </a:lnTo>
                    <a:lnTo>
                      <a:pt x="891" y="633"/>
                    </a:lnTo>
                    <a:lnTo>
                      <a:pt x="883" y="653"/>
                    </a:lnTo>
                    <a:lnTo>
                      <a:pt x="874" y="674"/>
                    </a:lnTo>
                    <a:lnTo>
                      <a:pt x="864" y="694"/>
                    </a:lnTo>
                    <a:lnTo>
                      <a:pt x="853" y="712"/>
                    </a:lnTo>
                    <a:lnTo>
                      <a:pt x="840" y="731"/>
                    </a:lnTo>
                    <a:lnTo>
                      <a:pt x="828" y="749"/>
                    </a:lnTo>
                    <a:lnTo>
                      <a:pt x="815" y="765"/>
                    </a:lnTo>
                    <a:lnTo>
                      <a:pt x="800" y="782"/>
                    </a:lnTo>
                    <a:lnTo>
                      <a:pt x="785" y="797"/>
                    </a:lnTo>
                    <a:lnTo>
                      <a:pt x="770" y="812"/>
                    </a:lnTo>
                    <a:lnTo>
                      <a:pt x="753" y="827"/>
                    </a:lnTo>
                    <a:lnTo>
                      <a:pt x="736" y="841"/>
                    </a:lnTo>
                    <a:lnTo>
                      <a:pt x="718" y="853"/>
                    </a:lnTo>
                    <a:lnTo>
                      <a:pt x="700" y="865"/>
                    </a:lnTo>
                    <a:lnTo>
                      <a:pt x="680" y="876"/>
                    </a:lnTo>
                    <a:lnTo>
                      <a:pt x="661" y="886"/>
                    </a:lnTo>
                    <a:lnTo>
                      <a:pt x="641" y="895"/>
                    </a:lnTo>
                    <a:lnTo>
                      <a:pt x="620" y="904"/>
                    </a:lnTo>
                    <a:lnTo>
                      <a:pt x="599" y="910"/>
                    </a:lnTo>
                    <a:lnTo>
                      <a:pt x="577" y="916"/>
                    </a:lnTo>
                    <a:lnTo>
                      <a:pt x="556" y="922"/>
                    </a:lnTo>
                    <a:lnTo>
                      <a:pt x="534" y="925"/>
                    </a:lnTo>
                    <a:lnTo>
                      <a:pt x="511" y="929"/>
                    </a:lnTo>
                    <a:lnTo>
                      <a:pt x="488" y="930"/>
                    </a:lnTo>
                    <a:lnTo>
                      <a:pt x="464" y="931"/>
                    </a:lnTo>
                    <a:lnTo>
                      <a:pt x="432" y="930"/>
                    </a:lnTo>
                    <a:lnTo>
                      <a:pt x="401" y="927"/>
                    </a:lnTo>
                    <a:lnTo>
                      <a:pt x="370" y="921"/>
                    </a:lnTo>
                    <a:lnTo>
                      <a:pt x="341" y="914"/>
                    </a:lnTo>
                    <a:lnTo>
                      <a:pt x="311" y="905"/>
                    </a:lnTo>
                    <a:lnTo>
                      <a:pt x="283" y="893"/>
                    </a:lnTo>
                    <a:lnTo>
                      <a:pt x="256" y="880"/>
                    </a:lnTo>
                    <a:lnTo>
                      <a:pt x="230" y="865"/>
                    </a:lnTo>
                    <a:lnTo>
                      <a:pt x="249" y="902"/>
                    </a:lnTo>
                    <a:lnTo>
                      <a:pt x="273" y="914"/>
                    </a:lnTo>
                    <a:lnTo>
                      <a:pt x="298" y="924"/>
                    </a:lnTo>
                    <a:lnTo>
                      <a:pt x="325" y="933"/>
                    </a:lnTo>
                    <a:lnTo>
                      <a:pt x="351" y="940"/>
                    </a:lnTo>
                    <a:lnTo>
                      <a:pt x="379" y="946"/>
                    </a:lnTo>
                    <a:lnTo>
                      <a:pt x="407" y="950"/>
                    </a:lnTo>
                    <a:lnTo>
                      <a:pt x="436" y="953"/>
                    </a:lnTo>
                    <a:lnTo>
                      <a:pt x="464" y="953"/>
                    </a:lnTo>
                    <a:lnTo>
                      <a:pt x="489" y="953"/>
                    </a:lnTo>
                    <a:lnTo>
                      <a:pt x="513" y="951"/>
                    </a:lnTo>
                    <a:lnTo>
                      <a:pt x="537" y="948"/>
                    </a:lnTo>
                    <a:lnTo>
                      <a:pt x="560" y="944"/>
                    </a:lnTo>
                    <a:lnTo>
                      <a:pt x="583" y="938"/>
                    </a:lnTo>
                    <a:lnTo>
                      <a:pt x="606" y="932"/>
                    </a:lnTo>
                    <a:lnTo>
                      <a:pt x="628" y="924"/>
                    </a:lnTo>
                    <a:lnTo>
                      <a:pt x="650" y="916"/>
                    </a:lnTo>
                    <a:lnTo>
                      <a:pt x="671" y="907"/>
                    </a:lnTo>
                    <a:lnTo>
                      <a:pt x="692" y="897"/>
                    </a:lnTo>
                    <a:lnTo>
                      <a:pt x="711" y="885"/>
                    </a:lnTo>
                    <a:lnTo>
                      <a:pt x="731" y="872"/>
                    </a:lnTo>
                    <a:lnTo>
                      <a:pt x="749" y="859"/>
                    </a:lnTo>
                    <a:lnTo>
                      <a:pt x="768" y="845"/>
                    </a:lnTo>
                    <a:lnTo>
                      <a:pt x="785" y="830"/>
                    </a:lnTo>
                    <a:lnTo>
                      <a:pt x="801" y="814"/>
                    </a:lnTo>
                    <a:lnTo>
                      <a:pt x="817" y="797"/>
                    </a:lnTo>
                    <a:lnTo>
                      <a:pt x="832" y="780"/>
                    </a:lnTo>
                    <a:lnTo>
                      <a:pt x="846" y="762"/>
                    </a:lnTo>
                    <a:lnTo>
                      <a:pt x="860" y="743"/>
                    </a:lnTo>
                    <a:lnTo>
                      <a:pt x="872" y="724"/>
                    </a:lnTo>
                    <a:lnTo>
                      <a:pt x="883" y="704"/>
                    </a:lnTo>
                    <a:lnTo>
                      <a:pt x="894" y="683"/>
                    </a:lnTo>
                    <a:lnTo>
                      <a:pt x="904" y="663"/>
                    </a:lnTo>
                    <a:lnTo>
                      <a:pt x="912" y="641"/>
                    </a:lnTo>
                    <a:lnTo>
                      <a:pt x="920" y="619"/>
                    </a:lnTo>
                    <a:lnTo>
                      <a:pt x="926" y="596"/>
                    </a:lnTo>
                    <a:lnTo>
                      <a:pt x="932" y="573"/>
                    </a:lnTo>
                    <a:lnTo>
                      <a:pt x="936" y="550"/>
                    </a:lnTo>
                    <a:lnTo>
                      <a:pt x="939" y="525"/>
                    </a:lnTo>
                    <a:lnTo>
                      <a:pt x="941" y="501"/>
                    </a:lnTo>
                    <a:lnTo>
                      <a:pt x="941" y="477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70680" y="3814920"/>
                <a:ext cx="244440" cy="247320"/>
              </a:xfrm>
              <a:custGeom>
                <a:avLst/>
                <a:gdLst/>
                <a:ahLst/>
                <a:rect l="l" t="t" r="r" b="b"/>
                <a:pathLst>
                  <a:path w="922" h="932">
                    <a:moveTo>
                      <a:pt x="922" y="466"/>
                    </a:moveTo>
                    <a:lnTo>
                      <a:pt x="921" y="442"/>
                    </a:lnTo>
                    <a:lnTo>
                      <a:pt x="919" y="419"/>
                    </a:lnTo>
                    <a:lnTo>
                      <a:pt x="917" y="395"/>
                    </a:lnTo>
                    <a:lnTo>
                      <a:pt x="912" y="373"/>
                    </a:lnTo>
                    <a:lnTo>
                      <a:pt x="907" y="350"/>
                    </a:lnTo>
                    <a:lnTo>
                      <a:pt x="901" y="328"/>
                    </a:lnTo>
                    <a:lnTo>
                      <a:pt x="894" y="306"/>
                    </a:lnTo>
                    <a:lnTo>
                      <a:pt x="886" y="285"/>
                    </a:lnTo>
                    <a:lnTo>
                      <a:pt x="876" y="264"/>
                    </a:lnTo>
                    <a:lnTo>
                      <a:pt x="866" y="244"/>
                    </a:lnTo>
                    <a:lnTo>
                      <a:pt x="854" y="225"/>
                    </a:lnTo>
                    <a:lnTo>
                      <a:pt x="842" y="205"/>
                    </a:lnTo>
                    <a:lnTo>
                      <a:pt x="829" y="187"/>
                    </a:lnTo>
                    <a:lnTo>
                      <a:pt x="815" y="170"/>
                    </a:lnTo>
                    <a:lnTo>
                      <a:pt x="801" y="152"/>
                    </a:lnTo>
                    <a:lnTo>
                      <a:pt x="785" y="136"/>
                    </a:lnTo>
                    <a:lnTo>
                      <a:pt x="769" y="121"/>
                    </a:lnTo>
                    <a:lnTo>
                      <a:pt x="752" y="106"/>
                    </a:lnTo>
                    <a:lnTo>
                      <a:pt x="734" y="93"/>
                    </a:lnTo>
                    <a:lnTo>
                      <a:pt x="716" y="80"/>
                    </a:lnTo>
                    <a:lnTo>
                      <a:pt x="698" y="68"/>
                    </a:lnTo>
                    <a:lnTo>
                      <a:pt x="678" y="57"/>
                    </a:lnTo>
                    <a:lnTo>
                      <a:pt x="658" y="46"/>
                    </a:lnTo>
                    <a:lnTo>
                      <a:pt x="638" y="37"/>
                    </a:lnTo>
                    <a:lnTo>
                      <a:pt x="617" y="29"/>
                    </a:lnTo>
                    <a:lnTo>
                      <a:pt x="595" y="21"/>
                    </a:lnTo>
                    <a:lnTo>
                      <a:pt x="573" y="15"/>
                    </a:lnTo>
                    <a:lnTo>
                      <a:pt x="550" y="10"/>
                    </a:lnTo>
                    <a:lnTo>
                      <a:pt x="527" y="6"/>
                    </a:lnTo>
                    <a:lnTo>
                      <a:pt x="504" y="3"/>
                    </a:lnTo>
                    <a:lnTo>
                      <a:pt x="481" y="1"/>
                    </a:lnTo>
                    <a:lnTo>
                      <a:pt x="456" y="0"/>
                    </a:lnTo>
                    <a:lnTo>
                      <a:pt x="436" y="1"/>
                    </a:lnTo>
                    <a:lnTo>
                      <a:pt x="415" y="3"/>
                    </a:lnTo>
                    <a:lnTo>
                      <a:pt x="394" y="5"/>
                    </a:lnTo>
                    <a:lnTo>
                      <a:pt x="373" y="7"/>
                    </a:lnTo>
                    <a:lnTo>
                      <a:pt x="354" y="12"/>
                    </a:lnTo>
                    <a:lnTo>
                      <a:pt x="334" y="16"/>
                    </a:lnTo>
                    <a:lnTo>
                      <a:pt x="315" y="22"/>
                    </a:lnTo>
                    <a:lnTo>
                      <a:pt x="296" y="29"/>
                    </a:lnTo>
                    <a:lnTo>
                      <a:pt x="278" y="36"/>
                    </a:lnTo>
                    <a:lnTo>
                      <a:pt x="259" y="44"/>
                    </a:lnTo>
                    <a:lnTo>
                      <a:pt x="242" y="53"/>
                    </a:lnTo>
                    <a:lnTo>
                      <a:pt x="225" y="63"/>
                    </a:lnTo>
                    <a:lnTo>
                      <a:pt x="207" y="73"/>
                    </a:lnTo>
                    <a:lnTo>
                      <a:pt x="191" y="83"/>
                    </a:lnTo>
                    <a:lnTo>
                      <a:pt x="175" y="95"/>
                    </a:lnTo>
                    <a:lnTo>
                      <a:pt x="160" y="108"/>
                    </a:lnTo>
                    <a:lnTo>
                      <a:pt x="145" y="120"/>
                    </a:lnTo>
                    <a:lnTo>
                      <a:pt x="131" y="133"/>
                    </a:lnTo>
                    <a:lnTo>
                      <a:pt x="117" y="147"/>
                    </a:lnTo>
                    <a:lnTo>
                      <a:pt x="104" y="162"/>
                    </a:lnTo>
                    <a:lnTo>
                      <a:pt x="91" y="177"/>
                    </a:lnTo>
                    <a:lnTo>
                      <a:pt x="79" y="193"/>
                    </a:lnTo>
                    <a:lnTo>
                      <a:pt x="68" y="209"/>
                    </a:lnTo>
                    <a:lnTo>
                      <a:pt x="57" y="225"/>
                    </a:lnTo>
                    <a:lnTo>
                      <a:pt x="48" y="242"/>
                    </a:lnTo>
                    <a:lnTo>
                      <a:pt x="39" y="260"/>
                    </a:lnTo>
                    <a:lnTo>
                      <a:pt x="31" y="278"/>
                    </a:lnTo>
                    <a:lnTo>
                      <a:pt x="23" y="295"/>
                    </a:lnTo>
                    <a:lnTo>
                      <a:pt x="16" y="315"/>
                    </a:lnTo>
                    <a:lnTo>
                      <a:pt x="10" y="333"/>
                    </a:lnTo>
                    <a:lnTo>
                      <a:pt x="4" y="353"/>
                    </a:lnTo>
                    <a:lnTo>
                      <a:pt x="0" y="373"/>
                    </a:lnTo>
                    <a:lnTo>
                      <a:pt x="17" y="407"/>
                    </a:lnTo>
                    <a:lnTo>
                      <a:pt x="20" y="388"/>
                    </a:lnTo>
                    <a:lnTo>
                      <a:pt x="24" y="368"/>
                    </a:lnTo>
                    <a:lnTo>
                      <a:pt x="30" y="348"/>
                    </a:lnTo>
                    <a:lnTo>
                      <a:pt x="35" y="329"/>
                    </a:lnTo>
                    <a:lnTo>
                      <a:pt x="41" y="310"/>
                    </a:lnTo>
                    <a:lnTo>
                      <a:pt x="49" y="292"/>
                    </a:lnTo>
                    <a:lnTo>
                      <a:pt x="57" y="273"/>
                    </a:lnTo>
                    <a:lnTo>
                      <a:pt x="67" y="256"/>
                    </a:lnTo>
                    <a:lnTo>
                      <a:pt x="76" y="239"/>
                    </a:lnTo>
                    <a:lnTo>
                      <a:pt x="86" y="223"/>
                    </a:lnTo>
                    <a:lnTo>
                      <a:pt x="98" y="207"/>
                    </a:lnTo>
                    <a:lnTo>
                      <a:pt x="109" y="191"/>
                    </a:lnTo>
                    <a:lnTo>
                      <a:pt x="122" y="176"/>
                    </a:lnTo>
                    <a:lnTo>
                      <a:pt x="135" y="162"/>
                    </a:lnTo>
                    <a:lnTo>
                      <a:pt x="148" y="148"/>
                    </a:lnTo>
                    <a:lnTo>
                      <a:pt x="163" y="134"/>
                    </a:lnTo>
                    <a:lnTo>
                      <a:pt x="178" y="121"/>
                    </a:lnTo>
                    <a:lnTo>
                      <a:pt x="193" y="110"/>
                    </a:lnTo>
                    <a:lnTo>
                      <a:pt x="210" y="98"/>
                    </a:lnTo>
                    <a:lnTo>
                      <a:pt x="226" y="88"/>
                    </a:lnTo>
                    <a:lnTo>
                      <a:pt x="243" y="78"/>
                    </a:lnTo>
                    <a:lnTo>
                      <a:pt x="260" y="68"/>
                    </a:lnTo>
                    <a:lnTo>
                      <a:pt x="279" y="60"/>
                    </a:lnTo>
                    <a:lnTo>
                      <a:pt x="297" y="52"/>
                    </a:lnTo>
                    <a:lnTo>
                      <a:pt x="316" y="46"/>
                    </a:lnTo>
                    <a:lnTo>
                      <a:pt x="334" y="41"/>
                    </a:lnTo>
                    <a:lnTo>
                      <a:pt x="354" y="35"/>
                    </a:lnTo>
                    <a:lnTo>
                      <a:pt x="373" y="30"/>
                    </a:lnTo>
                    <a:lnTo>
                      <a:pt x="394" y="28"/>
                    </a:lnTo>
                    <a:lnTo>
                      <a:pt x="415" y="25"/>
                    </a:lnTo>
                    <a:lnTo>
                      <a:pt x="436" y="23"/>
                    </a:lnTo>
                    <a:lnTo>
                      <a:pt x="456" y="23"/>
                    </a:lnTo>
                    <a:lnTo>
                      <a:pt x="480" y="23"/>
                    </a:lnTo>
                    <a:lnTo>
                      <a:pt x="501" y="26"/>
                    </a:lnTo>
                    <a:lnTo>
                      <a:pt x="523" y="28"/>
                    </a:lnTo>
                    <a:lnTo>
                      <a:pt x="545" y="33"/>
                    </a:lnTo>
                    <a:lnTo>
                      <a:pt x="567" y="37"/>
                    </a:lnTo>
                    <a:lnTo>
                      <a:pt x="588" y="43"/>
                    </a:lnTo>
                    <a:lnTo>
                      <a:pt x="609" y="50"/>
                    </a:lnTo>
                    <a:lnTo>
                      <a:pt x="628" y="58"/>
                    </a:lnTo>
                    <a:lnTo>
                      <a:pt x="648" y="67"/>
                    </a:lnTo>
                    <a:lnTo>
                      <a:pt x="668" y="76"/>
                    </a:lnTo>
                    <a:lnTo>
                      <a:pt x="686" y="88"/>
                    </a:lnTo>
                    <a:lnTo>
                      <a:pt x="703" y="98"/>
                    </a:lnTo>
                    <a:lnTo>
                      <a:pt x="721" y="111"/>
                    </a:lnTo>
                    <a:lnTo>
                      <a:pt x="738" y="125"/>
                    </a:lnTo>
                    <a:lnTo>
                      <a:pt x="754" y="139"/>
                    </a:lnTo>
                    <a:lnTo>
                      <a:pt x="769" y="152"/>
                    </a:lnTo>
                    <a:lnTo>
                      <a:pt x="784" y="169"/>
                    </a:lnTo>
                    <a:lnTo>
                      <a:pt x="798" y="185"/>
                    </a:lnTo>
                    <a:lnTo>
                      <a:pt x="811" y="201"/>
                    </a:lnTo>
                    <a:lnTo>
                      <a:pt x="823" y="218"/>
                    </a:lnTo>
                    <a:lnTo>
                      <a:pt x="835" y="237"/>
                    </a:lnTo>
                    <a:lnTo>
                      <a:pt x="845" y="255"/>
                    </a:lnTo>
                    <a:lnTo>
                      <a:pt x="856" y="273"/>
                    </a:lnTo>
                    <a:lnTo>
                      <a:pt x="865" y="293"/>
                    </a:lnTo>
                    <a:lnTo>
                      <a:pt x="872" y="314"/>
                    </a:lnTo>
                    <a:lnTo>
                      <a:pt x="879" y="335"/>
                    </a:lnTo>
                    <a:lnTo>
                      <a:pt x="886" y="355"/>
                    </a:lnTo>
                    <a:lnTo>
                      <a:pt x="890" y="376"/>
                    </a:lnTo>
                    <a:lnTo>
                      <a:pt x="894" y="398"/>
                    </a:lnTo>
                    <a:lnTo>
                      <a:pt x="897" y="421"/>
                    </a:lnTo>
                    <a:lnTo>
                      <a:pt x="898" y="443"/>
                    </a:lnTo>
                    <a:lnTo>
                      <a:pt x="899" y="466"/>
                    </a:lnTo>
                    <a:lnTo>
                      <a:pt x="898" y="489"/>
                    </a:lnTo>
                    <a:lnTo>
                      <a:pt x="897" y="511"/>
                    </a:lnTo>
                    <a:lnTo>
                      <a:pt x="894" y="533"/>
                    </a:lnTo>
                    <a:lnTo>
                      <a:pt x="890" y="555"/>
                    </a:lnTo>
                    <a:lnTo>
                      <a:pt x="886" y="577"/>
                    </a:lnTo>
                    <a:lnTo>
                      <a:pt x="879" y="597"/>
                    </a:lnTo>
                    <a:lnTo>
                      <a:pt x="872" y="618"/>
                    </a:lnTo>
                    <a:lnTo>
                      <a:pt x="865" y="638"/>
                    </a:lnTo>
                    <a:lnTo>
                      <a:pt x="856" y="657"/>
                    </a:lnTo>
                    <a:lnTo>
                      <a:pt x="845" y="677"/>
                    </a:lnTo>
                    <a:lnTo>
                      <a:pt x="835" y="695"/>
                    </a:lnTo>
                    <a:lnTo>
                      <a:pt x="823" y="714"/>
                    </a:lnTo>
                    <a:lnTo>
                      <a:pt x="811" y="731"/>
                    </a:lnTo>
                    <a:lnTo>
                      <a:pt x="798" y="747"/>
                    </a:lnTo>
                    <a:lnTo>
                      <a:pt x="784" y="763"/>
                    </a:lnTo>
                    <a:lnTo>
                      <a:pt x="769" y="778"/>
                    </a:lnTo>
                    <a:lnTo>
                      <a:pt x="754" y="793"/>
                    </a:lnTo>
                    <a:lnTo>
                      <a:pt x="738" y="807"/>
                    </a:lnTo>
                    <a:lnTo>
                      <a:pt x="721" y="821"/>
                    </a:lnTo>
                    <a:lnTo>
                      <a:pt x="703" y="833"/>
                    </a:lnTo>
                    <a:lnTo>
                      <a:pt x="686" y="844"/>
                    </a:lnTo>
                    <a:lnTo>
                      <a:pt x="668" y="856"/>
                    </a:lnTo>
                    <a:lnTo>
                      <a:pt x="648" y="865"/>
                    </a:lnTo>
                    <a:lnTo>
                      <a:pt x="628" y="874"/>
                    </a:lnTo>
                    <a:lnTo>
                      <a:pt x="609" y="882"/>
                    </a:lnTo>
                    <a:lnTo>
                      <a:pt x="588" y="889"/>
                    </a:lnTo>
                    <a:lnTo>
                      <a:pt x="567" y="895"/>
                    </a:lnTo>
                    <a:lnTo>
                      <a:pt x="545" y="899"/>
                    </a:lnTo>
                    <a:lnTo>
                      <a:pt x="523" y="903"/>
                    </a:lnTo>
                    <a:lnTo>
                      <a:pt x="501" y="906"/>
                    </a:lnTo>
                    <a:lnTo>
                      <a:pt x="480" y="908"/>
                    </a:lnTo>
                    <a:lnTo>
                      <a:pt x="456" y="909"/>
                    </a:lnTo>
                    <a:lnTo>
                      <a:pt x="439" y="909"/>
                    </a:lnTo>
                    <a:lnTo>
                      <a:pt x="423" y="908"/>
                    </a:lnTo>
                    <a:lnTo>
                      <a:pt x="406" y="906"/>
                    </a:lnTo>
                    <a:lnTo>
                      <a:pt x="390" y="904"/>
                    </a:lnTo>
                    <a:lnTo>
                      <a:pt x="373" y="901"/>
                    </a:lnTo>
                    <a:lnTo>
                      <a:pt x="357" y="897"/>
                    </a:lnTo>
                    <a:lnTo>
                      <a:pt x="342" y="894"/>
                    </a:lnTo>
                    <a:lnTo>
                      <a:pt x="326" y="889"/>
                    </a:lnTo>
                    <a:lnTo>
                      <a:pt x="311" y="884"/>
                    </a:lnTo>
                    <a:lnTo>
                      <a:pt x="296" y="879"/>
                    </a:lnTo>
                    <a:lnTo>
                      <a:pt x="281" y="873"/>
                    </a:lnTo>
                    <a:lnTo>
                      <a:pt x="267" y="866"/>
                    </a:lnTo>
                    <a:lnTo>
                      <a:pt x="252" y="859"/>
                    </a:lnTo>
                    <a:lnTo>
                      <a:pt x="238" y="852"/>
                    </a:lnTo>
                    <a:lnTo>
                      <a:pt x="225" y="844"/>
                    </a:lnTo>
                    <a:lnTo>
                      <a:pt x="212" y="835"/>
                    </a:lnTo>
                    <a:lnTo>
                      <a:pt x="232" y="874"/>
                    </a:lnTo>
                    <a:lnTo>
                      <a:pt x="257" y="887"/>
                    </a:lnTo>
                    <a:lnTo>
                      <a:pt x="283" y="898"/>
                    </a:lnTo>
                    <a:lnTo>
                      <a:pt x="310" y="908"/>
                    </a:lnTo>
                    <a:lnTo>
                      <a:pt x="339" y="917"/>
                    </a:lnTo>
                    <a:lnTo>
                      <a:pt x="366" y="922"/>
                    </a:lnTo>
                    <a:lnTo>
                      <a:pt x="396" y="927"/>
                    </a:lnTo>
                    <a:lnTo>
                      <a:pt x="425" y="931"/>
                    </a:lnTo>
                    <a:lnTo>
                      <a:pt x="456" y="932"/>
                    </a:lnTo>
                    <a:lnTo>
                      <a:pt x="481" y="931"/>
                    </a:lnTo>
                    <a:lnTo>
                      <a:pt x="504" y="928"/>
                    </a:lnTo>
                    <a:lnTo>
                      <a:pt x="527" y="926"/>
                    </a:lnTo>
                    <a:lnTo>
                      <a:pt x="550" y="921"/>
                    </a:lnTo>
                    <a:lnTo>
                      <a:pt x="573" y="917"/>
                    </a:lnTo>
                    <a:lnTo>
                      <a:pt x="595" y="910"/>
                    </a:lnTo>
                    <a:lnTo>
                      <a:pt x="617" y="903"/>
                    </a:lnTo>
                    <a:lnTo>
                      <a:pt x="638" y="895"/>
                    </a:lnTo>
                    <a:lnTo>
                      <a:pt x="658" y="886"/>
                    </a:lnTo>
                    <a:lnTo>
                      <a:pt x="678" y="875"/>
                    </a:lnTo>
                    <a:lnTo>
                      <a:pt x="698" y="864"/>
                    </a:lnTo>
                    <a:lnTo>
                      <a:pt x="716" y="852"/>
                    </a:lnTo>
                    <a:lnTo>
                      <a:pt x="734" y="838"/>
                    </a:lnTo>
                    <a:lnTo>
                      <a:pt x="752" y="825"/>
                    </a:lnTo>
                    <a:lnTo>
                      <a:pt x="769" y="811"/>
                    </a:lnTo>
                    <a:lnTo>
                      <a:pt x="785" y="795"/>
                    </a:lnTo>
                    <a:lnTo>
                      <a:pt x="801" y="778"/>
                    </a:lnTo>
                    <a:lnTo>
                      <a:pt x="815" y="762"/>
                    </a:lnTo>
                    <a:lnTo>
                      <a:pt x="829" y="744"/>
                    </a:lnTo>
                    <a:lnTo>
                      <a:pt x="842" y="727"/>
                    </a:lnTo>
                    <a:lnTo>
                      <a:pt x="854" y="707"/>
                    </a:lnTo>
                    <a:lnTo>
                      <a:pt x="866" y="687"/>
                    </a:lnTo>
                    <a:lnTo>
                      <a:pt x="876" y="668"/>
                    </a:lnTo>
                    <a:lnTo>
                      <a:pt x="886" y="647"/>
                    </a:lnTo>
                    <a:lnTo>
                      <a:pt x="894" y="626"/>
                    </a:lnTo>
                    <a:lnTo>
                      <a:pt x="901" y="604"/>
                    </a:lnTo>
                    <a:lnTo>
                      <a:pt x="907" y="582"/>
                    </a:lnTo>
                    <a:lnTo>
                      <a:pt x="912" y="559"/>
                    </a:lnTo>
                    <a:lnTo>
                      <a:pt x="917" y="536"/>
                    </a:lnTo>
                    <a:lnTo>
                      <a:pt x="919" y="513"/>
                    </a:lnTo>
                    <a:lnTo>
                      <a:pt x="921" y="490"/>
                    </a:lnTo>
                    <a:lnTo>
                      <a:pt x="922" y="46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73920" y="3817800"/>
                <a:ext cx="237960" cy="241560"/>
              </a:xfrm>
              <a:custGeom>
                <a:avLst/>
                <a:gdLst/>
                <a:ahLst/>
                <a:rect l="l" t="t" r="r" b="b"/>
                <a:pathLst>
                  <a:path w="902" h="908">
                    <a:moveTo>
                      <a:pt x="902" y="454"/>
                    </a:moveTo>
                    <a:lnTo>
                      <a:pt x="901" y="431"/>
                    </a:lnTo>
                    <a:lnTo>
                      <a:pt x="900" y="408"/>
                    </a:lnTo>
                    <a:lnTo>
                      <a:pt x="896" y="385"/>
                    </a:lnTo>
                    <a:lnTo>
                      <a:pt x="893" y="362"/>
                    </a:lnTo>
                    <a:lnTo>
                      <a:pt x="887" y="341"/>
                    </a:lnTo>
                    <a:lnTo>
                      <a:pt x="881" y="319"/>
                    </a:lnTo>
                    <a:lnTo>
                      <a:pt x="874" y="297"/>
                    </a:lnTo>
                    <a:lnTo>
                      <a:pt x="866" y="278"/>
                    </a:lnTo>
                    <a:lnTo>
                      <a:pt x="857" y="257"/>
                    </a:lnTo>
                    <a:lnTo>
                      <a:pt x="847" y="237"/>
                    </a:lnTo>
                    <a:lnTo>
                      <a:pt x="836" y="219"/>
                    </a:lnTo>
                    <a:lnTo>
                      <a:pt x="823" y="200"/>
                    </a:lnTo>
                    <a:lnTo>
                      <a:pt x="811" y="182"/>
                    </a:lnTo>
                    <a:lnTo>
                      <a:pt x="798" y="165"/>
                    </a:lnTo>
                    <a:lnTo>
                      <a:pt x="783" y="149"/>
                    </a:lnTo>
                    <a:lnTo>
                      <a:pt x="768" y="132"/>
                    </a:lnTo>
                    <a:lnTo>
                      <a:pt x="753" y="117"/>
                    </a:lnTo>
                    <a:lnTo>
                      <a:pt x="736" y="104"/>
                    </a:lnTo>
                    <a:lnTo>
                      <a:pt x="719" y="90"/>
                    </a:lnTo>
                    <a:lnTo>
                      <a:pt x="701" y="77"/>
                    </a:lnTo>
                    <a:lnTo>
                      <a:pt x="683" y="66"/>
                    </a:lnTo>
                    <a:lnTo>
                      <a:pt x="663" y="55"/>
                    </a:lnTo>
                    <a:lnTo>
                      <a:pt x="644" y="45"/>
                    </a:lnTo>
                    <a:lnTo>
                      <a:pt x="624" y="36"/>
                    </a:lnTo>
                    <a:lnTo>
                      <a:pt x="603" y="27"/>
                    </a:lnTo>
                    <a:lnTo>
                      <a:pt x="582" y="21"/>
                    </a:lnTo>
                    <a:lnTo>
                      <a:pt x="560" y="14"/>
                    </a:lnTo>
                    <a:lnTo>
                      <a:pt x="539" y="9"/>
                    </a:lnTo>
                    <a:lnTo>
                      <a:pt x="517" y="6"/>
                    </a:lnTo>
                    <a:lnTo>
                      <a:pt x="494" y="2"/>
                    </a:lnTo>
                    <a:lnTo>
                      <a:pt x="471" y="0"/>
                    </a:lnTo>
                    <a:lnTo>
                      <a:pt x="447" y="0"/>
                    </a:lnTo>
                    <a:lnTo>
                      <a:pt x="427" y="0"/>
                    </a:lnTo>
                    <a:lnTo>
                      <a:pt x="406" y="2"/>
                    </a:lnTo>
                    <a:lnTo>
                      <a:pt x="385" y="4"/>
                    </a:lnTo>
                    <a:lnTo>
                      <a:pt x="364" y="7"/>
                    </a:lnTo>
                    <a:lnTo>
                      <a:pt x="345" y="11"/>
                    </a:lnTo>
                    <a:lnTo>
                      <a:pt x="325" y="16"/>
                    </a:lnTo>
                    <a:lnTo>
                      <a:pt x="307" y="22"/>
                    </a:lnTo>
                    <a:lnTo>
                      <a:pt x="287" y="29"/>
                    </a:lnTo>
                    <a:lnTo>
                      <a:pt x="269" y="37"/>
                    </a:lnTo>
                    <a:lnTo>
                      <a:pt x="251" y="45"/>
                    </a:lnTo>
                    <a:lnTo>
                      <a:pt x="233" y="53"/>
                    </a:lnTo>
                    <a:lnTo>
                      <a:pt x="217" y="63"/>
                    </a:lnTo>
                    <a:lnTo>
                      <a:pt x="199" y="74"/>
                    </a:lnTo>
                    <a:lnTo>
                      <a:pt x="183" y="84"/>
                    </a:lnTo>
                    <a:lnTo>
                      <a:pt x="167" y="96"/>
                    </a:lnTo>
                    <a:lnTo>
                      <a:pt x="152" y="108"/>
                    </a:lnTo>
                    <a:lnTo>
                      <a:pt x="138" y="122"/>
                    </a:lnTo>
                    <a:lnTo>
                      <a:pt x="125" y="135"/>
                    </a:lnTo>
                    <a:lnTo>
                      <a:pt x="111" y="150"/>
                    </a:lnTo>
                    <a:lnTo>
                      <a:pt x="98" y="164"/>
                    </a:lnTo>
                    <a:lnTo>
                      <a:pt x="85" y="180"/>
                    </a:lnTo>
                    <a:lnTo>
                      <a:pt x="74" y="195"/>
                    </a:lnTo>
                    <a:lnTo>
                      <a:pt x="63" y="212"/>
                    </a:lnTo>
                    <a:lnTo>
                      <a:pt x="53" y="228"/>
                    </a:lnTo>
                    <a:lnTo>
                      <a:pt x="44" y="245"/>
                    </a:lnTo>
                    <a:lnTo>
                      <a:pt x="35" y="264"/>
                    </a:lnTo>
                    <a:lnTo>
                      <a:pt x="26" y="281"/>
                    </a:lnTo>
                    <a:lnTo>
                      <a:pt x="20" y="300"/>
                    </a:lnTo>
                    <a:lnTo>
                      <a:pt x="14" y="319"/>
                    </a:lnTo>
                    <a:lnTo>
                      <a:pt x="8" y="339"/>
                    </a:lnTo>
                    <a:lnTo>
                      <a:pt x="3" y="358"/>
                    </a:lnTo>
                    <a:lnTo>
                      <a:pt x="0" y="378"/>
                    </a:lnTo>
                    <a:lnTo>
                      <a:pt x="17" y="414"/>
                    </a:lnTo>
                    <a:lnTo>
                      <a:pt x="20" y="394"/>
                    </a:lnTo>
                    <a:lnTo>
                      <a:pt x="23" y="373"/>
                    </a:lnTo>
                    <a:lnTo>
                      <a:pt x="28" y="354"/>
                    </a:lnTo>
                    <a:lnTo>
                      <a:pt x="32" y="334"/>
                    </a:lnTo>
                    <a:lnTo>
                      <a:pt x="38" y="316"/>
                    </a:lnTo>
                    <a:lnTo>
                      <a:pt x="45" y="296"/>
                    </a:lnTo>
                    <a:lnTo>
                      <a:pt x="53" y="279"/>
                    </a:lnTo>
                    <a:lnTo>
                      <a:pt x="61" y="260"/>
                    </a:lnTo>
                    <a:lnTo>
                      <a:pt x="70" y="243"/>
                    </a:lnTo>
                    <a:lnTo>
                      <a:pt x="81" y="226"/>
                    </a:lnTo>
                    <a:lnTo>
                      <a:pt x="91" y="210"/>
                    </a:lnTo>
                    <a:lnTo>
                      <a:pt x="103" y="193"/>
                    </a:lnTo>
                    <a:lnTo>
                      <a:pt x="115" y="179"/>
                    </a:lnTo>
                    <a:lnTo>
                      <a:pt x="128" y="164"/>
                    </a:lnTo>
                    <a:lnTo>
                      <a:pt x="142" y="150"/>
                    </a:lnTo>
                    <a:lnTo>
                      <a:pt x="156" y="136"/>
                    </a:lnTo>
                    <a:lnTo>
                      <a:pt x="171" y="123"/>
                    </a:lnTo>
                    <a:lnTo>
                      <a:pt x="186" y="110"/>
                    </a:lnTo>
                    <a:lnTo>
                      <a:pt x="202" y="99"/>
                    </a:lnTo>
                    <a:lnTo>
                      <a:pt x="218" y="89"/>
                    </a:lnTo>
                    <a:lnTo>
                      <a:pt x="234" y="78"/>
                    </a:lnTo>
                    <a:lnTo>
                      <a:pt x="251" y="69"/>
                    </a:lnTo>
                    <a:lnTo>
                      <a:pt x="270" y="61"/>
                    </a:lnTo>
                    <a:lnTo>
                      <a:pt x="288" y="53"/>
                    </a:lnTo>
                    <a:lnTo>
                      <a:pt x="307" y="46"/>
                    </a:lnTo>
                    <a:lnTo>
                      <a:pt x="325" y="40"/>
                    </a:lnTo>
                    <a:lnTo>
                      <a:pt x="345" y="34"/>
                    </a:lnTo>
                    <a:lnTo>
                      <a:pt x="364" y="30"/>
                    </a:lnTo>
                    <a:lnTo>
                      <a:pt x="385" y="27"/>
                    </a:lnTo>
                    <a:lnTo>
                      <a:pt x="406" y="24"/>
                    </a:lnTo>
                    <a:lnTo>
                      <a:pt x="427" y="23"/>
                    </a:lnTo>
                    <a:lnTo>
                      <a:pt x="447" y="23"/>
                    </a:lnTo>
                    <a:lnTo>
                      <a:pt x="469" y="23"/>
                    </a:lnTo>
                    <a:lnTo>
                      <a:pt x="491" y="25"/>
                    </a:lnTo>
                    <a:lnTo>
                      <a:pt x="513" y="27"/>
                    </a:lnTo>
                    <a:lnTo>
                      <a:pt x="534" y="31"/>
                    </a:lnTo>
                    <a:lnTo>
                      <a:pt x="555" y="36"/>
                    </a:lnTo>
                    <a:lnTo>
                      <a:pt x="575" y="42"/>
                    </a:lnTo>
                    <a:lnTo>
                      <a:pt x="595" y="48"/>
                    </a:lnTo>
                    <a:lnTo>
                      <a:pt x="615" y="56"/>
                    </a:lnTo>
                    <a:lnTo>
                      <a:pt x="634" y="66"/>
                    </a:lnTo>
                    <a:lnTo>
                      <a:pt x="653" y="75"/>
                    </a:lnTo>
                    <a:lnTo>
                      <a:pt x="671" y="85"/>
                    </a:lnTo>
                    <a:lnTo>
                      <a:pt x="689" y="97"/>
                    </a:lnTo>
                    <a:lnTo>
                      <a:pt x="706" y="108"/>
                    </a:lnTo>
                    <a:lnTo>
                      <a:pt x="722" y="121"/>
                    </a:lnTo>
                    <a:lnTo>
                      <a:pt x="737" y="135"/>
                    </a:lnTo>
                    <a:lnTo>
                      <a:pt x="752" y="149"/>
                    </a:lnTo>
                    <a:lnTo>
                      <a:pt x="767" y="164"/>
                    </a:lnTo>
                    <a:lnTo>
                      <a:pt x="780" y="180"/>
                    </a:lnTo>
                    <a:lnTo>
                      <a:pt x="792" y="196"/>
                    </a:lnTo>
                    <a:lnTo>
                      <a:pt x="805" y="213"/>
                    </a:lnTo>
                    <a:lnTo>
                      <a:pt x="817" y="230"/>
                    </a:lnTo>
                    <a:lnTo>
                      <a:pt x="827" y="249"/>
                    </a:lnTo>
                    <a:lnTo>
                      <a:pt x="836" y="267"/>
                    </a:lnTo>
                    <a:lnTo>
                      <a:pt x="845" y="286"/>
                    </a:lnTo>
                    <a:lnTo>
                      <a:pt x="852" y="305"/>
                    </a:lnTo>
                    <a:lnTo>
                      <a:pt x="859" y="326"/>
                    </a:lnTo>
                    <a:lnTo>
                      <a:pt x="865" y="346"/>
                    </a:lnTo>
                    <a:lnTo>
                      <a:pt x="870" y="366"/>
                    </a:lnTo>
                    <a:lnTo>
                      <a:pt x="874" y="388"/>
                    </a:lnTo>
                    <a:lnTo>
                      <a:pt x="877" y="410"/>
                    </a:lnTo>
                    <a:lnTo>
                      <a:pt x="878" y="432"/>
                    </a:lnTo>
                    <a:lnTo>
                      <a:pt x="879" y="454"/>
                    </a:lnTo>
                    <a:lnTo>
                      <a:pt x="878" y="476"/>
                    </a:lnTo>
                    <a:lnTo>
                      <a:pt x="877" y="498"/>
                    </a:lnTo>
                    <a:lnTo>
                      <a:pt x="874" y="520"/>
                    </a:lnTo>
                    <a:lnTo>
                      <a:pt x="870" y="540"/>
                    </a:lnTo>
                    <a:lnTo>
                      <a:pt x="865" y="561"/>
                    </a:lnTo>
                    <a:lnTo>
                      <a:pt x="859" y="582"/>
                    </a:lnTo>
                    <a:lnTo>
                      <a:pt x="852" y="603"/>
                    </a:lnTo>
                    <a:lnTo>
                      <a:pt x="845" y="621"/>
                    </a:lnTo>
                    <a:lnTo>
                      <a:pt x="836" y="641"/>
                    </a:lnTo>
                    <a:lnTo>
                      <a:pt x="827" y="659"/>
                    </a:lnTo>
                    <a:lnTo>
                      <a:pt x="817" y="678"/>
                    </a:lnTo>
                    <a:lnTo>
                      <a:pt x="805" y="695"/>
                    </a:lnTo>
                    <a:lnTo>
                      <a:pt x="792" y="712"/>
                    </a:lnTo>
                    <a:lnTo>
                      <a:pt x="780" y="728"/>
                    </a:lnTo>
                    <a:lnTo>
                      <a:pt x="767" y="743"/>
                    </a:lnTo>
                    <a:lnTo>
                      <a:pt x="752" y="758"/>
                    </a:lnTo>
                    <a:lnTo>
                      <a:pt x="737" y="773"/>
                    </a:lnTo>
                    <a:lnTo>
                      <a:pt x="722" y="787"/>
                    </a:lnTo>
                    <a:lnTo>
                      <a:pt x="706" y="800"/>
                    </a:lnTo>
                    <a:lnTo>
                      <a:pt x="689" y="811"/>
                    </a:lnTo>
                    <a:lnTo>
                      <a:pt x="671" y="823"/>
                    </a:lnTo>
                    <a:lnTo>
                      <a:pt x="653" y="833"/>
                    </a:lnTo>
                    <a:lnTo>
                      <a:pt x="634" y="842"/>
                    </a:lnTo>
                    <a:lnTo>
                      <a:pt x="615" y="852"/>
                    </a:lnTo>
                    <a:lnTo>
                      <a:pt x="595" y="859"/>
                    </a:lnTo>
                    <a:lnTo>
                      <a:pt x="575" y="866"/>
                    </a:lnTo>
                    <a:lnTo>
                      <a:pt x="555" y="871"/>
                    </a:lnTo>
                    <a:lnTo>
                      <a:pt x="534" y="876"/>
                    </a:lnTo>
                    <a:lnTo>
                      <a:pt x="513" y="881"/>
                    </a:lnTo>
                    <a:lnTo>
                      <a:pt x="491" y="883"/>
                    </a:lnTo>
                    <a:lnTo>
                      <a:pt x="469" y="885"/>
                    </a:lnTo>
                    <a:lnTo>
                      <a:pt x="447" y="885"/>
                    </a:lnTo>
                    <a:lnTo>
                      <a:pt x="429" y="885"/>
                    </a:lnTo>
                    <a:lnTo>
                      <a:pt x="412" y="884"/>
                    </a:lnTo>
                    <a:lnTo>
                      <a:pt x="394" y="882"/>
                    </a:lnTo>
                    <a:lnTo>
                      <a:pt x="377" y="879"/>
                    </a:lnTo>
                    <a:lnTo>
                      <a:pt x="360" y="876"/>
                    </a:lnTo>
                    <a:lnTo>
                      <a:pt x="344" y="872"/>
                    </a:lnTo>
                    <a:lnTo>
                      <a:pt x="326" y="868"/>
                    </a:lnTo>
                    <a:lnTo>
                      <a:pt x="310" y="863"/>
                    </a:lnTo>
                    <a:lnTo>
                      <a:pt x="294" y="857"/>
                    </a:lnTo>
                    <a:lnTo>
                      <a:pt x="279" y="852"/>
                    </a:lnTo>
                    <a:lnTo>
                      <a:pt x="263" y="845"/>
                    </a:lnTo>
                    <a:lnTo>
                      <a:pt x="248" y="837"/>
                    </a:lnTo>
                    <a:lnTo>
                      <a:pt x="234" y="829"/>
                    </a:lnTo>
                    <a:lnTo>
                      <a:pt x="219" y="821"/>
                    </a:lnTo>
                    <a:lnTo>
                      <a:pt x="205" y="811"/>
                    </a:lnTo>
                    <a:lnTo>
                      <a:pt x="191" y="801"/>
                    </a:lnTo>
                    <a:lnTo>
                      <a:pt x="213" y="842"/>
                    </a:lnTo>
                    <a:lnTo>
                      <a:pt x="239" y="857"/>
                    </a:lnTo>
                    <a:lnTo>
                      <a:pt x="266" y="870"/>
                    </a:lnTo>
                    <a:lnTo>
                      <a:pt x="294" y="882"/>
                    </a:lnTo>
                    <a:lnTo>
                      <a:pt x="324" y="891"/>
                    </a:lnTo>
                    <a:lnTo>
                      <a:pt x="353" y="898"/>
                    </a:lnTo>
                    <a:lnTo>
                      <a:pt x="384" y="904"/>
                    </a:lnTo>
                    <a:lnTo>
                      <a:pt x="415" y="907"/>
                    </a:lnTo>
                    <a:lnTo>
                      <a:pt x="447" y="908"/>
                    </a:lnTo>
                    <a:lnTo>
                      <a:pt x="471" y="907"/>
                    </a:lnTo>
                    <a:lnTo>
                      <a:pt x="494" y="906"/>
                    </a:lnTo>
                    <a:lnTo>
                      <a:pt x="517" y="902"/>
                    </a:lnTo>
                    <a:lnTo>
                      <a:pt x="539" y="899"/>
                    </a:lnTo>
                    <a:lnTo>
                      <a:pt x="560" y="893"/>
                    </a:lnTo>
                    <a:lnTo>
                      <a:pt x="582" y="887"/>
                    </a:lnTo>
                    <a:lnTo>
                      <a:pt x="603" y="881"/>
                    </a:lnTo>
                    <a:lnTo>
                      <a:pt x="624" y="872"/>
                    </a:lnTo>
                    <a:lnTo>
                      <a:pt x="644" y="863"/>
                    </a:lnTo>
                    <a:lnTo>
                      <a:pt x="663" y="853"/>
                    </a:lnTo>
                    <a:lnTo>
                      <a:pt x="683" y="842"/>
                    </a:lnTo>
                    <a:lnTo>
                      <a:pt x="701" y="830"/>
                    </a:lnTo>
                    <a:lnTo>
                      <a:pt x="719" y="818"/>
                    </a:lnTo>
                    <a:lnTo>
                      <a:pt x="736" y="804"/>
                    </a:lnTo>
                    <a:lnTo>
                      <a:pt x="753" y="789"/>
                    </a:lnTo>
                    <a:lnTo>
                      <a:pt x="768" y="774"/>
                    </a:lnTo>
                    <a:lnTo>
                      <a:pt x="783" y="759"/>
                    </a:lnTo>
                    <a:lnTo>
                      <a:pt x="798" y="742"/>
                    </a:lnTo>
                    <a:lnTo>
                      <a:pt x="811" y="726"/>
                    </a:lnTo>
                    <a:lnTo>
                      <a:pt x="823" y="708"/>
                    </a:lnTo>
                    <a:lnTo>
                      <a:pt x="836" y="689"/>
                    </a:lnTo>
                    <a:lnTo>
                      <a:pt x="847" y="671"/>
                    </a:lnTo>
                    <a:lnTo>
                      <a:pt x="857" y="651"/>
                    </a:lnTo>
                    <a:lnTo>
                      <a:pt x="866" y="630"/>
                    </a:lnTo>
                    <a:lnTo>
                      <a:pt x="874" y="610"/>
                    </a:lnTo>
                    <a:lnTo>
                      <a:pt x="881" y="589"/>
                    </a:lnTo>
                    <a:lnTo>
                      <a:pt x="887" y="567"/>
                    </a:lnTo>
                    <a:lnTo>
                      <a:pt x="893" y="545"/>
                    </a:lnTo>
                    <a:lnTo>
                      <a:pt x="896" y="523"/>
                    </a:lnTo>
                    <a:lnTo>
                      <a:pt x="900" y="500"/>
                    </a:lnTo>
                    <a:lnTo>
                      <a:pt x="901" y="477"/>
                    </a:lnTo>
                    <a:lnTo>
                      <a:pt x="902" y="4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075360" y="3821040"/>
                <a:ext cx="233280" cy="235080"/>
              </a:xfrm>
              <a:custGeom>
                <a:avLst/>
                <a:gdLst/>
                <a:ahLst/>
                <a:rect l="l" t="t" r="r" b="b"/>
                <a:pathLst>
                  <a:path w="882" h="886">
                    <a:moveTo>
                      <a:pt x="882" y="443"/>
                    </a:moveTo>
                    <a:lnTo>
                      <a:pt x="881" y="420"/>
                    </a:lnTo>
                    <a:lnTo>
                      <a:pt x="880" y="398"/>
                    </a:lnTo>
                    <a:lnTo>
                      <a:pt x="877" y="375"/>
                    </a:lnTo>
                    <a:lnTo>
                      <a:pt x="873" y="353"/>
                    </a:lnTo>
                    <a:lnTo>
                      <a:pt x="869" y="332"/>
                    </a:lnTo>
                    <a:lnTo>
                      <a:pt x="862" y="312"/>
                    </a:lnTo>
                    <a:lnTo>
                      <a:pt x="855" y="291"/>
                    </a:lnTo>
                    <a:lnTo>
                      <a:pt x="848" y="270"/>
                    </a:lnTo>
                    <a:lnTo>
                      <a:pt x="839" y="250"/>
                    </a:lnTo>
                    <a:lnTo>
                      <a:pt x="828" y="232"/>
                    </a:lnTo>
                    <a:lnTo>
                      <a:pt x="818" y="214"/>
                    </a:lnTo>
                    <a:lnTo>
                      <a:pt x="806" y="195"/>
                    </a:lnTo>
                    <a:lnTo>
                      <a:pt x="794" y="178"/>
                    </a:lnTo>
                    <a:lnTo>
                      <a:pt x="781" y="162"/>
                    </a:lnTo>
                    <a:lnTo>
                      <a:pt x="767" y="146"/>
                    </a:lnTo>
                    <a:lnTo>
                      <a:pt x="752" y="129"/>
                    </a:lnTo>
                    <a:lnTo>
                      <a:pt x="737" y="116"/>
                    </a:lnTo>
                    <a:lnTo>
                      <a:pt x="721" y="102"/>
                    </a:lnTo>
                    <a:lnTo>
                      <a:pt x="704" y="88"/>
                    </a:lnTo>
                    <a:lnTo>
                      <a:pt x="686" y="75"/>
                    </a:lnTo>
                    <a:lnTo>
                      <a:pt x="669" y="65"/>
                    </a:lnTo>
                    <a:lnTo>
                      <a:pt x="651" y="53"/>
                    </a:lnTo>
                    <a:lnTo>
                      <a:pt x="631" y="44"/>
                    </a:lnTo>
                    <a:lnTo>
                      <a:pt x="611" y="35"/>
                    </a:lnTo>
                    <a:lnTo>
                      <a:pt x="592" y="27"/>
                    </a:lnTo>
                    <a:lnTo>
                      <a:pt x="571" y="20"/>
                    </a:lnTo>
                    <a:lnTo>
                      <a:pt x="550" y="14"/>
                    </a:lnTo>
                    <a:lnTo>
                      <a:pt x="528" y="10"/>
                    </a:lnTo>
                    <a:lnTo>
                      <a:pt x="506" y="5"/>
                    </a:lnTo>
                    <a:lnTo>
                      <a:pt x="484" y="3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19" y="0"/>
                    </a:lnTo>
                    <a:lnTo>
                      <a:pt x="398" y="2"/>
                    </a:lnTo>
                    <a:lnTo>
                      <a:pt x="377" y="5"/>
                    </a:lnTo>
                    <a:lnTo>
                      <a:pt x="356" y="7"/>
                    </a:lnTo>
                    <a:lnTo>
                      <a:pt x="337" y="12"/>
                    </a:lnTo>
                    <a:lnTo>
                      <a:pt x="317" y="18"/>
                    </a:lnTo>
                    <a:lnTo>
                      <a:pt x="299" y="23"/>
                    </a:lnTo>
                    <a:lnTo>
                      <a:pt x="280" y="29"/>
                    </a:lnTo>
                    <a:lnTo>
                      <a:pt x="262" y="37"/>
                    </a:lnTo>
                    <a:lnTo>
                      <a:pt x="243" y="45"/>
                    </a:lnTo>
                    <a:lnTo>
                      <a:pt x="226" y="55"/>
                    </a:lnTo>
                    <a:lnTo>
                      <a:pt x="209" y="65"/>
                    </a:lnTo>
                    <a:lnTo>
                      <a:pt x="193" y="75"/>
                    </a:lnTo>
                    <a:lnTo>
                      <a:pt x="176" y="87"/>
                    </a:lnTo>
                    <a:lnTo>
                      <a:pt x="161" y="98"/>
                    </a:lnTo>
                    <a:lnTo>
                      <a:pt x="146" y="111"/>
                    </a:lnTo>
                    <a:lnTo>
                      <a:pt x="131" y="125"/>
                    </a:lnTo>
                    <a:lnTo>
                      <a:pt x="118" y="139"/>
                    </a:lnTo>
                    <a:lnTo>
                      <a:pt x="105" y="153"/>
                    </a:lnTo>
                    <a:lnTo>
                      <a:pt x="92" y="168"/>
                    </a:lnTo>
                    <a:lnTo>
                      <a:pt x="81" y="184"/>
                    </a:lnTo>
                    <a:lnTo>
                      <a:pt x="69" y="200"/>
                    </a:lnTo>
                    <a:lnTo>
                      <a:pt x="59" y="216"/>
                    </a:lnTo>
                    <a:lnTo>
                      <a:pt x="50" y="233"/>
                    </a:lnTo>
                    <a:lnTo>
                      <a:pt x="40" y="250"/>
                    </a:lnTo>
                    <a:lnTo>
                      <a:pt x="32" y="269"/>
                    </a:lnTo>
                    <a:lnTo>
                      <a:pt x="24" y="287"/>
                    </a:lnTo>
                    <a:lnTo>
                      <a:pt x="18" y="306"/>
                    </a:lnTo>
                    <a:lnTo>
                      <a:pt x="13" y="325"/>
                    </a:lnTo>
                    <a:lnTo>
                      <a:pt x="7" y="345"/>
                    </a:lnTo>
                    <a:lnTo>
                      <a:pt x="3" y="365"/>
                    </a:lnTo>
                    <a:lnTo>
                      <a:pt x="0" y="384"/>
                    </a:lnTo>
                    <a:lnTo>
                      <a:pt x="20" y="423"/>
                    </a:lnTo>
                    <a:lnTo>
                      <a:pt x="21" y="403"/>
                    </a:lnTo>
                    <a:lnTo>
                      <a:pt x="23" y="382"/>
                    </a:lnTo>
                    <a:lnTo>
                      <a:pt x="27" y="362"/>
                    </a:lnTo>
                    <a:lnTo>
                      <a:pt x="31" y="342"/>
                    </a:lnTo>
                    <a:lnTo>
                      <a:pt x="37" y="322"/>
                    </a:lnTo>
                    <a:lnTo>
                      <a:pt x="43" y="304"/>
                    </a:lnTo>
                    <a:lnTo>
                      <a:pt x="50" y="285"/>
                    </a:lnTo>
                    <a:lnTo>
                      <a:pt x="58" y="267"/>
                    </a:lnTo>
                    <a:lnTo>
                      <a:pt x="67" y="249"/>
                    </a:lnTo>
                    <a:lnTo>
                      <a:pt x="76" y="232"/>
                    </a:lnTo>
                    <a:lnTo>
                      <a:pt x="87" y="215"/>
                    </a:lnTo>
                    <a:lnTo>
                      <a:pt x="97" y="199"/>
                    </a:lnTo>
                    <a:lnTo>
                      <a:pt x="110" y="182"/>
                    </a:lnTo>
                    <a:lnTo>
                      <a:pt x="122" y="168"/>
                    </a:lnTo>
                    <a:lnTo>
                      <a:pt x="135" y="154"/>
                    </a:lnTo>
                    <a:lnTo>
                      <a:pt x="149" y="140"/>
                    </a:lnTo>
                    <a:lnTo>
                      <a:pt x="163" y="126"/>
                    </a:lnTo>
                    <a:lnTo>
                      <a:pt x="178" y="113"/>
                    </a:lnTo>
                    <a:lnTo>
                      <a:pt x="194" y="102"/>
                    </a:lnTo>
                    <a:lnTo>
                      <a:pt x="210" y="90"/>
                    </a:lnTo>
                    <a:lnTo>
                      <a:pt x="227" y="80"/>
                    </a:lnTo>
                    <a:lnTo>
                      <a:pt x="245" y="71"/>
                    </a:lnTo>
                    <a:lnTo>
                      <a:pt x="262" y="63"/>
                    </a:lnTo>
                    <a:lnTo>
                      <a:pt x="280" y="55"/>
                    </a:lnTo>
                    <a:lnTo>
                      <a:pt x="299" y="46"/>
                    </a:lnTo>
                    <a:lnTo>
                      <a:pt x="317" y="41"/>
                    </a:lnTo>
                    <a:lnTo>
                      <a:pt x="337" y="35"/>
                    </a:lnTo>
                    <a:lnTo>
                      <a:pt x="356" y="31"/>
                    </a:lnTo>
                    <a:lnTo>
                      <a:pt x="377" y="28"/>
                    </a:lnTo>
                    <a:lnTo>
                      <a:pt x="398" y="25"/>
                    </a:lnTo>
                    <a:lnTo>
                      <a:pt x="419" y="23"/>
                    </a:lnTo>
                    <a:lnTo>
                      <a:pt x="439" y="22"/>
                    </a:lnTo>
                    <a:lnTo>
                      <a:pt x="461" y="23"/>
                    </a:lnTo>
                    <a:lnTo>
                      <a:pt x="482" y="25"/>
                    </a:lnTo>
                    <a:lnTo>
                      <a:pt x="503" y="28"/>
                    </a:lnTo>
                    <a:lnTo>
                      <a:pt x="524" y="31"/>
                    </a:lnTo>
                    <a:lnTo>
                      <a:pt x="544" y="36"/>
                    </a:lnTo>
                    <a:lnTo>
                      <a:pt x="564" y="42"/>
                    </a:lnTo>
                    <a:lnTo>
                      <a:pt x="584" y="49"/>
                    </a:lnTo>
                    <a:lnTo>
                      <a:pt x="603" y="56"/>
                    </a:lnTo>
                    <a:lnTo>
                      <a:pt x="622" y="65"/>
                    </a:lnTo>
                    <a:lnTo>
                      <a:pt x="639" y="74"/>
                    </a:lnTo>
                    <a:lnTo>
                      <a:pt x="657" y="83"/>
                    </a:lnTo>
                    <a:lnTo>
                      <a:pt x="674" y="95"/>
                    </a:lnTo>
                    <a:lnTo>
                      <a:pt x="691" y="106"/>
                    </a:lnTo>
                    <a:lnTo>
                      <a:pt x="706" y="119"/>
                    </a:lnTo>
                    <a:lnTo>
                      <a:pt x="722" y="132"/>
                    </a:lnTo>
                    <a:lnTo>
                      <a:pt x="736" y="146"/>
                    </a:lnTo>
                    <a:lnTo>
                      <a:pt x="750" y="161"/>
                    </a:lnTo>
                    <a:lnTo>
                      <a:pt x="764" y="176"/>
                    </a:lnTo>
                    <a:lnTo>
                      <a:pt x="776" y="192"/>
                    </a:lnTo>
                    <a:lnTo>
                      <a:pt x="788" y="208"/>
                    </a:lnTo>
                    <a:lnTo>
                      <a:pt x="798" y="225"/>
                    </a:lnTo>
                    <a:lnTo>
                      <a:pt x="809" y="242"/>
                    </a:lnTo>
                    <a:lnTo>
                      <a:pt x="818" y="261"/>
                    </a:lnTo>
                    <a:lnTo>
                      <a:pt x="826" y="279"/>
                    </a:lnTo>
                    <a:lnTo>
                      <a:pt x="834" y="299"/>
                    </a:lnTo>
                    <a:lnTo>
                      <a:pt x="841" y="319"/>
                    </a:lnTo>
                    <a:lnTo>
                      <a:pt x="847" y="338"/>
                    </a:lnTo>
                    <a:lnTo>
                      <a:pt x="851" y="358"/>
                    </a:lnTo>
                    <a:lnTo>
                      <a:pt x="855" y="378"/>
                    </a:lnTo>
                    <a:lnTo>
                      <a:pt x="857" y="400"/>
                    </a:lnTo>
                    <a:lnTo>
                      <a:pt x="859" y="421"/>
                    </a:lnTo>
                    <a:lnTo>
                      <a:pt x="859" y="443"/>
                    </a:lnTo>
                    <a:lnTo>
                      <a:pt x="859" y="465"/>
                    </a:lnTo>
                    <a:lnTo>
                      <a:pt x="857" y="486"/>
                    </a:lnTo>
                    <a:lnTo>
                      <a:pt x="855" y="506"/>
                    </a:lnTo>
                    <a:lnTo>
                      <a:pt x="851" y="527"/>
                    </a:lnTo>
                    <a:lnTo>
                      <a:pt x="847" y="548"/>
                    </a:lnTo>
                    <a:lnTo>
                      <a:pt x="841" y="568"/>
                    </a:lnTo>
                    <a:lnTo>
                      <a:pt x="834" y="587"/>
                    </a:lnTo>
                    <a:lnTo>
                      <a:pt x="826" y="607"/>
                    </a:lnTo>
                    <a:lnTo>
                      <a:pt x="818" y="625"/>
                    </a:lnTo>
                    <a:lnTo>
                      <a:pt x="809" y="644"/>
                    </a:lnTo>
                    <a:lnTo>
                      <a:pt x="798" y="661"/>
                    </a:lnTo>
                    <a:lnTo>
                      <a:pt x="788" y="678"/>
                    </a:lnTo>
                    <a:lnTo>
                      <a:pt x="776" y="694"/>
                    </a:lnTo>
                    <a:lnTo>
                      <a:pt x="764" y="710"/>
                    </a:lnTo>
                    <a:lnTo>
                      <a:pt x="750" y="725"/>
                    </a:lnTo>
                    <a:lnTo>
                      <a:pt x="736" y="739"/>
                    </a:lnTo>
                    <a:lnTo>
                      <a:pt x="722" y="754"/>
                    </a:lnTo>
                    <a:lnTo>
                      <a:pt x="706" y="767"/>
                    </a:lnTo>
                    <a:lnTo>
                      <a:pt x="691" y="780"/>
                    </a:lnTo>
                    <a:lnTo>
                      <a:pt x="674" y="791"/>
                    </a:lnTo>
                    <a:lnTo>
                      <a:pt x="657" y="803"/>
                    </a:lnTo>
                    <a:lnTo>
                      <a:pt x="639" y="812"/>
                    </a:lnTo>
                    <a:lnTo>
                      <a:pt x="622" y="821"/>
                    </a:lnTo>
                    <a:lnTo>
                      <a:pt x="603" y="830"/>
                    </a:lnTo>
                    <a:lnTo>
                      <a:pt x="584" y="837"/>
                    </a:lnTo>
                    <a:lnTo>
                      <a:pt x="564" y="844"/>
                    </a:lnTo>
                    <a:lnTo>
                      <a:pt x="544" y="850"/>
                    </a:lnTo>
                    <a:lnTo>
                      <a:pt x="524" y="855"/>
                    </a:lnTo>
                    <a:lnTo>
                      <a:pt x="503" y="858"/>
                    </a:lnTo>
                    <a:lnTo>
                      <a:pt x="482" y="860"/>
                    </a:lnTo>
                    <a:lnTo>
                      <a:pt x="461" y="863"/>
                    </a:lnTo>
                    <a:lnTo>
                      <a:pt x="439" y="863"/>
                    </a:lnTo>
                    <a:lnTo>
                      <a:pt x="420" y="863"/>
                    </a:lnTo>
                    <a:lnTo>
                      <a:pt x="401" y="861"/>
                    </a:lnTo>
                    <a:lnTo>
                      <a:pt x="383" y="859"/>
                    </a:lnTo>
                    <a:lnTo>
                      <a:pt x="364" y="856"/>
                    </a:lnTo>
                    <a:lnTo>
                      <a:pt x="346" y="852"/>
                    </a:lnTo>
                    <a:lnTo>
                      <a:pt x="329" y="848"/>
                    </a:lnTo>
                    <a:lnTo>
                      <a:pt x="311" y="843"/>
                    </a:lnTo>
                    <a:lnTo>
                      <a:pt x="294" y="837"/>
                    </a:lnTo>
                    <a:lnTo>
                      <a:pt x="278" y="830"/>
                    </a:lnTo>
                    <a:lnTo>
                      <a:pt x="261" y="823"/>
                    </a:lnTo>
                    <a:lnTo>
                      <a:pt x="245" y="815"/>
                    </a:lnTo>
                    <a:lnTo>
                      <a:pt x="230" y="807"/>
                    </a:lnTo>
                    <a:lnTo>
                      <a:pt x="215" y="798"/>
                    </a:lnTo>
                    <a:lnTo>
                      <a:pt x="200" y="788"/>
                    </a:lnTo>
                    <a:lnTo>
                      <a:pt x="185" y="777"/>
                    </a:lnTo>
                    <a:lnTo>
                      <a:pt x="172" y="766"/>
                    </a:lnTo>
                    <a:lnTo>
                      <a:pt x="195" y="812"/>
                    </a:lnTo>
                    <a:lnTo>
                      <a:pt x="208" y="821"/>
                    </a:lnTo>
                    <a:lnTo>
                      <a:pt x="221" y="829"/>
                    </a:lnTo>
                    <a:lnTo>
                      <a:pt x="235" y="836"/>
                    </a:lnTo>
                    <a:lnTo>
                      <a:pt x="250" y="843"/>
                    </a:lnTo>
                    <a:lnTo>
                      <a:pt x="264" y="850"/>
                    </a:lnTo>
                    <a:lnTo>
                      <a:pt x="279" y="856"/>
                    </a:lnTo>
                    <a:lnTo>
                      <a:pt x="294" y="861"/>
                    </a:lnTo>
                    <a:lnTo>
                      <a:pt x="309" y="866"/>
                    </a:lnTo>
                    <a:lnTo>
                      <a:pt x="325" y="871"/>
                    </a:lnTo>
                    <a:lnTo>
                      <a:pt x="340" y="874"/>
                    </a:lnTo>
                    <a:lnTo>
                      <a:pt x="356" y="878"/>
                    </a:lnTo>
                    <a:lnTo>
                      <a:pt x="373" y="881"/>
                    </a:lnTo>
                    <a:lnTo>
                      <a:pt x="389" y="883"/>
                    </a:lnTo>
                    <a:lnTo>
                      <a:pt x="406" y="885"/>
                    </a:lnTo>
                    <a:lnTo>
                      <a:pt x="422" y="886"/>
                    </a:lnTo>
                    <a:lnTo>
                      <a:pt x="439" y="886"/>
                    </a:lnTo>
                    <a:lnTo>
                      <a:pt x="463" y="885"/>
                    </a:lnTo>
                    <a:lnTo>
                      <a:pt x="484" y="883"/>
                    </a:lnTo>
                    <a:lnTo>
                      <a:pt x="506" y="880"/>
                    </a:lnTo>
                    <a:lnTo>
                      <a:pt x="528" y="876"/>
                    </a:lnTo>
                    <a:lnTo>
                      <a:pt x="550" y="872"/>
                    </a:lnTo>
                    <a:lnTo>
                      <a:pt x="571" y="866"/>
                    </a:lnTo>
                    <a:lnTo>
                      <a:pt x="592" y="859"/>
                    </a:lnTo>
                    <a:lnTo>
                      <a:pt x="611" y="851"/>
                    </a:lnTo>
                    <a:lnTo>
                      <a:pt x="631" y="842"/>
                    </a:lnTo>
                    <a:lnTo>
                      <a:pt x="651" y="833"/>
                    </a:lnTo>
                    <a:lnTo>
                      <a:pt x="669" y="821"/>
                    </a:lnTo>
                    <a:lnTo>
                      <a:pt x="686" y="810"/>
                    </a:lnTo>
                    <a:lnTo>
                      <a:pt x="704" y="798"/>
                    </a:lnTo>
                    <a:lnTo>
                      <a:pt x="721" y="784"/>
                    </a:lnTo>
                    <a:lnTo>
                      <a:pt x="737" y="770"/>
                    </a:lnTo>
                    <a:lnTo>
                      <a:pt x="752" y="755"/>
                    </a:lnTo>
                    <a:lnTo>
                      <a:pt x="767" y="740"/>
                    </a:lnTo>
                    <a:lnTo>
                      <a:pt x="781" y="724"/>
                    </a:lnTo>
                    <a:lnTo>
                      <a:pt x="794" y="708"/>
                    </a:lnTo>
                    <a:lnTo>
                      <a:pt x="806" y="691"/>
                    </a:lnTo>
                    <a:lnTo>
                      <a:pt x="818" y="672"/>
                    </a:lnTo>
                    <a:lnTo>
                      <a:pt x="828" y="654"/>
                    </a:lnTo>
                    <a:lnTo>
                      <a:pt x="839" y="634"/>
                    </a:lnTo>
                    <a:lnTo>
                      <a:pt x="848" y="615"/>
                    </a:lnTo>
                    <a:lnTo>
                      <a:pt x="855" y="595"/>
                    </a:lnTo>
                    <a:lnTo>
                      <a:pt x="862" y="574"/>
                    </a:lnTo>
                    <a:lnTo>
                      <a:pt x="869" y="554"/>
                    </a:lnTo>
                    <a:lnTo>
                      <a:pt x="873" y="532"/>
                    </a:lnTo>
                    <a:lnTo>
                      <a:pt x="877" y="510"/>
                    </a:lnTo>
                    <a:lnTo>
                      <a:pt x="880" y="488"/>
                    </a:lnTo>
                    <a:lnTo>
                      <a:pt x="881" y="466"/>
                    </a:lnTo>
                    <a:lnTo>
                      <a:pt x="882" y="44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78600" y="3824280"/>
                <a:ext cx="226800" cy="228600"/>
              </a:xfrm>
              <a:custGeom>
                <a:avLst/>
                <a:gdLst/>
                <a:ahLst/>
                <a:rect l="l" t="t" r="r" b="b"/>
                <a:pathLst>
                  <a:path w="862" h="862">
                    <a:moveTo>
                      <a:pt x="862" y="431"/>
                    </a:moveTo>
                    <a:lnTo>
                      <a:pt x="861" y="409"/>
                    </a:lnTo>
                    <a:lnTo>
                      <a:pt x="860" y="387"/>
                    </a:lnTo>
                    <a:lnTo>
                      <a:pt x="857" y="365"/>
                    </a:lnTo>
                    <a:lnTo>
                      <a:pt x="853" y="343"/>
                    </a:lnTo>
                    <a:lnTo>
                      <a:pt x="848" y="323"/>
                    </a:lnTo>
                    <a:lnTo>
                      <a:pt x="842" y="303"/>
                    </a:lnTo>
                    <a:lnTo>
                      <a:pt x="835" y="282"/>
                    </a:lnTo>
                    <a:lnTo>
                      <a:pt x="828" y="263"/>
                    </a:lnTo>
                    <a:lnTo>
                      <a:pt x="819" y="244"/>
                    </a:lnTo>
                    <a:lnTo>
                      <a:pt x="810" y="226"/>
                    </a:lnTo>
                    <a:lnTo>
                      <a:pt x="800" y="207"/>
                    </a:lnTo>
                    <a:lnTo>
                      <a:pt x="788" y="190"/>
                    </a:lnTo>
                    <a:lnTo>
                      <a:pt x="775" y="173"/>
                    </a:lnTo>
                    <a:lnTo>
                      <a:pt x="763" y="157"/>
                    </a:lnTo>
                    <a:lnTo>
                      <a:pt x="750" y="141"/>
                    </a:lnTo>
                    <a:lnTo>
                      <a:pt x="735" y="126"/>
                    </a:lnTo>
                    <a:lnTo>
                      <a:pt x="720" y="112"/>
                    </a:lnTo>
                    <a:lnTo>
                      <a:pt x="705" y="98"/>
                    </a:lnTo>
                    <a:lnTo>
                      <a:pt x="689" y="85"/>
                    </a:lnTo>
                    <a:lnTo>
                      <a:pt x="672" y="74"/>
                    </a:lnTo>
                    <a:lnTo>
                      <a:pt x="654" y="62"/>
                    </a:lnTo>
                    <a:lnTo>
                      <a:pt x="636" y="52"/>
                    </a:lnTo>
                    <a:lnTo>
                      <a:pt x="617" y="43"/>
                    </a:lnTo>
                    <a:lnTo>
                      <a:pt x="598" y="33"/>
                    </a:lnTo>
                    <a:lnTo>
                      <a:pt x="578" y="25"/>
                    </a:lnTo>
                    <a:lnTo>
                      <a:pt x="558" y="19"/>
                    </a:lnTo>
                    <a:lnTo>
                      <a:pt x="538" y="13"/>
                    </a:lnTo>
                    <a:lnTo>
                      <a:pt x="517" y="8"/>
                    </a:lnTo>
                    <a:lnTo>
                      <a:pt x="496" y="4"/>
                    </a:lnTo>
                    <a:lnTo>
                      <a:pt x="474" y="2"/>
                    </a:lnTo>
                    <a:lnTo>
                      <a:pt x="452" y="0"/>
                    </a:lnTo>
                    <a:lnTo>
                      <a:pt x="430" y="0"/>
                    </a:lnTo>
                    <a:lnTo>
                      <a:pt x="410" y="0"/>
                    </a:lnTo>
                    <a:lnTo>
                      <a:pt x="389" y="1"/>
                    </a:lnTo>
                    <a:lnTo>
                      <a:pt x="368" y="4"/>
                    </a:lnTo>
                    <a:lnTo>
                      <a:pt x="347" y="7"/>
                    </a:lnTo>
                    <a:lnTo>
                      <a:pt x="328" y="11"/>
                    </a:lnTo>
                    <a:lnTo>
                      <a:pt x="308" y="17"/>
                    </a:lnTo>
                    <a:lnTo>
                      <a:pt x="290" y="23"/>
                    </a:lnTo>
                    <a:lnTo>
                      <a:pt x="271" y="30"/>
                    </a:lnTo>
                    <a:lnTo>
                      <a:pt x="253" y="38"/>
                    </a:lnTo>
                    <a:lnTo>
                      <a:pt x="234" y="46"/>
                    </a:lnTo>
                    <a:lnTo>
                      <a:pt x="217" y="55"/>
                    </a:lnTo>
                    <a:lnTo>
                      <a:pt x="201" y="66"/>
                    </a:lnTo>
                    <a:lnTo>
                      <a:pt x="185" y="76"/>
                    </a:lnTo>
                    <a:lnTo>
                      <a:pt x="169" y="87"/>
                    </a:lnTo>
                    <a:lnTo>
                      <a:pt x="154" y="100"/>
                    </a:lnTo>
                    <a:lnTo>
                      <a:pt x="139" y="113"/>
                    </a:lnTo>
                    <a:lnTo>
                      <a:pt x="125" y="127"/>
                    </a:lnTo>
                    <a:lnTo>
                      <a:pt x="111" y="141"/>
                    </a:lnTo>
                    <a:lnTo>
                      <a:pt x="98" y="156"/>
                    </a:lnTo>
                    <a:lnTo>
                      <a:pt x="86" y="170"/>
                    </a:lnTo>
                    <a:lnTo>
                      <a:pt x="74" y="187"/>
                    </a:lnTo>
                    <a:lnTo>
                      <a:pt x="64" y="203"/>
                    </a:lnTo>
                    <a:lnTo>
                      <a:pt x="53" y="220"/>
                    </a:lnTo>
                    <a:lnTo>
                      <a:pt x="44" y="237"/>
                    </a:lnTo>
                    <a:lnTo>
                      <a:pt x="36" y="256"/>
                    </a:lnTo>
                    <a:lnTo>
                      <a:pt x="28" y="273"/>
                    </a:lnTo>
                    <a:lnTo>
                      <a:pt x="21" y="293"/>
                    </a:lnTo>
                    <a:lnTo>
                      <a:pt x="15" y="311"/>
                    </a:lnTo>
                    <a:lnTo>
                      <a:pt x="11" y="331"/>
                    </a:lnTo>
                    <a:lnTo>
                      <a:pt x="6" y="350"/>
                    </a:lnTo>
                    <a:lnTo>
                      <a:pt x="3" y="371"/>
                    </a:lnTo>
                    <a:lnTo>
                      <a:pt x="0" y="391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1"/>
                    </a:lnTo>
                    <a:lnTo>
                      <a:pt x="21" y="431"/>
                    </a:lnTo>
                    <a:lnTo>
                      <a:pt x="21" y="431"/>
                    </a:lnTo>
                    <a:lnTo>
                      <a:pt x="22" y="410"/>
                    </a:lnTo>
                    <a:lnTo>
                      <a:pt x="23" y="390"/>
                    </a:lnTo>
                    <a:lnTo>
                      <a:pt x="26" y="369"/>
                    </a:lnTo>
                    <a:lnTo>
                      <a:pt x="30" y="348"/>
                    </a:lnTo>
                    <a:lnTo>
                      <a:pt x="34" y="328"/>
                    </a:lnTo>
                    <a:lnTo>
                      <a:pt x="39" y="310"/>
                    </a:lnTo>
                    <a:lnTo>
                      <a:pt x="46" y="290"/>
                    </a:lnTo>
                    <a:lnTo>
                      <a:pt x="53" y="272"/>
                    </a:lnTo>
                    <a:lnTo>
                      <a:pt x="61" y="253"/>
                    </a:lnTo>
                    <a:lnTo>
                      <a:pt x="71" y="236"/>
                    </a:lnTo>
                    <a:lnTo>
                      <a:pt x="81" y="219"/>
                    </a:lnTo>
                    <a:lnTo>
                      <a:pt x="91" y="203"/>
                    </a:lnTo>
                    <a:lnTo>
                      <a:pt x="103" y="187"/>
                    </a:lnTo>
                    <a:lnTo>
                      <a:pt x="114" y="170"/>
                    </a:lnTo>
                    <a:lnTo>
                      <a:pt x="127" y="157"/>
                    </a:lnTo>
                    <a:lnTo>
                      <a:pt x="141" y="142"/>
                    </a:lnTo>
                    <a:lnTo>
                      <a:pt x="155" y="129"/>
                    </a:lnTo>
                    <a:lnTo>
                      <a:pt x="170" y="115"/>
                    </a:lnTo>
                    <a:lnTo>
                      <a:pt x="186" y="104"/>
                    </a:lnTo>
                    <a:lnTo>
                      <a:pt x="202" y="92"/>
                    </a:lnTo>
                    <a:lnTo>
                      <a:pt x="218" y="82"/>
                    </a:lnTo>
                    <a:lnTo>
                      <a:pt x="236" y="71"/>
                    </a:lnTo>
                    <a:lnTo>
                      <a:pt x="253" y="62"/>
                    </a:lnTo>
                    <a:lnTo>
                      <a:pt x="271" y="54"/>
                    </a:lnTo>
                    <a:lnTo>
                      <a:pt x="290" y="47"/>
                    </a:lnTo>
                    <a:lnTo>
                      <a:pt x="308" y="40"/>
                    </a:lnTo>
                    <a:lnTo>
                      <a:pt x="328" y="36"/>
                    </a:lnTo>
                    <a:lnTo>
                      <a:pt x="347" y="31"/>
                    </a:lnTo>
                    <a:lnTo>
                      <a:pt x="368" y="26"/>
                    </a:lnTo>
                    <a:lnTo>
                      <a:pt x="389" y="24"/>
                    </a:lnTo>
                    <a:lnTo>
                      <a:pt x="409" y="23"/>
                    </a:lnTo>
                    <a:lnTo>
                      <a:pt x="430" y="22"/>
                    </a:lnTo>
                    <a:lnTo>
                      <a:pt x="451" y="23"/>
                    </a:lnTo>
                    <a:lnTo>
                      <a:pt x="472" y="24"/>
                    </a:lnTo>
                    <a:lnTo>
                      <a:pt x="493" y="26"/>
                    </a:lnTo>
                    <a:lnTo>
                      <a:pt x="512" y="31"/>
                    </a:lnTo>
                    <a:lnTo>
                      <a:pt x="532" y="36"/>
                    </a:lnTo>
                    <a:lnTo>
                      <a:pt x="552" y="40"/>
                    </a:lnTo>
                    <a:lnTo>
                      <a:pt x="571" y="47"/>
                    </a:lnTo>
                    <a:lnTo>
                      <a:pt x="590" y="54"/>
                    </a:lnTo>
                    <a:lnTo>
                      <a:pt x="607" y="62"/>
                    </a:lnTo>
                    <a:lnTo>
                      <a:pt x="625" y="71"/>
                    </a:lnTo>
                    <a:lnTo>
                      <a:pt x="642" y="82"/>
                    </a:lnTo>
                    <a:lnTo>
                      <a:pt x="659" y="92"/>
                    </a:lnTo>
                    <a:lnTo>
                      <a:pt x="675" y="104"/>
                    </a:lnTo>
                    <a:lnTo>
                      <a:pt x="690" y="115"/>
                    </a:lnTo>
                    <a:lnTo>
                      <a:pt x="705" y="129"/>
                    </a:lnTo>
                    <a:lnTo>
                      <a:pt x="719" y="142"/>
                    </a:lnTo>
                    <a:lnTo>
                      <a:pt x="733" y="157"/>
                    </a:lnTo>
                    <a:lnTo>
                      <a:pt x="745" y="170"/>
                    </a:lnTo>
                    <a:lnTo>
                      <a:pt x="758" y="187"/>
                    </a:lnTo>
                    <a:lnTo>
                      <a:pt x="770" y="203"/>
                    </a:lnTo>
                    <a:lnTo>
                      <a:pt x="780" y="219"/>
                    </a:lnTo>
                    <a:lnTo>
                      <a:pt x="789" y="236"/>
                    </a:lnTo>
                    <a:lnTo>
                      <a:pt x="798" y="253"/>
                    </a:lnTo>
                    <a:lnTo>
                      <a:pt x="806" y="272"/>
                    </a:lnTo>
                    <a:lnTo>
                      <a:pt x="815" y="290"/>
                    </a:lnTo>
                    <a:lnTo>
                      <a:pt x="820" y="310"/>
                    </a:lnTo>
                    <a:lnTo>
                      <a:pt x="826" y="328"/>
                    </a:lnTo>
                    <a:lnTo>
                      <a:pt x="831" y="348"/>
                    </a:lnTo>
                    <a:lnTo>
                      <a:pt x="834" y="369"/>
                    </a:lnTo>
                    <a:lnTo>
                      <a:pt x="836" y="390"/>
                    </a:lnTo>
                    <a:lnTo>
                      <a:pt x="839" y="410"/>
                    </a:lnTo>
                    <a:lnTo>
                      <a:pt x="839" y="431"/>
                    </a:lnTo>
                    <a:lnTo>
                      <a:pt x="839" y="452"/>
                    </a:lnTo>
                    <a:lnTo>
                      <a:pt x="836" y="473"/>
                    </a:lnTo>
                    <a:lnTo>
                      <a:pt x="834" y="493"/>
                    </a:lnTo>
                    <a:lnTo>
                      <a:pt x="831" y="513"/>
                    </a:lnTo>
                    <a:lnTo>
                      <a:pt x="826" y="532"/>
                    </a:lnTo>
                    <a:lnTo>
                      <a:pt x="820" y="552"/>
                    </a:lnTo>
                    <a:lnTo>
                      <a:pt x="815" y="572"/>
                    </a:lnTo>
                    <a:lnTo>
                      <a:pt x="806" y="590"/>
                    </a:lnTo>
                    <a:lnTo>
                      <a:pt x="798" y="609"/>
                    </a:lnTo>
                    <a:lnTo>
                      <a:pt x="789" y="626"/>
                    </a:lnTo>
                    <a:lnTo>
                      <a:pt x="780" y="643"/>
                    </a:lnTo>
                    <a:lnTo>
                      <a:pt x="770" y="659"/>
                    </a:lnTo>
                    <a:lnTo>
                      <a:pt x="758" y="675"/>
                    </a:lnTo>
                    <a:lnTo>
                      <a:pt x="745" y="690"/>
                    </a:lnTo>
                    <a:lnTo>
                      <a:pt x="733" y="705"/>
                    </a:lnTo>
                    <a:lnTo>
                      <a:pt x="719" y="719"/>
                    </a:lnTo>
                    <a:lnTo>
                      <a:pt x="705" y="733"/>
                    </a:lnTo>
                    <a:lnTo>
                      <a:pt x="690" y="746"/>
                    </a:lnTo>
                    <a:lnTo>
                      <a:pt x="675" y="758"/>
                    </a:lnTo>
                    <a:lnTo>
                      <a:pt x="659" y="770"/>
                    </a:lnTo>
                    <a:lnTo>
                      <a:pt x="642" y="780"/>
                    </a:lnTo>
                    <a:lnTo>
                      <a:pt x="625" y="791"/>
                    </a:lnTo>
                    <a:lnTo>
                      <a:pt x="607" y="799"/>
                    </a:lnTo>
                    <a:lnTo>
                      <a:pt x="590" y="807"/>
                    </a:lnTo>
                    <a:lnTo>
                      <a:pt x="571" y="815"/>
                    </a:lnTo>
                    <a:lnTo>
                      <a:pt x="552" y="821"/>
                    </a:lnTo>
                    <a:lnTo>
                      <a:pt x="532" y="826"/>
                    </a:lnTo>
                    <a:lnTo>
                      <a:pt x="512" y="831"/>
                    </a:lnTo>
                    <a:lnTo>
                      <a:pt x="493" y="834"/>
                    </a:lnTo>
                    <a:lnTo>
                      <a:pt x="472" y="837"/>
                    </a:lnTo>
                    <a:lnTo>
                      <a:pt x="451" y="839"/>
                    </a:lnTo>
                    <a:lnTo>
                      <a:pt x="430" y="839"/>
                    </a:lnTo>
                    <a:lnTo>
                      <a:pt x="410" y="839"/>
                    </a:lnTo>
                    <a:lnTo>
                      <a:pt x="389" y="838"/>
                    </a:lnTo>
                    <a:lnTo>
                      <a:pt x="369" y="834"/>
                    </a:lnTo>
                    <a:lnTo>
                      <a:pt x="350" y="831"/>
                    </a:lnTo>
                    <a:lnTo>
                      <a:pt x="330" y="828"/>
                    </a:lnTo>
                    <a:lnTo>
                      <a:pt x="311" y="822"/>
                    </a:lnTo>
                    <a:lnTo>
                      <a:pt x="292" y="816"/>
                    </a:lnTo>
                    <a:lnTo>
                      <a:pt x="274" y="808"/>
                    </a:lnTo>
                    <a:lnTo>
                      <a:pt x="256" y="801"/>
                    </a:lnTo>
                    <a:lnTo>
                      <a:pt x="239" y="792"/>
                    </a:lnTo>
                    <a:lnTo>
                      <a:pt x="222" y="783"/>
                    </a:lnTo>
                    <a:lnTo>
                      <a:pt x="206" y="772"/>
                    </a:lnTo>
                    <a:lnTo>
                      <a:pt x="189" y="761"/>
                    </a:lnTo>
                    <a:lnTo>
                      <a:pt x="174" y="749"/>
                    </a:lnTo>
                    <a:lnTo>
                      <a:pt x="159" y="736"/>
                    </a:lnTo>
                    <a:lnTo>
                      <a:pt x="146" y="724"/>
                    </a:lnTo>
                    <a:lnTo>
                      <a:pt x="151" y="733"/>
                    </a:lnTo>
                    <a:lnTo>
                      <a:pt x="174" y="778"/>
                    </a:lnTo>
                    <a:lnTo>
                      <a:pt x="188" y="788"/>
                    </a:lnTo>
                    <a:lnTo>
                      <a:pt x="202" y="798"/>
                    </a:lnTo>
                    <a:lnTo>
                      <a:pt x="217" y="806"/>
                    </a:lnTo>
                    <a:lnTo>
                      <a:pt x="231" y="814"/>
                    </a:lnTo>
                    <a:lnTo>
                      <a:pt x="246" y="822"/>
                    </a:lnTo>
                    <a:lnTo>
                      <a:pt x="262" y="829"/>
                    </a:lnTo>
                    <a:lnTo>
                      <a:pt x="277" y="834"/>
                    </a:lnTo>
                    <a:lnTo>
                      <a:pt x="293" y="840"/>
                    </a:lnTo>
                    <a:lnTo>
                      <a:pt x="309" y="845"/>
                    </a:lnTo>
                    <a:lnTo>
                      <a:pt x="327" y="849"/>
                    </a:lnTo>
                    <a:lnTo>
                      <a:pt x="343" y="853"/>
                    </a:lnTo>
                    <a:lnTo>
                      <a:pt x="360" y="856"/>
                    </a:lnTo>
                    <a:lnTo>
                      <a:pt x="377" y="859"/>
                    </a:lnTo>
                    <a:lnTo>
                      <a:pt x="395" y="861"/>
                    </a:lnTo>
                    <a:lnTo>
                      <a:pt x="412" y="862"/>
                    </a:lnTo>
                    <a:lnTo>
                      <a:pt x="430" y="862"/>
                    </a:lnTo>
                    <a:lnTo>
                      <a:pt x="452" y="862"/>
                    </a:lnTo>
                    <a:lnTo>
                      <a:pt x="474" y="860"/>
                    </a:lnTo>
                    <a:lnTo>
                      <a:pt x="496" y="858"/>
                    </a:lnTo>
                    <a:lnTo>
                      <a:pt x="517" y="853"/>
                    </a:lnTo>
                    <a:lnTo>
                      <a:pt x="538" y="848"/>
                    </a:lnTo>
                    <a:lnTo>
                      <a:pt x="558" y="843"/>
                    </a:lnTo>
                    <a:lnTo>
                      <a:pt x="578" y="836"/>
                    </a:lnTo>
                    <a:lnTo>
                      <a:pt x="598" y="829"/>
                    </a:lnTo>
                    <a:lnTo>
                      <a:pt x="617" y="819"/>
                    </a:lnTo>
                    <a:lnTo>
                      <a:pt x="636" y="810"/>
                    </a:lnTo>
                    <a:lnTo>
                      <a:pt x="654" y="800"/>
                    </a:lnTo>
                    <a:lnTo>
                      <a:pt x="672" y="788"/>
                    </a:lnTo>
                    <a:lnTo>
                      <a:pt x="689" y="777"/>
                    </a:lnTo>
                    <a:lnTo>
                      <a:pt x="705" y="764"/>
                    </a:lnTo>
                    <a:lnTo>
                      <a:pt x="720" y="750"/>
                    </a:lnTo>
                    <a:lnTo>
                      <a:pt x="735" y="735"/>
                    </a:lnTo>
                    <a:lnTo>
                      <a:pt x="750" y="720"/>
                    </a:lnTo>
                    <a:lnTo>
                      <a:pt x="763" y="705"/>
                    </a:lnTo>
                    <a:lnTo>
                      <a:pt x="775" y="689"/>
                    </a:lnTo>
                    <a:lnTo>
                      <a:pt x="788" y="672"/>
                    </a:lnTo>
                    <a:lnTo>
                      <a:pt x="800" y="655"/>
                    </a:lnTo>
                    <a:lnTo>
                      <a:pt x="810" y="636"/>
                    </a:lnTo>
                    <a:lnTo>
                      <a:pt x="819" y="618"/>
                    </a:lnTo>
                    <a:lnTo>
                      <a:pt x="828" y="598"/>
                    </a:lnTo>
                    <a:lnTo>
                      <a:pt x="835" y="580"/>
                    </a:lnTo>
                    <a:lnTo>
                      <a:pt x="842" y="559"/>
                    </a:lnTo>
                    <a:lnTo>
                      <a:pt x="848" y="538"/>
                    </a:lnTo>
                    <a:lnTo>
                      <a:pt x="853" y="517"/>
                    </a:lnTo>
                    <a:lnTo>
                      <a:pt x="857" y="497"/>
                    </a:lnTo>
                    <a:lnTo>
                      <a:pt x="860" y="475"/>
                    </a:lnTo>
                    <a:lnTo>
                      <a:pt x="861" y="453"/>
                    </a:lnTo>
                    <a:lnTo>
                      <a:pt x="862" y="43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081840" y="3827520"/>
                <a:ext cx="222120" cy="222120"/>
              </a:xfrm>
              <a:custGeom>
                <a:avLst/>
                <a:gdLst/>
                <a:ahLst/>
                <a:rect l="l" t="t" r="r" b="b"/>
                <a:pathLst>
                  <a:path w="839" h="841">
                    <a:moveTo>
                      <a:pt x="839" y="421"/>
                    </a:moveTo>
                    <a:lnTo>
                      <a:pt x="839" y="399"/>
                    </a:lnTo>
                    <a:lnTo>
                      <a:pt x="837" y="378"/>
                    </a:lnTo>
                    <a:lnTo>
                      <a:pt x="835" y="356"/>
                    </a:lnTo>
                    <a:lnTo>
                      <a:pt x="831" y="336"/>
                    </a:lnTo>
                    <a:lnTo>
                      <a:pt x="827" y="316"/>
                    </a:lnTo>
                    <a:lnTo>
                      <a:pt x="821" y="297"/>
                    </a:lnTo>
                    <a:lnTo>
                      <a:pt x="814" y="277"/>
                    </a:lnTo>
                    <a:lnTo>
                      <a:pt x="806" y="257"/>
                    </a:lnTo>
                    <a:lnTo>
                      <a:pt x="798" y="239"/>
                    </a:lnTo>
                    <a:lnTo>
                      <a:pt x="789" y="220"/>
                    </a:lnTo>
                    <a:lnTo>
                      <a:pt x="778" y="203"/>
                    </a:lnTo>
                    <a:lnTo>
                      <a:pt x="768" y="186"/>
                    </a:lnTo>
                    <a:lnTo>
                      <a:pt x="756" y="170"/>
                    </a:lnTo>
                    <a:lnTo>
                      <a:pt x="744" y="154"/>
                    </a:lnTo>
                    <a:lnTo>
                      <a:pt x="730" y="139"/>
                    </a:lnTo>
                    <a:lnTo>
                      <a:pt x="716" y="124"/>
                    </a:lnTo>
                    <a:lnTo>
                      <a:pt x="702" y="110"/>
                    </a:lnTo>
                    <a:lnTo>
                      <a:pt x="686" y="97"/>
                    </a:lnTo>
                    <a:lnTo>
                      <a:pt x="671" y="84"/>
                    </a:lnTo>
                    <a:lnTo>
                      <a:pt x="654" y="73"/>
                    </a:lnTo>
                    <a:lnTo>
                      <a:pt x="637" y="61"/>
                    </a:lnTo>
                    <a:lnTo>
                      <a:pt x="619" y="52"/>
                    </a:lnTo>
                    <a:lnTo>
                      <a:pt x="602" y="43"/>
                    </a:lnTo>
                    <a:lnTo>
                      <a:pt x="583" y="34"/>
                    </a:lnTo>
                    <a:lnTo>
                      <a:pt x="564" y="27"/>
                    </a:lnTo>
                    <a:lnTo>
                      <a:pt x="544" y="20"/>
                    </a:lnTo>
                    <a:lnTo>
                      <a:pt x="524" y="14"/>
                    </a:lnTo>
                    <a:lnTo>
                      <a:pt x="504" y="9"/>
                    </a:lnTo>
                    <a:lnTo>
                      <a:pt x="483" y="6"/>
                    </a:lnTo>
                    <a:lnTo>
                      <a:pt x="462" y="3"/>
                    </a:lnTo>
                    <a:lnTo>
                      <a:pt x="441" y="1"/>
                    </a:lnTo>
                    <a:lnTo>
                      <a:pt x="419" y="0"/>
                    </a:lnTo>
                    <a:lnTo>
                      <a:pt x="399" y="1"/>
                    </a:lnTo>
                    <a:lnTo>
                      <a:pt x="378" y="3"/>
                    </a:lnTo>
                    <a:lnTo>
                      <a:pt x="357" y="6"/>
                    </a:lnTo>
                    <a:lnTo>
                      <a:pt x="336" y="9"/>
                    </a:lnTo>
                    <a:lnTo>
                      <a:pt x="317" y="13"/>
                    </a:lnTo>
                    <a:lnTo>
                      <a:pt x="297" y="19"/>
                    </a:lnTo>
                    <a:lnTo>
                      <a:pt x="279" y="24"/>
                    </a:lnTo>
                    <a:lnTo>
                      <a:pt x="260" y="33"/>
                    </a:lnTo>
                    <a:lnTo>
                      <a:pt x="242" y="41"/>
                    </a:lnTo>
                    <a:lnTo>
                      <a:pt x="225" y="49"/>
                    </a:lnTo>
                    <a:lnTo>
                      <a:pt x="207" y="58"/>
                    </a:lnTo>
                    <a:lnTo>
                      <a:pt x="190" y="68"/>
                    </a:lnTo>
                    <a:lnTo>
                      <a:pt x="174" y="80"/>
                    </a:lnTo>
                    <a:lnTo>
                      <a:pt x="158" y="91"/>
                    </a:lnTo>
                    <a:lnTo>
                      <a:pt x="143" y="104"/>
                    </a:lnTo>
                    <a:lnTo>
                      <a:pt x="129" y="118"/>
                    </a:lnTo>
                    <a:lnTo>
                      <a:pt x="115" y="132"/>
                    </a:lnTo>
                    <a:lnTo>
                      <a:pt x="102" y="146"/>
                    </a:lnTo>
                    <a:lnTo>
                      <a:pt x="90" y="160"/>
                    </a:lnTo>
                    <a:lnTo>
                      <a:pt x="77" y="177"/>
                    </a:lnTo>
                    <a:lnTo>
                      <a:pt x="67" y="193"/>
                    </a:lnTo>
                    <a:lnTo>
                      <a:pt x="56" y="210"/>
                    </a:lnTo>
                    <a:lnTo>
                      <a:pt x="47" y="227"/>
                    </a:lnTo>
                    <a:lnTo>
                      <a:pt x="38" y="245"/>
                    </a:lnTo>
                    <a:lnTo>
                      <a:pt x="30" y="263"/>
                    </a:lnTo>
                    <a:lnTo>
                      <a:pt x="23" y="282"/>
                    </a:lnTo>
                    <a:lnTo>
                      <a:pt x="17" y="300"/>
                    </a:lnTo>
                    <a:lnTo>
                      <a:pt x="11" y="320"/>
                    </a:lnTo>
                    <a:lnTo>
                      <a:pt x="7" y="340"/>
                    </a:lnTo>
                    <a:lnTo>
                      <a:pt x="3" y="360"/>
                    </a:lnTo>
                    <a:lnTo>
                      <a:pt x="1" y="381"/>
                    </a:lnTo>
                    <a:lnTo>
                      <a:pt x="0" y="401"/>
                    </a:lnTo>
                    <a:lnTo>
                      <a:pt x="23" y="448"/>
                    </a:lnTo>
                    <a:lnTo>
                      <a:pt x="23" y="444"/>
                    </a:lnTo>
                    <a:lnTo>
                      <a:pt x="23" y="441"/>
                    </a:lnTo>
                    <a:lnTo>
                      <a:pt x="23" y="437"/>
                    </a:lnTo>
                    <a:lnTo>
                      <a:pt x="22" y="434"/>
                    </a:lnTo>
                    <a:lnTo>
                      <a:pt x="22" y="430"/>
                    </a:lnTo>
                    <a:lnTo>
                      <a:pt x="22" y="428"/>
                    </a:lnTo>
                    <a:lnTo>
                      <a:pt x="22" y="424"/>
                    </a:lnTo>
                    <a:lnTo>
                      <a:pt x="22" y="421"/>
                    </a:lnTo>
                    <a:lnTo>
                      <a:pt x="23" y="400"/>
                    </a:lnTo>
                    <a:lnTo>
                      <a:pt x="24" y="381"/>
                    </a:lnTo>
                    <a:lnTo>
                      <a:pt x="26" y="360"/>
                    </a:lnTo>
                    <a:lnTo>
                      <a:pt x="30" y="340"/>
                    </a:lnTo>
                    <a:lnTo>
                      <a:pt x="34" y="322"/>
                    </a:lnTo>
                    <a:lnTo>
                      <a:pt x="40" y="302"/>
                    </a:lnTo>
                    <a:lnTo>
                      <a:pt x="46" y="284"/>
                    </a:lnTo>
                    <a:lnTo>
                      <a:pt x="53" y="267"/>
                    </a:lnTo>
                    <a:lnTo>
                      <a:pt x="61" y="249"/>
                    </a:lnTo>
                    <a:lnTo>
                      <a:pt x="70" y="232"/>
                    </a:lnTo>
                    <a:lnTo>
                      <a:pt x="79" y="215"/>
                    </a:lnTo>
                    <a:lnTo>
                      <a:pt x="90" y="199"/>
                    </a:lnTo>
                    <a:lnTo>
                      <a:pt x="101" y="184"/>
                    </a:lnTo>
                    <a:lnTo>
                      <a:pt x="113" y="169"/>
                    </a:lnTo>
                    <a:lnTo>
                      <a:pt x="125" y="154"/>
                    </a:lnTo>
                    <a:lnTo>
                      <a:pt x="138" y="140"/>
                    </a:lnTo>
                    <a:lnTo>
                      <a:pt x="152" y="127"/>
                    </a:lnTo>
                    <a:lnTo>
                      <a:pt x="167" y="114"/>
                    </a:lnTo>
                    <a:lnTo>
                      <a:pt x="181" y="103"/>
                    </a:lnTo>
                    <a:lnTo>
                      <a:pt x="197" y="91"/>
                    </a:lnTo>
                    <a:lnTo>
                      <a:pt x="213" y="81"/>
                    </a:lnTo>
                    <a:lnTo>
                      <a:pt x="229" y="72"/>
                    </a:lnTo>
                    <a:lnTo>
                      <a:pt x="246" y="63"/>
                    </a:lnTo>
                    <a:lnTo>
                      <a:pt x="265" y="54"/>
                    </a:lnTo>
                    <a:lnTo>
                      <a:pt x="282" y="48"/>
                    </a:lnTo>
                    <a:lnTo>
                      <a:pt x="301" y="42"/>
                    </a:lnTo>
                    <a:lnTo>
                      <a:pt x="320" y="36"/>
                    </a:lnTo>
                    <a:lnTo>
                      <a:pt x="339" y="31"/>
                    </a:lnTo>
                    <a:lnTo>
                      <a:pt x="358" y="28"/>
                    </a:lnTo>
                    <a:lnTo>
                      <a:pt x="379" y="26"/>
                    </a:lnTo>
                    <a:lnTo>
                      <a:pt x="399" y="24"/>
                    </a:lnTo>
                    <a:lnTo>
                      <a:pt x="419" y="23"/>
                    </a:lnTo>
                    <a:lnTo>
                      <a:pt x="440" y="24"/>
                    </a:lnTo>
                    <a:lnTo>
                      <a:pt x="460" y="26"/>
                    </a:lnTo>
                    <a:lnTo>
                      <a:pt x="479" y="28"/>
                    </a:lnTo>
                    <a:lnTo>
                      <a:pt x="499" y="31"/>
                    </a:lnTo>
                    <a:lnTo>
                      <a:pt x="519" y="36"/>
                    </a:lnTo>
                    <a:lnTo>
                      <a:pt x="537" y="42"/>
                    </a:lnTo>
                    <a:lnTo>
                      <a:pt x="556" y="48"/>
                    </a:lnTo>
                    <a:lnTo>
                      <a:pt x="574" y="54"/>
                    </a:lnTo>
                    <a:lnTo>
                      <a:pt x="591" y="63"/>
                    </a:lnTo>
                    <a:lnTo>
                      <a:pt x="609" y="72"/>
                    </a:lnTo>
                    <a:lnTo>
                      <a:pt x="625" y="81"/>
                    </a:lnTo>
                    <a:lnTo>
                      <a:pt x="641" y="91"/>
                    </a:lnTo>
                    <a:lnTo>
                      <a:pt x="657" y="103"/>
                    </a:lnTo>
                    <a:lnTo>
                      <a:pt x="672" y="114"/>
                    </a:lnTo>
                    <a:lnTo>
                      <a:pt x="686" y="127"/>
                    </a:lnTo>
                    <a:lnTo>
                      <a:pt x="700" y="140"/>
                    </a:lnTo>
                    <a:lnTo>
                      <a:pt x="714" y="154"/>
                    </a:lnTo>
                    <a:lnTo>
                      <a:pt x="726" y="169"/>
                    </a:lnTo>
                    <a:lnTo>
                      <a:pt x="738" y="184"/>
                    </a:lnTo>
                    <a:lnTo>
                      <a:pt x="748" y="199"/>
                    </a:lnTo>
                    <a:lnTo>
                      <a:pt x="759" y="215"/>
                    </a:lnTo>
                    <a:lnTo>
                      <a:pt x="769" y="232"/>
                    </a:lnTo>
                    <a:lnTo>
                      <a:pt x="777" y="249"/>
                    </a:lnTo>
                    <a:lnTo>
                      <a:pt x="785" y="267"/>
                    </a:lnTo>
                    <a:lnTo>
                      <a:pt x="792" y="284"/>
                    </a:lnTo>
                    <a:lnTo>
                      <a:pt x="799" y="302"/>
                    </a:lnTo>
                    <a:lnTo>
                      <a:pt x="805" y="322"/>
                    </a:lnTo>
                    <a:lnTo>
                      <a:pt x="808" y="340"/>
                    </a:lnTo>
                    <a:lnTo>
                      <a:pt x="812" y="360"/>
                    </a:lnTo>
                    <a:lnTo>
                      <a:pt x="815" y="381"/>
                    </a:lnTo>
                    <a:lnTo>
                      <a:pt x="816" y="400"/>
                    </a:lnTo>
                    <a:lnTo>
                      <a:pt x="816" y="421"/>
                    </a:lnTo>
                    <a:lnTo>
                      <a:pt x="816" y="442"/>
                    </a:lnTo>
                    <a:lnTo>
                      <a:pt x="815" y="461"/>
                    </a:lnTo>
                    <a:lnTo>
                      <a:pt x="812" y="481"/>
                    </a:lnTo>
                    <a:lnTo>
                      <a:pt x="808" y="501"/>
                    </a:lnTo>
                    <a:lnTo>
                      <a:pt x="805" y="520"/>
                    </a:lnTo>
                    <a:lnTo>
                      <a:pt x="799" y="539"/>
                    </a:lnTo>
                    <a:lnTo>
                      <a:pt x="792" y="557"/>
                    </a:lnTo>
                    <a:lnTo>
                      <a:pt x="785" y="575"/>
                    </a:lnTo>
                    <a:lnTo>
                      <a:pt x="777" y="593"/>
                    </a:lnTo>
                    <a:lnTo>
                      <a:pt x="769" y="610"/>
                    </a:lnTo>
                    <a:lnTo>
                      <a:pt x="759" y="627"/>
                    </a:lnTo>
                    <a:lnTo>
                      <a:pt x="748" y="643"/>
                    </a:lnTo>
                    <a:lnTo>
                      <a:pt x="738" y="658"/>
                    </a:lnTo>
                    <a:lnTo>
                      <a:pt x="726" y="673"/>
                    </a:lnTo>
                    <a:lnTo>
                      <a:pt x="714" y="688"/>
                    </a:lnTo>
                    <a:lnTo>
                      <a:pt x="700" y="702"/>
                    </a:lnTo>
                    <a:lnTo>
                      <a:pt x="686" y="715"/>
                    </a:lnTo>
                    <a:lnTo>
                      <a:pt x="672" y="728"/>
                    </a:lnTo>
                    <a:lnTo>
                      <a:pt x="657" y="739"/>
                    </a:lnTo>
                    <a:lnTo>
                      <a:pt x="641" y="751"/>
                    </a:lnTo>
                    <a:lnTo>
                      <a:pt x="625" y="761"/>
                    </a:lnTo>
                    <a:lnTo>
                      <a:pt x="609" y="770"/>
                    </a:lnTo>
                    <a:lnTo>
                      <a:pt x="591" y="780"/>
                    </a:lnTo>
                    <a:lnTo>
                      <a:pt x="574" y="786"/>
                    </a:lnTo>
                    <a:lnTo>
                      <a:pt x="556" y="795"/>
                    </a:lnTo>
                    <a:lnTo>
                      <a:pt x="537" y="800"/>
                    </a:lnTo>
                    <a:lnTo>
                      <a:pt x="519" y="806"/>
                    </a:lnTo>
                    <a:lnTo>
                      <a:pt x="499" y="809"/>
                    </a:lnTo>
                    <a:lnTo>
                      <a:pt x="479" y="814"/>
                    </a:lnTo>
                    <a:lnTo>
                      <a:pt x="460" y="816"/>
                    </a:lnTo>
                    <a:lnTo>
                      <a:pt x="440" y="818"/>
                    </a:lnTo>
                    <a:lnTo>
                      <a:pt x="419" y="818"/>
                    </a:lnTo>
                    <a:lnTo>
                      <a:pt x="389" y="816"/>
                    </a:lnTo>
                    <a:lnTo>
                      <a:pt x="361" y="814"/>
                    </a:lnTo>
                    <a:lnTo>
                      <a:pt x="332" y="808"/>
                    </a:lnTo>
                    <a:lnTo>
                      <a:pt x="304" y="801"/>
                    </a:lnTo>
                    <a:lnTo>
                      <a:pt x="278" y="792"/>
                    </a:lnTo>
                    <a:lnTo>
                      <a:pt x="252" y="782"/>
                    </a:lnTo>
                    <a:lnTo>
                      <a:pt x="227" y="769"/>
                    </a:lnTo>
                    <a:lnTo>
                      <a:pt x="203" y="754"/>
                    </a:lnTo>
                    <a:lnTo>
                      <a:pt x="180" y="738"/>
                    </a:lnTo>
                    <a:lnTo>
                      <a:pt x="159" y="721"/>
                    </a:lnTo>
                    <a:lnTo>
                      <a:pt x="138" y="702"/>
                    </a:lnTo>
                    <a:lnTo>
                      <a:pt x="120" y="682"/>
                    </a:lnTo>
                    <a:lnTo>
                      <a:pt x="102" y="660"/>
                    </a:lnTo>
                    <a:lnTo>
                      <a:pt x="86" y="638"/>
                    </a:lnTo>
                    <a:lnTo>
                      <a:pt x="71" y="614"/>
                    </a:lnTo>
                    <a:lnTo>
                      <a:pt x="58" y="588"/>
                    </a:lnTo>
                    <a:lnTo>
                      <a:pt x="63" y="604"/>
                    </a:lnTo>
                    <a:lnTo>
                      <a:pt x="140" y="723"/>
                    </a:lnTo>
                    <a:lnTo>
                      <a:pt x="152" y="744"/>
                    </a:lnTo>
                    <a:lnTo>
                      <a:pt x="165" y="755"/>
                    </a:lnTo>
                    <a:lnTo>
                      <a:pt x="180" y="766"/>
                    </a:lnTo>
                    <a:lnTo>
                      <a:pt x="195" y="776"/>
                    </a:lnTo>
                    <a:lnTo>
                      <a:pt x="210" y="785"/>
                    </a:lnTo>
                    <a:lnTo>
                      <a:pt x="225" y="793"/>
                    </a:lnTo>
                    <a:lnTo>
                      <a:pt x="241" y="801"/>
                    </a:lnTo>
                    <a:lnTo>
                      <a:pt x="258" y="808"/>
                    </a:lnTo>
                    <a:lnTo>
                      <a:pt x="274" y="815"/>
                    </a:lnTo>
                    <a:lnTo>
                      <a:pt x="291" y="821"/>
                    </a:lnTo>
                    <a:lnTo>
                      <a:pt x="309" y="826"/>
                    </a:lnTo>
                    <a:lnTo>
                      <a:pt x="326" y="830"/>
                    </a:lnTo>
                    <a:lnTo>
                      <a:pt x="344" y="834"/>
                    </a:lnTo>
                    <a:lnTo>
                      <a:pt x="363" y="837"/>
                    </a:lnTo>
                    <a:lnTo>
                      <a:pt x="381" y="839"/>
                    </a:lnTo>
                    <a:lnTo>
                      <a:pt x="400" y="841"/>
                    </a:lnTo>
                    <a:lnTo>
                      <a:pt x="419" y="841"/>
                    </a:lnTo>
                    <a:lnTo>
                      <a:pt x="441" y="841"/>
                    </a:lnTo>
                    <a:lnTo>
                      <a:pt x="462" y="838"/>
                    </a:lnTo>
                    <a:lnTo>
                      <a:pt x="483" y="836"/>
                    </a:lnTo>
                    <a:lnTo>
                      <a:pt x="504" y="833"/>
                    </a:lnTo>
                    <a:lnTo>
                      <a:pt x="524" y="828"/>
                    </a:lnTo>
                    <a:lnTo>
                      <a:pt x="544" y="822"/>
                    </a:lnTo>
                    <a:lnTo>
                      <a:pt x="564" y="815"/>
                    </a:lnTo>
                    <a:lnTo>
                      <a:pt x="583" y="808"/>
                    </a:lnTo>
                    <a:lnTo>
                      <a:pt x="602" y="799"/>
                    </a:lnTo>
                    <a:lnTo>
                      <a:pt x="619" y="790"/>
                    </a:lnTo>
                    <a:lnTo>
                      <a:pt x="637" y="781"/>
                    </a:lnTo>
                    <a:lnTo>
                      <a:pt x="654" y="769"/>
                    </a:lnTo>
                    <a:lnTo>
                      <a:pt x="671" y="758"/>
                    </a:lnTo>
                    <a:lnTo>
                      <a:pt x="686" y="745"/>
                    </a:lnTo>
                    <a:lnTo>
                      <a:pt x="702" y="732"/>
                    </a:lnTo>
                    <a:lnTo>
                      <a:pt x="716" y="717"/>
                    </a:lnTo>
                    <a:lnTo>
                      <a:pt x="730" y="703"/>
                    </a:lnTo>
                    <a:lnTo>
                      <a:pt x="744" y="688"/>
                    </a:lnTo>
                    <a:lnTo>
                      <a:pt x="756" y="672"/>
                    </a:lnTo>
                    <a:lnTo>
                      <a:pt x="768" y="656"/>
                    </a:lnTo>
                    <a:lnTo>
                      <a:pt x="778" y="639"/>
                    </a:lnTo>
                    <a:lnTo>
                      <a:pt x="789" y="622"/>
                    </a:lnTo>
                    <a:lnTo>
                      <a:pt x="798" y="603"/>
                    </a:lnTo>
                    <a:lnTo>
                      <a:pt x="806" y="585"/>
                    </a:lnTo>
                    <a:lnTo>
                      <a:pt x="814" y="565"/>
                    </a:lnTo>
                    <a:lnTo>
                      <a:pt x="821" y="546"/>
                    </a:lnTo>
                    <a:lnTo>
                      <a:pt x="827" y="526"/>
                    </a:lnTo>
                    <a:lnTo>
                      <a:pt x="831" y="505"/>
                    </a:lnTo>
                    <a:lnTo>
                      <a:pt x="835" y="484"/>
                    </a:lnTo>
                    <a:lnTo>
                      <a:pt x="837" y="464"/>
                    </a:lnTo>
                    <a:lnTo>
                      <a:pt x="839" y="443"/>
                    </a:lnTo>
                    <a:lnTo>
                      <a:pt x="839" y="42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083280" y="3830760"/>
                <a:ext cx="217440" cy="215640"/>
              </a:xfrm>
              <a:custGeom>
                <a:avLst/>
                <a:gdLst/>
                <a:ahLst/>
                <a:rect l="l" t="t" r="r" b="b"/>
                <a:pathLst>
                  <a:path w="818" h="817">
                    <a:moveTo>
                      <a:pt x="818" y="409"/>
                    </a:moveTo>
                    <a:lnTo>
                      <a:pt x="818" y="388"/>
                    </a:lnTo>
                    <a:lnTo>
                      <a:pt x="815" y="368"/>
                    </a:lnTo>
                    <a:lnTo>
                      <a:pt x="813" y="347"/>
                    </a:lnTo>
                    <a:lnTo>
                      <a:pt x="810" y="326"/>
                    </a:lnTo>
                    <a:lnTo>
                      <a:pt x="805" y="306"/>
                    </a:lnTo>
                    <a:lnTo>
                      <a:pt x="799" y="288"/>
                    </a:lnTo>
                    <a:lnTo>
                      <a:pt x="794" y="268"/>
                    </a:lnTo>
                    <a:lnTo>
                      <a:pt x="785" y="250"/>
                    </a:lnTo>
                    <a:lnTo>
                      <a:pt x="777" y="231"/>
                    </a:lnTo>
                    <a:lnTo>
                      <a:pt x="768" y="214"/>
                    </a:lnTo>
                    <a:lnTo>
                      <a:pt x="759" y="197"/>
                    </a:lnTo>
                    <a:lnTo>
                      <a:pt x="749" y="181"/>
                    </a:lnTo>
                    <a:lnTo>
                      <a:pt x="737" y="165"/>
                    </a:lnTo>
                    <a:lnTo>
                      <a:pt x="724" y="148"/>
                    </a:lnTo>
                    <a:lnTo>
                      <a:pt x="712" y="135"/>
                    </a:lnTo>
                    <a:lnTo>
                      <a:pt x="698" y="120"/>
                    </a:lnTo>
                    <a:lnTo>
                      <a:pt x="684" y="107"/>
                    </a:lnTo>
                    <a:lnTo>
                      <a:pt x="669" y="93"/>
                    </a:lnTo>
                    <a:lnTo>
                      <a:pt x="654" y="82"/>
                    </a:lnTo>
                    <a:lnTo>
                      <a:pt x="638" y="70"/>
                    </a:lnTo>
                    <a:lnTo>
                      <a:pt x="621" y="60"/>
                    </a:lnTo>
                    <a:lnTo>
                      <a:pt x="604" y="49"/>
                    </a:lnTo>
                    <a:lnTo>
                      <a:pt x="586" y="40"/>
                    </a:lnTo>
                    <a:lnTo>
                      <a:pt x="569" y="32"/>
                    </a:lnTo>
                    <a:lnTo>
                      <a:pt x="550" y="25"/>
                    </a:lnTo>
                    <a:lnTo>
                      <a:pt x="531" y="18"/>
                    </a:lnTo>
                    <a:lnTo>
                      <a:pt x="511" y="14"/>
                    </a:lnTo>
                    <a:lnTo>
                      <a:pt x="491" y="9"/>
                    </a:lnTo>
                    <a:lnTo>
                      <a:pt x="472" y="4"/>
                    </a:lnTo>
                    <a:lnTo>
                      <a:pt x="451" y="2"/>
                    </a:lnTo>
                    <a:lnTo>
                      <a:pt x="430" y="1"/>
                    </a:lnTo>
                    <a:lnTo>
                      <a:pt x="409" y="0"/>
                    </a:lnTo>
                    <a:lnTo>
                      <a:pt x="388" y="1"/>
                    </a:lnTo>
                    <a:lnTo>
                      <a:pt x="368" y="2"/>
                    </a:lnTo>
                    <a:lnTo>
                      <a:pt x="347" y="4"/>
                    </a:lnTo>
                    <a:lnTo>
                      <a:pt x="326" y="9"/>
                    </a:lnTo>
                    <a:lnTo>
                      <a:pt x="307" y="14"/>
                    </a:lnTo>
                    <a:lnTo>
                      <a:pt x="287" y="18"/>
                    </a:lnTo>
                    <a:lnTo>
                      <a:pt x="269" y="25"/>
                    </a:lnTo>
                    <a:lnTo>
                      <a:pt x="250" y="32"/>
                    </a:lnTo>
                    <a:lnTo>
                      <a:pt x="232" y="40"/>
                    </a:lnTo>
                    <a:lnTo>
                      <a:pt x="215" y="49"/>
                    </a:lnTo>
                    <a:lnTo>
                      <a:pt x="197" y="60"/>
                    </a:lnTo>
                    <a:lnTo>
                      <a:pt x="181" y="70"/>
                    </a:lnTo>
                    <a:lnTo>
                      <a:pt x="165" y="82"/>
                    </a:lnTo>
                    <a:lnTo>
                      <a:pt x="149" y="93"/>
                    </a:lnTo>
                    <a:lnTo>
                      <a:pt x="134" y="107"/>
                    </a:lnTo>
                    <a:lnTo>
                      <a:pt x="120" y="120"/>
                    </a:lnTo>
                    <a:lnTo>
                      <a:pt x="106" y="135"/>
                    </a:lnTo>
                    <a:lnTo>
                      <a:pt x="93" y="148"/>
                    </a:lnTo>
                    <a:lnTo>
                      <a:pt x="82" y="165"/>
                    </a:lnTo>
                    <a:lnTo>
                      <a:pt x="70" y="181"/>
                    </a:lnTo>
                    <a:lnTo>
                      <a:pt x="60" y="197"/>
                    </a:lnTo>
                    <a:lnTo>
                      <a:pt x="50" y="214"/>
                    </a:lnTo>
                    <a:lnTo>
                      <a:pt x="40" y="231"/>
                    </a:lnTo>
                    <a:lnTo>
                      <a:pt x="32" y="250"/>
                    </a:lnTo>
                    <a:lnTo>
                      <a:pt x="25" y="268"/>
                    </a:lnTo>
                    <a:lnTo>
                      <a:pt x="18" y="288"/>
                    </a:lnTo>
                    <a:lnTo>
                      <a:pt x="13" y="306"/>
                    </a:lnTo>
                    <a:lnTo>
                      <a:pt x="9" y="326"/>
                    </a:lnTo>
                    <a:lnTo>
                      <a:pt x="5" y="347"/>
                    </a:lnTo>
                    <a:lnTo>
                      <a:pt x="2" y="368"/>
                    </a:lnTo>
                    <a:lnTo>
                      <a:pt x="1" y="388"/>
                    </a:lnTo>
                    <a:lnTo>
                      <a:pt x="0" y="409"/>
                    </a:lnTo>
                    <a:lnTo>
                      <a:pt x="0" y="409"/>
                    </a:lnTo>
                    <a:lnTo>
                      <a:pt x="0" y="409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16" y="442"/>
                    </a:lnTo>
                    <a:lnTo>
                      <a:pt x="53" y="592"/>
                    </a:lnTo>
                    <a:lnTo>
                      <a:pt x="125" y="702"/>
                    </a:lnTo>
                    <a:lnTo>
                      <a:pt x="138" y="714"/>
                    </a:lnTo>
                    <a:lnTo>
                      <a:pt x="153" y="727"/>
                    </a:lnTo>
                    <a:lnTo>
                      <a:pt x="168" y="739"/>
                    </a:lnTo>
                    <a:lnTo>
                      <a:pt x="185" y="750"/>
                    </a:lnTo>
                    <a:lnTo>
                      <a:pt x="201" y="761"/>
                    </a:lnTo>
                    <a:lnTo>
                      <a:pt x="218" y="770"/>
                    </a:lnTo>
                    <a:lnTo>
                      <a:pt x="235" y="779"/>
                    </a:lnTo>
                    <a:lnTo>
                      <a:pt x="253" y="786"/>
                    </a:lnTo>
                    <a:lnTo>
                      <a:pt x="271" y="794"/>
                    </a:lnTo>
                    <a:lnTo>
                      <a:pt x="290" y="800"/>
                    </a:lnTo>
                    <a:lnTo>
                      <a:pt x="309" y="806"/>
                    </a:lnTo>
                    <a:lnTo>
                      <a:pt x="329" y="809"/>
                    </a:lnTo>
                    <a:lnTo>
                      <a:pt x="348" y="812"/>
                    </a:lnTo>
                    <a:lnTo>
                      <a:pt x="368" y="816"/>
                    </a:lnTo>
                    <a:lnTo>
                      <a:pt x="389" y="817"/>
                    </a:lnTo>
                    <a:lnTo>
                      <a:pt x="409" y="817"/>
                    </a:lnTo>
                    <a:lnTo>
                      <a:pt x="430" y="817"/>
                    </a:lnTo>
                    <a:lnTo>
                      <a:pt x="451" y="815"/>
                    </a:lnTo>
                    <a:lnTo>
                      <a:pt x="472" y="812"/>
                    </a:lnTo>
                    <a:lnTo>
                      <a:pt x="491" y="809"/>
                    </a:lnTo>
                    <a:lnTo>
                      <a:pt x="511" y="804"/>
                    </a:lnTo>
                    <a:lnTo>
                      <a:pt x="531" y="799"/>
                    </a:lnTo>
                    <a:lnTo>
                      <a:pt x="550" y="793"/>
                    </a:lnTo>
                    <a:lnTo>
                      <a:pt x="569" y="785"/>
                    </a:lnTo>
                    <a:lnTo>
                      <a:pt x="586" y="777"/>
                    </a:lnTo>
                    <a:lnTo>
                      <a:pt x="604" y="769"/>
                    </a:lnTo>
                    <a:lnTo>
                      <a:pt x="621" y="758"/>
                    </a:lnTo>
                    <a:lnTo>
                      <a:pt x="638" y="748"/>
                    </a:lnTo>
                    <a:lnTo>
                      <a:pt x="654" y="736"/>
                    </a:lnTo>
                    <a:lnTo>
                      <a:pt x="669" y="724"/>
                    </a:lnTo>
                    <a:lnTo>
                      <a:pt x="684" y="711"/>
                    </a:lnTo>
                    <a:lnTo>
                      <a:pt x="698" y="697"/>
                    </a:lnTo>
                    <a:lnTo>
                      <a:pt x="712" y="683"/>
                    </a:lnTo>
                    <a:lnTo>
                      <a:pt x="724" y="668"/>
                    </a:lnTo>
                    <a:lnTo>
                      <a:pt x="737" y="653"/>
                    </a:lnTo>
                    <a:lnTo>
                      <a:pt x="749" y="637"/>
                    </a:lnTo>
                    <a:lnTo>
                      <a:pt x="759" y="621"/>
                    </a:lnTo>
                    <a:lnTo>
                      <a:pt x="768" y="604"/>
                    </a:lnTo>
                    <a:lnTo>
                      <a:pt x="777" y="587"/>
                    </a:lnTo>
                    <a:lnTo>
                      <a:pt x="785" y="568"/>
                    </a:lnTo>
                    <a:lnTo>
                      <a:pt x="794" y="550"/>
                    </a:lnTo>
                    <a:lnTo>
                      <a:pt x="799" y="530"/>
                    </a:lnTo>
                    <a:lnTo>
                      <a:pt x="805" y="510"/>
                    </a:lnTo>
                    <a:lnTo>
                      <a:pt x="810" y="491"/>
                    </a:lnTo>
                    <a:lnTo>
                      <a:pt x="813" y="471"/>
                    </a:lnTo>
                    <a:lnTo>
                      <a:pt x="815" y="451"/>
                    </a:lnTo>
                    <a:lnTo>
                      <a:pt x="818" y="430"/>
                    </a:lnTo>
                    <a:lnTo>
                      <a:pt x="818" y="409"/>
                    </a:lnTo>
                    <a:close/>
                    <a:moveTo>
                      <a:pt x="796" y="409"/>
                    </a:moveTo>
                    <a:lnTo>
                      <a:pt x="795" y="429"/>
                    </a:lnTo>
                    <a:lnTo>
                      <a:pt x="794" y="448"/>
                    </a:lnTo>
                    <a:lnTo>
                      <a:pt x="791" y="468"/>
                    </a:lnTo>
                    <a:lnTo>
                      <a:pt x="788" y="486"/>
                    </a:lnTo>
                    <a:lnTo>
                      <a:pt x="783" y="506"/>
                    </a:lnTo>
                    <a:lnTo>
                      <a:pt x="777" y="523"/>
                    </a:lnTo>
                    <a:lnTo>
                      <a:pt x="772" y="542"/>
                    </a:lnTo>
                    <a:lnTo>
                      <a:pt x="765" y="559"/>
                    </a:lnTo>
                    <a:lnTo>
                      <a:pt x="757" y="576"/>
                    </a:lnTo>
                    <a:lnTo>
                      <a:pt x="749" y="592"/>
                    </a:lnTo>
                    <a:lnTo>
                      <a:pt x="739" y="610"/>
                    </a:lnTo>
                    <a:lnTo>
                      <a:pt x="729" y="625"/>
                    </a:lnTo>
                    <a:lnTo>
                      <a:pt x="719" y="640"/>
                    </a:lnTo>
                    <a:lnTo>
                      <a:pt x="707" y="655"/>
                    </a:lnTo>
                    <a:lnTo>
                      <a:pt x="696" y="668"/>
                    </a:lnTo>
                    <a:lnTo>
                      <a:pt x="682" y="682"/>
                    </a:lnTo>
                    <a:lnTo>
                      <a:pt x="669" y="695"/>
                    </a:lnTo>
                    <a:lnTo>
                      <a:pt x="655" y="706"/>
                    </a:lnTo>
                    <a:lnTo>
                      <a:pt x="640" y="718"/>
                    </a:lnTo>
                    <a:lnTo>
                      <a:pt x="625" y="728"/>
                    </a:lnTo>
                    <a:lnTo>
                      <a:pt x="609" y="739"/>
                    </a:lnTo>
                    <a:lnTo>
                      <a:pt x="593" y="748"/>
                    </a:lnTo>
                    <a:lnTo>
                      <a:pt x="577" y="757"/>
                    </a:lnTo>
                    <a:lnTo>
                      <a:pt x="559" y="764"/>
                    </a:lnTo>
                    <a:lnTo>
                      <a:pt x="542" y="771"/>
                    </a:lnTo>
                    <a:lnTo>
                      <a:pt x="524" y="778"/>
                    </a:lnTo>
                    <a:lnTo>
                      <a:pt x="505" y="783"/>
                    </a:lnTo>
                    <a:lnTo>
                      <a:pt x="487" y="787"/>
                    </a:lnTo>
                    <a:lnTo>
                      <a:pt x="468" y="791"/>
                    </a:lnTo>
                    <a:lnTo>
                      <a:pt x="449" y="793"/>
                    </a:lnTo>
                    <a:lnTo>
                      <a:pt x="429" y="794"/>
                    </a:lnTo>
                    <a:lnTo>
                      <a:pt x="409" y="795"/>
                    </a:lnTo>
                    <a:lnTo>
                      <a:pt x="389" y="794"/>
                    </a:lnTo>
                    <a:lnTo>
                      <a:pt x="370" y="793"/>
                    </a:lnTo>
                    <a:lnTo>
                      <a:pt x="351" y="791"/>
                    </a:lnTo>
                    <a:lnTo>
                      <a:pt x="331" y="787"/>
                    </a:lnTo>
                    <a:lnTo>
                      <a:pt x="313" y="783"/>
                    </a:lnTo>
                    <a:lnTo>
                      <a:pt x="294" y="778"/>
                    </a:lnTo>
                    <a:lnTo>
                      <a:pt x="277" y="771"/>
                    </a:lnTo>
                    <a:lnTo>
                      <a:pt x="258" y="764"/>
                    </a:lnTo>
                    <a:lnTo>
                      <a:pt x="242" y="757"/>
                    </a:lnTo>
                    <a:lnTo>
                      <a:pt x="225" y="748"/>
                    </a:lnTo>
                    <a:lnTo>
                      <a:pt x="209" y="739"/>
                    </a:lnTo>
                    <a:lnTo>
                      <a:pt x="194" y="728"/>
                    </a:lnTo>
                    <a:lnTo>
                      <a:pt x="178" y="718"/>
                    </a:lnTo>
                    <a:lnTo>
                      <a:pt x="164" y="706"/>
                    </a:lnTo>
                    <a:lnTo>
                      <a:pt x="150" y="695"/>
                    </a:lnTo>
                    <a:lnTo>
                      <a:pt x="136" y="682"/>
                    </a:lnTo>
                    <a:lnTo>
                      <a:pt x="123" y="668"/>
                    </a:lnTo>
                    <a:lnTo>
                      <a:pt x="111" y="655"/>
                    </a:lnTo>
                    <a:lnTo>
                      <a:pt x="99" y="640"/>
                    </a:lnTo>
                    <a:lnTo>
                      <a:pt x="89" y="625"/>
                    </a:lnTo>
                    <a:lnTo>
                      <a:pt x="78" y="610"/>
                    </a:lnTo>
                    <a:lnTo>
                      <a:pt x="69" y="592"/>
                    </a:lnTo>
                    <a:lnTo>
                      <a:pt x="61" y="576"/>
                    </a:lnTo>
                    <a:lnTo>
                      <a:pt x="53" y="559"/>
                    </a:lnTo>
                    <a:lnTo>
                      <a:pt x="46" y="542"/>
                    </a:lnTo>
                    <a:lnTo>
                      <a:pt x="40" y="523"/>
                    </a:lnTo>
                    <a:lnTo>
                      <a:pt x="36" y="506"/>
                    </a:lnTo>
                    <a:lnTo>
                      <a:pt x="31" y="486"/>
                    </a:lnTo>
                    <a:lnTo>
                      <a:pt x="28" y="468"/>
                    </a:lnTo>
                    <a:lnTo>
                      <a:pt x="25" y="448"/>
                    </a:lnTo>
                    <a:lnTo>
                      <a:pt x="23" y="429"/>
                    </a:lnTo>
                    <a:lnTo>
                      <a:pt x="23" y="409"/>
                    </a:lnTo>
                    <a:lnTo>
                      <a:pt x="23" y="389"/>
                    </a:lnTo>
                    <a:lnTo>
                      <a:pt x="25" y="370"/>
                    </a:lnTo>
                    <a:lnTo>
                      <a:pt x="28" y="350"/>
                    </a:lnTo>
                    <a:lnTo>
                      <a:pt x="31" y="331"/>
                    </a:lnTo>
                    <a:lnTo>
                      <a:pt x="36" y="312"/>
                    </a:lnTo>
                    <a:lnTo>
                      <a:pt x="40" y="294"/>
                    </a:lnTo>
                    <a:lnTo>
                      <a:pt x="46" y="276"/>
                    </a:lnTo>
                    <a:lnTo>
                      <a:pt x="53" y="259"/>
                    </a:lnTo>
                    <a:lnTo>
                      <a:pt x="61" y="242"/>
                    </a:lnTo>
                    <a:lnTo>
                      <a:pt x="69" y="225"/>
                    </a:lnTo>
                    <a:lnTo>
                      <a:pt x="78" y="208"/>
                    </a:lnTo>
                    <a:lnTo>
                      <a:pt x="89" y="193"/>
                    </a:lnTo>
                    <a:lnTo>
                      <a:pt x="99" y="178"/>
                    </a:lnTo>
                    <a:lnTo>
                      <a:pt x="111" y="163"/>
                    </a:lnTo>
                    <a:lnTo>
                      <a:pt x="123" y="150"/>
                    </a:lnTo>
                    <a:lnTo>
                      <a:pt x="136" y="136"/>
                    </a:lnTo>
                    <a:lnTo>
                      <a:pt x="150" y="123"/>
                    </a:lnTo>
                    <a:lnTo>
                      <a:pt x="164" y="112"/>
                    </a:lnTo>
                    <a:lnTo>
                      <a:pt x="178" y="100"/>
                    </a:lnTo>
                    <a:lnTo>
                      <a:pt x="194" y="89"/>
                    </a:lnTo>
                    <a:lnTo>
                      <a:pt x="209" y="79"/>
                    </a:lnTo>
                    <a:lnTo>
                      <a:pt x="225" y="70"/>
                    </a:lnTo>
                    <a:lnTo>
                      <a:pt x="242" y="61"/>
                    </a:lnTo>
                    <a:lnTo>
                      <a:pt x="258" y="53"/>
                    </a:lnTo>
                    <a:lnTo>
                      <a:pt x="277" y="46"/>
                    </a:lnTo>
                    <a:lnTo>
                      <a:pt x="294" y="40"/>
                    </a:lnTo>
                    <a:lnTo>
                      <a:pt x="313" y="36"/>
                    </a:lnTo>
                    <a:lnTo>
                      <a:pt x="331" y="31"/>
                    </a:lnTo>
                    <a:lnTo>
                      <a:pt x="351" y="27"/>
                    </a:lnTo>
                    <a:lnTo>
                      <a:pt x="370" y="25"/>
                    </a:lnTo>
                    <a:lnTo>
                      <a:pt x="389" y="23"/>
                    </a:lnTo>
                    <a:lnTo>
                      <a:pt x="409" y="23"/>
                    </a:lnTo>
                    <a:lnTo>
                      <a:pt x="429" y="23"/>
                    </a:lnTo>
                    <a:lnTo>
                      <a:pt x="449" y="25"/>
                    </a:lnTo>
                    <a:lnTo>
                      <a:pt x="468" y="27"/>
                    </a:lnTo>
                    <a:lnTo>
                      <a:pt x="487" y="31"/>
                    </a:lnTo>
                    <a:lnTo>
                      <a:pt x="505" y="36"/>
                    </a:lnTo>
                    <a:lnTo>
                      <a:pt x="524" y="40"/>
                    </a:lnTo>
                    <a:lnTo>
                      <a:pt x="542" y="46"/>
                    </a:lnTo>
                    <a:lnTo>
                      <a:pt x="559" y="53"/>
                    </a:lnTo>
                    <a:lnTo>
                      <a:pt x="577" y="61"/>
                    </a:lnTo>
                    <a:lnTo>
                      <a:pt x="593" y="70"/>
                    </a:lnTo>
                    <a:lnTo>
                      <a:pt x="609" y="79"/>
                    </a:lnTo>
                    <a:lnTo>
                      <a:pt x="625" y="89"/>
                    </a:lnTo>
                    <a:lnTo>
                      <a:pt x="640" y="100"/>
                    </a:lnTo>
                    <a:lnTo>
                      <a:pt x="655" y="112"/>
                    </a:lnTo>
                    <a:lnTo>
                      <a:pt x="669" y="123"/>
                    </a:lnTo>
                    <a:lnTo>
                      <a:pt x="682" y="136"/>
                    </a:lnTo>
                    <a:lnTo>
                      <a:pt x="696" y="150"/>
                    </a:lnTo>
                    <a:lnTo>
                      <a:pt x="707" y="163"/>
                    </a:lnTo>
                    <a:lnTo>
                      <a:pt x="719" y="178"/>
                    </a:lnTo>
                    <a:lnTo>
                      <a:pt x="729" y="193"/>
                    </a:lnTo>
                    <a:lnTo>
                      <a:pt x="739" y="208"/>
                    </a:lnTo>
                    <a:lnTo>
                      <a:pt x="749" y="225"/>
                    </a:lnTo>
                    <a:lnTo>
                      <a:pt x="757" y="242"/>
                    </a:lnTo>
                    <a:lnTo>
                      <a:pt x="765" y="259"/>
                    </a:lnTo>
                    <a:lnTo>
                      <a:pt x="772" y="276"/>
                    </a:lnTo>
                    <a:lnTo>
                      <a:pt x="777" y="294"/>
                    </a:lnTo>
                    <a:lnTo>
                      <a:pt x="783" y="312"/>
                    </a:lnTo>
                    <a:lnTo>
                      <a:pt x="788" y="331"/>
                    </a:lnTo>
                    <a:lnTo>
                      <a:pt x="791" y="350"/>
                    </a:lnTo>
                    <a:lnTo>
                      <a:pt x="794" y="370"/>
                    </a:lnTo>
                    <a:lnTo>
                      <a:pt x="795" y="389"/>
                    </a:lnTo>
                    <a:lnTo>
                      <a:pt x="796" y="409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086520" y="3833640"/>
                <a:ext cx="210960" cy="209880"/>
              </a:xfrm>
              <a:custGeom>
                <a:avLst/>
                <a:gdLst/>
                <a:ahLst/>
                <a:rect l="l" t="t" r="r" b="b"/>
                <a:pathLst>
                  <a:path w="794" h="795">
                    <a:moveTo>
                      <a:pt x="794" y="398"/>
                    </a:moveTo>
                    <a:lnTo>
                      <a:pt x="794" y="377"/>
                    </a:lnTo>
                    <a:lnTo>
                      <a:pt x="793" y="358"/>
                    </a:lnTo>
                    <a:lnTo>
                      <a:pt x="790" y="337"/>
                    </a:lnTo>
                    <a:lnTo>
                      <a:pt x="786" y="317"/>
                    </a:lnTo>
                    <a:lnTo>
                      <a:pt x="783" y="299"/>
                    </a:lnTo>
                    <a:lnTo>
                      <a:pt x="777" y="279"/>
                    </a:lnTo>
                    <a:lnTo>
                      <a:pt x="770" y="261"/>
                    </a:lnTo>
                    <a:lnTo>
                      <a:pt x="763" y="244"/>
                    </a:lnTo>
                    <a:lnTo>
                      <a:pt x="755" y="226"/>
                    </a:lnTo>
                    <a:lnTo>
                      <a:pt x="747" y="209"/>
                    </a:lnTo>
                    <a:lnTo>
                      <a:pt x="737" y="192"/>
                    </a:lnTo>
                    <a:lnTo>
                      <a:pt x="726" y="176"/>
                    </a:lnTo>
                    <a:lnTo>
                      <a:pt x="716" y="161"/>
                    </a:lnTo>
                    <a:lnTo>
                      <a:pt x="704" y="146"/>
                    </a:lnTo>
                    <a:lnTo>
                      <a:pt x="692" y="131"/>
                    </a:lnTo>
                    <a:lnTo>
                      <a:pt x="678" y="117"/>
                    </a:lnTo>
                    <a:lnTo>
                      <a:pt x="664" y="104"/>
                    </a:lnTo>
                    <a:lnTo>
                      <a:pt x="650" y="91"/>
                    </a:lnTo>
                    <a:lnTo>
                      <a:pt x="635" y="80"/>
                    </a:lnTo>
                    <a:lnTo>
                      <a:pt x="619" y="68"/>
                    </a:lnTo>
                    <a:lnTo>
                      <a:pt x="603" y="58"/>
                    </a:lnTo>
                    <a:lnTo>
                      <a:pt x="587" y="49"/>
                    </a:lnTo>
                    <a:lnTo>
                      <a:pt x="569" y="40"/>
                    </a:lnTo>
                    <a:lnTo>
                      <a:pt x="552" y="31"/>
                    </a:lnTo>
                    <a:lnTo>
                      <a:pt x="534" y="25"/>
                    </a:lnTo>
                    <a:lnTo>
                      <a:pt x="515" y="19"/>
                    </a:lnTo>
                    <a:lnTo>
                      <a:pt x="497" y="13"/>
                    </a:lnTo>
                    <a:lnTo>
                      <a:pt x="477" y="8"/>
                    </a:lnTo>
                    <a:lnTo>
                      <a:pt x="457" y="5"/>
                    </a:lnTo>
                    <a:lnTo>
                      <a:pt x="438" y="3"/>
                    </a:lnTo>
                    <a:lnTo>
                      <a:pt x="418" y="1"/>
                    </a:lnTo>
                    <a:lnTo>
                      <a:pt x="397" y="0"/>
                    </a:lnTo>
                    <a:lnTo>
                      <a:pt x="377" y="1"/>
                    </a:lnTo>
                    <a:lnTo>
                      <a:pt x="357" y="3"/>
                    </a:lnTo>
                    <a:lnTo>
                      <a:pt x="336" y="5"/>
                    </a:lnTo>
                    <a:lnTo>
                      <a:pt x="317" y="8"/>
                    </a:lnTo>
                    <a:lnTo>
                      <a:pt x="298" y="13"/>
                    </a:lnTo>
                    <a:lnTo>
                      <a:pt x="279" y="19"/>
                    </a:lnTo>
                    <a:lnTo>
                      <a:pt x="260" y="25"/>
                    </a:lnTo>
                    <a:lnTo>
                      <a:pt x="243" y="31"/>
                    </a:lnTo>
                    <a:lnTo>
                      <a:pt x="224" y="40"/>
                    </a:lnTo>
                    <a:lnTo>
                      <a:pt x="207" y="49"/>
                    </a:lnTo>
                    <a:lnTo>
                      <a:pt x="191" y="58"/>
                    </a:lnTo>
                    <a:lnTo>
                      <a:pt x="175" y="68"/>
                    </a:lnTo>
                    <a:lnTo>
                      <a:pt x="159" y="80"/>
                    </a:lnTo>
                    <a:lnTo>
                      <a:pt x="145" y="91"/>
                    </a:lnTo>
                    <a:lnTo>
                      <a:pt x="130" y="104"/>
                    </a:lnTo>
                    <a:lnTo>
                      <a:pt x="116" y="117"/>
                    </a:lnTo>
                    <a:lnTo>
                      <a:pt x="103" y="131"/>
                    </a:lnTo>
                    <a:lnTo>
                      <a:pt x="91" y="146"/>
                    </a:lnTo>
                    <a:lnTo>
                      <a:pt x="79" y="161"/>
                    </a:lnTo>
                    <a:lnTo>
                      <a:pt x="68" y="176"/>
                    </a:lnTo>
                    <a:lnTo>
                      <a:pt x="57" y="192"/>
                    </a:lnTo>
                    <a:lnTo>
                      <a:pt x="48" y="209"/>
                    </a:lnTo>
                    <a:lnTo>
                      <a:pt x="39" y="226"/>
                    </a:lnTo>
                    <a:lnTo>
                      <a:pt x="31" y="244"/>
                    </a:lnTo>
                    <a:lnTo>
                      <a:pt x="24" y="261"/>
                    </a:lnTo>
                    <a:lnTo>
                      <a:pt x="18" y="279"/>
                    </a:lnTo>
                    <a:lnTo>
                      <a:pt x="12" y="299"/>
                    </a:lnTo>
                    <a:lnTo>
                      <a:pt x="8" y="317"/>
                    </a:lnTo>
                    <a:lnTo>
                      <a:pt x="4" y="337"/>
                    </a:lnTo>
                    <a:lnTo>
                      <a:pt x="2" y="358"/>
                    </a:lnTo>
                    <a:lnTo>
                      <a:pt x="1" y="377"/>
                    </a:lnTo>
                    <a:lnTo>
                      <a:pt x="0" y="398"/>
                    </a:lnTo>
                    <a:lnTo>
                      <a:pt x="0" y="401"/>
                    </a:lnTo>
                    <a:lnTo>
                      <a:pt x="0" y="405"/>
                    </a:lnTo>
                    <a:lnTo>
                      <a:pt x="0" y="407"/>
                    </a:lnTo>
                    <a:lnTo>
                      <a:pt x="0" y="411"/>
                    </a:lnTo>
                    <a:lnTo>
                      <a:pt x="1" y="414"/>
                    </a:lnTo>
                    <a:lnTo>
                      <a:pt x="1" y="418"/>
                    </a:lnTo>
                    <a:lnTo>
                      <a:pt x="1" y="421"/>
                    </a:lnTo>
                    <a:lnTo>
                      <a:pt x="1" y="425"/>
                    </a:lnTo>
                    <a:lnTo>
                      <a:pt x="4" y="431"/>
                    </a:lnTo>
                    <a:lnTo>
                      <a:pt x="36" y="565"/>
                    </a:lnTo>
                    <a:lnTo>
                      <a:pt x="49" y="591"/>
                    </a:lnTo>
                    <a:lnTo>
                      <a:pt x="64" y="615"/>
                    </a:lnTo>
                    <a:lnTo>
                      <a:pt x="80" y="637"/>
                    </a:lnTo>
                    <a:lnTo>
                      <a:pt x="98" y="659"/>
                    </a:lnTo>
                    <a:lnTo>
                      <a:pt x="116" y="679"/>
                    </a:lnTo>
                    <a:lnTo>
                      <a:pt x="137" y="698"/>
                    </a:lnTo>
                    <a:lnTo>
                      <a:pt x="158" y="715"/>
                    </a:lnTo>
                    <a:lnTo>
                      <a:pt x="181" y="731"/>
                    </a:lnTo>
                    <a:lnTo>
                      <a:pt x="205" y="746"/>
                    </a:lnTo>
                    <a:lnTo>
                      <a:pt x="230" y="759"/>
                    </a:lnTo>
                    <a:lnTo>
                      <a:pt x="256" y="769"/>
                    </a:lnTo>
                    <a:lnTo>
                      <a:pt x="282" y="778"/>
                    </a:lnTo>
                    <a:lnTo>
                      <a:pt x="310" y="785"/>
                    </a:lnTo>
                    <a:lnTo>
                      <a:pt x="339" y="791"/>
                    </a:lnTo>
                    <a:lnTo>
                      <a:pt x="367" y="793"/>
                    </a:lnTo>
                    <a:lnTo>
                      <a:pt x="397" y="795"/>
                    </a:lnTo>
                    <a:lnTo>
                      <a:pt x="418" y="795"/>
                    </a:lnTo>
                    <a:lnTo>
                      <a:pt x="438" y="793"/>
                    </a:lnTo>
                    <a:lnTo>
                      <a:pt x="457" y="791"/>
                    </a:lnTo>
                    <a:lnTo>
                      <a:pt x="477" y="786"/>
                    </a:lnTo>
                    <a:lnTo>
                      <a:pt x="497" y="783"/>
                    </a:lnTo>
                    <a:lnTo>
                      <a:pt x="515" y="777"/>
                    </a:lnTo>
                    <a:lnTo>
                      <a:pt x="534" y="772"/>
                    </a:lnTo>
                    <a:lnTo>
                      <a:pt x="552" y="763"/>
                    </a:lnTo>
                    <a:lnTo>
                      <a:pt x="569" y="757"/>
                    </a:lnTo>
                    <a:lnTo>
                      <a:pt x="587" y="747"/>
                    </a:lnTo>
                    <a:lnTo>
                      <a:pt x="603" y="738"/>
                    </a:lnTo>
                    <a:lnTo>
                      <a:pt x="619" y="728"/>
                    </a:lnTo>
                    <a:lnTo>
                      <a:pt x="635" y="716"/>
                    </a:lnTo>
                    <a:lnTo>
                      <a:pt x="650" y="705"/>
                    </a:lnTo>
                    <a:lnTo>
                      <a:pt x="664" y="692"/>
                    </a:lnTo>
                    <a:lnTo>
                      <a:pt x="678" y="679"/>
                    </a:lnTo>
                    <a:lnTo>
                      <a:pt x="692" y="665"/>
                    </a:lnTo>
                    <a:lnTo>
                      <a:pt x="704" y="650"/>
                    </a:lnTo>
                    <a:lnTo>
                      <a:pt x="716" y="635"/>
                    </a:lnTo>
                    <a:lnTo>
                      <a:pt x="726" y="620"/>
                    </a:lnTo>
                    <a:lnTo>
                      <a:pt x="737" y="604"/>
                    </a:lnTo>
                    <a:lnTo>
                      <a:pt x="747" y="587"/>
                    </a:lnTo>
                    <a:lnTo>
                      <a:pt x="755" y="570"/>
                    </a:lnTo>
                    <a:lnTo>
                      <a:pt x="763" y="552"/>
                    </a:lnTo>
                    <a:lnTo>
                      <a:pt x="770" y="534"/>
                    </a:lnTo>
                    <a:lnTo>
                      <a:pt x="777" y="516"/>
                    </a:lnTo>
                    <a:lnTo>
                      <a:pt x="783" y="497"/>
                    </a:lnTo>
                    <a:lnTo>
                      <a:pt x="786" y="478"/>
                    </a:lnTo>
                    <a:lnTo>
                      <a:pt x="790" y="458"/>
                    </a:lnTo>
                    <a:lnTo>
                      <a:pt x="793" y="438"/>
                    </a:lnTo>
                    <a:lnTo>
                      <a:pt x="794" y="419"/>
                    </a:lnTo>
                    <a:lnTo>
                      <a:pt x="794" y="398"/>
                    </a:lnTo>
                    <a:close/>
                    <a:moveTo>
                      <a:pt x="772" y="398"/>
                    </a:moveTo>
                    <a:lnTo>
                      <a:pt x="771" y="418"/>
                    </a:lnTo>
                    <a:lnTo>
                      <a:pt x="770" y="436"/>
                    </a:lnTo>
                    <a:lnTo>
                      <a:pt x="768" y="454"/>
                    </a:lnTo>
                    <a:lnTo>
                      <a:pt x="764" y="473"/>
                    </a:lnTo>
                    <a:lnTo>
                      <a:pt x="760" y="491"/>
                    </a:lnTo>
                    <a:lnTo>
                      <a:pt x="755" y="510"/>
                    </a:lnTo>
                    <a:lnTo>
                      <a:pt x="749" y="527"/>
                    </a:lnTo>
                    <a:lnTo>
                      <a:pt x="742" y="543"/>
                    </a:lnTo>
                    <a:lnTo>
                      <a:pt x="735" y="561"/>
                    </a:lnTo>
                    <a:lnTo>
                      <a:pt x="726" y="577"/>
                    </a:lnTo>
                    <a:lnTo>
                      <a:pt x="718" y="592"/>
                    </a:lnTo>
                    <a:lnTo>
                      <a:pt x="708" y="608"/>
                    </a:lnTo>
                    <a:lnTo>
                      <a:pt x="697" y="622"/>
                    </a:lnTo>
                    <a:lnTo>
                      <a:pt x="687" y="637"/>
                    </a:lnTo>
                    <a:lnTo>
                      <a:pt x="674" y="649"/>
                    </a:lnTo>
                    <a:lnTo>
                      <a:pt x="663" y="663"/>
                    </a:lnTo>
                    <a:lnTo>
                      <a:pt x="649" y="675"/>
                    </a:lnTo>
                    <a:lnTo>
                      <a:pt x="635" y="687"/>
                    </a:lnTo>
                    <a:lnTo>
                      <a:pt x="621" y="698"/>
                    </a:lnTo>
                    <a:lnTo>
                      <a:pt x="606" y="708"/>
                    </a:lnTo>
                    <a:lnTo>
                      <a:pt x="591" y="718"/>
                    </a:lnTo>
                    <a:lnTo>
                      <a:pt x="576" y="728"/>
                    </a:lnTo>
                    <a:lnTo>
                      <a:pt x="560" y="736"/>
                    </a:lnTo>
                    <a:lnTo>
                      <a:pt x="543" y="743"/>
                    </a:lnTo>
                    <a:lnTo>
                      <a:pt x="525" y="750"/>
                    </a:lnTo>
                    <a:lnTo>
                      <a:pt x="508" y="755"/>
                    </a:lnTo>
                    <a:lnTo>
                      <a:pt x="491" y="761"/>
                    </a:lnTo>
                    <a:lnTo>
                      <a:pt x="472" y="765"/>
                    </a:lnTo>
                    <a:lnTo>
                      <a:pt x="454" y="768"/>
                    </a:lnTo>
                    <a:lnTo>
                      <a:pt x="436" y="770"/>
                    </a:lnTo>
                    <a:lnTo>
                      <a:pt x="417" y="772"/>
                    </a:lnTo>
                    <a:lnTo>
                      <a:pt x="397" y="773"/>
                    </a:lnTo>
                    <a:lnTo>
                      <a:pt x="378" y="772"/>
                    </a:lnTo>
                    <a:lnTo>
                      <a:pt x="359" y="770"/>
                    </a:lnTo>
                    <a:lnTo>
                      <a:pt x="340" y="768"/>
                    </a:lnTo>
                    <a:lnTo>
                      <a:pt x="321" y="765"/>
                    </a:lnTo>
                    <a:lnTo>
                      <a:pt x="304" y="761"/>
                    </a:lnTo>
                    <a:lnTo>
                      <a:pt x="286" y="755"/>
                    </a:lnTo>
                    <a:lnTo>
                      <a:pt x="268" y="750"/>
                    </a:lnTo>
                    <a:lnTo>
                      <a:pt x="251" y="743"/>
                    </a:lnTo>
                    <a:lnTo>
                      <a:pt x="235" y="736"/>
                    </a:lnTo>
                    <a:lnTo>
                      <a:pt x="219" y="728"/>
                    </a:lnTo>
                    <a:lnTo>
                      <a:pt x="203" y="718"/>
                    </a:lnTo>
                    <a:lnTo>
                      <a:pt x="188" y="708"/>
                    </a:lnTo>
                    <a:lnTo>
                      <a:pt x="173" y="698"/>
                    </a:lnTo>
                    <a:lnTo>
                      <a:pt x="159" y="687"/>
                    </a:lnTo>
                    <a:lnTo>
                      <a:pt x="145" y="675"/>
                    </a:lnTo>
                    <a:lnTo>
                      <a:pt x="132" y="663"/>
                    </a:lnTo>
                    <a:lnTo>
                      <a:pt x="119" y="649"/>
                    </a:lnTo>
                    <a:lnTo>
                      <a:pt x="108" y="637"/>
                    </a:lnTo>
                    <a:lnTo>
                      <a:pt x="96" y="622"/>
                    </a:lnTo>
                    <a:lnTo>
                      <a:pt x="86" y="608"/>
                    </a:lnTo>
                    <a:lnTo>
                      <a:pt x="77" y="592"/>
                    </a:lnTo>
                    <a:lnTo>
                      <a:pt x="68" y="577"/>
                    </a:lnTo>
                    <a:lnTo>
                      <a:pt x="60" y="561"/>
                    </a:lnTo>
                    <a:lnTo>
                      <a:pt x="51" y="543"/>
                    </a:lnTo>
                    <a:lnTo>
                      <a:pt x="45" y="527"/>
                    </a:lnTo>
                    <a:lnTo>
                      <a:pt x="39" y="510"/>
                    </a:lnTo>
                    <a:lnTo>
                      <a:pt x="34" y="491"/>
                    </a:lnTo>
                    <a:lnTo>
                      <a:pt x="30" y="473"/>
                    </a:lnTo>
                    <a:lnTo>
                      <a:pt x="26" y="454"/>
                    </a:lnTo>
                    <a:lnTo>
                      <a:pt x="24" y="436"/>
                    </a:lnTo>
                    <a:lnTo>
                      <a:pt x="23" y="418"/>
                    </a:lnTo>
                    <a:lnTo>
                      <a:pt x="23" y="398"/>
                    </a:lnTo>
                    <a:lnTo>
                      <a:pt x="23" y="378"/>
                    </a:lnTo>
                    <a:lnTo>
                      <a:pt x="24" y="360"/>
                    </a:lnTo>
                    <a:lnTo>
                      <a:pt x="26" y="340"/>
                    </a:lnTo>
                    <a:lnTo>
                      <a:pt x="30" y="322"/>
                    </a:lnTo>
                    <a:lnTo>
                      <a:pt x="34" y="305"/>
                    </a:lnTo>
                    <a:lnTo>
                      <a:pt x="39" y="286"/>
                    </a:lnTo>
                    <a:lnTo>
                      <a:pt x="45" y="269"/>
                    </a:lnTo>
                    <a:lnTo>
                      <a:pt x="51" y="252"/>
                    </a:lnTo>
                    <a:lnTo>
                      <a:pt x="60" y="235"/>
                    </a:lnTo>
                    <a:lnTo>
                      <a:pt x="68" y="219"/>
                    </a:lnTo>
                    <a:lnTo>
                      <a:pt x="77" y="203"/>
                    </a:lnTo>
                    <a:lnTo>
                      <a:pt x="86" y="188"/>
                    </a:lnTo>
                    <a:lnTo>
                      <a:pt x="96" y="173"/>
                    </a:lnTo>
                    <a:lnTo>
                      <a:pt x="108" y="159"/>
                    </a:lnTo>
                    <a:lnTo>
                      <a:pt x="119" y="146"/>
                    </a:lnTo>
                    <a:lnTo>
                      <a:pt x="132" y="133"/>
                    </a:lnTo>
                    <a:lnTo>
                      <a:pt x="145" y="120"/>
                    </a:lnTo>
                    <a:lnTo>
                      <a:pt x="159" y="109"/>
                    </a:lnTo>
                    <a:lnTo>
                      <a:pt x="173" y="97"/>
                    </a:lnTo>
                    <a:lnTo>
                      <a:pt x="188" y="87"/>
                    </a:lnTo>
                    <a:lnTo>
                      <a:pt x="203" y="78"/>
                    </a:lnTo>
                    <a:lnTo>
                      <a:pt x="219" y="68"/>
                    </a:lnTo>
                    <a:lnTo>
                      <a:pt x="235" y="60"/>
                    </a:lnTo>
                    <a:lnTo>
                      <a:pt x="251" y="52"/>
                    </a:lnTo>
                    <a:lnTo>
                      <a:pt x="268" y="46"/>
                    </a:lnTo>
                    <a:lnTo>
                      <a:pt x="286" y="40"/>
                    </a:lnTo>
                    <a:lnTo>
                      <a:pt x="304" y="35"/>
                    </a:lnTo>
                    <a:lnTo>
                      <a:pt x="321" y="30"/>
                    </a:lnTo>
                    <a:lnTo>
                      <a:pt x="340" y="28"/>
                    </a:lnTo>
                    <a:lnTo>
                      <a:pt x="359" y="26"/>
                    </a:lnTo>
                    <a:lnTo>
                      <a:pt x="378" y="23"/>
                    </a:lnTo>
                    <a:lnTo>
                      <a:pt x="397" y="23"/>
                    </a:lnTo>
                    <a:lnTo>
                      <a:pt x="417" y="23"/>
                    </a:lnTo>
                    <a:lnTo>
                      <a:pt x="436" y="26"/>
                    </a:lnTo>
                    <a:lnTo>
                      <a:pt x="454" y="28"/>
                    </a:lnTo>
                    <a:lnTo>
                      <a:pt x="472" y="30"/>
                    </a:lnTo>
                    <a:lnTo>
                      <a:pt x="491" y="35"/>
                    </a:lnTo>
                    <a:lnTo>
                      <a:pt x="508" y="40"/>
                    </a:lnTo>
                    <a:lnTo>
                      <a:pt x="525" y="46"/>
                    </a:lnTo>
                    <a:lnTo>
                      <a:pt x="543" y="52"/>
                    </a:lnTo>
                    <a:lnTo>
                      <a:pt x="560" y="60"/>
                    </a:lnTo>
                    <a:lnTo>
                      <a:pt x="576" y="68"/>
                    </a:lnTo>
                    <a:lnTo>
                      <a:pt x="591" y="78"/>
                    </a:lnTo>
                    <a:lnTo>
                      <a:pt x="606" y="87"/>
                    </a:lnTo>
                    <a:lnTo>
                      <a:pt x="621" y="97"/>
                    </a:lnTo>
                    <a:lnTo>
                      <a:pt x="635" y="109"/>
                    </a:lnTo>
                    <a:lnTo>
                      <a:pt x="649" y="120"/>
                    </a:lnTo>
                    <a:lnTo>
                      <a:pt x="663" y="133"/>
                    </a:lnTo>
                    <a:lnTo>
                      <a:pt x="674" y="146"/>
                    </a:lnTo>
                    <a:lnTo>
                      <a:pt x="687" y="159"/>
                    </a:lnTo>
                    <a:lnTo>
                      <a:pt x="697" y="173"/>
                    </a:lnTo>
                    <a:lnTo>
                      <a:pt x="708" y="188"/>
                    </a:lnTo>
                    <a:lnTo>
                      <a:pt x="718" y="203"/>
                    </a:lnTo>
                    <a:lnTo>
                      <a:pt x="726" y="219"/>
                    </a:lnTo>
                    <a:lnTo>
                      <a:pt x="735" y="235"/>
                    </a:lnTo>
                    <a:lnTo>
                      <a:pt x="742" y="252"/>
                    </a:lnTo>
                    <a:lnTo>
                      <a:pt x="749" y="269"/>
                    </a:lnTo>
                    <a:lnTo>
                      <a:pt x="755" y="286"/>
                    </a:lnTo>
                    <a:lnTo>
                      <a:pt x="760" y="305"/>
                    </a:lnTo>
                    <a:lnTo>
                      <a:pt x="764" y="322"/>
                    </a:lnTo>
                    <a:lnTo>
                      <a:pt x="768" y="340"/>
                    </a:lnTo>
                    <a:lnTo>
                      <a:pt x="770" y="360"/>
                    </a:lnTo>
                    <a:lnTo>
                      <a:pt x="771" y="378"/>
                    </a:lnTo>
                    <a:lnTo>
                      <a:pt x="772" y="398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89760" y="3836880"/>
                <a:ext cx="204840" cy="203400"/>
              </a:xfrm>
              <a:custGeom>
                <a:avLst/>
                <a:gdLst/>
                <a:ahLst/>
                <a:rect l="l" t="t" r="r" b="b"/>
                <a:pathLst>
                  <a:path w="773" h="772">
                    <a:moveTo>
                      <a:pt x="773" y="386"/>
                    </a:moveTo>
                    <a:lnTo>
                      <a:pt x="772" y="366"/>
                    </a:lnTo>
                    <a:lnTo>
                      <a:pt x="771" y="347"/>
                    </a:lnTo>
                    <a:lnTo>
                      <a:pt x="768" y="327"/>
                    </a:lnTo>
                    <a:lnTo>
                      <a:pt x="765" y="308"/>
                    </a:lnTo>
                    <a:lnTo>
                      <a:pt x="760" y="289"/>
                    </a:lnTo>
                    <a:lnTo>
                      <a:pt x="754" y="271"/>
                    </a:lnTo>
                    <a:lnTo>
                      <a:pt x="749" y="253"/>
                    </a:lnTo>
                    <a:lnTo>
                      <a:pt x="742" y="236"/>
                    </a:lnTo>
                    <a:lnTo>
                      <a:pt x="734" y="219"/>
                    </a:lnTo>
                    <a:lnTo>
                      <a:pt x="726" y="202"/>
                    </a:lnTo>
                    <a:lnTo>
                      <a:pt x="716" y="185"/>
                    </a:lnTo>
                    <a:lnTo>
                      <a:pt x="706" y="170"/>
                    </a:lnTo>
                    <a:lnTo>
                      <a:pt x="696" y="155"/>
                    </a:lnTo>
                    <a:lnTo>
                      <a:pt x="684" y="140"/>
                    </a:lnTo>
                    <a:lnTo>
                      <a:pt x="673" y="127"/>
                    </a:lnTo>
                    <a:lnTo>
                      <a:pt x="660" y="113"/>
                    </a:lnTo>
                    <a:lnTo>
                      <a:pt x="646" y="100"/>
                    </a:lnTo>
                    <a:lnTo>
                      <a:pt x="632" y="89"/>
                    </a:lnTo>
                    <a:lnTo>
                      <a:pt x="617" y="77"/>
                    </a:lnTo>
                    <a:lnTo>
                      <a:pt x="602" y="66"/>
                    </a:lnTo>
                    <a:lnTo>
                      <a:pt x="586" y="56"/>
                    </a:lnTo>
                    <a:lnTo>
                      <a:pt x="570" y="47"/>
                    </a:lnTo>
                    <a:lnTo>
                      <a:pt x="554" y="38"/>
                    </a:lnTo>
                    <a:lnTo>
                      <a:pt x="536" y="30"/>
                    </a:lnTo>
                    <a:lnTo>
                      <a:pt x="519" y="23"/>
                    </a:lnTo>
                    <a:lnTo>
                      <a:pt x="501" y="17"/>
                    </a:lnTo>
                    <a:lnTo>
                      <a:pt x="482" y="13"/>
                    </a:lnTo>
                    <a:lnTo>
                      <a:pt x="464" y="8"/>
                    </a:lnTo>
                    <a:lnTo>
                      <a:pt x="445" y="4"/>
                    </a:lnTo>
                    <a:lnTo>
                      <a:pt x="426" y="2"/>
                    </a:lnTo>
                    <a:lnTo>
                      <a:pt x="406" y="0"/>
                    </a:lnTo>
                    <a:lnTo>
                      <a:pt x="386" y="0"/>
                    </a:lnTo>
                    <a:lnTo>
                      <a:pt x="366" y="0"/>
                    </a:lnTo>
                    <a:lnTo>
                      <a:pt x="347" y="2"/>
                    </a:lnTo>
                    <a:lnTo>
                      <a:pt x="328" y="4"/>
                    </a:lnTo>
                    <a:lnTo>
                      <a:pt x="308" y="8"/>
                    </a:lnTo>
                    <a:lnTo>
                      <a:pt x="290" y="13"/>
                    </a:lnTo>
                    <a:lnTo>
                      <a:pt x="271" y="17"/>
                    </a:lnTo>
                    <a:lnTo>
                      <a:pt x="254" y="23"/>
                    </a:lnTo>
                    <a:lnTo>
                      <a:pt x="235" y="30"/>
                    </a:lnTo>
                    <a:lnTo>
                      <a:pt x="219" y="38"/>
                    </a:lnTo>
                    <a:lnTo>
                      <a:pt x="202" y="47"/>
                    </a:lnTo>
                    <a:lnTo>
                      <a:pt x="186" y="56"/>
                    </a:lnTo>
                    <a:lnTo>
                      <a:pt x="171" y="66"/>
                    </a:lnTo>
                    <a:lnTo>
                      <a:pt x="155" y="77"/>
                    </a:lnTo>
                    <a:lnTo>
                      <a:pt x="141" y="89"/>
                    </a:lnTo>
                    <a:lnTo>
                      <a:pt x="127" y="100"/>
                    </a:lnTo>
                    <a:lnTo>
                      <a:pt x="113" y="113"/>
                    </a:lnTo>
                    <a:lnTo>
                      <a:pt x="100" y="127"/>
                    </a:lnTo>
                    <a:lnTo>
                      <a:pt x="88" y="140"/>
                    </a:lnTo>
                    <a:lnTo>
                      <a:pt x="76" y="155"/>
                    </a:lnTo>
                    <a:lnTo>
                      <a:pt x="66" y="170"/>
                    </a:lnTo>
                    <a:lnTo>
                      <a:pt x="55" y="185"/>
                    </a:lnTo>
                    <a:lnTo>
                      <a:pt x="46" y="202"/>
                    </a:lnTo>
                    <a:lnTo>
                      <a:pt x="38" y="219"/>
                    </a:lnTo>
                    <a:lnTo>
                      <a:pt x="30" y="236"/>
                    </a:lnTo>
                    <a:lnTo>
                      <a:pt x="23" y="253"/>
                    </a:lnTo>
                    <a:lnTo>
                      <a:pt x="17" y="271"/>
                    </a:lnTo>
                    <a:lnTo>
                      <a:pt x="12" y="289"/>
                    </a:lnTo>
                    <a:lnTo>
                      <a:pt x="8" y="308"/>
                    </a:lnTo>
                    <a:lnTo>
                      <a:pt x="5" y="327"/>
                    </a:lnTo>
                    <a:lnTo>
                      <a:pt x="2" y="347"/>
                    </a:lnTo>
                    <a:lnTo>
                      <a:pt x="0" y="366"/>
                    </a:lnTo>
                    <a:lnTo>
                      <a:pt x="0" y="386"/>
                    </a:lnTo>
                    <a:lnTo>
                      <a:pt x="0" y="406"/>
                    </a:lnTo>
                    <a:lnTo>
                      <a:pt x="2" y="425"/>
                    </a:lnTo>
                    <a:lnTo>
                      <a:pt x="5" y="445"/>
                    </a:lnTo>
                    <a:lnTo>
                      <a:pt x="8" y="463"/>
                    </a:lnTo>
                    <a:lnTo>
                      <a:pt x="12" y="483"/>
                    </a:lnTo>
                    <a:lnTo>
                      <a:pt x="17" y="500"/>
                    </a:lnTo>
                    <a:lnTo>
                      <a:pt x="23" y="519"/>
                    </a:lnTo>
                    <a:lnTo>
                      <a:pt x="30" y="536"/>
                    </a:lnTo>
                    <a:lnTo>
                      <a:pt x="38" y="553"/>
                    </a:lnTo>
                    <a:lnTo>
                      <a:pt x="46" y="569"/>
                    </a:lnTo>
                    <a:lnTo>
                      <a:pt x="55" y="587"/>
                    </a:lnTo>
                    <a:lnTo>
                      <a:pt x="66" y="602"/>
                    </a:lnTo>
                    <a:lnTo>
                      <a:pt x="76" y="617"/>
                    </a:lnTo>
                    <a:lnTo>
                      <a:pt x="88" y="632"/>
                    </a:lnTo>
                    <a:lnTo>
                      <a:pt x="100" y="645"/>
                    </a:lnTo>
                    <a:lnTo>
                      <a:pt x="113" y="659"/>
                    </a:lnTo>
                    <a:lnTo>
                      <a:pt x="127" y="672"/>
                    </a:lnTo>
                    <a:lnTo>
                      <a:pt x="141" y="683"/>
                    </a:lnTo>
                    <a:lnTo>
                      <a:pt x="155" y="695"/>
                    </a:lnTo>
                    <a:lnTo>
                      <a:pt x="171" y="705"/>
                    </a:lnTo>
                    <a:lnTo>
                      <a:pt x="186" y="716"/>
                    </a:lnTo>
                    <a:lnTo>
                      <a:pt x="202" y="725"/>
                    </a:lnTo>
                    <a:lnTo>
                      <a:pt x="219" y="734"/>
                    </a:lnTo>
                    <a:lnTo>
                      <a:pt x="235" y="741"/>
                    </a:lnTo>
                    <a:lnTo>
                      <a:pt x="254" y="748"/>
                    </a:lnTo>
                    <a:lnTo>
                      <a:pt x="271" y="755"/>
                    </a:lnTo>
                    <a:lnTo>
                      <a:pt x="290" y="760"/>
                    </a:lnTo>
                    <a:lnTo>
                      <a:pt x="308" y="764"/>
                    </a:lnTo>
                    <a:lnTo>
                      <a:pt x="328" y="768"/>
                    </a:lnTo>
                    <a:lnTo>
                      <a:pt x="347" y="770"/>
                    </a:lnTo>
                    <a:lnTo>
                      <a:pt x="366" y="771"/>
                    </a:lnTo>
                    <a:lnTo>
                      <a:pt x="386" y="772"/>
                    </a:lnTo>
                    <a:lnTo>
                      <a:pt x="406" y="771"/>
                    </a:lnTo>
                    <a:lnTo>
                      <a:pt x="426" y="770"/>
                    </a:lnTo>
                    <a:lnTo>
                      <a:pt x="445" y="768"/>
                    </a:lnTo>
                    <a:lnTo>
                      <a:pt x="464" y="764"/>
                    </a:lnTo>
                    <a:lnTo>
                      <a:pt x="482" y="760"/>
                    </a:lnTo>
                    <a:lnTo>
                      <a:pt x="501" y="755"/>
                    </a:lnTo>
                    <a:lnTo>
                      <a:pt x="519" y="748"/>
                    </a:lnTo>
                    <a:lnTo>
                      <a:pt x="536" y="741"/>
                    </a:lnTo>
                    <a:lnTo>
                      <a:pt x="554" y="734"/>
                    </a:lnTo>
                    <a:lnTo>
                      <a:pt x="570" y="725"/>
                    </a:lnTo>
                    <a:lnTo>
                      <a:pt x="586" y="716"/>
                    </a:lnTo>
                    <a:lnTo>
                      <a:pt x="602" y="705"/>
                    </a:lnTo>
                    <a:lnTo>
                      <a:pt x="617" y="695"/>
                    </a:lnTo>
                    <a:lnTo>
                      <a:pt x="632" y="683"/>
                    </a:lnTo>
                    <a:lnTo>
                      <a:pt x="646" y="672"/>
                    </a:lnTo>
                    <a:lnTo>
                      <a:pt x="660" y="659"/>
                    </a:lnTo>
                    <a:lnTo>
                      <a:pt x="673" y="645"/>
                    </a:lnTo>
                    <a:lnTo>
                      <a:pt x="684" y="632"/>
                    </a:lnTo>
                    <a:lnTo>
                      <a:pt x="696" y="617"/>
                    </a:lnTo>
                    <a:lnTo>
                      <a:pt x="706" y="602"/>
                    </a:lnTo>
                    <a:lnTo>
                      <a:pt x="716" y="587"/>
                    </a:lnTo>
                    <a:lnTo>
                      <a:pt x="726" y="569"/>
                    </a:lnTo>
                    <a:lnTo>
                      <a:pt x="734" y="553"/>
                    </a:lnTo>
                    <a:lnTo>
                      <a:pt x="742" y="536"/>
                    </a:lnTo>
                    <a:lnTo>
                      <a:pt x="749" y="519"/>
                    </a:lnTo>
                    <a:lnTo>
                      <a:pt x="754" y="500"/>
                    </a:lnTo>
                    <a:lnTo>
                      <a:pt x="760" y="483"/>
                    </a:lnTo>
                    <a:lnTo>
                      <a:pt x="765" y="463"/>
                    </a:lnTo>
                    <a:lnTo>
                      <a:pt x="768" y="445"/>
                    </a:lnTo>
                    <a:lnTo>
                      <a:pt x="771" y="425"/>
                    </a:lnTo>
                    <a:lnTo>
                      <a:pt x="772" y="406"/>
                    </a:lnTo>
                    <a:lnTo>
                      <a:pt x="773" y="386"/>
                    </a:lnTo>
                    <a:close/>
                    <a:moveTo>
                      <a:pt x="750" y="386"/>
                    </a:moveTo>
                    <a:lnTo>
                      <a:pt x="749" y="404"/>
                    </a:lnTo>
                    <a:lnTo>
                      <a:pt x="747" y="423"/>
                    </a:lnTo>
                    <a:lnTo>
                      <a:pt x="745" y="441"/>
                    </a:lnTo>
                    <a:lnTo>
                      <a:pt x="742" y="459"/>
                    </a:lnTo>
                    <a:lnTo>
                      <a:pt x="738" y="477"/>
                    </a:lnTo>
                    <a:lnTo>
                      <a:pt x="734" y="494"/>
                    </a:lnTo>
                    <a:lnTo>
                      <a:pt x="728" y="511"/>
                    </a:lnTo>
                    <a:lnTo>
                      <a:pt x="721" y="528"/>
                    </a:lnTo>
                    <a:lnTo>
                      <a:pt x="714" y="544"/>
                    </a:lnTo>
                    <a:lnTo>
                      <a:pt x="706" y="559"/>
                    </a:lnTo>
                    <a:lnTo>
                      <a:pt x="697" y="574"/>
                    </a:lnTo>
                    <a:lnTo>
                      <a:pt x="687" y="589"/>
                    </a:lnTo>
                    <a:lnTo>
                      <a:pt x="677" y="603"/>
                    </a:lnTo>
                    <a:lnTo>
                      <a:pt x="667" y="617"/>
                    </a:lnTo>
                    <a:lnTo>
                      <a:pt x="655" y="630"/>
                    </a:lnTo>
                    <a:lnTo>
                      <a:pt x="644" y="643"/>
                    </a:lnTo>
                    <a:lnTo>
                      <a:pt x="631" y="655"/>
                    </a:lnTo>
                    <a:lnTo>
                      <a:pt x="617" y="666"/>
                    </a:lnTo>
                    <a:lnTo>
                      <a:pt x="603" y="677"/>
                    </a:lnTo>
                    <a:lnTo>
                      <a:pt x="589" y="687"/>
                    </a:lnTo>
                    <a:lnTo>
                      <a:pt x="574" y="696"/>
                    </a:lnTo>
                    <a:lnTo>
                      <a:pt x="559" y="705"/>
                    </a:lnTo>
                    <a:lnTo>
                      <a:pt x="543" y="713"/>
                    </a:lnTo>
                    <a:lnTo>
                      <a:pt x="527" y="720"/>
                    </a:lnTo>
                    <a:lnTo>
                      <a:pt x="511" y="727"/>
                    </a:lnTo>
                    <a:lnTo>
                      <a:pt x="494" y="733"/>
                    </a:lnTo>
                    <a:lnTo>
                      <a:pt x="476" y="738"/>
                    </a:lnTo>
                    <a:lnTo>
                      <a:pt x="459" y="742"/>
                    </a:lnTo>
                    <a:lnTo>
                      <a:pt x="442" y="745"/>
                    </a:lnTo>
                    <a:lnTo>
                      <a:pt x="423" y="747"/>
                    </a:lnTo>
                    <a:lnTo>
                      <a:pt x="405" y="749"/>
                    </a:lnTo>
                    <a:lnTo>
                      <a:pt x="386" y="749"/>
                    </a:lnTo>
                    <a:lnTo>
                      <a:pt x="368" y="749"/>
                    </a:lnTo>
                    <a:lnTo>
                      <a:pt x="350" y="747"/>
                    </a:lnTo>
                    <a:lnTo>
                      <a:pt x="331" y="745"/>
                    </a:lnTo>
                    <a:lnTo>
                      <a:pt x="313" y="742"/>
                    </a:lnTo>
                    <a:lnTo>
                      <a:pt x="295" y="738"/>
                    </a:lnTo>
                    <a:lnTo>
                      <a:pt x="278" y="733"/>
                    </a:lnTo>
                    <a:lnTo>
                      <a:pt x="261" y="727"/>
                    </a:lnTo>
                    <a:lnTo>
                      <a:pt x="245" y="720"/>
                    </a:lnTo>
                    <a:lnTo>
                      <a:pt x="228" y="713"/>
                    </a:lnTo>
                    <a:lnTo>
                      <a:pt x="213" y="705"/>
                    </a:lnTo>
                    <a:lnTo>
                      <a:pt x="197" y="696"/>
                    </a:lnTo>
                    <a:lnTo>
                      <a:pt x="183" y="687"/>
                    </a:lnTo>
                    <a:lnTo>
                      <a:pt x="168" y="677"/>
                    </a:lnTo>
                    <a:lnTo>
                      <a:pt x="155" y="666"/>
                    </a:lnTo>
                    <a:lnTo>
                      <a:pt x="142" y="655"/>
                    </a:lnTo>
                    <a:lnTo>
                      <a:pt x="129" y="643"/>
                    </a:lnTo>
                    <a:lnTo>
                      <a:pt x="117" y="630"/>
                    </a:lnTo>
                    <a:lnTo>
                      <a:pt x="106" y="617"/>
                    </a:lnTo>
                    <a:lnTo>
                      <a:pt x="95" y="603"/>
                    </a:lnTo>
                    <a:lnTo>
                      <a:pt x="84" y="589"/>
                    </a:lnTo>
                    <a:lnTo>
                      <a:pt x="75" y="574"/>
                    </a:lnTo>
                    <a:lnTo>
                      <a:pt x="67" y="559"/>
                    </a:lnTo>
                    <a:lnTo>
                      <a:pt x="59" y="544"/>
                    </a:lnTo>
                    <a:lnTo>
                      <a:pt x="51" y="528"/>
                    </a:lnTo>
                    <a:lnTo>
                      <a:pt x="45" y="511"/>
                    </a:lnTo>
                    <a:lnTo>
                      <a:pt x="39" y="494"/>
                    </a:lnTo>
                    <a:lnTo>
                      <a:pt x="35" y="477"/>
                    </a:lnTo>
                    <a:lnTo>
                      <a:pt x="30" y="459"/>
                    </a:lnTo>
                    <a:lnTo>
                      <a:pt x="27" y="441"/>
                    </a:lnTo>
                    <a:lnTo>
                      <a:pt x="24" y="423"/>
                    </a:lnTo>
                    <a:lnTo>
                      <a:pt x="23" y="404"/>
                    </a:lnTo>
                    <a:lnTo>
                      <a:pt x="23" y="386"/>
                    </a:lnTo>
                    <a:lnTo>
                      <a:pt x="23" y="368"/>
                    </a:lnTo>
                    <a:lnTo>
                      <a:pt x="24" y="349"/>
                    </a:lnTo>
                    <a:lnTo>
                      <a:pt x="27" y="331"/>
                    </a:lnTo>
                    <a:lnTo>
                      <a:pt x="30" y="312"/>
                    </a:lnTo>
                    <a:lnTo>
                      <a:pt x="35" y="295"/>
                    </a:lnTo>
                    <a:lnTo>
                      <a:pt x="39" y="278"/>
                    </a:lnTo>
                    <a:lnTo>
                      <a:pt x="45" y="262"/>
                    </a:lnTo>
                    <a:lnTo>
                      <a:pt x="51" y="244"/>
                    </a:lnTo>
                    <a:lnTo>
                      <a:pt x="59" y="228"/>
                    </a:lnTo>
                    <a:lnTo>
                      <a:pt x="67" y="213"/>
                    </a:lnTo>
                    <a:lnTo>
                      <a:pt x="75" y="198"/>
                    </a:lnTo>
                    <a:lnTo>
                      <a:pt x="84" y="183"/>
                    </a:lnTo>
                    <a:lnTo>
                      <a:pt x="95" y="168"/>
                    </a:lnTo>
                    <a:lnTo>
                      <a:pt x="106" y="154"/>
                    </a:lnTo>
                    <a:lnTo>
                      <a:pt x="117" y="142"/>
                    </a:lnTo>
                    <a:lnTo>
                      <a:pt x="129" y="129"/>
                    </a:lnTo>
                    <a:lnTo>
                      <a:pt x="142" y="117"/>
                    </a:lnTo>
                    <a:lnTo>
                      <a:pt x="155" y="106"/>
                    </a:lnTo>
                    <a:lnTo>
                      <a:pt x="168" y="94"/>
                    </a:lnTo>
                    <a:lnTo>
                      <a:pt x="183" y="85"/>
                    </a:lnTo>
                    <a:lnTo>
                      <a:pt x="197" y="75"/>
                    </a:lnTo>
                    <a:lnTo>
                      <a:pt x="213" y="67"/>
                    </a:lnTo>
                    <a:lnTo>
                      <a:pt x="228" y="59"/>
                    </a:lnTo>
                    <a:lnTo>
                      <a:pt x="245" y="51"/>
                    </a:lnTo>
                    <a:lnTo>
                      <a:pt x="261" y="45"/>
                    </a:lnTo>
                    <a:lnTo>
                      <a:pt x="278" y="39"/>
                    </a:lnTo>
                    <a:lnTo>
                      <a:pt x="295" y="34"/>
                    </a:lnTo>
                    <a:lnTo>
                      <a:pt x="313" y="30"/>
                    </a:lnTo>
                    <a:lnTo>
                      <a:pt x="331" y="26"/>
                    </a:lnTo>
                    <a:lnTo>
                      <a:pt x="350" y="24"/>
                    </a:lnTo>
                    <a:lnTo>
                      <a:pt x="368" y="23"/>
                    </a:lnTo>
                    <a:lnTo>
                      <a:pt x="386" y="23"/>
                    </a:lnTo>
                    <a:lnTo>
                      <a:pt x="405" y="23"/>
                    </a:lnTo>
                    <a:lnTo>
                      <a:pt x="423" y="24"/>
                    </a:lnTo>
                    <a:lnTo>
                      <a:pt x="442" y="26"/>
                    </a:lnTo>
                    <a:lnTo>
                      <a:pt x="459" y="30"/>
                    </a:lnTo>
                    <a:lnTo>
                      <a:pt x="476" y="34"/>
                    </a:lnTo>
                    <a:lnTo>
                      <a:pt x="494" y="39"/>
                    </a:lnTo>
                    <a:lnTo>
                      <a:pt x="511" y="45"/>
                    </a:lnTo>
                    <a:lnTo>
                      <a:pt x="527" y="51"/>
                    </a:lnTo>
                    <a:lnTo>
                      <a:pt x="543" y="59"/>
                    </a:lnTo>
                    <a:lnTo>
                      <a:pt x="559" y="67"/>
                    </a:lnTo>
                    <a:lnTo>
                      <a:pt x="574" y="75"/>
                    </a:lnTo>
                    <a:lnTo>
                      <a:pt x="589" y="85"/>
                    </a:lnTo>
                    <a:lnTo>
                      <a:pt x="603" y="94"/>
                    </a:lnTo>
                    <a:lnTo>
                      <a:pt x="617" y="106"/>
                    </a:lnTo>
                    <a:lnTo>
                      <a:pt x="631" y="117"/>
                    </a:lnTo>
                    <a:lnTo>
                      <a:pt x="644" y="129"/>
                    </a:lnTo>
                    <a:lnTo>
                      <a:pt x="655" y="142"/>
                    </a:lnTo>
                    <a:lnTo>
                      <a:pt x="667" y="154"/>
                    </a:lnTo>
                    <a:lnTo>
                      <a:pt x="677" y="168"/>
                    </a:lnTo>
                    <a:lnTo>
                      <a:pt x="687" y="183"/>
                    </a:lnTo>
                    <a:lnTo>
                      <a:pt x="697" y="198"/>
                    </a:lnTo>
                    <a:lnTo>
                      <a:pt x="706" y="213"/>
                    </a:lnTo>
                    <a:lnTo>
                      <a:pt x="714" y="228"/>
                    </a:lnTo>
                    <a:lnTo>
                      <a:pt x="721" y="244"/>
                    </a:lnTo>
                    <a:lnTo>
                      <a:pt x="728" y="262"/>
                    </a:lnTo>
                    <a:lnTo>
                      <a:pt x="734" y="278"/>
                    </a:lnTo>
                    <a:lnTo>
                      <a:pt x="738" y="295"/>
                    </a:lnTo>
                    <a:lnTo>
                      <a:pt x="742" y="312"/>
                    </a:lnTo>
                    <a:lnTo>
                      <a:pt x="745" y="331"/>
                    </a:lnTo>
                    <a:lnTo>
                      <a:pt x="747" y="349"/>
                    </a:lnTo>
                    <a:lnTo>
                      <a:pt x="749" y="368"/>
                    </a:lnTo>
                    <a:lnTo>
                      <a:pt x="750" y="38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093000" y="3840120"/>
                <a:ext cx="198360" cy="196920"/>
              </a:xfrm>
              <a:custGeom>
                <a:avLst/>
                <a:gdLst/>
                <a:ahLst/>
                <a:rect l="l" t="t" r="r" b="b"/>
                <a:pathLst>
                  <a:path w="749" h="750">
                    <a:moveTo>
                      <a:pt x="749" y="375"/>
                    </a:moveTo>
                    <a:lnTo>
                      <a:pt x="748" y="355"/>
                    </a:lnTo>
                    <a:lnTo>
                      <a:pt x="747" y="337"/>
                    </a:lnTo>
                    <a:lnTo>
                      <a:pt x="745" y="317"/>
                    </a:lnTo>
                    <a:lnTo>
                      <a:pt x="741" y="299"/>
                    </a:lnTo>
                    <a:lnTo>
                      <a:pt x="737" y="282"/>
                    </a:lnTo>
                    <a:lnTo>
                      <a:pt x="732" y="263"/>
                    </a:lnTo>
                    <a:lnTo>
                      <a:pt x="726" y="246"/>
                    </a:lnTo>
                    <a:lnTo>
                      <a:pt x="719" y="229"/>
                    </a:lnTo>
                    <a:lnTo>
                      <a:pt x="712" y="212"/>
                    </a:lnTo>
                    <a:lnTo>
                      <a:pt x="703" y="196"/>
                    </a:lnTo>
                    <a:lnTo>
                      <a:pt x="695" y="180"/>
                    </a:lnTo>
                    <a:lnTo>
                      <a:pt x="685" y="165"/>
                    </a:lnTo>
                    <a:lnTo>
                      <a:pt x="674" y="150"/>
                    </a:lnTo>
                    <a:lnTo>
                      <a:pt x="664" y="136"/>
                    </a:lnTo>
                    <a:lnTo>
                      <a:pt x="651" y="123"/>
                    </a:lnTo>
                    <a:lnTo>
                      <a:pt x="640" y="110"/>
                    </a:lnTo>
                    <a:lnTo>
                      <a:pt x="626" y="97"/>
                    </a:lnTo>
                    <a:lnTo>
                      <a:pt x="612" y="86"/>
                    </a:lnTo>
                    <a:lnTo>
                      <a:pt x="598" y="74"/>
                    </a:lnTo>
                    <a:lnTo>
                      <a:pt x="583" y="64"/>
                    </a:lnTo>
                    <a:lnTo>
                      <a:pt x="568" y="55"/>
                    </a:lnTo>
                    <a:lnTo>
                      <a:pt x="553" y="45"/>
                    </a:lnTo>
                    <a:lnTo>
                      <a:pt x="537" y="37"/>
                    </a:lnTo>
                    <a:lnTo>
                      <a:pt x="520" y="29"/>
                    </a:lnTo>
                    <a:lnTo>
                      <a:pt x="502" y="23"/>
                    </a:lnTo>
                    <a:lnTo>
                      <a:pt x="485" y="17"/>
                    </a:lnTo>
                    <a:lnTo>
                      <a:pt x="468" y="12"/>
                    </a:lnTo>
                    <a:lnTo>
                      <a:pt x="449" y="7"/>
                    </a:lnTo>
                    <a:lnTo>
                      <a:pt x="431" y="5"/>
                    </a:lnTo>
                    <a:lnTo>
                      <a:pt x="413" y="3"/>
                    </a:lnTo>
                    <a:lnTo>
                      <a:pt x="394" y="0"/>
                    </a:lnTo>
                    <a:lnTo>
                      <a:pt x="374" y="0"/>
                    </a:lnTo>
                    <a:lnTo>
                      <a:pt x="355" y="0"/>
                    </a:lnTo>
                    <a:lnTo>
                      <a:pt x="336" y="3"/>
                    </a:lnTo>
                    <a:lnTo>
                      <a:pt x="317" y="5"/>
                    </a:lnTo>
                    <a:lnTo>
                      <a:pt x="298" y="7"/>
                    </a:lnTo>
                    <a:lnTo>
                      <a:pt x="281" y="12"/>
                    </a:lnTo>
                    <a:lnTo>
                      <a:pt x="263" y="17"/>
                    </a:lnTo>
                    <a:lnTo>
                      <a:pt x="245" y="23"/>
                    </a:lnTo>
                    <a:lnTo>
                      <a:pt x="228" y="29"/>
                    </a:lnTo>
                    <a:lnTo>
                      <a:pt x="212" y="37"/>
                    </a:lnTo>
                    <a:lnTo>
                      <a:pt x="196" y="45"/>
                    </a:lnTo>
                    <a:lnTo>
                      <a:pt x="180" y="55"/>
                    </a:lnTo>
                    <a:lnTo>
                      <a:pt x="165" y="64"/>
                    </a:lnTo>
                    <a:lnTo>
                      <a:pt x="150" y="74"/>
                    </a:lnTo>
                    <a:lnTo>
                      <a:pt x="136" y="86"/>
                    </a:lnTo>
                    <a:lnTo>
                      <a:pt x="122" y="97"/>
                    </a:lnTo>
                    <a:lnTo>
                      <a:pt x="109" y="110"/>
                    </a:lnTo>
                    <a:lnTo>
                      <a:pt x="96" y="123"/>
                    </a:lnTo>
                    <a:lnTo>
                      <a:pt x="85" y="136"/>
                    </a:lnTo>
                    <a:lnTo>
                      <a:pt x="73" y="150"/>
                    </a:lnTo>
                    <a:lnTo>
                      <a:pt x="63" y="165"/>
                    </a:lnTo>
                    <a:lnTo>
                      <a:pt x="54" y="180"/>
                    </a:lnTo>
                    <a:lnTo>
                      <a:pt x="45" y="196"/>
                    </a:lnTo>
                    <a:lnTo>
                      <a:pt x="37" y="212"/>
                    </a:lnTo>
                    <a:lnTo>
                      <a:pt x="28" y="229"/>
                    </a:lnTo>
                    <a:lnTo>
                      <a:pt x="23" y="246"/>
                    </a:lnTo>
                    <a:lnTo>
                      <a:pt x="16" y="263"/>
                    </a:lnTo>
                    <a:lnTo>
                      <a:pt x="11" y="282"/>
                    </a:lnTo>
                    <a:lnTo>
                      <a:pt x="7" y="299"/>
                    </a:lnTo>
                    <a:lnTo>
                      <a:pt x="4" y="317"/>
                    </a:lnTo>
                    <a:lnTo>
                      <a:pt x="1" y="337"/>
                    </a:lnTo>
                    <a:lnTo>
                      <a:pt x="0" y="355"/>
                    </a:lnTo>
                    <a:lnTo>
                      <a:pt x="0" y="375"/>
                    </a:lnTo>
                    <a:lnTo>
                      <a:pt x="0" y="395"/>
                    </a:lnTo>
                    <a:lnTo>
                      <a:pt x="1" y="413"/>
                    </a:lnTo>
                    <a:lnTo>
                      <a:pt x="4" y="431"/>
                    </a:lnTo>
                    <a:lnTo>
                      <a:pt x="7" y="450"/>
                    </a:lnTo>
                    <a:lnTo>
                      <a:pt x="11" y="468"/>
                    </a:lnTo>
                    <a:lnTo>
                      <a:pt x="16" y="486"/>
                    </a:lnTo>
                    <a:lnTo>
                      <a:pt x="23" y="504"/>
                    </a:lnTo>
                    <a:lnTo>
                      <a:pt x="28" y="520"/>
                    </a:lnTo>
                    <a:lnTo>
                      <a:pt x="37" y="538"/>
                    </a:lnTo>
                    <a:lnTo>
                      <a:pt x="45" y="554"/>
                    </a:lnTo>
                    <a:lnTo>
                      <a:pt x="54" y="569"/>
                    </a:lnTo>
                    <a:lnTo>
                      <a:pt x="63" y="585"/>
                    </a:lnTo>
                    <a:lnTo>
                      <a:pt x="73" y="599"/>
                    </a:lnTo>
                    <a:lnTo>
                      <a:pt x="85" y="614"/>
                    </a:lnTo>
                    <a:lnTo>
                      <a:pt x="96" y="626"/>
                    </a:lnTo>
                    <a:lnTo>
                      <a:pt x="109" y="640"/>
                    </a:lnTo>
                    <a:lnTo>
                      <a:pt x="122" y="652"/>
                    </a:lnTo>
                    <a:lnTo>
                      <a:pt x="136" y="664"/>
                    </a:lnTo>
                    <a:lnTo>
                      <a:pt x="150" y="675"/>
                    </a:lnTo>
                    <a:lnTo>
                      <a:pt x="165" y="685"/>
                    </a:lnTo>
                    <a:lnTo>
                      <a:pt x="180" y="695"/>
                    </a:lnTo>
                    <a:lnTo>
                      <a:pt x="196" y="705"/>
                    </a:lnTo>
                    <a:lnTo>
                      <a:pt x="212" y="713"/>
                    </a:lnTo>
                    <a:lnTo>
                      <a:pt x="228" y="720"/>
                    </a:lnTo>
                    <a:lnTo>
                      <a:pt x="245" y="727"/>
                    </a:lnTo>
                    <a:lnTo>
                      <a:pt x="263" y="732"/>
                    </a:lnTo>
                    <a:lnTo>
                      <a:pt x="281" y="738"/>
                    </a:lnTo>
                    <a:lnTo>
                      <a:pt x="298" y="742"/>
                    </a:lnTo>
                    <a:lnTo>
                      <a:pt x="317" y="745"/>
                    </a:lnTo>
                    <a:lnTo>
                      <a:pt x="336" y="747"/>
                    </a:lnTo>
                    <a:lnTo>
                      <a:pt x="355" y="749"/>
                    </a:lnTo>
                    <a:lnTo>
                      <a:pt x="374" y="750"/>
                    </a:lnTo>
                    <a:lnTo>
                      <a:pt x="394" y="749"/>
                    </a:lnTo>
                    <a:lnTo>
                      <a:pt x="413" y="747"/>
                    </a:lnTo>
                    <a:lnTo>
                      <a:pt x="431" y="745"/>
                    </a:lnTo>
                    <a:lnTo>
                      <a:pt x="449" y="742"/>
                    </a:lnTo>
                    <a:lnTo>
                      <a:pt x="468" y="738"/>
                    </a:lnTo>
                    <a:lnTo>
                      <a:pt x="485" y="732"/>
                    </a:lnTo>
                    <a:lnTo>
                      <a:pt x="502" y="727"/>
                    </a:lnTo>
                    <a:lnTo>
                      <a:pt x="520" y="720"/>
                    </a:lnTo>
                    <a:lnTo>
                      <a:pt x="537" y="713"/>
                    </a:lnTo>
                    <a:lnTo>
                      <a:pt x="553" y="705"/>
                    </a:lnTo>
                    <a:lnTo>
                      <a:pt x="568" y="695"/>
                    </a:lnTo>
                    <a:lnTo>
                      <a:pt x="583" y="685"/>
                    </a:lnTo>
                    <a:lnTo>
                      <a:pt x="598" y="675"/>
                    </a:lnTo>
                    <a:lnTo>
                      <a:pt x="612" y="664"/>
                    </a:lnTo>
                    <a:lnTo>
                      <a:pt x="626" y="652"/>
                    </a:lnTo>
                    <a:lnTo>
                      <a:pt x="640" y="640"/>
                    </a:lnTo>
                    <a:lnTo>
                      <a:pt x="651" y="626"/>
                    </a:lnTo>
                    <a:lnTo>
                      <a:pt x="664" y="614"/>
                    </a:lnTo>
                    <a:lnTo>
                      <a:pt x="674" y="599"/>
                    </a:lnTo>
                    <a:lnTo>
                      <a:pt x="685" y="585"/>
                    </a:lnTo>
                    <a:lnTo>
                      <a:pt x="695" y="569"/>
                    </a:lnTo>
                    <a:lnTo>
                      <a:pt x="703" y="554"/>
                    </a:lnTo>
                    <a:lnTo>
                      <a:pt x="712" y="538"/>
                    </a:lnTo>
                    <a:lnTo>
                      <a:pt x="719" y="520"/>
                    </a:lnTo>
                    <a:lnTo>
                      <a:pt x="726" y="504"/>
                    </a:lnTo>
                    <a:lnTo>
                      <a:pt x="732" y="486"/>
                    </a:lnTo>
                    <a:lnTo>
                      <a:pt x="737" y="468"/>
                    </a:lnTo>
                    <a:lnTo>
                      <a:pt x="741" y="450"/>
                    </a:lnTo>
                    <a:lnTo>
                      <a:pt x="745" y="431"/>
                    </a:lnTo>
                    <a:lnTo>
                      <a:pt x="747" y="413"/>
                    </a:lnTo>
                    <a:lnTo>
                      <a:pt x="748" y="395"/>
                    </a:lnTo>
                    <a:lnTo>
                      <a:pt x="749" y="375"/>
                    </a:lnTo>
                    <a:close/>
                    <a:moveTo>
                      <a:pt x="726" y="375"/>
                    </a:moveTo>
                    <a:lnTo>
                      <a:pt x="726" y="393"/>
                    </a:lnTo>
                    <a:lnTo>
                      <a:pt x="724" y="411"/>
                    </a:lnTo>
                    <a:lnTo>
                      <a:pt x="722" y="428"/>
                    </a:lnTo>
                    <a:lnTo>
                      <a:pt x="719" y="445"/>
                    </a:lnTo>
                    <a:lnTo>
                      <a:pt x="715" y="463"/>
                    </a:lnTo>
                    <a:lnTo>
                      <a:pt x="710" y="480"/>
                    </a:lnTo>
                    <a:lnTo>
                      <a:pt x="704" y="496"/>
                    </a:lnTo>
                    <a:lnTo>
                      <a:pt x="699" y="512"/>
                    </a:lnTo>
                    <a:lnTo>
                      <a:pt x="692" y="527"/>
                    </a:lnTo>
                    <a:lnTo>
                      <a:pt x="684" y="542"/>
                    </a:lnTo>
                    <a:lnTo>
                      <a:pt x="675" y="557"/>
                    </a:lnTo>
                    <a:lnTo>
                      <a:pt x="666" y="572"/>
                    </a:lnTo>
                    <a:lnTo>
                      <a:pt x="656" y="586"/>
                    </a:lnTo>
                    <a:lnTo>
                      <a:pt x="646" y="599"/>
                    </a:lnTo>
                    <a:lnTo>
                      <a:pt x="635" y="611"/>
                    </a:lnTo>
                    <a:lnTo>
                      <a:pt x="624" y="624"/>
                    </a:lnTo>
                    <a:lnTo>
                      <a:pt x="611" y="636"/>
                    </a:lnTo>
                    <a:lnTo>
                      <a:pt x="598" y="646"/>
                    </a:lnTo>
                    <a:lnTo>
                      <a:pt x="584" y="657"/>
                    </a:lnTo>
                    <a:lnTo>
                      <a:pt x="571" y="667"/>
                    </a:lnTo>
                    <a:lnTo>
                      <a:pt x="557" y="676"/>
                    </a:lnTo>
                    <a:lnTo>
                      <a:pt x="542" y="684"/>
                    </a:lnTo>
                    <a:lnTo>
                      <a:pt x="527" y="692"/>
                    </a:lnTo>
                    <a:lnTo>
                      <a:pt x="512" y="699"/>
                    </a:lnTo>
                    <a:lnTo>
                      <a:pt x="496" y="706"/>
                    </a:lnTo>
                    <a:lnTo>
                      <a:pt x="479" y="710"/>
                    </a:lnTo>
                    <a:lnTo>
                      <a:pt x="462" y="716"/>
                    </a:lnTo>
                    <a:lnTo>
                      <a:pt x="445" y="720"/>
                    </a:lnTo>
                    <a:lnTo>
                      <a:pt x="428" y="723"/>
                    </a:lnTo>
                    <a:lnTo>
                      <a:pt x="410" y="725"/>
                    </a:lnTo>
                    <a:lnTo>
                      <a:pt x="392" y="727"/>
                    </a:lnTo>
                    <a:lnTo>
                      <a:pt x="374" y="727"/>
                    </a:lnTo>
                    <a:lnTo>
                      <a:pt x="356" y="727"/>
                    </a:lnTo>
                    <a:lnTo>
                      <a:pt x="339" y="725"/>
                    </a:lnTo>
                    <a:lnTo>
                      <a:pt x="320" y="723"/>
                    </a:lnTo>
                    <a:lnTo>
                      <a:pt x="303" y="720"/>
                    </a:lnTo>
                    <a:lnTo>
                      <a:pt x="286" y="716"/>
                    </a:lnTo>
                    <a:lnTo>
                      <a:pt x="269" y="710"/>
                    </a:lnTo>
                    <a:lnTo>
                      <a:pt x="253" y="706"/>
                    </a:lnTo>
                    <a:lnTo>
                      <a:pt x="237" y="699"/>
                    </a:lnTo>
                    <a:lnTo>
                      <a:pt x="221" y="692"/>
                    </a:lnTo>
                    <a:lnTo>
                      <a:pt x="206" y="684"/>
                    </a:lnTo>
                    <a:lnTo>
                      <a:pt x="191" y="676"/>
                    </a:lnTo>
                    <a:lnTo>
                      <a:pt x="177" y="667"/>
                    </a:lnTo>
                    <a:lnTo>
                      <a:pt x="163" y="657"/>
                    </a:lnTo>
                    <a:lnTo>
                      <a:pt x="151" y="646"/>
                    </a:lnTo>
                    <a:lnTo>
                      <a:pt x="137" y="636"/>
                    </a:lnTo>
                    <a:lnTo>
                      <a:pt x="125" y="624"/>
                    </a:lnTo>
                    <a:lnTo>
                      <a:pt x="114" y="611"/>
                    </a:lnTo>
                    <a:lnTo>
                      <a:pt x="102" y="599"/>
                    </a:lnTo>
                    <a:lnTo>
                      <a:pt x="92" y="586"/>
                    </a:lnTo>
                    <a:lnTo>
                      <a:pt x="83" y="572"/>
                    </a:lnTo>
                    <a:lnTo>
                      <a:pt x="73" y="557"/>
                    </a:lnTo>
                    <a:lnTo>
                      <a:pt x="64" y="542"/>
                    </a:lnTo>
                    <a:lnTo>
                      <a:pt x="57" y="527"/>
                    </a:lnTo>
                    <a:lnTo>
                      <a:pt x="50" y="512"/>
                    </a:lnTo>
                    <a:lnTo>
                      <a:pt x="43" y="496"/>
                    </a:lnTo>
                    <a:lnTo>
                      <a:pt x="38" y="480"/>
                    </a:lnTo>
                    <a:lnTo>
                      <a:pt x="33" y="463"/>
                    </a:lnTo>
                    <a:lnTo>
                      <a:pt x="30" y="445"/>
                    </a:lnTo>
                    <a:lnTo>
                      <a:pt x="26" y="428"/>
                    </a:lnTo>
                    <a:lnTo>
                      <a:pt x="24" y="411"/>
                    </a:lnTo>
                    <a:lnTo>
                      <a:pt x="23" y="393"/>
                    </a:lnTo>
                    <a:lnTo>
                      <a:pt x="23" y="375"/>
                    </a:lnTo>
                    <a:lnTo>
                      <a:pt x="23" y="357"/>
                    </a:lnTo>
                    <a:lnTo>
                      <a:pt x="24" y="339"/>
                    </a:lnTo>
                    <a:lnTo>
                      <a:pt x="26" y="321"/>
                    </a:lnTo>
                    <a:lnTo>
                      <a:pt x="30" y="304"/>
                    </a:lnTo>
                    <a:lnTo>
                      <a:pt x="33" y="287"/>
                    </a:lnTo>
                    <a:lnTo>
                      <a:pt x="38" y="270"/>
                    </a:lnTo>
                    <a:lnTo>
                      <a:pt x="43" y="254"/>
                    </a:lnTo>
                    <a:lnTo>
                      <a:pt x="50" y="238"/>
                    </a:lnTo>
                    <a:lnTo>
                      <a:pt x="57" y="223"/>
                    </a:lnTo>
                    <a:lnTo>
                      <a:pt x="64" y="207"/>
                    </a:lnTo>
                    <a:lnTo>
                      <a:pt x="73" y="193"/>
                    </a:lnTo>
                    <a:lnTo>
                      <a:pt x="83" y="178"/>
                    </a:lnTo>
                    <a:lnTo>
                      <a:pt x="92" y="164"/>
                    </a:lnTo>
                    <a:lnTo>
                      <a:pt x="102" y="151"/>
                    </a:lnTo>
                    <a:lnTo>
                      <a:pt x="114" y="139"/>
                    </a:lnTo>
                    <a:lnTo>
                      <a:pt x="125" y="126"/>
                    </a:lnTo>
                    <a:lnTo>
                      <a:pt x="137" y="114"/>
                    </a:lnTo>
                    <a:lnTo>
                      <a:pt x="151" y="103"/>
                    </a:lnTo>
                    <a:lnTo>
                      <a:pt x="163" y="93"/>
                    </a:lnTo>
                    <a:lnTo>
                      <a:pt x="177" y="83"/>
                    </a:lnTo>
                    <a:lnTo>
                      <a:pt x="191" y="74"/>
                    </a:lnTo>
                    <a:lnTo>
                      <a:pt x="206" y="65"/>
                    </a:lnTo>
                    <a:lnTo>
                      <a:pt x="221" y="58"/>
                    </a:lnTo>
                    <a:lnTo>
                      <a:pt x="237" y="51"/>
                    </a:lnTo>
                    <a:lnTo>
                      <a:pt x="253" y="44"/>
                    </a:lnTo>
                    <a:lnTo>
                      <a:pt x="269" y="38"/>
                    </a:lnTo>
                    <a:lnTo>
                      <a:pt x="286" y="34"/>
                    </a:lnTo>
                    <a:lnTo>
                      <a:pt x="303" y="30"/>
                    </a:lnTo>
                    <a:lnTo>
                      <a:pt x="320" y="27"/>
                    </a:lnTo>
                    <a:lnTo>
                      <a:pt x="339" y="25"/>
                    </a:lnTo>
                    <a:lnTo>
                      <a:pt x="356" y="23"/>
                    </a:lnTo>
                    <a:lnTo>
                      <a:pt x="374" y="23"/>
                    </a:lnTo>
                    <a:lnTo>
                      <a:pt x="392" y="23"/>
                    </a:lnTo>
                    <a:lnTo>
                      <a:pt x="410" y="25"/>
                    </a:lnTo>
                    <a:lnTo>
                      <a:pt x="428" y="27"/>
                    </a:lnTo>
                    <a:lnTo>
                      <a:pt x="445" y="30"/>
                    </a:lnTo>
                    <a:lnTo>
                      <a:pt x="462" y="34"/>
                    </a:lnTo>
                    <a:lnTo>
                      <a:pt x="479" y="38"/>
                    </a:lnTo>
                    <a:lnTo>
                      <a:pt x="496" y="44"/>
                    </a:lnTo>
                    <a:lnTo>
                      <a:pt x="512" y="51"/>
                    </a:lnTo>
                    <a:lnTo>
                      <a:pt x="527" y="58"/>
                    </a:lnTo>
                    <a:lnTo>
                      <a:pt x="542" y="65"/>
                    </a:lnTo>
                    <a:lnTo>
                      <a:pt x="557" y="74"/>
                    </a:lnTo>
                    <a:lnTo>
                      <a:pt x="571" y="83"/>
                    </a:lnTo>
                    <a:lnTo>
                      <a:pt x="584" y="93"/>
                    </a:lnTo>
                    <a:lnTo>
                      <a:pt x="598" y="103"/>
                    </a:lnTo>
                    <a:lnTo>
                      <a:pt x="611" y="114"/>
                    </a:lnTo>
                    <a:lnTo>
                      <a:pt x="624" y="126"/>
                    </a:lnTo>
                    <a:lnTo>
                      <a:pt x="635" y="139"/>
                    </a:lnTo>
                    <a:lnTo>
                      <a:pt x="646" y="151"/>
                    </a:lnTo>
                    <a:lnTo>
                      <a:pt x="656" y="164"/>
                    </a:lnTo>
                    <a:lnTo>
                      <a:pt x="666" y="178"/>
                    </a:lnTo>
                    <a:lnTo>
                      <a:pt x="675" y="193"/>
                    </a:lnTo>
                    <a:lnTo>
                      <a:pt x="684" y="207"/>
                    </a:lnTo>
                    <a:lnTo>
                      <a:pt x="692" y="223"/>
                    </a:lnTo>
                    <a:lnTo>
                      <a:pt x="699" y="238"/>
                    </a:lnTo>
                    <a:lnTo>
                      <a:pt x="704" y="254"/>
                    </a:lnTo>
                    <a:lnTo>
                      <a:pt x="710" y="270"/>
                    </a:lnTo>
                    <a:lnTo>
                      <a:pt x="715" y="287"/>
                    </a:lnTo>
                    <a:lnTo>
                      <a:pt x="719" y="304"/>
                    </a:lnTo>
                    <a:lnTo>
                      <a:pt x="722" y="321"/>
                    </a:lnTo>
                    <a:lnTo>
                      <a:pt x="724" y="339"/>
                    </a:lnTo>
                    <a:lnTo>
                      <a:pt x="726" y="357"/>
                    </a:lnTo>
                    <a:lnTo>
                      <a:pt x="726" y="375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95880" y="3841920"/>
                <a:ext cx="192240" cy="193680"/>
              </a:xfrm>
              <a:custGeom>
                <a:avLst/>
                <a:gdLst/>
                <a:ahLst/>
                <a:rect l="l" t="t" r="r" b="b"/>
                <a:pathLst>
                  <a:path w="727" h="726">
                    <a:moveTo>
                      <a:pt x="727" y="363"/>
                    </a:moveTo>
                    <a:lnTo>
                      <a:pt x="726" y="345"/>
                    </a:lnTo>
                    <a:lnTo>
                      <a:pt x="724" y="326"/>
                    </a:lnTo>
                    <a:lnTo>
                      <a:pt x="722" y="308"/>
                    </a:lnTo>
                    <a:lnTo>
                      <a:pt x="719" y="289"/>
                    </a:lnTo>
                    <a:lnTo>
                      <a:pt x="715" y="272"/>
                    </a:lnTo>
                    <a:lnTo>
                      <a:pt x="711" y="255"/>
                    </a:lnTo>
                    <a:lnTo>
                      <a:pt x="705" y="239"/>
                    </a:lnTo>
                    <a:lnTo>
                      <a:pt x="698" y="221"/>
                    </a:lnTo>
                    <a:lnTo>
                      <a:pt x="691" y="205"/>
                    </a:lnTo>
                    <a:lnTo>
                      <a:pt x="683" y="190"/>
                    </a:lnTo>
                    <a:lnTo>
                      <a:pt x="674" y="175"/>
                    </a:lnTo>
                    <a:lnTo>
                      <a:pt x="664" y="160"/>
                    </a:lnTo>
                    <a:lnTo>
                      <a:pt x="654" y="145"/>
                    </a:lnTo>
                    <a:lnTo>
                      <a:pt x="644" y="131"/>
                    </a:lnTo>
                    <a:lnTo>
                      <a:pt x="632" y="119"/>
                    </a:lnTo>
                    <a:lnTo>
                      <a:pt x="621" y="106"/>
                    </a:lnTo>
                    <a:lnTo>
                      <a:pt x="608" y="94"/>
                    </a:lnTo>
                    <a:lnTo>
                      <a:pt x="594" y="83"/>
                    </a:lnTo>
                    <a:lnTo>
                      <a:pt x="580" y="71"/>
                    </a:lnTo>
                    <a:lnTo>
                      <a:pt x="566" y="62"/>
                    </a:lnTo>
                    <a:lnTo>
                      <a:pt x="551" y="52"/>
                    </a:lnTo>
                    <a:lnTo>
                      <a:pt x="536" y="44"/>
                    </a:lnTo>
                    <a:lnTo>
                      <a:pt x="520" y="36"/>
                    </a:lnTo>
                    <a:lnTo>
                      <a:pt x="504" y="28"/>
                    </a:lnTo>
                    <a:lnTo>
                      <a:pt x="488" y="22"/>
                    </a:lnTo>
                    <a:lnTo>
                      <a:pt x="471" y="16"/>
                    </a:lnTo>
                    <a:lnTo>
                      <a:pt x="453" y="11"/>
                    </a:lnTo>
                    <a:lnTo>
                      <a:pt x="436" y="7"/>
                    </a:lnTo>
                    <a:lnTo>
                      <a:pt x="419" y="3"/>
                    </a:lnTo>
                    <a:lnTo>
                      <a:pt x="400" y="1"/>
                    </a:lnTo>
                    <a:lnTo>
                      <a:pt x="382" y="0"/>
                    </a:lnTo>
                    <a:lnTo>
                      <a:pt x="363" y="0"/>
                    </a:lnTo>
                    <a:lnTo>
                      <a:pt x="345" y="0"/>
                    </a:lnTo>
                    <a:lnTo>
                      <a:pt x="327" y="1"/>
                    </a:lnTo>
                    <a:lnTo>
                      <a:pt x="308" y="3"/>
                    </a:lnTo>
                    <a:lnTo>
                      <a:pt x="290" y="7"/>
                    </a:lnTo>
                    <a:lnTo>
                      <a:pt x="272" y="11"/>
                    </a:lnTo>
                    <a:lnTo>
                      <a:pt x="255" y="16"/>
                    </a:lnTo>
                    <a:lnTo>
                      <a:pt x="238" y="22"/>
                    </a:lnTo>
                    <a:lnTo>
                      <a:pt x="222" y="28"/>
                    </a:lnTo>
                    <a:lnTo>
                      <a:pt x="205" y="36"/>
                    </a:lnTo>
                    <a:lnTo>
                      <a:pt x="190" y="44"/>
                    </a:lnTo>
                    <a:lnTo>
                      <a:pt x="174" y="52"/>
                    </a:lnTo>
                    <a:lnTo>
                      <a:pt x="160" y="62"/>
                    </a:lnTo>
                    <a:lnTo>
                      <a:pt x="145" y="71"/>
                    </a:lnTo>
                    <a:lnTo>
                      <a:pt x="132" y="83"/>
                    </a:lnTo>
                    <a:lnTo>
                      <a:pt x="119" y="94"/>
                    </a:lnTo>
                    <a:lnTo>
                      <a:pt x="106" y="106"/>
                    </a:lnTo>
                    <a:lnTo>
                      <a:pt x="94" y="119"/>
                    </a:lnTo>
                    <a:lnTo>
                      <a:pt x="83" y="131"/>
                    </a:lnTo>
                    <a:lnTo>
                      <a:pt x="72" y="145"/>
                    </a:lnTo>
                    <a:lnTo>
                      <a:pt x="61" y="160"/>
                    </a:lnTo>
                    <a:lnTo>
                      <a:pt x="52" y="175"/>
                    </a:lnTo>
                    <a:lnTo>
                      <a:pt x="44" y="190"/>
                    </a:lnTo>
                    <a:lnTo>
                      <a:pt x="36" y="205"/>
                    </a:lnTo>
                    <a:lnTo>
                      <a:pt x="28" y="221"/>
                    </a:lnTo>
                    <a:lnTo>
                      <a:pt x="22" y="239"/>
                    </a:lnTo>
                    <a:lnTo>
                      <a:pt x="16" y="255"/>
                    </a:lnTo>
                    <a:lnTo>
                      <a:pt x="12" y="272"/>
                    </a:lnTo>
                    <a:lnTo>
                      <a:pt x="7" y="289"/>
                    </a:lnTo>
                    <a:lnTo>
                      <a:pt x="4" y="308"/>
                    </a:lnTo>
                    <a:lnTo>
                      <a:pt x="1" y="326"/>
                    </a:lnTo>
                    <a:lnTo>
                      <a:pt x="0" y="345"/>
                    </a:lnTo>
                    <a:lnTo>
                      <a:pt x="0" y="363"/>
                    </a:lnTo>
                    <a:lnTo>
                      <a:pt x="0" y="381"/>
                    </a:lnTo>
                    <a:lnTo>
                      <a:pt x="1" y="400"/>
                    </a:lnTo>
                    <a:lnTo>
                      <a:pt x="4" y="418"/>
                    </a:lnTo>
                    <a:lnTo>
                      <a:pt x="7" y="436"/>
                    </a:lnTo>
                    <a:lnTo>
                      <a:pt x="12" y="454"/>
                    </a:lnTo>
                    <a:lnTo>
                      <a:pt x="16" y="471"/>
                    </a:lnTo>
                    <a:lnTo>
                      <a:pt x="22" y="488"/>
                    </a:lnTo>
                    <a:lnTo>
                      <a:pt x="28" y="505"/>
                    </a:lnTo>
                    <a:lnTo>
                      <a:pt x="36" y="521"/>
                    </a:lnTo>
                    <a:lnTo>
                      <a:pt x="44" y="536"/>
                    </a:lnTo>
                    <a:lnTo>
                      <a:pt x="52" y="551"/>
                    </a:lnTo>
                    <a:lnTo>
                      <a:pt x="61" y="566"/>
                    </a:lnTo>
                    <a:lnTo>
                      <a:pt x="72" y="580"/>
                    </a:lnTo>
                    <a:lnTo>
                      <a:pt x="83" y="594"/>
                    </a:lnTo>
                    <a:lnTo>
                      <a:pt x="94" y="607"/>
                    </a:lnTo>
                    <a:lnTo>
                      <a:pt x="106" y="620"/>
                    </a:lnTo>
                    <a:lnTo>
                      <a:pt x="119" y="632"/>
                    </a:lnTo>
                    <a:lnTo>
                      <a:pt x="132" y="643"/>
                    </a:lnTo>
                    <a:lnTo>
                      <a:pt x="145" y="654"/>
                    </a:lnTo>
                    <a:lnTo>
                      <a:pt x="160" y="664"/>
                    </a:lnTo>
                    <a:lnTo>
                      <a:pt x="174" y="673"/>
                    </a:lnTo>
                    <a:lnTo>
                      <a:pt x="190" y="682"/>
                    </a:lnTo>
                    <a:lnTo>
                      <a:pt x="205" y="690"/>
                    </a:lnTo>
                    <a:lnTo>
                      <a:pt x="222" y="697"/>
                    </a:lnTo>
                    <a:lnTo>
                      <a:pt x="238" y="704"/>
                    </a:lnTo>
                    <a:lnTo>
                      <a:pt x="255" y="710"/>
                    </a:lnTo>
                    <a:lnTo>
                      <a:pt x="272" y="715"/>
                    </a:lnTo>
                    <a:lnTo>
                      <a:pt x="290" y="719"/>
                    </a:lnTo>
                    <a:lnTo>
                      <a:pt x="308" y="722"/>
                    </a:lnTo>
                    <a:lnTo>
                      <a:pt x="327" y="724"/>
                    </a:lnTo>
                    <a:lnTo>
                      <a:pt x="345" y="726"/>
                    </a:lnTo>
                    <a:lnTo>
                      <a:pt x="363" y="726"/>
                    </a:lnTo>
                    <a:lnTo>
                      <a:pt x="382" y="726"/>
                    </a:lnTo>
                    <a:lnTo>
                      <a:pt x="400" y="724"/>
                    </a:lnTo>
                    <a:lnTo>
                      <a:pt x="419" y="722"/>
                    </a:lnTo>
                    <a:lnTo>
                      <a:pt x="436" y="719"/>
                    </a:lnTo>
                    <a:lnTo>
                      <a:pt x="453" y="715"/>
                    </a:lnTo>
                    <a:lnTo>
                      <a:pt x="471" y="710"/>
                    </a:lnTo>
                    <a:lnTo>
                      <a:pt x="488" y="704"/>
                    </a:lnTo>
                    <a:lnTo>
                      <a:pt x="504" y="697"/>
                    </a:lnTo>
                    <a:lnTo>
                      <a:pt x="520" y="690"/>
                    </a:lnTo>
                    <a:lnTo>
                      <a:pt x="536" y="682"/>
                    </a:lnTo>
                    <a:lnTo>
                      <a:pt x="551" y="673"/>
                    </a:lnTo>
                    <a:lnTo>
                      <a:pt x="566" y="664"/>
                    </a:lnTo>
                    <a:lnTo>
                      <a:pt x="580" y="654"/>
                    </a:lnTo>
                    <a:lnTo>
                      <a:pt x="594" y="643"/>
                    </a:lnTo>
                    <a:lnTo>
                      <a:pt x="608" y="632"/>
                    </a:lnTo>
                    <a:lnTo>
                      <a:pt x="621" y="620"/>
                    </a:lnTo>
                    <a:lnTo>
                      <a:pt x="632" y="607"/>
                    </a:lnTo>
                    <a:lnTo>
                      <a:pt x="644" y="594"/>
                    </a:lnTo>
                    <a:lnTo>
                      <a:pt x="654" y="580"/>
                    </a:lnTo>
                    <a:lnTo>
                      <a:pt x="664" y="566"/>
                    </a:lnTo>
                    <a:lnTo>
                      <a:pt x="674" y="551"/>
                    </a:lnTo>
                    <a:lnTo>
                      <a:pt x="683" y="536"/>
                    </a:lnTo>
                    <a:lnTo>
                      <a:pt x="691" y="521"/>
                    </a:lnTo>
                    <a:lnTo>
                      <a:pt x="698" y="505"/>
                    </a:lnTo>
                    <a:lnTo>
                      <a:pt x="705" y="488"/>
                    </a:lnTo>
                    <a:lnTo>
                      <a:pt x="711" y="471"/>
                    </a:lnTo>
                    <a:lnTo>
                      <a:pt x="715" y="454"/>
                    </a:lnTo>
                    <a:lnTo>
                      <a:pt x="719" y="436"/>
                    </a:lnTo>
                    <a:lnTo>
                      <a:pt x="722" y="418"/>
                    </a:lnTo>
                    <a:lnTo>
                      <a:pt x="724" y="400"/>
                    </a:lnTo>
                    <a:lnTo>
                      <a:pt x="726" y="381"/>
                    </a:lnTo>
                    <a:lnTo>
                      <a:pt x="727" y="363"/>
                    </a:lnTo>
                    <a:close/>
                    <a:moveTo>
                      <a:pt x="704" y="363"/>
                    </a:moveTo>
                    <a:lnTo>
                      <a:pt x="704" y="380"/>
                    </a:lnTo>
                    <a:lnTo>
                      <a:pt x="703" y="398"/>
                    </a:lnTo>
                    <a:lnTo>
                      <a:pt x="700" y="415"/>
                    </a:lnTo>
                    <a:lnTo>
                      <a:pt x="697" y="431"/>
                    </a:lnTo>
                    <a:lnTo>
                      <a:pt x="693" y="448"/>
                    </a:lnTo>
                    <a:lnTo>
                      <a:pt x="689" y="464"/>
                    </a:lnTo>
                    <a:lnTo>
                      <a:pt x="683" y="479"/>
                    </a:lnTo>
                    <a:lnTo>
                      <a:pt x="677" y="496"/>
                    </a:lnTo>
                    <a:lnTo>
                      <a:pt x="670" y="511"/>
                    </a:lnTo>
                    <a:lnTo>
                      <a:pt x="662" y="526"/>
                    </a:lnTo>
                    <a:lnTo>
                      <a:pt x="654" y="539"/>
                    </a:lnTo>
                    <a:lnTo>
                      <a:pt x="646" y="553"/>
                    </a:lnTo>
                    <a:lnTo>
                      <a:pt x="636" y="567"/>
                    </a:lnTo>
                    <a:lnTo>
                      <a:pt x="626" y="580"/>
                    </a:lnTo>
                    <a:lnTo>
                      <a:pt x="615" y="591"/>
                    </a:lnTo>
                    <a:lnTo>
                      <a:pt x="605" y="604"/>
                    </a:lnTo>
                    <a:lnTo>
                      <a:pt x="592" y="615"/>
                    </a:lnTo>
                    <a:lnTo>
                      <a:pt x="580" y="626"/>
                    </a:lnTo>
                    <a:lnTo>
                      <a:pt x="566" y="636"/>
                    </a:lnTo>
                    <a:lnTo>
                      <a:pt x="554" y="645"/>
                    </a:lnTo>
                    <a:lnTo>
                      <a:pt x="540" y="655"/>
                    </a:lnTo>
                    <a:lnTo>
                      <a:pt x="525" y="663"/>
                    </a:lnTo>
                    <a:lnTo>
                      <a:pt x="511" y="670"/>
                    </a:lnTo>
                    <a:lnTo>
                      <a:pt x="496" y="677"/>
                    </a:lnTo>
                    <a:lnTo>
                      <a:pt x="480" y="682"/>
                    </a:lnTo>
                    <a:lnTo>
                      <a:pt x="465" y="688"/>
                    </a:lnTo>
                    <a:lnTo>
                      <a:pt x="449" y="693"/>
                    </a:lnTo>
                    <a:lnTo>
                      <a:pt x="432" y="696"/>
                    </a:lnTo>
                    <a:lnTo>
                      <a:pt x="415" y="700"/>
                    </a:lnTo>
                    <a:lnTo>
                      <a:pt x="398" y="702"/>
                    </a:lnTo>
                    <a:lnTo>
                      <a:pt x="381" y="703"/>
                    </a:lnTo>
                    <a:lnTo>
                      <a:pt x="363" y="703"/>
                    </a:lnTo>
                    <a:lnTo>
                      <a:pt x="346" y="703"/>
                    </a:lnTo>
                    <a:lnTo>
                      <a:pt x="329" y="702"/>
                    </a:lnTo>
                    <a:lnTo>
                      <a:pt x="312" y="700"/>
                    </a:lnTo>
                    <a:lnTo>
                      <a:pt x="294" y="696"/>
                    </a:lnTo>
                    <a:lnTo>
                      <a:pt x="278" y="693"/>
                    </a:lnTo>
                    <a:lnTo>
                      <a:pt x="262" y="688"/>
                    </a:lnTo>
                    <a:lnTo>
                      <a:pt x="246" y="682"/>
                    </a:lnTo>
                    <a:lnTo>
                      <a:pt x="231" y="677"/>
                    </a:lnTo>
                    <a:lnTo>
                      <a:pt x="216" y="670"/>
                    </a:lnTo>
                    <a:lnTo>
                      <a:pt x="201" y="663"/>
                    </a:lnTo>
                    <a:lnTo>
                      <a:pt x="187" y="655"/>
                    </a:lnTo>
                    <a:lnTo>
                      <a:pt x="173" y="645"/>
                    </a:lnTo>
                    <a:lnTo>
                      <a:pt x="159" y="636"/>
                    </a:lnTo>
                    <a:lnTo>
                      <a:pt x="147" y="626"/>
                    </a:lnTo>
                    <a:lnTo>
                      <a:pt x="134" y="615"/>
                    </a:lnTo>
                    <a:lnTo>
                      <a:pt x="122" y="604"/>
                    </a:lnTo>
                    <a:lnTo>
                      <a:pt x="111" y="591"/>
                    </a:lnTo>
                    <a:lnTo>
                      <a:pt x="100" y="580"/>
                    </a:lnTo>
                    <a:lnTo>
                      <a:pt x="90" y="567"/>
                    </a:lnTo>
                    <a:lnTo>
                      <a:pt x="81" y="553"/>
                    </a:lnTo>
                    <a:lnTo>
                      <a:pt x="72" y="539"/>
                    </a:lnTo>
                    <a:lnTo>
                      <a:pt x="64" y="526"/>
                    </a:lnTo>
                    <a:lnTo>
                      <a:pt x="57" y="511"/>
                    </a:lnTo>
                    <a:lnTo>
                      <a:pt x="50" y="496"/>
                    </a:lnTo>
                    <a:lnTo>
                      <a:pt x="43" y="479"/>
                    </a:lnTo>
                    <a:lnTo>
                      <a:pt x="38" y="464"/>
                    </a:lnTo>
                    <a:lnTo>
                      <a:pt x="34" y="448"/>
                    </a:lnTo>
                    <a:lnTo>
                      <a:pt x="29" y="431"/>
                    </a:lnTo>
                    <a:lnTo>
                      <a:pt x="27" y="415"/>
                    </a:lnTo>
                    <a:lnTo>
                      <a:pt x="24" y="398"/>
                    </a:lnTo>
                    <a:lnTo>
                      <a:pt x="23" y="380"/>
                    </a:lnTo>
                    <a:lnTo>
                      <a:pt x="22" y="363"/>
                    </a:lnTo>
                    <a:lnTo>
                      <a:pt x="23" y="346"/>
                    </a:lnTo>
                    <a:lnTo>
                      <a:pt x="24" y="328"/>
                    </a:lnTo>
                    <a:lnTo>
                      <a:pt x="27" y="311"/>
                    </a:lnTo>
                    <a:lnTo>
                      <a:pt x="29" y="294"/>
                    </a:lnTo>
                    <a:lnTo>
                      <a:pt x="34" y="278"/>
                    </a:lnTo>
                    <a:lnTo>
                      <a:pt x="38" y="262"/>
                    </a:lnTo>
                    <a:lnTo>
                      <a:pt x="43" y="245"/>
                    </a:lnTo>
                    <a:lnTo>
                      <a:pt x="50" y="230"/>
                    </a:lnTo>
                    <a:lnTo>
                      <a:pt x="57" y="215"/>
                    </a:lnTo>
                    <a:lnTo>
                      <a:pt x="64" y="200"/>
                    </a:lnTo>
                    <a:lnTo>
                      <a:pt x="72" y="187"/>
                    </a:lnTo>
                    <a:lnTo>
                      <a:pt x="81" y="173"/>
                    </a:lnTo>
                    <a:lnTo>
                      <a:pt x="90" y="159"/>
                    </a:lnTo>
                    <a:lnTo>
                      <a:pt x="100" y="146"/>
                    </a:lnTo>
                    <a:lnTo>
                      <a:pt x="111" y="134"/>
                    </a:lnTo>
                    <a:lnTo>
                      <a:pt x="122" y="122"/>
                    </a:lnTo>
                    <a:lnTo>
                      <a:pt x="134" y="111"/>
                    </a:lnTo>
                    <a:lnTo>
                      <a:pt x="147" y="100"/>
                    </a:lnTo>
                    <a:lnTo>
                      <a:pt x="159" y="90"/>
                    </a:lnTo>
                    <a:lnTo>
                      <a:pt x="173" y="81"/>
                    </a:lnTo>
                    <a:lnTo>
                      <a:pt x="187" y="71"/>
                    </a:lnTo>
                    <a:lnTo>
                      <a:pt x="201" y="63"/>
                    </a:lnTo>
                    <a:lnTo>
                      <a:pt x="216" y="56"/>
                    </a:lnTo>
                    <a:lnTo>
                      <a:pt x="231" y="49"/>
                    </a:lnTo>
                    <a:lnTo>
                      <a:pt x="246" y="43"/>
                    </a:lnTo>
                    <a:lnTo>
                      <a:pt x="262" y="38"/>
                    </a:lnTo>
                    <a:lnTo>
                      <a:pt x="278" y="33"/>
                    </a:lnTo>
                    <a:lnTo>
                      <a:pt x="294" y="29"/>
                    </a:lnTo>
                    <a:lnTo>
                      <a:pt x="312" y="26"/>
                    </a:lnTo>
                    <a:lnTo>
                      <a:pt x="329" y="24"/>
                    </a:lnTo>
                    <a:lnTo>
                      <a:pt x="346" y="23"/>
                    </a:lnTo>
                    <a:lnTo>
                      <a:pt x="363" y="22"/>
                    </a:lnTo>
                    <a:lnTo>
                      <a:pt x="381" y="23"/>
                    </a:lnTo>
                    <a:lnTo>
                      <a:pt x="398" y="24"/>
                    </a:lnTo>
                    <a:lnTo>
                      <a:pt x="415" y="26"/>
                    </a:lnTo>
                    <a:lnTo>
                      <a:pt x="432" y="29"/>
                    </a:lnTo>
                    <a:lnTo>
                      <a:pt x="449" y="33"/>
                    </a:lnTo>
                    <a:lnTo>
                      <a:pt x="465" y="38"/>
                    </a:lnTo>
                    <a:lnTo>
                      <a:pt x="480" y="43"/>
                    </a:lnTo>
                    <a:lnTo>
                      <a:pt x="496" y="49"/>
                    </a:lnTo>
                    <a:lnTo>
                      <a:pt x="511" y="56"/>
                    </a:lnTo>
                    <a:lnTo>
                      <a:pt x="525" y="63"/>
                    </a:lnTo>
                    <a:lnTo>
                      <a:pt x="540" y="71"/>
                    </a:lnTo>
                    <a:lnTo>
                      <a:pt x="554" y="81"/>
                    </a:lnTo>
                    <a:lnTo>
                      <a:pt x="566" y="90"/>
                    </a:lnTo>
                    <a:lnTo>
                      <a:pt x="580" y="100"/>
                    </a:lnTo>
                    <a:lnTo>
                      <a:pt x="592" y="111"/>
                    </a:lnTo>
                    <a:lnTo>
                      <a:pt x="605" y="122"/>
                    </a:lnTo>
                    <a:lnTo>
                      <a:pt x="615" y="134"/>
                    </a:lnTo>
                    <a:lnTo>
                      <a:pt x="626" y="146"/>
                    </a:lnTo>
                    <a:lnTo>
                      <a:pt x="636" y="159"/>
                    </a:lnTo>
                    <a:lnTo>
                      <a:pt x="646" y="173"/>
                    </a:lnTo>
                    <a:lnTo>
                      <a:pt x="654" y="187"/>
                    </a:lnTo>
                    <a:lnTo>
                      <a:pt x="662" y="200"/>
                    </a:lnTo>
                    <a:lnTo>
                      <a:pt x="670" y="215"/>
                    </a:lnTo>
                    <a:lnTo>
                      <a:pt x="677" y="230"/>
                    </a:lnTo>
                    <a:lnTo>
                      <a:pt x="683" y="245"/>
                    </a:lnTo>
                    <a:lnTo>
                      <a:pt x="689" y="262"/>
                    </a:lnTo>
                    <a:lnTo>
                      <a:pt x="693" y="278"/>
                    </a:lnTo>
                    <a:lnTo>
                      <a:pt x="697" y="294"/>
                    </a:lnTo>
                    <a:lnTo>
                      <a:pt x="700" y="311"/>
                    </a:lnTo>
                    <a:lnTo>
                      <a:pt x="703" y="328"/>
                    </a:lnTo>
                    <a:lnTo>
                      <a:pt x="704" y="346"/>
                    </a:lnTo>
                    <a:lnTo>
                      <a:pt x="704" y="36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99120" y="3844800"/>
                <a:ext cx="185760" cy="187560"/>
              </a:xfrm>
              <a:custGeom>
                <a:avLst/>
                <a:gdLst/>
                <a:ahLst/>
                <a:rect l="l" t="t" r="r" b="b"/>
                <a:pathLst>
                  <a:path w="703" h="704">
                    <a:moveTo>
                      <a:pt x="703" y="352"/>
                    </a:moveTo>
                    <a:lnTo>
                      <a:pt x="703" y="334"/>
                    </a:lnTo>
                    <a:lnTo>
                      <a:pt x="701" y="316"/>
                    </a:lnTo>
                    <a:lnTo>
                      <a:pt x="699" y="298"/>
                    </a:lnTo>
                    <a:lnTo>
                      <a:pt x="696" y="281"/>
                    </a:lnTo>
                    <a:lnTo>
                      <a:pt x="692" y="264"/>
                    </a:lnTo>
                    <a:lnTo>
                      <a:pt x="687" y="247"/>
                    </a:lnTo>
                    <a:lnTo>
                      <a:pt x="681" y="231"/>
                    </a:lnTo>
                    <a:lnTo>
                      <a:pt x="676" y="215"/>
                    </a:lnTo>
                    <a:lnTo>
                      <a:pt x="669" y="200"/>
                    </a:lnTo>
                    <a:lnTo>
                      <a:pt x="661" y="184"/>
                    </a:lnTo>
                    <a:lnTo>
                      <a:pt x="652" y="170"/>
                    </a:lnTo>
                    <a:lnTo>
                      <a:pt x="643" y="155"/>
                    </a:lnTo>
                    <a:lnTo>
                      <a:pt x="633" y="141"/>
                    </a:lnTo>
                    <a:lnTo>
                      <a:pt x="623" y="128"/>
                    </a:lnTo>
                    <a:lnTo>
                      <a:pt x="612" y="116"/>
                    </a:lnTo>
                    <a:lnTo>
                      <a:pt x="601" y="103"/>
                    </a:lnTo>
                    <a:lnTo>
                      <a:pt x="588" y="91"/>
                    </a:lnTo>
                    <a:lnTo>
                      <a:pt x="575" y="80"/>
                    </a:lnTo>
                    <a:lnTo>
                      <a:pt x="561" y="70"/>
                    </a:lnTo>
                    <a:lnTo>
                      <a:pt x="548" y="60"/>
                    </a:lnTo>
                    <a:lnTo>
                      <a:pt x="534" y="51"/>
                    </a:lnTo>
                    <a:lnTo>
                      <a:pt x="519" y="42"/>
                    </a:lnTo>
                    <a:lnTo>
                      <a:pt x="504" y="35"/>
                    </a:lnTo>
                    <a:lnTo>
                      <a:pt x="489" y="28"/>
                    </a:lnTo>
                    <a:lnTo>
                      <a:pt x="473" y="21"/>
                    </a:lnTo>
                    <a:lnTo>
                      <a:pt x="456" y="15"/>
                    </a:lnTo>
                    <a:lnTo>
                      <a:pt x="439" y="11"/>
                    </a:lnTo>
                    <a:lnTo>
                      <a:pt x="422" y="7"/>
                    </a:lnTo>
                    <a:lnTo>
                      <a:pt x="405" y="4"/>
                    </a:lnTo>
                    <a:lnTo>
                      <a:pt x="387" y="2"/>
                    </a:lnTo>
                    <a:lnTo>
                      <a:pt x="369" y="0"/>
                    </a:lnTo>
                    <a:lnTo>
                      <a:pt x="351" y="0"/>
                    </a:lnTo>
                    <a:lnTo>
                      <a:pt x="333" y="0"/>
                    </a:lnTo>
                    <a:lnTo>
                      <a:pt x="316" y="2"/>
                    </a:lnTo>
                    <a:lnTo>
                      <a:pt x="297" y="4"/>
                    </a:lnTo>
                    <a:lnTo>
                      <a:pt x="280" y="7"/>
                    </a:lnTo>
                    <a:lnTo>
                      <a:pt x="263" y="11"/>
                    </a:lnTo>
                    <a:lnTo>
                      <a:pt x="246" y="15"/>
                    </a:lnTo>
                    <a:lnTo>
                      <a:pt x="230" y="21"/>
                    </a:lnTo>
                    <a:lnTo>
                      <a:pt x="214" y="28"/>
                    </a:lnTo>
                    <a:lnTo>
                      <a:pt x="198" y="35"/>
                    </a:lnTo>
                    <a:lnTo>
                      <a:pt x="183" y="42"/>
                    </a:lnTo>
                    <a:lnTo>
                      <a:pt x="168" y="51"/>
                    </a:lnTo>
                    <a:lnTo>
                      <a:pt x="154" y="60"/>
                    </a:lnTo>
                    <a:lnTo>
                      <a:pt x="140" y="70"/>
                    </a:lnTo>
                    <a:lnTo>
                      <a:pt x="128" y="80"/>
                    </a:lnTo>
                    <a:lnTo>
                      <a:pt x="114" y="91"/>
                    </a:lnTo>
                    <a:lnTo>
                      <a:pt x="102" y="103"/>
                    </a:lnTo>
                    <a:lnTo>
                      <a:pt x="91" y="116"/>
                    </a:lnTo>
                    <a:lnTo>
                      <a:pt x="79" y="128"/>
                    </a:lnTo>
                    <a:lnTo>
                      <a:pt x="69" y="141"/>
                    </a:lnTo>
                    <a:lnTo>
                      <a:pt x="60" y="155"/>
                    </a:lnTo>
                    <a:lnTo>
                      <a:pt x="50" y="170"/>
                    </a:lnTo>
                    <a:lnTo>
                      <a:pt x="41" y="184"/>
                    </a:lnTo>
                    <a:lnTo>
                      <a:pt x="34" y="200"/>
                    </a:lnTo>
                    <a:lnTo>
                      <a:pt x="27" y="215"/>
                    </a:lnTo>
                    <a:lnTo>
                      <a:pt x="20" y="231"/>
                    </a:lnTo>
                    <a:lnTo>
                      <a:pt x="15" y="247"/>
                    </a:lnTo>
                    <a:lnTo>
                      <a:pt x="10" y="264"/>
                    </a:lnTo>
                    <a:lnTo>
                      <a:pt x="7" y="281"/>
                    </a:lnTo>
                    <a:lnTo>
                      <a:pt x="3" y="298"/>
                    </a:lnTo>
                    <a:lnTo>
                      <a:pt x="1" y="316"/>
                    </a:lnTo>
                    <a:lnTo>
                      <a:pt x="0" y="334"/>
                    </a:lnTo>
                    <a:lnTo>
                      <a:pt x="0" y="352"/>
                    </a:lnTo>
                    <a:lnTo>
                      <a:pt x="0" y="370"/>
                    </a:lnTo>
                    <a:lnTo>
                      <a:pt x="1" y="388"/>
                    </a:lnTo>
                    <a:lnTo>
                      <a:pt x="3" y="405"/>
                    </a:lnTo>
                    <a:lnTo>
                      <a:pt x="7" y="422"/>
                    </a:lnTo>
                    <a:lnTo>
                      <a:pt x="10" y="440"/>
                    </a:lnTo>
                    <a:lnTo>
                      <a:pt x="15" y="457"/>
                    </a:lnTo>
                    <a:lnTo>
                      <a:pt x="20" y="473"/>
                    </a:lnTo>
                    <a:lnTo>
                      <a:pt x="27" y="489"/>
                    </a:lnTo>
                    <a:lnTo>
                      <a:pt x="34" y="504"/>
                    </a:lnTo>
                    <a:lnTo>
                      <a:pt x="41" y="519"/>
                    </a:lnTo>
                    <a:lnTo>
                      <a:pt x="50" y="534"/>
                    </a:lnTo>
                    <a:lnTo>
                      <a:pt x="60" y="549"/>
                    </a:lnTo>
                    <a:lnTo>
                      <a:pt x="69" y="563"/>
                    </a:lnTo>
                    <a:lnTo>
                      <a:pt x="79" y="576"/>
                    </a:lnTo>
                    <a:lnTo>
                      <a:pt x="91" y="588"/>
                    </a:lnTo>
                    <a:lnTo>
                      <a:pt x="102" y="601"/>
                    </a:lnTo>
                    <a:lnTo>
                      <a:pt x="114" y="613"/>
                    </a:lnTo>
                    <a:lnTo>
                      <a:pt x="128" y="623"/>
                    </a:lnTo>
                    <a:lnTo>
                      <a:pt x="140" y="634"/>
                    </a:lnTo>
                    <a:lnTo>
                      <a:pt x="154" y="644"/>
                    </a:lnTo>
                    <a:lnTo>
                      <a:pt x="168" y="653"/>
                    </a:lnTo>
                    <a:lnTo>
                      <a:pt x="183" y="661"/>
                    </a:lnTo>
                    <a:lnTo>
                      <a:pt x="198" y="669"/>
                    </a:lnTo>
                    <a:lnTo>
                      <a:pt x="214" y="676"/>
                    </a:lnTo>
                    <a:lnTo>
                      <a:pt x="230" y="683"/>
                    </a:lnTo>
                    <a:lnTo>
                      <a:pt x="246" y="687"/>
                    </a:lnTo>
                    <a:lnTo>
                      <a:pt x="263" y="693"/>
                    </a:lnTo>
                    <a:lnTo>
                      <a:pt x="280" y="697"/>
                    </a:lnTo>
                    <a:lnTo>
                      <a:pt x="297" y="700"/>
                    </a:lnTo>
                    <a:lnTo>
                      <a:pt x="316" y="702"/>
                    </a:lnTo>
                    <a:lnTo>
                      <a:pt x="333" y="704"/>
                    </a:lnTo>
                    <a:lnTo>
                      <a:pt x="351" y="704"/>
                    </a:lnTo>
                    <a:lnTo>
                      <a:pt x="369" y="704"/>
                    </a:lnTo>
                    <a:lnTo>
                      <a:pt x="387" y="702"/>
                    </a:lnTo>
                    <a:lnTo>
                      <a:pt x="405" y="700"/>
                    </a:lnTo>
                    <a:lnTo>
                      <a:pt x="422" y="697"/>
                    </a:lnTo>
                    <a:lnTo>
                      <a:pt x="439" y="693"/>
                    </a:lnTo>
                    <a:lnTo>
                      <a:pt x="456" y="687"/>
                    </a:lnTo>
                    <a:lnTo>
                      <a:pt x="473" y="683"/>
                    </a:lnTo>
                    <a:lnTo>
                      <a:pt x="489" y="676"/>
                    </a:lnTo>
                    <a:lnTo>
                      <a:pt x="504" y="669"/>
                    </a:lnTo>
                    <a:lnTo>
                      <a:pt x="519" y="661"/>
                    </a:lnTo>
                    <a:lnTo>
                      <a:pt x="534" y="653"/>
                    </a:lnTo>
                    <a:lnTo>
                      <a:pt x="548" y="644"/>
                    </a:lnTo>
                    <a:lnTo>
                      <a:pt x="561" y="634"/>
                    </a:lnTo>
                    <a:lnTo>
                      <a:pt x="575" y="623"/>
                    </a:lnTo>
                    <a:lnTo>
                      <a:pt x="588" y="613"/>
                    </a:lnTo>
                    <a:lnTo>
                      <a:pt x="601" y="601"/>
                    </a:lnTo>
                    <a:lnTo>
                      <a:pt x="612" y="588"/>
                    </a:lnTo>
                    <a:lnTo>
                      <a:pt x="623" y="576"/>
                    </a:lnTo>
                    <a:lnTo>
                      <a:pt x="633" y="563"/>
                    </a:lnTo>
                    <a:lnTo>
                      <a:pt x="643" y="549"/>
                    </a:lnTo>
                    <a:lnTo>
                      <a:pt x="652" y="534"/>
                    </a:lnTo>
                    <a:lnTo>
                      <a:pt x="661" y="519"/>
                    </a:lnTo>
                    <a:lnTo>
                      <a:pt x="669" y="504"/>
                    </a:lnTo>
                    <a:lnTo>
                      <a:pt x="676" y="489"/>
                    </a:lnTo>
                    <a:lnTo>
                      <a:pt x="681" y="473"/>
                    </a:lnTo>
                    <a:lnTo>
                      <a:pt x="687" y="457"/>
                    </a:lnTo>
                    <a:lnTo>
                      <a:pt x="692" y="440"/>
                    </a:lnTo>
                    <a:lnTo>
                      <a:pt x="696" y="422"/>
                    </a:lnTo>
                    <a:lnTo>
                      <a:pt x="699" y="405"/>
                    </a:lnTo>
                    <a:lnTo>
                      <a:pt x="701" y="388"/>
                    </a:lnTo>
                    <a:lnTo>
                      <a:pt x="703" y="370"/>
                    </a:lnTo>
                    <a:lnTo>
                      <a:pt x="703" y="352"/>
                    </a:lnTo>
                    <a:close/>
                    <a:moveTo>
                      <a:pt x="680" y="352"/>
                    </a:moveTo>
                    <a:lnTo>
                      <a:pt x="680" y="369"/>
                    </a:lnTo>
                    <a:lnTo>
                      <a:pt x="679" y="385"/>
                    </a:lnTo>
                    <a:lnTo>
                      <a:pt x="677" y="402"/>
                    </a:lnTo>
                    <a:lnTo>
                      <a:pt x="674" y="418"/>
                    </a:lnTo>
                    <a:lnTo>
                      <a:pt x="670" y="434"/>
                    </a:lnTo>
                    <a:lnTo>
                      <a:pt x="665" y="450"/>
                    </a:lnTo>
                    <a:lnTo>
                      <a:pt x="661" y="465"/>
                    </a:lnTo>
                    <a:lnTo>
                      <a:pt x="655" y="480"/>
                    </a:lnTo>
                    <a:lnTo>
                      <a:pt x="648" y="495"/>
                    </a:lnTo>
                    <a:lnTo>
                      <a:pt x="641" y="509"/>
                    </a:lnTo>
                    <a:lnTo>
                      <a:pt x="633" y="523"/>
                    </a:lnTo>
                    <a:lnTo>
                      <a:pt x="625" y="536"/>
                    </a:lnTo>
                    <a:lnTo>
                      <a:pt x="614" y="549"/>
                    </a:lnTo>
                    <a:lnTo>
                      <a:pt x="605" y="562"/>
                    </a:lnTo>
                    <a:lnTo>
                      <a:pt x="595" y="573"/>
                    </a:lnTo>
                    <a:lnTo>
                      <a:pt x="584" y="585"/>
                    </a:lnTo>
                    <a:lnTo>
                      <a:pt x="573" y="595"/>
                    </a:lnTo>
                    <a:lnTo>
                      <a:pt x="560" y="606"/>
                    </a:lnTo>
                    <a:lnTo>
                      <a:pt x="548" y="616"/>
                    </a:lnTo>
                    <a:lnTo>
                      <a:pt x="535" y="625"/>
                    </a:lnTo>
                    <a:lnTo>
                      <a:pt x="522" y="633"/>
                    </a:lnTo>
                    <a:lnTo>
                      <a:pt x="508" y="641"/>
                    </a:lnTo>
                    <a:lnTo>
                      <a:pt x="494" y="648"/>
                    </a:lnTo>
                    <a:lnTo>
                      <a:pt x="479" y="655"/>
                    </a:lnTo>
                    <a:lnTo>
                      <a:pt x="464" y="661"/>
                    </a:lnTo>
                    <a:lnTo>
                      <a:pt x="449" y="667"/>
                    </a:lnTo>
                    <a:lnTo>
                      <a:pt x="433" y="670"/>
                    </a:lnTo>
                    <a:lnTo>
                      <a:pt x="417" y="675"/>
                    </a:lnTo>
                    <a:lnTo>
                      <a:pt x="401" y="677"/>
                    </a:lnTo>
                    <a:lnTo>
                      <a:pt x="385" y="679"/>
                    </a:lnTo>
                    <a:lnTo>
                      <a:pt x="368" y="681"/>
                    </a:lnTo>
                    <a:lnTo>
                      <a:pt x="351" y="681"/>
                    </a:lnTo>
                    <a:lnTo>
                      <a:pt x="334" y="681"/>
                    </a:lnTo>
                    <a:lnTo>
                      <a:pt x="318" y="679"/>
                    </a:lnTo>
                    <a:lnTo>
                      <a:pt x="301" y="677"/>
                    </a:lnTo>
                    <a:lnTo>
                      <a:pt x="285" y="675"/>
                    </a:lnTo>
                    <a:lnTo>
                      <a:pt x="268" y="670"/>
                    </a:lnTo>
                    <a:lnTo>
                      <a:pt x="253" y="667"/>
                    </a:lnTo>
                    <a:lnTo>
                      <a:pt x="238" y="661"/>
                    </a:lnTo>
                    <a:lnTo>
                      <a:pt x="223" y="655"/>
                    </a:lnTo>
                    <a:lnTo>
                      <a:pt x="208" y="648"/>
                    </a:lnTo>
                    <a:lnTo>
                      <a:pt x="195" y="641"/>
                    </a:lnTo>
                    <a:lnTo>
                      <a:pt x="181" y="633"/>
                    </a:lnTo>
                    <a:lnTo>
                      <a:pt x="167" y="625"/>
                    </a:lnTo>
                    <a:lnTo>
                      <a:pt x="154" y="616"/>
                    </a:lnTo>
                    <a:lnTo>
                      <a:pt x="142" y="606"/>
                    </a:lnTo>
                    <a:lnTo>
                      <a:pt x="130" y="595"/>
                    </a:lnTo>
                    <a:lnTo>
                      <a:pt x="118" y="585"/>
                    </a:lnTo>
                    <a:lnTo>
                      <a:pt x="107" y="573"/>
                    </a:lnTo>
                    <a:lnTo>
                      <a:pt x="97" y="562"/>
                    </a:lnTo>
                    <a:lnTo>
                      <a:pt x="87" y="549"/>
                    </a:lnTo>
                    <a:lnTo>
                      <a:pt x="78" y="536"/>
                    </a:lnTo>
                    <a:lnTo>
                      <a:pt x="69" y="523"/>
                    </a:lnTo>
                    <a:lnTo>
                      <a:pt x="62" y="509"/>
                    </a:lnTo>
                    <a:lnTo>
                      <a:pt x="54" y="495"/>
                    </a:lnTo>
                    <a:lnTo>
                      <a:pt x="48" y="480"/>
                    </a:lnTo>
                    <a:lnTo>
                      <a:pt x="42" y="465"/>
                    </a:lnTo>
                    <a:lnTo>
                      <a:pt x="37" y="450"/>
                    </a:lnTo>
                    <a:lnTo>
                      <a:pt x="32" y="434"/>
                    </a:lnTo>
                    <a:lnTo>
                      <a:pt x="29" y="418"/>
                    </a:lnTo>
                    <a:lnTo>
                      <a:pt x="25" y="402"/>
                    </a:lnTo>
                    <a:lnTo>
                      <a:pt x="24" y="385"/>
                    </a:lnTo>
                    <a:lnTo>
                      <a:pt x="23" y="369"/>
                    </a:lnTo>
                    <a:lnTo>
                      <a:pt x="22" y="352"/>
                    </a:lnTo>
                    <a:lnTo>
                      <a:pt x="23" y="335"/>
                    </a:lnTo>
                    <a:lnTo>
                      <a:pt x="24" y="319"/>
                    </a:lnTo>
                    <a:lnTo>
                      <a:pt x="25" y="301"/>
                    </a:lnTo>
                    <a:lnTo>
                      <a:pt x="29" y="285"/>
                    </a:lnTo>
                    <a:lnTo>
                      <a:pt x="32" y="270"/>
                    </a:lnTo>
                    <a:lnTo>
                      <a:pt x="37" y="254"/>
                    </a:lnTo>
                    <a:lnTo>
                      <a:pt x="42" y="239"/>
                    </a:lnTo>
                    <a:lnTo>
                      <a:pt x="48" y="224"/>
                    </a:lnTo>
                    <a:lnTo>
                      <a:pt x="54" y="209"/>
                    </a:lnTo>
                    <a:lnTo>
                      <a:pt x="62" y="195"/>
                    </a:lnTo>
                    <a:lnTo>
                      <a:pt x="69" y="181"/>
                    </a:lnTo>
                    <a:lnTo>
                      <a:pt x="78" y="168"/>
                    </a:lnTo>
                    <a:lnTo>
                      <a:pt x="87" y="155"/>
                    </a:lnTo>
                    <a:lnTo>
                      <a:pt x="97" y="142"/>
                    </a:lnTo>
                    <a:lnTo>
                      <a:pt x="107" y="131"/>
                    </a:lnTo>
                    <a:lnTo>
                      <a:pt x="118" y="119"/>
                    </a:lnTo>
                    <a:lnTo>
                      <a:pt x="130" y="109"/>
                    </a:lnTo>
                    <a:lnTo>
                      <a:pt x="142" y="98"/>
                    </a:lnTo>
                    <a:lnTo>
                      <a:pt x="154" y="88"/>
                    </a:lnTo>
                    <a:lnTo>
                      <a:pt x="167" y="79"/>
                    </a:lnTo>
                    <a:lnTo>
                      <a:pt x="181" y="71"/>
                    </a:lnTo>
                    <a:lnTo>
                      <a:pt x="195" y="63"/>
                    </a:lnTo>
                    <a:lnTo>
                      <a:pt x="208" y="55"/>
                    </a:lnTo>
                    <a:lnTo>
                      <a:pt x="223" y="49"/>
                    </a:lnTo>
                    <a:lnTo>
                      <a:pt x="238" y="43"/>
                    </a:lnTo>
                    <a:lnTo>
                      <a:pt x="253" y="37"/>
                    </a:lnTo>
                    <a:lnTo>
                      <a:pt x="268" y="33"/>
                    </a:lnTo>
                    <a:lnTo>
                      <a:pt x="285" y="29"/>
                    </a:lnTo>
                    <a:lnTo>
                      <a:pt x="301" y="27"/>
                    </a:lnTo>
                    <a:lnTo>
                      <a:pt x="318" y="25"/>
                    </a:lnTo>
                    <a:lnTo>
                      <a:pt x="334" y="23"/>
                    </a:lnTo>
                    <a:lnTo>
                      <a:pt x="351" y="22"/>
                    </a:lnTo>
                    <a:lnTo>
                      <a:pt x="368" y="23"/>
                    </a:lnTo>
                    <a:lnTo>
                      <a:pt x="385" y="25"/>
                    </a:lnTo>
                    <a:lnTo>
                      <a:pt x="401" y="27"/>
                    </a:lnTo>
                    <a:lnTo>
                      <a:pt x="417" y="29"/>
                    </a:lnTo>
                    <a:lnTo>
                      <a:pt x="433" y="33"/>
                    </a:lnTo>
                    <a:lnTo>
                      <a:pt x="449" y="37"/>
                    </a:lnTo>
                    <a:lnTo>
                      <a:pt x="464" y="43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8" y="63"/>
                    </a:lnTo>
                    <a:lnTo>
                      <a:pt x="522" y="71"/>
                    </a:lnTo>
                    <a:lnTo>
                      <a:pt x="535" y="79"/>
                    </a:lnTo>
                    <a:lnTo>
                      <a:pt x="548" y="88"/>
                    </a:lnTo>
                    <a:lnTo>
                      <a:pt x="560" y="98"/>
                    </a:lnTo>
                    <a:lnTo>
                      <a:pt x="573" y="109"/>
                    </a:lnTo>
                    <a:lnTo>
                      <a:pt x="584" y="119"/>
                    </a:lnTo>
                    <a:lnTo>
                      <a:pt x="595" y="131"/>
                    </a:lnTo>
                    <a:lnTo>
                      <a:pt x="605" y="142"/>
                    </a:lnTo>
                    <a:lnTo>
                      <a:pt x="614" y="155"/>
                    </a:lnTo>
                    <a:lnTo>
                      <a:pt x="625" y="168"/>
                    </a:lnTo>
                    <a:lnTo>
                      <a:pt x="633" y="181"/>
                    </a:lnTo>
                    <a:lnTo>
                      <a:pt x="641" y="195"/>
                    </a:lnTo>
                    <a:lnTo>
                      <a:pt x="648" y="209"/>
                    </a:lnTo>
                    <a:lnTo>
                      <a:pt x="655" y="224"/>
                    </a:lnTo>
                    <a:lnTo>
                      <a:pt x="661" y="239"/>
                    </a:lnTo>
                    <a:lnTo>
                      <a:pt x="665" y="254"/>
                    </a:lnTo>
                    <a:lnTo>
                      <a:pt x="670" y="270"/>
                    </a:lnTo>
                    <a:lnTo>
                      <a:pt x="674" y="285"/>
                    </a:lnTo>
                    <a:lnTo>
                      <a:pt x="677" y="301"/>
                    </a:lnTo>
                    <a:lnTo>
                      <a:pt x="679" y="319"/>
                    </a:lnTo>
                    <a:lnTo>
                      <a:pt x="680" y="335"/>
                    </a:lnTo>
                    <a:lnTo>
                      <a:pt x="680" y="352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02360" y="3848040"/>
                <a:ext cx="179280" cy="181080"/>
              </a:xfrm>
              <a:custGeom>
                <a:avLst/>
                <a:gdLst/>
                <a:ahLst/>
                <a:rect l="l" t="t" r="r" b="b"/>
                <a:pathLst>
                  <a:path w="682" h="681">
                    <a:moveTo>
                      <a:pt x="682" y="341"/>
                    </a:moveTo>
                    <a:lnTo>
                      <a:pt x="682" y="324"/>
                    </a:lnTo>
                    <a:lnTo>
                      <a:pt x="681" y="306"/>
                    </a:lnTo>
                    <a:lnTo>
                      <a:pt x="678" y="289"/>
                    </a:lnTo>
                    <a:lnTo>
                      <a:pt x="675" y="272"/>
                    </a:lnTo>
                    <a:lnTo>
                      <a:pt x="671" y="256"/>
                    </a:lnTo>
                    <a:lnTo>
                      <a:pt x="667" y="240"/>
                    </a:lnTo>
                    <a:lnTo>
                      <a:pt x="661" y="223"/>
                    </a:lnTo>
                    <a:lnTo>
                      <a:pt x="655" y="208"/>
                    </a:lnTo>
                    <a:lnTo>
                      <a:pt x="648" y="193"/>
                    </a:lnTo>
                    <a:lnTo>
                      <a:pt x="640" y="178"/>
                    </a:lnTo>
                    <a:lnTo>
                      <a:pt x="632" y="165"/>
                    </a:lnTo>
                    <a:lnTo>
                      <a:pt x="624" y="151"/>
                    </a:lnTo>
                    <a:lnTo>
                      <a:pt x="614" y="137"/>
                    </a:lnTo>
                    <a:lnTo>
                      <a:pt x="604" y="124"/>
                    </a:lnTo>
                    <a:lnTo>
                      <a:pt x="593" y="112"/>
                    </a:lnTo>
                    <a:lnTo>
                      <a:pt x="583" y="100"/>
                    </a:lnTo>
                    <a:lnTo>
                      <a:pt x="570" y="89"/>
                    </a:lnTo>
                    <a:lnTo>
                      <a:pt x="558" y="78"/>
                    </a:lnTo>
                    <a:lnTo>
                      <a:pt x="544" y="68"/>
                    </a:lnTo>
                    <a:lnTo>
                      <a:pt x="532" y="59"/>
                    </a:lnTo>
                    <a:lnTo>
                      <a:pt x="518" y="49"/>
                    </a:lnTo>
                    <a:lnTo>
                      <a:pt x="503" y="41"/>
                    </a:lnTo>
                    <a:lnTo>
                      <a:pt x="489" y="34"/>
                    </a:lnTo>
                    <a:lnTo>
                      <a:pt x="474" y="27"/>
                    </a:lnTo>
                    <a:lnTo>
                      <a:pt x="458" y="21"/>
                    </a:lnTo>
                    <a:lnTo>
                      <a:pt x="443" y="16"/>
                    </a:lnTo>
                    <a:lnTo>
                      <a:pt x="427" y="11"/>
                    </a:lnTo>
                    <a:lnTo>
                      <a:pt x="410" y="7"/>
                    </a:lnTo>
                    <a:lnTo>
                      <a:pt x="393" y="4"/>
                    </a:lnTo>
                    <a:lnTo>
                      <a:pt x="376" y="2"/>
                    </a:lnTo>
                    <a:lnTo>
                      <a:pt x="359" y="1"/>
                    </a:lnTo>
                    <a:lnTo>
                      <a:pt x="341" y="0"/>
                    </a:lnTo>
                    <a:lnTo>
                      <a:pt x="324" y="1"/>
                    </a:lnTo>
                    <a:lnTo>
                      <a:pt x="307" y="2"/>
                    </a:lnTo>
                    <a:lnTo>
                      <a:pt x="290" y="4"/>
                    </a:lnTo>
                    <a:lnTo>
                      <a:pt x="272" y="7"/>
                    </a:lnTo>
                    <a:lnTo>
                      <a:pt x="256" y="11"/>
                    </a:lnTo>
                    <a:lnTo>
                      <a:pt x="240" y="16"/>
                    </a:lnTo>
                    <a:lnTo>
                      <a:pt x="224" y="21"/>
                    </a:lnTo>
                    <a:lnTo>
                      <a:pt x="209" y="27"/>
                    </a:lnTo>
                    <a:lnTo>
                      <a:pt x="194" y="34"/>
                    </a:lnTo>
                    <a:lnTo>
                      <a:pt x="179" y="41"/>
                    </a:lnTo>
                    <a:lnTo>
                      <a:pt x="165" y="49"/>
                    </a:lnTo>
                    <a:lnTo>
                      <a:pt x="151" y="59"/>
                    </a:lnTo>
                    <a:lnTo>
                      <a:pt x="137" y="68"/>
                    </a:lnTo>
                    <a:lnTo>
                      <a:pt x="125" y="78"/>
                    </a:lnTo>
                    <a:lnTo>
                      <a:pt x="112" y="89"/>
                    </a:lnTo>
                    <a:lnTo>
                      <a:pt x="100" y="100"/>
                    </a:lnTo>
                    <a:lnTo>
                      <a:pt x="89" y="112"/>
                    </a:lnTo>
                    <a:lnTo>
                      <a:pt x="78" y="124"/>
                    </a:lnTo>
                    <a:lnTo>
                      <a:pt x="68" y="137"/>
                    </a:lnTo>
                    <a:lnTo>
                      <a:pt x="59" y="151"/>
                    </a:lnTo>
                    <a:lnTo>
                      <a:pt x="50" y="165"/>
                    </a:lnTo>
                    <a:lnTo>
                      <a:pt x="42" y="178"/>
                    </a:lnTo>
                    <a:lnTo>
                      <a:pt x="35" y="193"/>
                    </a:lnTo>
                    <a:lnTo>
                      <a:pt x="28" y="208"/>
                    </a:lnTo>
                    <a:lnTo>
                      <a:pt x="21" y="223"/>
                    </a:lnTo>
                    <a:lnTo>
                      <a:pt x="16" y="240"/>
                    </a:lnTo>
                    <a:lnTo>
                      <a:pt x="12" y="256"/>
                    </a:lnTo>
                    <a:lnTo>
                      <a:pt x="7" y="272"/>
                    </a:lnTo>
                    <a:lnTo>
                      <a:pt x="5" y="289"/>
                    </a:lnTo>
                    <a:lnTo>
                      <a:pt x="2" y="306"/>
                    </a:lnTo>
                    <a:lnTo>
                      <a:pt x="1" y="324"/>
                    </a:lnTo>
                    <a:lnTo>
                      <a:pt x="0" y="341"/>
                    </a:lnTo>
                    <a:lnTo>
                      <a:pt x="1" y="358"/>
                    </a:lnTo>
                    <a:lnTo>
                      <a:pt x="2" y="376"/>
                    </a:lnTo>
                    <a:lnTo>
                      <a:pt x="5" y="393"/>
                    </a:lnTo>
                    <a:lnTo>
                      <a:pt x="7" y="409"/>
                    </a:lnTo>
                    <a:lnTo>
                      <a:pt x="12" y="426"/>
                    </a:lnTo>
                    <a:lnTo>
                      <a:pt x="16" y="442"/>
                    </a:lnTo>
                    <a:lnTo>
                      <a:pt x="21" y="457"/>
                    </a:lnTo>
                    <a:lnTo>
                      <a:pt x="28" y="474"/>
                    </a:lnTo>
                    <a:lnTo>
                      <a:pt x="35" y="489"/>
                    </a:lnTo>
                    <a:lnTo>
                      <a:pt x="42" y="504"/>
                    </a:lnTo>
                    <a:lnTo>
                      <a:pt x="50" y="517"/>
                    </a:lnTo>
                    <a:lnTo>
                      <a:pt x="59" y="531"/>
                    </a:lnTo>
                    <a:lnTo>
                      <a:pt x="68" y="545"/>
                    </a:lnTo>
                    <a:lnTo>
                      <a:pt x="78" y="558"/>
                    </a:lnTo>
                    <a:lnTo>
                      <a:pt x="89" y="569"/>
                    </a:lnTo>
                    <a:lnTo>
                      <a:pt x="100" y="582"/>
                    </a:lnTo>
                    <a:lnTo>
                      <a:pt x="112" y="593"/>
                    </a:lnTo>
                    <a:lnTo>
                      <a:pt x="125" y="604"/>
                    </a:lnTo>
                    <a:lnTo>
                      <a:pt x="137" y="614"/>
                    </a:lnTo>
                    <a:lnTo>
                      <a:pt x="151" y="623"/>
                    </a:lnTo>
                    <a:lnTo>
                      <a:pt x="165" y="633"/>
                    </a:lnTo>
                    <a:lnTo>
                      <a:pt x="179" y="641"/>
                    </a:lnTo>
                    <a:lnTo>
                      <a:pt x="194" y="648"/>
                    </a:lnTo>
                    <a:lnTo>
                      <a:pt x="209" y="655"/>
                    </a:lnTo>
                    <a:lnTo>
                      <a:pt x="224" y="660"/>
                    </a:lnTo>
                    <a:lnTo>
                      <a:pt x="240" y="666"/>
                    </a:lnTo>
                    <a:lnTo>
                      <a:pt x="256" y="671"/>
                    </a:lnTo>
                    <a:lnTo>
                      <a:pt x="272" y="674"/>
                    </a:lnTo>
                    <a:lnTo>
                      <a:pt x="290" y="678"/>
                    </a:lnTo>
                    <a:lnTo>
                      <a:pt x="307" y="680"/>
                    </a:lnTo>
                    <a:lnTo>
                      <a:pt x="324" y="681"/>
                    </a:lnTo>
                    <a:lnTo>
                      <a:pt x="341" y="681"/>
                    </a:lnTo>
                    <a:lnTo>
                      <a:pt x="359" y="681"/>
                    </a:lnTo>
                    <a:lnTo>
                      <a:pt x="376" y="680"/>
                    </a:lnTo>
                    <a:lnTo>
                      <a:pt x="393" y="678"/>
                    </a:lnTo>
                    <a:lnTo>
                      <a:pt x="410" y="674"/>
                    </a:lnTo>
                    <a:lnTo>
                      <a:pt x="427" y="671"/>
                    </a:lnTo>
                    <a:lnTo>
                      <a:pt x="443" y="666"/>
                    </a:lnTo>
                    <a:lnTo>
                      <a:pt x="458" y="660"/>
                    </a:lnTo>
                    <a:lnTo>
                      <a:pt x="474" y="655"/>
                    </a:lnTo>
                    <a:lnTo>
                      <a:pt x="489" y="648"/>
                    </a:lnTo>
                    <a:lnTo>
                      <a:pt x="503" y="641"/>
                    </a:lnTo>
                    <a:lnTo>
                      <a:pt x="518" y="633"/>
                    </a:lnTo>
                    <a:lnTo>
                      <a:pt x="532" y="623"/>
                    </a:lnTo>
                    <a:lnTo>
                      <a:pt x="544" y="614"/>
                    </a:lnTo>
                    <a:lnTo>
                      <a:pt x="558" y="604"/>
                    </a:lnTo>
                    <a:lnTo>
                      <a:pt x="570" y="593"/>
                    </a:lnTo>
                    <a:lnTo>
                      <a:pt x="583" y="582"/>
                    </a:lnTo>
                    <a:lnTo>
                      <a:pt x="593" y="569"/>
                    </a:lnTo>
                    <a:lnTo>
                      <a:pt x="604" y="558"/>
                    </a:lnTo>
                    <a:lnTo>
                      <a:pt x="614" y="545"/>
                    </a:lnTo>
                    <a:lnTo>
                      <a:pt x="624" y="531"/>
                    </a:lnTo>
                    <a:lnTo>
                      <a:pt x="632" y="517"/>
                    </a:lnTo>
                    <a:lnTo>
                      <a:pt x="640" y="504"/>
                    </a:lnTo>
                    <a:lnTo>
                      <a:pt x="648" y="489"/>
                    </a:lnTo>
                    <a:lnTo>
                      <a:pt x="655" y="474"/>
                    </a:lnTo>
                    <a:lnTo>
                      <a:pt x="661" y="457"/>
                    </a:lnTo>
                    <a:lnTo>
                      <a:pt x="667" y="442"/>
                    </a:lnTo>
                    <a:lnTo>
                      <a:pt x="671" y="426"/>
                    </a:lnTo>
                    <a:lnTo>
                      <a:pt x="675" y="409"/>
                    </a:lnTo>
                    <a:lnTo>
                      <a:pt x="678" y="393"/>
                    </a:lnTo>
                    <a:lnTo>
                      <a:pt x="681" y="376"/>
                    </a:lnTo>
                    <a:lnTo>
                      <a:pt x="682" y="358"/>
                    </a:lnTo>
                    <a:lnTo>
                      <a:pt x="682" y="341"/>
                    </a:lnTo>
                    <a:close/>
                    <a:moveTo>
                      <a:pt x="660" y="341"/>
                    </a:moveTo>
                    <a:lnTo>
                      <a:pt x="659" y="357"/>
                    </a:lnTo>
                    <a:lnTo>
                      <a:pt x="657" y="373"/>
                    </a:lnTo>
                    <a:lnTo>
                      <a:pt x="655" y="389"/>
                    </a:lnTo>
                    <a:lnTo>
                      <a:pt x="653" y="404"/>
                    </a:lnTo>
                    <a:lnTo>
                      <a:pt x="649" y="421"/>
                    </a:lnTo>
                    <a:lnTo>
                      <a:pt x="645" y="436"/>
                    </a:lnTo>
                    <a:lnTo>
                      <a:pt x="640" y="451"/>
                    </a:lnTo>
                    <a:lnTo>
                      <a:pt x="634" y="464"/>
                    </a:lnTo>
                    <a:lnTo>
                      <a:pt x="628" y="478"/>
                    </a:lnTo>
                    <a:lnTo>
                      <a:pt x="621" y="492"/>
                    </a:lnTo>
                    <a:lnTo>
                      <a:pt x="614" y="506"/>
                    </a:lnTo>
                    <a:lnTo>
                      <a:pt x="604" y="519"/>
                    </a:lnTo>
                    <a:lnTo>
                      <a:pt x="596" y="531"/>
                    </a:lnTo>
                    <a:lnTo>
                      <a:pt x="586" y="543"/>
                    </a:lnTo>
                    <a:lnTo>
                      <a:pt x="577" y="554"/>
                    </a:lnTo>
                    <a:lnTo>
                      <a:pt x="566" y="566"/>
                    </a:lnTo>
                    <a:lnTo>
                      <a:pt x="555" y="576"/>
                    </a:lnTo>
                    <a:lnTo>
                      <a:pt x="543" y="587"/>
                    </a:lnTo>
                    <a:lnTo>
                      <a:pt x="532" y="596"/>
                    </a:lnTo>
                    <a:lnTo>
                      <a:pt x="519" y="604"/>
                    </a:lnTo>
                    <a:lnTo>
                      <a:pt x="506" y="613"/>
                    </a:lnTo>
                    <a:lnTo>
                      <a:pt x="493" y="620"/>
                    </a:lnTo>
                    <a:lnTo>
                      <a:pt x="479" y="627"/>
                    </a:lnTo>
                    <a:lnTo>
                      <a:pt x="465" y="634"/>
                    </a:lnTo>
                    <a:lnTo>
                      <a:pt x="451" y="640"/>
                    </a:lnTo>
                    <a:lnTo>
                      <a:pt x="436" y="644"/>
                    </a:lnTo>
                    <a:lnTo>
                      <a:pt x="421" y="649"/>
                    </a:lnTo>
                    <a:lnTo>
                      <a:pt x="405" y="652"/>
                    </a:lnTo>
                    <a:lnTo>
                      <a:pt x="390" y="655"/>
                    </a:lnTo>
                    <a:lnTo>
                      <a:pt x="374" y="657"/>
                    </a:lnTo>
                    <a:lnTo>
                      <a:pt x="358" y="658"/>
                    </a:lnTo>
                    <a:lnTo>
                      <a:pt x="341" y="658"/>
                    </a:lnTo>
                    <a:lnTo>
                      <a:pt x="325" y="658"/>
                    </a:lnTo>
                    <a:lnTo>
                      <a:pt x="309" y="657"/>
                    </a:lnTo>
                    <a:lnTo>
                      <a:pt x="293" y="655"/>
                    </a:lnTo>
                    <a:lnTo>
                      <a:pt x="277" y="652"/>
                    </a:lnTo>
                    <a:lnTo>
                      <a:pt x="262" y="649"/>
                    </a:lnTo>
                    <a:lnTo>
                      <a:pt x="247" y="644"/>
                    </a:lnTo>
                    <a:lnTo>
                      <a:pt x="232" y="640"/>
                    </a:lnTo>
                    <a:lnTo>
                      <a:pt x="217" y="634"/>
                    </a:lnTo>
                    <a:lnTo>
                      <a:pt x="203" y="627"/>
                    </a:lnTo>
                    <a:lnTo>
                      <a:pt x="189" y="620"/>
                    </a:lnTo>
                    <a:lnTo>
                      <a:pt x="177" y="613"/>
                    </a:lnTo>
                    <a:lnTo>
                      <a:pt x="164" y="604"/>
                    </a:lnTo>
                    <a:lnTo>
                      <a:pt x="151" y="596"/>
                    </a:lnTo>
                    <a:lnTo>
                      <a:pt x="138" y="587"/>
                    </a:lnTo>
                    <a:lnTo>
                      <a:pt x="127" y="576"/>
                    </a:lnTo>
                    <a:lnTo>
                      <a:pt x="117" y="566"/>
                    </a:lnTo>
                    <a:lnTo>
                      <a:pt x="106" y="554"/>
                    </a:lnTo>
                    <a:lnTo>
                      <a:pt x="96" y="543"/>
                    </a:lnTo>
                    <a:lnTo>
                      <a:pt x="87" y="531"/>
                    </a:lnTo>
                    <a:lnTo>
                      <a:pt x="77" y="519"/>
                    </a:lnTo>
                    <a:lnTo>
                      <a:pt x="69" y="506"/>
                    </a:lnTo>
                    <a:lnTo>
                      <a:pt x="61" y="492"/>
                    </a:lnTo>
                    <a:lnTo>
                      <a:pt x="54" y="478"/>
                    </a:lnTo>
                    <a:lnTo>
                      <a:pt x="48" y="464"/>
                    </a:lnTo>
                    <a:lnTo>
                      <a:pt x="43" y="451"/>
                    </a:lnTo>
                    <a:lnTo>
                      <a:pt x="37" y="436"/>
                    </a:lnTo>
                    <a:lnTo>
                      <a:pt x="33" y="421"/>
                    </a:lnTo>
                    <a:lnTo>
                      <a:pt x="30" y="404"/>
                    </a:lnTo>
                    <a:lnTo>
                      <a:pt x="27" y="389"/>
                    </a:lnTo>
                    <a:lnTo>
                      <a:pt x="24" y="373"/>
                    </a:lnTo>
                    <a:lnTo>
                      <a:pt x="23" y="357"/>
                    </a:lnTo>
                    <a:lnTo>
                      <a:pt x="23" y="341"/>
                    </a:lnTo>
                    <a:lnTo>
                      <a:pt x="23" y="325"/>
                    </a:lnTo>
                    <a:lnTo>
                      <a:pt x="24" y="309"/>
                    </a:lnTo>
                    <a:lnTo>
                      <a:pt x="27" y="293"/>
                    </a:lnTo>
                    <a:lnTo>
                      <a:pt x="30" y="276"/>
                    </a:lnTo>
                    <a:lnTo>
                      <a:pt x="33" y="261"/>
                    </a:lnTo>
                    <a:lnTo>
                      <a:pt x="37" y="246"/>
                    </a:lnTo>
                    <a:lnTo>
                      <a:pt x="43" y="231"/>
                    </a:lnTo>
                    <a:lnTo>
                      <a:pt x="48" y="218"/>
                    </a:lnTo>
                    <a:lnTo>
                      <a:pt x="54" y="203"/>
                    </a:lnTo>
                    <a:lnTo>
                      <a:pt x="61" y="189"/>
                    </a:lnTo>
                    <a:lnTo>
                      <a:pt x="69" y="176"/>
                    </a:lnTo>
                    <a:lnTo>
                      <a:pt x="77" y="163"/>
                    </a:lnTo>
                    <a:lnTo>
                      <a:pt x="87" y="151"/>
                    </a:lnTo>
                    <a:lnTo>
                      <a:pt x="96" y="139"/>
                    </a:lnTo>
                    <a:lnTo>
                      <a:pt x="106" y="128"/>
                    </a:lnTo>
                    <a:lnTo>
                      <a:pt x="117" y="116"/>
                    </a:lnTo>
                    <a:lnTo>
                      <a:pt x="127" y="106"/>
                    </a:lnTo>
                    <a:lnTo>
                      <a:pt x="138" y="95"/>
                    </a:lnTo>
                    <a:lnTo>
                      <a:pt x="151" y="86"/>
                    </a:lnTo>
                    <a:lnTo>
                      <a:pt x="164" y="77"/>
                    </a:lnTo>
                    <a:lnTo>
                      <a:pt x="177" y="69"/>
                    </a:lnTo>
                    <a:lnTo>
                      <a:pt x="189" y="61"/>
                    </a:lnTo>
                    <a:lnTo>
                      <a:pt x="203" y="54"/>
                    </a:lnTo>
                    <a:lnTo>
                      <a:pt x="217" y="48"/>
                    </a:lnTo>
                    <a:lnTo>
                      <a:pt x="232" y="42"/>
                    </a:lnTo>
                    <a:lnTo>
                      <a:pt x="247" y="38"/>
                    </a:lnTo>
                    <a:lnTo>
                      <a:pt x="262" y="33"/>
                    </a:lnTo>
                    <a:lnTo>
                      <a:pt x="277" y="30"/>
                    </a:lnTo>
                    <a:lnTo>
                      <a:pt x="293" y="26"/>
                    </a:lnTo>
                    <a:lnTo>
                      <a:pt x="309" y="25"/>
                    </a:lnTo>
                    <a:lnTo>
                      <a:pt x="325" y="23"/>
                    </a:lnTo>
                    <a:lnTo>
                      <a:pt x="341" y="23"/>
                    </a:lnTo>
                    <a:lnTo>
                      <a:pt x="358" y="23"/>
                    </a:lnTo>
                    <a:lnTo>
                      <a:pt x="374" y="25"/>
                    </a:lnTo>
                    <a:lnTo>
                      <a:pt x="390" y="26"/>
                    </a:lnTo>
                    <a:lnTo>
                      <a:pt x="405" y="30"/>
                    </a:lnTo>
                    <a:lnTo>
                      <a:pt x="421" y="33"/>
                    </a:lnTo>
                    <a:lnTo>
                      <a:pt x="436" y="38"/>
                    </a:lnTo>
                    <a:lnTo>
                      <a:pt x="451" y="42"/>
                    </a:lnTo>
                    <a:lnTo>
                      <a:pt x="465" y="48"/>
                    </a:lnTo>
                    <a:lnTo>
                      <a:pt x="479" y="54"/>
                    </a:lnTo>
                    <a:lnTo>
                      <a:pt x="493" y="61"/>
                    </a:lnTo>
                    <a:lnTo>
                      <a:pt x="506" y="69"/>
                    </a:lnTo>
                    <a:lnTo>
                      <a:pt x="519" y="77"/>
                    </a:lnTo>
                    <a:lnTo>
                      <a:pt x="532" y="86"/>
                    </a:lnTo>
                    <a:lnTo>
                      <a:pt x="543" y="95"/>
                    </a:lnTo>
                    <a:lnTo>
                      <a:pt x="555" y="106"/>
                    </a:lnTo>
                    <a:lnTo>
                      <a:pt x="566" y="116"/>
                    </a:lnTo>
                    <a:lnTo>
                      <a:pt x="577" y="128"/>
                    </a:lnTo>
                    <a:lnTo>
                      <a:pt x="586" y="139"/>
                    </a:lnTo>
                    <a:lnTo>
                      <a:pt x="596" y="151"/>
                    </a:lnTo>
                    <a:lnTo>
                      <a:pt x="604" y="163"/>
                    </a:lnTo>
                    <a:lnTo>
                      <a:pt x="614" y="176"/>
                    </a:lnTo>
                    <a:lnTo>
                      <a:pt x="621" y="189"/>
                    </a:lnTo>
                    <a:lnTo>
                      <a:pt x="628" y="203"/>
                    </a:lnTo>
                    <a:lnTo>
                      <a:pt x="634" y="218"/>
                    </a:lnTo>
                    <a:lnTo>
                      <a:pt x="640" y="231"/>
                    </a:lnTo>
                    <a:lnTo>
                      <a:pt x="645" y="246"/>
                    </a:lnTo>
                    <a:lnTo>
                      <a:pt x="649" y="261"/>
                    </a:lnTo>
                    <a:lnTo>
                      <a:pt x="653" y="276"/>
                    </a:lnTo>
                    <a:lnTo>
                      <a:pt x="655" y="293"/>
                    </a:lnTo>
                    <a:lnTo>
                      <a:pt x="657" y="309"/>
                    </a:lnTo>
                    <a:lnTo>
                      <a:pt x="659" y="325"/>
                    </a:lnTo>
                    <a:lnTo>
                      <a:pt x="660" y="341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105600" y="3851280"/>
                <a:ext cx="172800" cy="174600"/>
              </a:xfrm>
              <a:custGeom>
                <a:avLst/>
                <a:gdLst/>
                <a:ahLst/>
                <a:rect l="l" t="t" r="r" b="b"/>
                <a:pathLst>
                  <a:path w="658" h="659">
                    <a:moveTo>
                      <a:pt x="658" y="330"/>
                    </a:moveTo>
                    <a:lnTo>
                      <a:pt x="658" y="313"/>
                    </a:lnTo>
                    <a:lnTo>
                      <a:pt x="657" y="297"/>
                    </a:lnTo>
                    <a:lnTo>
                      <a:pt x="655" y="279"/>
                    </a:lnTo>
                    <a:lnTo>
                      <a:pt x="652" y="263"/>
                    </a:lnTo>
                    <a:lnTo>
                      <a:pt x="648" y="248"/>
                    </a:lnTo>
                    <a:lnTo>
                      <a:pt x="643" y="232"/>
                    </a:lnTo>
                    <a:lnTo>
                      <a:pt x="639" y="217"/>
                    </a:lnTo>
                    <a:lnTo>
                      <a:pt x="633" y="202"/>
                    </a:lnTo>
                    <a:lnTo>
                      <a:pt x="626" y="187"/>
                    </a:lnTo>
                    <a:lnTo>
                      <a:pt x="619" y="173"/>
                    </a:lnTo>
                    <a:lnTo>
                      <a:pt x="611" y="159"/>
                    </a:lnTo>
                    <a:lnTo>
                      <a:pt x="603" y="146"/>
                    </a:lnTo>
                    <a:lnTo>
                      <a:pt x="592" y="133"/>
                    </a:lnTo>
                    <a:lnTo>
                      <a:pt x="583" y="120"/>
                    </a:lnTo>
                    <a:lnTo>
                      <a:pt x="573" y="109"/>
                    </a:lnTo>
                    <a:lnTo>
                      <a:pt x="562" y="97"/>
                    </a:lnTo>
                    <a:lnTo>
                      <a:pt x="551" y="87"/>
                    </a:lnTo>
                    <a:lnTo>
                      <a:pt x="538" y="76"/>
                    </a:lnTo>
                    <a:lnTo>
                      <a:pt x="526" y="66"/>
                    </a:lnTo>
                    <a:lnTo>
                      <a:pt x="513" y="57"/>
                    </a:lnTo>
                    <a:lnTo>
                      <a:pt x="500" y="49"/>
                    </a:lnTo>
                    <a:lnTo>
                      <a:pt x="486" y="41"/>
                    </a:lnTo>
                    <a:lnTo>
                      <a:pt x="472" y="33"/>
                    </a:lnTo>
                    <a:lnTo>
                      <a:pt x="457" y="27"/>
                    </a:lnTo>
                    <a:lnTo>
                      <a:pt x="442" y="21"/>
                    </a:lnTo>
                    <a:lnTo>
                      <a:pt x="427" y="15"/>
                    </a:lnTo>
                    <a:lnTo>
                      <a:pt x="411" y="11"/>
                    </a:lnTo>
                    <a:lnTo>
                      <a:pt x="395" y="7"/>
                    </a:lnTo>
                    <a:lnTo>
                      <a:pt x="379" y="5"/>
                    </a:lnTo>
                    <a:lnTo>
                      <a:pt x="363" y="3"/>
                    </a:lnTo>
                    <a:lnTo>
                      <a:pt x="346" y="1"/>
                    </a:lnTo>
                    <a:lnTo>
                      <a:pt x="329" y="0"/>
                    </a:lnTo>
                    <a:lnTo>
                      <a:pt x="312" y="1"/>
                    </a:lnTo>
                    <a:lnTo>
                      <a:pt x="296" y="3"/>
                    </a:lnTo>
                    <a:lnTo>
                      <a:pt x="279" y="5"/>
                    </a:lnTo>
                    <a:lnTo>
                      <a:pt x="263" y="7"/>
                    </a:lnTo>
                    <a:lnTo>
                      <a:pt x="246" y="11"/>
                    </a:lnTo>
                    <a:lnTo>
                      <a:pt x="231" y="15"/>
                    </a:lnTo>
                    <a:lnTo>
                      <a:pt x="216" y="21"/>
                    </a:lnTo>
                    <a:lnTo>
                      <a:pt x="201" y="27"/>
                    </a:lnTo>
                    <a:lnTo>
                      <a:pt x="186" y="33"/>
                    </a:lnTo>
                    <a:lnTo>
                      <a:pt x="173" y="41"/>
                    </a:lnTo>
                    <a:lnTo>
                      <a:pt x="159" y="49"/>
                    </a:lnTo>
                    <a:lnTo>
                      <a:pt x="145" y="57"/>
                    </a:lnTo>
                    <a:lnTo>
                      <a:pt x="132" y="66"/>
                    </a:lnTo>
                    <a:lnTo>
                      <a:pt x="120" y="76"/>
                    </a:lnTo>
                    <a:lnTo>
                      <a:pt x="108" y="87"/>
                    </a:lnTo>
                    <a:lnTo>
                      <a:pt x="96" y="97"/>
                    </a:lnTo>
                    <a:lnTo>
                      <a:pt x="85" y="109"/>
                    </a:lnTo>
                    <a:lnTo>
                      <a:pt x="75" y="120"/>
                    </a:lnTo>
                    <a:lnTo>
                      <a:pt x="65" y="133"/>
                    </a:lnTo>
                    <a:lnTo>
                      <a:pt x="56" y="146"/>
                    </a:lnTo>
                    <a:lnTo>
                      <a:pt x="47" y="159"/>
                    </a:lnTo>
                    <a:lnTo>
                      <a:pt x="40" y="173"/>
                    </a:lnTo>
                    <a:lnTo>
                      <a:pt x="32" y="187"/>
                    </a:lnTo>
                    <a:lnTo>
                      <a:pt x="26" y="202"/>
                    </a:lnTo>
                    <a:lnTo>
                      <a:pt x="20" y="217"/>
                    </a:lnTo>
                    <a:lnTo>
                      <a:pt x="15" y="232"/>
                    </a:lnTo>
                    <a:lnTo>
                      <a:pt x="10" y="248"/>
                    </a:lnTo>
                    <a:lnTo>
                      <a:pt x="7" y="263"/>
                    </a:lnTo>
                    <a:lnTo>
                      <a:pt x="3" y="279"/>
                    </a:lnTo>
                    <a:lnTo>
                      <a:pt x="2" y="297"/>
                    </a:lnTo>
                    <a:lnTo>
                      <a:pt x="1" y="313"/>
                    </a:lnTo>
                    <a:lnTo>
                      <a:pt x="0" y="330"/>
                    </a:lnTo>
                    <a:lnTo>
                      <a:pt x="1" y="347"/>
                    </a:lnTo>
                    <a:lnTo>
                      <a:pt x="2" y="363"/>
                    </a:lnTo>
                    <a:lnTo>
                      <a:pt x="3" y="380"/>
                    </a:lnTo>
                    <a:lnTo>
                      <a:pt x="7" y="396"/>
                    </a:lnTo>
                    <a:lnTo>
                      <a:pt x="10" y="412"/>
                    </a:lnTo>
                    <a:lnTo>
                      <a:pt x="15" y="428"/>
                    </a:lnTo>
                    <a:lnTo>
                      <a:pt x="20" y="443"/>
                    </a:lnTo>
                    <a:lnTo>
                      <a:pt x="26" y="458"/>
                    </a:lnTo>
                    <a:lnTo>
                      <a:pt x="32" y="473"/>
                    </a:lnTo>
                    <a:lnTo>
                      <a:pt x="40" y="487"/>
                    </a:lnTo>
                    <a:lnTo>
                      <a:pt x="47" y="501"/>
                    </a:lnTo>
                    <a:lnTo>
                      <a:pt x="56" y="514"/>
                    </a:lnTo>
                    <a:lnTo>
                      <a:pt x="65" y="527"/>
                    </a:lnTo>
                    <a:lnTo>
                      <a:pt x="75" y="540"/>
                    </a:lnTo>
                    <a:lnTo>
                      <a:pt x="85" y="551"/>
                    </a:lnTo>
                    <a:lnTo>
                      <a:pt x="96" y="563"/>
                    </a:lnTo>
                    <a:lnTo>
                      <a:pt x="108" y="573"/>
                    </a:lnTo>
                    <a:lnTo>
                      <a:pt x="120" y="584"/>
                    </a:lnTo>
                    <a:lnTo>
                      <a:pt x="132" y="594"/>
                    </a:lnTo>
                    <a:lnTo>
                      <a:pt x="145" y="603"/>
                    </a:lnTo>
                    <a:lnTo>
                      <a:pt x="159" y="611"/>
                    </a:lnTo>
                    <a:lnTo>
                      <a:pt x="173" y="619"/>
                    </a:lnTo>
                    <a:lnTo>
                      <a:pt x="186" y="626"/>
                    </a:lnTo>
                    <a:lnTo>
                      <a:pt x="201" y="633"/>
                    </a:lnTo>
                    <a:lnTo>
                      <a:pt x="216" y="639"/>
                    </a:lnTo>
                    <a:lnTo>
                      <a:pt x="231" y="645"/>
                    </a:lnTo>
                    <a:lnTo>
                      <a:pt x="246" y="648"/>
                    </a:lnTo>
                    <a:lnTo>
                      <a:pt x="263" y="653"/>
                    </a:lnTo>
                    <a:lnTo>
                      <a:pt x="279" y="655"/>
                    </a:lnTo>
                    <a:lnTo>
                      <a:pt x="296" y="657"/>
                    </a:lnTo>
                    <a:lnTo>
                      <a:pt x="312" y="659"/>
                    </a:lnTo>
                    <a:lnTo>
                      <a:pt x="329" y="659"/>
                    </a:lnTo>
                    <a:lnTo>
                      <a:pt x="346" y="659"/>
                    </a:lnTo>
                    <a:lnTo>
                      <a:pt x="363" y="657"/>
                    </a:lnTo>
                    <a:lnTo>
                      <a:pt x="379" y="655"/>
                    </a:lnTo>
                    <a:lnTo>
                      <a:pt x="395" y="653"/>
                    </a:lnTo>
                    <a:lnTo>
                      <a:pt x="411" y="648"/>
                    </a:lnTo>
                    <a:lnTo>
                      <a:pt x="427" y="645"/>
                    </a:lnTo>
                    <a:lnTo>
                      <a:pt x="442" y="639"/>
                    </a:lnTo>
                    <a:lnTo>
                      <a:pt x="457" y="633"/>
                    </a:lnTo>
                    <a:lnTo>
                      <a:pt x="472" y="626"/>
                    </a:lnTo>
                    <a:lnTo>
                      <a:pt x="486" y="619"/>
                    </a:lnTo>
                    <a:lnTo>
                      <a:pt x="500" y="611"/>
                    </a:lnTo>
                    <a:lnTo>
                      <a:pt x="513" y="603"/>
                    </a:lnTo>
                    <a:lnTo>
                      <a:pt x="526" y="594"/>
                    </a:lnTo>
                    <a:lnTo>
                      <a:pt x="538" y="584"/>
                    </a:lnTo>
                    <a:lnTo>
                      <a:pt x="551" y="573"/>
                    </a:lnTo>
                    <a:lnTo>
                      <a:pt x="562" y="563"/>
                    </a:lnTo>
                    <a:lnTo>
                      <a:pt x="573" y="551"/>
                    </a:lnTo>
                    <a:lnTo>
                      <a:pt x="583" y="540"/>
                    </a:lnTo>
                    <a:lnTo>
                      <a:pt x="592" y="527"/>
                    </a:lnTo>
                    <a:lnTo>
                      <a:pt x="603" y="514"/>
                    </a:lnTo>
                    <a:lnTo>
                      <a:pt x="611" y="501"/>
                    </a:lnTo>
                    <a:lnTo>
                      <a:pt x="619" y="487"/>
                    </a:lnTo>
                    <a:lnTo>
                      <a:pt x="626" y="473"/>
                    </a:lnTo>
                    <a:lnTo>
                      <a:pt x="633" y="458"/>
                    </a:lnTo>
                    <a:lnTo>
                      <a:pt x="639" y="443"/>
                    </a:lnTo>
                    <a:lnTo>
                      <a:pt x="643" y="428"/>
                    </a:lnTo>
                    <a:lnTo>
                      <a:pt x="648" y="412"/>
                    </a:lnTo>
                    <a:lnTo>
                      <a:pt x="652" y="396"/>
                    </a:lnTo>
                    <a:lnTo>
                      <a:pt x="655" y="380"/>
                    </a:lnTo>
                    <a:lnTo>
                      <a:pt x="657" y="363"/>
                    </a:lnTo>
                    <a:lnTo>
                      <a:pt x="658" y="347"/>
                    </a:lnTo>
                    <a:lnTo>
                      <a:pt x="658" y="330"/>
                    </a:lnTo>
                    <a:close/>
                    <a:moveTo>
                      <a:pt x="636" y="330"/>
                    </a:moveTo>
                    <a:lnTo>
                      <a:pt x="635" y="346"/>
                    </a:lnTo>
                    <a:lnTo>
                      <a:pt x="634" y="361"/>
                    </a:lnTo>
                    <a:lnTo>
                      <a:pt x="632" y="376"/>
                    </a:lnTo>
                    <a:lnTo>
                      <a:pt x="629" y="391"/>
                    </a:lnTo>
                    <a:lnTo>
                      <a:pt x="626" y="406"/>
                    </a:lnTo>
                    <a:lnTo>
                      <a:pt x="622" y="421"/>
                    </a:lnTo>
                    <a:lnTo>
                      <a:pt x="617" y="435"/>
                    </a:lnTo>
                    <a:lnTo>
                      <a:pt x="612" y="449"/>
                    </a:lnTo>
                    <a:lnTo>
                      <a:pt x="605" y="463"/>
                    </a:lnTo>
                    <a:lnTo>
                      <a:pt x="598" y="476"/>
                    </a:lnTo>
                    <a:lnTo>
                      <a:pt x="591" y="489"/>
                    </a:lnTo>
                    <a:lnTo>
                      <a:pt x="583" y="501"/>
                    </a:lnTo>
                    <a:lnTo>
                      <a:pt x="575" y="513"/>
                    </a:lnTo>
                    <a:lnTo>
                      <a:pt x="566" y="525"/>
                    </a:lnTo>
                    <a:lnTo>
                      <a:pt x="556" y="536"/>
                    </a:lnTo>
                    <a:lnTo>
                      <a:pt x="546" y="547"/>
                    </a:lnTo>
                    <a:lnTo>
                      <a:pt x="535" y="557"/>
                    </a:lnTo>
                    <a:lnTo>
                      <a:pt x="524" y="566"/>
                    </a:lnTo>
                    <a:lnTo>
                      <a:pt x="513" y="576"/>
                    </a:lnTo>
                    <a:lnTo>
                      <a:pt x="500" y="584"/>
                    </a:lnTo>
                    <a:lnTo>
                      <a:pt x="489" y="592"/>
                    </a:lnTo>
                    <a:lnTo>
                      <a:pt x="475" y="600"/>
                    </a:lnTo>
                    <a:lnTo>
                      <a:pt x="462" y="607"/>
                    </a:lnTo>
                    <a:lnTo>
                      <a:pt x="448" y="612"/>
                    </a:lnTo>
                    <a:lnTo>
                      <a:pt x="434" y="618"/>
                    </a:lnTo>
                    <a:lnTo>
                      <a:pt x="421" y="623"/>
                    </a:lnTo>
                    <a:lnTo>
                      <a:pt x="406" y="626"/>
                    </a:lnTo>
                    <a:lnTo>
                      <a:pt x="391" y="630"/>
                    </a:lnTo>
                    <a:lnTo>
                      <a:pt x="376" y="633"/>
                    </a:lnTo>
                    <a:lnTo>
                      <a:pt x="361" y="634"/>
                    </a:lnTo>
                    <a:lnTo>
                      <a:pt x="344" y="635"/>
                    </a:lnTo>
                    <a:lnTo>
                      <a:pt x="329" y="637"/>
                    </a:lnTo>
                    <a:lnTo>
                      <a:pt x="313" y="635"/>
                    </a:lnTo>
                    <a:lnTo>
                      <a:pt x="298" y="634"/>
                    </a:lnTo>
                    <a:lnTo>
                      <a:pt x="282" y="633"/>
                    </a:lnTo>
                    <a:lnTo>
                      <a:pt x="267" y="630"/>
                    </a:lnTo>
                    <a:lnTo>
                      <a:pt x="252" y="626"/>
                    </a:lnTo>
                    <a:lnTo>
                      <a:pt x="238" y="623"/>
                    </a:lnTo>
                    <a:lnTo>
                      <a:pt x="223" y="618"/>
                    </a:lnTo>
                    <a:lnTo>
                      <a:pt x="210" y="612"/>
                    </a:lnTo>
                    <a:lnTo>
                      <a:pt x="196" y="607"/>
                    </a:lnTo>
                    <a:lnTo>
                      <a:pt x="183" y="600"/>
                    </a:lnTo>
                    <a:lnTo>
                      <a:pt x="170" y="592"/>
                    </a:lnTo>
                    <a:lnTo>
                      <a:pt x="158" y="584"/>
                    </a:lnTo>
                    <a:lnTo>
                      <a:pt x="146" y="576"/>
                    </a:lnTo>
                    <a:lnTo>
                      <a:pt x="135" y="566"/>
                    </a:lnTo>
                    <a:lnTo>
                      <a:pt x="123" y="557"/>
                    </a:lnTo>
                    <a:lnTo>
                      <a:pt x="113" y="547"/>
                    </a:lnTo>
                    <a:lnTo>
                      <a:pt x="102" y="536"/>
                    </a:lnTo>
                    <a:lnTo>
                      <a:pt x="93" y="525"/>
                    </a:lnTo>
                    <a:lnTo>
                      <a:pt x="84" y="513"/>
                    </a:lnTo>
                    <a:lnTo>
                      <a:pt x="75" y="501"/>
                    </a:lnTo>
                    <a:lnTo>
                      <a:pt x="66" y="489"/>
                    </a:lnTo>
                    <a:lnTo>
                      <a:pt x="60" y="476"/>
                    </a:lnTo>
                    <a:lnTo>
                      <a:pt x="53" y="463"/>
                    </a:lnTo>
                    <a:lnTo>
                      <a:pt x="47" y="449"/>
                    </a:lnTo>
                    <a:lnTo>
                      <a:pt x="41" y="435"/>
                    </a:lnTo>
                    <a:lnTo>
                      <a:pt x="36" y="421"/>
                    </a:lnTo>
                    <a:lnTo>
                      <a:pt x="32" y="406"/>
                    </a:lnTo>
                    <a:lnTo>
                      <a:pt x="28" y="391"/>
                    </a:lnTo>
                    <a:lnTo>
                      <a:pt x="26" y="376"/>
                    </a:lnTo>
                    <a:lnTo>
                      <a:pt x="24" y="361"/>
                    </a:lnTo>
                    <a:lnTo>
                      <a:pt x="23" y="346"/>
                    </a:lnTo>
                    <a:lnTo>
                      <a:pt x="23" y="330"/>
                    </a:lnTo>
                    <a:lnTo>
                      <a:pt x="23" y="314"/>
                    </a:lnTo>
                    <a:lnTo>
                      <a:pt x="24" y="299"/>
                    </a:lnTo>
                    <a:lnTo>
                      <a:pt x="26" y="283"/>
                    </a:lnTo>
                    <a:lnTo>
                      <a:pt x="28" y="268"/>
                    </a:lnTo>
                    <a:lnTo>
                      <a:pt x="32" y="253"/>
                    </a:lnTo>
                    <a:lnTo>
                      <a:pt x="36" y="239"/>
                    </a:lnTo>
                    <a:lnTo>
                      <a:pt x="41" y="225"/>
                    </a:lnTo>
                    <a:lnTo>
                      <a:pt x="47" y="210"/>
                    </a:lnTo>
                    <a:lnTo>
                      <a:pt x="53" y="197"/>
                    </a:lnTo>
                    <a:lnTo>
                      <a:pt x="60" y="184"/>
                    </a:lnTo>
                    <a:lnTo>
                      <a:pt x="66" y="171"/>
                    </a:lnTo>
                    <a:lnTo>
                      <a:pt x="75" y="158"/>
                    </a:lnTo>
                    <a:lnTo>
                      <a:pt x="84" y="147"/>
                    </a:lnTo>
                    <a:lnTo>
                      <a:pt x="93" y="135"/>
                    </a:lnTo>
                    <a:lnTo>
                      <a:pt x="102" y="124"/>
                    </a:lnTo>
                    <a:lnTo>
                      <a:pt x="113" y="113"/>
                    </a:lnTo>
                    <a:lnTo>
                      <a:pt x="123" y="103"/>
                    </a:lnTo>
                    <a:lnTo>
                      <a:pt x="135" y="94"/>
                    </a:lnTo>
                    <a:lnTo>
                      <a:pt x="146" y="84"/>
                    </a:lnTo>
                    <a:lnTo>
                      <a:pt x="158" y="75"/>
                    </a:lnTo>
                    <a:lnTo>
                      <a:pt x="170" y="68"/>
                    </a:lnTo>
                    <a:lnTo>
                      <a:pt x="183" y="60"/>
                    </a:lnTo>
                    <a:lnTo>
                      <a:pt x="196" y="53"/>
                    </a:lnTo>
                    <a:lnTo>
                      <a:pt x="210" y="48"/>
                    </a:lnTo>
                    <a:lnTo>
                      <a:pt x="223" y="42"/>
                    </a:lnTo>
                    <a:lnTo>
                      <a:pt x="238" y="37"/>
                    </a:lnTo>
                    <a:lnTo>
                      <a:pt x="252" y="33"/>
                    </a:lnTo>
                    <a:lnTo>
                      <a:pt x="267" y="29"/>
                    </a:lnTo>
                    <a:lnTo>
                      <a:pt x="282" y="27"/>
                    </a:lnTo>
                    <a:lnTo>
                      <a:pt x="298" y="25"/>
                    </a:lnTo>
                    <a:lnTo>
                      <a:pt x="313" y="23"/>
                    </a:lnTo>
                    <a:lnTo>
                      <a:pt x="329" y="23"/>
                    </a:lnTo>
                    <a:lnTo>
                      <a:pt x="344" y="23"/>
                    </a:lnTo>
                    <a:lnTo>
                      <a:pt x="361" y="25"/>
                    </a:lnTo>
                    <a:lnTo>
                      <a:pt x="376" y="27"/>
                    </a:lnTo>
                    <a:lnTo>
                      <a:pt x="391" y="29"/>
                    </a:lnTo>
                    <a:lnTo>
                      <a:pt x="406" y="33"/>
                    </a:lnTo>
                    <a:lnTo>
                      <a:pt x="421" y="37"/>
                    </a:lnTo>
                    <a:lnTo>
                      <a:pt x="434" y="42"/>
                    </a:lnTo>
                    <a:lnTo>
                      <a:pt x="448" y="48"/>
                    </a:lnTo>
                    <a:lnTo>
                      <a:pt x="462" y="53"/>
                    </a:lnTo>
                    <a:lnTo>
                      <a:pt x="475" y="60"/>
                    </a:lnTo>
                    <a:lnTo>
                      <a:pt x="489" y="68"/>
                    </a:lnTo>
                    <a:lnTo>
                      <a:pt x="500" y="75"/>
                    </a:lnTo>
                    <a:lnTo>
                      <a:pt x="513" y="84"/>
                    </a:lnTo>
                    <a:lnTo>
                      <a:pt x="524" y="94"/>
                    </a:lnTo>
                    <a:lnTo>
                      <a:pt x="535" y="103"/>
                    </a:lnTo>
                    <a:lnTo>
                      <a:pt x="546" y="113"/>
                    </a:lnTo>
                    <a:lnTo>
                      <a:pt x="556" y="124"/>
                    </a:lnTo>
                    <a:lnTo>
                      <a:pt x="566" y="135"/>
                    </a:lnTo>
                    <a:lnTo>
                      <a:pt x="575" y="147"/>
                    </a:lnTo>
                    <a:lnTo>
                      <a:pt x="583" y="158"/>
                    </a:lnTo>
                    <a:lnTo>
                      <a:pt x="591" y="171"/>
                    </a:lnTo>
                    <a:lnTo>
                      <a:pt x="598" y="184"/>
                    </a:lnTo>
                    <a:lnTo>
                      <a:pt x="605" y="197"/>
                    </a:lnTo>
                    <a:lnTo>
                      <a:pt x="612" y="210"/>
                    </a:lnTo>
                    <a:lnTo>
                      <a:pt x="617" y="225"/>
                    </a:lnTo>
                    <a:lnTo>
                      <a:pt x="622" y="239"/>
                    </a:lnTo>
                    <a:lnTo>
                      <a:pt x="626" y="253"/>
                    </a:lnTo>
                    <a:lnTo>
                      <a:pt x="629" y="268"/>
                    </a:lnTo>
                    <a:lnTo>
                      <a:pt x="632" y="283"/>
                    </a:lnTo>
                    <a:lnTo>
                      <a:pt x="634" y="299"/>
                    </a:lnTo>
                    <a:lnTo>
                      <a:pt x="635" y="314"/>
                    </a:lnTo>
                    <a:lnTo>
                      <a:pt x="636" y="330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8840" y="38545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637" h="635">
                    <a:moveTo>
                      <a:pt x="637" y="318"/>
                    </a:moveTo>
                    <a:lnTo>
                      <a:pt x="636" y="302"/>
                    </a:lnTo>
                    <a:lnTo>
                      <a:pt x="634" y="286"/>
                    </a:lnTo>
                    <a:lnTo>
                      <a:pt x="632" y="270"/>
                    </a:lnTo>
                    <a:lnTo>
                      <a:pt x="630" y="253"/>
                    </a:lnTo>
                    <a:lnTo>
                      <a:pt x="626" y="238"/>
                    </a:lnTo>
                    <a:lnTo>
                      <a:pt x="622" y="223"/>
                    </a:lnTo>
                    <a:lnTo>
                      <a:pt x="617" y="208"/>
                    </a:lnTo>
                    <a:lnTo>
                      <a:pt x="611" y="195"/>
                    </a:lnTo>
                    <a:lnTo>
                      <a:pt x="605" y="180"/>
                    </a:lnTo>
                    <a:lnTo>
                      <a:pt x="598" y="166"/>
                    </a:lnTo>
                    <a:lnTo>
                      <a:pt x="591" y="153"/>
                    </a:lnTo>
                    <a:lnTo>
                      <a:pt x="581" y="140"/>
                    </a:lnTo>
                    <a:lnTo>
                      <a:pt x="573" y="128"/>
                    </a:lnTo>
                    <a:lnTo>
                      <a:pt x="563" y="116"/>
                    </a:lnTo>
                    <a:lnTo>
                      <a:pt x="554" y="105"/>
                    </a:lnTo>
                    <a:lnTo>
                      <a:pt x="543" y="93"/>
                    </a:lnTo>
                    <a:lnTo>
                      <a:pt x="532" y="83"/>
                    </a:lnTo>
                    <a:lnTo>
                      <a:pt x="520" y="72"/>
                    </a:lnTo>
                    <a:lnTo>
                      <a:pt x="509" y="63"/>
                    </a:lnTo>
                    <a:lnTo>
                      <a:pt x="496" y="54"/>
                    </a:lnTo>
                    <a:lnTo>
                      <a:pt x="483" y="46"/>
                    </a:lnTo>
                    <a:lnTo>
                      <a:pt x="470" y="38"/>
                    </a:lnTo>
                    <a:lnTo>
                      <a:pt x="456" y="31"/>
                    </a:lnTo>
                    <a:lnTo>
                      <a:pt x="442" y="25"/>
                    </a:lnTo>
                    <a:lnTo>
                      <a:pt x="428" y="19"/>
                    </a:lnTo>
                    <a:lnTo>
                      <a:pt x="413" y="15"/>
                    </a:lnTo>
                    <a:lnTo>
                      <a:pt x="398" y="10"/>
                    </a:lnTo>
                    <a:lnTo>
                      <a:pt x="382" y="7"/>
                    </a:lnTo>
                    <a:lnTo>
                      <a:pt x="367" y="3"/>
                    </a:lnTo>
                    <a:lnTo>
                      <a:pt x="351" y="2"/>
                    </a:lnTo>
                    <a:lnTo>
                      <a:pt x="335" y="0"/>
                    </a:lnTo>
                    <a:lnTo>
                      <a:pt x="318" y="0"/>
                    </a:lnTo>
                    <a:lnTo>
                      <a:pt x="302" y="0"/>
                    </a:lnTo>
                    <a:lnTo>
                      <a:pt x="286" y="2"/>
                    </a:lnTo>
                    <a:lnTo>
                      <a:pt x="270" y="3"/>
                    </a:lnTo>
                    <a:lnTo>
                      <a:pt x="254" y="7"/>
                    </a:lnTo>
                    <a:lnTo>
                      <a:pt x="239" y="10"/>
                    </a:lnTo>
                    <a:lnTo>
                      <a:pt x="224" y="15"/>
                    </a:lnTo>
                    <a:lnTo>
                      <a:pt x="209" y="19"/>
                    </a:lnTo>
                    <a:lnTo>
                      <a:pt x="194" y="25"/>
                    </a:lnTo>
                    <a:lnTo>
                      <a:pt x="180" y="31"/>
                    </a:lnTo>
                    <a:lnTo>
                      <a:pt x="166" y="38"/>
                    </a:lnTo>
                    <a:lnTo>
                      <a:pt x="154" y="46"/>
                    </a:lnTo>
                    <a:lnTo>
                      <a:pt x="141" y="54"/>
                    </a:lnTo>
                    <a:lnTo>
                      <a:pt x="128" y="63"/>
                    </a:lnTo>
                    <a:lnTo>
                      <a:pt x="115" y="72"/>
                    </a:lnTo>
                    <a:lnTo>
                      <a:pt x="104" y="83"/>
                    </a:lnTo>
                    <a:lnTo>
                      <a:pt x="94" y="93"/>
                    </a:lnTo>
                    <a:lnTo>
                      <a:pt x="83" y="105"/>
                    </a:lnTo>
                    <a:lnTo>
                      <a:pt x="73" y="116"/>
                    </a:lnTo>
                    <a:lnTo>
                      <a:pt x="64" y="128"/>
                    </a:lnTo>
                    <a:lnTo>
                      <a:pt x="54" y="140"/>
                    </a:lnTo>
                    <a:lnTo>
                      <a:pt x="46" y="153"/>
                    </a:lnTo>
                    <a:lnTo>
                      <a:pt x="38" y="166"/>
                    </a:lnTo>
                    <a:lnTo>
                      <a:pt x="31" y="180"/>
                    </a:lnTo>
                    <a:lnTo>
                      <a:pt x="25" y="195"/>
                    </a:lnTo>
                    <a:lnTo>
                      <a:pt x="20" y="208"/>
                    </a:lnTo>
                    <a:lnTo>
                      <a:pt x="14" y="223"/>
                    </a:lnTo>
                    <a:lnTo>
                      <a:pt x="10" y="238"/>
                    </a:lnTo>
                    <a:lnTo>
                      <a:pt x="7" y="253"/>
                    </a:lnTo>
                    <a:lnTo>
                      <a:pt x="4" y="270"/>
                    </a:lnTo>
                    <a:lnTo>
                      <a:pt x="1" y="286"/>
                    </a:lnTo>
                    <a:lnTo>
                      <a:pt x="0" y="302"/>
                    </a:lnTo>
                    <a:lnTo>
                      <a:pt x="0" y="318"/>
                    </a:lnTo>
                    <a:lnTo>
                      <a:pt x="0" y="334"/>
                    </a:lnTo>
                    <a:lnTo>
                      <a:pt x="1" y="350"/>
                    </a:lnTo>
                    <a:lnTo>
                      <a:pt x="4" y="366"/>
                    </a:lnTo>
                    <a:lnTo>
                      <a:pt x="7" y="381"/>
                    </a:lnTo>
                    <a:lnTo>
                      <a:pt x="10" y="398"/>
                    </a:lnTo>
                    <a:lnTo>
                      <a:pt x="14" y="413"/>
                    </a:lnTo>
                    <a:lnTo>
                      <a:pt x="20" y="428"/>
                    </a:lnTo>
                    <a:lnTo>
                      <a:pt x="25" y="441"/>
                    </a:lnTo>
                    <a:lnTo>
                      <a:pt x="31" y="455"/>
                    </a:lnTo>
                    <a:lnTo>
                      <a:pt x="38" y="469"/>
                    </a:lnTo>
                    <a:lnTo>
                      <a:pt x="46" y="483"/>
                    </a:lnTo>
                    <a:lnTo>
                      <a:pt x="54" y="496"/>
                    </a:lnTo>
                    <a:lnTo>
                      <a:pt x="64" y="508"/>
                    </a:lnTo>
                    <a:lnTo>
                      <a:pt x="73" y="520"/>
                    </a:lnTo>
                    <a:lnTo>
                      <a:pt x="83" y="531"/>
                    </a:lnTo>
                    <a:lnTo>
                      <a:pt x="94" y="543"/>
                    </a:lnTo>
                    <a:lnTo>
                      <a:pt x="104" y="553"/>
                    </a:lnTo>
                    <a:lnTo>
                      <a:pt x="115" y="564"/>
                    </a:lnTo>
                    <a:lnTo>
                      <a:pt x="128" y="573"/>
                    </a:lnTo>
                    <a:lnTo>
                      <a:pt x="141" y="581"/>
                    </a:lnTo>
                    <a:lnTo>
                      <a:pt x="154" y="590"/>
                    </a:lnTo>
                    <a:lnTo>
                      <a:pt x="166" y="597"/>
                    </a:lnTo>
                    <a:lnTo>
                      <a:pt x="180" y="604"/>
                    </a:lnTo>
                    <a:lnTo>
                      <a:pt x="194" y="611"/>
                    </a:lnTo>
                    <a:lnTo>
                      <a:pt x="209" y="617"/>
                    </a:lnTo>
                    <a:lnTo>
                      <a:pt x="224" y="621"/>
                    </a:lnTo>
                    <a:lnTo>
                      <a:pt x="239" y="626"/>
                    </a:lnTo>
                    <a:lnTo>
                      <a:pt x="254" y="629"/>
                    </a:lnTo>
                    <a:lnTo>
                      <a:pt x="270" y="632"/>
                    </a:lnTo>
                    <a:lnTo>
                      <a:pt x="286" y="634"/>
                    </a:lnTo>
                    <a:lnTo>
                      <a:pt x="302" y="635"/>
                    </a:lnTo>
                    <a:lnTo>
                      <a:pt x="318" y="635"/>
                    </a:lnTo>
                    <a:lnTo>
                      <a:pt x="335" y="635"/>
                    </a:lnTo>
                    <a:lnTo>
                      <a:pt x="351" y="634"/>
                    </a:lnTo>
                    <a:lnTo>
                      <a:pt x="367" y="632"/>
                    </a:lnTo>
                    <a:lnTo>
                      <a:pt x="382" y="629"/>
                    </a:lnTo>
                    <a:lnTo>
                      <a:pt x="398" y="626"/>
                    </a:lnTo>
                    <a:lnTo>
                      <a:pt x="413" y="621"/>
                    </a:lnTo>
                    <a:lnTo>
                      <a:pt x="428" y="617"/>
                    </a:lnTo>
                    <a:lnTo>
                      <a:pt x="442" y="611"/>
                    </a:lnTo>
                    <a:lnTo>
                      <a:pt x="456" y="604"/>
                    </a:lnTo>
                    <a:lnTo>
                      <a:pt x="470" y="597"/>
                    </a:lnTo>
                    <a:lnTo>
                      <a:pt x="483" y="590"/>
                    </a:lnTo>
                    <a:lnTo>
                      <a:pt x="496" y="581"/>
                    </a:lnTo>
                    <a:lnTo>
                      <a:pt x="509" y="573"/>
                    </a:lnTo>
                    <a:lnTo>
                      <a:pt x="520" y="564"/>
                    </a:lnTo>
                    <a:lnTo>
                      <a:pt x="532" y="553"/>
                    </a:lnTo>
                    <a:lnTo>
                      <a:pt x="543" y="543"/>
                    </a:lnTo>
                    <a:lnTo>
                      <a:pt x="554" y="531"/>
                    </a:lnTo>
                    <a:lnTo>
                      <a:pt x="563" y="520"/>
                    </a:lnTo>
                    <a:lnTo>
                      <a:pt x="573" y="508"/>
                    </a:lnTo>
                    <a:lnTo>
                      <a:pt x="581" y="496"/>
                    </a:lnTo>
                    <a:lnTo>
                      <a:pt x="591" y="483"/>
                    </a:lnTo>
                    <a:lnTo>
                      <a:pt x="598" y="469"/>
                    </a:lnTo>
                    <a:lnTo>
                      <a:pt x="605" y="455"/>
                    </a:lnTo>
                    <a:lnTo>
                      <a:pt x="611" y="441"/>
                    </a:lnTo>
                    <a:lnTo>
                      <a:pt x="617" y="428"/>
                    </a:lnTo>
                    <a:lnTo>
                      <a:pt x="622" y="413"/>
                    </a:lnTo>
                    <a:lnTo>
                      <a:pt x="626" y="398"/>
                    </a:lnTo>
                    <a:lnTo>
                      <a:pt x="630" y="381"/>
                    </a:lnTo>
                    <a:lnTo>
                      <a:pt x="632" y="366"/>
                    </a:lnTo>
                    <a:lnTo>
                      <a:pt x="634" y="350"/>
                    </a:lnTo>
                    <a:lnTo>
                      <a:pt x="636" y="334"/>
                    </a:lnTo>
                    <a:lnTo>
                      <a:pt x="637" y="318"/>
                    </a:lnTo>
                    <a:close/>
                    <a:moveTo>
                      <a:pt x="614" y="318"/>
                    </a:moveTo>
                    <a:lnTo>
                      <a:pt x="613" y="333"/>
                    </a:lnTo>
                    <a:lnTo>
                      <a:pt x="611" y="348"/>
                    </a:lnTo>
                    <a:lnTo>
                      <a:pt x="610" y="363"/>
                    </a:lnTo>
                    <a:lnTo>
                      <a:pt x="608" y="377"/>
                    </a:lnTo>
                    <a:lnTo>
                      <a:pt x="605" y="392"/>
                    </a:lnTo>
                    <a:lnTo>
                      <a:pt x="600" y="406"/>
                    </a:lnTo>
                    <a:lnTo>
                      <a:pt x="595" y="419"/>
                    </a:lnTo>
                    <a:lnTo>
                      <a:pt x="591" y="432"/>
                    </a:lnTo>
                    <a:lnTo>
                      <a:pt x="584" y="446"/>
                    </a:lnTo>
                    <a:lnTo>
                      <a:pt x="578" y="459"/>
                    </a:lnTo>
                    <a:lnTo>
                      <a:pt x="571" y="471"/>
                    </a:lnTo>
                    <a:lnTo>
                      <a:pt x="563" y="483"/>
                    </a:lnTo>
                    <a:lnTo>
                      <a:pt x="555" y="494"/>
                    </a:lnTo>
                    <a:lnTo>
                      <a:pt x="546" y="506"/>
                    </a:lnTo>
                    <a:lnTo>
                      <a:pt x="536" y="516"/>
                    </a:lnTo>
                    <a:lnTo>
                      <a:pt x="527" y="527"/>
                    </a:lnTo>
                    <a:lnTo>
                      <a:pt x="517" y="536"/>
                    </a:lnTo>
                    <a:lnTo>
                      <a:pt x="506" y="545"/>
                    </a:lnTo>
                    <a:lnTo>
                      <a:pt x="495" y="554"/>
                    </a:lnTo>
                    <a:lnTo>
                      <a:pt x="483" y="562"/>
                    </a:lnTo>
                    <a:lnTo>
                      <a:pt x="471" y="570"/>
                    </a:lnTo>
                    <a:lnTo>
                      <a:pt x="459" y="577"/>
                    </a:lnTo>
                    <a:lnTo>
                      <a:pt x="446" y="584"/>
                    </a:lnTo>
                    <a:lnTo>
                      <a:pt x="433" y="590"/>
                    </a:lnTo>
                    <a:lnTo>
                      <a:pt x="420" y="595"/>
                    </a:lnTo>
                    <a:lnTo>
                      <a:pt x="406" y="599"/>
                    </a:lnTo>
                    <a:lnTo>
                      <a:pt x="392" y="604"/>
                    </a:lnTo>
                    <a:lnTo>
                      <a:pt x="377" y="607"/>
                    </a:lnTo>
                    <a:lnTo>
                      <a:pt x="363" y="610"/>
                    </a:lnTo>
                    <a:lnTo>
                      <a:pt x="348" y="612"/>
                    </a:lnTo>
                    <a:lnTo>
                      <a:pt x="333" y="612"/>
                    </a:lnTo>
                    <a:lnTo>
                      <a:pt x="318" y="613"/>
                    </a:lnTo>
                    <a:lnTo>
                      <a:pt x="303" y="612"/>
                    </a:lnTo>
                    <a:lnTo>
                      <a:pt x="288" y="612"/>
                    </a:lnTo>
                    <a:lnTo>
                      <a:pt x="273" y="610"/>
                    </a:lnTo>
                    <a:lnTo>
                      <a:pt x="258" y="607"/>
                    </a:lnTo>
                    <a:lnTo>
                      <a:pt x="245" y="604"/>
                    </a:lnTo>
                    <a:lnTo>
                      <a:pt x="231" y="599"/>
                    </a:lnTo>
                    <a:lnTo>
                      <a:pt x="217" y="595"/>
                    </a:lnTo>
                    <a:lnTo>
                      <a:pt x="203" y="590"/>
                    </a:lnTo>
                    <a:lnTo>
                      <a:pt x="190" y="584"/>
                    </a:lnTo>
                    <a:lnTo>
                      <a:pt x="178" y="577"/>
                    </a:lnTo>
                    <a:lnTo>
                      <a:pt x="165" y="570"/>
                    </a:lnTo>
                    <a:lnTo>
                      <a:pt x="154" y="562"/>
                    </a:lnTo>
                    <a:lnTo>
                      <a:pt x="142" y="554"/>
                    </a:lnTo>
                    <a:lnTo>
                      <a:pt x="130" y="545"/>
                    </a:lnTo>
                    <a:lnTo>
                      <a:pt x="120" y="536"/>
                    </a:lnTo>
                    <a:lnTo>
                      <a:pt x="110" y="527"/>
                    </a:lnTo>
                    <a:lnTo>
                      <a:pt x="99" y="516"/>
                    </a:lnTo>
                    <a:lnTo>
                      <a:pt x="90" y="506"/>
                    </a:lnTo>
                    <a:lnTo>
                      <a:pt x="82" y="494"/>
                    </a:lnTo>
                    <a:lnTo>
                      <a:pt x="73" y="483"/>
                    </a:lnTo>
                    <a:lnTo>
                      <a:pt x="66" y="471"/>
                    </a:lnTo>
                    <a:lnTo>
                      <a:pt x="59" y="459"/>
                    </a:lnTo>
                    <a:lnTo>
                      <a:pt x="52" y="446"/>
                    </a:lnTo>
                    <a:lnTo>
                      <a:pt x="46" y="432"/>
                    </a:lnTo>
                    <a:lnTo>
                      <a:pt x="40" y="419"/>
                    </a:lnTo>
                    <a:lnTo>
                      <a:pt x="36" y="406"/>
                    </a:lnTo>
                    <a:lnTo>
                      <a:pt x="32" y="392"/>
                    </a:lnTo>
                    <a:lnTo>
                      <a:pt x="29" y="377"/>
                    </a:lnTo>
                    <a:lnTo>
                      <a:pt x="27" y="363"/>
                    </a:lnTo>
                    <a:lnTo>
                      <a:pt x="24" y="348"/>
                    </a:lnTo>
                    <a:lnTo>
                      <a:pt x="23" y="333"/>
                    </a:lnTo>
                    <a:lnTo>
                      <a:pt x="23" y="318"/>
                    </a:lnTo>
                    <a:lnTo>
                      <a:pt x="23" y="303"/>
                    </a:lnTo>
                    <a:lnTo>
                      <a:pt x="24" y="288"/>
                    </a:lnTo>
                    <a:lnTo>
                      <a:pt x="27" y="273"/>
                    </a:lnTo>
                    <a:lnTo>
                      <a:pt x="29" y="258"/>
                    </a:lnTo>
                    <a:lnTo>
                      <a:pt x="32" y="244"/>
                    </a:lnTo>
                    <a:lnTo>
                      <a:pt x="36" y="230"/>
                    </a:lnTo>
                    <a:lnTo>
                      <a:pt x="40" y="217"/>
                    </a:lnTo>
                    <a:lnTo>
                      <a:pt x="46" y="203"/>
                    </a:lnTo>
                    <a:lnTo>
                      <a:pt x="52" y="190"/>
                    </a:lnTo>
                    <a:lnTo>
                      <a:pt x="59" y="177"/>
                    </a:lnTo>
                    <a:lnTo>
                      <a:pt x="66" y="165"/>
                    </a:lnTo>
                    <a:lnTo>
                      <a:pt x="73" y="153"/>
                    </a:lnTo>
                    <a:lnTo>
                      <a:pt x="82" y="142"/>
                    </a:lnTo>
                    <a:lnTo>
                      <a:pt x="90" y="130"/>
                    </a:lnTo>
                    <a:lnTo>
                      <a:pt x="99" y="120"/>
                    </a:lnTo>
                    <a:lnTo>
                      <a:pt x="110" y="109"/>
                    </a:lnTo>
                    <a:lnTo>
                      <a:pt x="120" y="99"/>
                    </a:lnTo>
                    <a:lnTo>
                      <a:pt x="130" y="90"/>
                    </a:lnTo>
                    <a:lnTo>
                      <a:pt x="142" y="82"/>
                    </a:lnTo>
                    <a:lnTo>
                      <a:pt x="154" y="74"/>
                    </a:lnTo>
                    <a:lnTo>
                      <a:pt x="165" y="66"/>
                    </a:lnTo>
                    <a:lnTo>
                      <a:pt x="178" y="59"/>
                    </a:lnTo>
                    <a:lnTo>
                      <a:pt x="190" y="52"/>
                    </a:lnTo>
                    <a:lnTo>
                      <a:pt x="203" y="46"/>
                    </a:lnTo>
                    <a:lnTo>
                      <a:pt x="217" y="40"/>
                    </a:lnTo>
                    <a:lnTo>
                      <a:pt x="231" y="36"/>
                    </a:lnTo>
                    <a:lnTo>
                      <a:pt x="245" y="32"/>
                    </a:lnTo>
                    <a:lnTo>
                      <a:pt x="258" y="29"/>
                    </a:lnTo>
                    <a:lnTo>
                      <a:pt x="273" y="26"/>
                    </a:lnTo>
                    <a:lnTo>
                      <a:pt x="288" y="24"/>
                    </a:lnTo>
                    <a:lnTo>
                      <a:pt x="303" y="23"/>
                    </a:lnTo>
                    <a:lnTo>
                      <a:pt x="318" y="23"/>
                    </a:lnTo>
                    <a:lnTo>
                      <a:pt x="333" y="23"/>
                    </a:lnTo>
                    <a:lnTo>
                      <a:pt x="348" y="24"/>
                    </a:lnTo>
                    <a:lnTo>
                      <a:pt x="363" y="26"/>
                    </a:lnTo>
                    <a:lnTo>
                      <a:pt x="377" y="29"/>
                    </a:lnTo>
                    <a:lnTo>
                      <a:pt x="392" y="32"/>
                    </a:lnTo>
                    <a:lnTo>
                      <a:pt x="406" y="36"/>
                    </a:lnTo>
                    <a:lnTo>
                      <a:pt x="420" y="40"/>
                    </a:lnTo>
                    <a:lnTo>
                      <a:pt x="433" y="46"/>
                    </a:lnTo>
                    <a:lnTo>
                      <a:pt x="446" y="52"/>
                    </a:lnTo>
                    <a:lnTo>
                      <a:pt x="459" y="59"/>
                    </a:lnTo>
                    <a:lnTo>
                      <a:pt x="471" y="66"/>
                    </a:lnTo>
                    <a:lnTo>
                      <a:pt x="483" y="74"/>
                    </a:lnTo>
                    <a:lnTo>
                      <a:pt x="495" y="82"/>
                    </a:lnTo>
                    <a:lnTo>
                      <a:pt x="506" y="90"/>
                    </a:lnTo>
                    <a:lnTo>
                      <a:pt x="517" y="99"/>
                    </a:lnTo>
                    <a:lnTo>
                      <a:pt x="527" y="109"/>
                    </a:lnTo>
                    <a:lnTo>
                      <a:pt x="536" y="120"/>
                    </a:lnTo>
                    <a:lnTo>
                      <a:pt x="546" y="130"/>
                    </a:lnTo>
                    <a:lnTo>
                      <a:pt x="555" y="142"/>
                    </a:lnTo>
                    <a:lnTo>
                      <a:pt x="563" y="153"/>
                    </a:lnTo>
                    <a:lnTo>
                      <a:pt x="571" y="165"/>
                    </a:lnTo>
                    <a:lnTo>
                      <a:pt x="578" y="177"/>
                    </a:lnTo>
                    <a:lnTo>
                      <a:pt x="584" y="190"/>
                    </a:lnTo>
                    <a:lnTo>
                      <a:pt x="591" y="203"/>
                    </a:lnTo>
                    <a:lnTo>
                      <a:pt x="595" y="217"/>
                    </a:lnTo>
                    <a:lnTo>
                      <a:pt x="600" y="230"/>
                    </a:lnTo>
                    <a:lnTo>
                      <a:pt x="605" y="244"/>
                    </a:lnTo>
                    <a:lnTo>
                      <a:pt x="608" y="258"/>
                    </a:lnTo>
                    <a:lnTo>
                      <a:pt x="610" y="273"/>
                    </a:lnTo>
                    <a:lnTo>
                      <a:pt x="611" y="288"/>
                    </a:lnTo>
                    <a:lnTo>
                      <a:pt x="613" y="303"/>
                    </a:lnTo>
                    <a:lnTo>
                      <a:pt x="614" y="318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110280" y="3857760"/>
                <a:ext cx="163440" cy="161640"/>
              </a:xfrm>
              <a:custGeom>
                <a:avLst/>
                <a:gdLst/>
                <a:ahLst/>
                <a:rect l="l" t="t" r="r" b="b"/>
                <a:pathLst>
                  <a:path w="613" h="614">
                    <a:moveTo>
                      <a:pt x="613" y="307"/>
                    </a:moveTo>
                    <a:lnTo>
                      <a:pt x="612" y="291"/>
                    </a:lnTo>
                    <a:lnTo>
                      <a:pt x="611" y="276"/>
                    </a:lnTo>
                    <a:lnTo>
                      <a:pt x="609" y="260"/>
                    </a:lnTo>
                    <a:lnTo>
                      <a:pt x="606" y="245"/>
                    </a:lnTo>
                    <a:lnTo>
                      <a:pt x="603" y="230"/>
                    </a:lnTo>
                    <a:lnTo>
                      <a:pt x="599" y="216"/>
                    </a:lnTo>
                    <a:lnTo>
                      <a:pt x="594" y="202"/>
                    </a:lnTo>
                    <a:lnTo>
                      <a:pt x="589" y="187"/>
                    </a:lnTo>
                    <a:lnTo>
                      <a:pt x="582" y="174"/>
                    </a:lnTo>
                    <a:lnTo>
                      <a:pt x="575" y="161"/>
                    </a:lnTo>
                    <a:lnTo>
                      <a:pt x="568" y="148"/>
                    </a:lnTo>
                    <a:lnTo>
                      <a:pt x="560" y="135"/>
                    </a:lnTo>
                    <a:lnTo>
                      <a:pt x="552" y="124"/>
                    </a:lnTo>
                    <a:lnTo>
                      <a:pt x="543" y="112"/>
                    </a:lnTo>
                    <a:lnTo>
                      <a:pt x="533" y="101"/>
                    </a:lnTo>
                    <a:lnTo>
                      <a:pt x="523" y="90"/>
                    </a:lnTo>
                    <a:lnTo>
                      <a:pt x="512" y="80"/>
                    </a:lnTo>
                    <a:lnTo>
                      <a:pt x="501" y="71"/>
                    </a:lnTo>
                    <a:lnTo>
                      <a:pt x="490" y="61"/>
                    </a:lnTo>
                    <a:lnTo>
                      <a:pt x="477" y="52"/>
                    </a:lnTo>
                    <a:lnTo>
                      <a:pt x="466" y="45"/>
                    </a:lnTo>
                    <a:lnTo>
                      <a:pt x="452" y="37"/>
                    </a:lnTo>
                    <a:lnTo>
                      <a:pt x="439" y="30"/>
                    </a:lnTo>
                    <a:lnTo>
                      <a:pt x="425" y="25"/>
                    </a:lnTo>
                    <a:lnTo>
                      <a:pt x="411" y="19"/>
                    </a:lnTo>
                    <a:lnTo>
                      <a:pt x="398" y="14"/>
                    </a:lnTo>
                    <a:lnTo>
                      <a:pt x="383" y="10"/>
                    </a:lnTo>
                    <a:lnTo>
                      <a:pt x="368" y="6"/>
                    </a:lnTo>
                    <a:lnTo>
                      <a:pt x="353" y="4"/>
                    </a:lnTo>
                    <a:lnTo>
                      <a:pt x="338" y="2"/>
                    </a:lnTo>
                    <a:lnTo>
                      <a:pt x="321" y="0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75" y="2"/>
                    </a:lnTo>
                    <a:lnTo>
                      <a:pt x="259" y="4"/>
                    </a:lnTo>
                    <a:lnTo>
                      <a:pt x="244" y="6"/>
                    </a:lnTo>
                    <a:lnTo>
                      <a:pt x="229" y="10"/>
                    </a:lnTo>
                    <a:lnTo>
                      <a:pt x="215" y="14"/>
                    </a:lnTo>
                    <a:lnTo>
                      <a:pt x="200" y="19"/>
                    </a:lnTo>
                    <a:lnTo>
                      <a:pt x="187" y="25"/>
                    </a:lnTo>
                    <a:lnTo>
                      <a:pt x="173" y="30"/>
                    </a:lnTo>
                    <a:lnTo>
                      <a:pt x="160" y="37"/>
                    </a:lnTo>
                    <a:lnTo>
                      <a:pt x="147" y="45"/>
                    </a:lnTo>
                    <a:lnTo>
                      <a:pt x="135" y="52"/>
                    </a:lnTo>
                    <a:lnTo>
                      <a:pt x="123" y="61"/>
                    </a:lnTo>
                    <a:lnTo>
                      <a:pt x="112" y="71"/>
                    </a:lnTo>
                    <a:lnTo>
                      <a:pt x="100" y="80"/>
                    </a:lnTo>
                    <a:lnTo>
                      <a:pt x="90" y="90"/>
                    </a:lnTo>
                    <a:lnTo>
                      <a:pt x="79" y="101"/>
                    </a:lnTo>
                    <a:lnTo>
                      <a:pt x="70" y="112"/>
                    </a:lnTo>
                    <a:lnTo>
                      <a:pt x="61" y="124"/>
                    </a:lnTo>
                    <a:lnTo>
                      <a:pt x="52" y="135"/>
                    </a:lnTo>
                    <a:lnTo>
                      <a:pt x="43" y="148"/>
                    </a:lnTo>
                    <a:lnTo>
                      <a:pt x="37" y="161"/>
                    </a:lnTo>
                    <a:lnTo>
                      <a:pt x="30" y="174"/>
                    </a:lnTo>
                    <a:lnTo>
                      <a:pt x="24" y="187"/>
                    </a:lnTo>
                    <a:lnTo>
                      <a:pt x="18" y="202"/>
                    </a:lnTo>
                    <a:lnTo>
                      <a:pt x="13" y="216"/>
                    </a:lnTo>
                    <a:lnTo>
                      <a:pt x="9" y="230"/>
                    </a:lnTo>
                    <a:lnTo>
                      <a:pt x="5" y="245"/>
                    </a:lnTo>
                    <a:lnTo>
                      <a:pt x="3" y="260"/>
                    </a:lnTo>
                    <a:lnTo>
                      <a:pt x="1" y="276"/>
                    </a:lnTo>
                    <a:lnTo>
                      <a:pt x="0" y="291"/>
                    </a:lnTo>
                    <a:lnTo>
                      <a:pt x="0" y="307"/>
                    </a:lnTo>
                    <a:lnTo>
                      <a:pt x="0" y="323"/>
                    </a:lnTo>
                    <a:lnTo>
                      <a:pt x="1" y="338"/>
                    </a:lnTo>
                    <a:lnTo>
                      <a:pt x="3" y="353"/>
                    </a:lnTo>
                    <a:lnTo>
                      <a:pt x="5" y="368"/>
                    </a:lnTo>
                    <a:lnTo>
                      <a:pt x="9" y="383"/>
                    </a:lnTo>
                    <a:lnTo>
                      <a:pt x="13" y="398"/>
                    </a:lnTo>
                    <a:lnTo>
                      <a:pt x="18" y="412"/>
                    </a:lnTo>
                    <a:lnTo>
                      <a:pt x="24" y="426"/>
                    </a:lnTo>
                    <a:lnTo>
                      <a:pt x="30" y="440"/>
                    </a:lnTo>
                    <a:lnTo>
                      <a:pt x="37" y="453"/>
                    </a:lnTo>
                    <a:lnTo>
                      <a:pt x="43" y="466"/>
                    </a:lnTo>
                    <a:lnTo>
                      <a:pt x="52" y="478"/>
                    </a:lnTo>
                    <a:lnTo>
                      <a:pt x="61" y="490"/>
                    </a:lnTo>
                    <a:lnTo>
                      <a:pt x="70" y="502"/>
                    </a:lnTo>
                    <a:lnTo>
                      <a:pt x="79" y="513"/>
                    </a:lnTo>
                    <a:lnTo>
                      <a:pt x="90" y="524"/>
                    </a:lnTo>
                    <a:lnTo>
                      <a:pt x="100" y="534"/>
                    </a:lnTo>
                    <a:lnTo>
                      <a:pt x="112" y="543"/>
                    </a:lnTo>
                    <a:lnTo>
                      <a:pt x="123" y="553"/>
                    </a:lnTo>
                    <a:lnTo>
                      <a:pt x="135" y="561"/>
                    </a:lnTo>
                    <a:lnTo>
                      <a:pt x="147" y="569"/>
                    </a:lnTo>
                    <a:lnTo>
                      <a:pt x="160" y="577"/>
                    </a:lnTo>
                    <a:lnTo>
                      <a:pt x="173" y="584"/>
                    </a:lnTo>
                    <a:lnTo>
                      <a:pt x="187" y="589"/>
                    </a:lnTo>
                    <a:lnTo>
                      <a:pt x="200" y="595"/>
                    </a:lnTo>
                    <a:lnTo>
                      <a:pt x="215" y="600"/>
                    </a:lnTo>
                    <a:lnTo>
                      <a:pt x="229" y="603"/>
                    </a:lnTo>
                    <a:lnTo>
                      <a:pt x="244" y="607"/>
                    </a:lnTo>
                    <a:lnTo>
                      <a:pt x="259" y="610"/>
                    </a:lnTo>
                    <a:lnTo>
                      <a:pt x="275" y="611"/>
                    </a:lnTo>
                    <a:lnTo>
                      <a:pt x="290" y="612"/>
                    </a:lnTo>
                    <a:lnTo>
                      <a:pt x="306" y="614"/>
                    </a:lnTo>
                    <a:lnTo>
                      <a:pt x="321" y="612"/>
                    </a:lnTo>
                    <a:lnTo>
                      <a:pt x="338" y="611"/>
                    </a:lnTo>
                    <a:lnTo>
                      <a:pt x="353" y="610"/>
                    </a:lnTo>
                    <a:lnTo>
                      <a:pt x="368" y="607"/>
                    </a:lnTo>
                    <a:lnTo>
                      <a:pt x="383" y="603"/>
                    </a:lnTo>
                    <a:lnTo>
                      <a:pt x="398" y="600"/>
                    </a:lnTo>
                    <a:lnTo>
                      <a:pt x="411" y="595"/>
                    </a:lnTo>
                    <a:lnTo>
                      <a:pt x="425" y="589"/>
                    </a:lnTo>
                    <a:lnTo>
                      <a:pt x="439" y="584"/>
                    </a:lnTo>
                    <a:lnTo>
                      <a:pt x="452" y="577"/>
                    </a:lnTo>
                    <a:lnTo>
                      <a:pt x="466" y="569"/>
                    </a:lnTo>
                    <a:lnTo>
                      <a:pt x="477" y="561"/>
                    </a:lnTo>
                    <a:lnTo>
                      <a:pt x="490" y="553"/>
                    </a:lnTo>
                    <a:lnTo>
                      <a:pt x="501" y="543"/>
                    </a:lnTo>
                    <a:lnTo>
                      <a:pt x="512" y="534"/>
                    </a:lnTo>
                    <a:lnTo>
                      <a:pt x="523" y="524"/>
                    </a:lnTo>
                    <a:lnTo>
                      <a:pt x="533" y="513"/>
                    </a:lnTo>
                    <a:lnTo>
                      <a:pt x="543" y="502"/>
                    </a:lnTo>
                    <a:lnTo>
                      <a:pt x="552" y="490"/>
                    </a:lnTo>
                    <a:lnTo>
                      <a:pt x="560" y="478"/>
                    </a:lnTo>
                    <a:lnTo>
                      <a:pt x="568" y="466"/>
                    </a:lnTo>
                    <a:lnTo>
                      <a:pt x="575" y="453"/>
                    </a:lnTo>
                    <a:lnTo>
                      <a:pt x="582" y="440"/>
                    </a:lnTo>
                    <a:lnTo>
                      <a:pt x="589" y="426"/>
                    </a:lnTo>
                    <a:lnTo>
                      <a:pt x="594" y="412"/>
                    </a:lnTo>
                    <a:lnTo>
                      <a:pt x="599" y="398"/>
                    </a:lnTo>
                    <a:lnTo>
                      <a:pt x="603" y="383"/>
                    </a:lnTo>
                    <a:lnTo>
                      <a:pt x="606" y="368"/>
                    </a:lnTo>
                    <a:lnTo>
                      <a:pt x="609" y="353"/>
                    </a:lnTo>
                    <a:lnTo>
                      <a:pt x="611" y="338"/>
                    </a:lnTo>
                    <a:lnTo>
                      <a:pt x="612" y="323"/>
                    </a:lnTo>
                    <a:lnTo>
                      <a:pt x="613" y="307"/>
                    </a:lnTo>
                    <a:close/>
                    <a:moveTo>
                      <a:pt x="590" y="307"/>
                    </a:moveTo>
                    <a:lnTo>
                      <a:pt x="590" y="322"/>
                    </a:lnTo>
                    <a:lnTo>
                      <a:pt x="589" y="336"/>
                    </a:lnTo>
                    <a:lnTo>
                      <a:pt x="587" y="350"/>
                    </a:lnTo>
                    <a:lnTo>
                      <a:pt x="584" y="363"/>
                    </a:lnTo>
                    <a:lnTo>
                      <a:pt x="581" y="377"/>
                    </a:lnTo>
                    <a:lnTo>
                      <a:pt x="578" y="391"/>
                    </a:lnTo>
                    <a:lnTo>
                      <a:pt x="573" y="405"/>
                    </a:lnTo>
                    <a:lnTo>
                      <a:pt x="568" y="418"/>
                    </a:lnTo>
                    <a:lnTo>
                      <a:pt x="563" y="430"/>
                    </a:lnTo>
                    <a:lnTo>
                      <a:pt x="556" y="442"/>
                    </a:lnTo>
                    <a:lnTo>
                      <a:pt x="549" y="453"/>
                    </a:lnTo>
                    <a:lnTo>
                      <a:pt x="542" y="465"/>
                    </a:lnTo>
                    <a:lnTo>
                      <a:pt x="534" y="476"/>
                    </a:lnTo>
                    <a:lnTo>
                      <a:pt x="526" y="487"/>
                    </a:lnTo>
                    <a:lnTo>
                      <a:pt x="516" y="497"/>
                    </a:lnTo>
                    <a:lnTo>
                      <a:pt x="507" y="508"/>
                    </a:lnTo>
                    <a:lnTo>
                      <a:pt x="497" y="517"/>
                    </a:lnTo>
                    <a:lnTo>
                      <a:pt x="486" y="526"/>
                    </a:lnTo>
                    <a:lnTo>
                      <a:pt x="476" y="534"/>
                    </a:lnTo>
                    <a:lnTo>
                      <a:pt x="464" y="542"/>
                    </a:lnTo>
                    <a:lnTo>
                      <a:pt x="453" y="549"/>
                    </a:lnTo>
                    <a:lnTo>
                      <a:pt x="441" y="556"/>
                    </a:lnTo>
                    <a:lnTo>
                      <a:pt x="429" y="563"/>
                    </a:lnTo>
                    <a:lnTo>
                      <a:pt x="417" y="569"/>
                    </a:lnTo>
                    <a:lnTo>
                      <a:pt x="403" y="573"/>
                    </a:lnTo>
                    <a:lnTo>
                      <a:pt x="391" y="578"/>
                    </a:lnTo>
                    <a:lnTo>
                      <a:pt x="377" y="581"/>
                    </a:lnTo>
                    <a:lnTo>
                      <a:pt x="363" y="585"/>
                    </a:lnTo>
                    <a:lnTo>
                      <a:pt x="349" y="587"/>
                    </a:lnTo>
                    <a:lnTo>
                      <a:pt x="335" y="589"/>
                    </a:lnTo>
                    <a:lnTo>
                      <a:pt x="320" y="591"/>
                    </a:lnTo>
                    <a:lnTo>
                      <a:pt x="306" y="591"/>
                    </a:lnTo>
                    <a:lnTo>
                      <a:pt x="291" y="591"/>
                    </a:lnTo>
                    <a:lnTo>
                      <a:pt x="278" y="589"/>
                    </a:lnTo>
                    <a:lnTo>
                      <a:pt x="263" y="587"/>
                    </a:lnTo>
                    <a:lnTo>
                      <a:pt x="249" y="585"/>
                    </a:lnTo>
                    <a:lnTo>
                      <a:pt x="235" y="581"/>
                    </a:lnTo>
                    <a:lnTo>
                      <a:pt x="222" y="578"/>
                    </a:lnTo>
                    <a:lnTo>
                      <a:pt x="208" y="573"/>
                    </a:lnTo>
                    <a:lnTo>
                      <a:pt x="196" y="569"/>
                    </a:lnTo>
                    <a:lnTo>
                      <a:pt x="183" y="563"/>
                    </a:lnTo>
                    <a:lnTo>
                      <a:pt x="170" y="556"/>
                    </a:lnTo>
                    <a:lnTo>
                      <a:pt x="159" y="549"/>
                    </a:lnTo>
                    <a:lnTo>
                      <a:pt x="147" y="542"/>
                    </a:lnTo>
                    <a:lnTo>
                      <a:pt x="136" y="534"/>
                    </a:lnTo>
                    <a:lnTo>
                      <a:pt x="125" y="526"/>
                    </a:lnTo>
                    <a:lnTo>
                      <a:pt x="115" y="517"/>
                    </a:lnTo>
                    <a:lnTo>
                      <a:pt x="106" y="508"/>
                    </a:lnTo>
                    <a:lnTo>
                      <a:pt x="97" y="497"/>
                    </a:lnTo>
                    <a:lnTo>
                      <a:pt x="87" y="487"/>
                    </a:lnTo>
                    <a:lnTo>
                      <a:pt x="78" y="476"/>
                    </a:lnTo>
                    <a:lnTo>
                      <a:pt x="71" y="465"/>
                    </a:lnTo>
                    <a:lnTo>
                      <a:pt x="63" y="453"/>
                    </a:lnTo>
                    <a:lnTo>
                      <a:pt x="56" y="442"/>
                    </a:lnTo>
                    <a:lnTo>
                      <a:pt x="50" y="430"/>
                    </a:lnTo>
                    <a:lnTo>
                      <a:pt x="45" y="418"/>
                    </a:lnTo>
                    <a:lnTo>
                      <a:pt x="39" y="405"/>
                    </a:lnTo>
                    <a:lnTo>
                      <a:pt x="35" y="391"/>
                    </a:lnTo>
                    <a:lnTo>
                      <a:pt x="31" y="377"/>
                    </a:lnTo>
                    <a:lnTo>
                      <a:pt x="28" y="363"/>
                    </a:lnTo>
                    <a:lnTo>
                      <a:pt x="25" y="350"/>
                    </a:lnTo>
                    <a:lnTo>
                      <a:pt x="24" y="336"/>
                    </a:lnTo>
                    <a:lnTo>
                      <a:pt x="23" y="322"/>
                    </a:lnTo>
                    <a:lnTo>
                      <a:pt x="23" y="307"/>
                    </a:lnTo>
                    <a:lnTo>
                      <a:pt x="23" y="292"/>
                    </a:lnTo>
                    <a:lnTo>
                      <a:pt x="24" y="278"/>
                    </a:lnTo>
                    <a:lnTo>
                      <a:pt x="25" y="263"/>
                    </a:lnTo>
                    <a:lnTo>
                      <a:pt x="28" y="249"/>
                    </a:lnTo>
                    <a:lnTo>
                      <a:pt x="31" y="236"/>
                    </a:lnTo>
                    <a:lnTo>
                      <a:pt x="35" y="223"/>
                    </a:lnTo>
                    <a:lnTo>
                      <a:pt x="39" y="209"/>
                    </a:lnTo>
                    <a:lnTo>
                      <a:pt x="45" y="196"/>
                    </a:lnTo>
                    <a:lnTo>
                      <a:pt x="50" y="184"/>
                    </a:lnTo>
                    <a:lnTo>
                      <a:pt x="56" y="172"/>
                    </a:lnTo>
                    <a:lnTo>
                      <a:pt x="63" y="159"/>
                    </a:lnTo>
                    <a:lnTo>
                      <a:pt x="71" y="148"/>
                    </a:lnTo>
                    <a:lnTo>
                      <a:pt x="78" y="138"/>
                    </a:lnTo>
                    <a:lnTo>
                      <a:pt x="87" y="126"/>
                    </a:lnTo>
                    <a:lnTo>
                      <a:pt x="97" y="116"/>
                    </a:lnTo>
                    <a:lnTo>
                      <a:pt x="106" y="106"/>
                    </a:lnTo>
                    <a:lnTo>
                      <a:pt x="115" y="97"/>
                    </a:lnTo>
                    <a:lnTo>
                      <a:pt x="125" y="88"/>
                    </a:lnTo>
                    <a:lnTo>
                      <a:pt x="136" y="80"/>
                    </a:lnTo>
                    <a:lnTo>
                      <a:pt x="147" y="72"/>
                    </a:lnTo>
                    <a:lnTo>
                      <a:pt x="159" y="64"/>
                    </a:lnTo>
                    <a:lnTo>
                      <a:pt x="170" y="57"/>
                    </a:lnTo>
                    <a:lnTo>
                      <a:pt x="183" y="51"/>
                    </a:lnTo>
                    <a:lnTo>
                      <a:pt x="196" y="45"/>
                    </a:lnTo>
                    <a:lnTo>
                      <a:pt x="208" y="41"/>
                    </a:lnTo>
                    <a:lnTo>
                      <a:pt x="222" y="36"/>
                    </a:lnTo>
                    <a:lnTo>
                      <a:pt x="235" y="32"/>
                    </a:lnTo>
                    <a:lnTo>
                      <a:pt x="249" y="29"/>
                    </a:lnTo>
                    <a:lnTo>
                      <a:pt x="263" y="27"/>
                    </a:lnTo>
                    <a:lnTo>
                      <a:pt x="278" y="25"/>
                    </a:lnTo>
                    <a:lnTo>
                      <a:pt x="291" y="23"/>
                    </a:lnTo>
                    <a:lnTo>
                      <a:pt x="306" y="23"/>
                    </a:lnTo>
                    <a:lnTo>
                      <a:pt x="320" y="23"/>
                    </a:lnTo>
                    <a:lnTo>
                      <a:pt x="335" y="25"/>
                    </a:lnTo>
                    <a:lnTo>
                      <a:pt x="349" y="27"/>
                    </a:lnTo>
                    <a:lnTo>
                      <a:pt x="363" y="29"/>
                    </a:lnTo>
                    <a:lnTo>
                      <a:pt x="377" y="32"/>
                    </a:lnTo>
                    <a:lnTo>
                      <a:pt x="391" y="36"/>
                    </a:lnTo>
                    <a:lnTo>
                      <a:pt x="403" y="41"/>
                    </a:lnTo>
                    <a:lnTo>
                      <a:pt x="417" y="45"/>
                    </a:lnTo>
                    <a:lnTo>
                      <a:pt x="429" y="51"/>
                    </a:lnTo>
                    <a:lnTo>
                      <a:pt x="441" y="57"/>
                    </a:lnTo>
                    <a:lnTo>
                      <a:pt x="453" y="64"/>
                    </a:lnTo>
                    <a:lnTo>
                      <a:pt x="464" y="72"/>
                    </a:lnTo>
                    <a:lnTo>
                      <a:pt x="476" y="80"/>
                    </a:lnTo>
                    <a:lnTo>
                      <a:pt x="486" y="88"/>
                    </a:lnTo>
                    <a:lnTo>
                      <a:pt x="497" y="97"/>
                    </a:lnTo>
                    <a:lnTo>
                      <a:pt x="507" y="106"/>
                    </a:lnTo>
                    <a:lnTo>
                      <a:pt x="516" y="116"/>
                    </a:lnTo>
                    <a:lnTo>
                      <a:pt x="526" y="126"/>
                    </a:lnTo>
                    <a:lnTo>
                      <a:pt x="534" y="138"/>
                    </a:lnTo>
                    <a:lnTo>
                      <a:pt x="542" y="148"/>
                    </a:lnTo>
                    <a:lnTo>
                      <a:pt x="549" y="159"/>
                    </a:lnTo>
                    <a:lnTo>
                      <a:pt x="556" y="172"/>
                    </a:lnTo>
                    <a:lnTo>
                      <a:pt x="563" y="184"/>
                    </a:lnTo>
                    <a:lnTo>
                      <a:pt x="568" y="196"/>
                    </a:lnTo>
                    <a:lnTo>
                      <a:pt x="573" y="209"/>
                    </a:lnTo>
                    <a:lnTo>
                      <a:pt x="578" y="223"/>
                    </a:lnTo>
                    <a:lnTo>
                      <a:pt x="581" y="236"/>
                    </a:lnTo>
                    <a:lnTo>
                      <a:pt x="584" y="249"/>
                    </a:lnTo>
                    <a:lnTo>
                      <a:pt x="587" y="263"/>
                    </a:lnTo>
                    <a:lnTo>
                      <a:pt x="589" y="278"/>
                    </a:lnTo>
                    <a:lnTo>
                      <a:pt x="590" y="292"/>
                    </a:lnTo>
                    <a:lnTo>
                      <a:pt x="590" y="307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13520" y="3860640"/>
                <a:ext cx="156960" cy="155880"/>
              </a:xfrm>
              <a:custGeom>
                <a:avLst/>
                <a:gdLst/>
                <a:ahLst/>
                <a:rect l="l" t="t" r="r" b="b"/>
                <a:pathLst>
                  <a:path w="591" h="590">
                    <a:moveTo>
                      <a:pt x="591" y="295"/>
                    </a:moveTo>
                    <a:lnTo>
                      <a:pt x="590" y="280"/>
                    </a:lnTo>
                    <a:lnTo>
                      <a:pt x="588" y="265"/>
                    </a:lnTo>
                    <a:lnTo>
                      <a:pt x="587" y="250"/>
                    </a:lnTo>
                    <a:lnTo>
                      <a:pt x="585" y="235"/>
                    </a:lnTo>
                    <a:lnTo>
                      <a:pt x="582" y="221"/>
                    </a:lnTo>
                    <a:lnTo>
                      <a:pt x="577" y="207"/>
                    </a:lnTo>
                    <a:lnTo>
                      <a:pt x="572" y="194"/>
                    </a:lnTo>
                    <a:lnTo>
                      <a:pt x="568" y="180"/>
                    </a:lnTo>
                    <a:lnTo>
                      <a:pt x="561" y="167"/>
                    </a:lnTo>
                    <a:lnTo>
                      <a:pt x="555" y="154"/>
                    </a:lnTo>
                    <a:lnTo>
                      <a:pt x="548" y="142"/>
                    </a:lnTo>
                    <a:lnTo>
                      <a:pt x="540" y="130"/>
                    </a:lnTo>
                    <a:lnTo>
                      <a:pt x="532" y="119"/>
                    </a:lnTo>
                    <a:lnTo>
                      <a:pt x="523" y="107"/>
                    </a:lnTo>
                    <a:lnTo>
                      <a:pt x="513" y="97"/>
                    </a:lnTo>
                    <a:lnTo>
                      <a:pt x="504" y="86"/>
                    </a:lnTo>
                    <a:lnTo>
                      <a:pt x="494" y="76"/>
                    </a:lnTo>
                    <a:lnTo>
                      <a:pt x="483" y="67"/>
                    </a:lnTo>
                    <a:lnTo>
                      <a:pt x="472" y="59"/>
                    </a:lnTo>
                    <a:lnTo>
                      <a:pt x="460" y="51"/>
                    </a:lnTo>
                    <a:lnTo>
                      <a:pt x="448" y="43"/>
                    </a:lnTo>
                    <a:lnTo>
                      <a:pt x="436" y="36"/>
                    </a:lnTo>
                    <a:lnTo>
                      <a:pt x="423" y="29"/>
                    </a:lnTo>
                    <a:lnTo>
                      <a:pt x="410" y="23"/>
                    </a:lnTo>
                    <a:lnTo>
                      <a:pt x="397" y="17"/>
                    </a:lnTo>
                    <a:lnTo>
                      <a:pt x="383" y="13"/>
                    </a:lnTo>
                    <a:lnTo>
                      <a:pt x="369" y="9"/>
                    </a:lnTo>
                    <a:lnTo>
                      <a:pt x="354" y="6"/>
                    </a:lnTo>
                    <a:lnTo>
                      <a:pt x="340" y="3"/>
                    </a:lnTo>
                    <a:lnTo>
                      <a:pt x="325" y="1"/>
                    </a:lnTo>
                    <a:lnTo>
                      <a:pt x="310" y="0"/>
                    </a:lnTo>
                    <a:lnTo>
                      <a:pt x="295" y="0"/>
                    </a:lnTo>
                    <a:lnTo>
                      <a:pt x="280" y="0"/>
                    </a:lnTo>
                    <a:lnTo>
                      <a:pt x="265" y="1"/>
                    </a:lnTo>
                    <a:lnTo>
                      <a:pt x="250" y="3"/>
                    </a:lnTo>
                    <a:lnTo>
                      <a:pt x="235" y="6"/>
                    </a:lnTo>
                    <a:lnTo>
                      <a:pt x="222" y="9"/>
                    </a:lnTo>
                    <a:lnTo>
                      <a:pt x="208" y="13"/>
                    </a:lnTo>
                    <a:lnTo>
                      <a:pt x="194" y="17"/>
                    </a:lnTo>
                    <a:lnTo>
                      <a:pt x="180" y="23"/>
                    </a:lnTo>
                    <a:lnTo>
                      <a:pt x="167" y="29"/>
                    </a:lnTo>
                    <a:lnTo>
                      <a:pt x="155" y="36"/>
                    </a:lnTo>
                    <a:lnTo>
                      <a:pt x="142" y="43"/>
                    </a:lnTo>
                    <a:lnTo>
                      <a:pt x="131" y="51"/>
                    </a:lnTo>
                    <a:lnTo>
                      <a:pt x="119" y="59"/>
                    </a:lnTo>
                    <a:lnTo>
                      <a:pt x="107" y="67"/>
                    </a:lnTo>
                    <a:lnTo>
                      <a:pt x="97" y="76"/>
                    </a:lnTo>
                    <a:lnTo>
                      <a:pt x="87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9" y="119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6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7" y="194"/>
                    </a:lnTo>
                    <a:lnTo>
                      <a:pt x="13" y="207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4" y="250"/>
                    </a:lnTo>
                    <a:lnTo>
                      <a:pt x="1" y="265"/>
                    </a:lnTo>
                    <a:lnTo>
                      <a:pt x="0" y="280"/>
                    </a:lnTo>
                    <a:lnTo>
                      <a:pt x="0" y="295"/>
                    </a:lnTo>
                    <a:lnTo>
                      <a:pt x="0" y="310"/>
                    </a:lnTo>
                    <a:lnTo>
                      <a:pt x="1" y="325"/>
                    </a:lnTo>
                    <a:lnTo>
                      <a:pt x="4" y="340"/>
                    </a:lnTo>
                    <a:lnTo>
                      <a:pt x="6" y="354"/>
                    </a:lnTo>
                    <a:lnTo>
                      <a:pt x="9" y="369"/>
                    </a:lnTo>
                    <a:lnTo>
                      <a:pt x="13" y="383"/>
                    </a:lnTo>
                    <a:lnTo>
                      <a:pt x="17" y="396"/>
                    </a:lnTo>
                    <a:lnTo>
                      <a:pt x="23" y="409"/>
                    </a:lnTo>
                    <a:lnTo>
                      <a:pt x="29" y="423"/>
                    </a:lnTo>
                    <a:lnTo>
                      <a:pt x="36" y="436"/>
                    </a:lnTo>
                    <a:lnTo>
                      <a:pt x="43" y="448"/>
                    </a:lnTo>
                    <a:lnTo>
                      <a:pt x="50" y="460"/>
                    </a:lnTo>
                    <a:lnTo>
                      <a:pt x="59" y="471"/>
                    </a:lnTo>
                    <a:lnTo>
                      <a:pt x="67" y="483"/>
                    </a:lnTo>
                    <a:lnTo>
                      <a:pt x="76" y="493"/>
                    </a:lnTo>
                    <a:lnTo>
                      <a:pt x="87" y="504"/>
                    </a:lnTo>
                    <a:lnTo>
                      <a:pt x="97" y="513"/>
                    </a:lnTo>
                    <a:lnTo>
                      <a:pt x="107" y="522"/>
                    </a:lnTo>
                    <a:lnTo>
                      <a:pt x="119" y="531"/>
                    </a:lnTo>
                    <a:lnTo>
                      <a:pt x="131" y="539"/>
                    </a:lnTo>
                    <a:lnTo>
                      <a:pt x="142" y="547"/>
                    </a:lnTo>
                    <a:lnTo>
                      <a:pt x="155" y="554"/>
                    </a:lnTo>
                    <a:lnTo>
                      <a:pt x="167" y="561"/>
                    </a:lnTo>
                    <a:lnTo>
                      <a:pt x="180" y="567"/>
                    </a:lnTo>
                    <a:lnTo>
                      <a:pt x="194" y="572"/>
                    </a:lnTo>
                    <a:lnTo>
                      <a:pt x="208" y="576"/>
                    </a:lnTo>
                    <a:lnTo>
                      <a:pt x="222" y="581"/>
                    </a:lnTo>
                    <a:lnTo>
                      <a:pt x="235" y="584"/>
                    </a:lnTo>
                    <a:lnTo>
                      <a:pt x="250" y="587"/>
                    </a:lnTo>
                    <a:lnTo>
                      <a:pt x="265" y="589"/>
                    </a:lnTo>
                    <a:lnTo>
                      <a:pt x="280" y="589"/>
                    </a:lnTo>
                    <a:lnTo>
                      <a:pt x="295" y="590"/>
                    </a:lnTo>
                    <a:lnTo>
                      <a:pt x="310" y="589"/>
                    </a:lnTo>
                    <a:lnTo>
                      <a:pt x="325" y="589"/>
                    </a:lnTo>
                    <a:lnTo>
                      <a:pt x="340" y="587"/>
                    </a:lnTo>
                    <a:lnTo>
                      <a:pt x="354" y="584"/>
                    </a:lnTo>
                    <a:lnTo>
                      <a:pt x="369" y="581"/>
                    </a:lnTo>
                    <a:lnTo>
                      <a:pt x="383" y="576"/>
                    </a:lnTo>
                    <a:lnTo>
                      <a:pt x="397" y="572"/>
                    </a:lnTo>
                    <a:lnTo>
                      <a:pt x="410" y="567"/>
                    </a:lnTo>
                    <a:lnTo>
                      <a:pt x="423" y="561"/>
                    </a:lnTo>
                    <a:lnTo>
                      <a:pt x="436" y="554"/>
                    </a:lnTo>
                    <a:lnTo>
                      <a:pt x="448" y="547"/>
                    </a:lnTo>
                    <a:lnTo>
                      <a:pt x="460" y="539"/>
                    </a:lnTo>
                    <a:lnTo>
                      <a:pt x="472" y="531"/>
                    </a:lnTo>
                    <a:lnTo>
                      <a:pt x="483" y="522"/>
                    </a:lnTo>
                    <a:lnTo>
                      <a:pt x="494" y="513"/>
                    </a:lnTo>
                    <a:lnTo>
                      <a:pt x="504" y="504"/>
                    </a:lnTo>
                    <a:lnTo>
                      <a:pt x="513" y="493"/>
                    </a:lnTo>
                    <a:lnTo>
                      <a:pt x="523" y="483"/>
                    </a:lnTo>
                    <a:lnTo>
                      <a:pt x="532" y="471"/>
                    </a:lnTo>
                    <a:lnTo>
                      <a:pt x="540" y="460"/>
                    </a:lnTo>
                    <a:lnTo>
                      <a:pt x="548" y="448"/>
                    </a:lnTo>
                    <a:lnTo>
                      <a:pt x="555" y="436"/>
                    </a:lnTo>
                    <a:lnTo>
                      <a:pt x="561" y="423"/>
                    </a:lnTo>
                    <a:lnTo>
                      <a:pt x="568" y="409"/>
                    </a:lnTo>
                    <a:lnTo>
                      <a:pt x="572" y="396"/>
                    </a:lnTo>
                    <a:lnTo>
                      <a:pt x="577" y="383"/>
                    </a:lnTo>
                    <a:lnTo>
                      <a:pt x="582" y="369"/>
                    </a:lnTo>
                    <a:lnTo>
                      <a:pt x="585" y="354"/>
                    </a:lnTo>
                    <a:lnTo>
                      <a:pt x="587" y="340"/>
                    </a:lnTo>
                    <a:lnTo>
                      <a:pt x="588" y="325"/>
                    </a:lnTo>
                    <a:lnTo>
                      <a:pt x="590" y="310"/>
                    </a:lnTo>
                    <a:lnTo>
                      <a:pt x="591" y="295"/>
                    </a:lnTo>
                    <a:close/>
                    <a:moveTo>
                      <a:pt x="568" y="295"/>
                    </a:moveTo>
                    <a:lnTo>
                      <a:pt x="568" y="309"/>
                    </a:lnTo>
                    <a:lnTo>
                      <a:pt x="567" y="323"/>
                    </a:lnTo>
                    <a:lnTo>
                      <a:pt x="564" y="337"/>
                    </a:lnTo>
                    <a:lnTo>
                      <a:pt x="562" y="349"/>
                    </a:lnTo>
                    <a:lnTo>
                      <a:pt x="560" y="363"/>
                    </a:lnTo>
                    <a:lnTo>
                      <a:pt x="555" y="376"/>
                    </a:lnTo>
                    <a:lnTo>
                      <a:pt x="552" y="388"/>
                    </a:lnTo>
                    <a:lnTo>
                      <a:pt x="547" y="401"/>
                    </a:lnTo>
                    <a:lnTo>
                      <a:pt x="541" y="413"/>
                    </a:lnTo>
                    <a:lnTo>
                      <a:pt x="534" y="425"/>
                    </a:lnTo>
                    <a:lnTo>
                      <a:pt x="528" y="436"/>
                    </a:lnTo>
                    <a:lnTo>
                      <a:pt x="522" y="447"/>
                    </a:lnTo>
                    <a:lnTo>
                      <a:pt x="513" y="458"/>
                    </a:lnTo>
                    <a:lnTo>
                      <a:pt x="505" y="468"/>
                    </a:lnTo>
                    <a:lnTo>
                      <a:pt x="497" y="478"/>
                    </a:lnTo>
                    <a:lnTo>
                      <a:pt x="488" y="488"/>
                    </a:lnTo>
                    <a:lnTo>
                      <a:pt x="479" y="497"/>
                    </a:lnTo>
                    <a:lnTo>
                      <a:pt x="468" y="505"/>
                    </a:lnTo>
                    <a:lnTo>
                      <a:pt x="458" y="513"/>
                    </a:lnTo>
                    <a:lnTo>
                      <a:pt x="448" y="521"/>
                    </a:lnTo>
                    <a:lnTo>
                      <a:pt x="436" y="528"/>
                    </a:lnTo>
                    <a:lnTo>
                      <a:pt x="425" y="535"/>
                    </a:lnTo>
                    <a:lnTo>
                      <a:pt x="413" y="541"/>
                    </a:lnTo>
                    <a:lnTo>
                      <a:pt x="402" y="546"/>
                    </a:lnTo>
                    <a:lnTo>
                      <a:pt x="389" y="551"/>
                    </a:lnTo>
                    <a:lnTo>
                      <a:pt x="376" y="556"/>
                    </a:lnTo>
                    <a:lnTo>
                      <a:pt x="364" y="559"/>
                    </a:lnTo>
                    <a:lnTo>
                      <a:pt x="350" y="561"/>
                    </a:lnTo>
                    <a:lnTo>
                      <a:pt x="337" y="564"/>
                    </a:lnTo>
                    <a:lnTo>
                      <a:pt x="323" y="566"/>
                    </a:lnTo>
                    <a:lnTo>
                      <a:pt x="309" y="567"/>
                    </a:lnTo>
                    <a:lnTo>
                      <a:pt x="295" y="567"/>
                    </a:lnTo>
                    <a:lnTo>
                      <a:pt x="282" y="567"/>
                    </a:lnTo>
                    <a:lnTo>
                      <a:pt x="268" y="566"/>
                    </a:lnTo>
                    <a:lnTo>
                      <a:pt x="254" y="564"/>
                    </a:lnTo>
                    <a:lnTo>
                      <a:pt x="240" y="561"/>
                    </a:lnTo>
                    <a:lnTo>
                      <a:pt x="227" y="559"/>
                    </a:lnTo>
                    <a:lnTo>
                      <a:pt x="214" y="556"/>
                    </a:lnTo>
                    <a:lnTo>
                      <a:pt x="201" y="551"/>
                    </a:lnTo>
                    <a:lnTo>
                      <a:pt x="189" y="546"/>
                    </a:lnTo>
                    <a:lnTo>
                      <a:pt x="177" y="541"/>
                    </a:lnTo>
                    <a:lnTo>
                      <a:pt x="165" y="535"/>
                    </a:lnTo>
                    <a:lnTo>
                      <a:pt x="154" y="528"/>
                    </a:lnTo>
                    <a:lnTo>
                      <a:pt x="143" y="521"/>
                    </a:lnTo>
                    <a:lnTo>
                      <a:pt x="132" y="513"/>
                    </a:lnTo>
                    <a:lnTo>
                      <a:pt x="121" y="505"/>
                    </a:lnTo>
                    <a:lnTo>
                      <a:pt x="112" y="497"/>
                    </a:lnTo>
                    <a:lnTo>
                      <a:pt x="103" y="488"/>
                    </a:lnTo>
                    <a:lnTo>
                      <a:pt x="94" y="478"/>
                    </a:lnTo>
                    <a:lnTo>
                      <a:pt x="84" y="468"/>
                    </a:lnTo>
                    <a:lnTo>
                      <a:pt x="76" y="458"/>
                    </a:lnTo>
                    <a:lnTo>
                      <a:pt x="69" y="447"/>
                    </a:lnTo>
                    <a:lnTo>
                      <a:pt x="62" y="436"/>
                    </a:lnTo>
                    <a:lnTo>
                      <a:pt x="56" y="425"/>
                    </a:lnTo>
                    <a:lnTo>
                      <a:pt x="50" y="413"/>
                    </a:lnTo>
                    <a:lnTo>
                      <a:pt x="44" y="401"/>
                    </a:lnTo>
                    <a:lnTo>
                      <a:pt x="39" y="388"/>
                    </a:lnTo>
                    <a:lnTo>
                      <a:pt x="35" y="376"/>
                    </a:lnTo>
                    <a:lnTo>
                      <a:pt x="31" y="363"/>
                    </a:lnTo>
                    <a:lnTo>
                      <a:pt x="28" y="349"/>
                    </a:lnTo>
                    <a:lnTo>
                      <a:pt x="26" y="337"/>
                    </a:lnTo>
                    <a:lnTo>
                      <a:pt x="24" y="323"/>
                    </a:lnTo>
                    <a:lnTo>
                      <a:pt x="23" y="309"/>
                    </a:lnTo>
                    <a:lnTo>
                      <a:pt x="23" y="295"/>
                    </a:lnTo>
                    <a:lnTo>
                      <a:pt x="23" y="281"/>
                    </a:lnTo>
                    <a:lnTo>
                      <a:pt x="24" y="267"/>
                    </a:lnTo>
                    <a:lnTo>
                      <a:pt x="26" y="254"/>
                    </a:lnTo>
                    <a:lnTo>
                      <a:pt x="28" y="240"/>
                    </a:lnTo>
                    <a:lnTo>
                      <a:pt x="31" y="227"/>
                    </a:lnTo>
                    <a:lnTo>
                      <a:pt x="35" y="214"/>
                    </a:lnTo>
                    <a:lnTo>
                      <a:pt x="39" y="202"/>
                    </a:lnTo>
                    <a:lnTo>
                      <a:pt x="44" y="189"/>
                    </a:lnTo>
                    <a:lnTo>
                      <a:pt x="50" y="176"/>
                    </a:lnTo>
                    <a:lnTo>
                      <a:pt x="56" y="165"/>
                    </a:lnTo>
                    <a:lnTo>
                      <a:pt x="62" y="153"/>
                    </a:lnTo>
                    <a:lnTo>
                      <a:pt x="69" y="143"/>
                    </a:lnTo>
                    <a:lnTo>
                      <a:pt x="76" y="132"/>
                    </a:lnTo>
                    <a:lnTo>
                      <a:pt x="84" y="122"/>
                    </a:lnTo>
                    <a:lnTo>
                      <a:pt x="94" y="112"/>
                    </a:lnTo>
                    <a:lnTo>
                      <a:pt x="103" y="102"/>
                    </a:lnTo>
                    <a:lnTo>
                      <a:pt x="112" y="93"/>
                    </a:lnTo>
                    <a:lnTo>
                      <a:pt x="121" y="85"/>
                    </a:lnTo>
                    <a:lnTo>
                      <a:pt x="132" y="77"/>
                    </a:lnTo>
                    <a:lnTo>
                      <a:pt x="143" y="69"/>
                    </a:lnTo>
                    <a:lnTo>
                      <a:pt x="154" y="62"/>
                    </a:lnTo>
                    <a:lnTo>
                      <a:pt x="165" y="55"/>
                    </a:lnTo>
                    <a:lnTo>
                      <a:pt x="177" y="49"/>
                    </a:lnTo>
                    <a:lnTo>
                      <a:pt x="189" y="44"/>
                    </a:lnTo>
                    <a:lnTo>
                      <a:pt x="201" y="39"/>
                    </a:lnTo>
                    <a:lnTo>
                      <a:pt x="214" y="34"/>
                    </a:lnTo>
                    <a:lnTo>
                      <a:pt x="227" y="31"/>
                    </a:lnTo>
                    <a:lnTo>
                      <a:pt x="240" y="28"/>
                    </a:lnTo>
                    <a:lnTo>
                      <a:pt x="254" y="25"/>
                    </a:lnTo>
                    <a:lnTo>
                      <a:pt x="268" y="24"/>
                    </a:lnTo>
                    <a:lnTo>
                      <a:pt x="282" y="23"/>
                    </a:lnTo>
                    <a:lnTo>
                      <a:pt x="295" y="23"/>
                    </a:lnTo>
                    <a:lnTo>
                      <a:pt x="309" y="23"/>
                    </a:lnTo>
                    <a:lnTo>
                      <a:pt x="323" y="24"/>
                    </a:lnTo>
                    <a:lnTo>
                      <a:pt x="337" y="25"/>
                    </a:lnTo>
                    <a:lnTo>
                      <a:pt x="350" y="28"/>
                    </a:lnTo>
                    <a:lnTo>
                      <a:pt x="364" y="31"/>
                    </a:lnTo>
                    <a:lnTo>
                      <a:pt x="376" y="34"/>
                    </a:lnTo>
                    <a:lnTo>
                      <a:pt x="389" y="39"/>
                    </a:lnTo>
                    <a:lnTo>
                      <a:pt x="402" y="44"/>
                    </a:lnTo>
                    <a:lnTo>
                      <a:pt x="413" y="49"/>
                    </a:lnTo>
                    <a:lnTo>
                      <a:pt x="425" y="55"/>
                    </a:lnTo>
                    <a:lnTo>
                      <a:pt x="436" y="62"/>
                    </a:lnTo>
                    <a:lnTo>
                      <a:pt x="448" y="69"/>
                    </a:lnTo>
                    <a:lnTo>
                      <a:pt x="458" y="77"/>
                    </a:lnTo>
                    <a:lnTo>
                      <a:pt x="468" y="85"/>
                    </a:lnTo>
                    <a:lnTo>
                      <a:pt x="479" y="93"/>
                    </a:lnTo>
                    <a:lnTo>
                      <a:pt x="488" y="102"/>
                    </a:lnTo>
                    <a:lnTo>
                      <a:pt x="497" y="112"/>
                    </a:lnTo>
                    <a:lnTo>
                      <a:pt x="505" y="122"/>
                    </a:lnTo>
                    <a:lnTo>
                      <a:pt x="513" y="132"/>
                    </a:lnTo>
                    <a:lnTo>
                      <a:pt x="522" y="143"/>
                    </a:lnTo>
                    <a:lnTo>
                      <a:pt x="528" y="153"/>
                    </a:lnTo>
                    <a:lnTo>
                      <a:pt x="534" y="165"/>
                    </a:lnTo>
                    <a:lnTo>
                      <a:pt x="541" y="176"/>
                    </a:lnTo>
                    <a:lnTo>
                      <a:pt x="547" y="189"/>
                    </a:lnTo>
                    <a:lnTo>
                      <a:pt x="552" y="202"/>
                    </a:lnTo>
                    <a:lnTo>
                      <a:pt x="555" y="214"/>
                    </a:lnTo>
                    <a:lnTo>
                      <a:pt x="560" y="227"/>
                    </a:lnTo>
                    <a:lnTo>
                      <a:pt x="562" y="240"/>
                    </a:lnTo>
                    <a:lnTo>
                      <a:pt x="564" y="254"/>
                    </a:lnTo>
                    <a:lnTo>
                      <a:pt x="567" y="267"/>
                    </a:lnTo>
                    <a:lnTo>
                      <a:pt x="568" y="281"/>
                    </a:lnTo>
                    <a:lnTo>
                      <a:pt x="568" y="29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116760" y="3863880"/>
                <a:ext cx="150840" cy="149400"/>
              </a:xfrm>
              <a:custGeom>
                <a:avLst/>
                <a:gdLst/>
                <a:ahLst/>
                <a:rect l="l" t="t" r="r" b="b"/>
                <a:pathLst>
                  <a:path w="567" h="568">
                    <a:moveTo>
                      <a:pt x="567" y="284"/>
                    </a:moveTo>
                    <a:lnTo>
                      <a:pt x="567" y="269"/>
                    </a:lnTo>
                    <a:lnTo>
                      <a:pt x="566" y="255"/>
                    </a:lnTo>
                    <a:lnTo>
                      <a:pt x="564" y="240"/>
                    </a:lnTo>
                    <a:lnTo>
                      <a:pt x="561" y="226"/>
                    </a:lnTo>
                    <a:lnTo>
                      <a:pt x="558" y="213"/>
                    </a:lnTo>
                    <a:lnTo>
                      <a:pt x="555" y="200"/>
                    </a:lnTo>
                    <a:lnTo>
                      <a:pt x="550" y="186"/>
                    </a:lnTo>
                    <a:lnTo>
                      <a:pt x="545" y="173"/>
                    </a:lnTo>
                    <a:lnTo>
                      <a:pt x="540" y="161"/>
                    </a:lnTo>
                    <a:lnTo>
                      <a:pt x="533" y="149"/>
                    </a:lnTo>
                    <a:lnTo>
                      <a:pt x="526" y="136"/>
                    </a:lnTo>
                    <a:lnTo>
                      <a:pt x="519" y="125"/>
                    </a:lnTo>
                    <a:lnTo>
                      <a:pt x="511" y="115"/>
                    </a:lnTo>
                    <a:lnTo>
                      <a:pt x="503" y="103"/>
                    </a:lnTo>
                    <a:lnTo>
                      <a:pt x="493" y="93"/>
                    </a:lnTo>
                    <a:lnTo>
                      <a:pt x="484" y="83"/>
                    </a:lnTo>
                    <a:lnTo>
                      <a:pt x="474" y="74"/>
                    </a:lnTo>
                    <a:lnTo>
                      <a:pt x="463" y="65"/>
                    </a:lnTo>
                    <a:lnTo>
                      <a:pt x="453" y="57"/>
                    </a:lnTo>
                    <a:lnTo>
                      <a:pt x="441" y="49"/>
                    </a:lnTo>
                    <a:lnTo>
                      <a:pt x="430" y="41"/>
                    </a:lnTo>
                    <a:lnTo>
                      <a:pt x="418" y="34"/>
                    </a:lnTo>
                    <a:lnTo>
                      <a:pt x="406" y="28"/>
                    </a:lnTo>
                    <a:lnTo>
                      <a:pt x="394" y="22"/>
                    </a:lnTo>
                    <a:lnTo>
                      <a:pt x="380" y="18"/>
                    </a:lnTo>
                    <a:lnTo>
                      <a:pt x="368" y="13"/>
                    </a:lnTo>
                    <a:lnTo>
                      <a:pt x="354" y="9"/>
                    </a:lnTo>
                    <a:lnTo>
                      <a:pt x="340" y="6"/>
                    </a:lnTo>
                    <a:lnTo>
                      <a:pt x="326" y="4"/>
                    </a:lnTo>
                    <a:lnTo>
                      <a:pt x="312" y="2"/>
                    </a:lnTo>
                    <a:lnTo>
                      <a:pt x="297" y="0"/>
                    </a:lnTo>
                    <a:lnTo>
                      <a:pt x="283" y="0"/>
                    </a:lnTo>
                    <a:lnTo>
                      <a:pt x="268" y="0"/>
                    </a:lnTo>
                    <a:lnTo>
                      <a:pt x="255" y="2"/>
                    </a:lnTo>
                    <a:lnTo>
                      <a:pt x="240" y="4"/>
                    </a:lnTo>
                    <a:lnTo>
                      <a:pt x="226" y="6"/>
                    </a:lnTo>
                    <a:lnTo>
                      <a:pt x="212" y="9"/>
                    </a:lnTo>
                    <a:lnTo>
                      <a:pt x="199" y="13"/>
                    </a:lnTo>
                    <a:lnTo>
                      <a:pt x="185" y="18"/>
                    </a:lnTo>
                    <a:lnTo>
                      <a:pt x="173" y="22"/>
                    </a:lnTo>
                    <a:lnTo>
                      <a:pt x="160" y="28"/>
                    </a:lnTo>
                    <a:lnTo>
                      <a:pt x="147" y="34"/>
                    </a:lnTo>
                    <a:lnTo>
                      <a:pt x="136" y="41"/>
                    </a:lnTo>
                    <a:lnTo>
                      <a:pt x="124" y="49"/>
                    </a:lnTo>
                    <a:lnTo>
                      <a:pt x="113" y="57"/>
                    </a:lnTo>
                    <a:lnTo>
                      <a:pt x="102" y="65"/>
                    </a:lnTo>
                    <a:lnTo>
                      <a:pt x="92" y="74"/>
                    </a:lnTo>
                    <a:lnTo>
                      <a:pt x="83" y="83"/>
                    </a:lnTo>
                    <a:lnTo>
                      <a:pt x="74" y="93"/>
                    </a:lnTo>
                    <a:lnTo>
                      <a:pt x="64" y="103"/>
                    </a:lnTo>
                    <a:lnTo>
                      <a:pt x="55" y="115"/>
                    </a:lnTo>
                    <a:lnTo>
                      <a:pt x="48" y="125"/>
                    </a:lnTo>
                    <a:lnTo>
                      <a:pt x="40" y="136"/>
                    </a:lnTo>
                    <a:lnTo>
                      <a:pt x="33" y="149"/>
                    </a:lnTo>
                    <a:lnTo>
                      <a:pt x="27" y="161"/>
                    </a:lnTo>
                    <a:lnTo>
                      <a:pt x="22" y="173"/>
                    </a:lnTo>
                    <a:lnTo>
                      <a:pt x="16" y="186"/>
                    </a:lnTo>
                    <a:lnTo>
                      <a:pt x="12" y="200"/>
                    </a:lnTo>
                    <a:lnTo>
                      <a:pt x="8" y="213"/>
                    </a:lnTo>
                    <a:lnTo>
                      <a:pt x="5" y="226"/>
                    </a:lnTo>
                    <a:lnTo>
                      <a:pt x="2" y="240"/>
                    </a:lnTo>
                    <a:lnTo>
                      <a:pt x="1" y="255"/>
                    </a:lnTo>
                    <a:lnTo>
                      <a:pt x="0" y="269"/>
                    </a:lnTo>
                    <a:lnTo>
                      <a:pt x="0" y="284"/>
                    </a:lnTo>
                    <a:lnTo>
                      <a:pt x="0" y="299"/>
                    </a:lnTo>
                    <a:lnTo>
                      <a:pt x="1" y="313"/>
                    </a:lnTo>
                    <a:lnTo>
                      <a:pt x="2" y="327"/>
                    </a:lnTo>
                    <a:lnTo>
                      <a:pt x="5" y="340"/>
                    </a:lnTo>
                    <a:lnTo>
                      <a:pt x="8" y="354"/>
                    </a:lnTo>
                    <a:lnTo>
                      <a:pt x="12" y="368"/>
                    </a:lnTo>
                    <a:lnTo>
                      <a:pt x="16" y="382"/>
                    </a:lnTo>
                    <a:lnTo>
                      <a:pt x="22" y="395"/>
                    </a:lnTo>
                    <a:lnTo>
                      <a:pt x="27" y="407"/>
                    </a:lnTo>
                    <a:lnTo>
                      <a:pt x="33" y="419"/>
                    </a:lnTo>
                    <a:lnTo>
                      <a:pt x="40" y="430"/>
                    </a:lnTo>
                    <a:lnTo>
                      <a:pt x="48" y="442"/>
                    </a:lnTo>
                    <a:lnTo>
                      <a:pt x="55" y="453"/>
                    </a:lnTo>
                    <a:lnTo>
                      <a:pt x="64" y="464"/>
                    </a:lnTo>
                    <a:lnTo>
                      <a:pt x="74" y="474"/>
                    </a:lnTo>
                    <a:lnTo>
                      <a:pt x="83" y="485"/>
                    </a:lnTo>
                    <a:lnTo>
                      <a:pt x="92" y="494"/>
                    </a:lnTo>
                    <a:lnTo>
                      <a:pt x="102" y="503"/>
                    </a:lnTo>
                    <a:lnTo>
                      <a:pt x="113" y="511"/>
                    </a:lnTo>
                    <a:lnTo>
                      <a:pt x="124" y="519"/>
                    </a:lnTo>
                    <a:lnTo>
                      <a:pt x="136" y="526"/>
                    </a:lnTo>
                    <a:lnTo>
                      <a:pt x="147" y="533"/>
                    </a:lnTo>
                    <a:lnTo>
                      <a:pt x="160" y="540"/>
                    </a:lnTo>
                    <a:lnTo>
                      <a:pt x="173" y="546"/>
                    </a:lnTo>
                    <a:lnTo>
                      <a:pt x="185" y="550"/>
                    </a:lnTo>
                    <a:lnTo>
                      <a:pt x="199" y="555"/>
                    </a:lnTo>
                    <a:lnTo>
                      <a:pt x="212" y="558"/>
                    </a:lnTo>
                    <a:lnTo>
                      <a:pt x="226" y="562"/>
                    </a:lnTo>
                    <a:lnTo>
                      <a:pt x="240" y="564"/>
                    </a:lnTo>
                    <a:lnTo>
                      <a:pt x="255" y="566"/>
                    </a:lnTo>
                    <a:lnTo>
                      <a:pt x="268" y="568"/>
                    </a:lnTo>
                    <a:lnTo>
                      <a:pt x="283" y="568"/>
                    </a:lnTo>
                    <a:lnTo>
                      <a:pt x="297" y="568"/>
                    </a:lnTo>
                    <a:lnTo>
                      <a:pt x="312" y="566"/>
                    </a:lnTo>
                    <a:lnTo>
                      <a:pt x="326" y="564"/>
                    </a:lnTo>
                    <a:lnTo>
                      <a:pt x="340" y="562"/>
                    </a:lnTo>
                    <a:lnTo>
                      <a:pt x="354" y="558"/>
                    </a:lnTo>
                    <a:lnTo>
                      <a:pt x="368" y="555"/>
                    </a:lnTo>
                    <a:lnTo>
                      <a:pt x="380" y="550"/>
                    </a:lnTo>
                    <a:lnTo>
                      <a:pt x="394" y="546"/>
                    </a:lnTo>
                    <a:lnTo>
                      <a:pt x="406" y="540"/>
                    </a:lnTo>
                    <a:lnTo>
                      <a:pt x="418" y="533"/>
                    </a:lnTo>
                    <a:lnTo>
                      <a:pt x="430" y="526"/>
                    </a:lnTo>
                    <a:lnTo>
                      <a:pt x="441" y="519"/>
                    </a:lnTo>
                    <a:lnTo>
                      <a:pt x="453" y="511"/>
                    </a:lnTo>
                    <a:lnTo>
                      <a:pt x="463" y="503"/>
                    </a:lnTo>
                    <a:lnTo>
                      <a:pt x="474" y="494"/>
                    </a:lnTo>
                    <a:lnTo>
                      <a:pt x="484" y="485"/>
                    </a:lnTo>
                    <a:lnTo>
                      <a:pt x="493" y="474"/>
                    </a:lnTo>
                    <a:lnTo>
                      <a:pt x="503" y="464"/>
                    </a:lnTo>
                    <a:lnTo>
                      <a:pt x="511" y="453"/>
                    </a:lnTo>
                    <a:lnTo>
                      <a:pt x="519" y="442"/>
                    </a:lnTo>
                    <a:lnTo>
                      <a:pt x="526" y="430"/>
                    </a:lnTo>
                    <a:lnTo>
                      <a:pt x="533" y="419"/>
                    </a:lnTo>
                    <a:lnTo>
                      <a:pt x="540" y="407"/>
                    </a:lnTo>
                    <a:lnTo>
                      <a:pt x="545" y="395"/>
                    </a:lnTo>
                    <a:lnTo>
                      <a:pt x="550" y="382"/>
                    </a:lnTo>
                    <a:lnTo>
                      <a:pt x="555" y="368"/>
                    </a:lnTo>
                    <a:lnTo>
                      <a:pt x="558" y="354"/>
                    </a:lnTo>
                    <a:lnTo>
                      <a:pt x="561" y="340"/>
                    </a:lnTo>
                    <a:lnTo>
                      <a:pt x="564" y="327"/>
                    </a:lnTo>
                    <a:lnTo>
                      <a:pt x="566" y="313"/>
                    </a:lnTo>
                    <a:lnTo>
                      <a:pt x="567" y="299"/>
                    </a:lnTo>
                    <a:lnTo>
                      <a:pt x="567" y="284"/>
                    </a:lnTo>
                    <a:close/>
                    <a:moveTo>
                      <a:pt x="544" y="284"/>
                    </a:moveTo>
                    <a:lnTo>
                      <a:pt x="544" y="298"/>
                    </a:lnTo>
                    <a:lnTo>
                      <a:pt x="543" y="311"/>
                    </a:lnTo>
                    <a:lnTo>
                      <a:pt x="542" y="323"/>
                    </a:lnTo>
                    <a:lnTo>
                      <a:pt x="540" y="336"/>
                    </a:lnTo>
                    <a:lnTo>
                      <a:pt x="536" y="349"/>
                    </a:lnTo>
                    <a:lnTo>
                      <a:pt x="533" y="361"/>
                    </a:lnTo>
                    <a:lnTo>
                      <a:pt x="528" y="374"/>
                    </a:lnTo>
                    <a:lnTo>
                      <a:pt x="523" y="385"/>
                    </a:lnTo>
                    <a:lnTo>
                      <a:pt x="519" y="397"/>
                    </a:lnTo>
                    <a:lnTo>
                      <a:pt x="513" y="409"/>
                    </a:lnTo>
                    <a:lnTo>
                      <a:pt x="506" y="419"/>
                    </a:lnTo>
                    <a:lnTo>
                      <a:pt x="500" y="430"/>
                    </a:lnTo>
                    <a:lnTo>
                      <a:pt x="492" y="440"/>
                    </a:lnTo>
                    <a:lnTo>
                      <a:pt x="484" y="450"/>
                    </a:lnTo>
                    <a:lnTo>
                      <a:pt x="476" y="459"/>
                    </a:lnTo>
                    <a:lnTo>
                      <a:pt x="468" y="468"/>
                    </a:lnTo>
                    <a:lnTo>
                      <a:pt x="459" y="478"/>
                    </a:lnTo>
                    <a:lnTo>
                      <a:pt x="450" y="486"/>
                    </a:lnTo>
                    <a:lnTo>
                      <a:pt x="439" y="493"/>
                    </a:lnTo>
                    <a:lnTo>
                      <a:pt x="429" y="501"/>
                    </a:lnTo>
                    <a:lnTo>
                      <a:pt x="418" y="508"/>
                    </a:lnTo>
                    <a:lnTo>
                      <a:pt x="408" y="513"/>
                    </a:lnTo>
                    <a:lnTo>
                      <a:pt x="396" y="519"/>
                    </a:lnTo>
                    <a:lnTo>
                      <a:pt x="385" y="525"/>
                    </a:lnTo>
                    <a:lnTo>
                      <a:pt x="373" y="530"/>
                    </a:lnTo>
                    <a:lnTo>
                      <a:pt x="361" y="533"/>
                    </a:lnTo>
                    <a:lnTo>
                      <a:pt x="348" y="536"/>
                    </a:lnTo>
                    <a:lnTo>
                      <a:pt x="335" y="540"/>
                    </a:lnTo>
                    <a:lnTo>
                      <a:pt x="323" y="542"/>
                    </a:lnTo>
                    <a:lnTo>
                      <a:pt x="310" y="543"/>
                    </a:lnTo>
                    <a:lnTo>
                      <a:pt x="296" y="545"/>
                    </a:lnTo>
                    <a:lnTo>
                      <a:pt x="283" y="545"/>
                    </a:lnTo>
                    <a:lnTo>
                      <a:pt x="270" y="545"/>
                    </a:lnTo>
                    <a:lnTo>
                      <a:pt x="257" y="543"/>
                    </a:lnTo>
                    <a:lnTo>
                      <a:pt x="243" y="542"/>
                    </a:lnTo>
                    <a:lnTo>
                      <a:pt x="230" y="540"/>
                    </a:lnTo>
                    <a:lnTo>
                      <a:pt x="218" y="536"/>
                    </a:lnTo>
                    <a:lnTo>
                      <a:pt x="205" y="533"/>
                    </a:lnTo>
                    <a:lnTo>
                      <a:pt x="193" y="530"/>
                    </a:lnTo>
                    <a:lnTo>
                      <a:pt x="182" y="525"/>
                    </a:lnTo>
                    <a:lnTo>
                      <a:pt x="170" y="519"/>
                    </a:lnTo>
                    <a:lnTo>
                      <a:pt x="159" y="513"/>
                    </a:lnTo>
                    <a:lnTo>
                      <a:pt x="147" y="508"/>
                    </a:lnTo>
                    <a:lnTo>
                      <a:pt x="137" y="501"/>
                    </a:lnTo>
                    <a:lnTo>
                      <a:pt x="127" y="493"/>
                    </a:lnTo>
                    <a:lnTo>
                      <a:pt x="117" y="486"/>
                    </a:lnTo>
                    <a:lnTo>
                      <a:pt x="108" y="478"/>
                    </a:lnTo>
                    <a:lnTo>
                      <a:pt x="99" y="468"/>
                    </a:lnTo>
                    <a:lnTo>
                      <a:pt x="90" y="459"/>
                    </a:lnTo>
                    <a:lnTo>
                      <a:pt x="82" y="450"/>
                    </a:lnTo>
                    <a:lnTo>
                      <a:pt x="74" y="440"/>
                    </a:lnTo>
                    <a:lnTo>
                      <a:pt x="67" y="430"/>
                    </a:lnTo>
                    <a:lnTo>
                      <a:pt x="60" y="419"/>
                    </a:lnTo>
                    <a:lnTo>
                      <a:pt x="54" y="409"/>
                    </a:lnTo>
                    <a:lnTo>
                      <a:pt x="48" y="397"/>
                    </a:lnTo>
                    <a:lnTo>
                      <a:pt x="42" y="385"/>
                    </a:lnTo>
                    <a:lnTo>
                      <a:pt x="38" y="374"/>
                    </a:lnTo>
                    <a:lnTo>
                      <a:pt x="33" y="361"/>
                    </a:lnTo>
                    <a:lnTo>
                      <a:pt x="30" y="349"/>
                    </a:lnTo>
                    <a:lnTo>
                      <a:pt x="27" y="336"/>
                    </a:lnTo>
                    <a:lnTo>
                      <a:pt x="25" y="323"/>
                    </a:lnTo>
                    <a:lnTo>
                      <a:pt x="23" y="311"/>
                    </a:lnTo>
                    <a:lnTo>
                      <a:pt x="23" y="298"/>
                    </a:lnTo>
                    <a:lnTo>
                      <a:pt x="22" y="284"/>
                    </a:lnTo>
                    <a:lnTo>
                      <a:pt x="23" y="270"/>
                    </a:lnTo>
                    <a:lnTo>
                      <a:pt x="23" y="257"/>
                    </a:lnTo>
                    <a:lnTo>
                      <a:pt x="25" y="244"/>
                    </a:lnTo>
                    <a:lnTo>
                      <a:pt x="27" y="231"/>
                    </a:lnTo>
                    <a:lnTo>
                      <a:pt x="30" y="218"/>
                    </a:lnTo>
                    <a:lnTo>
                      <a:pt x="33" y="207"/>
                    </a:lnTo>
                    <a:lnTo>
                      <a:pt x="38" y="194"/>
                    </a:lnTo>
                    <a:lnTo>
                      <a:pt x="42" y="183"/>
                    </a:lnTo>
                    <a:lnTo>
                      <a:pt x="48" y="171"/>
                    </a:lnTo>
                    <a:lnTo>
                      <a:pt x="54" y="160"/>
                    </a:lnTo>
                    <a:lnTo>
                      <a:pt x="60" y="149"/>
                    </a:lnTo>
                    <a:lnTo>
                      <a:pt x="67" y="138"/>
                    </a:lnTo>
                    <a:lnTo>
                      <a:pt x="74" y="128"/>
                    </a:lnTo>
                    <a:lnTo>
                      <a:pt x="82" y="118"/>
                    </a:lnTo>
                    <a:lnTo>
                      <a:pt x="90" y="109"/>
                    </a:lnTo>
                    <a:lnTo>
                      <a:pt x="99" y="100"/>
                    </a:lnTo>
                    <a:lnTo>
                      <a:pt x="108" y="90"/>
                    </a:lnTo>
                    <a:lnTo>
                      <a:pt x="117" y="82"/>
                    </a:lnTo>
                    <a:lnTo>
                      <a:pt x="127" y="74"/>
                    </a:lnTo>
                    <a:lnTo>
                      <a:pt x="137" y="67"/>
                    </a:lnTo>
                    <a:lnTo>
                      <a:pt x="147" y="60"/>
                    </a:lnTo>
                    <a:lnTo>
                      <a:pt x="159" y="55"/>
                    </a:lnTo>
                    <a:lnTo>
                      <a:pt x="170" y="49"/>
                    </a:lnTo>
                    <a:lnTo>
                      <a:pt x="182" y="43"/>
                    </a:lnTo>
                    <a:lnTo>
                      <a:pt x="193" y="38"/>
                    </a:lnTo>
                    <a:lnTo>
                      <a:pt x="205" y="35"/>
                    </a:lnTo>
                    <a:lnTo>
                      <a:pt x="218" y="32"/>
                    </a:lnTo>
                    <a:lnTo>
                      <a:pt x="230" y="28"/>
                    </a:lnTo>
                    <a:lnTo>
                      <a:pt x="243" y="26"/>
                    </a:lnTo>
                    <a:lnTo>
                      <a:pt x="257" y="25"/>
                    </a:lnTo>
                    <a:lnTo>
                      <a:pt x="270" y="23"/>
                    </a:lnTo>
                    <a:lnTo>
                      <a:pt x="283" y="22"/>
                    </a:lnTo>
                    <a:lnTo>
                      <a:pt x="296" y="23"/>
                    </a:lnTo>
                    <a:lnTo>
                      <a:pt x="310" y="25"/>
                    </a:lnTo>
                    <a:lnTo>
                      <a:pt x="323" y="26"/>
                    </a:lnTo>
                    <a:lnTo>
                      <a:pt x="335" y="28"/>
                    </a:lnTo>
                    <a:lnTo>
                      <a:pt x="348" y="32"/>
                    </a:lnTo>
                    <a:lnTo>
                      <a:pt x="361" y="35"/>
                    </a:lnTo>
                    <a:lnTo>
                      <a:pt x="373" y="38"/>
                    </a:lnTo>
                    <a:lnTo>
                      <a:pt x="385" y="43"/>
                    </a:lnTo>
                    <a:lnTo>
                      <a:pt x="396" y="49"/>
                    </a:lnTo>
                    <a:lnTo>
                      <a:pt x="408" y="55"/>
                    </a:lnTo>
                    <a:lnTo>
                      <a:pt x="418" y="60"/>
                    </a:lnTo>
                    <a:lnTo>
                      <a:pt x="429" y="67"/>
                    </a:lnTo>
                    <a:lnTo>
                      <a:pt x="450" y="82"/>
                    </a:lnTo>
                    <a:lnTo>
                      <a:pt x="468" y="100"/>
                    </a:lnTo>
                    <a:lnTo>
                      <a:pt x="484" y="118"/>
                    </a:lnTo>
                    <a:lnTo>
                      <a:pt x="500" y="138"/>
                    </a:lnTo>
                    <a:lnTo>
                      <a:pt x="506" y="149"/>
                    </a:lnTo>
                    <a:lnTo>
                      <a:pt x="513" y="160"/>
                    </a:lnTo>
                    <a:lnTo>
                      <a:pt x="519" y="171"/>
                    </a:lnTo>
                    <a:lnTo>
                      <a:pt x="523" y="183"/>
                    </a:lnTo>
                    <a:lnTo>
                      <a:pt x="528" y="194"/>
                    </a:lnTo>
                    <a:lnTo>
                      <a:pt x="533" y="207"/>
                    </a:lnTo>
                    <a:lnTo>
                      <a:pt x="536" y="218"/>
                    </a:lnTo>
                    <a:lnTo>
                      <a:pt x="540" y="231"/>
                    </a:lnTo>
                    <a:lnTo>
                      <a:pt x="542" y="244"/>
                    </a:lnTo>
                    <a:lnTo>
                      <a:pt x="543" y="257"/>
                    </a:lnTo>
                    <a:lnTo>
                      <a:pt x="544" y="270"/>
                    </a:lnTo>
                    <a:lnTo>
                      <a:pt x="544" y="28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19640" y="3867120"/>
                <a:ext cx="144720" cy="142920"/>
              </a:xfrm>
              <a:custGeom>
                <a:avLst/>
                <a:gdLst/>
                <a:ahLst/>
                <a:rect l="l" t="t" r="r" b="b"/>
                <a:pathLst>
                  <a:path w="545" h="544">
                    <a:moveTo>
                      <a:pt x="545" y="272"/>
                    </a:moveTo>
                    <a:lnTo>
                      <a:pt x="545" y="258"/>
                    </a:lnTo>
                    <a:lnTo>
                      <a:pt x="544" y="244"/>
                    </a:lnTo>
                    <a:lnTo>
                      <a:pt x="541" y="231"/>
                    </a:lnTo>
                    <a:lnTo>
                      <a:pt x="539" y="217"/>
                    </a:lnTo>
                    <a:lnTo>
                      <a:pt x="537" y="204"/>
                    </a:lnTo>
                    <a:lnTo>
                      <a:pt x="532" y="191"/>
                    </a:lnTo>
                    <a:lnTo>
                      <a:pt x="529" y="179"/>
                    </a:lnTo>
                    <a:lnTo>
                      <a:pt x="524" y="166"/>
                    </a:lnTo>
                    <a:lnTo>
                      <a:pt x="518" y="153"/>
                    </a:lnTo>
                    <a:lnTo>
                      <a:pt x="511" y="142"/>
                    </a:lnTo>
                    <a:lnTo>
                      <a:pt x="505" y="130"/>
                    </a:lnTo>
                    <a:lnTo>
                      <a:pt x="499" y="120"/>
                    </a:lnTo>
                    <a:lnTo>
                      <a:pt x="490" y="109"/>
                    </a:lnTo>
                    <a:lnTo>
                      <a:pt x="482" y="99"/>
                    </a:lnTo>
                    <a:lnTo>
                      <a:pt x="474" y="89"/>
                    </a:lnTo>
                    <a:lnTo>
                      <a:pt x="465" y="79"/>
                    </a:lnTo>
                    <a:lnTo>
                      <a:pt x="456" y="70"/>
                    </a:lnTo>
                    <a:lnTo>
                      <a:pt x="445" y="62"/>
                    </a:lnTo>
                    <a:lnTo>
                      <a:pt x="435" y="54"/>
                    </a:lnTo>
                    <a:lnTo>
                      <a:pt x="425" y="46"/>
                    </a:lnTo>
                    <a:lnTo>
                      <a:pt x="413" y="39"/>
                    </a:lnTo>
                    <a:lnTo>
                      <a:pt x="402" y="32"/>
                    </a:lnTo>
                    <a:lnTo>
                      <a:pt x="390" y="26"/>
                    </a:lnTo>
                    <a:lnTo>
                      <a:pt x="379" y="21"/>
                    </a:lnTo>
                    <a:lnTo>
                      <a:pt x="366" y="16"/>
                    </a:lnTo>
                    <a:lnTo>
                      <a:pt x="353" y="11"/>
                    </a:lnTo>
                    <a:lnTo>
                      <a:pt x="341" y="8"/>
                    </a:lnTo>
                    <a:lnTo>
                      <a:pt x="327" y="5"/>
                    </a:lnTo>
                    <a:lnTo>
                      <a:pt x="314" y="2"/>
                    </a:lnTo>
                    <a:lnTo>
                      <a:pt x="300" y="1"/>
                    </a:lnTo>
                    <a:lnTo>
                      <a:pt x="286" y="0"/>
                    </a:lnTo>
                    <a:lnTo>
                      <a:pt x="272" y="0"/>
                    </a:lnTo>
                    <a:lnTo>
                      <a:pt x="259" y="0"/>
                    </a:lnTo>
                    <a:lnTo>
                      <a:pt x="245" y="1"/>
                    </a:lnTo>
                    <a:lnTo>
                      <a:pt x="231" y="2"/>
                    </a:lnTo>
                    <a:lnTo>
                      <a:pt x="217" y="5"/>
                    </a:lnTo>
                    <a:lnTo>
                      <a:pt x="204" y="8"/>
                    </a:lnTo>
                    <a:lnTo>
                      <a:pt x="191" y="11"/>
                    </a:lnTo>
                    <a:lnTo>
                      <a:pt x="178" y="16"/>
                    </a:lnTo>
                    <a:lnTo>
                      <a:pt x="166" y="21"/>
                    </a:lnTo>
                    <a:lnTo>
                      <a:pt x="154" y="26"/>
                    </a:lnTo>
                    <a:lnTo>
                      <a:pt x="142" y="32"/>
                    </a:lnTo>
                    <a:lnTo>
                      <a:pt x="131" y="39"/>
                    </a:lnTo>
                    <a:lnTo>
                      <a:pt x="120" y="46"/>
                    </a:lnTo>
                    <a:lnTo>
                      <a:pt x="109" y="54"/>
                    </a:lnTo>
                    <a:lnTo>
                      <a:pt x="98" y="62"/>
                    </a:lnTo>
                    <a:lnTo>
                      <a:pt x="89" y="70"/>
                    </a:lnTo>
                    <a:lnTo>
                      <a:pt x="80" y="79"/>
                    </a:lnTo>
                    <a:lnTo>
                      <a:pt x="71" y="89"/>
                    </a:lnTo>
                    <a:lnTo>
                      <a:pt x="61" y="99"/>
                    </a:lnTo>
                    <a:lnTo>
                      <a:pt x="53" y="109"/>
                    </a:lnTo>
                    <a:lnTo>
                      <a:pt x="46" y="120"/>
                    </a:lnTo>
                    <a:lnTo>
                      <a:pt x="39" y="130"/>
                    </a:lnTo>
                    <a:lnTo>
                      <a:pt x="33" y="142"/>
                    </a:lnTo>
                    <a:lnTo>
                      <a:pt x="27" y="153"/>
                    </a:lnTo>
                    <a:lnTo>
                      <a:pt x="21" y="166"/>
                    </a:lnTo>
                    <a:lnTo>
                      <a:pt x="16" y="179"/>
                    </a:lnTo>
                    <a:lnTo>
                      <a:pt x="12" y="191"/>
                    </a:lnTo>
                    <a:lnTo>
                      <a:pt x="8" y="204"/>
                    </a:lnTo>
                    <a:lnTo>
                      <a:pt x="5" y="217"/>
                    </a:lnTo>
                    <a:lnTo>
                      <a:pt x="3" y="231"/>
                    </a:lnTo>
                    <a:lnTo>
                      <a:pt x="1" y="244"/>
                    </a:lnTo>
                    <a:lnTo>
                      <a:pt x="0" y="258"/>
                    </a:lnTo>
                    <a:lnTo>
                      <a:pt x="0" y="272"/>
                    </a:lnTo>
                    <a:lnTo>
                      <a:pt x="0" y="286"/>
                    </a:lnTo>
                    <a:lnTo>
                      <a:pt x="1" y="300"/>
                    </a:lnTo>
                    <a:lnTo>
                      <a:pt x="3" y="314"/>
                    </a:lnTo>
                    <a:lnTo>
                      <a:pt x="5" y="326"/>
                    </a:lnTo>
                    <a:lnTo>
                      <a:pt x="8" y="340"/>
                    </a:lnTo>
                    <a:lnTo>
                      <a:pt x="12" y="353"/>
                    </a:lnTo>
                    <a:lnTo>
                      <a:pt x="16" y="365"/>
                    </a:lnTo>
                    <a:lnTo>
                      <a:pt x="21" y="378"/>
                    </a:lnTo>
                    <a:lnTo>
                      <a:pt x="27" y="390"/>
                    </a:lnTo>
                    <a:lnTo>
                      <a:pt x="33" y="402"/>
                    </a:lnTo>
                    <a:lnTo>
                      <a:pt x="39" y="413"/>
                    </a:lnTo>
                    <a:lnTo>
                      <a:pt x="46" y="424"/>
                    </a:lnTo>
                    <a:lnTo>
                      <a:pt x="53" y="435"/>
                    </a:lnTo>
                    <a:lnTo>
                      <a:pt x="61" y="445"/>
                    </a:lnTo>
                    <a:lnTo>
                      <a:pt x="71" y="455"/>
                    </a:lnTo>
                    <a:lnTo>
                      <a:pt x="80" y="465"/>
                    </a:lnTo>
                    <a:lnTo>
                      <a:pt x="89" y="474"/>
                    </a:lnTo>
                    <a:lnTo>
                      <a:pt x="98" y="482"/>
                    </a:lnTo>
                    <a:lnTo>
                      <a:pt x="109" y="490"/>
                    </a:lnTo>
                    <a:lnTo>
                      <a:pt x="120" y="498"/>
                    </a:lnTo>
                    <a:lnTo>
                      <a:pt x="131" y="505"/>
                    </a:lnTo>
                    <a:lnTo>
                      <a:pt x="142" y="512"/>
                    </a:lnTo>
                    <a:lnTo>
                      <a:pt x="154" y="518"/>
                    </a:lnTo>
                    <a:lnTo>
                      <a:pt x="166" y="523"/>
                    </a:lnTo>
                    <a:lnTo>
                      <a:pt x="178" y="528"/>
                    </a:lnTo>
                    <a:lnTo>
                      <a:pt x="191" y="533"/>
                    </a:lnTo>
                    <a:lnTo>
                      <a:pt x="204" y="536"/>
                    </a:lnTo>
                    <a:lnTo>
                      <a:pt x="217" y="538"/>
                    </a:lnTo>
                    <a:lnTo>
                      <a:pt x="231" y="541"/>
                    </a:lnTo>
                    <a:lnTo>
                      <a:pt x="245" y="543"/>
                    </a:lnTo>
                    <a:lnTo>
                      <a:pt x="259" y="544"/>
                    </a:lnTo>
                    <a:lnTo>
                      <a:pt x="272" y="544"/>
                    </a:lnTo>
                    <a:lnTo>
                      <a:pt x="286" y="544"/>
                    </a:lnTo>
                    <a:lnTo>
                      <a:pt x="300" y="543"/>
                    </a:lnTo>
                    <a:lnTo>
                      <a:pt x="314" y="541"/>
                    </a:lnTo>
                    <a:lnTo>
                      <a:pt x="327" y="538"/>
                    </a:lnTo>
                    <a:lnTo>
                      <a:pt x="341" y="536"/>
                    </a:lnTo>
                    <a:lnTo>
                      <a:pt x="353" y="533"/>
                    </a:lnTo>
                    <a:lnTo>
                      <a:pt x="366" y="528"/>
                    </a:lnTo>
                    <a:lnTo>
                      <a:pt x="379" y="523"/>
                    </a:lnTo>
                    <a:lnTo>
                      <a:pt x="390" y="518"/>
                    </a:lnTo>
                    <a:lnTo>
                      <a:pt x="402" y="512"/>
                    </a:lnTo>
                    <a:lnTo>
                      <a:pt x="413" y="505"/>
                    </a:lnTo>
                    <a:lnTo>
                      <a:pt x="425" y="498"/>
                    </a:lnTo>
                    <a:lnTo>
                      <a:pt x="435" y="490"/>
                    </a:lnTo>
                    <a:lnTo>
                      <a:pt x="445" y="482"/>
                    </a:lnTo>
                    <a:lnTo>
                      <a:pt x="456" y="474"/>
                    </a:lnTo>
                    <a:lnTo>
                      <a:pt x="465" y="465"/>
                    </a:lnTo>
                    <a:lnTo>
                      <a:pt x="474" y="455"/>
                    </a:lnTo>
                    <a:lnTo>
                      <a:pt x="482" y="445"/>
                    </a:lnTo>
                    <a:lnTo>
                      <a:pt x="490" y="435"/>
                    </a:lnTo>
                    <a:lnTo>
                      <a:pt x="499" y="424"/>
                    </a:lnTo>
                    <a:lnTo>
                      <a:pt x="505" y="413"/>
                    </a:lnTo>
                    <a:lnTo>
                      <a:pt x="511" y="402"/>
                    </a:lnTo>
                    <a:lnTo>
                      <a:pt x="518" y="390"/>
                    </a:lnTo>
                    <a:lnTo>
                      <a:pt x="524" y="378"/>
                    </a:lnTo>
                    <a:lnTo>
                      <a:pt x="529" y="365"/>
                    </a:lnTo>
                    <a:lnTo>
                      <a:pt x="532" y="353"/>
                    </a:lnTo>
                    <a:lnTo>
                      <a:pt x="537" y="340"/>
                    </a:lnTo>
                    <a:lnTo>
                      <a:pt x="539" y="326"/>
                    </a:lnTo>
                    <a:lnTo>
                      <a:pt x="541" y="314"/>
                    </a:lnTo>
                    <a:lnTo>
                      <a:pt x="544" y="300"/>
                    </a:lnTo>
                    <a:lnTo>
                      <a:pt x="545" y="286"/>
                    </a:lnTo>
                    <a:lnTo>
                      <a:pt x="545" y="272"/>
                    </a:lnTo>
                    <a:close/>
                    <a:moveTo>
                      <a:pt x="523" y="272"/>
                    </a:moveTo>
                    <a:lnTo>
                      <a:pt x="522" y="285"/>
                    </a:lnTo>
                    <a:lnTo>
                      <a:pt x="520" y="297"/>
                    </a:lnTo>
                    <a:lnTo>
                      <a:pt x="519" y="310"/>
                    </a:lnTo>
                    <a:lnTo>
                      <a:pt x="517" y="323"/>
                    </a:lnTo>
                    <a:lnTo>
                      <a:pt x="515" y="334"/>
                    </a:lnTo>
                    <a:lnTo>
                      <a:pt x="511" y="346"/>
                    </a:lnTo>
                    <a:lnTo>
                      <a:pt x="507" y="357"/>
                    </a:lnTo>
                    <a:lnTo>
                      <a:pt x="502" y="369"/>
                    </a:lnTo>
                    <a:lnTo>
                      <a:pt x="492" y="391"/>
                    </a:lnTo>
                    <a:lnTo>
                      <a:pt x="479" y="411"/>
                    </a:lnTo>
                    <a:lnTo>
                      <a:pt x="465" y="431"/>
                    </a:lnTo>
                    <a:lnTo>
                      <a:pt x="449" y="448"/>
                    </a:lnTo>
                    <a:lnTo>
                      <a:pt x="440" y="456"/>
                    </a:lnTo>
                    <a:lnTo>
                      <a:pt x="432" y="465"/>
                    </a:lnTo>
                    <a:lnTo>
                      <a:pt x="421" y="471"/>
                    </a:lnTo>
                    <a:lnTo>
                      <a:pt x="412" y="480"/>
                    </a:lnTo>
                    <a:lnTo>
                      <a:pt x="402" y="485"/>
                    </a:lnTo>
                    <a:lnTo>
                      <a:pt x="391" y="491"/>
                    </a:lnTo>
                    <a:lnTo>
                      <a:pt x="381" y="497"/>
                    </a:lnTo>
                    <a:lnTo>
                      <a:pt x="369" y="501"/>
                    </a:lnTo>
                    <a:lnTo>
                      <a:pt x="358" y="506"/>
                    </a:lnTo>
                    <a:lnTo>
                      <a:pt x="346" y="511"/>
                    </a:lnTo>
                    <a:lnTo>
                      <a:pt x="335" y="514"/>
                    </a:lnTo>
                    <a:lnTo>
                      <a:pt x="322" y="516"/>
                    </a:lnTo>
                    <a:lnTo>
                      <a:pt x="311" y="519"/>
                    </a:lnTo>
                    <a:lnTo>
                      <a:pt x="298" y="520"/>
                    </a:lnTo>
                    <a:lnTo>
                      <a:pt x="285" y="521"/>
                    </a:lnTo>
                    <a:lnTo>
                      <a:pt x="272" y="521"/>
                    </a:lnTo>
                    <a:lnTo>
                      <a:pt x="260" y="521"/>
                    </a:lnTo>
                    <a:lnTo>
                      <a:pt x="247" y="520"/>
                    </a:lnTo>
                    <a:lnTo>
                      <a:pt x="234" y="519"/>
                    </a:lnTo>
                    <a:lnTo>
                      <a:pt x="222" y="516"/>
                    </a:lnTo>
                    <a:lnTo>
                      <a:pt x="210" y="514"/>
                    </a:lnTo>
                    <a:lnTo>
                      <a:pt x="197" y="511"/>
                    </a:lnTo>
                    <a:lnTo>
                      <a:pt x="186" y="506"/>
                    </a:lnTo>
                    <a:lnTo>
                      <a:pt x="174" y="501"/>
                    </a:lnTo>
                    <a:lnTo>
                      <a:pt x="164" y="497"/>
                    </a:lnTo>
                    <a:lnTo>
                      <a:pt x="153" y="491"/>
                    </a:lnTo>
                    <a:lnTo>
                      <a:pt x="142" y="485"/>
                    </a:lnTo>
                    <a:lnTo>
                      <a:pt x="133" y="480"/>
                    </a:lnTo>
                    <a:lnTo>
                      <a:pt x="123" y="471"/>
                    </a:lnTo>
                    <a:lnTo>
                      <a:pt x="113" y="465"/>
                    </a:lnTo>
                    <a:lnTo>
                      <a:pt x="104" y="456"/>
                    </a:lnTo>
                    <a:lnTo>
                      <a:pt x="96" y="448"/>
                    </a:lnTo>
                    <a:lnTo>
                      <a:pt x="87" y="440"/>
                    </a:lnTo>
                    <a:lnTo>
                      <a:pt x="80" y="431"/>
                    </a:lnTo>
                    <a:lnTo>
                      <a:pt x="72" y="421"/>
                    </a:lnTo>
                    <a:lnTo>
                      <a:pt x="65" y="411"/>
                    </a:lnTo>
                    <a:lnTo>
                      <a:pt x="58" y="401"/>
                    </a:lnTo>
                    <a:lnTo>
                      <a:pt x="52" y="391"/>
                    </a:lnTo>
                    <a:lnTo>
                      <a:pt x="46" y="380"/>
                    </a:lnTo>
                    <a:lnTo>
                      <a:pt x="42" y="369"/>
                    </a:lnTo>
                    <a:lnTo>
                      <a:pt x="37" y="357"/>
                    </a:lnTo>
                    <a:lnTo>
                      <a:pt x="34" y="346"/>
                    </a:lnTo>
                    <a:lnTo>
                      <a:pt x="30" y="334"/>
                    </a:lnTo>
                    <a:lnTo>
                      <a:pt x="28" y="323"/>
                    </a:lnTo>
                    <a:lnTo>
                      <a:pt x="26" y="310"/>
                    </a:lnTo>
                    <a:lnTo>
                      <a:pt x="23" y="297"/>
                    </a:lnTo>
                    <a:lnTo>
                      <a:pt x="22" y="285"/>
                    </a:lnTo>
                    <a:lnTo>
                      <a:pt x="22" y="272"/>
                    </a:lnTo>
                    <a:lnTo>
                      <a:pt x="22" y="259"/>
                    </a:lnTo>
                    <a:lnTo>
                      <a:pt x="23" y="247"/>
                    </a:lnTo>
                    <a:lnTo>
                      <a:pt x="26" y="234"/>
                    </a:lnTo>
                    <a:lnTo>
                      <a:pt x="28" y="221"/>
                    </a:lnTo>
                    <a:lnTo>
                      <a:pt x="30" y="210"/>
                    </a:lnTo>
                    <a:lnTo>
                      <a:pt x="34" y="197"/>
                    </a:lnTo>
                    <a:lnTo>
                      <a:pt x="37" y="186"/>
                    </a:lnTo>
                    <a:lnTo>
                      <a:pt x="42" y="174"/>
                    </a:lnTo>
                    <a:lnTo>
                      <a:pt x="46" y="164"/>
                    </a:lnTo>
                    <a:lnTo>
                      <a:pt x="52" y="153"/>
                    </a:lnTo>
                    <a:lnTo>
                      <a:pt x="58" y="142"/>
                    </a:lnTo>
                    <a:lnTo>
                      <a:pt x="65" y="133"/>
                    </a:lnTo>
                    <a:lnTo>
                      <a:pt x="72" y="122"/>
                    </a:lnTo>
                    <a:lnTo>
                      <a:pt x="80" y="113"/>
                    </a:lnTo>
                    <a:lnTo>
                      <a:pt x="87" y="104"/>
                    </a:lnTo>
                    <a:lnTo>
                      <a:pt x="96" y="96"/>
                    </a:lnTo>
                    <a:lnTo>
                      <a:pt x="113" y="79"/>
                    </a:lnTo>
                    <a:lnTo>
                      <a:pt x="133" y="65"/>
                    </a:lnTo>
                    <a:lnTo>
                      <a:pt x="153" y="52"/>
                    </a:lnTo>
                    <a:lnTo>
                      <a:pt x="174" y="41"/>
                    </a:lnTo>
                    <a:lnTo>
                      <a:pt x="186" y="37"/>
                    </a:lnTo>
                    <a:lnTo>
                      <a:pt x="197" y="33"/>
                    </a:lnTo>
                    <a:lnTo>
                      <a:pt x="210" y="30"/>
                    </a:lnTo>
                    <a:lnTo>
                      <a:pt x="222" y="28"/>
                    </a:lnTo>
                    <a:lnTo>
                      <a:pt x="234" y="25"/>
                    </a:lnTo>
                    <a:lnTo>
                      <a:pt x="247" y="23"/>
                    </a:lnTo>
                    <a:lnTo>
                      <a:pt x="260" y="22"/>
                    </a:lnTo>
                    <a:lnTo>
                      <a:pt x="272" y="22"/>
                    </a:lnTo>
                    <a:lnTo>
                      <a:pt x="285" y="22"/>
                    </a:lnTo>
                    <a:lnTo>
                      <a:pt x="298" y="23"/>
                    </a:lnTo>
                    <a:lnTo>
                      <a:pt x="311" y="25"/>
                    </a:lnTo>
                    <a:lnTo>
                      <a:pt x="322" y="28"/>
                    </a:lnTo>
                    <a:lnTo>
                      <a:pt x="346" y="33"/>
                    </a:lnTo>
                    <a:lnTo>
                      <a:pt x="369" y="41"/>
                    </a:lnTo>
                    <a:lnTo>
                      <a:pt x="391" y="52"/>
                    </a:lnTo>
                    <a:lnTo>
                      <a:pt x="412" y="65"/>
                    </a:lnTo>
                    <a:lnTo>
                      <a:pt x="432" y="79"/>
                    </a:lnTo>
                    <a:lnTo>
                      <a:pt x="449" y="96"/>
                    </a:lnTo>
                    <a:lnTo>
                      <a:pt x="465" y="113"/>
                    </a:lnTo>
                    <a:lnTo>
                      <a:pt x="479" y="133"/>
                    </a:lnTo>
                    <a:lnTo>
                      <a:pt x="492" y="153"/>
                    </a:lnTo>
                    <a:lnTo>
                      <a:pt x="502" y="174"/>
                    </a:lnTo>
                    <a:lnTo>
                      <a:pt x="511" y="197"/>
                    </a:lnTo>
                    <a:lnTo>
                      <a:pt x="517" y="221"/>
                    </a:lnTo>
                    <a:lnTo>
                      <a:pt x="519" y="234"/>
                    </a:lnTo>
                    <a:lnTo>
                      <a:pt x="520" y="247"/>
                    </a:lnTo>
                    <a:lnTo>
                      <a:pt x="522" y="259"/>
                    </a:lnTo>
                    <a:lnTo>
                      <a:pt x="523" y="27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22880" y="3868560"/>
                <a:ext cx="138240" cy="138240"/>
              </a:xfrm>
              <a:custGeom>
                <a:avLst/>
                <a:gdLst/>
                <a:ahLst/>
                <a:rect l="l" t="t" r="r" b="b"/>
                <a:pathLst>
                  <a:path w="522" h="523">
                    <a:moveTo>
                      <a:pt x="522" y="262"/>
                    </a:moveTo>
                    <a:lnTo>
                      <a:pt x="522" y="248"/>
                    </a:lnTo>
                    <a:lnTo>
                      <a:pt x="521" y="235"/>
                    </a:lnTo>
                    <a:lnTo>
                      <a:pt x="520" y="222"/>
                    </a:lnTo>
                    <a:lnTo>
                      <a:pt x="518" y="209"/>
                    </a:lnTo>
                    <a:lnTo>
                      <a:pt x="514" y="196"/>
                    </a:lnTo>
                    <a:lnTo>
                      <a:pt x="511" y="185"/>
                    </a:lnTo>
                    <a:lnTo>
                      <a:pt x="506" y="172"/>
                    </a:lnTo>
                    <a:lnTo>
                      <a:pt x="501" y="161"/>
                    </a:lnTo>
                    <a:lnTo>
                      <a:pt x="491" y="138"/>
                    </a:lnTo>
                    <a:lnTo>
                      <a:pt x="478" y="116"/>
                    </a:lnTo>
                    <a:lnTo>
                      <a:pt x="462" y="96"/>
                    </a:lnTo>
                    <a:lnTo>
                      <a:pt x="446" y="78"/>
                    </a:lnTo>
                    <a:lnTo>
                      <a:pt x="428" y="60"/>
                    </a:lnTo>
                    <a:lnTo>
                      <a:pt x="407" y="45"/>
                    </a:lnTo>
                    <a:lnTo>
                      <a:pt x="386" y="33"/>
                    </a:lnTo>
                    <a:lnTo>
                      <a:pt x="363" y="21"/>
                    </a:lnTo>
                    <a:lnTo>
                      <a:pt x="351" y="16"/>
                    </a:lnTo>
                    <a:lnTo>
                      <a:pt x="339" y="13"/>
                    </a:lnTo>
                    <a:lnTo>
                      <a:pt x="326" y="10"/>
                    </a:lnTo>
                    <a:lnTo>
                      <a:pt x="313" y="6"/>
                    </a:lnTo>
                    <a:lnTo>
                      <a:pt x="301" y="4"/>
                    </a:lnTo>
                    <a:lnTo>
                      <a:pt x="288" y="3"/>
                    </a:lnTo>
                    <a:lnTo>
                      <a:pt x="274" y="1"/>
                    </a:lnTo>
                    <a:lnTo>
                      <a:pt x="261" y="0"/>
                    </a:lnTo>
                    <a:lnTo>
                      <a:pt x="248" y="1"/>
                    </a:lnTo>
                    <a:lnTo>
                      <a:pt x="235" y="3"/>
                    </a:lnTo>
                    <a:lnTo>
                      <a:pt x="221" y="4"/>
                    </a:lnTo>
                    <a:lnTo>
                      <a:pt x="208" y="6"/>
                    </a:lnTo>
                    <a:lnTo>
                      <a:pt x="196" y="10"/>
                    </a:lnTo>
                    <a:lnTo>
                      <a:pt x="183" y="13"/>
                    </a:lnTo>
                    <a:lnTo>
                      <a:pt x="171" y="16"/>
                    </a:lnTo>
                    <a:lnTo>
                      <a:pt x="160" y="21"/>
                    </a:lnTo>
                    <a:lnTo>
                      <a:pt x="148" y="27"/>
                    </a:lnTo>
                    <a:lnTo>
                      <a:pt x="137" y="33"/>
                    </a:lnTo>
                    <a:lnTo>
                      <a:pt x="125" y="38"/>
                    </a:lnTo>
                    <a:lnTo>
                      <a:pt x="115" y="45"/>
                    </a:lnTo>
                    <a:lnTo>
                      <a:pt x="105" y="52"/>
                    </a:lnTo>
                    <a:lnTo>
                      <a:pt x="95" y="60"/>
                    </a:lnTo>
                    <a:lnTo>
                      <a:pt x="86" y="68"/>
                    </a:lnTo>
                    <a:lnTo>
                      <a:pt x="77" y="78"/>
                    </a:lnTo>
                    <a:lnTo>
                      <a:pt x="68" y="87"/>
                    </a:lnTo>
                    <a:lnTo>
                      <a:pt x="60" y="96"/>
                    </a:lnTo>
                    <a:lnTo>
                      <a:pt x="52" y="105"/>
                    </a:lnTo>
                    <a:lnTo>
                      <a:pt x="45" y="116"/>
                    </a:lnTo>
                    <a:lnTo>
                      <a:pt x="38" y="127"/>
                    </a:lnTo>
                    <a:lnTo>
                      <a:pt x="32" y="138"/>
                    </a:lnTo>
                    <a:lnTo>
                      <a:pt x="26" y="149"/>
                    </a:lnTo>
                    <a:lnTo>
                      <a:pt x="20" y="161"/>
                    </a:lnTo>
                    <a:lnTo>
                      <a:pt x="16" y="172"/>
                    </a:lnTo>
                    <a:lnTo>
                      <a:pt x="11" y="185"/>
                    </a:lnTo>
                    <a:lnTo>
                      <a:pt x="8" y="196"/>
                    </a:lnTo>
                    <a:lnTo>
                      <a:pt x="5" y="209"/>
                    </a:lnTo>
                    <a:lnTo>
                      <a:pt x="3" y="222"/>
                    </a:lnTo>
                    <a:lnTo>
                      <a:pt x="1" y="235"/>
                    </a:lnTo>
                    <a:lnTo>
                      <a:pt x="1" y="248"/>
                    </a:lnTo>
                    <a:lnTo>
                      <a:pt x="0" y="262"/>
                    </a:lnTo>
                    <a:lnTo>
                      <a:pt x="1" y="276"/>
                    </a:lnTo>
                    <a:lnTo>
                      <a:pt x="1" y="289"/>
                    </a:lnTo>
                    <a:lnTo>
                      <a:pt x="3" y="301"/>
                    </a:lnTo>
                    <a:lnTo>
                      <a:pt x="5" y="314"/>
                    </a:lnTo>
                    <a:lnTo>
                      <a:pt x="8" y="327"/>
                    </a:lnTo>
                    <a:lnTo>
                      <a:pt x="11" y="339"/>
                    </a:lnTo>
                    <a:lnTo>
                      <a:pt x="16" y="352"/>
                    </a:lnTo>
                    <a:lnTo>
                      <a:pt x="20" y="363"/>
                    </a:lnTo>
                    <a:lnTo>
                      <a:pt x="26" y="375"/>
                    </a:lnTo>
                    <a:lnTo>
                      <a:pt x="32" y="387"/>
                    </a:lnTo>
                    <a:lnTo>
                      <a:pt x="38" y="397"/>
                    </a:lnTo>
                    <a:lnTo>
                      <a:pt x="45" y="408"/>
                    </a:lnTo>
                    <a:lnTo>
                      <a:pt x="52" y="418"/>
                    </a:lnTo>
                    <a:lnTo>
                      <a:pt x="60" y="428"/>
                    </a:lnTo>
                    <a:lnTo>
                      <a:pt x="68" y="437"/>
                    </a:lnTo>
                    <a:lnTo>
                      <a:pt x="77" y="446"/>
                    </a:lnTo>
                    <a:lnTo>
                      <a:pt x="86" y="456"/>
                    </a:lnTo>
                    <a:lnTo>
                      <a:pt x="95" y="464"/>
                    </a:lnTo>
                    <a:lnTo>
                      <a:pt x="105" y="471"/>
                    </a:lnTo>
                    <a:lnTo>
                      <a:pt x="115" y="479"/>
                    </a:lnTo>
                    <a:lnTo>
                      <a:pt x="125" y="486"/>
                    </a:lnTo>
                    <a:lnTo>
                      <a:pt x="137" y="491"/>
                    </a:lnTo>
                    <a:lnTo>
                      <a:pt x="148" y="497"/>
                    </a:lnTo>
                    <a:lnTo>
                      <a:pt x="160" y="503"/>
                    </a:lnTo>
                    <a:lnTo>
                      <a:pt x="171" y="508"/>
                    </a:lnTo>
                    <a:lnTo>
                      <a:pt x="183" y="511"/>
                    </a:lnTo>
                    <a:lnTo>
                      <a:pt x="196" y="514"/>
                    </a:lnTo>
                    <a:lnTo>
                      <a:pt x="208" y="518"/>
                    </a:lnTo>
                    <a:lnTo>
                      <a:pt x="221" y="520"/>
                    </a:lnTo>
                    <a:lnTo>
                      <a:pt x="235" y="521"/>
                    </a:lnTo>
                    <a:lnTo>
                      <a:pt x="248" y="523"/>
                    </a:lnTo>
                    <a:lnTo>
                      <a:pt x="261" y="523"/>
                    </a:lnTo>
                    <a:lnTo>
                      <a:pt x="274" y="523"/>
                    </a:lnTo>
                    <a:lnTo>
                      <a:pt x="288" y="521"/>
                    </a:lnTo>
                    <a:lnTo>
                      <a:pt x="301" y="520"/>
                    </a:lnTo>
                    <a:lnTo>
                      <a:pt x="313" y="518"/>
                    </a:lnTo>
                    <a:lnTo>
                      <a:pt x="326" y="514"/>
                    </a:lnTo>
                    <a:lnTo>
                      <a:pt x="339" y="511"/>
                    </a:lnTo>
                    <a:lnTo>
                      <a:pt x="351" y="508"/>
                    </a:lnTo>
                    <a:lnTo>
                      <a:pt x="363" y="503"/>
                    </a:lnTo>
                    <a:lnTo>
                      <a:pt x="374" y="497"/>
                    </a:lnTo>
                    <a:lnTo>
                      <a:pt x="386" y="491"/>
                    </a:lnTo>
                    <a:lnTo>
                      <a:pt x="396" y="486"/>
                    </a:lnTo>
                    <a:lnTo>
                      <a:pt x="407" y="479"/>
                    </a:lnTo>
                    <a:lnTo>
                      <a:pt x="417" y="471"/>
                    </a:lnTo>
                    <a:lnTo>
                      <a:pt x="428" y="464"/>
                    </a:lnTo>
                    <a:lnTo>
                      <a:pt x="437" y="456"/>
                    </a:lnTo>
                    <a:lnTo>
                      <a:pt x="446" y="446"/>
                    </a:lnTo>
                    <a:lnTo>
                      <a:pt x="454" y="437"/>
                    </a:lnTo>
                    <a:lnTo>
                      <a:pt x="462" y="428"/>
                    </a:lnTo>
                    <a:lnTo>
                      <a:pt x="470" y="418"/>
                    </a:lnTo>
                    <a:lnTo>
                      <a:pt x="478" y="408"/>
                    </a:lnTo>
                    <a:lnTo>
                      <a:pt x="484" y="397"/>
                    </a:lnTo>
                    <a:lnTo>
                      <a:pt x="491" y="387"/>
                    </a:lnTo>
                    <a:lnTo>
                      <a:pt x="497" y="375"/>
                    </a:lnTo>
                    <a:lnTo>
                      <a:pt x="501" y="363"/>
                    </a:lnTo>
                    <a:lnTo>
                      <a:pt x="506" y="352"/>
                    </a:lnTo>
                    <a:lnTo>
                      <a:pt x="511" y="339"/>
                    </a:lnTo>
                    <a:lnTo>
                      <a:pt x="514" y="327"/>
                    </a:lnTo>
                    <a:lnTo>
                      <a:pt x="518" y="314"/>
                    </a:lnTo>
                    <a:lnTo>
                      <a:pt x="520" y="301"/>
                    </a:lnTo>
                    <a:lnTo>
                      <a:pt x="521" y="289"/>
                    </a:lnTo>
                    <a:lnTo>
                      <a:pt x="522" y="276"/>
                    </a:lnTo>
                    <a:lnTo>
                      <a:pt x="522" y="262"/>
                    </a:lnTo>
                    <a:close/>
                    <a:moveTo>
                      <a:pt x="500" y="262"/>
                    </a:moveTo>
                    <a:lnTo>
                      <a:pt x="499" y="275"/>
                    </a:lnTo>
                    <a:lnTo>
                      <a:pt x="499" y="286"/>
                    </a:lnTo>
                    <a:lnTo>
                      <a:pt x="497" y="298"/>
                    </a:lnTo>
                    <a:lnTo>
                      <a:pt x="494" y="310"/>
                    </a:lnTo>
                    <a:lnTo>
                      <a:pt x="489" y="332"/>
                    </a:lnTo>
                    <a:lnTo>
                      <a:pt x="481" y="354"/>
                    </a:lnTo>
                    <a:lnTo>
                      <a:pt x="471" y="375"/>
                    </a:lnTo>
                    <a:lnTo>
                      <a:pt x="459" y="395"/>
                    </a:lnTo>
                    <a:lnTo>
                      <a:pt x="445" y="413"/>
                    </a:lnTo>
                    <a:lnTo>
                      <a:pt x="430" y="430"/>
                    </a:lnTo>
                    <a:lnTo>
                      <a:pt x="413" y="445"/>
                    </a:lnTo>
                    <a:lnTo>
                      <a:pt x="394" y="459"/>
                    </a:lnTo>
                    <a:lnTo>
                      <a:pt x="374" y="472"/>
                    </a:lnTo>
                    <a:lnTo>
                      <a:pt x="354" y="481"/>
                    </a:lnTo>
                    <a:lnTo>
                      <a:pt x="332" y="489"/>
                    </a:lnTo>
                    <a:lnTo>
                      <a:pt x="309" y="495"/>
                    </a:lnTo>
                    <a:lnTo>
                      <a:pt x="297" y="497"/>
                    </a:lnTo>
                    <a:lnTo>
                      <a:pt x="286" y="499"/>
                    </a:lnTo>
                    <a:lnTo>
                      <a:pt x="273" y="499"/>
                    </a:lnTo>
                    <a:lnTo>
                      <a:pt x="261" y="501"/>
                    </a:lnTo>
                    <a:lnTo>
                      <a:pt x="249" y="499"/>
                    </a:lnTo>
                    <a:lnTo>
                      <a:pt x="237" y="499"/>
                    </a:lnTo>
                    <a:lnTo>
                      <a:pt x="225" y="497"/>
                    </a:lnTo>
                    <a:lnTo>
                      <a:pt x="213" y="495"/>
                    </a:lnTo>
                    <a:lnTo>
                      <a:pt x="201" y="493"/>
                    </a:lnTo>
                    <a:lnTo>
                      <a:pt x="190" y="489"/>
                    </a:lnTo>
                    <a:lnTo>
                      <a:pt x="180" y="486"/>
                    </a:lnTo>
                    <a:lnTo>
                      <a:pt x="168" y="481"/>
                    </a:lnTo>
                    <a:lnTo>
                      <a:pt x="158" y="476"/>
                    </a:lnTo>
                    <a:lnTo>
                      <a:pt x="147" y="472"/>
                    </a:lnTo>
                    <a:lnTo>
                      <a:pt x="137" y="466"/>
                    </a:lnTo>
                    <a:lnTo>
                      <a:pt x="128" y="459"/>
                    </a:lnTo>
                    <a:lnTo>
                      <a:pt x="109" y="445"/>
                    </a:lnTo>
                    <a:lnTo>
                      <a:pt x="93" y="430"/>
                    </a:lnTo>
                    <a:lnTo>
                      <a:pt x="77" y="413"/>
                    </a:lnTo>
                    <a:lnTo>
                      <a:pt x="63" y="395"/>
                    </a:lnTo>
                    <a:lnTo>
                      <a:pt x="57" y="385"/>
                    </a:lnTo>
                    <a:lnTo>
                      <a:pt x="52" y="375"/>
                    </a:lnTo>
                    <a:lnTo>
                      <a:pt x="46" y="366"/>
                    </a:lnTo>
                    <a:lnTo>
                      <a:pt x="41" y="354"/>
                    </a:lnTo>
                    <a:lnTo>
                      <a:pt x="38" y="344"/>
                    </a:lnTo>
                    <a:lnTo>
                      <a:pt x="33" y="332"/>
                    </a:lnTo>
                    <a:lnTo>
                      <a:pt x="30" y="322"/>
                    </a:lnTo>
                    <a:lnTo>
                      <a:pt x="27" y="310"/>
                    </a:lnTo>
                    <a:lnTo>
                      <a:pt x="25" y="298"/>
                    </a:lnTo>
                    <a:lnTo>
                      <a:pt x="24" y="286"/>
                    </a:lnTo>
                    <a:lnTo>
                      <a:pt x="23" y="275"/>
                    </a:lnTo>
                    <a:lnTo>
                      <a:pt x="23" y="262"/>
                    </a:lnTo>
                    <a:lnTo>
                      <a:pt x="23" y="249"/>
                    </a:lnTo>
                    <a:lnTo>
                      <a:pt x="24" y="238"/>
                    </a:lnTo>
                    <a:lnTo>
                      <a:pt x="25" y="225"/>
                    </a:lnTo>
                    <a:lnTo>
                      <a:pt x="27" y="214"/>
                    </a:lnTo>
                    <a:lnTo>
                      <a:pt x="33" y="191"/>
                    </a:lnTo>
                    <a:lnTo>
                      <a:pt x="41" y="169"/>
                    </a:lnTo>
                    <a:lnTo>
                      <a:pt x="52" y="148"/>
                    </a:lnTo>
                    <a:lnTo>
                      <a:pt x="63" y="128"/>
                    </a:lnTo>
                    <a:lnTo>
                      <a:pt x="77" y="110"/>
                    </a:lnTo>
                    <a:lnTo>
                      <a:pt x="93" y="94"/>
                    </a:lnTo>
                    <a:lnTo>
                      <a:pt x="109" y="78"/>
                    </a:lnTo>
                    <a:lnTo>
                      <a:pt x="128" y="64"/>
                    </a:lnTo>
                    <a:lnTo>
                      <a:pt x="147" y="52"/>
                    </a:lnTo>
                    <a:lnTo>
                      <a:pt x="168" y="42"/>
                    </a:lnTo>
                    <a:lnTo>
                      <a:pt x="190" y="34"/>
                    </a:lnTo>
                    <a:lnTo>
                      <a:pt x="213" y="28"/>
                    </a:lnTo>
                    <a:lnTo>
                      <a:pt x="225" y="26"/>
                    </a:lnTo>
                    <a:lnTo>
                      <a:pt x="237" y="25"/>
                    </a:lnTo>
                    <a:lnTo>
                      <a:pt x="249" y="23"/>
                    </a:lnTo>
                    <a:lnTo>
                      <a:pt x="261" y="23"/>
                    </a:lnTo>
                    <a:lnTo>
                      <a:pt x="273" y="23"/>
                    </a:lnTo>
                    <a:lnTo>
                      <a:pt x="286" y="25"/>
                    </a:lnTo>
                    <a:lnTo>
                      <a:pt x="297" y="26"/>
                    </a:lnTo>
                    <a:lnTo>
                      <a:pt x="309" y="28"/>
                    </a:lnTo>
                    <a:lnTo>
                      <a:pt x="332" y="34"/>
                    </a:lnTo>
                    <a:lnTo>
                      <a:pt x="354" y="42"/>
                    </a:lnTo>
                    <a:lnTo>
                      <a:pt x="374" y="52"/>
                    </a:lnTo>
                    <a:lnTo>
                      <a:pt x="394" y="64"/>
                    </a:lnTo>
                    <a:lnTo>
                      <a:pt x="413" y="78"/>
                    </a:lnTo>
                    <a:lnTo>
                      <a:pt x="430" y="94"/>
                    </a:lnTo>
                    <a:lnTo>
                      <a:pt x="445" y="110"/>
                    </a:lnTo>
                    <a:lnTo>
                      <a:pt x="459" y="128"/>
                    </a:lnTo>
                    <a:lnTo>
                      <a:pt x="471" y="148"/>
                    </a:lnTo>
                    <a:lnTo>
                      <a:pt x="481" y="169"/>
                    </a:lnTo>
                    <a:lnTo>
                      <a:pt x="489" y="191"/>
                    </a:lnTo>
                    <a:lnTo>
                      <a:pt x="494" y="214"/>
                    </a:lnTo>
                    <a:lnTo>
                      <a:pt x="497" y="225"/>
                    </a:lnTo>
                    <a:lnTo>
                      <a:pt x="499" y="238"/>
                    </a:lnTo>
                    <a:lnTo>
                      <a:pt x="499" y="249"/>
                    </a:lnTo>
                    <a:lnTo>
                      <a:pt x="500" y="26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26120" y="3871800"/>
                <a:ext cx="131760" cy="133560"/>
              </a:xfrm>
              <a:custGeom>
                <a:avLst/>
                <a:gdLst/>
                <a:ahLst/>
                <a:rect l="l" t="t" r="r" b="b"/>
                <a:pathLst>
                  <a:path w="500" h="499">
                    <a:moveTo>
                      <a:pt x="500" y="250"/>
                    </a:moveTo>
                    <a:lnTo>
                      <a:pt x="500" y="237"/>
                    </a:lnTo>
                    <a:lnTo>
                      <a:pt x="498" y="225"/>
                    </a:lnTo>
                    <a:lnTo>
                      <a:pt x="497" y="212"/>
                    </a:lnTo>
                    <a:lnTo>
                      <a:pt x="495" y="199"/>
                    </a:lnTo>
                    <a:lnTo>
                      <a:pt x="489" y="175"/>
                    </a:lnTo>
                    <a:lnTo>
                      <a:pt x="480" y="152"/>
                    </a:lnTo>
                    <a:lnTo>
                      <a:pt x="470" y="131"/>
                    </a:lnTo>
                    <a:lnTo>
                      <a:pt x="457" y="111"/>
                    </a:lnTo>
                    <a:lnTo>
                      <a:pt x="443" y="91"/>
                    </a:lnTo>
                    <a:lnTo>
                      <a:pt x="427" y="74"/>
                    </a:lnTo>
                    <a:lnTo>
                      <a:pt x="410" y="57"/>
                    </a:lnTo>
                    <a:lnTo>
                      <a:pt x="390" y="43"/>
                    </a:lnTo>
                    <a:lnTo>
                      <a:pt x="369" y="30"/>
                    </a:lnTo>
                    <a:lnTo>
                      <a:pt x="347" y="19"/>
                    </a:lnTo>
                    <a:lnTo>
                      <a:pt x="324" y="11"/>
                    </a:lnTo>
                    <a:lnTo>
                      <a:pt x="300" y="6"/>
                    </a:lnTo>
                    <a:lnTo>
                      <a:pt x="289" y="3"/>
                    </a:lnTo>
                    <a:lnTo>
                      <a:pt x="276" y="1"/>
                    </a:lnTo>
                    <a:lnTo>
                      <a:pt x="263" y="0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5" y="1"/>
                    </a:lnTo>
                    <a:lnTo>
                      <a:pt x="212" y="3"/>
                    </a:lnTo>
                    <a:lnTo>
                      <a:pt x="200" y="6"/>
                    </a:lnTo>
                    <a:lnTo>
                      <a:pt x="188" y="8"/>
                    </a:lnTo>
                    <a:lnTo>
                      <a:pt x="175" y="11"/>
                    </a:lnTo>
                    <a:lnTo>
                      <a:pt x="164" y="15"/>
                    </a:lnTo>
                    <a:lnTo>
                      <a:pt x="154" y="19"/>
                    </a:lnTo>
                    <a:lnTo>
                      <a:pt x="132" y="30"/>
                    </a:lnTo>
                    <a:lnTo>
                      <a:pt x="111" y="43"/>
                    </a:lnTo>
                    <a:lnTo>
                      <a:pt x="91" y="57"/>
                    </a:lnTo>
                    <a:lnTo>
                      <a:pt x="74" y="74"/>
                    </a:lnTo>
                    <a:lnTo>
                      <a:pt x="65" y="82"/>
                    </a:lnTo>
                    <a:lnTo>
                      <a:pt x="58" y="91"/>
                    </a:lnTo>
                    <a:lnTo>
                      <a:pt x="50" y="100"/>
                    </a:lnTo>
                    <a:lnTo>
                      <a:pt x="43" y="111"/>
                    </a:lnTo>
                    <a:lnTo>
                      <a:pt x="37" y="120"/>
                    </a:lnTo>
                    <a:lnTo>
                      <a:pt x="30" y="131"/>
                    </a:lnTo>
                    <a:lnTo>
                      <a:pt x="26" y="142"/>
                    </a:lnTo>
                    <a:lnTo>
                      <a:pt x="20" y="152"/>
                    </a:lnTo>
                    <a:lnTo>
                      <a:pt x="15" y="164"/>
                    </a:lnTo>
                    <a:lnTo>
                      <a:pt x="12" y="175"/>
                    </a:lnTo>
                    <a:lnTo>
                      <a:pt x="8" y="188"/>
                    </a:lnTo>
                    <a:lnTo>
                      <a:pt x="6" y="199"/>
                    </a:lnTo>
                    <a:lnTo>
                      <a:pt x="4" y="212"/>
                    </a:lnTo>
                    <a:lnTo>
                      <a:pt x="1" y="225"/>
                    </a:lnTo>
                    <a:lnTo>
                      <a:pt x="0" y="237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1" y="275"/>
                    </a:lnTo>
                    <a:lnTo>
                      <a:pt x="4" y="288"/>
                    </a:lnTo>
                    <a:lnTo>
                      <a:pt x="6" y="300"/>
                    </a:lnTo>
                    <a:lnTo>
                      <a:pt x="8" y="312"/>
                    </a:lnTo>
                    <a:lnTo>
                      <a:pt x="12" y="324"/>
                    </a:lnTo>
                    <a:lnTo>
                      <a:pt x="15" y="335"/>
                    </a:lnTo>
                    <a:lnTo>
                      <a:pt x="20" y="347"/>
                    </a:lnTo>
                    <a:lnTo>
                      <a:pt x="26" y="358"/>
                    </a:lnTo>
                    <a:lnTo>
                      <a:pt x="30" y="369"/>
                    </a:lnTo>
                    <a:lnTo>
                      <a:pt x="37" y="379"/>
                    </a:lnTo>
                    <a:lnTo>
                      <a:pt x="43" y="389"/>
                    </a:lnTo>
                    <a:lnTo>
                      <a:pt x="50" y="399"/>
                    </a:lnTo>
                    <a:lnTo>
                      <a:pt x="58" y="409"/>
                    </a:lnTo>
                    <a:lnTo>
                      <a:pt x="65" y="417"/>
                    </a:lnTo>
                    <a:lnTo>
                      <a:pt x="74" y="426"/>
                    </a:lnTo>
                    <a:lnTo>
                      <a:pt x="82" y="434"/>
                    </a:lnTo>
                    <a:lnTo>
                      <a:pt x="91" y="443"/>
                    </a:lnTo>
                    <a:lnTo>
                      <a:pt x="101" y="449"/>
                    </a:lnTo>
                    <a:lnTo>
                      <a:pt x="111" y="456"/>
                    </a:lnTo>
                    <a:lnTo>
                      <a:pt x="120" y="463"/>
                    </a:lnTo>
                    <a:lnTo>
                      <a:pt x="132" y="469"/>
                    </a:lnTo>
                    <a:lnTo>
                      <a:pt x="142" y="475"/>
                    </a:lnTo>
                    <a:lnTo>
                      <a:pt x="154" y="479"/>
                    </a:lnTo>
                    <a:lnTo>
                      <a:pt x="164" y="484"/>
                    </a:lnTo>
                    <a:lnTo>
                      <a:pt x="175" y="489"/>
                    </a:lnTo>
                    <a:lnTo>
                      <a:pt x="188" y="492"/>
                    </a:lnTo>
                    <a:lnTo>
                      <a:pt x="200" y="494"/>
                    </a:lnTo>
                    <a:lnTo>
                      <a:pt x="212" y="497"/>
                    </a:lnTo>
                    <a:lnTo>
                      <a:pt x="225" y="498"/>
                    </a:lnTo>
                    <a:lnTo>
                      <a:pt x="238" y="499"/>
                    </a:lnTo>
                    <a:lnTo>
                      <a:pt x="250" y="499"/>
                    </a:lnTo>
                    <a:lnTo>
                      <a:pt x="263" y="499"/>
                    </a:lnTo>
                    <a:lnTo>
                      <a:pt x="276" y="498"/>
                    </a:lnTo>
                    <a:lnTo>
                      <a:pt x="289" y="497"/>
                    </a:lnTo>
                    <a:lnTo>
                      <a:pt x="300" y="494"/>
                    </a:lnTo>
                    <a:lnTo>
                      <a:pt x="313" y="492"/>
                    </a:lnTo>
                    <a:lnTo>
                      <a:pt x="324" y="489"/>
                    </a:lnTo>
                    <a:lnTo>
                      <a:pt x="336" y="484"/>
                    </a:lnTo>
                    <a:lnTo>
                      <a:pt x="347" y="479"/>
                    </a:lnTo>
                    <a:lnTo>
                      <a:pt x="359" y="475"/>
                    </a:lnTo>
                    <a:lnTo>
                      <a:pt x="369" y="469"/>
                    </a:lnTo>
                    <a:lnTo>
                      <a:pt x="380" y="463"/>
                    </a:lnTo>
                    <a:lnTo>
                      <a:pt x="390" y="456"/>
                    </a:lnTo>
                    <a:lnTo>
                      <a:pt x="399" y="449"/>
                    </a:lnTo>
                    <a:lnTo>
                      <a:pt x="410" y="443"/>
                    </a:lnTo>
                    <a:lnTo>
                      <a:pt x="418" y="434"/>
                    </a:lnTo>
                    <a:lnTo>
                      <a:pt x="427" y="426"/>
                    </a:lnTo>
                    <a:lnTo>
                      <a:pt x="443" y="409"/>
                    </a:lnTo>
                    <a:lnTo>
                      <a:pt x="457" y="389"/>
                    </a:lnTo>
                    <a:lnTo>
                      <a:pt x="470" y="369"/>
                    </a:lnTo>
                    <a:lnTo>
                      <a:pt x="480" y="347"/>
                    </a:lnTo>
                    <a:lnTo>
                      <a:pt x="485" y="335"/>
                    </a:lnTo>
                    <a:lnTo>
                      <a:pt x="489" y="324"/>
                    </a:lnTo>
                    <a:lnTo>
                      <a:pt x="493" y="312"/>
                    </a:lnTo>
                    <a:lnTo>
                      <a:pt x="495" y="300"/>
                    </a:lnTo>
                    <a:lnTo>
                      <a:pt x="497" y="288"/>
                    </a:lnTo>
                    <a:lnTo>
                      <a:pt x="498" y="275"/>
                    </a:lnTo>
                    <a:lnTo>
                      <a:pt x="500" y="263"/>
                    </a:lnTo>
                    <a:lnTo>
                      <a:pt x="500" y="250"/>
                    </a:lnTo>
                    <a:close/>
                    <a:moveTo>
                      <a:pt x="478" y="250"/>
                    </a:moveTo>
                    <a:lnTo>
                      <a:pt x="477" y="273"/>
                    </a:lnTo>
                    <a:lnTo>
                      <a:pt x="473" y="296"/>
                    </a:lnTo>
                    <a:lnTo>
                      <a:pt x="467" y="317"/>
                    </a:lnTo>
                    <a:lnTo>
                      <a:pt x="459" y="338"/>
                    </a:lnTo>
                    <a:lnTo>
                      <a:pt x="450" y="358"/>
                    </a:lnTo>
                    <a:lnTo>
                      <a:pt x="438" y="377"/>
                    </a:lnTo>
                    <a:lnTo>
                      <a:pt x="426" y="394"/>
                    </a:lnTo>
                    <a:lnTo>
                      <a:pt x="411" y="410"/>
                    </a:lnTo>
                    <a:lnTo>
                      <a:pt x="395" y="425"/>
                    </a:lnTo>
                    <a:lnTo>
                      <a:pt x="377" y="438"/>
                    </a:lnTo>
                    <a:lnTo>
                      <a:pt x="359" y="449"/>
                    </a:lnTo>
                    <a:lnTo>
                      <a:pt x="338" y="459"/>
                    </a:lnTo>
                    <a:lnTo>
                      <a:pt x="317" y="467"/>
                    </a:lnTo>
                    <a:lnTo>
                      <a:pt x="295" y="472"/>
                    </a:lnTo>
                    <a:lnTo>
                      <a:pt x="285" y="475"/>
                    </a:lnTo>
                    <a:lnTo>
                      <a:pt x="274" y="476"/>
                    </a:lnTo>
                    <a:lnTo>
                      <a:pt x="262" y="477"/>
                    </a:lnTo>
                    <a:lnTo>
                      <a:pt x="250" y="477"/>
                    </a:lnTo>
                    <a:lnTo>
                      <a:pt x="239" y="477"/>
                    </a:lnTo>
                    <a:lnTo>
                      <a:pt x="227" y="476"/>
                    </a:lnTo>
                    <a:lnTo>
                      <a:pt x="216" y="475"/>
                    </a:lnTo>
                    <a:lnTo>
                      <a:pt x="204" y="472"/>
                    </a:lnTo>
                    <a:lnTo>
                      <a:pt x="182" y="467"/>
                    </a:lnTo>
                    <a:lnTo>
                      <a:pt x="162" y="459"/>
                    </a:lnTo>
                    <a:lnTo>
                      <a:pt x="142" y="449"/>
                    </a:lnTo>
                    <a:lnTo>
                      <a:pt x="124" y="438"/>
                    </a:lnTo>
                    <a:lnTo>
                      <a:pt x="105" y="425"/>
                    </a:lnTo>
                    <a:lnTo>
                      <a:pt x="90" y="410"/>
                    </a:lnTo>
                    <a:lnTo>
                      <a:pt x="75" y="394"/>
                    </a:lnTo>
                    <a:lnTo>
                      <a:pt x="61" y="377"/>
                    </a:lnTo>
                    <a:lnTo>
                      <a:pt x="51" y="358"/>
                    </a:lnTo>
                    <a:lnTo>
                      <a:pt x="41" y="338"/>
                    </a:lnTo>
                    <a:lnTo>
                      <a:pt x="34" y="317"/>
                    </a:lnTo>
                    <a:lnTo>
                      <a:pt x="28" y="296"/>
                    </a:lnTo>
                    <a:lnTo>
                      <a:pt x="26" y="285"/>
                    </a:lnTo>
                    <a:lnTo>
                      <a:pt x="24" y="273"/>
                    </a:lnTo>
                    <a:lnTo>
                      <a:pt x="23" y="262"/>
                    </a:lnTo>
                    <a:lnTo>
                      <a:pt x="23" y="250"/>
                    </a:lnTo>
                    <a:lnTo>
                      <a:pt x="23" y="238"/>
                    </a:lnTo>
                    <a:lnTo>
                      <a:pt x="24" y="227"/>
                    </a:lnTo>
                    <a:lnTo>
                      <a:pt x="26" y="215"/>
                    </a:lnTo>
                    <a:lnTo>
                      <a:pt x="28" y="204"/>
                    </a:lnTo>
                    <a:lnTo>
                      <a:pt x="34" y="182"/>
                    </a:lnTo>
                    <a:lnTo>
                      <a:pt x="41" y="161"/>
                    </a:lnTo>
                    <a:lnTo>
                      <a:pt x="51" y="142"/>
                    </a:lnTo>
                    <a:lnTo>
                      <a:pt x="61" y="123"/>
                    </a:lnTo>
                    <a:lnTo>
                      <a:pt x="75" y="106"/>
                    </a:lnTo>
                    <a:lnTo>
                      <a:pt x="90" y="90"/>
                    </a:lnTo>
                    <a:lnTo>
                      <a:pt x="105" y="75"/>
                    </a:lnTo>
                    <a:lnTo>
                      <a:pt x="124" y="62"/>
                    </a:lnTo>
                    <a:lnTo>
                      <a:pt x="142" y="51"/>
                    </a:lnTo>
                    <a:lnTo>
                      <a:pt x="162" y="40"/>
                    </a:lnTo>
                    <a:lnTo>
                      <a:pt x="182" y="33"/>
                    </a:lnTo>
                    <a:lnTo>
                      <a:pt x="204" y="28"/>
                    </a:lnTo>
                    <a:lnTo>
                      <a:pt x="227" y="24"/>
                    </a:lnTo>
                    <a:lnTo>
                      <a:pt x="250" y="23"/>
                    </a:lnTo>
                    <a:lnTo>
                      <a:pt x="274" y="24"/>
                    </a:lnTo>
                    <a:lnTo>
                      <a:pt x="295" y="28"/>
                    </a:lnTo>
                    <a:lnTo>
                      <a:pt x="317" y="33"/>
                    </a:lnTo>
                    <a:lnTo>
                      <a:pt x="338" y="40"/>
                    </a:lnTo>
                    <a:lnTo>
                      <a:pt x="359" y="51"/>
                    </a:lnTo>
                    <a:lnTo>
                      <a:pt x="377" y="62"/>
                    </a:lnTo>
                    <a:lnTo>
                      <a:pt x="395" y="75"/>
                    </a:lnTo>
                    <a:lnTo>
                      <a:pt x="411" y="90"/>
                    </a:lnTo>
                    <a:lnTo>
                      <a:pt x="426" y="106"/>
                    </a:lnTo>
                    <a:lnTo>
                      <a:pt x="438" y="123"/>
                    </a:lnTo>
                    <a:lnTo>
                      <a:pt x="450" y="142"/>
                    </a:lnTo>
                    <a:lnTo>
                      <a:pt x="459" y="161"/>
                    </a:lnTo>
                    <a:lnTo>
                      <a:pt x="467" y="182"/>
                    </a:lnTo>
                    <a:lnTo>
                      <a:pt x="473" y="204"/>
                    </a:lnTo>
                    <a:lnTo>
                      <a:pt x="477" y="227"/>
                    </a:lnTo>
                    <a:lnTo>
                      <a:pt x="478" y="25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129360" y="3875040"/>
                <a:ext cx="125280" cy="127080"/>
              </a:xfrm>
              <a:custGeom>
                <a:avLst/>
                <a:gdLst/>
                <a:ahLst/>
                <a:rect l="l" t="t" r="r" b="b"/>
                <a:pathLst>
                  <a:path w="477" h="478">
                    <a:moveTo>
                      <a:pt x="477" y="239"/>
                    </a:moveTo>
                    <a:lnTo>
                      <a:pt x="476" y="226"/>
                    </a:lnTo>
                    <a:lnTo>
                      <a:pt x="476" y="215"/>
                    </a:lnTo>
                    <a:lnTo>
                      <a:pt x="474" y="202"/>
                    </a:lnTo>
                    <a:lnTo>
                      <a:pt x="471" y="191"/>
                    </a:lnTo>
                    <a:lnTo>
                      <a:pt x="466" y="168"/>
                    </a:lnTo>
                    <a:lnTo>
                      <a:pt x="458" y="146"/>
                    </a:lnTo>
                    <a:lnTo>
                      <a:pt x="448" y="125"/>
                    </a:lnTo>
                    <a:lnTo>
                      <a:pt x="436" y="105"/>
                    </a:lnTo>
                    <a:lnTo>
                      <a:pt x="422" y="87"/>
                    </a:lnTo>
                    <a:lnTo>
                      <a:pt x="407" y="71"/>
                    </a:lnTo>
                    <a:lnTo>
                      <a:pt x="390" y="55"/>
                    </a:lnTo>
                    <a:lnTo>
                      <a:pt x="371" y="41"/>
                    </a:lnTo>
                    <a:lnTo>
                      <a:pt x="351" y="29"/>
                    </a:lnTo>
                    <a:lnTo>
                      <a:pt x="331" y="19"/>
                    </a:lnTo>
                    <a:lnTo>
                      <a:pt x="309" y="11"/>
                    </a:lnTo>
                    <a:lnTo>
                      <a:pt x="286" y="5"/>
                    </a:lnTo>
                    <a:lnTo>
                      <a:pt x="274" y="3"/>
                    </a:lnTo>
                    <a:lnTo>
                      <a:pt x="263" y="2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6" y="0"/>
                    </a:lnTo>
                    <a:lnTo>
                      <a:pt x="214" y="2"/>
                    </a:lnTo>
                    <a:lnTo>
                      <a:pt x="202" y="3"/>
                    </a:lnTo>
                    <a:lnTo>
                      <a:pt x="190" y="5"/>
                    </a:lnTo>
                    <a:lnTo>
                      <a:pt x="167" y="11"/>
                    </a:lnTo>
                    <a:lnTo>
                      <a:pt x="145" y="19"/>
                    </a:lnTo>
                    <a:lnTo>
                      <a:pt x="124" y="29"/>
                    </a:lnTo>
                    <a:lnTo>
                      <a:pt x="105" y="41"/>
                    </a:lnTo>
                    <a:lnTo>
                      <a:pt x="86" y="55"/>
                    </a:lnTo>
                    <a:lnTo>
                      <a:pt x="70" y="71"/>
                    </a:lnTo>
                    <a:lnTo>
                      <a:pt x="54" y="87"/>
                    </a:lnTo>
                    <a:lnTo>
                      <a:pt x="40" y="105"/>
                    </a:lnTo>
                    <a:lnTo>
                      <a:pt x="29" y="125"/>
                    </a:lnTo>
                    <a:lnTo>
                      <a:pt x="18" y="146"/>
                    </a:lnTo>
                    <a:lnTo>
                      <a:pt x="10" y="168"/>
                    </a:lnTo>
                    <a:lnTo>
                      <a:pt x="4" y="191"/>
                    </a:lnTo>
                    <a:lnTo>
                      <a:pt x="2" y="202"/>
                    </a:lnTo>
                    <a:lnTo>
                      <a:pt x="1" y="215"/>
                    </a:lnTo>
                    <a:lnTo>
                      <a:pt x="0" y="226"/>
                    </a:lnTo>
                    <a:lnTo>
                      <a:pt x="0" y="239"/>
                    </a:lnTo>
                    <a:lnTo>
                      <a:pt x="0" y="252"/>
                    </a:lnTo>
                    <a:lnTo>
                      <a:pt x="1" y="263"/>
                    </a:lnTo>
                    <a:lnTo>
                      <a:pt x="2" y="275"/>
                    </a:lnTo>
                    <a:lnTo>
                      <a:pt x="4" y="287"/>
                    </a:lnTo>
                    <a:lnTo>
                      <a:pt x="7" y="299"/>
                    </a:lnTo>
                    <a:lnTo>
                      <a:pt x="10" y="309"/>
                    </a:lnTo>
                    <a:lnTo>
                      <a:pt x="15" y="321"/>
                    </a:lnTo>
                    <a:lnTo>
                      <a:pt x="18" y="331"/>
                    </a:lnTo>
                    <a:lnTo>
                      <a:pt x="23" y="343"/>
                    </a:lnTo>
                    <a:lnTo>
                      <a:pt x="29" y="352"/>
                    </a:lnTo>
                    <a:lnTo>
                      <a:pt x="34" y="362"/>
                    </a:lnTo>
                    <a:lnTo>
                      <a:pt x="40" y="372"/>
                    </a:lnTo>
                    <a:lnTo>
                      <a:pt x="54" y="390"/>
                    </a:lnTo>
                    <a:lnTo>
                      <a:pt x="70" y="407"/>
                    </a:lnTo>
                    <a:lnTo>
                      <a:pt x="86" y="422"/>
                    </a:lnTo>
                    <a:lnTo>
                      <a:pt x="105" y="436"/>
                    </a:lnTo>
                    <a:lnTo>
                      <a:pt x="114" y="443"/>
                    </a:lnTo>
                    <a:lnTo>
                      <a:pt x="124" y="449"/>
                    </a:lnTo>
                    <a:lnTo>
                      <a:pt x="135" y="453"/>
                    </a:lnTo>
                    <a:lnTo>
                      <a:pt x="145" y="458"/>
                    </a:lnTo>
                    <a:lnTo>
                      <a:pt x="157" y="463"/>
                    </a:lnTo>
                    <a:lnTo>
                      <a:pt x="167" y="466"/>
                    </a:lnTo>
                    <a:lnTo>
                      <a:pt x="178" y="470"/>
                    </a:lnTo>
                    <a:lnTo>
                      <a:pt x="190" y="472"/>
                    </a:lnTo>
                    <a:lnTo>
                      <a:pt x="202" y="474"/>
                    </a:lnTo>
                    <a:lnTo>
                      <a:pt x="214" y="476"/>
                    </a:lnTo>
                    <a:lnTo>
                      <a:pt x="226" y="476"/>
                    </a:lnTo>
                    <a:lnTo>
                      <a:pt x="238" y="478"/>
                    </a:lnTo>
                    <a:lnTo>
                      <a:pt x="250" y="476"/>
                    </a:lnTo>
                    <a:lnTo>
                      <a:pt x="263" y="476"/>
                    </a:lnTo>
                    <a:lnTo>
                      <a:pt x="274" y="474"/>
                    </a:lnTo>
                    <a:lnTo>
                      <a:pt x="286" y="472"/>
                    </a:lnTo>
                    <a:lnTo>
                      <a:pt x="309" y="466"/>
                    </a:lnTo>
                    <a:lnTo>
                      <a:pt x="331" y="458"/>
                    </a:lnTo>
                    <a:lnTo>
                      <a:pt x="351" y="449"/>
                    </a:lnTo>
                    <a:lnTo>
                      <a:pt x="371" y="436"/>
                    </a:lnTo>
                    <a:lnTo>
                      <a:pt x="390" y="422"/>
                    </a:lnTo>
                    <a:lnTo>
                      <a:pt x="407" y="407"/>
                    </a:lnTo>
                    <a:lnTo>
                      <a:pt x="422" y="390"/>
                    </a:lnTo>
                    <a:lnTo>
                      <a:pt x="436" y="372"/>
                    </a:lnTo>
                    <a:lnTo>
                      <a:pt x="448" y="352"/>
                    </a:lnTo>
                    <a:lnTo>
                      <a:pt x="458" y="331"/>
                    </a:lnTo>
                    <a:lnTo>
                      <a:pt x="466" y="309"/>
                    </a:lnTo>
                    <a:lnTo>
                      <a:pt x="471" y="287"/>
                    </a:lnTo>
                    <a:lnTo>
                      <a:pt x="474" y="275"/>
                    </a:lnTo>
                    <a:lnTo>
                      <a:pt x="476" y="263"/>
                    </a:lnTo>
                    <a:lnTo>
                      <a:pt x="476" y="252"/>
                    </a:lnTo>
                    <a:lnTo>
                      <a:pt x="477" y="239"/>
                    </a:lnTo>
                    <a:close/>
                    <a:moveTo>
                      <a:pt x="454" y="239"/>
                    </a:moveTo>
                    <a:lnTo>
                      <a:pt x="453" y="261"/>
                    </a:lnTo>
                    <a:lnTo>
                      <a:pt x="450" y="283"/>
                    </a:lnTo>
                    <a:lnTo>
                      <a:pt x="444" y="302"/>
                    </a:lnTo>
                    <a:lnTo>
                      <a:pt x="437" y="323"/>
                    </a:lnTo>
                    <a:lnTo>
                      <a:pt x="428" y="342"/>
                    </a:lnTo>
                    <a:lnTo>
                      <a:pt x="417" y="359"/>
                    </a:lnTo>
                    <a:lnTo>
                      <a:pt x="405" y="376"/>
                    </a:lnTo>
                    <a:lnTo>
                      <a:pt x="391" y="391"/>
                    </a:lnTo>
                    <a:lnTo>
                      <a:pt x="376" y="405"/>
                    </a:lnTo>
                    <a:lnTo>
                      <a:pt x="358" y="418"/>
                    </a:lnTo>
                    <a:lnTo>
                      <a:pt x="341" y="428"/>
                    </a:lnTo>
                    <a:lnTo>
                      <a:pt x="323" y="437"/>
                    </a:lnTo>
                    <a:lnTo>
                      <a:pt x="302" y="445"/>
                    </a:lnTo>
                    <a:lnTo>
                      <a:pt x="281" y="450"/>
                    </a:lnTo>
                    <a:lnTo>
                      <a:pt x="260" y="453"/>
                    </a:lnTo>
                    <a:lnTo>
                      <a:pt x="238" y="455"/>
                    </a:lnTo>
                    <a:lnTo>
                      <a:pt x="217" y="453"/>
                    </a:lnTo>
                    <a:lnTo>
                      <a:pt x="195" y="450"/>
                    </a:lnTo>
                    <a:lnTo>
                      <a:pt x="174" y="445"/>
                    </a:lnTo>
                    <a:lnTo>
                      <a:pt x="154" y="437"/>
                    </a:lnTo>
                    <a:lnTo>
                      <a:pt x="136" y="428"/>
                    </a:lnTo>
                    <a:lnTo>
                      <a:pt x="117" y="418"/>
                    </a:lnTo>
                    <a:lnTo>
                      <a:pt x="101" y="405"/>
                    </a:lnTo>
                    <a:lnTo>
                      <a:pt x="86" y="391"/>
                    </a:lnTo>
                    <a:lnTo>
                      <a:pt x="71" y="376"/>
                    </a:lnTo>
                    <a:lnTo>
                      <a:pt x="60" y="359"/>
                    </a:lnTo>
                    <a:lnTo>
                      <a:pt x="48" y="342"/>
                    </a:lnTo>
                    <a:lnTo>
                      <a:pt x="39" y="323"/>
                    </a:lnTo>
                    <a:lnTo>
                      <a:pt x="32" y="302"/>
                    </a:lnTo>
                    <a:lnTo>
                      <a:pt x="26" y="283"/>
                    </a:lnTo>
                    <a:lnTo>
                      <a:pt x="24" y="261"/>
                    </a:lnTo>
                    <a:lnTo>
                      <a:pt x="23" y="239"/>
                    </a:lnTo>
                    <a:lnTo>
                      <a:pt x="24" y="217"/>
                    </a:lnTo>
                    <a:lnTo>
                      <a:pt x="26" y="195"/>
                    </a:lnTo>
                    <a:lnTo>
                      <a:pt x="32" y="174"/>
                    </a:lnTo>
                    <a:lnTo>
                      <a:pt x="39" y="155"/>
                    </a:lnTo>
                    <a:lnTo>
                      <a:pt x="48" y="136"/>
                    </a:lnTo>
                    <a:lnTo>
                      <a:pt x="60" y="118"/>
                    </a:lnTo>
                    <a:lnTo>
                      <a:pt x="71" y="102"/>
                    </a:lnTo>
                    <a:lnTo>
                      <a:pt x="86" y="87"/>
                    </a:lnTo>
                    <a:lnTo>
                      <a:pt x="101" y="73"/>
                    </a:lnTo>
                    <a:lnTo>
                      <a:pt x="117" y="60"/>
                    </a:lnTo>
                    <a:lnTo>
                      <a:pt x="136" y="49"/>
                    </a:lnTo>
                    <a:lnTo>
                      <a:pt x="154" y="40"/>
                    </a:lnTo>
                    <a:lnTo>
                      <a:pt x="174" y="33"/>
                    </a:lnTo>
                    <a:lnTo>
                      <a:pt x="195" y="28"/>
                    </a:lnTo>
                    <a:lnTo>
                      <a:pt x="217" y="25"/>
                    </a:lnTo>
                    <a:lnTo>
                      <a:pt x="238" y="23"/>
                    </a:lnTo>
                    <a:lnTo>
                      <a:pt x="260" y="25"/>
                    </a:lnTo>
                    <a:lnTo>
                      <a:pt x="281" y="28"/>
                    </a:lnTo>
                    <a:lnTo>
                      <a:pt x="302" y="33"/>
                    </a:lnTo>
                    <a:lnTo>
                      <a:pt x="323" y="40"/>
                    </a:lnTo>
                    <a:lnTo>
                      <a:pt x="341" y="49"/>
                    </a:lnTo>
                    <a:lnTo>
                      <a:pt x="358" y="60"/>
                    </a:lnTo>
                    <a:lnTo>
                      <a:pt x="376" y="73"/>
                    </a:lnTo>
                    <a:lnTo>
                      <a:pt x="391" y="87"/>
                    </a:lnTo>
                    <a:lnTo>
                      <a:pt x="405" y="102"/>
                    </a:lnTo>
                    <a:lnTo>
                      <a:pt x="417" y="118"/>
                    </a:lnTo>
                    <a:lnTo>
                      <a:pt x="428" y="136"/>
                    </a:lnTo>
                    <a:lnTo>
                      <a:pt x="437" y="155"/>
                    </a:lnTo>
                    <a:lnTo>
                      <a:pt x="444" y="174"/>
                    </a:lnTo>
                    <a:lnTo>
                      <a:pt x="450" y="195"/>
                    </a:lnTo>
                    <a:lnTo>
                      <a:pt x="453" y="217"/>
                    </a:lnTo>
                    <a:lnTo>
                      <a:pt x="454" y="23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132600" y="3878280"/>
                <a:ext cx="118800" cy="120600"/>
              </a:xfrm>
              <a:custGeom>
                <a:avLst/>
                <a:gdLst/>
                <a:ahLst/>
                <a:rect l="l" t="t" r="r" b="b"/>
                <a:pathLst>
                  <a:path w="455" h="454">
                    <a:moveTo>
                      <a:pt x="455" y="227"/>
                    </a:moveTo>
                    <a:lnTo>
                      <a:pt x="454" y="204"/>
                    </a:lnTo>
                    <a:lnTo>
                      <a:pt x="450" y="181"/>
                    </a:lnTo>
                    <a:lnTo>
                      <a:pt x="444" y="159"/>
                    </a:lnTo>
                    <a:lnTo>
                      <a:pt x="436" y="138"/>
                    </a:lnTo>
                    <a:lnTo>
                      <a:pt x="427" y="119"/>
                    </a:lnTo>
                    <a:lnTo>
                      <a:pt x="415" y="100"/>
                    </a:lnTo>
                    <a:lnTo>
                      <a:pt x="403" y="83"/>
                    </a:lnTo>
                    <a:lnTo>
                      <a:pt x="388" y="67"/>
                    </a:lnTo>
                    <a:lnTo>
                      <a:pt x="372" y="52"/>
                    </a:lnTo>
                    <a:lnTo>
                      <a:pt x="354" y="39"/>
                    </a:lnTo>
                    <a:lnTo>
                      <a:pt x="336" y="28"/>
                    </a:lnTo>
                    <a:lnTo>
                      <a:pt x="315" y="17"/>
                    </a:lnTo>
                    <a:lnTo>
                      <a:pt x="294" y="10"/>
                    </a:lnTo>
                    <a:lnTo>
                      <a:pt x="272" y="5"/>
                    </a:lnTo>
                    <a:lnTo>
                      <a:pt x="251" y="1"/>
                    </a:lnTo>
                    <a:lnTo>
                      <a:pt x="227" y="0"/>
                    </a:lnTo>
                    <a:lnTo>
                      <a:pt x="204" y="1"/>
                    </a:lnTo>
                    <a:lnTo>
                      <a:pt x="181" y="5"/>
                    </a:lnTo>
                    <a:lnTo>
                      <a:pt x="159" y="10"/>
                    </a:lnTo>
                    <a:lnTo>
                      <a:pt x="139" y="17"/>
                    </a:lnTo>
                    <a:lnTo>
                      <a:pt x="119" y="28"/>
                    </a:lnTo>
                    <a:lnTo>
                      <a:pt x="101" y="39"/>
                    </a:lnTo>
                    <a:lnTo>
                      <a:pt x="82" y="52"/>
                    </a:lnTo>
                    <a:lnTo>
                      <a:pt x="67" y="67"/>
                    </a:lnTo>
                    <a:lnTo>
                      <a:pt x="52" y="83"/>
                    </a:lnTo>
                    <a:lnTo>
                      <a:pt x="38" y="100"/>
                    </a:lnTo>
                    <a:lnTo>
                      <a:pt x="28" y="119"/>
                    </a:lnTo>
                    <a:lnTo>
                      <a:pt x="18" y="138"/>
                    </a:lnTo>
                    <a:lnTo>
                      <a:pt x="11" y="159"/>
                    </a:lnTo>
                    <a:lnTo>
                      <a:pt x="5" y="181"/>
                    </a:lnTo>
                    <a:lnTo>
                      <a:pt x="3" y="192"/>
                    </a:lnTo>
                    <a:lnTo>
                      <a:pt x="1" y="204"/>
                    </a:lnTo>
                    <a:lnTo>
                      <a:pt x="0" y="215"/>
                    </a:lnTo>
                    <a:lnTo>
                      <a:pt x="0" y="227"/>
                    </a:lnTo>
                    <a:lnTo>
                      <a:pt x="0" y="239"/>
                    </a:lnTo>
                    <a:lnTo>
                      <a:pt x="1" y="250"/>
                    </a:lnTo>
                    <a:lnTo>
                      <a:pt x="3" y="262"/>
                    </a:lnTo>
                    <a:lnTo>
                      <a:pt x="5" y="273"/>
                    </a:lnTo>
                    <a:lnTo>
                      <a:pt x="11" y="294"/>
                    </a:lnTo>
                    <a:lnTo>
                      <a:pt x="18" y="315"/>
                    </a:lnTo>
                    <a:lnTo>
                      <a:pt x="28" y="335"/>
                    </a:lnTo>
                    <a:lnTo>
                      <a:pt x="38" y="354"/>
                    </a:lnTo>
                    <a:lnTo>
                      <a:pt x="52" y="371"/>
                    </a:lnTo>
                    <a:lnTo>
                      <a:pt x="67" y="387"/>
                    </a:lnTo>
                    <a:lnTo>
                      <a:pt x="82" y="402"/>
                    </a:lnTo>
                    <a:lnTo>
                      <a:pt x="101" y="415"/>
                    </a:lnTo>
                    <a:lnTo>
                      <a:pt x="119" y="426"/>
                    </a:lnTo>
                    <a:lnTo>
                      <a:pt x="139" y="436"/>
                    </a:lnTo>
                    <a:lnTo>
                      <a:pt x="159" y="444"/>
                    </a:lnTo>
                    <a:lnTo>
                      <a:pt x="181" y="449"/>
                    </a:lnTo>
                    <a:lnTo>
                      <a:pt x="193" y="452"/>
                    </a:lnTo>
                    <a:lnTo>
                      <a:pt x="204" y="453"/>
                    </a:lnTo>
                    <a:lnTo>
                      <a:pt x="216" y="454"/>
                    </a:lnTo>
                    <a:lnTo>
                      <a:pt x="227" y="454"/>
                    </a:lnTo>
                    <a:lnTo>
                      <a:pt x="239" y="454"/>
                    </a:lnTo>
                    <a:lnTo>
                      <a:pt x="251" y="453"/>
                    </a:lnTo>
                    <a:lnTo>
                      <a:pt x="262" y="452"/>
                    </a:lnTo>
                    <a:lnTo>
                      <a:pt x="272" y="449"/>
                    </a:lnTo>
                    <a:lnTo>
                      <a:pt x="294" y="444"/>
                    </a:lnTo>
                    <a:lnTo>
                      <a:pt x="315" y="436"/>
                    </a:lnTo>
                    <a:lnTo>
                      <a:pt x="336" y="426"/>
                    </a:lnTo>
                    <a:lnTo>
                      <a:pt x="354" y="415"/>
                    </a:lnTo>
                    <a:lnTo>
                      <a:pt x="372" y="402"/>
                    </a:lnTo>
                    <a:lnTo>
                      <a:pt x="388" y="387"/>
                    </a:lnTo>
                    <a:lnTo>
                      <a:pt x="403" y="371"/>
                    </a:lnTo>
                    <a:lnTo>
                      <a:pt x="415" y="354"/>
                    </a:lnTo>
                    <a:lnTo>
                      <a:pt x="427" y="335"/>
                    </a:lnTo>
                    <a:lnTo>
                      <a:pt x="436" y="315"/>
                    </a:lnTo>
                    <a:lnTo>
                      <a:pt x="444" y="294"/>
                    </a:lnTo>
                    <a:lnTo>
                      <a:pt x="450" y="273"/>
                    </a:lnTo>
                    <a:lnTo>
                      <a:pt x="454" y="250"/>
                    </a:lnTo>
                    <a:lnTo>
                      <a:pt x="455" y="227"/>
                    </a:lnTo>
                    <a:close/>
                    <a:moveTo>
                      <a:pt x="432" y="227"/>
                    </a:moveTo>
                    <a:lnTo>
                      <a:pt x="430" y="248"/>
                    </a:lnTo>
                    <a:lnTo>
                      <a:pt x="427" y="269"/>
                    </a:lnTo>
                    <a:lnTo>
                      <a:pt x="422" y="288"/>
                    </a:lnTo>
                    <a:lnTo>
                      <a:pt x="415" y="307"/>
                    </a:lnTo>
                    <a:lnTo>
                      <a:pt x="407" y="324"/>
                    </a:lnTo>
                    <a:lnTo>
                      <a:pt x="397" y="341"/>
                    </a:lnTo>
                    <a:lnTo>
                      <a:pt x="384" y="357"/>
                    </a:lnTo>
                    <a:lnTo>
                      <a:pt x="372" y="371"/>
                    </a:lnTo>
                    <a:lnTo>
                      <a:pt x="357" y="385"/>
                    </a:lnTo>
                    <a:lnTo>
                      <a:pt x="342" y="396"/>
                    </a:lnTo>
                    <a:lnTo>
                      <a:pt x="324" y="407"/>
                    </a:lnTo>
                    <a:lnTo>
                      <a:pt x="307" y="415"/>
                    </a:lnTo>
                    <a:lnTo>
                      <a:pt x="287" y="422"/>
                    </a:lnTo>
                    <a:lnTo>
                      <a:pt x="268" y="426"/>
                    </a:lnTo>
                    <a:lnTo>
                      <a:pt x="248" y="430"/>
                    </a:lnTo>
                    <a:lnTo>
                      <a:pt x="227" y="431"/>
                    </a:lnTo>
                    <a:lnTo>
                      <a:pt x="207" y="430"/>
                    </a:lnTo>
                    <a:lnTo>
                      <a:pt x="186" y="426"/>
                    </a:lnTo>
                    <a:lnTo>
                      <a:pt x="166" y="422"/>
                    </a:lnTo>
                    <a:lnTo>
                      <a:pt x="148" y="415"/>
                    </a:lnTo>
                    <a:lnTo>
                      <a:pt x="129" y="407"/>
                    </a:lnTo>
                    <a:lnTo>
                      <a:pt x="113" y="396"/>
                    </a:lnTo>
                    <a:lnTo>
                      <a:pt x="97" y="385"/>
                    </a:lnTo>
                    <a:lnTo>
                      <a:pt x="82" y="371"/>
                    </a:lnTo>
                    <a:lnTo>
                      <a:pt x="69" y="357"/>
                    </a:lnTo>
                    <a:lnTo>
                      <a:pt x="58" y="341"/>
                    </a:lnTo>
                    <a:lnTo>
                      <a:pt x="48" y="324"/>
                    </a:lnTo>
                    <a:lnTo>
                      <a:pt x="38" y="307"/>
                    </a:lnTo>
                    <a:lnTo>
                      <a:pt x="31" y="288"/>
                    </a:lnTo>
                    <a:lnTo>
                      <a:pt x="27" y="269"/>
                    </a:lnTo>
                    <a:lnTo>
                      <a:pt x="23" y="248"/>
                    </a:lnTo>
                    <a:lnTo>
                      <a:pt x="23" y="227"/>
                    </a:lnTo>
                    <a:lnTo>
                      <a:pt x="23" y="206"/>
                    </a:lnTo>
                    <a:lnTo>
                      <a:pt x="27" y="186"/>
                    </a:lnTo>
                    <a:lnTo>
                      <a:pt x="31" y="166"/>
                    </a:lnTo>
                    <a:lnTo>
                      <a:pt x="38" y="147"/>
                    </a:lnTo>
                    <a:lnTo>
                      <a:pt x="48" y="129"/>
                    </a:lnTo>
                    <a:lnTo>
                      <a:pt x="58" y="113"/>
                    </a:lnTo>
                    <a:lnTo>
                      <a:pt x="69" y="97"/>
                    </a:lnTo>
                    <a:lnTo>
                      <a:pt x="82" y="82"/>
                    </a:lnTo>
                    <a:lnTo>
                      <a:pt x="97" y="69"/>
                    </a:lnTo>
                    <a:lnTo>
                      <a:pt x="113" y="58"/>
                    </a:lnTo>
                    <a:lnTo>
                      <a:pt x="129" y="47"/>
                    </a:lnTo>
                    <a:lnTo>
                      <a:pt x="148" y="39"/>
                    </a:lnTo>
                    <a:lnTo>
                      <a:pt x="166" y="32"/>
                    </a:lnTo>
                    <a:lnTo>
                      <a:pt x="186" y="26"/>
                    </a:lnTo>
                    <a:lnTo>
                      <a:pt x="207" y="24"/>
                    </a:lnTo>
                    <a:lnTo>
                      <a:pt x="227" y="23"/>
                    </a:lnTo>
                    <a:lnTo>
                      <a:pt x="248" y="24"/>
                    </a:lnTo>
                    <a:lnTo>
                      <a:pt x="268" y="26"/>
                    </a:lnTo>
                    <a:lnTo>
                      <a:pt x="287" y="32"/>
                    </a:lnTo>
                    <a:lnTo>
                      <a:pt x="307" y="39"/>
                    </a:lnTo>
                    <a:lnTo>
                      <a:pt x="324" y="47"/>
                    </a:lnTo>
                    <a:lnTo>
                      <a:pt x="342" y="58"/>
                    </a:lnTo>
                    <a:lnTo>
                      <a:pt x="357" y="69"/>
                    </a:lnTo>
                    <a:lnTo>
                      <a:pt x="372" y="82"/>
                    </a:lnTo>
                    <a:lnTo>
                      <a:pt x="384" y="97"/>
                    </a:lnTo>
                    <a:lnTo>
                      <a:pt x="397" y="113"/>
                    </a:lnTo>
                    <a:lnTo>
                      <a:pt x="407" y="129"/>
                    </a:lnTo>
                    <a:lnTo>
                      <a:pt x="415" y="147"/>
                    </a:lnTo>
                    <a:lnTo>
                      <a:pt x="422" y="166"/>
                    </a:lnTo>
                    <a:lnTo>
                      <a:pt x="427" y="186"/>
                    </a:lnTo>
                    <a:lnTo>
                      <a:pt x="430" y="206"/>
                    </a:lnTo>
                    <a:lnTo>
                      <a:pt x="432" y="22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35840" y="38815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431" h="432">
                    <a:moveTo>
                      <a:pt x="431" y="216"/>
                    </a:moveTo>
                    <a:lnTo>
                      <a:pt x="430" y="194"/>
                    </a:lnTo>
                    <a:lnTo>
                      <a:pt x="427" y="172"/>
                    </a:lnTo>
                    <a:lnTo>
                      <a:pt x="421" y="151"/>
                    </a:lnTo>
                    <a:lnTo>
                      <a:pt x="414" y="132"/>
                    </a:lnTo>
                    <a:lnTo>
                      <a:pt x="405" y="113"/>
                    </a:lnTo>
                    <a:lnTo>
                      <a:pt x="394" y="95"/>
                    </a:lnTo>
                    <a:lnTo>
                      <a:pt x="382" y="79"/>
                    </a:lnTo>
                    <a:lnTo>
                      <a:pt x="368" y="64"/>
                    </a:lnTo>
                    <a:lnTo>
                      <a:pt x="353" y="50"/>
                    </a:lnTo>
                    <a:lnTo>
                      <a:pt x="335" y="37"/>
                    </a:lnTo>
                    <a:lnTo>
                      <a:pt x="318" y="26"/>
                    </a:lnTo>
                    <a:lnTo>
                      <a:pt x="300" y="17"/>
                    </a:lnTo>
                    <a:lnTo>
                      <a:pt x="279" y="10"/>
                    </a:lnTo>
                    <a:lnTo>
                      <a:pt x="258" y="5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4" y="2"/>
                    </a:lnTo>
                    <a:lnTo>
                      <a:pt x="172" y="5"/>
                    </a:lnTo>
                    <a:lnTo>
                      <a:pt x="151" y="10"/>
                    </a:lnTo>
                    <a:lnTo>
                      <a:pt x="131" y="17"/>
                    </a:lnTo>
                    <a:lnTo>
                      <a:pt x="113" y="26"/>
                    </a:lnTo>
                    <a:lnTo>
                      <a:pt x="94" y="37"/>
                    </a:lnTo>
                    <a:lnTo>
                      <a:pt x="78" y="50"/>
                    </a:lnTo>
                    <a:lnTo>
                      <a:pt x="63" y="64"/>
                    </a:lnTo>
                    <a:lnTo>
                      <a:pt x="48" y="79"/>
                    </a:lnTo>
                    <a:lnTo>
                      <a:pt x="37" y="95"/>
                    </a:lnTo>
                    <a:lnTo>
                      <a:pt x="25" y="113"/>
                    </a:lnTo>
                    <a:lnTo>
                      <a:pt x="16" y="132"/>
                    </a:lnTo>
                    <a:lnTo>
                      <a:pt x="9" y="151"/>
                    </a:lnTo>
                    <a:lnTo>
                      <a:pt x="3" y="172"/>
                    </a:lnTo>
                    <a:lnTo>
                      <a:pt x="1" y="194"/>
                    </a:lnTo>
                    <a:lnTo>
                      <a:pt x="0" y="216"/>
                    </a:lnTo>
                    <a:lnTo>
                      <a:pt x="1" y="238"/>
                    </a:lnTo>
                    <a:lnTo>
                      <a:pt x="3" y="260"/>
                    </a:lnTo>
                    <a:lnTo>
                      <a:pt x="9" y="279"/>
                    </a:lnTo>
                    <a:lnTo>
                      <a:pt x="16" y="300"/>
                    </a:lnTo>
                    <a:lnTo>
                      <a:pt x="25" y="319"/>
                    </a:lnTo>
                    <a:lnTo>
                      <a:pt x="37" y="336"/>
                    </a:lnTo>
                    <a:lnTo>
                      <a:pt x="48" y="353"/>
                    </a:lnTo>
                    <a:lnTo>
                      <a:pt x="63" y="368"/>
                    </a:lnTo>
                    <a:lnTo>
                      <a:pt x="78" y="382"/>
                    </a:lnTo>
                    <a:lnTo>
                      <a:pt x="94" y="395"/>
                    </a:lnTo>
                    <a:lnTo>
                      <a:pt x="113" y="405"/>
                    </a:lnTo>
                    <a:lnTo>
                      <a:pt x="131" y="414"/>
                    </a:lnTo>
                    <a:lnTo>
                      <a:pt x="151" y="422"/>
                    </a:lnTo>
                    <a:lnTo>
                      <a:pt x="172" y="427"/>
                    </a:lnTo>
                    <a:lnTo>
                      <a:pt x="194" y="430"/>
                    </a:lnTo>
                    <a:lnTo>
                      <a:pt x="215" y="432"/>
                    </a:lnTo>
                    <a:lnTo>
                      <a:pt x="237" y="430"/>
                    </a:lnTo>
                    <a:lnTo>
                      <a:pt x="258" y="427"/>
                    </a:lnTo>
                    <a:lnTo>
                      <a:pt x="279" y="422"/>
                    </a:lnTo>
                    <a:lnTo>
                      <a:pt x="300" y="414"/>
                    </a:lnTo>
                    <a:lnTo>
                      <a:pt x="318" y="405"/>
                    </a:lnTo>
                    <a:lnTo>
                      <a:pt x="335" y="395"/>
                    </a:lnTo>
                    <a:lnTo>
                      <a:pt x="353" y="382"/>
                    </a:lnTo>
                    <a:lnTo>
                      <a:pt x="368" y="368"/>
                    </a:lnTo>
                    <a:lnTo>
                      <a:pt x="382" y="353"/>
                    </a:lnTo>
                    <a:lnTo>
                      <a:pt x="394" y="336"/>
                    </a:lnTo>
                    <a:lnTo>
                      <a:pt x="405" y="319"/>
                    </a:lnTo>
                    <a:lnTo>
                      <a:pt x="414" y="300"/>
                    </a:lnTo>
                    <a:lnTo>
                      <a:pt x="421" y="279"/>
                    </a:lnTo>
                    <a:lnTo>
                      <a:pt x="427" y="260"/>
                    </a:lnTo>
                    <a:lnTo>
                      <a:pt x="430" y="238"/>
                    </a:lnTo>
                    <a:lnTo>
                      <a:pt x="431" y="216"/>
                    </a:lnTo>
                    <a:close/>
                    <a:moveTo>
                      <a:pt x="408" y="216"/>
                    </a:moveTo>
                    <a:lnTo>
                      <a:pt x="407" y="236"/>
                    </a:lnTo>
                    <a:lnTo>
                      <a:pt x="405" y="255"/>
                    </a:lnTo>
                    <a:lnTo>
                      <a:pt x="400" y="274"/>
                    </a:lnTo>
                    <a:lnTo>
                      <a:pt x="393" y="291"/>
                    </a:lnTo>
                    <a:lnTo>
                      <a:pt x="385" y="308"/>
                    </a:lnTo>
                    <a:lnTo>
                      <a:pt x="376" y="323"/>
                    </a:lnTo>
                    <a:lnTo>
                      <a:pt x="364" y="338"/>
                    </a:lnTo>
                    <a:lnTo>
                      <a:pt x="352" y="352"/>
                    </a:lnTo>
                    <a:lnTo>
                      <a:pt x="338" y="365"/>
                    </a:lnTo>
                    <a:lnTo>
                      <a:pt x="323" y="376"/>
                    </a:lnTo>
                    <a:lnTo>
                      <a:pt x="308" y="385"/>
                    </a:lnTo>
                    <a:lnTo>
                      <a:pt x="290" y="394"/>
                    </a:lnTo>
                    <a:lnTo>
                      <a:pt x="272" y="400"/>
                    </a:lnTo>
                    <a:lnTo>
                      <a:pt x="254" y="405"/>
                    </a:lnTo>
                    <a:lnTo>
                      <a:pt x="235" y="407"/>
                    </a:lnTo>
                    <a:lnTo>
                      <a:pt x="215" y="409"/>
                    </a:lnTo>
                    <a:lnTo>
                      <a:pt x="196" y="407"/>
                    </a:lnTo>
                    <a:lnTo>
                      <a:pt x="176" y="405"/>
                    </a:lnTo>
                    <a:lnTo>
                      <a:pt x="158" y="400"/>
                    </a:lnTo>
                    <a:lnTo>
                      <a:pt x="140" y="394"/>
                    </a:lnTo>
                    <a:lnTo>
                      <a:pt x="123" y="385"/>
                    </a:lnTo>
                    <a:lnTo>
                      <a:pt x="107" y="376"/>
                    </a:lnTo>
                    <a:lnTo>
                      <a:pt x="92" y="365"/>
                    </a:lnTo>
                    <a:lnTo>
                      <a:pt x="78" y="352"/>
                    </a:lnTo>
                    <a:lnTo>
                      <a:pt x="67" y="338"/>
                    </a:lnTo>
                    <a:lnTo>
                      <a:pt x="55" y="323"/>
                    </a:lnTo>
                    <a:lnTo>
                      <a:pt x="46" y="308"/>
                    </a:lnTo>
                    <a:lnTo>
                      <a:pt x="38" y="291"/>
                    </a:lnTo>
                    <a:lnTo>
                      <a:pt x="31" y="274"/>
                    </a:lnTo>
                    <a:lnTo>
                      <a:pt x="26" y="255"/>
                    </a:lnTo>
                    <a:lnTo>
                      <a:pt x="23" y="236"/>
                    </a:lnTo>
                    <a:lnTo>
                      <a:pt x="22" y="216"/>
                    </a:lnTo>
                    <a:lnTo>
                      <a:pt x="23" y="196"/>
                    </a:lnTo>
                    <a:lnTo>
                      <a:pt x="26" y="177"/>
                    </a:lnTo>
                    <a:lnTo>
                      <a:pt x="31" y="158"/>
                    </a:lnTo>
                    <a:lnTo>
                      <a:pt x="38" y="141"/>
                    </a:lnTo>
                    <a:lnTo>
                      <a:pt x="46" y="124"/>
                    </a:lnTo>
                    <a:lnTo>
                      <a:pt x="55" y="108"/>
                    </a:lnTo>
                    <a:lnTo>
                      <a:pt x="67" y="93"/>
                    </a:lnTo>
                    <a:lnTo>
                      <a:pt x="78" y="79"/>
                    </a:lnTo>
                    <a:lnTo>
                      <a:pt x="92" y="67"/>
                    </a:lnTo>
                    <a:lnTo>
                      <a:pt x="107" y="56"/>
                    </a:lnTo>
                    <a:lnTo>
                      <a:pt x="123" y="47"/>
                    </a:lnTo>
                    <a:lnTo>
                      <a:pt x="140" y="38"/>
                    </a:lnTo>
                    <a:lnTo>
                      <a:pt x="158" y="32"/>
                    </a:lnTo>
                    <a:lnTo>
                      <a:pt x="176" y="27"/>
                    </a:lnTo>
                    <a:lnTo>
                      <a:pt x="196" y="23"/>
                    </a:lnTo>
                    <a:lnTo>
                      <a:pt x="215" y="22"/>
                    </a:lnTo>
                    <a:lnTo>
                      <a:pt x="235" y="23"/>
                    </a:lnTo>
                    <a:lnTo>
                      <a:pt x="254" y="27"/>
                    </a:lnTo>
                    <a:lnTo>
                      <a:pt x="272" y="32"/>
                    </a:lnTo>
                    <a:lnTo>
                      <a:pt x="290" y="38"/>
                    </a:lnTo>
                    <a:lnTo>
                      <a:pt x="308" y="47"/>
                    </a:lnTo>
                    <a:lnTo>
                      <a:pt x="323" y="56"/>
                    </a:lnTo>
                    <a:lnTo>
                      <a:pt x="338" y="67"/>
                    </a:lnTo>
                    <a:lnTo>
                      <a:pt x="352" y="79"/>
                    </a:lnTo>
                    <a:lnTo>
                      <a:pt x="364" y="93"/>
                    </a:lnTo>
                    <a:lnTo>
                      <a:pt x="376" y="108"/>
                    </a:lnTo>
                    <a:lnTo>
                      <a:pt x="385" y="124"/>
                    </a:lnTo>
                    <a:lnTo>
                      <a:pt x="393" y="141"/>
                    </a:lnTo>
                    <a:lnTo>
                      <a:pt x="400" y="158"/>
                    </a:lnTo>
                    <a:lnTo>
                      <a:pt x="405" y="177"/>
                    </a:lnTo>
                    <a:lnTo>
                      <a:pt x="407" y="196"/>
                    </a:lnTo>
                    <a:lnTo>
                      <a:pt x="408" y="21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138720" y="3884760"/>
                <a:ext cx="108000" cy="107640"/>
              </a:xfrm>
              <a:custGeom>
                <a:avLst/>
                <a:gdLst/>
                <a:ahLst/>
                <a:rect l="l" t="t" r="r" b="b"/>
                <a:pathLst>
                  <a:path w="409" h="408">
                    <a:moveTo>
                      <a:pt x="409" y="204"/>
                    </a:moveTo>
                    <a:lnTo>
                      <a:pt x="407" y="183"/>
                    </a:lnTo>
                    <a:lnTo>
                      <a:pt x="404" y="163"/>
                    </a:lnTo>
                    <a:lnTo>
                      <a:pt x="399" y="143"/>
                    </a:lnTo>
                    <a:lnTo>
                      <a:pt x="392" y="124"/>
                    </a:lnTo>
                    <a:lnTo>
                      <a:pt x="384" y="106"/>
                    </a:lnTo>
                    <a:lnTo>
                      <a:pt x="374" y="90"/>
                    </a:lnTo>
                    <a:lnTo>
                      <a:pt x="361" y="74"/>
                    </a:lnTo>
                    <a:lnTo>
                      <a:pt x="349" y="59"/>
                    </a:lnTo>
                    <a:lnTo>
                      <a:pt x="334" y="46"/>
                    </a:lnTo>
                    <a:lnTo>
                      <a:pt x="319" y="35"/>
                    </a:lnTo>
                    <a:lnTo>
                      <a:pt x="301" y="24"/>
                    </a:lnTo>
                    <a:lnTo>
                      <a:pt x="284" y="16"/>
                    </a:lnTo>
                    <a:lnTo>
                      <a:pt x="264" y="9"/>
                    </a:lnTo>
                    <a:lnTo>
                      <a:pt x="245" y="3"/>
                    </a:lnTo>
                    <a:lnTo>
                      <a:pt x="225" y="1"/>
                    </a:lnTo>
                    <a:lnTo>
                      <a:pt x="204" y="0"/>
                    </a:lnTo>
                    <a:lnTo>
                      <a:pt x="184" y="1"/>
                    </a:lnTo>
                    <a:lnTo>
                      <a:pt x="163" y="3"/>
                    </a:lnTo>
                    <a:lnTo>
                      <a:pt x="143" y="9"/>
                    </a:lnTo>
                    <a:lnTo>
                      <a:pt x="125" y="16"/>
                    </a:lnTo>
                    <a:lnTo>
                      <a:pt x="106" y="24"/>
                    </a:lnTo>
                    <a:lnTo>
                      <a:pt x="90" y="35"/>
                    </a:lnTo>
                    <a:lnTo>
                      <a:pt x="74" y="46"/>
                    </a:lnTo>
                    <a:lnTo>
                      <a:pt x="59" y="59"/>
                    </a:lnTo>
                    <a:lnTo>
                      <a:pt x="46" y="74"/>
                    </a:lnTo>
                    <a:lnTo>
                      <a:pt x="35" y="90"/>
                    </a:lnTo>
                    <a:lnTo>
                      <a:pt x="25" y="106"/>
                    </a:lnTo>
                    <a:lnTo>
                      <a:pt x="15" y="124"/>
                    </a:lnTo>
                    <a:lnTo>
                      <a:pt x="8" y="143"/>
                    </a:lnTo>
                    <a:lnTo>
                      <a:pt x="4" y="163"/>
                    </a:lnTo>
                    <a:lnTo>
                      <a:pt x="0" y="183"/>
                    </a:lnTo>
                    <a:lnTo>
                      <a:pt x="0" y="204"/>
                    </a:lnTo>
                    <a:lnTo>
                      <a:pt x="0" y="225"/>
                    </a:lnTo>
                    <a:lnTo>
                      <a:pt x="4" y="246"/>
                    </a:lnTo>
                    <a:lnTo>
                      <a:pt x="8" y="265"/>
                    </a:lnTo>
                    <a:lnTo>
                      <a:pt x="15" y="284"/>
                    </a:lnTo>
                    <a:lnTo>
                      <a:pt x="25" y="301"/>
                    </a:lnTo>
                    <a:lnTo>
                      <a:pt x="35" y="318"/>
                    </a:lnTo>
                    <a:lnTo>
                      <a:pt x="46" y="334"/>
                    </a:lnTo>
                    <a:lnTo>
                      <a:pt x="59" y="348"/>
                    </a:lnTo>
                    <a:lnTo>
                      <a:pt x="74" y="362"/>
                    </a:lnTo>
                    <a:lnTo>
                      <a:pt x="90" y="373"/>
                    </a:lnTo>
                    <a:lnTo>
                      <a:pt x="106" y="384"/>
                    </a:lnTo>
                    <a:lnTo>
                      <a:pt x="125" y="392"/>
                    </a:lnTo>
                    <a:lnTo>
                      <a:pt x="143" y="399"/>
                    </a:lnTo>
                    <a:lnTo>
                      <a:pt x="163" y="403"/>
                    </a:lnTo>
                    <a:lnTo>
                      <a:pt x="184" y="407"/>
                    </a:lnTo>
                    <a:lnTo>
                      <a:pt x="204" y="408"/>
                    </a:lnTo>
                    <a:lnTo>
                      <a:pt x="225" y="407"/>
                    </a:lnTo>
                    <a:lnTo>
                      <a:pt x="245" y="403"/>
                    </a:lnTo>
                    <a:lnTo>
                      <a:pt x="264" y="399"/>
                    </a:lnTo>
                    <a:lnTo>
                      <a:pt x="284" y="392"/>
                    </a:lnTo>
                    <a:lnTo>
                      <a:pt x="301" y="384"/>
                    </a:lnTo>
                    <a:lnTo>
                      <a:pt x="319" y="373"/>
                    </a:lnTo>
                    <a:lnTo>
                      <a:pt x="334" y="362"/>
                    </a:lnTo>
                    <a:lnTo>
                      <a:pt x="349" y="348"/>
                    </a:lnTo>
                    <a:lnTo>
                      <a:pt x="361" y="334"/>
                    </a:lnTo>
                    <a:lnTo>
                      <a:pt x="374" y="318"/>
                    </a:lnTo>
                    <a:lnTo>
                      <a:pt x="384" y="301"/>
                    </a:lnTo>
                    <a:lnTo>
                      <a:pt x="392" y="284"/>
                    </a:lnTo>
                    <a:lnTo>
                      <a:pt x="399" y="265"/>
                    </a:lnTo>
                    <a:lnTo>
                      <a:pt x="404" y="246"/>
                    </a:lnTo>
                    <a:lnTo>
                      <a:pt x="407" y="225"/>
                    </a:lnTo>
                    <a:lnTo>
                      <a:pt x="409" y="204"/>
                    </a:lnTo>
                    <a:close/>
                    <a:moveTo>
                      <a:pt x="386" y="204"/>
                    </a:moveTo>
                    <a:lnTo>
                      <a:pt x="384" y="222"/>
                    </a:lnTo>
                    <a:lnTo>
                      <a:pt x="382" y="241"/>
                    </a:lnTo>
                    <a:lnTo>
                      <a:pt x="377" y="258"/>
                    </a:lnTo>
                    <a:lnTo>
                      <a:pt x="372" y="274"/>
                    </a:lnTo>
                    <a:lnTo>
                      <a:pt x="364" y="290"/>
                    </a:lnTo>
                    <a:lnTo>
                      <a:pt x="354" y="305"/>
                    </a:lnTo>
                    <a:lnTo>
                      <a:pt x="344" y="319"/>
                    </a:lnTo>
                    <a:lnTo>
                      <a:pt x="332" y="332"/>
                    </a:lnTo>
                    <a:lnTo>
                      <a:pt x="320" y="343"/>
                    </a:lnTo>
                    <a:lnTo>
                      <a:pt x="306" y="354"/>
                    </a:lnTo>
                    <a:lnTo>
                      <a:pt x="291" y="363"/>
                    </a:lnTo>
                    <a:lnTo>
                      <a:pt x="275" y="371"/>
                    </a:lnTo>
                    <a:lnTo>
                      <a:pt x="259" y="377"/>
                    </a:lnTo>
                    <a:lnTo>
                      <a:pt x="240" y="382"/>
                    </a:lnTo>
                    <a:lnTo>
                      <a:pt x="223" y="385"/>
                    </a:lnTo>
                    <a:lnTo>
                      <a:pt x="204" y="385"/>
                    </a:lnTo>
                    <a:lnTo>
                      <a:pt x="186" y="385"/>
                    </a:lnTo>
                    <a:lnTo>
                      <a:pt x="168" y="382"/>
                    </a:lnTo>
                    <a:lnTo>
                      <a:pt x="150" y="377"/>
                    </a:lnTo>
                    <a:lnTo>
                      <a:pt x="133" y="371"/>
                    </a:lnTo>
                    <a:lnTo>
                      <a:pt x="118" y="363"/>
                    </a:lnTo>
                    <a:lnTo>
                      <a:pt x="103" y="354"/>
                    </a:lnTo>
                    <a:lnTo>
                      <a:pt x="89" y="343"/>
                    </a:lnTo>
                    <a:lnTo>
                      <a:pt x="75" y="332"/>
                    </a:lnTo>
                    <a:lnTo>
                      <a:pt x="64" y="319"/>
                    </a:lnTo>
                    <a:lnTo>
                      <a:pt x="53" y="305"/>
                    </a:lnTo>
                    <a:lnTo>
                      <a:pt x="44" y="290"/>
                    </a:lnTo>
                    <a:lnTo>
                      <a:pt x="37" y="274"/>
                    </a:lnTo>
                    <a:lnTo>
                      <a:pt x="30" y="258"/>
                    </a:lnTo>
                    <a:lnTo>
                      <a:pt x="26" y="241"/>
                    </a:lnTo>
                    <a:lnTo>
                      <a:pt x="23" y="222"/>
                    </a:lnTo>
                    <a:lnTo>
                      <a:pt x="22" y="204"/>
                    </a:lnTo>
                    <a:lnTo>
                      <a:pt x="23" y="186"/>
                    </a:lnTo>
                    <a:lnTo>
                      <a:pt x="26" y="167"/>
                    </a:lnTo>
                    <a:lnTo>
                      <a:pt x="30" y="150"/>
                    </a:lnTo>
                    <a:lnTo>
                      <a:pt x="37" y="134"/>
                    </a:lnTo>
                    <a:lnTo>
                      <a:pt x="44" y="118"/>
                    </a:lnTo>
                    <a:lnTo>
                      <a:pt x="53" y="103"/>
                    </a:lnTo>
                    <a:lnTo>
                      <a:pt x="64" y="89"/>
                    </a:lnTo>
                    <a:lnTo>
                      <a:pt x="75" y="75"/>
                    </a:lnTo>
                    <a:lnTo>
                      <a:pt x="89" y="63"/>
                    </a:lnTo>
                    <a:lnTo>
                      <a:pt x="103" y="53"/>
                    </a:lnTo>
                    <a:lnTo>
                      <a:pt x="118" y="44"/>
                    </a:lnTo>
                    <a:lnTo>
                      <a:pt x="133" y="37"/>
                    </a:lnTo>
                    <a:lnTo>
                      <a:pt x="150" y="30"/>
                    </a:lnTo>
                    <a:lnTo>
                      <a:pt x="168" y="25"/>
                    </a:lnTo>
                    <a:lnTo>
                      <a:pt x="186" y="23"/>
                    </a:lnTo>
                    <a:lnTo>
                      <a:pt x="204" y="22"/>
                    </a:lnTo>
                    <a:lnTo>
                      <a:pt x="223" y="23"/>
                    </a:lnTo>
                    <a:lnTo>
                      <a:pt x="240" y="25"/>
                    </a:lnTo>
                    <a:lnTo>
                      <a:pt x="259" y="30"/>
                    </a:lnTo>
                    <a:lnTo>
                      <a:pt x="275" y="37"/>
                    </a:lnTo>
                    <a:lnTo>
                      <a:pt x="291" y="44"/>
                    </a:lnTo>
                    <a:lnTo>
                      <a:pt x="306" y="53"/>
                    </a:lnTo>
                    <a:lnTo>
                      <a:pt x="320" y="63"/>
                    </a:lnTo>
                    <a:lnTo>
                      <a:pt x="332" y="75"/>
                    </a:lnTo>
                    <a:lnTo>
                      <a:pt x="344" y="89"/>
                    </a:lnTo>
                    <a:lnTo>
                      <a:pt x="354" y="103"/>
                    </a:lnTo>
                    <a:lnTo>
                      <a:pt x="364" y="118"/>
                    </a:lnTo>
                    <a:lnTo>
                      <a:pt x="372" y="134"/>
                    </a:lnTo>
                    <a:lnTo>
                      <a:pt x="377" y="150"/>
                    </a:lnTo>
                    <a:lnTo>
                      <a:pt x="382" y="167"/>
                    </a:lnTo>
                    <a:lnTo>
                      <a:pt x="384" y="186"/>
                    </a:lnTo>
                    <a:lnTo>
                      <a:pt x="386" y="20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40520" y="3887640"/>
                <a:ext cx="102960" cy="101880"/>
              </a:xfrm>
              <a:custGeom>
                <a:avLst/>
                <a:gdLst/>
                <a:ahLst/>
                <a:rect l="l" t="t" r="r" b="b"/>
                <a:pathLst>
                  <a:path w="386" h="387">
                    <a:moveTo>
                      <a:pt x="386" y="194"/>
                    </a:moveTo>
                    <a:lnTo>
                      <a:pt x="385" y="174"/>
                    </a:lnTo>
                    <a:lnTo>
                      <a:pt x="383" y="155"/>
                    </a:lnTo>
                    <a:lnTo>
                      <a:pt x="378" y="136"/>
                    </a:lnTo>
                    <a:lnTo>
                      <a:pt x="371" y="119"/>
                    </a:lnTo>
                    <a:lnTo>
                      <a:pt x="363" y="102"/>
                    </a:lnTo>
                    <a:lnTo>
                      <a:pt x="354" y="86"/>
                    </a:lnTo>
                    <a:lnTo>
                      <a:pt x="342" y="71"/>
                    </a:lnTo>
                    <a:lnTo>
                      <a:pt x="330" y="57"/>
                    </a:lnTo>
                    <a:lnTo>
                      <a:pt x="316" y="45"/>
                    </a:lnTo>
                    <a:lnTo>
                      <a:pt x="301" y="34"/>
                    </a:lnTo>
                    <a:lnTo>
                      <a:pt x="286" y="25"/>
                    </a:lnTo>
                    <a:lnTo>
                      <a:pt x="268" y="16"/>
                    </a:lnTo>
                    <a:lnTo>
                      <a:pt x="250" y="10"/>
                    </a:lnTo>
                    <a:lnTo>
                      <a:pt x="232" y="5"/>
                    </a:lnTo>
                    <a:lnTo>
                      <a:pt x="213" y="1"/>
                    </a:lnTo>
                    <a:lnTo>
                      <a:pt x="193" y="0"/>
                    </a:lnTo>
                    <a:lnTo>
                      <a:pt x="174" y="1"/>
                    </a:lnTo>
                    <a:lnTo>
                      <a:pt x="154" y="5"/>
                    </a:lnTo>
                    <a:lnTo>
                      <a:pt x="136" y="10"/>
                    </a:lnTo>
                    <a:lnTo>
                      <a:pt x="118" y="16"/>
                    </a:lnTo>
                    <a:lnTo>
                      <a:pt x="101" y="25"/>
                    </a:lnTo>
                    <a:lnTo>
                      <a:pt x="85" y="34"/>
                    </a:lnTo>
                    <a:lnTo>
                      <a:pt x="70" y="45"/>
                    </a:lnTo>
                    <a:lnTo>
                      <a:pt x="56" y="57"/>
                    </a:lnTo>
                    <a:lnTo>
                      <a:pt x="45" y="71"/>
                    </a:lnTo>
                    <a:lnTo>
                      <a:pt x="33" y="86"/>
                    </a:lnTo>
                    <a:lnTo>
                      <a:pt x="24" y="102"/>
                    </a:lnTo>
                    <a:lnTo>
                      <a:pt x="16" y="119"/>
                    </a:lnTo>
                    <a:lnTo>
                      <a:pt x="9" y="136"/>
                    </a:lnTo>
                    <a:lnTo>
                      <a:pt x="4" y="155"/>
                    </a:lnTo>
                    <a:lnTo>
                      <a:pt x="1" y="174"/>
                    </a:lnTo>
                    <a:lnTo>
                      <a:pt x="0" y="194"/>
                    </a:lnTo>
                    <a:lnTo>
                      <a:pt x="1" y="214"/>
                    </a:lnTo>
                    <a:lnTo>
                      <a:pt x="4" y="233"/>
                    </a:lnTo>
                    <a:lnTo>
                      <a:pt x="9" y="252"/>
                    </a:lnTo>
                    <a:lnTo>
                      <a:pt x="16" y="269"/>
                    </a:lnTo>
                    <a:lnTo>
                      <a:pt x="24" y="286"/>
                    </a:lnTo>
                    <a:lnTo>
                      <a:pt x="33" y="301"/>
                    </a:lnTo>
                    <a:lnTo>
                      <a:pt x="45" y="316"/>
                    </a:lnTo>
                    <a:lnTo>
                      <a:pt x="56" y="330"/>
                    </a:lnTo>
                    <a:lnTo>
                      <a:pt x="70" y="343"/>
                    </a:lnTo>
                    <a:lnTo>
                      <a:pt x="85" y="354"/>
                    </a:lnTo>
                    <a:lnTo>
                      <a:pt x="101" y="363"/>
                    </a:lnTo>
                    <a:lnTo>
                      <a:pt x="118" y="372"/>
                    </a:lnTo>
                    <a:lnTo>
                      <a:pt x="136" y="378"/>
                    </a:lnTo>
                    <a:lnTo>
                      <a:pt x="154" y="383"/>
                    </a:lnTo>
                    <a:lnTo>
                      <a:pt x="174" y="385"/>
                    </a:lnTo>
                    <a:lnTo>
                      <a:pt x="193" y="387"/>
                    </a:lnTo>
                    <a:lnTo>
                      <a:pt x="213" y="385"/>
                    </a:lnTo>
                    <a:lnTo>
                      <a:pt x="232" y="383"/>
                    </a:lnTo>
                    <a:lnTo>
                      <a:pt x="250" y="378"/>
                    </a:lnTo>
                    <a:lnTo>
                      <a:pt x="268" y="372"/>
                    </a:lnTo>
                    <a:lnTo>
                      <a:pt x="286" y="363"/>
                    </a:lnTo>
                    <a:lnTo>
                      <a:pt x="301" y="354"/>
                    </a:lnTo>
                    <a:lnTo>
                      <a:pt x="316" y="343"/>
                    </a:lnTo>
                    <a:lnTo>
                      <a:pt x="330" y="330"/>
                    </a:lnTo>
                    <a:lnTo>
                      <a:pt x="342" y="316"/>
                    </a:lnTo>
                    <a:lnTo>
                      <a:pt x="354" y="301"/>
                    </a:lnTo>
                    <a:lnTo>
                      <a:pt x="363" y="286"/>
                    </a:lnTo>
                    <a:lnTo>
                      <a:pt x="371" y="269"/>
                    </a:lnTo>
                    <a:lnTo>
                      <a:pt x="378" y="252"/>
                    </a:lnTo>
                    <a:lnTo>
                      <a:pt x="383" y="233"/>
                    </a:lnTo>
                    <a:lnTo>
                      <a:pt x="385" y="214"/>
                    </a:lnTo>
                    <a:lnTo>
                      <a:pt x="386" y="194"/>
                    </a:lnTo>
                    <a:close/>
                    <a:moveTo>
                      <a:pt x="364" y="194"/>
                    </a:moveTo>
                    <a:lnTo>
                      <a:pt x="363" y="211"/>
                    </a:lnTo>
                    <a:lnTo>
                      <a:pt x="360" y="229"/>
                    </a:lnTo>
                    <a:lnTo>
                      <a:pt x="356" y="245"/>
                    </a:lnTo>
                    <a:lnTo>
                      <a:pt x="350" y="260"/>
                    </a:lnTo>
                    <a:lnTo>
                      <a:pt x="343" y="275"/>
                    </a:lnTo>
                    <a:lnTo>
                      <a:pt x="334" y="289"/>
                    </a:lnTo>
                    <a:lnTo>
                      <a:pt x="325" y="302"/>
                    </a:lnTo>
                    <a:lnTo>
                      <a:pt x="313" y="314"/>
                    </a:lnTo>
                    <a:lnTo>
                      <a:pt x="302" y="325"/>
                    </a:lnTo>
                    <a:lnTo>
                      <a:pt x="288" y="335"/>
                    </a:lnTo>
                    <a:lnTo>
                      <a:pt x="274" y="344"/>
                    </a:lnTo>
                    <a:lnTo>
                      <a:pt x="259" y="351"/>
                    </a:lnTo>
                    <a:lnTo>
                      <a:pt x="244" y="357"/>
                    </a:lnTo>
                    <a:lnTo>
                      <a:pt x="228" y="361"/>
                    </a:lnTo>
                    <a:lnTo>
                      <a:pt x="211" y="363"/>
                    </a:lnTo>
                    <a:lnTo>
                      <a:pt x="193" y="363"/>
                    </a:lnTo>
                    <a:lnTo>
                      <a:pt x="176" y="363"/>
                    </a:lnTo>
                    <a:lnTo>
                      <a:pt x="159" y="361"/>
                    </a:lnTo>
                    <a:lnTo>
                      <a:pt x="143" y="357"/>
                    </a:lnTo>
                    <a:lnTo>
                      <a:pt x="127" y="351"/>
                    </a:lnTo>
                    <a:lnTo>
                      <a:pt x="112" y="344"/>
                    </a:lnTo>
                    <a:lnTo>
                      <a:pt x="98" y="335"/>
                    </a:lnTo>
                    <a:lnTo>
                      <a:pt x="85" y="325"/>
                    </a:lnTo>
                    <a:lnTo>
                      <a:pt x="72" y="314"/>
                    </a:lnTo>
                    <a:lnTo>
                      <a:pt x="62" y="302"/>
                    </a:lnTo>
                    <a:lnTo>
                      <a:pt x="52" y="289"/>
                    </a:lnTo>
                    <a:lnTo>
                      <a:pt x="44" y="275"/>
                    </a:lnTo>
                    <a:lnTo>
                      <a:pt x="37" y="260"/>
                    </a:lnTo>
                    <a:lnTo>
                      <a:pt x="31" y="245"/>
                    </a:lnTo>
                    <a:lnTo>
                      <a:pt x="26" y="229"/>
                    </a:lnTo>
                    <a:lnTo>
                      <a:pt x="24" y="211"/>
                    </a:lnTo>
                    <a:lnTo>
                      <a:pt x="23" y="194"/>
                    </a:lnTo>
                    <a:lnTo>
                      <a:pt x="24" y="177"/>
                    </a:lnTo>
                    <a:lnTo>
                      <a:pt x="26" y="159"/>
                    </a:lnTo>
                    <a:lnTo>
                      <a:pt x="31" y="143"/>
                    </a:lnTo>
                    <a:lnTo>
                      <a:pt x="37" y="127"/>
                    </a:lnTo>
                    <a:lnTo>
                      <a:pt x="44" y="113"/>
                    </a:lnTo>
                    <a:lnTo>
                      <a:pt x="52" y="98"/>
                    </a:lnTo>
                    <a:lnTo>
                      <a:pt x="62" y="86"/>
                    </a:lnTo>
                    <a:lnTo>
                      <a:pt x="72" y="73"/>
                    </a:lnTo>
                    <a:lnTo>
                      <a:pt x="85" y="63"/>
                    </a:lnTo>
                    <a:lnTo>
                      <a:pt x="98" y="52"/>
                    </a:lnTo>
                    <a:lnTo>
                      <a:pt x="112" y="44"/>
                    </a:lnTo>
                    <a:lnTo>
                      <a:pt x="127" y="37"/>
                    </a:lnTo>
                    <a:lnTo>
                      <a:pt x="143" y="31"/>
                    </a:lnTo>
                    <a:lnTo>
                      <a:pt x="159" y="27"/>
                    </a:lnTo>
                    <a:lnTo>
                      <a:pt x="176" y="25"/>
                    </a:lnTo>
                    <a:lnTo>
                      <a:pt x="193" y="23"/>
                    </a:lnTo>
                    <a:lnTo>
                      <a:pt x="211" y="25"/>
                    </a:lnTo>
                    <a:lnTo>
                      <a:pt x="228" y="27"/>
                    </a:lnTo>
                    <a:lnTo>
                      <a:pt x="244" y="31"/>
                    </a:lnTo>
                    <a:lnTo>
                      <a:pt x="259" y="37"/>
                    </a:lnTo>
                    <a:lnTo>
                      <a:pt x="274" y="44"/>
                    </a:lnTo>
                    <a:lnTo>
                      <a:pt x="288" y="52"/>
                    </a:lnTo>
                    <a:lnTo>
                      <a:pt x="302" y="63"/>
                    </a:lnTo>
                    <a:lnTo>
                      <a:pt x="313" y="73"/>
                    </a:lnTo>
                    <a:lnTo>
                      <a:pt x="325" y="86"/>
                    </a:lnTo>
                    <a:lnTo>
                      <a:pt x="334" y="98"/>
                    </a:lnTo>
                    <a:lnTo>
                      <a:pt x="343" y="113"/>
                    </a:lnTo>
                    <a:lnTo>
                      <a:pt x="350" y="127"/>
                    </a:lnTo>
                    <a:lnTo>
                      <a:pt x="356" y="143"/>
                    </a:lnTo>
                    <a:lnTo>
                      <a:pt x="360" y="159"/>
                    </a:lnTo>
                    <a:lnTo>
                      <a:pt x="363" y="177"/>
                    </a:lnTo>
                    <a:lnTo>
                      <a:pt x="364" y="19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43760" y="3890880"/>
                <a:ext cx="96840" cy="95400"/>
              </a:xfrm>
              <a:custGeom>
                <a:avLst/>
                <a:gdLst/>
                <a:ahLst/>
                <a:rect l="l" t="t" r="r" b="b"/>
                <a:pathLst>
                  <a:path w="364" h="363">
                    <a:moveTo>
                      <a:pt x="364" y="182"/>
                    </a:moveTo>
                    <a:lnTo>
                      <a:pt x="362" y="164"/>
                    </a:lnTo>
                    <a:lnTo>
                      <a:pt x="360" y="145"/>
                    </a:lnTo>
                    <a:lnTo>
                      <a:pt x="355" y="128"/>
                    </a:lnTo>
                    <a:lnTo>
                      <a:pt x="350" y="112"/>
                    </a:lnTo>
                    <a:lnTo>
                      <a:pt x="342" y="96"/>
                    </a:lnTo>
                    <a:lnTo>
                      <a:pt x="332" y="81"/>
                    </a:lnTo>
                    <a:lnTo>
                      <a:pt x="322" y="67"/>
                    </a:lnTo>
                    <a:lnTo>
                      <a:pt x="310" y="53"/>
                    </a:lnTo>
                    <a:lnTo>
                      <a:pt x="298" y="41"/>
                    </a:lnTo>
                    <a:lnTo>
                      <a:pt x="284" y="31"/>
                    </a:lnTo>
                    <a:lnTo>
                      <a:pt x="269" y="22"/>
                    </a:lnTo>
                    <a:lnTo>
                      <a:pt x="253" y="15"/>
                    </a:lnTo>
                    <a:lnTo>
                      <a:pt x="237" y="8"/>
                    </a:lnTo>
                    <a:lnTo>
                      <a:pt x="218" y="3"/>
                    </a:lnTo>
                    <a:lnTo>
                      <a:pt x="201" y="1"/>
                    </a:lnTo>
                    <a:lnTo>
                      <a:pt x="182" y="0"/>
                    </a:lnTo>
                    <a:lnTo>
                      <a:pt x="164" y="1"/>
                    </a:lnTo>
                    <a:lnTo>
                      <a:pt x="146" y="3"/>
                    </a:lnTo>
                    <a:lnTo>
                      <a:pt x="128" y="8"/>
                    </a:lnTo>
                    <a:lnTo>
                      <a:pt x="111" y="15"/>
                    </a:lnTo>
                    <a:lnTo>
                      <a:pt x="96" y="22"/>
                    </a:lnTo>
                    <a:lnTo>
                      <a:pt x="81" y="31"/>
                    </a:lnTo>
                    <a:lnTo>
                      <a:pt x="67" y="41"/>
                    </a:lnTo>
                    <a:lnTo>
                      <a:pt x="53" y="53"/>
                    </a:lnTo>
                    <a:lnTo>
                      <a:pt x="42" y="67"/>
                    </a:lnTo>
                    <a:lnTo>
                      <a:pt x="31" y="81"/>
                    </a:lnTo>
                    <a:lnTo>
                      <a:pt x="22" y="96"/>
                    </a:lnTo>
                    <a:lnTo>
                      <a:pt x="15" y="112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1" y="164"/>
                    </a:lnTo>
                    <a:lnTo>
                      <a:pt x="0" y="182"/>
                    </a:lnTo>
                    <a:lnTo>
                      <a:pt x="1" y="200"/>
                    </a:lnTo>
                    <a:lnTo>
                      <a:pt x="4" y="219"/>
                    </a:lnTo>
                    <a:lnTo>
                      <a:pt x="8" y="236"/>
                    </a:lnTo>
                    <a:lnTo>
                      <a:pt x="15" y="252"/>
                    </a:lnTo>
                    <a:lnTo>
                      <a:pt x="22" y="268"/>
                    </a:lnTo>
                    <a:lnTo>
                      <a:pt x="31" y="283"/>
                    </a:lnTo>
                    <a:lnTo>
                      <a:pt x="42" y="297"/>
                    </a:lnTo>
                    <a:lnTo>
                      <a:pt x="53" y="310"/>
                    </a:lnTo>
                    <a:lnTo>
                      <a:pt x="67" y="321"/>
                    </a:lnTo>
                    <a:lnTo>
                      <a:pt x="81" y="332"/>
                    </a:lnTo>
                    <a:lnTo>
                      <a:pt x="96" y="341"/>
                    </a:lnTo>
                    <a:lnTo>
                      <a:pt x="111" y="349"/>
                    </a:lnTo>
                    <a:lnTo>
                      <a:pt x="128" y="355"/>
                    </a:lnTo>
                    <a:lnTo>
                      <a:pt x="146" y="360"/>
                    </a:lnTo>
                    <a:lnTo>
                      <a:pt x="164" y="363"/>
                    </a:lnTo>
                    <a:lnTo>
                      <a:pt x="182" y="363"/>
                    </a:lnTo>
                    <a:lnTo>
                      <a:pt x="201" y="363"/>
                    </a:lnTo>
                    <a:lnTo>
                      <a:pt x="218" y="360"/>
                    </a:lnTo>
                    <a:lnTo>
                      <a:pt x="237" y="355"/>
                    </a:lnTo>
                    <a:lnTo>
                      <a:pt x="253" y="349"/>
                    </a:lnTo>
                    <a:lnTo>
                      <a:pt x="269" y="341"/>
                    </a:lnTo>
                    <a:lnTo>
                      <a:pt x="284" y="332"/>
                    </a:lnTo>
                    <a:lnTo>
                      <a:pt x="298" y="321"/>
                    </a:lnTo>
                    <a:lnTo>
                      <a:pt x="310" y="310"/>
                    </a:lnTo>
                    <a:lnTo>
                      <a:pt x="322" y="297"/>
                    </a:lnTo>
                    <a:lnTo>
                      <a:pt x="332" y="283"/>
                    </a:lnTo>
                    <a:lnTo>
                      <a:pt x="342" y="268"/>
                    </a:lnTo>
                    <a:lnTo>
                      <a:pt x="350" y="252"/>
                    </a:lnTo>
                    <a:lnTo>
                      <a:pt x="355" y="236"/>
                    </a:lnTo>
                    <a:lnTo>
                      <a:pt x="360" y="219"/>
                    </a:lnTo>
                    <a:lnTo>
                      <a:pt x="362" y="200"/>
                    </a:lnTo>
                    <a:lnTo>
                      <a:pt x="364" y="182"/>
                    </a:lnTo>
                    <a:close/>
                    <a:moveTo>
                      <a:pt x="342" y="182"/>
                    </a:moveTo>
                    <a:lnTo>
                      <a:pt x="340" y="198"/>
                    </a:lnTo>
                    <a:lnTo>
                      <a:pt x="338" y="214"/>
                    </a:lnTo>
                    <a:lnTo>
                      <a:pt x="334" y="229"/>
                    </a:lnTo>
                    <a:lnTo>
                      <a:pt x="329" y="243"/>
                    </a:lnTo>
                    <a:lnTo>
                      <a:pt x="322" y="258"/>
                    </a:lnTo>
                    <a:lnTo>
                      <a:pt x="314" y="271"/>
                    </a:lnTo>
                    <a:lnTo>
                      <a:pt x="305" y="283"/>
                    </a:lnTo>
                    <a:lnTo>
                      <a:pt x="294" y="294"/>
                    </a:lnTo>
                    <a:lnTo>
                      <a:pt x="283" y="304"/>
                    </a:lnTo>
                    <a:lnTo>
                      <a:pt x="271" y="313"/>
                    </a:lnTo>
                    <a:lnTo>
                      <a:pt x="257" y="321"/>
                    </a:lnTo>
                    <a:lnTo>
                      <a:pt x="244" y="328"/>
                    </a:lnTo>
                    <a:lnTo>
                      <a:pt x="230" y="334"/>
                    </a:lnTo>
                    <a:lnTo>
                      <a:pt x="215" y="338"/>
                    </a:lnTo>
                    <a:lnTo>
                      <a:pt x="199" y="340"/>
                    </a:lnTo>
                    <a:lnTo>
                      <a:pt x="182" y="341"/>
                    </a:lnTo>
                    <a:lnTo>
                      <a:pt x="166" y="340"/>
                    </a:lnTo>
                    <a:lnTo>
                      <a:pt x="150" y="338"/>
                    </a:lnTo>
                    <a:lnTo>
                      <a:pt x="135" y="334"/>
                    </a:lnTo>
                    <a:lnTo>
                      <a:pt x="120" y="328"/>
                    </a:lnTo>
                    <a:lnTo>
                      <a:pt x="106" y="321"/>
                    </a:lnTo>
                    <a:lnTo>
                      <a:pt x="94" y="313"/>
                    </a:lnTo>
                    <a:lnTo>
                      <a:pt x="81" y="304"/>
                    </a:lnTo>
                    <a:lnTo>
                      <a:pt x="69" y="294"/>
                    </a:lnTo>
                    <a:lnTo>
                      <a:pt x="59" y="283"/>
                    </a:lnTo>
                    <a:lnTo>
                      <a:pt x="50" y="271"/>
                    </a:lnTo>
                    <a:lnTo>
                      <a:pt x="43" y="258"/>
                    </a:lnTo>
                    <a:lnTo>
                      <a:pt x="36" y="243"/>
                    </a:lnTo>
                    <a:lnTo>
                      <a:pt x="30" y="229"/>
                    </a:lnTo>
                    <a:lnTo>
                      <a:pt x="27" y="214"/>
                    </a:lnTo>
                    <a:lnTo>
                      <a:pt x="24" y="198"/>
                    </a:lnTo>
                    <a:lnTo>
                      <a:pt x="23" y="182"/>
                    </a:lnTo>
                    <a:lnTo>
                      <a:pt x="24" y="166"/>
                    </a:lnTo>
                    <a:lnTo>
                      <a:pt x="27" y="150"/>
                    </a:lnTo>
                    <a:lnTo>
                      <a:pt x="30" y="135"/>
                    </a:lnTo>
                    <a:lnTo>
                      <a:pt x="36" y="120"/>
                    </a:lnTo>
                    <a:lnTo>
                      <a:pt x="43" y="106"/>
                    </a:lnTo>
                    <a:lnTo>
                      <a:pt x="50" y="93"/>
                    </a:lnTo>
                    <a:lnTo>
                      <a:pt x="59" y="81"/>
                    </a:lnTo>
                    <a:lnTo>
                      <a:pt x="69" y="69"/>
                    </a:lnTo>
                    <a:lnTo>
                      <a:pt x="81" y="60"/>
                    </a:lnTo>
                    <a:lnTo>
                      <a:pt x="94" y="51"/>
                    </a:lnTo>
                    <a:lnTo>
                      <a:pt x="106" y="43"/>
                    </a:lnTo>
                    <a:lnTo>
                      <a:pt x="120" y="36"/>
                    </a:lnTo>
                    <a:lnTo>
                      <a:pt x="135" y="30"/>
                    </a:lnTo>
                    <a:lnTo>
                      <a:pt x="150" y="26"/>
                    </a:lnTo>
                    <a:lnTo>
                      <a:pt x="166" y="24"/>
                    </a:lnTo>
                    <a:lnTo>
                      <a:pt x="182" y="23"/>
                    </a:lnTo>
                    <a:lnTo>
                      <a:pt x="199" y="24"/>
                    </a:lnTo>
                    <a:lnTo>
                      <a:pt x="215" y="26"/>
                    </a:lnTo>
                    <a:lnTo>
                      <a:pt x="230" y="30"/>
                    </a:lnTo>
                    <a:lnTo>
                      <a:pt x="244" y="36"/>
                    </a:lnTo>
                    <a:lnTo>
                      <a:pt x="257" y="43"/>
                    </a:lnTo>
                    <a:lnTo>
                      <a:pt x="271" y="51"/>
                    </a:lnTo>
                    <a:lnTo>
                      <a:pt x="283" y="60"/>
                    </a:lnTo>
                    <a:lnTo>
                      <a:pt x="294" y="69"/>
                    </a:lnTo>
                    <a:lnTo>
                      <a:pt x="305" y="81"/>
                    </a:lnTo>
                    <a:lnTo>
                      <a:pt x="314" y="93"/>
                    </a:lnTo>
                    <a:lnTo>
                      <a:pt x="322" y="106"/>
                    </a:lnTo>
                    <a:lnTo>
                      <a:pt x="329" y="120"/>
                    </a:lnTo>
                    <a:lnTo>
                      <a:pt x="334" y="135"/>
                    </a:lnTo>
                    <a:lnTo>
                      <a:pt x="338" y="150"/>
                    </a:lnTo>
                    <a:lnTo>
                      <a:pt x="340" y="166"/>
                    </a:lnTo>
                    <a:lnTo>
                      <a:pt x="342" y="18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46640" y="38941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341" y="171"/>
                    </a:moveTo>
                    <a:lnTo>
                      <a:pt x="340" y="154"/>
                    </a:lnTo>
                    <a:lnTo>
                      <a:pt x="337" y="136"/>
                    </a:lnTo>
                    <a:lnTo>
                      <a:pt x="333" y="120"/>
                    </a:lnTo>
                    <a:lnTo>
                      <a:pt x="327" y="104"/>
                    </a:lnTo>
                    <a:lnTo>
                      <a:pt x="320" y="90"/>
                    </a:lnTo>
                    <a:lnTo>
                      <a:pt x="311" y="75"/>
                    </a:lnTo>
                    <a:lnTo>
                      <a:pt x="302" y="63"/>
                    </a:lnTo>
                    <a:lnTo>
                      <a:pt x="290" y="50"/>
                    </a:lnTo>
                    <a:lnTo>
                      <a:pt x="279" y="40"/>
                    </a:lnTo>
                    <a:lnTo>
                      <a:pt x="265" y="29"/>
                    </a:lnTo>
                    <a:lnTo>
                      <a:pt x="251" y="21"/>
                    </a:lnTo>
                    <a:lnTo>
                      <a:pt x="236" y="14"/>
                    </a:lnTo>
                    <a:lnTo>
                      <a:pt x="221" y="8"/>
                    </a:lnTo>
                    <a:lnTo>
                      <a:pt x="205" y="4"/>
                    </a:lnTo>
                    <a:lnTo>
                      <a:pt x="188" y="2"/>
                    </a:lnTo>
                    <a:lnTo>
                      <a:pt x="170" y="0"/>
                    </a:lnTo>
                    <a:lnTo>
                      <a:pt x="153" y="2"/>
                    </a:lnTo>
                    <a:lnTo>
                      <a:pt x="136" y="4"/>
                    </a:lnTo>
                    <a:lnTo>
                      <a:pt x="120" y="8"/>
                    </a:lnTo>
                    <a:lnTo>
                      <a:pt x="104" y="14"/>
                    </a:lnTo>
                    <a:lnTo>
                      <a:pt x="89" y="21"/>
                    </a:lnTo>
                    <a:lnTo>
                      <a:pt x="75" y="29"/>
                    </a:lnTo>
                    <a:lnTo>
                      <a:pt x="62" y="40"/>
                    </a:lnTo>
                    <a:lnTo>
                      <a:pt x="49" y="50"/>
                    </a:lnTo>
                    <a:lnTo>
                      <a:pt x="39" y="63"/>
                    </a:lnTo>
                    <a:lnTo>
                      <a:pt x="29" y="75"/>
                    </a:lnTo>
                    <a:lnTo>
                      <a:pt x="21" y="90"/>
                    </a:lnTo>
                    <a:lnTo>
                      <a:pt x="14" y="104"/>
                    </a:lnTo>
                    <a:lnTo>
                      <a:pt x="8" y="120"/>
                    </a:lnTo>
                    <a:lnTo>
                      <a:pt x="3" y="136"/>
                    </a:lnTo>
                    <a:lnTo>
                      <a:pt x="1" y="154"/>
                    </a:lnTo>
                    <a:lnTo>
                      <a:pt x="0" y="171"/>
                    </a:lnTo>
                    <a:lnTo>
                      <a:pt x="1" y="188"/>
                    </a:lnTo>
                    <a:lnTo>
                      <a:pt x="3" y="206"/>
                    </a:lnTo>
                    <a:lnTo>
                      <a:pt x="8" y="222"/>
                    </a:lnTo>
                    <a:lnTo>
                      <a:pt x="14" y="237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9"/>
                    </a:lnTo>
                    <a:lnTo>
                      <a:pt x="49" y="291"/>
                    </a:lnTo>
                    <a:lnTo>
                      <a:pt x="62" y="302"/>
                    </a:lnTo>
                    <a:lnTo>
                      <a:pt x="75" y="312"/>
                    </a:lnTo>
                    <a:lnTo>
                      <a:pt x="89" y="321"/>
                    </a:lnTo>
                    <a:lnTo>
                      <a:pt x="104" y="328"/>
                    </a:lnTo>
                    <a:lnTo>
                      <a:pt x="120" y="334"/>
                    </a:lnTo>
                    <a:lnTo>
                      <a:pt x="136" y="338"/>
                    </a:lnTo>
                    <a:lnTo>
                      <a:pt x="153" y="340"/>
                    </a:lnTo>
                    <a:lnTo>
                      <a:pt x="170" y="340"/>
                    </a:lnTo>
                    <a:lnTo>
                      <a:pt x="188" y="340"/>
                    </a:lnTo>
                    <a:lnTo>
                      <a:pt x="205" y="338"/>
                    </a:lnTo>
                    <a:lnTo>
                      <a:pt x="221" y="334"/>
                    </a:lnTo>
                    <a:lnTo>
                      <a:pt x="236" y="328"/>
                    </a:lnTo>
                    <a:lnTo>
                      <a:pt x="251" y="321"/>
                    </a:lnTo>
                    <a:lnTo>
                      <a:pt x="265" y="312"/>
                    </a:lnTo>
                    <a:lnTo>
                      <a:pt x="279" y="302"/>
                    </a:lnTo>
                    <a:lnTo>
                      <a:pt x="290" y="291"/>
                    </a:lnTo>
                    <a:lnTo>
                      <a:pt x="302" y="279"/>
                    </a:lnTo>
                    <a:lnTo>
                      <a:pt x="311" y="266"/>
                    </a:lnTo>
                    <a:lnTo>
                      <a:pt x="320" y="252"/>
                    </a:lnTo>
                    <a:lnTo>
                      <a:pt x="327" y="237"/>
                    </a:lnTo>
                    <a:lnTo>
                      <a:pt x="333" y="222"/>
                    </a:lnTo>
                    <a:lnTo>
                      <a:pt x="337" y="206"/>
                    </a:lnTo>
                    <a:lnTo>
                      <a:pt x="340" y="188"/>
                    </a:lnTo>
                    <a:lnTo>
                      <a:pt x="341" y="171"/>
                    </a:lnTo>
                    <a:close/>
                    <a:moveTo>
                      <a:pt x="318" y="171"/>
                    </a:moveTo>
                    <a:lnTo>
                      <a:pt x="317" y="186"/>
                    </a:lnTo>
                    <a:lnTo>
                      <a:pt x="315" y="201"/>
                    </a:lnTo>
                    <a:lnTo>
                      <a:pt x="311" y="215"/>
                    </a:lnTo>
                    <a:lnTo>
                      <a:pt x="307" y="229"/>
                    </a:lnTo>
                    <a:lnTo>
                      <a:pt x="300" y="241"/>
                    </a:lnTo>
                    <a:lnTo>
                      <a:pt x="293" y="253"/>
                    </a:lnTo>
                    <a:lnTo>
                      <a:pt x="283" y="264"/>
                    </a:lnTo>
                    <a:lnTo>
                      <a:pt x="274" y="275"/>
                    </a:lnTo>
                    <a:lnTo>
                      <a:pt x="264" y="285"/>
                    </a:lnTo>
                    <a:lnTo>
                      <a:pt x="252" y="293"/>
                    </a:lnTo>
                    <a:lnTo>
                      <a:pt x="241" y="300"/>
                    </a:lnTo>
                    <a:lnTo>
                      <a:pt x="228" y="307"/>
                    </a:lnTo>
                    <a:lnTo>
                      <a:pt x="214" y="312"/>
                    </a:lnTo>
                    <a:lnTo>
                      <a:pt x="200" y="315"/>
                    </a:lnTo>
                    <a:lnTo>
                      <a:pt x="185" y="317"/>
                    </a:lnTo>
                    <a:lnTo>
                      <a:pt x="170" y="319"/>
                    </a:lnTo>
                    <a:lnTo>
                      <a:pt x="155" y="317"/>
                    </a:lnTo>
                    <a:lnTo>
                      <a:pt x="140" y="315"/>
                    </a:lnTo>
                    <a:lnTo>
                      <a:pt x="127" y="312"/>
                    </a:lnTo>
                    <a:lnTo>
                      <a:pt x="113" y="307"/>
                    </a:lnTo>
                    <a:lnTo>
                      <a:pt x="100" y="300"/>
                    </a:lnTo>
                    <a:lnTo>
                      <a:pt x="87" y="293"/>
                    </a:lnTo>
                    <a:lnTo>
                      <a:pt x="76" y="285"/>
                    </a:lnTo>
                    <a:lnTo>
                      <a:pt x="65" y="275"/>
                    </a:lnTo>
                    <a:lnTo>
                      <a:pt x="56" y="264"/>
                    </a:lnTo>
                    <a:lnTo>
                      <a:pt x="48" y="253"/>
                    </a:lnTo>
                    <a:lnTo>
                      <a:pt x="40" y="241"/>
                    </a:lnTo>
                    <a:lnTo>
                      <a:pt x="34" y="229"/>
                    </a:lnTo>
                    <a:lnTo>
                      <a:pt x="30" y="215"/>
                    </a:lnTo>
                    <a:lnTo>
                      <a:pt x="25" y="201"/>
                    </a:lnTo>
                    <a:lnTo>
                      <a:pt x="23" y="186"/>
                    </a:lnTo>
                    <a:lnTo>
                      <a:pt x="23" y="171"/>
                    </a:lnTo>
                    <a:lnTo>
                      <a:pt x="23" y="156"/>
                    </a:lnTo>
                    <a:lnTo>
                      <a:pt x="25" y="141"/>
                    </a:lnTo>
                    <a:lnTo>
                      <a:pt x="30" y="127"/>
                    </a:lnTo>
                    <a:lnTo>
                      <a:pt x="34" y="113"/>
                    </a:lnTo>
                    <a:lnTo>
                      <a:pt x="40" y="101"/>
                    </a:lnTo>
                    <a:lnTo>
                      <a:pt x="48" y="88"/>
                    </a:lnTo>
                    <a:lnTo>
                      <a:pt x="56" y="78"/>
                    </a:lnTo>
                    <a:lnTo>
                      <a:pt x="65" y="66"/>
                    </a:lnTo>
                    <a:lnTo>
                      <a:pt x="76" y="57"/>
                    </a:lnTo>
                    <a:lnTo>
                      <a:pt x="87" y="49"/>
                    </a:lnTo>
                    <a:lnTo>
                      <a:pt x="100" y="41"/>
                    </a:lnTo>
                    <a:lnTo>
                      <a:pt x="113" y="35"/>
                    </a:lnTo>
                    <a:lnTo>
                      <a:pt x="127" y="30"/>
                    </a:lnTo>
                    <a:lnTo>
                      <a:pt x="140" y="26"/>
                    </a:lnTo>
                    <a:lnTo>
                      <a:pt x="155" y="25"/>
                    </a:lnTo>
                    <a:lnTo>
                      <a:pt x="170" y="23"/>
                    </a:lnTo>
                    <a:lnTo>
                      <a:pt x="185" y="25"/>
                    </a:lnTo>
                    <a:lnTo>
                      <a:pt x="200" y="26"/>
                    </a:lnTo>
                    <a:lnTo>
                      <a:pt x="214" y="30"/>
                    </a:lnTo>
                    <a:lnTo>
                      <a:pt x="228" y="35"/>
                    </a:lnTo>
                    <a:lnTo>
                      <a:pt x="241" y="41"/>
                    </a:lnTo>
                    <a:lnTo>
                      <a:pt x="252" y="49"/>
                    </a:lnTo>
                    <a:lnTo>
                      <a:pt x="264" y="57"/>
                    </a:lnTo>
                    <a:lnTo>
                      <a:pt x="274" y="66"/>
                    </a:lnTo>
                    <a:lnTo>
                      <a:pt x="283" y="78"/>
                    </a:lnTo>
                    <a:lnTo>
                      <a:pt x="293" y="88"/>
                    </a:lnTo>
                    <a:lnTo>
                      <a:pt x="300" y="101"/>
                    </a:lnTo>
                    <a:lnTo>
                      <a:pt x="307" y="113"/>
                    </a:lnTo>
                    <a:lnTo>
                      <a:pt x="311" y="127"/>
                    </a:lnTo>
                    <a:lnTo>
                      <a:pt x="315" y="141"/>
                    </a:lnTo>
                    <a:lnTo>
                      <a:pt x="317" y="156"/>
                    </a:lnTo>
                    <a:lnTo>
                      <a:pt x="318" y="171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149880" y="3895560"/>
                <a:ext cx="84240" cy="86040"/>
              </a:xfrm>
              <a:custGeom>
                <a:avLst/>
                <a:gdLst/>
                <a:ahLst/>
                <a:rect l="l" t="t" r="r" b="b"/>
                <a:pathLst>
                  <a:path w="319" h="318">
                    <a:moveTo>
                      <a:pt x="319" y="159"/>
                    </a:moveTo>
                    <a:lnTo>
                      <a:pt x="317" y="143"/>
                    </a:lnTo>
                    <a:lnTo>
                      <a:pt x="315" y="127"/>
                    </a:lnTo>
                    <a:lnTo>
                      <a:pt x="311" y="112"/>
                    </a:lnTo>
                    <a:lnTo>
                      <a:pt x="306" y="97"/>
                    </a:lnTo>
                    <a:lnTo>
                      <a:pt x="299" y="83"/>
                    </a:lnTo>
                    <a:lnTo>
                      <a:pt x="291" y="70"/>
                    </a:lnTo>
                    <a:lnTo>
                      <a:pt x="282" y="58"/>
                    </a:lnTo>
                    <a:lnTo>
                      <a:pt x="271" y="46"/>
                    </a:lnTo>
                    <a:lnTo>
                      <a:pt x="260" y="37"/>
                    </a:lnTo>
                    <a:lnTo>
                      <a:pt x="248" y="28"/>
                    </a:lnTo>
                    <a:lnTo>
                      <a:pt x="234" y="20"/>
                    </a:lnTo>
                    <a:lnTo>
                      <a:pt x="221" y="13"/>
                    </a:lnTo>
                    <a:lnTo>
                      <a:pt x="207" y="7"/>
                    </a:lnTo>
                    <a:lnTo>
                      <a:pt x="192" y="3"/>
                    </a:lnTo>
                    <a:lnTo>
                      <a:pt x="176" y="1"/>
                    </a:lnTo>
                    <a:lnTo>
                      <a:pt x="159" y="0"/>
                    </a:lnTo>
                    <a:lnTo>
                      <a:pt x="143" y="1"/>
                    </a:lnTo>
                    <a:lnTo>
                      <a:pt x="127" y="3"/>
                    </a:lnTo>
                    <a:lnTo>
                      <a:pt x="112" y="7"/>
                    </a:lnTo>
                    <a:lnTo>
                      <a:pt x="97" y="13"/>
                    </a:lnTo>
                    <a:lnTo>
                      <a:pt x="83" y="20"/>
                    </a:lnTo>
                    <a:lnTo>
                      <a:pt x="71" y="28"/>
                    </a:lnTo>
                    <a:lnTo>
                      <a:pt x="58" y="37"/>
                    </a:lnTo>
                    <a:lnTo>
                      <a:pt x="46" y="46"/>
                    </a:lnTo>
                    <a:lnTo>
                      <a:pt x="36" y="58"/>
                    </a:lnTo>
                    <a:lnTo>
                      <a:pt x="27" y="70"/>
                    </a:lnTo>
                    <a:lnTo>
                      <a:pt x="20" y="83"/>
                    </a:lnTo>
                    <a:lnTo>
                      <a:pt x="13" y="97"/>
                    </a:lnTo>
                    <a:lnTo>
                      <a:pt x="7" y="112"/>
                    </a:lnTo>
                    <a:lnTo>
                      <a:pt x="4" y="127"/>
                    </a:lnTo>
                    <a:lnTo>
                      <a:pt x="1" y="143"/>
                    </a:lnTo>
                    <a:lnTo>
                      <a:pt x="0" y="159"/>
                    </a:lnTo>
                    <a:lnTo>
                      <a:pt x="1" y="175"/>
                    </a:lnTo>
                    <a:lnTo>
                      <a:pt x="4" y="191"/>
                    </a:lnTo>
                    <a:lnTo>
                      <a:pt x="7" y="206"/>
                    </a:lnTo>
                    <a:lnTo>
                      <a:pt x="13" y="220"/>
                    </a:lnTo>
                    <a:lnTo>
                      <a:pt x="20" y="235"/>
                    </a:lnTo>
                    <a:lnTo>
                      <a:pt x="27" y="248"/>
                    </a:lnTo>
                    <a:lnTo>
                      <a:pt x="36" y="260"/>
                    </a:lnTo>
                    <a:lnTo>
                      <a:pt x="46" y="271"/>
                    </a:lnTo>
                    <a:lnTo>
                      <a:pt x="58" y="281"/>
                    </a:lnTo>
                    <a:lnTo>
                      <a:pt x="71" y="290"/>
                    </a:lnTo>
                    <a:lnTo>
                      <a:pt x="83" y="298"/>
                    </a:lnTo>
                    <a:lnTo>
                      <a:pt x="97" y="305"/>
                    </a:lnTo>
                    <a:lnTo>
                      <a:pt x="112" y="311"/>
                    </a:lnTo>
                    <a:lnTo>
                      <a:pt x="127" y="315"/>
                    </a:lnTo>
                    <a:lnTo>
                      <a:pt x="143" y="317"/>
                    </a:lnTo>
                    <a:lnTo>
                      <a:pt x="159" y="318"/>
                    </a:lnTo>
                    <a:lnTo>
                      <a:pt x="176" y="317"/>
                    </a:lnTo>
                    <a:lnTo>
                      <a:pt x="192" y="315"/>
                    </a:lnTo>
                    <a:lnTo>
                      <a:pt x="207" y="311"/>
                    </a:lnTo>
                    <a:lnTo>
                      <a:pt x="221" y="305"/>
                    </a:lnTo>
                    <a:lnTo>
                      <a:pt x="234" y="298"/>
                    </a:lnTo>
                    <a:lnTo>
                      <a:pt x="248" y="290"/>
                    </a:lnTo>
                    <a:lnTo>
                      <a:pt x="260" y="281"/>
                    </a:lnTo>
                    <a:lnTo>
                      <a:pt x="271" y="271"/>
                    </a:lnTo>
                    <a:lnTo>
                      <a:pt x="282" y="260"/>
                    </a:lnTo>
                    <a:lnTo>
                      <a:pt x="291" y="248"/>
                    </a:lnTo>
                    <a:lnTo>
                      <a:pt x="299" y="235"/>
                    </a:lnTo>
                    <a:lnTo>
                      <a:pt x="306" y="220"/>
                    </a:lnTo>
                    <a:lnTo>
                      <a:pt x="311" y="206"/>
                    </a:lnTo>
                    <a:lnTo>
                      <a:pt x="315" y="191"/>
                    </a:lnTo>
                    <a:lnTo>
                      <a:pt x="317" y="175"/>
                    </a:lnTo>
                    <a:lnTo>
                      <a:pt x="319" y="159"/>
                    </a:lnTo>
                    <a:close/>
                    <a:moveTo>
                      <a:pt x="296" y="159"/>
                    </a:moveTo>
                    <a:lnTo>
                      <a:pt x="294" y="173"/>
                    </a:lnTo>
                    <a:lnTo>
                      <a:pt x="292" y="187"/>
                    </a:lnTo>
                    <a:lnTo>
                      <a:pt x="290" y="199"/>
                    </a:lnTo>
                    <a:lnTo>
                      <a:pt x="285" y="212"/>
                    </a:lnTo>
                    <a:lnTo>
                      <a:pt x="279" y="224"/>
                    </a:lnTo>
                    <a:lnTo>
                      <a:pt x="272" y="235"/>
                    </a:lnTo>
                    <a:lnTo>
                      <a:pt x="264" y="245"/>
                    </a:lnTo>
                    <a:lnTo>
                      <a:pt x="255" y="255"/>
                    </a:lnTo>
                    <a:lnTo>
                      <a:pt x="246" y="264"/>
                    </a:lnTo>
                    <a:lnTo>
                      <a:pt x="236" y="272"/>
                    </a:lnTo>
                    <a:lnTo>
                      <a:pt x="224" y="279"/>
                    </a:lnTo>
                    <a:lnTo>
                      <a:pt x="213" y="285"/>
                    </a:lnTo>
                    <a:lnTo>
                      <a:pt x="200" y="289"/>
                    </a:lnTo>
                    <a:lnTo>
                      <a:pt x="187" y="293"/>
                    </a:lnTo>
                    <a:lnTo>
                      <a:pt x="173" y="294"/>
                    </a:lnTo>
                    <a:lnTo>
                      <a:pt x="159" y="295"/>
                    </a:lnTo>
                    <a:lnTo>
                      <a:pt x="146" y="294"/>
                    </a:lnTo>
                    <a:lnTo>
                      <a:pt x="132" y="293"/>
                    </a:lnTo>
                    <a:lnTo>
                      <a:pt x="119" y="289"/>
                    </a:lnTo>
                    <a:lnTo>
                      <a:pt x="106" y="285"/>
                    </a:lnTo>
                    <a:lnTo>
                      <a:pt x="94" y="279"/>
                    </a:lnTo>
                    <a:lnTo>
                      <a:pt x="83" y="272"/>
                    </a:lnTo>
                    <a:lnTo>
                      <a:pt x="73" y="264"/>
                    </a:lnTo>
                    <a:lnTo>
                      <a:pt x="63" y="255"/>
                    </a:lnTo>
                    <a:lnTo>
                      <a:pt x="54" y="245"/>
                    </a:lnTo>
                    <a:lnTo>
                      <a:pt x="46" y="235"/>
                    </a:lnTo>
                    <a:lnTo>
                      <a:pt x="40" y="224"/>
                    </a:lnTo>
                    <a:lnTo>
                      <a:pt x="34" y="212"/>
                    </a:lnTo>
                    <a:lnTo>
                      <a:pt x="29" y="199"/>
                    </a:lnTo>
                    <a:lnTo>
                      <a:pt x="26" y="187"/>
                    </a:lnTo>
                    <a:lnTo>
                      <a:pt x="23" y="173"/>
                    </a:lnTo>
                    <a:lnTo>
                      <a:pt x="23" y="159"/>
                    </a:lnTo>
                    <a:lnTo>
                      <a:pt x="23" y="145"/>
                    </a:lnTo>
                    <a:lnTo>
                      <a:pt x="26" y="131"/>
                    </a:lnTo>
                    <a:lnTo>
                      <a:pt x="29" y="119"/>
                    </a:lnTo>
                    <a:lnTo>
                      <a:pt x="34" y="106"/>
                    </a:lnTo>
                    <a:lnTo>
                      <a:pt x="40" y="94"/>
                    </a:lnTo>
                    <a:lnTo>
                      <a:pt x="46" y="83"/>
                    </a:lnTo>
                    <a:lnTo>
                      <a:pt x="54" y="73"/>
                    </a:lnTo>
                    <a:lnTo>
                      <a:pt x="63" y="62"/>
                    </a:lnTo>
                    <a:lnTo>
                      <a:pt x="73" y="54"/>
                    </a:lnTo>
                    <a:lnTo>
                      <a:pt x="83" y="46"/>
                    </a:lnTo>
                    <a:lnTo>
                      <a:pt x="94" y="39"/>
                    </a:lnTo>
                    <a:lnTo>
                      <a:pt x="106" y="33"/>
                    </a:lnTo>
                    <a:lnTo>
                      <a:pt x="119" y="29"/>
                    </a:lnTo>
                    <a:lnTo>
                      <a:pt x="132" y="25"/>
                    </a:lnTo>
                    <a:lnTo>
                      <a:pt x="146" y="23"/>
                    </a:lnTo>
                    <a:lnTo>
                      <a:pt x="159" y="23"/>
                    </a:lnTo>
                    <a:lnTo>
                      <a:pt x="173" y="23"/>
                    </a:lnTo>
                    <a:lnTo>
                      <a:pt x="187" y="25"/>
                    </a:lnTo>
                    <a:lnTo>
                      <a:pt x="200" y="29"/>
                    </a:lnTo>
                    <a:lnTo>
                      <a:pt x="213" y="33"/>
                    </a:lnTo>
                    <a:lnTo>
                      <a:pt x="224" y="39"/>
                    </a:lnTo>
                    <a:lnTo>
                      <a:pt x="236" y="46"/>
                    </a:lnTo>
                    <a:lnTo>
                      <a:pt x="246" y="54"/>
                    </a:lnTo>
                    <a:lnTo>
                      <a:pt x="255" y="62"/>
                    </a:lnTo>
                    <a:lnTo>
                      <a:pt x="264" y="73"/>
                    </a:lnTo>
                    <a:lnTo>
                      <a:pt x="272" y="83"/>
                    </a:lnTo>
                    <a:lnTo>
                      <a:pt x="279" y="94"/>
                    </a:lnTo>
                    <a:lnTo>
                      <a:pt x="285" y="106"/>
                    </a:lnTo>
                    <a:lnTo>
                      <a:pt x="290" y="119"/>
                    </a:lnTo>
                    <a:lnTo>
                      <a:pt x="292" y="131"/>
                    </a:lnTo>
                    <a:lnTo>
                      <a:pt x="294" y="145"/>
                    </a:lnTo>
                    <a:lnTo>
                      <a:pt x="296" y="15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3120" y="389880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295" h="296">
                    <a:moveTo>
                      <a:pt x="295" y="148"/>
                    </a:moveTo>
                    <a:lnTo>
                      <a:pt x="294" y="133"/>
                    </a:lnTo>
                    <a:lnTo>
                      <a:pt x="292" y="118"/>
                    </a:lnTo>
                    <a:lnTo>
                      <a:pt x="288" y="104"/>
                    </a:lnTo>
                    <a:lnTo>
                      <a:pt x="284" y="90"/>
                    </a:lnTo>
                    <a:lnTo>
                      <a:pt x="277" y="78"/>
                    </a:lnTo>
                    <a:lnTo>
                      <a:pt x="270" y="65"/>
                    </a:lnTo>
                    <a:lnTo>
                      <a:pt x="260" y="55"/>
                    </a:lnTo>
                    <a:lnTo>
                      <a:pt x="251" y="43"/>
                    </a:lnTo>
                    <a:lnTo>
                      <a:pt x="241" y="34"/>
                    </a:lnTo>
                    <a:lnTo>
                      <a:pt x="229" y="26"/>
                    </a:lnTo>
                    <a:lnTo>
                      <a:pt x="218" y="18"/>
                    </a:lnTo>
                    <a:lnTo>
                      <a:pt x="205" y="12"/>
                    </a:lnTo>
                    <a:lnTo>
                      <a:pt x="191" y="7"/>
                    </a:lnTo>
                    <a:lnTo>
                      <a:pt x="177" y="3"/>
                    </a:lnTo>
                    <a:lnTo>
                      <a:pt x="162" y="2"/>
                    </a:lnTo>
                    <a:lnTo>
                      <a:pt x="147" y="0"/>
                    </a:lnTo>
                    <a:lnTo>
                      <a:pt x="132" y="2"/>
                    </a:lnTo>
                    <a:lnTo>
                      <a:pt x="117" y="3"/>
                    </a:lnTo>
                    <a:lnTo>
                      <a:pt x="104" y="7"/>
                    </a:lnTo>
                    <a:lnTo>
                      <a:pt x="90" y="12"/>
                    </a:lnTo>
                    <a:lnTo>
                      <a:pt x="77" y="18"/>
                    </a:lnTo>
                    <a:lnTo>
                      <a:pt x="64" y="26"/>
                    </a:lnTo>
                    <a:lnTo>
                      <a:pt x="53" y="34"/>
                    </a:lnTo>
                    <a:lnTo>
                      <a:pt x="42" y="43"/>
                    </a:lnTo>
                    <a:lnTo>
                      <a:pt x="33" y="55"/>
                    </a:lnTo>
                    <a:lnTo>
                      <a:pt x="25" y="65"/>
                    </a:lnTo>
                    <a:lnTo>
                      <a:pt x="17" y="78"/>
                    </a:lnTo>
                    <a:lnTo>
                      <a:pt x="11" y="90"/>
                    </a:lnTo>
                    <a:lnTo>
                      <a:pt x="7" y="104"/>
                    </a:lnTo>
                    <a:lnTo>
                      <a:pt x="2" y="118"/>
                    </a:lnTo>
                    <a:lnTo>
                      <a:pt x="0" y="133"/>
                    </a:lnTo>
                    <a:lnTo>
                      <a:pt x="0" y="148"/>
                    </a:lnTo>
                    <a:lnTo>
                      <a:pt x="0" y="163"/>
                    </a:lnTo>
                    <a:lnTo>
                      <a:pt x="2" y="178"/>
                    </a:lnTo>
                    <a:lnTo>
                      <a:pt x="7" y="192"/>
                    </a:lnTo>
                    <a:lnTo>
                      <a:pt x="11" y="206"/>
                    </a:lnTo>
                    <a:lnTo>
                      <a:pt x="17" y="218"/>
                    </a:lnTo>
                    <a:lnTo>
                      <a:pt x="25" y="230"/>
                    </a:lnTo>
                    <a:lnTo>
                      <a:pt x="33" y="241"/>
                    </a:lnTo>
                    <a:lnTo>
                      <a:pt x="42" y="252"/>
                    </a:lnTo>
                    <a:lnTo>
                      <a:pt x="53" y="262"/>
                    </a:lnTo>
                    <a:lnTo>
                      <a:pt x="64" y="270"/>
                    </a:lnTo>
                    <a:lnTo>
                      <a:pt x="77" y="277"/>
                    </a:lnTo>
                    <a:lnTo>
                      <a:pt x="90" y="284"/>
                    </a:lnTo>
                    <a:lnTo>
                      <a:pt x="104" y="289"/>
                    </a:lnTo>
                    <a:lnTo>
                      <a:pt x="117" y="292"/>
                    </a:lnTo>
                    <a:lnTo>
                      <a:pt x="132" y="294"/>
                    </a:lnTo>
                    <a:lnTo>
                      <a:pt x="147" y="296"/>
                    </a:lnTo>
                    <a:lnTo>
                      <a:pt x="162" y="294"/>
                    </a:lnTo>
                    <a:lnTo>
                      <a:pt x="177" y="292"/>
                    </a:lnTo>
                    <a:lnTo>
                      <a:pt x="191" y="289"/>
                    </a:lnTo>
                    <a:lnTo>
                      <a:pt x="205" y="284"/>
                    </a:lnTo>
                    <a:lnTo>
                      <a:pt x="218" y="277"/>
                    </a:lnTo>
                    <a:lnTo>
                      <a:pt x="229" y="270"/>
                    </a:lnTo>
                    <a:lnTo>
                      <a:pt x="241" y="262"/>
                    </a:lnTo>
                    <a:lnTo>
                      <a:pt x="251" y="252"/>
                    </a:lnTo>
                    <a:lnTo>
                      <a:pt x="260" y="241"/>
                    </a:lnTo>
                    <a:lnTo>
                      <a:pt x="270" y="230"/>
                    </a:lnTo>
                    <a:lnTo>
                      <a:pt x="277" y="218"/>
                    </a:lnTo>
                    <a:lnTo>
                      <a:pt x="284" y="206"/>
                    </a:lnTo>
                    <a:lnTo>
                      <a:pt x="288" y="192"/>
                    </a:lnTo>
                    <a:lnTo>
                      <a:pt x="292" y="178"/>
                    </a:lnTo>
                    <a:lnTo>
                      <a:pt x="294" y="163"/>
                    </a:lnTo>
                    <a:lnTo>
                      <a:pt x="295" y="148"/>
                    </a:lnTo>
                    <a:close/>
                    <a:moveTo>
                      <a:pt x="272" y="148"/>
                    </a:moveTo>
                    <a:lnTo>
                      <a:pt x="271" y="161"/>
                    </a:lnTo>
                    <a:lnTo>
                      <a:pt x="270" y="173"/>
                    </a:lnTo>
                    <a:lnTo>
                      <a:pt x="266" y="185"/>
                    </a:lnTo>
                    <a:lnTo>
                      <a:pt x="263" y="196"/>
                    </a:lnTo>
                    <a:lnTo>
                      <a:pt x="257" y="207"/>
                    </a:lnTo>
                    <a:lnTo>
                      <a:pt x="251" y="217"/>
                    </a:lnTo>
                    <a:lnTo>
                      <a:pt x="243" y="228"/>
                    </a:lnTo>
                    <a:lnTo>
                      <a:pt x="235" y="236"/>
                    </a:lnTo>
                    <a:lnTo>
                      <a:pt x="227" y="244"/>
                    </a:lnTo>
                    <a:lnTo>
                      <a:pt x="217" y="252"/>
                    </a:lnTo>
                    <a:lnTo>
                      <a:pt x="206" y="258"/>
                    </a:lnTo>
                    <a:lnTo>
                      <a:pt x="196" y="263"/>
                    </a:lnTo>
                    <a:lnTo>
                      <a:pt x="184" y="267"/>
                    </a:lnTo>
                    <a:lnTo>
                      <a:pt x="173" y="270"/>
                    </a:lnTo>
                    <a:lnTo>
                      <a:pt x="160" y="273"/>
                    </a:lnTo>
                    <a:lnTo>
                      <a:pt x="147" y="273"/>
                    </a:lnTo>
                    <a:lnTo>
                      <a:pt x="135" y="273"/>
                    </a:lnTo>
                    <a:lnTo>
                      <a:pt x="122" y="270"/>
                    </a:lnTo>
                    <a:lnTo>
                      <a:pt x="111" y="267"/>
                    </a:lnTo>
                    <a:lnTo>
                      <a:pt x="99" y="263"/>
                    </a:lnTo>
                    <a:lnTo>
                      <a:pt x="87" y="258"/>
                    </a:lnTo>
                    <a:lnTo>
                      <a:pt x="77" y="252"/>
                    </a:lnTo>
                    <a:lnTo>
                      <a:pt x="68" y="244"/>
                    </a:lnTo>
                    <a:lnTo>
                      <a:pt x="59" y="236"/>
                    </a:lnTo>
                    <a:lnTo>
                      <a:pt x="51" y="228"/>
                    </a:lnTo>
                    <a:lnTo>
                      <a:pt x="44" y="217"/>
                    </a:lnTo>
                    <a:lnTo>
                      <a:pt x="38" y="207"/>
                    </a:lnTo>
                    <a:lnTo>
                      <a:pt x="32" y="196"/>
                    </a:lnTo>
                    <a:lnTo>
                      <a:pt x="28" y="185"/>
                    </a:lnTo>
                    <a:lnTo>
                      <a:pt x="25" y="173"/>
                    </a:lnTo>
                    <a:lnTo>
                      <a:pt x="23" y="161"/>
                    </a:lnTo>
                    <a:lnTo>
                      <a:pt x="23" y="148"/>
                    </a:lnTo>
                    <a:lnTo>
                      <a:pt x="23" y="135"/>
                    </a:lnTo>
                    <a:lnTo>
                      <a:pt x="25" y="123"/>
                    </a:lnTo>
                    <a:lnTo>
                      <a:pt x="28" y="111"/>
                    </a:lnTo>
                    <a:lnTo>
                      <a:pt x="32" y="100"/>
                    </a:lnTo>
                    <a:lnTo>
                      <a:pt x="38" y="88"/>
                    </a:lnTo>
                    <a:lnTo>
                      <a:pt x="44" y="78"/>
                    </a:lnTo>
                    <a:lnTo>
                      <a:pt x="51" y="68"/>
                    </a:lnTo>
                    <a:lnTo>
                      <a:pt x="59" y="59"/>
                    </a:lnTo>
                    <a:lnTo>
                      <a:pt x="68" y="51"/>
                    </a:lnTo>
                    <a:lnTo>
                      <a:pt x="77" y="44"/>
                    </a:lnTo>
                    <a:lnTo>
                      <a:pt x="87" y="38"/>
                    </a:lnTo>
                    <a:lnTo>
                      <a:pt x="99" y="33"/>
                    </a:lnTo>
                    <a:lnTo>
                      <a:pt x="111" y="28"/>
                    </a:lnTo>
                    <a:lnTo>
                      <a:pt x="122" y="26"/>
                    </a:lnTo>
                    <a:lnTo>
                      <a:pt x="135" y="24"/>
                    </a:lnTo>
                    <a:lnTo>
                      <a:pt x="147" y="24"/>
                    </a:lnTo>
                    <a:lnTo>
                      <a:pt x="160" y="24"/>
                    </a:lnTo>
                    <a:lnTo>
                      <a:pt x="173" y="26"/>
                    </a:lnTo>
                    <a:lnTo>
                      <a:pt x="184" y="28"/>
                    </a:lnTo>
                    <a:lnTo>
                      <a:pt x="196" y="33"/>
                    </a:lnTo>
                    <a:lnTo>
                      <a:pt x="206" y="38"/>
                    </a:lnTo>
                    <a:lnTo>
                      <a:pt x="217" y="44"/>
                    </a:lnTo>
                    <a:lnTo>
                      <a:pt x="227" y="51"/>
                    </a:lnTo>
                    <a:lnTo>
                      <a:pt x="235" y="59"/>
                    </a:lnTo>
                    <a:lnTo>
                      <a:pt x="243" y="68"/>
                    </a:lnTo>
                    <a:lnTo>
                      <a:pt x="251" y="78"/>
                    </a:lnTo>
                    <a:lnTo>
                      <a:pt x="257" y="88"/>
                    </a:lnTo>
                    <a:lnTo>
                      <a:pt x="263" y="100"/>
                    </a:lnTo>
                    <a:lnTo>
                      <a:pt x="266" y="111"/>
                    </a:lnTo>
                    <a:lnTo>
                      <a:pt x="270" y="123"/>
                    </a:lnTo>
                    <a:lnTo>
                      <a:pt x="271" y="135"/>
                    </a:lnTo>
                    <a:lnTo>
                      <a:pt x="272" y="14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56360" y="390204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273" h="272">
                    <a:moveTo>
                      <a:pt x="273" y="136"/>
                    </a:moveTo>
                    <a:lnTo>
                      <a:pt x="271" y="122"/>
                    </a:lnTo>
                    <a:lnTo>
                      <a:pt x="269" y="108"/>
                    </a:lnTo>
                    <a:lnTo>
                      <a:pt x="267" y="96"/>
                    </a:lnTo>
                    <a:lnTo>
                      <a:pt x="262" y="83"/>
                    </a:lnTo>
                    <a:lnTo>
                      <a:pt x="256" y="71"/>
                    </a:lnTo>
                    <a:lnTo>
                      <a:pt x="249" y="60"/>
                    </a:lnTo>
                    <a:lnTo>
                      <a:pt x="241" y="50"/>
                    </a:lnTo>
                    <a:lnTo>
                      <a:pt x="232" y="39"/>
                    </a:lnTo>
                    <a:lnTo>
                      <a:pt x="223" y="31"/>
                    </a:lnTo>
                    <a:lnTo>
                      <a:pt x="213" y="23"/>
                    </a:lnTo>
                    <a:lnTo>
                      <a:pt x="201" y="16"/>
                    </a:lnTo>
                    <a:lnTo>
                      <a:pt x="190" y="10"/>
                    </a:lnTo>
                    <a:lnTo>
                      <a:pt x="177" y="6"/>
                    </a:lnTo>
                    <a:lnTo>
                      <a:pt x="164" y="2"/>
                    </a:lnTo>
                    <a:lnTo>
                      <a:pt x="150" y="0"/>
                    </a:lnTo>
                    <a:lnTo>
                      <a:pt x="136" y="0"/>
                    </a:lnTo>
                    <a:lnTo>
                      <a:pt x="123" y="0"/>
                    </a:lnTo>
                    <a:lnTo>
                      <a:pt x="109" y="2"/>
                    </a:lnTo>
                    <a:lnTo>
                      <a:pt x="96" y="6"/>
                    </a:lnTo>
                    <a:lnTo>
                      <a:pt x="83" y="10"/>
                    </a:lnTo>
                    <a:lnTo>
                      <a:pt x="71" y="16"/>
                    </a:lnTo>
                    <a:lnTo>
                      <a:pt x="60" y="23"/>
                    </a:lnTo>
                    <a:lnTo>
                      <a:pt x="50" y="31"/>
                    </a:lnTo>
                    <a:lnTo>
                      <a:pt x="40" y="39"/>
                    </a:lnTo>
                    <a:lnTo>
                      <a:pt x="31" y="50"/>
                    </a:lnTo>
                    <a:lnTo>
                      <a:pt x="23" y="60"/>
                    </a:lnTo>
                    <a:lnTo>
                      <a:pt x="17" y="71"/>
                    </a:lnTo>
                    <a:lnTo>
                      <a:pt x="11" y="83"/>
                    </a:lnTo>
                    <a:lnTo>
                      <a:pt x="6" y="96"/>
                    </a:lnTo>
                    <a:lnTo>
                      <a:pt x="3" y="108"/>
                    </a:lnTo>
                    <a:lnTo>
                      <a:pt x="0" y="122"/>
                    </a:lnTo>
                    <a:lnTo>
                      <a:pt x="0" y="136"/>
                    </a:lnTo>
                    <a:lnTo>
                      <a:pt x="0" y="150"/>
                    </a:lnTo>
                    <a:lnTo>
                      <a:pt x="3" y="164"/>
                    </a:lnTo>
                    <a:lnTo>
                      <a:pt x="6" y="176"/>
                    </a:lnTo>
                    <a:lnTo>
                      <a:pt x="11" y="189"/>
                    </a:lnTo>
                    <a:lnTo>
                      <a:pt x="17" y="201"/>
                    </a:lnTo>
                    <a:lnTo>
                      <a:pt x="23" y="212"/>
                    </a:lnTo>
                    <a:lnTo>
                      <a:pt x="31" y="222"/>
                    </a:lnTo>
                    <a:lnTo>
                      <a:pt x="40" y="232"/>
                    </a:lnTo>
                    <a:lnTo>
                      <a:pt x="50" y="241"/>
                    </a:lnTo>
                    <a:lnTo>
                      <a:pt x="60" y="249"/>
                    </a:lnTo>
                    <a:lnTo>
                      <a:pt x="71" y="256"/>
                    </a:lnTo>
                    <a:lnTo>
                      <a:pt x="83" y="262"/>
                    </a:lnTo>
                    <a:lnTo>
                      <a:pt x="96" y="266"/>
                    </a:lnTo>
                    <a:lnTo>
                      <a:pt x="109" y="270"/>
                    </a:lnTo>
                    <a:lnTo>
                      <a:pt x="123" y="271"/>
                    </a:lnTo>
                    <a:lnTo>
                      <a:pt x="136" y="272"/>
                    </a:lnTo>
                    <a:lnTo>
                      <a:pt x="150" y="271"/>
                    </a:lnTo>
                    <a:lnTo>
                      <a:pt x="164" y="270"/>
                    </a:lnTo>
                    <a:lnTo>
                      <a:pt x="177" y="266"/>
                    </a:lnTo>
                    <a:lnTo>
                      <a:pt x="190" y="262"/>
                    </a:lnTo>
                    <a:lnTo>
                      <a:pt x="201" y="256"/>
                    </a:lnTo>
                    <a:lnTo>
                      <a:pt x="213" y="249"/>
                    </a:lnTo>
                    <a:lnTo>
                      <a:pt x="223" y="241"/>
                    </a:lnTo>
                    <a:lnTo>
                      <a:pt x="232" y="232"/>
                    </a:lnTo>
                    <a:lnTo>
                      <a:pt x="241" y="222"/>
                    </a:lnTo>
                    <a:lnTo>
                      <a:pt x="249" y="212"/>
                    </a:lnTo>
                    <a:lnTo>
                      <a:pt x="256" y="201"/>
                    </a:lnTo>
                    <a:lnTo>
                      <a:pt x="262" y="189"/>
                    </a:lnTo>
                    <a:lnTo>
                      <a:pt x="267" y="176"/>
                    </a:lnTo>
                    <a:lnTo>
                      <a:pt x="269" y="164"/>
                    </a:lnTo>
                    <a:lnTo>
                      <a:pt x="271" y="150"/>
                    </a:lnTo>
                    <a:lnTo>
                      <a:pt x="273" y="136"/>
                    </a:lnTo>
                    <a:close/>
                    <a:moveTo>
                      <a:pt x="249" y="136"/>
                    </a:moveTo>
                    <a:lnTo>
                      <a:pt x="249" y="148"/>
                    </a:lnTo>
                    <a:lnTo>
                      <a:pt x="247" y="159"/>
                    </a:lnTo>
                    <a:lnTo>
                      <a:pt x="245" y="169"/>
                    </a:lnTo>
                    <a:lnTo>
                      <a:pt x="241" y="180"/>
                    </a:lnTo>
                    <a:lnTo>
                      <a:pt x="236" y="190"/>
                    </a:lnTo>
                    <a:lnTo>
                      <a:pt x="230" y="199"/>
                    </a:lnTo>
                    <a:lnTo>
                      <a:pt x="224" y="209"/>
                    </a:lnTo>
                    <a:lnTo>
                      <a:pt x="216" y="216"/>
                    </a:lnTo>
                    <a:lnTo>
                      <a:pt x="208" y="224"/>
                    </a:lnTo>
                    <a:lnTo>
                      <a:pt x="200" y="231"/>
                    </a:lnTo>
                    <a:lnTo>
                      <a:pt x="191" y="236"/>
                    </a:lnTo>
                    <a:lnTo>
                      <a:pt x="180" y="241"/>
                    </a:lnTo>
                    <a:lnTo>
                      <a:pt x="170" y="244"/>
                    </a:lnTo>
                    <a:lnTo>
                      <a:pt x="160" y="247"/>
                    </a:lnTo>
                    <a:lnTo>
                      <a:pt x="148" y="249"/>
                    </a:lnTo>
                    <a:lnTo>
                      <a:pt x="136" y="249"/>
                    </a:lnTo>
                    <a:lnTo>
                      <a:pt x="125" y="249"/>
                    </a:lnTo>
                    <a:lnTo>
                      <a:pt x="113" y="247"/>
                    </a:lnTo>
                    <a:lnTo>
                      <a:pt x="102" y="244"/>
                    </a:lnTo>
                    <a:lnTo>
                      <a:pt x="91" y="241"/>
                    </a:lnTo>
                    <a:lnTo>
                      <a:pt x="82" y="236"/>
                    </a:lnTo>
                    <a:lnTo>
                      <a:pt x="73" y="231"/>
                    </a:lnTo>
                    <a:lnTo>
                      <a:pt x="64" y="224"/>
                    </a:lnTo>
                    <a:lnTo>
                      <a:pt x="56" y="216"/>
                    </a:lnTo>
                    <a:lnTo>
                      <a:pt x="49" y="209"/>
                    </a:lnTo>
                    <a:lnTo>
                      <a:pt x="42" y="199"/>
                    </a:lnTo>
                    <a:lnTo>
                      <a:pt x="36" y="190"/>
                    </a:lnTo>
                    <a:lnTo>
                      <a:pt x="31" y="180"/>
                    </a:lnTo>
                    <a:lnTo>
                      <a:pt x="28" y="169"/>
                    </a:lnTo>
                    <a:lnTo>
                      <a:pt x="25" y="159"/>
                    </a:lnTo>
                    <a:lnTo>
                      <a:pt x="23" y="148"/>
                    </a:lnTo>
                    <a:lnTo>
                      <a:pt x="22" y="136"/>
                    </a:lnTo>
                    <a:lnTo>
                      <a:pt x="23" y="124"/>
                    </a:lnTo>
                    <a:lnTo>
                      <a:pt x="25" y="113"/>
                    </a:lnTo>
                    <a:lnTo>
                      <a:pt x="28" y="103"/>
                    </a:lnTo>
                    <a:lnTo>
                      <a:pt x="31" y="91"/>
                    </a:lnTo>
                    <a:lnTo>
                      <a:pt x="36" y="82"/>
                    </a:lnTo>
                    <a:lnTo>
                      <a:pt x="42" y="73"/>
                    </a:lnTo>
                    <a:lnTo>
                      <a:pt x="49" y="63"/>
                    </a:lnTo>
                    <a:lnTo>
                      <a:pt x="56" y="55"/>
                    </a:lnTo>
                    <a:lnTo>
                      <a:pt x="64" y="48"/>
                    </a:lnTo>
                    <a:lnTo>
                      <a:pt x="73" y="41"/>
                    </a:lnTo>
                    <a:lnTo>
                      <a:pt x="82" y="36"/>
                    </a:lnTo>
                    <a:lnTo>
                      <a:pt x="91" y="31"/>
                    </a:lnTo>
                    <a:lnTo>
                      <a:pt x="102" y="28"/>
                    </a:lnTo>
                    <a:lnTo>
                      <a:pt x="113" y="24"/>
                    </a:lnTo>
                    <a:lnTo>
                      <a:pt x="125" y="23"/>
                    </a:lnTo>
                    <a:lnTo>
                      <a:pt x="136" y="22"/>
                    </a:lnTo>
                    <a:lnTo>
                      <a:pt x="148" y="23"/>
                    </a:lnTo>
                    <a:lnTo>
                      <a:pt x="160" y="24"/>
                    </a:lnTo>
                    <a:lnTo>
                      <a:pt x="170" y="28"/>
                    </a:lnTo>
                    <a:lnTo>
                      <a:pt x="180" y="31"/>
                    </a:lnTo>
                    <a:lnTo>
                      <a:pt x="191" y="36"/>
                    </a:lnTo>
                    <a:lnTo>
                      <a:pt x="200" y="41"/>
                    </a:lnTo>
                    <a:lnTo>
                      <a:pt x="208" y="48"/>
                    </a:lnTo>
                    <a:lnTo>
                      <a:pt x="216" y="55"/>
                    </a:lnTo>
                    <a:lnTo>
                      <a:pt x="224" y="63"/>
                    </a:lnTo>
                    <a:lnTo>
                      <a:pt x="230" y="73"/>
                    </a:lnTo>
                    <a:lnTo>
                      <a:pt x="236" y="82"/>
                    </a:lnTo>
                    <a:lnTo>
                      <a:pt x="241" y="91"/>
                    </a:lnTo>
                    <a:lnTo>
                      <a:pt x="245" y="103"/>
                    </a:lnTo>
                    <a:lnTo>
                      <a:pt x="247" y="113"/>
                    </a:lnTo>
                    <a:lnTo>
                      <a:pt x="249" y="124"/>
                    </a:lnTo>
                    <a:lnTo>
                      <a:pt x="249" y="13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159600" y="390528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249" h="251">
                    <a:moveTo>
                      <a:pt x="249" y="126"/>
                    </a:moveTo>
                    <a:lnTo>
                      <a:pt x="249" y="113"/>
                    </a:lnTo>
                    <a:lnTo>
                      <a:pt x="247" y="101"/>
                    </a:lnTo>
                    <a:lnTo>
                      <a:pt x="243" y="89"/>
                    </a:lnTo>
                    <a:lnTo>
                      <a:pt x="240" y="78"/>
                    </a:lnTo>
                    <a:lnTo>
                      <a:pt x="234" y="66"/>
                    </a:lnTo>
                    <a:lnTo>
                      <a:pt x="228" y="56"/>
                    </a:lnTo>
                    <a:lnTo>
                      <a:pt x="220" y="46"/>
                    </a:lnTo>
                    <a:lnTo>
                      <a:pt x="212" y="37"/>
                    </a:lnTo>
                    <a:lnTo>
                      <a:pt x="204" y="29"/>
                    </a:lnTo>
                    <a:lnTo>
                      <a:pt x="194" y="22"/>
                    </a:lnTo>
                    <a:lnTo>
                      <a:pt x="183" y="16"/>
                    </a:lnTo>
                    <a:lnTo>
                      <a:pt x="173" y="11"/>
                    </a:lnTo>
                    <a:lnTo>
                      <a:pt x="161" y="6"/>
                    </a:lnTo>
                    <a:lnTo>
                      <a:pt x="150" y="4"/>
                    </a:lnTo>
                    <a:lnTo>
                      <a:pt x="137" y="2"/>
                    </a:lnTo>
                    <a:lnTo>
                      <a:pt x="124" y="0"/>
                    </a:lnTo>
                    <a:lnTo>
                      <a:pt x="112" y="2"/>
                    </a:lnTo>
                    <a:lnTo>
                      <a:pt x="99" y="4"/>
                    </a:lnTo>
                    <a:lnTo>
                      <a:pt x="88" y="6"/>
                    </a:lnTo>
                    <a:lnTo>
                      <a:pt x="76" y="11"/>
                    </a:lnTo>
                    <a:lnTo>
                      <a:pt x="64" y="16"/>
                    </a:lnTo>
                    <a:lnTo>
                      <a:pt x="54" y="22"/>
                    </a:lnTo>
                    <a:lnTo>
                      <a:pt x="45" y="29"/>
                    </a:lnTo>
                    <a:lnTo>
                      <a:pt x="36" y="37"/>
                    </a:lnTo>
                    <a:lnTo>
                      <a:pt x="28" y="46"/>
                    </a:lnTo>
                    <a:lnTo>
                      <a:pt x="21" y="56"/>
                    </a:lnTo>
                    <a:lnTo>
                      <a:pt x="14" y="66"/>
                    </a:lnTo>
                    <a:lnTo>
                      <a:pt x="9" y="78"/>
                    </a:lnTo>
                    <a:lnTo>
                      <a:pt x="5" y="89"/>
                    </a:lnTo>
                    <a:lnTo>
                      <a:pt x="2" y="101"/>
                    </a:lnTo>
                    <a:lnTo>
                      <a:pt x="0" y="113"/>
                    </a:lnTo>
                    <a:lnTo>
                      <a:pt x="0" y="126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5" y="163"/>
                    </a:lnTo>
                    <a:lnTo>
                      <a:pt x="9" y="174"/>
                    </a:lnTo>
                    <a:lnTo>
                      <a:pt x="14" y="185"/>
                    </a:lnTo>
                    <a:lnTo>
                      <a:pt x="21" y="195"/>
                    </a:lnTo>
                    <a:lnTo>
                      <a:pt x="28" y="206"/>
                    </a:lnTo>
                    <a:lnTo>
                      <a:pt x="36" y="214"/>
                    </a:lnTo>
                    <a:lnTo>
                      <a:pt x="45" y="222"/>
                    </a:lnTo>
                    <a:lnTo>
                      <a:pt x="54" y="230"/>
                    </a:lnTo>
                    <a:lnTo>
                      <a:pt x="64" y="236"/>
                    </a:lnTo>
                    <a:lnTo>
                      <a:pt x="76" y="241"/>
                    </a:lnTo>
                    <a:lnTo>
                      <a:pt x="88" y="245"/>
                    </a:lnTo>
                    <a:lnTo>
                      <a:pt x="99" y="248"/>
                    </a:lnTo>
                    <a:lnTo>
                      <a:pt x="112" y="251"/>
                    </a:lnTo>
                    <a:lnTo>
                      <a:pt x="124" y="251"/>
                    </a:lnTo>
                    <a:lnTo>
                      <a:pt x="137" y="251"/>
                    </a:lnTo>
                    <a:lnTo>
                      <a:pt x="150" y="248"/>
                    </a:lnTo>
                    <a:lnTo>
                      <a:pt x="161" y="245"/>
                    </a:lnTo>
                    <a:lnTo>
                      <a:pt x="173" y="241"/>
                    </a:lnTo>
                    <a:lnTo>
                      <a:pt x="183" y="236"/>
                    </a:lnTo>
                    <a:lnTo>
                      <a:pt x="194" y="230"/>
                    </a:lnTo>
                    <a:lnTo>
                      <a:pt x="204" y="222"/>
                    </a:lnTo>
                    <a:lnTo>
                      <a:pt x="212" y="214"/>
                    </a:lnTo>
                    <a:lnTo>
                      <a:pt x="220" y="206"/>
                    </a:lnTo>
                    <a:lnTo>
                      <a:pt x="228" y="195"/>
                    </a:lnTo>
                    <a:lnTo>
                      <a:pt x="234" y="185"/>
                    </a:lnTo>
                    <a:lnTo>
                      <a:pt x="240" y="174"/>
                    </a:lnTo>
                    <a:lnTo>
                      <a:pt x="243" y="163"/>
                    </a:lnTo>
                    <a:lnTo>
                      <a:pt x="247" y="151"/>
                    </a:lnTo>
                    <a:lnTo>
                      <a:pt x="249" y="139"/>
                    </a:lnTo>
                    <a:lnTo>
                      <a:pt x="249" y="126"/>
                    </a:lnTo>
                    <a:close/>
                    <a:moveTo>
                      <a:pt x="226" y="126"/>
                    </a:moveTo>
                    <a:lnTo>
                      <a:pt x="226" y="136"/>
                    </a:lnTo>
                    <a:lnTo>
                      <a:pt x="225" y="147"/>
                    </a:lnTo>
                    <a:lnTo>
                      <a:pt x="221" y="156"/>
                    </a:lnTo>
                    <a:lnTo>
                      <a:pt x="218" y="165"/>
                    </a:lnTo>
                    <a:lnTo>
                      <a:pt x="214" y="174"/>
                    </a:lnTo>
                    <a:lnTo>
                      <a:pt x="209" y="182"/>
                    </a:lnTo>
                    <a:lnTo>
                      <a:pt x="203" y="191"/>
                    </a:lnTo>
                    <a:lnTo>
                      <a:pt x="196" y="197"/>
                    </a:lnTo>
                    <a:lnTo>
                      <a:pt x="189" y="204"/>
                    </a:lnTo>
                    <a:lnTo>
                      <a:pt x="181" y="210"/>
                    </a:lnTo>
                    <a:lnTo>
                      <a:pt x="173" y="216"/>
                    </a:lnTo>
                    <a:lnTo>
                      <a:pt x="164" y="219"/>
                    </a:lnTo>
                    <a:lnTo>
                      <a:pt x="154" y="224"/>
                    </a:lnTo>
                    <a:lnTo>
                      <a:pt x="145" y="226"/>
                    </a:lnTo>
                    <a:lnTo>
                      <a:pt x="135" y="227"/>
                    </a:lnTo>
                    <a:lnTo>
                      <a:pt x="124" y="227"/>
                    </a:lnTo>
                    <a:lnTo>
                      <a:pt x="114" y="227"/>
                    </a:lnTo>
                    <a:lnTo>
                      <a:pt x="104" y="226"/>
                    </a:lnTo>
                    <a:lnTo>
                      <a:pt x="93" y="224"/>
                    </a:lnTo>
                    <a:lnTo>
                      <a:pt x="84" y="219"/>
                    </a:lnTo>
                    <a:lnTo>
                      <a:pt x="76" y="216"/>
                    </a:lnTo>
                    <a:lnTo>
                      <a:pt x="67" y="210"/>
                    </a:lnTo>
                    <a:lnTo>
                      <a:pt x="59" y="204"/>
                    </a:lnTo>
                    <a:lnTo>
                      <a:pt x="52" y="197"/>
                    </a:lnTo>
                    <a:lnTo>
                      <a:pt x="45" y="191"/>
                    </a:lnTo>
                    <a:lnTo>
                      <a:pt x="39" y="182"/>
                    </a:lnTo>
                    <a:lnTo>
                      <a:pt x="34" y="174"/>
                    </a:lnTo>
                    <a:lnTo>
                      <a:pt x="30" y="165"/>
                    </a:lnTo>
                    <a:lnTo>
                      <a:pt x="26" y="156"/>
                    </a:lnTo>
                    <a:lnTo>
                      <a:pt x="24" y="147"/>
                    </a:lnTo>
                    <a:lnTo>
                      <a:pt x="23" y="136"/>
                    </a:lnTo>
                    <a:lnTo>
                      <a:pt x="22" y="126"/>
                    </a:lnTo>
                    <a:lnTo>
                      <a:pt x="23" y="116"/>
                    </a:lnTo>
                    <a:lnTo>
                      <a:pt x="24" y="105"/>
                    </a:lnTo>
                    <a:lnTo>
                      <a:pt x="26" y="96"/>
                    </a:lnTo>
                    <a:lnTo>
                      <a:pt x="30" y="86"/>
                    </a:lnTo>
                    <a:lnTo>
                      <a:pt x="34" y="78"/>
                    </a:lnTo>
                    <a:lnTo>
                      <a:pt x="39" y="68"/>
                    </a:lnTo>
                    <a:lnTo>
                      <a:pt x="45" y="61"/>
                    </a:lnTo>
                    <a:lnTo>
                      <a:pt x="52" y="53"/>
                    </a:lnTo>
                    <a:lnTo>
                      <a:pt x="59" y="48"/>
                    </a:lnTo>
                    <a:lnTo>
                      <a:pt x="67" y="41"/>
                    </a:lnTo>
                    <a:lnTo>
                      <a:pt x="76" y="36"/>
                    </a:lnTo>
                    <a:lnTo>
                      <a:pt x="84" y="31"/>
                    </a:lnTo>
                    <a:lnTo>
                      <a:pt x="93" y="28"/>
                    </a:lnTo>
                    <a:lnTo>
                      <a:pt x="104" y="26"/>
                    </a:lnTo>
                    <a:lnTo>
                      <a:pt x="114" y="25"/>
                    </a:lnTo>
                    <a:lnTo>
                      <a:pt x="124" y="23"/>
                    </a:lnTo>
                    <a:lnTo>
                      <a:pt x="135" y="25"/>
                    </a:lnTo>
                    <a:lnTo>
                      <a:pt x="145" y="26"/>
                    </a:lnTo>
                    <a:lnTo>
                      <a:pt x="154" y="28"/>
                    </a:lnTo>
                    <a:lnTo>
                      <a:pt x="164" y="31"/>
                    </a:lnTo>
                    <a:lnTo>
                      <a:pt x="173" y="36"/>
                    </a:lnTo>
                    <a:lnTo>
                      <a:pt x="181" y="41"/>
                    </a:lnTo>
                    <a:lnTo>
                      <a:pt x="189" y="48"/>
                    </a:lnTo>
                    <a:lnTo>
                      <a:pt x="196" y="53"/>
                    </a:lnTo>
                    <a:lnTo>
                      <a:pt x="203" y="61"/>
                    </a:lnTo>
                    <a:lnTo>
                      <a:pt x="209" y="68"/>
                    </a:lnTo>
                    <a:lnTo>
                      <a:pt x="214" y="78"/>
                    </a:lnTo>
                    <a:lnTo>
                      <a:pt x="218" y="86"/>
                    </a:lnTo>
                    <a:lnTo>
                      <a:pt x="221" y="96"/>
                    </a:lnTo>
                    <a:lnTo>
                      <a:pt x="225" y="105"/>
                    </a:lnTo>
                    <a:lnTo>
                      <a:pt x="226" y="116"/>
                    </a:lnTo>
                    <a:lnTo>
                      <a:pt x="226" y="126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162840" y="390852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227" h="227">
                    <a:moveTo>
                      <a:pt x="227" y="114"/>
                    </a:moveTo>
                    <a:lnTo>
                      <a:pt x="227" y="102"/>
                    </a:lnTo>
                    <a:lnTo>
                      <a:pt x="225" y="91"/>
                    </a:lnTo>
                    <a:lnTo>
                      <a:pt x="223" y="81"/>
                    </a:lnTo>
                    <a:lnTo>
                      <a:pt x="219" y="69"/>
                    </a:lnTo>
                    <a:lnTo>
                      <a:pt x="214" y="60"/>
                    </a:lnTo>
                    <a:lnTo>
                      <a:pt x="208" y="51"/>
                    </a:lnTo>
                    <a:lnTo>
                      <a:pt x="202" y="41"/>
                    </a:lnTo>
                    <a:lnTo>
                      <a:pt x="194" y="33"/>
                    </a:lnTo>
                    <a:lnTo>
                      <a:pt x="186" y="26"/>
                    </a:lnTo>
                    <a:lnTo>
                      <a:pt x="178" y="19"/>
                    </a:lnTo>
                    <a:lnTo>
                      <a:pt x="169" y="14"/>
                    </a:lnTo>
                    <a:lnTo>
                      <a:pt x="158" y="9"/>
                    </a:lnTo>
                    <a:lnTo>
                      <a:pt x="148" y="6"/>
                    </a:lnTo>
                    <a:lnTo>
                      <a:pt x="138" y="2"/>
                    </a:lnTo>
                    <a:lnTo>
                      <a:pt x="126" y="1"/>
                    </a:lnTo>
                    <a:lnTo>
                      <a:pt x="114" y="0"/>
                    </a:lnTo>
                    <a:lnTo>
                      <a:pt x="103" y="1"/>
                    </a:lnTo>
                    <a:lnTo>
                      <a:pt x="91" y="2"/>
                    </a:lnTo>
                    <a:lnTo>
                      <a:pt x="80" y="6"/>
                    </a:lnTo>
                    <a:lnTo>
                      <a:pt x="69" y="9"/>
                    </a:lnTo>
                    <a:lnTo>
                      <a:pt x="60" y="14"/>
                    </a:lnTo>
                    <a:lnTo>
                      <a:pt x="51" y="19"/>
                    </a:lnTo>
                    <a:lnTo>
                      <a:pt x="42" y="26"/>
                    </a:lnTo>
                    <a:lnTo>
                      <a:pt x="34" y="33"/>
                    </a:lnTo>
                    <a:lnTo>
                      <a:pt x="27" y="41"/>
                    </a:lnTo>
                    <a:lnTo>
                      <a:pt x="20" y="51"/>
                    </a:lnTo>
                    <a:lnTo>
                      <a:pt x="14" y="60"/>
                    </a:lnTo>
                    <a:lnTo>
                      <a:pt x="9" y="69"/>
                    </a:lnTo>
                    <a:lnTo>
                      <a:pt x="6" y="81"/>
                    </a:lnTo>
                    <a:lnTo>
                      <a:pt x="3" y="91"/>
                    </a:lnTo>
                    <a:lnTo>
                      <a:pt x="1" y="102"/>
                    </a:lnTo>
                    <a:lnTo>
                      <a:pt x="0" y="114"/>
                    </a:lnTo>
                    <a:lnTo>
                      <a:pt x="1" y="126"/>
                    </a:lnTo>
                    <a:lnTo>
                      <a:pt x="3" y="137"/>
                    </a:lnTo>
                    <a:lnTo>
                      <a:pt x="6" y="147"/>
                    </a:lnTo>
                    <a:lnTo>
                      <a:pt x="9" y="158"/>
                    </a:lnTo>
                    <a:lnTo>
                      <a:pt x="14" y="168"/>
                    </a:lnTo>
                    <a:lnTo>
                      <a:pt x="20" y="177"/>
                    </a:lnTo>
                    <a:lnTo>
                      <a:pt x="27" y="187"/>
                    </a:lnTo>
                    <a:lnTo>
                      <a:pt x="34" y="194"/>
                    </a:lnTo>
                    <a:lnTo>
                      <a:pt x="42" y="202"/>
                    </a:lnTo>
                    <a:lnTo>
                      <a:pt x="51" y="209"/>
                    </a:lnTo>
                    <a:lnTo>
                      <a:pt x="60" y="213"/>
                    </a:lnTo>
                    <a:lnTo>
                      <a:pt x="69" y="219"/>
                    </a:lnTo>
                    <a:lnTo>
                      <a:pt x="80" y="222"/>
                    </a:lnTo>
                    <a:lnTo>
                      <a:pt x="91" y="225"/>
                    </a:lnTo>
                    <a:lnTo>
                      <a:pt x="103" y="227"/>
                    </a:lnTo>
                    <a:lnTo>
                      <a:pt x="114" y="227"/>
                    </a:lnTo>
                    <a:lnTo>
                      <a:pt x="126" y="227"/>
                    </a:lnTo>
                    <a:lnTo>
                      <a:pt x="138" y="225"/>
                    </a:lnTo>
                    <a:lnTo>
                      <a:pt x="148" y="222"/>
                    </a:lnTo>
                    <a:lnTo>
                      <a:pt x="158" y="219"/>
                    </a:lnTo>
                    <a:lnTo>
                      <a:pt x="169" y="213"/>
                    </a:lnTo>
                    <a:lnTo>
                      <a:pt x="178" y="209"/>
                    </a:lnTo>
                    <a:lnTo>
                      <a:pt x="186" y="202"/>
                    </a:lnTo>
                    <a:lnTo>
                      <a:pt x="194" y="194"/>
                    </a:lnTo>
                    <a:lnTo>
                      <a:pt x="202" y="187"/>
                    </a:lnTo>
                    <a:lnTo>
                      <a:pt x="208" y="177"/>
                    </a:lnTo>
                    <a:lnTo>
                      <a:pt x="214" y="168"/>
                    </a:lnTo>
                    <a:lnTo>
                      <a:pt x="219" y="158"/>
                    </a:lnTo>
                    <a:lnTo>
                      <a:pt x="223" y="147"/>
                    </a:lnTo>
                    <a:lnTo>
                      <a:pt x="225" y="137"/>
                    </a:lnTo>
                    <a:lnTo>
                      <a:pt x="227" y="126"/>
                    </a:lnTo>
                    <a:lnTo>
                      <a:pt x="227" y="114"/>
                    </a:lnTo>
                    <a:close/>
                    <a:moveTo>
                      <a:pt x="206" y="114"/>
                    </a:moveTo>
                    <a:lnTo>
                      <a:pt x="204" y="123"/>
                    </a:lnTo>
                    <a:lnTo>
                      <a:pt x="203" y="132"/>
                    </a:lnTo>
                    <a:lnTo>
                      <a:pt x="201" y="141"/>
                    </a:lnTo>
                    <a:lnTo>
                      <a:pt x="198" y="149"/>
                    </a:lnTo>
                    <a:lnTo>
                      <a:pt x="194" y="157"/>
                    </a:lnTo>
                    <a:lnTo>
                      <a:pt x="189" y="165"/>
                    </a:lnTo>
                    <a:lnTo>
                      <a:pt x="185" y="172"/>
                    </a:lnTo>
                    <a:lnTo>
                      <a:pt x="178" y="179"/>
                    </a:lnTo>
                    <a:lnTo>
                      <a:pt x="172" y="184"/>
                    </a:lnTo>
                    <a:lnTo>
                      <a:pt x="165" y="189"/>
                    </a:lnTo>
                    <a:lnTo>
                      <a:pt x="157" y="194"/>
                    </a:lnTo>
                    <a:lnTo>
                      <a:pt x="149" y="197"/>
                    </a:lnTo>
                    <a:lnTo>
                      <a:pt x="141" y="200"/>
                    </a:lnTo>
                    <a:lnTo>
                      <a:pt x="133" y="203"/>
                    </a:lnTo>
                    <a:lnTo>
                      <a:pt x="124" y="204"/>
                    </a:lnTo>
                    <a:lnTo>
                      <a:pt x="114" y="205"/>
                    </a:lnTo>
                    <a:lnTo>
                      <a:pt x="105" y="204"/>
                    </a:lnTo>
                    <a:lnTo>
                      <a:pt x="96" y="203"/>
                    </a:lnTo>
                    <a:lnTo>
                      <a:pt x="87" y="200"/>
                    </a:lnTo>
                    <a:lnTo>
                      <a:pt x="79" y="197"/>
                    </a:lnTo>
                    <a:lnTo>
                      <a:pt x="71" y="194"/>
                    </a:lnTo>
                    <a:lnTo>
                      <a:pt x="64" y="189"/>
                    </a:lnTo>
                    <a:lnTo>
                      <a:pt x="57" y="184"/>
                    </a:lnTo>
                    <a:lnTo>
                      <a:pt x="50" y="179"/>
                    </a:lnTo>
                    <a:lnTo>
                      <a:pt x="44" y="172"/>
                    </a:lnTo>
                    <a:lnTo>
                      <a:pt x="38" y="165"/>
                    </a:lnTo>
                    <a:lnTo>
                      <a:pt x="35" y="157"/>
                    </a:lnTo>
                    <a:lnTo>
                      <a:pt x="30" y="149"/>
                    </a:lnTo>
                    <a:lnTo>
                      <a:pt x="27" y="141"/>
                    </a:lnTo>
                    <a:lnTo>
                      <a:pt x="26" y="132"/>
                    </a:lnTo>
                    <a:lnTo>
                      <a:pt x="23" y="123"/>
                    </a:lnTo>
                    <a:lnTo>
                      <a:pt x="23" y="114"/>
                    </a:lnTo>
                    <a:lnTo>
                      <a:pt x="23" y="105"/>
                    </a:lnTo>
                    <a:lnTo>
                      <a:pt x="26" y="96"/>
                    </a:lnTo>
                    <a:lnTo>
                      <a:pt x="27" y="87"/>
                    </a:lnTo>
                    <a:lnTo>
                      <a:pt x="30" y="78"/>
                    </a:lnTo>
                    <a:lnTo>
                      <a:pt x="35" y="70"/>
                    </a:lnTo>
                    <a:lnTo>
                      <a:pt x="38" y="63"/>
                    </a:lnTo>
                    <a:lnTo>
                      <a:pt x="44" y="56"/>
                    </a:lnTo>
                    <a:lnTo>
                      <a:pt x="50" y="49"/>
                    </a:lnTo>
                    <a:lnTo>
                      <a:pt x="57" y="44"/>
                    </a:lnTo>
                    <a:lnTo>
                      <a:pt x="64" y="39"/>
                    </a:lnTo>
                    <a:lnTo>
                      <a:pt x="71" y="34"/>
                    </a:lnTo>
                    <a:lnTo>
                      <a:pt x="79" y="30"/>
                    </a:lnTo>
                    <a:lnTo>
                      <a:pt x="87" y="28"/>
                    </a:lnTo>
                    <a:lnTo>
                      <a:pt x="96" y="25"/>
                    </a:lnTo>
                    <a:lnTo>
                      <a:pt x="105" y="23"/>
                    </a:lnTo>
                    <a:lnTo>
                      <a:pt x="114" y="23"/>
                    </a:lnTo>
                    <a:lnTo>
                      <a:pt x="124" y="23"/>
                    </a:lnTo>
                    <a:lnTo>
                      <a:pt x="133" y="25"/>
                    </a:lnTo>
                    <a:lnTo>
                      <a:pt x="141" y="28"/>
                    </a:lnTo>
                    <a:lnTo>
                      <a:pt x="149" y="30"/>
                    </a:lnTo>
                    <a:lnTo>
                      <a:pt x="157" y="34"/>
                    </a:lnTo>
                    <a:lnTo>
                      <a:pt x="165" y="39"/>
                    </a:lnTo>
                    <a:lnTo>
                      <a:pt x="172" y="44"/>
                    </a:lnTo>
                    <a:lnTo>
                      <a:pt x="178" y="49"/>
                    </a:lnTo>
                    <a:lnTo>
                      <a:pt x="185" y="56"/>
                    </a:lnTo>
                    <a:lnTo>
                      <a:pt x="189" y="63"/>
                    </a:lnTo>
                    <a:lnTo>
                      <a:pt x="194" y="70"/>
                    </a:lnTo>
                    <a:lnTo>
                      <a:pt x="198" y="78"/>
                    </a:lnTo>
                    <a:lnTo>
                      <a:pt x="201" y="87"/>
                    </a:lnTo>
                    <a:lnTo>
                      <a:pt x="203" y="96"/>
                    </a:lnTo>
                    <a:lnTo>
                      <a:pt x="204" y="105"/>
                    </a:lnTo>
                    <a:lnTo>
                      <a:pt x="206" y="11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164280" y="391176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204" y="103"/>
                    </a:moveTo>
                    <a:lnTo>
                      <a:pt x="204" y="93"/>
                    </a:lnTo>
                    <a:lnTo>
                      <a:pt x="203" y="82"/>
                    </a:lnTo>
                    <a:lnTo>
                      <a:pt x="199" y="73"/>
                    </a:lnTo>
                    <a:lnTo>
                      <a:pt x="196" y="63"/>
                    </a:lnTo>
                    <a:lnTo>
                      <a:pt x="192" y="55"/>
                    </a:lnTo>
                    <a:lnTo>
                      <a:pt x="187" y="45"/>
                    </a:lnTo>
                    <a:lnTo>
                      <a:pt x="181" y="38"/>
                    </a:lnTo>
                    <a:lnTo>
                      <a:pt x="174" y="30"/>
                    </a:lnTo>
                    <a:lnTo>
                      <a:pt x="167" y="25"/>
                    </a:lnTo>
                    <a:lnTo>
                      <a:pt x="159" y="18"/>
                    </a:lnTo>
                    <a:lnTo>
                      <a:pt x="151" y="13"/>
                    </a:lnTo>
                    <a:lnTo>
                      <a:pt x="142" y="8"/>
                    </a:lnTo>
                    <a:lnTo>
                      <a:pt x="132" y="5"/>
                    </a:lnTo>
                    <a:lnTo>
                      <a:pt x="123" y="3"/>
                    </a:lnTo>
                    <a:lnTo>
                      <a:pt x="113" y="2"/>
                    </a:lnTo>
                    <a:lnTo>
                      <a:pt x="102" y="0"/>
                    </a:lnTo>
                    <a:lnTo>
                      <a:pt x="92" y="2"/>
                    </a:lnTo>
                    <a:lnTo>
                      <a:pt x="82" y="3"/>
                    </a:lnTo>
                    <a:lnTo>
                      <a:pt x="71" y="5"/>
                    </a:lnTo>
                    <a:lnTo>
                      <a:pt x="62" y="8"/>
                    </a:lnTo>
                    <a:lnTo>
                      <a:pt x="54" y="13"/>
                    </a:lnTo>
                    <a:lnTo>
                      <a:pt x="45" y="18"/>
                    </a:lnTo>
                    <a:lnTo>
                      <a:pt x="37" y="25"/>
                    </a:lnTo>
                    <a:lnTo>
                      <a:pt x="30" y="30"/>
                    </a:lnTo>
                    <a:lnTo>
                      <a:pt x="23" y="38"/>
                    </a:lnTo>
                    <a:lnTo>
                      <a:pt x="17" y="45"/>
                    </a:lnTo>
                    <a:lnTo>
                      <a:pt x="12" y="55"/>
                    </a:lnTo>
                    <a:lnTo>
                      <a:pt x="8" y="63"/>
                    </a:lnTo>
                    <a:lnTo>
                      <a:pt x="4" y="73"/>
                    </a:lnTo>
                    <a:lnTo>
                      <a:pt x="2" y="82"/>
                    </a:lnTo>
                    <a:lnTo>
                      <a:pt x="1" y="93"/>
                    </a:lnTo>
                    <a:lnTo>
                      <a:pt x="0" y="103"/>
                    </a:lnTo>
                    <a:lnTo>
                      <a:pt x="1" y="113"/>
                    </a:lnTo>
                    <a:lnTo>
                      <a:pt x="2" y="124"/>
                    </a:lnTo>
                    <a:lnTo>
                      <a:pt x="4" y="133"/>
                    </a:lnTo>
                    <a:lnTo>
                      <a:pt x="8" y="142"/>
                    </a:lnTo>
                    <a:lnTo>
                      <a:pt x="12" y="151"/>
                    </a:lnTo>
                    <a:lnTo>
                      <a:pt x="17" y="159"/>
                    </a:lnTo>
                    <a:lnTo>
                      <a:pt x="23" y="168"/>
                    </a:lnTo>
                    <a:lnTo>
                      <a:pt x="30" y="174"/>
                    </a:lnTo>
                    <a:lnTo>
                      <a:pt x="37" y="181"/>
                    </a:lnTo>
                    <a:lnTo>
                      <a:pt x="45" y="187"/>
                    </a:lnTo>
                    <a:lnTo>
                      <a:pt x="54" y="193"/>
                    </a:lnTo>
                    <a:lnTo>
                      <a:pt x="62" y="196"/>
                    </a:lnTo>
                    <a:lnTo>
                      <a:pt x="71" y="201"/>
                    </a:lnTo>
                    <a:lnTo>
                      <a:pt x="82" y="203"/>
                    </a:lnTo>
                    <a:lnTo>
                      <a:pt x="92" y="204"/>
                    </a:lnTo>
                    <a:lnTo>
                      <a:pt x="102" y="204"/>
                    </a:lnTo>
                    <a:lnTo>
                      <a:pt x="113" y="204"/>
                    </a:lnTo>
                    <a:lnTo>
                      <a:pt x="123" y="203"/>
                    </a:lnTo>
                    <a:lnTo>
                      <a:pt x="132" y="201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87"/>
                    </a:lnTo>
                    <a:lnTo>
                      <a:pt x="167" y="181"/>
                    </a:lnTo>
                    <a:lnTo>
                      <a:pt x="174" y="174"/>
                    </a:lnTo>
                    <a:lnTo>
                      <a:pt x="181" y="168"/>
                    </a:lnTo>
                    <a:lnTo>
                      <a:pt x="187" y="159"/>
                    </a:lnTo>
                    <a:lnTo>
                      <a:pt x="192" y="151"/>
                    </a:lnTo>
                    <a:lnTo>
                      <a:pt x="196" y="142"/>
                    </a:lnTo>
                    <a:lnTo>
                      <a:pt x="199" y="133"/>
                    </a:lnTo>
                    <a:lnTo>
                      <a:pt x="203" y="124"/>
                    </a:lnTo>
                    <a:lnTo>
                      <a:pt x="204" y="113"/>
                    </a:lnTo>
                    <a:lnTo>
                      <a:pt x="204" y="103"/>
                    </a:lnTo>
                    <a:close/>
                    <a:moveTo>
                      <a:pt x="182" y="103"/>
                    </a:moveTo>
                    <a:lnTo>
                      <a:pt x="181" y="111"/>
                    </a:lnTo>
                    <a:lnTo>
                      <a:pt x="180" y="119"/>
                    </a:lnTo>
                    <a:lnTo>
                      <a:pt x="179" y="126"/>
                    </a:lnTo>
                    <a:lnTo>
                      <a:pt x="175" y="134"/>
                    </a:lnTo>
                    <a:lnTo>
                      <a:pt x="172" y="141"/>
                    </a:lnTo>
                    <a:lnTo>
                      <a:pt x="168" y="147"/>
                    </a:lnTo>
                    <a:lnTo>
                      <a:pt x="164" y="154"/>
                    </a:lnTo>
                    <a:lnTo>
                      <a:pt x="159" y="159"/>
                    </a:lnTo>
                    <a:lnTo>
                      <a:pt x="153" y="164"/>
                    </a:lnTo>
                    <a:lnTo>
                      <a:pt x="146" y="169"/>
                    </a:lnTo>
                    <a:lnTo>
                      <a:pt x="141" y="173"/>
                    </a:lnTo>
                    <a:lnTo>
                      <a:pt x="134" y="176"/>
                    </a:lnTo>
                    <a:lnTo>
                      <a:pt x="126" y="179"/>
                    </a:lnTo>
                    <a:lnTo>
                      <a:pt x="119" y="180"/>
                    </a:lnTo>
                    <a:lnTo>
                      <a:pt x="111" y="181"/>
                    </a:lnTo>
                    <a:lnTo>
                      <a:pt x="102" y="183"/>
                    </a:lnTo>
                    <a:lnTo>
                      <a:pt x="94" y="181"/>
                    </a:lnTo>
                    <a:lnTo>
                      <a:pt x="86" y="180"/>
                    </a:lnTo>
                    <a:lnTo>
                      <a:pt x="78" y="179"/>
                    </a:lnTo>
                    <a:lnTo>
                      <a:pt x="71" y="176"/>
                    </a:lnTo>
                    <a:lnTo>
                      <a:pt x="64" y="173"/>
                    </a:lnTo>
                    <a:lnTo>
                      <a:pt x="57" y="169"/>
                    </a:lnTo>
                    <a:lnTo>
                      <a:pt x="52" y="164"/>
                    </a:lnTo>
                    <a:lnTo>
                      <a:pt x="46" y="159"/>
                    </a:lnTo>
                    <a:lnTo>
                      <a:pt x="41" y="154"/>
                    </a:lnTo>
                    <a:lnTo>
                      <a:pt x="37" y="147"/>
                    </a:lnTo>
                    <a:lnTo>
                      <a:pt x="32" y="141"/>
                    </a:lnTo>
                    <a:lnTo>
                      <a:pt x="29" y="134"/>
                    </a:lnTo>
                    <a:lnTo>
                      <a:pt x="26" y="126"/>
                    </a:lnTo>
                    <a:lnTo>
                      <a:pt x="24" y="119"/>
                    </a:lnTo>
                    <a:lnTo>
                      <a:pt x="23" y="111"/>
                    </a:lnTo>
                    <a:lnTo>
                      <a:pt x="23" y="103"/>
                    </a:lnTo>
                    <a:lnTo>
                      <a:pt x="23" y="95"/>
                    </a:lnTo>
                    <a:lnTo>
                      <a:pt x="24" y="87"/>
                    </a:lnTo>
                    <a:lnTo>
                      <a:pt x="26" y="79"/>
                    </a:lnTo>
                    <a:lnTo>
                      <a:pt x="29" y="72"/>
                    </a:lnTo>
                    <a:lnTo>
                      <a:pt x="32" y="65"/>
                    </a:lnTo>
                    <a:lnTo>
                      <a:pt x="37" y="58"/>
                    </a:lnTo>
                    <a:lnTo>
                      <a:pt x="41" y="52"/>
                    </a:lnTo>
                    <a:lnTo>
                      <a:pt x="46" y="47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4" y="33"/>
                    </a:lnTo>
                    <a:lnTo>
                      <a:pt x="71" y="29"/>
                    </a:lnTo>
                    <a:lnTo>
                      <a:pt x="78" y="27"/>
                    </a:lnTo>
                    <a:lnTo>
                      <a:pt x="86" y="25"/>
                    </a:lnTo>
                    <a:lnTo>
                      <a:pt x="94" y="23"/>
                    </a:lnTo>
                    <a:lnTo>
                      <a:pt x="102" y="23"/>
                    </a:lnTo>
                    <a:lnTo>
                      <a:pt x="111" y="23"/>
                    </a:lnTo>
                    <a:lnTo>
                      <a:pt x="119" y="25"/>
                    </a:lnTo>
                    <a:lnTo>
                      <a:pt x="126" y="27"/>
                    </a:lnTo>
                    <a:lnTo>
                      <a:pt x="134" y="29"/>
                    </a:lnTo>
                    <a:lnTo>
                      <a:pt x="141" y="33"/>
                    </a:lnTo>
                    <a:lnTo>
                      <a:pt x="146" y="37"/>
                    </a:lnTo>
                    <a:lnTo>
                      <a:pt x="153" y="42"/>
                    </a:lnTo>
                    <a:lnTo>
                      <a:pt x="159" y="47"/>
                    </a:lnTo>
                    <a:lnTo>
                      <a:pt x="164" y="52"/>
                    </a:lnTo>
                    <a:lnTo>
                      <a:pt x="168" y="58"/>
                    </a:lnTo>
                    <a:lnTo>
                      <a:pt x="172" y="65"/>
                    </a:lnTo>
                    <a:lnTo>
                      <a:pt x="175" y="72"/>
                    </a:lnTo>
                    <a:lnTo>
                      <a:pt x="179" y="79"/>
                    </a:lnTo>
                    <a:lnTo>
                      <a:pt x="180" y="87"/>
                    </a:lnTo>
                    <a:lnTo>
                      <a:pt x="181" y="95"/>
                    </a:lnTo>
                    <a:lnTo>
                      <a:pt x="182" y="10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67520" y="3914640"/>
                <a:ext cx="48960" cy="4788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83" y="91"/>
                    </a:moveTo>
                    <a:lnTo>
                      <a:pt x="181" y="82"/>
                    </a:lnTo>
                    <a:lnTo>
                      <a:pt x="180" y="73"/>
                    </a:lnTo>
                    <a:lnTo>
                      <a:pt x="178" y="64"/>
                    </a:lnTo>
                    <a:lnTo>
                      <a:pt x="175" y="55"/>
                    </a:lnTo>
                    <a:lnTo>
                      <a:pt x="171" y="47"/>
                    </a:lnTo>
                    <a:lnTo>
                      <a:pt x="166" y="40"/>
                    </a:lnTo>
                    <a:lnTo>
                      <a:pt x="162" y="33"/>
                    </a:lnTo>
                    <a:lnTo>
                      <a:pt x="155" y="26"/>
                    </a:lnTo>
                    <a:lnTo>
                      <a:pt x="149" y="21"/>
                    </a:lnTo>
                    <a:lnTo>
                      <a:pt x="142" y="16"/>
                    </a:lnTo>
                    <a:lnTo>
                      <a:pt x="134" y="11"/>
                    </a:lnTo>
                    <a:lnTo>
                      <a:pt x="126" y="7"/>
                    </a:lnTo>
                    <a:lnTo>
                      <a:pt x="118" y="5"/>
                    </a:lnTo>
                    <a:lnTo>
                      <a:pt x="110" y="2"/>
                    </a:lnTo>
                    <a:lnTo>
                      <a:pt x="101" y="0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3" y="2"/>
                    </a:lnTo>
                    <a:lnTo>
                      <a:pt x="64" y="5"/>
                    </a:lnTo>
                    <a:lnTo>
                      <a:pt x="56" y="7"/>
                    </a:lnTo>
                    <a:lnTo>
                      <a:pt x="48" y="11"/>
                    </a:lnTo>
                    <a:lnTo>
                      <a:pt x="41" y="16"/>
                    </a:lnTo>
                    <a:lnTo>
                      <a:pt x="34" y="21"/>
                    </a:lnTo>
                    <a:lnTo>
                      <a:pt x="27" y="26"/>
                    </a:lnTo>
                    <a:lnTo>
                      <a:pt x="21" y="33"/>
                    </a:lnTo>
                    <a:lnTo>
                      <a:pt x="15" y="40"/>
                    </a:lnTo>
                    <a:lnTo>
                      <a:pt x="12" y="47"/>
                    </a:lnTo>
                    <a:lnTo>
                      <a:pt x="7" y="55"/>
                    </a:lnTo>
                    <a:lnTo>
                      <a:pt x="4" y="64"/>
                    </a:lnTo>
                    <a:lnTo>
                      <a:pt x="3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0" y="100"/>
                    </a:lnTo>
                    <a:lnTo>
                      <a:pt x="3" y="109"/>
                    </a:lnTo>
                    <a:lnTo>
                      <a:pt x="4" y="118"/>
                    </a:lnTo>
                    <a:lnTo>
                      <a:pt x="7" y="126"/>
                    </a:lnTo>
                    <a:lnTo>
                      <a:pt x="12" y="134"/>
                    </a:lnTo>
                    <a:lnTo>
                      <a:pt x="15" y="142"/>
                    </a:lnTo>
                    <a:lnTo>
                      <a:pt x="21" y="149"/>
                    </a:lnTo>
                    <a:lnTo>
                      <a:pt x="27" y="156"/>
                    </a:lnTo>
                    <a:lnTo>
                      <a:pt x="34" y="161"/>
                    </a:lnTo>
                    <a:lnTo>
                      <a:pt x="41" y="166"/>
                    </a:lnTo>
                    <a:lnTo>
                      <a:pt x="48" y="171"/>
                    </a:lnTo>
                    <a:lnTo>
                      <a:pt x="56" y="174"/>
                    </a:lnTo>
                    <a:lnTo>
                      <a:pt x="64" y="177"/>
                    </a:lnTo>
                    <a:lnTo>
                      <a:pt x="73" y="180"/>
                    </a:lnTo>
                    <a:lnTo>
                      <a:pt x="82" y="181"/>
                    </a:lnTo>
                    <a:lnTo>
                      <a:pt x="91" y="182"/>
                    </a:lnTo>
                    <a:lnTo>
                      <a:pt x="101" y="181"/>
                    </a:lnTo>
                    <a:lnTo>
                      <a:pt x="110" y="180"/>
                    </a:lnTo>
                    <a:lnTo>
                      <a:pt x="118" y="177"/>
                    </a:lnTo>
                    <a:lnTo>
                      <a:pt x="126" y="174"/>
                    </a:lnTo>
                    <a:lnTo>
                      <a:pt x="134" y="171"/>
                    </a:lnTo>
                    <a:lnTo>
                      <a:pt x="142" y="166"/>
                    </a:lnTo>
                    <a:lnTo>
                      <a:pt x="149" y="161"/>
                    </a:lnTo>
                    <a:lnTo>
                      <a:pt x="155" y="156"/>
                    </a:lnTo>
                    <a:lnTo>
                      <a:pt x="162" y="149"/>
                    </a:lnTo>
                    <a:lnTo>
                      <a:pt x="166" y="142"/>
                    </a:lnTo>
                    <a:lnTo>
                      <a:pt x="171" y="134"/>
                    </a:lnTo>
                    <a:lnTo>
                      <a:pt x="175" y="126"/>
                    </a:lnTo>
                    <a:lnTo>
                      <a:pt x="178" y="118"/>
                    </a:lnTo>
                    <a:lnTo>
                      <a:pt x="180" y="109"/>
                    </a:lnTo>
                    <a:lnTo>
                      <a:pt x="181" y="100"/>
                    </a:lnTo>
                    <a:lnTo>
                      <a:pt x="183" y="91"/>
                    </a:lnTo>
                    <a:close/>
                    <a:moveTo>
                      <a:pt x="160" y="91"/>
                    </a:moveTo>
                    <a:lnTo>
                      <a:pt x="160" y="98"/>
                    </a:lnTo>
                    <a:lnTo>
                      <a:pt x="158" y="105"/>
                    </a:lnTo>
                    <a:lnTo>
                      <a:pt x="156" y="111"/>
                    </a:lnTo>
                    <a:lnTo>
                      <a:pt x="154" y="118"/>
                    </a:lnTo>
                    <a:lnTo>
                      <a:pt x="151" y="123"/>
                    </a:lnTo>
                    <a:lnTo>
                      <a:pt x="148" y="129"/>
                    </a:lnTo>
                    <a:lnTo>
                      <a:pt x="143" y="134"/>
                    </a:lnTo>
                    <a:lnTo>
                      <a:pt x="140" y="139"/>
                    </a:lnTo>
                    <a:lnTo>
                      <a:pt x="134" y="143"/>
                    </a:lnTo>
                    <a:lnTo>
                      <a:pt x="130" y="147"/>
                    </a:lnTo>
                    <a:lnTo>
                      <a:pt x="124" y="151"/>
                    </a:lnTo>
                    <a:lnTo>
                      <a:pt x="118" y="153"/>
                    </a:lnTo>
                    <a:lnTo>
                      <a:pt x="111" y="156"/>
                    </a:lnTo>
                    <a:lnTo>
                      <a:pt x="105" y="158"/>
                    </a:lnTo>
                    <a:lnTo>
                      <a:pt x="98" y="159"/>
                    </a:lnTo>
                    <a:lnTo>
                      <a:pt x="91" y="159"/>
                    </a:lnTo>
                    <a:lnTo>
                      <a:pt x="85" y="159"/>
                    </a:lnTo>
                    <a:lnTo>
                      <a:pt x="78" y="158"/>
                    </a:lnTo>
                    <a:lnTo>
                      <a:pt x="71" y="156"/>
                    </a:lnTo>
                    <a:lnTo>
                      <a:pt x="65" y="153"/>
                    </a:lnTo>
                    <a:lnTo>
                      <a:pt x="59" y="151"/>
                    </a:lnTo>
                    <a:lnTo>
                      <a:pt x="53" y="147"/>
                    </a:lnTo>
                    <a:lnTo>
                      <a:pt x="48" y="143"/>
                    </a:lnTo>
                    <a:lnTo>
                      <a:pt x="43" y="139"/>
                    </a:lnTo>
                    <a:lnTo>
                      <a:pt x="38" y="134"/>
                    </a:lnTo>
                    <a:lnTo>
                      <a:pt x="35" y="129"/>
                    </a:lnTo>
                    <a:lnTo>
                      <a:pt x="31" y="123"/>
                    </a:lnTo>
                    <a:lnTo>
                      <a:pt x="28" y="118"/>
                    </a:lnTo>
                    <a:lnTo>
                      <a:pt x="26" y="111"/>
                    </a:lnTo>
                    <a:lnTo>
                      <a:pt x="25" y="105"/>
                    </a:lnTo>
                    <a:lnTo>
                      <a:pt x="23" y="98"/>
                    </a:lnTo>
                    <a:lnTo>
                      <a:pt x="23" y="91"/>
                    </a:lnTo>
                    <a:lnTo>
                      <a:pt x="23" y="84"/>
                    </a:lnTo>
                    <a:lnTo>
                      <a:pt x="25" y="77"/>
                    </a:lnTo>
                    <a:lnTo>
                      <a:pt x="26" y="70"/>
                    </a:lnTo>
                    <a:lnTo>
                      <a:pt x="28" y="64"/>
                    </a:lnTo>
                    <a:lnTo>
                      <a:pt x="31" y="59"/>
                    </a:lnTo>
                    <a:lnTo>
                      <a:pt x="35" y="53"/>
                    </a:lnTo>
                    <a:lnTo>
                      <a:pt x="38" y="47"/>
                    </a:lnTo>
                    <a:lnTo>
                      <a:pt x="43" y="43"/>
                    </a:lnTo>
                    <a:lnTo>
                      <a:pt x="48" y="38"/>
                    </a:lnTo>
                    <a:lnTo>
                      <a:pt x="53" y="35"/>
                    </a:lnTo>
                    <a:lnTo>
                      <a:pt x="59" y="31"/>
                    </a:lnTo>
                    <a:lnTo>
                      <a:pt x="65" y="28"/>
                    </a:lnTo>
                    <a:lnTo>
                      <a:pt x="71" y="25"/>
                    </a:lnTo>
                    <a:lnTo>
                      <a:pt x="78" y="24"/>
                    </a:lnTo>
                    <a:lnTo>
                      <a:pt x="85" y="23"/>
                    </a:lnTo>
                    <a:lnTo>
                      <a:pt x="91" y="23"/>
                    </a:lnTo>
                    <a:lnTo>
                      <a:pt x="98" y="23"/>
                    </a:lnTo>
                    <a:lnTo>
                      <a:pt x="105" y="24"/>
                    </a:lnTo>
                    <a:lnTo>
                      <a:pt x="111" y="25"/>
                    </a:lnTo>
                    <a:lnTo>
                      <a:pt x="118" y="28"/>
                    </a:lnTo>
                    <a:lnTo>
                      <a:pt x="124" y="31"/>
                    </a:lnTo>
                    <a:lnTo>
                      <a:pt x="130" y="35"/>
                    </a:lnTo>
                    <a:lnTo>
                      <a:pt x="134" y="38"/>
                    </a:lnTo>
                    <a:lnTo>
                      <a:pt x="140" y="43"/>
                    </a:lnTo>
                    <a:lnTo>
                      <a:pt x="143" y="47"/>
                    </a:lnTo>
                    <a:lnTo>
                      <a:pt x="148" y="53"/>
                    </a:lnTo>
                    <a:lnTo>
                      <a:pt x="151" y="59"/>
                    </a:lnTo>
                    <a:lnTo>
                      <a:pt x="154" y="64"/>
                    </a:lnTo>
                    <a:lnTo>
                      <a:pt x="156" y="70"/>
                    </a:lnTo>
                    <a:lnTo>
                      <a:pt x="158" y="77"/>
                    </a:lnTo>
                    <a:lnTo>
                      <a:pt x="160" y="84"/>
                    </a:lnTo>
                    <a:lnTo>
                      <a:pt x="160" y="9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70760" y="391788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159" h="160">
                    <a:moveTo>
                      <a:pt x="159" y="80"/>
                    </a:moveTo>
                    <a:lnTo>
                      <a:pt x="158" y="72"/>
                    </a:lnTo>
                    <a:lnTo>
                      <a:pt x="157" y="64"/>
                    </a:lnTo>
                    <a:lnTo>
                      <a:pt x="156" y="56"/>
                    </a:lnTo>
                    <a:lnTo>
                      <a:pt x="152" y="49"/>
                    </a:lnTo>
                    <a:lnTo>
                      <a:pt x="149" y="42"/>
                    </a:lnTo>
                    <a:lnTo>
                      <a:pt x="145" y="35"/>
                    </a:lnTo>
                    <a:lnTo>
                      <a:pt x="141" y="29"/>
                    </a:lnTo>
                    <a:lnTo>
                      <a:pt x="136" y="24"/>
                    </a:lnTo>
                    <a:lnTo>
                      <a:pt x="130" y="19"/>
                    </a:lnTo>
                    <a:lnTo>
                      <a:pt x="123" y="14"/>
                    </a:lnTo>
                    <a:lnTo>
                      <a:pt x="118" y="10"/>
                    </a:lnTo>
                    <a:lnTo>
                      <a:pt x="111" y="6"/>
                    </a:lnTo>
                    <a:lnTo>
                      <a:pt x="103" y="4"/>
                    </a:lnTo>
                    <a:lnTo>
                      <a:pt x="96" y="2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2"/>
                    </a:lnTo>
                    <a:lnTo>
                      <a:pt x="55" y="4"/>
                    </a:lnTo>
                    <a:lnTo>
                      <a:pt x="48" y="6"/>
                    </a:lnTo>
                    <a:lnTo>
                      <a:pt x="41" y="10"/>
                    </a:lnTo>
                    <a:lnTo>
                      <a:pt x="34" y="14"/>
                    </a:lnTo>
                    <a:lnTo>
                      <a:pt x="29" y="19"/>
                    </a:lnTo>
                    <a:lnTo>
                      <a:pt x="23" y="24"/>
                    </a:lnTo>
                    <a:lnTo>
                      <a:pt x="18" y="29"/>
                    </a:lnTo>
                    <a:lnTo>
                      <a:pt x="14" y="35"/>
                    </a:lnTo>
                    <a:lnTo>
                      <a:pt x="9" y="42"/>
                    </a:lnTo>
                    <a:lnTo>
                      <a:pt x="6" y="49"/>
                    </a:lnTo>
                    <a:lnTo>
                      <a:pt x="3" y="56"/>
                    </a:lnTo>
                    <a:lnTo>
                      <a:pt x="1" y="64"/>
                    </a:lnTo>
                    <a:lnTo>
                      <a:pt x="0" y="72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1" y="96"/>
                    </a:lnTo>
                    <a:lnTo>
                      <a:pt x="3" y="103"/>
                    </a:lnTo>
                    <a:lnTo>
                      <a:pt x="6" y="111"/>
                    </a:lnTo>
                    <a:lnTo>
                      <a:pt x="9" y="118"/>
                    </a:lnTo>
                    <a:lnTo>
                      <a:pt x="14" y="124"/>
                    </a:lnTo>
                    <a:lnTo>
                      <a:pt x="18" y="131"/>
                    </a:lnTo>
                    <a:lnTo>
                      <a:pt x="23" y="136"/>
                    </a:lnTo>
                    <a:lnTo>
                      <a:pt x="29" y="141"/>
                    </a:lnTo>
                    <a:lnTo>
                      <a:pt x="34" y="146"/>
                    </a:lnTo>
                    <a:lnTo>
                      <a:pt x="41" y="150"/>
                    </a:lnTo>
                    <a:lnTo>
                      <a:pt x="48" y="153"/>
                    </a:lnTo>
                    <a:lnTo>
                      <a:pt x="55" y="156"/>
                    </a:lnTo>
                    <a:lnTo>
                      <a:pt x="63" y="157"/>
                    </a:lnTo>
                    <a:lnTo>
                      <a:pt x="71" y="158"/>
                    </a:lnTo>
                    <a:lnTo>
                      <a:pt x="79" y="160"/>
                    </a:lnTo>
                    <a:lnTo>
                      <a:pt x="88" y="158"/>
                    </a:lnTo>
                    <a:lnTo>
                      <a:pt x="96" y="157"/>
                    </a:lnTo>
                    <a:lnTo>
                      <a:pt x="103" y="156"/>
                    </a:lnTo>
                    <a:lnTo>
                      <a:pt x="111" y="153"/>
                    </a:lnTo>
                    <a:lnTo>
                      <a:pt x="118" y="150"/>
                    </a:lnTo>
                    <a:lnTo>
                      <a:pt x="123" y="146"/>
                    </a:lnTo>
                    <a:lnTo>
                      <a:pt x="130" y="141"/>
                    </a:lnTo>
                    <a:lnTo>
                      <a:pt x="136" y="136"/>
                    </a:lnTo>
                    <a:lnTo>
                      <a:pt x="141" y="131"/>
                    </a:lnTo>
                    <a:lnTo>
                      <a:pt x="145" y="124"/>
                    </a:lnTo>
                    <a:lnTo>
                      <a:pt x="149" y="118"/>
                    </a:lnTo>
                    <a:lnTo>
                      <a:pt x="152" y="111"/>
                    </a:lnTo>
                    <a:lnTo>
                      <a:pt x="156" y="103"/>
                    </a:lnTo>
                    <a:lnTo>
                      <a:pt x="157" y="96"/>
                    </a:lnTo>
                    <a:lnTo>
                      <a:pt x="158" y="88"/>
                    </a:lnTo>
                    <a:lnTo>
                      <a:pt x="159" y="80"/>
                    </a:lnTo>
                    <a:close/>
                    <a:moveTo>
                      <a:pt x="136" y="80"/>
                    </a:moveTo>
                    <a:lnTo>
                      <a:pt x="135" y="92"/>
                    </a:lnTo>
                    <a:lnTo>
                      <a:pt x="131" y="102"/>
                    </a:lnTo>
                    <a:lnTo>
                      <a:pt x="127" y="111"/>
                    </a:lnTo>
                    <a:lnTo>
                      <a:pt x="120" y="120"/>
                    </a:lnTo>
                    <a:lnTo>
                      <a:pt x="111" y="127"/>
                    </a:lnTo>
                    <a:lnTo>
                      <a:pt x="101" y="132"/>
                    </a:lnTo>
                    <a:lnTo>
                      <a:pt x="91" y="135"/>
                    </a:lnTo>
                    <a:lnTo>
                      <a:pt x="79" y="136"/>
                    </a:lnTo>
                    <a:lnTo>
                      <a:pt x="74" y="136"/>
                    </a:lnTo>
                    <a:lnTo>
                      <a:pt x="68" y="135"/>
                    </a:lnTo>
                    <a:lnTo>
                      <a:pt x="62" y="134"/>
                    </a:lnTo>
                    <a:lnTo>
                      <a:pt x="58" y="132"/>
                    </a:lnTo>
                    <a:lnTo>
                      <a:pt x="47" y="127"/>
                    </a:lnTo>
                    <a:lnTo>
                      <a:pt x="39" y="120"/>
                    </a:lnTo>
                    <a:lnTo>
                      <a:pt x="32" y="111"/>
                    </a:lnTo>
                    <a:lnTo>
                      <a:pt x="26" y="102"/>
                    </a:lnTo>
                    <a:lnTo>
                      <a:pt x="25" y="97"/>
                    </a:lnTo>
                    <a:lnTo>
                      <a:pt x="24" y="92"/>
                    </a:lnTo>
                    <a:lnTo>
                      <a:pt x="23" y="86"/>
                    </a:lnTo>
                    <a:lnTo>
                      <a:pt x="23" y="80"/>
                    </a:lnTo>
                    <a:lnTo>
                      <a:pt x="24" y="68"/>
                    </a:lnTo>
                    <a:lnTo>
                      <a:pt x="26" y="58"/>
                    </a:lnTo>
                    <a:lnTo>
                      <a:pt x="32" y="48"/>
                    </a:lnTo>
                    <a:lnTo>
                      <a:pt x="39" y="40"/>
                    </a:lnTo>
                    <a:lnTo>
                      <a:pt x="47" y="33"/>
                    </a:lnTo>
                    <a:lnTo>
                      <a:pt x="58" y="28"/>
                    </a:lnTo>
                    <a:lnTo>
                      <a:pt x="68" y="25"/>
                    </a:lnTo>
                    <a:lnTo>
                      <a:pt x="79" y="24"/>
                    </a:lnTo>
                    <a:lnTo>
                      <a:pt x="91" y="25"/>
                    </a:lnTo>
                    <a:lnTo>
                      <a:pt x="101" y="28"/>
                    </a:lnTo>
                    <a:lnTo>
                      <a:pt x="111" y="33"/>
                    </a:lnTo>
                    <a:lnTo>
                      <a:pt x="120" y="40"/>
                    </a:lnTo>
                    <a:lnTo>
                      <a:pt x="127" y="48"/>
                    </a:lnTo>
                    <a:lnTo>
                      <a:pt x="131" y="58"/>
                    </a:lnTo>
                    <a:lnTo>
                      <a:pt x="135" y="68"/>
                    </a:lnTo>
                    <a:lnTo>
                      <a:pt x="136" y="80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73640" y="392112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68"/>
                    </a:moveTo>
                    <a:lnTo>
                      <a:pt x="137" y="61"/>
                    </a:lnTo>
                    <a:lnTo>
                      <a:pt x="135" y="54"/>
                    </a:lnTo>
                    <a:lnTo>
                      <a:pt x="133" y="47"/>
                    </a:lnTo>
                    <a:lnTo>
                      <a:pt x="131" y="41"/>
                    </a:lnTo>
                    <a:lnTo>
                      <a:pt x="128" y="36"/>
                    </a:lnTo>
                    <a:lnTo>
                      <a:pt x="125" y="30"/>
                    </a:lnTo>
                    <a:lnTo>
                      <a:pt x="120" y="24"/>
                    </a:lnTo>
                    <a:lnTo>
                      <a:pt x="117" y="20"/>
                    </a:lnTo>
                    <a:lnTo>
                      <a:pt x="111" y="15"/>
                    </a:lnTo>
                    <a:lnTo>
                      <a:pt x="107" y="12"/>
                    </a:lnTo>
                    <a:lnTo>
                      <a:pt x="101" y="8"/>
                    </a:lnTo>
                    <a:lnTo>
                      <a:pt x="95" y="5"/>
                    </a:lnTo>
                    <a:lnTo>
                      <a:pt x="88" y="2"/>
                    </a:lnTo>
                    <a:lnTo>
                      <a:pt x="82" y="1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8" y="2"/>
                    </a:lnTo>
                    <a:lnTo>
                      <a:pt x="42" y="5"/>
                    </a:lnTo>
                    <a:lnTo>
                      <a:pt x="36" y="8"/>
                    </a:lnTo>
                    <a:lnTo>
                      <a:pt x="30" y="12"/>
                    </a:lnTo>
                    <a:lnTo>
                      <a:pt x="25" y="15"/>
                    </a:lnTo>
                    <a:lnTo>
                      <a:pt x="20" y="20"/>
                    </a:lnTo>
                    <a:lnTo>
                      <a:pt x="15" y="24"/>
                    </a:lnTo>
                    <a:lnTo>
                      <a:pt x="12" y="30"/>
                    </a:lnTo>
                    <a:lnTo>
                      <a:pt x="8" y="36"/>
                    </a:lnTo>
                    <a:lnTo>
                      <a:pt x="5" y="41"/>
                    </a:lnTo>
                    <a:lnTo>
                      <a:pt x="3" y="47"/>
                    </a:lnTo>
                    <a:lnTo>
                      <a:pt x="2" y="54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2" y="82"/>
                    </a:lnTo>
                    <a:lnTo>
                      <a:pt x="3" y="88"/>
                    </a:lnTo>
                    <a:lnTo>
                      <a:pt x="5" y="95"/>
                    </a:lnTo>
                    <a:lnTo>
                      <a:pt x="8" y="100"/>
                    </a:lnTo>
                    <a:lnTo>
                      <a:pt x="12" y="106"/>
                    </a:lnTo>
                    <a:lnTo>
                      <a:pt x="15" y="111"/>
                    </a:lnTo>
                    <a:lnTo>
                      <a:pt x="20" y="116"/>
                    </a:lnTo>
                    <a:lnTo>
                      <a:pt x="25" y="120"/>
                    </a:lnTo>
                    <a:lnTo>
                      <a:pt x="30" y="124"/>
                    </a:lnTo>
                    <a:lnTo>
                      <a:pt x="36" y="128"/>
                    </a:lnTo>
                    <a:lnTo>
                      <a:pt x="42" y="130"/>
                    </a:lnTo>
                    <a:lnTo>
                      <a:pt x="48" y="133"/>
                    </a:lnTo>
                    <a:lnTo>
                      <a:pt x="55" y="135"/>
                    </a:lnTo>
                    <a:lnTo>
                      <a:pt x="62" y="136"/>
                    </a:lnTo>
                    <a:lnTo>
                      <a:pt x="68" y="136"/>
                    </a:lnTo>
                    <a:lnTo>
                      <a:pt x="75" y="136"/>
                    </a:lnTo>
                    <a:lnTo>
                      <a:pt x="82" y="135"/>
                    </a:lnTo>
                    <a:lnTo>
                      <a:pt x="88" y="133"/>
                    </a:lnTo>
                    <a:lnTo>
                      <a:pt x="95" y="130"/>
                    </a:lnTo>
                    <a:lnTo>
                      <a:pt x="101" y="128"/>
                    </a:lnTo>
                    <a:lnTo>
                      <a:pt x="107" y="124"/>
                    </a:lnTo>
                    <a:lnTo>
                      <a:pt x="111" y="120"/>
                    </a:lnTo>
                    <a:lnTo>
                      <a:pt x="117" y="116"/>
                    </a:lnTo>
                    <a:lnTo>
                      <a:pt x="120" y="111"/>
                    </a:lnTo>
                    <a:lnTo>
                      <a:pt x="125" y="106"/>
                    </a:lnTo>
                    <a:lnTo>
                      <a:pt x="128" y="100"/>
                    </a:lnTo>
                    <a:lnTo>
                      <a:pt x="131" y="95"/>
                    </a:lnTo>
                    <a:lnTo>
                      <a:pt x="133" y="88"/>
                    </a:lnTo>
                    <a:lnTo>
                      <a:pt x="135" y="82"/>
                    </a:lnTo>
                    <a:lnTo>
                      <a:pt x="137" y="75"/>
                    </a:lnTo>
                    <a:lnTo>
                      <a:pt x="137" y="68"/>
                    </a:lnTo>
                    <a:close/>
                    <a:moveTo>
                      <a:pt x="113" y="68"/>
                    </a:moveTo>
                    <a:lnTo>
                      <a:pt x="112" y="77"/>
                    </a:lnTo>
                    <a:lnTo>
                      <a:pt x="110" y="85"/>
                    </a:lnTo>
                    <a:lnTo>
                      <a:pt x="105" y="93"/>
                    </a:lnTo>
                    <a:lnTo>
                      <a:pt x="101" y="100"/>
                    </a:lnTo>
                    <a:lnTo>
                      <a:pt x="94" y="105"/>
                    </a:lnTo>
                    <a:lnTo>
                      <a:pt x="86" y="110"/>
                    </a:lnTo>
                    <a:lnTo>
                      <a:pt x="78" y="112"/>
                    </a:lnTo>
                    <a:lnTo>
                      <a:pt x="68" y="113"/>
                    </a:lnTo>
                    <a:lnTo>
                      <a:pt x="59" y="112"/>
                    </a:lnTo>
                    <a:lnTo>
                      <a:pt x="50" y="110"/>
                    </a:lnTo>
                    <a:lnTo>
                      <a:pt x="43" y="105"/>
                    </a:lnTo>
                    <a:lnTo>
                      <a:pt x="36" y="100"/>
                    </a:lnTo>
                    <a:lnTo>
                      <a:pt x="30" y="93"/>
                    </a:lnTo>
                    <a:lnTo>
                      <a:pt x="27" y="85"/>
                    </a:lnTo>
                    <a:lnTo>
                      <a:pt x="23" y="77"/>
                    </a:lnTo>
                    <a:lnTo>
                      <a:pt x="22" y="68"/>
                    </a:lnTo>
                    <a:lnTo>
                      <a:pt x="23" y="59"/>
                    </a:lnTo>
                    <a:lnTo>
                      <a:pt x="27" y="51"/>
                    </a:lnTo>
                    <a:lnTo>
                      <a:pt x="30" y="43"/>
                    </a:lnTo>
                    <a:lnTo>
                      <a:pt x="36" y="36"/>
                    </a:lnTo>
                    <a:lnTo>
                      <a:pt x="43" y="30"/>
                    </a:lnTo>
                    <a:lnTo>
                      <a:pt x="50" y="27"/>
                    </a:lnTo>
                    <a:lnTo>
                      <a:pt x="59" y="23"/>
                    </a:lnTo>
                    <a:lnTo>
                      <a:pt x="68" y="22"/>
                    </a:lnTo>
                    <a:lnTo>
                      <a:pt x="78" y="23"/>
                    </a:lnTo>
                    <a:lnTo>
                      <a:pt x="86" y="27"/>
                    </a:lnTo>
                    <a:lnTo>
                      <a:pt x="94" y="30"/>
                    </a:lnTo>
                    <a:lnTo>
                      <a:pt x="101" y="36"/>
                    </a:lnTo>
                    <a:lnTo>
                      <a:pt x="105" y="43"/>
                    </a:lnTo>
                    <a:lnTo>
                      <a:pt x="110" y="51"/>
                    </a:lnTo>
                    <a:lnTo>
                      <a:pt x="112" y="59"/>
                    </a:lnTo>
                    <a:lnTo>
                      <a:pt x="113" y="68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6880" y="39243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13" h="112">
                    <a:moveTo>
                      <a:pt x="113" y="56"/>
                    </a:moveTo>
                    <a:lnTo>
                      <a:pt x="112" y="44"/>
                    </a:lnTo>
                    <a:lnTo>
                      <a:pt x="108" y="34"/>
                    </a:lnTo>
                    <a:lnTo>
                      <a:pt x="104" y="24"/>
                    </a:lnTo>
                    <a:lnTo>
                      <a:pt x="97" y="16"/>
                    </a:lnTo>
                    <a:lnTo>
                      <a:pt x="88" y="9"/>
                    </a:lnTo>
                    <a:lnTo>
                      <a:pt x="78" y="4"/>
                    </a:lnTo>
                    <a:lnTo>
                      <a:pt x="68" y="1"/>
                    </a:lnTo>
                    <a:lnTo>
                      <a:pt x="56" y="0"/>
                    </a:lnTo>
                    <a:lnTo>
                      <a:pt x="45" y="1"/>
                    </a:lnTo>
                    <a:lnTo>
                      <a:pt x="35" y="4"/>
                    </a:lnTo>
                    <a:lnTo>
                      <a:pt x="24" y="9"/>
                    </a:lnTo>
                    <a:lnTo>
                      <a:pt x="16" y="16"/>
                    </a:lnTo>
                    <a:lnTo>
                      <a:pt x="9" y="24"/>
                    </a:lnTo>
                    <a:lnTo>
                      <a:pt x="3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1" y="68"/>
                    </a:lnTo>
                    <a:lnTo>
                      <a:pt x="2" y="73"/>
                    </a:lnTo>
                    <a:lnTo>
                      <a:pt x="3" y="78"/>
                    </a:lnTo>
                    <a:lnTo>
                      <a:pt x="9" y="87"/>
                    </a:lnTo>
                    <a:lnTo>
                      <a:pt x="16" y="96"/>
                    </a:lnTo>
                    <a:lnTo>
                      <a:pt x="24" y="103"/>
                    </a:lnTo>
                    <a:lnTo>
                      <a:pt x="35" y="108"/>
                    </a:lnTo>
                    <a:lnTo>
                      <a:pt x="39" y="110"/>
                    </a:lnTo>
                    <a:lnTo>
                      <a:pt x="45" y="111"/>
                    </a:lnTo>
                    <a:lnTo>
                      <a:pt x="51" y="112"/>
                    </a:lnTo>
                    <a:lnTo>
                      <a:pt x="56" y="112"/>
                    </a:lnTo>
                    <a:lnTo>
                      <a:pt x="68" y="111"/>
                    </a:lnTo>
                    <a:lnTo>
                      <a:pt x="78" y="108"/>
                    </a:lnTo>
                    <a:lnTo>
                      <a:pt x="88" y="103"/>
                    </a:lnTo>
                    <a:lnTo>
                      <a:pt x="97" y="96"/>
                    </a:lnTo>
                    <a:lnTo>
                      <a:pt x="104" y="87"/>
                    </a:lnTo>
                    <a:lnTo>
                      <a:pt x="108" y="78"/>
                    </a:lnTo>
                    <a:lnTo>
                      <a:pt x="112" y="68"/>
                    </a:lnTo>
                    <a:lnTo>
                      <a:pt x="113" y="56"/>
                    </a:lnTo>
                    <a:close/>
                    <a:moveTo>
                      <a:pt x="90" y="56"/>
                    </a:moveTo>
                    <a:lnTo>
                      <a:pt x="90" y="63"/>
                    </a:lnTo>
                    <a:lnTo>
                      <a:pt x="88" y="69"/>
                    </a:lnTo>
                    <a:lnTo>
                      <a:pt x="84" y="74"/>
                    </a:lnTo>
                    <a:lnTo>
                      <a:pt x="81" y="80"/>
                    </a:lnTo>
                    <a:lnTo>
                      <a:pt x="75" y="84"/>
                    </a:lnTo>
                    <a:lnTo>
                      <a:pt x="69" y="87"/>
                    </a:lnTo>
                    <a:lnTo>
                      <a:pt x="63" y="89"/>
                    </a:lnTo>
                    <a:lnTo>
                      <a:pt x="56" y="89"/>
                    </a:lnTo>
                    <a:lnTo>
                      <a:pt x="50" y="89"/>
                    </a:lnTo>
                    <a:lnTo>
                      <a:pt x="43" y="87"/>
                    </a:lnTo>
                    <a:lnTo>
                      <a:pt x="37" y="84"/>
                    </a:lnTo>
                    <a:lnTo>
                      <a:pt x="32" y="80"/>
                    </a:lnTo>
                    <a:lnTo>
                      <a:pt x="28" y="74"/>
                    </a:lnTo>
                    <a:lnTo>
                      <a:pt x="25" y="69"/>
                    </a:lnTo>
                    <a:lnTo>
                      <a:pt x="23" y="63"/>
                    </a:lnTo>
                    <a:lnTo>
                      <a:pt x="22" y="56"/>
                    </a:lnTo>
                    <a:lnTo>
                      <a:pt x="23" y="49"/>
                    </a:lnTo>
                    <a:lnTo>
                      <a:pt x="25" y="42"/>
                    </a:lnTo>
                    <a:lnTo>
                      <a:pt x="28" y="36"/>
                    </a:lnTo>
                    <a:lnTo>
                      <a:pt x="32" y="32"/>
                    </a:lnTo>
                    <a:lnTo>
                      <a:pt x="37" y="27"/>
                    </a:lnTo>
                    <a:lnTo>
                      <a:pt x="43" y="25"/>
                    </a:lnTo>
                    <a:lnTo>
                      <a:pt x="50" y="23"/>
                    </a:lnTo>
                    <a:lnTo>
                      <a:pt x="56" y="21"/>
                    </a:lnTo>
                    <a:lnTo>
                      <a:pt x="63" y="23"/>
                    </a:lnTo>
                    <a:lnTo>
                      <a:pt x="69" y="25"/>
                    </a:lnTo>
                    <a:lnTo>
                      <a:pt x="75" y="27"/>
                    </a:lnTo>
                    <a:lnTo>
                      <a:pt x="81" y="32"/>
                    </a:lnTo>
                    <a:lnTo>
                      <a:pt x="84" y="36"/>
                    </a:lnTo>
                    <a:lnTo>
                      <a:pt x="88" y="42"/>
                    </a:lnTo>
                    <a:lnTo>
                      <a:pt x="90" y="49"/>
                    </a:lnTo>
                    <a:lnTo>
                      <a:pt x="90" y="5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80120" y="3925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91" y="46"/>
                    </a:moveTo>
                    <a:lnTo>
                      <a:pt x="90" y="37"/>
                    </a:lnTo>
                    <a:lnTo>
                      <a:pt x="88" y="29"/>
                    </a:lnTo>
                    <a:lnTo>
                      <a:pt x="83" y="21"/>
                    </a:lnTo>
                    <a:lnTo>
                      <a:pt x="79" y="14"/>
                    </a:lnTo>
                    <a:lnTo>
                      <a:pt x="72" y="8"/>
                    </a:lnTo>
                    <a:lnTo>
                      <a:pt x="64" y="5"/>
                    </a:lnTo>
                    <a:lnTo>
                      <a:pt x="56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8" y="5"/>
                    </a:lnTo>
                    <a:lnTo>
                      <a:pt x="21" y="8"/>
                    </a:lnTo>
                    <a:lnTo>
                      <a:pt x="14" y="14"/>
                    </a:lnTo>
                    <a:lnTo>
                      <a:pt x="8" y="21"/>
                    </a:lnTo>
                    <a:lnTo>
                      <a:pt x="5" y="29"/>
                    </a:lnTo>
                    <a:lnTo>
                      <a:pt x="1" y="37"/>
                    </a:lnTo>
                    <a:lnTo>
                      <a:pt x="0" y="46"/>
                    </a:lnTo>
                    <a:lnTo>
                      <a:pt x="1" y="55"/>
                    </a:lnTo>
                    <a:lnTo>
                      <a:pt x="5" y="63"/>
                    </a:lnTo>
                    <a:lnTo>
                      <a:pt x="8" y="71"/>
                    </a:lnTo>
                    <a:lnTo>
                      <a:pt x="14" y="78"/>
                    </a:lnTo>
                    <a:lnTo>
                      <a:pt x="21" y="83"/>
                    </a:lnTo>
                    <a:lnTo>
                      <a:pt x="28" y="88"/>
                    </a:lnTo>
                    <a:lnTo>
                      <a:pt x="37" y="90"/>
                    </a:lnTo>
                    <a:lnTo>
                      <a:pt x="46" y="91"/>
                    </a:lnTo>
                    <a:lnTo>
                      <a:pt x="56" y="90"/>
                    </a:lnTo>
                    <a:lnTo>
                      <a:pt x="64" y="88"/>
                    </a:lnTo>
                    <a:lnTo>
                      <a:pt x="72" y="83"/>
                    </a:lnTo>
                    <a:lnTo>
                      <a:pt x="79" y="78"/>
                    </a:lnTo>
                    <a:lnTo>
                      <a:pt x="83" y="71"/>
                    </a:lnTo>
                    <a:lnTo>
                      <a:pt x="88" y="63"/>
                    </a:lnTo>
                    <a:lnTo>
                      <a:pt x="90" y="55"/>
                    </a:lnTo>
                    <a:lnTo>
                      <a:pt x="91" y="46"/>
                    </a:lnTo>
                    <a:close/>
                    <a:moveTo>
                      <a:pt x="68" y="46"/>
                    </a:moveTo>
                    <a:lnTo>
                      <a:pt x="68" y="51"/>
                    </a:lnTo>
                    <a:lnTo>
                      <a:pt x="67" y="54"/>
                    </a:lnTo>
                    <a:lnTo>
                      <a:pt x="65" y="59"/>
                    </a:lnTo>
                    <a:lnTo>
                      <a:pt x="63" y="62"/>
                    </a:lnTo>
                    <a:lnTo>
                      <a:pt x="59" y="64"/>
                    </a:lnTo>
                    <a:lnTo>
                      <a:pt x="55" y="67"/>
                    </a:lnTo>
                    <a:lnTo>
                      <a:pt x="51" y="68"/>
                    </a:lnTo>
                    <a:lnTo>
                      <a:pt x="46" y="68"/>
                    </a:lnTo>
                    <a:lnTo>
                      <a:pt x="42" y="68"/>
                    </a:lnTo>
                    <a:lnTo>
                      <a:pt x="37" y="67"/>
                    </a:lnTo>
                    <a:lnTo>
                      <a:pt x="34" y="64"/>
                    </a:lnTo>
                    <a:lnTo>
                      <a:pt x="30" y="62"/>
                    </a:lnTo>
                    <a:lnTo>
                      <a:pt x="27" y="59"/>
                    </a:lnTo>
                    <a:lnTo>
                      <a:pt x="26" y="54"/>
                    </a:lnTo>
                    <a:lnTo>
                      <a:pt x="25" y="51"/>
                    </a:lnTo>
                    <a:lnTo>
                      <a:pt x="23" y="46"/>
                    </a:lnTo>
                    <a:lnTo>
                      <a:pt x="25" y="41"/>
                    </a:lnTo>
                    <a:lnTo>
                      <a:pt x="26" y="37"/>
                    </a:lnTo>
                    <a:lnTo>
                      <a:pt x="27" y="33"/>
                    </a:lnTo>
                    <a:lnTo>
                      <a:pt x="30" y="30"/>
                    </a:lnTo>
                    <a:lnTo>
                      <a:pt x="34" y="28"/>
                    </a:lnTo>
                    <a:lnTo>
                      <a:pt x="37" y="25"/>
                    </a:lnTo>
                    <a:lnTo>
                      <a:pt x="42" y="24"/>
                    </a:lnTo>
                    <a:lnTo>
                      <a:pt x="46" y="23"/>
                    </a:lnTo>
                    <a:lnTo>
                      <a:pt x="51" y="24"/>
                    </a:lnTo>
                    <a:lnTo>
                      <a:pt x="55" y="25"/>
                    </a:lnTo>
                    <a:lnTo>
                      <a:pt x="59" y="28"/>
                    </a:lnTo>
                    <a:lnTo>
                      <a:pt x="63" y="30"/>
                    </a:lnTo>
                    <a:lnTo>
                      <a:pt x="65" y="33"/>
                    </a:lnTo>
                    <a:lnTo>
                      <a:pt x="67" y="37"/>
                    </a:lnTo>
                    <a:lnTo>
                      <a:pt x="68" y="41"/>
                    </a:lnTo>
                    <a:lnTo>
                      <a:pt x="68" y="4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83360" y="39290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5"/>
                    </a:moveTo>
                    <a:lnTo>
                      <a:pt x="68" y="28"/>
                    </a:lnTo>
                    <a:lnTo>
                      <a:pt x="66" y="21"/>
                    </a:lnTo>
                    <a:lnTo>
                      <a:pt x="62" y="15"/>
                    </a:lnTo>
                    <a:lnTo>
                      <a:pt x="59" y="11"/>
                    </a:lnTo>
                    <a:lnTo>
                      <a:pt x="53" y="6"/>
                    </a:lnTo>
                    <a:lnTo>
                      <a:pt x="47" y="4"/>
                    </a:lnTo>
                    <a:lnTo>
                      <a:pt x="41" y="2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10" y="11"/>
                    </a:lnTo>
                    <a:lnTo>
                      <a:pt x="6" y="15"/>
                    </a:lnTo>
                    <a:lnTo>
                      <a:pt x="3" y="21"/>
                    </a:lnTo>
                    <a:lnTo>
                      <a:pt x="1" y="28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3"/>
                    </a:lnTo>
                    <a:lnTo>
                      <a:pt x="10" y="59"/>
                    </a:lnTo>
                    <a:lnTo>
                      <a:pt x="15" y="63"/>
                    </a:lnTo>
                    <a:lnTo>
                      <a:pt x="21" y="66"/>
                    </a:lnTo>
                    <a:lnTo>
                      <a:pt x="28" y="68"/>
                    </a:lnTo>
                    <a:lnTo>
                      <a:pt x="34" y="68"/>
                    </a:lnTo>
                    <a:lnTo>
                      <a:pt x="41" y="68"/>
                    </a:lnTo>
                    <a:lnTo>
                      <a:pt x="47" y="66"/>
                    </a:lnTo>
                    <a:lnTo>
                      <a:pt x="53" y="63"/>
                    </a:lnTo>
                    <a:lnTo>
                      <a:pt x="59" y="59"/>
                    </a:lnTo>
                    <a:lnTo>
                      <a:pt x="62" y="53"/>
                    </a:lnTo>
                    <a:lnTo>
                      <a:pt x="66" y="48"/>
                    </a:lnTo>
                    <a:lnTo>
                      <a:pt x="68" y="42"/>
                    </a:lnTo>
                    <a:lnTo>
                      <a:pt x="68" y="35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186600" y="39322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8"/>
                    </a:lnTo>
                    <a:lnTo>
                      <a:pt x="44" y="14"/>
                    </a:lnTo>
                    <a:lnTo>
                      <a:pt x="42" y="10"/>
                    </a:lnTo>
                    <a:lnTo>
                      <a:pt x="40" y="7"/>
                    </a:lnTo>
                    <a:lnTo>
                      <a:pt x="36" y="5"/>
                    </a:lnTo>
                    <a:lnTo>
                      <a:pt x="32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2" y="18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3" y="31"/>
                    </a:lnTo>
                    <a:lnTo>
                      <a:pt x="4" y="36"/>
                    </a:lnTo>
                    <a:lnTo>
                      <a:pt x="7" y="39"/>
                    </a:lnTo>
                    <a:lnTo>
                      <a:pt x="11" y="41"/>
                    </a:lnTo>
                    <a:lnTo>
                      <a:pt x="14" y="44"/>
                    </a:lnTo>
                    <a:lnTo>
                      <a:pt x="19" y="45"/>
                    </a:lnTo>
                    <a:lnTo>
                      <a:pt x="23" y="45"/>
                    </a:lnTo>
                    <a:lnTo>
                      <a:pt x="28" y="45"/>
                    </a:lnTo>
                    <a:lnTo>
                      <a:pt x="32" y="44"/>
                    </a:lnTo>
                    <a:lnTo>
                      <a:pt x="36" y="41"/>
                    </a:lnTo>
                    <a:lnTo>
                      <a:pt x="40" y="39"/>
                    </a:lnTo>
                    <a:lnTo>
                      <a:pt x="42" y="36"/>
                    </a:lnTo>
                    <a:lnTo>
                      <a:pt x="44" y="31"/>
                    </a:lnTo>
                    <a:lnTo>
                      <a:pt x="45" y="28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189840" y="39355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12"/>
                    </a:moveTo>
                    <a:lnTo>
                      <a:pt x="22" y="10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4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7" y="21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67440" y="3643200"/>
                <a:ext cx="527040" cy="800280"/>
              </a:xfrm>
              <a:custGeom>
                <a:avLst/>
                <a:gdLst/>
                <a:ahLst/>
                <a:rect l="l" t="t" r="r" b="b"/>
                <a:pathLst>
                  <a:path w="1991" h="3027">
                    <a:moveTo>
                      <a:pt x="1762" y="2950"/>
                    </a:moveTo>
                    <a:lnTo>
                      <a:pt x="1799" y="2985"/>
                    </a:lnTo>
                    <a:lnTo>
                      <a:pt x="1836" y="2985"/>
                    </a:lnTo>
                    <a:lnTo>
                      <a:pt x="1836" y="3027"/>
                    </a:lnTo>
                    <a:lnTo>
                      <a:pt x="1876" y="3027"/>
                    </a:lnTo>
                    <a:lnTo>
                      <a:pt x="1913" y="3027"/>
                    </a:lnTo>
                    <a:lnTo>
                      <a:pt x="1954" y="3027"/>
                    </a:lnTo>
                    <a:lnTo>
                      <a:pt x="1991" y="2985"/>
                    </a:lnTo>
                    <a:lnTo>
                      <a:pt x="1991" y="2950"/>
                    </a:lnTo>
                    <a:lnTo>
                      <a:pt x="1954" y="2913"/>
                    </a:lnTo>
                    <a:lnTo>
                      <a:pt x="1954" y="2872"/>
                    </a:lnTo>
                    <a:lnTo>
                      <a:pt x="1954" y="2836"/>
                    </a:lnTo>
                    <a:lnTo>
                      <a:pt x="1913" y="2758"/>
                    </a:lnTo>
                    <a:lnTo>
                      <a:pt x="1913" y="2718"/>
                    </a:lnTo>
                    <a:lnTo>
                      <a:pt x="1876" y="2644"/>
                    </a:lnTo>
                    <a:lnTo>
                      <a:pt x="1836" y="2604"/>
                    </a:lnTo>
                    <a:lnTo>
                      <a:pt x="1836" y="2567"/>
                    </a:lnTo>
                    <a:lnTo>
                      <a:pt x="1799" y="2490"/>
                    </a:lnTo>
                    <a:lnTo>
                      <a:pt x="1762" y="2453"/>
                    </a:lnTo>
                    <a:lnTo>
                      <a:pt x="1722" y="2413"/>
                    </a:lnTo>
                    <a:lnTo>
                      <a:pt x="1685" y="2335"/>
                    </a:lnTo>
                    <a:lnTo>
                      <a:pt x="1645" y="2298"/>
                    </a:lnTo>
                    <a:lnTo>
                      <a:pt x="1608" y="2221"/>
                    </a:lnTo>
                    <a:lnTo>
                      <a:pt x="1530" y="2144"/>
                    </a:lnTo>
                    <a:lnTo>
                      <a:pt x="1494" y="2107"/>
                    </a:lnTo>
                    <a:lnTo>
                      <a:pt x="1453" y="2030"/>
                    </a:lnTo>
                    <a:lnTo>
                      <a:pt x="1416" y="1993"/>
                    </a:lnTo>
                    <a:lnTo>
                      <a:pt x="1302" y="1838"/>
                    </a:lnTo>
                    <a:lnTo>
                      <a:pt x="1225" y="1724"/>
                    </a:lnTo>
                    <a:lnTo>
                      <a:pt x="1148" y="1610"/>
                    </a:lnTo>
                    <a:lnTo>
                      <a:pt x="1070" y="1493"/>
                    </a:lnTo>
                    <a:lnTo>
                      <a:pt x="993" y="1379"/>
                    </a:lnTo>
                    <a:lnTo>
                      <a:pt x="920" y="1266"/>
                    </a:lnTo>
                    <a:lnTo>
                      <a:pt x="879" y="1151"/>
                    </a:lnTo>
                    <a:lnTo>
                      <a:pt x="801" y="1034"/>
                    </a:lnTo>
                    <a:lnTo>
                      <a:pt x="729" y="920"/>
                    </a:lnTo>
                    <a:lnTo>
                      <a:pt x="688" y="806"/>
                    </a:lnTo>
                    <a:lnTo>
                      <a:pt x="611" y="691"/>
                    </a:lnTo>
                    <a:lnTo>
                      <a:pt x="537" y="577"/>
                    </a:lnTo>
                    <a:lnTo>
                      <a:pt x="497" y="460"/>
                    </a:lnTo>
                    <a:lnTo>
                      <a:pt x="420" y="346"/>
                    </a:lnTo>
                    <a:lnTo>
                      <a:pt x="342" y="268"/>
                    </a:lnTo>
                    <a:lnTo>
                      <a:pt x="269" y="154"/>
                    </a:lnTo>
                    <a:lnTo>
                      <a:pt x="191" y="40"/>
                    </a:lnTo>
                    <a:lnTo>
                      <a:pt x="151" y="40"/>
                    </a:lnTo>
                    <a:lnTo>
                      <a:pt x="151" y="0"/>
                    </a:lnTo>
                    <a:lnTo>
                      <a:pt x="114" y="0"/>
                    </a:lnTo>
                    <a:lnTo>
                      <a:pt x="77" y="0"/>
                    </a:lnTo>
                    <a:lnTo>
                      <a:pt x="37" y="77"/>
                    </a:lnTo>
                    <a:lnTo>
                      <a:pt x="0" y="154"/>
                    </a:lnTo>
                    <a:lnTo>
                      <a:pt x="37" y="268"/>
                    </a:lnTo>
                    <a:lnTo>
                      <a:pt x="37" y="386"/>
                    </a:lnTo>
                    <a:lnTo>
                      <a:pt x="77" y="500"/>
                    </a:lnTo>
                    <a:lnTo>
                      <a:pt x="114" y="614"/>
                    </a:lnTo>
                    <a:lnTo>
                      <a:pt x="151" y="769"/>
                    </a:lnTo>
                    <a:lnTo>
                      <a:pt x="191" y="883"/>
                    </a:lnTo>
                    <a:lnTo>
                      <a:pt x="228" y="997"/>
                    </a:lnTo>
                    <a:lnTo>
                      <a:pt x="306" y="1111"/>
                    </a:lnTo>
                    <a:lnTo>
                      <a:pt x="383" y="1229"/>
                    </a:lnTo>
                    <a:lnTo>
                      <a:pt x="420" y="1343"/>
                    </a:lnTo>
                    <a:lnTo>
                      <a:pt x="460" y="1420"/>
                    </a:lnTo>
                    <a:lnTo>
                      <a:pt x="497" y="1456"/>
                    </a:lnTo>
                    <a:lnTo>
                      <a:pt x="537" y="1533"/>
                    </a:lnTo>
                    <a:lnTo>
                      <a:pt x="574" y="1570"/>
                    </a:lnTo>
                    <a:lnTo>
                      <a:pt x="611" y="1647"/>
                    </a:lnTo>
                    <a:lnTo>
                      <a:pt x="652" y="1684"/>
                    </a:lnTo>
                    <a:lnTo>
                      <a:pt x="688" y="1761"/>
                    </a:lnTo>
                    <a:lnTo>
                      <a:pt x="729" y="1802"/>
                    </a:lnTo>
                    <a:lnTo>
                      <a:pt x="766" y="1875"/>
                    </a:lnTo>
                    <a:lnTo>
                      <a:pt x="801" y="1916"/>
                    </a:lnTo>
                    <a:lnTo>
                      <a:pt x="879" y="1993"/>
                    </a:lnTo>
                    <a:lnTo>
                      <a:pt x="920" y="2030"/>
                    </a:lnTo>
                    <a:lnTo>
                      <a:pt x="956" y="2107"/>
                    </a:lnTo>
                    <a:lnTo>
                      <a:pt x="993" y="2144"/>
                    </a:lnTo>
                    <a:lnTo>
                      <a:pt x="1033" y="2184"/>
                    </a:lnTo>
                    <a:lnTo>
                      <a:pt x="1070" y="2262"/>
                    </a:lnTo>
                    <a:lnTo>
                      <a:pt x="1111" y="2298"/>
                    </a:lnTo>
                    <a:lnTo>
                      <a:pt x="1184" y="2376"/>
                    </a:lnTo>
                    <a:lnTo>
                      <a:pt x="1225" y="2413"/>
                    </a:lnTo>
                    <a:lnTo>
                      <a:pt x="1262" y="2490"/>
                    </a:lnTo>
                    <a:lnTo>
                      <a:pt x="1339" y="2527"/>
                    </a:lnTo>
                    <a:lnTo>
                      <a:pt x="1379" y="2604"/>
                    </a:lnTo>
                    <a:lnTo>
                      <a:pt x="1416" y="2644"/>
                    </a:lnTo>
                    <a:lnTo>
                      <a:pt x="1494" y="2718"/>
                    </a:lnTo>
                    <a:lnTo>
                      <a:pt x="1530" y="2758"/>
                    </a:lnTo>
                    <a:lnTo>
                      <a:pt x="1571" y="27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78000" y="4392720"/>
                <a:ext cx="385920" cy="233280"/>
              </a:xfrm>
              <a:custGeom>
                <a:avLst/>
                <a:gdLst/>
                <a:ahLst/>
                <a:rect l="l" t="t" r="r" b="b"/>
                <a:pathLst>
                  <a:path w="1457" h="878">
                    <a:moveTo>
                      <a:pt x="0" y="878"/>
                    </a:moveTo>
                    <a:lnTo>
                      <a:pt x="40" y="801"/>
                    </a:lnTo>
                    <a:lnTo>
                      <a:pt x="113" y="724"/>
                    </a:lnTo>
                    <a:lnTo>
                      <a:pt x="190" y="687"/>
                    </a:lnTo>
                    <a:lnTo>
                      <a:pt x="268" y="609"/>
                    </a:lnTo>
                    <a:lnTo>
                      <a:pt x="345" y="532"/>
                    </a:lnTo>
                    <a:lnTo>
                      <a:pt x="459" y="458"/>
                    </a:lnTo>
                    <a:lnTo>
                      <a:pt x="536" y="381"/>
                    </a:lnTo>
                    <a:lnTo>
                      <a:pt x="651" y="304"/>
                    </a:lnTo>
                    <a:lnTo>
                      <a:pt x="728" y="227"/>
                    </a:lnTo>
                    <a:lnTo>
                      <a:pt x="842" y="191"/>
                    </a:lnTo>
                    <a:lnTo>
                      <a:pt x="956" y="114"/>
                    </a:lnTo>
                    <a:lnTo>
                      <a:pt x="1034" y="77"/>
                    </a:lnTo>
                    <a:lnTo>
                      <a:pt x="1148" y="36"/>
                    </a:lnTo>
                    <a:lnTo>
                      <a:pt x="1265" y="0"/>
                    </a:lnTo>
                    <a:lnTo>
                      <a:pt x="1380" y="0"/>
                    </a:lnTo>
                    <a:lnTo>
                      <a:pt x="14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108240" y="4494240"/>
                <a:ext cx="436680" cy="201600"/>
              </a:xfrm>
              <a:custGeom>
                <a:avLst/>
                <a:gdLst/>
                <a:ahLst/>
                <a:rect l="l" t="t" r="r" b="b"/>
                <a:pathLst>
                  <a:path w="1649" h="766">
                    <a:moveTo>
                      <a:pt x="0" y="766"/>
                    </a:moveTo>
                    <a:lnTo>
                      <a:pt x="77" y="688"/>
                    </a:lnTo>
                    <a:lnTo>
                      <a:pt x="155" y="611"/>
                    </a:lnTo>
                    <a:lnTo>
                      <a:pt x="232" y="574"/>
                    </a:lnTo>
                    <a:lnTo>
                      <a:pt x="346" y="497"/>
                    </a:lnTo>
                    <a:lnTo>
                      <a:pt x="423" y="460"/>
                    </a:lnTo>
                    <a:lnTo>
                      <a:pt x="538" y="383"/>
                    </a:lnTo>
                    <a:lnTo>
                      <a:pt x="615" y="343"/>
                    </a:lnTo>
                    <a:lnTo>
                      <a:pt x="729" y="306"/>
                    </a:lnTo>
                    <a:lnTo>
                      <a:pt x="843" y="269"/>
                    </a:lnTo>
                    <a:lnTo>
                      <a:pt x="961" y="228"/>
                    </a:lnTo>
                    <a:lnTo>
                      <a:pt x="1075" y="192"/>
                    </a:lnTo>
                    <a:lnTo>
                      <a:pt x="1189" y="151"/>
                    </a:lnTo>
                    <a:lnTo>
                      <a:pt x="1303" y="114"/>
                    </a:lnTo>
                    <a:lnTo>
                      <a:pt x="1421" y="77"/>
                    </a:lnTo>
                    <a:lnTo>
                      <a:pt x="1535" y="37"/>
                    </a:lnTo>
                    <a:lnTo>
                      <a:pt x="16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67320" y="4940280"/>
                <a:ext cx="2119320" cy="566640"/>
              </a:xfrm>
              <a:custGeom>
                <a:avLst/>
                <a:gdLst/>
                <a:ahLst/>
                <a:rect l="l" t="t" r="r" b="b"/>
                <a:pathLst>
                  <a:path w="8007" h="2144">
                    <a:moveTo>
                      <a:pt x="729" y="652"/>
                    </a:moveTo>
                    <a:lnTo>
                      <a:pt x="729" y="729"/>
                    </a:lnTo>
                    <a:lnTo>
                      <a:pt x="692" y="766"/>
                    </a:lnTo>
                    <a:lnTo>
                      <a:pt x="651" y="843"/>
                    </a:lnTo>
                    <a:lnTo>
                      <a:pt x="574" y="920"/>
                    </a:lnTo>
                    <a:lnTo>
                      <a:pt x="537" y="994"/>
                    </a:lnTo>
                    <a:lnTo>
                      <a:pt x="500" y="1071"/>
                    </a:lnTo>
                    <a:lnTo>
                      <a:pt x="423" y="1148"/>
                    </a:lnTo>
                    <a:lnTo>
                      <a:pt x="383" y="1226"/>
                    </a:lnTo>
                    <a:lnTo>
                      <a:pt x="346" y="1303"/>
                    </a:lnTo>
                    <a:lnTo>
                      <a:pt x="268" y="1380"/>
                    </a:lnTo>
                    <a:lnTo>
                      <a:pt x="232" y="1453"/>
                    </a:lnTo>
                    <a:lnTo>
                      <a:pt x="154" y="1530"/>
                    </a:lnTo>
                    <a:lnTo>
                      <a:pt x="117" y="1607"/>
                    </a:lnTo>
                    <a:lnTo>
                      <a:pt x="77" y="1644"/>
                    </a:lnTo>
                    <a:lnTo>
                      <a:pt x="40" y="1721"/>
                    </a:lnTo>
                    <a:lnTo>
                      <a:pt x="0" y="1799"/>
                    </a:lnTo>
                    <a:lnTo>
                      <a:pt x="40" y="1799"/>
                    </a:lnTo>
                    <a:lnTo>
                      <a:pt x="77" y="1799"/>
                    </a:lnTo>
                    <a:lnTo>
                      <a:pt x="117" y="1799"/>
                    </a:lnTo>
                    <a:lnTo>
                      <a:pt x="154" y="1799"/>
                    </a:lnTo>
                    <a:lnTo>
                      <a:pt x="232" y="1799"/>
                    </a:lnTo>
                    <a:lnTo>
                      <a:pt x="268" y="1799"/>
                    </a:lnTo>
                    <a:lnTo>
                      <a:pt x="309" y="1762"/>
                    </a:lnTo>
                    <a:lnTo>
                      <a:pt x="346" y="1762"/>
                    </a:lnTo>
                    <a:lnTo>
                      <a:pt x="383" y="1762"/>
                    </a:lnTo>
                    <a:lnTo>
                      <a:pt x="460" y="1762"/>
                    </a:lnTo>
                    <a:lnTo>
                      <a:pt x="500" y="1762"/>
                    </a:lnTo>
                    <a:lnTo>
                      <a:pt x="537" y="1762"/>
                    </a:lnTo>
                    <a:lnTo>
                      <a:pt x="574" y="1762"/>
                    </a:lnTo>
                    <a:lnTo>
                      <a:pt x="651" y="1762"/>
                    </a:lnTo>
                    <a:lnTo>
                      <a:pt x="692" y="1762"/>
                    </a:lnTo>
                    <a:lnTo>
                      <a:pt x="729" y="1762"/>
                    </a:lnTo>
                    <a:lnTo>
                      <a:pt x="843" y="1762"/>
                    </a:lnTo>
                    <a:lnTo>
                      <a:pt x="920" y="1799"/>
                    </a:lnTo>
                    <a:lnTo>
                      <a:pt x="1034" y="1799"/>
                    </a:lnTo>
                    <a:lnTo>
                      <a:pt x="1152" y="1799"/>
                    </a:lnTo>
                    <a:lnTo>
                      <a:pt x="1266" y="1799"/>
                    </a:lnTo>
                    <a:lnTo>
                      <a:pt x="1379" y="1799"/>
                    </a:lnTo>
                    <a:lnTo>
                      <a:pt x="1493" y="1799"/>
                    </a:lnTo>
                    <a:lnTo>
                      <a:pt x="1608" y="1799"/>
                    </a:lnTo>
                    <a:lnTo>
                      <a:pt x="1725" y="1799"/>
                    </a:lnTo>
                    <a:lnTo>
                      <a:pt x="1839" y="1799"/>
                    </a:lnTo>
                    <a:lnTo>
                      <a:pt x="1954" y="1799"/>
                    </a:lnTo>
                    <a:lnTo>
                      <a:pt x="2068" y="1799"/>
                    </a:lnTo>
                    <a:lnTo>
                      <a:pt x="2185" y="1799"/>
                    </a:lnTo>
                    <a:lnTo>
                      <a:pt x="2300" y="1836"/>
                    </a:lnTo>
                    <a:lnTo>
                      <a:pt x="2414" y="1836"/>
                    </a:lnTo>
                    <a:lnTo>
                      <a:pt x="2491" y="1836"/>
                    </a:lnTo>
                    <a:lnTo>
                      <a:pt x="2605" y="1876"/>
                    </a:lnTo>
                    <a:lnTo>
                      <a:pt x="2760" y="1876"/>
                    </a:lnTo>
                    <a:lnTo>
                      <a:pt x="2874" y="1913"/>
                    </a:lnTo>
                    <a:lnTo>
                      <a:pt x="3029" y="1913"/>
                    </a:lnTo>
                    <a:lnTo>
                      <a:pt x="3142" y="1913"/>
                    </a:lnTo>
                    <a:lnTo>
                      <a:pt x="3293" y="1876"/>
                    </a:lnTo>
                    <a:lnTo>
                      <a:pt x="3410" y="1876"/>
                    </a:lnTo>
                    <a:lnTo>
                      <a:pt x="3561" y="1876"/>
                    </a:lnTo>
                    <a:lnTo>
                      <a:pt x="3716" y="1876"/>
                    </a:lnTo>
                    <a:lnTo>
                      <a:pt x="3830" y="1836"/>
                    </a:lnTo>
                    <a:lnTo>
                      <a:pt x="3985" y="1836"/>
                    </a:lnTo>
                    <a:lnTo>
                      <a:pt x="4099" y="1836"/>
                    </a:lnTo>
                    <a:lnTo>
                      <a:pt x="4253" y="1836"/>
                    </a:lnTo>
                    <a:lnTo>
                      <a:pt x="4368" y="1836"/>
                    </a:lnTo>
                    <a:lnTo>
                      <a:pt x="4522" y="1836"/>
                    </a:lnTo>
                    <a:lnTo>
                      <a:pt x="4636" y="1876"/>
                    </a:lnTo>
                    <a:lnTo>
                      <a:pt x="4673" y="1876"/>
                    </a:lnTo>
                    <a:lnTo>
                      <a:pt x="4714" y="1876"/>
                    </a:lnTo>
                    <a:lnTo>
                      <a:pt x="4786" y="1876"/>
                    </a:lnTo>
                    <a:lnTo>
                      <a:pt x="4827" y="1876"/>
                    </a:lnTo>
                    <a:lnTo>
                      <a:pt x="4864" y="1876"/>
                    </a:lnTo>
                    <a:lnTo>
                      <a:pt x="4941" y="1876"/>
                    </a:lnTo>
                    <a:lnTo>
                      <a:pt x="4978" y="1876"/>
                    </a:lnTo>
                    <a:lnTo>
                      <a:pt x="5055" y="1876"/>
                    </a:lnTo>
                    <a:lnTo>
                      <a:pt x="5132" y="1876"/>
                    </a:lnTo>
                    <a:lnTo>
                      <a:pt x="5169" y="1876"/>
                    </a:lnTo>
                    <a:lnTo>
                      <a:pt x="5247" y="1876"/>
                    </a:lnTo>
                    <a:lnTo>
                      <a:pt x="5287" y="1876"/>
                    </a:lnTo>
                    <a:lnTo>
                      <a:pt x="5364" y="1876"/>
                    </a:lnTo>
                    <a:lnTo>
                      <a:pt x="5401" y="1876"/>
                    </a:lnTo>
                    <a:lnTo>
                      <a:pt x="5478" y="1876"/>
                    </a:lnTo>
                    <a:lnTo>
                      <a:pt x="5515" y="1876"/>
                    </a:lnTo>
                    <a:lnTo>
                      <a:pt x="6932" y="2104"/>
                    </a:lnTo>
                    <a:lnTo>
                      <a:pt x="6972" y="2104"/>
                    </a:lnTo>
                    <a:lnTo>
                      <a:pt x="7009" y="2104"/>
                    </a:lnTo>
                    <a:lnTo>
                      <a:pt x="7049" y="2104"/>
                    </a:lnTo>
                    <a:lnTo>
                      <a:pt x="7086" y="2104"/>
                    </a:lnTo>
                    <a:lnTo>
                      <a:pt x="7123" y="2104"/>
                    </a:lnTo>
                    <a:lnTo>
                      <a:pt x="7164" y="2104"/>
                    </a:lnTo>
                    <a:lnTo>
                      <a:pt x="7241" y="2144"/>
                    </a:lnTo>
                    <a:lnTo>
                      <a:pt x="7278" y="2144"/>
                    </a:lnTo>
                    <a:lnTo>
                      <a:pt x="7355" y="2144"/>
                    </a:lnTo>
                    <a:lnTo>
                      <a:pt x="7392" y="2144"/>
                    </a:lnTo>
                    <a:lnTo>
                      <a:pt x="7469" y="2144"/>
                    </a:lnTo>
                    <a:lnTo>
                      <a:pt x="7506" y="2144"/>
                    </a:lnTo>
                    <a:lnTo>
                      <a:pt x="7546" y="2104"/>
                    </a:lnTo>
                    <a:lnTo>
                      <a:pt x="7583" y="2104"/>
                    </a:lnTo>
                    <a:lnTo>
                      <a:pt x="7624" y="2104"/>
                    </a:lnTo>
                    <a:lnTo>
                      <a:pt x="7661" y="1913"/>
                    </a:lnTo>
                    <a:lnTo>
                      <a:pt x="7661" y="1685"/>
                    </a:lnTo>
                    <a:lnTo>
                      <a:pt x="7698" y="1453"/>
                    </a:lnTo>
                    <a:lnTo>
                      <a:pt x="7698" y="1263"/>
                    </a:lnTo>
                    <a:lnTo>
                      <a:pt x="7738" y="1148"/>
                    </a:lnTo>
                    <a:lnTo>
                      <a:pt x="7775" y="1034"/>
                    </a:lnTo>
                    <a:lnTo>
                      <a:pt x="7852" y="920"/>
                    </a:lnTo>
                    <a:lnTo>
                      <a:pt x="7892" y="766"/>
                    </a:lnTo>
                    <a:lnTo>
                      <a:pt x="7929" y="652"/>
                    </a:lnTo>
                    <a:lnTo>
                      <a:pt x="7966" y="497"/>
                    </a:lnTo>
                    <a:lnTo>
                      <a:pt x="8007" y="383"/>
                    </a:lnTo>
                    <a:lnTo>
                      <a:pt x="8007" y="269"/>
                    </a:lnTo>
                    <a:lnTo>
                      <a:pt x="7966" y="269"/>
                    </a:lnTo>
                    <a:lnTo>
                      <a:pt x="7929" y="269"/>
                    </a:lnTo>
                    <a:lnTo>
                      <a:pt x="7892" y="269"/>
                    </a:lnTo>
                    <a:lnTo>
                      <a:pt x="7852" y="229"/>
                    </a:lnTo>
                    <a:lnTo>
                      <a:pt x="7815" y="229"/>
                    </a:lnTo>
                    <a:lnTo>
                      <a:pt x="7775" y="229"/>
                    </a:lnTo>
                    <a:lnTo>
                      <a:pt x="7738" y="229"/>
                    </a:lnTo>
                    <a:lnTo>
                      <a:pt x="7698" y="229"/>
                    </a:lnTo>
                    <a:lnTo>
                      <a:pt x="7624" y="229"/>
                    </a:lnTo>
                    <a:lnTo>
                      <a:pt x="7506" y="229"/>
                    </a:lnTo>
                    <a:lnTo>
                      <a:pt x="7432" y="192"/>
                    </a:lnTo>
                    <a:lnTo>
                      <a:pt x="7355" y="192"/>
                    </a:lnTo>
                    <a:lnTo>
                      <a:pt x="7278" y="192"/>
                    </a:lnTo>
                    <a:lnTo>
                      <a:pt x="7164" y="192"/>
                    </a:lnTo>
                    <a:lnTo>
                      <a:pt x="7086" y="192"/>
                    </a:lnTo>
                    <a:lnTo>
                      <a:pt x="7009" y="192"/>
                    </a:lnTo>
                    <a:lnTo>
                      <a:pt x="6895" y="192"/>
                    </a:lnTo>
                    <a:lnTo>
                      <a:pt x="6818" y="192"/>
                    </a:lnTo>
                    <a:lnTo>
                      <a:pt x="6740" y="192"/>
                    </a:lnTo>
                    <a:lnTo>
                      <a:pt x="6626" y="229"/>
                    </a:lnTo>
                    <a:lnTo>
                      <a:pt x="6549" y="229"/>
                    </a:lnTo>
                    <a:lnTo>
                      <a:pt x="6471" y="229"/>
                    </a:lnTo>
                    <a:lnTo>
                      <a:pt x="6358" y="229"/>
                    </a:lnTo>
                    <a:lnTo>
                      <a:pt x="6281" y="229"/>
                    </a:lnTo>
                    <a:lnTo>
                      <a:pt x="6207" y="229"/>
                    </a:lnTo>
                    <a:lnTo>
                      <a:pt x="6090" y="229"/>
                    </a:lnTo>
                    <a:lnTo>
                      <a:pt x="6012" y="229"/>
                    </a:lnTo>
                    <a:lnTo>
                      <a:pt x="5939" y="229"/>
                    </a:lnTo>
                    <a:lnTo>
                      <a:pt x="5861" y="229"/>
                    </a:lnTo>
                    <a:lnTo>
                      <a:pt x="5747" y="229"/>
                    </a:lnTo>
                    <a:lnTo>
                      <a:pt x="5670" y="229"/>
                    </a:lnTo>
                    <a:lnTo>
                      <a:pt x="5593" y="229"/>
                    </a:lnTo>
                    <a:lnTo>
                      <a:pt x="5478" y="229"/>
                    </a:lnTo>
                    <a:lnTo>
                      <a:pt x="5401" y="229"/>
                    </a:lnTo>
                    <a:lnTo>
                      <a:pt x="5324" y="229"/>
                    </a:lnTo>
                    <a:lnTo>
                      <a:pt x="5247" y="229"/>
                    </a:lnTo>
                    <a:lnTo>
                      <a:pt x="5169" y="229"/>
                    </a:lnTo>
                    <a:lnTo>
                      <a:pt x="5055" y="229"/>
                    </a:lnTo>
                    <a:lnTo>
                      <a:pt x="4978" y="192"/>
                    </a:lnTo>
                    <a:lnTo>
                      <a:pt x="4904" y="192"/>
                    </a:lnTo>
                    <a:lnTo>
                      <a:pt x="4827" y="192"/>
                    </a:lnTo>
                    <a:lnTo>
                      <a:pt x="4751" y="151"/>
                    </a:lnTo>
                    <a:lnTo>
                      <a:pt x="4673" y="151"/>
                    </a:lnTo>
                    <a:lnTo>
                      <a:pt x="4559" y="151"/>
                    </a:lnTo>
                    <a:lnTo>
                      <a:pt x="4482" y="151"/>
                    </a:lnTo>
                    <a:lnTo>
                      <a:pt x="4405" y="114"/>
                    </a:lnTo>
                    <a:lnTo>
                      <a:pt x="4290" y="114"/>
                    </a:lnTo>
                    <a:lnTo>
                      <a:pt x="4213" y="114"/>
                    </a:lnTo>
                    <a:lnTo>
                      <a:pt x="4136" y="114"/>
                    </a:lnTo>
                    <a:lnTo>
                      <a:pt x="4022" y="114"/>
                    </a:lnTo>
                    <a:lnTo>
                      <a:pt x="3944" y="78"/>
                    </a:lnTo>
                    <a:lnTo>
                      <a:pt x="3871" y="78"/>
                    </a:lnTo>
                    <a:lnTo>
                      <a:pt x="3753" y="78"/>
                    </a:lnTo>
                    <a:lnTo>
                      <a:pt x="3679" y="78"/>
                    </a:lnTo>
                    <a:lnTo>
                      <a:pt x="3602" y="78"/>
                    </a:lnTo>
                    <a:lnTo>
                      <a:pt x="3525" y="78"/>
                    </a:lnTo>
                    <a:lnTo>
                      <a:pt x="3447" y="37"/>
                    </a:lnTo>
                    <a:lnTo>
                      <a:pt x="3410" y="37"/>
                    </a:lnTo>
                    <a:lnTo>
                      <a:pt x="3333" y="37"/>
                    </a:lnTo>
                    <a:lnTo>
                      <a:pt x="3256" y="37"/>
                    </a:lnTo>
                    <a:lnTo>
                      <a:pt x="3178" y="37"/>
                    </a:lnTo>
                    <a:lnTo>
                      <a:pt x="3101" y="37"/>
                    </a:lnTo>
                    <a:lnTo>
                      <a:pt x="3029" y="37"/>
                    </a:lnTo>
                    <a:lnTo>
                      <a:pt x="2951" y="0"/>
                    </a:lnTo>
                    <a:lnTo>
                      <a:pt x="2874" y="0"/>
                    </a:lnTo>
                    <a:lnTo>
                      <a:pt x="2797" y="0"/>
                    </a:lnTo>
                    <a:lnTo>
                      <a:pt x="2719" y="0"/>
                    </a:lnTo>
                    <a:lnTo>
                      <a:pt x="2642" y="0"/>
                    </a:lnTo>
                    <a:lnTo>
                      <a:pt x="2605" y="0"/>
                    </a:lnTo>
                    <a:lnTo>
                      <a:pt x="2528" y="37"/>
                    </a:lnTo>
                    <a:lnTo>
                      <a:pt x="2451" y="37"/>
                    </a:lnTo>
                    <a:lnTo>
                      <a:pt x="2414" y="37"/>
                    </a:lnTo>
                    <a:lnTo>
                      <a:pt x="2337" y="37"/>
                    </a:lnTo>
                    <a:lnTo>
                      <a:pt x="2259" y="37"/>
                    </a:lnTo>
                    <a:lnTo>
                      <a:pt x="2185" y="37"/>
                    </a:lnTo>
                    <a:lnTo>
                      <a:pt x="2108" y="37"/>
                    </a:lnTo>
                    <a:lnTo>
                      <a:pt x="2031" y="78"/>
                    </a:lnTo>
                    <a:lnTo>
                      <a:pt x="1954" y="78"/>
                    </a:lnTo>
                    <a:lnTo>
                      <a:pt x="1876" y="78"/>
                    </a:lnTo>
                    <a:lnTo>
                      <a:pt x="1799" y="78"/>
                    </a:lnTo>
                    <a:lnTo>
                      <a:pt x="1725" y="78"/>
                    </a:lnTo>
                    <a:lnTo>
                      <a:pt x="1648" y="78"/>
                    </a:lnTo>
                    <a:lnTo>
                      <a:pt x="1571" y="78"/>
                    </a:lnTo>
                    <a:lnTo>
                      <a:pt x="1493" y="78"/>
                    </a:lnTo>
                    <a:lnTo>
                      <a:pt x="1416" y="78"/>
                    </a:lnTo>
                    <a:lnTo>
                      <a:pt x="1343" y="114"/>
                    </a:lnTo>
                    <a:lnTo>
                      <a:pt x="1266" y="114"/>
                    </a:lnTo>
                    <a:lnTo>
                      <a:pt x="1189" y="114"/>
                    </a:lnTo>
                    <a:lnTo>
                      <a:pt x="1112" y="151"/>
                    </a:lnTo>
                    <a:lnTo>
                      <a:pt x="1034" y="192"/>
                    </a:lnTo>
                    <a:lnTo>
                      <a:pt x="957" y="269"/>
                    </a:lnTo>
                    <a:lnTo>
                      <a:pt x="920" y="343"/>
                    </a:lnTo>
                    <a:lnTo>
                      <a:pt x="883" y="420"/>
                    </a:lnTo>
                    <a:lnTo>
                      <a:pt x="843" y="497"/>
                    </a:lnTo>
                    <a:lnTo>
                      <a:pt x="766" y="574"/>
                    </a:lnTo>
                    <a:lnTo>
                      <a:pt x="729" y="652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567320" y="4940280"/>
                <a:ext cx="2119320" cy="566640"/>
              </a:xfrm>
              <a:custGeom>
                <a:avLst/>
                <a:gdLst/>
                <a:ahLst/>
                <a:rect l="l" t="t" r="r" b="b"/>
                <a:pathLst>
                  <a:path w="8007" h="2144">
                    <a:moveTo>
                      <a:pt x="729" y="652"/>
                    </a:moveTo>
                    <a:lnTo>
                      <a:pt x="729" y="729"/>
                    </a:lnTo>
                    <a:lnTo>
                      <a:pt x="692" y="766"/>
                    </a:lnTo>
                    <a:lnTo>
                      <a:pt x="651" y="843"/>
                    </a:lnTo>
                    <a:lnTo>
                      <a:pt x="574" y="920"/>
                    </a:lnTo>
                    <a:lnTo>
                      <a:pt x="537" y="994"/>
                    </a:lnTo>
                    <a:lnTo>
                      <a:pt x="500" y="1071"/>
                    </a:lnTo>
                    <a:lnTo>
                      <a:pt x="423" y="1148"/>
                    </a:lnTo>
                    <a:lnTo>
                      <a:pt x="383" y="1226"/>
                    </a:lnTo>
                    <a:lnTo>
                      <a:pt x="346" y="1303"/>
                    </a:lnTo>
                    <a:lnTo>
                      <a:pt x="268" y="1380"/>
                    </a:lnTo>
                    <a:lnTo>
                      <a:pt x="232" y="1453"/>
                    </a:lnTo>
                    <a:lnTo>
                      <a:pt x="154" y="1530"/>
                    </a:lnTo>
                    <a:lnTo>
                      <a:pt x="117" y="1607"/>
                    </a:lnTo>
                    <a:lnTo>
                      <a:pt x="77" y="1644"/>
                    </a:lnTo>
                    <a:lnTo>
                      <a:pt x="40" y="1721"/>
                    </a:lnTo>
                    <a:lnTo>
                      <a:pt x="0" y="1799"/>
                    </a:lnTo>
                    <a:lnTo>
                      <a:pt x="40" y="1799"/>
                    </a:lnTo>
                    <a:lnTo>
                      <a:pt x="77" y="1799"/>
                    </a:lnTo>
                    <a:lnTo>
                      <a:pt x="117" y="1799"/>
                    </a:lnTo>
                    <a:lnTo>
                      <a:pt x="154" y="1799"/>
                    </a:lnTo>
                    <a:lnTo>
                      <a:pt x="232" y="1799"/>
                    </a:lnTo>
                    <a:lnTo>
                      <a:pt x="268" y="1799"/>
                    </a:lnTo>
                    <a:lnTo>
                      <a:pt x="309" y="1762"/>
                    </a:lnTo>
                    <a:lnTo>
                      <a:pt x="346" y="1762"/>
                    </a:lnTo>
                    <a:lnTo>
                      <a:pt x="383" y="1762"/>
                    </a:lnTo>
                    <a:lnTo>
                      <a:pt x="460" y="1762"/>
                    </a:lnTo>
                    <a:lnTo>
                      <a:pt x="500" y="1762"/>
                    </a:lnTo>
                    <a:lnTo>
                      <a:pt x="537" y="1762"/>
                    </a:lnTo>
                    <a:lnTo>
                      <a:pt x="574" y="1762"/>
                    </a:lnTo>
                    <a:lnTo>
                      <a:pt x="651" y="1762"/>
                    </a:lnTo>
                    <a:lnTo>
                      <a:pt x="692" y="1762"/>
                    </a:lnTo>
                    <a:lnTo>
                      <a:pt x="729" y="1762"/>
                    </a:lnTo>
                    <a:lnTo>
                      <a:pt x="843" y="1762"/>
                    </a:lnTo>
                    <a:lnTo>
                      <a:pt x="920" y="1799"/>
                    </a:lnTo>
                    <a:lnTo>
                      <a:pt x="1034" y="1799"/>
                    </a:lnTo>
                    <a:lnTo>
                      <a:pt x="1152" y="1799"/>
                    </a:lnTo>
                    <a:lnTo>
                      <a:pt x="1266" y="1799"/>
                    </a:lnTo>
                    <a:lnTo>
                      <a:pt x="1379" y="1799"/>
                    </a:lnTo>
                    <a:lnTo>
                      <a:pt x="1493" y="1799"/>
                    </a:lnTo>
                    <a:lnTo>
                      <a:pt x="1608" y="1799"/>
                    </a:lnTo>
                    <a:lnTo>
                      <a:pt x="1725" y="1799"/>
                    </a:lnTo>
                    <a:lnTo>
                      <a:pt x="1839" y="1799"/>
                    </a:lnTo>
                    <a:lnTo>
                      <a:pt x="1954" y="1799"/>
                    </a:lnTo>
                    <a:lnTo>
                      <a:pt x="2068" y="1799"/>
                    </a:lnTo>
                    <a:lnTo>
                      <a:pt x="2185" y="1799"/>
                    </a:lnTo>
                    <a:lnTo>
                      <a:pt x="2300" y="1836"/>
                    </a:lnTo>
                    <a:lnTo>
                      <a:pt x="2414" y="1836"/>
                    </a:lnTo>
                    <a:lnTo>
                      <a:pt x="2491" y="1836"/>
                    </a:lnTo>
                    <a:lnTo>
                      <a:pt x="2605" y="1876"/>
                    </a:lnTo>
                    <a:lnTo>
                      <a:pt x="2760" y="1876"/>
                    </a:lnTo>
                    <a:lnTo>
                      <a:pt x="2874" y="1913"/>
                    </a:lnTo>
                    <a:lnTo>
                      <a:pt x="3029" y="1913"/>
                    </a:lnTo>
                    <a:lnTo>
                      <a:pt x="3142" y="1913"/>
                    </a:lnTo>
                    <a:lnTo>
                      <a:pt x="3293" y="1876"/>
                    </a:lnTo>
                    <a:lnTo>
                      <a:pt x="3410" y="1876"/>
                    </a:lnTo>
                    <a:lnTo>
                      <a:pt x="3561" y="1876"/>
                    </a:lnTo>
                    <a:lnTo>
                      <a:pt x="3716" y="1876"/>
                    </a:lnTo>
                    <a:lnTo>
                      <a:pt x="3830" y="1836"/>
                    </a:lnTo>
                    <a:lnTo>
                      <a:pt x="3985" y="1836"/>
                    </a:lnTo>
                    <a:lnTo>
                      <a:pt x="4099" y="1836"/>
                    </a:lnTo>
                    <a:lnTo>
                      <a:pt x="4253" y="1836"/>
                    </a:lnTo>
                    <a:lnTo>
                      <a:pt x="4368" y="1836"/>
                    </a:lnTo>
                    <a:lnTo>
                      <a:pt x="4522" y="1836"/>
                    </a:lnTo>
                    <a:lnTo>
                      <a:pt x="4636" y="1876"/>
                    </a:lnTo>
                    <a:lnTo>
                      <a:pt x="4673" y="1876"/>
                    </a:lnTo>
                    <a:lnTo>
                      <a:pt x="4714" y="1876"/>
                    </a:lnTo>
                    <a:lnTo>
                      <a:pt x="4786" y="1876"/>
                    </a:lnTo>
                    <a:lnTo>
                      <a:pt x="4827" y="1876"/>
                    </a:lnTo>
                    <a:lnTo>
                      <a:pt x="4864" y="1876"/>
                    </a:lnTo>
                    <a:lnTo>
                      <a:pt x="4941" y="1876"/>
                    </a:lnTo>
                    <a:lnTo>
                      <a:pt x="4978" y="1876"/>
                    </a:lnTo>
                    <a:lnTo>
                      <a:pt x="5055" y="1876"/>
                    </a:lnTo>
                    <a:lnTo>
                      <a:pt x="5132" y="1876"/>
                    </a:lnTo>
                    <a:lnTo>
                      <a:pt x="5169" y="1876"/>
                    </a:lnTo>
                    <a:lnTo>
                      <a:pt x="5247" y="1876"/>
                    </a:lnTo>
                    <a:lnTo>
                      <a:pt x="5287" y="1876"/>
                    </a:lnTo>
                    <a:lnTo>
                      <a:pt x="5364" y="1876"/>
                    </a:lnTo>
                    <a:lnTo>
                      <a:pt x="5401" y="1876"/>
                    </a:lnTo>
                    <a:lnTo>
                      <a:pt x="5478" y="1876"/>
                    </a:lnTo>
                    <a:lnTo>
                      <a:pt x="5515" y="1876"/>
                    </a:lnTo>
                    <a:lnTo>
                      <a:pt x="6932" y="2104"/>
                    </a:lnTo>
                    <a:lnTo>
                      <a:pt x="6972" y="2104"/>
                    </a:lnTo>
                    <a:lnTo>
                      <a:pt x="7009" y="2104"/>
                    </a:lnTo>
                    <a:lnTo>
                      <a:pt x="7049" y="2104"/>
                    </a:lnTo>
                    <a:lnTo>
                      <a:pt x="7086" y="2104"/>
                    </a:lnTo>
                    <a:lnTo>
                      <a:pt x="7123" y="2104"/>
                    </a:lnTo>
                    <a:lnTo>
                      <a:pt x="7164" y="2104"/>
                    </a:lnTo>
                    <a:lnTo>
                      <a:pt x="7241" y="2144"/>
                    </a:lnTo>
                    <a:lnTo>
                      <a:pt x="7278" y="2144"/>
                    </a:lnTo>
                    <a:lnTo>
                      <a:pt x="7355" y="2144"/>
                    </a:lnTo>
                    <a:lnTo>
                      <a:pt x="7392" y="2144"/>
                    </a:lnTo>
                    <a:lnTo>
                      <a:pt x="7469" y="2144"/>
                    </a:lnTo>
                    <a:lnTo>
                      <a:pt x="7506" y="2144"/>
                    </a:lnTo>
                    <a:lnTo>
                      <a:pt x="7546" y="2104"/>
                    </a:lnTo>
                    <a:lnTo>
                      <a:pt x="7583" y="2104"/>
                    </a:lnTo>
                    <a:lnTo>
                      <a:pt x="7624" y="2104"/>
                    </a:lnTo>
                    <a:lnTo>
                      <a:pt x="7661" y="1913"/>
                    </a:lnTo>
                    <a:lnTo>
                      <a:pt x="7661" y="1685"/>
                    </a:lnTo>
                    <a:lnTo>
                      <a:pt x="7698" y="1453"/>
                    </a:lnTo>
                    <a:lnTo>
                      <a:pt x="7698" y="1263"/>
                    </a:lnTo>
                    <a:lnTo>
                      <a:pt x="7738" y="1148"/>
                    </a:lnTo>
                    <a:lnTo>
                      <a:pt x="7775" y="1034"/>
                    </a:lnTo>
                    <a:lnTo>
                      <a:pt x="7852" y="920"/>
                    </a:lnTo>
                    <a:lnTo>
                      <a:pt x="7892" y="766"/>
                    </a:lnTo>
                    <a:lnTo>
                      <a:pt x="7929" y="652"/>
                    </a:lnTo>
                    <a:lnTo>
                      <a:pt x="7966" y="497"/>
                    </a:lnTo>
                    <a:lnTo>
                      <a:pt x="8007" y="383"/>
                    </a:lnTo>
                    <a:lnTo>
                      <a:pt x="8007" y="269"/>
                    </a:lnTo>
                    <a:lnTo>
                      <a:pt x="7966" y="269"/>
                    </a:lnTo>
                    <a:lnTo>
                      <a:pt x="7929" y="269"/>
                    </a:lnTo>
                    <a:lnTo>
                      <a:pt x="7892" y="269"/>
                    </a:lnTo>
                    <a:lnTo>
                      <a:pt x="7852" y="229"/>
                    </a:lnTo>
                    <a:lnTo>
                      <a:pt x="7815" y="229"/>
                    </a:lnTo>
                    <a:lnTo>
                      <a:pt x="7775" y="229"/>
                    </a:lnTo>
                    <a:lnTo>
                      <a:pt x="7738" y="229"/>
                    </a:lnTo>
                    <a:lnTo>
                      <a:pt x="7698" y="229"/>
                    </a:lnTo>
                    <a:lnTo>
                      <a:pt x="7624" y="229"/>
                    </a:lnTo>
                    <a:lnTo>
                      <a:pt x="7506" y="229"/>
                    </a:lnTo>
                    <a:lnTo>
                      <a:pt x="7432" y="192"/>
                    </a:lnTo>
                    <a:lnTo>
                      <a:pt x="7355" y="192"/>
                    </a:lnTo>
                    <a:lnTo>
                      <a:pt x="7278" y="192"/>
                    </a:lnTo>
                    <a:lnTo>
                      <a:pt x="7164" y="192"/>
                    </a:lnTo>
                    <a:lnTo>
                      <a:pt x="7086" y="192"/>
                    </a:lnTo>
                    <a:lnTo>
                      <a:pt x="7009" y="192"/>
                    </a:lnTo>
                    <a:lnTo>
                      <a:pt x="6895" y="192"/>
                    </a:lnTo>
                    <a:lnTo>
                      <a:pt x="6818" y="192"/>
                    </a:lnTo>
                    <a:lnTo>
                      <a:pt x="6740" y="192"/>
                    </a:lnTo>
                    <a:lnTo>
                      <a:pt x="6626" y="229"/>
                    </a:lnTo>
                    <a:lnTo>
                      <a:pt x="6549" y="229"/>
                    </a:lnTo>
                    <a:lnTo>
                      <a:pt x="6471" y="229"/>
                    </a:lnTo>
                    <a:lnTo>
                      <a:pt x="6358" y="229"/>
                    </a:lnTo>
                    <a:lnTo>
                      <a:pt x="6281" y="229"/>
                    </a:lnTo>
                    <a:lnTo>
                      <a:pt x="6207" y="229"/>
                    </a:lnTo>
                    <a:lnTo>
                      <a:pt x="6090" y="229"/>
                    </a:lnTo>
                    <a:lnTo>
                      <a:pt x="6012" y="229"/>
                    </a:lnTo>
                    <a:lnTo>
                      <a:pt x="5939" y="229"/>
                    </a:lnTo>
                    <a:lnTo>
                      <a:pt x="5861" y="229"/>
                    </a:lnTo>
                    <a:lnTo>
                      <a:pt x="5747" y="229"/>
                    </a:lnTo>
                    <a:lnTo>
                      <a:pt x="5670" y="229"/>
                    </a:lnTo>
                    <a:lnTo>
                      <a:pt x="5593" y="229"/>
                    </a:lnTo>
                    <a:lnTo>
                      <a:pt x="5478" y="229"/>
                    </a:lnTo>
                    <a:lnTo>
                      <a:pt x="5401" y="229"/>
                    </a:lnTo>
                    <a:lnTo>
                      <a:pt x="5324" y="229"/>
                    </a:lnTo>
                    <a:lnTo>
                      <a:pt x="5247" y="229"/>
                    </a:lnTo>
                    <a:lnTo>
                      <a:pt x="5169" y="229"/>
                    </a:lnTo>
                    <a:lnTo>
                      <a:pt x="5055" y="229"/>
                    </a:lnTo>
                    <a:lnTo>
                      <a:pt x="4978" y="192"/>
                    </a:lnTo>
                    <a:lnTo>
                      <a:pt x="4904" y="192"/>
                    </a:lnTo>
                    <a:lnTo>
                      <a:pt x="4827" y="192"/>
                    </a:lnTo>
                    <a:lnTo>
                      <a:pt x="4751" y="151"/>
                    </a:lnTo>
                    <a:lnTo>
                      <a:pt x="4673" y="151"/>
                    </a:lnTo>
                    <a:lnTo>
                      <a:pt x="4559" y="151"/>
                    </a:lnTo>
                    <a:lnTo>
                      <a:pt x="4482" y="151"/>
                    </a:lnTo>
                    <a:lnTo>
                      <a:pt x="4405" y="114"/>
                    </a:lnTo>
                    <a:lnTo>
                      <a:pt x="4290" y="114"/>
                    </a:lnTo>
                    <a:lnTo>
                      <a:pt x="4213" y="114"/>
                    </a:lnTo>
                    <a:lnTo>
                      <a:pt x="4136" y="114"/>
                    </a:lnTo>
                    <a:lnTo>
                      <a:pt x="4022" y="114"/>
                    </a:lnTo>
                    <a:lnTo>
                      <a:pt x="3944" y="78"/>
                    </a:lnTo>
                    <a:lnTo>
                      <a:pt x="3871" y="78"/>
                    </a:lnTo>
                    <a:lnTo>
                      <a:pt x="3753" y="78"/>
                    </a:lnTo>
                    <a:lnTo>
                      <a:pt x="3679" y="78"/>
                    </a:lnTo>
                    <a:lnTo>
                      <a:pt x="3602" y="78"/>
                    </a:lnTo>
                    <a:lnTo>
                      <a:pt x="3525" y="78"/>
                    </a:lnTo>
                    <a:lnTo>
                      <a:pt x="3447" y="37"/>
                    </a:lnTo>
                    <a:lnTo>
                      <a:pt x="3410" y="37"/>
                    </a:lnTo>
                    <a:lnTo>
                      <a:pt x="3333" y="37"/>
                    </a:lnTo>
                    <a:lnTo>
                      <a:pt x="3256" y="37"/>
                    </a:lnTo>
                    <a:lnTo>
                      <a:pt x="3178" y="37"/>
                    </a:lnTo>
                    <a:lnTo>
                      <a:pt x="3101" y="37"/>
                    </a:lnTo>
                    <a:lnTo>
                      <a:pt x="3029" y="37"/>
                    </a:lnTo>
                    <a:lnTo>
                      <a:pt x="2951" y="0"/>
                    </a:lnTo>
                    <a:lnTo>
                      <a:pt x="2874" y="0"/>
                    </a:lnTo>
                    <a:lnTo>
                      <a:pt x="2797" y="0"/>
                    </a:lnTo>
                    <a:lnTo>
                      <a:pt x="2719" y="0"/>
                    </a:lnTo>
                    <a:lnTo>
                      <a:pt x="2642" y="0"/>
                    </a:lnTo>
                    <a:lnTo>
                      <a:pt x="2605" y="0"/>
                    </a:lnTo>
                    <a:lnTo>
                      <a:pt x="2528" y="37"/>
                    </a:lnTo>
                    <a:lnTo>
                      <a:pt x="2451" y="37"/>
                    </a:lnTo>
                    <a:lnTo>
                      <a:pt x="2414" y="37"/>
                    </a:lnTo>
                    <a:lnTo>
                      <a:pt x="2337" y="37"/>
                    </a:lnTo>
                    <a:lnTo>
                      <a:pt x="2259" y="37"/>
                    </a:lnTo>
                    <a:lnTo>
                      <a:pt x="2185" y="37"/>
                    </a:lnTo>
                    <a:lnTo>
                      <a:pt x="2108" y="37"/>
                    </a:lnTo>
                    <a:lnTo>
                      <a:pt x="2031" y="78"/>
                    </a:lnTo>
                    <a:lnTo>
                      <a:pt x="1954" y="78"/>
                    </a:lnTo>
                    <a:lnTo>
                      <a:pt x="1876" y="78"/>
                    </a:lnTo>
                    <a:lnTo>
                      <a:pt x="1799" y="78"/>
                    </a:lnTo>
                    <a:lnTo>
                      <a:pt x="1725" y="78"/>
                    </a:lnTo>
                    <a:lnTo>
                      <a:pt x="1648" y="78"/>
                    </a:lnTo>
                    <a:lnTo>
                      <a:pt x="1571" y="78"/>
                    </a:lnTo>
                    <a:lnTo>
                      <a:pt x="1493" y="78"/>
                    </a:lnTo>
                    <a:lnTo>
                      <a:pt x="1416" y="78"/>
                    </a:lnTo>
                    <a:lnTo>
                      <a:pt x="1343" y="114"/>
                    </a:lnTo>
                    <a:lnTo>
                      <a:pt x="1266" y="114"/>
                    </a:lnTo>
                    <a:lnTo>
                      <a:pt x="1189" y="114"/>
                    </a:lnTo>
                    <a:lnTo>
                      <a:pt x="1112" y="151"/>
                    </a:lnTo>
                    <a:lnTo>
                      <a:pt x="1034" y="192"/>
                    </a:lnTo>
                    <a:lnTo>
                      <a:pt x="957" y="269"/>
                    </a:lnTo>
                    <a:lnTo>
                      <a:pt x="920" y="343"/>
                    </a:lnTo>
                    <a:lnTo>
                      <a:pt x="883" y="420"/>
                    </a:lnTo>
                    <a:lnTo>
                      <a:pt x="843" y="497"/>
                    </a:lnTo>
                    <a:lnTo>
                      <a:pt x="766" y="574"/>
                    </a:lnTo>
                    <a:lnTo>
                      <a:pt x="729" y="6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911840" y="5010120"/>
                <a:ext cx="1428480" cy="344520"/>
              </a:xfrm>
              <a:custGeom>
                <a:avLst/>
                <a:gdLst/>
                <a:ahLst/>
                <a:rect l="l" t="t" r="r" b="b"/>
                <a:pathLst>
                  <a:path w="5401" h="1303">
                    <a:moveTo>
                      <a:pt x="1149" y="0"/>
                    </a:moveTo>
                    <a:lnTo>
                      <a:pt x="1266" y="0"/>
                    </a:lnTo>
                    <a:lnTo>
                      <a:pt x="1381" y="0"/>
                    </a:lnTo>
                    <a:lnTo>
                      <a:pt x="1458" y="0"/>
                    </a:lnTo>
                    <a:lnTo>
                      <a:pt x="1572" y="0"/>
                    </a:lnTo>
                    <a:lnTo>
                      <a:pt x="1685" y="0"/>
                    </a:lnTo>
                    <a:lnTo>
                      <a:pt x="1799" y="37"/>
                    </a:lnTo>
                    <a:lnTo>
                      <a:pt x="1917" y="37"/>
                    </a:lnTo>
                    <a:lnTo>
                      <a:pt x="2031" y="37"/>
                    </a:lnTo>
                    <a:lnTo>
                      <a:pt x="2145" y="37"/>
                    </a:lnTo>
                    <a:lnTo>
                      <a:pt x="2259" y="37"/>
                    </a:lnTo>
                    <a:lnTo>
                      <a:pt x="2377" y="37"/>
                    </a:lnTo>
                    <a:lnTo>
                      <a:pt x="2491" y="37"/>
                    </a:lnTo>
                    <a:lnTo>
                      <a:pt x="2605" y="37"/>
                    </a:lnTo>
                    <a:lnTo>
                      <a:pt x="2720" y="37"/>
                    </a:lnTo>
                    <a:lnTo>
                      <a:pt x="2834" y="74"/>
                    </a:lnTo>
                    <a:lnTo>
                      <a:pt x="2951" y="74"/>
                    </a:lnTo>
                    <a:lnTo>
                      <a:pt x="3066" y="74"/>
                    </a:lnTo>
                    <a:lnTo>
                      <a:pt x="3180" y="74"/>
                    </a:lnTo>
                    <a:lnTo>
                      <a:pt x="3294" y="74"/>
                    </a:lnTo>
                    <a:lnTo>
                      <a:pt x="3412" y="74"/>
                    </a:lnTo>
                    <a:lnTo>
                      <a:pt x="3525" y="74"/>
                    </a:lnTo>
                    <a:lnTo>
                      <a:pt x="3639" y="74"/>
                    </a:lnTo>
                    <a:lnTo>
                      <a:pt x="3753" y="74"/>
                    </a:lnTo>
                    <a:lnTo>
                      <a:pt x="3867" y="114"/>
                    </a:lnTo>
                    <a:lnTo>
                      <a:pt x="3985" y="114"/>
                    </a:lnTo>
                    <a:lnTo>
                      <a:pt x="4099" y="114"/>
                    </a:lnTo>
                    <a:lnTo>
                      <a:pt x="4213" y="114"/>
                    </a:lnTo>
                    <a:lnTo>
                      <a:pt x="4327" y="114"/>
                    </a:lnTo>
                    <a:lnTo>
                      <a:pt x="4445" y="114"/>
                    </a:lnTo>
                    <a:lnTo>
                      <a:pt x="4559" y="114"/>
                    </a:lnTo>
                    <a:lnTo>
                      <a:pt x="4674" y="114"/>
                    </a:lnTo>
                    <a:lnTo>
                      <a:pt x="4788" y="151"/>
                    </a:lnTo>
                    <a:lnTo>
                      <a:pt x="4865" y="151"/>
                    </a:lnTo>
                    <a:lnTo>
                      <a:pt x="4905" y="151"/>
                    </a:lnTo>
                    <a:lnTo>
                      <a:pt x="4979" y="151"/>
                    </a:lnTo>
                    <a:lnTo>
                      <a:pt x="5056" y="191"/>
                    </a:lnTo>
                    <a:lnTo>
                      <a:pt x="5097" y="191"/>
                    </a:lnTo>
                    <a:lnTo>
                      <a:pt x="5169" y="228"/>
                    </a:lnTo>
                    <a:lnTo>
                      <a:pt x="5211" y="228"/>
                    </a:lnTo>
                    <a:lnTo>
                      <a:pt x="5247" y="269"/>
                    </a:lnTo>
                    <a:lnTo>
                      <a:pt x="5288" y="305"/>
                    </a:lnTo>
                    <a:lnTo>
                      <a:pt x="5324" y="342"/>
                    </a:lnTo>
                    <a:lnTo>
                      <a:pt x="5361" y="383"/>
                    </a:lnTo>
                    <a:lnTo>
                      <a:pt x="5361" y="420"/>
                    </a:lnTo>
                    <a:lnTo>
                      <a:pt x="5401" y="460"/>
                    </a:lnTo>
                    <a:lnTo>
                      <a:pt x="5401" y="497"/>
                    </a:lnTo>
                    <a:lnTo>
                      <a:pt x="5401" y="534"/>
                    </a:lnTo>
                    <a:lnTo>
                      <a:pt x="5401" y="574"/>
                    </a:lnTo>
                    <a:lnTo>
                      <a:pt x="5401" y="611"/>
                    </a:lnTo>
                    <a:lnTo>
                      <a:pt x="5361" y="651"/>
                    </a:lnTo>
                    <a:lnTo>
                      <a:pt x="5361" y="688"/>
                    </a:lnTo>
                    <a:lnTo>
                      <a:pt x="5361" y="725"/>
                    </a:lnTo>
                    <a:lnTo>
                      <a:pt x="5361" y="765"/>
                    </a:lnTo>
                    <a:lnTo>
                      <a:pt x="5324" y="802"/>
                    </a:lnTo>
                    <a:lnTo>
                      <a:pt x="5324" y="843"/>
                    </a:lnTo>
                    <a:lnTo>
                      <a:pt x="5324" y="879"/>
                    </a:lnTo>
                    <a:lnTo>
                      <a:pt x="5324" y="916"/>
                    </a:lnTo>
                    <a:lnTo>
                      <a:pt x="5288" y="957"/>
                    </a:lnTo>
                    <a:lnTo>
                      <a:pt x="5247" y="994"/>
                    </a:lnTo>
                    <a:lnTo>
                      <a:pt x="5247" y="1034"/>
                    </a:lnTo>
                    <a:lnTo>
                      <a:pt x="5169" y="1071"/>
                    </a:lnTo>
                    <a:lnTo>
                      <a:pt x="5134" y="1111"/>
                    </a:lnTo>
                    <a:lnTo>
                      <a:pt x="5097" y="1148"/>
                    </a:lnTo>
                    <a:lnTo>
                      <a:pt x="5056" y="1184"/>
                    </a:lnTo>
                    <a:lnTo>
                      <a:pt x="4979" y="1225"/>
                    </a:lnTo>
                    <a:lnTo>
                      <a:pt x="4905" y="1225"/>
                    </a:lnTo>
                    <a:lnTo>
                      <a:pt x="4828" y="1261"/>
                    </a:lnTo>
                    <a:lnTo>
                      <a:pt x="4788" y="1261"/>
                    </a:lnTo>
                    <a:lnTo>
                      <a:pt x="4710" y="1303"/>
                    </a:lnTo>
                    <a:lnTo>
                      <a:pt x="4637" y="1303"/>
                    </a:lnTo>
                    <a:lnTo>
                      <a:pt x="4559" y="1303"/>
                    </a:lnTo>
                    <a:lnTo>
                      <a:pt x="4482" y="1303"/>
                    </a:lnTo>
                    <a:lnTo>
                      <a:pt x="4327" y="1303"/>
                    </a:lnTo>
                    <a:lnTo>
                      <a:pt x="4213" y="1303"/>
                    </a:lnTo>
                    <a:lnTo>
                      <a:pt x="4099" y="1261"/>
                    </a:lnTo>
                    <a:lnTo>
                      <a:pt x="3985" y="1261"/>
                    </a:lnTo>
                    <a:lnTo>
                      <a:pt x="3830" y="1261"/>
                    </a:lnTo>
                    <a:lnTo>
                      <a:pt x="3716" y="1261"/>
                    </a:lnTo>
                    <a:lnTo>
                      <a:pt x="3602" y="1261"/>
                    </a:lnTo>
                    <a:lnTo>
                      <a:pt x="3484" y="1261"/>
                    </a:lnTo>
                    <a:lnTo>
                      <a:pt x="3334" y="1261"/>
                    </a:lnTo>
                    <a:lnTo>
                      <a:pt x="3220" y="1261"/>
                    </a:lnTo>
                    <a:lnTo>
                      <a:pt x="3103" y="1225"/>
                    </a:lnTo>
                    <a:lnTo>
                      <a:pt x="2988" y="1225"/>
                    </a:lnTo>
                    <a:lnTo>
                      <a:pt x="2834" y="1225"/>
                    </a:lnTo>
                    <a:lnTo>
                      <a:pt x="2720" y="1225"/>
                    </a:lnTo>
                    <a:lnTo>
                      <a:pt x="2605" y="1225"/>
                    </a:lnTo>
                    <a:lnTo>
                      <a:pt x="2491" y="1225"/>
                    </a:lnTo>
                    <a:lnTo>
                      <a:pt x="2337" y="1225"/>
                    </a:lnTo>
                    <a:lnTo>
                      <a:pt x="2223" y="1184"/>
                    </a:lnTo>
                    <a:lnTo>
                      <a:pt x="2108" y="1184"/>
                    </a:lnTo>
                    <a:lnTo>
                      <a:pt x="1991" y="1184"/>
                    </a:lnTo>
                    <a:lnTo>
                      <a:pt x="1876" y="1184"/>
                    </a:lnTo>
                    <a:lnTo>
                      <a:pt x="1727" y="1184"/>
                    </a:lnTo>
                    <a:lnTo>
                      <a:pt x="1609" y="1184"/>
                    </a:lnTo>
                    <a:lnTo>
                      <a:pt x="1495" y="1184"/>
                    </a:lnTo>
                    <a:lnTo>
                      <a:pt x="1381" y="1184"/>
                    </a:lnTo>
                    <a:lnTo>
                      <a:pt x="1226" y="1148"/>
                    </a:lnTo>
                    <a:lnTo>
                      <a:pt x="1112" y="1148"/>
                    </a:lnTo>
                    <a:lnTo>
                      <a:pt x="998" y="1148"/>
                    </a:lnTo>
                    <a:lnTo>
                      <a:pt x="883" y="1148"/>
                    </a:lnTo>
                    <a:lnTo>
                      <a:pt x="766" y="1148"/>
                    </a:lnTo>
                    <a:lnTo>
                      <a:pt x="615" y="1148"/>
                    </a:lnTo>
                    <a:lnTo>
                      <a:pt x="497" y="1148"/>
                    </a:lnTo>
                    <a:lnTo>
                      <a:pt x="423" y="1111"/>
                    </a:lnTo>
                    <a:lnTo>
                      <a:pt x="383" y="1111"/>
                    </a:lnTo>
                    <a:lnTo>
                      <a:pt x="306" y="1111"/>
                    </a:lnTo>
                    <a:lnTo>
                      <a:pt x="232" y="1071"/>
                    </a:lnTo>
                    <a:lnTo>
                      <a:pt x="191" y="1071"/>
                    </a:lnTo>
                    <a:lnTo>
                      <a:pt x="154" y="1034"/>
                    </a:lnTo>
                    <a:lnTo>
                      <a:pt x="114" y="994"/>
                    </a:lnTo>
                    <a:lnTo>
                      <a:pt x="77" y="994"/>
                    </a:lnTo>
                    <a:lnTo>
                      <a:pt x="0" y="916"/>
                    </a:lnTo>
                    <a:lnTo>
                      <a:pt x="0" y="843"/>
                    </a:lnTo>
                    <a:lnTo>
                      <a:pt x="0" y="765"/>
                    </a:lnTo>
                    <a:lnTo>
                      <a:pt x="41" y="651"/>
                    </a:lnTo>
                    <a:lnTo>
                      <a:pt x="77" y="611"/>
                    </a:lnTo>
                    <a:lnTo>
                      <a:pt x="77" y="574"/>
                    </a:lnTo>
                    <a:lnTo>
                      <a:pt x="114" y="534"/>
                    </a:lnTo>
                    <a:lnTo>
                      <a:pt x="114" y="497"/>
                    </a:lnTo>
                    <a:lnTo>
                      <a:pt x="154" y="460"/>
                    </a:lnTo>
                    <a:lnTo>
                      <a:pt x="191" y="420"/>
                    </a:lnTo>
                    <a:lnTo>
                      <a:pt x="191" y="383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269" y="269"/>
                    </a:lnTo>
                    <a:lnTo>
                      <a:pt x="306" y="228"/>
                    </a:lnTo>
                    <a:lnTo>
                      <a:pt x="383" y="191"/>
                    </a:lnTo>
                    <a:lnTo>
                      <a:pt x="423" y="191"/>
                    </a:lnTo>
                    <a:lnTo>
                      <a:pt x="460" y="151"/>
                    </a:lnTo>
                    <a:lnTo>
                      <a:pt x="537" y="114"/>
                    </a:lnTo>
                    <a:lnTo>
                      <a:pt x="574" y="74"/>
                    </a:lnTo>
                    <a:lnTo>
                      <a:pt x="652" y="74"/>
                    </a:lnTo>
                    <a:lnTo>
                      <a:pt x="729" y="37"/>
                    </a:lnTo>
                    <a:lnTo>
                      <a:pt x="766" y="37"/>
                    </a:lnTo>
                    <a:lnTo>
                      <a:pt x="843" y="0"/>
                    </a:lnTo>
                    <a:lnTo>
                      <a:pt x="920" y="0"/>
                    </a:lnTo>
                    <a:lnTo>
                      <a:pt x="998" y="0"/>
                    </a:lnTo>
                    <a:lnTo>
                      <a:pt x="1075" y="0"/>
                    </a:lnTo>
                    <a:lnTo>
                      <a:pt x="1149" y="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911840" y="5010120"/>
                <a:ext cx="1428480" cy="344520"/>
              </a:xfrm>
              <a:custGeom>
                <a:avLst/>
                <a:gdLst/>
                <a:ahLst/>
                <a:rect l="l" t="t" r="r" b="b"/>
                <a:pathLst>
                  <a:path w="5401" h="1303">
                    <a:moveTo>
                      <a:pt x="1149" y="0"/>
                    </a:moveTo>
                    <a:lnTo>
                      <a:pt x="1266" y="0"/>
                    </a:lnTo>
                    <a:lnTo>
                      <a:pt x="1381" y="0"/>
                    </a:lnTo>
                    <a:lnTo>
                      <a:pt x="1458" y="0"/>
                    </a:lnTo>
                    <a:lnTo>
                      <a:pt x="1572" y="0"/>
                    </a:lnTo>
                    <a:lnTo>
                      <a:pt x="1685" y="0"/>
                    </a:lnTo>
                    <a:lnTo>
                      <a:pt x="1799" y="37"/>
                    </a:lnTo>
                    <a:lnTo>
                      <a:pt x="1917" y="37"/>
                    </a:lnTo>
                    <a:lnTo>
                      <a:pt x="2031" y="37"/>
                    </a:lnTo>
                    <a:lnTo>
                      <a:pt x="2145" y="37"/>
                    </a:lnTo>
                    <a:lnTo>
                      <a:pt x="2259" y="37"/>
                    </a:lnTo>
                    <a:lnTo>
                      <a:pt x="2377" y="37"/>
                    </a:lnTo>
                    <a:lnTo>
                      <a:pt x="2491" y="37"/>
                    </a:lnTo>
                    <a:lnTo>
                      <a:pt x="2605" y="37"/>
                    </a:lnTo>
                    <a:lnTo>
                      <a:pt x="2720" y="37"/>
                    </a:lnTo>
                    <a:lnTo>
                      <a:pt x="2834" y="74"/>
                    </a:lnTo>
                    <a:lnTo>
                      <a:pt x="2951" y="74"/>
                    </a:lnTo>
                    <a:lnTo>
                      <a:pt x="3066" y="74"/>
                    </a:lnTo>
                    <a:lnTo>
                      <a:pt x="3180" y="74"/>
                    </a:lnTo>
                    <a:lnTo>
                      <a:pt x="3294" y="74"/>
                    </a:lnTo>
                    <a:lnTo>
                      <a:pt x="3412" y="74"/>
                    </a:lnTo>
                    <a:lnTo>
                      <a:pt x="3525" y="74"/>
                    </a:lnTo>
                    <a:lnTo>
                      <a:pt x="3639" y="74"/>
                    </a:lnTo>
                    <a:lnTo>
                      <a:pt x="3753" y="74"/>
                    </a:lnTo>
                    <a:lnTo>
                      <a:pt x="3867" y="114"/>
                    </a:lnTo>
                    <a:lnTo>
                      <a:pt x="3985" y="114"/>
                    </a:lnTo>
                    <a:lnTo>
                      <a:pt x="4099" y="114"/>
                    </a:lnTo>
                    <a:lnTo>
                      <a:pt x="4213" y="114"/>
                    </a:lnTo>
                    <a:lnTo>
                      <a:pt x="4327" y="114"/>
                    </a:lnTo>
                    <a:lnTo>
                      <a:pt x="4445" y="114"/>
                    </a:lnTo>
                    <a:lnTo>
                      <a:pt x="4559" y="114"/>
                    </a:lnTo>
                    <a:lnTo>
                      <a:pt x="4674" y="114"/>
                    </a:lnTo>
                    <a:lnTo>
                      <a:pt x="4788" y="151"/>
                    </a:lnTo>
                    <a:lnTo>
                      <a:pt x="4865" y="151"/>
                    </a:lnTo>
                    <a:lnTo>
                      <a:pt x="4905" y="151"/>
                    </a:lnTo>
                    <a:lnTo>
                      <a:pt x="4979" y="151"/>
                    </a:lnTo>
                    <a:lnTo>
                      <a:pt x="5056" y="191"/>
                    </a:lnTo>
                    <a:lnTo>
                      <a:pt x="5097" y="191"/>
                    </a:lnTo>
                    <a:lnTo>
                      <a:pt x="5169" y="228"/>
                    </a:lnTo>
                    <a:lnTo>
                      <a:pt x="5211" y="228"/>
                    </a:lnTo>
                    <a:lnTo>
                      <a:pt x="5247" y="269"/>
                    </a:lnTo>
                    <a:lnTo>
                      <a:pt x="5288" y="305"/>
                    </a:lnTo>
                    <a:lnTo>
                      <a:pt x="5324" y="342"/>
                    </a:lnTo>
                    <a:lnTo>
                      <a:pt x="5361" y="383"/>
                    </a:lnTo>
                    <a:lnTo>
                      <a:pt x="5361" y="420"/>
                    </a:lnTo>
                    <a:lnTo>
                      <a:pt x="5401" y="460"/>
                    </a:lnTo>
                    <a:lnTo>
                      <a:pt x="5401" y="497"/>
                    </a:lnTo>
                    <a:lnTo>
                      <a:pt x="5401" y="534"/>
                    </a:lnTo>
                    <a:lnTo>
                      <a:pt x="5401" y="574"/>
                    </a:lnTo>
                    <a:lnTo>
                      <a:pt x="5401" y="611"/>
                    </a:lnTo>
                    <a:lnTo>
                      <a:pt x="5361" y="651"/>
                    </a:lnTo>
                    <a:lnTo>
                      <a:pt x="5361" y="688"/>
                    </a:lnTo>
                    <a:lnTo>
                      <a:pt x="5361" y="725"/>
                    </a:lnTo>
                    <a:lnTo>
                      <a:pt x="5361" y="765"/>
                    </a:lnTo>
                    <a:lnTo>
                      <a:pt x="5324" y="802"/>
                    </a:lnTo>
                    <a:lnTo>
                      <a:pt x="5324" y="843"/>
                    </a:lnTo>
                    <a:lnTo>
                      <a:pt x="5324" y="879"/>
                    </a:lnTo>
                    <a:lnTo>
                      <a:pt x="5324" y="916"/>
                    </a:lnTo>
                    <a:lnTo>
                      <a:pt x="5288" y="957"/>
                    </a:lnTo>
                    <a:lnTo>
                      <a:pt x="5247" y="994"/>
                    </a:lnTo>
                    <a:lnTo>
                      <a:pt x="5247" y="1034"/>
                    </a:lnTo>
                    <a:lnTo>
                      <a:pt x="5169" y="1071"/>
                    </a:lnTo>
                    <a:lnTo>
                      <a:pt x="5134" y="1111"/>
                    </a:lnTo>
                    <a:lnTo>
                      <a:pt x="5097" y="1148"/>
                    </a:lnTo>
                    <a:lnTo>
                      <a:pt x="5056" y="1184"/>
                    </a:lnTo>
                    <a:lnTo>
                      <a:pt x="4979" y="1225"/>
                    </a:lnTo>
                    <a:lnTo>
                      <a:pt x="4905" y="1225"/>
                    </a:lnTo>
                    <a:lnTo>
                      <a:pt x="4828" y="1261"/>
                    </a:lnTo>
                    <a:lnTo>
                      <a:pt x="4788" y="1261"/>
                    </a:lnTo>
                    <a:lnTo>
                      <a:pt x="4710" y="1303"/>
                    </a:lnTo>
                    <a:lnTo>
                      <a:pt x="4637" y="1303"/>
                    </a:lnTo>
                    <a:lnTo>
                      <a:pt x="4559" y="1303"/>
                    </a:lnTo>
                    <a:lnTo>
                      <a:pt x="4482" y="1303"/>
                    </a:lnTo>
                    <a:lnTo>
                      <a:pt x="4327" y="1303"/>
                    </a:lnTo>
                    <a:lnTo>
                      <a:pt x="4213" y="1303"/>
                    </a:lnTo>
                    <a:lnTo>
                      <a:pt x="4099" y="1261"/>
                    </a:lnTo>
                    <a:lnTo>
                      <a:pt x="3985" y="1261"/>
                    </a:lnTo>
                    <a:lnTo>
                      <a:pt x="3830" y="1261"/>
                    </a:lnTo>
                    <a:lnTo>
                      <a:pt x="3716" y="1261"/>
                    </a:lnTo>
                    <a:lnTo>
                      <a:pt x="3602" y="1261"/>
                    </a:lnTo>
                    <a:lnTo>
                      <a:pt x="3484" y="1261"/>
                    </a:lnTo>
                    <a:lnTo>
                      <a:pt x="3334" y="1261"/>
                    </a:lnTo>
                    <a:lnTo>
                      <a:pt x="3220" y="1261"/>
                    </a:lnTo>
                    <a:lnTo>
                      <a:pt x="3103" y="1225"/>
                    </a:lnTo>
                    <a:lnTo>
                      <a:pt x="2988" y="1225"/>
                    </a:lnTo>
                    <a:lnTo>
                      <a:pt x="2834" y="1225"/>
                    </a:lnTo>
                    <a:lnTo>
                      <a:pt x="2720" y="1225"/>
                    </a:lnTo>
                    <a:lnTo>
                      <a:pt x="2605" y="1225"/>
                    </a:lnTo>
                    <a:lnTo>
                      <a:pt x="2491" y="1225"/>
                    </a:lnTo>
                    <a:lnTo>
                      <a:pt x="2337" y="1225"/>
                    </a:lnTo>
                    <a:lnTo>
                      <a:pt x="2223" y="1184"/>
                    </a:lnTo>
                    <a:lnTo>
                      <a:pt x="2108" y="1184"/>
                    </a:lnTo>
                    <a:lnTo>
                      <a:pt x="1991" y="1184"/>
                    </a:lnTo>
                    <a:lnTo>
                      <a:pt x="1876" y="1184"/>
                    </a:lnTo>
                    <a:lnTo>
                      <a:pt x="1727" y="1184"/>
                    </a:lnTo>
                    <a:lnTo>
                      <a:pt x="1609" y="1184"/>
                    </a:lnTo>
                    <a:lnTo>
                      <a:pt x="1495" y="1184"/>
                    </a:lnTo>
                    <a:lnTo>
                      <a:pt x="1381" y="1184"/>
                    </a:lnTo>
                    <a:lnTo>
                      <a:pt x="1226" y="1148"/>
                    </a:lnTo>
                    <a:lnTo>
                      <a:pt x="1112" y="1148"/>
                    </a:lnTo>
                    <a:lnTo>
                      <a:pt x="998" y="1148"/>
                    </a:lnTo>
                    <a:lnTo>
                      <a:pt x="883" y="1148"/>
                    </a:lnTo>
                    <a:lnTo>
                      <a:pt x="766" y="1148"/>
                    </a:lnTo>
                    <a:lnTo>
                      <a:pt x="615" y="1148"/>
                    </a:lnTo>
                    <a:lnTo>
                      <a:pt x="497" y="1148"/>
                    </a:lnTo>
                    <a:lnTo>
                      <a:pt x="423" y="1111"/>
                    </a:lnTo>
                    <a:lnTo>
                      <a:pt x="383" y="1111"/>
                    </a:lnTo>
                    <a:lnTo>
                      <a:pt x="306" y="1111"/>
                    </a:lnTo>
                    <a:lnTo>
                      <a:pt x="232" y="1071"/>
                    </a:lnTo>
                    <a:lnTo>
                      <a:pt x="191" y="1071"/>
                    </a:lnTo>
                    <a:lnTo>
                      <a:pt x="154" y="1034"/>
                    </a:lnTo>
                    <a:lnTo>
                      <a:pt x="114" y="994"/>
                    </a:lnTo>
                    <a:lnTo>
                      <a:pt x="77" y="994"/>
                    </a:lnTo>
                    <a:lnTo>
                      <a:pt x="0" y="916"/>
                    </a:lnTo>
                    <a:lnTo>
                      <a:pt x="0" y="843"/>
                    </a:lnTo>
                    <a:lnTo>
                      <a:pt x="0" y="765"/>
                    </a:lnTo>
                    <a:lnTo>
                      <a:pt x="41" y="651"/>
                    </a:lnTo>
                    <a:lnTo>
                      <a:pt x="77" y="611"/>
                    </a:lnTo>
                    <a:lnTo>
                      <a:pt x="77" y="574"/>
                    </a:lnTo>
                    <a:lnTo>
                      <a:pt x="114" y="534"/>
                    </a:lnTo>
                    <a:lnTo>
                      <a:pt x="114" y="497"/>
                    </a:lnTo>
                    <a:lnTo>
                      <a:pt x="154" y="460"/>
                    </a:lnTo>
                    <a:lnTo>
                      <a:pt x="191" y="420"/>
                    </a:lnTo>
                    <a:lnTo>
                      <a:pt x="191" y="383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269" y="269"/>
                    </a:lnTo>
                    <a:lnTo>
                      <a:pt x="306" y="228"/>
                    </a:lnTo>
                    <a:lnTo>
                      <a:pt x="383" y="191"/>
                    </a:lnTo>
                    <a:lnTo>
                      <a:pt x="423" y="191"/>
                    </a:lnTo>
                    <a:lnTo>
                      <a:pt x="460" y="151"/>
                    </a:lnTo>
                    <a:lnTo>
                      <a:pt x="537" y="114"/>
                    </a:lnTo>
                    <a:lnTo>
                      <a:pt x="574" y="74"/>
                    </a:lnTo>
                    <a:lnTo>
                      <a:pt x="652" y="74"/>
                    </a:lnTo>
                    <a:lnTo>
                      <a:pt x="729" y="37"/>
                    </a:lnTo>
                    <a:lnTo>
                      <a:pt x="766" y="37"/>
                    </a:lnTo>
                    <a:lnTo>
                      <a:pt x="843" y="0"/>
                    </a:lnTo>
                    <a:lnTo>
                      <a:pt x="920" y="0"/>
                    </a:lnTo>
                    <a:lnTo>
                      <a:pt x="998" y="0"/>
                    </a:lnTo>
                    <a:lnTo>
                      <a:pt x="1075" y="0"/>
                    </a:lnTo>
                    <a:lnTo>
                      <a:pt x="11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32360" y="5162400"/>
                <a:ext cx="1407960" cy="192240"/>
              </a:xfrm>
              <a:custGeom>
                <a:avLst/>
                <a:gdLst/>
                <a:ahLst/>
                <a:rect l="l" t="t" r="r" b="b"/>
                <a:pathLst>
                  <a:path w="5324" h="729">
                    <a:moveTo>
                      <a:pt x="5324" y="0"/>
                    </a:moveTo>
                    <a:lnTo>
                      <a:pt x="5324" y="37"/>
                    </a:lnTo>
                    <a:lnTo>
                      <a:pt x="5284" y="77"/>
                    </a:lnTo>
                    <a:lnTo>
                      <a:pt x="5284" y="114"/>
                    </a:lnTo>
                    <a:lnTo>
                      <a:pt x="5284" y="151"/>
                    </a:lnTo>
                    <a:lnTo>
                      <a:pt x="5284" y="191"/>
                    </a:lnTo>
                    <a:lnTo>
                      <a:pt x="5247" y="228"/>
                    </a:lnTo>
                    <a:lnTo>
                      <a:pt x="5247" y="269"/>
                    </a:lnTo>
                    <a:lnTo>
                      <a:pt x="5247" y="305"/>
                    </a:lnTo>
                    <a:lnTo>
                      <a:pt x="5247" y="342"/>
                    </a:lnTo>
                    <a:lnTo>
                      <a:pt x="5211" y="383"/>
                    </a:lnTo>
                    <a:lnTo>
                      <a:pt x="5170" y="420"/>
                    </a:lnTo>
                    <a:lnTo>
                      <a:pt x="5170" y="497"/>
                    </a:lnTo>
                    <a:lnTo>
                      <a:pt x="5092" y="497"/>
                    </a:lnTo>
                    <a:lnTo>
                      <a:pt x="5057" y="537"/>
                    </a:lnTo>
                    <a:lnTo>
                      <a:pt x="5020" y="574"/>
                    </a:lnTo>
                    <a:lnTo>
                      <a:pt x="4979" y="610"/>
                    </a:lnTo>
                    <a:lnTo>
                      <a:pt x="4902" y="651"/>
                    </a:lnTo>
                    <a:lnTo>
                      <a:pt x="4828" y="651"/>
                    </a:lnTo>
                    <a:lnTo>
                      <a:pt x="4751" y="687"/>
                    </a:lnTo>
                    <a:lnTo>
                      <a:pt x="4711" y="687"/>
                    </a:lnTo>
                    <a:lnTo>
                      <a:pt x="4633" y="729"/>
                    </a:lnTo>
                    <a:lnTo>
                      <a:pt x="4560" y="729"/>
                    </a:lnTo>
                    <a:lnTo>
                      <a:pt x="4482" y="729"/>
                    </a:lnTo>
                    <a:lnTo>
                      <a:pt x="4405" y="729"/>
                    </a:lnTo>
                    <a:lnTo>
                      <a:pt x="4250" y="729"/>
                    </a:lnTo>
                    <a:lnTo>
                      <a:pt x="4136" y="729"/>
                    </a:lnTo>
                    <a:lnTo>
                      <a:pt x="4022" y="729"/>
                    </a:lnTo>
                    <a:lnTo>
                      <a:pt x="3908" y="687"/>
                    </a:lnTo>
                    <a:lnTo>
                      <a:pt x="3753" y="687"/>
                    </a:lnTo>
                    <a:lnTo>
                      <a:pt x="3639" y="687"/>
                    </a:lnTo>
                    <a:lnTo>
                      <a:pt x="3525" y="687"/>
                    </a:lnTo>
                    <a:lnTo>
                      <a:pt x="3407" y="687"/>
                    </a:lnTo>
                    <a:lnTo>
                      <a:pt x="3257" y="687"/>
                    </a:lnTo>
                    <a:lnTo>
                      <a:pt x="3143" y="687"/>
                    </a:lnTo>
                    <a:lnTo>
                      <a:pt x="3026" y="651"/>
                    </a:lnTo>
                    <a:lnTo>
                      <a:pt x="2911" y="651"/>
                    </a:lnTo>
                    <a:lnTo>
                      <a:pt x="2757" y="651"/>
                    </a:lnTo>
                    <a:lnTo>
                      <a:pt x="2643" y="651"/>
                    </a:lnTo>
                    <a:lnTo>
                      <a:pt x="2528" y="651"/>
                    </a:lnTo>
                    <a:lnTo>
                      <a:pt x="2414" y="651"/>
                    </a:lnTo>
                    <a:lnTo>
                      <a:pt x="2260" y="651"/>
                    </a:lnTo>
                    <a:lnTo>
                      <a:pt x="2146" y="610"/>
                    </a:lnTo>
                    <a:lnTo>
                      <a:pt x="2031" y="610"/>
                    </a:lnTo>
                    <a:lnTo>
                      <a:pt x="1914" y="610"/>
                    </a:lnTo>
                    <a:lnTo>
                      <a:pt x="1799" y="610"/>
                    </a:lnTo>
                    <a:lnTo>
                      <a:pt x="1650" y="610"/>
                    </a:lnTo>
                    <a:lnTo>
                      <a:pt x="1532" y="610"/>
                    </a:lnTo>
                    <a:lnTo>
                      <a:pt x="1418" y="610"/>
                    </a:lnTo>
                    <a:lnTo>
                      <a:pt x="1304" y="610"/>
                    </a:lnTo>
                    <a:lnTo>
                      <a:pt x="1149" y="574"/>
                    </a:lnTo>
                    <a:lnTo>
                      <a:pt x="1035" y="574"/>
                    </a:lnTo>
                    <a:lnTo>
                      <a:pt x="921" y="574"/>
                    </a:lnTo>
                    <a:lnTo>
                      <a:pt x="806" y="574"/>
                    </a:lnTo>
                    <a:lnTo>
                      <a:pt x="689" y="574"/>
                    </a:lnTo>
                    <a:lnTo>
                      <a:pt x="538" y="574"/>
                    </a:lnTo>
                    <a:lnTo>
                      <a:pt x="420" y="574"/>
                    </a:lnTo>
                    <a:lnTo>
                      <a:pt x="346" y="537"/>
                    </a:lnTo>
                    <a:lnTo>
                      <a:pt x="306" y="537"/>
                    </a:lnTo>
                    <a:lnTo>
                      <a:pt x="229" y="537"/>
                    </a:lnTo>
                    <a:lnTo>
                      <a:pt x="155" y="497"/>
                    </a:lnTo>
                    <a:lnTo>
                      <a:pt x="114" y="497"/>
                    </a:lnTo>
                    <a:lnTo>
                      <a:pt x="77" y="460"/>
                    </a:lnTo>
                    <a:lnTo>
                      <a:pt x="37" y="420"/>
                    </a:lnTo>
                    <a:lnTo>
                      <a:pt x="0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75280" y="5060880"/>
                <a:ext cx="1093680" cy="173160"/>
              </a:xfrm>
              <a:custGeom>
                <a:avLst/>
                <a:gdLst/>
                <a:ahLst/>
                <a:rect l="l" t="t" r="r" b="b"/>
                <a:pathLst>
                  <a:path w="4136" h="652">
                    <a:moveTo>
                      <a:pt x="228" y="0"/>
                    </a:moveTo>
                    <a:lnTo>
                      <a:pt x="191" y="37"/>
                    </a:lnTo>
                    <a:lnTo>
                      <a:pt x="114" y="78"/>
                    </a:lnTo>
                    <a:lnTo>
                      <a:pt x="77" y="114"/>
                    </a:lnTo>
                    <a:lnTo>
                      <a:pt x="37" y="151"/>
                    </a:lnTo>
                    <a:lnTo>
                      <a:pt x="0" y="192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0" y="306"/>
                    </a:lnTo>
                    <a:lnTo>
                      <a:pt x="0" y="343"/>
                    </a:lnTo>
                    <a:lnTo>
                      <a:pt x="37" y="383"/>
                    </a:lnTo>
                    <a:lnTo>
                      <a:pt x="77" y="420"/>
                    </a:lnTo>
                    <a:lnTo>
                      <a:pt x="114" y="420"/>
                    </a:lnTo>
                    <a:lnTo>
                      <a:pt x="151" y="460"/>
                    </a:lnTo>
                    <a:lnTo>
                      <a:pt x="191" y="460"/>
                    </a:lnTo>
                    <a:lnTo>
                      <a:pt x="228" y="460"/>
                    </a:lnTo>
                    <a:lnTo>
                      <a:pt x="268" y="497"/>
                    </a:lnTo>
                    <a:lnTo>
                      <a:pt x="342" y="497"/>
                    </a:lnTo>
                    <a:lnTo>
                      <a:pt x="383" y="497"/>
                    </a:lnTo>
                    <a:lnTo>
                      <a:pt x="420" y="497"/>
                    </a:lnTo>
                    <a:lnTo>
                      <a:pt x="497" y="497"/>
                    </a:lnTo>
                    <a:lnTo>
                      <a:pt x="534" y="497"/>
                    </a:lnTo>
                    <a:lnTo>
                      <a:pt x="574" y="497"/>
                    </a:lnTo>
                    <a:lnTo>
                      <a:pt x="611" y="497"/>
                    </a:lnTo>
                    <a:lnTo>
                      <a:pt x="651" y="497"/>
                    </a:lnTo>
                    <a:lnTo>
                      <a:pt x="766" y="497"/>
                    </a:lnTo>
                    <a:lnTo>
                      <a:pt x="880" y="497"/>
                    </a:lnTo>
                    <a:lnTo>
                      <a:pt x="994" y="497"/>
                    </a:lnTo>
                    <a:lnTo>
                      <a:pt x="1112" y="497"/>
                    </a:lnTo>
                    <a:lnTo>
                      <a:pt x="1261" y="497"/>
                    </a:lnTo>
                    <a:lnTo>
                      <a:pt x="1376" y="534"/>
                    </a:lnTo>
                    <a:lnTo>
                      <a:pt x="1493" y="534"/>
                    </a:lnTo>
                    <a:lnTo>
                      <a:pt x="1608" y="534"/>
                    </a:lnTo>
                    <a:lnTo>
                      <a:pt x="1722" y="534"/>
                    </a:lnTo>
                    <a:lnTo>
                      <a:pt x="1836" y="574"/>
                    </a:lnTo>
                    <a:lnTo>
                      <a:pt x="1954" y="574"/>
                    </a:lnTo>
                    <a:lnTo>
                      <a:pt x="2068" y="574"/>
                    </a:lnTo>
                    <a:lnTo>
                      <a:pt x="2219" y="574"/>
                    </a:lnTo>
                    <a:lnTo>
                      <a:pt x="2336" y="574"/>
                    </a:lnTo>
                    <a:lnTo>
                      <a:pt x="2451" y="611"/>
                    </a:lnTo>
                    <a:lnTo>
                      <a:pt x="2565" y="611"/>
                    </a:lnTo>
                    <a:lnTo>
                      <a:pt x="2719" y="611"/>
                    </a:lnTo>
                    <a:lnTo>
                      <a:pt x="2869" y="611"/>
                    </a:lnTo>
                    <a:lnTo>
                      <a:pt x="2987" y="611"/>
                    </a:lnTo>
                    <a:lnTo>
                      <a:pt x="3101" y="652"/>
                    </a:lnTo>
                    <a:lnTo>
                      <a:pt x="3215" y="652"/>
                    </a:lnTo>
                    <a:lnTo>
                      <a:pt x="3330" y="652"/>
                    </a:lnTo>
                    <a:lnTo>
                      <a:pt x="3447" y="652"/>
                    </a:lnTo>
                    <a:lnTo>
                      <a:pt x="3521" y="652"/>
                    </a:lnTo>
                    <a:lnTo>
                      <a:pt x="3639" y="652"/>
                    </a:lnTo>
                    <a:lnTo>
                      <a:pt x="3712" y="652"/>
                    </a:lnTo>
                    <a:lnTo>
                      <a:pt x="3790" y="611"/>
                    </a:lnTo>
                    <a:lnTo>
                      <a:pt x="3867" y="611"/>
                    </a:lnTo>
                    <a:lnTo>
                      <a:pt x="3904" y="611"/>
                    </a:lnTo>
                    <a:lnTo>
                      <a:pt x="3981" y="574"/>
                    </a:lnTo>
                    <a:lnTo>
                      <a:pt x="4022" y="534"/>
                    </a:lnTo>
                    <a:lnTo>
                      <a:pt x="4022" y="497"/>
                    </a:lnTo>
                    <a:lnTo>
                      <a:pt x="4059" y="420"/>
                    </a:lnTo>
                    <a:lnTo>
                      <a:pt x="4095" y="383"/>
                    </a:lnTo>
                    <a:lnTo>
                      <a:pt x="4095" y="343"/>
                    </a:lnTo>
                    <a:lnTo>
                      <a:pt x="4136" y="306"/>
                    </a:lnTo>
                    <a:lnTo>
                      <a:pt x="4136" y="269"/>
                    </a:lnTo>
                    <a:lnTo>
                      <a:pt x="4136" y="229"/>
                    </a:lnTo>
                    <a:lnTo>
                      <a:pt x="4136" y="192"/>
                    </a:lnTo>
                    <a:lnTo>
                      <a:pt x="4095" y="1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38600" y="5273640"/>
                <a:ext cx="252360" cy="101520"/>
              </a:xfrm>
              <a:custGeom>
                <a:avLst/>
                <a:gdLst/>
                <a:ahLst/>
                <a:rect l="l" t="t" r="r" b="b"/>
                <a:pathLst>
                  <a:path w="957" h="381">
                    <a:moveTo>
                      <a:pt x="0" y="381"/>
                    </a:moveTo>
                    <a:lnTo>
                      <a:pt x="78" y="344"/>
                    </a:lnTo>
                    <a:lnTo>
                      <a:pt x="115" y="344"/>
                    </a:lnTo>
                    <a:lnTo>
                      <a:pt x="192" y="309"/>
                    </a:lnTo>
                    <a:lnTo>
                      <a:pt x="269" y="309"/>
                    </a:lnTo>
                    <a:lnTo>
                      <a:pt x="306" y="267"/>
                    </a:lnTo>
                    <a:lnTo>
                      <a:pt x="383" y="231"/>
                    </a:lnTo>
                    <a:lnTo>
                      <a:pt x="424" y="231"/>
                    </a:lnTo>
                    <a:lnTo>
                      <a:pt x="498" y="190"/>
                    </a:lnTo>
                    <a:lnTo>
                      <a:pt x="575" y="154"/>
                    </a:lnTo>
                    <a:lnTo>
                      <a:pt x="615" y="154"/>
                    </a:lnTo>
                    <a:lnTo>
                      <a:pt x="689" y="117"/>
                    </a:lnTo>
                    <a:lnTo>
                      <a:pt x="729" y="77"/>
                    </a:lnTo>
                    <a:lnTo>
                      <a:pt x="807" y="77"/>
                    </a:lnTo>
                    <a:lnTo>
                      <a:pt x="844" y="40"/>
                    </a:lnTo>
                    <a:lnTo>
                      <a:pt x="921" y="0"/>
                    </a:lnTo>
                    <a:lnTo>
                      <a:pt x="9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49760" y="5192640"/>
                <a:ext cx="252360" cy="122400"/>
              </a:xfrm>
              <a:custGeom>
                <a:avLst/>
                <a:gdLst/>
                <a:ahLst/>
                <a:rect l="l" t="t" r="r" b="b"/>
                <a:pathLst>
                  <a:path w="957" h="460">
                    <a:moveTo>
                      <a:pt x="0" y="460"/>
                    </a:moveTo>
                    <a:lnTo>
                      <a:pt x="74" y="423"/>
                    </a:lnTo>
                    <a:lnTo>
                      <a:pt x="114" y="423"/>
                    </a:lnTo>
                    <a:lnTo>
                      <a:pt x="151" y="383"/>
                    </a:lnTo>
                    <a:lnTo>
                      <a:pt x="228" y="346"/>
                    </a:lnTo>
                    <a:lnTo>
                      <a:pt x="265" y="306"/>
                    </a:lnTo>
                    <a:lnTo>
                      <a:pt x="342" y="306"/>
                    </a:lnTo>
                    <a:lnTo>
                      <a:pt x="383" y="269"/>
                    </a:lnTo>
                    <a:lnTo>
                      <a:pt x="420" y="269"/>
                    </a:lnTo>
                    <a:lnTo>
                      <a:pt x="497" y="228"/>
                    </a:lnTo>
                    <a:lnTo>
                      <a:pt x="534" y="191"/>
                    </a:lnTo>
                    <a:lnTo>
                      <a:pt x="611" y="191"/>
                    </a:lnTo>
                    <a:lnTo>
                      <a:pt x="648" y="155"/>
                    </a:lnTo>
                    <a:lnTo>
                      <a:pt x="725" y="155"/>
                    </a:lnTo>
                    <a:lnTo>
                      <a:pt x="766" y="114"/>
                    </a:lnTo>
                    <a:lnTo>
                      <a:pt x="803" y="114"/>
                    </a:lnTo>
                    <a:lnTo>
                      <a:pt x="880" y="77"/>
                    </a:lnTo>
                    <a:lnTo>
                      <a:pt x="916" y="37"/>
                    </a:lnTo>
                    <a:lnTo>
                      <a:pt x="9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40120" y="5121360"/>
                <a:ext cx="182880" cy="81000"/>
              </a:xfrm>
              <a:custGeom>
                <a:avLst/>
                <a:gdLst/>
                <a:ahLst/>
                <a:rect l="l" t="t" r="r" b="b"/>
                <a:pathLst>
                  <a:path w="692" h="305">
                    <a:moveTo>
                      <a:pt x="0" y="305"/>
                    </a:moveTo>
                    <a:lnTo>
                      <a:pt x="41" y="305"/>
                    </a:lnTo>
                    <a:lnTo>
                      <a:pt x="78" y="268"/>
                    </a:lnTo>
                    <a:lnTo>
                      <a:pt x="115" y="268"/>
                    </a:lnTo>
                    <a:lnTo>
                      <a:pt x="155" y="231"/>
                    </a:lnTo>
                    <a:lnTo>
                      <a:pt x="192" y="231"/>
                    </a:lnTo>
                    <a:lnTo>
                      <a:pt x="269" y="191"/>
                    </a:lnTo>
                    <a:lnTo>
                      <a:pt x="306" y="191"/>
                    </a:lnTo>
                    <a:lnTo>
                      <a:pt x="346" y="154"/>
                    </a:lnTo>
                    <a:lnTo>
                      <a:pt x="383" y="154"/>
                    </a:lnTo>
                    <a:lnTo>
                      <a:pt x="461" y="114"/>
                    </a:lnTo>
                    <a:lnTo>
                      <a:pt x="501" y="114"/>
                    </a:lnTo>
                    <a:lnTo>
                      <a:pt x="538" y="77"/>
                    </a:lnTo>
                    <a:lnTo>
                      <a:pt x="574" y="77"/>
                    </a:lnTo>
                    <a:lnTo>
                      <a:pt x="615" y="40"/>
                    </a:lnTo>
                    <a:lnTo>
                      <a:pt x="651" y="0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811760" y="5040360"/>
                <a:ext cx="191880" cy="81000"/>
              </a:xfrm>
              <a:custGeom>
                <a:avLst/>
                <a:gdLst/>
                <a:ahLst/>
                <a:rect l="l" t="t" r="r" b="b"/>
                <a:pathLst>
                  <a:path w="728" h="306">
                    <a:moveTo>
                      <a:pt x="0" y="306"/>
                    </a:moveTo>
                    <a:lnTo>
                      <a:pt x="37" y="269"/>
                    </a:lnTo>
                    <a:lnTo>
                      <a:pt x="114" y="269"/>
                    </a:lnTo>
                    <a:lnTo>
                      <a:pt x="155" y="228"/>
                    </a:lnTo>
                    <a:lnTo>
                      <a:pt x="192" y="228"/>
                    </a:lnTo>
                    <a:lnTo>
                      <a:pt x="232" y="191"/>
                    </a:lnTo>
                    <a:lnTo>
                      <a:pt x="269" y="191"/>
                    </a:lnTo>
                    <a:lnTo>
                      <a:pt x="305" y="155"/>
                    </a:lnTo>
                    <a:lnTo>
                      <a:pt x="382" y="155"/>
                    </a:lnTo>
                    <a:lnTo>
                      <a:pt x="423" y="114"/>
                    </a:lnTo>
                    <a:lnTo>
                      <a:pt x="459" y="114"/>
                    </a:lnTo>
                    <a:lnTo>
                      <a:pt x="496" y="77"/>
                    </a:lnTo>
                    <a:lnTo>
                      <a:pt x="536" y="77"/>
                    </a:lnTo>
                    <a:lnTo>
                      <a:pt x="614" y="37"/>
                    </a:lnTo>
                    <a:lnTo>
                      <a:pt x="651" y="37"/>
                    </a:lnTo>
                    <a:lnTo>
                      <a:pt x="688" y="0"/>
                    </a:lnTo>
                    <a:lnTo>
                      <a:pt x="72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842000" y="4970520"/>
                <a:ext cx="263520" cy="90360"/>
              </a:xfrm>
              <a:custGeom>
                <a:avLst/>
                <a:gdLst/>
                <a:ahLst/>
                <a:rect l="l" t="t" r="r" b="b"/>
                <a:pathLst>
                  <a:path w="997" h="346">
                    <a:moveTo>
                      <a:pt x="0" y="346"/>
                    </a:moveTo>
                    <a:lnTo>
                      <a:pt x="41" y="306"/>
                    </a:lnTo>
                    <a:lnTo>
                      <a:pt x="78" y="306"/>
                    </a:lnTo>
                    <a:lnTo>
                      <a:pt x="118" y="269"/>
                    </a:lnTo>
                    <a:lnTo>
                      <a:pt x="155" y="269"/>
                    </a:lnTo>
                    <a:lnTo>
                      <a:pt x="883" y="37"/>
                    </a:lnTo>
                    <a:lnTo>
                      <a:pt x="920" y="37"/>
                    </a:lnTo>
                    <a:lnTo>
                      <a:pt x="960" y="0"/>
                    </a:lnTo>
                    <a:lnTo>
                      <a:pt x="99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71880" y="4970520"/>
                <a:ext cx="101880" cy="39600"/>
              </a:xfrm>
              <a:custGeom>
                <a:avLst/>
                <a:gdLst/>
                <a:ahLst/>
                <a:rect l="l" t="t" r="r" b="b"/>
                <a:pathLst>
                  <a:path w="382" h="155">
                    <a:moveTo>
                      <a:pt x="0" y="155"/>
                    </a:moveTo>
                    <a:lnTo>
                      <a:pt x="0" y="115"/>
                    </a:lnTo>
                    <a:lnTo>
                      <a:pt x="73" y="115"/>
                    </a:lnTo>
                    <a:lnTo>
                      <a:pt x="114" y="78"/>
                    </a:lnTo>
                    <a:lnTo>
                      <a:pt x="191" y="78"/>
                    </a:lnTo>
                    <a:lnTo>
                      <a:pt x="227" y="37"/>
                    </a:lnTo>
                    <a:lnTo>
                      <a:pt x="304" y="37"/>
                    </a:lnTo>
                    <a:lnTo>
                      <a:pt x="341" y="0"/>
                    </a:lnTo>
                    <a:lnTo>
                      <a:pt x="38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45120" y="4959360"/>
                <a:ext cx="90360" cy="41400"/>
              </a:xfrm>
              <a:custGeom>
                <a:avLst/>
                <a:gdLst/>
                <a:ahLst/>
                <a:rect l="l" t="t" r="r" b="b"/>
                <a:pathLst>
                  <a:path w="343" h="151">
                    <a:moveTo>
                      <a:pt x="0" y="151"/>
                    </a:moveTo>
                    <a:lnTo>
                      <a:pt x="37" y="114"/>
                    </a:lnTo>
                    <a:lnTo>
                      <a:pt x="74" y="114"/>
                    </a:lnTo>
                    <a:lnTo>
                      <a:pt x="152" y="73"/>
                    </a:lnTo>
                    <a:lnTo>
                      <a:pt x="192" y="73"/>
                    </a:lnTo>
                    <a:lnTo>
                      <a:pt x="229" y="36"/>
                    </a:lnTo>
                    <a:lnTo>
                      <a:pt x="266" y="36"/>
                    </a:lnTo>
                    <a:lnTo>
                      <a:pt x="306" y="36"/>
                    </a:lnTo>
                    <a:lnTo>
                      <a:pt x="3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76880" y="4959360"/>
                <a:ext cx="101520" cy="41400"/>
              </a:xfrm>
              <a:custGeom>
                <a:avLst/>
                <a:gdLst/>
                <a:ahLst/>
                <a:rect l="l" t="t" r="r" b="b"/>
                <a:pathLst>
                  <a:path w="381" h="151">
                    <a:moveTo>
                      <a:pt x="0" y="151"/>
                    </a:moveTo>
                    <a:lnTo>
                      <a:pt x="36" y="114"/>
                    </a:lnTo>
                    <a:lnTo>
                      <a:pt x="77" y="114"/>
                    </a:lnTo>
                    <a:lnTo>
                      <a:pt x="114" y="73"/>
                    </a:lnTo>
                    <a:lnTo>
                      <a:pt x="191" y="36"/>
                    </a:lnTo>
                    <a:lnTo>
                      <a:pt x="228" y="36"/>
                    </a:lnTo>
                    <a:lnTo>
                      <a:pt x="268" y="0"/>
                    </a:lnTo>
                    <a:lnTo>
                      <a:pt x="346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19880" y="4970520"/>
                <a:ext cx="91800" cy="39600"/>
              </a:xfrm>
              <a:custGeom>
                <a:avLst/>
                <a:gdLst/>
                <a:ahLst/>
                <a:rect l="l" t="t" r="r" b="b"/>
                <a:pathLst>
                  <a:path w="342" h="155">
                    <a:moveTo>
                      <a:pt x="0" y="155"/>
                    </a:moveTo>
                    <a:lnTo>
                      <a:pt x="37" y="155"/>
                    </a:lnTo>
                    <a:lnTo>
                      <a:pt x="77" y="115"/>
                    </a:lnTo>
                    <a:lnTo>
                      <a:pt x="114" y="115"/>
                    </a:lnTo>
                    <a:lnTo>
                      <a:pt x="191" y="78"/>
                    </a:lnTo>
                    <a:lnTo>
                      <a:pt x="228" y="78"/>
                    </a:lnTo>
                    <a:lnTo>
                      <a:pt x="269" y="37"/>
                    </a:lnTo>
                    <a:lnTo>
                      <a:pt x="305" y="37"/>
                    </a:lnTo>
                    <a:lnTo>
                      <a:pt x="3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00720" y="5010120"/>
                <a:ext cx="182520" cy="60480"/>
              </a:xfrm>
              <a:custGeom>
                <a:avLst/>
                <a:gdLst/>
                <a:ahLst/>
                <a:rect l="l" t="t" r="r" b="b"/>
                <a:pathLst>
                  <a:path w="692" h="228">
                    <a:moveTo>
                      <a:pt x="0" y="228"/>
                    </a:moveTo>
                    <a:lnTo>
                      <a:pt x="41" y="191"/>
                    </a:lnTo>
                    <a:lnTo>
                      <a:pt x="77" y="191"/>
                    </a:lnTo>
                    <a:lnTo>
                      <a:pt x="114" y="191"/>
                    </a:lnTo>
                    <a:lnTo>
                      <a:pt x="154" y="151"/>
                    </a:lnTo>
                    <a:lnTo>
                      <a:pt x="232" y="151"/>
                    </a:lnTo>
                    <a:lnTo>
                      <a:pt x="269" y="151"/>
                    </a:lnTo>
                    <a:lnTo>
                      <a:pt x="305" y="151"/>
                    </a:lnTo>
                    <a:lnTo>
                      <a:pt x="346" y="114"/>
                    </a:lnTo>
                    <a:lnTo>
                      <a:pt x="383" y="114"/>
                    </a:lnTo>
                    <a:lnTo>
                      <a:pt x="423" y="114"/>
                    </a:lnTo>
                    <a:lnTo>
                      <a:pt x="460" y="114"/>
                    </a:lnTo>
                    <a:lnTo>
                      <a:pt x="500" y="74"/>
                    </a:lnTo>
                    <a:lnTo>
                      <a:pt x="537" y="74"/>
                    </a:lnTo>
                    <a:lnTo>
                      <a:pt x="615" y="37"/>
                    </a:lnTo>
                    <a:lnTo>
                      <a:pt x="651" y="37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70560" y="5019840"/>
                <a:ext cx="274680" cy="91800"/>
              </a:xfrm>
              <a:custGeom>
                <a:avLst/>
                <a:gdLst/>
                <a:ahLst/>
                <a:rect l="l" t="t" r="r" b="b"/>
                <a:pathLst>
                  <a:path w="1034" h="346">
                    <a:moveTo>
                      <a:pt x="0" y="346"/>
                    </a:moveTo>
                    <a:lnTo>
                      <a:pt x="36" y="346"/>
                    </a:lnTo>
                    <a:lnTo>
                      <a:pt x="114" y="305"/>
                    </a:lnTo>
                    <a:lnTo>
                      <a:pt x="154" y="268"/>
                    </a:lnTo>
                    <a:lnTo>
                      <a:pt x="231" y="268"/>
                    </a:lnTo>
                    <a:lnTo>
                      <a:pt x="305" y="232"/>
                    </a:lnTo>
                    <a:lnTo>
                      <a:pt x="346" y="191"/>
                    </a:lnTo>
                    <a:lnTo>
                      <a:pt x="423" y="191"/>
                    </a:lnTo>
                    <a:lnTo>
                      <a:pt x="497" y="154"/>
                    </a:lnTo>
                    <a:lnTo>
                      <a:pt x="537" y="154"/>
                    </a:lnTo>
                    <a:lnTo>
                      <a:pt x="614" y="114"/>
                    </a:lnTo>
                    <a:lnTo>
                      <a:pt x="688" y="77"/>
                    </a:lnTo>
                    <a:lnTo>
                      <a:pt x="728" y="77"/>
                    </a:lnTo>
                    <a:lnTo>
                      <a:pt x="806" y="37"/>
                    </a:lnTo>
                    <a:lnTo>
                      <a:pt x="843" y="37"/>
                    </a:lnTo>
                    <a:lnTo>
                      <a:pt x="920" y="0"/>
                    </a:lnTo>
                    <a:lnTo>
                      <a:pt x="997" y="0"/>
                    </a:lnTo>
                    <a:lnTo>
                      <a:pt x="103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351480" y="5081760"/>
                <a:ext cx="284400" cy="90360"/>
              </a:xfrm>
              <a:custGeom>
                <a:avLst/>
                <a:gdLst/>
                <a:ahLst/>
                <a:rect l="l" t="t" r="r" b="b"/>
                <a:pathLst>
                  <a:path w="1075" h="342">
                    <a:moveTo>
                      <a:pt x="0" y="342"/>
                    </a:moveTo>
                    <a:lnTo>
                      <a:pt x="78" y="342"/>
                    </a:lnTo>
                    <a:lnTo>
                      <a:pt x="155" y="342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346" y="305"/>
                    </a:lnTo>
                    <a:lnTo>
                      <a:pt x="424" y="265"/>
                    </a:lnTo>
                    <a:lnTo>
                      <a:pt x="501" y="265"/>
                    </a:lnTo>
                    <a:lnTo>
                      <a:pt x="538" y="228"/>
                    </a:lnTo>
                    <a:lnTo>
                      <a:pt x="615" y="191"/>
                    </a:lnTo>
                    <a:lnTo>
                      <a:pt x="692" y="151"/>
                    </a:lnTo>
                    <a:lnTo>
                      <a:pt x="729" y="151"/>
                    </a:lnTo>
                    <a:lnTo>
                      <a:pt x="806" y="114"/>
                    </a:lnTo>
                    <a:lnTo>
                      <a:pt x="884" y="73"/>
                    </a:lnTo>
                    <a:lnTo>
                      <a:pt x="921" y="73"/>
                    </a:lnTo>
                    <a:lnTo>
                      <a:pt x="998" y="36"/>
                    </a:lnTo>
                    <a:lnTo>
                      <a:pt x="1035" y="0"/>
                    </a:lnTo>
                    <a:lnTo>
                      <a:pt x="10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21600" y="5151600"/>
                <a:ext cx="303120" cy="101520"/>
              </a:xfrm>
              <a:custGeom>
                <a:avLst/>
                <a:gdLst/>
                <a:ahLst/>
                <a:rect l="l" t="t" r="r" b="b"/>
                <a:pathLst>
                  <a:path w="1149" h="382">
                    <a:moveTo>
                      <a:pt x="0" y="382"/>
                    </a:moveTo>
                    <a:lnTo>
                      <a:pt x="77" y="382"/>
                    </a:lnTo>
                    <a:lnTo>
                      <a:pt x="114" y="382"/>
                    </a:lnTo>
                    <a:lnTo>
                      <a:pt x="192" y="345"/>
                    </a:lnTo>
                    <a:lnTo>
                      <a:pt x="228" y="345"/>
                    </a:lnTo>
                    <a:lnTo>
                      <a:pt x="269" y="345"/>
                    </a:lnTo>
                    <a:lnTo>
                      <a:pt x="346" y="309"/>
                    </a:lnTo>
                    <a:lnTo>
                      <a:pt x="383" y="309"/>
                    </a:lnTo>
                    <a:lnTo>
                      <a:pt x="460" y="268"/>
                    </a:lnTo>
                    <a:lnTo>
                      <a:pt x="497" y="231"/>
                    </a:lnTo>
                    <a:lnTo>
                      <a:pt x="574" y="231"/>
                    </a:lnTo>
                    <a:lnTo>
                      <a:pt x="615" y="191"/>
                    </a:lnTo>
                    <a:lnTo>
                      <a:pt x="689" y="191"/>
                    </a:lnTo>
                    <a:lnTo>
                      <a:pt x="729" y="154"/>
                    </a:lnTo>
                    <a:lnTo>
                      <a:pt x="766" y="154"/>
                    </a:lnTo>
                    <a:lnTo>
                      <a:pt x="843" y="117"/>
                    </a:lnTo>
                    <a:lnTo>
                      <a:pt x="880" y="117"/>
                    </a:lnTo>
                    <a:lnTo>
                      <a:pt x="920" y="77"/>
                    </a:lnTo>
                    <a:lnTo>
                      <a:pt x="957" y="77"/>
                    </a:lnTo>
                    <a:lnTo>
                      <a:pt x="998" y="40"/>
                    </a:lnTo>
                    <a:lnTo>
                      <a:pt x="1035" y="40"/>
                    </a:lnTo>
                    <a:lnTo>
                      <a:pt x="1072" y="40"/>
                    </a:lnTo>
                    <a:lnTo>
                      <a:pt x="1112" y="40"/>
                    </a:lnTo>
                    <a:lnTo>
                      <a:pt x="11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87960" y="5234040"/>
                <a:ext cx="515880" cy="160200"/>
              </a:xfrm>
              <a:custGeom>
                <a:avLst/>
                <a:gdLst/>
                <a:ahLst/>
                <a:rect l="l" t="t" r="r" b="b"/>
                <a:pathLst>
                  <a:path w="1951" h="609">
                    <a:moveTo>
                      <a:pt x="0" y="609"/>
                    </a:moveTo>
                    <a:lnTo>
                      <a:pt x="74" y="609"/>
                    </a:lnTo>
                    <a:lnTo>
                      <a:pt x="151" y="573"/>
                    </a:lnTo>
                    <a:lnTo>
                      <a:pt x="265" y="532"/>
                    </a:lnTo>
                    <a:lnTo>
                      <a:pt x="343" y="532"/>
                    </a:lnTo>
                    <a:lnTo>
                      <a:pt x="420" y="495"/>
                    </a:lnTo>
                    <a:lnTo>
                      <a:pt x="534" y="460"/>
                    </a:lnTo>
                    <a:lnTo>
                      <a:pt x="611" y="418"/>
                    </a:lnTo>
                    <a:lnTo>
                      <a:pt x="724" y="418"/>
                    </a:lnTo>
                    <a:lnTo>
                      <a:pt x="802" y="382"/>
                    </a:lnTo>
                    <a:lnTo>
                      <a:pt x="916" y="341"/>
                    </a:lnTo>
                    <a:lnTo>
                      <a:pt x="993" y="341"/>
                    </a:lnTo>
                    <a:lnTo>
                      <a:pt x="1071" y="305"/>
                    </a:lnTo>
                    <a:lnTo>
                      <a:pt x="1185" y="268"/>
                    </a:lnTo>
                    <a:lnTo>
                      <a:pt x="1262" y="268"/>
                    </a:lnTo>
                    <a:lnTo>
                      <a:pt x="1339" y="228"/>
                    </a:lnTo>
                    <a:lnTo>
                      <a:pt x="1453" y="191"/>
                    </a:lnTo>
                    <a:lnTo>
                      <a:pt x="1494" y="191"/>
                    </a:lnTo>
                    <a:lnTo>
                      <a:pt x="1568" y="151"/>
                    </a:lnTo>
                    <a:lnTo>
                      <a:pt x="1645" y="151"/>
                    </a:lnTo>
                    <a:lnTo>
                      <a:pt x="1722" y="114"/>
                    </a:lnTo>
                    <a:lnTo>
                      <a:pt x="1759" y="73"/>
                    </a:lnTo>
                    <a:lnTo>
                      <a:pt x="1836" y="73"/>
                    </a:lnTo>
                    <a:lnTo>
                      <a:pt x="1914" y="36"/>
                    </a:lnTo>
                    <a:lnTo>
                      <a:pt x="19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29440" y="5315040"/>
                <a:ext cx="355680" cy="120600"/>
              </a:xfrm>
              <a:custGeom>
                <a:avLst/>
                <a:gdLst/>
                <a:ahLst/>
                <a:rect l="l" t="t" r="r" b="b"/>
                <a:pathLst>
                  <a:path w="1343" h="459">
                    <a:moveTo>
                      <a:pt x="0" y="459"/>
                    </a:moveTo>
                    <a:lnTo>
                      <a:pt x="77" y="419"/>
                    </a:lnTo>
                    <a:lnTo>
                      <a:pt x="155" y="382"/>
                    </a:lnTo>
                    <a:lnTo>
                      <a:pt x="232" y="345"/>
                    </a:lnTo>
                    <a:lnTo>
                      <a:pt x="309" y="345"/>
                    </a:lnTo>
                    <a:lnTo>
                      <a:pt x="382" y="304"/>
                    </a:lnTo>
                    <a:lnTo>
                      <a:pt x="459" y="268"/>
                    </a:lnTo>
                    <a:lnTo>
                      <a:pt x="537" y="268"/>
                    </a:lnTo>
                    <a:lnTo>
                      <a:pt x="651" y="227"/>
                    </a:lnTo>
                    <a:lnTo>
                      <a:pt x="728" y="190"/>
                    </a:lnTo>
                    <a:lnTo>
                      <a:pt x="805" y="190"/>
                    </a:lnTo>
                    <a:lnTo>
                      <a:pt x="883" y="155"/>
                    </a:lnTo>
                    <a:lnTo>
                      <a:pt x="960" y="113"/>
                    </a:lnTo>
                    <a:lnTo>
                      <a:pt x="1034" y="113"/>
                    </a:lnTo>
                    <a:lnTo>
                      <a:pt x="1111" y="77"/>
                    </a:lnTo>
                    <a:lnTo>
                      <a:pt x="1188" y="77"/>
                    </a:lnTo>
                    <a:lnTo>
                      <a:pt x="1265" y="36"/>
                    </a:lnTo>
                    <a:lnTo>
                      <a:pt x="1302" y="36"/>
                    </a:lnTo>
                    <a:lnTo>
                      <a:pt x="1302" y="0"/>
                    </a:lnTo>
                    <a:lnTo>
                      <a:pt x="13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361200" y="5394240"/>
                <a:ext cx="203040" cy="50760"/>
              </a:xfrm>
              <a:custGeom>
                <a:avLst/>
                <a:gdLst/>
                <a:ahLst/>
                <a:rect l="l" t="t" r="r" b="b"/>
                <a:pathLst>
                  <a:path w="765" h="192">
                    <a:moveTo>
                      <a:pt x="0" y="192"/>
                    </a:moveTo>
                    <a:lnTo>
                      <a:pt x="37" y="192"/>
                    </a:lnTo>
                    <a:lnTo>
                      <a:pt x="114" y="192"/>
                    </a:lnTo>
                    <a:lnTo>
                      <a:pt x="151" y="155"/>
                    </a:lnTo>
                    <a:lnTo>
                      <a:pt x="191" y="155"/>
                    </a:lnTo>
                    <a:lnTo>
                      <a:pt x="228" y="155"/>
                    </a:lnTo>
                    <a:lnTo>
                      <a:pt x="305" y="115"/>
                    </a:lnTo>
                    <a:lnTo>
                      <a:pt x="342" y="115"/>
                    </a:lnTo>
                    <a:lnTo>
                      <a:pt x="383" y="115"/>
                    </a:lnTo>
                    <a:lnTo>
                      <a:pt x="460" y="78"/>
                    </a:lnTo>
                    <a:lnTo>
                      <a:pt x="497" y="78"/>
                    </a:lnTo>
                    <a:lnTo>
                      <a:pt x="534" y="78"/>
                    </a:lnTo>
                    <a:lnTo>
                      <a:pt x="574" y="41"/>
                    </a:lnTo>
                    <a:lnTo>
                      <a:pt x="611" y="41"/>
                    </a:lnTo>
                    <a:lnTo>
                      <a:pt x="688" y="41"/>
                    </a:lnTo>
                    <a:lnTo>
                      <a:pt x="725" y="0"/>
                    </a:lnTo>
                    <a:lnTo>
                      <a:pt x="7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00600" y="5324400"/>
                <a:ext cx="131760" cy="60480"/>
              </a:xfrm>
              <a:custGeom>
                <a:avLst/>
                <a:gdLst/>
                <a:ahLst/>
                <a:rect l="l" t="t" r="r" b="b"/>
                <a:pathLst>
                  <a:path w="496" h="232">
                    <a:moveTo>
                      <a:pt x="0" y="232"/>
                    </a:moveTo>
                    <a:lnTo>
                      <a:pt x="37" y="191"/>
                    </a:lnTo>
                    <a:lnTo>
                      <a:pt x="74" y="191"/>
                    </a:lnTo>
                    <a:lnTo>
                      <a:pt x="151" y="154"/>
                    </a:lnTo>
                    <a:lnTo>
                      <a:pt x="192" y="119"/>
                    </a:lnTo>
                    <a:lnTo>
                      <a:pt x="269" y="119"/>
                    </a:lnTo>
                    <a:lnTo>
                      <a:pt x="306" y="77"/>
                    </a:lnTo>
                    <a:lnTo>
                      <a:pt x="383" y="77"/>
                    </a:lnTo>
                    <a:lnTo>
                      <a:pt x="419" y="41"/>
                    </a:lnTo>
                    <a:lnTo>
                      <a:pt x="460" y="41"/>
                    </a:lnTo>
                    <a:lnTo>
                      <a:pt x="460" y="0"/>
                    </a:lnTo>
                    <a:lnTo>
                      <a:pt x="4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941720" y="5324400"/>
                <a:ext cx="184320" cy="69840"/>
              </a:xfrm>
              <a:custGeom>
                <a:avLst/>
                <a:gdLst/>
                <a:ahLst/>
                <a:rect l="l" t="t" r="r" b="b"/>
                <a:pathLst>
                  <a:path w="692" h="268">
                    <a:moveTo>
                      <a:pt x="0" y="268"/>
                    </a:moveTo>
                    <a:lnTo>
                      <a:pt x="40" y="232"/>
                    </a:lnTo>
                    <a:lnTo>
                      <a:pt x="77" y="232"/>
                    </a:lnTo>
                    <a:lnTo>
                      <a:pt x="118" y="232"/>
                    </a:lnTo>
                    <a:lnTo>
                      <a:pt x="155" y="191"/>
                    </a:lnTo>
                    <a:lnTo>
                      <a:pt x="192" y="191"/>
                    </a:lnTo>
                    <a:lnTo>
                      <a:pt x="269" y="191"/>
                    </a:lnTo>
                    <a:lnTo>
                      <a:pt x="309" y="154"/>
                    </a:lnTo>
                    <a:lnTo>
                      <a:pt x="346" y="154"/>
                    </a:lnTo>
                    <a:lnTo>
                      <a:pt x="383" y="154"/>
                    </a:lnTo>
                    <a:lnTo>
                      <a:pt x="423" y="119"/>
                    </a:lnTo>
                    <a:lnTo>
                      <a:pt x="460" y="119"/>
                    </a:lnTo>
                    <a:lnTo>
                      <a:pt x="501" y="77"/>
                    </a:lnTo>
                    <a:lnTo>
                      <a:pt x="538" y="77"/>
                    </a:lnTo>
                    <a:lnTo>
                      <a:pt x="578" y="77"/>
                    </a:lnTo>
                    <a:lnTo>
                      <a:pt x="615" y="41"/>
                    </a:lnTo>
                    <a:lnTo>
                      <a:pt x="652" y="41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05520" y="5324400"/>
                <a:ext cx="212760" cy="69840"/>
              </a:xfrm>
              <a:custGeom>
                <a:avLst/>
                <a:gdLst/>
                <a:ahLst/>
                <a:rect l="l" t="t" r="r" b="b"/>
                <a:pathLst>
                  <a:path w="806" h="268">
                    <a:moveTo>
                      <a:pt x="0" y="268"/>
                    </a:moveTo>
                    <a:lnTo>
                      <a:pt x="77" y="268"/>
                    </a:lnTo>
                    <a:lnTo>
                      <a:pt x="114" y="268"/>
                    </a:lnTo>
                    <a:lnTo>
                      <a:pt x="154" y="232"/>
                    </a:lnTo>
                    <a:lnTo>
                      <a:pt x="228" y="232"/>
                    </a:lnTo>
                    <a:lnTo>
                      <a:pt x="269" y="232"/>
                    </a:lnTo>
                    <a:lnTo>
                      <a:pt x="306" y="191"/>
                    </a:lnTo>
                    <a:lnTo>
                      <a:pt x="383" y="191"/>
                    </a:lnTo>
                    <a:lnTo>
                      <a:pt x="420" y="154"/>
                    </a:lnTo>
                    <a:lnTo>
                      <a:pt x="460" y="154"/>
                    </a:lnTo>
                    <a:lnTo>
                      <a:pt x="537" y="119"/>
                    </a:lnTo>
                    <a:lnTo>
                      <a:pt x="574" y="119"/>
                    </a:lnTo>
                    <a:lnTo>
                      <a:pt x="611" y="77"/>
                    </a:lnTo>
                    <a:lnTo>
                      <a:pt x="652" y="77"/>
                    </a:lnTo>
                    <a:lnTo>
                      <a:pt x="729" y="77"/>
                    </a:lnTo>
                    <a:lnTo>
                      <a:pt x="766" y="41"/>
                    </a:lnTo>
                    <a:lnTo>
                      <a:pt x="8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76880" y="5335560"/>
                <a:ext cx="182520" cy="69840"/>
              </a:xfrm>
              <a:custGeom>
                <a:avLst/>
                <a:gdLst/>
                <a:ahLst/>
                <a:rect l="l" t="t" r="r" b="b"/>
                <a:pathLst>
                  <a:path w="687" h="268">
                    <a:moveTo>
                      <a:pt x="0" y="268"/>
                    </a:moveTo>
                    <a:lnTo>
                      <a:pt x="36" y="268"/>
                    </a:lnTo>
                    <a:lnTo>
                      <a:pt x="77" y="268"/>
                    </a:lnTo>
                    <a:lnTo>
                      <a:pt x="114" y="268"/>
                    </a:lnTo>
                    <a:lnTo>
                      <a:pt x="154" y="227"/>
                    </a:lnTo>
                    <a:lnTo>
                      <a:pt x="228" y="227"/>
                    </a:lnTo>
                    <a:lnTo>
                      <a:pt x="268" y="191"/>
                    </a:lnTo>
                    <a:lnTo>
                      <a:pt x="304" y="191"/>
                    </a:lnTo>
                    <a:lnTo>
                      <a:pt x="346" y="150"/>
                    </a:lnTo>
                    <a:lnTo>
                      <a:pt x="418" y="150"/>
                    </a:lnTo>
                    <a:lnTo>
                      <a:pt x="459" y="150"/>
                    </a:lnTo>
                    <a:lnTo>
                      <a:pt x="495" y="113"/>
                    </a:lnTo>
                    <a:lnTo>
                      <a:pt x="536" y="78"/>
                    </a:lnTo>
                    <a:lnTo>
                      <a:pt x="573" y="78"/>
                    </a:lnTo>
                    <a:lnTo>
                      <a:pt x="610" y="36"/>
                    </a:lnTo>
                    <a:lnTo>
                      <a:pt x="650" y="36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38880" y="5345280"/>
                <a:ext cx="191880" cy="79200"/>
              </a:xfrm>
              <a:custGeom>
                <a:avLst/>
                <a:gdLst/>
                <a:ahLst/>
                <a:rect l="l" t="t" r="r" b="b"/>
                <a:pathLst>
                  <a:path w="729" h="306">
                    <a:moveTo>
                      <a:pt x="0" y="306"/>
                    </a:moveTo>
                    <a:lnTo>
                      <a:pt x="40" y="269"/>
                    </a:lnTo>
                    <a:lnTo>
                      <a:pt x="117" y="269"/>
                    </a:lnTo>
                    <a:lnTo>
                      <a:pt x="154" y="232"/>
                    </a:lnTo>
                    <a:lnTo>
                      <a:pt x="191" y="232"/>
                    </a:lnTo>
                    <a:lnTo>
                      <a:pt x="232" y="191"/>
                    </a:lnTo>
                    <a:lnTo>
                      <a:pt x="268" y="191"/>
                    </a:lnTo>
                    <a:lnTo>
                      <a:pt x="309" y="191"/>
                    </a:lnTo>
                    <a:lnTo>
                      <a:pt x="386" y="155"/>
                    </a:lnTo>
                    <a:lnTo>
                      <a:pt x="423" y="155"/>
                    </a:lnTo>
                    <a:lnTo>
                      <a:pt x="460" y="114"/>
                    </a:lnTo>
                    <a:lnTo>
                      <a:pt x="500" y="114"/>
                    </a:lnTo>
                    <a:lnTo>
                      <a:pt x="537" y="77"/>
                    </a:lnTo>
                    <a:lnTo>
                      <a:pt x="614" y="77"/>
                    </a:lnTo>
                    <a:lnTo>
                      <a:pt x="651" y="42"/>
                    </a:lnTo>
                    <a:lnTo>
                      <a:pt x="692" y="42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621400" y="5354640"/>
                <a:ext cx="203040" cy="69840"/>
              </a:xfrm>
              <a:custGeom>
                <a:avLst/>
                <a:gdLst/>
                <a:ahLst/>
                <a:rect l="l" t="t" r="r" b="b"/>
                <a:pathLst>
                  <a:path w="766" h="264">
                    <a:moveTo>
                      <a:pt x="0" y="264"/>
                    </a:moveTo>
                    <a:lnTo>
                      <a:pt x="37" y="227"/>
                    </a:lnTo>
                    <a:lnTo>
                      <a:pt x="77" y="227"/>
                    </a:lnTo>
                    <a:lnTo>
                      <a:pt x="114" y="227"/>
                    </a:lnTo>
                    <a:lnTo>
                      <a:pt x="151" y="190"/>
                    </a:lnTo>
                    <a:lnTo>
                      <a:pt x="191" y="190"/>
                    </a:lnTo>
                    <a:lnTo>
                      <a:pt x="228" y="190"/>
                    </a:lnTo>
                    <a:lnTo>
                      <a:pt x="268" y="149"/>
                    </a:lnTo>
                    <a:lnTo>
                      <a:pt x="305" y="149"/>
                    </a:lnTo>
                    <a:lnTo>
                      <a:pt x="342" y="113"/>
                    </a:lnTo>
                    <a:lnTo>
                      <a:pt x="383" y="113"/>
                    </a:lnTo>
                    <a:lnTo>
                      <a:pt x="460" y="113"/>
                    </a:lnTo>
                    <a:lnTo>
                      <a:pt x="460" y="72"/>
                    </a:lnTo>
                    <a:lnTo>
                      <a:pt x="537" y="72"/>
                    </a:lnTo>
                    <a:lnTo>
                      <a:pt x="611" y="72"/>
                    </a:lnTo>
                    <a:lnTo>
                      <a:pt x="651" y="35"/>
                    </a:lnTo>
                    <a:lnTo>
                      <a:pt x="688" y="35"/>
                    </a:lnTo>
                    <a:lnTo>
                      <a:pt x="688" y="0"/>
                    </a:lnTo>
                    <a:lnTo>
                      <a:pt x="729" y="0"/>
                    </a:lnTo>
                    <a:lnTo>
                      <a:pt x="7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15080" y="5375160"/>
                <a:ext cx="181080" cy="49320"/>
              </a:xfrm>
              <a:custGeom>
                <a:avLst/>
                <a:gdLst/>
                <a:ahLst/>
                <a:rect l="l" t="t" r="r" b="b"/>
                <a:pathLst>
                  <a:path w="687" h="192">
                    <a:moveTo>
                      <a:pt x="0" y="192"/>
                    </a:moveTo>
                    <a:lnTo>
                      <a:pt x="37" y="155"/>
                    </a:lnTo>
                    <a:lnTo>
                      <a:pt x="72" y="155"/>
                    </a:lnTo>
                    <a:lnTo>
                      <a:pt x="113" y="155"/>
                    </a:lnTo>
                    <a:lnTo>
                      <a:pt x="150" y="118"/>
                    </a:lnTo>
                    <a:lnTo>
                      <a:pt x="190" y="118"/>
                    </a:lnTo>
                    <a:lnTo>
                      <a:pt x="227" y="118"/>
                    </a:lnTo>
                    <a:lnTo>
                      <a:pt x="264" y="118"/>
                    </a:lnTo>
                    <a:lnTo>
                      <a:pt x="304" y="77"/>
                    </a:lnTo>
                    <a:lnTo>
                      <a:pt x="341" y="77"/>
                    </a:lnTo>
                    <a:lnTo>
                      <a:pt x="381" y="77"/>
                    </a:lnTo>
                    <a:lnTo>
                      <a:pt x="418" y="41"/>
                    </a:lnTo>
                    <a:lnTo>
                      <a:pt x="455" y="41"/>
                    </a:lnTo>
                    <a:lnTo>
                      <a:pt x="496" y="41"/>
                    </a:lnTo>
                    <a:lnTo>
                      <a:pt x="533" y="41"/>
                    </a:lnTo>
                    <a:lnTo>
                      <a:pt x="573" y="0"/>
                    </a:lnTo>
                    <a:lnTo>
                      <a:pt x="610" y="0"/>
                    </a:lnTo>
                    <a:lnTo>
                      <a:pt x="650" y="0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38600" y="533556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192" h="227">
                    <a:moveTo>
                      <a:pt x="0" y="0"/>
                    </a:moveTo>
                    <a:lnTo>
                      <a:pt x="41" y="36"/>
                    </a:lnTo>
                    <a:lnTo>
                      <a:pt x="78" y="36"/>
                    </a:lnTo>
                    <a:lnTo>
                      <a:pt x="78" y="78"/>
                    </a:lnTo>
                    <a:lnTo>
                      <a:pt x="115" y="113"/>
                    </a:lnTo>
                    <a:lnTo>
                      <a:pt x="155" y="113"/>
                    </a:lnTo>
                    <a:lnTo>
                      <a:pt x="155" y="150"/>
                    </a:lnTo>
                    <a:lnTo>
                      <a:pt x="192" y="191"/>
                    </a:lnTo>
                    <a:lnTo>
                      <a:pt x="192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80000" y="5273640"/>
                <a:ext cx="141120" cy="131760"/>
              </a:xfrm>
              <a:custGeom>
                <a:avLst/>
                <a:gdLst/>
                <a:ahLst/>
                <a:rect l="l" t="t" r="r" b="b"/>
                <a:pathLst>
                  <a:path w="534" h="499">
                    <a:moveTo>
                      <a:pt x="0" y="0"/>
                    </a:moveTo>
                    <a:lnTo>
                      <a:pt x="37" y="40"/>
                    </a:lnTo>
                    <a:lnTo>
                      <a:pt x="77" y="77"/>
                    </a:lnTo>
                    <a:lnTo>
                      <a:pt x="114" y="117"/>
                    </a:lnTo>
                    <a:lnTo>
                      <a:pt x="151" y="154"/>
                    </a:lnTo>
                    <a:lnTo>
                      <a:pt x="191" y="231"/>
                    </a:lnTo>
                    <a:lnTo>
                      <a:pt x="228" y="267"/>
                    </a:lnTo>
                    <a:lnTo>
                      <a:pt x="269" y="309"/>
                    </a:lnTo>
                    <a:lnTo>
                      <a:pt x="306" y="344"/>
                    </a:lnTo>
                    <a:lnTo>
                      <a:pt x="343" y="344"/>
                    </a:lnTo>
                    <a:lnTo>
                      <a:pt x="343" y="381"/>
                    </a:lnTo>
                    <a:lnTo>
                      <a:pt x="383" y="381"/>
                    </a:lnTo>
                    <a:lnTo>
                      <a:pt x="420" y="422"/>
                    </a:lnTo>
                    <a:lnTo>
                      <a:pt x="460" y="458"/>
                    </a:lnTo>
                    <a:lnTo>
                      <a:pt x="497" y="458"/>
                    </a:lnTo>
                    <a:lnTo>
                      <a:pt x="497" y="499"/>
                    </a:lnTo>
                    <a:lnTo>
                      <a:pt x="534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40120" y="5222880"/>
                <a:ext cx="171720" cy="171360"/>
              </a:xfrm>
              <a:custGeom>
                <a:avLst/>
                <a:gdLst/>
                <a:ahLst/>
                <a:rect l="l" t="t" r="r" b="b"/>
                <a:pathLst>
                  <a:path w="651" h="650">
                    <a:moveTo>
                      <a:pt x="0" y="0"/>
                    </a:moveTo>
                    <a:lnTo>
                      <a:pt x="0" y="41"/>
                    </a:lnTo>
                    <a:lnTo>
                      <a:pt x="41" y="41"/>
                    </a:lnTo>
                    <a:lnTo>
                      <a:pt x="41" y="77"/>
                    </a:lnTo>
                    <a:lnTo>
                      <a:pt x="78" y="77"/>
                    </a:lnTo>
                    <a:lnTo>
                      <a:pt x="115" y="114"/>
                    </a:lnTo>
                    <a:lnTo>
                      <a:pt x="155" y="155"/>
                    </a:lnTo>
                    <a:lnTo>
                      <a:pt x="232" y="192"/>
                    </a:lnTo>
                    <a:lnTo>
                      <a:pt x="269" y="269"/>
                    </a:lnTo>
                    <a:lnTo>
                      <a:pt x="346" y="309"/>
                    </a:lnTo>
                    <a:lnTo>
                      <a:pt x="424" y="382"/>
                    </a:lnTo>
                    <a:lnTo>
                      <a:pt x="461" y="459"/>
                    </a:lnTo>
                    <a:lnTo>
                      <a:pt x="538" y="501"/>
                    </a:lnTo>
                    <a:lnTo>
                      <a:pt x="615" y="573"/>
                    </a:lnTo>
                    <a:lnTo>
                      <a:pt x="651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91240" y="5141880"/>
                <a:ext cx="284040" cy="2732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30840" y="504036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346" h="383">
                    <a:moveTo>
                      <a:pt x="0" y="0"/>
                    </a:moveTo>
                    <a:lnTo>
                      <a:pt x="37" y="37"/>
                    </a:lnTo>
                    <a:lnTo>
                      <a:pt x="78" y="114"/>
                    </a:lnTo>
                    <a:lnTo>
                      <a:pt x="115" y="155"/>
                    </a:lnTo>
                    <a:lnTo>
                      <a:pt x="155" y="191"/>
                    </a:lnTo>
                    <a:lnTo>
                      <a:pt x="228" y="269"/>
                    </a:lnTo>
                    <a:lnTo>
                      <a:pt x="269" y="306"/>
                    </a:lnTo>
                    <a:lnTo>
                      <a:pt x="305" y="346"/>
                    </a:lnTo>
                    <a:lnTo>
                      <a:pt x="346" y="3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71880" y="50007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341" h="345">
                    <a:moveTo>
                      <a:pt x="0" y="0"/>
                    </a:moveTo>
                    <a:lnTo>
                      <a:pt x="37" y="40"/>
                    </a:lnTo>
                    <a:lnTo>
                      <a:pt x="73" y="77"/>
                    </a:lnTo>
                    <a:lnTo>
                      <a:pt x="114" y="114"/>
                    </a:lnTo>
                    <a:lnTo>
                      <a:pt x="191" y="154"/>
                    </a:lnTo>
                    <a:lnTo>
                      <a:pt x="227" y="231"/>
                    </a:lnTo>
                    <a:lnTo>
                      <a:pt x="264" y="268"/>
                    </a:lnTo>
                    <a:lnTo>
                      <a:pt x="304" y="309"/>
                    </a:lnTo>
                    <a:lnTo>
                      <a:pt x="341" y="3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952880" y="4970520"/>
                <a:ext cx="71640" cy="69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033880" y="497052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232" h="192">
                    <a:moveTo>
                      <a:pt x="0" y="0"/>
                    </a:moveTo>
                    <a:lnTo>
                      <a:pt x="37" y="37"/>
                    </a:lnTo>
                    <a:lnTo>
                      <a:pt x="77" y="78"/>
                    </a:lnTo>
                    <a:lnTo>
                      <a:pt x="114" y="115"/>
                    </a:lnTo>
                    <a:lnTo>
                      <a:pt x="114" y="155"/>
                    </a:lnTo>
                    <a:lnTo>
                      <a:pt x="155" y="155"/>
                    </a:lnTo>
                    <a:lnTo>
                      <a:pt x="192" y="192"/>
                    </a:lnTo>
                    <a:lnTo>
                      <a:pt x="232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45120" y="49593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152" h="191">
                    <a:moveTo>
                      <a:pt x="0" y="0"/>
                    </a:moveTo>
                    <a:lnTo>
                      <a:pt x="37" y="36"/>
                    </a:lnTo>
                    <a:lnTo>
                      <a:pt x="74" y="73"/>
                    </a:lnTo>
                    <a:lnTo>
                      <a:pt x="74" y="114"/>
                    </a:lnTo>
                    <a:lnTo>
                      <a:pt x="115" y="114"/>
                    </a:lnTo>
                    <a:lnTo>
                      <a:pt x="115" y="151"/>
                    </a:lnTo>
                    <a:lnTo>
                      <a:pt x="152" y="151"/>
                    </a:lnTo>
                    <a:lnTo>
                      <a:pt x="152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094360" y="5324400"/>
                <a:ext cx="110880" cy="90720"/>
              </a:xfrm>
              <a:custGeom>
                <a:avLst/>
                <a:gdLst/>
                <a:ahLst/>
                <a:rect l="l" t="t" r="r" b="b"/>
                <a:pathLst>
                  <a:path w="420" h="346">
                    <a:moveTo>
                      <a:pt x="0" y="0"/>
                    </a:moveTo>
                    <a:lnTo>
                      <a:pt x="37" y="41"/>
                    </a:lnTo>
                    <a:lnTo>
                      <a:pt x="114" y="77"/>
                    </a:lnTo>
                    <a:lnTo>
                      <a:pt x="151" y="119"/>
                    </a:lnTo>
                    <a:lnTo>
                      <a:pt x="191" y="154"/>
                    </a:lnTo>
                    <a:lnTo>
                      <a:pt x="265" y="232"/>
                    </a:lnTo>
                    <a:lnTo>
                      <a:pt x="306" y="268"/>
                    </a:lnTo>
                    <a:lnTo>
                      <a:pt x="343" y="309"/>
                    </a:lnTo>
                    <a:lnTo>
                      <a:pt x="42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05240" y="5324400"/>
                <a:ext cx="142920" cy="120600"/>
              </a:xfrm>
              <a:custGeom>
                <a:avLst/>
                <a:gdLst/>
                <a:ahLst/>
                <a:rect l="l" t="t" r="r" b="b"/>
                <a:pathLst>
                  <a:path w="537" h="460">
                    <a:moveTo>
                      <a:pt x="0" y="0"/>
                    </a:moveTo>
                    <a:lnTo>
                      <a:pt x="37" y="41"/>
                    </a:lnTo>
                    <a:lnTo>
                      <a:pt x="114" y="119"/>
                    </a:lnTo>
                    <a:lnTo>
                      <a:pt x="191" y="154"/>
                    </a:lnTo>
                    <a:lnTo>
                      <a:pt x="269" y="232"/>
                    </a:lnTo>
                    <a:lnTo>
                      <a:pt x="305" y="268"/>
                    </a:lnTo>
                    <a:lnTo>
                      <a:pt x="383" y="346"/>
                    </a:lnTo>
                    <a:lnTo>
                      <a:pt x="460" y="383"/>
                    </a:lnTo>
                    <a:lnTo>
                      <a:pt x="537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337000" y="532440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499" h="423">
                    <a:moveTo>
                      <a:pt x="0" y="0"/>
                    </a:moveTo>
                    <a:lnTo>
                      <a:pt x="76" y="41"/>
                    </a:lnTo>
                    <a:lnTo>
                      <a:pt x="153" y="77"/>
                    </a:lnTo>
                    <a:lnTo>
                      <a:pt x="190" y="154"/>
                    </a:lnTo>
                    <a:lnTo>
                      <a:pt x="267" y="191"/>
                    </a:lnTo>
                    <a:lnTo>
                      <a:pt x="345" y="268"/>
                    </a:lnTo>
                    <a:lnTo>
                      <a:pt x="382" y="309"/>
                    </a:lnTo>
                    <a:lnTo>
                      <a:pt x="459" y="383"/>
                    </a:lnTo>
                    <a:lnTo>
                      <a:pt x="499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50040" y="532440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460" h="423">
                    <a:moveTo>
                      <a:pt x="0" y="0"/>
                    </a:moveTo>
                    <a:lnTo>
                      <a:pt x="77" y="77"/>
                    </a:lnTo>
                    <a:lnTo>
                      <a:pt x="114" y="119"/>
                    </a:lnTo>
                    <a:lnTo>
                      <a:pt x="192" y="154"/>
                    </a:lnTo>
                    <a:lnTo>
                      <a:pt x="228" y="191"/>
                    </a:lnTo>
                    <a:lnTo>
                      <a:pt x="306" y="268"/>
                    </a:lnTo>
                    <a:lnTo>
                      <a:pt x="346" y="309"/>
                    </a:lnTo>
                    <a:lnTo>
                      <a:pt x="420" y="346"/>
                    </a:lnTo>
                    <a:lnTo>
                      <a:pt x="460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581800" y="5335560"/>
                <a:ext cx="141120" cy="100080"/>
              </a:xfrm>
              <a:custGeom>
                <a:avLst/>
                <a:gdLst/>
                <a:ahLst/>
                <a:rect l="l" t="t" r="r" b="b"/>
                <a:pathLst>
                  <a:path w="538" h="382">
                    <a:moveTo>
                      <a:pt x="0" y="0"/>
                    </a:moveTo>
                    <a:lnTo>
                      <a:pt x="77" y="36"/>
                    </a:lnTo>
                    <a:lnTo>
                      <a:pt x="155" y="78"/>
                    </a:lnTo>
                    <a:lnTo>
                      <a:pt x="232" y="113"/>
                    </a:lnTo>
                    <a:lnTo>
                      <a:pt x="306" y="191"/>
                    </a:lnTo>
                    <a:lnTo>
                      <a:pt x="383" y="227"/>
                    </a:lnTo>
                    <a:lnTo>
                      <a:pt x="423" y="268"/>
                    </a:lnTo>
                    <a:lnTo>
                      <a:pt x="497" y="342"/>
                    </a:lnTo>
                    <a:lnTo>
                      <a:pt x="538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22920" y="5345280"/>
                <a:ext cx="122400" cy="79200"/>
              </a:xfrm>
              <a:custGeom>
                <a:avLst/>
                <a:gdLst/>
                <a:ahLst/>
                <a:rect l="l" t="t" r="r" b="b"/>
                <a:pathLst>
                  <a:path w="459" h="306">
                    <a:moveTo>
                      <a:pt x="0" y="0"/>
                    </a:moveTo>
                    <a:lnTo>
                      <a:pt x="77" y="42"/>
                    </a:lnTo>
                    <a:lnTo>
                      <a:pt x="114" y="77"/>
                    </a:lnTo>
                    <a:lnTo>
                      <a:pt x="191" y="114"/>
                    </a:lnTo>
                    <a:lnTo>
                      <a:pt x="228" y="155"/>
                    </a:lnTo>
                    <a:lnTo>
                      <a:pt x="305" y="191"/>
                    </a:lnTo>
                    <a:lnTo>
                      <a:pt x="346" y="232"/>
                    </a:lnTo>
                    <a:lnTo>
                      <a:pt x="418" y="269"/>
                    </a:lnTo>
                    <a:lnTo>
                      <a:pt x="459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854680" y="5345280"/>
                <a:ext cx="131760" cy="90360"/>
              </a:xfrm>
              <a:custGeom>
                <a:avLst/>
                <a:gdLst/>
                <a:ahLst/>
                <a:rect l="l" t="t" r="r" b="b"/>
                <a:pathLst>
                  <a:path w="500" h="346">
                    <a:moveTo>
                      <a:pt x="0" y="0"/>
                    </a:moveTo>
                    <a:lnTo>
                      <a:pt x="40" y="77"/>
                    </a:lnTo>
                    <a:lnTo>
                      <a:pt x="114" y="114"/>
                    </a:lnTo>
                    <a:lnTo>
                      <a:pt x="154" y="155"/>
                    </a:lnTo>
                    <a:lnTo>
                      <a:pt x="231" y="191"/>
                    </a:lnTo>
                    <a:lnTo>
                      <a:pt x="305" y="232"/>
                    </a:lnTo>
                    <a:lnTo>
                      <a:pt x="383" y="269"/>
                    </a:lnTo>
                    <a:lnTo>
                      <a:pt x="460" y="306"/>
                    </a:lnTo>
                    <a:lnTo>
                      <a:pt x="50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56200" y="5345280"/>
                <a:ext cx="131760" cy="79200"/>
              </a:xfrm>
              <a:custGeom>
                <a:avLst/>
                <a:gdLst/>
                <a:ahLst/>
                <a:rect l="l" t="t" r="r" b="b"/>
                <a:pathLst>
                  <a:path w="500" h="306">
                    <a:moveTo>
                      <a:pt x="0" y="0"/>
                    </a:moveTo>
                    <a:lnTo>
                      <a:pt x="40" y="42"/>
                    </a:lnTo>
                    <a:lnTo>
                      <a:pt x="77" y="42"/>
                    </a:lnTo>
                    <a:lnTo>
                      <a:pt x="117" y="77"/>
                    </a:lnTo>
                    <a:lnTo>
                      <a:pt x="154" y="114"/>
                    </a:lnTo>
                    <a:lnTo>
                      <a:pt x="191" y="155"/>
                    </a:lnTo>
                    <a:lnTo>
                      <a:pt x="231" y="155"/>
                    </a:lnTo>
                    <a:lnTo>
                      <a:pt x="268" y="191"/>
                    </a:lnTo>
                    <a:lnTo>
                      <a:pt x="309" y="191"/>
                    </a:lnTo>
                    <a:lnTo>
                      <a:pt x="346" y="232"/>
                    </a:lnTo>
                    <a:lnTo>
                      <a:pt x="382" y="269"/>
                    </a:lnTo>
                    <a:lnTo>
                      <a:pt x="423" y="306"/>
                    </a:lnTo>
                    <a:lnTo>
                      <a:pt x="460" y="306"/>
                    </a:lnTo>
                    <a:lnTo>
                      <a:pt x="500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97680" y="5354640"/>
                <a:ext cx="182520" cy="90360"/>
              </a:xfrm>
              <a:custGeom>
                <a:avLst/>
                <a:gdLst/>
                <a:ahLst/>
                <a:rect l="l" t="t" r="r" b="b"/>
                <a:pathLst>
                  <a:path w="687" h="341">
                    <a:moveTo>
                      <a:pt x="0" y="0"/>
                    </a:moveTo>
                    <a:lnTo>
                      <a:pt x="37" y="0"/>
                    </a:lnTo>
                    <a:lnTo>
                      <a:pt x="77" y="35"/>
                    </a:lnTo>
                    <a:lnTo>
                      <a:pt x="114" y="35"/>
                    </a:lnTo>
                    <a:lnTo>
                      <a:pt x="155" y="35"/>
                    </a:lnTo>
                    <a:lnTo>
                      <a:pt x="192" y="35"/>
                    </a:lnTo>
                    <a:lnTo>
                      <a:pt x="228" y="72"/>
                    </a:lnTo>
                    <a:lnTo>
                      <a:pt x="269" y="72"/>
                    </a:lnTo>
                    <a:lnTo>
                      <a:pt x="306" y="113"/>
                    </a:lnTo>
                    <a:lnTo>
                      <a:pt x="346" y="149"/>
                    </a:lnTo>
                    <a:lnTo>
                      <a:pt x="383" y="190"/>
                    </a:lnTo>
                    <a:lnTo>
                      <a:pt x="460" y="190"/>
                    </a:lnTo>
                    <a:lnTo>
                      <a:pt x="497" y="227"/>
                    </a:lnTo>
                    <a:lnTo>
                      <a:pt x="538" y="264"/>
                    </a:lnTo>
                    <a:lnTo>
                      <a:pt x="574" y="304"/>
                    </a:lnTo>
                    <a:lnTo>
                      <a:pt x="615" y="304"/>
                    </a:lnTo>
                    <a:lnTo>
                      <a:pt x="652" y="341"/>
                    </a:lnTo>
                    <a:lnTo>
                      <a:pt x="687" y="3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240600" y="5324400"/>
                <a:ext cx="272880" cy="150840"/>
              </a:xfrm>
              <a:custGeom>
                <a:avLst/>
                <a:gdLst/>
                <a:ahLst/>
                <a:rect l="l" t="t" r="r" b="b"/>
                <a:pathLst>
                  <a:path w="1033" h="574">
                    <a:moveTo>
                      <a:pt x="0" y="0"/>
                    </a:moveTo>
                    <a:lnTo>
                      <a:pt x="36" y="41"/>
                    </a:lnTo>
                    <a:lnTo>
                      <a:pt x="114" y="41"/>
                    </a:lnTo>
                    <a:lnTo>
                      <a:pt x="149" y="77"/>
                    </a:lnTo>
                    <a:lnTo>
                      <a:pt x="227" y="119"/>
                    </a:lnTo>
                    <a:lnTo>
                      <a:pt x="268" y="154"/>
                    </a:lnTo>
                    <a:lnTo>
                      <a:pt x="341" y="191"/>
                    </a:lnTo>
                    <a:lnTo>
                      <a:pt x="418" y="232"/>
                    </a:lnTo>
                    <a:lnTo>
                      <a:pt x="459" y="268"/>
                    </a:lnTo>
                    <a:lnTo>
                      <a:pt x="532" y="309"/>
                    </a:lnTo>
                    <a:lnTo>
                      <a:pt x="573" y="346"/>
                    </a:lnTo>
                    <a:lnTo>
                      <a:pt x="650" y="383"/>
                    </a:lnTo>
                    <a:lnTo>
                      <a:pt x="687" y="423"/>
                    </a:lnTo>
                    <a:lnTo>
                      <a:pt x="764" y="460"/>
                    </a:lnTo>
                    <a:lnTo>
                      <a:pt x="842" y="500"/>
                    </a:lnTo>
                    <a:lnTo>
                      <a:pt x="878" y="500"/>
                    </a:lnTo>
                    <a:lnTo>
                      <a:pt x="956" y="537"/>
                    </a:lnTo>
                    <a:lnTo>
                      <a:pt x="993" y="537"/>
                    </a:lnTo>
                    <a:lnTo>
                      <a:pt x="993" y="574"/>
                    </a:lnTo>
                    <a:lnTo>
                      <a:pt x="1033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340320" y="5264280"/>
                <a:ext cx="223920" cy="150840"/>
              </a:xfrm>
              <a:custGeom>
                <a:avLst/>
                <a:gdLst/>
                <a:ahLst/>
                <a:rect l="l" t="t" r="r" b="b"/>
                <a:pathLst>
                  <a:path w="843" h="573">
                    <a:moveTo>
                      <a:pt x="0" y="0"/>
                    </a:moveTo>
                    <a:lnTo>
                      <a:pt x="37" y="37"/>
                    </a:lnTo>
                    <a:lnTo>
                      <a:pt x="78" y="37"/>
                    </a:lnTo>
                    <a:lnTo>
                      <a:pt x="115" y="77"/>
                    </a:lnTo>
                    <a:lnTo>
                      <a:pt x="151" y="114"/>
                    </a:lnTo>
                    <a:lnTo>
                      <a:pt x="229" y="154"/>
                    </a:lnTo>
                    <a:lnTo>
                      <a:pt x="269" y="191"/>
                    </a:lnTo>
                    <a:lnTo>
                      <a:pt x="306" y="227"/>
                    </a:lnTo>
                    <a:lnTo>
                      <a:pt x="346" y="268"/>
                    </a:lnTo>
                    <a:lnTo>
                      <a:pt x="383" y="268"/>
                    </a:lnTo>
                    <a:lnTo>
                      <a:pt x="420" y="304"/>
                    </a:lnTo>
                    <a:lnTo>
                      <a:pt x="497" y="346"/>
                    </a:lnTo>
                    <a:lnTo>
                      <a:pt x="538" y="381"/>
                    </a:lnTo>
                    <a:lnTo>
                      <a:pt x="575" y="381"/>
                    </a:lnTo>
                    <a:lnTo>
                      <a:pt x="612" y="418"/>
                    </a:lnTo>
                    <a:lnTo>
                      <a:pt x="652" y="459"/>
                    </a:lnTo>
                    <a:lnTo>
                      <a:pt x="689" y="459"/>
                    </a:lnTo>
                    <a:lnTo>
                      <a:pt x="689" y="495"/>
                    </a:lnTo>
                    <a:lnTo>
                      <a:pt x="729" y="495"/>
                    </a:lnTo>
                    <a:lnTo>
                      <a:pt x="766" y="536"/>
                    </a:lnTo>
                    <a:lnTo>
                      <a:pt x="803" y="536"/>
                    </a:lnTo>
                    <a:lnTo>
                      <a:pt x="803" y="573"/>
                    </a:lnTo>
                    <a:lnTo>
                      <a:pt x="843" y="5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26120" y="49500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0" y="0"/>
                    </a:moveTo>
                    <a:lnTo>
                      <a:pt x="0" y="41"/>
                    </a:lnTo>
                    <a:lnTo>
                      <a:pt x="37" y="41"/>
                    </a:lnTo>
                    <a:lnTo>
                      <a:pt x="37" y="77"/>
                    </a:lnTo>
                    <a:lnTo>
                      <a:pt x="77" y="77"/>
                    </a:lnTo>
                    <a:lnTo>
                      <a:pt x="114" y="114"/>
                    </a:lnTo>
                    <a:lnTo>
                      <a:pt x="151" y="155"/>
                    </a:lnTo>
                    <a:lnTo>
                      <a:pt x="192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7120" y="495000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304" h="192">
                    <a:moveTo>
                      <a:pt x="0" y="0"/>
                    </a:moveTo>
                    <a:lnTo>
                      <a:pt x="40" y="0"/>
                    </a:lnTo>
                    <a:lnTo>
                      <a:pt x="77" y="41"/>
                    </a:lnTo>
                    <a:lnTo>
                      <a:pt x="114" y="77"/>
                    </a:lnTo>
                    <a:lnTo>
                      <a:pt x="154" y="77"/>
                    </a:lnTo>
                    <a:lnTo>
                      <a:pt x="190" y="114"/>
                    </a:lnTo>
                    <a:lnTo>
                      <a:pt x="232" y="155"/>
                    </a:lnTo>
                    <a:lnTo>
                      <a:pt x="267" y="155"/>
                    </a:lnTo>
                    <a:lnTo>
                      <a:pt x="304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19800" y="495000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83" h="232">
                    <a:moveTo>
                      <a:pt x="0" y="0"/>
                    </a:moveTo>
                    <a:lnTo>
                      <a:pt x="37" y="41"/>
                    </a:lnTo>
                    <a:lnTo>
                      <a:pt x="114" y="41"/>
                    </a:lnTo>
                    <a:lnTo>
                      <a:pt x="151" y="77"/>
                    </a:lnTo>
                    <a:lnTo>
                      <a:pt x="191" y="114"/>
                    </a:lnTo>
                    <a:lnTo>
                      <a:pt x="265" y="155"/>
                    </a:lnTo>
                    <a:lnTo>
                      <a:pt x="306" y="192"/>
                    </a:lnTo>
                    <a:lnTo>
                      <a:pt x="342" y="232"/>
                    </a:lnTo>
                    <a:lnTo>
                      <a:pt x="383" y="23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40400" y="495936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83" h="228">
                    <a:moveTo>
                      <a:pt x="0" y="0"/>
                    </a:moveTo>
                    <a:lnTo>
                      <a:pt x="37" y="36"/>
                    </a:lnTo>
                    <a:lnTo>
                      <a:pt x="74" y="36"/>
                    </a:lnTo>
                    <a:lnTo>
                      <a:pt x="151" y="73"/>
                    </a:lnTo>
                    <a:lnTo>
                      <a:pt x="192" y="73"/>
                    </a:lnTo>
                    <a:lnTo>
                      <a:pt x="265" y="114"/>
                    </a:lnTo>
                    <a:lnTo>
                      <a:pt x="306" y="151"/>
                    </a:lnTo>
                    <a:lnTo>
                      <a:pt x="343" y="191"/>
                    </a:lnTo>
                    <a:lnTo>
                      <a:pt x="383" y="2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92680" y="4979880"/>
                <a:ext cx="111240" cy="50760"/>
              </a:xfrm>
              <a:custGeom>
                <a:avLst/>
                <a:gdLst/>
                <a:ahLst/>
                <a:rect l="l" t="t" r="r" b="b"/>
                <a:pathLst>
                  <a:path w="420" h="192">
                    <a:moveTo>
                      <a:pt x="0" y="0"/>
                    </a:moveTo>
                    <a:lnTo>
                      <a:pt x="37" y="0"/>
                    </a:lnTo>
                    <a:lnTo>
                      <a:pt x="115" y="41"/>
                    </a:lnTo>
                    <a:lnTo>
                      <a:pt x="152" y="41"/>
                    </a:lnTo>
                    <a:lnTo>
                      <a:pt x="229" y="78"/>
                    </a:lnTo>
                    <a:lnTo>
                      <a:pt x="269" y="78"/>
                    </a:lnTo>
                    <a:lnTo>
                      <a:pt x="343" y="118"/>
                    </a:lnTo>
                    <a:lnTo>
                      <a:pt x="383" y="155"/>
                    </a:lnTo>
                    <a:lnTo>
                      <a:pt x="42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34160" y="5000760"/>
                <a:ext cx="81000" cy="39600"/>
              </a:xfrm>
              <a:custGeom>
                <a:avLst/>
                <a:gdLst/>
                <a:ahLst/>
                <a:rect l="l" t="t" r="r" b="b"/>
                <a:pathLst>
                  <a:path w="309" h="154">
                    <a:moveTo>
                      <a:pt x="0" y="0"/>
                    </a:moveTo>
                    <a:lnTo>
                      <a:pt x="41" y="0"/>
                    </a:lnTo>
                    <a:lnTo>
                      <a:pt x="78" y="0"/>
                    </a:lnTo>
                    <a:lnTo>
                      <a:pt x="118" y="40"/>
                    </a:lnTo>
                    <a:lnTo>
                      <a:pt x="155" y="40"/>
                    </a:lnTo>
                    <a:lnTo>
                      <a:pt x="192" y="77"/>
                    </a:lnTo>
                    <a:lnTo>
                      <a:pt x="232" y="77"/>
                    </a:lnTo>
                    <a:lnTo>
                      <a:pt x="269" y="114"/>
                    </a:lnTo>
                    <a:lnTo>
                      <a:pt x="309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89840" y="5010120"/>
                <a:ext cx="434880" cy="173160"/>
              </a:xfrm>
              <a:custGeom>
                <a:avLst/>
                <a:gdLst/>
                <a:ahLst/>
                <a:rect l="l" t="t" r="r" b="b"/>
                <a:pathLst>
                  <a:path w="1645" h="651">
                    <a:moveTo>
                      <a:pt x="0" y="0"/>
                    </a:moveTo>
                    <a:lnTo>
                      <a:pt x="37" y="0"/>
                    </a:lnTo>
                    <a:lnTo>
                      <a:pt x="77" y="37"/>
                    </a:lnTo>
                    <a:lnTo>
                      <a:pt x="114" y="37"/>
                    </a:lnTo>
                    <a:lnTo>
                      <a:pt x="151" y="74"/>
                    </a:lnTo>
                    <a:lnTo>
                      <a:pt x="192" y="74"/>
                    </a:lnTo>
                    <a:lnTo>
                      <a:pt x="228" y="114"/>
                    </a:lnTo>
                    <a:lnTo>
                      <a:pt x="269" y="114"/>
                    </a:lnTo>
                    <a:lnTo>
                      <a:pt x="306" y="151"/>
                    </a:lnTo>
                    <a:lnTo>
                      <a:pt x="383" y="191"/>
                    </a:lnTo>
                    <a:lnTo>
                      <a:pt x="460" y="228"/>
                    </a:lnTo>
                    <a:lnTo>
                      <a:pt x="573" y="269"/>
                    </a:lnTo>
                    <a:lnTo>
                      <a:pt x="651" y="305"/>
                    </a:lnTo>
                    <a:lnTo>
                      <a:pt x="724" y="342"/>
                    </a:lnTo>
                    <a:lnTo>
                      <a:pt x="802" y="342"/>
                    </a:lnTo>
                    <a:lnTo>
                      <a:pt x="842" y="383"/>
                    </a:lnTo>
                    <a:lnTo>
                      <a:pt x="879" y="383"/>
                    </a:lnTo>
                    <a:lnTo>
                      <a:pt x="956" y="420"/>
                    </a:lnTo>
                    <a:lnTo>
                      <a:pt x="993" y="420"/>
                    </a:lnTo>
                    <a:lnTo>
                      <a:pt x="1034" y="420"/>
                    </a:lnTo>
                    <a:lnTo>
                      <a:pt x="1111" y="460"/>
                    </a:lnTo>
                    <a:lnTo>
                      <a:pt x="1148" y="460"/>
                    </a:lnTo>
                    <a:lnTo>
                      <a:pt x="1185" y="497"/>
                    </a:lnTo>
                    <a:lnTo>
                      <a:pt x="1262" y="497"/>
                    </a:lnTo>
                    <a:lnTo>
                      <a:pt x="1302" y="534"/>
                    </a:lnTo>
                    <a:lnTo>
                      <a:pt x="1339" y="534"/>
                    </a:lnTo>
                    <a:lnTo>
                      <a:pt x="1416" y="574"/>
                    </a:lnTo>
                    <a:lnTo>
                      <a:pt x="1453" y="574"/>
                    </a:lnTo>
                    <a:lnTo>
                      <a:pt x="1494" y="611"/>
                    </a:lnTo>
                    <a:lnTo>
                      <a:pt x="1568" y="611"/>
                    </a:lnTo>
                    <a:lnTo>
                      <a:pt x="1608" y="611"/>
                    </a:lnTo>
                    <a:lnTo>
                      <a:pt x="1645" y="6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361200" y="5162400"/>
                <a:ext cx="253800" cy="111240"/>
              </a:xfrm>
              <a:custGeom>
                <a:avLst/>
                <a:gdLst/>
                <a:ahLst/>
                <a:rect l="l" t="t" r="r" b="b"/>
                <a:pathLst>
                  <a:path w="957" h="420">
                    <a:moveTo>
                      <a:pt x="0" y="0"/>
                    </a:moveTo>
                    <a:lnTo>
                      <a:pt x="37" y="0"/>
                    </a:lnTo>
                    <a:lnTo>
                      <a:pt x="114" y="37"/>
                    </a:lnTo>
                    <a:lnTo>
                      <a:pt x="151" y="77"/>
                    </a:lnTo>
                    <a:lnTo>
                      <a:pt x="228" y="114"/>
                    </a:lnTo>
                    <a:lnTo>
                      <a:pt x="268" y="114"/>
                    </a:lnTo>
                    <a:lnTo>
                      <a:pt x="342" y="151"/>
                    </a:lnTo>
                    <a:lnTo>
                      <a:pt x="383" y="191"/>
                    </a:lnTo>
                    <a:lnTo>
                      <a:pt x="460" y="228"/>
                    </a:lnTo>
                    <a:lnTo>
                      <a:pt x="497" y="228"/>
                    </a:lnTo>
                    <a:lnTo>
                      <a:pt x="574" y="269"/>
                    </a:lnTo>
                    <a:lnTo>
                      <a:pt x="611" y="305"/>
                    </a:lnTo>
                    <a:lnTo>
                      <a:pt x="688" y="305"/>
                    </a:lnTo>
                    <a:lnTo>
                      <a:pt x="765" y="342"/>
                    </a:lnTo>
                    <a:lnTo>
                      <a:pt x="802" y="342"/>
                    </a:lnTo>
                    <a:lnTo>
                      <a:pt x="880" y="383"/>
                    </a:lnTo>
                    <a:lnTo>
                      <a:pt x="917" y="383"/>
                    </a:lnTo>
                    <a:lnTo>
                      <a:pt x="957" y="383"/>
                    </a:lnTo>
                    <a:lnTo>
                      <a:pt x="957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321600" y="5000760"/>
                <a:ext cx="314280" cy="131760"/>
              </a:xfrm>
              <a:custGeom>
                <a:avLst/>
                <a:gdLst/>
                <a:ahLst/>
                <a:rect l="l" t="t" r="r" b="b"/>
                <a:pathLst>
                  <a:path w="1189" h="500">
                    <a:moveTo>
                      <a:pt x="0" y="0"/>
                    </a:moveTo>
                    <a:lnTo>
                      <a:pt x="37" y="40"/>
                    </a:lnTo>
                    <a:lnTo>
                      <a:pt x="114" y="40"/>
                    </a:lnTo>
                    <a:lnTo>
                      <a:pt x="155" y="77"/>
                    </a:lnTo>
                    <a:lnTo>
                      <a:pt x="192" y="114"/>
                    </a:lnTo>
                    <a:lnTo>
                      <a:pt x="269" y="114"/>
                    </a:lnTo>
                    <a:lnTo>
                      <a:pt x="306" y="154"/>
                    </a:lnTo>
                    <a:lnTo>
                      <a:pt x="346" y="154"/>
                    </a:lnTo>
                    <a:lnTo>
                      <a:pt x="423" y="191"/>
                    </a:lnTo>
                    <a:lnTo>
                      <a:pt x="460" y="191"/>
                    </a:lnTo>
                    <a:lnTo>
                      <a:pt x="497" y="231"/>
                    </a:lnTo>
                    <a:lnTo>
                      <a:pt x="574" y="231"/>
                    </a:lnTo>
                    <a:lnTo>
                      <a:pt x="615" y="268"/>
                    </a:lnTo>
                    <a:lnTo>
                      <a:pt x="652" y="268"/>
                    </a:lnTo>
                    <a:lnTo>
                      <a:pt x="729" y="309"/>
                    </a:lnTo>
                    <a:lnTo>
                      <a:pt x="766" y="309"/>
                    </a:lnTo>
                    <a:lnTo>
                      <a:pt x="806" y="345"/>
                    </a:lnTo>
                    <a:lnTo>
                      <a:pt x="843" y="345"/>
                    </a:lnTo>
                    <a:lnTo>
                      <a:pt x="920" y="382"/>
                    </a:lnTo>
                    <a:lnTo>
                      <a:pt x="957" y="423"/>
                    </a:lnTo>
                    <a:lnTo>
                      <a:pt x="998" y="423"/>
                    </a:lnTo>
                    <a:lnTo>
                      <a:pt x="1072" y="460"/>
                    </a:lnTo>
                    <a:lnTo>
                      <a:pt x="1112" y="460"/>
                    </a:lnTo>
                    <a:lnTo>
                      <a:pt x="1149" y="500"/>
                    </a:lnTo>
                    <a:lnTo>
                      <a:pt x="1189" y="50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483240" y="5019840"/>
                <a:ext cx="131760" cy="50760"/>
              </a:xfrm>
              <a:custGeom>
                <a:avLst/>
                <a:gdLst/>
                <a:ahLst/>
                <a:rect l="l" t="t" r="r" b="b"/>
                <a:pathLst>
                  <a:path w="497" h="191">
                    <a:moveTo>
                      <a:pt x="497" y="191"/>
                    </a:moveTo>
                    <a:lnTo>
                      <a:pt x="457" y="191"/>
                    </a:lnTo>
                    <a:lnTo>
                      <a:pt x="420" y="191"/>
                    </a:lnTo>
                    <a:lnTo>
                      <a:pt x="383" y="191"/>
                    </a:lnTo>
                    <a:lnTo>
                      <a:pt x="342" y="191"/>
                    </a:lnTo>
                    <a:lnTo>
                      <a:pt x="305" y="154"/>
                    </a:lnTo>
                    <a:lnTo>
                      <a:pt x="265" y="154"/>
                    </a:lnTo>
                    <a:lnTo>
                      <a:pt x="228" y="154"/>
                    </a:lnTo>
                    <a:lnTo>
                      <a:pt x="191" y="114"/>
                    </a:lnTo>
                    <a:lnTo>
                      <a:pt x="151" y="114"/>
                    </a:lnTo>
                    <a:lnTo>
                      <a:pt x="114" y="77"/>
                    </a:lnTo>
                    <a:lnTo>
                      <a:pt x="74" y="77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486320" y="5100480"/>
                <a:ext cx="2149560" cy="760680"/>
              </a:xfrm>
              <a:custGeom>
                <a:avLst/>
                <a:gdLst/>
                <a:ahLst/>
                <a:rect l="l" t="t" r="r" b="b"/>
                <a:pathLst>
                  <a:path w="8121" h="2872">
                    <a:moveTo>
                      <a:pt x="957" y="460"/>
                    </a:moveTo>
                    <a:lnTo>
                      <a:pt x="920" y="501"/>
                    </a:lnTo>
                    <a:lnTo>
                      <a:pt x="880" y="574"/>
                    </a:lnTo>
                    <a:lnTo>
                      <a:pt x="806" y="652"/>
                    </a:lnTo>
                    <a:lnTo>
                      <a:pt x="766" y="729"/>
                    </a:lnTo>
                    <a:lnTo>
                      <a:pt x="689" y="769"/>
                    </a:lnTo>
                    <a:lnTo>
                      <a:pt x="615" y="842"/>
                    </a:lnTo>
                    <a:lnTo>
                      <a:pt x="574" y="919"/>
                    </a:lnTo>
                    <a:lnTo>
                      <a:pt x="497" y="996"/>
                    </a:lnTo>
                    <a:lnTo>
                      <a:pt x="423" y="1033"/>
                    </a:lnTo>
                    <a:lnTo>
                      <a:pt x="346" y="1110"/>
                    </a:lnTo>
                    <a:lnTo>
                      <a:pt x="269" y="1188"/>
                    </a:lnTo>
                    <a:lnTo>
                      <a:pt x="228" y="1225"/>
                    </a:lnTo>
                    <a:lnTo>
                      <a:pt x="155" y="1302"/>
                    </a:lnTo>
                    <a:lnTo>
                      <a:pt x="77" y="1379"/>
                    </a:lnTo>
                    <a:lnTo>
                      <a:pt x="37" y="1456"/>
                    </a:lnTo>
                    <a:lnTo>
                      <a:pt x="0" y="1493"/>
                    </a:lnTo>
                    <a:lnTo>
                      <a:pt x="37" y="1533"/>
                    </a:lnTo>
                    <a:lnTo>
                      <a:pt x="77" y="1533"/>
                    </a:lnTo>
                    <a:lnTo>
                      <a:pt x="114" y="1533"/>
                    </a:lnTo>
                    <a:lnTo>
                      <a:pt x="155" y="1533"/>
                    </a:lnTo>
                    <a:lnTo>
                      <a:pt x="192" y="1533"/>
                    </a:lnTo>
                    <a:lnTo>
                      <a:pt x="269" y="1533"/>
                    </a:lnTo>
                    <a:lnTo>
                      <a:pt x="306" y="1533"/>
                    </a:lnTo>
                    <a:lnTo>
                      <a:pt x="346" y="1533"/>
                    </a:lnTo>
                    <a:lnTo>
                      <a:pt x="383" y="1533"/>
                    </a:lnTo>
                    <a:lnTo>
                      <a:pt x="460" y="1533"/>
                    </a:lnTo>
                    <a:lnTo>
                      <a:pt x="497" y="1533"/>
                    </a:lnTo>
                    <a:lnTo>
                      <a:pt x="538" y="1533"/>
                    </a:lnTo>
                    <a:lnTo>
                      <a:pt x="574" y="1533"/>
                    </a:lnTo>
                    <a:lnTo>
                      <a:pt x="615" y="1533"/>
                    </a:lnTo>
                    <a:lnTo>
                      <a:pt x="652" y="1533"/>
                    </a:lnTo>
                    <a:lnTo>
                      <a:pt x="689" y="1570"/>
                    </a:lnTo>
                    <a:lnTo>
                      <a:pt x="806" y="1570"/>
                    </a:lnTo>
                    <a:lnTo>
                      <a:pt x="920" y="1611"/>
                    </a:lnTo>
                    <a:lnTo>
                      <a:pt x="998" y="1648"/>
                    </a:lnTo>
                    <a:lnTo>
                      <a:pt x="1112" y="1648"/>
                    </a:lnTo>
                    <a:lnTo>
                      <a:pt x="1226" y="1684"/>
                    </a:lnTo>
                    <a:lnTo>
                      <a:pt x="1340" y="1684"/>
                    </a:lnTo>
                    <a:lnTo>
                      <a:pt x="1458" y="1684"/>
                    </a:lnTo>
                    <a:lnTo>
                      <a:pt x="1572" y="1725"/>
                    </a:lnTo>
                    <a:lnTo>
                      <a:pt x="1685" y="1725"/>
                    </a:lnTo>
                    <a:lnTo>
                      <a:pt x="1799" y="1762"/>
                    </a:lnTo>
                    <a:lnTo>
                      <a:pt x="1914" y="1762"/>
                    </a:lnTo>
                    <a:lnTo>
                      <a:pt x="2031" y="1802"/>
                    </a:lnTo>
                    <a:lnTo>
                      <a:pt x="2105" y="1802"/>
                    </a:lnTo>
                    <a:lnTo>
                      <a:pt x="2223" y="1839"/>
                    </a:lnTo>
                    <a:lnTo>
                      <a:pt x="2337" y="1876"/>
                    </a:lnTo>
                    <a:lnTo>
                      <a:pt x="2414" y="1916"/>
                    </a:lnTo>
                    <a:lnTo>
                      <a:pt x="2528" y="1953"/>
                    </a:lnTo>
                    <a:lnTo>
                      <a:pt x="2643" y="1993"/>
                    </a:lnTo>
                    <a:lnTo>
                      <a:pt x="2797" y="1993"/>
                    </a:lnTo>
                    <a:lnTo>
                      <a:pt x="2911" y="2030"/>
                    </a:lnTo>
                    <a:lnTo>
                      <a:pt x="3066" y="2030"/>
                    </a:lnTo>
                    <a:lnTo>
                      <a:pt x="3180" y="2067"/>
                    </a:lnTo>
                    <a:lnTo>
                      <a:pt x="3335" y="2067"/>
                    </a:lnTo>
                    <a:lnTo>
                      <a:pt x="3448" y="2067"/>
                    </a:lnTo>
                    <a:lnTo>
                      <a:pt x="3599" y="2067"/>
                    </a:lnTo>
                    <a:lnTo>
                      <a:pt x="3716" y="2108"/>
                    </a:lnTo>
                    <a:lnTo>
                      <a:pt x="3867" y="2108"/>
                    </a:lnTo>
                    <a:lnTo>
                      <a:pt x="3985" y="2108"/>
                    </a:lnTo>
                    <a:lnTo>
                      <a:pt x="4136" y="2144"/>
                    </a:lnTo>
                    <a:lnTo>
                      <a:pt x="4250" y="2144"/>
                    </a:lnTo>
                    <a:lnTo>
                      <a:pt x="4368" y="2185"/>
                    </a:lnTo>
                    <a:lnTo>
                      <a:pt x="4482" y="2222"/>
                    </a:lnTo>
                    <a:lnTo>
                      <a:pt x="4559" y="2222"/>
                    </a:lnTo>
                    <a:lnTo>
                      <a:pt x="4596" y="2222"/>
                    </a:lnTo>
                    <a:lnTo>
                      <a:pt x="4633" y="2259"/>
                    </a:lnTo>
                    <a:lnTo>
                      <a:pt x="4674" y="2259"/>
                    </a:lnTo>
                    <a:lnTo>
                      <a:pt x="4751" y="2259"/>
                    </a:lnTo>
                    <a:lnTo>
                      <a:pt x="4788" y="2259"/>
                    </a:lnTo>
                    <a:lnTo>
                      <a:pt x="4865" y="2259"/>
                    </a:lnTo>
                    <a:lnTo>
                      <a:pt x="4902" y="2299"/>
                    </a:lnTo>
                    <a:lnTo>
                      <a:pt x="4979" y="2299"/>
                    </a:lnTo>
                    <a:lnTo>
                      <a:pt x="5020" y="2299"/>
                    </a:lnTo>
                    <a:lnTo>
                      <a:pt x="5092" y="2299"/>
                    </a:lnTo>
                    <a:lnTo>
                      <a:pt x="5133" y="2299"/>
                    </a:lnTo>
                    <a:lnTo>
                      <a:pt x="5210" y="2336"/>
                    </a:lnTo>
                    <a:lnTo>
                      <a:pt x="5247" y="2336"/>
                    </a:lnTo>
                    <a:lnTo>
                      <a:pt x="5324" y="2336"/>
                    </a:lnTo>
                    <a:lnTo>
                      <a:pt x="5361" y="2376"/>
                    </a:lnTo>
                    <a:lnTo>
                      <a:pt x="6705" y="2758"/>
                    </a:lnTo>
                    <a:lnTo>
                      <a:pt x="6742" y="2758"/>
                    </a:lnTo>
                    <a:lnTo>
                      <a:pt x="6742" y="2795"/>
                    </a:lnTo>
                    <a:lnTo>
                      <a:pt x="6777" y="2795"/>
                    </a:lnTo>
                    <a:lnTo>
                      <a:pt x="6819" y="2795"/>
                    </a:lnTo>
                    <a:lnTo>
                      <a:pt x="6896" y="2795"/>
                    </a:lnTo>
                    <a:lnTo>
                      <a:pt x="6932" y="2835"/>
                    </a:lnTo>
                    <a:lnTo>
                      <a:pt x="6969" y="2835"/>
                    </a:lnTo>
                    <a:lnTo>
                      <a:pt x="7046" y="2835"/>
                    </a:lnTo>
                    <a:lnTo>
                      <a:pt x="7087" y="2872"/>
                    </a:lnTo>
                    <a:lnTo>
                      <a:pt x="7160" y="2872"/>
                    </a:lnTo>
                    <a:lnTo>
                      <a:pt x="7201" y="2872"/>
                    </a:lnTo>
                    <a:lnTo>
                      <a:pt x="7238" y="2872"/>
                    </a:lnTo>
                    <a:lnTo>
                      <a:pt x="7278" y="2872"/>
                    </a:lnTo>
                    <a:lnTo>
                      <a:pt x="7315" y="2872"/>
                    </a:lnTo>
                    <a:lnTo>
                      <a:pt x="7355" y="2872"/>
                    </a:lnTo>
                    <a:lnTo>
                      <a:pt x="7392" y="2758"/>
                    </a:lnTo>
                    <a:lnTo>
                      <a:pt x="7429" y="2680"/>
                    </a:lnTo>
                    <a:lnTo>
                      <a:pt x="7470" y="2567"/>
                    </a:lnTo>
                    <a:lnTo>
                      <a:pt x="7506" y="2453"/>
                    </a:lnTo>
                    <a:lnTo>
                      <a:pt x="7547" y="2336"/>
                    </a:lnTo>
                    <a:lnTo>
                      <a:pt x="7584" y="2222"/>
                    </a:lnTo>
                    <a:lnTo>
                      <a:pt x="7584" y="2144"/>
                    </a:lnTo>
                    <a:lnTo>
                      <a:pt x="7621" y="2067"/>
                    </a:lnTo>
                    <a:lnTo>
                      <a:pt x="7698" y="1953"/>
                    </a:lnTo>
                    <a:lnTo>
                      <a:pt x="7775" y="1839"/>
                    </a:lnTo>
                    <a:lnTo>
                      <a:pt x="7852" y="1725"/>
                    </a:lnTo>
                    <a:lnTo>
                      <a:pt x="7930" y="1570"/>
                    </a:lnTo>
                    <a:lnTo>
                      <a:pt x="8004" y="1456"/>
                    </a:lnTo>
                    <a:lnTo>
                      <a:pt x="8044" y="1342"/>
                    </a:lnTo>
                    <a:lnTo>
                      <a:pt x="8121" y="1225"/>
                    </a:lnTo>
                    <a:lnTo>
                      <a:pt x="8121" y="1110"/>
                    </a:lnTo>
                    <a:lnTo>
                      <a:pt x="8121" y="1074"/>
                    </a:lnTo>
                    <a:lnTo>
                      <a:pt x="8081" y="1074"/>
                    </a:lnTo>
                    <a:lnTo>
                      <a:pt x="8044" y="1074"/>
                    </a:lnTo>
                    <a:lnTo>
                      <a:pt x="8004" y="1033"/>
                    </a:lnTo>
                    <a:lnTo>
                      <a:pt x="7967" y="1033"/>
                    </a:lnTo>
                    <a:lnTo>
                      <a:pt x="7930" y="1033"/>
                    </a:lnTo>
                    <a:lnTo>
                      <a:pt x="7889" y="1033"/>
                    </a:lnTo>
                    <a:lnTo>
                      <a:pt x="7852" y="1033"/>
                    </a:lnTo>
                    <a:lnTo>
                      <a:pt x="7775" y="996"/>
                    </a:lnTo>
                    <a:lnTo>
                      <a:pt x="7698" y="961"/>
                    </a:lnTo>
                    <a:lnTo>
                      <a:pt x="7584" y="961"/>
                    </a:lnTo>
                    <a:lnTo>
                      <a:pt x="7506" y="961"/>
                    </a:lnTo>
                    <a:lnTo>
                      <a:pt x="7429" y="919"/>
                    </a:lnTo>
                    <a:lnTo>
                      <a:pt x="7355" y="919"/>
                    </a:lnTo>
                    <a:lnTo>
                      <a:pt x="7278" y="919"/>
                    </a:lnTo>
                    <a:lnTo>
                      <a:pt x="7160" y="883"/>
                    </a:lnTo>
                    <a:lnTo>
                      <a:pt x="7087" y="883"/>
                    </a:lnTo>
                    <a:lnTo>
                      <a:pt x="7009" y="883"/>
                    </a:lnTo>
                    <a:lnTo>
                      <a:pt x="6932" y="842"/>
                    </a:lnTo>
                    <a:lnTo>
                      <a:pt x="6819" y="842"/>
                    </a:lnTo>
                    <a:lnTo>
                      <a:pt x="6742" y="842"/>
                    </a:lnTo>
                    <a:lnTo>
                      <a:pt x="6664" y="842"/>
                    </a:lnTo>
                    <a:lnTo>
                      <a:pt x="6550" y="842"/>
                    </a:lnTo>
                    <a:lnTo>
                      <a:pt x="6473" y="806"/>
                    </a:lnTo>
                    <a:lnTo>
                      <a:pt x="6396" y="806"/>
                    </a:lnTo>
                    <a:lnTo>
                      <a:pt x="6282" y="806"/>
                    </a:lnTo>
                    <a:lnTo>
                      <a:pt x="6204" y="806"/>
                    </a:lnTo>
                    <a:lnTo>
                      <a:pt x="6127" y="769"/>
                    </a:lnTo>
                    <a:lnTo>
                      <a:pt x="6053" y="769"/>
                    </a:lnTo>
                    <a:lnTo>
                      <a:pt x="5935" y="769"/>
                    </a:lnTo>
                    <a:lnTo>
                      <a:pt x="5862" y="729"/>
                    </a:lnTo>
                    <a:lnTo>
                      <a:pt x="5784" y="729"/>
                    </a:lnTo>
                    <a:lnTo>
                      <a:pt x="5707" y="729"/>
                    </a:lnTo>
                    <a:lnTo>
                      <a:pt x="5593" y="692"/>
                    </a:lnTo>
                    <a:lnTo>
                      <a:pt x="5516" y="692"/>
                    </a:lnTo>
                    <a:lnTo>
                      <a:pt x="5438" y="692"/>
                    </a:lnTo>
                    <a:lnTo>
                      <a:pt x="5361" y="652"/>
                    </a:lnTo>
                    <a:lnTo>
                      <a:pt x="5284" y="652"/>
                    </a:lnTo>
                    <a:lnTo>
                      <a:pt x="5210" y="615"/>
                    </a:lnTo>
                    <a:lnTo>
                      <a:pt x="5133" y="574"/>
                    </a:lnTo>
                    <a:lnTo>
                      <a:pt x="5057" y="574"/>
                    </a:lnTo>
                    <a:lnTo>
                      <a:pt x="4979" y="537"/>
                    </a:lnTo>
                    <a:lnTo>
                      <a:pt x="4902" y="537"/>
                    </a:lnTo>
                    <a:lnTo>
                      <a:pt x="4828" y="501"/>
                    </a:lnTo>
                    <a:lnTo>
                      <a:pt x="4751" y="460"/>
                    </a:lnTo>
                    <a:lnTo>
                      <a:pt x="4633" y="460"/>
                    </a:lnTo>
                    <a:lnTo>
                      <a:pt x="4559" y="423"/>
                    </a:lnTo>
                    <a:lnTo>
                      <a:pt x="4482" y="423"/>
                    </a:lnTo>
                    <a:lnTo>
                      <a:pt x="4405" y="383"/>
                    </a:lnTo>
                    <a:lnTo>
                      <a:pt x="4291" y="383"/>
                    </a:lnTo>
                    <a:lnTo>
                      <a:pt x="4213" y="346"/>
                    </a:lnTo>
                    <a:lnTo>
                      <a:pt x="4136" y="346"/>
                    </a:lnTo>
                    <a:lnTo>
                      <a:pt x="4059" y="309"/>
                    </a:lnTo>
                    <a:lnTo>
                      <a:pt x="3985" y="309"/>
                    </a:lnTo>
                    <a:lnTo>
                      <a:pt x="3867" y="269"/>
                    </a:lnTo>
                    <a:lnTo>
                      <a:pt x="3790" y="269"/>
                    </a:lnTo>
                    <a:lnTo>
                      <a:pt x="3753" y="232"/>
                    </a:lnTo>
                    <a:lnTo>
                      <a:pt x="3676" y="232"/>
                    </a:lnTo>
                    <a:lnTo>
                      <a:pt x="3639" y="232"/>
                    </a:lnTo>
                    <a:lnTo>
                      <a:pt x="3562" y="192"/>
                    </a:lnTo>
                    <a:lnTo>
                      <a:pt x="3484" y="192"/>
                    </a:lnTo>
                    <a:lnTo>
                      <a:pt x="3407" y="155"/>
                    </a:lnTo>
                    <a:lnTo>
                      <a:pt x="3335" y="155"/>
                    </a:lnTo>
                    <a:lnTo>
                      <a:pt x="3257" y="155"/>
                    </a:lnTo>
                    <a:lnTo>
                      <a:pt x="3180" y="118"/>
                    </a:lnTo>
                    <a:lnTo>
                      <a:pt x="3103" y="118"/>
                    </a:lnTo>
                    <a:lnTo>
                      <a:pt x="3066" y="118"/>
                    </a:lnTo>
                    <a:lnTo>
                      <a:pt x="2989" y="118"/>
                    </a:lnTo>
                    <a:lnTo>
                      <a:pt x="2911" y="78"/>
                    </a:lnTo>
                    <a:lnTo>
                      <a:pt x="2834" y="78"/>
                    </a:lnTo>
                    <a:lnTo>
                      <a:pt x="2757" y="78"/>
                    </a:lnTo>
                    <a:lnTo>
                      <a:pt x="2720" y="78"/>
                    </a:lnTo>
                    <a:lnTo>
                      <a:pt x="2643" y="78"/>
                    </a:lnTo>
                    <a:lnTo>
                      <a:pt x="2565" y="78"/>
                    </a:lnTo>
                    <a:lnTo>
                      <a:pt x="2491" y="78"/>
                    </a:lnTo>
                    <a:lnTo>
                      <a:pt x="2414" y="78"/>
                    </a:lnTo>
                    <a:lnTo>
                      <a:pt x="2337" y="41"/>
                    </a:lnTo>
                    <a:lnTo>
                      <a:pt x="2260" y="41"/>
                    </a:lnTo>
                    <a:lnTo>
                      <a:pt x="2182" y="41"/>
                    </a:lnTo>
                    <a:lnTo>
                      <a:pt x="2105" y="41"/>
                    </a:lnTo>
                    <a:lnTo>
                      <a:pt x="2031" y="0"/>
                    </a:lnTo>
                    <a:lnTo>
                      <a:pt x="1954" y="0"/>
                    </a:lnTo>
                    <a:lnTo>
                      <a:pt x="1877" y="0"/>
                    </a:lnTo>
                    <a:lnTo>
                      <a:pt x="1799" y="0"/>
                    </a:lnTo>
                    <a:lnTo>
                      <a:pt x="1722" y="0"/>
                    </a:lnTo>
                    <a:lnTo>
                      <a:pt x="1685" y="0"/>
                    </a:lnTo>
                    <a:lnTo>
                      <a:pt x="1608" y="0"/>
                    </a:lnTo>
                    <a:lnTo>
                      <a:pt x="1531" y="0"/>
                    </a:lnTo>
                    <a:lnTo>
                      <a:pt x="1418" y="0"/>
                    </a:lnTo>
                    <a:lnTo>
                      <a:pt x="1340" y="41"/>
                    </a:lnTo>
                    <a:lnTo>
                      <a:pt x="1263" y="118"/>
                    </a:lnTo>
                    <a:lnTo>
                      <a:pt x="1189" y="155"/>
                    </a:lnTo>
                    <a:lnTo>
                      <a:pt x="1149" y="232"/>
                    </a:lnTo>
                    <a:lnTo>
                      <a:pt x="1072" y="309"/>
                    </a:lnTo>
                    <a:lnTo>
                      <a:pt x="1035" y="383"/>
                    </a:lnTo>
                    <a:lnTo>
                      <a:pt x="957" y="460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486320" y="5100480"/>
                <a:ext cx="2149560" cy="760680"/>
              </a:xfrm>
              <a:custGeom>
                <a:avLst/>
                <a:gdLst/>
                <a:ahLst/>
                <a:rect l="l" t="t" r="r" b="b"/>
                <a:pathLst>
                  <a:path w="8121" h="2872">
                    <a:moveTo>
                      <a:pt x="957" y="460"/>
                    </a:moveTo>
                    <a:lnTo>
                      <a:pt x="920" y="501"/>
                    </a:lnTo>
                    <a:lnTo>
                      <a:pt x="880" y="574"/>
                    </a:lnTo>
                    <a:lnTo>
                      <a:pt x="806" y="652"/>
                    </a:lnTo>
                    <a:lnTo>
                      <a:pt x="766" y="729"/>
                    </a:lnTo>
                    <a:lnTo>
                      <a:pt x="689" y="769"/>
                    </a:lnTo>
                    <a:lnTo>
                      <a:pt x="615" y="842"/>
                    </a:lnTo>
                    <a:lnTo>
                      <a:pt x="574" y="919"/>
                    </a:lnTo>
                    <a:lnTo>
                      <a:pt x="497" y="996"/>
                    </a:lnTo>
                    <a:lnTo>
                      <a:pt x="423" y="1033"/>
                    </a:lnTo>
                    <a:lnTo>
                      <a:pt x="346" y="1110"/>
                    </a:lnTo>
                    <a:lnTo>
                      <a:pt x="269" y="1188"/>
                    </a:lnTo>
                    <a:lnTo>
                      <a:pt x="228" y="1225"/>
                    </a:lnTo>
                    <a:lnTo>
                      <a:pt x="155" y="1302"/>
                    </a:lnTo>
                    <a:lnTo>
                      <a:pt x="77" y="1379"/>
                    </a:lnTo>
                    <a:lnTo>
                      <a:pt x="37" y="1456"/>
                    </a:lnTo>
                    <a:lnTo>
                      <a:pt x="0" y="1493"/>
                    </a:lnTo>
                    <a:lnTo>
                      <a:pt x="37" y="1533"/>
                    </a:lnTo>
                    <a:lnTo>
                      <a:pt x="77" y="1533"/>
                    </a:lnTo>
                    <a:lnTo>
                      <a:pt x="114" y="1533"/>
                    </a:lnTo>
                    <a:lnTo>
                      <a:pt x="155" y="1533"/>
                    </a:lnTo>
                    <a:lnTo>
                      <a:pt x="192" y="1533"/>
                    </a:lnTo>
                    <a:lnTo>
                      <a:pt x="269" y="1533"/>
                    </a:lnTo>
                    <a:lnTo>
                      <a:pt x="306" y="1533"/>
                    </a:lnTo>
                    <a:lnTo>
                      <a:pt x="346" y="1533"/>
                    </a:lnTo>
                    <a:lnTo>
                      <a:pt x="383" y="1533"/>
                    </a:lnTo>
                    <a:lnTo>
                      <a:pt x="460" y="1533"/>
                    </a:lnTo>
                    <a:lnTo>
                      <a:pt x="497" y="1533"/>
                    </a:lnTo>
                    <a:lnTo>
                      <a:pt x="538" y="1533"/>
                    </a:lnTo>
                    <a:lnTo>
                      <a:pt x="574" y="1533"/>
                    </a:lnTo>
                    <a:lnTo>
                      <a:pt x="615" y="1533"/>
                    </a:lnTo>
                    <a:lnTo>
                      <a:pt x="652" y="1533"/>
                    </a:lnTo>
                    <a:lnTo>
                      <a:pt x="689" y="1570"/>
                    </a:lnTo>
                    <a:lnTo>
                      <a:pt x="806" y="1570"/>
                    </a:lnTo>
                    <a:lnTo>
                      <a:pt x="920" y="1611"/>
                    </a:lnTo>
                    <a:lnTo>
                      <a:pt x="998" y="1648"/>
                    </a:lnTo>
                    <a:lnTo>
                      <a:pt x="1112" y="1648"/>
                    </a:lnTo>
                    <a:lnTo>
                      <a:pt x="1226" y="1684"/>
                    </a:lnTo>
                    <a:lnTo>
                      <a:pt x="1340" y="1684"/>
                    </a:lnTo>
                    <a:lnTo>
                      <a:pt x="1458" y="1684"/>
                    </a:lnTo>
                    <a:lnTo>
                      <a:pt x="1572" y="1725"/>
                    </a:lnTo>
                    <a:lnTo>
                      <a:pt x="1685" y="1725"/>
                    </a:lnTo>
                    <a:lnTo>
                      <a:pt x="1799" y="1762"/>
                    </a:lnTo>
                    <a:lnTo>
                      <a:pt x="1914" y="1762"/>
                    </a:lnTo>
                    <a:lnTo>
                      <a:pt x="2031" y="1802"/>
                    </a:lnTo>
                    <a:lnTo>
                      <a:pt x="2105" y="1802"/>
                    </a:lnTo>
                    <a:lnTo>
                      <a:pt x="2223" y="1839"/>
                    </a:lnTo>
                    <a:lnTo>
                      <a:pt x="2337" y="1876"/>
                    </a:lnTo>
                    <a:lnTo>
                      <a:pt x="2414" y="1916"/>
                    </a:lnTo>
                    <a:lnTo>
                      <a:pt x="2528" y="1953"/>
                    </a:lnTo>
                    <a:lnTo>
                      <a:pt x="2643" y="1993"/>
                    </a:lnTo>
                    <a:lnTo>
                      <a:pt x="2797" y="1993"/>
                    </a:lnTo>
                    <a:lnTo>
                      <a:pt x="2911" y="2030"/>
                    </a:lnTo>
                    <a:lnTo>
                      <a:pt x="3066" y="2030"/>
                    </a:lnTo>
                    <a:lnTo>
                      <a:pt x="3180" y="2067"/>
                    </a:lnTo>
                    <a:lnTo>
                      <a:pt x="3335" y="2067"/>
                    </a:lnTo>
                    <a:lnTo>
                      <a:pt x="3448" y="2067"/>
                    </a:lnTo>
                    <a:lnTo>
                      <a:pt x="3599" y="2067"/>
                    </a:lnTo>
                    <a:lnTo>
                      <a:pt x="3716" y="2108"/>
                    </a:lnTo>
                    <a:lnTo>
                      <a:pt x="3867" y="2108"/>
                    </a:lnTo>
                    <a:lnTo>
                      <a:pt x="3985" y="2108"/>
                    </a:lnTo>
                    <a:lnTo>
                      <a:pt x="4136" y="2144"/>
                    </a:lnTo>
                    <a:lnTo>
                      <a:pt x="4250" y="2144"/>
                    </a:lnTo>
                    <a:lnTo>
                      <a:pt x="4368" y="2185"/>
                    </a:lnTo>
                    <a:lnTo>
                      <a:pt x="4482" y="2222"/>
                    </a:lnTo>
                    <a:lnTo>
                      <a:pt x="4559" y="2222"/>
                    </a:lnTo>
                    <a:lnTo>
                      <a:pt x="4596" y="2222"/>
                    </a:lnTo>
                    <a:lnTo>
                      <a:pt x="4633" y="2259"/>
                    </a:lnTo>
                    <a:lnTo>
                      <a:pt x="4674" y="2259"/>
                    </a:lnTo>
                    <a:lnTo>
                      <a:pt x="4751" y="2259"/>
                    </a:lnTo>
                    <a:lnTo>
                      <a:pt x="4788" y="2259"/>
                    </a:lnTo>
                    <a:lnTo>
                      <a:pt x="4865" y="2259"/>
                    </a:lnTo>
                    <a:lnTo>
                      <a:pt x="4902" y="2299"/>
                    </a:lnTo>
                    <a:lnTo>
                      <a:pt x="4979" y="2299"/>
                    </a:lnTo>
                    <a:lnTo>
                      <a:pt x="5020" y="2299"/>
                    </a:lnTo>
                    <a:lnTo>
                      <a:pt x="5092" y="2299"/>
                    </a:lnTo>
                    <a:lnTo>
                      <a:pt x="5133" y="2299"/>
                    </a:lnTo>
                    <a:lnTo>
                      <a:pt x="5210" y="2336"/>
                    </a:lnTo>
                    <a:lnTo>
                      <a:pt x="5247" y="2336"/>
                    </a:lnTo>
                    <a:lnTo>
                      <a:pt x="5324" y="2336"/>
                    </a:lnTo>
                    <a:lnTo>
                      <a:pt x="5361" y="2376"/>
                    </a:lnTo>
                    <a:lnTo>
                      <a:pt x="6705" y="2758"/>
                    </a:lnTo>
                    <a:lnTo>
                      <a:pt x="6742" y="2758"/>
                    </a:lnTo>
                    <a:lnTo>
                      <a:pt x="6742" y="2795"/>
                    </a:lnTo>
                    <a:lnTo>
                      <a:pt x="6777" y="2795"/>
                    </a:lnTo>
                    <a:lnTo>
                      <a:pt x="6819" y="2795"/>
                    </a:lnTo>
                    <a:lnTo>
                      <a:pt x="6896" y="2795"/>
                    </a:lnTo>
                    <a:lnTo>
                      <a:pt x="6932" y="2835"/>
                    </a:lnTo>
                    <a:lnTo>
                      <a:pt x="6969" y="2835"/>
                    </a:lnTo>
                    <a:lnTo>
                      <a:pt x="7046" y="2835"/>
                    </a:lnTo>
                    <a:lnTo>
                      <a:pt x="7087" y="2872"/>
                    </a:lnTo>
                    <a:lnTo>
                      <a:pt x="7160" y="2872"/>
                    </a:lnTo>
                    <a:lnTo>
                      <a:pt x="7201" y="2872"/>
                    </a:lnTo>
                    <a:lnTo>
                      <a:pt x="7238" y="2872"/>
                    </a:lnTo>
                    <a:lnTo>
                      <a:pt x="7278" y="2872"/>
                    </a:lnTo>
                    <a:lnTo>
                      <a:pt x="7315" y="2872"/>
                    </a:lnTo>
                    <a:lnTo>
                      <a:pt x="7355" y="2872"/>
                    </a:lnTo>
                    <a:lnTo>
                      <a:pt x="7392" y="2758"/>
                    </a:lnTo>
                    <a:lnTo>
                      <a:pt x="7429" y="2680"/>
                    </a:lnTo>
                    <a:lnTo>
                      <a:pt x="7470" y="2567"/>
                    </a:lnTo>
                    <a:lnTo>
                      <a:pt x="7506" y="2453"/>
                    </a:lnTo>
                    <a:lnTo>
                      <a:pt x="7547" y="2336"/>
                    </a:lnTo>
                    <a:lnTo>
                      <a:pt x="7584" y="2222"/>
                    </a:lnTo>
                    <a:lnTo>
                      <a:pt x="7584" y="2144"/>
                    </a:lnTo>
                    <a:lnTo>
                      <a:pt x="7621" y="2067"/>
                    </a:lnTo>
                    <a:lnTo>
                      <a:pt x="7698" y="1953"/>
                    </a:lnTo>
                    <a:lnTo>
                      <a:pt x="7775" y="1839"/>
                    </a:lnTo>
                    <a:lnTo>
                      <a:pt x="7852" y="1725"/>
                    </a:lnTo>
                    <a:lnTo>
                      <a:pt x="7930" y="1570"/>
                    </a:lnTo>
                    <a:lnTo>
                      <a:pt x="8004" y="1456"/>
                    </a:lnTo>
                    <a:lnTo>
                      <a:pt x="8044" y="1342"/>
                    </a:lnTo>
                    <a:lnTo>
                      <a:pt x="8121" y="1225"/>
                    </a:lnTo>
                    <a:lnTo>
                      <a:pt x="8121" y="1110"/>
                    </a:lnTo>
                    <a:lnTo>
                      <a:pt x="8121" y="1074"/>
                    </a:lnTo>
                    <a:lnTo>
                      <a:pt x="8081" y="1074"/>
                    </a:lnTo>
                    <a:lnTo>
                      <a:pt x="8044" y="1074"/>
                    </a:lnTo>
                    <a:lnTo>
                      <a:pt x="8004" y="1033"/>
                    </a:lnTo>
                    <a:lnTo>
                      <a:pt x="7967" y="1033"/>
                    </a:lnTo>
                    <a:lnTo>
                      <a:pt x="7930" y="1033"/>
                    </a:lnTo>
                    <a:lnTo>
                      <a:pt x="7889" y="1033"/>
                    </a:lnTo>
                    <a:lnTo>
                      <a:pt x="7852" y="1033"/>
                    </a:lnTo>
                    <a:lnTo>
                      <a:pt x="7775" y="996"/>
                    </a:lnTo>
                    <a:lnTo>
                      <a:pt x="7698" y="961"/>
                    </a:lnTo>
                    <a:lnTo>
                      <a:pt x="7584" y="961"/>
                    </a:lnTo>
                    <a:lnTo>
                      <a:pt x="7506" y="961"/>
                    </a:lnTo>
                    <a:lnTo>
                      <a:pt x="7429" y="919"/>
                    </a:lnTo>
                    <a:lnTo>
                      <a:pt x="7355" y="919"/>
                    </a:lnTo>
                    <a:lnTo>
                      <a:pt x="7278" y="919"/>
                    </a:lnTo>
                    <a:lnTo>
                      <a:pt x="7160" y="883"/>
                    </a:lnTo>
                    <a:lnTo>
                      <a:pt x="7087" y="883"/>
                    </a:lnTo>
                    <a:lnTo>
                      <a:pt x="7009" y="883"/>
                    </a:lnTo>
                    <a:lnTo>
                      <a:pt x="6932" y="842"/>
                    </a:lnTo>
                    <a:lnTo>
                      <a:pt x="6819" y="842"/>
                    </a:lnTo>
                    <a:lnTo>
                      <a:pt x="6742" y="842"/>
                    </a:lnTo>
                    <a:lnTo>
                      <a:pt x="6664" y="842"/>
                    </a:lnTo>
                    <a:lnTo>
                      <a:pt x="6550" y="842"/>
                    </a:lnTo>
                    <a:lnTo>
                      <a:pt x="6473" y="806"/>
                    </a:lnTo>
                    <a:lnTo>
                      <a:pt x="6396" y="806"/>
                    </a:lnTo>
                    <a:lnTo>
                      <a:pt x="6282" y="806"/>
                    </a:lnTo>
                    <a:lnTo>
                      <a:pt x="6204" y="806"/>
                    </a:lnTo>
                    <a:lnTo>
                      <a:pt x="6127" y="769"/>
                    </a:lnTo>
                    <a:lnTo>
                      <a:pt x="6053" y="769"/>
                    </a:lnTo>
                    <a:lnTo>
                      <a:pt x="5935" y="769"/>
                    </a:lnTo>
                    <a:lnTo>
                      <a:pt x="5862" y="729"/>
                    </a:lnTo>
                    <a:lnTo>
                      <a:pt x="5784" y="729"/>
                    </a:lnTo>
                    <a:lnTo>
                      <a:pt x="5707" y="729"/>
                    </a:lnTo>
                    <a:lnTo>
                      <a:pt x="5593" y="692"/>
                    </a:lnTo>
                    <a:lnTo>
                      <a:pt x="5516" y="692"/>
                    </a:lnTo>
                    <a:lnTo>
                      <a:pt x="5438" y="692"/>
                    </a:lnTo>
                    <a:lnTo>
                      <a:pt x="5361" y="652"/>
                    </a:lnTo>
                    <a:lnTo>
                      <a:pt x="5284" y="652"/>
                    </a:lnTo>
                    <a:lnTo>
                      <a:pt x="5210" y="615"/>
                    </a:lnTo>
                    <a:lnTo>
                      <a:pt x="5133" y="574"/>
                    </a:lnTo>
                    <a:lnTo>
                      <a:pt x="5057" y="574"/>
                    </a:lnTo>
                    <a:lnTo>
                      <a:pt x="4979" y="537"/>
                    </a:lnTo>
                    <a:lnTo>
                      <a:pt x="4902" y="537"/>
                    </a:lnTo>
                    <a:lnTo>
                      <a:pt x="4828" y="501"/>
                    </a:lnTo>
                    <a:lnTo>
                      <a:pt x="4751" y="460"/>
                    </a:lnTo>
                    <a:lnTo>
                      <a:pt x="4633" y="460"/>
                    </a:lnTo>
                    <a:lnTo>
                      <a:pt x="4559" y="423"/>
                    </a:lnTo>
                    <a:lnTo>
                      <a:pt x="4482" y="423"/>
                    </a:lnTo>
                    <a:lnTo>
                      <a:pt x="4405" y="383"/>
                    </a:lnTo>
                    <a:lnTo>
                      <a:pt x="4291" y="383"/>
                    </a:lnTo>
                    <a:lnTo>
                      <a:pt x="4213" y="346"/>
                    </a:lnTo>
                    <a:lnTo>
                      <a:pt x="4136" y="346"/>
                    </a:lnTo>
                    <a:lnTo>
                      <a:pt x="4059" y="309"/>
                    </a:lnTo>
                    <a:lnTo>
                      <a:pt x="3985" y="309"/>
                    </a:lnTo>
                    <a:lnTo>
                      <a:pt x="3867" y="269"/>
                    </a:lnTo>
                    <a:lnTo>
                      <a:pt x="3790" y="269"/>
                    </a:lnTo>
                    <a:lnTo>
                      <a:pt x="3753" y="232"/>
                    </a:lnTo>
                    <a:lnTo>
                      <a:pt x="3676" y="232"/>
                    </a:lnTo>
                    <a:lnTo>
                      <a:pt x="3639" y="232"/>
                    </a:lnTo>
                    <a:lnTo>
                      <a:pt x="3562" y="192"/>
                    </a:lnTo>
                    <a:lnTo>
                      <a:pt x="3484" y="192"/>
                    </a:lnTo>
                    <a:lnTo>
                      <a:pt x="3407" y="155"/>
                    </a:lnTo>
                    <a:lnTo>
                      <a:pt x="3335" y="155"/>
                    </a:lnTo>
                    <a:lnTo>
                      <a:pt x="3257" y="155"/>
                    </a:lnTo>
                    <a:lnTo>
                      <a:pt x="3180" y="118"/>
                    </a:lnTo>
                    <a:lnTo>
                      <a:pt x="3103" y="118"/>
                    </a:lnTo>
                    <a:lnTo>
                      <a:pt x="3066" y="118"/>
                    </a:lnTo>
                    <a:lnTo>
                      <a:pt x="2989" y="118"/>
                    </a:lnTo>
                    <a:lnTo>
                      <a:pt x="2911" y="78"/>
                    </a:lnTo>
                    <a:lnTo>
                      <a:pt x="2834" y="78"/>
                    </a:lnTo>
                    <a:lnTo>
                      <a:pt x="2757" y="78"/>
                    </a:lnTo>
                    <a:lnTo>
                      <a:pt x="2720" y="78"/>
                    </a:lnTo>
                    <a:lnTo>
                      <a:pt x="2643" y="78"/>
                    </a:lnTo>
                    <a:lnTo>
                      <a:pt x="2565" y="78"/>
                    </a:lnTo>
                    <a:lnTo>
                      <a:pt x="2491" y="78"/>
                    </a:lnTo>
                    <a:lnTo>
                      <a:pt x="2414" y="78"/>
                    </a:lnTo>
                    <a:lnTo>
                      <a:pt x="2337" y="41"/>
                    </a:lnTo>
                    <a:lnTo>
                      <a:pt x="2260" y="41"/>
                    </a:lnTo>
                    <a:lnTo>
                      <a:pt x="2182" y="41"/>
                    </a:lnTo>
                    <a:lnTo>
                      <a:pt x="2105" y="41"/>
                    </a:lnTo>
                    <a:lnTo>
                      <a:pt x="2031" y="0"/>
                    </a:lnTo>
                    <a:lnTo>
                      <a:pt x="1954" y="0"/>
                    </a:lnTo>
                    <a:lnTo>
                      <a:pt x="1877" y="0"/>
                    </a:lnTo>
                    <a:lnTo>
                      <a:pt x="1799" y="0"/>
                    </a:lnTo>
                    <a:lnTo>
                      <a:pt x="1722" y="0"/>
                    </a:lnTo>
                    <a:lnTo>
                      <a:pt x="1685" y="0"/>
                    </a:lnTo>
                    <a:lnTo>
                      <a:pt x="1608" y="0"/>
                    </a:lnTo>
                    <a:lnTo>
                      <a:pt x="1531" y="0"/>
                    </a:lnTo>
                    <a:lnTo>
                      <a:pt x="1418" y="0"/>
                    </a:lnTo>
                    <a:lnTo>
                      <a:pt x="1340" y="41"/>
                    </a:lnTo>
                    <a:lnTo>
                      <a:pt x="1263" y="118"/>
                    </a:lnTo>
                    <a:lnTo>
                      <a:pt x="1189" y="155"/>
                    </a:lnTo>
                    <a:lnTo>
                      <a:pt x="1149" y="232"/>
                    </a:lnTo>
                    <a:lnTo>
                      <a:pt x="1072" y="309"/>
                    </a:lnTo>
                    <a:lnTo>
                      <a:pt x="1035" y="383"/>
                    </a:lnTo>
                    <a:lnTo>
                      <a:pt x="957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861080" y="5172120"/>
                <a:ext cx="1419120" cy="487440"/>
              </a:xfrm>
              <a:custGeom>
                <a:avLst/>
                <a:gdLst/>
                <a:ahLst/>
                <a:rect l="l" t="t" r="r" b="b"/>
                <a:pathLst>
                  <a:path w="5359" h="1839">
                    <a:moveTo>
                      <a:pt x="1302" y="40"/>
                    </a:moveTo>
                    <a:lnTo>
                      <a:pt x="1416" y="77"/>
                    </a:lnTo>
                    <a:lnTo>
                      <a:pt x="1493" y="77"/>
                    </a:lnTo>
                    <a:lnTo>
                      <a:pt x="1607" y="114"/>
                    </a:lnTo>
                    <a:lnTo>
                      <a:pt x="1725" y="114"/>
                    </a:lnTo>
                    <a:lnTo>
                      <a:pt x="1839" y="154"/>
                    </a:lnTo>
                    <a:lnTo>
                      <a:pt x="1952" y="154"/>
                    </a:lnTo>
                    <a:lnTo>
                      <a:pt x="2066" y="191"/>
                    </a:lnTo>
                    <a:lnTo>
                      <a:pt x="2181" y="191"/>
                    </a:lnTo>
                    <a:lnTo>
                      <a:pt x="2258" y="232"/>
                    </a:lnTo>
                    <a:lnTo>
                      <a:pt x="2372" y="232"/>
                    </a:lnTo>
                    <a:lnTo>
                      <a:pt x="2490" y="268"/>
                    </a:lnTo>
                    <a:lnTo>
                      <a:pt x="2604" y="268"/>
                    </a:lnTo>
                    <a:lnTo>
                      <a:pt x="2718" y="305"/>
                    </a:lnTo>
                    <a:lnTo>
                      <a:pt x="2832" y="305"/>
                    </a:lnTo>
                    <a:lnTo>
                      <a:pt x="2950" y="346"/>
                    </a:lnTo>
                    <a:lnTo>
                      <a:pt x="3064" y="383"/>
                    </a:lnTo>
                    <a:lnTo>
                      <a:pt x="3141" y="383"/>
                    </a:lnTo>
                    <a:lnTo>
                      <a:pt x="3256" y="423"/>
                    </a:lnTo>
                    <a:lnTo>
                      <a:pt x="3370" y="423"/>
                    </a:lnTo>
                    <a:lnTo>
                      <a:pt x="3484" y="460"/>
                    </a:lnTo>
                    <a:lnTo>
                      <a:pt x="3602" y="460"/>
                    </a:lnTo>
                    <a:lnTo>
                      <a:pt x="3715" y="500"/>
                    </a:lnTo>
                    <a:lnTo>
                      <a:pt x="3829" y="500"/>
                    </a:lnTo>
                    <a:lnTo>
                      <a:pt x="3943" y="537"/>
                    </a:lnTo>
                    <a:lnTo>
                      <a:pt x="4057" y="537"/>
                    </a:lnTo>
                    <a:lnTo>
                      <a:pt x="4135" y="573"/>
                    </a:lnTo>
                    <a:lnTo>
                      <a:pt x="4252" y="573"/>
                    </a:lnTo>
                    <a:lnTo>
                      <a:pt x="4366" y="614"/>
                    </a:lnTo>
                    <a:lnTo>
                      <a:pt x="4481" y="614"/>
                    </a:lnTo>
                    <a:lnTo>
                      <a:pt x="4595" y="650"/>
                    </a:lnTo>
                    <a:lnTo>
                      <a:pt x="4709" y="650"/>
                    </a:lnTo>
                    <a:lnTo>
                      <a:pt x="4827" y="692"/>
                    </a:lnTo>
                    <a:lnTo>
                      <a:pt x="4900" y="692"/>
                    </a:lnTo>
                    <a:lnTo>
                      <a:pt x="4941" y="727"/>
                    </a:lnTo>
                    <a:lnTo>
                      <a:pt x="5018" y="764"/>
                    </a:lnTo>
                    <a:lnTo>
                      <a:pt x="5055" y="764"/>
                    </a:lnTo>
                    <a:lnTo>
                      <a:pt x="5132" y="805"/>
                    </a:lnTo>
                    <a:lnTo>
                      <a:pt x="5169" y="841"/>
                    </a:lnTo>
                    <a:lnTo>
                      <a:pt x="5210" y="882"/>
                    </a:lnTo>
                    <a:lnTo>
                      <a:pt x="5246" y="882"/>
                    </a:lnTo>
                    <a:lnTo>
                      <a:pt x="5287" y="919"/>
                    </a:lnTo>
                    <a:lnTo>
                      <a:pt x="5324" y="956"/>
                    </a:lnTo>
                    <a:lnTo>
                      <a:pt x="5324" y="996"/>
                    </a:lnTo>
                    <a:lnTo>
                      <a:pt x="5324" y="1033"/>
                    </a:lnTo>
                    <a:lnTo>
                      <a:pt x="5359" y="1073"/>
                    </a:lnTo>
                    <a:lnTo>
                      <a:pt x="5324" y="1110"/>
                    </a:lnTo>
                    <a:lnTo>
                      <a:pt x="5324" y="1147"/>
                    </a:lnTo>
                    <a:lnTo>
                      <a:pt x="5324" y="1224"/>
                    </a:lnTo>
                    <a:lnTo>
                      <a:pt x="5324" y="1264"/>
                    </a:lnTo>
                    <a:lnTo>
                      <a:pt x="5287" y="1264"/>
                    </a:lnTo>
                    <a:lnTo>
                      <a:pt x="5287" y="1301"/>
                    </a:lnTo>
                    <a:lnTo>
                      <a:pt x="5246" y="1342"/>
                    </a:lnTo>
                    <a:lnTo>
                      <a:pt x="5246" y="1379"/>
                    </a:lnTo>
                    <a:lnTo>
                      <a:pt x="5210" y="1415"/>
                    </a:lnTo>
                    <a:lnTo>
                      <a:pt x="5210" y="1456"/>
                    </a:lnTo>
                    <a:lnTo>
                      <a:pt x="5169" y="1493"/>
                    </a:lnTo>
                    <a:lnTo>
                      <a:pt x="5169" y="1570"/>
                    </a:lnTo>
                    <a:lnTo>
                      <a:pt x="5132" y="1607"/>
                    </a:lnTo>
                    <a:lnTo>
                      <a:pt x="5095" y="1647"/>
                    </a:lnTo>
                    <a:lnTo>
                      <a:pt x="5055" y="1647"/>
                    </a:lnTo>
                    <a:lnTo>
                      <a:pt x="5018" y="1684"/>
                    </a:lnTo>
                    <a:lnTo>
                      <a:pt x="4941" y="1724"/>
                    </a:lnTo>
                    <a:lnTo>
                      <a:pt x="4900" y="1761"/>
                    </a:lnTo>
                    <a:lnTo>
                      <a:pt x="4827" y="1761"/>
                    </a:lnTo>
                    <a:lnTo>
                      <a:pt x="4786" y="1798"/>
                    </a:lnTo>
                    <a:lnTo>
                      <a:pt x="4709" y="1798"/>
                    </a:lnTo>
                    <a:lnTo>
                      <a:pt x="4635" y="1798"/>
                    </a:lnTo>
                    <a:lnTo>
                      <a:pt x="4558" y="1839"/>
                    </a:lnTo>
                    <a:lnTo>
                      <a:pt x="4481" y="1839"/>
                    </a:lnTo>
                    <a:lnTo>
                      <a:pt x="4403" y="1839"/>
                    </a:lnTo>
                    <a:lnTo>
                      <a:pt x="4326" y="1798"/>
                    </a:lnTo>
                    <a:lnTo>
                      <a:pt x="4252" y="1798"/>
                    </a:lnTo>
                    <a:lnTo>
                      <a:pt x="4135" y="1798"/>
                    </a:lnTo>
                    <a:lnTo>
                      <a:pt x="4020" y="1761"/>
                    </a:lnTo>
                    <a:lnTo>
                      <a:pt x="3906" y="1724"/>
                    </a:lnTo>
                    <a:lnTo>
                      <a:pt x="3792" y="1724"/>
                    </a:lnTo>
                    <a:lnTo>
                      <a:pt x="3674" y="1684"/>
                    </a:lnTo>
                    <a:lnTo>
                      <a:pt x="3524" y="1684"/>
                    </a:lnTo>
                    <a:lnTo>
                      <a:pt x="3410" y="1647"/>
                    </a:lnTo>
                    <a:lnTo>
                      <a:pt x="3293" y="1607"/>
                    </a:lnTo>
                    <a:lnTo>
                      <a:pt x="3178" y="1607"/>
                    </a:lnTo>
                    <a:lnTo>
                      <a:pt x="3064" y="1570"/>
                    </a:lnTo>
                    <a:lnTo>
                      <a:pt x="2950" y="1570"/>
                    </a:lnTo>
                    <a:lnTo>
                      <a:pt x="2795" y="1533"/>
                    </a:lnTo>
                    <a:lnTo>
                      <a:pt x="2681" y="1493"/>
                    </a:lnTo>
                    <a:lnTo>
                      <a:pt x="2567" y="1493"/>
                    </a:lnTo>
                    <a:lnTo>
                      <a:pt x="2449" y="1456"/>
                    </a:lnTo>
                    <a:lnTo>
                      <a:pt x="2335" y="1456"/>
                    </a:lnTo>
                    <a:lnTo>
                      <a:pt x="2221" y="1415"/>
                    </a:lnTo>
                    <a:lnTo>
                      <a:pt x="2107" y="1415"/>
                    </a:lnTo>
                    <a:lnTo>
                      <a:pt x="1989" y="1379"/>
                    </a:lnTo>
                    <a:lnTo>
                      <a:pt x="1875" y="1342"/>
                    </a:lnTo>
                    <a:lnTo>
                      <a:pt x="1725" y="1342"/>
                    </a:lnTo>
                    <a:lnTo>
                      <a:pt x="1607" y="1301"/>
                    </a:lnTo>
                    <a:lnTo>
                      <a:pt x="1493" y="1301"/>
                    </a:lnTo>
                    <a:lnTo>
                      <a:pt x="1379" y="1264"/>
                    </a:lnTo>
                    <a:lnTo>
                      <a:pt x="1265" y="1224"/>
                    </a:lnTo>
                    <a:lnTo>
                      <a:pt x="1147" y="1224"/>
                    </a:lnTo>
                    <a:lnTo>
                      <a:pt x="1033" y="1187"/>
                    </a:lnTo>
                    <a:lnTo>
                      <a:pt x="919" y="1187"/>
                    </a:lnTo>
                    <a:lnTo>
                      <a:pt x="805" y="1147"/>
                    </a:lnTo>
                    <a:lnTo>
                      <a:pt x="687" y="1110"/>
                    </a:lnTo>
                    <a:lnTo>
                      <a:pt x="536" y="1110"/>
                    </a:lnTo>
                    <a:lnTo>
                      <a:pt x="422" y="1073"/>
                    </a:lnTo>
                    <a:lnTo>
                      <a:pt x="344" y="1073"/>
                    </a:lnTo>
                    <a:lnTo>
                      <a:pt x="304" y="1033"/>
                    </a:lnTo>
                    <a:lnTo>
                      <a:pt x="231" y="1033"/>
                    </a:lnTo>
                    <a:lnTo>
                      <a:pt x="190" y="996"/>
                    </a:lnTo>
                    <a:lnTo>
                      <a:pt x="113" y="956"/>
                    </a:lnTo>
                    <a:lnTo>
                      <a:pt x="77" y="956"/>
                    </a:lnTo>
                    <a:lnTo>
                      <a:pt x="77" y="919"/>
                    </a:lnTo>
                    <a:lnTo>
                      <a:pt x="40" y="882"/>
                    </a:lnTo>
                    <a:lnTo>
                      <a:pt x="0" y="805"/>
                    </a:lnTo>
                    <a:lnTo>
                      <a:pt x="0" y="727"/>
                    </a:lnTo>
                    <a:lnTo>
                      <a:pt x="40" y="650"/>
                    </a:lnTo>
                    <a:lnTo>
                      <a:pt x="77" y="573"/>
                    </a:lnTo>
                    <a:lnTo>
                      <a:pt x="77" y="537"/>
                    </a:lnTo>
                    <a:lnTo>
                      <a:pt x="113" y="537"/>
                    </a:lnTo>
                    <a:lnTo>
                      <a:pt x="113" y="500"/>
                    </a:lnTo>
                    <a:lnTo>
                      <a:pt x="154" y="500"/>
                    </a:lnTo>
                    <a:lnTo>
                      <a:pt x="154" y="460"/>
                    </a:lnTo>
                    <a:lnTo>
                      <a:pt x="190" y="423"/>
                    </a:lnTo>
                    <a:lnTo>
                      <a:pt x="231" y="383"/>
                    </a:lnTo>
                    <a:lnTo>
                      <a:pt x="231" y="346"/>
                    </a:lnTo>
                    <a:lnTo>
                      <a:pt x="267" y="346"/>
                    </a:lnTo>
                    <a:lnTo>
                      <a:pt x="304" y="305"/>
                    </a:lnTo>
                    <a:lnTo>
                      <a:pt x="304" y="268"/>
                    </a:lnTo>
                    <a:lnTo>
                      <a:pt x="344" y="232"/>
                    </a:lnTo>
                    <a:lnTo>
                      <a:pt x="381" y="191"/>
                    </a:lnTo>
                    <a:lnTo>
                      <a:pt x="459" y="191"/>
                    </a:lnTo>
                    <a:lnTo>
                      <a:pt x="496" y="154"/>
                    </a:lnTo>
                    <a:lnTo>
                      <a:pt x="536" y="114"/>
                    </a:lnTo>
                    <a:lnTo>
                      <a:pt x="613" y="77"/>
                    </a:lnTo>
                    <a:lnTo>
                      <a:pt x="687" y="77"/>
                    </a:lnTo>
                    <a:lnTo>
                      <a:pt x="727" y="77"/>
                    </a:lnTo>
                    <a:lnTo>
                      <a:pt x="805" y="40"/>
                    </a:lnTo>
                    <a:lnTo>
                      <a:pt x="882" y="40"/>
                    </a:lnTo>
                    <a:lnTo>
                      <a:pt x="956" y="40"/>
                    </a:lnTo>
                    <a:lnTo>
                      <a:pt x="996" y="40"/>
                    </a:lnTo>
                    <a:lnTo>
                      <a:pt x="1073" y="0"/>
                    </a:lnTo>
                    <a:lnTo>
                      <a:pt x="1147" y="40"/>
                    </a:lnTo>
                    <a:lnTo>
                      <a:pt x="1225" y="40"/>
                    </a:lnTo>
                    <a:lnTo>
                      <a:pt x="1302" y="4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861080" y="5172120"/>
                <a:ext cx="1419120" cy="487440"/>
              </a:xfrm>
              <a:custGeom>
                <a:avLst/>
                <a:gdLst/>
                <a:ahLst/>
                <a:rect l="l" t="t" r="r" b="b"/>
                <a:pathLst>
                  <a:path w="5359" h="1839">
                    <a:moveTo>
                      <a:pt x="1302" y="40"/>
                    </a:moveTo>
                    <a:lnTo>
                      <a:pt x="1416" y="77"/>
                    </a:lnTo>
                    <a:lnTo>
                      <a:pt x="1493" y="77"/>
                    </a:lnTo>
                    <a:lnTo>
                      <a:pt x="1607" y="114"/>
                    </a:lnTo>
                    <a:lnTo>
                      <a:pt x="1725" y="114"/>
                    </a:lnTo>
                    <a:lnTo>
                      <a:pt x="1839" y="154"/>
                    </a:lnTo>
                    <a:lnTo>
                      <a:pt x="1952" y="154"/>
                    </a:lnTo>
                    <a:lnTo>
                      <a:pt x="2066" y="191"/>
                    </a:lnTo>
                    <a:lnTo>
                      <a:pt x="2181" y="191"/>
                    </a:lnTo>
                    <a:lnTo>
                      <a:pt x="2258" y="232"/>
                    </a:lnTo>
                    <a:lnTo>
                      <a:pt x="2372" y="232"/>
                    </a:lnTo>
                    <a:lnTo>
                      <a:pt x="2490" y="268"/>
                    </a:lnTo>
                    <a:lnTo>
                      <a:pt x="2604" y="268"/>
                    </a:lnTo>
                    <a:lnTo>
                      <a:pt x="2718" y="305"/>
                    </a:lnTo>
                    <a:lnTo>
                      <a:pt x="2832" y="305"/>
                    </a:lnTo>
                    <a:lnTo>
                      <a:pt x="2950" y="346"/>
                    </a:lnTo>
                    <a:lnTo>
                      <a:pt x="3064" y="383"/>
                    </a:lnTo>
                    <a:lnTo>
                      <a:pt x="3141" y="383"/>
                    </a:lnTo>
                    <a:lnTo>
                      <a:pt x="3256" y="423"/>
                    </a:lnTo>
                    <a:lnTo>
                      <a:pt x="3370" y="423"/>
                    </a:lnTo>
                    <a:lnTo>
                      <a:pt x="3484" y="460"/>
                    </a:lnTo>
                    <a:lnTo>
                      <a:pt x="3602" y="460"/>
                    </a:lnTo>
                    <a:lnTo>
                      <a:pt x="3715" y="500"/>
                    </a:lnTo>
                    <a:lnTo>
                      <a:pt x="3829" y="500"/>
                    </a:lnTo>
                    <a:lnTo>
                      <a:pt x="3943" y="537"/>
                    </a:lnTo>
                    <a:lnTo>
                      <a:pt x="4057" y="537"/>
                    </a:lnTo>
                    <a:lnTo>
                      <a:pt x="4135" y="573"/>
                    </a:lnTo>
                    <a:lnTo>
                      <a:pt x="4252" y="573"/>
                    </a:lnTo>
                    <a:lnTo>
                      <a:pt x="4366" y="614"/>
                    </a:lnTo>
                    <a:lnTo>
                      <a:pt x="4481" y="614"/>
                    </a:lnTo>
                    <a:lnTo>
                      <a:pt x="4595" y="650"/>
                    </a:lnTo>
                    <a:lnTo>
                      <a:pt x="4709" y="650"/>
                    </a:lnTo>
                    <a:lnTo>
                      <a:pt x="4827" y="692"/>
                    </a:lnTo>
                    <a:lnTo>
                      <a:pt x="4900" y="692"/>
                    </a:lnTo>
                    <a:lnTo>
                      <a:pt x="4941" y="727"/>
                    </a:lnTo>
                    <a:lnTo>
                      <a:pt x="5018" y="764"/>
                    </a:lnTo>
                    <a:lnTo>
                      <a:pt x="5055" y="764"/>
                    </a:lnTo>
                    <a:lnTo>
                      <a:pt x="5132" y="805"/>
                    </a:lnTo>
                    <a:lnTo>
                      <a:pt x="5169" y="841"/>
                    </a:lnTo>
                    <a:lnTo>
                      <a:pt x="5210" y="882"/>
                    </a:lnTo>
                    <a:lnTo>
                      <a:pt x="5246" y="882"/>
                    </a:lnTo>
                    <a:lnTo>
                      <a:pt x="5287" y="919"/>
                    </a:lnTo>
                    <a:lnTo>
                      <a:pt x="5324" y="956"/>
                    </a:lnTo>
                    <a:lnTo>
                      <a:pt x="5324" y="996"/>
                    </a:lnTo>
                    <a:lnTo>
                      <a:pt x="5324" y="1033"/>
                    </a:lnTo>
                    <a:lnTo>
                      <a:pt x="5359" y="1073"/>
                    </a:lnTo>
                    <a:lnTo>
                      <a:pt x="5324" y="1110"/>
                    </a:lnTo>
                    <a:lnTo>
                      <a:pt x="5324" y="1147"/>
                    </a:lnTo>
                    <a:lnTo>
                      <a:pt x="5324" y="1224"/>
                    </a:lnTo>
                    <a:lnTo>
                      <a:pt x="5324" y="1264"/>
                    </a:lnTo>
                    <a:lnTo>
                      <a:pt x="5287" y="1264"/>
                    </a:lnTo>
                    <a:lnTo>
                      <a:pt x="5287" y="1301"/>
                    </a:lnTo>
                    <a:lnTo>
                      <a:pt x="5246" y="1342"/>
                    </a:lnTo>
                    <a:lnTo>
                      <a:pt x="5246" y="1379"/>
                    </a:lnTo>
                    <a:lnTo>
                      <a:pt x="5210" y="1415"/>
                    </a:lnTo>
                    <a:lnTo>
                      <a:pt x="5210" y="1456"/>
                    </a:lnTo>
                    <a:lnTo>
                      <a:pt x="5169" y="1493"/>
                    </a:lnTo>
                    <a:lnTo>
                      <a:pt x="5169" y="1570"/>
                    </a:lnTo>
                    <a:lnTo>
                      <a:pt x="5132" y="1607"/>
                    </a:lnTo>
                    <a:lnTo>
                      <a:pt x="5095" y="1647"/>
                    </a:lnTo>
                    <a:lnTo>
                      <a:pt x="5055" y="1647"/>
                    </a:lnTo>
                    <a:lnTo>
                      <a:pt x="5018" y="1684"/>
                    </a:lnTo>
                    <a:lnTo>
                      <a:pt x="4941" y="1724"/>
                    </a:lnTo>
                    <a:lnTo>
                      <a:pt x="4900" y="1761"/>
                    </a:lnTo>
                    <a:lnTo>
                      <a:pt x="4827" y="1761"/>
                    </a:lnTo>
                    <a:lnTo>
                      <a:pt x="4786" y="1798"/>
                    </a:lnTo>
                    <a:lnTo>
                      <a:pt x="4709" y="1798"/>
                    </a:lnTo>
                    <a:lnTo>
                      <a:pt x="4635" y="1798"/>
                    </a:lnTo>
                    <a:lnTo>
                      <a:pt x="4558" y="1839"/>
                    </a:lnTo>
                    <a:lnTo>
                      <a:pt x="4481" y="1839"/>
                    </a:lnTo>
                    <a:lnTo>
                      <a:pt x="4403" y="1839"/>
                    </a:lnTo>
                    <a:lnTo>
                      <a:pt x="4326" y="1798"/>
                    </a:lnTo>
                    <a:lnTo>
                      <a:pt x="4252" y="1798"/>
                    </a:lnTo>
                    <a:lnTo>
                      <a:pt x="4135" y="1798"/>
                    </a:lnTo>
                    <a:lnTo>
                      <a:pt x="4020" y="1761"/>
                    </a:lnTo>
                    <a:lnTo>
                      <a:pt x="3906" y="1724"/>
                    </a:lnTo>
                    <a:lnTo>
                      <a:pt x="3792" y="1724"/>
                    </a:lnTo>
                    <a:lnTo>
                      <a:pt x="3674" y="1684"/>
                    </a:lnTo>
                    <a:lnTo>
                      <a:pt x="3524" y="1684"/>
                    </a:lnTo>
                    <a:lnTo>
                      <a:pt x="3410" y="1647"/>
                    </a:lnTo>
                    <a:lnTo>
                      <a:pt x="3293" y="1607"/>
                    </a:lnTo>
                    <a:lnTo>
                      <a:pt x="3178" y="1607"/>
                    </a:lnTo>
                    <a:lnTo>
                      <a:pt x="3064" y="1570"/>
                    </a:lnTo>
                    <a:lnTo>
                      <a:pt x="2950" y="1570"/>
                    </a:lnTo>
                    <a:lnTo>
                      <a:pt x="2795" y="1533"/>
                    </a:lnTo>
                    <a:lnTo>
                      <a:pt x="2681" y="1493"/>
                    </a:lnTo>
                    <a:lnTo>
                      <a:pt x="2567" y="1493"/>
                    </a:lnTo>
                    <a:lnTo>
                      <a:pt x="2449" y="1456"/>
                    </a:lnTo>
                    <a:lnTo>
                      <a:pt x="2335" y="1456"/>
                    </a:lnTo>
                    <a:lnTo>
                      <a:pt x="2221" y="1415"/>
                    </a:lnTo>
                    <a:lnTo>
                      <a:pt x="2107" y="1415"/>
                    </a:lnTo>
                    <a:lnTo>
                      <a:pt x="1989" y="1379"/>
                    </a:lnTo>
                    <a:lnTo>
                      <a:pt x="1875" y="1342"/>
                    </a:lnTo>
                    <a:lnTo>
                      <a:pt x="1725" y="1342"/>
                    </a:lnTo>
                    <a:lnTo>
                      <a:pt x="1607" y="1301"/>
                    </a:lnTo>
                    <a:lnTo>
                      <a:pt x="1493" y="1301"/>
                    </a:lnTo>
                    <a:lnTo>
                      <a:pt x="1379" y="1264"/>
                    </a:lnTo>
                    <a:lnTo>
                      <a:pt x="1265" y="1224"/>
                    </a:lnTo>
                    <a:lnTo>
                      <a:pt x="1147" y="1224"/>
                    </a:lnTo>
                    <a:lnTo>
                      <a:pt x="1033" y="1187"/>
                    </a:lnTo>
                    <a:lnTo>
                      <a:pt x="919" y="1187"/>
                    </a:lnTo>
                    <a:lnTo>
                      <a:pt x="805" y="1147"/>
                    </a:lnTo>
                    <a:lnTo>
                      <a:pt x="687" y="1110"/>
                    </a:lnTo>
                    <a:lnTo>
                      <a:pt x="536" y="1110"/>
                    </a:lnTo>
                    <a:lnTo>
                      <a:pt x="422" y="1073"/>
                    </a:lnTo>
                    <a:lnTo>
                      <a:pt x="344" y="1073"/>
                    </a:lnTo>
                    <a:lnTo>
                      <a:pt x="304" y="1033"/>
                    </a:lnTo>
                    <a:lnTo>
                      <a:pt x="231" y="1033"/>
                    </a:lnTo>
                    <a:lnTo>
                      <a:pt x="190" y="996"/>
                    </a:lnTo>
                    <a:lnTo>
                      <a:pt x="113" y="956"/>
                    </a:lnTo>
                    <a:lnTo>
                      <a:pt x="77" y="956"/>
                    </a:lnTo>
                    <a:lnTo>
                      <a:pt x="77" y="919"/>
                    </a:lnTo>
                    <a:lnTo>
                      <a:pt x="40" y="882"/>
                    </a:lnTo>
                    <a:lnTo>
                      <a:pt x="0" y="805"/>
                    </a:lnTo>
                    <a:lnTo>
                      <a:pt x="0" y="727"/>
                    </a:lnTo>
                    <a:lnTo>
                      <a:pt x="40" y="650"/>
                    </a:lnTo>
                    <a:lnTo>
                      <a:pt x="77" y="573"/>
                    </a:lnTo>
                    <a:lnTo>
                      <a:pt x="77" y="537"/>
                    </a:lnTo>
                    <a:lnTo>
                      <a:pt x="113" y="537"/>
                    </a:lnTo>
                    <a:lnTo>
                      <a:pt x="113" y="500"/>
                    </a:lnTo>
                    <a:lnTo>
                      <a:pt x="154" y="500"/>
                    </a:lnTo>
                    <a:lnTo>
                      <a:pt x="154" y="460"/>
                    </a:lnTo>
                    <a:lnTo>
                      <a:pt x="190" y="423"/>
                    </a:lnTo>
                    <a:lnTo>
                      <a:pt x="231" y="383"/>
                    </a:lnTo>
                    <a:lnTo>
                      <a:pt x="231" y="346"/>
                    </a:lnTo>
                    <a:lnTo>
                      <a:pt x="267" y="346"/>
                    </a:lnTo>
                    <a:lnTo>
                      <a:pt x="304" y="305"/>
                    </a:lnTo>
                    <a:lnTo>
                      <a:pt x="304" y="268"/>
                    </a:lnTo>
                    <a:lnTo>
                      <a:pt x="344" y="232"/>
                    </a:lnTo>
                    <a:lnTo>
                      <a:pt x="381" y="191"/>
                    </a:lnTo>
                    <a:lnTo>
                      <a:pt x="459" y="191"/>
                    </a:lnTo>
                    <a:lnTo>
                      <a:pt x="496" y="154"/>
                    </a:lnTo>
                    <a:lnTo>
                      <a:pt x="536" y="114"/>
                    </a:lnTo>
                    <a:lnTo>
                      <a:pt x="613" y="77"/>
                    </a:lnTo>
                    <a:lnTo>
                      <a:pt x="687" y="77"/>
                    </a:lnTo>
                    <a:lnTo>
                      <a:pt x="727" y="77"/>
                    </a:lnTo>
                    <a:lnTo>
                      <a:pt x="805" y="40"/>
                    </a:lnTo>
                    <a:lnTo>
                      <a:pt x="882" y="40"/>
                    </a:lnTo>
                    <a:lnTo>
                      <a:pt x="956" y="40"/>
                    </a:lnTo>
                    <a:lnTo>
                      <a:pt x="996" y="40"/>
                    </a:lnTo>
                    <a:lnTo>
                      <a:pt x="1073" y="0"/>
                    </a:lnTo>
                    <a:lnTo>
                      <a:pt x="1147" y="40"/>
                    </a:lnTo>
                    <a:lnTo>
                      <a:pt x="1225" y="40"/>
                    </a:lnTo>
                    <a:lnTo>
                      <a:pt x="1302" y="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871880" y="5405400"/>
                <a:ext cx="1398600" cy="254160"/>
              </a:xfrm>
              <a:custGeom>
                <a:avLst/>
                <a:gdLst/>
                <a:ahLst/>
                <a:rect l="l" t="t" r="r" b="b"/>
                <a:pathLst>
                  <a:path w="5284" h="957">
                    <a:moveTo>
                      <a:pt x="5284" y="342"/>
                    </a:moveTo>
                    <a:lnTo>
                      <a:pt x="5284" y="382"/>
                    </a:lnTo>
                    <a:lnTo>
                      <a:pt x="5247" y="382"/>
                    </a:lnTo>
                    <a:lnTo>
                      <a:pt x="5247" y="460"/>
                    </a:lnTo>
                    <a:lnTo>
                      <a:pt x="5206" y="460"/>
                    </a:lnTo>
                    <a:lnTo>
                      <a:pt x="5206" y="497"/>
                    </a:lnTo>
                    <a:lnTo>
                      <a:pt x="5170" y="574"/>
                    </a:lnTo>
                    <a:lnTo>
                      <a:pt x="5129" y="651"/>
                    </a:lnTo>
                    <a:lnTo>
                      <a:pt x="5129" y="688"/>
                    </a:lnTo>
                    <a:lnTo>
                      <a:pt x="5092" y="725"/>
                    </a:lnTo>
                    <a:lnTo>
                      <a:pt x="5055" y="765"/>
                    </a:lnTo>
                    <a:lnTo>
                      <a:pt x="5015" y="802"/>
                    </a:lnTo>
                    <a:lnTo>
                      <a:pt x="4978" y="802"/>
                    </a:lnTo>
                    <a:lnTo>
                      <a:pt x="4901" y="842"/>
                    </a:lnTo>
                    <a:lnTo>
                      <a:pt x="4860" y="879"/>
                    </a:lnTo>
                    <a:lnTo>
                      <a:pt x="4787" y="879"/>
                    </a:lnTo>
                    <a:lnTo>
                      <a:pt x="4746" y="916"/>
                    </a:lnTo>
                    <a:lnTo>
                      <a:pt x="4669" y="916"/>
                    </a:lnTo>
                    <a:lnTo>
                      <a:pt x="4595" y="957"/>
                    </a:lnTo>
                    <a:lnTo>
                      <a:pt x="4518" y="957"/>
                    </a:lnTo>
                    <a:lnTo>
                      <a:pt x="4441" y="957"/>
                    </a:lnTo>
                    <a:lnTo>
                      <a:pt x="4363" y="957"/>
                    </a:lnTo>
                    <a:lnTo>
                      <a:pt x="4286" y="916"/>
                    </a:lnTo>
                    <a:lnTo>
                      <a:pt x="4212" y="916"/>
                    </a:lnTo>
                    <a:lnTo>
                      <a:pt x="4095" y="916"/>
                    </a:lnTo>
                    <a:lnTo>
                      <a:pt x="3980" y="879"/>
                    </a:lnTo>
                    <a:lnTo>
                      <a:pt x="3866" y="842"/>
                    </a:lnTo>
                    <a:lnTo>
                      <a:pt x="3752" y="842"/>
                    </a:lnTo>
                    <a:lnTo>
                      <a:pt x="3634" y="802"/>
                    </a:lnTo>
                    <a:lnTo>
                      <a:pt x="3484" y="802"/>
                    </a:lnTo>
                    <a:lnTo>
                      <a:pt x="3370" y="765"/>
                    </a:lnTo>
                    <a:lnTo>
                      <a:pt x="3253" y="725"/>
                    </a:lnTo>
                    <a:lnTo>
                      <a:pt x="3138" y="725"/>
                    </a:lnTo>
                    <a:lnTo>
                      <a:pt x="3024" y="688"/>
                    </a:lnTo>
                    <a:lnTo>
                      <a:pt x="2910" y="688"/>
                    </a:lnTo>
                    <a:lnTo>
                      <a:pt x="2755" y="651"/>
                    </a:lnTo>
                    <a:lnTo>
                      <a:pt x="2641" y="611"/>
                    </a:lnTo>
                    <a:lnTo>
                      <a:pt x="2527" y="611"/>
                    </a:lnTo>
                    <a:lnTo>
                      <a:pt x="2409" y="574"/>
                    </a:lnTo>
                    <a:lnTo>
                      <a:pt x="2295" y="574"/>
                    </a:lnTo>
                    <a:lnTo>
                      <a:pt x="2181" y="533"/>
                    </a:lnTo>
                    <a:lnTo>
                      <a:pt x="2067" y="533"/>
                    </a:lnTo>
                    <a:lnTo>
                      <a:pt x="1949" y="497"/>
                    </a:lnTo>
                    <a:lnTo>
                      <a:pt x="1835" y="460"/>
                    </a:lnTo>
                    <a:lnTo>
                      <a:pt x="1685" y="460"/>
                    </a:lnTo>
                    <a:lnTo>
                      <a:pt x="1567" y="419"/>
                    </a:lnTo>
                    <a:lnTo>
                      <a:pt x="1453" y="419"/>
                    </a:lnTo>
                    <a:lnTo>
                      <a:pt x="1339" y="382"/>
                    </a:lnTo>
                    <a:lnTo>
                      <a:pt x="1225" y="342"/>
                    </a:lnTo>
                    <a:lnTo>
                      <a:pt x="1107" y="342"/>
                    </a:lnTo>
                    <a:lnTo>
                      <a:pt x="993" y="305"/>
                    </a:lnTo>
                    <a:lnTo>
                      <a:pt x="879" y="305"/>
                    </a:lnTo>
                    <a:lnTo>
                      <a:pt x="724" y="265"/>
                    </a:lnTo>
                    <a:lnTo>
                      <a:pt x="610" y="228"/>
                    </a:lnTo>
                    <a:lnTo>
                      <a:pt x="496" y="228"/>
                    </a:lnTo>
                    <a:lnTo>
                      <a:pt x="382" y="191"/>
                    </a:lnTo>
                    <a:lnTo>
                      <a:pt x="304" y="191"/>
                    </a:lnTo>
                    <a:lnTo>
                      <a:pt x="264" y="151"/>
                    </a:lnTo>
                    <a:lnTo>
                      <a:pt x="191" y="151"/>
                    </a:lnTo>
                    <a:lnTo>
                      <a:pt x="150" y="114"/>
                    </a:lnTo>
                    <a:lnTo>
                      <a:pt x="73" y="74"/>
                    </a:lnTo>
                    <a:lnTo>
                      <a:pt x="37" y="74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43600" y="5234040"/>
                <a:ext cx="1063440" cy="293760"/>
              </a:xfrm>
              <a:custGeom>
                <a:avLst/>
                <a:gdLst/>
                <a:ahLst/>
                <a:rect l="l" t="t" r="r" b="b"/>
                <a:pathLst>
                  <a:path w="4022" h="1110">
                    <a:moveTo>
                      <a:pt x="269" y="0"/>
                    </a:moveTo>
                    <a:lnTo>
                      <a:pt x="232" y="0"/>
                    </a:lnTo>
                    <a:lnTo>
                      <a:pt x="155" y="0"/>
                    </a:lnTo>
                    <a:lnTo>
                      <a:pt x="118" y="36"/>
                    </a:lnTo>
                    <a:lnTo>
                      <a:pt x="77" y="73"/>
                    </a:lnTo>
                    <a:lnTo>
                      <a:pt x="40" y="114"/>
                    </a:lnTo>
                    <a:lnTo>
                      <a:pt x="0" y="151"/>
                    </a:lnTo>
                    <a:lnTo>
                      <a:pt x="0" y="191"/>
                    </a:lnTo>
                    <a:lnTo>
                      <a:pt x="0" y="228"/>
                    </a:lnTo>
                    <a:lnTo>
                      <a:pt x="0" y="305"/>
                    </a:lnTo>
                    <a:lnTo>
                      <a:pt x="40" y="382"/>
                    </a:lnTo>
                    <a:lnTo>
                      <a:pt x="118" y="418"/>
                    </a:lnTo>
                    <a:lnTo>
                      <a:pt x="232" y="460"/>
                    </a:lnTo>
                    <a:lnTo>
                      <a:pt x="309" y="495"/>
                    </a:lnTo>
                    <a:lnTo>
                      <a:pt x="423" y="495"/>
                    </a:lnTo>
                    <a:lnTo>
                      <a:pt x="501" y="495"/>
                    </a:lnTo>
                    <a:lnTo>
                      <a:pt x="578" y="532"/>
                    </a:lnTo>
                    <a:lnTo>
                      <a:pt x="692" y="532"/>
                    </a:lnTo>
                    <a:lnTo>
                      <a:pt x="806" y="532"/>
                    </a:lnTo>
                    <a:lnTo>
                      <a:pt x="920" y="573"/>
                    </a:lnTo>
                    <a:lnTo>
                      <a:pt x="1038" y="609"/>
                    </a:lnTo>
                    <a:lnTo>
                      <a:pt x="1152" y="609"/>
                    </a:lnTo>
                    <a:lnTo>
                      <a:pt x="1265" y="650"/>
                    </a:lnTo>
                    <a:lnTo>
                      <a:pt x="1379" y="687"/>
                    </a:lnTo>
                    <a:lnTo>
                      <a:pt x="1494" y="687"/>
                    </a:lnTo>
                    <a:lnTo>
                      <a:pt x="1611" y="724"/>
                    </a:lnTo>
                    <a:lnTo>
                      <a:pt x="1726" y="724"/>
                    </a:lnTo>
                    <a:lnTo>
                      <a:pt x="1840" y="764"/>
                    </a:lnTo>
                    <a:lnTo>
                      <a:pt x="1954" y="801"/>
                    </a:lnTo>
                    <a:lnTo>
                      <a:pt x="2072" y="841"/>
                    </a:lnTo>
                    <a:lnTo>
                      <a:pt x="2186" y="841"/>
                    </a:lnTo>
                    <a:lnTo>
                      <a:pt x="2300" y="878"/>
                    </a:lnTo>
                    <a:lnTo>
                      <a:pt x="2454" y="878"/>
                    </a:lnTo>
                    <a:lnTo>
                      <a:pt x="2569" y="915"/>
                    </a:lnTo>
                    <a:lnTo>
                      <a:pt x="2723" y="955"/>
                    </a:lnTo>
                    <a:lnTo>
                      <a:pt x="2837" y="992"/>
                    </a:lnTo>
                    <a:lnTo>
                      <a:pt x="2952" y="992"/>
                    </a:lnTo>
                    <a:lnTo>
                      <a:pt x="3065" y="1032"/>
                    </a:lnTo>
                    <a:lnTo>
                      <a:pt x="3179" y="1032"/>
                    </a:lnTo>
                    <a:lnTo>
                      <a:pt x="3256" y="1069"/>
                    </a:lnTo>
                    <a:lnTo>
                      <a:pt x="3370" y="1069"/>
                    </a:lnTo>
                    <a:lnTo>
                      <a:pt x="3448" y="1110"/>
                    </a:lnTo>
                    <a:lnTo>
                      <a:pt x="3525" y="1110"/>
                    </a:lnTo>
                    <a:lnTo>
                      <a:pt x="3602" y="1110"/>
                    </a:lnTo>
                    <a:lnTo>
                      <a:pt x="3679" y="1069"/>
                    </a:lnTo>
                    <a:lnTo>
                      <a:pt x="3757" y="1069"/>
                    </a:lnTo>
                    <a:lnTo>
                      <a:pt x="3794" y="1032"/>
                    </a:lnTo>
                    <a:lnTo>
                      <a:pt x="3830" y="1032"/>
                    </a:lnTo>
                    <a:lnTo>
                      <a:pt x="3871" y="992"/>
                    </a:lnTo>
                    <a:lnTo>
                      <a:pt x="3908" y="915"/>
                    </a:lnTo>
                    <a:lnTo>
                      <a:pt x="3948" y="878"/>
                    </a:lnTo>
                    <a:lnTo>
                      <a:pt x="3985" y="841"/>
                    </a:lnTo>
                    <a:lnTo>
                      <a:pt x="4022" y="801"/>
                    </a:lnTo>
                    <a:lnTo>
                      <a:pt x="4022" y="764"/>
                    </a:lnTo>
                    <a:lnTo>
                      <a:pt x="4022" y="724"/>
                    </a:lnTo>
                    <a:lnTo>
                      <a:pt x="4022" y="687"/>
                    </a:lnTo>
                    <a:lnTo>
                      <a:pt x="4022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84640" y="5284800"/>
                <a:ext cx="962280" cy="171360"/>
              </a:xfrm>
              <a:custGeom>
                <a:avLst/>
                <a:gdLst/>
                <a:ahLst/>
                <a:rect l="l" t="t" r="r" b="b"/>
                <a:pathLst>
                  <a:path w="3639" h="650">
                    <a:moveTo>
                      <a:pt x="0" y="37"/>
                    </a:moveTo>
                    <a:lnTo>
                      <a:pt x="40" y="37"/>
                    </a:lnTo>
                    <a:lnTo>
                      <a:pt x="77" y="37"/>
                    </a:lnTo>
                    <a:lnTo>
                      <a:pt x="114" y="0"/>
                    </a:lnTo>
                    <a:lnTo>
                      <a:pt x="154" y="0"/>
                    </a:lnTo>
                    <a:lnTo>
                      <a:pt x="191" y="0"/>
                    </a:lnTo>
                    <a:lnTo>
                      <a:pt x="231" y="0"/>
                    </a:lnTo>
                    <a:lnTo>
                      <a:pt x="305" y="0"/>
                    </a:lnTo>
                    <a:lnTo>
                      <a:pt x="346" y="0"/>
                    </a:lnTo>
                    <a:lnTo>
                      <a:pt x="423" y="0"/>
                    </a:lnTo>
                    <a:lnTo>
                      <a:pt x="497" y="0"/>
                    </a:lnTo>
                    <a:lnTo>
                      <a:pt x="574" y="37"/>
                    </a:lnTo>
                    <a:lnTo>
                      <a:pt x="651" y="37"/>
                    </a:lnTo>
                    <a:lnTo>
                      <a:pt x="765" y="37"/>
                    </a:lnTo>
                    <a:lnTo>
                      <a:pt x="843" y="77"/>
                    </a:lnTo>
                    <a:lnTo>
                      <a:pt x="920" y="77"/>
                    </a:lnTo>
                    <a:lnTo>
                      <a:pt x="1033" y="114"/>
                    </a:lnTo>
                    <a:lnTo>
                      <a:pt x="1110" y="114"/>
                    </a:lnTo>
                    <a:lnTo>
                      <a:pt x="1224" y="150"/>
                    </a:lnTo>
                    <a:lnTo>
                      <a:pt x="1302" y="150"/>
                    </a:lnTo>
                    <a:lnTo>
                      <a:pt x="1416" y="150"/>
                    </a:lnTo>
                    <a:lnTo>
                      <a:pt x="1493" y="191"/>
                    </a:lnTo>
                    <a:lnTo>
                      <a:pt x="1607" y="191"/>
                    </a:lnTo>
                    <a:lnTo>
                      <a:pt x="1685" y="227"/>
                    </a:lnTo>
                    <a:lnTo>
                      <a:pt x="1799" y="227"/>
                    </a:lnTo>
                    <a:lnTo>
                      <a:pt x="1917" y="269"/>
                    </a:lnTo>
                    <a:lnTo>
                      <a:pt x="1990" y="269"/>
                    </a:lnTo>
                    <a:lnTo>
                      <a:pt x="2108" y="304"/>
                    </a:lnTo>
                    <a:lnTo>
                      <a:pt x="2182" y="304"/>
                    </a:lnTo>
                    <a:lnTo>
                      <a:pt x="2299" y="341"/>
                    </a:lnTo>
                    <a:lnTo>
                      <a:pt x="2414" y="341"/>
                    </a:lnTo>
                    <a:lnTo>
                      <a:pt x="2491" y="382"/>
                    </a:lnTo>
                    <a:lnTo>
                      <a:pt x="2568" y="382"/>
                    </a:lnTo>
                    <a:lnTo>
                      <a:pt x="2682" y="418"/>
                    </a:lnTo>
                    <a:lnTo>
                      <a:pt x="2760" y="418"/>
                    </a:lnTo>
                    <a:lnTo>
                      <a:pt x="2873" y="459"/>
                    </a:lnTo>
                    <a:lnTo>
                      <a:pt x="2950" y="459"/>
                    </a:lnTo>
                    <a:lnTo>
                      <a:pt x="3024" y="459"/>
                    </a:lnTo>
                    <a:lnTo>
                      <a:pt x="3141" y="496"/>
                    </a:lnTo>
                    <a:lnTo>
                      <a:pt x="3215" y="496"/>
                    </a:lnTo>
                    <a:lnTo>
                      <a:pt x="3293" y="496"/>
                    </a:lnTo>
                    <a:lnTo>
                      <a:pt x="3333" y="496"/>
                    </a:lnTo>
                    <a:lnTo>
                      <a:pt x="3370" y="533"/>
                    </a:lnTo>
                    <a:lnTo>
                      <a:pt x="3410" y="533"/>
                    </a:lnTo>
                    <a:lnTo>
                      <a:pt x="3447" y="533"/>
                    </a:lnTo>
                    <a:lnTo>
                      <a:pt x="3484" y="573"/>
                    </a:lnTo>
                    <a:lnTo>
                      <a:pt x="3561" y="610"/>
                    </a:lnTo>
                    <a:lnTo>
                      <a:pt x="3602" y="610"/>
                    </a:lnTo>
                    <a:lnTo>
                      <a:pt x="363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67320" y="539424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997" h="269">
                    <a:moveTo>
                      <a:pt x="0" y="269"/>
                    </a:moveTo>
                    <a:lnTo>
                      <a:pt x="40" y="269"/>
                    </a:lnTo>
                    <a:lnTo>
                      <a:pt x="117" y="232"/>
                    </a:lnTo>
                    <a:lnTo>
                      <a:pt x="191" y="232"/>
                    </a:lnTo>
                    <a:lnTo>
                      <a:pt x="232" y="232"/>
                    </a:lnTo>
                    <a:lnTo>
                      <a:pt x="309" y="192"/>
                    </a:lnTo>
                    <a:lnTo>
                      <a:pt x="383" y="192"/>
                    </a:lnTo>
                    <a:lnTo>
                      <a:pt x="460" y="155"/>
                    </a:lnTo>
                    <a:lnTo>
                      <a:pt x="500" y="155"/>
                    </a:lnTo>
                    <a:lnTo>
                      <a:pt x="574" y="155"/>
                    </a:lnTo>
                    <a:lnTo>
                      <a:pt x="651" y="115"/>
                    </a:lnTo>
                    <a:lnTo>
                      <a:pt x="692" y="115"/>
                    </a:lnTo>
                    <a:lnTo>
                      <a:pt x="766" y="78"/>
                    </a:lnTo>
                    <a:lnTo>
                      <a:pt x="843" y="78"/>
                    </a:lnTo>
                    <a:lnTo>
                      <a:pt x="883" y="41"/>
                    </a:lnTo>
                    <a:lnTo>
                      <a:pt x="957" y="41"/>
                    </a:lnTo>
                    <a:lnTo>
                      <a:pt x="99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587840" y="5324400"/>
                <a:ext cx="273240" cy="90720"/>
              </a:xfrm>
              <a:custGeom>
                <a:avLst/>
                <a:gdLst/>
                <a:ahLst/>
                <a:rect l="l" t="t" r="r" b="b"/>
                <a:pathLst>
                  <a:path w="1035" h="346">
                    <a:moveTo>
                      <a:pt x="0" y="346"/>
                    </a:moveTo>
                    <a:lnTo>
                      <a:pt x="77" y="309"/>
                    </a:lnTo>
                    <a:lnTo>
                      <a:pt x="114" y="268"/>
                    </a:lnTo>
                    <a:lnTo>
                      <a:pt x="155" y="268"/>
                    </a:lnTo>
                    <a:lnTo>
                      <a:pt x="232" y="232"/>
                    </a:lnTo>
                    <a:lnTo>
                      <a:pt x="269" y="232"/>
                    </a:lnTo>
                    <a:lnTo>
                      <a:pt x="346" y="191"/>
                    </a:lnTo>
                    <a:lnTo>
                      <a:pt x="423" y="191"/>
                    </a:lnTo>
                    <a:lnTo>
                      <a:pt x="460" y="154"/>
                    </a:lnTo>
                    <a:lnTo>
                      <a:pt x="537" y="154"/>
                    </a:lnTo>
                    <a:lnTo>
                      <a:pt x="574" y="154"/>
                    </a:lnTo>
                    <a:lnTo>
                      <a:pt x="652" y="119"/>
                    </a:lnTo>
                    <a:lnTo>
                      <a:pt x="689" y="119"/>
                    </a:lnTo>
                    <a:lnTo>
                      <a:pt x="766" y="119"/>
                    </a:lnTo>
                    <a:lnTo>
                      <a:pt x="806" y="77"/>
                    </a:lnTo>
                    <a:lnTo>
                      <a:pt x="880" y="77"/>
                    </a:lnTo>
                    <a:lnTo>
                      <a:pt x="920" y="77"/>
                    </a:lnTo>
                    <a:lnTo>
                      <a:pt x="957" y="77"/>
                    </a:lnTo>
                    <a:lnTo>
                      <a:pt x="998" y="41"/>
                    </a:lnTo>
                    <a:lnTo>
                      <a:pt x="10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00520" y="5253120"/>
                <a:ext cx="190440" cy="61920"/>
              </a:xfrm>
              <a:custGeom>
                <a:avLst/>
                <a:gdLst/>
                <a:ahLst/>
                <a:rect l="l" t="t" r="r" b="b"/>
                <a:pathLst>
                  <a:path w="725" h="232">
                    <a:moveTo>
                      <a:pt x="0" y="232"/>
                    </a:moveTo>
                    <a:lnTo>
                      <a:pt x="37" y="195"/>
                    </a:lnTo>
                    <a:lnTo>
                      <a:pt x="74" y="195"/>
                    </a:lnTo>
                    <a:lnTo>
                      <a:pt x="114" y="195"/>
                    </a:lnTo>
                    <a:lnTo>
                      <a:pt x="192" y="155"/>
                    </a:lnTo>
                    <a:lnTo>
                      <a:pt x="229" y="155"/>
                    </a:lnTo>
                    <a:lnTo>
                      <a:pt x="266" y="155"/>
                    </a:lnTo>
                    <a:lnTo>
                      <a:pt x="306" y="155"/>
                    </a:lnTo>
                    <a:lnTo>
                      <a:pt x="383" y="118"/>
                    </a:lnTo>
                    <a:lnTo>
                      <a:pt x="420" y="118"/>
                    </a:lnTo>
                    <a:lnTo>
                      <a:pt x="457" y="78"/>
                    </a:lnTo>
                    <a:lnTo>
                      <a:pt x="534" y="78"/>
                    </a:lnTo>
                    <a:lnTo>
                      <a:pt x="575" y="78"/>
                    </a:lnTo>
                    <a:lnTo>
                      <a:pt x="612" y="41"/>
                    </a:lnTo>
                    <a:lnTo>
                      <a:pt x="652" y="41"/>
                    </a:lnTo>
                    <a:lnTo>
                      <a:pt x="689" y="41"/>
                    </a:lnTo>
                    <a:lnTo>
                      <a:pt x="7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91240" y="5183280"/>
                <a:ext cx="201600" cy="50760"/>
              </a:xfrm>
              <a:custGeom>
                <a:avLst/>
                <a:gdLst/>
                <a:ahLst/>
                <a:rect l="l" t="t" r="r" b="b"/>
                <a:pathLst>
                  <a:path w="765" h="192">
                    <a:moveTo>
                      <a:pt x="0" y="192"/>
                    </a:moveTo>
                    <a:lnTo>
                      <a:pt x="40" y="192"/>
                    </a:lnTo>
                    <a:lnTo>
                      <a:pt x="77" y="192"/>
                    </a:lnTo>
                    <a:lnTo>
                      <a:pt x="154" y="151"/>
                    </a:lnTo>
                    <a:lnTo>
                      <a:pt x="191" y="151"/>
                    </a:lnTo>
                    <a:lnTo>
                      <a:pt x="232" y="151"/>
                    </a:lnTo>
                    <a:lnTo>
                      <a:pt x="269" y="114"/>
                    </a:lnTo>
                    <a:lnTo>
                      <a:pt x="346" y="114"/>
                    </a:lnTo>
                    <a:lnTo>
                      <a:pt x="382" y="114"/>
                    </a:lnTo>
                    <a:lnTo>
                      <a:pt x="423" y="74"/>
                    </a:lnTo>
                    <a:lnTo>
                      <a:pt x="459" y="74"/>
                    </a:lnTo>
                    <a:lnTo>
                      <a:pt x="536" y="74"/>
                    </a:lnTo>
                    <a:lnTo>
                      <a:pt x="573" y="37"/>
                    </a:lnTo>
                    <a:lnTo>
                      <a:pt x="613" y="37"/>
                    </a:lnTo>
                    <a:lnTo>
                      <a:pt x="650" y="37"/>
                    </a:lnTo>
                    <a:lnTo>
                      <a:pt x="691" y="0"/>
                    </a:lnTo>
                    <a:lnTo>
                      <a:pt x="7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821120" y="5132520"/>
                <a:ext cx="284400" cy="50760"/>
              </a:xfrm>
              <a:custGeom>
                <a:avLst/>
                <a:gdLst/>
                <a:ahLst/>
                <a:rect l="l" t="t" r="r" b="b"/>
                <a:pathLst>
                  <a:path w="1074" h="191">
                    <a:moveTo>
                      <a:pt x="0" y="191"/>
                    </a:moveTo>
                    <a:lnTo>
                      <a:pt x="40" y="191"/>
                    </a:lnTo>
                    <a:lnTo>
                      <a:pt x="77" y="191"/>
                    </a:lnTo>
                    <a:lnTo>
                      <a:pt x="77" y="151"/>
                    </a:lnTo>
                    <a:lnTo>
                      <a:pt x="118" y="151"/>
                    </a:lnTo>
                    <a:lnTo>
                      <a:pt x="155" y="151"/>
                    </a:lnTo>
                    <a:lnTo>
                      <a:pt x="195" y="151"/>
                    </a:lnTo>
                    <a:lnTo>
                      <a:pt x="960" y="0"/>
                    </a:lnTo>
                    <a:lnTo>
                      <a:pt x="997" y="0"/>
                    </a:lnTo>
                    <a:lnTo>
                      <a:pt x="1037" y="0"/>
                    </a:lnTo>
                    <a:lnTo>
                      <a:pt x="10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11880" y="5394240"/>
                <a:ext cx="291960" cy="50760"/>
              </a:xfrm>
              <a:custGeom>
                <a:avLst/>
                <a:gdLst/>
                <a:ahLst/>
                <a:rect l="l" t="t" r="r" b="b"/>
                <a:pathLst>
                  <a:path w="1108" h="192">
                    <a:moveTo>
                      <a:pt x="0" y="192"/>
                    </a:moveTo>
                    <a:lnTo>
                      <a:pt x="36" y="192"/>
                    </a:lnTo>
                    <a:lnTo>
                      <a:pt x="113" y="192"/>
                    </a:lnTo>
                    <a:lnTo>
                      <a:pt x="191" y="155"/>
                    </a:lnTo>
                    <a:lnTo>
                      <a:pt x="228" y="155"/>
                    </a:lnTo>
                    <a:lnTo>
                      <a:pt x="305" y="115"/>
                    </a:lnTo>
                    <a:lnTo>
                      <a:pt x="382" y="115"/>
                    </a:lnTo>
                    <a:lnTo>
                      <a:pt x="459" y="115"/>
                    </a:lnTo>
                    <a:lnTo>
                      <a:pt x="496" y="78"/>
                    </a:lnTo>
                    <a:lnTo>
                      <a:pt x="574" y="78"/>
                    </a:lnTo>
                    <a:lnTo>
                      <a:pt x="651" y="41"/>
                    </a:lnTo>
                    <a:lnTo>
                      <a:pt x="725" y="41"/>
                    </a:lnTo>
                    <a:lnTo>
                      <a:pt x="765" y="41"/>
                    </a:lnTo>
                    <a:lnTo>
                      <a:pt x="842" y="0"/>
                    </a:lnTo>
                    <a:lnTo>
                      <a:pt x="916" y="0"/>
                    </a:lnTo>
                    <a:lnTo>
                      <a:pt x="956" y="0"/>
                    </a:lnTo>
                    <a:lnTo>
                      <a:pt x="1034" y="0"/>
                    </a:lnTo>
                    <a:lnTo>
                      <a:pt x="11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280200" y="5456160"/>
                <a:ext cx="304920" cy="50760"/>
              </a:xfrm>
              <a:custGeom>
                <a:avLst/>
                <a:gdLst/>
                <a:ahLst/>
                <a:rect l="l" t="t" r="r" b="b"/>
                <a:pathLst>
                  <a:path w="1153" h="191">
                    <a:moveTo>
                      <a:pt x="0" y="191"/>
                    </a:moveTo>
                    <a:lnTo>
                      <a:pt x="78" y="191"/>
                    </a:lnTo>
                    <a:lnTo>
                      <a:pt x="155" y="191"/>
                    </a:lnTo>
                    <a:lnTo>
                      <a:pt x="192" y="191"/>
                    </a:lnTo>
                    <a:lnTo>
                      <a:pt x="269" y="191"/>
                    </a:lnTo>
                    <a:lnTo>
                      <a:pt x="347" y="191"/>
                    </a:lnTo>
                    <a:lnTo>
                      <a:pt x="424" y="191"/>
                    </a:lnTo>
                    <a:lnTo>
                      <a:pt x="501" y="151"/>
                    </a:lnTo>
                    <a:lnTo>
                      <a:pt x="538" y="151"/>
                    </a:lnTo>
                    <a:lnTo>
                      <a:pt x="615" y="114"/>
                    </a:lnTo>
                    <a:lnTo>
                      <a:pt x="693" y="114"/>
                    </a:lnTo>
                    <a:lnTo>
                      <a:pt x="770" y="74"/>
                    </a:lnTo>
                    <a:lnTo>
                      <a:pt x="844" y="74"/>
                    </a:lnTo>
                    <a:lnTo>
                      <a:pt x="884" y="37"/>
                    </a:lnTo>
                    <a:lnTo>
                      <a:pt x="961" y="37"/>
                    </a:lnTo>
                    <a:lnTo>
                      <a:pt x="1035" y="0"/>
                    </a:lnTo>
                    <a:lnTo>
                      <a:pt x="1075" y="0"/>
                    </a:lnTo>
                    <a:lnTo>
                      <a:pt x="1112" y="0"/>
                    </a:lnTo>
                    <a:lnTo>
                      <a:pt x="1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240600" y="5527800"/>
                <a:ext cx="303120" cy="60120"/>
              </a:xfrm>
              <a:custGeom>
                <a:avLst/>
                <a:gdLst/>
                <a:ahLst/>
                <a:rect l="l" t="t" r="r" b="b"/>
                <a:pathLst>
                  <a:path w="1147" h="228">
                    <a:moveTo>
                      <a:pt x="0" y="228"/>
                    </a:moveTo>
                    <a:lnTo>
                      <a:pt x="36" y="228"/>
                    </a:lnTo>
                    <a:lnTo>
                      <a:pt x="77" y="228"/>
                    </a:lnTo>
                    <a:lnTo>
                      <a:pt x="149" y="191"/>
                    </a:lnTo>
                    <a:lnTo>
                      <a:pt x="191" y="191"/>
                    </a:lnTo>
                    <a:lnTo>
                      <a:pt x="268" y="191"/>
                    </a:lnTo>
                    <a:lnTo>
                      <a:pt x="304" y="191"/>
                    </a:lnTo>
                    <a:lnTo>
                      <a:pt x="381" y="151"/>
                    </a:lnTo>
                    <a:lnTo>
                      <a:pt x="418" y="151"/>
                    </a:lnTo>
                    <a:lnTo>
                      <a:pt x="496" y="151"/>
                    </a:lnTo>
                    <a:lnTo>
                      <a:pt x="573" y="114"/>
                    </a:lnTo>
                    <a:lnTo>
                      <a:pt x="610" y="114"/>
                    </a:lnTo>
                    <a:lnTo>
                      <a:pt x="687" y="114"/>
                    </a:lnTo>
                    <a:lnTo>
                      <a:pt x="727" y="73"/>
                    </a:lnTo>
                    <a:lnTo>
                      <a:pt x="764" y="73"/>
                    </a:lnTo>
                    <a:lnTo>
                      <a:pt x="842" y="73"/>
                    </a:lnTo>
                    <a:lnTo>
                      <a:pt x="878" y="37"/>
                    </a:lnTo>
                    <a:lnTo>
                      <a:pt x="919" y="37"/>
                    </a:lnTo>
                    <a:lnTo>
                      <a:pt x="956" y="37"/>
                    </a:lnTo>
                    <a:lnTo>
                      <a:pt x="993" y="37"/>
                    </a:lnTo>
                    <a:lnTo>
                      <a:pt x="1033" y="37"/>
                    </a:lnTo>
                    <a:lnTo>
                      <a:pt x="1070" y="0"/>
                    </a:lnTo>
                    <a:lnTo>
                      <a:pt x="1110" y="0"/>
                    </a:lnTo>
                    <a:lnTo>
                      <a:pt x="11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65920" y="5608800"/>
                <a:ext cx="547560" cy="80640"/>
              </a:xfrm>
              <a:custGeom>
                <a:avLst/>
                <a:gdLst/>
                <a:ahLst/>
                <a:rect l="l" t="t" r="r" b="b"/>
                <a:pathLst>
                  <a:path w="2068" h="306">
                    <a:moveTo>
                      <a:pt x="0" y="306"/>
                    </a:moveTo>
                    <a:lnTo>
                      <a:pt x="114" y="306"/>
                    </a:lnTo>
                    <a:lnTo>
                      <a:pt x="191" y="269"/>
                    </a:lnTo>
                    <a:lnTo>
                      <a:pt x="306" y="269"/>
                    </a:lnTo>
                    <a:lnTo>
                      <a:pt x="383" y="269"/>
                    </a:lnTo>
                    <a:lnTo>
                      <a:pt x="497" y="228"/>
                    </a:lnTo>
                    <a:lnTo>
                      <a:pt x="574" y="228"/>
                    </a:lnTo>
                    <a:lnTo>
                      <a:pt x="689" y="228"/>
                    </a:lnTo>
                    <a:lnTo>
                      <a:pt x="766" y="192"/>
                    </a:lnTo>
                    <a:lnTo>
                      <a:pt x="880" y="192"/>
                    </a:lnTo>
                    <a:lnTo>
                      <a:pt x="957" y="192"/>
                    </a:lnTo>
                    <a:lnTo>
                      <a:pt x="1071" y="192"/>
                    </a:lnTo>
                    <a:lnTo>
                      <a:pt x="1149" y="151"/>
                    </a:lnTo>
                    <a:lnTo>
                      <a:pt x="1262" y="151"/>
                    </a:lnTo>
                    <a:lnTo>
                      <a:pt x="1339" y="151"/>
                    </a:lnTo>
                    <a:lnTo>
                      <a:pt x="1416" y="114"/>
                    </a:lnTo>
                    <a:lnTo>
                      <a:pt x="1531" y="114"/>
                    </a:lnTo>
                    <a:lnTo>
                      <a:pt x="1567" y="77"/>
                    </a:lnTo>
                    <a:lnTo>
                      <a:pt x="1645" y="77"/>
                    </a:lnTo>
                    <a:lnTo>
                      <a:pt x="1722" y="77"/>
                    </a:lnTo>
                    <a:lnTo>
                      <a:pt x="1799" y="37"/>
                    </a:lnTo>
                    <a:lnTo>
                      <a:pt x="1877" y="37"/>
                    </a:lnTo>
                    <a:lnTo>
                      <a:pt x="1954" y="0"/>
                    </a:lnTo>
                    <a:lnTo>
                      <a:pt x="1991" y="0"/>
                    </a:lnTo>
                    <a:lnTo>
                      <a:pt x="20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97680" y="5678640"/>
                <a:ext cx="374400" cy="71280"/>
              </a:xfrm>
              <a:custGeom>
                <a:avLst/>
                <a:gdLst/>
                <a:ahLst/>
                <a:rect l="l" t="t" r="r" b="b"/>
                <a:pathLst>
                  <a:path w="1416" h="268">
                    <a:moveTo>
                      <a:pt x="0" y="268"/>
                    </a:moveTo>
                    <a:lnTo>
                      <a:pt x="77" y="228"/>
                    </a:lnTo>
                    <a:lnTo>
                      <a:pt x="192" y="228"/>
                    </a:lnTo>
                    <a:lnTo>
                      <a:pt x="269" y="191"/>
                    </a:lnTo>
                    <a:lnTo>
                      <a:pt x="346" y="191"/>
                    </a:lnTo>
                    <a:lnTo>
                      <a:pt x="423" y="151"/>
                    </a:lnTo>
                    <a:lnTo>
                      <a:pt x="538" y="151"/>
                    </a:lnTo>
                    <a:lnTo>
                      <a:pt x="615" y="151"/>
                    </a:lnTo>
                    <a:lnTo>
                      <a:pt x="687" y="114"/>
                    </a:lnTo>
                    <a:lnTo>
                      <a:pt x="765" y="114"/>
                    </a:lnTo>
                    <a:lnTo>
                      <a:pt x="842" y="114"/>
                    </a:lnTo>
                    <a:lnTo>
                      <a:pt x="956" y="74"/>
                    </a:lnTo>
                    <a:lnTo>
                      <a:pt x="1034" y="74"/>
                    </a:lnTo>
                    <a:lnTo>
                      <a:pt x="1111" y="74"/>
                    </a:lnTo>
                    <a:lnTo>
                      <a:pt x="1188" y="37"/>
                    </a:lnTo>
                    <a:lnTo>
                      <a:pt x="1265" y="37"/>
                    </a:lnTo>
                    <a:lnTo>
                      <a:pt x="1339" y="37"/>
                    </a:lnTo>
                    <a:lnTo>
                      <a:pt x="1380" y="37"/>
                    </a:lnTo>
                    <a:lnTo>
                      <a:pt x="1380" y="0"/>
                    </a:lnTo>
                    <a:lnTo>
                      <a:pt x="14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19600" y="5456160"/>
                <a:ext cx="141480" cy="39600"/>
              </a:xfrm>
              <a:custGeom>
                <a:avLst/>
                <a:gdLst/>
                <a:ahLst/>
                <a:rect l="l" t="t" r="r" b="b"/>
                <a:pathLst>
                  <a:path w="538" h="151">
                    <a:moveTo>
                      <a:pt x="0" y="151"/>
                    </a:moveTo>
                    <a:lnTo>
                      <a:pt x="40" y="151"/>
                    </a:lnTo>
                    <a:lnTo>
                      <a:pt x="118" y="114"/>
                    </a:lnTo>
                    <a:lnTo>
                      <a:pt x="155" y="114"/>
                    </a:lnTo>
                    <a:lnTo>
                      <a:pt x="232" y="114"/>
                    </a:lnTo>
                    <a:lnTo>
                      <a:pt x="269" y="74"/>
                    </a:lnTo>
                    <a:lnTo>
                      <a:pt x="346" y="74"/>
                    </a:lnTo>
                    <a:lnTo>
                      <a:pt x="383" y="37"/>
                    </a:lnTo>
                    <a:lnTo>
                      <a:pt x="460" y="37"/>
                    </a:lnTo>
                    <a:lnTo>
                      <a:pt x="501" y="37"/>
                    </a:lnTo>
                    <a:lnTo>
                      <a:pt x="501" y="0"/>
                    </a:lnTo>
                    <a:lnTo>
                      <a:pt x="5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861080" y="5486400"/>
                <a:ext cx="182520" cy="41400"/>
              </a:xfrm>
              <a:custGeom>
                <a:avLst/>
                <a:gdLst/>
                <a:ahLst/>
                <a:rect l="l" t="t" r="r" b="b"/>
                <a:pathLst>
                  <a:path w="687" h="155">
                    <a:moveTo>
                      <a:pt x="0" y="155"/>
                    </a:moveTo>
                    <a:lnTo>
                      <a:pt x="40" y="155"/>
                    </a:lnTo>
                    <a:lnTo>
                      <a:pt x="77" y="155"/>
                    </a:lnTo>
                    <a:lnTo>
                      <a:pt x="113" y="155"/>
                    </a:lnTo>
                    <a:lnTo>
                      <a:pt x="154" y="114"/>
                    </a:lnTo>
                    <a:lnTo>
                      <a:pt x="190" y="114"/>
                    </a:lnTo>
                    <a:lnTo>
                      <a:pt x="231" y="114"/>
                    </a:lnTo>
                    <a:lnTo>
                      <a:pt x="304" y="114"/>
                    </a:lnTo>
                    <a:lnTo>
                      <a:pt x="344" y="77"/>
                    </a:lnTo>
                    <a:lnTo>
                      <a:pt x="381" y="77"/>
                    </a:lnTo>
                    <a:lnTo>
                      <a:pt x="422" y="77"/>
                    </a:lnTo>
                    <a:lnTo>
                      <a:pt x="459" y="77"/>
                    </a:lnTo>
                    <a:lnTo>
                      <a:pt x="496" y="37"/>
                    </a:lnTo>
                    <a:lnTo>
                      <a:pt x="536" y="37"/>
                    </a:lnTo>
                    <a:lnTo>
                      <a:pt x="573" y="37"/>
                    </a:lnTo>
                    <a:lnTo>
                      <a:pt x="613" y="37"/>
                    </a:lnTo>
                    <a:lnTo>
                      <a:pt x="650" y="0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013360" y="5516640"/>
                <a:ext cx="222120" cy="41040"/>
              </a:xfrm>
              <a:custGeom>
                <a:avLst/>
                <a:gdLst/>
                <a:ahLst/>
                <a:rect l="l" t="t" r="r" b="b"/>
                <a:pathLst>
                  <a:path w="843" h="155">
                    <a:moveTo>
                      <a:pt x="0" y="155"/>
                    </a:moveTo>
                    <a:lnTo>
                      <a:pt x="77" y="155"/>
                    </a:lnTo>
                    <a:lnTo>
                      <a:pt x="114" y="155"/>
                    </a:lnTo>
                    <a:lnTo>
                      <a:pt x="154" y="114"/>
                    </a:lnTo>
                    <a:lnTo>
                      <a:pt x="232" y="114"/>
                    </a:lnTo>
                    <a:lnTo>
                      <a:pt x="269" y="114"/>
                    </a:lnTo>
                    <a:lnTo>
                      <a:pt x="309" y="114"/>
                    </a:lnTo>
                    <a:lnTo>
                      <a:pt x="383" y="114"/>
                    </a:lnTo>
                    <a:lnTo>
                      <a:pt x="423" y="78"/>
                    </a:lnTo>
                    <a:lnTo>
                      <a:pt x="500" y="78"/>
                    </a:lnTo>
                    <a:lnTo>
                      <a:pt x="537" y="78"/>
                    </a:lnTo>
                    <a:lnTo>
                      <a:pt x="574" y="78"/>
                    </a:lnTo>
                    <a:lnTo>
                      <a:pt x="652" y="41"/>
                    </a:lnTo>
                    <a:lnTo>
                      <a:pt x="692" y="41"/>
                    </a:lnTo>
                    <a:lnTo>
                      <a:pt x="729" y="41"/>
                    </a:lnTo>
                    <a:lnTo>
                      <a:pt x="806" y="0"/>
                    </a:lnTo>
                    <a:lnTo>
                      <a:pt x="8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175360" y="5546880"/>
                <a:ext cx="203040" cy="41040"/>
              </a:xfrm>
              <a:custGeom>
                <a:avLst/>
                <a:gdLst/>
                <a:ahLst/>
                <a:rect l="l" t="t" r="r" b="b"/>
                <a:pathLst>
                  <a:path w="764" h="155">
                    <a:moveTo>
                      <a:pt x="0" y="155"/>
                    </a:moveTo>
                    <a:lnTo>
                      <a:pt x="37" y="155"/>
                    </a:lnTo>
                    <a:lnTo>
                      <a:pt x="77" y="155"/>
                    </a:lnTo>
                    <a:lnTo>
                      <a:pt x="114" y="155"/>
                    </a:lnTo>
                    <a:lnTo>
                      <a:pt x="191" y="155"/>
                    </a:lnTo>
                    <a:lnTo>
                      <a:pt x="228" y="118"/>
                    </a:lnTo>
                    <a:lnTo>
                      <a:pt x="268" y="118"/>
                    </a:lnTo>
                    <a:lnTo>
                      <a:pt x="342" y="118"/>
                    </a:lnTo>
                    <a:lnTo>
                      <a:pt x="383" y="118"/>
                    </a:lnTo>
                    <a:lnTo>
                      <a:pt x="419" y="78"/>
                    </a:lnTo>
                    <a:lnTo>
                      <a:pt x="497" y="78"/>
                    </a:lnTo>
                    <a:lnTo>
                      <a:pt x="537" y="78"/>
                    </a:lnTo>
                    <a:lnTo>
                      <a:pt x="574" y="41"/>
                    </a:lnTo>
                    <a:lnTo>
                      <a:pt x="611" y="41"/>
                    </a:lnTo>
                    <a:lnTo>
                      <a:pt x="687" y="41"/>
                    </a:lnTo>
                    <a:lnTo>
                      <a:pt x="729" y="0"/>
                    </a:lnTo>
                    <a:lnTo>
                      <a:pt x="76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37000" y="5578560"/>
                <a:ext cx="193680" cy="50760"/>
              </a:xfrm>
              <a:custGeom>
                <a:avLst/>
                <a:gdLst/>
                <a:ahLst/>
                <a:rect l="l" t="t" r="r" b="b"/>
                <a:pathLst>
                  <a:path w="728" h="191">
                    <a:moveTo>
                      <a:pt x="0" y="191"/>
                    </a:moveTo>
                    <a:lnTo>
                      <a:pt x="40" y="151"/>
                    </a:lnTo>
                    <a:lnTo>
                      <a:pt x="76" y="151"/>
                    </a:lnTo>
                    <a:lnTo>
                      <a:pt x="153" y="151"/>
                    </a:lnTo>
                    <a:lnTo>
                      <a:pt x="190" y="151"/>
                    </a:lnTo>
                    <a:lnTo>
                      <a:pt x="231" y="114"/>
                    </a:lnTo>
                    <a:lnTo>
                      <a:pt x="267" y="114"/>
                    </a:lnTo>
                    <a:lnTo>
                      <a:pt x="345" y="114"/>
                    </a:lnTo>
                    <a:lnTo>
                      <a:pt x="382" y="114"/>
                    </a:lnTo>
                    <a:lnTo>
                      <a:pt x="422" y="74"/>
                    </a:lnTo>
                    <a:lnTo>
                      <a:pt x="459" y="74"/>
                    </a:lnTo>
                    <a:lnTo>
                      <a:pt x="536" y="74"/>
                    </a:lnTo>
                    <a:lnTo>
                      <a:pt x="573" y="37"/>
                    </a:lnTo>
                    <a:lnTo>
                      <a:pt x="614" y="37"/>
                    </a:lnTo>
                    <a:lnTo>
                      <a:pt x="650" y="37"/>
                    </a:lnTo>
                    <a:lnTo>
                      <a:pt x="691" y="0"/>
                    </a:lnTo>
                    <a:lnTo>
                      <a:pt x="72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19880" y="5608800"/>
                <a:ext cx="203040" cy="39600"/>
              </a:xfrm>
              <a:custGeom>
                <a:avLst/>
                <a:gdLst/>
                <a:ahLst/>
                <a:rect l="l" t="t" r="r" b="b"/>
                <a:pathLst>
                  <a:path w="766" h="151">
                    <a:moveTo>
                      <a:pt x="0" y="151"/>
                    </a:moveTo>
                    <a:lnTo>
                      <a:pt x="37" y="151"/>
                    </a:lnTo>
                    <a:lnTo>
                      <a:pt x="77" y="151"/>
                    </a:lnTo>
                    <a:lnTo>
                      <a:pt x="114" y="151"/>
                    </a:lnTo>
                    <a:lnTo>
                      <a:pt x="151" y="151"/>
                    </a:lnTo>
                    <a:lnTo>
                      <a:pt x="191" y="114"/>
                    </a:lnTo>
                    <a:lnTo>
                      <a:pt x="228" y="114"/>
                    </a:lnTo>
                    <a:lnTo>
                      <a:pt x="269" y="114"/>
                    </a:lnTo>
                    <a:lnTo>
                      <a:pt x="305" y="114"/>
                    </a:lnTo>
                    <a:lnTo>
                      <a:pt x="342" y="77"/>
                    </a:lnTo>
                    <a:lnTo>
                      <a:pt x="383" y="77"/>
                    </a:lnTo>
                    <a:lnTo>
                      <a:pt x="420" y="77"/>
                    </a:lnTo>
                    <a:lnTo>
                      <a:pt x="460" y="77"/>
                    </a:lnTo>
                    <a:lnTo>
                      <a:pt x="497" y="77"/>
                    </a:lnTo>
                    <a:lnTo>
                      <a:pt x="534" y="77"/>
                    </a:lnTo>
                    <a:lnTo>
                      <a:pt x="574" y="37"/>
                    </a:lnTo>
                    <a:lnTo>
                      <a:pt x="651" y="37"/>
                    </a:lnTo>
                    <a:lnTo>
                      <a:pt x="688" y="37"/>
                    </a:lnTo>
                    <a:lnTo>
                      <a:pt x="725" y="0"/>
                    </a:lnTo>
                    <a:lnTo>
                      <a:pt x="7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567320" y="543564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154" h="191">
                    <a:moveTo>
                      <a:pt x="0" y="0"/>
                    </a:moveTo>
                    <a:lnTo>
                      <a:pt x="40" y="0"/>
                    </a:lnTo>
                    <a:lnTo>
                      <a:pt x="77" y="37"/>
                    </a:lnTo>
                    <a:lnTo>
                      <a:pt x="117" y="77"/>
                    </a:lnTo>
                    <a:lnTo>
                      <a:pt x="117" y="114"/>
                    </a:lnTo>
                    <a:lnTo>
                      <a:pt x="154" y="151"/>
                    </a:lnTo>
                    <a:lnTo>
                      <a:pt x="154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618080" y="5375160"/>
                <a:ext cx="112680" cy="152640"/>
              </a:xfrm>
              <a:custGeom>
                <a:avLst/>
                <a:gdLst/>
                <a:ahLst/>
                <a:rect l="l" t="t" r="r" b="b"/>
                <a:pathLst>
                  <a:path w="423" h="578">
                    <a:moveTo>
                      <a:pt x="0" y="0"/>
                    </a:moveTo>
                    <a:lnTo>
                      <a:pt x="41" y="41"/>
                    </a:lnTo>
                    <a:lnTo>
                      <a:pt x="77" y="77"/>
                    </a:lnTo>
                    <a:lnTo>
                      <a:pt x="118" y="118"/>
                    </a:lnTo>
                    <a:lnTo>
                      <a:pt x="155" y="192"/>
                    </a:lnTo>
                    <a:lnTo>
                      <a:pt x="155" y="232"/>
                    </a:lnTo>
                    <a:lnTo>
                      <a:pt x="192" y="269"/>
                    </a:lnTo>
                    <a:lnTo>
                      <a:pt x="232" y="346"/>
                    </a:lnTo>
                    <a:lnTo>
                      <a:pt x="269" y="383"/>
                    </a:lnTo>
                    <a:lnTo>
                      <a:pt x="309" y="423"/>
                    </a:lnTo>
                    <a:lnTo>
                      <a:pt x="309" y="460"/>
                    </a:lnTo>
                    <a:lnTo>
                      <a:pt x="346" y="460"/>
                    </a:lnTo>
                    <a:lnTo>
                      <a:pt x="383" y="500"/>
                    </a:lnTo>
                    <a:lnTo>
                      <a:pt x="383" y="537"/>
                    </a:lnTo>
                    <a:lnTo>
                      <a:pt x="423" y="537"/>
                    </a:lnTo>
                    <a:lnTo>
                      <a:pt x="423" y="5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689360" y="5324400"/>
                <a:ext cx="141480" cy="203400"/>
              </a:xfrm>
              <a:custGeom>
                <a:avLst/>
                <a:gdLst/>
                <a:ahLst/>
                <a:rect l="l" t="t" r="r" b="b"/>
                <a:pathLst>
                  <a:path w="537" h="769">
                    <a:moveTo>
                      <a:pt x="0" y="0"/>
                    </a:moveTo>
                    <a:lnTo>
                      <a:pt x="40" y="41"/>
                    </a:lnTo>
                    <a:lnTo>
                      <a:pt x="40" y="77"/>
                    </a:lnTo>
                    <a:lnTo>
                      <a:pt x="77" y="119"/>
                    </a:lnTo>
                    <a:lnTo>
                      <a:pt x="77" y="154"/>
                    </a:lnTo>
                    <a:lnTo>
                      <a:pt x="114" y="154"/>
                    </a:lnTo>
                    <a:lnTo>
                      <a:pt x="114" y="191"/>
                    </a:lnTo>
                    <a:lnTo>
                      <a:pt x="191" y="232"/>
                    </a:lnTo>
                    <a:lnTo>
                      <a:pt x="232" y="309"/>
                    </a:lnTo>
                    <a:lnTo>
                      <a:pt x="306" y="383"/>
                    </a:lnTo>
                    <a:lnTo>
                      <a:pt x="346" y="460"/>
                    </a:lnTo>
                    <a:lnTo>
                      <a:pt x="383" y="537"/>
                    </a:lnTo>
                    <a:lnTo>
                      <a:pt x="423" y="614"/>
                    </a:lnTo>
                    <a:lnTo>
                      <a:pt x="497" y="691"/>
                    </a:lnTo>
                    <a:lnTo>
                      <a:pt x="537" y="7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761000" y="5253120"/>
                <a:ext cx="222120" cy="3142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21120" y="5162400"/>
                <a:ext cx="69840" cy="111240"/>
              </a:xfrm>
              <a:custGeom>
                <a:avLst/>
                <a:gdLst/>
                <a:ahLst/>
                <a:rect l="l" t="t" r="r" b="b"/>
                <a:pathLst>
                  <a:path w="268" h="420">
                    <a:moveTo>
                      <a:pt x="0" y="0"/>
                    </a:moveTo>
                    <a:lnTo>
                      <a:pt x="40" y="37"/>
                    </a:lnTo>
                    <a:lnTo>
                      <a:pt x="77" y="114"/>
                    </a:lnTo>
                    <a:lnTo>
                      <a:pt x="118" y="151"/>
                    </a:lnTo>
                    <a:lnTo>
                      <a:pt x="118" y="228"/>
                    </a:lnTo>
                    <a:lnTo>
                      <a:pt x="155" y="269"/>
                    </a:lnTo>
                    <a:lnTo>
                      <a:pt x="195" y="342"/>
                    </a:lnTo>
                    <a:lnTo>
                      <a:pt x="232" y="383"/>
                    </a:lnTo>
                    <a:lnTo>
                      <a:pt x="268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71880" y="512136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264" h="423">
                    <a:moveTo>
                      <a:pt x="0" y="0"/>
                    </a:moveTo>
                    <a:lnTo>
                      <a:pt x="37" y="40"/>
                    </a:lnTo>
                    <a:lnTo>
                      <a:pt x="73" y="114"/>
                    </a:lnTo>
                    <a:lnTo>
                      <a:pt x="114" y="154"/>
                    </a:lnTo>
                    <a:lnTo>
                      <a:pt x="150" y="191"/>
                    </a:lnTo>
                    <a:lnTo>
                      <a:pt x="191" y="268"/>
                    </a:lnTo>
                    <a:lnTo>
                      <a:pt x="191" y="305"/>
                    </a:lnTo>
                    <a:lnTo>
                      <a:pt x="227" y="382"/>
                    </a:lnTo>
                    <a:lnTo>
                      <a:pt x="264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952880" y="5111640"/>
                <a:ext cx="60480" cy="716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033880" y="512136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92" h="231">
                    <a:moveTo>
                      <a:pt x="0" y="0"/>
                    </a:moveTo>
                    <a:lnTo>
                      <a:pt x="37" y="0"/>
                    </a:lnTo>
                    <a:lnTo>
                      <a:pt x="37" y="40"/>
                    </a:lnTo>
                    <a:lnTo>
                      <a:pt x="77" y="77"/>
                    </a:lnTo>
                    <a:lnTo>
                      <a:pt x="77" y="114"/>
                    </a:lnTo>
                    <a:lnTo>
                      <a:pt x="114" y="154"/>
                    </a:lnTo>
                    <a:lnTo>
                      <a:pt x="114" y="191"/>
                    </a:lnTo>
                    <a:lnTo>
                      <a:pt x="155" y="191"/>
                    </a:lnTo>
                    <a:lnTo>
                      <a:pt x="192" y="2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145120" y="5132520"/>
                <a:ext cx="30240" cy="39600"/>
              </a:xfrm>
              <a:custGeom>
                <a:avLst/>
                <a:gdLst/>
                <a:ahLst/>
                <a:rect l="l" t="t" r="r" b="b"/>
                <a:pathLst>
                  <a:path w="115" h="151">
                    <a:moveTo>
                      <a:pt x="0" y="0"/>
                    </a:moveTo>
                    <a:lnTo>
                      <a:pt x="37" y="0"/>
                    </a:lnTo>
                    <a:lnTo>
                      <a:pt x="37" y="37"/>
                    </a:lnTo>
                    <a:lnTo>
                      <a:pt x="37" y="74"/>
                    </a:lnTo>
                    <a:lnTo>
                      <a:pt x="74" y="74"/>
                    </a:lnTo>
                    <a:lnTo>
                      <a:pt x="74" y="114"/>
                    </a:lnTo>
                    <a:lnTo>
                      <a:pt x="74" y="151"/>
                    </a:lnTo>
                    <a:lnTo>
                      <a:pt x="115" y="1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013360" y="5475240"/>
                <a:ext cx="92160" cy="112680"/>
              </a:xfrm>
              <a:custGeom>
                <a:avLst/>
                <a:gdLst/>
                <a:ahLst/>
                <a:rect l="l" t="t" r="r" b="b"/>
                <a:pathLst>
                  <a:path w="346" h="423">
                    <a:moveTo>
                      <a:pt x="0" y="0"/>
                    </a:moveTo>
                    <a:lnTo>
                      <a:pt x="77" y="40"/>
                    </a:lnTo>
                    <a:lnTo>
                      <a:pt x="114" y="117"/>
                    </a:lnTo>
                    <a:lnTo>
                      <a:pt x="154" y="154"/>
                    </a:lnTo>
                    <a:lnTo>
                      <a:pt x="191" y="195"/>
                    </a:lnTo>
                    <a:lnTo>
                      <a:pt x="232" y="268"/>
                    </a:lnTo>
                    <a:lnTo>
                      <a:pt x="269" y="309"/>
                    </a:lnTo>
                    <a:lnTo>
                      <a:pt x="309" y="386"/>
                    </a:lnTo>
                    <a:lnTo>
                      <a:pt x="346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26040" y="5495760"/>
                <a:ext cx="109440" cy="142920"/>
              </a:xfrm>
              <a:custGeom>
                <a:avLst/>
                <a:gdLst/>
                <a:ahLst/>
                <a:rect l="l" t="t" r="r" b="b"/>
                <a:pathLst>
                  <a:path w="420" h="537">
                    <a:moveTo>
                      <a:pt x="0" y="0"/>
                    </a:moveTo>
                    <a:lnTo>
                      <a:pt x="37" y="40"/>
                    </a:lnTo>
                    <a:lnTo>
                      <a:pt x="114" y="118"/>
                    </a:lnTo>
                    <a:lnTo>
                      <a:pt x="151" y="191"/>
                    </a:lnTo>
                    <a:lnTo>
                      <a:pt x="229" y="269"/>
                    </a:lnTo>
                    <a:lnTo>
                      <a:pt x="269" y="309"/>
                    </a:lnTo>
                    <a:lnTo>
                      <a:pt x="306" y="383"/>
                    </a:lnTo>
                    <a:lnTo>
                      <a:pt x="383" y="460"/>
                    </a:lnTo>
                    <a:lnTo>
                      <a:pt x="420" y="5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256360" y="5516640"/>
                <a:ext cx="101520" cy="122040"/>
              </a:xfrm>
              <a:custGeom>
                <a:avLst/>
                <a:gdLst/>
                <a:ahLst/>
                <a:rect l="l" t="t" r="r" b="b"/>
                <a:pathLst>
                  <a:path w="382" h="460">
                    <a:moveTo>
                      <a:pt x="0" y="0"/>
                    </a:moveTo>
                    <a:lnTo>
                      <a:pt x="37" y="41"/>
                    </a:lnTo>
                    <a:lnTo>
                      <a:pt x="114" y="114"/>
                    </a:lnTo>
                    <a:lnTo>
                      <a:pt x="155" y="155"/>
                    </a:lnTo>
                    <a:lnTo>
                      <a:pt x="232" y="232"/>
                    </a:lnTo>
                    <a:lnTo>
                      <a:pt x="269" y="306"/>
                    </a:lnTo>
                    <a:lnTo>
                      <a:pt x="306" y="346"/>
                    </a:lnTo>
                    <a:lnTo>
                      <a:pt x="346" y="423"/>
                    </a:lnTo>
                    <a:lnTo>
                      <a:pt x="382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369040" y="5537160"/>
                <a:ext cx="90360" cy="122400"/>
              </a:xfrm>
              <a:custGeom>
                <a:avLst/>
                <a:gdLst/>
                <a:ahLst/>
                <a:rect l="l" t="t" r="r" b="b"/>
                <a:pathLst>
                  <a:path w="341" h="460">
                    <a:moveTo>
                      <a:pt x="0" y="0"/>
                    </a:moveTo>
                    <a:lnTo>
                      <a:pt x="35" y="36"/>
                    </a:lnTo>
                    <a:lnTo>
                      <a:pt x="72" y="114"/>
                    </a:lnTo>
                    <a:lnTo>
                      <a:pt x="149" y="154"/>
                    </a:lnTo>
                    <a:lnTo>
                      <a:pt x="190" y="228"/>
                    </a:lnTo>
                    <a:lnTo>
                      <a:pt x="227" y="268"/>
                    </a:lnTo>
                    <a:lnTo>
                      <a:pt x="264" y="345"/>
                    </a:lnTo>
                    <a:lnTo>
                      <a:pt x="304" y="382"/>
                    </a:lnTo>
                    <a:lnTo>
                      <a:pt x="341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89640" y="5567400"/>
                <a:ext cx="122040" cy="111240"/>
              </a:xfrm>
              <a:custGeom>
                <a:avLst/>
                <a:gdLst/>
                <a:ahLst/>
                <a:rect l="l" t="t" r="r" b="b"/>
                <a:pathLst>
                  <a:path w="460" h="423">
                    <a:moveTo>
                      <a:pt x="0" y="0"/>
                    </a:moveTo>
                    <a:lnTo>
                      <a:pt x="77" y="40"/>
                    </a:lnTo>
                    <a:lnTo>
                      <a:pt x="118" y="77"/>
                    </a:lnTo>
                    <a:lnTo>
                      <a:pt x="195" y="114"/>
                    </a:lnTo>
                    <a:lnTo>
                      <a:pt x="269" y="191"/>
                    </a:lnTo>
                    <a:lnTo>
                      <a:pt x="309" y="231"/>
                    </a:lnTo>
                    <a:lnTo>
                      <a:pt x="387" y="305"/>
                    </a:lnTo>
                    <a:lnTo>
                      <a:pt x="423" y="382"/>
                    </a:lnTo>
                    <a:lnTo>
                      <a:pt x="460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5630760" y="5587920"/>
              <a:ext cx="92160" cy="101520"/>
            </a:xfrm>
            <a:custGeom>
              <a:avLst/>
              <a:gdLst/>
              <a:ahLst/>
              <a:rect l="l" t="t" r="r" b="b"/>
              <a:pathLst>
                <a:path w="346" h="383">
                  <a:moveTo>
                    <a:pt x="0" y="0"/>
                  </a:moveTo>
                  <a:lnTo>
                    <a:pt x="40" y="37"/>
                  </a:lnTo>
                  <a:lnTo>
                    <a:pt x="114" y="77"/>
                  </a:lnTo>
                  <a:lnTo>
                    <a:pt x="154" y="154"/>
                  </a:lnTo>
                  <a:lnTo>
                    <a:pt x="191" y="191"/>
                  </a:lnTo>
                  <a:lnTo>
                    <a:pt x="231" y="228"/>
                  </a:lnTo>
                  <a:lnTo>
                    <a:pt x="268" y="269"/>
                  </a:lnTo>
                  <a:lnTo>
                    <a:pt x="346" y="305"/>
                  </a:lnTo>
                  <a:lnTo>
                    <a:pt x="346" y="3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53160" y="5608800"/>
              <a:ext cx="112680" cy="110880"/>
            </a:xfrm>
            <a:custGeom>
              <a:avLst/>
              <a:gdLst/>
              <a:ahLst/>
              <a:rect l="l" t="t" r="r" b="b"/>
              <a:pathLst>
                <a:path w="422" h="420">
                  <a:moveTo>
                    <a:pt x="0" y="0"/>
                  </a:moveTo>
                  <a:lnTo>
                    <a:pt x="40" y="77"/>
                  </a:lnTo>
                  <a:lnTo>
                    <a:pt x="77" y="114"/>
                  </a:lnTo>
                  <a:lnTo>
                    <a:pt x="154" y="151"/>
                  </a:lnTo>
                  <a:lnTo>
                    <a:pt x="191" y="228"/>
                  </a:lnTo>
                  <a:lnTo>
                    <a:pt x="269" y="269"/>
                  </a:lnTo>
                  <a:lnTo>
                    <a:pt x="304" y="306"/>
                  </a:lnTo>
                  <a:lnTo>
                    <a:pt x="382" y="383"/>
                  </a:lnTo>
                  <a:lnTo>
                    <a:pt x="422" y="4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54680" y="5629320"/>
              <a:ext cx="111240" cy="100080"/>
            </a:xfrm>
            <a:custGeom>
              <a:avLst/>
              <a:gdLst/>
              <a:ahLst/>
              <a:rect l="l" t="t" r="r" b="b"/>
              <a:pathLst>
                <a:path w="423" h="383">
                  <a:moveTo>
                    <a:pt x="0" y="0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77" y="74"/>
                  </a:lnTo>
                  <a:lnTo>
                    <a:pt x="114" y="115"/>
                  </a:lnTo>
                  <a:lnTo>
                    <a:pt x="154" y="115"/>
                  </a:lnTo>
                  <a:lnTo>
                    <a:pt x="191" y="151"/>
                  </a:lnTo>
                  <a:lnTo>
                    <a:pt x="231" y="192"/>
                  </a:lnTo>
                  <a:lnTo>
                    <a:pt x="268" y="229"/>
                  </a:lnTo>
                  <a:lnTo>
                    <a:pt x="305" y="266"/>
                  </a:lnTo>
                  <a:lnTo>
                    <a:pt x="346" y="306"/>
                  </a:lnTo>
                  <a:lnTo>
                    <a:pt x="383" y="343"/>
                  </a:lnTo>
                  <a:lnTo>
                    <a:pt x="423" y="3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86440" y="5648400"/>
              <a:ext cx="162000" cy="120600"/>
            </a:xfrm>
            <a:custGeom>
              <a:avLst/>
              <a:gdLst/>
              <a:ahLst/>
              <a:rect l="l" t="t" r="r" b="b"/>
              <a:pathLst>
                <a:path w="612" h="459">
                  <a:moveTo>
                    <a:pt x="0" y="0"/>
                  </a:moveTo>
                  <a:lnTo>
                    <a:pt x="37" y="0"/>
                  </a:lnTo>
                  <a:lnTo>
                    <a:pt x="74" y="41"/>
                  </a:lnTo>
                  <a:lnTo>
                    <a:pt x="114" y="41"/>
                  </a:lnTo>
                  <a:lnTo>
                    <a:pt x="151" y="77"/>
                  </a:lnTo>
                  <a:lnTo>
                    <a:pt x="192" y="77"/>
                  </a:lnTo>
                  <a:lnTo>
                    <a:pt x="229" y="118"/>
                  </a:lnTo>
                  <a:lnTo>
                    <a:pt x="265" y="118"/>
                  </a:lnTo>
                  <a:lnTo>
                    <a:pt x="306" y="155"/>
                  </a:lnTo>
                  <a:lnTo>
                    <a:pt x="343" y="192"/>
                  </a:lnTo>
                  <a:lnTo>
                    <a:pt x="383" y="232"/>
                  </a:lnTo>
                  <a:lnTo>
                    <a:pt x="420" y="269"/>
                  </a:lnTo>
                  <a:lnTo>
                    <a:pt x="457" y="309"/>
                  </a:lnTo>
                  <a:lnTo>
                    <a:pt x="457" y="346"/>
                  </a:lnTo>
                  <a:lnTo>
                    <a:pt x="497" y="386"/>
                  </a:lnTo>
                  <a:lnTo>
                    <a:pt x="534" y="386"/>
                  </a:lnTo>
                  <a:lnTo>
                    <a:pt x="575" y="423"/>
                  </a:lnTo>
                  <a:lnTo>
                    <a:pt x="612" y="45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38720" y="5638680"/>
              <a:ext cx="231840" cy="192240"/>
            </a:xfrm>
            <a:custGeom>
              <a:avLst/>
              <a:gdLst/>
              <a:ahLst/>
              <a:rect l="l" t="t" r="r" b="b"/>
              <a:pathLst>
                <a:path w="879" h="728">
                  <a:moveTo>
                    <a:pt x="0" y="0"/>
                  </a:moveTo>
                  <a:lnTo>
                    <a:pt x="37" y="37"/>
                  </a:lnTo>
                  <a:lnTo>
                    <a:pt x="73" y="78"/>
                  </a:lnTo>
                  <a:lnTo>
                    <a:pt x="151" y="114"/>
                  </a:lnTo>
                  <a:lnTo>
                    <a:pt x="191" y="155"/>
                  </a:lnTo>
                  <a:lnTo>
                    <a:pt x="228" y="192"/>
                  </a:lnTo>
                  <a:lnTo>
                    <a:pt x="305" y="269"/>
                  </a:lnTo>
                  <a:lnTo>
                    <a:pt x="342" y="306"/>
                  </a:lnTo>
                  <a:lnTo>
                    <a:pt x="383" y="346"/>
                  </a:lnTo>
                  <a:lnTo>
                    <a:pt x="460" y="383"/>
                  </a:lnTo>
                  <a:lnTo>
                    <a:pt x="497" y="423"/>
                  </a:lnTo>
                  <a:lnTo>
                    <a:pt x="532" y="460"/>
                  </a:lnTo>
                  <a:lnTo>
                    <a:pt x="610" y="537"/>
                  </a:lnTo>
                  <a:lnTo>
                    <a:pt x="651" y="573"/>
                  </a:lnTo>
                  <a:lnTo>
                    <a:pt x="687" y="615"/>
                  </a:lnTo>
                  <a:lnTo>
                    <a:pt x="764" y="650"/>
                  </a:lnTo>
                  <a:lnTo>
                    <a:pt x="801" y="650"/>
                  </a:lnTo>
                  <a:lnTo>
                    <a:pt x="801" y="687"/>
                  </a:lnTo>
                  <a:lnTo>
                    <a:pt x="842" y="687"/>
                  </a:lnTo>
                  <a:lnTo>
                    <a:pt x="842" y="728"/>
                  </a:lnTo>
                  <a:lnTo>
                    <a:pt x="879" y="7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49960" y="5597640"/>
              <a:ext cx="182520" cy="182520"/>
            </a:xfrm>
            <a:custGeom>
              <a:avLst/>
              <a:gdLst/>
              <a:ahLst/>
              <a:rect l="l" t="t" r="r" b="b"/>
              <a:pathLst>
                <a:path w="691" h="691">
                  <a:moveTo>
                    <a:pt x="0" y="0"/>
                  </a:moveTo>
                  <a:lnTo>
                    <a:pt x="78" y="40"/>
                  </a:lnTo>
                  <a:lnTo>
                    <a:pt x="155" y="117"/>
                  </a:lnTo>
                  <a:lnTo>
                    <a:pt x="191" y="191"/>
                  </a:lnTo>
                  <a:lnTo>
                    <a:pt x="268" y="268"/>
                  </a:lnTo>
                  <a:lnTo>
                    <a:pt x="345" y="346"/>
                  </a:lnTo>
                  <a:lnTo>
                    <a:pt x="423" y="423"/>
                  </a:lnTo>
                  <a:lnTo>
                    <a:pt x="496" y="500"/>
                  </a:lnTo>
                  <a:lnTo>
                    <a:pt x="574" y="537"/>
                  </a:lnTo>
                  <a:lnTo>
                    <a:pt x="574" y="577"/>
                  </a:lnTo>
                  <a:lnTo>
                    <a:pt x="614" y="577"/>
                  </a:lnTo>
                  <a:lnTo>
                    <a:pt x="614" y="614"/>
                  </a:lnTo>
                  <a:lnTo>
                    <a:pt x="651" y="614"/>
                  </a:lnTo>
                  <a:lnTo>
                    <a:pt x="651" y="650"/>
                  </a:lnTo>
                  <a:lnTo>
                    <a:pt x="691" y="6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26120" y="5132520"/>
              <a:ext cx="41040" cy="50760"/>
            </a:xfrm>
            <a:custGeom>
              <a:avLst/>
              <a:gdLst/>
              <a:ahLst/>
              <a:rect l="l" t="t" r="r" b="b"/>
              <a:pathLst>
                <a:path w="151" h="191">
                  <a:moveTo>
                    <a:pt x="0" y="0"/>
                  </a:moveTo>
                  <a:lnTo>
                    <a:pt x="37" y="37"/>
                  </a:lnTo>
                  <a:lnTo>
                    <a:pt x="77" y="74"/>
                  </a:lnTo>
                  <a:lnTo>
                    <a:pt x="77" y="114"/>
                  </a:lnTo>
                  <a:lnTo>
                    <a:pt x="114" y="114"/>
                  </a:lnTo>
                  <a:lnTo>
                    <a:pt x="151" y="151"/>
                  </a:lnTo>
                  <a:lnTo>
                    <a:pt x="151" y="1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07120" y="5141880"/>
              <a:ext cx="71280" cy="60480"/>
            </a:xfrm>
            <a:custGeom>
              <a:avLst/>
              <a:gdLst/>
              <a:ahLst/>
              <a:rect l="l" t="t" r="r" b="b"/>
              <a:pathLst>
                <a:path w="267" h="228">
                  <a:moveTo>
                    <a:pt x="0" y="0"/>
                  </a:moveTo>
                  <a:lnTo>
                    <a:pt x="40" y="0"/>
                  </a:lnTo>
                  <a:lnTo>
                    <a:pt x="77" y="37"/>
                  </a:lnTo>
                  <a:lnTo>
                    <a:pt x="114" y="77"/>
                  </a:lnTo>
                  <a:lnTo>
                    <a:pt x="154" y="77"/>
                  </a:lnTo>
                  <a:lnTo>
                    <a:pt x="190" y="114"/>
                  </a:lnTo>
                  <a:lnTo>
                    <a:pt x="232" y="154"/>
                  </a:lnTo>
                  <a:lnTo>
                    <a:pt x="232" y="191"/>
                  </a:lnTo>
                  <a:lnTo>
                    <a:pt x="267" y="2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419800" y="5151600"/>
              <a:ext cx="81000" cy="82440"/>
            </a:xfrm>
            <a:custGeom>
              <a:avLst/>
              <a:gdLst/>
              <a:ahLst/>
              <a:rect l="l" t="t" r="r" b="b"/>
              <a:pathLst>
                <a:path w="306" h="309">
                  <a:moveTo>
                    <a:pt x="0" y="0"/>
                  </a:moveTo>
                  <a:lnTo>
                    <a:pt x="37" y="40"/>
                  </a:lnTo>
                  <a:lnTo>
                    <a:pt x="74" y="77"/>
                  </a:lnTo>
                  <a:lnTo>
                    <a:pt x="114" y="117"/>
                  </a:lnTo>
                  <a:lnTo>
                    <a:pt x="151" y="154"/>
                  </a:lnTo>
                  <a:lnTo>
                    <a:pt x="228" y="191"/>
                  </a:lnTo>
                  <a:lnTo>
                    <a:pt x="265" y="231"/>
                  </a:lnTo>
                  <a:lnTo>
                    <a:pt x="306" y="268"/>
                  </a:lnTo>
                  <a:lnTo>
                    <a:pt x="306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30680" y="5183280"/>
              <a:ext cx="90720" cy="69840"/>
            </a:xfrm>
            <a:custGeom>
              <a:avLst/>
              <a:gdLst/>
              <a:ahLst/>
              <a:rect l="l" t="t" r="r" b="b"/>
              <a:pathLst>
                <a:path w="346" h="265">
                  <a:moveTo>
                    <a:pt x="0" y="0"/>
                  </a:moveTo>
                  <a:lnTo>
                    <a:pt x="40" y="0"/>
                  </a:lnTo>
                  <a:lnTo>
                    <a:pt x="77" y="37"/>
                  </a:lnTo>
                  <a:lnTo>
                    <a:pt x="154" y="74"/>
                  </a:lnTo>
                  <a:lnTo>
                    <a:pt x="191" y="114"/>
                  </a:lnTo>
                  <a:lnTo>
                    <a:pt x="232" y="151"/>
                  </a:lnTo>
                  <a:lnTo>
                    <a:pt x="305" y="192"/>
                  </a:lnTo>
                  <a:lnTo>
                    <a:pt x="346" y="228"/>
                  </a:lnTo>
                  <a:lnTo>
                    <a:pt x="346" y="26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81520" y="5222880"/>
              <a:ext cx="92160" cy="61920"/>
            </a:xfrm>
            <a:custGeom>
              <a:avLst/>
              <a:gdLst/>
              <a:ahLst/>
              <a:rect l="l" t="t" r="r" b="b"/>
              <a:pathLst>
                <a:path w="346" h="232">
                  <a:moveTo>
                    <a:pt x="0" y="0"/>
                  </a:moveTo>
                  <a:lnTo>
                    <a:pt x="40" y="0"/>
                  </a:lnTo>
                  <a:lnTo>
                    <a:pt x="77" y="41"/>
                  </a:lnTo>
                  <a:lnTo>
                    <a:pt x="155" y="77"/>
                  </a:lnTo>
                  <a:lnTo>
                    <a:pt x="192" y="77"/>
                  </a:lnTo>
                  <a:lnTo>
                    <a:pt x="232" y="114"/>
                  </a:lnTo>
                  <a:lnTo>
                    <a:pt x="269" y="155"/>
                  </a:lnTo>
                  <a:lnTo>
                    <a:pt x="309" y="192"/>
                  </a:lnTo>
                  <a:lnTo>
                    <a:pt x="346" y="23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15080" y="5253120"/>
              <a:ext cx="69840" cy="52200"/>
            </a:xfrm>
            <a:custGeom>
              <a:avLst/>
              <a:gdLst/>
              <a:ahLst/>
              <a:rect l="l" t="t" r="r" b="b"/>
              <a:pathLst>
                <a:path w="264" h="195">
                  <a:moveTo>
                    <a:pt x="0" y="0"/>
                  </a:moveTo>
                  <a:lnTo>
                    <a:pt x="0" y="41"/>
                  </a:lnTo>
                  <a:lnTo>
                    <a:pt x="37" y="78"/>
                  </a:lnTo>
                  <a:lnTo>
                    <a:pt x="72" y="78"/>
                  </a:lnTo>
                  <a:lnTo>
                    <a:pt x="113" y="118"/>
                  </a:lnTo>
                  <a:lnTo>
                    <a:pt x="150" y="118"/>
                  </a:lnTo>
                  <a:lnTo>
                    <a:pt x="190" y="155"/>
                  </a:lnTo>
                  <a:lnTo>
                    <a:pt x="227" y="195"/>
                  </a:lnTo>
                  <a:lnTo>
                    <a:pt x="264" y="19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25960" y="5284800"/>
              <a:ext cx="60480" cy="39600"/>
            </a:xfrm>
            <a:custGeom>
              <a:avLst/>
              <a:gdLst/>
              <a:ahLst/>
              <a:rect l="l" t="t" r="r" b="b"/>
              <a:pathLst>
                <a:path w="232" h="150">
                  <a:moveTo>
                    <a:pt x="0" y="0"/>
                  </a:moveTo>
                  <a:lnTo>
                    <a:pt x="37" y="0"/>
                  </a:lnTo>
                  <a:lnTo>
                    <a:pt x="37" y="37"/>
                  </a:lnTo>
                  <a:lnTo>
                    <a:pt x="78" y="37"/>
                  </a:lnTo>
                  <a:lnTo>
                    <a:pt x="115" y="77"/>
                  </a:lnTo>
                  <a:lnTo>
                    <a:pt x="155" y="77"/>
                  </a:lnTo>
                  <a:lnTo>
                    <a:pt x="192" y="114"/>
                  </a:lnTo>
                  <a:lnTo>
                    <a:pt x="232" y="114"/>
                  </a:lnTo>
                  <a:lnTo>
                    <a:pt x="232" y="1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7200" y="5305320"/>
              <a:ext cx="81000" cy="39960"/>
            </a:xfrm>
            <a:custGeom>
              <a:avLst/>
              <a:gdLst/>
              <a:ahLst/>
              <a:rect l="l" t="t" r="r" b="b"/>
              <a:pathLst>
                <a:path w="305" h="150">
                  <a:moveTo>
                    <a:pt x="0" y="0"/>
                  </a:moveTo>
                  <a:lnTo>
                    <a:pt x="37" y="0"/>
                  </a:lnTo>
                  <a:lnTo>
                    <a:pt x="73" y="37"/>
                  </a:lnTo>
                  <a:lnTo>
                    <a:pt x="114" y="37"/>
                  </a:lnTo>
                  <a:lnTo>
                    <a:pt x="151" y="73"/>
                  </a:lnTo>
                  <a:lnTo>
                    <a:pt x="191" y="73"/>
                  </a:lnTo>
                  <a:lnTo>
                    <a:pt x="228" y="114"/>
                  </a:lnTo>
                  <a:lnTo>
                    <a:pt x="265" y="150"/>
                  </a:lnTo>
                  <a:lnTo>
                    <a:pt x="305" y="1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48440" y="5324400"/>
              <a:ext cx="395280" cy="233280"/>
            </a:xfrm>
            <a:custGeom>
              <a:avLst/>
              <a:gdLst/>
              <a:ahLst/>
              <a:rect l="l" t="t" r="r" b="b"/>
              <a:pathLst>
                <a:path w="1493" h="883">
                  <a:moveTo>
                    <a:pt x="0" y="0"/>
                  </a:moveTo>
                  <a:lnTo>
                    <a:pt x="36" y="0"/>
                  </a:lnTo>
                  <a:lnTo>
                    <a:pt x="77" y="41"/>
                  </a:lnTo>
                  <a:lnTo>
                    <a:pt x="114" y="41"/>
                  </a:lnTo>
                  <a:lnTo>
                    <a:pt x="154" y="77"/>
                  </a:lnTo>
                  <a:lnTo>
                    <a:pt x="191" y="119"/>
                  </a:lnTo>
                  <a:lnTo>
                    <a:pt x="231" y="119"/>
                  </a:lnTo>
                  <a:lnTo>
                    <a:pt x="268" y="154"/>
                  </a:lnTo>
                  <a:lnTo>
                    <a:pt x="305" y="191"/>
                  </a:lnTo>
                  <a:lnTo>
                    <a:pt x="382" y="232"/>
                  </a:lnTo>
                  <a:lnTo>
                    <a:pt x="423" y="268"/>
                  </a:lnTo>
                  <a:lnTo>
                    <a:pt x="537" y="309"/>
                  </a:lnTo>
                  <a:lnTo>
                    <a:pt x="614" y="383"/>
                  </a:lnTo>
                  <a:lnTo>
                    <a:pt x="687" y="423"/>
                  </a:lnTo>
                  <a:lnTo>
                    <a:pt x="727" y="460"/>
                  </a:lnTo>
                  <a:lnTo>
                    <a:pt x="764" y="500"/>
                  </a:lnTo>
                  <a:lnTo>
                    <a:pt x="805" y="500"/>
                  </a:lnTo>
                  <a:lnTo>
                    <a:pt x="842" y="537"/>
                  </a:lnTo>
                  <a:lnTo>
                    <a:pt x="919" y="537"/>
                  </a:lnTo>
                  <a:lnTo>
                    <a:pt x="956" y="574"/>
                  </a:lnTo>
                  <a:lnTo>
                    <a:pt x="996" y="574"/>
                  </a:lnTo>
                  <a:lnTo>
                    <a:pt x="1033" y="614"/>
                  </a:lnTo>
                  <a:lnTo>
                    <a:pt x="1110" y="651"/>
                  </a:lnTo>
                  <a:lnTo>
                    <a:pt x="1147" y="651"/>
                  </a:lnTo>
                  <a:lnTo>
                    <a:pt x="1188" y="691"/>
                  </a:lnTo>
                  <a:lnTo>
                    <a:pt x="1224" y="728"/>
                  </a:lnTo>
                  <a:lnTo>
                    <a:pt x="1265" y="728"/>
                  </a:lnTo>
                  <a:lnTo>
                    <a:pt x="1339" y="769"/>
                  </a:lnTo>
                  <a:lnTo>
                    <a:pt x="1379" y="806"/>
                  </a:lnTo>
                  <a:lnTo>
                    <a:pt x="1416" y="806"/>
                  </a:lnTo>
                  <a:lnTo>
                    <a:pt x="1456" y="842"/>
                  </a:lnTo>
                  <a:lnTo>
                    <a:pt x="1493" y="8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91360" y="5495760"/>
              <a:ext cx="231840" cy="142920"/>
            </a:xfrm>
            <a:custGeom>
              <a:avLst/>
              <a:gdLst/>
              <a:ahLst/>
              <a:rect l="l" t="t" r="r" b="b"/>
              <a:pathLst>
                <a:path w="879" h="537">
                  <a:moveTo>
                    <a:pt x="0" y="0"/>
                  </a:moveTo>
                  <a:lnTo>
                    <a:pt x="36" y="40"/>
                  </a:lnTo>
                  <a:lnTo>
                    <a:pt x="113" y="40"/>
                  </a:lnTo>
                  <a:lnTo>
                    <a:pt x="150" y="77"/>
                  </a:lnTo>
                  <a:lnTo>
                    <a:pt x="190" y="118"/>
                  </a:lnTo>
                  <a:lnTo>
                    <a:pt x="268" y="155"/>
                  </a:lnTo>
                  <a:lnTo>
                    <a:pt x="305" y="191"/>
                  </a:lnTo>
                  <a:lnTo>
                    <a:pt x="341" y="232"/>
                  </a:lnTo>
                  <a:lnTo>
                    <a:pt x="382" y="269"/>
                  </a:lnTo>
                  <a:lnTo>
                    <a:pt x="459" y="309"/>
                  </a:lnTo>
                  <a:lnTo>
                    <a:pt x="496" y="346"/>
                  </a:lnTo>
                  <a:lnTo>
                    <a:pt x="536" y="383"/>
                  </a:lnTo>
                  <a:lnTo>
                    <a:pt x="610" y="423"/>
                  </a:lnTo>
                  <a:lnTo>
                    <a:pt x="651" y="460"/>
                  </a:lnTo>
                  <a:lnTo>
                    <a:pt x="728" y="460"/>
                  </a:lnTo>
                  <a:lnTo>
                    <a:pt x="765" y="500"/>
                  </a:lnTo>
                  <a:lnTo>
                    <a:pt x="802" y="537"/>
                  </a:lnTo>
                  <a:lnTo>
                    <a:pt x="842" y="537"/>
                  </a:lnTo>
                  <a:lnTo>
                    <a:pt x="879" y="5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91360" y="5324400"/>
              <a:ext cx="272880" cy="182520"/>
            </a:xfrm>
            <a:custGeom>
              <a:avLst/>
              <a:gdLst/>
              <a:ahLst/>
              <a:rect l="l" t="t" r="r" b="b"/>
              <a:pathLst>
                <a:path w="1033" h="691">
                  <a:moveTo>
                    <a:pt x="0" y="0"/>
                  </a:moveTo>
                  <a:lnTo>
                    <a:pt x="36" y="41"/>
                  </a:lnTo>
                  <a:lnTo>
                    <a:pt x="77" y="77"/>
                  </a:lnTo>
                  <a:lnTo>
                    <a:pt x="113" y="119"/>
                  </a:lnTo>
                  <a:lnTo>
                    <a:pt x="150" y="154"/>
                  </a:lnTo>
                  <a:lnTo>
                    <a:pt x="190" y="191"/>
                  </a:lnTo>
                  <a:lnTo>
                    <a:pt x="268" y="191"/>
                  </a:lnTo>
                  <a:lnTo>
                    <a:pt x="305" y="232"/>
                  </a:lnTo>
                  <a:lnTo>
                    <a:pt x="341" y="268"/>
                  </a:lnTo>
                  <a:lnTo>
                    <a:pt x="382" y="309"/>
                  </a:lnTo>
                  <a:lnTo>
                    <a:pt x="419" y="309"/>
                  </a:lnTo>
                  <a:lnTo>
                    <a:pt x="496" y="346"/>
                  </a:lnTo>
                  <a:lnTo>
                    <a:pt x="536" y="383"/>
                  </a:lnTo>
                  <a:lnTo>
                    <a:pt x="573" y="383"/>
                  </a:lnTo>
                  <a:lnTo>
                    <a:pt x="610" y="423"/>
                  </a:lnTo>
                  <a:lnTo>
                    <a:pt x="651" y="460"/>
                  </a:lnTo>
                  <a:lnTo>
                    <a:pt x="728" y="460"/>
                  </a:lnTo>
                  <a:lnTo>
                    <a:pt x="765" y="500"/>
                  </a:lnTo>
                  <a:lnTo>
                    <a:pt x="802" y="537"/>
                  </a:lnTo>
                  <a:lnTo>
                    <a:pt x="842" y="574"/>
                  </a:lnTo>
                  <a:lnTo>
                    <a:pt x="879" y="574"/>
                  </a:lnTo>
                  <a:lnTo>
                    <a:pt x="919" y="614"/>
                  </a:lnTo>
                  <a:lnTo>
                    <a:pt x="956" y="651"/>
                  </a:lnTo>
                  <a:lnTo>
                    <a:pt x="993" y="691"/>
                  </a:lnTo>
                  <a:lnTo>
                    <a:pt x="1033" y="6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32480" y="5375160"/>
              <a:ext cx="120600" cy="69840"/>
            </a:xfrm>
            <a:custGeom>
              <a:avLst/>
              <a:gdLst/>
              <a:ahLst/>
              <a:rect l="l" t="t" r="r" b="b"/>
              <a:pathLst>
                <a:path w="457" h="269">
                  <a:moveTo>
                    <a:pt x="457" y="269"/>
                  </a:moveTo>
                  <a:lnTo>
                    <a:pt x="420" y="232"/>
                  </a:lnTo>
                  <a:lnTo>
                    <a:pt x="383" y="232"/>
                  </a:lnTo>
                  <a:lnTo>
                    <a:pt x="343" y="232"/>
                  </a:lnTo>
                  <a:lnTo>
                    <a:pt x="306" y="192"/>
                  </a:lnTo>
                  <a:lnTo>
                    <a:pt x="266" y="192"/>
                  </a:lnTo>
                  <a:lnTo>
                    <a:pt x="229" y="192"/>
                  </a:lnTo>
                  <a:lnTo>
                    <a:pt x="192" y="155"/>
                  </a:lnTo>
                  <a:lnTo>
                    <a:pt x="151" y="118"/>
                  </a:lnTo>
                  <a:lnTo>
                    <a:pt x="115" y="118"/>
                  </a:lnTo>
                  <a:lnTo>
                    <a:pt x="115" y="77"/>
                  </a:lnTo>
                  <a:lnTo>
                    <a:pt x="74" y="41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291760" y="749160"/>
            <a:ext cx="4981320" cy="2381400"/>
            <a:chOff x="2291760" y="749160"/>
            <a:chExt cx="4981320" cy="2381400"/>
          </a:xfrm>
        </p:grpSpPr>
        <p:sp>
          <p:nvSpPr>
            <p:cNvPr id="734" name=""/>
            <p:cNvSpPr/>
            <p:nvPr/>
          </p:nvSpPr>
          <p:spPr>
            <a:xfrm>
              <a:off x="2372040" y="749160"/>
              <a:ext cx="4866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800" spc="-1" strike="noStrike">
                  <a:solidFill>
                    <a:srgbClr val="1f1a17"/>
                  </a:solidFill>
                  <a:latin typeface="Geometr231 Hv BT"/>
                </a:rPr>
                <a:t>WHAT IS A</a:t>
              </a:r>
              <a:endParaRPr b="0" lang="en-US" sz="7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1760" y="1941480"/>
              <a:ext cx="49813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800" spc="-1" strike="noStrike">
                  <a:solidFill>
                    <a:srgbClr val="1f1a17"/>
                  </a:solidFill>
                  <a:latin typeface="Geometr231 Hv BT"/>
                </a:rPr>
                <a:t>CONDOM?</a:t>
              </a:r>
              <a:endParaRPr b="0" lang="en-US" sz="7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2685960" y="2382840"/>
            <a:ext cx="3768840" cy="3713040"/>
            <a:chOff x="2685960" y="2382840"/>
            <a:chExt cx="3768840" cy="3713040"/>
          </a:xfrm>
        </p:grpSpPr>
        <p:grpSp>
          <p:nvGrpSpPr>
            <p:cNvPr id="737" name=""/>
            <p:cNvGrpSpPr/>
            <p:nvPr/>
          </p:nvGrpSpPr>
          <p:grpSpPr>
            <a:xfrm>
              <a:off x="3073320" y="2498760"/>
              <a:ext cx="3264120" cy="3597120"/>
              <a:chOff x="3073320" y="2498760"/>
              <a:chExt cx="3264120" cy="3597120"/>
            </a:xfrm>
          </p:grpSpPr>
          <p:sp>
            <p:nvSpPr>
              <p:cNvPr id="738" name=""/>
              <p:cNvSpPr/>
              <p:nvPr/>
            </p:nvSpPr>
            <p:spPr>
              <a:xfrm>
                <a:off x="3094200" y="4686480"/>
                <a:ext cx="214200" cy="32040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8" y="0"/>
                    </a:lnTo>
                    <a:lnTo>
                      <a:pt x="646" y="0"/>
                    </a:lnTo>
                    <a:lnTo>
                      <a:pt x="673" y="255"/>
                    </a:lnTo>
                    <a:lnTo>
                      <a:pt x="468" y="25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321000" y="4676760"/>
                <a:ext cx="32400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2"/>
                    </a:moveTo>
                    <a:lnTo>
                      <a:pt x="499" y="282"/>
                    </a:lnTo>
                    <a:lnTo>
                      <a:pt x="487" y="283"/>
                    </a:lnTo>
                    <a:lnTo>
                      <a:pt x="475" y="284"/>
                    </a:lnTo>
                    <a:lnTo>
                      <a:pt x="462" y="286"/>
                    </a:lnTo>
                    <a:lnTo>
                      <a:pt x="451" y="288"/>
                    </a:lnTo>
                    <a:lnTo>
                      <a:pt x="440" y="291"/>
                    </a:lnTo>
                    <a:lnTo>
                      <a:pt x="429" y="295"/>
                    </a:lnTo>
                    <a:lnTo>
                      <a:pt x="418" y="299"/>
                    </a:lnTo>
                    <a:lnTo>
                      <a:pt x="408" y="304"/>
                    </a:lnTo>
                    <a:lnTo>
                      <a:pt x="397" y="310"/>
                    </a:lnTo>
                    <a:lnTo>
                      <a:pt x="387" y="315"/>
                    </a:lnTo>
                    <a:lnTo>
                      <a:pt x="377" y="322"/>
                    </a:lnTo>
                    <a:lnTo>
                      <a:pt x="368" y="329"/>
                    </a:lnTo>
                    <a:lnTo>
                      <a:pt x="358" y="336"/>
                    </a:lnTo>
                    <a:lnTo>
                      <a:pt x="349" y="345"/>
                    </a:lnTo>
                    <a:lnTo>
                      <a:pt x="341" y="353"/>
                    </a:lnTo>
                    <a:lnTo>
                      <a:pt x="332" y="362"/>
                    </a:lnTo>
                    <a:lnTo>
                      <a:pt x="325" y="372"/>
                    </a:lnTo>
                    <a:lnTo>
                      <a:pt x="317" y="381"/>
                    </a:lnTo>
                    <a:lnTo>
                      <a:pt x="310" y="392"/>
                    </a:lnTo>
                    <a:lnTo>
                      <a:pt x="304" y="401"/>
                    </a:lnTo>
                    <a:lnTo>
                      <a:pt x="298" y="412"/>
                    </a:lnTo>
                    <a:lnTo>
                      <a:pt x="293" y="423"/>
                    </a:lnTo>
                    <a:lnTo>
                      <a:pt x="289" y="434"/>
                    </a:lnTo>
                    <a:lnTo>
                      <a:pt x="285" y="445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5" y="481"/>
                    </a:lnTo>
                    <a:lnTo>
                      <a:pt x="274" y="493"/>
                    </a:lnTo>
                    <a:lnTo>
                      <a:pt x="272" y="505"/>
                    </a:lnTo>
                    <a:lnTo>
                      <a:pt x="272" y="519"/>
                    </a:lnTo>
                    <a:lnTo>
                      <a:pt x="271" y="532"/>
                    </a:lnTo>
                    <a:lnTo>
                      <a:pt x="272" y="545"/>
                    </a:lnTo>
                    <a:lnTo>
                      <a:pt x="272" y="558"/>
                    </a:lnTo>
                    <a:lnTo>
                      <a:pt x="274" y="570"/>
                    </a:lnTo>
                    <a:lnTo>
                      <a:pt x="275" y="583"/>
                    </a:lnTo>
                    <a:lnTo>
                      <a:pt x="279" y="595"/>
                    </a:lnTo>
                    <a:lnTo>
                      <a:pt x="281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3" y="641"/>
                    </a:lnTo>
                    <a:lnTo>
                      <a:pt x="298" y="651"/>
                    </a:lnTo>
                    <a:lnTo>
                      <a:pt x="304" y="662"/>
                    </a:lnTo>
                    <a:lnTo>
                      <a:pt x="310" y="671"/>
                    </a:lnTo>
                    <a:lnTo>
                      <a:pt x="316" y="682"/>
                    </a:lnTo>
                    <a:lnTo>
                      <a:pt x="324" y="691"/>
                    </a:lnTo>
                    <a:lnTo>
                      <a:pt x="332" y="701"/>
                    </a:lnTo>
                    <a:lnTo>
                      <a:pt x="341" y="710"/>
                    </a:lnTo>
                    <a:lnTo>
                      <a:pt x="349" y="718"/>
                    </a:lnTo>
                    <a:lnTo>
                      <a:pt x="358" y="727"/>
                    </a:lnTo>
                    <a:lnTo>
                      <a:pt x="367" y="734"/>
                    </a:lnTo>
                    <a:lnTo>
                      <a:pt x="376" y="740"/>
                    </a:lnTo>
                    <a:lnTo>
                      <a:pt x="387" y="748"/>
                    </a:lnTo>
                    <a:lnTo>
                      <a:pt x="396" y="753"/>
                    </a:lnTo>
                    <a:lnTo>
                      <a:pt x="407" y="758"/>
                    </a:lnTo>
                    <a:lnTo>
                      <a:pt x="417" y="764"/>
                    </a:lnTo>
                    <a:lnTo>
                      <a:pt x="429" y="768"/>
                    </a:lnTo>
                    <a:lnTo>
                      <a:pt x="439" y="771"/>
                    </a:lnTo>
                    <a:lnTo>
                      <a:pt x="451" y="774"/>
                    </a:lnTo>
                    <a:lnTo>
                      <a:pt x="462" y="777"/>
                    </a:lnTo>
                    <a:lnTo>
                      <a:pt x="474" y="779"/>
                    </a:lnTo>
                    <a:lnTo>
                      <a:pt x="487" y="780"/>
                    </a:lnTo>
                    <a:lnTo>
                      <a:pt x="499" y="781"/>
                    </a:lnTo>
                    <a:lnTo>
                      <a:pt x="512" y="781"/>
                    </a:lnTo>
                    <a:lnTo>
                      <a:pt x="524" y="781"/>
                    </a:lnTo>
                    <a:lnTo>
                      <a:pt x="537" y="780"/>
                    </a:lnTo>
                    <a:lnTo>
                      <a:pt x="549" y="779"/>
                    </a:lnTo>
                    <a:lnTo>
                      <a:pt x="561" y="777"/>
                    </a:lnTo>
                    <a:lnTo>
                      <a:pt x="573" y="774"/>
                    </a:lnTo>
                    <a:lnTo>
                      <a:pt x="583" y="771"/>
                    </a:lnTo>
                    <a:lnTo>
                      <a:pt x="595" y="768"/>
                    </a:lnTo>
                    <a:lnTo>
                      <a:pt x="605" y="764"/>
                    </a:lnTo>
                    <a:lnTo>
                      <a:pt x="616" y="758"/>
                    </a:lnTo>
                    <a:lnTo>
                      <a:pt x="626" y="753"/>
                    </a:lnTo>
                    <a:lnTo>
                      <a:pt x="637" y="748"/>
                    </a:lnTo>
                    <a:lnTo>
                      <a:pt x="646" y="740"/>
                    </a:lnTo>
                    <a:lnTo>
                      <a:pt x="656" y="734"/>
                    </a:lnTo>
                    <a:lnTo>
                      <a:pt x="665" y="726"/>
                    </a:lnTo>
                    <a:lnTo>
                      <a:pt x="675" y="718"/>
                    </a:lnTo>
                    <a:lnTo>
                      <a:pt x="683" y="709"/>
                    </a:lnTo>
                    <a:lnTo>
                      <a:pt x="692" y="701"/>
                    </a:lnTo>
                    <a:lnTo>
                      <a:pt x="699" y="691"/>
                    </a:lnTo>
                    <a:lnTo>
                      <a:pt x="706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5" y="650"/>
                    </a:lnTo>
                    <a:lnTo>
                      <a:pt x="731" y="640"/>
                    </a:lnTo>
                    <a:lnTo>
                      <a:pt x="735" y="629"/>
                    </a:lnTo>
                    <a:lnTo>
                      <a:pt x="739" y="618"/>
                    </a:lnTo>
                    <a:lnTo>
                      <a:pt x="742" y="606"/>
                    </a:lnTo>
                    <a:lnTo>
                      <a:pt x="745" y="595"/>
                    </a:lnTo>
                    <a:lnTo>
                      <a:pt x="748" y="582"/>
                    </a:lnTo>
                    <a:lnTo>
                      <a:pt x="749" y="570"/>
                    </a:lnTo>
                    <a:lnTo>
                      <a:pt x="752" y="558"/>
                    </a:lnTo>
                    <a:lnTo>
                      <a:pt x="752" y="545"/>
                    </a:lnTo>
                    <a:lnTo>
                      <a:pt x="753" y="532"/>
                    </a:lnTo>
                    <a:lnTo>
                      <a:pt x="752" y="519"/>
                    </a:lnTo>
                    <a:lnTo>
                      <a:pt x="752" y="505"/>
                    </a:lnTo>
                    <a:lnTo>
                      <a:pt x="749" y="494"/>
                    </a:lnTo>
                    <a:lnTo>
                      <a:pt x="748" y="481"/>
                    </a:lnTo>
                    <a:lnTo>
                      <a:pt x="745" y="469"/>
                    </a:lnTo>
                    <a:lnTo>
                      <a:pt x="742" y="457"/>
                    </a:lnTo>
                    <a:lnTo>
                      <a:pt x="739" y="445"/>
                    </a:lnTo>
                    <a:lnTo>
                      <a:pt x="735" y="435"/>
                    </a:lnTo>
                    <a:lnTo>
                      <a:pt x="731" y="423"/>
                    </a:lnTo>
                    <a:lnTo>
                      <a:pt x="725" y="413"/>
                    </a:lnTo>
                    <a:lnTo>
                      <a:pt x="720" y="402"/>
                    </a:lnTo>
                    <a:lnTo>
                      <a:pt x="714" y="392"/>
                    </a:lnTo>
                    <a:lnTo>
                      <a:pt x="706" y="382"/>
                    </a:lnTo>
                    <a:lnTo>
                      <a:pt x="699" y="373"/>
                    </a:lnTo>
                    <a:lnTo>
                      <a:pt x="692" y="364"/>
                    </a:lnTo>
                    <a:lnTo>
                      <a:pt x="683" y="354"/>
                    </a:lnTo>
                    <a:lnTo>
                      <a:pt x="675" y="345"/>
                    </a:lnTo>
                    <a:lnTo>
                      <a:pt x="665" y="337"/>
                    </a:lnTo>
                    <a:lnTo>
                      <a:pt x="656" y="329"/>
                    </a:lnTo>
                    <a:lnTo>
                      <a:pt x="646" y="323"/>
                    </a:lnTo>
                    <a:lnTo>
                      <a:pt x="637" y="315"/>
                    </a:lnTo>
                    <a:lnTo>
                      <a:pt x="626" y="310"/>
                    </a:lnTo>
                    <a:lnTo>
                      <a:pt x="616" y="305"/>
                    </a:lnTo>
                    <a:lnTo>
                      <a:pt x="605" y="299"/>
                    </a:lnTo>
                    <a:lnTo>
                      <a:pt x="595" y="295"/>
                    </a:lnTo>
                    <a:lnTo>
                      <a:pt x="583" y="291"/>
                    </a:lnTo>
                    <a:lnTo>
                      <a:pt x="573" y="289"/>
                    </a:lnTo>
                    <a:lnTo>
                      <a:pt x="561" y="286"/>
                    </a:lnTo>
                    <a:lnTo>
                      <a:pt x="549" y="284"/>
                    </a:lnTo>
                    <a:lnTo>
                      <a:pt x="537" y="283"/>
                    </a:lnTo>
                    <a:lnTo>
                      <a:pt x="524" y="282"/>
                    </a:lnTo>
                    <a:lnTo>
                      <a:pt x="512" y="282"/>
                    </a:lnTo>
                    <a:close/>
                    <a:moveTo>
                      <a:pt x="511" y="0"/>
                    </a:moveTo>
                    <a:lnTo>
                      <a:pt x="534" y="1"/>
                    </a:lnTo>
                    <a:lnTo>
                      <a:pt x="558" y="2"/>
                    </a:lnTo>
                    <a:lnTo>
                      <a:pt x="581" y="5"/>
                    </a:lnTo>
                    <a:lnTo>
                      <a:pt x="604" y="9"/>
                    </a:lnTo>
                    <a:lnTo>
                      <a:pt x="626" y="14"/>
                    </a:lnTo>
                    <a:lnTo>
                      <a:pt x="649" y="19"/>
                    </a:lnTo>
                    <a:lnTo>
                      <a:pt x="671" y="25"/>
                    </a:lnTo>
                    <a:lnTo>
                      <a:pt x="693" y="33"/>
                    </a:lnTo>
                    <a:lnTo>
                      <a:pt x="714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4" y="73"/>
                    </a:lnTo>
                    <a:lnTo>
                      <a:pt x="793" y="84"/>
                    </a:lnTo>
                    <a:lnTo>
                      <a:pt x="810" y="98"/>
                    </a:lnTo>
                    <a:lnTo>
                      <a:pt x="827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7" y="235"/>
                    </a:lnTo>
                    <a:lnTo>
                      <a:pt x="951" y="260"/>
                    </a:lnTo>
                    <a:lnTo>
                      <a:pt x="965" y="285"/>
                    </a:lnTo>
                    <a:lnTo>
                      <a:pt x="978" y="310"/>
                    </a:lnTo>
                    <a:lnTo>
                      <a:pt x="988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7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6" y="618"/>
                    </a:lnTo>
                    <a:lnTo>
                      <a:pt x="1012" y="646"/>
                    </a:lnTo>
                    <a:lnTo>
                      <a:pt x="1005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6" y="754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3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7" y="954"/>
                    </a:lnTo>
                    <a:lnTo>
                      <a:pt x="809" y="967"/>
                    </a:lnTo>
                    <a:lnTo>
                      <a:pt x="791" y="980"/>
                    </a:lnTo>
                    <a:lnTo>
                      <a:pt x="773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3" y="1023"/>
                    </a:lnTo>
                    <a:lnTo>
                      <a:pt x="692" y="1031"/>
                    </a:lnTo>
                    <a:lnTo>
                      <a:pt x="670" y="1040"/>
                    </a:lnTo>
                    <a:lnTo>
                      <a:pt x="649" y="1046"/>
                    </a:lnTo>
                    <a:lnTo>
                      <a:pt x="625" y="1051"/>
                    </a:lnTo>
                    <a:lnTo>
                      <a:pt x="603" y="1055"/>
                    </a:lnTo>
                    <a:lnTo>
                      <a:pt x="580" y="1060"/>
                    </a:lnTo>
                    <a:lnTo>
                      <a:pt x="557" y="1062"/>
                    </a:lnTo>
                    <a:lnTo>
                      <a:pt x="534" y="1064"/>
                    </a:lnTo>
                    <a:lnTo>
                      <a:pt x="511" y="1064"/>
                    </a:lnTo>
                    <a:lnTo>
                      <a:pt x="487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7" y="1055"/>
                    </a:lnTo>
                    <a:lnTo>
                      <a:pt x="395" y="1051"/>
                    </a:lnTo>
                    <a:lnTo>
                      <a:pt x="373" y="1046"/>
                    </a:lnTo>
                    <a:lnTo>
                      <a:pt x="351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8" y="1013"/>
                    </a:lnTo>
                    <a:lnTo>
                      <a:pt x="268" y="1004"/>
                    </a:lnTo>
                    <a:lnTo>
                      <a:pt x="249" y="992"/>
                    </a:lnTo>
                    <a:lnTo>
                      <a:pt x="230" y="980"/>
                    </a:lnTo>
                    <a:lnTo>
                      <a:pt x="212" y="967"/>
                    </a:lnTo>
                    <a:lnTo>
                      <a:pt x="194" y="954"/>
                    </a:lnTo>
                    <a:lnTo>
                      <a:pt x="178" y="939"/>
                    </a:lnTo>
                    <a:lnTo>
                      <a:pt x="157" y="919"/>
                    </a:lnTo>
                    <a:lnTo>
                      <a:pt x="138" y="898"/>
                    </a:lnTo>
                    <a:lnTo>
                      <a:pt x="119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1" y="806"/>
                    </a:lnTo>
                    <a:lnTo>
                      <a:pt x="58" y="780"/>
                    </a:lnTo>
                    <a:lnTo>
                      <a:pt x="45" y="754"/>
                    </a:lnTo>
                    <a:lnTo>
                      <a:pt x="35" y="728"/>
                    </a:lnTo>
                    <a:lnTo>
                      <a:pt x="25" y="701"/>
                    </a:lnTo>
                    <a:lnTo>
                      <a:pt x="18" y="673"/>
                    </a:lnTo>
                    <a:lnTo>
                      <a:pt x="10" y="646"/>
                    </a:lnTo>
                    <a:lnTo>
                      <a:pt x="6" y="618"/>
                    </a:lnTo>
                    <a:lnTo>
                      <a:pt x="2" y="589"/>
                    </a:lnTo>
                    <a:lnTo>
                      <a:pt x="0" y="561"/>
                    </a:lnTo>
                    <a:lnTo>
                      <a:pt x="0" y="532"/>
                    </a:lnTo>
                    <a:lnTo>
                      <a:pt x="0" y="503"/>
                    </a:lnTo>
                    <a:lnTo>
                      <a:pt x="2" y="474"/>
                    </a:lnTo>
                    <a:lnTo>
                      <a:pt x="6" y="445"/>
                    </a:lnTo>
                    <a:lnTo>
                      <a:pt x="10" y="418"/>
                    </a:lnTo>
                    <a:lnTo>
                      <a:pt x="18" y="390"/>
                    </a:lnTo>
                    <a:lnTo>
                      <a:pt x="25" y="362"/>
                    </a:lnTo>
                    <a:lnTo>
                      <a:pt x="35" y="336"/>
                    </a:lnTo>
                    <a:lnTo>
                      <a:pt x="45" y="310"/>
                    </a:lnTo>
                    <a:lnTo>
                      <a:pt x="58" y="284"/>
                    </a:lnTo>
                    <a:lnTo>
                      <a:pt x="70" y="259"/>
                    </a:lnTo>
                    <a:lnTo>
                      <a:pt x="85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7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4" y="112"/>
                    </a:lnTo>
                    <a:lnTo>
                      <a:pt x="212" y="97"/>
                    </a:lnTo>
                    <a:lnTo>
                      <a:pt x="230" y="84"/>
                    </a:lnTo>
                    <a:lnTo>
                      <a:pt x="249" y="72"/>
                    </a:lnTo>
                    <a:lnTo>
                      <a:pt x="268" y="61"/>
                    </a:lnTo>
                    <a:lnTo>
                      <a:pt x="288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1" y="25"/>
                    </a:lnTo>
                    <a:lnTo>
                      <a:pt x="373" y="19"/>
                    </a:lnTo>
                    <a:lnTo>
                      <a:pt x="395" y="13"/>
                    </a:lnTo>
                    <a:lnTo>
                      <a:pt x="417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7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86120" y="4686480"/>
                <a:ext cx="312840" cy="320400"/>
              </a:xfrm>
              <a:custGeom>
                <a:avLst/>
                <a:gdLst/>
                <a:ahLst/>
                <a:rect l="l" t="t" r="r" b="b"/>
                <a:pathLst>
                  <a:path w="983" h="1010">
                    <a:moveTo>
                      <a:pt x="384" y="643"/>
                    </a:moveTo>
                    <a:lnTo>
                      <a:pt x="592" y="643"/>
                    </a:lnTo>
                    <a:lnTo>
                      <a:pt x="488" y="303"/>
                    </a:lnTo>
                    <a:lnTo>
                      <a:pt x="384" y="643"/>
                    </a:lnTo>
                    <a:close/>
                    <a:moveTo>
                      <a:pt x="0" y="1010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10"/>
                    </a:lnTo>
                    <a:lnTo>
                      <a:pt x="706" y="1010"/>
                    </a:lnTo>
                    <a:lnTo>
                      <a:pt x="669" y="896"/>
                    </a:lnTo>
                    <a:lnTo>
                      <a:pt x="312" y="896"/>
                    </a:lnTo>
                    <a:lnTo>
                      <a:pt x="273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255920" y="4686480"/>
                <a:ext cx="219240" cy="320400"/>
              </a:xfrm>
              <a:custGeom>
                <a:avLst/>
                <a:gdLst/>
                <a:ahLst/>
                <a:rect l="l" t="t" r="r" b="b"/>
                <a:pathLst>
                  <a:path w="690" h="1010">
                    <a:moveTo>
                      <a:pt x="262" y="486"/>
                    </a:moveTo>
                    <a:lnTo>
                      <a:pt x="294" y="486"/>
                    </a:lnTo>
                    <a:lnTo>
                      <a:pt x="308" y="485"/>
                    </a:lnTo>
                    <a:lnTo>
                      <a:pt x="323" y="484"/>
                    </a:lnTo>
                    <a:lnTo>
                      <a:pt x="337" y="480"/>
                    </a:lnTo>
                    <a:lnTo>
                      <a:pt x="350" y="477"/>
                    </a:lnTo>
                    <a:lnTo>
                      <a:pt x="362" y="473"/>
                    </a:lnTo>
                    <a:lnTo>
                      <a:pt x="373" y="468"/>
                    </a:lnTo>
                    <a:lnTo>
                      <a:pt x="384" y="460"/>
                    </a:lnTo>
                    <a:lnTo>
                      <a:pt x="393" y="453"/>
                    </a:lnTo>
                    <a:lnTo>
                      <a:pt x="402" y="445"/>
                    </a:lnTo>
                    <a:lnTo>
                      <a:pt x="408" y="436"/>
                    </a:lnTo>
                    <a:lnTo>
                      <a:pt x="414" y="426"/>
                    </a:lnTo>
                    <a:lnTo>
                      <a:pt x="420" y="415"/>
                    </a:lnTo>
                    <a:lnTo>
                      <a:pt x="424" y="404"/>
                    </a:lnTo>
                    <a:lnTo>
                      <a:pt x="426" y="392"/>
                    </a:lnTo>
                    <a:lnTo>
                      <a:pt x="428" y="379"/>
                    </a:lnTo>
                    <a:lnTo>
                      <a:pt x="428" y="365"/>
                    </a:lnTo>
                    <a:lnTo>
                      <a:pt x="428" y="350"/>
                    </a:lnTo>
                    <a:lnTo>
                      <a:pt x="426" y="337"/>
                    </a:lnTo>
                    <a:lnTo>
                      <a:pt x="424" y="324"/>
                    </a:lnTo>
                    <a:lnTo>
                      <a:pt x="420" y="312"/>
                    </a:lnTo>
                    <a:lnTo>
                      <a:pt x="414" y="301"/>
                    </a:lnTo>
                    <a:lnTo>
                      <a:pt x="408" y="290"/>
                    </a:lnTo>
                    <a:lnTo>
                      <a:pt x="402" y="281"/>
                    </a:lnTo>
                    <a:lnTo>
                      <a:pt x="393" y="273"/>
                    </a:lnTo>
                    <a:lnTo>
                      <a:pt x="384" y="265"/>
                    </a:lnTo>
                    <a:lnTo>
                      <a:pt x="373" y="259"/>
                    </a:lnTo>
                    <a:lnTo>
                      <a:pt x="363" y="254"/>
                    </a:lnTo>
                    <a:lnTo>
                      <a:pt x="350" y="248"/>
                    </a:lnTo>
                    <a:lnTo>
                      <a:pt x="337" y="245"/>
                    </a:lnTo>
                    <a:lnTo>
                      <a:pt x="323" y="243"/>
                    </a:lnTo>
                    <a:lnTo>
                      <a:pt x="308" y="241"/>
                    </a:lnTo>
                    <a:lnTo>
                      <a:pt x="291" y="241"/>
                    </a:lnTo>
                    <a:lnTo>
                      <a:pt x="262" y="241"/>
                    </a:lnTo>
                    <a:lnTo>
                      <a:pt x="262" y="486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6" y="1"/>
                    </a:lnTo>
                    <a:lnTo>
                      <a:pt x="341" y="3"/>
                    </a:lnTo>
                    <a:lnTo>
                      <a:pt x="364" y="5"/>
                    </a:lnTo>
                    <a:lnTo>
                      <a:pt x="387" y="8"/>
                    </a:lnTo>
                    <a:lnTo>
                      <a:pt x="410" y="12"/>
                    </a:lnTo>
                    <a:lnTo>
                      <a:pt x="431" y="16"/>
                    </a:lnTo>
                    <a:lnTo>
                      <a:pt x="451" y="22"/>
                    </a:lnTo>
                    <a:lnTo>
                      <a:pt x="471" y="28"/>
                    </a:lnTo>
                    <a:lnTo>
                      <a:pt x="490" y="34"/>
                    </a:lnTo>
                    <a:lnTo>
                      <a:pt x="508" y="42"/>
                    </a:lnTo>
                    <a:lnTo>
                      <a:pt x="525" y="50"/>
                    </a:lnTo>
                    <a:lnTo>
                      <a:pt x="542" y="58"/>
                    </a:lnTo>
                    <a:lnTo>
                      <a:pt x="556" y="68"/>
                    </a:lnTo>
                    <a:lnTo>
                      <a:pt x="571" y="78"/>
                    </a:lnTo>
                    <a:lnTo>
                      <a:pt x="585" y="89"/>
                    </a:lnTo>
                    <a:lnTo>
                      <a:pt x="597" y="100"/>
                    </a:lnTo>
                    <a:lnTo>
                      <a:pt x="610" y="113"/>
                    </a:lnTo>
                    <a:lnTo>
                      <a:pt x="620" y="126"/>
                    </a:lnTo>
                    <a:lnTo>
                      <a:pt x="631" y="139"/>
                    </a:lnTo>
                    <a:lnTo>
                      <a:pt x="640" y="154"/>
                    </a:lnTo>
                    <a:lnTo>
                      <a:pt x="649" y="170"/>
                    </a:lnTo>
                    <a:lnTo>
                      <a:pt x="657" y="185"/>
                    </a:lnTo>
                    <a:lnTo>
                      <a:pt x="664" y="202"/>
                    </a:lnTo>
                    <a:lnTo>
                      <a:pt x="670" y="219"/>
                    </a:lnTo>
                    <a:lnTo>
                      <a:pt x="675" y="238"/>
                    </a:lnTo>
                    <a:lnTo>
                      <a:pt x="679" y="257"/>
                    </a:lnTo>
                    <a:lnTo>
                      <a:pt x="683" y="277"/>
                    </a:lnTo>
                    <a:lnTo>
                      <a:pt x="687" y="297"/>
                    </a:lnTo>
                    <a:lnTo>
                      <a:pt x="689" y="318"/>
                    </a:lnTo>
                    <a:lnTo>
                      <a:pt x="690" y="340"/>
                    </a:lnTo>
                    <a:lnTo>
                      <a:pt x="690" y="362"/>
                    </a:lnTo>
                    <a:lnTo>
                      <a:pt x="690" y="384"/>
                    </a:lnTo>
                    <a:lnTo>
                      <a:pt x="689" y="406"/>
                    </a:lnTo>
                    <a:lnTo>
                      <a:pt x="687" y="426"/>
                    </a:lnTo>
                    <a:lnTo>
                      <a:pt x="683" y="447"/>
                    </a:lnTo>
                    <a:lnTo>
                      <a:pt x="680" y="466"/>
                    </a:lnTo>
                    <a:lnTo>
                      <a:pt x="676" y="485"/>
                    </a:lnTo>
                    <a:lnTo>
                      <a:pt x="671" y="502"/>
                    </a:lnTo>
                    <a:lnTo>
                      <a:pt x="665" y="520"/>
                    </a:lnTo>
                    <a:lnTo>
                      <a:pt x="657" y="537"/>
                    </a:lnTo>
                    <a:lnTo>
                      <a:pt x="650" y="554"/>
                    </a:lnTo>
                    <a:lnTo>
                      <a:pt x="641" y="570"/>
                    </a:lnTo>
                    <a:lnTo>
                      <a:pt x="633" y="584"/>
                    </a:lnTo>
                    <a:lnTo>
                      <a:pt x="623" y="599"/>
                    </a:lnTo>
                    <a:lnTo>
                      <a:pt x="612" y="614"/>
                    </a:lnTo>
                    <a:lnTo>
                      <a:pt x="600" y="626"/>
                    </a:lnTo>
                    <a:lnTo>
                      <a:pt x="588" y="639"/>
                    </a:lnTo>
                    <a:lnTo>
                      <a:pt x="575" y="652"/>
                    </a:lnTo>
                    <a:lnTo>
                      <a:pt x="562" y="662"/>
                    </a:lnTo>
                    <a:lnTo>
                      <a:pt x="547" y="673"/>
                    </a:lnTo>
                    <a:lnTo>
                      <a:pt x="532" y="683"/>
                    </a:lnTo>
                    <a:lnTo>
                      <a:pt x="516" y="691"/>
                    </a:lnTo>
                    <a:lnTo>
                      <a:pt x="500" y="700"/>
                    </a:lnTo>
                    <a:lnTo>
                      <a:pt x="483" y="707"/>
                    </a:lnTo>
                    <a:lnTo>
                      <a:pt x="465" y="714"/>
                    </a:lnTo>
                    <a:lnTo>
                      <a:pt x="447" y="720"/>
                    </a:lnTo>
                    <a:lnTo>
                      <a:pt x="428" y="724"/>
                    </a:lnTo>
                    <a:lnTo>
                      <a:pt x="408" y="728"/>
                    </a:lnTo>
                    <a:lnTo>
                      <a:pt x="388" y="732"/>
                    </a:lnTo>
                    <a:lnTo>
                      <a:pt x="367" y="735"/>
                    </a:lnTo>
                    <a:lnTo>
                      <a:pt x="346" y="737"/>
                    </a:lnTo>
                    <a:lnTo>
                      <a:pt x="324" y="738"/>
                    </a:lnTo>
                    <a:lnTo>
                      <a:pt x="301" y="739"/>
                    </a:lnTo>
                    <a:lnTo>
                      <a:pt x="262" y="739"/>
                    </a:lnTo>
                    <a:lnTo>
                      <a:pt x="262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522680" y="4686480"/>
                <a:ext cx="82800" cy="320400"/>
              </a:xfrm>
              <a:prstGeom prst="rect">
                <a:avLst/>
              </a:pr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664160" y="4686480"/>
                <a:ext cx="1998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884840" y="4680000"/>
                <a:ext cx="217440" cy="331560"/>
              </a:xfrm>
              <a:custGeom>
                <a:avLst/>
                <a:gdLst/>
                <a:ahLst/>
                <a:rect l="l" t="t" r="r" b="b"/>
                <a:pathLst>
                  <a:path w="689" h="1043">
                    <a:moveTo>
                      <a:pt x="669" y="1027"/>
                    </a:moveTo>
                    <a:lnTo>
                      <a:pt x="662" y="1029"/>
                    </a:lnTo>
                    <a:lnTo>
                      <a:pt x="654" y="1031"/>
                    </a:lnTo>
                    <a:lnTo>
                      <a:pt x="646" y="1032"/>
                    </a:lnTo>
                    <a:lnTo>
                      <a:pt x="639" y="1034"/>
                    </a:lnTo>
                    <a:lnTo>
                      <a:pt x="630" y="1036"/>
                    </a:lnTo>
                    <a:lnTo>
                      <a:pt x="623" y="1037"/>
                    </a:lnTo>
                    <a:lnTo>
                      <a:pt x="614" y="1038"/>
                    </a:lnTo>
                    <a:lnTo>
                      <a:pt x="606" y="1039"/>
                    </a:lnTo>
                    <a:lnTo>
                      <a:pt x="598" y="1040"/>
                    </a:lnTo>
                    <a:lnTo>
                      <a:pt x="589" y="1041"/>
                    </a:lnTo>
                    <a:lnTo>
                      <a:pt x="581" y="1041"/>
                    </a:lnTo>
                    <a:lnTo>
                      <a:pt x="572" y="1042"/>
                    </a:lnTo>
                    <a:lnTo>
                      <a:pt x="563" y="1042"/>
                    </a:lnTo>
                    <a:lnTo>
                      <a:pt x="553" y="1043"/>
                    </a:lnTo>
                    <a:lnTo>
                      <a:pt x="544" y="1043"/>
                    </a:lnTo>
                    <a:lnTo>
                      <a:pt x="535" y="1043"/>
                    </a:lnTo>
                    <a:lnTo>
                      <a:pt x="505" y="1043"/>
                    </a:lnTo>
                    <a:lnTo>
                      <a:pt x="476" y="1041"/>
                    </a:lnTo>
                    <a:lnTo>
                      <a:pt x="448" y="1038"/>
                    </a:lnTo>
                    <a:lnTo>
                      <a:pt x="421" y="1035"/>
                    </a:lnTo>
                    <a:lnTo>
                      <a:pt x="394" y="1030"/>
                    </a:lnTo>
                    <a:lnTo>
                      <a:pt x="367" y="1023"/>
                    </a:lnTo>
                    <a:lnTo>
                      <a:pt x="342" y="1016"/>
                    </a:lnTo>
                    <a:lnTo>
                      <a:pt x="318" y="1008"/>
                    </a:lnTo>
                    <a:lnTo>
                      <a:pt x="294" y="998"/>
                    </a:lnTo>
                    <a:lnTo>
                      <a:pt x="271" y="988"/>
                    </a:lnTo>
                    <a:lnTo>
                      <a:pt x="249" y="976"/>
                    </a:lnTo>
                    <a:lnTo>
                      <a:pt x="228" y="964"/>
                    </a:lnTo>
                    <a:lnTo>
                      <a:pt x="207" y="949"/>
                    </a:lnTo>
                    <a:lnTo>
                      <a:pt x="186" y="934"/>
                    </a:lnTo>
                    <a:lnTo>
                      <a:pt x="167" y="918"/>
                    </a:lnTo>
                    <a:lnTo>
                      <a:pt x="148" y="901"/>
                    </a:lnTo>
                    <a:lnTo>
                      <a:pt x="130" y="883"/>
                    </a:lnTo>
                    <a:lnTo>
                      <a:pt x="113" y="864"/>
                    </a:lnTo>
                    <a:lnTo>
                      <a:pt x="97" y="844"/>
                    </a:lnTo>
                    <a:lnTo>
                      <a:pt x="83" y="824"/>
                    </a:lnTo>
                    <a:lnTo>
                      <a:pt x="70" y="803"/>
                    </a:lnTo>
                    <a:lnTo>
                      <a:pt x="57" y="782"/>
                    </a:lnTo>
                    <a:lnTo>
                      <a:pt x="47" y="759"/>
                    </a:lnTo>
                    <a:lnTo>
                      <a:pt x="36" y="737"/>
                    </a:lnTo>
                    <a:lnTo>
                      <a:pt x="28" y="713"/>
                    </a:lnTo>
                    <a:lnTo>
                      <a:pt x="21" y="689"/>
                    </a:lnTo>
                    <a:lnTo>
                      <a:pt x="14" y="663"/>
                    </a:lnTo>
                    <a:lnTo>
                      <a:pt x="9" y="638"/>
                    </a:lnTo>
                    <a:lnTo>
                      <a:pt x="5" y="612"/>
                    </a:lnTo>
                    <a:lnTo>
                      <a:pt x="2" y="585"/>
                    </a:lnTo>
                    <a:lnTo>
                      <a:pt x="1" y="557"/>
                    </a:lnTo>
                    <a:lnTo>
                      <a:pt x="0" y="529"/>
                    </a:lnTo>
                    <a:lnTo>
                      <a:pt x="1" y="501"/>
                    </a:lnTo>
                    <a:lnTo>
                      <a:pt x="3" y="473"/>
                    </a:lnTo>
                    <a:lnTo>
                      <a:pt x="5" y="446"/>
                    </a:lnTo>
                    <a:lnTo>
                      <a:pt x="9" y="419"/>
                    </a:lnTo>
                    <a:lnTo>
                      <a:pt x="14" y="393"/>
                    </a:lnTo>
                    <a:lnTo>
                      <a:pt x="22" y="368"/>
                    </a:lnTo>
                    <a:lnTo>
                      <a:pt x="29" y="343"/>
                    </a:lnTo>
                    <a:lnTo>
                      <a:pt x="38" y="319"/>
                    </a:lnTo>
                    <a:lnTo>
                      <a:pt x="48" y="296"/>
                    </a:lnTo>
                    <a:lnTo>
                      <a:pt x="59" y="273"/>
                    </a:lnTo>
                    <a:lnTo>
                      <a:pt x="72" y="251"/>
                    </a:lnTo>
                    <a:lnTo>
                      <a:pt x="86" y="230"/>
                    </a:lnTo>
                    <a:lnTo>
                      <a:pt x="100" y="209"/>
                    </a:lnTo>
                    <a:lnTo>
                      <a:pt x="117" y="188"/>
                    </a:lnTo>
                    <a:lnTo>
                      <a:pt x="134" y="169"/>
                    </a:lnTo>
                    <a:lnTo>
                      <a:pt x="153" y="149"/>
                    </a:lnTo>
                    <a:lnTo>
                      <a:pt x="173" y="131"/>
                    </a:lnTo>
                    <a:lnTo>
                      <a:pt x="193" y="114"/>
                    </a:lnTo>
                    <a:lnTo>
                      <a:pt x="213" y="98"/>
                    </a:lnTo>
                    <a:lnTo>
                      <a:pt x="235" y="84"/>
                    </a:lnTo>
                    <a:lnTo>
                      <a:pt x="257" y="70"/>
                    </a:lnTo>
                    <a:lnTo>
                      <a:pt x="280" y="57"/>
                    </a:lnTo>
                    <a:lnTo>
                      <a:pt x="303" y="47"/>
                    </a:lnTo>
                    <a:lnTo>
                      <a:pt x="327" y="36"/>
                    </a:lnTo>
                    <a:lnTo>
                      <a:pt x="352" y="28"/>
                    </a:lnTo>
                    <a:lnTo>
                      <a:pt x="377" y="21"/>
                    </a:lnTo>
                    <a:lnTo>
                      <a:pt x="403" y="14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2"/>
                    </a:lnTo>
                    <a:lnTo>
                      <a:pt x="514" y="0"/>
                    </a:lnTo>
                    <a:lnTo>
                      <a:pt x="543" y="0"/>
                    </a:lnTo>
                    <a:lnTo>
                      <a:pt x="550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1" y="0"/>
                    </a:lnTo>
                    <a:lnTo>
                      <a:pt x="579" y="1"/>
                    </a:lnTo>
                    <a:lnTo>
                      <a:pt x="586" y="2"/>
                    </a:lnTo>
                    <a:lnTo>
                      <a:pt x="593" y="2"/>
                    </a:lnTo>
                    <a:lnTo>
                      <a:pt x="602" y="3"/>
                    </a:lnTo>
                    <a:lnTo>
                      <a:pt x="609" y="4"/>
                    </a:lnTo>
                    <a:lnTo>
                      <a:pt x="617" y="5"/>
                    </a:lnTo>
                    <a:lnTo>
                      <a:pt x="625" y="6"/>
                    </a:lnTo>
                    <a:lnTo>
                      <a:pt x="632" y="7"/>
                    </a:lnTo>
                    <a:lnTo>
                      <a:pt x="641" y="9"/>
                    </a:lnTo>
                    <a:lnTo>
                      <a:pt x="648" y="10"/>
                    </a:lnTo>
                    <a:lnTo>
                      <a:pt x="656" y="12"/>
                    </a:lnTo>
                    <a:lnTo>
                      <a:pt x="665" y="13"/>
                    </a:lnTo>
                    <a:lnTo>
                      <a:pt x="679" y="313"/>
                    </a:lnTo>
                    <a:lnTo>
                      <a:pt x="669" y="309"/>
                    </a:lnTo>
                    <a:lnTo>
                      <a:pt x="661" y="305"/>
                    </a:lnTo>
                    <a:lnTo>
                      <a:pt x="651" y="302"/>
                    </a:lnTo>
                    <a:lnTo>
                      <a:pt x="643" y="299"/>
                    </a:lnTo>
                    <a:lnTo>
                      <a:pt x="634" y="297"/>
                    </a:lnTo>
                    <a:lnTo>
                      <a:pt x="625" y="294"/>
                    </a:lnTo>
                    <a:lnTo>
                      <a:pt x="617" y="292"/>
                    </a:lnTo>
                    <a:lnTo>
                      <a:pt x="608" y="290"/>
                    </a:lnTo>
                    <a:lnTo>
                      <a:pt x="599" y="287"/>
                    </a:lnTo>
                    <a:lnTo>
                      <a:pt x="590" y="286"/>
                    </a:lnTo>
                    <a:lnTo>
                      <a:pt x="582" y="285"/>
                    </a:lnTo>
                    <a:lnTo>
                      <a:pt x="573" y="284"/>
                    </a:lnTo>
                    <a:lnTo>
                      <a:pt x="565" y="283"/>
                    </a:lnTo>
                    <a:lnTo>
                      <a:pt x="557" y="282"/>
                    </a:lnTo>
                    <a:lnTo>
                      <a:pt x="548" y="282"/>
                    </a:lnTo>
                    <a:lnTo>
                      <a:pt x="541" y="282"/>
                    </a:lnTo>
                    <a:lnTo>
                      <a:pt x="526" y="282"/>
                    </a:lnTo>
                    <a:lnTo>
                      <a:pt x="511" y="283"/>
                    </a:lnTo>
                    <a:lnTo>
                      <a:pt x="498" y="284"/>
                    </a:lnTo>
                    <a:lnTo>
                      <a:pt x="484" y="286"/>
                    </a:lnTo>
                    <a:lnTo>
                      <a:pt x="470" y="288"/>
                    </a:lnTo>
                    <a:lnTo>
                      <a:pt x="458" y="292"/>
                    </a:lnTo>
                    <a:lnTo>
                      <a:pt x="445" y="295"/>
                    </a:lnTo>
                    <a:lnTo>
                      <a:pt x="433" y="299"/>
                    </a:lnTo>
                    <a:lnTo>
                      <a:pt x="421" y="303"/>
                    </a:lnTo>
                    <a:lnTo>
                      <a:pt x="409" y="308"/>
                    </a:lnTo>
                    <a:lnTo>
                      <a:pt x="398" y="314"/>
                    </a:lnTo>
                    <a:lnTo>
                      <a:pt x="387" y="320"/>
                    </a:lnTo>
                    <a:lnTo>
                      <a:pt x="376" y="326"/>
                    </a:lnTo>
                    <a:lnTo>
                      <a:pt x="366" y="334"/>
                    </a:lnTo>
                    <a:lnTo>
                      <a:pt x="356" y="341"/>
                    </a:lnTo>
                    <a:lnTo>
                      <a:pt x="346" y="349"/>
                    </a:lnTo>
                    <a:lnTo>
                      <a:pt x="338" y="358"/>
                    </a:lnTo>
                    <a:lnTo>
                      <a:pt x="330" y="366"/>
                    </a:lnTo>
                    <a:lnTo>
                      <a:pt x="321" y="376"/>
                    </a:lnTo>
                    <a:lnTo>
                      <a:pt x="314" y="385"/>
                    </a:lnTo>
                    <a:lnTo>
                      <a:pt x="308" y="395"/>
                    </a:lnTo>
                    <a:lnTo>
                      <a:pt x="301" y="404"/>
                    </a:lnTo>
                    <a:lnTo>
                      <a:pt x="296" y="414"/>
                    </a:lnTo>
                    <a:lnTo>
                      <a:pt x="291" y="425"/>
                    </a:lnTo>
                    <a:lnTo>
                      <a:pt x="287" y="435"/>
                    </a:lnTo>
                    <a:lnTo>
                      <a:pt x="282" y="447"/>
                    </a:lnTo>
                    <a:lnTo>
                      <a:pt x="279" y="459"/>
                    </a:lnTo>
                    <a:lnTo>
                      <a:pt x="276" y="470"/>
                    </a:lnTo>
                    <a:lnTo>
                      <a:pt x="274" y="482"/>
                    </a:lnTo>
                    <a:lnTo>
                      <a:pt x="273" y="494"/>
                    </a:lnTo>
                    <a:lnTo>
                      <a:pt x="272" y="507"/>
                    </a:lnTo>
                    <a:lnTo>
                      <a:pt x="272" y="519"/>
                    </a:lnTo>
                    <a:lnTo>
                      <a:pt x="272" y="532"/>
                    </a:lnTo>
                    <a:lnTo>
                      <a:pt x="273" y="545"/>
                    </a:lnTo>
                    <a:lnTo>
                      <a:pt x="274" y="557"/>
                    </a:lnTo>
                    <a:lnTo>
                      <a:pt x="276" y="569"/>
                    </a:lnTo>
                    <a:lnTo>
                      <a:pt x="279" y="580"/>
                    </a:lnTo>
                    <a:lnTo>
                      <a:pt x="282" y="592"/>
                    </a:lnTo>
                    <a:lnTo>
                      <a:pt x="285" y="602"/>
                    </a:lnTo>
                    <a:lnTo>
                      <a:pt x="291" y="614"/>
                    </a:lnTo>
                    <a:lnTo>
                      <a:pt x="295" y="624"/>
                    </a:lnTo>
                    <a:lnTo>
                      <a:pt x="301" y="635"/>
                    </a:lnTo>
                    <a:lnTo>
                      <a:pt x="306" y="644"/>
                    </a:lnTo>
                    <a:lnTo>
                      <a:pt x="314" y="655"/>
                    </a:lnTo>
                    <a:lnTo>
                      <a:pt x="321" y="664"/>
                    </a:lnTo>
                    <a:lnTo>
                      <a:pt x="329" y="674"/>
                    </a:lnTo>
                    <a:lnTo>
                      <a:pt x="337" y="682"/>
                    </a:lnTo>
                    <a:lnTo>
                      <a:pt x="346" y="692"/>
                    </a:lnTo>
                    <a:lnTo>
                      <a:pt x="356" y="700"/>
                    </a:lnTo>
                    <a:lnTo>
                      <a:pt x="365" y="707"/>
                    </a:lnTo>
                    <a:lnTo>
                      <a:pt x="375" y="715"/>
                    </a:lnTo>
                    <a:lnTo>
                      <a:pt x="385" y="722"/>
                    </a:lnTo>
                    <a:lnTo>
                      <a:pt x="396" y="728"/>
                    </a:lnTo>
                    <a:lnTo>
                      <a:pt x="407" y="734"/>
                    </a:lnTo>
                    <a:lnTo>
                      <a:pt x="418" y="739"/>
                    </a:lnTo>
                    <a:lnTo>
                      <a:pt x="429" y="743"/>
                    </a:lnTo>
                    <a:lnTo>
                      <a:pt x="441" y="747"/>
                    </a:lnTo>
                    <a:lnTo>
                      <a:pt x="454" y="752"/>
                    </a:lnTo>
                    <a:lnTo>
                      <a:pt x="465" y="754"/>
                    </a:lnTo>
                    <a:lnTo>
                      <a:pt x="478" y="757"/>
                    </a:lnTo>
                    <a:lnTo>
                      <a:pt x="491" y="758"/>
                    </a:lnTo>
                    <a:lnTo>
                      <a:pt x="504" y="760"/>
                    </a:lnTo>
                    <a:lnTo>
                      <a:pt x="518" y="760"/>
                    </a:lnTo>
                    <a:lnTo>
                      <a:pt x="531" y="761"/>
                    </a:lnTo>
                    <a:lnTo>
                      <a:pt x="542" y="761"/>
                    </a:lnTo>
                    <a:lnTo>
                      <a:pt x="551" y="760"/>
                    </a:lnTo>
                    <a:lnTo>
                      <a:pt x="561" y="759"/>
                    </a:lnTo>
                    <a:lnTo>
                      <a:pt x="571" y="758"/>
                    </a:lnTo>
                    <a:lnTo>
                      <a:pt x="581" y="757"/>
                    </a:lnTo>
                    <a:lnTo>
                      <a:pt x="591" y="755"/>
                    </a:lnTo>
                    <a:lnTo>
                      <a:pt x="601" y="753"/>
                    </a:lnTo>
                    <a:lnTo>
                      <a:pt x="611" y="750"/>
                    </a:lnTo>
                    <a:lnTo>
                      <a:pt x="621" y="747"/>
                    </a:lnTo>
                    <a:lnTo>
                      <a:pt x="630" y="744"/>
                    </a:lnTo>
                    <a:lnTo>
                      <a:pt x="641" y="741"/>
                    </a:lnTo>
                    <a:lnTo>
                      <a:pt x="650" y="738"/>
                    </a:lnTo>
                    <a:lnTo>
                      <a:pt x="660" y="734"/>
                    </a:lnTo>
                    <a:lnTo>
                      <a:pt x="669" y="729"/>
                    </a:lnTo>
                    <a:lnTo>
                      <a:pt x="680" y="725"/>
                    </a:lnTo>
                    <a:lnTo>
                      <a:pt x="689" y="720"/>
                    </a:lnTo>
                    <a:lnTo>
                      <a:pt x="669" y="102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148360" y="4686480"/>
                <a:ext cx="2016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95760" y="467676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2"/>
                    </a:moveTo>
                    <a:lnTo>
                      <a:pt x="500" y="282"/>
                    </a:lnTo>
                    <a:lnTo>
                      <a:pt x="488" y="283"/>
                    </a:lnTo>
                    <a:lnTo>
                      <a:pt x="475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1" y="291"/>
                    </a:lnTo>
                    <a:lnTo>
                      <a:pt x="429" y="295"/>
                    </a:lnTo>
                    <a:lnTo>
                      <a:pt x="419" y="299"/>
                    </a:lnTo>
                    <a:lnTo>
                      <a:pt x="408" y="304"/>
                    </a:lnTo>
                    <a:lnTo>
                      <a:pt x="398" y="310"/>
                    </a:lnTo>
                    <a:lnTo>
                      <a:pt x="388" y="315"/>
                    </a:lnTo>
                    <a:lnTo>
                      <a:pt x="378" y="322"/>
                    </a:lnTo>
                    <a:lnTo>
                      <a:pt x="368" y="329"/>
                    </a:lnTo>
                    <a:lnTo>
                      <a:pt x="359" y="336"/>
                    </a:lnTo>
                    <a:lnTo>
                      <a:pt x="350" y="345"/>
                    </a:lnTo>
                    <a:lnTo>
                      <a:pt x="341" y="353"/>
                    </a:lnTo>
                    <a:lnTo>
                      <a:pt x="332" y="362"/>
                    </a:lnTo>
                    <a:lnTo>
                      <a:pt x="325" y="372"/>
                    </a:lnTo>
                    <a:lnTo>
                      <a:pt x="318" y="381"/>
                    </a:lnTo>
                    <a:lnTo>
                      <a:pt x="311" y="392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4" y="423"/>
                    </a:lnTo>
                    <a:lnTo>
                      <a:pt x="289" y="434"/>
                    </a:lnTo>
                    <a:lnTo>
                      <a:pt x="285" y="445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7" y="481"/>
                    </a:lnTo>
                    <a:lnTo>
                      <a:pt x="275" y="493"/>
                    </a:lnTo>
                    <a:lnTo>
                      <a:pt x="274" y="505"/>
                    </a:lnTo>
                    <a:lnTo>
                      <a:pt x="273" y="519"/>
                    </a:lnTo>
                    <a:lnTo>
                      <a:pt x="273" y="532"/>
                    </a:lnTo>
                    <a:lnTo>
                      <a:pt x="273" y="545"/>
                    </a:lnTo>
                    <a:lnTo>
                      <a:pt x="274" y="558"/>
                    </a:lnTo>
                    <a:lnTo>
                      <a:pt x="275" y="570"/>
                    </a:lnTo>
                    <a:lnTo>
                      <a:pt x="277" y="583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4" y="641"/>
                    </a:lnTo>
                    <a:lnTo>
                      <a:pt x="299" y="651"/>
                    </a:lnTo>
                    <a:lnTo>
                      <a:pt x="305" y="662"/>
                    </a:lnTo>
                    <a:lnTo>
                      <a:pt x="310" y="671"/>
                    </a:lnTo>
                    <a:lnTo>
                      <a:pt x="318" y="682"/>
                    </a:lnTo>
                    <a:lnTo>
                      <a:pt x="325" y="691"/>
                    </a:lnTo>
                    <a:lnTo>
                      <a:pt x="332" y="701"/>
                    </a:lnTo>
                    <a:lnTo>
                      <a:pt x="341" y="710"/>
                    </a:lnTo>
                    <a:lnTo>
                      <a:pt x="349" y="718"/>
                    </a:lnTo>
                    <a:lnTo>
                      <a:pt x="359" y="727"/>
                    </a:lnTo>
                    <a:lnTo>
                      <a:pt x="368" y="734"/>
                    </a:lnTo>
                    <a:lnTo>
                      <a:pt x="378" y="740"/>
                    </a:lnTo>
                    <a:lnTo>
                      <a:pt x="387" y="748"/>
                    </a:lnTo>
                    <a:lnTo>
                      <a:pt x="398" y="753"/>
                    </a:lnTo>
                    <a:lnTo>
                      <a:pt x="408" y="758"/>
                    </a:lnTo>
                    <a:lnTo>
                      <a:pt x="419" y="764"/>
                    </a:lnTo>
                    <a:lnTo>
                      <a:pt x="429" y="768"/>
                    </a:lnTo>
                    <a:lnTo>
                      <a:pt x="440" y="771"/>
                    </a:lnTo>
                    <a:lnTo>
                      <a:pt x="451" y="774"/>
                    </a:lnTo>
                    <a:lnTo>
                      <a:pt x="463" y="777"/>
                    </a:lnTo>
                    <a:lnTo>
                      <a:pt x="475" y="779"/>
                    </a:lnTo>
                    <a:lnTo>
                      <a:pt x="487" y="780"/>
                    </a:lnTo>
                    <a:lnTo>
                      <a:pt x="500" y="781"/>
                    </a:lnTo>
                    <a:lnTo>
                      <a:pt x="512" y="781"/>
                    </a:lnTo>
                    <a:lnTo>
                      <a:pt x="525" y="781"/>
                    </a:lnTo>
                    <a:lnTo>
                      <a:pt x="537" y="780"/>
                    </a:lnTo>
                    <a:lnTo>
                      <a:pt x="550" y="779"/>
                    </a:lnTo>
                    <a:lnTo>
                      <a:pt x="562" y="777"/>
                    </a:lnTo>
                    <a:lnTo>
                      <a:pt x="573" y="774"/>
                    </a:lnTo>
                    <a:lnTo>
                      <a:pt x="585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7" y="758"/>
                    </a:lnTo>
                    <a:lnTo>
                      <a:pt x="628" y="753"/>
                    </a:lnTo>
                    <a:lnTo>
                      <a:pt x="637" y="748"/>
                    </a:lnTo>
                    <a:lnTo>
                      <a:pt x="648" y="740"/>
                    </a:lnTo>
                    <a:lnTo>
                      <a:pt x="657" y="734"/>
                    </a:lnTo>
                    <a:lnTo>
                      <a:pt x="666" y="726"/>
                    </a:lnTo>
                    <a:lnTo>
                      <a:pt x="675" y="718"/>
                    </a:lnTo>
                    <a:lnTo>
                      <a:pt x="684" y="709"/>
                    </a:lnTo>
                    <a:lnTo>
                      <a:pt x="692" y="701"/>
                    </a:lnTo>
                    <a:lnTo>
                      <a:pt x="700" y="691"/>
                    </a:lnTo>
                    <a:lnTo>
                      <a:pt x="708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6" y="650"/>
                    </a:lnTo>
                    <a:lnTo>
                      <a:pt x="731" y="640"/>
                    </a:lnTo>
                    <a:lnTo>
                      <a:pt x="736" y="629"/>
                    </a:lnTo>
                    <a:lnTo>
                      <a:pt x="739" y="618"/>
                    </a:lnTo>
                    <a:lnTo>
                      <a:pt x="743" y="606"/>
                    </a:lnTo>
                    <a:lnTo>
                      <a:pt x="747" y="595"/>
                    </a:lnTo>
                    <a:lnTo>
                      <a:pt x="749" y="582"/>
                    </a:lnTo>
                    <a:lnTo>
                      <a:pt x="751" y="570"/>
                    </a:lnTo>
                    <a:lnTo>
                      <a:pt x="752" y="558"/>
                    </a:lnTo>
                    <a:lnTo>
                      <a:pt x="753" y="545"/>
                    </a:lnTo>
                    <a:lnTo>
                      <a:pt x="753" y="532"/>
                    </a:lnTo>
                    <a:lnTo>
                      <a:pt x="753" y="519"/>
                    </a:lnTo>
                    <a:lnTo>
                      <a:pt x="752" y="505"/>
                    </a:lnTo>
                    <a:lnTo>
                      <a:pt x="751" y="494"/>
                    </a:lnTo>
                    <a:lnTo>
                      <a:pt x="749" y="481"/>
                    </a:lnTo>
                    <a:lnTo>
                      <a:pt x="747" y="469"/>
                    </a:lnTo>
                    <a:lnTo>
                      <a:pt x="743" y="457"/>
                    </a:lnTo>
                    <a:lnTo>
                      <a:pt x="739" y="445"/>
                    </a:lnTo>
                    <a:lnTo>
                      <a:pt x="736" y="435"/>
                    </a:lnTo>
                    <a:lnTo>
                      <a:pt x="731" y="423"/>
                    </a:lnTo>
                    <a:lnTo>
                      <a:pt x="726" y="413"/>
                    </a:lnTo>
                    <a:lnTo>
                      <a:pt x="720" y="402"/>
                    </a:lnTo>
                    <a:lnTo>
                      <a:pt x="714" y="392"/>
                    </a:lnTo>
                    <a:lnTo>
                      <a:pt x="708" y="382"/>
                    </a:lnTo>
                    <a:lnTo>
                      <a:pt x="700" y="373"/>
                    </a:lnTo>
                    <a:lnTo>
                      <a:pt x="692" y="364"/>
                    </a:lnTo>
                    <a:lnTo>
                      <a:pt x="684" y="354"/>
                    </a:lnTo>
                    <a:lnTo>
                      <a:pt x="675" y="345"/>
                    </a:lnTo>
                    <a:lnTo>
                      <a:pt x="666" y="337"/>
                    </a:lnTo>
                    <a:lnTo>
                      <a:pt x="657" y="329"/>
                    </a:lnTo>
                    <a:lnTo>
                      <a:pt x="648" y="323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7" y="305"/>
                    </a:lnTo>
                    <a:lnTo>
                      <a:pt x="607" y="299"/>
                    </a:lnTo>
                    <a:lnTo>
                      <a:pt x="595" y="295"/>
                    </a:lnTo>
                    <a:lnTo>
                      <a:pt x="585" y="291"/>
                    </a:lnTo>
                    <a:lnTo>
                      <a:pt x="573" y="289"/>
                    </a:lnTo>
                    <a:lnTo>
                      <a:pt x="562" y="286"/>
                    </a:lnTo>
                    <a:lnTo>
                      <a:pt x="550" y="284"/>
                    </a:lnTo>
                    <a:lnTo>
                      <a:pt x="537" y="283"/>
                    </a:lnTo>
                    <a:lnTo>
                      <a:pt x="525" y="282"/>
                    </a:lnTo>
                    <a:lnTo>
                      <a:pt x="512" y="282"/>
                    </a:lnTo>
                    <a:close/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2" y="5"/>
                    </a:lnTo>
                    <a:lnTo>
                      <a:pt x="605" y="9"/>
                    </a:lnTo>
                    <a:lnTo>
                      <a:pt x="628" y="14"/>
                    </a:lnTo>
                    <a:lnTo>
                      <a:pt x="650" y="19"/>
                    </a:lnTo>
                    <a:lnTo>
                      <a:pt x="672" y="25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8"/>
                    </a:lnTo>
                    <a:lnTo>
                      <a:pt x="829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8" y="235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6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4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4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40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5"/>
                    </a:lnTo>
                    <a:lnTo>
                      <a:pt x="582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5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3"/>
                    </a:lnTo>
                    <a:lnTo>
                      <a:pt x="269" y="1004"/>
                    </a:lnTo>
                    <a:lnTo>
                      <a:pt x="249" y="992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8" y="939"/>
                    </a:lnTo>
                    <a:lnTo>
                      <a:pt x="158" y="919"/>
                    </a:lnTo>
                    <a:lnTo>
                      <a:pt x="138" y="898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0"/>
                    </a:lnTo>
                    <a:lnTo>
                      <a:pt x="47" y="754"/>
                    </a:lnTo>
                    <a:lnTo>
                      <a:pt x="35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3"/>
                    </a:lnTo>
                    <a:lnTo>
                      <a:pt x="3" y="474"/>
                    </a:lnTo>
                    <a:lnTo>
                      <a:pt x="7" y="445"/>
                    </a:lnTo>
                    <a:lnTo>
                      <a:pt x="12" y="418"/>
                    </a:lnTo>
                    <a:lnTo>
                      <a:pt x="18" y="390"/>
                    </a:lnTo>
                    <a:lnTo>
                      <a:pt x="26" y="362"/>
                    </a:lnTo>
                    <a:lnTo>
                      <a:pt x="35" y="336"/>
                    </a:lnTo>
                    <a:lnTo>
                      <a:pt x="47" y="310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8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49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5"/>
                    </a:lnTo>
                    <a:lnTo>
                      <a:pt x="373" y="19"/>
                    </a:lnTo>
                    <a:lnTo>
                      <a:pt x="396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1160" y="4686480"/>
                <a:ext cx="188640" cy="320400"/>
              </a:xfrm>
              <a:custGeom>
                <a:avLst/>
                <a:gdLst/>
                <a:ahLst/>
                <a:rect l="l" t="t" r="r" b="b"/>
                <a:pathLst>
                  <a:path w="595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554" y="0"/>
                    </a:lnTo>
                    <a:lnTo>
                      <a:pt x="595" y="268"/>
                    </a:lnTo>
                    <a:lnTo>
                      <a:pt x="261" y="268"/>
                    </a:lnTo>
                    <a:lnTo>
                      <a:pt x="261" y="370"/>
                    </a:lnTo>
                    <a:lnTo>
                      <a:pt x="471" y="370"/>
                    </a:lnTo>
                    <a:lnTo>
                      <a:pt x="471" y="638"/>
                    </a:lnTo>
                    <a:lnTo>
                      <a:pt x="261" y="638"/>
                    </a:lnTo>
                    <a:lnTo>
                      <a:pt x="261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11940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6" h="1010">
                    <a:moveTo>
                      <a:pt x="636" y="731"/>
                    </a:moveTo>
                    <a:lnTo>
                      <a:pt x="554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262" y="0"/>
                    </a:lnTo>
                    <a:lnTo>
                      <a:pt x="262" y="731"/>
                    </a:lnTo>
                    <a:lnTo>
                      <a:pt x="636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32160" y="52261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984" h="1010">
                    <a:moveTo>
                      <a:pt x="384" y="644"/>
                    </a:moveTo>
                    <a:lnTo>
                      <a:pt x="593" y="644"/>
                    </a:lnTo>
                    <a:lnTo>
                      <a:pt x="487" y="303"/>
                    </a:lnTo>
                    <a:lnTo>
                      <a:pt x="384" y="644"/>
                    </a:lnTo>
                    <a:close/>
                    <a:moveTo>
                      <a:pt x="0" y="1010"/>
                    </a:moveTo>
                    <a:lnTo>
                      <a:pt x="353" y="0"/>
                    </a:lnTo>
                    <a:lnTo>
                      <a:pt x="649" y="0"/>
                    </a:lnTo>
                    <a:lnTo>
                      <a:pt x="984" y="1010"/>
                    </a:lnTo>
                    <a:lnTo>
                      <a:pt x="705" y="1010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627360" y="52261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6" y="0"/>
                    </a:lnTo>
                    <a:lnTo>
                      <a:pt x="644" y="0"/>
                    </a:lnTo>
                    <a:lnTo>
                      <a:pt x="673" y="255"/>
                    </a:lnTo>
                    <a:lnTo>
                      <a:pt x="468" y="25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86712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073400" y="5226120"/>
                <a:ext cx="279360" cy="320760"/>
              </a:xfrm>
              <a:custGeom>
                <a:avLst/>
                <a:gdLst/>
                <a:ahLst/>
                <a:rect l="l" t="t" r="r" b="b"/>
                <a:pathLst>
                  <a:path w="880" h="1010">
                    <a:moveTo>
                      <a:pt x="0" y="1010"/>
                    </a:moveTo>
                    <a:lnTo>
                      <a:pt x="291" y="500"/>
                    </a:lnTo>
                    <a:lnTo>
                      <a:pt x="17" y="0"/>
                    </a:lnTo>
                    <a:lnTo>
                      <a:pt x="310" y="0"/>
                    </a:lnTo>
                    <a:lnTo>
                      <a:pt x="443" y="282"/>
                    </a:lnTo>
                    <a:lnTo>
                      <a:pt x="577" y="0"/>
                    </a:lnTo>
                    <a:lnTo>
                      <a:pt x="876" y="0"/>
                    </a:lnTo>
                    <a:lnTo>
                      <a:pt x="592" y="503"/>
                    </a:lnTo>
                    <a:lnTo>
                      <a:pt x="880" y="1010"/>
                    </a:lnTo>
                    <a:lnTo>
                      <a:pt x="582" y="1010"/>
                    </a:lnTo>
                    <a:lnTo>
                      <a:pt x="444" y="725"/>
                    </a:lnTo>
                    <a:lnTo>
                      <a:pt x="305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30800" y="5226120"/>
                <a:ext cx="160200" cy="361800"/>
              </a:xfrm>
              <a:custGeom>
                <a:avLst/>
                <a:gdLst/>
                <a:ahLst/>
                <a:rect l="l" t="t" r="r" b="b"/>
                <a:pathLst>
                  <a:path w="502" h="1141">
                    <a:moveTo>
                      <a:pt x="148" y="1141"/>
                    </a:moveTo>
                    <a:lnTo>
                      <a:pt x="0" y="1141"/>
                    </a:lnTo>
                    <a:lnTo>
                      <a:pt x="351" y="0"/>
                    </a:lnTo>
                    <a:lnTo>
                      <a:pt x="502" y="0"/>
                    </a:lnTo>
                    <a:lnTo>
                      <a:pt x="148" y="114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506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262" y="474"/>
                    </a:moveTo>
                    <a:lnTo>
                      <a:pt x="287" y="474"/>
                    </a:lnTo>
                    <a:lnTo>
                      <a:pt x="304" y="474"/>
                    </a:lnTo>
                    <a:lnTo>
                      <a:pt x="319" y="472"/>
                    </a:lnTo>
                    <a:lnTo>
                      <a:pt x="335" y="470"/>
                    </a:lnTo>
                    <a:lnTo>
                      <a:pt x="349" y="467"/>
                    </a:lnTo>
                    <a:lnTo>
                      <a:pt x="361" y="462"/>
                    </a:lnTo>
                    <a:lnTo>
                      <a:pt x="374" y="456"/>
                    </a:lnTo>
                    <a:lnTo>
                      <a:pt x="385" y="450"/>
                    </a:lnTo>
                    <a:lnTo>
                      <a:pt x="394" y="443"/>
                    </a:lnTo>
                    <a:lnTo>
                      <a:pt x="402" y="434"/>
                    </a:lnTo>
                    <a:lnTo>
                      <a:pt x="410" y="425"/>
                    </a:lnTo>
                    <a:lnTo>
                      <a:pt x="416" y="414"/>
                    </a:lnTo>
                    <a:lnTo>
                      <a:pt x="421" y="403"/>
                    </a:lnTo>
                    <a:lnTo>
                      <a:pt x="426" y="391"/>
                    </a:lnTo>
                    <a:lnTo>
                      <a:pt x="429" y="378"/>
                    </a:lnTo>
                    <a:lnTo>
                      <a:pt x="431" y="364"/>
                    </a:lnTo>
                    <a:lnTo>
                      <a:pt x="431" y="349"/>
                    </a:lnTo>
                    <a:lnTo>
                      <a:pt x="431" y="333"/>
                    </a:lnTo>
                    <a:lnTo>
                      <a:pt x="429" y="320"/>
                    </a:lnTo>
                    <a:lnTo>
                      <a:pt x="426" y="306"/>
                    </a:lnTo>
                    <a:lnTo>
                      <a:pt x="422" y="295"/>
                    </a:lnTo>
                    <a:lnTo>
                      <a:pt x="417" y="283"/>
                    </a:lnTo>
                    <a:lnTo>
                      <a:pt x="411" y="273"/>
                    </a:lnTo>
                    <a:lnTo>
                      <a:pt x="403" y="263"/>
                    </a:lnTo>
                    <a:lnTo>
                      <a:pt x="395" y="254"/>
                    </a:lnTo>
                    <a:lnTo>
                      <a:pt x="386" y="246"/>
                    </a:lnTo>
                    <a:lnTo>
                      <a:pt x="376" y="240"/>
                    </a:lnTo>
                    <a:lnTo>
                      <a:pt x="365" y="234"/>
                    </a:lnTo>
                    <a:lnTo>
                      <a:pt x="352" y="230"/>
                    </a:lnTo>
                    <a:lnTo>
                      <a:pt x="339" y="226"/>
                    </a:lnTo>
                    <a:lnTo>
                      <a:pt x="325" y="223"/>
                    </a:lnTo>
                    <a:lnTo>
                      <a:pt x="310" y="222"/>
                    </a:lnTo>
                    <a:lnTo>
                      <a:pt x="294" y="221"/>
                    </a:lnTo>
                    <a:lnTo>
                      <a:pt x="262" y="221"/>
                    </a:lnTo>
                    <a:lnTo>
                      <a:pt x="262" y="474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2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6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9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3" y="363"/>
                    </a:lnTo>
                    <a:lnTo>
                      <a:pt x="689" y="383"/>
                    </a:lnTo>
                    <a:lnTo>
                      <a:pt x="685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3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4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2" y="577"/>
                    </a:lnTo>
                    <a:lnTo>
                      <a:pt x="262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772160" y="5226120"/>
                <a:ext cx="215640" cy="330120"/>
              </a:xfrm>
              <a:custGeom>
                <a:avLst/>
                <a:gdLst/>
                <a:ahLst/>
                <a:rect l="l" t="t" r="r" b="b"/>
                <a:pathLst>
                  <a:path w="680" h="1037">
                    <a:moveTo>
                      <a:pt x="419" y="611"/>
                    </a:moveTo>
                    <a:lnTo>
                      <a:pt x="419" y="0"/>
                    </a:lnTo>
                    <a:lnTo>
                      <a:pt x="680" y="0"/>
                    </a:lnTo>
                    <a:lnTo>
                      <a:pt x="680" y="611"/>
                    </a:lnTo>
                    <a:lnTo>
                      <a:pt x="680" y="645"/>
                    </a:lnTo>
                    <a:lnTo>
                      <a:pt x="679" y="678"/>
                    </a:lnTo>
                    <a:lnTo>
                      <a:pt x="677" y="707"/>
                    </a:lnTo>
                    <a:lnTo>
                      <a:pt x="675" y="736"/>
                    </a:lnTo>
                    <a:lnTo>
                      <a:pt x="672" y="761"/>
                    </a:lnTo>
                    <a:lnTo>
                      <a:pt x="669" y="784"/>
                    </a:lnTo>
                    <a:lnTo>
                      <a:pt x="665" y="805"/>
                    </a:lnTo>
                    <a:lnTo>
                      <a:pt x="661" y="824"/>
                    </a:lnTo>
                    <a:lnTo>
                      <a:pt x="654" y="841"/>
                    </a:lnTo>
                    <a:lnTo>
                      <a:pt x="649" y="857"/>
                    </a:lnTo>
                    <a:lnTo>
                      <a:pt x="642" y="874"/>
                    </a:lnTo>
                    <a:lnTo>
                      <a:pt x="633" y="889"/>
                    </a:lnTo>
                    <a:lnTo>
                      <a:pt x="625" y="905"/>
                    </a:lnTo>
                    <a:lnTo>
                      <a:pt x="614" y="918"/>
                    </a:lnTo>
                    <a:lnTo>
                      <a:pt x="604" y="932"/>
                    </a:lnTo>
                    <a:lnTo>
                      <a:pt x="592" y="945"/>
                    </a:lnTo>
                    <a:lnTo>
                      <a:pt x="582" y="955"/>
                    </a:lnTo>
                    <a:lnTo>
                      <a:pt x="570" y="966"/>
                    </a:lnTo>
                    <a:lnTo>
                      <a:pt x="558" y="975"/>
                    </a:lnTo>
                    <a:lnTo>
                      <a:pt x="545" y="983"/>
                    </a:lnTo>
                    <a:lnTo>
                      <a:pt x="531" y="992"/>
                    </a:lnTo>
                    <a:lnTo>
                      <a:pt x="517" y="999"/>
                    </a:lnTo>
                    <a:lnTo>
                      <a:pt x="501" y="1007"/>
                    </a:lnTo>
                    <a:lnTo>
                      <a:pt x="485" y="1013"/>
                    </a:lnTo>
                    <a:lnTo>
                      <a:pt x="468" y="1018"/>
                    </a:lnTo>
                    <a:lnTo>
                      <a:pt x="451" y="1023"/>
                    </a:lnTo>
                    <a:lnTo>
                      <a:pt x="433" y="1028"/>
                    </a:lnTo>
                    <a:lnTo>
                      <a:pt x="416" y="1031"/>
                    </a:lnTo>
                    <a:lnTo>
                      <a:pt x="398" y="1033"/>
                    </a:lnTo>
                    <a:lnTo>
                      <a:pt x="379" y="1035"/>
                    </a:lnTo>
                    <a:lnTo>
                      <a:pt x="360" y="1036"/>
                    </a:lnTo>
                    <a:lnTo>
                      <a:pt x="341" y="1037"/>
                    </a:lnTo>
                    <a:lnTo>
                      <a:pt x="321" y="1036"/>
                    </a:lnTo>
                    <a:lnTo>
                      <a:pt x="302" y="1035"/>
                    </a:lnTo>
                    <a:lnTo>
                      <a:pt x="283" y="1033"/>
                    </a:lnTo>
                    <a:lnTo>
                      <a:pt x="265" y="1031"/>
                    </a:lnTo>
                    <a:lnTo>
                      <a:pt x="247" y="1028"/>
                    </a:lnTo>
                    <a:lnTo>
                      <a:pt x="231" y="1023"/>
                    </a:lnTo>
                    <a:lnTo>
                      <a:pt x="213" y="1018"/>
                    </a:lnTo>
                    <a:lnTo>
                      <a:pt x="196" y="1013"/>
                    </a:lnTo>
                    <a:lnTo>
                      <a:pt x="180" y="1007"/>
                    </a:lnTo>
                    <a:lnTo>
                      <a:pt x="164" y="999"/>
                    </a:lnTo>
                    <a:lnTo>
                      <a:pt x="150" y="992"/>
                    </a:lnTo>
                    <a:lnTo>
                      <a:pt x="136" y="983"/>
                    </a:lnTo>
                    <a:lnTo>
                      <a:pt x="123" y="975"/>
                    </a:lnTo>
                    <a:lnTo>
                      <a:pt x="111" y="966"/>
                    </a:lnTo>
                    <a:lnTo>
                      <a:pt x="99" y="955"/>
                    </a:lnTo>
                    <a:lnTo>
                      <a:pt x="89" y="945"/>
                    </a:lnTo>
                    <a:lnTo>
                      <a:pt x="77" y="932"/>
                    </a:lnTo>
                    <a:lnTo>
                      <a:pt x="67" y="918"/>
                    </a:lnTo>
                    <a:lnTo>
                      <a:pt x="57" y="904"/>
                    </a:lnTo>
                    <a:lnTo>
                      <a:pt x="48" y="889"/>
                    </a:lnTo>
                    <a:lnTo>
                      <a:pt x="39" y="873"/>
                    </a:lnTo>
                    <a:lnTo>
                      <a:pt x="32" y="856"/>
                    </a:lnTo>
                    <a:lnTo>
                      <a:pt x="26" y="840"/>
                    </a:lnTo>
                    <a:lnTo>
                      <a:pt x="20" y="822"/>
                    </a:lnTo>
                    <a:lnTo>
                      <a:pt x="15" y="803"/>
                    </a:lnTo>
                    <a:lnTo>
                      <a:pt x="12" y="782"/>
                    </a:lnTo>
                    <a:lnTo>
                      <a:pt x="8" y="759"/>
                    </a:lnTo>
                    <a:lnTo>
                      <a:pt x="6" y="734"/>
                    </a:lnTo>
                    <a:lnTo>
                      <a:pt x="3" y="706"/>
                    </a:lnTo>
                    <a:lnTo>
                      <a:pt x="1" y="677"/>
                    </a:lnTo>
                    <a:lnTo>
                      <a:pt x="0" y="645"/>
                    </a:lnTo>
                    <a:lnTo>
                      <a:pt x="0" y="61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611"/>
                    </a:lnTo>
                    <a:lnTo>
                      <a:pt x="263" y="632"/>
                    </a:lnTo>
                    <a:lnTo>
                      <a:pt x="264" y="651"/>
                    </a:lnTo>
                    <a:lnTo>
                      <a:pt x="265" y="668"/>
                    </a:lnTo>
                    <a:lnTo>
                      <a:pt x="267" y="684"/>
                    </a:lnTo>
                    <a:lnTo>
                      <a:pt x="270" y="698"/>
                    </a:lnTo>
                    <a:lnTo>
                      <a:pt x="273" y="710"/>
                    </a:lnTo>
                    <a:lnTo>
                      <a:pt x="277" y="721"/>
                    </a:lnTo>
                    <a:lnTo>
                      <a:pt x="281" y="730"/>
                    </a:lnTo>
                    <a:lnTo>
                      <a:pt x="285" y="739"/>
                    </a:lnTo>
                    <a:lnTo>
                      <a:pt x="292" y="745"/>
                    </a:lnTo>
                    <a:lnTo>
                      <a:pt x="298" y="751"/>
                    </a:lnTo>
                    <a:lnTo>
                      <a:pt x="304" y="756"/>
                    </a:lnTo>
                    <a:lnTo>
                      <a:pt x="313" y="760"/>
                    </a:lnTo>
                    <a:lnTo>
                      <a:pt x="321" y="762"/>
                    </a:lnTo>
                    <a:lnTo>
                      <a:pt x="330" y="764"/>
                    </a:lnTo>
                    <a:lnTo>
                      <a:pt x="341" y="764"/>
                    </a:lnTo>
                    <a:lnTo>
                      <a:pt x="350" y="764"/>
                    </a:lnTo>
                    <a:lnTo>
                      <a:pt x="360" y="762"/>
                    </a:lnTo>
                    <a:lnTo>
                      <a:pt x="368" y="760"/>
                    </a:lnTo>
                    <a:lnTo>
                      <a:pt x="377" y="756"/>
                    </a:lnTo>
                    <a:lnTo>
                      <a:pt x="384" y="750"/>
                    </a:lnTo>
                    <a:lnTo>
                      <a:pt x="390" y="745"/>
                    </a:lnTo>
                    <a:lnTo>
                      <a:pt x="396" y="738"/>
                    </a:lnTo>
                    <a:lnTo>
                      <a:pt x="401" y="729"/>
                    </a:lnTo>
                    <a:lnTo>
                      <a:pt x="405" y="721"/>
                    </a:lnTo>
                    <a:lnTo>
                      <a:pt x="408" y="709"/>
                    </a:lnTo>
                    <a:lnTo>
                      <a:pt x="411" y="697"/>
                    </a:lnTo>
                    <a:lnTo>
                      <a:pt x="415" y="683"/>
                    </a:lnTo>
                    <a:lnTo>
                      <a:pt x="416" y="667"/>
                    </a:lnTo>
                    <a:lnTo>
                      <a:pt x="418" y="651"/>
                    </a:lnTo>
                    <a:lnTo>
                      <a:pt x="419" y="632"/>
                    </a:lnTo>
                    <a:lnTo>
                      <a:pt x="419" y="61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041800" y="5226120"/>
                <a:ext cx="2192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261" y="393"/>
                    </a:moveTo>
                    <a:lnTo>
                      <a:pt x="307" y="393"/>
                    </a:lnTo>
                    <a:lnTo>
                      <a:pt x="321" y="393"/>
                    </a:lnTo>
                    <a:lnTo>
                      <a:pt x="335" y="392"/>
                    </a:lnTo>
                    <a:lnTo>
                      <a:pt x="348" y="391"/>
                    </a:lnTo>
                    <a:lnTo>
                      <a:pt x="359" y="389"/>
                    </a:lnTo>
                    <a:lnTo>
                      <a:pt x="370" y="386"/>
                    </a:lnTo>
                    <a:lnTo>
                      <a:pt x="379" y="383"/>
                    </a:lnTo>
                    <a:lnTo>
                      <a:pt x="388" y="379"/>
                    </a:lnTo>
                    <a:lnTo>
                      <a:pt x="396" y="373"/>
                    </a:lnTo>
                    <a:lnTo>
                      <a:pt x="402" y="368"/>
                    </a:lnTo>
                    <a:lnTo>
                      <a:pt x="409" y="363"/>
                    </a:lnTo>
                    <a:lnTo>
                      <a:pt x="414" y="356"/>
                    </a:lnTo>
                    <a:lnTo>
                      <a:pt x="417" y="348"/>
                    </a:lnTo>
                    <a:lnTo>
                      <a:pt x="420" y="341"/>
                    </a:lnTo>
                    <a:lnTo>
                      <a:pt x="423" y="332"/>
                    </a:lnTo>
                    <a:lnTo>
                      <a:pt x="424" y="323"/>
                    </a:lnTo>
                    <a:lnTo>
                      <a:pt x="424" y="314"/>
                    </a:lnTo>
                    <a:lnTo>
                      <a:pt x="424" y="302"/>
                    </a:lnTo>
                    <a:lnTo>
                      <a:pt x="423" y="291"/>
                    </a:lnTo>
                    <a:lnTo>
                      <a:pt x="421" y="281"/>
                    </a:lnTo>
                    <a:lnTo>
                      <a:pt x="418" y="273"/>
                    </a:lnTo>
                    <a:lnTo>
                      <a:pt x="414" y="264"/>
                    </a:lnTo>
                    <a:lnTo>
                      <a:pt x="410" y="257"/>
                    </a:lnTo>
                    <a:lnTo>
                      <a:pt x="404" y="251"/>
                    </a:lnTo>
                    <a:lnTo>
                      <a:pt x="398" y="245"/>
                    </a:lnTo>
                    <a:lnTo>
                      <a:pt x="391" y="240"/>
                    </a:lnTo>
                    <a:lnTo>
                      <a:pt x="382" y="236"/>
                    </a:lnTo>
                    <a:lnTo>
                      <a:pt x="373" y="233"/>
                    </a:lnTo>
                    <a:lnTo>
                      <a:pt x="361" y="230"/>
                    </a:lnTo>
                    <a:lnTo>
                      <a:pt x="350" y="227"/>
                    </a:lnTo>
                    <a:lnTo>
                      <a:pt x="337" y="225"/>
                    </a:lnTo>
                    <a:lnTo>
                      <a:pt x="322" y="224"/>
                    </a:lnTo>
                    <a:lnTo>
                      <a:pt x="307" y="224"/>
                    </a:lnTo>
                    <a:lnTo>
                      <a:pt x="261" y="224"/>
                    </a:lnTo>
                    <a:lnTo>
                      <a:pt x="261" y="393"/>
                    </a:lnTo>
                    <a:close/>
                    <a:moveTo>
                      <a:pt x="261" y="778"/>
                    </a:moveTo>
                    <a:lnTo>
                      <a:pt x="315" y="778"/>
                    </a:lnTo>
                    <a:lnTo>
                      <a:pt x="329" y="778"/>
                    </a:lnTo>
                    <a:lnTo>
                      <a:pt x="341" y="777"/>
                    </a:lnTo>
                    <a:lnTo>
                      <a:pt x="353" y="776"/>
                    </a:lnTo>
                    <a:lnTo>
                      <a:pt x="364" y="772"/>
                    </a:lnTo>
                    <a:lnTo>
                      <a:pt x="375" y="770"/>
                    </a:lnTo>
                    <a:lnTo>
                      <a:pt x="383" y="766"/>
                    </a:lnTo>
                    <a:lnTo>
                      <a:pt x="392" y="762"/>
                    </a:lnTo>
                    <a:lnTo>
                      <a:pt x="399" y="757"/>
                    </a:lnTo>
                    <a:lnTo>
                      <a:pt x="406" y="751"/>
                    </a:lnTo>
                    <a:lnTo>
                      <a:pt x="412" y="745"/>
                    </a:lnTo>
                    <a:lnTo>
                      <a:pt x="417" y="738"/>
                    </a:lnTo>
                    <a:lnTo>
                      <a:pt x="420" y="730"/>
                    </a:lnTo>
                    <a:lnTo>
                      <a:pt x="423" y="721"/>
                    </a:lnTo>
                    <a:lnTo>
                      <a:pt x="425" y="713"/>
                    </a:lnTo>
                    <a:lnTo>
                      <a:pt x="427" y="702"/>
                    </a:lnTo>
                    <a:lnTo>
                      <a:pt x="427" y="692"/>
                    </a:lnTo>
                    <a:lnTo>
                      <a:pt x="427" y="680"/>
                    </a:lnTo>
                    <a:lnTo>
                      <a:pt x="425" y="668"/>
                    </a:lnTo>
                    <a:lnTo>
                      <a:pt x="423" y="658"/>
                    </a:lnTo>
                    <a:lnTo>
                      <a:pt x="420" y="648"/>
                    </a:lnTo>
                    <a:lnTo>
                      <a:pt x="416" y="640"/>
                    </a:lnTo>
                    <a:lnTo>
                      <a:pt x="412" y="632"/>
                    </a:lnTo>
                    <a:lnTo>
                      <a:pt x="405" y="624"/>
                    </a:lnTo>
                    <a:lnTo>
                      <a:pt x="398" y="618"/>
                    </a:lnTo>
                    <a:lnTo>
                      <a:pt x="391" y="613"/>
                    </a:lnTo>
                    <a:lnTo>
                      <a:pt x="382" y="608"/>
                    </a:lnTo>
                    <a:lnTo>
                      <a:pt x="372" y="603"/>
                    </a:lnTo>
                    <a:lnTo>
                      <a:pt x="361" y="600"/>
                    </a:lnTo>
                    <a:lnTo>
                      <a:pt x="350" y="598"/>
                    </a:lnTo>
                    <a:lnTo>
                      <a:pt x="337" y="596"/>
                    </a:lnTo>
                    <a:lnTo>
                      <a:pt x="323" y="595"/>
                    </a:lnTo>
                    <a:lnTo>
                      <a:pt x="309" y="595"/>
                    </a:lnTo>
                    <a:lnTo>
                      <a:pt x="261" y="595"/>
                    </a:lnTo>
                    <a:lnTo>
                      <a:pt x="261" y="778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8" y="1"/>
                    </a:lnTo>
                    <a:lnTo>
                      <a:pt x="398" y="3"/>
                    </a:lnTo>
                    <a:lnTo>
                      <a:pt x="417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1" y="13"/>
                    </a:lnTo>
                    <a:lnTo>
                      <a:pt x="487" y="17"/>
                    </a:lnTo>
                    <a:lnTo>
                      <a:pt x="503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8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8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3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8" y="351"/>
                    </a:lnTo>
                    <a:lnTo>
                      <a:pt x="673" y="368"/>
                    </a:lnTo>
                    <a:lnTo>
                      <a:pt x="668" y="384"/>
                    </a:lnTo>
                    <a:lnTo>
                      <a:pt x="661" y="399"/>
                    </a:lnTo>
                    <a:lnTo>
                      <a:pt x="653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8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0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3" y="962"/>
                    </a:lnTo>
                    <a:lnTo>
                      <a:pt x="550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2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7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10360" y="5226120"/>
                <a:ext cx="2174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261" y="393"/>
                    </a:moveTo>
                    <a:lnTo>
                      <a:pt x="308" y="393"/>
                    </a:lnTo>
                    <a:lnTo>
                      <a:pt x="321" y="393"/>
                    </a:lnTo>
                    <a:lnTo>
                      <a:pt x="335" y="392"/>
                    </a:lnTo>
                    <a:lnTo>
                      <a:pt x="348" y="391"/>
                    </a:lnTo>
                    <a:lnTo>
                      <a:pt x="359" y="389"/>
                    </a:lnTo>
                    <a:lnTo>
                      <a:pt x="370" y="386"/>
                    </a:lnTo>
                    <a:lnTo>
                      <a:pt x="379" y="383"/>
                    </a:lnTo>
                    <a:lnTo>
                      <a:pt x="389" y="379"/>
                    </a:lnTo>
                    <a:lnTo>
                      <a:pt x="396" y="373"/>
                    </a:lnTo>
                    <a:lnTo>
                      <a:pt x="402" y="368"/>
                    </a:lnTo>
                    <a:lnTo>
                      <a:pt x="409" y="363"/>
                    </a:lnTo>
                    <a:lnTo>
                      <a:pt x="414" y="356"/>
                    </a:lnTo>
                    <a:lnTo>
                      <a:pt x="418" y="348"/>
                    </a:lnTo>
                    <a:lnTo>
                      <a:pt x="421" y="341"/>
                    </a:lnTo>
                    <a:lnTo>
                      <a:pt x="423" y="332"/>
                    </a:lnTo>
                    <a:lnTo>
                      <a:pt x="424" y="323"/>
                    </a:lnTo>
                    <a:lnTo>
                      <a:pt x="425" y="314"/>
                    </a:lnTo>
                    <a:lnTo>
                      <a:pt x="424" y="302"/>
                    </a:lnTo>
                    <a:lnTo>
                      <a:pt x="423" y="291"/>
                    </a:lnTo>
                    <a:lnTo>
                      <a:pt x="421" y="281"/>
                    </a:lnTo>
                    <a:lnTo>
                      <a:pt x="418" y="273"/>
                    </a:lnTo>
                    <a:lnTo>
                      <a:pt x="414" y="264"/>
                    </a:lnTo>
                    <a:lnTo>
                      <a:pt x="410" y="257"/>
                    </a:lnTo>
                    <a:lnTo>
                      <a:pt x="404" y="251"/>
                    </a:lnTo>
                    <a:lnTo>
                      <a:pt x="398" y="245"/>
                    </a:lnTo>
                    <a:lnTo>
                      <a:pt x="391" y="240"/>
                    </a:lnTo>
                    <a:lnTo>
                      <a:pt x="382" y="236"/>
                    </a:lnTo>
                    <a:lnTo>
                      <a:pt x="373" y="233"/>
                    </a:lnTo>
                    <a:lnTo>
                      <a:pt x="361" y="230"/>
                    </a:lnTo>
                    <a:lnTo>
                      <a:pt x="350" y="227"/>
                    </a:lnTo>
                    <a:lnTo>
                      <a:pt x="337" y="225"/>
                    </a:lnTo>
                    <a:lnTo>
                      <a:pt x="322" y="224"/>
                    </a:lnTo>
                    <a:lnTo>
                      <a:pt x="308" y="224"/>
                    </a:lnTo>
                    <a:lnTo>
                      <a:pt x="261" y="224"/>
                    </a:lnTo>
                    <a:lnTo>
                      <a:pt x="261" y="393"/>
                    </a:lnTo>
                    <a:close/>
                    <a:moveTo>
                      <a:pt x="261" y="778"/>
                    </a:moveTo>
                    <a:lnTo>
                      <a:pt x="315" y="778"/>
                    </a:lnTo>
                    <a:lnTo>
                      <a:pt x="329" y="778"/>
                    </a:lnTo>
                    <a:lnTo>
                      <a:pt x="341" y="777"/>
                    </a:lnTo>
                    <a:lnTo>
                      <a:pt x="354" y="776"/>
                    </a:lnTo>
                    <a:lnTo>
                      <a:pt x="364" y="772"/>
                    </a:lnTo>
                    <a:lnTo>
                      <a:pt x="375" y="770"/>
                    </a:lnTo>
                    <a:lnTo>
                      <a:pt x="384" y="766"/>
                    </a:lnTo>
                    <a:lnTo>
                      <a:pt x="392" y="762"/>
                    </a:lnTo>
                    <a:lnTo>
                      <a:pt x="400" y="757"/>
                    </a:lnTo>
                    <a:lnTo>
                      <a:pt x="407" y="751"/>
                    </a:lnTo>
                    <a:lnTo>
                      <a:pt x="412" y="745"/>
                    </a:lnTo>
                    <a:lnTo>
                      <a:pt x="417" y="738"/>
                    </a:lnTo>
                    <a:lnTo>
                      <a:pt x="421" y="730"/>
                    </a:lnTo>
                    <a:lnTo>
                      <a:pt x="423" y="721"/>
                    </a:lnTo>
                    <a:lnTo>
                      <a:pt x="426" y="713"/>
                    </a:lnTo>
                    <a:lnTo>
                      <a:pt x="428" y="702"/>
                    </a:lnTo>
                    <a:lnTo>
                      <a:pt x="428" y="692"/>
                    </a:lnTo>
                    <a:lnTo>
                      <a:pt x="428" y="680"/>
                    </a:lnTo>
                    <a:lnTo>
                      <a:pt x="425" y="668"/>
                    </a:lnTo>
                    <a:lnTo>
                      <a:pt x="423" y="658"/>
                    </a:lnTo>
                    <a:lnTo>
                      <a:pt x="420" y="648"/>
                    </a:lnTo>
                    <a:lnTo>
                      <a:pt x="416" y="640"/>
                    </a:lnTo>
                    <a:lnTo>
                      <a:pt x="412" y="632"/>
                    </a:lnTo>
                    <a:lnTo>
                      <a:pt x="405" y="624"/>
                    </a:lnTo>
                    <a:lnTo>
                      <a:pt x="399" y="618"/>
                    </a:lnTo>
                    <a:lnTo>
                      <a:pt x="391" y="613"/>
                    </a:lnTo>
                    <a:lnTo>
                      <a:pt x="382" y="608"/>
                    </a:lnTo>
                    <a:lnTo>
                      <a:pt x="373" y="603"/>
                    </a:lnTo>
                    <a:lnTo>
                      <a:pt x="361" y="600"/>
                    </a:lnTo>
                    <a:lnTo>
                      <a:pt x="350" y="598"/>
                    </a:lnTo>
                    <a:lnTo>
                      <a:pt x="337" y="596"/>
                    </a:lnTo>
                    <a:lnTo>
                      <a:pt x="323" y="595"/>
                    </a:lnTo>
                    <a:lnTo>
                      <a:pt x="309" y="595"/>
                    </a:lnTo>
                    <a:lnTo>
                      <a:pt x="261" y="595"/>
                    </a:lnTo>
                    <a:lnTo>
                      <a:pt x="261" y="778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9" y="1"/>
                    </a:lnTo>
                    <a:lnTo>
                      <a:pt x="398" y="3"/>
                    </a:lnTo>
                    <a:lnTo>
                      <a:pt x="418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2" y="13"/>
                    </a:lnTo>
                    <a:lnTo>
                      <a:pt x="487" y="17"/>
                    </a:lnTo>
                    <a:lnTo>
                      <a:pt x="504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9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9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4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9" y="351"/>
                    </a:lnTo>
                    <a:lnTo>
                      <a:pt x="674" y="368"/>
                    </a:lnTo>
                    <a:lnTo>
                      <a:pt x="668" y="384"/>
                    </a:lnTo>
                    <a:lnTo>
                      <a:pt x="662" y="399"/>
                    </a:lnTo>
                    <a:lnTo>
                      <a:pt x="654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9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1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4" y="962"/>
                    </a:lnTo>
                    <a:lnTo>
                      <a:pt x="551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3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8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7676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11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260" y="474"/>
                    </a:moveTo>
                    <a:lnTo>
                      <a:pt x="287" y="474"/>
                    </a:lnTo>
                    <a:lnTo>
                      <a:pt x="304" y="474"/>
                    </a:lnTo>
                    <a:lnTo>
                      <a:pt x="319" y="472"/>
                    </a:lnTo>
                    <a:lnTo>
                      <a:pt x="335" y="470"/>
                    </a:lnTo>
                    <a:lnTo>
                      <a:pt x="349" y="467"/>
                    </a:lnTo>
                    <a:lnTo>
                      <a:pt x="361" y="462"/>
                    </a:lnTo>
                    <a:lnTo>
                      <a:pt x="373" y="456"/>
                    </a:lnTo>
                    <a:lnTo>
                      <a:pt x="385" y="450"/>
                    </a:lnTo>
                    <a:lnTo>
                      <a:pt x="394" y="443"/>
                    </a:lnTo>
                    <a:lnTo>
                      <a:pt x="402" y="434"/>
                    </a:lnTo>
                    <a:lnTo>
                      <a:pt x="410" y="425"/>
                    </a:lnTo>
                    <a:lnTo>
                      <a:pt x="416" y="414"/>
                    </a:lnTo>
                    <a:lnTo>
                      <a:pt x="421" y="403"/>
                    </a:lnTo>
                    <a:lnTo>
                      <a:pt x="426" y="391"/>
                    </a:lnTo>
                    <a:lnTo>
                      <a:pt x="429" y="378"/>
                    </a:lnTo>
                    <a:lnTo>
                      <a:pt x="431" y="364"/>
                    </a:lnTo>
                    <a:lnTo>
                      <a:pt x="431" y="349"/>
                    </a:lnTo>
                    <a:lnTo>
                      <a:pt x="431" y="333"/>
                    </a:lnTo>
                    <a:lnTo>
                      <a:pt x="429" y="320"/>
                    </a:lnTo>
                    <a:lnTo>
                      <a:pt x="426" y="306"/>
                    </a:lnTo>
                    <a:lnTo>
                      <a:pt x="422" y="295"/>
                    </a:lnTo>
                    <a:lnTo>
                      <a:pt x="417" y="283"/>
                    </a:lnTo>
                    <a:lnTo>
                      <a:pt x="411" y="273"/>
                    </a:lnTo>
                    <a:lnTo>
                      <a:pt x="403" y="263"/>
                    </a:lnTo>
                    <a:lnTo>
                      <a:pt x="395" y="254"/>
                    </a:lnTo>
                    <a:lnTo>
                      <a:pt x="386" y="246"/>
                    </a:lnTo>
                    <a:lnTo>
                      <a:pt x="375" y="240"/>
                    </a:lnTo>
                    <a:lnTo>
                      <a:pt x="365" y="234"/>
                    </a:lnTo>
                    <a:lnTo>
                      <a:pt x="352" y="230"/>
                    </a:lnTo>
                    <a:lnTo>
                      <a:pt x="339" y="226"/>
                    </a:lnTo>
                    <a:lnTo>
                      <a:pt x="325" y="223"/>
                    </a:lnTo>
                    <a:lnTo>
                      <a:pt x="310" y="222"/>
                    </a:lnTo>
                    <a:lnTo>
                      <a:pt x="293" y="221"/>
                    </a:lnTo>
                    <a:lnTo>
                      <a:pt x="260" y="221"/>
                    </a:lnTo>
                    <a:lnTo>
                      <a:pt x="260" y="474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1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5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8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2" y="363"/>
                    </a:lnTo>
                    <a:lnTo>
                      <a:pt x="689" y="383"/>
                    </a:lnTo>
                    <a:lnTo>
                      <a:pt x="684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2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3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0" y="577"/>
                    </a:lnTo>
                    <a:lnTo>
                      <a:pt x="260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73320" y="5767560"/>
                <a:ext cx="82800" cy="320400"/>
              </a:xfrm>
              <a:prstGeom prst="rect">
                <a:avLst/>
              </a:pr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214800" y="5767560"/>
                <a:ext cx="237960" cy="320400"/>
              </a:xfrm>
              <a:custGeom>
                <a:avLst/>
                <a:gdLst/>
                <a:ahLst/>
                <a:rect l="l" t="t" r="r" b="b"/>
                <a:pathLst>
                  <a:path w="751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1" y="0"/>
                    </a:lnTo>
                    <a:lnTo>
                      <a:pt x="751" y="1009"/>
                    </a:lnTo>
                    <a:lnTo>
                      <a:pt x="634" y="1009"/>
                    </a:lnTo>
                    <a:lnTo>
                      <a:pt x="261" y="571"/>
                    </a:lnTo>
                    <a:lnTo>
                      <a:pt x="261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610080" y="5767560"/>
                <a:ext cx="312480" cy="320400"/>
              </a:xfrm>
              <a:custGeom>
                <a:avLst/>
                <a:gdLst/>
                <a:ahLst/>
                <a:rect l="l" t="t" r="r" b="b"/>
                <a:pathLst>
                  <a:path w="983" h="1009">
                    <a:moveTo>
                      <a:pt x="384" y="643"/>
                    </a:moveTo>
                    <a:lnTo>
                      <a:pt x="592" y="643"/>
                    </a:lnTo>
                    <a:lnTo>
                      <a:pt x="488" y="303"/>
                    </a:lnTo>
                    <a:lnTo>
                      <a:pt x="384" y="643"/>
                    </a:lnTo>
                    <a:close/>
                    <a:moveTo>
                      <a:pt x="0" y="1009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09"/>
                    </a:lnTo>
                    <a:lnTo>
                      <a:pt x="706" y="1009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64040" y="5761080"/>
                <a:ext cx="218880" cy="331920"/>
              </a:xfrm>
              <a:custGeom>
                <a:avLst/>
                <a:gdLst/>
                <a:ahLst/>
                <a:rect l="l" t="t" r="r" b="b"/>
                <a:pathLst>
                  <a:path w="689" h="1045">
                    <a:moveTo>
                      <a:pt x="669" y="1027"/>
                    </a:moveTo>
                    <a:lnTo>
                      <a:pt x="662" y="1030"/>
                    </a:lnTo>
                    <a:lnTo>
                      <a:pt x="655" y="1031"/>
                    </a:lnTo>
                    <a:lnTo>
                      <a:pt x="646" y="1033"/>
                    </a:lnTo>
                    <a:lnTo>
                      <a:pt x="639" y="1035"/>
                    </a:lnTo>
                    <a:lnTo>
                      <a:pt x="631" y="1036"/>
                    </a:lnTo>
                    <a:lnTo>
                      <a:pt x="623" y="1038"/>
                    </a:lnTo>
                    <a:lnTo>
                      <a:pt x="615" y="1039"/>
                    </a:lnTo>
                    <a:lnTo>
                      <a:pt x="606" y="1040"/>
                    </a:lnTo>
                    <a:lnTo>
                      <a:pt x="599" y="1041"/>
                    </a:lnTo>
                    <a:lnTo>
                      <a:pt x="590" y="1042"/>
                    </a:lnTo>
                    <a:lnTo>
                      <a:pt x="581" y="1042"/>
                    </a:lnTo>
                    <a:lnTo>
                      <a:pt x="573" y="1044"/>
                    </a:lnTo>
                    <a:lnTo>
                      <a:pt x="563" y="1044"/>
                    </a:lnTo>
                    <a:lnTo>
                      <a:pt x="554" y="1045"/>
                    </a:lnTo>
                    <a:lnTo>
                      <a:pt x="544" y="1045"/>
                    </a:lnTo>
                    <a:lnTo>
                      <a:pt x="535" y="1045"/>
                    </a:lnTo>
                    <a:lnTo>
                      <a:pt x="505" y="1044"/>
                    </a:lnTo>
                    <a:lnTo>
                      <a:pt x="476" y="1042"/>
                    </a:lnTo>
                    <a:lnTo>
                      <a:pt x="449" y="1039"/>
                    </a:lnTo>
                    <a:lnTo>
                      <a:pt x="421" y="1035"/>
                    </a:lnTo>
                    <a:lnTo>
                      <a:pt x="394" y="1031"/>
                    </a:lnTo>
                    <a:lnTo>
                      <a:pt x="369" y="1025"/>
                    </a:lnTo>
                    <a:lnTo>
                      <a:pt x="343" y="1017"/>
                    </a:lnTo>
                    <a:lnTo>
                      <a:pt x="318" y="1009"/>
                    </a:lnTo>
                    <a:lnTo>
                      <a:pt x="294" y="999"/>
                    </a:lnTo>
                    <a:lnTo>
                      <a:pt x="271" y="989"/>
                    </a:lnTo>
                    <a:lnTo>
                      <a:pt x="249" y="977"/>
                    </a:lnTo>
                    <a:lnTo>
                      <a:pt x="228" y="964"/>
                    </a:lnTo>
                    <a:lnTo>
                      <a:pt x="207" y="950"/>
                    </a:lnTo>
                    <a:lnTo>
                      <a:pt x="186" y="935"/>
                    </a:lnTo>
                    <a:lnTo>
                      <a:pt x="167" y="919"/>
                    </a:lnTo>
                    <a:lnTo>
                      <a:pt x="148" y="902"/>
                    </a:lnTo>
                    <a:lnTo>
                      <a:pt x="130" y="884"/>
                    </a:lnTo>
                    <a:lnTo>
                      <a:pt x="113" y="865"/>
                    </a:lnTo>
                    <a:lnTo>
                      <a:pt x="98" y="845"/>
                    </a:lnTo>
                    <a:lnTo>
                      <a:pt x="83" y="825"/>
                    </a:lnTo>
                    <a:lnTo>
                      <a:pt x="70" y="804"/>
                    </a:lnTo>
                    <a:lnTo>
                      <a:pt x="58" y="782"/>
                    </a:lnTo>
                    <a:lnTo>
                      <a:pt x="47" y="760"/>
                    </a:lnTo>
                    <a:lnTo>
                      <a:pt x="37" y="737"/>
                    </a:lnTo>
                    <a:lnTo>
                      <a:pt x="28" y="714"/>
                    </a:lnTo>
                    <a:lnTo>
                      <a:pt x="21" y="690"/>
                    </a:lnTo>
                    <a:lnTo>
                      <a:pt x="15" y="664"/>
                    </a:lnTo>
                    <a:lnTo>
                      <a:pt x="9" y="639"/>
                    </a:lnTo>
                    <a:lnTo>
                      <a:pt x="5" y="613"/>
                    </a:lnTo>
                    <a:lnTo>
                      <a:pt x="2" y="586"/>
                    </a:lnTo>
                    <a:lnTo>
                      <a:pt x="1" y="558"/>
                    </a:lnTo>
                    <a:lnTo>
                      <a:pt x="0" y="530"/>
                    </a:lnTo>
                    <a:lnTo>
                      <a:pt x="1" y="502"/>
                    </a:lnTo>
                    <a:lnTo>
                      <a:pt x="3" y="473"/>
                    </a:lnTo>
                    <a:lnTo>
                      <a:pt x="5" y="447"/>
                    </a:lnTo>
                    <a:lnTo>
                      <a:pt x="9" y="420"/>
                    </a:lnTo>
                    <a:lnTo>
                      <a:pt x="16" y="395"/>
                    </a:lnTo>
                    <a:lnTo>
                      <a:pt x="22" y="368"/>
                    </a:lnTo>
                    <a:lnTo>
                      <a:pt x="29" y="344"/>
                    </a:lnTo>
                    <a:lnTo>
                      <a:pt x="39" y="320"/>
                    </a:lnTo>
                    <a:lnTo>
                      <a:pt x="48" y="297"/>
                    </a:lnTo>
                    <a:lnTo>
                      <a:pt x="60" y="274"/>
                    </a:lnTo>
                    <a:lnTo>
                      <a:pt x="72" y="252"/>
                    </a:lnTo>
                    <a:lnTo>
                      <a:pt x="86" y="230"/>
                    </a:lnTo>
                    <a:lnTo>
                      <a:pt x="101" y="210"/>
                    </a:lnTo>
                    <a:lnTo>
                      <a:pt x="118" y="189"/>
                    </a:lnTo>
                    <a:lnTo>
                      <a:pt x="134" y="169"/>
                    </a:lnTo>
                    <a:lnTo>
                      <a:pt x="153" y="150"/>
                    </a:lnTo>
                    <a:lnTo>
                      <a:pt x="173" y="132"/>
                    </a:lnTo>
                    <a:lnTo>
                      <a:pt x="193" y="115"/>
                    </a:lnTo>
                    <a:lnTo>
                      <a:pt x="214" y="100"/>
                    </a:lnTo>
                    <a:lnTo>
                      <a:pt x="235" y="85"/>
                    </a:lnTo>
                    <a:lnTo>
                      <a:pt x="257" y="71"/>
                    </a:lnTo>
                    <a:lnTo>
                      <a:pt x="281" y="59"/>
                    </a:lnTo>
                    <a:lnTo>
                      <a:pt x="304" y="48"/>
                    </a:lnTo>
                    <a:lnTo>
                      <a:pt x="328" y="38"/>
                    </a:lnTo>
                    <a:lnTo>
                      <a:pt x="352" y="29"/>
                    </a:lnTo>
                    <a:lnTo>
                      <a:pt x="377" y="21"/>
                    </a:lnTo>
                    <a:lnTo>
                      <a:pt x="403" y="15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3"/>
                    </a:lnTo>
                    <a:lnTo>
                      <a:pt x="515" y="1"/>
                    </a:lnTo>
                    <a:lnTo>
                      <a:pt x="543" y="0"/>
                    </a:lnTo>
                    <a:lnTo>
                      <a:pt x="551" y="0"/>
                    </a:lnTo>
                    <a:lnTo>
                      <a:pt x="558" y="1"/>
                    </a:lnTo>
                    <a:lnTo>
                      <a:pt x="564" y="1"/>
                    </a:lnTo>
                    <a:lnTo>
                      <a:pt x="572" y="1"/>
                    </a:lnTo>
                    <a:lnTo>
                      <a:pt x="579" y="2"/>
                    </a:lnTo>
                    <a:lnTo>
                      <a:pt x="586" y="2"/>
                    </a:lnTo>
                    <a:lnTo>
                      <a:pt x="594" y="3"/>
                    </a:lnTo>
                    <a:lnTo>
                      <a:pt x="602" y="4"/>
                    </a:lnTo>
                    <a:lnTo>
                      <a:pt x="610" y="5"/>
                    </a:lnTo>
                    <a:lnTo>
                      <a:pt x="617" y="6"/>
                    </a:lnTo>
                    <a:lnTo>
                      <a:pt x="625" y="7"/>
                    </a:lnTo>
                    <a:lnTo>
                      <a:pt x="633" y="8"/>
                    </a:lnTo>
                    <a:lnTo>
                      <a:pt x="641" y="9"/>
                    </a:lnTo>
                    <a:lnTo>
                      <a:pt x="648" y="11"/>
                    </a:lnTo>
                    <a:lnTo>
                      <a:pt x="657" y="13"/>
                    </a:lnTo>
                    <a:lnTo>
                      <a:pt x="665" y="15"/>
                    </a:lnTo>
                    <a:lnTo>
                      <a:pt x="679" y="314"/>
                    </a:lnTo>
                    <a:lnTo>
                      <a:pt x="670" y="311"/>
                    </a:lnTo>
                    <a:lnTo>
                      <a:pt x="661" y="306"/>
                    </a:lnTo>
                    <a:lnTo>
                      <a:pt x="652" y="303"/>
                    </a:lnTo>
                    <a:lnTo>
                      <a:pt x="643" y="300"/>
                    </a:lnTo>
                    <a:lnTo>
                      <a:pt x="635" y="298"/>
                    </a:lnTo>
                    <a:lnTo>
                      <a:pt x="625" y="295"/>
                    </a:lnTo>
                    <a:lnTo>
                      <a:pt x="617" y="293"/>
                    </a:lnTo>
                    <a:lnTo>
                      <a:pt x="608" y="291"/>
                    </a:lnTo>
                    <a:lnTo>
                      <a:pt x="600" y="289"/>
                    </a:lnTo>
                    <a:lnTo>
                      <a:pt x="591" y="288"/>
                    </a:lnTo>
                    <a:lnTo>
                      <a:pt x="582" y="286"/>
                    </a:lnTo>
                    <a:lnTo>
                      <a:pt x="574" y="285"/>
                    </a:lnTo>
                    <a:lnTo>
                      <a:pt x="565" y="284"/>
                    </a:lnTo>
                    <a:lnTo>
                      <a:pt x="557" y="283"/>
                    </a:lnTo>
                    <a:lnTo>
                      <a:pt x="549" y="283"/>
                    </a:lnTo>
                    <a:lnTo>
                      <a:pt x="541" y="283"/>
                    </a:lnTo>
                    <a:lnTo>
                      <a:pt x="526" y="283"/>
                    </a:lnTo>
                    <a:lnTo>
                      <a:pt x="512" y="284"/>
                    </a:lnTo>
                    <a:lnTo>
                      <a:pt x="498" y="285"/>
                    </a:lnTo>
                    <a:lnTo>
                      <a:pt x="484" y="288"/>
                    </a:lnTo>
                    <a:lnTo>
                      <a:pt x="471" y="290"/>
                    </a:lnTo>
                    <a:lnTo>
                      <a:pt x="458" y="293"/>
                    </a:lnTo>
                    <a:lnTo>
                      <a:pt x="446" y="296"/>
                    </a:lnTo>
                    <a:lnTo>
                      <a:pt x="433" y="300"/>
                    </a:lnTo>
                    <a:lnTo>
                      <a:pt x="421" y="304"/>
                    </a:lnTo>
                    <a:lnTo>
                      <a:pt x="410" y="310"/>
                    </a:lnTo>
                    <a:lnTo>
                      <a:pt x="398" y="315"/>
                    </a:lnTo>
                    <a:lnTo>
                      <a:pt x="388" y="321"/>
                    </a:lnTo>
                    <a:lnTo>
                      <a:pt x="377" y="327"/>
                    </a:lnTo>
                    <a:lnTo>
                      <a:pt x="367" y="334"/>
                    </a:lnTo>
                    <a:lnTo>
                      <a:pt x="356" y="342"/>
                    </a:lnTo>
                    <a:lnTo>
                      <a:pt x="347" y="349"/>
                    </a:lnTo>
                    <a:lnTo>
                      <a:pt x="338" y="359"/>
                    </a:lnTo>
                    <a:lnTo>
                      <a:pt x="330" y="367"/>
                    </a:lnTo>
                    <a:lnTo>
                      <a:pt x="321" y="377"/>
                    </a:lnTo>
                    <a:lnTo>
                      <a:pt x="314" y="386"/>
                    </a:lnTo>
                    <a:lnTo>
                      <a:pt x="308" y="396"/>
                    </a:lnTo>
                    <a:lnTo>
                      <a:pt x="302" y="405"/>
                    </a:lnTo>
                    <a:lnTo>
                      <a:pt x="296" y="416"/>
                    </a:lnTo>
                    <a:lnTo>
                      <a:pt x="291" y="426"/>
                    </a:lnTo>
                    <a:lnTo>
                      <a:pt x="287" y="437"/>
                    </a:lnTo>
                    <a:lnTo>
                      <a:pt x="283" y="448"/>
                    </a:lnTo>
                    <a:lnTo>
                      <a:pt x="279" y="460"/>
                    </a:lnTo>
                    <a:lnTo>
                      <a:pt x="277" y="471"/>
                    </a:lnTo>
                    <a:lnTo>
                      <a:pt x="275" y="483"/>
                    </a:lnTo>
                    <a:lnTo>
                      <a:pt x="273" y="495"/>
                    </a:lnTo>
                    <a:lnTo>
                      <a:pt x="272" y="508"/>
                    </a:lnTo>
                    <a:lnTo>
                      <a:pt x="272" y="521"/>
                    </a:lnTo>
                    <a:lnTo>
                      <a:pt x="272" y="533"/>
                    </a:lnTo>
                    <a:lnTo>
                      <a:pt x="273" y="546"/>
                    </a:lnTo>
                    <a:lnTo>
                      <a:pt x="274" y="557"/>
                    </a:lnTo>
                    <a:lnTo>
                      <a:pt x="276" y="570"/>
                    </a:lnTo>
                    <a:lnTo>
                      <a:pt x="279" y="582"/>
                    </a:lnTo>
                    <a:lnTo>
                      <a:pt x="283" y="593"/>
                    </a:lnTo>
                    <a:lnTo>
                      <a:pt x="287" y="604"/>
                    </a:lnTo>
                    <a:lnTo>
                      <a:pt x="291" y="615"/>
                    </a:lnTo>
                    <a:lnTo>
                      <a:pt x="295" y="626"/>
                    </a:lnTo>
                    <a:lnTo>
                      <a:pt x="302" y="636"/>
                    </a:lnTo>
                    <a:lnTo>
                      <a:pt x="307" y="646"/>
                    </a:lnTo>
                    <a:lnTo>
                      <a:pt x="314" y="656"/>
                    </a:lnTo>
                    <a:lnTo>
                      <a:pt x="321" y="666"/>
                    </a:lnTo>
                    <a:lnTo>
                      <a:pt x="329" y="675"/>
                    </a:lnTo>
                    <a:lnTo>
                      <a:pt x="337" y="683"/>
                    </a:lnTo>
                    <a:lnTo>
                      <a:pt x="347" y="693"/>
                    </a:lnTo>
                    <a:lnTo>
                      <a:pt x="356" y="701"/>
                    </a:lnTo>
                    <a:lnTo>
                      <a:pt x="366" y="709"/>
                    </a:lnTo>
                    <a:lnTo>
                      <a:pt x="375" y="716"/>
                    </a:lnTo>
                    <a:lnTo>
                      <a:pt x="386" y="722"/>
                    </a:lnTo>
                    <a:lnTo>
                      <a:pt x="396" y="729"/>
                    </a:lnTo>
                    <a:lnTo>
                      <a:pt x="408" y="735"/>
                    </a:lnTo>
                    <a:lnTo>
                      <a:pt x="418" y="740"/>
                    </a:lnTo>
                    <a:lnTo>
                      <a:pt x="430" y="744"/>
                    </a:lnTo>
                    <a:lnTo>
                      <a:pt x="441" y="748"/>
                    </a:lnTo>
                    <a:lnTo>
                      <a:pt x="454" y="752"/>
                    </a:lnTo>
                    <a:lnTo>
                      <a:pt x="466" y="755"/>
                    </a:lnTo>
                    <a:lnTo>
                      <a:pt x="478" y="757"/>
                    </a:lnTo>
                    <a:lnTo>
                      <a:pt x="492" y="759"/>
                    </a:lnTo>
                    <a:lnTo>
                      <a:pt x="504" y="761"/>
                    </a:lnTo>
                    <a:lnTo>
                      <a:pt x="518" y="761"/>
                    </a:lnTo>
                    <a:lnTo>
                      <a:pt x="532" y="762"/>
                    </a:lnTo>
                    <a:lnTo>
                      <a:pt x="542" y="761"/>
                    </a:lnTo>
                    <a:lnTo>
                      <a:pt x="552" y="761"/>
                    </a:lnTo>
                    <a:lnTo>
                      <a:pt x="562" y="760"/>
                    </a:lnTo>
                    <a:lnTo>
                      <a:pt x="572" y="759"/>
                    </a:lnTo>
                    <a:lnTo>
                      <a:pt x="582" y="758"/>
                    </a:lnTo>
                    <a:lnTo>
                      <a:pt x="592" y="756"/>
                    </a:lnTo>
                    <a:lnTo>
                      <a:pt x="601" y="754"/>
                    </a:lnTo>
                    <a:lnTo>
                      <a:pt x="612" y="752"/>
                    </a:lnTo>
                    <a:lnTo>
                      <a:pt x="621" y="748"/>
                    </a:lnTo>
                    <a:lnTo>
                      <a:pt x="631" y="745"/>
                    </a:lnTo>
                    <a:lnTo>
                      <a:pt x="641" y="742"/>
                    </a:lnTo>
                    <a:lnTo>
                      <a:pt x="651" y="739"/>
                    </a:lnTo>
                    <a:lnTo>
                      <a:pt x="660" y="735"/>
                    </a:lnTo>
                    <a:lnTo>
                      <a:pt x="670" y="731"/>
                    </a:lnTo>
                    <a:lnTo>
                      <a:pt x="680" y="725"/>
                    </a:lnTo>
                    <a:lnTo>
                      <a:pt x="689" y="721"/>
                    </a:lnTo>
                    <a:lnTo>
                      <a:pt x="669" y="102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1316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1"/>
                    </a:moveTo>
                    <a:lnTo>
                      <a:pt x="499" y="282"/>
                    </a:lnTo>
                    <a:lnTo>
                      <a:pt x="488" y="283"/>
                    </a:lnTo>
                    <a:lnTo>
                      <a:pt x="475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0" y="291"/>
                    </a:lnTo>
                    <a:lnTo>
                      <a:pt x="429" y="295"/>
                    </a:lnTo>
                    <a:lnTo>
                      <a:pt x="418" y="300"/>
                    </a:lnTo>
                    <a:lnTo>
                      <a:pt x="408" y="304"/>
                    </a:lnTo>
                    <a:lnTo>
                      <a:pt x="397" y="309"/>
                    </a:lnTo>
                    <a:lnTo>
                      <a:pt x="388" y="315"/>
                    </a:lnTo>
                    <a:lnTo>
                      <a:pt x="377" y="322"/>
                    </a:lnTo>
                    <a:lnTo>
                      <a:pt x="368" y="329"/>
                    </a:lnTo>
                    <a:lnTo>
                      <a:pt x="358" y="336"/>
                    </a:lnTo>
                    <a:lnTo>
                      <a:pt x="350" y="345"/>
                    </a:lnTo>
                    <a:lnTo>
                      <a:pt x="341" y="353"/>
                    </a:lnTo>
                    <a:lnTo>
                      <a:pt x="332" y="363"/>
                    </a:lnTo>
                    <a:lnTo>
                      <a:pt x="325" y="372"/>
                    </a:lnTo>
                    <a:lnTo>
                      <a:pt x="317" y="382"/>
                    </a:lnTo>
                    <a:lnTo>
                      <a:pt x="311" y="391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3" y="422"/>
                    </a:lnTo>
                    <a:lnTo>
                      <a:pt x="289" y="434"/>
                    </a:lnTo>
                    <a:lnTo>
                      <a:pt x="285" y="446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6" y="480"/>
                    </a:lnTo>
                    <a:lnTo>
                      <a:pt x="274" y="493"/>
                    </a:lnTo>
                    <a:lnTo>
                      <a:pt x="273" y="505"/>
                    </a:lnTo>
                    <a:lnTo>
                      <a:pt x="272" y="518"/>
                    </a:lnTo>
                    <a:lnTo>
                      <a:pt x="272" y="532"/>
                    </a:lnTo>
                    <a:lnTo>
                      <a:pt x="272" y="544"/>
                    </a:lnTo>
                    <a:lnTo>
                      <a:pt x="273" y="558"/>
                    </a:lnTo>
                    <a:lnTo>
                      <a:pt x="274" y="571"/>
                    </a:lnTo>
                    <a:lnTo>
                      <a:pt x="276" y="582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3" y="640"/>
                    </a:lnTo>
                    <a:lnTo>
                      <a:pt x="299" y="651"/>
                    </a:lnTo>
                    <a:lnTo>
                      <a:pt x="305" y="661"/>
                    </a:lnTo>
                    <a:lnTo>
                      <a:pt x="311" y="671"/>
                    </a:lnTo>
                    <a:lnTo>
                      <a:pt x="317" y="682"/>
                    </a:lnTo>
                    <a:lnTo>
                      <a:pt x="325" y="691"/>
                    </a:lnTo>
                    <a:lnTo>
                      <a:pt x="332" y="701"/>
                    </a:lnTo>
                    <a:lnTo>
                      <a:pt x="341" y="709"/>
                    </a:lnTo>
                    <a:lnTo>
                      <a:pt x="349" y="719"/>
                    </a:lnTo>
                    <a:lnTo>
                      <a:pt x="358" y="726"/>
                    </a:lnTo>
                    <a:lnTo>
                      <a:pt x="368" y="734"/>
                    </a:lnTo>
                    <a:lnTo>
                      <a:pt x="377" y="741"/>
                    </a:lnTo>
                    <a:lnTo>
                      <a:pt x="387" y="747"/>
                    </a:lnTo>
                    <a:lnTo>
                      <a:pt x="397" y="753"/>
                    </a:lnTo>
                    <a:lnTo>
                      <a:pt x="408" y="758"/>
                    </a:lnTo>
                    <a:lnTo>
                      <a:pt x="418" y="764"/>
                    </a:lnTo>
                    <a:lnTo>
                      <a:pt x="429" y="768"/>
                    </a:lnTo>
                    <a:lnTo>
                      <a:pt x="440" y="771"/>
                    </a:lnTo>
                    <a:lnTo>
                      <a:pt x="451" y="774"/>
                    </a:lnTo>
                    <a:lnTo>
                      <a:pt x="464" y="777"/>
                    </a:lnTo>
                    <a:lnTo>
                      <a:pt x="475" y="778"/>
                    </a:lnTo>
                    <a:lnTo>
                      <a:pt x="487" y="781"/>
                    </a:lnTo>
                    <a:lnTo>
                      <a:pt x="499" y="781"/>
                    </a:lnTo>
                    <a:lnTo>
                      <a:pt x="512" y="782"/>
                    </a:lnTo>
                    <a:lnTo>
                      <a:pt x="525" y="781"/>
                    </a:lnTo>
                    <a:lnTo>
                      <a:pt x="537" y="781"/>
                    </a:lnTo>
                    <a:lnTo>
                      <a:pt x="550" y="778"/>
                    </a:lnTo>
                    <a:lnTo>
                      <a:pt x="561" y="777"/>
                    </a:lnTo>
                    <a:lnTo>
                      <a:pt x="573" y="774"/>
                    </a:lnTo>
                    <a:lnTo>
                      <a:pt x="584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7" y="758"/>
                    </a:lnTo>
                    <a:lnTo>
                      <a:pt x="628" y="753"/>
                    </a:lnTo>
                    <a:lnTo>
                      <a:pt x="637" y="747"/>
                    </a:lnTo>
                    <a:lnTo>
                      <a:pt x="648" y="741"/>
                    </a:lnTo>
                    <a:lnTo>
                      <a:pt x="657" y="734"/>
                    </a:lnTo>
                    <a:lnTo>
                      <a:pt x="665" y="726"/>
                    </a:lnTo>
                    <a:lnTo>
                      <a:pt x="675" y="718"/>
                    </a:lnTo>
                    <a:lnTo>
                      <a:pt x="683" y="709"/>
                    </a:lnTo>
                    <a:lnTo>
                      <a:pt x="692" y="700"/>
                    </a:lnTo>
                    <a:lnTo>
                      <a:pt x="700" y="690"/>
                    </a:lnTo>
                    <a:lnTo>
                      <a:pt x="707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5" y="650"/>
                    </a:lnTo>
                    <a:lnTo>
                      <a:pt x="731" y="640"/>
                    </a:lnTo>
                    <a:lnTo>
                      <a:pt x="736" y="628"/>
                    </a:lnTo>
                    <a:lnTo>
                      <a:pt x="739" y="618"/>
                    </a:lnTo>
                    <a:lnTo>
                      <a:pt x="743" y="606"/>
                    </a:lnTo>
                    <a:lnTo>
                      <a:pt x="746" y="595"/>
                    </a:lnTo>
                    <a:lnTo>
                      <a:pt x="748" y="582"/>
                    </a:lnTo>
                    <a:lnTo>
                      <a:pt x="751" y="569"/>
                    </a:lnTo>
                    <a:lnTo>
                      <a:pt x="752" y="557"/>
                    </a:lnTo>
                    <a:lnTo>
                      <a:pt x="753" y="544"/>
                    </a:lnTo>
                    <a:lnTo>
                      <a:pt x="753" y="532"/>
                    </a:lnTo>
                    <a:lnTo>
                      <a:pt x="753" y="518"/>
                    </a:lnTo>
                    <a:lnTo>
                      <a:pt x="752" y="505"/>
                    </a:lnTo>
                    <a:lnTo>
                      <a:pt x="751" y="493"/>
                    </a:lnTo>
                    <a:lnTo>
                      <a:pt x="748" y="481"/>
                    </a:lnTo>
                    <a:lnTo>
                      <a:pt x="746" y="469"/>
                    </a:lnTo>
                    <a:lnTo>
                      <a:pt x="743" y="457"/>
                    </a:lnTo>
                    <a:lnTo>
                      <a:pt x="739" y="446"/>
                    </a:lnTo>
                    <a:lnTo>
                      <a:pt x="736" y="434"/>
                    </a:lnTo>
                    <a:lnTo>
                      <a:pt x="731" y="424"/>
                    </a:lnTo>
                    <a:lnTo>
                      <a:pt x="725" y="413"/>
                    </a:lnTo>
                    <a:lnTo>
                      <a:pt x="720" y="403"/>
                    </a:lnTo>
                    <a:lnTo>
                      <a:pt x="714" y="392"/>
                    </a:lnTo>
                    <a:lnTo>
                      <a:pt x="707" y="383"/>
                    </a:lnTo>
                    <a:lnTo>
                      <a:pt x="700" y="372"/>
                    </a:lnTo>
                    <a:lnTo>
                      <a:pt x="692" y="363"/>
                    </a:lnTo>
                    <a:lnTo>
                      <a:pt x="683" y="354"/>
                    </a:lnTo>
                    <a:lnTo>
                      <a:pt x="675" y="345"/>
                    </a:lnTo>
                    <a:lnTo>
                      <a:pt x="665" y="336"/>
                    </a:lnTo>
                    <a:lnTo>
                      <a:pt x="657" y="329"/>
                    </a:lnTo>
                    <a:lnTo>
                      <a:pt x="648" y="322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7" y="304"/>
                    </a:lnTo>
                    <a:lnTo>
                      <a:pt x="607" y="300"/>
                    </a:lnTo>
                    <a:lnTo>
                      <a:pt x="595" y="295"/>
                    </a:lnTo>
                    <a:lnTo>
                      <a:pt x="584" y="291"/>
                    </a:lnTo>
                    <a:lnTo>
                      <a:pt x="573" y="288"/>
                    </a:lnTo>
                    <a:lnTo>
                      <a:pt x="561" y="286"/>
                    </a:lnTo>
                    <a:lnTo>
                      <a:pt x="550" y="284"/>
                    </a:lnTo>
                    <a:lnTo>
                      <a:pt x="537" y="283"/>
                    </a:lnTo>
                    <a:lnTo>
                      <a:pt x="525" y="282"/>
                    </a:lnTo>
                    <a:lnTo>
                      <a:pt x="512" y="281"/>
                    </a:lnTo>
                    <a:close/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1" y="6"/>
                    </a:lnTo>
                    <a:lnTo>
                      <a:pt x="604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0" y="97"/>
                    </a:lnTo>
                    <a:lnTo>
                      <a:pt x="828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2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2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8"/>
                    </a:lnTo>
                    <a:lnTo>
                      <a:pt x="827" y="954"/>
                    </a:lnTo>
                    <a:lnTo>
                      <a:pt x="810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4" y="1056"/>
                    </a:lnTo>
                    <a:lnTo>
                      <a:pt x="581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8" y="1056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39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4"/>
                    </a:lnTo>
                    <a:lnTo>
                      <a:pt x="269" y="1003"/>
                    </a:lnTo>
                    <a:lnTo>
                      <a:pt x="250" y="993"/>
                    </a:lnTo>
                    <a:lnTo>
                      <a:pt x="231" y="980"/>
                    </a:lnTo>
                    <a:lnTo>
                      <a:pt x="212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6" y="754"/>
                    </a:lnTo>
                    <a:lnTo>
                      <a:pt x="36" y="728"/>
                    </a:lnTo>
                    <a:lnTo>
                      <a:pt x="26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6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2"/>
                    </a:lnTo>
                    <a:lnTo>
                      <a:pt x="3" y="474"/>
                    </a:lnTo>
                    <a:lnTo>
                      <a:pt x="6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6" y="363"/>
                    </a:lnTo>
                    <a:lnTo>
                      <a:pt x="35" y="336"/>
                    </a:lnTo>
                    <a:lnTo>
                      <a:pt x="46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6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2" y="97"/>
                    </a:lnTo>
                    <a:lnTo>
                      <a:pt x="231" y="84"/>
                    </a:lnTo>
                    <a:lnTo>
                      <a:pt x="250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6"/>
                    </a:lnTo>
                    <a:lnTo>
                      <a:pt x="373" y="18"/>
                    </a:lnTo>
                    <a:lnTo>
                      <a:pt x="396" y="13"/>
                    </a:lnTo>
                    <a:lnTo>
                      <a:pt x="418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678200" y="5767560"/>
                <a:ext cx="238320" cy="320400"/>
              </a:xfrm>
              <a:custGeom>
                <a:avLst/>
                <a:gdLst/>
                <a:ahLst/>
                <a:rect l="l" t="t" r="r" b="b"/>
                <a:pathLst>
                  <a:path w="752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5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2" y="0"/>
                    </a:lnTo>
                    <a:lnTo>
                      <a:pt x="752" y="1009"/>
                    </a:lnTo>
                    <a:lnTo>
                      <a:pt x="633" y="1009"/>
                    </a:lnTo>
                    <a:lnTo>
                      <a:pt x="262" y="571"/>
                    </a:lnTo>
                    <a:lnTo>
                      <a:pt x="262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970520" y="5767560"/>
                <a:ext cx="241200" cy="320400"/>
              </a:xfrm>
              <a:custGeom>
                <a:avLst/>
                <a:gdLst/>
                <a:ahLst/>
                <a:rect l="l" t="t" r="r" b="b"/>
                <a:pathLst>
                  <a:path w="758" h="1009">
                    <a:moveTo>
                      <a:pt x="262" y="739"/>
                    </a:moveTo>
                    <a:lnTo>
                      <a:pt x="286" y="736"/>
                    </a:lnTo>
                    <a:lnTo>
                      <a:pt x="310" y="730"/>
                    </a:lnTo>
                    <a:lnTo>
                      <a:pt x="321" y="727"/>
                    </a:lnTo>
                    <a:lnTo>
                      <a:pt x="332" y="724"/>
                    </a:lnTo>
                    <a:lnTo>
                      <a:pt x="343" y="720"/>
                    </a:lnTo>
                    <a:lnTo>
                      <a:pt x="353" y="716"/>
                    </a:lnTo>
                    <a:lnTo>
                      <a:pt x="362" y="711"/>
                    </a:lnTo>
                    <a:lnTo>
                      <a:pt x="373" y="705"/>
                    </a:lnTo>
                    <a:lnTo>
                      <a:pt x="381" y="700"/>
                    </a:lnTo>
                    <a:lnTo>
                      <a:pt x="391" y="694"/>
                    </a:lnTo>
                    <a:lnTo>
                      <a:pt x="399" y="686"/>
                    </a:lnTo>
                    <a:lnTo>
                      <a:pt x="408" y="680"/>
                    </a:lnTo>
                    <a:lnTo>
                      <a:pt x="416" y="673"/>
                    </a:lnTo>
                    <a:lnTo>
                      <a:pt x="424" y="664"/>
                    </a:lnTo>
                    <a:lnTo>
                      <a:pt x="431" y="656"/>
                    </a:lnTo>
                    <a:lnTo>
                      <a:pt x="438" y="648"/>
                    </a:lnTo>
                    <a:lnTo>
                      <a:pt x="444" y="639"/>
                    </a:lnTo>
                    <a:lnTo>
                      <a:pt x="451" y="630"/>
                    </a:lnTo>
                    <a:lnTo>
                      <a:pt x="456" y="620"/>
                    </a:lnTo>
                    <a:lnTo>
                      <a:pt x="461" y="611"/>
                    </a:lnTo>
                    <a:lnTo>
                      <a:pt x="465" y="601"/>
                    </a:lnTo>
                    <a:lnTo>
                      <a:pt x="470" y="591"/>
                    </a:lnTo>
                    <a:lnTo>
                      <a:pt x="476" y="571"/>
                    </a:lnTo>
                    <a:lnTo>
                      <a:pt x="481" y="549"/>
                    </a:lnTo>
                    <a:lnTo>
                      <a:pt x="483" y="526"/>
                    </a:lnTo>
                    <a:lnTo>
                      <a:pt x="484" y="502"/>
                    </a:lnTo>
                    <a:lnTo>
                      <a:pt x="483" y="476"/>
                    </a:lnTo>
                    <a:lnTo>
                      <a:pt x="481" y="452"/>
                    </a:lnTo>
                    <a:lnTo>
                      <a:pt x="479" y="441"/>
                    </a:lnTo>
                    <a:lnTo>
                      <a:pt x="476" y="429"/>
                    </a:lnTo>
                    <a:lnTo>
                      <a:pt x="473" y="418"/>
                    </a:lnTo>
                    <a:lnTo>
                      <a:pt x="470" y="407"/>
                    </a:lnTo>
                    <a:lnTo>
                      <a:pt x="465" y="397"/>
                    </a:lnTo>
                    <a:lnTo>
                      <a:pt x="460" y="386"/>
                    </a:lnTo>
                    <a:lnTo>
                      <a:pt x="456" y="376"/>
                    </a:lnTo>
                    <a:lnTo>
                      <a:pt x="450" y="366"/>
                    </a:lnTo>
                    <a:lnTo>
                      <a:pt x="443" y="357"/>
                    </a:lnTo>
                    <a:lnTo>
                      <a:pt x="437" y="347"/>
                    </a:lnTo>
                    <a:lnTo>
                      <a:pt x="431" y="339"/>
                    </a:lnTo>
                    <a:lnTo>
                      <a:pt x="423" y="330"/>
                    </a:lnTo>
                    <a:lnTo>
                      <a:pt x="415" y="322"/>
                    </a:lnTo>
                    <a:lnTo>
                      <a:pt x="407" y="315"/>
                    </a:lnTo>
                    <a:lnTo>
                      <a:pt x="398" y="307"/>
                    </a:lnTo>
                    <a:lnTo>
                      <a:pt x="390" y="301"/>
                    </a:lnTo>
                    <a:lnTo>
                      <a:pt x="380" y="295"/>
                    </a:lnTo>
                    <a:lnTo>
                      <a:pt x="371" y="288"/>
                    </a:lnTo>
                    <a:lnTo>
                      <a:pt x="361" y="284"/>
                    </a:lnTo>
                    <a:lnTo>
                      <a:pt x="352" y="279"/>
                    </a:lnTo>
                    <a:lnTo>
                      <a:pt x="341" y="275"/>
                    </a:lnTo>
                    <a:lnTo>
                      <a:pt x="331" y="272"/>
                    </a:lnTo>
                    <a:lnTo>
                      <a:pt x="320" y="268"/>
                    </a:lnTo>
                    <a:lnTo>
                      <a:pt x="309" y="266"/>
                    </a:lnTo>
                    <a:lnTo>
                      <a:pt x="297" y="264"/>
                    </a:lnTo>
                    <a:lnTo>
                      <a:pt x="286" y="262"/>
                    </a:lnTo>
                    <a:lnTo>
                      <a:pt x="274" y="261"/>
                    </a:lnTo>
                    <a:lnTo>
                      <a:pt x="262" y="261"/>
                    </a:lnTo>
                    <a:lnTo>
                      <a:pt x="262" y="739"/>
                    </a:lnTo>
                    <a:close/>
                    <a:moveTo>
                      <a:pt x="152" y="0"/>
                    </a:moveTo>
                    <a:lnTo>
                      <a:pt x="188" y="0"/>
                    </a:lnTo>
                    <a:lnTo>
                      <a:pt x="221" y="1"/>
                    </a:lnTo>
                    <a:lnTo>
                      <a:pt x="252" y="2"/>
                    </a:lnTo>
                    <a:lnTo>
                      <a:pt x="283" y="4"/>
                    </a:lnTo>
                    <a:lnTo>
                      <a:pt x="310" y="7"/>
                    </a:lnTo>
                    <a:lnTo>
                      <a:pt x="336" y="10"/>
                    </a:lnTo>
                    <a:lnTo>
                      <a:pt x="360" y="13"/>
                    </a:lnTo>
                    <a:lnTo>
                      <a:pt x="382" y="18"/>
                    </a:lnTo>
                    <a:lnTo>
                      <a:pt x="403" y="23"/>
                    </a:lnTo>
                    <a:lnTo>
                      <a:pt x="424" y="28"/>
                    </a:lnTo>
                    <a:lnTo>
                      <a:pt x="444" y="34"/>
                    </a:lnTo>
                    <a:lnTo>
                      <a:pt x="464" y="42"/>
                    </a:lnTo>
                    <a:lnTo>
                      <a:pt x="483" y="50"/>
                    </a:lnTo>
                    <a:lnTo>
                      <a:pt x="502" y="58"/>
                    </a:lnTo>
                    <a:lnTo>
                      <a:pt x="520" y="68"/>
                    </a:lnTo>
                    <a:lnTo>
                      <a:pt x="537" y="78"/>
                    </a:lnTo>
                    <a:lnTo>
                      <a:pt x="563" y="95"/>
                    </a:lnTo>
                    <a:lnTo>
                      <a:pt x="588" y="114"/>
                    </a:lnTo>
                    <a:lnTo>
                      <a:pt x="612" y="135"/>
                    </a:lnTo>
                    <a:lnTo>
                      <a:pt x="633" y="156"/>
                    </a:lnTo>
                    <a:lnTo>
                      <a:pt x="653" y="179"/>
                    </a:lnTo>
                    <a:lnTo>
                      <a:pt x="670" y="203"/>
                    </a:lnTo>
                    <a:lnTo>
                      <a:pt x="687" y="229"/>
                    </a:lnTo>
                    <a:lnTo>
                      <a:pt x="702" y="256"/>
                    </a:lnTo>
                    <a:lnTo>
                      <a:pt x="715" y="284"/>
                    </a:lnTo>
                    <a:lnTo>
                      <a:pt x="726" y="313"/>
                    </a:lnTo>
                    <a:lnTo>
                      <a:pt x="736" y="343"/>
                    </a:lnTo>
                    <a:lnTo>
                      <a:pt x="744" y="375"/>
                    </a:lnTo>
                    <a:lnTo>
                      <a:pt x="750" y="407"/>
                    </a:lnTo>
                    <a:lnTo>
                      <a:pt x="755" y="441"/>
                    </a:lnTo>
                    <a:lnTo>
                      <a:pt x="758" y="475"/>
                    </a:lnTo>
                    <a:lnTo>
                      <a:pt x="758" y="511"/>
                    </a:lnTo>
                    <a:lnTo>
                      <a:pt x="757" y="543"/>
                    </a:lnTo>
                    <a:lnTo>
                      <a:pt x="755" y="574"/>
                    </a:lnTo>
                    <a:lnTo>
                      <a:pt x="749" y="606"/>
                    </a:lnTo>
                    <a:lnTo>
                      <a:pt x="743" y="635"/>
                    </a:lnTo>
                    <a:lnTo>
                      <a:pt x="734" y="665"/>
                    </a:lnTo>
                    <a:lnTo>
                      <a:pt x="723" y="694"/>
                    </a:lnTo>
                    <a:lnTo>
                      <a:pt x="710" y="722"/>
                    </a:lnTo>
                    <a:lnTo>
                      <a:pt x="696" y="749"/>
                    </a:lnTo>
                    <a:lnTo>
                      <a:pt x="680" y="776"/>
                    </a:lnTo>
                    <a:lnTo>
                      <a:pt x="662" y="802"/>
                    </a:lnTo>
                    <a:lnTo>
                      <a:pt x="642" y="826"/>
                    </a:lnTo>
                    <a:lnTo>
                      <a:pt x="621" y="848"/>
                    </a:lnTo>
                    <a:lnTo>
                      <a:pt x="598" y="870"/>
                    </a:lnTo>
                    <a:lnTo>
                      <a:pt x="574" y="890"/>
                    </a:lnTo>
                    <a:lnTo>
                      <a:pt x="549" y="909"/>
                    </a:lnTo>
                    <a:lnTo>
                      <a:pt x="520" y="927"/>
                    </a:lnTo>
                    <a:lnTo>
                      <a:pt x="502" y="937"/>
                    </a:lnTo>
                    <a:lnTo>
                      <a:pt x="484" y="947"/>
                    </a:lnTo>
                    <a:lnTo>
                      <a:pt x="465" y="956"/>
                    </a:lnTo>
                    <a:lnTo>
                      <a:pt x="446" y="965"/>
                    </a:lnTo>
                    <a:lnTo>
                      <a:pt x="426" y="972"/>
                    </a:lnTo>
                    <a:lnTo>
                      <a:pt x="405" y="978"/>
                    </a:lnTo>
                    <a:lnTo>
                      <a:pt x="383" y="985"/>
                    </a:lnTo>
                    <a:lnTo>
                      <a:pt x="361" y="990"/>
                    </a:lnTo>
                    <a:lnTo>
                      <a:pt x="339" y="994"/>
                    </a:lnTo>
                    <a:lnTo>
                      <a:pt x="315" y="998"/>
                    </a:lnTo>
                    <a:lnTo>
                      <a:pt x="291" y="1001"/>
                    </a:lnTo>
                    <a:lnTo>
                      <a:pt x="265" y="1005"/>
                    </a:lnTo>
                    <a:lnTo>
                      <a:pt x="238" y="1007"/>
                    </a:lnTo>
                    <a:lnTo>
                      <a:pt x="211" y="1008"/>
                    </a:lnTo>
                    <a:lnTo>
                      <a:pt x="182" y="1009"/>
                    </a:lnTo>
                    <a:lnTo>
                      <a:pt x="152" y="1009"/>
                    </a:lnTo>
                    <a:lnTo>
                      <a:pt x="0" y="1009"/>
                    </a:lnTo>
                    <a:lnTo>
                      <a:pt x="0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3548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1"/>
                    </a:moveTo>
                    <a:lnTo>
                      <a:pt x="500" y="282"/>
                    </a:lnTo>
                    <a:lnTo>
                      <a:pt x="488" y="283"/>
                    </a:lnTo>
                    <a:lnTo>
                      <a:pt x="476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1" y="291"/>
                    </a:lnTo>
                    <a:lnTo>
                      <a:pt x="429" y="295"/>
                    </a:lnTo>
                    <a:lnTo>
                      <a:pt x="419" y="300"/>
                    </a:lnTo>
                    <a:lnTo>
                      <a:pt x="408" y="304"/>
                    </a:lnTo>
                    <a:lnTo>
                      <a:pt x="398" y="309"/>
                    </a:lnTo>
                    <a:lnTo>
                      <a:pt x="388" y="315"/>
                    </a:lnTo>
                    <a:lnTo>
                      <a:pt x="378" y="322"/>
                    </a:lnTo>
                    <a:lnTo>
                      <a:pt x="368" y="329"/>
                    </a:lnTo>
                    <a:lnTo>
                      <a:pt x="359" y="336"/>
                    </a:lnTo>
                    <a:lnTo>
                      <a:pt x="351" y="345"/>
                    </a:lnTo>
                    <a:lnTo>
                      <a:pt x="341" y="353"/>
                    </a:lnTo>
                    <a:lnTo>
                      <a:pt x="333" y="363"/>
                    </a:lnTo>
                    <a:lnTo>
                      <a:pt x="325" y="372"/>
                    </a:lnTo>
                    <a:lnTo>
                      <a:pt x="318" y="382"/>
                    </a:lnTo>
                    <a:lnTo>
                      <a:pt x="312" y="391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4" y="422"/>
                    </a:lnTo>
                    <a:lnTo>
                      <a:pt x="290" y="434"/>
                    </a:lnTo>
                    <a:lnTo>
                      <a:pt x="285" y="446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7" y="480"/>
                    </a:lnTo>
                    <a:lnTo>
                      <a:pt x="275" y="493"/>
                    </a:lnTo>
                    <a:lnTo>
                      <a:pt x="274" y="505"/>
                    </a:lnTo>
                    <a:lnTo>
                      <a:pt x="273" y="518"/>
                    </a:lnTo>
                    <a:lnTo>
                      <a:pt x="273" y="532"/>
                    </a:lnTo>
                    <a:lnTo>
                      <a:pt x="273" y="544"/>
                    </a:lnTo>
                    <a:lnTo>
                      <a:pt x="274" y="558"/>
                    </a:lnTo>
                    <a:lnTo>
                      <a:pt x="275" y="571"/>
                    </a:lnTo>
                    <a:lnTo>
                      <a:pt x="277" y="582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90" y="629"/>
                    </a:lnTo>
                    <a:lnTo>
                      <a:pt x="294" y="640"/>
                    </a:lnTo>
                    <a:lnTo>
                      <a:pt x="299" y="651"/>
                    </a:lnTo>
                    <a:lnTo>
                      <a:pt x="305" y="661"/>
                    </a:lnTo>
                    <a:lnTo>
                      <a:pt x="312" y="671"/>
                    </a:lnTo>
                    <a:lnTo>
                      <a:pt x="318" y="682"/>
                    </a:lnTo>
                    <a:lnTo>
                      <a:pt x="325" y="691"/>
                    </a:lnTo>
                    <a:lnTo>
                      <a:pt x="333" y="701"/>
                    </a:lnTo>
                    <a:lnTo>
                      <a:pt x="341" y="709"/>
                    </a:lnTo>
                    <a:lnTo>
                      <a:pt x="349" y="719"/>
                    </a:lnTo>
                    <a:lnTo>
                      <a:pt x="359" y="726"/>
                    </a:lnTo>
                    <a:lnTo>
                      <a:pt x="368" y="734"/>
                    </a:lnTo>
                    <a:lnTo>
                      <a:pt x="378" y="741"/>
                    </a:lnTo>
                    <a:lnTo>
                      <a:pt x="387" y="747"/>
                    </a:lnTo>
                    <a:lnTo>
                      <a:pt x="398" y="753"/>
                    </a:lnTo>
                    <a:lnTo>
                      <a:pt x="408" y="758"/>
                    </a:lnTo>
                    <a:lnTo>
                      <a:pt x="419" y="764"/>
                    </a:lnTo>
                    <a:lnTo>
                      <a:pt x="429" y="768"/>
                    </a:lnTo>
                    <a:lnTo>
                      <a:pt x="441" y="771"/>
                    </a:lnTo>
                    <a:lnTo>
                      <a:pt x="451" y="774"/>
                    </a:lnTo>
                    <a:lnTo>
                      <a:pt x="464" y="777"/>
                    </a:lnTo>
                    <a:lnTo>
                      <a:pt x="476" y="778"/>
                    </a:lnTo>
                    <a:lnTo>
                      <a:pt x="487" y="781"/>
                    </a:lnTo>
                    <a:lnTo>
                      <a:pt x="500" y="781"/>
                    </a:lnTo>
                    <a:lnTo>
                      <a:pt x="512" y="782"/>
                    </a:lnTo>
                    <a:lnTo>
                      <a:pt x="525" y="781"/>
                    </a:lnTo>
                    <a:lnTo>
                      <a:pt x="538" y="781"/>
                    </a:lnTo>
                    <a:lnTo>
                      <a:pt x="550" y="778"/>
                    </a:lnTo>
                    <a:lnTo>
                      <a:pt x="562" y="777"/>
                    </a:lnTo>
                    <a:lnTo>
                      <a:pt x="573" y="774"/>
                    </a:lnTo>
                    <a:lnTo>
                      <a:pt x="585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8" y="758"/>
                    </a:lnTo>
                    <a:lnTo>
                      <a:pt x="628" y="753"/>
                    </a:lnTo>
                    <a:lnTo>
                      <a:pt x="637" y="747"/>
                    </a:lnTo>
                    <a:lnTo>
                      <a:pt x="648" y="741"/>
                    </a:lnTo>
                    <a:lnTo>
                      <a:pt x="657" y="734"/>
                    </a:lnTo>
                    <a:lnTo>
                      <a:pt x="666" y="726"/>
                    </a:lnTo>
                    <a:lnTo>
                      <a:pt x="675" y="718"/>
                    </a:lnTo>
                    <a:lnTo>
                      <a:pt x="684" y="709"/>
                    </a:lnTo>
                    <a:lnTo>
                      <a:pt x="692" y="700"/>
                    </a:lnTo>
                    <a:lnTo>
                      <a:pt x="701" y="690"/>
                    </a:lnTo>
                    <a:lnTo>
                      <a:pt x="708" y="681"/>
                    </a:lnTo>
                    <a:lnTo>
                      <a:pt x="714" y="671"/>
                    </a:lnTo>
                    <a:lnTo>
                      <a:pt x="721" y="661"/>
                    </a:lnTo>
                    <a:lnTo>
                      <a:pt x="726" y="650"/>
                    </a:lnTo>
                    <a:lnTo>
                      <a:pt x="731" y="640"/>
                    </a:lnTo>
                    <a:lnTo>
                      <a:pt x="736" y="628"/>
                    </a:lnTo>
                    <a:lnTo>
                      <a:pt x="739" y="618"/>
                    </a:lnTo>
                    <a:lnTo>
                      <a:pt x="744" y="606"/>
                    </a:lnTo>
                    <a:lnTo>
                      <a:pt x="747" y="595"/>
                    </a:lnTo>
                    <a:lnTo>
                      <a:pt x="749" y="582"/>
                    </a:lnTo>
                    <a:lnTo>
                      <a:pt x="751" y="569"/>
                    </a:lnTo>
                    <a:lnTo>
                      <a:pt x="752" y="557"/>
                    </a:lnTo>
                    <a:lnTo>
                      <a:pt x="753" y="544"/>
                    </a:lnTo>
                    <a:lnTo>
                      <a:pt x="753" y="532"/>
                    </a:lnTo>
                    <a:lnTo>
                      <a:pt x="753" y="518"/>
                    </a:lnTo>
                    <a:lnTo>
                      <a:pt x="752" y="505"/>
                    </a:lnTo>
                    <a:lnTo>
                      <a:pt x="751" y="493"/>
                    </a:lnTo>
                    <a:lnTo>
                      <a:pt x="749" y="481"/>
                    </a:lnTo>
                    <a:lnTo>
                      <a:pt x="747" y="469"/>
                    </a:lnTo>
                    <a:lnTo>
                      <a:pt x="744" y="457"/>
                    </a:lnTo>
                    <a:lnTo>
                      <a:pt x="739" y="446"/>
                    </a:lnTo>
                    <a:lnTo>
                      <a:pt x="736" y="434"/>
                    </a:lnTo>
                    <a:lnTo>
                      <a:pt x="731" y="424"/>
                    </a:lnTo>
                    <a:lnTo>
                      <a:pt x="726" y="413"/>
                    </a:lnTo>
                    <a:lnTo>
                      <a:pt x="721" y="403"/>
                    </a:lnTo>
                    <a:lnTo>
                      <a:pt x="714" y="392"/>
                    </a:lnTo>
                    <a:lnTo>
                      <a:pt x="708" y="383"/>
                    </a:lnTo>
                    <a:lnTo>
                      <a:pt x="701" y="372"/>
                    </a:lnTo>
                    <a:lnTo>
                      <a:pt x="692" y="363"/>
                    </a:lnTo>
                    <a:lnTo>
                      <a:pt x="684" y="354"/>
                    </a:lnTo>
                    <a:lnTo>
                      <a:pt x="675" y="345"/>
                    </a:lnTo>
                    <a:lnTo>
                      <a:pt x="666" y="336"/>
                    </a:lnTo>
                    <a:lnTo>
                      <a:pt x="657" y="329"/>
                    </a:lnTo>
                    <a:lnTo>
                      <a:pt x="648" y="322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8" y="304"/>
                    </a:lnTo>
                    <a:lnTo>
                      <a:pt x="607" y="300"/>
                    </a:lnTo>
                    <a:lnTo>
                      <a:pt x="595" y="295"/>
                    </a:lnTo>
                    <a:lnTo>
                      <a:pt x="585" y="291"/>
                    </a:lnTo>
                    <a:lnTo>
                      <a:pt x="573" y="288"/>
                    </a:lnTo>
                    <a:lnTo>
                      <a:pt x="562" y="286"/>
                    </a:lnTo>
                    <a:lnTo>
                      <a:pt x="550" y="284"/>
                    </a:lnTo>
                    <a:lnTo>
                      <a:pt x="538" y="283"/>
                    </a:lnTo>
                    <a:lnTo>
                      <a:pt x="525" y="282"/>
                    </a:lnTo>
                    <a:lnTo>
                      <a:pt x="512" y="281"/>
                    </a:lnTo>
                    <a:close/>
                    <a:moveTo>
                      <a:pt x="511" y="0"/>
                    </a:moveTo>
                    <a:lnTo>
                      <a:pt x="536" y="1"/>
                    </a:lnTo>
                    <a:lnTo>
                      <a:pt x="559" y="2"/>
                    </a:lnTo>
                    <a:lnTo>
                      <a:pt x="582" y="6"/>
                    </a:lnTo>
                    <a:lnTo>
                      <a:pt x="605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7"/>
                    </a:lnTo>
                    <a:lnTo>
                      <a:pt x="829" y="112"/>
                    </a:lnTo>
                    <a:lnTo>
                      <a:pt x="845" y="126"/>
                    </a:lnTo>
                    <a:lnTo>
                      <a:pt x="866" y="146"/>
                    </a:lnTo>
                    <a:lnTo>
                      <a:pt x="886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90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9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6" y="897"/>
                    </a:lnTo>
                    <a:lnTo>
                      <a:pt x="866" y="918"/>
                    </a:lnTo>
                    <a:lnTo>
                      <a:pt x="845" y="938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6"/>
                    </a:lnTo>
                    <a:lnTo>
                      <a:pt x="582" y="1060"/>
                    </a:lnTo>
                    <a:lnTo>
                      <a:pt x="559" y="1062"/>
                    </a:lnTo>
                    <a:lnTo>
                      <a:pt x="536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6"/>
                    </a:lnTo>
                    <a:lnTo>
                      <a:pt x="397" y="1051"/>
                    </a:lnTo>
                    <a:lnTo>
                      <a:pt x="374" y="1046"/>
                    </a:lnTo>
                    <a:lnTo>
                      <a:pt x="353" y="1039"/>
                    </a:lnTo>
                    <a:lnTo>
                      <a:pt x="331" y="1031"/>
                    </a:lnTo>
                    <a:lnTo>
                      <a:pt x="310" y="1023"/>
                    </a:lnTo>
                    <a:lnTo>
                      <a:pt x="290" y="1014"/>
                    </a:lnTo>
                    <a:lnTo>
                      <a:pt x="270" y="1003"/>
                    </a:lnTo>
                    <a:lnTo>
                      <a:pt x="251" y="993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7" y="754"/>
                    </a:lnTo>
                    <a:lnTo>
                      <a:pt x="36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4" y="589"/>
                    </a:lnTo>
                    <a:lnTo>
                      <a:pt x="2" y="561"/>
                    </a:lnTo>
                    <a:lnTo>
                      <a:pt x="0" y="532"/>
                    </a:lnTo>
                    <a:lnTo>
                      <a:pt x="2" y="502"/>
                    </a:lnTo>
                    <a:lnTo>
                      <a:pt x="4" y="474"/>
                    </a:lnTo>
                    <a:lnTo>
                      <a:pt x="7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7" y="363"/>
                    </a:lnTo>
                    <a:lnTo>
                      <a:pt x="35" y="336"/>
                    </a:lnTo>
                    <a:lnTo>
                      <a:pt x="47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51" y="72"/>
                    </a:lnTo>
                    <a:lnTo>
                      <a:pt x="270" y="61"/>
                    </a:lnTo>
                    <a:lnTo>
                      <a:pt x="290" y="51"/>
                    </a:lnTo>
                    <a:lnTo>
                      <a:pt x="310" y="41"/>
                    </a:lnTo>
                    <a:lnTo>
                      <a:pt x="331" y="33"/>
                    </a:lnTo>
                    <a:lnTo>
                      <a:pt x="353" y="26"/>
                    </a:lnTo>
                    <a:lnTo>
                      <a:pt x="374" y="18"/>
                    </a:lnTo>
                    <a:lnTo>
                      <a:pt x="397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4680" y="5767560"/>
                <a:ext cx="333360" cy="320400"/>
              </a:xfrm>
              <a:custGeom>
                <a:avLst/>
                <a:gdLst/>
                <a:ahLst/>
                <a:rect l="l" t="t" r="r" b="b"/>
                <a:pathLst>
                  <a:path w="1052" h="1013">
                    <a:moveTo>
                      <a:pt x="0" y="1009"/>
                    </a:moveTo>
                    <a:lnTo>
                      <a:pt x="128" y="0"/>
                    </a:lnTo>
                    <a:lnTo>
                      <a:pt x="342" y="0"/>
                    </a:lnTo>
                    <a:lnTo>
                      <a:pt x="519" y="448"/>
                    </a:lnTo>
                    <a:lnTo>
                      <a:pt x="700" y="0"/>
                    </a:lnTo>
                    <a:lnTo>
                      <a:pt x="908" y="0"/>
                    </a:lnTo>
                    <a:lnTo>
                      <a:pt x="1052" y="1009"/>
                    </a:lnTo>
                    <a:lnTo>
                      <a:pt x="783" y="1009"/>
                    </a:lnTo>
                    <a:lnTo>
                      <a:pt x="726" y="546"/>
                    </a:lnTo>
                    <a:lnTo>
                      <a:pt x="531" y="1013"/>
                    </a:lnTo>
                    <a:lnTo>
                      <a:pt x="318" y="546"/>
                    </a:lnTo>
                    <a:lnTo>
                      <a:pt x="270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25960" y="5759280"/>
                <a:ext cx="162000" cy="328680"/>
              </a:xfrm>
              <a:custGeom>
                <a:avLst/>
                <a:gdLst/>
                <a:ahLst/>
                <a:rect l="l" t="t" r="r" b="b"/>
                <a:pathLst>
                  <a:path w="511" h="1035">
                    <a:moveTo>
                      <a:pt x="145" y="718"/>
                    </a:moveTo>
                    <a:lnTo>
                      <a:pt x="145" y="571"/>
                    </a:lnTo>
                    <a:lnTo>
                      <a:pt x="145" y="560"/>
                    </a:lnTo>
                    <a:lnTo>
                      <a:pt x="146" y="551"/>
                    </a:lnTo>
                    <a:lnTo>
                      <a:pt x="146" y="541"/>
                    </a:lnTo>
                    <a:lnTo>
                      <a:pt x="147" y="532"/>
                    </a:lnTo>
                    <a:lnTo>
                      <a:pt x="148" y="522"/>
                    </a:lnTo>
                    <a:lnTo>
                      <a:pt x="149" y="514"/>
                    </a:lnTo>
                    <a:lnTo>
                      <a:pt x="151" y="506"/>
                    </a:lnTo>
                    <a:lnTo>
                      <a:pt x="153" y="498"/>
                    </a:lnTo>
                    <a:lnTo>
                      <a:pt x="155" y="490"/>
                    </a:lnTo>
                    <a:lnTo>
                      <a:pt x="158" y="482"/>
                    </a:lnTo>
                    <a:lnTo>
                      <a:pt x="160" y="474"/>
                    </a:lnTo>
                    <a:lnTo>
                      <a:pt x="163" y="467"/>
                    </a:lnTo>
                    <a:lnTo>
                      <a:pt x="166" y="459"/>
                    </a:lnTo>
                    <a:lnTo>
                      <a:pt x="170" y="451"/>
                    </a:lnTo>
                    <a:lnTo>
                      <a:pt x="174" y="443"/>
                    </a:lnTo>
                    <a:lnTo>
                      <a:pt x="178" y="435"/>
                    </a:lnTo>
                    <a:lnTo>
                      <a:pt x="180" y="431"/>
                    </a:lnTo>
                    <a:lnTo>
                      <a:pt x="182" y="427"/>
                    </a:lnTo>
                    <a:lnTo>
                      <a:pt x="185" y="423"/>
                    </a:lnTo>
                    <a:lnTo>
                      <a:pt x="188" y="417"/>
                    </a:lnTo>
                    <a:lnTo>
                      <a:pt x="191" y="412"/>
                    </a:lnTo>
                    <a:lnTo>
                      <a:pt x="195" y="407"/>
                    </a:lnTo>
                    <a:lnTo>
                      <a:pt x="199" y="401"/>
                    </a:lnTo>
                    <a:lnTo>
                      <a:pt x="203" y="394"/>
                    </a:lnTo>
                    <a:lnTo>
                      <a:pt x="211" y="382"/>
                    </a:lnTo>
                    <a:lnTo>
                      <a:pt x="219" y="369"/>
                    </a:lnTo>
                    <a:lnTo>
                      <a:pt x="225" y="357"/>
                    </a:lnTo>
                    <a:lnTo>
                      <a:pt x="229" y="347"/>
                    </a:lnTo>
                    <a:lnTo>
                      <a:pt x="233" y="338"/>
                    </a:lnTo>
                    <a:lnTo>
                      <a:pt x="237" y="328"/>
                    </a:lnTo>
                    <a:lnTo>
                      <a:pt x="238" y="321"/>
                    </a:lnTo>
                    <a:lnTo>
                      <a:pt x="239" y="313"/>
                    </a:lnTo>
                    <a:lnTo>
                      <a:pt x="239" y="307"/>
                    </a:lnTo>
                    <a:lnTo>
                      <a:pt x="238" y="302"/>
                    </a:lnTo>
                    <a:lnTo>
                      <a:pt x="237" y="297"/>
                    </a:lnTo>
                    <a:lnTo>
                      <a:pt x="236" y="292"/>
                    </a:lnTo>
                    <a:lnTo>
                      <a:pt x="233" y="288"/>
                    </a:lnTo>
                    <a:lnTo>
                      <a:pt x="231" y="284"/>
                    </a:lnTo>
                    <a:lnTo>
                      <a:pt x="229" y="280"/>
                    </a:lnTo>
                    <a:lnTo>
                      <a:pt x="226" y="277"/>
                    </a:lnTo>
                    <a:lnTo>
                      <a:pt x="223" y="273"/>
                    </a:lnTo>
                    <a:lnTo>
                      <a:pt x="219" y="270"/>
                    </a:lnTo>
                    <a:lnTo>
                      <a:pt x="215" y="268"/>
                    </a:lnTo>
                    <a:lnTo>
                      <a:pt x="210" y="266"/>
                    </a:lnTo>
                    <a:lnTo>
                      <a:pt x="206" y="265"/>
                    </a:lnTo>
                    <a:lnTo>
                      <a:pt x="201" y="264"/>
                    </a:lnTo>
                    <a:lnTo>
                      <a:pt x="196" y="263"/>
                    </a:lnTo>
                    <a:lnTo>
                      <a:pt x="190" y="263"/>
                    </a:lnTo>
                    <a:lnTo>
                      <a:pt x="185" y="263"/>
                    </a:lnTo>
                    <a:lnTo>
                      <a:pt x="179" y="264"/>
                    </a:lnTo>
                    <a:lnTo>
                      <a:pt x="174" y="265"/>
                    </a:lnTo>
                    <a:lnTo>
                      <a:pt x="168" y="266"/>
                    </a:lnTo>
                    <a:lnTo>
                      <a:pt x="163" y="268"/>
                    </a:lnTo>
                    <a:lnTo>
                      <a:pt x="158" y="270"/>
                    </a:lnTo>
                    <a:lnTo>
                      <a:pt x="153" y="273"/>
                    </a:lnTo>
                    <a:lnTo>
                      <a:pt x="147" y="277"/>
                    </a:lnTo>
                    <a:lnTo>
                      <a:pt x="142" y="280"/>
                    </a:lnTo>
                    <a:lnTo>
                      <a:pt x="137" y="284"/>
                    </a:lnTo>
                    <a:lnTo>
                      <a:pt x="133" y="288"/>
                    </a:lnTo>
                    <a:lnTo>
                      <a:pt x="128" y="292"/>
                    </a:lnTo>
                    <a:lnTo>
                      <a:pt x="123" y="298"/>
                    </a:lnTo>
                    <a:lnTo>
                      <a:pt x="120" y="302"/>
                    </a:lnTo>
                    <a:lnTo>
                      <a:pt x="116" y="307"/>
                    </a:lnTo>
                    <a:lnTo>
                      <a:pt x="113" y="313"/>
                    </a:lnTo>
                    <a:lnTo>
                      <a:pt x="0" y="158"/>
                    </a:lnTo>
                    <a:lnTo>
                      <a:pt x="13" y="139"/>
                    </a:lnTo>
                    <a:lnTo>
                      <a:pt x="25" y="121"/>
                    </a:lnTo>
                    <a:lnTo>
                      <a:pt x="39" y="104"/>
                    </a:lnTo>
                    <a:lnTo>
                      <a:pt x="53" y="89"/>
                    </a:lnTo>
                    <a:lnTo>
                      <a:pt x="67" y="75"/>
                    </a:lnTo>
                    <a:lnTo>
                      <a:pt x="83" y="62"/>
                    </a:lnTo>
                    <a:lnTo>
                      <a:pt x="98" y="50"/>
                    </a:lnTo>
                    <a:lnTo>
                      <a:pt x="115" y="39"/>
                    </a:lnTo>
                    <a:lnTo>
                      <a:pt x="130" y="30"/>
                    </a:lnTo>
                    <a:lnTo>
                      <a:pt x="147" y="23"/>
                    </a:lnTo>
                    <a:lnTo>
                      <a:pt x="164" y="15"/>
                    </a:lnTo>
                    <a:lnTo>
                      <a:pt x="182" y="10"/>
                    </a:lnTo>
                    <a:lnTo>
                      <a:pt x="200" y="6"/>
                    </a:lnTo>
                    <a:lnTo>
                      <a:pt x="219" y="3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0" y="0"/>
                    </a:lnTo>
                    <a:lnTo>
                      <a:pt x="283" y="2"/>
                    </a:lnTo>
                    <a:lnTo>
                      <a:pt x="297" y="3"/>
                    </a:lnTo>
                    <a:lnTo>
                      <a:pt x="309" y="5"/>
                    </a:lnTo>
                    <a:lnTo>
                      <a:pt x="322" y="8"/>
                    </a:lnTo>
                    <a:lnTo>
                      <a:pt x="333" y="10"/>
                    </a:lnTo>
                    <a:lnTo>
                      <a:pt x="345" y="14"/>
                    </a:lnTo>
                    <a:lnTo>
                      <a:pt x="356" y="18"/>
                    </a:lnTo>
                    <a:lnTo>
                      <a:pt x="368" y="24"/>
                    </a:lnTo>
                    <a:lnTo>
                      <a:pt x="379" y="29"/>
                    </a:lnTo>
                    <a:lnTo>
                      <a:pt x="390" y="35"/>
                    </a:lnTo>
                    <a:lnTo>
                      <a:pt x="400" y="41"/>
                    </a:lnTo>
                    <a:lnTo>
                      <a:pt x="410" y="49"/>
                    </a:lnTo>
                    <a:lnTo>
                      <a:pt x="420" y="56"/>
                    </a:lnTo>
                    <a:lnTo>
                      <a:pt x="429" y="65"/>
                    </a:lnTo>
                    <a:lnTo>
                      <a:pt x="438" y="73"/>
                    </a:lnTo>
                    <a:lnTo>
                      <a:pt x="448" y="82"/>
                    </a:lnTo>
                    <a:lnTo>
                      <a:pt x="455" y="93"/>
                    </a:lnTo>
                    <a:lnTo>
                      <a:pt x="464" y="102"/>
                    </a:lnTo>
                    <a:lnTo>
                      <a:pt x="470" y="113"/>
                    </a:lnTo>
                    <a:lnTo>
                      <a:pt x="477" y="123"/>
                    </a:lnTo>
                    <a:lnTo>
                      <a:pt x="483" y="134"/>
                    </a:lnTo>
                    <a:lnTo>
                      <a:pt x="488" y="145"/>
                    </a:lnTo>
                    <a:lnTo>
                      <a:pt x="493" y="156"/>
                    </a:lnTo>
                    <a:lnTo>
                      <a:pt x="497" y="167"/>
                    </a:lnTo>
                    <a:lnTo>
                      <a:pt x="502" y="180"/>
                    </a:lnTo>
                    <a:lnTo>
                      <a:pt x="504" y="192"/>
                    </a:lnTo>
                    <a:lnTo>
                      <a:pt x="507" y="204"/>
                    </a:lnTo>
                    <a:lnTo>
                      <a:pt x="509" y="217"/>
                    </a:lnTo>
                    <a:lnTo>
                      <a:pt x="510" y="230"/>
                    </a:lnTo>
                    <a:lnTo>
                      <a:pt x="511" y="243"/>
                    </a:lnTo>
                    <a:lnTo>
                      <a:pt x="511" y="257"/>
                    </a:lnTo>
                    <a:lnTo>
                      <a:pt x="510" y="278"/>
                    </a:lnTo>
                    <a:lnTo>
                      <a:pt x="507" y="299"/>
                    </a:lnTo>
                    <a:lnTo>
                      <a:pt x="502" y="321"/>
                    </a:lnTo>
                    <a:lnTo>
                      <a:pt x="494" y="344"/>
                    </a:lnTo>
                    <a:lnTo>
                      <a:pt x="485" y="368"/>
                    </a:lnTo>
                    <a:lnTo>
                      <a:pt x="473" y="392"/>
                    </a:lnTo>
                    <a:lnTo>
                      <a:pt x="459" y="417"/>
                    </a:lnTo>
                    <a:lnTo>
                      <a:pt x="445" y="443"/>
                    </a:lnTo>
                    <a:lnTo>
                      <a:pt x="441" y="449"/>
                    </a:lnTo>
                    <a:lnTo>
                      <a:pt x="436" y="455"/>
                    </a:lnTo>
                    <a:lnTo>
                      <a:pt x="433" y="460"/>
                    </a:lnTo>
                    <a:lnTo>
                      <a:pt x="429" y="466"/>
                    </a:lnTo>
                    <a:lnTo>
                      <a:pt x="427" y="471"/>
                    </a:lnTo>
                    <a:lnTo>
                      <a:pt x="424" y="475"/>
                    </a:lnTo>
                    <a:lnTo>
                      <a:pt x="422" y="479"/>
                    </a:lnTo>
                    <a:lnTo>
                      <a:pt x="420" y="482"/>
                    </a:lnTo>
                    <a:lnTo>
                      <a:pt x="415" y="490"/>
                    </a:lnTo>
                    <a:lnTo>
                      <a:pt x="412" y="496"/>
                    </a:lnTo>
                    <a:lnTo>
                      <a:pt x="409" y="504"/>
                    </a:lnTo>
                    <a:lnTo>
                      <a:pt x="406" y="512"/>
                    </a:lnTo>
                    <a:lnTo>
                      <a:pt x="403" y="520"/>
                    </a:lnTo>
                    <a:lnTo>
                      <a:pt x="401" y="530"/>
                    </a:lnTo>
                    <a:lnTo>
                      <a:pt x="399" y="538"/>
                    </a:lnTo>
                    <a:lnTo>
                      <a:pt x="396" y="548"/>
                    </a:lnTo>
                    <a:lnTo>
                      <a:pt x="394" y="558"/>
                    </a:lnTo>
                    <a:lnTo>
                      <a:pt x="393" y="569"/>
                    </a:lnTo>
                    <a:lnTo>
                      <a:pt x="391" y="579"/>
                    </a:lnTo>
                    <a:lnTo>
                      <a:pt x="390" y="591"/>
                    </a:lnTo>
                    <a:lnTo>
                      <a:pt x="389" y="602"/>
                    </a:lnTo>
                    <a:lnTo>
                      <a:pt x="389" y="615"/>
                    </a:lnTo>
                    <a:lnTo>
                      <a:pt x="389" y="627"/>
                    </a:lnTo>
                    <a:lnTo>
                      <a:pt x="388" y="640"/>
                    </a:lnTo>
                    <a:lnTo>
                      <a:pt x="388" y="718"/>
                    </a:lnTo>
                    <a:lnTo>
                      <a:pt x="145" y="718"/>
                    </a:lnTo>
                    <a:close/>
                    <a:moveTo>
                      <a:pt x="145" y="1035"/>
                    </a:moveTo>
                    <a:lnTo>
                      <a:pt x="145" y="776"/>
                    </a:lnTo>
                    <a:lnTo>
                      <a:pt x="388" y="776"/>
                    </a:lnTo>
                    <a:lnTo>
                      <a:pt x="388" y="1035"/>
                    </a:lnTo>
                    <a:lnTo>
                      <a:pt x="145" y="103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094200" y="4686480"/>
                <a:ext cx="214200" cy="32040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8" y="0"/>
                    </a:lnTo>
                    <a:lnTo>
                      <a:pt x="646" y="0"/>
                    </a:lnTo>
                    <a:lnTo>
                      <a:pt x="673" y="255"/>
                    </a:lnTo>
                    <a:lnTo>
                      <a:pt x="468" y="25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06680" y="4767120"/>
                <a:ext cx="152640" cy="157320"/>
              </a:xfrm>
              <a:custGeom>
                <a:avLst/>
                <a:gdLst/>
                <a:ahLst/>
                <a:rect l="l" t="t" r="r" b="b"/>
                <a:pathLst>
                  <a:path w="482" h="499">
                    <a:moveTo>
                      <a:pt x="241" y="0"/>
                    </a:moveTo>
                    <a:lnTo>
                      <a:pt x="228" y="0"/>
                    </a:lnTo>
                    <a:lnTo>
                      <a:pt x="216" y="1"/>
                    </a:lnTo>
                    <a:lnTo>
                      <a:pt x="204" y="2"/>
                    </a:lnTo>
                    <a:lnTo>
                      <a:pt x="191" y="4"/>
                    </a:lnTo>
                    <a:lnTo>
                      <a:pt x="180" y="6"/>
                    </a:lnTo>
                    <a:lnTo>
                      <a:pt x="169" y="9"/>
                    </a:lnTo>
                    <a:lnTo>
                      <a:pt x="158" y="13"/>
                    </a:lnTo>
                    <a:lnTo>
                      <a:pt x="147" y="17"/>
                    </a:lnTo>
                    <a:lnTo>
                      <a:pt x="137" y="22"/>
                    </a:lnTo>
                    <a:lnTo>
                      <a:pt x="126" y="28"/>
                    </a:lnTo>
                    <a:lnTo>
                      <a:pt x="116" y="33"/>
                    </a:lnTo>
                    <a:lnTo>
                      <a:pt x="106" y="40"/>
                    </a:lnTo>
                    <a:lnTo>
                      <a:pt x="97" y="47"/>
                    </a:lnTo>
                    <a:lnTo>
                      <a:pt x="87" y="54"/>
                    </a:lnTo>
                    <a:lnTo>
                      <a:pt x="78" y="63"/>
                    </a:lnTo>
                    <a:lnTo>
                      <a:pt x="70" y="71"/>
                    </a:lnTo>
                    <a:lnTo>
                      <a:pt x="61" y="80"/>
                    </a:lnTo>
                    <a:lnTo>
                      <a:pt x="54" y="90"/>
                    </a:lnTo>
                    <a:lnTo>
                      <a:pt x="46" y="99"/>
                    </a:lnTo>
                    <a:lnTo>
                      <a:pt x="39" y="110"/>
                    </a:lnTo>
                    <a:lnTo>
                      <a:pt x="33" y="119"/>
                    </a:lnTo>
                    <a:lnTo>
                      <a:pt x="27" y="130"/>
                    </a:lnTo>
                    <a:lnTo>
                      <a:pt x="22" y="141"/>
                    </a:lnTo>
                    <a:lnTo>
                      <a:pt x="18" y="152"/>
                    </a:lnTo>
                    <a:lnTo>
                      <a:pt x="14" y="163"/>
                    </a:lnTo>
                    <a:lnTo>
                      <a:pt x="11" y="175"/>
                    </a:lnTo>
                    <a:lnTo>
                      <a:pt x="8" y="187"/>
                    </a:lnTo>
                    <a:lnTo>
                      <a:pt x="4" y="199"/>
                    </a:lnTo>
                    <a:lnTo>
                      <a:pt x="3" y="211"/>
                    </a:lnTo>
                    <a:lnTo>
                      <a:pt x="1" y="223"/>
                    </a:lnTo>
                    <a:lnTo>
                      <a:pt x="1" y="237"/>
                    </a:lnTo>
                    <a:lnTo>
                      <a:pt x="0" y="250"/>
                    </a:lnTo>
                    <a:lnTo>
                      <a:pt x="1" y="263"/>
                    </a:lnTo>
                    <a:lnTo>
                      <a:pt x="1" y="276"/>
                    </a:lnTo>
                    <a:lnTo>
                      <a:pt x="3" y="288"/>
                    </a:lnTo>
                    <a:lnTo>
                      <a:pt x="4" y="301"/>
                    </a:lnTo>
                    <a:lnTo>
                      <a:pt x="8" y="313"/>
                    </a:lnTo>
                    <a:lnTo>
                      <a:pt x="10" y="324"/>
                    </a:lnTo>
                    <a:lnTo>
                      <a:pt x="14" y="336"/>
                    </a:lnTo>
                    <a:lnTo>
                      <a:pt x="18" y="347"/>
                    </a:lnTo>
                    <a:lnTo>
                      <a:pt x="22" y="359"/>
                    </a:lnTo>
                    <a:lnTo>
                      <a:pt x="27" y="369"/>
                    </a:lnTo>
                    <a:lnTo>
                      <a:pt x="33" y="380"/>
                    </a:lnTo>
                    <a:lnTo>
                      <a:pt x="39" y="389"/>
                    </a:lnTo>
                    <a:lnTo>
                      <a:pt x="45" y="400"/>
                    </a:lnTo>
                    <a:lnTo>
                      <a:pt x="53" y="409"/>
                    </a:lnTo>
                    <a:lnTo>
                      <a:pt x="61" y="419"/>
                    </a:lnTo>
                    <a:lnTo>
                      <a:pt x="70" y="428"/>
                    </a:lnTo>
                    <a:lnTo>
                      <a:pt x="78" y="436"/>
                    </a:lnTo>
                    <a:lnTo>
                      <a:pt x="87" y="445"/>
                    </a:lnTo>
                    <a:lnTo>
                      <a:pt x="96" y="452"/>
                    </a:lnTo>
                    <a:lnTo>
                      <a:pt x="105" y="458"/>
                    </a:lnTo>
                    <a:lnTo>
                      <a:pt x="116" y="466"/>
                    </a:lnTo>
                    <a:lnTo>
                      <a:pt x="125" y="471"/>
                    </a:lnTo>
                    <a:lnTo>
                      <a:pt x="136" y="476"/>
                    </a:lnTo>
                    <a:lnTo>
                      <a:pt x="146" y="482"/>
                    </a:lnTo>
                    <a:lnTo>
                      <a:pt x="158" y="486"/>
                    </a:lnTo>
                    <a:lnTo>
                      <a:pt x="168" y="489"/>
                    </a:lnTo>
                    <a:lnTo>
                      <a:pt x="180" y="492"/>
                    </a:lnTo>
                    <a:lnTo>
                      <a:pt x="191" y="495"/>
                    </a:lnTo>
                    <a:lnTo>
                      <a:pt x="203" y="497"/>
                    </a:lnTo>
                    <a:lnTo>
                      <a:pt x="216" y="498"/>
                    </a:lnTo>
                    <a:lnTo>
                      <a:pt x="228" y="499"/>
                    </a:lnTo>
                    <a:lnTo>
                      <a:pt x="241" y="499"/>
                    </a:lnTo>
                    <a:lnTo>
                      <a:pt x="253" y="499"/>
                    </a:lnTo>
                    <a:lnTo>
                      <a:pt x="266" y="498"/>
                    </a:lnTo>
                    <a:lnTo>
                      <a:pt x="278" y="497"/>
                    </a:lnTo>
                    <a:lnTo>
                      <a:pt x="290" y="495"/>
                    </a:lnTo>
                    <a:lnTo>
                      <a:pt x="302" y="492"/>
                    </a:lnTo>
                    <a:lnTo>
                      <a:pt x="312" y="489"/>
                    </a:lnTo>
                    <a:lnTo>
                      <a:pt x="324" y="486"/>
                    </a:lnTo>
                    <a:lnTo>
                      <a:pt x="334" y="482"/>
                    </a:lnTo>
                    <a:lnTo>
                      <a:pt x="345" y="476"/>
                    </a:lnTo>
                    <a:lnTo>
                      <a:pt x="355" y="471"/>
                    </a:lnTo>
                    <a:lnTo>
                      <a:pt x="366" y="466"/>
                    </a:lnTo>
                    <a:lnTo>
                      <a:pt x="375" y="458"/>
                    </a:lnTo>
                    <a:lnTo>
                      <a:pt x="385" y="452"/>
                    </a:lnTo>
                    <a:lnTo>
                      <a:pt x="394" y="444"/>
                    </a:lnTo>
                    <a:lnTo>
                      <a:pt x="404" y="436"/>
                    </a:lnTo>
                    <a:lnTo>
                      <a:pt x="412" y="427"/>
                    </a:lnTo>
                    <a:lnTo>
                      <a:pt x="421" y="419"/>
                    </a:lnTo>
                    <a:lnTo>
                      <a:pt x="428" y="409"/>
                    </a:lnTo>
                    <a:lnTo>
                      <a:pt x="435" y="399"/>
                    </a:lnTo>
                    <a:lnTo>
                      <a:pt x="443" y="389"/>
                    </a:lnTo>
                    <a:lnTo>
                      <a:pt x="449" y="379"/>
                    </a:lnTo>
                    <a:lnTo>
                      <a:pt x="454" y="368"/>
                    </a:lnTo>
                    <a:lnTo>
                      <a:pt x="460" y="358"/>
                    </a:lnTo>
                    <a:lnTo>
                      <a:pt x="464" y="347"/>
                    </a:lnTo>
                    <a:lnTo>
                      <a:pt x="468" y="336"/>
                    </a:lnTo>
                    <a:lnTo>
                      <a:pt x="471" y="324"/>
                    </a:lnTo>
                    <a:lnTo>
                      <a:pt x="474" y="313"/>
                    </a:lnTo>
                    <a:lnTo>
                      <a:pt x="477" y="300"/>
                    </a:lnTo>
                    <a:lnTo>
                      <a:pt x="478" y="288"/>
                    </a:lnTo>
                    <a:lnTo>
                      <a:pt x="481" y="276"/>
                    </a:lnTo>
                    <a:lnTo>
                      <a:pt x="481" y="263"/>
                    </a:lnTo>
                    <a:lnTo>
                      <a:pt x="482" y="250"/>
                    </a:lnTo>
                    <a:lnTo>
                      <a:pt x="481" y="237"/>
                    </a:lnTo>
                    <a:lnTo>
                      <a:pt x="481" y="223"/>
                    </a:lnTo>
                    <a:lnTo>
                      <a:pt x="478" y="212"/>
                    </a:lnTo>
                    <a:lnTo>
                      <a:pt x="477" y="199"/>
                    </a:lnTo>
                    <a:lnTo>
                      <a:pt x="474" y="187"/>
                    </a:lnTo>
                    <a:lnTo>
                      <a:pt x="471" y="175"/>
                    </a:lnTo>
                    <a:lnTo>
                      <a:pt x="468" y="163"/>
                    </a:lnTo>
                    <a:lnTo>
                      <a:pt x="464" y="153"/>
                    </a:lnTo>
                    <a:lnTo>
                      <a:pt x="460" y="141"/>
                    </a:lnTo>
                    <a:lnTo>
                      <a:pt x="454" y="131"/>
                    </a:lnTo>
                    <a:lnTo>
                      <a:pt x="449" y="120"/>
                    </a:lnTo>
                    <a:lnTo>
                      <a:pt x="443" y="110"/>
                    </a:lnTo>
                    <a:lnTo>
                      <a:pt x="435" y="100"/>
                    </a:lnTo>
                    <a:lnTo>
                      <a:pt x="428" y="91"/>
                    </a:lnTo>
                    <a:lnTo>
                      <a:pt x="421" y="82"/>
                    </a:lnTo>
                    <a:lnTo>
                      <a:pt x="412" y="72"/>
                    </a:lnTo>
                    <a:lnTo>
                      <a:pt x="404" y="63"/>
                    </a:lnTo>
                    <a:lnTo>
                      <a:pt x="394" y="55"/>
                    </a:lnTo>
                    <a:lnTo>
                      <a:pt x="385" y="47"/>
                    </a:lnTo>
                    <a:lnTo>
                      <a:pt x="375" y="41"/>
                    </a:lnTo>
                    <a:lnTo>
                      <a:pt x="366" y="33"/>
                    </a:lnTo>
                    <a:lnTo>
                      <a:pt x="355" y="28"/>
                    </a:lnTo>
                    <a:lnTo>
                      <a:pt x="345" y="23"/>
                    </a:lnTo>
                    <a:lnTo>
                      <a:pt x="334" y="17"/>
                    </a:lnTo>
                    <a:lnTo>
                      <a:pt x="324" y="13"/>
                    </a:lnTo>
                    <a:lnTo>
                      <a:pt x="312" y="9"/>
                    </a:lnTo>
                    <a:lnTo>
                      <a:pt x="302" y="7"/>
                    </a:lnTo>
                    <a:lnTo>
                      <a:pt x="290" y="4"/>
                    </a:lnTo>
                    <a:lnTo>
                      <a:pt x="278" y="2"/>
                    </a:lnTo>
                    <a:lnTo>
                      <a:pt x="266" y="1"/>
                    </a:lnTo>
                    <a:lnTo>
                      <a:pt x="253" y="0"/>
                    </a:lnTo>
                    <a:lnTo>
                      <a:pt x="24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321000" y="4676760"/>
                <a:ext cx="32400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4" y="1"/>
                    </a:lnTo>
                    <a:lnTo>
                      <a:pt x="558" y="2"/>
                    </a:lnTo>
                    <a:lnTo>
                      <a:pt x="581" y="5"/>
                    </a:lnTo>
                    <a:lnTo>
                      <a:pt x="604" y="9"/>
                    </a:lnTo>
                    <a:lnTo>
                      <a:pt x="626" y="14"/>
                    </a:lnTo>
                    <a:lnTo>
                      <a:pt x="649" y="19"/>
                    </a:lnTo>
                    <a:lnTo>
                      <a:pt x="671" y="25"/>
                    </a:lnTo>
                    <a:lnTo>
                      <a:pt x="693" y="33"/>
                    </a:lnTo>
                    <a:lnTo>
                      <a:pt x="714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4" y="73"/>
                    </a:lnTo>
                    <a:lnTo>
                      <a:pt x="793" y="84"/>
                    </a:lnTo>
                    <a:lnTo>
                      <a:pt x="810" y="98"/>
                    </a:lnTo>
                    <a:lnTo>
                      <a:pt x="827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7" y="235"/>
                    </a:lnTo>
                    <a:lnTo>
                      <a:pt x="951" y="260"/>
                    </a:lnTo>
                    <a:lnTo>
                      <a:pt x="965" y="285"/>
                    </a:lnTo>
                    <a:lnTo>
                      <a:pt x="978" y="310"/>
                    </a:lnTo>
                    <a:lnTo>
                      <a:pt x="988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7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6" y="618"/>
                    </a:lnTo>
                    <a:lnTo>
                      <a:pt x="1012" y="646"/>
                    </a:lnTo>
                    <a:lnTo>
                      <a:pt x="1005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6" y="754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3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7" y="954"/>
                    </a:lnTo>
                    <a:lnTo>
                      <a:pt x="809" y="967"/>
                    </a:lnTo>
                    <a:lnTo>
                      <a:pt x="791" y="980"/>
                    </a:lnTo>
                    <a:lnTo>
                      <a:pt x="773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3" y="1023"/>
                    </a:lnTo>
                    <a:lnTo>
                      <a:pt x="692" y="1031"/>
                    </a:lnTo>
                    <a:lnTo>
                      <a:pt x="670" y="1040"/>
                    </a:lnTo>
                    <a:lnTo>
                      <a:pt x="649" y="1046"/>
                    </a:lnTo>
                    <a:lnTo>
                      <a:pt x="625" y="1051"/>
                    </a:lnTo>
                    <a:lnTo>
                      <a:pt x="603" y="1055"/>
                    </a:lnTo>
                    <a:lnTo>
                      <a:pt x="580" y="1060"/>
                    </a:lnTo>
                    <a:lnTo>
                      <a:pt x="557" y="1062"/>
                    </a:lnTo>
                    <a:lnTo>
                      <a:pt x="534" y="1064"/>
                    </a:lnTo>
                    <a:lnTo>
                      <a:pt x="511" y="1064"/>
                    </a:lnTo>
                    <a:lnTo>
                      <a:pt x="487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7" y="1055"/>
                    </a:lnTo>
                    <a:lnTo>
                      <a:pt x="395" y="1051"/>
                    </a:lnTo>
                    <a:lnTo>
                      <a:pt x="373" y="1046"/>
                    </a:lnTo>
                    <a:lnTo>
                      <a:pt x="351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8" y="1013"/>
                    </a:lnTo>
                    <a:lnTo>
                      <a:pt x="268" y="1004"/>
                    </a:lnTo>
                    <a:lnTo>
                      <a:pt x="249" y="992"/>
                    </a:lnTo>
                    <a:lnTo>
                      <a:pt x="230" y="980"/>
                    </a:lnTo>
                    <a:lnTo>
                      <a:pt x="212" y="967"/>
                    </a:lnTo>
                    <a:lnTo>
                      <a:pt x="194" y="954"/>
                    </a:lnTo>
                    <a:lnTo>
                      <a:pt x="178" y="939"/>
                    </a:lnTo>
                    <a:lnTo>
                      <a:pt x="157" y="919"/>
                    </a:lnTo>
                    <a:lnTo>
                      <a:pt x="138" y="898"/>
                    </a:lnTo>
                    <a:lnTo>
                      <a:pt x="119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1" y="806"/>
                    </a:lnTo>
                    <a:lnTo>
                      <a:pt x="58" y="780"/>
                    </a:lnTo>
                    <a:lnTo>
                      <a:pt x="45" y="754"/>
                    </a:lnTo>
                    <a:lnTo>
                      <a:pt x="35" y="728"/>
                    </a:lnTo>
                    <a:lnTo>
                      <a:pt x="25" y="701"/>
                    </a:lnTo>
                    <a:lnTo>
                      <a:pt x="18" y="673"/>
                    </a:lnTo>
                    <a:lnTo>
                      <a:pt x="10" y="646"/>
                    </a:lnTo>
                    <a:lnTo>
                      <a:pt x="6" y="618"/>
                    </a:lnTo>
                    <a:lnTo>
                      <a:pt x="2" y="589"/>
                    </a:lnTo>
                    <a:lnTo>
                      <a:pt x="0" y="561"/>
                    </a:lnTo>
                    <a:lnTo>
                      <a:pt x="0" y="532"/>
                    </a:lnTo>
                    <a:lnTo>
                      <a:pt x="0" y="503"/>
                    </a:lnTo>
                    <a:lnTo>
                      <a:pt x="2" y="474"/>
                    </a:lnTo>
                    <a:lnTo>
                      <a:pt x="6" y="445"/>
                    </a:lnTo>
                    <a:lnTo>
                      <a:pt x="10" y="418"/>
                    </a:lnTo>
                    <a:lnTo>
                      <a:pt x="18" y="390"/>
                    </a:lnTo>
                    <a:lnTo>
                      <a:pt x="25" y="362"/>
                    </a:lnTo>
                    <a:lnTo>
                      <a:pt x="35" y="336"/>
                    </a:lnTo>
                    <a:lnTo>
                      <a:pt x="45" y="310"/>
                    </a:lnTo>
                    <a:lnTo>
                      <a:pt x="58" y="284"/>
                    </a:lnTo>
                    <a:lnTo>
                      <a:pt x="70" y="259"/>
                    </a:lnTo>
                    <a:lnTo>
                      <a:pt x="85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7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4" y="112"/>
                    </a:lnTo>
                    <a:lnTo>
                      <a:pt x="212" y="97"/>
                    </a:lnTo>
                    <a:lnTo>
                      <a:pt x="230" y="84"/>
                    </a:lnTo>
                    <a:lnTo>
                      <a:pt x="249" y="72"/>
                    </a:lnTo>
                    <a:lnTo>
                      <a:pt x="268" y="61"/>
                    </a:lnTo>
                    <a:lnTo>
                      <a:pt x="288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1" y="25"/>
                    </a:lnTo>
                    <a:lnTo>
                      <a:pt x="373" y="19"/>
                    </a:lnTo>
                    <a:lnTo>
                      <a:pt x="395" y="13"/>
                    </a:lnTo>
                    <a:lnTo>
                      <a:pt x="417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7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08520" y="478152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0" y="340"/>
                    </a:moveTo>
                    <a:lnTo>
                      <a:pt x="208" y="340"/>
                    </a:lnTo>
                    <a:lnTo>
                      <a:pt x="104" y="0"/>
                    </a:lnTo>
                    <a:lnTo>
                      <a:pt x="0" y="34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86120" y="4686480"/>
                <a:ext cx="312840" cy="320400"/>
              </a:xfrm>
              <a:custGeom>
                <a:avLst/>
                <a:gdLst/>
                <a:ahLst/>
                <a:rect l="l" t="t" r="r" b="b"/>
                <a:pathLst>
                  <a:path w="983" h="1010">
                    <a:moveTo>
                      <a:pt x="0" y="1010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10"/>
                    </a:lnTo>
                    <a:lnTo>
                      <a:pt x="706" y="1010"/>
                    </a:lnTo>
                    <a:lnTo>
                      <a:pt x="669" y="896"/>
                    </a:lnTo>
                    <a:lnTo>
                      <a:pt x="312" y="896"/>
                    </a:lnTo>
                    <a:lnTo>
                      <a:pt x="273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38720" y="4762440"/>
                <a:ext cx="52200" cy="77760"/>
              </a:xfrm>
              <a:custGeom>
                <a:avLst/>
                <a:gdLst/>
                <a:ahLst/>
                <a:rect l="l" t="t" r="r" b="b"/>
                <a:pathLst>
                  <a:path w="166" h="245">
                    <a:moveTo>
                      <a:pt x="0" y="245"/>
                    </a:moveTo>
                    <a:lnTo>
                      <a:pt x="32" y="245"/>
                    </a:lnTo>
                    <a:lnTo>
                      <a:pt x="46" y="244"/>
                    </a:lnTo>
                    <a:lnTo>
                      <a:pt x="61" y="243"/>
                    </a:lnTo>
                    <a:lnTo>
                      <a:pt x="75" y="239"/>
                    </a:lnTo>
                    <a:lnTo>
                      <a:pt x="88" y="236"/>
                    </a:lnTo>
                    <a:lnTo>
                      <a:pt x="100" y="232"/>
                    </a:lnTo>
                    <a:lnTo>
                      <a:pt x="111" y="227"/>
                    </a:lnTo>
                    <a:lnTo>
                      <a:pt x="122" y="219"/>
                    </a:lnTo>
                    <a:lnTo>
                      <a:pt x="131" y="212"/>
                    </a:lnTo>
                    <a:lnTo>
                      <a:pt x="140" y="204"/>
                    </a:lnTo>
                    <a:lnTo>
                      <a:pt x="146" y="195"/>
                    </a:lnTo>
                    <a:lnTo>
                      <a:pt x="152" y="185"/>
                    </a:lnTo>
                    <a:lnTo>
                      <a:pt x="158" y="174"/>
                    </a:lnTo>
                    <a:lnTo>
                      <a:pt x="162" y="163"/>
                    </a:lnTo>
                    <a:lnTo>
                      <a:pt x="164" y="151"/>
                    </a:lnTo>
                    <a:lnTo>
                      <a:pt x="166" y="138"/>
                    </a:lnTo>
                    <a:lnTo>
                      <a:pt x="166" y="124"/>
                    </a:lnTo>
                    <a:lnTo>
                      <a:pt x="166" y="109"/>
                    </a:lnTo>
                    <a:lnTo>
                      <a:pt x="164" y="96"/>
                    </a:lnTo>
                    <a:lnTo>
                      <a:pt x="162" y="83"/>
                    </a:lnTo>
                    <a:lnTo>
                      <a:pt x="158" y="71"/>
                    </a:lnTo>
                    <a:lnTo>
                      <a:pt x="152" y="60"/>
                    </a:lnTo>
                    <a:lnTo>
                      <a:pt x="146" y="49"/>
                    </a:lnTo>
                    <a:lnTo>
                      <a:pt x="140" y="40"/>
                    </a:lnTo>
                    <a:lnTo>
                      <a:pt x="131" y="32"/>
                    </a:lnTo>
                    <a:lnTo>
                      <a:pt x="122" y="24"/>
                    </a:lnTo>
                    <a:lnTo>
                      <a:pt x="111" y="18"/>
                    </a:lnTo>
                    <a:lnTo>
                      <a:pt x="101" y="13"/>
                    </a:lnTo>
                    <a:lnTo>
                      <a:pt x="88" y="7"/>
                    </a:lnTo>
                    <a:lnTo>
                      <a:pt x="75" y="4"/>
                    </a:lnTo>
                    <a:lnTo>
                      <a:pt x="61" y="2"/>
                    </a:lnTo>
                    <a:lnTo>
                      <a:pt x="46" y="0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24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255920" y="4686480"/>
                <a:ext cx="219240" cy="320400"/>
              </a:xfrm>
              <a:custGeom>
                <a:avLst/>
                <a:gdLst/>
                <a:ahLst/>
                <a:rect l="l" t="t" r="r" b="b"/>
                <a:pathLst>
                  <a:path w="690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6" y="1"/>
                    </a:lnTo>
                    <a:lnTo>
                      <a:pt x="341" y="3"/>
                    </a:lnTo>
                    <a:lnTo>
                      <a:pt x="364" y="5"/>
                    </a:lnTo>
                    <a:lnTo>
                      <a:pt x="387" y="8"/>
                    </a:lnTo>
                    <a:lnTo>
                      <a:pt x="410" y="12"/>
                    </a:lnTo>
                    <a:lnTo>
                      <a:pt x="431" y="16"/>
                    </a:lnTo>
                    <a:lnTo>
                      <a:pt x="451" y="22"/>
                    </a:lnTo>
                    <a:lnTo>
                      <a:pt x="471" y="28"/>
                    </a:lnTo>
                    <a:lnTo>
                      <a:pt x="490" y="34"/>
                    </a:lnTo>
                    <a:lnTo>
                      <a:pt x="508" y="42"/>
                    </a:lnTo>
                    <a:lnTo>
                      <a:pt x="525" y="50"/>
                    </a:lnTo>
                    <a:lnTo>
                      <a:pt x="542" y="58"/>
                    </a:lnTo>
                    <a:lnTo>
                      <a:pt x="556" y="68"/>
                    </a:lnTo>
                    <a:lnTo>
                      <a:pt x="571" y="78"/>
                    </a:lnTo>
                    <a:lnTo>
                      <a:pt x="585" y="89"/>
                    </a:lnTo>
                    <a:lnTo>
                      <a:pt x="597" y="100"/>
                    </a:lnTo>
                    <a:lnTo>
                      <a:pt x="610" y="113"/>
                    </a:lnTo>
                    <a:lnTo>
                      <a:pt x="620" y="126"/>
                    </a:lnTo>
                    <a:lnTo>
                      <a:pt x="631" y="139"/>
                    </a:lnTo>
                    <a:lnTo>
                      <a:pt x="640" y="154"/>
                    </a:lnTo>
                    <a:lnTo>
                      <a:pt x="649" y="170"/>
                    </a:lnTo>
                    <a:lnTo>
                      <a:pt x="657" y="185"/>
                    </a:lnTo>
                    <a:lnTo>
                      <a:pt x="664" y="202"/>
                    </a:lnTo>
                    <a:lnTo>
                      <a:pt x="670" y="219"/>
                    </a:lnTo>
                    <a:lnTo>
                      <a:pt x="675" y="238"/>
                    </a:lnTo>
                    <a:lnTo>
                      <a:pt x="679" y="257"/>
                    </a:lnTo>
                    <a:lnTo>
                      <a:pt x="683" y="277"/>
                    </a:lnTo>
                    <a:lnTo>
                      <a:pt x="687" y="297"/>
                    </a:lnTo>
                    <a:lnTo>
                      <a:pt x="689" y="318"/>
                    </a:lnTo>
                    <a:lnTo>
                      <a:pt x="690" y="340"/>
                    </a:lnTo>
                    <a:lnTo>
                      <a:pt x="690" y="362"/>
                    </a:lnTo>
                    <a:lnTo>
                      <a:pt x="690" y="384"/>
                    </a:lnTo>
                    <a:lnTo>
                      <a:pt x="689" y="406"/>
                    </a:lnTo>
                    <a:lnTo>
                      <a:pt x="687" y="426"/>
                    </a:lnTo>
                    <a:lnTo>
                      <a:pt x="683" y="447"/>
                    </a:lnTo>
                    <a:lnTo>
                      <a:pt x="680" y="466"/>
                    </a:lnTo>
                    <a:lnTo>
                      <a:pt x="676" y="485"/>
                    </a:lnTo>
                    <a:lnTo>
                      <a:pt x="671" y="502"/>
                    </a:lnTo>
                    <a:lnTo>
                      <a:pt x="665" y="520"/>
                    </a:lnTo>
                    <a:lnTo>
                      <a:pt x="657" y="537"/>
                    </a:lnTo>
                    <a:lnTo>
                      <a:pt x="650" y="554"/>
                    </a:lnTo>
                    <a:lnTo>
                      <a:pt x="641" y="570"/>
                    </a:lnTo>
                    <a:lnTo>
                      <a:pt x="633" y="584"/>
                    </a:lnTo>
                    <a:lnTo>
                      <a:pt x="623" y="599"/>
                    </a:lnTo>
                    <a:lnTo>
                      <a:pt x="612" y="614"/>
                    </a:lnTo>
                    <a:lnTo>
                      <a:pt x="600" y="626"/>
                    </a:lnTo>
                    <a:lnTo>
                      <a:pt x="588" y="639"/>
                    </a:lnTo>
                    <a:lnTo>
                      <a:pt x="575" y="652"/>
                    </a:lnTo>
                    <a:lnTo>
                      <a:pt x="562" y="662"/>
                    </a:lnTo>
                    <a:lnTo>
                      <a:pt x="547" y="673"/>
                    </a:lnTo>
                    <a:lnTo>
                      <a:pt x="532" y="683"/>
                    </a:lnTo>
                    <a:lnTo>
                      <a:pt x="516" y="691"/>
                    </a:lnTo>
                    <a:lnTo>
                      <a:pt x="500" y="700"/>
                    </a:lnTo>
                    <a:lnTo>
                      <a:pt x="483" y="707"/>
                    </a:lnTo>
                    <a:lnTo>
                      <a:pt x="465" y="714"/>
                    </a:lnTo>
                    <a:lnTo>
                      <a:pt x="447" y="720"/>
                    </a:lnTo>
                    <a:lnTo>
                      <a:pt x="428" y="724"/>
                    </a:lnTo>
                    <a:lnTo>
                      <a:pt x="408" y="728"/>
                    </a:lnTo>
                    <a:lnTo>
                      <a:pt x="388" y="732"/>
                    </a:lnTo>
                    <a:lnTo>
                      <a:pt x="367" y="735"/>
                    </a:lnTo>
                    <a:lnTo>
                      <a:pt x="346" y="737"/>
                    </a:lnTo>
                    <a:lnTo>
                      <a:pt x="324" y="738"/>
                    </a:lnTo>
                    <a:lnTo>
                      <a:pt x="301" y="739"/>
                    </a:lnTo>
                    <a:lnTo>
                      <a:pt x="262" y="739"/>
                    </a:lnTo>
                    <a:lnTo>
                      <a:pt x="262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522680" y="4686480"/>
                <a:ext cx="82800" cy="32040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664160" y="4686480"/>
                <a:ext cx="1998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84840" y="4680000"/>
                <a:ext cx="217440" cy="331560"/>
              </a:xfrm>
              <a:custGeom>
                <a:avLst/>
                <a:gdLst/>
                <a:ahLst/>
                <a:rect l="l" t="t" r="r" b="b"/>
                <a:pathLst>
                  <a:path w="689" h="1043">
                    <a:moveTo>
                      <a:pt x="669" y="1027"/>
                    </a:moveTo>
                    <a:lnTo>
                      <a:pt x="662" y="1029"/>
                    </a:lnTo>
                    <a:lnTo>
                      <a:pt x="654" y="1031"/>
                    </a:lnTo>
                    <a:lnTo>
                      <a:pt x="646" y="1032"/>
                    </a:lnTo>
                    <a:lnTo>
                      <a:pt x="639" y="1034"/>
                    </a:lnTo>
                    <a:lnTo>
                      <a:pt x="630" y="1036"/>
                    </a:lnTo>
                    <a:lnTo>
                      <a:pt x="623" y="1037"/>
                    </a:lnTo>
                    <a:lnTo>
                      <a:pt x="614" y="1038"/>
                    </a:lnTo>
                    <a:lnTo>
                      <a:pt x="606" y="1039"/>
                    </a:lnTo>
                    <a:lnTo>
                      <a:pt x="598" y="1040"/>
                    </a:lnTo>
                    <a:lnTo>
                      <a:pt x="589" y="1041"/>
                    </a:lnTo>
                    <a:lnTo>
                      <a:pt x="581" y="1041"/>
                    </a:lnTo>
                    <a:lnTo>
                      <a:pt x="572" y="1042"/>
                    </a:lnTo>
                    <a:lnTo>
                      <a:pt x="563" y="1042"/>
                    </a:lnTo>
                    <a:lnTo>
                      <a:pt x="553" y="1043"/>
                    </a:lnTo>
                    <a:lnTo>
                      <a:pt x="544" y="1043"/>
                    </a:lnTo>
                    <a:lnTo>
                      <a:pt x="535" y="1043"/>
                    </a:lnTo>
                    <a:lnTo>
                      <a:pt x="505" y="1043"/>
                    </a:lnTo>
                    <a:lnTo>
                      <a:pt x="476" y="1041"/>
                    </a:lnTo>
                    <a:lnTo>
                      <a:pt x="448" y="1038"/>
                    </a:lnTo>
                    <a:lnTo>
                      <a:pt x="421" y="1035"/>
                    </a:lnTo>
                    <a:lnTo>
                      <a:pt x="394" y="1030"/>
                    </a:lnTo>
                    <a:lnTo>
                      <a:pt x="367" y="1023"/>
                    </a:lnTo>
                    <a:lnTo>
                      <a:pt x="342" y="1016"/>
                    </a:lnTo>
                    <a:lnTo>
                      <a:pt x="318" y="1008"/>
                    </a:lnTo>
                    <a:lnTo>
                      <a:pt x="294" y="998"/>
                    </a:lnTo>
                    <a:lnTo>
                      <a:pt x="271" y="988"/>
                    </a:lnTo>
                    <a:lnTo>
                      <a:pt x="249" y="976"/>
                    </a:lnTo>
                    <a:lnTo>
                      <a:pt x="228" y="964"/>
                    </a:lnTo>
                    <a:lnTo>
                      <a:pt x="207" y="949"/>
                    </a:lnTo>
                    <a:lnTo>
                      <a:pt x="186" y="934"/>
                    </a:lnTo>
                    <a:lnTo>
                      <a:pt x="167" y="918"/>
                    </a:lnTo>
                    <a:lnTo>
                      <a:pt x="148" y="901"/>
                    </a:lnTo>
                    <a:lnTo>
                      <a:pt x="130" y="883"/>
                    </a:lnTo>
                    <a:lnTo>
                      <a:pt x="113" y="864"/>
                    </a:lnTo>
                    <a:lnTo>
                      <a:pt x="97" y="844"/>
                    </a:lnTo>
                    <a:lnTo>
                      <a:pt x="83" y="824"/>
                    </a:lnTo>
                    <a:lnTo>
                      <a:pt x="70" y="803"/>
                    </a:lnTo>
                    <a:lnTo>
                      <a:pt x="57" y="782"/>
                    </a:lnTo>
                    <a:lnTo>
                      <a:pt x="47" y="759"/>
                    </a:lnTo>
                    <a:lnTo>
                      <a:pt x="36" y="737"/>
                    </a:lnTo>
                    <a:lnTo>
                      <a:pt x="28" y="713"/>
                    </a:lnTo>
                    <a:lnTo>
                      <a:pt x="21" y="689"/>
                    </a:lnTo>
                    <a:lnTo>
                      <a:pt x="14" y="663"/>
                    </a:lnTo>
                    <a:lnTo>
                      <a:pt x="9" y="638"/>
                    </a:lnTo>
                    <a:lnTo>
                      <a:pt x="5" y="612"/>
                    </a:lnTo>
                    <a:lnTo>
                      <a:pt x="2" y="585"/>
                    </a:lnTo>
                    <a:lnTo>
                      <a:pt x="1" y="557"/>
                    </a:lnTo>
                    <a:lnTo>
                      <a:pt x="0" y="529"/>
                    </a:lnTo>
                    <a:lnTo>
                      <a:pt x="1" y="501"/>
                    </a:lnTo>
                    <a:lnTo>
                      <a:pt x="3" y="473"/>
                    </a:lnTo>
                    <a:lnTo>
                      <a:pt x="5" y="446"/>
                    </a:lnTo>
                    <a:lnTo>
                      <a:pt x="9" y="419"/>
                    </a:lnTo>
                    <a:lnTo>
                      <a:pt x="14" y="393"/>
                    </a:lnTo>
                    <a:lnTo>
                      <a:pt x="22" y="368"/>
                    </a:lnTo>
                    <a:lnTo>
                      <a:pt x="29" y="343"/>
                    </a:lnTo>
                    <a:lnTo>
                      <a:pt x="38" y="319"/>
                    </a:lnTo>
                    <a:lnTo>
                      <a:pt x="48" y="296"/>
                    </a:lnTo>
                    <a:lnTo>
                      <a:pt x="59" y="273"/>
                    </a:lnTo>
                    <a:lnTo>
                      <a:pt x="72" y="251"/>
                    </a:lnTo>
                    <a:lnTo>
                      <a:pt x="86" y="230"/>
                    </a:lnTo>
                    <a:lnTo>
                      <a:pt x="100" y="209"/>
                    </a:lnTo>
                    <a:lnTo>
                      <a:pt x="117" y="188"/>
                    </a:lnTo>
                    <a:lnTo>
                      <a:pt x="134" y="169"/>
                    </a:lnTo>
                    <a:lnTo>
                      <a:pt x="153" y="149"/>
                    </a:lnTo>
                    <a:lnTo>
                      <a:pt x="173" y="131"/>
                    </a:lnTo>
                    <a:lnTo>
                      <a:pt x="193" y="114"/>
                    </a:lnTo>
                    <a:lnTo>
                      <a:pt x="213" y="98"/>
                    </a:lnTo>
                    <a:lnTo>
                      <a:pt x="235" y="84"/>
                    </a:lnTo>
                    <a:lnTo>
                      <a:pt x="257" y="70"/>
                    </a:lnTo>
                    <a:lnTo>
                      <a:pt x="280" y="57"/>
                    </a:lnTo>
                    <a:lnTo>
                      <a:pt x="303" y="47"/>
                    </a:lnTo>
                    <a:lnTo>
                      <a:pt x="327" y="36"/>
                    </a:lnTo>
                    <a:lnTo>
                      <a:pt x="352" y="28"/>
                    </a:lnTo>
                    <a:lnTo>
                      <a:pt x="377" y="21"/>
                    </a:lnTo>
                    <a:lnTo>
                      <a:pt x="403" y="14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2"/>
                    </a:lnTo>
                    <a:lnTo>
                      <a:pt x="514" y="0"/>
                    </a:lnTo>
                    <a:lnTo>
                      <a:pt x="543" y="0"/>
                    </a:lnTo>
                    <a:lnTo>
                      <a:pt x="550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1" y="0"/>
                    </a:lnTo>
                    <a:lnTo>
                      <a:pt x="579" y="1"/>
                    </a:lnTo>
                    <a:lnTo>
                      <a:pt x="586" y="2"/>
                    </a:lnTo>
                    <a:lnTo>
                      <a:pt x="593" y="2"/>
                    </a:lnTo>
                    <a:lnTo>
                      <a:pt x="602" y="3"/>
                    </a:lnTo>
                    <a:lnTo>
                      <a:pt x="609" y="4"/>
                    </a:lnTo>
                    <a:lnTo>
                      <a:pt x="617" y="5"/>
                    </a:lnTo>
                    <a:lnTo>
                      <a:pt x="625" y="6"/>
                    </a:lnTo>
                    <a:lnTo>
                      <a:pt x="632" y="7"/>
                    </a:lnTo>
                    <a:lnTo>
                      <a:pt x="641" y="9"/>
                    </a:lnTo>
                    <a:lnTo>
                      <a:pt x="648" y="10"/>
                    </a:lnTo>
                    <a:lnTo>
                      <a:pt x="656" y="12"/>
                    </a:lnTo>
                    <a:lnTo>
                      <a:pt x="665" y="13"/>
                    </a:lnTo>
                    <a:lnTo>
                      <a:pt x="679" y="313"/>
                    </a:lnTo>
                    <a:lnTo>
                      <a:pt x="669" y="309"/>
                    </a:lnTo>
                    <a:lnTo>
                      <a:pt x="661" y="305"/>
                    </a:lnTo>
                    <a:lnTo>
                      <a:pt x="651" y="302"/>
                    </a:lnTo>
                    <a:lnTo>
                      <a:pt x="643" y="299"/>
                    </a:lnTo>
                    <a:lnTo>
                      <a:pt x="634" y="297"/>
                    </a:lnTo>
                    <a:lnTo>
                      <a:pt x="625" y="294"/>
                    </a:lnTo>
                    <a:lnTo>
                      <a:pt x="617" y="292"/>
                    </a:lnTo>
                    <a:lnTo>
                      <a:pt x="608" y="290"/>
                    </a:lnTo>
                    <a:lnTo>
                      <a:pt x="599" y="287"/>
                    </a:lnTo>
                    <a:lnTo>
                      <a:pt x="590" y="286"/>
                    </a:lnTo>
                    <a:lnTo>
                      <a:pt x="582" y="285"/>
                    </a:lnTo>
                    <a:lnTo>
                      <a:pt x="573" y="284"/>
                    </a:lnTo>
                    <a:lnTo>
                      <a:pt x="565" y="283"/>
                    </a:lnTo>
                    <a:lnTo>
                      <a:pt x="557" y="282"/>
                    </a:lnTo>
                    <a:lnTo>
                      <a:pt x="548" y="282"/>
                    </a:lnTo>
                    <a:lnTo>
                      <a:pt x="541" y="282"/>
                    </a:lnTo>
                    <a:lnTo>
                      <a:pt x="526" y="282"/>
                    </a:lnTo>
                    <a:lnTo>
                      <a:pt x="511" y="283"/>
                    </a:lnTo>
                    <a:lnTo>
                      <a:pt x="498" y="284"/>
                    </a:lnTo>
                    <a:lnTo>
                      <a:pt x="484" y="286"/>
                    </a:lnTo>
                    <a:lnTo>
                      <a:pt x="470" y="288"/>
                    </a:lnTo>
                    <a:lnTo>
                      <a:pt x="458" y="292"/>
                    </a:lnTo>
                    <a:lnTo>
                      <a:pt x="445" y="295"/>
                    </a:lnTo>
                    <a:lnTo>
                      <a:pt x="433" y="299"/>
                    </a:lnTo>
                    <a:lnTo>
                      <a:pt x="421" y="303"/>
                    </a:lnTo>
                    <a:lnTo>
                      <a:pt x="409" y="308"/>
                    </a:lnTo>
                    <a:lnTo>
                      <a:pt x="398" y="314"/>
                    </a:lnTo>
                    <a:lnTo>
                      <a:pt x="387" y="320"/>
                    </a:lnTo>
                    <a:lnTo>
                      <a:pt x="376" y="326"/>
                    </a:lnTo>
                    <a:lnTo>
                      <a:pt x="366" y="334"/>
                    </a:lnTo>
                    <a:lnTo>
                      <a:pt x="356" y="341"/>
                    </a:lnTo>
                    <a:lnTo>
                      <a:pt x="346" y="349"/>
                    </a:lnTo>
                    <a:lnTo>
                      <a:pt x="338" y="358"/>
                    </a:lnTo>
                    <a:lnTo>
                      <a:pt x="330" y="366"/>
                    </a:lnTo>
                    <a:lnTo>
                      <a:pt x="321" y="376"/>
                    </a:lnTo>
                    <a:lnTo>
                      <a:pt x="314" y="385"/>
                    </a:lnTo>
                    <a:lnTo>
                      <a:pt x="308" y="395"/>
                    </a:lnTo>
                    <a:lnTo>
                      <a:pt x="301" y="404"/>
                    </a:lnTo>
                    <a:lnTo>
                      <a:pt x="296" y="414"/>
                    </a:lnTo>
                    <a:lnTo>
                      <a:pt x="291" y="425"/>
                    </a:lnTo>
                    <a:lnTo>
                      <a:pt x="287" y="435"/>
                    </a:lnTo>
                    <a:lnTo>
                      <a:pt x="282" y="447"/>
                    </a:lnTo>
                    <a:lnTo>
                      <a:pt x="279" y="459"/>
                    </a:lnTo>
                    <a:lnTo>
                      <a:pt x="276" y="470"/>
                    </a:lnTo>
                    <a:lnTo>
                      <a:pt x="274" y="482"/>
                    </a:lnTo>
                    <a:lnTo>
                      <a:pt x="273" y="494"/>
                    </a:lnTo>
                    <a:lnTo>
                      <a:pt x="272" y="507"/>
                    </a:lnTo>
                    <a:lnTo>
                      <a:pt x="272" y="519"/>
                    </a:lnTo>
                    <a:lnTo>
                      <a:pt x="272" y="532"/>
                    </a:lnTo>
                    <a:lnTo>
                      <a:pt x="273" y="545"/>
                    </a:lnTo>
                    <a:lnTo>
                      <a:pt x="274" y="557"/>
                    </a:lnTo>
                    <a:lnTo>
                      <a:pt x="276" y="569"/>
                    </a:lnTo>
                    <a:lnTo>
                      <a:pt x="279" y="580"/>
                    </a:lnTo>
                    <a:lnTo>
                      <a:pt x="282" y="592"/>
                    </a:lnTo>
                    <a:lnTo>
                      <a:pt x="285" y="602"/>
                    </a:lnTo>
                    <a:lnTo>
                      <a:pt x="291" y="614"/>
                    </a:lnTo>
                    <a:lnTo>
                      <a:pt x="295" y="624"/>
                    </a:lnTo>
                    <a:lnTo>
                      <a:pt x="301" y="635"/>
                    </a:lnTo>
                    <a:lnTo>
                      <a:pt x="306" y="644"/>
                    </a:lnTo>
                    <a:lnTo>
                      <a:pt x="314" y="655"/>
                    </a:lnTo>
                    <a:lnTo>
                      <a:pt x="321" y="664"/>
                    </a:lnTo>
                    <a:lnTo>
                      <a:pt x="329" y="674"/>
                    </a:lnTo>
                    <a:lnTo>
                      <a:pt x="337" y="682"/>
                    </a:lnTo>
                    <a:lnTo>
                      <a:pt x="346" y="692"/>
                    </a:lnTo>
                    <a:lnTo>
                      <a:pt x="356" y="700"/>
                    </a:lnTo>
                    <a:lnTo>
                      <a:pt x="365" y="707"/>
                    </a:lnTo>
                    <a:lnTo>
                      <a:pt x="375" y="715"/>
                    </a:lnTo>
                    <a:lnTo>
                      <a:pt x="385" y="722"/>
                    </a:lnTo>
                    <a:lnTo>
                      <a:pt x="396" y="728"/>
                    </a:lnTo>
                    <a:lnTo>
                      <a:pt x="407" y="734"/>
                    </a:lnTo>
                    <a:lnTo>
                      <a:pt x="418" y="739"/>
                    </a:lnTo>
                    <a:lnTo>
                      <a:pt x="429" y="743"/>
                    </a:lnTo>
                    <a:lnTo>
                      <a:pt x="441" y="747"/>
                    </a:lnTo>
                    <a:lnTo>
                      <a:pt x="454" y="752"/>
                    </a:lnTo>
                    <a:lnTo>
                      <a:pt x="465" y="754"/>
                    </a:lnTo>
                    <a:lnTo>
                      <a:pt x="478" y="757"/>
                    </a:lnTo>
                    <a:lnTo>
                      <a:pt x="491" y="758"/>
                    </a:lnTo>
                    <a:lnTo>
                      <a:pt x="504" y="760"/>
                    </a:lnTo>
                    <a:lnTo>
                      <a:pt x="518" y="760"/>
                    </a:lnTo>
                    <a:lnTo>
                      <a:pt x="531" y="761"/>
                    </a:lnTo>
                    <a:lnTo>
                      <a:pt x="542" y="761"/>
                    </a:lnTo>
                    <a:lnTo>
                      <a:pt x="551" y="760"/>
                    </a:lnTo>
                    <a:lnTo>
                      <a:pt x="561" y="759"/>
                    </a:lnTo>
                    <a:lnTo>
                      <a:pt x="571" y="758"/>
                    </a:lnTo>
                    <a:lnTo>
                      <a:pt x="581" y="757"/>
                    </a:lnTo>
                    <a:lnTo>
                      <a:pt x="591" y="755"/>
                    </a:lnTo>
                    <a:lnTo>
                      <a:pt x="601" y="753"/>
                    </a:lnTo>
                    <a:lnTo>
                      <a:pt x="611" y="750"/>
                    </a:lnTo>
                    <a:lnTo>
                      <a:pt x="621" y="747"/>
                    </a:lnTo>
                    <a:lnTo>
                      <a:pt x="630" y="744"/>
                    </a:lnTo>
                    <a:lnTo>
                      <a:pt x="641" y="741"/>
                    </a:lnTo>
                    <a:lnTo>
                      <a:pt x="650" y="738"/>
                    </a:lnTo>
                    <a:lnTo>
                      <a:pt x="660" y="734"/>
                    </a:lnTo>
                    <a:lnTo>
                      <a:pt x="669" y="729"/>
                    </a:lnTo>
                    <a:lnTo>
                      <a:pt x="680" y="725"/>
                    </a:lnTo>
                    <a:lnTo>
                      <a:pt x="689" y="720"/>
                    </a:lnTo>
                    <a:lnTo>
                      <a:pt x="669" y="1027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48360" y="4686480"/>
                <a:ext cx="2016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83240" y="4767120"/>
                <a:ext cx="152280" cy="157320"/>
              </a:xfrm>
              <a:custGeom>
                <a:avLst/>
                <a:gdLst/>
                <a:ahLst/>
                <a:rect l="l" t="t" r="r" b="b"/>
                <a:pathLst>
                  <a:path w="480" h="499">
                    <a:moveTo>
                      <a:pt x="239" y="0"/>
                    </a:moveTo>
                    <a:lnTo>
                      <a:pt x="227" y="0"/>
                    </a:lnTo>
                    <a:lnTo>
                      <a:pt x="215" y="1"/>
                    </a:lnTo>
                    <a:lnTo>
                      <a:pt x="202" y="2"/>
                    </a:lnTo>
                    <a:lnTo>
                      <a:pt x="191" y="4"/>
                    </a:lnTo>
                    <a:lnTo>
                      <a:pt x="179" y="6"/>
                    </a:lnTo>
                    <a:lnTo>
                      <a:pt x="168" y="9"/>
                    </a:lnTo>
                    <a:lnTo>
                      <a:pt x="156" y="13"/>
                    </a:lnTo>
                    <a:lnTo>
                      <a:pt x="146" y="17"/>
                    </a:lnTo>
                    <a:lnTo>
                      <a:pt x="135" y="22"/>
                    </a:lnTo>
                    <a:lnTo>
                      <a:pt x="125" y="28"/>
                    </a:lnTo>
                    <a:lnTo>
                      <a:pt x="115" y="33"/>
                    </a:lnTo>
                    <a:lnTo>
                      <a:pt x="105" y="40"/>
                    </a:lnTo>
                    <a:lnTo>
                      <a:pt x="95" y="47"/>
                    </a:lnTo>
                    <a:lnTo>
                      <a:pt x="86" y="54"/>
                    </a:lnTo>
                    <a:lnTo>
                      <a:pt x="77" y="63"/>
                    </a:lnTo>
                    <a:lnTo>
                      <a:pt x="68" y="71"/>
                    </a:lnTo>
                    <a:lnTo>
                      <a:pt x="59" y="80"/>
                    </a:lnTo>
                    <a:lnTo>
                      <a:pt x="52" y="90"/>
                    </a:lnTo>
                    <a:lnTo>
                      <a:pt x="45" y="99"/>
                    </a:lnTo>
                    <a:lnTo>
                      <a:pt x="38" y="110"/>
                    </a:lnTo>
                    <a:lnTo>
                      <a:pt x="32" y="119"/>
                    </a:lnTo>
                    <a:lnTo>
                      <a:pt x="26" y="130"/>
                    </a:lnTo>
                    <a:lnTo>
                      <a:pt x="21" y="141"/>
                    </a:lnTo>
                    <a:lnTo>
                      <a:pt x="16" y="152"/>
                    </a:lnTo>
                    <a:lnTo>
                      <a:pt x="12" y="163"/>
                    </a:lnTo>
                    <a:lnTo>
                      <a:pt x="9" y="175"/>
                    </a:lnTo>
                    <a:lnTo>
                      <a:pt x="6" y="187"/>
                    </a:lnTo>
                    <a:lnTo>
                      <a:pt x="4" y="199"/>
                    </a:lnTo>
                    <a:lnTo>
                      <a:pt x="2" y="211"/>
                    </a:lnTo>
                    <a:lnTo>
                      <a:pt x="1" y="223"/>
                    </a:lnTo>
                    <a:lnTo>
                      <a:pt x="0" y="237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1" y="276"/>
                    </a:lnTo>
                    <a:lnTo>
                      <a:pt x="2" y="288"/>
                    </a:lnTo>
                    <a:lnTo>
                      <a:pt x="4" y="301"/>
                    </a:lnTo>
                    <a:lnTo>
                      <a:pt x="6" y="313"/>
                    </a:lnTo>
                    <a:lnTo>
                      <a:pt x="9" y="324"/>
                    </a:lnTo>
                    <a:lnTo>
                      <a:pt x="12" y="336"/>
                    </a:lnTo>
                    <a:lnTo>
                      <a:pt x="16" y="347"/>
                    </a:lnTo>
                    <a:lnTo>
                      <a:pt x="21" y="359"/>
                    </a:lnTo>
                    <a:lnTo>
                      <a:pt x="26" y="369"/>
                    </a:lnTo>
                    <a:lnTo>
                      <a:pt x="32" y="380"/>
                    </a:lnTo>
                    <a:lnTo>
                      <a:pt x="37" y="389"/>
                    </a:lnTo>
                    <a:lnTo>
                      <a:pt x="45" y="400"/>
                    </a:lnTo>
                    <a:lnTo>
                      <a:pt x="52" y="409"/>
                    </a:lnTo>
                    <a:lnTo>
                      <a:pt x="59" y="419"/>
                    </a:lnTo>
                    <a:lnTo>
                      <a:pt x="68" y="428"/>
                    </a:lnTo>
                    <a:lnTo>
                      <a:pt x="76" y="436"/>
                    </a:lnTo>
                    <a:lnTo>
                      <a:pt x="86" y="445"/>
                    </a:lnTo>
                    <a:lnTo>
                      <a:pt x="95" y="452"/>
                    </a:lnTo>
                    <a:lnTo>
                      <a:pt x="105" y="458"/>
                    </a:lnTo>
                    <a:lnTo>
                      <a:pt x="114" y="466"/>
                    </a:lnTo>
                    <a:lnTo>
                      <a:pt x="125" y="471"/>
                    </a:lnTo>
                    <a:lnTo>
                      <a:pt x="135" y="476"/>
                    </a:lnTo>
                    <a:lnTo>
                      <a:pt x="146" y="482"/>
                    </a:lnTo>
                    <a:lnTo>
                      <a:pt x="156" y="486"/>
                    </a:lnTo>
                    <a:lnTo>
                      <a:pt x="167" y="489"/>
                    </a:lnTo>
                    <a:lnTo>
                      <a:pt x="178" y="492"/>
                    </a:lnTo>
                    <a:lnTo>
                      <a:pt x="190" y="495"/>
                    </a:lnTo>
                    <a:lnTo>
                      <a:pt x="202" y="497"/>
                    </a:lnTo>
                    <a:lnTo>
                      <a:pt x="214" y="498"/>
                    </a:lnTo>
                    <a:lnTo>
                      <a:pt x="227" y="499"/>
                    </a:lnTo>
                    <a:lnTo>
                      <a:pt x="239" y="499"/>
                    </a:lnTo>
                    <a:lnTo>
                      <a:pt x="252" y="499"/>
                    </a:lnTo>
                    <a:lnTo>
                      <a:pt x="264" y="498"/>
                    </a:lnTo>
                    <a:lnTo>
                      <a:pt x="277" y="497"/>
                    </a:lnTo>
                    <a:lnTo>
                      <a:pt x="289" y="495"/>
                    </a:lnTo>
                    <a:lnTo>
                      <a:pt x="300" y="492"/>
                    </a:lnTo>
                    <a:lnTo>
                      <a:pt x="312" y="489"/>
                    </a:lnTo>
                    <a:lnTo>
                      <a:pt x="322" y="486"/>
                    </a:lnTo>
                    <a:lnTo>
                      <a:pt x="334" y="482"/>
                    </a:lnTo>
                    <a:lnTo>
                      <a:pt x="344" y="476"/>
                    </a:lnTo>
                    <a:lnTo>
                      <a:pt x="355" y="471"/>
                    </a:lnTo>
                    <a:lnTo>
                      <a:pt x="364" y="466"/>
                    </a:lnTo>
                    <a:lnTo>
                      <a:pt x="375" y="458"/>
                    </a:lnTo>
                    <a:lnTo>
                      <a:pt x="384" y="452"/>
                    </a:lnTo>
                    <a:lnTo>
                      <a:pt x="393" y="444"/>
                    </a:lnTo>
                    <a:lnTo>
                      <a:pt x="402" y="436"/>
                    </a:lnTo>
                    <a:lnTo>
                      <a:pt x="411" y="427"/>
                    </a:lnTo>
                    <a:lnTo>
                      <a:pt x="419" y="419"/>
                    </a:lnTo>
                    <a:lnTo>
                      <a:pt x="427" y="409"/>
                    </a:lnTo>
                    <a:lnTo>
                      <a:pt x="435" y="399"/>
                    </a:lnTo>
                    <a:lnTo>
                      <a:pt x="441" y="389"/>
                    </a:lnTo>
                    <a:lnTo>
                      <a:pt x="447" y="379"/>
                    </a:lnTo>
                    <a:lnTo>
                      <a:pt x="453" y="368"/>
                    </a:lnTo>
                    <a:lnTo>
                      <a:pt x="458" y="358"/>
                    </a:lnTo>
                    <a:lnTo>
                      <a:pt x="463" y="347"/>
                    </a:lnTo>
                    <a:lnTo>
                      <a:pt x="466" y="336"/>
                    </a:lnTo>
                    <a:lnTo>
                      <a:pt x="470" y="324"/>
                    </a:lnTo>
                    <a:lnTo>
                      <a:pt x="474" y="313"/>
                    </a:lnTo>
                    <a:lnTo>
                      <a:pt x="476" y="300"/>
                    </a:lnTo>
                    <a:lnTo>
                      <a:pt x="478" y="288"/>
                    </a:lnTo>
                    <a:lnTo>
                      <a:pt x="479" y="276"/>
                    </a:lnTo>
                    <a:lnTo>
                      <a:pt x="480" y="263"/>
                    </a:lnTo>
                    <a:lnTo>
                      <a:pt x="480" y="250"/>
                    </a:lnTo>
                    <a:lnTo>
                      <a:pt x="480" y="237"/>
                    </a:lnTo>
                    <a:lnTo>
                      <a:pt x="479" y="223"/>
                    </a:lnTo>
                    <a:lnTo>
                      <a:pt x="478" y="212"/>
                    </a:lnTo>
                    <a:lnTo>
                      <a:pt x="476" y="199"/>
                    </a:lnTo>
                    <a:lnTo>
                      <a:pt x="474" y="187"/>
                    </a:lnTo>
                    <a:lnTo>
                      <a:pt x="470" y="175"/>
                    </a:lnTo>
                    <a:lnTo>
                      <a:pt x="466" y="163"/>
                    </a:lnTo>
                    <a:lnTo>
                      <a:pt x="463" y="153"/>
                    </a:lnTo>
                    <a:lnTo>
                      <a:pt x="458" y="141"/>
                    </a:lnTo>
                    <a:lnTo>
                      <a:pt x="453" y="131"/>
                    </a:lnTo>
                    <a:lnTo>
                      <a:pt x="447" y="120"/>
                    </a:lnTo>
                    <a:lnTo>
                      <a:pt x="441" y="110"/>
                    </a:lnTo>
                    <a:lnTo>
                      <a:pt x="435" y="100"/>
                    </a:lnTo>
                    <a:lnTo>
                      <a:pt x="427" y="91"/>
                    </a:lnTo>
                    <a:lnTo>
                      <a:pt x="419" y="82"/>
                    </a:lnTo>
                    <a:lnTo>
                      <a:pt x="411" y="72"/>
                    </a:lnTo>
                    <a:lnTo>
                      <a:pt x="402" y="63"/>
                    </a:lnTo>
                    <a:lnTo>
                      <a:pt x="393" y="55"/>
                    </a:lnTo>
                    <a:lnTo>
                      <a:pt x="384" y="47"/>
                    </a:lnTo>
                    <a:lnTo>
                      <a:pt x="375" y="41"/>
                    </a:lnTo>
                    <a:lnTo>
                      <a:pt x="364" y="33"/>
                    </a:lnTo>
                    <a:lnTo>
                      <a:pt x="355" y="28"/>
                    </a:lnTo>
                    <a:lnTo>
                      <a:pt x="344" y="23"/>
                    </a:lnTo>
                    <a:lnTo>
                      <a:pt x="334" y="17"/>
                    </a:lnTo>
                    <a:lnTo>
                      <a:pt x="322" y="13"/>
                    </a:lnTo>
                    <a:lnTo>
                      <a:pt x="312" y="9"/>
                    </a:lnTo>
                    <a:lnTo>
                      <a:pt x="300" y="7"/>
                    </a:lnTo>
                    <a:lnTo>
                      <a:pt x="289" y="4"/>
                    </a:lnTo>
                    <a:lnTo>
                      <a:pt x="277" y="2"/>
                    </a:lnTo>
                    <a:lnTo>
                      <a:pt x="264" y="1"/>
                    </a:lnTo>
                    <a:lnTo>
                      <a:pt x="252" y="0"/>
                    </a:lnTo>
                    <a:lnTo>
                      <a:pt x="239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495760" y="467676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2" y="5"/>
                    </a:lnTo>
                    <a:lnTo>
                      <a:pt x="605" y="9"/>
                    </a:lnTo>
                    <a:lnTo>
                      <a:pt x="628" y="14"/>
                    </a:lnTo>
                    <a:lnTo>
                      <a:pt x="650" y="19"/>
                    </a:lnTo>
                    <a:lnTo>
                      <a:pt x="672" y="25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8"/>
                    </a:lnTo>
                    <a:lnTo>
                      <a:pt x="829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8" y="235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6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4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4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40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5"/>
                    </a:lnTo>
                    <a:lnTo>
                      <a:pt x="582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5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3"/>
                    </a:lnTo>
                    <a:lnTo>
                      <a:pt x="269" y="1004"/>
                    </a:lnTo>
                    <a:lnTo>
                      <a:pt x="249" y="992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8" y="939"/>
                    </a:lnTo>
                    <a:lnTo>
                      <a:pt x="158" y="919"/>
                    </a:lnTo>
                    <a:lnTo>
                      <a:pt x="138" y="898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0"/>
                    </a:lnTo>
                    <a:lnTo>
                      <a:pt x="47" y="754"/>
                    </a:lnTo>
                    <a:lnTo>
                      <a:pt x="35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3"/>
                    </a:lnTo>
                    <a:lnTo>
                      <a:pt x="3" y="474"/>
                    </a:lnTo>
                    <a:lnTo>
                      <a:pt x="7" y="445"/>
                    </a:lnTo>
                    <a:lnTo>
                      <a:pt x="12" y="418"/>
                    </a:lnTo>
                    <a:lnTo>
                      <a:pt x="18" y="390"/>
                    </a:lnTo>
                    <a:lnTo>
                      <a:pt x="26" y="362"/>
                    </a:lnTo>
                    <a:lnTo>
                      <a:pt x="35" y="336"/>
                    </a:lnTo>
                    <a:lnTo>
                      <a:pt x="47" y="310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8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49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5"/>
                    </a:lnTo>
                    <a:lnTo>
                      <a:pt x="373" y="19"/>
                    </a:lnTo>
                    <a:lnTo>
                      <a:pt x="396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1160" y="4686480"/>
                <a:ext cx="188640" cy="320400"/>
              </a:xfrm>
              <a:custGeom>
                <a:avLst/>
                <a:gdLst/>
                <a:ahLst/>
                <a:rect l="l" t="t" r="r" b="b"/>
                <a:pathLst>
                  <a:path w="595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554" y="0"/>
                    </a:lnTo>
                    <a:lnTo>
                      <a:pt x="595" y="268"/>
                    </a:lnTo>
                    <a:lnTo>
                      <a:pt x="261" y="268"/>
                    </a:lnTo>
                    <a:lnTo>
                      <a:pt x="261" y="370"/>
                    </a:lnTo>
                    <a:lnTo>
                      <a:pt x="471" y="370"/>
                    </a:lnTo>
                    <a:lnTo>
                      <a:pt x="471" y="638"/>
                    </a:lnTo>
                    <a:lnTo>
                      <a:pt x="261" y="638"/>
                    </a:lnTo>
                    <a:lnTo>
                      <a:pt x="261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1940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6" h="1010">
                    <a:moveTo>
                      <a:pt x="636" y="731"/>
                    </a:moveTo>
                    <a:lnTo>
                      <a:pt x="554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262" y="0"/>
                    </a:lnTo>
                    <a:lnTo>
                      <a:pt x="262" y="731"/>
                    </a:lnTo>
                    <a:lnTo>
                      <a:pt x="636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454560" y="532296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09" h="341">
                    <a:moveTo>
                      <a:pt x="0" y="341"/>
                    </a:moveTo>
                    <a:lnTo>
                      <a:pt x="209" y="341"/>
                    </a:lnTo>
                    <a:lnTo>
                      <a:pt x="103" y="0"/>
                    </a:lnTo>
                    <a:lnTo>
                      <a:pt x="0" y="34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332160" y="52261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984" h="1010">
                    <a:moveTo>
                      <a:pt x="0" y="1010"/>
                    </a:moveTo>
                    <a:lnTo>
                      <a:pt x="353" y="0"/>
                    </a:lnTo>
                    <a:lnTo>
                      <a:pt x="649" y="0"/>
                    </a:lnTo>
                    <a:lnTo>
                      <a:pt x="984" y="1010"/>
                    </a:lnTo>
                    <a:lnTo>
                      <a:pt x="705" y="1010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27360" y="52261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6" y="0"/>
                    </a:lnTo>
                    <a:lnTo>
                      <a:pt x="644" y="0"/>
                    </a:lnTo>
                    <a:lnTo>
                      <a:pt x="673" y="255"/>
                    </a:lnTo>
                    <a:lnTo>
                      <a:pt x="468" y="25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86712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073400" y="5226120"/>
                <a:ext cx="279360" cy="320760"/>
              </a:xfrm>
              <a:custGeom>
                <a:avLst/>
                <a:gdLst/>
                <a:ahLst/>
                <a:rect l="l" t="t" r="r" b="b"/>
                <a:pathLst>
                  <a:path w="880" h="1010">
                    <a:moveTo>
                      <a:pt x="0" y="1010"/>
                    </a:moveTo>
                    <a:lnTo>
                      <a:pt x="291" y="500"/>
                    </a:lnTo>
                    <a:lnTo>
                      <a:pt x="17" y="0"/>
                    </a:lnTo>
                    <a:lnTo>
                      <a:pt x="310" y="0"/>
                    </a:lnTo>
                    <a:lnTo>
                      <a:pt x="443" y="282"/>
                    </a:lnTo>
                    <a:lnTo>
                      <a:pt x="577" y="0"/>
                    </a:lnTo>
                    <a:lnTo>
                      <a:pt x="876" y="0"/>
                    </a:lnTo>
                    <a:lnTo>
                      <a:pt x="592" y="503"/>
                    </a:lnTo>
                    <a:lnTo>
                      <a:pt x="880" y="1010"/>
                    </a:lnTo>
                    <a:lnTo>
                      <a:pt x="582" y="1010"/>
                    </a:lnTo>
                    <a:lnTo>
                      <a:pt x="444" y="725"/>
                    </a:lnTo>
                    <a:lnTo>
                      <a:pt x="305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330800" y="5226120"/>
                <a:ext cx="160200" cy="361800"/>
              </a:xfrm>
              <a:custGeom>
                <a:avLst/>
                <a:gdLst/>
                <a:ahLst/>
                <a:rect l="l" t="t" r="r" b="b"/>
                <a:pathLst>
                  <a:path w="502" h="1141">
                    <a:moveTo>
                      <a:pt x="148" y="1141"/>
                    </a:moveTo>
                    <a:lnTo>
                      <a:pt x="0" y="1141"/>
                    </a:lnTo>
                    <a:lnTo>
                      <a:pt x="351" y="0"/>
                    </a:lnTo>
                    <a:lnTo>
                      <a:pt x="502" y="0"/>
                    </a:lnTo>
                    <a:lnTo>
                      <a:pt x="148" y="114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591080" y="5295960"/>
                <a:ext cx="52200" cy="81000"/>
              </a:xfrm>
              <a:custGeom>
                <a:avLst/>
                <a:gdLst/>
                <a:ahLst/>
                <a:rect l="l" t="t" r="r" b="b"/>
                <a:pathLst>
                  <a:path w="169" h="253">
                    <a:moveTo>
                      <a:pt x="0" y="253"/>
                    </a:moveTo>
                    <a:lnTo>
                      <a:pt x="25" y="253"/>
                    </a:lnTo>
                    <a:lnTo>
                      <a:pt x="42" y="253"/>
                    </a:lnTo>
                    <a:lnTo>
                      <a:pt x="57" y="251"/>
                    </a:lnTo>
                    <a:lnTo>
                      <a:pt x="73" y="249"/>
                    </a:lnTo>
                    <a:lnTo>
                      <a:pt x="87" y="246"/>
                    </a:lnTo>
                    <a:lnTo>
                      <a:pt x="99" y="241"/>
                    </a:lnTo>
                    <a:lnTo>
                      <a:pt x="112" y="235"/>
                    </a:lnTo>
                    <a:lnTo>
                      <a:pt x="123" y="229"/>
                    </a:lnTo>
                    <a:lnTo>
                      <a:pt x="132" y="222"/>
                    </a:lnTo>
                    <a:lnTo>
                      <a:pt x="140" y="213"/>
                    </a:lnTo>
                    <a:lnTo>
                      <a:pt x="148" y="204"/>
                    </a:lnTo>
                    <a:lnTo>
                      <a:pt x="154" y="193"/>
                    </a:lnTo>
                    <a:lnTo>
                      <a:pt x="159" y="182"/>
                    </a:lnTo>
                    <a:lnTo>
                      <a:pt x="164" y="170"/>
                    </a:lnTo>
                    <a:lnTo>
                      <a:pt x="167" y="157"/>
                    </a:lnTo>
                    <a:lnTo>
                      <a:pt x="169" y="143"/>
                    </a:lnTo>
                    <a:lnTo>
                      <a:pt x="169" y="128"/>
                    </a:lnTo>
                    <a:lnTo>
                      <a:pt x="169" y="112"/>
                    </a:lnTo>
                    <a:lnTo>
                      <a:pt x="167" y="99"/>
                    </a:lnTo>
                    <a:lnTo>
                      <a:pt x="164" y="85"/>
                    </a:lnTo>
                    <a:lnTo>
                      <a:pt x="160" y="74"/>
                    </a:lnTo>
                    <a:lnTo>
                      <a:pt x="155" y="62"/>
                    </a:lnTo>
                    <a:lnTo>
                      <a:pt x="149" y="52"/>
                    </a:lnTo>
                    <a:lnTo>
                      <a:pt x="141" y="42"/>
                    </a:lnTo>
                    <a:lnTo>
                      <a:pt x="133" y="33"/>
                    </a:lnTo>
                    <a:lnTo>
                      <a:pt x="124" y="25"/>
                    </a:lnTo>
                    <a:lnTo>
                      <a:pt x="114" y="19"/>
                    </a:lnTo>
                    <a:lnTo>
                      <a:pt x="103" y="13"/>
                    </a:lnTo>
                    <a:lnTo>
                      <a:pt x="90" y="9"/>
                    </a:lnTo>
                    <a:lnTo>
                      <a:pt x="77" y="5"/>
                    </a:lnTo>
                    <a:lnTo>
                      <a:pt x="63" y="2"/>
                    </a:lnTo>
                    <a:lnTo>
                      <a:pt x="48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506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2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6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9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3" y="363"/>
                    </a:lnTo>
                    <a:lnTo>
                      <a:pt x="689" y="383"/>
                    </a:lnTo>
                    <a:lnTo>
                      <a:pt x="685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3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4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2" y="577"/>
                    </a:lnTo>
                    <a:lnTo>
                      <a:pt x="262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772160" y="5226120"/>
                <a:ext cx="215640" cy="330120"/>
              </a:xfrm>
              <a:custGeom>
                <a:avLst/>
                <a:gdLst/>
                <a:ahLst/>
                <a:rect l="l" t="t" r="r" b="b"/>
                <a:pathLst>
                  <a:path w="680" h="1037">
                    <a:moveTo>
                      <a:pt x="419" y="611"/>
                    </a:moveTo>
                    <a:lnTo>
                      <a:pt x="419" y="0"/>
                    </a:lnTo>
                    <a:lnTo>
                      <a:pt x="680" y="0"/>
                    </a:lnTo>
                    <a:lnTo>
                      <a:pt x="680" y="611"/>
                    </a:lnTo>
                    <a:lnTo>
                      <a:pt x="680" y="645"/>
                    </a:lnTo>
                    <a:lnTo>
                      <a:pt x="679" y="678"/>
                    </a:lnTo>
                    <a:lnTo>
                      <a:pt x="677" y="707"/>
                    </a:lnTo>
                    <a:lnTo>
                      <a:pt x="675" y="736"/>
                    </a:lnTo>
                    <a:lnTo>
                      <a:pt x="672" y="761"/>
                    </a:lnTo>
                    <a:lnTo>
                      <a:pt x="669" y="784"/>
                    </a:lnTo>
                    <a:lnTo>
                      <a:pt x="665" y="805"/>
                    </a:lnTo>
                    <a:lnTo>
                      <a:pt x="661" y="824"/>
                    </a:lnTo>
                    <a:lnTo>
                      <a:pt x="654" y="841"/>
                    </a:lnTo>
                    <a:lnTo>
                      <a:pt x="649" y="857"/>
                    </a:lnTo>
                    <a:lnTo>
                      <a:pt x="642" y="874"/>
                    </a:lnTo>
                    <a:lnTo>
                      <a:pt x="633" y="889"/>
                    </a:lnTo>
                    <a:lnTo>
                      <a:pt x="625" y="905"/>
                    </a:lnTo>
                    <a:lnTo>
                      <a:pt x="614" y="918"/>
                    </a:lnTo>
                    <a:lnTo>
                      <a:pt x="604" y="932"/>
                    </a:lnTo>
                    <a:lnTo>
                      <a:pt x="592" y="945"/>
                    </a:lnTo>
                    <a:lnTo>
                      <a:pt x="582" y="955"/>
                    </a:lnTo>
                    <a:lnTo>
                      <a:pt x="570" y="966"/>
                    </a:lnTo>
                    <a:lnTo>
                      <a:pt x="558" y="975"/>
                    </a:lnTo>
                    <a:lnTo>
                      <a:pt x="545" y="983"/>
                    </a:lnTo>
                    <a:lnTo>
                      <a:pt x="531" y="992"/>
                    </a:lnTo>
                    <a:lnTo>
                      <a:pt x="517" y="999"/>
                    </a:lnTo>
                    <a:lnTo>
                      <a:pt x="501" y="1007"/>
                    </a:lnTo>
                    <a:lnTo>
                      <a:pt x="485" y="1013"/>
                    </a:lnTo>
                    <a:lnTo>
                      <a:pt x="468" y="1018"/>
                    </a:lnTo>
                    <a:lnTo>
                      <a:pt x="451" y="1023"/>
                    </a:lnTo>
                    <a:lnTo>
                      <a:pt x="433" y="1028"/>
                    </a:lnTo>
                    <a:lnTo>
                      <a:pt x="416" y="1031"/>
                    </a:lnTo>
                    <a:lnTo>
                      <a:pt x="398" y="1033"/>
                    </a:lnTo>
                    <a:lnTo>
                      <a:pt x="379" y="1035"/>
                    </a:lnTo>
                    <a:lnTo>
                      <a:pt x="360" y="1036"/>
                    </a:lnTo>
                    <a:lnTo>
                      <a:pt x="341" y="1037"/>
                    </a:lnTo>
                    <a:lnTo>
                      <a:pt x="321" y="1036"/>
                    </a:lnTo>
                    <a:lnTo>
                      <a:pt x="302" y="1035"/>
                    </a:lnTo>
                    <a:lnTo>
                      <a:pt x="283" y="1033"/>
                    </a:lnTo>
                    <a:lnTo>
                      <a:pt x="265" y="1031"/>
                    </a:lnTo>
                    <a:lnTo>
                      <a:pt x="247" y="1028"/>
                    </a:lnTo>
                    <a:lnTo>
                      <a:pt x="231" y="1023"/>
                    </a:lnTo>
                    <a:lnTo>
                      <a:pt x="213" y="1018"/>
                    </a:lnTo>
                    <a:lnTo>
                      <a:pt x="196" y="1013"/>
                    </a:lnTo>
                    <a:lnTo>
                      <a:pt x="180" y="1007"/>
                    </a:lnTo>
                    <a:lnTo>
                      <a:pt x="164" y="999"/>
                    </a:lnTo>
                    <a:lnTo>
                      <a:pt x="150" y="992"/>
                    </a:lnTo>
                    <a:lnTo>
                      <a:pt x="136" y="983"/>
                    </a:lnTo>
                    <a:lnTo>
                      <a:pt x="123" y="975"/>
                    </a:lnTo>
                    <a:lnTo>
                      <a:pt x="111" y="966"/>
                    </a:lnTo>
                    <a:lnTo>
                      <a:pt x="99" y="955"/>
                    </a:lnTo>
                    <a:lnTo>
                      <a:pt x="89" y="945"/>
                    </a:lnTo>
                    <a:lnTo>
                      <a:pt x="77" y="932"/>
                    </a:lnTo>
                    <a:lnTo>
                      <a:pt x="67" y="918"/>
                    </a:lnTo>
                    <a:lnTo>
                      <a:pt x="57" y="904"/>
                    </a:lnTo>
                    <a:lnTo>
                      <a:pt x="48" y="889"/>
                    </a:lnTo>
                    <a:lnTo>
                      <a:pt x="39" y="873"/>
                    </a:lnTo>
                    <a:lnTo>
                      <a:pt x="32" y="856"/>
                    </a:lnTo>
                    <a:lnTo>
                      <a:pt x="26" y="840"/>
                    </a:lnTo>
                    <a:lnTo>
                      <a:pt x="20" y="822"/>
                    </a:lnTo>
                    <a:lnTo>
                      <a:pt x="15" y="803"/>
                    </a:lnTo>
                    <a:lnTo>
                      <a:pt x="12" y="782"/>
                    </a:lnTo>
                    <a:lnTo>
                      <a:pt x="8" y="759"/>
                    </a:lnTo>
                    <a:lnTo>
                      <a:pt x="6" y="734"/>
                    </a:lnTo>
                    <a:lnTo>
                      <a:pt x="3" y="706"/>
                    </a:lnTo>
                    <a:lnTo>
                      <a:pt x="1" y="677"/>
                    </a:lnTo>
                    <a:lnTo>
                      <a:pt x="0" y="645"/>
                    </a:lnTo>
                    <a:lnTo>
                      <a:pt x="0" y="61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611"/>
                    </a:lnTo>
                    <a:lnTo>
                      <a:pt x="263" y="632"/>
                    </a:lnTo>
                    <a:lnTo>
                      <a:pt x="264" y="651"/>
                    </a:lnTo>
                    <a:lnTo>
                      <a:pt x="265" y="668"/>
                    </a:lnTo>
                    <a:lnTo>
                      <a:pt x="267" y="684"/>
                    </a:lnTo>
                    <a:lnTo>
                      <a:pt x="270" y="698"/>
                    </a:lnTo>
                    <a:lnTo>
                      <a:pt x="273" y="710"/>
                    </a:lnTo>
                    <a:lnTo>
                      <a:pt x="277" y="721"/>
                    </a:lnTo>
                    <a:lnTo>
                      <a:pt x="281" y="730"/>
                    </a:lnTo>
                    <a:lnTo>
                      <a:pt x="285" y="739"/>
                    </a:lnTo>
                    <a:lnTo>
                      <a:pt x="292" y="745"/>
                    </a:lnTo>
                    <a:lnTo>
                      <a:pt x="298" y="751"/>
                    </a:lnTo>
                    <a:lnTo>
                      <a:pt x="304" y="756"/>
                    </a:lnTo>
                    <a:lnTo>
                      <a:pt x="313" y="760"/>
                    </a:lnTo>
                    <a:lnTo>
                      <a:pt x="321" y="762"/>
                    </a:lnTo>
                    <a:lnTo>
                      <a:pt x="330" y="764"/>
                    </a:lnTo>
                    <a:lnTo>
                      <a:pt x="341" y="764"/>
                    </a:lnTo>
                    <a:lnTo>
                      <a:pt x="350" y="764"/>
                    </a:lnTo>
                    <a:lnTo>
                      <a:pt x="360" y="762"/>
                    </a:lnTo>
                    <a:lnTo>
                      <a:pt x="368" y="760"/>
                    </a:lnTo>
                    <a:lnTo>
                      <a:pt x="377" y="756"/>
                    </a:lnTo>
                    <a:lnTo>
                      <a:pt x="384" y="750"/>
                    </a:lnTo>
                    <a:lnTo>
                      <a:pt x="390" y="745"/>
                    </a:lnTo>
                    <a:lnTo>
                      <a:pt x="396" y="738"/>
                    </a:lnTo>
                    <a:lnTo>
                      <a:pt x="401" y="729"/>
                    </a:lnTo>
                    <a:lnTo>
                      <a:pt x="405" y="721"/>
                    </a:lnTo>
                    <a:lnTo>
                      <a:pt x="408" y="709"/>
                    </a:lnTo>
                    <a:lnTo>
                      <a:pt x="411" y="697"/>
                    </a:lnTo>
                    <a:lnTo>
                      <a:pt x="415" y="683"/>
                    </a:lnTo>
                    <a:lnTo>
                      <a:pt x="416" y="667"/>
                    </a:lnTo>
                    <a:lnTo>
                      <a:pt x="418" y="651"/>
                    </a:lnTo>
                    <a:lnTo>
                      <a:pt x="419" y="632"/>
                    </a:lnTo>
                    <a:lnTo>
                      <a:pt x="419" y="61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24600" y="5297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163" h="169">
                    <a:moveTo>
                      <a:pt x="0" y="169"/>
                    </a:moveTo>
                    <a:lnTo>
                      <a:pt x="46" y="169"/>
                    </a:lnTo>
                    <a:lnTo>
                      <a:pt x="60" y="169"/>
                    </a:lnTo>
                    <a:lnTo>
                      <a:pt x="74" y="168"/>
                    </a:lnTo>
                    <a:lnTo>
                      <a:pt x="87" y="167"/>
                    </a:lnTo>
                    <a:lnTo>
                      <a:pt x="98" y="165"/>
                    </a:lnTo>
                    <a:lnTo>
                      <a:pt x="109" y="162"/>
                    </a:lnTo>
                    <a:lnTo>
                      <a:pt x="118" y="159"/>
                    </a:lnTo>
                    <a:lnTo>
                      <a:pt x="127" y="155"/>
                    </a:lnTo>
                    <a:lnTo>
                      <a:pt x="135" y="149"/>
                    </a:lnTo>
                    <a:lnTo>
                      <a:pt x="141" y="144"/>
                    </a:lnTo>
                    <a:lnTo>
                      <a:pt x="148" y="139"/>
                    </a:lnTo>
                    <a:lnTo>
                      <a:pt x="153" y="132"/>
                    </a:lnTo>
                    <a:lnTo>
                      <a:pt x="156" y="124"/>
                    </a:lnTo>
                    <a:lnTo>
                      <a:pt x="159" y="117"/>
                    </a:lnTo>
                    <a:lnTo>
                      <a:pt x="162" y="108"/>
                    </a:lnTo>
                    <a:lnTo>
                      <a:pt x="163" y="99"/>
                    </a:lnTo>
                    <a:lnTo>
                      <a:pt x="163" y="90"/>
                    </a:lnTo>
                    <a:lnTo>
                      <a:pt x="163" y="78"/>
                    </a:lnTo>
                    <a:lnTo>
                      <a:pt x="162" y="67"/>
                    </a:lnTo>
                    <a:lnTo>
                      <a:pt x="160" y="57"/>
                    </a:lnTo>
                    <a:lnTo>
                      <a:pt x="157" y="49"/>
                    </a:lnTo>
                    <a:lnTo>
                      <a:pt x="153" y="40"/>
                    </a:lnTo>
                    <a:lnTo>
                      <a:pt x="149" y="33"/>
                    </a:lnTo>
                    <a:lnTo>
                      <a:pt x="143" y="27"/>
                    </a:lnTo>
                    <a:lnTo>
                      <a:pt x="137" y="21"/>
                    </a:lnTo>
                    <a:lnTo>
                      <a:pt x="130" y="16"/>
                    </a:lnTo>
                    <a:lnTo>
                      <a:pt x="121" y="12"/>
                    </a:lnTo>
                    <a:lnTo>
                      <a:pt x="112" y="9"/>
                    </a:lnTo>
                    <a:lnTo>
                      <a:pt x="100" y="6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1" y="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6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24600" y="541512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6" h="183">
                    <a:moveTo>
                      <a:pt x="0" y="183"/>
                    </a:moveTo>
                    <a:lnTo>
                      <a:pt x="54" y="183"/>
                    </a:lnTo>
                    <a:lnTo>
                      <a:pt x="68" y="183"/>
                    </a:lnTo>
                    <a:lnTo>
                      <a:pt x="80" y="182"/>
                    </a:lnTo>
                    <a:lnTo>
                      <a:pt x="92" y="181"/>
                    </a:lnTo>
                    <a:lnTo>
                      <a:pt x="103" y="177"/>
                    </a:lnTo>
                    <a:lnTo>
                      <a:pt x="114" y="175"/>
                    </a:lnTo>
                    <a:lnTo>
                      <a:pt x="122" y="171"/>
                    </a:lnTo>
                    <a:lnTo>
                      <a:pt x="131" y="167"/>
                    </a:lnTo>
                    <a:lnTo>
                      <a:pt x="138" y="162"/>
                    </a:lnTo>
                    <a:lnTo>
                      <a:pt x="145" y="156"/>
                    </a:lnTo>
                    <a:lnTo>
                      <a:pt x="151" y="150"/>
                    </a:lnTo>
                    <a:lnTo>
                      <a:pt x="156" y="143"/>
                    </a:lnTo>
                    <a:lnTo>
                      <a:pt x="159" y="135"/>
                    </a:lnTo>
                    <a:lnTo>
                      <a:pt x="162" y="126"/>
                    </a:lnTo>
                    <a:lnTo>
                      <a:pt x="164" y="118"/>
                    </a:lnTo>
                    <a:lnTo>
                      <a:pt x="166" y="107"/>
                    </a:lnTo>
                    <a:lnTo>
                      <a:pt x="166" y="97"/>
                    </a:lnTo>
                    <a:lnTo>
                      <a:pt x="166" y="85"/>
                    </a:lnTo>
                    <a:lnTo>
                      <a:pt x="164" y="73"/>
                    </a:lnTo>
                    <a:lnTo>
                      <a:pt x="162" y="63"/>
                    </a:lnTo>
                    <a:lnTo>
                      <a:pt x="159" y="53"/>
                    </a:lnTo>
                    <a:lnTo>
                      <a:pt x="155" y="45"/>
                    </a:lnTo>
                    <a:lnTo>
                      <a:pt x="151" y="37"/>
                    </a:lnTo>
                    <a:lnTo>
                      <a:pt x="144" y="29"/>
                    </a:lnTo>
                    <a:lnTo>
                      <a:pt x="137" y="23"/>
                    </a:lnTo>
                    <a:lnTo>
                      <a:pt x="130" y="18"/>
                    </a:lnTo>
                    <a:lnTo>
                      <a:pt x="121" y="13"/>
                    </a:lnTo>
                    <a:lnTo>
                      <a:pt x="111" y="8"/>
                    </a:lnTo>
                    <a:lnTo>
                      <a:pt x="100" y="5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41800" y="5226120"/>
                <a:ext cx="2192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8" y="1"/>
                    </a:lnTo>
                    <a:lnTo>
                      <a:pt x="398" y="3"/>
                    </a:lnTo>
                    <a:lnTo>
                      <a:pt x="417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1" y="13"/>
                    </a:lnTo>
                    <a:lnTo>
                      <a:pt x="487" y="17"/>
                    </a:lnTo>
                    <a:lnTo>
                      <a:pt x="503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8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8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3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8" y="351"/>
                    </a:lnTo>
                    <a:lnTo>
                      <a:pt x="673" y="368"/>
                    </a:lnTo>
                    <a:lnTo>
                      <a:pt x="668" y="384"/>
                    </a:lnTo>
                    <a:lnTo>
                      <a:pt x="661" y="399"/>
                    </a:lnTo>
                    <a:lnTo>
                      <a:pt x="653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8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0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3" y="962"/>
                    </a:lnTo>
                    <a:lnTo>
                      <a:pt x="550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2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7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92800" y="5297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164" h="169">
                    <a:moveTo>
                      <a:pt x="0" y="169"/>
                    </a:moveTo>
                    <a:lnTo>
                      <a:pt x="47" y="169"/>
                    </a:lnTo>
                    <a:lnTo>
                      <a:pt x="60" y="169"/>
                    </a:lnTo>
                    <a:lnTo>
                      <a:pt x="74" y="168"/>
                    </a:lnTo>
                    <a:lnTo>
                      <a:pt x="87" y="167"/>
                    </a:lnTo>
                    <a:lnTo>
                      <a:pt x="98" y="165"/>
                    </a:lnTo>
                    <a:lnTo>
                      <a:pt x="109" y="162"/>
                    </a:lnTo>
                    <a:lnTo>
                      <a:pt x="118" y="159"/>
                    </a:lnTo>
                    <a:lnTo>
                      <a:pt x="128" y="155"/>
                    </a:lnTo>
                    <a:lnTo>
                      <a:pt x="135" y="149"/>
                    </a:lnTo>
                    <a:lnTo>
                      <a:pt x="141" y="144"/>
                    </a:lnTo>
                    <a:lnTo>
                      <a:pt x="148" y="139"/>
                    </a:lnTo>
                    <a:lnTo>
                      <a:pt x="153" y="132"/>
                    </a:lnTo>
                    <a:lnTo>
                      <a:pt x="157" y="124"/>
                    </a:lnTo>
                    <a:lnTo>
                      <a:pt x="160" y="117"/>
                    </a:lnTo>
                    <a:lnTo>
                      <a:pt x="162" y="108"/>
                    </a:lnTo>
                    <a:lnTo>
                      <a:pt x="163" y="99"/>
                    </a:lnTo>
                    <a:lnTo>
                      <a:pt x="164" y="90"/>
                    </a:lnTo>
                    <a:lnTo>
                      <a:pt x="163" y="78"/>
                    </a:lnTo>
                    <a:lnTo>
                      <a:pt x="162" y="67"/>
                    </a:lnTo>
                    <a:lnTo>
                      <a:pt x="160" y="57"/>
                    </a:lnTo>
                    <a:lnTo>
                      <a:pt x="157" y="49"/>
                    </a:lnTo>
                    <a:lnTo>
                      <a:pt x="153" y="40"/>
                    </a:lnTo>
                    <a:lnTo>
                      <a:pt x="149" y="33"/>
                    </a:lnTo>
                    <a:lnTo>
                      <a:pt x="143" y="27"/>
                    </a:lnTo>
                    <a:lnTo>
                      <a:pt x="137" y="21"/>
                    </a:lnTo>
                    <a:lnTo>
                      <a:pt x="130" y="16"/>
                    </a:lnTo>
                    <a:lnTo>
                      <a:pt x="121" y="12"/>
                    </a:lnTo>
                    <a:lnTo>
                      <a:pt x="112" y="9"/>
                    </a:lnTo>
                    <a:lnTo>
                      <a:pt x="100" y="6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1" y="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16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392800" y="541512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7" h="183">
                    <a:moveTo>
                      <a:pt x="0" y="183"/>
                    </a:moveTo>
                    <a:lnTo>
                      <a:pt x="54" y="183"/>
                    </a:lnTo>
                    <a:lnTo>
                      <a:pt x="68" y="183"/>
                    </a:lnTo>
                    <a:lnTo>
                      <a:pt x="80" y="182"/>
                    </a:lnTo>
                    <a:lnTo>
                      <a:pt x="93" y="181"/>
                    </a:lnTo>
                    <a:lnTo>
                      <a:pt x="103" y="177"/>
                    </a:lnTo>
                    <a:lnTo>
                      <a:pt x="114" y="175"/>
                    </a:lnTo>
                    <a:lnTo>
                      <a:pt x="123" y="171"/>
                    </a:lnTo>
                    <a:lnTo>
                      <a:pt x="131" y="167"/>
                    </a:lnTo>
                    <a:lnTo>
                      <a:pt x="139" y="162"/>
                    </a:lnTo>
                    <a:lnTo>
                      <a:pt x="146" y="156"/>
                    </a:lnTo>
                    <a:lnTo>
                      <a:pt x="151" y="150"/>
                    </a:lnTo>
                    <a:lnTo>
                      <a:pt x="156" y="143"/>
                    </a:lnTo>
                    <a:lnTo>
                      <a:pt x="160" y="135"/>
                    </a:lnTo>
                    <a:lnTo>
                      <a:pt x="162" y="126"/>
                    </a:lnTo>
                    <a:lnTo>
                      <a:pt x="165" y="118"/>
                    </a:lnTo>
                    <a:lnTo>
                      <a:pt x="167" y="107"/>
                    </a:lnTo>
                    <a:lnTo>
                      <a:pt x="167" y="97"/>
                    </a:lnTo>
                    <a:lnTo>
                      <a:pt x="167" y="85"/>
                    </a:lnTo>
                    <a:lnTo>
                      <a:pt x="164" y="73"/>
                    </a:lnTo>
                    <a:lnTo>
                      <a:pt x="162" y="63"/>
                    </a:lnTo>
                    <a:lnTo>
                      <a:pt x="159" y="53"/>
                    </a:lnTo>
                    <a:lnTo>
                      <a:pt x="155" y="45"/>
                    </a:lnTo>
                    <a:lnTo>
                      <a:pt x="151" y="37"/>
                    </a:lnTo>
                    <a:lnTo>
                      <a:pt x="144" y="29"/>
                    </a:lnTo>
                    <a:lnTo>
                      <a:pt x="138" y="23"/>
                    </a:lnTo>
                    <a:lnTo>
                      <a:pt x="130" y="18"/>
                    </a:lnTo>
                    <a:lnTo>
                      <a:pt x="121" y="13"/>
                    </a:lnTo>
                    <a:lnTo>
                      <a:pt x="112" y="8"/>
                    </a:lnTo>
                    <a:lnTo>
                      <a:pt x="100" y="5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310360" y="5226120"/>
                <a:ext cx="2174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9" y="1"/>
                    </a:lnTo>
                    <a:lnTo>
                      <a:pt x="398" y="3"/>
                    </a:lnTo>
                    <a:lnTo>
                      <a:pt x="418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2" y="13"/>
                    </a:lnTo>
                    <a:lnTo>
                      <a:pt x="487" y="17"/>
                    </a:lnTo>
                    <a:lnTo>
                      <a:pt x="504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9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9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4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9" y="351"/>
                    </a:lnTo>
                    <a:lnTo>
                      <a:pt x="674" y="368"/>
                    </a:lnTo>
                    <a:lnTo>
                      <a:pt x="668" y="384"/>
                    </a:lnTo>
                    <a:lnTo>
                      <a:pt x="662" y="399"/>
                    </a:lnTo>
                    <a:lnTo>
                      <a:pt x="654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9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1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4" y="962"/>
                    </a:lnTo>
                    <a:lnTo>
                      <a:pt x="551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3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8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57676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94280" y="5295960"/>
                <a:ext cx="55800" cy="81000"/>
              </a:xfrm>
              <a:custGeom>
                <a:avLst/>
                <a:gdLst/>
                <a:ahLst/>
                <a:rect l="l" t="t" r="r" b="b"/>
                <a:pathLst>
                  <a:path w="171" h="253">
                    <a:moveTo>
                      <a:pt x="0" y="253"/>
                    </a:moveTo>
                    <a:lnTo>
                      <a:pt x="27" y="253"/>
                    </a:lnTo>
                    <a:lnTo>
                      <a:pt x="44" y="253"/>
                    </a:lnTo>
                    <a:lnTo>
                      <a:pt x="59" y="251"/>
                    </a:lnTo>
                    <a:lnTo>
                      <a:pt x="75" y="249"/>
                    </a:lnTo>
                    <a:lnTo>
                      <a:pt x="89" y="246"/>
                    </a:lnTo>
                    <a:lnTo>
                      <a:pt x="101" y="241"/>
                    </a:lnTo>
                    <a:lnTo>
                      <a:pt x="113" y="235"/>
                    </a:lnTo>
                    <a:lnTo>
                      <a:pt x="125" y="229"/>
                    </a:lnTo>
                    <a:lnTo>
                      <a:pt x="134" y="222"/>
                    </a:lnTo>
                    <a:lnTo>
                      <a:pt x="142" y="213"/>
                    </a:lnTo>
                    <a:lnTo>
                      <a:pt x="150" y="204"/>
                    </a:lnTo>
                    <a:lnTo>
                      <a:pt x="156" y="193"/>
                    </a:lnTo>
                    <a:lnTo>
                      <a:pt x="161" y="182"/>
                    </a:lnTo>
                    <a:lnTo>
                      <a:pt x="166" y="170"/>
                    </a:lnTo>
                    <a:lnTo>
                      <a:pt x="169" y="157"/>
                    </a:lnTo>
                    <a:lnTo>
                      <a:pt x="171" y="143"/>
                    </a:lnTo>
                    <a:lnTo>
                      <a:pt x="171" y="128"/>
                    </a:lnTo>
                    <a:lnTo>
                      <a:pt x="171" y="112"/>
                    </a:lnTo>
                    <a:lnTo>
                      <a:pt x="169" y="99"/>
                    </a:lnTo>
                    <a:lnTo>
                      <a:pt x="166" y="85"/>
                    </a:lnTo>
                    <a:lnTo>
                      <a:pt x="162" y="74"/>
                    </a:lnTo>
                    <a:lnTo>
                      <a:pt x="157" y="62"/>
                    </a:lnTo>
                    <a:lnTo>
                      <a:pt x="151" y="52"/>
                    </a:lnTo>
                    <a:lnTo>
                      <a:pt x="143" y="42"/>
                    </a:lnTo>
                    <a:lnTo>
                      <a:pt x="135" y="33"/>
                    </a:lnTo>
                    <a:lnTo>
                      <a:pt x="126" y="25"/>
                    </a:lnTo>
                    <a:lnTo>
                      <a:pt x="115" y="19"/>
                    </a:lnTo>
                    <a:lnTo>
                      <a:pt x="105" y="13"/>
                    </a:lnTo>
                    <a:lnTo>
                      <a:pt x="92" y="9"/>
                    </a:lnTo>
                    <a:lnTo>
                      <a:pt x="79" y="5"/>
                    </a:lnTo>
                    <a:lnTo>
                      <a:pt x="65" y="2"/>
                    </a:lnTo>
                    <a:lnTo>
                      <a:pt x="50" y="1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11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1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5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8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2" y="363"/>
                    </a:lnTo>
                    <a:lnTo>
                      <a:pt x="689" y="383"/>
                    </a:lnTo>
                    <a:lnTo>
                      <a:pt x="684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2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3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0" y="577"/>
                    </a:lnTo>
                    <a:lnTo>
                      <a:pt x="260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73320" y="5767560"/>
                <a:ext cx="82800" cy="32040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14800" y="5767560"/>
                <a:ext cx="237960" cy="320400"/>
              </a:xfrm>
              <a:custGeom>
                <a:avLst/>
                <a:gdLst/>
                <a:ahLst/>
                <a:rect l="l" t="t" r="r" b="b"/>
                <a:pathLst>
                  <a:path w="751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1" y="0"/>
                    </a:lnTo>
                    <a:lnTo>
                      <a:pt x="751" y="1009"/>
                    </a:lnTo>
                    <a:lnTo>
                      <a:pt x="634" y="1009"/>
                    </a:lnTo>
                    <a:lnTo>
                      <a:pt x="261" y="571"/>
                    </a:lnTo>
                    <a:lnTo>
                      <a:pt x="261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732120" y="5862600"/>
                <a:ext cx="65160" cy="10800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0" y="340"/>
                    </a:moveTo>
                    <a:lnTo>
                      <a:pt x="208" y="340"/>
                    </a:lnTo>
                    <a:lnTo>
                      <a:pt x="104" y="0"/>
                    </a:lnTo>
                    <a:lnTo>
                      <a:pt x="0" y="34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0080" y="5767560"/>
                <a:ext cx="312480" cy="320400"/>
              </a:xfrm>
              <a:custGeom>
                <a:avLst/>
                <a:gdLst/>
                <a:ahLst/>
                <a:rect l="l" t="t" r="r" b="b"/>
                <a:pathLst>
                  <a:path w="983" h="1009">
                    <a:moveTo>
                      <a:pt x="0" y="1009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09"/>
                    </a:lnTo>
                    <a:lnTo>
                      <a:pt x="706" y="1009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064040" y="5761080"/>
                <a:ext cx="218880" cy="331920"/>
              </a:xfrm>
              <a:custGeom>
                <a:avLst/>
                <a:gdLst/>
                <a:ahLst/>
                <a:rect l="l" t="t" r="r" b="b"/>
                <a:pathLst>
                  <a:path w="689" h="1045">
                    <a:moveTo>
                      <a:pt x="669" y="1027"/>
                    </a:moveTo>
                    <a:lnTo>
                      <a:pt x="662" y="1030"/>
                    </a:lnTo>
                    <a:lnTo>
                      <a:pt x="655" y="1031"/>
                    </a:lnTo>
                    <a:lnTo>
                      <a:pt x="646" y="1033"/>
                    </a:lnTo>
                    <a:lnTo>
                      <a:pt x="639" y="1035"/>
                    </a:lnTo>
                    <a:lnTo>
                      <a:pt x="631" y="1036"/>
                    </a:lnTo>
                    <a:lnTo>
                      <a:pt x="623" y="1038"/>
                    </a:lnTo>
                    <a:lnTo>
                      <a:pt x="615" y="1039"/>
                    </a:lnTo>
                    <a:lnTo>
                      <a:pt x="606" y="1040"/>
                    </a:lnTo>
                    <a:lnTo>
                      <a:pt x="599" y="1041"/>
                    </a:lnTo>
                    <a:lnTo>
                      <a:pt x="590" y="1042"/>
                    </a:lnTo>
                    <a:lnTo>
                      <a:pt x="581" y="1042"/>
                    </a:lnTo>
                    <a:lnTo>
                      <a:pt x="573" y="1044"/>
                    </a:lnTo>
                    <a:lnTo>
                      <a:pt x="563" y="1044"/>
                    </a:lnTo>
                    <a:lnTo>
                      <a:pt x="554" y="1045"/>
                    </a:lnTo>
                    <a:lnTo>
                      <a:pt x="544" y="1045"/>
                    </a:lnTo>
                    <a:lnTo>
                      <a:pt x="535" y="1045"/>
                    </a:lnTo>
                    <a:lnTo>
                      <a:pt x="505" y="1044"/>
                    </a:lnTo>
                    <a:lnTo>
                      <a:pt x="476" y="1042"/>
                    </a:lnTo>
                    <a:lnTo>
                      <a:pt x="449" y="1039"/>
                    </a:lnTo>
                    <a:lnTo>
                      <a:pt x="421" y="1035"/>
                    </a:lnTo>
                    <a:lnTo>
                      <a:pt x="394" y="1031"/>
                    </a:lnTo>
                    <a:lnTo>
                      <a:pt x="369" y="1025"/>
                    </a:lnTo>
                    <a:lnTo>
                      <a:pt x="343" y="1017"/>
                    </a:lnTo>
                    <a:lnTo>
                      <a:pt x="318" y="1009"/>
                    </a:lnTo>
                    <a:lnTo>
                      <a:pt x="294" y="999"/>
                    </a:lnTo>
                    <a:lnTo>
                      <a:pt x="271" y="989"/>
                    </a:lnTo>
                    <a:lnTo>
                      <a:pt x="249" y="977"/>
                    </a:lnTo>
                    <a:lnTo>
                      <a:pt x="228" y="964"/>
                    </a:lnTo>
                    <a:lnTo>
                      <a:pt x="207" y="950"/>
                    </a:lnTo>
                    <a:lnTo>
                      <a:pt x="186" y="935"/>
                    </a:lnTo>
                    <a:lnTo>
                      <a:pt x="167" y="919"/>
                    </a:lnTo>
                    <a:lnTo>
                      <a:pt x="148" y="902"/>
                    </a:lnTo>
                    <a:lnTo>
                      <a:pt x="130" y="884"/>
                    </a:lnTo>
                    <a:lnTo>
                      <a:pt x="113" y="865"/>
                    </a:lnTo>
                    <a:lnTo>
                      <a:pt x="98" y="845"/>
                    </a:lnTo>
                    <a:lnTo>
                      <a:pt x="83" y="825"/>
                    </a:lnTo>
                    <a:lnTo>
                      <a:pt x="70" y="804"/>
                    </a:lnTo>
                    <a:lnTo>
                      <a:pt x="58" y="782"/>
                    </a:lnTo>
                    <a:lnTo>
                      <a:pt x="47" y="760"/>
                    </a:lnTo>
                    <a:lnTo>
                      <a:pt x="37" y="737"/>
                    </a:lnTo>
                    <a:lnTo>
                      <a:pt x="28" y="714"/>
                    </a:lnTo>
                    <a:lnTo>
                      <a:pt x="21" y="690"/>
                    </a:lnTo>
                    <a:lnTo>
                      <a:pt x="15" y="664"/>
                    </a:lnTo>
                    <a:lnTo>
                      <a:pt x="9" y="639"/>
                    </a:lnTo>
                    <a:lnTo>
                      <a:pt x="5" y="613"/>
                    </a:lnTo>
                    <a:lnTo>
                      <a:pt x="2" y="586"/>
                    </a:lnTo>
                    <a:lnTo>
                      <a:pt x="1" y="558"/>
                    </a:lnTo>
                    <a:lnTo>
                      <a:pt x="0" y="530"/>
                    </a:lnTo>
                    <a:lnTo>
                      <a:pt x="1" y="502"/>
                    </a:lnTo>
                    <a:lnTo>
                      <a:pt x="3" y="473"/>
                    </a:lnTo>
                    <a:lnTo>
                      <a:pt x="5" y="447"/>
                    </a:lnTo>
                    <a:lnTo>
                      <a:pt x="9" y="420"/>
                    </a:lnTo>
                    <a:lnTo>
                      <a:pt x="16" y="395"/>
                    </a:lnTo>
                    <a:lnTo>
                      <a:pt x="22" y="368"/>
                    </a:lnTo>
                    <a:lnTo>
                      <a:pt x="29" y="344"/>
                    </a:lnTo>
                    <a:lnTo>
                      <a:pt x="39" y="320"/>
                    </a:lnTo>
                    <a:lnTo>
                      <a:pt x="48" y="297"/>
                    </a:lnTo>
                    <a:lnTo>
                      <a:pt x="60" y="274"/>
                    </a:lnTo>
                    <a:lnTo>
                      <a:pt x="72" y="252"/>
                    </a:lnTo>
                    <a:lnTo>
                      <a:pt x="86" y="230"/>
                    </a:lnTo>
                    <a:lnTo>
                      <a:pt x="101" y="210"/>
                    </a:lnTo>
                    <a:lnTo>
                      <a:pt x="118" y="189"/>
                    </a:lnTo>
                    <a:lnTo>
                      <a:pt x="134" y="169"/>
                    </a:lnTo>
                    <a:lnTo>
                      <a:pt x="153" y="150"/>
                    </a:lnTo>
                    <a:lnTo>
                      <a:pt x="173" y="132"/>
                    </a:lnTo>
                    <a:lnTo>
                      <a:pt x="193" y="115"/>
                    </a:lnTo>
                    <a:lnTo>
                      <a:pt x="214" y="100"/>
                    </a:lnTo>
                    <a:lnTo>
                      <a:pt x="235" y="85"/>
                    </a:lnTo>
                    <a:lnTo>
                      <a:pt x="257" y="71"/>
                    </a:lnTo>
                    <a:lnTo>
                      <a:pt x="281" y="59"/>
                    </a:lnTo>
                    <a:lnTo>
                      <a:pt x="304" y="48"/>
                    </a:lnTo>
                    <a:lnTo>
                      <a:pt x="328" y="38"/>
                    </a:lnTo>
                    <a:lnTo>
                      <a:pt x="352" y="29"/>
                    </a:lnTo>
                    <a:lnTo>
                      <a:pt x="377" y="21"/>
                    </a:lnTo>
                    <a:lnTo>
                      <a:pt x="403" y="15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3"/>
                    </a:lnTo>
                    <a:lnTo>
                      <a:pt x="515" y="1"/>
                    </a:lnTo>
                    <a:lnTo>
                      <a:pt x="543" y="0"/>
                    </a:lnTo>
                    <a:lnTo>
                      <a:pt x="551" y="0"/>
                    </a:lnTo>
                    <a:lnTo>
                      <a:pt x="558" y="1"/>
                    </a:lnTo>
                    <a:lnTo>
                      <a:pt x="564" y="1"/>
                    </a:lnTo>
                    <a:lnTo>
                      <a:pt x="572" y="1"/>
                    </a:lnTo>
                    <a:lnTo>
                      <a:pt x="579" y="2"/>
                    </a:lnTo>
                    <a:lnTo>
                      <a:pt x="586" y="2"/>
                    </a:lnTo>
                    <a:lnTo>
                      <a:pt x="594" y="3"/>
                    </a:lnTo>
                    <a:lnTo>
                      <a:pt x="602" y="4"/>
                    </a:lnTo>
                    <a:lnTo>
                      <a:pt x="610" y="5"/>
                    </a:lnTo>
                    <a:lnTo>
                      <a:pt x="617" y="6"/>
                    </a:lnTo>
                    <a:lnTo>
                      <a:pt x="625" y="7"/>
                    </a:lnTo>
                    <a:lnTo>
                      <a:pt x="633" y="8"/>
                    </a:lnTo>
                    <a:lnTo>
                      <a:pt x="641" y="9"/>
                    </a:lnTo>
                    <a:lnTo>
                      <a:pt x="648" y="11"/>
                    </a:lnTo>
                    <a:lnTo>
                      <a:pt x="657" y="13"/>
                    </a:lnTo>
                    <a:lnTo>
                      <a:pt x="665" y="15"/>
                    </a:lnTo>
                    <a:lnTo>
                      <a:pt x="679" y="314"/>
                    </a:lnTo>
                    <a:lnTo>
                      <a:pt x="670" y="311"/>
                    </a:lnTo>
                    <a:lnTo>
                      <a:pt x="661" y="306"/>
                    </a:lnTo>
                    <a:lnTo>
                      <a:pt x="652" y="303"/>
                    </a:lnTo>
                    <a:lnTo>
                      <a:pt x="643" y="300"/>
                    </a:lnTo>
                    <a:lnTo>
                      <a:pt x="635" y="298"/>
                    </a:lnTo>
                    <a:lnTo>
                      <a:pt x="625" y="295"/>
                    </a:lnTo>
                    <a:lnTo>
                      <a:pt x="617" y="293"/>
                    </a:lnTo>
                    <a:lnTo>
                      <a:pt x="608" y="291"/>
                    </a:lnTo>
                    <a:lnTo>
                      <a:pt x="600" y="289"/>
                    </a:lnTo>
                    <a:lnTo>
                      <a:pt x="591" y="288"/>
                    </a:lnTo>
                    <a:lnTo>
                      <a:pt x="582" y="286"/>
                    </a:lnTo>
                    <a:lnTo>
                      <a:pt x="574" y="285"/>
                    </a:lnTo>
                    <a:lnTo>
                      <a:pt x="565" y="284"/>
                    </a:lnTo>
                    <a:lnTo>
                      <a:pt x="557" y="283"/>
                    </a:lnTo>
                    <a:lnTo>
                      <a:pt x="549" y="283"/>
                    </a:lnTo>
                    <a:lnTo>
                      <a:pt x="541" y="283"/>
                    </a:lnTo>
                    <a:lnTo>
                      <a:pt x="526" y="283"/>
                    </a:lnTo>
                    <a:lnTo>
                      <a:pt x="512" y="284"/>
                    </a:lnTo>
                    <a:lnTo>
                      <a:pt x="498" y="285"/>
                    </a:lnTo>
                    <a:lnTo>
                      <a:pt x="484" y="288"/>
                    </a:lnTo>
                    <a:lnTo>
                      <a:pt x="471" y="290"/>
                    </a:lnTo>
                    <a:lnTo>
                      <a:pt x="458" y="293"/>
                    </a:lnTo>
                    <a:lnTo>
                      <a:pt x="446" y="296"/>
                    </a:lnTo>
                    <a:lnTo>
                      <a:pt x="433" y="300"/>
                    </a:lnTo>
                    <a:lnTo>
                      <a:pt x="421" y="304"/>
                    </a:lnTo>
                    <a:lnTo>
                      <a:pt x="410" y="310"/>
                    </a:lnTo>
                    <a:lnTo>
                      <a:pt x="398" y="315"/>
                    </a:lnTo>
                    <a:lnTo>
                      <a:pt x="388" y="321"/>
                    </a:lnTo>
                    <a:lnTo>
                      <a:pt x="377" y="327"/>
                    </a:lnTo>
                    <a:lnTo>
                      <a:pt x="367" y="334"/>
                    </a:lnTo>
                    <a:lnTo>
                      <a:pt x="356" y="342"/>
                    </a:lnTo>
                    <a:lnTo>
                      <a:pt x="347" y="349"/>
                    </a:lnTo>
                    <a:lnTo>
                      <a:pt x="338" y="359"/>
                    </a:lnTo>
                    <a:lnTo>
                      <a:pt x="330" y="367"/>
                    </a:lnTo>
                    <a:lnTo>
                      <a:pt x="321" y="377"/>
                    </a:lnTo>
                    <a:lnTo>
                      <a:pt x="314" y="386"/>
                    </a:lnTo>
                    <a:lnTo>
                      <a:pt x="308" y="396"/>
                    </a:lnTo>
                    <a:lnTo>
                      <a:pt x="302" y="405"/>
                    </a:lnTo>
                    <a:lnTo>
                      <a:pt x="296" y="416"/>
                    </a:lnTo>
                    <a:lnTo>
                      <a:pt x="291" y="426"/>
                    </a:lnTo>
                    <a:lnTo>
                      <a:pt x="287" y="437"/>
                    </a:lnTo>
                    <a:lnTo>
                      <a:pt x="283" y="448"/>
                    </a:lnTo>
                    <a:lnTo>
                      <a:pt x="279" y="460"/>
                    </a:lnTo>
                    <a:lnTo>
                      <a:pt x="277" y="471"/>
                    </a:lnTo>
                    <a:lnTo>
                      <a:pt x="275" y="483"/>
                    </a:lnTo>
                    <a:lnTo>
                      <a:pt x="273" y="495"/>
                    </a:lnTo>
                    <a:lnTo>
                      <a:pt x="272" y="508"/>
                    </a:lnTo>
                    <a:lnTo>
                      <a:pt x="272" y="521"/>
                    </a:lnTo>
                    <a:lnTo>
                      <a:pt x="272" y="533"/>
                    </a:lnTo>
                    <a:lnTo>
                      <a:pt x="273" y="546"/>
                    </a:lnTo>
                    <a:lnTo>
                      <a:pt x="274" y="557"/>
                    </a:lnTo>
                    <a:lnTo>
                      <a:pt x="276" y="570"/>
                    </a:lnTo>
                    <a:lnTo>
                      <a:pt x="279" y="582"/>
                    </a:lnTo>
                    <a:lnTo>
                      <a:pt x="283" y="593"/>
                    </a:lnTo>
                    <a:lnTo>
                      <a:pt x="287" y="604"/>
                    </a:lnTo>
                    <a:lnTo>
                      <a:pt x="291" y="615"/>
                    </a:lnTo>
                    <a:lnTo>
                      <a:pt x="295" y="626"/>
                    </a:lnTo>
                    <a:lnTo>
                      <a:pt x="302" y="636"/>
                    </a:lnTo>
                    <a:lnTo>
                      <a:pt x="307" y="646"/>
                    </a:lnTo>
                    <a:lnTo>
                      <a:pt x="314" y="656"/>
                    </a:lnTo>
                    <a:lnTo>
                      <a:pt x="321" y="666"/>
                    </a:lnTo>
                    <a:lnTo>
                      <a:pt x="329" y="675"/>
                    </a:lnTo>
                    <a:lnTo>
                      <a:pt x="337" y="683"/>
                    </a:lnTo>
                    <a:lnTo>
                      <a:pt x="347" y="693"/>
                    </a:lnTo>
                    <a:lnTo>
                      <a:pt x="356" y="701"/>
                    </a:lnTo>
                    <a:lnTo>
                      <a:pt x="366" y="709"/>
                    </a:lnTo>
                    <a:lnTo>
                      <a:pt x="375" y="716"/>
                    </a:lnTo>
                    <a:lnTo>
                      <a:pt x="386" y="722"/>
                    </a:lnTo>
                    <a:lnTo>
                      <a:pt x="396" y="729"/>
                    </a:lnTo>
                    <a:lnTo>
                      <a:pt x="408" y="735"/>
                    </a:lnTo>
                    <a:lnTo>
                      <a:pt x="418" y="740"/>
                    </a:lnTo>
                    <a:lnTo>
                      <a:pt x="430" y="744"/>
                    </a:lnTo>
                    <a:lnTo>
                      <a:pt x="441" y="748"/>
                    </a:lnTo>
                    <a:lnTo>
                      <a:pt x="454" y="752"/>
                    </a:lnTo>
                    <a:lnTo>
                      <a:pt x="466" y="755"/>
                    </a:lnTo>
                    <a:lnTo>
                      <a:pt x="478" y="757"/>
                    </a:lnTo>
                    <a:lnTo>
                      <a:pt x="492" y="759"/>
                    </a:lnTo>
                    <a:lnTo>
                      <a:pt x="504" y="761"/>
                    </a:lnTo>
                    <a:lnTo>
                      <a:pt x="518" y="761"/>
                    </a:lnTo>
                    <a:lnTo>
                      <a:pt x="532" y="762"/>
                    </a:lnTo>
                    <a:lnTo>
                      <a:pt x="542" y="761"/>
                    </a:lnTo>
                    <a:lnTo>
                      <a:pt x="552" y="761"/>
                    </a:lnTo>
                    <a:lnTo>
                      <a:pt x="562" y="760"/>
                    </a:lnTo>
                    <a:lnTo>
                      <a:pt x="572" y="759"/>
                    </a:lnTo>
                    <a:lnTo>
                      <a:pt x="582" y="758"/>
                    </a:lnTo>
                    <a:lnTo>
                      <a:pt x="592" y="756"/>
                    </a:lnTo>
                    <a:lnTo>
                      <a:pt x="601" y="754"/>
                    </a:lnTo>
                    <a:lnTo>
                      <a:pt x="612" y="752"/>
                    </a:lnTo>
                    <a:lnTo>
                      <a:pt x="621" y="748"/>
                    </a:lnTo>
                    <a:lnTo>
                      <a:pt x="631" y="745"/>
                    </a:lnTo>
                    <a:lnTo>
                      <a:pt x="641" y="742"/>
                    </a:lnTo>
                    <a:lnTo>
                      <a:pt x="651" y="739"/>
                    </a:lnTo>
                    <a:lnTo>
                      <a:pt x="660" y="735"/>
                    </a:lnTo>
                    <a:lnTo>
                      <a:pt x="670" y="731"/>
                    </a:lnTo>
                    <a:lnTo>
                      <a:pt x="680" y="725"/>
                    </a:lnTo>
                    <a:lnTo>
                      <a:pt x="689" y="721"/>
                    </a:lnTo>
                    <a:lnTo>
                      <a:pt x="669" y="1027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98840" y="5846760"/>
                <a:ext cx="152640" cy="160200"/>
              </a:xfrm>
              <a:custGeom>
                <a:avLst/>
                <a:gdLst/>
                <a:ahLst/>
                <a:rect l="l" t="t" r="r" b="b"/>
                <a:pathLst>
                  <a:path w="481" h="501">
                    <a:moveTo>
                      <a:pt x="240" y="0"/>
                    </a:moveTo>
                    <a:lnTo>
                      <a:pt x="227" y="1"/>
                    </a:lnTo>
                    <a:lnTo>
                      <a:pt x="216" y="2"/>
                    </a:lnTo>
                    <a:lnTo>
                      <a:pt x="203" y="3"/>
                    </a:lnTo>
                    <a:lnTo>
                      <a:pt x="192" y="5"/>
                    </a:lnTo>
                    <a:lnTo>
                      <a:pt x="180" y="7"/>
                    </a:lnTo>
                    <a:lnTo>
                      <a:pt x="168" y="10"/>
                    </a:lnTo>
                    <a:lnTo>
                      <a:pt x="157" y="14"/>
                    </a:lnTo>
                    <a:lnTo>
                      <a:pt x="146" y="19"/>
                    </a:lnTo>
                    <a:lnTo>
                      <a:pt x="136" y="23"/>
                    </a:lnTo>
                    <a:lnTo>
                      <a:pt x="125" y="28"/>
                    </a:lnTo>
                    <a:lnTo>
                      <a:pt x="116" y="34"/>
                    </a:lnTo>
                    <a:lnTo>
                      <a:pt x="105" y="41"/>
                    </a:lnTo>
                    <a:lnTo>
                      <a:pt x="96" y="48"/>
                    </a:lnTo>
                    <a:lnTo>
                      <a:pt x="86" y="55"/>
                    </a:lnTo>
                    <a:lnTo>
                      <a:pt x="78" y="64"/>
                    </a:lnTo>
                    <a:lnTo>
                      <a:pt x="69" y="72"/>
                    </a:lnTo>
                    <a:lnTo>
                      <a:pt x="60" y="82"/>
                    </a:lnTo>
                    <a:lnTo>
                      <a:pt x="53" y="91"/>
                    </a:lnTo>
                    <a:lnTo>
                      <a:pt x="45" y="101"/>
                    </a:lnTo>
                    <a:lnTo>
                      <a:pt x="39" y="110"/>
                    </a:lnTo>
                    <a:lnTo>
                      <a:pt x="33" y="120"/>
                    </a:lnTo>
                    <a:lnTo>
                      <a:pt x="27" y="131"/>
                    </a:lnTo>
                    <a:lnTo>
                      <a:pt x="21" y="141"/>
                    </a:lnTo>
                    <a:lnTo>
                      <a:pt x="17" y="153"/>
                    </a:lnTo>
                    <a:lnTo>
                      <a:pt x="13" y="165"/>
                    </a:lnTo>
                    <a:lnTo>
                      <a:pt x="10" y="176"/>
                    </a:lnTo>
                    <a:lnTo>
                      <a:pt x="7" y="188"/>
                    </a:lnTo>
                    <a:lnTo>
                      <a:pt x="4" y="199"/>
                    </a:lnTo>
                    <a:lnTo>
                      <a:pt x="2" y="212"/>
                    </a:lnTo>
                    <a:lnTo>
                      <a:pt x="1" y="224"/>
                    </a:lnTo>
                    <a:lnTo>
                      <a:pt x="0" y="237"/>
                    </a:lnTo>
                    <a:lnTo>
                      <a:pt x="0" y="251"/>
                    </a:lnTo>
                    <a:lnTo>
                      <a:pt x="0" y="263"/>
                    </a:lnTo>
                    <a:lnTo>
                      <a:pt x="1" y="277"/>
                    </a:lnTo>
                    <a:lnTo>
                      <a:pt x="2" y="290"/>
                    </a:lnTo>
                    <a:lnTo>
                      <a:pt x="4" y="301"/>
                    </a:lnTo>
                    <a:lnTo>
                      <a:pt x="7" y="314"/>
                    </a:lnTo>
                    <a:lnTo>
                      <a:pt x="10" y="325"/>
                    </a:lnTo>
                    <a:lnTo>
                      <a:pt x="13" y="337"/>
                    </a:lnTo>
                    <a:lnTo>
                      <a:pt x="17" y="348"/>
                    </a:lnTo>
                    <a:lnTo>
                      <a:pt x="21" y="359"/>
                    </a:lnTo>
                    <a:lnTo>
                      <a:pt x="27" y="370"/>
                    </a:lnTo>
                    <a:lnTo>
                      <a:pt x="33" y="380"/>
                    </a:lnTo>
                    <a:lnTo>
                      <a:pt x="39" y="390"/>
                    </a:lnTo>
                    <a:lnTo>
                      <a:pt x="45" y="401"/>
                    </a:lnTo>
                    <a:lnTo>
                      <a:pt x="53" y="410"/>
                    </a:lnTo>
                    <a:lnTo>
                      <a:pt x="60" y="420"/>
                    </a:lnTo>
                    <a:lnTo>
                      <a:pt x="69" y="428"/>
                    </a:lnTo>
                    <a:lnTo>
                      <a:pt x="77" y="438"/>
                    </a:lnTo>
                    <a:lnTo>
                      <a:pt x="86" y="445"/>
                    </a:lnTo>
                    <a:lnTo>
                      <a:pt x="96" y="453"/>
                    </a:lnTo>
                    <a:lnTo>
                      <a:pt x="105" y="460"/>
                    </a:lnTo>
                    <a:lnTo>
                      <a:pt x="115" y="466"/>
                    </a:lnTo>
                    <a:lnTo>
                      <a:pt x="125" y="472"/>
                    </a:lnTo>
                    <a:lnTo>
                      <a:pt x="136" y="477"/>
                    </a:lnTo>
                    <a:lnTo>
                      <a:pt x="146" y="483"/>
                    </a:lnTo>
                    <a:lnTo>
                      <a:pt x="157" y="487"/>
                    </a:lnTo>
                    <a:lnTo>
                      <a:pt x="168" y="490"/>
                    </a:lnTo>
                    <a:lnTo>
                      <a:pt x="179" y="493"/>
                    </a:lnTo>
                    <a:lnTo>
                      <a:pt x="192" y="496"/>
                    </a:lnTo>
                    <a:lnTo>
                      <a:pt x="203" y="497"/>
                    </a:lnTo>
                    <a:lnTo>
                      <a:pt x="215" y="500"/>
                    </a:lnTo>
                    <a:lnTo>
                      <a:pt x="227" y="500"/>
                    </a:lnTo>
                    <a:lnTo>
                      <a:pt x="240" y="501"/>
                    </a:lnTo>
                    <a:lnTo>
                      <a:pt x="253" y="500"/>
                    </a:lnTo>
                    <a:lnTo>
                      <a:pt x="265" y="500"/>
                    </a:lnTo>
                    <a:lnTo>
                      <a:pt x="278" y="497"/>
                    </a:lnTo>
                    <a:lnTo>
                      <a:pt x="289" y="496"/>
                    </a:lnTo>
                    <a:lnTo>
                      <a:pt x="301" y="493"/>
                    </a:lnTo>
                    <a:lnTo>
                      <a:pt x="312" y="490"/>
                    </a:lnTo>
                    <a:lnTo>
                      <a:pt x="323" y="487"/>
                    </a:lnTo>
                    <a:lnTo>
                      <a:pt x="335" y="483"/>
                    </a:lnTo>
                    <a:lnTo>
                      <a:pt x="345" y="477"/>
                    </a:lnTo>
                    <a:lnTo>
                      <a:pt x="356" y="472"/>
                    </a:lnTo>
                    <a:lnTo>
                      <a:pt x="365" y="466"/>
                    </a:lnTo>
                    <a:lnTo>
                      <a:pt x="376" y="460"/>
                    </a:lnTo>
                    <a:lnTo>
                      <a:pt x="385" y="453"/>
                    </a:lnTo>
                    <a:lnTo>
                      <a:pt x="393" y="445"/>
                    </a:lnTo>
                    <a:lnTo>
                      <a:pt x="403" y="437"/>
                    </a:lnTo>
                    <a:lnTo>
                      <a:pt x="411" y="428"/>
                    </a:lnTo>
                    <a:lnTo>
                      <a:pt x="420" y="419"/>
                    </a:lnTo>
                    <a:lnTo>
                      <a:pt x="428" y="409"/>
                    </a:lnTo>
                    <a:lnTo>
                      <a:pt x="435" y="400"/>
                    </a:lnTo>
                    <a:lnTo>
                      <a:pt x="442" y="390"/>
                    </a:lnTo>
                    <a:lnTo>
                      <a:pt x="448" y="380"/>
                    </a:lnTo>
                    <a:lnTo>
                      <a:pt x="453" y="369"/>
                    </a:lnTo>
                    <a:lnTo>
                      <a:pt x="459" y="359"/>
                    </a:lnTo>
                    <a:lnTo>
                      <a:pt x="464" y="347"/>
                    </a:lnTo>
                    <a:lnTo>
                      <a:pt x="467" y="337"/>
                    </a:lnTo>
                    <a:lnTo>
                      <a:pt x="471" y="325"/>
                    </a:lnTo>
                    <a:lnTo>
                      <a:pt x="474" y="314"/>
                    </a:lnTo>
                    <a:lnTo>
                      <a:pt x="476" y="301"/>
                    </a:lnTo>
                    <a:lnTo>
                      <a:pt x="479" y="288"/>
                    </a:lnTo>
                    <a:lnTo>
                      <a:pt x="480" y="276"/>
                    </a:lnTo>
                    <a:lnTo>
                      <a:pt x="481" y="263"/>
                    </a:lnTo>
                    <a:lnTo>
                      <a:pt x="481" y="251"/>
                    </a:lnTo>
                    <a:lnTo>
                      <a:pt x="481" y="237"/>
                    </a:lnTo>
                    <a:lnTo>
                      <a:pt x="480" y="224"/>
                    </a:lnTo>
                    <a:lnTo>
                      <a:pt x="479" y="212"/>
                    </a:lnTo>
                    <a:lnTo>
                      <a:pt x="476" y="200"/>
                    </a:lnTo>
                    <a:lnTo>
                      <a:pt x="474" y="188"/>
                    </a:lnTo>
                    <a:lnTo>
                      <a:pt x="471" y="176"/>
                    </a:lnTo>
                    <a:lnTo>
                      <a:pt x="467" y="165"/>
                    </a:lnTo>
                    <a:lnTo>
                      <a:pt x="464" y="153"/>
                    </a:lnTo>
                    <a:lnTo>
                      <a:pt x="459" y="143"/>
                    </a:lnTo>
                    <a:lnTo>
                      <a:pt x="453" y="132"/>
                    </a:lnTo>
                    <a:lnTo>
                      <a:pt x="448" y="122"/>
                    </a:lnTo>
                    <a:lnTo>
                      <a:pt x="442" y="111"/>
                    </a:lnTo>
                    <a:lnTo>
                      <a:pt x="435" y="102"/>
                    </a:lnTo>
                    <a:lnTo>
                      <a:pt x="428" y="91"/>
                    </a:lnTo>
                    <a:lnTo>
                      <a:pt x="420" y="82"/>
                    </a:lnTo>
                    <a:lnTo>
                      <a:pt x="411" y="73"/>
                    </a:lnTo>
                    <a:lnTo>
                      <a:pt x="403" y="64"/>
                    </a:lnTo>
                    <a:lnTo>
                      <a:pt x="393" y="55"/>
                    </a:lnTo>
                    <a:lnTo>
                      <a:pt x="385" y="48"/>
                    </a:lnTo>
                    <a:lnTo>
                      <a:pt x="376" y="41"/>
                    </a:lnTo>
                    <a:lnTo>
                      <a:pt x="365" y="34"/>
                    </a:lnTo>
                    <a:lnTo>
                      <a:pt x="356" y="29"/>
                    </a:lnTo>
                    <a:lnTo>
                      <a:pt x="345" y="23"/>
                    </a:lnTo>
                    <a:lnTo>
                      <a:pt x="335" y="19"/>
                    </a:lnTo>
                    <a:lnTo>
                      <a:pt x="323" y="14"/>
                    </a:lnTo>
                    <a:lnTo>
                      <a:pt x="312" y="10"/>
                    </a:lnTo>
                    <a:lnTo>
                      <a:pt x="301" y="7"/>
                    </a:lnTo>
                    <a:lnTo>
                      <a:pt x="289" y="5"/>
                    </a:lnTo>
                    <a:lnTo>
                      <a:pt x="278" y="3"/>
                    </a:lnTo>
                    <a:lnTo>
                      <a:pt x="265" y="2"/>
                    </a:lnTo>
                    <a:lnTo>
                      <a:pt x="253" y="1"/>
                    </a:lnTo>
                    <a:lnTo>
                      <a:pt x="240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31316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1" y="6"/>
                    </a:lnTo>
                    <a:lnTo>
                      <a:pt x="604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0" y="97"/>
                    </a:lnTo>
                    <a:lnTo>
                      <a:pt x="828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2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2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8"/>
                    </a:lnTo>
                    <a:lnTo>
                      <a:pt x="827" y="954"/>
                    </a:lnTo>
                    <a:lnTo>
                      <a:pt x="810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4" y="1056"/>
                    </a:lnTo>
                    <a:lnTo>
                      <a:pt x="581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8" y="1056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39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4"/>
                    </a:lnTo>
                    <a:lnTo>
                      <a:pt x="269" y="1003"/>
                    </a:lnTo>
                    <a:lnTo>
                      <a:pt x="250" y="993"/>
                    </a:lnTo>
                    <a:lnTo>
                      <a:pt x="231" y="980"/>
                    </a:lnTo>
                    <a:lnTo>
                      <a:pt x="212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6" y="754"/>
                    </a:lnTo>
                    <a:lnTo>
                      <a:pt x="36" y="728"/>
                    </a:lnTo>
                    <a:lnTo>
                      <a:pt x="26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6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2"/>
                    </a:lnTo>
                    <a:lnTo>
                      <a:pt x="3" y="474"/>
                    </a:lnTo>
                    <a:lnTo>
                      <a:pt x="6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6" y="363"/>
                    </a:lnTo>
                    <a:lnTo>
                      <a:pt x="35" y="336"/>
                    </a:lnTo>
                    <a:lnTo>
                      <a:pt x="46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6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2" y="97"/>
                    </a:lnTo>
                    <a:lnTo>
                      <a:pt x="231" y="84"/>
                    </a:lnTo>
                    <a:lnTo>
                      <a:pt x="250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6"/>
                    </a:lnTo>
                    <a:lnTo>
                      <a:pt x="373" y="18"/>
                    </a:lnTo>
                    <a:lnTo>
                      <a:pt x="396" y="13"/>
                    </a:lnTo>
                    <a:lnTo>
                      <a:pt x="418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8200" y="5767560"/>
                <a:ext cx="238320" cy="320400"/>
              </a:xfrm>
              <a:custGeom>
                <a:avLst/>
                <a:gdLst/>
                <a:ahLst/>
                <a:rect l="l" t="t" r="r" b="b"/>
                <a:pathLst>
                  <a:path w="752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5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2" y="0"/>
                    </a:lnTo>
                    <a:lnTo>
                      <a:pt x="752" y="1009"/>
                    </a:lnTo>
                    <a:lnTo>
                      <a:pt x="633" y="1009"/>
                    </a:lnTo>
                    <a:lnTo>
                      <a:pt x="262" y="571"/>
                    </a:lnTo>
                    <a:lnTo>
                      <a:pt x="262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54760" y="5850000"/>
                <a:ext cx="69840" cy="152280"/>
              </a:xfrm>
              <a:custGeom>
                <a:avLst/>
                <a:gdLst/>
                <a:ahLst/>
                <a:rect l="l" t="t" r="r" b="b"/>
                <a:pathLst>
                  <a:path w="222" h="478">
                    <a:moveTo>
                      <a:pt x="0" y="478"/>
                    </a:moveTo>
                    <a:lnTo>
                      <a:pt x="24" y="475"/>
                    </a:lnTo>
                    <a:lnTo>
                      <a:pt x="48" y="469"/>
                    </a:lnTo>
                    <a:lnTo>
                      <a:pt x="59" y="466"/>
                    </a:lnTo>
                    <a:lnTo>
                      <a:pt x="70" y="463"/>
                    </a:lnTo>
                    <a:lnTo>
                      <a:pt x="81" y="459"/>
                    </a:lnTo>
                    <a:lnTo>
                      <a:pt x="91" y="455"/>
                    </a:lnTo>
                    <a:lnTo>
                      <a:pt x="100" y="450"/>
                    </a:lnTo>
                    <a:lnTo>
                      <a:pt x="111" y="444"/>
                    </a:lnTo>
                    <a:lnTo>
                      <a:pt x="119" y="439"/>
                    </a:lnTo>
                    <a:lnTo>
                      <a:pt x="129" y="433"/>
                    </a:lnTo>
                    <a:lnTo>
                      <a:pt x="137" y="425"/>
                    </a:lnTo>
                    <a:lnTo>
                      <a:pt x="146" y="419"/>
                    </a:lnTo>
                    <a:lnTo>
                      <a:pt x="154" y="412"/>
                    </a:lnTo>
                    <a:lnTo>
                      <a:pt x="162" y="403"/>
                    </a:lnTo>
                    <a:lnTo>
                      <a:pt x="169" y="395"/>
                    </a:lnTo>
                    <a:lnTo>
                      <a:pt x="176" y="387"/>
                    </a:lnTo>
                    <a:lnTo>
                      <a:pt x="182" y="378"/>
                    </a:lnTo>
                    <a:lnTo>
                      <a:pt x="189" y="369"/>
                    </a:lnTo>
                    <a:lnTo>
                      <a:pt x="194" y="359"/>
                    </a:lnTo>
                    <a:lnTo>
                      <a:pt x="199" y="350"/>
                    </a:lnTo>
                    <a:lnTo>
                      <a:pt x="203" y="340"/>
                    </a:lnTo>
                    <a:lnTo>
                      <a:pt x="208" y="330"/>
                    </a:lnTo>
                    <a:lnTo>
                      <a:pt x="214" y="310"/>
                    </a:lnTo>
                    <a:lnTo>
                      <a:pt x="219" y="288"/>
                    </a:lnTo>
                    <a:lnTo>
                      <a:pt x="221" y="265"/>
                    </a:lnTo>
                    <a:lnTo>
                      <a:pt x="222" y="241"/>
                    </a:lnTo>
                    <a:lnTo>
                      <a:pt x="221" y="215"/>
                    </a:lnTo>
                    <a:lnTo>
                      <a:pt x="219" y="191"/>
                    </a:lnTo>
                    <a:lnTo>
                      <a:pt x="217" y="180"/>
                    </a:lnTo>
                    <a:lnTo>
                      <a:pt x="214" y="168"/>
                    </a:lnTo>
                    <a:lnTo>
                      <a:pt x="211" y="157"/>
                    </a:lnTo>
                    <a:lnTo>
                      <a:pt x="208" y="146"/>
                    </a:lnTo>
                    <a:lnTo>
                      <a:pt x="203" y="136"/>
                    </a:lnTo>
                    <a:lnTo>
                      <a:pt x="198" y="125"/>
                    </a:lnTo>
                    <a:lnTo>
                      <a:pt x="194" y="115"/>
                    </a:lnTo>
                    <a:lnTo>
                      <a:pt x="188" y="105"/>
                    </a:lnTo>
                    <a:lnTo>
                      <a:pt x="181" y="96"/>
                    </a:lnTo>
                    <a:lnTo>
                      <a:pt x="175" y="86"/>
                    </a:lnTo>
                    <a:lnTo>
                      <a:pt x="169" y="78"/>
                    </a:lnTo>
                    <a:lnTo>
                      <a:pt x="161" y="69"/>
                    </a:lnTo>
                    <a:lnTo>
                      <a:pt x="153" y="61"/>
                    </a:lnTo>
                    <a:lnTo>
                      <a:pt x="145" y="54"/>
                    </a:lnTo>
                    <a:lnTo>
                      <a:pt x="136" y="46"/>
                    </a:lnTo>
                    <a:lnTo>
                      <a:pt x="128" y="40"/>
                    </a:lnTo>
                    <a:lnTo>
                      <a:pt x="118" y="34"/>
                    </a:lnTo>
                    <a:lnTo>
                      <a:pt x="109" y="27"/>
                    </a:lnTo>
                    <a:lnTo>
                      <a:pt x="99" y="23"/>
                    </a:lnTo>
                    <a:lnTo>
                      <a:pt x="90" y="18"/>
                    </a:lnTo>
                    <a:lnTo>
                      <a:pt x="79" y="14"/>
                    </a:lnTo>
                    <a:lnTo>
                      <a:pt x="69" y="11"/>
                    </a:lnTo>
                    <a:lnTo>
                      <a:pt x="58" y="7"/>
                    </a:lnTo>
                    <a:lnTo>
                      <a:pt x="47" y="5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478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970520" y="5767560"/>
                <a:ext cx="241200" cy="320400"/>
              </a:xfrm>
              <a:custGeom>
                <a:avLst/>
                <a:gdLst/>
                <a:ahLst/>
                <a:rect l="l" t="t" r="r" b="b"/>
                <a:pathLst>
                  <a:path w="758" h="1009">
                    <a:moveTo>
                      <a:pt x="152" y="0"/>
                    </a:moveTo>
                    <a:lnTo>
                      <a:pt x="188" y="0"/>
                    </a:lnTo>
                    <a:lnTo>
                      <a:pt x="221" y="1"/>
                    </a:lnTo>
                    <a:lnTo>
                      <a:pt x="252" y="2"/>
                    </a:lnTo>
                    <a:lnTo>
                      <a:pt x="283" y="4"/>
                    </a:lnTo>
                    <a:lnTo>
                      <a:pt x="310" y="7"/>
                    </a:lnTo>
                    <a:lnTo>
                      <a:pt x="336" y="10"/>
                    </a:lnTo>
                    <a:lnTo>
                      <a:pt x="360" y="13"/>
                    </a:lnTo>
                    <a:lnTo>
                      <a:pt x="382" y="18"/>
                    </a:lnTo>
                    <a:lnTo>
                      <a:pt x="403" y="23"/>
                    </a:lnTo>
                    <a:lnTo>
                      <a:pt x="424" y="28"/>
                    </a:lnTo>
                    <a:lnTo>
                      <a:pt x="444" y="34"/>
                    </a:lnTo>
                    <a:lnTo>
                      <a:pt x="464" y="42"/>
                    </a:lnTo>
                    <a:lnTo>
                      <a:pt x="483" y="50"/>
                    </a:lnTo>
                    <a:lnTo>
                      <a:pt x="502" y="58"/>
                    </a:lnTo>
                    <a:lnTo>
                      <a:pt x="520" y="68"/>
                    </a:lnTo>
                    <a:lnTo>
                      <a:pt x="537" y="78"/>
                    </a:lnTo>
                    <a:lnTo>
                      <a:pt x="563" y="95"/>
                    </a:lnTo>
                    <a:lnTo>
                      <a:pt x="588" y="114"/>
                    </a:lnTo>
                    <a:lnTo>
                      <a:pt x="612" y="135"/>
                    </a:lnTo>
                    <a:lnTo>
                      <a:pt x="633" y="156"/>
                    </a:lnTo>
                    <a:lnTo>
                      <a:pt x="653" y="179"/>
                    </a:lnTo>
                    <a:lnTo>
                      <a:pt x="670" y="203"/>
                    </a:lnTo>
                    <a:lnTo>
                      <a:pt x="687" y="229"/>
                    </a:lnTo>
                    <a:lnTo>
                      <a:pt x="702" y="256"/>
                    </a:lnTo>
                    <a:lnTo>
                      <a:pt x="715" y="284"/>
                    </a:lnTo>
                    <a:lnTo>
                      <a:pt x="726" y="313"/>
                    </a:lnTo>
                    <a:lnTo>
                      <a:pt x="736" y="343"/>
                    </a:lnTo>
                    <a:lnTo>
                      <a:pt x="744" y="375"/>
                    </a:lnTo>
                    <a:lnTo>
                      <a:pt x="750" y="407"/>
                    </a:lnTo>
                    <a:lnTo>
                      <a:pt x="755" y="441"/>
                    </a:lnTo>
                    <a:lnTo>
                      <a:pt x="758" y="475"/>
                    </a:lnTo>
                    <a:lnTo>
                      <a:pt x="758" y="511"/>
                    </a:lnTo>
                    <a:lnTo>
                      <a:pt x="757" y="543"/>
                    </a:lnTo>
                    <a:lnTo>
                      <a:pt x="755" y="574"/>
                    </a:lnTo>
                    <a:lnTo>
                      <a:pt x="749" y="606"/>
                    </a:lnTo>
                    <a:lnTo>
                      <a:pt x="743" y="635"/>
                    </a:lnTo>
                    <a:lnTo>
                      <a:pt x="734" y="665"/>
                    </a:lnTo>
                    <a:lnTo>
                      <a:pt x="723" y="694"/>
                    </a:lnTo>
                    <a:lnTo>
                      <a:pt x="710" y="722"/>
                    </a:lnTo>
                    <a:lnTo>
                      <a:pt x="696" y="749"/>
                    </a:lnTo>
                    <a:lnTo>
                      <a:pt x="680" y="776"/>
                    </a:lnTo>
                    <a:lnTo>
                      <a:pt x="662" y="802"/>
                    </a:lnTo>
                    <a:lnTo>
                      <a:pt x="642" y="826"/>
                    </a:lnTo>
                    <a:lnTo>
                      <a:pt x="621" y="848"/>
                    </a:lnTo>
                    <a:lnTo>
                      <a:pt x="598" y="870"/>
                    </a:lnTo>
                    <a:lnTo>
                      <a:pt x="574" y="890"/>
                    </a:lnTo>
                    <a:lnTo>
                      <a:pt x="549" y="909"/>
                    </a:lnTo>
                    <a:lnTo>
                      <a:pt x="520" y="927"/>
                    </a:lnTo>
                    <a:lnTo>
                      <a:pt x="502" y="937"/>
                    </a:lnTo>
                    <a:lnTo>
                      <a:pt x="484" y="947"/>
                    </a:lnTo>
                    <a:lnTo>
                      <a:pt x="465" y="956"/>
                    </a:lnTo>
                    <a:lnTo>
                      <a:pt x="446" y="965"/>
                    </a:lnTo>
                    <a:lnTo>
                      <a:pt x="426" y="972"/>
                    </a:lnTo>
                    <a:lnTo>
                      <a:pt x="405" y="978"/>
                    </a:lnTo>
                    <a:lnTo>
                      <a:pt x="383" y="985"/>
                    </a:lnTo>
                    <a:lnTo>
                      <a:pt x="361" y="990"/>
                    </a:lnTo>
                    <a:lnTo>
                      <a:pt x="339" y="994"/>
                    </a:lnTo>
                    <a:lnTo>
                      <a:pt x="315" y="998"/>
                    </a:lnTo>
                    <a:lnTo>
                      <a:pt x="291" y="1001"/>
                    </a:lnTo>
                    <a:lnTo>
                      <a:pt x="265" y="1005"/>
                    </a:lnTo>
                    <a:lnTo>
                      <a:pt x="238" y="1007"/>
                    </a:lnTo>
                    <a:lnTo>
                      <a:pt x="211" y="1008"/>
                    </a:lnTo>
                    <a:lnTo>
                      <a:pt x="182" y="1009"/>
                    </a:lnTo>
                    <a:lnTo>
                      <a:pt x="152" y="1009"/>
                    </a:lnTo>
                    <a:lnTo>
                      <a:pt x="0" y="1009"/>
                    </a:lnTo>
                    <a:lnTo>
                      <a:pt x="0" y="0"/>
                    </a:lnTo>
                    <a:lnTo>
                      <a:pt x="152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322960" y="5846760"/>
                <a:ext cx="152280" cy="160200"/>
              </a:xfrm>
              <a:custGeom>
                <a:avLst/>
                <a:gdLst/>
                <a:ahLst/>
                <a:rect l="l" t="t" r="r" b="b"/>
                <a:pathLst>
                  <a:path w="480" h="501">
                    <a:moveTo>
                      <a:pt x="239" y="0"/>
                    </a:moveTo>
                    <a:lnTo>
                      <a:pt x="227" y="1"/>
                    </a:lnTo>
                    <a:lnTo>
                      <a:pt x="215" y="2"/>
                    </a:lnTo>
                    <a:lnTo>
                      <a:pt x="203" y="3"/>
                    </a:lnTo>
                    <a:lnTo>
                      <a:pt x="191" y="5"/>
                    </a:lnTo>
                    <a:lnTo>
                      <a:pt x="179" y="7"/>
                    </a:lnTo>
                    <a:lnTo>
                      <a:pt x="168" y="10"/>
                    </a:lnTo>
                    <a:lnTo>
                      <a:pt x="156" y="14"/>
                    </a:lnTo>
                    <a:lnTo>
                      <a:pt x="146" y="19"/>
                    </a:lnTo>
                    <a:lnTo>
                      <a:pt x="135" y="23"/>
                    </a:lnTo>
                    <a:lnTo>
                      <a:pt x="125" y="28"/>
                    </a:lnTo>
                    <a:lnTo>
                      <a:pt x="115" y="34"/>
                    </a:lnTo>
                    <a:lnTo>
                      <a:pt x="105" y="41"/>
                    </a:lnTo>
                    <a:lnTo>
                      <a:pt x="95" y="48"/>
                    </a:lnTo>
                    <a:lnTo>
                      <a:pt x="86" y="55"/>
                    </a:lnTo>
                    <a:lnTo>
                      <a:pt x="78" y="64"/>
                    </a:lnTo>
                    <a:lnTo>
                      <a:pt x="68" y="72"/>
                    </a:lnTo>
                    <a:lnTo>
                      <a:pt x="60" y="82"/>
                    </a:lnTo>
                    <a:lnTo>
                      <a:pt x="52" y="91"/>
                    </a:lnTo>
                    <a:lnTo>
                      <a:pt x="45" y="101"/>
                    </a:lnTo>
                    <a:lnTo>
                      <a:pt x="39" y="110"/>
                    </a:lnTo>
                    <a:lnTo>
                      <a:pt x="32" y="120"/>
                    </a:lnTo>
                    <a:lnTo>
                      <a:pt x="26" y="131"/>
                    </a:lnTo>
                    <a:lnTo>
                      <a:pt x="21" y="141"/>
                    </a:lnTo>
                    <a:lnTo>
                      <a:pt x="17" y="153"/>
                    </a:lnTo>
                    <a:lnTo>
                      <a:pt x="12" y="165"/>
                    </a:lnTo>
                    <a:lnTo>
                      <a:pt x="9" y="176"/>
                    </a:lnTo>
                    <a:lnTo>
                      <a:pt x="6" y="188"/>
                    </a:lnTo>
                    <a:lnTo>
                      <a:pt x="4" y="199"/>
                    </a:lnTo>
                    <a:lnTo>
                      <a:pt x="2" y="212"/>
                    </a:lnTo>
                    <a:lnTo>
                      <a:pt x="1" y="224"/>
                    </a:lnTo>
                    <a:lnTo>
                      <a:pt x="0" y="237"/>
                    </a:lnTo>
                    <a:lnTo>
                      <a:pt x="0" y="251"/>
                    </a:lnTo>
                    <a:lnTo>
                      <a:pt x="0" y="263"/>
                    </a:lnTo>
                    <a:lnTo>
                      <a:pt x="1" y="277"/>
                    </a:lnTo>
                    <a:lnTo>
                      <a:pt x="2" y="290"/>
                    </a:lnTo>
                    <a:lnTo>
                      <a:pt x="4" y="301"/>
                    </a:lnTo>
                    <a:lnTo>
                      <a:pt x="6" y="314"/>
                    </a:lnTo>
                    <a:lnTo>
                      <a:pt x="9" y="325"/>
                    </a:lnTo>
                    <a:lnTo>
                      <a:pt x="12" y="337"/>
                    </a:lnTo>
                    <a:lnTo>
                      <a:pt x="17" y="348"/>
                    </a:lnTo>
                    <a:lnTo>
                      <a:pt x="21" y="359"/>
                    </a:lnTo>
                    <a:lnTo>
                      <a:pt x="26" y="370"/>
                    </a:lnTo>
                    <a:lnTo>
                      <a:pt x="32" y="380"/>
                    </a:lnTo>
                    <a:lnTo>
                      <a:pt x="39" y="390"/>
                    </a:lnTo>
                    <a:lnTo>
                      <a:pt x="45" y="401"/>
                    </a:lnTo>
                    <a:lnTo>
                      <a:pt x="52" y="410"/>
                    </a:lnTo>
                    <a:lnTo>
                      <a:pt x="60" y="420"/>
                    </a:lnTo>
                    <a:lnTo>
                      <a:pt x="68" y="428"/>
                    </a:lnTo>
                    <a:lnTo>
                      <a:pt x="76" y="438"/>
                    </a:lnTo>
                    <a:lnTo>
                      <a:pt x="86" y="445"/>
                    </a:lnTo>
                    <a:lnTo>
                      <a:pt x="95" y="453"/>
                    </a:lnTo>
                    <a:lnTo>
                      <a:pt x="105" y="460"/>
                    </a:lnTo>
                    <a:lnTo>
                      <a:pt x="114" y="466"/>
                    </a:lnTo>
                    <a:lnTo>
                      <a:pt x="125" y="472"/>
                    </a:lnTo>
                    <a:lnTo>
                      <a:pt x="135" y="477"/>
                    </a:lnTo>
                    <a:lnTo>
                      <a:pt x="146" y="483"/>
                    </a:lnTo>
                    <a:lnTo>
                      <a:pt x="156" y="487"/>
                    </a:lnTo>
                    <a:lnTo>
                      <a:pt x="168" y="490"/>
                    </a:lnTo>
                    <a:lnTo>
                      <a:pt x="178" y="493"/>
                    </a:lnTo>
                    <a:lnTo>
                      <a:pt x="191" y="496"/>
                    </a:lnTo>
                    <a:lnTo>
                      <a:pt x="203" y="497"/>
                    </a:lnTo>
                    <a:lnTo>
                      <a:pt x="214" y="500"/>
                    </a:lnTo>
                    <a:lnTo>
                      <a:pt x="227" y="500"/>
                    </a:lnTo>
                    <a:lnTo>
                      <a:pt x="239" y="501"/>
                    </a:lnTo>
                    <a:lnTo>
                      <a:pt x="252" y="500"/>
                    </a:lnTo>
                    <a:lnTo>
                      <a:pt x="265" y="500"/>
                    </a:lnTo>
                    <a:lnTo>
                      <a:pt x="277" y="497"/>
                    </a:lnTo>
                    <a:lnTo>
                      <a:pt x="289" y="496"/>
                    </a:lnTo>
                    <a:lnTo>
                      <a:pt x="300" y="493"/>
                    </a:lnTo>
                    <a:lnTo>
                      <a:pt x="312" y="490"/>
                    </a:lnTo>
                    <a:lnTo>
                      <a:pt x="322" y="487"/>
                    </a:lnTo>
                    <a:lnTo>
                      <a:pt x="334" y="483"/>
                    </a:lnTo>
                    <a:lnTo>
                      <a:pt x="345" y="477"/>
                    </a:lnTo>
                    <a:lnTo>
                      <a:pt x="355" y="472"/>
                    </a:lnTo>
                    <a:lnTo>
                      <a:pt x="364" y="466"/>
                    </a:lnTo>
                    <a:lnTo>
                      <a:pt x="375" y="460"/>
                    </a:lnTo>
                    <a:lnTo>
                      <a:pt x="384" y="453"/>
                    </a:lnTo>
                    <a:lnTo>
                      <a:pt x="393" y="445"/>
                    </a:lnTo>
                    <a:lnTo>
                      <a:pt x="402" y="437"/>
                    </a:lnTo>
                    <a:lnTo>
                      <a:pt x="411" y="428"/>
                    </a:lnTo>
                    <a:lnTo>
                      <a:pt x="419" y="419"/>
                    </a:lnTo>
                    <a:lnTo>
                      <a:pt x="428" y="409"/>
                    </a:lnTo>
                    <a:lnTo>
                      <a:pt x="435" y="400"/>
                    </a:lnTo>
                    <a:lnTo>
                      <a:pt x="441" y="390"/>
                    </a:lnTo>
                    <a:lnTo>
                      <a:pt x="448" y="380"/>
                    </a:lnTo>
                    <a:lnTo>
                      <a:pt x="453" y="369"/>
                    </a:lnTo>
                    <a:lnTo>
                      <a:pt x="458" y="359"/>
                    </a:lnTo>
                    <a:lnTo>
                      <a:pt x="463" y="347"/>
                    </a:lnTo>
                    <a:lnTo>
                      <a:pt x="466" y="337"/>
                    </a:lnTo>
                    <a:lnTo>
                      <a:pt x="471" y="325"/>
                    </a:lnTo>
                    <a:lnTo>
                      <a:pt x="474" y="314"/>
                    </a:lnTo>
                    <a:lnTo>
                      <a:pt x="476" y="301"/>
                    </a:lnTo>
                    <a:lnTo>
                      <a:pt x="478" y="288"/>
                    </a:lnTo>
                    <a:lnTo>
                      <a:pt x="479" y="276"/>
                    </a:lnTo>
                    <a:lnTo>
                      <a:pt x="480" y="263"/>
                    </a:lnTo>
                    <a:lnTo>
                      <a:pt x="480" y="251"/>
                    </a:lnTo>
                    <a:lnTo>
                      <a:pt x="480" y="237"/>
                    </a:lnTo>
                    <a:lnTo>
                      <a:pt x="479" y="224"/>
                    </a:lnTo>
                    <a:lnTo>
                      <a:pt x="478" y="212"/>
                    </a:lnTo>
                    <a:lnTo>
                      <a:pt x="476" y="200"/>
                    </a:lnTo>
                    <a:lnTo>
                      <a:pt x="474" y="188"/>
                    </a:lnTo>
                    <a:lnTo>
                      <a:pt x="471" y="176"/>
                    </a:lnTo>
                    <a:lnTo>
                      <a:pt x="466" y="165"/>
                    </a:lnTo>
                    <a:lnTo>
                      <a:pt x="463" y="153"/>
                    </a:lnTo>
                    <a:lnTo>
                      <a:pt x="458" y="143"/>
                    </a:lnTo>
                    <a:lnTo>
                      <a:pt x="453" y="132"/>
                    </a:lnTo>
                    <a:lnTo>
                      <a:pt x="448" y="122"/>
                    </a:lnTo>
                    <a:lnTo>
                      <a:pt x="441" y="111"/>
                    </a:lnTo>
                    <a:lnTo>
                      <a:pt x="435" y="102"/>
                    </a:lnTo>
                    <a:lnTo>
                      <a:pt x="428" y="91"/>
                    </a:lnTo>
                    <a:lnTo>
                      <a:pt x="419" y="82"/>
                    </a:lnTo>
                    <a:lnTo>
                      <a:pt x="411" y="73"/>
                    </a:lnTo>
                    <a:lnTo>
                      <a:pt x="402" y="64"/>
                    </a:lnTo>
                    <a:lnTo>
                      <a:pt x="393" y="55"/>
                    </a:lnTo>
                    <a:lnTo>
                      <a:pt x="384" y="48"/>
                    </a:lnTo>
                    <a:lnTo>
                      <a:pt x="375" y="41"/>
                    </a:lnTo>
                    <a:lnTo>
                      <a:pt x="364" y="34"/>
                    </a:lnTo>
                    <a:lnTo>
                      <a:pt x="355" y="29"/>
                    </a:lnTo>
                    <a:lnTo>
                      <a:pt x="345" y="23"/>
                    </a:lnTo>
                    <a:lnTo>
                      <a:pt x="334" y="19"/>
                    </a:lnTo>
                    <a:lnTo>
                      <a:pt x="322" y="14"/>
                    </a:lnTo>
                    <a:lnTo>
                      <a:pt x="312" y="10"/>
                    </a:lnTo>
                    <a:lnTo>
                      <a:pt x="300" y="7"/>
                    </a:lnTo>
                    <a:lnTo>
                      <a:pt x="289" y="5"/>
                    </a:lnTo>
                    <a:lnTo>
                      <a:pt x="277" y="3"/>
                    </a:lnTo>
                    <a:lnTo>
                      <a:pt x="265" y="2"/>
                    </a:lnTo>
                    <a:lnTo>
                      <a:pt x="252" y="1"/>
                    </a:lnTo>
                    <a:lnTo>
                      <a:pt x="239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3548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6" y="1"/>
                    </a:lnTo>
                    <a:lnTo>
                      <a:pt x="559" y="2"/>
                    </a:lnTo>
                    <a:lnTo>
                      <a:pt x="582" y="6"/>
                    </a:lnTo>
                    <a:lnTo>
                      <a:pt x="605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7"/>
                    </a:lnTo>
                    <a:lnTo>
                      <a:pt x="829" y="112"/>
                    </a:lnTo>
                    <a:lnTo>
                      <a:pt x="845" y="126"/>
                    </a:lnTo>
                    <a:lnTo>
                      <a:pt x="866" y="146"/>
                    </a:lnTo>
                    <a:lnTo>
                      <a:pt x="886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90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9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6" y="897"/>
                    </a:lnTo>
                    <a:lnTo>
                      <a:pt x="866" y="918"/>
                    </a:lnTo>
                    <a:lnTo>
                      <a:pt x="845" y="938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6"/>
                    </a:lnTo>
                    <a:lnTo>
                      <a:pt x="582" y="1060"/>
                    </a:lnTo>
                    <a:lnTo>
                      <a:pt x="559" y="1062"/>
                    </a:lnTo>
                    <a:lnTo>
                      <a:pt x="536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6"/>
                    </a:lnTo>
                    <a:lnTo>
                      <a:pt x="397" y="1051"/>
                    </a:lnTo>
                    <a:lnTo>
                      <a:pt x="374" y="1046"/>
                    </a:lnTo>
                    <a:lnTo>
                      <a:pt x="353" y="1039"/>
                    </a:lnTo>
                    <a:lnTo>
                      <a:pt x="331" y="1031"/>
                    </a:lnTo>
                    <a:lnTo>
                      <a:pt x="310" y="1023"/>
                    </a:lnTo>
                    <a:lnTo>
                      <a:pt x="290" y="1014"/>
                    </a:lnTo>
                    <a:lnTo>
                      <a:pt x="270" y="1003"/>
                    </a:lnTo>
                    <a:lnTo>
                      <a:pt x="251" y="993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7" y="754"/>
                    </a:lnTo>
                    <a:lnTo>
                      <a:pt x="36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4" y="589"/>
                    </a:lnTo>
                    <a:lnTo>
                      <a:pt x="2" y="561"/>
                    </a:lnTo>
                    <a:lnTo>
                      <a:pt x="0" y="532"/>
                    </a:lnTo>
                    <a:lnTo>
                      <a:pt x="2" y="502"/>
                    </a:lnTo>
                    <a:lnTo>
                      <a:pt x="4" y="474"/>
                    </a:lnTo>
                    <a:lnTo>
                      <a:pt x="7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7" y="363"/>
                    </a:lnTo>
                    <a:lnTo>
                      <a:pt x="35" y="336"/>
                    </a:lnTo>
                    <a:lnTo>
                      <a:pt x="47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51" y="72"/>
                    </a:lnTo>
                    <a:lnTo>
                      <a:pt x="270" y="61"/>
                    </a:lnTo>
                    <a:lnTo>
                      <a:pt x="290" y="51"/>
                    </a:lnTo>
                    <a:lnTo>
                      <a:pt x="310" y="41"/>
                    </a:lnTo>
                    <a:lnTo>
                      <a:pt x="331" y="33"/>
                    </a:lnTo>
                    <a:lnTo>
                      <a:pt x="353" y="26"/>
                    </a:lnTo>
                    <a:lnTo>
                      <a:pt x="374" y="18"/>
                    </a:lnTo>
                    <a:lnTo>
                      <a:pt x="397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584680" y="5767560"/>
                <a:ext cx="333360" cy="320400"/>
              </a:xfrm>
              <a:custGeom>
                <a:avLst/>
                <a:gdLst/>
                <a:ahLst/>
                <a:rect l="l" t="t" r="r" b="b"/>
                <a:pathLst>
                  <a:path w="1052" h="1013">
                    <a:moveTo>
                      <a:pt x="0" y="1009"/>
                    </a:moveTo>
                    <a:lnTo>
                      <a:pt x="128" y="0"/>
                    </a:lnTo>
                    <a:lnTo>
                      <a:pt x="342" y="0"/>
                    </a:lnTo>
                    <a:lnTo>
                      <a:pt x="519" y="448"/>
                    </a:lnTo>
                    <a:lnTo>
                      <a:pt x="700" y="0"/>
                    </a:lnTo>
                    <a:lnTo>
                      <a:pt x="908" y="0"/>
                    </a:lnTo>
                    <a:lnTo>
                      <a:pt x="1052" y="1009"/>
                    </a:lnTo>
                    <a:lnTo>
                      <a:pt x="783" y="1009"/>
                    </a:lnTo>
                    <a:lnTo>
                      <a:pt x="726" y="546"/>
                    </a:lnTo>
                    <a:lnTo>
                      <a:pt x="531" y="1013"/>
                    </a:lnTo>
                    <a:lnTo>
                      <a:pt x="318" y="546"/>
                    </a:lnTo>
                    <a:lnTo>
                      <a:pt x="270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925960" y="5759280"/>
                <a:ext cx="162000" cy="227160"/>
              </a:xfrm>
              <a:custGeom>
                <a:avLst/>
                <a:gdLst/>
                <a:ahLst/>
                <a:rect l="l" t="t" r="r" b="b"/>
                <a:pathLst>
                  <a:path w="511" h="718">
                    <a:moveTo>
                      <a:pt x="145" y="718"/>
                    </a:moveTo>
                    <a:lnTo>
                      <a:pt x="145" y="571"/>
                    </a:lnTo>
                    <a:lnTo>
                      <a:pt x="145" y="560"/>
                    </a:lnTo>
                    <a:lnTo>
                      <a:pt x="146" y="551"/>
                    </a:lnTo>
                    <a:lnTo>
                      <a:pt x="146" y="541"/>
                    </a:lnTo>
                    <a:lnTo>
                      <a:pt x="147" y="532"/>
                    </a:lnTo>
                    <a:lnTo>
                      <a:pt x="148" y="522"/>
                    </a:lnTo>
                    <a:lnTo>
                      <a:pt x="149" y="514"/>
                    </a:lnTo>
                    <a:lnTo>
                      <a:pt x="151" y="506"/>
                    </a:lnTo>
                    <a:lnTo>
                      <a:pt x="153" y="498"/>
                    </a:lnTo>
                    <a:lnTo>
                      <a:pt x="155" y="490"/>
                    </a:lnTo>
                    <a:lnTo>
                      <a:pt x="158" y="482"/>
                    </a:lnTo>
                    <a:lnTo>
                      <a:pt x="160" y="474"/>
                    </a:lnTo>
                    <a:lnTo>
                      <a:pt x="163" y="467"/>
                    </a:lnTo>
                    <a:lnTo>
                      <a:pt x="166" y="459"/>
                    </a:lnTo>
                    <a:lnTo>
                      <a:pt x="170" y="451"/>
                    </a:lnTo>
                    <a:lnTo>
                      <a:pt x="174" y="443"/>
                    </a:lnTo>
                    <a:lnTo>
                      <a:pt x="178" y="435"/>
                    </a:lnTo>
                    <a:lnTo>
                      <a:pt x="180" y="431"/>
                    </a:lnTo>
                    <a:lnTo>
                      <a:pt x="182" y="427"/>
                    </a:lnTo>
                    <a:lnTo>
                      <a:pt x="185" y="423"/>
                    </a:lnTo>
                    <a:lnTo>
                      <a:pt x="188" y="417"/>
                    </a:lnTo>
                    <a:lnTo>
                      <a:pt x="191" y="412"/>
                    </a:lnTo>
                    <a:lnTo>
                      <a:pt x="195" y="407"/>
                    </a:lnTo>
                    <a:lnTo>
                      <a:pt x="199" y="401"/>
                    </a:lnTo>
                    <a:lnTo>
                      <a:pt x="203" y="394"/>
                    </a:lnTo>
                    <a:lnTo>
                      <a:pt x="211" y="382"/>
                    </a:lnTo>
                    <a:lnTo>
                      <a:pt x="219" y="369"/>
                    </a:lnTo>
                    <a:lnTo>
                      <a:pt x="225" y="357"/>
                    </a:lnTo>
                    <a:lnTo>
                      <a:pt x="229" y="347"/>
                    </a:lnTo>
                    <a:lnTo>
                      <a:pt x="233" y="338"/>
                    </a:lnTo>
                    <a:lnTo>
                      <a:pt x="237" y="328"/>
                    </a:lnTo>
                    <a:lnTo>
                      <a:pt x="238" y="321"/>
                    </a:lnTo>
                    <a:lnTo>
                      <a:pt x="239" y="313"/>
                    </a:lnTo>
                    <a:lnTo>
                      <a:pt x="239" y="307"/>
                    </a:lnTo>
                    <a:lnTo>
                      <a:pt x="238" y="302"/>
                    </a:lnTo>
                    <a:lnTo>
                      <a:pt x="237" y="297"/>
                    </a:lnTo>
                    <a:lnTo>
                      <a:pt x="236" y="292"/>
                    </a:lnTo>
                    <a:lnTo>
                      <a:pt x="233" y="288"/>
                    </a:lnTo>
                    <a:lnTo>
                      <a:pt x="231" y="284"/>
                    </a:lnTo>
                    <a:lnTo>
                      <a:pt x="229" y="280"/>
                    </a:lnTo>
                    <a:lnTo>
                      <a:pt x="226" y="277"/>
                    </a:lnTo>
                    <a:lnTo>
                      <a:pt x="223" y="273"/>
                    </a:lnTo>
                    <a:lnTo>
                      <a:pt x="219" y="270"/>
                    </a:lnTo>
                    <a:lnTo>
                      <a:pt x="215" y="268"/>
                    </a:lnTo>
                    <a:lnTo>
                      <a:pt x="210" y="266"/>
                    </a:lnTo>
                    <a:lnTo>
                      <a:pt x="206" y="265"/>
                    </a:lnTo>
                    <a:lnTo>
                      <a:pt x="201" y="264"/>
                    </a:lnTo>
                    <a:lnTo>
                      <a:pt x="196" y="263"/>
                    </a:lnTo>
                    <a:lnTo>
                      <a:pt x="190" y="263"/>
                    </a:lnTo>
                    <a:lnTo>
                      <a:pt x="185" y="263"/>
                    </a:lnTo>
                    <a:lnTo>
                      <a:pt x="179" y="264"/>
                    </a:lnTo>
                    <a:lnTo>
                      <a:pt x="174" y="265"/>
                    </a:lnTo>
                    <a:lnTo>
                      <a:pt x="168" y="266"/>
                    </a:lnTo>
                    <a:lnTo>
                      <a:pt x="163" y="268"/>
                    </a:lnTo>
                    <a:lnTo>
                      <a:pt x="158" y="270"/>
                    </a:lnTo>
                    <a:lnTo>
                      <a:pt x="153" y="273"/>
                    </a:lnTo>
                    <a:lnTo>
                      <a:pt x="147" y="277"/>
                    </a:lnTo>
                    <a:lnTo>
                      <a:pt x="142" y="280"/>
                    </a:lnTo>
                    <a:lnTo>
                      <a:pt x="137" y="284"/>
                    </a:lnTo>
                    <a:lnTo>
                      <a:pt x="133" y="288"/>
                    </a:lnTo>
                    <a:lnTo>
                      <a:pt x="128" y="292"/>
                    </a:lnTo>
                    <a:lnTo>
                      <a:pt x="123" y="298"/>
                    </a:lnTo>
                    <a:lnTo>
                      <a:pt x="120" y="302"/>
                    </a:lnTo>
                    <a:lnTo>
                      <a:pt x="116" y="307"/>
                    </a:lnTo>
                    <a:lnTo>
                      <a:pt x="113" y="313"/>
                    </a:lnTo>
                    <a:lnTo>
                      <a:pt x="0" y="158"/>
                    </a:lnTo>
                    <a:lnTo>
                      <a:pt x="13" y="139"/>
                    </a:lnTo>
                    <a:lnTo>
                      <a:pt x="25" y="121"/>
                    </a:lnTo>
                    <a:lnTo>
                      <a:pt x="39" y="104"/>
                    </a:lnTo>
                    <a:lnTo>
                      <a:pt x="53" y="89"/>
                    </a:lnTo>
                    <a:lnTo>
                      <a:pt x="67" y="75"/>
                    </a:lnTo>
                    <a:lnTo>
                      <a:pt x="83" y="62"/>
                    </a:lnTo>
                    <a:lnTo>
                      <a:pt x="98" y="50"/>
                    </a:lnTo>
                    <a:lnTo>
                      <a:pt x="115" y="39"/>
                    </a:lnTo>
                    <a:lnTo>
                      <a:pt x="130" y="30"/>
                    </a:lnTo>
                    <a:lnTo>
                      <a:pt x="147" y="23"/>
                    </a:lnTo>
                    <a:lnTo>
                      <a:pt x="164" y="15"/>
                    </a:lnTo>
                    <a:lnTo>
                      <a:pt x="182" y="10"/>
                    </a:lnTo>
                    <a:lnTo>
                      <a:pt x="200" y="6"/>
                    </a:lnTo>
                    <a:lnTo>
                      <a:pt x="219" y="3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0" y="0"/>
                    </a:lnTo>
                    <a:lnTo>
                      <a:pt x="283" y="2"/>
                    </a:lnTo>
                    <a:lnTo>
                      <a:pt x="297" y="3"/>
                    </a:lnTo>
                    <a:lnTo>
                      <a:pt x="309" y="5"/>
                    </a:lnTo>
                    <a:lnTo>
                      <a:pt x="322" y="8"/>
                    </a:lnTo>
                    <a:lnTo>
                      <a:pt x="333" y="10"/>
                    </a:lnTo>
                    <a:lnTo>
                      <a:pt x="345" y="14"/>
                    </a:lnTo>
                    <a:lnTo>
                      <a:pt x="356" y="18"/>
                    </a:lnTo>
                    <a:lnTo>
                      <a:pt x="368" y="24"/>
                    </a:lnTo>
                    <a:lnTo>
                      <a:pt x="379" y="29"/>
                    </a:lnTo>
                    <a:lnTo>
                      <a:pt x="390" y="35"/>
                    </a:lnTo>
                    <a:lnTo>
                      <a:pt x="400" y="41"/>
                    </a:lnTo>
                    <a:lnTo>
                      <a:pt x="410" y="49"/>
                    </a:lnTo>
                    <a:lnTo>
                      <a:pt x="420" y="56"/>
                    </a:lnTo>
                    <a:lnTo>
                      <a:pt x="429" y="65"/>
                    </a:lnTo>
                    <a:lnTo>
                      <a:pt x="438" y="73"/>
                    </a:lnTo>
                    <a:lnTo>
                      <a:pt x="448" y="82"/>
                    </a:lnTo>
                    <a:lnTo>
                      <a:pt x="455" y="93"/>
                    </a:lnTo>
                    <a:lnTo>
                      <a:pt x="464" y="102"/>
                    </a:lnTo>
                    <a:lnTo>
                      <a:pt x="470" y="113"/>
                    </a:lnTo>
                    <a:lnTo>
                      <a:pt x="477" y="123"/>
                    </a:lnTo>
                    <a:lnTo>
                      <a:pt x="483" y="134"/>
                    </a:lnTo>
                    <a:lnTo>
                      <a:pt x="488" y="145"/>
                    </a:lnTo>
                    <a:lnTo>
                      <a:pt x="493" y="156"/>
                    </a:lnTo>
                    <a:lnTo>
                      <a:pt x="497" y="167"/>
                    </a:lnTo>
                    <a:lnTo>
                      <a:pt x="502" y="180"/>
                    </a:lnTo>
                    <a:lnTo>
                      <a:pt x="504" y="192"/>
                    </a:lnTo>
                    <a:lnTo>
                      <a:pt x="507" y="204"/>
                    </a:lnTo>
                    <a:lnTo>
                      <a:pt x="509" y="217"/>
                    </a:lnTo>
                    <a:lnTo>
                      <a:pt x="510" y="230"/>
                    </a:lnTo>
                    <a:lnTo>
                      <a:pt x="511" y="243"/>
                    </a:lnTo>
                    <a:lnTo>
                      <a:pt x="511" y="257"/>
                    </a:lnTo>
                    <a:lnTo>
                      <a:pt x="510" y="278"/>
                    </a:lnTo>
                    <a:lnTo>
                      <a:pt x="507" y="299"/>
                    </a:lnTo>
                    <a:lnTo>
                      <a:pt x="502" y="321"/>
                    </a:lnTo>
                    <a:lnTo>
                      <a:pt x="494" y="344"/>
                    </a:lnTo>
                    <a:lnTo>
                      <a:pt x="485" y="368"/>
                    </a:lnTo>
                    <a:lnTo>
                      <a:pt x="473" y="392"/>
                    </a:lnTo>
                    <a:lnTo>
                      <a:pt x="459" y="417"/>
                    </a:lnTo>
                    <a:lnTo>
                      <a:pt x="445" y="443"/>
                    </a:lnTo>
                    <a:lnTo>
                      <a:pt x="441" y="449"/>
                    </a:lnTo>
                    <a:lnTo>
                      <a:pt x="436" y="455"/>
                    </a:lnTo>
                    <a:lnTo>
                      <a:pt x="433" y="460"/>
                    </a:lnTo>
                    <a:lnTo>
                      <a:pt x="429" y="466"/>
                    </a:lnTo>
                    <a:lnTo>
                      <a:pt x="427" y="471"/>
                    </a:lnTo>
                    <a:lnTo>
                      <a:pt x="424" y="475"/>
                    </a:lnTo>
                    <a:lnTo>
                      <a:pt x="422" y="479"/>
                    </a:lnTo>
                    <a:lnTo>
                      <a:pt x="420" y="482"/>
                    </a:lnTo>
                    <a:lnTo>
                      <a:pt x="415" y="490"/>
                    </a:lnTo>
                    <a:lnTo>
                      <a:pt x="412" y="496"/>
                    </a:lnTo>
                    <a:lnTo>
                      <a:pt x="409" y="504"/>
                    </a:lnTo>
                    <a:lnTo>
                      <a:pt x="406" y="512"/>
                    </a:lnTo>
                    <a:lnTo>
                      <a:pt x="403" y="520"/>
                    </a:lnTo>
                    <a:lnTo>
                      <a:pt x="401" y="530"/>
                    </a:lnTo>
                    <a:lnTo>
                      <a:pt x="399" y="538"/>
                    </a:lnTo>
                    <a:lnTo>
                      <a:pt x="396" y="548"/>
                    </a:lnTo>
                    <a:lnTo>
                      <a:pt x="394" y="558"/>
                    </a:lnTo>
                    <a:lnTo>
                      <a:pt x="393" y="569"/>
                    </a:lnTo>
                    <a:lnTo>
                      <a:pt x="391" y="579"/>
                    </a:lnTo>
                    <a:lnTo>
                      <a:pt x="390" y="591"/>
                    </a:lnTo>
                    <a:lnTo>
                      <a:pt x="389" y="602"/>
                    </a:lnTo>
                    <a:lnTo>
                      <a:pt x="389" y="615"/>
                    </a:lnTo>
                    <a:lnTo>
                      <a:pt x="389" y="627"/>
                    </a:lnTo>
                    <a:lnTo>
                      <a:pt x="388" y="640"/>
                    </a:lnTo>
                    <a:lnTo>
                      <a:pt x="388" y="718"/>
                    </a:lnTo>
                    <a:lnTo>
                      <a:pt x="145" y="718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972040" y="6005520"/>
                <a:ext cx="76320" cy="8244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326280" y="320364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0" y="70"/>
                    </a:moveTo>
                    <a:lnTo>
                      <a:pt x="9" y="65"/>
                    </a:lnTo>
                    <a:lnTo>
                      <a:pt x="35" y="38"/>
                    </a:lnTo>
                    <a:lnTo>
                      <a:pt x="35" y="11"/>
                    </a:lnTo>
                    <a:lnTo>
                      <a:pt x="6" y="0"/>
                    </a:lnTo>
                    <a:lnTo>
                      <a:pt x="5" y="9"/>
                    </a:lnTo>
                    <a:lnTo>
                      <a:pt x="4" y="17"/>
                    </a:lnTo>
                    <a:lnTo>
                      <a:pt x="4" y="27"/>
                    </a:lnTo>
                    <a:lnTo>
                      <a:pt x="3" y="35"/>
                    </a:lnTo>
                    <a:lnTo>
                      <a:pt x="2" y="43"/>
                    </a:lnTo>
                    <a:lnTo>
                      <a:pt x="1" y="53"/>
                    </a:lnTo>
                    <a:lnTo>
                      <a:pt x="1" y="61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15120" y="320040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71" h="101">
                    <a:moveTo>
                      <a:pt x="0" y="101"/>
                    </a:moveTo>
                    <a:lnTo>
                      <a:pt x="45" y="77"/>
                    </a:lnTo>
                    <a:lnTo>
                      <a:pt x="71" y="50"/>
                    </a:lnTo>
                    <a:lnTo>
                      <a:pt x="71" y="23"/>
                    </a:lnTo>
                    <a:lnTo>
                      <a:pt x="8" y="0"/>
                    </a:lnTo>
                    <a:lnTo>
                      <a:pt x="7" y="13"/>
                    </a:lnTo>
                    <a:lnTo>
                      <a:pt x="6" y="25"/>
                    </a:lnTo>
                    <a:lnTo>
                      <a:pt x="5" y="38"/>
                    </a:lnTo>
                    <a:lnTo>
                      <a:pt x="4" y="50"/>
                    </a:lnTo>
                    <a:lnTo>
                      <a:pt x="3" y="63"/>
                    </a:lnTo>
                    <a:lnTo>
                      <a:pt x="2" y="75"/>
                    </a:lnTo>
                    <a:lnTo>
                      <a:pt x="1" y="88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302520" y="319572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80" h="148">
                    <a:moveTo>
                      <a:pt x="74" y="98"/>
                    </a:moveTo>
                    <a:lnTo>
                      <a:pt x="75" y="89"/>
                    </a:lnTo>
                    <a:lnTo>
                      <a:pt x="75" y="81"/>
                    </a:lnTo>
                    <a:lnTo>
                      <a:pt x="76" y="71"/>
                    </a:lnTo>
                    <a:lnTo>
                      <a:pt x="77" y="63"/>
                    </a:lnTo>
                    <a:lnTo>
                      <a:pt x="78" y="55"/>
                    </a:lnTo>
                    <a:lnTo>
                      <a:pt x="78" y="45"/>
                    </a:lnTo>
                    <a:lnTo>
                      <a:pt x="79" y="37"/>
                    </a:lnTo>
                    <a:lnTo>
                      <a:pt x="80" y="28"/>
                    </a:lnTo>
                    <a:lnTo>
                      <a:pt x="25" y="8"/>
                    </a:lnTo>
                    <a:lnTo>
                      <a:pt x="13" y="0"/>
                    </a:lnTo>
                    <a:lnTo>
                      <a:pt x="12" y="19"/>
                    </a:lnTo>
                    <a:lnTo>
                      <a:pt x="10" y="38"/>
                    </a:lnTo>
                    <a:lnTo>
                      <a:pt x="8" y="56"/>
                    </a:lnTo>
                    <a:lnTo>
                      <a:pt x="6" y="75"/>
                    </a:lnTo>
                    <a:lnTo>
                      <a:pt x="5" y="93"/>
                    </a:lnTo>
                    <a:lnTo>
                      <a:pt x="3" y="111"/>
                    </a:lnTo>
                    <a:lnTo>
                      <a:pt x="2" y="130"/>
                    </a:lnTo>
                    <a:lnTo>
                      <a:pt x="0" y="148"/>
                    </a:lnTo>
                    <a:lnTo>
                      <a:pt x="25" y="123"/>
                    </a:lnTo>
                    <a:lnTo>
                      <a:pt x="74" y="98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291360" y="318780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83" h="202">
                    <a:moveTo>
                      <a:pt x="75" y="139"/>
                    </a:moveTo>
                    <a:lnTo>
                      <a:pt x="76" y="126"/>
                    </a:lnTo>
                    <a:lnTo>
                      <a:pt x="77" y="113"/>
                    </a:lnTo>
                    <a:lnTo>
                      <a:pt x="78" y="101"/>
                    </a:lnTo>
                    <a:lnTo>
                      <a:pt x="79" y="88"/>
                    </a:lnTo>
                    <a:lnTo>
                      <a:pt x="80" y="76"/>
                    </a:lnTo>
                    <a:lnTo>
                      <a:pt x="81" y="63"/>
                    </a:lnTo>
                    <a:lnTo>
                      <a:pt x="82" y="51"/>
                    </a:lnTo>
                    <a:lnTo>
                      <a:pt x="83" y="38"/>
                    </a:lnTo>
                    <a:lnTo>
                      <a:pt x="62" y="30"/>
                    </a:lnTo>
                    <a:lnTo>
                      <a:pt x="17" y="0"/>
                    </a:lnTo>
                    <a:lnTo>
                      <a:pt x="15" y="25"/>
                    </a:lnTo>
                    <a:lnTo>
                      <a:pt x="13" y="50"/>
                    </a:lnTo>
                    <a:lnTo>
                      <a:pt x="11" y="76"/>
                    </a:lnTo>
                    <a:lnTo>
                      <a:pt x="9" y="101"/>
                    </a:lnTo>
                    <a:lnTo>
                      <a:pt x="6" y="126"/>
                    </a:lnTo>
                    <a:lnTo>
                      <a:pt x="4" y="151"/>
                    </a:lnTo>
                    <a:lnTo>
                      <a:pt x="2" y="176"/>
                    </a:lnTo>
                    <a:lnTo>
                      <a:pt x="0" y="202"/>
                    </a:lnTo>
                    <a:lnTo>
                      <a:pt x="5" y="202"/>
                    </a:lnTo>
                    <a:lnTo>
                      <a:pt x="35" y="172"/>
                    </a:lnTo>
                    <a:lnTo>
                      <a:pt x="62" y="145"/>
                    </a:lnTo>
                    <a:lnTo>
                      <a:pt x="75" y="13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80200" y="318132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85" h="224">
                    <a:moveTo>
                      <a:pt x="72" y="192"/>
                    </a:moveTo>
                    <a:lnTo>
                      <a:pt x="74" y="174"/>
                    </a:lnTo>
                    <a:lnTo>
                      <a:pt x="75" y="155"/>
                    </a:lnTo>
                    <a:lnTo>
                      <a:pt x="77" y="137"/>
                    </a:lnTo>
                    <a:lnTo>
                      <a:pt x="78" y="119"/>
                    </a:lnTo>
                    <a:lnTo>
                      <a:pt x="80" y="100"/>
                    </a:lnTo>
                    <a:lnTo>
                      <a:pt x="82" y="82"/>
                    </a:lnTo>
                    <a:lnTo>
                      <a:pt x="84" y="63"/>
                    </a:lnTo>
                    <a:lnTo>
                      <a:pt x="85" y="44"/>
                    </a:lnTo>
                    <a:lnTo>
                      <a:pt x="19" y="0"/>
                    </a:lnTo>
                    <a:lnTo>
                      <a:pt x="17" y="28"/>
                    </a:lnTo>
                    <a:lnTo>
                      <a:pt x="15" y="56"/>
                    </a:lnTo>
                    <a:lnTo>
                      <a:pt x="12" y="84"/>
                    </a:lnTo>
                    <a:lnTo>
                      <a:pt x="10" y="112"/>
                    </a:lnTo>
                    <a:lnTo>
                      <a:pt x="8" y="140"/>
                    </a:lnTo>
                    <a:lnTo>
                      <a:pt x="6" y="168"/>
                    </a:lnTo>
                    <a:lnTo>
                      <a:pt x="3" y="196"/>
                    </a:lnTo>
                    <a:lnTo>
                      <a:pt x="0" y="224"/>
                    </a:lnTo>
                    <a:lnTo>
                      <a:pt x="40" y="224"/>
                    </a:lnTo>
                    <a:lnTo>
                      <a:pt x="70" y="194"/>
                    </a:lnTo>
                    <a:lnTo>
                      <a:pt x="72" y="19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69040" y="3174840"/>
                <a:ext cx="27000" cy="8424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71" y="246"/>
                    </a:moveTo>
                    <a:lnTo>
                      <a:pt x="73" y="220"/>
                    </a:lnTo>
                    <a:lnTo>
                      <a:pt x="75" y="195"/>
                    </a:lnTo>
                    <a:lnTo>
                      <a:pt x="77" y="170"/>
                    </a:lnTo>
                    <a:lnTo>
                      <a:pt x="80" y="145"/>
                    </a:lnTo>
                    <a:lnTo>
                      <a:pt x="82" y="120"/>
                    </a:lnTo>
                    <a:lnTo>
                      <a:pt x="84" y="94"/>
                    </a:lnTo>
                    <a:lnTo>
                      <a:pt x="86" y="69"/>
                    </a:lnTo>
                    <a:lnTo>
                      <a:pt x="88" y="44"/>
                    </a:lnTo>
                    <a:lnTo>
                      <a:pt x="49" y="18"/>
                    </a:lnTo>
                    <a:lnTo>
                      <a:pt x="22" y="0"/>
                    </a:lnTo>
                    <a:lnTo>
                      <a:pt x="20" y="33"/>
                    </a:lnTo>
                    <a:lnTo>
                      <a:pt x="17" y="67"/>
                    </a:lnTo>
                    <a:lnTo>
                      <a:pt x="14" y="101"/>
                    </a:lnTo>
                    <a:lnTo>
                      <a:pt x="12" y="133"/>
                    </a:lnTo>
                    <a:lnTo>
                      <a:pt x="9" y="167"/>
                    </a:lnTo>
                    <a:lnTo>
                      <a:pt x="6" y="200"/>
                    </a:lnTo>
                    <a:lnTo>
                      <a:pt x="3" y="233"/>
                    </a:lnTo>
                    <a:lnTo>
                      <a:pt x="0" y="267"/>
                    </a:lnTo>
                    <a:lnTo>
                      <a:pt x="22" y="246"/>
                    </a:lnTo>
                    <a:lnTo>
                      <a:pt x="71" y="24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257880" y="3166920"/>
                <a:ext cx="28800" cy="93960"/>
              </a:xfrm>
              <a:custGeom>
                <a:avLst/>
                <a:gdLst/>
                <a:ahLst/>
                <a:rect l="l" t="t" r="r" b="b"/>
                <a:pathLst>
                  <a:path w="91" h="295">
                    <a:moveTo>
                      <a:pt x="72" y="267"/>
                    </a:moveTo>
                    <a:lnTo>
                      <a:pt x="75" y="239"/>
                    </a:lnTo>
                    <a:lnTo>
                      <a:pt x="78" y="211"/>
                    </a:lnTo>
                    <a:lnTo>
                      <a:pt x="80" y="183"/>
                    </a:lnTo>
                    <a:lnTo>
                      <a:pt x="82" y="155"/>
                    </a:lnTo>
                    <a:lnTo>
                      <a:pt x="84" y="127"/>
                    </a:lnTo>
                    <a:lnTo>
                      <a:pt x="87" y="99"/>
                    </a:lnTo>
                    <a:lnTo>
                      <a:pt x="89" y="71"/>
                    </a:lnTo>
                    <a:lnTo>
                      <a:pt x="91" y="43"/>
                    </a:lnTo>
                    <a:lnTo>
                      <a:pt x="85" y="39"/>
                    </a:lnTo>
                    <a:lnTo>
                      <a:pt x="25" y="0"/>
                    </a:lnTo>
                    <a:lnTo>
                      <a:pt x="22" y="37"/>
                    </a:lnTo>
                    <a:lnTo>
                      <a:pt x="20" y="74"/>
                    </a:lnTo>
                    <a:lnTo>
                      <a:pt x="17" y="111"/>
                    </a:lnTo>
                    <a:lnTo>
                      <a:pt x="14" y="148"/>
                    </a:lnTo>
                    <a:lnTo>
                      <a:pt x="10" y="185"/>
                    </a:lnTo>
                    <a:lnTo>
                      <a:pt x="7" y="221"/>
                    </a:lnTo>
                    <a:lnTo>
                      <a:pt x="4" y="258"/>
                    </a:lnTo>
                    <a:lnTo>
                      <a:pt x="0" y="295"/>
                    </a:lnTo>
                    <a:lnTo>
                      <a:pt x="1" y="294"/>
                    </a:lnTo>
                    <a:lnTo>
                      <a:pt x="28" y="294"/>
                    </a:lnTo>
                    <a:lnTo>
                      <a:pt x="58" y="267"/>
                    </a:lnTo>
                    <a:lnTo>
                      <a:pt x="72" y="26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45280" y="3159000"/>
                <a:ext cx="30240" cy="114480"/>
              </a:xfrm>
              <a:custGeom>
                <a:avLst/>
                <a:gdLst/>
                <a:ahLst/>
                <a:rect l="l" t="t" r="r" b="b"/>
                <a:pathLst>
                  <a:path w="97" h="359">
                    <a:moveTo>
                      <a:pt x="75" y="313"/>
                    </a:moveTo>
                    <a:lnTo>
                      <a:pt x="78" y="279"/>
                    </a:lnTo>
                    <a:lnTo>
                      <a:pt x="81" y="246"/>
                    </a:lnTo>
                    <a:lnTo>
                      <a:pt x="84" y="213"/>
                    </a:lnTo>
                    <a:lnTo>
                      <a:pt x="87" y="179"/>
                    </a:lnTo>
                    <a:lnTo>
                      <a:pt x="89" y="147"/>
                    </a:lnTo>
                    <a:lnTo>
                      <a:pt x="92" y="113"/>
                    </a:lnTo>
                    <a:lnTo>
                      <a:pt x="95" y="79"/>
                    </a:lnTo>
                    <a:lnTo>
                      <a:pt x="97" y="46"/>
                    </a:lnTo>
                    <a:lnTo>
                      <a:pt x="40" y="10"/>
                    </a:lnTo>
                    <a:lnTo>
                      <a:pt x="31" y="0"/>
                    </a:lnTo>
                    <a:lnTo>
                      <a:pt x="27" y="45"/>
                    </a:lnTo>
                    <a:lnTo>
                      <a:pt x="24" y="90"/>
                    </a:lnTo>
                    <a:lnTo>
                      <a:pt x="21" y="135"/>
                    </a:lnTo>
                    <a:lnTo>
                      <a:pt x="18" y="180"/>
                    </a:lnTo>
                    <a:lnTo>
                      <a:pt x="14" y="224"/>
                    </a:lnTo>
                    <a:lnTo>
                      <a:pt x="10" y="269"/>
                    </a:lnTo>
                    <a:lnTo>
                      <a:pt x="5" y="315"/>
                    </a:lnTo>
                    <a:lnTo>
                      <a:pt x="0" y="359"/>
                    </a:lnTo>
                    <a:lnTo>
                      <a:pt x="40" y="319"/>
                    </a:lnTo>
                    <a:lnTo>
                      <a:pt x="67" y="319"/>
                    </a:lnTo>
                    <a:lnTo>
                      <a:pt x="75" y="31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32680" y="3149640"/>
                <a:ext cx="33120" cy="136440"/>
              </a:xfrm>
              <a:custGeom>
                <a:avLst/>
                <a:gdLst/>
                <a:ahLst/>
                <a:rect l="l" t="t" r="r" b="b"/>
                <a:pathLst>
                  <a:path w="103" h="431">
                    <a:moveTo>
                      <a:pt x="78" y="353"/>
                    </a:moveTo>
                    <a:lnTo>
                      <a:pt x="82" y="316"/>
                    </a:lnTo>
                    <a:lnTo>
                      <a:pt x="85" y="279"/>
                    </a:lnTo>
                    <a:lnTo>
                      <a:pt x="88" y="243"/>
                    </a:lnTo>
                    <a:lnTo>
                      <a:pt x="92" y="206"/>
                    </a:lnTo>
                    <a:lnTo>
                      <a:pt x="95" y="169"/>
                    </a:lnTo>
                    <a:lnTo>
                      <a:pt x="98" y="132"/>
                    </a:lnTo>
                    <a:lnTo>
                      <a:pt x="100" y="95"/>
                    </a:lnTo>
                    <a:lnTo>
                      <a:pt x="103" y="58"/>
                    </a:lnTo>
                    <a:lnTo>
                      <a:pt x="79" y="43"/>
                    </a:lnTo>
                    <a:lnTo>
                      <a:pt x="37" y="0"/>
                    </a:lnTo>
                    <a:lnTo>
                      <a:pt x="34" y="54"/>
                    </a:lnTo>
                    <a:lnTo>
                      <a:pt x="30" y="108"/>
                    </a:lnTo>
                    <a:lnTo>
                      <a:pt x="26" y="162"/>
                    </a:lnTo>
                    <a:lnTo>
                      <a:pt x="21" y="216"/>
                    </a:lnTo>
                    <a:lnTo>
                      <a:pt x="17" y="270"/>
                    </a:lnTo>
                    <a:lnTo>
                      <a:pt x="12" y="323"/>
                    </a:lnTo>
                    <a:lnTo>
                      <a:pt x="5" y="377"/>
                    </a:lnTo>
                    <a:lnTo>
                      <a:pt x="0" y="431"/>
                    </a:lnTo>
                    <a:lnTo>
                      <a:pt x="78" y="35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219720" y="3138480"/>
                <a:ext cx="34920" cy="158760"/>
              </a:xfrm>
              <a:custGeom>
                <a:avLst/>
                <a:gdLst/>
                <a:ahLst/>
                <a:rect l="l" t="t" r="r" b="b"/>
                <a:pathLst>
                  <a:path w="109" h="502">
                    <a:moveTo>
                      <a:pt x="78" y="426"/>
                    </a:moveTo>
                    <a:lnTo>
                      <a:pt x="83" y="382"/>
                    </a:lnTo>
                    <a:lnTo>
                      <a:pt x="88" y="336"/>
                    </a:lnTo>
                    <a:lnTo>
                      <a:pt x="92" y="291"/>
                    </a:lnTo>
                    <a:lnTo>
                      <a:pt x="96" y="247"/>
                    </a:lnTo>
                    <a:lnTo>
                      <a:pt x="99" y="202"/>
                    </a:lnTo>
                    <a:lnTo>
                      <a:pt x="102" y="157"/>
                    </a:lnTo>
                    <a:lnTo>
                      <a:pt x="105" y="112"/>
                    </a:lnTo>
                    <a:lnTo>
                      <a:pt x="109" y="67"/>
                    </a:lnTo>
                    <a:lnTo>
                      <a:pt x="44" y="0"/>
                    </a:lnTo>
                    <a:lnTo>
                      <a:pt x="40" y="63"/>
                    </a:lnTo>
                    <a:lnTo>
                      <a:pt x="36" y="126"/>
                    </a:lnTo>
                    <a:lnTo>
                      <a:pt x="31" y="189"/>
                    </a:lnTo>
                    <a:lnTo>
                      <a:pt x="26" y="252"/>
                    </a:lnTo>
                    <a:lnTo>
                      <a:pt x="20" y="315"/>
                    </a:lnTo>
                    <a:lnTo>
                      <a:pt x="14" y="377"/>
                    </a:lnTo>
                    <a:lnTo>
                      <a:pt x="8" y="439"/>
                    </a:lnTo>
                    <a:lnTo>
                      <a:pt x="0" y="502"/>
                    </a:lnTo>
                    <a:lnTo>
                      <a:pt x="4" y="500"/>
                    </a:lnTo>
                    <a:lnTo>
                      <a:pt x="78" y="42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208560" y="3129120"/>
                <a:ext cx="36720" cy="176040"/>
              </a:xfrm>
              <a:custGeom>
                <a:avLst/>
                <a:gdLst/>
                <a:ahLst/>
                <a:rect l="l" t="t" r="r" b="b"/>
                <a:pathLst>
                  <a:path w="114" h="556">
                    <a:moveTo>
                      <a:pt x="76" y="497"/>
                    </a:moveTo>
                    <a:lnTo>
                      <a:pt x="82" y="443"/>
                    </a:lnTo>
                    <a:lnTo>
                      <a:pt x="88" y="389"/>
                    </a:lnTo>
                    <a:lnTo>
                      <a:pt x="93" y="336"/>
                    </a:lnTo>
                    <a:lnTo>
                      <a:pt x="97" y="282"/>
                    </a:lnTo>
                    <a:lnTo>
                      <a:pt x="102" y="228"/>
                    </a:lnTo>
                    <a:lnTo>
                      <a:pt x="107" y="174"/>
                    </a:lnTo>
                    <a:lnTo>
                      <a:pt x="110" y="120"/>
                    </a:lnTo>
                    <a:lnTo>
                      <a:pt x="114" y="66"/>
                    </a:lnTo>
                    <a:lnTo>
                      <a:pt x="71" y="22"/>
                    </a:lnTo>
                    <a:lnTo>
                      <a:pt x="49" y="0"/>
                    </a:lnTo>
                    <a:lnTo>
                      <a:pt x="45" y="70"/>
                    </a:lnTo>
                    <a:lnTo>
                      <a:pt x="40" y="141"/>
                    </a:lnTo>
                    <a:lnTo>
                      <a:pt x="35" y="210"/>
                    </a:lnTo>
                    <a:lnTo>
                      <a:pt x="29" y="279"/>
                    </a:lnTo>
                    <a:lnTo>
                      <a:pt x="23" y="350"/>
                    </a:lnTo>
                    <a:lnTo>
                      <a:pt x="15" y="418"/>
                    </a:lnTo>
                    <a:lnTo>
                      <a:pt x="8" y="487"/>
                    </a:lnTo>
                    <a:lnTo>
                      <a:pt x="0" y="556"/>
                    </a:lnTo>
                    <a:lnTo>
                      <a:pt x="41" y="532"/>
                    </a:lnTo>
                    <a:lnTo>
                      <a:pt x="76" y="49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95960" y="3117960"/>
                <a:ext cx="38160" cy="193680"/>
              </a:xfrm>
              <a:custGeom>
                <a:avLst/>
                <a:gdLst/>
                <a:ahLst/>
                <a:rect l="l" t="t" r="r" b="b"/>
                <a:pathLst>
                  <a:path w="118" h="610">
                    <a:moveTo>
                      <a:pt x="74" y="566"/>
                    </a:moveTo>
                    <a:lnTo>
                      <a:pt x="82" y="503"/>
                    </a:lnTo>
                    <a:lnTo>
                      <a:pt x="88" y="441"/>
                    </a:lnTo>
                    <a:lnTo>
                      <a:pt x="94" y="379"/>
                    </a:lnTo>
                    <a:lnTo>
                      <a:pt x="100" y="316"/>
                    </a:lnTo>
                    <a:lnTo>
                      <a:pt x="105" y="253"/>
                    </a:lnTo>
                    <a:lnTo>
                      <a:pt x="110" y="190"/>
                    </a:lnTo>
                    <a:lnTo>
                      <a:pt x="114" y="127"/>
                    </a:lnTo>
                    <a:lnTo>
                      <a:pt x="118" y="64"/>
                    </a:lnTo>
                    <a:lnTo>
                      <a:pt x="108" y="54"/>
                    </a:lnTo>
                    <a:lnTo>
                      <a:pt x="53" y="0"/>
                    </a:lnTo>
                    <a:lnTo>
                      <a:pt x="49" y="77"/>
                    </a:lnTo>
                    <a:lnTo>
                      <a:pt x="44" y="154"/>
                    </a:lnTo>
                    <a:lnTo>
                      <a:pt x="39" y="230"/>
                    </a:lnTo>
                    <a:lnTo>
                      <a:pt x="32" y="307"/>
                    </a:lnTo>
                    <a:lnTo>
                      <a:pt x="25" y="383"/>
                    </a:lnTo>
                    <a:lnTo>
                      <a:pt x="18" y="459"/>
                    </a:lnTo>
                    <a:lnTo>
                      <a:pt x="9" y="535"/>
                    </a:lnTo>
                    <a:lnTo>
                      <a:pt x="0" y="610"/>
                    </a:lnTo>
                    <a:lnTo>
                      <a:pt x="74" y="566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184800" y="3108240"/>
                <a:ext cx="39960" cy="211320"/>
              </a:xfrm>
              <a:custGeom>
                <a:avLst/>
                <a:gdLst/>
                <a:ahLst/>
                <a:rect l="l" t="t" r="r" b="b"/>
                <a:pathLst>
                  <a:path w="123" h="665">
                    <a:moveTo>
                      <a:pt x="74" y="620"/>
                    </a:moveTo>
                    <a:lnTo>
                      <a:pt x="82" y="551"/>
                    </a:lnTo>
                    <a:lnTo>
                      <a:pt x="89" y="482"/>
                    </a:lnTo>
                    <a:lnTo>
                      <a:pt x="97" y="414"/>
                    </a:lnTo>
                    <a:lnTo>
                      <a:pt x="103" y="343"/>
                    </a:lnTo>
                    <a:lnTo>
                      <a:pt x="109" y="274"/>
                    </a:lnTo>
                    <a:lnTo>
                      <a:pt x="114" y="205"/>
                    </a:lnTo>
                    <a:lnTo>
                      <a:pt x="119" y="134"/>
                    </a:lnTo>
                    <a:lnTo>
                      <a:pt x="123" y="64"/>
                    </a:lnTo>
                    <a:lnTo>
                      <a:pt x="57" y="0"/>
                    </a:lnTo>
                    <a:lnTo>
                      <a:pt x="52" y="84"/>
                    </a:lnTo>
                    <a:lnTo>
                      <a:pt x="47" y="168"/>
                    </a:lnTo>
                    <a:lnTo>
                      <a:pt x="42" y="251"/>
                    </a:lnTo>
                    <a:lnTo>
                      <a:pt x="35" y="334"/>
                    </a:lnTo>
                    <a:lnTo>
                      <a:pt x="27" y="417"/>
                    </a:lnTo>
                    <a:lnTo>
                      <a:pt x="19" y="500"/>
                    </a:lnTo>
                    <a:lnTo>
                      <a:pt x="9" y="583"/>
                    </a:lnTo>
                    <a:lnTo>
                      <a:pt x="0" y="665"/>
                    </a:lnTo>
                    <a:lnTo>
                      <a:pt x="74" y="620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172200" y="3097080"/>
                <a:ext cx="41400" cy="228600"/>
              </a:xfrm>
              <a:custGeom>
                <a:avLst/>
                <a:gdLst/>
                <a:ahLst/>
                <a:rect l="l" t="t" r="r" b="b"/>
                <a:pathLst>
                  <a:path w="128" h="723">
                    <a:moveTo>
                      <a:pt x="75" y="677"/>
                    </a:moveTo>
                    <a:lnTo>
                      <a:pt x="84" y="602"/>
                    </a:lnTo>
                    <a:lnTo>
                      <a:pt x="93" y="526"/>
                    </a:lnTo>
                    <a:lnTo>
                      <a:pt x="100" y="450"/>
                    </a:lnTo>
                    <a:lnTo>
                      <a:pt x="107" y="374"/>
                    </a:lnTo>
                    <a:lnTo>
                      <a:pt x="114" y="297"/>
                    </a:lnTo>
                    <a:lnTo>
                      <a:pt x="119" y="221"/>
                    </a:lnTo>
                    <a:lnTo>
                      <a:pt x="124" y="144"/>
                    </a:lnTo>
                    <a:lnTo>
                      <a:pt x="128" y="67"/>
                    </a:lnTo>
                    <a:lnTo>
                      <a:pt x="68" y="10"/>
                    </a:lnTo>
                    <a:lnTo>
                      <a:pt x="62" y="0"/>
                    </a:lnTo>
                    <a:lnTo>
                      <a:pt x="57" y="92"/>
                    </a:lnTo>
                    <a:lnTo>
                      <a:pt x="52" y="182"/>
                    </a:lnTo>
                    <a:lnTo>
                      <a:pt x="46" y="273"/>
                    </a:lnTo>
                    <a:lnTo>
                      <a:pt x="39" y="364"/>
                    </a:lnTo>
                    <a:lnTo>
                      <a:pt x="31" y="454"/>
                    </a:lnTo>
                    <a:lnTo>
                      <a:pt x="21" y="543"/>
                    </a:lnTo>
                    <a:lnTo>
                      <a:pt x="11" y="633"/>
                    </a:lnTo>
                    <a:lnTo>
                      <a:pt x="0" y="723"/>
                    </a:lnTo>
                    <a:lnTo>
                      <a:pt x="12" y="715"/>
                    </a:lnTo>
                    <a:lnTo>
                      <a:pt x="75" y="677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61040" y="3083040"/>
                <a:ext cx="41400" cy="250560"/>
              </a:xfrm>
              <a:custGeom>
                <a:avLst/>
                <a:gdLst/>
                <a:ahLst/>
                <a:rect l="l" t="t" r="r" b="b"/>
                <a:pathLst>
                  <a:path w="134" h="790">
                    <a:moveTo>
                      <a:pt x="77" y="745"/>
                    </a:moveTo>
                    <a:lnTo>
                      <a:pt x="86" y="663"/>
                    </a:lnTo>
                    <a:lnTo>
                      <a:pt x="96" y="580"/>
                    </a:lnTo>
                    <a:lnTo>
                      <a:pt x="104" y="497"/>
                    </a:lnTo>
                    <a:lnTo>
                      <a:pt x="112" y="414"/>
                    </a:lnTo>
                    <a:lnTo>
                      <a:pt x="119" y="331"/>
                    </a:lnTo>
                    <a:lnTo>
                      <a:pt x="124" y="248"/>
                    </a:lnTo>
                    <a:lnTo>
                      <a:pt x="129" y="164"/>
                    </a:lnTo>
                    <a:lnTo>
                      <a:pt x="134" y="80"/>
                    </a:lnTo>
                    <a:lnTo>
                      <a:pt x="107" y="55"/>
                    </a:lnTo>
                    <a:lnTo>
                      <a:pt x="67" y="0"/>
                    </a:lnTo>
                    <a:lnTo>
                      <a:pt x="63" y="100"/>
                    </a:lnTo>
                    <a:lnTo>
                      <a:pt x="58" y="200"/>
                    </a:lnTo>
                    <a:lnTo>
                      <a:pt x="52" y="299"/>
                    </a:lnTo>
                    <a:lnTo>
                      <a:pt x="44" y="398"/>
                    </a:lnTo>
                    <a:lnTo>
                      <a:pt x="35" y="497"/>
                    </a:lnTo>
                    <a:lnTo>
                      <a:pt x="24" y="594"/>
                    </a:lnTo>
                    <a:lnTo>
                      <a:pt x="13" y="692"/>
                    </a:lnTo>
                    <a:lnTo>
                      <a:pt x="0" y="790"/>
                    </a:lnTo>
                    <a:lnTo>
                      <a:pt x="51" y="760"/>
                    </a:lnTo>
                    <a:lnTo>
                      <a:pt x="77" y="745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8440" y="3068640"/>
                <a:ext cx="44280" cy="271440"/>
              </a:xfrm>
              <a:custGeom>
                <a:avLst/>
                <a:gdLst/>
                <a:ahLst/>
                <a:rect l="l" t="t" r="r" b="b"/>
                <a:pathLst>
                  <a:path w="139" h="857">
                    <a:moveTo>
                      <a:pt x="77" y="812"/>
                    </a:moveTo>
                    <a:lnTo>
                      <a:pt x="88" y="722"/>
                    </a:lnTo>
                    <a:lnTo>
                      <a:pt x="98" y="632"/>
                    </a:lnTo>
                    <a:lnTo>
                      <a:pt x="108" y="543"/>
                    </a:lnTo>
                    <a:lnTo>
                      <a:pt x="116" y="453"/>
                    </a:lnTo>
                    <a:lnTo>
                      <a:pt x="123" y="362"/>
                    </a:lnTo>
                    <a:lnTo>
                      <a:pt x="129" y="271"/>
                    </a:lnTo>
                    <a:lnTo>
                      <a:pt x="134" y="181"/>
                    </a:lnTo>
                    <a:lnTo>
                      <a:pt x="139" y="89"/>
                    </a:lnTo>
                    <a:lnTo>
                      <a:pt x="73" y="0"/>
                    </a:lnTo>
                    <a:lnTo>
                      <a:pt x="69" y="108"/>
                    </a:lnTo>
                    <a:lnTo>
                      <a:pt x="63" y="216"/>
                    </a:lnTo>
                    <a:lnTo>
                      <a:pt x="57" y="324"/>
                    </a:lnTo>
                    <a:lnTo>
                      <a:pt x="49" y="432"/>
                    </a:lnTo>
                    <a:lnTo>
                      <a:pt x="38" y="539"/>
                    </a:lnTo>
                    <a:lnTo>
                      <a:pt x="28" y="645"/>
                    </a:lnTo>
                    <a:lnTo>
                      <a:pt x="15" y="751"/>
                    </a:lnTo>
                    <a:lnTo>
                      <a:pt x="0" y="857"/>
                    </a:lnTo>
                    <a:lnTo>
                      <a:pt x="77" y="81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135840" y="3057480"/>
                <a:ext cx="45720" cy="290520"/>
              </a:xfrm>
              <a:custGeom>
                <a:avLst/>
                <a:gdLst/>
                <a:ahLst/>
                <a:rect l="l" t="t" r="r" b="b"/>
                <a:pathLst>
                  <a:path w="143" h="916">
                    <a:moveTo>
                      <a:pt x="76" y="871"/>
                    </a:moveTo>
                    <a:lnTo>
                      <a:pt x="89" y="773"/>
                    </a:lnTo>
                    <a:lnTo>
                      <a:pt x="100" y="675"/>
                    </a:lnTo>
                    <a:lnTo>
                      <a:pt x="111" y="578"/>
                    </a:lnTo>
                    <a:lnTo>
                      <a:pt x="120" y="479"/>
                    </a:lnTo>
                    <a:lnTo>
                      <a:pt x="128" y="380"/>
                    </a:lnTo>
                    <a:lnTo>
                      <a:pt x="134" y="281"/>
                    </a:lnTo>
                    <a:lnTo>
                      <a:pt x="139" y="181"/>
                    </a:lnTo>
                    <a:lnTo>
                      <a:pt x="143" y="81"/>
                    </a:lnTo>
                    <a:lnTo>
                      <a:pt x="99" y="21"/>
                    </a:lnTo>
                    <a:lnTo>
                      <a:pt x="78" y="0"/>
                    </a:lnTo>
                    <a:lnTo>
                      <a:pt x="74" y="117"/>
                    </a:lnTo>
                    <a:lnTo>
                      <a:pt x="69" y="232"/>
                    </a:lnTo>
                    <a:lnTo>
                      <a:pt x="61" y="347"/>
                    </a:lnTo>
                    <a:lnTo>
                      <a:pt x="53" y="462"/>
                    </a:lnTo>
                    <a:lnTo>
                      <a:pt x="42" y="576"/>
                    </a:lnTo>
                    <a:lnTo>
                      <a:pt x="30" y="690"/>
                    </a:lnTo>
                    <a:lnTo>
                      <a:pt x="16" y="803"/>
                    </a:lnTo>
                    <a:lnTo>
                      <a:pt x="0" y="916"/>
                    </a:lnTo>
                    <a:lnTo>
                      <a:pt x="76" y="87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124680" y="3046320"/>
                <a:ext cx="47520" cy="306360"/>
              </a:xfrm>
              <a:custGeom>
                <a:avLst/>
                <a:gdLst/>
                <a:ahLst/>
                <a:rect l="l" t="t" r="r" b="b"/>
                <a:pathLst>
                  <a:path w="147" h="967">
                    <a:moveTo>
                      <a:pt x="74" y="927"/>
                    </a:moveTo>
                    <a:lnTo>
                      <a:pt x="89" y="821"/>
                    </a:lnTo>
                    <a:lnTo>
                      <a:pt x="102" y="715"/>
                    </a:lnTo>
                    <a:lnTo>
                      <a:pt x="112" y="609"/>
                    </a:lnTo>
                    <a:lnTo>
                      <a:pt x="123" y="502"/>
                    </a:lnTo>
                    <a:lnTo>
                      <a:pt x="131" y="394"/>
                    </a:lnTo>
                    <a:lnTo>
                      <a:pt x="137" y="286"/>
                    </a:lnTo>
                    <a:lnTo>
                      <a:pt x="143" y="178"/>
                    </a:lnTo>
                    <a:lnTo>
                      <a:pt x="147" y="70"/>
                    </a:lnTo>
                    <a:lnTo>
                      <a:pt x="135" y="54"/>
                    </a:lnTo>
                    <a:lnTo>
                      <a:pt x="81" y="0"/>
                    </a:lnTo>
                    <a:lnTo>
                      <a:pt x="76" y="122"/>
                    </a:lnTo>
                    <a:lnTo>
                      <a:pt x="71" y="244"/>
                    </a:lnTo>
                    <a:lnTo>
                      <a:pt x="64" y="366"/>
                    </a:lnTo>
                    <a:lnTo>
                      <a:pt x="54" y="487"/>
                    </a:lnTo>
                    <a:lnTo>
                      <a:pt x="44" y="608"/>
                    </a:lnTo>
                    <a:lnTo>
                      <a:pt x="31" y="728"/>
                    </a:lnTo>
                    <a:lnTo>
                      <a:pt x="16" y="848"/>
                    </a:lnTo>
                    <a:lnTo>
                      <a:pt x="0" y="967"/>
                    </a:lnTo>
                    <a:lnTo>
                      <a:pt x="22" y="958"/>
                    </a:lnTo>
                    <a:lnTo>
                      <a:pt x="74" y="927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113520" y="3035160"/>
                <a:ext cx="47520" cy="322560"/>
              </a:xfrm>
              <a:custGeom>
                <a:avLst/>
                <a:gdLst/>
                <a:ahLst/>
                <a:rect l="l" t="t" r="r" b="b"/>
                <a:pathLst>
                  <a:path w="151" h="1016">
                    <a:moveTo>
                      <a:pt x="73" y="984"/>
                    </a:moveTo>
                    <a:lnTo>
                      <a:pt x="89" y="871"/>
                    </a:lnTo>
                    <a:lnTo>
                      <a:pt x="103" y="758"/>
                    </a:lnTo>
                    <a:lnTo>
                      <a:pt x="115" y="644"/>
                    </a:lnTo>
                    <a:lnTo>
                      <a:pt x="126" y="530"/>
                    </a:lnTo>
                    <a:lnTo>
                      <a:pt x="134" y="415"/>
                    </a:lnTo>
                    <a:lnTo>
                      <a:pt x="142" y="300"/>
                    </a:lnTo>
                    <a:lnTo>
                      <a:pt x="147" y="184"/>
                    </a:lnTo>
                    <a:lnTo>
                      <a:pt x="151" y="68"/>
                    </a:lnTo>
                    <a:lnTo>
                      <a:pt x="83" y="0"/>
                    </a:lnTo>
                    <a:lnTo>
                      <a:pt x="80" y="129"/>
                    </a:lnTo>
                    <a:lnTo>
                      <a:pt x="74" y="258"/>
                    </a:lnTo>
                    <a:lnTo>
                      <a:pt x="71" y="322"/>
                    </a:lnTo>
                    <a:lnTo>
                      <a:pt x="67" y="385"/>
                    </a:lnTo>
                    <a:lnTo>
                      <a:pt x="63" y="449"/>
                    </a:lnTo>
                    <a:lnTo>
                      <a:pt x="58" y="513"/>
                    </a:lnTo>
                    <a:lnTo>
                      <a:pt x="46" y="640"/>
                    </a:lnTo>
                    <a:lnTo>
                      <a:pt x="32" y="766"/>
                    </a:lnTo>
                    <a:lnTo>
                      <a:pt x="25" y="829"/>
                    </a:lnTo>
                    <a:lnTo>
                      <a:pt x="18" y="891"/>
                    </a:lnTo>
                    <a:lnTo>
                      <a:pt x="8" y="954"/>
                    </a:lnTo>
                    <a:lnTo>
                      <a:pt x="0" y="1016"/>
                    </a:lnTo>
                    <a:lnTo>
                      <a:pt x="59" y="993"/>
                    </a:lnTo>
                    <a:lnTo>
                      <a:pt x="73" y="984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00920" y="3024360"/>
                <a:ext cx="48960" cy="338040"/>
              </a:xfrm>
              <a:custGeom>
                <a:avLst/>
                <a:gdLst/>
                <a:ahLst/>
                <a:rect l="l" t="t" r="r" b="b"/>
                <a:pathLst>
                  <a:path w="155" h="1068">
                    <a:moveTo>
                      <a:pt x="74" y="1039"/>
                    </a:moveTo>
                    <a:lnTo>
                      <a:pt x="90" y="920"/>
                    </a:lnTo>
                    <a:lnTo>
                      <a:pt x="105" y="800"/>
                    </a:lnTo>
                    <a:lnTo>
                      <a:pt x="118" y="680"/>
                    </a:lnTo>
                    <a:lnTo>
                      <a:pt x="128" y="559"/>
                    </a:lnTo>
                    <a:lnTo>
                      <a:pt x="138" y="438"/>
                    </a:lnTo>
                    <a:lnTo>
                      <a:pt x="145" y="316"/>
                    </a:lnTo>
                    <a:lnTo>
                      <a:pt x="150" y="194"/>
                    </a:lnTo>
                    <a:lnTo>
                      <a:pt x="155" y="72"/>
                    </a:lnTo>
                    <a:lnTo>
                      <a:pt x="96" y="13"/>
                    </a:lnTo>
                    <a:lnTo>
                      <a:pt x="86" y="0"/>
                    </a:lnTo>
                    <a:lnTo>
                      <a:pt x="85" y="68"/>
                    </a:lnTo>
                    <a:lnTo>
                      <a:pt x="83" y="136"/>
                    </a:lnTo>
                    <a:lnTo>
                      <a:pt x="81" y="204"/>
                    </a:lnTo>
                    <a:lnTo>
                      <a:pt x="78" y="271"/>
                    </a:lnTo>
                    <a:lnTo>
                      <a:pt x="75" y="338"/>
                    </a:lnTo>
                    <a:lnTo>
                      <a:pt x="71" y="406"/>
                    </a:lnTo>
                    <a:lnTo>
                      <a:pt x="66" y="473"/>
                    </a:lnTo>
                    <a:lnTo>
                      <a:pt x="61" y="540"/>
                    </a:lnTo>
                    <a:lnTo>
                      <a:pt x="56" y="606"/>
                    </a:lnTo>
                    <a:lnTo>
                      <a:pt x="49" y="673"/>
                    </a:lnTo>
                    <a:lnTo>
                      <a:pt x="42" y="739"/>
                    </a:lnTo>
                    <a:lnTo>
                      <a:pt x="35" y="806"/>
                    </a:lnTo>
                    <a:lnTo>
                      <a:pt x="27" y="872"/>
                    </a:lnTo>
                    <a:lnTo>
                      <a:pt x="19" y="938"/>
                    </a:lnTo>
                    <a:lnTo>
                      <a:pt x="10" y="1003"/>
                    </a:lnTo>
                    <a:lnTo>
                      <a:pt x="0" y="1068"/>
                    </a:lnTo>
                    <a:lnTo>
                      <a:pt x="74" y="103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89760" y="3009960"/>
                <a:ext cx="48960" cy="357120"/>
              </a:xfrm>
              <a:custGeom>
                <a:avLst/>
                <a:gdLst/>
                <a:ahLst/>
                <a:rect l="l" t="t" r="r" b="b"/>
                <a:pathLst>
                  <a:path w="157" h="1128">
                    <a:moveTo>
                      <a:pt x="74" y="1097"/>
                    </a:moveTo>
                    <a:lnTo>
                      <a:pt x="82" y="1035"/>
                    </a:lnTo>
                    <a:lnTo>
                      <a:pt x="92" y="972"/>
                    </a:lnTo>
                    <a:lnTo>
                      <a:pt x="99" y="910"/>
                    </a:lnTo>
                    <a:lnTo>
                      <a:pt x="106" y="847"/>
                    </a:lnTo>
                    <a:lnTo>
                      <a:pt x="120" y="721"/>
                    </a:lnTo>
                    <a:lnTo>
                      <a:pt x="132" y="594"/>
                    </a:lnTo>
                    <a:lnTo>
                      <a:pt x="137" y="530"/>
                    </a:lnTo>
                    <a:lnTo>
                      <a:pt x="141" y="466"/>
                    </a:lnTo>
                    <a:lnTo>
                      <a:pt x="145" y="403"/>
                    </a:lnTo>
                    <a:lnTo>
                      <a:pt x="148" y="339"/>
                    </a:lnTo>
                    <a:lnTo>
                      <a:pt x="154" y="210"/>
                    </a:lnTo>
                    <a:lnTo>
                      <a:pt x="157" y="81"/>
                    </a:lnTo>
                    <a:lnTo>
                      <a:pt x="133" y="57"/>
                    </a:lnTo>
                    <a:lnTo>
                      <a:pt x="90" y="0"/>
                    </a:lnTo>
                    <a:lnTo>
                      <a:pt x="89" y="72"/>
                    </a:lnTo>
                    <a:lnTo>
                      <a:pt x="88" y="143"/>
                    </a:lnTo>
                    <a:lnTo>
                      <a:pt x="85" y="214"/>
                    </a:lnTo>
                    <a:lnTo>
                      <a:pt x="82" y="286"/>
                    </a:lnTo>
                    <a:lnTo>
                      <a:pt x="79" y="357"/>
                    </a:lnTo>
                    <a:lnTo>
                      <a:pt x="75" y="427"/>
                    </a:lnTo>
                    <a:lnTo>
                      <a:pt x="70" y="499"/>
                    </a:lnTo>
                    <a:lnTo>
                      <a:pt x="64" y="569"/>
                    </a:lnTo>
                    <a:lnTo>
                      <a:pt x="59" y="640"/>
                    </a:lnTo>
                    <a:lnTo>
                      <a:pt x="53" y="710"/>
                    </a:lnTo>
                    <a:lnTo>
                      <a:pt x="45" y="780"/>
                    </a:lnTo>
                    <a:lnTo>
                      <a:pt x="37" y="850"/>
                    </a:lnTo>
                    <a:lnTo>
                      <a:pt x="29" y="920"/>
                    </a:lnTo>
                    <a:lnTo>
                      <a:pt x="20" y="989"/>
                    </a:lnTo>
                    <a:lnTo>
                      <a:pt x="10" y="1059"/>
                    </a:lnTo>
                    <a:lnTo>
                      <a:pt x="0" y="1128"/>
                    </a:lnTo>
                    <a:lnTo>
                      <a:pt x="74" y="1097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76800" y="2995560"/>
                <a:ext cx="52560" cy="376200"/>
              </a:xfrm>
              <a:custGeom>
                <a:avLst/>
                <a:gdLst/>
                <a:ahLst/>
                <a:rect l="l" t="t" r="r" b="b"/>
                <a:pathLst>
                  <a:path w="161" h="1188">
                    <a:moveTo>
                      <a:pt x="75" y="1157"/>
                    </a:moveTo>
                    <a:lnTo>
                      <a:pt x="85" y="1092"/>
                    </a:lnTo>
                    <a:lnTo>
                      <a:pt x="94" y="1027"/>
                    </a:lnTo>
                    <a:lnTo>
                      <a:pt x="102" y="961"/>
                    </a:lnTo>
                    <a:lnTo>
                      <a:pt x="110" y="895"/>
                    </a:lnTo>
                    <a:lnTo>
                      <a:pt x="117" y="828"/>
                    </a:lnTo>
                    <a:lnTo>
                      <a:pt x="124" y="762"/>
                    </a:lnTo>
                    <a:lnTo>
                      <a:pt x="131" y="695"/>
                    </a:lnTo>
                    <a:lnTo>
                      <a:pt x="136" y="629"/>
                    </a:lnTo>
                    <a:lnTo>
                      <a:pt x="141" y="562"/>
                    </a:lnTo>
                    <a:lnTo>
                      <a:pt x="146" y="495"/>
                    </a:lnTo>
                    <a:lnTo>
                      <a:pt x="150" y="427"/>
                    </a:lnTo>
                    <a:lnTo>
                      <a:pt x="153" y="360"/>
                    </a:lnTo>
                    <a:lnTo>
                      <a:pt x="156" y="293"/>
                    </a:lnTo>
                    <a:lnTo>
                      <a:pt x="158" y="225"/>
                    </a:lnTo>
                    <a:lnTo>
                      <a:pt x="160" y="157"/>
                    </a:lnTo>
                    <a:lnTo>
                      <a:pt x="161" y="89"/>
                    </a:lnTo>
                    <a:lnTo>
                      <a:pt x="94" y="0"/>
                    </a:lnTo>
                    <a:lnTo>
                      <a:pt x="93" y="76"/>
                    </a:lnTo>
                    <a:lnTo>
                      <a:pt x="92" y="151"/>
                    </a:lnTo>
                    <a:lnTo>
                      <a:pt x="90" y="227"/>
                    </a:lnTo>
                    <a:lnTo>
                      <a:pt x="88" y="301"/>
                    </a:lnTo>
                    <a:lnTo>
                      <a:pt x="83" y="377"/>
                    </a:lnTo>
                    <a:lnTo>
                      <a:pt x="80" y="451"/>
                    </a:lnTo>
                    <a:lnTo>
                      <a:pt x="75" y="526"/>
                    </a:lnTo>
                    <a:lnTo>
                      <a:pt x="70" y="601"/>
                    </a:lnTo>
                    <a:lnTo>
                      <a:pt x="64" y="674"/>
                    </a:lnTo>
                    <a:lnTo>
                      <a:pt x="56" y="749"/>
                    </a:lnTo>
                    <a:lnTo>
                      <a:pt x="49" y="822"/>
                    </a:lnTo>
                    <a:lnTo>
                      <a:pt x="40" y="896"/>
                    </a:lnTo>
                    <a:lnTo>
                      <a:pt x="32" y="969"/>
                    </a:lnTo>
                    <a:lnTo>
                      <a:pt x="21" y="1042"/>
                    </a:lnTo>
                    <a:lnTo>
                      <a:pt x="12" y="1115"/>
                    </a:lnTo>
                    <a:lnTo>
                      <a:pt x="0" y="1188"/>
                    </a:lnTo>
                    <a:lnTo>
                      <a:pt x="30" y="1176"/>
                    </a:lnTo>
                    <a:lnTo>
                      <a:pt x="75" y="115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066000" y="2978280"/>
                <a:ext cx="52200" cy="398160"/>
              </a:xfrm>
              <a:custGeom>
                <a:avLst/>
                <a:gdLst/>
                <a:ahLst/>
                <a:rect l="l" t="t" r="r" b="b"/>
                <a:pathLst>
                  <a:path w="164" h="1258">
                    <a:moveTo>
                      <a:pt x="74" y="1229"/>
                    </a:moveTo>
                    <a:lnTo>
                      <a:pt x="84" y="1160"/>
                    </a:lnTo>
                    <a:lnTo>
                      <a:pt x="94" y="1090"/>
                    </a:lnTo>
                    <a:lnTo>
                      <a:pt x="103" y="1021"/>
                    </a:lnTo>
                    <a:lnTo>
                      <a:pt x="111" y="951"/>
                    </a:lnTo>
                    <a:lnTo>
                      <a:pt x="119" y="881"/>
                    </a:lnTo>
                    <a:lnTo>
                      <a:pt x="127" y="811"/>
                    </a:lnTo>
                    <a:lnTo>
                      <a:pt x="133" y="741"/>
                    </a:lnTo>
                    <a:lnTo>
                      <a:pt x="138" y="670"/>
                    </a:lnTo>
                    <a:lnTo>
                      <a:pt x="144" y="600"/>
                    </a:lnTo>
                    <a:lnTo>
                      <a:pt x="149" y="528"/>
                    </a:lnTo>
                    <a:lnTo>
                      <a:pt x="153" y="458"/>
                    </a:lnTo>
                    <a:lnTo>
                      <a:pt x="156" y="387"/>
                    </a:lnTo>
                    <a:lnTo>
                      <a:pt x="159" y="315"/>
                    </a:lnTo>
                    <a:lnTo>
                      <a:pt x="162" y="244"/>
                    </a:lnTo>
                    <a:lnTo>
                      <a:pt x="163" y="173"/>
                    </a:lnTo>
                    <a:lnTo>
                      <a:pt x="164" y="101"/>
                    </a:lnTo>
                    <a:lnTo>
                      <a:pt x="123" y="47"/>
                    </a:lnTo>
                    <a:lnTo>
                      <a:pt x="94" y="0"/>
                    </a:lnTo>
                    <a:lnTo>
                      <a:pt x="94" y="7"/>
                    </a:lnTo>
                    <a:lnTo>
                      <a:pt x="94" y="12"/>
                    </a:lnTo>
                    <a:lnTo>
                      <a:pt x="95" y="18"/>
                    </a:lnTo>
                    <a:lnTo>
                      <a:pt x="95" y="24"/>
                    </a:lnTo>
                    <a:lnTo>
                      <a:pt x="95" y="31"/>
                    </a:lnTo>
                    <a:lnTo>
                      <a:pt x="95" y="37"/>
                    </a:lnTo>
                    <a:lnTo>
                      <a:pt x="95" y="43"/>
                    </a:lnTo>
                    <a:lnTo>
                      <a:pt x="95" y="49"/>
                    </a:lnTo>
                    <a:lnTo>
                      <a:pt x="95" y="126"/>
                    </a:lnTo>
                    <a:lnTo>
                      <a:pt x="93" y="203"/>
                    </a:lnTo>
                    <a:lnTo>
                      <a:pt x="92" y="280"/>
                    </a:lnTo>
                    <a:lnTo>
                      <a:pt x="89" y="356"/>
                    </a:lnTo>
                    <a:lnTo>
                      <a:pt x="86" y="433"/>
                    </a:lnTo>
                    <a:lnTo>
                      <a:pt x="82" y="509"/>
                    </a:lnTo>
                    <a:lnTo>
                      <a:pt x="76" y="585"/>
                    </a:lnTo>
                    <a:lnTo>
                      <a:pt x="71" y="661"/>
                    </a:lnTo>
                    <a:lnTo>
                      <a:pt x="65" y="736"/>
                    </a:lnTo>
                    <a:lnTo>
                      <a:pt x="57" y="811"/>
                    </a:lnTo>
                    <a:lnTo>
                      <a:pt x="49" y="887"/>
                    </a:lnTo>
                    <a:lnTo>
                      <a:pt x="41" y="961"/>
                    </a:lnTo>
                    <a:lnTo>
                      <a:pt x="31" y="1036"/>
                    </a:lnTo>
                    <a:lnTo>
                      <a:pt x="22" y="1110"/>
                    </a:lnTo>
                    <a:lnTo>
                      <a:pt x="10" y="1185"/>
                    </a:lnTo>
                    <a:lnTo>
                      <a:pt x="0" y="1258"/>
                    </a:lnTo>
                    <a:lnTo>
                      <a:pt x="66" y="1232"/>
                    </a:lnTo>
                    <a:lnTo>
                      <a:pt x="74" y="122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54840" y="2959200"/>
                <a:ext cx="52200" cy="422280"/>
              </a:xfrm>
              <a:custGeom>
                <a:avLst/>
                <a:gdLst/>
                <a:ahLst/>
                <a:rect l="l" t="t" r="r" b="b"/>
                <a:pathLst>
                  <a:path w="168" h="1334">
                    <a:moveTo>
                      <a:pt x="74" y="1304"/>
                    </a:moveTo>
                    <a:lnTo>
                      <a:pt x="86" y="1231"/>
                    </a:lnTo>
                    <a:lnTo>
                      <a:pt x="95" y="1158"/>
                    </a:lnTo>
                    <a:lnTo>
                      <a:pt x="106" y="1085"/>
                    </a:lnTo>
                    <a:lnTo>
                      <a:pt x="114" y="1012"/>
                    </a:lnTo>
                    <a:lnTo>
                      <a:pt x="123" y="938"/>
                    </a:lnTo>
                    <a:lnTo>
                      <a:pt x="130" y="865"/>
                    </a:lnTo>
                    <a:lnTo>
                      <a:pt x="138" y="790"/>
                    </a:lnTo>
                    <a:lnTo>
                      <a:pt x="144" y="717"/>
                    </a:lnTo>
                    <a:lnTo>
                      <a:pt x="149" y="642"/>
                    </a:lnTo>
                    <a:lnTo>
                      <a:pt x="154" y="567"/>
                    </a:lnTo>
                    <a:lnTo>
                      <a:pt x="157" y="493"/>
                    </a:lnTo>
                    <a:lnTo>
                      <a:pt x="162" y="417"/>
                    </a:lnTo>
                    <a:lnTo>
                      <a:pt x="164" y="343"/>
                    </a:lnTo>
                    <a:lnTo>
                      <a:pt x="166" y="267"/>
                    </a:lnTo>
                    <a:lnTo>
                      <a:pt x="167" y="192"/>
                    </a:lnTo>
                    <a:lnTo>
                      <a:pt x="168" y="116"/>
                    </a:lnTo>
                    <a:lnTo>
                      <a:pt x="161" y="107"/>
                    </a:lnTo>
                    <a:lnTo>
                      <a:pt x="98" y="0"/>
                    </a:lnTo>
                    <a:lnTo>
                      <a:pt x="98" y="14"/>
                    </a:lnTo>
                    <a:lnTo>
                      <a:pt x="98" y="28"/>
                    </a:lnTo>
                    <a:lnTo>
                      <a:pt x="98" y="41"/>
                    </a:lnTo>
                    <a:lnTo>
                      <a:pt x="99" y="55"/>
                    </a:lnTo>
                    <a:lnTo>
                      <a:pt x="99" y="69"/>
                    </a:lnTo>
                    <a:lnTo>
                      <a:pt x="99" y="82"/>
                    </a:lnTo>
                    <a:lnTo>
                      <a:pt x="99" y="95"/>
                    </a:lnTo>
                    <a:lnTo>
                      <a:pt x="99" y="109"/>
                    </a:lnTo>
                    <a:lnTo>
                      <a:pt x="99" y="187"/>
                    </a:lnTo>
                    <a:lnTo>
                      <a:pt x="98" y="265"/>
                    </a:lnTo>
                    <a:lnTo>
                      <a:pt x="95" y="343"/>
                    </a:lnTo>
                    <a:lnTo>
                      <a:pt x="92" y="420"/>
                    </a:lnTo>
                    <a:lnTo>
                      <a:pt x="89" y="497"/>
                    </a:lnTo>
                    <a:lnTo>
                      <a:pt x="85" y="575"/>
                    </a:lnTo>
                    <a:lnTo>
                      <a:pt x="80" y="651"/>
                    </a:lnTo>
                    <a:lnTo>
                      <a:pt x="73" y="728"/>
                    </a:lnTo>
                    <a:lnTo>
                      <a:pt x="67" y="805"/>
                    </a:lnTo>
                    <a:lnTo>
                      <a:pt x="60" y="881"/>
                    </a:lnTo>
                    <a:lnTo>
                      <a:pt x="51" y="957"/>
                    </a:lnTo>
                    <a:lnTo>
                      <a:pt x="43" y="1033"/>
                    </a:lnTo>
                    <a:lnTo>
                      <a:pt x="33" y="1108"/>
                    </a:lnTo>
                    <a:lnTo>
                      <a:pt x="23" y="1184"/>
                    </a:lnTo>
                    <a:lnTo>
                      <a:pt x="11" y="1259"/>
                    </a:lnTo>
                    <a:lnTo>
                      <a:pt x="0" y="1334"/>
                    </a:lnTo>
                    <a:lnTo>
                      <a:pt x="74" y="130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041880" y="2940120"/>
                <a:ext cx="54000" cy="446040"/>
              </a:xfrm>
              <a:custGeom>
                <a:avLst/>
                <a:gdLst/>
                <a:ahLst/>
                <a:rect l="l" t="t" r="r" b="b"/>
                <a:pathLst>
                  <a:path w="171" h="1406">
                    <a:moveTo>
                      <a:pt x="171" y="166"/>
                    </a:moveTo>
                    <a:lnTo>
                      <a:pt x="171" y="160"/>
                    </a:lnTo>
                    <a:lnTo>
                      <a:pt x="171" y="154"/>
                    </a:lnTo>
                    <a:lnTo>
                      <a:pt x="171" y="148"/>
                    </a:lnTo>
                    <a:lnTo>
                      <a:pt x="171" y="141"/>
                    </a:lnTo>
                    <a:lnTo>
                      <a:pt x="171" y="135"/>
                    </a:lnTo>
                    <a:lnTo>
                      <a:pt x="170" y="129"/>
                    </a:lnTo>
                    <a:lnTo>
                      <a:pt x="170" y="123"/>
                    </a:lnTo>
                    <a:lnTo>
                      <a:pt x="170" y="117"/>
                    </a:lnTo>
                    <a:lnTo>
                      <a:pt x="115" y="23"/>
                    </a:lnTo>
                    <a:lnTo>
                      <a:pt x="100" y="0"/>
                    </a:lnTo>
                    <a:lnTo>
                      <a:pt x="101" y="21"/>
                    </a:lnTo>
                    <a:lnTo>
                      <a:pt x="101" y="42"/>
                    </a:lnTo>
                    <a:lnTo>
                      <a:pt x="101" y="62"/>
                    </a:lnTo>
                    <a:lnTo>
                      <a:pt x="102" y="83"/>
                    </a:lnTo>
                    <a:lnTo>
                      <a:pt x="102" y="104"/>
                    </a:lnTo>
                    <a:lnTo>
                      <a:pt x="102" y="125"/>
                    </a:lnTo>
                    <a:lnTo>
                      <a:pt x="102" y="146"/>
                    </a:lnTo>
                    <a:lnTo>
                      <a:pt x="102" y="166"/>
                    </a:lnTo>
                    <a:lnTo>
                      <a:pt x="102" y="245"/>
                    </a:lnTo>
                    <a:lnTo>
                      <a:pt x="101" y="324"/>
                    </a:lnTo>
                    <a:lnTo>
                      <a:pt x="99" y="403"/>
                    </a:lnTo>
                    <a:lnTo>
                      <a:pt x="96" y="481"/>
                    </a:lnTo>
                    <a:lnTo>
                      <a:pt x="92" y="559"/>
                    </a:lnTo>
                    <a:lnTo>
                      <a:pt x="87" y="637"/>
                    </a:lnTo>
                    <a:lnTo>
                      <a:pt x="82" y="716"/>
                    </a:lnTo>
                    <a:lnTo>
                      <a:pt x="77" y="794"/>
                    </a:lnTo>
                    <a:lnTo>
                      <a:pt x="69" y="870"/>
                    </a:lnTo>
                    <a:lnTo>
                      <a:pt x="62" y="948"/>
                    </a:lnTo>
                    <a:lnTo>
                      <a:pt x="54" y="1025"/>
                    </a:lnTo>
                    <a:lnTo>
                      <a:pt x="44" y="1101"/>
                    </a:lnTo>
                    <a:lnTo>
                      <a:pt x="35" y="1178"/>
                    </a:lnTo>
                    <a:lnTo>
                      <a:pt x="24" y="1254"/>
                    </a:lnTo>
                    <a:lnTo>
                      <a:pt x="13" y="1330"/>
                    </a:lnTo>
                    <a:lnTo>
                      <a:pt x="0" y="1406"/>
                    </a:lnTo>
                    <a:lnTo>
                      <a:pt x="76" y="1375"/>
                    </a:lnTo>
                    <a:lnTo>
                      <a:pt x="86" y="1302"/>
                    </a:lnTo>
                    <a:lnTo>
                      <a:pt x="98" y="1227"/>
                    </a:lnTo>
                    <a:lnTo>
                      <a:pt x="107" y="1153"/>
                    </a:lnTo>
                    <a:lnTo>
                      <a:pt x="117" y="1078"/>
                    </a:lnTo>
                    <a:lnTo>
                      <a:pt x="125" y="1004"/>
                    </a:lnTo>
                    <a:lnTo>
                      <a:pt x="133" y="928"/>
                    </a:lnTo>
                    <a:lnTo>
                      <a:pt x="141" y="853"/>
                    </a:lnTo>
                    <a:lnTo>
                      <a:pt x="147" y="778"/>
                    </a:lnTo>
                    <a:lnTo>
                      <a:pt x="152" y="702"/>
                    </a:lnTo>
                    <a:lnTo>
                      <a:pt x="158" y="626"/>
                    </a:lnTo>
                    <a:lnTo>
                      <a:pt x="162" y="550"/>
                    </a:lnTo>
                    <a:lnTo>
                      <a:pt x="165" y="473"/>
                    </a:lnTo>
                    <a:lnTo>
                      <a:pt x="168" y="397"/>
                    </a:lnTo>
                    <a:lnTo>
                      <a:pt x="169" y="320"/>
                    </a:lnTo>
                    <a:lnTo>
                      <a:pt x="171" y="243"/>
                    </a:lnTo>
                    <a:lnTo>
                      <a:pt x="171" y="1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031080" y="2922480"/>
                <a:ext cx="53640" cy="468360"/>
              </a:xfrm>
              <a:custGeom>
                <a:avLst/>
                <a:gdLst/>
                <a:ahLst/>
                <a:rect l="l" t="t" r="r" b="b"/>
                <a:pathLst>
                  <a:path w="174" h="1476">
                    <a:moveTo>
                      <a:pt x="174" y="224"/>
                    </a:moveTo>
                    <a:lnTo>
                      <a:pt x="174" y="210"/>
                    </a:lnTo>
                    <a:lnTo>
                      <a:pt x="174" y="197"/>
                    </a:lnTo>
                    <a:lnTo>
                      <a:pt x="174" y="184"/>
                    </a:lnTo>
                    <a:lnTo>
                      <a:pt x="174" y="170"/>
                    </a:lnTo>
                    <a:lnTo>
                      <a:pt x="173" y="156"/>
                    </a:lnTo>
                    <a:lnTo>
                      <a:pt x="173" y="143"/>
                    </a:lnTo>
                    <a:lnTo>
                      <a:pt x="173" y="129"/>
                    </a:lnTo>
                    <a:lnTo>
                      <a:pt x="173" y="115"/>
                    </a:lnTo>
                    <a:lnTo>
                      <a:pt x="152" y="81"/>
                    </a:lnTo>
                    <a:lnTo>
                      <a:pt x="101" y="0"/>
                    </a:lnTo>
                    <a:lnTo>
                      <a:pt x="102" y="27"/>
                    </a:lnTo>
                    <a:lnTo>
                      <a:pt x="103" y="56"/>
                    </a:lnTo>
                    <a:lnTo>
                      <a:pt x="103" y="84"/>
                    </a:lnTo>
                    <a:lnTo>
                      <a:pt x="104" y="111"/>
                    </a:lnTo>
                    <a:lnTo>
                      <a:pt x="104" y="140"/>
                    </a:lnTo>
                    <a:lnTo>
                      <a:pt x="104" y="168"/>
                    </a:lnTo>
                    <a:lnTo>
                      <a:pt x="105" y="196"/>
                    </a:lnTo>
                    <a:lnTo>
                      <a:pt x="105" y="224"/>
                    </a:lnTo>
                    <a:lnTo>
                      <a:pt x="104" y="303"/>
                    </a:lnTo>
                    <a:lnTo>
                      <a:pt x="103" y="383"/>
                    </a:lnTo>
                    <a:lnTo>
                      <a:pt x="101" y="463"/>
                    </a:lnTo>
                    <a:lnTo>
                      <a:pt x="98" y="543"/>
                    </a:lnTo>
                    <a:lnTo>
                      <a:pt x="95" y="622"/>
                    </a:lnTo>
                    <a:lnTo>
                      <a:pt x="90" y="700"/>
                    </a:lnTo>
                    <a:lnTo>
                      <a:pt x="84" y="779"/>
                    </a:lnTo>
                    <a:lnTo>
                      <a:pt x="78" y="858"/>
                    </a:lnTo>
                    <a:lnTo>
                      <a:pt x="72" y="936"/>
                    </a:lnTo>
                    <a:lnTo>
                      <a:pt x="63" y="1013"/>
                    </a:lnTo>
                    <a:lnTo>
                      <a:pt x="55" y="1091"/>
                    </a:lnTo>
                    <a:lnTo>
                      <a:pt x="45" y="1169"/>
                    </a:lnTo>
                    <a:lnTo>
                      <a:pt x="36" y="1246"/>
                    </a:lnTo>
                    <a:lnTo>
                      <a:pt x="24" y="1323"/>
                    </a:lnTo>
                    <a:lnTo>
                      <a:pt x="13" y="1400"/>
                    </a:lnTo>
                    <a:lnTo>
                      <a:pt x="0" y="1476"/>
                    </a:lnTo>
                    <a:lnTo>
                      <a:pt x="37" y="1464"/>
                    </a:lnTo>
                    <a:lnTo>
                      <a:pt x="75" y="1449"/>
                    </a:lnTo>
                    <a:lnTo>
                      <a:pt x="86" y="1374"/>
                    </a:lnTo>
                    <a:lnTo>
                      <a:pt x="98" y="1299"/>
                    </a:lnTo>
                    <a:lnTo>
                      <a:pt x="108" y="1223"/>
                    </a:lnTo>
                    <a:lnTo>
                      <a:pt x="118" y="1148"/>
                    </a:lnTo>
                    <a:lnTo>
                      <a:pt x="126" y="1072"/>
                    </a:lnTo>
                    <a:lnTo>
                      <a:pt x="135" y="996"/>
                    </a:lnTo>
                    <a:lnTo>
                      <a:pt x="142" y="920"/>
                    </a:lnTo>
                    <a:lnTo>
                      <a:pt x="148" y="843"/>
                    </a:lnTo>
                    <a:lnTo>
                      <a:pt x="155" y="766"/>
                    </a:lnTo>
                    <a:lnTo>
                      <a:pt x="160" y="690"/>
                    </a:lnTo>
                    <a:lnTo>
                      <a:pt x="164" y="612"/>
                    </a:lnTo>
                    <a:lnTo>
                      <a:pt x="167" y="535"/>
                    </a:lnTo>
                    <a:lnTo>
                      <a:pt x="170" y="458"/>
                    </a:lnTo>
                    <a:lnTo>
                      <a:pt x="173" y="380"/>
                    </a:lnTo>
                    <a:lnTo>
                      <a:pt x="174" y="302"/>
                    </a:lnTo>
                    <a:lnTo>
                      <a:pt x="174" y="22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18120" y="2903400"/>
                <a:ext cx="55800" cy="490680"/>
              </a:xfrm>
              <a:custGeom>
                <a:avLst/>
                <a:gdLst/>
                <a:ahLst/>
                <a:rect l="l" t="t" r="r" b="b"/>
                <a:pathLst>
                  <a:path w="176" h="1549">
                    <a:moveTo>
                      <a:pt x="176" y="284"/>
                    </a:moveTo>
                    <a:lnTo>
                      <a:pt x="176" y="264"/>
                    </a:lnTo>
                    <a:lnTo>
                      <a:pt x="176" y="243"/>
                    </a:lnTo>
                    <a:lnTo>
                      <a:pt x="176" y="222"/>
                    </a:lnTo>
                    <a:lnTo>
                      <a:pt x="176" y="201"/>
                    </a:lnTo>
                    <a:lnTo>
                      <a:pt x="175" y="180"/>
                    </a:lnTo>
                    <a:lnTo>
                      <a:pt x="175" y="160"/>
                    </a:lnTo>
                    <a:lnTo>
                      <a:pt x="175" y="139"/>
                    </a:lnTo>
                    <a:lnTo>
                      <a:pt x="174" y="118"/>
                    </a:lnTo>
                    <a:lnTo>
                      <a:pt x="101" y="0"/>
                    </a:lnTo>
                    <a:lnTo>
                      <a:pt x="103" y="36"/>
                    </a:lnTo>
                    <a:lnTo>
                      <a:pt x="104" y="70"/>
                    </a:lnTo>
                    <a:lnTo>
                      <a:pt x="106" y="106"/>
                    </a:lnTo>
                    <a:lnTo>
                      <a:pt x="106" y="142"/>
                    </a:lnTo>
                    <a:lnTo>
                      <a:pt x="107" y="178"/>
                    </a:lnTo>
                    <a:lnTo>
                      <a:pt x="108" y="212"/>
                    </a:lnTo>
                    <a:lnTo>
                      <a:pt x="108" y="248"/>
                    </a:lnTo>
                    <a:lnTo>
                      <a:pt x="108" y="284"/>
                    </a:lnTo>
                    <a:lnTo>
                      <a:pt x="108" y="364"/>
                    </a:lnTo>
                    <a:lnTo>
                      <a:pt x="106" y="445"/>
                    </a:lnTo>
                    <a:lnTo>
                      <a:pt x="103" y="525"/>
                    </a:lnTo>
                    <a:lnTo>
                      <a:pt x="100" y="606"/>
                    </a:lnTo>
                    <a:lnTo>
                      <a:pt x="97" y="686"/>
                    </a:lnTo>
                    <a:lnTo>
                      <a:pt x="92" y="766"/>
                    </a:lnTo>
                    <a:lnTo>
                      <a:pt x="87" y="844"/>
                    </a:lnTo>
                    <a:lnTo>
                      <a:pt x="80" y="924"/>
                    </a:lnTo>
                    <a:lnTo>
                      <a:pt x="73" y="1003"/>
                    </a:lnTo>
                    <a:lnTo>
                      <a:pt x="66" y="1082"/>
                    </a:lnTo>
                    <a:lnTo>
                      <a:pt x="56" y="1160"/>
                    </a:lnTo>
                    <a:lnTo>
                      <a:pt x="47" y="1238"/>
                    </a:lnTo>
                    <a:lnTo>
                      <a:pt x="36" y="1316"/>
                    </a:lnTo>
                    <a:lnTo>
                      <a:pt x="26" y="1393"/>
                    </a:lnTo>
                    <a:lnTo>
                      <a:pt x="13" y="1471"/>
                    </a:lnTo>
                    <a:lnTo>
                      <a:pt x="0" y="1549"/>
                    </a:lnTo>
                    <a:lnTo>
                      <a:pt x="74" y="1524"/>
                    </a:lnTo>
                    <a:lnTo>
                      <a:pt x="74" y="1524"/>
                    </a:lnTo>
                    <a:lnTo>
                      <a:pt x="87" y="1448"/>
                    </a:lnTo>
                    <a:lnTo>
                      <a:pt x="98" y="1372"/>
                    </a:lnTo>
                    <a:lnTo>
                      <a:pt x="109" y="1296"/>
                    </a:lnTo>
                    <a:lnTo>
                      <a:pt x="118" y="1219"/>
                    </a:lnTo>
                    <a:lnTo>
                      <a:pt x="128" y="1143"/>
                    </a:lnTo>
                    <a:lnTo>
                      <a:pt x="136" y="1066"/>
                    </a:lnTo>
                    <a:lnTo>
                      <a:pt x="143" y="988"/>
                    </a:lnTo>
                    <a:lnTo>
                      <a:pt x="151" y="912"/>
                    </a:lnTo>
                    <a:lnTo>
                      <a:pt x="156" y="834"/>
                    </a:lnTo>
                    <a:lnTo>
                      <a:pt x="161" y="755"/>
                    </a:lnTo>
                    <a:lnTo>
                      <a:pt x="166" y="677"/>
                    </a:lnTo>
                    <a:lnTo>
                      <a:pt x="170" y="599"/>
                    </a:lnTo>
                    <a:lnTo>
                      <a:pt x="173" y="521"/>
                    </a:lnTo>
                    <a:lnTo>
                      <a:pt x="175" y="442"/>
                    </a:lnTo>
                    <a:lnTo>
                      <a:pt x="176" y="363"/>
                    </a:lnTo>
                    <a:lnTo>
                      <a:pt x="176" y="28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006960" y="2887560"/>
                <a:ext cx="57240" cy="511200"/>
              </a:xfrm>
              <a:custGeom>
                <a:avLst/>
                <a:gdLst/>
                <a:ahLst/>
                <a:rect l="l" t="t" r="r" b="b"/>
                <a:pathLst>
                  <a:path w="178" h="1609">
                    <a:moveTo>
                      <a:pt x="178" y="333"/>
                    </a:moveTo>
                    <a:lnTo>
                      <a:pt x="178" y="305"/>
                    </a:lnTo>
                    <a:lnTo>
                      <a:pt x="177" y="277"/>
                    </a:lnTo>
                    <a:lnTo>
                      <a:pt x="177" y="249"/>
                    </a:lnTo>
                    <a:lnTo>
                      <a:pt x="177" y="220"/>
                    </a:lnTo>
                    <a:lnTo>
                      <a:pt x="176" y="193"/>
                    </a:lnTo>
                    <a:lnTo>
                      <a:pt x="176" y="165"/>
                    </a:lnTo>
                    <a:lnTo>
                      <a:pt x="175" y="136"/>
                    </a:lnTo>
                    <a:lnTo>
                      <a:pt x="174" y="109"/>
                    </a:lnTo>
                    <a:lnTo>
                      <a:pt x="137" y="48"/>
                    </a:lnTo>
                    <a:lnTo>
                      <a:pt x="102" y="0"/>
                    </a:lnTo>
                    <a:lnTo>
                      <a:pt x="103" y="41"/>
                    </a:lnTo>
                    <a:lnTo>
                      <a:pt x="105" y="83"/>
                    </a:lnTo>
                    <a:lnTo>
                      <a:pt x="106" y="125"/>
                    </a:lnTo>
                    <a:lnTo>
                      <a:pt x="107" y="166"/>
                    </a:lnTo>
                    <a:lnTo>
                      <a:pt x="108" y="208"/>
                    </a:lnTo>
                    <a:lnTo>
                      <a:pt x="109" y="250"/>
                    </a:lnTo>
                    <a:lnTo>
                      <a:pt x="109" y="291"/>
                    </a:lnTo>
                    <a:lnTo>
                      <a:pt x="109" y="333"/>
                    </a:lnTo>
                    <a:lnTo>
                      <a:pt x="109" y="415"/>
                    </a:lnTo>
                    <a:lnTo>
                      <a:pt x="108" y="495"/>
                    </a:lnTo>
                    <a:lnTo>
                      <a:pt x="105" y="577"/>
                    </a:lnTo>
                    <a:lnTo>
                      <a:pt x="103" y="658"/>
                    </a:lnTo>
                    <a:lnTo>
                      <a:pt x="98" y="739"/>
                    </a:lnTo>
                    <a:lnTo>
                      <a:pt x="93" y="819"/>
                    </a:lnTo>
                    <a:lnTo>
                      <a:pt x="88" y="899"/>
                    </a:lnTo>
                    <a:lnTo>
                      <a:pt x="82" y="979"/>
                    </a:lnTo>
                    <a:lnTo>
                      <a:pt x="74" y="1059"/>
                    </a:lnTo>
                    <a:lnTo>
                      <a:pt x="66" y="1138"/>
                    </a:lnTo>
                    <a:lnTo>
                      <a:pt x="56" y="1218"/>
                    </a:lnTo>
                    <a:lnTo>
                      <a:pt x="47" y="1297"/>
                    </a:lnTo>
                    <a:lnTo>
                      <a:pt x="36" y="1375"/>
                    </a:lnTo>
                    <a:lnTo>
                      <a:pt x="25" y="1454"/>
                    </a:lnTo>
                    <a:lnTo>
                      <a:pt x="12" y="1532"/>
                    </a:lnTo>
                    <a:lnTo>
                      <a:pt x="0" y="1609"/>
                    </a:lnTo>
                    <a:lnTo>
                      <a:pt x="73" y="1585"/>
                    </a:lnTo>
                    <a:lnTo>
                      <a:pt x="86" y="1509"/>
                    </a:lnTo>
                    <a:lnTo>
                      <a:pt x="97" y="1432"/>
                    </a:lnTo>
                    <a:lnTo>
                      <a:pt x="109" y="1355"/>
                    </a:lnTo>
                    <a:lnTo>
                      <a:pt x="118" y="1278"/>
                    </a:lnTo>
                    <a:lnTo>
                      <a:pt x="128" y="1200"/>
                    </a:lnTo>
                    <a:lnTo>
                      <a:pt x="136" y="1122"/>
                    </a:lnTo>
                    <a:lnTo>
                      <a:pt x="145" y="1045"/>
                    </a:lnTo>
                    <a:lnTo>
                      <a:pt x="151" y="967"/>
                    </a:lnTo>
                    <a:lnTo>
                      <a:pt x="157" y="888"/>
                    </a:lnTo>
                    <a:lnTo>
                      <a:pt x="163" y="809"/>
                    </a:lnTo>
                    <a:lnTo>
                      <a:pt x="168" y="731"/>
                    </a:lnTo>
                    <a:lnTo>
                      <a:pt x="171" y="652"/>
                    </a:lnTo>
                    <a:lnTo>
                      <a:pt x="174" y="572"/>
                    </a:lnTo>
                    <a:lnTo>
                      <a:pt x="176" y="492"/>
                    </a:lnTo>
                    <a:lnTo>
                      <a:pt x="177" y="412"/>
                    </a:lnTo>
                    <a:lnTo>
                      <a:pt x="178" y="33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996160" y="2871720"/>
                <a:ext cx="56880" cy="530280"/>
              </a:xfrm>
              <a:custGeom>
                <a:avLst/>
                <a:gdLst/>
                <a:ahLst/>
                <a:rect l="l" t="t" r="r" b="b"/>
                <a:pathLst>
                  <a:path w="181" h="1672">
                    <a:moveTo>
                      <a:pt x="181" y="383"/>
                    </a:moveTo>
                    <a:lnTo>
                      <a:pt x="181" y="347"/>
                    </a:lnTo>
                    <a:lnTo>
                      <a:pt x="181" y="311"/>
                    </a:lnTo>
                    <a:lnTo>
                      <a:pt x="180" y="277"/>
                    </a:lnTo>
                    <a:lnTo>
                      <a:pt x="179" y="241"/>
                    </a:lnTo>
                    <a:lnTo>
                      <a:pt x="179" y="205"/>
                    </a:lnTo>
                    <a:lnTo>
                      <a:pt x="177" y="169"/>
                    </a:lnTo>
                    <a:lnTo>
                      <a:pt x="176" y="135"/>
                    </a:lnTo>
                    <a:lnTo>
                      <a:pt x="174" y="99"/>
                    </a:lnTo>
                    <a:lnTo>
                      <a:pt x="174" y="98"/>
                    </a:lnTo>
                    <a:lnTo>
                      <a:pt x="102" y="0"/>
                    </a:lnTo>
                    <a:lnTo>
                      <a:pt x="104" y="48"/>
                    </a:lnTo>
                    <a:lnTo>
                      <a:pt x="106" y="96"/>
                    </a:lnTo>
                    <a:lnTo>
                      <a:pt x="108" y="143"/>
                    </a:lnTo>
                    <a:lnTo>
                      <a:pt x="109" y="192"/>
                    </a:lnTo>
                    <a:lnTo>
                      <a:pt x="110" y="239"/>
                    </a:lnTo>
                    <a:lnTo>
                      <a:pt x="111" y="287"/>
                    </a:lnTo>
                    <a:lnTo>
                      <a:pt x="111" y="335"/>
                    </a:lnTo>
                    <a:lnTo>
                      <a:pt x="112" y="383"/>
                    </a:lnTo>
                    <a:lnTo>
                      <a:pt x="111" y="466"/>
                    </a:lnTo>
                    <a:lnTo>
                      <a:pt x="110" y="547"/>
                    </a:lnTo>
                    <a:lnTo>
                      <a:pt x="108" y="629"/>
                    </a:lnTo>
                    <a:lnTo>
                      <a:pt x="105" y="711"/>
                    </a:lnTo>
                    <a:lnTo>
                      <a:pt x="101" y="792"/>
                    </a:lnTo>
                    <a:lnTo>
                      <a:pt x="95" y="874"/>
                    </a:lnTo>
                    <a:lnTo>
                      <a:pt x="90" y="955"/>
                    </a:lnTo>
                    <a:lnTo>
                      <a:pt x="83" y="1036"/>
                    </a:lnTo>
                    <a:lnTo>
                      <a:pt x="75" y="1116"/>
                    </a:lnTo>
                    <a:lnTo>
                      <a:pt x="67" y="1196"/>
                    </a:lnTo>
                    <a:lnTo>
                      <a:pt x="59" y="1276"/>
                    </a:lnTo>
                    <a:lnTo>
                      <a:pt x="48" y="1356"/>
                    </a:lnTo>
                    <a:lnTo>
                      <a:pt x="38" y="1436"/>
                    </a:lnTo>
                    <a:lnTo>
                      <a:pt x="26" y="1515"/>
                    </a:lnTo>
                    <a:lnTo>
                      <a:pt x="13" y="1593"/>
                    </a:lnTo>
                    <a:lnTo>
                      <a:pt x="0" y="1672"/>
                    </a:lnTo>
                    <a:lnTo>
                      <a:pt x="73" y="1648"/>
                    </a:lnTo>
                    <a:lnTo>
                      <a:pt x="86" y="1570"/>
                    </a:lnTo>
                    <a:lnTo>
                      <a:pt x="99" y="1492"/>
                    </a:lnTo>
                    <a:lnTo>
                      <a:pt x="109" y="1415"/>
                    </a:lnTo>
                    <a:lnTo>
                      <a:pt x="120" y="1337"/>
                    </a:lnTo>
                    <a:lnTo>
                      <a:pt x="129" y="1259"/>
                    </a:lnTo>
                    <a:lnTo>
                      <a:pt x="139" y="1181"/>
                    </a:lnTo>
                    <a:lnTo>
                      <a:pt x="146" y="1102"/>
                    </a:lnTo>
                    <a:lnTo>
                      <a:pt x="153" y="1023"/>
                    </a:lnTo>
                    <a:lnTo>
                      <a:pt x="160" y="943"/>
                    </a:lnTo>
                    <a:lnTo>
                      <a:pt x="165" y="865"/>
                    </a:lnTo>
                    <a:lnTo>
                      <a:pt x="170" y="785"/>
                    </a:lnTo>
                    <a:lnTo>
                      <a:pt x="173" y="705"/>
                    </a:lnTo>
                    <a:lnTo>
                      <a:pt x="176" y="624"/>
                    </a:lnTo>
                    <a:lnTo>
                      <a:pt x="179" y="544"/>
                    </a:lnTo>
                    <a:lnTo>
                      <a:pt x="181" y="463"/>
                    </a:lnTo>
                    <a:lnTo>
                      <a:pt x="181" y="38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83200" y="2855880"/>
                <a:ext cx="58680" cy="550800"/>
              </a:xfrm>
              <a:custGeom>
                <a:avLst/>
                <a:gdLst/>
                <a:ahLst/>
                <a:rect l="l" t="t" r="r" b="b"/>
                <a:pathLst>
                  <a:path w="183" h="1735">
                    <a:moveTo>
                      <a:pt x="183" y="433"/>
                    </a:moveTo>
                    <a:lnTo>
                      <a:pt x="183" y="391"/>
                    </a:lnTo>
                    <a:lnTo>
                      <a:pt x="183" y="350"/>
                    </a:lnTo>
                    <a:lnTo>
                      <a:pt x="182" y="308"/>
                    </a:lnTo>
                    <a:lnTo>
                      <a:pt x="181" y="266"/>
                    </a:lnTo>
                    <a:lnTo>
                      <a:pt x="180" y="225"/>
                    </a:lnTo>
                    <a:lnTo>
                      <a:pt x="179" y="183"/>
                    </a:lnTo>
                    <a:lnTo>
                      <a:pt x="177" y="141"/>
                    </a:lnTo>
                    <a:lnTo>
                      <a:pt x="176" y="100"/>
                    </a:lnTo>
                    <a:lnTo>
                      <a:pt x="127" y="35"/>
                    </a:lnTo>
                    <a:lnTo>
                      <a:pt x="101" y="0"/>
                    </a:lnTo>
                    <a:lnTo>
                      <a:pt x="104" y="54"/>
                    </a:lnTo>
                    <a:lnTo>
                      <a:pt x="107" y="107"/>
                    </a:lnTo>
                    <a:lnTo>
                      <a:pt x="109" y="162"/>
                    </a:lnTo>
                    <a:lnTo>
                      <a:pt x="111" y="215"/>
                    </a:lnTo>
                    <a:lnTo>
                      <a:pt x="112" y="270"/>
                    </a:lnTo>
                    <a:lnTo>
                      <a:pt x="114" y="324"/>
                    </a:lnTo>
                    <a:lnTo>
                      <a:pt x="115" y="378"/>
                    </a:lnTo>
                    <a:lnTo>
                      <a:pt x="115" y="433"/>
                    </a:lnTo>
                    <a:lnTo>
                      <a:pt x="114" y="517"/>
                    </a:lnTo>
                    <a:lnTo>
                      <a:pt x="112" y="600"/>
                    </a:lnTo>
                    <a:lnTo>
                      <a:pt x="110" y="681"/>
                    </a:lnTo>
                    <a:lnTo>
                      <a:pt x="107" y="764"/>
                    </a:lnTo>
                    <a:lnTo>
                      <a:pt x="103" y="846"/>
                    </a:lnTo>
                    <a:lnTo>
                      <a:pt x="98" y="929"/>
                    </a:lnTo>
                    <a:lnTo>
                      <a:pt x="93" y="1011"/>
                    </a:lnTo>
                    <a:lnTo>
                      <a:pt x="85" y="1092"/>
                    </a:lnTo>
                    <a:lnTo>
                      <a:pt x="78" y="1174"/>
                    </a:lnTo>
                    <a:lnTo>
                      <a:pt x="69" y="1255"/>
                    </a:lnTo>
                    <a:lnTo>
                      <a:pt x="60" y="1336"/>
                    </a:lnTo>
                    <a:lnTo>
                      <a:pt x="49" y="1415"/>
                    </a:lnTo>
                    <a:lnTo>
                      <a:pt x="38" y="1496"/>
                    </a:lnTo>
                    <a:lnTo>
                      <a:pt x="26" y="1576"/>
                    </a:lnTo>
                    <a:lnTo>
                      <a:pt x="14" y="1656"/>
                    </a:lnTo>
                    <a:lnTo>
                      <a:pt x="0" y="1735"/>
                    </a:lnTo>
                    <a:lnTo>
                      <a:pt x="13" y="1730"/>
                    </a:lnTo>
                    <a:lnTo>
                      <a:pt x="74" y="1709"/>
                    </a:lnTo>
                    <a:lnTo>
                      <a:pt x="86" y="1632"/>
                    </a:lnTo>
                    <a:lnTo>
                      <a:pt x="99" y="1554"/>
                    </a:lnTo>
                    <a:lnTo>
                      <a:pt x="110" y="1475"/>
                    </a:lnTo>
                    <a:lnTo>
                      <a:pt x="121" y="1397"/>
                    </a:lnTo>
                    <a:lnTo>
                      <a:pt x="130" y="1318"/>
                    </a:lnTo>
                    <a:lnTo>
                      <a:pt x="140" y="1238"/>
                    </a:lnTo>
                    <a:lnTo>
                      <a:pt x="148" y="1159"/>
                    </a:lnTo>
                    <a:lnTo>
                      <a:pt x="156" y="1079"/>
                    </a:lnTo>
                    <a:lnTo>
                      <a:pt x="162" y="999"/>
                    </a:lnTo>
                    <a:lnTo>
                      <a:pt x="167" y="919"/>
                    </a:lnTo>
                    <a:lnTo>
                      <a:pt x="172" y="839"/>
                    </a:lnTo>
                    <a:lnTo>
                      <a:pt x="177" y="758"/>
                    </a:lnTo>
                    <a:lnTo>
                      <a:pt x="179" y="677"/>
                    </a:lnTo>
                    <a:lnTo>
                      <a:pt x="182" y="595"/>
                    </a:lnTo>
                    <a:lnTo>
                      <a:pt x="183" y="515"/>
                    </a:lnTo>
                    <a:lnTo>
                      <a:pt x="183" y="43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972040" y="284004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187" h="1800">
                    <a:moveTo>
                      <a:pt x="187" y="484"/>
                    </a:moveTo>
                    <a:lnTo>
                      <a:pt x="186" y="436"/>
                    </a:lnTo>
                    <a:lnTo>
                      <a:pt x="186" y="388"/>
                    </a:lnTo>
                    <a:lnTo>
                      <a:pt x="185" y="340"/>
                    </a:lnTo>
                    <a:lnTo>
                      <a:pt x="184" y="293"/>
                    </a:lnTo>
                    <a:lnTo>
                      <a:pt x="183" y="244"/>
                    </a:lnTo>
                    <a:lnTo>
                      <a:pt x="181" y="197"/>
                    </a:lnTo>
                    <a:lnTo>
                      <a:pt x="179" y="149"/>
                    </a:lnTo>
                    <a:lnTo>
                      <a:pt x="177" y="101"/>
                    </a:lnTo>
                    <a:lnTo>
                      <a:pt x="165" y="86"/>
                    </a:lnTo>
                    <a:lnTo>
                      <a:pt x="102" y="0"/>
                    </a:lnTo>
                    <a:lnTo>
                      <a:pt x="105" y="59"/>
                    </a:lnTo>
                    <a:lnTo>
                      <a:pt x="108" y="120"/>
                    </a:lnTo>
                    <a:lnTo>
                      <a:pt x="112" y="180"/>
                    </a:lnTo>
                    <a:lnTo>
                      <a:pt x="114" y="241"/>
                    </a:lnTo>
                    <a:lnTo>
                      <a:pt x="116" y="301"/>
                    </a:lnTo>
                    <a:lnTo>
                      <a:pt x="117" y="362"/>
                    </a:lnTo>
                    <a:lnTo>
                      <a:pt x="118" y="423"/>
                    </a:lnTo>
                    <a:lnTo>
                      <a:pt x="118" y="484"/>
                    </a:lnTo>
                    <a:lnTo>
                      <a:pt x="118" y="568"/>
                    </a:lnTo>
                    <a:lnTo>
                      <a:pt x="116" y="652"/>
                    </a:lnTo>
                    <a:lnTo>
                      <a:pt x="114" y="736"/>
                    </a:lnTo>
                    <a:lnTo>
                      <a:pt x="111" y="820"/>
                    </a:lnTo>
                    <a:lnTo>
                      <a:pt x="106" y="903"/>
                    </a:lnTo>
                    <a:lnTo>
                      <a:pt x="101" y="986"/>
                    </a:lnTo>
                    <a:lnTo>
                      <a:pt x="95" y="1068"/>
                    </a:lnTo>
                    <a:lnTo>
                      <a:pt x="88" y="1150"/>
                    </a:lnTo>
                    <a:lnTo>
                      <a:pt x="80" y="1233"/>
                    </a:lnTo>
                    <a:lnTo>
                      <a:pt x="72" y="1315"/>
                    </a:lnTo>
                    <a:lnTo>
                      <a:pt x="61" y="1396"/>
                    </a:lnTo>
                    <a:lnTo>
                      <a:pt x="51" y="1478"/>
                    </a:lnTo>
                    <a:lnTo>
                      <a:pt x="40" y="1559"/>
                    </a:lnTo>
                    <a:lnTo>
                      <a:pt x="28" y="1640"/>
                    </a:lnTo>
                    <a:lnTo>
                      <a:pt x="14" y="1721"/>
                    </a:lnTo>
                    <a:lnTo>
                      <a:pt x="0" y="1800"/>
                    </a:lnTo>
                    <a:lnTo>
                      <a:pt x="51" y="1781"/>
                    </a:lnTo>
                    <a:lnTo>
                      <a:pt x="75" y="1773"/>
                    </a:lnTo>
                    <a:lnTo>
                      <a:pt x="88" y="1694"/>
                    </a:lnTo>
                    <a:lnTo>
                      <a:pt x="101" y="1616"/>
                    </a:lnTo>
                    <a:lnTo>
                      <a:pt x="113" y="1537"/>
                    </a:lnTo>
                    <a:lnTo>
                      <a:pt x="123" y="1457"/>
                    </a:lnTo>
                    <a:lnTo>
                      <a:pt x="134" y="1377"/>
                    </a:lnTo>
                    <a:lnTo>
                      <a:pt x="142" y="1297"/>
                    </a:lnTo>
                    <a:lnTo>
                      <a:pt x="150" y="1217"/>
                    </a:lnTo>
                    <a:lnTo>
                      <a:pt x="158" y="1137"/>
                    </a:lnTo>
                    <a:lnTo>
                      <a:pt x="165" y="1056"/>
                    </a:lnTo>
                    <a:lnTo>
                      <a:pt x="170" y="975"/>
                    </a:lnTo>
                    <a:lnTo>
                      <a:pt x="176" y="893"/>
                    </a:lnTo>
                    <a:lnTo>
                      <a:pt x="180" y="812"/>
                    </a:lnTo>
                    <a:lnTo>
                      <a:pt x="183" y="730"/>
                    </a:lnTo>
                    <a:lnTo>
                      <a:pt x="185" y="648"/>
                    </a:lnTo>
                    <a:lnTo>
                      <a:pt x="186" y="567"/>
                    </a:lnTo>
                    <a:lnTo>
                      <a:pt x="187" y="48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59440" y="2819520"/>
                <a:ext cx="60480" cy="596880"/>
              </a:xfrm>
              <a:custGeom>
                <a:avLst/>
                <a:gdLst/>
                <a:ahLst/>
                <a:rect l="l" t="t" r="r" b="b"/>
                <a:pathLst>
                  <a:path w="191" h="1878">
                    <a:moveTo>
                      <a:pt x="191" y="547"/>
                    </a:moveTo>
                    <a:lnTo>
                      <a:pt x="191" y="492"/>
                    </a:lnTo>
                    <a:lnTo>
                      <a:pt x="190" y="438"/>
                    </a:lnTo>
                    <a:lnTo>
                      <a:pt x="188" y="384"/>
                    </a:lnTo>
                    <a:lnTo>
                      <a:pt x="187" y="329"/>
                    </a:lnTo>
                    <a:lnTo>
                      <a:pt x="185" y="276"/>
                    </a:lnTo>
                    <a:lnTo>
                      <a:pt x="183" y="221"/>
                    </a:lnTo>
                    <a:lnTo>
                      <a:pt x="180" y="168"/>
                    </a:lnTo>
                    <a:lnTo>
                      <a:pt x="177" y="114"/>
                    </a:lnTo>
                    <a:lnTo>
                      <a:pt x="119" y="34"/>
                    </a:lnTo>
                    <a:lnTo>
                      <a:pt x="101" y="0"/>
                    </a:lnTo>
                    <a:lnTo>
                      <a:pt x="105" y="68"/>
                    </a:lnTo>
                    <a:lnTo>
                      <a:pt x="110" y="136"/>
                    </a:lnTo>
                    <a:lnTo>
                      <a:pt x="114" y="204"/>
                    </a:lnTo>
                    <a:lnTo>
                      <a:pt x="116" y="273"/>
                    </a:lnTo>
                    <a:lnTo>
                      <a:pt x="119" y="341"/>
                    </a:lnTo>
                    <a:lnTo>
                      <a:pt x="120" y="409"/>
                    </a:lnTo>
                    <a:lnTo>
                      <a:pt x="121" y="478"/>
                    </a:lnTo>
                    <a:lnTo>
                      <a:pt x="121" y="547"/>
                    </a:lnTo>
                    <a:lnTo>
                      <a:pt x="121" y="632"/>
                    </a:lnTo>
                    <a:lnTo>
                      <a:pt x="119" y="717"/>
                    </a:lnTo>
                    <a:lnTo>
                      <a:pt x="117" y="802"/>
                    </a:lnTo>
                    <a:lnTo>
                      <a:pt x="114" y="886"/>
                    </a:lnTo>
                    <a:lnTo>
                      <a:pt x="110" y="970"/>
                    </a:lnTo>
                    <a:lnTo>
                      <a:pt x="104" y="1054"/>
                    </a:lnTo>
                    <a:lnTo>
                      <a:pt x="98" y="1138"/>
                    </a:lnTo>
                    <a:lnTo>
                      <a:pt x="91" y="1221"/>
                    </a:lnTo>
                    <a:lnTo>
                      <a:pt x="82" y="1305"/>
                    </a:lnTo>
                    <a:lnTo>
                      <a:pt x="74" y="1387"/>
                    </a:lnTo>
                    <a:lnTo>
                      <a:pt x="63" y="1470"/>
                    </a:lnTo>
                    <a:lnTo>
                      <a:pt x="53" y="1551"/>
                    </a:lnTo>
                    <a:lnTo>
                      <a:pt x="41" y="1634"/>
                    </a:lnTo>
                    <a:lnTo>
                      <a:pt x="29" y="1715"/>
                    </a:lnTo>
                    <a:lnTo>
                      <a:pt x="15" y="1797"/>
                    </a:lnTo>
                    <a:lnTo>
                      <a:pt x="0" y="1878"/>
                    </a:lnTo>
                    <a:lnTo>
                      <a:pt x="76" y="1849"/>
                    </a:lnTo>
                    <a:lnTo>
                      <a:pt x="90" y="1770"/>
                    </a:lnTo>
                    <a:lnTo>
                      <a:pt x="102" y="1690"/>
                    </a:lnTo>
                    <a:lnTo>
                      <a:pt x="114" y="1610"/>
                    </a:lnTo>
                    <a:lnTo>
                      <a:pt x="125" y="1529"/>
                    </a:lnTo>
                    <a:lnTo>
                      <a:pt x="136" y="1450"/>
                    </a:lnTo>
                    <a:lnTo>
                      <a:pt x="145" y="1369"/>
                    </a:lnTo>
                    <a:lnTo>
                      <a:pt x="154" y="1288"/>
                    </a:lnTo>
                    <a:lnTo>
                      <a:pt x="161" y="1206"/>
                    </a:lnTo>
                    <a:lnTo>
                      <a:pt x="169" y="1125"/>
                    </a:lnTo>
                    <a:lnTo>
                      <a:pt x="174" y="1043"/>
                    </a:lnTo>
                    <a:lnTo>
                      <a:pt x="179" y="960"/>
                    </a:lnTo>
                    <a:lnTo>
                      <a:pt x="183" y="878"/>
                    </a:lnTo>
                    <a:lnTo>
                      <a:pt x="186" y="795"/>
                    </a:lnTo>
                    <a:lnTo>
                      <a:pt x="188" y="714"/>
                    </a:lnTo>
                    <a:lnTo>
                      <a:pt x="190" y="631"/>
                    </a:lnTo>
                    <a:lnTo>
                      <a:pt x="191" y="547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948280" y="2793960"/>
                <a:ext cx="60480" cy="627120"/>
              </a:xfrm>
              <a:custGeom>
                <a:avLst/>
                <a:gdLst/>
                <a:ahLst/>
                <a:rect l="l" t="t" r="r" b="b"/>
                <a:pathLst>
                  <a:path w="193" h="1972">
                    <a:moveTo>
                      <a:pt x="193" y="626"/>
                    </a:moveTo>
                    <a:lnTo>
                      <a:pt x="193" y="565"/>
                    </a:lnTo>
                    <a:lnTo>
                      <a:pt x="192" y="504"/>
                    </a:lnTo>
                    <a:lnTo>
                      <a:pt x="191" y="443"/>
                    </a:lnTo>
                    <a:lnTo>
                      <a:pt x="189" y="383"/>
                    </a:lnTo>
                    <a:lnTo>
                      <a:pt x="187" y="322"/>
                    </a:lnTo>
                    <a:lnTo>
                      <a:pt x="183" y="262"/>
                    </a:lnTo>
                    <a:lnTo>
                      <a:pt x="180" y="201"/>
                    </a:lnTo>
                    <a:lnTo>
                      <a:pt x="177" y="142"/>
                    </a:lnTo>
                    <a:lnTo>
                      <a:pt x="156" y="113"/>
                    </a:lnTo>
                    <a:lnTo>
                      <a:pt x="99" y="2"/>
                    </a:lnTo>
                    <a:lnTo>
                      <a:pt x="97" y="0"/>
                    </a:lnTo>
                    <a:lnTo>
                      <a:pt x="104" y="78"/>
                    </a:lnTo>
                    <a:lnTo>
                      <a:pt x="109" y="155"/>
                    </a:lnTo>
                    <a:lnTo>
                      <a:pt x="113" y="233"/>
                    </a:lnTo>
                    <a:lnTo>
                      <a:pt x="117" y="311"/>
                    </a:lnTo>
                    <a:lnTo>
                      <a:pt x="120" y="389"/>
                    </a:lnTo>
                    <a:lnTo>
                      <a:pt x="122" y="468"/>
                    </a:lnTo>
                    <a:lnTo>
                      <a:pt x="124" y="547"/>
                    </a:lnTo>
                    <a:lnTo>
                      <a:pt x="125" y="626"/>
                    </a:lnTo>
                    <a:lnTo>
                      <a:pt x="124" y="712"/>
                    </a:lnTo>
                    <a:lnTo>
                      <a:pt x="122" y="798"/>
                    </a:lnTo>
                    <a:lnTo>
                      <a:pt x="119" y="884"/>
                    </a:lnTo>
                    <a:lnTo>
                      <a:pt x="116" y="969"/>
                    </a:lnTo>
                    <a:lnTo>
                      <a:pt x="112" y="1054"/>
                    </a:lnTo>
                    <a:lnTo>
                      <a:pt x="107" y="1139"/>
                    </a:lnTo>
                    <a:lnTo>
                      <a:pt x="99" y="1223"/>
                    </a:lnTo>
                    <a:lnTo>
                      <a:pt x="92" y="1308"/>
                    </a:lnTo>
                    <a:lnTo>
                      <a:pt x="84" y="1392"/>
                    </a:lnTo>
                    <a:lnTo>
                      <a:pt x="75" y="1475"/>
                    </a:lnTo>
                    <a:lnTo>
                      <a:pt x="65" y="1559"/>
                    </a:lnTo>
                    <a:lnTo>
                      <a:pt x="53" y="1642"/>
                    </a:lnTo>
                    <a:lnTo>
                      <a:pt x="42" y="1725"/>
                    </a:lnTo>
                    <a:lnTo>
                      <a:pt x="28" y="1808"/>
                    </a:lnTo>
                    <a:lnTo>
                      <a:pt x="14" y="1890"/>
                    </a:lnTo>
                    <a:lnTo>
                      <a:pt x="0" y="1972"/>
                    </a:lnTo>
                    <a:lnTo>
                      <a:pt x="75" y="1942"/>
                    </a:lnTo>
                    <a:lnTo>
                      <a:pt x="89" y="1863"/>
                    </a:lnTo>
                    <a:lnTo>
                      <a:pt x="103" y="1782"/>
                    </a:lnTo>
                    <a:lnTo>
                      <a:pt x="115" y="1701"/>
                    </a:lnTo>
                    <a:lnTo>
                      <a:pt x="126" y="1620"/>
                    </a:lnTo>
                    <a:lnTo>
                      <a:pt x="136" y="1538"/>
                    </a:lnTo>
                    <a:lnTo>
                      <a:pt x="147" y="1457"/>
                    </a:lnTo>
                    <a:lnTo>
                      <a:pt x="155" y="1375"/>
                    </a:lnTo>
                    <a:lnTo>
                      <a:pt x="163" y="1292"/>
                    </a:lnTo>
                    <a:lnTo>
                      <a:pt x="170" y="1210"/>
                    </a:lnTo>
                    <a:lnTo>
                      <a:pt x="176" y="1128"/>
                    </a:lnTo>
                    <a:lnTo>
                      <a:pt x="181" y="1045"/>
                    </a:lnTo>
                    <a:lnTo>
                      <a:pt x="186" y="962"/>
                    </a:lnTo>
                    <a:lnTo>
                      <a:pt x="189" y="878"/>
                    </a:lnTo>
                    <a:lnTo>
                      <a:pt x="191" y="794"/>
                    </a:lnTo>
                    <a:lnTo>
                      <a:pt x="193" y="710"/>
                    </a:lnTo>
                    <a:lnTo>
                      <a:pt x="193" y="626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935680" y="2774880"/>
                <a:ext cx="61920" cy="649440"/>
              </a:xfrm>
              <a:custGeom>
                <a:avLst/>
                <a:gdLst/>
                <a:ahLst/>
                <a:rect l="l" t="t" r="r" b="b"/>
                <a:pathLst>
                  <a:path w="195" h="2041">
                    <a:moveTo>
                      <a:pt x="195" y="685"/>
                    </a:moveTo>
                    <a:lnTo>
                      <a:pt x="195" y="616"/>
                    </a:lnTo>
                    <a:lnTo>
                      <a:pt x="194" y="547"/>
                    </a:lnTo>
                    <a:lnTo>
                      <a:pt x="193" y="479"/>
                    </a:lnTo>
                    <a:lnTo>
                      <a:pt x="190" y="411"/>
                    </a:lnTo>
                    <a:lnTo>
                      <a:pt x="188" y="342"/>
                    </a:lnTo>
                    <a:lnTo>
                      <a:pt x="184" y="274"/>
                    </a:lnTo>
                    <a:lnTo>
                      <a:pt x="179" y="206"/>
                    </a:lnTo>
                    <a:lnTo>
                      <a:pt x="175" y="138"/>
                    </a:lnTo>
                    <a:lnTo>
                      <a:pt x="136" y="61"/>
                    </a:lnTo>
                    <a:lnTo>
                      <a:pt x="94" y="0"/>
                    </a:lnTo>
                    <a:lnTo>
                      <a:pt x="102" y="85"/>
                    </a:lnTo>
                    <a:lnTo>
                      <a:pt x="108" y="169"/>
                    </a:lnTo>
                    <a:lnTo>
                      <a:pt x="114" y="255"/>
                    </a:lnTo>
                    <a:lnTo>
                      <a:pt x="118" y="340"/>
                    </a:lnTo>
                    <a:lnTo>
                      <a:pt x="122" y="426"/>
                    </a:lnTo>
                    <a:lnTo>
                      <a:pt x="125" y="512"/>
                    </a:lnTo>
                    <a:lnTo>
                      <a:pt x="126" y="599"/>
                    </a:lnTo>
                    <a:lnTo>
                      <a:pt x="127" y="685"/>
                    </a:lnTo>
                    <a:lnTo>
                      <a:pt x="126" y="772"/>
                    </a:lnTo>
                    <a:lnTo>
                      <a:pt x="125" y="858"/>
                    </a:lnTo>
                    <a:lnTo>
                      <a:pt x="122" y="945"/>
                    </a:lnTo>
                    <a:lnTo>
                      <a:pt x="118" y="1030"/>
                    </a:lnTo>
                    <a:lnTo>
                      <a:pt x="114" y="1116"/>
                    </a:lnTo>
                    <a:lnTo>
                      <a:pt x="108" y="1202"/>
                    </a:lnTo>
                    <a:lnTo>
                      <a:pt x="102" y="1287"/>
                    </a:lnTo>
                    <a:lnTo>
                      <a:pt x="94" y="1372"/>
                    </a:lnTo>
                    <a:lnTo>
                      <a:pt x="86" y="1456"/>
                    </a:lnTo>
                    <a:lnTo>
                      <a:pt x="76" y="1541"/>
                    </a:lnTo>
                    <a:lnTo>
                      <a:pt x="66" y="1625"/>
                    </a:lnTo>
                    <a:lnTo>
                      <a:pt x="54" y="1709"/>
                    </a:lnTo>
                    <a:lnTo>
                      <a:pt x="42" y="1792"/>
                    </a:lnTo>
                    <a:lnTo>
                      <a:pt x="29" y="1875"/>
                    </a:lnTo>
                    <a:lnTo>
                      <a:pt x="14" y="1958"/>
                    </a:lnTo>
                    <a:lnTo>
                      <a:pt x="0" y="2041"/>
                    </a:lnTo>
                    <a:lnTo>
                      <a:pt x="22" y="2036"/>
                    </a:lnTo>
                    <a:lnTo>
                      <a:pt x="74" y="2016"/>
                    </a:lnTo>
                    <a:lnTo>
                      <a:pt x="89" y="1935"/>
                    </a:lnTo>
                    <a:lnTo>
                      <a:pt x="103" y="1853"/>
                    </a:lnTo>
                    <a:lnTo>
                      <a:pt x="115" y="1772"/>
                    </a:lnTo>
                    <a:lnTo>
                      <a:pt x="127" y="1689"/>
                    </a:lnTo>
                    <a:lnTo>
                      <a:pt x="137" y="1608"/>
                    </a:lnTo>
                    <a:lnTo>
                      <a:pt x="148" y="1525"/>
                    </a:lnTo>
                    <a:lnTo>
                      <a:pt x="156" y="1443"/>
                    </a:lnTo>
                    <a:lnTo>
                      <a:pt x="165" y="1359"/>
                    </a:lnTo>
                    <a:lnTo>
                      <a:pt x="172" y="1276"/>
                    </a:lnTo>
                    <a:lnTo>
                      <a:pt x="178" y="1192"/>
                    </a:lnTo>
                    <a:lnTo>
                      <a:pt x="184" y="1108"/>
                    </a:lnTo>
                    <a:lnTo>
                      <a:pt x="188" y="1024"/>
                    </a:lnTo>
                    <a:lnTo>
                      <a:pt x="191" y="940"/>
                    </a:lnTo>
                    <a:lnTo>
                      <a:pt x="193" y="855"/>
                    </a:lnTo>
                    <a:lnTo>
                      <a:pt x="195" y="770"/>
                    </a:lnTo>
                    <a:lnTo>
                      <a:pt x="195" y="68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24520" y="2755800"/>
                <a:ext cx="63360" cy="669960"/>
              </a:xfrm>
              <a:custGeom>
                <a:avLst/>
                <a:gdLst/>
                <a:ahLst/>
                <a:rect l="l" t="t" r="r" b="b"/>
                <a:pathLst>
                  <a:path w="199" h="2110">
                    <a:moveTo>
                      <a:pt x="199" y="746"/>
                    </a:moveTo>
                    <a:lnTo>
                      <a:pt x="198" y="667"/>
                    </a:lnTo>
                    <a:lnTo>
                      <a:pt x="196" y="588"/>
                    </a:lnTo>
                    <a:lnTo>
                      <a:pt x="194" y="509"/>
                    </a:lnTo>
                    <a:lnTo>
                      <a:pt x="191" y="431"/>
                    </a:lnTo>
                    <a:lnTo>
                      <a:pt x="187" y="353"/>
                    </a:lnTo>
                    <a:lnTo>
                      <a:pt x="183" y="275"/>
                    </a:lnTo>
                    <a:lnTo>
                      <a:pt x="178" y="198"/>
                    </a:lnTo>
                    <a:lnTo>
                      <a:pt x="171" y="120"/>
                    </a:lnTo>
                    <a:lnTo>
                      <a:pt x="116" y="38"/>
                    </a:lnTo>
                    <a:lnTo>
                      <a:pt x="91" y="0"/>
                    </a:lnTo>
                    <a:lnTo>
                      <a:pt x="100" y="93"/>
                    </a:lnTo>
                    <a:lnTo>
                      <a:pt x="108" y="185"/>
                    </a:lnTo>
                    <a:lnTo>
                      <a:pt x="114" y="277"/>
                    </a:lnTo>
                    <a:lnTo>
                      <a:pt x="120" y="371"/>
                    </a:lnTo>
                    <a:lnTo>
                      <a:pt x="124" y="464"/>
                    </a:lnTo>
                    <a:lnTo>
                      <a:pt x="127" y="558"/>
                    </a:lnTo>
                    <a:lnTo>
                      <a:pt x="129" y="652"/>
                    </a:lnTo>
                    <a:lnTo>
                      <a:pt x="129" y="746"/>
                    </a:lnTo>
                    <a:lnTo>
                      <a:pt x="129" y="834"/>
                    </a:lnTo>
                    <a:lnTo>
                      <a:pt x="127" y="920"/>
                    </a:lnTo>
                    <a:lnTo>
                      <a:pt x="125" y="1007"/>
                    </a:lnTo>
                    <a:lnTo>
                      <a:pt x="121" y="1093"/>
                    </a:lnTo>
                    <a:lnTo>
                      <a:pt x="117" y="1180"/>
                    </a:lnTo>
                    <a:lnTo>
                      <a:pt x="110" y="1266"/>
                    </a:lnTo>
                    <a:lnTo>
                      <a:pt x="104" y="1351"/>
                    </a:lnTo>
                    <a:lnTo>
                      <a:pt x="97" y="1437"/>
                    </a:lnTo>
                    <a:lnTo>
                      <a:pt x="87" y="1523"/>
                    </a:lnTo>
                    <a:lnTo>
                      <a:pt x="78" y="1607"/>
                    </a:lnTo>
                    <a:lnTo>
                      <a:pt x="67" y="1692"/>
                    </a:lnTo>
                    <a:lnTo>
                      <a:pt x="56" y="1776"/>
                    </a:lnTo>
                    <a:lnTo>
                      <a:pt x="43" y="1860"/>
                    </a:lnTo>
                    <a:lnTo>
                      <a:pt x="29" y="1944"/>
                    </a:lnTo>
                    <a:lnTo>
                      <a:pt x="16" y="2027"/>
                    </a:lnTo>
                    <a:lnTo>
                      <a:pt x="0" y="2110"/>
                    </a:lnTo>
                    <a:lnTo>
                      <a:pt x="59" y="2097"/>
                    </a:lnTo>
                    <a:lnTo>
                      <a:pt x="74" y="2092"/>
                    </a:lnTo>
                    <a:lnTo>
                      <a:pt x="88" y="2010"/>
                    </a:lnTo>
                    <a:lnTo>
                      <a:pt x="102" y="1928"/>
                    </a:lnTo>
                    <a:lnTo>
                      <a:pt x="116" y="1845"/>
                    </a:lnTo>
                    <a:lnTo>
                      <a:pt x="127" y="1762"/>
                    </a:lnTo>
                    <a:lnTo>
                      <a:pt x="139" y="1679"/>
                    </a:lnTo>
                    <a:lnTo>
                      <a:pt x="149" y="1595"/>
                    </a:lnTo>
                    <a:lnTo>
                      <a:pt x="158" y="1512"/>
                    </a:lnTo>
                    <a:lnTo>
                      <a:pt x="166" y="1428"/>
                    </a:lnTo>
                    <a:lnTo>
                      <a:pt x="173" y="1343"/>
                    </a:lnTo>
                    <a:lnTo>
                      <a:pt x="181" y="1259"/>
                    </a:lnTo>
                    <a:lnTo>
                      <a:pt x="186" y="1174"/>
                    </a:lnTo>
                    <a:lnTo>
                      <a:pt x="190" y="1089"/>
                    </a:lnTo>
                    <a:lnTo>
                      <a:pt x="193" y="1004"/>
                    </a:lnTo>
                    <a:lnTo>
                      <a:pt x="196" y="918"/>
                    </a:lnTo>
                    <a:lnTo>
                      <a:pt x="198" y="832"/>
                    </a:lnTo>
                    <a:lnTo>
                      <a:pt x="199" y="746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911920" y="2733840"/>
                <a:ext cx="65160" cy="695160"/>
              </a:xfrm>
              <a:custGeom>
                <a:avLst/>
                <a:gdLst/>
                <a:ahLst/>
                <a:rect l="l" t="t" r="r" b="b"/>
                <a:pathLst>
                  <a:path w="201" h="2186">
                    <a:moveTo>
                      <a:pt x="201" y="815"/>
                    </a:moveTo>
                    <a:lnTo>
                      <a:pt x="200" y="729"/>
                    </a:lnTo>
                    <a:lnTo>
                      <a:pt x="199" y="642"/>
                    </a:lnTo>
                    <a:lnTo>
                      <a:pt x="196" y="556"/>
                    </a:lnTo>
                    <a:lnTo>
                      <a:pt x="192" y="470"/>
                    </a:lnTo>
                    <a:lnTo>
                      <a:pt x="188" y="385"/>
                    </a:lnTo>
                    <a:lnTo>
                      <a:pt x="182" y="299"/>
                    </a:lnTo>
                    <a:lnTo>
                      <a:pt x="176" y="215"/>
                    </a:lnTo>
                    <a:lnTo>
                      <a:pt x="168" y="130"/>
                    </a:lnTo>
                    <a:lnTo>
                      <a:pt x="153" y="107"/>
                    </a:lnTo>
                    <a:lnTo>
                      <a:pt x="96" y="21"/>
                    </a:lnTo>
                    <a:lnTo>
                      <a:pt x="85" y="0"/>
                    </a:lnTo>
                    <a:lnTo>
                      <a:pt x="96" y="101"/>
                    </a:lnTo>
                    <a:lnTo>
                      <a:pt x="105" y="201"/>
                    </a:lnTo>
                    <a:lnTo>
                      <a:pt x="114" y="302"/>
                    </a:lnTo>
                    <a:lnTo>
                      <a:pt x="120" y="404"/>
                    </a:lnTo>
                    <a:lnTo>
                      <a:pt x="125" y="507"/>
                    </a:lnTo>
                    <a:lnTo>
                      <a:pt x="129" y="609"/>
                    </a:lnTo>
                    <a:lnTo>
                      <a:pt x="132" y="712"/>
                    </a:lnTo>
                    <a:lnTo>
                      <a:pt x="133" y="815"/>
                    </a:lnTo>
                    <a:lnTo>
                      <a:pt x="132" y="903"/>
                    </a:lnTo>
                    <a:lnTo>
                      <a:pt x="129" y="990"/>
                    </a:lnTo>
                    <a:lnTo>
                      <a:pt x="127" y="1078"/>
                    </a:lnTo>
                    <a:lnTo>
                      <a:pt x="123" y="1164"/>
                    </a:lnTo>
                    <a:lnTo>
                      <a:pt x="119" y="1251"/>
                    </a:lnTo>
                    <a:lnTo>
                      <a:pt x="113" y="1338"/>
                    </a:lnTo>
                    <a:lnTo>
                      <a:pt x="106" y="1425"/>
                    </a:lnTo>
                    <a:lnTo>
                      <a:pt x="99" y="1510"/>
                    </a:lnTo>
                    <a:lnTo>
                      <a:pt x="89" y="1596"/>
                    </a:lnTo>
                    <a:lnTo>
                      <a:pt x="80" y="1681"/>
                    </a:lnTo>
                    <a:lnTo>
                      <a:pt x="70" y="1766"/>
                    </a:lnTo>
                    <a:lnTo>
                      <a:pt x="57" y="1851"/>
                    </a:lnTo>
                    <a:lnTo>
                      <a:pt x="44" y="1935"/>
                    </a:lnTo>
                    <a:lnTo>
                      <a:pt x="31" y="2019"/>
                    </a:lnTo>
                    <a:lnTo>
                      <a:pt x="16" y="2103"/>
                    </a:lnTo>
                    <a:lnTo>
                      <a:pt x="0" y="2186"/>
                    </a:lnTo>
                    <a:lnTo>
                      <a:pt x="74" y="2171"/>
                    </a:lnTo>
                    <a:lnTo>
                      <a:pt x="88" y="2088"/>
                    </a:lnTo>
                    <a:lnTo>
                      <a:pt x="103" y="2005"/>
                    </a:lnTo>
                    <a:lnTo>
                      <a:pt x="116" y="1922"/>
                    </a:lnTo>
                    <a:lnTo>
                      <a:pt x="128" y="1839"/>
                    </a:lnTo>
                    <a:lnTo>
                      <a:pt x="140" y="1755"/>
                    </a:lnTo>
                    <a:lnTo>
                      <a:pt x="150" y="1671"/>
                    </a:lnTo>
                    <a:lnTo>
                      <a:pt x="160" y="1586"/>
                    </a:lnTo>
                    <a:lnTo>
                      <a:pt x="168" y="1502"/>
                    </a:lnTo>
                    <a:lnTo>
                      <a:pt x="176" y="1417"/>
                    </a:lnTo>
                    <a:lnTo>
                      <a:pt x="182" y="1332"/>
                    </a:lnTo>
                    <a:lnTo>
                      <a:pt x="188" y="1246"/>
                    </a:lnTo>
                    <a:lnTo>
                      <a:pt x="192" y="1160"/>
                    </a:lnTo>
                    <a:lnTo>
                      <a:pt x="196" y="1075"/>
                    </a:lnTo>
                    <a:lnTo>
                      <a:pt x="199" y="988"/>
                    </a:lnTo>
                    <a:lnTo>
                      <a:pt x="200" y="902"/>
                    </a:lnTo>
                    <a:lnTo>
                      <a:pt x="201" y="81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889600" y="2498760"/>
                <a:ext cx="76320" cy="931680"/>
              </a:xfrm>
              <a:custGeom>
                <a:avLst/>
                <a:gdLst/>
                <a:ahLst/>
                <a:rect l="l" t="t" r="r" b="b"/>
                <a:pathLst>
                  <a:path w="239" h="2935">
                    <a:moveTo>
                      <a:pt x="239" y="1556"/>
                    </a:moveTo>
                    <a:lnTo>
                      <a:pt x="239" y="1462"/>
                    </a:lnTo>
                    <a:lnTo>
                      <a:pt x="237" y="1368"/>
                    </a:lnTo>
                    <a:lnTo>
                      <a:pt x="234" y="1274"/>
                    </a:lnTo>
                    <a:lnTo>
                      <a:pt x="230" y="1181"/>
                    </a:lnTo>
                    <a:lnTo>
                      <a:pt x="224" y="1087"/>
                    </a:lnTo>
                    <a:lnTo>
                      <a:pt x="218" y="995"/>
                    </a:lnTo>
                    <a:lnTo>
                      <a:pt x="210" y="903"/>
                    </a:lnTo>
                    <a:lnTo>
                      <a:pt x="201" y="810"/>
                    </a:lnTo>
                    <a:lnTo>
                      <a:pt x="169" y="762"/>
                    </a:lnTo>
                    <a:lnTo>
                      <a:pt x="141" y="707"/>
                    </a:lnTo>
                    <a:lnTo>
                      <a:pt x="141" y="620"/>
                    </a:lnTo>
                    <a:lnTo>
                      <a:pt x="114" y="536"/>
                    </a:lnTo>
                    <a:lnTo>
                      <a:pt x="87" y="456"/>
                    </a:lnTo>
                    <a:lnTo>
                      <a:pt x="96" y="523"/>
                    </a:lnTo>
                    <a:lnTo>
                      <a:pt x="106" y="592"/>
                    </a:lnTo>
                    <a:lnTo>
                      <a:pt x="114" y="659"/>
                    </a:lnTo>
                    <a:lnTo>
                      <a:pt x="123" y="727"/>
                    </a:lnTo>
                    <a:lnTo>
                      <a:pt x="130" y="795"/>
                    </a:lnTo>
                    <a:lnTo>
                      <a:pt x="137" y="864"/>
                    </a:lnTo>
                    <a:lnTo>
                      <a:pt x="144" y="932"/>
                    </a:lnTo>
                    <a:lnTo>
                      <a:pt x="149" y="1000"/>
                    </a:lnTo>
                    <a:lnTo>
                      <a:pt x="154" y="1069"/>
                    </a:lnTo>
                    <a:lnTo>
                      <a:pt x="158" y="1139"/>
                    </a:lnTo>
                    <a:lnTo>
                      <a:pt x="162" y="1208"/>
                    </a:lnTo>
                    <a:lnTo>
                      <a:pt x="166" y="1277"/>
                    </a:lnTo>
                    <a:lnTo>
                      <a:pt x="168" y="1347"/>
                    </a:lnTo>
                    <a:lnTo>
                      <a:pt x="169" y="1416"/>
                    </a:lnTo>
                    <a:lnTo>
                      <a:pt x="170" y="1486"/>
                    </a:lnTo>
                    <a:lnTo>
                      <a:pt x="171" y="1556"/>
                    </a:lnTo>
                    <a:lnTo>
                      <a:pt x="170" y="1644"/>
                    </a:lnTo>
                    <a:lnTo>
                      <a:pt x="169" y="1732"/>
                    </a:lnTo>
                    <a:lnTo>
                      <a:pt x="166" y="1820"/>
                    </a:lnTo>
                    <a:lnTo>
                      <a:pt x="162" y="1907"/>
                    </a:lnTo>
                    <a:lnTo>
                      <a:pt x="157" y="1995"/>
                    </a:lnTo>
                    <a:lnTo>
                      <a:pt x="151" y="2082"/>
                    </a:lnTo>
                    <a:lnTo>
                      <a:pt x="145" y="2169"/>
                    </a:lnTo>
                    <a:lnTo>
                      <a:pt x="136" y="2255"/>
                    </a:lnTo>
                    <a:lnTo>
                      <a:pt x="128" y="2341"/>
                    </a:lnTo>
                    <a:lnTo>
                      <a:pt x="117" y="2427"/>
                    </a:lnTo>
                    <a:lnTo>
                      <a:pt x="107" y="2512"/>
                    </a:lnTo>
                    <a:lnTo>
                      <a:pt x="94" y="2597"/>
                    </a:lnTo>
                    <a:lnTo>
                      <a:pt x="82" y="2682"/>
                    </a:lnTo>
                    <a:lnTo>
                      <a:pt x="68" y="2767"/>
                    </a:lnTo>
                    <a:lnTo>
                      <a:pt x="53" y="2851"/>
                    </a:lnTo>
                    <a:lnTo>
                      <a:pt x="37" y="2935"/>
                    </a:lnTo>
                    <a:lnTo>
                      <a:pt x="110" y="2920"/>
                    </a:lnTo>
                    <a:lnTo>
                      <a:pt x="126" y="2837"/>
                    </a:lnTo>
                    <a:lnTo>
                      <a:pt x="139" y="2754"/>
                    </a:lnTo>
                    <a:lnTo>
                      <a:pt x="153" y="2670"/>
                    </a:lnTo>
                    <a:lnTo>
                      <a:pt x="166" y="2586"/>
                    </a:lnTo>
                    <a:lnTo>
                      <a:pt x="177" y="2502"/>
                    </a:lnTo>
                    <a:lnTo>
                      <a:pt x="188" y="2417"/>
                    </a:lnTo>
                    <a:lnTo>
                      <a:pt x="197" y="2333"/>
                    </a:lnTo>
                    <a:lnTo>
                      <a:pt x="207" y="2247"/>
                    </a:lnTo>
                    <a:lnTo>
                      <a:pt x="214" y="2161"/>
                    </a:lnTo>
                    <a:lnTo>
                      <a:pt x="220" y="2076"/>
                    </a:lnTo>
                    <a:lnTo>
                      <a:pt x="227" y="1990"/>
                    </a:lnTo>
                    <a:lnTo>
                      <a:pt x="231" y="1903"/>
                    </a:lnTo>
                    <a:lnTo>
                      <a:pt x="235" y="1817"/>
                    </a:lnTo>
                    <a:lnTo>
                      <a:pt x="237" y="1730"/>
                    </a:lnTo>
                    <a:lnTo>
                      <a:pt x="239" y="1644"/>
                    </a:lnTo>
                    <a:lnTo>
                      <a:pt x="239" y="1556"/>
                    </a:lnTo>
                    <a:close/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78440" y="2498760"/>
                <a:ext cx="76320" cy="936720"/>
              </a:xfrm>
              <a:custGeom>
                <a:avLst/>
                <a:gdLst/>
                <a:ahLst/>
                <a:rect l="l" t="t" r="r" b="b"/>
                <a:pathLst>
                  <a:path w="237" h="2947">
                    <a:moveTo>
                      <a:pt x="237" y="1556"/>
                    </a:moveTo>
                    <a:lnTo>
                      <a:pt x="237" y="1453"/>
                    </a:lnTo>
                    <a:lnTo>
                      <a:pt x="234" y="1350"/>
                    </a:lnTo>
                    <a:lnTo>
                      <a:pt x="230" y="1248"/>
                    </a:lnTo>
                    <a:lnTo>
                      <a:pt x="225" y="1145"/>
                    </a:lnTo>
                    <a:lnTo>
                      <a:pt x="219" y="1043"/>
                    </a:lnTo>
                    <a:lnTo>
                      <a:pt x="210" y="942"/>
                    </a:lnTo>
                    <a:lnTo>
                      <a:pt x="201" y="842"/>
                    </a:lnTo>
                    <a:lnTo>
                      <a:pt x="190" y="741"/>
                    </a:lnTo>
                    <a:lnTo>
                      <a:pt x="173" y="707"/>
                    </a:lnTo>
                    <a:lnTo>
                      <a:pt x="173" y="620"/>
                    </a:lnTo>
                    <a:lnTo>
                      <a:pt x="146" y="536"/>
                    </a:lnTo>
                    <a:lnTo>
                      <a:pt x="117" y="452"/>
                    </a:lnTo>
                    <a:lnTo>
                      <a:pt x="89" y="339"/>
                    </a:lnTo>
                    <a:lnTo>
                      <a:pt x="60" y="227"/>
                    </a:lnTo>
                    <a:lnTo>
                      <a:pt x="33" y="140"/>
                    </a:lnTo>
                    <a:lnTo>
                      <a:pt x="33" y="56"/>
                    </a:lnTo>
                    <a:lnTo>
                      <a:pt x="33" y="0"/>
                    </a:lnTo>
                    <a:lnTo>
                      <a:pt x="0" y="15"/>
                    </a:lnTo>
                    <a:lnTo>
                      <a:pt x="20" y="109"/>
                    </a:lnTo>
                    <a:lnTo>
                      <a:pt x="39" y="202"/>
                    </a:lnTo>
                    <a:lnTo>
                      <a:pt x="57" y="297"/>
                    </a:lnTo>
                    <a:lnTo>
                      <a:pt x="73" y="391"/>
                    </a:lnTo>
                    <a:lnTo>
                      <a:pt x="87" y="486"/>
                    </a:lnTo>
                    <a:lnTo>
                      <a:pt x="101" y="581"/>
                    </a:lnTo>
                    <a:lnTo>
                      <a:pt x="114" y="677"/>
                    </a:lnTo>
                    <a:lnTo>
                      <a:pt x="125" y="773"/>
                    </a:lnTo>
                    <a:lnTo>
                      <a:pt x="136" y="870"/>
                    </a:lnTo>
                    <a:lnTo>
                      <a:pt x="144" y="967"/>
                    </a:lnTo>
                    <a:lnTo>
                      <a:pt x="151" y="1064"/>
                    </a:lnTo>
                    <a:lnTo>
                      <a:pt x="158" y="1162"/>
                    </a:lnTo>
                    <a:lnTo>
                      <a:pt x="162" y="1260"/>
                    </a:lnTo>
                    <a:lnTo>
                      <a:pt x="165" y="1358"/>
                    </a:lnTo>
                    <a:lnTo>
                      <a:pt x="167" y="1457"/>
                    </a:lnTo>
                    <a:lnTo>
                      <a:pt x="168" y="1556"/>
                    </a:lnTo>
                    <a:lnTo>
                      <a:pt x="167" y="1645"/>
                    </a:lnTo>
                    <a:lnTo>
                      <a:pt x="166" y="1734"/>
                    </a:lnTo>
                    <a:lnTo>
                      <a:pt x="163" y="1822"/>
                    </a:lnTo>
                    <a:lnTo>
                      <a:pt x="160" y="1911"/>
                    </a:lnTo>
                    <a:lnTo>
                      <a:pt x="155" y="1999"/>
                    </a:lnTo>
                    <a:lnTo>
                      <a:pt x="148" y="2087"/>
                    </a:lnTo>
                    <a:lnTo>
                      <a:pt x="142" y="2174"/>
                    </a:lnTo>
                    <a:lnTo>
                      <a:pt x="134" y="2261"/>
                    </a:lnTo>
                    <a:lnTo>
                      <a:pt x="124" y="2348"/>
                    </a:lnTo>
                    <a:lnTo>
                      <a:pt x="115" y="2434"/>
                    </a:lnTo>
                    <a:lnTo>
                      <a:pt x="103" y="2521"/>
                    </a:lnTo>
                    <a:lnTo>
                      <a:pt x="90" y="2607"/>
                    </a:lnTo>
                    <a:lnTo>
                      <a:pt x="78" y="2692"/>
                    </a:lnTo>
                    <a:lnTo>
                      <a:pt x="63" y="2777"/>
                    </a:lnTo>
                    <a:lnTo>
                      <a:pt x="48" y="2862"/>
                    </a:lnTo>
                    <a:lnTo>
                      <a:pt x="32" y="2947"/>
                    </a:lnTo>
                    <a:lnTo>
                      <a:pt x="60" y="2937"/>
                    </a:lnTo>
                    <a:lnTo>
                      <a:pt x="105" y="2927"/>
                    </a:lnTo>
                    <a:lnTo>
                      <a:pt x="121" y="2844"/>
                    </a:lnTo>
                    <a:lnTo>
                      <a:pt x="136" y="2760"/>
                    </a:lnTo>
                    <a:lnTo>
                      <a:pt x="149" y="2676"/>
                    </a:lnTo>
                    <a:lnTo>
                      <a:pt x="162" y="2592"/>
                    </a:lnTo>
                    <a:lnTo>
                      <a:pt x="175" y="2507"/>
                    </a:lnTo>
                    <a:lnTo>
                      <a:pt x="185" y="2422"/>
                    </a:lnTo>
                    <a:lnTo>
                      <a:pt x="194" y="2337"/>
                    </a:lnTo>
                    <a:lnTo>
                      <a:pt x="204" y="2251"/>
                    </a:lnTo>
                    <a:lnTo>
                      <a:pt x="211" y="2166"/>
                    </a:lnTo>
                    <a:lnTo>
                      <a:pt x="218" y="2079"/>
                    </a:lnTo>
                    <a:lnTo>
                      <a:pt x="224" y="1992"/>
                    </a:lnTo>
                    <a:lnTo>
                      <a:pt x="228" y="1905"/>
                    </a:lnTo>
                    <a:lnTo>
                      <a:pt x="232" y="1819"/>
                    </a:lnTo>
                    <a:lnTo>
                      <a:pt x="234" y="1731"/>
                    </a:lnTo>
                    <a:lnTo>
                      <a:pt x="237" y="1644"/>
                    </a:lnTo>
                    <a:lnTo>
                      <a:pt x="237" y="155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869080" y="2498760"/>
                <a:ext cx="74520" cy="939600"/>
              </a:xfrm>
              <a:custGeom>
                <a:avLst/>
                <a:gdLst/>
                <a:ahLst/>
                <a:rect l="l" t="t" r="r" b="b"/>
                <a:pathLst>
                  <a:path w="235" h="2959">
                    <a:moveTo>
                      <a:pt x="235" y="1556"/>
                    </a:moveTo>
                    <a:lnTo>
                      <a:pt x="234" y="1486"/>
                    </a:lnTo>
                    <a:lnTo>
                      <a:pt x="233" y="1416"/>
                    </a:lnTo>
                    <a:lnTo>
                      <a:pt x="232" y="1347"/>
                    </a:lnTo>
                    <a:lnTo>
                      <a:pt x="230" y="1277"/>
                    </a:lnTo>
                    <a:lnTo>
                      <a:pt x="226" y="1208"/>
                    </a:lnTo>
                    <a:lnTo>
                      <a:pt x="222" y="1139"/>
                    </a:lnTo>
                    <a:lnTo>
                      <a:pt x="218" y="1069"/>
                    </a:lnTo>
                    <a:lnTo>
                      <a:pt x="213" y="1000"/>
                    </a:lnTo>
                    <a:lnTo>
                      <a:pt x="208" y="932"/>
                    </a:lnTo>
                    <a:lnTo>
                      <a:pt x="201" y="864"/>
                    </a:lnTo>
                    <a:lnTo>
                      <a:pt x="194" y="795"/>
                    </a:lnTo>
                    <a:lnTo>
                      <a:pt x="187" y="727"/>
                    </a:lnTo>
                    <a:lnTo>
                      <a:pt x="178" y="659"/>
                    </a:lnTo>
                    <a:lnTo>
                      <a:pt x="170" y="592"/>
                    </a:lnTo>
                    <a:lnTo>
                      <a:pt x="160" y="523"/>
                    </a:lnTo>
                    <a:lnTo>
                      <a:pt x="151" y="456"/>
                    </a:lnTo>
                    <a:lnTo>
                      <a:pt x="149" y="452"/>
                    </a:lnTo>
                    <a:lnTo>
                      <a:pt x="121" y="339"/>
                    </a:lnTo>
                    <a:lnTo>
                      <a:pt x="92" y="227"/>
                    </a:lnTo>
                    <a:lnTo>
                      <a:pt x="65" y="140"/>
                    </a:lnTo>
                    <a:lnTo>
                      <a:pt x="65" y="56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4" y="1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0" y="31"/>
                    </a:lnTo>
                    <a:lnTo>
                      <a:pt x="20" y="123"/>
                    </a:lnTo>
                    <a:lnTo>
                      <a:pt x="38" y="216"/>
                    </a:lnTo>
                    <a:lnTo>
                      <a:pt x="56" y="309"/>
                    </a:lnTo>
                    <a:lnTo>
                      <a:pt x="72" y="403"/>
                    </a:lnTo>
                    <a:lnTo>
                      <a:pt x="87" y="497"/>
                    </a:lnTo>
                    <a:lnTo>
                      <a:pt x="100" y="592"/>
                    </a:lnTo>
                    <a:lnTo>
                      <a:pt x="113" y="686"/>
                    </a:lnTo>
                    <a:lnTo>
                      <a:pt x="123" y="782"/>
                    </a:lnTo>
                    <a:lnTo>
                      <a:pt x="133" y="877"/>
                    </a:lnTo>
                    <a:lnTo>
                      <a:pt x="142" y="973"/>
                    </a:lnTo>
                    <a:lnTo>
                      <a:pt x="149" y="1069"/>
                    </a:lnTo>
                    <a:lnTo>
                      <a:pt x="155" y="1166"/>
                    </a:lnTo>
                    <a:lnTo>
                      <a:pt x="160" y="1263"/>
                    </a:lnTo>
                    <a:lnTo>
                      <a:pt x="163" y="1360"/>
                    </a:lnTo>
                    <a:lnTo>
                      <a:pt x="166" y="1458"/>
                    </a:lnTo>
                    <a:lnTo>
                      <a:pt x="166" y="1556"/>
                    </a:lnTo>
                    <a:lnTo>
                      <a:pt x="166" y="1646"/>
                    </a:lnTo>
                    <a:lnTo>
                      <a:pt x="163" y="1735"/>
                    </a:lnTo>
                    <a:lnTo>
                      <a:pt x="160" y="1825"/>
                    </a:lnTo>
                    <a:lnTo>
                      <a:pt x="157" y="1914"/>
                    </a:lnTo>
                    <a:lnTo>
                      <a:pt x="152" y="2003"/>
                    </a:lnTo>
                    <a:lnTo>
                      <a:pt x="146" y="2091"/>
                    </a:lnTo>
                    <a:lnTo>
                      <a:pt x="138" y="2179"/>
                    </a:lnTo>
                    <a:lnTo>
                      <a:pt x="130" y="2268"/>
                    </a:lnTo>
                    <a:lnTo>
                      <a:pt x="120" y="2356"/>
                    </a:lnTo>
                    <a:lnTo>
                      <a:pt x="111" y="2443"/>
                    </a:lnTo>
                    <a:lnTo>
                      <a:pt x="99" y="2530"/>
                    </a:lnTo>
                    <a:lnTo>
                      <a:pt x="87" y="2616"/>
                    </a:lnTo>
                    <a:lnTo>
                      <a:pt x="73" y="2702"/>
                    </a:lnTo>
                    <a:lnTo>
                      <a:pt x="58" y="2788"/>
                    </a:lnTo>
                    <a:lnTo>
                      <a:pt x="43" y="2874"/>
                    </a:lnTo>
                    <a:lnTo>
                      <a:pt x="27" y="2959"/>
                    </a:lnTo>
                    <a:lnTo>
                      <a:pt x="92" y="2937"/>
                    </a:lnTo>
                    <a:lnTo>
                      <a:pt x="101" y="2935"/>
                    </a:lnTo>
                    <a:lnTo>
                      <a:pt x="117" y="2851"/>
                    </a:lnTo>
                    <a:lnTo>
                      <a:pt x="132" y="2767"/>
                    </a:lnTo>
                    <a:lnTo>
                      <a:pt x="146" y="2682"/>
                    </a:lnTo>
                    <a:lnTo>
                      <a:pt x="158" y="2597"/>
                    </a:lnTo>
                    <a:lnTo>
                      <a:pt x="171" y="2512"/>
                    </a:lnTo>
                    <a:lnTo>
                      <a:pt x="181" y="2427"/>
                    </a:lnTo>
                    <a:lnTo>
                      <a:pt x="192" y="2341"/>
                    </a:lnTo>
                    <a:lnTo>
                      <a:pt x="200" y="2255"/>
                    </a:lnTo>
                    <a:lnTo>
                      <a:pt x="209" y="2169"/>
                    </a:lnTo>
                    <a:lnTo>
                      <a:pt x="215" y="2082"/>
                    </a:lnTo>
                    <a:lnTo>
                      <a:pt x="221" y="1995"/>
                    </a:lnTo>
                    <a:lnTo>
                      <a:pt x="226" y="1907"/>
                    </a:lnTo>
                    <a:lnTo>
                      <a:pt x="230" y="1820"/>
                    </a:lnTo>
                    <a:lnTo>
                      <a:pt x="233" y="1732"/>
                    </a:lnTo>
                    <a:lnTo>
                      <a:pt x="234" y="1644"/>
                    </a:lnTo>
                    <a:lnTo>
                      <a:pt x="235" y="155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59360" y="2503440"/>
                <a:ext cx="73080" cy="939960"/>
              </a:xfrm>
              <a:custGeom>
                <a:avLst/>
                <a:gdLst/>
                <a:ahLst/>
                <a:rect l="l" t="t" r="r" b="b"/>
                <a:pathLst>
                  <a:path w="231" h="2957">
                    <a:moveTo>
                      <a:pt x="231" y="1541"/>
                    </a:moveTo>
                    <a:lnTo>
                      <a:pt x="230" y="1442"/>
                    </a:lnTo>
                    <a:lnTo>
                      <a:pt x="228" y="1343"/>
                    </a:lnTo>
                    <a:lnTo>
                      <a:pt x="225" y="1245"/>
                    </a:lnTo>
                    <a:lnTo>
                      <a:pt x="221" y="1147"/>
                    </a:lnTo>
                    <a:lnTo>
                      <a:pt x="214" y="1049"/>
                    </a:lnTo>
                    <a:lnTo>
                      <a:pt x="207" y="952"/>
                    </a:lnTo>
                    <a:lnTo>
                      <a:pt x="199" y="855"/>
                    </a:lnTo>
                    <a:lnTo>
                      <a:pt x="188" y="758"/>
                    </a:lnTo>
                    <a:lnTo>
                      <a:pt x="177" y="662"/>
                    </a:lnTo>
                    <a:lnTo>
                      <a:pt x="164" y="566"/>
                    </a:lnTo>
                    <a:lnTo>
                      <a:pt x="150" y="471"/>
                    </a:lnTo>
                    <a:lnTo>
                      <a:pt x="136" y="376"/>
                    </a:lnTo>
                    <a:lnTo>
                      <a:pt x="120" y="282"/>
                    </a:lnTo>
                    <a:lnTo>
                      <a:pt x="102" y="187"/>
                    </a:lnTo>
                    <a:lnTo>
                      <a:pt x="83" y="94"/>
                    </a:lnTo>
                    <a:lnTo>
                      <a:pt x="63" y="0"/>
                    </a:lnTo>
                    <a:lnTo>
                      <a:pt x="0" y="32"/>
                    </a:lnTo>
                    <a:lnTo>
                      <a:pt x="19" y="123"/>
                    </a:lnTo>
                    <a:lnTo>
                      <a:pt x="37" y="216"/>
                    </a:lnTo>
                    <a:lnTo>
                      <a:pt x="54" y="308"/>
                    </a:lnTo>
                    <a:lnTo>
                      <a:pt x="69" y="400"/>
                    </a:lnTo>
                    <a:lnTo>
                      <a:pt x="84" y="493"/>
                    </a:lnTo>
                    <a:lnTo>
                      <a:pt x="98" y="586"/>
                    </a:lnTo>
                    <a:lnTo>
                      <a:pt x="110" y="681"/>
                    </a:lnTo>
                    <a:lnTo>
                      <a:pt x="121" y="774"/>
                    </a:lnTo>
                    <a:lnTo>
                      <a:pt x="130" y="870"/>
                    </a:lnTo>
                    <a:lnTo>
                      <a:pt x="139" y="964"/>
                    </a:lnTo>
                    <a:lnTo>
                      <a:pt x="146" y="1060"/>
                    </a:lnTo>
                    <a:lnTo>
                      <a:pt x="152" y="1155"/>
                    </a:lnTo>
                    <a:lnTo>
                      <a:pt x="157" y="1251"/>
                    </a:lnTo>
                    <a:lnTo>
                      <a:pt x="160" y="1347"/>
                    </a:lnTo>
                    <a:lnTo>
                      <a:pt x="162" y="1444"/>
                    </a:lnTo>
                    <a:lnTo>
                      <a:pt x="163" y="1541"/>
                    </a:lnTo>
                    <a:lnTo>
                      <a:pt x="162" y="1632"/>
                    </a:lnTo>
                    <a:lnTo>
                      <a:pt x="160" y="1722"/>
                    </a:lnTo>
                    <a:lnTo>
                      <a:pt x="158" y="1813"/>
                    </a:lnTo>
                    <a:lnTo>
                      <a:pt x="153" y="1903"/>
                    </a:lnTo>
                    <a:lnTo>
                      <a:pt x="148" y="1992"/>
                    </a:lnTo>
                    <a:lnTo>
                      <a:pt x="142" y="2081"/>
                    </a:lnTo>
                    <a:lnTo>
                      <a:pt x="134" y="2171"/>
                    </a:lnTo>
                    <a:lnTo>
                      <a:pt x="126" y="2259"/>
                    </a:lnTo>
                    <a:lnTo>
                      <a:pt x="117" y="2348"/>
                    </a:lnTo>
                    <a:lnTo>
                      <a:pt x="106" y="2435"/>
                    </a:lnTo>
                    <a:lnTo>
                      <a:pt x="95" y="2523"/>
                    </a:lnTo>
                    <a:lnTo>
                      <a:pt x="82" y="2611"/>
                    </a:lnTo>
                    <a:lnTo>
                      <a:pt x="67" y="2698"/>
                    </a:lnTo>
                    <a:lnTo>
                      <a:pt x="53" y="2785"/>
                    </a:lnTo>
                    <a:lnTo>
                      <a:pt x="37" y="2871"/>
                    </a:lnTo>
                    <a:lnTo>
                      <a:pt x="20" y="2957"/>
                    </a:lnTo>
                    <a:lnTo>
                      <a:pt x="95" y="2932"/>
                    </a:lnTo>
                    <a:lnTo>
                      <a:pt x="111" y="2847"/>
                    </a:lnTo>
                    <a:lnTo>
                      <a:pt x="126" y="2762"/>
                    </a:lnTo>
                    <a:lnTo>
                      <a:pt x="141" y="2677"/>
                    </a:lnTo>
                    <a:lnTo>
                      <a:pt x="153" y="2592"/>
                    </a:lnTo>
                    <a:lnTo>
                      <a:pt x="166" y="2506"/>
                    </a:lnTo>
                    <a:lnTo>
                      <a:pt x="178" y="2419"/>
                    </a:lnTo>
                    <a:lnTo>
                      <a:pt x="187" y="2333"/>
                    </a:lnTo>
                    <a:lnTo>
                      <a:pt x="197" y="2246"/>
                    </a:lnTo>
                    <a:lnTo>
                      <a:pt x="205" y="2159"/>
                    </a:lnTo>
                    <a:lnTo>
                      <a:pt x="211" y="2072"/>
                    </a:lnTo>
                    <a:lnTo>
                      <a:pt x="218" y="1984"/>
                    </a:lnTo>
                    <a:lnTo>
                      <a:pt x="223" y="1896"/>
                    </a:lnTo>
                    <a:lnTo>
                      <a:pt x="226" y="1807"/>
                    </a:lnTo>
                    <a:lnTo>
                      <a:pt x="229" y="1719"/>
                    </a:lnTo>
                    <a:lnTo>
                      <a:pt x="230" y="1630"/>
                    </a:lnTo>
                    <a:lnTo>
                      <a:pt x="231" y="154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48200" y="2508120"/>
                <a:ext cx="73080" cy="938520"/>
              </a:xfrm>
              <a:custGeom>
                <a:avLst/>
                <a:gdLst/>
                <a:ahLst/>
                <a:rect l="l" t="t" r="r" b="b"/>
                <a:pathLst>
                  <a:path w="230" h="2954">
                    <a:moveTo>
                      <a:pt x="230" y="1525"/>
                    </a:moveTo>
                    <a:lnTo>
                      <a:pt x="230" y="1427"/>
                    </a:lnTo>
                    <a:lnTo>
                      <a:pt x="227" y="1329"/>
                    </a:lnTo>
                    <a:lnTo>
                      <a:pt x="224" y="1232"/>
                    </a:lnTo>
                    <a:lnTo>
                      <a:pt x="219" y="1135"/>
                    </a:lnTo>
                    <a:lnTo>
                      <a:pt x="213" y="1038"/>
                    </a:lnTo>
                    <a:lnTo>
                      <a:pt x="206" y="942"/>
                    </a:lnTo>
                    <a:lnTo>
                      <a:pt x="197" y="846"/>
                    </a:lnTo>
                    <a:lnTo>
                      <a:pt x="187" y="751"/>
                    </a:lnTo>
                    <a:lnTo>
                      <a:pt x="177" y="655"/>
                    </a:lnTo>
                    <a:lnTo>
                      <a:pt x="164" y="561"/>
                    </a:lnTo>
                    <a:lnTo>
                      <a:pt x="151" y="466"/>
                    </a:lnTo>
                    <a:lnTo>
                      <a:pt x="136" y="372"/>
                    </a:lnTo>
                    <a:lnTo>
                      <a:pt x="120" y="278"/>
                    </a:lnTo>
                    <a:lnTo>
                      <a:pt x="102" y="185"/>
                    </a:lnTo>
                    <a:lnTo>
                      <a:pt x="84" y="92"/>
                    </a:lnTo>
                    <a:lnTo>
                      <a:pt x="64" y="0"/>
                    </a:lnTo>
                    <a:lnTo>
                      <a:pt x="14" y="25"/>
                    </a:lnTo>
                    <a:lnTo>
                      <a:pt x="0" y="30"/>
                    </a:lnTo>
                    <a:lnTo>
                      <a:pt x="19" y="121"/>
                    </a:lnTo>
                    <a:lnTo>
                      <a:pt x="37" y="212"/>
                    </a:lnTo>
                    <a:lnTo>
                      <a:pt x="54" y="303"/>
                    </a:lnTo>
                    <a:lnTo>
                      <a:pt x="70" y="395"/>
                    </a:lnTo>
                    <a:lnTo>
                      <a:pt x="84" y="487"/>
                    </a:lnTo>
                    <a:lnTo>
                      <a:pt x="97" y="580"/>
                    </a:lnTo>
                    <a:lnTo>
                      <a:pt x="110" y="672"/>
                    </a:lnTo>
                    <a:lnTo>
                      <a:pt x="120" y="765"/>
                    </a:lnTo>
                    <a:lnTo>
                      <a:pt x="130" y="860"/>
                    </a:lnTo>
                    <a:lnTo>
                      <a:pt x="138" y="953"/>
                    </a:lnTo>
                    <a:lnTo>
                      <a:pt x="144" y="1048"/>
                    </a:lnTo>
                    <a:lnTo>
                      <a:pt x="151" y="1142"/>
                    </a:lnTo>
                    <a:lnTo>
                      <a:pt x="155" y="1238"/>
                    </a:lnTo>
                    <a:lnTo>
                      <a:pt x="158" y="1334"/>
                    </a:lnTo>
                    <a:lnTo>
                      <a:pt x="160" y="1429"/>
                    </a:lnTo>
                    <a:lnTo>
                      <a:pt x="161" y="1525"/>
                    </a:lnTo>
                    <a:lnTo>
                      <a:pt x="160" y="1617"/>
                    </a:lnTo>
                    <a:lnTo>
                      <a:pt x="159" y="1708"/>
                    </a:lnTo>
                    <a:lnTo>
                      <a:pt x="156" y="1799"/>
                    </a:lnTo>
                    <a:lnTo>
                      <a:pt x="152" y="1890"/>
                    </a:lnTo>
                    <a:lnTo>
                      <a:pt x="146" y="1980"/>
                    </a:lnTo>
                    <a:lnTo>
                      <a:pt x="140" y="2071"/>
                    </a:lnTo>
                    <a:lnTo>
                      <a:pt x="133" y="2160"/>
                    </a:lnTo>
                    <a:lnTo>
                      <a:pt x="123" y="2250"/>
                    </a:lnTo>
                    <a:lnTo>
                      <a:pt x="114" y="2339"/>
                    </a:lnTo>
                    <a:lnTo>
                      <a:pt x="103" y="2428"/>
                    </a:lnTo>
                    <a:lnTo>
                      <a:pt x="91" y="2517"/>
                    </a:lnTo>
                    <a:lnTo>
                      <a:pt x="78" y="2605"/>
                    </a:lnTo>
                    <a:lnTo>
                      <a:pt x="63" y="2692"/>
                    </a:lnTo>
                    <a:lnTo>
                      <a:pt x="49" y="2780"/>
                    </a:lnTo>
                    <a:lnTo>
                      <a:pt x="32" y="2867"/>
                    </a:lnTo>
                    <a:lnTo>
                      <a:pt x="15" y="2954"/>
                    </a:lnTo>
                    <a:lnTo>
                      <a:pt x="91" y="2928"/>
                    </a:lnTo>
                    <a:lnTo>
                      <a:pt x="107" y="2843"/>
                    </a:lnTo>
                    <a:lnTo>
                      <a:pt x="122" y="2757"/>
                    </a:lnTo>
                    <a:lnTo>
                      <a:pt x="137" y="2671"/>
                    </a:lnTo>
                    <a:lnTo>
                      <a:pt x="151" y="2585"/>
                    </a:lnTo>
                    <a:lnTo>
                      <a:pt x="163" y="2499"/>
                    </a:lnTo>
                    <a:lnTo>
                      <a:pt x="175" y="2412"/>
                    </a:lnTo>
                    <a:lnTo>
                      <a:pt x="184" y="2325"/>
                    </a:lnTo>
                    <a:lnTo>
                      <a:pt x="194" y="2237"/>
                    </a:lnTo>
                    <a:lnTo>
                      <a:pt x="202" y="2148"/>
                    </a:lnTo>
                    <a:lnTo>
                      <a:pt x="210" y="2060"/>
                    </a:lnTo>
                    <a:lnTo>
                      <a:pt x="216" y="1972"/>
                    </a:lnTo>
                    <a:lnTo>
                      <a:pt x="221" y="1883"/>
                    </a:lnTo>
                    <a:lnTo>
                      <a:pt x="224" y="1794"/>
                    </a:lnTo>
                    <a:lnTo>
                      <a:pt x="227" y="1704"/>
                    </a:lnTo>
                    <a:lnTo>
                      <a:pt x="230" y="1615"/>
                    </a:lnTo>
                    <a:lnTo>
                      <a:pt x="230" y="1525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38840" y="2514600"/>
                <a:ext cx="71280" cy="934920"/>
              </a:xfrm>
              <a:custGeom>
                <a:avLst/>
                <a:gdLst/>
                <a:ahLst/>
                <a:rect l="l" t="t" r="r" b="b"/>
                <a:pathLst>
                  <a:path w="228" h="2949">
                    <a:moveTo>
                      <a:pt x="228" y="1509"/>
                    </a:moveTo>
                    <a:lnTo>
                      <a:pt x="227" y="1412"/>
                    </a:lnTo>
                    <a:lnTo>
                      <a:pt x="225" y="1315"/>
                    </a:lnTo>
                    <a:lnTo>
                      <a:pt x="222" y="1219"/>
                    </a:lnTo>
                    <a:lnTo>
                      <a:pt x="217" y="1123"/>
                    </a:lnTo>
                    <a:lnTo>
                      <a:pt x="211" y="1028"/>
                    </a:lnTo>
                    <a:lnTo>
                      <a:pt x="204" y="932"/>
                    </a:lnTo>
                    <a:lnTo>
                      <a:pt x="195" y="838"/>
                    </a:lnTo>
                    <a:lnTo>
                      <a:pt x="186" y="742"/>
                    </a:lnTo>
                    <a:lnTo>
                      <a:pt x="175" y="649"/>
                    </a:lnTo>
                    <a:lnTo>
                      <a:pt x="163" y="554"/>
                    </a:lnTo>
                    <a:lnTo>
                      <a:pt x="149" y="461"/>
                    </a:lnTo>
                    <a:lnTo>
                      <a:pt x="134" y="368"/>
                    </a:lnTo>
                    <a:lnTo>
                      <a:pt x="119" y="276"/>
                    </a:lnTo>
                    <a:lnTo>
                      <a:pt x="102" y="184"/>
                    </a:lnTo>
                    <a:lnTo>
                      <a:pt x="84" y="91"/>
                    </a:lnTo>
                    <a:lnTo>
                      <a:pt x="65" y="0"/>
                    </a:lnTo>
                    <a:lnTo>
                      <a:pt x="46" y="9"/>
                    </a:lnTo>
                    <a:lnTo>
                      <a:pt x="0" y="26"/>
                    </a:lnTo>
                    <a:lnTo>
                      <a:pt x="19" y="115"/>
                    </a:lnTo>
                    <a:lnTo>
                      <a:pt x="37" y="206"/>
                    </a:lnTo>
                    <a:lnTo>
                      <a:pt x="52" y="297"/>
                    </a:lnTo>
                    <a:lnTo>
                      <a:pt x="68" y="387"/>
                    </a:lnTo>
                    <a:lnTo>
                      <a:pt x="83" y="479"/>
                    </a:lnTo>
                    <a:lnTo>
                      <a:pt x="95" y="571"/>
                    </a:lnTo>
                    <a:lnTo>
                      <a:pt x="107" y="663"/>
                    </a:lnTo>
                    <a:lnTo>
                      <a:pt x="119" y="756"/>
                    </a:lnTo>
                    <a:lnTo>
                      <a:pt x="127" y="848"/>
                    </a:lnTo>
                    <a:lnTo>
                      <a:pt x="135" y="942"/>
                    </a:lnTo>
                    <a:lnTo>
                      <a:pt x="143" y="1036"/>
                    </a:lnTo>
                    <a:lnTo>
                      <a:pt x="148" y="1130"/>
                    </a:lnTo>
                    <a:lnTo>
                      <a:pt x="153" y="1224"/>
                    </a:lnTo>
                    <a:lnTo>
                      <a:pt x="156" y="1319"/>
                    </a:lnTo>
                    <a:lnTo>
                      <a:pt x="157" y="1414"/>
                    </a:lnTo>
                    <a:lnTo>
                      <a:pt x="159" y="1509"/>
                    </a:lnTo>
                    <a:lnTo>
                      <a:pt x="157" y="1601"/>
                    </a:lnTo>
                    <a:lnTo>
                      <a:pt x="156" y="1693"/>
                    </a:lnTo>
                    <a:lnTo>
                      <a:pt x="153" y="1786"/>
                    </a:lnTo>
                    <a:lnTo>
                      <a:pt x="149" y="1877"/>
                    </a:lnTo>
                    <a:lnTo>
                      <a:pt x="144" y="1969"/>
                    </a:lnTo>
                    <a:lnTo>
                      <a:pt x="137" y="2059"/>
                    </a:lnTo>
                    <a:lnTo>
                      <a:pt x="129" y="2149"/>
                    </a:lnTo>
                    <a:lnTo>
                      <a:pt x="121" y="2239"/>
                    </a:lnTo>
                    <a:lnTo>
                      <a:pt x="110" y="2330"/>
                    </a:lnTo>
                    <a:lnTo>
                      <a:pt x="100" y="2419"/>
                    </a:lnTo>
                    <a:lnTo>
                      <a:pt x="87" y="2508"/>
                    </a:lnTo>
                    <a:lnTo>
                      <a:pt x="73" y="2597"/>
                    </a:lnTo>
                    <a:lnTo>
                      <a:pt x="60" y="2686"/>
                    </a:lnTo>
                    <a:lnTo>
                      <a:pt x="44" y="2774"/>
                    </a:lnTo>
                    <a:lnTo>
                      <a:pt x="27" y="2862"/>
                    </a:lnTo>
                    <a:lnTo>
                      <a:pt x="9" y="2949"/>
                    </a:lnTo>
                    <a:lnTo>
                      <a:pt x="20" y="2947"/>
                    </a:lnTo>
                    <a:lnTo>
                      <a:pt x="85" y="2925"/>
                    </a:lnTo>
                    <a:lnTo>
                      <a:pt x="102" y="2839"/>
                    </a:lnTo>
                    <a:lnTo>
                      <a:pt x="118" y="2753"/>
                    </a:lnTo>
                    <a:lnTo>
                      <a:pt x="132" y="2666"/>
                    </a:lnTo>
                    <a:lnTo>
                      <a:pt x="147" y="2579"/>
                    </a:lnTo>
                    <a:lnTo>
                      <a:pt x="160" y="2491"/>
                    </a:lnTo>
                    <a:lnTo>
                      <a:pt x="171" y="2403"/>
                    </a:lnTo>
                    <a:lnTo>
                      <a:pt x="182" y="2316"/>
                    </a:lnTo>
                    <a:lnTo>
                      <a:pt x="191" y="2227"/>
                    </a:lnTo>
                    <a:lnTo>
                      <a:pt x="199" y="2139"/>
                    </a:lnTo>
                    <a:lnTo>
                      <a:pt x="207" y="2049"/>
                    </a:lnTo>
                    <a:lnTo>
                      <a:pt x="213" y="1960"/>
                    </a:lnTo>
                    <a:lnTo>
                      <a:pt x="218" y="1871"/>
                    </a:lnTo>
                    <a:lnTo>
                      <a:pt x="223" y="1781"/>
                    </a:lnTo>
                    <a:lnTo>
                      <a:pt x="225" y="1690"/>
                    </a:lnTo>
                    <a:lnTo>
                      <a:pt x="227" y="1600"/>
                    </a:lnTo>
                    <a:lnTo>
                      <a:pt x="228" y="150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27680" y="2517840"/>
                <a:ext cx="71640" cy="934920"/>
              </a:xfrm>
              <a:custGeom>
                <a:avLst/>
                <a:gdLst/>
                <a:ahLst/>
                <a:rect l="l" t="t" r="r" b="b"/>
                <a:pathLst>
                  <a:path w="226" h="2942">
                    <a:moveTo>
                      <a:pt x="226" y="1495"/>
                    </a:moveTo>
                    <a:lnTo>
                      <a:pt x="225" y="1399"/>
                    </a:lnTo>
                    <a:lnTo>
                      <a:pt x="223" y="1304"/>
                    </a:lnTo>
                    <a:lnTo>
                      <a:pt x="220" y="1208"/>
                    </a:lnTo>
                    <a:lnTo>
                      <a:pt x="216" y="1112"/>
                    </a:lnTo>
                    <a:lnTo>
                      <a:pt x="209" y="1018"/>
                    </a:lnTo>
                    <a:lnTo>
                      <a:pt x="203" y="923"/>
                    </a:lnTo>
                    <a:lnTo>
                      <a:pt x="195" y="830"/>
                    </a:lnTo>
                    <a:lnTo>
                      <a:pt x="185" y="735"/>
                    </a:lnTo>
                    <a:lnTo>
                      <a:pt x="175" y="642"/>
                    </a:lnTo>
                    <a:lnTo>
                      <a:pt x="162" y="550"/>
                    </a:lnTo>
                    <a:lnTo>
                      <a:pt x="149" y="457"/>
                    </a:lnTo>
                    <a:lnTo>
                      <a:pt x="135" y="365"/>
                    </a:lnTo>
                    <a:lnTo>
                      <a:pt x="119" y="273"/>
                    </a:lnTo>
                    <a:lnTo>
                      <a:pt x="102" y="182"/>
                    </a:lnTo>
                    <a:lnTo>
                      <a:pt x="84" y="91"/>
                    </a:lnTo>
                    <a:lnTo>
                      <a:pt x="65" y="0"/>
                    </a:lnTo>
                    <a:lnTo>
                      <a:pt x="0" y="24"/>
                    </a:lnTo>
                    <a:lnTo>
                      <a:pt x="19" y="113"/>
                    </a:lnTo>
                    <a:lnTo>
                      <a:pt x="36" y="202"/>
                    </a:lnTo>
                    <a:lnTo>
                      <a:pt x="53" y="292"/>
                    </a:lnTo>
                    <a:lnTo>
                      <a:pt x="67" y="383"/>
                    </a:lnTo>
                    <a:lnTo>
                      <a:pt x="82" y="473"/>
                    </a:lnTo>
                    <a:lnTo>
                      <a:pt x="95" y="564"/>
                    </a:lnTo>
                    <a:lnTo>
                      <a:pt x="106" y="656"/>
                    </a:lnTo>
                    <a:lnTo>
                      <a:pt x="117" y="748"/>
                    </a:lnTo>
                    <a:lnTo>
                      <a:pt x="126" y="839"/>
                    </a:lnTo>
                    <a:lnTo>
                      <a:pt x="135" y="933"/>
                    </a:lnTo>
                    <a:lnTo>
                      <a:pt x="141" y="1025"/>
                    </a:lnTo>
                    <a:lnTo>
                      <a:pt x="147" y="1119"/>
                    </a:lnTo>
                    <a:lnTo>
                      <a:pt x="152" y="1212"/>
                    </a:lnTo>
                    <a:lnTo>
                      <a:pt x="155" y="1307"/>
                    </a:lnTo>
                    <a:lnTo>
                      <a:pt x="157" y="1400"/>
                    </a:lnTo>
                    <a:lnTo>
                      <a:pt x="157" y="1495"/>
                    </a:lnTo>
                    <a:lnTo>
                      <a:pt x="157" y="1588"/>
                    </a:lnTo>
                    <a:lnTo>
                      <a:pt x="155" y="1680"/>
                    </a:lnTo>
                    <a:lnTo>
                      <a:pt x="152" y="1773"/>
                    </a:lnTo>
                    <a:lnTo>
                      <a:pt x="147" y="1865"/>
                    </a:lnTo>
                    <a:lnTo>
                      <a:pt x="142" y="1957"/>
                    </a:lnTo>
                    <a:lnTo>
                      <a:pt x="136" y="2048"/>
                    </a:lnTo>
                    <a:lnTo>
                      <a:pt x="127" y="2139"/>
                    </a:lnTo>
                    <a:lnTo>
                      <a:pt x="119" y="2230"/>
                    </a:lnTo>
                    <a:lnTo>
                      <a:pt x="108" y="2320"/>
                    </a:lnTo>
                    <a:lnTo>
                      <a:pt x="97" y="2410"/>
                    </a:lnTo>
                    <a:lnTo>
                      <a:pt x="84" y="2499"/>
                    </a:lnTo>
                    <a:lnTo>
                      <a:pt x="71" y="2589"/>
                    </a:lnTo>
                    <a:lnTo>
                      <a:pt x="56" y="2678"/>
                    </a:lnTo>
                    <a:lnTo>
                      <a:pt x="40" y="2766"/>
                    </a:lnTo>
                    <a:lnTo>
                      <a:pt x="23" y="2854"/>
                    </a:lnTo>
                    <a:lnTo>
                      <a:pt x="5" y="2942"/>
                    </a:lnTo>
                    <a:lnTo>
                      <a:pt x="53" y="2933"/>
                    </a:lnTo>
                    <a:lnTo>
                      <a:pt x="80" y="2924"/>
                    </a:lnTo>
                    <a:lnTo>
                      <a:pt x="97" y="2837"/>
                    </a:lnTo>
                    <a:lnTo>
                      <a:pt x="114" y="2750"/>
                    </a:lnTo>
                    <a:lnTo>
                      <a:pt x="128" y="2662"/>
                    </a:lnTo>
                    <a:lnTo>
                      <a:pt x="143" y="2575"/>
                    </a:lnTo>
                    <a:lnTo>
                      <a:pt x="156" y="2487"/>
                    </a:lnTo>
                    <a:lnTo>
                      <a:pt x="168" y="2398"/>
                    </a:lnTo>
                    <a:lnTo>
                      <a:pt x="179" y="2309"/>
                    </a:lnTo>
                    <a:lnTo>
                      <a:pt x="188" y="2220"/>
                    </a:lnTo>
                    <a:lnTo>
                      <a:pt x="198" y="2130"/>
                    </a:lnTo>
                    <a:lnTo>
                      <a:pt x="205" y="2041"/>
                    </a:lnTo>
                    <a:lnTo>
                      <a:pt x="211" y="1950"/>
                    </a:lnTo>
                    <a:lnTo>
                      <a:pt x="217" y="1860"/>
                    </a:lnTo>
                    <a:lnTo>
                      <a:pt x="221" y="1769"/>
                    </a:lnTo>
                    <a:lnTo>
                      <a:pt x="224" y="1678"/>
                    </a:lnTo>
                    <a:lnTo>
                      <a:pt x="225" y="1587"/>
                    </a:lnTo>
                    <a:lnTo>
                      <a:pt x="226" y="149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18320" y="2522520"/>
                <a:ext cx="71280" cy="932040"/>
              </a:xfrm>
              <a:custGeom>
                <a:avLst/>
                <a:gdLst/>
                <a:ahLst/>
                <a:rect l="l" t="t" r="r" b="b"/>
                <a:pathLst>
                  <a:path w="225" h="2937">
                    <a:moveTo>
                      <a:pt x="225" y="1483"/>
                    </a:moveTo>
                    <a:lnTo>
                      <a:pt x="223" y="1388"/>
                    </a:lnTo>
                    <a:lnTo>
                      <a:pt x="222" y="1293"/>
                    </a:lnTo>
                    <a:lnTo>
                      <a:pt x="219" y="1198"/>
                    </a:lnTo>
                    <a:lnTo>
                      <a:pt x="214" y="1104"/>
                    </a:lnTo>
                    <a:lnTo>
                      <a:pt x="209" y="1010"/>
                    </a:lnTo>
                    <a:lnTo>
                      <a:pt x="201" y="916"/>
                    </a:lnTo>
                    <a:lnTo>
                      <a:pt x="193" y="822"/>
                    </a:lnTo>
                    <a:lnTo>
                      <a:pt x="185" y="730"/>
                    </a:lnTo>
                    <a:lnTo>
                      <a:pt x="173" y="637"/>
                    </a:lnTo>
                    <a:lnTo>
                      <a:pt x="161" y="545"/>
                    </a:lnTo>
                    <a:lnTo>
                      <a:pt x="149" y="453"/>
                    </a:lnTo>
                    <a:lnTo>
                      <a:pt x="134" y="361"/>
                    </a:lnTo>
                    <a:lnTo>
                      <a:pt x="119" y="271"/>
                    </a:lnTo>
                    <a:lnTo>
                      <a:pt x="103" y="180"/>
                    </a:lnTo>
                    <a:lnTo>
                      <a:pt x="85" y="89"/>
                    </a:lnTo>
                    <a:lnTo>
                      <a:pt x="66" y="0"/>
                    </a:lnTo>
                    <a:lnTo>
                      <a:pt x="28" y="13"/>
                    </a:lnTo>
                    <a:lnTo>
                      <a:pt x="0" y="20"/>
                    </a:lnTo>
                    <a:lnTo>
                      <a:pt x="18" y="108"/>
                    </a:lnTo>
                    <a:lnTo>
                      <a:pt x="35" y="197"/>
                    </a:lnTo>
                    <a:lnTo>
                      <a:pt x="52" y="287"/>
                    </a:lnTo>
                    <a:lnTo>
                      <a:pt x="67" y="377"/>
                    </a:lnTo>
                    <a:lnTo>
                      <a:pt x="80" y="467"/>
                    </a:lnTo>
                    <a:lnTo>
                      <a:pt x="94" y="558"/>
                    </a:lnTo>
                    <a:lnTo>
                      <a:pt x="106" y="649"/>
                    </a:lnTo>
                    <a:lnTo>
                      <a:pt x="116" y="740"/>
                    </a:lnTo>
                    <a:lnTo>
                      <a:pt x="126" y="832"/>
                    </a:lnTo>
                    <a:lnTo>
                      <a:pt x="133" y="924"/>
                    </a:lnTo>
                    <a:lnTo>
                      <a:pt x="140" y="1016"/>
                    </a:lnTo>
                    <a:lnTo>
                      <a:pt x="146" y="1109"/>
                    </a:lnTo>
                    <a:lnTo>
                      <a:pt x="150" y="1202"/>
                    </a:lnTo>
                    <a:lnTo>
                      <a:pt x="153" y="1296"/>
                    </a:lnTo>
                    <a:lnTo>
                      <a:pt x="155" y="1389"/>
                    </a:lnTo>
                    <a:lnTo>
                      <a:pt x="156" y="1483"/>
                    </a:lnTo>
                    <a:lnTo>
                      <a:pt x="155" y="1576"/>
                    </a:lnTo>
                    <a:lnTo>
                      <a:pt x="153" y="1670"/>
                    </a:lnTo>
                    <a:lnTo>
                      <a:pt x="150" y="1762"/>
                    </a:lnTo>
                    <a:lnTo>
                      <a:pt x="146" y="1854"/>
                    </a:lnTo>
                    <a:lnTo>
                      <a:pt x="140" y="1947"/>
                    </a:lnTo>
                    <a:lnTo>
                      <a:pt x="133" y="2039"/>
                    </a:lnTo>
                    <a:lnTo>
                      <a:pt x="126" y="2130"/>
                    </a:lnTo>
                    <a:lnTo>
                      <a:pt x="116" y="2221"/>
                    </a:lnTo>
                    <a:lnTo>
                      <a:pt x="106" y="2312"/>
                    </a:lnTo>
                    <a:lnTo>
                      <a:pt x="94" y="2402"/>
                    </a:lnTo>
                    <a:lnTo>
                      <a:pt x="82" y="2493"/>
                    </a:lnTo>
                    <a:lnTo>
                      <a:pt x="68" y="2582"/>
                    </a:lnTo>
                    <a:lnTo>
                      <a:pt x="53" y="2671"/>
                    </a:lnTo>
                    <a:lnTo>
                      <a:pt x="37" y="2760"/>
                    </a:lnTo>
                    <a:lnTo>
                      <a:pt x="20" y="2849"/>
                    </a:lnTo>
                    <a:lnTo>
                      <a:pt x="2" y="2937"/>
                    </a:lnTo>
                    <a:lnTo>
                      <a:pt x="75" y="2923"/>
                    </a:lnTo>
                    <a:lnTo>
                      <a:pt x="93" y="2836"/>
                    </a:lnTo>
                    <a:lnTo>
                      <a:pt x="110" y="2748"/>
                    </a:lnTo>
                    <a:lnTo>
                      <a:pt x="126" y="2660"/>
                    </a:lnTo>
                    <a:lnTo>
                      <a:pt x="139" y="2571"/>
                    </a:lnTo>
                    <a:lnTo>
                      <a:pt x="153" y="2482"/>
                    </a:lnTo>
                    <a:lnTo>
                      <a:pt x="166" y="2393"/>
                    </a:lnTo>
                    <a:lnTo>
                      <a:pt x="176" y="2304"/>
                    </a:lnTo>
                    <a:lnTo>
                      <a:pt x="187" y="2213"/>
                    </a:lnTo>
                    <a:lnTo>
                      <a:pt x="195" y="2123"/>
                    </a:lnTo>
                    <a:lnTo>
                      <a:pt x="203" y="2033"/>
                    </a:lnTo>
                    <a:lnTo>
                      <a:pt x="210" y="1943"/>
                    </a:lnTo>
                    <a:lnTo>
                      <a:pt x="215" y="1851"/>
                    </a:lnTo>
                    <a:lnTo>
                      <a:pt x="219" y="1760"/>
                    </a:lnTo>
                    <a:lnTo>
                      <a:pt x="222" y="1667"/>
                    </a:lnTo>
                    <a:lnTo>
                      <a:pt x="225" y="1575"/>
                    </a:lnTo>
                    <a:lnTo>
                      <a:pt x="225" y="148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07160" y="2525760"/>
                <a:ext cx="71280" cy="931680"/>
              </a:xfrm>
              <a:custGeom>
                <a:avLst/>
                <a:gdLst/>
                <a:ahLst/>
                <a:rect l="l" t="t" r="r" b="b"/>
                <a:pathLst>
                  <a:path w="225" h="2932">
                    <a:moveTo>
                      <a:pt x="225" y="1471"/>
                    </a:moveTo>
                    <a:lnTo>
                      <a:pt x="225" y="1376"/>
                    </a:lnTo>
                    <a:lnTo>
                      <a:pt x="223" y="1283"/>
                    </a:lnTo>
                    <a:lnTo>
                      <a:pt x="220" y="1188"/>
                    </a:lnTo>
                    <a:lnTo>
                      <a:pt x="215" y="1095"/>
                    </a:lnTo>
                    <a:lnTo>
                      <a:pt x="209" y="1001"/>
                    </a:lnTo>
                    <a:lnTo>
                      <a:pt x="203" y="909"/>
                    </a:lnTo>
                    <a:lnTo>
                      <a:pt x="194" y="815"/>
                    </a:lnTo>
                    <a:lnTo>
                      <a:pt x="185" y="724"/>
                    </a:lnTo>
                    <a:lnTo>
                      <a:pt x="174" y="632"/>
                    </a:lnTo>
                    <a:lnTo>
                      <a:pt x="163" y="540"/>
                    </a:lnTo>
                    <a:lnTo>
                      <a:pt x="150" y="449"/>
                    </a:lnTo>
                    <a:lnTo>
                      <a:pt x="135" y="359"/>
                    </a:lnTo>
                    <a:lnTo>
                      <a:pt x="121" y="268"/>
                    </a:lnTo>
                    <a:lnTo>
                      <a:pt x="104" y="178"/>
                    </a:lnTo>
                    <a:lnTo>
                      <a:pt x="87" y="89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1" y="15"/>
                    </a:lnTo>
                    <a:lnTo>
                      <a:pt x="20" y="104"/>
                    </a:lnTo>
                    <a:lnTo>
                      <a:pt x="37" y="193"/>
                    </a:lnTo>
                    <a:lnTo>
                      <a:pt x="53" y="281"/>
                    </a:lnTo>
                    <a:lnTo>
                      <a:pt x="68" y="371"/>
                    </a:lnTo>
                    <a:lnTo>
                      <a:pt x="82" y="461"/>
                    </a:lnTo>
                    <a:lnTo>
                      <a:pt x="94" y="551"/>
                    </a:lnTo>
                    <a:lnTo>
                      <a:pt x="106" y="641"/>
                    </a:lnTo>
                    <a:lnTo>
                      <a:pt x="117" y="732"/>
                    </a:lnTo>
                    <a:lnTo>
                      <a:pt x="126" y="823"/>
                    </a:lnTo>
                    <a:lnTo>
                      <a:pt x="134" y="915"/>
                    </a:lnTo>
                    <a:lnTo>
                      <a:pt x="141" y="1007"/>
                    </a:lnTo>
                    <a:lnTo>
                      <a:pt x="146" y="1099"/>
                    </a:lnTo>
                    <a:lnTo>
                      <a:pt x="150" y="1191"/>
                    </a:lnTo>
                    <a:lnTo>
                      <a:pt x="153" y="1285"/>
                    </a:lnTo>
                    <a:lnTo>
                      <a:pt x="155" y="1377"/>
                    </a:lnTo>
                    <a:lnTo>
                      <a:pt x="156" y="1471"/>
                    </a:lnTo>
                    <a:lnTo>
                      <a:pt x="155" y="1565"/>
                    </a:lnTo>
                    <a:lnTo>
                      <a:pt x="153" y="1659"/>
                    </a:lnTo>
                    <a:lnTo>
                      <a:pt x="150" y="1752"/>
                    </a:lnTo>
                    <a:lnTo>
                      <a:pt x="146" y="1844"/>
                    </a:lnTo>
                    <a:lnTo>
                      <a:pt x="141" y="1937"/>
                    </a:lnTo>
                    <a:lnTo>
                      <a:pt x="133" y="2029"/>
                    </a:lnTo>
                    <a:lnTo>
                      <a:pt x="126" y="2122"/>
                    </a:lnTo>
                    <a:lnTo>
                      <a:pt x="117" y="2213"/>
                    </a:lnTo>
                    <a:lnTo>
                      <a:pt x="106" y="2304"/>
                    </a:lnTo>
                    <a:lnTo>
                      <a:pt x="94" y="2395"/>
                    </a:lnTo>
                    <a:lnTo>
                      <a:pt x="82" y="2486"/>
                    </a:lnTo>
                    <a:lnTo>
                      <a:pt x="67" y="2575"/>
                    </a:lnTo>
                    <a:lnTo>
                      <a:pt x="52" y="2666"/>
                    </a:lnTo>
                    <a:lnTo>
                      <a:pt x="36" y="2755"/>
                    </a:lnTo>
                    <a:lnTo>
                      <a:pt x="19" y="2844"/>
                    </a:lnTo>
                    <a:lnTo>
                      <a:pt x="0" y="2932"/>
                    </a:lnTo>
                    <a:lnTo>
                      <a:pt x="73" y="2918"/>
                    </a:lnTo>
                    <a:lnTo>
                      <a:pt x="91" y="2830"/>
                    </a:lnTo>
                    <a:lnTo>
                      <a:pt x="108" y="2742"/>
                    </a:lnTo>
                    <a:lnTo>
                      <a:pt x="124" y="2654"/>
                    </a:lnTo>
                    <a:lnTo>
                      <a:pt x="139" y="2565"/>
                    </a:lnTo>
                    <a:lnTo>
                      <a:pt x="152" y="2475"/>
                    </a:lnTo>
                    <a:lnTo>
                      <a:pt x="165" y="2386"/>
                    </a:lnTo>
                    <a:lnTo>
                      <a:pt x="176" y="2296"/>
                    </a:lnTo>
                    <a:lnTo>
                      <a:pt x="187" y="2206"/>
                    </a:lnTo>
                    <a:lnTo>
                      <a:pt x="195" y="2115"/>
                    </a:lnTo>
                    <a:lnTo>
                      <a:pt x="204" y="2024"/>
                    </a:lnTo>
                    <a:lnTo>
                      <a:pt x="210" y="1933"/>
                    </a:lnTo>
                    <a:lnTo>
                      <a:pt x="215" y="1841"/>
                    </a:lnTo>
                    <a:lnTo>
                      <a:pt x="220" y="1749"/>
                    </a:lnTo>
                    <a:lnTo>
                      <a:pt x="223" y="1656"/>
                    </a:lnTo>
                    <a:lnTo>
                      <a:pt x="225" y="1564"/>
                    </a:lnTo>
                    <a:lnTo>
                      <a:pt x="225" y="147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794200" y="2529000"/>
                <a:ext cx="73080" cy="930240"/>
              </a:xfrm>
              <a:custGeom>
                <a:avLst/>
                <a:gdLst/>
                <a:ahLst/>
                <a:rect l="l" t="t" r="r" b="b"/>
                <a:pathLst>
                  <a:path w="228" h="2931">
                    <a:moveTo>
                      <a:pt x="228" y="1463"/>
                    </a:moveTo>
                    <a:lnTo>
                      <a:pt x="227" y="1369"/>
                    </a:lnTo>
                    <a:lnTo>
                      <a:pt x="225" y="1276"/>
                    </a:lnTo>
                    <a:lnTo>
                      <a:pt x="222" y="1182"/>
                    </a:lnTo>
                    <a:lnTo>
                      <a:pt x="218" y="1089"/>
                    </a:lnTo>
                    <a:lnTo>
                      <a:pt x="212" y="996"/>
                    </a:lnTo>
                    <a:lnTo>
                      <a:pt x="205" y="904"/>
                    </a:lnTo>
                    <a:lnTo>
                      <a:pt x="198" y="812"/>
                    </a:lnTo>
                    <a:lnTo>
                      <a:pt x="188" y="720"/>
                    </a:lnTo>
                    <a:lnTo>
                      <a:pt x="178" y="629"/>
                    </a:lnTo>
                    <a:lnTo>
                      <a:pt x="166" y="538"/>
                    </a:lnTo>
                    <a:lnTo>
                      <a:pt x="152" y="447"/>
                    </a:lnTo>
                    <a:lnTo>
                      <a:pt x="139" y="357"/>
                    </a:lnTo>
                    <a:lnTo>
                      <a:pt x="124" y="267"/>
                    </a:lnTo>
                    <a:lnTo>
                      <a:pt x="107" y="177"/>
                    </a:lnTo>
                    <a:lnTo>
                      <a:pt x="90" y="88"/>
                    </a:lnTo>
                    <a:lnTo>
                      <a:pt x="72" y="0"/>
                    </a:lnTo>
                    <a:lnTo>
                      <a:pt x="4" y="16"/>
                    </a:lnTo>
                    <a:lnTo>
                      <a:pt x="23" y="103"/>
                    </a:lnTo>
                    <a:lnTo>
                      <a:pt x="40" y="191"/>
                    </a:lnTo>
                    <a:lnTo>
                      <a:pt x="56" y="280"/>
                    </a:lnTo>
                    <a:lnTo>
                      <a:pt x="72" y="369"/>
                    </a:lnTo>
                    <a:lnTo>
                      <a:pt x="85" y="458"/>
                    </a:lnTo>
                    <a:lnTo>
                      <a:pt x="98" y="548"/>
                    </a:lnTo>
                    <a:lnTo>
                      <a:pt x="109" y="637"/>
                    </a:lnTo>
                    <a:lnTo>
                      <a:pt x="120" y="728"/>
                    </a:lnTo>
                    <a:lnTo>
                      <a:pt x="128" y="819"/>
                    </a:lnTo>
                    <a:lnTo>
                      <a:pt x="137" y="910"/>
                    </a:lnTo>
                    <a:lnTo>
                      <a:pt x="143" y="1002"/>
                    </a:lnTo>
                    <a:lnTo>
                      <a:pt x="149" y="1093"/>
                    </a:lnTo>
                    <a:lnTo>
                      <a:pt x="154" y="1185"/>
                    </a:lnTo>
                    <a:lnTo>
                      <a:pt x="157" y="1278"/>
                    </a:lnTo>
                    <a:lnTo>
                      <a:pt x="159" y="1370"/>
                    </a:lnTo>
                    <a:lnTo>
                      <a:pt x="159" y="1463"/>
                    </a:lnTo>
                    <a:lnTo>
                      <a:pt x="159" y="1557"/>
                    </a:lnTo>
                    <a:lnTo>
                      <a:pt x="157" y="1652"/>
                    </a:lnTo>
                    <a:lnTo>
                      <a:pt x="154" y="1745"/>
                    </a:lnTo>
                    <a:lnTo>
                      <a:pt x="148" y="1839"/>
                    </a:lnTo>
                    <a:lnTo>
                      <a:pt x="143" y="1931"/>
                    </a:lnTo>
                    <a:lnTo>
                      <a:pt x="136" y="2024"/>
                    </a:lnTo>
                    <a:lnTo>
                      <a:pt x="128" y="2117"/>
                    </a:lnTo>
                    <a:lnTo>
                      <a:pt x="119" y="2208"/>
                    </a:lnTo>
                    <a:lnTo>
                      <a:pt x="107" y="2301"/>
                    </a:lnTo>
                    <a:lnTo>
                      <a:pt x="96" y="2392"/>
                    </a:lnTo>
                    <a:lnTo>
                      <a:pt x="83" y="2482"/>
                    </a:lnTo>
                    <a:lnTo>
                      <a:pt x="68" y="2572"/>
                    </a:lnTo>
                    <a:lnTo>
                      <a:pt x="54" y="2663"/>
                    </a:lnTo>
                    <a:lnTo>
                      <a:pt x="37" y="2752"/>
                    </a:lnTo>
                    <a:lnTo>
                      <a:pt x="19" y="2842"/>
                    </a:lnTo>
                    <a:lnTo>
                      <a:pt x="0" y="2931"/>
                    </a:lnTo>
                    <a:lnTo>
                      <a:pt x="16" y="2928"/>
                    </a:lnTo>
                    <a:lnTo>
                      <a:pt x="74" y="2917"/>
                    </a:lnTo>
                    <a:lnTo>
                      <a:pt x="92" y="2829"/>
                    </a:lnTo>
                    <a:lnTo>
                      <a:pt x="109" y="2740"/>
                    </a:lnTo>
                    <a:lnTo>
                      <a:pt x="125" y="2651"/>
                    </a:lnTo>
                    <a:lnTo>
                      <a:pt x="140" y="2562"/>
                    </a:lnTo>
                    <a:lnTo>
                      <a:pt x="154" y="2473"/>
                    </a:lnTo>
                    <a:lnTo>
                      <a:pt x="166" y="2382"/>
                    </a:lnTo>
                    <a:lnTo>
                      <a:pt x="178" y="2292"/>
                    </a:lnTo>
                    <a:lnTo>
                      <a:pt x="188" y="2201"/>
                    </a:lnTo>
                    <a:lnTo>
                      <a:pt x="198" y="2110"/>
                    </a:lnTo>
                    <a:lnTo>
                      <a:pt x="205" y="2019"/>
                    </a:lnTo>
                    <a:lnTo>
                      <a:pt x="212" y="1927"/>
                    </a:lnTo>
                    <a:lnTo>
                      <a:pt x="218" y="1834"/>
                    </a:lnTo>
                    <a:lnTo>
                      <a:pt x="222" y="1742"/>
                    </a:lnTo>
                    <a:lnTo>
                      <a:pt x="225" y="1650"/>
                    </a:lnTo>
                    <a:lnTo>
                      <a:pt x="227" y="1556"/>
                    </a:lnTo>
                    <a:lnTo>
                      <a:pt x="228" y="146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783400" y="2530440"/>
                <a:ext cx="72720" cy="930240"/>
              </a:xfrm>
              <a:custGeom>
                <a:avLst/>
                <a:gdLst/>
                <a:ahLst/>
                <a:rect l="l" t="t" r="r" b="b"/>
                <a:pathLst>
                  <a:path w="229" h="2930">
                    <a:moveTo>
                      <a:pt x="229" y="1456"/>
                    </a:moveTo>
                    <a:lnTo>
                      <a:pt x="228" y="1362"/>
                    </a:lnTo>
                    <a:lnTo>
                      <a:pt x="226" y="1270"/>
                    </a:lnTo>
                    <a:lnTo>
                      <a:pt x="223" y="1176"/>
                    </a:lnTo>
                    <a:lnTo>
                      <a:pt x="219" y="1084"/>
                    </a:lnTo>
                    <a:lnTo>
                      <a:pt x="214" y="992"/>
                    </a:lnTo>
                    <a:lnTo>
                      <a:pt x="207" y="900"/>
                    </a:lnTo>
                    <a:lnTo>
                      <a:pt x="199" y="808"/>
                    </a:lnTo>
                    <a:lnTo>
                      <a:pt x="190" y="717"/>
                    </a:lnTo>
                    <a:lnTo>
                      <a:pt x="179" y="626"/>
                    </a:lnTo>
                    <a:lnTo>
                      <a:pt x="167" y="536"/>
                    </a:lnTo>
                    <a:lnTo>
                      <a:pt x="155" y="446"/>
                    </a:lnTo>
                    <a:lnTo>
                      <a:pt x="141" y="356"/>
                    </a:lnTo>
                    <a:lnTo>
                      <a:pt x="126" y="266"/>
                    </a:lnTo>
                    <a:lnTo>
                      <a:pt x="110" y="178"/>
                    </a:lnTo>
                    <a:lnTo>
                      <a:pt x="93" y="89"/>
                    </a:lnTo>
                    <a:lnTo>
                      <a:pt x="74" y="0"/>
                    </a:lnTo>
                    <a:lnTo>
                      <a:pt x="22" y="13"/>
                    </a:lnTo>
                    <a:lnTo>
                      <a:pt x="8" y="20"/>
                    </a:lnTo>
                    <a:lnTo>
                      <a:pt x="27" y="107"/>
                    </a:lnTo>
                    <a:lnTo>
                      <a:pt x="43" y="195"/>
                    </a:lnTo>
                    <a:lnTo>
                      <a:pt x="59" y="283"/>
                    </a:lnTo>
                    <a:lnTo>
                      <a:pt x="74" y="371"/>
                    </a:lnTo>
                    <a:lnTo>
                      <a:pt x="88" y="459"/>
                    </a:lnTo>
                    <a:lnTo>
                      <a:pt x="100" y="548"/>
                    </a:lnTo>
                    <a:lnTo>
                      <a:pt x="112" y="638"/>
                    </a:lnTo>
                    <a:lnTo>
                      <a:pt x="121" y="727"/>
                    </a:lnTo>
                    <a:lnTo>
                      <a:pt x="131" y="817"/>
                    </a:lnTo>
                    <a:lnTo>
                      <a:pt x="138" y="908"/>
                    </a:lnTo>
                    <a:lnTo>
                      <a:pt x="145" y="998"/>
                    </a:lnTo>
                    <a:lnTo>
                      <a:pt x="151" y="1089"/>
                    </a:lnTo>
                    <a:lnTo>
                      <a:pt x="155" y="1181"/>
                    </a:lnTo>
                    <a:lnTo>
                      <a:pt x="158" y="1272"/>
                    </a:lnTo>
                    <a:lnTo>
                      <a:pt x="160" y="1364"/>
                    </a:lnTo>
                    <a:lnTo>
                      <a:pt x="160" y="1456"/>
                    </a:lnTo>
                    <a:lnTo>
                      <a:pt x="160" y="1551"/>
                    </a:lnTo>
                    <a:lnTo>
                      <a:pt x="158" y="1645"/>
                    </a:lnTo>
                    <a:lnTo>
                      <a:pt x="155" y="1739"/>
                    </a:lnTo>
                    <a:lnTo>
                      <a:pt x="151" y="1833"/>
                    </a:lnTo>
                    <a:lnTo>
                      <a:pt x="144" y="1926"/>
                    </a:lnTo>
                    <a:lnTo>
                      <a:pt x="137" y="2019"/>
                    </a:lnTo>
                    <a:lnTo>
                      <a:pt x="129" y="2112"/>
                    </a:lnTo>
                    <a:lnTo>
                      <a:pt x="119" y="2204"/>
                    </a:lnTo>
                    <a:lnTo>
                      <a:pt x="109" y="2297"/>
                    </a:lnTo>
                    <a:lnTo>
                      <a:pt x="97" y="2388"/>
                    </a:lnTo>
                    <a:lnTo>
                      <a:pt x="83" y="2479"/>
                    </a:lnTo>
                    <a:lnTo>
                      <a:pt x="69" y="2571"/>
                    </a:lnTo>
                    <a:lnTo>
                      <a:pt x="54" y="2661"/>
                    </a:lnTo>
                    <a:lnTo>
                      <a:pt x="37" y="2750"/>
                    </a:lnTo>
                    <a:lnTo>
                      <a:pt x="19" y="2841"/>
                    </a:lnTo>
                    <a:lnTo>
                      <a:pt x="0" y="2930"/>
                    </a:lnTo>
                    <a:lnTo>
                      <a:pt x="52" y="2921"/>
                    </a:lnTo>
                    <a:lnTo>
                      <a:pt x="73" y="2917"/>
                    </a:lnTo>
                    <a:lnTo>
                      <a:pt x="92" y="2829"/>
                    </a:lnTo>
                    <a:lnTo>
                      <a:pt x="109" y="2740"/>
                    </a:lnTo>
                    <a:lnTo>
                      <a:pt x="125" y="2651"/>
                    </a:lnTo>
                    <a:lnTo>
                      <a:pt x="140" y="2560"/>
                    </a:lnTo>
                    <a:lnTo>
                      <a:pt x="155" y="2471"/>
                    </a:lnTo>
                    <a:lnTo>
                      <a:pt x="167" y="2380"/>
                    </a:lnTo>
                    <a:lnTo>
                      <a:pt x="179" y="2289"/>
                    </a:lnTo>
                    <a:lnTo>
                      <a:pt x="190" y="2198"/>
                    </a:lnTo>
                    <a:lnTo>
                      <a:pt x="199" y="2107"/>
                    </a:lnTo>
                    <a:lnTo>
                      <a:pt x="206" y="2014"/>
                    </a:lnTo>
                    <a:lnTo>
                      <a:pt x="214" y="1922"/>
                    </a:lnTo>
                    <a:lnTo>
                      <a:pt x="219" y="1829"/>
                    </a:lnTo>
                    <a:lnTo>
                      <a:pt x="223" y="1737"/>
                    </a:lnTo>
                    <a:lnTo>
                      <a:pt x="226" y="1644"/>
                    </a:lnTo>
                    <a:lnTo>
                      <a:pt x="228" y="1550"/>
                    </a:lnTo>
                    <a:lnTo>
                      <a:pt x="229" y="14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772240" y="2533680"/>
                <a:ext cx="73080" cy="928800"/>
              </a:xfrm>
              <a:custGeom>
                <a:avLst/>
                <a:gdLst/>
                <a:ahLst/>
                <a:rect l="l" t="t" r="r" b="b"/>
                <a:pathLst>
                  <a:path w="231" h="2926">
                    <a:moveTo>
                      <a:pt x="231" y="1447"/>
                    </a:moveTo>
                    <a:lnTo>
                      <a:pt x="231" y="1354"/>
                    </a:lnTo>
                    <a:lnTo>
                      <a:pt x="229" y="1262"/>
                    </a:lnTo>
                    <a:lnTo>
                      <a:pt x="226" y="1169"/>
                    </a:lnTo>
                    <a:lnTo>
                      <a:pt x="221" y="1077"/>
                    </a:lnTo>
                    <a:lnTo>
                      <a:pt x="215" y="986"/>
                    </a:lnTo>
                    <a:lnTo>
                      <a:pt x="209" y="894"/>
                    </a:lnTo>
                    <a:lnTo>
                      <a:pt x="200" y="803"/>
                    </a:lnTo>
                    <a:lnTo>
                      <a:pt x="192" y="712"/>
                    </a:lnTo>
                    <a:lnTo>
                      <a:pt x="181" y="621"/>
                    </a:lnTo>
                    <a:lnTo>
                      <a:pt x="170" y="532"/>
                    </a:lnTo>
                    <a:lnTo>
                      <a:pt x="157" y="442"/>
                    </a:lnTo>
                    <a:lnTo>
                      <a:pt x="144" y="353"/>
                    </a:lnTo>
                    <a:lnTo>
                      <a:pt x="128" y="264"/>
                    </a:lnTo>
                    <a:lnTo>
                      <a:pt x="112" y="175"/>
                    </a:lnTo>
                    <a:lnTo>
                      <a:pt x="95" y="87"/>
                    </a:lnTo>
                    <a:lnTo>
                      <a:pt x="76" y="0"/>
                    </a:lnTo>
                    <a:lnTo>
                      <a:pt x="58" y="4"/>
                    </a:lnTo>
                    <a:lnTo>
                      <a:pt x="12" y="27"/>
                    </a:lnTo>
                    <a:lnTo>
                      <a:pt x="30" y="113"/>
                    </a:lnTo>
                    <a:lnTo>
                      <a:pt x="47" y="199"/>
                    </a:lnTo>
                    <a:lnTo>
                      <a:pt x="63" y="286"/>
                    </a:lnTo>
                    <a:lnTo>
                      <a:pt x="77" y="374"/>
                    </a:lnTo>
                    <a:lnTo>
                      <a:pt x="90" y="462"/>
                    </a:lnTo>
                    <a:lnTo>
                      <a:pt x="103" y="549"/>
                    </a:lnTo>
                    <a:lnTo>
                      <a:pt x="114" y="637"/>
                    </a:lnTo>
                    <a:lnTo>
                      <a:pt x="124" y="726"/>
                    </a:lnTo>
                    <a:lnTo>
                      <a:pt x="133" y="816"/>
                    </a:lnTo>
                    <a:lnTo>
                      <a:pt x="140" y="905"/>
                    </a:lnTo>
                    <a:lnTo>
                      <a:pt x="147" y="994"/>
                    </a:lnTo>
                    <a:lnTo>
                      <a:pt x="152" y="1084"/>
                    </a:lnTo>
                    <a:lnTo>
                      <a:pt x="156" y="1175"/>
                    </a:lnTo>
                    <a:lnTo>
                      <a:pt x="159" y="1265"/>
                    </a:lnTo>
                    <a:lnTo>
                      <a:pt x="161" y="1355"/>
                    </a:lnTo>
                    <a:lnTo>
                      <a:pt x="162" y="1447"/>
                    </a:lnTo>
                    <a:lnTo>
                      <a:pt x="161" y="1542"/>
                    </a:lnTo>
                    <a:lnTo>
                      <a:pt x="159" y="1637"/>
                    </a:lnTo>
                    <a:lnTo>
                      <a:pt x="156" y="1731"/>
                    </a:lnTo>
                    <a:lnTo>
                      <a:pt x="152" y="1826"/>
                    </a:lnTo>
                    <a:lnTo>
                      <a:pt x="146" y="1919"/>
                    </a:lnTo>
                    <a:lnTo>
                      <a:pt x="138" y="2013"/>
                    </a:lnTo>
                    <a:lnTo>
                      <a:pt x="130" y="2106"/>
                    </a:lnTo>
                    <a:lnTo>
                      <a:pt x="120" y="2198"/>
                    </a:lnTo>
                    <a:lnTo>
                      <a:pt x="110" y="2291"/>
                    </a:lnTo>
                    <a:lnTo>
                      <a:pt x="97" y="2383"/>
                    </a:lnTo>
                    <a:lnTo>
                      <a:pt x="84" y="2475"/>
                    </a:lnTo>
                    <a:lnTo>
                      <a:pt x="70" y="2566"/>
                    </a:lnTo>
                    <a:lnTo>
                      <a:pt x="54" y="2656"/>
                    </a:lnTo>
                    <a:lnTo>
                      <a:pt x="36" y="2747"/>
                    </a:lnTo>
                    <a:lnTo>
                      <a:pt x="18" y="2837"/>
                    </a:lnTo>
                    <a:lnTo>
                      <a:pt x="0" y="2926"/>
                    </a:lnTo>
                    <a:lnTo>
                      <a:pt x="72" y="2915"/>
                    </a:lnTo>
                    <a:lnTo>
                      <a:pt x="91" y="2826"/>
                    </a:lnTo>
                    <a:lnTo>
                      <a:pt x="109" y="2736"/>
                    </a:lnTo>
                    <a:lnTo>
                      <a:pt x="126" y="2647"/>
                    </a:lnTo>
                    <a:lnTo>
                      <a:pt x="140" y="2556"/>
                    </a:lnTo>
                    <a:lnTo>
                      <a:pt x="155" y="2466"/>
                    </a:lnTo>
                    <a:lnTo>
                      <a:pt x="168" y="2376"/>
                    </a:lnTo>
                    <a:lnTo>
                      <a:pt x="179" y="2285"/>
                    </a:lnTo>
                    <a:lnTo>
                      <a:pt x="191" y="2192"/>
                    </a:lnTo>
                    <a:lnTo>
                      <a:pt x="200" y="2101"/>
                    </a:lnTo>
                    <a:lnTo>
                      <a:pt x="208" y="2008"/>
                    </a:lnTo>
                    <a:lnTo>
                      <a:pt x="215" y="1915"/>
                    </a:lnTo>
                    <a:lnTo>
                      <a:pt x="220" y="1823"/>
                    </a:lnTo>
                    <a:lnTo>
                      <a:pt x="226" y="1729"/>
                    </a:lnTo>
                    <a:lnTo>
                      <a:pt x="229" y="1636"/>
                    </a:lnTo>
                    <a:lnTo>
                      <a:pt x="231" y="1541"/>
                    </a:lnTo>
                    <a:lnTo>
                      <a:pt x="231" y="144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59280" y="2536920"/>
                <a:ext cx="74880" cy="927000"/>
              </a:xfrm>
              <a:custGeom>
                <a:avLst/>
                <a:gdLst/>
                <a:ahLst/>
                <a:rect l="l" t="t" r="r" b="b"/>
                <a:pathLst>
                  <a:path w="233" h="2921">
                    <a:moveTo>
                      <a:pt x="233" y="1436"/>
                    </a:moveTo>
                    <a:lnTo>
                      <a:pt x="233" y="1344"/>
                    </a:lnTo>
                    <a:lnTo>
                      <a:pt x="231" y="1252"/>
                    </a:lnTo>
                    <a:lnTo>
                      <a:pt x="228" y="1161"/>
                    </a:lnTo>
                    <a:lnTo>
                      <a:pt x="224" y="1069"/>
                    </a:lnTo>
                    <a:lnTo>
                      <a:pt x="218" y="978"/>
                    </a:lnTo>
                    <a:lnTo>
                      <a:pt x="211" y="888"/>
                    </a:lnTo>
                    <a:lnTo>
                      <a:pt x="204" y="797"/>
                    </a:lnTo>
                    <a:lnTo>
                      <a:pt x="194" y="707"/>
                    </a:lnTo>
                    <a:lnTo>
                      <a:pt x="185" y="618"/>
                    </a:lnTo>
                    <a:lnTo>
                      <a:pt x="173" y="528"/>
                    </a:lnTo>
                    <a:lnTo>
                      <a:pt x="161" y="439"/>
                    </a:lnTo>
                    <a:lnTo>
                      <a:pt x="147" y="351"/>
                    </a:lnTo>
                    <a:lnTo>
                      <a:pt x="132" y="263"/>
                    </a:lnTo>
                    <a:lnTo>
                      <a:pt x="116" y="175"/>
                    </a:lnTo>
                    <a:lnTo>
                      <a:pt x="100" y="87"/>
                    </a:lnTo>
                    <a:lnTo>
                      <a:pt x="81" y="0"/>
                    </a:lnTo>
                    <a:lnTo>
                      <a:pt x="41" y="20"/>
                    </a:lnTo>
                    <a:lnTo>
                      <a:pt x="17" y="29"/>
                    </a:lnTo>
                    <a:lnTo>
                      <a:pt x="34" y="114"/>
                    </a:lnTo>
                    <a:lnTo>
                      <a:pt x="51" y="200"/>
                    </a:lnTo>
                    <a:lnTo>
                      <a:pt x="66" y="286"/>
                    </a:lnTo>
                    <a:lnTo>
                      <a:pt x="81" y="372"/>
                    </a:lnTo>
                    <a:lnTo>
                      <a:pt x="93" y="459"/>
                    </a:lnTo>
                    <a:lnTo>
                      <a:pt x="106" y="546"/>
                    </a:lnTo>
                    <a:lnTo>
                      <a:pt x="117" y="633"/>
                    </a:lnTo>
                    <a:lnTo>
                      <a:pt x="127" y="722"/>
                    </a:lnTo>
                    <a:lnTo>
                      <a:pt x="135" y="810"/>
                    </a:lnTo>
                    <a:lnTo>
                      <a:pt x="144" y="898"/>
                    </a:lnTo>
                    <a:lnTo>
                      <a:pt x="150" y="987"/>
                    </a:lnTo>
                    <a:lnTo>
                      <a:pt x="155" y="1077"/>
                    </a:lnTo>
                    <a:lnTo>
                      <a:pt x="160" y="1166"/>
                    </a:lnTo>
                    <a:lnTo>
                      <a:pt x="163" y="1255"/>
                    </a:lnTo>
                    <a:lnTo>
                      <a:pt x="164" y="1345"/>
                    </a:lnTo>
                    <a:lnTo>
                      <a:pt x="165" y="1436"/>
                    </a:lnTo>
                    <a:lnTo>
                      <a:pt x="164" y="1531"/>
                    </a:lnTo>
                    <a:lnTo>
                      <a:pt x="162" y="1627"/>
                    </a:lnTo>
                    <a:lnTo>
                      <a:pt x="158" y="1721"/>
                    </a:lnTo>
                    <a:lnTo>
                      <a:pt x="154" y="1816"/>
                    </a:lnTo>
                    <a:lnTo>
                      <a:pt x="148" y="1910"/>
                    </a:lnTo>
                    <a:lnTo>
                      <a:pt x="141" y="2004"/>
                    </a:lnTo>
                    <a:lnTo>
                      <a:pt x="132" y="2097"/>
                    </a:lnTo>
                    <a:lnTo>
                      <a:pt x="123" y="2191"/>
                    </a:lnTo>
                    <a:lnTo>
                      <a:pt x="111" y="2283"/>
                    </a:lnTo>
                    <a:lnTo>
                      <a:pt x="100" y="2375"/>
                    </a:lnTo>
                    <a:lnTo>
                      <a:pt x="86" y="2468"/>
                    </a:lnTo>
                    <a:lnTo>
                      <a:pt x="71" y="2559"/>
                    </a:lnTo>
                    <a:lnTo>
                      <a:pt x="55" y="2650"/>
                    </a:lnTo>
                    <a:lnTo>
                      <a:pt x="38" y="2741"/>
                    </a:lnTo>
                    <a:lnTo>
                      <a:pt x="20" y="2831"/>
                    </a:lnTo>
                    <a:lnTo>
                      <a:pt x="0" y="2921"/>
                    </a:lnTo>
                    <a:lnTo>
                      <a:pt x="73" y="2910"/>
                    </a:lnTo>
                    <a:lnTo>
                      <a:pt x="92" y="2821"/>
                    </a:lnTo>
                    <a:lnTo>
                      <a:pt x="110" y="2730"/>
                    </a:lnTo>
                    <a:lnTo>
                      <a:pt x="127" y="2641"/>
                    </a:lnTo>
                    <a:lnTo>
                      <a:pt x="142" y="2551"/>
                    </a:lnTo>
                    <a:lnTo>
                      <a:pt x="156" y="2459"/>
                    </a:lnTo>
                    <a:lnTo>
                      <a:pt x="170" y="2368"/>
                    </a:lnTo>
                    <a:lnTo>
                      <a:pt x="182" y="2277"/>
                    </a:lnTo>
                    <a:lnTo>
                      <a:pt x="192" y="2184"/>
                    </a:lnTo>
                    <a:lnTo>
                      <a:pt x="202" y="2092"/>
                    </a:lnTo>
                    <a:lnTo>
                      <a:pt x="210" y="1999"/>
                    </a:lnTo>
                    <a:lnTo>
                      <a:pt x="217" y="1906"/>
                    </a:lnTo>
                    <a:lnTo>
                      <a:pt x="224" y="1813"/>
                    </a:lnTo>
                    <a:lnTo>
                      <a:pt x="228" y="1719"/>
                    </a:lnTo>
                    <a:lnTo>
                      <a:pt x="231" y="1625"/>
                    </a:lnTo>
                    <a:lnTo>
                      <a:pt x="233" y="1531"/>
                    </a:lnTo>
                    <a:lnTo>
                      <a:pt x="233" y="1436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748480" y="2541600"/>
                <a:ext cx="74520" cy="925560"/>
              </a:xfrm>
              <a:custGeom>
                <a:avLst/>
                <a:gdLst/>
                <a:ahLst/>
                <a:rect l="l" t="t" r="r" b="b"/>
                <a:pathLst>
                  <a:path w="235" h="2911">
                    <a:moveTo>
                      <a:pt x="235" y="1420"/>
                    </a:moveTo>
                    <a:lnTo>
                      <a:pt x="234" y="1328"/>
                    </a:lnTo>
                    <a:lnTo>
                      <a:pt x="232" y="1238"/>
                    </a:lnTo>
                    <a:lnTo>
                      <a:pt x="229" y="1148"/>
                    </a:lnTo>
                    <a:lnTo>
                      <a:pt x="225" y="1057"/>
                    </a:lnTo>
                    <a:lnTo>
                      <a:pt x="220" y="967"/>
                    </a:lnTo>
                    <a:lnTo>
                      <a:pt x="213" y="878"/>
                    </a:lnTo>
                    <a:lnTo>
                      <a:pt x="206" y="789"/>
                    </a:lnTo>
                    <a:lnTo>
                      <a:pt x="197" y="699"/>
                    </a:lnTo>
                    <a:lnTo>
                      <a:pt x="187" y="610"/>
                    </a:lnTo>
                    <a:lnTo>
                      <a:pt x="176" y="522"/>
                    </a:lnTo>
                    <a:lnTo>
                      <a:pt x="163" y="435"/>
                    </a:lnTo>
                    <a:lnTo>
                      <a:pt x="150" y="347"/>
                    </a:lnTo>
                    <a:lnTo>
                      <a:pt x="136" y="259"/>
                    </a:lnTo>
                    <a:lnTo>
                      <a:pt x="120" y="172"/>
                    </a:lnTo>
                    <a:lnTo>
                      <a:pt x="103" y="86"/>
                    </a:lnTo>
                    <a:lnTo>
                      <a:pt x="85" y="0"/>
                    </a:lnTo>
                    <a:lnTo>
                      <a:pt x="77" y="4"/>
                    </a:lnTo>
                    <a:lnTo>
                      <a:pt x="20" y="24"/>
                    </a:lnTo>
                    <a:lnTo>
                      <a:pt x="38" y="108"/>
                    </a:lnTo>
                    <a:lnTo>
                      <a:pt x="54" y="193"/>
                    </a:lnTo>
                    <a:lnTo>
                      <a:pt x="69" y="279"/>
                    </a:lnTo>
                    <a:lnTo>
                      <a:pt x="83" y="364"/>
                    </a:lnTo>
                    <a:lnTo>
                      <a:pt x="97" y="450"/>
                    </a:lnTo>
                    <a:lnTo>
                      <a:pt x="108" y="538"/>
                    </a:lnTo>
                    <a:lnTo>
                      <a:pt x="119" y="624"/>
                    </a:lnTo>
                    <a:lnTo>
                      <a:pt x="129" y="711"/>
                    </a:lnTo>
                    <a:lnTo>
                      <a:pt x="138" y="799"/>
                    </a:lnTo>
                    <a:lnTo>
                      <a:pt x="145" y="886"/>
                    </a:lnTo>
                    <a:lnTo>
                      <a:pt x="151" y="974"/>
                    </a:lnTo>
                    <a:lnTo>
                      <a:pt x="157" y="1063"/>
                    </a:lnTo>
                    <a:lnTo>
                      <a:pt x="161" y="1152"/>
                    </a:lnTo>
                    <a:lnTo>
                      <a:pt x="164" y="1241"/>
                    </a:lnTo>
                    <a:lnTo>
                      <a:pt x="166" y="1330"/>
                    </a:lnTo>
                    <a:lnTo>
                      <a:pt x="166" y="1420"/>
                    </a:lnTo>
                    <a:lnTo>
                      <a:pt x="166" y="1516"/>
                    </a:lnTo>
                    <a:lnTo>
                      <a:pt x="164" y="1612"/>
                    </a:lnTo>
                    <a:lnTo>
                      <a:pt x="160" y="1706"/>
                    </a:lnTo>
                    <a:lnTo>
                      <a:pt x="156" y="1802"/>
                    </a:lnTo>
                    <a:lnTo>
                      <a:pt x="149" y="1896"/>
                    </a:lnTo>
                    <a:lnTo>
                      <a:pt x="142" y="1991"/>
                    </a:lnTo>
                    <a:lnTo>
                      <a:pt x="134" y="2084"/>
                    </a:lnTo>
                    <a:lnTo>
                      <a:pt x="124" y="2178"/>
                    </a:lnTo>
                    <a:lnTo>
                      <a:pt x="113" y="2271"/>
                    </a:lnTo>
                    <a:lnTo>
                      <a:pt x="100" y="2364"/>
                    </a:lnTo>
                    <a:lnTo>
                      <a:pt x="86" y="2456"/>
                    </a:lnTo>
                    <a:lnTo>
                      <a:pt x="72" y="2547"/>
                    </a:lnTo>
                    <a:lnTo>
                      <a:pt x="56" y="2639"/>
                    </a:lnTo>
                    <a:lnTo>
                      <a:pt x="38" y="2730"/>
                    </a:lnTo>
                    <a:lnTo>
                      <a:pt x="19" y="2820"/>
                    </a:lnTo>
                    <a:lnTo>
                      <a:pt x="0" y="2911"/>
                    </a:lnTo>
                    <a:lnTo>
                      <a:pt x="73" y="2899"/>
                    </a:lnTo>
                    <a:lnTo>
                      <a:pt x="91" y="2810"/>
                    </a:lnTo>
                    <a:lnTo>
                      <a:pt x="109" y="2720"/>
                    </a:lnTo>
                    <a:lnTo>
                      <a:pt x="127" y="2629"/>
                    </a:lnTo>
                    <a:lnTo>
                      <a:pt x="143" y="2539"/>
                    </a:lnTo>
                    <a:lnTo>
                      <a:pt x="157" y="2448"/>
                    </a:lnTo>
                    <a:lnTo>
                      <a:pt x="170" y="2356"/>
                    </a:lnTo>
                    <a:lnTo>
                      <a:pt x="183" y="2264"/>
                    </a:lnTo>
                    <a:lnTo>
                      <a:pt x="193" y="2171"/>
                    </a:lnTo>
                    <a:lnTo>
                      <a:pt x="203" y="2079"/>
                    </a:lnTo>
                    <a:lnTo>
                      <a:pt x="211" y="1986"/>
                    </a:lnTo>
                    <a:lnTo>
                      <a:pt x="219" y="1892"/>
                    </a:lnTo>
                    <a:lnTo>
                      <a:pt x="225" y="1799"/>
                    </a:lnTo>
                    <a:lnTo>
                      <a:pt x="229" y="1704"/>
                    </a:lnTo>
                    <a:lnTo>
                      <a:pt x="232" y="1610"/>
                    </a:lnTo>
                    <a:lnTo>
                      <a:pt x="234" y="1515"/>
                    </a:lnTo>
                    <a:lnTo>
                      <a:pt x="235" y="1420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737320" y="2546280"/>
                <a:ext cx="74520" cy="920880"/>
              </a:xfrm>
              <a:custGeom>
                <a:avLst/>
                <a:gdLst/>
                <a:ahLst/>
                <a:rect l="l" t="t" r="r" b="b"/>
                <a:pathLst>
                  <a:path w="237" h="2900">
                    <a:moveTo>
                      <a:pt x="237" y="1407"/>
                    </a:moveTo>
                    <a:lnTo>
                      <a:pt x="236" y="1316"/>
                    </a:lnTo>
                    <a:lnTo>
                      <a:pt x="235" y="1226"/>
                    </a:lnTo>
                    <a:lnTo>
                      <a:pt x="232" y="1137"/>
                    </a:lnTo>
                    <a:lnTo>
                      <a:pt x="227" y="1048"/>
                    </a:lnTo>
                    <a:lnTo>
                      <a:pt x="222" y="958"/>
                    </a:lnTo>
                    <a:lnTo>
                      <a:pt x="216" y="869"/>
                    </a:lnTo>
                    <a:lnTo>
                      <a:pt x="207" y="781"/>
                    </a:lnTo>
                    <a:lnTo>
                      <a:pt x="199" y="693"/>
                    </a:lnTo>
                    <a:lnTo>
                      <a:pt x="189" y="604"/>
                    </a:lnTo>
                    <a:lnTo>
                      <a:pt x="178" y="517"/>
                    </a:lnTo>
                    <a:lnTo>
                      <a:pt x="166" y="430"/>
                    </a:lnTo>
                    <a:lnTo>
                      <a:pt x="153" y="343"/>
                    </a:lnTo>
                    <a:lnTo>
                      <a:pt x="138" y="257"/>
                    </a:lnTo>
                    <a:lnTo>
                      <a:pt x="123" y="171"/>
                    </a:lnTo>
                    <a:lnTo>
                      <a:pt x="106" y="85"/>
                    </a:lnTo>
                    <a:lnTo>
                      <a:pt x="89" y="0"/>
                    </a:lnTo>
                    <a:lnTo>
                      <a:pt x="27" y="21"/>
                    </a:lnTo>
                    <a:lnTo>
                      <a:pt x="23" y="21"/>
                    </a:lnTo>
                    <a:lnTo>
                      <a:pt x="40" y="105"/>
                    </a:lnTo>
                    <a:lnTo>
                      <a:pt x="56" y="190"/>
                    </a:lnTo>
                    <a:lnTo>
                      <a:pt x="72" y="275"/>
                    </a:lnTo>
                    <a:lnTo>
                      <a:pt x="85" y="360"/>
                    </a:lnTo>
                    <a:lnTo>
                      <a:pt x="98" y="445"/>
                    </a:lnTo>
                    <a:lnTo>
                      <a:pt x="111" y="531"/>
                    </a:lnTo>
                    <a:lnTo>
                      <a:pt x="121" y="617"/>
                    </a:lnTo>
                    <a:lnTo>
                      <a:pt x="131" y="703"/>
                    </a:lnTo>
                    <a:lnTo>
                      <a:pt x="139" y="790"/>
                    </a:lnTo>
                    <a:lnTo>
                      <a:pt x="147" y="877"/>
                    </a:lnTo>
                    <a:lnTo>
                      <a:pt x="154" y="965"/>
                    </a:lnTo>
                    <a:lnTo>
                      <a:pt x="159" y="1053"/>
                    </a:lnTo>
                    <a:lnTo>
                      <a:pt x="162" y="1141"/>
                    </a:lnTo>
                    <a:lnTo>
                      <a:pt x="165" y="1229"/>
                    </a:lnTo>
                    <a:lnTo>
                      <a:pt x="167" y="1318"/>
                    </a:lnTo>
                    <a:lnTo>
                      <a:pt x="168" y="1407"/>
                    </a:lnTo>
                    <a:lnTo>
                      <a:pt x="167" y="1503"/>
                    </a:lnTo>
                    <a:lnTo>
                      <a:pt x="165" y="1599"/>
                    </a:lnTo>
                    <a:lnTo>
                      <a:pt x="162" y="1694"/>
                    </a:lnTo>
                    <a:lnTo>
                      <a:pt x="157" y="1789"/>
                    </a:lnTo>
                    <a:lnTo>
                      <a:pt x="151" y="1883"/>
                    </a:lnTo>
                    <a:lnTo>
                      <a:pt x="143" y="1978"/>
                    </a:lnTo>
                    <a:lnTo>
                      <a:pt x="135" y="2072"/>
                    </a:lnTo>
                    <a:lnTo>
                      <a:pt x="125" y="2166"/>
                    </a:lnTo>
                    <a:lnTo>
                      <a:pt x="114" y="2259"/>
                    </a:lnTo>
                    <a:lnTo>
                      <a:pt x="101" y="2352"/>
                    </a:lnTo>
                    <a:lnTo>
                      <a:pt x="88" y="2444"/>
                    </a:lnTo>
                    <a:lnTo>
                      <a:pt x="73" y="2535"/>
                    </a:lnTo>
                    <a:lnTo>
                      <a:pt x="56" y="2628"/>
                    </a:lnTo>
                    <a:lnTo>
                      <a:pt x="38" y="2718"/>
                    </a:lnTo>
                    <a:lnTo>
                      <a:pt x="20" y="2809"/>
                    </a:lnTo>
                    <a:lnTo>
                      <a:pt x="0" y="2900"/>
                    </a:lnTo>
                    <a:lnTo>
                      <a:pt x="27" y="2900"/>
                    </a:lnTo>
                    <a:lnTo>
                      <a:pt x="72" y="2892"/>
                    </a:lnTo>
                    <a:lnTo>
                      <a:pt x="92" y="2802"/>
                    </a:lnTo>
                    <a:lnTo>
                      <a:pt x="110" y="2712"/>
                    </a:lnTo>
                    <a:lnTo>
                      <a:pt x="127" y="2621"/>
                    </a:lnTo>
                    <a:lnTo>
                      <a:pt x="143" y="2530"/>
                    </a:lnTo>
                    <a:lnTo>
                      <a:pt x="158" y="2439"/>
                    </a:lnTo>
                    <a:lnTo>
                      <a:pt x="172" y="2346"/>
                    </a:lnTo>
                    <a:lnTo>
                      <a:pt x="183" y="2254"/>
                    </a:lnTo>
                    <a:lnTo>
                      <a:pt x="195" y="2162"/>
                    </a:lnTo>
                    <a:lnTo>
                      <a:pt x="204" y="2068"/>
                    </a:lnTo>
                    <a:lnTo>
                      <a:pt x="213" y="1975"/>
                    </a:lnTo>
                    <a:lnTo>
                      <a:pt x="220" y="1881"/>
                    </a:lnTo>
                    <a:lnTo>
                      <a:pt x="226" y="1787"/>
                    </a:lnTo>
                    <a:lnTo>
                      <a:pt x="230" y="1692"/>
                    </a:lnTo>
                    <a:lnTo>
                      <a:pt x="234" y="1598"/>
                    </a:lnTo>
                    <a:lnTo>
                      <a:pt x="236" y="1502"/>
                    </a:lnTo>
                    <a:lnTo>
                      <a:pt x="237" y="140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726160" y="2549520"/>
                <a:ext cx="74520" cy="917640"/>
              </a:xfrm>
              <a:custGeom>
                <a:avLst/>
                <a:gdLst/>
                <a:ahLst/>
                <a:rect l="l" t="t" r="r" b="b"/>
                <a:pathLst>
                  <a:path w="237" h="2889">
                    <a:moveTo>
                      <a:pt x="237" y="1396"/>
                    </a:moveTo>
                    <a:lnTo>
                      <a:pt x="237" y="1306"/>
                    </a:lnTo>
                    <a:lnTo>
                      <a:pt x="235" y="1217"/>
                    </a:lnTo>
                    <a:lnTo>
                      <a:pt x="232" y="1128"/>
                    </a:lnTo>
                    <a:lnTo>
                      <a:pt x="228" y="1039"/>
                    </a:lnTo>
                    <a:lnTo>
                      <a:pt x="222" y="950"/>
                    </a:lnTo>
                    <a:lnTo>
                      <a:pt x="216" y="862"/>
                    </a:lnTo>
                    <a:lnTo>
                      <a:pt x="209" y="775"/>
                    </a:lnTo>
                    <a:lnTo>
                      <a:pt x="200" y="687"/>
                    </a:lnTo>
                    <a:lnTo>
                      <a:pt x="190" y="600"/>
                    </a:lnTo>
                    <a:lnTo>
                      <a:pt x="179" y="514"/>
                    </a:lnTo>
                    <a:lnTo>
                      <a:pt x="168" y="426"/>
                    </a:lnTo>
                    <a:lnTo>
                      <a:pt x="154" y="340"/>
                    </a:lnTo>
                    <a:lnTo>
                      <a:pt x="140" y="255"/>
                    </a:lnTo>
                    <a:lnTo>
                      <a:pt x="125" y="169"/>
                    </a:lnTo>
                    <a:lnTo>
                      <a:pt x="109" y="84"/>
                    </a:lnTo>
                    <a:lnTo>
                      <a:pt x="91" y="0"/>
                    </a:lnTo>
                    <a:lnTo>
                      <a:pt x="62" y="10"/>
                    </a:lnTo>
                    <a:lnTo>
                      <a:pt x="23" y="10"/>
                    </a:lnTo>
                    <a:lnTo>
                      <a:pt x="41" y="94"/>
                    </a:lnTo>
                    <a:lnTo>
                      <a:pt x="56" y="179"/>
                    </a:lnTo>
                    <a:lnTo>
                      <a:pt x="71" y="264"/>
                    </a:lnTo>
                    <a:lnTo>
                      <a:pt x="86" y="349"/>
                    </a:lnTo>
                    <a:lnTo>
                      <a:pt x="98" y="434"/>
                    </a:lnTo>
                    <a:lnTo>
                      <a:pt x="111" y="520"/>
                    </a:lnTo>
                    <a:lnTo>
                      <a:pt x="121" y="606"/>
                    </a:lnTo>
                    <a:lnTo>
                      <a:pt x="131" y="692"/>
                    </a:lnTo>
                    <a:lnTo>
                      <a:pt x="140" y="779"/>
                    </a:lnTo>
                    <a:lnTo>
                      <a:pt x="148" y="866"/>
                    </a:lnTo>
                    <a:lnTo>
                      <a:pt x="154" y="954"/>
                    </a:lnTo>
                    <a:lnTo>
                      <a:pt x="159" y="1042"/>
                    </a:lnTo>
                    <a:lnTo>
                      <a:pt x="164" y="1130"/>
                    </a:lnTo>
                    <a:lnTo>
                      <a:pt x="167" y="1218"/>
                    </a:lnTo>
                    <a:lnTo>
                      <a:pt x="168" y="1307"/>
                    </a:lnTo>
                    <a:lnTo>
                      <a:pt x="169" y="1396"/>
                    </a:lnTo>
                    <a:lnTo>
                      <a:pt x="168" y="1492"/>
                    </a:lnTo>
                    <a:lnTo>
                      <a:pt x="166" y="1588"/>
                    </a:lnTo>
                    <a:lnTo>
                      <a:pt x="162" y="1683"/>
                    </a:lnTo>
                    <a:lnTo>
                      <a:pt x="157" y="1778"/>
                    </a:lnTo>
                    <a:lnTo>
                      <a:pt x="152" y="1873"/>
                    </a:lnTo>
                    <a:lnTo>
                      <a:pt x="145" y="1967"/>
                    </a:lnTo>
                    <a:lnTo>
                      <a:pt x="135" y="2061"/>
                    </a:lnTo>
                    <a:lnTo>
                      <a:pt x="126" y="2155"/>
                    </a:lnTo>
                    <a:lnTo>
                      <a:pt x="114" y="2248"/>
                    </a:lnTo>
                    <a:lnTo>
                      <a:pt x="102" y="2341"/>
                    </a:lnTo>
                    <a:lnTo>
                      <a:pt x="88" y="2433"/>
                    </a:lnTo>
                    <a:lnTo>
                      <a:pt x="73" y="2524"/>
                    </a:lnTo>
                    <a:lnTo>
                      <a:pt x="56" y="2617"/>
                    </a:lnTo>
                    <a:lnTo>
                      <a:pt x="38" y="2707"/>
                    </a:lnTo>
                    <a:lnTo>
                      <a:pt x="20" y="2798"/>
                    </a:lnTo>
                    <a:lnTo>
                      <a:pt x="0" y="2889"/>
                    </a:lnTo>
                    <a:lnTo>
                      <a:pt x="62" y="2889"/>
                    </a:lnTo>
                    <a:lnTo>
                      <a:pt x="70" y="2887"/>
                    </a:lnTo>
                    <a:lnTo>
                      <a:pt x="90" y="2796"/>
                    </a:lnTo>
                    <a:lnTo>
                      <a:pt x="109" y="2706"/>
                    </a:lnTo>
                    <a:lnTo>
                      <a:pt x="127" y="2615"/>
                    </a:lnTo>
                    <a:lnTo>
                      <a:pt x="143" y="2523"/>
                    </a:lnTo>
                    <a:lnTo>
                      <a:pt x="157" y="2432"/>
                    </a:lnTo>
                    <a:lnTo>
                      <a:pt x="171" y="2340"/>
                    </a:lnTo>
                    <a:lnTo>
                      <a:pt x="184" y="2247"/>
                    </a:lnTo>
                    <a:lnTo>
                      <a:pt x="195" y="2154"/>
                    </a:lnTo>
                    <a:lnTo>
                      <a:pt x="205" y="2060"/>
                    </a:lnTo>
                    <a:lnTo>
                      <a:pt x="213" y="1967"/>
                    </a:lnTo>
                    <a:lnTo>
                      <a:pt x="220" y="1872"/>
                    </a:lnTo>
                    <a:lnTo>
                      <a:pt x="227" y="1778"/>
                    </a:lnTo>
                    <a:lnTo>
                      <a:pt x="231" y="1682"/>
                    </a:lnTo>
                    <a:lnTo>
                      <a:pt x="235" y="1588"/>
                    </a:lnTo>
                    <a:lnTo>
                      <a:pt x="237" y="1492"/>
                    </a:lnTo>
                    <a:lnTo>
                      <a:pt x="237" y="1396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715000" y="2552760"/>
                <a:ext cx="76320" cy="914400"/>
              </a:xfrm>
              <a:custGeom>
                <a:avLst/>
                <a:gdLst/>
                <a:ahLst/>
                <a:rect l="l" t="t" r="r" b="b"/>
                <a:pathLst>
                  <a:path w="238" h="2879">
                    <a:moveTo>
                      <a:pt x="238" y="1386"/>
                    </a:moveTo>
                    <a:lnTo>
                      <a:pt x="237" y="1297"/>
                    </a:lnTo>
                    <a:lnTo>
                      <a:pt x="235" y="1208"/>
                    </a:lnTo>
                    <a:lnTo>
                      <a:pt x="232" y="1120"/>
                    </a:lnTo>
                    <a:lnTo>
                      <a:pt x="229" y="1032"/>
                    </a:lnTo>
                    <a:lnTo>
                      <a:pt x="224" y="944"/>
                    </a:lnTo>
                    <a:lnTo>
                      <a:pt x="217" y="856"/>
                    </a:lnTo>
                    <a:lnTo>
                      <a:pt x="209" y="769"/>
                    </a:lnTo>
                    <a:lnTo>
                      <a:pt x="201" y="682"/>
                    </a:lnTo>
                    <a:lnTo>
                      <a:pt x="191" y="596"/>
                    </a:lnTo>
                    <a:lnTo>
                      <a:pt x="181" y="510"/>
                    </a:lnTo>
                    <a:lnTo>
                      <a:pt x="168" y="424"/>
                    </a:lnTo>
                    <a:lnTo>
                      <a:pt x="155" y="339"/>
                    </a:lnTo>
                    <a:lnTo>
                      <a:pt x="142" y="254"/>
                    </a:lnTo>
                    <a:lnTo>
                      <a:pt x="126" y="169"/>
                    </a:lnTo>
                    <a:lnTo>
                      <a:pt x="110" y="84"/>
                    </a:lnTo>
                    <a:lnTo>
                      <a:pt x="93" y="0"/>
                    </a:lnTo>
                    <a:lnTo>
                      <a:pt x="23" y="0"/>
                    </a:lnTo>
                    <a:lnTo>
                      <a:pt x="40" y="84"/>
                    </a:lnTo>
                    <a:lnTo>
                      <a:pt x="57" y="169"/>
                    </a:lnTo>
                    <a:lnTo>
                      <a:pt x="71" y="254"/>
                    </a:lnTo>
                    <a:lnTo>
                      <a:pt x="86" y="339"/>
                    </a:lnTo>
                    <a:lnTo>
                      <a:pt x="99" y="424"/>
                    </a:lnTo>
                    <a:lnTo>
                      <a:pt x="111" y="510"/>
                    </a:lnTo>
                    <a:lnTo>
                      <a:pt x="122" y="596"/>
                    </a:lnTo>
                    <a:lnTo>
                      <a:pt x="132" y="682"/>
                    </a:lnTo>
                    <a:lnTo>
                      <a:pt x="141" y="769"/>
                    </a:lnTo>
                    <a:lnTo>
                      <a:pt x="148" y="856"/>
                    </a:lnTo>
                    <a:lnTo>
                      <a:pt x="154" y="944"/>
                    </a:lnTo>
                    <a:lnTo>
                      <a:pt x="160" y="1032"/>
                    </a:lnTo>
                    <a:lnTo>
                      <a:pt x="164" y="1120"/>
                    </a:lnTo>
                    <a:lnTo>
                      <a:pt x="167" y="1208"/>
                    </a:lnTo>
                    <a:lnTo>
                      <a:pt x="168" y="1297"/>
                    </a:lnTo>
                    <a:lnTo>
                      <a:pt x="169" y="1386"/>
                    </a:lnTo>
                    <a:lnTo>
                      <a:pt x="168" y="1482"/>
                    </a:lnTo>
                    <a:lnTo>
                      <a:pt x="166" y="1578"/>
                    </a:lnTo>
                    <a:lnTo>
                      <a:pt x="163" y="1673"/>
                    </a:lnTo>
                    <a:lnTo>
                      <a:pt x="159" y="1768"/>
                    </a:lnTo>
                    <a:lnTo>
                      <a:pt x="152" y="1863"/>
                    </a:lnTo>
                    <a:lnTo>
                      <a:pt x="145" y="1957"/>
                    </a:lnTo>
                    <a:lnTo>
                      <a:pt x="135" y="2051"/>
                    </a:lnTo>
                    <a:lnTo>
                      <a:pt x="126" y="2145"/>
                    </a:lnTo>
                    <a:lnTo>
                      <a:pt x="114" y="2238"/>
                    </a:lnTo>
                    <a:lnTo>
                      <a:pt x="102" y="2331"/>
                    </a:lnTo>
                    <a:lnTo>
                      <a:pt x="88" y="2423"/>
                    </a:lnTo>
                    <a:lnTo>
                      <a:pt x="72" y="2515"/>
                    </a:lnTo>
                    <a:lnTo>
                      <a:pt x="57" y="2607"/>
                    </a:lnTo>
                    <a:lnTo>
                      <a:pt x="39" y="2697"/>
                    </a:lnTo>
                    <a:lnTo>
                      <a:pt x="20" y="2788"/>
                    </a:lnTo>
                    <a:lnTo>
                      <a:pt x="0" y="2879"/>
                    </a:lnTo>
                    <a:lnTo>
                      <a:pt x="70" y="2879"/>
                    </a:lnTo>
                    <a:lnTo>
                      <a:pt x="90" y="2788"/>
                    </a:lnTo>
                    <a:lnTo>
                      <a:pt x="108" y="2697"/>
                    </a:lnTo>
                    <a:lnTo>
                      <a:pt x="126" y="2607"/>
                    </a:lnTo>
                    <a:lnTo>
                      <a:pt x="143" y="2514"/>
                    </a:lnTo>
                    <a:lnTo>
                      <a:pt x="158" y="2423"/>
                    </a:lnTo>
                    <a:lnTo>
                      <a:pt x="171" y="2331"/>
                    </a:lnTo>
                    <a:lnTo>
                      <a:pt x="184" y="2238"/>
                    </a:lnTo>
                    <a:lnTo>
                      <a:pt x="195" y="2145"/>
                    </a:lnTo>
                    <a:lnTo>
                      <a:pt x="205" y="2051"/>
                    </a:lnTo>
                    <a:lnTo>
                      <a:pt x="213" y="1957"/>
                    </a:lnTo>
                    <a:lnTo>
                      <a:pt x="221" y="1862"/>
                    </a:lnTo>
                    <a:lnTo>
                      <a:pt x="227" y="1768"/>
                    </a:lnTo>
                    <a:lnTo>
                      <a:pt x="232" y="1673"/>
                    </a:lnTo>
                    <a:lnTo>
                      <a:pt x="235" y="1578"/>
                    </a:lnTo>
                    <a:lnTo>
                      <a:pt x="237" y="1482"/>
                    </a:lnTo>
                    <a:lnTo>
                      <a:pt x="238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703840" y="2552760"/>
                <a:ext cx="76320" cy="914400"/>
              </a:xfrm>
              <a:custGeom>
                <a:avLst/>
                <a:gdLst/>
                <a:ahLst/>
                <a:rect l="l" t="t" r="r" b="b"/>
                <a:pathLst>
                  <a:path w="240" h="2879">
                    <a:moveTo>
                      <a:pt x="240" y="1386"/>
                    </a:moveTo>
                    <a:lnTo>
                      <a:pt x="239" y="1297"/>
                    </a:lnTo>
                    <a:lnTo>
                      <a:pt x="238" y="1208"/>
                    </a:lnTo>
                    <a:lnTo>
                      <a:pt x="235" y="1120"/>
                    </a:lnTo>
                    <a:lnTo>
                      <a:pt x="230" y="1032"/>
                    </a:lnTo>
                    <a:lnTo>
                      <a:pt x="225" y="944"/>
                    </a:lnTo>
                    <a:lnTo>
                      <a:pt x="219" y="856"/>
                    </a:lnTo>
                    <a:lnTo>
                      <a:pt x="211" y="769"/>
                    </a:lnTo>
                    <a:lnTo>
                      <a:pt x="202" y="682"/>
                    </a:lnTo>
                    <a:lnTo>
                      <a:pt x="192" y="596"/>
                    </a:lnTo>
                    <a:lnTo>
                      <a:pt x="182" y="510"/>
                    </a:lnTo>
                    <a:lnTo>
                      <a:pt x="169" y="424"/>
                    </a:lnTo>
                    <a:lnTo>
                      <a:pt x="157" y="339"/>
                    </a:lnTo>
                    <a:lnTo>
                      <a:pt x="142" y="254"/>
                    </a:lnTo>
                    <a:lnTo>
                      <a:pt x="127" y="169"/>
                    </a:lnTo>
                    <a:lnTo>
                      <a:pt x="112" y="84"/>
                    </a:lnTo>
                    <a:lnTo>
                      <a:pt x="94" y="0"/>
                    </a:lnTo>
                    <a:lnTo>
                      <a:pt x="47" y="0"/>
                    </a:lnTo>
                    <a:lnTo>
                      <a:pt x="25" y="10"/>
                    </a:lnTo>
                    <a:lnTo>
                      <a:pt x="43" y="94"/>
                    </a:lnTo>
                    <a:lnTo>
                      <a:pt x="59" y="178"/>
                    </a:lnTo>
                    <a:lnTo>
                      <a:pt x="74" y="262"/>
                    </a:lnTo>
                    <a:lnTo>
                      <a:pt x="88" y="346"/>
                    </a:lnTo>
                    <a:lnTo>
                      <a:pt x="101" y="431"/>
                    </a:lnTo>
                    <a:lnTo>
                      <a:pt x="114" y="516"/>
                    </a:lnTo>
                    <a:lnTo>
                      <a:pt x="124" y="602"/>
                    </a:lnTo>
                    <a:lnTo>
                      <a:pt x="134" y="687"/>
                    </a:lnTo>
                    <a:lnTo>
                      <a:pt x="142" y="773"/>
                    </a:lnTo>
                    <a:lnTo>
                      <a:pt x="149" y="861"/>
                    </a:lnTo>
                    <a:lnTo>
                      <a:pt x="156" y="948"/>
                    </a:lnTo>
                    <a:lnTo>
                      <a:pt x="161" y="1034"/>
                    </a:lnTo>
                    <a:lnTo>
                      <a:pt x="165" y="1122"/>
                    </a:lnTo>
                    <a:lnTo>
                      <a:pt x="168" y="1209"/>
                    </a:lnTo>
                    <a:lnTo>
                      <a:pt x="170" y="1297"/>
                    </a:lnTo>
                    <a:lnTo>
                      <a:pt x="170" y="1386"/>
                    </a:lnTo>
                    <a:lnTo>
                      <a:pt x="170" y="1482"/>
                    </a:lnTo>
                    <a:lnTo>
                      <a:pt x="168" y="1578"/>
                    </a:lnTo>
                    <a:lnTo>
                      <a:pt x="164" y="1673"/>
                    </a:lnTo>
                    <a:lnTo>
                      <a:pt x="160" y="1768"/>
                    </a:lnTo>
                    <a:lnTo>
                      <a:pt x="154" y="1863"/>
                    </a:lnTo>
                    <a:lnTo>
                      <a:pt x="146" y="1957"/>
                    </a:lnTo>
                    <a:lnTo>
                      <a:pt x="137" y="2051"/>
                    </a:lnTo>
                    <a:lnTo>
                      <a:pt x="127" y="2145"/>
                    </a:lnTo>
                    <a:lnTo>
                      <a:pt x="116" y="2238"/>
                    </a:lnTo>
                    <a:lnTo>
                      <a:pt x="103" y="2331"/>
                    </a:lnTo>
                    <a:lnTo>
                      <a:pt x="88" y="2423"/>
                    </a:lnTo>
                    <a:lnTo>
                      <a:pt x="74" y="2515"/>
                    </a:lnTo>
                    <a:lnTo>
                      <a:pt x="57" y="2607"/>
                    </a:lnTo>
                    <a:lnTo>
                      <a:pt x="39" y="2697"/>
                    </a:lnTo>
                    <a:lnTo>
                      <a:pt x="20" y="2788"/>
                    </a:lnTo>
                    <a:lnTo>
                      <a:pt x="0" y="2879"/>
                    </a:lnTo>
                    <a:lnTo>
                      <a:pt x="71" y="2879"/>
                    </a:lnTo>
                    <a:lnTo>
                      <a:pt x="91" y="2788"/>
                    </a:lnTo>
                    <a:lnTo>
                      <a:pt x="109" y="2697"/>
                    </a:lnTo>
                    <a:lnTo>
                      <a:pt x="127" y="2607"/>
                    </a:lnTo>
                    <a:lnTo>
                      <a:pt x="144" y="2514"/>
                    </a:lnTo>
                    <a:lnTo>
                      <a:pt x="159" y="2423"/>
                    </a:lnTo>
                    <a:lnTo>
                      <a:pt x="173" y="2331"/>
                    </a:lnTo>
                    <a:lnTo>
                      <a:pt x="185" y="2238"/>
                    </a:lnTo>
                    <a:lnTo>
                      <a:pt x="197" y="2145"/>
                    </a:lnTo>
                    <a:lnTo>
                      <a:pt x="206" y="2051"/>
                    </a:lnTo>
                    <a:lnTo>
                      <a:pt x="216" y="1957"/>
                    </a:lnTo>
                    <a:lnTo>
                      <a:pt x="223" y="1863"/>
                    </a:lnTo>
                    <a:lnTo>
                      <a:pt x="228" y="1768"/>
                    </a:lnTo>
                    <a:lnTo>
                      <a:pt x="233" y="1673"/>
                    </a:lnTo>
                    <a:lnTo>
                      <a:pt x="237" y="1578"/>
                    </a:lnTo>
                    <a:lnTo>
                      <a:pt x="239" y="1482"/>
                    </a:lnTo>
                    <a:lnTo>
                      <a:pt x="240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91240" y="2552760"/>
                <a:ext cx="77760" cy="915840"/>
              </a:xfrm>
              <a:custGeom>
                <a:avLst/>
                <a:gdLst/>
                <a:ahLst/>
                <a:rect l="l" t="t" r="r" b="b"/>
                <a:pathLst>
                  <a:path w="242" h="2883">
                    <a:moveTo>
                      <a:pt x="242" y="1386"/>
                    </a:moveTo>
                    <a:lnTo>
                      <a:pt x="241" y="1297"/>
                    </a:lnTo>
                    <a:lnTo>
                      <a:pt x="240" y="1208"/>
                    </a:lnTo>
                    <a:lnTo>
                      <a:pt x="237" y="1120"/>
                    </a:lnTo>
                    <a:lnTo>
                      <a:pt x="233" y="1032"/>
                    </a:lnTo>
                    <a:lnTo>
                      <a:pt x="227" y="944"/>
                    </a:lnTo>
                    <a:lnTo>
                      <a:pt x="221" y="856"/>
                    </a:lnTo>
                    <a:lnTo>
                      <a:pt x="214" y="769"/>
                    </a:lnTo>
                    <a:lnTo>
                      <a:pt x="205" y="682"/>
                    </a:lnTo>
                    <a:lnTo>
                      <a:pt x="195" y="596"/>
                    </a:lnTo>
                    <a:lnTo>
                      <a:pt x="184" y="510"/>
                    </a:lnTo>
                    <a:lnTo>
                      <a:pt x="172" y="424"/>
                    </a:lnTo>
                    <a:lnTo>
                      <a:pt x="159" y="339"/>
                    </a:lnTo>
                    <a:lnTo>
                      <a:pt x="144" y="254"/>
                    </a:lnTo>
                    <a:lnTo>
                      <a:pt x="130" y="169"/>
                    </a:lnTo>
                    <a:lnTo>
                      <a:pt x="113" y="84"/>
                    </a:lnTo>
                    <a:lnTo>
                      <a:pt x="96" y="0"/>
                    </a:lnTo>
                    <a:lnTo>
                      <a:pt x="84" y="0"/>
                    </a:lnTo>
                    <a:lnTo>
                      <a:pt x="31" y="26"/>
                    </a:lnTo>
                    <a:lnTo>
                      <a:pt x="48" y="108"/>
                    </a:lnTo>
                    <a:lnTo>
                      <a:pt x="63" y="191"/>
                    </a:lnTo>
                    <a:lnTo>
                      <a:pt x="78" y="275"/>
                    </a:lnTo>
                    <a:lnTo>
                      <a:pt x="93" y="358"/>
                    </a:lnTo>
                    <a:lnTo>
                      <a:pt x="105" y="442"/>
                    </a:lnTo>
                    <a:lnTo>
                      <a:pt x="117" y="526"/>
                    </a:lnTo>
                    <a:lnTo>
                      <a:pt x="128" y="611"/>
                    </a:lnTo>
                    <a:lnTo>
                      <a:pt x="137" y="696"/>
                    </a:lnTo>
                    <a:lnTo>
                      <a:pt x="145" y="781"/>
                    </a:lnTo>
                    <a:lnTo>
                      <a:pt x="153" y="866"/>
                    </a:lnTo>
                    <a:lnTo>
                      <a:pt x="159" y="952"/>
                    </a:lnTo>
                    <a:lnTo>
                      <a:pt x="164" y="1038"/>
                    </a:lnTo>
                    <a:lnTo>
                      <a:pt x="169" y="1125"/>
                    </a:lnTo>
                    <a:lnTo>
                      <a:pt x="171" y="1211"/>
                    </a:lnTo>
                    <a:lnTo>
                      <a:pt x="173" y="1298"/>
                    </a:lnTo>
                    <a:lnTo>
                      <a:pt x="174" y="1386"/>
                    </a:lnTo>
                    <a:lnTo>
                      <a:pt x="173" y="1482"/>
                    </a:lnTo>
                    <a:lnTo>
                      <a:pt x="171" y="1579"/>
                    </a:lnTo>
                    <a:lnTo>
                      <a:pt x="167" y="1674"/>
                    </a:lnTo>
                    <a:lnTo>
                      <a:pt x="162" y="1770"/>
                    </a:lnTo>
                    <a:lnTo>
                      <a:pt x="156" y="1864"/>
                    </a:lnTo>
                    <a:lnTo>
                      <a:pt x="149" y="1959"/>
                    </a:lnTo>
                    <a:lnTo>
                      <a:pt x="139" y="2053"/>
                    </a:lnTo>
                    <a:lnTo>
                      <a:pt x="130" y="2148"/>
                    </a:lnTo>
                    <a:lnTo>
                      <a:pt x="118" y="2241"/>
                    </a:lnTo>
                    <a:lnTo>
                      <a:pt x="104" y="2334"/>
                    </a:lnTo>
                    <a:lnTo>
                      <a:pt x="91" y="2426"/>
                    </a:lnTo>
                    <a:lnTo>
                      <a:pt x="75" y="2519"/>
                    </a:lnTo>
                    <a:lnTo>
                      <a:pt x="58" y="2611"/>
                    </a:lnTo>
                    <a:lnTo>
                      <a:pt x="40" y="2702"/>
                    </a:lnTo>
                    <a:lnTo>
                      <a:pt x="21" y="2793"/>
                    </a:lnTo>
                    <a:lnTo>
                      <a:pt x="0" y="2883"/>
                    </a:lnTo>
                    <a:lnTo>
                      <a:pt x="28" y="2879"/>
                    </a:lnTo>
                    <a:lnTo>
                      <a:pt x="73" y="2879"/>
                    </a:lnTo>
                    <a:lnTo>
                      <a:pt x="93" y="2788"/>
                    </a:lnTo>
                    <a:lnTo>
                      <a:pt x="112" y="2697"/>
                    </a:lnTo>
                    <a:lnTo>
                      <a:pt x="130" y="2607"/>
                    </a:lnTo>
                    <a:lnTo>
                      <a:pt x="145" y="2515"/>
                    </a:lnTo>
                    <a:lnTo>
                      <a:pt x="161" y="2423"/>
                    </a:lnTo>
                    <a:lnTo>
                      <a:pt x="175" y="2331"/>
                    </a:lnTo>
                    <a:lnTo>
                      <a:pt x="187" y="2238"/>
                    </a:lnTo>
                    <a:lnTo>
                      <a:pt x="199" y="2145"/>
                    </a:lnTo>
                    <a:lnTo>
                      <a:pt x="208" y="2051"/>
                    </a:lnTo>
                    <a:lnTo>
                      <a:pt x="218" y="1957"/>
                    </a:lnTo>
                    <a:lnTo>
                      <a:pt x="225" y="1863"/>
                    </a:lnTo>
                    <a:lnTo>
                      <a:pt x="232" y="1768"/>
                    </a:lnTo>
                    <a:lnTo>
                      <a:pt x="236" y="1673"/>
                    </a:lnTo>
                    <a:lnTo>
                      <a:pt x="239" y="1578"/>
                    </a:lnTo>
                    <a:lnTo>
                      <a:pt x="241" y="1482"/>
                    </a:lnTo>
                    <a:lnTo>
                      <a:pt x="242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80080" y="2556000"/>
                <a:ext cx="77760" cy="914400"/>
              </a:xfrm>
              <a:custGeom>
                <a:avLst/>
                <a:gdLst/>
                <a:ahLst/>
                <a:rect l="l" t="t" r="r" b="b"/>
                <a:pathLst>
                  <a:path w="243" h="2879">
                    <a:moveTo>
                      <a:pt x="243" y="1376"/>
                    </a:moveTo>
                    <a:lnTo>
                      <a:pt x="243" y="1287"/>
                    </a:lnTo>
                    <a:lnTo>
                      <a:pt x="241" y="1199"/>
                    </a:lnTo>
                    <a:lnTo>
                      <a:pt x="238" y="1112"/>
                    </a:lnTo>
                    <a:lnTo>
                      <a:pt x="234" y="1024"/>
                    </a:lnTo>
                    <a:lnTo>
                      <a:pt x="229" y="938"/>
                    </a:lnTo>
                    <a:lnTo>
                      <a:pt x="222" y="851"/>
                    </a:lnTo>
                    <a:lnTo>
                      <a:pt x="215" y="763"/>
                    </a:lnTo>
                    <a:lnTo>
                      <a:pt x="207" y="677"/>
                    </a:lnTo>
                    <a:lnTo>
                      <a:pt x="197" y="592"/>
                    </a:lnTo>
                    <a:lnTo>
                      <a:pt x="187" y="506"/>
                    </a:lnTo>
                    <a:lnTo>
                      <a:pt x="174" y="421"/>
                    </a:lnTo>
                    <a:lnTo>
                      <a:pt x="161" y="336"/>
                    </a:lnTo>
                    <a:lnTo>
                      <a:pt x="147" y="252"/>
                    </a:lnTo>
                    <a:lnTo>
                      <a:pt x="132" y="168"/>
                    </a:lnTo>
                    <a:lnTo>
                      <a:pt x="116" y="84"/>
                    </a:lnTo>
                    <a:lnTo>
                      <a:pt x="98" y="0"/>
                    </a:lnTo>
                    <a:lnTo>
                      <a:pt x="64" y="17"/>
                    </a:lnTo>
                    <a:lnTo>
                      <a:pt x="32" y="17"/>
                    </a:lnTo>
                    <a:lnTo>
                      <a:pt x="49" y="100"/>
                    </a:lnTo>
                    <a:lnTo>
                      <a:pt x="65" y="182"/>
                    </a:lnTo>
                    <a:lnTo>
                      <a:pt x="79" y="266"/>
                    </a:lnTo>
                    <a:lnTo>
                      <a:pt x="94" y="349"/>
                    </a:lnTo>
                    <a:lnTo>
                      <a:pt x="107" y="433"/>
                    </a:lnTo>
                    <a:lnTo>
                      <a:pt x="118" y="517"/>
                    </a:lnTo>
                    <a:lnTo>
                      <a:pt x="129" y="602"/>
                    </a:lnTo>
                    <a:lnTo>
                      <a:pt x="138" y="686"/>
                    </a:lnTo>
                    <a:lnTo>
                      <a:pt x="147" y="771"/>
                    </a:lnTo>
                    <a:lnTo>
                      <a:pt x="154" y="857"/>
                    </a:lnTo>
                    <a:lnTo>
                      <a:pt x="160" y="943"/>
                    </a:lnTo>
                    <a:lnTo>
                      <a:pt x="166" y="1029"/>
                    </a:lnTo>
                    <a:lnTo>
                      <a:pt x="170" y="1115"/>
                    </a:lnTo>
                    <a:lnTo>
                      <a:pt x="173" y="1201"/>
                    </a:lnTo>
                    <a:lnTo>
                      <a:pt x="174" y="1288"/>
                    </a:lnTo>
                    <a:lnTo>
                      <a:pt x="175" y="1376"/>
                    </a:lnTo>
                    <a:lnTo>
                      <a:pt x="174" y="1473"/>
                    </a:lnTo>
                    <a:lnTo>
                      <a:pt x="172" y="1570"/>
                    </a:lnTo>
                    <a:lnTo>
                      <a:pt x="169" y="1665"/>
                    </a:lnTo>
                    <a:lnTo>
                      <a:pt x="164" y="1761"/>
                    </a:lnTo>
                    <a:lnTo>
                      <a:pt x="157" y="1857"/>
                    </a:lnTo>
                    <a:lnTo>
                      <a:pt x="150" y="1952"/>
                    </a:lnTo>
                    <a:lnTo>
                      <a:pt x="140" y="2047"/>
                    </a:lnTo>
                    <a:lnTo>
                      <a:pt x="130" y="2141"/>
                    </a:lnTo>
                    <a:lnTo>
                      <a:pt x="118" y="2235"/>
                    </a:lnTo>
                    <a:lnTo>
                      <a:pt x="106" y="2328"/>
                    </a:lnTo>
                    <a:lnTo>
                      <a:pt x="91" y="2421"/>
                    </a:lnTo>
                    <a:lnTo>
                      <a:pt x="75" y="2514"/>
                    </a:lnTo>
                    <a:lnTo>
                      <a:pt x="58" y="2606"/>
                    </a:lnTo>
                    <a:lnTo>
                      <a:pt x="39" y="2698"/>
                    </a:lnTo>
                    <a:lnTo>
                      <a:pt x="21" y="2789"/>
                    </a:lnTo>
                    <a:lnTo>
                      <a:pt x="0" y="2879"/>
                    </a:lnTo>
                    <a:lnTo>
                      <a:pt x="64" y="2869"/>
                    </a:lnTo>
                    <a:lnTo>
                      <a:pt x="73" y="2869"/>
                    </a:lnTo>
                    <a:lnTo>
                      <a:pt x="93" y="2778"/>
                    </a:lnTo>
                    <a:lnTo>
                      <a:pt x="112" y="2687"/>
                    </a:lnTo>
                    <a:lnTo>
                      <a:pt x="130" y="2597"/>
                    </a:lnTo>
                    <a:lnTo>
                      <a:pt x="147" y="2505"/>
                    </a:lnTo>
                    <a:lnTo>
                      <a:pt x="161" y="2413"/>
                    </a:lnTo>
                    <a:lnTo>
                      <a:pt x="176" y="2321"/>
                    </a:lnTo>
                    <a:lnTo>
                      <a:pt x="189" y="2228"/>
                    </a:lnTo>
                    <a:lnTo>
                      <a:pt x="200" y="2135"/>
                    </a:lnTo>
                    <a:lnTo>
                      <a:pt x="210" y="2041"/>
                    </a:lnTo>
                    <a:lnTo>
                      <a:pt x="219" y="1947"/>
                    </a:lnTo>
                    <a:lnTo>
                      <a:pt x="227" y="1853"/>
                    </a:lnTo>
                    <a:lnTo>
                      <a:pt x="233" y="1758"/>
                    </a:lnTo>
                    <a:lnTo>
                      <a:pt x="237" y="1663"/>
                    </a:lnTo>
                    <a:lnTo>
                      <a:pt x="241" y="1568"/>
                    </a:lnTo>
                    <a:lnTo>
                      <a:pt x="243" y="1472"/>
                    </a:lnTo>
                    <a:lnTo>
                      <a:pt x="243" y="137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668920" y="2560680"/>
                <a:ext cx="77760" cy="912600"/>
              </a:xfrm>
              <a:custGeom>
                <a:avLst/>
                <a:gdLst/>
                <a:ahLst/>
                <a:rect l="l" t="t" r="r" b="b"/>
                <a:pathLst>
                  <a:path w="247" h="2871">
                    <a:moveTo>
                      <a:pt x="247" y="1360"/>
                    </a:moveTo>
                    <a:lnTo>
                      <a:pt x="246" y="1272"/>
                    </a:lnTo>
                    <a:lnTo>
                      <a:pt x="244" y="1185"/>
                    </a:lnTo>
                    <a:lnTo>
                      <a:pt x="242" y="1099"/>
                    </a:lnTo>
                    <a:lnTo>
                      <a:pt x="237" y="1012"/>
                    </a:lnTo>
                    <a:lnTo>
                      <a:pt x="232" y="926"/>
                    </a:lnTo>
                    <a:lnTo>
                      <a:pt x="226" y="840"/>
                    </a:lnTo>
                    <a:lnTo>
                      <a:pt x="218" y="755"/>
                    </a:lnTo>
                    <a:lnTo>
                      <a:pt x="210" y="670"/>
                    </a:lnTo>
                    <a:lnTo>
                      <a:pt x="201" y="585"/>
                    </a:lnTo>
                    <a:lnTo>
                      <a:pt x="190" y="500"/>
                    </a:lnTo>
                    <a:lnTo>
                      <a:pt x="178" y="416"/>
                    </a:lnTo>
                    <a:lnTo>
                      <a:pt x="166" y="332"/>
                    </a:lnTo>
                    <a:lnTo>
                      <a:pt x="151" y="249"/>
                    </a:lnTo>
                    <a:lnTo>
                      <a:pt x="136" y="165"/>
                    </a:lnTo>
                    <a:lnTo>
                      <a:pt x="121" y="82"/>
                    </a:lnTo>
                    <a:lnTo>
                      <a:pt x="104" y="0"/>
                    </a:lnTo>
                    <a:lnTo>
                      <a:pt x="101" y="1"/>
                    </a:lnTo>
                    <a:lnTo>
                      <a:pt x="46" y="1"/>
                    </a:lnTo>
                    <a:lnTo>
                      <a:pt x="33" y="1"/>
                    </a:lnTo>
                    <a:lnTo>
                      <a:pt x="51" y="84"/>
                    </a:lnTo>
                    <a:lnTo>
                      <a:pt x="67" y="166"/>
                    </a:lnTo>
                    <a:lnTo>
                      <a:pt x="82" y="250"/>
                    </a:lnTo>
                    <a:lnTo>
                      <a:pt x="95" y="333"/>
                    </a:lnTo>
                    <a:lnTo>
                      <a:pt x="109" y="417"/>
                    </a:lnTo>
                    <a:lnTo>
                      <a:pt x="121" y="501"/>
                    </a:lnTo>
                    <a:lnTo>
                      <a:pt x="131" y="586"/>
                    </a:lnTo>
                    <a:lnTo>
                      <a:pt x="141" y="670"/>
                    </a:lnTo>
                    <a:lnTo>
                      <a:pt x="149" y="755"/>
                    </a:lnTo>
                    <a:lnTo>
                      <a:pt x="156" y="841"/>
                    </a:lnTo>
                    <a:lnTo>
                      <a:pt x="163" y="927"/>
                    </a:lnTo>
                    <a:lnTo>
                      <a:pt x="168" y="1013"/>
                    </a:lnTo>
                    <a:lnTo>
                      <a:pt x="172" y="1099"/>
                    </a:lnTo>
                    <a:lnTo>
                      <a:pt x="175" y="1185"/>
                    </a:lnTo>
                    <a:lnTo>
                      <a:pt x="177" y="1272"/>
                    </a:lnTo>
                    <a:lnTo>
                      <a:pt x="177" y="1360"/>
                    </a:lnTo>
                    <a:lnTo>
                      <a:pt x="176" y="1457"/>
                    </a:lnTo>
                    <a:lnTo>
                      <a:pt x="174" y="1554"/>
                    </a:lnTo>
                    <a:lnTo>
                      <a:pt x="171" y="1650"/>
                    </a:lnTo>
                    <a:lnTo>
                      <a:pt x="166" y="1747"/>
                    </a:lnTo>
                    <a:lnTo>
                      <a:pt x="160" y="1844"/>
                    </a:lnTo>
                    <a:lnTo>
                      <a:pt x="152" y="1938"/>
                    </a:lnTo>
                    <a:lnTo>
                      <a:pt x="143" y="2034"/>
                    </a:lnTo>
                    <a:lnTo>
                      <a:pt x="132" y="2128"/>
                    </a:lnTo>
                    <a:lnTo>
                      <a:pt x="120" y="2223"/>
                    </a:lnTo>
                    <a:lnTo>
                      <a:pt x="107" y="2316"/>
                    </a:lnTo>
                    <a:lnTo>
                      <a:pt x="92" y="2410"/>
                    </a:lnTo>
                    <a:lnTo>
                      <a:pt x="76" y="2503"/>
                    </a:lnTo>
                    <a:lnTo>
                      <a:pt x="59" y="2595"/>
                    </a:lnTo>
                    <a:lnTo>
                      <a:pt x="41" y="2688"/>
                    </a:lnTo>
                    <a:lnTo>
                      <a:pt x="21" y="2779"/>
                    </a:lnTo>
                    <a:lnTo>
                      <a:pt x="0" y="2871"/>
                    </a:lnTo>
                    <a:lnTo>
                      <a:pt x="73" y="2857"/>
                    </a:lnTo>
                    <a:lnTo>
                      <a:pt x="94" y="2767"/>
                    </a:lnTo>
                    <a:lnTo>
                      <a:pt x="113" y="2676"/>
                    </a:lnTo>
                    <a:lnTo>
                      <a:pt x="131" y="2585"/>
                    </a:lnTo>
                    <a:lnTo>
                      <a:pt x="148" y="2493"/>
                    </a:lnTo>
                    <a:lnTo>
                      <a:pt x="164" y="2400"/>
                    </a:lnTo>
                    <a:lnTo>
                      <a:pt x="177" y="2308"/>
                    </a:lnTo>
                    <a:lnTo>
                      <a:pt x="191" y="2215"/>
                    </a:lnTo>
                    <a:lnTo>
                      <a:pt x="203" y="2122"/>
                    </a:lnTo>
                    <a:lnTo>
                      <a:pt x="212" y="2027"/>
                    </a:lnTo>
                    <a:lnTo>
                      <a:pt x="222" y="1933"/>
                    </a:lnTo>
                    <a:lnTo>
                      <a:pt x="229" y="1838"/>
                    </a:lnTo>
                    <a:lnTo>
                      <a:pt x="235" y="1744"/>
                    </a:lnTo>
                    <a:lnTo>
                      <a:pt x="240" y="1648"/>
                    </a:lnTo>
                    <a:lnTo>
                      <a:pt x="244" y="1553"/>
                    </a:lnTo>
                    <a:lnTo>
                      <a:pt x="246" y="1456"/>
                    </a:lnTo>
                    <a:lnTo>
                      <a:pt x="247" y="1360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56320" y="2562120"/>
                <a:ext cx="79200" cy="912960"/>
              </a:xfrm>
              <a:custGeom>
                <a:avLst/>
                <a:gdLst/>
                <a:ahLst/>
                <a:rect l="l" t="t" r="r" b="b"/>
                <a:pathLst>
                  <a:path w="250" h="2876">
                    <a:moveTo>
                      <a:pt x="250" y="1359"/>
                    </a:moveTo>
                    <a:lnTo>
                      <a:pt x="249" y="1271"/>
                    </a:lnTo>
                    <a:lnTo>
                      <a:pt x="248" y="1184"/>
                    </a:lnTo>
                    <a:lnTo>
                      <a:pt x="245" y="1098"/>
                    </a:lnTo>
                    <a:lnTo>
                      <a:pt x="241" y="1012"/>
                    </a:lnTo>
                    <a:lnTo>
                      <a:pt x="235" y="926"/>
                    </a:lnTo>
                    <a:lnTo>
                      <a:pt x="229" y="840"/>
                    </a:lnTo>
                    <a:lnTo>
                      <a:pt x="222" y="754"/>
                    </a:lnTo>
                    <a:lnTo>
                      <a:pt x="213" y="669"/>
                    </a:lnTo>
                    <a:lnTo>
                      <a:pt x="204" y="585"/>
                    </a:lnTo>
                    <a:lnTo>
                      <a:pt x="193" y="500"/>
                    </a:lnTo>
                    <a:lnTo>
                      <a:pt x="182" y="416"/>
                    </a:lnTo>
                    <a:lnTo>
                      <a:pt x="169" y="332"/>
                    </a:lnTo>
                    <a:lnTo>
                      <a:pt x="154" y="249"/>
                    </a:lnTo>
                    <a:lnTo>
                      <a:pt x="140" y="165"/>
                    </a:lnTo>
                    <a:lnTo>
                      <a:pt x="124" y="83"/>
                    </a:lnTo>
                    <a:lnTo>
                      <a:pt x="107" y="0"/>
                    </a:lnTo>
                    <a:lnTo>
                      <a:pt x="84" y="0"/>
                    </a:lnTo>
                    <a:lnTo>
                      <a:pt x="37" y="0"/>
                    </a:lnTo>
                    <a:lnTo>
                      <a:pt x="54" y="83"/>
                    </a:lnTo>
                    <a:lnTo>
                      <a:pt x="69" y="165"/>
                    </a:lnTo>
                    <a:lnTo>
                      <a:pt x="85" y="249"/>
                    </a:lnTo>
                    <a:lnTo>
                      <a:pt x="99" y="332"/>
                    </a:lnTo>
                    <a:lnTo>
                      <a:pt x="111" y="416"/>
                    </a:lnTo>
                    <a:lnTo>
                      <a:pt x="124" y="500"/>
                    </a:lnTo>
                    <a:lnTo>
                      <a:pt x="134" y="585"/>
                    </a:lnTo>
                    <a:lnTo>
                      <a:pt x="144" y="669"/>
                    </a:lnTo>
                    <a:lnTo>
                      <a:pt x="152" y="754"/>
                    </a:lnTo>
                    <a:lnTo>
                      <a:pt x="161" y="840"/>
                    </a:lnTo>
                    <a:lnTo>
                      <a:pt x="167" y="925"/>
                    </a:lnTo>
                    <a:lnTo>
                      <a:pt x="172" y="1011"/>
                    </a:lnTo>
                    <a:lnTo>
                      <a:pt x="175" y="1098"/>
                    </a:lnTo>
                    <a:lnTo>
                      <a:pt x="179" y="1184"/>
                    </a:lnTo>
                    <a:lnTo>
                      <a:pt x="181" y="1271"/>
                    </a:lnTo>
                    <a:lnTo>
                      <a:pt x="181" y="1359"/>
                    </a:lnTo>
                    <a:lnTo>
                      <a:pt x="181" y="1456"/>
                    </a:lnTo>
                    <a:lnTo>
                      <a:pt x="179" y="1554"/>
                    </a:lnTo>
                    <a:lnTo>
                      <a:pt x="174" y="1652"/>
                    </a:lnTo>
                    <a:lnTo>
                      <a:pt x="169" y="1748"/>
                    </a:lnTo>
                    <a:lnTo>
                      <a:pt x="163" y="1845"/>
                    </a:lnTo>
                    <a:lnTo>
                      <a:pt x="155" y="1940"/>
                    </a:lnTo>
                    <a:lnTo>
                      <a:pt x="146" y="2036"/>
                    </a:lnTo>
                    <a:lnTo>
                      <a:pt x="134" y="2131"/>
                    </a:lnTo>
                    <a:lnTo>
                      <a:pt x="123" y="2226"/>
                    </a:lnTo>
                    <a:lnTo>
                      <a:pt x="109" y="2320"/>
                    </a:lnTo>
                    <a:lnTo>
                      <a:pt x="95" y="2414"/>
                    </a:lnTo>
                    <a:lnTo>
                      <a:pt x="79" y="2507"/>
                    </a:lnTo>
                    <a:lnTo>
                      <a:pt x="61" y="2600"/>
                    </a:lnTo>
                    <a:lnTo>
                      <a:pt x="42" y="2692"/>
                    </a:lnTo>
                    <a:lnTo>
                      <a:pt x="22" y="2785"/>
                    </a:lnTo>
                    <a:lnTo>
                      <a:pt x="0" y="2876"/>
                    </a:lnTo>
                    <a:lnTo>
                      <a:pt x="75" y="2862"/>
                    </a:lnTo>
                    <a:lnTo>
                      <a:pt x="96" y="2772"/>
                    </a:lnTo>
                    <a:lnTo>
                      <a:pt x="114" y="2681"/>
                    </a:lnTo>
                    <a:lnTo>
                      <a:pt x="133" y="2589"/>
                    </a:lnTo>
                    <a:lnTo>
                      <a:pt x="150" y="2497"/>
                    </a:lnTo>
                    <a:lnTo>
                      <a:pt x="166" y="2404"/>
                    </a:lnTo>
                    <a:lnTo>
                      <a:pt x="181" y="2311"/>
                    </a:lnTo>
                    <a:lnTo>
                      <a:pt x="193" y="2218"/>
                    </a:lnTo>
                    <a:lnTo>
                      <a:pt x="205" y="2124"/>
                    </a:lnTo>
                    <a:lnTo>
                      <a:pt x="215" y="2030"/>
                    </a:lnTo>
                    <a:lnTo>
                      <a:pt x="225" y="1935"/>
                    </a:lnTo>
                    <a:lnTo>
                      <a:pt x="232" y="1840"/>
                    </a:lnTo>
                    <a:lnTo>
                      <a:pt x="239" y="1744"/>
                    </a:lnTo>
                    <a:lnTo>
                      <a:pt x="244" y="1648"/>
                    </a:lnTo>
                    <a:lnTo>
                      <a:pt x="247" y="1553"/>
                    </a:lnTo>
                    <a:lnTo>
                      <a:pt x="249" y="1456"/>
                    </a:lnTo>
                    <a:lnTo>
                      <a:pt x="250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45160" y="2562120"/>
                <a:ext cx="79200" cy="914400"/>
              </a:xfrm>
              <a:custGeom>
                <a:avLst/>
                <a:gdLst/>
                <a:ahLst/>
                <a:rect l="l" t="t" r="r" b="b"/>
                <a:pathLst>
                  <a:path w="252" h="2882">
                    <a:moveTo>
                      <a:pt x="252" y="1359"/>
                    </a:moveTo>
                    <a:lnTo>
                      <a:pt x="252" y="1271"/>
                    </a:lnTo>
                    <a:lnTo>
                      <a:pt x="250" y="1184"/>
                    </a:lnTo>
                    <a:lnTo>
                      <a:pt x="247" y="1098"/>
                    </a:lnTo>
                    <a:lnTo>
                      <a:pt x="243" y="1012"/>
                    </a:lnTo>
                    <a:lnTo>
                      <a:pt x="238" y="926"/>
                    </a:lnTo>
                    <a:lnTo>
                      <a:pt x="231" y="840"/>
                    </a:lnTo>
                    <a:lnTo>
                      <a:pt x="224" y="754"/>
                    </a:lnTo>
                    <a:lnTo>
                      <a:pt x="216" y="669"/>
                    </a:lnTo>
                    <a:lnTo>
                      <a:pt x="206" y="585"/>
                    </a:lnTo>
                    <a:lnTo>
                      <a:pt x="196" y="500"/>
                    </a:lnTo>
                    <a:lnTo>
                      <a:pt x="184" y="416"/>
                    </a:lnTo>
                    <a:lnTo>
                      <a:pt x="170" y="332"/>
                    </a:lnTo>
                    <a:lnTo>
                      <a:pt x="157" y="249"/>
                    </a:lnTo>
                    <a:lnTo>
                      <a:pt x="142" y="165"/>
                    </a:lnTo>
                    <a:lnTo>
                      <a:pt x="126" y="83"/>
                    </a:lnTo>
                    <a:lnTo>
                      <a:pt x="108" y="0"/>
                    </a:lnTo>
                    <a:lnTo>
                      <a:pt x="38" y="0"/>
                    </a:lnTo>
                    <a:lnTo>
                      <a:pt x="56" y="83"/>
                    </a:lnTo>
                    <a:lnTo>
                      <a:pt x="72" y="165"/>
                    </a:lnTo>
                    <a:lnTo>
                      <a:pt x="87" y="249"/>
                    </a:lnTo>
                    <a:lnTo>
                      <a:pt x="101" y="332"/>
                    </a:lnTo>
                    <a:lnTo>
                      <a:pt x="114" y="416"/>
                    </a:lnTo>
                    <a:lnTo>
                      <a:pt x="126" y="500"/>
                    </a:lnTo>
                    <a:lnTo>
                      <a:pt x="137" y="584"/>
                    </a:lnTo>
                    <a:lnTo>
                      <a:pt x="146" y="669"/>
                    </a:lnTo>
                    <a:lnTo>
                      <a:pt x="156" y="754"/>
                    </a:lnTo>
                    <a:lnTo>
                      <a:pt x="163" y="840"/>
                    </a:lnTo>
                    <a:lnTo>
                      <a:pt x="169" y="925"/>
                    </a:lnTo>
                    <a:lnTo>
                      <a:pt x="175" y="1011"/>
                    </a:lnTo>
                    <a:lnTo>
                      <a:pt x="179" y="1098"/>
                    </a:lnTo>
                    <a:lnTo>
                      <a:pt x="181" y="1184"/>
                    </a:lnTo>
                    <a:lnTo>
                      <a:pt x="183" y="1271"/>
                    </a:lnTo>
                    <a:lnTo>
                      <a:pt x="184" y="1359"/>
                    </a:lnTo>
                    <a:lnTo>
                      <a:pt x="183" y="1457"/>
                    </a:lnTo>
                    <a:lnTo>
                      <a:pt x="181" y="1555"/>
                    </a:lnTo>
                    <a:lnTo>
                      <a:pt x="177" y="1653"/>
                    </a:lnTo>
                    <a:lnTo>
                      <a:pt x="171" y="1750"/>
                    </a:lnTo>
                    <a:lnTo>
                      <a:pt x="165" y="1847"/>
                    </a:lnTo>
                    <a:lnTo>
                      <a:pt x="157" y="1942"/>
                    </a:lnTo>
                    <a:lnTo>
                      <a:pt x="147" y="2039"/>
                    </a:lnTo>
                    <a:lnTo>
                      <a:pt x="137" y="2135"/>
                    </a:lnTo>
                    <a:lnTo>
                      <a:pt x="124" y="2229"/>
                    </a:lnTo>
                    <a:lnTo>
                      <a:pt x="110" y="2325"/>
                    </a:lnTo>
                    <a:lnTo>
                      <a:pt x="96" y="2418"/>
                    </a:lnTo>
                    <a:lnTo>
                      <a:pt x="79" y="2513"/>
                    </a:lnTo>
                    <a:lnTo>
                      <a:pt x="61" y="2605"/>
                    </a:lnTo>
                    <a:lnTo>
                      <a:pt x="42" y="2698"/>
                    </a:lnTo>
                    <a:lnTo>
                      <a:pt x="22" y="2791"/>
                    </a:lnTo>
                    <a:lnTo>
                      <a:pt x="0" y="2882"/>
                    </a:lnTo>
                    <a:lnTo>
                      <a:pt x="7" y="2881"/>
                    </a:lnTo>
                    <a:lnTo>
                      <a:pt x="75" y="2870"/>
                    </a:lnTo>
                    <a:lnTo>
                      <a:pt x="96" y="2778"/>
                    </a:lnTo>
                    <a:lnTo>
                      <a:pt x="116" y="2687"/>
                    </a:lnTo>
                    <a:lnTo>
                      <a:pt x="134" y="2594"/>
                    </a:lnTo>
                    <a:lnTo>
                      <a:pt x="151" y="2502"/>
                    </a:lnTo>
                    <a:lnTo>
                      <a:pt x="167" y="2409"/>
                    </a:lnTo>
                    <a:lnTo>
                      <a:pt x="182" y="2315"/>
                    </a:lnTo>
                    <a:lnTo>
                      <a:pt x="195" y="2222"/>
                    </a:lnTo>
                    <a:lnTo>
                      <a:pt x="207" y="2127"/>
                    </a:lnTo>
                    <a:lnTo>
                      <a:pt x="218" y="2033"/>
                    </a:lnTo>
                    <a:lnTo>
                      <a:pt x="227" y="1937"/>
                    </a:lnTo>
                    <a:lnTo>
                      <a:pt x="235" y="1843"/>
                    </a:lnTo>
                    <a:lnTo>
                      <a:pt x="241" y="1746"/>
                    </a:lnTo>
                    <a:lnTo>
                      <a:pt x="246" y="1649"/>
                    </a:lnTo>
                    <a:lnTo>
                      <a:pt x="249" y="1553"/>
                    </a:lnTo>
                    <a:lnTo>
                      <a:pt x="251" y="1456"/>
                    </a:lnTo>
                    <a:lnTo>
                      <a:pt x="252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632560" y="2562120"/>
                <a:ext cx="81000" cy="916200"/>
              </a:xfrm>
              <a:custGeom>
                <a:avLst/>
                <a:gdLst/>
                <a:ahLst/>
                <a:rect l="l" t="t" r="r" b="b"/>
                <a:pathLst>
                  <a:path w="255" h="2888">
                    <a:moveTo>
                      <a:pt x="255" y="1359"/>
                    </a:moveTo>
                    <a:lnTo>
                      <a:pt x="255" y="1271"/>
                    </a:lnTo>
                    <a:lnTo>
                      <a:pt x="253" y="1184"/>
                    </a:lnTo>
                    <a:lnTo>
                      <a:pt x="249" y="1098"/>
                    </a:lnTo>
                    <a:lnTo>
                      <a:pt x="246" y="1011"/>
                    </a:lnTo>
                    <a:lnTo>
                      <a:pt x="241" y="925"/>
                    </a:lnTo>
                    <a:lnTo>
                      <a:pt x="235" y="840"/>
                    </a:lnTo>
                    <a:lnTo>
                      <a:pt x="226" y="754"/>
                    </a:lnTo>
                    <a:lnTo>
                      <a:pt x="218" y="669"/>
                    </a:lnTo>
                    <a:lnTo>
                      <a:pt x="208" y="585"/>
                    </a:lnTo>
                    <a:lnTo>
                      <a:pt x="198" y="500"/>
                    </a:lnTo>
                    <a:lnTo>
                      <a:pt x="185" y="416"/>
                    </a:lnTo>
                    <a:lnTo>
                      <a:pt x="173" y="332"/>
                    </a:lnTo>
                    <a:lnTo>
                      <a:pt x="159" y="249"/>
                    </a:lnTo>
                    <a:lnTo>
                      <a:pt x="143" y="165"/>
                    </a:lnTo>
                    <a:lnTo>
                      <a:pt x="128" y="83"/>
                    </a:lnTo>
                    <a:lnTo>
                      <a:pt x="111" y="0"/>
                    </a:lnTo>
                    <a:lnTo>
                      <a:pt x="72" y="0"/>
                    </a:lnTo>
                    <a:lnTo>
                      <a:pt x="40" y="0"/>
                    </a:lnTo>
                    <a:lnTo>
                      <a:pt x="57" y="83"/>
                    </a:lnTo>
                    <a:lnTo>
                      <a:pt x="74" y="165"/>
                    </a:lnTo>
                    <a:lnTo>
                      <a:pt x="89" y="249"/>
                    </a:lnTo>
                    <a:lnTo>
                      <a:pt x="103" y="332"/>
                    </a:lnTo>
                    <a:lnTo>
                      <a:pt x="116" y="416"/>
                    </a:lnTo>
                    <a:lnTo>
                      <a:pt x="129" y="500"/>
                    </a:lnTo>
                    <a:lnTo>
                      <a:pt x="139" y="584"/>
                    </a:lnTo>
                    <a:lnTo>
                      <a:pt x="149" y="669"/>
                    </a:lnTo>
                    <a:lnTo>
                      <a:pt x="158" y="754"/>
                    </a:lnTo>
                    <a:lnTo>
                      <a:pt x="165" y="840"/>
                    </a:lnTo>
                    <a:lnTo>
                      <a:pt x="172" y="925"/>
                    </a:lnTo>
                    <a:lnTo>
                      <a:pt x="177" y="1011"/>
                    </a:lnTo>
                    <a:lnTo>
                      <a:pt x="181" y="1098"/>
                    </a:lnTo>
                    <a:lnTo>
                      <a:pt x="184" y="1184"/>
                    </a:lnTo>
                    <a:lnTo>
                      <a:pt x="185" y="1271"/>
                    </a:lnTo>
                    <a:lnTo>
                      <a:pt x="186" y="1359"/>
                    </a:lnTo>
                    <a:lnTo>
                      <a:pt x="185" y="1457"/>
                    </a:lnTo>
                    <a:lnTo>
                      <a:pt x="183" y="1556"/>
                    </a:lnTo>
                    <a:lnTo>
                      <a:pt x="180" y="1654"/>
                    </a:lnTo>
                    <a:lnTo>
                      <a:pt x="175" y="1751"/>
                    </a:lnTo>
                    <a:lnTo>
                      <a:pt x="167" y="1849"/>
                    </a:lnTo>
                    <a:lnTo>
                      <a:pt x="159" y="1946"/>
                    </a:lnTo>
                    <a:lnTo>
                      <a:pt x="150" y="2042"/>
                    </a:lnTo>
                    <a:lnTo>
                      <a:pt x="139" y="2138"/>
                    </a:lnTo>
                    <a:lnTo>
                      <a:pt x="126" y="2233"/>
                    </a:lnTo>
                    <a:lnTo>
                      <a:pt x="113" y="2328"/>
                    </a:lnTo>
                    <a:lnTo>
                      <a:pt x="97" y="2422"/>
                    </a:lnTo>
                    <a:lnTo>
                      <a:pt x="80" y="2517"/>
                    </a:lnTo>
                    <a:lnTo>
                      <a:pt x="62" y="2610"/>
                    </a:lnTo>
                    <a:lnTo>
                      <a:pt x="43" y="2704"/>
                    </a:lnTo>
                    <a:lnTo>
                      <a:pt x="22" y="2796"/>
                    </a:lnTo>
                    <a:lnTo>
                      <a:pt x="0" y="2888"/>
                    </a:lnTo>
                    <a:lnTo>
                      <a:pt x="44" y="2881"/>
                    </a:lnTo>
                    <a:lnTo>
                      <a:pt x="74" y="2876"/>
                    </a:lnTo>
                    <a:lnTo>
                      <a:pt x="96" y="2785"/>
                    </a:lnTo>
                    <a:lnTo>
                      <a:pt x="116" y="2692"/>
                    </a:lnTo>
                    <a:lnTo>
                      <a:pt x="135" y="2600"/>
                    </a:lnTo>
                    <a:lnTo>
                      <a:pt x="153" y="2507"/>
                    </a:lnTo>
                    <a:lnTo>
                      <a:pt x="169" y="2414"/>
                    </a:lnTo>
                    <a:lnTo>
                      <a:pt x="183" y="2320"/>
                    </a:lnTo>
                    <a:lnTo>
                      <a:pt x="197" y="2226"/>
                    </a:lnTo>
                    <a:lnTo>
                      <a:pt x="208" y="2131"/>
                    </a:lnTo>
                    <a:lnTo>
                      <a:pt x="220" y="2036"/>
                    </a:lnTo>
                    <a:lnTo>
                      <a:pt x="229" y="1940"/>
                    </a:lnTo>
                    <a:lnTo>
                      <a:pt x="237" y="1845"/>
                    </a:lnTo>
                    <a:lnTo>
                      <a:pt x="243" y="1748"/>
                    </a:lnTo>
                    <a:lnTo>
                      <a:pt x="248" y="1652"/>
                    </a:lnTo>
                    <a:lnTo>
                      <a:pt x="253" y="1554"/>
                    </a:lnTo>
                    <a:lnTo>
                      <a:pt x="255" y="1456"/>
                    </a:lnTo>
                    <a:lnTo>
                      <a:pt x="255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621400" y="2562120"/>
                <a:ext cx="82440" cy="917640"/>
              </a:xfrm>
              <a:custGeom>
                <a:avLst/>
                <a:gdLst/>
                <a:ahLst/>
                <a:rect l="l" t="t" r="r" b="b"/>
                <a:pathLst>
                  <a:path w="257" h="2894">
                    <a:moveTo>
                      <a:pt x="257" y="1359"/>
                    </a:moveTo>
                    <a:lnTo>
                      <a:pt x="256" y="1271"/>
                    </a:lnTo>
                    <a:lnTo>
                      <a:pt x="254" y="1184"/>
                    </a:lnTo>
                    <a:lnTo>
                      <a:pt x="252" y="1098"/>
                    </a:lnTo>
                    <a:lnTo>
                      <a:pt x="248" y="1011"/>
                    </a:lnTo>
                    <a:lnTo>
                      <a:pt x="242" y="925"/>
                    </a:lnTo>
                    <a:lnTo>
                      <a:pt x="236" y="840"/>
                    </a:lnTo>
                    <a:lnTo>
                      <a:pt x="229" y="754"/>
                    </a:lnTo>
                    <a:lnTo>
                      <a:pt x="219" y="669"/>
                    </a:lnTo>
                    <a:lnTo>
                      <a:pt x="210" y="584"/>
                    </a:lnTo>
                    <a:lnTo>
                      <a:pt x="199" y="500"/>
                    </a:lnTo>
                    <a:lnTo>
                      <a:pt x="187" y="416"/>
                    </a:lnTo>
                    <a:lnTo>
                      <a:pt x="174" y="332"/>
                    </a:lnTo>
                    <a:lnTo>
                      <a:pt x="160" y="249"/>
                    </a:lnTo>
                    <a:lnTo>
                      <a:pt x="145" y="165"/>
                    </a:lnTo>
                    <a:lnTo>
                      <a:pt x="129" y="83"/>
                    </a:lnTo>
                    <a:lnTo>
                      <a:pt x="111" y="0"/>
                    </a:lnTo>
                    <a:lnTo>
                      <a:pt x="108" y="0"/>
                    </a:lnTo>
                    <a:lnTo>
                      <a:pt x="53" y="0"/>
                    </a:lnTo>
                    <a:lnTo>
                      <a:pt x="41" y="0"/>
                    </a:lnTo>
                    <a:lnTo>
                      <a:pt x="58" y="83"/>
                    </a:lnTo>
                    <a:lnTo>
                      <a:pt x="74" y="165"/>
                    </a:lnTo>
                    <a:lnTo>
                      <a:pt x="90" y="248"/>
                    </a:lnTo>
                    <a:lnTo>
                      <a:pt x="105" y="332"/>
                    </a:lnTo>
                    <a:lnTo>
                      <a:pt x="117" y="416"/>
                    </a:lnTo>
                    <a:lnTo>
                      <a:pt x="130" y="500"/>
                    </a:lnTo>
                    <a:lnTo>
                      <a:pt x="140" y="584"/>
                    </a:lnTo>
                    <a:lnTo>
                      <a:pt x="151" y="669"/>
                    </a:lnTo>
                    <a:lnTo>
                      <a:pt x="159" y="754"/>
                    </a:lnTo>
                    <a:lnTo>
                      <a:pt x="167" y="840"/>
                    </a:lnTo>
                    <a:lnTo>
                      <a:pt x="173" y="925"/>
                    </a:lnTo>
                    <a:lnTo>
                      <a:pt x="178" y="1011"/>
                    </a:lnTo>
                    <a:lnTo>
                      <a:pt x="182" y="1098"/>
                    </a:lnTo>
                    <a:lnTo>
                      <a:pt x="186" y="1184"/>
                    </a:lnTo>
                    <a:lnTo>
                      <a:pt x="188" y="1271"/>
                    </a:lnTo>
                    <a:lnTo>
                      <a:pt x="188" y="1359"/>
                    </a:lnTo>
                    <a:lnTo>
                      <a:pt x="188" y="1458"/>
                    </a:lnTo>
                    <a:lnTo>
                      <a:pt x="185" y="1557"/>
                    </a:lnTo>
                    <a:lnTo>
                      <a:pt x="181" y="1655"/>
                    </a:lnTo>
                    <a:lnTo>
                      <a:pt x="176" y="1753"/>
                    </a:lnTo>
                    <a:lnTo>
                      <a:pt x="169" y="1851"/>
                    </a:lnTo>
                    <a:lnTo>
                      <a:pt x="160" y="1948"/>
                    </a:lnTo>
                    <a:lnTo>
                      <a:pt x="151" y="2044"/>
                    </a:lnTo>
                    <a:lnTo>
                      <a:pt x="139" y="2141"/>
                    </a:lnTo>
                    <a:lnTo>
                      <a:pt x="127" y="2236"/>
                    </a:lnTo>
                    <a:lnTo>
                      <a:pt x="113" y="2332"/>
                    </a:lnTo>
                    <a:lnTo>
                      <a:pt x="97" y="2426"/>
                    </a:lnTo>
                    <a:lnTo>
                      <a:pt x="80" y="2521"/>
                    </a:lnTo>
                    <a:lnTo>
                      <a:pt x="63" y="2615"/>
                    </a:lnTo>
                    <a:lnTo>
                      <a:pt x="43" y="2709"/>
                    </a:lnTo>
                    <a:lnTo>
                      <a:pt x="22" y="2801"/>
                    </a:lnTo>
                    <a:lnTo>
                      <a:pt x="0" y="2894"/>
                    </a:lnTo>
                    <a:lnTo>
                      <a:pt x="73" y="2882"/>
                    </a:lnTo>
                    <a:lnTo>
                      <a:pt x="95" y="2791"/>
                    </a:lnTo>
                    <a:lnTo>
                      <a:pt x="115" y="2698"/>
                    </a:lnTo>
                    <a:lnTo>
                      <a:pt x="134" y="2605"/>
                    </a:lnTo>
                    <a:lnTo>
                      <a:pt x="152" y="2513"/>
                    </a:lnTo>
                    <a:lnTo>
                      <a:pt x="169" y="2418"/>
                    </a:lnTo>
                    <a:lnTo>
                      <a:pt x="183" y="2325"/>
                    </a:lnTo>
                    <a:lnTo>
                      <a:pt x="197" y="2229"/>
                    </a:lnTo>
                    <a:lnTo>
                      <a:pt x="210" y="2135"/>
                    </a:lnTo>
                    <a:lnTo>
                      <a:pt x="220" y="2039"/>
                    </a:lnTo>
                    <a:lnTo>
                      <a:pt x="230" y="1942"/>
                    </a:lnTo>
                    <a:lnTo>
                      <a:pt x="238" y="1847"/>
                    </a:lnTo>
                    <a:lnTo>
                      <a:pt x="244" y="1750"/>
                    </a:lnTo>
                    <a:lnTo>
                      <a:pt x="250" y="1653"/>
                    </a:lnTo>
                    <a:lnTo>
                      <a:pt x="254" y="1555"/>
                    </a:lnTo>
                    <a:lnTo>
                      <a:pt x="256" y="1457"/>
                    </a:lnTo>
                    <a:lnTo>
                      <a:pt x="257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610240" y="2562120"/>
                <a:ext cx="82440" cy="920880"/>
              </a:xfrm>
              <a:custGeom>
                <a:avLst/>
                <a:gdLst/>
                <a:ahLst/>
                <a:rect l="l" t="t" r="r" b="b"/>
                <a:pathLst>
                  <a:path w="259" h="2900">
                    <a:moveTo>
                      <a:pt x="259" y="1359"/>
                    </a:moveTo>
                    <a:lnTo>
                      <a:pt x="258" y="1271"/>
                    </a:lnTo>
                    <a:lnTo>
                      <a:pt x="257" y="1184"/>
                    </a:lnTo>
                    <a:lnTo>
                      <a:pt x="254" y="1098"/>
                    </a:lnTo>
                    <a:lnTo>
                      <a:pt x="250" y="1011"/>
                    </a:lnTo>
                    <a:lnTo>
                      <a:pt x="245" y="925"/>
                    </a:lnTo>
                    <a:lnTo>
                      <a:pt x="238" y="840"/>
                    </a:lnTo>
                    <a:lnTo>
                      <a:pt x="231" y="754"/>
                    </a:lnTo>
                    <a:lnTo>
                      <a:pt x="222" y="669"/>
                    </a:lnTo>
                    <a:lnTo>
                      <a:pt x="212" y="584"/>
                    </a:lnTo>
                    <a:lnTo>
                      <a:pt x="202" y="500"/>
                    </a:lnTo>
                    <a:lnTo>
                      <a:pt x="189" y="416"/>
                    </a:lnTo>
                    <a:lnTo>
                      <a:pt x="176" y="332"/>
                    </a:lnTo>
                    <a:lnTo>
                      <a:pt x="162" y="249"/>
                    </a:lnTo>
                    <a:lnTo>
                      <a:pt x="147" y="165"/>
                    </a:lnTo>
                    <a:lnTo>
                      <a:pt x="130" y="83"/>
                    </a:lnTo>
                    <a:lnTo>
                      <a:pt x="113" y="0"/>
                    </a:lnTo>
                    <a:lnTo>
                      <a:pt x="90" y="0"/>
                    </a:lnTo>
                    <a:lnTo>
                      <a:pt x="43" y="0"/>
                    </a:lnTo>
                    <a:lnTo>
                      <a:pt x="60" y="83"/>
                    </a:lnTo>
                    <a:lnTo>
                      <a:pt x="76" y="165"/>
                    </a:lnTo>
                    <a:lnTo>
                      <a:pt x="92" y="248"/>
                    </a:lnTo>
                    <a:lnTo>
                      <a:pt x="106" y="332"/>
                    </a:lnTo>
                    <a:lnTo>
                      <a:pt x="120" y="416"/>
                    </a:lnTo>
                    <a:lnTo>
                      <a:pt x="132" y="500"/>
                    </a:lnTo>
                    <a:lnTo>
                      <a:pt x="143" y="584"/>
                    </a:lnTo>
                    <a:lnTo>
                      <a:pt x="153" y="669"/>
                    </a:lnTo>
                    <a:lnTo>
                      <a:pt x="162" y="754"/>
                    </a:lnTo>
                    <a:lnTo>
                      <a:pt x="169" y="839"/>
                    </a:lnTo>
                    <a:lnTo>
                      <a:pt x="175" y="925"/>
                    </a:lnTo>
                    <a:lnTo>
                      <a:pt x="181" y="1011"/>
                    </a:lnTo>
                    <a:lnTo>
                      <a:pt x="185" y="1098"/>
                    </a:lnTo>
                    <a:lnTo>
                      <a:pt x="188" y="1184"/>
                    </a:lnTo>
                    <a:lnTo>
                      <a:pt x="190" y="1271"/>
                    </a:lnTo>
                    <a:lnTo>
                      <a:pt x="191" y="1359"/>
                    </a:lnTo>
                    <a:lnTo>
                      <a:pt x="190" y="1458"/>
                    </a:lnTo>
                    <a:lnTo>
                      <a:pt x="188" y="1557"/>
                    </a:lnTo>
                    <a:lnTo>
                      <a:pt x="184" y="1657"/>
                    </a:lnTo>
                    <a:lnTo>
                      <a:pt x="178" y="1754"/>
                    </a:lnTo>
                    <a:lnTo>
                      <a:pt x="171" y="1853"/>
                    </a:lnTo>
                    <a:lnTo>
                      <a:pt x="163" y="1950"/>
                    </a:lnTo>
                    <a:lnTo>
                      <a:pt x="153" y="2047"/>
                    </a:lnTo>
                    <a:lnTo>
                      <a:pt x="142" y="2144"/>
                    </a:lnTo>
                    <a:lnTo>
                      <a:pt x="129" y="2240"/>
                    </a:lnTo>
                    <a:lnTo>
                      <a:pt x="114" y="2336"/>
                    </a:lnTo>
                    <a:lnTo>
                      <a:pt x="99" y="2431"/>
                    </a:lnTo>
                    <a:lnTo>
                      <a:pt x="82" y="2526"/>
                    </a:lnTo>
                    <a:lnTo>
                      <a:pt x="64" y="2620"/>
                    </a:lnTo>
                    <a:lnTo>
                      <a:pt x="44" y="2714"/>
                    </a:lnTo>
                    <a:lnTo>
                      <a:pt x="23" y="2807"/>
                    </a:lnTo>
                    <a:lnTo>
                      <a:pt x="0" y="2900"/>
                    </a:lnTo>
                    <a:lnTo>
                      <a:pt x="73" y="2888"/>
                    </a:lnTo>
                    <a:lnTo>
                      <a:pt x="95" y="2796"/>
                    </a:lnTo>
                    <a:lnTo>
                      <a:pt x="116" y="2704"/>
                    </a:lnTo>
                    <a:lnTo>
                      <a:pt x="135" y="2610"/>
                    </a:lnTo>
                    <a:lnTo>
                      <a:pt x="153" y="2517"/>
                    </a:lnTo>
                    <a:lnTo>
                      <a:pt x="170" y="2422"/>
                    </a:lnTo>
                    <a:lnTo>
                      <a:pt x="186" y="2328"/>
                    </a:lnTo>
                    <a:lnTo>
                      <a:pt x="199" y="2233"/>
                    </a:lnTo>
                    <a:lnTo>
                      <a:pt x="212" y="2138"/>
                    </a:lnTo>
                    <a:lnTo>
                      <a:pt x="223" y="2042"/>
                    </a:lnTo>
                    <a:lnTo>
                      <a:pt x="232" y="1946"/>
                    </a:lnTo>
                    <a:lnTo>
                      <a:pt x="240" y="1849"/>
                    </a:lnTo>
                    <a:lnTo>
                      <a:pt x="248" y="1751"/>
                    </a:lnTo>
                    <a:lnTo>
                      <a:pt x="253" y="1654"/>
                    </a:lnTo>
                    <a:lnTo>
                      <a:pt x="256" y="1556"/>
                    </a:lnTo>
                    <a:lnTo>
                      <a:pt x="258" y="1457"/>
                    </a:lnTo>
                    <a:lnTo>
                      <a:pt x="259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97640" y="2562120"/>
                <a:ext cx="83880" cy="922320"/>
              </a:xfrm>
              <a:custGeom>
                <a:avLst/>
                <a:gdLst/>
                <a:ahLst/>
                <a:rect l="l" t="t" r="r" b="b"/>
                <a:pathLst>
                  <a:path w="262" h="2905">
                    <a:moveTo>
                      <a:pt x="262" y="1359"/>
                    </a:moveTo>
                    <a:lnTo>
                      <a:pt x="262" y="1271"/>
                    </a:lnTo>
                    <a:lnTo>
                      <a:pt x="260" y="1184"/>
                    </a:lnTo>
                    <a:lnTo>
                      <a:pt x="256" y="1098"/>
                    </a:lnTo>
                    <a:lnTo>
                      <a:pt x="252" y="1011"/>
                    </a:lnTo>
                    <a:lnTo>
                      <a:pt x="247" y="925"/>
                    </a:lnTo>
                    <a:lnTo>
                      <a:pt x="241" y="840"/>
                    </a:lnTo>
                    <a:lnTo>
                      <a:pt x="233" y="754"/>
                    </a:lnTo>
                    <a:lnTo>
                      <a:pt x="225" y="669"/>
                    </a:lnTo>
                    <a:lnTo>
                      <a:pt x="214" y="584"/>
                    </a:lnTo>
                    <a:lnTo>
                      <a:pt x="204" y="500"/>
                    </a:lnTo>
                    <a:lnTo>
                      <a:pt x="191" y="416"/>
                    </a:lnTo>
                    <a:lnTo>
                      <a:pt x="179" y="332"/>
                    </a:lnTo>
                    <a:lnTo>
                      <a:pt x="164" y="248"/>
                    </a:lnTo>
                    <a:lnTo>
                      <a:pt x="148" y="165"/>
                    </a:lnTo>
                    <a:lnTo>
                      <a:pt x="132" y="83"/>
                    </a:lnTo>
                    <a:lnTo>
                      <a:pt x="115" y="0"/>
                    </a:lnTo>
                    <a:lnTo>
                      <a:pt x="44" y="0"/>
                    </a:lnTo>
                    <a:lnTo>
                      <a:pt x="62" y="83"/>
                    </a:lnTo>
                    <a:lnTo>
                      <a:pt x="79" y="165"/>
                    </a:lnTo>
                    <a:lnTo>
                      <a:pt x="95" y="248"/>
                    </a:lnTo>
                    <a:lnTo>
                      <a:pt x="108" y="332"/>
                    </a:lnTo>
                    <a:lnTo>
                      <a:pt x="122" y="416"/>
                    </a:lnTo>
                    <a:lnTo>
                      <a:pt x="135" y="500"/>
                    </a:lnTo>
                    <a:lnTo>
                      <a:pt x="145" y="584"/>
                    </a:lnTo>
                    <a:lnTo>
                      <a:pt x="156" y="669"/>
                    </a:lnTo>
                    <a:lnTo>
                      <a:pt x="164" y="754"/>
                    </a:lnTo>
                    <a:lnTo>
                      <a:pt x="171" y="839"/>
                    </a:lnTo>
                    <a:lnTo>
                      <a:pt x="179" y="925"/>
                    </a:lnTo>
                    <a:lnTo>
                      <a:pt x="184" y="1011"/>
                    </a:lnTo>
                    <a:lnTo>
                      <a:pt x="188" y="1098"/>
                    </a:lnTo>
                    <a:lnTo>
                      <a:pt x="191" y="1184"/>
                    </a:lnTo>
                    <a:lnTo>
                      <a:pt x="192" y="1271"/>
                    </a:lnTo>
                    <a:lnTo>
                      <a:pt x="193" y="1359"/>
                    </a:lnTo>
                    <a:lnTo>
                      <a:pt x="192" y="1458"/>
                    </a:lnTo>
                    <a:lnTo>
                      <a:pt x="190" y="1558"/>
                    </a:lnTo>
                    <a:lnTo>
                      <a:pt x="186" y="1658"/>
                    </a:lnTo>
                    <a:lnTo>
                      <a:pt x="181" y="1757"/>
                    </a:lnTo>
                    <a:lnTo>
                      <a:pt x="173" y="1854"/>
                    </a:lnTo>
                    <a:lnTo>
                      <a:pt x="165" y="1953"/>
                    </a:lnTo>
                    <a:lnTo>
                      <a:pt x="156" y="2050"/>
                    </a:lnTo>
                    <a:lnTo>
                      <a:pt x="144" y="2147"/>
                    </a:lnTo>
                    <a:lnTo>
                      <a:pt x="131" y="2244"/>
                    </a:lnTo>
                    <a:lnTo>
                      <a:pt x="117" y="2339"/>
                    </a:lnTo>
                    <a:lnTo>
                      <a:pt x="101" y="2435"/>
                    </a:lnTo>
                    <a:lnTo>
                      <a:pt x="83" y="2530"/>
                    </a:lnTo>
                    <a:lnTo>
                      <a:pt x="64" y="2625"/>
                    </a:lnTo>
                    <a:lnTo>
                      <a:pt x="44" y="2719"/>
                    </a:lnTo>
                    <a:lnTo>
                      <a:pt x="23" y="2813"/>
                    </a:lnTo>
                    <a:lnTo>
                      <a:pt x="0" y="2905"/>
                    </a:lnTo>
                    <a:lnTo>
                      <a:pt x="74" y="2894"/>
                    </a:lnTo>
                    <a:lnTo>
                      <a:pt x="96" y="2801"/>
                    </a:lnTo>
                    <a:lnTo>
                      <a:pt x="117" y="2709"/>
                    </a:lnTo>
                    <a:lnTo>
                      <a:pt x="137" y="2615"/>
                    </a:lnTo>
                    <a:lnTo>
                      <a:pt x="154" y="2521"/>
                    </a:lnTo>
                    <a:lnTo>
                      <a:pt x="171" y="2426"/>
                    </a:lnTo>
                    <a:lnTo>
                      <a:pt x="187" y="2332"/>
                    </a:lnTo>
                    <a:lnTo>
                      <a:pt x="201" y="2236"/>
                    </a:lnTo>
                    <a:lnTo>
                      <a:pt x="213" y="2141"/>
                    </a:lnTo>
                    <a:lnTo>
                      <a:pt x="225" y="2044"/>
                    </a:lnTo>
                    <a:lnTo>
                      <a:pt x="234" y="1948"/>
                    </a:lnTo>
                    <a:lnTo>
                      <a:pt x="243" y="1851"/>
                    </a:lnTo>
                    <a:lnTo>
                      <a:pt x="250" y="1753"/>
                    </a:lnTo>
                    <a:lnTo>
                      <a:pt x="255" y="1655"/>
                    </a:lnTo>
                    <a:lnTo>
                      <a:pt x="259" y="1557"/>
                    </a:lnTo>
                    <a:lnTo>
                      <a:pt x="262" y="1458"/>
                    </a:lnTo>
                    <a:lnTo>
                      <a:pt x="262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8648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4" h="2908">
                    <a:moveTo>
                      <a:pt x="264" y="1359"/>
                    </a:moveTo>
                    <a:lnTo>
                      <a:pt x="263" y="1271"/>
                    </a:lnTo>
                    <a:lnTo>
                      <a:pt x="261" y="1184"/>
                    </a:lnTo>
                    <a:lnTo>
                      <a:pt x="258" y="1098"/>
                    </a:lnTo>
                    <a:lnTo>
                      <a:pt x="254" y="1011"/>
                    </a:lnTo>
                    <a:lnTo>
                      <a:pt x="248" y="925"/>
                    </a:lnTo>
                    <a:lnTo>
                      <a:pt x="242" y="839"/>
                    </a:lnTo>
                    <a:lnTo>
                      <a:pt x="235" y="754"/>
                    </a:lnTo>
                    <a:lnTo>
                      <a:pt x="226" y="669"/>
                    </a:lnTo>
                    <a:lnTo>
                      <a:pt x="216" y="584"/>
                    </a:lnTo>
                    <a:lnTo>
                      <a:pt x="205" y="500"/>
                    </a:lnTo>
                    <a:lnTo>
                      <a:pt x="193" y="416"/>
                    </a:lnTo>
                    <a:lnTo>
                      <a:pt x="180" y="332"/>
                    </a:lnTo>
                    <a:lnTo>
                      <a:pt x="165" y="248"/>
                    </a:lnTo>
                    <a:lnTo>
                      <a:pt x="149" y="165"/>
                    </a:lnTo>
                    <a:lnTo>
                      <a:pt x="133" y="83"/>
                    </a:lnTo>
                    <a:lnTo>
                      <a:pt x="116" y="0"/>
                    </a:lnTo>
                    <a:lnTo>
                      <a:pt x="76" y="0"/>
                    </a:lnTo>
                    <a:lnTo>
                      <a:pt x="45" y="0"/>
                    </a:lnTo>
                    <a:lnTo>
                      <a:pt x="63" y="83"/>
                    </a:lnTo>
                    <a:lnTo>
                      <a:pt x="80" y="165"/>
                    </a:lnTo>
                    <a:lnTo>
                      <a:pt x="95" y="248"/>
                    </a:lnTo>
                    <a:lnTo>
                      <a:pt x="110" y="332"/>
                    </a:lnTo>
                    <a:lnTo>
                      <a:pt x="123" y="416"/>
                    </a:lnTo>
                    <a:lnTo>
                      <a:pt x="136" y="500"/>
                    </a:lnTo>
                    <a:lnTo>
                      <a:pt x="146" y="584"/>
                    </a:lnTo>
                    <a:lnTo>
                      <a:pt x="157" y="669"/>
                    </a:lnTo>
                    <a:lnTo>
                      <a:pt x="165" y="754"/>
                    </a:lnTo>
                    <a:lnTo>
                      <a:pt x="174" y="839"/>
                    </a:lnTo>
                    <a:lnTo>
                      <a:pt x="180" y="925"/>
                    </a:lnTo>
                    <a:lnTo>
                      <a:pt x="185" y="1011"/>
                    </a:lnTo>
                    <a:lnTo>
                      <a:pt x="189" y="1098"/>
                    </a:lnTo>
                    <a:lnTo>
                      <a:pt x="193" y="1184"/>
                    </a:lnTo>
                    <a:lnTo>
                      <a:pt x="194" y="1271"/>
                    </a:lnTo>
                    <a:lnTo>
                      <a:pt x="195" y="1359"/>
                    </a:lnTo>
                    <a:lnTo>
                      <a:pt x="194" y="1459"/>
                    </a:lnTo>
                    <a:lnTo>
                      <a:pt x="192" y="1559"/>
                    </a:lnTo>
                    <a:lnTo>
                      <a:pt x="187" y="1658"/>
                    </a:lnTo>
                    <a:lnTo>
                      <a:pt x="182" y="1757"/>
                    </a:lnTo>
                    <a:lnTo>
                      <a:pt x="175" y="1855"/>
                    </a:lnTo>
                    <a:lnTo>
                      <a:pt x="166" y="1954"/>
                    </a:lnTo>
                    <a:lnTo>
                      <a:pt x="157" y="2052"/>
                    </a:lnTo>
                    <a:lnTo>
                      <a:pt x="145" y="2148"/>
                    </a:lnTo>
                    <a:lnTo>
                      <a:pt x="132" y="2245"/>
                    </a:lnTo>
                    <a:lnTo>
                      <a:pt x="117" y="2341"/>
                    </a:lnTo>
                    <a:lnTo>
                      <a:pt x="101" y="2437"/>
                    </a:lnTo>
                    <a:lnTo>
                      <a:pt x="84" y="2533"/>
                    </a:lnTo>
                    <a:lnTo>
                      <a:pt x="65" y="2627"/>
                    </a:lnTo>
                    <a:lnTo>
                      <a:pt x="44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19" y="2908"/>
                    </a:lnTo>
                    <a:lnTo>
                      <a:pt x="73" y="2900"/>
                    </a:lnTo>
                    <a:lnTo>
                      <a:pt x="96" y="2807"/>
                    </a:lnTo>
                    <a:lnTo>
                      <a:pt x="117" y="2714"/>
                    </a:lnTo>
                    <a:lnTo>
                      <a:pt x="137" y="2620"/>
                    </a:lnTo>
                    <a:lnTo>
                      <a:pt x="155" y="2526"/>
                    </a:lnTo>
                    <a:lnTo>
                      <a:pt x="173" y="2431"/>
                    </a:lnTo>
                    <a:lnTo>
                      <a:pt x="187" y="2336"/>
                    </a:lnTo>
                    <a:lnTo>
                      <a:pt x="202" y="2240"/>
                    </a:lnTo>
                    <a:lnTo>
                      <a:pt x="215" y="2144"/>
                    </a:lnTo>
                    <a:lnTo>
                      <a:pt x="226" y="2047"/>
                    </a:lnTo>
                    <a:lnTo>
                      <a:pt x="236" y="1950"/>
                    </a:lnTo>
                    <a:lnTo>
                      <a:pt x="244" y="1853"/>
                    </a:lnTo>
                    <a:lnTo>
                      <a:pt x="251" y="1754"/>
                    </a:lnTo>
                    <a:lnTo>
                      <a:pt x="257" y="1657"/>
                    </a:lnTo>
                    <a:lnTo>
                      <a:pt x="261" y="1557"/>
                    </a:lnTo>
                    <a:lnTo>
                      <a:pt x="263" y="1458"/>
                    </a:lnTo>
                    <a:lnTo>
                      <a:pt x="264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7532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5" h="2908">
                    <a:moveTo>
                      <a:pt x="265" y="1359"/>
                    </a:moveTo>
                    <a:lnTo>
                      <a:pt x="264" y="1271"/>
                    </a:lnTo>
                    <a:lnTo>
                      <a:pt x="263" y="1184"/>
                    </a:lnTo>
                    <a:lnTo>
                      <a:pt x="260" y="1098"/>
                    </a:lnTo>
                    <a:lnTo>
                      <a:pt x="256" y="1011"/>
                    </a:lnTo>
                    <a:lnTo>
                      <a:pt x="251" y="925"/>
                    </a:lnTo>
                    <a:lnTo>
                      <a:pt x="243" y="839"/>
                    </a:lnTo>
                    <a:lnTo>
                      <a:pt x="236" y="754"/>
                    </a:lnTo>
                    <a:lnTo>
                      <a:pt x="228" y="669"/>
                    </a:lnTo>
                    <a:lnTo>
                      <a:pt x="217" y="584"/>
                    </a:lnTo>
                    <a:lnTo>
                      <a:pt x="207" y="500"/>
                    </a:lnTo>
                    <a:lnTo>
                      <a:pt x="194" y="416"/>
                    </a:lnTo>
                    <a:lnTo>
                      <a:pt x="180" y="332"/>
                    </a:lnTo>
                    <a:lnTo>
                      <a:pt x="167" y="248"/>
                    </a:lnTo>
                    <a:lnTo>
                      <a:pt x="151" y="165"/>
                    </a:lnTo>
                    <a:lnTo>
                      <a:pt x="134" y="83"/>
                    </a:lnTo>
                    <a:lnTo>
                      <a:pt x="116" y="0"/>
                    </a:lnTo>
                    <a:lnTo>
                      <a:pt x="112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0" y="165"/>
                    </a:lnTo>
                    <a:lnTo>
                      <a:pt x="96" y="248"/>
                    </a:lnTo>
                    <a:lnTo>
                      <a:pt x="111" y="332"/>
                    </a:lnTo>
                    <a:lnTo>
                      <a:pt x="125" y="415"/>
                    </a:lnTo>
                    <a:lnTo>
                      <a:pt x="137" y="500"/>
                    </a:lnTo>
                    <a:lnTo>
                      <a:pt x="148" y="584"/>
                    </a:lnTo>
                    <a:lnTo>
                      <a:pt x="158" y="669"/>
                    </a:lnTo>
                    <a:lnTo>
                      <a:pt x="167" y="754"/>
                    </a:lnTo>
                    <a:lnTo>
                      <a:pt x="175" y="839"/>
                    </a:lnTo>
                    <a:lnTo>
                      <a:pt x="181" y="925"/>
                    </a:lnTo>
                    <a:lnTo>
                      <a:pt x="187" y="1011"/>
                    </a:lnTo>
                    <a:lnTo>
                      <a:pt x="191" y="1098"/>
                    </a:lnTo>
                    <a:lnTo>
                      <a:pt x="194" y="1184"/>
                    </a:lnTo>
                    <a:lnTo>
                      <a:pt x="196" y="1271"/>
                    </a:lnTo>
                    <a:lnTo>
                      <a:pt x="196" y="1359"/>
                    </a:lnTo>
                    <a:lnTo>
                      <a:pt x="196" y="1459"/>
                    </a:lnTo>
                    <a:lnTo>
                      <a:pt x="193" y="1559"/>
                    </a:lnTo>
                    <a:lnTo>
                      <a:pt x="190" y="1658"/>
                    </a:lnTo>
                    <a:lnTo>
                      <a:pt x="183" y="1757"/>
                    </a:lnTo>
                    <a:lnTo>
                      <a:pt x="177" y="1855"/>
                    </a:lnTo>
                    <a:lnTo>
                      <a:pt x="168" y="1954"/>
                    </a:lnTo>
                    <a:lnTo>
                      <a:pt x="158" y="2052"/>
                    </a:lnTo>
                    <a:lnTo>
                      <a:pt x="147" y="2148"/>
                    </a:lnTo>
                    <a:lnTo>
                      <a:pt x="133" y="2245"/>
                    </a:lnTo>
                    <a:lnTo>
                      <a:pt x="118" y="2341"/>
                    </a:lnTo>
                    <a:lnTo>
                      <a:pt x="102" y="2437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6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55" y="2908"/>
                    </a:lnTo>
                    <a:lnTo>
                      <a:pt x="72" y="2905"/>
                    </a:lnTo>
                    <a:lnTo>
                      <a:pt x="95" y="2813"/>
                    </a:lnTo>
                    <a:lnTo>
                      <a:pt x="116" y="2719"/>
                    </a:lnTo>
                    <a:lnTo>
                      <a:pt x="136" y="2625"/>
                    </a:lnTo>
                    <a:lnTo>
                      <a:pt x="155" y="2530"/>
                    </a:lnTo>
                    <a:lnTo>
                      <a:pt x="173" y="2435"/>
                    </a:lnTo>
                    <a:lnTo>
                      <a:pt x="189" y="2339"/>
                    </a:lnTo>
                    <a:lnTo>
                      <a:pt x="202" y="2244"/>
                    </a:lnTo>
                    <a:lnTo>
                      <a:pt x="216" y="2147"/>
                    </a:lnTo>
                    <a:lnTo>
                      <a:pt x="228" y="2050"/>
                    </a:lnTo>
                    <a:lnTo>
                      <a:pt x="237" y="1953"/>
                    </a:lnTo>
                    <a:lnTo>
                      <a:pt x="245" y="1854"/>
                    </a:lnTo>
                    <a:lnTo>
                      <a:pt x="253" y="1757"/>
                    </a:lnTo>
                    <a:lnTo>
                      <a:pt x="258" y="1658"/>
                    </a:lnTo>
                    <a:lnTo>
                      <a:pt x="262" y="1558"/>
                    </a:lnTo>
                    <a:lnTo>
                      <a:pt x="264" y="1458"/>
                    </a:lnTo>
                    <a:lnTo>
                      <a:pt x="265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6416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6" h="2908">
                    <a:moveTo>
                      <a:pt x="266" y="1359"/>
                    </a:moveTo>
                    <a:lnTo>
                      <a:pt x="265" y="1271"/>
                    </a:lnTo>
                    <a:lnTo>
                      <a:pt x="264" y="1184"/>
                    </a:lnTo>
                    <a:lnTo>
                      <a:pt x="260" y="1098"/>
                    </a:lnTo>
                    <a:lnTo>
                      <a:pt x="256" y="1011"/>
                    </a:lnTo>
                    <a:lnTo>
                      <a:pt x="251" y="925"/>
                    </a:lnTo>
                    <a:lnTo>
                      <a:pt x="245" y="839"/>
                    </a:lnTo>
                    <a:lnTo>
                      <a:pt x="236" y="754"/>
                    </a:lnTo>
                    <a:lnTo>
                      <a:pt x="228" y="669"/>
                    </a:lnTo>
                    <a:lnTo>
                      <a:pt x="217" y="584"/>
                    </a:lnTo>
                    <a:lnTo>
                      <a:pt x="207" y="500"/>
                    </a:lnTo>
                    <a:lnTo>
                      <a:pt x="194" y="416"/>
                    </a:lnTo>
                    <a:lnTo>
                      <a:pt x="181" y="332"/>
                    </a:lnTo>
                    <a:lnTo>
                      <a:pt x="166" y="248"/>
                    </a:lnTo>
                    <a:lnTo>
                      <a:pt x="151" y="165"/>
                    </a:lnTo>
                    <a:lnTo>
                      <a:pt x="134" y="83"/>
                    </a:lnTo>
                    <a:lnTo>
                      <a:pt x="116" y="0"/>
                    </a:lnTo>
                    <a:lnTo>
                      <a:pt x="63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1" y="165"/>
                    </a:lnTo>
                    <a:lnTo>
                      <a:pt x="96" y="248"/>
                    </a:lnTo>
                    <a:lnTo>
                      <a:pt x="111" y="332"/>
                    </a:lnTo>
                    <a:lnTo>
                      <a:pt x="125" y="415"/>
                    </a:lnTo>
                    <a:lnTo>
                      <a:pt x="137" y="499"/>
                    </a:lnTo>
                    <a:lnTo>
                      <a:pt x="148" y="584"/>
                    </a:lnTo>
                    <a:lnTo>
                      <a:pt x="158" y="669"/>
                    </a:lnTo>
                    <a:lnTo>
                      <a:pt x="167" y="754"/>
                    </a:lnTo>
                    <a:lnTo>
                      <a:pt x="175" y="839"/>
                    </a:lnTo>
                    <a:lnTo>
                      <a:pt x="182" y="925"/>
                    </a:lnTo>
                    <a:lnTo>
                      <a:pt x="187" y="1011"/>
                    </a:lnTo>
                    <a:lnTo>
                      <a:pt x="191" y="1097"/>
                    </a:lnTo>
                    <a:lnTo>
                      <a:pt x="194" y="1184"/>
                    </a:lnTo>
                    <a:lnTo>
                      <a:pt x="196" y="1271"/>
                    </a:lnTo>
                    <a:lnTo>
                      <a:pt x="197" y="1359"/>
                    </a:lnTo>
                    <a:lnTo>
                      <a:pt x="196" y="1459"/>
                    </a:lnTo>
                    <a:lnTo>
                      <a:pt x="194" y="1559"/>
                    </a:lnTo>
                    <a:lnTo>
                      <a:pt x="190" y="1658"/>
                    </a:lnTo>
                    <a:lnTo>
                      <a:pt x="184" y="1758"/>
                    </a:lnTo>
                    <a:lnTo>
                      <a:pt x="177" y="1855"/>
                    </a:lnTo>
                    <a:lnTo>
                      <a:pt x="168" y="1954"/>
                    </a:lnTo>
                    <a:lnTo>
                      <a:pt x="158" y="2052"/>
                    </a:lnTo>
                    <a:lnTo>
                      <a:pt x="147" y="2148"/>
                    </a:lnTo>
                    <a:lnTo>
                      <a:pt x="133" y="2246"/>
                    </a:lnTo>
                    <a:lnTo>
                      <a:pt x="119" y="2341"/>
                    </a:lnTo>
                    <a:lnTo>
                      <a:pt x="103" y="2437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5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4" y="2815"/>
                    </a:lnTo>
                    <a:lnTo>
                      <a:pt x="115" y="2722"/>
                    </a:lnTo>
                    <a:lnTo>
                      <a:pt x="136" y="2627"/>
                    </a:lnTo>
                    <a:lnTo>
                      <a:pt x="155" y="2533"/>
                    </a:lnTo>
                    <a:lnTo>
                      <a:pt x="172" y="2437"/>
                    </a:lnTo>
                    <a:lnTo>
                      <a:pt x="188" y="2341"/>
                    </a:lnTo>
                    <a:lnTo>
                      <a:pt x="203" y="2245"/>
                    </a:lnTo>
                    <a:lnTo>
                      <a:pt x="216" y="2148"/>
                    </a:lnTo>
                    <a:lnTo>
                      <a:pt x="228" y="2052"/>
                    </a:lnTo>
                    <a:lnTo>
                      <a:pt x="237" y="1954"/>
                    </a:lnTo>
                    <a:lnTo>
                      <a:pt x="246" y="1855"/>
                    </a:lnTo>
                    <a:lnTo>
                      <a:pt x="253" y="1757"/>
                    </a:lnTo>
                    <a:lnTo>
                      <a:pt x="258" y="1658"/>
                    </a:lnTo>
                    <a:lnTo>
                      <a:pt x="263" y="1559"/>
                    </a:lnTo>
                    <a:lnTo>
                      <a:pt x="265" y="1459"/>
                    </a:lnTo>
                    <a:lnTo>
                      <a:pt x="266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5300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7" h="2908">
                    <a:moveTo>
                      <a:pt x="267" y="1359"/>
                    </a:moveTo>
                    <a:lnTo>
                      <a:pt x="267" y="1271"/>
                    </a:lnTo>
                    <a:lnTo>
                      <a:pt x="265" y="1184"/>
                    </a:lnTo>
                    <a:lnTo>
                      <a:pt x="262" y="1098"/>
                    </a:lnTo>
                    <a:lnTo>
                      <a:pt x="258" y="1011"/>
                    </a:lnTo>
                    <a:lnTo>
                      <a:pt x="252" y="925"/>
                    </a:lnTo>
                    <a:lnTo>
                      <a:pt x="246" y="839"/>
                    </a:lnTo>
                    <a:lnTo>
                      <a:pt x="238" y="754"/>
                    </a:lnTo>
                    <a:lnTo>
                      <a:pt x="229" y="669"/>
                    </a:lnTo>
                    <a:lnTo>
                      <a:pt x="219" y="584"/>
                    </a:lnTo>
                    <a:lnTo>
                      <a:pt x="208" y="500"/>
                    </a:lnTo>
                    <a:lnTo>
                      <a:pt x="196" y="415"/>
                    </a:lnTo>
                    <a:lnTo>
                      <a:pt x="182" y="332"/>
                    </a:lnTo>
                    <a:lnTo>
                      <a:pt x="167" y="248"/>
                    </a:lnTo>
                    <a:lnTo>
                      <a:pt x="151" y="165"/>
                    </a:lnTo>
                    <a:lnTo>
                      <a:pt x="135" y="83"/>
                    </a:lnTo>
                    <a:lnTo>
                      <a:pt x="117" y="0"/>
                    </a:lnTo>
                    <a:lnTo>
                      <a:pt x="99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2" y="165"/>
                    </a:lnTo>
                    <a:lnTo>
                      <a:pt x="98" y="248"/>
                    </a:lnTo>
                    <a:lnTo>
                      <a:pt x="112" y="332"/>
                    </a:lnTo>
                    <a:lnTo>
                      <a:pt x="126" y="415"/>
                    </a:lnTo>
                    <a:lnTo>
                      <a:pt x="138" y="499"/>
                    </a:lnTo>
                    <a:lnTo>
                      <a:pt x="149" y="584"/>
                    </a:lnTo>
                    <a:lnTo>
                      <a:pt x="160" y="669"/>
                    </a:lnTo>
                    <a:lnTo>
                      <a:pt x="169" y="754"/>
                    </a:lnTo>
                    <a:lnTo>
                      <a:pt x="177" y="839"/>
                    </a:lnTo>
                    <a:lnTo>
                      <a:pt x="183" y="925"/>
                    </a:lnTo>
                    <a:lnTo>
                      <a:pt x="189" y="1011"/>
                    </a:lnTo>
                    <a:lnTo>
                      <a:pt x="193" y="1097"/>
                    </a:lnTo>
                    <a:lnTo>
                      <a:pt x="197" y="1184"/>
                    </a:lnTo>
                    <a:lnTo>
                      <a:pt x="198" y="1271"/>
                    </a:lnTo>
                    <a:lnTo>
                      <a:pt x="199" y="1359"/>
                    </a:lnTo>
                    <a:lnTo>
                      <a:pt x="198" y="1459"/>
                    </a:lnTo>
                    <a:lnTo>
                      <a:pt x="196" y="1559"/>
                    </a:lnTo>
                    <a:lnTo>
                      <a:pt x="191" y="1658"/>
                    </a:lnTo>
                    <a:lnTo>
                      <a:pt x="186" y="1758"/>
                    </a:lnTo>
                    <a:lnTo>
                      <a:pt x="179" y="1856"/>
                    </a:lnTo>
                    <a:lnTo>
                      <a:pt x="170" y="1954"/>
                    </a:lnTo>
                    <a:lnTo>
                      <a:pt x="160" y="2052"/>
                    </a:lnTo>
                    <a:lnTo>
                      <a:pt x="148" y="2149"/>
                    </a:lnTo>
                    <a:lnTo>
                      <a:pt x="135" y="2246"/>
                    </a:lnTo>
                    <a:lnTo>
                      <a:pt x="120" y="2341"/>
                    </a:lnTo>
                    <a:lnTo>
                      <a:pt x="103" y="2438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5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5" y="2815"/>
                    </a:lnTo>
                    <a:lnTo>
                      <a:pt x="117" y="2722"/>
                    </a:lnTo>
                    <a:lnTo>
                      <a:pt x="137" y="2627"/>
                    </a:lnTo>
                    <a:lnTo>
                      <a:pt x="156" y="2533"/>
                    </a:lnTo>
                    <a:lnTo>
                      <a:pt x="173" y="2437"/>
                    </a:lnTo>
                    <a:lnTo>
                      <a:pt x="189" y="2341"/>
                    </a:lnTo>
                    <a:lnTo>
                      <a:pt x="204" y="2245"/>
                    </a:lnTo>
                    <a:lnTo>
                      <a:pt x="218" y="2148"/>
                    </a:lnTo>
                    <a:lnTo>
                      <a:pt x="229" y="2052"/>
                    </a:lnTo>
                    <a:lnTo>
                      <a:pt x="239" y="1954"/>
                    </a:lnTo>
                    <a:lnTo>
                      <a:pt x="248" y="1855"/>
                    </a:lnTo>
                    <a:lnTo>
                      <a:pt x="254" y="1757"/>
                    </a:lnTo>
                    <a:lnTo>
                      <a:pt x="261" y="1658"/>
                    </a:lnTo>
                    <a:lnTo>
                      <a:pt x="264" y="1559"/>
                    </a:lnTo>
                    <a:lnTo>
                      <a:pt x="267" y="1459"/>
                    </a:lnTo>
                    <a:lnTo>
                      <a:pt x="267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54184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9" h="2908">
                    <a:moveTo>
                      <a:pt x="269" y="1359"/>
                    </a:moveTo>
                    <a:lnTo>
                      <a:pt x="268" y="1271"/>
                    </a:lnTo>
                    <a:lnTo>
                      <a:pt x="266" y="1184"/>
                    </a:lnTo>
                    <a:lnTo>
                      <a:pt x="263" y="1097"/>
                    </a:lnTo>
                    <a:lnTo>
                      <a:pt x="259" y="1011"/>
                    </a:lnTo>
                    <a:lnTo>
                      <a:pt x="254" y="925"/>
                    </a:lnTo>
                    <a:lnTo>
                      <a:pt x="247" y="839"/>
                    </a:lnTo>
                    <a:lnTo>
                      <a:pt x="239" y="754"/>
                    </a:lnTo>
                    <a:lnTo>
                      <a:pt x="230" y="669"/>
                    </a:lnTo>
                    <a:lnTo>
                      <a:pt x="220" y="584"/>
                    </a:lnTo>
                    <a:lnTo>
                      <a:pt x="209" y="499"/>
                    </a:lnTo>
                    <a:lnTo>
                      <a:pt x="197" y="415"/>
                    </a:lnTo>
                    <a:lnTo>
                      <a:pt x="183" y="332"/>
                    </a:lnTo>
                    <a:lnTo>
                      <a:pt x="168" y="248"/>
                    </a:lnTo>
                    <a:lnTo>
                      <a:pt x="153" y="165"/>
                    </a:lnTo>
                    <a:lnTo>
                      <a:pt x="136" y="83"/>
                    </a:lnTo>
                    <a:lnTo>
                      <a:pt x="118" y="0"/>
                    </a:lnTo>
                    <a:lnTo>
                      <a:pt x="51" y="0"/>
                    </a:lnTo>
                    <a:lnTo>
                      <a:pt x="48" y="1"/>
                    </a:lnTo>
                    <a:lnTo>
                      <a:pt x="65" y="84"/>
                    </a:lnTo>
                    <a:lnTo>
                      <a:pt x="82" y="166"/>
                    </a:lnTo>
                    <a:lnTo>
                      <a:pt x="99" y="249"/>
                    </a:lnTo>
                    <a:lnTo>
                      <a:pt x="114" y="332"/>
                    </a:lnTo>
                    <a:lnTo>
                      <a:pt x="127" y="416"/>
                    </a:lnTo>
                    <a:lnTo>
                      <a:pt x="140" y="500"/>
                    </a:lnTo>
                    <a:lnTo>
                      <a:pt x="151" y="584"/>
                    </a:lnTo>
                    <a:lnTo>
                      <a:pt x="161" y="669"/>
                    </a:lnTo>
                    <a:lnTo>
                      <a:pt x="171" y="754"/>
                    </a:lnTo>
                    <a:lnTo>
                      <a:pt x="178" y="840"/>
                    </a:lnTo>
                    <a:lnTo>
                      <a:pt x="185" y="925"/>
                    </a:lnTo>
                    <a:lnTo>
                      <a:pt x="191" y="1011"/>
                    </a:lnTo>
                    <a:lnTo>
                      <a:pt x="195" y="1098"/>
                    </a:lnTo>
                    <a:lnTo>
                      <a:pt x="198" y="1184"/>
                    </a:lnTo>
                    <a:lnTo>
                      <a:pt x="200" y="1271"/>
                    </a:lnTo>
                    <a:lnTo>
                      <a:pt x="200" y="1359"/>
                    </a:lnTo>
                    <a:lnTo>
                      <a:pt x="199" y="1459"/>
                    </a:lnTo>
                    <a:lnTo>
                      <a:pt x="197" y="1559"/>
                    </a:lnTo>
                    <a:lnTo>
                      <a:pt x="193" y="1659"/>
                    </a:lnTo>
                    <a:lnTo>
                      <a:pt x="187" y="1758"/>
                    </a:lnTo>
                    <a:lnTo>
                      <a:pt x="180" y="1856"/>
                    </a:lnTo>
                    <a:lnTo>
                      <a:pt x="172" y="1954"/>
                    </a:lnTo>
                    <a:lnTo>
                      <a:pt x="161" y="2052"/>
                    </a:lnTo>
                    <a:lnTo>
                      <a:pt x="150" y="2149"/>
                    </a:lnTo>
                    <a:lnTo>
                      <a:pt x="136" y="2246"/>
                    </a:lnTo>
                    <a:lnTo>
                      <a:pt x="121" y="2341"/>
                    </a:lnTo>
                    <a:lnTo>
                      <a:pt x="104" y="2438"/>
                    </a:lnTo>
                    <a:lnTo>
                      <a:pt x="86" y="2533"/>
                    </a:lnTo>
                    <a:lnTo>
                      <a:pt x="68" y="2627"/>
                    </a:lnTo>
                    <a:lnTo>
                      <a:pt x="47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21" y="2908"/>
                    </a:lnTo>
                    <a:lnTo>
                      <a:pt x="72" y="2908"/>
                    </a:lnTo>
                    <a:lnTo>
                      <a:pt x="95" y="2815"/>
                    </a:lnTo>
                    <a:lnTo>
                      <a:pt x="117" y="2722"/>
                    </a:lnTo>
                    <a:lnTo>
                      <a:pt x="138" y="2627"/>
                    </a:lnTo>
                    <a:lnTo>
                      <a:pt x="157" y="2533"/>
                    </a:lnTo>
                    <a:lnTo>
                      <a:pt x="175" y="2437"/>
                    </a:lnTo>
                    <a:lnTo>
                      <a:pt x="191" y="2341"/>
                    </a:lnTo>
                    <a:lnTo>
                      <a:pt x="205" y="2246"/>
                    </a:lnTo>
                    <a:lnTo>
                      <a:pt x="219" y="2148"/>
                    </a:lnTo>
                    <a:lnTo>
                      <a:pt x="230" y="2052"/>
                    </a:lnTo>
                    <a:lnTo>
                      <a:pt x="240" y="1954"/>
                    </a:lnTo>
                    <a:lnTo>
                      <a:pt x="249" y="1855"/>
                    </a:lnTo>
                    <a:lnTo>
                      <a:pt x="256" y="1758"/>
                    </a:lnTo>
                    <a:lnTo>
                      <a:pt x="262" y="1658"/>
                    </a:lnTo>
                    <a:lnTo>
                      <a:pt x="266" y="1559"/>
                    </a:lnTo>
                    <a:lnTo>
                      <a:pt x="268" y="1459"/>
                    </a:lnTo>
                    <a:lnTo>
                      <a:pt x="269" y="135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530680" y="2562120"/>
                <a:ext cx="86040" cy="922320"/>
              </a:xfrm>
              <a:custGeom>
                <a:avLst/>
                <a:gdLst/>
                <a:ahLst/>
                <a:rect l="l" t="t" r="r" b="b"/>
                <a:pathLst>
                  <a:path w="270" h="2908">
                    <a:moveTo>
                      <a:pt x="270" y="1359"/>
                    </a:moveTo>
                    <a:lnTo>
                      <a:pt x="269" y="1271"/>
                    </a:lnTo>
                    <a:lnTo>
                      <a:pt x="268" y="1184"/>
                    </a:lnTo>
                    <a:lnTo>
                      <a:pt x="264" y="1097"/>
                    </a:lnTo>
                    <a:lnTo>
                      <a:pt x="260" y="1011"/>
                    </a:lnTo>
                    <a:lnTo>
                      <a:pt x="254" y="925"/>
                    </a:lnTo>
                    <a:lnTo>
                      <a:pt x="248" y="839"/>
                    </a:lnTo>
                    <a:lnTo>
                      <a:pt x="240" y="754"/>
                    </a:lnTo>
                    <a:lnTo>
                      <a:pt x="231" y="669"/>
                    </a:lnTo>
                    <a:lnTo>
                      <a:pt x="220" y="584"/>
                    </a:lnTo>
                    <a:lnTo>
                      <a:pt x="209" y="499"/>
                    </a:lnTo>
                    <a:lnTo>
                      <a:pt x="197" y="415"/>
                    </a:lnTo>
                    <a:lnTo>
                      <a:pt x="183" y="332"/>
                    </a:lnTo>
                    <a:lnTo>
                      <a:pt x="169" y="248"/>
                    </a:lnTo>
                    <a:lnTo>
                      <a:pt x="153" y="165"/>
                    </a:lnTo>
                    <a:lnTo>
                      <a:pt x="135" y="83"/>
                    </a:lnTo>
                    <a:lnTo>
                      <a:pt x="117" y="0"/>
                    </a:lnTo>
                    <a:lnTo>
                      <a:pt x="86" y="0"/>
                    </a:lnTo>
                    <a:lnTo>
                      <a:pt x="50" y="13"/>
                    </a:lnTo>
                    <a:lnTo>
                      <a:pt x="68" y="94"/>
                    </a:lnTo>
                    <a:lnTo>
                      <a:pt x="85" y="176"/>
                    </a:lnTo>
                    <a:lnTo>
                      <a:pt x="100" y="258"/>
                    </a:lnTo>
                    <a:lnTo>
                      <a:pt x="115" y="341"/>
                    </a:lnTo>
                    <a:lnTo>
                      <a:pt x="129" y="424"/>
                    </a:lnTo>
                    <a:lnTo>
                      <a:pt x="141" y="507"/>
                    </a:lnTo>
                    <a:lnTo>
                      <a:pt x="152" y="591"/>
                    </a:lnTo>
                    <a:lnTo>
                      <a:pt x="162" y="675"/>
                    </a:lnTo>
                    <a:lnTo>
                      <a:pt x="171" y="759"/>
                    </a:lnTo>
                    <a:lnTo>
                      <a:pt x="179" y="844"/>
                    </a:lnTo>
                    <a:lnTo>
                      <a:pt x="186" y="929"/>
                    </a:lnTo>
                    <a:lnTo>
                      <a:pt x="191" y="1014"/>
                    </a:lnTo>
                    <a:lnTo>
                      <a:pt x="195" y="1100"/>
                    </a:lnTo>
                    <a:lnTo>
                      <a:pt x="198" y="1186"/>
                    </a:lnTo>
                    <a:lnTo>
                      <a:pt x="200" y="1273"/>
                    </a:lnTo>
                    <a:lnTo>
                      <a:pt x="201" y="1359"/>
                    </a:lnTo>
                    <a:lnTo>
                      <a:pt x="200" y="1459"/>
                    </a:lnTo>
                    <a:lnTo>
                      <a:pt x="197" y="1559"/>
                    </a:lnTo>
                    <a:lnTo>
                      <a:pt x="193" y="1659"/>
                    </a:lnTo>
                    <a:lnTo>
                      <a:pt x="188" y="1758"/>
                    </a:lnTo>
                    <a:lnTo>
                      <a:pt x="180" y="1856"/>
                    </a:lnTo>
                    <a:lnTo>
                      <a:pt x="172" y="1954"/>
                    </a:lnTo>
                    <a:lnTo>
                      <a:pt x="161" y="2052"/>
                    </a:lnTo>
                    <a:lnTo>
                      <a:pt x="150" y="2149"/>
                    </a:lnTo>
                    <a:lnTo>
                      <a:pt x="136" y="2246"/>
                    </a:lnTo>
                    <a:lnTo>
                      <a:pt x="120" y="2342"/>
                    </a:lnTo>
                    <a:lnTo>
                      <a:pt x="105" y="2438"/>
                    </a:lnTo>
                    <a:lnTo>
                      <a:pt x="87" y="2533"/>
                    </a:lnTo>
                    <a:lnTo>
                      <a:pt x="67" y="2628"/>
                    </a:lnTo>
                    <a:lnTo>
                      <a:pt x="46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56" y="2908"/>
                    </a:lnTo>
                    <a:lnTo>
                      <a:pt x="71" y="2908"/>
                    </a:lnTo>
                    <a:lnTo>
                      <a:pt x="94" y="2815"/>
                    </a:lnTo>
                    <a:lnTo>
                      <a:pt x="116" y="2722"/>
                    </a:lnTo>
                    <a:lnTo>
                      <a:pt x="137" y="2627"/>
                    </a:lnTo>
                    <a:lnTo>
                      <a:pt x="156" y="2533"/>
                    </a:lnTo>
                    <a:lnTo>
                      <a:pt x="174" y="2438"/>
                    </a:lnTo>
                    <a:lnTo>
                      <a:pt x="191" y="2341"/>
                    </a:lnTo>
                    <a:lnTo>
                      <a:pt x="206" y="2246"/>
                    </a:lnTo>
                    <a:lnTo>
                      <a:pt x="219" y="2149"/>
                    </a:lnTo>
                    <a:lnTo>
                      <a:pt x="231" y="2052"/>
                    </a:lnTo>
                    <a:lnTo>
                      <a:pt x="241" y="1954"/>
                    </a:lnTo>
                    <a:lnTo>
                      <a:pt x="250" y="1856"/>
                    </a:lnTo>
                    <a:lnTo>
                      <a:pt x="257" y="1758"/>
                    </a:lnTo>
                    <a:lnTo>
                      <a:pt x="262" y="1658"/>
                    </a:lnTo>
                    <a:lnTo>
                      <a:pt x="267" y="1559"/>
                    </a:lnTo>
                    <a:lnTo>
                      <a:pt x="269" y="1459"/>
                    </a:lnTo>
                    <a:lnTo>
                      <a:pt x="270" y="135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518080" y="2562120"/>
                <a:ext cx="87480" cy="922320"/>
              </a:xfrm>
              <a:custGeom>
                <a:avLst/>
                <a:gdLst/>
                <a:ahLst/>
                <a:rect l="l" t="t" r="r" b="b"/>
                <a:pathLst>
                  <a:path w="271" h="2907">
                    <a:moveTo>
                      <a:pt x="271" y="1358"/>
                    </a:moveTo>
                    <a:lnTo>
                      <a:pt x="271" y="1270"/>
                    </a:lnTo>
                    <a:lnTo>
                      <a:pt x="269" y="1183"/>
                    </a:lnTo>
                    <a:lnTo>
                      <a:pt x="266" y="1097"/>
                    </a:lnTo>
                    <a:lnTo>
                      <a:pt x="262" y="1010"/>
                    </a:lnTo>
                    <a:lnTo>
                      <a:pt x="256" y="924"/>
                    </a:lnTo>
                    <a:lnTo>
                      <a:pt x="249" y="839"/>
                    </a:lnTo>
                    <a:lnTo>
                      <a:pt x="242" y="753"/>
                    </a:lnTo>
                    <a:lnTo>
                      <a:pt x="232" y="668"/>
                    </a:lnTo>
                    <a:lnTo>
                      <a:pt x="222" y="583"/>
                    </a:lnTo>
                    <a:lnTo>
                      <a:pt x="211" y="499"/>
                    </a:lnTo>
                    <a:lnTo>
                      <a:pt x="198" y="415"/>
                    </a:lnTo>
                    <a:lnTo>
                      <a:pt x="185" y="331"/>
                    </a:lnTo>
                    <a:lnTo>
                      <a:pt x="170" y="248"/>
                    </a:lnTo>
                    <a:lnTo>
                      <a:pt x="153" y="165"/>
                    </a:lnTo>
                    <a:lnTo>
                      <a:pt x="136" y="83"/>
                    </a:lnTo>
                    <a:lnTo>
                      <a:pt x="119" y="0"/>
                    </a:lnTo>
                    <a:lnTo>
                      <a:pt x="53" y="23"/>
                    </a:lnTo>
                    <a:lnTo>
                      <a:pt x="71" y="104"/>
                    </a:lnTo>
                    <a:lnTo>
                      <a:pt x="88" y="186"/>
                    </a:lnTo>
                    <a:lnTo>
                      <a:pt x="103" y="267"/>
                    </a:lnTo>
                    <a:lnTo>
                      <a:pt x="118" y="349"/>
                    </a:lnTo>
                    <a:lnTo>
                      <a:pt x="131" y="430"/>
                    </a:lnTo>
                    <a:lnTo>
                      <a:pt x="143" y="513"/>
                    </a:lnTo>
                    <a:lnTo>
                      <a:pt x="154" y="596"/>
                    </a:lnTo>
                    <a:lnTo>
                      <a:pt x="165" y="679"/>
                    </a:lnTo>
                    <a:lnTo>
                      <a:pt x="173" y="763"/>
                    </a:lnTo>
                    <a:lnTo>
                      <a:pt x="181" y="847"/>
                    </a:lnTo>
                    <a:lnTo>
                      <a:pt x="187" y="931"/>
                    </a:lnTo>
                    <a:lnTo>
                      <a:pt x="193" y="1016"/>
                    </a:lnTo>
                    <a:lnTo>
                      <a:pt x="197" y="1101"/>
                    </a:lnTo>
                    <a:lnTo>
                      <a:pt x="200" y="1186"/>
                    </a:lnTo>
                    <a:lnTo>
                      <a:pt x="202" y="1273"/>
                    </a:lnTo>
                    <a:lnTo>
                      <a:pt x="203" y="1358"/>
                    </a:lnTo>
                    <a:lnTo>
                      <a:pt x="202" y="1458"/>
                    </a:lnTo>
                    <a:lnTo>
                      <a:pt x="200" y="1558"/>
                    </a:lnTo>
                    <a:lnTo>
                      <a:pt x="195" y="1658"/>
                    </a:lnTo>
                    <a:lnTo>
                      <a:pt x="189" y="1757"/>
                    </a:lnTo>
                    <a:lnTo>
                      <a:pt x="182" y="1855"/>
                    </a:lnTo>
                    <a:lnTo>
                      <a:pt x="173" y="1953"/>
                    </a:lnTo>
                    <a:lnTo>
                      <a:pt x="163" y="2051"/>
                    </a:lnTo>
                    <a:lnTo>
                      <a:pt x="150" y="2148"/>
                    </a:lnTo>
                    <a:lnTo>
                      <a:pt x="137" y="2245"/>
                    </a:lnTo>
                    <a:lnTo>
                      <a:pt x="122" y="2341"/>
                    </a:lnTo>
                    <a:lnTo>
                      <a:pt x="105" y="2437"/>
                    </a:lnTo>
                    <a:lnTo>
                      <a:pt x="87" y="2532"/>
                    </a:lnTo>
                    <a:lnTo>
                      <a:pt x="68" y="2627"/>
                    </a:lnTo>
                    <a:lnTo>
                      <a:pt x="47" y="2721"/>
                    </a:lnTo>
                    <a:lnTo>
                      <a:pt x="24" y="2814"/>
                    </a:lnTo>
                    <a:lnTo>
                      <a:pt x="0" y="2907"/>
                    </a:lnTo>
                    <a:lnTo>
                      <a:pt x="71" y="2907"/>
                    </a:lnTo>
                    <a:lnTo>
                      <a:pt x="95" y="2814"/>
                    </a:lnTo>
                    <a:lnTo>
                      <a:pt x="118" y="2721"/>
                    </a:lnTo>
                    <a:lnTo>
                      <a:pt x="139" y="2626"/>
                    </a:lnTo>
                    <a:lnTo>
                      <a:pt x="157" y="2532"/>
                    </a:lnTo>
                    <a:lnTo>
                      <a:pt x="175" y="2437"/>
                    </a:lnTo>
                    <a:lnTo>
                      <a:pt x="192" y="2340"/>
                    </a:lnTo>
                    <a:lnTo>
                      <a:pt x="207" y="2245"/>
                    </a:lnTo>
                    <a:lnTo>
                      <a:pt x="221" y="2148"/>
                    </a:lnTo>
                    <a:lnTo>
                      <a:pt x="232" y="2051"/>
                    </a:lnTo>
                    <a:lnTo>
                      <a:pt x="243" y="1953"/>
                    </a:lnTo>
                    <a:lnTo>
                      <a:pt x="251" y="1855"/>
                    </a:lnTo>
                    <a:lnTo>
                      <a:pt x="258" y="1757"/>
                    </a:lnTo>
                    <a:lnTo>
                      <a:pt x="264" y="1658"/>
                    </a:lnTo>
                    <a:lnTo>
                      <a:pt x="268" y="1558"/>
                    </a:lnTo>
                    <a:lnTo>
                      <a:pt x="270" y="1458"/>
                    </a:lnTo>
                    <a:lnTo>
                      <a:pt x="271" y="135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506920" y="2565360"/>
                <a:ext cx="87480" cy="919080"/>
              </a:xfrm>
              <a:custGeom>
                <a:avLst/>
                <a:gdLst/>
                <a:ahLst/>
                <a:rect l="l" t="t" r="r" b="b"/>
                <a:pathLst>
                  <a:path w="272" h="2895">
                    <a:moveTo>
                      <a:pt x="272" y="1346"/>
                    </a:moveTo>
                    <a:lnTo>
                      <a:pt x="272" y="1260"/>
                    </a:lnTo>
                    <a:lnTo>
                      <a:pt x="270" y="1173"/>
                    </a:lnTo>
                    <a:lnTo>
                      <a:pt x="267" y="1087"/>
                    </a:lnTo>
                    <a:lnTo>
                      <a:pt x="263" y="1001"/>
                    </a:lnTo>
                    <a:lnTo>
                      <a:pt x="258" y="916"/>
                    </a:lnTo>
                    <a:lnTo>
                      <a:pt x="251" y="831"/>
                    </a:lnTo>
                    <a:lnTo>
                      <a:pt x="243" y="746"/>
                    </a:lnTo>
                    <a:lnTo>
                      <a:pt x="234" y="662"/>
                    </a:lnTo>
                    <a:lnTo>
                      <a:pt x="224" y="578"/>
                    </a:lnTo>
                    <a:lnTo>
                      <a:pt x="212" y="494"/>
                    </a:lnTo>
                    <a:lnTo>
                      <a:pt x="201" y="411"/>
                    </a:lnTo>
                    <a:lnTo>
                      <a:pt x="187" y="328"/>
                    </a:lnTo>
                    <a:lnTo>
                      <a:pt x="172" y="245"/>
                    </a:lnTo>
                    <a:lnTo>
                      <a:pt x="157" y="163"/>
                    </a:lnTo>
                    <a:lnTo>
                      <a:pt x="140" y="81"/>
                    </a:lnTo>
                    <a:lnTo>
                      <a:pt x="122" y="0"/>
                    </a:lnTo>
                    <a:lnTo>
                      <a:pt x="74" y="17"/>
                    </a:lnTo>
                    <a:lnTo>
                      <a:pt x="55" y="17"/>
                    </a:lnTo>
                    <a:lnTo>
                      <a:pt x="73" y="97"/>
                    </a:lnTo>
                    <a:lnTo>
                      <a:pt x="89" y="178"/>
                    </a:lnTo>
                    <a:lnTo>
                      <a:pt x="105" y="259"/>
                    </a:lnTo>
                    <a:lnTo>
                      <a:pt x="120" y="341"/>
                    </a:lnTo>
                    <a:lnTo>
                      <a:pt x="133" y="423"/>
                    </a:lnTo>
                    <a:lnTo>
                      <a:pt x="145" y="505"/>
                    </a:lnTo>
                    <a:lnTo>
                      <a:pt x="156" y="588"/>
                    </a:lnTo>
                    <a:lnTo>
                      <a:pt x="166" y="670"/>
                    </a:lnTo>
                    <a:lnTo>
                      <a:pt x="175" y="753"/>
                    </a:lnTo>
                    <a:lnTo>
                      <a:pt x="183" y="837"/>
                    </a:lnTo>
                    <a:lnTo>
                      <a:pt x="189" y="921"/>
                    </a:lnTo>
                    <a:lnTo>
                      <a:pt x="195" y="1005"/>
                    </a:lnTo>
                    <a:lnTo>
                      <a:pt x="199" y="1090"/>
                    </a:lnTo>
                    <a:lnTo>
                      <a:pt x="202" y="1176"/>
                    </a:lnTo>
                    <a:lnTo>
                      <a:pt x="203" y="1261"/>
                    </a:lnTo>
                    <a:lnTo>
                      <a:pt x="204" y="1346"/>
                    </a:lnTo>
                    <a:lnTo>
                      <a:pt x="203" y="1446"/>
                    </a:lnTo>
                    <a:lnTo>
                      <a:pt x="201" y="1546"/>
                    </a:lnTo>
                    <a:lnTo>
                      <a:pt x="197" y="1646"/>
                    </a:lnTo>
                    <a:lnTo>
                      <a:pt x="190" y="1745"/>
                    </a:lnTo>
                    <a:lnTo>
                      <a:pt x="183" y="1843"/>
                    </a:lnTo>
                    <a:lnTo>
                      <a:pt x="175" y="1941"/>
                    </a:lnTo>
                    <a:lnTo>
                      <a:pt x="164" y="2039"/>
                    </a:lnTo>
                    <a:lnTo>
                      <a:pt x="151" y="2136"/>
                    </a:lnTo>
                    <a:lnTo>
                      <a:pt x="138" y="2233"/>
                    </a:lnTo>
                    <a:lnTo>
                      <a:pt x="123" y="2329"/>
                    </a:lnTo>
                    <a:lnTo>
                      <a:pt x="106" y="2425"/>
                    </a:lnTo>
                    <a:lnTo>
                      <a:pt x="88" y="2520"/>
                    </a:lnTo>
                    <a:lnTo>
                      <a:pt x="68" y="2615"/>
                    </a:lnTo>
                    <a:lnTo>
                      <a:pt x="47" y="2709"/>
                    </a:lnTo>
                    <a:lnTo>
                      <a:pt x="24" y="2802"/>
                    </a:lnTo>
                    <a:lnTo>
                      <a:pt x="0" y="2895"/>
                    </a:lnTo>
                    <a:lnTo>
                      <a:pt x="72" y="2895"/>
                    </a:lnTo>
                    <a:lnTo>
                      <a:pt x="96" y="2802"/>
                    </a:lnTo>
                    <a:lnTo>
                      <a:pt x="118" y="2709"/>
                    </a:lnTo>
                    <a:lnTo>
                      <a:pt x="139" y="2615"/>
                    </a:lnTo>
                    <a:lnTo>
                      <a:pt x="159" y="2520"/>
                    </a:lnTo>
                    <a:lnTo>
                      <a:pt x="177" y="2425"/>
                    </a:lnTo>
                    <a:lnTo>
                      <a:pt x="192" y="2329"/>
                    </a:lnTo>
                    <a:lnTo>
                      <a:pt x="208" y="2233"/>
                    </a:lnTo>
                    <a:lnTo>
                      <a:pt x="222" y="2136"/>
                    </a:lnTo>
                    <a:lnTo>
                      <a:pt x="233" y="2039"/>
                    </a:lnTo>
                    <a:lnTo>
                      <a:pt x="244" y="1941"/>
                    </a:lnTo>
                    <a:lnTo>
                      <a:pt x="252" y="1843"/>
                    </a:lnTo>
                    <a:lnTo>
                      <a:pt x="260" y="1745"/>
                    </a:lnTo>
                    <a:lnTo>
                      <a:pt x="265" y="1646"/>
                    </a:lnTo>
                    <a:lnTo>
                      <a:pt x="269" y="1546"/>
                    </a:lnTo>
                    <a:lnTo>
                      <a:pt x="272" y="1446"/>
                    </a:lnTo>
                    <a:lnTo>
                      <a:pt x="272" y="1346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495760" y="2568600"/>
                <a:ext cx="87480" cy="915840"/>
              </a:xfrm>
              <a:custGeom>
                <a:avLst/>
                <a:gdLst/>
                <a:ahLst/>
                <a:rect l="l" t="t" r="r" b="b"/>
                <a:pathLst>
                  <a:path w="274" h="2884">
                    <a:moveTo>
                      <a:pt x="274" y="1335"/>
                    </a:moveTo>
                    <a:lnTo>
                      <a:pt x="273" y="1250"/>
                    </a:lnTo>
                    <a:lnTo>
                      <a:pt x="271" y="1163"/>
                    </a:lnTo>
                    <a:lnTo>
                      <a:pt x="268" y="1078"/>
                    </a:lnTo>
                    <a:lnTo>
                      <a:pt x="264" y="993"/>
                    </a:lnTo>
                    <a:lnTo>
                      <a:pt x="258" y="908"/>
                    </a:lnTo>
                    <a:lnTo>
                      <a:pt x="252" y="824"/>
                    </a:lnTo>
                    <a:lnTo>
                      <a:pt x="244" y="740"/>
                    </a:lnTo>
                    <a:lnTo>
                      <a:pt x="236" y="656"/>
                    </a:lnTo>
                    <a:lnTo>
                      <a:pt x="225" y="573"/>
                    </a:lnTo>
                    <a:lnTo>
                      <a:pt x="214" y="490"/>
                    </a:lnTo>
                    <a:lnTo>
                      <a:pt x="202" y="407"/>
                    </a:lnTo>
                    <a:lnTo>
                      <a:pt x="189" y="326"/>
                    </a:lnTo>
                    <a:lnTo>
                      <a:pt x="174" y="244"/>
                    </a:lnTo>
                    <a:lnTo>
                      <a:pt x="159" y="163"/>
                    </a:lnTo>
                    <a:lnTo>
                      <a:pt x="142" y="81"/>
                    </a:lnTo>
                    <a:lnTo>
                      <a:pt x="124" y="0"/>
                    </a:lnTo>
                    <a:lnTo>
                      <a:pt x="109" y="6"/>
                    </a:lnTo>
                    <a:lnTo>
                      <a:pt x="55" y="6"/>
                    </a:lnTo>
                    <a:lnTo>
                      <a:pt x="73" y="86"/>
                    </a:lnTo>
                    <a:lnTo>
                      <a:pt x="90" y="167"/>
                    </a:lnTo>
                    <a:lnTo>
                      <a:pt x="105" y="248"/>
                    </a:lnTo>
                    <a:lnTo>
                      <a:pt x="119" y="330"/>
                    </a:lnTo>
                    <a:lnTo>
                      <a:pt x="133" y="412"/>
                    </a:lnTo>
                    <a:lnTo>
                      <a:pt x="145" y="494"/>
                    </a:lnTo>
                    <a:lnTo>
                      <a:pt x="156" y="577"/>
                    </a:lnTo>
                    <a:lnTo>
                      <a:pt x="166" y="659"/>
                    </a:lnTo>
                    <a:lnTo>
                      <a:pt x="175" y="742"/>
                    </a:lnTo>
                    <a:lnTo>
                      <a:pt x="183" y="826"/>
                    </a:lnTo>
                    <a:lnTo>
                      <a:pt x="190" y="910"/>
                    </a:lnTo>
                    <a:lnTo>
                      <a:pt x="195" y="994"/>
                    </a:lnTo>
                    <a:lnTo>
                      <a:pt x="199" y="1079"/>
                    </a:lnTo>
                    <a:lnTo>
                      <a:pt x="202" y="1165"/>
                    </a:lnTo>
                    <a:lnTo>
                      <a:pt x="204" y="1250"/>
                    </a:lnTo>
                    <a:lnTo>
                      <a:pt x="204" y="1335"/>
                    </a:lnTo>
                    <a:lnTo>
                      <a:pt x="203" y="1435"/>
                    </a:lnTo>
                    <a:lnTo>
                      <a:pt x="201" y="1535"/>
                    </a:lnTo>
                    <a:lnTo>
                      <a:pt x="197" y="1635"/>
                    </a:lnTo>
                    <a:lnTo>
                      <a:pt x="192" y="1734"/>
                    </a:lnTo>
                    <a:lnTo>
                      <a:pt x="184" y="1832"/>
                    </a:lnTo>
                    <a:lnTo>
                      <a:pt x="175" y="1930"/>
                    </a:lnTo>
                    <a:lnTo>
                      <a:pt x="164" y="2029"/>
                    </a:lnTo>
                    <a:lnTo>
                      <a:pt x="152" y="2125"/>
                    </a:lnTo>
                    <a:lnTo>
                      <a:pt x="138" y="2222"/>
                    </a:lnTo>
                    <a:lnTo>
                      <a:pt x="123" y="2318"/>
                    </a:lnTo>
                    <a:lnTo>
                      <a:pt x="107" y="2414"/>
                    </a:lnTo>
                    <a:lnTo>
                      <a:pt x="88" y="2510"/>
                    </a:lnTo>
                    <a:lnTo>
                      <a:pt x="68" y="2604"/>
                    </a:lnTo>
                    <a:lnTo>
                      <a:pt x="47" y="2698"/>
                    </a:lnTo>
                    <a:lnTo>
                      <a:pt x="25" y="2791"/>
                    </a:lnTo>
                    <a:lnTo>
                      <a:pt x="0" y="2884"/>
                    </a:lnTo>
                    <a:lnTo>
                      <a:pt x="71" y="2884"/>
                    </a:lnTo>
                    <a:lnTo>
                      <a:pt x="95" y="2791"/>
                    </a:lnTo>
                    <a:lnTo>
                      <a:pt x="118" y="2698"/>
                    </a:lnTo>
                    <a:lnTo>
                      <a:pt x="139" y="2604"/>
                    </a:lnTo>
                    <a:lnTo>
                      <a:pt x="158" y="2509"/>
                    </a:lnTo>
                    <a:lnTo>
                      <a:pt x="176" y="2414"/>
                    </a:lnTo>
                    <a:lnTo>
                      <a:pt x="193" y="2318"/>
                    </a:lnTo>
                    <a:lnTo>
                      <a:pt x="208" y="2222"/>
                    </a:lnTo>
                    <a:lnTo>
                      <a:pt x="221" y="2125"/>
                    </a:lnTo>
                    <a:lnTo>
                      <a:pt x="234" y="2028"/>
                    </a:lnTo>
                    <a:lnTo>
                      <a:pt x="244" y="1930"/>
                    </a:lnTo>
                    <a:lnTo>
                      <a:pt x="253" y="1832"/>
                    </a:lnTo>
                    <a:lnTo>
                      <a:pt x="260" y="1734"/>
                    </a:lnTo>
                    <a:lnTo>
                      <a:pt x="266" y="1635"/>
                    </a:lnTo>
                    <a:lnTo>
                      <a:pt x="271" y="1535"/>
                    </a:lnTo>
                    <a:lnTo>
                      <a:pt x="273" y="1435"/>
                    </a:lnTo>
                    <a:lnTo>
                      <a:pt x="274" y="133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484960" y="2571840"/>
                <a:ext cx="87120" cy="914400"/>
              </a:xfrm>
              <a:custGeom>
                <a:avLst/>
                <a:gdLst/>
                <a:ahLst/>
                <a:rect l="l" t="t" r="r" b="b"/>
                <a:pathLst>
                  <a:path w="276" h="2884">
                    <a:moveTo>
                      <a:pt x="276" y="1329"/>
                    </a:moveTo>
                    <a:lnTo>
                      <a:pt x="275" y="1244"/>
                    </a:lnTo>
                    <a:lnTo>
                      <a:pt x="274" y="1159"/>
                    </a:lnTo>
                    <a:lnTo>
                      <a:pt x="271" y="1073"/>
                    </a:lnTo>
                    <a:lnTo>
                      <a:pt x="267" y="988"/>
                    </a:lnTo>
                    <a:lnTo>
                      <a:pt x="261" y="904"/>
                    </a:lnTo>
                    <a:lnTo>
                      <a:pt x="255" y="820"/>
                    </a:lnTo>
                    <a:lnTo>
                      <a:pt x="247" y="736"/>
                    </a:lnTo>
                    <a:lnTo>
                      <a:pt x="238" y="653"/>
                    </a:lnTo>
                    <a:lnTo>
                      <a:pt x="228" y="571"/>
                    </a:lnTo>
                    <a:lnTo>
                      <a:pt x="217" y="488"/>
                    </a:lnTo>
                    <a:lnTo>
                      <a:pt x="205" y="406"/>
                    </a:lnTo>
                    <a:lnTo>
                      <a:pt x="192" y="324"/>
                    </a:lnTo>
                    <a:lnTo>
                      <a:pt x="177" y="242"/>
                    </a:lnTo>
                    <a:lnTo>
                      <a:pt x="161" y="161"/>
                    </a:lnTo>
                    <a:lnTo>
                      <a:pt x="145" y="80"/>
                    </a:lnTo>
                    <a:lnTo>
                      <a:pt x="127" y="0"/>
                    </a:lnTo>
                    <a:lnTo>
                      <a:pt x="56" y="0"/>
                    </a:lnTo>
                    <a:lnTo>
                      <a:pt x="74" y="80"/>
                    </a:lnTo>
                    <a:lnTo>
                      <a:pt x="91" y="161"/>
                    </a:lnTo>
                    <a:lnTo>
                      <a:pt x="107" y="242"/>
                    </a:lnTo>
                    <a:lnTo>
                      <a:pt x="121" y="324"/>
                    </a:lnTo>
                    <a:lnTo>
                      <a:pt x="135" y="406"/>
                    </a:lnTo>
                    <a:lnTo>
                      <a:pt x="148" y="488"/>
                    </a:lnTo>
                    <a:lnTo>
                      <a:pt x="158" y="571"/>
                    </a:lnTo>
                    <a:lnTo>
                      <a:pt x="169" y="653"/>
                    </a:lnTo>
                    <a:lnTo>
                      <a:pt x="177" y="736"/>
                    </a:lnTo>
                    <a:lnTo>
                      <a:pt x="186" y="820"/>
                    </a:lnTo>
                    <a:lnTo>
                      <a:pt x="192" y="904"/>
                    </a:lnTo>
                    <a:lnTo>
                      <a:pt x="197" y="988"/>
                    </a:lnTo>
                    <a:lnTo>
                      <a:pt x="201" y="1073"/>
                    </a:lnTo>
                    <a:lnTo>
                      <a:pt x="205" y="1159"/>
                    </a:lnTo>
                    <a:lnTo>
                      <a:pt x="207" y="1244"/>
                    </a:lnTo>
                    <a:lnTo>
                      <a:pt x="208" y="1329"/>
                    </a:lnTo>
                    <a:lnTo>
                      <a:pt x="207" y="1429"/>
                    </a:lnTo>
                    <a:lnTo>
                      <a:pt x="203" y="1530"/>
                    </a:lnTo>
                    <a:lnTo>
                      <a:pt x="199" y="1630"/>
                    </a:lnTo>
                    <a:lnTo>
                      <a:pt x="194" y="1730"/>
                    </a:lnTo>
                    <a:lnTo>
                      <a:pt x="187" y="1828"/>
                    </a:lnTo>
                    <a:lnTo>
                      <a:pt x="177" y="1927"/>
                    </a:lnTo>
                    <a:lnTo>
                      <a:pt x="167" y="2025"/>
                    </a:lnTo>
                    <a:lnTo>
                      <a:pt x="154" y="2122"/>
                    </a:lnTo>
                    <a:lnTo>
                      <a:pt x="140" y="2220"/>
                    </a:lnTo>
                    <a:lnTo>
                      <a:pt x="125" y="2316"/>
                    </a:lnTo>
                    <a:lnTo>
                      <a:pt x="108" y="2412"/>
                    </a:lnTo>
                    <a:lnTo>
                      <a:pt x="89" y="2508"/>
                    </a:lnTo>
                    <a:lnTo>
                      <a:pt x="69" y="2602"/>
                    </a:lnTo>
                    <a:lnTo>
                      <a:pt x="47" y="2697"/>
                    </a:lnTo>
                    <a:lnTo>
                      <a:pt x="24" y="2790"/>
                    </a:lnTo>
                    <a:lnTo>
                      <a:pt x="0" y="2884"/>
                    </a:lnTo>
                    <a:lnTo>
                      <a:pt x="32" y="2878"/>
                    </a:lnTo>
                    <a:lnTo>
                      <a:pt x="72" y="2878"/>
                    </a:lnTo>
                    <a:lnTo>
                      <a:pt x="96" y="2785"/>
                    </a:lnTo>
                    <a:lnTo>
                      <a:pt x="119" y="2692"/>
                    </a:lnTo>
                    <a:lnTo>
                      <a:pt x="140" y="2598"/>
                    </a:lnTo>
                    <a:lnTo>
                      <a:pt x="160" y="2503"/>
                    </a:lnTo>
                    <a:lnTo>
                      <a:pt x="178" y="2408"/>
                    </a:lnTo>
                    <a:lnTo>
                      <a:pt x="195" y="2312"/>
                    </a:lnTo>
                    <a:lnTo>
                      <a:pt x="210" y="2216"/>
                    </a:lnTo>
                    <a:lnTo>
                      <a:pt x="223" y="2119"/>
                    </a:lnTo>
                    <a:lnTo>
                      <a:pt x="236" y="2022"/>
                    </a:lnTo>
                    <a:lnTo>
                      <a:pt x="247" y="1924"/>
                    </a:lnTo>
                    <a:lnTo>
                      <a:pt x="255" y="1826"/>
                    </a:lnTo>
                    <a:lnTo>
                      <a:pt x="262" y="1728"/>
                    </a:lnTo>
                    <a:lnTo>
                      <a:pt x="269" y="1629"/>
                    </a:lnTo>
                    <a:lnTo>
                      <a:pt x="273" y="1529"/>
                    </a:lnTo>
                    <a:lnTo>
                      <a:pt x="275" y="1429"/>
                    </a:lnTo>
                    <a:lnTo>
                      <a:pt x="276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72000" y="2571840"/>
                <a:ext cx="88920" cy="917640"/>
              </a:xfrm>
              <a:custGeom>
                <a:avLst/>
                <a:gdLst/>
                <a:ahLst/>
                <a:rect l="l" t="t" r="r" b="b"/>
                <a:pathLst>
                  <a:path w="278" h="2890">
                    <a:moveTo>
                      <a:pt x="278" y="1329"/>
                    </a:moveTo>
                    <a:lnTo>
                      <a:pt x="278" y="1244"/>
                    </a:lnTo>
                    <a:lnTo>
                      <a:pt x="276" y="1159"/>
                    </a:lnTo>
                    <a:lnTo>
                      <a:pt x="273" y="1073"/>
                    </a:lnTo>
                    <a:lnTo>
                      <a:pt x="269" y="988"/>
                    </a:lnTo>
                    <a:lnTo>
                      <a:pt x="264" y="904"/>
                    </a:lnTo>
                    <a:lnTo>
                      <a:pt x="257" y="820"/>
                    </a:lnTo>
                    <a:lnTo>
                      <a:pt x="249" y="736"/>
                    </a:lnTo>
                    <a:lnTo>
                      <a:pt x="240" y="653"/>
                    </a:lnTo>
                    <a:lnTo>
                      <a:pt x="230" y="571"/>
                    </a:lnTo>
                    <a:lnTo>
                      <a:pt x="219" y="488"/>
                    </a:lnTo>
                    <a:lnTo>
                      <a:pt x="207" y="406"/>
                    </a:lnTo>
                    <a:lnTo>
                      <a:pt x="193" y="324"/>
                    </a:lnTo>
                    <a:lnTo>
                      <a:pt x="179" y="242"/>
                    </a:lnTo>
                    <a:lnTo>
                      <a:pt x="164" y="161"/>
                    </a:lnTo>
                    <a:lnTo>
                      <a:pt x="147" y="80"/>
                    </a:lnTo>
                    <a:lnTo>
                      <a:pt x="129" y="0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76" y="80"/>
                    </a:lnTo>
                    <a:lnTo>
                      <a:pt x="93" y="161"/>
                    </a:lnTo>
                    <a:lnTo>
                      <a:pt x="109" y="242"/>
                    </a:lnTo>
                    <a:lnTo>
                      <a:pt x="124" y="324"/>
                    </a:lnTo>
                    <a:lnTo>
                      <a:pt x="137" y="406"/>
                    </a:lnTo>
                    <a:lnTo>
                      <a:pt x="150" y="488"/>
                    </a:lnTo>
                    <a:lnTo>
                      <a:pt x="161" y="571"/>
                    </a:lnTo>
                    <a:lnTo>
                      <a:pt x="171" y="653"/>
                    </a:lnTo>
                    <a:lnTo>
                      <a:pt x="181" y="736"/>
                    </a:lnTo>
                    <a:lnTo>
                      <a:pt x="188" y="820"/>
                    </a:lnTo>
                    <a:lnTo>
                      <a:pt x="194" y="904"/>
                    </a:lnTo>
                    <a:lnTo>
                      <a:pt x="201" y="988"/>
                    </a:lnTo>
                    <a:lnTo>
                      <a:pt x="205" y="1073"/>
                    </a:lnTo>
                    <a:lnTo>
                      <a:pt x="207" y="1159"/>
                    </a:lnTo>
                    <a:lnTo>
                      <a:pt x="209" y="1244"/>
                    </a:lnTo>
                    <a:lnTo>
                      <a:pt x="210" y="1329"/>
                    </a:lnTo>
                    <a:lnTo>
                      <a:pt x="209" y="1430"/>
                    </a:lnTo>
                    <a:lnTo>
                      <a:pt x="207" y="1531"/>
                    </a:lnTo>
                    <a:lnTo>
                      <a:pt x="202" y="1631"/>
                    </a:lnTo>
                    <a:lnTo>
                      <a:pt x="196" y="1731"/>
                    </a:lnTo>
                    <a:lnTo>
                      <a:pt x="189" y="1831"/>
                    </a:lnTo>
                    <a:lnTo>
                      <a:pt x="179" y="1929"/>
                    </a:lnTo>
                    <a:lnTo>
                      <a:pt x="168" y="2028"/>
                    </a:lnTo>
                    <a:lnTo>
                      <a:pt x="156" y="2126"/>
                    </a:lnTo>
                    <a:lnTo>
                      <a:pt x="142" y="2223"/>
                    </a:lnTo>
                    <a:lnTo>
                      <a:pt x="126" y="2321"/>
                    </a:lnTo>
                    <a:lnTo>
                      <a:pt x="109" y="2416"/>
                    </a:lnTo>
                    <a:lnTo>
                      <a:pt x="90" y="2513"/>
                    </a:lnTo>
                    <a:lnTo>
                      <a:pt x="69" y="2609"/>
                    </a:lnTo>
                    <a:lnTo>
                      <a:pt x="47" y="2703"/>
                    </a:lnTo>
                    <a:lnTo>
                      <a:pt x="24" y="2797"/>
                    </a:lnTo>
                    <a:lnTo>
                      <a:pt x="0" y="2890"/>
                    </a:lnTo>
                    <a:lnTo>
                      <a:pt x="69" y="2878"/>
                    </a:lnTo>
                    <a:lnTo>
                      <a:pt x="74" y="2878"/>
                    </a:lnTo>
                    <a:lnTo>
                      <a:pt x="99" y="2785"/>
                    </a:lnTo>
                    <a:lnTo>
                      <a:pt x="121" y="2692"/>
                    </a:lnTo>
                    <a:lnTo>
                      <a:pt x="142" y="2598"/>
                    </a:lnTo>
                    <a:lnTo>
                      <a:pt x="162" y="2504"/>
                    </a:lnTo>
                    <a:lnTo>
                      <a:pt x="181" y="2408"/>
                    </a:lnTo>
                    <a:lnTo>
                      <a:pt x="197" y="2312"/>
                    </a:lnTo>
                    <a:lnTo>
                      <a:pt x="212" y="2216"/>
                    </a:lnTo>
                    <a:lnTo>
                      <a:pt x="226" y="2119"/>
                    </a:lnTo>
                    <a:lnTo>
                      <a:pt x="238" y="2023"/>
                    </a:lnTo>
                    <a:lnTo>
                      <a:pt x="249" y="1924"/>
                    </a:lnTo>
                    <a:lnTo>
                      <a:pt x="258" y="1826"/>
                    </a:lnTo>
                    <a:lnTo>
                      <a:pt x="266" y="1728"/>
                    </a:lnTo>
                    <a:lnTo>
                      <a:pt x="271" y="1629"/>
                    </a:lnTo>
                    <a:lnTo>
                      <a:pt x="275" y="1529"/>
                    </a:lnTo>
                    <a:lnTo>
                      <a:pt x="277" y="1429"/>
                    </a:lnTo>
                    <a:lnTo>
                      <a:pt x="278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60840" y="2571840"/>
                <a:ext cx="88920" cy="919080"/>
              </a:xfrm>
              <a:custGeom>
                <a:avLst/>
                <a:gdLst/>
                <a:ahLst/>
                <a:rect l="l" t="t" r="r" b="b"/>
                <a:pathLst>
                  <a:path w="283" h="2897">
                    <a:moveTo>
                      <a:pt x="283" y="1329"/>
                    </a:moveTo>
                    <a:lnTo>
                      <a:pt x="282" y="1244"/>
                    </a:lnTo>
                    <a:lnTo>
                      <a:pt x="280" y="1159"/>
                    </a:lnTo>
                    <a:lnTo>
                      <a:pt x="276" y="1073"/>
                    </a:lnTo>
                    <a:lnTo>
                      <a:pt x="272" y="988"/>
                    </a:lnTo>
                    <a:lnTo>
                      <a:pt x="267" y="904"/>
                    </a:lnTo>
                    <a:lnTo>
                      <a:pt x="261" y="820"/>
                    </a:lnTo>
                    <a:lnTo>
                      <a:pt x="252" y="736"/>
                    </a:lnTo>
                    <a:lnTo>
                      <a:pt x="244" y="653"/>
                    </a:lnTo>
                    <a:lnTo>
                      <a:pt x="233" y="571"/>
                    </a:lnTo>
                    <a:lnTo>
                      <a:pt x="223" y="488"/>
                    </a:lnTo>
                    <a:lnTo>
                      <a:pt x="210" y="406"/>
                    </a:lnTo>
                    <a:lnTo>
                      <a:pt x="196" y="324"/>
                    </a:lnTo>
                    <a:lnTo>
                      <a:pt x="182" y="242"/>
                    </a:lnTo>
                    <a:lnTo>
                      <a:pt x="166" y="161"/>
                    </a:lnTo>
                    <a:lnTo>
                      <a:pt x="149" y="80"/>
                    </a:lnTo>
                    <a:lnTo>
                      <a:pt x="131" y="0"/>
                    </a:lnTo>
                    <a:lnTo>
                      <a:pt x="107" y="0"/>
                    </a:lnTo>
                    <a:lnTo>
                      <a:pt x="61" y="0"/>
                    </a:lnTo>
                    <a:lnTo>
                      <a:pt x="79" y="80"/>
                    </a:lnTo>
                    <a:lnTo>
                      <a:pt x="97" y="161"/>
                    </a:lnTo>
                    <a:lnTo>
                      <a:pt x="112" y="242"/>
                    </a:lnTo>
                    <a:lnTo>
                      <a:pt x="127" y="324"/>
                    </a:lnTo>
                    <a:lnTo>
                      <a:pt x="141" y="406"/>
                    </a:lnTo>
                    <a:lnTo>
                      <a:pt x="153" y="488"/>
                    </a:lnTo>
                    <a:lnTo>
                      <a:pt x="164" y="571"/>
                    </a:lnTo>
                    <a:lnTo>
                      <a:pt x="174" y="653"/>
                    </a:lnTo>
                    <a:lnTo>
                      <a:pt x="184" y="736"/>
                    </a:lnTo>
                    <a:lnTo>
                      <a:pt x="191" y="820"/>
                    </a:lnTo>
                    <a:lnTo>
                      <a:pt x="198" y="904"/>
                    </a:lnTo>
                    <a:lnTo>
                      <a:pt x="204" y="988"/>
                    </a:lnTo>
                    <a:lnTo>
                      <a:pt x="208" y="1073"/>
                    </a:lnTo>
                    <a:lnTo>
                      <a:pt x="211" y="1159"/>
                    </a:lnTo>
                    <a:lnTo>
                      <a:pt x="212" y="1244"/>
                    </a:lnTo>
                    <a:lnTo>
                      <a:pt x="213" y="1329"/>
                    </a:lnTo>
                    <a:lnTo>
                      <a:pt x="212" y="1430"/>
                    </a:lnTo>
                    <a:lnTo>
                      <a:pt x="210" y="1532"/>
                    </a:lnTo>
                    <a:lnTo>
                      <a:pt x="206" y="1633"/>
                    </a:lnTo>
                    <a:lnTo>
                      <a:pt x="200" y="1733"/>
                    </a:lnTo>
                    <a:lnTo>
                      <a:pt x="192" y="1833"/>
                    </a:lnTo>
                    <a:lnTo>
                      <a:pt x="183" y="1932"/>
                    </a:lnTo>
                    <a:lnTo>
                      <a:pt x="171" y="2031"/>
                    </a:lnTo>
                    <a:lnTo>
                      <a:pt x="159" y="2130"/>
                    </a:lnTo>
                    <a:lnTo>
                      <a:pt x="144" y="2227"/>
                    </a:lnTo>
                    <a:lnTo>
                      <a:pt x="128" y="2325"/>
                    </a:lnTo>
                    <a:lnTo>
                      <a:pt x="110" y="2422"/>
                    </a:lnTo>
                    <a:lnTo>
                      <a:pt x="91" y="2518"/>
                    </a:lnTo>
                    <a:lnTo>
                      <a:pt x="71" y="2614"/>
                    </a:lnTo>
                    <a:lnTo>
                      <a:pt x="49" y="2708"/>
                    </a:lnTo>
                    <a:lnTo>
                      <a:pt x="25" y="2803"/>
                    </a:lnTo>
                    <a:lnTo>
                      <a:pt x="0" y="2897"/>
                    </a:lnTo>
                    <a:lnTo>
                      <a:pt x="75" y="2884"/>
                    </a:lnTo>
                    <a:lnTo>
                      <a:pt x="99" y="2790"/>
                    </a:lnTo>
                    <a:lnTo>
                      <a:pt x="122" y="2697"/>
                    </a:lnTo>
                    <a:lnTo>
                      <a:pt x="144" y="2602"/>
                    </a:lnTo>
                    <a:lnTo>
                      <a:pt x="164" y="2508"/>
                    </a:lnTo>
                    <a:lnTo>
                      <a:pt x="183" y="2412"/>
                    </a:lnTo>
                    <a:lnTo>
                      <a:pt x="200" y="2316"/>
                    </a:lnTo>
                    <a:lnTo>
                      <a:pt x="215" y="2220"/>
                    </a:lnTo>
                    <a:lnTo>
                      <a:pt x="229" y="2122"/>
                    </a:lnTo>
                    <a:lnTo>
                      <a:pt x="242" y="2025"/>
                    </a:lnTo>
                    <a:lnTo>
                      <a:pt x="252" y="1927"/>
                    </a:lnTo>
                    <a:lnTo>
                      <a:pt x="262" y="1828"/>
                    </a:lnTo>
                    <a:lnTo>
                      <a:pt x="269" y="1730"/>
                    </a:lnTo>
                    <a:lnTo>
                      <a:pt x="274" y="1630"/>
                    </a:lnTo>
                    <a:lnTo>
                      <a:pt x="278" y="1530"/>
                    </a:lnTo>
                    <a:lnTo>
                      <a:pt x="282" y="1429"/>
                    </a:lnTo>
                    <a:lnTo>
                      <a:pt x="283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48240" y="2571840"/>
                <a:ext cx="90720" cy="920520"/>
              </a:xfrm>
              <a:custGeom>
                <a:avLst/>
                <a:gdLst/>
                <a:ahLst/>
                <a:rect l="l" t="t" r="r" b="b"/>
                <a:pathLst>
                  <a:path w="286" h="2904">
                    <a:moveTo>
                      <a:pt x="286" y="1329"/>
                    </a:moveTo>
                    <a:lnTo>
                      <a:pt x="285" y="1244"/>
                    </a:lnTo>
                    <a:lnTo>
                      <a:pt x="283" y="1159"/>
                    </a:lnTo>
                    <a:lnTo>
                      <a:pt x="281" y="1073"/>
                    </a:lnTo>
                    <a:lnTo>
                      <a:pt x="277" y="988"/>
                    </a:lnTo>
                    <a:lnTo>
                      <a:pt x="270" y="904"/>
                    </a:lnTo>
                    <a:lnTo>
                      <a:pt x="264" y="820"/>
                    </a:lnTo>
                    <a:lnTo>
                      <a:pt x="257" y="736"/>
                    </a:lnTo>
                    <a:lnTo>
                      <a:pt x="247" y="653"/>
                    </a:lnTo>
                    <a:lnTo>
                      <a:pt x="237" y="571"/>
                    </a:lnTo>
                    <a:lnTo>
                      <a:pt x="226" y="488"/>
                    </a:lnTo>
                    <a:lnTo>
                      <a:pt x="213" y="406"/>
                    </a:lnTo>
                    <a:lnTo>
                      <a:pt x="200" y="324"/>
                    </a:lnTo>
                    <a:lnTo>
                      <a:pt x="185" y="242"/>
                    </a:lnTo>
                    <a:lnTo>
                      <a:pt x="169" y="161"/>
                    </a:lnTo>
                    <a:lnTo>
                      <a:pt x="152" y="80"/>
                    </a:lnTo>
                    <a:lnTo>
                      <a:pt x="135" y="0"/>
                    </a:lnTo>
                    <a:lnTo>
                      <a:pt x="64" y="0"/>
                    </a:lnTo>
                    <a:lnTo>
                      <a:pt x="82" y="80"/>
                    </a:lnTo>
                    <a:lnTo>
                      <a:pt x="99" y="161"/>
                    </a:lnTo>
                    <a:lnTo>
                      <a:pt x="115" y="242"/>
                    </a:lnTo>
                    <a:lnTo>
                      <a:pt x="129" y="324"/>
                    </a:lnTo>
                    <a:lnTo>
                      <a:pt x="144" y="406"/>
                    </a:lnTo>
                    <a:lnTo>
                      <a:pt x="157" y="488"/>
                    </a:lnTo>
                    <a:lnTo>
                      <a:pt x="167" y="571"/>
                    </a:lnTo>
                    <a:lnTo>
                      <a:pt x="178" y="653"/>
                    </a:lnTo>
                    <a:lnTo>
                      <a:pt x="187" y="736"/>
                    </a:lnTo>
                    <a:lnTo>
                      <a:pt x="195" y="820"/>
                    </a:lnTo>
                    <a:lnTo>
                      <a:pt x="202" y="904"/>
                    </a:lnTo>
                    <a:lnTo>
                      <a:pt x="207" y="988"/>
                    </a:lnTo>
                    <a:lnTo>
                      <a:pt x="211" y="1073"/>
                    </a:lnTo>
                    <a:lnTo>
                      <a:pt x="214" y="1159"/>
                    </a:lnTo>
                    <a:lnTo>
                      <a:pt x="217" y="1244"/>
                    </a:lnTo>
                    <a:lnTo>
                      <a:pt x="217" y="1329"/>
                    </a:lnTo>
                    <a:lnTo>
                      <a:pt x="217" y="1432"/>
                    </a:lnTo>
                    <a:lnTo>
                      <a:pt x="213" y="1532"/>
                    </a:lnTo>
                    <a:lnTo>
                      <a:pt x="209" y="1634"/>
                    </a:lnTo>
                    <a:lnTo>
                      <a:pt x="203" y="1735"/>
                    </a:lnTo>
                    <a:lnTo>
                      <a:pt x="196" y="1836"/>
                    </a:lnTo>
                    <a:lnTo>
                      <a:pt x="186" y="1936"/>
                    </a:lnTo>
                    <a:lnTo>
                      <a:pt x="175" y="2034"/>
                    </a:lnTo>
                    <a:lnTo>
                      <a:pt x="162" y="2133"/>
                    </a:lnTo>
                    <a:lnTo>
                      <a:pt x="147" y="2232"/>
                    </a:lnTo>
                    <a:lnTo>
                      <a:pt x="130" y="2329"/>
                    </a:lnTo>
                    <a:lnTo>
                      <a:pt x="113" y="2427"/>
                    </a:lnTo>
                    <a:lnTo>
                      <a:pt x="94" y="2524"/>
                    </a:lnTo>
                    <a:lnTo>
                      <a:pt x="73" y="2619"/>
                    </a:lnTo>
                    <a:lnTo>
                      <a:pt x="51" y="2715"/>
                    </a:lnTo>
                    <a:lnTo>
                      <a:pt x="26" y="2809"/>
                    </a:lnTo>
                    <a:lnTo>
                      <a:pt x="0" y="2904"/>
                    </a:lnTo>
                    <a:lnTo>
                      <a:pt x="76" y="2890"/>
                    </a:lnTo>
                    <a:lnTo>
                      <a:pt x="100" y="2797"/>
                    </a:lnTo>
                    <a:lnTo>
                      <a:pt x="123" y="2703"/>
                    </a:lnTo>
                    <a:lnTo>
                      <a:pt x="145" y="2609"/>
                    </a:lnTo>
                    <a:lnTo>
                      <a:pt x="166" y="2513"/>
                    </a:lnTo>
                    <a:lnTo>
                      <a:pt x="185" y="2416"/>
                    </a:lnTo>
                    <a:lnTo>
                      <a:pt x="202" y="2321"/>
                    </a:lnTo>
                    <a:lnTo>
                      <a:pt x="218" y="2223"/>
                    </a:lnTo>
                    <a:lnTo>
                      <a:pt x="232" y="2126"/>
                    </a:lnTo>
                    <a:lnTo>
                      <a:pt x="244" y="2028"/>
                    </a:lnTo>
                    <a:lnTo>
                      <a:pt x="255" y="1929"/>
                    </a:lnTo>
                    <a:lnTo>
                      <a:pt x="265" y="1831"/>
                    </a:lnTo>
                    <a:lnTo>
                      <a:pt x="272" y="1731"/>
                    </a:lnTo>
                    <a:lnTo>
                      <a:pt x="278" y="1631"/>
                    </a:lnTo>
                    <a:lnTo>
                      <a:pt x="283" y="1531"/>
                    </a:lnTo>
                    <a:lnTo>
                      <a:pt x="285" y="1430"/>
                    </a:lnTo>
                    <a:lnTo>
                      <a:pt x="286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37080" y="2571840"/>
                <a:ext cx="90720" cy="922320"/>
              </a:xfrm>
              <a:custGeom>
                <a:avLst/>
                <a:gdLst/>
                <a:ahLst/>
                <a:rect l="l" t="t" r="r" b="b"/>
                <a:pathLst>
                  <a:path w="288" h="2908">
                    <a:moveTo>
                      <a:pt x="288" y="1329"/>
                    </a:moveTo>
                    <a:lnTo>
                      <a:pt x="288" y="1244"/>
                    </a:lnTo>
                    <a:lnTo>
                      <a:pt x="286" y="1159"/>
                    </a:lnTo>
                    <a:lnTo>
                      <a:pt x="283" y="1073"/>
                    </a:lnTo>
                    <a:lnTo>
                      <a:pt x="279" y="988"/>
                    </a:lnTo>
                    <a:lnTo>
                      <a:pt x="274" y="904"/>
                    </a:lnTo>
                    <a:lnTo>
                      <a:pt x="266" y="820"/>
                    </a:lnTo>
                    <a:lnTo>
                      <a:pt x="259" y="736"/>
                    </a:lnTo>
                    <a:lnTo>
                      <a:pt x="249" y="653"/>
                    </a:lnTo>
                    <a:lnTo>
                      <a:pt x="239" y="571"/>
                    </a:lnTo>
                    <a:lnTo>
                      <a:pt x="228" y="488"/>
                    </a:lnTo>
                    <a:lnTo>
                      <a:pt x="216" y="406"/>
                    </a:lnTo>
                    <a:lnTo>
                      <a:pt x="202" y="324"/>
                    </a:lnTo>
                    <a:lnTo>
                      <a:pt x="187" y="242"/>
                    </a:lnTo>
                    <a:lnTo>
                      <a:pt x="172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83" y="80"/>
                    </a:lnTo>
                    <a:lnTo>
                      <a:pt x="101" y="161"/>
                    </a:lnTo>
                    <a:lnTo>
                      <a:pt x="117" y="242"/>
                    </a:lnTo>
                    <a:lnTo>
                      <a:pt x="132" y="324"/>
                    </a:lnTo>
                    <a:lnTo>
                      <a:pt x="145" y="406"/>
                    </a:lnTo>
                    <a:lnTo>
                      <a:pt x="158" y="488"/>
                    </a:lnTo>
                    <a:lnTo>
                      <a:pt x="170" y="571"/>
                    </a:lnTo>
                    <a:lnTo>
                      <a:pt x="180" y="653"/>
                    </a:lnTo>
                    <a:lnTo>
                      <a:pt x="189" y="736"/>
                    </a:lnTo>
                    <a:lnTo>
                      <a:pt x="197" y="820"/>
                    </a:lnTo>
                    <a:lnTo>
                      <a:pt x="204" y="904"/>
                    </a:lnTo>
                    <a:lnTo>
                      <a:pt x="209" y="988"/>
                    </a:lnTo>
                    <a:lnTo>
                      <a:pt x="214" y="1073"/>
                    </a:lnTo>
                    <a:lnTo>
                      <a:pt x="217" y="1159"/>
                    </a:lnTo>
                    <a:lnTo>
                      <a:pt x="219" y="1244"/>
                    </a:lnTo>
                    <a:lnTo>
                      <a:pt x="220" y="1329"/>
                    </a:lnTo>
                    <a:lnTo>
                      <a:pt x="219" y="1432"/>
                    </a:lnTo>
                    <a:lnTo>
                      <a:pt x="216" y="1533"/>
                    </a:lnTo>
                    <a:lnTo>
                      <a:pt x="212" y="1635"/>
                    </a:lnTo>
                    <a:lnTo>
                      <a:pt x="205" y="1736"/>
                    </a:lnTo>
                    <a:lnTo>
                      <a:pt x="198" y="1837"/>
                    </a:lnTo>
                    <a:lnTo>
                      <a:pt x="187" y="1937"/>
                    </a:lnTo>
                    <a:lnTo>
                      <a:pt x="177" y="2036"/>
                    </a:lnTo>
                    <a:lnTo>
                      <a:pt x="163" y="2136"/>
                    </a:lnTo>
                    <a:lnTo>
                      <a:pt x="148" y="2234"/>
                    </a:lnTo>
                    <a:lnTo>
                      <a:pt x="133" y="2332"/>
                    </a:lnTo>
                    <a:lnTo>
                      <a:pt x="115" y="2430"/>
                    </a:lnTo>
                    <a:lnTo>
                      <a:pt x="95" y="2527"/>
                    </a:lnTo>
                    <a:lnTo>
                      <a:pt x="74" y="2623"/>
                    </a:lnTo>
                    <a:lnTo>
                      <a:pt x="51" y="2719"/>
                    </a:lnTo>
                    <a:lnTo>
                      <a:pt x="27" y="2813"/>
                    </a:lnTo>
                    <a:lnTo>
                      <a:pt x="0" y="2908"/>
                    </a:lnTo>
                    <a:lnTo>
                      <a:pt x="13" y="2908"/>
                    </a:lnTo>
                    <a:lnTo>
                      <a:pt x="75" y="2897"/>
                    </a:lnTo>
                    <a:lnTo>
                      <a:pt x="100" y="2803"/>
                    </a:lnTo>
                    <a:lnTo>
                      <a:pt x="124" y="2708"/>
                    </a:lnTo>
                    <a:lnTo>
                      <a:pt x="146" y="2614"/>
                    </a:lnTo>
                    <a:lnTo>
                      <a:pt x="166" y="2518"/>
                    </a:lnTo>
                    <a:lnTo>
                      <a:pt x="186" y="2422"/>
                    </a:lnTo>
                    <a:lnTo>
                      <a:pt x="203" y="2325"/>
                    </a:lnTo>
                    <a:lnTo>
                      <a:pt x="219" y="2227"/>
                    </a:lnTo>
                    <a:lnTo>
                      <a:pt x="234" y="2130"/>
                    </a:lnTo>
                    <a:lnTo>
                      <a:pt x="246" y="2031"/>
                    </a:lnTo>
                    <a:lnTo>
                      <a:pt x="258" y="1932"/>
                    </a:lnTo>
                    <a:lnTo>
                      <a:pt x="267" y="1833"/>
                    </a:lnTo>
                    <a:lnTo>
                      <a:pt x="275" y="1733"/>
                    </a:lnTo>
                    <a:lnTo>
                      <a:pt x="281" y="1633"/>
                    </a:lnTo>
                    <a:lnTo>
                      <a:pt x="285" y="1532"/>
                    </a:lnTo>
                    <a:lnTo>
                      <a:pt x="287" y="1430"/>
                    </a:lnTo>
                    <a:lnTo>
                      <a:pt x="288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425920" y="2571840"/>
                <a:ext cx="92160" cy="922320"/>
              </a:xfrm>
              <a:custGeom>
                <a:avLst/>
                <a:gdLst/>
                <a:ahLst/>
                <a:rect l="l" t="t" r="r" b="b"/>
                <a:pathLst>
                  <a:path w="289" h="2908">
                    <a:moveTo>
                      <a:pt x="289" y="1329"/>
                    </a:moveTo>
                    <a:lnTo>
                      <a:pt x="289" y="1244"/>
                    </a:lnTo>
                    <a:lnTo>
                      <a:pt x="286" y="1159"/>
                    </a:lnTo>
                    <a:lnTo>
                      <a:pt x="283" y="1073"/>
                    </a:lnTo>
                    <a:lnTo>
                      <a:pt x="279" y="988"/>
                    </a:lnTo>
                    <a:lnTo>
                      <a:pt x="274" y="904"/>
                    </a:lnTo>
                    <a:lnTo>
                      <a:pt x="267" y="820"/>
                    </a:lnTo>
                    <a:lnTo>
                      <a:pt x="259" y="736"/>
                    </a:lnTo>
                    <a:lnTo>
                      <a:pt x="250" y="653"/>
                    </a:lnTo>
                    <a:lnTo>
                      <a:pt x="239" y="571"/>
                    </a:lnTo>
                    <a:lnTo>
                      <a:pt x="228" y="488"/>
                    </a:lnTo>
                    <a:lnTo>
                      <a:pt x="216" y="406"/>
                    </a:lnTo>
                    <a:lnTo>
                      <a:pt x="201" y="324"/>
                    </a:lnTo>
                    <a:lnTo>
                      <a:pt x="187" y="242"/>
                    </a:lnTo>
                    <a:lnTo>
                      <a:pt x="171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103" y="0"/>
                    </a:lnTo>
                    <a:lnTo>
                      <a:pt x="65" y="0"/>
                    </a:lnTo>
                    <a:lnTo>
                      <a:pt x="84" y="80"/>
                    </a:lnTo>
                    <a:lnTo>
                      <a:pt x="100" y="161"/>
                    </a:lnTo>
                    <a:lnTo>
                      <a:pt x="117" y="242"/>
                    </a:lnTo>
                    <a:lnTo>
                      <a:pt x="132" y="324"/>
                    </a:lnTo>
                    <a:lnTo>
                      <a:pt x="146" y="406"/>
                    </a:lnTo>
                    <a:lnTo>
                      <a:pt x="158" y="488"/>
                    </a:lnTo>
                    <a:lnTo>
                      <a:pt x="170" y="571"/>
                    </a:lnTo>
                    <a:lnTo>
                      <a:pt x="180" y="652"/>
                    </a:lnTo>
                    <a:lnTo>
                      <a:pt x="190" y="736"/>
                    </a:lnTo>
                    <a:lnTo>
                      <a:pt x="198" y="820"/>
                    </a:lnTo>
                    <a:lnTo>
                      <a:pt x="205" y="904"/>
                    </a:lnTo>
                    <a:lnTo>
                      <a:pt x="210" y="988"/>
                    </a:lnTo>
                    <a:lnTo>
                      <a:pt x="214" y="1073"/>
                    </a:lnTo>
                    <a:lnTo>
                      <a:pt x="217" y="1159"/>
                    </a:lnTo>
                    <a:lnTo>
                      <a:pt x="219" y="1244"/>
                    </a:lnTo>
                    <a:lnTo>
                      <a:pt x="220" y="1329"/>
                    </a:lnTo>
                    <a:lnTo>
                      <a:pt x="219" y="1432"/>
                    </a:lnTo>
                    <a:lnTo>
                      <a:pt x="216" y="1533"/>
                    </a:lnTo>
                    <a:lnTo>
                      <a:pt x="212" y="1635"/>
                    </a:lnTo>
                    <a:lnTo>
                      <a:pt x="206" y="1736"/>
                    </a:lnTo>
                    <a:lnTo>
                      <a:pt x="198" y="1837"/>
                    </a:lnTo>
                    <a:lnTo>
                      <a:pt x="188" y="1937"/>
                    </a:lnTo>
                    <a:lnTo>
                      <a:pt x="177" y="2036"/>
                    </a:lnTo>
                    <a:lnTo>
                      <a:pt x="164" y="2136"/>
                    </a:lnTo>
                    <a:lnTo>
                      <a:pt x="149" y="2235"/>
                    </a:lnTo>
                    <a:lnTo>
                      <a:pt x="132" y="2332"/>
                    </a:lnTo>
                    <a:lnTo>
                      <a:pt x="114" y="2430"/>
                    </a:lnTo>
                    <a:lnTo>
                      <a:pt x="94" y="2527"/>
                    </a:lnTo>
                    <a:lnTo>
                      <a:pt x="73" y="2623"/>
                    </a:lnTo>
                    <a:lnTo>
                      <a:pt x="50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48" y="2908"/>
                    </a:lnTo>
                    <a:lnTo>
                      <a:pt x="72" y="2904"/>
                    </a:lnTo>
                    <a:lnTo>
                      <a:pt x="98" y="2809"/>
                    </a:lnTo>
                    <a:lnTo>
                      <a:pt x="123" y="2715"/>
                    </a:lnTo>
                    <a:lnTo>
                      <a:pt x="145" y="2619"/>
                    </a:lnTo>
                    <a:lnTo>
                      <a:pt x="166" y="2524"/>
                    </a:lnTo>
                    <a:lnTo>
                      <a:pt x="185" y="2427"/>
                    </a:lnTo>
                    <a:lnTo>
                      <a:pt x="202" y="2329"/>
                    </a:lnTo>
                    <a:lnTo>
                      <a:pt x="219" y="2232"/>
                    </a:lnTo>
                    <a:lnTo>
                      <a:pt x="234" y="2133"/>
                    </a:lnTo>
                    <a:lnTo>
                      <a:pt x="247" y="2034"/>
                    </a:lnTo>
                    <a:lnTo>
                      <a:pt x="257" y="1936"/>
                    </a:lnTo>
                    <a:lnTo>
                      <a:pt x="268" y="1836"/>
                    </a:lnTo>
                    <a:lnTo>
                      <a:pt x="275" y="1735"/>
                    </a:lnTo>
                    <a:lnTo>
                      <a:pt x="281" y="1634"/>
                    </a:lnTo>
                    <a:lnTo>
                      <a:pt x="285" y="1532"/>
                    </a:lnTo>
                    <a:lnTo>
                      <a:pt x="289" y="1432"/>
                    </a:lnTo>
                    <a:lnTo>
                      <a:pt x="289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415120" y="2571840"/>
                <a:ext cx="91800" cy="922320"/>
              </a:xfrm>
              <a:custGeom>
                <a:avLst/>
                <a:gdLst/>
                <a:ahLst/>
                <a:rect l="l" t="t" r="r" b="b"/>
                <a:pathLst>
                  <a:path w="291" h="2908">
                    <a:moveTo>
                      <a:pt x="291" y="1329"/>
                    </a:moveTo>
                    <a:lnTo>
                      <a:pt x="290" y="1244"/>
                    </a:lnTo>
                    <a:lnTo>
                      <a:pt x="288" y="1159"/>
                    </a:lnTo>
                    <a:lnTo>
                      <a:pt x="285" y="1073"/>
                    </a:lnTo>
                    <a:lnTo>
                      <a:pt x="280" y="988"/>
                    </a:lnTo>
                    <a:lnTo>
                      <a:pt x="275" y="904"/>
                    </a:lnTo>
                    <a:lnTo>
                      <a:pt x="268" y="820"/>
                    </a:lnTo>
                    <a:lnTo>
                      <a:pt x="260" y="736"/>
                    </a:lnTo>
                    <a:lnTo>
                      <a:pt x="251" y="653"/>
                    </a:lnTo>
                    <a:lnTo>
                      <a:pt x="241" y="571"/>
                    </a:lnTo>
                    <a:lnTo>
                      <a:pt x="229" y="488"/>
                    </a:lnTo>
                    <a:lnTo>
                      <a:pt x="216" y="406"/>
                    </a:lnTo>
                    <a:lnTo>
                      <a:pt x="203" y="324"/>
                    </a:lnTo>
                    <a:lnTo>
                      <a:pt x="188" y="242"/>
                    </a:lnTo>
                    <a:lnTo>
                      <a:pt x="172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84" y="0"/>
                    </a:lnTo>
                    <a:lnTo>
                      <a:pt x="65" y="0"/>
                    </a:lnTo>
                    <a:lnTo>
                      <a:pt x="84" y="80"/>
                    </a:lnTo>
                    <a:lnTo>
                      <a:pt x="102" y="161"/>
                    </a:lnTo>
                    <a:lnTo>
                      <a:pt x="118" y="242"/>
                    </a:lnTo>
                    <a:lnTo>
                      <a:pt x="133" y="323"/>
                    </a:lnTo>
                    <a:lnTo>
                      <a:pt x="147" y="405"/>
                    </a:lnTo>
                    <a:lnTo>
                      <a:pt x="160" y="488"/>
                    </a:lnTo>
                    <a:lnTo>
                      <a:pt x="171" y="569"/>
                    </a:lnTo>
                    <a:lnTo>
                      <a:pt x="182" y="652"/>
                    </a:lnTo>
                    <a:lnTo>
                      <a:pt x="191" y="736"/>
                    </a:lnTo>
                    <a:lnTo>
                      <a:pt x="200" y="819"/>
                    </a:lnTo>
                    <a:lnTo>
                      <a:pt x="206" y="903"/>
                    </a:lnTo>
                    <a:lnTo>
                      <a:pt x="212" y="988"/>
                    </a:lnTo>
                    <a:lnTo>
                      <a:pt x="216" y="1073"/>
                    </a:lnTo>
                    <a:lnTo>
                      <a:pt x="219" y="1157"/>
                    </a:lnTo>
                    <a:lnTo>
                      <a:pt x="222" y="1244"/>
                    </a:lnTo>
                    <a:lnTo>
                      <a:pt x="222" y="1329"/>
                    </a:lnTo>
                    <a:lnTo>
                      <a:pt x="221" y="1432"/>
                    </a:lnTo>
                    <a:lnTo>
                      <a:pt x="218" y="1533"/>
                    </a:lnTo>
                    <a:lnTo>
                      <a:pt x="213" y="1635"/>
                    </a:lnTo>
                    <a:lnTo>
                      <a:pt x="207" y="1736"/>
                    </a:lnTo>
                    <a:lnTo>
                      <a:pt x="200" y="1837"/>
                    </a:lnTo>
                    <a:lnTo>
                      <a:pt x="190" y="1938"/>
                    </a:lnTo>
                    <a:lnTo>
                      <a:pt x="178" y="2036"/>
                    </a:lnTo>
                    <a:lnTo>
                      <a:pt x="165" y="2136"/>
                    </a:lnTo>
                    <a:lnTo>
                      <a:pt x="150" y="2235"/>
                    </a:lnTo>
                    <a:lnTo>
                      <a:pt x="133" y="2332"/>
                    </a:lnTo>
                    <a:lnTo>
                      <a:pt x="115" y="2430"/>
                    </a:lnTo>
                    <a:lnTo>
                      <a:pt x="95" y="2527"/>
                    </a:lnTo>
                    <a:lnTo>
                      <a:pt x="73" y="2623"/>
                    </a:lnTo>
                    <a:lnTo>
                      <a:pt x="51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8" y="2813"/>
                    </a:lnTo>
                    <a:lnTo>
                      <a:pt x="122" y="2719"/>
                    </a:lnTo>
                    <a:lnTo>
                      <a:pt x="145" y="2623"/>
                    </a:lnTo>
                    <a:lnTo>
                      <a:pt x="166" y="2527"/>
                    </a:lnTo>
                    <a:lnTo>
                      <a:pt x="186" y="2430"/>
                    </a:lnTo>
                    <a:lnTo>
                      <a:pt x="204" y="2332"/>
                    </a:lnTo>
                    <a:lnTo>
                      <a:pt x="219" y="2234"/>
                    </a:lnTo>
                    <a:lnTo>
                      <a:pt x="234" y="2136"/>
                    </a:lnTo>
                    <a:lnTo>
                      <a:pt x="248" y="2036"/>
                    </a:lnTo>
                    <a:lnTo>
                      <a:pt x="258" y="1937"/>
                    </a:lnTo>
                    <a:lnTo>
                      <a:pt x="269" y="1837"/>
                    </a:lnTo>
                    <a:lnTo>
                      <a:pt x="276" y="1736"/>
                    </a:lnTo>
                    <a:lnTo>
                      <a:pt x="283" y="1635"/>
                    </a:lnTo>
                    <a:lnTo>
                      <a:pt x="287" y="1533"/>
                    </a:lnTo>
                    <a:lnTo>
                      <a:pt x="290" y="1432"/>
                    </a:lnTo>
                    <a:lnTo>
                      <a:pt x="291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40216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2" h="2908">
                    <a:moveTo>
                      <a:pt x="292" y="1329"/>
                    </a:moveTo>
                    <a:lnTo>
                      <a:pt x="291" y="1244"/>
                    </a:lnTo>
                    <a:lnTo>
                      <a:pt x="289" y="1159"/>
                    </a:lnTo>
                    <a:lnTo>
                      <a:pt x="286" y="1073"/>
                    </a:lnTo>
                    <a:lnTo>
                      <a:pt x="282" y="988"/>
                    </a:lnTo>
                    <a:lnTo>
                      <a:pt x="277" y="904"/>
                    </a:lnTo>
                    <a:lnTo>
                      <a:pt x="270" y="820"/>
                    </a:lnTo>
                    <a:lnTo>
                      <a:pt x="262" y="736"/>
                    </a:lnTo>
                    <a:lnTo>
                      <a:pt x="252" y="652"/>
                    </a:lnTo>
                    <a:lnTo>
                      <a:pt x="242" y="571"/>
                    </a:lnTo>
                    <a:lnTo>
                      <a:pt x="230" y="488"/>
                    </a:lnTo>
                    <a:lnTo>
                      <a:pt x="218" y="406"/>
                    </a:lnTo>
                    <a:lnTo>
                      <a:pt x="204" y="324"/>
                    </a:lnTo>
                    <a:lnTo>
                      <a:pt x="189" y="242"/>
                    </a:lnTo>
                    <a:lnTo>
                      <a:pt x="172" y="161"/>
                    </a:lnTo>
                    <a:lnTo>
                      <a:pt x="156" y="80"/>
                    </a:lnTo>
                    <a:lnTo>
                      <a:pt x="137" y="0"/>
                    </a:lnTo>
                    <a:lnTo>
                      <a:pt x="120" y="0"/>
                    </a:lnTo>
                    <a:lnTo>
                      <a:pt x="66" y="0"/>
                    </a:lnTo>
                    <a:lnTo>
                      <a:pt x="84" y="80"/>
                    </a:lnTo>
                    <a:lnTo>
                      <a:pt x="102" y="161"/>
                    </a:lnTo>
                    <a:lnTo>
                      <a:pt x="119" y="242"/>
                    </a:lnTo>
                    <a:lnTo>
                      <a:pt x="134" y="323"/>
                    </a:lnTo>
                    <a:lnTo>
                      <a:pt x="148" y="405"/>
                    </a:lnTo>
                    <a:lnTo>
                      <a:pt x="161" y="488"/>
                    </a:lnTo>
                    <a:lnTo>
                      <a:pt x="172" y="569"/>
                    </a:lnTo>
                    <a:lnTo>
                      <a:pt x="183" y="652"/>
                    </a:lnTo>
                    <a:lnTo>
                      <a:pt x="192" y="736"/>
                    </a:lnTo>
                    <a:lnTo>
                      <a:pt x="201" y="819"/>
                    </a:lnTo>
                    <a:lnTo>
                      <a:pt x="207" y="903"/>
                    </a:lnTo>
                    <a:lnTo>
                      <a:pt x="213" y="988"/>
                    </a:lnTo>
                    <a:lnTo>
                      <a:pt x="218" y="1072"/>
                    </a:lnTo>
                    <a:lnTo>
                      <a:pt x="221" y="1157"/>
                    </a:lnTo>
                    <a:lnTo>
                      <a:pt x="223" y="1244"/>
                    </a:lnTo>
                    <a:lnTo>
                      <a:pt x="223" y="1329"/>
                    </a:lnTo>
                    <a:lnTo>
                      <a:pt x="223" y="1432"/>
                    </a:lnTo>
                    <a:lnTo>
                      <a:pt x="220" y="1533"/>
                    </a:lnTo>
                    <a:lnTo>
                      <a:pt x="216" y="1635"/>
                    </a:lnTo>
                    <a:lnTo>
                      <a:pt x="209" y="1736"/>
                    </a:lnTo>
                    <a:lnTo>
                      <a:pt x="201" y="1837"/>
                    </a:lnTo>
                    <a:lnTo>
                      <a:pt x="191" y="1938"/>
                    </a:lnTo>
                    <a:lnTo>
                      <a:pt x="180" y="2037"/>
                    </a:lnTo>
                    <a:lnTo>
                      <a:pt x="166" y="2136"/>
                    </a:lnTo>
                    <a:lnTo>
                      <a:pt x="151" y="2235"/>
                    </a:lnTo>
                    <a:lnTo>
                      <a:pt x="135" y="2332"/>
                    </a:lnTo>
                    <a:lnTo>
                      <a:pt x="116" y="2430"/>
                    </a:lnTo>
                    <a:lnTo>
                      <a:pt x="96" y="2527"/>
                    </a:lnTo>
                    <a:lnTo>
                      <a:pt x="75" y="2623"/>
                    </a:lnTo>
                    <a:lnTo>
                      <a:pt x="52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8" y="2813"/>
                    </a:lnTo>
                    <a:lnTo>
                      <a:pt x="122" y="2719"/>
                    </a:lnTo>
                    <a:lnTo>
                      <a:pt x="145" y="2623"/>
                    </a:lnTo>
                    <a:lnTo>
                      <a:pt x="166" y="2527"/>
                    </a:lnTo>
                    <a:lnTo>
                      <a:pt x="186" y="2430"/>
                    </a:lnTo>
                    <a:lnTo>
                      <a:pt x="204" y="2332"/>
                    </a:lnTo>
                    <a:lnTo>
                      <a:pt x="221" y="2235"/>
                    </a:lnTo>
                    <a:lnTo>
                      <a:pt x="236" y="2136"/>
                    </a:lnTo>
                    <a:lnTo>
                      <a:pt x="249" y="2036"/>
                    </a:lnTo>
                    <a:lnTo>
                      <a:pt x="260" y="1937"/>
                    </a:lnTo>
                    <a:lnTo>
                      <a:pt x="270" y="1837"/>
                    </a:lnTo>
                    <a:lnTo>
                      <a:pt x="278" y="1736"/>
                    </a:lnTo>
                    <a:lnTo>
                      <a:pt x="284" y="1635"/>
                    </a:lnTo>
                    <a:lnTo>
                      <a:pt x="288" y="1533"/>
                    </a:lnTo>
                    <a:lnTo>
                      <a:pt x="291" y="1432"/>
                    </a:lnTo>
                    <a:lnTo>
                      <a:pt x="292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391000" y="2571840"/>
                <a:ext cx="93960" cy="922320"/>
              </a:xfrm>
              <a:custGeom>
                <a:avLst/>
                <a:gdLst/>
                <a:ahLst/>
                <a:rect l="l" t="t" r="r" b="b"/>
                <a:pathLst>
                  <a:path w="294" h="2908">
                    <a:moveTo>
                      <a:pt x="294" y="1329"/>
                    </a:moveTo>
                    <a:lnTo>
                      <a:pt x="294" y="1244"/>
                    </a:lnTo>
                    <a:lnTo>
                      <a:pt x="291" y="1157"/>
                    </a:lnTo>
                    <a:lnTo>
                      <a:pt x="288" y="1073"/>
                    </a:lnTo>
                    <a:lnTo>
                      <a:pt x="284" y="988"/>
                    </a:lnTo>
                    <a:lnTo>
                      <a:pt x="278" y="903"/>
                    </a:lnTo>
                    <a:lnTo>
                      <a:pt x="272" y="819"/>
                    </a:lnTo>
                    <a:lnTo>
                      <a:pt x="263" y="736"/>
                    </a:lnTo>
                    <a:lnTo>
                      <a:pt x="254" y="652"/>
                    </a:lnTo>
                    <a:lnTo>
                      <a:pt x="243" y="569"/>
                    </a:lnTo>
                    <a:lnTo>
                      <a:pt x="232" y="488"/>
                    </a:lnTo>
                    <a:lnTo>
                      <a:pt x="219" y="405"/>
                    </a:lnTo>
                    <a:lnTo>
                      <a:pt x="205" y="323"/>
                    </a:lnTo>
                    <a:lnTo>
                      <a:pt x="190" y="242"/>
                    </a:lnTo>
                    <a:lnTo>
                      <a:pt x="174" y="161"/>
                    </a:lnTo>
                    <a:lnTo>
                      <a:pt x="156" y="80"/>
                    </a:lnTo>
                    <a:lnTo>
                      <a:pt x="137" y="0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85" y="80"/>
                    </a:lnTo>
                    <a:lnTo>
                      <a:pt x="103" y="161"/>
                    </a:lnTo>
                    <a:lnTo>
                      <a:pt x="119" y="242"/>
                    </a:lnTo>
                    <a:lnTo>
                      <a:pt x="135" y="323"/>
                    </a:lnTo>
                    <a:lnTo>
                      <a:pt x="149" y="405"/>
                    </a:lnTo>
                    <a:lnTo>
                      <a:pt x="162" y="488"/>
                    </a:lnTo>
                    <a:lnTo>
                      <a:pt x="174" y="569"/>
                    </a:lnTo>
                    <a:lnTo>
                      <a:pt x="184" y="652"/>
                    </a:lnTo>
                    <a:lnTo>
                      <a:pt x="194" y="736"/>
                    </a:lnTo>
                    <a:lnTo>
                      <a:pt x="202" y="819"/>
                    </a:lnTo>
                    <a:lnTo>
                      <a:pt x="208" y="903"/>
                    </a:lnTo>
                    <a:lnTo>
                      <a:pt x="215" y="988"/>
                    </a:lnTo>
                    <a:lnTo>
                      <a:pt x="219" y="1072"/>
                    </a:lnTo>
                    <a:lnTo>
                      <a:pt x="222" y="1157"/>
                    </a:lnTo>
                    <a:lnTo>
                      <a:pt x="224" y="1244"/>
                    </a:lnTo>
                    <a:lnTo>
                      <a:pt x="225" y="1329"/>
                    </a:lnTo>
                    <a:lnTo>
                      <a:pt x="224" y="1432"/>
                    </a:lnTo>
                    <a:lnTo>
                      <a:pt x="221" y="1533"/>
                    </a:lnTo>
                    <a:lnTo>
                      <a:pt x="217" y="1635"/>
                    </a:lnTo>
                    <a:lnTo>
                      <a:pt x="211" y="1736"/>
                    </a:lnTo>
                    <a:lnTo>
                      <a:pt x="202" y="1837"/>
                    </a:lnTo>
                    <a:lnTo>
                      <a:pt x="193" y="1938"/>
                    </a:lnTo>
                    <a:lnTo>
                      <a:pt x="181" y="2037"/>
                    </a:lnTo>
                    <a:lnTo>
                      <a:pt x="167" y="2136"/>
                    </a:lnTo>
                    <a:lnTo>
                      <a:pt x="152" y="2235"/>
                    </a:lnTo>
                    <a:lnTo>
                      <a:pt x="135" y="2332"/>
                    </a:lnTo>
                    <a:lnTo>
                      <a:pt x="117" y="2430"/>
                    </a:lnTo>
                    <a:lnTo>
                      <a:pt x="97" y="2527"/>
                    </a:lnTo>
                    <a:lnTo>
                      <a:pt x="75" y="2623"/>
                    </a:lnTo>
                    <a:lnTo>
                      <a:pt x="52" y="2719"/>
                    </a:lnTo>
                    <a:lnTo>
                      <a:pt x="27" y="2813"/>
                    </a:lnTo>
                    <a:lnTo>
                      <a:pt x="0" y="2908"/>
                    </a:lnTo>
                    <a:lnTo>
                      <a:pt x="13" y="2908"/>
                    </a:lnTo>
                    <a:lnTo>
                      <a:pt x="72" y="2908"/>
                    </a:lnTo>
                    <a:lnTo>
                      <a:pt x="98" y="2813"/>
                    </a:lnTo>
                    <a:lnTo>
                      <a:pt x="123" y="2719"/>
                    </a:lnTo>
                    <a:lnTo>
                      <a:pt x="145" y="2623"/>
                    </a:lnTo>
                    <a:lnTo>
                      <a:pt x="167" y="2527"/>
                    </a:lnTo>
                    <a:lnTo>
                      <a:pt x="187" y="2430"/>
                    </a:lnTo>
                    <a:lnTo>
                      <a:pt x="205" y="2332"/>
                    </a:lnTo>
                    <a:lnTo>
                      <a:pt x="222" y="2235"/>
                    </a:lnTo>
                    <a:lnTo>
                      <a:pt x="237" y="2136"/>
                    </a:lnTo>
                    <a:lnTo>
                      <a:pt x="250" y="2036"/>
                    </a:lnTo>
                    <a:lnTo>
                      <a:pt x="262" y="1938"/>
                    </a:lnTo>
                    <a:lnTo>
                      <a:pt x="272" y="1837"/>
                    </a:lnTo>
                    <a:lnTo>
                      <a:pt x="279" y="1736"/>
                    </a:lnTo>
                    <a:lnTo>
                      <a:pt x="285" y="1635"/>
                    </a:lnTo>
                    <a:lnTo>
                      <a:pt x="290" y="1533"/>
                    </a:lnTo>
                    <a:lnTo>
                      <a:pt x="293" y="1432"/>
                    </a:lnTo>
                    <a:lnTo>
                      <a:pt x="294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8020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4" h="2908">
                    <a:moveTo>
                      <a:pt x="294" y="1329"/>
                    </a:moveTo>
                    <a:lnTo>
                      <a:pt x="294" y="1244"/>
                    </a:lnTo>
                    <a:lnTo>
                      <a:pt x="292" y="1157"/>
                    </a:lnTo>
                    <a:lnTo>
                      <a:pt x="289" y="1072"/>
                    </a:lnTo>
                    <a:lnTo>
                      <a:pt x="284" y="988"/>
                    </a:lnTo>
                    <a:lnTo>
                      <a:pt x="278" y="903"/>
                    </a:lnTo>
                    <a:lnTo>
                      <a:pt x="272" y="819"/>
                    </a:lnTo>
                    <a:lnTo>
                      <a:pt x="263" y="736"/>
                    </a:lnTo>
                    <a:lnTo>
                      <a:pt x="254" y="652"/>
                    </a:lnTo>
                    <a:lnTo>
                      <a:pt x="243" y="569"/>
                    </a:lnTo>
                    <a:lnTo>
                      <a:pt x="232" y="488"/>
                    </a:lnTo>
                    <a:lnTo>
                      <a:pt x="219" y="405"/>
                    </a:lnTo>
                    <a:lnTo>
                      <a:pt x="205" y="323"/>
                    </a:lnTo>
                    <a:lnTo>
                      <a:pt x="190" y="242"/>
                    </a:lnTo>
                    <a:lnTo>
                      <a:pt x="173" y="161"/>
                    </a:lnTo>
                    <a:lnTo>
                      <a:pt x="155" y="80"/>
                    </a:lnTo>
                    <a:lnTo>
                      <a:pt x="137" y="0"/>
                    </a:lnTo>
                    <a:lnTo>
                      <a:pt x="134" y="0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85" y="80"/>
                    </a:lnTo>
                    <a:lnTo>
                      <a:pt x="103" y="161"/>
                    </a:lnTo>
                    <a:lnTo>
                      <a:pt x="119" y="242"/>
                    </a:lnTo>
                    <a:lnTo>
                      <a:pt x="135" y="323"/>
                    </a:lnTo>
                    <a:lnTo>
                      <a:pt x="149" y="405"/>
                    </a:lnTo>
                    <a:lnTo>
                      <a:pt x="163" y="487"/>
                    </a:lnTo>
                    <a:lnTo>
                      <a:pt x="174" y="569"/>
                    </a:lnTo>
                    <a:lnTo>
                      <a:pt x="185" y="652"/>
                    </a:lnTo>
                    <a:lnTo>
                      <a:pt x="194" y="736"/>
                    </a:lnTo>
                    <a:lnTo>
                      <a:pt x="202" y="819"/>
                    </a:lnTo>
                    <a:lnTo>
                      <a:pt x="210" y="903"/>
                    </a:lnTo>
                    <a:lnTo>
                      <a:pt x="215" y="988"/>
                    </a:lnTo>
                    <a:lnTo>
                      <a:pt x="220" y="1072"/>
                    </a:lnTo>
                    <a:lnTo>
                      <a:pt x="223" y="1157"/>
                    </a:lnTo>
                    <a:lnTo>
                      <a:pt x="225" y="1244"/>
                    </a:lnTo>
                    <a:lnTo>
                      <a:pt x="226" y="1329"/>
                    </a:lnTo>
                    <a:lnTo>
                      <a:pt x="225" y="1432"/>
                    </a:lnTo>
                    <a:lnTo>
                      <a:pt x="222" y="1533"/>
                    </a:lnTo>
                    <a:lnTo>
                      <a:pt x="217" y="1635"/>
                    </a:lnTo>
                    <a:lnTo>
                      <a:pt x="211" y="1737"/>
                    </a:lnTo>
                    <a:lnTo>
                      <a:pt x="202" y="1838"/>
                    </a:lnTo>
                    <a:lnTo>
                      <a:pt x="193" y="1938"/>
                    </a:lnTo>
                    <a:lnTo>
                      <a:pt x="181" y="2037"/>
                    </a:lnTo>
                    <a:lnTo>
                      <a:pt x="168" y="2136"/>
                    </a:lnTo>
                    <a:lnTo>
                      <a:pt x="152" y="2235"/>
                    </a:lnTo>
                    <a:lnTo>
                      <a:pt x="135" y="2332"/>
                    </a:lnTo>
                    <a:lnTo>
                      <a:pt x="117" y="2430"/>
                    </a:lnTo>
                    <a:lnTo>
                      <a:pt x="96" y="2527"/>
                    </a:lnTo>
                    <a:lnTo>
                      <a:pt x="74" y="2623"/>
                    </a:lnTo>
                    <a:lnTo>
                      <a:pt x="51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48" y="2908"/>
                    </a:lnTo>
                    <a:lnTo>
                      <a:pt x="71" y="2908"/>
                    </a:lnTo>
                    <a:lnTo>
                      <a:pt x="97" y="2813"/>
                    </a:lnTo>
                    <a:lnTo>
                      <a:pt x="123" y="2719"/>
                    </a:lnTo>
                    <a:lnTo>
                      <a:pt x="146" y="2623"/>
                    </a:lnTo>
                    <a:lnTo>
                      <a:pt x="167" y="2527"/>
                    </a:lnTo>
                    <a:lnTo>
                      <a:pt x="187" y="2430"/>
                    </a:lnTo>
                    <a:lnTo>
                      <a:pt x="206" y="2332"/>
                    </a:lnTo>
                    <a:lnTo>
                      <a:pt x="222" y="2235"/>
                    </a:lnTo>
                    <a:lnTo>
                      <a:pt x="237" y="2136"/>
                    </a:lnTo>
                    <a:lnTo>
                      <a:pt x="251" y="2037"/>
                    </a:lnTo>
                    <a:lnTo>
                      <a:pt x="262" y="1938"/>
                    </a:lnTo>
                    <a:lnTo>
                      <a:pt x="272" y="1837"/>
                    </a:lnTo>
                    <a:lnTo>
                      <a:pt x="280" y="1736"/>
                    </a:lnTo>
                    <a:lnTo>
                      <a:pt x="287" y="1635"/>
                    </a:lnTo>
                    <a:lnTo>
                      <a:pt x="291" y="1533"/>
                    </a:lnTo>
                    <a:lnTo>
                      <a:pt x="294" y="1432"/>
                    </a:lnTo>
                    <a:lnTo>
                      <a:pt x="294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36904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7" h="2908">
                    <a:moveTo>
                      <a:pt x="297" y="1329"/>
                    </a:moveTo>
                    <a:lnTo>
                      <a:pt x="296" y="1244"/>
                    </a:lnTo>
                    <a:lnTo>
                      <a:pt x="294" y="1157"/>
                    </a:lnTo>
                    <a:lnTo>
                      <a:pt x="291" y="1072"/>
                    </a:lnTo>
                    <a:lnTo>
                      <a:pt x="287" y="988"/>
                    </a:lnTo>
                    <a:lnTo>
                      <a:pt x="280" y="903"/>
                    </a:lnTo>
                    <a:lnTo>
                      <a:pt x="274" y="819"/>
                    </a:lnTo>
                    <a:lnTo>
                      <a:pt x="266" y="736"/>
                    </a:lnTo>
                    <a:lnTo>
                      <a:pt x="256" y="652"/>
                    </a:lnTo>
                    <a:lnTo>
                      <a:pt x="246" y="569"/>
                    </a:lnTo>
                    <a:lnTo>
                      <a:pt x="234" y="488"/>
                    </a:lnTo>
                    <a:lnTo>
                      <a:pt x="222" y="405"/>
                    </a:lnTo>
                    <a:lnTo>
                      <a:pt x="207" y="323"/>
                    </a:lnTo>
                    <a:lnTo>
                      <a:pt x="191" y="242"/>
                    </a:lnTo>
                    <a:lnTo>
                      <a:pt x="175" y="161"/>
                    </a:lnTo>
                    <a:lnTo>
                      <a:pt x="157" y="80"/>
                    </a:lnTo>
                    <a:lnTo>
                      <a:pt x="139" y="0"/>
                    </a:lnTo>
                    <a:lnTo>
                      <a:pt x="114" y="0"/>
                    </a:lnTo>
                    <a:lnTo>
                      <a:pt x="68" y="0"/>
                    </a:lnTo>
                    <a:lnTo>
                      <a:pt x="87" y="80"/>
                    </a:lnTo>
                    <a:lnTo>
                      <a:pt x="105" y="161"/>
                    </a:lnTo>
                    <a:lnTo>
                      <a:pt x="122" y="242"/>
                    </a:lnTo>
                    <a:lnTo>
                      <a:pt x="136" y="323"/>
                    </a:lnTo>
                    <a:lnTo>
                      <a:pt x="151" y="405"/>
                    </a:lnTo>
                    <a:lnTo>
                      <a:pt x="165" y="487"/>
                    </a:lnTo>
                    <a:lnTo>
                      <a:pt x="176" y="569"/>
                    </a:lnTo>
                    <a:lnTo>
                      <a:pt x="187" y="652"/>
                    </a:lnTo>
                    <a:lnTo>
                      <a:pt x="196" y="735"/>
                    </a:lnTo>
                    <a:lnTo>
                      <a:pt x="205" y="819"/>
                    </a:lnTo>
                    <a:lnTo>
                      <a:pt x="212" y="903"/>
                    </a:lnTo>
                    <a:lnTo>
                      <a:pt x="217" y="988"/>
                    </a:lnTo>
                    <a:lnTo>
                      <a:pt x="223" y="1072"/>
                    </a:lnTo>
                    <a:lnTo>
                      <a:pt x="226" y="1157"/>
                    </a:lnTo>
                    <a:lnTo>
                      <a:pt x="228" y="1244"/>
                    </a:lnTo>
                    <a:lnTo>
                      <a:pt x="228" y="1329"/>
                    </a:lnTo>
                    <a:lnTo>
                      <a:pt x="227" y="1432"/>
                    </a:lnTo>
                    <a:lnTo>
                      <a:pt x="225" y="1533"/>
                    </a:lnTo>
                    <a:lnTo>
                      <a:pt x="219" y="1635"/>
                    </a:lnTo>
                    <a:lnTo>
                      <a:pt x="213" y="1737"/>
                    </a:lnTo>
                    <a:lnTo>
                      <a:pt x="205" y="1838"/>
                    </a:lnTo>
                    <a:lnTo>
                      <a:pt x="195" y="1938"/>
                    </a:lnTo>
                    <a:lnTo>
                      <a:pt x="183" y="2037"/>
                    </a:lnTo>
                    <a:lnTo>
                      <a:pt x="170" y="2136"/>
                    </a:lnTo>
                    <a:lnTo>
                      <a:pt x="154" y="2235"/>
                    </a:lnTo>
                    <a:lnTo>
                      <a:pt x="137" y="2333"/>
                    </a:lnTo>
                    <a:lnTo>
                      <a:pt x="119" y="2430"/>
                    </a:lnTo>
                    <a:lnTo>
                      <a:pt x="99" y="2528"/>
                    </a:lnTo>
                    <a:lnTo>
                      <a:pt x="77" y="2623"/>
                    </a:lnTo>
                    <a:lnTo>
                      <a:pt x="52" y="2719"/>
                    </a:lnTo>
                    <a:lnTo>
                      <a:pt x="27" y="2814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9" y="2813"/>
                    </a:lnTo>
                    <a:lnTo>
                      <a:pt x="124" y="2719"/>
                    </a:lnTo>
                    <a:lnTo>
                      <a:pt x="147" y="2623"/>
                    </a:lnTo>
                    <a:lnTo>
                      <a:pt x="169" y="2527"/>
                    </a:lnTo>
                    <a:lnTo>
                      <a:pt x="189" y="2430"/>
                    </a:lnTo>
                    <a:lnTo>
                      <a:pt x="207" y="2332"/>
                    </a:lnTo>
                    <a:lnTo>
                      <a:pt x="224" y="2235"/>
                    </a:lnTo>
                    <a:lnTo>
                      <a:pt x="239" y="2136"/>
                    </a:lnTo>
                    <a:lnTo>
                      <a:pt x="253" y="2037"/>
                    </a:lnTo>
                    <a:lnTo>
                      <a:pt x="265" y="1938"/>
                    </a:lnTo>
                    <a:lnTo>
                      <a:pt x="274" y="1837"/>
                    </a:lnTo>
                    <a:lnTo>
                      <a:pt x="283" y="1736"/>
                    </a:lnTo>
                    <a:lnTo>
                      <a:pt x="289" y="1635"/>
                    </a:lnTo>
                    <a:lnTo>
                      <a:pt x="293" y="1533"/>
                    </a:lnTo>
                    <a:lnTo>
                      <a:pt x="296" y="1432"/>
                    </a:lnTo>
                    <a:lnTo>
                      <a:pt x="297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35788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9" h="2908">
                    <a:moveTo>
                      <a:pt x="299" y="1329"/>
                    </a:moveTo>
                    <a:lnTo>
                      <a:pt x="298" y="1244"/>
                    </a:lnTo>
                    <a:lnTo>
                      <a:pt x="296" y="1157"/>
                    </a:lnTo>
                    <a:lnTo>
                      <a:pt x="292" y="1072"/>
                    </a:lnTo>
                    <a:lnTo>
                      <a:pt x="288" y="988"/>
                    </a:lnTo>
                    <a:lnTo>
                      <a:pt x="283" y="903"/>
                    </a:lnTo>
                    <a:lnTo>
                      <a:pt x="275" y="819"/>
                    </a:lnTo>
                    <a:lnTo>
                      <a:pt x="267" y="736"/>
                    </a:lnTo>
                    <a:lnTo>
                      <a:pt x="258" y="652"/>
                    </a:lnTo>
                    <a:lnTo>
                      <a:pt x="247" y="569"/>
                    </a:lnTo>
                    <a:lnTo>
                      <a:pt x="236" y="487"/>
                    </a:lnTo>
                    <a:lnTo>
                      <a:pt x="222" y="405"/>
                    </a:lnTo>
                    <a:lnTo>
                      <a:pt x="208" y="323"/>
                    </a:lnTo>
                    <a:lnTo>
                      <a:pt x="192" y="242"/>
                    </a:lnTo>
                    <a:lnTo>
                      <a:pt x="176" y="161"/>
                    </a:lnTo>
                    <a:lnTo>
                      <a:pt x="158" y="80"/>
                    </a:lnTo>
                    <a:lnTo>
                      <a:pt x="139" y="0"/>
                    </a:lnTo>
                    <a:lnTo>
                      <a:pt x="94" y="0"/>
                    </a:lnTo>
                    <a:lnTo>
                      <a:pt x="68" y="0"/>
                    </a:lnTo>
                    <a:lnTo>
                      <a:pt x="87" y="80"/>
                    </a:lnTo>
                    <a:lnTo>
                      <a:pt x="105" y="161"/>
                    </a:lnTo>
                    <a:lnTo>
                      <a:pt x="122" y="242"/>
                    </a:lnTo>
                    <a:lnTo>
                      <a:pt x="138" y="323"/>
                    </a:lnTo>
                    <a:lnTo>
                      <a:pt x="152" y="405"/>
                    </a:lnTo>
                    <a:lnTo>
                      <a:pt x="166" y="487"/>
                    </a:lnTo>
                    <a:lnTo>
                      <a:pt x="178" y="569"/>
                    </a:lnTo>
                    <a:lnTo>
                      <a:pt x="188" y="652"/>
                    </a:lnTo>
                    <a:lnTo>
                      <a:pt x="198" y="735"/>
                    </a:lnTo>
                    <a:lnTo>
                      <a:pt x="206" y="819"/>
                    </a:lnTo>
                    <a:lnTo>
                      <a:pt x="213" y="903"/>
                    </a:lnTo>
                    <a:lnTo>
                      <a:pt x="220" y="988"/>
                    </a:lnTo>
                    <a:lnTo>
                      <a:pt x="224" y="1072"/>
                    </a:lnTo>
                    <a:lnTo>
                      <a:pt x="227" y="1157"/>
                    </a:lnTo>
                    <a:lnTo>
                      <a:pt x="229" y="1244"/>
                    </a:lnTo>
                    <a:lnTo>
                      <a:pt x="230" y="1329"/>
                    </a:lnTo>
                    <a:lnTo>
                      <a:pt x="229" y="1432"/>
                    </a:lnTo>
                    <a:lnTo>
                      <a:pt x="226" y="1533"/>
                    </a:lnTo>
                    <a:lnTo>
                      <a:pt x="222" y="1635"/>
                    </a:lnTo>
                    <a:lnTo>
                      <a:pt x="214" y="1737"/>
                    </a:lnTo>
                    <a:lnTo>
                      <a:pt x="206" y="1838"/>
                    </a:lnTo>
                    <a:lnTo>
                      <a:pt x="197" y="1938"/>
                    </a:lnTo>
                    <a:lnTo>
                      <a:pt x="185" y="2037"/>
                    </a:lnTo>
                    <a:lnTo>
                      <a:pt x="171" y="2136"/>
                    </a:lnTo>
                    <a:lnTo>
                      <a:pt x="156" y="2235"/>
                    </a:lnTo>
                    <a:lnTo>
                      <a:pt x="139" y="2333"/>
                    </a:lnTo>
                    <a:lnTo>
                      <a:pt x="120" y="2430"/>
                    </a:lnTo>
                    <a:lnTo>
                      <a:pt x="99" y="2528"/>
                    </a:lnTo>
                    <a:lnTo>
                      <a:pt x="77" y="2623"/>
                    </a:lnTo>
                    <a:lnTo>
                      <a:pt x="53" y="2719"/>
                    </a:lnTo>
                    <a:lnTo>
                      <a:pt x="27" y="2814"/>
                    </a:lnTo>
                    <a:lnTo>
                      <a:pt x="0" y="2908"/>
                    </a:lnTo>
                    <a:lnTo>
                      <a:pt x="73" y="2908"/>
                    </a:lnTo>
                    <a:lnTo>
                      <a:pt x="99" y="2813"/>
                    </a:lnTo>
                    <a:lnTo>
                      <a:pt x="124" y="2719"/>
                    </a:lnTo>
                    <a:lnTo>
                      <a:pt x="147" y="2623"/>
                    </a:lnTo>
                    <a:lnTo>
                      <a:pt x="169" y="2527"/>
                    </a:lnTo>
                    <a:lnTo>
                      <a:pt x="190" y="2430"/>
                    </a:lnTo>
                    <a:lnTo>
                      <a:pt x="208" y="2332"/>
                    </a:lnTo>
                    <a:lnTo>
                      <a:pt x="225" y="2235"/>
                    </a:lnTo>
                    <a:lnTo>
                      <a:pt x="241" y="2136"/>
                    </a:lnTo>
                    <a:lnTo>
                      <a:pt x="254" y="2037"/>
                    </a:lnTo>
                    <a:lnTo>
                      <a:pt x="266" y="1938"/>
                    </a:lnTo>
                    <a:lnTo>
                      <a:pt x="275" y="1838"/>
                    </a:lnTo>
                    <a:lnTo>
                      <a:pt x="284" y="1737"/>
                    </a:lnTo>
                    <a:lnTo>
                      <a:pt x="290" y="1635"/>
                    </a:lnTo>
                    <a:lnTo>
                      <a:pt x="294" y="1533"/>
                    </a:lnTo>
                    <a:lnTo>
                      <a:pt x="298" y="1432"/>
                    </a:lnTo>
                    <a:lnTo>
                      <a:pt x="299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345280" y="2571840"/>
                <a:ext cx="95040" cy="922320"/>
              </a:xfrm>
              <a:custGeom>
                <a:avLst/>
                <a:gdLst/>
                <a:ahLst/>
                <a:rect l="l" t="t" r="r" b="b"/>
                <a:pathLst>
                  <a:path w="300" h="2908">
                    <a:moveTo>
                      <a:pt x="300" y="1329"/>
                    </a:moveTo>
                    <a:lnTo>
                      <a:pt x="300" y="1244"/>
                    </a:lnTo>
                    <a:lnTo>
                      <a:pt x="298" y="1157"/>
                    </a:lnTo>
                    <a:lnTo>
                      <a:pt x="295" y="1072"/>
                    </a:lnTo>
                    <a:lnTo>
                      <a:pt x="289" y="988"/>
                    </a:lnTo>
                    <a:lnTo>
                      <a:pt x="284" y="903"/>
                    </a:lnTo>
                    <a:lnTo>
                      <a:pt x="277" y="819"/>
                    </a:lnTo>
                    <a:lnTo>
                      <a:pt x="268" y="735"/>
                    </a:lnTo>
                    <a:lnTo>
                      <a:pt x="259" y="652"/>
                    </a:lnTo>
                    <a:lnTo>
                      <a:pt x="248" y="569"/>
                    </a:lnTo>
                    <a:lnTo>
                      <a:pt x="237" y="487"/>
                    </a:lnTo>
                    <a:lnTo>
                      <a:pt x="223" y="405"/>
                    </a:lnTo>
                    <a:lnTo>
                      <a:pt x="208" y="323"/>
                    </a:lnTo>
                    <a:lnTo>
                      <a:pt x="194" y="242"/>
                    </a:lnTo>
                    <a:lnTo>
                      <a:pt x="177" y="161"/>
                    </a:lnTo>
                    <a:lnTo>
                      <a:pt x="159" y="80"/>
                    </a:lnTo>
                    <a:lnTo>
                      <a:pt x="140" y="0"/>
                    </a:lnTo>
                    <a:lnTo>
                      <a:pt x="130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89" y="80"/>
                    </a:lnTo>
                    <a:lnTo>
                      <a:pt x="106" y="161"/>
                    </a:lnTo>
                    <a:lnTo>
                      <a:pt x="123" y="242"/>
                    </a:lnTo>
                    <a:lnTo>
                      <a:pt x="139" y="323"/>
                    </a:lnTo>
                    <a:lnTo>
                      <a:pt x="154" y="405"/>
                    </a:lnTo>
                    <a:lnTo>
                      <a:pt x="166" y="487"/>
                    </a:lnTo>
                    <a:lnTo>
                      <a:pt x="179" y="569"/>
                    </a:lnTo>
                    <a:lnTo>
                      <a:pt x="190" y="652"/>
                    </a:lnTo>
                    <a:lnTo>
                      <a:pt x="199" y="735"/>
                    </a:lnTo>
                    <a:lnTo>
                      <a:pt x="207" y="819"/>
                    </a:lnTo>
                    <a:lnTo>
                      <a:pt x="215" y="903"/>
                    </a:lnTo>
                    <a:lnTo>
                      <a:pt x="221" y="987"/>
                    </a:lnTo>
                    <a:lnTo>
                      <a:pt x="225" y="1072"/>
                    </a:lnTo>
                    <a:lnTo>
                      <a:pt x="228" y="1157"/>
                    </a:lnTo>
                    <a:lnTo>
                      <a:pt x="231" y="1244"/>
                    </a:lnTo>
                    <a:lnTo>
                      <a:pt x="232" y="1329"/>
                    </a:lnTo>
                    <a:lnTo>
                      <a:pt x="231" y="1432"/>
                    </a:lnTo>
                    <a:lnTo>
                      <a:pt x="227" y="1533"/>
                    </a:lnTo>
                    <a:lnTo>
                      <a:pt x="223" y="1635"/>
                    </a:lnTo>
                    <a:lnTo>
                      <a:pt x="217" y="1737"/>
                    </a:lnTo>
                    <a:lnTo>
                      <a:pt x="208" y="1838"/>
                    </a:lnTo>
                    <a:lnTo>
                      <a:pt x="198" y="1938"/>
                    </a:lnTo>
                    <a:lnTo>
                      <a:pt x="185" y="2037"/>
                    </a:lnTo>
                    <a:lnTo>
                      <a:pt x="172" y="2137"/>
                    </a:lnTo>
                    <a:lnTo>
                      <a:pt x="157" y="2236"/>
                    </a:lnTo>
                    <a:lnTo>
                      <a:pt x="139" y="2333"/>
                    </a:lnTo>
                    <a:lnTo>
                      <a:pt x="120" y="2431"/>
                    </a:lnTo>
                    <a:lnTo>
                      <a:pt x="100" y="2528"/>
                    </a:lnTo>
                    <a:lnTo>
                      <a:pt x="77" y="2623"/>
                    </a:lnTo>
                    <a:lnTo>
                      <a:pt x="53" y="2719"/>
                    </a:lnTo>
                    <a:lnTo>
                      <a:pt x="28" y="2814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9" y="2814"/>
                    </a:lnTo>
                    <a:lnTo>
                      <a:pt x="124" y="2719"/>
                    </a:lnTo>
                    <a:lnTo>
                      <a:pt x="149" y="2623"/>
                    </a:lnTo>
                    <a:lnTo>
                      <a:pt x="171" y="2528"/>
                    </a:lnTo>
                    <a:lnTo>
                      <a:pt x="191" y="2430"/>
                    </a:lnTo>
                    <a:lnTo>
                      <a:pt x="209" y="2333"/>
                    </a:lnTo>
                    <a:lnTo>
                      <a:pt x="226" y="2235"/>
                    </a:lnTo>
                    <a:lnTo>
                      <a:pt x="242" y="2136"/>
                    </a:lnTo>
                    <a:lnTo>
                      <a:pt x="255" y="2037"/>
                    </a:lnTo>
                    <a:lnTo>
                      <a:pt x="267" y="1938"/>
                    </a:lnTo>
                    <a:lnTo>
                      <a:pt x="277" y="1838"/>
                    </a:lnTo>
                    <a:lnTo>
                      <a:pt x="285" y="1737"/>
                    </a:lnTo>
                    <a:lnTo>
                      <a:pt x="291" y="1635"/>
                    </a:lnTo>
                    <a:lnTo>
                      <a:pt x="297" y="1533"/>
                    </a:lnTo>
                    <a:lnTo>
                      <a:pt x="299" y="1432"/>
                    </a:lnTo>
                    <a:lnTo>
                      <a:pt x="300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334120" y="2571840"/>
                <a:ext cx="96840" cy="923760"/>
              </a:xfrm>
              <a:custGeom>
                <a:avLst/>
                <a:gdLst/>
                <a:ahLst/>
                <a:rect l="l" t="t" r="r" b="b"/>
                <a:pathLst>
                  <a:path w="302" h="2912">
                    <a:moveTo>
                      <a:pt x="302" y="1329"/>
                    </a:moveTo>
                    <a:lnTo>
                      <a:pt x="301" y="1244"/>
                    </a:lnTo>
                    <a:lnTo>
                      <a:pt x="299" y="1157"/>
                    </a:lnTo>
                    <a:lnTo>
                      <a:pt x="296" y="1072"/>
                    </a:lnTo>
                    <a:lnTo>
                      <a:pt x="292" y="988"/>
                    </a:lnTo>
                    <a:lnTo>
                      <a:pt x="285" y="903"/>
                    </a:lnTo>
                    <a:lnTo>
                      <a:pt x="278" y="819"/>
                    </a:lnTo>
                    <a:lnTo>
                      <a:pt x="270" y="735"/>
                    </a:lnTo>
                    <a:lnTo>
                      <a:pt x="260" y="652"/>
                    </a:lnTo>
                    <a:lnTo>
                      <a:pt x="250" y="569"/>
                    </a:lnTo>
                    <a:lnTo>
                      <a:pt x="238" y="487"/>
                    </a:lnTo>
                    <a:lnTo>
                      <a:pt x="224" y="405"/>
                    </a:lnTo>
                    <a:lnTo>
                      <a:pt x="210" y="323"/>
                    </a:lnTo>
                    <a:lnTo>
                      <a:pt x="194" y="242"/>
                    </a:lnTo>
                    <a:lnTo>
                      <a:pt x="177" y="161"/>
                    </a:lnTo>
                    <a:lnTo>
                      <a:pt x="159" y="80"/>
                    </a:lnTo>
                    <a:lnTo>
                      <a:pt x="140" y="0"/>
                    </a:lnTo>
                    <a:lnTo>
                      <a:pt x="109" y="0"/>
                    </a:lnTo>
                    <a:lnTo>
                      <a:pt x="70" y="0"/>
                    </a:lnTo>
                    <a:lnTo>
                      <a:pt x="89" y="80"/>
                    </a:lnTo>
                    <a:lnTo>
                      <a:pt x="107" y="161"/>
                    </a:lnTo>
                    <a:lnTo>
                      <a:pt x="125" y="242"/>
                    </a:lnTo>
                    <a:lnTo>
                      <a:pt x="140" y="323"/>
                    </a:lnTo>
                    <a:lnTo>
                      <a:pt x="155" y="405"/>
                    </a:lnTo>
                    <a:lnTo>
                      <a:pt x="168" y="487"/>
                    </a:lnTo>
                    <a:lnTo>
                      <a:pt x="180" y="569"/>
                    </a:lnTo>
                    <a:lnTo>
                      <a:pt x="191" y="652"/>
                    </a:lnTo>
                    <a:lnTo>
                      <a:pt x="201" y="735"/>
                    </a:lnTo>
                    <a:lnTo>
                      <a:pt x="210" y="819"/>
                    </a:lnTo>
                    <a:lnTo>
                      <a:pt x="216" y="903"/>
                    </a:lnTo>
                    <a:lnTo>
                      <a:pt x="222" y="987"/>
                    </a:lnTo>
                    <a:lnTo>
                      <a:pt x="227" y="1072"/>
                    </a:lnTo>
                    <a:lnTo>
                      <a:pt x="231" y="1157"/>
                    </a:lnTo>
                    <a:lnTo>
                      <a:pt x="232" y="1244"/>
                    </a:lnTo>
                    <a:lnTo>
                      <a:pt x="233" y="1329"/>
                    </a:lnTo>
                    <a:lnTo>
                      <a:pt x="232" y="1432"/>
                    </a:lnTo>
                    <a:lnTo>
                      <a:pt x="229" y="1534"/>
                    </a:lnTo>
                    <a:lnTo>
                      <a:pt x="224" y="1636"/>
                    </a:lnTo>
                    <a:lnTo>
                      <a:pt x="218" y="1738"/>
                    </a:lnTo>
                    <a:lnTo>
                      <a:pt x="210" y="1839"/>
                    </a:lnTo>
                    <a:lnTo>
                      <a:pt x="199" y="1940"/>
                    </a:lnTo>
                    <a:lnTo>
                      <a:pt x="187" y="2039"/>
                    </a:lnTo>
                    <a:lnTo>
                      <a:pt x="173" y="2139"/>
                    </a:lnTo>
                    <a:lnTo>
                      <a:pt x="157" y="2238"/>
                    </a:lnTo>
                    <a:lnTo>
                      <a:pt x="140" y="2337"/>
                    </a:lnTo>
                    <a:lnTo>
                      <a:pt x="120" y="2433"/>
                    </a:lnTo>
                    <a:lnTo>
                      <a:pt x="99" y="2531"/>
                    </a:lnTo>
                    <a:lnTo>
                      <a:pt x="77" y="2627"/>
                    </a:lnTo>
                    <a:lnTo>
                      <a:pt x="53" y="2723"/>
                    </a:lnTo>
                    <a:lnTo>
                      <a:pt x="27" y="2818"/>
                    </a:lnTo>
                    <a:lnTo>
                      <a:pt x="0" y="2912"/>
                    </a:lnTo>
                    <a:lnTo>
                      <a:pt x="24" y="2908"/>
                    </a:lnTo>
                    <a:lnTo>
                      <a:pt x="72" y="2908"/>
                    </a:lnTo>
                    <a:lnTo>
                      <a:pt x="99" y="2814"/>
                    </a:lnTo>
                    <a:lnTo>
                      <a:pt x="125" y="2719"/>
                    </a:lnTo>
                    <a:lnTo>
                      <a:pt x="149" y="2623"/>
                    </a:lnTo>
                    <a:lnTo>
                      <a:pt x="171" y="2528"/>
                    </a:lnTo>
                    <a:lnTo>
                      <a:pt x="192" y="2430"/>
                    </a:lnTo>
                    <a:lnTo>
                      <a:pt x="211" y="2333"/>
                    </a:lnTo>
                    <a:lnTo>
                      <a:pt x="228" y="2235"/>
                    </a:lnTo>
                    <a:lnTo>
                      <a:pt x="243" y="2136"/>
                    </a:lnTo>
                    <a:lnTo>
                      <a:pt x="257" y="2037"/>
                    </a:lnTo>
                    <a:lnTo>
                      <a:pt x="269" y="1938"/>
                    </a:lnTo>
                    <a:lnTo>
                      <a:pt x="278" y="1838"/>
                    </a:lnTo>
                    <a:lnTo>
                      <a:pt x="286" y="1737"/>
                    </a:lnTo>
                    <a:lnTo>
                      <a:pt x="294" y="1635"/>
                    </a:lnTo>
                    <a:lnTo>
                      <a:pt x="298" y="1533"/>
                    </a:lnTo>
                    <a:lnTo>
                      <a:pt x="301" y="1432"/>
                    </a:lnTo>
                    <a:lnTo>
                      <a:pt x="302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322960" y="2571840"/>
                <a:ext cx="96840" cy="925560"/>
              </a:xfrm>
              <a:custGeom>
                <a:avLst/>
                <a:gdLst/>
                <a:ahLst/>
                <a:rect l="l" t="t" r="r" b="b"/>
                <a:pathLst>
                  <a:path w="306" h="2918">
                    <a:moveTo>
                      <a:pt x="306" y="1329"/>
                    </a:moveTo>
                    <a:lnTo>
                      <a:pt x="305" y="1244"/>
                    </a:lnTo>
                    <a:lnTo>
                      <a:pt x="302" y="1157"/>
                    </a:lnTo>
                    <a:lnTo>
                      <a:pt x="299" y="1072"/>
                    </a:lnTo>
                    <a:lnTo>
                      <a:pt x="295" y="987"/>
                    </a:lnTo>
                    <a:lnTo>
                      <a:pt x="289" y="903"/>
                    </a:lnTo>
                    <a:lnTo>
                      <a:pt x="281" y="819"/>
                    </a:lnTo>
                    <a:lnTo>
                      <a:pt x="273" y="735"/>
                    </a:lnTo>
                    <a:lnTo>
                      <a:pt x="264" y="652"/>
                    </a:lnTo>
                    <a:lnTo>
                      <a:pt x="253" y="569"/>
                    </a:lnTo>
                    <a:lnTo>
                      <a:pt x="240" y="487"/>
                    </a:lnTo>
                    <a:lnTo>
                      <a:pt x="228" y="405"/>
                    </a:lnTo>
                    <a:lnTo>
                      <a:pt x="213" y="323"/>
                    </a:lnTo>
                    <a:lnTo>
                      <a:pt x="197" y="242"/>
                    </a:lnTo>
                    <a:lnTo>
                      <a:pt x="180" y="161"/>
                    </a:lnTo>
                    <a:lnTo>
                      <a:pt x="163" y="80"/>
                    </a:lnTo>
                    <a:lnTo>
                      <a:pt x="143" y="0"/>
                    </a:lnTo>
                    <a:lnTo>
                      <a:pt x="89" y="0"/>
                    </a:lnTo>
                    <a:lnTo>
                      <a:pt x="72" y="0"/>
                    </a:lnTo>
                    <a:lnTo>
                      <a:pt x="91" y="80"/>
                    </a:lnTo>
                    <a:lnTo>
                      <a:pt x="110" y="160"/>
                    </a:lnTo>
                    <a:lnTo>
                      <a:pt x="127" y="242"/>
                    </a:lnTo>
                    <a:lnTo>
                      <a:pt x="143" y="323"/>
                    </a:lnTo>
                    <a:lnTo>
                      <a:pt x="157" y="405"/>
                    </a:lnTo>
                    <a:lnTo>
                      <a:pt x="171" y="487"/>
                    </a:lnTo>
                    <a:lnTo>
                      <a:pt x="184" y="569"/>
                    </a:lnTo>
                    <a:lnTo>
                      <a:pt x="194" y="652"/>
                    </a:lnTo>
                    <a:lnTo>
                      <a:pt x="205" y="735"/>
                    </a:lnTo>
                    <a:lnTo>
                      <a:pt x="213" y="819"/>
                    </a:lnTo>
                    <a:lnTo>
                      <a:pt x="220" y="903"/>
                    </a:lnTo>
                    <a:lnTo>
                      <a:pt x="226" y="987"/>
                    </a:lnTo>
                    <a:lnTo>
                      <a:pt x="231" y="1072"/>
                    </a:lnTo>
                    <a:lnTo>
                      <a:pt x="234" y="1157"/>
                    </a:lnTo>
                    <a:lnTo>
                      <a:pt x="236" y="1244"/>
                    </a:lnTo>
                    <a:lnTo>
                      <a:pt x="236" y="1329"/>
                    </a:lnTo>
                    <a:lnTo>
                      <a:pt x="235" y="1433"/>
                    </a:lnTo>
                    <a:lnTo>
                      <a:pt x="233" y="1535"/>
                    </a:lnTo>
                    <a:lnTo>
                      <a:pt x="228" y="1638"/>
                    </a:lnTo>
                    <a:lnTo>
                      <a:pt x="221" y="1740"/>
                    </a:lnTo>
                    <a:lnTo>
                      <a:pt x="212" y="1841"/>
                    </a:lnTo>
                    <a:lnTo>
                      <a:pt x="203" y="1942"/>
                    </a:lnTo>
                    <a:lnTo>
                      <a:pt x="190" y="2043"/>
                    </a:lnTo>
                    <a:lnTo>
                      <a:pt x="176" y="2142"/>
                    </a:lnTo>
                    <a:lnTo>
                      <a:pt x="159" y="2242"/>
                    </a:lnTo>
                    <a:lnTo>
                      <a:pt x="143" y="2340"/>
                    </a:lnTo>
                    <a:lnTo>
                      <a:pt x="123" y="2438"/>
                    </a:lnTo>
                    <a:lnTo>
                      <a:pt x="102" y="2535"/>
                    </a:lnTo>
                    <a:lnTo>
                      <a:pt x="79" y="2633"/>
                    </a:lnTo>
                    <a:lnTo>
                      <a:pt x="54" y="2728"/>
                    </a:lnTo>
                    <a:lnTo>
                      <a:pt x="28" y="2824"/>
                    </a:lnTo>
                    <a:lnTo>
                      <a:pt x="0" y="2918"/>
                    </a:lnTo>
                    <a:lnTo>
                      <a:pt x="62" y="2908"/>
                    </a:lnTo>
                    <a:lnTo>
                      <a:pt x="74" y="2908"/>
                    </a:lnTo>
                    <a:lnTo>
                      <a:pt x="102" y="2814"/>
                    </a:lnTo>
                    <a:lnTo>
                      <a:pt x="127" y="2719"/>
                    </a:lnTo>
                    <a:lnTo>
                      <a:pt x="151" y="2623"/>
                    </a:lnTo>
                    <a:lnTo>
                      <a:pt x="174" y="2528"/>
                    </a:lnTo>
                    <a:lnTo>
                      <a:pt x="194" y="2431"/>
                    </a:lnTo>
                    <a:lnTo>
                      <a:pt x="213" y="2333"/>
                    </a:lnTo>
                    <a:lnTo>
                      <a:pt x="231" y="2236"/>
                    </a:lnTo>
                    <a:lnTo>
                      <a:pt x="246" y="2137"/>
                    </a:lnTo>
                    <a:lnTo>
                      <a:pt x="259" y="2037"/>
                    </a:lnTo>
                    <a:lnTo>
                      <a:pt x="272" y="1938"/>
                    </a:lnTo>
                    <a:lnTo>
                      <a:pt x="282" y="1838"/>
                    </a:lnTo>
                    <a:lnTo>
                      <a:pt x="291" y="1737"/>
                    </a:lnTo>
                    <a:lnTo>
                      <a:pt x="297" y="1635"/>
                    </a:lnTo>
                    <a:lnTo>
                      <a:pt x="301" y="1533"/>
                    </a:lnTo>
                    <a:lnTo>
                      <a:pt x="305" y="1432"/>
                    </a:lnTo>
                    <a:lnTo>
                      <a:pt x="306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310360" y="2571840"/>
                <a:ext cx="98280" cy="928440"/>
              </a:xfrm>
              <a:custGeom>
                <a:avLst/>
                <a:gdLst/>
                <a:ahLst/>
                <a:rect l="l" t="t" r="r" b="b"/>
                <a:pathLst>
                  <a:path w="309" h="2925">
                    <a:moveTo>
                      <a:pt x="309" y="1329"/>
                    </a:moveTo>
                    <a:lnTo>
                      <a:pt x="308" y="1244"/>
                    </a:lnTo>
                    <a:lnTo>
                      <a:pt x="307" y="1157"/>
                    </a:lnTo>
                    <a:lnTo>
                      <a:pt x="303" y="1072"/>
                    </a:lnTo>
                    <a:lnTo>
                      <a:pt x="298" y="987"/>
                    </a:lnTo>
                    <a:lnTo>
                      <a:pt x="292" y="903"/>
                    </a:lnTo>
                    <a:lnTo>
                      <a:pt x="286" y="819"/>
                    </a:lnTo>
                    <a:lnTo>
                      <a:pt x="277" y="735"/>
                    </a:lnTo>
                    <a:lnTo>
                      <a:pt x="267" y="652"/>
                    </a:lnTo>
                    <a:lnTo>
                      <a:pt x="256" y="569"/>
                    </a:lnTo>
                    <a:lnTo>
                      <a:pt x="244" y="487"/>
                    </a:lnTo>
                    <a:lnTo>
                      <a:pt x="231" y="405"/>
                    </a:lnTo>
                    <a:lnTo>
                      <a:pt x="216" y="323"/>
                    </a:lnTo>
                    <a:lnTo>
                      <a:pt x="201" y="242"/>
                    </a:lnTo>
                    <a:lnTo>
                      <a:pt x="183" y="161"/>
                    </a:lnTo>
                    <a:lnTo>
                      <a:pt x="165" y="80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74" y="0"/>
                    </a:lnTo>
                    <a:lnTo>
                      <a:pt x="94" y="80"/>
                    </a:lnTo>
                    <a:lnTo>
                      <a:pt x="112" y="160"/>
                    </a:lnTo>
                    <a:lnTo>
                      <a:pt x="130" y="241"/>
                    </a:lnTo>
                    <a:lnTo>
                      <a:pt x="146" y="323"/>
                    </a:lnTo>
                    <a:lnTo>
                      <a:pt x="161" y="405"/>
                    </a:lnTo>
                    <a:lnTo>
                      <a:pt x="174" y="487"/>
                    </a:lnTo>
                    <a:lnTo>
                      <a:pt x="187" y="569"/>
                    </a:lnTo>
                    <a:lnTo>
                      <a:pt x="197" y="652"/>
                    </a:lnTo>
                    <a:lnTo>
                      <a:pt x="208" y="735"/>
                    </a:lnTo>
                    <a:lnTo>
                      <a:pt x="216" y="819"/>
                    </a:lnTo>
                    <a:lnTo>
                      <a:pt x="224" y="903"/>
                    </a:lnTo>
                    <a:lnTo>
                      <a:pt x="229" y="987"/>
                    </a:lnTo>
                    <a:lnTo>
                      <a:pt x="234" y="1072"/>
                    </a:lnTo>
                    <a:lnTo>
                      <a:pt x="237" y="1157"/>
                    </a:lnTo>
                    <a:lnTo>
                      <a:pt x="239" y="1244"/>
                    </a:lnTo>
                    <a:lnTo>
                      <a:pt x="241" y="1329"/>
                    </a:lnTo>
                    <a:lnTo>
                      <a:pt x="239" y="1433"/>
                    </a:lnTo>
                    <a:lnTo>
                      <a:pt x="236" y="1537"/>
                    </a:lnTo>
                    <a:lnTo>
                      <a:pt x="231" y="1639"/>
                    </a:lnTo>
                    <a:lnTo>
                      <a:pt x="225" y="1741"/>
                    </a:lnTo>
                    <a:lnTo>
                      <a:pt x="215" y="1843"/>
                    </a:lnTo>
                    <a:lnTo>
                      <a:pt x="205" y="1945"/>
                    </a:lnTo>
                    <a:lnTo>
                      <a:pt x="192" y="2046"/>
                    </a:lnTo>
                    <a:lnTo>
                      <a:pt x="179" y="2146"/>
                    </a:lnTo>
                    <a:lnTo>
                      <a:pt x="163" y="2245"/>
                    </a:lnTo>
                    <a:lnTo>
                      <a:pt x="145" y="2344"/>
                    </a:lnTo>
                    <a:lnTo>
                      <a:pt x="125" y="2443"/>
                    </a:lnTo>
                    <a:lnTo>
                      <a:pt x="103" y="2540"/>
                    </a:lnTo>
                    <a:lnTo>
                      <a:pt x="80" y="2637"/>
                    </a:lnTo>
                    <a:lnTo>
                      <a:pt x="54" y="2734"/>
                    </a:lnTo>
                    <a:lnTo>
                      <a:pt x="28" y="2829"/>
                    </a:lnTo>
                    <a:lnTo>
                      <a:pt x="0" y="2925"/>
                    </a:lnTo>
                    <a:lnTo>
                      <a:pt x="76" y="2912"/>
                    </a:lnTo>
                    <a:lnTo>
                      <a:pt x="103" y="2818"/>
                    </a:lnTo>
                    <a:lnTo>
                      <a:pt x="129" y="2723"/>
                    </a:lnTo>
                    <a:lnTo>
                      <a:pt x="153" y="2627"/>
                    </a:lnTo>
                    <a:lnTo>
                      <a:pt x="175" y="2531"/>
                    </a:lnTo>
                    <a:lnTo>
                      <a:pt x="196" y="2433"/>
                    </a:lnTo>
                    <a:lnTo>
                      <a:pt x="216" y="2337"/>
                    </a:lnTo>
                    <a:lnTo>
                      <a:pt x="233" y="2238"/>
                    </a:lnTo>
                    <a:lnTo>
                      <a:pt x="249" y="2139"/>
                    </a:lnTo>
                    <a:lnTo>
                      <a:pt x="263" y="2039"/>
                    </a:lnTo>
                    <a:lnTo>
                      <a:pt x="275" y="1940"/>
                    </a:lnTo>
                    <a:lnTo>
                      <a:pt x="286" y="1839"/>
                    </a:lnTo>
                    <a:lnTo>
                      <a:pt x="294" y="1738"/>
                    </a:lnTo>
                    <a:lnTo>
                      <a:pt x="300" y="1636"/>
                    </a:lnTo>
                    <a:lnTo>
                      <a:pt x="305" y="1534"/>
                    </a:lnTo>
                    <a:lnTo>
                      <a:pt x="308" y="1432"/>
                    </a:lnTo>
                    <a:lnTo>
                      <a:pt x="309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297400" y="2571840"/>
                <a:ext cx="100080" cy="930240"/>
              </a:xfrm>
              <a:custGeom>
                <a:avLst/>
                <a:gdLst/>
                <a:ahLst/>
                <a:rect l="l" t="t" r="r" b="b"/>
                <a:pathLst>
                  <a:path w="312" h="2930">
                    <a:moveTo>
                      <a:pt x="312" y="1329"/>
                    </a:moveTo>
                    <a:lnTo>
                      <a:pt x="312" y="1244"/>
                    </a:lnTo>
                    <a:lnTo>
                      <a:pt x="310" y="1157"/>
                    </a:lnTo>
                    <a:lnTo>
                      <a:pt x="307" y="1072"/>
                    </a:lnTo>
                    <a:lnTo>
                      <a:pt x="302" y="987"/>
                    </a:lnTo>
                    <a:lnTo>
                      <a:pt x="296" y="903"/>
                    </a:lnTo>
                    <a:lnTo>
                      <a:pt x="289" y="819"/>
                    </a:lnTo>
                    <a:lnTo>
                      <a:pt x="281" y="735"/>
                    </a:lnTo>
                    <a:lnTo>
                      <a:pt x="270" y="652"/>
                    </a:lnTo>
                    <a:lnTo>
                      <a:pt x="260" y="569"/>
                    </a:lnTo>
                    <a:lnTo>
                      <a:pt x="247" y="487"/>
                    </a:lnTo>
                    <a:lnTo>
                      <a:pt x="233" y="405"/>
                    </a:lnTo>
                    <a:lnTo>
                      <a:pt x="219" y="323"/>
                    </a:lnTo>
                    <a:lnTo>
                      <a:pt x="203" y="242"/>
                    </a:lnTo>
                    <a:lnTo>
                      <a:pt x="186" y="160"/>
                    </a:lnTo>
                    <a:lnTo>
                      <a:pt x="167" y="80"/>
                    </a:lnTo>
                    <a:lnTo>
                      <a:pt x="148" y="0"/>
                    </a:lnTo>
                    <a:lnTo>
                      <a:pt x="111" y="0"/>
                    </a:lnTo>
                    <a:lnTo>
                      <a:pt x="78" y="0"/>
                    </a:lnTo>
                    <a:lnTo>
                      <a:pt x="97" y="80"/>
                    </a:lnTo>
                    <a:lnTo>
                      <a:pt x="116" y="160"/>
                    </a:lnTo>
                    <a:lnTo>
                      <a:pt x="132" y="241"/>
                    </a:lnTo>
                    <a:lnTo>
                      <a:pt x="149" y="323"/>
                    </a:lnTo>
                    <a:lnTo>
                      <a:pt x="164" y="405"/>
                    </a:lnTo>
                    <a:lnTo>
                      <a:pt x="178" y="487"/>
                    </a:lnTo>
                    <a:lnTo>
                      <a:pt x="190" y="568"/>
                    </a:lnTo>
                    <a:lnTo>
                      <a:pt x="201" y="651"/>
                    </a:lnTo>
                    <a:lnTo>
                      <a:pt x="211" y="735"/>
                    </a:lnTo>
                    <a:lnTo>
                      <a:pt x="220" y="819"/>
                    </a:lnTo>
                    <a:lnTo>
                      <a:pt x="227" y="903"/>
                    </a:lnTo>
                    <a:lnTo>
                      <a:pt x="233" y="987"/>
                    </a:lnTo>
                    <a:lnTo>
                      <a:pt x="238" y="1072"/>
                    </a:lnTo>
                    <a:lnTo>
                      <a:pt x="241" y="1157"/>
                    </a:lnTo>
                    <a:lnTo>
                      <a:pt x="243" y="1244"/>
                    </a:lnTo>
                    <a:lnTo>
                      <a:pt x="244" y="1329"/>
                    </a:lnTo>
                    <a:lnTo>
                      <a:pt x="243" y="1434"/>
                    </a:lnTo>
                    <a:lnTo>
                      <a:pt x="240" y="1538"/>
                    </a:lnTo>
                    <a:lnTo>
                      <a:pt x="234" y="1640"/>
                    </a:lnTo>
                    <a:lnTo>
                      <a:pt x="228" y="1743"/>
                    </a:lnTo>
                    <a:lnTo>
                      <a:pt x="219" y="1845"/>
                    </a:lnTo>
                    <a:lnTo>
                      <a:pt x="208" y="1947"/>
                    </a:lnTo>
                    <a:lnTo>
                      <a:pt x="196" y="2049"/>
                    </a:lnTo>
                    <a:lnTo>
                      <a:pt x="181" y="2149"/>
                    </a:lnTo>
                    <a:lnTo>
                      <a:pt x="165" y="2249"/>
                    </a:lnTo>
                    <a:lnTo>
                      <a:pt x="147" y="2348"/>
                    </a:lnTo>
                    <a:lnTo>
                      <a:pt x="127" y="2447"/>
                    </a:lnTo>
                    <a:lnTo>
                      <a:pt x="105" y="2546"/>
                    </a:lnTo>
                    <a:lnTo>
                      <a:pt x="81" y="2642"/>
                    </a:lnTo>
                    <a:lnTo>
                      <a:pt x="56" y="2739"/>
                    </a:lnTo>
                    <a:lnTo>
                      <a:pt x="28" y="2835"/>
                    </a:lnTo>
                    <a:lnTo>
                      <a:pt x="0" y="2930"/>
                    </a:lnTo>
                    <a:lnTo>
                      <a:pt x="76" y="2918"/>
                    </a:lnTo>
                    <a:lnTo>
                      <a:pt x="104" y="2824"/>
                    </a:lnTo>
                    <a:lnTo>
                      <a:pt x="130" y="2728"/>
                    </a:lnTo>
                    <a:lnTo>
                      <a:pt x="155" y="2633"/>
                    </a:lnTo>
                    <a:lnTo>
                      <a:pt x="178" y="2535"/>
                    </a:lnTo>
                    <a:lnTo>
                      <a:pt x="199" y="2438"/>
                    </a:lnTo>
                    <a:lnTo>
                      <a:pt x="219" y="2340"/>
                    </a:lnTo>
                    <a:lnTo>
                      <a:pt x="235" y="2242"/>
                    </a:lnTo>
                    <a:lnTo>
                      <a:pt x="252" y="2142"/>
                    </a:lnTo>
                    <a:lnTo>
                      <a:pt x="266" y="2043"/>
                    </a:lnTo>
                    <a:lnTo>
                      <a:pt x="279" y="1942"/>
                    </a:lnTo>
                    <a:lnTo>
                      <a:pt x="288" y="1841"/>
                    </a:lnTo>
                    <a:lnTo>
                      <a:pt x="297" y="1740"/>
                    </a:lnTo>
                    <a:lnTo>
                      <a:pt x="304" y="1638"/>
                    </a:lnTo>
                    <a:lnTo>
                      <a:pt x="309" y="1535"/>
                    </a:lnTo>
                    <a:lnTo>
                      <a:pt x="311" y="1433"/>
                    </a:lnTo>
                    <a:lnTo>
                      <a:pt x="312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86240" y="2571840"/>
                <a:ext cx="100080" cy="931680"/>
              </a:xfrm>
              <a:custGeom>
                <a:avLst/>
                <a:gdLst/>
                <a:ahLst/>
                <a:rect l="l" t="t" r="r" b="b"/>
                <a:pathLst>
                  <a:path w="317" h="2935">
                    <a:moveTo>
                      <a:pt x="317" y="1329"/>
                    </a:moveTo>
                    <a:lnTo>
                      <a:pt x="315" y="1244"/>
                    </a:lnTo>
                    <a:lnTo>
                      <a:pt x="313" y="1157"/>
                    </a:lnTo>
                    <a:lnTo>
                      <a:pt x="310" y="1072"/>
                    </a:lnTo>
                    <a:lnTo>
                      <a:pt x="305" y="987"/>
                    </a:lnTo>
                    <a:lnTo>
                      <a:pt x="300" y="903"/>
                    </a:lnTo>
                    <a:lnTo>
                      <a:pt x="292" y="819"/>
                    </a:lnTo>
                    <a:lnTo>
                      <a:pt x="284" y="735"/>
                    </a:lnTo>
                    <a:lnTo>
                      <a:pt x="273" y="652"/>
                    </a:lnTo>
                    <a:lnTo>
                      <a:pt x="263" y="569"/>
                    </a:lnTo>
                    <a:lnTo>
                      <a:pt x="250" y="487"/>
                    </a:lnTo>
                    <a:lnTo>
                      <a:pt x="237" y="405"/>
                    </a:lnTo>
                    <a:lnTo>
                      <a:pt x="222" y="323"/>
                    </a:lnTo>
                    <a:lnTo>
                      <a:pt x="206" y="241"/>
                    </a:lnTo>
                    <a:lnTo>
                      <a:pt x="188" y="160"/>
                    </a:lnTo>
                    <a:lnTo>
                      <a:pt x="170" y="80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100" y="80"/>
                    </a:lnTo>
                    <a:lnTo>
                      <a:pt x="119" y="160"/>
                    </a:lnTo>
                    <a:lnTo>
                      <a:pt x="136" y="241"/>
                    </a:lnTo>
                    <a:lnTo>
                      <a:pt x="153" y="323"/>
                    </a:lnTo>
                    <a:lnTo>
                      <a:pt x="167" y="405"/>
                    </a:lnTo>
                    <a:lnTo>
                      <a:pt x="181" y="487"/>
                    </a:lnTo>
                    <a:lnTo>
                      <a:pt x="194" y="568"/>
                    </a:lnTo>
                    <a:lnTo>
                      <a:pt x="204" y="651"/>
                    </a:lnTo>
                    <a:lnTo>
                      <a:pt x="215" y="735"/>
                    </a:lnTo>
                    <a:lnTo>
                      <a:pt x="223" y="819"/>
                    </a:lnTo>
                    <a:lnTo>
                      <a:pt x="230" y="903"/>
                    </a:lnTo>
                    <a:lnTo>
                      <a:pt x="237" y="987"/>
                    </a:lnTo>
                    <a:lnTo>
                      <a:pt x="241" y="1072"/>
                    </a:lnTo>
                    <a:lnTo>
                      <a:pt x="245" y="1157"/>
                    </a:lnTo>
                    <a:lnTo>
                      <a:pt x="247" y="1244"/>
                    </a:lnTo>
                    <a:lnTo>
                      <a:pt x="247" y="1329"/>
                    </a:lnTo>
                    <a:lnTo>
                      <a:pt x="246" y="1434"/>
                    </a:lnTo>
                    <a:lnTo>
                      <a:pt x="243" y="1538"/>
                    </a:lnTo>
                    <a:lnTo>
                      <a:pt x="238" y="1642"/>
                    </a:lnTo>
                    <a:lnTo>
                      <a:pt x="231" y="1744"/>
                    </a:lnTo>
                    <a:lnTo>
                      <a:pt x="222" y="1847"/>
                    </a:lnTo>
                    <a:lnTo>
                      <a:pt x="211" y="1949"/>
                    </a:lnTo>
                    <a:lnTo>
                      <a:pt x="199" y="2051"/>
                    </a:lnTo>
                    <a:lnTo>
                      <a:pt x="184" y="2152"/>
                    </a:lnTo>
                    <a:lnTo>
                      <a:pt x="167" y="2253"/>
                    </a:lnTo>
                    <a:lnTo>
                      <a:pt x="148" y="2351"/>
                    </a:lnTo>
                    <a:lnTo>
                      <a:pt x="128" y="2451"/>
                    </a:lnTo>
                    <a:lnTo>
                      <a:pt x="106" y="2549"/>
                    </a:lnTo>
                    <a:lnTo>
                      <a:pt x="82" y="2646"/>
                    </a:lnTo>
                    <a:lnTo>
                      <a:pt x="57" y="2744"/>
                    </a:lnTo>
                    <a:lnTo>
                      <a:pt x="30" y="2840"/>
                    </a:lnTo>
                    <a:lnTo>
                      <a:pt x="0" y="2935"/>
                    </a:lnTo>
                    <a:lnTo>
                      <a:pt x="8" y="2935"/>
                    </a:lnTo>
                    <a:lnTo>
                      <a:pt x="76" y="2925"/>
                    </a:lnTo>
                    <a:lnTo>
                      <a:pt x="104" y="2829"/>
                    </a:lnTo>
                    <a:lnTo>
                      <a:pt x="132" y="2734"/>
                    </a:lnTo>
                    <a:lnTo>
                      <a:pt x="156" y="2637"/>
                    </a:lnTo>
                    <a:lnTo>
                      <a:pt x="179" y="2540"/>
                    </a:lnTo>
                    <a:lnTo>
                      <a:pt x="201" y="2443"/>
                    </a:lnTo>
                    <a:lnTo>
                      <a:pt x="221" y="2344"/>
                    </a:lnTo>
                    <a:lnTo>
                      <a:pt x="239" y="2245"/>
                    </a:lnTo>
                    <a:lnTo>
                      <a:pt x="255" y="2146"/>
                    </a:lnTo>
                    <a:lnTo>
                      <a:pt x="269" y="2046"/>
                    </a:lnTo>
                    <a:lnTo>
                      <a:pt x="281" y="1945"/>
                    </a:lnTo>
                    <a:lnTo>
                      <a:pt x="291" y="1843"/>
                    </a:lnTo>
                    <a:lnTo>
                      <a:pt x="301" y="1741"/>
                    </a:lnTo>
                    <a:lnTo>
                      <a:pt x="307" y="1639"/>
                    </a:lnTo>
                    <a:lnTo>
                      <a:pt x="312" y="1537"/>
                    </a:lnTo>
                    <a:lnTo>
                      <a:pt x="315" y="1433"/>
                    </a:lnTo>
                    <a:lnTo>
                      <a:pt x="317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275440" y="2571840"/>
                <a:ext cx="99720" cy="931680"/>
              </a:xfrm>
              <a:custGeom>
                <a:avLst/>
                <a:gdLst/>
                <a:ahLst/>
                <a:rect l="l" t="t" r="r" b="b"/>
                <a:pathLst>
                  <a:path w="318" h="2935">
                    <a:moveTo>
                      <a:pt x="318" y="1329"/>
                    </a:moveTo>
                    <a:lnTo>
                      <a:pt x="317" y="1244"/>
                    </a:lnTo>
                    <a:lnTo>
                      <a:pt x="315" y="1157"/>
                    </a:lnTo>
                    <a:lnTo>
                      <a:pt x="312" y="1072"/>
                    </a:lnTo>
                    <a:lnTo>
                      <a:pt x="307" y="987"/>
                    </a:lnTo>
                    <a:lnTo>
                      <a:pt x="301" y="903"/>
                    </a:lnTo>
                    <a:lnTo>
                      <a:pt x="294" y="819"/>
                    </a:lnTo>
                    <a:lnTo>
                      <a:pt x="285" y="735"/>
                    </a:lnTo>
                    <a:lnTo>
                      <a:pt x="275" y="651"/>
                    </a:lnTo>
                    <a:lnTo>
                      <a:pt x="264" y="568"/>
                    </a:lnTo>
                    <a:lnTo>
                      <a:pt x="252" y="487"/>
                    </a:lnTo>
                    <a:lnTo>
                      <a:pt x="238" y="405"/>
                    </a:lnTo>
                    <a:lnTo>
                      <a:pt x="223" y="323"/>
                    </a:lnTo>
                    <a:lnTo>
                      <a:pt x="206" y="241"/>
                    </a:lnTo>
                    <a:lnTo>
                      <a:pt x="190" y="160"/>
                    </a:lnTo>
                    <a:lnTo>
                      <a:pt x="171" y="80"/>
                    </a:lnTo>
                    <a:lnTo>
                      <a:pt x="152" y="0"/>
                    </a:lnTo>
                    <a:lnTo>
                      <a:pt x="128" y="0"/>
                    </a:lnTo>
                    <a:lnTo>
                      <a:pt x="80" y="0"/>
                    </a:lnTo>
                    <a:lnTo>
                      <a:pt x="100" y="80"/>
                    </a:lnTo>
                    <a:lnTo>
                      <a:pt x="119" y="160"/>
                    </a:lnTo>
                    <a:lnTo>
                      <a:pt x="137" y="241"/>
                    </a:lnTo>
                    <a:lnTo>
                      <a:pt x="153" y="323"/>
                    </a:lnTo>
                    <a:lnTo>
                      <a:pt x="169" y="404"/>
                    </a:lnTo>
                    <a:lnTo>
                      <a:pt x="182" y="487"/>
                    </a:lnTo>
                    <a:lnTo>
                      <a:pt x="195" y="568"/>
                    </a:lnTo>
                    <a:lnTo>
                      <a:pt x="205" y="651"/>
                    </a:lnTo>
                    <a:lnTo>
                      <a:pt x="216" y="735"/>
                    </a:lnTo>
                    <a:lnTo>
                      <a:pt x="224" y="818"/>
                    </a:lnTo>
                    <a:lnTo>
                      <a:pt x="232" y="903"/>
                    </a:lnTo>
                    <a:lnTo>
                      <a:pt x="238" y="987"/>
                    </a:lnTo>
                    <a:lnTo>
                      <a:pt x="243" y="1072"/>
                    </a:lnTo>
                    <a:lnTo>
                      <a:pt x="246" y="1157"/>
                    </a:lnTo>
                    <a:lnTo>
                      <a:pt x="248" y="1244"/>
                    </a:lnTo>
                    <a:lnTo>
                      <a:pt x="248" y="1329"/>
                    </a:lnTo>
                    <a:lnTo>
                      <a:pt x="248" y="1381"/>
                    </a:lnTo>
                    <a:lnTo>
                      <a:pt x="247" y="1434"/>
                    </a:lnTo>
                    <a:lnTo>
                      <a:pt x="246" y="1486"/>
                    </a:lnTo>
                    <a:lnTo>
                      <a:pt x="245" y="1538"/>
                    </a:lnTo>
                    <a:lnTo>
                      <a:pt x="240" y="1642"/>
                    </a:lnTo>
                    <a:lnTo>
                      <a:pt x="233" y="1744"/>
                    </a:lnTo>
                    <a:lnTo>
                      <a:pt x="223" y="1847"/>
                    </a:lnTo>
                    <a:lnTo>
                      <a:pt x="213" y="1950"/>
                    </a:lnTo>
                    <a:lnTo>
                      <a:pt x="200" y="2051"/>
                    </a:lnTo>
                    <a:lnTo>
                      <a:pt x="185" y="2152"/>
                    </a:lnTo>
                    <a:lnTo>
                      <a:pt x="169" y="2253"/>
                    </a:lnTo>
                    <a:lnTo>
                      <a:pt x="150" y="2352"/>
                    </a:lnTo>
                    <a:lnTo>
                      <a:pt x="130" y="2451"/>
                    </a:lnTo>
                    <a:lnTo>
                      <a:pt x="107" y="2550"/>
                    </a:lnTo>
                    <a:lnTo>
                      <a:pt x="82" y="2647"/>
                    </a:lnTo>
                    <a:lnTo>
                      <a:pt x="57" y="2744"/>
                    </a:lnTo>
                    <a:lnTo>
                      <a:pt x="30" y="2840"/>
                    </a:lnTo>
                    <a:lnTo>
                      <a:pt x="0" y="2935"/>
                    </a:lnTo>
                    <a:lnTo>
                      <a:pt x="44" y="2935"/>
                    </a:lnTo>
                    <a:lnTo>
                      <a:pt x="74" y="2930"/>
                    </a:lnTo>
                    <a:lnTo>
                      <a:pt x="102" y="2835"/>
                    </a:lnTo>
                    <a:lnTo>
                      <a:pt x="130" y="2739"/>
                    </a:lnTo>
                    <a:lnTo>
                      <a:pt x="155" y="2642"/>
                    </a:lnTo>
                    <a:lnTo>
                      <a:pt x="179" y="2546"/>
                    </a:lnTo>
                    <a:lnTo>
                      <a:pt x="201" y="2447"/>
                    </a:lnTo>
                    <a:lnTo>
                      <a:pt x="221" y="2348"/>
                    </a:lnTo>
                    <a:lnTo>
                      <a:pt x="239" y="2249"/>
                    </a:lnTo>
                    <a:lnTo>
                      <a:pt x="255" y="2149"/>
                    </a:lnTo>
                    <a:lnTo>
                      <a:pt x="270" y="2049"/>
                    </a:lnTo>
                    <a:lnTo>
                      <a:pt x="282" y="1947"/>
                    </a:lnTo>
                    <a:lnTo>
                      <a:pt x="293" y="1845"/>
                    </a:lnTo>
                    <a:lnTo>
                      <a:pt x="302" y="1743"/>
                    </a:lnTo>
                    <a:lnTo>
                      <a:pt x="308" y="1640"/>
                    </a:lnTo>
                    <a:lnTo>
                      <a:pt x="314" y="1538"/>
                    </a:lnTo>
                    <a:lnTo>
                      <a:pt x="317" y="1434"/>
                    </a:lnTo>
                    <a:lnTo>
                      <a:pt x="318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2480" y="2571840"/>
                <a:ext cx="101520" cy="931680"/>
              </a:xfrm>
              <a:custGeom>
                <a:avLst/>
                <a:gdLst/>
                <a:ahLst/>
                <a:rect l="l" t="t" r="r" b="b"/>
                <a:pathLst>
                  <a:path w="319" h="2935">
                    <a:moveTo>
                      <a:pt x="319" y="1329"/>
                    </a:moveTo>
                    <a:lnTo>
                      <a:pt x="319" y="1244"/>
                    </a:lnTo>
                    <a:lnTo>
                      <a:pt x="317" y="1157"/>
                    </a:lnTo>
                    <a:lnTo>
                      <a:pt x="313" y="1072"/>
                    </a:lnTo>
                    <a:lnTo>
                      <a:pt x="309" y="987"/>
                    </a:lnTo>
                    <a:lnTo>
                      <a:pt x="302" y="903"/>
                    </a:lnTo>
                    <a:lnTo>
                      <a:pt x="295" y="819"/>
                    </a:lnTo>
                    <a:lnTo>
                      <a:pt x="287" y="735"/>
                    </a:lnTo>
                    <a:lnTo>
                      <a:pt x="276" y="651"/>
                    </a:lnTo>
                    <a:lnTo>
                      <a:pt x="266" y="568"/>
                    </a:lnTo>
                    <a:lnTo>
                      <a:pt x="253" y="487"/>
                    </a:lnTo>
                    <a:lnTo>
                      <a:pt x="239" y="405"/>
                    </a:lnTo>
                    <a:lnTo>
                      <a:pt x="225" y="323"/>
                    </a:lnTo>
                    <a:lnTo>
                      <a:pt x="208" y="241"/>
                    </a:lnTo>
                    <a:lnTo>
                      <a:pt x="191" y="160"/>
                    </a:lnTo>
                    <a:lnTo>
                      <a:pt x="172" y="80"/>
                    </a:lnTo>
                    <a:lnTo>
                      <a:pt x="152" y="0"/>
                    </a:lnTo>
                    <a:lnTo>
                      <a:pt x="107" y="0"/>
                    </a:lnTo>
                    <a:lnTo>
                      <a:pt x="81" y="0"/>
                    </a:lnTo>
                    <a:lnTo>
                      <a:pt x="101" y="80"/>
                    </a:lnTo>
                    <a:lnTo>
                      <a:pt x="119" y="160"/>
                    </a:lnTo>
                    <a:lnTo>
                      <a:pt x="137" y="241"/>
                    </a:lnTo>
                    <a:lnTo>
                      <a:pt x="154" y="323"/>
                    </a:lnTo>
                    <a:lnTo>
                      <a:pt x="169" y="404"/>
                    </a:lnTo>
                    <a:lnTo>
                      <a:pt x="183" y="487"/>
                    </a:lnTo>
                    <a:lnTo>
                      <a:pt x="195" y="568"/>
                    </a:lnTo>
                    <a:lnTo>
                      <a:pt x="207" y="651"/>
                    </a:lnTo>
                    <a:lnTo>
                      <a:pt x="217" y="735"/>
                    </a:lnTo>
                    <a:lnTo>
                      <a:pt x="226" y="818"/>
                    </a:lnTo>
                    <a:lnTo>
                      <a:pt x="233" y="902"/>
                    </a:lnTo>
                    <a:lnTo>
                      <a:pt x="239" y="987"/>
                    </a:lnTo>
                    <a:lnTo>
                      <a:pt x="245" y="1072"/>
                    </a:lnTo>
                    <a:lnTo>
                      <a:pt x="248" y="1157"/>
                    </a:lnTo>
                    <a:lnTo>
                      <a:pt x="250" y="1244"/>
                    </a:lnTo>
                    <a:lnTo>
                      <a:pt x="251" y="1329"/>
                    </a:lnTo>
                    <a:lnTo>
                      <a:pt x="250" y="1434"/>
                    </a:lnTo>
                    <a:lnTo>
                      <a:pt x="247" y="1538"/>
                    </a:lnTo>
                    <a:lnTo>
                      <a:pt x="241" y="1642"/>
                    </a:lnTo>
                    <a:lnTo>
                      <a:pt x="234" y="1745"/>
                    </a:lnTo>
                    <a:lnTo>
                      <a:pt x="225" y="1847"/>
                    </a:lnTo>
                    <a:lnTo>
                      <a:pt x="214" y="1950"/>
                    </a:lnTo>
                    <a:lnTo>
                      <a:pt x="201" y="2051"/>
                    </a:lnTo>
                    <a:lnTo>
                      <a:pt x="186" y="2152"/>
                    </a:lnTo>
                    <a:lnTo>
                      <a:pt x="169" y="2253"/>
                    </a:lnTo>
                    <a:lnTo>
                      <a:pt x="151" y="2352"/>
                    </a:lnTo>
                    <a:lnTo>
                      <a:pt x="130" y="2451"/>
                    </a:lnTo>
                    <a:lnTo>
                      <a:pt x="108" y="2550"/>
                    </a:lnTo>
                    <a:lnTo>
                      <a:pt x="84" y="2647"/>
                    </a:lnTo>
                    <a:lnTo>
                      <a:pt x="57" y="2744"/>
                    </a:lnTo>
                    <a:lnTo>
                      <a:pt x="29" y="2840"/>
                    </a:lnTo>
                    <a:lnTo>
                      <a:pt x="0" y="2935"/>
                    </a:lnTo>
                    <a:lnTo>
                      <a:pt x="72" y="2935"/>
                    </a:lnTo>
                    <a:lnTo>
                      <a:pt x="102" y="2840"/>
                    </a:lnTo>
                    <a:lnTo>
                      <a:pt x="129" y="2744"/>
                    </a:lnTo>
                    <a:lnTo>
                      <a:pt x="154" y="2646"/>
                    </a:lnTo>
                    <a:lnTo>
                      <a:pt x="178" y="2549"/>
                    </a:lnTo>
                    <a:lnTo>
                      <a:pt x="200" y="2451"/>
                    </a:lnTo>
                    <a:lnTo>
                      <a:pt x="220" y="2351"/>
                    </a:lnTo>
                    <a:lnTo>
                      <a:pt x="239" y="2253"/>
                    </a:lnTo>
                    <a:lnTo>
                      <a:pt x="256" y="2152"/>
                    </a:lnTo>
                    <a:lnTo>
                      <a:pt x="271" y="2051"/>
                    </a:lnTo>
                    <a:lnTo>
                      <a:pt x="283" y="1949"/>
                    </a:lnTo>
                    <a:lnTo>
                      <a:pt x="294" y="1847"/>
                    </a:lnTo>
                    <a:lnTo>
                      <a:pt x="303" y="1744"/>
                    </a:lnTo>
                    <a:lnTo>
                      <a:pt x="310" y="1642"/>
                    </a:lnTo>
                    <a:lnTo>
                      <a:pt x="315" y="1538"/>
                    </a:lnTo>
                    <a:lnTo>
                      <a:pt x="318" y="1434"/>
                    </a:lnTo>
                    <a:lnTo>
                      <a:pt x="319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251320" y="2571840"/>
                <a:ext cx="101880" cy="931680"/>
              </a:xfrm>
              <a:custGeom>
                <a:avLst/>
                <a:gdLst/>
                <a:ahLst/>
                <a:rect l="l" t="t" r="r" b="b"/>
                <a:pathLst>
                  <a:path w="320" h="2935">
                    <a:moveTo>
                      <a:pt x="320" y="1329"/>
                    </a:moveTo>
                    <a:lnTo>
                      <a:pt x="320" y="1244"/>
                    </a:lnTo>
                    <a:lnTo>
                      <a:pt x="318" y="1157"/>
                    </a:lnTo>
                    <a:lnTo>
                      <a:pt x="315" y="1072"/>
                    </a:lnTo>
                    <a:lnTo>
                      <a:pt x="310" y="987"/>
                    </a:lnTo>
                    <a:lnTo>
                      <a:pt x="304" y="903"/>
                    </a:lnTo>
                    <a:lnTo>
                      <a:pt x="296" y="818"/>
                    </a:lnTo>
                    <a:lnTo>
                      <a:pt x="288" y="735"/>
                    </a:lnTo>
                    <a:lnTo>
                      <a:pt x="277" y="651"/>
                    </a:lnTo>
                    <a:lnTo>
                      <a:pt x="267" y="568"/>
                    </a:lnTo>
                    <a:lnTo>
                      <a:pt x="254" y="487"/>
                    </a:lnTo>
                    <a:lnTo>
                      <a:pt x="241" y="404"/>
                    </a:lnTo>
                    <a:lnTo>
                      <a:pt x="225" y="323"/>
                    </a:lnTo>
                    <a:lnTo>
                      <a:pt x="209" y="241"/>
                    </a:lnTo>
                    <a:lnTo>
                      <a:pt x="191" y="160"/>
                    </a:lnTo>
                    <a:lnTo>
                      <a:pt x="172" y="8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81" y="0"/>
                    </a:lnTo>
                    <a:lnTo>
                      <a:pt x="101" y="80"/>
                    </a:lnTo>
                    <a:lnTo>
                      <a:pt x="121" y="160"/>
                    </a:lnTo>
                    <a:lnTo>
                      <a:pt x="139" y="241"/>
                    </a:lnTo>
                    <a:lnTo>
                      <a:pt x="154" y="322"/>
                    </a:lnTo>
                    <a:lnTo>
                      <a:pt x="170" y="404"/>
                    </a:lnTo>
                    <a:lnTo>
                      <a:pt x="184" y="485"/>
                    </a:lnTo>
                    <a:lnTo>
                      <a:pt x="196" y="568"/>
                    </a:lnTo>
                    <a:lnTo>
                      <a:pt x="208" y="651"/>
                    </a:lnTo>
                    <a:lnTo>
                      <a:pt x="219" y="734"/>
                    </a:lnTo>
                    <a:lnTo>
                      <a:pt x="227" y="818"/>
                    </a:lnTo>
                    <a:lnTo>
                      <a:pt x="235" y="902"/>
                    </a:lnTo>
                    <a:lnTo>
                      <a:pt x="241" y="987"/>
                    </a:lnTo>
                    <a:lnTo>
                      <a:pt x="246" y="1072"/>
                    </a:lnTo>
                    <a:lnTo>
                      <a:pt x="249" y="1157"/>
                    </a:lnTo>
                    <a:lnTo>
                      <a:pt x="251" y="1243"/>
                    </a:lnTo>
                    <a:lnTo>
                      <a:pt x="252" y="1329"/>
                    </a:lnTo>
                    <a:lnTo>
                      <a:pt x="251" y="1434"/>
                    </a:lnTo>
                    <a:lnTo>
                      <a:pt x="248" y="1539"/>
                    </a:lnTo>
                    <a:lnTo>
                      <a:pt x="243" y="1642"/>
                    </a:lnTo>
                    <a:lnTo>
                      <a:pt x="235" y="1745"/>
                    </a:lnTo>
                    <a:lnTo>
                      <a:pt x="227" y="1848"/>
                    </a:lnTo>
                    <a:lnTo>
                      <a:pt x="215" y="1950"/>
                    </a:lnTo>
                    <a:lnTo>
                      <a:pt x="203" y="2052"/>
                    </a:lnTo>
                    <a:lnTo>
                      <a:pt x="187" y="2153"/>
                    </a:lnTo>
                    <a:lnTo>
                      <a:pt x="170" y="2253"/>
                    </a:lnTo>
                    <a:lnTo>
                      <a:pt x="151" y="2352"/>
                    </a:lnTo>
                    <a:lnTo>
                      <a:pt x="130" y="2451"/>
                    </a:lnTo>
                    <a:lnTo>
                      <a:pt x="108" y="2550"/>
                    </a:lnTo>
                    <a:lnTo>
                      <a:pt x="84" y="2647"/>
                    </a:lnTo>
                    <a:lnTo>
                      <a:pt x="58" y="2744"/>
                    </a:lnTo>
                    <a:lnTo>
                      <a:pt x="29" y="2840"/>
                    </a:lnTo>
                    <a:lnTo>
                      <a:pt x="0" y="2935"/>
                    </a:lnTo>
                    <a:lnTo>
                      <a:pt x="72" y="2935"/>
                    </a:lnTo>
                    <a:lnTo>
                      <a:pt x="102" y="2840"/>
                    </a:lnTo>
                    <a:lnTo>
                      <a:pt x="129" y="2744"/>
                    </a:lnTo>
                    <a:lnTo>
                      <a:pt x="154" y="2647"/>
                    </a:lnTo>
                    <a:lnTo>
                      <a:pt x="179" y="2550"/>
                    </a:lnTo>
                    <a:lnTo>
                      <a:pt x="202" y="2451"/>
                    </a:lnTo>
                    <a:lnTo>
                      <a:pt x="222" y="2352"/>
                    </a:lnTo>
                    <a:lnTo>
                      <a:pt x="241" y="2253"/>
                    </a:lnTo>
                    <a:lnTo>
                      <a:pt x="257" y="2152"/>
                    </a:lnTo>
                    <a:lnTo>
                      <a:pt x="272" y="2051"/>
                    </a:lnTo>
                    <a:lnTo>
                      <a:pt x="285" y="1950"/>
                    </a:lnTo>
                    <a:lnTo>
                      <a:pt x="295" y="1847"/>
                    </a:lnTo>
                    <a:lnTo>
                      <a:pt x="305" y="1744"/>
                    </a:lnTo>
                    <a:lnTo>
                      <a:pt x="312" y="1642"/>
                    </a:lnTo>
                    <a:lnTo>
                      <a:pt x="317" y="1538"/>
                    </a:lnTo>
                    <a:lnTo>
                      <a:pt x="318" y="1486"/>
                    </a:lnTo>
                    <a:lnTo>
                      <a:pt x="319" y="1434"/>
                    </a:lnTo>
                    <a:lnTo>
                      <a:pt x="320" y="1381"/>
                    </a:lnTo>
                    <a:lnTo>
                      <a:pt x="320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240160" y="2571840"/>
                <a:ext cx="103320" cy="931680"/>
              </a:xfrm>
              <a:custGeom>
                <a:avLst/>
                <a:gdLst/>
                <a:ahLst/>
                <a:rect l="l" t="t" r="r" b="b"/>
                <a:pathLst>
                  <a:path w="324" h="2937">
                    <a:moveTo>
                      <a:pt x="324" y="1329"/>
                    </a:moveTo>
                    <a:lnTo>
                      <a:pt x="323" y="1244"/>
                    </a:lnTo>
                    <a:lnTo>
                      <a:pt x="321" y="1157"/>
                    </a:lnTo>
                    <a:lnTo>
                      <a:pt x="318" y="1072"/>
                    </a:lnTo>
                    <a:lnTo>
                      <a:pt x="312" y="987"/>
                    </a:lnTo>
                    <a:lnTo>
                      <a:pt x="306" y="902"/>
                    </a:lnTo>
                    <a:lnTo>
                      <a:pt x="299" y="818"/>
                    </a:lnTo>
                    <a:lnTo>
                      <a:pt x="290" y="735"/>
                    </a:lnTo>
                    <a:lnTo>
                      <a:pt x="280" y="651"/>
                    </a:lnTo>
                    <a:lnTo>
                      <a:pt x="268" y="568"/>
                    </a:lnTo>
                    <a:lnTo>
                      <a:pt x="256" y="487"/>
                    </a:lnTo>
                    <a:lnTo>
                      <a:pt x="242" y="404"/>
                    </a:lnTo>
                    <a:lnTo>
                      <a:pt x="227" y="323"/>
                    </a:lnTo>
                    <a:lnTo>
                      <a:pt x="210" y="241"/>
                    </a:lnTo>
                    <a:lnTo>
                      <a:pt x="192" y="160"/>
                    </a:lnTo>
                    <a:lnTo>
                      <a:pt x="174" y="80"/>
                    </a:lnTo>
                    <a:lnTo>
                      <a:pt x="154" y="0"/>
                    </a:lnTo>
                    <a:lnTo>
                      <a:pt x="96" y="0"/>
                    </a:lnTo>
                    <a:lnTo>
                      <a:pt x="82" y="0"/>
                    </a:lnTo>
                    <a:lnTo>
                      <a:pt x="103" y="80"/>
                    </a:lnTo>
                    <a:lnTo>
                      <a:pt x="122" y="160"/>
                    </a:lnTo>
                    <a:lnTo>
                      <a:pt x="140" y="241"/>
                    </a:lnTo>
                    <a:lnTo>
                      <a:pt x="157" y="322"/>
                    </a:lnTo>
                    <a:lnTo>
                      <a:pt x="171" y="404"/>
                    </a:lnTo>
                    <a:lnTo>
                      <a:pt x="186" y="485"/>
                    </a:lnTo>
                    <a:lnTo>
                      <a:pt x="199" y="568"/>
                    </a:lnTo>
                    <a:lnTo>
                      <a:pt x="210" y="651"/>
                    </a:lnTo>
                    <a:lnTo>
                      <a:pt x="221" y="734"/>
                    </a:lnTo>
                    <a:lnTo>
                      <a:pt x="229" y="818"/>
                    </a:lnTo>
                    <a:lnTo>
                      <a:pt x="238" y="902"/>
                    </a:lnTo>
                    <a:lnTo>
                      <a:pt x="244" y="987"/>
                    </a:lnTo>
                    <a:lnTo>
                      <a:pt x="248" y="1072"/>
                    </a:lnTo>
                    <a:lnTo>
                      <a:pt x="252" y="1157"/>
                    </a:lnTo>
                    <a:lnTo>
                      <a:pt x="254" y="1243"/>
                    </a:lnTo>
                    <a:lnTo>
                      <a:pt x="254" y="1329"/>
                    </a:lnTo>
                    <a:lnTo>
                      <a:pt x="253" y="1434"/>
                    </a:lnTo>
                    <a:lnTo>
                      <a:pt x="250" y="1539"/>
                    </a:lnTo>
                    <a:lnTo>
                      <a:pt x="245" y="1643"/>
                    </a:lnTo>
                    <a:lnTo>
                      <a:pt x="238" y="1745"/>
                    </a:lnTo>
                    <a:lnTo>
                      <a:pt x="229" y="1848"/>
                    </a:lnTo>
                    <a:lnTo>
                      <a:pt x="218" y="1951"/>
                    </a:lnTo>
                    <a:lnTo>
                      <a:pt x="204" y="2053"/>
                    </a:lnTo>
                    <a:lnTo>
                      <a:pt x="189" y="2154"/>
                    </a:lnTo>
                    <a:lnTo>
                      <a:pt x="172" y="2254"/>
                    </a:lnTo>
                    <a:lnTo>
                      <a:pt x="153" y="2353"/>
                    </a:lnTo>
                    <a:lnTo>
                      <a:pt x="133" y="2453"/>
                    </a:lnTo>
                    <a:lnTo>
                      <a:pt x="109" y="2551"/>
                    </a:lnTo>
                    <a:lnTo>
                      <a:pt x="84" y="2648"/>
                    </a:lnTo>
                    <a:lnTo>
                      <a:pt x="58" y="2746"/>
                    </a:lnTo>
                    <a:lnTo>
                      <a:pt x="30" y="2842"/>
                    </a:lnTo>
                    <a:lnTo>
                      <a:pt x="0" y="2937"/>
                    </a:lnTo>
                    <a:lnTo>
                      <a:pt x="12" y="2935"/>
                    </a:lnTo>
                    <a:lnTo>
                      <a:pt x="73" y="2935"/>
                    </a:lnTo>
                    <a:lnTo>
                      <a:pt x="102" y="2840"/>
                    </a:lnTo>
                    <a:lnTo>
                      <a:pt x="130" y="2744"/>
                    </a:lnTo>
                    <a:lnTo>
                      <a:pt x="157" y="2647"/>
                    </a:lnTo>
                    <a:lnTo>
                      <a:pt x="181" y="2550"/>
                    </a:lnTo>
                    <a:lnTo>
                      <a:pt x="203" y="2451"/>
                    </a:lnTo>
                    <a:lnTo>
                      <a:pt x="224" y="2352"/>
                    </a:lnTo>
                    <a:lnTo>
                      <a:pt x="242" y="2253"/>
                    </a:lnTo>
                    <a:lnTo>
                      <a:pt x="259" y="2152"/>
                    </a:lnTo>
                    <a:lnTo>
                      <a:pt x="274" y="2051"/>
                    </a:lnTo>
                    <a:lnTo>
                      <a:pt x="287" y="1950"/>
                    </a:lnTo>
                    <a:lnTo>
                      <a:pt x="298" y="1847"/>
                    </a:lnTo>
                    <a:lnTo>
                      <a:pt x="307" y="1745"/>
                    </a:lnTo>
                    <a:lnTo>
                      <a:pt x="314" y="1642"/>
                    </a:lnTo>
                    <a:lnTo>
                      <a:pt x="320" y="1538"/>
                    </a:lnTo>
                    <a:lnTo>
                      <a:pt x="323" y="1434"/>
                    </a:lnTo>
                    <a:lnTo>
                      <a:pt x="324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227560" y="2571840"/>
                <a:ext cx="104760" cy="933480"/>
              </a:xfrm>
              <a:custGeom>
                <a:avLst/>
                <a:gdLst/>
                <a:ahLst/>
                <a:rect l="l" t="t" r="r" b="b"/>
                <a:pathLst>
                  <a:path w="328" h="2944">
                    <a:moveTo>
                      <a:pt x="328" y="1329"/>
                    </a:moveTo>
                    <a:lnTo>
                      <a:pt x="327" y="1243"/>
                    </a:lnTo>
                    <a:lnTo>
                      <a:pt x="325" y="1157"/>
                    </a:lnTo>
                    <a:lnTo>
                      <a:pt x="322" y="1072"/>
                    </a:lnTo>
                    <a:lnTo>
                      <a:pt x="317" y="987"/>
                    </a:lnTo>
                    <a:lnTo>
                      <a:pt x="311" y="902"/>
                    </a:lnTo>
                    <a:lnTo>
                      <a:pt x="303" y="818"/>
                    </a:lnTo>
                    <a:lnTo>
                      <a:pt x="295" y="734"/>
                    </a:lnTo>
                    <a:lnTo>
                      <a:pt x="284" y="651"/>
                    </a:lnTo>
                    <a:lnTo>
                      <a:pt x="272" y="568"/>
                    </a:lnTo>
                    <a:lnTo>
                      <a:pt x="260" y="485"/>
                    </a:lnTo>
                    <a:lnTo>
                      <a:pt x="246" y="404"/>
                    </a:lnTo>
                    <a:lnTo>
                      <a:pt x="230" y="322"/>
                    </a:lnTo>
                    <a:lnTo>
                      <a:pt x="215" y="241"/>
                    </a:lnTo>
                    <a:lnTo>
                      <a:pt x="197" y="160"/>
                    </a:lnTo>
                    <a:lnTo>
                      <a:pt x="177" y="80"/>
                    </a:lnTo>
                    <a:lnTo>
                      <a:pt x="157" y="0"/>
                    </a:lnTo>
                    <a:lnTo>
                      <a:pt x="135" y="0"/>
                    </a:lnTo>
                    <a:lnTo>
                      <a:pt x="85" y="0"/>
                    </a:lnTo>
                    <a:lnTo>
                      <a:pt x="106" y="80"/>
                    </a:lnTo>
                    <a:lnTo>
                      <a:pt x="125" y="160"/>
                    </a:lnTo>
                    <a:lnTo>
                      <a:pt x="143" y="241"/>
                    </a:lnTo>
                    <a:lnTo>
                      <a:pt x="160" y="322"/>
                    </a:lnTo>
                    <a:lnTo>
                      <a:pt x="176" y="404"/>
                    </a:lnTo>
                    <a:lnTo>
                      <a:pt x="190" y="485"/>
                    </a:lnTo>
                    <a:lnTo>
                      <a:pt x="203" y="568"/>
                    </a:lnTo>
                    <a:lnTo>
                      <a:pt x="215" y="651"/>
                    </a:lnTo>
                    <a:lnTo>
                      <a:pt x="225" y="734"/>
                    </a:lnTo>
                    <a:lnTo>
                      <a:pt x="235" y="818"/>
                    </a:lnTo>
                    <a:lnTo>
                      <a:pt x="242" y="902"/>
                    </a:lnTo>
                    <a:lnTo>
                      <a:pt x="248" y="987"/>
                    </a:lnTo>
                    <a:lnTo>
                      <a:pt x="252" y="1072"/>
                    </a:lnTo>
                    <a:lnTo>
                      <a:pt x="257" y="1157"/>
                    </a:lnTo>
                    <a:lnTo>
                      <a:pt x="259" y="1243"/>
                    </a:lnTo>
                    <a:lnTo>
                      <a:pt x="260" y="1329"/>
                    </a:lnTo>
                    <a:lnTo>
                      <a:pt x="259" y="1382"/>
                    </a:lnTo>
                    <a:lnTo>
                      <a:pt x="258" y="1435"/>
                    </a:lnTo>
                    <a:lnTo>
                      <a:pt x="257" y="1487"/>
                    </a:lnTo>
                    <a:lnTo>
                      <a:pt x="255" y="1540"/>
                    </a:lnTo>
                    <a:lnTo>
                      <a:pt x="249" y="1644"/>
                    </a:lnTo>
                    <a:lnTo>
                      <a:pt x="242" y="1748"/>
                    </a:lnTo>
                    <a:lnTo>
                      <a:pt x="238" y="1800"/>
                    </a:lnTo>
                    <a:lnTo>
                      <a:pt x="233" y="1852"/>
                    </a:lnTo>
                    <a:lnTo>
                      <a:pt x="227" y="1903"/>
                    </a:lnTo>
                    <a:lnTo>
                      <a:pt x="222" y="1954"/>
                    </a:lnTo>
                    <a:lnTo>
                      <a:pt x="208" y="2056"/>
                    </a:lnTo>
                    <a:lnTo>
                      <a:pt x="193" y="2157"/>
                    </a:lnTo>
                    <a:lnTo>
                      <a:pt x="176" y="2258"/>
                    </a:lnTo>
                    <a:lnTo>
                      <a:pt x="156" y="2359"/>
                    </a:lnTo>
                    <a:lnTo>
                      <a:pt x="135" y="2458"/>
                    </a:lnTo>
                    <a:lnTo>
                      <a:pt x="112" y="2557"/>
                    </a:lnTo>
                    <a:lnTo>
                      <a:pt x="86" y="2655"/>
                    </a:lnTo>
                    <a:lnTo>
                      <a:pt x="60" y="2751"/>
                    </a:lnTo>
                    <a:lnTo>
                      <a:pt x="31" y="2848"/>
                    </a:lnTo>
                    <a:lnTo>
                      <a:pt x="0" y="2944"/>
                    </a:lnTo>
                    <a:lnTo>
                      <a:pt x="51" y="2935"/>
                    </a:lnTo>
                    <a:lnTo>
                      <a:pt x="76" y="2935"/>
                    </a:lnTo>
                    <a:lnTo>
                      <a:pt x="105" y="2840"/>
                    </a:lnTo>
                    <a:lnTo>
                      <a:pt x="134" y="2744"/>
                    </a:lnTo>
                    <a:lnTo>
                      <a:pt x="160" y="2647"/>
                    </a:lnTo>
                    <a:lnTo>
                      <a:pt x="184" y="2550"/>
                    </a:lnTo>
                    <a:lnTo>
                      <a:pt x="206" y="2451"/>
                    </a:lnTo>
                    <a:lnTo>
                      <a:pt x="227" y="2352"/>
                    </a:lnTo>
                    <a:lnTo>
                      <a:pt x="246" y="2253"/>
                    </a:lnTo>
                    <a:lnTo>
                      <a:pt x="263" y="2153"/>
                    </a:lnTo>
                    <a:lnTo>
                      <a:pt x="279" y="2052"/>
                    </a:lnTo>
                    <a:lnTo>
                      <a:pt x="291" y="1950"/>
                    </a:lnTo>
                    <a:lnTo>
                      <a:pt x="303" y="1848"/>
                    </a:lnTo>
                    <a:lnTo>
                      <a:pt x="311" y="1745"/>
                    </a:lnTo>
                    <a:lnTo>
                      <a:pt x="319" y="1642"/>
                    </a:lnTo>
                    <a:lnTo>
                      <a:pt x="324" y="1539"/>
                    </a:lnTo>
                    <a:lnTo>
                      <a:pt x="327" y="1434"/>
                    </a:lnTo>
                    <a:lnTo>
                      <a:pt x="328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214960" y="2571840"/>
                <a:ext cx="106200" cy="936360"/>
              </a:xfrm>
              <a:custGeom>
                <a:avLst/>
                <a:gdLst/>
                <a:ahLst/>
                <a:rect l="l" t="t" r="r" b="b"/>
                <a:pathLst>
                  <a:path w="331" h="2951">
                    <a:moveTo>
                      <a:pt x="331" y="1329"/>
                    </a:moveTo>
                    <a:lnTo>
                      <a:pt x="331" y="1243"/>
                    </a:lnTo>
                    <a:lnTo>
                      <a:pt x="329" y="1157"/>
                    </a:lnTo>
                    <a:lnTo>
                      <a:pt x="325" y="1072"/>
                    </a:lnTo>
                    <a:lnTo>
                      <a:pt x="321" y="987"/>
                    </a:lnTo>
                    <a:lnTo>
                      <a:pt x="315" y="902"/>
                    </a:lnTo>
                    <a:lnTo>
                      <a:pt x="306" y="818"/>
                    </a:lnTo>
                    <a:lnTo>
                      <a:pt x="298" y="734"/>
                    </a:lnTo>
                    <a:lnTo>
                      <a:pt x="287" y="651"/>
                    </a:lnTo>
                    <a:lnTo>
                      <a:pt x="276" y="568"/>
                    </a:lnTo>
                    <a:lnTo>
                      <a:pt x="263" y="485"/>
                    </a:lnTo>
                    <a:lnTo>
                      <a:pt x="248" y="404"/>
                    </a:lnTo>
                    <a:lnTo>
                      <a:pt x="234" y="322"/>
                    </a:lnTo>
                    <a:lnTo>
                      <a:pt x="217" y="241"/>
                    </a:lnTo>
                    <a:lnTo>
                      <a:pt x="199" y="160"/>
                    </a:lnTo>
                    <a:lnTo>
                      <a:pt x="180" y="80"/>
                    </a:lnTo>
                    <a:lnTo>
                      <a:pt x="159" y="0"/>
                    </a:lnTo>
                    <a:lnTo>
                      <a:pt x="116" y="0"/>
                    </a:lnTo>
                    <a:lnTo>
                      <a:pt x="91" y="12"/>
                    </a:lnTo>
                    <a:lnTo>
                      <a:pt x="112" y="91"/>
                    </a:lnTo>
                    <a:lnTo>
                      <a:pt x="131" y="170"/>
                    </a:lnTo>
                    <a:lnTo>
                      <a:pt x="149" y="250"/>
                    </a:lnTo>
                    <a:lnTo>
                      <a:pt x="165" y="331"/>
                    </a:lnTo>
                    <a:lnTo>
                      <a:pt x="180" y="412"/>
                    </a:lnTo>
                    <a:lnTo>
                      <a:pt x="195" y="493"/>
                    </a:lnTo>
                    <a:lnTo>
                      <a:pt x="207" y="575"/>
                    </a:lnTo>
                    <a:lnTo>
                      <a:pt x="219" y="657"/>
                    </a:lnTo>
                    <a:lnTo>
                      <a:pt x="230" y="740"/>
                    </a:lnTo>
                    <a:lnTo>
                      <a:pt x="238" y="823"/>
                    </a:lnTo>
                    <a:lnTo>
                      <a:pt x="245" y="907"/>
                    </a:lnTo>
                    <a:lnTo>
                      <a:pt x="252" y="991"/>
                    </a:lnTo>
                    <a:lnTo>
                      <a:pt x="257" y="1075"/>
                    </a:lnTo>
                    <a:lnTo>
                      <a:pt x="260" y="1159"/>
                    </a:lnTo>
                    <a:lnTo>
                      <a:pt x="262" y="1244"/>
                    </a:lnTo>
                    <a:lnTo>
                      <a:pt x="263" y="1329"/>
                    </a:lnTo>
                    <a:lnTo>
                      <a:pt x="263" y="1382"/>
                    </a:lnTo>
                    <a:lnTo>
                      <a:pt x="262" y="1435"/>
                    </a:lnTo>
                    <a:lnTo>
                      <a:pt x="260" y="1488"/>
                    </a:lnTo>
                    <a:lnTo>
                      <a:pt x="259" y="1541"/>
                    </a:lnTo>
                    <a:lnTo>
                      <a:pt x="254" y="1646"/>
                    </a:lnTo>
                    <a:lnTo>
                      <a:pt x="246" y="1750"/>
                    </a:lnTo>
                    <a:lnTo>
                      <a:pt x="241" y="1802"/>
                    </a:lnTo>
                    <a:lnTo>
                      <a:pt x="236" y="1854"/>
                    </a:lnTo>
                    <a:lnTo>
                      <a:pt x="231" y="1905"/>
                    </a:lnTo>
                    <a:lnTo>
                      <a:pt x="224" y="1957"/>
                    </a:lnTo>
                    <a:lnTo>
                      <a:pt x="211" y="2059"/>
                    </a:lnTo>
                    <a:lnTo>
                      <a:pt x="196" y="2161"/>
                    </a:lnTo>
                    <a:lnTo>
                      <a:pt x="178" y="2262"/>
                    </a:lnTo>
                    <a:lnTo>
                      <a:pt x="158" y="2363"/>
                    </a:lnTo>
                    <a:lnTo>
                      <a:pt x="137" y="2463"/>
                    </a:lnTo>
                    <a:lnTo>
                      <a:pt x="113" y="2562"/>
                    </a:lnTo>
                    <a:lnTo>
                      <a:pt x="88" y="2660"/>
                    </a:lnTo>
                    <a:lnTo>
                      <a:pt x="60" y="2758"/>
                    </a:lnTo>
                    <a:lnTo>
                      <a:pt x="31" y="2854"/>
                    </a:lnTo>
                    <a:lnTo>
                      <a:pt x="0" y="2951"/>
                    </a:lnTo>
                    <a:lnTo>
                      <a:pt x="77" y="2937"/>
                    </a:lnTo>
                    <a:lnTo>
                      <a:pt x="107" y="2842"/>
                    </a:lnTo>
                    <a:lnTo>
                      <a:pt x="135" y="2746"/>
                    </a:lnTo>
                    <a:lnTo>
                      <a:pt x="161" y="2648"/>
                    </a:lnTo>
                    <a:lnTo>
                      <a:pt x="186" y="2551"/>
                    </a:lnTo>
                    <a:lnTo>
                      <a:pt x="210" y="2453"/>
                    </a:lnTo>
                    <a:lnTo>
                      <a:pt x="230" y="2353"/>
                    </a:lnTo>
                    <a:lnTo>
                      <a:pt x="249" y="2254"/>
                    </a:lnTo>
                    <a:lnTo>
                      <a:pt x="266" y="2154"/>
                    </a:lnTo>
                    <a:lnTo>
                      <a:pt x="281" y="2053"/>
                    </a:lnTo>
                    <a:lnTo>
                      <a:pt x="295" y="1951"/>
                    </a:lnTo>
                    <a:lnTo>
                      <a:pt x="306" y="1848"/>
                    </a:lnTo>
                    <a:lnTo>
                      <a:pt x="315" y="1745"/>
                    </a:lnTo>
                    <a:lnTo>
                      <a:pt x="322" y="1643"/>
                    </a:lnTo>
                    <a:lnTo>
                      <a:pt x="327" y="1539"/>
                    </a:lnTo>
                    <a:lnTo>
                      <a:pt x="330" y="1434"/>
                    </a:lnTo>
                    <a:lnTo>
                      <a:pt x="331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03800" y="2571840"/>
                <a:ext cx="106560" cy="938160"/>
              </a:xfrm>
              <a:custGeom>
                <a:avLst/>
                <a:gdLst/>
                <a:ahLst/>
                <a:rect l="l" t="t" r="r" b="b"/>
                <a:pathLst>
                  <a:path w="337" h="2957">
                    <a:moveTo>
                      <a:pt x="337" y="1329"/>
                    </a:moveTo>
                    <a:lnTo>
                      <a:pt x="336" y="1243"/>
                    </a:lnTo>
                    <a:lnTo>
                      <a:pt x="334" y="1157"/>
                    </a:lnTo>
                    <a:lnTo>
                      <a:pt x="329" y="1072"/>
                    </a:lnTo>
                    <a:lnTo>
                      <a:pt x="325" y="987"/>
                    </a:lnTo>
                    <a:lnTo>
                      <a:pt x="319" y="902"/>
                    </a:lnTo>
                    <a:lnTo>
                      <a:pt x="312" y="818"/>
                    </a:lnTo>
                    <a:lnTo>
                      <a:pt x="302" y="734"/>
                    </a:lnTo>
                    <a:lnTo>
                      <a:pt x="292" y="651"/>
                    </a:lnTo>
                    <a:lnTo>
                      <a:pt x="280" y="568"/>
                    </a:lnTo>
                    <a:lnTo>
                      <a:pt x="267" y="485"/>
                    </a:lnTo>
                    <a:lnTo>
                      <a:pt x="253" y="404"/>
                    </a:lnTo>
                    <a:lnTo>
                      <a:pt x="237" y="322"/>
                    </a:lnTo>
                    <a:lnTo>
                      <a:pt x="220" y="241"/>
                    </a:lnTo>
                    <a:lnTo>
                      <a:pt x="202" y="160"/>
                    </a:lnTo>
                    <a:lnTo>
                      <a:pt x="183" y="80"/>
                    </a:lnTo>
                    <a:lnTo>
                      <a:pt x="162" y="0"/>
                    </a:lnTo>
                    <a:lnTo>
                      <a:pt x="155" y="0"/>
                    </a:lnTo>
                    <a:lnTo>
                      <a:pt x="98" y="27"/>
                    </a:lnTo>
                    <a:lnTo>
                      <a:pt x="118" y="105"/>
                    </a:lnTo>
                    <a:lnTo>
                      <a:pt x="137" y="183"/>
                    </a:lnTo>
                    <a:lnTo>
                      <a:pt x="155" y="263"/>
                    </a:lnTo>
                    <a:lnTo>
                      <a:pt x="172" y="343"/>
                    </a:lnTo>
                    <a:lnTo>
                      <a:pt x="187" y="422"/>
                    </a:lnTo>
                    <a:lnTo>
                      <a:pt x="200" y="502"/>
                    </a:lnTo>
                    <a:lnTo>
                      <a:pt x="213" y="583"/>
                    </a:lnTo>
                    <a:lnTo>
                      <a:pt x="224" y="665"/>
                    </a:lnTo>
                    <a:lnTo>
                      <a:pt x="234" y="747"/>
                    </a:lnTo>
                    <a:lnTo>
                      <a:pt x="243" y="829"/>
                    </a:lnTo>
                    <a:lnTo>
                      <a:pt x="251" y="911"/>
                    </a:lnTo>
                    <a:lnTo>
                      <a:pt x="257" y="994"/>
                    </a:lnTo>
                    <a:lnTo>
                      <a:pt x="261" y="1078"/>
                    </a:lnTo>
                    <a:lnTo>
                      <a:pt x="264" y="1161"/>
                    </a:lnTo>
                    <a:lnTo>
                      <a:pt x="266" y="1245"/>
                    </a:lnTo>
                    <a:lnTo>
                      <a:pt x="267" y="1329"/>
                    </a:lnTo>
                    <a:lnTo>
                      <a:pt x="267" y="1382"/>
                    </a:lnTo>
                    <a:lnTo>
                      <a:pt x="266" y="1436"/>
                    </a:lnTo>
                    <a:lnTo>
                      <a:pt x="265" y="1488"/>
                    </a:lnTo>
                    <a:lnTo>
                      <a:pt x="263" y="1542"/>
                    </a:lnTo>
                    <a:lnTo>
                      <a:pt x="261" y="1594"/>
                    </a:lnTo>
                    <a:lnTo>
                      <a:pt x="258" y="1647"/>
                    </a:lnTo>
                    <a:lnTo>
                      <a:pt x="254" y="1699"/>
                    </a:lnTo>
                    <a:lnTo>
                      <a:pt x="251" y="1752"/>
                    </a:lnTo>
                    <a:lnTo>
                      <a:pt x="245" y="1804"/>
                    </a:lnTo>
                    <a:lnTo>
                      <a:pt x="240" y="1856"/>
                    </a:lnTo>
                    <a:lnTo>
                      <a:pt x="235" y="1908"/>
                    </a:lnTo>
                    <a:lnTo>
                      <a:pt x="229" y="1960"/>
                    </a:lnTo>
                    <a:lnTo>
                      <a:pt x="222" y="2011"/>
                    </a:lnTo>
                    <a:lnTo>
                      <a:pt x="215" y="2063"/>
                    </a:lnTo>
                    <a:lnTo>
                      <a:pt x="208" y="2114"/>
                    </a:lnTo>
                    <a:lnTo>
                      <a:pt x="199" y="2165"/>
                    </a:lnTo>
                    <a:lnTo>
                      <a:pt x="191" y="2216"/>
                    </a:lnTo>
                    <a:lnTo>
                      <a:pt x="181" y="2266"/>
                    </a:lnTo>
                    <a:lnTo>
                      <a:pt x="172" y="2318"/>
                    </a:lnTo>
                    <a:lnTo>
                      <a:pt x="161" y="2368"/>
                    </a:lnTo>
                    <a:lnTo>
                      <a:pt x="139" y="2468"/>
                    </a:lnTo>
                    <a:lnTo>
                      <a:pt x="115" y="2568"/>
                    </a:lnTo>
                    <a:lnTo>
                      <a:pt x="90" y="2666"/>
                    </a:lnTo>
                    <a:lnTo>
                      <a:pt x="61" y="2764"/>
                    </a:lnTo>
                    <a:lnTo>
                      <a:pt x="32" y="2861"/>
                    </a:lnTo>
                    <a:lnTo>
                      <a:pt x="0" y="2957"/>
                    </a:lnTo>
                    <a:lnTo>
                      <a:pt x="77" y="2944"/>
                    </a:lnTo>
                    <a:lnTo>
                      <a:pt x="108" y="2848"/>
                    </a:lnTo>
                    <a:lnTo>
                      <a:pt x="137" y="2751"/>
                    </a:lnTo>
                    <a:lnTo>
                      <a:pt x="163" y="2655"/>
                    </a:lnTo>
                    <a:lnTo>
                      <a:pt x="189" y="2557"/>
                    </a:lnTo>
                    <a:lnTo>
                      <a:pt x="212" y="2458"/>
                    </a:lnTo>
                    <a:lnTo>
                      <a:pt x="233" y="2359"/>
                    </a:lnTo>
                    <a:lnTo>
                      <a:pt x="253" y="2258"/>
                    </a:lnTo>
                    <a:lnTo>
                      <a:pt x="270" y="2157"/>
                    </a:lnTo>
                    <a:lnTo>
                      <a:pt x="285" y="2056"/>
                    </a:lnTo>
                    <a:lnTo>
                      <a:pt x="299" y="1954"/>
                    </a:lnTo>
                    <a:lnTo>
                      <a:pt x="304" y="1903"/>
                    </a:lnTo>
                    <a:lnTo>
                      <a:pt x="311" y="1852"/>
                    </a:lnTo>
                    <a:lnTo>
                      <a:pt x="315" y="1800"/>
                    </a:lnTo>
                    <a:lnTo>
                      <a:pt x="319" y="1748"/>
                    </a:lnTo>
                    <a:lnTo>
                      <a:pt x="326" y="1644"/>
                    </a:lnTo>
                    <a:lnTo>
                      <a:pt x="332" y="1540"/>
                    </a:lnTo>
                    <a:lnTo>
                      <a:pt x="334" y="1487"/>
                    </a:lnTo>
                    <a:lnTo>
                      <a:pt x="336" y="1435"/>
                    </a:lnTo>
                    <a:lnTo>
                      <a:pt x="336" y="1382"/>
                    </a:lnTo>
                    <a:lnTo>
                      <a:pt x="337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191200" y="2575080"/>
                <a:ext cx="108000" cy="936360"/>
              </a:xfrm>
              <a:custGeom>
                <a:avLst/>
                <a:gdLst/>
                <a:ahLst/>
                <a:rect l="l" t="t" r="r" b="b"/>
                <a:pathLst>
                  <a:path w="340" h="2951">
                    <a:moveTo>
                      <a:pt x="340" y="1317"/>
                    </a:moveTo>
                    <a:lnTo>
                      <a:pt x="339" y="1232"/>
                    </a:lnTo>
                    <a:lnTo>
                      <a:pt x="337" y="1147"/>
                    </a:lnTo>
                    <a:lnTo>
                      <a:pt x="334" y="1063"/>
                    </a:lnTo>
                    <a:lnTo>
                      <a:pt x="329" y="979"/>
                    </a:lnTo>
                    <a:lnTo>
                      <a:pt x="322" y="895"/>
                    </a:lnTo>
                    <a:lnTo>
                      <a:pt x="315" y="811"/>
                    </a:lnTo>
                    <a:lnTo>
                      <a:pt x="307" y="728"/>
                    </a:lnTo>
                    <a:lnTo>
                      <a:pt x="296" y="646"/>
                    </a:lnTo>
                    <a:lnTo>
                      <a:pt x="284" y="563"/>
                    </a:lnTo>
                    <a:lnTo>
                      <a:pt x="272" y="481"/>
                    </a:lnTo>
                    <a:lnTo>
                      <a:pt x="257" y="400"/>
                    </a:lnTo>
                    <a:lnTo>
                      <a:pt x="242" y="319"/>
                    </a:lnTo>
                    <a:lnTo>
                      <a:pt x="226" y="238"/>
                    </a:lnTo>
                    <a:lnTo>
                      <a:pt x="208" y="158"/>
                    </a:lnTo>
                    <a:lnTo>
                      <a:pt x="189" y="79"/>
                    </a:lnTo>
                    <a:lnTo>
                      <a:pt x="168" y="0"/>
                    </a:lnTo>
                    <a:lnTo>
                      <a:pt x="135" y="15"/>
                    </a:lnTo>
                    <a:lnTo>
                      <a:pt x="102" y="15"/>
                    </a:lnTo>
                    <a:lnTo>
                      <a:pt x="122" y="93"/>
                    </a:lnTo>
                    <a:lnTo>
                      <a:pt x="140" y="172"/>
                    </a:lnTo>
                    <a:lnTo>
                      <a:pt x="158" y="251"/>
                    </a:lnTo>
                    <a:lnTo>
                      <a:pt x="174" y="331"/>
                    </a:lnTo>
                    <a:lnTo>
                      <a:pt x="190" y="410"/>
                    </a:lnTo>
                    <a:lnTo>
                      <a:pt x="204" y="491"/>
                    </a:lnTo>
                    <a:lnTo>
                      <a:pt x="216" y="572"/>
                    </a:lnTo>
                    <a:lnTo>
                      <a:pt x="228" y="653"/>
                    </a:lnTo>
                    <a:lnTo>
                      <a:pt x="238" y="735"/>
                    </a:lnTo>
                    <a:lnTo>
                      <a:pt x="247" y="817"/>
                    </a:lnTo>
                    <a:lnTo>
                      <a:pt x="254" y="900"/>
                    </a:lnTo>
                    <a:lnTo>
                      <a:pt x="260" y="982"/>
                    </a:lnTo>
                    <a:lnTo>
                      <a:pt x="264" y="1066"/>
                    </a:lnTo>
                    <a:lnTo>
                      <a:pt x="269" y="1149"/>
                    </a:lnTo>
                    <a:lnTo>
                      <a:pt x="271" y="1233"/>
                    </a:lnTo>
                    <a:lnTo>
                      <a:pt x="271" y="1317"/>
                    </a:lnTo>
                    <a:lnTo>
                      <a:pt x="271" y="1370"/>
                    </a:lnTo>
                    <a:lnTo>
                      <a:pt x="270" y="1424"/>
                    </a:lnTo>
                    <a:lnTo>
                      <a:pt x="269" y="1477"/>
                    </a:lnTo>
                    <a:lnTo>
                      <a:pt x="267" y="1531"/>
                    </a:lnTo>
                    <a:lnTo>
                      <a:pt x="264" y="1583"/>
                    </a:lnTo>
                    <a:lnTo>
                      <a:pt x="261" y="1637"/>
                    </a:lnTo>
                    <a:lnTo>
                      <a:pt x="257" y="1689"/>
                    </a:lnTo>
                    <a:lnTo>
                      <a:pt x="254" y="1742"/>
                    </a:lnTo>
                    <a:lnTo>
                      <a:pt x="249" y="1794"/>
                    </a:lnTo>
                    <a:lnTo>
                      <a:pt x="243" y="1847"/>
                    </a:lnTo>
                    <a:lnTo>
                      <a:pt x="238" y="1898"/>
                    </a:lnTo>
                    <a:lnTo>
                      <a:pt x="232" y="1951"/>
                    </a:lnTo>
                    <a:lnTo>
                      <a:pt x="225" y="2002"/>
                    </a:lnTo>
                    <a:lnTo>
                      <a:pt x="217" y="2054"/>
                    </a:lnTo>
                    <a:lnTo>
                      <a:pt x="210" y="2105"/>
                    </a:lnTo>
                    <a:lnTo>
                      <a:pt x="201" y="2157"/>
                    </a:lnTo>
                    <a:lnTo>
                      <a:pt x="193" y="2208"/>
                    </a:lnTo>
                    <a:lnTo>
                      <a:pt x="184" y="2258"/>
                    </a:lnTo>
                    <a:lnTo>
                      <a:pt x="173" y="2310"/>
                    </a:lnTo>
                    <a:lnTo>
                      <a:pt x="163" y="2360"/>
                    </a:lnTo>
                    <a:lnTo>
                      <a:pt x="152" y="2411"/>
                    </a:lnTo>
                    <a:lnTo>
                      <a:pt x="140" y="2461"/>
                    </a:lnTo>
                    <a:lnTo>
                      <a:pt x="129" y="2510"/>
                    </a:lnTo>
                    <a:lnTo>
                      <a:pt x="116" y="2561"/>
                    </a:lnTo>
                    <a:lnTo>
                      <a:pt x="90" y="2660"/>
                    </a:lnTo>
                    <a:lnTo>
                      <a:pt x="62" y="2758"/>
                    </a:lnTo>
                    <a:lnTo>
                      <a:pt x="32" y="2856"/>
                    </a:lnTo>
                    <a:lnTo>
                      <a:pt x="0" y="2951"/>
                    </a:lnTo>
                    <a:lnTo>
                      <a:pt x="77" y="2939"/>
                    </a:lnTo>
                    <a:lnTo>
                      <a:pt x="108" y="2842"/>
                    </a:lnTo>
                    <a:lnTo>
                      <a:pt x="137" y="2746"/>
                    </a:lnTo>
                    <a:lnTo>
                      <a:pt x="165" y="2648"/>
                    </a:lnTo>
                    <a:lnTo>
                      <a:pt x="190" y="2550"/>
                    </a:lnTo>
                    <a:lnTo>
                      <a:pt x="214" y="2451"/>
                    </a:lnTo>
                    <a:lnTo>
                      <a:pt x="235" y="2351"/>
                    </a:lnTo>
                    <a:lnTo>
                      <a:pt x="255" y="2250"/>
                    </a:lnTo>
                    <a:lnTo>
                      <a:pt x="273" y="2149"/>
                    </a:lnTo>
                    <a:lnTo>
                      <a:pt x="288" y="2047"/>
                    </a:lnTo>
                    <a:lnTo>
                      <a:pt x="301" y="1945"/>
                    </a:lnTo>
                    <a:lnTo>
                      <a:pt x="308" y="1893"/>
                    </a:lnTo>
                    <a:lnTo>
                      <a:pt x="313" y="1842"/>
                    </a:lnTo>
                    <a:lnTo>
                      <a:pt x="318" y="1790"/>
                    </a:lnTo>
                    <a:lnTo>
                      <a:pt x="323" y="1738"/>
                    </a:lnTo>
                    <a:lnTo>
                      <a:pt x="331" y="1634"/>
                    </a:lnTo>
                    <a:lnTo>
                      <a:pt x="336" y="1529"/>
                    </a:lnTo>
                    <a:lnTo>
                      <a:pt x="337" y="1476"/>
                    </a:lnTo>
                    <a:lnTo>
                      <a:pt x="339" y="1423"/>
                    </a:lnTo>
                    <a:lnTo>
                      <a:pt x="340" y="1370"/>
                    </a:lnTo>
                    <a:lnTo>
                      <a:pt x="340" y="13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178600" y="2579760"/>
                <a:ext cx="109440" cy="934920"/>
              </a:xfrm>
              <a:custGeom>
                <a:avLst/>
                <a:gdLst/>
                <a:ahLst/>
                <a:rect l="l" t="t" r="r" b="b"/>
                <a:pathLst>
                  <a:path w="343" h="2944">
                    <a:moveTo>
                      <a:pt x="343" y="1302"/>
                    </a:moveTo>
                    <a:lnTo>
                      <a:pt x="342" y="1218"/>
                    </a:lnTo>
                    <a:lnTo>
                      <a:pt x="340" y="1134"/>
                    </a:lnTo>
                    <a:lnTo>
                      <a:pt x="337" y="1051"/>
                    </a:lnTo>
                    <a:lnTo>
                      <a:pt x="333" y="967"/>
                    </a:lnTo>
                    <a:lnTo>
                      <a:pt x="327" y="884"/>
                    </a:lnTo>
                    <a:lnTo>
                      <a:pt x="319" y="802"/>
                    </a:lnTo>
                    <a:lnTo>
                      <a:pt x="310" y="720"/>
                    </a:lnTo>
                    <a:lnTo>
                      <a:pt x="300" y="638"/>
                    </a:lnTo>
                    <a:lnTo>
                      <a:pt x="289" y="556"/>
                    </a:lnTo>
                    <a:lnTo>
                      <a:pt x="276" y="475"/>
                    </a:lnTo>
                    <a:lnTo>
                      <a:pt x="263" y="395"/>
                    </a:lnTo>
                    <a:lnTo>
                      <a:pt x="248" y="316"/>
                    </a:lnTo>
                    <a:lnTo>
                      <a:pt x="231" y="236"/>
                    </a:lnTo>
                    <a:lnTo>
                      <a:pt x="213" y="156"/>
                    </a:lnTo>
                    <a:lnTo>
                      <a:pt x="194" y="78"/>
                    </a:lnTo>
                    <a:lnTo>
                      <a:pt x="174" y="0"/>
                    </a:lnTo>
                    <a:lnTo>
                      <a:pt x="173" y="0"/>
                    </a:lnTo>
                    <a:lnTo>
                      <a:pt x="116" y="0"/>
                    </a:lnTo>
                    <a:lnTo>
                      <a:pt x="104" y="0"/>
                    </a:lnTo>
                    <a:lnTo>
                      <a:pt x="124" y="78"/>
                    </a:lnTo>
                    <a:lnTo>
                      <a:pt x="143" y="157"/>
                    </a:lnTo>
                    <a:lnTo>
                      <a:pt x="161" y="236"/>
                    </a:lnTo>
                    <a:lnTo>
                      <a:pt x="177" y="316"/>
                    </a:lnTo>
                    <a:lnTo>
                      <a:pt x="192" y="395"/>
                    </a:lnTo>
                    <a:lnTo>
                      <a:pt x="207" y="476"/>
                    </a:lnTo>
                    <a:lnTo>
                      <a:pt x="219" y="557"/>
                    </a:lnTo>
                    <a:lnTo>
                      <a:pt x="231" y="638"/>
                    </a:lnTo>
                    <a:lnTo>
                      <a:pt x="242" y="720"/>
                    </a:lnTo>
                    <a:lnTo>
                      <a:pt x="250" y="802"/>
                    </a:lnTo>
                    <a:lnTo>
                      <a:pt x="257" y="884"/>
                    </a:lnTo>
                    <a:lnTo>
                      <a:pt x="264" y="967"/>
                    </a:lnTo>
                    <a:lnTo>
                      <a:pt x="269" y="1051"/>
                    </a:lnTo>
                    <a:lnTo>
                      <a:pt x="272" y="1134"/>
                    </a:lnTo>
                    <a:lnTo>
                      <a:pt x="274" y="1218"/>
                    </a:lnTo>
                    <a:lnTo>
                      <a:pt x="275" y="1302"/>
                    </a:lnTo>
                    <a:lnTo>
                      <a:pt x="274" y="1356"/>
                    </a:lnTo>
                    <a:lnTo>
                      <a:pt x="274" y="1410"/>
                    </a:lnTo>
                    <a:lnTo>
                      <a:pt x="272" y="1463"/>
                    </a:lnTo>
                    <a:lnTo>
                      <a:pt x="270" y="1517"/>
                    </a:lnTo>
                    <a:lnTo>
                      <a:pt x="268" y="1569"/>
                    </a:lnTo>
                    <a:lnTo>
                      <a:pt x="265" y="1623"/>
                    </a:lnTo>
                    <a:lnTo>
                      <a:pt x="260" y="1675"/>
                    </a:lnTo>
                    <a:lnTo>
                      <a:pt x="256" y="1729"/>
                    </a:lnTo>
                    <a:lnTo>
                      <a:pt x="252" y="1781"/>
                    </a:lnTo>
                    <a:lnTo>
                      <a:pt x="247" y="1834"/>
                    </a:lnTo>
                    <a:lnTo>
                      <a:pt x="240" y="1886"/>
                    </a:lnTo>
                    <a:lnTo>
                      <a:pt x="234" y="1938"/>
                    </a:lnTo>
                    <a:lnTo>
                      <a:pt x="228" y="1990"/>
                    </a:lnTo>
                    <a:lnTo>
                      <a:pt x="220" y="2042"/>
                    </a:lnTo>
                    <a:lnTo>
                      <a:pt x="212" y="2094"/>
                    </a:lnTo>
                    <a:lnTo>
                      <a:pt x="204" y="2146"/>
                    </a:lnTo>
                    <a:lnTo>
                      <a:pt x="195" y="2196"/>
                    </a:lnTo>
                    <a:lnTo>
                      <a:pt x="186" y="2248"/>
                    </a:lnTo>
                    <a:lnTo>
                      <a:pt x="175" y="2299"/>
                    </a:lnTo>
                    <a:lnTo>
                      <a:pt x="165" y="2350"/>
                    </a:lnTo>
                    <a:lnTo>
                      <a:pt x="153" y="2400"/>
                    </a:lnTo>
                    <a:lnTo>
                      <a:pt x="142" y="2450"/>
                    </a:lnTo>
                    <a:lnTo>
                      <a:pt x="130" y="2501"/>
                    </a:lnTo>
                    <a:lnTo>
                      <a:pt x="117" y="2551"/>
                    </a:lnTo>
                    <a:lnTo>
                      <a:pt x="105" y="2600"/>
                    </a:lnTo>
                    <a:lnTo>
                      <a:pt x="91" y="2650"/>
                    </a:lnTo>
                    <a:lnTo>
                      <a:pt x="76" y="2699"/>
                    </a:lnTo>
                    <a:lnTo>
                      <a:pt x="63" y="2749"/>
                    </a:lnTo>
                    <a:lnTo>
                      <a:pt x="31" y="2846"/>
                    </a:lnTo>
                    <a:lnTo>
                      <a:pt x="0" y="2944"/>
                    </a:lnTo>
                    <a:lnTo>
                      <a:pt x="32" y="2938"/>
                    </a:lnTo>
                    <a:lnTo>
                      <a:pt x="76" y="2930"/>
                    </a:lnTo>
                    <a:lnTo>
                      <a:pt x="108" y="2834"/>
                    </a:lnTo>
                    <a:lnTo>
                      <a:pt x="137" y="2737"/>
                    </a:lnTo>
                    <a:lnTo>
                      <a:pt x="166" y="2639"/>
                    </a:lnTo>
                    <a:lnTo>
                      <a:pt x="191" y="2541"/>
                    </a:lnTo>
                    <a:lnTo>
                      <a:pt x="215" y="2441"/>
                    </a:lnTo>
                    <a:lnTo>
                      <a:pt x="237" y="2341"/>
                    </a:lnTo>
                    <a:lnTo>
                      <a:pt x="248" y="2291"/>
                    </a:lnTo>
                    <a:lnTo>
                      <a:pt x="257" y="2239"/>
                    </a:lnTo>
                    <a:lnTo>
                      <a:pt x="267" y="2189"/>
                    </a:lnTo>
                    <a:lnTo>
                      <a:pt x="275" y="2138"/>
                    </a:lnTo>
                    <a:lnTo>
                      <a:pt x="284" y="2087"/>
                    </a:lnTo>
                    <a:lnTo>
                      <a:pt x="291" y="2036"/>
                    </a:lnTo>
                    <a:lnTo>
                      <a:pt x="298" y="1984"/>
                    </a:lnTo>
                    <a:lnTo>
                      <a:pt x="305" y="1933"/>
                    </a:lnTo>
                    <a:lnTo>
                      <a:pt x="311" y="1881"/>
                    </a:lnTo>
                    <a:lnTo>
                      <a:pt x="316" y="1829"/>
                    </a:lnTo>
                    <a:lnTo>
                      <a:pt x="321" y="1777"/>
                    </a:lnTo>
                    <a:lnTo>
                      <a:pt x="327" y="1725"/>
                    </a:lnTo>
                    <a:lnTo>
                      <a:pt x="330" y="1672"/>
                    </a:lnTo>
                    <a:lnTo>
                      <a:pt x="334" y="1620"/>
                    </a:lnTo>
                    <a:lnTo>
                      <a:pt x="337" y="1567"/>
                    </a:lnTo>
                    <a:lnTo>
                      <a:pt x="339" y="1515"/>
                    </a:lnTo>
                    <a:lnTo>
                      <a:pt x="341" y="1461"/>
                    </a:lnTo>
                    <a:lnTo>
                      <a:pt x="342" y="1409"/>
                    </a:lnTo>
                    <a:lnTo>
                      <a:pt x="343" y="1355"/>
                    </a:lnTo>
                    <a:lnTo>
                      <a:pt x="343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167440" y="2579760"/>
                <a:ext cx="109440" cy="936720"/>
              </a:xfrm>
              <a:custGeom>
                <a:avLst/>
                <a:gdLst/>
                <a:ahLst/>
                <a:rect l="l" t="t" r="r" b="b"/>
                <a:pathLst>
                  <a:path w="348" h="2949">
                    <a:moveTo>
                      <a:pt x="348" y="1302"/>
                    </a:moveTo>
                    <a:lnTo>
                      <a:pt x="348" y="1218"/>
                    </a:lnTo>
                    <a:lnTo>
                      <a:pt x="346" y="1134"/>
                    </a:lnTo>
                    <a:lnTo>
                      <a:pt x="341" y="1051"/>
                    </a:lnTo>
                    <a:lnTo>
                      <a:pt x="337" y="967"/>
                    </a:lnTo>
                    <a:lnTo>
                      <a:pt x="331" y="885"/>
                    </a:lnTo>
                    <a:lnTo>
                      <a:pt x="324" y="802"/>
                    </a:lnTo>
                    <a:lnTo>
                      <a:pt x="315" y="720"/>
                    </a:lnTo>
                    <a:lnTo>
                      <a:pt x="305" y="638"/>
                    </a:lnTo>
                    <a:lnTo>
                      <a:pt x="293" y="557"/>
                    </a:lnTo>
                    <a:lnTo>
                      <a:pt x="281" y="476"/>
                    </a:lnTo>
                    <a:lnTo>
                      <a:pt x="267" y="395"/>
                    </a:lnTo>
                    <a:lnTo>
                      <a:pt x="251" y="316"/>
                    </a:lnTo>
                    <a:lnTo>
                      <a:pt x="235" y="236"/>
                    </a:lnTo>
                    <a:lnTo>
                      <a:pt x="217" y="157"/>
                    </a:lnTo>
                    <a:lnTo>
                      <a:pt x="199" y="78"/>
                    </a:lnTo>
                    <a:lnTo>
                      <a:pt x="179" y="0"/>
                    </a:lnTo>
                    <a:lnTo>
                      <a:pt x="155" y="0"/>
                    </a:lnTo>
                    <a:lnTo>
                      <a:pt x="107" y="0"/>
                    </a:lnTo>
                    <a:lnTo>
                      <a:pt x="127" y="78"/>
                    </a:lnTo>
                    <a:lnTo>
                      <a:pt x="146" y="157"/>
                    </a:lnTo>
                    <a:lnTo>
                      <a:pt x="164" y="236"/>
                    </a:lnTo>
                    <a:lnTo>
                      <a:pt x="181" y="316"/>
                    </a:lnTo>
                    <a:lnTo>
                      <a:pt x="196" y="395"/>
                    </a:lnTo>
                    <a:lnTo>
                      <a:pt x="211" y="475"/>
                    </a:lnTo>
                    <a:lnTo>
                      <a:pt x="224" y="556"/>
                    </a:lnTo>
                    <a:lnTo>
                      <a:pt x="235" y="638"/>
                    </a:lnTo>
                    <a:lnTo>
                      <a:pt x="246" y="720"/>
                    </a:lnTo>
                    <a:lnTo>
                      <a:pt x="254" y="802"/>
                    </a:lnTo>
                    <a:lnTo>
                      <a:pt x="262" y="884"/>
                    </a:lnTo>
                    <a:lnTo>
                      <a:pt x="268" y="967"/>
                    </a:lnTo>
                    <a:lnTo>
                      <a:pt x="273" y="1050"/>
                    </a:lnTo>
                    <a:lnTo>
                      <a:pt x="276" y="1134"/>
                    </a:lnTo>
                    <a:lnTo>
                      <a:pt x="278" y="1218"/>
                    </a:lnTo>
                    <a:lnTo>
                      <a:pt x="279" y="1302"/>
                    </a:lnTo>
                    <a:lnTo>
                      <a:pt x="279" y="1356"/>
                    </a:lnTo>
                    <a:lnTo>
                      <a:pt x="278" y="1410"/>
                    </a:lnTo>
                    <a:lnTo>
                      <a:pt x="276" y="1463"/>
                    </a:lnTo>
                    <a:lnTo>
                      <a:pt x="274" y="1517"/>
                    </a:lnTo>
                    <a:lnTo>
                      <a:pt x="272" y="1571"/>
                    </a:lnTo>
                    <a:lnTo>
                      <a:pt x="269" y="1624"/>
                    </a:lnTo>
                    <a:lnTo>
                      <a:pt x="265" y="1678"/>
                    </a:lnTo>
                    <a:lnTo>
                      <a:pt x="261" y="1730"/>
                    </a:lnTo>
                    <a:lnTo>
                      <a:pt x="256" y="1784"/>
                    </a:lnTo>
                    <a:lnTo>
                      <a:pt x="251" y="1836"/>
                    </a:lnTo>
                    <a:lnTo>
                      <a:pt x="245" y="1889"/>
                    </a:lnTo>
                    <a:lnTo>
                      <a:pt x="238" y="1941"/>
                    </a:lnTo>
                    <a:lnTo>
                      <a:pt x="231" y="1994"/>
                    </a:lnTo>
                    <a:lnTo>
                      <a:pt x="224" y="2045"/>
                    </a:lnTo>
                    <a:lnTo>
                      <a:pt x="215" y="2098"/>
                    </a:lnTo>
                    <a:lnTo>
                      <a:pt x="207" y="2149"/>
                    </a:lnTo>
                    <a:lnTo>
                      <a:pt x="199" y="2200"/>
                    </a:lnTo>
                    <a:lnTo>
                      <a:pt x="188" y="2252"/>
                    </a:lnTo>
                    <a:lnTo>
                      <a:pt x="179" y="2303"/>
                    </a:lnTo>
                    <a:lnTo>
                      <a:pt x="168" y="2354"/>
                    </a:lnTo>
                    <a:lnTo>
                      <a:pt x="156" y="2405"/>
                    </a:lnTo>
                    <a:lnTo>
                      <a:pt x="145" y="2456"/>
                    </a:lnTo>
                    <a:lnTo>
                      <a:pt x="132" y="2506"/>
                    </a:lnTo>
                    <a:lnTo>
                      <a:pt x="120" y="2555"/>
                    </a:lnTo>
                    <a:lnTo>
                      <a:pt x="106" y="2606"/>
                    </a:lnTo>
                    <a:lnTo>
                      <a:pt x="92" y="2655"/>
                    </a:lnTo>
                    <a:lnTo>
                      <a:pt x="79" y="2705"/>
                    </a:lnTo>
                    <a:lnTo>
                      <a:pt x="64" y="2755"/>
                    </a:lnTo>
                    <a:lnTo>
                      <a:pt x="48" y="2803"/>
                    </a:lnTo>
                    <a:lnTo>
                      <a:pt x="32" y="2852"/>
                    </a:lnTo>
                    <a:lnTo>
                      <a:pt x="17" y="2901"/>
                    </a:lnTo>
                    <a:lnTo>
                      <a:pt x="0" y="2949"/>
                    </a:lnTo>
                    <a:lnTo>
                      <a:pt x="71" y="2938"/>
                    </a:lnTo>
                    <a:lnTo>
                      <a:pt x="77" y="2936"/>
                    </a:lnTo>
                    <a:lnTo>
                      <a:pt x="109" y="2841"/>
                    </a:lnTo>
                    <a:lnTo>
                      <a:pt x="139" y="2743"/>
                    </a:lnTo>
                    <a:lnTo>
                      <a:pt x="167" y="2645"/>
                    </a:lnTo>
                    <a:lnTo>
                      <a:pt x="193" y="2546"/>
                    </a:lnTo>
                    <a:lnTo>
                      <a:pt x="206" y="2495"/>
                    </a:lnTo>
                    <a:lnTo>
                      <a:pt x="217" y="2446"/>
                    </a:lnTo>
                    <a:lnTo>
                      <a:pt x="229" y="2396"/>
                    </a:lnTo>
                    <a:lnTo>
                      <a:pt x="240" y="2345"/>
                    </a:lnTo>
                    <a:lnTo>
                      <a:pt x="250" y="2295"/>
                    </a:lnTo>
                    <a:lnTo>
                      <a:pt x="261" y="2243"/>
                    </a:lnTo>
                    <a:lnTo>
                      <a:pt x="270" y="2193"/>
                    </a:lnTo>
                    <a:lnTo>
                      <a:pt x="278" y="2142"/>
                    </a:lnTo>
                    <a:lnTo>
                      <a:pt x="287" y="2090"/>
                    </a:lnTo>
                    <a:lnTo>
                      <a:pt x="294" y="2039"/>
                    </a:lnTo>
                    <a:lnTo>
                      <a:pt x="302" y="1987"/>
                    </a:lnTo>
                    <a:lnTo>
                      <a:pt x="309" y="1936"/>
                    </a:lnTo>
                    <a:lnTo>
                      <a:pt x="315" y="1883"/>
                    </a:lnTo>
                    <a:lnTo>
                      <a:pt x="320" y="1832"/>
                    </a:lnTo>
                    <a:lnTo>
                      <a:pt x="326" y="1779"/>
                    </a:lnTo>
                    <a:lnTo>
                      <a:pt x="331" y="1727"/>
                    </a:lnTo>
                    <a:lnTo>
                      <a:pt x="334" y="1674"/>
                    </a:lnTo>
                    <a:lnTo>
                      <a:pt x="338" y="1622"/>
                    </a:lnTo>
                    <a:lnTo>
                      <a:pt x="341" y="1568"/>
                    </a:lnTo>
                    <a:lnTo>
                      <a:pt x="344" y="1516"/>
                    </a:lnTo>
                    <a:lnTo>
                      <a:pt x="346" y="1462"/>
                    </a:lnTo>
                    <a:lnTo>
                      <a:pt x="347" y="1409"/>
                    </a:lnTo>
                    <a:lnTo>
                      <a:pt x="348" y="1355"/>
                    </a:lnTo>
                    <a:lnTo>
                      <a:pt x="348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54480" y="2579760"/>
                <a:ext cx="111240" cy="938160"/>
              </a:xfrm>
              <a:custGeom>
                <a:avLst/>
                <a:gdLst/>
                <a:ahLst/>
                <a:rect l="l" t="t" r="r" b="b"/>
                <a:pathLst>
                  <a:path w="353" h="2955">
                    <a:moveTo>
                      <a:pt x="353" y="1302"/>
                    </a:moveTo>
                    <a:lnTo>
                      <a:pt x="352" y="1218"/>
                    </a:lnTo>
                    <a:lnTo>
                      <a:pt x="350" y="1134"/>
                    </a:lnTo>
                    <a:lnTo>
                      <a:pt x="347" y="1051"/>
                    </a:lnTo>
                    <a:lnTo>
                      <a:pt x="342" y="967"/>
                    </a:lnTo>
                    <a:lnTo>
                      <a:pt x="335" y="884"/>
                    </a:lnTo>
                    <a:lnTo>
                      <a:pt x="328" y="802"/>
                    </a:lnTo>
                    <a:lnTo>
                      <a:pt x="320" y="720"/>
                    </a:lnTo>
                    <a:lnTo>
                      <a:pt x="309" y="638"/>
                    </a:lnTo>
                    <a:lnTo>
                      <a:pt x="297" y="557"/>
                    </a:lnTo>
                    <a:lnTo>
                      <a:pt x="285" y="476"/>
                    </a:lnTo>
                    <a:lnTo>
                      <a:pt x="270" y="395"/>
                    </a:lnTo>
                    <a:lnTo>
                      <a:pt x="255" y="316"/>
                    </a:lnTo>
                    <a:lnTo>
                      <a:pt x="239" y="236"/>
                    </a:lnTo>
                    <a:lnTo>
                      <a:pt x="221" y="157"/>
                    </a:lnTo>
                    <a:lnTo>
                      <a:pt x="202" y="78"/>
                    </a:lnTo>
                    <a:lnTo>
                      <a:pt x="182" y="0"/>
                    </a:lnTo>
                    <a:lnTo>
                      <a:pt x="138" y="0"/>
                    </a:lnTo>
                    <a:lnTo>
                      <a:pt x="113" y="12"/>
                    </a:lnTo>
                    <a:lnTo>
                      <a:pt x="133" y="90"/>
                    </a:lnTo>
                    <a:lnTo>
                      <a:pt x="152" y="168"/>
                    </a:lnTo>
                    <a:lnTo>
                      <a:pt x="170" y="245"/>
                    </a:lnTo>
                    <a:lnTo>
                      <a:pt x="187" y="324"/>
                    </a:lnTo>
                    <a:lnTo>
                      <a:pt x="202" y="404"/>
                    </a:lnTo>
                    <a:lnTo>
                      <a:pt x="216" y="484"/>
                    </a:lnTo>
                    <a:lnTo>
                      <a:pt x="229" y="563"/>
                    </a:lnTo>
                    <a:lnTo>
                      <a:pt x="241" y="644"/>
                    </a:lnTo>
                    <a:lnTo>
                      <a:pt x="250" y="725"/>
                    </a:lnTo>
                    <a:lnTo>
                      <a:pt x="260" y="806"/>
                    </a:lnTo>
                    <a:lnTo>
                      <a:pt x="267" y="888"/>
                    </a:lnTo>
                    <a:lnTo>
                      <a:pt x="273" y="970"/>
                    </a:lnTo>
                    <a:lnTo>
                      <a:pt x="277" y="1053"/>
                    </a:lnTo>
                    <a:lnTo>
                      <a:pt x="281" y="1136"/>
                    </a:lnTo>
                    <a:lnTo>
                      <a:pt x="283" y="1219"/>
                    </a:lnTo>
                    <a:lnTo>
                      <a:pt x="284" y="1302"/>
                    </a:lnTo>
                    <a:lnTo>
                      <a:pt x="284" y="1356"/>
                    </a:lnTo>
                    <a:lnTo>
                      <a:pt x="283" y="1411"/>
                    </a:lnTo>
                    <a:lnTo>
                      <a:pt x="282" y="1464"/>
                    </a:lnTo>
                    <a:lnTo>
                      <a:pt x="280" y="1518"/>
                    </a:lnTo>
                    <a:lnTo>
                      <a:pt x="276" y="1573"/>
                    </a:lnTo>
                    <a:lnTo>
                      <a:pt x="273" y="1626"/>
                    </a:lnTo>
                    <a:lnTo>
                      <a:pt x="270" y="1680"/>
                    </a:lnTo>
                    <a:lnTo>
                      <a:pt x="265" y="1732"/>
                    </a:lnTo>
                    <a:lnTo>
                      <a:pt x="261" y="1786"/>
                    </a:lnTo>
                    <a:lnTo>
                      <a:pt x="255" y="1838"/>
                    </a:lnTo>
                    <a:lnTo>
                      <a:pt x="249" y="1892"/>
                    </a:lnTo>
                    <a:lnTo>
                      <a:pt x="243" y="1944"/>
                    </a:lnTo>
                    <a:lnTo>
                      <a:pt x="235" y="1997"/>
                    </a:lnTo>
                    <a:lnTo>
                      <a:pt x="228" y="2048"/>
                    </a:lnTo>
                    <a:lnTo>
                      <a:pt x="220" y="2101"/>
                    </a:lnTo>
                    <a:lnTo>
                      <a:pt x="211" y="2152"/>
                    </a:lnTo>
                    <a:lnTo>
                      <a:pt x="202" y="2205"/>
                    </a:lnTo>
                    <a:lnTo>
                      <a:pt x="191" y="2256"/>
                    </a:lnTo>
                    <a:lnTo>
                      <a:pt x="182" y="2308"/>
                    </a:lnTo>
                    <a:lnTo>
                      <a:pt x="170" y="2358"/>
                    </a:lnTo>
                    <a:lnTo>
                      <a:pt x="159" y="2409"/>
                    </a:lnTo>
                    <a:lnTo>
                      <a:pt x="147" y="2460"/>
                    </a:lnTo>
                    <a:lnTo>
                      <a:pt x="135" y="2510"/>
                    </a:lnTo>
                    <a:lnTo>
                      <a:pt x="122" y="2561"/>
                    </a:lnTo>
                    <a:lnTo>
                      <a:pt x="108" y="2611"/>
                    </a:lnTo>
                    <a:lnTo>
                      <a:pt x="95" y="2661"/>
                    </a:lnTo>
                    <a:lnTo>
                      <a:pt x="80" y="2711"/>
                    </a:lnTo>
                    <a:lnTo>
                      <a:pt x="65" y="2760"/>
                    </a:lnTo>
                    <a:lnTo>
                      <a:pt x="49" y="2809"/>
                    </a:lnTo>
                    <a:lnTo>
                      <a:pt x="34" y="2859"/>
                    </a:lnTo>
                    <a:lnTo>
                      <a:pt x="17" y="2907"/>
                    </a:lnTo>
                    <a:lnTo>
                      <a:pt x="0" y="2955"/>
                    </a:lnTo>
                    <a:lnTo>
                      <a:pt x="78" y="2944"/>
                    </a:lnTo>
                    <a:lnTo>
                      <a:pt x="109" y="2846"/>
                    </a:lnTo>
                    <a:lnTo>
                      <a:pt x="141" y="2749"/>
                    </a:lnTo>
                    <a:lnTo>
                      <a:pt x="154" y="2699"/>
                    </a:lnTo>
                    <a:lnTo>
                      <a:pt x="169" y="2650"/>
                    </a:lnTo>
                    <a:lnTo>
                      <a:pt x="183" y="2600"/>
                    </a:lnTo>
                    <a:lnTo>
                      <a:pt x="195" y="2551"/>
                    </a:lnTo>
                    <a:lnTo>
                      <a:pt x="208" y="2501"/>
                    </a:lnTo>
                    <a:lnTo>
                      <a:pt x="220" y="2450"/>
                    </a:lnTo>
                    <a:lnTo>
                      <a:pt x="231" y="2400"/>
                    </a:lnTo>
                    <a:lnTo>
                      <a:pt x="243" y="2350"/>
                    </a:lnTo>
                    <a:lnTo>
                      <a:pt x="253" y="2299"/>
                    </a:lnTo>
                    <a:lnTo>
                      <a:pt x="264" y="2248"/>
                    </a:lnTo>
                    <a:lnTo>
                      <a:pt x="273" y="2196"/>
                    </a:lnTo>
                    <a:lnTo>
                      <a:pt x="282" y="2146"/>
                    </a:lnTo>
                    <a:lnTo>
                      <a:pt x="290" y="2094"/>
                    </a:lnTo>
                    <a:lnTo>
                      <a:pt x="298" y="2042"/>
                    </a:lnTo>
                    <a:lnTo>
                      <a:pt x="306" y="1990"/>
                    </a:lnTo>
                    <a:lnTo>
                      <a:pt x="312" y="1938"/>
                    </a:lnTo>
                    <a:lnTo>
                      <a:pt x="318" y="1886"/>
                    </a:lnTo>
                    <a:lnTo>
                      <a:pt x="325" y="1834"/>
                    </a:lnTo>
                    <a:lnTo>
                      <a:pt x="330" y="1781"/>
                    </a:lnTo>
                    <a:lnTo>
                      <a:pt x="334" y="1729"/>
                    </a:lnTo>
                    <a:lnTo>
                      <a:pt x="338" y="1675"/>
                    </a:lnTo>
                    <a:lnTo>
                      <a:pt x="343" y="1623"/>
                    </a:lnTo>
                    <a:lnTo>
                      <a:pt x="346" y="1569"/>
                    </a:lnTo>
                    <a:lnTo>
                      <a:pt x="348" y="1517"/>
                    </a:lnTo>
                    <a:lnTo>
                      <a:pt x="350" y="1463"/>
                    </a:lnTo>
                    <a:lnTo>
                      <a:pt x="352" y="1410"/>
                    </a:lnTo>
                    <a:lnTo>
                      <a:pt x="352" y="1356"/>
                    </a:lnTo>
                    <a:lnTo>
                      <a:pt x="353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141880" y="2579760"/>
                <a:ext cx="112680" cy="939600"/>
              </a:xfrm>
              <a:custGeom>
                <a:avLst/>
                <a:gdLst/>
                <a:ahLst/>
                <a:rect l="l" t="t" r="r" b="b"/>
                <a:pathLst>
                  <a:path w="357" h="2962">
                    <a:moveTo>
                      <a:pt x="357" y="1302"/>
                    </a:moveTo>
                    <a:lnTo>
                      <a:pt x="356" y="1218"/>
                    </a:lnTo>
                    <a:lnTo>
                      <a:pt x="354" y="1134"/>
                    </a:lnTo>
                    <a:lnTo>
                      <a:pt x="351" y="1050"/>
                    </a:lnTo>
                    <a:lnTo>
                      <a:pt x="346" y="967"/>
                    </a:lnTo>
                    <a:lnTo>
                      <a:pt x="340" y="884"/>
                    </a:lnTo>
                    <a:lnTo>
                      <a:pt x="332" y="802"/>
                    </a:lnTo>
                    <a:lnTo>
                      <a:pt x="324" y="720"/>
                    </a:lnTo>
                    <a:lnTo>
                      <a:pt x="313" y="638"/>
                    </a:lnTo>
                    <a:lnTo>
                      <a:pt x="302" y="556"/>
                    </a:lnTo>
                    <a:lnTo>
                      <a:pt x="289" y="475"/>
                    </a:lnTo>
                    <a:lnTo>
                      <a:pt x="274" y="395"/>
                    </a:lnTo>
                    <a:lnTo>
                      <a:pt x="259" y="316"/>
                    </a:lnTo>
                    <a:lnTo>
                      <a:pt x="242" y="236"/>
                    </a:lnTo>
                    <a:lnTo>
                      <a:pt x="224" y="157"/>
                    </a:lnTo>
                    <a:lnTo>
                      <a:pt x="205" y="78"/>
                    </a:lnTo>
                    <a:lnTo>
                      <a:pt x="185" y="0"/>
                    </a:lnTo>
                    <a:lnTo>
                      <a:pt x="177" y="0"/>
                    </a:lnTo>
                    <a:lnTo>
                      <a:pt x="122" y="27"/>
                    </a:lnTo>
                    <a:lnTo>
                      <a:pt x="121" y="27"/>
                    </a:lnTo>
                    <a:lnTo>
                      <a:pt x="141" y="104"/>
                    </a:lnTo>
                    <a:lnTo>
                      <a:pt x="160" y="180"/>
                    </a:lnTo>
                    <a:lnTo>
                      <a:pt x="177" y="258"/>
                    </a:lnTo>
                    <a:lnTo>
                      <a:pt x="193" y="336"/>
                    </a:lnTo>
                    <a:lnTo>
                      <a:pt x="208" y="414"/>
                    </a:lnTo>
                    <a:lnTo>
                      <a:pt x="222" y="493"/>
                    </a:lnTo>
                    <a:lnTo>
                      <a:pt x="234" y="572"/>
                    </a:lnTo>
                    <a:lnTo>
                      <a:pt x="246" y="652"/>
                    </a:lnTo>
                    <a:lnTo>
                      <a:pt x="255" y="731"/>
                    </a:lnTo>
                    <a:lnTo>
                      <a:pt x="264" y="812"/>
                    </a:lnTo>
                    <a:lnTo>
                      <a:pt x="271" y="893"/>
                    </a:lnTo>
                    <a:lnTo>
                      <a:pt x="278" y="974"/>
                    </a:lnTo>
                    <a:lnTo>
                      <a:pt x="283" y="1056"/>
                    </a:lnTo>
                    <a:lnTo>
                      <a:pt x="286" y="1138"/>
                    </a:lnTo>
                    <a:lnTo>
                      <a:pt x="288" y="1220"/>
                    </a:lnTo>
                    <a:lnTo>
                      <a:pt x="289" y="1302"/>
                    </a:lnTo>
                    <a:lnTo>
                      <a:pt x="288" y="1356"/>
                    </a:lnTo>
                    <a:lnTo>
                      <a:pt x="287" y="1411"/>
                    </a:lnTo>
                    <a:lnTo>
                      <a:pt x="286" y="1465"/>
                    </a:lnTo>
                    <a:lnTo>
                      <a:pt x="284" y="1519"/>
                    </a:lnTo>
                    <a:lnTo>
                      <a:pt x="281" y="1574"/>
                    </a:lnTo>
                    <a:lnTo>
                      <a:pt x="278" y="1627"/>
                    </a:lnTo>
                    <a:lnTo>
                      <a:pt x="274" y="1681"/>
                    </a:lnTo>
                    <a:lnTo>
                      <a:pt x="270" y="1734"/>
                    </a:lnTo>
                    <a:lnTo>
                      <a:pt x="265" y="1788"/>
                    </a:lnTo>
                    <a:lnTo>
                      <a:pt x="260" y="1840"/>
                    </a:lnTo>
                    <a:lnTo>
                      <a:pt x="253" y="1894"/>
                    </a:lnTo>
                    <a:lnTo>
                      <a:pt x="246" y="1946"/>
                    </a:lnTo>
                    <a:lnTo>
                      <a:pt x="240" y="1999"/>
                    </a:lnTo>
                    <a:lnTo>
                      <a:pt x="231" y="2051"/>
                    </a:lnTo>
                    <a:lnTo>
                      <a:pt x="223" y="2104"/>
                    </a:lnTo>
                    <a:lnTo>
                      <a:pt x="214" y="2156"/>
                    </a:lnTo>
                    <a:lnTo>
                      <a:pt x="205" y="2208"/>
                    </a:lnTo>
                    <a:lnTo>
                      <a:pt x="195" y="2259"/>
                    </a:lnTo>
                    <a:lnTo>
                      <a:pt x="184" y="2312"/>
                    </a:lnTo>
                    <a:lnTo>
                      <a:pt x="174" y="2362"/>
                    </a:lnTo>
                    <a:lnTo>
                      <a:pt x="162" y="2414"/>
                    </a:lnTo>
                    <a:lnTo>
                      <a:pt x="149" y="2465"/>
                    </a:lnTo>
                    <a:lnTo>
                      <a:pt x="137" y="2515"/>
                    </a:lnTo>
                    <a:lnTo>
                      <a:pt x="124" y="2566"/>
                    </a:lnTo>
                    <a:lnTo>
                      <a:pt x="110" y="2616"/>
                    </a:lnTo>
                    <a:lnTo>
                      <a:pt x="96" y="2667"/>
                    </a:lnTo>
                    <a:lnTo>
                      <a:pt x="81" y="2716"/>
                    </a:lnTo>
                    <a:lnTo>
                      <a:pt x="66" y="2765"/>
                    </a:lnTo>
                    <a:lnTo>
                      <a:pt x="51" y="2816"/>
                    </a:lnTo>
                    <a:lnTo>
                      <a:pt x="35" y="2864"/>
                    </a:lnTo>
                    <a:lnTo>
                      <a:pt x="18" y="2913"/>
                    </a:lnTo>
                    <a:lnTo>
                      <a:pt x="0" y="2962"/>
                    </a:lnTo>
                    <a:lnTo>
                      <a:pt x="78" y="2949"/>
                    </a:lnTo>
                    <a:lnTo>
                      <a:pt x="95" y="2901"/>
                    </a:lnTo>
                    <a:lnTo>
                      <a:pt x="110" y="2852"/>
                    </a:lnTo>
                    <a:lnTo>
                      <a:pt x="126" y="2803"/>
                    </a:lnTo>
                    <a:lnTo>
                      <a:pt x="142" y="2755"/>
                    </a:lnTo>
                    <a:lnTo>
                      <a:pt x="157" y="2705"/>
                    </a:lnTo>
                    <a:lnTo>
                      <a:pt x="170" y="2655"/>
                    </a:lnTo>
                    <a:lnTo>
                      <a:pt x="184" y="2606"/>
                    </a:lnTo>
                    <a:lnTo>
                      <a:pt x="198" y="2555"/>
                    </a:lnTo>
                    <a:lnTo>
                      <a:pt x="210" y="2506"/>
                    </a:lnTo>
                    <a:lnTo>
                      <a:pt x="223" y="2456"/>
                    </a:lnTo>
                    <a:lnTo>
                      <a:pt x="234" y="2405"/>
                    </a:lnTo>
                    <a:lnTo>
                      <a:pt x="246" y="2354"/>
                    </a:lnTo>
                    <a:lnTo>
                      <a:pt x="257" y="2303"/>
                    </a:lnTo>
                    <a:lnTo>
                      <a:pt x="266" y="2252"/>
                    </a:lnTo>
                    <a:lnTo>
                      <a:pt x="277" y="2200"/>
                    </a:lnTo>
                    <a:lnTo>
                      <a:pt x="285" y="2149"/>
                    </a:lnTo>
                    <a:lnTo>
                      <a:pt x="293" y="2098"/>
                    </a:lnTo>
                    <a:lnTo>
                      <a:pt x="302" y="2045"/>
                    </a:lnTo>
                    <a:lnTo>
                      <a:pt x="309" y="1994"/>
                    </a:lnTo>
                    <a:lnTo>
                      <a:pt x="316" y="1941"/>
                    </a:lnTo>
                    <a:lnTo>
                      <a:pt x="323" y="1889"/>
                    </a:lnTo>
                    <a:lnTo>
                      <a:pt x="329" y="1836"/>
                    </a:lnTo>
                    <a:lnTo>
                      <a:pt x="334" y="1784"/>
                    </a:lnTo>
                    <a:lnTo>
                      <a:pt x="339" y="1730"/>
                    </a:lnTo>
                    <a:lnTo>
                      <a:pt x="343" y="1678"/>
                    </a:lnTo>
                    <a:lnTo>
                      <a:pt x="347" y="1624"/>
                    </a:lnTo>
                    <a:lnTo>
                      <a:pt x="350" y="1571"/>
                    </a:lnTo>
                    <a:lnTo>
                      <a:pt x="352" y="1517"/>
                    </a:lnTo>
                    <a:lnTo>
                      <a:pt x="354" y="1463"/>
                    </a:lnTo>
                    <a:lnTo>
                      <a:pt x="356" y="1410"/>
                    </a:lnTo>
                    <a:lnTo>
                      <a:pt x="357" y="1356"/>
                    </a:lnTo>
                    <a:lnTo>
                      <a:pt x="357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129280" y="2583000"/>
                <a:ext cx="115920" cy="939600"/>
              </a:xfrm>
              <a:custGeom>
                <a:avLst/>
                <a:gdLst/>
                <a:ahLst/>
                <a:rect l="l" t="t" r="r" b="b"/>
                <a:pathLst>
                  <a:path w="362" h="2957">
                    <a:moveTo>
                      <a:pt x="362" y="1290"/>
                    </a:moveTo>
                    <a:lnTo>
                      <a:pt x="362" y="1207"/>
                    </a:lnTo>
                    <a:lnTo>
                      <a:pt x="360" y="1124"/>
                    </a:lnTo>
                    <a:lnTo>
                      <a:pt x="355" y="1041"/>
                    </a:lnTo>
                    <a:lnTo>
                      <a:pt x="351" y="958"/>
                    </a:lnTo>
                    <a:lnTo>
                      <a:pt x="345" y="876"/>
                    </a:lnTo>
                    <a:lnTo>
                      <a:pt x="338" y="794"/>
                    </a:lnTo>
                    <a:lnTo>
                      <a:pt x="328" y="713"/>
                    </a:lnTo>
                    <a:lnTo>
                      <a:pt x="319" y="632"/>
                    </a:lnTo>
                    <a:lnTo>
                      <a:pt x="307" y="551"/>
                    </a:lnTo>
                    <a:lnTo>
                      <a:pt x="294" y="472"/>
                    </a:lnTo>
                    <a:lnTo>
                      <a:pt x="280" y="392"/>
                    </a:lnTo>
                    <a:lnTo>
                      <a:pt x="265" y="312"/>
                    </a:lnTo>
                    <a:lnTo>
                      <a:pt x="248" y="233"/>
                    </a:lnTo>
                    <a:lnTo>
                      <a:pt x="230" y="156"/>
                    </a:lnTo>
                    <a:lnTo>
                      <a:pt x="211" y="78"/>
                    </a:lnTo>
                    <a:lnTo>
                      <a:pt x="191" y="0"/>
                    </a:lnTo>
                    <a:lnTo>
                      <a:pt x="161" y="15"/>
                    </a:lnTo>
                    <a:lnTo>
                      <a:pt x="124" y="15"/>
                    </a:lnTo>
                    <a:lnTo>
                      <a:pt x="144" y="92"/>
                    </a:lnTo>
                    <a:lnTo>
                      <a:pt x="163" y="168"/>
                    </a:lnTo>
                    <a:lnTo>
                      <a:pt x="181" y="246"/>
                    </a:lnTo>
                    <a:lnTo>
                      <a:pt x="197" y="324"/>
                    </a:lnTo>
                    <a:lnTo>
                      <a:pt x="213" y="402"/>
                    </a:lnTo>
                    <a:lnTo>
                      <a:pt x="226" y="481"/>
                    </a:lnTo>
                    <a:lnTo>
                      <a:pt x="239" y="560"/>
                    </a:lnTo>
                    <a:lnTo>
                      <a:pt x="250" y="640"/>
                    </a:lnTo>
                    <a:lnTo>
                      <a:pt x="260" y="719"/>
                    </a:lnTo>
                    <a:lnTo>
                      <a:pt x="268" y="800"/>
                    </a:lnTo>
                    <a:lnTo>
                      <a:pt x="276" y="881"/>
                    </a:lnTo>
                    <a:lnTo>
                      <a:pt x="282" y="962"/>
                    </a:lnTo>
                    <a:lnTo>
                      <a:pt x="287" y="1044"/>
                    </a:lnTo>
                    <a:lnTo>
                      <a:pt x="290" y="1125"/>
                    </a:lnTo>
                    <a:lnTo>
                      <a:pt x="292" y="1208"/>
                    </a:lnTo>
                    <a:lnTo>
                      <a:pt x="293" y="1290"/>
                    </a:lnTo>
                    <a:lnTo>
                      <a:pt x="292" y="1345"/>
                    </a:lnTo>
                    <a:lnTo>
                      <a:pt x="292" y="1400"/>
                    </a:lnTo>
                    <a:lnTo>
                      <a:pt x="290" y="1454"/>
                    </a:lnTo>
                    <a:lnTo>
                      <a:pt x="288" y="1508"/>
                    </a:lnTo>
                    <a:lnTo>
                      <a:pt x="286" y="1563"/>
                    </a:lnTo>
                    <a:lnTo>
                      <a:pt x="282" y="1616"/>
                    </a:lnTo>
                    <a:lnTo>
                      <a:pt x="279" y="1671"/>
                    </a:lnTo>
                    <a:lnTo>
                      <a:pt x="275" y="1724"/>
                    </a:lnTo>
                    <a:lnTo>
                      <a:pt x="269" y="1778"/>
                    </a:lnTo>
                    <a:lnTo>
                      <a:pt x="263" y="1831"/>
                    </a:lnTo>
                    <a:lnTo>
                      <a:pt x="257" y="1885"/>
                    </a:lnTo>
                    <a:lnTo>
                      <a:pt x="250" y="1937"/>
                    </a:lnTo>
                    <a:lnTo>
                      <a:pt x="243" y="1990"/>
                    </a:lnTo>
                    <a:lnTo>
                      <a:pt x="236" y="2044"/>
                    </a:lnTo>
                    <a:lnTo>
                      <a:pt x="227" y="2096"/>
                    </a:lnTo>
                    <a:lnTo>
                      <a:pt x="218" y="2147"/>
                    </a:lnTo>
                    <a:lnTo>
                      <a:pt x="208" y="2200"/>
                    </a:lnTo>
                    <a:lnTo>
                      <a:pt x="198" y="2252"/>
                    </a:lnTo>
                    <a:lnTo>
                      <a:pt x="187" y="2304"/>
                    </a:lnTo>
                    <a:lnTo>
                      <a:pt x="176" y="2355"/>
                    </a:lnTo>
                    <a:lnTo>
                      <a:pt x="164" y="2407"/>
                    </a:lnTo>
                    <a:lnTo>
                      <a:pt x="153" y="2458"/>
                    </a:lnTo>
                    <a:lnTo>
                      <a:pt x="139" y="2509"/>
                    </a:lnTo>
                    <a:lnTo>
                      <a:pt x="126" y="2559"/>
                    </a:lnTo>
                    <a:lnTo>
                      <a:pt x="112" y="2609"/>
                    </a:lnTo>
                    <a:lnTo>
                      <a:pt x="98" y="2660"/>
                    </a:lnTo>
                    <a:lnTo>
                      <a:pt x="83" y="2710"/>
                    </a:lnTo>
                    <a:lnTo>
                      <a:pt x="67" y="2760"/>
                    </a:lnTo>
                    <a:lnTo>
                      <a:pt x="52" y="2810"/>
                    </a:lnTo>
                    <a:lnTo>
                      <a:pt x="35" y="2859"/>
                    </a:lnTo>
                    <a:lnTo>
                      <a:pt x="18" y="2908"/>
                    </a:lnTo>
                    <a:lnTo>
                      <a:pt x="0" y="2957"/>
                    </a:lnTo>
                    <a:lnTo>
                      <a:pt x="20" y="2953"/>
                    </a:lnTo>
                    <a:lnTo>
                      <a:pt x="78" y="2943"/>
                    </a:lnTo>
                    <a:lnTo>
                      <a:pt x="95" y="2895"/>
                    </a:lnTo>
                    <a:lnTo>
                      <a:pt x="112" y="2847"/>
                    </a:lnTo>
                    <a:lnTo>
                      <a:pt x="127" y="2797"/>
                    </a:lnTo>
                    <a:lnTo>
                      <a:pt x="143" y="2748"/>
                    </a:lnTo>
                    <a:lnTo>
                      <a:pt x="158" y="2699"/>
                    </a:lnTo>
                    <a:lnTo>
                      <a:pt x="173" y="2649"/>
                    </a:lnTo>
                    <a:lnTo>
                      <a:pt x="186" y="2599"/>
                    </a:lnTo>
                    <a:lnTo>
                      <a:pt x="200" y="2549"/>
                    </a:lnTo>
                    <a:lnTo>
                      <a:pt x="213" y="2498"/>
                    </a:lnTo>
                    <a:lnTo>
                      <a:pt x="225" y="2448"/>
                    </a:lnTo>
                    <a:lnTo>
                      <a:pt x="237" y="2397"/>
                    </a:lnTo>
                    <a:lnTo>
                      <a:pt x="248" y="2346"/>
                    </a:lnTo>
                    <a:lnTo>
                      <a:pt x="260" y="2296"/>
                    </a:lnTo>
                    <a:lnTo>
                      <a:pt x="269" y="2244"/>
                    </a:lnTo>
                    <a:lnTo>
                      <a:pt x="280" y="2193"/>
                    </a:lnTo>
                    <a:lnTo>
                      <a:pt x="289" y="2140"/>
                    </a:lnTo>
                    <a:lnTo>
                      <a:pt x="298" y="2089"/>
                    </a:lnTo>
                    <a:lnTo>
                      <a:pt x="306" y="2036"/>
                    </a:lnTo>
                    <a:lnTo>
                      <a:pt x="313" y="1985"/>
                    </a:lnTo>
                    <a:lnTo>
                      <a:pt x="321" y="1932"/>
                    </a:lnTo>
                    <a:lnTo>
                      <a:pt x="327" y="1880"/>
                    </a:lnTo>
                    <a:lnTo>
                      <a:pt x="333" y="1826"/>
                    </a:lnTo>
                    <a:lnTo>
                      <a:pt x="339" y="1774"/>
                    </a:lnTo>
                    <a:lnTo>
                      <a:pt x="344" y="1720"/>
                    </a:lnTo>
                    <a:lnTo>
                      <a:pt x="348" y="1668"/>
                    </a:lnTo>
                    <a:lnTo>
                      <a:pt x="351" y="1614"/>
                    </a:lnTo>
                    <a:lnTo>
                      <a:pt x="354" y="1561"/>
                    </a:lnTo>
                    <a:lnTo>
                      <a:pt x="358" y="1506"/>
                    </a:lnTo>
                    <a:lnTo>
                      <a:pt x="360" y="1452"/>
                    </a:lnTo>
                    <a:lnTo>
                      <a:pt x="361" y="1399"/>
                    </a:lnTo>
                    <a:lnTo>
                      <a:pt x="362" y="1344"/>
                    </a:lnTo>
                    <a:lnTo>
                      <a:pt x="362" y="129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6680" y="2587680"/>
                <a:ext cx="117360" cy="936720"/>
              </a:xfrm>
              <a:custGeom>
                <a:avLst/>
                <a:gdLst/>
                <a:ahLst/>
                <a:rect l="l" t="t" r="r" b="b"/>
                <a:pathLst>
                  <a:path w="366" h="2949">
                    <a:moveTo>
                      <a:pt x="366" y="1275"/>
                    </a:moveTo>
                    <a:lnTo>
                      <a:pt x="366" y="1193"/>
                    </a:lnTo>
                    <a:lnTo>
                      <a:pt x="364" y="1111"/>
                    </a:lnTo>
                    <a:lnTo>
                      <a:pt x="361" y="1029"/>
                    </a:lnTo>
                    <a:lnTo>
                      <a:pt x="356" y="947"/>
                    </a:lnTo>
                    <a:lnTo>
                      <a:pt x="349" y="866"/>
                    </a:lnTo>
                    <a:lnTo>
                      <a:pt x="342" y="785"/>
                    </a:lnTo>
                    <a:lnTo>
                      <a:pt x="333" y="704"/>
                    </a:lnTo>
                    <a:lnTo>
                      <a:pt x="324" y="625"/>
                    </a:lnTo>
                    <a:lnTo>
                      <a:pt x="312" y="545"/>
                    </a:lnTo>
                    <a:lnTo>
                      <a:pt x="300" y="466"/>
                    </a:lnTo>
                    <a:lnTo>
                      <a:pt x="286" y="387"/>
                    </a:lnTo>
                    <a:lnTo>
                      <a:pt x="271" y="309"/>
                    </a:lnTo>
                    <a:lnTo>
                      <a:pt x="255" y="231"/>
                    </a:lnTo>
                    <a:lnTo>
                      <a:pt x="238" y="153"/>
                    </a:lnTo>
                    <a:lnTo>
                      <a:pt x="219" y="77"/>
                    </a:lnTo>
                    <a:lnTo>
                      <a:pt x="199" y="0"/>
                    </a:lnTo>
                    <a:lnTo>
                      <a:pt x="127" y="0"/>
                    </a:lnTo>
                    <a:lnTo>
                      <a:pt x="147" y="77"/>
                    </a:lnTo>
                    <a:lnTo>
                      <a:pt x="166" y="153"/>
                    </a:lnTo>
                    <a:lnTo>
                      <a:pt x="184" y="231"/>
                    </a:lnTo>
                    <a:lnTo>
                      <a:pt x="201" y="309"/>
                    </a:lnTo>
                    <a:lnTo>
                      <a:pt x="216" y="387"/>
                    </a:lnTo>
                    <a:lnTo>
                      <a:pt x="230" y="466"/>
                    </a:lnTo>
                    <a:lnTo>
                      <a:pt x="243" y="545"/>
                    </a:lnTo>
                    <a:lnTo>
                      <a:pt x="255" y="625"/>
                    </a:lnTo>
                    <a:lnTo>
                      <a:pt x="264" y="704"/>
                    </a:lnTo>
                    <a:lnTo>
                      <a:pt x="273" y="785"/>
                    </a:lnTo>
                    <a:lnTo>
                      <a:pt x="281" y="865"/>
                    </a:lnTo>
                    <a:lnTo>
                      <a:pt x="286" y="947"/>
                    </a:lnTo>
                    <a:lnTo>
                      <a:pt x="291" y="1028"/>
                    </a:lnTo>
                    <a:lnTo>
                      <a:pt x="295" y="1110"/>
                    </a:lnTo>
                    <a:lnTo>
                      <a:pt x="297" y="1193"/>
                    </a:lnTo>
                    <a:lnTo>
                      <a:pt x="298" y="1275"/>
                    </a:lnTo>
                    <a:lnTo>
                      <a:pt x="298" y="1330"/>
                    </a:lnTo>
                    <a:lnTo>
                      <a:pt x="297" y="1385"/>
                    </a:lnTo>
                    <a:lnTo>
                      <a:pt x="295" y="1439"/>
                    </a:lnTo>
                    <a:lnTo>
                      <a:pt x="292" y="1494"/>
                    </a:lnTo>
                    <a:lnTo>
                      <a:pt x="290" y="1549"/>
                    </a:lnTo>
                    <a:lnTo>
                      <a:pt x="286" y="1603"/>
                    </a:lnTo>
                    <a:lnTo>
                      <a:pt x="283" y="1658"/>
                    </a:lnTo>
                    <a:lnTo>
                      <a:pt x="278" y="1711"/>
                    </a:lnTo>
                    <a:lnTo>
                      <a:pt x="274" y="1765"/>
                    </a:lnTo>
                    <a:lnTo>
                      <a:pt x="267" y="1820"/>
                    </a:lnTo>
                    <a:lnTo>
                      <a:pt x="261" y="1872"/>
                    </a:lnTo>
                    <a:lnTo>
                      <a:pt x="255" y="1926"/>
                    </a:lnTo>
                    <a:lnTo>
                      <a:pt x="246" y="1979"/>
                    </a:lnTo>
                    <a:lnTo>
                      <a:pt x="239" y="2032"/>
                    </a:lnTo>
                    <a:lnTo>
                      <a:pt x="230" y="2085"/>
                    </a:lnTo>
                    <a:lnTo>
                      <a:pt x="221" y="2138"/>
                    </a:lnTo>
                    <a:lnTo>
                      <a:pt x="212" y="2190"/>
                    </a:lnTo>
                    <a:lnTo>
                      <a:pt x="201" y="2242"/>
                    </a:lnTo>
                    <a:lnTo>
                      <a:pt x="191" y="2294"/>
                    </a:lnTo>
                    <a:lnTo>
                      <a:pt x="179" y="2346"/>
                    </a:lnTo>
                    <a:lnTo>
                      <a:pt x="166" y="2397"/>
                    </a:lnTo>
                    <a:lnTo>
                      <a:pt x="154" y="2449"/>
                    </a:lnTo>
                    <a:lnTo>
                      <a:pt x="141" y="2500"/>
                    </a:lnTo>
                    <a:lnTo>
                      <a:pt x="127" y="2550"/>
                    </a:lnTo>
                    <a:lnTo>
                      <a:pt x="114" y="2601"/>
                    </a:lnTo>
                    <a:lnTo>
                      <a:pt x="99" y="2651"/>
                    </a:lnTo>
                    <a:lnTo>
                      <a:pt x="83" y="2702"/>
                    </a:lnTo>
                    <a:lnTo>
                      <a:pt x="68" y="2752"/>
                    </a:lnTo>
                    <a:lnTo>
                      <a:pt x="52" y="2801"/>
                    </a:lnTo>
                    <a:lnTo>
                      <a:pt x="35" y="2852"/>
                    </a:lnTo>
                    <a:lnTo>
                      <a:pt x="18" y="2900"/>
                    </a:lnTo>
                    <a:lnTo>
                      <a:pt x="0" y="2949"/>
                    </a:lnTo>
                    <a:lnTo>
                      <a:pt x="59" y="2938"/>
                    </a:lnTo>
                    <a:lnTo>
                      <a:pt x="78" y="2935"/>
                    </a:lnTo>
                    <a:lnTo>
                      <a:pt x="96" y="2886"/>
                    </a:lnTo>
                    <a:lnTo>
                      <a:pt x="113" y="2837"/>
                    </a:lnTo>
                    <a:lnTo>
                      <a:pt x="129" y="2789"/>
                    </a:lnTo>
                    <a:lnTo>
                      <a:pt x="144" y="2738"/>
                    </a:lnTo>
                    <a:lnTo>
                      <a:pt x="159" y="2689"/>
                    </a:lnTo>
                    <a:lnTo>
                      <a:pt x="174" y="2640"/>
                    </a:lnTo>
                    <a:lnTo>
                      <a:pt x="188" y="2589"/>
                    </a:lnTo>
                    <a:lnTo>
                      <a:pt x="202" y="2539"/>
                    </a:lnTo>
                    <a:lnTo>
                      <a:pt x="215" y="2488"/>
                    </a:lnTo>
                    <a:lnTo>
                      <a:pt x="227" y="2438"/>
                    </a:lnTo>
                    <a:lnTo>
                      <a:pt x="240" y="2387"/>
                    </a:lnTo>
                    <a:lnTo>
                      <a:pt x="252" y="2335"/>
                    </a:lnTo>
                    <a:lnTo>
                      <a:pt x="262" y="2285"/>
                    </a:lnTo>
                    <a:lnTo>
                      <a:pt x="273" y="2232"/>
                    </a:lnTo>
                    <a:lnTo>
                      <a:pt x="283" y="2181"/>
                    </a:lnTo>
                    <a:lnTo>
                      <a:pt x="292" y="2129"/>
                    </a:lnTo>
                    <a:lnTo>
                      <a:pt x="301" y="2077"/>
                    </a:lnTo>
                    <a:lnTo>
                      <a:pt x="309" y="2024"/>
                    </a:lnTo>
                    <a:lnTo>
                      <a:pt x="318" y="1972"/>
                    </a:lnTo>
                    <a:lnTo>
                      <a:pt x="324" y="1919"/>
                    </a:lnTo>
                    <a:lnTo>
                      <a:pt x="331" y="1867"/>
                    </a:lnTo>
                    <a:lnTo>
                      <a:pt x="338" y="1813"/>
                    </a:lnTo>
                    <a:lnTo>
                      <a:pt x="343" y="1761"/>
                    </a:lnTo>
                    <a:lnTo>
                      <a:pt x="348" y="1707"/>
                    </a:lnTo>
                    <a:lnTo>
                      <a:pt x="352" y="1654"/>
                    </a:lnTo>
                    <a:lnTo>
                      <a:pt x="356" y="1600"/>
                    </a:lnTo>
                    <a:lnTo>
                      <a:pt x="359" y="1547"/>
                    </a:lnTo>
                    <a:lnTo>
                      <a:pt x="362" y="1492"/>
                    </a:lnTo>
                    <a:lnTo>
                      <a:pt x="364" y="1438"/>
                    </a:lnTo>
                    <a:lnTo>
                      <a:pt x="365" y="1384"/>
                    </a:lnTo>
                    <a:lnTo>
                      <a:pt x="366" y="1329"/>
                    </a:lnTo>
                    <a:lnTo>
                      <a:pt x="366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103720" y="2587680"/>
                <a:ext cx="119160" cy="939600"/>
              </a:xfrm>
              <a:custGeom>
                <a:avLst/>
                <a:gdLst/>
                <a:ahLst/>
                <a:rect l="l" t="t" r="r" b="b"/>
                <a:pathLst>
                  <a:path w="372" h="2957">
                    <a:moveTo>
                      <a:pt x="372" y="1275"/>
                    </a:moveTo>
                    <a:lnTo>
                      <a:pt x="371" y="1193"/>
                    </a:lnTo>
                    <a:lnTo>
                      <a:pt x="369" y="1110"/>
                    </a:lnTo>
                    <a:lnTo>
                      <a:pt x="366" y="1029"/>
                    </a:lnTo>
                    <a:lnTo>
                      <a:pt x="361" y="947"/>
                    </a:lnTo>
                    <a:lnTo>
                      <a:pt x="355" y="866"/>
                    </a:lnTo>
                    <a:lnTo>
                      <a:pt x="347" y="785"/>
                    </a:lnTo>
                    <a:lnTo>
                      <a:pt x="339" y="704"/>
                    </a:lnTo>
                    <a:lnTo>
                      <a:pt x="329" y="625"/>
                    </a:lnTo>
                    <a:lnTo>
                      <a:pt x="318" y="545"/>
                    </a:lnTo>
                    <a:lnTo>
                      <a:pt x="305" y="466"/>
                    </a:lnTo>
                    <a:lnTo>
                      <a:pt x="292" y="387"/>
                    </a:lnTo>
                    <a:lnTo>
                      <a:pt x="276" y="309"/>
                    </a:lnTo>
                    <a:lnTo>
                      <a:pt x="260" y="231"/>
                    </a:lnTo>
                    <a:lnTo>
                      <a:pt x="242" y="153"/>
                    </a:lnTo>
                    <a:lnTo>
                      <a:pt x="223" y="77"/>
                    </a:lnTo>
                    <a:lnTo>
                      <a:pt x="203" y="0"/>
                    </a:lnTo>
                    <a:lnTo>
                      <a:pt x="154" y="0"/>
                    </a:lnTo>
                    <a:lnTo>
                      <a:pt x="132" y="0"/>
                    </a:lnTo>
                    <a:lnTo>
                      <a:pt x="152" y="77"/>
                    </a:lnTo>
                    <a:lnTo>
                      <a:pt x="172" y="153"/>
                    </a:lnTo>
                    <a:lnTo>
                      <a:pt x="190" y="231"/>
                    </a:lnTo>
                    <a:lnTo>
                      <a:pt x="205" y="309"/>
                    </a:lnTo>
                    <a:lnTo>
                      <a:pt x="221" y="387"/>
                    </a:lnTo>
                    <a:lnTo>
                      <a:pt x="235" y="466"/>
                    </a:lnTo>
                    <a:lnTo>
                      <a:pt x="247" y="545"/>
                    </a:lnTo>
                    <a:lnTo>
                      <a:pt x="259" y="625"/>
                    </a:lnTo>
                    <a:lnTo>
                      <a:pt x="269" y="704"/>
                    </a:lnTo>
                    <a:lnTo>
                      <a:pt x="279" y="784"/>
                    </a:lnTo>
                    <a:lnTo>
                      <a:pt x="286" y="865"/>
                    </a:lnTo>
                    <a:lnTo>
                      <a:pt x="293" y="947"/>
                    </a:lnTo>
                    <a:lnTo>
                      <a:pt x="297" y="1028"/>
                    </a:lnTo>
                    <a:lnTo>
                      <a:pt x="301" y="1110"/>
                    </a:lnTo>
                    <a:lnTo>
                      <a:pt x="303" y="1193"/>
                    </a:lnTo>
                    <a:lnTo>
                      <a:pt x="303" y="1275"/>
                    </a:lnTo>
                    <a:lnTo>
                      <a:pt x="303" y="1330"/>
                    </a:lnTo>
                    <a:lnTo>
                      <a:pt x="302" y="1386"/>
                    </a:lnTo>
                    <a:lnTo>
                      <a:pt x="301" y="1441"/>
                    </a:lnTo>
                    <a:lnTo>
                      <a:pt x="298" y="1496"/>
                    </a:lnTo>
                    <a:lnTo>
                      <a:pt x="296" y="1551"/>
                    </a:lnTo>
                    <a:lnTo>
                      <a:pt x="293" y="1605"/>
                    </a:lnTo>
                    <a:lnTo>
                      <a:pt x="288" y="1660"/>
                    </a:lnTo>
                    <a:lnTo>
                      <a:pt x="283" y="1714"/>
                    </a:lnTo>
                    <a:lnTo>
                      <a:pt x="278" y="1768"/>
                    </a:lnTo>
                    <a:lnTo>
                      <a:pt x="273" y="1822"/>
                    </a:lnTo>
                    <a:lnTo>
                      <a:pt x="266" y="1875"/>
                    </a:lnTo>
                    <a:lnTo>
                      <a:pt x="259" y="1929"/>
                    </a:lnTo>
                    <a:lnTo>
                      <a:pt x="252" y="1982"/>
                    </a:lnTo>
                    <a:lnTo>
                      <a:pt x="243" y="2036"/>
                    </a:lnTo>
                    <a:lnTo>
                      <a:pt x="235" y="2088"/>
                    </a:lnTo>
                    <a:lnTo>
                      <a:pt x="225" y="2142"/>
                    </a:lnTo>
                    <a:lnTo>
                      <a:pt x="216" y="2194"/>
                    </a:lnTo>
                    <a:lnTo>
                      <a:pt x="205" y="2247"/>
                    </a:lnTo>
                    <a:lnTo>
                      <a:pt x="194" y="2298"/>
                    </a:lnTo>
                    <a:lnTo>
                      <a:pt x="182" y="2351"/>
                    </a:lnTo>
                    <a:lnTo>
                      <a:pt x="170" y="2402"/>
                    </a:lnTo>
                    <a:lnTo>
                      <a:pt x="157" y="2454"/>
                    </a:lnTo>
                    <a:lnTo>
                      <a:pt x="144" y="2505"/>
                    </a:lnTo>
                    <a:lnTo>
                      <a:pt x="131" y="2557"/>
                    </a:lnTo>
                    <a:lnTo>
                      <a:pt x="116" y="2607"/>
                    </a:lnTo>
                    <a:lnTo>
                      <a:pt x="101" y="2659"/>
                    </a:lnTo>
                    <a:lnTo>
                      <a:pt x="85" y="2709"/>
                    </a:lnTo>
                    <a:lnTo>
                      <a:pt x="70" y="2759"/>
                    </a:lnTo>
                    <a:lnTo>
                      <a:pt x="53" y="2809"/>
                    </a:lnTo>
                    <a:lnTo>
                      <a:pt x="36" y="2858"/>
                    </a:lnTo>
                    <a:lnTo>
                      <a:pt x="18" y="2908"/>
                    </a:lnTo>
                    <a:lnTo>
                      <a:pt x="0" y="2957"/>
                    </a:lnTo>
                    <a:lnTo>
                      <a:pt x="79" y="2942"/>
                    </a:lnTo>
                    <a:lnTo>
                      <a:pt x="97" y="2893"/>
                    </a:lnTo>
                    <a:lnTo>
                      <a:pt x="114" y="2844"/>
                    </a:lnTo>
                    <a:lnTo>
                      <a:pt x="131" y="2795"/>
                    </a:lnTo>
                    <a:lnTo>
                      <a:pt x="146" y="2745"/>
                    </a:lnTo>
                    <a:lnTo>
                      <a:pt x="162" y="2695"/>
                    </a:lnTo>
                    <a:lnTo>
                      <a:pt x="177" y="2645"/>
                    </a:lnTo>
                    <a:lnTo>
                      <a:pt x="191" y="2594"/>
                    </a:lnTo>
                    <a:lnTo>
                      <a:pt x="205" y="2544"/>
                    </a:lnTo>
                    <a:lnTo>
                      <a:pt x="218" y="2494"/>
                    </a:lnTo>
                    <a:lnTo>
                      <a:pt x="232" y="2443"/>
                    </a:lnTo>
                    <a:lnTo>
                      <a:pt x="243" y="2392"/>
                    </a:lnTo>
                    <a:lnTo>
                      <a:pt x="255" y="2340"/>
                    </a:lnTo>
                    <a:lnTo>
                      <a:pt x="266" y="2289"/>
                    </a:lnTo>
                    <a:lnTo>
                      <a:pt x="277" y="2237"/>
                    </a:lnTo>
                    <a:lnTo>
                      <a:pt x="287" y="2185"/>
                    </a:lnTo>
                    <a:lnTo>
                      <a:pt x="297" y="2132"/>
                    </a:lnTo>
                    <a:lnTo>
                      <a:pt x="306" y="2081"/>
                    </a:lnTo>
                    <a:lnTo>
                      <a:pt x="315" y="2029"/>
                    </a:lnTo>
                    <a:lnTo>
                      <a:pt x="322" y="1975"/>
                    </a:lnTo>
                    <a:lnTo>
                      <a:pt x="329" y="1922"/>
                    </a:lnTo>
                    <a:lnTo>
                      <a:pt x="336" y="1870"/>
                    </a:lnTo>
                    <a:lnTo>
                      <a:pt x="342" y="1816"/>
                    </a:lnTo>
                    <a:lnTo>
                      <a:pt x="348" y="1763"/>
                    </a:lnTo>
                    <a:lnTo>
                      <a:pt x="354" y="1709"/>
                    </a:lnTo>
                    <a:lnTo>
                      <a:pt x="358" y="1656"/>
                    </a:lnTo>
                    <a:lnTo>
                      <a:pt x="361" y="1601"/>
                    </a:lnTo>
                    <a:lnTo>
                      <a:pt x="365" y="1548"/>
                    </a:lnTo>
                    <a:lnTo>
                      <a:pt x="367" y="1493"/>
                    </a:lnTo>
                    <a:lnTo>
                      <a:pt x="369" y="1439"/>
                    </a:lnTo>
                    <a:lnTo>
                      <a:pt x="371" y="1385"/>
                    </a:lnTo>
                    <a:lnTo>
                      <a:pt x="371" y="1330"/>
                    </a:lnTo>
                    <a:lnTo>
                      <a:pt x="372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91120" y="2587680"/>
                <a:ext cx="120600" cy="941400"/>
              </a:xfrm>
              <a:custGeom>
                <a:avLst/>
                <a:gdLst/>
                <a:ahLst/>
                <a:rect l="l" t="t" r="r" b="b"/>
                <a:pathLst>
                  <a:path w="378" h="2965">
                    <a:moveTo>
                      <a:pt x="378" y="1275"/>
                    </a:moveTo>
                    <a:lnTo>
                      <a:pt x="377" y="1193"/>
                    </a:lnTo>
                    <a:lnTo>
                      <a:pt x="375" y="1110"/>
                    </a:lnTo>
                    <a:lnTo>
                      <a:pt x="371" y="1028"/>
                    </a:lnTo>
                    <a:lnTo>
                      <a:pt x="366" y="947"/>
                    </a:lnTo>
                    <a:lnTo>
                      <a:pt x="361" y="865"/>
                    </a:lnTo>
                    <a:lnTo>
                      <a:pt x="353" y="785"/>
                    </a:lnTo>
                    <a:lnTo>
                      <a:pt x="344" y="704"/>
                    </a:lnTo>
                    <a:lnTo>
                      <a:pt x="335" y="625"/>
                    </a:lnTo>
                    <a:lnTo>
                      <a:pt x="323" y="545"/>
                    </a:lnTo>
                    <a:lnTo>
                      <a:pt x="310" y="466"/>
                    </a:lnTo>
                    <a:lnTo>
                      <a:pt x="296" y="387"/>
                    </a:lnTo>
                    <a:lnTo>
                      <a:pt x="281" y="309"/>
                    </a:lnTo>
                    <a:lnTo>
                      <a:pt x="264" y="231"/>
                    </a:lnTo>
                    <a:lnTo>
                      <a:pt x="246" y="153"/>
                    </a:lnTo>
                    <a:lnTo>
                      <a:pt x="227" y="77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39" y="0"/>
                    </a:lnTo>
                    <a:lnTo>
                      <a:pt x="137" y="2"/>
                    </a:lnTo>
                    <a:lnTo>
                      <a:pt x="157" y="78"/>
                    </a:lnTo>
                    <a:lnTo>
                      <a:pt x="176" y="154"/>
                    </a:lnTo>
                    <a:lnTo>
                      <a:pt x="194" y="232"/>
                    </a:lnTo>
                    <a:lnTo>
                      <a:pt x="211" y="310"/>
                    </a:lnTo>
                    <a:lnTo>
                      <a:pt x="226" y="387"/>
                    </a:lnTo>
                    <a:lnTo>
                      <a:pt x="240" y="466"/>
                    </a:lnTo>
                    <a:lnTo>
                      <a:pt x="253" y="546"/>
                    </a:lnTo>
                    <a:lnTo>
                      <a:pt x="265" y="625"/>
                    </a:lnTo>
                    <a:lnTo>
                      <a:pt x="275" y="704"/>
                    </a:lnTo>
                    <a:lnTo>
                      <a:pt x="284" y="785"/>
                    </a:lnTo>
                    <a:lnTo>
                      <a:pt x="292" y="866"/>
                    </a:lnTo>
                    <a:lnTo>
                      <a:pt x="298" y="947"/>
                    </a:lnTo>
                    <a:lnTo>
                      <a:pt x="302" y="1029"/>
                    </a:lnTo>
                    <a:lnTo>
                      <a:pt x="306" y="1110"/>
                    </a:lnTo>
                    <a:lnTo>
                      <a:pt x="308" y="1193"/>
                    </a:lnTo>
                    <a:lnTo>
                      <a:pt x="309" y="1275"/>
                    </a:lnTo>
                    <a:lnTo>
                      <a:pt x="308" y="1330"/>
                    </a:lnTo>
                    <a:lnTo>
                      <a:pt x="307" y="1386"/>
                    </a:lnTo>
                    <a:lnTo>
                      <a:pt x="306" y="1442"/>
                    </a:lnTo>
                    <a:lnTo>
                      <a:pt x="304" y="1497"/>
                    </a:lnTo>
                    <a:lnTo>
                      <a:pt x="301" y="1552"/>
                    </a:lnTo>
                    <a:lnTo>
                      <a:pt x="298" y="1606"/>
                    </a:lnTo>
                    <a:lnTo>
                      <a:pt x="294" y="1662"/>
                    </a:lnTo>
                    <a:lnTo>
                      <a:pt x="288" y="1716"/>
                    </a:lnTo>
                    <a:lnTo>
                      <a:pt x="283" y="1770"/>
                    </a:lnTo>
                    <a:lnTo>
                      <a:pt x="278" y="1825"/>
                    </a:lnTo>
                    <a:lnTo>
                      <a:pt x="271" y="1878"/>
                    </a:lnTo>
                    <a:lnTo>
                      <a:pt x="264" y="1933"/>
                    </a:lnTo>
                    <a:lnTo>
                      <a:pt x="256" y="1987"/>
                    </a:lnTo>
                    <a:lnTo>
                      <a:pt x="247" y="2040"/>
                    </a:lnTo>
                    <a:lnTo>
                      <a:pt x="239" y="2093"/>
                    </a:lnTo>
                    <a:lnTo>
                      <a:pt x="230" y="2146"/>
                    </a:lnTo>
                    <a:lnTo>
                      <a:pt x="219" y="2199"/>
                    </a:lnTo>
                    <a:lnTo>
                      <a:pt x="209" y="2251"/>
                    </a:lnTo>
                    <a:lnTo>
                      <a:pt x="197" y="2304"/>
                    </a:lnTo>
                    <a:lnTo>
                      <a:pt x="185" y="2356"/>
                    </a:lnTo>
                    <a:lnTo>
                      <a:pt x="173" y="2409"/>
                    </a:lnTo>
                    <a:lnTo>
                      <a:pt x="160" y="2460"/>
                    </a:lnTo>
                    <a:lnTo>
                      <a:pt x="147" y="2512"/>
                    </a:lnTo>
                    <a:lnTo>
                      <a:pt x="133" y="2563"/>
                    </a:lnTo>
                    <a:lnTo>
                      <a:pt x="118" y="2614"/>
                    </a:lnTo>
                    <a:lnTo>
                      <a:pt x="102" y="2665"/>
                    </a:lnTo>
                    <a:lnTo>
                      <a:pt x="87" y="2715"/>
                    </a:lnTo>
                    <a:lnTo>
                      <a:pt x="71" y="2766"/>
                    </a:lnTo>
                    <a:lnTo>
                      <a:pt x="54" y="2816"/>
                    </a:lnTo>
                    <a:lnTo>
                      <a:pt x="37" y="2865"/>
                    </a:lnTo>
                    <a:lnTo>
                      <a:pt x="19" y="2916"/>
                    </a:lnTo>
                    <a:lnTo>
                      <a:pt x="0" y="2965"/>
                    </a:lnTo>
                    <a:lnTo>
                      <a:pt x="80" y="2949"/>
                    </a:lnTo>
                    <a:lnTo>
                      <a:pt x="98" y="2900"/>
                    </a:lnTo>
                    <a:lnTo>
                      <a:pt x="115" y="2852"/>
                    </a:lnTo>
                    <a:lnTo>
                      <a:pt x="132" y="2801"/>
                    </a:lnTo>
                    <a:lnTo>
                      <a:pt x="148" y="2752"/>
                    </a:lnTo>
                    <a:lnTo>
                      <a:pt x="163" y="2702"/>
                    </a:lnTo>
                    <a:lnTo>
                      <a:pt x="179" y="2651"/>
                    </a:lnTo>
                    <a:lnTo>
                      <a:pt x="194" y="2601"/>
                    </a:lnTo>
                    <a:lnTo>
                      <a:pt x="207" y="2550"/>
                    </a:lnTo>
                    <a:lnTo>
                      <a:pt x="221" y="2500"/>
                    </a:lnTo>
                    <a:lnTo>
                      <a:pt x="234" y="2449"/>
                    </a:lnTo>
                    <a:lnTo>
                      <a:pt x="246" y="2397"/>
                    </a:lnTo>
                    <a:lnTo>
                      <a:pt x="259" y="2346"/>
                    </a:lnTo>
                    <a:lnTo>
                      <a:pt x="271" y="2294"/>
                    </a:lnTo>
                    <a:lnTo>
                      <a:pt x="281" y="2242"/>
                    </a:lnTo>
                    <a:lnTo>
                      <a:pt x="292" y="2190"/>
                    </a:lnTo>
                    <a:lnTo>
                      <a:pt x="301" y="2138"/>
                    </a:lnTo>
                    <a:lnTo>
                      <a:pt x="310" y="2085"/>
                    </a:lnTo>
                    <a:lnTo>
                      <a:pt x="319" y="2032"/>
                    </a:lnTo>
                    <a:lnTo>
                      <a:pt x="326" y="1979"/>
                    </a:lnTo>
                    <a:lnTo>
                      <a:pt x="335" y="1926"/>
                    </a:lnTo>
                    <a:lnTo>
                      <a:pt x="341" y="1872"/>
                    </a:lnTo>
                    <a:lnTo>
                      <a:pt x="347" y="1820"/>
                    </a:lnTo>
                    <a:lnTo>
                      <a:pt x="354" y="1765"/>
                    </a:lnTo>
                    <a:lnTo>
                      <a:pt x="358" y="1711"/>
                    </a:lnTo>
                    <a:lnTo>
                      <a:pt x="363" y="1658"/>
                    </a:lnTo>
                    <a:lnTo>
                      <a:pt x="366" y="1603"/>
                    </a:lnTo>
                    <a:lnTo>
                      <a:pt x="370" y="1549"/>
                    </a:lnTo>
                    <a:lnTo>
                      <a:pt x="372" y="1494"/>
                    </a:lnTo>
                    <a:lnTo>
                      <a:pt x="375" y="1439"/>
                    </a:lnTo>
                    <a:lnTo>
                      <a:pt x="377" y="1385"/>
                    </a:lnTo>
                    <a:lnTo>
                      <a:pt x="378" y="1330"/>
                    </a:lnTo>
                    <a:lnTo>
                      <a:pt x="378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79960" y="2587680"/>
                <a:ext cx="120600" cy="944640"/>
              </a:xfrm>
              <a:custGeom>
                <a:avLst/>
                <a:gdLst/>
                <a:ahLst/>
                <a:rect l="l" t="t" r="r" b="b"/>
                <a:pathLst>
                  <a:path w="381" h="2971">
                    <a:moveTo>
                      <a:pt x="381" y="1275"/>
                    </a:moveTo>
                    <a:lnTo>
                      <a:pt x="381" y="1193"/>
                    </a:lnTo>
                    <a:lnTo>
                      <a:pt x="379" y="1110"/>
                    </a:lnTo>
                    <a:lnTo>
                      <a:pt x="375" y="1028"/>
                    </a:lnTo>
                    <a:lnTo>
                      <a:pt x="371" y="947"/>
                    </a:lnTo>
                    <a:lnTo>
                      <a:pt x="364" y="865"/>
                    </a:lnTo>
                    <a:lnTo>
                      <a:pt x="357" y="784"/>
                    </a:lnTo>
                    <a:lnTo>
                      <a:pt x="347" y="704"/>
                    </a:lnTo>
                    <a:lnTo>
                      <a:pt x="337" y="625"/>
                    </a:lnTo>
                    <a:lnTo>
                      <a:pt x="325" y="545"/>
                    </a:lnTo>
                    <a:lnTo>
                      <a:pt x="313" y="466"/>
                    </a:lnTo>
                    <a:lnTo>
                      <a:pt x="299" y="387"/>
                    </a:lnTo>
                    <a:lnTo>
                      <a:pt x="283" y="309"/>
                    </a:lnTo>
                    <a:lnTo>
                      <a:pt x="268" y="231"/>
                    </a:lnTo>
                    <a:lnTo>
                      <a:pt x="250" y="153"/>
                    </a:lnTo>
                    <a:lnTo>
                      <a:pt x="230" y="77"/>
                    </a:lnTo>
                    <a:lnTo>
                      <a:pt x="210" y="0"/>
                    </a:lnTo>
                    <a:lnTo>
                      <a:pt x="177" y="0"/>
                    </a:lnTo>
                    <a:lnTo>
                      <a:pt x="144" y="18"/>
                    </a:lnTo>
                    <a:lnTo>
                      <a:pt x="163" y="93"/>
                    </a:lnTo>
                    <a:lnTo>
                      <a:pt x="182" y="169"/>
                    </a:lnTo>
                    <a:lnTo>
                      <a:pt x="200" y="246"/>
                    </a:lnTo>
                    <a:lnTo>
                      <a:pt x="216" y="322"/>
                    </a:lnTo>
                    <a:lnTo>
                      <a:pt x="232" y="399"/>
                    </a:lnTo>
                    <a:lnTo>
                      <a:pt x="245" y="477"/>
                    </a:lnTo>
                    <a:lnTo>
                      <a:pt x="258" y="555"/>
                    </a:lnTo>
                    <a:lnTo>
                      <a:pt x="270" y="633"/>
                    </a:lnTo>
                    <a:lnTo>
                      <a:pt x="279" y="712"/>
                    </a:lnTo>
                    <a:lnTo>
                      <a:pt x="288" y="792"/>
                    </a:lnTo>
                    <a:lnTo>
                      <a:pt x="295" y="871"/>
                    </a:lnTo>
                    <a:lnTo>
                      <a:pt x="301" y="951"/>
                    </a:lnTo>
                    <a:lnTo>
                      <a:pt x="306" y="1032"/>
                    </a:lnTo>
                    <a:lnTo>
                      <a:pt x="310" y="1112"/>
                    </a:lnTo>
                    <a:lnTo>
                      <a:pt x="312" y="1194"/>
                    </a:lnTo>
                    <a:lnTo>
                      <a:pt x="313" y="1275"/>
                    </a:lnTo>
                    <a:lnTo>
                      <a:pt x="312" y="1331"/>
                    </a:lnTo>
                    <a:lnTo>
                      <a:pt x="312" y="1387"/>
                    </a:lnTo>
                    <a:lnTo>
                      <a:pt x="310" y="1443"/>
                    </a:lnTo>
                    <a:lnTo>
                      <a:pt x="307" y="1498"/>
                    </a:lnTo>
                    <a:lnTo>
                      <a:pt x="304" y="1553"/>
                    </a:lnTo>
                    <a:lnTo>
                      <a:pt x="301" y="1609"/>
                    </a:lnTo>
                    <a:lnTo>
                      <a:pt x="297" y="1663"/>
                    </a:lnTo>
                    <a:lnTo>
                      <a:pt x="292" y="1718"/>
                    </a:lnTo>
                    <a:lnTo>
                      <a:pt x="286" y="1773"/>
                    </a:lnTo>
                    <a:lnTo>
                      <a:pt x="280" y="1827"/>
                    </a:lnTo>
                    <a:lnTo>
                      <a:pt x="274" y="1882"/>
                    </a:lnTo>
                    <a:lnTo>
                      <a:pt x="266" y="1936"/>
                    </a:lnTo>
                    <a:lnTo>
                      <a:pt x="259" y="1990"/>
                    </a:lnTo>
                    <a:lnTo>
                      <a:pt x="251" y="2043"/>
                    </a:lnTo>
                    <a:lnTo>
                      <a:pt x="241" y="2097"/>
                    </a:lnTo>
                    <a:lnTo>
                      <a:pt x="232" y="2150"/>
                    </a:lnTo>
                    <a:lnTo>
                      <a:pt x="221" y="2203"/>
                    </a:lnTo>
                    <a:lnTo>
                      <a:pt x="211" y="2256"/>
                    </a:lnTo>
                    <a:lnTo>
                      <a:pt x="199" y="2309"/>
                    </a:lnTo>
                    <a:lnTo>
                      <a:pt x="187" y="2361"/>
                    </a:lnTo>
                    <a:lnTo>
                      <a:pt x="174" y="2413"/>
                    </a:lnTo>
                    <a:lnTo>
                      <a:pt x="161" y="2465"/>
                    </a:lnTo>
                    <a:lnTo>
                      <a:pt x="148" y="2517"/>
                    </a:lnTo>
                    <a:lnTo>
                      <a:pt x="133" y="2568"/>
                    </a:lnTo>
                    <a:lnTo>
                      <a:pt x="118" y="2620"/>
                    </a:lnTo>
                    <a:lnTo>
                      <a:pt x="104" y="2671"/>
                    </a:lnTo>
                    <a:lnTo>
                      <a:pt x="87" y="2722"/>
                    </a:lnTo>
                    <a:lnTo>
                      <a:pt x="71" y="2772"/>
                    </a:lnTo>
                    <a:lnTo>
                      <a:pt x="53" y="2822"/>
                    </a:lnTo>
                    <a:lnTo>
                      <a:pt x="36" y="2873"/>
                    </a:lnTo>
                    <a:lnTo>
                      <a:pt x="17" y="2922"/>
                    </a:lnTo>
                    <a:lnTo>
                      <a:pt x="0" y="2971"/>
                    </a:lnTo>
                    <a:lnTo>
                      <a:pt x="36" y="2965"/>
                    </a:lnTo>
                    <a:lnTo>
                      <a:pt x="78" y="2957"/>
                    </a:lnTo>
                    <a:lnTo>
                      <a:pt x="96" y="2908"/>
                    </a:lnTo>
                    <a:lnTo>
                      <a:pt x="114" y="2858"/>
                    </a:lnTo>
                    <a:lnTo>
                      <a:pt x="131" y="2809"/>
                    </a:lnTo>
                    <a:lnTo>
                      <a:pt x="148" y="2759"/>
                    </a:lnTo>
                    <a:lnTo>
                      <a:pt x="163" y="2709"/>
                    </a:lnTo>
                    <a:lnTo>
                      <a:pt x="179" y="2659"/>
                    </a:lnTo>
                    <a:lnTo>
                      <a:pt x="194" y="2607"/>
                    </a:lnTo>
                    <a:lnTo>
                      <a:pt x="209" y="2557"/>
                    </a:lnTo>
                    <a:lnTo>
                      <a:pt x="222" y="2505"/>
                    </a:lnTo>
                    <a:lnTo>
                      <a:pt x="235" y="2454"/>
                    </a:lnTo>
                    <a:lnTo>
                      <a:pt x="248" y="2402"/>
                    </a:lnTo>
                    <a:lnTo>
                      <a:pt x="260" y="2351"/>
                    </a:lnTo>
                    <a:lnTo>
                      <a:pt x="272" y="2298"/>
                    </a:lnTo>
                    <a:lnTo>
                      <a:pt x="283" y="2247"/>
                    </a:lnTo>
                    <a:lnTo>
                      <a:pt x="294" y="2194"/>
                    </a:lnTo>
                    <a:lnTo>
                      <a:pt x="303" y="2142"/>
                    </a:lnTo>
                    <a:lnTo>
                      <a:pt x="313" y="2088"/>
                    </a:lnTo>
                    <a:lnTo>
                      <a:pt x="321" y="2036"/>
                    </a:lnTo>
                    <a:lnTo>
                      <a:pt x="330" y="1982"/>
                    </a:lnTo>
                    <a:lnTo>
                      <a:pt x="337" y="1929"/>
                    </a:lnTo>
                    <a:lnTo>
                      <a:pt x="344" y="1875"/>
                    </a:lnTo>
                    <a:lnTo>
                      <a:pt x="351" y="1822"/>
                    </a:lnTo>
                    <a:lnTo>
                      <a:pt x="356" y="1768"/>
                    </a:lnTo>
                    <a:lnTo>
                      <a:pt x="361" y="1714"/>
                    </a:lnTo>
                    <a:lnTo>
                      <a:pt x="366" y="1660"/>
                    </a:lnTo>
                    <a:lnTo>
                      <a:pt x="371" y="1605"/>
                    </a:lnTo>
                    <a:lnTo>
                      <a:pt x="374" y="1551"/>
                    </a:lnTo>
                    <a:lnTo>
                      <a:pt x="376" y="1496"/>
                    </a:lnTo>
                    <a:lnTo>
                      <a:pt x="379" y="1441"/>
                    </a:lnTo>
                    <a:lnTo>
                      <a:pt x="380" y="1386"/>
                    </a:lnTo>
                    <a:lnTo>
                      <a:pt x="381" y="1330"/>
                    </a:lnTo>
                    <a:lnTo>
                      <a:pt x="381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67360" y="2589120"/>
                <a:ext cx="122040" cy="944640"/>
              </a:xfrm>
              <a:custGeom>
                <a:avLst/>
                <a:gdLst/>
                <a:ahLst/>
                <a:rect l="l" t="t" r="r" b="b"/>
                <a:pathLst>
                  <a:path w="387" h="2977">
                    <a:moveTo>
                      <a:pt x="387" y="1273"/>
                    </a:moveTo>
                    <a:lnTo>
                      <a:pt x="386" y="1191"/>
                    </a:lnTo>
                    <a:lnTo>
                      <a:pt x="384" y="1108"/>
                    </a:lnTo>
                    <a:lnTo>
                      <a:pt x="380" y="1027"/>
                    </a:lnTo>
                    <a:lnTo>
                      <a:pt x="376" y="945"/>
                    </a:lnTo>
                    <a:lnTo>
                      <a:pt x="370" y="864"/>
                    </a:lnTo>
                    <a:lnTo>
                      <a:pt x="362" y="783"/>
                    </a:lnTo>
                    <a:lnTo>
                      <a:pt x="353" y="702"/>
                    </a:lnTo>
                    <a:lnTo>
                      <a:pt x="343" y="623"/>
                    </a:lnTo>
                    <a:lnTo>
                      <a:pt x="331" y="544"/>
                    </a:lnTo>
                    <a:lnTo>
                      <a:pt x="318" y="464"/>
                    </a:lnTo>
                    <a:lnTo>
                      <a:pt x="304" y="385"/>
                    </a:lnTo>
                    <a:lnTo>
                      <a:pt x="289" y="308"/>
                    </a:lnTo>
                    <a:lnTo>
                      <a:pt x="272" y="230"/>
                    </a:lnTo>
                    <a:lnTo>
                      <a:pt x="254" y="152"/>
                    </a:lnTo>
                    <a:lnTo>
                      <a:pt x="235" y="76"/>
                    </a:lnTo>
                    <a:lnTo>
                      <a:pt x="215" y="0"/>
                    </a:lnTo>
                    <a:lnTo>
                      <a:pt x="160" y="28"/>
                    </a:lnTo>
                    <a:lnTo>
                      <a:pt x="151" y="28"/>
                    </a:lnTo>
                    <a:lnTo>
                      <a:pt x="171" y="103"/>
                    </a:lnTo>
                    <a:lnTo>
                      <a:pt x="190" y="177"/>
                    </a:lnTo>
                    <a:lnTo>
                      <a:pt x="207" y="253"/>
                    </a:lnTo>
                    <a:lnTo>
                      <a:pt x="223" y="330"/>
                    </a:lnTo>
                    <a:lnTo>
                      <a:pt x="238" y="405"/>
                    </a:lnTo>
                    <a:lnTo>
                      <a:pt x="252" y="483"/>
                    </a:lnTo>
                    <a:lnTo>
                      <a:pt x="264" y="560"/>
                    </a:lnTo>
                    <a:lnTo>
                      <a:pt x="275" y="637"/>
                    </a:lnTo>
                    <a:lnTo>
                      <a:pt x="285" y="716"/>
                    </a:lnTo>
                    <a:lnTo>
                      <a:pt x="294" y="794"/>
                    </a:lnTo>
                    <a:lnTo>
                      <a:pt x="301" y="874"/>
                    </a:lnTo>
                    <a:lnTo>
                      <a:pt x="308" y="952"/>
                    </a:lnTo>
                    <a:lnTo>
                      <a:pt x="312" y="1032"/>
                    </a:lnTo>
                    <a:lnTo>
                      <a:pt x="315" y="1112"/>
                    </a:lnTo>
                    <a:lnTo>
                      <a:pt x="317" y="1193"/>
                    </a:lnTo>
                    <a:lnTo>
                      <a:pt x="318" y="1273"/>
                    </a:lnTo>
                    <a:lnTo>
                      <a:pt x="318" y="1329"/>
                    </a:lnTo>
                    <a:lnTo>
                      <a:pt x="317" y="1385"/>
                    </a:lnTo>
                    <a:lnTo>
                      <a:pt x="315" y="1442"/>
                    </a:lnTo>
                    <a:lnTo>
                      <a:pt x="313" y="1497"/>
                    </a:lnTo>
                    <a:lnTo>
                      <a:pt x="310" y="1553"/>
                    </a:lnTo>
                    <a:lnTo>
                      <a:pt x="306" y="1608"/>
                    </a:lnTo>
                    <a:lnTo>
                      <a:pt x="302" y="1663"/>
                    </a:lnTo>
                    <a:lnTo>
                      <a:pt x="297" y="1718"/>
                    </a:lnTo>
                    <a:lnTo>
                      <a:pt x="292" y="1773"/>
                    </a:lnTo>
                    <a:lnTo>
                      <a:pt x="285" y="1828"/>
                    </a:lnTo>
                    <a:lnTo>
                      <a:pt x="279" y="1883"/>
                    </a:lnTo>
                    <a:lnTo>
                      <a:pt x="272" y="1936"/>
                    </a:lnTo>
                    <a:lnTo>
                      <a:pt x="263" y="1991"/>
                    </a:lnTo>
                    <a:lnTo>
                      <a:pt x="255" y="2044"/>
                    </a:lnTo>
                    <a:lnTo>
                      <a:pt x="246" y="2099"/>
                    </a:lnTo>
                    <a:lnTo>
                      <a:pt x="236" y="2151"/>
                    </a:lnTo>
                    <a:lnTo>
                      <a:pt x="226" y="2205"/>
                    </a:lnTo>
                    <a:lnTo>
                      <a:pt x="214" y="2259"/>
                    </a:lnTo>
                    <a:lnTo>
                      <a:pt x="202" y="2311"/>
                    </a:lnTo>
                    <a:lnTo>
                      <a:pt x="191" y="2364"/>
                    </a:lnTo>
                    <a:lnTo>
                      <a:pt x="178" y="2416"/>
                    </a:lnTo>
                    <a:lnTo>
                      <a:pt x="165" y="2469"/>
                    </a:lnTo>
                    <a:lnTo>
                      <a:pt x="151" y="2520"/>
                    </a:lnTo>
                    <a:lnTo>
                      <a:pt x="136" y="2571"/>
                    </a:lnTo>
                    <a:lnTo>
                      <a:pt x="121" y="2624"/>
                    </a:lnTo>
                    <a:lnTo>
                      <a:pt x="106" y="2674"/>
                    </a:lnTo>
                    <a:lnTo>
                      <a:pt x="89" y="2726"/>
                    </a:lnTo>
                    <a:lnTo>
                      <a:pt x="72" y="2776"/>
                    </a:lnTo>
                    <a:lnTo>
                      <a:pt x="55" y="2827"/>
                    </a:lnTo>
                    <a:lnTo>
                      <a:pt x="37" y="2877"/>
                    </a:lnTo>
                    <a:lnTo>
                      <a:pt x="18" y="2927"/>
                    </a:lnTo>
                    <a:lnTo>
                      <a:pt x="0" y="2977"/>
                    </a:lnTo>
                    <a:lnTo>
                      <a:pt x="76" y="2963"/>
                    </a:lnTo>
                    <a:lnTo>
                      <a:pt x="78" y="2963"/>
                    </a:lnTo>
                    <a:lnTo>
                      <a:pt x="97" y="2914"/>
                    </a:lnTo>
                    <a:lnTo>
                      <a:pt x="115" y="2863"/>
                    </a:lnTo>
                    <a:lnTo>
                      <a:pt x="132" y="2814"/>
                    </a:lnTo>
                    <a:lnTo>
                      <a:pt x="149" y="2764"/>
                    </a:lnTo>
                    <a:lnTo>
                      <a:pt x="165" y="2713"/>
                    </a:lnTo>
                    <a:lnTo>
                      <a:pt x="180" y="2663"/>
                    </a:lnTo>
                    <a:lnTo>
                      <a:pt x="196" y="2612"/>
                    </a:lnTo>
                    <a:lnTo>
                      <a:pt x="211" y="2561"/>
                    </a:lnTo>
                    <a:lnTo>
                      <a:pt x="225" y="2510"/>
                    </a:lnTo>
                    <a:lnTo>
                      <a:pt x="238" y="2458"/>
                    </a:lnTo>
                    <a:lnTo>
                      <a:pt x="251" y="2407"/>
                    </a:lnTo>
                    <a:lnTo>
                      <a:pt x="263" y="2354"/>
                    </a:lnTo>
                    <a:lnTo>
                      <a:pt x="275" y="2302"/>
                    </a:lnTo>
                    <a:lnTo>
                      <a:pt x="287" y="2249"/>
                    </a:lnTo>
                    <a:lnTo>
                      <a:pt x="297" y="2197"/>
                    </a:lnTo>
                    <a:lnTo>
                      <a:pt x="308" y="2144"/>
                    </a:lnTo>
                    <a:lnTo>
                      <a:pt x="317" y="2091"/>
                    </a:lnTo>
                    <a:lnTo>
                      <a:pt x="325" y="2038"/>
                    </a:lnTo>
                    <a:lnTo>
                      <a:pt x="334" y="1985"/>
                    </a:lnTo>
                    <a:lnTo>
                      <a:pt x="342" y="1931"/>
                    </a:lnTo>
                    <a:lnTo>
                      <a:pt x="349" y="1876"/>
                    </a:lnTo>
                    <a:lnTo>
                      <a:pt x="356" y="1823"/>
                    </a:lnTo>
                    <a:lnTo>
                      <a:pt x="361" y="1768"/>
                    </a:lnTo>
                    <a:lnTo>
                      <a:pt x="366" y="1714"/>
                    </a:lnTo>
                    <a:lnTo>
                      <a:pt x="372" y="1660"/>
                    </a:lnTo>
                    <a:lnTo>
                      <a:pt x="376" y="1604"/>
                    </a:lnTo>
                    <a:lnTo>
                      <a:pt x="379" y="1550"/>
                    </a:lnTo>
                    <a:lnTo>
                      <a:pt x="382" y="1495"/>
                    </a:lnTo>
                    <a:lnTo>
                      <a:pt x="384" y="1440"/>
                    </a:lnTo>
                    <a:lnTo>
                      <a:pt x="385" y="1384"/>
                    </a:lnTo>
                    <a:lnTo>
                      <a:pt x="386" y="1328"/>
                    </a:lnTo>
                    <a:lnTo>
                      <a:pt x="387" y="127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54760" y="2593800"/>
                <a:ext cx="123840" cy="941400"/>
              </a:xfrm>
              <a:custGeom>
                <a:avLst/>
                <a:gdLst/>
                <a:ahLst/>
                <a:rect l="l" t="t" r="r" b="b"/>
                <a:pathLst>
                  <a:path w="392" h="2967">
                    <a:moveTo>
                      <a:pt x="392" y="1257"/>
                    </a:moveTo>
                    <a:lnTo>
                      <a:pt x="391" y="1176"/>
                    </a:lnTo>
                    <a:lnTo>
                      <a:pt x="389" y="1094"/>
                    </a:lnTo>
                    <a:lnTo>
                      <a:pt x="385" y="1014"/>
                    </a:lnTo>
                    <a:lnTo>
                      <a:pt x="380" y="933"/>
                    </a:lnTo>
                    <a:lnTo>
                      <a:pt x="374" y="853"/>
                    </a:lnTo>
                    <a:lnTo>
                      <a:pt x="367" y="774"/>
                    </a:lnTo>
                    <a:lnTo>
                      <a:pt x="358" y="694"/>
                    </a:lnTo>
                    <a:lnTo>
                      <a:pt x="349" y="615"/>
                    </a:lnTo>
                    <a:lnTo>
                      <a:pt x="337" y="537"/>
                    </a:lnTo>
                    <a:lnTo>
                      <a:pt x="324" y="459"/>
                    </a:lnTo>
                    <a:lnTo>
                      <a:pt x="311" y="381"/>
                    </a:lnTo>
                    <a:lnTo>
                      <a:pt x="295" y="304"/>
                    </a:lnTo>
                    <a:lnTo>
                      <a:pt x="279" y="228"/>
                    </a:lnTo>
                    <a:lnTo>
                      <a:pt x="261" y="151"/>
                    </a:lnTo>
                    <a:lnTo>
                      <a:pt x="242" y="75"/>
                    </a:lnTo>
                    <a:lnTo>
                      <a:pt x="223" y="0"/>
                    </a:lnTo>
                    <a:lnTo>
                      <a:pt x="199" y="12"/>
                    </a:lnTo>
                    <a:lnTo>
                      <a:pt x="154" y="12"/>
                    </a:lnTo>
                    <a:lnTo>
                      <a:pt x="174" y="87"/>
                    </a:lnTo>
                    <a:lnTo>
                      <a:pt x="193" y="161"/>
                    </a:lnTo>
                    <a:lnTo>
                      <a:pt x="211" y="237"/>
                    </a:lnTo>
                    <a:lnTo>
                      <a:pt x="227" y="314"/>
                    </a:lnTo>
                    <a:lnTo>
                      <a:pt x="241" y="389"/>
                    </a:lnTo>
                    <a:lnTo>
                      <a:pt x="256" y="467"/>
                    </a:lnTo>
                    <a:lnTo>
                      <a:pt x="269" y="544"/>
                    </a:lnTo>
                    <a:lnTo>
                      <a:pt x="279" y="621"/>
                    </a:lnTo>
                    <a:lnTo>
                      <a:pt x="290" y="700"/>
                    </a:lnTo>
                    <a:lnTo>
                      <a:pt x="298" y="778"/>
                    </a:lnTo>
                    <a:lnTo>
                      <a:pt x="306" y="857"/>
                    </a:lnTo>
                    <a:lnTo>
                      <a:pt x="312" y="936"/>
                    </a:lnTo>
                    <a:lnTo>
                      <a:pt x="316" y="1016"/>
                    </a:lnTo>
                    <a:lnTo>
                      <a:pt x="320" y="1096"/>
                    </a:lnTo>
                    <a:lnTo>
                      <a:pt x="322" y="1177"/>
                    </a:lnTo>
                    <a:lnTo>
                      <a:pt x="322" y="1257"/>
                    </a:lnTo>
                    <a:lnTo>
                      <a:pt x="322" y="1313"/>
                    </a:lnTo>
                    <a:lnTo>
                      <a:pt x="321" y="1370"/>
                    </a:lnTo>
                    <a:lnTo>
                      <a:pt x="319" y="1426"/>
                    </a:lnTo>
                    <a:lnTo>
                      <a:pt x="317" y="1482"/>
                    </a:lnTo>
                    <a:lnTo>
                      <a:pt x="314" y="1538"/>
                    </a:lnTo>
                    <a:lnTo>
                      <a:pt x="311" y="1594"/>
                    </a:lnTo>
                    <a:lnTo>
                      <a:pt x="307" y="1649"/>
                    </a:lnTo>
                    <a:lnTo>
                      <a:pt x="301" y="1704"/>
                    </a:lnTo>
                    <a:lnTo>
                      <a:pt x="296" y="1760"/>
                    </a:lnTo>
                    <a:lnTo>
                      <a:pt x="290" y="1814"/>
                    </a:lnTo>
                    <a:lnTo>
                      <a:pt x="282" y="1870"/>
                    </a:lnTo>
                    <a:lnTo>
                      <a:pt x="275" y="1923"/>
                    </a:lnTo>
                    <a:lnTo>
                      <a:pt x="268" y="1978"/>
                    </a:lnTo>
                    <a:lnTo>
                      <a:pt x="258" y="2033"/>
                    </a:lnTo>
                    <a:lnTo>
                      <a:pt x="249" y="2086"/>
                    </a:lnTo>
                    <a:lnTo>
                      <a:pt x="239" y="2140"/>
                    </a:lnTo>
                    <a:lnTo>
                      <a:pt x="229" y="2193"/>
                    </a:lnTo>
                    <a:lnTo>
                      <a:pt x="217" y="2247"/>
                    </a:lnTo>
                    <a:lnTo>
                      <a:pt x="206" y="2300"/>
                    </a:lnTo>
                    <a:lnTo>
                      <a:pt x="193" y="2353"/>
                    </a:lnTo>
                    <a:lnTo>
                      <a:pt x="180" y="2405"/>
                    </a:lnTo>
                    <a:lnTo>
                      <a:pt x="167" y="2458"/>
                    </a:lnTo>
                    <a:lnTo>
                      <a:pt x="153" y="2509"/>
                    </a:lnTo>
                    <a:lnTo>
                      <a:pt x="138" y="2562"/>
                    </a:lnTo>
                    <a:lnTo>
                      <a:pt x="123" y="2613"/>
                    </a:lnTo>
                    <a:lnTo>
                      <a:pt x="107" y="2665"/>
                    </a:lnTo>
                    <a:lnTo>
                      <a:pt x="90" y="2716"/>
                    </a:lnTo>
                    <a:lnTo>
                      <a:pt x="73" y="2767"/>
                    </a:lnTo>
                    <a:lnTo>
                      <a:pt x="55" y="2817"/>
                    </a:lnTo>
                    <a:lnTo>
                      <a:pt x="38" y="2867"/>
                    </a:lnTo>
                    <a:lnTo>
                      <a:pt x="19" y="2918"/>
                    </a:lnTo>
                    <a:lnTo>
                      <a:pt x="0" y="2967"/>
                    </a:lnTo>
                    <a:lnTo>
                      <a:pt x="79" y="2953"/>
                    </a:lnTo>
                    <a:lnTo>
                      <a:pt x="96" y="2904"/>
                    </a:lnTo>
                    <a:lnTo>
                      <a:pt x="115" y="2855"/>
                    </a:lnTo>
                    <a:lnTo>
                      <a:pt x="132" y="2804"/>
                    </a:lnTo>
                    <a:lnTo>
                      <a:pt x="150" y="2754"/>
                    </a:lnTo>
                    <a:lnTo>
                      <a:pt x="166" y="2704"/>
                    </a:lnTo>
                    <a:lnTo>
                      <a:pt x="183" y="2653"/>
                    </a:lnTo>
                    <a:lnTo>
                      <a:pt x="197" y="2602"/>
                    </a:lnTo>
                    <a:lnTo>
                      <a:pt x="212" y="2550"/>
                    </a:lnTo>
                    <a:lnTo>
                      <a:pt x="227" y="2499"/>
                    </a:lnTo>
                    <a:lnTo>
                      <a:pt x="240" y="2447"/>
                    </a:lnTo>
                    <a:lnTo>
                      <a:pt x="253" y="2395"/>
                    </a:lnTo>
                    <a:lnTo>
                      <a:pt x="266" y="2343"/>
                    </a:lnTo>
                    <a:lnTo>
                      <a:pt x="278" y="2291"/>
                    </a:lnTo>
                    <a:lnTo>
                      <a:pt x="290" y="2238"/>
                    </a:lnTo>
                    <a:lnTo>
                      <a:pt x="300" y="2185"/>
                    </a:lnTo>
                    <a:lnTo>
                      <a:pt x="311" y="2132"/>
                    </a:lnTo>
                    <a:lnTo>
                      <a:pt x="320" y="2079"/>
                    </a:lnTo>
                    <a:lnTo>
                      <a:pt x="330" y="2025"/>
                    </a:lnTo>
                    <a:lnTo>
                      <a:pt x="338" y="1972"/>
                    </a:lnTo>
                    <a:lnTo>
                      <a:pt x="345" y="1918"/>
                    </a:lnTo>
                    <a:lnTo>
                      <a:pt x="353" y="1864"/>
                    </a:lnTo>
                    <a:lnTo>
                      <a:pt x="359" y="1809"/>
                    </a:lnTo>
                    <a:lnTo>
                      <a:pt x="365" y="1755"/>
                    </a:lnTo>
                    <a:lnTo>
                      <a:pt x="371" y="1700"/>
                    </a:lnTo>
                    <a:lnTo>
                      <a:pt x="376" y="1645"/>
                    </a:lnTo>
                    <a:lnTo>
                      <a:pt x="380" y="1591"/>
                    </a:lnTo>
                    <a:lnTo>
                      <a:pt x="383" y="1535"/>
                    </a:lnTo>
                    <a:lnTo>
                      <a:pt x="386" y="1480"/>
                    </a:lnTo>
                    <a:lnTo>
                      <a:pt x="389" y="1425"/>
                    </a:lnTo>
                    <a:lnTo>
                      <a:pt x="391" y="1369"/>
                    </a:lnTo>
                    <a:lnTo>
                      <a:pt x="391" y="1313"/>
                    </a:lnTo>
                    <a:lnTo>
                      <a:pt x="392" y="1257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41800" y="2597040"/>
                <a:ext cx="125640" cy="941400"/>
              </a:xfrm>
              <a:custGeom>
                <a:avLst/>
                <a:gdLst/>
                <a:ahLst/>
                <a:rect l="l" t="t" r="r" b="b"/>
                <a:pathLst>
                  <a:path w="397" h="2962">
                    <a:moveTo>
                      <a:pt x="397" y="1245"/>
                    </a:moveTo>
                    <a:lnTo>
                      <a:pt x="396" y="1165"/>
                    </a:lnTo>
                    <a:lnTo>
                      <a:pt x="394" y="1084"/>
                    </a:lnTo>
                    <a:lnTo>
                      <a:pt x="391" y="1004"/>
                    </a:lnTo>
                    <a:lnTo>
                      <a:pt x="387" y="924"/>
                    </a:lnTo>
                    <a:lnTo>
                      <a:pt x="380" y="846"/>
                    </a:lnTo>
                    <a:lnTo>
                      <a:pt x="373" y="766"/>
                    </a:lnTo>
                    <a:lnTo>
                      <a:pt x="364" y="688"/>
                    </a:lnTo>
                    <a:lnTo>
                      <a:pt x="354" y="609"/>
                    </a:lnTo>
                    <a:lnTo>
                      <a:pt x="343" y="532"/>
                    </a:lnTo>
                    <a:lnTo>
                      <a:pt x="331" y="455"/>
                    </a:lnTo>
                    <a:lnTo>
                      <a:pt x="317" y="377"/>
                    </a:lnTo>
                    <a:lnTo>
                      <a:pt x="302" y="302"/>
                    </a:lnTo>
                    <a:lnTo>
                      <a:pt x="286" y="225"/>
                    </a:lnTo>
                    <a:lnTo>
                      <a:pt x="269" y="149"/>
                    </a:lnTo>
                    <a:lnTo>
                      <a:pt x="250" y="75"/>
                    </a:lnTo>
                    <a:lnTo>
                      <a:pt x="230" y="0"/>
                    </a:lnTo>
                    <a:lnTo>
                      <a:pt x="182" y="0"/>
                    </a:lnTo>
                    <a:lnTo>
                      <a:pt x="158" y="0"/>
                    </a:lnTo>
                    <a:lnTo>
                      <a:pt x="178" y="75"/>
                    </a:lnTo>
                    <a:lnTo>
                      <a:pt x="197" y="149"/>
                    </a:lnTo>
                    <a:lnTo>
                      <a:pt x="215" y="225"/>
                    </a:lnTo>
                    <a:lnTo>
                      <a:pt x="232" y="301"/>
                    </a:lnTo>
                    <a:lnTo>
                      <a:pt x="247" y="377"/>
                    </a:lnTo>
                    <a:lnTo>
                      <a:pt x="260" y="454"/>
                    </a:lnTo>
                    <a:lnTo>
                      <a:pt x="273" y="532"/>
                    </a:lnTo>
                    <a:lnTo>
                      <a:pt x="285" y="609"/>
                    </a:lnTo>
                    <a:lnTo>
                      <a:pt x="295" y="687"/>
                    </a:lnTo>
                    <a:lnTo>
                      <a:pt x="304" y="766"/>
                    </a:lnTo>
                    <a:lnTo>
                      <a:pt x="311" y="845"/>
                    </a:lnTo>
                    <a:lnTo>
                      <a:pt x="317" y="924"/>
                    </a:lnTo>
                    <a:lnTo>
                      <a:pt x="322" y="1004"/>
                    </a:lnTo>
                    <a:lnTo>
                      <a:pt x="326" y="1084"/>
                    </a:lnTo>
                    <a:lnTo>
                      <a:pt x="328" y="1165"/>
                    </a:lnTo>
                    <a:lnTo>
                      <a:pt x="329" y="1245"/>
                    </a:lnTo>
                    <a:lnTo>
                      <a:pt x="328" y="1301"/>
                    </a:lnTo>
                    <a:lnTo>
                      <a:pt x="327" y="1358"/>
                    </a:lnTo>
                    <a:lnTo>
                      <a:pt x="326" y="1415"/>
                    </a:lnTo>
                    <a:lnTo>
                      <a:pt x="322" y="1471"/>
                    </a:lnTo>
                    <a:lnTo>
                      <a:pt x="320" y="1527"/>
                    </a:lnTo>
                    <a:lnTo>
                      <a:pt x="316" y="1584"/>
                    </a:lnTo>
                    <a:lnTo>
                      <a:pt x="312" y="1639"/>
                    </a:lnTo>
                    <a:lnTo>
                      <a:pt x="307" y="1695"/>
                    </a:lnTo>
                    <a:lnTo>
                      <a:pt x="301" y="1750"/>
                    </a:lnTo>
                    <a:lnTo>
                      <a:pt x="295" y="1805"/>
                    </a:lnTo>
                    <a:lnTo>
                      <a:pt x="288" y="1860"/>
                    </a:lnTo>
                    <a:lnTo>
                      <a:pt x="280" y="1915"/>
                    </a:lnTo>
                    <a:lnTo>
                      <a:pt x="272" y="1969"/>
                    </a:lnTo>
                    <a:lnTo>
                      <a:pt x="263" y="2024"/>
                    </a:lnTo>
                    <a:lnTo>
                      <a:pt x="253" y="2078"/>
                    </a:lnTo>
                    <a:lnTo>
                      <a:pt x="244" y="2132"/>
                    </a:lnTo>
                    <a:lnTo>
                      <a:pt x="233" y="2185"/>
                    </a:lnTo>
                    <a:lnTo>
                      <a:pt x="222" y="2239"/>
                    </a:lnTo>
                    <a:lnTo>
                      <a:pt x="209" y="2293"/>
                    </a:lnTo>
                    <a:lnTo>
                      <a:pt x="196" y="2346"/>
                    </a:lnTo>
                    <a:lnTo>
                      <a:pt x="184" y="2399"/>
                    </a:lnTo>
                    <a:lnTo>
                      <a:pt x="170" y="2451"/>
                    </a:lnTo>
                    <a:lnTo>
                      <a:pt x="155" y="2504"/>
                    </a:lnTo>
                    <a:lnTo>
                      <a:pt x="141" y="2555"/>
                    </a:lnTo>
                    <a:lnTo>
                      <a:pt x="125" y="2608"/>
                    </a:lnTo>
                    <a:lnTo>
                      <a:pt x="108" y="2659"/>
                    </a:lnTo>
                    <a:lnTo>
                      <a:pt x="91" y="2710"/>
                    </a:lnTo>
                    <a:lnTo>
                      <a:pt x="74" y="2761"/>
                    </a:lnTo>
                    <a:lnTo>
                      <a:pt x="56" y="2812"/>
                    </a:lnTo>
                    <a:lnTo>
                      <a:pt x="38" y="2863"/>
                    </a:lnTo>
                    <a:lnTo>
                      <a:pt x="19" y="2912"/>
                    </a:lnTo>
                    <a:lnTo>
                      <a:pt x="0" y="2962"/>
                    </a:lnTo>
                    <a:lnTo>
                      <a:pt x="79" y="2949"/>
                    </a:lnTo>
                    <a:lnTo>
                      <a:pt x="97" y="2899"/>
                    </a:lnTo>
                    <a:lnTo>
                      <a:pt x="116" y="2849"/>
                    </a:lnTo>
                    <a:lnTo>
                      <a:pt x="134" y="2799"/>
                    </a:lnTo>
                    <a:lnTo>
                      <a:pt x="151" y="2748"/>
                    </a:lnTo>
                    <a:lnTo>
                      <a:pt x="168" y="2698"/>
                    </a:lnTo>
                    <a:lnTo>
                      <a:pt x="185" y="2646"/>
                    </a:lnTo>
                    <a:lnTo>
                      <a:pt x="200" y="2596"/>
                    </a:lnTo>
                    <a:lnTo>
                      <a:pt x="215" y="2543"/>
                    </a:lnTo>
                    <a:lnTo>
                      <a:pt x="230" y="2492"/>
                    </a:lnTo>
                    <a:lnTo>
                      <a:pt x="244" y="2441"/>
                    </a:lnTo>
                    <a:lnTo>
                      <a:pt x="257" y="2388"/>
                    </a:lnTo>
                    <a:lnTo>
                      <a:pt x="270" y="2336"/>
                    </a:lnTo>
                    <a:lnTo>
                      <a:pt x="281" y="2283"/>
                    </a:lnTo>
                    <a:lnTo>
                      <a:pt x="293" y="2231"/>
                    </a:lnTo>
                    <a:lnTo>
                      <a:pt x="305" y="2177"/>
                    </a:lnTo>
                    <a:lnTo>
                      <a:pt x="315" y="2123"/>
                    </a:lnTo>
                    <a:lnTo>
                      <a:pt x="325" y="2071"/>
                    </a:lnTo>
                    <a:lnTo>
                      <a:pt x="334" y="2016"/>
                    </a:lnTo>
                    <a:lnTo>
                      <a:pt x="342" y="1963"/>
                    </a:lnTo>
                    <a:lnTo>
                      <a:pt x="351" y="1908"/>
                    </a:lnTo>
                    <a:lnTo>
                      <a:pt x="358" y="1855"/>
                    </a:lnTo>
                    <a:lnTo>
                      <a:pt x="364" y="1800"/>
                    </a:lnTo>
                    <a:lnTo>
                      <a:pt x="371" y="1745"/>
                    </a:lnTo>
                    <a:lnTo>
                      <a:pt x="376" y="1690"/>
                    </a:lnTo>
                    <a:lnTo>
                      <a:pt x="381" y="1635"/>
                    </a:lnTo>
                    <a:lnTo>
                      <a:pt x="385" y="1580"/>
                    </a:lnTo>
                    <a:lnTo>
                      <a:pt x="389" y="1525"/>
                    </a:lnTo>
                    <a:lnTo>
                      <a:pt x="392" y="1469"/>
                    </a:lnTo>
                    <a:lnTo>
                      <a:pt x="394" y="1414"/>
                    </a:lnTo>
                    <a:lnTo>
                      <a:pt x="396" y="1357"/>
                    </a:lnTo>
                    <a:lnTo>
                      <a:pt x="397" y="1301"/>
                    </a:lnTo>
                    <a:lnTo>
                      <a:pt x="397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29200" y="2597040"/>
                <a:ext cx="127080" cy="943200"/>
              </a:xfrm>
              <a:custGeom>
                <a:avLst/>
                <a:gdLst/>
                <a:ahLst/>
                <a:rect l="l" t="t" r="r" b="b"/>
                <a:pathLst>
                  <a:path w="403" h="2970">
                    <a:moveTo>
                      <a:pt x="403" y="1245"/>
                    </a:moveTo>
                    <a:lnTo>
                      <a:pt x="403" y="1165"/>
                    </a:lnTo>
                    <a:lnTo>
                      <a:pt x="401" y="1084"/>
                    </a:lnTo>
                    <a:lnTo>
                      <a:pt x="397" y="1004"/>
                    </a:lnTo>
                    <a:lnTo>
                      <a:pt x="393" y="924"/>
                    </a:lnTo>
                    <a:lnTo>
                      <a:pt x="387" y="845"/>
                    </a:lnTo>
                    <a:lnTo>
                      <a:pt x="379" y="766"/>
                    </a:lnTo>
                    <a:lnTo>
                      <a:pt x="371" y="688"/>
                    </a:lnTo>
                    <a:lnTo>
                      <a:pt x="360" y="609"/>
                    </a:lnTo>
                    <a:lnTo>
                      <a:pt x="349" y="532"/>
                    </a:lnTo>
                    <a:lnTo>
                      <a:pt x="337" y="455"/>
                    </a:lnTo>
                    <a:lnTo>
                      <a:pt x="322" y="377"/>
                    </a:lnTo>
                    <a:lnTo>
                      <a:pt x="308" y="302"/>
                    </a:lnTo>
                    <a:lnTo>
                      <a:pt x="292" y="225"/>
                    </a:lnTo>
                    <a:lnTo>
                      <a:pt x="274" y="149"/>
                    </a:lnTo>
                    <a:lnTo>
                      <a:pt x="255" y="75"/>
                    </a:lnTo>
                    <a:lnTo>
                      <a:pt x="235" y="0"/>
                    </a:lnTo>
                    <a:lnTo>
                      <a:pt x="223" y="0"/>
                    </a:lnTo>
                    <a:lnTo>
                      <a:pt x="166" y="0"/>
                    </a:lnTo>
                    <a:lnTo>
                      <a:pt x="165" y="0"/>
                    </a:lnTo>
                    <a:lnTo>
                      <a:pt x="185" y="75"/>
                    </a:lnTo>
                    <a:lnTo>
                      <a:pt x="204" y="151"/>
                    </a:lnTo>
                    <a:lnTo>
                      <a:pt x="222" y="225"/>
                    </a:lnTo>
                    <a:lnTo>
                      <a:pt x="237" y="302"/>
                    </a:lnTo>
                    <a:lnTo>
                      <a:pt x="253" y="378"/>
                    </a:lnTo>
                    <a:lnTo>
                      <a:pt x="267" y="455"/>
                    </a:lnTo>
                    <a:lnTo>
                      <a:pt x="279" y="532"/>
                    </a:lnTo>
                    <a:lnTo>
                      <a:pt x="291" y="609"/>
                    </a:lnTo>
                    <a:lnTo>
                      <a:pt x="301" y="688"/>
                    </a:lnTo>
                    <a:lnTo>
                      <a:pt x="310" y="766"/>
                    </a:lnTo>
                    <a:lnTo>
                      <a:pt x="317" y="845"/>
                    </a:lnTo>
                    <a:lnTo>
                      <a:pt x="323" y="924"/>
                    </a:lnTo>
                    <a:lnTo>
                      <a:pt x="329" y="1004"/>
                    </a:lnTo>
                    <a:lnTo>
                      <a:pt x="332" y="1084"/>
                    </a:lnTo>
                    <a:lnTo>
                      <a:pt x="334" y="1165"/>
                    </a:lnTo>
                    <a:lnTo>
                      <a:pt x="335" y="1245"/>
                    </a:lnTo>
                    <a:lnTo>
                      <a:pt x="335" y="1302"/>
                    </a:lnTo>
                    <a:lnTo>
                      <a:pt x="334" y="1359"/>
                    </a:lnTo>
                    <a:lnTo>
                      <a:pt x="332" y="1416"/>
                    </a:lnTo>
                    <a:lnTo>
                      <a:pt x="330" y="1472"/>
                    </a:lnTo>
                    <a:lnTo>
                      <a:pt x="327" y="1529"/>
                    </a:lnTo>
                    <a:lnTo>
                      <a:pt x="322" y="1585"/>
                    </a:lnTo>
                    <a:lnTo>
                      <a:pt x="318" y="1642"/>
                    </a:lnTo>
                    <a:lnTo>
                      <a:pt x="313" y="1697"/>
                    </a:lnTo>
                    <a:lnTo>
                      <a:pt x="307" y="1753"/>
                    </a:lnTo>
                    <a:lnTo>
                      <a:pt x="300" y="1808"/>
                    </a:lnTo>
                    <a:lnTo>
                      <a:pt x="294" y="1863"/>
                    </a:lnTo>
                    <a:lnTo>
                      <a:pt x="286" y="1919"/>
                    </a:lnTo>
                    <a:lnTo>
                      <a:pt x="277" y="1973"/>
                    </a:lnTo>
                    <a:lnTo>
                      <a:pt x="269" y="2028"/>
                    </a:lnTo>
                    <a:lnTo>
                      <a:pt x="258" y="2083"/>
                    </a:lnTo>
                    <a:lnTo>
                      <a:pt x="249" y="2136"/>
                    </a:lnTo>
                    <a:lnTo>
                      <a:pt x="237" y="2191"/>
                    </a:lnTo>
                    <a:lnTo>
                      <a:pt x="226" y="2244"/>
                    </a:lnTo>
                    <a:lnTo>
                      <a:pt x="214" y="2298"/>
                    </a:lnTo>
                    <a:lnTo>
                      <a:pt x="200" y="2350"/>
                    </a:lnTo>
                    <a:lnTo>
                      <a:pt x="187" y="2404"/>
                    </a:lnTo>
                    <a:lnTo>
                      <a:pt x="173" y="2456"/>
                    </a:lnTo>
                    <a:lnTo>
                      <a:pt x="158" y="2509"/>
                    </a:lnTo>
                    <a:lnTo>
                      <a:pt x="144" y="2561"/>
                    </a:lnTo>
                    <a:lnTo>
                      <a:pt x="128" y="2614"/>
                    </a:lnTo>
                    <a:lnTo>
                      <a:pt x="111" y="2665"/>
                    </a:lnTo>
                    <a:lnTo>
                      <a:pt x="94" y="2717"/>
                    </a:lnTo>
                    <a:lnTo>
                      <a:pt x="76" y="2768"/>
                    </a:lnTo>
                    <a:lnTo>
                      <a:pt x="59" y="2819"/>
                    </a:lnTo>
                    <a:lnTo>
                      <a:pt x="40" y="2869"/>
                    </a:lnTo>
                    <a:lnTo>
                      <a:pt x="20" y="2919"/>
                    </a:lnTo>
                    <a:lnTo>
                      <a:pt x="0" y="2970"/>
                    </a:lnTo>
                    <a:lnTo>
                      <a:pt x="25" y="2966"/>
                    </a:lnTo>
                    <a:lnTo>
                      <a:pt x="81" y="2955"/>
                    </a:lnTo>
                    <a:lnTo>
                      <a:pt x="100" y="2906"/>
                    </a:lnTo>
                    <a:lnTo>
                      <a:pt x="119" y="2855"/>
                    </a:lnTo>
                    <a:lnTo>
                      <a:pt x="136" y="2805"/>
                    </a:lnTo>
                    <a:lnTo>
                      <a:pt x="154" y="2755"/>
                    </a:lnTo>
                    <a:lnTo>
                      <a:pt x="171" y="2704"/>
                    </a:lnTo>
                    <a:lnTo>
                      <a:pt x="188" y="2653"/>
                    </a:lnTo>
                    <a:lnTo>
                      <a:pt x="204" y="2601"/>
                    </a:lnTo>
                    <a:lnTo>
                      <a:pt x="218" y="2550"/>
                    </a:lnTo>
                    <a:lnTo>
                      <a:pt x="233" y="2497"/>
                    </a:lnTo>
                    <a:lnTo>
                      <a:pt x="248" y="2446"/>
                    </a:lnTo>
                    <a:lnTo>
                      <a:pt x="261" y="2393"/>
                    </a:lnTo>
                    <a:lnTo>
                      <a:pt x="274" y="2341"/>
                    </a:lnTo>
                    <a:lnTo>
                      <a:pt x="287" y="2288"/>
                    </a:lnTo>
                    <a:lnTo>
                      <a:pt x="298" y="2235"/>
                    </a:lnTo>
                    <a:lnTo>
                      <a:pt x="310" y="2181"/>
                    </a:lnTo>
                    <a:lnTo>
                      <a:pt x="320" y="2128"/>
                    </a:lnTo>
                    <a:lnTo>
                      <a:pt x="330" y="2074"/>
                    </a:lnTo>
                    <a:lnTo>
                      <a:pt x="339" y="2021"/>
                    </a:lnTo>
                    <a:lnTo>
                      <a:pt x="349" y="1966"/>
                    </a:lnTo>
                    <a:lnTo>
                      <a:pt x="356" y="1911"/>
                    </a:lnTo>
                    <a:lnTo>
                      <a:pt x="363" y="1858"/>
                    </a:lnTo>
                    <a:lnTo>
                      <a:pt x="371" y="1802"/>
                    </a:lnTo>
                    <a:lnTo>
                      <a:pt x="377" y="1748"/>
                    </a:lnTo>
                    <a:lnTo>
                      <a:pt x="382" y="1692"/>
                    </a:lnTo>
                    <a:lnTo>
                      <a:pt x="388" y="1637"/>
                    </a:lnTo>
                    <a:lnTo>
                      <a:pt x="392" y="1582"/>
                    </a:lnTo>
                    <a:lnTo>
                      <a:pt x="395" y="1526"/>
                    </a:lnTo>
                    <a:lnTo>
                      <a:pt x="398" y="1470"/>
                    </a:lnTo>
                    <a:lnTo>
                      <a:pt x="400" y="1414"/>
                    </a:lnTo>
                    <a:lnTo>
                      <a:pt x="402" y="1358"/>
                    </a:lnTo>
                    <a:lnTo>
                      <a:pt x="403" y="1301"/>
                    </a:lnTo>
                    <a:lnTo>
                      <a:pt x="403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6600" y="2597040"/>
                <a:ext cx="129960" cy="946440"/>
              </a:xfrm>
              <a:custGeom>
                <a:avLst/>
                <a:gdLst/>
                <a:ahLst/>
                <a:rect l="l" t="t" r="r" b="b"/>
                <a:pathLst>
                  <a:path w="410" h="2977">
                    <a:moveTo>
                      <a:pt x="410" y="1245"/>
                    </a:moveTo>
                    <a:lnTo>
                      <a:pt x="409" y="1165"/>
                    </a:lnTo>
                    <a:lnTo>
                      <a:pt x="407" y="1084"/>
                    </a:lnTo>
                    <a:lnTo>
                      <a:pt x="403" y="1004"/>
                    </a:lnTo>
                    <a:lnTo>
                      <a:pt x="398" y="924"/>
                    </a:lnTo>
                    <a:lnTo>
                      <a:pt x="392" y="845"/>
                    </a:lnTo>
                    <a:lnTo>
                      <a:pt x="385" y="766"/>
                    </a:lnTo>
                    <a:lnTo>
                      <a:pt x="376" y="687"/>
                    </a:lnTo>
                    <a:lnTo>
                      <a:pt x="366" y="609"/>
                    </a:lnTo>
                    <a:lnTo>
                      <a:pt x="354" y="532"/>
                    </a:lnTo>
                    <a:lnTo>
                      <a:pt x="341" y="454"/>
                    </a:lnTo>
                    <a:lnTo>
                      <a:pt x="328" y="377"/>
                    </a:lnTo>
                    <a:lnTo>
                      <a:pt x="313" y="301"/>
                    </a:lnTo>
                    <a:lnTo>
                      <a:pt x="296" y="225"/>
                    </a:lnTo>
                    <a:lnTo>
                      <a:pt x="278" y="149"/>
                    </a:lnTo>
                    <a:lnTo>
                      <a:pt x="259" y="75"/>
                    </a:lnTo>
                    <a:lnTo>
                      <a:pt x="239" y="0"/>
                    </a:lnTo>
                    <a:lnTo>
                      <a:pt x="206" y="0"/>
                    </a:lnTo>
                    <a:lnTo>
                      <a:pt x="171" y="11"/>
                    </a:lnTo>
                    <a:lnTo>
                      <a:pt x="191" y="85"/>
                    </a:lnTo>
                    <a:lnTo>
                      <a:pt x="210" y="160"/>
                    </a:lnTo>
                    <a:lnTo>
                      <a:pt x="228" y="235"/>
                    </a:lnTo>
                    <a:lnTo>
                      <a:pt x="245" y="309"/>
                    </a:lnTo>
                    <a:lnTo>
                      <a:pt x="259" y="386"/>
                    </a:lnTo>
                    <a:lnTo>
                      <a:pt x="273" y="461"/>
                    </a:lnTo>
                    <a:lnTo>
                      <a:pt x="286" y="538"/>
                    </a:lnTo>
                    <a:lnTo>
                      <a:pt x="297" y="615"/>
                    </a:lnTo>
                    <a:lnTo>
                      <a:pt x="307" y="692"/>
                    </a:lnTo>
                    <a:lnTo>
                      <a:pt x="316" y="770"/>
                    </a:lnTo>
                    <a:lnTo>
                      <a:pt x="324" y="849"/>
                    </a:lnTo>
                    <a:lnTo>
                      <a:pt x="330" y="928"/>
                    </a:lnTo>
                    <a:lnTo>
                      <a:pt x="334" y="1006"/>
                    </a:lnTo>
                    <a:lnTo>
                      <a:pt x="338" y="1085"/>
                    </a:lnTo>
                    <a:lnTo>
                      <a:pt x="339" y="1165"/>
                    </a:lnTo>
                    <a:lnTo>
                      <a:pt x="340" y="1245"/>
                    </a:lnTo>
                    <a:lnTo>
                      <a:pt x="340" y="1302"/>
                    </a:lnTo>
                    <a:lnTo>
                      <a:pt x="339" y="1360"/>
                    </a:lnTo>
                    <a:lnTo>
                      <a:pt x="337" y="1417"/>
                    </a:lnTo>
                    <a:lnTo>
                      <a:pt x="335" y="1474"/>
                    </a:lnTo>
                    <a:lnTo>
                      <a:pt x="332" y="1530"/>
                    </a:lnTo>
                    <a:lnTo>
                      <a:pt x="328" y="1587"/>
                    </a:lnTo>
                    <a:lnTo>
                      <a:pt x="324" y="1644"/>
                    </a:lnTo>
                    <a:lnTo>
                      <a:pt x="318" y="1699"/>
                    </a:lnTo>
                    <a:lnTo>
                      <a:pt x="312" y="1755"/>
                    </a:lnTo>
                    <a:lnTo>
                      <a:pt x="306" y="1811"/>
                    </a:lnTo>
                    <a:lnTo>
                      <a:pt x="298" y="1866"/>
                    </a:lnTo>
                    <a:lnTo>
                      <a:pt x="291" y="1922"/>
                    </a:lnTo>
                    <a:lnTo>
                      <a:pt x="281" y="1976"/>
                    </a:lnTo>
                    <a:lnTo>
                      <a:pt x="273" y="2032"/>
                    </a:lnTo>
                    <a:lnTo>
                      <a:pt x="263" y="2087"/>
                    </a:lnTo>
                    <a:lnTo>
                      <a:pt x="252" y="2141"/>
                    </a:lnTo>
                    <a:lnTo>
                      <a:pt x="242" y="2195"/>
                    </a:lnTo>
                    <a:lnTo>
                      <a:pt x="229" y="2249"/>
                    </a:lnTo>
                    <a:lnTo>
                      <a:pt x="217" y="2303"/>
                    </a:lnTo>
                    <a:lnTo>
                      <a:pt x="204" y="2357"/>
                    </a:lnTo>
                    <a:lnTo>
                      <a:pt x="190" y="2409"/>
                    </a:lnTo>
                    <a:lnTo>
                      <a:pt x="176" y="2463"/>
                    </a:lnTo>
                    <a:lnTo>
                      <a:pt x="161" y="2515"/>
                    </a:lnTo>
                    <a:lnTo>
                      <a:pt x="146" y="2568"/>
                    </a:lnTo>
                    <a:lnTo>
                      <a:pt x="129" y="2620"/>
                    </a:lnTo>
                    <a:lnTo>
                      <a:pt x="112" y="2672"/>
                    </a:lnTo>
                    <a:lnTo>
                      <a:pt x="95" y="2723"/>
                    </a:lnTo>
                    <a:lnTo>
                      <a:pt x="78" y="2774"/>
                    </a:lnTo>
                    <a:lnTo>
                      <a:pt x="59" y="2826"/>
                    </a:lnTo>
                    <a:lnTo>
                      <a:pt x="40" y="2877"/>
                    </a:lnTo>
                    <a:lnTo>
                      <a:pt x="20" y="2928"/>
                    </a:lnTo>
                    <a:lnTo>
                      <a:pt x="0" y="2977"/>
                    </a:lnTo>
                    <a:lnTo>
                      <a:pt x="65" y="2966"/>
                    </a:lnTo>
                    <a:lnTo>
                      <a:pt x="81" y="2962"/>
                    </a:lnTo>
                    <a:lnTo>
                      <a:pt x="100" y="2912"/>
                    </a:lnTo>
                    <a:lnTo>
                      <a:pt x="119" y="2863"/>
                    </a:lnTo>
                    <a:lnTo>
                      <a:pt x="137" y="2812"/>
                    </a:lnTo>
                    <a:lnTo>
                      <a:pt x="155" y="2761"/>
                    </a:lnTo>
                    <a:lnTo>
                      <a:pt x="172" y="2710"/>
                    </a:lnTo>
                    <a:lnTo>
                      <a:pt x="189" y="2659"/>
                    </a:lnTo>
                    <a:lnTo>
                      <a:pt x="206" y="2608"/>
                    </a:lnTo>
                    <a:lnTo>
                      <a:pt x="222" y="2555"/>
                    </a:lnTo>
                    <a:lnTo>
                      <a:pt x="236" y="2504"/>
                    </a:lnTo>
                    <a:lnTo>
                      <a:pt x="251" y="2451"/>
                    </a:lnTo>
                    <a:lnTo>
                      <a:pt x="265" y="2399"/>
                    </a:lnTo>
                    <a:lnTo>
                      <a:pt x="277" y="2346"/>
                    </a:lnTo>
                    <a:lnTo>
                      <a:pt x="290" y="2293"/>
                    </a:lnTo>
                    <a:lnTo>
                      <a:pt x="303" y="2239"/>
                    </a:lnTo>
                    <a:lnTo>
                      <a:pt x="314" y="2185"/>
                    </a:lnTo>
                    <a:lnTo>
                      <a:pt x="325" y="2132"/>
                    </a:lnTo>
                    <a:lnTo>
                      <a:pt x="334" y="2078"/>
                    </a:lnTo>
                    <a:lnTo>
                      <a:pt x="344" y="2024"/>
                    </a:lnTo>
                    <a:lnTo>
                      <a:pt x="353" y="1969"/>
                    </a:lnTo>
                    <a:lnTo>
                      <a:pt x="361" y="1915"/>
                    </a:lnTo>
                    <a:lnTo>
                      <a:pt x="369" y="1860"/>
                    </a:lnTo>
                    <a:lnTo>
                      <a:pt x="376" y="1805"/>
                    </a:lnTo>
                    <a:lnTo>
                      <a:pt x="382" y="1750"/>
                    </a:lnTo>
                    <a:lnTo>
                      <a:pt x="388" y="1695"/>
                    </a:lnTo>
                    <a:lnTo>
                      <a:pt x="393" y="1639"/>
                    </a:lnTo>
                    <a:lnTo>
                      <a:pt x="397" y="1584"/>
                    </a:lnTo>
                    <a:lnTo>
                      <a:pt x="401" y="1527"/>
                    </a:lnTo>
                    <a:lnTo>
                      <a:pt x="403" y="1471"/>
                    </a:lnTo>
                    <a:lnTo>
                      <a:pt x="407" y="1415"/>
                    </a:lnTo>
                    <a:lnTo>
                      <a:pt x="408" y="1358"/>
                    </a:lnTo>
                    <a:lnTo>
                      <a:pt x="409" y="1301"/>
                    </a:lnTo>
                    <a:lnTo>
                      <a:pt x="410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03640" y="2597040"/>
                <a:ext cx="131760" cy="949320"/>
              </a:xfrm>
              <a:custGeom>
                <a:avLst/>
                <a:gdLst/>
                <a:ahLst/>
                <a:rect l="l" t="t" r="r" b="b"/>
                <a:pathLst>
                  <a:path w="415" h="2986">
                    <a:moveTo>
                      <a:pt x="415" y="1245"/>
                    </a:moveTo>
                    <a:lnTo>
                      <a:pt x="414" y="1165"/>
                    </a:lnTo>
                    <a:lnTo>
                      <a:pt x="412" y="1084"/>
                    </a:lnTo>
                    <a:lnTo>
                      <a:pt x="409" y="1004"/>
                    </a:lnTo>
                    <a:lnTo>
                      <a:pt x="403" y="924"/>
                    </a:lnTo>
                    <a:lnTo>
                      <a:pt x="397" y="845"/>
                    </a:lnTo>
                    <a:lnTo>
                      <a:pt x="390" y="766"/>
                    </a:lnTo>
                    <a:lnTo>
                      <a:pt x="381" y="688"/>
                    </a:lnTo>
                    <a:lnTo>
                      <a:pt x="371" y="609"/>
                    </a:lnTo>
                    <a:lnTo>
                      <a:pt x="359" y="532"/>
                    </a:lnTo>
                    <a:lnTo>
                      <a:pt x="347" y="455"/>
                    </a:lnTo>
                    <a:lnTo>
                      <a:pt x="333" y="378"/>
                    </a:lnTo>
                    <a:lnTo>
                      <a:pt x="317" y="302"/>
                    </a:lnTo>
                    <a:lnTo>
                      <a:pt x="302" y="225"/>
                    </a:lnTo>
                    <a:lnTo>
                      <a:pt x="284" y="151"/>
                    </a:lnTo>
                    <a:lnTo>
                      <a:pt x="265" y="75"/>
                    </a:lnTo>
                    <a:lnTo>
                      <a:pt x="245" y="0"/>
                    </a:lnTo>
                    <a:lnTo>
                      <a:pt x="179" y="21"/>
                    </a:lnTo>
                    <a:lnTo>
                      <a:pt x="199" y="95"/>
                    </a:lnTo>
                    <a:lnTo>
                      <a:pt x="217" y="168"/>
                    </a:lnTo>
                    <a:lnTo>
                      <a:pt x="234" y="243"/>
                    </a:lnTo>
                    <a:lnTo>
                      <a:pt x="251" y="317"/>
                    </a:lnTo>
                    <a:lnTo>
                      <a:pt x="266" y="393"/>
                    </a:lnTo>
                    <a:lnTo>
                      <a:pt x="279" y="468"/>
                    </a:lnTo>
                    <a:lnTo>
                      <a:pt x="292" y="544"/>
                    </a:lnTo>
                    <a:lnTo>
                      <a:pt x="304" y="620"/>
                    </a:lnTo>
                    <a:lnTo>
                      <a:pt x="313" y="698"/>
                    </a:lnTo>
                    <a:lnTo>
                      <a:pt x="321" y="774"/>
                    </a:lnTo>
                    <a:lnTo>
                      <a:pt x="329" y="852"/>
                    </a:lnTo>
                    <a:lnTo>
                      <a:pt x="335" y="930"/>
                    </a:lnTo>
                    <a:lnTo>
                      <a:pt x="340" y="1008"/>
                    </a:lnTo>
                    <a:lnTo>
                      <a:pt x="344" y="1087"/>
                    </a:lnTo>
                    <a:lnTo>
                      <a:pt x="346" y="1166"/>
                    </a:lnTo>
                    <a:lnTo>
                      <a:pt x="346" y="1245"/>
                    </a:lnTo>
                    <a:lnTo>
                      <a:pt x="346" y="1302"/>
                    </a:lnTo>
                    <a:lnTo>
                      <a:pt x="345" y="1360"/>
                    </a:lnTo>
                    <a:lnTo>
                      <a:pt x="343" y="1418"/>
                    </a:lnTo>
                    <a:lnTo>
                      <a:pt x="340" y="1475"/>
                    </a:lnTo>
                    <a:lnTo>
                      <a:pt x="337" y="1532"/>
                    </a:lnTo>
                    <a:lnTo>
                      <a:pt x="333" y="1589"/>
                    </a:lnTo>
                    <a:lnTo>
                      <a:pt x="329" y="1646"/>
                    </a:lnTo>
                    <a:lnTo>
                      <a:pt x="324" y="1701"/>
                    </a:lnTo>
                    <a:lnTo>
                      <a:pt x="317" y="1758"/>
                    </a:lnTo>
                    <a:lnTo>
                      <a:pt x="311" y="1814"/>
                    </a:lnTo>
                    <a:lnTo>
                      <a:pt x="304" y="1869"/>
                    </a:lnTo>
                    <a:lnTo>
                      <a:pt x="295" y="1925"/>
                    </a:lnTo>
                    <a:lnTo>
                      <a:pt x="287" y="1981"/>
                    </a:lnTo>
                    <a:lnTo>
                      <a:pt x="277" y="2036"/>
                    </a:lnTo>
                    <a:lnTo>
                      <a:pt x="267" y="2091"/>
                    </a:lnTo>
                    <a:lnTo>
                      <a:pt x="256" y="2146"/>
                    </a:lnTo>
                    <a:lnTo>
                      <a:pt x="245" y="2200"/>
                    </a:lnTo>
                    <a:lnTo>
                      <a:pt x="233" y="2254"/>
                    </a:lnTo>
                    <a:lnTo>
                      <a:pt x="221" y="2308"/>
                    </a:lnTo>
                    <a:lnTo>
                      <a:pt x="207" y="2362"/>
                    </a:lnTo>
                    <a:lnTo>
                      <a:pt x="193" y="2415"/>
                    </a:lnTo>
                    <a:lnTo>
                      <a:pt x="179" y="2469"/>
                    </a:lnTo>
                    <a:lnTo>
                      <a:pt x="164" y="2521"/>
                    </a:lnTo>
                    <a:lnTo>
                      <a:pt x="148" y="2574"/>
                    </a:lnTo>
                    <a:lnTo>
                      <a:pt x="131" y="2626"/>
                    </a:lnTo>
                    <a:lnTo>
                      <a:pt x="114" y="2679"/>
                    </a:lnTo>
                    <a:lnTo>
                      <a:pt x="97" y="2730"/>
                    </a:lnTo>
                    <a:lnTo>
                      <a:pt x="79" y="2782"/>
                    </a:lnTo>
                    <a:lnTo>
                      <a:pt x="60" y="2833"/>
                    </a:lnTo>
                    <a:lnTo>
                      <a:pt x="40" y="2885"/>
                    </a:lnTo>
                    <a:lnTo>
                      <a:pt x="20" y="2935"/>
                    </a:lnTo>
                    <a:lnTo>
                      <a:pt x="0" y="2986"/>
                    </a:lnTo>
                    <a:lnTo>
                      <a:pt x="80" y="2970"/>
                    </a:lnTo>
                    <a:lnTo>
                      <a:pt x="100" y="2919"/>
                    </a:lnTo>
                    <a:lnTo>
                      <a:pt x="120" y="2869"/>
                    </a:lnTo>
                    <a:lnTo>
                      <a:pt x="139" y="2819"/>
                    </a:lnTo>
                    <a:lnTo>
                      <a:pt x="156" y="2768"/>
                    </a:lnTo>
                    <a:lnTo>
                      <a:pt x="174" y="2717"/>
                    </a:lnTo>
                    <a:lnTo>
                      <a:pt x="191" y="2665"/>
                    </a:lnTo>
                    <a:lnTo>
                      <a:pt x="208" y="2614"/>
                    </a:lnTo>
                    <a:lnTo>
                      <a:pt x="224" y="2561"/>
                    </a:lnTo>
                    <a:lnTo>
                      <a:pt x="238" y="2509"/>
                    </a:lnTo>
                    <a:lnTo>
                      <a:pt x="253" y="2456"/>
                    </a:lnTo>
                    <a:lnTo>
                      <a:pt x="267" y="2404"/>
                    </a:lnTo>
                    <a:lnTo>
                      <a:pt x="280" y="2350"/>
                    </a:lnTo>
                    <a:lnTo>
                      <a:pt x="294" y="2298"/>
                    </a:lnTo>
                    <a:lnTo>
                      <a:pt x="306" y="2244"/>
                    </a:lnTo>
                    <a:lnTo>
                      <a:pt x="317" y="2191"/>
                    </a:lnTo>
                    <a:lnTo>
                      <a:pt x="329" y="2136"/>
                    </a:lnTo>
                    <a:lnTo>
                      <a:pt x="338" y="2083"/>
                    </a:lnTo>
                    <a:lnTo>
                      <a:pt x="349" y="2028"/>
                    </a:lnTo>
                    <a:lnTo>
                      <a:pt x="357" y="1973"/>
                    </a:lnTo>
                    <a:lnTo>
                      <a:pt x="366" y="1919"/>
                    </a:lnTo>
                    <a:lnTo>
                      <a:pt x="374" y="1863"/>
                    </a:lnTo>
                    <a:lnTo>
                      <a:pt x="380" y="1808"/>
                    </a:lnTo>
                    <a:lnTo>
                      <a:pt x="387" y="1753"/>
                    </a:lnTo>
                    <a:lnTo>
                      <a:pt x="393" y="1697"/>
                    </a:lnTo>
                    <a:lnTo>
                      <a:pt x="398" y="1642"/>
                    </a:lnTo>
                    <a:lnTo>
                      <a:pt x="402" y="1585"/>
                    </a:lnTo>
                    <a:lnTo>
                      <a:pt x="407" y="1529"/>
                    </a:lnTo>
                    <a:lnTo>
                      <a:pt x="410" y="1472"/>
                    </a:lnTo>
                    <a:lnTo>
                      <a:pt x="412" y="1416"/>
                    </a:lnTo>
                    <a:lnTo>
                      <a:pt x="414" y="1359"/>
                    </a:lnTo>
                    <a:lnTo>
                      <a:pt x="415" y="1302"/>
                    </a:lnTo>
                    <a:lnTo>
                      <a:pt x="415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991040" y="2602080"/>
                <a:ext cx="133560" cy="946080"/>
              </a:xfrm>
              <a:custGeom>
                <a:avLst/>
                <a:gdLst/>
                <a:ahLst/>
                <a:rect l="l" t="t" r="r" b="b"/>
                <a:pathLst>
                  <a:path w="421" h="2982">
                    <a:moveTo>
                      <a:pt x="421" y="1234"/>
                    </a:moveTo>
                    <a:lnTo>
                      <a:pt x="420" y="1154"/>
                    </a:lnTo>
                    <a:lnTo>
                      <a:pt x="419" y="1074"/>
                    </a:lnTo>
                    <a:lnTo>
                      <a:pt x="415" y="995"/>
                    </a:lnTo>
                    <a:lnTo>
                      <a:pt x="411" y="917"/>
                    </a:lnTo>
                    <a:lnTo>
                      <a:pt x="405" y="838"/>
                    </a:lnTo>
                    <a:lnTo>
                      <a:pt x="397" y="759"/>
                    </a:lnTo>
                    <a:lnTo>
                      <a:pt x="388" y="681"/>
                    </a:lnTo>
                    <a:lnTo>
                      <a:pt x="378" y="604"/>
                    </a:lnTo>
                    <a:lnTo>
                      <a:pt x="367" y="527"/>
                    </a:lnTo>
                    <a:lnTo>
                      <a:pt x="354" y="450"/>
                    </a:lnTo>
                    <a:lnTo>
                      <a:pt x="340" y="375"/>
                    </a:lnTo>
                    <a:lnTo>
                      <a:pt x="326" y="298"/>
                    </a:lnTo>
                    <a:lnTo>
                      <a:pt x="309" y="224"/>
                    </a:lnTo>
                    <a:lnTo>
                      <a:pt x="291" y="149"/>
                    </a:lnTo>
                    <a:lnTo>
                      <a:pt x="272" y="74"/>
                    </a:lnTo>
                    <a:lnTo>
                      <a:pt x="252" y="0"/>
                    </a:lnTo>
                    <a:lnTo>
                      <a:pt x="203" y="17"/>
                    </a:lnTo>
                    <a:lnTo>
                      <a:pt x="186" y="17"/>
                    </a:lnTo>
                    <a:lnTo>
                      <a:pt x="205" y="89"/>
                    </a:lnTo>
                    <a:lnTo>
                      <a:pt x="224" y="163"/>
                    </a:lnTo>
                    <a:lnTo>
                      <a:pt x="242" y="236"/>
                    </a:lnTo>
                    <a:lnTo>
                      <a:pt x="257" y="311"/>
                    </a:lnTo>
                    <a:lnTo>
                      <a:pt x="272" y="385"/>
                    </a:lnTo>
                    <a:lnTo>
                      <a:pt x="286" y="461"/>
                    </a:lnTo>
                    <a:lnTo>
                      <a:pt x="298" y="536"/>
                    </a:lnTo>
                    <a:lnTo>
                      <a:pt x="310" y="612"/>
                    </a:lnTo>
                    <a:lnTo>
                      <a:pt x="319" y="689"/>
                    </a:lnTo>
                    <a:lnTo>
                      <a:pt x="329" y="765"/>
                    </a:lnTo>
                    <a:lnTo>
                      <a:pt x="336" y="843"/>
                    </a:lnTo>
                    <a:lnTo>
                      <a:pt x="341" y="920"/>
                    </a:lnTo>
                    <a:lnTo>
                      <a:pt x="347" y="998"/>
                    </a:lnTo>
                    <a:lnTo>
                      <a:pt x="350" y="1076"/>
                    </a:lnTo>
                    <a:lnTo>
                      <a:pt x="352" y="1155"/>
                    </a:lnTo>
                    <a:lnTo>
                      <a:pt x="353" y="1234"/>
                    </a:lnTo>
                    <a:lnTo>
                      <a:pt x="352" y="1292"/>
                    </a:lnTo>
                    <a:lnTo>
                      <a:pt x="351" y="1350"/>
                    </a:lnTo>
                    <a:lnTo>
                      <a:pt x="350" y="1408"/>
                    </a:lnTo>
                    <a:lnTo>
                      <a:pt x="347" y="1465"/>
                    </a:lnTo>
                    <a:lnTo>
                      <a:pt x="344" y="1522"/>
                    </a:lnTo>
                    <a:lnTo>
                      <a:pt x="339" y="1579"/>
                    </a:lnTo>
                    <a:lnTo>
                      <a:pt x="335" y="1637"/>
                    </a:lnTo>
                    <a:lnTo>
                      <a:pt x="330" y="1694"/>
                    </a:lnTo>
                    <a:lnTo>
                      <a:pt x="324" y="1749"/>
                    </a:lnTo>
                    <a:lnTo>
                      <a:pt x="316" y="1806"/>
                    </a:lnTo>
                    <a:lnTo>
                      <a:pt x="309" y="1862"/>
                    </a:lnTo>
                    <a:lnTo>
                      <a:pt x="300" y="1918"/>
                    </a:lnTo>
                    <a:lnTo>
                      <a:pt x="292" y="1974"/>
                    </a:lnTo>
                    <a:lnTo>
                      <a:pt x="283" y="2028"/>
                    </a:lnTo>
                    <a:lnTo>
                      <a:pt x="272" y="2084"/>
                    </a:lnTo>
                    <a:lnTo>
                      <a:pt x="262" y="2139"/>
                    </a:lnTo>
                    <a:lnTo>
                      <a:pt x="250" y="2193"/>
                    </a:lnTo>
                    <a:lnTo>
                      <a:pt x="237" y="2248"/>
                    </a:lnTo>
                    <a:lnTo>
                      <a:pt x="225" y="2303"/>
                    </a:lnTo>
                    <a:lnTo>
                      <a:pt x="211" y="2356"/>
                    </a:lnTo>
                    <a:lnTo>
                      <a:pt x="197" y="2410"/>
                    </a:lnTo>
                    <a:lnTo>
                      <a:pt x="183" y="2463"/>
                    </a:lnTo>
                    <a:lnTo>
                      <a:pt x="167" y="2517"/>
                    </a:lnTo>
                    <a:lnTo>
                      <a:pt x="151" y="2569"/>
                    </a:lnTo>
                    <a:lnTo>
                      <a:pt x="134" y="2622"/>
                    </a:lnTo>
                    <a:lnTo>
                      <a:pt x="117" y="2674"/>
                    </a:lnTo>
                    <a:lnTo>
                      <a:pt x="99" y="2727"/>
                    </a:lnTo>
                    <a:lnTo>
                      <a:pt x="81" y="2778"/>
                    </a:lnTo>
                    <a:lnTo>
                      <a:pt x="61" y="2830"/>
                    </a:lnTo>
                    <a:lnTo>
                      <a:pt x="42" y="2881"/>
                    </a:lnTo>
                    <a:lnTo>
                      <a:pt x="21" y="2931"/>
                    </a:lnTo>
                    <a:lnTo>
                      <a:pt x="0" y="2982"/>
                    </a:lnTo>
                    <a:lnTo>
                      <a:pt x="4" y="2981"/>
                    </a:lnTo>
                    <a:lnTo>
                      <a:pt x="81" y="2966"/>
                    </a:lnTo>
                    <a:lnTo>
                      <a:pt x="101" y="2917"/>
                    </a:lnTo>
                    <a:lnTo>
                      <a:pt x="121" y="2866"/>
                    </a:lnTo>
                    <a:lnTo>
                      <a:pt x="140" y="2815"/>
                    </a:lnTo>
                    <a:lnTo>
                      <a:pt x="159" y="2763"/>
                    </a:lnTo>
                    <a:lnTo>
                      <a:pt x="176" y="2712"/>
                    </a:lnTo>
                    <a:lnTo>
                      <a:pt x="193" y="2661"/>
                    </a:lnTo>
                    <a:lnTo>
                      <a:pt x="210" y="2609"/>
                    </a:lnTo>
                    <a:lnTo>
                      <a:pt x="227" y="2557"/>
                    </a:lnTo>
                    <a:lnTo>
                      <a:pt x="242" y="2504"/>
                    </a:lnTo>
                    <a:lnTo>
                      <a:pt x="257" y="2452"/>
                    </a:lnTo>
                    <a:lnTo>
                      <a:pt x="271" y="2398"/>
                    </a:lnTo>
                    <a:lnTo>
                      <a:pt x="285" y="2346"/>
                    </a:lnTo>
                    <a:lnTo>
                      <a:pt x="298" y="2292"/>
                    </a:lnTo>
                    <a:lnTo>
                      <a:pt x="310" y="2238"/>
                    </a:lnTo>
                    <a:lnTo>
                      <a:pt x="323" y="2184"/>
                    </a:lnTo>
                    <a:lnTo>
                      <a:pt x="333" y="2130"/>
                    </a:lnTo>
                    <a:lnTo>
                      <a:pt x="344" y="2076"/>
                    </a:lnTo>
                    <a:lnTo>
                      <a:pt x="354" y="2021"/>
                    </a:lnTo>
                    <a:lnTo>
                      <a:pt x="362" y="1965"/>
                    </a:lnTo>
                    <a:lnTo>
                      <a:pt x="372" y="1911"/>
                    </a:lnTo>
                    <a:lnTo>
                      <a:pt x="379" y="1855"/>
                    </a:lnTo>
                    <a:lnTo>
                      <a:pt x="387" y="1800"/>
                    </a:lnTo>
                    <a:lnTo>
                      <a:pt x="393" y="1744"/>
                    </a:lnTo>
                    <a:lnTo>
                      <a:pt x="399" y="1688"/>
                    </a:lnTo>
                    <a:lnTo>
                      <a:pt x="405" y="1633"/>
                    </a:lnTo>
                    <a:lnTo>
                      <a:pt x="409" y="1576"/>
                    </a:lnTo>
                    <a:lnTo>
                      <a:pt x="413" y="1519"/>
                    </a:lnTo>
                    <a:lnTo>
                      <a:pt x="416" y="1463"/>
                    </a:lnTo>
                    <a:lnTo>
                      <a:pt x="418" y="1406"/>
                    </a:lnTo>
                    <a:lnTo>
                      <a:pt x="420" y="1349"/>
                    </a:lnTo>
                    <a:lnTo>
                      <a:pt x="421" y="1291"/>
                    </a:lnTo>
                    <a:lnTo>
                      <a:pt x="421" y="123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78440" y="2604960"/>
                <a:ext cx="135000" cy="944640"/>
              </a:xfrm>
              <a:custGeom>
                <a:avLst/>
                <a:gdLst/>
                <a:ahLst/>
                <a:rect l="l" t="t" r="r" b="b"/>
                <a:pathLst>
                  <a:path w="427" h="2979">
                    <a:moveTo>
                      <a:pt x="427" y="1224"/>
                    </a:moveTo>
                    <a:lnTo>
                      <a:pt x="427" y="1145"/>
                    </a:lnTo>
                    <a:lnTo>
                      <a:pt x="425" y="1066"/>
                    </a:lnTo>
                    <a:lnTo>
                      <a:pt x="421" y="987"/>
                    </a:lnTo>
                    <a:lnTo>
                      <a:pt x="416" y="909"/>
                    </a:lnTo>
                    <a:lnTo>
                      <a:pt x="410" y="831"/>
                    </a:lnTo>
                    <a:lnTo>
                      <a:pt x="402" y="753"/>
                    </a:lnTo>
                    <a:lnTo>
                      <a:pt x="394" y="677"/>
                    </a:lnTo>
                    <a:lnTo>
                      <a:pt x="385" y="599"/>
                    </a:lnTo>
                    <a:lnTo>
                      <a:pt x="373" y="523"/>
                    </a:lnTo>
                    <a:lnTo>
                      <a:pt x="360" y="447"/>
                    </a:lnTo>
                    <a:lnTo>
                      <a:pt x="347" y="372"/>
                    </a:lnTo>
                    <a:lnTo>
                      <a:pt x="332" y="296"/>
                    </a:lnTo>
                    <a:lnTo>
                      <a:pt x="315" y="222"/>
                    </a:lnTo>
                    <a:lnTo>
                      <a:pt x="298" y="147"/>
                    </a:lnTo>
                    <a:lnTo>
                      <a:pt x="280" y="74"/>
                    </a:lnTo>
                    <a:lnTo>
                      <a:pt x="260" y="0"/>
                    </a:lnTo>
                    <a:lnTo>
                      <a:pt x="243" y="7"/>
                    </a:lnTo>
                    <a:lnTo>
                      <a:pt x="190" y="7"/>
                    </a:lnTo>
                    <a:lnTo>
                      <a:pt x="210" y="79"/>
                    </a:lnTo>
                    <a:lnTo>
                      <a:pt x="229" y="153"/>
                    </a:lnTo>
                    <a:lnTo>
                      <a:pt x="246" y="226"/>
                    </a:lnTo>
                    <a:lnTo>
                      <a:pt x="263" y="301"/>
                    </a:lnTo>
                    <a:lnTo>
                      <a:pt x="277" y="375"/>
                    </a:lnTo>
                    <a:lnTo>
                      <a:pt x="291" y="451"/>
                    </a:lnTo>
                    <a:lnTo>
                      <a:pt x="304" y="526"/>
                    </a:lnTo>
                    <a:lnTo>
                      <a:pt x="315" y="602"/>
                    </a:lnTo>
                    <a:lnTo>
                      <a:pt x="325" y="679"/>
                    </a:lnTo>
                    <a:lnTo>
                      <a:pt x="334" y="755"/>
                    </a:lnTo>
                    <a:lnTo>
                      <a:pt x="342" y="832"/>
                    </a:lnTo>
                    <a:lnTo>
                      <a:pt x="348" y="910"/>
                    </a:lnTo>
                    <a:lnTo>
                      <a:pt x="352" y="988"/>
                    </a:lnTo>
                    <a:lnTo>
                      <a:pt x="355" y="1066"/>
                    </a:lnTo>
                    <a:lnTo>
                      <a:pt x="357" y="1145"/>
                    </a:lnTo>
                    <a:lnTo>
                      <a:pt x="358" y="1224"/>
                    </a:lnTo>
                    <a:lnTo>
                      <a:pt x="358" y="1282"/>
                    </a:lnTo>
                    <a:lnTo>
                      <a:pt x="357" y="1340"/>
                    </a:lnTo>
                    <a:lnTo>
                      <a:pt x="355" y="1398"/>
                    </a:lnTo>
                    <a:lnTo>
                      <a:pt x="352" y="1456"/>
                    </a:lnTo>
                    <a:lnTo>
                      <a:pt x="349" y="1513"/>
                    </a:lnTo>
                    <a:lnTo>
                      <a:pt x="345" y="1571"/>
                    </a:lnTo>
                    <a:lnTo>
                      <a:pt x="340" y="1628"/>
                    </a:lnTo>
                    <a:lnTo>
                      <a:pt x="335" y="1686"/>
                    </a:lnTo>
                    <a:lnTo>
                      <a:pt x="329" y="1742"/>
                    </a:lnTo>
                    <a:lnTo>
                      <a:pt x="322" y="1799"/>
                    </a:lnTo>
                    <a:lnTo>
                      <a:pt x="314" y="1855"/>
                    </a:lnTo>
                    <a:lnTo>
                      <a:pt x="306" y="1911"/>
                    </a:lnTo>
                    <a:lnTo>
                      <a:pt x="296" y="1967"/>
                    </a:lnTo>
                    <a:lnTo>
                      <a:pt x="287" y="2023"/>
                    </a:lnTo>
                    <a:lnTo>
                      <a:pt x="276" y="2078"/>
                    </a:lnTo>
                    <a:lnTo>
                      <a:pt x="266" y="2133"/>
                    </a:lnTo>
                    <a:lnTo>
                      <a:pt x="254" y="2189"/>
                    </a:lnTo>
                    <a:lnTo>
                      <a:pt x="242" y="2243"/>
                    </a:lnTo>
                    <a:lnTo>
                      <a:pt x="228" y="2297"/>
                    </a:lnTo>
                    <a:lnTo>
                      <a:pt x="214" y="2351"/>
                    </a:lnTo>
                    <a:lnTo>
                      <a:pt x="200" y="2405"/>
                    </a:lnTo>
                    <a:lnTo>
                      <a:pt x="185" y="2458"/>
                    </a:lnTo>
                    <a:lnTo>
                      <a:pt x="169" y="2512"/>
                    </a:lnTo>
                    <a:lnTo>
                      <a:pt x="153" y="2566"/>
                    </a:lnTo>
                    <a:lnTo>
                      <a:pt x="136" y="2618"/>
                    </a:lnTo>
                    <a:lnTo>
                      <a:pt x="119" y="2671"/>
                    </a:lnTo>
                    <a:lnTo>
                      <a:pt x="100" y="2723"/>
                    </a:lnTo>
                    <a:lnTo>
                      <a:pt x="81" y="2774"/>
                    </a:lnTo>
                    <a:lnTo>
                      <a:pt x="62" y="2826"/>
                    </a:lnTo>
                    <a:lnTo>
                      <a:pt x="42" y="2877"/>
                    </a:lnTo>
                    <a:lnTo>
                      <a:pt x="21" y="2929"/>
                    </a:lnTo>
                    <a:lnTo>
                      <a:pt x="0" y="2979"/>
                    </a:lnTo>
                    <a:lnTo>
                      <a:pt x="44" y="2971"/>
                    </a:lnTo>
                    <a:lnTo>
                      <a:pt x="81" y="2965"/>
                    </a:lnTo>
                    <a:lnTo>
                      <a:pt x="101" y="2914"/>
                    </a:lnTo>
                    <a:lnTo>
                      <a:pt x="121" y="2864"/>
                    </a:lnTo>
                    <a:lnTo>
                      <a:pt x="141" y="2812"/>
                    </a:lnTo>
                    <a:lnTo>
                      <a:pt x="160" y="2761"/>
                    </a:lnTo>
                    <a:lnTo>
                      <a:pt x="178" y="2709"/>
                    </a:lnTo>
                    <a:lnTo>
                      <a:pt x="195" y="2658"/>
                    </a:lnTo>
                    <a:lnTo>
                      <a:pt x="212" y="2605"/>
                    </a:lnTo>
                    <a:lnTo>
                      <a:pt x="229" y="2553"/>
                    </a:lnTo>
                    <a:lnTo>
                      <a:pt x="245" y="2500"/>
                    </a:lnTo>
                    <a:lnTo>
                      <a:pt x="260" y="2448"/>
                    </a:lnTo>
                    <a:lnTo>
                      <a:pt x="274" y="2394"/>
                    </a:lnTo>
                    <a:lnTo>
                      <a:pt x="288" y="2341"/>
                    </a:lnTo>
                    <a:lnTo>
                      <a:pt x="302" y="2287"/>
                    </a:lnTo>
                    <a:lnTo>
                      <a:pt x="314" y="2233"/>
                    </a:lnTo>
                    <a:lnTo>
                      <a:pt x="326" y="2179"/>
                    </a:lnTo>
                    <a:lnTo>
                      <a:pt x="337" y="2125"/>
                    </a:lnTo>
                    <a:lnTo>
                      <a:pt x="348" y="2070"/>
                    </a:lnTo>
                    <a:lnTo>
                      <a:pt x="358" y="2015"/>
                    </a:lnTo>
                    <a:lnTo>
                      <a:pt x="368" y="1960"/>
                    </a:lnTo>
                    <a:lnTo>
                      <a:pt x="376" y="1904"/>
                    </a:lnTo>
                    <a:lnTo>
                      <a:pt x="385" y="1848"/>
                    </a:lnTo>
                    <a:lnTo>
                      <a:pt x="392" y="1793"/>
                    </a:lnTo>
                    <a:lnTo>
                      <a:pt x="398" y="1737"/>
                    </a:lnTo>
                    <a:lnTo>
                      <a:pt x="405" y="1680"/>
                    </a:lnTo>
                    <a:lnTo>
                      <a:pt x="410" y="1625"/>
                    </a:lnTo>
                    <a:lnTo>
                      <a:pt x="414" y="1568"/>
                    </a:lnTo>
                    <a:lnTo>
                      <a:pt x="418" y="1511"/>
                    </a:lnTo>
                    <a:lnTo>
                      <a:pt x="421" y="1454"/>
                    </a:lnTo>
                    <a:lnTo>
                      <a:pt x="424" y="1397"/>
                    </a:lnTo>
                    <a:lnTo>
                      <a:pt x="426" y="1339"/>
                    </a:lnTo>
                    <a:lnTo>
                      <a:pt x="427" y="1281"/>
                    </a:lnTo>
                    <a:lnTo>
                      <a:pt x="427" y="122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964040" y="2606760"/>
                <a:ext cx="138240" cy="946080"/>
              </a:xfrm>
              <a:custGeom>
                <a:avLst/>
                <a:gdLst/>
                <a:ahLst/>
                <a:rect l="l" t="t" r="r" b="b"/>
                <a:pathLst>
                  <a:path w="434" h="2980">
                    <a:moveTo>
                      <a:pt x="434" y="1217"/>
                    </a:moveTo>
                    <a:lnTo>
                      <a:pt x="433" y="1138"/>
                    </a:lnTo>
                    <a:lnTo>
                      <a:pt x="431" y="1059"/>
                    </a:lnTo>
                    <a:lnTo>
                      <a:pt x="428" y="981"/>
                    </a:lnTo>
                    <a:lnTo>
                      <a:pt x="422" y="903"/>
                    </a:lnTo>
                    <a:lnTo>
                      <a:pt x="417" y="826"/>
                    </a:lnTo>
                    <a:lnTo>
                      <a:pt x="410" y="748"/>
                    </a:lnTo>
                    <a:lnTo>
                      <a:pt x="400" y="672"/>
                    </a:lnTo>
                    <a:lnTo>
                      <a:pt x="391" y="595"/>
                    </a:lnTo>
                    <a:lnTo>
                      <a:pt x="379" y="519"/>
                    </a:lnTo>
                    <a:lnTo>
                      <a:pt x="367" y="444"/>
                    </a:lnTo>
                    <a:lnTo>
                      <a:pt x="353" y="368"/>
                    </a:lnTo>
                    <a:lnTo>
                      <a:pt x="338" y="294"/>
                    </a:lnTo>
                    <a:lnTo>
                      <a:pt x="323" y="219"/>
                    </a:lnTo>
                    <a:lnTo>
                      <a:pt x="305" y="146"/>
                    </a:lnTo>
                    <a:lnTo>
                      <a:pt x="286" y="72"/>
                    </a:lnTo>
                    <a:lnTo>
                      <a:pt x="267" y="0"/>
                    </a:lnTo>
                    <a:lnTo>
                      <a:pt x="227" y="0"/>
                    </a:lnTo>
                    <a:lnTo>
                      <a:pt x="200" y="13"/>
                    </a:lnTo>
                    <a:lnTo>
                      <a:pt x="219" y="86"/>
                    </a:lnTo>
                    <a:lnTo>
                      <a:pt x="237" y="158"/>
                    </a:lnTo>
                    <a:lnTo>
                      <a:pt x="254" y="231"/>
                    </a:lnTo>
                    <a:lnTo>
                      <a:pt x="270" y="304"/>
                    </a:lnTo>
                    <a:lnTo>
                      <a:pt x="286" y="379"/>
                    </a:lnTo>
                    <a:lnTo>
                      <a:pt x="299" y="452"/>
                    </a:lnTo>
                    <a:lnTo>
                      <a:pt x="311" y="528"/>
                    </a:lnTo>
                    <a:lnTo>
                      <a:pt x="323" y="602"/>
                    </a:lnTo>
                    <a:lnTo>
                      <a:pt x="332" y="678"/>
                    </a:lnTo>
                    <a:lnTo>
                      <a:pt x="340" y="754"/>
                    </a:lnTo>
                    <a:lnTo>
                      <a:pt x="348" y="830"/>
                    </a:lnTo>
                    <a:lnTo>
                      <a:pt x="354" y="907"/>
                    </a:lnTo>
                    <a:lnTo>
                      <a:pt x="358" y="984"/>
                    </a:lnTo>
                    <a:lnTo>
                      <a:pt x="363" y="1061"/>
                    </a:lnTo>
                    <a:lnTo>
                      <a:pt x="365" y="1139"/>
                    </a:lnTo>
                    <a:lnTo>
                      <a:pt x="365" y="1217"/>
                    </a:lnTo>
                    <a:lnTo>
                      <a:pt x="365" y="1275"/>
                    </a:lnTo>
                    <a:lnTo>
                      <a:pt x="364" y="1334"/>
                    </a:lnTo>
                    <a:lnTo>
                      <a:pt x="362" y="1392"/>
                    </a:lnTo>
                    <a:lnTo>
                      <a:pt x="358" y="1451"/>
                    </a:lnTo>
                    <a:lnTo>
                      <a:pt x="355" y="1509"/>
                    </a:lnTo>
                    <a:lnTo>
                      <a:pt x="351" y="1566"/>
                    </a:lnTo>
                    <a:lnTo>
                      <a:pt x="347" y="1623"/>
                    </a:lnTo>
                    <a:lnTo>
                      <a:pt x="340" y="1681"/>
                    </a:lnTo>
                    <a:lnTo>
                      <a:pt x="334" y="1737"/>
                    </a:lnTo>
                    <a:lnTo>
                      <a:pt x="328" y="1794"/>
                    </a:lnTo>
                    <a:lnTo>
                      <a:pt x="319" y="1851"/>
                    </a:lnTo>
                    <a:lnTo>
                      <a:pt x="311" y="1908"/>
                    </a:lnTo>
                    <a:lnTo>
                      <a:pt x="302" y="1963"/>
                    </a:lnTo>
                    <a:lnTo>
                      <a:pt x="292" y="2020"/>
                    </a:lnTo>
                    <a:lnTo>
                      <a:pt x="282" y="2076"/>
                    </a:lnTo>
                    <a:lnTo>
                      <a:pt x="270" y="2130"/>
                    </a:lnTo>
                    <a:lnTo>
                      <a:pt x="258" y="2186"/>
                    </a:lnTo>
                    <a:lnTo>
                      <a:pt x="246" y="2240"/>
                    </a:lnTo>
                    <a:lnTo>
                      <a:pt x="232" y="2295"/>
                    </a:lnTo>
                    <a:lnTo>
                      <a:pt x="219" y="2350"/>
                    </a:lnTo>
                    <a:lnTo>
                      <a:pt x="204" y="2404"/>
                    </a:lnTo>
                    <a:lnTo>
                      <a:pt x="188" y="2458"/>
                    </a:lnTo>
                    <a:lnTo>
                      <a:pt x="172" y="2511"/>
                    </a:lnTo>
                    <a:lnTo>
                      <a:pt x="155" y="2564"/>
                    </a:lnTo>
                    <a:lnTo>
                      <a:pt x="139" y="2617"/>
                    </a:lnTo>
                    <a:lnTo>
                      <a:pt x="121" y="2670"/>
                    </a:lnTo>
                    <a:lnTo>
                      <a:pt x="102" y="2722"/>
                    </a:lnTo>
                    <a:lnTo>
                      <a:pt x="83" y="2775"/>
                    </a:lnTo>
                    <a:lnTo>
                      <a:pt x="63" y="2826"/>
                    </a:lnTo>
                    <a:lnTo>
                      <a:pt x="43" y="2878"/>
                    </a:lnTo>
                    <a:lnTo>
                      <a:pt x="22" y="2929"/>
                    </a:lnTo>
                    <a:lnTo>
                      <a:pt x="0" y="2980"/>
                    </a:lnTo>
                    <a:lnTo>
                      <a:pt x="81" y="2965"/>
                    </a:lnTo>
                    <a:lnTo>
                      <a:pt x="102" y="2914"/>
                    </a:lnTo>
                    <a:lnTo>
                      <a:pt x="123" y="2864"/>
                    </a:lnTo>
                    <a:lnTo>
                      <a:pt x="142" y="2813"/>
                    </a:lnTo>
                    <a:lnTo>
                      <a:pt x="162" y="2761"/>
                    </a:lnTo>
                    <a:lnTo>
                      <a:pt x="180" y="2710"/>
                    </a:lnTo>
                    <a:lnTo>
                      <a:pt x="198" y="2657"/>
                    </a:lnTo>
                    <a:lnTo>
                      <a:pt x="215" y="2605"/>
                    </a:lnTo>
                    <a:lnTo>
                      <a:pt x="232" y="2552"/>
                    </a:lnTo>
                    <a:lnTo>
                      <a:pt x="248" y="2500"/>
                    </a:lnTo>
                    <a:lnTo>
                      <a:pt x="264" y="2446"/>
                    </a:lnTo>
                    <a:lnTo>
                      <a:pt x="278" y="2393"/>
                    </a:lnTo>
                    <a:lnTo>
                      <a:pt x="292" y="2339"/>
                    </a:lnTo>
                    <a:lnTo>
                      <a:pt x="306" y="2286"/>
                    </a:lnTo>
                    <a:lnTo>
                      <a:pt x="318" y="2231"/>
                    </a:lnTo>
                    <a:lnTo>
                      <a:pt x="331" y="2176"/>
                    </a:lnTo>
                    <a:lnTo>
                      <a:pt x="343" y="2122"/>
                    </a:lnTo>
                    <a:lnTo>
                      <a:pt x="353" y="2067"/>
                    </a:lnTo>
                    <a:lnTo>
                      <a:pt x="364" y="2011"/>
                    </a:lnTo>
                    <a:lnTo>
                      <a:pt x="373" y="1957"/>
                    </a:lnTo>
                    <a:lnTo>
                      <a:pt x="383" y="1901"/>
                    </a:lnTo>
                    <a:lnTo>
                      <a:pt x="390" y="1845"/>
                    </a:lnTo>
                    <a:lnTo>
                      <a:pt x="397" y="1789"/>
                    </a:lnTo>
                    <a:lnTo>
                      <a:pt x="405" y="1732"/>
                    </a:lnTo>
                    <a:lnTo>
                      <a:pt x="411" y="1677"/>
                    </a:lnTo>
                    <a:lnTo>
                      <a:pt x="416" y="1620"/>
                    </a:lnTo>
                    <a:lnTo>
                      <a:pt x="420" y="1562"/>
                    </a:lnTo>
                    <a:lnTo>
                      <a:pt x="425" y="1505"/>
                    </a:lnTo>
                    <a:lnTo>
                      <a:pt x="428" y="1448"/>
                    </a:lnTo>
                    <a:lnTo>
                      <a:pt x="431" y="1391"/>
                    </a:lnTo>
                    <a:lnTo>
                      <a:pt x="432" y="1333"/>
                    </a:lnTo>
                    <a:lnTo>
                      <a:pt x="433" y="1275"/>
                    </a:lnTo>
                    <a:lnTo>
                      <a:pt x="434" y="121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951440" y="2606760"/>
                <a:ext cx="139680" cy="947520"/>
              </a:xfrm>
              <a:custGeom>
                <a:avLst/>
                <a:gdLst/>
                <a:ahLst/>
                <a:rect l="l" t="t" r="r" b="b"/>
                <a:pathLst>
                  <a:path w="440" h="2987">
                    <a:moveTo>
                      <a:pt x="440" y="1217"/>
                    </a:moveTo>
                    <a:lnTo>
                      <a:pt x="439" y="1138"/>
                    </a:lnTo>
                    <a:lnTo>
                      <a:pt x="437" y="1059"/>
                    </a:lnTo>
                    <a:lnTo>
                      <a:pt x="434" y="981"/>
                    </a:lnTo>
                    <a:lnTo>
                      <a:pt x="430" y="903"/>
                    </a:lnTo>
                    <a:lnTo>
                      <a:pt x="424" y="825"/>
                    </a:lnTo>
                    <a:lnTo>
                      <a:pt x="416" y="748"/>
                    </a:lnTo>
                    <a:lnTo>
                      <a:pt x="407" y="672"/>
                    </a:lnTo>
                    <a:lnTo>
                      <a:pt x="397" y="595"/>
                    </a:lnTo>
                    <a:lnTo>
                      <a:pt x="386" y="519"/>
                    </a:lnTo>
                    <a:lnTo>
                      <a:pt x="373" y="444"/>
                    </a:lnTo>
                    <a:lnTo>
                      <a:pt x="359" y="368"/>
                    </a:lnTo>
                    <a:lnTo>
                      <a:pt x="345" y="294"/>
                    </a:lnTo>
                    <a:lnTo>
                      <a:pt x="328" y="219"/>
                    </a:lnTo>
                    <a:lnTo>
                      <a:pt x="311" y="146"/>
                    </a:lnTo>
                    <a:lnTo>
                      <a:pt x="292" y="72"/>
                    </a:lnTo>
                    <a:lnTo>
                      <a:pt x="272" y="0"/>
                    </a:lnTo>
                    <a:lnTo>
                      <a:pt x="268" y="0"/>
                    </a:lnTo>
                    <a:lnTo>
                      <a:pt x="211" y="29"/>
                    </a:lnTo>
                    <a:lnTo>
                      <a:pt x="209" y="30"/>
                    </a:lnTo>
                    <a:lnTo>
                      <a:pt x="228" y="102"/>
                    </a:lnTo>
                    <a:lnTo>
                      <a:pt x="246" y="173"/>
                    </a:lnTo>
                    <a:lnTo>
                      <a:pt x="263" y="244"/>
                    </a:lnTo>
                    <a:lnTo>
                      <a:pt x="278" y="317"/>
                    </a:lnTo>
                    <a:lnTo>
                      <a:pt x="293" y="390"/>
                    </a:lnTo>
                    <a:lnTo>
                      <a:pt x="307" y="463"/>
                    </a:lnTo>
                    <a:lnTo>
                      <a:pt x="318" y="537"/>
                    </a:lnTo>
                    <a:lnTo>
                      <a:pt x="330" y="611"/>
                    </a:lnTo>
                    <a:lnTo>
                      <a:pt x="339" y="685"/>
                    </a:lnTo>
                    <a:lnTo>
                      <a:pt x="348" y="760"/>
                    </a:lnTo>
                    <a:lnTo>
                      <a:pt x="355" y="835"/>
                    </a:lnTo>
                    <a:lnTo>
                      <a:pt x="360" y="911"/>
                    </a:lnTo>
                    <a:lnTo>
                      <a:pt x="366" y="987"/>
                    </a:lnTo>
                    <a:lnTo>
                      <a:pt x="369" y="1063"/>
                    </a:lnTo>
                    <a:lnTo>
                      <a:pt x="371" y="1140"/>
                    </a:lnTo>
                    <a:lnTo>
                      <a:pt x="372" y="1217"/>
                    </a:lnTo>
                    <a:lnTo>
                      <a:pt x="371" y="1275"/>
                    </a:lnTo>
                    <a:lnTo>
                      <a:pt x="370" y="1334"/>
                    </a:lnTo>
                    <a:lnTo>
                      <a:pt x="368" y="1393"/>
                    </a:lnTo>
                    <a:lnTo>
                      <a:pt x="366" y="1452"/>
                    </a:lnTo>
                    <a:lnTo>
                      <a:pt x="362" y="1510"/>
                    </a:lnTo>
                    <a:lnTo>
                      <a:pt x="357" y="1567"/>
                    </a:lnTo>
                    <a:lnTo>
                      <a:pt x="353" y="1625"/>
                    </a:lnTo>
                    <a:lnTo>
                      <a:pt x="347" y="1683"/>
                    </a:lnTo>
                    <a:lnTo>
                      <a:pt x="340" y="1741"/>
                    </a:lnTo>
                    <a:lnTo>
                      <a:pt x="333" y="1797"/>
                    </a:lnTo>
                    <a:lnTo>
                      <a:pt x="326" y="1854"/>
                    </a:lnTo>
                    <a:lnTo>
                      <a:pt x="317" y="1911"/>
                    </a:lnTo>
                    <a:lnTo>
                      <a:pt x="308" y="1967"/>
                    </a:lnTo>
                    <a:lnTo>
                      <a:pt x="297" y="2023"/>
                    </a:lnTo>
                    <a:lnTo>
                      <a:pt x="287" y="2080"/>
                    </a:lnTo>
                    <a:lnTo>
                      <a:pt x="275" y="2134"/>
                    </a:lnTo>
                    <a:lnTo>
                      <a:pt x="263" y="2190"/>
                    </a:lnTo>
                    <a:lnTo>
                      <a:pt x="250" y="2246"/>
                    </a:lnTo>
                    <a:lnTo>
                      <a:pt x="236" y="2300"/>
                    </a:lnTo>
                    <a:lnTo>
                      <a:pt x="223" y="2355"/>
                    </a:lnTo>
                    <a:lnTo>
                      <a:pt x="207" y="2409"/>
                    </a:lnTo>
                    <a:lnTo>
                      <a:pt x="192" y="2463"/>
                    </a:lnTo>
                    <a:lnTo>
                      <a:pt x="175" y="2517"/>
                    </a:lnTo>
                    <a:lnTo>
                      <a:pt x="159" y="2570"/>
                    </a:lnTo>
                    <a:lnTo>
                      <a:pt x="141" y="2624"/>
                    </a:lnTo>
                    <a:lnTo>
                      <a:pt x="123" y="2676"/>
                    </a:lnTo>
                    <a:lnTo>
                      <a:pt x="104" y="2729"/>
                    </a:lnTo>
                    <a:lnTo>
                      <a:pt x="85" y="2781"/>
                    </a:lnTo>
                    <a:lnTo>
                      <a:pt x="64" y="2833"/>
                    </a:lnTo>
                    <a:lnTo>
                      <a:pt x="44" y="2884"/>
                    </a:lnTo>
                    <a:lnTo>
                      <a:pt x="22" y="2935"/>
                    </a:lnTo>
                    <a:lnTo>
                      <a:pt x="0" y="2987"/>
                    </a:lnTo>
                    <a:lnTo>
                      <a:pt x="82" y="2972"/>
                    </a:lnTo>
                    <a:lnTo>
                      <a:pt x="103" y="2922"/>
                    </a:lnTo>
                    <a:lnTo>
                      <a:pt x="124" y="2870"/>
                    </a:lnTo>
                    <a:lnTo>
                      <a:pt x="144" y="2819"/>
                    </a:lnTo>
                    <a:lnTo>
                      <a:pt x="163" y="2767"/>
                    </a:lnTo>
                    <a:lnTo>
                      <a:pt x="182" y="2716"/>
                    </a:lnTo>
                    <a:lnTo>
                      <a:pt x="201" y="2664"/>
                    </a:lnTo>
                    <a:lnTo>
                      <a:pt x="218" y="2611"/>
                    </a:lnTo>
                    <a:lnTo>
                      <a:pt x="235" y="2559"/>
                    </a:lnTo>
                    <a:lnTo>
                      <a:pt x="251" y="2505"/>
                    </a:lnTo>
                    <a:lnTo>
                      <a:pt x="267" y="2451"/>
                    </a:lnTo>
                    <a:lnTo>
                      <a:pt x="282" y="2398"/>
                    </a:lnTo>
                    <a:lnTo>
                      <a:pt x="296" y="2344"/>
                    </a:lnTo>
                    <a:lnTo>
                      <a:pt x="310" y="2290"/>
                    </a:lnTo>
                    <a:lnTo>
                      <a:pt x="324" y="2236"/>
                    </a:lnTo>
                    <a:lnTo>
                      <a:pt x="335" y="2182"/>
                    </a:lnTo>
                    <a:lnTo>
                      <a:pt x="348" y="2126"/>
                    </a:lnTo>
                    <a:lnTo>
                      <a:pt x="358" y="2071"/>
                    </a:lnTo>
                    <a:lnTo>
                      <a:pt x="369" y="2016"/>
                    </a:lnTo>
                    <a:lnTo>
                      <a:pt x="378" y="1960"/>
                    </a:lnTo>
                    <a:lnTo>
                      <a:pt x="388" y="1904"/>
                    </a:lnTo>
                    <a:lnTo>
                      <a:pt x="396" y="1848"/>
                    </a:lnTo>
                    <a:lnTo>
                      <a:pt x="404" y="1792"/>
                    </a:lnTo>
                    <a:lnTo>
                      <a:pt x="411" y="1735"/>
                    </a:lnTo>
                    <a:lnTo>
                      <a:pt x="417" y="1679"/>
                    </a:lnTo>
                    <a:lnTo>
                      <a:pt x="422" y="1621"/>
                    </a:lnTo>
                    <a:lnTo>
                      <a:pt x="427" y="1564"/>
                    </a:lnTo>
                    <a:lnTo>
                      <a:pt x="431" y="1506"/>
                    </a:lnTo>
                    <a:lnTo>
                      <a:pt x="434" y="1449"/>
                    </a:lnTo>
                    <a:lnTo>
                      <a:pt x="437" y="1391"/>
                    </a:lnTo>
                    <a:lnTo>
                      <a:pt x="439" y="1333"/>
                    </a:lnTo>
                    <a:lnTo>
                      <a:pt x="440" y="1275"/>
                    </a:lnTo>
                    <a:lnTo>
                      <a:pt x="440" y="121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938840" y="2611440"/>
                <a:ext cx="141120" cy="946080"/>
              </a:xfrm>
              <a:custGeom>
                <a:avLst/>
                <a:gdLst/>
                <a:ahLst/>
                <a:rect l="l" t="t" r="r" b="b"/>
                <a:pathLst>
                  <a:path w="446" h="2981">
                    <a:moveTo>
                      <a:pt x="446" y="1204"/>
                    </a:moveTo>
                    <a:lnTo>
                      <a:pt x="446" y="1126"/>
                    </a:lnTo>
                    <a:lnTo>
                      <a:pt x="444" y="1048"/>
                    </a:lnTo>
                    <a:lnTo>
                      <a:pt x="439" y="971"/>
                    </a:lnTo>
                    <a:lnTo>
                      <a:pt x="435" y="894"/>
                    </a:lnTo>
                    <a:lnTo>
                      <a:pt x="429" y="817"/>
                    </a:lnTo>
                    <a:lnTo>
                      <a:pt x="421" y="741"/>
                    </a:lnTo>
                    <a:lnTo>
                      <a:pt x="413" y="665"/>
                    </a:lnTo>
                    <a:lnTo>
                      <a:pt x="404" y="589"/>
                    </a:lnTo>
                    <a:lnTo>
                      <a:pt x="392" y="515"/>
                    </a:lnTo>
                    <a:lnTo>
                      <a:pt x="380" y="439"/>
                    </a:lnTo>
                    <a:lnTo>
                      <a:pt x="367" y="366"/>
                    </a:lnTo>
                    <a:lnTo>
                      <a:pt x="351" y="291"/>
                    </a:lnTo>
                    <a:lnTo>
                      <a:pt x="335" y="218"/>
                    </a:lnTo>
                    <a:lnTo>
                      <a:pt x="318" y="145"/>
                    </a:lnTo>
                    <a:lnTo>
                      <a:pt x="300" y="73"/>
                    </a:lnTo>
                    <a:lnTo>
                      <a:pt x="281" y="0"/>
                    </a:lnTo>
                    <a:lnTo>
                      <a:pt x="251" y="16"/>
                    </a:lnTo>
                    <a:lnTo>
                      <a:pt x="218" y="32"/>
                    </a:lnTo>
                    <a:lnTo>
                      <a:pt x="236" y="102"/>
                    </a:lnTo>
                    <a:lnTo>
                      <a:pt x="254" y="173"/>
                    </a:lnTo>
                    <a:lnTo>
                      <a:pt x="271" y="244"/>
                    </a:lnTo>
                    <a:lnTo>
                      <a:pt x="286" y="315"/>
                    </a:lnTo>
                    <a:lnTo>
                      <a:pt x="301" y="388"/>
                    </a:lnTo>
                    <a:lnTo>
                      <a:pt x="313" y="459"/>
                    </a:lnTo>
                    <a:lnTo>
                      <a:pt x="326" y="533"/>
                    </a:lnTo>
                    <a:lnTo>
                      <a:pt x="336" y="605"/>
                    </a:lnTo>
                    <a:lnTo>
                      <a:pt x="346" y="680"/>
                    </a:lnTo>
                    <a:lnTo>
                      <a:pt x="354" y="753"/>
                    </a:lnTo>
                    <a:lnTo>
                      <a:pt x="361" y="828"/>
                    </a:lnTo>
                    <a:lnTo>
                      <a:pt x="367" y="902"/>
                    </a:lnTo>
                    <a:lnTo>
                      <a:pt x="371" y="977"/>
                    </a:lnTo>
                    <a:lnTo>
                      <a:pt x="374" y="1052"/>
                    </a:lnTo>
                    <a:lnTo>
                      <a:pt x="376" y="1128"/>
                    </a:lnTo>
                    <a:lnTo>
                      <a:pt x="377" y="1204"/>
                    </a:lnTo>
                    <a:lnTo>
                      <a:pt x="376" y="1263"/>
                    </a:lnTo>
                    <a:lnTo>
                      <a:pt x="375" y="1322"/>
                    </a:lnTo>
                    <a:lnTo>
                      <a:pt x="373" y="1381"/>
                    </a:lnTo>
                    <a:lnTo>
                      <a:pt x="371" y="1440"/>
                    </a:lnTo>
                    <a:lnTo>
                      <a:pt x="367" y="1499"/>
                    </a:lnTo>
                    <a:lnTo>
                      <a:pt x="363" y="1556"/>
                    </a:lnTo>
                    <a:lnTo>
                      <a:pt x="358" y="1614"/>
                    </a:lnTo>
                    <a:lnTo>
                      <a:pt x="352" y="1672"/>
                    </a:lnTo>
                    <a:lnTo>
                      <a:pt x="346" y="1730"/>
                    </a:lnTo>
                    <a:lnTo>
                      <a:pt x="338" y="1787"/>
                    </a:lnTo>
                    <a:lnTo>
                      <a:pt x="330" y="1844"/>
                    </a:lnTo>
                    <a:lnTo>
                      <a:pt x="322" y="1901"/>
                    </a:lnTo>
                    <a:lnTo>
                      <a:pt x="312" y="1958"/>
                    </a:lnTo>
                    <a:lnTo>
                      <a:pt x="302" y="2014"/>
                    </a:lnTo>
                    <a:lnTo>
                      <a:pt x="291" y="2070"/>
                    </a:lnTo>
                    <a:lnTo>
                      <a:pt x="280" y="2127"/>
                    </a:lnTo>
                    <a:lnTo>
                      <a:pt x="267" y="2182"/>
                    </a:lnTo>
                    <a:lnTo>
                      <a:pt x="253" y="2237"/>
                    </a:lnTo>
                    <a:lnTo>
                      <a:pt x="240" y="2292"/>
                    </a:lnTo>
                    <a:lnTo>
                      <a:pt x="226" y="2347"/>
                    </a:lnTo>
                    <a:lnTo>
                      <a:pt x="210" y="2402"/>
                    </a:lnTo>
                    <a:lnTo>
                      <a:pt x="194" y="2456"/>
                    </a:lnTo>
                    <a:lnTo>
                      <a:pt x="178" y="2510"/>
                    </a:lnTo>
                    <a:lnTo>
                      <a:pt x="161" y="2563"/>
                    </a:lnTo>
                    <a:lnTo>
                      <a:pt x="143" y="2617"/>
                    </a:lnTo>
                    <a:lnTo>
                      <a:pt x="124" y="2669"/>
                    </a:lnTo>
                    <a:lnTo>
                      <a:pt x="105" y="2722"/>
                    </a:lnTo>
                    <a:lnTo>
                      <a:pt x="85" y="2774"/>
                    </a:lnTo>
                    <a:lnTo>
                      <a:pt x="65" y="2827"/>
                    </a:lnTo>
                    <a:lnTo>
                      <a:pt x="44" y="2878"/>
                    </a:lnTo>
                    <a:lnTo>
                      <a:pt x="22" y="2930"/>
                    </a:lnTo>
                    <a:lnTo>
                      <a:pt x="0" y="2981"/>
                    </a:lnTo>
                    <a:lnTo>
                      <a:pt x="81" y="2967"/>
                    </a:lnTo>
                    <a:lnTo>
                      <a:pt x="103" y="2916"/>
                    </a:lnTo>
                    <a:lnTo>
                      <a:pt x="124" y="2865"/>
                    </a:lnTo>
                    <a:lnTo>
                      <a:pt x="144" y="2813"/>
                    </a:lnTo>
                    <a:lnTo>
                      <a:pt x="164" y="2762"/>
                    </a:lnTo>
                    <a:lnTo>
                      <a:pt x="183" y="2709"/>
                    </a:lnTo>
                    <a:lnTo>
                      <a:pt x="202" y="2657"/>
                    </a:lnTo>
                    <a:lnTo>
                      <a:pt x="220" y="2604"/>
                    </a:lnTo>
                    <a:lnTo>
                      <a:pt x="236" y="2551"/>
                    </a:lnTo>
                    <a:lnTo>
                      <a:pt x="253" y="2498"/>
                    </a:lnTo>
                    <a:lnTo>
                      <a:pt x="269" y="2445"/>
                    </a:lnTo>
                    <a:lnTo>
                      <a:pt x="285" y="2391"/>
                    </a:lnTo>
                    <a:lnTo>
                      <a:pt x="300" y="2337"/>
                    </a:lnTo>
                    <a:lnTo>
                      <a:pt x="313" y="2282"/>
                    </a:lnTo>
                    <a:lnTo>
                      <a:pt x="327" y="2227"/>
                    </a:lnTo>
                    <a:lnTo>
                      <a:pt x="339" y="2173"/>
                    </a:lnTo>
                    <a:lnTo>
                      <a:pt x="351" y="2117"/>
                    </a:lnTo>
                    <a:lnTo>
                      <a:pt x="363" y="2063"/>
                    </a:lnTo>
                    <a:lnTo>
                      <a:pt x="373" y="2007"/>
                    </a:lnTo>
                    <a:lnTo>
                      <a:pt x="383" y="1950"/>
                    </a:lnTo>
                    <a:lnTo>
                      <a:pt x="392" y="1895"/>
                    </a:lnTo>
                    <a:lnTo>
                      <a:pt x="400" y="1838"/>
                    </a:lnTo>
                    <a:lnTo>
                      <a:pt x="409" y="1781"/>
                    </a:lnTo>
                    <a:lnTo>
                      <a:pt x="415" y="1724"/>
                    </a:lnTo>
                    <a:lnTo>
                      <a:pt x="421" y="1668"/>
                    </a:lnTo>
                    <a:lnTo>
                      <a:pt x="428" y="1610"/>
                    </a:lnTo>
                    <a:lnTo>
                      <a:pt x="432" y="1553"/>
                    </a:lnTo>
                    <a:lnTo>
                      <a:pt x="436" y="1496"/>
                    </a:lnTo>
                    <a:lnTo>
                      <a:pt x="439" y="1438"/>
                    </a:lnTo>
                    <a:lnTo>
                      <a:pt x="443" y="1379"/>
                    </a:lnTo>
                    <a:lnTo>
                      <a:pt x="445" y="1321"/>
                    </a:lnTo>
                    <a:lnTo>
                      <a:pt x="446" y="1262"/>
                    </a:lnTo>
                    <a:lnTo>
                      <a:pt x="446" y="120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924440" y="2616120"/>
                <a:ext cx="146160" cy="946080"/>
              </a:xfrm>
              <a:custGeom>
                <a:avLst/>
                <a:gdLst/>
                <a:ahLst/>
                <a:rect l="l" t="t" r="r" b="b"/>
                <a:pathLst>
                  <a:path w="458" h="2981">
                    <a:moveTo>
                      <a:pt x="458" y="1187"/>
                    </a:moveTo>
                    <a:lnTo>
                      <a:pt x="457" y="1110"/>
                    </a:lnTo>
                    <a:lnTo>
                      <a:pt x="455" y="1033"/>
                    </a:lnTo>
                    <a:lnTo>
                      <a:pt x="452" y="957"/>
                    </a:lnTo>
                    <a:lnTo>
                      <a:pt x="446" y="881"/>
                    </a:lnTo>
                    <a:lnTo>
                      <a:pt x="441" y="805"/>
                    </a:lnTo>
                    <a:lnTo>
                      <a:pt x="434" y="730"/>
                    </a:lnTo>
                    <a:lnTo>
                      <a:pt x="425" y="655"/>
                    </a:lnTo>
                    <a:lnTo>
                      <a:pt x="416" y="581"/>
                    </a:lnTo>
                    <a:lnTo>
                      <a:pt x="404" y="507"/>
                    </a:lnTo>
                    <a:lnTo>
                      <a:pt x="393" y="433"/>
                    </a:lnTo>
                    <a:lnTo>
                      <a:pt x="379" y="360"/>
                    </a:lnTo>
                    <a:lnTo>
                      <a:pt x="364" y="287"/>
                    </a:lnTo>
                    <a:lnTo>
                      <a:pt x="349" y="214"/>
                    </a:lnTo>
                    <a:lnTo>
                      <a:pt x="332" y="143"/>
                    </a:lnTo>
                    <a:lnTo>
                      <a:pt x="314" y="72"/>
                    </a:lnTo>
                    <a:lnTo>
                      <a:pt x="295" y="0"/>
                    </a:lnTo>
                    <a:lnTo>
                      <a:pt x="239" y="26"/>
                    </a:lnTo>
                    <a:lnTo>
                      <a:pt x="231" y="26"/>
                    </a:lnTo>
                    <a:lnTo>
                      <a:pt x="250" y="96"/>
                    </a:lnTo>
                    <a:lnTo>
                      <a:pt x="267" y="166"/>
                    </a:lnTo>
                    <a:lnTo>
                      <a:pt x="284" y="236"/>
                    </a:lnTo>
                    <a:lnTo>
                      <a:pt x="299" y="307"/>
                    </a:lnTo>
                    <a:lnTo>
                      <a:pt x="313" y="378"/>
                    </a:lnTo>
                    <a:lnTo>
                      <a:pt x="326" y="450"/>
                    </a:lnTo>
                    <a:lnTo>
                      <a:pt x="337" y="522"/>
                    </a:lnTo>
                    <a:lnTo>
                      <a:pt x="349" y="594"/>
                    </a:lnTo>
                    <a:lnTo>
                      <a:pt x="358" y="667"/>
                    </a:lnTo>
                    <a:lnTo>
                      <a:pt x="366" y="740"/>
                    </a:lnTo>
                    <a:lnTo>
                      <a:pt x="373" y="814"/>
                    </a:lnTo>
                    <a:lnTo>
                      <a:pt x="378" y="887"/>
                    </a:lnTo>
                    <a:lnTo>
                      <a:pt x="383" y="962"/>
                    </a:lnTo>
                    <a:lnTo>
                      <a:pt x="387" y="1036"/>
                    </a:lnTo>
                    <a:lnTo>
                      <a:pt x="388" y="1112"/>
                    </a:lnTo>
                    <a:lnTo>
                      <a:pt x="389" y="1187"/>
                    </a:lnTo>
                    <a:lnTo>
                      <a:pt x="389" y="1246"/>
                    </a:lnTo>
                    <a:lnTo>
                      <a:pt x="387" y="1306"/>
                    </a:lnTo>
                    <a:lnTo>
                      <a:pt x="385" y="1366"/>
                    </a:lnTo>
                    <a:lnTo>
                      <a:pt x="382" y="1425"/>
                    </a:lnTo>
                    <a:lnTo>
                      <a:pt x="378" y="1485"/>
                    </a:lnTo>
                    <a:lnTo>
                      <a:pt x="374" y="1544"/>
                    </a:lnTo>
                    <a:lnTo>
                      <a:pt x="369" y="1602"/>
                    </a:lnTo>
                    <a:lnTo>
                      <a:pt x="363" y="1660"/>
                    </a:lnTo>
                    <a:lnTo>
                      <a:pt x="356" y="1719"/>
                    </a:lnTo>
                    <a:lnTo>
                      <a:pt x="349" y="1777"/>
                    </a:lnTo>
                    <a:lnTo>
                      <a:pt x="340" y="1834"/>
                    </a:lnTo>
                    <a:lnTo>
                      <a:pt x="332" y="1892"/>
                    </a:lnTo>
                    <a:lnTo>
                      <a:pt x="321" y="1949"/>
                    </a:lnTo>
                    <a:lnTo>
                      <a:pt x="311" y="2006"/>
                    </a:lnTo>
                    <a:lnTo>
                      <a:pt x="300" y="2062"/>
                    </a:lnTo>
                    <a:lnTo>
                      <a:pt x="288" y="2119"/>
                    </a:lnTo>
                    <a:lnTo>
                      <a:pt x="275" y="2175"/>
                    </a:lnTo>
                    <a:lnTo>
                      <a:pt x="261" y="2231"/>
                    </a:lnTo>
                    <a:lnTo>
                      <a:pt x="248" y="2287"/>
                    </a:lnTo>
                    <a:lnTo>
                      <a:pt x="233" y="2342"/>
                    </a:lnTo>
                    <a:lnTo>
                      <a:pt x="217" y="2397"/>
                    </a:lnTo>
                    <a:lnTo>
                      <a:pt x="200" y="2452"/>
                    </a:lnTo>
                    <a:lnTo>
                      <a:pt x="184" y="2506"/>
                    </a:lnTo>
                    <a:lnTo>
                      <a:pt x="166" y="2560"/>
                    </a:lnTo>
                    <a:lnTo>
                      <a:pt x="148" y="2614"/>
                    </a:lnTo>
                    <a:lnTo>
                      <a:pt x="128" y="2667"/>
                    </a:lnTo>
                    <a:lnTo>
                      <a:pt x="109" y="2721"/>
                    </a:lnTo>
                    <a:lnTo>
                      <a:pt x="88" y="2773"/>
                    </a:lnTo>
                    <a:lnTo>
                      <a:pt x="67" y="2826"/>
                    </a:lnTo>
                    <a:lnTo>
                      <a:pt x="46" y="2878"/>
                    </a:lnTo>
                    <a:lnTo>
                      <a:pt x="23" y="2930"/>
                    </a:lnTo>
                    <a:lnTo>
                      <a:pt x="0" y="2981"/>
                    </a:lnTo>
                    <a:lnTo>
                      <a:pt x="44" y="2964"/>
                    </a:lnTo>
                    <a:lnTo>
                      <a:pt x="86" y="2957"/>
                    </a:lnTo>
                    <a:lnTo>
                      <a:pt x="108" y="2905"/>
                    </a:lnTo>
                    <a:lnTo>
                      <a:pt x="130" y="2854"/>
                    </a:lnTo>
                    <a:lnTo>
                      <a:pt x="150" y="2803"/>
                    </a:lnTo>
                    <a:lnTo>
                      <a:pt x="171" y="2751"/>
                    </a:lnTo>
                    <a:lnTo>
                      <a:pt x="190" y="2699"/>
                    </a:lnTo>
                    <a:lnTo>
                      <a:pt x="209" y="2646"/>
                    </a:lnTo>
                    <a:lnTo>
                      <a:pt x="227" y="2594"/>
                    </a:lnTo>
                    <a:lnTo>
                      <a:pt x="245" y="2540"/>
                    </a:lnTo>
                    <a:lnTo>
                      <a:pt x="261" y="2487"/>
                    </a:lnTo>
                    <a:lnTo>
                      <a:pt x="278" y="2433"/>
                    </a:lnTo>
                    <a:lnTo>
                      <a:pt x="293" y="2379"/>
                    </a:lnTo>
                    <a:lnTo>
                      <a:pt x="309" y="2325"/>
                    </a:lnTo>
                    <a:lnTo>
                      <a:pt x="322" y="2270"/>
                    </a:lnTo>
                    <a:lnTo>
                      <a:pt x="336" y="2216"/>
                    </a:lnTo>
                    <a:lnTo>
                      <a:pt x="349" y="2160"/>
                    </a:lnTo>
                    <a:lnTo>
                      <a:pt x="361" y="2104"/>
                    </a:lnTo>
                    <a:lnTo>
                      <a:pt x="373" y="2050"/>
                    </a:lnTo>
                    <a:lnTo>
                      <a:pt x="383" y="1993"/>
                    </a:lnTo>
                    <a:lnTo>
                      <a:pt x="394" y="1937"/>
                    </a:lnTo>
                    <a:lnTo>
                      <a:pt x="403" y="1881"/>
                    </a:lnTo>
                    <a:lnTo>
                      <a:pt x="412" y="1824"/>
                    </a:lnTo>
                    <a:lnTo>
                      <a:pt x="419" y="1767"/>
                    </a:lnTo>
                    <a:lnTo>
                      <a:pt x="426" y="1711"/>
                    </a:lnTo>
                    <a:lnTo>
                      <a:pt x="433" y="1653"/>
                    </a:lnTo>
                    <a:lnTo>
                      <a:pt x="439" y="1595"/>
                    </a:lnTo>
                    <a:lnTo>
                      <a:pt x="443" y="1537"/>
                    </a:lnTo>
                    <a:lnTo>
                      <a:pt x="448" y="1480"/>
                    </a:lnTo>
                    <a:lnTo>
                      <a:pt x="452" y="1422"/>
                    </a:lnTo>
                    <a:lnTo>
                      <a:pt x="454" y="1363"/>
                    </a:lnTo>
                    <a:lnTo>
                      <a:pt x="456" y="1304"/>
                    </a:lnTo>
                    <a:lnTo>
                      <a:pt x="457" y="1245"/>
                    </a:lnTo>
                    <a:lnTo>
                      <a:pt x="458" y="11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910040" y="2620800"/>
                <a:ext cx="149400" cy="947880"/>
              </a:xfrm>
              <a:custGeom>
                <a:avLst/>
                <a:gdLst/>
                <a:ahLst/>
                <a:rect l="l" t="t" r="r" b="b"/>
                <a:pathLst>
                  <a:path w="470" h="2984">
                    <a:moveTo>
                      <a:pt x="470" y="1172"/>
                    </a:moveTo>
                    <a:lnTo>
                      <a:pt x="469" y="1096"/>
                    </a:lnTo>
                    <a:lnTo>
                      <a:pt x="467" y="1020"/>
                    </a:lnTo>
                    <a:lnTo>
                      <a:pt x="464" y="945"/>
                    </a:lnTo>
                    <a:lnTo>
                      <a:pt x="460" y="870"/>
                    </a:lnTo>
                    <a:lnTo>
                      <a:pt x="454" y="796"/>
                    </a:lnTo>
                    <a:lnTo>
                      <a:pt x="447" y="721"/>
                    </a:lnTo>
                    <a:lnTo>
                      <a:pt x="439" y="648"/>
                    </a:lnTo>
                    <a:lnTo>
                      <a:pt x="429" y="573"/>
                    </a:lnTo>
                    <a:lnTo>
                      <a:pt x="419" y="501"/>
                    </a:lnTo>
                    <a:lnTo>
                      <a:pt x="406" y="427"/>
                    </a:lnTo>
                    <a:lnTo>
                      <a:pt x="394" y="356"/>
                    </a:lnTo>
                    <a:lnTo>
                      <a:pt x="379" y="283"/>
                    </a:lnTo>
                    <a:lnTo>
                      <a:pt x="364" y="212"/>
                    </a:lnTo>
                    <a:lnTo>
                      <a:pt x="347" y="141"/>
                    </a:lnTo>
                    <a:lnTo>
                      <a:pt x="329" y="70"/>
                    </a:lnTo>
                    <a:lnTo>
                      <a:pt x="311" y="0"/>
                    </a:lnTo>
                    <a:lnTo>
                      <a:pt x="286" y="11"/>
                    </a:lnTo>
                    <a:lnTo>
                      <a:pt x="242" y="11"/>
                    </a:lnTo>
                    <a:lnTo>
                      <a:pt x="261" y="81"/>
                    </a:lnTo>
                    <a:lnTo>
                      <a:pt x="279" y="151"/>
                    </a:lnTo>
                    <a:lnTo>
                      <a:pt x="295" y="221"/>
                    </a:lnTo>
                    <a:lnTo>
                      <a:pt x="311" y="292"/>
                    </a:lnTo>
                    <a:lnTo>
                      <a:pt x="325" y="363"/>
                    </a:lnTo>
                    <a:lnTo>
                      <a:pt x="338" y="435"/>
                    </a:lnTo>
                    <a:lnTo>
                      <a:pt x="349" y="507"/>
                    </a:lnTo>
                    <a:lnTo>
                      <a:pt x="361" y="579"/>
                    </a:lnTo>
                    <a:lnTo>
                      <a:pt x="370" y="652"/>
                    </a:lnTo>
                    <a:lnTo>
                      <a:pt x="378" y="725"/>
                    </a:lnTo>
                    <a:lnTo>
                      <a:pt x="385" y="799"/>
                    </a:lnTo>
                    <a:lnTo>
                      <a:pt x="391" y="872"/>
                    </a:lnTo>
                    <a:lnTo>
                      <a:pt x="396" y="947"/>
                    </a:lnTo>
                    <a:lnTo>
                      <a:pt x="399" y="1021"/>
                    </a:lnTo>
                    <a:lnTo>
                      <a:pt x="401" y="1097"/>
                    </a:lnTo>
                    <a:lnTo>
                      <a:pt x="401" y="1172"/>
                    </a:lnTo>
                    <a:lnTo>
                      <a:pt x="401" y="1233"/>
                    </a:lnTo>
                    <a:lnTo>
                      <a:pt x="400" y="1293"/>
                    </a:lnTo>
                    <a:lnTo>
                      <a:pt x="398" y="1353"/>
                    </a:lnTo>
                    <a:lnTo>
                      <a:pt x="395" y="1413"/>
                    </a:lnTo>
                    <a:lnTo>
                      <a:pt x="390" y="1473"/>
                    </a:lnTo>
                    <a:lnTo>
                      <a:pt x="386" y="1533"/>
                    </a:lnTo>
                    <a:lnTo>
                      <a:pt x="381" y="1592"/>
                    </a:lnTo>
                    <a:lnTo>
                      <a:pt x="375" y="1650"/>
                    </a:lnTo>
                    <a:lnTo>
                      <a:pt x="367" y="1709"/>
                    </a:lnTo>
                    <a:lnTo>
                      <a:pt x="360" y="1768"/>
                    </a:lnTo>
                    <a:lnTo>
                      <a:pt x="352" y="1827"/>
                    </a:lnTo>
                    <a:lnTo>
                      <a:pt x="342" y="1885"/>
                    </a:lnTo>
                    <a:lnTo>
                      <a:pt x="332" y="1942"/>
                    </a:lnTo>
                    <a:lnTo>
                      <a:pt x="321" y="2000"/>
                    </a:lnTo>
                    <a:lnTo>
                      <a:pt x="310" y="2057"/>
                    </a:lnTo>
                    <a:lnTo>
                      <a:pt x="297" y="2115"/>
                    </a:lnTo>
                    <a:lnTo>
                      <a:pt x="284" y="2171"/>
                    </a:lnTo>
                    <a:lnTo>
                      <a:pt x="271" y="2228"/>
                    </a:lnTo>
                    <a:lnTo>
                      <a:pt x="256" y="2284"/>
                    </a:lnTo>
                    <a:lnTo>
                      <a:pt x="240" y="2339"/>
                    </a:lnTo>
                    <a:lnTo>
                      <a:pt x="224" y="2395"/>
                    </a:lnTo>
                    <a:lnTo>
                      <a:pt x="208" y="2451"/>
                    </a:lnTo>
                    <a:lnTo>
                      <a:pt x="190" y="2505"/>
                    </a:lnTo>
                    <a:lnTo>
                      <a:pt x="172" y="2560"/>
                    </a:lnTo>
                    <a:lnTo>
                      <a:pt x="153" y="2613"/>
                    </a:lnTo>
                    <a:lnTo>
                      <a:pt x="133" y="2668"/>
                    </a:lnTo>
                    <a:lnTo>
                      <a:pt x="113" y="2721"/>
                    </a:lnTo>
                    <a:lnTo>
                      <a:pt x="92" y="2775"/>
                    </a:lnTo>
                    <a:lnTo>
                      <a:pt x="70" y="2827"/>
                    </a:lnTo>
                    <a:lnTo>
                      <a:pt x="48" y="2880"/>
                    </a:lnTo>
                    <a:lnTo>
                      <a:pt x="25" y="2932"/>
                    </a:lnTo>
                    <a:lnTo>
                      <a:pt x="0" y="2984"/>
                    </a:lnTo>
                    <a:lnTo>
                      <a:pt x="91" y="2949"/>
                    </a:lnTo>
                    <a:lnTo>
                      <a:pt x="93" y="2949"/>
                    </a:lnTo>
                    <a:lnTo>
                      <a:pt x="115" y="2898"/>
                    </a:lnTo>
                    <a:lnTo>
                      <a:pt x="137" y="2846"/>
                    </a:lnTo>
                    <a:lnTo>
                      <a:pt x="158" y="2795"/>
                    </a:lnTo>
                    <a:lnTo>
                      <a:pt x="178" y="2742"/>
                    </a:lnTo>
                    <a:lnTo>
                      <a:pt x="198" y="2690"/>
                    </a:lnTo>
                    <a:lnTo>
                      <a:pt x="217" y="2637"/>
                    </a:lnTo>
                    <a:lnTo>
                      <a:pt x="236" y="2585"/>
                    </a:lnTo>
                    <a:lnTo>
                      <a:pt x="254" y="2531"/>
                    </a:lnTo>
                    <a:lnTo>
                      <a:pt x="271" y="2478"/>
                    </a:lnTo>
                    <a:lnTo>
                      <a:pt x="287" y="2424"/>
                    </a:lnTo>
                    <a:lnTo>
                      <a:pt x="303" y="2370"/>
                    </a:lnTo>
                    <a:lnTo>
                      <a:pt x="319" y="2315"/>
                    </a:lnTo>
                    <a:lnTo>
                      <a:pt x="333" y="2260"/>
                    </a:lnTo>
                    <a:lnTo>
                      <a:pt x="346" y="2205"/>
                    </a:lnTo>
                    <a:lnTo>
                      <a:pt x="360" y="2150"/>
                    </a:lnTo>
                    <a:lnTo>
                      <a:pt x="373" y="2095"/>
                    </a:lnTo>
                    <a:lnTo>
                      <a:pt x="384" y="2038"/>
                    </a:lnTo>
                    <a:lnTo>
                      <a:pt x="395" y="1982"/>
                    </a:lnTo>
                    <a:lnTo>
                      <a:pt x="405" y="1926"/>
                    </a:lnTo>
                    <a:lnTo>
                      <a:pt x="415" y="1869"/>
                    </a:lnTo>
                    <a:lnTo>
                      <a:pt x="423" y="1812"/>
                    </a:lnTo>
                    <a:lnTo>
                      <a:pt x="431" y="1755"/>
                    </a:lnTo>
                    <a:lnTo>
                      <a:pt x="439" y="1698"/>
                    </a:lnTo>
                    <a:lnTo>
                      <a:pt x="445" y="1640"/>
                    </a:lnTo>
                    <a:lnTo>
                      <a:pt x="451" y="1582"/>
                    </a:lnTo>
                    <a:lnTo>
                      <a:pt x="456" y="1524"/>
                    </a:lnTo>
                    <a:lnTo>
                      <a:pt x="460" y="1467"/>
                    </a:lnTo>
                    <a:lnTo>
                      <a:pt x="464" y="1408"/>
                    </a:lnTo>
                    <a:lnTo>
                      <a:pt x="466" y="1349"/>
                    </a:lnTo>
                    <a:lnTo>
                      <a:pt x="468" y="1290"/>
                    </a:lnTo>
                    <a:lnTo>
                      <a:pt x="469" y="1231"/>
                    </a:lnTo>
                    <a:lnTo>
                      <a:pt x="470" y="1172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2685960" y="2382840"/>
              <a:ext cx="3751200" cy="1452600"/>
              <a:chOff x="2685960" y="2382840"/>
              <a:chExt cx="3751200" cy="1452600"/>
            </a:xfrm>
          </p:grpSpPr>
          <p:sp>
            <p:nvSpPr>
              <p:cNvPr id="939" name=""/>
              <p:cNvSpPr/>
              <p:nvPr/>
            </p:nvSpPr>
            <p:spPr>
              <a:xfrm>
                <a:off x="4894200" y="2624040"/>
                <a:ext cx="154080" cy="949320"/>
              </a:xfrm>
              <a:custGeom>
                <a:avLst/>
                <a:gdLst/>
                <a:ahLst/>
                <a:rect l="l" t="t" r="r" b="b"/>
                <a:pathLst>
                  <a:path w="482" h="2991">
                    <a:moveTo>
                      <a:pt x="482" y="1161"/>
                    </a:moveTo>
                    <a:lnTo>
                      <a:pt x="481" y="1086"/>
                    </a:lnTo>
                    <a:lnTo>
                      <a:pt x="480" y="1010"/>
                    </a:lnTo>
                    <a:lnTo>
                      <a:pt x="476" y="936"/>
                    </a:lnTo>
                    <a:lnTo>
                      <a:pt x="471" y="861"/>
                    </a:lnTo>
                    <a:lnTo>
                      <a:pt x="466" y="788"/>
                    </a:lnTo>
                    <a:lnTo>
                      <a:pt x="459" y="714"/>
                    </a:lnTo>
                    <a:lnTo>
                      <a:pt x="451" y="641"/>
                    </a:lnTo>
                    <a:lnTo>
                      <a:pt x="442" y="568"/>
                    </a:lnTo>
                    <a:lnTo>
                      <a:pt x="430" y="496"/>
                    </a:lnTo>
                    <a:lnTo>
                      <a:pt x="419" y="424"/>
                    </a:lnTo>
                    <a:lnTo>
                      <a:pt x="406" y="352"/>
                    </a:lnTo>
                    <a:lnTo>
                      <a:pt x="392" y="281"/>
                    </a:lnTo>
                    <a:lnTo>
                      <a:pt x="377" y="210"/>
                    </a:lnTo>
                    <a:lnTo>
                      <a:pt x="360" y="140"/>
                    </a:lnTo>
                    <a:lnTo>
                      <a:pt x="343" y="70"/>
                    </a:lnTo>
                    <a:lnTo>
                      <a:pt x="324" y="0"/>
                    </a:lnTo>
                    <a:lnTo>
                      <a:pt x="279" y="0"/>
                    </a:lnTo>
                    <a:lnTo>
                      <a:pt x="256" y="11"/>
                    </a:lnTo>
                    <a:lnTo>
                      <a:pt x="274" y="80"/>
                    </a:lnTo>
                    <a:lnTo>
                      <a:pt x="291" y="149"/>
                    </a:lnTo>
                    <a:lnTo>
                      <a:pt x="308" y="219"/>
                    </a:lnTo>
                    <a:lnTo>
                      <a:pt x="323" y="289"/>
                    </a:lnTo>
                    <a:lnTo>
                      <a:pt x="338" y="359"/>
                    </a:lnTo>
                    <a:lnTo>
                      <a:pt x="350" y="431"/>
                    </a:lnTo>
                    <a:lnTo>
                      <a:pt x="362" y="502"/>
                    </a:lnTo>
                    <a:lnTo>
                      <a:pt x="372" y="574"/>
                    </a:lnTo>
                    <a:lnTo>
                      <a:pt x="382" y="646"/>
                    </a:lnTo>
                    <a:lnTo>
                      <a:pt x="390" y="719"/>
                    </a:lnTo>
                    <a:lnTo>
                      <a:pt x="397" y="791"/>
                    </a:lnTo>
                    <a:lnTo>
                      <a:pt x="403" y="865"/>
                    </a:lnTo>
                    <a:lnTo>
                      <a:pt x="407" y="938"/>
                    </a:lnTo>
                    <a:lnTo>
                      <a:pt x="410" y="1013"/>
                    </a:lnTo>
                    <a:lnTo>
                      <a:pt x="412" y="1086"/>
                    </a:lnTo>
                    <a:lnTo>
                      <a:pt x="413" y="1161"/>
                    </a:lnTo>
                    <a:lnTo>
                      <a:pt x="412" y="1223"/>
                    </a:lnTo>
                    <a:lnTo>
                      <a:pt x="411" y="1283"/>
                    </a:lnTo>
                    <a:lnTo>
                      <a:pt x="409" y="1344"/>
                    </a:lnTo>
                    <a:lnTo>
                      <a:pt x="406" y="1405"/>
                    </a:lnTo>
                    <a:lnTo>
                      <a:pt x="402" y="1465"/>
                    </a:lnTo>
                    <a:lnTo>
                      <a:pt x="398" y="1526"/>
                    </a:lnTo>
                    <a:lnTo>
                      <a:pt x="392" y="1586"/>
                    </a:lnTo>
                    <a:lnTo>
                      <a:pt x="386" y="1645"/>
                    </a:lnTo>
                    <a:lnTo>
                      <a:pt x="379" y="1705"/>
                    </a:lnTo>
                    <a:lnTo>
                      <a:pt x="370" y="1764"/>
                    </a:lnTo>
                    <a:lnTo>
                      <a:pt x="362" y="1823"/>
                    </a:lnTo>
                    <a:lnTo>
                      <a:pt x="352" y="1882"/>
                    </a:lnTo>
                    <a:lnTo>
                      <a:pt x="342" y="1940"/>
                    </a:lnTo>
                    <a:lnTo>
                      <a:pt x="330" y="1999"/>
                    </a:lnTo>
                    <a:lnTo>
                      <a:pt x="319" y="2056"/>
                    </a:lnTo>
                    <a:lnTo>
                      <a:pt x="306" y="2113"/>
                    </a:lnTo>
                    <a:lnTo>
                      <a:pt x="292" y="2171"/>
                    </a:lnTo>
                    <a:lnTo>
                      <a:pt x="278" y="2227"/>
                    </a:lnTo>
                    <a:lnTo>
                      <a:pt x="263" y="2284"/>
                    </a:lnTo>
                    <a:lnTo>
                      <a:pt x="247" y="2341"/>
                    </a:lnTo>
                    <a:lnTo>
                      <a:pt x="230" y="2396"/>
                    </a:lnTo>
                    <a:lnTo>
                      <a:pt x="214" y="2452"/>
                    </a:lnTo>
                    <a:lnTo>
                      <a:pt x="195" y="2508"/>
                    </a:lnTo>
                    <a:lnTo>
                      <a:pt x="177" y="2563"/>
                    </a:lnTo>
                    <a:lnTo>
                      <a:pt x="157" y="2618"/>
                    </a:lnTo>
                    <a:lnTo>
                      <a:pt x="137" y="2672"/>
                    </a:lnTo>
                    <a:lnTo>
                      <a:pt x="116" y="2726"/>
                    </a:lnTo>
                    <a:lnTo>
                      <a:pt x="94" y="2780"/>
                    </a:lnTo>
                    <a:lnTo>
                      <a:pt x="72" y="2833"/>
                    </a:lnTo>
                    <a:lnTo>
                      <a:pt x="49" y="2886"/>
                    </a:lnTo>
                    <a:lnTo>
                      <a:pt x="24" y="2938"/>
                    </a:lnTo>
                    <a:lnTo>
                      <a:pt x="0" y="2991"/>
                    </a:lnTo>
                    <a:lnTo>
                      <a:pt x="93" y="2955"/>
                    </a:lnTo>
                    <a:lnTo>
                      <a:pt x="116" y="2904"/>
                    </a:lnTo>
                    <a:lnTo>
                      <a:pt x="139" y="2852"/>
                    </a:lnTo>
                    <a:lnTo>
                      <a:pt x="160" y="2800"/>
                    </a:lnTo>
                    <a:lnTo>
                      <a:pt x="181" y="2747"/>
                    </a:lnTo>
                    <a:lnTo>
                      <a:pt x="202" y="2695"/>
                    </a:lnTo>
                    <a:lnTo>
                      <a:pt x="221" y="2641"/>
                    </a:lnTo>
                    <a:lnTo>
                      <a:pt x="241" y="2588"/>
                    </a:lnTo>
                    <a:lnTo>
                      <a:pt x="259" y="2534"/>
                    </a:lnTo>
                    <a:lnTo>
                      <a:pt x="277" y="2480"/>
                    </a:lnTo>
                    <a:lnTo>
                      <a:pt x="293" y="2426"/>
                    </a:lnTo>
                    <a:lnTo>
                      <a:pt x="310" y="2371"/>
                    </a:lnTo>
                    <a:lnTo>
                      <a:pt x="326" y="2316"/>
                    </a:lnTo>
                    <a:lnTo>
                      <a:pt x="341" y="2261"/>
                    </a:lnTo>
                    <a:lnTo>
                      <a:pt x="354" y="2205"/>
                    </a:lnTo>
                    <a:lnTo>
                      <a:pt x="368" y="2149"/>
                    </a:lnTo>
                    <a:lnTo>
                      <a:pt x="381" y="2093"/>
                    </a:lnTo>
                    <a:lnTo>
                      <a:pt x="393" y="2036"/>
                    </a:lnTo>
                    <a:lnTo>
                      <a:pt x="404" y="1980"/>
                    </a:lnTo>
                    <a:lnTo>
                      <a:pt x="414" y="1923"/>
                    </a:lnTo>
                    <a:lnTo>
                      <a:pt x="425" y="1866"/>
                    </a:lnTo>
                    <a:lnTo>
                      <a:pt x="433" y="1808"/>
                    </a:lnTo>
                    <a:lnTo>
                      <a:pt x="442" y="1751"/>
                    </a:lnTo>
                    <a:lnTo>
                      <a:pt x="449" y="1693"/>
                    </a:lnTo>
                    <a:lnTo>
                      <a:pt x="456" y="1634"/>
                    </a:lnTo>
                    <a:lnTo>
                      <a:pt x="462" y="1576"/>
                    </a:lnTo>
                    <a:lnTo>
                      <a:pt x="467" y="1518"/>
                    </a:lnTo>
                    <a:lnTo>
                      <a:pt x="471" y="1459"/>
                    </a:lnTo>
                    <a:lnTo>
                      <a:pt x="475" y="1399"/>
                    </a:lnTo>
                    <a:lnTo>
                      <a:pt x="478" y="1340"/>
                    </a:lnTo>
                    <a:lnTo>
                      <a:pt x="480" y="1280"/>
                    </a:lnTo>
                    <a:lnTo>
                      <a:pt x="482" y="1220"/>
                    </a:lnTo>
                    <a:lnTo>
                      <a:pt x="482" y="116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79800" y="2624040"/>
                <a:ext cx="157320" cy="954360"/>
              </a:xfrm>
              <a:custGeom>
                <a:avLst/>
                <a:gdLst/>
                <a:ahLst/>
                <a:rect l="l" t="t" r="r" b="b"/>
                <a:pathLst>
                  <a:path w="492" h="3005">
                    <a:moveTo>
                      <a:pt x="492" y="1161"/>
                    </a:moveTo>
                    <a:lnTo>
                      <a:pt x="492" y="1086"/>
                    </a:lnTo>
                    <a:lnTo>
                      <a:pt x="490" y="1010"/>
                    </a:lnTo>
                    <a:lnTo>
                      <a:pt x="487" y="936"/>
                    </a:lnTo>
                    <a:lnTo>
                      <a:pt x="482" y="861"/>
                    </a:lnTo>
                    <a:lnTo>
                      <a:pt x="476" y="788"/>
                    </a:lnTo>
                    <a:lnTo>
                      <a:pt x="469" y="714"/>
                    </a:lnTo>
                    <a:lnTo>
                      <a:pt x="461" y="641"/>
                    </a:lnTo>
                    <a:lnTo>
                      <a:pt x="452" y="568"/>
                    </a:lnTo>
                    <a:lnTo>
                      <a:pt x="440" y="496"/>
                    </a:lnTo>
                    <a:lnTo>
                      <a:pt x="429" y="424"/>
                    </a:lnTo>
                    <a:lnTo>
                      <a:pt x="416" y="352"/>
                    </a:lnTo>
                    <a:lnTo>
                      <a:pt x="402" y="281"/>
                    </a:lnTo>
                    <a:lnTo>
                      <a:pt x="386" y="210"/>
                    </a:lnTo>
                    <a:lnTo>
                      <a:pt x="370" y="140"/>
                    </a:lnTo>
                    <a:lnTo>
                      <a:pt x="352" y="70"/>
                    </a:lnTo>
                    <a:lnTo>
                      <a:pt x="333" y="0"/>
                    </a:lnTo>
                    <a:lnTo>
                      <a:pt x="324" y="0"/>
                    </a:lnTo>
                    <a:lnTo>
                      <a:pt x="269" y="27"/>
                    </a:lnTo>
                    <a:lnTo>
                      <a:pt x="287" y="94"/>
                    </a:lnTo>
                    <a:lnTo>
                      <a:pt x="305" y="162"/>
                    </a:lnTo>
                    <a:lnTo>
                      <a:pt x="321" y="231"/>
                    </a:lnTo>
                    <a:lnTo>
                      <a:pt x="335" y="301"/>
                    </a:lnTo>
                    <a:lnTo>
                      <a:pt x="349" y="370"/>
                    </a:lnTo>
                    <a:lnTo>
                      <a:pt x="362" y="440"/>
                    </a:lnTo>
                    <a:lnTo>
                      <a:pt x="373" y="511"/>
                    </a:lnTo>
                    <a:lnTo>
                      <a:pt x="384" y="582"/>
                    </a:lnTo>
                    <a:lnTo>
                      <a:pt x="393" y="652"/>
                    </a:lnTo>
                    <a:lnTo>
                      <a:pt x="402" y="725"/>
                    </a:lnTo>
                    <a:lnTo>
                      <a:pt x="408" y="796"/>
                    </a:lnTo>
                    <a:lnTo>
                      <a:pt x="413" y="869"/>
                    </a:lnTo>
                    <a:lnTo>
                      <a:pt x="418" y="941"/>
                    </a:lnTo>
                    <a:lnTo>
                      <a:pt x="422" y="1015"/>
                    </a:lnTo>
                    <a:lnTo>
                      <a:pt x="423" y="1087"/>
                    </a:lnTo>
                    <a:lnTo>
                      <a:pt x="424" y="1161"/>
                    </a:lnTo>
                    <a:lnTo>
                      <a:pt x="424" y="1223"/>
                    </a:lnTo>
                    <a:lnTo>
                      <a:pt x="422" y="1285"/>
                    </a:lnTo>
                    <a:lnTo>
                      <a:pt x="419" y="1346"/>
                    </a:lnTo>
                    <a:lnTo>
                      <a:pt x="416" y="1407"/>
                    </a:lnTo>
                    <a:lnTo>
                      <a:pt x="412" y="1468"/>
                    </a:lnTo>
                    <a:lnTo>
                      <a:pt x="408" y="1529"/>
                    </a:lnTo>
                    <a:lnTo>
                      <a:pt x="402" y="1590"/>
                    </a:lnTo>
                    <a:lnTo>
                      <a:pt x="395" y="1650"/>
                    </a:lnTo>
                    <a:lnTo>
                      <a:pt x="388" y="1710"/>
                    </a:lnTo>
                    <a:lnTo>
                      <a:pt x="379" y="1770"/>
                    </a:lnTo>
                    <a:lnTo>
                      <a:pt x="371" y="1829"/>
                    </a:lnTo>
                    <a:lnTo>
                      <a:pt x="361" y="1888"/>
                    </a:lnTo>
                    <a:lnTo>
                      <a:pt x="350" y="1947"/>
                    </a:lnTo>
                    <a:lnTo>
                      <a:pt x="338" y="2006"/>
                    </a:lnTo>
                    <a:lnTo>
                      <a:pt x="327" y="2065"/>
                    </a:lnTo>
                    <a:lnTo>
                      <a:pt x="313" y="2122"/>
                    </a:lnTo>
                    <a:lnTo>
                      <a:pt x="300" y="2180"/>
                    </a:lnTo>
                    <a:lnTo>
                      <a:pt x="285" y="2238"/>
                    </a:lnTo>
                    <a:lnTo>
                      <a:pt x="269" y="2295"/>
                    </a:lnTo>
                    <a:lnTo>
                      <a:pt x="253" y="2351"/>
                    </a:lnTo>
                    <a:lnTo>
                      <a:pt x="237" y="2408"/>
                    </a:lnTo>
                    <a:lnTo>
                      <a:pt x="219" y="2465"/>
                    </a:lnTo>
                    <a:lnTo>
                      <a:pt x="200" y="2520"/>
                    </a:lnTo>
                    <a:lnTo>
                      <a:pt x="181" y="2576"/>
                    </a:lnTo>
                    <a:lnTo>
                      <a:pt x="161" y="2631"/>
                    </a:lnTo>
                    <a:lnTo>
                      <a:pt x="140" y="2685"/>
                    </a:lnTo>
                    <a:lnTo>
                      <a:pt x="118" y="2740"/>
                    </a:lnTo>
                    <a:lnTo>
                      <a:pt x="96" y="2793"/>
                    </a:lnTo>
                    <a:lnTo>
                      <a:pt x="73" y="2848"/>
                    </a:lnTo>
                    <a:lnTo>
                      <a:pt x="49" y="2900"/>
                    </a:lnTo>
                    <a:lnTo>
                      <a:pt x="25" y="2954"/>
                    </a:lnTo>
                    <a:lnTo>
                      <a:pt x="0" y="3005"/>
                    </a:lnTo>
                    <a:lnTo>
                      <a:pt x="41" y="2992"/>
                    </a:lnTo>
                    <a:lnTo>
                      <a:pt x="91" y="2973"/>
                    </a:lnTo>
                    <a:lnTo>
                      <a:pt x="116" y="2921"/>
                    </a:lnTo>
                    <a:lnTo>
                      <a:pt x="139" y="2869"/>
                    </a:lnTo>
                    <a:lnTo>
                      <a:pt x="161" y="2816"/>
                    </a:lnTo>
                    <a:lnTo>
                      <a:pt x="183" y="2764"/>
                    </a:lnTo>
                    <a:lnTo>
                      <a:pt x="204" y="2710"/>
                    </a:lnTo>
                    <a:lnTo>
                      <a:pt x="224" y="2657"/>
                    </a:lnTo>
                    <a:lnTo>
                      <a:pt x="244" y="2602"/>
                    </a:lnTo>
                    <a:lnTo>
                      <a:pt x="263" y="2549"/>
                    </a:lnTo>
                    <a:lnTo>
                      <a:pt x="281" y="2494"/>
                    </a:lnTo>
                    <a:lnTo>
                      <a:pt x="299" y="2440"/>
                    </a:lnTo>
                    <a:lnTo>
                      <a:pt x="315" y="2384"/>
                    </a:lnTo>
                    <a:lnTo>
                      <a:pt x="331" y="2328"/>
                    </a:lnTo>
                    <a:lnTo>
                      <a:pt x="347" y="2273"/>
                    </a:lnTo>
                    <a:lnTo>
                      <a:pt x="362" y="2217"/>
                    </a:lnTo>
                    <a:lnTo>
                      <a:pt x="375" y="2160"/>
                    </a:lnTo>
                    <a:lnTo>
                      <a:pt x="388" y="2104"/>
                    </a:lnTo>
                    <a:lnTo>
                      <a:pt x="401" y="2046"/>
                    </a:lnTo>
                    <a:lnTo>
                      <a:pt x="412" y="1989"/>
                    </a:lnTo>
                    <a:lnTo>
                      <a:pt x="423" y="1931"/>
                    </a:lnTo>
                    <a:lnTo>
                      <a:pt x="433" y="1874"/>
                    </a:lnTo>
                    <a:lnTo>
                      <a:pt x="443" y="1816"/>
                    </a:lnTo>
                    <a:lnTo>
                      <a:pt x="451" y="1757"/>
                    </a:lnTo>
                    <a:lnTo>
                      <a:pt x="458" y="1698"/>
                    </a:lnTo>
                    <a:lnTo>
                      <a:pt x="466" y="1639"/>
                    </a:lnTo>
                    <a:lnTo>
                      <a:pt x="472" y="1581"/>
                    </a:lnTo>
                    <a:lnTo>
                      <a:pt x="477" y="1522"/>
                    </a:lnTo>
                    <a:lnTo>
                      <a:pt x="481" y="1462"/>
                    </a:lnTo>
                    <a:lnTo>
                      <a:pt x="486" y="1402"/>
                    </a:lnTo>
                    <a:lnTo>
                      <a:pt x="489" y="1342"/>
                    </a:lnTo>
                    <a:lnTo>
                      <a:pt x="491" y="1282"/>
                    </a:lnTo>
                    <a:lnTo>
                      <a:pt x="492" y="1222"/>
                    </a:lnTo>
                    <a:lnTo>
                      <a:pt x="492" y="116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65760" y="2627280"/>
                <a:ext cx="160200" cy="955800"/>
              </a:xfrm>
              <a:custGeom>
                <a:avLst/>
                <a:gdLst/>
                <a:ahLst/>
                <a:rect l="l" t="t" r="r" b="b"/>
                <a:pathLst>
                  <a:path w="504" h="3010">
                    <a:moveTo>
                      <a:pt x="504" y="1150"/>
                    </a:moveTo>
                    <a:lnTo>
                      <a:pt x="503" y="1075"/>
                    </a:lnTo>
                    <a:lnTo>
                      <a:pt x="501" y="1002"/>
                    </a:lnTo>
                    <a:lnTo>
                      <a:pt x="498" y="927"/>
                    </a:lnTo>
                    <a:lnTo>
                      <a:pt x="494" y="854"/>
                    </a:lnTo>
                    <a:lnTo>
                      <a:pt x="488" y="780"/>
                    </a:lnTo>
                    <a:lnTo>
                      <a:pt x="481" y="708"/>
                    </a:lnTo>
                    <a:lnTo>
                      <a:pt x="473" y="635"/>
                    </a:lnTo>
                    <a:lnTo>
                      <a:pt x="463" y="563"/>
                    </a:lnTo>
                    <a:lnTo>
                      <a:pt x="453" y="491"/>
                    </a:lnTo>
                    <a:lnTo>
                      <a:pt x="441" y="420"/>
                    </a:lnTo>
                    <a:lnTo>
                      <a:pt x="429" y="348"/>
                    </a:lnTo>
                    <a:lnTo>
                      <a:pt x="414" y="278"/>
                    </a:lnTo>
                    <a:lnTo>
                      <a:pt x="399" y="208"/>
                    </a:lnTo>
                    <a:lnTo>
                      <a:pt x="382" y="138"/>
                    </a:lnTo>
                    <a:lnTo>
                      <a:pt x="366" y="69"/>
                    </a:lnTo>
                    <a:lnTo>
                      <a:pt x="347" y="0"/>
                    </a:lnTo>
                    <a:lnTo>
                      <a:pt x="312" y="17"/>
                    </a:lnTo>
                    <a:lnTo>
                      <a:pt x="284" y="31"/>
                    </a:lnTo>
                    <a:lnTo>
                      <a:pt x="301" y="99"/>
                    </a:lnTo>
                    <a:lnTo>
                      <a:pt x="318" y="166"/>
                    </a:lnTo>
                    <a:lnTo>
                      <a:pt x="334" y="234"/>
                    </a:lnTo>
                    <a:lnTo>
                      <a:pt x="349" y="302"/>
                    </a:lnTo>
                    <a:lnTo>
                      <a:pt x="362" y="371"/>
                    </a:lnTo>
                    <a:lnTo>
                      <a:pt x="375" y="440"/>
                    </a:lnTo>
                    <a:lnTo>
                      <a:pt x="386" y="509"/>
                    </a:lnTo>
                    <a:lnTo>
                      <a:pt x="396" y="578"/>
                    </a:lnTo>
                    <a:lnTo>
                      <a:pt x="406" y="649"/>
                    </a:lnTo>
                    <a:lnTo>
                      <a:pt x="413" y="720"/>
                    </a:lnTo>
                    <a:lnTo>
                      <a:pt x="420" y="791"/>
                    </a:lnTo>
                    <a:lnTo>
                      <a:pt x="425" y="862"/>
                    </a:lnTo>
                    <a:lnTo>
                      <a:pt x="430" y="933"/>
                    </a:lnTo>
                    <a:lnTo>
                      <a:pt x="433" y="1006"/>
                    </a:lnTo>
                    <a:lnTo>
                      <a:pt x="435" y="1077"/>
                    </a:lnTo>
                    <a:lnTo>
                      <a:pt x="435" y="1150"/>
                    </a:lnTo>
                    <a:lnTo>
                      <a:pt x="435" y="1213"/>
                    </a:lnTo>
                    <a:lnTo>
                      <a:pt x="433" y="1275"/>
                    </a:lnTo>
                    <a:lnTo>
                      <a:pt x="431" y="1337"/>
                    </a:lnTo>
                    <a:lnTo>
                      <a:pt x="428" y="1398"/>
                    </a:lnTo>
                    <a:lnTo>
                      <a:pt x="423" y="1460"/>
                    </a:lnTo>
                    <a:lnTo>
                      <a:pt x="419" y="1521"/>
                    </a:lnTo>
                    <a:lnTo>
                      <a:pt x="413" y="1583"/>
                    </a:lnTo>
                    <a:lnTo>
                      <a:pt x="407" y="1644"/>
                    </a:lnTo>
                    <a:lnTo>
                      <a:pt x="398" y="1704"/>
                    </a:lnTo>
                    <a:lnTo>
                      <a:pt x="390" y="1765"/>
                    </a:lnTo>
                    <a:lnTo>
                      <a:pt x="381" y="1825"/>
                    </a:lnTo>
                    <a:lnTo>
                      <a:pt x="371" y="1885"/>
                    </a:lnTo>
                    <a:lnTo>
                      <a:pt x="359" y="1943"/>
                    </a:lnTo>
                    <a:lnTo>
                      <a:pt x="348" y="2003"/>
                    </a:lnTo>
                    <a:lnTo>
                      <a:pt x="335" y="2062"/>
                    </a:lnTo>
                    <a:lnTo>
                      <a:pt x="321" y="2121"/>
                    </a:lnTo>
                    <a:lnTo>
                      <a:pt x="308" y="2179"/>
                    </a:lnTo>
                    <a:lnTo>
                      <a:pt x="292" y="2236"/>
                    </a:lnTo>
                    <a:lnTo>
                      <a:pt x="276" y="2294"/>
                    </a:lnTo>
                    <a:lnTo>
                      <a:pt x="259" y="2352"/>
                    </a:lnTo>
                    <a:lnTo>
                      <a:pt x="243" y="2409"/>
                    </a:lnTo>
                    <a:lnTo>
                      <a:pt x="224" y="2465"/>
                    </a:lnTo>
                    <a:lnTo>
                      <a:pt x="205" y="2521"/>
                    </a:lnTo>
                    <a:lnTo>
                      <a:pt x="185" y="2577"/>
                    </a:lnTo>
                    <a:lnTo>
                      <a:pt x="165" y="2632"/>
                    </a:lnTo>
                    <a:lnTo>
                      <a:pt x="144" y="2688"/>
                    </a:lnTo>
                    <a:lnTo>
                      <a:pt x="122" y="2742"/>
                    </a:lnTo>
                    <a:lnTo>
                      <a:pt x="99" y="2797"/>
                    </a:lnTo>
                    <a:lnTo>
                      <a:pt x="74" y="2851"/>
                    </a:lnTo>
                    <a:lnTo>
                      <a:pt x="50" y="2904"/>
                    </a:lnTo>
                    <a:lnTo>
                      <a:pt x="25" y="2958"/>
                    </a:lnTo>
                    <a:lnTo>
                      <a:pt x="0" y="3010"/>
                    </a:lnTo>
                    <a:lnTo>
                      <a:pt x="87" y="2981"/>
                    </a:lnTo>
                    <a:lnTo>
                      <a:pt x="91" y="2980"/>
                    </a:lnTo>
                    <a:lnTo>
                      <a:pt x="115" y="2927"/>
                    </a:lnTo>
                    <a:lnTo>
                      <a:pt x="140" y="2875"/>
                    </a:lnTo>
                    <a:lnTo>
                      <a:pt x="163" y="2822"/>
                    </a:lnTo>
                    <a:lnTo>
                      <a:pt x="185" y="2769"/>
                    </a:lnTo>
                    <a:lnTo>
                      <a:pt x="207" y="2715"/>
                    </a:lnTo>
                    <a:lnTo>
                      <a:pt x="228" y="2661"/>
                    </a:lnTo>
                    <a:lnTo>
                      <a:pt x="248" y="2607"/>
                    </a:lnTo>
                    <a:lnTo>
                      <a:pt x="268" y="2552"/>
                    </a:lnTo>
                    <a:lnTo>
                      <a:pt x="286" y="2497"/>
                    </a:lnTo>
                    <a:lnTo>
                      <a:pt x="305" y="2441"/>
                    </a:lnTo>
                    <a:lnTo>
                      <a:pt x="321" y="2385"/>
                    </a:lnTo>
                    <a:lnTo>
                      <a:pt x="338" y="2330"/>
                    </a:lnTo>
                    <a:lnTo>
                      <a:pt x="354" y="2273"/>
                    </a:lnTo>
                    <a:lnTo>
                      <a:pt x="369" y="2216"/>
                    </a:lnTo>
                    <a:lnTo>
                      <a:pt x="383" y="2160"/>
                    </a:lnTo>
                    <a:lnTo>
                      <a:pt x="397" y="2102"/>
                    </a:lnTo>
                    <a:lnTo>
                      <a:pt x="410" y="2045"/>
                    </a:lnTo>
                    <a:lnTo>
                      <a:pt x="421" y="1988"/>
                    </a:lnTo>
                    <a:lnTo>
                      <a:pt x="433" y="1929"/>
                    </a:lnTo>
                    <a:lnTo>
                      <a:pt x="443" y="1871"/>
                    </a:lnTo>
                    <a:lnTo>
                      <a:pt x="453" y="1812"/>
                    </a:lnTo>
                    <a:lnTo>
                      <a:pt x="461" y="1753"/>
                    </a:lnTo>
                    <a:lnTo>
                      <a:pt x="470" y="1694"/>
                    </a:lnTo>
                    <a:lnTo>
                      <a:pt x="477" y="1634"/>
                    </a:lnTo>
                    <a:lnTo>
                      <a:pt x="483" y="1575"/>
                    </a:lnTo>
                    <a:lnTo>
                      <a:pt x="489" y="1515"/>
                    </a:lnTo>
                    <a:lnTo>
                      <a:pt x="493" y="1454"/>
                    </a:lnTo>
                    <a:lnTo>
                      <a:pt x="497" y="1394"/>
                    </a:lnTo>
                    <a:lnTo>
                      <a:pt x="500" y="1333"/>
                    </a:lnTo>
                    <a:lnTo>
                      <a:pt x="502" y="1272"/>
                    </a:lnTo>
                    <a:lnTo>
                      <a:pt x="503" y="1212"/>
                    </a:lnTo>
                    <a:lnTo>
                      <a:pt x="504" y="115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851360" y="2633760"/>
                <a:ext cx="163440" cy="955440"/>
              </a:xfrm>
              <a:custGeom>
                <a:avLst/>
                <a:gdLst/>
                <a:ahLst/>
                <a:rect l="l" t="t" r="r" b="b"/>
                <a:pathLst>
                  <a:path w="516" h="3010">
                    <a:moveTo>
                      <a:pt x="516" y="1134"/>
                    </a:moveTo>
                    <a:lnTo>
                      <a:pt x="515" y="1060"/>
                    </a:lnTo>
                    <a:lnTo>
                      <a:pt x="512" y="988"/>
                    </a:lnTo>
                    <a:lnTo>
                      <a:pt x="509" y="914"/>
                    </a:lnTo>
                    <a:lnTo>
                      <a:pt x="505" y="842"/>
                    </a:lnTo>
                    <a:lnTo>
                      <a:pt x="500" y="769"/>
                    </a:lnTo>
                    <a:lnTo>
                      <a:pt x="494" y="698"/>
                    </a:lnTo>
                    <a:lnTo>
                      <a:pt x="485" y="625"/>
                    </a:lnTo>
                    <a:lnTo>
                      <a:pt x="476" y="555"/>
                    </a:lnTo>
                    <a:lnTo>
                      <a:pt x="465" y="484"/>
                    </a:lnTo>
                    <a:lnTo>
                      <a:pt x="454" y="413"/>
                    </a:lnTo>
                    <a:lnTo>
                      <a:pt x="441" y="343"/>
                    </a:lnTo>
                    <a:lnTo>
                      <a:pt x="427" y="274"/>
                    </a:lnTo>
                    <a:lnTo>
                      <a:pt x="413" y="204"/>
                    </a:lnTo>
                    <a:lnTo>
                      <a:pt x="397" y="135"/>
                    </a:lnTo>
                    <a:lnTo>
                      <a:pt x="379" y="67"/>
                    </a:lnTo>
                    <a:lnTo>
                      <a:pt x="361" y="0"/>
                    </a:lnTo>
                    <a:lnTo>
                      <a:pt x="358" y="1"/>
                    </a:lnTo>
                    <a:lnTo>
                      <a:pt x="301" y="30"/>
                    </a:lnTo>
                    <a:lnTo>
                      <a:pt x="298" y="30"/>
                    </a:lnTo>
                    <a:lnTo>
                      <a:pt x="316" y="96"/>
                    </a:lnTo>
                    <a:lnTo>
                      <a:pt x="332" y="162"/>
                    </a:lnTo>
                    <a:lnTo>
                      <a:pt x="347" y="230"/>
                    </a:lnTo>
                    <a:lnTo>
                      <a:pt x="362" y="297"/>
                    </a:lnTo>
                    <a:lnTo>
                      <a:pt x="375" y="365"/>
                    </a:lnTo>
                    <a:lnTo>
                      <a:pt x="387" y="433"/>
                    </a:lnTo>
                    <a:lnTo>
                      <a:pt x="399" y="502"/>
                    </a:lnTo>
                    <a:lnTo>
                      <a:pt x="408" y="571"/>
                    </a:lnTo>
                    <a:lnTo>
                      <a:pt x="418" y="640"/>
                    </a:lnTo>
                    <a:lnTo>
                      <a:pt x="425" y="709"/>
                    </a:lnTo>
                    <a:lnTo>
                      <a:pt x="432" y="780"/>
                    </a:lnTo>
                    <a:lnTo>
                      <a:pt x="437" y="850"/>
                    </a:lnTo>
                    <a:lnTo>
                      <a:pt x="441" y="920"/>
                    </a:lnTo>
                    <a:lnTo>
                      <a:pt x="444" y="991"/>
                    </a:lnTo>
                    <a:lnTo>
                      <a:pt x="446" y="1062"/>
                    </a:lnTo>
                    <a:lnTo>
                      <a:pt x="446" y="1134"/>
                    </a:lnTo>
                    <a:lnTo>
                      <a:pt x="446" y="1198"/>
                    </a:lnTo>
                    <a:lnTo>
                      <a:pt x="445" y="1260"/>
                    </a:lnTo>
                    <a:lnTo>
                      <a:pt x="442" y="1323"/>
                    </a:lnTo>
                    <a:lnTo>
                      <a:pt x="439" y="1386"/>
                    </a:lnTo>
                    <a:lnTo>
                      <a:pt x="435" y="1448"/>
                    </a:lnTo>
                    <a:lnTo>
                      <a:pt x="429" y="1510"/>
                    </a:lnTo>
                    <a:lnTo>
                      <a:pt x="424" y="1571"/>
                    </a:lnTo>
                    <a:lnTo>
                      <a:pt x="417" y="1632"/>
                    </a:lnTo>
                    <a:lnTo>
                      <a:pt x="409" y="1693"/>
                    </a:lnTo>
                    <a:lnTo>
                      <a:pt x="400" y="1754"/>
                    </a:lnTo>
                    <a:lnTo>
                      <a:pt x="391" y="1815"/>
                    </a:lnTo>
                    <a:lnTo>
                      <a:pt x="381" y="1875"/>
                    </a:lnTo>
                    <a:lnTo>
                      <a:pt x="370" y="1936"/>
                    </a:lnTo>
                    <a:lnTo>
                      <a:pt x="357" y="1995"/>
                    </a:lnTo>
                    <a:lnTo>
                      <a:pt x="344" y="2054"/>
                    </a:lnTo>
                    <a:lnTo>
                      <a:pt x="331" y="2113"/>
                    </a:lnTo>
                    <a:lnTo>
                      <a:pt x="316" y="2172"/>
                    </a:lnTo>
                    <a:lnTo>
                      <a:pt x="300" y="2231"/>
                    </a:lnTo>
                    <a:lnTo>
                      <a:pt x="283" y="2289"/>
                    </a:lnTo>
                    <a:lnTo>
                      <a:pt x="267" y="2346"/>
                    </a:lnTo>
                    <a:lnTo>
                      <a:pt x="249" y="2404"/>
                    </a:lnTo>
                    <a:lnTo>
                      <a:pt x="230" y="2461"/>
                    </a:lnTo>
                    <a:lnTo>
                      <a:pt x="211" y="2518"/>
                    </a:lnTo>
                    <a:lnTo>
                      <a:pt x="190" y="2574"/>
                    </a:lnTo>
                    <a:lnTo>
                      <a:pt x="169" y="2630"/>
                    </a:lnTo>
                    <a:lnTo>
                      <a:pt x="147" y="2686"/>
                    </a:lnTo>
                    <a:lnTo>
                      <a:pt x="125" y="2740"/>
                    </a:lnTo>
                    <a:lnTo>
                      <a:pt x="101" y="2795"/>
                    </a:lnTo>
                    <a:lnTo>
                      <a:pt x="76" y="2849"/>
                    </a:lnTo>
                    <a:lnTo>
                      <a:pt x="52" y="2903"/>
                    </a:lnTo>
                    <a:lnTo>
                      <a:pt x="26" y="2956"/>
                    </a:lnTo>
                    <a:lnTo>
                      <a:pt x="0" y="3010"/>
                    </a:lnTo>
                    <a:lnTo>
                      <a:pt x="92" y="2978"/>
                    </a:lnTo>
                    <a:lnTo>
                      <a:pt x="117" y="2927"/>
                    </a:lnTo>
                    <a:lnTo>
                      <a:pt x="141" y="2873"/>
                    </a:lnTo>
                    <a:lnTo>
                      <a:pt x="165" y="2821"/>
                    </a:lnTo>
                    <a:lnTo>
                      <a:pt x="188" y="2766"/>
                    </a:lnTo>
                    <a:lnTo>
                      <a:pt x="210" y="2713"/>
                    </a:lnTo>
                    <a:lnTo>
                      <a:pt x="232" y="2658"/>
                    </a:lnTo>
                    <a:lnTo>
                      <a:pt x="253" y="2604"/>
                    </a:lnTo>
                    <a:lnTo>
                      <a:pt x="273" y="2549"/>
                    </a:lnTo>
                    <a:lnTo>
                      <a:pt x="292" y="2493"/>
                    </a:lnTo>
                    <a:lnTo>
                      <a:pt x="311" y="2438"/>
                    </a:lnTo>
                    <a:lnTo>
                      <a:pt x="329" y="2381"/>
                    </a:lnTo>
                    <a:lnTo>
                      <a:pt x="345" y="2324"/>
                    </a:lnTo>
                    <a:lnTo>
                      <a:pt x="361" y="2268"/>
                    </a:lnTo>
                    <a:lnTo>
                      <a:pt x="377" y="2211"/>
                    </a:lnTo>
                    <a:lnTo>
                      <a:pt x="392" y="2153"/>
                    </a:lnTo>
                    <a:lnTo>
                      <a:pt x="405" y="2095"/>
                    </a:lnTo>
                    <a:lnTo>
                      <a:pt x="419" y="2038"/>
                    </a:lnTo>
                    <a:lnTo>
                      <a:pt x="430" y="1979"/>
                    </a:lnTo>
                    <a:lnTo>
                      <a:pt x="442" y="1920"/>
                    </a:lnTo>
                    <a:lnTo>
                      <a:pt x="453" y="1861"/>
                    </a:lnTo>
                    <a:lnTo>
                      <a:pt x="463" y="1802"/>
                    </a:lnTo>
                    <a:lnTo>
                      <a:pt x="471" y="1743"/>
                    </a:lnTo>
                    <a:lnTo>
                      <a:pt x="480" y="1683"/>
                    </a:lnTo>
                    <a:lnTo>
                      <a:pt x="487" y="1623"/>
                    </a:lnTo>
                    <a:lnTo>
                      <a:pt x="494" y="1563"/>
                    </a:lnTo>
                    <a:lnTo>
                      <a:pt x="500" y="1502"/>
                    </a:lnTo>
                    <a:lnTo>
                      <a:pt x="504" y="1441"/>
                    </a:lnTo>
                    <a:lnTo>
                      <a:pt x="508" y="1380"/>
                    </a:lnTo>
                    <a:lnTo>
                      <a:pt x="511" y="1319"/>
                    </a:lnTo>
                    <a:lnTo>
                      <a:pt x="514" y="1258"/>
                    </a:lnTo>
                    <a:lnTo>
                      <a:pt x="515" y="1196"/>
                    </a:lnTo>
                    <a:lnTo>
                      <a:pt x="516" y="113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836960" y="2638440"/>
                <a:ext cx="166680" cy="955800"/>
              </a:xfrm>
              <a:custGeom>
                <a:avLst/>
                <a:gdLst/>
                <a:ahLst/>
                <a:rect l="l" t="t" r="r" b="b"/>
                <a:pathLst>
                  <a:path w="528" h="3011">
                    <a:moveTo>
                      <a:pt x="528" y="1119"/>
                    </a:moveTo>
                    <a:lnTo>
                      <a:pt x="528" y="1046"/>
                    </a:lnTo>
                    <a:lnTo>
                      <a:pt x="526" y="975"/>
                    </a:lnTo>
                    <a:lnTo>
                      <a:pt x="523" y="902"/>
                    </a:lnTo>
                    <a:lnTo>
                      <a:pt x="518" y="831"/>
                    </a:lnTo>
                    <a:lnTo>
                      <a:pt x="513" y="760"/>
                    </a:lnTo>
                    <a:lnTo>
                      <a:pt x="506" y="689"/>
                    </a:lnTo>
                    <a:lnTo>
                      <a:pt x="499" y="618"/>
                    </a:lnTo>
                    <a:lnTo>
                      <a:pt x="489" y="547"/>
                    </a:lnTo>
                    <a:lnTo>
                      <a:pt x="479" y="478"/>
                    </a:lnTo>
                    <a:lnTo>
                      <a:pt x="468" y="409"/>
                    </a:lnTo>
                    <a:lnTo>
                      <a:pt x="455" y="340"/>
                    </a:lnTo>
                    <a:lnTo>
                      <a:pt x="442" y="271"/>
                    </a:lnTo>
                    <a:lnTo>
                      <a:pt x="427" y="203"/>
                    </a:lnTo>
                    <a:lnTo>
                      <a:pt x="411" y="135"/>
                    </a:lnTo>
                    <a:lnTo>
                      <a:pt x="394" y="68"/>
                    </a:lnTo>
                    <a:lnTo>
                      <a:pt x="377" y="0"/>
                    </a:lnTo>
                    <a:lnTo>
                      <a:pt x="348" y="15"/>
                    </a:lnTo>
                    <a:lnTo>
                      <a:pt x="309" y="15"/>
                    </a:lnTo>
                    <a:lnTo>
                      <a:pt x="327" y="81"/>
                    </a:lnTo>
                    <a:lnTo>
                      <a:pt x="344" y="147"/>
                    </a:lnTo>
                    <a:lnTo>
                      <a:pt x="360" y="215"/>
                    </a:lnTo>
                    <a:lnTo>
                      <a:pt x="373" y="282"/>
                    </a:lnTo>
                    <a:lnTo>
                      <a:pt x="387" y="350"/>
                    </a:lnTo>
                    <a:lnTo>
                      <a:pt x="400" y="418"/>
                    </a:lnTo>
                    <a:lnTo>
                      <a:pt x="411" y="487"/>
                    </a:lnTo>
                    <a:lnTo>
                      <a:pt x="421" y="556"/>
                    </a:lnTo>
                    <a:lnTo>
                      <a:pt x="430" y="625"/>
                    </a:lnTo>
                    <a:lnTo>
                      <a:pt x="438" y="694"/>
                    </a:lnTo>
                    <a:lnTo>
                      <a:pt x="444" y="765"/>
                    </a:lnTo>
                    <a:lnTo>
                      <a:pt x="449" y="834"/>
                    </a:lnTo>
                    <a:lnTo>
                      <a:pt x="453" y="905"/>
                    </a:lnTo>
                    <a:lnTo>
                      <a:pt x="456" y="976"/>
                    </a:lnTo>
                    <a:lnTo>
                      <a:pt x="459" y="1047"/>
                    </a:lnTo>
                    <a:lnTo>
                      <a:pt x="460" y="1119"/>
                    </a:lnTo>
                    <a:lnTo>
                      <a:pt x="459" y="1183"/>
                    </a:lnTo>
                    <a:lnTo>
                      <a:pt x="458" y="1247"/>
                    </a:lnTo>
                    <a:lnTo>
                      <a:pt x="455" y="1310"/>
                    </a:lnTo>
                    <a:lnTo>
                      <a:pt x="451" y="1373"/>
                    </a:lnTo>
                    <a:lnTo>
                      <a:pt x="447" y="1436"/>
                    </a:lnTo>
                    <a:lnTo>
                      <a:pt x="442" y="1499"/>
                    </a:lnTo>
                    <a:lnTo>
                      <a:pt x="435" y="1561"/>
                    </a:lnTo>
                    <a:lnTo>
                      <a:pt x="429" y="1623"/>
                    </a:lnTo>
                    <a:lnTo>
                      <a:pt x="421" y="1685"/>
                    </a:lnTo>
                    <a:lnTo>
                      <a:pt x="411" y="1745"/>
                    </a:lnTo>
                    <a:lnTo>
                      <a:pt x="402" y="1807"/>
                    </a:lnTo>
                    <a:lnTo>
                      <a:pt x="391" y="1868"/>
                    </a:lnTo>
                    <a:lnTo>
                      <a:pt x="380" y="1928"/>
                    </a:lnTo>
                    <a:lnTo>
                      <a:pt x="367" y="1989"/>
                    </a:lnTo>
                    <a:lnTo>
                      <a:pt x="353" y="2049"/>
                    </a:lnTo>
                    <a:lnTo>
                      <a:pt x="340" y="2108"/>
                    </a:lnTo>
                    <a:lnTo>
                      <a:pt x="324" y="2168"/>
                    </a:lnTo>
                    <a:lnTo>
                      <a:pt x="308" y="2226"/>
                    </a:lnTo>
                    <a:lnTo>
                      <a:pt x="291" y="2285"/>
                    </a:lnTo>
                    <a:lnTo>
                      <a:pt x="274" y="2343"/>
                    </a:lnTo>
                    <a:lnTo>
                      <a:pt x="256" y="2401"/>
                    </a:lnTo>
                    <a:lnTo>
                      <a:pt x="237" y="2458"/>
                    </a:lnTo>
                    <a:lnTo>
                      <a:pt x="216" y="2515"/>
                    </a:lnTo>
                    <a:lnTo>
                      <a:pt x="196" y="2572"/>
                    </a:lnTo>
                    <a:lnTo>
                      <a:pt x="174" y="2629"/>
                    </a:lnTo>
                    <a:lnTo>
                      <a:pt x="151" y="2684"/>
                    </a:lnTo>
                    <a:lnTo>
                      <a:pt x="127" y="2740"/>
                    </a:lnTo>
                    <a:lnTo>
                      <a:pt x="103" y="2795"/>
                    </a:lnTo>
                    <a:lnTo>
                      <a:pt x="79" y="2850"/>
                    </a:lnTo>
                    <a:lnTo>
                      <a:pt x="53" y="2904"/>
                    </a:lnTo>
                    <a:lnTo>
                      <a:pt x="27" y="2957"/>
                    </a:lnTo>
                    <a:lnTo>
                      <a:pt x="0" y="3011"/>
                    </a:lnTo>
                    <a:lnTo>
                      <a:pt x="9" y="3008"/>
                    </a:lnTo>
                    <a:lnTo>
                      <a:pt x="93" y="2979"/>
                    </a:lnTo>
                    <a:lnTo>
                      <a:pt x="118" y="2927"/>
                    </a:lnTo>
                    <a:lnTo>
                      <a:pt x="143" y="2873"/>
                    </a:lnTo>
                    <a:lnTo>
                      <a:pt x="167" y="2820"/>
                    </a:lnTo>
                    <a:lnTo>
                      <a:pt x="192" y="2766"/>
                    </a:lnTo>
                    <a:lnTo>
                      <a:pt x="215" y="2711"/>
                    </a:lnTo>
                    <a:lnTo>
                      <a:pt x="237" y="2657"/>
                    </a:lnTo>
                    <a:lnTo>
                      <a:pt x="258" y="2601"/>
                    </a:lnTo>
                    <a:lnTo>
                      <a:pt x="278" y="2546"/>
                    </a:lnTo>
                    <a:lnTo>
                      <a:pt x="298" y="2490"/>
                    </a:lnTo>
                    <a:lnTo>
                      <a:pt x="317" y="2434"/>
                    </a:lnTo>
                    <a:lnTo>
                      <a:pt x="336" y="2378"/>
                    </a:lnTo>
                    <a:lnTo>
                      <a:pt x="352" y="2321"/>
                    </a:lnTo>
                    <a:lnTo>
                      <a:pt x="369" y="2263"/>
                    </a:lnTo>
                    <a:lnTo>
                      <a:pt x="385" y="2205"/>
                    </a:lnTo>
                    <a:lnTo>
                      <a:pt x="401" y="2148"/>
                    </a:lnTo>
                    <a:lnTo>
                      <a:pt x="414" y="2090"/>
                    </a:lnTo>
                    <a:lnTo>
                      <a:pt x="428" y="2031"/>
                    </a:lnTo>
                    <a:lnTo>
                      <a:pt x="441" y="1972"/>
                    </a:lnTo>
                    <a:lnTo>
                      <a:pt x="452" y="1912"/>
                    </a:lnTo>
                    <a:lnTo>
                      <a:pt x="464" y="1854"/>
                    </a:lnTo>
                    <a:lnTo>
                      <a:pt x="474" y="1794"/>
                    </a:lnTo>
                    <a:lnTo>
                      <a:pt x="483" y="1734"/>
                    </a:lnTo>
                    <a:lnTo>
                      <a:pt x="491" y="1673"/>
                    </a:lnTo>
                    <a:lnTo>
                      <a:pt x="500" y="1613"/>
                    </a:lnTo>
                    <a:lnTo>
                      <a:pt x="506" y="1552"/>
                    </a:lnTo>
                    <a:lnTo>
                      <a:pt x="512" y="1490"/>
                    </a:lnTo>
                    <a:lnTo>
                      <a:pt x="516" y="1429"/>
                    </a:lnTo>
                    <a:lnTo>
                      <a:pt x="521" y="1367"/>
                    </a:lnTo>
                    <a:lnTo>
                      <a:pt x="524" y="1306"/>
                    </a:lnTo>
                    <a:lnTo>
                      <a:pt x="526" y="1244"/>
                    </a:lnTo>
                    <a:lnTo>
                      <a:pt x="528" y="1182"/>
                    </a:lnTo>
                    <a:lnTo>
                      <a:pt x="528" y="111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821120" y="2643120"/>
                <a:ext cx="171720" cy="957240"/>
              </a:xfrm>
              <a:custGeom>
                <a:avLst/>
                <a:gdLst/>
                <a:ahLst/>
                <a:rect l="l" t="t" r="r" b="b"/>
                <a:pathLst>
                  <a:path w="542" h="3016">
                    <a:moveTo>
                      <a:pt x="542" y="1104"/>
                    </a:moveTo>
                    <a:lnTo>
                      <a:pt x="542" y="1032"/>
                    </a:lnTo>
                    <a:lnTo>
                      <a:pt x="540" y="961"/>
                    </a:lnTo>
                    <a:lnTo>
                      <a:pt x="537" y="890"/>
                    </a:lnTo>
                    <a:lnTo>
                      <a:pt x="533" y="820"/>
                    </a:lnTo>
                    <a:lnTo>
                      <a:pt x="528" y="750"/>
                    </a:lnTo>
                    <a:lnTo>
                      <a:pt x="521" y="679"/>
                    </a:lnTo>
                    <a:lnTo>
                      <a:pt x="514" y="610"/>
                    </a:lnTo>
                    <a:lnTo>
                      <a:pt x="504" y="541"/>
                    </a:lnTo>
                    <a:lnTo>
                      <a:pt x="495" y="472"/>
                    </a:lnTo>
                    <a:lnTo>
                      <a:pt x="483" y="403"/>
                    </a:lnTo>
                    <a:lnTo>
                      <a:pt x="471" y="335"/>
                    </a:lnTo>
                    <a:lnTo>
                      <a:pt x="458" y="267"/>
                    </a:lnTo>
                    <a:lnTo>
                      <a:pt x="443" y="200"/>
                    </a:lnTo>
                    <a:lnTo>
                      <a:pt x="428" y="132"/>
                    </a:lnTo>
                    <a:lnTo>
                      <a:pt x="412" y="66"/>
                    </a:lnTo>
                    <a:lnTo>
                      <a:pt x="394" y="0"/>
                    </a:lnTo>
                    <a:lnTo>
                      <a:pt x="340" y="0"/>
                    </a:lnTo>
                    <a:lnTo>
                      <a:pt x="324" y="5"/>
                    </a:lnTo>
                    <a:lnTo>
                      <a:pt x="341" y="71"/>
                    </a:lnTo>
                    <a:lnTo>
                      <a:pt x="358" y="138"/>
                    </a:lnTo>
                    <a:lnTo>
                      <a:pt x="374" y="204"/>
                    </a:lnTo>
                    <a:lnTo>
                      <a:pt x="389" y="271"/>
                    </a:lnTo>
                    <a:lnTo>
                      <a:pt x="401" y="338"/>
                    </a:lnTo>
                    <a:lnTo>
                      <a:pt x="414" y="406"/>
                    </a:lnTo>
                    <a:lnTo>
                      <a:pt x="426" y="475"/>
                    </a:lnTo>
                    <a:lnTo>
                      <a:pt x="435" y="543"/>
                    </a:lnTo>
                    <a:lnTo>
                      <a:pt x="445" y="612"/>
                    </a:lnTo>
                    <a:lnTo>
                      <a:pt x="452" y="682"/>
                    </a:lnTo>
                    <a:lnTo>
                      <a:pt x="459" y="751"/>
                    </a:lnTo>
                    <a:lnTo>
                      <a:pt x="464" y="821"/>
                    </a:lnTo>
                    <a:lnTo>
                      <a:pt x="469" y="892"/>
                    </a:lnTo>
                    <a:lnTo>
                      <a:pt x="472" y="962"/>
                    </a:lnTo>
                    <a:lnTo>
                      <a:pt x="473" y="1033"/>
                    </a:lnTo>
                    <a:lnTo>
                      <a:pt x="474" y="1104"/>
                    </a:lnTo>
                    <a:lnTo>
                      <a:pt x="473" y="1169"/>
                    </a:lnTo>
                    <a:lnTo>
                      <a:pt x="472" y="1233"/>
                    </a:lnTo>
                    <a:lnTo>
                      <a:pt x="470" y="1297"/>
                    </a:lnTo>
                    <a:lnTo>
                      <a:pt x="466" y="1361"/>
                    </a:lnTo>
                    <a:lnTo>
                      <a:pt x="461" y="1425"/>
                    </a:lnTo>
                    <a:lnTo>
                      <a:pt x="456" y="1488"/>
                    </a:lnTo>
                    <a:lnTo>
                      <a:pt x="450" y="1551"/>
                    </a:lnTo>
                    <a:lnTo>
                      <a:pt x="442" y="1614"/>
                    </a:lnTo>
                    <a:lnTo>
                      <a:pt x="434" y="1676"/>
                    </a:lnTo>
                    <a:lnTo>
                      <a:pt x="425" y="1739"/>
                    </a:lnTo>
                    <a:lnTo>
                      <a:pt x="415" y="1801"/>
                    </a:lnTo>
                    <a:lnTo>
                      <a:pt x="404" y="1862"/>
                    </a:lnTo>
                    <a:lnTo>
                      <a:pt x="392" y="1924"/>
                    </a:lnTo>
                    <a:lnTo>
                      <a:pt x="378" y="1985"/>
                    </a:lnTo>
                    <a:lnTo>
                      <a:pt x="365" y="2044"/>
                    </a:lnTo>
                    <a:lnTo>
                      <a:pt x="350" y="2105"/>
                    </a:lnTo>
                    <a:lnTo>
                      <a:pt x="334" y="2165"/>
                    </a:lnTo>
                    <a:lnTo>
                      <a:pt x="318" y="2224"/>
                    </a:lnTo>
                    <a:lnTo>
                      <a:pt x="301" y="2284"/>
                    </a:lnTo>
                    <a:lnTo>
                      <a:pt x="283" y="2343"/>
                    </a:lnTo>
                    <a:lnTo>
                      <a:pt x="264" y="2400"/>
                    </a:lnTo>
                    <a:lnTo>
                      <a:pt x="244" y="2459"/>
                    </a:lnTo>
                    <a:lnTo>
                      <a:pt x="223" y="2517"/>
                    </a:lnTo>
                    <a:lnTo>
                      <a:pt x="202" y="2574"/>
                    </a:lnTo>
                    <a:lnTo>
                      <a:pt x="179" y="2630"/>
                    </a:lnTo>
                    <a:lnTo>
                      <a:pt x="155" y="2687"/>
                    </a:lnTo>
                    <a:lnTo>
                      <a:pt x="131" y="2743"/>
                    </a:lnTo>
                    <a:lnTo>
                      <a:pt x="107" y="2798"/>
                    </a:lnTo>
                    <a:lnTo>
                      <a:pt x="81" y="2853"/>
                    </a:lnTo>
                    <a:lnTo>
                      <a:pt x="55" y="2908"/>
                    </a:lnTo>
                    <a:lnTo>
                      <a:pt x="27" y="2962"/>
                    </a:lnTo>
                    <a:lnTo>
                      <a:pt x="0" y="3016"/>
                    </a:lnTo>
                    <a:lnTo>
                      <a:pt x="58" y="2993"/>
                    </a:lnTo>
                    <a:lnTo>
                      <a:pt x="96" y="2980"/>
                    </a:lnTo>
                    <a:lnTo>
                      <a:pt x="122" y="2926"/>
                    </a:lnTo>
                    <a:lnTo>
                      <a:pt x="148" y="2873"/>
                    </a:lnTo>
                    <a:lnTo>
                      <a:pt x="172" y="2819"/>
                    </a:lnTo>
                    <a:lnTo>
                      <a:pt x="197" y="2765"/>
                    </a:lnTo>
                    <a:lnTo>
                      <a:pt x="221" y="2710"/>
                    </a:lnTo>
                    <a:lnTo>
                      <a:pt x="243" y="2656"/>
                    </a:lnTo>
                    <a:lnTo>
                      <a:pt x="265" y="2600"/>
                    </a:lnTo>
                    <a:lnTo>
                      <a:pt x="286" y="2544"/>
                    </a:lnTo>
                    <a:lnTo>
                      <a:pt x="307" y="2488"/>
                    </a:lnTo>
                    <a:lnTo>
                      <a:pt x="326" y="2431"/>
                    </a:lnTo>
                    <a:lnTo>
                      <a:pt x="345" y="2374"/>
                    </a:lnTo>
                    <a:lnTo>
                      <a:pt x="363" y="2316"/>
                    </a:lnTo>
                    <a:lnTo>
                      <a:pt x="379" y="2259"/>
                    </a:lnTo>
                    <a:lnTo>
                      <a:pt x="396" y="2201"/>
                    </a:lnTo>
                    <a:lnTo>
                      <a:pt x="412" y="2142"/>
                    </a:lnTo>
                    <a:lnTo>
                      <a:pt x="427" y="2083"/>
                    </a:lnTo>
                    <a:lnTo>
                      <a:pt x="440" y="2024"/>
                    </a:lnTo>
                    <a:lnTo>
                      <a:pt x="453" y="1965"/>
                    </a:lnTo>
                    <a:lnTo>
                      <a:pt x="466" y="1906"/>
                    </a:lnTo>
                    <a:lnTo>
                      <a:pt x="477" y="1845"/>
                    </a:lnTo>
                    <a:lnTo>
                      <a:pt x="487" y="1785"/>
                    </a:lnTo>
                    <a:lnTo>
                      <a:pt x="496" y="1724"/>
                    </a:lnTo>
                    <a:lnTo>
                      <a:pt x="505" y="1663"/>
                    </a:lnTo>
                    <a:lnTo>
                      <a:pt x="513" y="1602"/>
                    </a:lnTo>
                    <a:lnTo>
                      <a:pt x="520" y="1541"/>
                    </a:lnTo>
                    <a:lnTo>
                      <a:pt x="525" y="1480"/>
                    </a:lnTo>
                    <a:lnTo>
                      <a:pt x="531" y="1418"/>
                    </a:lnTo>
                    <a:lnTo>
                      <a:pt x="535" y="1356"/>
                    </a:lnTo>
                    <a:lnTo>
                      <a:pt x="538" y="1293"/>
                    </a:lnTo>
                    <a:lnTo>
                      <a:pt x="541" y="1230"/>
                    </a:lnTo>
                    <a:lnTo>
                      <a:pt x="542" y="1168"/>
                    </a:lnTo>
                    <a:lnTo>
                      <a:pt x="542" y="1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805280" y="2643120"/>
                <a:ext cx="177840" cy="963720"/>
              </a:xfrm>
              <a:custGeom>
                <a:avLst/>
                <a:gdLst/>
                <a:ahLst/>
                <a:rect l="l" t="t" r="r" b="b"/>
                <a:pathLst>
                  <a:path w="560" h="3036">
                    <a:moveTo>
                      <a:pt x="560" y="1104"/>
                    </a:moveTo>
                    <a:lnTo>
                      <a:pt x="559" y="1032"/>
                    </a:lnTo>
                    <a:lnTo>
                      <a:pt x="556" y="961"/>
                    </a:lnTo>
                    <a:lnTo>
                      <a:pt x="553" y="890"/>
                    </a:lnTo>
                    <a:lnTo>
                      <a:pt x="549" y="819"/>
                    </a:lnTo>
                    <a:lnTo>
                      <a:pt x="544" y="750"/>
                    </a:lnTo>
                    <a:lnTo>
                      <a:pt x="538" y="679"/>
                    </a:lnTo>
                    <a:lnTo>
                      <a:pt x="530" y="610"/>
                    </a:lnTo>
                    <a:lnTo>
                      <a:pt x="521" y="541"/>
                    </a:lnTo>
                    <a:lnTo>
                      <a:pt x="511" y="472"/>
                    </a:lnTo>
                    <a:lnTo>
                      <a:pt x="500" y="403"/>
                    </a:lnTo>
                    <a:lnTo>
                      <a:pt x="487" y="335"/>
                    </a:lnTo>
                    <a:lnTo>
                      <a:pt x="473" y="267"/>
                    </a:lnTo>
                    <a:lnTo>
                      <a:pt x="460" y="200"/>
                    </a:lnTo>
                    <a:lnTo>
                      <a:pt x="444" y="132"/>
                    </a:lnTo>
                    <a:lnTo>
                      <a:pt x="427" y="66"/>
                    </a:lnTo>
                    <a:lnTo>
                      <a:pt x="409" y="0"/>
                    </a:lnTo>
                    <a:lnTo>
                      <a:pt x="391" y="0"/>
                    </a:lnTo>
                    <a:lnTo>
                      <a:pt x="342" y="16"/>
                    </a:lnTo>
                    <a:lnTo>
                      <a:pt x="360" y="81"/>
                    </a:lnTo>
                    <a:lnTo>
                      <a:pt x="377" y="147"/>
                    </a:lnTo>
                    <a:lnTo>
                      <a:pt x="391" y="213"/>
                    </a:lnTo>
                    <a:lnTo>
                      <a:pt x="406" y="279"/>
                    </a:lnTo>
                    <a:lnTo>
                      <a:pt x="419" y="346"/>
                    </a:lnTo>
                    <a:lnTo>
                      <a:pt x="431" y="413"/>
                    </a:lnTo>
                    <a:lnTo>
                      <a:pt x="443" y="481"/>
                    </a:lnTo>
                    <a:lnTo>
                      <a:pt x="452" y="548"/>
                    </a:lnTo>
                    <a:lnTo>
                      <a:pt x="461" y="616"/>
                    </a:lnTo>
                    <a:lnTo>
                      <a:pt x="469" y="686"/>
                    </a:lnTo>
                    <a:lnTo>
                      <a:pt x="476" y="754"/>
                    </a:lnTo>
                    <a:lnTo>
                      <a:pt x="481" y="823"/>
                    </a:lnTo>
                    <a:lnTo>
                      <a:pt x="485" y="894"/>
                    </a:lnTo>
                    <a:lnTo>
                      <a:pt x="488" y="963"/>
                    </a:lnTo>
                    <a:lnTo>
                      <a:pt x="490" y="1033"/>
                    </a:lnTo>
                    <a:lnTo>
                      <a:pt x="490" y="1104"/>
                    </a:lnTo>
                    <a:lnTo>
                      <a:pt x="490" y="1170"/>
                    </a:lnTo>
                    <a:lnTo>
                      <a:pt x="488" y="1235"/>
                    </a:lnTo>
                    <a:lnTo>
                      <a:pt x="486" y="1300"/>
                    </a:lnTo>
                    <a:lnTo>
                      <a:pt x="482" y="1364"/>
                    </a:lnTo>
                    <a:lnTo>
                      <a:pt x="478" y="1429"/>
                    </a:lnTo>
                    <a:lnTo>
                      <a:pt x="472" y="1493"/>
                    </a:lnTo>
                    <a:lnTo>
                      <a:pt x="465" y="1556"/>
                    </a:lnTo>
                    <a:lnTo>
                      <a:pt x="458" y="1620"/>
                    </a:lnTo>
                    <a:lnTo>
                      <a:pt x="449" y="1683"/>
                    </a:lnTo>
                    <a:lnTo>
                      <a:pt x="440" y="1746"/>
                    </a:lnTo>
                    <a:lnTo>
                      <a:pt x="429" y="1809"/>
                    </a:lnTo>
                    <a:lnTo>
                      <a:pt x="418" y="1871"/>
                    </a:lnTo>
                    <a:lnTo>
                      <a:pt x="405" y="1933"/>
                    </a:lnTo>
                    <a:lnTo>
                      <a:pt x="392" y="1995"/>
                    </a:lnTo>
                    <a:lnTo>
                      <a:pt x="378" y="2056"/>
                    </a:lnTo>
                    <a:lnTo>
                      <a:pt x="363" y="2117"/>
                    </a:lnTo>
                    <a:lnTo>
                      <a:pt x="346" y="2178"/>
                    </a:lnTo>
                    <a:lnTo>
                      <a:pt x="329" y="2238"/>
                    </a:lnTo>
                    <a:lnTo>
                      <a:pt x="312" y="2297"/>
                    </a:lnTo>
                    <a:lnTo>
                      <a:pt x="293" y="2356"/>
                    </a:lnTo>
                    <a:lnTo>
                      <a:pt x="274" y="2416"/>
                    </a:lnTo>
                    <a:lnTo>
                      <a:pt x="253" y="2474"/>
                    </a:lnTo>
                    <a:lnTo>
                      <a:pt x="232" y="2533"/>
                    </a:lnTo>
                    <a:lnTo>
                      <a:pt x="209" y="2590"/>
                    </a:lnTo>
                    <a:lnTo>
                      <a:pt x="185" y="2647"/>
                    </a:lnTo>
                    <a:lnTo>
                      <a:pt x="162" y="2704"/>
                    </a:lnTo>
                    <a:lnTo>
                      <a:pt x="137" y="2761"/>
                    </a:lnTo>
                    <a:lnTo>
                      <a:pt x="112" y="2816"/>
                    </a:lnTo>
                    <a:lnTo>
                      <a:pt x="86" y="2872"/>
                    </a:lnTo>
                    <a:lnTo>
                      <a:pt x="58" y="2927"/>
                    </a:lnTo>
                    <a:lnTo>
                      <a:pt x="30" y="2982"/>
                    </a:lnTo>
                    <a:lnTo>
                      <a:pt x="0" y="3036"/>
                    </a:lnTo>
                    <a:lnTo>
                      <a:pt x="100" y="2996"/>
                    </a:lnTo>
                    <a:lnTo>
                      <a:pt x="127" y="2942"/>
                    </a:lnTo>
                    <a:lnTo>
                      <a:pt x="153" y="2889"/>
                    </a:lnTo>
                    <a:lnTo>
                      <a:pt x="179" y="2835"/>
                    </a:lnTo>
                    <a:lnTo>
                      <a:pt x="203" y="2780"/>
                    </a:lnTo>
                    <a:lnTo>
                      <a:pt x="227" y="2725"/>
                    </a:lnTo>
                    <a:lnTo>
                      <a:pt x="251" y="2669"/>
                    </a:lnTo>
                    <a:lnTo>
                      <a:pt x="274" y="2614"/>
                    </a:lnTo>
                    <a:lnTo>
                      <a:pt x="296" y="2557"/>
                    </a:lnTo>
                    <a:lnTo>
                      <a:pt x="316" y="2500"/>
                    </a:lnTo>
                    <a:lnTo>
                      <a:pt x="337" y="2443"/>
                    </a:lnTo>
                    <a:lnTo>
                      <a:pt x="356" y="2386"/>
                    </a:lnTo>
                    <a:lnTo>
                      <a:pt x="374" y="2328"/>
                    </a:lnTo>
                    <a:lnTo>
                      <a:pt x="391" y="2270"/>
                    </a:lnTo>
                    <a:lnTo>
                      <a:pt x="408" y="2211"/>
                    </a:lnTo>
                    <a:lnTo>
                      <a:pt x="424" y="2153"/>
                    </a:lnTo>
                    <a:lnTo>
                      <a:pt x="440" y="2093"/>
                    </a:lnTo>
                    <a:lnTo>
                      <a:pt x="453" y="2034"/>
                    </a:lnTo>
                    <a:lnTo>
                      <a:pt x="467" y="1974"/>
                    </a:lnTo>
                    <a:lnTo>
                      <a:pt x="480" y="1913"/>
                    </a:lnTo>
                    <a:lnTo>
                      <a:pt x="491" y="1853"/>
                    </a:lnTo>
                    <a:lnTo>
                      <a:pt x="502" y="1792"/>
                    </a:lnTo>
                    <a:lnTo>
                      <a:pt x="511" y="1730"/>
                    </a:lnTo>
                    <a:lnTo>
                      <a:pt x="521" y="1670"/>
                    </a:lnTo>
                    <a:lnTo>
                      <a:pt x="529" y="1608"/>
                    </a:lnTo>
                    <a:lnTo>
                      <a:pt x="535" y="1546"/>
                    </a:lnTo>
                    <a:lnTo>
                      <a:pt x="542" y="1484"/>
                    </a:lnTo>
                    <a:lnTo>
                      <a:pt x="547" y="1421"/>
                    </a:lnTo>
                    <a:lnTo>
                      <a:pt x="551" y="1358"/>
                    </a:lnTo>
                    <a:lnTo>
                      <a:pt x="555" y="1295"/>
                    </a:lnTo>
                    <a:lnTo>
                      <a:pt x="558" y="1232"/>
                    </a:lnTo>
                    <a:lnTo>
                      <a:pt x="559" y="1168"/>
                    </a:lnTo>
                    <a:lnTo>
                      <a:pt x="560" y="1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789440" y="2644920"/>
                <a:ext cx="182520" cy="968400"/>
              </a:xfrm>
              <a:custGeom>
                <a:avLst/>
                <a:gdLst/>
                <a:ahLst/>
                <a:rect l="l" t="t" r="r" b="b"/>
                <a:pathLst>
                  <a:path w="575" h="3052">
                    <a:moveTo>
                      <a:pt x="575" y="1099"/>
                    </a:moveTo>
                    <a:lnTo>
                      <a:pt x="574" y="1028"/>
                    </a:lnTo>
                    <a:lnTo>
                      <a:pt x="573" y="957"/>
                    </a:lnTo>
                    <a:lnTo>
                      <a:pt x="570" y="887"/>
                    </a:lnTo>
                    <a:lnTo>
                      <a:pt x="565" y="816"/>
                    </a:lnTo>
                    <a:lnTo>
                      <a:pt x="560" y="746"/>
                    </a:lnTo>
                    <a:lnTo>
                      <a:pt x="553" y="677"/>
                    </a:lnTo>
                    <a:lnTo>
                      <a:pt x="546" y="607"/>
                    </a:lnTo>
                    <a:lnTo>
                      <a:pt x="536" y="538"/>
                    </a:lnTo>
                    <a:lnTo>
                      <a:pt x="527" y="470"/>
                    </a:lnTo>
                    <a:lnTo>
                      <a:pt x="515" y="401"/>
                    </a:lnTo>
                    <a:lnTo>
                      <a:pt x="502" y="333"/>
                    </a:lnTo>
                    <a:lnTo>
                      <a:pt x="490" y="266"/>
                    </a:lnTo>
                    <a:lnTo>
                      <a:pt x="475" y="199"/>
                    </a:lnTo>
                    <a:lnTo>
                      <a:pt x="459" y="133"/>
                    </a:lnTo>
                    <a:lnTo>
                      <a:pt x="442" y="66"/>
                    </a:lnTo>
                    <a:lnTo>
                      <a:pt x="425" y="0"/>
                    </a:lnTo>
                    <a:lnTo>
                      <a:pt x="359" y="21"/>
                    </a:lnTo>
                    <a:lnTo>
                      <a:pt x="377" y="86"/>
                    </a:lnTo>
                    <a:lnTo>
                      <a:pt x="393" y="152"/>
                    </a:lnTo>
                    <a:lnTo>
                      <a:pt x="409" y="217"/>
                    </a:lnTo>
                    <a:lnTo>
                      <a:pt x="423" y="282"/>
                    </a:lnTo>
                    <a:lnTo>
                      <a:pt x="436" y="348"/>
                    </a:lnTo>
                    <a:lnTo>
                      <a:pt x="448" y="415"/>
                    </a:lnTo>
                    <a:lnTo>
                      <a:pt x="458" y="481"/>
                    </a:lnTo>
                    <a:lnTo>
                      <a:pt x="469" y="548"/>
                    </a:lnTo>
                    <a:lnTo>
                      <a:pt x="477" y="617"/>
                    </a:lnTo>
                    <a:lnTo>
                      <a:pt x="485" y="685"/>
                    </a:lnTo>
                    <a:lnTo>
                      <a:pt x="491" y="753"/>
                    </a:lnTo>
                    <a:lnTo>
                      <a:pt x="497" y="821"/>
                    </a:lnTo>
                    <a:lnTo>
                      <a:pt x="500" y="891"/>
                    </a:lnTo>
                    <a:lnTo>
                      <a:pt x="503" y="960"/>
                    </a:lnTo>
                    <a:lnTo>
                      <a:pt x="506" y="1029"/>
                    </a:lnTo>
                    <a:lnTo>
                      <a:pt x="507" y="1099"/>
                    </a:lnTo>
                    <a:lnTo>
                      <a:pt x="506" y="1165"/>
                    </a:lnTo>
                    <a:lnTo>
                      <a:pt x="505" y="1231"/>
                    </a:lnTo>
                    <a:lnTo>
                      <a:pt x="501" y="1297"/>
                    </a:lnTo>
                    <a:lnTo>
                      <a:pt x="497" y="1362"/>
                    </a:lnTo>
                    <a:lnTo>
                      <a:pt x="493" y="1428"/>
                    </a:lnTo>
                    <a:lnTo>
                      <a:pt x="487" y="1492"/>
                    </a:lnTo>
                    <a:lnTo>
                      <a:pt x="480" y="1557"/>
                    </a:lnTo>
                    <a:lnTo>
                      <a:pt x="472" y="1622"/>
                    </a:lnTo>
                    <a:lnTo>
                      <a:pt x="464" y="1686"/>
                    </a:lnTo>
                    <a:lnTo>
                      <a:pt x="454" y="1750"/>
                    </a:lnTo>
                    <a:lnTo>
                      <a:pt x="442" y="1813"/>
                    </a:lnTo>
                    <a:lnTo>
                      <a:pt x="431" y="1876"/>
                    </a:lnTo>
                    <a:lnTo>
                      <a:pt x="418" y="1939"/>
                    </a:lnTo>
                    <a:lnTo>
                      <a:pt x="405" y="2001"/>
                    </a:lnTo>
                    <a:lnTo>
                      <a:pt x="390" y="2063"/>
                    </a:lnTo>
                    <a:lnTo>
                      <a:pt x="374" y="2124"/>
                    </a:lnTo>
                    <a:lnTo>
                      <a:pt x="357" y="2185"/>
                    </a:lnTo>
                    <a:lnTo>
                      <a:pt x="339" y="2246"/>
                    </a:lnTo>
                    <a:lnTo>
                      <a:pt x="322" y="2306"/>
                    </a:lnTo>
                    <a:lnTo>
                      <a:pt x="302" y="2366"/>
                    </a:lnTo>
                    <a:lnTo>
                      <a:pt x="282" y="2426"/>
                    </a:lnTo>
                    <a:lnTo>
                      <a:pt x="261" y="2485"/>
                    </a:lnTo>
                    <a:lnTo>
                      <a:pt x="239" y="2543"/>
                    </a:lnTo>
                    <a:lnTo>
                      <a:pt x="215" y="2602"/>
                    </a:lnTo>
                    <a:lnTo>
                      <a:pt x="191" y="2660"/>
                    </a:lnTo>
                    <a:lnTo>
                      <a:pt x="166" y="2718"/>
                    </a:lnTo>
                    <a:lnTo>
                      <a:pt x="141" y="2774"/>
                    </a:lnTo>
                    <a:lnTo>
                      <a:pt x="115" y="2830"/>
                    </a:lnTo>
                    <a:lnTo>
                      <a:pt x="87" y="2887"/>
                    </a:lnTo>
                    <a:lnTo>
                      <a:pt x="59" y="2942"/>
                    </a:lnTo>
                    <a:lnTo>
                      <a:pt x="29" y="2997"/>
                    </a:lnTo>
                    <a:lnTo>
                      <a:pt x="0" y="3052"/>
                    </a:lnTo>
                    <a:lnTo>
                      <a:pt x="18" y="3044"/>
                    </a:lnTo>
                    <a:lnTo>
                      <a:pt x="101" y="3011"/>
                    </a:lnTo>
                    <a:lnTo>
                      <a:pt x="128" y="2957"/>
                    </a:lnTo>
                    <a:lnTo>
                      <a:pt x="156" y="2903"/>
                    </a:lnTo>
                    <a:lnTo>
                      <a:pt x="182" y="2848"/>
                    </a:lnTo>
                    <a:lnTo>
                      <a:pt x="208" y="2793"/>
                    </a:lnTo>
                    <a:lnTo>
                      <a:pt x="232" y="2738"/>
                    </a:lnTo>
                    <a:lnTo>
                      <a:pt x="256" y="2682"/>
                    </a:lnTo>
                    <a:lnTo>
                      <a:pt x="280" y="2625"/>
                    </a:lnTo>
                    <a:lnTo>
                      <a:pt x="303" y="2569"/>
                    </a:lnTo>
                    <a:lnTo>
                      <a:pt x="324" y="2512"/>
                    </a:lnTo>
                    <a:lnTo>
                      <a:pt x="345" y="2454"/>
                    </a:lnTo>
                    <a:lnTo>
                      <a:pt x="365" y="2395"/>
                    </a:lnTo>
                    <a:lnTo>
                      <a:pt x="384" y="2338"/>
                    </a:lnTo>
                    <a:lnTo>
                      <a:pt x="402" y="2279"/>
                    </a:lnTo>
                    <a:lnTo>
                      <a:pt x="419" y="2219"/>
                    </a:lnTo>
                    <a:lnTo>
                      <a:pt x="435" y="2160"/>
                    </a:lnTo>
                    <a:lnTo>
                      <a:pt x="451" y="2100"/>
                    </a:lnTo>
                    <a:lnTo>
                      <a:pt x="466" y="2039"/>
                    </a:lnTo>
                    <a:lnTo>
                      <a:pt x="479" y="1980"/>
                    </a:lnTo>
                    <a:lnTo>
                      <a:pt x="493" y="1919"/>
                    </a:lnTo>
                    <a:lnTo>
                      <a:pt x="505" y="1857"/>
                    </a:lnTo>
                    <a:lnTo>
                      <a:pt x="516" y="1796"/>
                    </a:lnTo>
                    <a:lnTo>
                      <a:pt x="526" y="1734"/>
                    </a:lnTo>
                    <a:lnTo>
                      <a:pt x="535" y="1671"/>
                    </a:lnTo>
                    <a:lnTo>
                      <a:pt x="543" y="1609"/>
                    </a:lnTo>
                    <a:lnTo>
                      <a:pt x="551" y="1546"/>
                    </a:lnTo>
                    <a:lnTo>
                      <a:pt x="557" y="1483"/>
                    </a:lnTo>
                    <a:lnTo>
                      <a:pt x="562" y="1420"/>
                    </a:lnTo>
                    <a:lnTo>
                      <a:pt x="567" y="1356"/>
                    </a:lnTo>
                    <a:lnTo>
                      <a:pt x="571" y="1292"/>
                    </a:lnTo>
                    <a:lnTo>
                      <a:pt x="573" y="1228"/>
                    </a:lnTo>
                    <a:lnTo>
                      <a:pt x="574" y="1164"/>
                    </a:lnTo>
                    <a:lnTo>
                      <a:pt x="575" y="109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773600" y="2647800"/>
                <a:ext cx="187200" cy="971640"/>
              </a:xfrm>
              <a:custGeom>
                <a:avLst/>
                <a:gdLst/>
                <a:ahLst/>
                <a:rect l="l" t="t" r="r" b="b"/>
                <a:pathLst>
                  <a:path w="590" h="3061">
                    <a:moveTo>
                      <a:pt x="590" y="1088"/>
                    </a:moveTo>
                    <a:lnTo>
                      <a:pt x="590" y="1017"/>
                    </a:lnTo>
                    <a:lnTo>
                      <a:pt x="588" y="947"/>
                    </a:lnTo>
                    <a:lnTo>
                      <a:pt x="585" y="878"/>
                    </a:lnTo>
                    <a:lnTo>
                      <a:pt x="581" y="807"/>
                    </a:lnTo>
                    <a:lnTo>
                      <a:pt x="576" y="738"/>
                    </a:lnTo>
                    <a:lnTo>
                      <a:pt x="569" y="670"/>
                    </a:lnTo>
                    <a:lnTo>
                      <a:pt x="561" y="600"/>
                    </a:lnTo>
                    <a:lnTo>
                      <a:pt x="552" y="532"/>
                    </a:lnTo>
                    <a:lnTo>
                      <a:pt x="543" y="465"/>
                    </a:lnTo>
                    <a:lnTo>
                      <a:pt x="531" y="397"/>
                    </a:lnTo>
                    <a:lnTo>
                      <a:pt x="520" y="330"/>
                    </a:lnTo>
                    <a:lnTo>
                      <a:pt x="506" y="263"/>
                    </a:lnTo>
                    <a:lnTo>
                      <a:pt x="491" y="197"/>
                    </a:lnTo>
                    <a:lnTo>
                      <a:pt x="477" y="131"/>
                    </a:lnTo>
                    <a:lnTo>
                      <a:pt x="460" y="65"/>
                    </a:lnTo>
                    <a:lnTo>
                      <a:pt x="442" y="0"/>
                    </a:lnTo>
                    <a:lnTo>
                      <a:pt x="407" y="11"/>
                    </a:lnTo>
                    <a:lnTo>
                      <a:pt x="378" y="26"/>
                    </a:lnTo>
                    <a:lnTo>
                      <a:pt x="395" y="90"/>
                    </a:lnTo>
                    <a:lnTo>
                      <a:pt x="412" y="154"/>
                    </a:lnTo>
                    <a:lnTo>
                      <a:pt x="426" y="218"/>
                    </a:lnTo>
                    <a:lnTo>
                      <a:pt x="440" y="283"/>
                    </a:lnTo>
                    <a:lnTo>
                      <a:pt x="453" y="348"/>
                    </a:lnTo>
                    <a:lnTo>
                      <a:pt x="464" y="414"/>
                    </a:lnTo>
                    <a:lnTo>
                      <a:pt x="476" y="480"/>
                    </a:lnTo>
                    <a:lnTo>
                      <a:pt x="485" y="546"/>
                    </a:lnTo>
                    <a:lnTo>
                      <a:pt x="494" y="613"/>
                    </a:lnTo>
                    <a:lnTo>
                      <a:pt x="501" y="680"/>
                    </a:lnTo>
                    <a:lnTo>
                      <a:pt x="507" y="747"/>
                    </a:lnTo>
                    <a:lnTo>
                      <a:pt x="512" y="815"/>
                    </a:lnTo>
                    <a:lnTo>
                      <a:pt x="517" y="883"/>
                    </a:lnTo>
                    <a:lnTo>
                      <a:pt x="520" y="951"/>
                    </a:lnTo>
                    <a:lnTo>
                      <a:pt x="521" y="1019"/>
                    </a:lnTo>
                    <a:lnTo>
                      <a:pt x="522" y="1088"/>
                    </a:lnTo>
                    <a:lnTo>
                      <a:pt x="521" y="1155"/>
                    </a:lnTo>
                    <a:lnTo>
                      <a:pt x="520" y="1222"/>
                    </a:lnTo>
                    <a:lnTo>
                      <a:pt x="517" y="1288"/>
                    </a:lnTo>
                    <a:lnTo>
                      <a:pt x="512" y="1355"/>
                    </a:lnTo>
                    <a:lnTo>
                      <a:pt x="508" y="1420"/>
                    </a:lnTo>
                    <a:lnTo>
                      <a:pt x="502" y="1487"/>
                    </a:lnTo>
                    <a:lnTo>
                      <a:pt x="495" y="1552"/>
                    </a:lnTo>
                    <a:lnTo>
                      <a:pt x="487" y="1617"/>
                    </a:lnTo>
                    <a:lnTo>
                      <a:pt x="478" y="1682"/>
                    </a:lnTo>
                    <a:lnTo>
                      <a:pt x="467" y="1746"/>
                    </a:lnTo>
                    <a:lnTo>
                      <a:pt x="456" y="1810"/>
                    </a:lnTo>
                    <a:lnTo>
                      <a:pt x="444" y="1874"/>
                    </a:lnTo>
                    <a:lnTo>
                      <a:pt x="430" y="1938"/>
                    </a:lnTo>
                    <a:lnTo>
                      <a:pt x="417" y="2001"/>
                    </a:lnTo>
                    <a:lnTo>
                      <a:pt x="401" y="2063"/>
                    </a:lnTo>
                    <a:lnTo>
                      <a:pt x="385" y="2125"/>
                    </a:lnTo>
                    <a:lnTo>
                      <a:pt x="367" y="2187"/>
                    </a:lnTo>
                    <a:lnTo>
                      <a:pt x="350" y="2249"/>
                    </a:lnTo>
                    <a:lnTo>
                      <a:pt x="331" y="2310"/>
                    </a:lnTo>
                    <a:lnTo>
                      <a:pt x="311" y="2371"/>
                    </a:lnTo>
                    <a:lnTo>
                      <a:pt x="290" y="2431"/>
                    </a:lnTo>
                    <a:lnTo>
                      <a:pt x="268" y="2490"/>
                    </a:lnTo>
                    <a:lnTo>
                      <a:pt x="244" y="2549"/>
                    </a:lnTo>
                    <a:lnTo>
                      <a:pt x="221" y="2608"/>
                    </a:lnTo>
                    <a:lnTo>
                      <a:pt x="196" y="2667"/>
                    </a:lnTo>
                    <a:lnTo>
                      <a:pt x="171" y="2725"/>
                    </a:lnTo>
                    <a:lnTo>
                      <a:pt x="145" y="2781"/>
                    </a:lnTo>
                    <a:lnTo>
                      <a:pt x="117" y="2839"/>
                    </a:lnTo>
                    <a:lnTo>
                      <a:pt x="89" y="2895"/>
                    </a:lnTo>
                    <a:lnTo>
                      <a:pt x="59" y="2950"/>
                    </a:lnTo>
                    <a:lnTo>
                      <a:pt x="30" y="3006"/>
                    </a:lnTo>
                    <a:lnTo>
                      <a:pt x="0" y="3061"/>
                    </a:lnTo>
                    <a:lnTo>
                      <a:pt x="68" y="3033"/>
                    </a:lnTo>
                    <a:lnTo>
                      <a:pt x="101" y="3020"/>
                    </a:lnTo>
                    <a:lnTo>
                      <a:pt x="130" y="2966"/>
                    </a:lnTo>
                    <a:lnTo>
                      <a:pt x="158" y="2911"/>
                    </a:lnTo>
                    <a:lnTo>
                      <a:pt x="186" y="2856"/>
                    </a:lnTo>
                    <a:lnTo>
                      <a:pt x="212" y="2800"/>
                    </a:lnTo>
                    <a:lnTo>
                      <a:pt x="237" y="2745"/>
                    </a:lnTo>
                    <a:lnTo>
                      <a:pt x="262" y="2688"/>
                    </a:lnTo>
                    <a:lnTo>
                      <a:pt x="286" y="2631"/>
                    </a:lnTo>
                    <a:lnTo>
                      <a:pt x="310" y="2574"/>
                    </a:lnTo>
                    <a:lnTo>
                      <a:pt x="332" y="2517"/>
                    </a:lnTo>
                    <a:lnTo>
                      <a:pt x="353" y="2458"/>
                    </a:lnTo>
                    <a:lnTo>
                      <a:pt x="374" y="2400"/>
                    </a:lnTo>
                    <a:lnTo>
                      <a:pt x="393" y="2340"/>
                    </a:lnTo>
                    <a:lnTo>
                      <a:pt x="412" y="2281"/>
                    </a:lnTo>
                    <a:lnTo>
                      <a:pt x="429" y="2222"/>
                    </a:lnTo>
                    <a:lnTo>
                      <a:pt x="446" y="2162"/>
                    </a:lnTo>
                    <a:lnTo>
                      <a:pt x="463" y="2101"/>
                    </a:lnTo>
                    <a:lnTo>
                      <a:pt x="478" y="2040"/>
                    </a:lnTo>
                    <a:lnTo>
                      <a:pt x="492" y="1979"/>
                    </a:lnTo>
                    <a:lnTo>
                      <a:pt x="505" y="1917"/>
                    </a:lnTo>
                    <a:lnTo>
                      <a:pt x="518" y="1855"/>
                    </a:lnTo>
                    <a:lnTo>
                      <a:pt x="529" y="1793"/>
                    </a:lnTo>
                    <a:lnTo>
                      <a:pt x="540" y="1730"/>
                    </a:lnTo>
                    <a:lnTo>
                      <a:pt x="549" y="1667"/>
                    </a:lnTo>
                    <a:lnTo>
                      <a:pt x="558" y="1604"/>
                    </a:lnTo>
                    <a:lnTo>
                      <a:pt x="565" y="1540"/>
                    </a:lnTo>
                    <a:lnTo>
                      <a:pt x="572" y="1477"/>
                    </a:lnTo>
                    <a:lnTo>
                      <a:pt x="578" y="1413"/>
                    </a:lnTo>
                    <a:lnTo>
                      <a:pt x="582" y="1348"/>
                    </a:lnTo>
                    <a:lnTo>
                      <a:pt x="586" y="1284"/>
                    </a:lnTo>
                    <a:lnTo>
                      <a:pt x="588" y="1219"/>
                    </a:lnTo>
                    <a:lnTo>
                      <a:pt x="590" y="1154"/>
                    </a:lnTo>
                    <a:lnTo>
                      <a:pt x="590" y="108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756320" y="2651040"/>
                <a:ext cx="193680" cy="974880"/>
              </a:xfrm>
              <a:custGeom>
                <a:avLst/>
                <a:gdLst/>
                <a:ahLst/>
                <a:rect l="l" t="t" r="r" b="b"/>
                <a:pathLst>
                  <a:path w="610" h="3072">
                    <a:moveTo>
                      <a:pt x="610" y="1078"/>
                    </a:moveTo>
                    <a:lnTo>
                      <a:pt x="609" y="1008"/>
                    </a:lnTo>
                    <a:lnTo>
                      <a:pt x="606" y="939"/>
                    </a:lnTo>
                    <a:lnTo>
                      <a:pt x="603" y="870"/>
                    </a:lnTo>
                    <a:lnTo>
                      <a:pt x="599" y="800"/>
                    </a:lnTo>
                    <a:lnTo>
                      <a:pt x="594" y="732"/>
                    </a:lnTo>
                    <a:lnTo>
                      <a:pt x="588" y="664"/>
                    </a:lnTo>
                    <a:lnTo>
                      <a:pt x="580" y="596"/>
                    </a:lnTo>
                    <a:lnTo>
                      <a:pt x="572" y="527"/>
                    </a:lnTo>
                    <a:lnTo>
                      <a:pt x="561" y="460"/>
                    </a:lnTo>
                    <a:lnTo>
                      <a:pt x="551" y="394"/>
                    </a:lnTo>
                    <a:lnTo>
                      <a:pt x="539" y="327"/>
                    </a:lnTo>
                    <a:lnTo>
                      <a:pt x="526" y="261"/>
                    </a:lnTo>
                    <a:lnTo>
                      <a:pt x="512" y="196"/>
                    </a:lnTo>
                    <a:lnTo>
                      <a:pt x="496" y="131"/>
                    </a:lnTo>
                    <a:lnTo>
                      <a:pt x="480" y="65"/>
                    </a:lnTo>
                    <a:lnTo>
                      <a:pt x="462" y="0"/>
                    </a:lnTo>
                    <a:lnTo>
                      <a:pt x="460" y="1"/>
                    </a:lnTo>
                    <a:lnTo>
                      <a:pt x="404" y="31"/>
                    </a:lnTo>
                    <a:lnTo>
                      <a:pt x="400" y="33"/>
                    </a:lnTo>
                    <a:lnTo>
                      <a:pt x="416" y="95"/>
                    </a:lnTo>
                    <a:lnTo>
                      <a:pt x="432" y="159"/>
                    </a:lnTo>
                    <a:lnTo>
                      <a:pt x="447" y="222"/>
                    </a:lnTo>
                    <a:lnTo>
                      <a:pt x="460" y="286"/>
                    </a:lnTo>
                    <a:lnTo>
                      <a:pt x="473" y="350"/>
                    </a:lnTo>
                    <a:lnTo>
                      <a:pt x="485" y="414"/>
                    </a:lnTo>
                    <a:lnTo>
                      <a:pt x="495" y="479"/>
                    </a:lnTo>
                    <a:lnTo>
                      <a:pt x="505" y="544"/>
                    </a:lnTo>
                    <a:lnTo>
                      <a:pt x="513" y="610"/>
                    </a:lnTo>
                    <a:lnTo>
                      <a:pt x="520" y="675"/>
                    </a:lnTo>
                    <a:lnTo>
                      <a:pt x="527" y="743"/>
                    </a:lnTo>
                    <a:lnTo>
                      <a:pt x="531" y="809"/>
                    </a:lnTo>
                    <a:lnTo>
                      <a:pt x="535" y="876"/>
                    </a:lnTo>
                    <a:lnTo>
                      <a:pt x="538" y="943"/>
                    </a:lnTo>
                    <a:lnTo>
                      <a:pt x="540" y="1010"/>
                    </a:lnTo>
                    <a:lnTo>
                      <a:pt x="540" y="1078"/>
                    </a:lnTo>
                    <a:lnTo>
                      <a:pt x="540" y="1146"/>
                    </a:lnTo>
                    <a:lnTo>
                      <a:pt x="538" y="1214"/>
                    </a:lnTo>
                    <a:lnTo>
                      <a:pt x="535" y="1281"/>
                    </a:lnTo>
                    <a:lnTo>
                      <a:pt x="531" y="1349"/>
                    </a:lnTo>
                    <a:lnTo>
                      <a:pt x="526" y="1416"/>
                    </a:lnTo>
                    <a:lnTo>
                      <a:pt x="520" y="1482"/>
                    </a:lnTo>
                    <a:lnTo>
                      <a:pt x="513" y="1548"/>
                    </a:lnTo>
                    <a:lnTo>
                      <a:pt x="505" y="1614"/>
                    </a:lnTo>
                    <a:lnTo>
                      <a:pt x="495" y="1679"/>
                    </a:lnTo>
                    <a:lnTo>
                      <a:pt x="485" y="1744"/>
                    </a:lnTo>
                    <a:lnTo>
                      <a:pt x="473" y="1809"/>
                    </a:lnTo>
                    <a:lnTo>
                      <a:pt x="459" y="1875"/>
                    </a:lnTo>
                    <a:lnTo>
                      <a:pt x="446" y="1939"/>
                    </a:lnTo>
                    <a:lnTo>
                      <a:pt x="431" y="2002"/>
                    </a:lnTo>
                    <a:lnTo>
                      <a:pt x="415" y="2066"/>
                    </a:lnTo>
                    <a:lnTo>
                      <a:pt x="399" y="2129"/>
                    </a:lnTo>
                    <a:lnTo>
                      <a:pt x="382" y="2191"/>
                    </a:lnTo>
                    <a:lnTo>
                      <a:pt x="363" y="2253"/>
                    </a:lnTo>
                    <a:lnTo>
                      <a:pt x="343" y="2315"/>
                    </a:lnTo>
                    <a:lnTo>
                      <a:pt x="322" y="2375"/>
                    </a:lnTo>
                    <a:lnTo>
                      <a:pt x="301" y="2436"/>
                    </a:lnTo>
                    <a:lnTo>
                      <a:pt x="277" y="2496"/>
                    </a:lnTo>
                    <a:lnTo>
                      <a:pt x="253" y="2556"/>
                    </a:lnTo>
                    <a:lnTo>
                      <a:pt x="229" y="2616"/>
                    </a:lnTo>
                    <a:lnTo>
                      <a:pt x="204" y="2675"/>
                    </a:lnTo>
                    <a:lnTo>
                      <a:pt x="178" y="2732"/>
                    </a:lnTo>
                    <a:lnTo>
                      <a:pt x="150" y="2791"/>
                    </a:lnTo>
                    <a:lnTo>
                      <a:pt x="122" y="2848"/>
                    </a:lnTo>
                    <a:lnTo>
                      <a:pt x="92" y="2905"/>
                    </a:lnTo>
                    <a:lnTo>
                      <a:pt x="63" y="2961"/>
                    </a:lnTo>
                    <a:lnTo>
                      <a:pt x="31" y="3017"/>
                    </a:lnTo>
                    <a:lnTo>
                      <a:pt x="0" y="3072"/>
                    </a:lnTo>
                    <a:lnTo>
                      <a:pt x="103" y="3031"/>
                    </a:lnTo>
                    <a:lnTo>
                      <a:pt x="132" y="2976"/>
                    </a:lnTo>
                    <a:lnTo>
                      <a:pt x="162" y="2921"/>
                    </a:lnTo>
                    <a:lnTo>
                      <a:pt x="190" y="2866"/>
                    </a:lnTo>
                    <a:lnTo>
                      <a:pt x="218" y="2809"/>
                    </a:lnTo>
                    <a:lnTo>
                      <a:pt x="244" y="2753"/>
                    </a:lnTo>
                    <a:lnTo>
                      <a:pt x="269" y="2697"/>
                    </a:lnTo>
                    <a:lnTo>
                      <a:pt x="294" y="2639"/>
                    </a:lnTo>
                    <a:lnTo>
                      <a:pt x="318" y="2581"/>
                    </a:lnTo>
                    <a:lnTo>
                      <a:pt x="341" y="2522"/>
                    </a:lnTo>
                    <a:lnTo>
                      <a:pt x="364" y="2465"/>
                    </a:lnTo>
                    <a:lnTo>
                      <a:pt x="385" y="2405"/>
                    </a:lnTo>
                    <a:lnTo>
                      <a:pt x="405" y="2345"/>
                    </a:lnTo>
                    <a:lnTo>
                      <a:pt x="425" y="2285"/>
                    </a:lnTo>
                    <a:lnTo>
                      <a:pt x="442" y="2225"/>
                    </a:lnTo>
                    <a:lnTo>
                      <a:pt x="460" y="2164"/>
                    </a:lnTo>
                    <a:lnTo>
                      <a:pt x="477" y="2103"/>
                    </a:lnTo>
                    <a:lnTo>
                      <a:pt x="493" y="2042"/>
                    </a:lnTo>
                    <a:lnTo>
                      <a:pt x="508" y="1980"/>
                    </a:lnTo>
                    <a:lnTo>
                      <a:pt x="521" y="1918"/>
                    </a:lnTo>
                    <a:lnTo>
                      <a:pt x="534" y="1855"/>
                    </a:lnTo>
                    <a:lnTo>
                      <a:pt x="545" y="1792"/>
                    </a:lnTo>
                    <a:lnTo>
                      <a:pt x="557" y="1729"/>
                    </a:lnTo>
                    <a:lnTo>
                      <a:pt x="567" y="1665"/>
                    </a:lnTo>
                    <a:lnTo>
                      <a:pt x="575" y="1601"/>
                    </a:lnTo>
                    <a:lnTo>
                      <a:pt x="583" y="1536"/>
                    </a:lnTo>
                    <a:lnTo>
                      <a:pt x="590" y="1471"/>
                    </a:lnTo>
                    <a:lnTo>
                      <a:pt x="596" y="1407"/>
                    </a:lnTo>
                    <a:lnTo>
                      <a:pt x="600" y="1341"/>
                    </a:lnTo>
                    <a:lnTo>
                      <a:pt x="604" y="1276"/>
                    </a:lnTo>
                    <a:lnTo>
                      <a:pt x="606" y="1210"/>
                    </a:lnTo>
                    <a:lnTo>
                      <a:pt x="609" y="1144"/>
                    </a:lnTo>
                    <a:lnTo>
                      <a:pt x="610" y="107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738680" y="2655720"/>
                <a:ext cx="200160" cy="978120"/>
              </a:xfrm>
              <a:custGeom>
                <a:avLst/>
                <a:gdLst/>
                <a:ahLst/>
                <a:rect l="l" t="t" r="r" b="b"/>
                <a:pathLst>
                  <a:path w="630" h="3082">
                    <a:moveTo>
                      <a:pt x="630" y="1062"/>
                    </a:moveTo>
                    <a:lnTo>
                      <a:pt x="629" y="993"/>
                    </a:lnTo>
                    <a:lnTo>
                      <a:pt x="628" y="925"/>
                    </a:lnTo>
                    <a:lnTo>
                      <a:pt x="625" y="857"/>
                    </a:lnTo>
                    <a:lnTo>
                      <a:pt x="620" y="789"/>
                    </a:lnTo>
                    <a:lnTo>
                      <a:pt x="615" y="721"/>
                    </a:lnTo>
                    <a:lnTo>
                      <a:pt x="609" y="654"/>
                    </a:lnTo>
                    <a:lnTo>
                      <a:pt x="602" y="587"/>
                    </a:lnTo>
                    <a:lnTo>
                      <a:pt x="593" y="520"/>
                    </a:lnTo>
                    <a:lnTo>
                      <a:pt x="584" y="454"/>
                    </a:lnTo>
                    <a:lnTo>
                      <a:pt x="572" y="388"/>
                    </a:lnTo>
                    <a:lnTo>
                      <a:pt x="561" y="322"/>
                    </a:lnTo>
                    <a:lnTo>
                      <a:pt x="548" y="257"/>
                    </a:lnTo>
                    <a:lnTo>
                      <a:pt x="534" y="192"/>
                    </a:lnTo>
                    <a:lnTo>
                      <a:pt x="520" y="128"/>
                    </a:lnTo>
                    <a:lnTo>
                      <a:pt x="503" y="64"/>
                    </a:lnTo>
                    <a:lnTo>
                      <a:pt x="486" y="0"/>
                    </a:lnTo>
                    <a:lnTo>
                      <a:pt x="459" y="15"/>
                    </a:lnTo>
                    <a:lnTo>
                      <a:pt x="424" y="32"/>
                    </a:lnTo>
                    <a:lnTo>
                      <a:pt x="440" y="94"/>
                    </a:lnTo>
                    <a:lnTo>
                      <a:pt x="455" y="155"/>
                    </a:lnTo>
                    <a:lnTo>
                      <a:pt x="469" y="218"/>
                    </a:lnTo>
                    <a:lnTo>
                      <a:pt x="483" y="281"/>
                    </a:lnTo>
                    <a:lnTo>
                      <a:pt x="494" y="344"/>
                    </a:lnTo>
                    <a:lnTo>
                      <a:pt x="506" y="407"/>
                    </a:lnTo>
                    <a:lnTo>
                      <a:pt x="516" y="472"/>
                    </a:lnTo>
                    <a:lnTo>
                      <a:pt x="526" y="537"/>
                    </a:lnTo>
                    <a:lnTo>
                      <a:pt x="534" y="601"/>
                    </a:lnTo>
                    <a:lnTo>
                      <a:pt x="541" y="666"/>
                    </a:lnTo>
                    <a:lnTo>
                      <a:pt x="547" y="731"/>
                    </a:lnTo>
                    <a:lnTo>
                      <a:pt x="552" y="797"/>
                    </a:lnTo>
                    <a:lnTo>
                      <a:pt x="556" y="862"/>
                    </a:lnTo>
                    <a:lnTo>
                      <a:pt x="558" y="928"/>
                    </a:lnTo>
                    <a:lnTo>
                      <a:pt x="561" y="995"/>
                    </a:lnTo>
                    <a:lnTo>
                      <a:pt x="561" y="1062"/>
                    </a:lnTo>
                    <a:lnTo>
                      <a:pt x="561" y="1131"/>
                    </a:lnTo>
                    <a:lnTo>
                      <a:pt x="558" y="1200"/>
                    </a:lnTo>
                    <a:lnTo>
                      <a:pt x="555" y="1268"/>
                    </a:lnTo>
                    <a:lnTo>
                      <a:pt x="551" y="1337"/>
                    </a:lnTo>
                    <a:lnTo>
                      <a:pt x="546" y="1405"/>
                    </a:lnTo>
                    <a:lnTo>
                      <a:pt x="540" y="1472"/>
                    </a:lnTo>
                    <a:lnTo>
                      <a:pt x="532" y="1539"/>
                    </a:lnTo>
                    <a:lnTo>
                      <a:pt x="524" y="1607"/>
                    </a:lnTo>
                    <a:lnTo>
                      <a:pt x="513" y="1673"/>
                    </a:lnTo>
                    <a:lnTo>
                      <a:pt x="503" y="1739"/>
                    </a:lnTo>
                    <a:lnTo>
                      <a:pt x="490" y="1805"/>
                    </a:lnTo>
                    <a:lnTo>
                      <a:pt x="478" y="1870"/>
                    </a:lnTo>
                    <a:lnTo>
                      <a:pt x="463" y="1935"/>
                    </a:lnTo>
                    <a:lnTo>
                      <a:pt x="448" y="1999"/>
                    </a:lnTo>
                    <a:lnTo>
                      <a:pt x="431" y="2064"/>
                    </a:lnTo>
                    <a:lnTo>
                      <a:pt x="414" y="2127"/>
                    </a:lnTo>
                    <a:lnTo>
                      <a:pt x="396" y="2191"/>
                    </a:lnTo>
                    <a:lnTo>
                      <a:pt x="376" y="2253"/>
                    </a:lnTo>
                    <a:lnTo>
                      <a:pt x="356" y="2316"/>
                    </a:lnTo>
                    <a:lnTo>
                      <a:pt x="334" y="2378"/>
                    </a:lnTo>
                    <a:lnTo>
                      <a:pt x="311" y="2439"/>
                    </a:lnTo>
                    <a:lnTo>
                      <a:pt x="287" y="2500"/>
                    </a:lnTo>
                    <a:lnTo>
                      <a:pt x="263" y="2561"/>
                    </a:lnTo>
                    <a:lnTo>
                      <a:pt x="238" y="2621"/>
                    </a:lnTo>
                    <a:lnTo>
                      <a:pt x="212" y="2681"/>
                    </a:lnTo>
                    <a:lnTo>
                      <a:pt x="184" y="2740"/>
                    </a:lnTo>
                    <a:lnTo>
                      <a:pt x="156" y="2798"/>
                    </a:lnTo>
                    <a:lnTo>
                      <a:pt x="126" y="2856"/>
                    </a:lnTo>
                    <a:lnTo>
                      <a:pt x="96" y="2913"/>
                    </a:lnTo>
                    <a:lnTo>
                      <a:pt x="65" y="2969"/>
                    </a:lnTo>
                    <a:lnTo>
                      <a:pt x="33" y="3026"/>
                    </a:lnTo>
                    <a:lnTo>
                      <a:pt x="0" y="3082"/>
                    </a:lnTo>
                    <a:lnTo>
                      <a:pt x="35" y="3064"/>
                    </a:lnTo>
                    <a:lnTo>
                      <a:pt x="108" y="3035"/>
                    </a:lnTo>
                    <a:lnTo>
                      <a:pt x="138" y="2980"/>
                    </a:lnTo>
                    <a:lnTo>
                      <a:pt x="167" y="2924"/>
                    </a:lnTo>
                    <a:lnTo>
                      <a:pt x="197" y="2869"/>
                    </a:lnTo>
                    <a:lnTo>
                      <a:pt x="225" y="2813"/>
                    </a:lnTo>
                    <a:lnTo>
                      <a:pt x="253" y="2755"/>
                    </a:lnTo>
                    <a:lnTo>
                      <a:pt x="279" y="2699"/>
                    </a:lnTo>
                    <a:lnTo>
                      <a:pt x="304" y="2641"/>
                    </a:lnTo>
                    <a:lnTo>
                      <a:pt x="329" y="2582"/>
                    </a:lnTo>
                    <a:lnTo>
                      <a:pt x="352" y="2523"/>
                    </a:lnTo>
                    <a:lnTo>
                      <a:pt x="376" y="2464"/>
                    </a:lnTo>
                    <a:lnTo>
                      <a:pt x="398" y="2405"/>
                    </a:lnTo>
                    <a:lnTo>
                      <a:pt x="419" y="2345"/>
                    </a:lnTo>
                    <a:lnTo>
                      <a:pt x="439" y="2284"/>
                    </a:lnTo>
                    <a:lnTo>
                      <a:pt x="458" y="2223"/>
                    </a:lnTo>
                    <a:lnTo>
                      <a:pt x="475" y="2161"/>
                    </a:lnTo>
                    <a:lnTo>
                      <a:pt x="493" y="2099"/>
                    </a:lnTo>
                    <a:lnTo>
                      <a:pt x="509" y="2037"/>
                    </a:lnTo>
                    <a:lnTo>
                      <a:pt x="525" y="1975"/>
                    </a:lnTo>
                    <a:lnTo>
                      <a:pt x="538" y="1912"/>
                    </a:lnTo>
                    <a:lnTo>
                      <a:pt x="552" y="1848"/>
                    </a:lnTo>
                    <a:lnTo>
                      <a:pt x="564" y="1784"/>
                    </a:lnTo>
                    <a:lnTo>
                      <a:pt x="575" y="1720"/>
                    </a:lnTo>
                    <a:lnTo>
                      <a:pt x="586" y="1656"/>
                    </a:lnTo>
                    <a:lnTo>
                      <a:pt x="595" y="1591"/>
                    </a:lnTo>
                    <a:lnTo>
                      <a:pt x="603" y="1526"/>
                    </a:lnTo>
                    <a:lnTo>
                      <a:pt x="610" y="1461"/>
                    </a:lnTo>
                    <a:lnTo>
                      <a:pt x="616" y="1394"/>
                    </a:lnTo>
                    <a:lnTo>
                      <a:pt x="620" y="1329"/>
                    </a:lnTo>
                    <a:lnTo>
                      <a:pt x="625" y="1262"/>
                    </a:lnTo>
                    <a:lnTo>
                      <a:pt x="628" y="1196"/>
                    </a:lnTo>
                    <a:lnTo>
                      <a:pt x="629" y="1129"/>
                    </a:lnTo>
                    <a:lnTo>
                      <a:pt x="630" y="1062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719600" y="2660760"/>
                <a:ext cx="208080" cy="982440"/>
              </a:xfrm>
              <a:custGeom>
                <a:avLst/>
                <a:gdLst/>
                <a:ahLst/>
                <a:rect l="l" t="t" r="r" b="b"/>
                <a:pathLst>
                  <a:path w="654" h="3093">
                    <a:moveTo>
                      <a:pt x="654" y="1045"/>
                    </a:moveTo>
                    <a:lnTo>
                      <a:pt x="654" y="977"/>
                    </a:lnTo>
                    <a:lnTo>
                      <a:pt x="652" y="910"/>
                    </a:lnTo>
                    <a:lnTo>
                      <a:pt x="649" y="843"/>
                    </a:lnTo>
                    <a:lnTo>
                      <a:pt x="645" y="776"/>
                    </a:lnTo>
                    <a:lnTo>
                      <a:pt x="641" y="710"/>
                    </a:lnTo>
                    <a:lnTo>
                      <a:pt x="634" y="642"/>
                    </a:lnTo>
                    <a:lnTo>
                      <a:pt x="627" y="577"/>
                    </a:lnTo>
                    <a:lnTo>
                      <a:pt x="619" y="511"/>
                    </a:lnTo>
                    <a:lnTo>
                      <a:pt x="609" y="446"/>
                    </a:lnTo>
                    <a:lnTo>
                      <a:pt x="599" y="381"/>
                    </a:lnTo>
                    <a:lnTo>
                      <a:pt x="587" y="317"/>
                    </a:lnTo>
                    <a:lnTo>
                      <a:pt x="574" y="253"/>
                    </a:lnTo>
                    <a:lnTo>
                      <a:pt x="561" y="189"/>
                    </a:lnTo>
                    <a:lnTo>
                      <a:pt x="546" y="126"/>
                    </a:lnTo>
                    <a:lnTo>
                      <a:pt x="530" y="62"/>
                    </a:lnTo>
                    <a:lnTo>
                      <a:pt x="514" y="0"/>
                    </a:lnTo>
                    <a:lnTo>
                      <a:pt x="460" y="25"/>
                    </a:lnTo>
                    <a:lnTo>
                      <a:pt x="451" y="30"/>
                    </a:lnTo>
                    <a:lnTo>
                      <a:pt x="467" y="91"/>
                    </a:lnTo>
                    <a:lnTo>
                      <a:pt x="482" y="152"/>
                    </a:lnTo>
                    <a:lnTo>
                      <a:pt x="496" y="214"/>
                    </a:lnTo>
                    <a:lnTo>
                      <a:pt x="509" y="276"/>
                    </a:lnTo>
                    <a:lnTo>
                      <a:pt x="521" y="338"/>
                    </a:lnTo>
                    <a:lnTo>
                      <a:pt x="532" y="401"/>
                    </a:lnTo>
                    <a:lnTo>
                      <a:pt x="542" y="464"/>
                    </a:lnTo>
                    <a:lnTo>
                      <a:pt x="551" y="527"/>
                    </a:lnTo>
                    <a:lnTo>
                      <a:pt x="559" y="591"/>
                    </a:lnTo>
                    <a:lnTo>
                      <a:pt x="566" y="655"/>
                    </a:lnTo>
                    <a:lnTo>
                      <a:pt x="572" y="719"/>
                    </a:lnTo>
                    <a:lnTo>
                      <a:pt x="576" y="783"/>
                    </a:lnTo>
                    <a:lnTo>
                      <a:pt x="581" y="848"/>
                    </a:lnTo>
                    <a:lnTo>
                      <a:pt x="584" y="913"/>
                    </a:lnTo>
                    <a:lnTo>
                      <a:pt x="585" y="980"/>
                    </a:lnTo>
                    <a:lnTo>
                      <a:pt x="586" y="1045"/>
                    </a:lnTo>
                    <a:lnTo>
                      <a:pt x="585" y="1115"/>
                    </a:lnTo>
                    <a:lnTo>
                      <a:pt x="583" y="1185"/>
                    </a:lnTo>
                    <a:lnTo>
                      <a:pt x="580" y="1255"/>
                    </a:lnTo>
                    <a:lnTo>
                      <a:pt x="575" y="1325"/>
                    </a:lnTo>
                    <a:lnTo>
                      <a:pt x="570" y="1393"/>
                    </a:lnTo>
                    <a:lnTo>
                      <a:pt x="563" y="1463"/>
                    </a:lnTo>
                    <a:lnTo>
                      <a:pt x="555" y="1531"/>
                    </a:lnTo>
                    <a:lnTo>
                      <a:pt x="546" y="1599"/>
                    </a:lnTo>
                    <a:lnTo>
                      <a:pt x="535" y="1666"/>
                    </a:lnTo>
                    <a:lnTo>
                      <a:pt x="524" y="1733"/>
                    </a:lnTo>
                    <a:lnTo>
                      <a:pt x="511" y="1801"/>
                    </a:lnTo>
                    <a:lnTo>
                      <a:pt x="498" y="1867"/>
                    </a:lnTo>
                    <a:lnTo>
                      <a:pt x="483" y="1933"/>
                    </a:lnTo>
                    <a:lnTo>
                      <a:pt x="467" y="1998"/>
                    </a:lnTo>
                    <a:lnTo>
                      <a:pt x="450" y="2063"/>
                    </a:lnTo>
                    <a:lnTo>
                      <a:pt x="432" y="2128"/>
                    </a:lnTo>
                    <a:lnTo>
                      <a:pt x="412" y="2192"/>
                    </a:lnTo>
                    <a:lnTo>
                      <a:pt x="393" y="2256"/>
                    </a:lnTo>
                    <a:lnTo>
                      <a:pt x="370" y="2319"/>
                    </a:lnTo>
                    <a:lnTo>
                      <a:pt x="348" y="2382"/>
                    </a:lnTo>
                    <a:lnTo>
                      <a:pt x="325" y="2444"/>
                    </a:lnTo>
                    <a:lnTo>
                      <a:pt x="300" y="2506"/>
                    </a:lnTo>
                    <a:lnTo>
                      <a:pt x="275" y="2567"/>
                    </a:lnTo>
                    <a:lnTo>
                      <a:pt x="249" y="2628"/>
                    </a:lnTo>
                    <a:lnTo>
                      <a:pt x="221" y="2689"/>
                    </a:lnTo>
                    <a:lnTo>
                      <a:pt x="192" y="2748"/>
                    </a:lnTo>
                    <a:lnTo>
                      <a:pt x="162" y="2808"/>
                    </a:lnTo>
                    <a:lnTo>
                      <a:pt x="132" y="2865"/>
                    </a:lnTo>
                    <a:lnTo>
                      <a:pt x="100" y="2924"/>
                    </a:lnTo>
                    <a:lnTo>
                      <a:pt x="69" y="2981"/>
                    </a:lnTo>
                    <a:lnTo>
                      <a:pt x="35" y="3038"/>
                    </a:lnTo>
                    <a:lnTo>
                      <a:pt x="0" y="3093"/>
                    </a:lnTo>
                    <a:lnTo>
                      <a:pt x="94" y="3047"/>
                    </a:lnTo>
                    <a:lnTo>
                      <a:pt x="114" y="3039"/>
                    </a:lnTo>
                    <a:lnTo>
                      <a:pt x="145" y="2984"/>
                    </a:lnTo>
                    <a:lnTo>
                      <a:pt x="177" y="2928"/>
                    </a:lnTo>
                    <a:lnTo>
                      <a:pt x="206" y="2872"/>
                    </a:lnTo>
                    <a:lnTo>
                      <a:pt x="236" y="2815"/>
                    </a:lnTo>
                    <a:lnTo>
                      <a:pt x="264" y="2758"/>
                    </a:lnTo>
                    <a:lnTo>
                      <a:pt x="292" y="2699"/>
                    </a:lnTo>
                    <a:lnTo>
                      <a:pt x="318" y="2642"/>
                    </a:lnTo>
                    <a:lnTo>
                      <a:pt x="343" y="2583"/>
                    </a:lnTo>
                    <a:lnTo>
                      <a:pt x="367" y="2523"/>
                    </a:lnTo>
                    <a:lnTo>
                      <a:pt x="391" y="2463"/>
                    </a:lnTo>
                    <a:lnTo>
                      <a:pt x="415" y="2403"/>
                    </a:lnTo>
                    <a:lnTo>
                      <a:pt x="436" y="2342"/>
                    </a:lnTo>
                    <a:lnTo>
                      <a:pt x="457" y="2282"/>
                    </a:lnTo>
                    <a:lnTo>
                      <a:pt x="477" y="2220"/>
                    </a:lnTo>
                    <a:lnTo>
                      <a:pt x="496" y="2158"/>
                    </a:lnTo>
                    <a:lnTo>
                      <a:pt x="513" y="2096"/>
                    </a:lnTo>
                    <a:lnTo>
                      <a:pt x="529" y="2033"/>
                    </a:lnTo>
                    <a:lnTo>
                      <a:pt x="545" y="1969"/>
                    </a:lnTo>
                    <a:lnTo>
                      <a:pt x="560" y="1906"/>
                    </a:lnTo>
                    <a:lnTo>
                      <a:pt x="573" y="1842"/>
                    </a:lnTo>
                    <a:lnTo>
                      <a:pt x="587" y="1776"/>
                    </a:lnTo>
                    <a:lnTo>
                      <a:pt x="599" y="1711"/>
                    </a:lnTo>
                    <a:lnTo>
                      <a:pt x="609" y="1646"/>
                    </a:lnTo>
                    <a:lnTo>
                      <a:pt x="619" y="1581"/>
                    </a:lnTo>
                    <a:lnTo>
                      <a:pt x="627" y="1515"/>
                    </a:lnTo>
                    <a:lnTo>
                      <a:pt x="634" y="1449"/>
                    </a:lnTo>
                    <a:lnTo>
                      <a:pt x="640" y="1383"/>
                    </a:lnTo>
                    <a:lnTo>
                      <a:pt x="645" y="1316"/>
                    </a:lnTo>
                    <a:lnTo>
                      <a:pt x="649" y="1248"/>
                    </a:lnTo>
                    <a:lnTo>
                      <a:pt x="652" y="1181"/>
                    </a:lnTo>
                    <a:lnTo>
                      <a:pt x="654" y="1113"/>
                    </a:lnTo>
                    <a:lnTo>
                      <a:pt x="654" y="104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702320" y="2665440"/>
                <a:ext cx="214200" cy="987480"/>
              </a:xfrm>
              <a:custGeom>
                <a:avLst/>
                <a:gdLst/>
                <a:ahLst/>
                <a:rect l="l" t="t" r="r" b="b"/>
                <a:pathLst>
                  <a:path w="678" h="3109">
                    <a:moveTo>
                      <a:pt x="678" y="1030"/>
                    </a:moveTo>
                    <a:lnTo>
                      <a:pt x="678" y="963"/>
                    </a:lnTo>
                    <a:lnTo>
                      <a:pt x="675" y="896"/>
                    </a:lnTo>
                    <a:lnTo>
                      <a:pt x="673" y="830"/>
                    </a:lnTo>
                    <a:lnTo>
                      <a:pt x="669" y="765"/>
                    </a:lnTo>
                    <a:lnTo>
                      <a:pt x="664" y="699"/>
                    </a:lnTo>
                    <a:lnTo>
                      <a:pt x="658" y="634"/>
                    </a:lnTo>
                    <a:lnTo>
                      <a:pt x="651" y="569"/>
                    </a:lnTo>
                    <a:lnTo>
                      <a:pt x="643" y="505"/>
                    </a:lnTo>
                    <a:lnTo>
                      <a:pt x="633" y="440"/>
                    </a:lnTo>
                    <a:lnTo>
                      <a:pt x="623" y="375"/>
                    </a:lnTo>
                    <a:lnTo>
                      <a:pt x="611" y="312"/>
                    </a:lnTo>
                    <a:lnTo>
                      <a:pt x="600" y="249"/>
                    </a:lnTo>
                    <a:lnTo>
                      <a:pt x="586" y="186"/>
                    </a:lnTo>
                    <a:lnTo>
                      <a:pt x="572" y="123"/>
                    </a:lnTo>
                    <a:lnTo>
                      <a:pt x="557" y="62"/>
                    </a:lnTo>
                    <a:lnTo>
                      <a:pt x="541" y="0"/>
                    </a:lnTo>
                    <a:lnTo>
                      <a:pt x="518" y="10"/>
                    </a:lnTo>
                    <a:lnTo>
                      <a:pt x="478" y="30"/>
                    </a:lnTo>
                    <a:lnTo>
                      <a:pt x="493" y="91"/>
                    </a:lnTo>
                    <a:lnTo>
                      <a:pt x="507" y="151"/>
                    </a:lnTo>
                    <a:lnTo>
                      <a:pt x="521" y="212"/>
                    </a:lnTo>
                    <a:lnTo>
                      <a:pt x="535" y="273"/>
                    </a:lnTo>
                    <a:lnTo>
                      <a:pt x="546" y="333"/>
                    </a:lnTo>
                    <a:lnTo>
                      <a:pt x="557" y="395"/>
                    </a:lnTo>
                    <a:lnTo>
                      <a:pt x="566" y="457"/>
                    </a:lnTo>
                    <a:lnTo>
                      <a:pt x="576" y="520"/>
                    </a:lnTo>
                    <a:lnTo>
                      <a:pt x="583" y="583"/>
                    </a:lnTo>
                    <a:lnTo>
                      <a:pt x="590" y="646"/>
                    </a:lnTo>
                    <a:lnTo>
                      <a:pt x="596" y="709"/>
                    </a:lnTo>
                    <a:lnTo>
                      <a:pt x="601" y="772"/>
                    </a:lnTo>
                    <a:lnTo>
                      <a:pt x="604" y="836"/>
                    </a:lnTo>
                    <a:lnTo>
                      <a:pt x="607" y="900"/>
                    </a:lnTo>
                    <a:lnTo>
                      <a:pt x="608" y="966"/>
                    </a:lnTo>
                    <a:lnTo>
                      <a:pt x="609" y="1030"/>
                    </a:lnTo>
                    <a:lnTo>
                      <a:pt x="608" y="1102"/>
                    </a:lnTo>
                    <a:lnTo>
                      <a:pt x="606" y="1172"/>
                    </a:lnTo>
                    <a:lnTo>
                      <a:pt x="603" y="1244"/>
                    </a:lnTo>
                    <a:lnTo>
                      <a:pt x="599" y="1314"/>
                    </a:lnTo>
                    <a:lnTo>
                      <a:pt x="592" y="1385"/>
                    </a:lnTo>
                    <a:lnTo>
                      <a:pt x="586" y="1455"/>
                    </a:lnTo>
                    <a:lnTo>
                      <a:pt x="578" y="1524"/>
                    </a:lnTo>
                    <a:lnTo>
                      <a:pt x="568" y="1593"/>
                    </a:lnTo>
                    <a:lnTo>
                      <a:pt x="558" y="1662"/>
                    </a:lnTo>
                    <a:lnTo>
                      <a:pt x="545" y="1730"/>
                    </a:lnTo>
                    <a:lnTo>
                      <a:pt x="532" y="1798"/>
                    </a:lnTo>
                    <a:lnTo>
                      <a:pt x="518" y="1865"/>
                    </a:lnTo>
                    <a:lnTo>
                      <a:pt x="502" y="1933"/>
                    </a:lnTo>
                    <a:lnTo>
                      <a:pt x="485" y="2000"/>
                    </a:lnTo>
                    <a:lnTo>
                      <a:pt x="467" y="2066"/>
                    </a:lnTo>
                    <a:lnTo>
                      <a:pt x="449" y="2131"/>
                    </a:lnTo>
                    <a:lnTo>
                      <a:pt x="428" y="2196"/>
                    </a:lnTo>
                    <a:lnTo>
                      <a:pt x="407" y="2261"/>
                    </a:lnTo>
                    <a:lnTo>
                      <a:pt x="385" y="2325"/>
                    </a:lnTo>
                    <a:lnTo>
                      <a:pt x="362" y="2389"/>
                    </a:lnTo>
                    <a:lnTo>
                      <a:pt x="337" y="2452"/>
                    </a:lnTo>
                    <a:lnTo>
                      <a:pt x="312" y="2514"/>
                    </a:lnTo>
                    <a:lnTo>
                      <a:pt x="285" y="2576"/>
                    </a:lnTo>
                    <a:lnTo>
                      <a:pt x="257" y="2638"/>
                    </a:lnTo>
                    <a:lnTo>
                      <a:pt x="229" y="2699"/>
                    </a:lnTo>
                    <a:lnTo>
                      <a:pt x="199" y="2759"/>
                    </a:lnTo>
                    <a:lnTo>
                      <a:pt x="168" y="2819"/>
                    </a:lnTo>
                    <a:lnTo>
                      <a:pt x="136" y="2879"/>
                    </a:lnTo>
                    <a:lnTo>
                      <a:pt x="104" y="2936"/>
                    </a:lnTo>
                    <a:lnTo>
                      <a:pt x="70" y="2994"/>
                    </a:lnTo>
                    <a:lnTo>
                      <a:pt x="35" y="3052"/>
                    </a:lnTo>
                    <a:lnTo>
                      <a:pt x="0" y="3109"/>
                    </a:lnTo>
                    <a:lnTo>
                      <a:pt x="117" y="3050"/>
                    </a:lnTo>
                    <a:lnTo>
                      <a:pt x="150" y="2994"/>
                    </a:lnTo>
                    <a:lnTo>
                      <a:pt x="182" y="2937"/>
                    </a:lnTo>
                    <a:lnTo>
                      <a:pt x="213" y="2881"/>
                    </a:lnTo>
                    <a:lnTo>
                      <a:pt x="243" y="2824"/>
                    </a:lnTo>
                    <a:lnTo>
                      <a:pt x="273" y="2766"/>
                    </a:lnTo>
                    <a:lnTo>
                      <a:pt x="301" y="2708"/>
                    </a:lnTo>
                    <a:lnTo>
                      <a:pt x="329" y="2649"/>
                    </a:lnTo>
                    <a:lnTo>
                      <a:pt x="355" y="2589"/>
                    </a:lnTo>
                    <a:lnTo>
                      <a:pt x="380" y="2529"/>
                    </a:lnTo>
                    <a:lnTo>
                      <a:pt x="404" y="2468"/>
                    </a:lnTo>
                    <a:lnTo>
                      <a:pt x="428" y="2407"/>
                    </a:lnTo>
                    <a:lnTo>
                      <a:pt x="451" y="2346"/>
                    </a:lnTo>
                    <a:lnTo>
                      <a:pt x="473" y="2284"/>
                    </a:lnTo>
                    <a:lnTo>
                      <a:pt x="493" y="2221"/>
                    </a:lnTo>
                    <a:lnTo>
                      <a:pt x="513" y="2159"/>
                    </a:lnTo>
                    <a:lnTo>
                      <a:pt x="531" y="2095"/>
                    </a:lnTo>
                    <a:lnTo>
                      <a:pt x="548" y="2032"/>
                    </a:lnTo>
                    <a:lnTo>
                      <a:pt x="565" y="1967"/>
                    </a:lnTo>
                    <a:lnTo>
                      <a:pt x="580" y="1903"/>
                    </a:lnTo>
                    <a:lnTo>
                      <a:pt x="595" y="1838"/>
                    </a:lnTo>
                    <a:lnTo>
                      <a:pt x="607" y="1773"/>
                    </a:lnTo>
                    <a:lnTo>
                      <a:pt x="620" y="1707"/>
                    </a:lnTo>
                    <a:lnTo>
                      <a:pt x="630" y="1641"/>
                    </a:lnTo>
                    <a:lnTo>
                      <a:pt x="641" y="1575"/>
                    </a:lnTo>
                    <a:lnTo>
                      <a:pt x="649" y="1507"/>
                    </a:lnTo>
                    <a:lnTo>
                      <a:pt x="657" y="1440"/>
                    </a:lnTo>
                    <a:lnTo>
                      <a:pt x="663" y="1373"/>
                    </a:lnTo>
                    <a:lnTo>
                      <a:pt x="668" y="1305"/>
                    </a:lnTo>
                    <a:lnTo>
                      <a:pt x="672" y="1236"/>
                    </a:lnTo>
                    <a:lnTo>
                      <a:pt x="675" y="1168"/>
                    </a:lnTo>
                    <a:lnTo>
                      <a:pt x="678" y="1099"/>
                    </a:lnTo>
                    <a:lnTo>
                      <a:pt x="678" y="103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680000" y="2670120"/>
                <a:ext cx="225360" cy="996840"/>
              </a:xfrm>
              <a:custGeom>
                <a:avLst/>
                <a:gdLst/>
                <a:ahLst/>
                <a:rect l="l" t="t" r="r" b="b"/>
                <a:pathLst>
                  <a:path w="714" h="3136">
                    <a:moveTo>
                      <a:pt x="714" y="1015"/>
                    </a:moveTo>
                    <a:lnTo>
                      <a:pt x="713" y="950"/>
                    </a:lnTo>
                    <a:lnTo>
                      <a:pt x="712" y="883"/>
                    </a:lnTo>
                    <a:lnTo>
                      <a:pt x="709" y="818"/>
                    </a:lnTo>
                    <a:lnTo>
                      <a:pt x="704" y="753"/>
                    </a:lnTo>
                    <a:lnTo>
                      <a:pt x="700" y="689"/>
                    </a:lnTo>
                    <a:lnTo>
                      <a:pt x="694" y="625"/>
                    </a:lnTo>
                    <a:lnTo>
                      <a:pt x="687" y="561"/>
                    </a:lnTo>
                    <a:lnTo>
                      <a:pt x="679" y="497"/>
                    </a:lnTo>
                    <a:lnTo>
                      <a:pt x="670" y="434"/>
                    </a:lnTo>
                    <a:lnTo>
                      <a:pt x="660" y="371"/>
                    </a:lnTo>
                    <a:lnTo>
                      <a:pt x="649" y="308"/>
                    </a:lnTo>
                    <a:lnTo>
                      <a:pt x="637" y="246"/>
                    </a:lnTo>
                    <a:lnTo>
                      <a:pt x="624" y="184"/>
                    </a:lnTo>
                    <a:lnTo>
                      <a:pt x="610" y="122"/>
                    </a:lnTo>
                    <a:lnTo>
                      <a:pt x="595" y="61"/>
                    </a:lnTo>
                    <a:lnTo>
                      <a:pt x="579" y="0"/>
                    </a:lnTo>
                    <a:lnTo>
                      <a:pt x="534" y="22"/>
                    </a:lnTo>
                    <a:lnTo>
                      <a:pt x="516" y="32"/>
                    </a:lnTo>
                    <a:lnTo>
                      <a:pt x="531" y="91"/>
                    </a:lnTo>
                    <a:lnTo>
                      <a:pt x="546" y="150"/>
                    </a:lnTo>
                    <a:lnTo>
                      <a:pt x="559" y="209"/>
                    </a:lnTo>
                    <a:lnTo>
                      <a:pt x="571" y="270"/>
                    </a:lnTo>
                    <a:lnTo>
                      <a:pt x="583" y="330"/>
                    </a:lnTo>
                    <a:lnTo>
                      <a:pt x="593" y="391"/>
                    </a:lnTo>
                    <a:lnTo>
                      <a:pt x="604" y="452"/>
                    </a:lnTo>
                    <a:lnTo>
                      <a:pt x="612" y="514"/>
                    </a:lnTo>
                    <a:lnTo>
                      <a:pt x="619" y="575"/>
                    </a:lnTo>
                    <a:lnTo>
                      <a:pt x="626" y="638"/>
                    </a:lnTo>
                    <a:lnTo>
                      <a:pt x="632" y="700"/>
                    </a:lnTo>
                    <a:lnTo>
                      <a:pt x="636" y="762"/>
                    </a:lnTo>
                    <a:lnTo>
                      <a:pt x="640" y="825"/>
                    </a:lnTo>
                    <a:lnTo>
                      <a:pt x="642" y="888"/>
                    </a:lnTo>
                    <a:lnTo>
                      <a:pt x="645" y="952"/>
                    </a:lnTo>
                    <a:lnTo>
                      <a:pt x="645" y="1015"/>
                    </a:lnTo>
                    <a:lnTo>
                      <a:pt x="643" y="1088"/>
                    </a:lnTo>
                    <a:lnTo>
                      <a:pt x="642" y="1162"/>
                    </a:lnTo>
                    <a:lnTo>
                      <a:pt x="638" y="1234"/>
                    </a:lnTo>
                    <a:lnTo>
                      <a:pt x="634" y="1307"/>
                    </a:lnTo>
                    <a:lnTo>
                      <a:pt x="628" y="1379"/>
                    </a:lnTo>
                    <a:lnTo>
                      <a:pt x="620" y="1450"/>
                    </a:lnTo>
                    <a:lnTo>
                      <a:pt x="611" y="1522"/>
                    </a:lnTo>
                    <a:lnTo>
                      <a:pt x="601" y="1592"/>
                    </a:lnTo>
                    <a:lnTo>
                      <a:pt x="590" y="1662"/>
                    </a:lnTo>
                    <a:lnTo>
                      <a:pt x="577" y="1733"/>
                    </a:lnTo>
                    <a:lnTo>
                      <a:pt x="564" y="1802"/>
                    </a:lnTo>
                    <a:lnTo>
                      <a:pt x="548" y="1871"/>
                    </a:lnTo>
                    <a:lnTo>
                      <a:pt x="531" y="1940"/>
                    </a:lnTo>
                    <a:lnTo>
                      <a:pt x="514" y="2008"/>
                    </a:lnTo>
                    <a:lnTo>
                      <a:pt x="495" y="2075"/>
                    </a:lnTo>
                    <a:lnTo>
                      <a:pt x="475" y="2142"/>
                    </a:lnTo>
                    <a:lnTo>
                      <a:pt x="453" y="2210"/>
                    </a:lnTo>
                    <a:lnTo>
                      <a:pt x="431" y="2275"/>
                    </a:lnTo>
                    <a:lnTo>
                      <a:pt x="408" y="2341"/>
                    </a:lnTo>
                    <a:lnTo>
                      <a:pt x="383" y="2406"/>
                    </a:lnTo>
                    <a:lnTo>
                      <a:pt x="357" y="2470"/>
                    </a:lnTo>
                    <a:lnTo>
                      <a:pt x="330" y="2534"/>
                    </a:lnTo>
                    <a:lnTo>
                      <a:pt x="302" y="2597"/>
                    </a:lnTo>
                    <a:lnTo>
                      <a:pt x="272" y="2659"/>
                    </a:lnTo>
                    <a:lnTo>
                      <a:pt x="242" y="2721"/>
                    </a:lnTo>
                    <a:lnTo>
                      <a:pt x="210" y="2783"/>
                    </a:lnTo>
                    <a:lnTo>
                      <a:pt x="178" y="2843"/>
                    </a:lnTo>
                    <a:lnTo>
                      <a:pt x="144" y="2904"/>
                    </a:lnTo>
                    <a:lnTo>
                      <a:pt x="110" y="2962"/>
                    </a:lnTo>
                    <a:lnTo>
                      <a:pt x="74" y="3021"/>
                    </a:lnTo>
                    <a:lnTo>
                      <a:pt x="38" y="3079"/>
                    </a:lnTo>
                    <a:lnTo>
                      <a:pt x="0" y="3136"/>
                    </a:lnTo>
                    <a:lnTo>
                      <a:pt x="53" y="3101"/>
                    </a:lnTo>
                    <a:lnTo>
                      <a:pt x="128" y="3063"/>
                    </a:lnTo>
                    <a:lnTo>
                      <a:pt x="163" y="3008"/>
                    </a:lnTo>
                    <a:lnTo>
                      <a:pt x="197" y="2951"/>
                    </a:lnTo>
                    <a:lnTo>
                      <a:pt x="228" y="2894"/>
                    </a:lnTo>
                    <a:lnTo>
                      <a:pt x="260" y="2835"/>
                    </a:lnTo>
                    <a:lnTo>
                      <a:pt x="290" y="2778"/>
                    </a:lnTo>
                    <a:lnTo>
                      <a:pt x="320" y="2718"/>
                    </a:lnTo>
                    <a:lnTo>
                      <a:pt x="349" y="2659"/>
                    </a:lnTo>
                    <a:lnTo>
                      <a:pt x="377" y="2598"/>
                    </a:lnTo>
                    <a:lnTo>
                      <a:pt x="403" y="2537"/>
                    </a:lnTo>
                    <a:lnTo>
                      <a:pt x="428" y="2476"/>
                    </a:lnTo>
                    <a:lnTo>
                      <a:pt x="453" y="2414"/>
                    </a:lnTo>
                    <a:lnTo>
                      <a:pt x="476" y="2352"/>
                    </a:lnTo>
                    <a:lnTo>
                      <a:pt x="498" y="2289"/>
                    </a:lnTo>
                    <a:lnTo>
                      <a:pt x="521" y="2226"/>
                    </a:lnTo>
                    <a:lnTo>
                      <a:pt x="540" y="2162"/>
                    </a:lnTo>
                    <a:lnTo>
                      <a:pt x="560" y="2098"/>
                    </a:lnTo>
                    <a:lnTo>
                      <a:pt x="578" y="2033"/>
                    </a:lnTo>
                    <a:lnTo>
                      <a:pt x="595" y="1968"/>
                    </a:lnTo>
                    <a:lnTo>
                      <a:pt x="611" y="1903"/>
                    </a:lnTo>
                    <a:lnTo>
                      <a:pt x="626" y="1837"/>
                    </a:lnTo>
                    <a:lnTo>
                      <a:pt x="639" y="1771"/>
                    </a:lnTo>
                    <a:lnTo>
                      <a:pt x="652" y="1703"/>
                    </a:lnTo>
                    <a:lnTo>
                      <a:pt x="663" y="1636"/>
                    </a:lnTo>
                    <a:lnTo>
                      <a:pt x="674" y="1569"/>
                    </a:lnTo>
                    <a:lnTo>
                      <a:pt x="683" y="1501"/>
                    </a:lnTo>
                    <a:lnTo>
                      <a:pt x="691" y="1433"/>
                    </a:lnTo>
                    <a:lnTo>
                      <a:pt x="698" y="1363"/>
                    </a:lnTo>
                    <a:lnTo>
                      <a:pt x="703" y="1295"/>
                    </a:lnTo>
                    <a:lnTo>
                      <a:pt x="708" y="1225"/>
                    </a:lnTo>
                    <a:lnTo>
                      <a:pt x="711" y="1155"/>
                    </a:lnTo>
                    <a:lnTo>
                      <a:pt x="713" y="1085"/>
                    </a:lnTo>
                    <a:lnTo>
                      <a:pt x="714" y="1015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9480" y="2674800"/>
                <a:ext cx="234720" cy="1001880"/>
              </a:xfrm>
              <a:custGeom>
                <a:avLst/>
                <a:gdLst/>
                <a:ahLst/>
                <a:rect l="l" t="t" r="r" b="b"/>
                <a:pathLst>
                  <a:path w="742" h="3153">
                    <a:moveTo>
                      <a:pt x="742" y="1000"/>
                    </a:moveTo>
                    <a:lnTo>
                      <a:pt x="741" y="936"/>
                    </a:lnTo>
                    <a:lnTo>
                      <a:pt x="740" y="870"/>
                    </a:lnTo>
                    <a:lnTo>
                      <a:pt x="737" y="806"/>
                    </a:lnTo>
                    <a:lnTo>
                      <a:pt x="734" y="742"/>
                    </a:lnTo>
                    <a:lnTo>
                      <a:pt x="729" y="679"/>
                    </a:lnTo>
                    <a:lnTo>
                      <a:pt x="723" y="616"/>
                    </a:lnTo>
                    <a:lnTo>
                      <a:pt x="716" y="553"/>
                    </a:lnTo>
                    <a:lnTo>
                      <a:pt x="709" y="490"/>
                    </a:lnTo>
                    <a:lnTo>
                      <a:pt x="699" y="427"/>
                    </a:lnTo>
                    <a:lnTo>
                      <a:pt x="690" y="365"/>
                    </a:lnTo>
                    <a:lnTo>
                      <a:pt x="679" y="303"/>
                    </a:lnTo>
                    <a:lnTo>
                      <a:pt x="668" y="243"/>
                    </a:lnTo>
                    <a:lnTo>
                      <a:pt x="654" y="182"/>
                    </a:lnTo>
                    <a:lnTo>
                      <a:pt x="640" y="121"/>
                    </a:lnTo>
                    <a:lnTo>
                      <a:pt x="626" y="61"/>
                    </a:lnTo>
                    <a:lnTo>
                      <a:pt x="611" y="0"/>
                    </a:lnTo>
                    <a:lnTo>
                      <a:pt x="597" y="7"/>
                    </a:lnTo>
                    <a:lnTo>
                      <a:pt x="548" y="33"/>
                    </a:lnTo>
                    <a:lnTo>
                      <a:pt x="562" y="91"/>
                    </a:lnTo>
                    <a:lnTo>
                      <a:pt x="577" y="149"/>
                    </a:lnTo>
                    <a:lnTo>
                      <a:pt x="590" y="208"/>
                    </a:lnTo>
                    <a:lnTo>
                      <a:pt x="602" y="267"/>
                    </a:lnTo>
                    <a:lnTo>
                      <a:pt x="613" y="327"/>
                    </a:lnTo>
                    <a:lnTo>
                      <a:pt x="623" y="386"/>
                    </a:lnTo>
                    <a:lnTo>
                      <a:pt x="633" y="446"/>
                    </a:lnTo>
                    <a:lnTo>
                      <a:pt x="641" y="507"/>
                    </a:lnTo>
                    <a:lnTo>
                      <a:pt x="649" y="567"/>
                    </a:lnTo>
                    <a:lnTo>
                      <a:pt x="655" y="629"/>
                    </a:lnTo>
                    <a:lnTo>
                      <a:pt x="660" y="690"/>
                    </a:lnTo>
                    <a:lnTo>
                      <a:pt x="665" y="751"/>
                    </a:lnTo>
                    <a:lnTo>
                      <a:pt x="669" y="813"/>
                    </a:lnTo>
                    <a:lnTo>
                      <a:pt x="672" y="875"/>
                    </a:lnTo>
                    <a:lnTo>
                      <a:pt x="673" y="938"/>
                    </a:lnTo>
                    <a:lnTo>
                      <a:pt x="674" y="1000"/>
                    </a:lnTo>
                    <a:lnTo>
                      <a:pt x="673" y="1075"/>
                    </a:lnTo>
                    <a:lnTo>
                      <a:pt x="671" y="1150"/>
                    </a:lnTo>
                    <a:lnTo>
                      <a:pt x="667" y="1223"/>
                    </a:lnTo>
                    <a:lnTo>
                      <a:pt x="662" y="1297"/>
                    </a:lnTo>
                    <a:lnTo>
                      <a:pt x="655" y="1370"/>
                    </a:lnTo>
                    <a:lnTo>
                      <a:pt x="648" y="1444"/>
                    </a:lnTo>
                    <a:lnTo>
                      <a:pt x="638" y="1516"/>
                    </a:lnTo>
                    <a:lnTo>
                      <a:pt x="628" y="1588"/>
                    </a:lnTo>
                    <a:lnTo>
                      <a:pt x="616" y="1660"/>
                    </a:lnTo>
                    <a:lnTo>
                      <a:pt x="602" y="1730"/>
                    </a:lnTo>
                    <a:lnTo>
                      <a:pt x="588" y="1802"/>
                    </a:lnTo>
                    <a:lnTo>
                      <a:pt x="572" y="1871"/>
                    </a:lnTo>
                    <a:lnTo>
                      <a:pt x="555" y="1941"/>
                    </a:lnTo>
                    <a:lnTo>
                      <a:pt x="536" y="2011"/>
                    </a:lnTo>
                    <a:lnTo>
                      <a:pt x="516" y="2079"/>
                    </a:lnTo>
                    <a:lnTo>
                      <a:pt x="496" y="2147"/>
                    </a:lnTo>
                    <a:lnTo>
                      <a:pt x="473" y="2214"/>
                    </a:lnTo>
                    <a:lnTo>
                      <a:pt x="450" y="2282"/>
                    </a:lnTo>
                    <a:lnTo>
                      <a:pt x="425" y="2348"/>
                    </a:lnTo>
                    <a:lnTo>
                      <a:pt x="400" y="2414"/>
                    </a:lnTo>
                    <a:lnTo>
                      <a:pt x="372" y="2479"/>
                    </a:lnTo>
                    <a:lnTo>
                      <a:pt x="344" y="2544"/>
                    </a:lnTo>
                    <a:lnTo>
                      <a:pt x="314" y="2608"/>
                    </a:lnTo>
                    <a:lnTo>
                      <a:pt x="284" y="2671"/>
                    </a:lnTo>
                    <a:lnTo>
                      <a:pt x="252" y="2734"/>
                    </a:lnTo>
                    <a:lnTo>
                      <a:pt x="220" y="2796"/>
                    </a:lnTo>
                    <a:lnTo>
                      <a:pt x="185" y="2857"/>
                    </a:lnTo>
                    <a:lnTo>
                      <a:pt x="150" y="2918"/>
                    </a:lnTo>
                    <a:lnTo>
                      <a:pt x="115" y="2978"/>
                    </a:lnTo>
                    <a:lnTo>
                      <a:pt x="77" y="3037"/>
                    </a:lnTo>
                    <a:lnTo>
                      <a:pt x="39" y="3095"/>
                    </a:lnTo>
                    <a:lnTo>
                      <a:pt x="0" y="3153"/>
                    </a:lnTo>
                    <a:lnTo>
                      <a:pt x="30" y="3144"/>
                    </a:lnTo>
                    <a:lnTo>
                      <a:pt x="116" y="3086"/>
                    </a:lnTo>
                    <a:lnTo>
                      <a:pt x="133" y="3079"/>
                    </a:lnTo>
                    <a:lnTo>
                      <a:pt x="168" y="3022"/>
                    </a:lnTo>
                    <a:lnTo>
                      <a:pt x="203" y="2964"/>
                    </a:lnTo>
                    <a:lnTo>
                      <a:pt x="237" y="2906"/>
                    </a:lnTo>
                    <a:lnTo>
                      <a:pt x="269" y="2849"/>
                    </a:lnTo>
                    <a:lnTo>
                      <a:pt x="301" y="2789"/>
                    </a:lnTo>
                    <a:lnTo>
                      <a:pt x="332" y="2729"/>
                    </a:lnTo>
                    <a:lnTo>
                      <a:pt x="362" y="2669"/>
                    </a:lnTo>
                    <a:lnTo>
                      <a:pt x="390" y="2608"/>
                    </a:lnTo>
                    <a:lnTo>
                      <a:pt x="418" y="2546"/>
                    </a:lnTo>
                    <a:lnTo>
                      <a:pt x="445" y="2484"/>
                    </a:lnTo>
                    <a:lnTo>
                      <a:pt x="470" y="2422"/>
                    </a:lnTo>
                    <a:lnTo>
                      <a:pt x="495" y="2359"/>
                    </a:lnTo>
                    <a:lnTo>
                      <a:pt x="518" y="2295"/>
                    </a:lnTo>
                    <a:lnTo>
                      <a:pt x="540" y="2231"/>
                    </a:lnTo>
                    <a:lnTo>
                      <a:pt x="561" y="2166"/>
                    </a:lnTo>
                    <a:lnTo>
                      <a:pt x="582" y="2101"/>
                    </a:lnTo>
                    <a:lnTo>
                      <a:pt x="600" y="2036"/>
                    </a:lnTo>
                    <a:lnTo>
                      <a:pt x="618" y="1970"/>
                    </a:lnTo>
                    <a:lnTo>
                      <a:pt x="635" y="1903"/>
                    </a:lnTo>
                    <a:lnTo>
                      <a:pt x="651" y="1835"/>
                    </a:lnTo>
                    <a:lnTo>
                      <a:pt x="665" y="1768"/>
                    </a:lnTo>
                    <a:lnTo>
                      <a:pt x="678" y="1700"/>
                    </a:lnTo>
                    <a:lnTo>
                      <a:pt x="691" y="1632"/>
                    </a:lnTo>
                    <a:lnTo>
                      <a:pt x="701" y="1563"/>
                    </a:lnTo>
                    <a:lnTo>
                      <a:pt x="711" y="1494"/>
                    </a:lnTo>
                    <a:lnTo>
                      <a:pt x="719" y="1425"/>
                    </a:lnTo>
                    <a:lnTo>
                      <a:pt x="725" y="1355"/>
                    </a:lnTo>
                    <a:lnTo>
                      <a:pt x="732" y="1284"/>
                    </a:lnTo>
                    <a:lnTo>
                      <a:pt x="736" y="1214"/>
                    </a:lnTo>
                    <a:lnTo>
                      <a:pt x="739" y="1142"/>
                    </a:lnTo>
                    <a:lnTo>
                      <a:pt x="741" y="1072"/>
                    </a:lnTo>
                    <a:lnTo>
                      <a:pt x="742" y="100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641840" y="2681280"/>
                <a:ext cx="243000" cy="1000080"/>
              </a:xfrm>
              <a:custGeom>
                <a:avLst/>
                <a:gdLst/>
                <a:ahLst/>
                <a:rect l="l" t="t" r="r" b="b"/>
                <a:pathLst>
                  <a:path w="763" h="3153">
                    <a:moveTo>
                      <a:pt x="763" y="983"/>
                    </a:moveTo>
                    <a:lnTo>
                      <a:pt x="763" y="920"/>
                    </a:lnTo>
                    <a:lnTo>
                      <a:pt x="760" y="856"/>
                    </a:lnTo>
                    <a:lnTo>
                      <a:pt x="758" y="793"/>
                    </a:lnTo>
                    <a:lnTo>
                      <a:pt x="754" y="730"/>
                    </a:lnTo>
                    <a:lnTo>
                      <a:pt x="750" y="668"/>
                    </a:lnTo>
                    <a:lnTo>
                      <a:pt x="744" y="605"/>
                    </a:lnTo>
                    <a:lnTo>
                      <a:pt x="737" y="543"/>
                    </a:lnTo>
                    <a:lnTo>
                      <a:pt x="730" y="482"/>
                    </a:lnTo>
                    <a:lnTo>
                      <a:pt x="722" y="420"/>
                    </a:lnTo>
                    <a:lnTo>
                      <a:pt x="712" y="359"/>
                    </a:lnTo>
                    <a:lnTo>
                      <a:pt x="701" y="298"/>
                    </a:lnTo>
                    <a:lnTo>
                      <a:pt x="690" y="238"/>
                    </a:lnTo>
                    <a:lnTo>
                      <a:pt x="677" y="177"/>
                    </a:lnTo>
                    <a:lnTo>
                      <a:pt x="664" y="118"/>
                    </a:lnTo>
                    <a:lnTo>
                      <a:pt x="649" y="59"/>
                    </a:lnTo>
                    <a:lnTo>
                      <a:pt x="634" y="0"/>
                    </a:lnTo>
                    <a:lnTo>
                      <a:pt x="594" y="20"/>
                    </a:lnTo>
                    <a:lnTo>
                      <a:pt x="571" y="31"/>
                    </a:lnTo>
                    <a:lnTo>
                      <a:pt x="586" y="88"/>
                    </a:lnTo>
                    <a:lnTo>
                      <a:pt x="600" y="146"/>
                    </a:lnTo>
                    <a:lnTo>
                      <a:pt x="612" y="204"/>
                    </a:lnTo>
                    <a:lnTo>
                      <a:pt x="624" y="262"/>
                    </a:lnTo>
                    <a:lnTo>
                      <a:pt x="635" y="320"/>
                    </a:lnTo>
                    <a:lnTo>
                      <a:pt x="645" y="379"/>
                    </a:lnTo>
                    <a:lnTo>
                      <a:pt x="654" y="439"/>
                    </a:lnTo>
                    <a:lnTo>
                      <a:pt x="663" y="498"/>
                    </a:lnTo>
                    <a:lnTo>
                      <a:pt x="670" y="557"/>
                    </a:lnTo>
                    <a:lnTo>
                      <a:pt x="676" y="617"/>
                    </a:lnTo>
                    <a:lnTo>
                      <a:pt x="682" y="678"/>
                    </a:lnTo>
                    <a:lnTo>
                      <a:pt x="686" y="738"/>
                    </a:lnTo>
                    <a:lnTo>
                      <a:pt x="689" y="799"/>
                    </a:lnTo>
                    <a:lnTo>
                      <a:pt x="692" y="860"/>
                    </a:lnTo>
                    <a:lnTo>
                      <a:pt x="693" y="922"/>
                    </a:lnTo>
                    <a:lnTo>
                      <a:pt x="694" y="983"/>
                    </a:lnTo>
                    <a:lnTo>
                      <a:pt x="693" y="1058"/>
                    </a:lnTo>
                    <a:lnTo>
                      <a:pt x="691" y="1134"/>
                    </a:lnTo>
                    <a:lnTo>
                      <a:pt x="687" y="1208"/>
                    </a:lnTo>
                    <a:lnTo>
                      <a:pt x="682" y="1283"/>
                    </a:lnTo>
                    <a:lnTo>
                      <a:pt x="675" y="1357"/>
                    </a:lnTo>
                    <a:lnTo>
                      <a:pt x="667" y="1431"/>
                    </a:lnTo>
                    <a:lnTo>
                      <a:pt x="657" y="1504"/>
                    </a:lnTo>
                    <a:lnTo>
                      <a:pt x="647" y="1577"/>
                    </a:lnTo>
                    <a:lnTo>
                      <a:pt x="634" y="1649"/>
                    </a:lnTo>
                    <a:lnTo>
                      <a:pt x="621" y="1722"/>
                    </a:lnTo>
                    <a:lnTo>
                      <a:pt x="606" y="1793"/>
                    </a:lnTo>
                    <a:lnTo>
                      <a:pt x="589" y="1864"/>
                    </a:lnTo>
                    <a:lnTo>
                      <a:pt x="572" y="1934"/>
                    </a:lnTo>
                    <a:lnTo>
                      <a:pt x="552" y="2004"/>
                    </a:lnTo>
                    <a:lnTo>
                      <a:pt x="532" y="2074"/>
                    </a:lnTo>
                    <a:lnTo>
                      <a:pt x="511" y="2142"/>
                    </a:lnTo>
                    <a:lnTo>
                      <a:pt x="488" y="2210"/>
                    </a:lnTo>
                    <a:lnTo>
                      <a:pt x="464" y="2277"/>
                    </a:lnTo>
                    <a:lnTo>
                      <a:pt x="439" y="2344"/>
                    </a:lnTo>
                    <a:lnTo>
                      <a:pt x="411" y="2411"/>
                    </a:lnTo>
                    <a:lnTo>
                      <a:pt x="384" y="2477"/>
                    </a:lnTo>
                    <a:lnTo>
                      <a:pt x="355" y="2542"/>
                    </a:lnTo>
                    <a:lnTo>
                      <a:pt x="324" y="2606"/>
                    </a:lnTo>
                    <a:lnTo>
                      <a:pt x="293" y="2670"/>
                    </a:lnTo>
                    <a:lnTo>
                      <a:pt x="260" y="2733"/>
                    </a:lnTo>
                    <a:lnTo>
                      <a:pt x="226" y="2795"/>
                    </a:lnTo>
                    <a:lnTo>
                      <a:pt x="192" y="2857"/>
                    </a:lnTo>
                    <a:lnTo>
                      <a:pt x="156" y="2918"/>
                    </a:lnTo>
                    <a:lnTo>
                      <a:pt x="118" y="2978"/>
                    </a:lnTo>
                    <a:lnTo>
                      <a:pt x="80" y="3036"/>
                    </a:lnTo>
                    <a:lnTo>
                      <a:pt x="40" y="3095"/>
                    </a:lnTo>
                    <a:lnTo>
                      <a:pt x="0" y="3153"/>
                    </a:lnTo>
                    <a:lnTo>
                      <a:pt x="85" y="3127"/>
                    </a:lnTo>
                    <a:lnTo>
                      <a:pt x="118" y="3104"/>
                    </a:lnTo>
                    <a:lnTo>
                      <a:pt x="156" y="3047"/>
                    </a:lnTo>
                    <a:lnTo>
                      <a:pt x="193" y="2989"/>
                    </a:lnTo>
                    <a:lnTo>
                      <a:pt x="228" y="2930"/>
                    </a:lnTo>
                    <a:lnTo>
                      <a:pt x="262" y="2871"/>
                    </a:lnTo>
                    <a:lnTo>
                      <a:pt x="296" y="2811"/>
                    </a:lnTo>
                    <a:lnTo>
                      <a:pt x="328" y="2751"/>
                    </a:lnTo>
                    <a:lnTo>
                      <a:pt x="360" y="2689"/>
                    </a:lnTo>
                    <a:lnTo>
                      <a:pt x="390" y="2627"/>
                    </a:lnTo>
                    <a:lnTo>
                      <a:pt x="420" y="2565"/>
                    </a:lnTo>
                    <a:lnTo>
                      <a:pt x="448" y="2502"/>
                    </a:lnTo>
                    <a:lnTo>
                      <a:pt x="475" y="2438"/>
                    </a:lnTo>
                    <a:lnTo>
                      <a:pt x="501" y="2374"/>
                    </a:lnTo>
                    <a:lnTo>
                      <a:pt x="526" y="2309"/>
                    </a:lnTo>
                    <a:lnTo>
                      <a:pt x="549" y="2243"/>
                    </a:lnTo>
                    <a:lnTo>
                      <a:pt x="571" y="2178"/>
                    </a:lnTo>
                    <a:lnTo>
                      <a:pt x="593" y="2110"/>
                    </a:lnTo>
                    <a:lnTo>
                      <a:pt x="613" y="2043"/>
                    </a:lnTo>
                    <a:lnTo>
                      <a:pt x="632" y="1976"/>
                    </a:lnTo>
                    <a:lnTo>
                      <a:pt x="650" y="1908"/>
                    </a:lnTo>
                    <a:lnTo>
                      <a:pt x="666" y="1839"/>
                    </a:lnTo>
                    <a:lnTo>
                      <a:pt x="682" y="1770"/>
                    </a:lnTo>
                    <a:lnTo>
                      <a:pt x="695" y="1701"/>
                    </a:lnTo>
                    <a:lnTo>
                      <a:pt x="708" y="1630"/>
                    </a:lnTo>
                    <a:lnTo>
                      <a:pt x="719" y="1560"/>
                    </a:lnTo>
                    <a:lnTo>
                      <a:pt x="729" y="1490"/>
                    </a:lnTo>
                    <a:lnTo>
                      <a:pt x="738" y="1418"/>
                    </a:lnTo>
                    <a:lnTo>
                      <a:pt x="746" y="1347"/>
                    </a:lnTo>
                    <a:lnTo>
                      <a:pt x="752" y="1275"/>
                    </a:lnTo>
                    <a:lnTo>
                      <a:pt x="756" y="1202"/>
                    </a:lnTo>
                    <a:lnTo>
                      <a:pt x="760" y="1130"/>
                    </a:lnTo>
                    <a:lnTo>
                      <a:pt x="763" y="1056"/>
                    </a:lnTo>
                    <a:lnTo>
                      <a:pt x="763" y="983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621320" y="2685960"/>
                <a:ext cx="252360" cy="1006560"/>
              </a:xfrm>
              <a:custGeom>
                <a:avLst/>
                <a:gdLst/>
                <a:ahLst/>
                <a:rect l="l" t="t" r="r" b="b"/>
                <a:pathLst>
                  <a:path w="795" h="3172">
                    <a:moveTo>
                      <a:pt x="795" y="967"/>
                    </a:moveTo>
                    <a:lnTo>
                      <a:pt x="795" y="905"/>
                    </a:lnTo>
                    <a:lnTo>
                      <a:pt x="794" y="842"/>
                    </a:lnTo>
                    <a:lnTo>
                      <a:pt x="791" y="780"/>
                    </a:lnTo>
                    <a:lnTo>
                      <a:pt x="787" y="718"/>
                    </a:lnTo>
                    <a:lnTo>
                      <a:pt x="782" y="657"/>
                    </a:lnTo>
                    <a:lnTo>
                      <a:pt x="777" y="596"/>
                    </a:lnTo>
                    <a:lnTo>
                      <a:pt x="771" y="535"/>
                    </a:lnTo>
                    <a:lnTo>
                      <a:pt x="763" y="474"/>
                    </a:lnTo>
                    <a:lnTo>
                      <a:pt x="755" y="413"/>
                    </a:lnTo>
                    <a:lnTo>
                      <a:pt x="745" y="353"/>
                    </a:lnTo>
                    <a:lnTo>
                      <a:pt x="735" y="294"/>
                    </a:lnTo>
                    <a:lnTo>
                      <a:pt x="724" y="235"/>
                    </a:lnTo>
                    <a:lnTo>
                      <a:pt x="712" y="175"/>
                    </a:lnTo>
                    <a:lnTo>
                      <a:pt x="699" y="116"/>
                    </a:lnTo>
                    <a:lnTo>
                      <a:pt x="684" y="58"/>
                    </a:lnTo>
                    <a:lnTo>
                      <a:pt x="670" y="0"/>
                    </a:lnTo>
                    <a:lnTo>
                      <a:pt x="661" y="4"/>
                    </a:lnTo>
                    <a:lnTo>
                      <a:pt x="607" y="30"/>
                    </a:lnTo>
                    <a:lnTo>
                      <a:pt x="621" y="87"/>
                    </a:lnTo>
                    <a:lnTo>
                      <a:pt x="634" y="143"/>
                    </a:lnTo>
                    <a:lnTo>
                      <a:pt x="647" y="200"/>
                    </a:lnTo>
                    <a:lnTo>
                      <a:pt x="658" y="258"/>
                    </a:lnTo>
                    <a:lnTo>
                      <a:pt x="669" y="315"/>
                    </a:lnTo>
                    <a:lnTo>
                      <a:pt x="679" y="373"/>
                    </a:lnTo>
                    <a:lnTo>
                      <a:pt x="688" y="431"/>
                    </a:lnTo>
                    <a:lnTo>
                      <a:pt x="696" y="490"/>
                    </a:lnTo>
                    <a:lnTo>
                      <a:pt x="703" y="549"/>
                    </a:lnTo>
                    <a:lnTo>
                      <a:pt x="710" y="608"/>
                    </a:lnTo>
                    <a:lnTo>
                      <a:pt x="715" y="666"/>
                    </a:lnTo>
                    <a:lnTo>
                      <a:pt x="719" y="726"/>
                    </a:lnTo>
                    <a:lnTo>
                      <a:pt x="722" y="786"/>
                    </a:lnTo>
                    <a:lnTo>
                      <a:pt x="724" y="846"/>
                    </a:lnTo>
                    <a:lnTo>
                      <a:pt x="727" y="907"/>
                    </a:lnTo>
                    <a:lnTo>
                      <a:pt x="727" y="967"/>
                    </a:lnTo>
                    <a:lnTo>
                      <a:pt x="725" y="1044"/>
                    </a:lnTo>
                    <a:lnTo>
                      <a:pt x="723" y="1121"/>
                    </a:lnTo>
                    <a:lnTo>
                      <a:pt x="719" y="1198"/>
                    </a:lnTo>
                    <a:lnTo>
                      <a:pt x="714" y="1273"/>
                    </a:lnTo>
                    <a:lnTo>
                      <a:pt x="707" y="1349"/>
                    </a:lnTo>
                    <a:lnTo>
                      <a:pt x="698" y="1424"/>
                    </a:lnTo>
                    <a:lnTo>
                      <a:pt x="689" y="1499"/>
                    </a:lnTo>
                    <a:lnTo>
                      <a:pt x="677" y="1574"/>
                    </a:lnTo>
                    <a:lnTo>
                      <a:pt x="665" y="1647"/>
                    </a:lnTo>
                    <a:lnTo>
                      <a:pt x="650" y="1721"/>
                    </a:lnTo>
                    <a:lnTo>
                      <a:pt x="634" y="1793"/>
                    </a:lnTo>
                    <a:lnTo>
                      <a:pt x="617" y="1864"/>
                    </a:lnTo>
                    <a:lnTo>
                      <a:pt x="598" y="1937"/>
                    </a:lnTo>
                    <a:lnTo>
                      <a:pt x="578" y="2007"/>
                    </a:lnTo>
                    <a:lnTo>
                      <a:pt x="557" y="2078"/>
                    </a:lnTo>
                    <a:lnTo>
                      <a:pt x="534" y="2148"/>
                    </a:lnTo>
                    <a:lnTo>
                      <a:pt x="510" y="2217"/>
                    </a:lnTo>
                    <a:lnTo>
                      <a:pt x="485" y="2285"/>
                    </a:lnTo>
                    <a:lnTo>
                      <a:pt x="458" y="2354"/>
                    </a:lnTo>
                    <a:lnTo>
                      <a:pt x="430" y="2421"/>
                    </a:lnTo>
                    <a:lnTo>
                      <a:pt x="401" y="2488"/>
                    </a:lnTo>
                    <a:lnTo>
                      <a:pt x="370" y="2553"/>
                    </a:lnTo>
                    <a:lnTo>
                      <a:pt x="339" y="2619"/>
                    </a:lnTo>
                    <a:lnTo>
                      <a:pt x="306" y="2683"/>
                    </a:lnTo>
                    <a:lnTo>
                      <a:pt x="271" y="2747"/>
                    </a:lnTo>
                    <a:lnTo>
                      <a:pt x="237" y="2810"/>
                    </a:lnTo>
                    <a:lnTo>
                      <a:pt x="200" y="2872"/>
                    </a:lnTo>
                    <a:lnTo>
                      <a:pt x="162" y="2934"/>
                    </a:lnTo>
                    <a:lnTo>
                      <a:pt x="123" y="2994"/>
                    </a:lnTo>
                    <a:lnTo>
                      <a:pt x="83" y="3054"/>
                    </a:lnTo>
                    <a:lnTo>
                      <a:pt x="42" y="3114"/>
                    </a:lnTo>
                    <a:lnTo>
                      <a:pt x="0" y="3172"/>
                    </a:lnTo>
                    <a:lnTo>
                      <a:pt x="67" y="3137"/>
                    </a:lnTo>
                    <a:lnTo>
                      <a:pt x="122" y="3120"/>
                    </a:lnTo>
                    <a:lnTo>
                      <a:pt x="161" y="3062"/>
                    </a:lnTo>
                    <a:lnTo>
                      <a:pt x="199" y="3004"/>
                    </a:lnTo>
                    <a:lnTo>
                      <a:pt x="237" y="2945"/>
                    </a:lnTo>
                    <a:lnTo>
                      <a:pt x="272" y="2885"/>
                    </a:lnTo>
                    <a:lnTo>
                      <a:pt x="307" y="2824"/>
                    </a:lnTo>
                    <a:lnTo>
                      <a:pt x="342" y="2763"/>
                    </a:lnTo>
                    <a:lnTo>
                      <a:pt x="374" y="2701"/>
                    </a:lnTo>
                    <a:lnTo>
                      <a:pt x="406" y="2638"/>
                    </a:lnTo>
                    <a:lnTo>
                      <a:pt x="436" y="2575"/>
                    </a:lnTo>
                    <a:lnTo>
                      <a:pt x="466" y="2511"/>
                    </a:lnTo>
                    <a:lnTo>
                      <a:pt x="494" y="2446"/>
                    </a:lnTo>
                    <a:lnTo>
                      <a:pt x="522" y="2381"/>
                    </a:lnTo>
                    <a:lnTo>
                      <a:pt x="547" y="2315"/>
                    </a:lnTo>
                    <a:lnTo>
                      <a:pt x="572" y="2249"/>
                    </a:lnTo>
                    <a:lnTo>
                      <a:pt x="595" y="2181"/>
                    </a:lnTo>
                    <a:lnTo>
                      <a:pt x="617" y="2114"/>
                    </a:lnTo>
                    <a:lnTo>
                      <a:pt x="638" y="2046"/>
                    </a:lnTo>
                    <a:lnTo>
                      <a:pt x="658" y="1978"/>
                    </a:lnTo>
                    <a:lnTo>
                      <a:pt x="677" y="1908"/>
                    </a:lnTo>
                    <a:lnTo>
                      <a:pt x="694" y="1838"/>
                    </a:lnTo>
                    <a:lnTo>
                      <a:pt x="710" y="1769"/>
                    </a:lnTo>
                    <a:lnTo>
                      <a:pt x="724" y="1697"/>
                    </a:lnTo>
                    <a:lnTo>
                      <a:pt x="738" y="1627"/>
                    </a:lnTo>
                    <a:lnTo>
                      <a:pt x="750" y="1555"/>
                    </a:lnTo>
                    <a:lnTo>
                      <a:pt x="760" y="1483"/>
                    </a:lnTo>
                    <a:lnTo>
                      <a:pt x="770" y="1411"/>
                    </a:lnTo>
                    <a:lnTo>
                      <a:pt x="777" y="1337"/>
                    </a:lnTo>
                    <a:lnTo>
                      <a:pt x="783" y="1264"/>
                    </a:lnTo>
                    <a:lnTo>
                      <a:pt x="789" y="1190"/>
                    </a:lnTo>
                    <a:lnTo>
                      <a:pt x="793" y="1117"/>
                    </a:lnTo>
                    <a:lnTo>
                      <a:pt x="795" y="1042"/>
                    </a:lnTo>
                    <a:lnTo>
                      <a:pt x="795" y="967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600440" y="2690640"/>
                <a:ext cx="262080" cy="1011240"/>
              </a:xfrm>
              <a:custGeom>
                <a:avLst/>
                <a:gdLst/>
                <a:ahLst/>
                <a:rect l="l" t="t" r="r" b="b"/>
                <a:pathLst>
                  <a:path w="825" h="3185">
                    <a:moveTo>
                      <a:pt x="825" y="952"/>
                    </a:moveTo>
                    <a:lnTo>
                      <a:pt x="824" y="891"/>
                    </a:lnTo>
                    <a:lnTo>
                      <a:pt x="823" y="829"/>
                    </a:lnTo>
                    <a:lnTo>
                      <a:pt x="820" y="768"/>
                    </a:lnTo>
                    <a:lnTo>
                      <a:pt x="817" y="707"/>
                    </a:lnTo>
                    <a:lnTo>
                      <a:pt x="813" y="647"/>
                    </a:lnTo>
                    <a:lnTo>
                      <a:pt x="807" y="586"/>
                    </a:lnTo>
                    <a:lnTo>
                      <a:pt x="801" y="526"/>
                    </a:lnTo>
                    <a:lnTo>
                      <a:pt x="794" y="467"/>
                    </a:lnTo>
                    <a:lnTo>
                      <a:pt x="785" y="408"/>
                    </a:lnTo>
                    <a:lnTo>
                      <a:pt x="776" y="348"/>
                    </a:lnTo>
                    <a:lnTo>
                      <a:pt x="766" y="289"/>
                    </a:lnTo>
                    <a:lnTo>
                      <a:pt x="755" y="231"/>
                    </a:lnTo>
                    <a:lnTo>
                      <a:pt x="743" y="173"/>
                    </a:lnTo>
                    <a:lnTo>
                      <a:pt x="731" y="115"/>
                    </a:lnTo>
                    <a:lnTo>
                      <a:pt x="717" y="57"/>
                    </a:lnTo>
                    <a:lnTo>
                      <a:pt x="702" y="0"/>
                    </a:lnTo>
                    <a:lnTo>
                      <a:pt x="669" y="16"/>
                    </a:lnTo>
                    <a:lnTo>
                      <a:pt x="640" y="32"/>
                    </a:lnTo>
                    <a:lnTo>
                      <a:pt x="654" y="86"/>
                    </a:lnTo>
                    <a:lnTo>
                      <a:pt x="666" y="142"/>
                    </a:lnTo>
                    <a:lnTo>
                      <a:pt x="678" y="199"/>
                    </a:lnTo>
                    <a:lnTo>
                      <a:pt x="690" y="254"/>
                    </a:lnTo>
                    <a:lnTo>
                      <a:pt x="700" y="311"/>
                    </a:lnTo>
                    <a:lnTo>
                      <a:pt x="710" y="368"/>
                    </a:lnTo>
                    <a:lnTo>
                      <a:pt x="719" y="426"/>
                    </a:lnTo>
                    <a:lnTo>
                      <a:pt x="726" y="483"/>
                    </a:lnTo>
                    <a:lnTo>
                      <a:pt x="734" y="541"/>
                    </a:lnTo>
                    <a:lnTo>
                      <a:pt x="739" y="599"/>
                    </a:lnTo>
                    <a:lnTo>
                      <a:pt x="744" y="657"/>
                    </a:lnTo>
                    <a:lnTo>
                      <a:pt x="748" y="715"/>
                    </a:lnTo>
                    <a:lnTo>
                      <a:pt x="752" y="774"/>
                    </a:lnTo>
                    <a:lnTo>
                      <a:pt x="754" y="833"/>
                    </a:lnTo>
                    <a:lnTo>
                      <a:pt x="756" y="893"/>
                    </a:lnTo>
                    <a:lnTo>
                      <a:pt x="756" y="952"/>
                    </a:lnTo>
                    <a:lnTo>
                      <a:pt x="755" y="1030"/>
                    </a:lnTo>
                    <a:lnTo>
                      <a:pt x="753" y="1109"/>
                    </a:lnTo>
                    <a:lnTo>
                      <a:pt x="748" y="1187"/>
                    </a:lnTo>
                    <a:lnTo>
                      <a:pt x="743" y="1263"/>
                    </a:lnTo>
                    <a:lnTo>
                      <a:pt x="736" y="1340"/>
                    </a:lnTo>
                    <a:lnTo>
                      <a:pt x="726" y="1417"/>
                    </a:lnTo>
                    <a:lnTo>
                      <a:pt x="717" y="1492"/>
                    </a:lnTo>
                    <a:lnTo>
                      <a:pt x="704" y="1568"/>
                    </a:lnTo>
                    <a:lnTo>
                      <a:pt x="691" y="1643"/>
                    </a:lnTo>
                    <a:lnTo>
                      <a:pt x="676" y="1717"/>
                    </a:lnTo>
                    <a:lnTo>
                      <a:pt x="659" y="1791"/>
                    </a:lnTo>
                    <a:lnTo>
                      <a:pt x="641" y="1864"/>
                    </a:lnTo>
                    <a:lnTo>
                      <a:pt x="622" y="1937"/>
                    </a:lnTo>
                    <a:lnTo>
                      <a:pt x="601" y="2009"/>
                    </a:lnTo>
                    <a:lnTo>
                      <a:pt x="579" y="2080"/>
                    </a:lnTo>
                    <a:lnTo>
                      <a:pt x="556" y="2151"/>
                    </a:lnTo>
                    <a:lnTo>
                      <a:pt x="531" y="2221"/>
                    </a:lnTo>
                    <a:lnTo>
                      <a:pt x="505" y="2290"/>
                    </a:lnTo>
                    <a:lnTo>
                      <a:pt x="476" y="2360"/>
                    </a:lnTo>
                    <a:lnTo>
                      <a:pt x="448" y="2428"/>
                    </a:lnTo>
                    <a:lnTo>
                      <a:pt x="417" y="2495"/>
                    </a:lnTo>
                    <a:lnTo>
                      <a:pt x="385" y="2561"/>
                    </a:lnTo>
                    <a:lnTo>
                      <a:pt x="352" y="2627"/>
                    </a:lnTo>
                    <a:lnTo>
                      <a:pt x="318" y="2693"/>
                    </a:lnTo>
                    <a:lnTo>
                      <a:pt x="282" y="2758"/>
                    </a:lnTo>
                    <a:lnTo>
                      <a:pt x="245" y="2821"/>
                    </a:lnTo>
                    <a:lnTo>
                      <a:pt x="207" y="2884"/>
                    </a:lnTo>
                    <a:lnTo>
                      <a:pt x="168" y="2946"/>
                    </a:lnTo>
                    <a:lnTo>
                      <a:pt x="128" y="3006"/>
                    </a:lnTo>
                    <a:lnTo>
                      <a:pt x="86" y="3066"/>
                    </a:lnTo>
                    <a:lnTo>
                      <a:pt x="43" y="3126"/>
                    </a:lnTo>
                    <a:lnTo>
                      <a:pt x="0" y="3185"/>
                    </a:lnTo>
                    <a:lnTo>
                      <a:pt x="20" y="3180"/>
                    </a:lnTo>
                    <a:lnTo>
                      <a:pt x="131" y="3122"/>
                    </a:lnTo>
                    <a:lnTo>
                      <a:pt x="131" y="3122"/>
                    </a:lnTo>
                    <a:lnTo>
                      <a:pt x="171" y="3064"/>
                    </a:lnTo>
                    <a:lnTo>
                      <a:pt x="211" y="3005"/>
                    </a:lnTo>
                    <a:lnTo>
                      <a:pt x="249" y="2947"/>
                    </a:lnTo>
                    <a:lnTo>
                      <a:pt x="287" y="2887"/>
                    </a:lnTo>
                    <a:lnTo>
                      <a:pt x="323" y="2826"/>
                    </a:lnTo>
                    <a:lnTo>
                      <a:pt x="357" y="2764"/>
                    </a:lnTo>
                    <a:lnTo>
                      <a:pt x="391" y="2702"/>
                    </a:lnTo>
                    <a:lnTo>
                      <a:pt x="424" y="2639"/>
                    </a:lnTo>
                    <a:lnTo>
                      <a:pt x="455" y="2575"/>
                    </a:lnTo>
                    <a:lnTo>
                      <a:pt x="486" y="2511"/>
                    </a:lnTo>
                    <a:lnTo>
                      <a:pt x="515" y="2446"/>
                    </a:lnTo>
                    <a:lnTo>
                      <a:pt x="542" y="2380"/>
                    </a:lnTo>
                    <a:lnTo>
                      <a:pt x="570" y="2313"/>
                    </a:lnTo>
                    <a:lnTo>
                      <a:pt x="595" y="2246"/>
                    </a:lnTo>
                    <a:lnTo>
                      <a:pt x="619" y="2179"/>
                    </a:lnTo>
                    <a:lnTo>
                      <a:pt x="642" y="2111"/>
                    </a:lnTo>
                    <a:lnTo>
                      <a:pt x="663" y="2043"/>
                    </a:lnTo>
                    <a:lnTo>
                      <a:pt x="683" y="1973"/>
                    </a:lnTo>
                    <a:lnTo>
                      <a:pt x="703" y="1903"/>
                    </a:lnTo>
                    <a:lnTo>
                      <a:pt x="720" y="1833"/>
                    </a:lnTo>
                    <a:lnTo>
                      <a:pt x="737" y="1762"/>
                    </a:lnTo>
                    <a:lnTo>
                      <a:pt x="752" y="1691"/>
                    </a:lnTo>
                    <a:lnTo>
                      <a:pt x="765" y="1618"/>
                    </a:lnTo>
                    <a:lnTo>
                      <a:pt x="778" y="1546"/>
                    </a:lnTo>
                    <a:lnTo>
                      <a:pt x="788" y="1473"/>
                    </a:lnTo>
                    <a:lnTo>
                      <a:pt x="798" y="1400"/>
                    </a:lnTo>
                    <a:lnTo>
                      <a:pt x="806" y="1326"/>
                    </a:lnTo>
                    <a:lnTo>
                      <a:pt x="813" y="1252"/>
                    </a:lnTo>
                    <a:lnTo>
                      <a:pt x="818" y="1177"/>
                    </a:lnTo>
                    <a:lnTo>
                      <a:pt x="822" y="1103"/>
                    </a:lnTo>
                    <a:lnTo>
                      <a:pt x="824" y="1027"/>
                    </a:lnTo>
                    <a:lnTo>
                      <a:pt x="825" y="95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583160" y="2695680"/>
                <a:ext cx="268200" cy="1011240"/>
              </a:xfrm>
              <a:custGeom>
                <a:avLst/>
                <a:gdLst/>
                <a:ahLst/>
                <a:rect l="l" t="t" r="r" b="b"/>
                <a:pathLst>
                  <a:path w="846" h="3184">
                    <a:moveTo>
                      <a:pt x="846" y="937"/>
                    </a:moveTo>
                    <a:lnTo>
                      <a:pt x="846" y="877"/>
                    </a:lnTo>
                    <a:lnTo>
                      <a:pt x="843" y="816"/>
                    </a:lnTo>
                    <a:lnTo>
                      <a:pt x="841" y="756"/>
                    </a:lnTo>
                    <a:lnTo>
                      <a:pt x="838" y="696"/>
                    </a:lnTo>
                    <a:lnTo>
                      <a:pt x="834" y="636"/>
                    </a:lnTo>
                    <a:lnTo>
                      <a:pt x="829" y="578"/>
                    </a:lnTo>
                    <a:lnTo>
                      <a:pt x="822" y="519"/>
                    </a:lnTo>
                    <a:lnTo>
                      <a:pt x="815" y="460"/>
                    </a:lnTo>
                    <a:lnTo>
                      <a:pt x="807" y="401"/>
                    </a:lnTo>
                    <a:lnTo>
                      <a:pt x="798" y="343"/>
                    </a:lnTo>
                    <a:lnTo>
                      <a:pt x="788" y="285"/>
                    </a:lnTo>
                    <a:lnTo>
                      <a:pt x="777" y="228"/>
                    </a:lnTo>
                    <a:lnTo>
                      <a:pt x="766" y="170"/>
                    </a:lnTo>
                    <a:lnTo>
                      <a:pt x="753" y="113"/>
                    </a:lnTo>
                    <a:lnTo>
                      <a:pt x="740" y="57"/>
                    </a:lnTo>
                    <a:lnTo>
                      <a:pt x="726" y="0"/>
                    </a:lnTo>
                    <a:lnTo>
                      <a:pt x="724" y="1"/>
                    </a:lnTo>
                    <a:lnTo>
                      <a:pt x="667" y="32"/>
                    </a:lnTo>
                    <a:lnTo>
                      <a:pt x="664" y="33"/>
                    </a:lnTo>
                    <a:lnTo>
                      <a:pt x="676" y="87"/>
                    </a:lnTo>
                    <a:lnTo>
                      <a:pt x="689" y="142"/>
                    </a:lnTo>
                    <a:lnTo>
                      <a:pt x="702" y="197"/>
                    </a:lnTo>
                    <a:lnTo>
                      <a:pt x="712" y="252"/>
                    </a:lnTo>
                    <a:lnTo>
                      <a:pt x="723" y="308"/>
                    </a:lnTo>
                    <a:lnTo>
                      <a:pt x="732" y="363"/>
                    </a:lnTo>
                    <a:lnTo>
                      <a:pt x="740" y="420"/>
                    </a:lnTo>
                    <a:lnTo>
                      <a:pt x="748" y="477"/>
                    </a:lnTo>
                    <a:lnTo>
                      <a:pt x="754" y="533"/>
                    </a:lnTo>
                    <a:lnTo>
                      <a:pt x="760" y="590"/>
                    </a:lnTo>
                    <a:lnTo>
                      <a:pt x="766" y="647"/>
                    </a:lnTo>
                    <a:lnTo>
                      <a:pt x="770" y="705"/>
                    </a:lnTo>
                    <a:lnTo>
                      <a:pt x="773" y="762"/>
                    </a:lnTo>
                    <a:lnTo>
                      <a:pt x="775" y="820"/>
                    </a:lnTo>
                    <a:lnTo>
                      <a:pt x="776" y="879"/>
                    </a:lnTo>
                    <a:lnTo>
                      <a:pt x="777" y="937"/>
                    </a:lnTo>
                    <a:lnTo>
                      <a:pt x="776" y="1016"/>
                    </a:lnTo>
                    <a:lnTo>
                      <a:pt x="773" y="1095"/>
                    </a:lnTo>
                    <a:lnTo>
                      <a:pt x="769" y="1174"/>
                    </a:lnTo>
                    <a:lnTo>
                      <a:pt x="764" y="1252"/>
                    </a:lnTo>
                    <a:lnTo>
                      <a:pt x="756" y="1329"/>
                    </a:lnTo>
                    <a:lnTo>
                      <a:pt x="747" y="1406"/>
                    </a:lnTo>
                    <a:lnTo>
                      <a:pt x="736" y="1483"/>
                    </a:lnTo>
                    <a:lnTo>
                      <a:pt x="724" y="1558"/>
                    </a:lnTo>
                    <a:lnTo>
                      <a:pt x="710" y="1634"/>
                    </a:lnTo>
                    <a:lnTo>
                      <a:pt x="694" y="1709"/>
                    </a:lnTo>
                    <a:lnTo>
                      <a:pt x="677" y="1784"/>
                    </a:lnTo>
                    <a:lnTo>
                      <a:pt x="659" y="1857"/>
                    </a:lnTo>
                    <a:lnTo>
                      <a:pt x="640" y="1931"/>
                    </a:lnTo>
                    <a:lnTo>
                      <a:pt x="618" y="2003"/>
                    </a:lnTo>
                    <a:lnTo>
                      <a:pt x="595" y="2075"/>
                    </a:lnTo>
                    <a:lnTo>
                      <a:pt x="571" y="2146"/>
                    </a:lnTo>
                    <a:lnTo>
                      <a:pt x="545" y="2217"/>
                    </a:lnTo>
                    <a:lnTo>
                      <a:pt x="518" y="2287"/>
                    </a:lnTo>
                    <a:lnTo>
                      <a:pt x="489" y="2356"/>
                    </a:lnTo>
                    <a:lnTo>
                      <a:pt x="460" y="2424"/>
                    </a:lnTo>
                    <a:lnTo>
                      <a:pt x="428" y="2493"/>
                    </a:lnTo>
                    <a:lnTo>
                      <a:pt x="396" y="2559"/>
                    </a:lnTo>
                    <a:lnTo>
                      <a:pt x="362" y="2625"/>
                    </a:lnTo>
                    <a:lnTo>
                      <a:pt x="327" y="2691"/>
                    </a:lnTo>
                    <a:lnTo>
                      <a:pt x="291" y="2755"/>
                    </a:lnTo>
                    <a:lnTo>
                      <a:pt x="253" y="2819"/>
                    </a:lnTo>
                    <a:lnTo>
                      <a:pt x="214" y="2882"/>
                    </a:lnTo>
                    <a:lnTo>
                      <a:pt x="173" y="2944"/>
                    </a:lnTo>
                    <a:lnTo>
                      <a:pt x="132" y="3005"/>
                    </a:lnTo>
                    <a:lnTo>
                      <a:pt x="89" y="3066"/>
                    </a:lnTo>
                    <a:lnTo>
                      <a:pt x="46" y="3126"/>
                    </a:lnTo>
                    <a:lnTo>
                      <a:pt x="0" y="3184"/>
                    </a:lnTo>
                    <a:lnTo>
                      <a:pt x="75" y="3165"/>
                    </a:lnTo>
                    <a:lnTo>
                      <a:pt x="119" y="3142"/>
                    </a:lnTo>
                    <a:lnTo>
                      <a:pt x="161" y="3084"/>
                    </a:lnTo>
                    <a:lnTo>
                      <a:pt x="202" y="3024"/>
                    </a:lnTo>
                    <a:lnTo>
                      <a:pt x="242" y="2964"/>
                    </a:lnTo>
                    <a:lnTo>
                      <a:pt x="281" y="2904"/>
                    </a:lnTo>
                    <a:lnTo>
                      <a:pt x="319" y="2842"/>
                    </a:lnTo>
                    <a:lnTo>
                      <a:pt x="356" y="2780"/>
                    </a:lnTo>
                    <a:lnTo>
                      <a:pt x="390" y="2717"/>
                    </a:lnTo>
                    <a:lnTo>
                      <a:pt x="425" y="2653"/>
                    </a:lnTo>
                    <a:lnTo>
                      <a:pt x="458" y="2589"/>
                    </a:lnTo>
                    <a:lnTo>
                      <a:pt x="489" y="2523"/>
                    </a:lnTo>
                    <a:lnTo>
                      <a:pt x="520" y="2458"/>
                    </a:lnTo>
                    <a:lnTo>
                      <a:pt x="549" y="2391"/>
                    </a:lnTo>
                    <a:lnTo>
                      <a:pt x="577" y="2324"/>
                    </a:lnTo>
                    <a:lnTo>
                      <a:pt x="604" y="2255"/>
                    </a:lnTo>
                    <a:lnTo>
                      <a:pt x="629" y="2187"/>
                    </a:lnTo>
                    <a:lnTo>
                      <a:pt x="653" y="2118"/>
                    </a:lnTo>
                    <a:lnTo>
                      <a:pt x="676" y="2048"/>
                    </a:lnTo>
                    <a:lnTo>
                      <a:pt x="697" y="1977"/>
                    </a:lnTo>
                    <a:lnTo>
                      <a:pt x="717" y="1907"/>
                    </a:lnTo>
                    <a:lnTo>
                      <a:pt x="736" y="1834"/>
                    </a:lnTo>
                    <a:lnTo>
                      <a:pt x="753" y="1763"/>
                    </a:lnTo>
                    <a:lnTo>
                      <a:pt x="769" y="1691"/>
                    </a:lnTo>
                    <a:lnTo>
                      <a:pt x="784" y="1617"/>
                    </a:lnTo>
                    <a:lnTo>
                      <a:pt x="796" y="1544"/>
                    </a:lnTo>
                    <a:lnTo>
                      <a:pt x="808" y="1469"/>
                    </a:lnTo>
                    <a:lnTo>
                      <a:pt x="817" y="1394"/>
                    </a:lnTo>
                    <a:lnTo>
                      <a:pt x="826" y="1319"/>
                    </a:lnTo>
                    <a:lnTo>
                      <a:pt x="833" y="1243"/>
                    </a:lnTo>
                    <a:lnTo>
                      <a:pt x="838" y="1168"/>
                    </a:lnTo>
                    <a:lnTo>
                      <a:pt x="842" y="1091"/>
                    </a:lnTo>
                    <a:lnTo>
                      <a:pt x="844" y="1014"/>
                    </a:lnTo>
                    <a:lnTo>
                      <a:pt x="846" y="93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92440" y="2700360"/>
                <a:ext cx="2147760" cy="1012680"/>
              </a:xfrm>
              <a:custGeom>
                <a:avLst/>
                <a:gdLst/>
                <a:ahLst/>
                <a:rect l="l" t="t" r="r" b="b"/>
                <a:pathLst>
                  <a:path w="6766" h="3187">
                    <a:moveTo>
                      <a:pt x="6766" y="920"/>
                    </a:moveTo>
                    <a:lnTo>
                      <a:pt x="6766" y="861"/>
                    </a:lnTo>
                    <a:lnTo>
                      <a:pt x="6764" y="801"/>
                    </a:lnTo>
                    <a:lnTo>
                      <a:pt x="6762" y="742"/>
                    </a:lnTo>
                    <a:lnTo>
                      <a:pt x="6758" y="683"/>
                    </a:lnTo>
                    <a:lnTo>
                      <a:pt x="6754" y="625"/>
                    </a:lnTo>
                    <a:lnTo>
                      <a:pt x="6749" y="567"/>
                    </a:lnTo>
                    <a:lnTo>
                      <a:pt x="6744" y="509"/>
                    </a:lnTo>
                    <a:lnTo>
                      <a:pt x="6736" y="451"/>
                    </a:lnTo>
                    <a:lnTo>
                      <a:pt x="6729" y="394"/>
                    </a:lnTo>
                    <a:lnTo>
                      <a:pt x="6720" y="336"/>
                    </a:lnTo>
                    <a:lnTo>
                      <a:pt x="6710" y="279"/>
                    </a:lnTo>
                    <a:lnTo>
                      <a:pt x="6700" y="222"/>
                    </a:lnTo>
                    <a:lnTo>
                      <a:pt x="6688" y="167"/>
                    </a:lnTo>
                    <a:lnTo>
                      <a:pt x="6676" y="110"/>
                    </a:lnTo>
                    <a:lnTo>
                      <a:pt x="6664" y="54"/>
                    </a:lnTo>
                    <a:lnTo>
                      <a:pt x="6650" y="0"/>
                    </a:lnTo>
                    <a:lnTo>
                      <a:pt x="6622" y="15"/>
                    </a:lnTo>
                    <a:lnTo>
                      <a:pt x="6586" y="31"/>
                    </a:lnTo>
                    <a:lnTo>
                      <a:pt x="6600" y="85"/>
                    </a:lnTo>
                    <a:lnTo>
                      <a:pt x="6612" y="138"/>
                    </a:lnTo>
                    <a:lnTo>
                      <a:pt x="6624" y="192"/>
                    </a:lnTo>
                    <a:lnTo>
                      <a:pt x="6634" y="247"/>
                    </a:lnTo>
                    <a:lnTo>
                      <a:pt x="6644" y="301"/>
                    </a:lnTo>
                    <a:lnTo>
                      <a:pt x="6653" y="357"/>
                    </a:lnTo>
                    <a:lnTo>
                      <a:pt x="6662" y="411"/>
                    </a:lnTo>
                    <a:lnTo>
                      <a:pt x="6669" y="467"/>
                    </a:lnTo>
                    <a:lnTo>
                      <a:pt x="6675" y="523"/>
                    </a:lnTo>
                    <a:lnTo>
                      <a:pt x="6681" y="578"/>
                    </a:lnTo>
                    <a:lnTo>
                      <a:pt x="6686" y="635"/>
                    </a:lnTo>
                    <a:lnTo>
                      <a:pt x="6690" y="692"/>
                    </a:lnTo>
                    <a:lnTo>
                      <a:pt x="6693" y="748"/>
                    </a:lnTo>
                    <a:lnTo>
                      <a:pt x="6695" y="805"/>
                    </a:lnTo>
                    <a:lnTo>
                      <a:pt x="6696" y="863"/>
                    </a:lnTo>
                    <a:lnTo>
                      <a:pt x="6698" y="920"/>
                    </a:lnTo>
                    <a:lnTo>
                      <a:pt x="6696" y="1000"/>
                    </a:lnTo>
                    <a:lnTo>
                      <a:pt x="6693" y="1080"/>
                    </a:lnTo>
                    <a:lnTo>
                      <a:pt x="6689" y="1160"/>
                    </a:lnTo>
                    <a:lnTo>
                      <a:pt x="6684" y="1239"/>
                    </a:lnTo>
                    <a:lnTo>
                      <a:pt x="6675" y="1318"/>
                    </a:lnTo>
                    <a:lnTo>
                      <a:pt x="6666" y="1395"/>
                    </a:lnTo>
                    <a:lnTo>
                      <a:pt x="6655" y="1473"/>
                    </a:lnTo>
                    <a:lnTo>
                      <a:pt x="6643" y="1550"/>
                    </a:lnTo>
                    <a:lnTo>
                      <a:pt x="6628" y="1626"/>
                    </a:lnTo>
                    <a:lnTo>
                      <a:pt x="6612" y="1702"/>
                    </a:lnTo>
                    <a:lnTo>
                      <a:pt x="6595" y="1776"/>
                    </a:lnTo>
                    <a:lnTo>
                      <a:pt x="6576" y="1851"/>
                    </a:lnTo>
                    <a:lnTo>
                      <a:pt x="6555" y="1926"/>
                    </a:lnTo>
                    <a:lnTo>
                      <a:pt x="6532" y="1999"/>
                    </a:lnTo>
                    <a:lnTo>
                      <a:pt x="6509" y="2071"/>
                    </a:lnTo>
                    <a:lnTo>
                      <a:pt x="6484" y="2143"/>
                    </a:lnTo>
                    <a:lnTo>
                      <a:pt x="6458" y="2214"/>
                    </a:lnTo>
                    <a:lnTo>
                      <a:pt x="6429" y="2285"/>
                    </a:lnTo>
                    <a:lnTo>
                      <a:pt x="6400" y="2355"/>
                    </a:lnTo>
                    <a:lnTo>
                      <a:pt x="6370" y="2424"/>
                    </a:lnTo>
                    <a:lnTo>
                      <a:pt x="6337" y="2493"/>
                    </a:lnTo>
                    <a:lnTo>
                      <a:pt x="6303" y="2560"/>
                    </a:lnTo>
                    <a:lnTo>
                      <a:pt x="6269" y="2626"/>
                    </a:lnTo>
                    <a:lnTo>
                      <a:pt x="6232" y="2692"/>
                    </a:lnTo>
                    <a:lnTo>
                      <a:pt x="6194" y="2757"/>
                    </a:lnTo>
                    <a:lnTo>
                      <a:pt x="6155" y="2821"/>
                    </a:lnTo>
                    <a:lnTo>
                      <a:pt x="6115" y="2884"/>
                    </a:lnTo>
                    <a:lnTo>
                      <a:pt x="6073" y="2947"/>
                    </a:lnTo>
                    <a:lnTo>
                      <a:pt x="6031" y="3008"/>
                    </a:lnTo>
                    <a:lnTo>
                      <a:pt x="5987" y="3069"/>
                    </a:lnTo>
                    <a:lnTo>
                      <a:pt x="5942" y="3129"/>
                    </a:lnTo>
                    <a:lnTo>
                      <a:pt x="5896" y="3187"/>
                    </a:lnTo>
                    <a:lnTo>
                      <a:pt x="5915" y="3177"/>
                    </a:lnTo>
                    <a:lnTo>
                      <a:pt x="6010" y="3153"/>
                    </a:lnTo>
                    <a:lnTo>
                      <a:pt x="6053" y="3094"/>
                    </a:lnTo>
                    <a:lnTo>
                      <a:pt x="6096" y="3034"/>
                    </a:lnTo>
                    <a:lnTo>
                      <a:pt x="6138" y="2974"/>
                    </a:lnTo>
                    <a:lnTo>
                      <a:pt x="6178" y="2914"/>
                    </a:lnTo>
                    <a:lnTo>
                      <a:pt x="6217" y="2852"/>
                    </a:lnTo>
                    <a:lnTo>
                      <a:pt x="6255" y="2789"/>
                    </a:lnTo>
                    <a:lnTo>
                      <a:pt x="6292" y="2726"/>
                    </a:lnTo>
                    <a:lnTo>
                      <a:pt x="6328" y="2661"/>
                    </a:lnTo>
                    <a:lnTo>
                      <a:pt x="6362" y="2595"/>
                    </a:lnTo>
                    <a:lnTo>
                      <a:pt x="6395" y="2529"/>
                    </a:lnTo>
                    <a:lnTo>
                      <a:pt x="6427" y="2463"/>
                    </a:lnTo>
                    <a:lnTo>
                      <a:pt x="6458" y="2396"/>
                    </a:lnTo>
                    <a:lnTo>
                      <a:pt x="6486" y="2328"/>
                    </a:lnTo>
                    <a:lnTo>
                      <a:pt x="6515" y="2258"/>
                    </a:lnTo>
                    <a:lnTo>
                      <a:pt x="6541" y="2189"/>
                    </a:lnTo>
                    <a:lnTo>
                      <a:pt x="6566" y="2119"/>
                    </a:lnTo>
                    <a:lnTo>
                      <a:pt x="6589" y="2048"/>
                    </a:lnTo>
                    <a:lnTo>
                      <a:pt x="6611" y="1977"/>
                    </a:lnTo>
                    <a:lnTo>
                      <a:pt x="6632" y="1905"/>
                    </a:lnTo>
                    <a:lnTo>
                      <a:pt x="6651" y="1832"/>
                    </a:lnTo>
                    <a:lnTo>
                      <a:pt x="6669" y="1759"/>
                    </a:lnTo>
                    <a:lnTo>
                      <a:pt x="6686" y="1685"/>
                    </a:lnTo>
                    <a:lnTo>
                      <a:pt x="6701" y="1611"/>
                    </a:lnTo>
                    <a:lnTo>
                      <a:pt x="6714" y="1536"/>
                    </a:lnTo>
                    <a:lnTo>
                      <a:pt x="6727" y="1460"/>
                    </a:lnTo>
                    <a:lnTo>
                      <a:pt x="6736" y="1385"/>
                    </a:lnTo>
                    <a:lnTo>
                      <a:pt x="6746" y="1308"/>
                    </a:lnTo>
                    <a:lnTo>
                      <a:pt x="6753" y="1231"/>
                    </a:lnTo>
                    <a:lnTo>
                      <a:pt x="6758" y="1155"/>
                    </a:lnTo>
                    <a:lnTo>
                      <a:pt x="6763" y="1077"/>
                    </a:lnTo>
                    <a:lnTo>
                      <a:pt x="6765" y="998"/>
                    </a:lnTo>
                    <a:lnTo>
                      <a:pt x="6766" y="920"/>
                    </a:lnTo>
                    <a:close/>
                    <a:moveTo>
                      <a:pt x="6" y="2838"/>
                    </a:moveTo>
                    <a:lnTo>
                      <a:pt x="36" y="2893"/>
                    </a:lnTo>
                    <a:lnTo>
                      <a:pt x="93" y="2949"/>
                    </a:lnTo>
                    <a:lnTo>
                      <a:pt x="112" y="2969"/>
                    </a:lnTo>
                    <a:lnTo>
                      <a:pt x="97" y="2948"/>
                    </a:lnTo>
                    <a:lnTo>
                      <a:pt x="84" y="2927"/>
                    </a:lnTo>
                    <a:lnTo>
                      <a:pt x="69" y="2905"/>
                    </a:lnTo>
                    <a:lnTo>
                      <a:pt x="55" y="2884"/>
                    </a:lnTo>
                    <a:lnTo>
                      <a:pt x="41" y="2862"/>
                    </a:lnTo>
                    <a:lnTo>
                      <a:pt x="27" y="2840"/>
                    </a:lnTo>
                    <a:lnTo>
                      <a:pt x="13" y="2819"/>
                    </a:lnTo>
                    <a:lnTo>
                      <a:pt x="0" y="2797"/>
                    </a:lnTo>
                    <a:lnTo>
                      <a:pt x="6" y="2838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687760" y="2706840"/>
                <a:ext cx="2141280" cy="1017360"/>
              </a:xfrm>
              <a:custGeom>
                <a:avLst/>
                <a:gdLst/>
                <a:ahLst/>
                <a:rect l="l" t="t" r="r" b="b"/>
                <a:pathLst>
                  <a:path w="6747" h="3206">
                    <a:moveTo>
                      <a:pt x="6747" y="904"/>
                    </a:moveTo>
                    <a:lnTo>
                      <a:pt x="6746" y="846"/>
                    </a:lnTo>
                    <a:lnTo>
                      <a:pt x="6745" y="787"/>
                    </a:lnTo>
                    <a:lnTo>
                      <a:pt x="6743" y="729"/>
                    </a:lnTo>
                    <a:lnTo>
                      <a:pt x="6740" y="672"/>
                    </a:lnTo>
                    <a:lnTo>
                      <a:pt x="6736" y="614"/>
                    </a:lnTo>
                    <a:lnTo>
                      <a:pt x="6730" y="557"/>
                    </a:lnTo>
                    <a:lnTo>
                      <a:pt x="6724" y="500"/>
                    </a:lnTo>
                    <a:lnTo>
                      <a:pt x="6718" y="444"/>
                    </a:lnTo>
                    <a:lnTo>
                      <a:pt x="6710" y="387"/>
                    </a:lnTo>
                    <a:lnTo>
                      <a:pt x="6702" y="330"/>
                    </a:lnTo>
                    <a:lnTo>
                      <a:pt x="6693" y="275"/>
                    </a:lnTo>
                    <a:lnTo>
                      <a:pt x="6682" y="219"/>
                    </a:lnTo>
                    <a:lnTo>
                      <a:pt x="6672" y="164"/>
                    </a:lnTo>
                    <a:lnTo>
                      <a:pt x="6659" y="109"/>
                    </a:lnTo>
                    <a:lnTo>
                      <a:pt x="6646" y="54"/>
                    </a:lnTo>
                    <a:lnTo>
                      <a:pt x="6634" y="0"/>
                    </a:lnTo>
                    <a:lnTo>
                      <a:pt x="6580" y="26"/>
                    </a:lnTo>
                    <a:lnTo>
                      <a:pt x="6570" y="30"/>
                    </a:lnTo>
                    <a:lnTo>
                      <a:pt x="6583" y="83"/>
                    </a:lnTo>
                    <a:lnTo>
                      <a:pt x="6595" y="136"/>
                    </a:lnTo>
                    <a:lnTo>
                      <a:pt x="6606" y="189"/>
                    </a:lnTo>
                    <a:lnTo>
                      <a:pt x="6617" y="242"/>
                    </a:lnTo>
                    <a:lnTo>
                      <a:pt x="6626" y="296"/>
                    </a:lnTo>
                    <a:lnTo>
                      <a:pt x="6635" y="350"/>
                    </a:lnTo>
                    <a:lnTo>
                      <a:pt x="6643" y="405"/>
                    </a:lnTo>
                    <a:lnTo>
                      <a:pt x="6651" y="459"/>
                    </a:lnTo>
                    <a:lnTo>
                      <a:pt x="6657" y="514"/>
                    </a:lnTo>
                    <a:lnTo>
                      <a:pt x="6662" y="569"/>
                    </a:lnTo>
                    <a:lnTo>
                      <a:pt x="6667" y="624"/>
                    </a:lnTo>
                    <a:lnTo>
                      <a:pt x="6670" y="680"/>
                    </a:lnTo>
                    <a:lnTo>
                      <a:pt x="6674" y="736"/>
                    </a:lnTo>
                    <a:lnTo>
                      <a:pt x="6676" y="791"/>
                    </a:lnTo>
                    <a:lnTo>
                      <a:pt x="6678" y="848"/>
                    </a:lnTo>
                    <a:lnTo>
                      <a:pt x="6678" y="904"/>
                    </a:lnTo>
                    <a:lnTo>
                      <a:pt x="6677" y="986"/>
                    </a:lnTo>
                    <a:lnTo>
                      <a:pt x="6675" y="1067"/>
                    </a:lnTo>
                    <a:lnTo>
                      <a:pt x="6669" y="1148"/>
                    </a:lnTo>
                    <a:lnTo>
                      <a:pt x="6663" y="1229"/>
                    </a:lnTo>
                    <a:lnTo>
                      <a:pt x="6655" y="1309"/>
                    </a:lnTo>
                    <a:lnTo>
                      <a:pt x="6645" y="1389"/>
                    </a:lnTo>
                    <a:lnTo>
                      <a:pt x="6634" y="1467"/>
                    </a:lnTo>
                    <a:lnTo>
                      <a:pt x="6620" y="1546"/>
                    </a:lnTo>
                    <a:lnTo>
                      <a:pt x="6605" y="1624"/>
                    </a:lnTo>
                    <a:lnTo>
                      <a:pt x="6588" y="1702"/>
                    </a:lnTo>
                    <a:lnTo>
                      <a:pt x="6570" y="1778"/>
                    </a:lnTo>
                    <a:lnTo>
                      <a:pt x="6550" y="1854"/>
                    </a:lnTo>
                    <a:lnTo>
                      <a:pt x="6529" y="1929"/>
                    </a:lnTo>
                    <a:lnTo>
                      <a:pt x="6505" y="2004"/>
                    </a:lnTo>
                    <a:lnTo>
                      <a:pt x="6480" y="2078"/>
                    </a:lnTo>
                    <a:lnTo>
                      <a:pt x="6454" y="2151"/>
                    </a:lnTo>
                    <a:lnTo>
                      <a:pt x="6427" y="2223"/>
                    </a:lnTo>
                    <a:lnTo>
                      <a:pt x="6397" y="2295"/>
                    </a:lnTo>
                    <a:lnTo>
                      <a:pt x="6366" y="2365"/>
                    </a:lnTo>
                    <a:lnTo>
                      <a:pt x="6333" y="2436"/>
                    </a:lnTo>
                    <a:lnTo>
                      <a:pt x="6299" y="2505"/>
                    </a:lnTo>
                    <a:lnTo>
                      <a:pt x="6265" y="2573"/>
                    </a:lnTo>
                    <a:lnTo>
                      <a:pt x="6228" y="2640"/>
                    </a:lnTo>
                    <a:lnTo>
                      <a:pt x="6189" y="2708"/>
                    </a:lnTo>
                    <a:lnTo>
                      <a:pt x="6150" y="2773"/>
                    </a:lnTo>
                    <a:lnTo>
                      <a:pt x="6109" y="2838"/>
                    </a:lnTo>
                    <a:lnTo>
                      <a:pt x="6067" y="2902"/>
                    </a:lnTo>
                    <a:lnTo>
                      <a:pt x="6024" y="2965"/>
                    </a:lnTo>
                    <a:lnTo>
                      <a:pt x="5979" y="3027"/>
                    </a:lnTo>
                    <a:lnTo>
                      <a:pt x="5933" y="3088"/>
                    </a:lnTo>
                    <a:lnTo>
                      <a:pt x="5885" y="3147"/>
                    </a:lnTo>
                    <a:lnTo>
                      <a:pt x="5837" y="3206"/>
                    </a:lnTo>
                    <a:lnTo>
                      <a:pt x="5930" y="3161"/>
                    </a:lnTo>
                    <a:lnTo>
                      <a:pt x="5970" y="3151"/>
                    </a:lnTo>
                    <a:lnTo>
                      <a:pt x="6016" y="3093"/>
                    </a:lnTo>
                    <a:lnTo>
                      <a:pt x="6059" y="3033"/>
                    </a:lnTo>
                    <a:lnTo>
                      <a:pt x="6102" y="2972"/>
                    </a:lnTo>
                    <a:lnTo>
                      <a:pt x="6143" y="2911"/>
                    </a:lnTo>
                    <a:lnTo>
                      <a:pt x="6184" y="2849"/>
                    </a:lnTo>
                    <a:lnTo>
                      <a:pt x="6223" y="2786"/>
                    </a:lnTo>
                    <a:lnTo>
                      <a:pt x="6261" y="2722"/>
                    </a:lnTo>
                    <a:lnTo>
                      <a:pt x="6297" y="2658"/>
                    </a:lnTo>
                    <a:lnTo>
                      <a:pt x="6332" y="2592"/>
                    </a:lnTo>
                    <a:lnTo>
                      <a:pt x="6366" y="2526"/>
                    </a:lnTo>
                    <a:lnTo>
                      <a:pt x="6398" y="2460"/>
                    </a:lnTo>
                    <a:lnTo>
                      <a:pt x="6430" y="2391"/>
                    </a:lnTo>
                    <a:lnTo>
                      <a:pt x="6459" y="2323"/>
                    </a:lnTo>
                    <a:lnTo>
                      <a:pt x="6488" y="2254"/>
                    </a:lnTo>
                    <a:lnTo>
                      <a:pt x="6515" y="2184"/>
                    </a:lnTo>
                    <a:lnTo>
                      <a:pt x="6541" y="2113"/>
                    </a:lnTo>
                    <a:lnTo>
                      <a:pt x="6565" y="2042"/>
                    </a:lnTo>
                    <a:lnTo>
                      <a:pt x="6588" y="1970"/>
                    </a:lnTo>
                    <a:lnTo>
                      <a:pt x="6610" y="1898"/>
                    </a:lnTo>
                    <a:lnTo>
                      <a:pt x="6629" y="1824"/>
                    </a:lnTo>
                    <a:lnTo>
                      <a:pt x="6647" y="1751"/>
                    </a:lnTo>
                    <a:lnTo>
                      <a:pt x="6664" y="1676"/>
                    </a:lnTo>
                    <a:lnTo>
                      <a:pt x="6680" y="1601"/>
                    </a:lnTo>
                    <a:lnTo>
                      <a:pt x="6694" y="1525"/>
                    </a:lnTo>
                    <a:lnTo>
                      <a:pt x="6706" y="1450"/>
                    </a:lnTo>
                    <a:lnTo>
                      <a:pt x="6717" y="1373"/>
                    </a:lnTo>
                    <a:lnTo>
                      <a:pt x="6726" y="1296"/>
                    </a:lnTo>
                    <a:lnTo>
                      <a:pt x="6734" y="1219"/>
                    </a:lnTo>
                    <a:lnTo>
                      <a:pt x="6739" y="1141"/>
                    </a:lnTo>
                    <a:lnTo>
                      <a:pt x="6743" y="1062"/>
                    </a:lnTo>
                    <a:lnTo>
                      <a:pt x="6746" y="983"/>
                    </a:lnTo>
                    <a:lnTo>
                      <a:pt x="6747" y="904"/>
                    </a:lnTo>
                    <a:close/>
                    <a:moveTo>
                      <a:pt x="21" y="2822"/>
                    </a:moveTo>
                    <a:lnTo>
                      <a:pt x="51" y="2877"/>
                    </a:lnTo>
                    <a:lnTo>
                      <a:pt x="108" y="2933"/>
                    </a:lnTo>
                    <a:lnTo>
                      <a:pt x="163" y="2990"/>
                    </a:lnTo>
                    <a:lnTo>
                      <a:pt x="220" y="3048"/>
                    </a:lnTo>
                    <a:lnTo>
                      <a:pt x="247" y="3060"/>
                    </a:lnTo>
                    <a:lnTo>
                      <a:pt x="214" y="3016"/>
                    </a:lnTo>
                    <a:lnTo>
                      <a:pt x="182" y="2971"/>
                    </a:lnTo>
                    <a:lnTo>
                      <a:pt x="149" y="2925"/>
                    </a:lnTo>
                    <a:lnTo>
                      <a:pt x="118" y="2879"/>
                    </a:lnTo>
                    <a:lnTo>
                      <a:pt x="87" y="2832"/>
                    </a:lnTo>
                    <a:lnTo>
                      <a:pt x="58" y="2785"/>
                    </a:lnTo>
                    <a:lnTo>
                      <a:pt x="28" y="2737"/>
                    </a:lnTo>
                    <a:lnTo>
                      <a:pt x="0" y="2690"/>
                    </a:lnTo>
                    <a:lnTo>
                      <a:pt x="21" y="2822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685960" y="2711520"/>
                <a:ext cx="2132280" cy="1019160"/>
              </a:xfrm>
              <a:custGeom>
                <a:avLst/>
                <a:gdLst/>
                <a:ahLst/>
                <a:rect l="l" t="t" r="r" b="b"/>
                <a:pathLst>
                  <a:path w="6718" h="3212">
                    <a:moveTo>
                      <a:pt x="6718" y="889"/>
                    </a:moveTo>
                    <a:lnTo>
                      <a:pt x="6716" y="832"/>
                    </a:lnTo>
                    <a:lnTo>
                      <a:pt x="6715" y="774"/>
                    </a:lnTo>
                    <a:lnTo>
                      <a:pt x="6713" y="717"/>
                    </a:lnTo>
                    <a:lnTo>
                      <a:pt x="6710" y="661"/>
                    </a:lnTo>
                    <a:lnTo>
                      <a:pt x="6706" y="604"/>
                    </a:lnTo>
                    <a:lnTo>
                      <a:pt x="6702" y="547"/>
                    </a:lnTo>
                    <a:lnTo>
                      <a:pt x="6695" y="492"/>
                    </a:lnTo>
                    <a:lnTo>
                      <a:pt x="6689" y="436"/>
                    </a:lnTo>
                    <a:lnTo>
                      <a:pt x="6682" y="380"/>
                    </a:lnTo>
                    <a:lnTo>
                      <a:pt x="6673" y="326"/>
                    </a:lnTo>
                    <a:lnTo>
                      <a:pt x="6664" y="270"/>
                    </a:lnTo>
                    <a:lnTo>
                      <a:pt x="6654" y="216"/>
                    </a:lnTo>
                    <a:lnTo>
                      <a:pt x="6644" y="161"/>
                    </a:lnTo>
                    <a:lnTo>
                      <a:pt x="6632" y="107"/>
                    </a:lnTo>
                    <a:lnTo>
                      <a:pt x="6620" y="54"/>
                    </a:lnTo>
                    <a:lnTo>
                      <a:pt x="6606" y="0"/>
                    </a:lnTo>
                    <a:lnTo>
                      <a:pt x="6585" y="11"/>
                    </a:lnTo>
                    <a:lnTo>
                      <a:pt x="6543" y="32"/>
                    </a:lnTo>
                    <a:lnTo>
                      <a:pt x="6556" y="83"/>
                    </a:lnTo>
                    <a:lnTo>
                      <a:pt x="6567" y="136"/>
                    </a:lnTo>
                    <a:lnTo>
                      <a:pt x="6579" y="187"/>
                    </a:lnTo>
                    <a:lnTo>
                      <a:pt x="6588" y="240"/>
                    </a:lnTo>
                    <a:lnTo>
                      <a:pt x="6598" y="293"/>
                    </a:lnTo>
                    <a:lnTo>
                      <a:pt x="6607" y="346"/>
                    </a:lnTo>
                    <a:lnTo>
                      <a:pt x="6615" y="399"/>
                    </a:lnTo>
                    <a:lnTo>
                      <a:pt x="6622" y="453"/>
                    </a:lnTo>
                    <a:lnTo>
                      <a:pt x="6628" y="506"/>
                    </a:lnTo>
                    <a:lnTo>
                      <a:pt x="6633" y="560"/>
                    </a:lnTo>
                    <a:lnTo>
                      <a:pt x="6638" y="615"/>
                    </a:lnTo>
                    <a:lnTo>
                      <a:pt x="6642" y="669"/>
                    </a:lnTo>
                    <a:lnTo>
                      <a:pt x="6645" y="724"/>
                    </a:lnTo>
                    <a:lnTo>
                      <a:pt x="6647" y="778"/>
                    </a:lnTo>
                    <a:lnTo>
                      <a:pt x="6648" y="834"/>
                    </a:lnTo>
                    <a:lnTo>
                      <a:pt x="6648" y="889"/>
                    </a:lnTo>
                    <a:lnTo>
                      <a:pt x="6647" y="973"/>
                    </a:lnTo>
                    <a:lnTo>
                      <a:pt x="6645" y="1055"/>
                    </a:lnTo>
                    <a:lnTo>
                      <a:pt x="6640" y="1136"/>
                    </a:lnTo>
                    <a:lnTo>
                      <a:pt x="6633" y="1218"/>
                    </a:lnTo>
                    <a:lnTo>
                      <a:pt x="6625" y="1299"/>
                    </a:lnTo>
                    <a:lnTo>
                      <a:pt x="6615" y="1380"/>
                    </a:lnTo>
                    <a:lnTo>
                      <a:pt x="6603" y="1460"/>
                    </a:lnTo>
                    <a:lnTo>
                      <a:pt x="6589" y="1540"/>
                    </a:lnTo>
                    <a:lnTo>
                      <a:pt x="6574" y="1618"/>
                    </a:lnTo>
                    <a:lnTo>
                      <a:pt x="6556" y="1696"/>
                    </a:lnTo>
                    <a:lnTo>
                      <a:pt x="6537" y="1774"/>
                    </a:lnTo>
                    <a:lnTo>
                      <a:pt x="6516" y="1850"/>
                    </a:lnTo>
                    <a:lnTo>
                      <a:pt x="6494" y="1927"/>
                    </a:lnTo>
                    <a:lnTo>
                      <a:pt x="6469" y="2003"/>
                    </a:lnTo>
                    <a:lnTo>
                      <a:pt x="6444" y="2077"/>
                    </a:lnTo>
                    <a:lnTo>
                      <a:pt x="6417" y="2151"/>
                    </a:lnTo>
                    <a:lnTo>
                      <a:pt x="6387" y="2224"/>
                    </a:lnTo>
                    <a:lnTo>
                      <a:pt x="6357" y="2296"/>
                    </a:lnTo>
                    <a:lnTo>
                      <a:pt x="6325" y="2368"/>
                    </a:lnTo>
                    <a:lnTo>
                      <a:pt x="6292" y="2438"/>
                    </a:lnTo>
                    <a:lnTo>
                      <a:pt x="6257" y="2508"/>
                    </a:lnTo>
                    <a:lnTo>
                      <a:pt x="6220" y="2577"/>
                    </a:lnTo>
                    <a:lnTo>
                      <a:pt x="6182" y="2645"/>
                    </a:lnTo>
                    <a:lnTo>
                      <a:pt x="6144" y="2711"/>
                    </a:lnTo>
                    <a:lnTo>
                      <a:pt x="6103" y="2778"/>
                    </a:lnTo>
                    <a:lnTo>
                      <a:pt x="6061" y="2843"/>
                    </a:lnTo>
                    <a:lnTo>
                      <a:pt x="6016" y="2907"/>
                    </a:lnTo>
                    <a:lnTo>
                      <a:pt x="5971" y="2970"/>
                    </a:lnTo>
                    <a:lnTo>
                      <a:pt x="5925" y="3033"/>
                    </a:lnTo>
                    <a:lnTo>
                      <a:pt x="5878" y="3094"/>
                    </a:lnTo>
                    <a:lnTo>
                      <a:pt x="5828" y="3153"/>
                    </a:lnTo>
                    <a:lnTo>
                      <a:pt x="5779" y="3212"/>
                    </a:lnTo>
                    <a:lnTo>
                      <a:pt x="5822" y="3201"/>
                    </a:lnTo>
                    <a:lnTo>
                      <a:pt x="5916" y="3156"/>
                    </a:lnTo>
                    <a:lnTo>
                      <a:pt x="5962" y="3098"/>
                    </a:lnTo>
                    <a:lnTo>
                      <a:pt x="6007" y="3038"/>
                    </a:lnTo>
                    <a:lnTo>
                      <a:pt x="6051" y="2977"/>
                    </a:lnTo>
                    <a:lnTo>
                      <a:pt x="6093" y="2916"/>
                    </a:lnTo>
                    <a:lnTo>
                      <a:pt x="6135" y="2853"/>
                    </a:lnTo>
                    <a:lnTo>
                      <a:pt x="6175" y="2790"/>
                    </a:lnTo>
                    <a:lnTo>
                      <a:pt x="6214" y="2726"/>
                    </a:lnTo>
                    <a:lnTo>
                      <a:pt x="6252" y="2661"/>
                    </a:lnTo>
                    <a:lnTo>
                      <a:pt x="6289" y="2595"/>
                    </a:lnTo>
                    <a:lnTo>
                      <a:pt x="6323" y="2529"/>
                    </a:lnTo>
                    <a:lnTo>
                      <a:pt x="6357" y="2462"/>
                    </a:lnTo>
                    <a:lnTo>
                      <a:pt x="6390" y="2393"/>
                    </a:lnTo>
                    <a:lnTo>
                      <a:pt x="6420" y="2324"/>
                    </a:lnTo>
                    <a:lnTo>
                      <a:pt x="6449" y="2254"/>
                    </a:lnTo>
                    <a:lnTo>
                      <a:pt x="6478" y="2183"/>
                    </a:lnTo>
                    <a:lnTo>
                      <a:pt x="6504" y="2112"/>
                    </a:lnTo>
                    <a:lnTo>
                      <a:pt x="6529" y="2040"/>
                    </a:lnTo>
                    <a:lnTo>
                      <a:pt x="6552" y="1968"/>
                    </a:lnTo>
                    <a:lnTo>
                      <a:pt x="6575" y="1895"/>
                    </a:lnTo>
                    <a:lnTo>
                      <a:pt x="6596" y="1820"/>
                    </a:lnTo>
                    <a:lnTo>
                      <a:pt x="6615" y="1745"/>
                    </a:lnTo>
                    <a:lnTo>
                      <a:pt x="6632" y="1671"/>
                    </a:lnTo>
                    <a:lnTo>
                      <a:pt x="6648" y="1595"/>
                    </a:lnTo>
                    <a:lnTo>
                      <a:pt x="6663" y="1519"/>
                    </a:lnTo>
                    <a:lnTo>
                      <a:pt x="6675" y="1441"/>
                    </a:lnTo>
                    <a:lnTo>
                      <a:pt x="6686" y="1364"/>
                    </a:lnTo>
                    <a:lnTo>
                      <a:pt x="6695" y="1286"/>
                    </a:lnTo>
                    <a:lnTo>
                      <a:pt x="6704" y="1208"/>
                    </a:lnTo>
                    <a:lnTo>
                      <a:pt x="6709" y="1129"/>
                    </a:lnTo>
                    <a:lnTo>
                      <a:pt x="6713" y="1049"/>
                    </a:lnTo>
                    <a:lnTo>
                      <a:pt x="6716" y="969"/>
                    </a:lnTo>
                    <a:lnTo>
                      <a:pt x="6718" y="889"/>
                    </a:lnTo>
                    <a:close/>
                    <a:moveTo>
                      <a:pt x="20" y="2766"/>
                    </a:moveTo>
                    <a:lnTo>
                      <a:pt x="33" y="2788"/>
                    </a:lnTo>
                    <a:lnTo>
                      <a:pt x="47" y="2810"/>
                    </a:lnTo>
                    <a:lnTo>
                      <a:pt x="61" y="2831"/>
                    </a:lnTo>
                    <a:lnTo>
                      <a:pt x="74" y="2853"/>
                    </a:lnTo>
                    <a:lnTo>
                      <a:pt x="89" y="2874"/>
                    </a:lnTo>
                    <a:lnTo>
                      <a:pt x="103" y="2896"/>
                    </a:lnTo>
                    <a:lnTo>
                      <a:pt x="117" y="2917"/>
                    </a:lnTo>
                    <a:lnTo>
                      <a:pt x="132" y="2938"/>
                    </a:lnTo>
                    <a:lnTo>
                      <a:pt x="168" y="2975"/>
                    </a:lnTo>
                    <a:lnTo>
                      <a:pt x="225" y="3033"/>
                    </a:lnTo>
                    <a:lnTo>
                      <a:pt x="281" y="3059"/>
                    </a:lnTo>
                    <a:lnTo>
                      <a:pt x="307" y="3059"/>
                    </a:lnTo>
                    <a:lnTo>
                      <a:pt x="265" y="3004"/>
                    </a:lnTo>
                    <a:lnTo>
                      <a:pt x="223" y="2948"/>
                    </a:lnTo>
                    <a:lnTo>
                      <a:pt x="183" y="2891"/>
                    </a:lnTo>
                    <a:lnTo>
                      <a:pt x="144" y="2833"/>
                    </a:lnTo>
                    <a:lnTo>
                      <a:pt x="106" y="2774"/>
                    </a:lnTo>
                    <a:lnTo>
                      <a:pt x="69" y="2715"/>
                    </a:lnTo>
                    <a:lnTo>
                      <a:pt x="33" y="2655"/>
                    </a:lnTo>
                    <a:lnTo>
                      <a:pt x="0" y="2593"/>
                    </a:lnTo>
                    <a:lnTo>
                      <a:pt x="0" y="2636"/>
                    </a:lnTo>
                    <a:lnTo>
                      <a:pt x="20" y="2766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685960" y="2716200"/>
                <a:ext cx="2121120" cy="1019160"/>
              </a:xfrm>
              <a:custGeom>
                <a:avLst/>
                <a:gdLst/>
                <a:ahLst/>
                <a:rect l="l" t="t" r="r" b="b"/>
                <a:pathLst>
                  <a:path w="6683" h="3213">
                    <a:moveTo>
                      <a:pt x="6683" y="874"/>
                    </a:moveTo>
                    <a:lnTo>
                      <a:pt x="6683" y="818"/>
                    </a:lnTo>
                    <a:lnTo>
                      <a:pt x="6681" y="761"/>
                    </a:lnTo>
                    <a:lnTo>
                      <a:pt x="6679" y="706"/>
                    </a:lnTo>
                    <a:lnTo>
                      <a:pt x="6675" y="650"/>
                    </a:lnTo>
                    <a:lnTo>
                      <a:pt x="6672" y="594"/>
                    </a:lnTo>
                    <a:lnTo>
                      <a:pt x="6667" y="539"/>
                    </a:lnTo>
                    <a:lnTo>
                      <a:pt x="6662" y="484"/>
                    </a:lnTo>
                    <a:lnTo>
                      <a:pt x="6656" y="429"/>
                    </a:lnTo>
                    <a:lnTo>
                      <a:pt x="6648" y="375"/>
                    </a:lnTo>
                    <a:lnTo>
                      <a:pt x="6640" y="320"/>
                    </a:lnTo>
                    <a:lnTo>
                      <a:pt x="6631" y="267"/>
                    </a:lnTo>
                    <a:lnTo>
                      <a:pt x="6622" y="212"/>
                    </a:lnTo>
                    <a:lnTo>
                      <a:pt x="6611" y="160"/>
                    </a:lnTo>
                    <a:lnTo>
                      <a:pt x="6600" y="106"/>
                    </a:lnTo>
                    <a:lnTo>
                      <a:pt x="6588" y="53"/>
                    </a:lnTo>
                    <a:lnTo>
                      <a:pt x="6575" y="0"/>
                    </a:lnTo>
                    <a:lnTo>
                      <a:pt x="6527" y="25"/>
                    </a:lnTo>
                    <a:lnTo>
                      <a:pt x="6514" y="39"/>
                    </a:lnTo>
                    <a:lnTo>
                      <a:pt x="6525" y="89"/>
                    </a:lnTo>
                    <a:lnTo>
                      <a:pt x="6537" y="140"/>
                    </a:lnTo>
                    <a:lnTo>
                      <a:pt x="6547" y="191"/>
                    </a:lnTo>
                    <a:lnTo>
                      <a:pt x="6557" y="243"/>
                    </a:lnTo>
                    <a:lnTo>
                      <a:pt x="6566" y="294"/>
                    </a:lnTo>
                    <a:lnTo>
                      <a:pt x="6575" y="345"/>
                    </a:lnTo>
                    <a:lnTo>
                      <a:pt x="6582" y="397"/>
                    </a:lnTo>
                    <a:lnTo>
                      <a:pt x="6588" y="449"/>
                    </a:lnTo>
                    <a:lnTo>
                      <a:pt x="6595" y="502"/>
                    </a:lnTo>
                    <a:lnTo>
                      <a:pt x="6600" y="554"/>
                    </a:lnTo>
                    <a:lnTo>
                      <a:pt x="6604" y="607"/>
                    </a:lnTo>
                    <a:lnTo>
                      <a:pt x="6607" y="659"/>
                    </a:lnTo>
                    <a:lnTo>
                      <a:pt x="6610" y="713"/>
                    </a:lnTo>
                    <a:lnTo>
                      <a:pt x="6612" y="767"/>
                    </a:lnTo>
                    <a:lnTo>
                      <a:pt x="6613" y="820"/>
                    </a:lnTo>
                    <a:lnTo>
                      <a:pt x="6615" y="874"/>
                    </a:lnTo>
                    <a:lnTo>
                      <a:pt x="6613" y="958"/>
                    </a:lnTo>
                    <a:lnTo>
                      <a:pt x="6610" y="1042"/>
                    </a:lnTo>
                    <a:lnTo>
                      <a:pt x="6605" y="1125"/>
                    </a:lnTo>
                    <a:lnTo>
                      <a:pt x="6599" y="1208"/>
                    </a:lnTo>
                    <a:lnTo>
                      <a:pt x="6589" y="1289"/>
                    </a:lnTo>
                    <a:lnTo>
                      <a:pt x="6579" y="1370"/>
                    </a:lnTo>
                    <a:lnTo>
                      <a:pt x="6566" y="1451"/>
                    </a:lnTo>
                    <a:lnTo>
                      <a:pt x="6552" y="1531"/>
                    </a:lnTo>
                    <a:lnTo>
                      <a:pt x="6537" y="1611"/>
                    </a:lnTo>
                    <a:lnTo>
                      <a:pt x="6519" y="1689"/>
                    </a:lnTo>
                    <a:lnTo>
                      <a:pt x="6499" y="1768"/>
                    </a:lnTo>
                    <a:lnTo>
                      <a:pt x="6478" y="1846"/>
                    </a:lnTo>
                    <a:lnTo>
                      <a:pt x="6455" y="1923"/>
                    </a:lnTo>
                    <a:lnTo>
                      <a:pt x="6430" y="1998"/>
                    </a:lnTo>
                    <a:lnTo>
                      <a:pt x="6403" y="2074"/>
                    </a:lnTo>
                    <a:lnTo>
                      <a:pt x="6375" y="2148"/>
                    </a:lnTo>
                    <a:lnTo>
                      <a:pt x="6345" y="2222"/>
                    </a:lnTo>
                    <a:lnTo>
                      <a:pt x="6314" y="2294"/>
                    </a:lnTo>
                    <a:lnTo>
                      <a:pt x="6281" y="2367"/>
                    </a:lnTo>
                    <a:lnTo>
                      <a:pt x="6247" y="2437"/>
                    </a:lnTo>
                    <a:lnTo>
                      <a:pt x="6210" y="2507"/>
                    </a:lnTo>
                    <a:lnTo>
                      <a:pt x="6173" y="2577"/>
                    </a:lnTo>
                    <a:lnTo>
                      <a:pt x="6134" y="2645"/>
                    </a:lnTo>
                    <a:lnTo>
                      <a:pt x="6093" y="2712"/>
                    </a:lnTo>
                    <a:lnTo>
                      <a:pt x="6051" y="2778"/>
                    </a:lnTo>
                    <a:lnTo>
                      <a:pt x="6008" y="2844"/>
                    </a:lnTo>
                    <a:lnTo>
                      <a:pt x="5963" y="2909"/>
                    </a:lnTo>
                    <a:lnTo>
                      <a:pt x="5917" y="2972"/>
                    </a:lnTo>
                    <a:lnTo>
                      <a:pt x="5869" y="3033"/>
                    </a:lnTo>
                    <a:lnTo>
                      <a:pt x="5820" y="3094"/>
                    </a:lnTo>
                    <a:lnTo>
                      <a:pt x="5769" y="3154"/>
                    </a:lnTo>
                    <a:lnTo>
                      <a:pt x="5718" y="3213"/>
                    </a:lnTo>
                    <a:lnTo>
                      <a:pt x="5822" y="3186"/>
                    </a:lnTo>
                    <a:lnTo>
                      <a:pt x="5842" y="3176"/>
                    </a:lnTo>
                    <a:lnTo>
                      <a:pt x="5890" y="3117"/>
                    </a:lnTo>
                    <a:lnTo>
                      <a:pt x="5938" y="3058"/>
                    </a:lnTo>
                    <a:lnTo>
                      <a:pt x="5984" y="2997"/>
                    </a:lnTo>
                    <a:lnTo>
                      <a:pt x="6029" y="2935"/>
                    </a:lnTo>
                    <a:lnTo>
                      <a:pt x="6072" y="2872"/>
                    </a:lnTo>
                    <a:lnTo>
                      <a:pt x="6114" y="2808"/>
                    </a:lnTo>
                    <a:lnTo>
                      <a:pt x="6155" y="2743"/>
                    </a:lnTo>
                    <a:lnTo>
                      <a:pt x="6194" y="2678"/>
                    </a:lnTo>
                    <a:lnTo>
                      <a:pt x="6233" y="2610"/>
                    </a:lnTo>
                    <a:lnTo>
                      <a:pt x="6270" y="2543"/>
                    </a:lnTo>
                    <a:lnTo>
                      <a:pt x="6304" y="2475"/>
                    </a:lnTo>
                    <a:lnTo>
                      <a:pt x="6338" y="2406"/>
                    </a:lnTo>
                    <a:lnTo>
                      <a:pt x="6371" y="2335"/>
                    </a:lnTo>
                    <a:lnTo>
                      <a:pt x="6402" y="2265"/>
                    </a:lnTo>
                    <a:lnTo>
                      <a:pt x="6432" y="2193"/>
                    </a:lnTo>
                    <a:lnTo>
                      <a:pt x="6459" y="2121"/>
                    </a:lnTo>
                    <a:lnTo>
                      <a:pt x="6485" y="2048"/>
                    </a:lnTo>
                    <a:lnTo>
                      <a:pt x="6510" y="1974"/>
                    </a:lnTo>
                    <a:lnTo>
                      <a:pt x="6534" y="1899"/>
                    </a:lnTo>
                    <a:lnTo>
                      <a:pt x="6555" y="1824"/>
                    </a:lnTo>
                    <a:lnTo>
                      <a:pt x="6575" y="1748"/>
                    </a:lnTo>
                    <a:lnTo>
                      <a:pt x="6593" y="1672"/>
                    </a:lnTo>
                    <a:lnTo>
                      <a:pt x="6610" y="1594"/>
                    </a:lnTo>
                    <a:lnTo>
                      <a:pt x="6625" y="1516"/>
                    </a:lnTo>
                    <a:lnTo>
                      <a:pt x="6639" y="1437"/>
                    </a:lnTo>
                    <a:lnTo>
                      <a:pt x="6650" y="1359"/>
                    </a:lnTo>
                    <a:lnTo>
                      <a:pt x="6660" y="1279"/>
                    </a:lnTo>
                    <a:lnTo>
                      <a:pt x="6668" y="1199"/>
                    </a:lnTo>
                    <a:lnTo>
                      <a:pt x="6674" y="1118"/>
                    </a:lnTo>
                    <a:lnTo>
                      <a:pt x="6680" y="1037"/>
                    </a:lnTo>
                    <a:lnTo>
                      <a:pt x="6682" y="956"/>
                    </a:lnTo>
                    <a:lnTo>
                      <a:pt x="6683" y="874"/>
                    </a:lnTo>
                    <a:close/>
                    <a:moveTo>
                      <a:pt x="5" y="2659"/>
                    </a:moveTo>
                    <a:lnTo>
                      <a:pt x="33" y="2707"/>
                    </a:lnTo>
                    <a:lnTo>
                      <a:pt x="63" y="2755"/>
                    </a:lnTo>
                    <a:lnTo>
                      <a:pt x="92" y="2802"/>
                    </a:lnTo>
                    <a:lnTo>
                      <a:pt x="123" y="2849"/>
                    </a:lnTo>
                    <a:lnTo>
                      <a:pt x="154" y="2895"/>
                    </a:lnTo>
                    <a:lnTo>
                      <a:pt x="187" y="2941"/>
                    </a:lnTo>
                    <a:lnTo>
                      <a:pt x="219" y="2986"/>
                    </a:lnTo>
                    <a:lnTo>
                      <a:pt x="252" y="3030"/>
                    </a:lnTo>
                    <a:lnTo>
                      <a:pt x="281" y="3044"/>
                    </a:lnTo>
                    <a:lnTo>
                      <a:pt x="339" y="3044"/>
                    </a:lnTo>
                    <a:lnTo>
                      <a:pt x="358" y="3054"/>
                    </a:lnTo>
                    <a:lnTo>
                      <a:pt x="308" y="2990"/>
                    </a:lnTo>
                    <a:lnTo>
                      <a:pt x="259" y="2924"/>
                    </a:lnTo>
                    <a:lnTo>
                      <a:pt x="212" y="2858"/>
                    </a:lnTo>
                    <a:lnTo>
                      <a:pt x="167" y="2790"/>
                    </a:lnTo>
                    <a:lnTo>
                      <a:pt x="123" y="2722"/>
                    </a:lnTo>
                    <a:lnTo>
                      <a:pt x="81" y="2651"/>
                    </a:lnTo>
                    <a:lnTo>
                      <a:pt x="40" y="2580"/>
                    </a:lnTo>
                    <a:lnTo>
                      <a:pt x="1" y="2507"/>
                    </a:lnTo>
                    <a:lnTo>
                      <a:pt x="0" y="2510"/>
                    </a:lnTo>
                    <a:lnTo>
                      <a:pt x="0" y="2621"/>
                    </a:lnTo>
                    <a:lnTo>
                      <a:pt x="5" y="265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685960" y="2720880"/>
                <a:ext cx="2109960" cy="1019160"/>
              </a:xfrm>
              <a:custGeom>
                <a:avLst/>
                <a:gdLst/>
                <a:ahLst/>
                <a:rect l="l" t="t" r="r" b="b"/>
                <a:pathLst>
                  <a:path w="6648" h="3211">
                    <a:moveTo>
                      <a:pt x="6648" y="857"/>
                    </a:moveTo>
                    <a:lnTo>
                      <a:pt x="6648" y="802"/>
                    </a:lnTo>
                    <a:lnTo>
                      <a:pt x="6647" y="746"/>
                    </a:lnTo>
                    <a:lnTo>
                      <a:pt x="6645" y="692"/>
                    </a:lnTo>
                    <a:lnTo>
                      <a:pt x="6642" y="637"/>
                    </a:lnTo>
                    <a:lnTo>
                      <a:pt x="6638" y="583"/>
                    </a:lnTo>
                    <a:lnTo>
                      <a:pt x="6633" y="528"/>
                    </a:lnTo>
                    <a:lnTo>
                      <a:pt x="6628" y="474"/>
                    </a:lnTo>
                    <a:lnTo>
                      <a:pt x="6622" y="421"/>
                    </a:lnTo>
                    <a:lnTo>
                      <a:pt x="6615" y="367"/>
                    </a:lnTo>
                    <a:lnTo>
                      <a:pt x="6607" y="314"/>
                    </a:lnTo>
                    <a:lnTo>
                      <a:pt x="6598" y="261"/>
                    </a:lnTo>
                    <a:lnTo>
                      <a:pt x="6588" y="208"/>
                    </a:lnTo>
                    <a:lnTo>
                      <a:pt x="6579" y="155"/>
                    </a:lnTo>
                    <a:lnTo>
                      <a:pt x="6567" y="104"/>
                    </a:lnTo>
                    <a:lnTo>
                      <a:pt x="6556" y="51"/>
                    </a:lnTo>
                    <a:lnTo>
                      <a:pt x="6543" y="0"/>
                    </a:lnTo>
                    <a:lnTo>
                      <a:pt x="6527" y="8"/>
                    </a:lnTo>
                    <a:lnTo>
                      <a:pt x="6485" y="50"/>
                    </a:lnTo>
                    <a:lnTo>
                      <a:pt x="6497" y="100"/>
                    </a:lnTo>
                    <a:lnTo>
                      <a:pt x="6507" y="148"/>
                    </a:lnTo>
                    <a:lnTo>
                      <a:pt x="6517" y="197"/>
                    </a:lnTo>
                    <a:lnTo>
                      <a:pt x="6526" y="247"/>
                    </a:lnTo>
                    <a:lnTo>
                      <a:pt x="6535" y="296"/>
                    </a:lnTo>
                    <a:lnTo>
                      <a:pt x="6542" y="346"/>
                    </a:lnTo>
                    <a:lnTo>
                      <a:pt x="6549" y="397"/>
                    </a:lnTo>
                    <a:lnTo>
                      <a:pt x="6556" y="447"/>
                    </a:lnTo>
                    <a:lnTo>
                      <a:pt x="6561" y="498"/>
                    </a:lnTo>
                    <a:lnTo>
                      <a:pt x="6566" y="548"/>
                    </a:lnTo>
                    <a:lnTo>
                      <a:pt x="6570" y="599"/>
                    </a:lnTo>
                    <a:lnTo>
                      <a:pt x="6574" y="650"/>
                    </a:lnTo>
                    <a:lnTo>
                      <a:pt x="6577" y="701"/>
                    </a:lnTo>
                    <a:lnTo>
                      <a:pt x="6578" y="754"/>
                    </a:lnTo>
                    <a:lnTo>
                      <a:pt x="6580" y="805"/>
                    </a:lnTo>
                    <a:lnTo>
                      <a:pt x="6580" y="857"/>
                    </a:lnTo>
                    <a:lnTo>
                      <a:pt x="6579" y="942"/>
                    </a:lnTo>
                    <a:lnTo>
                      <a:pt x="6576" y="1027"/>
                    </a:lnTo>
                    <a:lnTo>
                      <a:pt x="6570" y="1110"/>
                    </a:lnTo>
                    <a:lnTo>
                      <a:pt x="6564" y="1194"/>
                    </a:lnTo>
                    <a:lnTo>
                      <a:pt x="6555" y="1277"/>
                    </a:lnTo>
                    <a:lnTo>
                      <a:pt x="6544" y="1359"/>
                    </a:lnTo>
                    <a:lnTo>
                      <a:pt x="6530" y="1440"/>
                    </a:lnTo>
                    <a:lnTo>
                      <a:pt x="6516" y="1521"/>
                    </a:lnTo>
                    <a:lnTo>
                      <a:pt x="6500" y="1601"/>
                    </a:lnTo>
                    <a:lnTo>
                      <a:pt x="6481" y="1681"/>
                    </a:lnTo>
                    <a:lnTo>
                      <a:pt x="6461" y="1760"/>
                    </a:lnTo>
                    <a:lnTo>
                      <a:pt x="6439" y="1837"/>
                    </a:lnTo>
                    <a:lnTo>
                      <a:pt x="6415" y="1915"/>
                    </a:lnTo>
                    <a:lnTo>
                      <a:pt x="6390" y="1992"/>
                    </a:lnTo>
                    <a:lnTo>
                      <a:pt x="6362" y="2067"/>
                    </a:lnTo>
                    <a:lnTo>
                      <a:pt x="6334" y="2143"/>
                    </a:lnTo>
                    <a:lnTo>
                      <a:pt x="6302" y="2216"/>
                    </a:lnTo>
                    <a:lnTo>
                      <a:pt x="6271" y="2290"/>
                    </a:lnTo>
                    <a:lnTo>
                      <a:pt x="6237" y="2362"/>
                    </a:lnTo>
                    <a:lnTo>
                      <a:pt x="6201" y="2434"/>
                    </a:lnTo>
                    <a:lnTo>
                      <a:pt x="6164" y="2504"/>
                    </a:lnTo>
                    <a:lnTo>
                      <a:pt x="6126" y="2573"/>
                    </a:lnTo>
                    <a:lnTo>
                      <a:pt x="6085" y="2643"/>
                    </a:lnTo>
                    <a:lnTo>
                      <a:pt x="6044" y="2710"/>
                    </a:lnTo>
                    <a:lnTo>
                      <a:pt x="6001" y="2776"/>
                    </a:lnTo>
                    <a:lnTo>
                      <a:pt x="5955" y="2841"/>
                    </a:lnTo>
                    <a:lnTo>
                      <a:pt x="5909" y="2906"/>
                    </a:lnTo>
                    <a:lnTo>
                      <a:pt x="5862" y="2969"/>
                    </a:lnTo>
                    <a:lnTo>
                      <a:pt x="5814" y="3031"/>
                    </a:lnTo>
                    <a:lnTo>
                      <a:pt x="5763" y="3092"/>
                    </a:lnTo>
                    <a:lnTo>
                      <a:pt x="5712" y="3152"/>
                    </a:lnTo>
                    <a:lnTo>
                      <a:pt x="5659" y="3211"/>
                    </a:lnTo>
                    <a:lnTo>
                      <a:pt x="5711" y="3198"/>
                    </a:lnTo>
                    <a:lnTo>
                      <a:pt x="5779" y="3180"/>
                    </a:lnTo>
                    <a:lnTo>
                      <a:pt x="5828" y="3121"/>
                    </a:lnTo>
                    <a:lnTo>
                      <a:pt x="5878" y="3062"/>
                    </a:lnTo>
                    <a:lnTo>
                      <a:pt x="5925" y="3001"/>
                    </a:lnTo>
                    <a:lnTo>
                      <a:pt x="5971" y="2938"/>
                    </a:lnTo>
                    <a:lnTo>
                      <a:pt x="6016" y="2875"/>
                    </a:lnTo>
                    <a:lnTo>
                      <a:pt x="6061" y="2811"/>
                    </a:lnTo>
                    <a:lnTo>
                      <a:pt x="6103" y="2746"/>
                    </a:lnTo>
                    <a:lnTo>
                      <a:pt x="6144" y="2679"/>
                    </a:lnTo>
                    <a:lnTo>
                      <a:pt x="6182" y="2613"/>
                    </a:lnTo>
                    <a:lnTo>
                      <a:pt x="6220" y="2545"/>
                    </a:lnTo>
                    <a:lnTo>
                      <a:pt x="6257" y="2476"/>
                    </a:lnTo>
                    <a:lnTo>
                      <a:pt x="6292" y="2406"/>
                    </a:lnTo>
                    <a:lnTo>
                      <a:pt x="6325" y="2336"/>
                    </a:lnTo>
                    <a:lnTo>
                      <a:pt x="6357" y="2264"/>
                    </a:lnTo>
                    <a:lnTo>
                      <a:pt x="6387" y="2192"/>
                    </a:lnTo>
                    <a:lnTo>
                      <a:pt x="6417" y="2119"/>
                    </a:lnTo>
                    <a:lnTo>
                      <a:pt x="6444" y="2045"/>
                    </a:lnTo>
                    <a:lnTo>
                      <a:pt x="6469" y="1971"/>
                    </a:lnTo>
                    <a:lnTo>
                      <a:pt x="6494" y="1895"/>
                    </a:lnTo>
                    <a:lnTo>
                      <a:pt x="6516" y="1818"/>
                    </a:lnTo>
                    <a:lnTo>
                      <a:pt x="6537" y="1742"/>
                    </a:lnTo>
                    <a:lnTo>
                      <a:pt x="6556" y="1664"/>
                    </a:lnTo>
                    <a:lnTo>
                      <a:pt x="6574" y="1586"/>
                    </a:lnTo>
                    <a:lnTo>
                      <a:pt x="6589" y="1508"/>
                    </a:lnTo>
                    <a:lnTo>
                      <a:pt x="6603" y="1428"/>
                    </a:lnTo>
                    <a:lnTo>
                      <a:pt x="6615" y="1348"/>
                    </a:lnTo>
                    <a:lnTo>
                      <a:pt x="6625" y="1267"/>
                    </a:lnTo>
                    <a:lnTo>
                      <a:pt x="6633" y="1186"/>
                    </a:lnTo>
                    <a:lnTo>
                      <a:pt x="6640" y="1104"/>
                    </a:lnTo>
                    <a:lnTo>
                      <a:pt x="6645" y="1023"/>
                    </a:lnTo>
                    <a:lnTo>
                      <a:pt x="6647" y="941"/>
                    </a:lnTo>
                    <a:lnTo>
                      <a:pt x="6648" y="857"/>
                    </a:lnTo>
                    <a:close/>
                    <a:moveTo>
                      <a:pt x="0" y="2561"/>
                    </a:moveTo>
                    <a:lnTo>
                      <a:pt x="33" y="2623"/>
                    </a:lnTo>
                    <a:lnTo>
                      <a:pt x="69" y="2683"/>
                    </a:lnTo>
                    <a:lnTo>
                      <a:pt x="106" y="2742"/>
                    </a:lnTo>
                    <a:lnTo>
                      <a:pt x="144" y="2801"/>
                    </a:lnTo>
                    <a:lnTo>
                      <a:pt x="183" y="2859"/>
                    </a:lnTo>
                    <a:lnTo>
                      <a:pt x="223" y="2916"/>
                    </a:lnTo>
                    <a:lnTo>
                      <a:pt x="265" y="2972"/>
                    </a:lnTo>
                    <a:lnTo>
                      <a:pt x="307" y="3027"/>
                    </a:lnTo>
                    <a:lnTo>
                      <a:pt x="339" y="3027"/>
                    </a:lnTo>
                    <a:lnTo>
                      <a:pt x="396" y="3057"/>
                    </a:lnTo>
                    <a:lnTo>
                      <a:pt x="408" y="3044"/>
                    </a:lnTo>
                    <a:lnTo>
                      <a:pt x="380" y="3010"/>
                    </a:lnTo>
                    <a:lnTo>
                      <a:pt x="353" y="2974"/>
                    </a:lnTo>
                    <a:lnTo>
                      <a:pt x="326" y="2940"/>
                    </a:lnTo>
                    <a:lnTo>
                      <a:pt x="299" y="2904"/>
                    </a:lnTo>
                    <a:lnTo>
                      <a:pt x="274" y="2868"/>
                    </a:lnTo>
                    <a:lnTo>
                      <a:pt x="249" y="2833"/>
                    </a:lnTo>
                    <a:lnTo>
                      <a:pt x="224" y="2796"/>
                    </a:lnTo>
                    <a:lnTo>
                      <a:pt x="198" y="2759"/>
                    </a:lnTo>
                    <a:lnTo>
                      <a:pt x="174" y="2721"/>
                    </a:lnTo>
                    <a:lnTo>
                      <a:pt x="151" y="2685"/>
                    </a:lnTo>
                    <a:lnTo>
                      <a:pt x="128" y="2647"/>
                    </a:lnTo>
                    <a:lnTo>
                      <a:pt x="105" y="2608"/>
                    </a:lnTo>
                    <a:lnTo>
                      <a:pt x="83" y="2570"/>
                    </a:lnTo>
                    <a:lnTo>
                      <a:pt x="62" y="2531"/>
                    </a:lnTo>
                    <a:lnTo>
                      <a:pt x="40" y="2493"/>
                    </a:lnTo>
                    <a:lnTo>
                      <a:pt x="20" y="2453"/>
                    </a:lnTo>
                    <a:lnTo>
                      <a:pt x="0" y="2493"/>
                    </a:lnTo>
                    <a:lnTo>
                      <a:pt x="0" y="256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685960" y="2727360"/>
                <a:ext cx="2100240" cy="1017720"/>
              </a:xfrm>
              <a:custGeom>
                <a:avLst/>
                <a:gdLst/>
                <a:ahLst/>
                <a:rect l="l" t="t" r="r" b="b"/>
                <a:pathLst>
                  <a:path w="6614" h="3203">
                    <a:moveTo>
                      <a:pt x="6614" y="835"/>
                    </a:moveTo>
                    <a:lnTo>
                      <a:pt x="6612" y="781"/>
                    </a:lnTo>
                    <a:lnTo>
                      <a:pt x="6611" y="728"/>
                    </a:lnTo>
                    <a:lnTo>
                      <a:pt x="6609" y="674"/>
                    </a:lnTo>
                    <a:lnTo>
                      <a:pt x="6606" y="620"/>
                    </a:lnTo>
                    <a:lnTo>
                      <a:pt x="6603" y="568"/>
                    </a:lnTo>
                    <a:lnTo>
                      <a:pt x="6599" y="515"/>
                    </a:lnTo>
                    <a:lnTo>
                      <a:pt x="6594" y="463"/>
                    </a:lnTo>
                    <a:lnTo>
                      <a:pt x="6587" y="410"/>
                    </a:lnTo>
                    <a:lnTo>
                      <a:pt x="6581" y="358"/>
                    </a:lnTo>
                    <a:lnTo>
                      <a:pt x="6574" y="306"/>
                    </a:lnTo>
                    <a:lnTo>
                      <a:pt x="6565" y="255"/>
                    </a:lnTo>
                    <a:lnTo>
                      <a:pt x="6556" y="204"/>
                    </a:lnTo>
                    <a:lnTo>
                      <a:pt x="6546" y="152"/>
                    </a:lnTo>
                    <a:lnTo>
                      <a:pt x="6536" y="101"/>
                    </a:lnTo>
                    <a:lnTo>
                      <a:pt x="6524" y="50"/>
                    </a:lnTo>
                    <a:lnTo>
                      <a:pt x="6513" y="0"/>
                    </a:lnTo>
                    <a:lnTo>
                      <a:pt x="6473" y="41"/>
                    </a:lnTo>
                    <a:lnTo>
                      <a:pt x="6454" y="50"/>
                    </a:lnTo>
                    <a:lnTo>
                      <a:pt x="6464" y="98"/>
                    </a:lnTo>
                    <a:lnTo>
                      <a:pt x="6475" y="145"/>
                    </a:lnTo>
                    <a:lnTo>
                      <a:pt x="6484" y="193"/>
                    </a:lnTo>
                    <a:lnTo>
                      <a:pt x="6493" y="241"/>
                    </a:lnTo>
                    <a:lnTo>
                      <a:pt x="6501" y="290"/>
                    </a:lnTo>
                    <a:lnTo>
                      <a:pt x="6508" y="338"/>
                    </a:lnTo>
                    <a:lnTo>
                      <a:pt x="6515" y="387"/>
                    </a:lnTo>
                    <a:lnTo>
                      <a:pt x="6521" y="436"/>
                    </a:lnTo>
                    <a:lnTo>
                      <a:pt x="6526" y="485"/>
                    </a:lnTo>
                    <a:lnTo>
                      <a:pt x="6532" y="534"/>
                    </a:lnTo>
                    <a:lnTo>
                      <a:pt x="6535" y="584"/>
                    </a:lnTo>
                    <a:lnTo>
                      <a:pt x="6539" y="634"/>
                    </a:lnTo>
                    <a:lnTo>
                      <a:pt x="6541" y="683"/>
                    </a:lnTo>
                    <a:lnTo>
                      <a:pt x="6543" y="734"/>
                    </a:lnTo>
                    <a:lnTo>
                      <a:pt x="6544" y="784"/>
                    </a:lnTo>
                    <a:lnTo>
                      <a:pt x="6544" y="835"/>
                    </a:lnTo>
                    <a:lnTo>
                      <a:pt x="6543" y="921"/>
                    </a:lnTo>
                    <a:lnTo>
                      <a:pt x="6540" y="1006"/>
                    </a:lnTo>
                    <a:lnTo>
                      <a:pt x="6535" y="1091"/>
                    </a:lnTo>
                    <a:lnTo>
                      <a:pt x="6527" y="1175"/>
                    </a:lnTo>
                    <a:lnTo>
                      <a:pt x="6519" y="1259"/>
                    </a:lnTo>
                    <a:lnTo>
                      <a:pt x="6507" y="1342"/>
                    </a:lnTo>
                    <a:lnTo>
                      <a:pt x="6494" y="1424"/>
                    </a:lnTo>
                    <a:lnTo>
                      <a:pt x="6479" y="1506"/>
                    </a:lnTo>
                    <a:lnTo>
                      <a:pt x="6462" y="1586"/>
                    </a:lnTo>
                    <a:lnTo>
                      <a:pt x="6443" y="1667"/>
                    </a:lnTo>
                    <a:lnTo>
                      <a:pt x="6422" y="1746"/>
                    </a:lnTo>
                    <a:lnTo>
                      <a:pt x="6399" y="1825"/>
                    </a:lnTo>
                    <a:lnTo>
                      <a:pt x="6375" y="1904"/>
                    </a:lnTo>
                    <a:lnTo>
                      <a:pt x="6349" y="1980"/>
                    </a:lnTo>
                    <a:lnTo>
                      <a:pt x="6320" y="2057"/>
                    </a:lnTo>
                    <a:lnTo>
                      <a:pt x="6291" y="2132"/>
                    </a:lnTo>
                    <a:lnTo>
                      <a:pt x="6259" y="2207"/>
                    </a:lnTo>
                    <a:lnTo>
                      <a:pt x="6226" y="2280"/>
                    </a:lnTo>
                    <a:lnTo>
                      <a:pt x="6191" y="2353"/>
                    </a:lnTo>
                    <a:lnTo>
                      <a:pt x="6155" y="2425"/>
                    </a:lnTo>
                    <a:lnTo>
                      <a:pt x="6116" y="2496"/>
                    </a:lnTo>
                    <a:lnTo>
                      <a:pt x="6076" y="2566"/>
                    </a:lnTo>
                    <a:lnTo>
                      <a:pt x="6035" y="2634"/>
                    </a:lnTo>
                    <a:lnTo>
                      <a:pt x="5992" y="2702"/>
                    </a:lnTo>
                    <a:lnTo>
                      <a:pt x="5948" y="2769"/>
                    </a:lnTo>
                    <a:lnTo>
                      <a:pt x="5902" y="2834"/>
                    </a:lnTo>
                    <a:lnTo>
                      <a:pt x="5855" y="2899"/>
                    </a:lnTo>
                    <a:lnTo>
                      <a:pt x="5806" y="2962"/>
                    </a:lnTo>
                    <a:lnTo>
                      <a:pt x="5756" y="3024"/>
                    </a:lnTo>
                    <a:lnTo>
                      <a:pt x="5704" y="3085"/>
                    </a:lnTo>
                    <a:lnTo>
                      <a:pt x="5652" y="3145"/>
                    </a:lnTo>
                    <a:lnTo>
                      <a:pt x="5597" y="3203"/>
                    </a:lnTo>
                    <a:lnTo>
                      <a:pt x="5710" y="3176"/>
                    </a:lnTo>
                    <a:lnTo>
                      <a:pt x="5717" y="3174"/>
                    </a:lnTo>
                    <a:lnTo>
                      <a:pt x="5768" y="3115"/>
                    </a:lnTo>
                    <a:lnTo>
                      <a:pt x="5819" y="3055"/>
                    </a:lnTo>
                    <a:lnTo>
                      <a:pt x="5868" y="2994"/>
                    </a:lnTo>
                    <a:lnTo>
                      <a:pt x="5916" y="2933"/>
                    </a:lnTo>
                    <a:lnTo>
                      <a:pt x="5962" y="2870"/>
                    </a:lnTo>
                    <a:lnTo>
                      <a:pt x="6007" y="2805"/>
                    </a:lnTo>
                    <a:lnTo>
                      <a:pt x="6050" y="2739"/>
                    </a:lnTo>
                    <a:lnTo>
                      <a:pt x="6092" y="2673"/>
                    </a:lnTo>
                    <a:lnTo>
                      <a:pt x="6133" y="2606"/>
                    </a:lnTo>
                    <a:lnTo>
                      <a:pt x="6172" y="2538"/>
                    </a:lnTo>
                    <a:lnTo>
                      <a:pt x="6209" y="2468"/>
                    </a:lnTo>
                    <a:lnTo>
                      <a:pt x="6246" y="2398"/>
                    </a:lnTo>
                    <a:lnTo>
                      <a:pt x="6280" y="2328"/>
                    </a:lnTo>
                    <a:lnTo>
                      <a:pt x="6313" y="2255"/>
                    </a:lnTo>
                    <a:lnTo>
                      <a:pt x="6344" y="2183"/>
                    </a:lnTo>
                    <a:lnTo>
                      <a:pt x="6374" y="2109"/>
                    </a:lnTo>
                    <a:lnTo>
                      <a:pt x="6402" y="2035"/>
                    </a:lnTo>
                    <a:lnTo>
                      <a:pt x="6429" y="1959"/>
                    </a:lnTo>
                    <a:lnTo>
                      <a:pt x="6454" y="1884"/>
                    </a:lnTo>
                    <a:lnTo>
                      <a:pt x="6477" y="1807"/>
                    </a:lnTo>
                    <a:lnTo>
                      <a:pt x="6498" y="1729"/>
                    </a:lnTo>
                    <a:lnTo>
                      <a:pt x="6518" y="1650"/>
                    </a:lnTo>
                    <a:lnTo>
                      <a:pt x="6536" y="1572"/>
                    </a:lnTo>
                    <a:lnTo>
                      <a:pt x="6551" y="1492"/>
                    </a:lnTo>
                    <a:lnTo>
                      <a:pt x="6565" y="1412"/>
                    </a:lnTo>
                    <a:lnTo>
                      <a:pt x="6578" y="1331"/>
                    </a:lnTo>
                    <a:lnTo>
                      <a:pt x="6588" y="1250"/>
                    </a:lnTo>
                    <a:lnTo>
                      <a:pt x="6598" y="1169"/>
                    </a:lnTo>
                    <a:lnTo>
                      <a:pt x="6604" y="1086"/>
                    </a:lnTo>
                    <a:lnTo>
                      <a:pt x="6609" y="1003"/>
                    </a:lnTo>
                    <a:lnTo>
                      <a:pt x="6612" y="919"/>
                    </a:lnTo>
                    <a:lnTo>
                      <a:pt x="6614" y="835"/>
                    </a:lnTo>
                    <a:close/>
                    <a:moveTo>
                      <a:pt x="0" y="2468"/>
                    </a:moveTo>
                    <a:lnTo>
                      <a:pt x="39" y="2541"/>
                    </a:lnTo>
                    <a:lnTo>
                      <a:pt x="80" y="2612"/>
                    </a:lnTo>
                    <a:lnTo>
                      <a:pt x="122" y="2683"/>
                    </a:lnTo>
                    <a:lnTo>
                      <a:pt x="166" y="2751"/>
                    </a:lnTo>
                    <a:lnTo>
                      <a:pt x="211" y="2819"/>
                    </a:lnTo>
                    <a:lnTo>
                      <a:pt x="258" y="2885"/>
                    </a:lnTo>
                    <a:lnTo>
                      <a:pt x="307" y="2951"/>
                    </a:lnTo>
                    <a:lnTo>
                      <a:pt x="357" y="3015"/>
                    </a:lnTo>
                    <a:lnTo>
                      <a:pt x="395" y="3035"/>
                    </a:lnTo>
                    <a:lnTo>
                      <a:pt x="422" y="3005"/>
                    </a:lnTo>
                    <a:lnTo>
                      <a:pt x="437" y="3005"/>
                    </a:lnTo>
                    <a:lnTo>
                      <a:pt x="409" y="2970"/>
                    </a:lnTo>
                    <a:lnTo>
                      <a:pt x="380" y="2934"/>
                    </a:lnTo>
                    <a:lnTo>
                      <a:pt x="353" y="2898"/>
                    </a:lnTo>
                    <a:lnTo>
                      <a:pt x="326" y="2861"/>
                    </a:lnTo>
                    <a:lnTo>
                      <a:pt x="298" y="2824"/>
                    </a:lnTo>
                    <a:lnTo>
                      <a:pt x="273" y="2787"/>
                    </a:lnTo>
                    <a:lnTo>
                      <a:pt x="247" y="2749"/>
                    </a:lnTo>
                    <a:lnTo>
                      <a:pt x="222" y="2711"/>
                    </a:lnTo>
                    <a:lnTo>
                      <a:pt x="196" y="2672"/>
                    </a:lnTo>
                    <a:lnTo>
                      <a:pt x="172" y="2633"/>
                    </a:lnTo>
                    <a:lnTo>
                      <a:pt x="149" y="2594"/>
                    </a:lnTo>
                    <a:lnTo>
                      <a:pt x="125" y="2555"/>
                    </a:lnTo>
                    <a:lnTo>
                      <a:pt x="103" y="2515"/>
                    </a:lnTo>
                    <a:lnTo>
                      <a:pt x="81" y="2475"/>
                    </a:lnTo>
                    <a:lnTo>
                      <a:pt x="59" y="2434"/>
                    </a:lnTo>
                    <a:lnTo>
                      <a:pt x="38" y="2393"/>
                    </a:lnTo>
                    <a:lnTo>
                      <a:pt x="0" y="246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692440" y="2736720"/>
                <a:ext cx="2082600" cy="1022400"/>
              </a:xfrm>
              <a:custGeom>
                <a:avLst/>
                <a:gdLst/>
                <a:ahLst/>
                <a:rect l="l" t="t" r="r" b="b"/>
                <a:pathLst>
                  <a:path w="6560" h="3222">
                    <a:moveTo>
                      <a:pt x="6560" y="807"/>
                    </a:moveTo>
                    <a:lnTo>
                      <a:pt x="6560" y="755"/>
                    </a:lnTo>
                    <a:lnTo>
                      <a:pt x="6558" y="704"/>
                    </a:lnTo>
                    <a:lnTo>
                      <a:pt x="6557" y="651"/>
                    </a:lnTo>
                    <a:lnTo>
                      <a:pt x="6554" y="600"/>
                    </a:lnTo>
                    <a:lnTo>
                      <a:pt x="6550" y="549"/>
                    </a:lnTo>
                    <a:lnTo>
                      <a:pt x="6546" y="498"/>
                    </a:lnTo>
                    <a:lnTo>
                      <a:pt x="6541" y="448"/>
                    </a:lnTo>
                    <a:lnTo>
                      <a:pt x="6536" y="397"/>
                    </a:lnTo>
                    <a:lnTo>
                      <a:pt x="6529" y="347"/>
                    </a:lnTo>
                    <a:lnTo>
                      <a:pt x="6522" y="296"/>
                    </a:lnTo>
                    <a:lnTo>
                      <a:pt x="6515" y="246"/>
                    </a:lnTo>
                    <a:lnTo>
                      <a:pt x="6506" y="197"/>
                    </a:lnTo>
                    <a:lnTo>
                      <a:pt x="6497" y="147"/>
                    </a:lnTo>
                    <a:lnTo>
                      <a:pt x="6487" y="98"/>
                    </a:lnTo>
                    <a:lnTo>
                      <a:pt x="6477" y="50"/>
                    </a:lnTo>
                    <a:lnTo>
                      <a:pt x="6465" y="0"/>
                    </a:lnTo>
                    <a:lnTo>
                      <a:pt x="6454" y="13"/>
                    </a:lnTo>
                    <a:lnTo>
                      <a:pt x="6403" y="38"/>
                    </a:lnTo>
                    <a:lnTo>
                      <a:pt x="6414" y="85"/>
                    </a:lnTo>
                    <a:lnTo>
                      <a:pt x="6423" y="131"/>
                    </a:lnTo>
                    <a:lnTo>
                      <a:pt x="6433" y="179"/>
                    </a:lnTo>
                    <a:lnTo>
                      <a:pt x="6441" y="226"/>
                    </a:lnTo>
                    <a:lnTo>
                      <a:pt x="6449" y="273"/>
                    </a:lnTo>
                    <a:lnTo>
                      <a:pt x="6456" y="320"/>
                    </a:lnTo>
                    <a:lnTo>
                      <a:pt x="6463" y="369"/>
                    </a:lnTo>
                    <a:lnTo>
                      <a:pt x="6468" y="416"/>
                    </a:lnTo>
                    <a:lnTo>
                      <a:pt x="6474" y="464"/>
                    </a:lnTo>
                    <a:lnTo>
                      <a:pt x="6478" y="513"/>
                    </a:lnTo>
                    <a:lnTo>
                      <a:pt x="6482" y="561"/>
                    </a:lnTo>
                    <a:lnTo>
                      <a:pt x="6485" y="610"/>
                    </a:lnTo>
                    <a:lnTo>
                      <a:pt x="6487" y="659"/>
                    </a:lnTo>
                    <a:lnTo>
                      <a:pt x="6489" y="708"/>
                    </a:lnTo>
                    <a:lnTo>
                      <a:pt x="6490" y="757"/>
                    </a:lnTo>
                    <a:lnTo>
                      <a:pt x="6490" y="807"/>
                    </a:lnTo>
                    <a:lnTo>
                      <a:pt x="6489" y="895"/>
                    </a:lnTo>
                    <a:lnTo>
                      <a:pt x="6486" y="983"/>
                    </a:lnTo>
                    <a:lnTo>
                      <a:pt x="6481" y="1070"/>
                    </a:lnTo>
                    <a:lnTo>
                      <a:pt x="6473" y="1156"/>
                    </a:lnTo>
                    <a:lnTo>
                      <a:pt x="6463" y="1242"/>
                    </a:lnTo>
                    <a:lnTo>
                      <a:pt x="6452" y="1327"/>
                    </a:lnTo>
                    <a:lnTo>
                      <a:pt x="6437" y="1412"/>
                    </a:lnTo>
                    <a:lnTo>
                      <a:pt x="6421" y="1495"/>
                    </a:lnTo>
                    <a:lnTo>
                      <a:pt x="6403" y="1579"/>
                    </a:lnTo>
                    <a:lnTo>
                      <a:pt x="6382" y="1661"/>
                    </a:lnTo>
                    <a:lnTo>
                      <a:pt x="6360" y="1742"/>
                    </a:lnTo>
                    <a:lnTo>
                      <a:pt x="6336" y="1823"/>
                    </a:lnTo>
                    <a:lnTo>
                      <a:pt x="6310" y="1903"/>
                    </a:lnTo>
                    <a:lnTo>
                      <a:pt x="6282" y="1982"/>
                    </a:lnTo>
                    <a:lnTo>
                      <a:pt x="6252" y="2060"/>
                    </a:lnTo>
                    <a:lnTo>
                      <a:pt x="6220" y="2137"/>
                    </a:lnTo>
                    <a:lnTo>
                      <a:pt x="6187" y="2214"/>
                    </a:lnTo>
                    <a:lnTo>
                      <a:pt x="6152" y="2288"/>
                    </a:lnTo>
                    <a:lnTo>
                      <a:pt x="6114" y="2363"/>
                    </a:lnTo>
                    <a:lnTo>
                      <a:pt x="6076" y="2435"/>
                    </a:lnTo>
                    <a:lnTo>
                      <a:pt x="6035" y="2508"/>
                    </a:lnTo>
                    <a:lnTo>
                      <a:pt x="5993" y="2579"/>
                    </a:lnTo>
                    <a:lnTo>
                      <a:pt x="5949" y="2648"/>
                    </a:lnTo>
                    <a:lnTo>
                      <a:pt x="5904" y="2717"/>
                    </a:lnTo>
                    <a:lnTo>
                      <a:pt x="5857" y="2785"/>
                    </a:lnTo>
                    <a:lnTo>
                      <a:pt x="5808" y="2851"/>
                    </a:lnTo>
                    <a:lnTo>
                      <a:pt x="5758" y="2916"/>
                    </a:lnTo>
                    <a:lnTo>
                      <a:pt x="5706" y="2979"/>
                    </a:lnTo>
                    <a:lnTo>
                      <a:pt x="5653" y="3042"/>
                    </a:lnTo>
                    <a:lnTo>
                      <a:pt x="5598" y="3103"/>
                    </a:lnTo>
                    <a:lnTo>
                      <a:pt x="5541" y="3163"/>
                    </a:lnTo>
                    <a:lnTo>
                      <a:pt x="5485" y="3222"/>
                    </a:lnTo>
                    <a:lnTo>
                      <a:pt x="5576" y="3175"/>
                    </a:lnTo>
                    <a:lnTo>
                      <a:pt x="5639" y="3161"/>
                    </a:lnTo>
                    <a:lnTo>
                      <a:pt x="5692" y="3102"/>
                    </a:lnTo>
                    <a:lnTo>
                      <a:pt x="5743" y="3042"/>
                    </a:lnTo>
                    <a:lnTo>
                      <a:pt x="5794" y="2981"/>
                    </a:lnTo>
                    <a:lnTo>
                      <a:pt x="5842" y="2919"/>
                    </a:lnTo>
                    <a:lnTo>
                      <a:pt x="5889" y="2856"/>
                    </a:lnTo>
                    <a:lnTo>
                      <a:pt x="5935" y="2791"/>
                    </a:lnTo>
                    <a:lnTo>
                      <a:pt x="5981" y="2726"/>
                    </a:lnTo>
                    <a:lnTo>
                      <a:pt x="6024" y="2660"/>
                    </a:lnTo>
                    <a:lnTo>
                      <a:pt x="6065" y="2593"/>
                    </a:lnTo>
                    <a:lnTo>
                      <a:pt x="6106" y="2523"/>
                    </a:lnTo>
                    <a:lnTo>
                      <a:pt x="6144" y="2454"/>
                    </a:lnTo>
                    <a:lnTo>
                      <a:pt x="6181" y="2384"/>
                    </a:lnTo>
                    <a:lnTo>
                      <a:pt x="6217" y="2312"/>
                    </a:lnTo>
                    <a:lnTo>
                      <a:pt x="6251" y="2240"/>
                    </a:lnTo>
                    <a:lnTo>
                      <a:pt x="6282" y="2166"/>
                    </a:lnTo>
                    <a:lnTo>
                      <a:pt x="6314" y="2093"/>
                    </a:lnTo>
                    <a:lnTo>
                      <a:pt x="6342" y="2017"/>
                    </a:lnTo>
                    <a:lnTo>
                      <a:pt x="6370" y="1942"/>
                    </a:lnTo>
                    <a:lnTo>
                      <a:pt x="6395" y="1865"/>
                    </a:lnTo>
                    <a:lnTo>
                      <a:pt x="6419" y="1787"/>
                    </a:lnTo>
                    <a:lnTo>
                      <a:pt x="6441" y="1710"/>
                    </a:lnTo>
                    <a:lnTo>
                      <a:pt x="6461" y="1631"/>
                    </a:lnTo>
                    <a:lnTo>
                      <a:pt x="6480" y="1551"/>
                    </a:lnTo>
                    <a:lnTo>
                      <a:pt x="6496" y="1471"/>
                    </a:lnTo>
                    <a:lnTo>
                      <a:pt x="6510" y="1390"/>
                    </a:lnTo>
                    <a:lnTo>
                      <a:pt x="6524" y="1309"/>
                    </a:lnTo>
                    <a:lnTo>
                      <a:pt x="6535" y="1227"/>
                    </a:lnTo>
                    <a:lnTo>
                      <a:pt x="6544" y="1144"/>
                    </a:lnTo>
                    <a:lnTo>
                      <a:pt x="6550" y="1060"/>
                    </a:lnTo>
                    <a:lnTo>
                      <a:pt x="6556" y="977"/>
                    </a:lnTo>
                    <a:lnTo>
                      <a:pt x="6559" y="892"/>
                    </a:lnTo>
                    <a:lnTo>
                      <a:pt x="6560" y="807"/>
                    </a:lnTo>
                    <a:close/>
                    <a:moveTo>
                      <a:pt x="0" y="2403"/>
                    </a:moveTo>
                    <a:lnTo>
                      <a:pt x="20" y="2443"/>
                    </a:lnTo>
                    <a:lnTo>
                      <a:pt x="42" y="2481"/>
                    </a:lnTo>
                    <a:lnTo>
                      <a:pt x="63" y="2520"/>
                    </a:lnTo>
                    <a:lnTo>
                      <a:pt x="85" y="2558"/>
                    </a:lnTo>
                    <a:lnTo>
                      <a:pt x="108" y="2597"/>
                    </a:lnTo>
                    <a:lnTo>
                      <a:pt x="131" y="2635"/>
                    </a:lnTo>
                    <a:lnTo>
                      <a:pt x="154" y="2671"/>
                    </a:lnTo>
                    <a:lnTo>
                      <a:pt x="178" y="2709"/>
                    </a:lnTo>
                    <a:lnTo>
                      <a:pt x="204" y="2746"/>
                    </a:lnTo>
                    <a:lnTo>
                      <a:pt x="229" y="2783"/>
                    </a:lnTo>
                    <a:lnTo>
                      <a:pt x="254" y="2818"/>
                    </a:lnTo>
                    <a:lnTo>
                      <a:pt x="279" y="2854"/>
                    </a:lnTo>
                    <a:lnTo>
                      <a:pt x="306" y="2890"/>
                    </a:lnTo>
                    <a:lnTo>
                      <a:pt x="333" y="2924"/>
                    </a:lnTo>
                    <a:lnTo>
                      <a:pt x="360" y="2960"/>
                    </a:lnTo>
                    <a:lnTo>
                      <a:pt x="388" y="2994"/>
                    </a:lnTo>
                    <a:lnTo>
                      <a:pt x="403" y="2977"/>
                    </a:lnTo>
                    <a:lnTo>
                      <a:pt x="463" y="2977"/>
                    </a:lnTo>
                    <a:lnTo>
                      <a:pt x="432" y="2940"/>
                    </a:lnTo>
                    <a:lnTo>
                      <a:pt x="402" y="2902"/>
                    </a:lnTo>
                    <a:lnTo>
                      <a:pt x="372" y="2864"/>
                    </a:lnTo>
                    <a:lnTo>
                      <a:pt x="343" y="2825"/>
                    </a:lnTo>
                    <a:lnTo>
                      <a:pt x="315" y="2786"/>
                    </a:lnTo>
                    <a:lnTo>
                      <a:pt x="287" y="2746"/>
                    </a:lnTo>
                    <a:lnTo>
                      <a:pt x="259" y="2706"/>
                    </a:lnTo>
                    <a:lnTo>
                      <a:pt x="232" y="2665"/>
                    </a:lnTo>
                    <a:lnTo>
                      <a:pt x="206" y="2624"/>
                    </a:lnTo>
                    <a:lnTo>
                      <a:pt x="180" y="2583"/>
                    </a:lnTo>
                    <a:lnTo>
                      <a:pt x="155" y="2541"/>
                    </a:lnTo>
                    <a:lnTo>
                      <a:pt x="130" y="2499"/>
                    </a:lnTo>
                    <a:lnTo>
                      <a:pt x="106" y="2456"/>
                    </a:lnTo>
                    <a:lnTo>
                      <a:pt x="83" y="2413"/>
                    </a:lnTo>
                    <a:lnTo>
                      <a:pt x="60" y="2370"/>
                    </a:lnTo>
                    <a:lnTo>
                      <a:pt x="38" y="2327"/>
                    </a:lnTo>
                    <a:lnTo>
                      <a:pt x="36" y="2329"/>
                    </a:lnTo>
                    <a:lnTo>
                      <a:pt x="0" y="240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698920" y="2743200"/>
                <a:ext cx="2065320" cy="1023840"/>
              </a:xfrm>
              <a:custGeom>
                <a:avLst/>
                <a:gdLst/>
                <a:ahLst/>
                <a:rect l="l" t="t" r="r" b="b"/>
                <a:pathLst>
                  <a:path w="6506" h="3223">
                    <a:moveTo>
                      <a:pt x="6506" y="785"/>
                    </a:moveTo>
                    <a:lnTo>
                      <a:pt x="6506" y="734"/>
                    </a:lnTo>
                    <a:lnTo>
                      <a:pt x="6505" y="684"/>
                    </a:lnTo>
                    <a:lnTo>
                      <a:pt x="6503" y="633"/>
                    </a:lnTo>
                    <a:lnTo>
                      <a:pt x="6501" y="584"/>
                    </a:lnTo>
                    <a:lnTo>
                      <a:pt x="6497" y="534"/>
                    </a:lnTo>
                    <a:lnTo>
                      <a:pt x="6494" y="484"/>
                    </a:lnTo>
                    <a:lnTo>
                      <a:pt x="6488" y="435"/>
                    </a:lnTo>
                    <a:lnTo>
                      <a:pt x="6483" y="386"/>
                    </a:lnTo>
                    <a:lnTo>
                      <a:pt x="6477" y="337"/>
                    </a:lnTo>
                    <a:lnTo>
                      <a:pt x="6470" y="288"/>
                    </a:lnTo>
                    <a:lnTo>
                      <a:pt x="6463" y="240"/>
                    </a:lnTo>
                    <a:lnTo>
                      <a:pt x="6455" y="191"/>
                    </a:lnTo>
                    <a:lnTo>
                      <a:pt x="6446" y="143"/>
                    </a:lnTo>
                    <a:lnTo>
                      <a:pt x="6437" y="95"/>
                    </a:lnTo>
                    <a:lnTo>
                      <a:pt x="6426" y="48"/>
                    </a:lnTo>
                    <a:lnTo>
                      <a:pt x="6416" y="0"/>
                    </a:lnTo>
                    <a:lnTo>
                      <a:pt x="6377" y="20"/>
                    </a:lnTo>
                    <a:lnTo>
                      <a:pt x="6353" y="32"/>
                    </a:lnTo>
                    <a:lnTo>
                      <a:pt x="6363" y="78"/>
                    </a:lnTo>
                    <a:lnTo>
                      <a:pt x="6373" y="123"/>
                    </a:lnTo>
                    <a:lnTo>
                      <a:pt x="6381" y="169"/>
                    </a:lnTo>
                    <a:lnTo>
                      <a:pt x="6389" y="216"/>
                    </a:lnTo>
                    <a:lnTo>
                      <a:pt x="6397" y="262"/>
                    </a:lnTo>
                    <a:lnTo>
                      <a:pt x="6404" y="308"/>
                    </a:lnTo>
                    <a:lnTo>
                      <a:pt x="6410" y="355"/>
                    </a:lnTo>
                    <a:lnTo>
                      <a:pt x="6416" y="402"/>
                    </a:lnTo>
                    <a:lnTo>
                      <a:pt x="6421" y="450"/>
                    </a:lnTo>
                    <a:lnTo>
                      <a:pt x="6425" y="497"/>
                    </a:lnTo>
                    <a:lnTo>
                      <a:pt x="6429" y="544"/>
                    </a:lnTo>
                    <a:lnTo>
                      <a:pt x="6432" y="592"/>
                    </a:lnTo>
                    <a:lnTo>
                      <a:pt x="6435" y="640"/>
                    </a:lnTo>
                    <a:lnTo>
                      <a:pt x="6436" y="688"/>
                    </a:lnTo>
                    <a:lnTo>
                      <a:pt x="6437" y="736"/>
                    </a:lnTo>
                    <a:lnTo>
                      <a:pt x="6438" y="785"/>
                    </a:lnTo>
                    <a:lnTo>
                      <a:pt x="6437" y="875"/>
                    </a:lnTo>
                    <a:lnTo>
                      <a:pt x="6433" y="964"/>
                    </a:lnTo>
                    <a:lnTo>
                      <a:pt x="6427" y="1052"/>
                    </a:lnTo>
                    <a:lnTo>
                      <a:pt x="6419" y="1140"/>
                    </a:lnTo>
                    <a:lnTo>
                      <a:pt x="6408" y="1227"/>
                    </a:lnTo>
                    <a:lnTo>
                      <a:pt x="6396" y="1314"/>
                    </a:lnTo>
                    <a:lnTo>
                      <a:pt x="6381" y="1399"/>
                    </a:lnTo>
                    <a:lnTo>
                      <a:pt x="6364" y="1484"/>
                    </a:lnTo>
                    <a:lnTo>
                      <a:pt x="6345" y="1569"/>
                    </a:lnTo>
                    <a:lnTo>
                      <a:pt x="6324" y="1652"/>
                    </a:lnTo>
                    <a:lnTo>
                      <a:pt x="6301" y="1735"/>
                    </a:lnTo>
                    <a:lnTo>
                      <a:pt x="6277" y="1816"/>
                    </a:lnTo>
                    <a:lnTo>
                      <a:pt x="6250" y="1897"/>
                    </a:lnTo>
                    <a:lnTo>
                      <a:pt x="6220" y="1976"/>
                    </a:lnTo>
                    <a:lnTo>
                      <a:pt x="6189" y="2056"/>
                    </a:lnTo>
                    <a:lnTo>
                      <a:pt x="6156" y="2134"/>
                    </a:lnTo>
                    <a:lnTo>
                      <a:pt x="6121" y="2211"/>
                    </a:lnTo>
                    <a:lnTo>
                      <a:pt x="6085" y="2286"/>
                    </a:lnTo>
                    <a:lnTo>
                      <a:pt x="6046" y="2361"/>
                    </a:lnTo>
                    <a:lnTo>
                      <a:pt x="6006" y="2435"/>
                    </a:lnTo>
                    <a:lnTo>
                      <a:pt x="5964" y="2508"/>
                    </a:lnTo>
                    <a:lnTo>
                      <a:pt x="5920" y="2579"/>
                    </a:lnTo>
                    <a:lnTo>
                      <a:pt x="5874" y="2649"/>
                    </a:lnTo>
                    <a:lnTo>
                      <a:pt x="5827" y="2718"/>
                    </a:lnTo>
                    <a:lnTo>
                      <a:pt x="5778" y="2786"/>
                    </a:lnTo>
                    <a:lnTo>
                      <a:pt x="5727" y="2852"/>
                    </a:lnTo>
                    <a:lnTo>
                      <a:pt x="5676" y="2917"/>
                    </a:lnTo>
                    <a:lnTo>
                      <a:pt x="5622" y="2981"/>
                    </a:lnTo>
                    <a:lnTo>
                      <a:pt x="5566" y="3044"/>
                    </a:lnTo>
                    <a:lnTo>
                      <a:pt x="5510" y="3105"/>
                    </a:lnTo>
                    <a:lnTo>
                      <a:pt x="5452" y="3165"/>
                    </a:lnTo>
                    <a:lnTo>
                      <a:pt x="5392" y="3223"/>
                    </a:lnTo>
                    <a:lnTo>
                      <a:pt x="5443" y="3210"/>
                    </a:lnTo>
                    <a:lnTo>
                      <a:pt x="5557" y="3153"/>
                    </a:lnTo>
                    <a:lnTo>
                      <a:pt x="5559" y="3153"/>
                    </a:lnTo>
                    <a:lnTo>
                      <a:pt x="5614" y="3095"/>
                    </a:lnTo>
                    <a:lnTo>
                      <a:pt x="5666" y="3035"/>
                    </a:lnTo>
                    <a:lnTo>
                      <a:pt x="5718" y="2974"/>
                    </a:lnTo>
                    <a:lnTo>
                      <a:pt x="5768" y="2912"/>
                    </a:lnTo>
                    <a:lnTo>
                      <a:pt x="5817" y="2849"/>
                    </a:lnTo>
                    <a:lnTo>
                      <a:pt x="5864" y="2784"/>
                    </a:lnTo>
                    <a:lnTo>
                      <a:pt x="5910" y="2719"/>
                    </a:lnTo>
                    <a:lnTo>
                      <a:pt x="5954" y="2652"/>
                    </a:lnTo>
                    <a:lnTo>
                      <a:pt x="5997" y="2584"/>
                    </a:lnTo>
                    <a:lnTo>
                      <a:pt x="6038" y="2516"/>
                    </a:lnTo>
                    <a:lnTo>
                      <a:pt x="6078" y="2446"/>
                    </a:lnTo>
                    <a:lnTo>
                      <a:pt x="6117" y="2375"/>
                    </a:lnTo>
                    <a:lnTo>
                      <a:pt x="6153" y="2303"/>
                    </a:lnTo>
                    <a:lnTo>
                      <a:pt x="6188" y="2230"/>
                    </a:lnTo>
                    <a:lnTo>
                      <a:pt x="6221" y="2157"/>
                    </a:lnTo>
                    <a:lnTo>
                      <a:pt x="6253" y="2082"/>
                    </a:lnTo>
                    <a:lnTo>
                      <a:pt x="6282" y="2007"/>
                    </a:lnTo>
                    <a:lnTo>
                      <a:pt x="6311" y="1930"/>
                    </a:lnTo>
                    <a:lnTo>
                      <a:pt x="6337" y="1854"/>
                    </a:lnTo>
                    <a:lnTo>
                      <a:pt x="6361" y="1775"/>
                    </a:lnTo>
                    <a:lnTo>
                      <a:pt x="6384" y="1696"/>
                    </a:lnTo>
                    <a:lnTo>
                      <a:pt x="6405" y="1617"/>
                    </a:lnTo>
                    <a:lnTo>
                      <a:pt x="6424" y="1536"/>
                    </a:lnTo>
                    <a:lnTo>
                      <a:pt x="6441" y="1456"/>
                    </a:lnTo>
                    <a:lnTo>
                      <a:pt x="6456" y="1374"/>
                    </a:lnTo>
                    <a:lnTo>
                      <a:pt x="6469" y="1292"/>
                    </a:lnTo>
                    <a:lnTo>
                      <a:pt x="6481" y="1209"/>
                    </a:lnTo>
                    <a:lnTo>
                      <a:pt x="6489" y="1125"/>
                    </a:lnTo>
                    <a:lnTo>
                      <a:pt x="6497" y="1041"/>
                    </a:lnTo>
                    <a:lnTo>
                      <a:pt x="6502" y="956"/>
                    </a:lnTo>
                    <a:lnTo>
                      <a:pt x="6505" y="871"/>
                    </a:lnTo>
                    <a:lnTo>
                      <a:pt x="6506" y="785"/>
                    </a:lnTo>
                    <a:close/>
                    <a:moveTo>
                      <a:pt x="0" y="2343"/>
                    </a:moveTo>
                    <a:lnTo>
                      <a:pt x="21" y="2384"/>
                    </a:lnTo>
                    <a:lnTo>
                      <a:pt x="43" y="2425"/>
                    </a:lnTo>
                    <a:lnTo>
                      <a:pt x="65" y="2465"/>
                    </a:lnTo>
                    <a:lnTo>
                      <a:pt x="87" y="2505"/>
                    </a:lnTo>
                    <a:lnTo>
                      <a:pt x="111" y="2544"/>
                    </a:lnTo>
                    <a:lnTo>
                      <a:pt x="134" y="2583"/>
                    </a:lnTo>
                    <a:lnTo>
                      <a:pt x="158" y="2622"/>
                    </a:lnTo>
                    <a:lnTo>
                      <a:pt x="184" y="2661"/>
                    </a:lnTo>
                    <a:lnTo>
                      <a:pt x="209" y="2699"/>
                    </a:lnTo>
                    <a:lnTo>
                      <a:pt x="235" y="2737"/>
                    </a:lnTo>
                    <a:lnTo>
                      <a:pt x="260" y="2774"/>
                    </a:lnTo>
                    <a:lnTo>
                      <a:pt x="288" y="2811"/>
                    </a:lnTo>
                    <a:lnTo>
                      <a:pt x="315" y="2848"/>
                    </a:lnTo>
                    <a:lnTo>
                      <a:pt x="342" y="2884"/>
                    </a:lnTo>
                    <a:lnTo>
                      <a:pt x="371" y="2920"/>
                    </a:lnTo>
                    <a:lnTo>
                      <a:pt x="399" y="2955"/>
                    </a:lnTo>
                    <a:lnTo>
                      <a:pt x="468" y="2955"/>
                    </a:lnTo>
                    <a:lnTo>
                      <a:pt x="489" y="2955"/>
                    </a:lnTo>
                    <a:lnTo>
                      <a:pt x="456" y="2916"/>
                    </a:lnTo>
                    <a:lnTo>
                      <a:pt x="424" y="2876"/>
                    </a:lnTo>
                    <a:lnTo>
                      <a:pt x="393" y="2836"/>
                    </a:lnTo>
                    <a:lnTo>
                      <a:pt x="362" y="2795"/>
                    </a:lnTo>
                    <a:lnTo>
                      <a:pt x="332" y="2754"/>
                    </a:lnTo>
                    <a:lnTo>
                      <a:pt x="302" y="2712"/>
                    </a:lnTo>
                    <a:lnTo>
                      <a:pt x="273" y="2670"/>
                    </a:lnTo>
                    <a:lnTo>
                      <a:pt x="245" y="2628"/>
                    </a:lnTo>
                    <a:lnTo>
                      <a:pt x="217" y="2585"/>
                    </a:lnTo>
                    <a:lnTo>
                      <a:pt x="190" y="2542"/>
                    </a:lnTo>
                    <a:lnTo>
                      <a:pt x="164" y="2498"/>
                    </a:lnTo>
                    <a:lnTo>
                      <a:pt x="137" y="2453"/>
                    </a:lnTo>
                    <a:lnTo>
                      <a:pt x="112" y="2409"/>
                    </a:lnTo>
                    <a:lnTo>
                      <a:pt x="88" y="2364"/>
                    </a:lnTo>
                    <a:lnTo>
                      <a:pt x="64" y="2319"/>
                    </a:lnTo>
                    <a:lnTo>
                      <a:pt x="41" y="2272"/>
                    </a:lnTo>
                    <a:lnTo>
                      <a:pt x="17" y="2307"/>
                    </a:lnTo>
                    <a:lnTo>
                      <a:pt x="0" y="234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703600" y="2749680"/>
                <a:ext cx="2049480" cy="1022400"/>
              </a:xfrm>
              <a:custGeom>
                <a:avLst/>
                <a:gdLst/>
                <a:ahLst/>
                <a:rect l="l" t="t" r="r" b="b"/>
                <a:pathLst>
                  <a:path w="6452" h="3224">
                    <a:moveTo>
                      <a:pt x="6452" y="769"/>
                    </a:moveTo>
                    <a:lnTo>
                      <a:pt x="6452" y="719"/>
                    </a:lnTo>
                    <a:lnTo>
                      <a:pt x="6451" y="670"/>
                    </a:lnTo>
                    <a:lnTo>
                      <a:pt x="6449" y="621"/>
                    </a:lnTo>
                    <a:lnTo>
                      <a:pt x="6447" y="572"/>
                    </a:lnTo>
                    <a:lnTo>
                      <a:pt x="6444" y="523"/>
                    </a:lnTo>
                    <a:lnTo>
                      <a:pt x="6440" y="475"/>
                    </a:lnTo>
                    <a:lnTo>
                      <a:pt x="6436" y="426"/>
                    </a:lnTo>
                    <a:lnTo>
                      <a:pt x="6430" y="378"/>
                    </a:lnTo>
                    <a:lnTo>
                      <a:pt x="6425" y="331"/>
                    </a:lnTo>
                    <a:lnTo>
                      <a:pt x="6418" y="282"/>
                    </a:lnTo>
                    <a:lnTo>
                      <a:pt x="6411" y="235"/>
                    </a:lnTo>
                    <a:lnTo>
                      <a:pt x="6403" y="188"/>
                    </a:lnTo>
                    <a:lnTo>
                      <a:pt x="6395" y="141"/>
                    </a:lnTo>
                    <a:lnTo>
                      <a:pt x="6385" y="93"/>
                    </a:lnTo>
                    <a:lnTo>
                      <a:pt x="6376" y="47"/>
                    </a:lnTo>
                    <a:lnTo>
                      <a:pt x="6365" y="0"/>
                    </a:lnTo>
                    <a:lnTo>
                      <a:pt x="6358" y="4"/>
                    </a:lnTo>
                    <a:lnTo>
                      <a:pt x="6302" y="32"/>
                    </a:lnTo>
                    <a:lnTo>
                      <a:pt x="6312" y="76"/>
                    </a:lnTo>
                    <a:lnTo>
                      <a:pt x="6321" y="121"/>
                    </a:lnTo>
                    <a:lnTo>
                      <a:pt x="6329" y="166"/>
                    </a:lnTo>
                    <a:lnTo>
                      <a:pt x="6337" y="211"/>
                    </a:lnTo>
                    <a:lnTo>
                      <a:pt x="6344" y="256"/>
                    </a:lnTo>
                    <a:lnTo>
                      <a:pt x="6352" y="302"/>
                    </a:lnTo>
                    <a:lnTo>
                      <a:pt x="6358" y="348"/>
                    </a:lnTo>
                    <a:lnTo>
                      <a:pt x="6363" y="394"/>
                    </a:lnTo>
                    <a:lnTo>
                      <a:pt x="6368" y="440"/>
                    </a:lnTo>
                    <a:lnTo>
                      <a:pt x="6373" y="486"/>
                    </a:lnTo>
                    <a:lnTo>
                      <a:pt x="6376" y="533"/>
                    </a:lnTo>
                    <a:lnTo>
                      <a:pt x="6379" y="580"/>
                    </a:lnTo>
                    <a:lnTo>
                      <a:pt x="6381" y="627"/>
                    </a:lnTo>
                    <a:lnTo>
                      <a:pt x="6383" y="674"/>
                    </a:lnTo>
                    <a:lnTo>
                      <a:pt x="6384" y="721"/>
                    </a:lnTo>
                    <a:lnTo>
                      <a:pt x="6384" y="769"/>
                    </a:lnTo>
                    <a:lnTo>
                      <a:pt x="6383" y="860"/>
                    </a:lnTo>
                    <a:lnTo>
                      <a:pt x="6379" y="950"/>
                    </a:lnTo>
                    <a:lnTo>
                      <a:pt x="6374" y="1040"/>
                    </a:lnTo>
                    <a:lnTo>
                      <a:pt x="6365" y="1128"/>
                    </a:lnTo>
                    <a:lnTo>
                      <a:pt x="6355" y="1216"/>
                    </a:lnTo>
                    <a:lnTo>
                      <a:pt x="6341" y="1304"/>
                    </a:lnTo>
                    <a:lnTo>
                      <a:pt x="6326" y="1390"/>
                    </a:lnTo>
                    <a:lnTo>
                      <a:pt x="6308" y="1476"/>
                    </a:lnTo>
                    <a:lnTo>
                      <a:pt x="6290" y="1561"/>
                    </a:lnTo>
                    <a:lnTo>
                      <a:pt x="6267" y="1645"/>
                    </a:lnTo>
                    <a:lnTo>
                      <a:pt x="6243" y="1729"/>
                    </a:lnTo>
                    <a:lnTo>
                      <a:pt x="6218" y="1811"/>
                    </a:lnTo>
                    <a:lnTo>
                      <a:pt x="6190" y="1893"/>
                    </a:lnTo>
                    <a:lnTo>
                      <a:pt x="6159" y="1974"/>
                    </a:lnTo>
                    <a:lnTo>
                      <a:pt x="6128" y="2053"/>
                    </a:lnTo>
                    <a:lnTo>
                      <a:pt x="6093" y="2132"/>
                    </a:lnTo>
                    <a:lnTo>
                      <a:pt x="6057" y="2209"/>
                    </a:lnTo>
                    <a:lnTo>
                      <a:pt x="6019" y="2286"/>
                    </a:lnTo>
                    <a:lnTo>
                      <a:pt x="5979" y="2360"/>
                    </a:lnTo>
                    <a:lnTo>
                      <a:pt x="5938" y="2435"/>
                    </a:lnTo>
                    <a:lnTo>
                      <a:pt x="5894" y="2507"/>
                    </a:lnTo>
                    <a:lnTo>
                      <a:pt x="5849" y="2580"/>
                    </a:lnTo>
                    <a:lnTo>
                      <a:pt x="5802" y="2650"/>
                    </a:lnTo>
                    <a:lnTo>
                      <a:pt x="5753" y="2720"/>
                    </a:lnTo>
                    <a:lnTo>
                      <a:pt x="5703" y="2787"/>
                    </a:lnTo>
                    <a:lnTo>
                      <a:pt x="5651" y="2854"/>
                    </a:lnTo>
                    <a:lnTo>
                      <a:pt x="5597" y="2919"/>
                    </a:lnTo>
                    <a:lnTo>
                      <a:pt x="5542" y="2983"/>
                    </a:lnTo>
                    <a:lnTo>
                      <a:pt x="5485" y="3045"/>
                    </a:lnTo>
                    <a:lnTo>
                      <a:pt x="5427" y="3106"/>
                    </a:lnTo>
                    <a:lnTo>
                      <a:pt x="5367" y="3166"/>
                    </a:lnTo>
                    <a:lnTo>
                      <a:pt x="5306" y="3224"/>
                    </a:lnTo>
                    <a:lnTo>
                      <a:pt x="5313" y="3221"/>
                    </a:lnTo>
                    <a:lnTo>
                      <a:pt x="5424" y="3194"/>
                    </a:lnTo>
                    <a:lnTo>
                      <a:pt x="5447" y="3184"/>
                    </a:lnTo>
                    <a:lnTo>
                      <a:pt x="5503" y="3125"/>
                    </a:lnTo>
                    <a:lnTo>
                      <a:pt x="5560" y="3065"/>
                    </a:lnTo>
                    <a:lnTo>
                      <a:pt x="5615" y="3004"/>
                    </a:lnTo>
                    <a:lnTo>
                      <a:pt x="5668" y="2941"/>
                    </a:lnTo>
                    <a:lnTo>
                      <a:pt x="5720" y="2878"/>
                    </a:lnTo>
                    <a:lnTo>
                      <a:pt x="5770" y="2813"/>
                    </a:lnTo>
                    <a:lnTo>
                      <a:pt x="5819" y="2747"/>
                    </a:lnTo>
                    <a:lnTo>
                      <a:pt x="5866" y="2679"/>
                    </a:lnTo>
                    <a:lnTo>
                      <a:pt x="5911" y="2610"/>
                    </a:lnTo>
                    <a:lnTo>
                      <a:pt x="5955" y="2541"/>
                    </a:lnTo>
                    <a:lnTo>
                      <a:pt x="5997" y="2470"/>
                    </a:lnTo>
                    <a:lnTo>
                      <a:pt x="6038" y="2397"/>
                    </a:lnTo>
                    <a:lnTo>
                      <a:pt x="6076" y="2325"/>
                    </a:lnTo>
                    <a:lnTo>
                      <a:pt x="6114" y="2250"/>
                    </a:lnTo>
                    <a:lnTo>
                      <a:pt x="6149" y="2176"/>
                    </a:lnTo>
                    <a:lnTo>
                      <a:pt x="6182" y="2099"/>
                    </a:lnTo>
                    <a:lnTo>
                      <a:pt x="6214" y="2022"/>
                    </a:lnTo>
                    <a:lnTo>
                      <a:pt x="6244" y="1944"/>
                    </a:lnTo>
                    <a:lnTo>
                      <a:pt x="6272" y="1865"/>
                    </a:lnTo>
                    <a:lnTo>
                      <a:pt x="6298" y="1785"/>
                    </a:lnTo>
                    <a:lnTo>
                      <a:pt x="6322" y="1704"/>
                    </a:lnTo>
                    <a:lnTo>
                      <a:pt x="6344" y="1623"/>
                    </a:lnTo>
                    <a:lnTo>
                      <a:pt x="6365" y="1541"/>
                    </a:lnTo>
                    <a:lnTo>
                      <a:pt x="6383" y="1457"/>
                    </a:lnTo>
                    <a:lnTo>
                      <a:pt x="6399" y="1374"/>
                    </a:lnTo>
                    <a:lnTo>
                      <a:pt x="6414" y="1289"/>
                    </a:lnTo>
                    <a:lnTo>
                      <a:pt x="6425" y="1204"/>
                    </a:lnTo>
                    <a:lnTo>
                      <a:pt x="6435" y="1118"/>
                    </a:lnTo>
                    <a:lnTo>
                      <a:pt x="6443" y="1032"/>
                    </a:lnTo>
                    <a:lnTo>
                      <a:pt x="6448" y="945"/>
                    </a:lnTo>
                    <a:lnTo>
                      <a:pt x="6451" y="857"/>
                    </a:lnTo>
                    <a:lnTo>
                      <a:pt x="6452" y="769"/>
                    </a:lnTo>
                    <a:close/>
                    <a:moveTo>
                      <a:pt x="0" y="2289"/>
                    </a:moveTo>
                    <a:lnTo>
                      <a:pt x="22" y="2332"/>
                    </a:lnTo>
                    <a:lnTo>
                      <a:pt x="45" y="2375"/>
                    </a:lnTo>
                    <a:lnTo>
                      <a:pt x="68" y="2418"/>
                    </a:lnTo>
                    <a:lnTo>
                      <a:pt x="92" y="2461"/>
                    </a:lnTo>
                    <a:lnTo>
                      <a:pt x="117" y="2503"/>
                    </a:lnTo>
                    <a:lnTo>
                      <a:pt x="142" y="2545"/>
                    </a:lnTo>
                    <a:lnTo>
                      <a:pt x="168" y="2586"/>
                    </a:lnTo>
                    <a:lnTo>
                      <a:pt x="194" y="2627"/>
                    </a:lnTo>
                    <a:lnTo>
                      <a:pt x="221" y="2668"/>
                    </a:lnTo>
                    <a:lnTo>
                      <a:pt x="249" y="2708"/>
                    </a:lnTo>
                    <a:lnTo>
                      <a:pt x="277" y="2748"/>
                    </a:lnTo>
                    <a:lnTo>
                      <a:pt x="305" y="2787"/>
                    </a:lnTo>
                    <a:lnTo>
                      <a:pt x="334" y="2826"/>
                    </a:lnTo>
                    <a:lnTo>
                      <a:pt x="364" y="2864"/>
                    </a:lnTo>
                    <a:lnTo>
                      <a:pt x="394" y="2902"/>
                    </a:lnTo>
                    <a:lnTo>
                      <a:pt x="425" y="2939"/>
                    </a:lnTo>
                    <a:lnTo>
                      <a:pt x="449" y="2939"/>
                    </a:lnTo>
                    <a:lnTo>
                      <a:pt x="506" y="2939"/>
                    </a:lnTo>
                    <a:lnTo>
                      <a:pt x="512" y="2937"/>
                    </a:lnTo>
                    <a:lnTo>
                      <a:pt x="478" y="2896"/>
                    </a:lnTo>
                    <a:lnTo>
                      <a:pt x="444" y="2855"/>
                    </a:lnTo>
                    <a:lnTo>
                      <a:pt x="412" y="2813"/>
                    </a:lnTo>
                    <a:lnTo>
                      <a:pt x="379" y="2771"/>
                    </a:lnTo>
                    <a:lnTo>
                      <a:pt x="347" y="2728"/>
                    </a:lnTo>
                    <a:lnTo>
                      <a:pt x="316" y="2684"/>
                    </a:lnTo>
                    <a:lnTo>
                      <a:pt x="285" y="2641"/>
                    </a:lnTo>
                    <a:lnTo>
                      <a:pt x="256" y="2596"/>
                    </a:lnTo>
                    <a:lnTo>
                      <a:pt x="227" y="2552"/>
                    </a:lnTo>
                    <a:lnTo>
                      <a:pt x="198" y="2505"/>
                    </a:lnTo>
                    <a:lnTo>
                      <a:pt x="171" y="2460"/>
                    </a:lnTo>
                    <a:lnTo>
                      <a:pt x="145" y="2414"/>
                    </a:lnTo>
                    <a:lnTo>
                      <a:pt x="118" y="2367"/>
                    </a:lnTo>
                    <a:lnTo>
                      <a:pt x="93" y="2319"/>
                    </a:lnTo>
                    <a:lnTo>
                      <a:pt x="68" y="2272"/>
                    </a:lnTo>
                    <a:lnTo>
                      <a:pt x="44" y="2224"/>
                    </a:lnTo>
                    <a:lnTo>
                      <a:pt x="0" y="2289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711520" y="2754360"/>
                <a:ext cx="2030400" cy="1022400"/>
              </a:xfrm>
              <a:custGeom>
                <a:avLst/>
                <a:gdLst/>
                <a:ahLst/>
                <a:rect l="l" t="t" r="r" b="b"/>
                <a:pathLst>
                  <a:path w="6397" h="3221">
                    <a:moveTo>
                      <a:pt x="6397" y="753"/>
                    </a:moveTo>
                    <a:lnTo>
                      <a:pt x="6396" y="704"/>
                    </a:lnTo>
                    <a:lnTo>
                      <a:pt x="6395" y="656"/>
                    </a:lnTo>
                    <a:lnTo>
                      <a:pt x="6394" y="608"/>
                    </a:lnTo>
                    <a:lnTo>
                      <a:pt x="6392" y="560"/>
                    </a:lnTo>
                    <a:lnTo>
                      <a:pt x="6388" y="512"/>
                    </a:lnTo>
                    <a:lnTo>
                      <a:pt x="6384" y="465"/>
                    </a:lnTo>
                    <a:lnTo>
                      <a:pt x="6380" y="418"/>
                    </a:lnTo>
                    <a:lnTo>
                      <a:pt x="6375" y="370"/>
                    </a:lnTo>
                    <a:lnTo>
                      <a:pt x="6369" y="323"/>
                    </a:lnTo>
                    <a:lnTo>
                      <a:pt x="6363" y="276"/>
                    </a:lnTo>
                    <a:lnTo>
                      <a:pt x="6356" y="230"/>
                    </a:lnTo>
                    <a:lnTo>
                      <a:pt x="6348" y="184"/>
                    </a:lnTo>
                    <a:lnTo>
                      <a:pt x="6340" y="137"/>
                    </a:lnTo>
                    <a:lnTo>
                      <a:pt x="6332" y="91"/>
                    </a:lnTo>
                    <a:lnTo>
                      <a:pt x="6322" y="46"/>
                    </a:lnTo>
                    <a:lnTo>
                      <a:pt x="6312" y="0"/>
                    </a:lnTo>
                    <a:lnTo>
                      <a:pt x="6279" y="16"/>
                    </a:lnTo>
                    <a:lnTo>
                      <a:pt x="6249" y="31"/>
                    </a:lnTo>
                    <a:lnTo>
                      <a:pt x="6258" y="75"/>
                    </a:lnTo>
                    <a:lnTo>
                      <a:pt x="6266" y="119"/>
                    </a:lnTo>
                    <a:lnTo>
                      <a:pt x="6275" y="164"/>
                    </a:lnTo>
                    <a:lnTo>
                      <a:pt x="6282" y="208"/>
                    </a:lnTo>
                    <a:lnTo>
                      <a:pt x="6290" y="252"/>
                    </a:lnTo>
                    <a:lnTo>
                      <a:pt x="6296" y="297"/>
                    </a:lnTo>
                    <a:lnTo>
                      <a:pt x="6302" y="341"/>
                    </a:lnTo>
                    <a:lnTo>
                      <a:pt x="6307" y="386"/>
                    </a:lnTo>
                    <a:lnTo>
                      <a:pt x="6312" y="431"/>
                    </a:lnTo>
                    <a:lnTo>
                      <a:pt x="6316" y="478"/>
                    </a:lnTo>
                    <a:lnTo>
                      <a:pt x="6320" y="523"/>
                    </a:lnTo>
                    <a:lnTo>
                      <a:pt x="6322" y="569"/>
                    </a:lnTo>
                    <a:lnTo>
                      <a:pt x="6324" y="614"/>
                    </a:lnTo>
                    <a:lnTo>
                      <a:pt x="6326" y="660"/>
                    </a:lnTo>
                    <a:lnTo>
                      <a:pt x="6327" y="706"/>
                    </a:lnTo>
                    <a:lnTo>
                      <a:pt x="6327" y="753"/>
                    </a:lnTo>
                    <a:lnTo>
                      <a:pt x="6326" y="845"/>
                    </a:lnTo>
                    <a:lnTo>
                      <a:pt x="6322" y="936"/>
                    </a:lnTo>
                    <a:lnTo>
                      <a:pt x="6317" y="1027"/>
                    </a:lnTo>
                    <a:lnTo>
                      <a:pt x="6307" y="1116"/>
                    </a:lnTo>
                    <a:lnTo>
                      <a:pt x="6297" y="1205"/>
                    </a:lnTo>
                    <a:lnTo>
                      <a:pt x="6283" y="1293"/>
                    </a:lnTo>
                    <a:lnTo>
                      <a:pt x="6268" y="1382"/>
                    </a:lnTo>
                    <a:lnTo>
                      <a:pt x="6250" y="1468"/>
                    </a:lnTo>
                    <a:lnTo>
                      <a:pt x="6230" y="1554"/>
                    </a:lnTo>
                    <a:lnTo>
                      <a:pt x="6208" y="1639"/>
                    </a:lnTo>
                    <a:lnTo>
                      <a:pt x="6182" y="1723"/>
                    </a:lnTo>
                    <a:lnTo>
                      <a:pt x="6156" y="1806"/>
                    </a:lnTo>
                    <a:lnTo>
                      <a:pt x="6127" y="1889"/>
                    </a:lnTo>
                    <a:lnTo>
                      <a:pt x="6096" y="1970"/>
                    </a:lnTo>
                    <a:lnTo>
                      <a:pt x="6063" y="2049"/>
                    </a:lnTo>
                    <a:lnTo>
                      <a:pt x="6028" y="2129"/>
                    </a:lnTo>
                    <a:lnTo>
                      <a:pt x="5990" y="2207"/>
                    </a:lnTo>
                    <a:lnTo>
                      <a:pt x="5951" y="2284"/>
                    </a:lnTo>
                    <a:lnTo>
                      <a:pt x="5910" y="2359"/>
                    </a:lnTo>
                    <a:lnTo>
                      <a:pt x="5867" y="2434"/>
                    </a:lnTo>
                    <a:lnTo>
                      <a:pt x="5823" y="2507"/>
                    </a:lnTo>
                    <a:lnTo>
                      <a:pt x="5776" y="2579"/>
                    </a:lnTo>
                    <a:lnTo>
                      <a:pt x="5727" y="2650"/>
                    </a:lnTo>
                    <a:lnTo>
                      <a:pt x="5677" y="2719"/>
                    </a:lnTo>
                    <a:lnTo>
                      <a:pt x="5625" y="2786"/>
                    </a:lnTo>
                    <a:lnTo>
                      <a:pt x="5572" y="2854"/>
                    </a:lnTo>
                    <a:lnTo>
                      <a:pt x="5516" y="2919"/>
                    </a:lnTo>
                    <a:lnTo>
                      <a:pt x="5459" y="2982"/>
                    </a:lnTo>
                    <a:lnTo>
                      <a:pt x="5401" y="3045"/>
                    </a:lnTo>
                    <a:lnTo>
                      <a:pt x="5340" y="3105"/>
                    </a:lnTo>
                    <a:lnTo>
                      <a:pt x="5279" y="3163"/>
                    </a:lnTo>
                    <a:lnTo>
                      <a:pt x="5216" y="3221"/>
                    </a:lnTo>
                    <a:lnTo>
                      <a:pt x="5291" y="3205"/>
                    </a:lnTo>
                    <a:lnTo>
                      <a:pt x="5351" y="3191"/>
                    </a:lnTo>
                    <a:lnTo>
                      <a:pt x="5411" y="3133"/>
                    </a:lnTo>
                    <a:lnTo>
                      <a:pt x="5469" y="3073"/>
                    </a:lnTo>
                    <a:lnTo>
                      <a:pt x="5525" y="3012"/>
                    </a:lnTo>
                    <a:lnTo>
                      <a:pt x="5581" y="2949"/>
                    </a:lnTo>
                    <a:lnTo>
                      <a:pt x="5635" y="2885"/>
                    </a:lnTo>
                    <a:lnTo>
                      <a:pt x="5686" y="2820"/>
                    </a:lnTo>
                    <a:lnTo>
                      <a:pt x="5738" y="2754"/>
                    </a:lnTo>
                    <a:lnTo>
                      <a:pt x="5786" y="2686"/>
                    </a:lnTo>
                    <a:lnTo>
                      <a:pt x="5833" y="2617"/>
                    </a:lnTo>
                    <a:lnTo>
                      <a:pt x="5879" y="2547"/>
                    </a:lnTo>
                    <a:lnTo>
                      <a:pt x="5923" y="2476"/>
                    </a:lnTo>
                    <a:lnTo>
                      <a:pt x="5965" y="2403"/>
                    </a:lnTo>
                    <a:lnTo>
                      <a:pt x="6005" y="2329"/>
                    </a:lnTo>
                    <a:lnTo>
                      <a:pt x="6044" y="2254"/>
                    </a:lnTo>
                    <a:lnTo>
                      <a:pt x="6080" y="2179"/>
                    </a:lnTo>
                    <a:lnTo>
                      <a:pt x="6115" y="2102"/>
                    </a:lnTo>
                    <a:lnTo>
                      <a:pt x="6149" y="2024"/>
                    </a:lnTo>
                    <a:lnTo>
                      <a:pt x="6179" y="1944"/>
                    </a:lnTo>
                    <a:lnTo>
                      <a:pt x="6209" y="1865"/>
                    </a:lnTo>
                    <a:lnTo>
                      <a:pt x="6236" y="1784"/>
                    </a:lnTo>
                    <a:lnTo>
                      <a:pt x="6260" y="1703"/>
                    </a:lnTo>
                    <a:lnTo>
                      <a:pt x="6283" y="1620"/>
                    </a:lnTo>
                    <a:lnTo>
                      <a:pt x="6304" y="1537"/>
                    </a:lnTo>
                    <a:lnTo>
                      <a:pt x="6323" y="1452"/>
                    </a:lnTo>
                    <a:lnTo>
                      <a:pt x="6340" y="1367"/>
                    </a:lnTo>
                    <a:lnTo>
                      <a:pt x="6355" y="1282"/>
                    </a:lnTo>
                    <a:lnTo>
                      <a:pt x="6367" y="1195"/>
                    </a:lnTo>
                    <a:lnTo>
                      <a:pt x="6378" y="1108"/>
                    </a:lnTo>
                    <a:lnTo>
                      <a:pt x="6386" y="1020"/>
                    </a:lnTo>
                    <a:lnTo>
                      <a:pt x="6392" y="932"/>
                    </a:lnTo>
                    <a:lnTo>
                      <a:pt x="6396" y="843"/>
                    </a:lnTo>
                    <a:lnTo>
                      <a:pt x="6397" y="753"/>
                    </a:lnTo>
                    <a:close/>
                    <a:moveTo>
                      <a:pt x="0" y="2240"/>
                    </a:moveTo>
                    <a:lnTo>
                      <a:pt x="23" y="2287"/>
                    </a:lnTo>
                    <a:lnTo>
                      <a:pt x="47" y="2332"/>
                    </a:lnTo>
                    <a:lnTo>
                      <a:pt x="71" y="2377"/>
                    </a:lnTo>
                    <a:lnTo>
                      <a:pt x="96" y="2421"/>
                    </a:lnTo>
                    <a:lnTo>
                      <a:pt x="123" y="2466"/>
                    </a:lnTo>
                    <a:lnTo>
                      <a:pt x="149" y="2510"/>
                    </a:lnTo>
                    <a:lnTo>
                      <a:pt x="176" y="2553"/>
                    </a:lnTo>
                    <a:lnTo>
                      <a:pt x="204" y="2596"/>
                    </a:lnTo>
                    <a:lnTo>
                      <a:pt x="232" y="2638"/>
                    </a:lnTo>
                    <a:lnTo>
                      <a:pt x="261" y="2680"/>
                    </a:lnTo>
                    <a:lnTo>
                      <a:pt x="291" y="2722"/>
                    </a:lnTo>
                    <a:lnTo>
                      <a:pt x="321" y="2763"/>
                    </a:lnTo>
                    <a:lnTo>
                      <a:pt x="352" y="2804"/>
                    </a:lnTo>
                    <a:lnTo>
                      <a:pt x="383" y="2844"/>
                    </a:lnTo>
                    <a:lnTo>
                      <a:pt x="415" y="2884"/>
                    </a:lnTo>
                    <a:lnTo>
                      <a:pt x="447" y="2923"/>
                    </a:lnTo>
                    <a:lnTo>
                      <a:pt x="484" y="2923"/>
                    </a:lnTo>
                    <a:lnTo>
                      <a:pt x="522" y="2905"/>
                    </a:lnTo>
                    <a:lnTo>
                      <a:pt x="487" y="2864"/>
                    </a:lnTo>
                    <a:lnTo>
                      <a:pt x="454" y="2822"/>
                    </a:lnTo>
                    <a:lnTo>
                      <a:pt x="419" y="2780"/>
                    </a:lnTo>
                    <a:lnTo>
                      <a:pt x="386" y="2737"/>
                    </a:lnTo>
                    <a:lnTo>
                      <a:pt x="354" y="2693"/>
                    </a:lnTo>
                    <a:lnTo>
                      <a:pt x="322" y="2650"/>
                    </a:lnTo>
                    <a:lnTo>
                      <a:pt x="292" y="2605"/>
                    </a:lnTo>
                    <a:lnTo>
                      <a:pt x="261" y="2560"/>
                    </a:lnTo>
                    <a:lnTo>
                      <a:pt x="232" y="2515"/>
                    </a:lnTo>
                    <a:lnTo>
                      <a:pt x="204" y="2468"/>
                    </a:lnTo>
                    <a:lnTo>
                      <a:pt x="176" y="2421"/>
                    </a:lnTo>
                    <a:lnTo>
                      <a:pt x="149" y="2375"/>
                    </a:lnTo>
                    <a:lnTo>
                      <a:pt x="123" y="2327"/>
                    </a:lnTo>
                    <a:lnTo>
                      <a:pt x="96" y="2279"/>
                    </a:lnTo>
                    <a:lnTo>
                      <a:pt x="72" y="2230"/>
                    </a:lnTo>
                    <a:lnTo>
                      <a:pt x="48" y="2182"/>
                    </a:lnTo>
                    <a:lnTo>
                      <a:pt x="33" y="2191"/>
                    </a:lnTo>
                    <a:lnTo>
                      <a:pt x="0" y="224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717640" y="2759040"/>
                <a:ext cx="2013120" cy="1022400"/>
              </a:xfrm>
              <a:custGeom>
                <a:avLst/>
                <a:gdLst/>
                <a:ahLst/>
                <a:rect l="l" t="t" r="r" b="b"/>
                <a:pathLst>
                  <a:path w="6340" h="3220">
                    <a:moveTo>
                      <a:pt x="6340" y="737"/>
                    </a:moveTo>
                    <a:lnTo>
                      <a:pt x="6340" y="689"/>
                    </a:lnTo>
                    <a:lnTo>
                      <a:pt x="6339" y="642"/>
                    </a:lnTo>
                    <a:lnTo>
                      <a:pt x="6337" y="595"/>
                    </a:lnTo>
                    <a:lnTo>
                      <a:pt x="6335" y="548"/>
                    </a:lnTo>
                    <a:lnTo>
                      <a:pt x="6332" y="501"/>
                    </a:lnTo>
                    <a:lnTo>
                      <a:pt x="6329" y="454"/>
                    </a:lnTo>
                    <a:lnTo>
                      <a:pt x="6324" y="408"/>
                    </a:lnTo>
                    <a:lnTo>
                      <a:pt x="6319" y="362"/>
                    </a:lnTo>
                    <a:lnTo>
                      <a:pt x="6314" y="316"/>
                    </a:lnTo>
                    <a:lnTo>
                      <a:pt x="6308" y="270"/>
                    </a:lnTo>
                    <a:lnTo>
                      <a:pt x="6300" y="224"/>
                    </a:lnTo>
                    <a:lnTo>
                      <a:pt x="6293" y="179"/>
                    </a:lnTo>
                    <a:lnTo>
                      <a:pt x="6285" y="134"/>
                    </a:lnTo>
                    <a:lnTo>
                      <a:pt x="6277" y="89"/>
                    </a:lnTo>
                    <a:lnTo>
                      <a:pt x="6268" y="44"/>
                    </a:lnTo>
                    <a:lnTo>
                      <a:pt x="6258" y="0"/>
                    </a:lnTo>
                    <a:lnTo>
                      <a:pt x="6257" y="0"/>
                    </a:lnTo>
                    <a:lnTo>
                      <a:pt x="6200" y="29"/>
                    </a:lnTo>
                    <a:lnTo>
                      <a:pt x="6195" y="32"/>
                    </a:lnTo>
                    <a:lnTo>
                      <a:pt x="6203" y="75"/>
                    </a:lnTo>
                    <a:lnTo>
                      <a:pt x="6212" y="117"/>
                    </a:lnTo>
                    <a:lnTo>
                      <a:pt x="6220" y="160"/>
                    </a:lnTo>
                    <a:lnTo>
                      <a:pt x="6228" y="204"/>
                    </a:lnTo>
                    <a:lnTo>
                      <a:pt x="6234" y="247"/>
                    </a:lnTo>
                    <a:lnTo>
                      <a:pt x="6240" y="291"/>
                    </a:lnTo>
                    <a:lnTo>
                      <a:pt x="6247" y="334"/>
                    </a:lnTo>
                    <a:lnTo>
                      <a:pt x="6252" y="379"/>
                    </a:lnTo>
                    <a:lnTo>
                      <a:pt x="6256" y="423"/>
                    </a:lnTo>
                    <a:lnTo>
                      <a:pt x="6260" y="468"/>
                    </a:lnTo>
                    <a:lnTo>
                      <a:pt x="6263" y="512"/>
                    </a:lnTo>
                    <a:lnTo>
                      <a:pt x="6267" y="557"/>
                    </a:lnTo>
                    <a:lnTo>
                      <a:pt x="6269" y="601"/>
                    </a:lnTo>
                    <a:lnTo>
                      <a:pt x="6270" y="646"/>
                    </a:lnTo>
                    <a:lnTo>
                      <a:pt x="6271" y="691"/>
                    </a:lnTo>
                    <a:lnTo>
                      <a:pt x="6272" y="737"/>
                    </a:lnTo>
                    <a:lnTo>
                      <a:pt x="6270" y="830"/>
                    </a:lnTo>
                    <a:lnTo>
                      <a:pt x="6267" y="922"/>
                    </a:lnTo>
                    <a:lnTo>
                      <a:pt x="6259" y="1014"/>
                    </a:lnTo>
                    <a:lnTo>
                      <a:pt x="6251" y="1104"/>
                    </a:lnTo>
                    <a:lnTo>
                      <a:pt x="6239" y="1194"/>
                    </a:lnTo>
                    <a:lnTo>
                      <a:pt x="6226" y="1284"/>
                    </a:lnTo>
                    <a:lnTo>
                      <a:pt x="6210" y="1373"/>
                    </a:lnTo>
                    <a:lnTo>
                      <a:pt x="6191" y="1460"/>
                    </a:lnTo>
                    <a:lnTo>
                      <a:pt x="6170" y="1547"/>
                    </a:lnTo>
                    <a:lnTo>
                      <a:pt x="6147" y="1633"/>
                    </a:lnTo>
                    <a:lnTo>
                      <a:pt x="6121" y="1717"/>
                    </a:lnTo>
                    <a:lnTo>
                      <a:pt x="6093" y="1801"/>
                    </a:lnTo>
                    <a:lnTo>
                      <a:pt x="6064" y="1884"/>
                    </a:lnTo>
                    <a:lnTo>
                      <a:pt x="6031" y="1966"/>
                    </a:lnTo>
                    <a:lnTo>
                      <a:pt x="5997" y="2047"/>
                    </a:lnTo>
                    <a:lnTo>
                      <a:pt x="5961" y="2127"/>
                    </a:lnTo>
                    <a:lnTo>
                      <a:pt x="5923" y="2206"/>
                    </a:lnTo>
                    <a:lnTo>
                      <a:pt x="5883" y="2282"/>
                    </a:lnTo>
                    <a:lnTo>
                      <a:pt x="5840" y="2359"/>
                    </a:lnTo>
                    <a:lnTo>
                      <a:pt x="5796" y="2433"/>
                    </a:lnTo>
                    <a:lnTo>
                      <a:pt x="5749" y="2507"/>
                    </a:lnTo>
                    <a:lnTo>
                      <a:pt x="5701" y="2579"/>
                    </a:lnTo>
                    <a:lnTo>
                      <a:pt x="5652" y="2650"/>
                    </a:lnTo>
                    <a:lnTo>
                      <a:pt x="5600" y="2719"/>
                    </a:lnTo>
                    <a:lnTo>
                      <a:pt x="5547" y="2787"/>
                    </a:lnTo>
                    <a:lnTo>
                      <a:pt x="5491" y="2853"/>
                    </a:lnTo>
                    <a:lnTo>
                      <a:pt x="5434" y="2919"/>
                    </a:lnTo>
                    <a:lnTo>
                      <a:pt x="5375" y="2983"/>
                    </a:lnTo>
                    <a:lnTo>
                      <a:pt x="5315" y="3045"/>
                    </a:lnTo>
                    <a:lnTo>
                      <a:pt x="5253" y="3104"/>
                    </a:lnTo>
                    <a:lnTo>
                      <a:pt x="5190" y="3163"/>
                    </a:lnTo>
                    <a:lnTo>
                      <a:pt x="5125" y="3220"/>
                    </a:lnTo>
                    <a:lnTo>
                      <a:pt x="5127" y="3220"/>
                    </a:lnTo>
                    <a:lnTo>
                      <a:pt x="5261" y="3192"/>
                    </a:lnTo>
                    <a:lnTo>
                      <a:pt x="5323" y="3134"/>
                    </a:lnTo>
                    <a:lnTo>
                      <a:pt x="5383" y="3074"/>
                    </a:lnTo>
                    <a:lnTo>
                      <a:pt x="5441" y="3013"/>
                    </a:lnTo>
                    <a:lnTo>
                      <a:pt x="5498" y="2951"/>
                    </a:lnTo>
                    <a:lnTo>
                      <a:pt x="5553" y="2887"/>
                    </a:lnTo>
                    <a:lnTo>
                      <a:pt x="5606" y="2822"/>
                    </a:lnTo>
                    <a:lnTo>
                      <a:pt x="5659" y="2755"/>
                    </a:lnTo>
                    <a:lnTo>
                      <a:pt x="5709" y="2688"/>
                    </a:lnTo>
                    <a:lnTo>
                      <a:pt x="5758" y="2618"/>
                    </a:lnTo>
                    <a:lnTo>
                      <a:pt x="5805" y="2548"/>
                    </a:lnTo>
                    <a:lnTo>
                      <a:pt x="5850" y="2475"/>
                    </a:lnTo>
                    <a:lnTo>
                      <a:pt x="5894" y="2403"/>
                    </a:lnTo>
                    <a:lnTo>
                      <a:pt x="5935" y="2328"/>
                    </a:lnTo>
                    <a:lnTo>
                      <a:pt x="5975" y="2254"/>
                    </a:lnTo>
                    <a:lnTo>
                      <a:pt x="6013" y="2177"/>
                    </a:lnTo>
                    <a:lnTo>
                      <a:pt x="6049" y="2100"/>
                    </a:lnTo>
                    <a:lnTo>
                      <a:pt x="6084" y="2021"/>
                    </a:lnTo>
                    <a:lnTo>
                      <a:pt x="6115" y="1942"/>
                    </a:lnTo>
                    <a:lnTo>
                      <a:pt x="6146" y="1861"/>
                    </a:lnTo>
                    <a:lnTo>
                      <a:pt x="6174" y="1779"/>
                    </a:lnTo>
                    <a:lnTo>
                      <a:pt x="6199" y="1697"/>
                    </a:lnTo>
                    <a:lnTo>
                      <a:pt x="6223" y="1613"/>
                    </a:lnTo>
                    <a:lnTo>
                      <a:pt x="6246" y="1529"/>
                    </a:lnTo>
                    <a:lnTo>
                      <a:pt x="6264" y="1444"/>
                    </a:lnTo>
                    <a:lnTo>
                      <a:pt x="6282" y="1358"/>
                    </a:lnTo>
                    <a:lnTo>
                      <a:pt x="6297" y="1272"/>
                    </a:lnTo>
                    <a:lnTo>
                      <a:pt x="6311" y="1184"/>
                    </a:lnTo>
                    <a:lnTo>
                      <a:pt x="6321" y="1096"/>
                    </a:lnTo>
                    <a:lnTo>
                      <a:pt x="6330" y="1008"/>
                    </a:lnTo>
                    <a:lnTo>
                      <a:pt x="6335" y="918"/>
                    </a:lnTo>
                    <a:lnTo>
                      <a:pt x="6339" y="828"/>
                    </a:lnTo>
                    <a:lnTo>
                      <a:pt x="6340" y="737"/>
                    </a:lnTo>
                    <a:close/>
                    <a:moveTo>
                      <a:pt x="0" y="2192"/>
                    </a:moveTo>
                    <a:lnTo>
                      <a:pt x="24" y="2240"/>
                    </a:lnTo>
                    <a:lnTo>
                      <a:pt x="49" y="2287"/>
                    </a:lnTo>
                    <a:lnTo>
                      <a:pt x="74" y="2335"/>
                    </a:lnTo>
                    <a:lnTo>
                      <a:pt x="101" y="2382"/>
                    </a:lnTo>
                    <a:lnTo>
                      <a:pt x="127" y="2428"/>
                    </a:lnTo>
                    <a:lnTo>
                      <a:pt x="154" y="2473"/>
                    </a:lnTo>
                    <a:lnTo>
                      <a:pt x="183" y="2520"/>
                    </a:lnTo>
                    <a:lnTo>
                      <a:pt x="212" y="2564"/>
                    </a:lnTo>
                    <a:lnTo>
                      <a:pt x="241" y="2609"/>
                    </a:lnTo>
                    <a:lnTo>
                      <a:pt x="272" y="2652"/>
                    </a:lnTo>
                    <a:lnTo>
                      <a:pt x="303" y="2696"/>
                    </a:lnTo>
                    <a:lnTo>
                      <a:pt x="335" y="2738"/>
                    </a:lnTo>
                    <a:lnTo>
                      <a:pt x="368" y="2781"/>
                    </a:lnTo>
                    <a:lnTo>
                      <a:pt x="400" y="2823"/>
                    </a:lnTo>
                    <a:lnTo>
                      <a:pt x="434" y="2864"/>
                    </a:lnTo>
                    <a:lnTo>
                      <a:pt x="468" y="2905"/>
                    </a:lnTo>
                    <a:lnTo>
                      <a:pt x="519" y="2881"/>
                    </a:lnTo>
                    <a:lnTo>
                      <a:pt x="538" y="2881"/>
                    </a:lnTo>
                    <a:lnTo>
                      <a:pt x="502" y="2839"/>
                    </a:lnTo>
                    <a:lnTo>
                      <a:pt x="467" y="2797"/>
                    </a:lnTo>
                    <a:lnTo>
                      <a:pt x="433" y="2754"/>
                    </a:lnTo>
                    <a:lnTo>
                      <a:pt x="399" y="2710"/>
                    </a:lnTo>
                    <a:lnTo>
                      <a:pt x="367" y="2665"/>
                    </a:lnTo>
                    <a:lnTo>
                      <a:pt x="334" y="2621"/>
                    </a:lnTo>
                    <a:lnTo>
                      <a:pt x="302" y="2576"/>
                    </a:lnTo>
                    <a:lnTo>
                      <a:pt x="272" y="2530"/>
                    </a:lnTo>
                    <a:lnTo>
                      <a:pt x="242" y="2484"/>
                    </a:lnTo>
                    <a:lnTo>
                      <a:pt x="213" y="2438"/>
                    </a:lnTo>
                    <a:lnTo>
                      <a:pt x="185" y="2390"/>
                    </a:lnTo>
                    <a:lnTo>
                      <a:pt x="157" y="2342"/>
                    </a:lnTo>
                    <a:lnTo>
                      <a:pt x="130" y="2294"/>
                    </a:lnTo>
                    <a:lnTo>
                      <a:pt x="104" y="2245"/>
                    </a:lnTo>
                    <a:lnTo>
                      <a:pt x="79" y="2196"/>
                    </a:lnTo>
                    <a:lnTo>
                      <a:pt x="54" y="2146"/>
                    </a:lnTo>
                    <a:lnTo>
                      <a:pt x="11" y="2175"/>
                    </a:lnTo>
                    <a:lnTo>
                      <a:pt x="0" y="2192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725560" y="2763720"/>
                <a:ext cx="1994040" cy="1024200"/>
              </a:xfrm>
              <a:custGeom>
                <a:avLst/>
                <a:gdLst/>
                <a:ahLst/>
                <a:rect l="l" t="t" r="r" b="b"/>
                <a:pathLst>
                  <a:path w="6279" h="3223">
                    <a:moveTo>
                      <a:pt x="6279" y="722"/>
                    </a:moveTo>
                    <a:lnTo>
                      <a:pt x="6279" y="675"/>
                    </a:lnTo>
                    <a:lnTo>
                      <a:pt x="6278" y="629"/>
                    </a:lnTo>
                    <a:lnTo>
                      <a:pt x="6276" y="583"/>
                    </a:lnTo>
                    <a:lnTo>
                      <a:pt x="6274" y="538"/>
                    </a:lnTo>
                    <a:lnTo>
                      <a:pt x="6272" y="492"/>
                    </a:lnTo>
                    <a:lnTo>
                      <a:pt x="6268" y="447"/>
                    </a:lnTo>
                    <a:lnTo>
                      <a:pt x="6264" y="400"/>
                    </a:lnTo>
                    <a:lnTo>
                      <a:pt x="6259" y="355"/>
                    </a:lnTo>
                    <a:lnTo>
                      <a:pt x="6254" y="310"/>
                    </a:lnTo>
                    <a:lnTo>
                      <a:pt x="6248" y="266"/>
                    </a:lnTo>
                    <a:lnTo>
                      <a:pt x="6242" y="221"/>
                    </a:lnTo>
                    <a:lnTo>
                      <a:pt x="6234" y="177"/>
                    </a:lnTo>
                    <a:lnTo>
                      <a:pt x="6227" y="133"/>
                    </a:lnTo>
                    <a:lnTo>
                      <a:pt x="6218" y="88"/>
                    </a:lnTo>
                    <a:lnTo>
                      <a:pt x="6210" y="44"/>
                    </a:lnTo>
                    <a:lnTo>
                      <a:pt x="6201" y="0"/>
                    </a:lnTo>
                    <a:lnTo>
                      <a:pt x="6174" y="14"/>
                    </a:lnTo>
                    <a:lnTo>
                      <a:pt x="6136" y="32"/>
                    </a:lnTo>
                    <a:lnTo>
                      <a:pt x="6146" y="74"/>
                    </a:lnTo>
                    <a:lnTo>
                      <a:pt x="6153" y="116"/>
                    </a:lnTo>
                    <a:lnTo>
                      <a:pt x="6162" y="158"/>
                    </a:lnTo>
                    <a:lnTo>
                      <a:pt x="6169" y="201"/>
                    </a:lnTo>
                    <a:lnTo>
                      <a:pt x="6175" y="243"/>
                    </a:lnTo>
                    <a:lnTo>
                      <a:pt x="6182" y="286"/>
                    </a:lnTo>
                    <a:lnTo>
                      <a:pt x="6187" y="329"/>
                    </a:lnTo>
                    <a:lnTo>
                      <a:pt x="6192" y="372"/>
                    </a:lnTo>
                    <a:lnTo>
                      <a:pt x="6196" y="415"/>
                    </a:lnTo>
                    <a:lnTo>
                      <a:pt x="6201" y="458"/>
                    </a:lnTo>
                    <a:lnTo>
                      <a:pt x="6204" y="502"/>
                    </a:lnTo>
                    <a:lnTo>
                      <a:pt x="6206" y="545"/>
                    </a:lnTo>
                    <a:lnTo>
                      <a:pt x="6208" y="589"/>
                    </a:lnTo>
                    <a:lnTo>
                      <a:pt x="6210" y="633"/>
                    </a:lnTo>
                    <a:lnTo>
                      <a:pt x="6210" y="678"/>
                    </a:lnTo>
                    <a:lnTo>
                      <a:pt x="6211" y="722"/>
                    </a:lnTo>
                    <a:lnTo>
                      <a:pt x="6209" y="816"/>
                    </a:lnTo>
                    <a:lnTo>
                      <a:pt x="6206" y="910"/>
                    </a:lnTo>
                    <a:lnTo>
                      <a:pt x="6198" y="1003"/>
                    </a:lnTo>
                    <a:lnTo>
                      <a:pt x="6190" y="1094"/>
                    </a:lnTo>
                    <a:lnTo>
                      <a:pt x="6177" y="1186"/>
                    </a:lnTo>
                    <a:lnTo>
                      <a:pt x="6164" y="1276"/>
                    </a:lnTo>
                    <a:lnTo>
                      <a:pt x="6147" y="1366"/>
                    </a:lnTo>
                    <a:lnTo>
                      <a:pt x="6127" y="1455"/>
                    </a:lnTo>
                    <a:lnTo>
                      <a:pt x="6106" y="1543"/>
                    </a:lnTo>
                    <a:lnTo>
                      <a:pt x="6082" y="1630"/>
                    </a:lnTo>
                    <a:lnTo>
                      <a:pt x="6054" y="1715"/>
                    </a:lnTo>
                    <a:lnTo>
                      <a:pt x="6026" y="1800"/>
                    </a:lnTo>
                    <a:lnTo>
                      <a:pt x="5996" y="1884"/>
                    </a:lnTo>
                    <a:lnTo>
                      <a:pt x="5962" y="1967"/>
                    </a:lnTo>
                    <a:lnTo>
                      <a:pt x="5926" y="2048"/>
                    </a:lnTo>
                    <a:lnTo>
                      <a:pt x="5889" y="2129"/>
                    </a:lnTo>
                    <a:lnTo>
                      <a:pt x="5850" y="2207"/>
                    </a:lnTo>
                    <a:lnTo>
                      <a:pt x="5807" y="2285"/>
                    </a:lnTo>
                    <a:lnTo>
                      <a:pt x="5763" y="2362"/>
                    </a:lnTo>
                    <a:lnTo>
                      <a:pt x="5718" y="2437"/>
                    </a:lnTo>
                    <a:lnTo>
                      <a:pt x="5670" y="2511"/>
                    </a:lnTo>
                    <a:lnTo>
                      <a:pt x="5620" y="2583"/>
                    </a:lnTo>
                    <a:lnTo>
                      <a:pt x="5569" y="2655"/>
                    </a:lnTo>
                    <a:lnTo>
                      <a:pt x="5515" y="2724"/>
                    </a:lnTo>
                    <a:lnTo>
                      <a:pt x="5460" y="2792"/>
                    </a:lnTo>
                    <a:lnTo>
                      <a:pt x="5403" y="2858"/>
                    </a:lnTo>
                    <a:lnTo>
                      <a:pt x="5344" y="2923"/>
                    </a:lnTo>
                    <a:lnTo>
                      <a:pt x="5283" y="2986"/>
                    </a:lnTo>
                    <a:lnTo>
                      <a:pt x="5221" y="3048"/>
                    </a:lnTo>
                    <a:lnTo>
                      <a:pt x="5157" y="3108"/>
                    </a:lnTo>
                    <a:lnTo>
                      <a:pt x="5091" y="3166"/>
                    </a:lnTo>
                    <a:lnTo>
                      <a:pt x="5024" y="3223"/>
                    </a:lnTo>
                    <a:lnTo>
                      <a:pt x="5101" y="3205"/>
                    </a:lnTo>
                    <a:lnTo>
                      <a:pt x="5168" y="3190"/>
                    </a:lnTo>
                    <a:lnTo>
                      <a:pt x="5231" y="3132"/>
                    </a:lnTo>
                    <a:lnTo>
                      <a:pt x="5292" y="3074"/>
                    </a:lnTo>
                    <a:lnTo>
                      <a:pt x="5353" y="3014"/>
                    </a:lnTo>
                    <a:lnTo>
                      <a:pt x="5411" y="2951"/>
                    </a:lnTo>
                    <a:lnTo>
                      <a:pt x="5468" y="2888"/>
                    </a:lnTo>
                    <a:lnTo>
                      <a:pt x="5524" y="2823"/>
                    </a:lnTo>
                    <a:lnTo>
                      <a:pt x="5577" y="2755"/>
                    </a:lnTo>
                    <a:lnTo>
                      <a:pt x="5629" y="2688"/>
                    </a:lnTo>
                    <a:lnTo>
                      <a:pt x="5679" y="2619"/>
                    </a:lnTo>
                    <a:lnTo>
                      <a:pt x="5728" y="2548"/>
                    </a:lnTo>
                    <a:lnTo>
                      <a:pt x="5775" y="2476"/>
                    </a:lnTo>
                    <a:lnTo>
                      <a:pt x="5819" y="2403"/>
                    </a:lnTo>
                    <a:lnTo>
                      <a:pt x="5862" y="2328"/>
                    </a:lnTo>
                    <a:lnTo>
                      <a:pt x="5903" y="2253"/>
                    </a:lnTo>
                    <a:lnTo>
                      <a:pt x="5942" y="2176"/>
                    </a:lnTo>
                    <a:lnTo>
                      <a:pt x="5980" y="2098"/>
                    </a:lnTo>
                    <a:lnTo>
                      <a:pt x="6015" y="2018"/>
                    </a:lnTo>
                    <a:lnTo>
                      <a:pt x="6048" y="1939"/>
                    </a:lnTo>
                    <a:lnTo>
                      <a:pt x="6079" y="1858"/>
                    </a:lnTo>
                    <a:lnTo>
                      <a:pt x="6108" y="1775"/>
                    </a:lnTo>
                    <a:lnTo>
                      <a:pt x="6134" y="1692"/>
                    </a:lnTo>
                    <a:lnTo>
                      <a:pt x="6160" y="1608"/>
                    </a:lnTo>
                    <a:lnTo>
                      <a:pt x="6182" y="1523"/>
                    </a:lnTo>
                    <a:lnTo>
                      <a:pt x="6202" y="1437"/>
                    </a:lnTo>
                    <a:lnTo>
                      <a:pt x="6220" y="1351"/>
                    </a:lnTo>
                    <a:lnTo>
                      <a:pt x="6235" y="1262"/>
                    </a:lnTo>
                    <a:lnTo>
                      <a:pt x="6249" y="1174"/>
                    </a:lnTo>
                    <a:lnTo>
                      <a:pt x="6259" y="1085"/>
                    </a:lnTo>
                    <a:lnTo>
                      <a:pt x="6269" y="996"/>
                    </a:lnTo>
                    <a:lnTo>
                      <a:pt x="6274" y="905"/>
                    </a:lnTo>
                    <a:lnTo>
                      <a:pt x="6278" y="814"/>
                    </a:lnTo>
                    <a:lnTo>
                      <a:pt x="6279" y="722"/>
                    </a:lnTo>
                    <a:close/>
                    <a:moveTo>
                      <a:pt x="0" y="2151"/>
                    </a:moveTo>
                    <a:lnTo>
                      <a:pt x="24" y="2199"/>
                    </a:lnTo>
                    <a:lnTo>
                      <a:pt x="48" y="2248"/>
                    </a:lnTo>
                    <a:lnTo>
                      <a:pt x="75" y="2296"/>
                    </a:lnTo>
                    <a:lnTo>
                      <a:pt x="101" y="2344"/>
                    </a:lnTo>
                    <a:lnTo>
                      <a:pt x="128" y="2390"/>
                    </a:lnTo>
                    <a:lnTo>
                      <a:pt x="156" y="2437"/>
                    </a:lnTo>
                    <a:lnTo>
                      <a:pt x="184" y="2484"/>
                    </a:lnTo>
                    <a:lnTo>
                      <a:pt x="213" y="2529"/>
                    </a:lnTo>
                    <a:lnTo>
                      <a:pt x="244" y="2574"/>
                    </a:lnTo>
                    <a:lnTo>
                      <a:pt x="274" y="2619"/>
                    </a:lnTo>
                    <a:lnTo>
                      <a:pt x="306" y="2662"/>
                    </a:lnTo>
                    <a:lnTo>
                      <a:pt x="338" y="2706"/>
                    </a:lnTo>
                    <a:lnTo>
                      <a:pt x="371" y="2749"/>
                    </a:lnTo>
                    <a:lnTo>
                      <a:pt x="406" y="2791"/>
                    </a:lnTo>
                    <a:lnTo>
                      <a:pt x="439" y="2833"/>
                    </a:lnTo>
                    <a:lnTo>
                      <a:pt x="474" y="2874"/>
                    </a:lnTo>
                    <a:lnTo>
                      <a:pt x="493" y="2866"/>
                    </a:lnTo>
                    <a:lnTo>
                      <a:pt x="551" y="2866"/>
                    </a:lnTo>
                    <a:lnTo>
                      <a:pt x="556" y="2863"/>
                    </a:lnTo>
                    <a:lnTo>
                      <a:pt x="519" y="2820"/>
                    </a:lnTo>
                    <a:lnTo>
                      <a:pt x="482" y="2776"/>
                    </a:lnTo>
                    <a:lnTo>
                      <a:pt x="447" y="2733"/>
                    </a:lnTo>
                    <a:lnTo>
                      <a:pt x="412" y="2688"/>
                    </a:lnTo>
                    <a:lnTo>
                      <a:pt x="378" y="2644"/>
                    </a:lnTo>
                    <a:lnTo>
                      <a:pt x="345" y="2598"/>
                    </a:lnTo>
                    <a:lnTo>
                      <a:pt x="312" y="2552"/>
                    </a:lnTo>
                    <a:lnTo>
                      <a:pt x="281" y="2506"/>
                    </a:lnTo>
                    <a:lnTo>
                      <a:pt x="250" y="2458"/>
                    </a:lnTo>
                    <a:lnTo>
                      <a:pt x="220" y="2410"/>
                    </a:lnTo>
                    <a:lnTo>
                      <a:pt x="191" y="2362"/>
                    </a:lnTo>
                    <a:lnTo>
                      <a:pt x="163" y="2312"/>
                    </a:lnTo>
                    <a:lnTo>
                      <a:pt x="135" y="2263"/>
                    </a:lnTo>
                    <a:lnTo>
                      <a:pt x="108" y="2213"/>
                    </a:lnTo>
                    <a:lnTo>
                      <a:pt x="82" y="2162"/>
                    </a:lnTo>
                    <a:lnTo>
                      <a:pt x="58" y="2111"/>
                    </a:lnTo>
                    <a:lnTo>
                      <a:pt x="0" y="215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735280" y="2768760"/>
                <a:ext cx="1974960" cy="1025280"/>
              </a:xfrm>
              <a:custGeom>
                <a:avLst/>
                <a:gdLst/>
                <a:ahLst/>
                <a:rect l="l" t="t" r="r" b="b"/>
                <a:pathLst>
                  <a:path w="6218" h="3226">
                    <a:moveTo>
                      <a:pt x="6218" y="705"/>
                    </a:moveTo>
                    <a:lnTo>
                      <a:pt x="6217" y="659"/>
                    </a:lnTo>
                    <a:lnTo>
                      <a:pt x="6216" y="614"/>
                    </a:lnTo>
                    <a:lnTo>
                      <a:pt x="6215" y="569"/>
                    </a:lnTo>
                    <a:lnTo>
                      <a:pt x="6213" y="525"/>
                    </a:lnTo>
                    <a:lnTo>
                      <a:pt x="6209" y="480"/>
                    </a:lnTo>
                    <a:lnTo>
                      <a:pt x="6206" y="436"/>
                    </a:lnTo>
                    <a:lnTo>
                      <a:pt x="6202" y="391"/>
                    </a:lnTo>
                    <a:lnTo>
                      <a:pt x="6198" y="347"/>
                    </a:lnTo>
                    <a:lnTo>
                      <a:pt x="6193" y="302"/>
                    </a:lnTo>
                    <a:lnTo>
                      <a:pt x="6186" y="259"/>
                    </a:lnTo>
                    <a:lnTo>
                      <a:pt x="6180" y="215"/>
                    </a:lnTo>
                    <a:lnTo>
                      <a:pt x="6174" y="172"/>
                    </a:lnTo>
                    <a:lnTo>
                      <a:pt x="6166" y="128"/>
                    </a:lnTo>
                    <a:lnTo>
                      <a:pt x="6158" y="85"/>
                    </a:lnTo>
                    <a:lnTo>
                      <a:pt x="6149" y="43"/>
                    </a:lnTo>
                    <a:lnTo>
                      <a:pt x="6141" y="0"/>
                    </a:lnTo>
                    <a:lnTo>
                      <a:pt x="6090" y="24"/>
                    </a:lnTo>
                    <a:lnTo>
                      <a:pt x="6077" y="31"/>
                    </a:lnTo>
                    <a:lnTo>
                      <a:pt x="6093" y="112"/>
                    </a:lnTo>
                    <a:lnTo>
                      <a:pt x="6107" y="195"/>
                    </a:lnTo>
                    <a:lnTo>
                      <a:pt x="6114" y="236"/>
                    </a:lnTo>
                    <a:lnTo>
                      <a:pt x="6120" y="278"/>
                    </a:lnTo>
                    <a:lnTo>
                      <a:pt x="6125" y="320"/>
                    </a:lnTo>
                    <a:lnTo>
                      <a:pt x="6131" y="362"/>
                    </a:lnTo>
                    <a:lnTo>
                      <a:pt x="6135" y="404"/>
                    </a:lnTo>
                    <a:lnTo>
                      <a:pt x="6138" y="447"/>
                    </a:lnTo>
                    <a:lnTo>
                      <a:pt x="6141" y="489"/>
                    </a:lnTo>
                    <a:lnTo>
                      <a:pt x="6144" y="532"/>
                    </a:lnTo>
                    <a:lnTo>
                      <a:pt x="6146" y="575"/>
                    </a:lnTo>
                    <a:lnTo>
                      <a:pt x="6147" y="619"/>
                    </a:lnTo>
                    <a:lnTo>
                      <a:pt x="6148" y="662"/>
                    </a:lnTo>
                    <a:lnTo>
                      <a:pt x="6148" y="705"/>
                    </a:lnTo>
                    <a:lnTo>
                      <a:pt x="6147" y="800"/>
                    </a:lnTo>
                    <a:lnTo>
                      <a:pt x="6143" y="896"/>
                    </a:lnTo>
                    <a:lnTo>
                      <a:pt x="6136" y="990"/>
                    </a:lnTo>
                    <a:lnTo>
                      <a:pt x="6126" y="1084"/>
                    </a:lnTo>
                    <a:lnTo>
                      <a:pt x="6114" y="1176"/>
                    </a:lnTo>
                    <a:lnTo>
                      <a:pt x="6099" y="1267"/>
                    </a:lnTo>
                    <a:lnTo>
                      <a:pt x="6081" y="1359"/>
                    </a:lnTo>
                    <a:lnTo>
                      <a:pt x="6061" y="1449"/>
                    </a:lnTo>
                    <a:lnTo>
                      <a:pt x="6039" y="1537"/>
                    </a:lnTo>
                    <a:lnTo>
                      <a:pt x="6014" y="1625"/>
                    </a:lnTo>
                    <a:lnTo>
                      <a:pt x="5987" y="1713"/>
                    </a:lnTo>
                    <a:lnTo>
                      <a:pt x="5956" y="1799"/>
                    </a:lnTo>
                    <a:lnTo>
                      <a:pt x="5923" y="1884"/>
                    </a:lnTo>
                    <a:lnTo>
                      <a:pt x="5890" y="1967"/>
                    </a:lnTo>
                    <a:lnTo>
                      <a:pt x="5852" y="2050"/>
                    </a:lnTo>
                    <a:lnTo>
                      <a:pt x="5813" y="2131"/>
                    </a:lnTo>
                    <a:lnTo>
                      <a:pt x="5772" y="2210"/>
                    </a:lnTo>
                    <a:lnTo>
                      <a:pt x="5729" y="2289"/>
                    </a:lnTo>
                    <a:lnTo>
                      <a:pt x="5683" y="2366"/>
                    </a:lnTo>
                    <a:lnTo>
                      <a:pt x="5635" y="2441"/>
                    </a:lnTo>
                    <a:lnTo>
                      <a:pt x="5586" y="2516"/>
                    </a:lnTo>
                    <a:lnTo>
                      <a:pt x="5535" y="2588"/>
                    </a:lnTo>
                    <a:lnTo>
                      <a:pt x="5480" y="2660"/>
                    </a:lnTo>
                    <a:lnTo>
                      <a:pt x="5425" y="2729"/>
                    </a:lnTo>
                    <a:lnTo>
                      <a:pt x="5367" y="2797"/>
                    </a:lnTo>
                    <a:lnTo>
                      <a:pt x="5309" y="2863"/>
                    </a:lnTo>
                    <a:lnTo>
                      <a:pt x="5247" y="2929"/>
                    </a:lnTo>
                    <a:lnTo>
                      <a:pt x="5185" y="2992"/>
                    </a:lnTo>
                    <a:lnTo>
                      <a:pt x="5119" y="3053"/>
                    </a:lnTo>
                    <a:lnTo>
                      <a:pt x="5053" y="3112"/>
                    </a:lnTo>
                    <a:lnTo>
                      <a:pt x="4985" y="3170"/>
                    </a:lnTo>
                    <a:lnTo>
                      <a:pt x="4915" y="3226"/>
                    </a:lnTo>
                    <a:lnTo>
                      <a:pt x="4960" y="3214"/>
                    </a:lnTo>
                    <a:lnTo>
                      <a:pt x="5071" y="3188"/>
                    </a:lnTo>
                    <a:lnTo>
                      <a:pt x="5136" y="3131"/>
                    </a:lnTo>
                    <a:lnTo>
                      <a:pt x="5199" y="3072"/>
                    </a:lnTo>
                    <a:lnTo>
                      <a:pt x="5261" y="3013"/>
                    </a:lnTo>
                    <a:lnTo>
                      <a:pt x="5321" y="2951"/>
                    </a:lnTo>
                    <a:lnTo>
                      <a:pt x="5380" y="2887"/>
                    </a:lnTo>
                    <a:lnTo>
                      <a:pt x="5437" y="2821"/>
                    </a:lnTo>
                    <a:lnTo>
                      <a:pt x="5493" y="2755"/>
                    </a:lnTo>
                    <a:lnTo>
                      <a:pt x="5546" y="2687"/>
                    </a:lnTo>
                    <a:lnTo>
                      <a:pt x="5598" y="2618"/>
                    </a:lnTo>
                    <a:lnTo>
                      <a:pt x="5647" y="2547"/>
                    </a:lnTo>
                    <a:lnTo>
                      <a:pt x="5695" y="2475"/>
                    </a:lnTo>
                    <a:lnTo>
                      <a:pt x="5742" y="2401"/>
                    </a:lnTo>
                    <a:lnTo>
                      <a:pt x="5786" y="2327"/>
                    </a:lnTo>
                    <a:lnTo>
                      <a:pt x="5829" y="2250"/>
                    </a:lnTo>
                    <a:lnTo>
                      <a:pt x="5869" y="2174"/>
                    </a:lnTo>
                    <a:lnTo>
                      <a:pt x="5907" y="2095"/>
                    </a:lnTo>
                    <a:lnTo>
                      <a:pt x="5943" y="2015"/>
                    </a:lnTo>
                    <a:lnTo>
                      <a:pt x="5977" y="1934"/>
                    </a:lnTo>
                    <a:lnTo>
                      <a:pt x="6010" y="1852"/>
                    </a:lnTo>
                    <a:lnTo>
                      <a:pt x="6039" y="1769"/>
                    </a:lnTo>
                    <a:lnTo>
                      <a:pt x="6067" y="1685"/>
                    </a:lnTo>
                    <a:lnTo>
                      <a:pt x="6093" y="1601"/>
                    </a:lnTo>
                    <a:lnTo>
                      <a:pt x="6116" y="1515"/>
                    </a:lnTo>
                    <a:lnTo>
                      <a:pt x="6137" y="1428"/>
                    </a:lnTo>
                    <a:lnTo>
                      <a:pt x="6156" y="1341"/>
                    </a:lnTo>
                    <a:lnTo>
                      <a:pt x="6172" y="1252"/>
                    </a:lnTo>
                    <a:lnTo>
                      <a:pt x="6185" y="1162"/>
                    </a:lnTo>
                    <a:lnTo>
                      <a:pt x="6197" y="1072"/>
                    </a:lnTo>
                    <a:lnTo>
                      <a:pt x="6205" y="982"/>
                    </a:lnTo>
                    <a:lnTo>
                      <a:pt x="6213" y="890"/>
                    </a:lnTo>
                    <a:lnTo>
                      <a:pt x="6216" y="798"/>
                    </a:lnTo>
                    <a:lnTo>
                      <a:pt x="6218" y="705"/>
                    </a:lnTo>
                    <a:close/>
                    <a:moveTo>
                      <a:pt x="0" y="2114"/>
                    </a:moveTo>
                    <a:lnTo>
                      <a:pt x="25" y="2164"/>
                    </a:lnTo>
                    <a:lnTo>
                      <a:pt x="50" y="2213"/>
                    </a:lnTo>
                    <a:lnTo>
                      <a:pt x="76" y="2262"/>
                    </a:lnTo>
                    <a:lnTo>
                      <a:pt x="103" y="2310"/>
                    </a:lnTo>
                    <a:lnTo>
                      <a:pt x="131" y="2358"/>
                    </a:lnTo>
                    <a:lnTo>
                      <a:pt x="159" y="2406"/>
                    </a:lnTo>
                    <a:lnTo>
                      <a:pt x="188" y="2452"/>
                    </a:lnTo>
                    <a:lnTo>
                      <a:pt x="218" y="2498"/>
                    </a:lnTo>
                    <a:lnTo>
                      <a:pt x="248" y="2544"/>
                    </a:lnTo>
                    <a:lnTo>
                      <a:pt x="280" y="2589"/>
                    </a:lnTo>
                    <a:lnTo>
                      <a:pt x="313" y="2633"/>
                    </a:lnTo>
                    <a:lnTo>
                      <a:pt x="345" y="2678"/>
                    </a:lnTo>
                    <a:lnTo>
                      <a:pt x="379" y="2722"/>
                    </a:lnTo>
                    <a:lnTo>
                      <a:pt x="413" y="2765"/>
                    </a:lnTo>
                    <a:lnTo>
                      <a:pt x="448" y="2807"/>
                    </a:lnTo>
                    <a:lnTo>
                      <a:pt x="484" y="2849"/>
                    </a:lnTo>
                    <a:lnTo>
                      <a:pt x="523" y="2849"/>
                    </a:lnTo>
                    <a:lnTo>
                      <a:pt x="560" y="2829"/>
                    </a:lnTo>
                    <a:lnTo>
                      <a:pt x="522" y="2787"/>
                    </a:lnTo>
                    <a:lnTo>
                      <a:pt x="485" y="2744"/>
                    </a:lnTo>
                    <a:lnTo>
                      <a:pt x="449" y="2700"/>
                    </a:lnTo>
                    <a:lnTo>
                      <a:pt x="414" y="2654"/>
                    </a:lnTo>
                    <a:lnTo>
                      <a:pt x="381" y="2609"/>
                    </a:lnTo>
                    <a:lnTo>
                      <a:pt x="347" y="2564"/>
                    </a:lnTo>
                    <a:lnTo>
                      <a:pt x="315" y="2518"/>
                    </a:lnTo>
                    <a:lnTo>
                      <a:pt x="283" y="2471"/>
                    </a:lnTo>
                    <a:lnTo>
                      <a:pt x="252" y="2423"/>
                    </a:lnTo>
                    <a:lnTo>
                      <a:pt x="221" y="2375"/>
                    </a:lnTo>
                    <a:lnTo>
                      <a:pt x="192" y="2327"/>
                    </a:lnTo>
                    <a:lnTo>
                      <a:pt x="163" y="2278"/>
                    </a:lnTo>
                    <a:lnTo>
                      <a:pt x="136" y="2227"/>
                    </a:lnTo>
                    <a:lnTo>
                      <a:pt x="109" y="2177"/>
                    </a:lnTo>
                    <a:lnTo>
                      <a:pt x="83" y="2126"/>
                    </a:lnTo>
                    <a:lnTo>
                      <a:pt x="58" y="2075"/>
                    </a:lnTo>
                    <a:lnTo>
                      <a:pt x="41" y="2086"/>
                    </a:lnTo>
                    <a:lnTo>
                      <a:pt x="0" y="2114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744640" y="2773440"/>
                <a:ext cx="1954440" cy="1027080"/>
              </a:xfrm>
              <a:custGeom>
                <a:avLst/>
                <a:gdLst/>
                <a:ahLst/>
                <a:rect l="l" t="t" r="r" b="b"/>
                <a:pathLst>
                  <a:path w="6153" h="3232">
                    <a:moveTo>
                      <a:pt x="6153" y="690"/>
                    </a:moveTo>
                    <a:lnTo>
                      <a:pt x="6152" y="646"/>
                    </a:lnTo>
                    <a:lnTo>
                      <a:pt x="6152" y="601"/>
                    </a:lnTo>
                    <a:lnTo>
                      <a:pt x="6150" y="557"/>
                    </a:lnTo>
                    <a:lnTo>
                      <a:pt x="6148" y="513"/>
                    </a:lnTo>
                    <a:lnTo>
                      <a:pt x="6146" y="470"/>
                    </a:lnTo>
                    <a:lnTo>
                      <a:pt x="6143" y="426"/>
                    </a:lnTo>
                    <a:lnTo>
                      <a:pt x="6138" y="383"/>
                    </a:lnTo>
                    <a:lnTo>
                      <a:pt x="6134" y="340"/>
                    </a:lnTo>
                    <a:lnTo>
                      <a:pt x="6129" y="297"/>
                    </a:lnTo>
                    <a:lnTo>
                      <a:pt x="6124" y="254"/>
                    </a:lnTo>
                    <a:lnTo>
                      <a:pt x="6117" y="211"/>
                    </a:lnTo>
                    <a:lnTo>
                      <a:pt x="6111" y="169"/>
                    </a:lnTo>
                    <a:lnTo>
                      <a:pt x="6104" y="126"/>
                    </a:lnTo>
                    <a:lnTo>
                      <a:pt x="6095" y="84"/>
                    </a:lnTo>
                    <a:lnTo>
                      <a:pt x="6088" y="42"/>
                    </a:lnTo>
                    <a:lnTo>
                      <a:pt x="6078" y="0"/>
                    </a:lnTo>
                    <a:lnTo>
                      <a:pt x="6060" y="9"/>
                    </a:lnTo>
                    <a:lnTo>
                      <a:pt x="6015" y="31"/>
                    </a:lnTo>
                    <a:lnTo>
                      <a:pt x="6031" y="111"/>
                    </a:lnTo>
                    <a:lnTo>
                      <a:pt x="6045" y="192"/>
                    </a:lnTo>
                    <a:lnTo>
                      <a:pt x="6051" y="233"/>
                    </a:lnTo>
                    <a:lnTo>
                      <a:pt x="6056" y="274"/>
                    </a:lnTo>
                    <a:lnTo>
                      <a:pt x="6062" y="315"/>
                    </a:lnTo>
                    <a:lnTo>
                      <a:pt x="6067" y="356"/>
                    </a:lnTo>
                    <a:lnTo>
                      <a:pt x="6070" y="397"/>
                    </a:lnTo>
                    <a:lnTo>
                      <a:pt x="6074" y="439"/>
                    </a:lnTo>
                    <a:lnTo>
                      <a:pt x="6077" y="480"/>
                    </a:lnTo>
                    <a:lnTo>
                      <a:pt x="6080" y="522"/>
                    </a:lnTo>
                    <a:lnTo>
                      <a:pt x="6082" y="564"/>
                    </a:lnTo>
                    <a:lnTo>
                      <a:pt x="6083" y="606"/>
                    </a:lnTo>
                    <a:lnTo>
                      <a:pt x="6084" y="648"/>
                    </a:lnTo>
                    <a:lnTo>
                      <a:pt x="6084" y="690"/>
                    </a:lnTo>
                    <a:lnTo>
                      <a:pt x="6083" y="787"/>
                    </a:lnTo>
                    <a:lnTo>
                      <a:pt x="6078" y="884"/>
                    </a:lnTo>
                    <a:lnTo>
                      <a:pt x="6071" y="979"/>
                    </a:lnTo>
                    <a:lnTo>
                      <a:pt x="6061" y="1075"/>
                    </a:lnTo>
                    <a:lnTo>
                      <a:pt x="6048" y="1168"/>
                    </a:lnTo>
                    <a:lnTo>
                      <a:pt x="6032" y="1262"/>
                    </a:lnTo>
                    <a:lnTo>
                      <a:pt x="6014" y="1354"/>
                    </a:lnTo>
                    <a:lnTo>
                      <a:pt x="5993" y="1446"/>
                    </a:lnTo>
                    <a:lnTo>
                      <a:pt x="5969" y="1536"/>
                    </a:lnTo>
                    <a:lnTo>
                      <a:pt x="5943" y="1625"/>
                    </a:lnTo>
                    <a:lnTo>
                      <a:pt x="5915" y="1713"/>
                    </a:lnTo>
                    <a:lnTo>
                      <a:pt x="5883" y="1801"/>
                    </a:lnTo>
                    <a:lnTo>
                      <a:pt x="5849" y="1887"/>
                    </a:lnTo>
                    <a:lnTo>
                      <a:pt x="5814" y="1971"/>
                    </a:lnTo>
                    <a:lnTo>
                      <a:pt x="5775" y="2054"/>
                    </a:lnTo>
                    <a:lnTo>
                      <a:pt x="5735" y="2135"/>
                    </a:lnTo>
                    <a:lnTo>
                      <a:pt x="5692" y="2216"/>
                    </a:lnTo>
                    <a:lnTo>
                      <a:pt x="5646" y="2296"/>
                    </a:lnTo>
                    <a:lnTo>
                      <a:pt x="5598" y="2374"/>
                    </a:lnTo>
                    <a:lnTo>
                      <a:pt x="5549" y="2449"/>
                    </a:lnTo>
                    <a:lnTo>
                      <a:pt x="5497" y="2524"/>
                    </a:lnTo>
                    <a:lnTo>
                      <a:pt x="5444" y="2597"/>
                    </a:lnTo>
                    <a:lnTo>
                      <a:pt x="5388" y="2669"/>
                    </a:lnTo>
                    <a:lnTo>
                      <a:pt x="5330" y="2738"/>
                    </a:lnTo>
                    <a:lnTo>
                      <a:pt x="5270" y="2806"/>
                    </a:lnTo>
                    <a:lnTo>
                      <a:pt x="5208" y="2873"/>
                    </a:lnTo>
                    <a:lnTo>
                      <a:pt x="5145" y="2938"/>
                    </a:lnTo>
                    <a:lnTo>
                      <a:pt x="5080" y="3001"/>
                    </a:lnTo>
                    <a:lnTo>
                      <a:pt x="5013" y="3062"/>
                    </a:lnTo>
                    <a:lnTo>
                      <a:pt x="4943" y="3120"/>
                    </a:lnTo>
                    <a:lnTo>
                      <a:pt x="4873" y="3177"/>
                    </a:lnTo>
                    <a:lnTo>
                      <a:pt x="4800" y="3232"/>
                    </a:lnTo>
                    <a:lnTo>
                      <a:pt x="4815" y="3230"/>
                    </a:lnTo>
                    <a:lnTo>
                      <a:pt x="4930" y="3199"/>
                    </a:lnTo>
                    <a:lnTo>
                      <a:pt x="4966" y="3191"/>
                    </a:lnTo>
                    <a:lnTo>
                      <a:pt x="5033" y="3134"/>
                    </a:lnTo>
                    <a:lnTo>
                      <a:pt x="5099" y="3076"/>
                    </a:lnTo>
                    <a:lnTo>
                      <a:pt x="5163" y="3016"/>
                    </a:lnTo>
                    <a:lnTo>
                      <a:pt x="5225" y="2954"/>
                    </a:lnTo>
                    <a:lnTo>
                      <a:pt x="5286" y="2891"/>
                    </a:lnTo>
                    <a:lnTo>
                      <a:pt x="5345" y="2826"/>
                    </a:lnTo>
                    <a:lnTo>
                      <a:pt x="5402" y="2760"/>
                    </a:lnTo>
                    <a:lnTo>
                      <a:pt x="5457" y="2692"/>
                    </a:lnTo>
                    <a:lnTo>
                      <a:pt x="5511" y="2623"/>
                    </a:lnTo>
                    <a:lnTo>
                      <a:pt x="5562" y="2551"/>
                    </a:lnTo>
                    <a:lnTo>
                      <a:pt x="5612" y="2479"/>
                    </a:lnTo>
                    <a:lnTo>
                      <a:pt x="5660" y="2405"/>
                    </a:lnTo>
                    <a:lnTo>
                      <a:pt x="5705" y="2330"/>
                    </a:lnTo>
                    <a:lnTo>
                      <a:pt x="5749" y="2253"/>
                    </a:lnTo>
                    <a:lnTo>
                      <a:pt x="5792" y="2175"/>
                    </a:lnTo>
                    <a:lnTo>
                      <a:pt x="5831" y="2097"/>
                    </a:lnTo>
                    <a:lnTo>
                      <a:pt x="5868" y="2016"/>
                    </a:lnTo>
                    <a:lnTo>
                      <a:pt x="5904" y="1935"/>
                    </a:lnTo>
                    <a:lnTo>
                      <a:pt x="5938" y="1852"/>
                    </a:lnTo>
                    <a:lnTo>
                      <a:pt x="5968" y="1768"/>
                    </a:lnTo>
                    <a:lnTo>
                      <a:pt x="5996" y="1683"/>
                    </a:lnTo>
                    <a:lnTo>
                      <a:pt x="6024" y="1598"/>
                    </a:lnTo>
                    <a:lnTo>
                      <a:pt x="6048" y="1511"/>
                    </a:lnTo>
                    <a:lnTo>
                      <a:pt x="6069" y="1423"/>
                    </a:lnTo>
                    <a:lnTo>
                      <a:pt x="6089" y="1334"/>
                    </a:lnTo>
                    <a:lnTo>
                      <a:pt x="6106" y="1244"/>
                    </a:lnTo>
                    <a:lnTo>
                      <a:pt x="6119" y="1154"/>
                    </a:lnTo>
                    <a:lnTo>
                      <a:pt x="6132" y="1062"/>
                    </a:lnTo>
                    <a:lnTo>
                      <a:pt x="6140" y="971"/>
                    </a:lnTo>
                    <a:lnTo>
                      <a:pt x="6148" y="878"/>
                    </a:lnTo>
                    <a:lnTo>
                      <a:pt x="6151" y="784"/>
                    </a:lnTo>
                    <a:lnTo>
                      <a:pt x="6153" y="690"/>
                    </a:lnTo>
                    <a:close/>
                    <a:moveTo>
                      <a:pt x="0" y="2079"/>
                    </a:moveTo>
                    <a:lnTo>
                      <a:pt x="24" y="2130"/>
                    </a:lnTo>
                    <a:lnTo>
                      <a:pt x="50" y="2181"/>
                    </a:lnTo>
                    <a:lnTo>
                      <a:pt x="77" y="2231"/>
                    </a:lnTo>
                    <a:lnTo>
                      <a:pt x="105" y="2280"/>
                    </a:lnTo>
                    <a:lnTo>
                      <a:pt x="133" y="2330"/>
                    </a:lnTo>
                    <a:lnTo>
                      <a:pt x="162" y="2378"/>
                    </a:lnTo>
                    <a:lnTo>
                      <a:pt x="192" y="2426"/>
                    </a:lnTo>
                    <a:lnTo>
                      <a:pt x="223" y="2474"/>
                    </a:lnTo>
                    <a:lnTo>
                      <a:pt x="254" y="2520"/>
                    </a:lnTo>
                    <a:lnTo>
                      <a:pt x="287" y="2566"/>
                    </a:lnTo>
                    <a:lnTo>
                      <a:pt x="320" y="2612"/>
                    </a:lnTo>
                    <a:lnTo>
                      <a:pt x="354" y="2656"/>
                    </a:lnTo>
                    <a:lnTo>
                      <a:pt x="389" y="2701"/>
                    </a:lnTo>
                    <a:lnTo>
                      <a:pt x="424" y="2744"/>
                    </a:lnTo>
                    <a:lnTo>
                      <a:pt x="461" y="2788"/>
                    </a:lnTo>
                    <a:lnTo>
                      <a:pt x="498" y="2831"/>
                    </a:lnTo>
                    <a:lnTo>
                      <a:pt x="550" y="2803"/>
                    </a:lnTo>
                    <a:lnTo>
                      <a:pt x="561" y="2798"/>
                    </a:lnTo>
                    <a:lnTo>
                      <a:pt x="523" y="2755"/>
                    </a:lnTo>
                    <a:lnTo>
                      <a:pt x="486" y="2712"/>
                    </a:lnTo>
                    <a:lnTo>
                      <a:pt x="451" y="2668"/>
                    </a:lnTo>
                    <a:lnTo>
                      <a:pt x="415" y="2623"/>
                    </a:lnTo>
                    <a:lnTo>
                      <a:pt x="380" y="2578"/>
                    </a:lnTo>
                    <a:lnTo>
                      <a:pt x="347" y="2532"/>
                    </a:lnTo>
                    <a:lnTo>
                      <a:pt x="314" y="2485"/>
                    </a:lnTo>
                    <a:lnTo>
                      <a:pt x="283" y="2438"/>
                    </a:lnTo>
                    <a:lnTo>
                      <a:pt x="251" y="2391"/>
                    </a:lnTo>
                    <a:lnTo>
                      <a:pt x="221" y="2342"/>
                    </a:lnTo>
                    <a:lnTo>
                      <a:pt x="191" y="2293"/>
                    </a:lnTo>
                    <a:lnTo>
                      <a:pt x="163" y="2244"/>
                    </a:lnTo>
                    <a:lnTo>
                      <a:pt x="135" y="2193"/>
                    </a:lnTo>
                    <a:lnTo>
                      <a:pt x="108" y="2143"/>
                    </a:lnTo>
                    <a:lnTo>
                      <a:pt x="82" y="2092"/>
                    </a:lnTo>
                    <a:lnTo>
                      <a:pt x="58" y="2040"/>
                    </a:lnTo>
                    <a:lnTo>
                      <a:pt x="11" y="2071"/>
                    </a:lnTo>
                    <a:lnTo>
                      <a:pt x="0" y="2079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754360" y="2779560"/>
                <a:ext cx="1933560" cy="1025640"/>
              </a:xfrm>
              <a:custGeom>
                <a:avLst/>
                <a:gdLst/>
                <a:ahLst/>
                <a:rect l="l" t="t" r="r" b="b"/>
                <a:pathLst>
                  <a:path w="6090" h="3231">
                    <a:moveTo>
                      <a:pt x="6090" y="674"/>
                    </a:moveTo>
                    <a:lnTo>
                      <a:pt x="6090" y="631"/>
                    </a:lnTo>
                    <a:lnTo>
                      <a:pt x="6089" y="588"/>
                    </a:lnTo>
                    <a:lnTo>
                      <a:pt x="6088" y="544"/>
                    </a:lnTo>
                    <a:lnTo>
                      <a:pt x="6086" y="501"/>
                    </a:lnTo>
                    <a:lnTo>
                      <a:pt x="6083" y="458"/>
                    </a:lnTo>
                    <a:lnTo>
                      <a:pt x="6080" y="416"/>
                    </a:lnTo>
                    <a:lnTo>
                      <a:pt x="6077" y="373"/>
                    </a:lnTo>
                    <a:lnTo>
                      <a:pt x="6073" y="331"/>
                    </a:lnTo>
                    <a:lnTo>
                      <a:pt x="6067" y="289"/>
                    </a:lnTo>
                    <a:lnTo>
                      <a:pt x="6062" y="247"/>
                    </a:lnTo>
                    <a:lnTo>
                      <a:pt x="6056" y="205"/>
                    </a:lnTo>
                    <a:lnTo>
                      <a:pt x="6049" y="164"/>
                    </a:lnTo>
                    <a:lnTo>
                      <a:pt x="6035" y="81"/>
                    </a:lnTo>
                    <a:lnTo>
                      <a:pt x="6019" y="0"/>
                    </a:lnTo>
                    <a:lnTo>
                      <a:pt x="5977" y="21"/>
                    </a:lnTo>
                    <a:lnTo>
                      <a:pt x="5957" y="40"/>
                    </a:lnTo>
                    <a:lnTo>
                      <a:pt x="5972" y="117"/>
                    </a:lnTo>
                    <a:lnTo>
                      <a:pt x="5985" y="195"/>
                    </a:lnTo>
                    <a:lnTo>
                      <a:pt x="5996" y="274"/>
                    </a:lnTo>
                    <a:lnTo>
                      <a:pt x="6005" y="352"/>
                    </a:lnTo>
                    <a:lnTo>
                      <a:pt x="6013" y="432"/>
                    </a:lnTo>
                    <a:lnTo>
                      <a:pt x="6018" y="512"/>
                    </a:lnTo>
                    <a:lnTo>
                      <a:pt x="6021" y="593"/>
                    </a:lnTo>
                    <a:lnTo>
                      <a:pt x="6022" y="674"/>
                    </a:lnTo>
                    <a:lnTo>
                      <a:pt x="6020" y="772"/>
                    </a:lnTo>
                    <a:lnTo>
                      <a:pt x="6016" y="871"/>
                    </a:lnTo>
                    <a:lnTo>
                      <a:pt x="6008" y="968"/>
                    </a:lnTo>
                    <a:lnTo>
                      <a:pt x="5998" y="1064"/>
                    </a:lnTo>
                    <a:lnTo>
                      <a:pt x="5984" y="1160"/>
                    </a:lnTo>
                    <a:lnTo>
                      <a:pt x="5967" y="1254"/>
                    </a:lnTo>
                    <a:lnTo>
                      <a:pt x="5949" y="1348"/>
                    </a:lnTo>
                    <a:lnTo>
                      <a:pt x="5927" y="1440"/>
                    </a:lnTo>
                    <a:lnTo>
                      <a:pt x="5902" y="1531"/>
                    </a:lnTo>
                    <a:lnTo>
                      <a:pt x="5875" y="1622"/>
                    </a:lnTo>
                    <a:lnTo>
                      <a:pt x="5846" y="1711"/>
                    </a:lnTo>
                    <a:lnTo>
                      <a:pt x="5813" y="1798"/>
                    </a:lnTo>
                    <a:lnTo>
                      <a:pt x="5778" y="1885"/>
                    </a:lnTo>
                    <a:lnTo>
                      <a:pt x="5740" y="1970"/>
                    </a:lnTo>
                    <a:lnTo>
                      <a:pt x="5700" y="2054"/>
                    </a:lnTo>
                    <a:lnTo>
                      <a:pt x="5658" y="2137"/>
                    </a:lnTo>
                    <a:lnTo>
                      <a:pt x="5614" y="2218"/>
                    </a:lnTo>
                    <a:lnTo>
                      <a:pt x="5567" y="2298"/>
                    </a:lnTo>
                    <a:lnTo>
                      <a:pt x="5518" y="2376"/>
                    </a:lnTo>
                    <a:lnTo>
                      <a:pt x="5466" y="2452"/>
                    </a:lnTo>
                    <a:lnTo>
                      <a:pt x="5412" y="2527"/>
                    </a:lnTo>
                    <a:lnTo>
                      <a:pt x="5357" y="2600"/>
                    </a:lnTo>
                    <a:lnTo>
                      <a:pt x="5299" y="2672"/>
                    </a:lnTo>
                    <a:lnTo>
                      <a:pt x="5239" y="2742"/>
                    </a:lnTo>
                    <a:lnTo>
                      <a:pt x="5178" y="2809"/>
                    </a:lnTo>
                    <a:lnTo>
                      <a:pt x="5114" y="2875"/>
                    </a:lnTo>
                    <a:lnTo>
                      <a:pt x="5048" y="2941"/>
                    </a:lnTo>
                    <a:lnTo>
                      <a:pt x="4980" y="3003"/>
                    </a:lnTo>
                    <a:lnTo>
                      <a:pt x="4911" y="3063"/>
                    </a:lnTo>
                    <a:lnTo>
                      <a:pt x="4841" y="3121"/>
                    </a:lnTo>
                    <a:lnTo>
                      <a:pt x="4767" y="3178"/>
                    </a:lnTo>
                    <a:lnTo>
                      <a:pt x="4692" y="3231"/>
                    </a:lnTo>
                    <a:lnTo>
                      <a:pt x="4787" y="3214"/>
                    </a:lnTo>
                    <a:lnTo>
                      <a:pt x="4857" y="3195"/>
                    </a:lnTo>
                    <a:lnTo>
                      <a:pt x="4927" y="3139"/>
                    </a:lnTo>
                    <a:lnTo>
                      <a:pt x="4995" y="3081"/>
                    </a:lnTo>
                    <a:lnTo>
                      <a:pt x="5061" y="3022"/>
                    </a:lnTo>
                    <a:lnTo>
                      <a:pt x="5127" y="2961"/>
                    </a:lnTo>
                    <a:lnTo>
                      <a:pt x="5189" y="2898"/>
                    </a:lnTo>
                    <a:lnTo>
                      <a:pt x="5251" y="2832"/>
                    </a:lnTo>
                    <a:lnTo>
                      <a:pt x="5309" y="2766"/>
                    </a:lnTo>
                    <a:lnTo>
                      <a:pt x="5367" y="2698"/>
                    </a:lnTo>
                    <a:lnTo>
                      <a:pt x="5422" y="2629"/>
                    </a:lnTo>
                    <a:lnTo>
                      <a:pt x="5477" y="2557"/>
                    </a:lnTo>
                    <a:lnTo>
                      <a:pt x="5528" y="2485"/>
                    </a:lnTo>
                    <a:lnTo>
                      <a:pt x="5577" y="2410"/>
                    </a:lnTo>
                    <a:lnTo>
                      <a:pt x="5625" y="2335"/>
                    </a:lnTo>
                    <a:lnTo>
                      <a:pt x="5671" y="2258"/>
                    </a:lnTo>
                    <a:lnTo>
                      <a:pt x="5714" y="2179"/>
                    </a:lnTo>
                    <a:lnTo>
                      <a:pt x="5755" y="2100"/>
                    </a:lnTo>
                    <a:lnTo>
                      <a:pt x="5794" y="2019"/>
                    </a:lnTo>
                    <a:lnTo>
                      <a:pt x="5832" y="1936"/>
                    </a:lnTo>
                    <a:lnTo>
                      <a:pt x="5865" y="1853"/>
                    </a:lnTo>
                    <a:lnTo>
                      <a:pt x="5898" y="1768"/>
                    </a:lnTo>
                    <a:lnTo>
                      <a:pt x="5929" y="1682"/>
                    </a:lnTo>
                    <a:lnTo>
                      <a:pt x="5956" y="1594"/>
                    </a:lnTo>
                    <a:lnTo>
                      <a:pt x="5981" y="1506"/>
                    </a:lnTo>
                    <a:lnTo>
                      <a:pt x="6003" y="1418"/>
                    </a:lnTo>
                    <a:lnTo>
                      <a:pt x="6023" y="1328"/>
                    </a:lnTo>
                    <a:lnTo>
                      <a:pt x="6041" y="1236"/>
                    </a:lnTo>
                    <a:lnTo>
                      <a:pt x="6056" y="1145"/>
                    </a:lnTo>
                    <a:lnTo>
                      <a:pt x="6068" y="1053"/>
                    </a:lnTo>
                    <a:lnTo>
                      <a:pt x="6078" y="959"/>
                    </a:lnTo>
                    <a:lnTo>
                      <a:pt x="6085" y="865"/>
                    </a:lnTo>
                    <a:lnTo>
                      <a:pt x="6089" y="769"/>
                    </a:lnTo>
                    <a:lnTo>
                      <a:pt x="6090" y="674"/>
                    </a:lnTo>
                    <a:close/>
                    <a:moveTo>
                      <a:pt x="0" y="2044"/>
                    </a:moveTo>
                    <a:lnTo>
                      <a:pt x="25" y="2095"/>
                    </a:lnTo>
                    <a:lnTo>
                      <a:pt x="51" y="2146"/>
                    </a:lnTo>
                    <a:lnTo>
                      <a:pt x="78" y="2196"/>
                    </a:lnTo>
                    <a:lnTo>
                      <a:pt x="105" y="2247"/>
                    </a:lnTo>
                    <a:lnTo>
                      <a:pt x="134" y="2296"/>
                    </a:lnTo>
                    <a:lnTo>
                      <a:pt x="163" y="2344"/>
                    </a:lnTo>
                    <a:lnTo>
                      <a:pt x="194" y="2392"/>
                    </a:lnTo>
                    <a:lnTo>
                      <a:pt x="225" y="2440"/>
                    </a:lnTo>
                    <a:lnTo>
                      <a:pt x="257" y="2487"/>
                    </a:lnTo>
                    <a:lnTo>
                      <a:pt x="289" y="2533"/>
                    </a:lnTo>
                    <a:lnTo>
                      <a:pt x="323" y="2578"/>
                    </a:lnTo>
                    <a:lnTo>
                      <a:pt x="356" y="2623"/>
                    </a:lnTo>
                    <a:lnTo>
                      <a:pt x="391" y="2669"/>
                    </a:lnTo>
                    <a:lnTo>
                      <a:pt x="427" y="2713"/>
                    </a:lnTo>
                    <a:lnTo>
                      <a:pt x="464" y="2756"/>
                    </a:lnTo>
                    <a:lnTo>
                      <a:pt x="502" y="2798"/>
                    </a:lnTo>
                    <a:lnTo>
                      <a:pt x="522" y="2787"/>
                    </a:lnTo>
                    <a:lnTo>
                      <a:pt x="565" y="2766"/>
                    </a:lnTo>
                    <a:lnTo>
                      <a:pt x="527" y="2723"/>
                    </a:lnTo>
                    <a:lnTo>
                      <a:pt x="490" y="2679"/>
                    </a:lnTo>
                    <a:lnTo>
                      <a:pt x="453" y="2635"/>
                    </a:lnTo>
                    <a:lnTo>
                      <a:pt x="417" y="2591"/>
                    </a:lnTo>
                    <a:lnTo>
                      <a:pt x="383" y="2546"/>
                    </a:lnTo>
                    <a:lnTo>
                      <a:pt x="349" y="2500"/>
                    </a:lnTo>
                    <a:lnTo>
                      <a:pt x="317" y="2452"/>
                    </a:lnTo>
                    <a:lnTo>
                      <a:pt x="284" y="2405"/>
                    </a:lnTo>
                    <a:lnTo>
                      <a:pt x="252" y="2357"/>
                    </a:lnTo>
                    <a:lnTo>
                      <a:pt x="222" y="2308"/>
                    </a:lnTo>
                    <a:lnTo>
                      <a:pt x="193" y="2259"/>
                    </a:lnTo>
                    <a:lnTo>
                      <a:pt x="164" y="2210"/>
                    </a:lnTo>
                    <a:lnTo>
                      <a:pt x="136" y="2159"/>
                    </a:lnTo>
                    <a:lnTo>
                      <a:pt x="109" y="2108"/>
                    </a:lnTo>
                    <a:lnTo>
                      <a:pt x="83" y="2056"/>
                    </a:lnTo>
                    <a:lnTo>
                      <a:pt x="58" y="2005"/>
                    </a:lnTo>
                    <a:lnTo>
                      <a:pt x="0" y="2044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763720" y="2784600"/>
                <a:ext cx="1913040" cy="1023840"/>
              </a:xfrm>
              <a:custGeom>
                <a:avLst/>
                <a:gdLst/>
                <a:ahLst/>
                <a:rect l="l" t="t" r="r" b="b"/>
                <a:pathLst>
                  <a:path w="6026" h="3226">
                    <a:moveTo>
                      <a:pt x="6026" y="659"/>
                    </a:moveTo>
                    <a:lnTo>
                      <a:pt x="6026" y="617"/>
                    </a:lnTo>
                    <a:lnTo>
                      <a:pt x="6025" y="575"/>
                    </a:lnTo>
                    <a:lnTo>
                      <a:pt x="6024" y="533"/>
                    </a:lnTo>
                    <a:lnTo>
                      <a:pt x="6022" y="491"/>
                    </a:lnTo>
                    <a:lnTo>
                      <a:pt x="6019" y="449"/>
                    </a:lnTo>
                    <a:lnTo>
                      <a:pt x="6016" y="408"/>
                    </a:lnTo>
                    <a:lnTo>
                      <a:pt x="6012" y="366"/>
                    </a:lnTo>
                    <a:lnTo>
                      <a:pt x="6009" y="325"/>
                    </a:lnTo>
                    <a:lnTo>
                      <a:pt x="6004" y="284"/>
                    </a:lnTo>
                    <a:lnTo>
                      <a:pt x="5998" y="243"/>
                    </a:lnTo>
                    <a:lnTo>
                      <a:pt x="5993" y="202"/>
                    </a:lnTo>
                    <a:lnTo>
                      <a:pt x="5987" y="161"/>
                    </a:lnTo>
                    <a:lnTo>
                      <a:pt x="5973" y="80"/>
                    </a:lnTo>
                    <a:lnTo>
                      <a:pt x="5957" y="0"/>
                    </a:lnTo>
                    <a:lnTo>
                      <a:pt x="5947" y="6"/>
                    </a:lnTo>
                    <a:lnTo>
                      <a:pt x="5897" y="54"/>
                    </a:lnTo>
                    <a:lnTo>
                      <a:pt x="5911" y="128"/>
                    </a:lnTo>
                    <a:lnTo>
                      <a:pt x="5924" y="202"/>
                    </a:lnTo>
                    <a:lnTo>
                      <a:pt x="5933" y="277"/>
                    </a:lnTo>
                    <a:lnTo>
                      <a:pt x="5943" y="352"/>
                    </a:lnTo>
                    <a:lnTo>
                      <a:pt x="5949" y="429"/>
                    </a:lnTo>
                    <a:lnTo>
                      <a:pt x="5953" y="504"/>
                    </a:lnTo>
                    <a:lnTo>
                      <a:pt x="5956" y="582"/>
                    </a:lnTo>
                    <a:lnTo>
                      <a:pt x="5957" y="659"/>
                    </a:lnTo>
                    <a:lnTo>
                      <a:pt x="5955" y="758"/>
                    </a:lnTo>
                    <a:lnTo>
                      <a:pt x="5951" y="858"/>
                    </a:lnTo>
                    <a:lnTo>
                      <a:pt x="5943" y="956"/>
                    </a:lnTo>
                    <a:lnTo>
                      <a:pt x="5932" y="1053"/>
                    </a:lnTo>
                    <a:lnTo>
                      <a:pt x="5919" y="1150"/>
                    </a:lnTo>
                    <a:lnTo>
                      <a:pt x="5902" y="1246"/>
                    </a:lnTo>
                    <a:lnTo>
                      <a:pt x="5882" y="1339"/>
                    </a:lnTo>
                    <a:lnTo>
                      <a:pt x="5860" y="1432"/>
                    </a:lnTo>
                    <a:lnTo>
                      <a:pt x="5834" y="1525"/>
                    </a:lnTo>
                    <a:lnTo>
                      <a:pt x="5806" y="1616"/>
                    </a:lnTo>
                    <a:lnTo>
                      <a:pt x="5776" y="1705"/>
                    </a:lnTo>
                    <a:lnTo>
                      <a:pt x="5742" y="1794"/>
                    </a:lnTo>
                    <a:lnTo>
                      <a:pt x="5706" y="1882"/>
                    </a:lnTo>
                    <a:lnTo>
                      <a:pt x="5667" y="1967"/>
                    </a:lnTo>
                    <a:lnTo>
                      <a:pt x="5626" y="2052"/>
                    </a:lnTo>
                    <a:lnTo>
                      <a:pt x="5583" y="2135"/>
                    </a:lnTo>
                    <a:lnTo>
                      <a:pt x="5537" y="2216"/>
                    </a:lnTo>
                    <a:lnTo>
                      <a:pt x="5489" y="2296"/>
                    </a:lnTo>
                    <a:lnTo>
                      <a:pt x="5438" y="2374"/>
                    </a:lnTo>
                    <a:lnTo>
                      <a:pt x="5385" y="2451"/>
                    </a:lnTo>
                    <a:lnTo>
                      <a:pt x="5330" y="2527"/>
                    </a:lnTo>
                    <a:lnTo>
                      <a:pt x="5272" y="2599"/>
                    </a:lnTo>
                    <a:lnTo>
                      <a:pt x="5213" y="2670"/>
                    </a:lnTo>
                    <a:lnTo>
                      <a:pt x="5151" y="2741"/>
                    </a:lnTo>
                    <a:lnTo>
                      <a:pt x="5088" y="2808"/>
                    </a:lnTo>
                    <a:lnTo>
                      <a:pt x="5022" y="2874"/>
                    </a:lnTo>
                    <a:lnTo>
                      <a:pt x="4955" y="2938"/>
                    </a:lnTo>
                    <a:lnTo>
                      <a:pt x="4885" y="2999"/>
                    </a:lnTo>
                    <a:lnTo>
                      <a:pt x="4814" y="3059"/>
                    </a:lnTo>
                    <a:lnTo>
                      <a:pt x="4741" y="3117"/>
                    </a:lnTo>
                    <a:lnTo>
                      <a:pt x="4666" y="3172"/>
                    </a:lnTo>
                    <a:lnTo>
                      <a:pt x="4590" y="3226"/>
                    </a:lnTo>
                    <a:lnTo>
                      <a:pt x="4616" y="3226"/>
                    </a:lnTo>
                    <a:lnTo>
                      <a:pt x="4742" y="3201"/>
                    </a:lnTo>
                    <a:lnTo>
                      <a:pt x="4815" y="3146"/>
                    </a:lnTo>
                    <a:lnTo>
                      <a:pt x="4885" y="3089"/>
                    </a:lnTo>
                    <a:lnTo>
                      <a:pt x="4955" y="3031"/>
                    </a:lnTo>
                    <a:lnTo>
                      <a:pt x="5022" y="2970"/>
                    </a:lnTo>
                    <a:lnTo>
                      <a:pt x="5087" y="2907"/>
                    </a:lnTo>
                    <a:lnTo>
                      <a:pt x="5150" y="2842"/>
                    </a:lnTo>
                    <a:lnTo>
                      <a:pt x="5212" y="2775"/>
                    </a:lnTo>
                    <a:lnTo>
                      <a:pt x="5272" y="2707"/>
                    </a:lnTo>
                    <a:lnTo>
                      <a:pt x="5330" y="2638"/>
                    </a:lnTo>
                    <a:lnTo>
                      <a:pt x="5386" y="2566"/>
                    </a:lnTo>
                    <a:lnTo>
                      <a:pt x="5439" y="2493"/>
                    </a:lnTo>
                    <a:lnTo>
                      <a:pt x="5491" y="2418"/>
                    </a:lnTo>
                    <a:lnTo>
                      <a:pt x="5540" y="2343"/>
                    </a:lnTo>
                    <a:lnTo>
                      <a:pt x="5588" y="2265"/>
                    </a:lnTo>
                    <a:lnTo>
                      <a:pt x="5634" y="2185"/>
                    </a:lnTo>
                    <a:lnTo>
                      <a:pt x="5677" y="2104"/>
                    </a:lnTo>
                    <a:lnTo>
                      <a:pt x="5717" y="2023"/>
                    </a:lnTo>
                    <a:lnTo>
                      <a:pt x="5756" y="1940"/>
                    </a:lnTo>
                    <a:lnTo>
                      <a:pt x="5791" y="1856"/>
                    </a:lnTo>
                    <a:lnTo>
                      <a:pt x="5825" y="1770"/>
                    </a:lnTo>
                    <a:lnTo>
                      <a:pt x="5857" y="1682"/>
                    </a:lnTo>
                    <a:lnTo>
                      <a:pt x="5885" y="1594"/>
                    </a:lnTo>
                    <a:lnTo>
                      <a:pt x="5911" y="1505"/>
                    </a:lnTo>
                    <a:lnTo>
                      <a:pt x="5935" y="1415"/>
                    </a:lnTo>
                    <a:lnTo>
                      <a:pt x="5956" y="1323"/>
                    </a:lnTo>
                    <a:lnTo>
                      <a:pt x="5974" y="1231"/>
                    </a:lnTo>
                    <a:lnTo>
                      <a:pt x="5990" y="1137"/>
                    </a:lnTo>
                    <a:lnTo>
                      <a:pt x="6003" y="1044"/>
                    </a:lnTo>
                    <a:lnTo>
                      <a:pt x="6013" y="948"/>
                    </a:lnTo>
                    <a:lnTo>
                      <a:pt x="6020" y="853"/>
                    </a:lnTo>
                    <a:lnTo>
                      <a:pt x="6025" y="756"/>
                    </a:lnTo>
                    <a:lnTo>
                      <a:pt x="6026" y="659"/>
                    </a:lnTo>
                    <a:close/>
                    <a:moveTo>
                      <a:pt x="0" y="2009"/>
                    </a:moveTo>
                    <a:lnTo>
                      <a:pt x="24" y="2061"/>
                    </a:lnTo>
                    <a:lnTo>
                      <a:pt x="50" y="2112"/>
                    </a:lnTo>
                    <a:lnTo>
                      <a:pt x="77" y="2162"/>
                    </a:lnTo>
                    <a:lnTo>
                      <a:pt x="105" y="2213"/>
                    </a:lnTo>
                    <a:lnTo>
                      <a:pt x="133" y="2262"/>
                    </a:lnTo>
                    <a:lnTo>
                      <a:pt x="163" y="2311"/>
                    </a:lnTo>
                    <a:lnTo>
                      <a:pt x="193" y="2360"/>
                    </a:lnTo>
                    <a:lnTo>
                      <a:pt x="225" y="2407"/>
                    </a:lnTo>
                    <a:lnTo>
                      <a:pt x="256" y="2454"/>
                    </a:lnTo>
                    <a:lnTo>
                      <a:pt x="289" y="2501"/>
                    </a:lnTo>
                    <a:lnTo>
                      <a:pt x="322" y="2547"/>
                    </a:lnTo>
                    <a:lnTo>
                      <a:pt x="357" y="2592"/>
                    </a:lnTo>
                    <a:lnTo>
                      <a:pt x="393" y="2637"/>
                    </a:lnTo>
                    <a:lnTo>
                      <a:pt x="428" y="2681"/>
                    </a:lnTo>
                    <a:lnTo>
                      <a:pt x="465" y="2724"/>
                    </a:lnTo>
                    <a:lnTo>
                      <a:pt x="503" y="2767"/>
                    </a:lnTo>
                    <a:lnTo>
                      <a:pt x="545" y="2745"/>
                    </a:lnTo>
                    <a:lnTo>
                      <a:pt x="567" y="2736"/>
                    </a:lnTo>
                    <a:lnTo>
                      <a:pt x="528" y="2692"/>
                    </a:lnTo>
                    <a:lnTo>
                      <a:pt x="492" y="2649"/>
                    </a:lnTo>
                    <a:lnTo>
                      <a:pt x="456" y="2605"/>
                    </a:lnTo>
                    <a:lnTo>
                      <a:pt x="420" y="2561"/>
                    </a:lnTo>
                    <a:lnTo>
                      <a:pt x="385" y="2516"/>
                    </a:lnTo>
                    <a:lnTo>
                      <a:pt x="352" y="2470"/>
                    </a:lnTo>
                    <a:lnTo>
                      <a:pt x="318" y="2424"/>
                    </a:lnTo>
                    <a:lnTo>
                      <a:pt x="287" y="2376"/>
                    </a:lnTo>
                    <a:lnTo>
                      <a:pt x="255" y="2328"/>
                    </a:lnTo>
                    <a:lnTo>
                      <a:pt x="225" y="2280"/>
                    </a:lnTo>
                    <a:lnTo>
                      <a:pt x="195" y="2232"/>
                    </a:lnTo>
                    <a:lnTo>
                      <a:pt x="166" y="2181"/>
                    </a:lnTo>
                    <a:lnTo>
                      <a:pt x="138" y="2132"/>
                    </a:lnTo>
                    <a:lnTo>
                      <a:pt x="111" y="2080"/>
                    </a:lnTo>
                    <a:lnTo>
                      <a:pt x="86" y="2030"/>
                    </a:lnTo>
                    <a:lnTo>
                      <a:pt x="61" y="1977"/>
                    </a:lnTo>
                    <a:lnTo>
                      <a:pt x="37" y="1983"/>
                    </a:lnTo>
                    <a:lnTo>
                      <a:pt x="0" y="200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771640" y="2792520"/>
                <a:ext cx="1893960" cy="1015920"/>
              </a:xfrm>
              <a:custGeom>
                <a:avLst/>
                <a:gdLst/>
                <a:ahLst/>
                <a:rect l="l" t="t" r="r" b="b"/>
                <a:pathLst>
                  <a:path w="5964" h="3201">
                    <a:moveTo>
                      <a:pt x="5964" y="634"/>
                    </a:moveTo>
                    <a:lnTo>
                      <a:pt x="5963" y="553"/>
                    </a:lnTo>
                    <a:lnTo>
                      <a:pt x="5960" y="472"/>
                    </a:lnTo>
                    <a:lnTo>
                      <a:pt x="5955" y="392"/>
                    </a:lnTo>
                    <a:lnTo>
                      <a:pt x="5947" y="312"/>
                    </a:lnTo>
                    <a:lnTo>
                      <a:pt x="5938" y="234"/>
                    </a:lnTo>
                    <a:lnTo>
                      <a:pt x="5927" y="155"/>
                    </a:lnTo>
                    <a:lnTo>
                      <a:pt x="5914" y="77"/>
                    </a:lnTo>
                    <a:lnTo>
                      <a:pt x="5899" y="0"/>
                    </a:lnTo>
                    <a:lnTo>
                      <a:pt x="5862" y="37"/>
                    </a:lnTo>
                    <a:lnTo>
                      <a:pt x="5839" y="50"/>
                    </a:lnTo>
                    <a:lnTo>
                      <a:pt x="5852" y="121"/>
                    </a:lnTo>
                    <a:lnTo>
                      <a:pt x="5863" y="193"/>
                    </a:lnTo>
                    <a:lnTo>
                      <a:pt x="5873" y="265"/>
                    </a:lnTo>
                    <a:lnTo>
                      <a:pt x="5881" y="338"/>
                    </a:lnTo>
                    <a:lnTo>
                      <a:pt x="5886" y="411"/>
                    </a:lnTo>
                    <a:lnTo>
                      <a:pt x="5892" y="485"/>
                    </a:lnTo>
                    <a:lnTo>
                      <a:pt x="5894" y="559"/>
                    </a:lnTo>
                    <a:lnTo>
                      <a:pt x="5895" y="634"/>
                    </a:lnTo>
                    <a:lnTo>
                      <a:pt x="5894" y="734"/>
                    </a:lnTo>
                    <a:lnTo>
                      <a:pt x="5888" y="834"/>
                    </a:lnTo>
                    <a:lnTo>
                      <a:pt x="5880" y="933"/>
                    </a:lnTo>
                    <a:lnTo>
                      <a:pt x="5869" y="1031"/>
                    </a:lnTo>
                    <a:lnTo>
                      <a:pt x="5855" y="1127"/>
                    </a:lnTo>
                    <a:lnTo>
                      <a:pt x="5838" y="1224"/>
                    </a:lnTo>
                    <a:lnTo>
                      <a:pt x="5818" y="1318"/>
                    </a:lnTo>
                    <a:lnTo>
                      <a:pt x="5795" y="1412"/>
                    </a:lnTo>
                    <a:lnTo>
                      <a:pt x="5769" y="1504"/>
                    </a:lnTo>
                    <a:lnTo>
                      <a:pt x="5740" y="1595"/>
                    </a:lnTo>
                    <a:lnTo>
                      <a:pt x="5709" y="1686"/>
                    </a:lnTo>
                    <a:lnTo>
                      <a:pt x="5675" y="1775"/>
                    </a:lnTo>
                    <a:lnTo>
                      <a:pt x="5638" y="1862"/>
                    </a:lnTo>
                    <a:lnTo>
                      <a:pt x="5598" y="1948"/>
                    </a:lnTo>
                    <a:lnTo>
                      <a:pt x="5556" y="2033"/>
                    </a:lnTo>
                    <a:lnTo>
                      <a:pt x="5512" y="2116"/>
                    </a:lnTo>
                    <a:lnTo>
                      <a:pt x="5465" y="2197"/>
                    </a:lnTo>
                    <a:lnTo>
                      <a:pt x="5415" y="2278"/>
                    </a:lnTo>
                    <a:lnTo>
                      <a:pt x="5364" y="2356"/>
                    </a:lnTo>
                    <a:lnTo>
                      <a:pt x="5310" y="2432"/>
                    </a:lnTo>
                    <a:lnTo>
                      <a:pt x="5254" y="2507"/>
                    </a:lnTo>
                    <a:lnTo>
                      <a:pt x="5195" y="2580"/>
                    </a:lnTo>
                    <a:lnTo>
                      <a:pt x="5134" y="2652"/>
                    </a:lnTo>
                    <a:lnTo>
                      <a:pt x="5072" y="2721"/>
                    </a:lnTo>
                    <a:lnTo>
                      <a:pt x="5007" y="2788"/>
                    </a:lnTo>
                    <a:lnTo>
                      <a:pt x="4939" y="2853"/>
                    </a:lnTo>
                    <a:lnTo>
                      <a:pt x="4871" y="2916"/>
                    </a:lnTo>
                    <a:lnTo>
                      <a:pt x="4800" y="2978"/>
                    </a:lnTo>
                    <a:lnTo>
                      <a:pt x="4728" y="3037"/>
                    </a:lnTo>
                    <a:lnTo>
                      <a:pt x="4653" y="3094"/>
                    </a:lnTo>
                    <a:lnTo>
                      <a:pt x="4577" y="3148"/>
                    </a:lnTo>
                    <a:lnTo>
                      <a:pt x="4499" y="3201"/>
                    </a:lnTo>
                    <a:lnTo>
                      <a:pt x="4588" y="3201"/>
                    </a:lnTo>
                    <a:lnTo>
                      <a:pt x="4634" y="3191"/>
                    </a:lnTo>
                    <a:lnTo>
                      <a:pt x="4709" y="3138"/>
                    </a:lnTo>
                    <a:lnTo>
                      <a:pt x="4783" y="3081"/>
                    </a:lnTo>
                    <a:lnTo>
                      <a:pt x="4853" y="3022"/>
                    </a:lnTo>
                    <a:lnTo>
                      <a:pt x="4922" y="2963"/>
                    </a:lnTo>
                    <a:lnTo>
                      <a:pt x="4990" y="2901"/>
                    </a:lnTo>
                    <a:lnTo>
                      <a:pt x="5056" y="2835"/>
                    </a:lnTo>
                    <a:lnTo>
                      <a:pt x="5120" y="2769"/>
                    </a:lnTo>
                    <a:lnTo>
                      <a:pt x="5182" y="2702"/>
                    </a:lnTo>
                    <a:lnTo>
                      <a:pt x="5241" y="2632"/>
                    </a:lnTo>
                    <a:lnTo>
                      <a:pt x="5299" y="2560"/>
                    </a:lnTo>
                    <a:lnTo>
                      <a:pt x="5354" y="2487"/>
                    </a:lnTo>
                    <a:lnTo>
                      <a:pt x="5408" y="2412"/>
                    </a:lnTo>
                    <a:lnTo>
                      <a:pt x="5460" y="2336"/>
                    </a:lnTo>
                    <a:lnTo>
                      <a:pt x="5509" y="2258"/>
                    </a:lnTo>
                    <a:lnTo>
                      <a:pt x="5556" y="2178"/>
                    </a:lnTo>
                    <a:lnTo>
                      <a:pt x="5600" y="2096"/>
                    </a:lnTo>
                    <a:lnTo>
                      <a:pt x="5642" y="2014"/>
                    </a:lnTo>
                    <a:lnTo>
                      <a:pt x="5682" y="1930"/>
                    </a:lnTo>
                    <a:lnTo>
                      <a:pt x="5720" y="1845"/>
                    </a:lnTo>
                    <a:lnTo>
                      <a:pt x="5755" y="1758"/>
                    </a:lnTo>
                    <a:lnTo>
                      <a:pt x="5788" y="1671"/>
                    </a:lnTo>
                    <a:lnTo>
                      <a:pt x="5817" y="1582"/>
                    </a:lnTo>
                    <a:lnTo>
                      <a:pt x="5844" y="1491"/>
                    </a:lnTo>
                    <a:lnTo>
                      <a:pt x="5869" y="1400"/>
                    </a:lnTo>
                    <a:lnTo>
                      <a:pt x="5891" y="1308"/>
                    </a:lnTo>
                    <a:lnTo>
                      <a:pt x="5909" y="1214"/>
                    </a:lnTo>
                    <a:lnTo>
                      <a:pt x="5926" y="1120"/>
                    </a:lnTo>
                    <a:lnTo>
                      <a:pt x="5940" y="1024"/>
                    </a:lnTo>
                    <a:lnTo>
                      <a:pt x="5950" y="928"/>
                    </a:lnTo>
                    <a:lnTo>
                      <a:pt x="5958" y="831"/>
                    </a:lnTo>
                    <a:lnTo>
                      <a:pt x="5962" y="732"/>
                    </a:lnTo>
                    <a:lnTo>
                      <a:pt x="5964" y="634"/>
                    </a:lnTo>
                    <a:close/>
                    <a:moveTo>
                      <a:pt x="0" y="1965"/>
                    </a:moveTo>
                    <a:lnTo>
                      <a:pt x="25" y="2016"/>
                    </a:lnTo>
                    <a:lnTo>
                      <a:pt x="51" y="2068"/>
                    </a:lnTo>
                    <a:lnTo>
                      <a:pt x="78" y="2119"/>
                    </a:lnTo>
                    <a:lnTo>
                      <a:pt x="106" y="2170"/>
                    </a:lnTo>
                    <a:lnTo>
                      <a:pt x="135" y="2219"/>
                    </a:lnTo>
                    <a:lnTo>
                      <a:pt x="164" y="2268"/>
                    </a:lnTo>
                    <a:lnTo>
                      <a:pt x="194" y="2317"/>
                    </a:lnTo>
                    <a:lnTo>
                      <a:pt x="226" y="2365"/>
                    </a:lnTo>
                    <a:lnTo>
                      <a:pt x="259" y="2412"/>
                    </a:lnTo>
                    <a:lnTo>
                      <a:pt x="291" y="2460"/>
                    </a:lnTo>
                    <a:lnTo>
                      <a:pt x="325" y="2506"/>
                    </a:lnTo>
                    <a:lnTo>
                      <a:pt x="359" y="2551"/>
                    </a:lnTo>
                    <a:lnTo>
                      <a:pt x="395" y="2595"/>
                    </a:lnTo>
                    <a:lnTo>
                      <a:pt x="432" y="2639"/>
                    </a:lnTo>
                    <a:lnTo>
                      <a:pt x="469" y="2683"/>
                    </a:lnTo>
                    <a:lnTo>
                      <a:pt x="507" y="2726"/>
                    </a:lnTo>
                    <a:lnTo>
                      <a:pt x="517" y="2720"/>
                    </a:lnTo>
                    <a:lnTo>
                      <a:pt x="571" y="2695"/>
                    </a:lnTo>
                    <a:lnTo>
                      <a:pt x="533" y="2653"/>
                    </a:lnTo>
                    <a:lnTo>
                      <a:pt x="496" y="2610"/>
                    </a:lnTo>
                    <a:lnTo>
                      <a:pt x="460" y="2567"/>
                    </a:lnTo>
                    <a:lnTo>
                      <a:pt x="425" y="2523"/>
                    </a:lnTo>
                    <a:lnTo>
                      <a:pt x="390" y="2477"/>
                    </a:lnTo>
                    <a:lnTo>
                      <a:pt x="356" y="2432"/>
                    </a:lnTo>
                    <a:lnTo>
                      <a:pt x="324" y="2386"/>
                    </a:lnTo>
                    <a:lnTo>
                      <a:pt x="291" y="2340"/>
                    </a:lnTo>
                    <a:lnTo>
                      <a:pt x="261" y="2293"/>
                    </a:lnTo>
                    <a:lnTo>
                      <a:pt x="230" y="2244"/>
                    </a:lnTo>
                    <a:lnTo>
                      <a:pt x="201" y="2196"/>
                    </a:lnTo>
                    <a:lnTo>
                      <a:pt x="172" y="2147"/>
                    </a:lnTo>
                    <a:lnTo>
                      <a:pt x="144" y="2097"/>
                    </a:lnTo>
                    <a:lnTo>
                      <a:pt x="118" y="2047"/>
                    </a:lnTo>
                    <a:lnTo>
                      <a:pt x="91" y="1995"/>
                    </a:lnTo>
                    <a:lnTo>
                      <a:pt x="66" y="1944"/>
                    </a:lnTo>
                    <a:lnTo>
                      <a:pt x="9" y="1958"/>
                    </a:lnTo>
                    <a:lnTo>
                      <a:pt x="0" y="196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782800" y="2801880"/>
                <a:ext cx="1871640" cy="1008000"/>
              </a:xfrm>
              <a:custGeom>
                <a:avLst/>
                <a:gdLst/>
                <a:ahLst/>
                <a:rect l="l" t="t" r="r" b="b"/>
                <a:pathLst>
                  <a:path w="5896" h="3175">
                    <a:moveTo>
                      <a:pt x="5896" y="604"/>
                    </a:moveTo>
                    <a:lnTo>
                      <a:pt x="5895" y="527"/>
                    </a:lnTo>
                    <a:lnTo>
                      <a:pt x="5892" y="449"/>
                    </a:lnTo>
                    <a:lnTo>
                      <a:pt x="5888" y="374"/>
                    </a:lnTo>
                    <a:lnTo>
                      <a:pt x="5881" y="297"/>
                    </a:lnTo>
                    <a:lnTo>
                      <a:pt x="5872" y="222"/>
                    </a:lnTo>
                    <a:lnTo>
                      <a:pt x="5863" y="147"/>
                    </a:lnTo>
                    <a:lnTo>
                      <a:pt x="5850" y="73"/>
                    </a:lnTo>
                    <a:lnTo>
                      <a:pt x="5836" y="0"/>
                    </a:lnTo>
                    <a:lnTo>
                      <a:pt x="5829" y="7"/>
                    </a:lnTo>
                    <a:lnTo>
                      <a:pt x="5773" y="37"/>
                    </a:lnTo>
                    <a:lnTo>
                      <a:pt x="5786" y="106"/>
                    </a:lnTo>
                    <a:lnTo>
                      <a:pt x="5797" y="175"/>
                    </a:lnTo>
                    <a:lnTo>
                      <a:pt x="5806" y="246"/>
                    </a:lnTo>
                    <a:lnTo>
                      <a:pt x="5813" y="316"/>
                    </a:lnTo>
                    <a:lnTo>
                      <a:pt x="5820" y="387"/>
                    </a:lnTo>
                    <a:lnTo>
                      <a:pt x="5824" y="459"/>
                    </a:lnTo>
                    <a:lnTo>
                      <a:pt x="5827" y="531"/>
                    </a:lnTo>
                    <a:lnTo>
                      <a:pt x="5827" y="604"/>
                    </a:lnTo>
                    <a:lnTo>
                      <a:pt x="5826" y="705"/>
                    </a:lnTo>
                    <a:lnTo>
                      <a:pt x="5821" y="806"/>
                    </a:lnTo>
                    <a:lnTo>
                      <a:pt x="5812" y="906"/>
                    </a:lnTo>
                    <a:lnTo>
                      <a:pt x="5801" y="1005"/>
                    </a:lnTo>
                    <a:lnTo>
                      <a:pt x="5786" y="1102"/>
                    </a:lnTo>
                    <a:lnTo>
                      <a:pt x="5769" y="1199"/>
                    </a:lnTo>
                    <a:lnTo>
                      <a:pt x="5748" y="1295"/>
                    </a:lnTo>
                    <a:lnTo>
                      <a:pt x="5724" y="1389"/>
                    </a:lnTo>
                    <a:lnTo>
                      <a:pt x="5698" y="1482"/>
                    </a:lnTo>
                    <a:lnTo>
                      <a:pt x="5668" y="1574"/>
                    </a:lnTo>
                    <a:lnTo>
                      <a:pt x="5636" y="1665"/>
                    </a:lnTo>
                    <a:lnTo>
                      <a:pt x="5601" y="1754"/>
                    </a:lnTo>
                    <a:lnTo>
                      <a:pt x="5563" y="1842"/>
                    </a:lnTo>
                    <a:lnTo>
                      <a:pt x="5522" y="1929"/>
                    </a:lnTo>
                    <a:lnTo>
                      <a:pt x="5479" y="2014"/>
                    </a:lnTo>
                    <a:lnTo>
                      <a:pt x="5434" y="2097"/>
                    </a:lnTo>
                    <a:lnTo>
                      <a:pt x="5386" y="2179"/>
                    </a:lnTo>
                    <a:lnTo>
                      <a:pt x="5334" y="2258"/>
                    </a:lnTo>
                    <a:lnTo>
                      <a:pt x="5281" y="2337"/>
                    </a:lnTo>
                    <a:lnTo>
                      <a:pt x="5226" y="2414"/>
                    </a:lnTo>
                    <a:lnTo>
                      <a:pt x="5168" y="2488"/>
                    </a:lnTo>
                    <a:lnTo>
                      <a:pt x="5108" y="2562"/>
                    </a:lnTo>
                    <a:lnTo>
                      <a:pt x="5045" y="2632"/>
                    </a:lnTo>
                    <a:lnTo>
                      <a:pt x="4981" y="2702"/>
                    </a:lnTo>
                    <a:lnTo>
                      <a:pt x="4915" y="2769"/>
                    </a:lnTo>
                    <a:lnTo>
                      <a:pt x="4845" y="2833"/>
                    </a:lnTo>
                    <a:lnTo>
                      <a:pt x="4775" y="2896"/>
                    </a:lnTo>
                    <a:lnTo>
                      <a:pt x="4702" y="2957"/>
                    </a:lnTo>
                    <a:lnTo>
                      <a:pt x="4628" y="3014"/>
                    </a:lnTo>
                    <a:lnTo>
                      <a:pt x="4552" y="3070"/>
                    </a:lnTo>
                    <a:lnTo>
                      <a:pt x="4474" y="3125"/>
                    </a:lnTo>
                    <a:lnTo>
                      <a:pt x="4394" y="3175"/>
                    </a:lnTo>
                    <a:lnTo>
                      <a:pt x="4414" y="3171"/>
                    </a:lnTo>
                    <a:lnTo>
                      <a:pt x="4529" y="3171"/>
                    </a:lnTo>
                    <a:lnTo>
                      <a:pt x="4605" y="3117"/>
                    </a:lnTo>
                    <a:lnTo>
                      <a:pt x="4679" y="3062"/>
                    </a:lnTo>
                    <a:lnTo>
                      <a:pt x="4753" y="3004"/>
                    </a:lnTo>
                    <a:lnTo>
                      <a:pt x="4824" y="2944"/>
                    </a:lnTo>
                    <a:lnTo>
                      <a:pt x="4894" y="2883"/>
                    </a:lnTo>
                    <a:lnTo>
                      <a:pt x="4961" y="2819"/>
                    </a:lnTo>
                    <a:lnTo>
                      <a:pt x="5026" y="2753"/>
                    </a:lnTo>
                    <a:lnTo>
                      <a:pt x="5090" y="2686"/>
                    </a:lnTo>
                    <a:lnTo>
                      <a:pt x="5152" y="2615"/>
                    </a:lnTo>
                    <a:lnTo>
                      <a:pt x="5211" y="2544"/>
                    </a:lnTo>
                    <a:lnTo>
                      <a:pt x="5269" y="2472"/>
                    </a:lnTo>
                    <a:lnTo>
                      <a:pt x="5324" y="2396"/>
                    </a:lnTo>
                    <a:lnTo>
                      <a:pt x="5377" y="2319"/>
                    </a:lnTo>
                    <a:lnTo>
                      <a:pt x="5428" y="2241"/>
                    </a:lnTo>
                    <a:lnTo>
                      <a:pt x="5476" y="2161"/>
                    </a:lnTo>
                    <a:lnTo>
                      <a:pt x="5522" y="2080"/>
                    </a:lnTo>
                    <a:lnTo>
                      <a:pt x="5565" y="1997"/>
                    </a:lnTo>
                    <a:lnTo>
                      <a:pt x="5606" y="1912"/>
                    </a:lnTo>
                    <a:lnTo>
                      <a:pt x="5645" y="1827"/>
                    </a:lnTo>
                    <a:lnTo>
                      <a:pt x="5681" y="1739"/>
                    </a:lnTo>
                    <a:lnTo>
                      <a:pt x="5715" y="1650"/>
                    </a:lnTo>
                    <a:lnTo>
                      <a:pt x="5745" y="1561"/>
                    </a:lnTo>
                    <a:lnTo>
                      <a:pt x="5773" y="1470"/>
                    </a:lnTo>
                    <a:lnTo>
                      <a:pt x="5799" y="1377"/>
                    </a:lnTo>
                    <a:lnTo>
                      <a:pt x="5821" y="1284"/>
                    </a:lnTo>
                    <a:lnTo>
                      <a:pt x="5841" y="1191"/>
                    </a:lnTo>
                    <a:lnTo>
                      <a:pt x="5858" y="1095"/>
                    </a:lnTo>
                    <a:lnTo>
                      <a:pt x="5871" y="998"/>
                    </a:lnTo>
                    <a:lnTo>
                      <a:pt x="5882" y="901"/>
                    </a:lnTo>
                    <a:lnTo>
                      <a:pt x="5890" y="803"/>
                    </a:lnTo>
                    <a:lnTo>
                      <a:pt x="5894" y="703"/>
                    </a:lnTo>
                    <a:lnTo>
                      <a:pt x="5896" y="604"/>
                    </a:lnTo>
                    <a:close/>
                    <a:moveTo>
                      <a:pt x="0" y="1922"/>
                    </a:moveTo>
                    <a:lnTo>
                      <a:pt x="25" y="1975"/>
                    </a:lnTo>
                    <a:lnTo>
                      <a:pt x="50" y="2025"/>
                    </a:lnTo>
                    <a:lnTo>
                      <a:pt x="77" y="2077"/>
                    </a:lnTo>
                    <a:lnTo>
                      <a:pt x="105" y="2126"/>
                    </a:lnTo>
                    <a:lnTo>
                      <a:pt x="134" y="2177"/>
                    </a:lnTo>
                    <a:lnTo>
                      <a:pt x="164" y="2225"/>
                    </a:lnTo>
                    <a:lnTo>
                      <a:pt x="194" y="2273"/>
                    </a:lnTo>
                    <a:lnTo>
                      <a:pt x="226" y="2321"/>
                    </a:lnTo>
                    <a:lnTo>
                      <a:pt x="257" y="2369"/>
                    </a:lnTo>
                    <a:lnTo>
                      <a:pt x="291" y="2415"/>
                    </a:lnTo>
                    <a:lnTo>
                      <a:pt x="324" y="2461"/>
                    </a:lnTo>
                    <a:lnTo>
                      <a:pt x="359" y="2506"/>
                    </a:lnTo>
                    <a:lnTo>
                      <a:pt x="395" y="2550"/>
                    </a:lnTo>
                    <a:lnTo>
                      <a:pt x="431" y="2594"/>
                    </a:lnTo>
                    <a:lnTo>
                      <a:pt x="468" y="2637"/>
                    </a:lnTo>
                    <a:lnTo>
                      <a:pt x="506" y="2681"/>
                    </a:lnTo>
                    <a:lnTo>
                      <a:pt x="542" y="2663"/>
                    </a:lnTo>
                    <a:lnTo>
                      <a:pt x="570" y="2648"/>
                    </a:lnTo>
                    <a:lnTo>
                      <a:pt x="532" y="2607"/>
                    </a:lnTo>
                    <a:lnTo>
                      <a:pt x="496" y="2565"/>
                    </a:lnTo>
                    <a:lnTo>
                      <a:pt x="460" y="2522"/>
                    </a:lnTo>
                    <a:lnTo>
                      <a:pt x="424" y="2478"/>
                    </a:lnTo>
                    <a:lnTo>
                      <a:pt x="391" y="2434"/>
                    </a:lnTo>
                    <a:lnTo>
                      <a:pt x="357" y="2389"/>
                    </a:lnTo>
                    <a:lnTo>
                      <a:pt x="323" y="2343"/>
                    </a:lnTo>
                    <a:lnTo>
                      <a:pt x="292" y="2297"/>
                    </a:lnTo>
                    <a:lnTo>
                      <a:pt x="260" y="2250"/>
                    </a:lnTo>
                    <a:lnTo>
                      <a:pt x="231" y="2203"/>
                    </a:lnTo>
                    <a:lnTo>
                      <a:pt x="201" y="2154"/>
                    </a:lnTo>
                    <a:lnTo>
                      <a:pt x="173" y="2106"/>
                    </a:lnTo>
                    <a:lnTo>
                      <a:pt x="145" y="2057"/>
                    </a:lnTo>
                    <a:lnTo>
                      <a:pt x="118" y="2007"/>
                    </a:lnTo>
                    <a:lnTo>
                      <a:pt x="92" y="1957"/>
                    </a:lnTo>
                    <a:lnTo>
                      <a:pt x="68" y="1907"/>
                    </a:lnTo>
                    <a:lnTo>
                      <a:pt x="0" y="192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2520" y="2808360"/>
                <a:ext cx="1850760" cy="1009440"/>
              </a:xfrm>
              <a:custGeom>
                <a:avLst/>
                <a:gdLst/>
                <a:ahLst/>
                <a:rect l="l" t="t" r="r" b="b"/>
                <a:pathLst>
                  <a:path w="5829" h="3182">
                    <a:moveTo>
                      <a:pt x="5829" y="584"/>
                    </a:moveTo>
                    <a:lnTo>
                      <a:pt x="5828" y="509"/>
                    </a:lnTo>
                    <a:lnTo>
                      <a:pt x="5826" y="435"/>
                    </a:lnTo>
                    <a:lnTo>
                      <a:pt x="5820" y="361"/>
                    </a:lnTo>
                    <a:lnTo>
                      <a:pt x="5815" y="288"/>
                    </a:lnTo>
                    <a:lnTo>
                      <a:pt x="5807" y="215"/>
                    </a:lnTo>
                    <a:lnTo>
                      <a:pt x="5797" y="143"/>
                    </a:lnTo>
                    <a:lnTo>
                      <a:pt x="5786" y="71"/>
                    </a:lnTo>
                    <a:lnTo>
                      <a:pt x="5773" y="0"/>
                    </a:lnTo>
                    <a:lnTo>
                      <a:pt x="5739" y="18"/>
                    </a:lnTo>
                    <a:lnTo>
                      <a:pt x="5709" y="31"/>
                    </a:lnTo>
                    <a:lnTo>
                      <a:pt x="5720" y="99"/>
                    </a:lnTo>
                    <a:lnTo>
                      <a:pt x="5731" y="167"/>
                    </a:lnTo>
                    <a:lnTo>
                      <a:pt x="5739" y="235"/>
                    </a:lnTo>
                    <a:lnTo>
                      <a:pt x="5747" y="304"/>
                    </a:lnTo>
                    <a:lnTo>
                      <a:pt x="5753" y="374"/>
                    </a:lnTo>
                    <a:lnTo>
                      <a:pt x="5757" y="443"/>
                    </a:lnTo>
                    <a:lnTo>
                      <a:pt x="5759" y="513"/>
                    </a:lnTo>
                    <a:lnTo>
                      <a:pt x="5760" y="584"/>
                    </a:lnTo>
                    <a:lnTo>
                      <a:pt x="5758" y="688"/>
                    </a:lnTo>
                    <a:lnTo>
                      <a:pt x="5753" y="790"/>
                    </a:lnTo>
                    <a:lnTo>
                      <a:pt x="5745" y="893"/>
                    </a:lnTo>
                    <a:lnTo>
                      <a:pt x="5732" y="994"/>
                    </a:lnTo>
                    <a:lnTo>
                      <a:pt x="5716" y="1094"/>
                    </a:lnTo>
                    <a:lnTo>
                      <a:pt x="5698" y="1193"/>
                    </a:lnTo>
                    <a:lnTo>
                      <a:pt x="5676" y="1290"/>
                    </a:lnTo>
                    <a:lnTo>
                      <a:pt x="5651" y="1387"/>
                    </a:lnTo>
                    <a:lnTo>
                      <a:pt x="5623" y="1482"/>
                    </a:lnTo>
                    <a:lnTo>
                      <a:pt x="5591" y="1576"/>
                    </a:lnTo>
                    <a:lnTo>
                      <a:pt x="5558" y="1668"/>
                    </a:lnTo>
                    <a:lnTo>
                      <a:pt x="5520" y="1759"/>
                    </a:lnTo>
                    <a:lnTo>
                      <a:pt x="5480" y="1849"/>
                    </a:lnTo>
                    <a:lnTo>
                      <a:pt x="5437" y="1936"/>
                    </a:lnTo>
                    <a:lnTo>
                      <a:pt x="5391" y="2022"/>
                    </a:lnTo>
                    <a:lnTo>
                      <a:pt x="5343" y="2107"/>
                    </a:lnTo>
                    <a:lnTo>
                      <a:pt x="5292" y="2190"/>
                    </a:lnTo>
                    <a:lnTo>
                      <a:pt x="5239" y="2271"/>
                    </a:lnTo>
                    <a:lnTo>
                      <a:pt x="5182" y="2350"/>
                    </a:lnTo>
                    <a:lnTo>
                      <a:pt x="5124" y="2427"/>
                    </a:lnTo>
                    <a:lnTo>
                      <a:pt x="5062" y="2502"/>
                    </a:lnTo>
                    <a:lnTo>
                      <a:pt x="4999" y="2575"/>
                    </a:lnTo>
                    <a:lnTo>
                      <a:pt x="4934" y="2647"/>
                    </a:lnTo>
                    <a:lnTo>
                      <a:pt x="4866" y="2715"/>
                    </a:lnTo>
                    <a:lnTo>
                      <a:pt x="4797" y="2782"/>
                    </a:lnTo>
                    <a:lnTo>
                      <a:pt x="4724" y="2846"/>
                    </a:lnTo>
                    <a:lnTo>
                      <a:pt x="4649" y="2908"/>
                    </a:lnTo>
                    <a:lnTo>
                      <a:pt x="4574" y="2968"/>
                    </a:lnTo>
                    <a:lnTo>
                      <a:pt x="4495" y="3026"/>
                    </a:lnTo>
                    <a:lnTo>
                      <a:pt x="4415" y="3081"/>
                    </a:lnTo>
                    <a:lnTo>
                      <a:pt x="4333" y="3132"/>
                    </a:lnTo>
                    <a:lnTo>
                      <a:pt x="4250" y="3182"/>
                    </a:lnTo>
                    <a:lnTo>
                      <a:pt x="4270" y="3177"/>
                    </a:lnTo>
                    <a:lnTo>
                      <a:pt x="4381" y="3151"/>
                    </a:lnTo>
                    <a:lnTo>
                      <a:pt x="4433" y="3151"/>
                    </a:lnTo>
                    <a:lnTo>
                      <a:pt x="4511" y="3098"/>
                    </a:lnTo>
                    <a:lnTo>
                      <a:pt x="4587" y="3044"/>
                    </a:lnTo>
                    <a:lnTo>
                      <a:pt x="4662" y="2987"/>
                    </a:lnTo>
                    <a:lnTo>
                      <a:pt x="4734" y="2928"/>
                    </a:lnTo>
                    <a:lnTo>
                      <a:pt x="4805" y="2866"/>
                    </a:lnTo>
                    <a:lnTo>
                      <a:pt x="4873" y="2803"/>
                    </a:lnTo>
                    <a:lnTo>
                      <a:pt x="4941" y="2738"/>
                    </a:lnTo>
                    <a:lnTo>
                      <a:pt x="5006" y="2671"/>
                    </a:lnTo>
                    <a:lnTo>
                      <a:pt x="5068" y="2602"/>
                    </a:lnTo>
                    <a:lnTo>
                      <a:pt x="5129" y="2530"/>
                    </a:lnTo>
                    <a:lnTo>
                      <a:pt x="5188" y="2457"/>
                    </a:lnTo>
                    <a:lnTo>
                      <a:pt x="5244" y="2382"/>
                    </a:lnTo>
                    <a:lnTo>
                      <a:pt x="5298" y="2306"/>
                    </a:lnTo>
                    <a:lnTo>
                      <a:pt x="5349" y="2228"/>
                    </a:lnTo>
                    <a:lnTo>
                      <a:pt x="5399" y="2147"/>
                    </a:lnTo>
                    <a:lnTo>
                      <a:pt x="5446" y="2066"/>
                    </a:lnTo>
                    <a:lnTo>
                      <a:pt x="5490" y="1983"/>
                    </a:lnTo>
                    <a:lnTo>
                      <a:pt x="5532" y="1898"/>
                    </a:lnTo>
                    <a:lnTo>
                      <a:pt x="5572" y="1812"/>
                    </a:lnTo>
                    <a:lnTo>
                      <a:pt x="5609" y="1725"/>
                    </a:lnTo>
                    <a:lnTo>
                      <a:pt x="5643" y="1636"/>
                    </a:lnTo>
                    <a:lnTo>
                      <a:pt x="5674" y="1545"/>
                    </a:lnTo>
                    <a:lnTo>
                      <a:pt x="5703" y="1454"/>
                    </a:lnTo>
                    <a:lnTo>
                      <a:pt x="5729" y="1362"/>
                    </a:lnTo>
                    <a:lnTo>
                      <a:pt x="5752" y="1268"/>
                    </a:lnTo>
                    <a:lnTo>
                      <a:pt x="5772" y="1174"/>
                    </a:lnTo>
                    <a:lnTo>
                      <a:pt x="5789" y="1077"/>
                    </a:lnTo>
                    <a:lnTo>
                      <a:pt x="5803" y="981"/>
                    </a:lnTo>
                    <a:lnTo>
                      <a:pt x="5814" y="883"/>
                    </a:lnTo>
                    <a:lnTo>
                      <a:pt x="5822" y="784"/>
                    </a:lnTo>
                    <a:lnTo>
                      <a:pt x="5828" y="684"/>
                    </a:lnTo>
                    <a:lnTo>
                      <a:pt x="5829" y="584"/>
                    </a:lnTo>
                    <a:close/>
                    <a:moveTo>
                      <a:pt x="0" y="1894"/>
                    </a:moveTo>
                    <a:lnTo>
                      <a:pt x="25" y="1945"/>
                    </a:lnTo>
                    <a:lnTo>
                      <a:pt x="52" y="1997"/>
                    </a:lnTo>
                    <a:lnTo>
                      <a:pt x="78" y="2047"/>
                    </a:lnTo>
                    <a:lnTo>
                      <a:pt x="106" y="2097"/>
                    </a:lnTo>
                    <a:lnTo>
                      <a:pt x="135" y="2146"/>
                    </a:lnTo>
                    <a:lnTo>
                      <a:pt x="164" y="2194"/>
                    </a:lnTo>
                    <a:lnTo>
                      <a:pt x="195" y="2243"/>
                    </a:lnTo>
                    <a:lnTo>
                      <a:pt x="225" y="2290"/>
                    </a:lnTo>
                    <a:lnTo>
                      <a:pt x="258" y="2336"/>
                    </a:lnTo>
                    <a:lnTo>
                      <a:pt x="290" y="2382"/>
                    </a:lnTo>
                    <a:lnTo>
                      <a:pt x="324" y="2427"/>
                    </a:lnTo>
                    <a:lnTo>
                      <a:pt x="359" y="2473"/>
                    </a:lnTo>
                    <a:lnTo>
                      <a:pt x="394" y="2517"/>
                    </a:lnTo>
                    <a:lnTo>
                      <a:pt x="430" y="2560"/>
                    </a:lnTo>
                    <a:lnTo>
                      <a:pt x="467" y="2603"/>
                    </a:lnTo>
                    <a:lnTo>
                      <a:pt x="505" y="2645"/>
                    </a:lnTo>
                    <a:lnTo>
                      <a:pt x="509" y="2643"/>
                    </a:lnTo>
                    <a:lnTo>
                      <a:pt x="566" y="2613"/>
                    </a:lnTo>
                    <a:lnTo>
                      <a:pt x="568" y="2611"/>
                    </a:lnTo>
                    <a:lnTo>
                      <a:pt x="531" y="2570"/>
                    </a:lnTo>
                    <a:lnTo>
                      <a:pt x="494" y="2528"/>
                    </a:lnTo>
                    <a:lnTo>
                      <a:pt x="458" y="2486"/>
                    </a:lnTo>
                    <a:lnTo>
                      <a:pt x="424" y="2443"/>
                    </a:lnTo>
                    <a:lnTo>
                      <a:pt x="389" y="2399"/>
                    </a:lnTo>
                    <a:lnTo>
                      <a:pt x="355" y="2355"/>
                    </a:lnTo>
                    <a:lnTo>
                      <a:pt x="323" y="2310"/>
                    </a:lnTo>
                    <a:lnTo>
                      <a:pt x="291" y="2265"/>
                    </a:lnTo>
                    <a:lnTo>
                      <a:pt x="261" y="2218"/>
                    </a:lnTo>
                    <a:lnTo>
                      <a:pt x="230" y="2171"/>
                    </a:lnTo>
                    <a:lnTo>
                      <a:pt x="201" y="2124"/>
                    </a:lnTo>
                    <a:lnTo>
                      <a:pt x="173" y="2076"/>
                    </a:lnTo>
                    <a:lnTo>
                      <a:pt x="145" y="2027"/>
                    </a:lnTo>
                    <a:lnTo>
                      <a:pt x="119" y="1978"/>
                    </a:lnTo>
                    <a:lnTo>
                      <a:pt x="94" y="1929"/>
                    </a:lnTo>
                    <a:lnTo>
                      <a:pt x="69" y="1878"/>
                    </a:lnTo>
                    <a:lnTo>
                      <a:pt x="58" y="1881"/>
                    </a:lnTo>
                    <a:lnTo>
                      <a:pt x="0" y="189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803680" y="2813040"/>
                <a:ext cx="1828800" cy="1012680"/>
              </a:xfrm>
              <a:custGeom>
                <a:avLst/>
                <a:gdLst/>
                <a:ahLst/>
                <a:rect l="l" t="t" r="r" b="b"/>
                <a:pathLst>
                  <a:path w="5759" h="3190">
                    <a:moveTo>
                      <a:pt x="5759" y="567"/>
                    </a:moveTo>
                    <a:lnTo>
                      <a:pt x="5759" y="494"/>
                    </a:lnTo>
                    <a:lnTo>
                      <a:pt x="5756" y="422"/>
                    </a:lnTo>
                    <a:lnTo>
                      <a:pt x="5752" y="350"/>
                    </a:lnTo>
                    <a:lnTo>
                      <a:pt x="5745" y="279"/>
                    </a:lnTo>
                    <a:lnTo>
                      <a:pt x="5738" y="209"/>
                    </a:lnTo>
                    <a:lnTo>
                      <a:pt x="5729" y="138"/>
                    </a:lnTo>
                    <a:lnTo>
                      <a:pt x="5718" y="69"/>
                    </a:lnTo>
                    <a:lnTo>
                      <a:pt x="5705" y="0"/>
                    </a:lnTo>
                    <a:lnTo>
                      <a:pt x="5704" y="1"/>
                    </a:lnTo>
                    <a:lnTo>
                      <a:pt x="5647" y="27"/>
                    </a:lnTo>
                    <a:lnTo>
                      <a:pt x="5641" y="30"/>
                    </a:lnTo>
                    <a:lnTo>
                      <a:pt x="5653" y="95"/>
                    </a:lnTo>
                    <a:lnTo>
                      <a:pt x="5662" y="161"/>
                    </a:lnTo>
                    <a:lnTo>
                      <a:pt x="5671" y="229"/>
                    </a:lnTo>
                    <a:lnTo>
                      <a:pt x="5678" y="295"/>
                    </a:lnTo>
                    <a:lnTo>
                      <a:pt x="5683" y="362"/>
                    </a:lnTo>
                    <a:lnTo>
                      <a:pt x="5688" y="430"/>
                    </a:lnTo>
                    <a:lnTo>
                      <a:pt x="5690" y="498"/>
                    </a:lnTo>
                    <a:lnTo>
                      <a:pt x="5691" y="567"/>
                    </a:lnTo>
                    <a:lnTo>
                      <a:pt x="5689" y="674"/>
                    </a:lnTo>
                    <a:lnTo>
                      <a:pt x="5683" y="779"/>
                    </a:lnTo>
                    <a:lnTo>
                      <a:pt x="5674" y="884"/>
                    </a:lnTo>
                    <a:lnTo>
                      <a:pt x="5661" y="987"/>
                    </a:lnTo>
                    <a:lnTo>
                      <a:pt x="5644" y="1090"/>
                    </a:lnTo>
                    <a:lnTo>
                      <a:pt x="5624" y="1190"/>
                    </a:lnTo>
                    <a:lnTo>
                      <a:pt x="5601" y="1290"/>
                    </a:lnTo>
                    <a:lnTo>
                      <a:pt x="5575" y="1389"/>
                    </a:lnTo>
                    <a:lnTo>
                      <a:pt x="5545" y="1485"/>
                    </a:lnTo>
                    <a:lnTo>
                      <a:pt x="5512" y="1581"/>
                    </a:lnTo>
                    <a:lnTo>
                      <a:pt x="5475" y="1675"/>
                    </a:lnTo>
                    <a:lnTo>
                      <a:pt x="5436" y="1768"/>
                    </a:lnTo>
                    <a:lnTo>
                      <a:pt x="5393" y="1859"/>
                    </a:lnTo>
                    <a:lnTo>
                      <a:pt x="5348" y="1948"/>
                    </a:lnTo>
                    <a:lnTo>
                      <a:pt x="5300" y="2036"/>
                    </a:lnTo>
                    <a:lnTo>
                      <a:pt x="5249" y="2122"/>
                    </a:lnTo>
                    <a:lnTo>
                      <a:pt x="5195" y="2205"/>
                    </a:lnTo>
                    <a:lnTo>
                      <a:pt x="5138" y="2287"/>
                    </a:lnTo>
                    <a:lnTo>
                      <a:pt x="5079" y="2366"/>
                    </a:lnTo>
                    <a:lnTo>
                      <a:pt x="5017" y="2444"/>
                    </a:lnTo>
                    <a:lnTo>
                      <a:pt x="4953" y="2520"/>
                    </a:lnTo>
                    <a:lnTo>
                      <a:pt x="4886" y="2593"/>
                    </a:lnTo>
                    <a:lnTo>
                      <a:pt x="4817" y="2663"/>
                    </a:lnTo>
                    <a:lnTo>
                      <a:pt x="4746" y="2733"/>
                    </a:lnTo>
                    <a:lnTo>
                      <a:pt x="4671" y="2799"/>
                    </a:lnTo>
                    <a:lnTo>
                      <a:pt x="4595" y="2863"/>
                    </a:lnTo>
                    <a:lnTo>
                      <a:pt x="4518" y="2924"/>
                    </a:lnTo>
                    <a:lnTo>
                      <a:pt x="4437" y="2983"/>
                    </a:lnTo>
                    <a:lnTo>
                      <a:pt x="4355" y="3038"/>
                    </a:lnTo>
                    <a:lnTo>
                      <a:pt x="4271" y="3092"/>
                    </a:lnTo>
                    <a:lnTo>
                      <a:pt x="4184" y="3142"/>
                    </a:lnTo>
                    <a:lnTo>
                      <a:pt x="4097" y="3190"/>
                    </a:lnTo>
                    <a:lnTo>
                      <a:pt x="4235" y="3160"/>
                    </a:lnTo>
                    <a:lnTo>
                      <a:pt x="4326" y="3138"/>
                    </a:lnTo>
                    <a:lnTo>
                      <a:pt x="4406" y="3088"/>
                    </a:lnTo>
                    <a:lnTo>
                      <a:pt x="4484" y="3033"/>
                    </a:lnTo>
                    <a:lnTo>
                      <a:pt x="4560" y="2977"/>
                    </a:lnTo>
                    <a:lnTo>
                      <a:pt x="4634" y="2920"/>
                    </a:lnTo>
                    <a:lnTo>
                      <a:pt x="4707" y="2859"/>
                    </a:lnTo>
                    <a:lnTo>
                      <a:pt x="4777" y="2796"/>
                    </a:lnTo>
                    <a:lnTo>
                      <a:pt x="4847" y="2732"/>
                    </a:lnTo>
                    <a:lnTo>
                      <a:pt x="4913" y="2665"/>
                    </a:lnTo>
                    <a:lnTo>
                      <a:pt x="4977" y="2595"/>
                    </a:lnTo>
                    <a:lnTo>
                      <a:pt x="5040" y="2525"/>
                    </a:lnTo>
                    <a:lnTo>
                      <a:pt x="5100" y="2451"/>
                    </a:lnTo>
                    <a:lnTo>
                      <a:pt x="5158" y="2377"/>
                    </a:lnTo>
                    <a:lnTo>
                      <a:pt x="5213" y="2300"/>
                    </a:lnTo>
                    <a:lnTo>
                      <a:pt x="5266" y="2221"/>
                    </a:lnTo>
                    <a:lnTo>
                      <a:pt x="5318" y="2142"/>
                    </a:lnTo>
                    <a:lnTo>
                      <a:pt x="5366" y="2060"/>
                    </a:lnTo>
                    <a:lnTo>
                      <a:pt x="5411" y="1977"/>
                    </a:lnTo>
                    <a:lnTo>
                      <a:pt x="5454" y="1892"/>
                    </a:lnTo>
                    <a:lnTo>
                      <a:pt x="5495" y="1805"/>
                    </a:lnTo>
                    <a:lnTo>
                      <a:pt x="5533" y="1717"/>
                    </a:lnTo>
                    <a:lnTo>
                      <a:pt x="5568" y="1628"/>
                    </a:lnTo>
                    <a:lnTo>
                      <a:pt x="5600" y="1537"/>
                    </a:lnTo>
                    <a:lnTo>
                      <a:pt x="5630" y="1445"/>
                    </a:lnTo>
                    <a:lnTo>
                      <a:pt x="5656" y="1352"/>
                    </a:lnTo>
                    <a:lnTo>
                      <a:pt x="5680" y="1258"/>
                    </a:lnTo>
                    <a:lnTo>
                      <a:pt x="5701" y="1162"/>
                    </a:lnTo>
                    <a:lnTo>
                      <a:pt x="5718" y="1065"/>
                    </a:lnTo>
                    <a:lnTo>
                      <a:pt x="5733" y="968"/>
                    </a:lnTo>
                    <a:lnTo>
                      <a:pt x="5744" y="869"/>
                    </a:lnTo>
                    <a:lnTo>
                      <a:pt x="5753" y="769"/>
                    </a:lnTo>
                    <a:lnTo>
                      <a:pt x="5758" y="668"/>
                    </a:lnTo>
                    <a:lnTo>
                      <a:pt x="5759" y="567"/>
                    </a:lnTo>
                    <a:close/>
                    <a:moveTo>
                      <a:pt x="0" y="1870"/>
                    </a:moveTo>
                    <a:lnTo>
                      <a:pt x="24" y="1920"/>
                    </a:lnTo>
                    <a:lnTo>
                      <a:pt x="50" y="1970"/>
                    </a:lnTo>
                    <a:lnTo>
                      <a:pt x="77" y="2020"/>
                    </a:lnTo>
                    <a:lnTo>
                      <a:pt x="105" y="2069"/>
                    </a:lnTo>
                    <a:lnTo>
                      <a:pt x="133" y="2117"/>
                    </a:lnTo>
                    <a:lnTo>
                      <a:pt x="163" y="2166"/>
                    </a:lnTo>
                    <a:lnTo>
                      <a:pt x="192" y="2213"/>
                    </a:lnTo>
                    <a:lnTo>
                      <a:pt x="224" y="2260"/>
                    </a:lnTo>
                    <a:lnTo>
                      <a:pt x="255" y="2306"/>
                    </a:lnTo>
                    <a:lnTo>
                      <a:pt x="289" y="2352"/>
                    </a:lnTo>
                    <a:lnTo>
                      <a:pt x="323" y="2397"/>
                    </a:lnTo>
                    <a:lnTo>
                      <a:pt x="356" y="2441"/>
                    </a:lnTo>
                    <a:lnTo>
                      <a:pt x="392" y="2485"/>
                    </a:lnTo>
                    <a:lnTo>
                      <a:pt x="428" y="2528"/>
                    </a:lnTo>
                    <a:lnTo>
                      <a:pt x="464" y="2570"/>
                    </a:lnTo>
                    <a:lnTo>
                      <a:pt x="502" y="2611"/>
                    </a:lnTo>
                    <a:lnTo>
                      <a:pt x="531" y="2596"/>
                    </a:lnTo>
                    <a:lnTo>
                      <a:pt x="557" y="2570"/>
                    </a:lnTo>
                    <a:lnTo>
                      <a:pt x="520" y="2530"/>
                    </a:lnTo>
                    <a:lnTo>
                      <a:pt x="484" y="2489"/>
                    </a:lnTo>
                    <a:lnTo>
                      <a:pt x="450" y="2447"/>
                    </a:lnTo>
                    <a:lnTo>
                      <a:pt x="416" y="2405"/>
                    </a:lnTo>
                    <a:lnTo>
                      <a:pt x="382" y="2362"/>
                    </a:lnTo>
                    <a:lnTo>
                      <a:pt x="350" y="2319"/>
                    </a:lnTo>
                    <a:lnTo>
                      <a:pt x="317" y="2275"/>
                    </a:lnTo>
                    <a:lnTo>
                      <a:pt x="287" y="2230"/>
                    </a:lnTo>
                    <a:lnTo>
                      <a:pt x="256" y="2185"/>
                    </a:lnTo>
                    <a:lnTo>
                      <a:pt x="227" y="2138"/>
                    </a:lnTo>
                    <a:lnTo>
                      <a:pt x="197" y="2092"/>
                    </a:lnTo>
                    <a:lnTo>
                      <a:pt x="170" y="2045"/>
                    </a:lnTo>
                    <a:lnTo>
                      <a:pt x="143" y="1998"/>
                    </a:lnTo>
                    <a:lnTo>
                      <a:pt x="117" y="1949"/>
                    </a:lnTo>
                    <a:lnTo>
                      <a:pt x="91" y="1901"/>
                    </a:lnTo>
                    <a:lnTo>
                      <a:pt x="67" y="1852"/>
                    </a:lnTo>
                    <a:lnTo>
                      <a:pt x="23" y="1864"/>
                    </a:lnTo>
                    <a:lnTo>
                      <a:pt x="0" y="187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814480" y="2817720"/>
                <a:ext cx="1806840" cy="1008000"/>
              </a:xfrm>
              <a:custGeom>
                <a:avLst/>
                <a:gdLst/>
                <a:ahLst/>
                <a:rect l="l" t="t" r="r" b="b"/>
                <a:pathLst>
                  <a:path w="5691" h="3177">
                    <a:moveTo>
                      <a:pt x="5691" y="553"/>
                    </a:moveTo>
                    <a:lnTo>
                      <a:pt x="5690" y="482"/>
                    </a:lnTo>
                    <a:lnTo>
                      <a:pt x="5688" y="412"/>
                    </a:lnTo>
                    <a:lnTo>
                      <a:pt x="5684" y="343"/>
                    </a:lnTo>
                    <a:lnTo>
                      <a:pt x="5678" y="273"/>
                    </a:lnTo>
                    <a:lnTo>
                      <a:pt x="5670" y="204"/>
                    </a:lnTo>
                    <a:lnTo>
                      <a:pt x="5662" y="136"/>
                    </a:lnTo>
                    <a:lnTo>
                      <a:pt x="5651" y="68"/>
                    </a:lnTo>
                    <a:lnTo>
                      <a:pt x="5640" y="0"/>
                    </a:lnTo>
                    <a:lnTo>
                      <a:pt x="5613" y="13"/>
                    </a:lnTo>
                    <a:lnTo>
                      <a:pt x="5576" y="31"/>
                    </a:lnTo>
                    <a:lnTo>
                      <a:pt x="5586" y="95"/>
                    </a:lnTo>
                    <a:lnTo>
                      <a:pt x="5596" y="159"/>
                    </a:lnTo>
                    <a:lnTo>
                      <a:pt x="5604" y="224"/>
                    </a:lnTo>
                    <a:lnTo>
                      <a:pt x="5610" y="289"/>
                    </a:lnTo>
                    <a:lnTo>
                      <a:pt x="5616" y="354"/>
                    </a:lnTo>
                    <a:lnTo>
                      <a:pt x="5619" y="420"/>
                    </a:lnTo>
                    <a:lnTo>
                      <a:pt x="5622" y="486"/>
                    </a:lnTo>
                    <a:lnTo>
                      <a:pt x="5622" y="553"/>
                    </a:lnTo>
                    <a:lnTo>
                      <a:pt x="5620" y="661"/>
                    </a:lnTo>
                    <a:lnTo>
                      <a:pt x="5615" y="767"/>
                    </a:lnTo>
                    <a:lnTo>
                      <a:pt x="5605" y="873"/>
                    </a:lnTo>
                    <a:lnTo>
                      <a:pt x="5592" y="977"/>
                    </a:lnTo>
                    <a:lnTo>
                      <a:pt x="5575" y="1080"/>
                    </a:lnTo>
                    <a:lnTo>
                      <a:pt x="5554" y="1182"/>
                    </a:lnTo>
                    <a:lnTo>
                      <a:pt x="5531" y="1282"/>
                    </a:lnTo>
                    <a:lnTo>
                      <a:pt x="5503" y="1382"/>
                    </a:lnTo>
                    <a:lnTo>
                      <a:pt x="5472" y="1480"/>
                    </a:lnTo>
                    <a:lnTo>
                      <a:pt x="5438" y="1576"/>
                    </a:lnTo>
                    <a:lnTo>
                      <a:pt x="5400" y="1671"/>
                    </a:lnTo>
                    <a:lnTo>
                      <a:pt x="5360" y="1764"/>
                    </a:lnTo>
                    <a:lnTo>
                      <a:pt x="5316" y="1856"/>
                    </a:lnTo>
                    <a:lnTo>
                      <a:pt x="5270" y="1945"/>
                    </a:lnTo>
                    <a:lnTo>
                      <a:pt x="5219" y="2032"/>
                    </a:lnTo>
                    <a:lnTo>
                      <a:pt x="5167" y="2118"/>
                    </a:lnTo>
                    <a:lnTo>
                      <a:pt x="5112" y="2202"/>
                    </a:lnTo>
                    <a:lnTo>
                      <a:pt x="5053" y="2284"/>
                    </a:lnTo>
                    <a:lnTo>
                      <a:pt x="4992" y="2364"/>
                    </a:lnTo>
                    <a:lnTo>
                      <a:pt x="4929" y="2442"/>
                    </a:lnTo>
                    <a:lnTo>
                      <a:pt x="4863" y="2516"/>
                    </a:lnTo>
                    <a:lnTo>
                      <a:pt x="4795" y="2590"/>
                    </a:lnTo>
                    <a:lnTo>
                      <a:pt x="4723" y="2660"/>
                    </a:lnTo>
                    <a:lnTo>
                      <a:pt x="4650" y="2728"/>
                    </a:lnTo>
                    <a:lnTo>
                      <a:pt x="4574" y="2793"/>
                    </a:lnTo>
                    <a:lnTo>
                      <a:pt x="4496" y="2856"/>
                    </a:lnTo>
                    <a:lnTo>
                      <a:pt x="4416" y="2917"/>
                    </a:lnTo>
                    <a:lnTo>
                      <a:pt x="4333" y="2975"/>
                    </a:lnTo>
                    <a:lnTo>
                      <a:pt x="4249" y="3030"/>
                    </a:lnTo>
                    <a:lnTo>
                      <a:pt x="4163" y="3081"/>
                    </a:lnTo>
                    <a:lnTo>
                      <a:pt x="4075" y="3130"/>
                    </a:lnTo>
                    <a:lnTo>
                      <a:pt x="3985" y="3177"/>
                    </a:lnTo>
                    <a:lnTo>
                      <a:pt x="4059" y="3177"/>
                    </a:lnTo>
                    <a:lnTo>
                      <a:pt x="4181" y="3151"/>
                    </a:lnTo>
                    <a:lnTo>
                      <a:pt x="4264" y="3101"/>
                    </a:lnTo>
                    <a:lnTo>
                      <a:pt x="4346" y="3050"/>
                    </a:lnTo>
                    <a:lnTo>
                      <a:pt x="4426" y="2995"/>
                    </a:lnTo>
                    <a:lnTo>
                      <a:pt x="4505" y="2937"/>
                    </a:lnTo>
                    <a:lnTo>
                      <a:pt x="4580" y="2877"/>
                    </a:lnTo>
                    <a:lnTo>
                      <a:pt x="4655" y="2815"/>
                    </a:lnTo>
                    <a:lnTo>
                      <a:pt x="4728" y="2751"/>
                    </a:lnTo>
                    <a:lnTo>
                      <a:pt x="4797" y="2684"/>
                    </a:lnTo>
                    <a:lnTo>
                      <a:pt x="4865" y="2616"/>
                    </a:lnTo>
                    <a:lnTo>
                      <a:pt x="4930" y="2544"/>
                    </a:lnTo>
                    <a:lnTo>
                      <a:pt x="4993" y="2471"/>
                    </a:lnTo>
                    <a:lnTo>
                      <a:pt x="5055" y="2396"/>
                    </a:lnTo>
                    <a:lnTo>
                      <a:pt x="5113" y="2319"/>
                    </a:lnTo>
                    <a:lnTo>
                      <a:pt x="5170" y="2240"/>
                    </a:lnTo>
                    <a:lnTo>
                      <a:pt x="5223" y="2159"/>
                    </a:lnTo>
                    <a:lnTo>
                      <a:pt x="5274" y="2076"/>
                    </a:lnTo>
                    <a:lnTo>
                      <a:pt x="5322" y="1991"/>
                    </a:lnTo>
                    <a:lnTo>
                      <a:pt x="5368" y="1905"/>
                    </a:lnTo>
                    <a:lnTo>
                      <a:pt x="5411" y="1818"/>
                    </a:lnTo>
                    <a:lnTo>
                      <a:pt x="5451" y="1728"/>
                    </a:lnTo>
                    <a:lnTo>
                      <a:pt x="5489" y="1637"/>
                    </a:lnTo>
                    <a:lnTo>
                      <a:pt x="5522" y="1545"/>
                    </a:lnTo>
                    <a:lnTo>
                      <a:pt x="5554" y="1451"/>
                    </a:lnTo>
                    <a:lnTo>
                      <a:pt x="5582" y="1356"/>
                    </a:lnTo>
                    <a:lnTo>
                      <a:pt x="5607" y="1259"/>
                    </a:lnTo>
                    <a:lnTo>
                      <a:pt x="5629" y="1162"/>
                    </a:lnTo>
                    <a:lnTo>
                      <a:pt x="5647" y="1063"/>
                    </a:lnTo>
                    <a:lnTo>
                      <a:pt x="5663" y="963"/>
                    </a:lnTo>
                    <a:lnTo>
                      <a:pt x="5676" y="862"/>
                    </a:lnTo>
                    <a:lnTo>
                      <a:pt x="5684" y="759"/>
                    </a:lnTo>
                    <a:lnTo>
                      <a:pt x="5689" y="657"/>
                    </a:lnTo>
                    <a:lnTo>
                      <a:pt x="5691" y="553"/>
                    </a:lnTo>
                    <a:close/>
                    <a:moveTo>
                      <a:pt x="0" y="1847"/>
                    </a:moveTo>
                    <a:lnTo>
                      <a:pt x="25" y="1898"/>
                    </a:lnTo>
                    <a:lnTo>
                      <a:pt x="50" y="1947"/>
                    </a:lnTo>
                    <a:lnTo>
                      <a:pt x="76" y="1996"/>
                    </a:lnTo>
                    <a:lnTo>
                      <a:pt x="104" y="2045"/>
                    </a:lnTo>
                    <a:lnTo>
                      <a:pt x="132" y="2093"/>
                    </a:lnTo>
                    <a:lnTo>
                      <a:pt x="161" y="2140"/>
                    </a:lnTo>
                    <a:lnTo>
                      <a:pt x="192" y="2187"/>
                    </a:lnTo>
                    <a:lnTo>
                      <a:pt x="222" y="2234"/>
                    </a:lnTo>
                    <a:lnTo>
                      <a:pt x="254" y="2279"/>
                    </a:lnTo>
                    <a:lnTo>
                      <a:pt x="286" y="2324"/>
                    </a:lnTo>
                    <a:lnTo>
                      <a:pt x="320" y="2368"/>
                    </a:lnTo>
                    <a:lnTo>
                      <a:pt x="355" y="2412"/>
                    </a:lnTo>
                    <a:lnTo>
                      <a:pt x="389" y="2455"/>
                    </a:lnTo>
                    <a:lnTo>
                      <a:pt x="425" y="2497"/>
                    </a:lnTo>
                    <a:lnTo>
                      <a:pt x="462" y="2539"/>
                    </a:lnTo>
                    <a:lnTo>
                      <a:pt x="499" y="2580"/>
                    </a:lnTo>
                    <a:lnTo>
                      <a:pt x="547" y="2532"/>
                    </a:lnTo>
                    <a:lnTo>
                      <a:pt x="511" y="2492"/>
                    </a:lnTo>
                    <a:lnTo>
                      <a:pt x="477" y="2452"/>
                    </a:lnTo>
                    <a:lnTo>
                      <a:pt x="442" y="2411"/>
                    </a:lnTo>
                    <a:lnTo>
                      <a:pt x="409" y="2370"/>
                    </a:lnTo>
                    <a:lnTo>
                      <a:pt x="376" y="2328"/>
                    </a:lnTo>
                    <a:lnTo>
                      <a:pt x="344" y="2285"/>
                    </a:lnTo>
                    <a:lnTo>
                      <a:pt x="313" y="2242"/>
                    </a:lnTo>
                    <a:lnTo>
                      <a:pt x="282" y="2199"/>
                    </a:lnTo>
                    <a:lnTo>
                      <a:pt x="253" y="2154"/>
                    </a:lnTo>
                    <a:lnTo>
                      <a:pt x="223" y="2110"/>
                    </a:lnTo>
                    <a:lnTo>
                      <a:pt x="196" y="2064"/>
                    </a:lnTo>
                    <a:lnTo>
                      <a:pt x="169" y="2018"/>
                    </a:lnTo>
                    <a:lnTo>
                      <a:pt x="141" y="1971"/>
                    </a:lnTo>
                    <a:lnTo>
                      <a:pt x="116" y="1925"/>
                    </a:lnTo>
                    <a:lnTo>
                      <a:pt x="91" y="1877"/>
                    </a:lnTo>
                    <a:lnTo>
                      <a:pt x="68" y="1828"/>
                    </a:lnTo>
                    <a:lnTo>
                      <a:pt x="0" y="184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5640" y="2822400"/>
                <a:ext cx="1785960" cy="1003320"/>
              </a:xfrm>
              <a:custGeom>
                <a:avLst/>
                <a:gdLst/>
                <a:ahLst/>
                <a:rect l="l" t="t" r="r" b="b"/>
                <a:pathLst>
                  <a:path w="5624" h="3161">
                    <a:moveTo>
                      <a:pt x="5624" y="537"/>
                    </a:moveTo>
                    <a:lnTo>
                      <a:pt x="5623" y="468"/>
                    </a:lnTo>
                    <a:lnTo>
                      <a:pt x="5621" y="400"/>
                    </a:lnTo>
                    <a:lnTo>
                      <a:pt x="5616" y="332"/>
                    </a:lnTo>
                    <a:lnTo>
                      <a:pt x="5611" y="265"/>
                    </a:lnTo>
                    <a:lnTo>
                      <a:pt x="5604" y="199"/>
                    </a:lnTo>
                    <a:lnTo>
                      <a:pt x="5595" y="131"/>
                    </a:lnTo>
                    <a:lnTo>
                      <a:pt x="5586" y="65"/>
                    </a:lnTo>
                    <a:lnTo>
                      <a:pt x="5574" y="0"/>
                    </a:lnTo>
                    <a:lnTo>
                      <a:pt x="5523" y="24"/>
                    </a:lnTo>
                    <a:lnTo>
                      <a:pt x="5510" y="31"/>
                    </a:lnTo>
                    <a:lnTo>
                      <a:pt x="5521" y="92"/>
                    </a:lnTo>
                    <a:lnTo>
                      <a:pt x="5530" y="155"/>
                    </a:lnTo>
                    <a:lnTo>
                      <a:pt x="5538" y="217"/>
                    </a:lnTo>
                    <a:lnTo>
                      <a:pt x="5544" y="280"/>
                    </a:lnTo>
                    <a:lnTo>
                      <a:pt x="5548" y="344"/>
                    </a:lnTo>
                    <a:lnTo>
                      <a:pt x="5552" y="409"/>
                    </a:lnTo>
                    <a:lnTo>
                      <a:pt x="5554" y="473"/>
                    </a:lnTo>
                    <a:lnTo>
                      <a:pt x="5555" y="537"/>
                    </a:lnTo>
                    <a:lnTo>
                      <a:pt x="5553" y="646"/>
                    </a:lnTo>
                    <a:lnTo>
                      <a:pt x="5547" y="753"/>
                    </a:lnTo>
                    <a:lnTo>
                      <a:pt x="5538" y="860"/>
                    </a:lnTo>
                    <a:lnTo>
                      <a:pt x="5524" y="965"/>
                    </a:lnTo>
                    <a:lnTo>
                      <a:pt x="5506" y="1069"/>
                    </a:lnTo>
                    <a:lnTo>
                      <a:pt x="5485" y="1172"/>
                    </a:lnTo>
                    <a:lnTo>
                      <a:pt x="5460" y="1274"/>
                    </a:lnTo>
                    <a:lnTo>
                      <a:pt x="5431" y="1373"/>
                    </a:lnTo>
                    <a:lnTo>
                      <a:pt x="5400" y="1472"/>
                    </a:lnTo>
                    <a:lnTo>
                      <a:pt x="5365" y="1569"/>
                    </a:lnTo>
                    <a:lnTo>
                      <a:pt x="5326" y="1664"/>
                    </a:lnTo>
                    <a:lnTo>
                      <a:pt x="5284" y="1758"/>
                    </a:lnTo>
                    <a:lnTo>
                      <a:pt x="5239" y="1850"/>
                    </a:lnTo>
                    <a:lnTo>
                      <a:pt x="5192" y="1939"/>
                    </a:lnTo>
                    <a:lnTo>
                      <a:pt x="5140" y="2028"/>
                    </a:lnTo>
                    <a:lnTo>
                      <a:pt x="5086" y="2114"/>
                    </a:lnTo>
                    <a:lnTo>
                      <a:pt x="5029" y="2198"/>
                    </a:lnTo>
                    <a:lnTo>
                      <a:pt x="4969" y="2280"/>
                    </a:lnTo>
                    <a:lnTo>
                      <a:pt x="4906" y="2359"/>
                    </a:lnTo>
                    <a:lnTo>
                      <a:pt x="4841" y="2436"/>
                    </a:lnTo>
                    <a:lnTo>
                      <a:pt x="4773" y="2512"/>
                    </a:lnTo>
                    <a:lnTo>
                      <a:pt x="4703" y="2584"/>
                    </a:lnTo>
                    <a:lnTo>
                      <a:pt x="4629" y="2654"/>
                    </a:lnTo>
                    <a:lnTo>
                      <a:pt x="4554" y="2722"/>
                    </a:lnTo>
                    <a:lnTo>
                      <a:pt x="4476" y="2787"/>
                    </a:lnTo>
                    <a:lnTo>
                      <a:pt x="4396" y="2849"/>
                    </a:lnTo>
                    <a:lnTo>
                      <a:pt x="4314" y="2908"/>
                    </a:lnTo>
                    <a:lnTo>
                      <a:pt x="4230" y="2964"/>
                    </a:lnTo>
                    <a:lnTo>
                      <a:pt x="4143" y="3018"/>
                    </a:lnTo>
                    <a:lnTo>
                      <a:pt x="4054" y="3068"/>
                    </a:lnTo>
                    <a:lnTo>
                      <a:pt x="3964" y="3116"/>
                    </a:lnTo>
                    <a:lnTo>
                      <a:pt x="3873" y="3161"/>
                    </a:lnTo>
                    <a:lnTo>
                      <a:pt x="3912" y="3161"/>
                    </a:lnTo>
                    <a:lnTo>
                      <a:pt x="4026" y="3161"/>
                    </a:lnTo>
                    <a:lnTo>
                      <a:pt x="4030" y="3160"/>
                    </a:lnTo>
                    <a:lnTo>
                      <a:pt x="4117" y="3112"/>
                    </a:lnTo>
                    <a:lnTo>
                      <a:pt x="4204" y="3062"/>
                    </a:lnTo>
                    <a:lnTo>
                      <a:pt x="4288" y="3008"/>
                    </a:lnTo>
                    <a:lnTo>
                      <a:pt x="4370" y="2953"/>
                    </a:lnTo>
                    <a:lnTo>
                      <a:pt x="4451" y="2894"/>
                    </a:lnTo>
                    <a:lnTo>
                      <a:pt x="4528" y="2833"/>
                    </a:lnTo>
                    <a:lnTo>
                      <a:pt x="4604" y="2769"/>
                    </a:lnTo>
                    <a:lnTo>
                      <a:pt x="4679" y="2703"/>
                    </a:lnTo>
                    <a:lnTo>
                      <a:pt x="4750" y="2633"/>
                    </a:lnTo>
                    <a:lnTo>
                      <a:pt x="4819" y="2563"/>
                    </a:lnTo>
                    <a:lnTo>
                      <a:pt x="4886" y="2490"/>
                    </a:lnTo>
                    <a:lnTo>
                      <a:pt x="4950" y="2414"/>
                    </a:lnTo>
                    <a:lnTo>
                      <a:pt x="5012" y="2336"/>
                    </a:lnTo>
                    <a:lnTo>
                      <a:pt x="5071" y="2257"/>
                    </a:lnTo>
                    <a:lnTo>
                      <a:pt x="5128" y="2175"/>
                    </a:lnTo>
                    <a:lnTo>
                      <a:pt x="5182" y="2092"/>
                    </a:lnTo>
                    <a:lnTo>
                      <a:pt x="5233" y="2006"/>
                    </a:lnTo>
                    <a:lnTo>
                      <a:pt x="5281" y="1918"/>
                    </a:lnTo>
                    <a:lnTo>
                      <a:pt x="5326" y="1829"/>
                    </a:lnTo>
                    <a:lnTo>
                      <a:pt x="5369" y="1738"/>
                    </a:lnTo>
                    <a:lnTo>
                      <a:pt x="5408" y="1645"/>
                    </a:lnTo>
                    <a:lnTo>
                      <a:pt x="5445" y="1551"/>
                    </a:lnTo>
                    <a:lnTo>
                      <a:pt x="5478" y="1455"/>
                    </a:lnTo>
                    <a:lnTo>
                      <a:pt x="5508" y="1359"/>
                    </a:lnTo>
                    <a:lnTo>
                      <a:pt x="5534" y="1260"/>
                    </a:lnTo>
                    <a:lnTo>
                      <a:pt x="5557" y="1160"/>
                    </a:lnTo>
                    <a:lnTo>
                      <a:pt x="5577" y="1060"/>
                    </a:lnTo>
                    <a:lnTo>
                      <a:pt x="5594" y="957"/>
                    </a:lnTo>
                    <a:lnTo>
                      <a:pt x="5607" y="854"/>
                    </a:lnTo>
                    <a:lnTo>
                      <a:pt x="5616" y="749"/>
                    </a:lnTo>
                    <a:lnTo>
                      <a:pt x="5622" y="644"/>
                    </a:lnTo>
                    <a:lnTo>
                      <a:pt x="5624" y="537"/>
                    </a:lnTo>
                    <a:close/>
                    <a:moveTo>
                      <a:pt x="0" y="1822"/>
                    </a:moveTo>
                    <a:lnTo>
                      <a:pt x="24" y="1871"/>
                    </a:lnTo>
                    <a:lnTo>
                      <a:pt x="50" y="1919"/>
                    </a:lnTo>
                    <a:lnTo>
                      <a:pt x="76" y="1968"/>
                    </a:lnTo>
                    <a:lnTo>
                      <a:pt x="103" y="2015"/>
                    </a:lnTo>
                    <a:lnTo>
                      <a:pt x="130" y="2062"/>
                    </a:lnTo>
                    <a:lnTo>
                      <a:pt x="160" y="2108"/>
                    </a:lnTo>
                    <a:lnTo>
                      <a:pt x="189" y="2155"/>
                    </a:lnTo>
                    <a:lnTo>
                      <a:pt x="220" y="2200"/>
                    </a:lnTo>
                    <a:lnTo>
                      <a:pt x="250" y="2245"/>
                    </a:lnTo>
                    <a:lnTo>
                      <a:pt x="283" y="2289"/>
                    </a:lnTo>
                    <a:lnTo>
                      <a:pt x="315" y="2332"/>
                    </a:lnTo>
                    <a:lnTo>
                      <a:pt x="349" y="2375"/>
                    </a:lnTo>
                    <a:lnTo>
                      <a:pt x="383" y="2417"/>
                    </a:lnTo>
                    <a:lnTo>
                      <a:pt x="417" y="2459"/>
                    </a:lnTo>
                    <a:lnTo>
                      <a:pt x="453" y="2500"/>
                    </a:lnTo>
                    <a:lnTo>
                      <a:pt x="490" y="2540"/>
                    </a:lnTo>
                    <a:lnTo>
                      <a:pt x="520" y="2510"/>
                    </a:lnTo>
                    <a:lnTo>
                      <a:pt x="545" y="2498"/>
                    </a:lnTo>
                    <a:lnTo>
                      <a:pt x="510" y="2459"/>
                    </a:lnTo>
                    <a:lnTo>
                      <a:pt x="475" y="2419"/>
                    </a:lnTo>
                    <a:lnTo>
                      <a:pt x="441" y="2379"/>
                    </a:lnTo>
                    <a:lnTo>
                      <a:pt x="408" y="2338"/>
                    </a:lnTo>
                    <a:lnTo>
                      <a:pt x="375" y="2297"/>
                    </a:lnTo>
                    <a:lnTo>
                      <a:pt x="343" y="2255"/>
                    </a:lnTo>
                    <a:lnTo>
                      <a:pt x="312" y="2212"/>
                    </a:lnTo>
                    <a:lnTo>
                      <a:pt x="282" y="2169"/>
                    </a:lnTo>
                    <a:lnTo>
                      <a:pt x="252" y="2125"/>
                    </a:lnTo>
                    <a:lnTo>
                      <a:pt x="224" y="2081"/>
                    </a:lnTo>
                    <a:lnTo>
                      <a:pt x="196" y="2036"/>
                    </a:lnTo>
                    <a:lnTo>
                      <a:pt x="168" y="1991"/>
                    </a:lnTo>
                    <a:lnTo>
                      <a:pt x="142" y="1945"/>
                    </a:lnTo>
                    <a:lnTo>
                      <a:pt x="117" y="1898"/>
                    </a:lnTo>
                    <a:lnTo>
                      <a:pt x="93" y="1851"/>
                    </a:lnTo>
                    <a:lnTo>
                      <a:pt x="68" y="1804"/>
                    </a:lnTo>
                    <a:lnTo>
                      <a:pt x="67" y="1804"/>
                    </a:lnTo>
                    <a:lnTo>
                      <a:pt x="0" y="182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36800" y="2827440"/>
                <a:ext cx="1763640" cy="998280"/>
              </a:xfrm>
              <a:custGeom>
                <a:avLst/>
                <a:gdLst/>
                <a:ahLst/>
                <a:rect l="l" t="t" r="r" b="b"/>
                <a:pathLst>
                  <a:path w="5554" h="3146">
                    <a:moveTo>
                      <a:pt x="5554" y="522"/>
                    </a:moveTo>
                    <a:lnTo>
                      <a:pt x="5554" y="455"/>
                    </a:lnTo>
                    <a:lnTo>
                      <a:pt x="5551" y="389"/>
                    </a:lnTo>
                    <a:lnTo>
                      <a:pt x="5548" y="323"/>
                    </a:lnTo>
                    <a:lnTo>
                      <a:pt x="5542" y="258"/>
                    </a:lnTo>
                    <a:lnTo>
                      <a:pt x="5536" y="193"/>
                    </a:lnTo>
                    <a:lnTo>
                      <a:pt x="5528" y="128"/>
                    </a:lnTo>
                    <a:lnTo>
                      <a:pt x="5518" y="64"/>
                    </a:lnTo>
                    <a:lnTo>
                      <a:pt x="5508" y="0"/>
                    </a:lnTo>
                    <a:lnTo>
                      <a:pt x="5488" y="9"/>
                    </a:lnTo>
                    <a:lnTo>
                      <a:pt x="5444" y="32"/>
                    </a:lnTo>
                    <a:lnTo>
                      <a:pt x="5453" y="92"/>
                    </a:lnTo>
                    <a:lnTo>
                      <a:pt x="5462" y="153"/>
                    </a:lnTo>
                    <a:lnTo>
                      <a:pt x="5469" y="213"/>
                    </a:lnTo>
                    <a:lnTo>
                      <a:pt x="5475" y="275"/>
                    </a:lnTo>
                    <a:lnTo>
                      <a:pt x="5479" y="336"/>
                    </a:lnTo>
                    <a:lnTo>
                      <a:pt x="5483" y="398"/>
                    </a:lnTo>
                    <a:lnTo>
                      <a:pt x="5485" y="460"/>
                    </a:lnTo>
                    <a:lnTo>
                      <a:pt x="5486" y="522"/>
                    </a:lnTo>
                    <a:lnTo>
                      <a:pt x="5484" y="632"/>
                    </a:lnTo>
                    <a:lnTo>
                      <a:pt x="5477" y="741"/>
                    </a:lnTo>
                    <a:lnTo>
                      <a:pt x="5467" y="848"/>
                    </a:lnTo>
                    <a:lnTo>
                      <a:pt x="5453" y="955"/>
                    </a:lnTo>
                    <a:lnTo>
                      <a:pt x="5434" y="1060"/>
                    </a:lnTo>
                    <a:lnTo>
                      <a:pt x="5413" y="1164"/>
                    </a:lnTo>
                    <a:lnTo>
                      <a:pt x="5387" y="1266"/>
                    </a:lnTo>
                    <a:lnTo>
                      <a:pt x="5359" y="1367"/>
                    </a:lnTo>
                    <a:lnTo>
                      <a:pt x="5325" y="1467"/>
                    </a:lnTo>
                    <a:lnTo>
                      <a:pt x="5289" y="1564"/>
                    </a:lnTo>
                    <a:lnTo>
                      <a:pt x="5249" y="1661"/>
                    </a:lnTo>
                    <a:lnTo>
                      <a:pt x="5206" y="1754"/>
                    </a:lnTo>
                    <a:lnTo>
                      <a:pt x="5159" y="1847"/>
                    </a:lnTo>
                    <a:lnTo>
                      <a:pt x="5109" y="1937"/>
                    </a:lnTo>
                    <a:lnTo>
                      <a:pt x="5057" y="2025"/>
                    </a:lnTo>
                    <a:lnTo>
                      <a:pt x="5001" y="2111"/>
                    </a:lnTo>
                    <a:lnTo>
                      <a:pt x="4942" y="2196"/>
                    </a:lnTo>
                    <a:lnTo>
                      <a:pt x="4880" y="2278"/>
                    </a:lnTo>
                    <a:lnTo>
                      <a:pt x="4816" y="2357"/>
                    </a:lnTo>
                    <a:lnTo>
                      <a:pt x="4749" y="2435"/>
                    </a:lnTo>
                    <a:lnTo>
                      <a:pt x="4678" y="2509"/>
                    </a:lnTo>
                    <a:lnTo>
                      <a:pt x="4606" y="2581"/>
                    </a:lnTo>
                    <a:lnTo>
                      <a:pt x="4530" y="2651"/>
                    </a:lnTo>
                    <a:lnTo>
                      <a:pt x="4453" y="2717"/>
                    </a:lnTo>
                    <a:lnTo>
                      <a:pt x="4373" y="2781"/>
                    </a:lnTo>
                    <a:lnTo>
                      <a:pt x="4291" y="2842"/>
                    </a:lnTo>
                    <a:lnTo>
                      <a:pt x="4206" y="2901"/>
                    </a:lnTo>
                    <a:lnTo>
                      <a:pt x="4119" y="2956"/>
                    </a:lnTo>
                    <a:lnTo>
                      <a:pt x="4031" y="3008"/>
                    </a:lnTo>
                    <a:lnTo>
                      <a:pt x="3939" y="3057"/>
                    </a:lnTo>
                    <a:lnTo>
                      <a:pt x="3847" y="3103"/>
                    </a:lnTo>
                    <a:lnTo>
                      <a:pt x="3752" y="3146"/>
                    </a:lnTo>
                    <a:lnTo>
                      <a:pt x="3877" y="3146"/>
                    </a:lnTo>
                    <a:lnTo>
                      <a:pt x="3917" y="3146"/>
                    </a:lnTo>
                    <a:lnTo>
                      <a:pt x="4007" y="3099"/>
                    </a:lnTo>
                    <a:lnTo>
                      <a:pt x="4095" y="3050"/>
                    </a:lnTo>
                    <a:lnTo>
                      <a:pt x="4181" y="2999"/>
                    </a:lnTo>
                    <a:lnTo>
                      <a:pt x="4266" y="2944"/>
                    </a:lnTo>
                    <a:lnTo>
                      <a:pt x="4348" y="2886"/>
                    </a:lnTo>
                    <a:lnTo>
                      <a:pt x="4428" y="2825"/>
                    </a:lnTo>
                    <a:lnTo>
                      <a:pt x="4506" y="2762"/>
                    </a:lnTo>
                    <a:lnTo>
                      <a:pt x="4582" y="2697"/>
                    </a:lnTo>
                    <a:lnTo>
                      <a:pt x="4655" y="2629"/>
                    </a:lnTo>
                    <a:lnTo>
                      <a:pt x="4727" y="2559"/>
                    </a:lnTo>
                    <a:lnTo>
                      <a:pt x="4795" y="2485"/>
                    </a:lnTo>
                    <a:lnTo>
                      <a:pt x="4861" y="2411"/>
                    </a:lnTo>
                    <a:lnTo>
                      <a:pt x="4924" y="2333"/>
                    </a:lnTo>
                    <a:lnTo>
                      <a:pt x="4985" y="2253"/>
                    </a:lnTo>
                    <a:lnTo>
                      <a:pt x="5044" y="2171"/>
                    </a:lnTo>
                    <a:lnTo>
                      <a:pt x="5099" y="2087"/>
                    </a:lnTo>
                    <a:lnTo>
                      <a:pt x="5151" y="2001"/>
                    </a:lnTo>
                    <a:lnTo>
                      <a:pt x="5202" y="1914"/>
                    </a:lnTo>
                    <a:lnTo>
                      <a:pt x="5248" y="1825"/>
                    </a:lnTo>
                    <a:lnTo>
                      <a:pt x="5292" y="1733"/>
                    </a:lnTo>
                    <a:lnTo>
                      <a:pt x="5332" y="1640"/>
                    </a:lnTo>
                    <a:lnTo>
                      <a:pt x="5370" y="1545"/>
                    </a:lnTo>
                    <a:lnTo>
                      <a:pt x="5404" y="1449"/>
                    </a:lnTo>
                    <a:lnTo>
                      <a:pt x="5435" y="1351"/>
                    </a:lnTo>
                    <a:lnTo>
                      <a:pt x="5463" y="1251"/>
                    </a:lnTo>
                    <a:lnTo>
                      <a:pt x="5487" y="1151"/>
                    </a:lnTo>
                    <a:lnTo>
                      <a:pt x="5507" y="1049"/>
                    </a:lnTo>
                    <a:lnTo>
                      <a:pt x="5524" y="946"/>
                    </a:lnTo>
                    <a:lnTo>
                      <a:pt x="5537" y="842"/>
                    </a:lnTo>
                    <a:lnTo>
                      <a:pt x="5547" y="736"/>
                    </a:lnTo>
                    <a:lnTo>
                      <a:pt x="5552" y="630"/>
                    </a:lnTo>
                    <a:lnTo>
                      <a:pt x="5554" y="522"/>
                    </a:lnTo>
                    <a:close/>
                    <a:moveTo>
                      <a:pt x="0" y="1797"/>
                    </a:moveTo>
                    <a:lnTo>
                      <a:pt x="23" y="1846"/>
                    </a:lnTo>
                    <a:lnTo>
                      <a:pt x="48" y="1894"/>
                    </a:lnTo>
                    <a:lnTo>
                      <a:pt x="73" y="1940"/>
                    </a:lnTo>
                    <a:lnTo>
                      <a:pt x="101" y="1987"/>
                    </a:lnTo>
                    <a:lnTo>
                      <a:pt x="128" y="2034"/>
                    </a:lnTo>
                    <a:lnTo>
                      <a:pt x="155" y="2079"/>
                    </a:lnTo>
                    <a:lnTo>
                      <a:pt x="185" y="2124"/>
                    </a:lnTo>
                    <a:lnTo>
                      <a:pt x="214" y="2168"/>
                    </a:lnTo>
                    <a:lnTo>
                      <a:pt x="245" y="2211"/>
                    </a:lnTo>
                    <a:lnTo>
                      <a:pt x="276" y="2254"/>
                    </a:lnTo>
                    <a:lnTo>
                      <a:pt x="308" y="2297"/>
                    </a:lnTo>
                    <a:lnTo>
                      <a:pt x="341" y="2339"/>
                    </a:lnTo>
                    <a:lnTo>
                      <a:pt x="374" y="2380"/>
                    </a:lnTo>
                    <a:lnTo>
                      <a:pt x="409" y="2421"/>
                    </a:lnTo>
                    <a:lnTo>
                      <a:pt x="443" y="2461"/>
                    </a:lnTo>
                    <a:lnTo>
                      <a:pt x="479" y="2501"/>
                    </a:lnTo>
                    <a:lnTo>
                      <a:pt x="485" y="2495"/>
                    </a:lnTo>
                    <a:lnTo>
                      <a:pt x="542" y="2467"/>
                    </a:lnTo>
                    <a:lnTo>
                      <a:pt x="508" y="2429"/>
                    </a:lnTo>
                    <a:lnTo>
                      <a:pt x="474" y="2391"/>
                    </a:lnTo>
                    <a:lnTo>
                      <a:pt x="440" y="2352"/>
                    </a:lnTo>
                    <a:lnTo>
                      <a:pt x="407" y="2312"/>
                    </a:lnTo>
                    <a:lnTo>
                      <a:pt x="375" y="2271"/>
                    </a:lnTo>
                    <a:lnTo>
                      <a:pt x="344" y="2230"/>
                    </a:lnTo>
                    <a:lnTo>
                      <a:pt x="313" y="2188"/>
                    </a:lnTo>
                    <a:lnTo>
                      <a:pt x="284" y="2146"/>
                    </a:lnTo>
                    <a:lnTo>
                      <a:pt x="254" y="2103"/>
                    </a:lnTo>
                    <a:lnTo>
                      <a:pt x="226" y="2060"/>
                    </a:lnTo>
                    <a:lnTo>
                      <a:pt x="198" y="2016"/>
                    </a:lnTo>
                    <a:lnTo>
                      <a:pt x="171" y="1972"/>
                    </a:lnTo>
                    <a:lnTo>
                      <a:pt x="145" y="1927"/>
                    </a:lnTo>
                    <a:lnTo>
                      <a:pt x="120" y="1881"/>
                    </a:lnTo>
                    <a:lnTo>
                      <a:pt x="95" y="1835"/>
                    </a:lnTo>
                    <a:lnTo>
                      <a:pt x="72" y="1789"/>
                    </a:lnTo>
                    <a:lnTo>
                      <a:pt x="32" y="1789"/>
                    </a:lnTo>
                    <a:lnTo>
                      <a:pt x="0" y="179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846520" y="2832120"/>
                <a:ext cx="1743120" cy="1003320"/>
              </a:xfrm>
              <a:custGeom>
                <a:avLst/>
                <a:gdLst/>
                <a:ahLst/>
                <a:rect l="l" t="t" r="r" b="b"/>
                <a:pathLst>
                  <a:path w="5487" h="3157">
                    <a:moveTo>
                      <a:pt x="5487" y="506"/>
                    </a:moveTo>
                    <a:lnTo>
                      <a:pt x="5486" y="442"/>
                    </a:lnTo>
                    <a:lnTo>
                      <a:pt x="5484" y="378"/>
                    </a:lnTo>
                    <a:lnTo>
                      <a:pt x="5480" y="313"/>
                    </a:lnTo>
                    <a:lnTo>
                      <a:pt x="5476" y="249"/>
                    </a:lnTo>
                    <a:lnTo>
                      <a:pt x="5470" y="186"/>
                    </a:lnTo>
                    <a:lnTo>
                      <a:pt x="5462" y="124"/>
                    </a:lnTo>
                    <a:lnTo>
                      <a:pt x="5453" y="61"/>
                    </a:lnTo>
                    <a:lnTo>
                      <a:pt x="5442" y="0"/>
                    </a:lnTo>
                    <a:lnTo>
                      <a:pt x="5398" y="24"/>
                    </a:lnTo>
                    <a:lnTo>
                      <a:pt x="5378" y="33"/>
                    </a:lnTo>
                    <a:lnTo>
                      <a:pt x="5388" y="91"/>
                    </a:lnTo>
                    <a:lnTo>
                      <a:pt x="5396" y="149"/>
                    </a:lnTo>
                    <a:lnTo>
                      <a:pt x="5402" y="207"/>
                    </a:lnTo>
                    <a:lnTo>
                      <a:pt x="5409" y="266"/>
                    </a:lnTo>
                    <a:lnTo>
                      <a:pt x="5413" y="326"/>
                    </a:lnTo>
                    <a:lnTo>
                      <a:pt x="5416" y="386"/>
                    </a:lnTo>
                    <a:lnTo>
                      <a:pt x="5417" y="446"/>
                    </a:lnTo>
                    <a:lnTo>
                      <a:pt x="5418" y="506"/>
                    </a:lnTo>
                    <a:lnTo>
                      <a:pt x="5416" y="620"/>
                    </a:lnTo>
                    <a:lnTo>
                      <a:pt x="5409" y="732"/>
                    </a:lnTo>
                    <a:lnTo>
                      <a:pt x="5398" y="844"/>
                    </a:lnTo>
                    <a:lnTo>
                      <a:pt x="5382" y="954"/>
                    </a:lnTo>
                    <a:lnTo>
                      <a:pt x="5363" y="1063"/>
                    </a:lnTo>
                    <a:lnTo>
                      <a:pt x="5339" y="1170"/>
                    </a:lnTo>
                    <a:lnTo>
                      <a:pt x="5312" y="1275"/>
                    </a:lnTo>
                    <a:lnTo>
                      <a:pt x="5280" y="1379"/>
                    </a:lnTo>
                    <a:lnTo>
                      <a:pt x="5245" y="1482"/>
                    </a:lnTo>
                    <a:lnTo>
                      <a:pt x="5205" y="1582"/>
                    </a:lnTo>
                    <a:lnTo>
                      <a:pt x="5162" y="1681"/>
                    </a:lnTo>
                    <a:lnTo>
                      <a:pt x="5115" y="1777"/>
                    </a:lnTo>
                    <a:lnTo>
                      <a:pt x="5065" y="1872"/>
                    </a:lnTo>
                    <a:lnTo>
                      <a:pt x="5011" y="1964"/>
                    </a:lnTo>
                    <a:lnTo>
                      <a:pt x="4954" y="2054"/>
                    </a:lnTo>
                    <a:lnTo>
                      <a:pt x="4895" y="2142"/>
                    </a:lnTo>
                    <a:lnTo>
                      <a:pt x="4831" y="2227"/>
                    </a:lnTo>
                    <a:lnTo>
                      <a:pt x="4764" y="2310"/>
                    </a:lnTo>
                    <a:lnTo>
                      <a:pt x="4695" y="2389"/>
                    </a:lnTo>
                    <a:lnTo>
                      <a:pt x="4622" y="2467"/>
                    </a:lnTo>
                    <a:lnTo>
                      <a:pt x="4548" y="2542"/>
                    </a:lnTo>
                    <a:lnTo>
                      <a:pt x="4469" y="2614"/>
                    </a:lnTo>
                    <a:lnTo>
                      <a:pt x="4389" y="2682"/>
                    </a:lnTo>
                    <a:lnTo>
                      <a:pt x="4306" y="2748"/>
                    </a:lnTo>
                    <a:lnTo>
                      <a:pt x="4220" y="2811"/>
                    </a:lnTo>
                    <a:lnTo>
                      <a:pt x="4131" y="2871"/>
                    </a:lnTo>
                    <a:lnTo>
                      <a:pt x="4041" y="2927"/>
                    </a:lnTo>
                    <a:lnTo>
                      <a:pt x="3949" y="2980"/>
                    </a:lnTo>
                    <a:lnTo>
                      <a:pt x="3853" y="3030"/>
                    </a:lnTo>
                    <a:lnTo>
                      <a:pt x="3756" y="3076"/>
                    </a:lnTo>
                    <a:lnTo>
                      <a:pt x="3657" y="3118"/>
                    </a:lnTo>
                    <a:lnTo>
                      <a:pt x="3556" y="3157"/>
                    </a:lnTo>
                    <a:lnTo>
                      <a:pt x="3589" y="3157"/>
                    </a:lnTo>
                    <a:lnTo>
                      <a:pt x="3704" y="3130"/>
                    </a:lnTo>
                    <a:lnTo>
                      <a:pt x="3803" y="3130"/>
                    </a:lnTo>
                    <a:lnTo>
                      <a:pt x="3896" y="3085"/>
                    </a:lnTo>
                    <a:lnTo>
                      <a:pt x="3986" y="3037"/>
                    </a:lnTo>
                    <a:lnTo>
                      <a:pt x="4075" y="2987"/>
                    </a:lnTo>
                    <a:lnTo>
                      <a:pt x="4161" y="2933"/>
                    </a:lnTo>
                    <a:lnTo>
                      <a:pt x="4246" y="2877"/>
                    </a:lnTo>
                    <a:lnTo>
                      <a:pt x="4328" y="2818"/>
                    </a:lnTo>
                    <a:lnTo>
                      <a:pt x="4408" y="2756"/>
                    </a:lnTo>
                    <a:lnTo>
                      <a:pt x="4486" y="2691"/>
                    </a:lnTo>
                    <a:lnTo>
                      <a:pt x="4561" y="2623"/>
                    </a:lnTo>
                    <a:lnTo>
                      <a:pt x="4634" y="2553"/>
                    </a:lnTo>
                    <a:lnTo>
                      <a:pt x="4705" y="2481"/>
                    </a:lnTo>
                    <a:lnTo>
                      <a:pt x="4773" y="2405"/>
                    </a:lnTo>
                    <a:lnTo>
                      <a:pt x="4838" y="2328"/>
                    </a:lnTo>
                    <a:lnTo>
                      <a:pt x="4901" y="2249"/>
                    </a:lnTo>
                    <a:lnTo>
                      <a:pt x="4961" y="2167"/>
                    </a:lnTo>
                    <a:lnTo>
                      <a:pt x="5018" y="2083"/>
                    </a:lnTo>
                    <a:lnTo>
                      <a:pt x="5072" y="1997"/>
                    </a:lnTo>
                    <a:lnTo>
                      <a:pt x="5123" y="1908"/>
                    </a:lnTo>
                    <a:lnTo>
                      <a:pt x="5171" y="1819"/>
                    </a:lnTo>
                    <a:lnTo>
                      <a:pt x="5216" y="1727"/>
                    </a:lnTo>
                    <a:lnTo>
                      <a:pt x="5258" y="1633"/>
                    </a:lnTo>
                    <a:lnTo>
                      <a:pt x="5296" y="1538"/>
                    </a:lnTo>
                    <a:lnTo>
                      <a:pt x="5332" y="1441"/>
                    </a:lnTo>
                    <a:lnTo>
                      <a:pt x="5363" y="1342"/>
                    </a:lnTo>
                    <a:lnTo>
                      <a:pt x="5392" y="1243"/>
                    </a:lnTo>
                    <a:lnTo>
                      <a:pt x="5417" y="1141"/>
                    </a:lnTo>
                    <a:lnTo>
                      <a:pt x="5438" y="1038"/>
                    </a:lnTo>
                    <a:lnTo>
                      <a:pt x="5455" y="934"/>
                    </a:lnTo>
                    <a:lnTo>
                      <a:pt x="5468" y="829"/>
                    </a:lnTo>
                    <a:lnTo>
                      <a:pt x="5479" y="722"/>
                    </a:lnTo>
                    <a:lnTo>
                      <a:pt x="5485" y="615"/>
                    </a:lnTo>
                    <a:lnTo>
                      <a:pt x="5487" y="506"/>
                    </a:lnTo>
                    <a:close/>
                    <a:moveTo>
                      <a:pt x="0" y="1773"/>
                    </a:moveTo>
                    <a:lnTo>
                      <a:pt x="25" y="1820"/>
                    </a:lnTo>
                    <a:lnTo>
                      <a:pt x="49" y="1867"/>
                    </a:lnTo>
                    <a:lnTo>
                      <a:pt x="74" y="1914"/>
                    </a:lnTo>
                    <a:lnTo>
                      <a:pt x="100" y="1960"/>
                    </a:lnTo>
                    <a:lnTo>
                      <a:pt x="128" y="2005"/>
                    </a:lnTo>
                    <a:lnTo>
                      <a:pt x="156" y="2050"/>
                    </a:lnTo>
                    <a:lnTo>
                      <a:pt x="184" y="2094"/>
                    </a:lnTo>
                    <a:lnTo>
                      <a:pt x="214" y="2138"/>
                    </a:lnTo>
                    <a:lnTo>
                      <a:pt x="244" y="2181"/>
                    </a:lnTo>
                    <a:lnTo>
                      <a:pt x="275" y="2224"/>
                    </a:lnTo>
                    <a:lnTo>
                      <a:pt x="307" y="2266"/>
                    </a:lnTo>
                    <a:lnTo>
                      <a:pt x="340" y="2307"/>
                    </a:lnTo>
                    <a:lnTo>
                      <a:pt x="373" y="2348"/>
                    </a:lnTo>
                    <a:lnTo>
                      <a:pt x="407" y="2388"/>
                    </a:lnTo>
                    <a:lnTo>
                      <a:pt x="442" y="2428"/>
                    </a:lnTo>
                    <a:lnTo>
                      <a:pt x="477" y="2467"/>
                    </a:lnTo>
                    <a:lnTo>
                      <a:pt x="509" y="2451"/>
                    </a:lnTo>
                    <a:lnTo>
                      <a:pt x="542" y="2436"/>
                    </a:lnTo>
                    <a:lnTo>
                      <a:pt x="508" y="2399"/>
                    </a:lnTo>
                    <a:lnTo>
                      <a:pt x="475" y="2361"/>
                    </a:lnTo>
                    <a:lnTo>
                      <a:pt x="441" y="2322"/>
                    </a:lnTo>
                    <a:lnTo>
                      <a:pt x="408" y="2283"/>
                    </a:lnTo>
                    <a:lnTo>
                      <a:pt x="377" y="2244"/>
                    </a:lnTo>
                    <a:lnTo>
                      <a:pt x="346" y="2203"/>
                    </a:lnTo>
                    <a:lnTo>
                      <a:pt x="316" y="2164"/>
                    </a:lnTo>
                    <a:lnTo>
                      <a:pt x="286" y="2122"/>
                    </a:lnTo>
                    <a:lnTo>
                      <a:pt x="258" y="2081"/>
                    </a:lnTo>
                    <a:lnTo>
                      <a:pt x="230" y="2038"/>
                    </a:lnTo>
                    <a:lnTo>
                      <a:pt x="202" y="1996"/>
                    </a:lnTo>
                    <a:lnTo>
                      <a:pt x="176" y="1951"/>
                    </a:lnTo>
                    <a:lnTo>
                      <a:pt x="150" y="1907"/>
                    </a:lnTo>
                    <a:lnTo>
                      <a:pt x="125" y="1863"/>
                    </a:lnTo>
                    <a:lnTo>
                      <a:pt x="100" y="1818"/>
                    </a:lnTo>
                    <a:lnTo>
                      <a:pt x="77" y="1773"/>
                    </a:lnTo>
                    <a:lnTo>
                      <a:pt x="0" y="1773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859120" y="2836800"/>
                <a:ext cx="1719360" cy="998640"/>
              </a:xfrm>
              <a:custGeom>
                <a:avLst/>
                <a:gdLst/>
                <a:ahLst/>
                <a:rect l="l" t="t" r="r" b="b"/>
                <a:pathLst>
                  <a:path w="5414" h="3141">
                    <a:moveTo>
                      <a:pt x="5414" y="490"/>
                    </a:moveTo>
                    <a:lnTo>
                      <a:pt x="5413" y="428"/>
                    </a:lnTo>
                    <a:lnTo>
                      <a:pt x="5411" y="366"/>
                    </a:lnTo>
                    <a:lnTo>
                      <a:pt x="5407" y="304"/>
                    </a:lnTo>
                    <a:lnTo>
                      <a:pt x="5403" y="243"/>
                    </a:lnTo>
                    <a:lnTo>
                      <a:pt x="5397" y="181"/>
                    </a:lnTo>
                    <a:lnTo>
                      <a:pt x="5390" y="121"/>
                    </a:lnTo>
                    <a:lnTo>
                      <a:pt x="5381" y="60"/>
                    </a:lnTo>
                    <a:lnTo>
                      <a:pt x="5372" y="0"/>
                    </a:lnTo>
                    <a:lnTo>
                      <a:pt x="5359" y="8"/>
                    </a:lnTo>
                    <a:lnTo>
                      <a:pt x="5308" y="33"/>
                    </a:lnTo>
                    <a:lnTo>
                      <a:pt x="5316" y="90"/>
                    </a:lnTo>
                    <a:lnTo>
                      <a:pt x="5323" y="145"/>
                    </a:lnTo>
                    <a:lnTo>
                      <a:pt x="5330" y="202"/>
                    </a:lnTo>
                    <a:lnTo>
                      <a:pt x="5335" y="259"/>
                    </a:lnTo>
                    <a:lnTo>
                      <a:pt x="5339" y="316"/>
                    </a:lnTo>
                    <a:lnTo>
                      <a:pt x="5342" y="374"/>
                    </a:lnTo>
                    <a:lnTo>
                      <a:pt x="5344" y="432"/>
                    </a:lnTo>
                    <a:lnTo>
                      <a:pt x="5344" y="490"/>
                    </a:lnTo>
                    <a:lnTo>
                      <a:pt x="5342" y="606"/>
                    </a:lnTo>
                    <a:lnTo>
                      <a:pt x="5335" y="721"/>
                    </a:lnTo>
                    <a:lnTo>
                      <a:pt x="5323" y="833"/>
                    </a:lnTo>
                    <a:lnTo>
                      <a:pt x="5308" y="945"/>
                    </a:lnTo>
                    <a:lnTo>
                      <a:pt x="5287" y="1056"/>
                    </a:lnTo>
                    <a:lnTo>
                      <a:pt x="5262" y="1165"/>
                    </a:lnTo>
                    <a:lnTo>
                      <a:pt x="5233" y="1272"/>
                    </a:lnTo>
                    <a:lnTo>
                      <a:pt x="5200" y="1377"/>
                    </a:lnTo>
                    <a:lnTo>
                      <a:pt x="5164" y="1480"/>
                    </a:lnTo>
                    <a:lnTo>
                      <a:pt x="5121" y="1582"/>
                    </a:lnTo>
                    <a:lnTo>
                      <a:pt x="5077" y="1681"/>
                    </a:lnTo>
                    <a:lnTo>
                      <a:pt x="5029" y="1779"/>
                    </a:lnTo>
                    <a:lnTo>
                      <a:pt x="4976" y="1874"/>
                    </a:lnTo>
                    <a:lnTo>
                      <a:pt x="4921" y="1967"/>
                    </a:lnTo>
                    <a:lnTo>
                      <a:pt x="4861" y="2057"/>
                    </a:lnTo>
                    <a:lnTo>
                      <a:pt x="4799" y="2145"/>
                    </a:lnTo>
                    <a:lnTo>
                      <a:pt x="4733" y="2231"/>
                    </a:lnTo>
                    <a:lnTo>
                      <a:pt x="4663" y="2313"/>
                    </a:lnTo>
                    <a:lnTo>
                      <a:pt x="4591" y="2393"/>
                    </a:lnTo>
                    <a:lnTo>
                      <a:pt x="4516" y="2471"/>
                    </a:lnTo>
                    <a:lnTo>
                      <a:pt x="4437" y="2546"/>
                    </a:lnTo>
                    <a:lnTo>
                      <a:pt x="4356" y="2616"/>
                    </a:lnTo>
                    <a:lnTo>
                      <a:pt x="4272" y="2684"/>
                    </a:lnTo>
                    <a:lnTo>
                      <a:pt x="4186" y="2749"/>
                    </a:lnTo>
                    <a:lnTo>
                      <a:pt x="4098" y="2810"/>
                    </a:lnTo>
                    <a:lnTo>
                      <a:pt x="4006" y="2869"/>
                    </a:lnTo>
                    <a:lnTo>
                      <a:pt x="3912" y="2924"/>
                    </a:lnTo>
                    <a:lnTo>
                      <a:pt x="3816" y="2974"/>
                    </a:lnTo>
                    <a:lnTo>
                      <a:pt x="3717" y="3021"/>
                    </a:lnTo>
                    <a:lnTo>
                      <a:pt x="3617" y="3065"/>
                    </a:lnTo>
                    <a:lnTo>
                      <a:pt x="3515" y="3105"/>
                    </a:lnTo>
                    <a:lnTo>
                      <a:pt x="3411" y="3141"/>
                    </a:lnTo>
                    <a:lnTo>
                      <a:pt x="3550" y="3141"/>
                    </a:lnTo>
                    <a:lnTo>
                      <a:pt x="3665" y="3114"/>
                    </a:lnTo>
                    <a:lnTo>
                      <a:pt x="3680" y="3114"/>
                    </a:lnTo>
                    <a:lnTo>
                      <a:pt x="3775" y="3071"/>
                    </a:lnTo>
                    <a:lnTo>
                      <a:pt x="3867" y="3025"/>
                    </a:lnTo>
                    <a:lnTo>
                      <a:pt x="3959" y="2976"/>
                    </a:lnTo>
                    <a:lnTo>
                      <a:pt x="4047" y="2924"/>
                    </a:lnTo>
                    <a:lnTo>
                      <a:pt x="4134" y="2869"/>
                    </a:lnTo>
                    <a:lnTo>
                      <a:pt x="4219" y="2810"/>
                    </a:lnTo>
                    <a:lnTo>
                      <a:pt x="4301" y="2749"/>
                    </a:lnTo>
                    <a:lnTo>
                      <a:pt x="4381" y="2685"/>
                    </a:lnTo>
                    <a:lnTo>
                      <a:pt x="4458" y="2619"/>
                    </a:lnTo>
                    <a:lnTo>
                      <a:pt x="4534" y="2549"/>
                    </a:lnTo>
                    <a:lnTo>
                      <a:pt x="4606" y="2477"/>
                    </a:lnTo>
                    <a:lnTo>
                      <a:pt x="4677" y="2403"/>
                    </a:lnTo>
                    <a:lnTo>
                      <a:pt x="4744" y="2325"/>
                    </a:lnTo>
                    <a:lnTo>
                      <a:pt x="4808" y="2246"/>
                    </a:lnTo>
                    <a:lnTo>
                      <a:pt x="4870" y="2164"/>
                    </a:lnTo>
                    <a:lnTo>
                      <a:pt x="4929" y="2079"/>
                    </a:lnTo>
                    <a:lnTo>
                      <a:pt x="4985" y="1993"/>
                    </a:lnTo>
                    <a:lnTo>
                      <a:pt x="5037" y="1905"/>
                    </a:lnTo>
                    <a:lnTo>
                      <a:pt x="5087" y="1815"/>
                    </a:lnTo>
                    <a:lnTo>
                      <a:pt x="5134" y="1722"/>
                    </a:lnTo>
                    <a:lnTo>
                      <a:pt x="5177" y="1629"/>
                    </a:lnTo>
                    <a:lnTo>
                      <a:pt x="5217" y="1532"/>
                    </a:lnTo>
                    <a:lnTo>
                      <a:pt x="5253" y="1435"/>
                    </a:lnTo>
                    <a:lnTo>
                      <a:pt x="5287" y="1335"/>
                    </a:lnTo>
                    <a:lnTo>
                      <a:pt x="5315" y="1234"/>
                    </a:lnTo>
                    <a:lnTo>
                      <a:pt x="5341" y="1132"/>
                    </a:lnTo>
                    <a:lnTo>
                      <a:pt x="5362" y="1028"/>
                    </a:lnTo>
                    <a:lnTo>
                      <a:pt x="5381" y="923"/>
                    </a:lnTo>
                    <a:lnTo>
                      <a:pt x="5395" y="816"/>
                    </a:lnTo>
                    <a:lnTo>
                      <a:pt x="5405" y="709"/>
                    </a:lnTo>
                    <a:lnTo>
                      <a:pt x="5412" y="600"/>
                    </a:lnTo>
                    <a:lnTo>
                      <a:pt x="5414" y="490"/>
                    </a:lnTo>
                    <a:close/>
                    <a:moveTo>
                      <a:pt x="0" y="1757"/>
                    </a:moveTo>
                    <a:lnTo>
                      <a:pt x="23" y="1803"/>
                    </a:lnTo>
                    <a:lnTo>
                      <a:pt x="48" y="1849"/>
                    </a:lnTo>
                    <a:lnTo>
                      <a:pt x="73" y="1895"/>
                    </a:lnTo>
                    <a:lnTo>
                      <a:pt x="99" y="1940"/>
                    </a:lnTo>
                    <a:lnTo>
                      <a:pt x="126" y="1984"/>
                    </a:lnTo>
                    <a:lnTo>
                      <a:pt x="154" y="2028"/>
                    </a:lnTo>
                    <a:lnTo>
                      <a:pt x="182" y="2071"/>
                    </a:lnTo>
                    <a:lnTo>
                      <a:pt x="212" y="2114"/>
                    </a:lnTo>
                    <a:lnTo>
                      <a:pt x="241" y="2156"/>
                    </a:lnTo>
                    <a:lnTo>
                      <a:pt x="272" y="2198"/>
                    </a:lnTo>
                    <a:lnTo>
                      <a:pt x="303" y="2239"/>
                    </a:lnTo>
                    <a:lnTo>
                      <a:pt x="335" y="2280"/>
                    </a:lnTo>
                    <a:lnTo>
                      <a:pt x="368" y="2320"/>
                    </a:lnTo>
                    <a:lnTo>
                      <a:pt x="402" y="2359"/>
                    </a:lnTo>
                    <a:lnTo>
                      <a:pt x="436" y="2397"/>
                    </a:lnTo>
                    <a:lnTo>
                      <a:pt x="470" y="2435"/>
                    </a:lnTo>
                    <a:lnTo>
                      <a:pt x="470" y="2435"/>
                    </a:lnTo>
                    <a:lnTo>
                      <a:pt x="528" y="2408"/>
                    </a:lnTo>
                    <a:lnTo>
                      <a:pt x="535" y="2404"/>
                    </a:lnTo>
                    <a:lnTo>
                      <a:pt x="502" y="2368"/>
                    </a:lnTo>
                    <a:lnTo>
                      <a:pt x="468" y="2330"/>
                    </a:lnTo>
                    <a:lnTo>
                      <a:pt x="436" y="2294"/>
                    </a:lnTo>
                    <a:lnTo>
                      <a:pt x="404" y="2256"/>
                    </a:lnTo>
                    <a:lnTo>
                      <a:pt x="372" y="2217"/>
                    </a:lnTo>
                    <a:lnTo>
                      <a:pt x="342" y="2177"/>
                    </a:lnTo>
                    <a:lnTo>
                      <a:pt x="313" y="2138"/>
                    </a:lnTo>
                    <a:lnTo>
                      <a:pt x="283" y="2097"/>
                    </a:lnTo>
                    <a:lnTo>
                      <a:pt x="255" y="2056"/>
                    </a:lnTo>
                    <a:lnTo>
                      <a:pt x="227" y="2015"/>
                    </a:lnTo>
                    <a:lnTo>
                      <a:pt x="200" y="1973"/>
                    </a:lnTo>
                    <a:lnTo>
                      <a:pt x="174" y="1931"/>
                    </a:lnTo>
                    <a:lnTo>
                      <a:pt x="149" y="1888"/>
                    </a:lnTo>
                    <a:lnTo>
                      <a:pt x="123" y="1845"/>
                    </a:lnTo>
                    <a:lnTo>
                      <a:pt x="99" y="1801"/>
                    </a:lnTo>
                    <a:lnTo>
                      <a:pt x="76" y="1757"/>
                    </a:lnTo>
                    <a:lnTo>
                      <a:pt x="74" y="1757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871720" y="2843280"/>
                <a:ext cx="1695600" cy="992160"/>
              </a:xfrm>
              <a:custGeom>
                <a:avLst/>
                <a:gdLst/>
                <a:ahLst/>
                <a:rect l="l" t="t" r="r" b="b"/>
                <a:pathLst>
                  <a:path w="5341" h="3124">
                    <a:moveTo>
                      <a:pt x="5341" y="473"/>
                    </a:moveTo>
                    <a:lnTo>
                      <a:pt x="5340" y="413"/>
                    </a:lnTo>
                    <a:lnTo>
                      <a:pt x="5339" y="353"/>
                    </a:lnTo>
                    <a:lnTo>
                      <a:pt x="5336" y="293"/>
                    </a:lnTo>
                    <a:lnTo>
                      <a:pt x="5332" y="233"/>
                    </a:lnTo>
                    <a:lnTo>
                      <a:pt x="5325" y="174"/>
                    </a:lnTo>
                    <a:lnTo>
                      <a:pt x="5319" y="116"/>
                    </a:lnTo>
                    <a:lnTo>
                      <a:pt x="5311" y="58"/>
                    </a:lnTo>
                    <a:lnTo>
                      <a:pt x="5301" y="0"/>
                    </a:lnTo>
                    <a:lnTo>
                      <a:pt x="5266" y="18"/>
                    </a:lnTo>
                    <a:lnTo>
                      <a:pt x="5237" y="33"/>
                    </a:lnTo>
                    <a:lnTo>
                      <a:pt x="5245" y="87"/>
                    </a:lnTo>
                    <a:lnTo>
                      <a:pt x="5253" y="141"/>
                    </a:lnTo>
                    <a:lnTo>
                      <a:pt x="5258" y="195"/>
                    </a:lnTo>
                    <a:lnTo>
                      <a:pt x="5263" y="250"/>
                    </a:lnTo>
                    <a:lnTo>
                      <a:pt x="5267" y="306"/>
                    </a:lnTo>
                    <a:lnTo>
                      <a:pt x="5270" y="361"/>
                    </a:lnTo>
                    <a:lnTo>
                      <a:pt x="5272" y="417"/>
                    </a:lnTo>
                    <a:lnTo>
                      <a:pt x="5273" y="473"/>
                    </a:lnTo>
                    <a:lnTo>
                      <a:pt x="5270" y="591"/>
                    </a:lnTo>
                    <a:lnTo>
                      <a:pt x="5262" y="708"/>
                    </a:lnTo>
                    <a:lnTo>
                      <a:pt x="5251" y="823"/>
                    </a:lnTo>
                    <a:lnTo>
                      <a:pt x="5233" y="937"/>
                    </a:lnTo>
                    <a:lnTo>
                      <a:pt x="5212" y="1049"/>
                    </a:lnTo>
                    <a:lnTo>
                      <a:pt x="5185" y="1159"/>
                    </a:lnTo>
                    <a:lnTo>
                      <a:pt x="5155" y="1269"/>
                    </a:lnTo>
                    <a:lnTo>
                      <a:pt x="5120" y="1376"/>
                    </a:lnTo>
                    <a:lnTo>
                      <a:pt x="5081" y="1481"/>
                    </a:lnTo>
                    <a:lnTo>
                      <a:pt x="5038" y="1584"/>
                    </a:lnTo>
                    <a:lnTo>
                      <a:pt x="4991" y="1684"/>
                    </a:lnTo>
                    <a:lnTo>
                      <a:pt x="4941" y="1783"/>
                    </a:lnTo>
                    <a:lnTo>
                      <a:pt x="4885" y="1880"/>
                    </a:lnTo>
                    <a:lnTo>
                      <a:pt x="4827" y="1973"/>
                    </a:lnTo>
                    <a:lnTo>
                      <a:pt x="4765" y="2064"/>
                    </a:lnTo>
                    <a:lnTo>
                      <a:pt x="4699" y="2153"/>
                    </a:lnTo>
                    <a:lnTo>
                      <a:pt x="4629" y="2239"/>
                    </a:lnTo>
                    <a:lnTo>
                      <a:pt x="4558" y="2321"/>
                    </a:lnTo>
                    <a:lnTo>
                      <a:pt x="4482" y="2400"/>
                    </a:lnTo>
                    <a:lnTo>
                      <a:pt x="4403" y="2478"/>
                    </a:lnTo>
                    <a:lnTo>
                      <a:pt x="4321" y="2552"/>
                    </a:lnTo>
                    <a:lnTo>
                      <a:pt x="4237" y="2622"/>
                    </a:lnTo>
                    <a:lnTo>
                      <a:pt x="4149" y="2689"/>
                    </a:lnTo>
                    <a:lnTo>
                      <a:pt x="4060" y="2752"/>
                    </a:lnTo>
                    <a:lnTo>
                      <a:pt x="3966" y="2812"/>
                    </a:lnTo>
                    <a:lnTo>
                      <a:pt x="3872" y="2869"/>
                    </a:lnTo>
                    <a:lnTo>
                      <a:pt x="3774" y="2921"/>
                    </a:lnTo>
                    <a:lnTo>
                      <a:pt x="3674" y="2970"/>
                    </a:lnTo>
                    <a:lnTo>
                      <a:pt x="3571" y="3015"/>
                    </a:lnTo>
                    <a:lnTo>
                      <a:pt x="3467" y="3055"/>
                    </a:lnTo>
                    <a:lnTo>
                      <a:pt x="3361" y="3091"/>
                    </a:lnTo>
                    <a:lnTo>
                      <a:pt x="3252" y="3124"/>
                    </a:lnTo>
                    <a:lnTo>
                      <a:pt x="3260" y="3124"/>
                    </a:lnTo>
                    <a:lnTo>
                      <a:pt x="3371" y="3124"/>
                    </a:lnTo>
                    <a:lnTo>
                      <a:pt x="3479" y="3124"/>
                    </a:lnTo>
                    <a:lnTo>
                      <a:pt x="3580" y="3085"/>
                    </a:lnTo>
                    <a:lnTo>
                      <a:pt x="3679" y="3043"/>
                    </a:lnTo>
                    <a:lnTo>
                      <a:pt x="3776" y="2997"/>
                    </a:lnTo>
                    <a:lnTo>
                      <a:pt x="3872" y="2947"/>
                    </a:lnTo>
                    <a:lnTo>
                      <a:pt x="3964" y="2894"/>
                    </a:lnTo>
                    <a:lnTo>
                      <a:pt x="4054" y="2838"/>
                    </a:lnTo>
                    <a:lnTo>
                      <a:pt x="4143" y="2778"/>
                    </a:lnTo>
                    <a:lnTo>
                      <a:pt x="4229" y="2715"/>
                    </a:lnTo>
                    <a:lnTo>
                      <a:pt x="4312" y="2649"/>
                    </a:lnTo>
                    <a:lnTo>
                      <a:pt x="4392" y="2581"/>
                    </a:lnTo>
                    <a:lnTo>
                      <a:pt x="4471" y="2509"/>
                    </a:lnTo>
                    <a:lnTo>
                      <a:pt x="4545" y="2434"/>
                    </a:lnTo>
                    <a:lnTo>
                      <a:pt x="4618" y="2356"/>
                    </a:lnTo>
                    <a:lnTo>
                      <a:pt x="4687" y="2277"/>
                    </a:lnTo>
                    <a:lnTo>
                      <a:pt x="4754" y="2194"/>
                    </a:lnTo>
                    <a:lnTo>
                      <a:pt x="4818" y="2109"/>
                    </a:lnTo>
                    <a:lnTo>
                      <a:pt x="4877" y="2021"/>
                    </a:lnTo>
                    <a:lnTo>
                      <a:pt x="4934" y="1931"/>
                    </a:lnTo>
                    <a:lnTo>
                      <a:pt x="4988" y="1839"/>
                    </a:lnTo>
                    <a:lnTo>
                      <a:pt x="5038" y="1744"/>
                    </a:lnTo>
                    <a:lnTo>
                      <a:pt x="5085" y="1648"/>
                    </a:lnTo>
                    <a:lnTo>
                      <a:pt x="5128" y="1549"/>
                    </a:lnTo>
                    <a:lnTo>
                      <a:pt x="5168" y="1449"/>
                    </a:lnTo>
                    <a:lnTo>
                      <a:pt x="5203" y="1346"/>
                    </a:lnTo>
                    <a:lnTo>
                      <a:pt x="5235" y="1242"/>
                    </a:lnTo>
                    <a:lnTo>
                      <a:pt x="5262" y="1137"/>
                    </a:lnTo>
                    <a:lnTo>
                      <a:pt x="5286" y="1030"/>
                    </a:lnTo>
                    <a:lnTo>
                      <a:pt x="5305" y="921"/>
                    </a:lnTo>
                    <a:lnTo>
                      <a:pt x="5321" y="811"/>
                    </a:lnTo>
                    <a:lnTo>
                      <a:pt x="5332" y="699"/>
                    </a:lnTo>
                    <a:lnTo>
                      <a:pt x="5339" y="587"/>
                    </a:lnTo>
                    <a:lnTo>
                      <a:pt x="5341" y="473"/>
                    </a:lnTo>
                    <a:close/>
                    <a:moveTo>
                      <a:pt x="0" y="1740"/>
                    </a:moveTo>
                    <a:lnTo>
                      <a:pt x="23" y="1785"/>
                    </a:lnTo>
                    <a:lnTo>
                      <a:pt x="48" y="1830"/>
                    </a:lnTo>
                    <a:lnTo>
                      <a:pt x="73" y="1874"/>
                    </a:lnTo>
                    <a:lnTo>
                      <a:pt x="99" y="1918"/>
                    </a:lnTo>
                    <a:lnTo>
                      <a:pt x="125" y="1963"/>
                    </a:lnTo>
                    <a:lnTo>
                      <a:pt x="153" y="2005"/>
                    </a:lnTo>
                    <a:lnTo>
                      <a:pt x="181" y="2048"/>
                    </a:lnTo>
                    <a:lnTo>
                      <a:pt x="209" y="2089"/>
                    </a:lnTo>
                    <a:lnTo>
                      <a:pt x="239" y="2131"/>
                    </a:lnTo>
                    <a:lnTo>
                      <a:pt x="269" y="2170"/>
                    </a:lnTo>
                    <a:lnTo>
                      <a:pt x="300" y="2211"/>
                    </a:lnTo>
                    <a:lnTo>
                      <a:pt x="331" y="2250"/>
                    </a:lnTo>
                    <a:lnTo>
                      <a:pt x="364" y="2289"/>
                    </a:lnTo>
                    <a:lnTo>
                      <a:pt x="398" y="2328"/>
                    </a:lnTo>
                    <a:lnTo>
                      <a:pt x="431" y="2366"/>
                    </a:lnTo>
                    <a:lnTo>
                      <a:pt x="465" y="2403"/>
                    </a:lnTo>
                    <a:lnTo>
                      <a:pt x="490" y="2391"/>
                    </a:lnTo>
                    <a:lnTo>
                      <a:pt x="529" y="2370"/>
                    </a:lnTo>
                    <a:lnTo>
                      <a:pt x="495" y="2334"/>
                    </a:lnTo>
                    <a:lnTo>
                      <a:pt x="462" y="2298"/>
                    </a:lnTo>
                    <a:lnTo>
                      <a:pt x="430" y="2261"/>
                    </a:lnTo>
                    <a:lnTo>
                      <a:pt x="399" y="2223"/>
                    </a:lnTo>
                    <a:lnTo>
                      <a:pt x="367" y="2185"/>
                    </a:lnTo>
                    <a:lnTo>
                      <a:pt x="337" y="2146"/>
                    </a:lnTo>
                    <a:lnTo>
                      <a:pt x="307" y="2107"/>
                    </a:lnTo>
                    <a:lnTo>
                      <a:pt x="279" y="2068"/>
                    </a:lnTo>
                    <a:lnTo>
                      <a:pt x="250" y="2028"/>
                    </a:lnTo>
                    <a:lnTo>
                      <a:pt x="223" y="1987"/>
                    </a:lnTo>
                    <a:lnTo>
                      <a:pt x="196" y="1946"/>
                    </a:lnTo>
                    <a:lnTo>
                      <a:pt x="169" y="1904"/>
                    </a:lnTo>
                    <a:lnTo>
                      <a:pt x="144" y="1861"/>
                    </a:lnTo>
                    <a:lnTo>
                      <a:pt x="120" y="1819"/>
                    </a:lnTo>
                    <a:lnTo>
                      <a:pt x="96" y="1775"/>
                    </a:lnTo>
                    <a:lnTo>
                      <a:pt x="73" y="1732"/>
                    </a:lnTo>
                    <a:lnTo>
                      <a:pt x="36" y="1740"/>
                    </a:lnTo>
                    <a:lnTo>
                      <a:pt x="0" y="1740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882880" y="2847960"/>
                <a:ext cx="1673280" cy="987480"/>
              </a:xfrm>
              <a:custGeom>
                <a:avLst/>
                <a:gdLst/>
                <a:ahLst/>
                <a:rect l="l" t="t" r="r" b="b"/>
                <a:pathLst>
                  <a:path w="5268" h="3108">
                    <a:moveTo>
                      <a:pt x="5268" y="457"/>
                    </a:moveTo>
                    <a:lnTo>
                      <a:pt x="5268" y="399"/>
                    </a:lnTo>
                    <a:lnTo>
                      <a:pt x="5266" y="341"/>
                    </a:lnTo>
                    <a:lnTo>
                      <a:pt x="5263" y="283"/>
                    </a:lnTo>
                    <a:lnTo>
                      <a:pt x="5259" y="226"/>
                    </a:lnTo>
                    <a:lnTo>
                      <a:pt x="5254" y="169"/>
                    </a:lnTo>
                    <a:lnTo>
                      <a:pt x="5247" y="112"/>
                    </a:lnTo>
                    <a:lnTo>
                      <a:pt x="5240" y="57"/>
                    </a:lnTo>
                    <a:lnTo>
                      <a:pt x="5232" y="0"/>
                    </a:lnTo>
                    <a:lnTo>
                      <a:pt x="5228" y="2"/>
                    </a:lnTo>
                    <a:lnTo>
                      <a:pt x="5172" y="31"/>
                    </a:lnTo>
                    <a:lnTo>
                      <a:pt x="5167" y="33"/>
                    </a:lnTo>
                    <a:lnTo>
                      <a:pt x="5175" y="86"/>
                    </a:lnTo>
                    <a:lnTo>
                      <a:pt x="5181" y="137"/>
                    </a:lnTo>
                    <a:lnTo>
                      <a:pt x="5187" y="190"/>
                    </a:lnTo>
                    <a:lnTo>
                      <a:pt x="5192" y="243"/>
                    </a:lnTo>
                    <a:lnTo>
                      <a:pt x="5195" y="296"/>
                    </a:lnTo>
                    <a:lnTo>
                      <a:pt x="5198" y="350"/>
                    </a:lnTo>
                    <a:lnTo>
                      <a:pt x="5199" y="403"/>
                    </a:lnTo>
                    <a:lnTo>
                      <a:pt x="5200" y="457"/>
                    </a:lnTo>
                    <a:lnTo>
                      <a:pt x="5197" y="578"/>
                    </a:lnTo>
                    <a:lnTo>
                      <a:pt x="5189" y="697"/>
                    </a:lnTo>
                    <a:lnTo>
                      <a:pt x="5176" y="816"/>
                    </a:lnTo>
                    <a:lnTo>
                      <a:pt x="5158" y="932"/>
                    </a:lnTo>
                    <a:lnTo>
                      <a:pt x="5136" y="1047"/>
                    </a:lnTo>
                    <a:lnTo>
                      <a:pt x="5108" y="1160"/>
                    </a:lnTo>
                    <a:lnTo>
                      <a:pt x="5075" y="1271"/>
                    </a:lnTo>
                    <a:lnTo>
                      <a:pt x="5038" y="1381"/>
                    </a:lnTo>
                    <a:lnTo>
                      <a:pt x="4997" y="1488"/>
                    </a:lnTo>
                    <a:lnTo>
                      <a:pt x="4952" y="1593"/>
                    </a:lnTo>
                    <a:lnTo>
                      <a:pt x="4901" y="1695"/>
                    </a:lnTo>
                    <a:lnTo>
                      <a:pt x="4848" y="1794"/>
                    </a:lnTo>
                    <a:lnTo>
                      <a:pt x="4789" y="1892"/>
                    </a:lnTo>
                    <a:lnTo>
                      <a:pt x="4727" y="1986"/>
                    </a:lnTo>
                    <a:lnTo>
                      <a:pt x="4662" y="2079"/>
                    </a:lnTo>
                    <a:lnTo>
                      <a:pt x="4592" y="2168"/>
                    </a:lnTo>
                    <a:lnTo>
                      <a:pt x="4519" y="2254"/>
                    </a:lnTo>
                    <a:lnTo>
                      <a:pt x="4443" y="2337"/>
                    </a:lnTo>
                    <a:lnTo>
                      <a:pt x="4363" y="2417"/>
                    </a:lnTo>
                    <a:lnTo>
                      <a:pt x="4280" y="2493"/>
                    </a:lnTo>
                    <a:lnTo>
                      <a:pt x="4194" y="2566"/>
                    </a:lnTo>
                    <a:lnTo>
                      <a:pt x="4105" y="2635"/>
                    </a:lnTo>
                    <a:lnTo>
                      <a:pt x="4012" y="2700"/>
                    </a:lnTo>
                    <a:lnTo>
                      <a:pt x="3918" y="2762"/>
                    </a:lnTo>
                    <a:lnTo>
                      <a:pt x="3820" y="2820"/>
                    </a:lnTo>
                    <a:lnTo>
                      <a:pt x="3720" y="2875"/>
                    </a:lnTo>
                    <a:lnTo>
                      <a:pt x="3617" y="2924"/>
                    </a:lnTo>
                    <a:lnTo>
                      <a:pt x="3513" y="2969"/>
                    </a:lnTo>
                    <a:lnTo>
                      <a:pt x="3406" y="3011"/>
                    </a:lnTo>
                    <a:lnTo>
                      <a:pt x="3296" y="3048"/>
                    </a:lnTo>
                    <a:lnTo>
                      <a:pt x="3185" y="3080"/>
                    </a:lnTo>
                    <a:lnTo>
                      <a:pt x="3071" y="3108"/>
                    </a:lnTo>
                    <a:lnTo>
                      <a:pt x="3081" y="3108"/>
                    </a:lnTo>
                    <a:lnTo>
                      <a:pt x="3222" y="3108"/>
                    </a:lnTo>
                    <a:lnTo>
                      <a:pt x="3333" y="3108"/>
                    </a:lnTo>
                    <a:lnTo>
                      <a:pt x="3335" y="3108"/>
                    </a:lnTo>
                    <a:lnTo>
                      <a:pt x="3439" y="3072"/>
                    </a:lnTo>
                    <a:lnTo>
                      <a:pt x="3541" y="3032"/>
                    </a:lnTo>
                    <a:lnTo>
                      <a:pt x="3641" y="2988"/>
                    </a:lnTo>
                    <a:lnTo>
                      <a:pt x="3740" y="2941"/>
                    </a:lnTo>
                    <a:lnTo>
                      <a:pt x="3836" y="2891"/>
                    </a:lnTo>
                    <a:lnTo>
                      <a:pt x="3930" y="2836"/>
                    </a:lnTo>
                    <a:lnTo>
                      <a:pt x="4022" y="2777"/>
                    </a:lnTo>
                    <a:lnTo>
                      <a:pt x="4110" y="2716"/>
                    </a:lnTo>
                    <a:lnTo>
                      <a:pt x="4196" y="2651"/>
                    </a:lnTo>
                    <a:lnTo>
                      <a:pt x="4280" y="2583"/>
                    </a:lnTo>
                    <a:lnTo>
                      <a:pt x="4361" y="2513"/>
                    </a:lnTo>
                    <a:lnTo>
                      <a:pt x="4440" y="2438"/>
                    </a:lnTo>
                    <a:lnTo>
                      <a:pt x="4515" y="2360"/>
                    </a:lnTo>
                    <a:lnTo>
                      <a:pt x="4587" y="2280"/>
                    </a:lnTo>
                    <a:lnTo>
                      <a:pt x="4657" y="2198"/>
                    </a:lnTo>
                    <a:lnTo>
                      <a:pt x="4723" y="2112"/>
                    </a:lnTo>
                    <a:lnTo>
                      <a:pt x="4785" y="2024"/>
                    </a:lnTo>
                    <a:lnTo>
                      <a:pt x="4845" y="1934"/>
                    </a:lnTo>
                    <a:lnTo>
                      <a:pt x="4900" y="1841"/>
                    </a:lnTo>
                    <a:lnTo>
                      <a:pt x="4953" y="1746"/>
                    </a:lnTo>
                    <a:lnTo>
                      <a:pt x="5001" y="1648"/>
                    </a:lnTo>
                    <a:lnTo>
                      <a:pt x="5045" y="1549"/>
                    </a:lnTo>
                    <a:lnTo>
                      <a:pt x="5088" y="1447"/>
                    </a:lnTo>
                    <a:lnTo>
                      <a:pt x="5124" y="1344"/>
                    </a:lnTo>
                    <a:lnTo>
                      <a:pt x="5157" y="1239"/>
                    </a:lnTo>
                    <a:lnTo>
                      <a:pt x="5186" y="1132"/>
                    </a:lnTo>
                    <a:lnTo>
                      <a:pt x="5211" y="1023"/>
                    </a:lnTo>
                    <a:lnTo>
                      <a:pt x="5232" y="912"/>
                    </a:lnTo>
                    <a:lnTo>
                      <a:pt x="5247" y="800"/>
                    </a:lnTo>
                    <a:lnTo>
                      <a:pt x="5259" y="688"/>
                    </a:lnTo>
                    <a:lnTo>
                      <a:pt x="5266" y="573"/>
                    </a:lnTo>
                    <a:lnTo>
                      <a:pt x="5268" y="457"/>
                    </a:lnTo>
                    <a:close/>
                    <a:moveTo>
                      <a:pt x="0" y="1724"/>
                    </a:moveTo>
                    <a:lnTo>
                      <a:pt x="23" y="1768"/>
                    </a:lnTo>
                    <a:lnTo>
                      <a:pt x="47" y="1812"/>
                    </a:lnTo>
                    <a:lnTo>
                      <a:pt x="73" y="1855"/>
                    </a:lnTo>
                    <a:lnTo>
                      <a:pt x="98" y="1898"/>
                    </a:lnTo>
                    <a:lnTo>
                      <a:pt x="124" y="1940"/>
                    </a:lnTo>
                    <a:lnTo>
                      <a:pt x="151" y="1982"/>
                    </a:lnTo>
                    <a:lnTo>
                      <a:pt x="179" y="2023"/>
                    </a:lnTo>
                    <a:lnTo>
                      <a:pt x="207" y="2064"/>
                    </a:lnTo>
                    <a:lnTo>
                      <a:pt x="237" y="2105"/>
                    </a:lnTo>
                    <a:lnTo>
                      <a:pt x="266" y="2144"/>
                    </a:lnTo>
                    <a:lnTo>
                      <a:pt x="296" y="2184"/>
                    </a:lnTo>
                    <a:lnTo>
                      <a:pt x="328" y="2223"/>
                    </a:lnTo>
                    <a:lnTo>
                      <a:pt x="360" y="2261"/>
                    </a:lnTo>
                    <a:lnTo>
                      <a:pt x="392" y="2297"/>
                    </a:lnTo>
                    <a:lnTo>
                      <a:pt x="426" y="2335"/>
                    </a:lnTo>
                    <a:lnTo>
                      <a:pt x="459" y="2371"/>
                    </a:lnTo>
                    <a:lnTo>
                      <a:pt x="506" y="2346"/>
                    </a:lnTo>
                    <a:lnTo>
                      <a:pt x="522" y="2337"/>
                    </a:lnTo>
                    <a:lnTo>
                      <a:pt x="489" y="2303"/>
                    </a:lnTo>
                    <a:lnTo>
                      <a:pt x="456" y="2267"/>
                    </a:lnTo>
                    <a:lnTo>
                      <a:pt x="425" y="2230"/>
                    </a:lnTo>
                    <a:lnTo>
                      <a:pt x="393" y="2193"/>
                    </a:lnTo>
                    <a:lnTo>
                      <a:pt x="363" y="2156"/>
                    </a:lnTo>
                    <a:lnTo>
                      <a:pt x="332" y="2117"/>
                    </a:lnTo>
                    <a:lnTo>
                      <a:pt x="303" y="2079"/>
                    </a:lnTo>
                    <a:lnTo>
                      <a:pt x="274" y="2039"/>
                    </a:lnTo>
                    <a:lnTo>
                      <a:pt x="246" y="1999"/>
                    </a:lnTo>
                    <a:lnTo>
                      <a:pt x="219" y="1959"/>
                    </a:lnTo>
                    <a:lnTo>
                      <a:pt x="191" y="1918"/>
                    </a:lnTo>
                    <a:lnTo>
                      <a:pt x="166" y="1877"/>
                    </a:lnTo>
                    <a:lnTo>
                      <a:pt x="141" y="1835"/>
                    </a:lnTo>
                    <a:lnTo>
                      <a:pt x="117" y="1793"/>
                    </a:lnTo>
                    <a:lnTo>
                      <a:pt x="93" y="1750"/>
                    </a:lnTo>
                    <a:lnTo>
                      <a:pt x="69" y="1707"/>
                    </a:lnTo>
                    <a:lnTo>
                      <a:pt x="0" y="1724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894040" y="2852640"/>
                <a:ext cx="1650960" cy="982800"/>
              </a:xfrm>
              <a:custGeom>
                <a:avLst/>
                <a:gdLst/>
                <a:ahLst/>
                <a:rect l="l" t="t" r="r" b="b"/>
                <a:pathLst>
                  <a:path w="5200" h="3091">
                    <a:moveTo>
                      <a:pt x="5200" y="440"/>
                    </a:moveTo>
                    <a:lnTo>
                      <a:pt x="5199" y="384"/>
                    </a:lnTo>
                    <a:lnTo>
                      <a:pt x="5197" y="328"/>
                    </a:lnTo>
                    <a:lnTo>
                      <a:pt x="5194" y="273"/>
                    </a:lnTo>
                    <a:lnTo>
                      <a:pt x="5190" y="217"/>
                    </a:lnTo>
                    <a:lnTo>
                      <a:pt x="5185" y="162"/>
                    </a:lnTo>
                    <a:lnTo>
                      <a:pt x="5180" y="108"/>
                    </a:lnTo>
                    <a:lnTo>
                      <a:pt x="5172" y="54"/>
                    </a:lnTo>
                    <a:lnTo>
                      <a:pt x="5164" y="0"/>
                    </a:lnTo>
                    <a:lnTo>
                      <a:pt x="5137" y="14"/>
                    </a:lnTo>
                    <a:lnTo>
                      <a:pt x="5100" y="32"/>
                    </a:lnTo>
                    <a:lnTo>
                      <a:pt x="5107" y="82"/>
                    </a:lnTo>
                    <a:lnTo>
                      <a:pt x="5113" y="132"/>
                    </a:lnTo>
                    <a:lnTo>
                      <a:pt x="5119" y="183"/>
                    </a:lnTo>
                    <a:lnTo>
                      <a:pt x="5123" y="234"/>
                    </a:lnTo>
                    <a:lnTo>
                      <a:pt x="5126" y="285"/>
                    </a:lnTo>
                    <a:lnTo>
                      <a:pt x="5128" y="337"/>
                    </a:lnTo>
                    <a:lnTo>
                      <a:pt x="5130" y="388"/>
                    </a:lnTo>
                    <a:lnTo>
                      <a:pt x="5130" y="440"/>
                    </a:lnTo>
                    <a:lnTo>
                      <a:pt x="5127" y="566"/>
                    </a:lnTo>
                    <a:lnTo>
                      <a:pt x="5119" y="690"/>
                    </a:lnTo>
                    <a:lnTo>
                      <a:pt x="5105" y="811"/>
                    </a:lnTo>
                    <a:lnTo>
                      <a:pt x="5085" y="932"/>
                    </a:lnTo>
                    <a:lnTo>
                      <a:pt x="5061" y="1051"/>
                    </a:lnTo>
                    <a:lnTo>
                      <a:pt x="5030" y="1167"/>
                    </a:lnTo>
                    <a:lnTo>
                      <a:pt x="4996" y="1282"/>
                    </a:lnTo>
                    <a:lnTo>
                      <a:pt x="4956" y="1394"/>
                    </a:lnTo>
                    <a:lnTo>
                      <a:pt x="4911" y="1504"/>
                    </a:lnTo>
                    <a:lnTo>
                      <a:pt x="4861" y="1611"/>
                    </a:lnTo>
                    <a:lnTo>
                      <a:pt x="4808" y="1716"/>
                    </a:lnTo>
                    <a:lnTo>
                      <a:pt x="4749" y="1818"/>
                    </a:lnTo>
                    <a:lnTo>
                      <a:pt x="4686" y="1918"/>
                    </a:lnTo>
                    <a:lnTo>
                      <a:pt x="4619" y="2014"/>
                    </a:lnTo>
                    <a:lnTo>
                      <a:pt x="4548" y="2107"/>
                    </a:lnTo>
                    <a:lnTo>
                      <a:pt x="4473" y="2197"/>
                    </a:lnTo>
                    <a:lnTo>
                      <a:pt x="4396" y="2283"/>
                    </a:lnTo>
                    <a:lnTo>
                      <a:pt x="4313" y="2366"/>
                    </a:lnTo>
                    <a:lnTo>
                      <a:pt x="4227" y="2446"/>
                    </a:lnTo>
                    <a:lnTo>
                      <a:pt x="4138" y="2522"/>
                    </a:lnTo>
                    <a:lnTo>
                      <a:pt x="4046" y="2593"/>
                    </a:lnTo>
                    <a:lnTo>
                      <a:pt x="3950" y="2661"/>
                    </a:lnTo>
                    <a:lnTo>
                      <a:pt x="3851" y="2724"/>
                    </a:lnTo>
                    <a:lnTo>
                      <a:pt x="3750" y="2784"/>
                    </a:lnTo>
                    <a:lnTo>
                      <a:pt x="3645" y="2839"/>
                    </a:lnTo>
                    <a:lnTo>
                      <a:pt x="3539" y="2889"/>
                    </a:lnTo>
                    <a:lnTo>
                      <a:pt x="3429" y="2935"/>
                    </a:lnTo>
                    <a:lnTo>
                      <a:pt x="3317" y="2976"/>
                    </a:lnTo>
                    <a:lnTo>
                      <a:pt x="3203" y="3012"/>
                    </a:lnTo>
                    <a:lnTo>
                      <a:pt x="3087" y="3044"/>
                    </a:lnTo>
                    <a:lnTo>
                      <a:pt x="2968" y="3070"/>
                    </a:lnTo>
                    <a:lnTo>
                      <a:pt x="2848" y="3091"/>
                    </a:lnTo>
                    <a:lnTo>
                      <a:pt x="2931" y="3091"/>
                    </a:lnTo>
                    <a:lnTo>
                      <a:pt x="3046" y="3091"/>
                    </a:lnTo>
                    <a:lnTo>
                      <a:pt x="3179" y="3091"/>
                    </a:lnTo>
                    <a:lnTo>
                      <a:pt x="3288" y="3058"/>
                    </a:lnTo>
                    <a:lnTo>
                      <a:pt x="3394" y="3022"/>
                    </a:lnTo>
                    <a:lnTo>
                      <a:pt x="3498" y="2982"/>
                    </a:lnTo>
                    <a:lnTo>
                      <a:pt x="3601" y="2937"/>
                    </a:lnTo>
                    <a:lnTo>
                      <a:pt x="3701" y="2888"/>
                    </a:lnTo>
                    <a:lnTo>
                      <a:pt x="3799" y="2836"/>
                    </a:lnTo>
                    <a:lnTo>
                      <a:pt x="3893" y="2779"/>
                    </a:lnTo>
                    <a:lnTo>
                      <a:pt x="3987" y="2719"/>
                    </a:lnTo>
                    <a:lnTo>
                      <a:pt x="4076" y="2656"/>
                    </a:lnTo>
                    <a:lnTo>
                      <a:pt x="4164" y="2589"/>
                    </a:lnTo>
                    <a:lnTo>
                      <a:pt x="4248" y="2519"/>
                    </a:lnTo>
                    <a:lnTo>
                      <a:pt x="4330" y="2445"/>
                    </a:lnTo>
                    <a:lnTo>
                      <a:pt x="4409" y="2367"/>
                    </a:lnTo>
                    <a:lnTo>
                      <a:pt x="4485" y="2288"/>
                    </a:lnTo>
                    <a:lnTo>
                      <a:pt x="4556" y="2206"/>
                    </a:lnTo>
                    <a:lnTo>
                      <a:pt x="4626" y="2120"/>
                    </a:lnTo>
                    <a:lnTo>
                      <a:pt x="4692" y="2031"/>
                    </a:lnTo>
                    <a:lnTo>
                      <a:pt x="4754" y="1940"/>
                    </a:lnTo>
                    <a:lnTo>
                      <a:pt x="4812" y="1847"/>
                    </a:lnTo>
                    <a:lnTo>
                      <a:pt x="4868" y="1750"/>
                    </a:lnTo>
                    <a:lnTo>
                      <a:pt x="4918" y="1651"/>
                    </a:lnTo>
                    <a:lnTo>
                      <a:pt x="4965" y="1551"/>
                    </a:lnTo>
                    <a:lnTo>
                      <a:pt x="5008" y="1448"/>
                    </a:lnTo>
                    <a:lnTo>
                      <a:pt x="5047" y="1343"/>
                    </a:lnTo>
                    <a:lnTo>
                      <a:pt x="5082" y="1236"/>
                    </a:lnTo>
                    <a:lnTo>
                      <a:pt x="5112" y="1126"/>
                    </a:lnTo>
                    <a:lnTo>
                      <a:pt x="5139" y="1016"/>
                    </a:lnTo>
                    <a:lnTo>
                      <a:pt x="5160" y="904"/>
                    </a:lnTo>
                    <a:lnTo>
                      <a:pt x="5178" y="790"/>
                    </a:lnTo>
                    <a:lnTo>
                      <a:pt x="5189" y="675"/>
                    </a:lnTo>
                    <a:lnTo>
                      <a:pt x="5197" y="558"/>
                    </a:lnTo>
                    <a:lnTo>
                      <a:pt x="5200" y="440"/>
                    </a:lnTo>
                    <a:close/>
                    <a:moveTo>
                      <a:pt x="0" y="1699"/>
                    </a:moveTo>
                    <a:lnTo>
                      <a:pt x="23" y="1742"/>
                    </a:lnTo>
                    <a:lnTo>
                      <a:pt x="47" y="1786"/>
                    </a:lnTo>
                    <a:lnTo>
                      <a:pt x="71" y="1828"/>
                    </a:lnTo>
                    <a:lnTo>
                      <a:pt x="96" y="1871"/>
                    </a:lnTo>
                    <a:lnTo>
                      <a:pt x="123" y="1913"/>
                    </a:lnTo>
                    <a:lnTo>
                      <a:pt x="150" y="1954"/>
                    </a:lnTo>
                    <a:lnTo>
                      <a:pt x="177" y="1995"/>
                    </a:lnTo>
                    <a:lnTo>
                      <a:pt x="206" y="2035"/>
                    </a:lnTo>
                    <a:lnTo>
                      <a:pt x="234" y="2074"/>
                    </a:lnTo>
                    <a:lnTo>
                      <a:pt x="264" y="2113"/>
                    </a:lnTo>
                    <a:lnTo>
                      <a:pt x="294" y="2152"/>
                    </a:lnTo>
                    <a:lnTo>
                      <a:pt x="326" y="2190"/>
                    </a:lnTo>
                    <a:lnTo>
                      <a:pt x="357" y="2228"/>
                    </a:lnTo>
                    <a:lnTo>
                      <a:pt x="389" y="2265"/>
                    </a:lnTo>
                    <a:lnTo>
                      <a:pt x="422" y="2301"/>
                    </a:lnTo>
                    <a:lnTo>
                      <a:pt x="456" y="2337"/>
                    </a:lnTo>
                    <a:lnTo>
                      <a:pt x="471" y="2329"/>
                    </a:lnTo>
                    <a:lnTo>
                      <a:pt x="520" y="2304"/>
                    </a:lnTo>
                    <a:lnTo>
                      <a:pt x="487" y="2270"/>
                    </a:lnTo>
                    <a:lnTo>
                      <a:pt x="455" y="2235"/>
                    </a:lnTo>
                    <a:lnTo>
                      <a:pt x="422" y="2198"/>
                    </a:lnTo>
                    <a:lnTo>
                      <a:pt x="392" y="2162"/>
                    </a:lnTo>
                    <a:lnTo>
                      <a:pt x="360" y="2125"/>
                    </a:lnTo>
                    <a:lnTo>
                      <a:pt x="331" y="2087"/>
                    </a:lnTo>
                    <a:lnTo>
                      <a:pt x="301" y="2049"/>
                    </a:lnTo>
                    <a:lnTo>
                      <a:pt x="273" y="2010"/>
                    </a:lnTo>
                    <a:lnTo>
                      <a:pt x="245" y="1972"/>
                    </a:lnTo>
                    <a:lnTo>
                      <a:pt x="217" y="1932"/>
                    </a:lnTo>
                    <a:lnTo>
                      <a:pt x="191" y="1891"/>
                    </a:lnTo>
                    <a:lnTo>
                      <a:pt x="165" y="1850"/>
                    </a:lnTo>
                    <a:lnTo>
                      <a:pt x="141" y="1809"/>
                    </a:lnTo>
                    <a:lnTo>
                      <a:pt x="115" y="1767"/>
                    </a:lnTo>
                    <a:lnTo>
                      <a:pt x="92" y="1725"/>
                    </a:lnTo>
                    <a:lnTo>
                      <a:pt x="69" y="1682"/>
                    </a:lnTo>
                    <a:lnTo>
                      <a:pt x="0" y="169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05200" y="2859120"/>
                <a:ext cx="1628640" cy="976320"/>
              </a:xfrm>
              <a:custGeom>
                <a:avLst/>
                <a:gdLst/>
                <a:ahLst/>
                <a:rect l="l" t="t" r="r" b="b"/>
                <a:pathLst>
                  <a:path w="5131" h="3075">
                    <a:moveTo>
                      <a:pt x="5131" y="424"/>
                    </a:moveTo>
                    <a:lnTo>
                      <a:pt x="5130" y="370"/>
                    </a:lnTo>
                    <a:lnTo>
                      <a:pt x="5129" y="317"/>
                    </a:lnTo>
                    <a:lnTo>
                      <a:pt x="5126" y="263"/>
                    </a:lnTo>
                    <a:lnTo>
                      <a:pt x="5123" y="210"/>
                    </a:lnTo>
                    <a:lnTo>
                      <a:pt x="5118" y="157"/>
                    </a:lnTo>
                    <a:lnTo>
                      <a:pt x="5112" y="104"/>
                    </a:lnTo>
                    <a:lnTo>
                      <a:pt x="5106" y="53"/>
                    </a:lnTo>
                    <a:lnTo>
                      <a:pt x="5098" y="0"/>
                    </a:lnTo>
                    <a:lnTo>
                      <a:pt x="5046" y="26"/>
                    </a:lnTo>
                    <a:lnTo>
                      <a:pt x="5032" y="26"/>
                    </a:lnTo>
                    <a:lnTo>
                      <a:pt x="5040" y="74"/>
                    </a:lnTo>
                    <a:lnTo>
                      <a:pt x="5045" y="123"/>
                    </a:lnTo>
                    <a:lnTo>
                      <a:pt x="5050" y="173"/>
                    </a:lnTo>
                    <a:lnTo>
                      <a:pt x="5054" y="223"/>
                    </a:lnTo>
                    <a:lnTo>
                      <a:pt x="5057" y="272"/>
                    </a:lnTo>
                    <a:lnTo>
                      <a:pt x="5061" y="323"/>
                    </a:lnTo>
                    <a:lnTo>
                      <a:pt x="5062" y="373"/>
                    </a:lnTo>
                    <a:lnTo>
                      <a:pt x="5063" y="424"/>
                    </a:lnTo>
                    <a:lnTo>
                      <a:pt x="5058" y="560"/>
                    </a:lnTo>
                    <a:lnTo>
                      <a:pt x="5048" y="695"/>
                    </a:lnTo>
                    <a:lnTo>
                      <a:pt x="5031" y="827"/>
                    </a:lnTo>
                    <a:lnTo>
                      <a:pt x="5008" y="957"/>
                    </a:lnTo>
                    <a:lnTo>
                      <a:pt x="4979" y="1085"/>
                    </a:lnTo>
                    <a:lnTo>
                      <a:pt x="4943" y="1211"/>
                    </a:lnTo>
                    <a:lnTo>
                      <a:pt x="4902" y="1334"/>
                    </a:lnTo>
                    <a:lnTo>
                      <a:pt x="4854" y="1454"/>
                    </a:lnTo>
                    <a:lnTo>
                      <a:pt x="4801" y="1571"/>
                    </a:lnTo>
                    <a:lnTo>
                      <a:pt x="4742" y="1686"/>
                    </a:lnTo>
                    <a:lnTo>
                      <a:pt x="4679" y="1796"/>
                    </a:lnTo>
                    <a:lnTo>
                      <a:pt x="4610" y="1903"/>
                    </a:lnTo>
                    <a:lnTo>
                      <a:pt x="4536" y="2007"/>
                    </a:lnTo>
                    <a:lnTo>
                      <a:pt x="4457" y="2107"/>
                    </a:lnTo>
                    <a:lnTo>
                      <a:pt x="4374" y="2203"/>
                    </a:lnTo>
                    <a:lnTo>
                      <a:pt x="4286" y="2295"/>
                    </a:lnTo>
                    <a:lnTo>
                      <a:pt x="4194" y="2383"/>
                    </a:lnTo>
                    <a:lnTo>
                      <a:pt x="4098" y="2466"/>
                    </a:lnTo>
                    <a:lnTo>
                      <a:pt x="3998" y="2545"/>
                    </a:lnTo>
                    <a:lnTo>
                      <a:pt x="3894" y="2618"/>
                    </a:lnTo>
                    <a:lnTo>
                      <a:pt x="3787" y="2687"/>
                    </a:lnTo>
                    <a:lnTo>
                      <a:pt x="3675" y="2750"/>
                    </a:lnTo>
                    <a:lnTo>
                      <a:pt x="3562" y="2809"/>
                    </a:lnTo>
                    <a:lnTo>
                      <a:pt x="3444" y="2862"/>
                    </a:lnTo>
                    <a:lnTo>
                      <a:pt x="3324" y="2910"/>
                    </a:lnTo>
                    <a:lnTo>
                      <a:pt x="3201" y="2951"/>
                    </a:lnTo>
                    <a:lnTo>
                      <a:pt x="3075" y="2987"/>
                    </a:lnTo>
                    <a:lnTo>
                      <a:pt x="2947" y="3016"/>
                    </a:lnTo>
                    <a:lnTo>
                      <a:pt x="2816" y="3039"/>
                    </a:lnTo>
                    <a:lnTo>
                      <a:pt x="2684" y="3056"/>
                    </a:lnTo>
                    <a:lnTo>
                      <a:pt x="2549" y="3066"/>
                    </a:lnTo>
                    <a:lnTo>
                      <a:pt x="2413" y="3070"/>
                    </a:lnTo>
                    <a:lnTo>
                      <a:pt x="2411" y="3070"/>
                    </a:lnTo>
                    <a:lnTo>
                      <a:pt x="2410" y="3070"/>
                    </a:lnTo>
                    <a:lnTo>
                      <a:pt x="2408" y="3070"/>
                    </a:lnTo>
                    <a:lnTo>
                      <a:pt x="2405" y="3070"/>
                    </a:lnTo>
                    <a:lnTo>
                      <a:pt x="2403" y="3070"/>
                    </a:lnTo>
                    <a:lnTo>
                      <a:pt x="2401" y="3070"/>
                    </a:lnTo>
                    <a:lnTo>
                      <a:pt x="2399" y="3070"/>
                    </a:lnTo>
                    <a:lnTo>
                      <a:pt x="2397" y="3070"/>
                    </a:lnTo>
                    <a:lnTo>
                      <a:pt x="2417" y="3075"/>
                    </a:lnTo>
                    <a:lnTo>
                      <a:pt x="2530" y="3075"/>
                    </a:lnTo>
                    <a:lnTo>
                      <a:pt x="2642" y="3075"/>
                    </a:lnTo>
                    <a:lnTo>
                      <a:pt x="2784" y="3075"/>
                    </a:lnTo>
                    <a:lnTo>
                      <a:pt x="2897" y="3075"/>
                    </a:lnTo>
                    <a:lnTo>
                      <a:pt x="3002" y="3075"/>
                    </a:lnTo>
                    <a:lnTo>
                      <a:pt x="3116" y="3047"/>
                    </a:lnTo>
                    <a:lnTo>
                      <a:pt x="3227" y="3015"/>
                    </a:lnTo>
                    <a:lnTo>
                      <a:pt x="3337" y="2978"/>
                    </a:lnTo>
                    <a:lnTo>
                      <a:pt x="3444" y="2936"/>
                    </a:lnTo>
                    <a:lnTo>
                      <a:pt x="3548" y="2891"/>
                    </a:lnTo>
                    <a:lnTo>
                      <a:pt x="3651" y="2842"/>
                    </a:lnTo>
                    <a:lnTo>
                      <a:pt x="3751" y="2787"/>
                    </a:lnTo>
                    <a:lnTo>
                      <a:pt x="3849" y="2729"/>
                    </a:lnTo>
                    <a:lnTo>
                      <a:pt x="3943" y="2667"/>
                    </a:lnTo>
                    <a:lnTo>
                      <a:pt x="4036" y="2602"/>
                    </a:lnTo>
                    <a:lnTo>
                      <a:pt x="4125" y="2533"/>
                    </a:lnTo>
                    <a:lnTo>
                      <a:pt x="4211" y="2460"/>
                    </a:lnTo>
                    <a:lnTo>
                      <a:pt x="4294" y="2384"/>
                    </a:lnTo>
                    <a:lnTo>
                      <a:pt x="4374" y="2304"/>
                    </a:lnTo>
                    <a:lnTo>
                      <a:pt x="4450" y="2221"/>
                    </a:lnTo>
                    <a:lnTo>
                      <a:pt x="4523" y="2135"/>
                    </a:lnTo>
                    <a:lnTo>
                      <a:pt x="4593" y="2046"/>
                    </a:lnTo>
                    <a:lnTo>
                      <a:pt x="4658" y="1953"/>
                    </a:lnTo>
                    <a:lnTo>
                      <a:pt x="4720" y="1859"/>
                    </a:lnTo>
                    <a:lnTo>
                      <a:pt x="4779" y="1761"/>
                    </a:lnTo>
                    <a:lnTo>
                      <a:pt x="4832" y="1662"/>
                    </a:lnTo>
                    <a:lnTo>
                      <a:pt x="4883" y="1560"/>
                    </a:lnTo>
                    <a:lnTo>
                      <a:pt x="4928" y="1455"/>
                    </a:lnTo>
                    <a:lnTo>
                      <a:pt x="4969" y="1348"/>
                    </a:lnTo>
                    <a:lnTo>
                      <a:pt x="5006" y="1238"/>
                    </a:lnTo>
                    <a:lnTo>
                      <a:pt x="5039" y="1127"/>
                    </a:lnTo>
                    <a:lnTo>
                      <a:pt x="5067" y="1014"/>
                    </a:lnTo>
                    <a:lnTo>
                      <a:pt x="5089" y="899"/>
                    </a:lnTo>
                    <a:lnTo>
                      <a:pt x="5107" y="783"/>
                    </a:lnTo>
                    <a:lnTo>
                      <a:pt x="5120" y="664"/>
                    </a:lnTo>
                    <a:lnTo>
                      <a:pt x="5128" y="545"/>
                    </a:lnTo>
                    <a:lnTo>
                      <a:pt x="5131" y="424"/>
                    </a:lnTo>
                    <a:close/>
                    <a:moveTo>
                      <a:pt x="0" y="1674"/>
                    </a:moveTo>
                    <a:lnTo>
                      <a:pt x="24" y="1717"/>
                    </a:lnTo>
                    <a:lnTo>
                      <a:pt x="48" y="1760"/>
                    </a:lnTo>
                    <a:lnTo>
                      <a:pt x="72" y="1802"/>
                    </a:lnTo>
                    <a:lnTo>
                      <a:pt x="97" y="1844"/>
                    </a:lnTo>
                    <a:lnTo>
                      <a:pt x="122" y="1885"/>
                    </a:lnTo>
                    <a:lnTo>
                      <a:pt x="150" y="1926"/>
                    </a:lnTo>
                    <a:lnTo>
                      <a:pt x="177" y="1966"/>
                    </a:lnTo>
                    <a:lnTo>
                      <a:pt x="205" y="2006"/>
                    </a:lnTo>
                    <a:lnTo>
                      <a:pt x="234" y="2046"/>
                    </a:lnTo>
                    <a:lnTo>
                      <a:pt x="263" y="2084"/>
                    </a:lnTo>
                    <a:lnTo>
                      <a:pt x="294" y="2123"/>
                    </a:lnTo>
                    <a:lnTo>
                      <a:pt x="324" y="2160"/>
                    </a:lnTo>
                    <a:lnTo>
                      <a:pt x="356" y="2197"/>
                    </a:lnTo>
                    <a:lnTo>
                      <a:pt x="387" y="2234"/>
                    </a:lnTo>
                    <a:lnTo>
                      <a:pt x="420" y="2270"/>
                    </a:lnTo>
                    <a:lnTo>
                      <a:pt x="453" y="2304"/>
                    </a:lnTo>
                    <a:lnTo>
                      <a:pt x="494" y="2285"/>
                    </a:lnTo>
                    <a:lnTo>
                      <a:pt x="524" y="2285"/>
                    </a:lnTo>
                    <a:lnTo>
                      <a:pt x="528" y="2283"/>
                    </a:lnTo>
                    <a:lnTo>
                      <a:pt x="494" y="2249"/>
                    </a:lnTo>
                    <a:lnTo>
                      <a:pt x="462" y="2213"/>
                    </a:lnTo>
                    <a:lnTo>
                      <a:pt x="429" y="2177"/>
                    </a:lnTo>
                    <a:lnTo>
                      <a:pt x="398" y="2141"/>
                    </a:lnTo>
                    <a:lnTo>
                      <a:pt x="367" y="2105"/>
                    </a:lnTo>
                    <a:lnTo>
                      <a:pt x="337" y="2067"/>
                    </a:lnTo>
                    <a:lnTo>
                      <a:pt x="307" y="2029"/>
                    </a:lnTo>
                    <a:lnTo>
                      <a:pt x="279" y="1990"/>
                    </a:lnTo>
                    <a:lnTo>
                      <a:pt x="251" y="1951"/>
                    </a:lnTo>
                    <a:lnTo>
                      <a:pt x="223" y="1911"/>
                    </a:lnTo>
                    <a:lnTo>
                      <a:pt x="196" y="1872"/>
                    </a:lnTo>
                    <a:lnTo>
                      <a:pt x="170" y="1832"/>
                    </a:lnTo>
                    <a:lnTo>
                      <a:pt x="144" y="1791"/>
                    </a:lnTo>
                    <a:lnTo>
                      <a:pt x="120" y="1749"/>
                    </a:lnTo>
                    <a:lnTo>
                      <a:pt x="96" y="1707"/>
                    </a:lnTo>
                    <a:lnTo>
                      <a:pt x="73" y="1664"/>
                    </a:lnTo>
                    <a:lnTo>
                      <a:pt x="44" y="1664"/>
                    </a:lnTo>
                    <a:lnTo>
                      <a:pt x="0" y="1674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916360" y="2863800"/>
                <a:ext cx="1606320" cy="971640"/>
              </a:xfrm>
              <a:custGeom>
                <a:avLst/>
                <a:gdLst/>
                <a:ahLst/>
                <a:rect l="l" t="t" r="r" b="b"/>
                <a:pathLst>
                  <a:path w="5061" h="3059">
                    <a:moveTo>
                      <a:pt x="5061" y="408"/>
                    </a:moveTo>
                    <a:lnTo>
                      <a:pt x="5061" y="356"/>
                    </a:lnTo>
                    <a:lnTo>
                      <a:pt x="5059" y="305"/>
                    </a:lnTo>
                    <a:lnTo>
                      <a:pt x="5057" y="253"/>
                    </a:lnTo>
                    <a:lnTo>
                      <a:pt x="5054" y="202"/>
                    </a:lnTo>
                    <a:lnTo>
                      <a:pt x="5050" y="151"/>
                    </a:lnTo>
                    <a:lnTo>
                      <a:pt x="5044" y="100"/>
                    </a:lnTo>
                    <a:lnTo>
                      <a:pt x="5038" y="50"/>
                    </a:lnTo>
                    <a:lnTo>
                      <a:pt x="5031" y="0"/>
                    </a:lnTo>
                    <a:lnTo>
                      <a:pt x="5011" y="10"/>
                    </a:lnTo>
                    <a:lnTo>
                      <a:pt x="4963" y="10"/>
                    </a:lnTo>
                    <a:lnTo>
                      <a:pt x="4970" y="58"/>
                    </a:lnTo>
                    <a:lnTo>
                      <a:pt x="4975" y="107"/>
                    </a:lnTo>
                    <a:lnTo>
                      <a:pt x="4980" y="157"/>
                    </a:lnTo>
                    <a:lnTo>
                      <a:pt x="4985" y="207"/>
                    </a:lnTo>
                    <a:lnTo>
                      <a:pt x="4989" y="256"/>
                    </a:lnTo>
                    <a:lnTo>
                      <a:pt x="4991" y="307"/>
                    </a:lnTo>
                    <a:lnTo>
                      <a:pt x="4992" y="357"/>
                    </a:lnTo>
                    <a:lnTo>
                      <a:pt x="4993" y="408"/>
                    </a:lnTo>
                    <a:lnTo>
                      <a:pt x="4989" y="542"/>
                    </a:lnTo>
                    <a:lnTo>
                      <a:pt x="4979" y="675"/>
                    </a:lnTo>
                    <a:lnTo>
                      <a:pt x="4963" y="806"/>
                    </a:lnTo>
                    <a:lnTo>
                      <a:pt x="4939" y="935"/>
                    </a:lnTo>
                    <a:lnTo>
                      <a:pt x="4910" y="1061"/>
                    </a:lnTo>
                    <a:lnTo>
                      <a:pt x="4875" y="1185"/>
                    </a:lnTo>
                    <a:lnTo>
                      <a:pt x="4834" y="1306"/>
                    </a:lnTo>
                    <a:lnTo>
                      <a:pt x="4787" y="1424"/>
                    </a:lnTo>
                    <a:lnTo>
                      <a:pt x="4734" y="1541"/>
                    </a:lnTo>
                    <a:lnTo>
                      <a:pt x="4677" y="1653"/>
                    </a:lnTo>
                    <a:lnTo>
                      <a:pt x="4614" y="1762"/>
                    </a:lnTo>
                    <a:lnTo>
                      <a:pt x="4546" y="1868"/>
                    </a:lnTo>
                    <a:lnTo>
                      <a:pt x="4473" y="1971"/>
                    </a:lnTo>
                    <a:lnTo>
                      <a:pt x="4396" y="2069"/>
                    </a:lnTo>
                    <a:lnTo>
                      <a:pt x="4313" y="2164"/>
                    </a:lnTo>
                    <a:lnTo>
                      <a:pt x="4227" y="2255"/>
                    </a:lnTo>
                    <a:lnTo>
                      <a:pt x="4136" y="2342"/>
                    </a:lnTo>
                    <a:lnTo>
                      <a:pt x="4041" y="2424"/>
                    </a:lnTo>
                    <a:lnTo>
                      <a:pt x="3942" y="2501"/>
                    </a:lnTo>
                    <a:lnTo>
                      <a:pt x="3840" y="2574"/>
                    </a:lnTo>
                    <a:lnTo>
                      <a:pt x="3734" y="2642"/>
                    </a:lnTo>
                    <a:lnTo>
                      <a:pt x="3624" y="2704"/>
                    </a:lnTo>
                    <a:lnTo>
                      <a:pt x="3512" y="2762"/>
                    </a:lnTo>
                    <a:lnTo>
                      <a:pt x="3396" y="2814"/>
                    </a:lnTo>
                    <a:lnTo>
                      <a:pt x="3278" y="2861"/>
                    </a:lnTo>
                    <a:lnTo>
                      <a:pt x="3156" y="2902"/>
                    </a:lnTo>
                    <a:lnTo>
                      <a:pt x="3032" y="2937"/>
                    </a:lnTo>
                    <a:lnTo>
                      <a:pt x="2905" y="2966"/>
                    </a:lnTo>
                    <a:lnTo>
                      <a:pt x="2776" y="2990"/>
                    </a:lnTo>
                    <a:lnTo>
                      <a:pt x="2646" y="3006"/>
                    </a:lnTo>
                    <a:lnTo>
                      <a:pt x="2512" y="3016"/>
                    </a:lnTo>
                    <a:lnTo>
                      <a:pt x="2378" y="3020"/>
                    </a:lnTo>
                    <a:lnTo>
                      <a:pt x="2339" y="3019"/>
                    </a:lnTo>
                    <a:lnTo>
                      <a:pt x="2300" y="3019"/>
                    </a:lnTo>
                    <a:lnTo>
                      <a:pt x="2261" y="3017"/>
                    </a:lnTo>
                    <a:lnTo>
                      <a:pt x="2222" y="3015"/>
                    </a:lnTo>
                    <a:lnTo>
                      <a:pt x="2183" y="3013"/>
                    </a:lnTo>
                    <a:lnTo>
                      <a:pt x="2144" y="3010"/>
                    </a:lnTo>
                    <a:lnTo>
                      <a:pt x="2107" y="3005"/>
                    </a:lnTo>
                    <a:lnTo>
                      <a:pt x="2068" y="3001"/>
                    </a:lnTo>
                    <a:lnTo>
                      <a:pt x="2070" y="3001"/>
                    </a:lnTo>
                    <a:lnTo>
                      <a:pt x="2156" y="3032"/>
                    </a:lnTo>
                    <a:lnTo>
                      <a:pt x="2267" y="3032"/>
                    </a:lnTo>
                    <a:lnTo>
                      <a:pt x="2382" y="3059"/>
                    </a:lnTo>
                    <a:lnTo>
                      <a:pt x="2495" y="3059"/>
                    </a:lnTo>
                    <a:lnTo>
                      <a:pt x="2607" y="3059"/>
                    </a:lnTo>
                    <a:lnTo>
                      <a:pt x="2749" y="3059"/>
                    </a:lnTo>
                    <a:lnTo>
                      <a:pt x="2779" y="3059"/>
                    </a:lnTo>
                    <a:lnTo>
                      <a:pt x="2900" y="3038"/>
                    </a:lnTo>
                    <a:lnTo>
                      <a:pt x="3018" y="3012"/>
                    </a:lnTo>
                    <a:lnTo>
                      <a:pt x="3135" y="2980"/>
                    </a:lnTo>
                    <a:lnTo>
                      <a:pt x="3248" y="2944"/>
                    </a:lnTo>
                    <a:lnTo>
                      <a:pt x="3361" y="2903"/>
                    </a:lnTo>
                    <a:lnTo>
                      <a:pt x="3470" y="2857"/>
                    </a:lnTo>
                    <a:lnTo>
                      <a:pt x="3577" y="2807"/>
                    </a:lnTo>
                    <a:lnTo>
                      <a:pt x="3681" y="2752"/>
                    </a:lnTo>
                    <a:lnTo>
                      <a:pt x="3782" y="2692"/>
                    </a:lnTo>
                    <a:lnTo>
                      <a:pt x="3881" y="2628"/>
                    </a:lnTo>
                    <a:lnTo>
                      <a:pt x="3977" y="2561"/>
                    </a:lnTo>
                    <a:lnTo>
                      <a:pt x="4069" y="2490"/>
                    </a:lnTo>
                    <a:lnTo>
                      <a:pt x="4158" y="2414"/>
                    </a:lnTo>
                    <a:lnTo>
                      <a:pt x="4244" y="2334"/>
                    </a:lnTo>
                    <a:lnTo>
                      <a:pt x="4327" y="2251"/>
                    </a:lnTo>
                    <a:lnTo>
                      <a:pt x="4404" y="2164"/>
                    </a:lnTo>
                    <a:lnTo>
                      <a:pt x="4480" y="2075"/>
                    </a:lnTo>
                    <a:lnTo>
                      <a:pt x="4550" y="1982"/>
                    </a:lnTo>
                    <a:lnTo>
                      <a:pt x="4618" y="1886"/>
                    </a:lnTo>
                    <a:lnTo>
                      <a:pt x="4680" y="1786"/>
                    </a:lnTo>
                    <a:lnTo>
                      <a:pt x="4739" y="1684"/>
                    </a:lnTo>
                    <a:lnTo>
                      <a:pt x="4792" y="1579"/>
                    </a:lnTo>
                    <a:lnTo>
                      <a:pt x="4842" y="1472"/>
                    </a:lnTo>
                    <a:lnTo>
                      <a:pt x="4887" y="1362"/>
                    </a:lnTo>
                    <a:lnTo>
                      <a:pt x="4927" y="1250"/>
                    </a:lnTo>
                    <a:lnTo>
                      <a:pt x="4961" y="1135"/>
                    </a:lnTo>
                    <a:lnTo>
                      <a:pt x="4992" y="1019"/>
                    </a:lnTo>
                    <a:lnTo>
                      <a:pt x="5016" y="900"/>
                    </a:lnTo>
                    <a:lnTo>
                      <a:pt x="5036" y="779"/>
                    </a:lnTo>
                    <a:lnTo>
                      <a:pt x="5050" y="658"/>
                    </a:lnTo>
                    <a:lnTo>
                      <a:pt x="5058" y="534"/>
                    </a:lnTo>
                    <a:lnTo>
                      <a:pt x="5061" y="408"/>
                    </a:lnTo>
                    <a:close/>
                    <a:moveTo>
                      <a:pt x="0" y="1650"/>
                    </a:moveTo>
                    <a:lnTo>
                      <a:pt x="23" y="1693"/>
                    </a:lnTo>
                    <a:lnTo>
                      <a:pt x="46" y="1735"/>
                    </a:lnTo>
                    <a:lnTo>
                      <a:pt x="71" y="1777"/>
                    </a:lnTo>
                    <a:lnTo>
                      <a:pt x="96" y="1818"/>
                    </a:lnTo>
                    <a:lnTo>
                      <a:pt x="122" y="1859"/>
                    </a:lnTo>
                    <a:lnTo>
                      <a:pt x="148" y="1900"/>
                    </a:lnTo>
                    <a:lnTo>
                      <a:pt x="176" y="1940"/>
                    </a:lnTo>
                    <a:lnTo>
                      <a:pt x="204" y="1978"/>
                    </a:lnTo>
                    <a:lnTo>
                      <a:pt x="232" y="2017"/>
                    </a:lnTo>
                    <a:lnTo>
                      <a:pt x="262" y="2055"/>
                    </a:lnTo>
                    <a:lnTo>
                      <a:pt x="291" y="2093"/>
                    </a:lnTo>
                    <a:lnTo>
                      <a:pt x="323" y="2130"/>
                    </a:lnTo>
                    <a:lnTo>
                      <a:pt x="353" y="2166"/>
                    </a:lnTo>
                    <a:lnTo>
                      <a:pt x="386" y="2203"/>
                    </a:lnTo>
                    <a:lnTo>
                      <a:pt x="418" y="2238"/>
                    </a:lnTo>
                    <a:lnTo>
                      <a:pt x="451" y="2272"/>
                    </a:lnTo>
                    <a:lnTo>
                      <a:pt x="459" y="2269"/>
                    </a:lnTo>
                    <a:lnTo>
                      <a:pt x="489" y="2269"/>
                    </a:lnTo>
                    <a:lnTo>
                      <a:pt x="525" y="2249"/>
                    </a:lnTo>
                    <a:lnTo>
                      <a:pt x="492" y="2216"/>
                    </a:lnTo>
                    <a:lnTo>
                      <a:pt x="459" y="2182"/>
                    </a:lnTo>
                    <a:lnTo>
                      <a:pt x="428" y="2147"/>
                    </a:lnTo>
                    <a:lnTo>
                      <a:pt x="397" y="2112"/>
                    </a:lnTo>
                    <a:lnTo>
                      <a:pt x="367" y="2076"/>
                    </a:lnTo>
                    <a:lnTo>
                      <a:pt x="336" y="2039"/>
                    </a:lnTo>
                    <a:lnTo>
                      <a:pt x="308" y="2003"/>
                    </a:lnTo>
                    <a:lnTo>
                      <a:pt x="280" y="1966"/>
                    </a:lnTo>
                    <a:lnTo>
                      <a:pt x="251" y="1928"/>
                    </a:lnTo>
                    <a:lnTo>
                      <a:pt x="225" y="1889"/>
                    </a:lnTo>
                    <a:lnTo>
                      <a:pt x="198" y="1850"/>
                    </a:lnTo>
                    <a:lnTo>
                      <a:pt x="172" y="1810"/>
                    </a:lnTo>
                    <a:lnTo>
                      <a:pt x="147" y="1771"/>
                    </a:lnTo>
                    <a:lnTo>
                      <a:pt x="123" y="1731"/>
                    </a:lnTo>
                    <a:lnTo>
                      <a:pt x="100" y="1690"/>
                    </a:lnTo>
                    <a:lnTo>
                      <a:pt x="77" y="1648"/>
                    </a:lnTo>
                    <a:lnTo>
                      <a:pt x="9" y="1648"/>
                    </a:lnTo>
                    <a:lnTo>
                      <a:pt x="0" y="1650"/>
                    </a:lnTo>
                    <a:close/>
                    <a:moveTo>
                      <a:pt x="1857" y="2968"/>
                    </a:moveTo>
                    <a:lnTo>
                      <a:pt x="1874" y="2975"/>
                    </a:lnTo>
                    <a:lnTo>
                      <a:pt x="1892" y="2975"/>
                    </a:lnTo>
                    <a:lnTo>
                      <a:pt x="1888" y="2974"/>
                    </a:lnTo>
                    <a:lnTo>
                      <a:pt x="1884" y="2973"/>
                    </a:lnTo>
                    <a:lnTo>
                      <a:pt x="1880" y="2972"/>
                    </a:lnTo>
                    <a:lnTo>
                      <a:pt x="1874" y="2971"/>
                    </a:lnTo>
                    <a:lnTo>
                      <a:pt x="1870" y="2971"/>
                    </a:lnTo>
                    <a:lnTo>
                      <a:pt x="1866" y="2970"/>
                    </a:lnTo>
                    <a:lnTo>
                      <a:pt x="1862" y="2969"/>
                    </a:lnTo>
                    <a:lnTo>
                      <a:pt x="1857" y="296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928960" y="2867040"/>
                <a:ext cx="1584360" cy="966600"/>
              </a:xfrm>
              <a:custGeom>
                <a:avLst/>
                <a:gdLst/>
                <a:ahLst/>
                <a:rect l="l" t="t" r="r" b="b"/>
                <a:pathLst>
                  <a:path w="4989" h="3044">
                    <a:moveTo>
                      <a:pt x="4989" y="398"/>
                    </a:moveTo>
                    <a:lnTo>
                      <a:pt x="4989" y="347"/>
                    </a:lnTo>
                    <a:lnTo>
                      <a:pt x="4988" y="297"/>
                    </a:lnTo>
                    <a:lnTo>
                      <a:pt x="4984" y="246"/>
                    </a:lnTo>
                    <a:lnTo>
                      <a:pt x="4981" y="197"/>
                    </a:lnTo>
                    <a:lnTo>
                      <a:pt x="4977" y="147"/>
                    </a:lnTo>
                    <a:lnTo>
                      <a:pt x="4972" y="97"/>
                    </a:lnTo>
                    <a:lnTo>
                      <a:pt x="4967" y="48"/>
                    </a:lnTo>
                    <a:lnTo>
                      <a:pt x="4959" y="0"/>
                    </a:lnTo>
                    <a:lnTo>
                      <a:pt x="4890" y="0"/>
                    </a:lnTo>
                    <a:lnTo>
                      <a:pt x="4897" y="48"/>
                    </a:lnTo>
                    <a:lnTo>
                      <a:pt x="4902" y="97"/>
                    </a:lnTo>
                    <a:lnTo>
                      <a:pt x="4908" y="147"/>
                    </a:lnTo>
                    <a:lnTo>
                      <a:pt x="4913" y="197"/>
                    </a:lnTo>
                    <a:lnTo>
                      <a:pt x="4916" y="246"/>
                    </a:lnTo>
                    <a:lnTo>
                      <a:pt x="4918" y="297"/>
                    </a:lnTo>
                    <a:lnTo>
                      <a:pt x="4920" y="347"/>
                    </a:lnTo>
                    <a:lnTo>
                      <a:pt x="4920" y="398"/>
                    </a:lnTo>
                    <a:lnTo>
                      <a:pt x="4917" y="531"/>
                    </a:lnTo>
                    <a:lnTo>
                      <a:pt x="4907" y="661"/>
                    </a:lnTo>
                    <a:lnTo>
                      <a:pt x="4891" y="790"/>
                    </a:lnTo>
                    <a:lnTo>
                      <a:pt x="4868" y="917"/>
                    </a:lnTo>
                    <a:lnTo>
                      <a:pt x="4839" y="1042"/>
                    </a:lnTo>
                    <a:lnTo>
                      <a:pt x="4805" y="1164"/>
                    </a:lnTo>
                    <a:lnTo>
                      <a:pt x="4764" y="1284"/>
                    </a:lnTo>
                    <a:lnTo>
                      <a:pt x="4717" y="1401"/>
                    </a:lnTo>
                    <a:lnTo>
                      <a:pt x="4666" y="1515"/>
                    </a:lnTo>
                    <a:lnTo>
                      <a:pt x="4609" y="1626"/>
                    </a:lnTo>
                    <a:lnTo>
                      <a:pt x="4547" y="1734"/>
                    </a:lnTo>
                    <a:lnTo>
                      <a:pt x="4480" y="1839"/>
                    </a:lnTo>
                    <a:lnTo>
                      <a:pt x="4407" y="1940"/>
                    </a:lnTo>
                    <a:lnTo>
                      <a:pt x="4331" y="2038"/>
                    </a:lnTo>
                    <a:lnTo>
                      <a:pt x="4250" y="2131"/>
                    </a:lnTo>
                    <a:lnTo>
                      <a:pt x="4165" y="2220"/>
                    </a:lnTo>
                    <a:lnTo>
                      <a:pt x="4075" y="2305"/>
                    </a:lnTo>
                    <a:lnTo>
                      <a:pt x="3982" y="2386"/>
                    </a:lnTo>
                    <a:lnTo>
                      <a:pt x="3884" y="2463"/>
                    </a:lnTo>
                    <a:lnTo>
                      <a:pt x="3783" y="2535"/>
                    </a:lnTo>
                    <a:lnTo>
                      <a:pt x="3678" y="2603"/>
                    </a:lnTo>
                    <a:lnTo>
                      <a:pt x="3570" y="2665"/>
                    </a:lnTo>
                    <a:lnTo>
                      <a:pt x="3458" y="2721"/>
                    </a:lnTo>
                    <a:lnTo>
                      <a:pt x="3345" y="2773"/>
                    </a:lnTo>
                    <a:lnTo>
                      <a:pt x="3227" y="2819"/>
                    </a:lnTo>
                    <a:lnTo>
                      <a:pt x="3107" y="2860"/>
                    </a:lnTo>
                    <a:lnTo>
                      <a:pt x="2985" y="2895"/>
                    </a:lnTo>
                    <a:lnTo>
                      <a:pt x="2860" y="2923"/>
                    </a:lnTo>
                    <a:lnTo>
                      <a:pt x="2733" y="2946"/>
                    </a:lnTo>
                    <a:lnTo>
                      <a:pt x="2604" y="2962"/>
                    </a:lnTo>
                    <a:lnTo>
                      <a:pt x="2473" y="2972"/>
                    </a:lnTo>
                    <a:lnTo>
                      <a:pt x="2340" y="2975"/>
                    </a:lnTo>
                    <a:lnTo>
                      <a:pt x="2283" y="2974"/>
                    </a:lnTo>
                    <a:lnTo>
                      <a:pt x="2226" y="2973"/>
                    </a:lnTo>
                    <a:lnTo>
                      <a:pt x="2169" y="2970"/>
                    </a:lnTo>
                    <a:lnTo>
                      <a:pt x="2113" y="2966"/>
                    </a:lnTo>
                    <a:lnTo>
                      <a:pt x="2057" y="2960"/>
                    </a:lnTo>
                    <a:lnTo>
                      <a:pt x="2001" y="2953"/>
                    </a:lnTo>
                    <a:lnTo>
                      <a:pt x="1946" y="2945"/>
                    </a:lnTo>
                    <a:lnTo>
                      <a:pt x="1891" y="2937"/>
                    </a:lnTo>
                    <a:lnTo>
                      <a:pt x="1836" y="2926"/>
                    </a:lnTo>
                    <a:lnTo>
                      <a:pt x="1783" y="2914"/>
                    </a:lnTo>
                    <a:lnTo>
                      <a:pt x="1729" y="2903"/>
                    </a:lnTo>
                    <a:lnTo>
                      <a:pt x="1675" y="2889"/>
                    </a:lnTo>
                    <a:lnTo>
                      <a:pt x="1623" y="2875"/>
                    </a:lnTo>
                    <a:lnTo>
                      <a:pt x="1570" y="2859"/>
                    </a:lnTo>
                    <a:lnTo>
                      <a:pt x="1519" y="2842"/>
                    </a:lnTo>
                    <a:lnTo>
                      <a:pt x="1467" y="2824"/>
                    </a:lnTo>
                    <a:lnTo>
                      <a:pt x="1554" y="2881"/>
                    </a:lnTo>
                    <a:lnTo>
                      <a:pt x="1694" y="2907"/>
                    </a:lnTo>
                    <a:lnTo>
                      <a:pt x="1836" y="2965"/>
                    </a:lnTo>
                    <a:lnTo>
                      <a:pt x="1920" y="2965"/>
                    </a:lnTo>
                    <a:lnTo>
                      <a:pt x="2032" y="2991"/>
                    </a:lnTo>
                    <a:lnTo>
                      <a:pt x="2118" y="3022"/>
                    </a:lnTo>
                    <a:lnTo>
                      <a:pt x="2229" y="3022"/>
                    </a:lnTo>
                    <a:lnTo>
                      <a:pt x="2324" y="3044"/>
                    </a:lnTo>
                    <a:lnTo>
                      <a:pt x="2326" y="3044"/>
                    </a:lnTo>
                    <a:lnTo>
                      <a:pt x="2328" y="3044"/>
                    </a:lnTo>
                    <a:lnTo>
                      <a:pt x="2330" y="3044"/>
                    </a:lnTo>
                    <a:lnTo>
                      <a:pt x="2332" y="3044"/>
                    </a:lnTo>
                    <a:lnTo>
                      <a:pt x="2333" y="3044"/>
                    </a:lnTo>
                    <a:lnTo>
                      <a:pt x="2336" y="3044"/>
                    </a:lnTo>
                    <a:lnTo>
                      <a:pt x="2338" y="3044"/>
                    </a:lnTo>
                    <a:lnTo>
                      <a:pt x="2340" y="3044"/>
                    </a:lnTo>
                    <a:lnTo>
                      <a:pt x="2476" y="3040"/>
                    </a:lnTo>
                    <a:lnTo>
                      <a:pt x="2611" y="3030"/>
                    </a:lnTo>
                    <a:lnTo>
                      <a:pt x="2743" y="3013"/>
                    </a:lnTo>
                    <a:lnTo>
                      <a:pt x="2874" y="2990"/>
                    </a:lnTo>
                    <a:lnTo>
                      <a:pt x="3002" y="2961"/>
                    </a:lnTo>
                    <a:lnTo>
                      <a:pt x="3128" y="2925"/>
                    </a:lnTo>
                    <a:lnTo>
                      <a:pt x="3251" y="2883"/>
                    </a:lnTo>
                    <a:lnTo>
                      <a:pt x="3371" y="2836"/>
                    </a:lnTo>
                    <a:lnTo>
                      <a:pt x="3489" y="2783"/>
                    </a:lnTo>
                    <a:lnTo>
                      <a:pt x="3602" y="2724"/>
                    </a:lnTo>
                    <a:lnTo>
                      <a:pt x="3714" y="2661"/>
                    </a:lnTo>
                    <a:lnTo>
                      <a:pt x="3821" y="2592"/>
                    </a:lnTo>
                    <a:lnTo>
                      <a:pt x="3925" y="2519"/>
                    </a:lnTo>
                    <a:lnTo>
                      <a:pt x="4025" y="2440"/>
                    </a:lnTo>
                    <a:lnTo>
                      <a:pt x="4121" y="2357"/>
                    </a:lnTo>
                    <a:lnTo>
                      <a:pt x="4213" y="2269"/>
                    </a:lnTo>
                    <a:lnTo>
                      <a:pt x="4301" y="2177"/>
                    </a:lnTo>
                    <a:lnTo>
                      <a:pt x="4384" y="2081"/>
                    </a:lnTo>
                    <a:lnTo>
                      <a:pt x="4463" y="1981"/>
                    </a:lnTo>
                    <a:lnTo>
                      <a:pt x="4537" y="1877"/>
                    </a:lnTo>
                    <a:lnTo>
                      <a:pt x="4605" y="1770"/>
                    </a:lnTo>
                    <a:lnTo>
                      <a:pt x="4669" y="1660"/>
                    </a:lnTo>
                    <a:lnTo>
                      <a:pt x="4728" y="1545"/>
                    </a:lnTo>
                    <a:lnTo>
                      <a:pt x="4781" y="1428"/>
                    </a:lnTo>
                    <a:lnTo>
                      <a:pt x="4828" y="1308"/>
                    </a:lnTo>
                    <a:lnTo>
                      <a:pt x="4870" y="1185"/>
                    </a:lnTo>
                    <a:lnTo>
                      <a:pt x="4906" y="1059"/>
                    </a:lnTo>
                    <a:lnTo>
                      <a:pt x="4935" y="931"/>
                    </a:lnTo>
                    <a:lnTo>
                      <a:pt x="4958" y="801"/>
                    </a:lnTo>
                    <a:lnTo>
                      <a:pt x="4975" y="669"/>
                    </a:lnTo>
                    <a:lnTo>
                      <a:pt x="4985" y="534"/>
                    </a:lnTo>
                    <a:lnTo>
                      <a:pt x="4989" y="398"/>
                    </a:lnTo>
                    <a:close/>
                    <a:moveTo>
                      <a:pt x="0" y="1638"/>
                    </a:moveTo>
                    <a:lnTo>
                      <a:pt x="23" y="1681"/>
                    </a:lnTo>
                    <a:lnTo>
                      <a:pt x="47" y="1723"/>
                    </a:lnTo>
                    <a:lnTo>
                      <a:pt x="71" y="1765"/>
                    </a:lnTo>
                    <a:lnTo>
                      <a:pt x="97" y="1806"/>
                    </a:lnTo>
                    <a:lnTo>
                      <a:pt x="123" y="1846"/>
                    </a:lnTo>
                    <a:lnTo>
                      <a:pt x="150" y="1885"/>
                    </a:lnTo>
                    <a:lnTo>
                      <a:pt x="178" y="1925"/>
                    </a:lnTo>
                    <a:lnTo>
                      <a:pt x="206" y="1964"/>
                    </a:lnTo>
                    <a:lnTo>
                      <a:pt x="234" y="2003"/>
                    </a:lnTo>
                    <a:lnTo>
                      <a:pt x="264" y="2041"/>
                    </a:lnTo>
                    <a:lnTo>
                      <a:pt x="294" y="2079"/>
                    </a:lnTo>
                    <a:lnTo>
                      <a:pt x="325" y="2115"/>
                    </a:lnTo>
                    <a:lnTo>
                      <a:pt x="356" y="2151"/>
                    </a:lnTo>
                    <a:lnTo>
                      <a:pt x="389" y="2187"/>
                    </a:lnTo>
                    <a:lnTo>
                      <a:pt x="421" y="2223"/>
                    </a:lnTo>
                    <a:lnTo>
                      <a:pt x="455" y="2257"/>
                    </a:lnTo>
                    <a:lnTo>
                      <a:pt x="506" y="2229"/>
                    </a:lnTo>
                    <a:lnTo>
                      <a:pt x="526" y="2229"/>
                    </a:lnTo>
                    <a:lnTo>
                      <a:pt x="493" y="2196"/>
                    </a:lnTo>
                    <a:lnTo>
                      <a:pt x="460" y="2163"/>
                    </a:lnTo>
                    <a:lnTo>
                      <a:pt x="429" y="2129"/>
                    </a:lnTo>
                    <a:lnTo>
                      <a:pt x="398" y="2094"/>
                    </a:lnTo>
                    <a:lnTo>
                      <a:pt x="368" y="2059"/>
                    </a:lnTo>
                    <a:lnTo>
                      <a:pt x="338" y="2023"/>
                    </a:lnTo>
                    <a:lnTo>
                      <a:pt x="309" y="1987"/>
                    </a:lnTo>
                    <a:lnTo>
                      <a:pt x="281" y="1951"/>
                    </a:lnTo>
                    <a:lnTo>
                      <a:pt x="253" y="1913"/>
                    </a:lnTo>
                    <a:lnTo>
                      <a:pt x="226" y="1875"/>
                    </a:lnTo>
                    <a:lnTo>
                      <a:pt x="200" y="1837"/>
                    </a:lnTo>
                    <a:lnTo>
                      <a:pt x="174" y="1798"/>
                    </a:lnTo>
                    <a:lnTo>
                      <a:pt x="149" y="1758"/>
                    </a:lnTo>
                    <a:lnTo>
                      <a:pt x="125" y="1719"/>
                    </a:lnTo>
                    <a:lnTo>
                      <a:pt x="101" y="1679"/>
                    </a:lnTo>
                    <a:lnTo>
                      <a:pt x="78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41560" y="2867040"/>
                <a:ext cx="1560600" cy="955800"/>
              </a:xfrm>
              <a:custGeom>
                <a:avLst/>
                <a:gdLst/>
                <a:ahLst/>
                <a:rect l="l" t="t" r="r" b="b"/>
                <a:pathLst>
                  <a:path w="4916" h="3010">
                    <a:moveTo>
                      <a:pt x="4916" y="398"/>
                    </a:moveTo>
                    <a:lnTo>
                      <a:pt x="4915" y="347"/>
                    </a:lnTo>
                    <a:lnTo>
                      <a:pt x="4914" y="297"/>
                    </a:lnTo>
                    <a:lnTo>
                      <a:pt x="4912" y="246"/>
                    </a:lnTo>
                    <a:lnTo>
                      <a:pt x="4908" y="197"/>
                    </a:lnTo>
                    <a:lnTo>
                      <a:pt x="4903" y="147"/>
                    </a:lnTo>
                    <a:lnTo>
                      <a:pt x="4898" y="97"/>
                    </a:lnTo>
                    <a:lnTo>
                      <a:pt x="4893" y="48"/>
                    </a:lnTo>
                    <a:lnTo>
                      <a:pt x="4886" y="0"/>
                    </a:lnTo>
                    <a:lnTo>
                      <a:pt x="4850" y="0"/>
                    </a:lnTo>
                    <a:lnTo>
                      <a:pt x="4818" y="14"/>
                    </a:lnTo>
                    <a:lnTo>
                      <a:pt x="4825" y="62"/>
                    </a:lnTo>
                    <a:lnTo>
                      <a:pt x="4831" y="109"/>
                    </a:lnTo>
                    <a:lnTo>
                      <a:pt x="4835" y="156"/>
                    </a:lnTo>
                    <a:lnTo>
                      <a:pt x="4839" y="204"/>
                    </a:lnTo>
                    <a:lnTo>
                      <a:pt x="4842" y="253"/>
                    </a:lnTo>
                    <a:lnTo>
                      <a:pt x="4845" y="301"/>
                    </a:lnTo>
                    <a:lnTo>
                      <a:pt x="4847" y="349"/>
                    </a:lnTo>
                    <a:lnTo>
                      <a:pt x="4847" y="398"/>
                    </a:lnTo>
                    <a:lnTo>
                      <a:pt x="4843" y="529"/>
                    </a:lnTo>
                    <a:lnTo>
                      <a:pt x="4834" y="658"/>
                    </a:lnTo>
                    <a:lnTo>
                      <a:pt x="4817" y="785"/>
                    </a:lnTo>
                    <a:lnTo>
                      <a:pt x="4795" y="910"/>
                    </a:lnTo>
                    <a:lnTo>
                      <a:pt x="4767" y="1034"/>
                    </a:lnTo>
                    <a:lnTo>
                      <a:pt x="4732" y="1154"/>
                    </a:lnTo>
                    <a:lnTo>
                      <a:pt x="4692" y="1272"/>
                    </a:lnTo>
                    <a:lnTo>
                      <a:pt x="4647" y="1388"/>
                    </a:lnTo>
                    <a:lnTo>
                      <a:pt x="4595" y="1500"/>
                    </a:lnTo>
                    <a:lnTo>
                      <a:pt x="4540" y="1610"/>
                    </a:lnTo>
                    <a:lnTo>
                      <a:pt x="4479" y="1716"/>
                    </a:lnTo>
                    <a:lnTo>
                      <a:pt x="4412" y="1819"/>
                    </a:lnTo>
                    <a:lnTo>
                      <a:pt x="4341" y="1919"/>
                    </a:lnTo>
                    <a:lnTo>
                      <a:pt x="4265" y="2016"/>
                    </a:lnTo>
                    <a:lnTo>
                      <a:pt x="4185" y="2108"/>
                    </a:lnTo>
                    <a:lnTo>
                      <a:pt x="4101" y="2196"/>
                    </a:lnTo>
                    <a:lnTo>
                      <a:pt x="4013" y="2280"/>
                    </a:lnTo>
                    <a:lnTo>
                      <a:pt x="3921" y="2360"/>
                    </a:lnTo>
                    <a:lnTo>
                      <a:pt x="3824" y="2436"/>
                    </a:lnTo>
                    <a:lnTo>
                      <a:pt x="3724" y="2507"/>
                    </a:lnTo>
                    <a:lnTo>
                      <a:pt x="3621" y="2573"/>
                    </a:lnTo>
                    <a:lnTo>
                      <a:pt x="3515" y="2634"/>
                    </a:lnTo>
                    <a:lnTo>
                      <a:pt x="3404" y="2690"/>
                    </a:lnTo>
                    <a:lnTo>
                      <a:pt x="3292" y="2741"/>
                    </a:lnTo>
                    <a:lnTo>
                      <a:pt x="3176" y="2786"/>
                    </a:lnTo>
                    <a:lnTo>
                      <a:pt x="3058" y="2826"/>
                    </a:lnTo>
                    <a:lnTo>
                      <a:pt x="2938" y="2861"/>
                    </a:lnTo>
                    <a:lnTo>
                      <a:pt x="2814" y="2889"/>
                    </a:lnTo>
                    <a:lnTo>
                      <a:pt x="2689" y="2911"/>
                    </a:lnTo>
                    <a:lnTo>
                      <a:pt x="2561" y="2928"/>
                    </a:lnTo>
                    <a:lnTo>
                      <a:pt x="2432" y="2938"/>
                    </a:lnTo>
                    <a:lnTo>
                      <a:pt x="2301" y="2941"/>
                    </a:lnTo>
                    <a:lnTo>
                      <a:pt x="2235" y="2940"/>
                    </a:lnTo>
                    <a:lnTo>
                      <a:pt x="2168" y="2938"/>
                    </a:lnTo>
                    <a:lnTo>
                      <a:pt x="2102" y="2933"/>
                    </a:lnTo>
                    <a:lnTo>
                      <a:pt x="2037" y="2927"/>
                    </a:lnTo>
                    <a:lnTo>
                      <a:pt x="1973" y="2920"/>
                    </a:lnTo>
                    <a:lnTo>
                      <a:pt x="1908" y="2910"/>
                    </a:lnTo>
                    <a:lnTo>
                      <a:pt x="1845" y="2900"/>
                    </a:lnTo>
                    <a:lnTo>
                      <a:pt x="1782" y="2888"/>
                    </a:lnTo>
                    <a:lnTo>
                      <a:pt x="1718" y="2874"/>
                    </a:lnTo>
                    <a:lnTo>
                      <a:pt x="1656" y="2859"/>
                    </a:lnTo>
                    <a:lnTo>
                      <a:pt x="1594" y="2842"/>
                    </a:lnTo>
                    <a:lnTo>
                      <a:pt x="1534" y="2823"/>
                    </a:lnTo>
                    <a:lnTo>
                      <a:pt x="1474" y="2803"/>
                    </a:lnTo>
                    <a:lnTo>
                      <a:pt x="1415" y="2782"/>
                    </a:lnTo>
                    <a:lnTo>
                      <a:pt x="1356" y="2759"/>
                    </a:lnTo>
                    <a:lnTo>
                      <a:pt x="1298" y="2735"/>
                    </a:lnTo>
                    <a:lnTo>
                      <a:pt x="1343" y="2766"/>
                    </a:lnTo>
                    <a:lnTo>
                      <a:pt x="1427" y="2823"/>
                    </a:lnTo>
                    <a:lnTo>
                      <a:pt x="1515" y="2881"/>
                    </a:lnTo>
                    <a:lnTo>
                      <a:pt x="1655" y="2907"/>
                    </a:lnTo>
                    <a:lnTo>
                      <a:pt x="1780" y="2958"/>
                    </a:lnTo>
                    <a:lnTo>
                      <a:pt x="1785" y="2959"/>
                    </a:lnTo>
                    <a:lnTo>
                      <a:pt x="1789" y="2960"/>
                    </a:lnTo>
                    <a:lnTo>
                      <a:pt x="1793" y="2961"/>
                    </a:lnTo>
                    <a:lnTo>
                      <a:pt x="1797" y="2961"/>
                    </a:lnTo>
                    <a:lnTo>
                      <a:pt x="1803" y="2962"/>
                    </a:lnTo>
                    <a:lnTo>
                      <a:pt x="1807" y="2963"/>
                    </a:lnTo>
                    <a:lnTo>
                      <a:pt x="1811" y="2964"/>
                    </a:lnTo>
                    <a:lnTo>
                      <a:pt x="1815" y="2965"/>
                    </a:lnTo>
                    <a:lnTo>
                      <a:pt x="1881" y="2965"/>
                    </a:lnTo>
                    <a:lnTo>
                      <a:pt x="1991" y="2991"/>
                    </a:lnTo>
                    <a:lnTo>
                      <a:pt x="2030" y="2995"/>
                    </a:lnTo>
                    <a:lnTo>
                      <a:pt x="2067" y="3000"/>
                    </a:lnTo>
                    <a:lnTo>
                      <a:pt x="2106" y="3003"/>
                    </a:lnTo>
                    <a:lnTo>
                      <a:pt x="2145" y="3005"/>
                    </a:lnTo>
                    <a:lnTo>
                      <a:pt x="2184" y="3007"/>
                    </a:lnTo>
                    <a:lnTo>
                      <a:pt x="2223" y="3009"/>
                    </a:lnTo>
                    <a:lnTo>
                      <a:pt x="2262" y="3009"/>
                    </a:lnTo>
                    <a:lnTo>
                      <a:pt x="2301" y="3010"/>
                    </a:lnTo>
                    <a:lnTo>
                      <a:pt x="2435" y="3006"/>
                    </a:lnTo>
                    <a:lnTo>
                      <a:pt x="2569" y="2996"/>
                    </a:lnTo>
                    <a:lnTo>
                      <a:pt x="2699" y="2980"/>
                    </a:lnTo>
                    <a:lnTo>
                      <a:pt x="2828" y="2956"/>
                    </a:lnTo>
                    <a:lnTo>
                      <a:pt x="2955" y="2927"/>
                    </a:lnTo>
                    <a:lnTo>
                      <a:pt x="3079" y="2892"/>
                    </a:lnTo>
                    <a:lnTo>
                      <a:pt x="3201" y="2851"/>
                    </a:lnTo>
                    <a:lnTo>
                      <a:pt x="3319" y="2804"/>
                    </a:lnTo>
                    <a:lnTo>
                      <a:pt x="3435" y="2752"/>
                    </a:lnTo>
                    <a:lnTo>
                      <a:pt x="3547" y="2694"/>
                    </a:lnTo>
                    <a:lnTo>
                      <a:pt x="3657" y="2632"/>
                    </a:lnTo>
                    <a:lnTo>
                      <a:pt x="3763" y="2564"/>
                    </a:lnTo>
                    <a:lnTo>
                      <a:pt x="3865" y="2491"/>
                    </a:lnTo>
                    <a:lnTo>
                      <a:pt x="3964" y="2414"/>
                    </a:lnTo>
                    <a:lnTo>
                      <a:pt x="4059" y="2332"/>
                    </a:lnTo>
                    <a:lnTo>
                      <a:pt x="4150" y="2245"/>
                    </a:lnTo>
                    <a:lnTo>
                      <a:pt x="4236" y="2154"/>
                    </a:lnTo>
                    <a:lnTo>
                      <a:pt x="4319" y="2059"/>
                    </a:lnTo>
                    <a:lnTo>
                      <a:pt x="4396" y="1961"/>
                    </a:lnTo>
                    <a:lnTo>
                      <a:pt x="4469" y="1858"/>
                    </a:lnTo>
                    <a:lnTo>
                      <a:pt x="4537" y="1752"/>
                    </a:lnTo>
                    <a:lnTo>
                      <a:pt x="4600" y="1643"/>
                    </a:lnTo>
                    <a:lnTo>
                      <a:pt x="4657" y="1531"/>
                    </a:lnTo>
                    <a:lnTo>
                      <a:pt x="4710" y="1414"/>
                    </a:lnTo>
                    <a:lnTo>
                      <a:pt x="4757" y="1296"/>
                    </a:lnTo>
                    <a:lnTo>
                      <a:pt x="4798" y="1175"/>
                    </a:lnTo>
                    <a:lnTo>
                      <a:pt x="4833" y="1051"/>
                    </a:lnTo>
                    <a:lnTo>
                      <a:pt x="4862" y="925"/>
                    </a:lnTo>
                    <a:lnTo>
                      <a:pt x="4886" y="796"/>
                    </a:lnTo>
                    <a:lnTo>
                      <a:pt x="4902" y="665"/>
                    </a:lnTo>
                    <a:lnTo>
                      <a:pt x="4912" y="532"/>
                    </a:lnTo>
                    <a:lnTo>
                      <a:pt x="4916" y="398"/>
                    </a:lnTo>
                    <a:close/>
                    <a:moveTo>
                      <a:pt x="0" y="1638"/>
                    </a:moveTo>
                    <a:lnTo>
                      <a:pt x="23" y="1680"/>
                    </a:lnTo>
                    <a:lnTo>
                      <a:pt x="46" y="1721"/>
                    </a:lnTo>
                    <a:lnTo>
                      <a:pt x="70" y="1761"/>
                    </a:lnTo>
                    <a:lnTo>
                      <a:pt x="95" y="1800"/>
                    </a:lnTo>
                    <a:lnTo>
                      <a:pt x="121" y="1840"/>
                    </a:lnTo>
                    <a:lnTo>
                      <a:pt x="148" y="1879"/>
                    </a:lnTo>
                    <a:lnTo>
                      <a:pt x="174" y="1918"/>
                    </a:lnTo>
                    <a:lnTo>
                      <a:pt x="203" y="1956"/>
                    </a:lnTo>
                    <a:lnTo>
                      <a:pt x="231" y="1993"/>
                    </a:lnTo>
                    <a:lnTo>
                      <a:pt x="259" y="2029"/>
                    </a:lnTo>
                    <a:lnTo>
                      <a:pt x="290" y="2066"/>
                    </a:lnTo>
                    <a:lnTo>
                      <a:pt x="320" y="2102"/>
                    </a:lnTo>
                    <a:lnTo>
                      <a:pt x="351" y="2137"/>
                    </a:lnTo>
                    <a:lnTo>
                      <a:pt x="382" y="2172"/>
                    </a:lnTo>
                    <a:lnTo>
                      <a:pt x="415" y="2206"/>
                    </a:lnTo>
                    <a:lnTo>
                      <a:pt x="448" y="2239"/>
                    </a:lnTo>
                    <a:lnTo>
                      <a:pt x="467" y="2229"/>
                    </a:lnTo>
                    <a:lnTo>
                      <a:pt x="523" y="2229"/>
                    </a:lnTo>
                    <a:lnTo>
                      <a:pt x="536" y="2229"/>
                    </a:lnTo>
                    <a:lnTo>
                      <a:pt x="502" y="2196"/>
                    </a:lnTo>
                    <a:lnTo>
                      <a:pt x="469" y="2163"/>
                    </a:lnTo>
                    <a:lnTo>
                      <a:pt x="437" y="2129"/>
                    </a:lnTo>
                    <a:lnTo>
                      <a:pt x="406" y="2094"/>
                    </a:lnTo>
                    <a:lnTo>
                      <a:pt x="374" y="2060"/>
                    </a:lnTo>
                    <a:lnTo>
                      <a:pt x="344" y="2024"/>
                    </a:lnTo>
                    <a:lnTo>
                      <a:pt x="314" y="1987"/>
                    </a:lnTo>
                    <a:lnTo>
                      <a:pt x="285" y="1951"/>
                    </a:lnTo>
                    <a:lnTo>
                      <a:pt x="256" y="1913"/>
                    </a:lnTo>
                    <a:lnTo>
                      <a:pt x="229" y="1875"/>
                    </a:lnTo>
                    <a:lnTo>
                      <a:pt x="202" y="1836"/>
                    </a:lnTo>
                    <a:lnTo>
                      <a:pt x="175" y="1797"/>
                    </a:lnTo>
                    <a:lnTo>
                      <a:pt x="150" y="1758"/>
                    </a:lnTo>
                    <a:lnTo>
                      <a:pt x="125" y="1719"/>
                    </a:lnTo>
                    <a:lnTo>
                      <a:pt x="101" y="1678"/>
                    </a:lnTo>
                    <a:lnTo>
                      <a:pt x="78" y="1637"/>
                    </a:lnTo>
                    <a:lnTo>
                      <a:pt x="72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952720" y="2867040"/>
                <a:ext cx="1538280" cy="944640"/>
              </a:xfrm>
              <a:custGeom>
                <a:avLst/>
                <a:gdLst/>
                <a:ahLst/>
                <a:rect l="l" t="t" r="r" b="b"/>
                <a:pathLst>
                  <a:path w="4842" h="2975">
                    <a:moveTo>
                      <a:pt x="4842" y="398"/>
                    </a:moveTo>
                    <a:lnTo>
                      <a:pt x="4842" y="347"/>
                    </a:lnTo>
                    <a:lnTo>
                      <a:pt x="4840" y="297"/>
                    </a:lnTo>
                    <a:lnTo>
                      <a:pt x="4838" y="246"/>
                    </a:lnTo>
                    <a:lnTo>
                      <a:pt x="4835" y="197"/>
                    </a:lnTo>
                    <a:lnTo>
                      <a:pt x="4830" y="147"/>
                    </a:lnTo>
                    <a:lnTo>
                      <a:pt x="4824" y="97"/>
                    </a:lnTo>
                    <a:lnTo>
                      <a:pt x="4819" y="48"/>
                    </a:lnTo>
                    <a:lnTo>
                      <a:pt x="4812" y="0"/>
                    </a:lnTo>
                    <a:lnTo>
                      <a:pt x="4811" y="0"/>
                    </a:lnTo>
                    <a:lnTo>
                      <a:pt x="4753" y="27"/>
                    </a:lnTo>
                    <a:lnTo>
                      <a:pt x="4747" y="30"/>
                    </a:lnTo>
                    <a:lnTo>
                      <a:pt x="4753" y="75"/>
                    </a:lnTo>
                    <a:lnTo>
                      <a:pt x="4758" y="120"/>
                    </a:lnTo>
                    <a:lnTo>
                      <a:pt x="4762" y="167"/>
                    </a:lnTo>
                    <a:lnTo>
                      <a:pt x="4767" y="212"/>
                    </a:lnTo>
                    <a:lnTo>
                      <a:pt x="4770" y="258"/>
                    </a:lnTo>
                    <a:lnTo>
                      <a:pt x="4772" y="304"/>
                    </a:lnTo>
                    <a:lnTo>
                      <a:pt x="4773" y="351"/>
                    </a:lnTo>
                    <a:lnTo>
                      <a:pt x="4774" y="398"/>
                    </a:lnTo>
                    <a:lnTo>
                      <a:pt x="4770" y="527"/>
                    </a:lnTo>
                    <a:lnTo>
                      <a:pt x="4760" y="655"/>
                    </a:lnTo>
                    <a:lnTo>
                      <a:pt x="4745" y="780"/>
                    </a:lnTo>
                    <a:lnTo>
                      <a:pt x="4722" y="904"/>
                    </a:lnTo>
                    <a:lnTo>
                      <a:pt x="4694" y="1024"/>
                    </a:lnTo>
                    <a:lnTo>
                      <a:pt x="4660" y="1144"/>
                    </a:lnTo>
                    <a:lnTo>
                      <a:pt x="4621" y="1261"/>
                    </a:lnTo>
                    <a:lnTo>
                      <a:pt x="4576" y="1374"/>
                    </a:lnTo>
                    <a:lnTo>
                      <a:pt x="4526" y="1485"/>
                    </a:lnTo>
                    <a:lnTo>
                      <a:pt x="4470" y="1594"/>
                    </a:lnTo>
                    <a:lnTo>
                      <a:pt x="4410" y="1699"/>
                    </a:lnTo>
                    <a:lnTo>
                      <a:pt x="4344" y="1800"/>
                    </a:lnTo>
                    <a:lnTo>
                      <a:pt x="4275" y="1899"/>
                    </a:lnTo>
                    <a:lnTo>
                      <a:pt x="4200" y="1994"/>
                    </a:lnTo>
                    <a:lnTo>
                      <a:pt x="4121" y="2085"/>
                    </a:lnTo>
                    <a:lnTo>
                      <a:pt x="4038" y="2172"/>
                    </a:lnTo>
                    <a:lnTo>
                      <a:pt x="3951" y="2255"/>
                    </a:lnTo>
                    <a:lnTo>
                      <a:pt x="3859" y="2334"/>
                    </a:lnTo>
                    <a:lnTo>
                      <a:pt x="3765" y="2408"/>
                    </a:lnTo>
                    <a:lnTo>
                      <a:pt x="3666" y="2478"/>
                    </a:lnTo>
                    <a:lnTo>
                      <a:pt x="3564" y="2544"/>
                    </a:lnTo>
                    <a:lnTo>
                      <a:pt x="3459" y="2604"/>
                    </a:lnTo>
                    <a:lnTo>
                      <a:pt x="3351" y="2659"/>
                    </a:lnTo>
                    <a:lnTo>
                      <a:pt x="3239" y="2710"/>
                    </a:lnTo>
                    <a:lnTo>
                      <a:pt x="3126" y="2755"/>
                    </a:lnTo>
                    <a:lnTo>
                      <a:pt x="3009" y="2794"/>
                    </a:lnTo>
                    <a:lnTo>
                      <a:pt x="2889" y="2827"/>
                    </a:lnTo>
                    <a:lnTo>
                      <a:pt x="2768" y="2856"/>
                    </a:lnTo>
                    <a:lnTo>
                      <a:pt x="2644" y="2878"/>
                    </a:lnTo>
                    <a:lnTo>
                      <a:pt x="2519" y="2893"/>
                    </a:lnTo>
                    <a:lnTo>
                      <a:pt x="2391" y="2903"/>
                    </a:lnTo>
                    <a:lnTo>
                      <a:pt x="2262" y="2906"/>
                    </a:lnTo>
                    <a:lnTo>
                      <a:pt x="2225" y="2906"/>
                    </a:lnTo>
                    <a:lnTo>
                      <a:pt x="2188" y="2905"/>
                    </a:lnTo>
                    <a:lnTo>
                      <a:pt x="2151" y="2904"/>
                    </a:lnTo>
                    <a:lnTo>
                      <a:pt x="2115" y="2902"/>
                    </a:lnTo>
                    <a:lnTo>
                      <a:pt x="2079" y="2900"/>
                    </a:lnTo>
                    <a:lnTo>
                      <a:pt x="2042" y="2897"/>
                    </a:lnTo>
                    <a:lnTo>
                      <a:pt x="2006" y="2893"/>
                    </a:lnTo>
                    <a:lnTo>
                      <a:pt x="1971" y="2889"/>
                    </a:lnTo>
                    <a:lnTo>
                      <a:pt x="1934" y="2885"/>
                    </a:lnTo>
                    <a:lnTo>
                      <a:pt x="1898" y="2881"/>
                    </a:lnTo>
                    <a:lnTo>
                      <a:pt x="1863" y="2875"/>
                    </a:lnTo>
                    <a:lnTo>
                      <a:pt x="1828" y="2869"/>
                    </a:lnTo>
                    <a:lnTo>
                      <a:pt x="1793" y="2863"/>
                    </a:lnTo>
                    <a:lnTo>
                      <a:pt x="1757" y="2856"/>
                    </a:lnTo>
                    <a:lnTo>
                      <a:pt x="1723" y="2848"/>
                    </a:lnTo>
                    <a:lnTo>
                      <a:pt x="1688" y="2841"/>
                    </a:lnTo>
                    <a:lnTo>
                      <a:pt x="1620" y="2823"/>
                    </a:lnTo>
                    <a:lnTo>
                      <a:pt x="1551" y="2804"/>
                    </a:lnTo>
                    <a:lnTo>
                      <a:pt x="1484" y="2783"/>
                    </a:lnTo>
                    <a:lnTo>
                      <a:pt x="1418" y="2761"/>
                    </a:lnTo>
                    <a:lnTo>
                      <a:pt x="1385" y="2750"/>
                    </a:lnTo>
                    <a:lnTo>
                      <a:pt x="1351" y="2737"/>
                    </a:lnTo>
                    <a:lnTo>
                      <a:pt x="1320" y="2723"/>
                    </a:lnTo>
                    <a:lnTo>
                      <a:pt x="1287" y="2711"/>
                    </a:lnTo>
                    <a:lnTo>
                      <a:pt x="1223" y="2682"/>
                    </a:lnTo>
                    <a:lnTo>
                      <a:pt x="1161" y="2653"/>
                    </a:lnTo>
                    <a:lnTo>
                      <a:pt x="1163" y="2655"/>
                    </a:lnTo>
                    <a:lnTo>
                      <a:pt x="1220" y="2710"/>
                    </a:lnTo>
                    <a:lnTo>
                      <a:pt x="1304" y="2766"/>
                    </a:lnTo>
                    <a:lnTo>
                      <a:pt x="1388" y="2823"/>
                    </a:lnTo>
                    <a:lnTo>
                      <a:pt x="1389" y="2824"/>
                    </a:lnTo>
                    <a:lnTo>
                      <a:pt x="1441" y="2842"/>
                    </a:lnTo>
                    <a:lnTo>
                      <a:pt x="1492" y="2859"/>
                    </a:lnTo>
                    <a:lnTo>
                      <a:pt x="1545" y="2875"/>
                    </a:lnTo>
                    <a:lnTo>
                      <a:pt x="1597" y="2889"/>
                    </a:lnTo>
                    <a:lnTo>
                      <a:pt x="1651" y="2903"/>
                    </a:lnTo>
                    <a:lnTo>
                      <a:pt x="1705" y="2914"/>
                    </a:lnTo>
                    <a:lnTo>
                      <a:pt x="1758" y="2926"/>
                    </a:lnTo>
                    <a:lnTo>
                      <a:pt x="1813" y="2937"/>
                    </a:lnTo>
                    <a:lnTo>
                      <a:pt x="1868" y="2945"/>
                    </a:lnTo>
                    <a:lnTo>
                      <a:pt x="1923" y="2953"/>
                    </a:lnTo>
                    <a:lnTo>
                      <a:pt x="1979" y="2960"/>
                    </a:lnTo>
                    <a:lnTo>
                      <a:pt x="2035" y="2966"/>
                    </a:lnTo>
                    <a:lnTo>
                      <a:pt x="2091" y="2970"/>
                    </a:lnTo>
                    <a:lnTo>
                      <a:pt x="2148" y="2973"/>
                    </a:lnTo>
                    <a:lnTo>
                      <a:pt x="2205" y="2974"/>
                    </a:lnTo>
                    <a:lnTo>
                      <a:pt x="2262" y="2975"/>
                    </a:lnTo>
                    <a:lnTo>
                      <a:pt x="2395" y="2972"/>
                    </a:lnTo>
                    <a:lnTo>
                      <a:pt x="2526" y="2962"/>
                    </a:lnTo>
                    <a:lnTo>
                      <a:pt x="2655" y="2946"/>
                    </a:lnTo>
                    <a:lnTo>
                      <a:pt x="2782" y="2923"/>
                    </a:lnTo>
                    <a:lnTo>
                      <a:pt x="2907" y="2895"/>
                    </a:lnTo>
                    <a:lnTo>
                      <a:pt x="3029" y="2860"/>
                    </a:lnTo>
                    <a:lnTo>
                      <a:pt x="3149" y="2819"/>
                    </a:lnTo>
                    <a:lnTo>
                      <a:pt x="3267" y="2773"/>
                    </a:lnTo>
                    <a:lnTo>
                      <a:pt x="3380" y="2721"/>
                    </a:lnTo>
                    <a:lnTo>
                      <a:pt x="3492" y="2665"/>
                    </a:lnTo>
                    <a:lnTo>
                      <a:pt x="3600" y="2603"/>
                    </a:lnTo>
                    <a:lnTo>
                      <a:pt x="3705" y="2535"/>
                    </a:lnTo>
                    <a:lnTo>
                      <a:pt x="3806" y="2463"/>
                    </a:lnTo>
                    <a:lnTo>
                      <a:pt x="3904" y="2386"/>
                    </a:lnTo>
                    <a:lnTo>
                      <a:pt x="3997" y="2305"/>
                    </a:lnTo>
                    <a:lnTo>
                      <a:pt x="4087" y="2220"/>
                    </a:lnTo>
                    <a:lnTo>
                      <a:pt x="4172" y="2131"/>
                    </a:lnTo>
                    <a:lnTo>
                      <a:pt x="4253" y="2038"/>
                    </a:lnTo>
                    <a:lnTo>
                      <a:pt x="4329" y="1940"/>
                    </a:lnTo>
                    <a:lnTo>
                      <a:pt x="4402" y="1839"/>
                    </a:lnTo>
                    <a:lnTo>
                      <a:pt x="4469" y="1734"/>
                    </a:lnTo>
                    <a:lnTo>
                      <a:pt x="4531" y="1626"/>
                    </a:lnTo>
                    <a:lnTo>
                      <a:pt x="4588" y="1515"/>
                    </a:lnTo>
                    <a:lnTo>
                      <a:pt x="4639" y="1401"/>
                    </a:lnTo>
                    <a:lnTo>
                      <a:pt x="4686" y="1284"/>
                    </a:lnTo>
                    <a:lnTo>
                      <a:pt x="4727" y="1164"/>
                    </a:lnTo>
                    <a:lnTo>
                      <a:pt x="4761" y="1042"/>
                    </a:lnTo>
                    <a:lnTo>
                      <a:pt x="4790" y="917"/>
                    </a:lnTo>
                    <a:lnTo>
                      <a:pt x="4813" y="790"/>
                    </a:lnTo>
                    <a:lnTo>
                      <a:pt x="4829" y="661"/>
                    </a:lnTo>
                    <a:lnTo>
                      <a:pt x="4839" y="531"/>
                    </a:lnTo>
                    <a:lnTo>
                      <a:pt x="4842" y="398"/>
                    </a:lnTo>
                    <a:close/>
                    <a:moveTo>
                      <a:pt x="0" y="1638"/>
                    </a:moveTo>
                    <a:lnTo>
                      <a:pt x="23" y="1679"/>
                    </a:lnTo>
                    <a:lnTo>
                      <a:pt x="47" y="1719"/>
                    </a:lnTo>
                    <a:lnTo>
                      <a:pt x="71" y="1758"/>
                    </a:lnTo>
                    <a:lnTo>
                      <a:pt x="96" y="1798"/>
                    </a:lnTo>
                    <a:lnTo>
                      <a:pt x="122" y="1837"/>
                    </a:lnTo>
                    <a:lnTo>
                      <a:pt x="148" y="1875"/>
                    </a:lnTo>
                    <a:lnTo>
                      <a:pt x="175" y="1913"/>
                    </a:lnTo>
                    <a:lnTo>
                      <a:pt x="203" y="1951"/>
                    </a:lnTo>
                    <a:lnTo>
                      <a:pt x="231" y="1987"/>
                    </a:lnTo>
                    <a:lnTo>
                      <a:pt x="260" y="2023"/>
                    </a:lnTo>
                    <a:lnTo>
                      <a:pt x="290" y="2059"/>
                    </a:lnTo>
                    <a:lnTo>
                      <a:pt x="320" y="2094"/>
                    </a:lnTo>
                    <a:lnTo>
                      <a:pt x="351" y="2129"/>
                    </a:lnTo>
                    <a:lnTo>
                      <a:pt x="382" y="2163"/>
                    </a:lnTo>
                    <a:lnTo>
                      <a:pt x="415" y="2196"/>
                    </a:lnTo>
                    <a:lnTo>
                      <a:pt x="448" y="2229"/>
                    </a:lnTo>
                    <a:lnTo>
                      <a:pt x="484" y="2229"/>
                    </a:lnTo>
                    <a:lnTo>
                      <a:pt x="546" y="2229"/>
                    </a:lnTo>
                    <a:lnTo>
                      <a:pt x="512" y="2196"/>
                    </a:lnTo>
                    <a:lnTo>
                      <a:pt x="478" y="2163"/>
                    </a:lnTo>
                    <a:lnTo>
                      <a:pt x="444" y="2128"/>
                    </a:lnTo>
                    <a:lnTo>
                      <a:pt x="412" y="2093"/>
                    </a:lnTo>
                    <a:lnTo>
                      <a:pt x="379" y="2058"/>
                    </a:lnTo>
                    <a:lnTo>
                      <a:pt x="348" y="2021"/>
                    </a:lnTo>
                    <a:lnTo>
                      <a:pt x="317" y="1984"/>
                    </a:lnTo>
                    <a:lnTo>
                      <a:pt x="287" y="1947"/>
                    </a:lnTo>
                    <a:lnTo>
                      <a:pt x="257" y="1909"/>
                    </a:lnTo>
                    <a:lnTo>
                      <a:pt x="229" y="1871"/>
                    </a:lnTo>
                    <a:lnTo>
                      <a:pt x="202" y="1831"/>
                    </a:lnTo>
                    <a:lnTo>
                      <a:pt x="174" y="1791"/>
                    </a:lnTo>
                    <a:lnTo>
                      <a:pt x="148" y="1751"/>
                    </a:lnTo>
                    <a:lnTo>
                      <a:pt x="122" y="1710"/>
                    </a:lnTo>
                    <a:lnTo>
                      <a:pt x="97" y="1669"/>
                    </a:lnTo>
                    <a:lnTo>
                      <a:pt x="73" y="1627"/>
                    </a:lnTo>
                    <a:lnTo>
                      <a:pt x="33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965320" y="2871720"/>
                <a:ext cx="1514520" cy="928800"/>
              </a:xfrm>
              <a:custGeom>
                <a:avLst/>
                <a:gdLst/>
                <a:ahLst/>
                <a:rect l="l" t="t" r="r" b="b"/>
                <a:pathLst>
                  <a:path w="4769" h="2927">
                    <a:moveTo>
                      <a:pt x="4769" y="384"/>
                    </a:moveTo>
                    <a:lnTo>
                      <a:pt x="4769" y="335"/>
                    </a:lnTo>
                    <a:lnTo>
                      <a:pt x="4767" y="287"/>
                    </a:lnTo>
                    <a:lnTo>
                      <a:pt x="4764" y="239"/>
                    </a:lnTo>
                    <a:lnTo>
                      <a:pt x="4761" y="190"/>
                    </a:lnTo>
                    <a:lnTo>
                      <a:pt x="4757" y="142"/>
                    </a:lnTo>
                    <a:lnTo>
                      <a:pt x="4753" y="95"/>
                    </a:lnTo>
                    <a:lnTo>
                      <a:pt x="4747" y="48"/>
                    </a:lnTo>
                    <a:lnTo>
                      <a:pt x="4740" y="0"/>
                    </a:lnTo>
                    <a:lnTo>
                      <a:pt x="4714" y="13"/>
                    </a:lnTo>
                    <a:lnTo>
                      <a:pt x="4675" y="33"/>
                    </a:lnTo>
                    <a:lnTo>
                      <a:pt x="4681" y="76"/>
                    </a:lnTo>
                    <a:lnTo>
                      <a:pt x="4686" y="119"/>
                    </a:lnTo>
                    <a:lnTo>
                      <a:pt x="4690" y="163"/>
                    </a:lnTo>
                    <a:lnTo>
                      <a:pt x="4694" y="207"/>
                    </a:lnTo>
                    <a:lnTo>
                      <a:pt x="4696" y="251"/>
                    </a:lnTo>
                    <a:lnTo>
                      <a:pt x="4698" y="295"/>
                    </a:lnTo>
                    <a:lnTo>
                      <a:pt x="4699" y="340"/>
                    </a:lnTo>
                    <a:lnTo>
                      <a:pt x="4700" y="384"/>
                    </a:lnTo>
                    <a:lnTo>
                      <a:pt x="4697" y="512"/>
                    </a:lnTo>
                    <a:lnTo>
                      <a:pt x="4688" y="637"/>
                    </a:lnTo>
                    <a:lnTo>
                      <a:pt x="4672" y="761"/>
                    </a:lnTo>
                    <a:lnTo>
                      <a:pt x="4650" y="882"/>
                    </a:lnTo>
                    <a:lnTo>
                      <a:pt x="4623" y="1002"/>
                    </a:lnTo>
                    <a:lnTo>
                      <a:pt x="4589" y="1120"/>
                    </a:lnTo>
                    <a:lnTo>
                      <a:pt x="4550" y="1235"/>
                    </a:lnTo>
                    <a:lnTo>
                      <a:pt x="4506" y="1346"/>
                    </a:lnTo>
                    <a:lnTo>
                      <a:pt x="4455" y="1457"/>
                    </a:lnTo>
                    <a:lnTo>
                      <a:pt x="4401" y="1564"/>
                    </a:lnTo>
                    <a:lnTo>
                      <a:pt x="4342" y="1667"/>
                    </a:lnTo>
                    <a:lnTo>
                      <a:pt x="4277" y="1768"/>
                    </a:lnTo>
                    <a:lnTo>
                      <a:pt x="4208" y="1864"/>
                    </a:lnTo>
                    <a:lnTo>
                      <a:pt x="4135" y="1958"/>
                    </a:lnTo>
                    <a:lnTo>
                      <a:pt x="4057" y="2048"/>
                    </a:lnTo>
                    <a:lnTo>
                      <a:pt x="3975" y="2133"/>
                    </a:lnTo>
                    <a:lnTo>
                      <a:pt x="3889" y="2216"/>
                    </a:lnTo>
                    <a:lnTo>
                      <a:pt x="3798" y="2294"/>
                    </a:lnTo>
                    <a:lnTo>
                      <a:pt x="3705" y="2367"/>
                    </a:lnTo>
                    <a:lnTo>
                      <a:pt x="3608" y="2435"/>
                    </a:lnTo>
                    <a:lnTo>
                      <a:pt x="3507" y="2500"/>
                    </a:lnTo>
                    <a:lnTo>
                      <a:pt x="3403" y="2559"/>
                    </a:lnTo>
                    <a:lnTo>
                      <a:pt x="3297" y="2614"/>
                    </a:lnTo>
                    <a:lnTo>
                      <a:pt x="3188" y="2664"/>
                    </a:lnTo>
                    <a:lnTo>
                      <a:pt x="3074" y="2708"/>
                    </a:lnTo>
                    <a:lnTo>
                      <a:pt x="2960" y="2747"/>
                    </a:lnTo>
                    <a:lnTo>
                      <a:pt x="2842" y="2781"/>
                    </a:lnTo>
                    <a:lnTo>
                      <a:pt x="2722" y="2808"/>
                    </a:lnTo>
                    <a:lnTo>
                      <a:pt x="2600" y="2830"/>
                    </a:lnTo>
                    <a:lnTo>
                      <a:pt x="2476" y="2846"/>
                    </a:lnTo>
                    <a:lnTo>
                      <a:pt x="2351" y="2855"/>
                    </a:lnTo>
                    <a:lnTo>
                      <a:pt x="2223" y="2858"/>
                    </a:lnTo>
                    <a:lnTo>
                      <a:pt x="2184" y="2857"/>
                    </a:lnTo>
                    <a:lnTo>
                      <a:pt x="2144" y="2857"/>
                    </a:lnTo>
                    <a:lnTo>
                      <a:pt x="2105" y="2855"/>
                    </a:lnTo>
                    <a:lnTo>
                      <a:pt x="2066" y="2853"/>
                    </a:lnTo>
                    <a:lnTo>
                      <a:pt x="2027" y="2850"/>
                    </a:lnTo>
                    <a:lnTo>
                      <a:pt x="1988" y="2847"/>
                    </a:lnTo>
                    <a:lnTo>
                      <a:pt x="1949" y="2844"/>
                    </a:lnTo>
                    <a:lnTo>
                      <a:pt x="1912" y="2839"/>
                    </a:lnTo>
                    <a:lnTo>
                      <a:pt x="1873" y="2833"/>
                    </a:lnTo>
                    <a:lnTo>
                      <a:pt x="1835" y="2828"/>
                    </a:lnTo>
                    <a:lnTo>
                      <a:pt x="1797" y="2822"/>
                    </a:lnTo>
                    <a:lnTo>
                      <a:pt x="1760" y="2815"/>
                    </a:lnTo>
                    <a:lnTo>
                      <a:pt x="1722" y="2808"/>
                    </a:lnTo>
                    <a:lnTo>
                      <a:pt x="1686" y="2800"/>
                    </a:lnTo>
                    <a:lnTo>
                      <a:pt x="1648" y="2791"/>
                    </a:lnTo>
                    <a:lnTo>
                      <a:pt x="1611" y="2782"/>
                    </a:lnTo>
                    <a:lnTo>
                      <a:pt x="1574" y="2772"/>
                    </a:lnTo>
                    <a:lnTo>
                      <a:pt x="1538" y="2762"/>
                    </a:lnTo>
                    <a:lnTo>
                      <a:pt x="1502" y="2751"/>
                    </a:lnTo>
                    <a:lnTo>
                      <a:pt x="1466" y="2741"/>
                    </a:lnTo>
                    <a:lnTo>
                      <a:pt x="1430" y="2728"/>
                    </a:lnTo>
                    <a:lnTo>
                      <a:pt x="1396" y="2717"/>
                    </a:lnTo>
                    <a:lnTo>
                      <a:pt x="1360" y="2704"/>
                    </a:lnTo>
                    <a:lnTo>
                      <a:pt x="1325" y="2690"/>
                    </a:lnTo>
                    <a:lnTo>
                      <a:pt x="1290" y="2677"/>
                    </a:lnTo>
                    <a:lnTo>
                      <a:pt x="1256" y="2662"/>
                    </a:lnTo>
                    <a:lnTo>
                      <a:pt x="1222" y="2647"/>
                    </a:lnTo>
                    <a:lnTo>
                      <a:pt x="1188" y="2633"/>
                    </a:lnTo>
                    <a:lnTo>
                      <a:pt x="1155" y="2617"/>
                    </a:lnTo>
                    <a:lnTo>
                      <a:pt x="1121" y="2600"/>
                    </a:lnTo>
                    <a:lnTo>
                      <a:pt x="1088" y="2583"/>
                    </a:lnTo>
                    <a:lnTo>
                      <a:pt x="1055" y="2567"/>
                    </a:lnTo>
                    <a:lnTo>
                      <a:pt x="1068" y="2584"/>
                    </a:lnTo>
                    <a:lnTo>
                      <a:pt x="1124" y="2641"/>
                    </a:lnTo>
                    <a:lnTo>
                      <a:pt x="1181" y="2696"/>
                    </a:lnTo>
                    <a:lnTo>
                      <a:pt x="1220" y="2721"/>
                    </a:lnTo>
                    <a:lnTo>
                      <a:pt x="1278" y="2745"/>
                    </a:lnTo>
                    <a:lnTo>
                      <a:pt x="1337" y="2768"/>
                    </a:lnTo>
                    <a:lnTo>
                      <a:pt x="1396" y="2789"/>
                    </a:lnTo>
                    <a:lnTo>
                      <a:pt x="1456" y="2809"/>
                    </a:lnTo>
                    <a:lnTo>
                      <a:pt x="1516" y="2828"/>
                    </a:lnTo>
                    <a:lnTo>
                      <a:pt x="1578" y="2845"/>
                    </a:lnTo>
                    <a:lnTo>
                      <a:pt x="1640" y="2860"/>
                    </a:lnTo>
                    <a:lnTo>
                      <a:pt x="1704" y="2874"/>
                    </a:lnTo>
                    <a:lnTo>
                      <a:pt x="1767" y="2886"/>
                    </a:lnTo>
                    <a:lnTo>
                      <a:pt x="1830" y="2896"/>
                    </a:lnTo>
                    <a:lnTo>
                      <a:pt x="1895" y="2906"/>
                    </a:lnTo>
                    <a:lnTo>
                      <a:pt x="1959" y="2913"/>
                    </a:lnTo>
                    <a:lnTo>
                      <a:pt x="2024" y="2919"/>
                    </a:lnTo>
                    <a:lnTo>
                      <a:pt x="2090" y="2924"/>
                    </a:lnTo>
                    <a:lnTo>
                      <a:pt x="2157" y="2926"/>
                    </a:lnTo>
                    <a:lnTo>
                      <a:pt x="2223" y="2927"/>
                    </a:lnTo>
                    <a:lnTo>
                      <a:pt x="2354" y="2924"/>
                    </a:lnTo>
                    <a:lnTo>
                      <a:pt x="2483" y="2914"/>
                    </a:lnTo>
                    <a:lnTo>
                      <a:pt x="2611" y="2897"/>
                    </a:lnTo>
                    <a:lnTo>
                      <a:pt x="2736" y="2875"/>
                    </a:lnTo>
                    <a:lnTo>
                      <a:pt x="2860" y="2847"/>
                    </a:lnTo>
                    <a:lnTo>
                      <a:pt x="2980" y="2812"/>
                    </a:lnTo>
                    <a:lnTo>
                      <a:pt x="3098" y="2772"/>
                    </a:lnTo>
                    <a:lnTo>
                      <a:pt x="3214" y="2727"/>
                    </a:lnTo>
                    <a:lnTo>
                      <a:pt x="3326" y="2676"/>
                    </a:lnTo>
                    <a:lnTo>
                      <a:pt x="3437" y="2620"/>
                    </a:lnTo>
                    <a:lnTo>
                      <a:pt x="3543" y="2559"/>
                    </a:lnTo>
                    <a:lnTo>
                      <a:pt x="3646" y="2493"/>
                    </a:lnTo>
                    <a:lnTo>
                      <a:pt x="3746" y="2422"/>
                    </a:lnTo>
                    <a:lnTo>
                      <a:pt x="3843" y="2346"/>
                    </a:lnTo>
                    <a:lnTo>
                      <a:pt x="3935" y="2266"/>
                    </a:lnTo>
                    <a:lnTo>
                      <a:pt x="4023" y="2182"/>
                    </a:lnTo>
                    <a:lnTo>
                      <a:pt x="4107" y="2094"/>
                    </a:lnTo>
                    <a:lnTo>
                      <a:pt x="4187" y="2002"/>
                    </a:lnTo>
                    <a:lnTo>
                      <a:pt x="4263" y="1905"/>
                    </a:lnTo>
                    <a:lnTo>
                      <a:pt x="4334" y="1805"/>
                    </a:lnTo>
                    <a:lnTo>
                      <a:pt x="4401" y="1702"/>
                    </a:lnTo>
                    <a:lnTo>
                      <a:pt x="4462" y="1596"/>
                    </a:lnTo>
                    <a:lnTo>
                      <a:pt x="4517" y="1486"/>
                    </a:lnTo>
                    <a:lnTo>
                      <a:pt x="4569" y="1374"/>
                    </a:lnTo>
                    <a:lnTo>
                      <a:pt x="4614" y="1258"/>
                    </a:lnTo>
                    <a:lnTo>
                      <a:pt x="4654" y="1140"/>
                    </a:lnTo>
                    <a:lnTo>
                      <a:pt x="4689" y="1020"/>
                    </a:lnTo>
                    <a:lnTo>
                      <a:pt x="4717" y="896"/>
                    </a:lnTo>
                    <a:lnTo>
                      <a:pt x="4739" y="771"/>
                    </a:lnTo>
                    <a:lnTo>
                      <a:pt x="4756" y="644"/>
                    </a:lnTo>
                    <a:lnTo>
                      <a:pt x="4765" y="515"/>
                    </a:lnTo>
                    <a:lnTo>
                      <a:pt x="4769" y="384"/>
                    </a:lnTo>
                    <a:close/>
                    <a:moveTo>
                      <a:pt x="0" y="1623"/>
                    </a:moveTo>
                    <a:lnTo>
                      <a:pt x="23" y="1664"/>
                    </a:lnTo>
                    <a:lnTo>
                      <a:pt x="47" y="1705"/>
                    </a:lnTo>
                    <a:lnTo>
                      <a:pt x="72" y="1744"/>
                    </a:lnTo>
                    <a:lnTo>
                      <a:pt x="97" y="1783"/>
                    </a:lnTo>
                    <a:lnTo>
                      <a:pt x="124" y="1822"/>
                    </a:lnTo>
                    <a:lnTo>
                      <a:pt x="151" y="1861"/>
                    </a:lnTo>
                    <a:lnTo>
                      <a:pt x="178" y="1899"/>
                    </a:lnTo>
                    <a:lnTo>
                      <a:pt x="207" y="1937"/>
                    </a:lnTo>
                    <a:lnTo>
                      <a:pt x="236" y="1973"/>
                    </a:lnTo>
                    <a:lnTo>
                      <a:pt x="266" y="2010"/>
                    </a:lnTo>
                    <a:lnTo>
                      <a:pt x="296" y="2046"/>
                    </a:lnTo>
                    <a:lnTo>
                      <a:pt x="328" y="2080"/>
                    </a:lnTo>
                    <a:lnTo>
                      <a:pt x="359" y="2115"/>
                    </a:lnTo>
                    <a:lnTo>
                      <a:pt x="391" y="2149"/>
                    </a:lnTo>
                    <a:lnTo>
                      <a:pt x="424" y="2182"/>
                    </a:lnTo>
                    <a:lnTo>
                      <a:pt x="458" y="2215"/>
                    </a:lnTo>
                    <a:lnTo>
                      <a:pt x="558" y="2215"/>
                    </a:lnTo>
                    <a:lnTo>
                      <a:pt x="522" y="2182"/>
                    </a:lnTo>
                    <a:lnTo>
                      <a:pt x="486" y="2148"/>
                    </a:lnTo>
                    <a:lnTo>
                      <a:pt x="452" y="2113"/>
                    </a:lnTo>
                    <a:lnTo>
                      <a:pt x="418" y="2078"/>
                    </a:lnTo>
                    <a:lnTo>
                      <a:pt x="384" y="2042"/>
                    </a:lnTo>
                    <a:lnTo>
                      <a:pt x="352" y="2005"/>
                    </a:lnTo>
                    <a:lnTo>
                      <a:pt x="320" y="1968"/>
                    </a:lnTo>
                    <a:lnTo>
                      <a:pt x="290" y="1929"/>
                    </a:lnTo>
                    <a:lnTo>
                      <a:pt x="259" y="1891"/>
                    </a:lnTo>
                    <a:lnTo>
                      <a:pt x="230" y="1852"/>
                    </a:lnTo>
                    <a:lnTo>
                      <a:pt x="200" y="1812"/>
                    </a:lnTo>
                    <a:lnTo>
                      <a:pt x="172" y="1772"/>
                    </a:lnTo>
                    <a:lnTo>
                      <a:pt x="146" y="1731"/>
                    </a:lnTo>
                    <a:lnTo>
                      <a:pt x="118" y="1689"/>
                    </a:lnTo>
                    <a:lnTo>
                      <a:pt x="93" y="1647"/>
                    </a:lnTo>
                    <a:lnTo>
                      <a:pt x="68" y="1604"/>
                    </a:lnTo>
                    <a:lnTo>
                      <a:pt x="0" y="162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76480" y="2876400"/>
                <a:ext cx="1492200" cy="912960"/>
              </a:xfrm>
              <a:custGeom>
                <a:avLst/>
                <a:gdLst/>
                <a:ahLst/>
                <a:rect l="l" t="t" r="r" b="b"/>
                <a:pathLst>
                  <a:path w="4701" h="2876">
                    <a:moveTo>
                      <a:pt x="4701" y="368"/>
                    </a:moveTo>
                    <a:lnTo>
                      <a:pt x="4700" y="321"/>
                    </a:lnTo>
                    <a:lnTo>
                      <a:pt x="4699" y="274"/>
                    </a:lnTo>
                    <a:lnTo>
                      <a:pt x="4697" y="228"/>
                    </a:lnTo>
                    <a:lnTo>
                      <a:pt x="4694" y="182"/>
                    </a:lnTo>
                    <a:lnTo>
                      <a:pt x="4689" y="137"/>
                    </a:lnTo>
                    <a:lnTo>
                      <a:pt x="4685" y="90"/>
                    </a:lnTo>
                    <a:lnTo>
                      <a:pt x="4680" y="45"/>
                    </a:lnTo>
                    <a:lnTo>
                      <a:pt x="4674" y="0"/>
                    </a:lnTo>
                    <a:lnTo>
                      <a:pt x="4623" y="26"/>
                    </a:lnTo>
                    <a:lnTo>
                      <a:pt x="4607" y="26"/>
                    </a:lnTo>
                    <a:lnTo>
                      <a:pt x="4614" y="68"/>
                    </a:lnTo>
                    <a:lnTo>
                      <a:pt x="4618" y="110"/>
                    </a:lnTo>
                    <a:lnTo>
                      <a:pt x="4622" y="153"/>
                    </a:lnTo>
                    <a:lnTo>
                      <a:pt x="4625" y="195"/>
                    </a:lnTo>
                    <a:lnTo>
                      <a:pt x="4628" y="238"/>
                    </a:lnTo>
                    <a:lnTo>
                      <a:pt x="4631" y="282"/>
                    </a:lnTo>
                    <a:lnTo>
                      <a:pt x="4632" y="325"/>
                    </a:lnTo>
                    <a:lnTo>
                      <a:pt x="4632" y="368"/>
                    </a:lnTo>
                    <a:lnTo>
                      <a:pt x="4628" y="494"/>
                    </a:lnTo>
                    <a:lnTo>
                      <a:pt x="4619" y="618"/>
                    </a:lnTo>
                    <a:lnTo>
                      <a:pt x="4603" y="739"/>
                    </a:lnTo>
                    <a:lnTo>
                      <a:pt x="4582" y="860"/>
                    </a:lnTo>
                    <a:lnTo>
                      <a:pt x="4555" y="978"/>
                    </a:lnTo>
                    <a:lnTo>
                      <a:pt x="4522" y="1093"/>
                    </a:lnTo>
                    <a:lnTo>
                      <a:pt x="4483" y="1207"/>
                    </a:lnTo>
                    <a:lnTo>
                      <a:pt x="4439" y="1318"/>
                    </a:lnTo>
                    <a:lnTo>
                      <a:pt x="4391" y="1426"/>
                    </a:lnTo>
                    <a:lnTo>
                      <a:pt x="4337" y="1531"/>
                    </a:lnTo>
                    <a:lnTo>
                      <a:pt x="4278" y="1633"/>
                    </a:lnTo>
                    <a:lnTo>
                      <a:pt x="4214" y="1733"/>
                    </a:lnTo>
                    <a:lnTo>
                      <a:pt x="4146" y="1828"/>
                    </a:lnTo>
                    <a:lnTo>
                      <a:pt x="4073" y="1920"/>
                    </a:lnTo>
                    <a:lnTo>
                      <a:pt x="3997" y="2009"/>
                    </a:lnTo>
                    <a:lnTo>
                      <a:pt x="3916" y="2093"/>
                    </a:lnTo>
                    <a:lnTo>
                      <a:pt x="3832" y="2174"/>
                    </a:lnTo>
                    <a:lnTo>
                      <a:pt x="3742" y="2250"/>
                    </a:lnTo>
                    <a:lnTo>
                      <a:pt x="3651" y="2323"/>
                    </a:lnTo>
                    <a:lnTo>
                      <a:pt x="3554" y="2391"/>
                    </a:lnTo>
                    <a:lnTo>
                      <a:pt x="3455" y="2455"/>
                    </a:lnTo>
                    <a:lnTo>
                      <a:pt x="3353" y="2514"/>
                    </a:lnTo>
                    <a:lnTo>
                      <a:pt x="3248" y="2567"/>
                    </a:lnTo>
                    <a:lnTo>
                      <a:pt x="3140" y="2616"/>
                    </a:lnTo>
                    <a:lnTo>
                      <a:pt x="3029" y="2660"/>
                    </a:lnTo>
                    <a:lnTo>
                      <a:pt x="2915" y="2699"/>
                    </a:lnTo>
                    <a:lnTo>
                      <a:pt x="2799" y="2731"/>
                    </a:lnTo>
                    <a:lnTo>
                      <a:pt x="2682" y="2758"/>
                    </a:lnTo>
                    <a:lnTo>
                      <a:pt x="2561" y="2779"/>
                    </a:lnTo>
                    <a:lnTo>
                      <a:pt x="2439" y="2795"/>
                    </a:lnTo>
                    <a:lnTo>
                      <a:pt x="2315" y="2805"/>
                    </a:lnTo>
                    <a:lnTo>
                      <a:pt x="2189" y="2808"/>
                    </a:lnTo>
                    <a:lnTo>
                      <a:pt x="2148" y="2808"/>
                    </a:lnTo>
                    <a:lnTo>
                      <a:pt x="2107" y="2807"/>
                    </a:lnTo>
                    <a:lnTo>
                      <a:pt x="2066" y="2805"/>
                    </a:lnTo>
                    <a:lnTo>
                      <a:pt x="2026" y="2803"/>
                    </a:lnTo>
                    <a:lnTo>
                      <a:pt x="1985" y="2799"/>
                    </a:lnTo>
                    <a:lnTo>
                      <a:pt x="1945" y="2796"/>
                    </a:lnTo>
                    <a:lnTo>
                      <a:pt x="1905" y="2792"/>
                    </a:lnTo>
                    <a:lnTo>
                      <a:pt x="1865" y="2787"/>
                    </a:lnTo>
                    <a:lnTo>
                      <a:pt x="1825" y="2782"/>
                    </a:lnTo>
                    <a:lnTo>
                      <a:pt x="1786" y="2775"/>
                    </a:lnTo>
                    <a:lnTo>
                      <a:pt x="1746" y="2768"/>
                    </a:lnTo>
                    <a:lnTo>
                      <a:pt x="1707" y="2761"/>
                    </a:lnTo>
                    <a:lnTo>
                      <a:pt x="1668" y="2752"/>
                    </a:lnTo>
                    <a:lnTo>
                      <a:pt x="1631" y="2744"/>
                    </a:lnTo>
                    <a:lnTo>
                      <a:pt x="1592" y="2734"/>
                    </a:lnTo>
                    <a:lnTo>
                      <a:pt x="1554" y="2725"/>
                    </a:lnTo>
                    <a:lnTo>
                      <a:pt x="1516" y="2714"/>
                    </a:lnTo>
                    <a:lnTo>
                      <a:pt x="1478" y="2703"/>
                    </a:lnTo>
                    <a:lnTo>
                      <a:pt x="1440" y="2691"/>
                    </a:lnTo>
                    <a:lnTo>
                      <a:pt x="1404" y="2679"/>
                    </a:lnTo>
                    <a:lnTo>
                      <a:pt x="1367" y="2666"/>
                    </a:lnTo>
                    <a:lnTo>
                      <a:pt x="1330" y="2652"/>
                    </a:lnTo>
                    <a:lnTo>
                      <a:pt x="1294" y="2639"/>
                    </a:lnTo>
                    <a:lnTo>
                      <a:pt x="1259" y="2624"/>
                    </a:lnTo>
                    <a:lnTo>
                      <a:pt x="1223" y="2609"/>
                    </a:lnTo>
                    <a:lnTo>
                      <a:pt x="1187" y="2594"/>
                    </a:lnTo>
                    <a:lnTo>
                      <a:pt x="1151" y="2578"/>
                    </a:lnTo>
                    <a:lnTo>
                      <a:pt x="1117" y="2561"/>
                    </a:lnTo>
                    <a:lnTo>
                      <a:pt x="1082" y="2543"/>
                    </a:lnTo>
                    <a:lnTo>
                      <a:pt x="1048" y="2525"/>
                    </a:lnTo>
                    <a:lnTo>
                      <a:pt x="1015" y="2508"/>
                    </a:lnTo>
                    <a:lnTo>
                      <a:pt x="981" y="2489"/>
                    </a:lnTo>
                    <a:lnTo>
                      <a:pt x="1034" y="2568"/>
                    </a:lnTo>
                    <a:lnTo>
                      <a:pt x="1088" y="2623"/>
                    </a:lnTo>
                    <a:lnTo>
                      <a:pt x="1150" y="2652"/>
                    </a:lnTo>
                    <a:lnTo>
                      <a:pt x="1214" y="2681"/>
                    </a:lnTo>
                    <a:lnTo>
                      <a:pt x="1247" y="2693"/>
                    </a:lnTo>
                    <a:lnTo>
                      <a:pt x="1278" y="2707"/>
                    </a:lnTo>
                    <a:lnTo>
                      <a:pt x="1312" y="2720"/>
                    </a:lnTo>
                    <a:lnTo>
                      <a:pt x="1345" y="2731"/>
                    </a:lnTo>
                    <a:lnTo>
                      <a:pt x="1411" y="2753"/>
                    </a:lnTo>
                    <a:lnTo>
                      <a:pt x="1478" y="2774"/>
                    </a:lnTo>
                    <a:lnTo>
                      <a:pt x="1547" y="2793"/>
                    </a:lnTo>
                    <a:lnTo>
                      <a:pt x="1615" y="2811"/>
                    </a:lnTo>
                    <a:lnTo>
                      <a:pt x="1650" y="2818"/>
                    </a:lnTo>
                    <a:lnTo>
                      <a:pt x="1684" y="2826"/>
                    </a:lnTo>
                    <a:lnTo>
                      <a:pt x="1720" y="2833"/>
                    </a:lnTo>
                    <a:lnTo>
                      <a:pt x="1755" y="2839"/>
                    </a:lnTo>
                    <a:lnTo>
                      <a:pt x="1790" y="2845"/>
                    </a:lnTo>
                    <a:lnTo>
                      <a:pt x="1825" y="2851"/>
                    </a:lnTo>
                    <a:lnTo>
                      <a:pt x="1861" y="2855"/>
                    </a:lnTo>
                    <a:lnTo>
                      <a:pt x="1898" y="2859"/>
                    </a:lnTo>
                    <a:lnTo>
                      <a:pt x="1933" y="2863"/>
                    </a:lnTo>
                    <a:lnTo>
                      <a:pt x="1969" y="2867"/>
                    </a:lnTo>
                    <a:lnTo>
                      <a:pt x="2006" y="2870"/>
                    </a:lnTo>
                    <a:lnTo>
                      <a:pt x="2042" y="2872"/>
                    </a:lnTo>
                    <a:lnTo>
                      <a:pt x="2078" y="2874"/>
                    </a:lnTo>
                    <a:lnTo>
                      <a:pt x="2115" y="2875"/>
                    </a:lnTo>
                    <a:lnTo>
                      <a:pt x="2152" y="2876"/>
                    </a:lnTo>
                    <a:lnTo>
                      <a:pt x="2189" y="2876"/>
                    </a:lnTo>
                    <a:lnTo>
                      <a:pt x="2318" y="2873"/>
                    </a:lnTo>
                    <a:lnTo>
                      <a:pt x="2446" y="2863"/>
                    </a:lnTo>
                    <a:lnTo>
                      <a:pt x="2571" y="2848"/>
                    </a:lnTo>
                    <a:lnTo>
                      <a:pt x="2695" y="2826"/>
                    </a:lnTo>
                    <a:lnTo>
                      <a:pt x="2816" y="2797"/>
                    </a:lnTo>
                    <a:lnTo>
                      <a:pt x="2936" y="2764"/>
                    </a:lnTo>
                    <a:lnTo>
                      <a:pt x="3053" y="2725"/>
                    </a:lnTo>
                    <a:lnTo>
                      <a:pt x="3166" y="2680"/>
                    </a:lnTo>
                    <a:lnTo>
                      <a:pt x="3278" y="2629"/>
                    </a:lnTo>
                    <a:lnTo>
                      <a:pt x="3386" y="2574"/>
                    </a:lnTo>
                    <a:lnTo>
                      <a:pt x="3491" y="2514"/>
                    </a:lnTo>
                    <a:lnTo>
                      <a:pt x="3593" y="2448"/>
                    </a:lnTo>
                    <a:lnTo>
                      <a:pt x="3692" y="2378"/>
                    </a:lnTo>
                    <a:lnTo>
                      <a:pt x="3786" y="2304"/>
                    </a:lnTo>
                    <a:lnTo>
                      <a:pt x="3878" y="2225"/>
                    </a:lnTo>
                    <a:lnTo>
                      <a:pt x="3965" y="2142"/>
                    </a:lnTo>
                    <a:lnTo>
                      <a:pt x="4048" y="2055"/>
                    </a:lnTo>
                    <a:lnTo>
                      <a:pt x="4127" y="1964"/>
                    </a:lnTo>
                    <a:lnTo>
                      <a:pt x="4202" y="1869"/>
                    </a:lnTo>
                    <a:lnTo>
                      <a:pt x="4271" y="1770"/>
                    </a:lnTo>
                    <a:lnTo>
                      <a:pt x="4337" y="1669"/>
                    </a:lnTo>
                    <a:lnTo>
                      <a:pt x="4397" y="1564"/>
                    </a:lnTo>
                    <a:lnTo>
                      <a:pt x="4453" y="1455"/>
                    </a:lnTo>
                    <a:lnTo>
                      <a:pt x="4503" y="1344"/>
                    </a:lnTo>
                    <a:lnTo>
                      <a:pt x="4548" y="1231"/>
                    </a:lnTo>
                    <a:lnTo>
                      <a:pt x="4587" y="1114"/>
                    </a:lnTo>
                    <a:lnTo>
                      <a:pt x="4621" y="994"/>
                    </a:lnTo>
                    <a:lnTo>
                      <a:pt x="4649" y="874"/>
                    </a:lnTo>
                    <a:lnTo>
                      <a:pt x="4672" y="750"/>
                    </a:lnTo>
                    <a:lnTo>
                      <a:pt x="4687" y="625"/>
                    </a:lnTo>
                    <a:lnTo>
                      <a:pt x="4697" y="497"/>
                    </a:lnTo>
                    <a:lnTo>
                      <a:pt x="4701" y="368"/>
                    </a:lnTo>
                    <a:close/>
                    <a:moveTo>
                      <a:pt x="0" y="1597"/>
                    </a:moveTo>
                    <a:lnTo>
                      <a:pt x="24" y="1639"/>
                    </a:lnTo>
                    <a:lnTo>
                      <a:pt x="49" y="1680"/>
                    </a:lnTo>
                    <a:lnTo>
                      <a:pt x="75" y="1721"/>
                    </a:lnTo>
                    <a:lnTo>
                      <a:pt x="101" y="1761"/>
                    </a:lnTo>
                    <a:lnTo>
                      <a:pt x="129" y="1801"/>
                    </a:lnTo>
                    <a:lnTo>
                      <a:pt x="156" y="1841"/>
                    </a:lnTo>
                    <a:lnTo>
                      <a:pt x="184" y="1879"/>
                    </a:lnTo>
                    <a:lnTo>
                      <a:pt x="214" y="1917"/>
                    </a:lnTo>
                    <a:lnTo>
                      <a:pt x="244" y="1954"/>
                    </a:lnTo>
                    <a:lnTo>
                      <a:pt x="275" y="1991"/>
                    </a:lnTo>
                    <a:lnTo>
                      <a:pt x="306" y="2028"/>
                    </a:lnTo>
                    <a:lnTo>
                      <a:pt x="339" y="2063"/>
                    </a:lnTo>
                    <a:lnTo>
                      <a:pt x="371" y="2098"/>
                    </a:lnTo>
                    <a:lnTo>
                      <a:pt x="405" y="2133"/>
                    </a:lnTo>
                    <a:lnTo>
                      <a:pt x="439" y="2166"/>
                    </a:lnTo>
                    <a:lnTo>
                      <a:pt x="473" y="2199"/>
                    </a:lnTo>
                    <a:lnTo>
                      <a:pt x="525" y="2199"/>
                    </a:lnTo>
                    <a:lnTo>
                      <a:pt x="610" y="2229"/>
                    </a:lnTo>
                    <a:lnTo>
                      <a:pt x="611" y="2229"/>
                    </a:lnTo>
                    <a:lnTo>
                      <a:pt x="570" y="2195"/>
                    </a:lnTo>
                    <a:lnTo>
                      <a:pt x="531" y="2159"/>
                    </a:lnTo>
                    <a:lnTo>
                      <a:pt x="492" y="2123"/>
                    </a:lnTo>
                    <a:lnTo>
                      <a:pt x="454" y="2085"/>
                    </a:lnTo>
                    <a:lnTo>
                      <a:pt x="418" y="2048"/>
                    </a:lnTo>
                    <a:lnTo>
                      <a:pt x="382" y="2009"/>
                    </a:lnTo>
                    <a:lnTo>
                      <a:pt x="346" y="1969"/>
                    </a:lnTo>
                    <a:lnTo>
                      <a:pt x="311" y="1928"/>
                    </a:lnTo>
                    <a:lnTo>
                      <a:pt x="278" y="1887"/>
                    </a:lnTo>
                    <a:lnTo>
                      <a:pt x="245" y="1845"/>
                    </a:lnTo>
                    <a:lnTo>
                      <a:pt x="214" y="1803"/>
                    </a:lnTo>
                    <a:lnTo>
                      <a:pt x="182" y="1759"/>
                    </a:lnTo>
                    <a:lnTo>
                      <a:pt x="153" y="1715"/>
                    </a:lnTo>
                    <a:lnTo>
                      <a:pt x="123" y="1671"/>
                    </a:lnTo>
                    <a:lnTo>
                      <a:pt x="96" y="1626"/>
                    </a:lnTo>
                    <a:lnTo>
                      <a:pt x="69" y="1579"/>
                    </a:lnTo>
                    <a:lnTo>
                      <a:pt x="0" y="159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987640" y="2881440"/>
                <a:ext cx="1470240" cy="896760"/>
              </a:xfrm>
              <a:custGeom>
                <a:avLst/>
                <a:gdLst/>
                <a:ahLst/>
                <a:rect l="l" t="t" r="r" b="b"/>
                <a:pathLst>
                  <a:path w="4632" h="2825">
                    <a:moveTo>
                      <a:pt x="4632" y="351"/>
                    </a:moveTo>
                    <a:lnTo>
                      <a:pt x="4631" y="307"/>
                    </a:lnTo>
                    <a:lnTo>
                      <a:pt x="4630" y="262"/>
                    </a:lnTo>
                    <a:lnTo>
                      <a:pt x="4628" y="217"/>
                    </a:lnTo>
                    <a:lnTo>
                      <a:pt x="4626" y="174"/>
                    </a:lnTo>
                    <a:lnTo>
                      <a:pt x="4622" y="130"/>
                    </a:lnTo>
                    <a:lnTo>
                      <a:pt x="4618" y="86"/>
                    </a:lnTo>
                    <a:lnTo>
                      <a:pt x="4613" y="43"/>
                    </a:lnTo>
                    <a:lnTo>
                      <a:pt x="4607" y="0"/>
                    </a:lnTo>
                    <a:lnTo>
                      <a:pt x="4589" y="9"/>
                    </a:lnTo>
                    <a:lnTo>
                      <a:pt x="4539" y="9"/>
                    </a:lnTo>
                    <a:lnTo>
                      <a:pt x="4545" y="51"/>
                    </a:lnTo>
                    <a:lnTo>
                      <a:pt x="4549" y="93"/>
                    </a:lnTo>
                    <a:lnTo>
                      <a:pt x="4553" y="136"/>
                    </a:lnTo>
                    <a:lnTo>
                      <a:pt x="4558" y="178"/>
                    </a:lnTo>
                    <a:lnTo>
                      <a:pt x="4560" y="221"/>
                    </a:lnTo>
                    <a:lnTo>
                      <a:pt x="4562" y="265"/>
                    </a:lnTo>
                    <a:lnTo>
                      <a:pt x="4563" y="308"/>
                    </a:lnTo>
                    <a:lnTo>
                      <a:pt x="4563" y="351"/>
                    </a:lnTo>
                    <a:lnTo>
                      <a:pt x="4560" y="475"/>
                    </a:lnTo>
                    <a:lnTo>
                      <a:pt x="4551" y="597"/>
                    </a:lnTo>
                    <a:lnTo>
                      <a:pt x="4536" y="717"/>
                    </a:lnTo>
                    <a:lnTo>
                      <a:pt x="4515" y="836"/>
                    </a:lnTo>
                    <a:lnTo>
                      <a:pt x="4487" y="952"/>
                    </a:lnTo>
                    <a:lnTo>
                      <a:pt x="4455" y="1067"/>
                    </a:lnTo>
                    <a:lnTo>
                      <a:pt x="4417" y="1178"/>
                    </a:lnTo>
                    <a:lnTo>
                      <a:pt x="4374" y="1287"/>
                    </a:lnTo>
                    <a:lnTo>
                      <a:pt x="4325" y="1394"/>
                    </a:lnTo>
                    <a:lnTo>
                      <a:pt x="4273" y="1497"/>
                    </a:lnTo>
                    <a:lnTo>
                      <a:pt x="4215" y="1598"/>
                    </a:lnTo>
                    <a:lnTo>
                      <a:pt x="4152" y="1696"/>
                    </a:lnTo>
                    <a:lnTo>
                      <a:pt x="4085" y="1790"/>
                    </a:lnTo>
                    <a:lnTo>
                      <a:pt x="4013" y="1882"/>
                    </a:lnTo>
                    <a:lnTo>
                      <a:pt x="3937" y="1969"/>
                    </a:lnTo>
                    <a:lnTo>
                      <a:pt x="3858" y="2052"/>
                    </a:lnTo>
                    <a:lnTo>
                      <a:pt x="3775" y="2131"/>
                    </a:lnTo>
                    <a:lnTo>
                      <a:pt x="3687" y="2207"/>
                    </a:lnTo>
                    <a:lnTo>
                      <a:pt x="3596" y="2278"/>
                    </a:lnTo>
                    <a:lnTo>
                      <a:pt x="3501" y="2346"/>
                    </a:lnTo>
                    <a:lnTo>
                      <a:pt x="3404" y="2409"/>
                    </a:lnTo>
                    <a:lnTo>
                      <a:pt x="3303" y="2466"/>
                    </a:lnTo>
                    <a:lnTo>
                      <a:pt x="3200" y="2519"/>
                    </a:lnTo>
                    <a:lnTo>
                      <a:pt x="3092" y="2567"/>
                    </a:lnTo>
                    <a:lnTo>
                      <a:pt x="2983" y="2610"/>
                    </a:lnTo>
                    <a:lnTo>
                      <a:pt x="2872" y="2648"/>
                    </a:lnTo>
                    <a:lnTo>
                      <a:pt x="2757" y="2681"/>
                    </a:lnTo>
                    <a:lnTo>
                      <a:pt x="2640" y="2708"/>
                    </a:lnTo>
                    <a:lnTo>
                      <a:pt x="2522" y="2729"/>
                    </a:lnTo>
                    <a:lnTo>
                      <a:pt x="2402" y="2744"/>
                    </a:lnTo>
                    <a:lnTo>
                      <a:pt x="2279" y="2753"/>
                    </a:lnTo>
                    <a:lnTo>
                      <a:pt x="2155" y="2756"/>
                    </a:lnTo>
                    <a:lnTo>
                      <a:pt x="2111" y="2756"/>
                    </a:lnTo>
                    <a:lnTo>
                      <a:pt x="2065" y="2755"/>
                    </a:lnTo>
                    <a:lnTo>
                      <a:pt x="2021" y="2753"/>
                    </a:lnTo>
                    <a:lnTo>
                      <a:pt x="1976" y="2750"/>
                    </a:lnTo>
                    <a:lnTo>
                      <a:pt x="1932" y="2747"/>
                    </a:lnTo>
                    <a:lnTo>
                      <a:pt x="1889" y="2741"/>
                    </a:lnTo>
                    <a:lnTo>
                      <a:pt x="1845" y="2737"/>
                    </a:lnTo>
                    <a:lnTo>
                      <a:pt x="1802" y="2731"/>
                    </a:lnTo>
                    <a:lnTo>
                      <a:pt x="1758" y="2724"/>
                    </a:lnTo>
                    <a:lnTo>
                      <a:pt x="1715" y="2716"/>
                    </a:lnTo>
                    <a:lnTo>
                      <a:pt x="1672" y="2708"/>
                    </a:lnTo>
                    <a:lnTo>
                      <a:pt x="1630" y="2699"/>
                    </a:lnTo>
                    <a:lnTo>
                      <a:pt x="1588" y="2689"/>
                    </a:lnTo>
                    <a:lnTo>
                      <a:pt x="1546" y="2678"/>
                    </a:lnTo>
                    <a:lnTo>
                      <a:pt x="1505" y="2668"/>
                    </a:lnTo>
                    <a:lnTo>
                      <a:pt x="1463" y="2655"/>
                    </a:lnTo>
                    <a:lnTo>
                      <a:pt x="1422" y="2643"/>
                    </a:lnTo>
                    <a:lnTo>
                      <a:pt x="1382" y="2630"/>
                    </a:lnTo>
                    <a:lnTo>
                      <a:pt x="1341" y="2615"/>
                    </a:lnTo>
                    <a:lnTo>
                      <a:pt x="1301" y="2601"/>
                    </a:lnTo>
                    <a:lnTo>
                      <a:pt x="1262" y="2586"/>
                    </a:lnTo>
                    <a:lnTo>
                      <a:pt x="1222" y="2569"/>
                    </a:lnTo>
                    <a:lnTo>
                      <a:pt x="1184" y="2552"/>
                    </a:lnTo>
                    <a:lnTo>
                      <a:pt x="1146" y="2536"/>
                    </a:lnTo>
                    <a:lnTo>
                      <a:pt x="1107" y="2517"/>
                    </a:lnTo>
                    <a:lnTo>
                      <a:pt x="1069" y="2499"/>
                    </a:lnTo>
                    <a:lnTo>
                      <a:pt x="1032" y="2479"/>
                    </a:lnTo>
                    <a:lnTo>
                      <a:pt x="994" y="2459"/>
                    </a:lnTo>
                    <a:lnTo>
                      <a:pt x="958" y="2438"/>
                    </a:lnTo>
                    <a:lnTo>
                      <a:pt x="922" y="2417"/>
                    </a:lnTo>
                    <a:lnTo>
                      <a:pt x="886" y="2395"/>
                    </a:lnTo>
                    <a:lnTo>
                      <a:pt x="850" y="2373"/>
                    </a:lnTo>
                    <a:lnTo>
                      <a:pt x="888" y="2410"/>
                    </a:lnTo>
                    <a:lnTo>
                      <a:pt x="942" y="2464"/>
                    </a:lnTo>
                    <a:lnTo>
                      <a:pt x="987" y="2534"/>
                    </a:lnTo>
                    <a:lnTo>
                      <a:pt x="1020" y="2550"/>
                    </a:lnTo>
                    <a:lnTo>
                      <a:pt x="1053" y="2567"/>
                    </a:lnTo>
                    <a:lnTo>
                      <a:pt x="1087" y="2584"/>
                    </a:lnTo>
                    <a:lnTo>
                      <a:pt x="1120" y="2600"/>
                    </a:lnTo>
                    <a:lnTo>
                      <a:pt x="1154" y="2614"/>
                    </a:lnTo>
                    <a:lnTo>
                      <a:pt x="1188" y="2629"/>
                    </a:lnTo>
                    <a:lnTo>
                      <a:pt x="1222" y="2644"/>
                    </a:lnTo>
                    <a:lnTo>
                      <a:pt x="1257" y="2657"/>
                    </a:lnTo>
                    <a:lnTo>
                      <a:pt x="1292" y="2671"/>
                    </a:lnTo>
                    <a:lnTo>
                      <a:pt x="1328" y="2684"/>
                    </a:lnTo>
                    <a:lnTo>
                      <a:pt x="1362" y="2696"/>
                    </a:lnTo>
                    <a:lnTo>
                      <a:pt x="1398" y="2708"/>
                    </a:lnTo>
                    <a:lnTo>
                      <a:pt x="1434" y="2718"/>
                    </a:lnTo>
                    <a:lnTo>
                      <a:pt x="1470" y="2730"/>
                    </a:lnTo>
                    <a:lnTo>
                      <a:pt x="1506" y="2739"/>
                    </a:lnTo>
                    <a:lnTo>
                      <a:pt x="1543" y="2749"/>
                    </a:lnTo>
                    <a:lnTo>
                      <a:pt x="1580" y="2758"/>
                    </a:lnTo>
                    <a:lnTo>
                      <a:pt x="1618" y="2767"/>
                    </a:lnTo>
                    <a:lnTo>
                      <a:pt x="1654" y="2775"/>
                    </a:lnTo>
                    <a:lnTo>
                      <a:pt x="1692" y="2782"/>
                    </a:lnTo>
                    <a:lnTo>
                      <a:pt x="1729" y="2789"/>
                    </a:lnTo>
                    <a:lnTo>
                      <a:pt x="1767" y="2795"/>
                    </a:lnTo>
                    <a:lnTo>
                      <a:pt x="1805" y="2800"/>
                    </a:lnTo>
                    <a:lnTo>
                      <a:pt x="1844" y="2806"/>
                    </a:lnTo>
                    <a:lnTo>
                      <a:pt x="1881" y="2811"/>
                    </a:lnTo>
                    <a:lnTo>
                      <a:pt x="1920" y="2814"/>
                    </a:lnTo>
                    <a:lnTo>
                      <a:pt x="1959" y="2818"/>
                    </a:lnTo>
                    <a:lnTo>
                      <a:pt x="1998" y="2820"/>
                    </a:lnTo>
                    <a:lnTo>
                      <a:pt x="2037" y="2822"/>
                    </a:lnTo>
                    <a:lnTo>
                      <a:pt x="2076" y="2824"/>
                    </a:lnTo>
                    <a:lnTo>
                      <a:pt x="2116" y="2824"/>
                    </a:lnTo>
                    <a:lnTo>
                      <a:pt x="2155" y="2825"/>
                    </a:lnTo>
                    <a:lnTo>
                      <a:pt x="2283" y="2822"/>
                    </a:lnTo>
                    <a:lnTo>
                      <a:pt x="2408" y="2813"/>
                    </a:lnTo>
                    <a:lnTo>
                      <a:pt x="2532" y="2797"/>
                    </a:lnTo>
                    <a:lnTo>
                      <a:pt x="2654" y="2775"/>
                    </a:lnTo>
                    <a:lnTo>
                      <a:pt x="2774" y="2748"/>
                    </a:lnTo>
                    <a:lnTo>
                      <a:pt x="2892" y="2714"/>
                    </a:lnTo>
                    <a:lnTo>
                      <a:pt x="3007" y="2675"/>
                    </a:lnTo>
                    <a:lnTo>
                      <a:pt x="3120" y="2631"/>
                    </a:lnTo>
                    <a:lnTo>
                      <a:pt x="3229" y="2581"/>
                    </a:lnTo>
                    <a:lnTo>
                      <a:pt x="3336" y="2526"/>
                    </a:lnTo>
                    <a:lnTo>
                      <a:pt x="3439" y="2467"/>
                    </a:lnTo>
                    <a:lnTo>
                      <a:pt x="3540" y="2402"/>
                    </a:lnTo>
                    <a:lnTo>
                      <a:pt x="3637" y="2334"/>
                    </a:lnTo>
                    <a:lnTo>
                      <a:pt x="3730" y="2261"/>
                    </a:lnTo>
                    <a:lnTo>
                      <a:pt x="3821" y="2183"/>
                    </a:lnTo>
                    <a:lnTo>
                      <a:pt x="3907" y="2101"/>
                    </a:lnTo>
                    <a:lnTo>
                      <a:pt x="3989" y="2015"/>
                    </a:lnTo>
                    <a:lnTo>
                      <a:pt x="4067" y="1925"/>
                    </a:lnTo>
                    <a:lnTo>
                      <a:pt x="4140" y="1831"/>
                    </a:lnTo>
                    <a:lnTo>
                      <a:pt x="4209" y="1735"/>
                    </a:lnTo>
                    <a:lnTo>
                      <a:pt x="4274" y="1634"/>
                    </a:lnTo>
                    <a:lnTo>
                      <a:pt x="4333" y="1531"/>
                    </a:lnTo>
                    <a:lnTo>
                      <a:pt x="4387" y="1424"/>
                    </a:lnTo>
                    <a:lnTo>
                      <a:pt x="4438" y="1313"/>
                    </a:lnTo>
                    <a:lnTo>
                      <a:pt x="4482" y="1202"/>
                    </a:lnTo>
                    <a:lnTo>
                      <a:pt x="4521" y="1087"/>
                    </a:lnTo>
                    <a:lnTo>
                      <a:pt x="4555" y="969"/>
                    </a:lnTo>
                    <a:lnTo>
                      <a:pt x="4582" y="849"/>
                    </a:lnTo>
                    <a:lnTo>
                      <a:pt x="4604" y="728"/>
                    </a:lnTo>
                    <a:lnTo>
                      <a:pt x="4620" y="604"/>
                    </a:lnTo>
                    <a:lnTo>
                      <a:pt x="4629" y="479"/>
                    </a:lnTo>
                    <a:lnTo>
                      <a:pt x="4632" y="351"/>
                    </a:lnTo>
                    <a:close/>
                    <a:moveTo>
                      <a:pt x="0" y="1571"/>
                    </a:moveTo>
                    <a:lnTo>
                      <a:pt x="25" y="1614"/>
                    </a:lnTo>
                    <a:lnTo>
                      <a:pt x="50" y="1656"/>
                    </a:lnTo>
                    <a:lnTo>
                      <a:pt x="77" y="1698"/>
                    </a:lnTo>
                    <a:lnTo>
                      <a:pt x="104" y="1739"/>
                    </a:lnTo>
                    <a:lnTo>
                      <a:pt x="132" y="1779"/>
                    </a:lnTo>
                    <a:lnTo>
                      <a:pt x="161" y="1819"/>
                    </a:lnTo>
                    <a:lnTo>
                      <a:pt x="191" y="1858"/>
                    </a:lnTo>
                    <a:lnTo>
                      <a:pt x="221" y="1896"/>
                    </a:lnTo>
                    <a:lnTo>
                      <a:pt x="252" y="1935"/>
                    </a:lnTo>
                    <a:lnTo>
                      <a:pt x="284" y="1972"/>
                    </a:lnTo>
                    <a:lnTo>
                      <a:pt x="316" y="2009"/>
                    </a:lnTo>
                    <a:lnTo>
                      <a:pt x="350" y="2045"/>
                    </a:lnTo>
                    <a:lnTo>
                      <a:pt x="384" y="2080"/>
                    </a:lnTo>
                    <a:lnTo>
                      <a:pt x="418" y="2115"/>
                    </a:lnTo>
                    <a:lnTo>
                      <a:pt x="454" y="2149"/>
                    </a:lnTo>
                    <a:lnTo>
                      <a:pt x="490" y="2182"/>
                    </a:lnTo>
                    <a:lnTo>
                      <a:pt x="491" y="2182"/>
                    </a:lnTo>
                    <a:lnTo>
                      <a:pt x="576" y="2212"/>
                    </a:lnTo>
                    <a:lnTo>
                      <a:pt x="660" y="2240"/>
                    </a:lnTo>
                    <a:lnTo>
                      <a:pt x="672" y="2245"/>
                    </a:lnTo>
                    <a:lnTo>
                      <a:pt x="626" y="2209"/>
                    </a:lnTo>
                    <a:lnTo>
                      <a:pt x="583" y="2172"/>
                    </a:lnTo>
                    <a:lnTo>
                      <a:pt x="540" y="2136"/>
                    </a:lnTo>
                    <a:lnTo>
                      <a:pt x="498" y="2097"/>
                    </a:lnTo>
                    <a:lnTo>
                      <a:pt x="457" y="2057"/>
                    </a:lnTo>
                    <a:lnTo>
                      <a:pt x="417" y="2016"/>
                    </a:lnTo>
                    <a:lnTo>
                      <a:pt x="378" y="1975"/>
                    </a:lnTo>
                    <a:lnTo>
                      <a:pt x="341" y="1932"/>
                    </a:lnTo>
                    <a:lnTo>
                      <a:pt x="304" y="1889"/>
                    </a:lnTo>
                    <a:lnTo>
                      <a:pt x="267" y="1845"/>
                    </a:lnTo>
                    <a:lnTo>
                      <a:pt x="232" y="1800"/>
                    </a:lnTo>
                    <a:lnTo>
                      <a:pt x="199" y="1753"/>
                    </a:lnTo>
                    <a:lnTo>
                      <a:pt x="166" y="1706"/>
                    </a:lnTo>
                    <a:lnTo>
                      <a:pt x="134" y="1659"/>
                    </a:lnTo>
                    <a:lnTo>
                      <a:pt x="103" y="1611"/>
                    </a:lnTo>
                    <a:lnTo>
                      <a:pt x="74" y="1561"/>
                    </a:lnTo>
                    <a:lnTo>
                      <a:pt x="38" y="1561"/>
                    </a:lnTo>
                    <a:lnTo>
                      <a:pt x="0" y="1571"/>
                    </a:lnTo>
                    <a:close/>
                    <a:moveTo>
                      <a:pt x="765" y="2315"/>
                    </a:moveTo>
                    <a:lnTo>
                      <a:pt x="774" y="2324"/>
                    </a:lnTo>
                    <a:lnTo>
                      <a:pt x="786" y="2330"/>
                    </a:lnTo>
                    <a:lnTo>
                      <a:pt x="784" y="2328"/>
                    </a:lnTo>
                    <a:lnTo>
                      <a:pt x="781" y="2327"/>
                    </a:lnTo>
                    <a:lnTo>
                      <a:pt x="779" y="2325"/>
                    </a:lnTo>
                    <a:lnTo>
                      <a:pt x="776" y="2323"/>
                    </a:lnTo>
                    <a:lnTo>
                      <a:pt x="774" y="2321"/>
                    </a:lnTo>
                    <a:lnTo>
                      <a:pt x="770" y="2319"/>
                    </a:lnTo>
                    <a:lnTo>
                      <a:pt x="768" y="2317"/>
                    </a:lnTo>
                    <a:lnTo>
                      <a:pt x="765" y="231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98800" y="2884320"/>
                <a:ext cx="1447920" cy="882720"/>
              </a:xfrm>
              <a:custGeom>
                <a:avLst/>
                <a:gdLst/>
                <a:ahLst/>
                <a:rect l="l" t="t" r="r" b="b"/>
                <a:pathLst>
                  <a:path w="4563" h="2782">
                    <a:moveTo>
                      <a:pt x="4563" y="342"/>
                    </a:moveTo>
                    <a:lnTo>
                      <a:pt x="4563" y="299"/>
                    </a:lnTo>
                    <a:lnTo>
                      <a:pt x="4562" y="256"/>
                    </a:lnTo>
                    <a:lnTo>
                      <a:pt x="4559" y="212"/>
                    </a:lnTo>
                    <a:lnTo>
                      <a:pt x="4556" y="169"/>
                    </a:lnTo>
                    <a:lnTo>
                      <a:pt x="4553" y="127"/>
                    </a:lnTo>
                    <a:lnTo>
                      <a:pt x="4549" y="84"/>
                    </a:lnTo>
                    <a:lnTo>
                      <a:pt x="4545" y="42"/>
                    </a:lnTo>
                    <a:lnTo>
                      <a:pt x="4538" y="0"/>
                    </a:lnTo>
                    <a:lnTo>
                      <a:pt x="4497" y="0"/>
                    </a:lnTo>
                    <a:lnTo>
                      <a:pt x="4471" y="13"/>
                    </a:lnTo>
                    <a:lnTo>
                      <a:pt x="4476" y="54"/>
                    </a:lnTo>
                    <a:lnTo>
                      <a:pt x="4481" y="95"/>
                    </a:lnTo>
                    <a:lnTo>
                      <a:pt x="4485" y="135"/>
                    </a:lnTo>
                    <a:lnTo>
                      <a:pt x="4488" y="176"/>
                    </a:lnTo>
                    <a:lnTo>
                      <a:pt x="4490" y="218"/>
                    </a:lnTo>
                    <a:lnTo>
                      <a:pt x="4492" y="259"/>
                    </a:lnTo>
                    <a:lnTo>
                      <a:pt x="4493" y="301"/>
                    </a:lnTo>
                    <a:lnTo>
                      <a:pt x="4494" y="342"/>
                    </a:lnTo>
                    <a:lnTo>
                      <a:pt x="4491" y="464"/>
                    </a:lnTo>
                    <a:lnTo>
                      <a:pt x="4482" y="584"/>
                    </a:lnTo>
                    <a:lnTo>
                      <a:pt x="4467" y="703"/>
                    </a:lnTo>
                    <a:lnTo>
                      <a:pt x="4446" y="819"/>
                    </a:lnTo>
                    <a:lnTo>
                      <a:pt x="4419" y="935"/>
                    </a:lnTo>
                    <a:lnTo>
                      <a:pt x="4387" y="1047"/>
                    </a:lnTo>
                    <a:lnTo>
                      <a:pt x="4350" y="1157"/>
                    </a:lnTo>
                    <a:lnTo>
                      <a:pt x="4307" y="1265"/>
                    </a:lnTo>
                    <a:lnTo>
                      <a:pt x="4260" y="1370"/>
                    </a:lnTo>
                    <a:lnTo>
                      <a:pt x="4207" y="1472"/>
                    </a:lnTo>
                    <a:lnTo>
                      <a:pt x="4151" y="1571"/>
                    </a:lnTo>
                    <a:lnTo>
                      <a:pt x="4089" y="1668"/>
                    </a:lnTo>
                    <a:lnTo>
                      <a:pt x="4022" y="1760"/>
                    </a:lnTo>
                    <a:lnTo>
                      <a:pt x="3952" y="1850"/>
                    </a:lnTo>
                    <a:lnTo>
                      <a:pt x="3877" y="1937"/>
                    </a:lnTo>
                    <a:lnTo>
                      <a:pt x="3798" y="2018"/>
                    </a:lnTo>
                    <a:lnTo>
                      <a:pt x="3716" y="2097"/>
                    </a:lnTo>
                    <a:lnTo>
                      <a:pt x="3630" y="2172"/>
                    </a:lnTo>
                    <a:lnTo>
                      <a:pt x="3540" y="2242"/>
                    </a:lnTo>
                    <a:lnTo>
                      <a:pt x="3447" y="2308"/>
                    </a:lnTo>
                    <a:lnTo>
                      <a:pt x="3351" y="2370"/>
                    </a:lnTo>
                    <a:lnTo>
                      <a:pt x="3252" y="2427"/>
                    </a:lnTo>
                    <a:lnTo>
                      <a:pt x="3149" y="2479"/>
                    </a:lnTo>
                    <a:lnTo>
                      <a:pt x="3044" y="2527"/>
                    </a:lnTo>
                    <a:lnTo>
                      <a:pt x="2937" y="2570"/>
                    </a:lnTo>
                    <a:lnTo>
                      <a:pt x="2826" y="2606"/>
                    </a:lnTo>
                    <a:lnTo>
                      <a:pt x="2714" y="2638"/>
                    </a:lnTo>
                    <a:lnTo>
                      <a:pt x="2598" y="2665"/>
                    </a:lnTo>
                    <a:lnTo>
                      <a:pt x="2481" y="2686"/>
                    </a:lnTo>
                    <a:lnTo>
                      <a:pt x="2363" y="2701"/>
                    </a:lnTo>
                    <a:lnTo>
                      <a:pt x="2243" y="2710"/>
                    </a:lnTo>
                    <a:lnTo>
                      <a:pt x="2120" y="2714"/>
                    </a:lnTo>
                    <a:lnTo>
                      <a:pt x="2039" y="2711"/>
                    </a:lnTo>
                    <a:lnTo>
                      <a:pt x="1959" y="2707"/>
                    </a:lnTo>
                    <a:lnTo>
                      <a:pt x="1879" y="2701"/>
                    </a:lnTo>
                    <a:lnTo>
                      <a:pt x="1800" y="2692"/>
                    </a:lnTo>
                    <a:lnTo>
                      <a:pt x="1722" y="2680"/>
                    </a:lnTo>
                    <a:lnTo>
                      <a:pt x="1645" y="2665"/>
                    </a:lnTo>
                    <a:lnTo>
                      <a:pt x="1569" y="2648"/>
                    </a:lnTo>
                    <a:lnTo>
                      <a:pt x="1493" y="2630"/>
                    </a:lnTo>
                    <a:lnTo>
                      <a:pt x="1419" y="2608"/>
                    </a:lnTo>
                    <a:lnTo>
                      <a:pt x="1345" y="2584"/>
                    </a:lnTo>
                    <a:lnTo>
                      <a:pt x="1273" y="2558"/>
                    </a:lnTo>
                    <a:lnTo>
                      <a:pt x="1202" y="2529"/>
                    </a:lnTo>
                    <a:lnTo>
                      <a:pt x="1132" y="2498"/>
                    </a:lnTo>
                    <a:lnTo>
                      <a:pt x="1063" y="2466"/>
                    </a:lnTo>
                    <a:lnTo>
                      <a:pt x="995" y="2430"/>
                    </a:lnTo>
                    <a:lnTo>
                      <a:pt x="929" y="2393"/>
                    </a:lnTo>
                    <a:lnTo>
                      <a:pt x="864" y="2354"/>
                    </a:lnTo>
                    <a:lnTo>
                      <a:pt x="801" y="2314"/>
                    </a:lnTo>
                    <a:lnTo>
                      <a:pt x="739" y="2270"/>
                    </a:lnTo>
                    <a:lnTo>
                      <a:pt x="678" y="2225"/>
                    </a:lnTo>
                    <a:lnTo>
                      <a:pt x="619" y="2178"/>
                    </a:lnTo>
                    <a:lnTo>
                      <a:pt x="561" y="2130"/>
                    </a:lnTo>
                    <a:lnTo>
                      <a:pt x="505" y="2079"/>
                    </a:lnTo>
                    <a:lnTo>
                      <a:pt x="451" y="2027"/>
                    </a:lnTo>
                    <a:lnTo>
                      <a:pt x="398" y="1973"/>
                    </a:lnTo>
                    <a:lnTo>
                      <a:pt x="347" y="1918"/>
                    </a:lnTo>
                    <a:lnTo>
                      <a:pt x="297" y="1860"/>
                    </a:lnTo>
                    <a:lnTo>
                      <a:pt x="250" y="1801"/>
                    </a:lnTo>
                    <a:lnTo>
                      <a:pt x="205" y="1741"/>
                    </a:lnTo>
                    <a:lnTo>
                      <a:pt x="160" y="1679"/>
                    </a:lnTo>
                    <a:lnTo>
                      <a:pt x="118" y="1616"/>
                    </a:lnTo>
                    <a:lnTo>
                      <a:pt x="78" y="1552"/>
                    </a:lnTo>
                    <a:lnTo>
                      <a:pt x="3" y="1552"/>
                    </a:lnTo>
                    <a:lnTo>
                      <a:pt x="0" y="1553"/>
                    </a:lnTo>
                    <a:lnTo>
                      <a:pt x="27" y="1600"/>
                    </a:lnTo>
                    <a:lnTo>
                      <a:pt x="54" y="1645"/>
                    </a:lnTo>
                    <a:lnTo>
                      <a:pt x="84" y="1690"/>
                    </a:lnTo>
                    <a:lnTo>
                      <a:pt x="113" y="1733"/>
                    </a:lnTo>
                    <a:lnTo>
                      <a:pt x="145" y="1777"/>
                    </a:lnTo>
                    <a:lnTo>
                      <a:pt x="176" y="1819"/>
                    </a:lnTo>
                    <a:lnTo>
                      <a:pt x="209" y="1861"/>
                    </a:lnTo>
                    <a:lnTo>
                      <a:pt x="242" y="1902"/>
                    </a:lnTo>
                    <a:lnTo>
                      <a:pt x="277" y="1943"/>
                    </a:lnTo>
                    <a:lnTo>
                      <a:pt x="313" y="1983"/>
                    </a:lnTo>
                    <a:lnTo>
                      <a:pt x="349" y="2022"/>
                    </a:lnTo>
                    <a:lnTo>
                      <a:pt x="385" y="2059"/>
                    </a:lnTo>
                    <a:lnTo>
                      <a:pt x="423" y="2097"/>
                    </a:lnTo>
                    <a:lnTo>
                      <a:pt x="462" y="2133"/>
                    </a:lnTo>
                    <a:lnTo>
                      <a:pt x="501" y="2169"/>
                    </a:lnTo>
                    <a:lnTo>
                      <a:pt x="542" y="2203"/>
                    </a:lnTo>
                    <a:lnTo>
                      <a:pt x="625" y="2231"/>
                    </a:lnTo>
                    <a:lnTo>
                      <a:pt x="682" y="2260"/>
                    </a:lnTo>
                    <a:lnTo>
                      <a:pt x="739" y="2315"/>
                    </a:lnTo>
                    <a:lnTo>
                      <a:pt x="795" y="2344"/>
                    </a:lnTo>
                    <a:lnTo>
                      <a:pt x="853" y="2401"/>
                    </a:lnTo>
                    <a:lnTo>
                      <a:pt x="907" y="2455"/>
                    </a:lnTo>
                    <a:lnTo>
                      <a:pt x="912" y="2463"/>
                    </a:lnTo>
                    <a:lnTo>
                      <a:pt x="946" y="2482"/>
                    </a:lnTo>
                    <a:lnTo>
                      <a:pt x="979" y="2499"/>
                    </a:lnTo>
                    <a:lnTo>
                      <a:pt x="1013" y="2517"/>
                    </a:lnTo>
                    <a:lnTo>
                      <a:pt x="1048" y="2535"/>
                    </a:lnTo>
                    <a:lnTo>
                      <a:pt x="1082" y="2552"/>
                    </a:lnTo>
                    <a:lnTo>
                      <a:pt x="1118" y="2568"/>
                    </a:lnTo>
                    <a:lnTo>
                      <a:pt x="1154" y="2583"/>
                    </a:lnTo>
                    <a:lnTo>
                      <a:pt x="1190" y="2598"/>
                    </a:lnTo>
                    <a:lnTo>
                      <a:pt x="1225" y="2613"/>
                    </a:lnTo>
                    <a:lnTo>
                      <a:pt x="1261" y="2626"/>
                    </a:lnTo>
                    <a:lnTo>
                      <a:pt x="1298" y="2640"/>
                    </a:lnTo>
                    <a:lnTo>
                      <a:pt x="1335" y="2653"/>
                    </a:lnTo>
                    <a:lnTo>
                      <a:pt x="1371" y="2665"/>
                    </a:lnTo>
                    <a:lnTo>
                      <a:pt x="1409" y="2677"/>
                    </a:lnTo>
                    <a:lnTo>
                      <a:pt x="1447" y="2688"/>
                    </a:lnTo>
                    <a:lnTo>
                      <a:pt x="1485" y="2699"/>
                    </a:lnTo>
                    <a:lnTo>
                      <a:pt x="1523" y="2708"/>
                    </a:lnTo>
                    <a:lnTo>
                      <a:pt x="1562" y="2718"/>
                    </a:lnTo>
                    <a:lnTo>
                      <a:pt x="1599" y="2726"/>
                    </a:lnTo>
                    <a:lnTo>
                      <a:pt x="1638" y="2735"/>
                    </a:lnTo>
                    <a:lnTo>
                      <a:pt x="1677" y="2742"/>
                    </a:lnTo>
                    <a:lnTo>
                      <a:pt x="1717" y="2749"/>
                    </a:lnTo>
                    <a:lnTo>
                      <a:pt x="1756" y="2755"/>
                    </a:lnTo>
                    <a:lnTo>
                      <a:pt x="1796" y="2761"/>
                    </a:lnTo>
                    <a:lnTo>
                      <a:pt x="1836" y="2765"/>
                    </a:lnTo>
                    <a:lnTo>
                      <a:pt x="1876" y="2770"/>
                    </a:lnTo>
                    <a:lnTo>
                      <a:pt x="1916" y="2773"/>
                    </a:lnTo>
                    <a:lnTo>
                      <a:pt x="1957" y="2777"/>
                    </a:lnTo>
                    <a:lnTo>
                      <a:pt x="1997" y="2779"/>
                    </a:lnTo>
                    <a:lnTo>
                      <a:pt x="2038" y="2781"/>
                    </a:lnTo>
                    <a:lnTo>
                      <a:pt x="2079" y="2782"/>
                    </a:lnTo>
                    <a:lnTo>
                      <a:pt x="2120" y="2782"/>
                    </a:lnTo>
                    <a:lnTo>
                      <a:pt x="2246" y="2779"/>
                    </a:lnTo>
                    <a:lnTo>
                      <a:pt x="2370" y="2769"/>
                    </a:lnTo>
                    <a:lnTo>
                      <a:pt x="2492" y="2753"/>
                    </a:lnTo>
                    <a:lnTo>
                      <a:pt x="2613" y="2732"/>
                    </a:lnTo>
                    <a:lnTo>
                      <a:pt x="2730" y="2705"/>
                    </a:lnTo>
                    <a:lnTo>
                      <a:pt x="2846" y="2673"/>
                    </a:lnTo>
                    <a:lnTo>
                      <a:pt x="2960" y="2634"/>
                    </a:lnTo>
                    <a:lnTo>
                      <a:pt x="3071" y="2590"/>
                    </a:lnTo>
                    <a:lnTo>
                      <a:pt x="3179" y="2541"/>
                    </a:lnTo>
                    <a:lnTo>
                      <a:pt x="3284" y="2488"/>
                    </a:lnTo>
                    <a:lnTo>
                      <a:pt x="3386" y="2429"/>
                    </a:lnTo>
                    <a:lnTo>
                      <a:pt x="3485" y="2365"/>
                    </a:lnTo>
                    <a:lnTo>
                      <a:pt x="3582" y="2297"/>
                    </a:lnTo>
                    <a:lnTo>
                      <a:pt x="3673" y="2224"/>
                    </a:lnTo>
                    <a:lnTo>
                      <a:pt x="3763" y="2148"/>
                    </a:lnTo>
                    <a:lnTo>
                      <a:pt x="3847" y="2067"/>
                    </a:lnTo>
                    <a:lnTo>
                      <a:pt x="3928" y="1983"/>
                    </a:lnTo>
                    <a:lnTo>
                      <a:pt x="4004" y="1894"/>
                    </a:lnTo>
                    <a:lnTo>
                      <a:pt x="4077" y="1802"/>
                    </a:lnTo>
                    <a:lnTo>
                      <a:pt x="4145" y="1706"/>
                    </a:lnTo>
                    <a:lnTo>
                      <a:pt x="4209" y="1607"/>
                    </a:lnTo>
                    <a:lnTo>
                      <a:pt x="4268" y="1505"/>
                    </a:lnTo>
                    <a:lnTo>
                      <a:pt x="4322" y="1400"/>
                    </a:lnTo>
                    <a:lnTo>
                      <a:pt x="4370" y="1292"/>
                    </a:lnTo>
                    <a:lnTo>
                      <a:pt x="4414" y="1181"/>
                    </a:lnTo>
                    <a:lnTo>
                      <a:pt x="4453" y="1067"/>
                    </a:lnTo>
                    <a:lnTo>
                      <a:pt x="4486" y="952"/>
                    </a:lnTo>
                    <a:lnTo>
                      <a:pt x="4513" y="834"/>
                    </a:lnTo>
                    <a:lnTo>
                      <a:pt x="4534" y="713"/>
                    </a:lnTo>
                    <a:lnTo>
                      <a:pt x="4550" y="592"/>
                    </a:lnTo>
                    <a:lnTo>
                      <a:pt x="4559" y="468"/>
                    </a:lnTo>
                    <a:lnTo>
                      <a:pt x="4563" y="3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11400" y="2884320"/>
                <a:ext cx="1424160" cy="871560"/>
              </a:xfrm>
              <a:custGeom>
                <a:avLst/>
                <a:gdLst/>
                <a:ahLst/>
                <a:rect l="l" t="t" r="r" b="b"/>
                <a:pathLst>
                  <a:path w="4489" h="2747">
                    <a:moveTo>
                      <a:pt x="4489" y="342"/>
                    </a:moveTo>
                    <a:lnTo>
                      <a:pt x="4489" y="299"/>
                    </a:lnTo>
                    <a:lnTo>
                      <a:pt x="4488" y="256"/>
                    </a:lnTo>
                    <a:lnTo>
                      <a:pt x="4486" y="212"/>
                    </a:lnTo>
                    <a:lnTo>
                      <a:pt x="4484" y="169"/>
                    </a:lnTo>
                    <a:lnTo>
                      <a:pt x="4479" y="127"/>
                    </a:lnTo>
                    <a:lnTo>
                      <a:pt x="4475" y="84"/>
                    </a:lnTo>
                    <a:lnTo>
                      <a:pt x="4471" y="42"/>
                    </a:lnTo>
                    <a:lnTo>
                      <a:pt x="4465" y="0"/>
                    </a:lnTo>
                    <a:lnTo>
                      <a:pt x="4458" y="0"/>
                    </a:lnTo>
                    <a:lnTo>
                      <a:pt x="4404" y="28"/>
                    </a:lnTo>
                    <a:lnTo>
                      <a:pt x="4400" y="28"/>
                    </a:lnTo>
                    <a:lnTo>
                      <a:pt x="4404" y="67"/>
                    </a:lnTo>
                    <a:lnTo>
                      <a:pt x="4409" y="105"/>
                    </a:lnTo>
                    <a:lnTo>
                      <a:pt x="4412" y="144"/>
                    </a:lnTo>
                    <a:lnTo>
                      <a:pt x="4415" y="183"/>
                    </a:lnTo>
                    <a:lnTo>
                      <a:pt x="4417" y="223"/>
                    </a:lnTo>
                    <a:lnTo>
                      <a:pt x="4420" y="262"/>
                    </a:lnTo>
                    <a:lnTo>
                      <a:pt x="4421" y="302"/>
                    </a:lnTo>
                    <a:lnTo>
                      <a:pt x="4421" y="342"/>
                    </a:lnTo>
                    <a:lnTo>
                      <a:pt x="4417" y="462"/>
                    </a:lnTo>
                    <a:lnTo>
                      <a:pt x="4408" y="581"/>
                    </a:lnTo>
                    <a:lnTo>
                      <a:pt x="4393" y="698"/>
                    </a:lnTo>
                    <a:lnTo>
                      <a:pt x="4373" y="813"/>
                    </a:lnTo>
                    <a:lnTo>
                      <a:pt x="4347" y="926"/>
                    </a:lnTo>
                    <a:lnTo>
                      <a:pt x="4315" y="1037"/>
                    </a:lnTo>
                    <a:lnTo>
                      <a:pt x="4279" y="1146"/>
                    </a:lnTo>
                    <a:lnTo>
                      <a:pt x="4237" y="1252"/>
                    </a:lnTo>
                    <a:lnTo>
                      <a:pt x="4189" y="1355"/>
                    </a:lnTo>
                    <a:lnTo>
                      <a:pt x="4138" y="1456"/>
                    </a:lnTo>
                    <a:lnTo>
                      <a:pt x="4082" y="1553"/>
                    </a:lnTo>
                    <a:lnTo>
                      <a:pt x="4021" y="1649"/>
                    </a:lnTo>
                    <a:lnTo>
                      <a:pt x="3956" y="1740"/>
                    </a:lnTo>
                    <a:lnTo>
                      <a:pt x="3887" y="1828"/>
                    </a:lnTo>
                    <a:lnTo>
                      <a:pt x="3813" y="1913"/>
                    </a:lnTo>
                    <a:lnTo>
                      <a:pt x="3735" y="1994"/>
                    </a:lnTo>
                    <a:lnTo>
                      <a:pt x="3654" y="2072"/>
                    </a:lnTo>
                    <a:lnTo>
                      <a:pt x="3569" y="2146"/>
                    </a:lnTo>
                    <a:lnTo>
                      <a:pt x="3481" y="2215"/>
                    </a:lnTo>
                    <a:lnTo>
                      <a:pt x="3389" y="2280"/>
                    </a:lnTo>
                    <a:lnTo>
                      <a:pt x="3294" y="2341"/>
                    </a:lnTo>
                    <a:lnTo>
                      <a:pt x="3196" y="2396"/>
                    </a:lnTo>
                    <a:lnTo>
                      <a:pt x="3095" y="2448"/>
                    </a:lnTo>
                    <a:lnTo>
                      <a:pt x="2992" y="2495"/>
                    </a:lnTo>
                    <a:lnTo>
                      <a:pt x="2885" y="2537"/>
                    </a:lnTo>
                    <a:lnTo>
                      <a:pt x="2777" y="2574"/>
                    </a:lnTo>
                    <a:lnTo>
                      <a:pt x="2665" y="2605"/>
                    </a:lnTo>
                    <a:lnTo>
                      <a:pt x="2553" y="2632"/>
                    </a:lnTo>
                    <a:lnTo>
                      <a:pt x="2437" y="2652"/>
                    </a:lnTo>
                    <a:lnTo>
                      <a:pt x="2320" y="2666"/>
                    </a:lnTo>
                    <a:lnTo>
                      <a:pt x="2202" y="2676"/>
                    </a:lnTo>
                    <a:lnTo>
                      <a:pt x="2081" y="2679"/>
                    </a:lnTo>
                    <a:lnTo>
                      <a:pt x="2002" y="2678"/>
                    </a:lnTo>
                    <a:lnTo>
                      <a:pt x="1923" y="2674"/>
                    </a:lnTo>
                    <a:lnTo>
                      <a:pt x="1845" y="2667"/>
                    </a:lnTo>
                    <a:lnTo>
                      <a:pt x="1769" y="2658"/>
                    </a:lnTo>
                    <a:lnTo>
                      <a:pt x="1692" y="2646"/>
                    </a:lnTo>
                    <a:lnTo>
                      <a:pt x="1616" y="2633"/>
                    </a:lnTo>
                    <a:lnTo>
                      <a:pt x="1542" y="2616"/>
                    </a:lnTo>
                    <a:lnTo>
                      <a:pt x="1468" y="2598"/>
                    </a:lnTo>
                    <a:lnTo>
                      <a:pt x="1395" y="2577"/>
                    </a:lnTo>
                    <a:lnTo>
                      <a:pt x="1323" y="2554"/>
                    </a:lnTo>
                    <a:lnTo>
                      <a:pt x="1252" y="2528"/>
                    </a:lnTo>
                    <a:lnTo>
                      <a:pt x="1183" y="2500"/>
                    </a:lnTo>
                    <a:lnTo>
                      <a:pt x="1115" y="2471"/>
                    </a:lnTo>
                    <a:lnTo>
                      <a:pt x="1048" y="2438"/>
                    </a:lnTo>
                    <a:lnTo>
                      <a:pt x="981" y="2405"/>
                    </a:lnTo>
                    <a:lnTo>
                      <a:pt x="916" y="2368"/>
                    </a:lnTo>
                    <a:lnTo>
                      <a:pt x="852" y="2330"/>
                    </a:lnTo>
                    <a:lnTo>
                      <a:pt x="790" y="2290"/>
                    </a:lnTo>
                    <a:lnTo>
                      <a:pt x="729" y="2248"/>
                    </a:lnTo>
                    <a:lnTo>
                      <a:pt x="669" y="2205"/>
                    </a:lnTo>
                    <a:lnTo>
                      <a:pt x="611" y="2160"/>
                    </a:lnTo>
                    <a:lnTo>
                      <a:pt x="555" y="2113"/>
                    </a:lnTo>
                    <a:lnTo>
                      <a:pt x="500" y="2064"/>
                    </a:lnTo>
                    <a:lnTo>
                      <a:pt x="446" y="2013"/>
                    </a:lnTo>
                    <a:lnTo>
                      <a:pt x="394" y="1961"/>
                    </a:lnTo>
                    <a:lnTo>
                      <a:pt x="343" y="1906"/>
                    </a:lnTo>
                    <a:lnTo>
                      <a:pt x="295" y="1852"/>
                    </a:lnTo>
                    <a:lnTo>
                      <a:pt x="249" y="1794"/>
                    </a:lnTo>
                    <a:lnTo>
                      <a:pt x="203" y="1736"/>
                    </a:lnTo>
                    <a:lnTo>
                      <a:pt x="160" y="1675"/>
                    </a:lnTo>
                    <a:lnTo>
                      <a:pt x="119" y="1614"/>
                    </a:lnTo>
                    <a:lnTo>
                      <a:pt x="79" y="1551"/>
                    </a:lnTo>
                    <a:lnTo>
                      <a:pt x="78" y="1552"/>
                    </a:lnTo>
                    <a:lnTo>
                      <a:pt x="0" y="1552"/>
                    </a:lnTo>
                    <a:lnTo>
                      <a:pt x="29" y="1602"/>
                    </a:lnTo>
                    <a:lnTo>
                      <a:pt x="60" y="1650"/>
                    </a:lnTo>
                    <a:lnTo>
                      <a:pt x="92" y="1697"/>
                    </a:lnTo>
                    <a:lnTo>
                      <a:pt x="125" y="1744"/>
                    </a:lnTo>
                    <a:lnTo>
                      <a:pt x="158" y="1791"/>
                    </a:lnTo>
                    <a:lnTo>
                      <a:pt x="193" y="1836"/>
                    </a:lnTo>
                    <a:lnTo>
                      <a:pt x="230" y="1880"/>
                    </a:lnTo>
                    <a:lnTo>
                      <a:pt x="267" y="1923"/>
                    </a:lnTo>
                    <a:lnTo>
                      <a:pt x="304" y="1966"/>
                    </a:lnTo>
                    <a:lnTo>
                      <a:pt x="343" y="2007"/>
                    </a:lnTo>
                    <a:lnTo>
                      <a:pt x="383" y="2048"/>
                    </a:lnTo>
                    <a:lnTo>
                      <a:pt x="424" y="2088"/>
                    </a:lnTo>
                    <a:lnTo>
                      <a:pt x="466" y="2127"/>
                    </a:lnTo>
                    <a:lnTo>
                      <a:pt x="509" y="2163"/>
                    </a:lnTo>
                    <a:lnTo>
                      <a:pt x="552" y="2200"/>
                    </a:lnTo>
                    <a:lnTo>
                      <a:pt x="598" y="2236"/>
                    </a:lnTo>
                    <a:lnTo>
                      <a:pt x="643" y="2260"/>
                    </a:lnTo>
                    <a:lnTo>
                      <a:pt x="691" y="2306"/>
                    </a:lnTo>
                    <a:lnTo>
                      <a:pt x="694" y="2308"/>
                    </a:lnTo>
                    <a:lnTo>
                      <a:pt x="696" y="2310"/>
                    </a:lnTo>
                    <a:lnTo>
                      <a:pt x="700" y="2312"/>
                    </a:lnTo>
                    <a:lnTo>
                      <a:pt x="702" y="2314"/>
                    </a:lnTo>
                    <a:lnTo>
                      <a:pt x="705" y="2316"/>
                    </a:lnTo>
                    <a:lnTo>
                      <a:pt x="707" y="2318"/>
                    </a:lnTo>
                    <a:lnTo>
                      <a:pt x="710" y="2319"/>
                    </a:lnTo>
                    <a:lnTo>
                      <a:pt x="712" y="2321"/>
                    </a:lnTo>
                    <a:lnTo>
                      <a:pt x="756" y="2344"/>
                    </a:lnTo>
                    <a:lnTo>
                      <a:pt x="776" y="2364"/>
                    </a:lnTo>
                    <a:lnTo>
                      <a:pt x="812" y="2386"/>
                    </a:lnTo>
                    <a:lnTo>
                      <a:pt x="848" y="2408"/>
                    </a:lnTo>
                    <a:lnTo>
                      <a:pt x="884" y="2429"/>
                    </a:lnTo>
                    <a:lnTo>
                      <a:pt x="920" y="2450"/>
                    </a:lnTo>
                    <a:lnTo>
                      <a:pt x="958" y="2470"/>
                    </a:lnTo>
                    <a:lnTo>
                      <a:pt x="995" y="2490"/>
                    </a:lnTo>
                    <a:lnTo>
                      <a:pt x="1033" y="2508"/>
                    </a:lnTo>
                    <a:lnTo>
                      <a:pt x="1072" y="2527"/>
                    </a:lnTo>
                    <a:lnTo>
                      <a:pt x="1110" y="2543"/>
                    </a:lnTo>
                    <a:lnTo>
                      <a:pt x="1148" y="2560"/>
                    </a:lnTo>
                    <a:lnTo>
                      <a:pt x="1188" y="2577"/>
                    </a:lnTo>
                    <a:lnTo>
                      <a:pt x="1227" y="2592"/>
                    </a:lnTo>
                    <a:lnTo>
                      <a:pt x="1267" y="2606"/>
                    </a:lnTo>
                    <a:lnTo>
                      <a:pt x="1308" y="2621"/>
                    </a:lnTo>
                    <a:lnTo>
                      <a:pt x="1348" y="2634"/>
                    </a:lnTo>
                    <a:lnTo>
                      <a:pt x="1389" y="2646"/>
                    </a:lnTo>
                    <a:lnTo>
                      <a:pt x="1431" y="2659"/>
                    </a:lnTo>
                    <a:lnTo>
                      <a:pt x="1472" y="2669"/>
                    </a:lnTo>
                    <a:lnTo>
                      <a:pt x="1514" y="2680"/>
                    </a:lnTo>
                    <a:lnTo>
                      <a:pt x="1556" y="2690"/>
                    </a:lnTo>
                    <a:lnTo>
                      <a:pt x="1598" y="2699"/>
                    </a:lnTo>
                    <a:lnTo>
                      <a:pt x="1641" y="2707"/>
                    </a:lnTo>
                    <a:lnTo>
                      <a:pt x="1684" y="2715"/>
                    </a:lnTo>
                    <a:lnTo>
                      <a:pt x="1728" y="2722"/>
                    </a:lnTo>
                    <a:lnTo>
                      <a:pt x="1771" y="2728"/>
                    </a:lnTo>
                    <a:lnTo>
                      <a:pt x="1815" y="2732"/>
                    </a:lnTo>
                    <a:lnTo>
                      <a:pt x="1858" y="2738"/>
                    </a:lnTo>
                    <a:lnTo>
                      <a:pt x="1902" y="2741"/>
                    </a:lnTo>
                    <a:lnTo>
                      <a:pt x="1947" y="2744"/>
                    </a:lnTo>
                    <a:lnTo>
                      <a:pt x="1991" y="2746"/>
                    </a:lnTo>
                    <a:lnTo>
                      <a:pt x="2037" y="2747"/>
                    </a:lnTo>
                    <a:lnTo>
                      <a:pt x="2081" y="2747"/>
                    </a:lnTo>
                    <a:lnTo>
                      <a:pt x="2205" y="2744"/>
                    </a:lnTo>
                    <a:lnTo>
                      <a:pt x="2328" y="2735"/>
                    </a:lnTo>
                    <a:lnTo>
                      <a:pt x="2448" y="2720"/>
                    </a:lnTo>
                    <a:lnTo>
                      <a:pt x="2566" y="2699"/>
                    </a:lnTo>
                    <a:lnTo>
                      <a:pt x="2683" y="2672"/>
                    </a:lnTo>
                    <a:lnTo>
                      <a:pt x="2798" y="2639"/>
                    </a:lnTo>
                    <a:lnTo>
                      <a:pt x="2909" y="2601"/>
                    </a:lnTo>
                    <a:lnTo>
                      <a:pt x="3018" y="2558"/>
                    </a:lnTo>
                    <a:lnTo>
                      <a:pt x="3126" y="2510"/>
                    </a:lnTo>
                    <a:lnTo>
                      <a:pt x="3229" y="2457"/>
                    </a:lnTo>
                    <a:lnTo>
                      <a:pt x="3330" y="2400"/>
                    </a:lnTo>
                    <a:lnTo>
                      <a:pt x="3427" y="2337"/>
                    </a:lnTo>
                    <a:lnTo>
                      <a:pt x="3522" y="2269"/>
                    </a:lnTo>
                    <a:lnTo>
                      <a:pt x="3613" y="2198"/>
                    </a:lnTo>
                    <a:lnTo>
                      <a:pt x="3701" y="2122"/>
                    </a:lnTo>
                    <a:lnTo>
                      <a:pt x="3784" y="2043"/>
                    </a:lnTo>
                    <a:lnTo>
                      <a:pt x="3863" y="1960"/>
                    </a:lnTo>
                    <a:lnTo>
                      <a:pt x="3939" y="1873"/>
                    </a:lnTo>
                    <a:lnTo>
                      <a:pt x="4011" y="1781"/>
                    </a:lnTo>
                    <a:lnTo>
                      <a:pt x="4078" y="1687"/>
                    </a:lnTo>
                    <a:lnTo>
                      <a:pt x="4141" y="1589"/>
                    </a:lnTo>
                    <a:lnTo>
                      <a:pt x="4199" y="1488"/>
                    </a:lnTo>
                    <a:lnTo>
                      <a:pt x="4251" y="1385"/>
                    </a:lnTo>
                    <a:lnTo>
                      <a:pt x="4300" y="1278"/>
                    </a:lnTo>
                    <a:lnTo>
                      <a:pt x="4343" y="1169"/>
                    </a:lnTo>
                    <a:lnTo>
                      <a:pt x="4381" y="1058"/>
                    </a:lnTo>
                    <a:lnTo>
                      <a:pt x="4413" y="943"/>
                    </a:lnTo>
                    <a:lnTo>
                      <a:pt x="4441" y="827"/>
                    </a:lnTo>
                    <a:lnTo>
                      <a:pt x="4462" y="708"/>
                    </a:lnTo>
                    <a:lnTo>
                      <a:pt x="4477" y="588"/>
                    </a:lnTo>
                    <a:lnTo>
                      <a:pt x="4486" y="466"/>
                    </a:lnTo>
                    <a:lnTo>
                      <a:pt x="4489" y="3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022560" y="2889360"/>
                <a:ext cx="1403280" cy="857160"/>
              </a:xfrm>
              <a:custGeom>
                <a:avLst/>
                <a:gdLst/>
                <a:ahLst/>
                <a:rect l="l" t="t" r="r" b="b"/>
                <a:pathLst>
                  <a:path w="4416" h="2701">
                    <a:moveTo>
                      <a:pt x="4416" y="329"/>
                    </a:moveTo>
                    <a:lnTo>
                      <a:pt x="4415" y="288"/>
                    </a:lnTo>
                    <a:lnTo>
                      <a:pt x="4414" y="246"/>
                    </a:lnTo>
                    <a:lnTo>
                      <a:pt x="4412" y="205"/>
                    </a:lnTo>
                    <a:lnTo>
                      <a:pt x="4410" y="163"/>
                    </a:lnTo>
                    <a:lnTo>
                      <a:pt x="4407" y="122"/>
                    </a:lnTo>
                    <a:lnTo>
                      <a:pt x="4403" y="82"/>
                    </a:lnTo>
                    <a:lnTo>
                      <a:pt x="4398" y="41"/>
                    </a:lnTo>
                    <a:lnTo>
                      <a:pt x="4393" y="0"/>
                    </a:lnTo>
                    <a:lnTo>
                      <a:pt x="4365" y="15"/>
                    </a:lnTo>
                    <a:lnTo>
                      <a:pt x="4326" y="15"/>
                    </a:lnTo>
                    <a:lnTo>
                      <a:pt x="4330" y="54"/>
                    </a:lnTo>
                    <a:lnTo>
                      <a:pt x="4335" y="92"/>
                    </a:lnTo>
                    <a:lnTo>
                      <a:pt x="4338" y="131"/>
                    </a:lnTo>
                    <a:lnTo>
                      <a:pt x="4342" y="170"/>
                    </a:lnTo>
                    <a:lnTo>
                      <a:pt x="4344" y="210"/>
                    </a:lnTo>
                    <a:lnTo>
                      <a:pt x="4346" y="249"/>
                    </a:lnTo>
                    <a:lnTo>
                      <a:pt x="4347" y="289"/>
                    </a:lnTo>
                    <a:lnTo>
                      <a:pt x="4347" y="329"/>
                    </a:lnTo>
                    <a:lnTo>
                      <a:pt x="4344" y="447"/>
                    </a:lnTo>
                    <a:lnTo>
                      <a:pt x="4335" y="565"/>
                    </a:lnTo>
                    <a:lnTo>
                      <a:pt x="4321" y="679"/>
                    </a:lnTo>
                    <a:lnTo>
                      <a:pt x="4301" y="793"/>
                    </a:lnTo>
                    <a:lnTo>
                      <a:pt x="4274" y="904"/>
                    </a:lnTo>
                    <a:lnTo>
                      <a:pt x="4244" y="1013"/>
                    </a:lnTo>
                    <a:lnTo>
                      <a:pt x="4207" y="1120"/>
                    </a:lnTo>
                    <a:lnTo>
                      <a:pt x="4166" y="1225"/>
                    </a:lnTo>
                    <a:lnTo>
                      <a:pt x="4120" y="1327"/>
                    </a:lnTo>
                    <a:lnTo>
                      <a:pt x="4068" y="1426"/>
                    </a:lnTo>
                    <a:lnTo>
                      <a:pt x="4014" y="1522"/>
                    </a:lnTo>
                    <a:lnTo>
                      <a:pt x="3954" y="1616"/>
                    </a:lnTo>
                    <a:lnTo>
                      <a:pt x="3889" y="1706"/>
                    </a:lnTo>
                    <a:lnTo>
                      <a:pt x="3820" y="1793"/>
                    </a:lnTo>
                    <a:lnTo>
                      <a:pt x="3748" y="1877"/>
                    </a:lnTo>
                    <a:lnTo>
                      <a:pt x="3672" y="1957"/>
                    </a:lnTo>
                    <a:lnTo>
                      <a:pt x="3592" y="2033"/>
                    </a:lnTo>
                    <a:lnTo>
                      <a:pt x="3508" y="2105"/>
                    </a:lnTo>
                    <a:lnTo>
                      <a:pt x="3421" y="2173"/>
                    </a:lnTo>
                    <a:lnTo>
                      <a:pt x="3330" y="2239"/>
                    </a:lnTo>
                    <a:lnTo>
                      <a:pt x="3237" y="2298"/>
                    </a:lnTo>
                    <a:lnTo>
                      <a:pt x="3140" y="2353"/>
                    </a:lnTo>
                    <a:lnTo>
                      <a:pt x="3041" y="2404"/>
                    </a:lnTo>
                    <a:lnTo>
                      <a:pt x="2939" y="2451"/>
                    </a:lnTo>
                    <a:lnTo>
                      <a:pt x="2834" y="2492"/>
                    </a:lnTo>
                    <a:lnTo>
                      <a:pt x="2727" y="2528"/>
                    </a:lnTo>
                    <a:lnTo>
                      <a:pt x="2618" y="2559"/>
                    </a:lnTo>
                    <a:lnTo>
                      <a:pt x="2506" y="2585"/>
                    </a:lnTo>
                    <a:lnTo>
                      <a:pt x="2393" y="2605"/>
                    </a:lnTo>
                    <a:lnTo>
                      <a:pt x="2278" y="2620"/>
                    </a:lnTo>
                    <a:lnTo>
                      <a:pt x="2161" y="2628"/>
                    </a:lnTo>
                    <a:lnTo>
                      <a:pt x="2042" y="2631"/>
                    </a:lnTo>
                    <a:lnTo>
                      <a:pt x="1964" y="2630"/>
                    </a:lnTo>
                    <a:lnTo>
                      <a:pt x="1887" y="2626"/>
                    </a:lnTo>
                    <a:lnTo>
                      <a:pt x="1811" y="2620"/>
                    </a:lnTo>
                    <a:lnTo>
                      <a:pt x="1735" y="2611"/>
                    </a:lnTo>
                    <a:lnTo>
                      <a:pt x="1660" y="2600"/>
                    </a:lnTo>
                    <a:lnTo>
                      <a:pt x="1586" y="2586"/>
                    </a:lnTo>
                    <a:lnTo>
                      <a:pt x="1512" y="2570"/>
                    </a:lnTo>
                    <a:lnTo>
                      <a:pt x="1441" y="2553"/>
                    </a:lnTo>
                    <a:lnTo>
                      <a:pt x="1369" y="2532"/>
                    </a:lnTo>
                    <a:lnTo>
                      <a:pt x="1298" y="2508"/>
                    </a:lnTo>
                    <a:lnTo>
                      <a:pt x="1228" y="2484"/>
                    </a:lnTo>
                    <a:lnTo>
                      <a:pt x="1160" y="2457"/>
                    </a:lnTo>
                    <a:lnTo>
                      <a:pt x="1093" y="2428"/>
                    </a:lnTo>
                    <a:lnTo>
                      <a:pt x="1026" y="2396"/>
                    </a:lnTo>
                    <a:lnTo>
                      <a:pt x="961" y="2364"/>
                    </a:lnTo>
                    <a:lnTo>
                      <a:pt x="897" y="2328"/>
                    </a:lnTo>
                    <a:lnTo>
                      <a:pt x="835" y="2291"/>
                    </a:lnTo>
                    <a:lnTo>
                      <a:pt x="774" y="2251"/>
                    </a:lnTo>
                    <a:lnTo>
                      <a:pt x="713" y="2210"/>
                    </a:lnTo>
                    <a:lnTo>
                      <a:pt x="655" y="2168"/>
                    </a:lnTo>
                    <a:lnTo>
                      <a:pt x="598" y="2123"/>
                    </a:lnTo>
                    <a:lnTo>
                      <a:pt x="542" y="2077"/>
                    </a:lnTo>
                    <a:lnTo>
                      <a:pt x="488" y="2029"/>
                    </a:lnTo>
                    <a:lnTo>
                      <a:pt x="436" y="1979"/>
                    </a:lnTo>
                    <a:lnTo>
                      <a:pt x="384" y="1928"/>
                    </a:lnTo>
                    <a:lnTo>
                      <a:pt x="335" y="1875"/>
                    </a:lnTo>
                    <a:lnTo>
                      <a:pt x="287" y="1821"/>
                    </a:lnTo>
                    <a:lnTo>
                      <a:pt x="241" y="1765"/>
                    </a:lnTo>
                    <a:lnTo>
                      <a:pt x="196" y="1708"/>
                    </a:lnTo>
                    <a:lnTo>
                      <a:pt x="154" y="1650"/>
                    </a:lnTo>
                    <a:lnTo>
                      <a:pt x="113" y="1589"/>
                    </a:lnTo>
                    <a:lnTo>
                      <a:pt x="74" y="1528"/>
                    </a:lnTo>
                    <a:lnTo>
                      <a:pt x="39" y="1539"/>
                    </a:lnTo>
                    <a:lnTo>
                      <a:pt x="0" y="1539"/>
                    </a:lnTo>
                    <a:lnTo>
                      <a:pt x="40" y="1603"/>
                    </a:lnTo>
                    <a:lnTo>
                      <a:pt x="82" y="1666"/>
                    </a:lnTo>
                    <a:lnTo>
                      <a:pt x="127" y="1728"/>
                    </a:lnTo>
                    <a:lnTo>
                      <a:pt x="172" y="1788"/>
                    </a:lnTo>
                    <a:lnTo>
                      <a:pt x="219" y="1847"/>
                    </a:lnTo>
                    <a:lnTo>
                      <a:pt x="269" y="1905"/>
                    </a:lnTo>
                    <a:lnTo>
                      <a:pt x="320" y="1960"/>
                    </a:lnTo>
                    <a:lnTo>
                      <a:pt x="373" y="2014"/>
                    </a:lnTo>
                    <a:lnTo>
                      <a:pt x="427" y="2066"/>
                    </a:lnTo>
                    <a:lnTo>
                      <a:pt x="483" y="2117"/>
                    </a:lnTo>
                    <a:lnTo>
                      <a:pt x="541" y="2165"/>
                    </a:lnTo>
                    <a:lnTo>
                      <a:pt x="600" y="2212"/>
                    </a:lnTo>
                    <a:lnTo>
                      <a:pt x="661" y="2257"/>
                    </a:lnTo>
                    <a:lnTo>
                      <a:pt x="723" y="2301"/>
                    </a:lnTo>
                    <a:lnTo>
                      <a:pt x="786" y="2341"/>
                    </a:lnTo>
                    <a:lnTo>
                      <a:pt x="851" y="2380"/>
                    </a:lnTo>
                    <a:lnTo>
                      <a:pt x="917" y="2417"/>
                    </a:lnTo>
                    <a:lnTo>
                      <a:pt x="985" y="2453"/>
                    </a:lnTo>
                    <a:lnTo>
                      <a:pt x="1054" y="2485"/>
                    </a:lnTo>
                    <a:lnTo>
                      <a:pt x="1124" y="2516"/>
                    </a:lnTo>
                    <a:lnTo>
                      <a:pt x="1195" y="2545"/>
                    </a:lnTo>
                    <a:lnTo>
                      <a:pt x="1267" y="2571"/>
                    </a:lnTo>
                    <a:lnTo>
                      <a:pt x="1341" y="2595"/>
                    </a:lnTo>
                    <a:lnTo>
                      <a:pt x="1415" y="2617"/>
                    </a:lnTo>
                    <a:lnTo>
                      <a:pt x="1491" y="2635"/>
                    </a:lnTo>
                    <a:lnTo>
                      <a:pt x="1567" y="2652"/>
                    </a:lnTo>
                    <a:lnTo>
                      <a:pt x="1644" y="2667"/>
                    </a:lnTo>
                    <a:lnTo>
                      <a:pt x="1722" y="2679"/>
                    </a:lnTo>
                    <a:lnTo>
                      <a:pt x="1801" y="2688"/>
                    </a:lnTo>
                    <a:lnTo>
                      <a:pt x="1881" y="2694"/>
                    </a:lnTo>
                    <a:lnTo>
                      <a:pt x="1961" y="2698"/>
                    </a:lnTo>
                    <a:lnTo>
                      <a:pt x="2042" y="2701"/>
                    </a:lnTo>
                    <a:lnTo>
                      <a:pt x="2165" y="2697"/>
                    </a:lnTo>
                    <a:lnTo>
                      <a:pt x="2285" y="2688"/>
                    </a:lnTo>
                    <a:lnTo>
                      <a:pt x="2403" y="2673"/>
                    </a:lnTo>
                    <a:lnTo>
                      <a:pt x="2520" y="2652"/>
                    </a:lnTo>
                    <a:lnTo>
                      <a:pt x="2636" y="2625"/>
                    </a:lnTo>
                    <a:lnTo>
                      <a:pt x="2748" y="2593"/>
                    </a:lnTo>
                    <a:lnTo>
                      <a:pt x="2859" y="2557"/>
                    </a:lnTo>
                    <a:lnTo>
                      <a:pt x="2966" y="2514"/>
                    </a:lnTo>
                    <a:lnTo>
                      <a:pt x="3071" y="2466"/>
                    </a:lnTo>
                    <a:lnTo>
                      <a:pt x="3174" y="2414"/>
                    </a:lnTo>
                    <a:lnTo>
                      <a:pt x="3273" y="2357"/>
                    </a:lnTo>
                    <a:lnTo>
                      <a:pt x="3369" y="2295"/>
                    </a:lnTo>
                    <a:lnTo>
                      <a:pt x="3462" y="2229"/>
                    </a:lnTo>
                    <a:lnTo>
                      <a:pt x="3552" y="2159"/>
                    </a:lnTo>
                    <a:lnTo>
                      <a:pt x="3638" y="2084"/>
                    </a:lnTo>
                    <a:lnTo>
                      <a:pt x="3720" y="2005"/>
                    </a:lnTo>
                    <a:lnTo>
                      <a:pt x="3799" y="1924"/>
                    </a:lnTo>
                    <a:lnTo>
                      <a:pt x="3874" y="1837"/>
                    </a:lnTo>
                    <a:lnTo>
                      <a:pt x="3944" y="1747"/>
                    </a:lnTo>
                    <a:lnTo>
                      <a:pt x="4011" y="1655"/>
                    </a:lnTo>
                    <a:lnTo>
                      <a:pt x="4073" y="1558"/>
                    </a:lnTo>
                    <a:lnTo>
                      <a:pt x="4129" y="1459"/>
                    </a:lnTo>
                    <a:lnTo>
                      <a:pt x="4182" y="1357"/>
                    </a:lnTo>
                    <a:lnTo>
                      <a:pt x="4229" y="1252"/>
                    </a:lnTo>
                    <a:lnTo>
                      <a:pt x="4272" y="1144"/>
                    </a:lnTo>
                    <a:lnTo>
                      <a:pt x="4309" y="1034"/>
                    </a:lnTo>
                    <a:lnTo>
                      <a:pt x="4341" y="922"/>
                    </a:lnTo>
                    <a:lnTo>
                      <a:pt x="4368" y="806"/>
                    </a:lnTo>
                    <a:lnTo>
                      <a:pt x="4389" y="690"/>
                    </a:lnTo>
                    <a:lnTo>
                      <a:pt x="4404" y="571"/>
                    </a:lnTo>
                    <a:lnTo>
                      <a:pt x="4413" y="451"/>
                    </a:lnTo>
                    <a:lnTo>
                      <a:pt x="4416" y="32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035160" y="2894040"/>
                <a:ext cx="1379520" cy="841320"/>
              </a:xfrm>
              <a:custGeom>
                <a:avLst/>
                <a:gdLst/>
                <a:ahLst/>
                <a:rect l="l" t="t" r="r" b="b"/>
                <a:pathLst>
                  <a:path w="4342" h="2651">
                    <a:moveTo>
                      <a:pt x="4342" y="314"/>
                    </a:moveTo>
                    <a:lnTo>
                      <a:pt x="4342" y="274"/>
                    </a:lnTo>
                    <a:lnTo>
                      <a:pt x="4341" y="234"/>
                    </a:lnTo>
                    <a:lnTo>
                      <a:pt x="4338" y="195"/>
                    </a:lnTo>
                    <a:lnTo>
                      <a:pt x="4336" y="155"/>
                    </a:lnTo>
                    <a:lnTo>
                      <a:pt x="4333" y="116"/>
                    </a:lnTo>
                    <a:lnTo>
                      <a:pt x="4330" y="77"/>
                    </a:lnTo>
                    <a:lnTo>
                      <a:pt x="4325" y="39"/>
                    </a:lnTo>
                    <a:lnTo>
                      <a:pt x="4321" y="0"/>
                    </a:lnTo>
                    <a:lnTo>
                      <a:pt x="4251" y="0"/>
                    </a:lnTo>
                    <a:lnTo>
                      <a:pt x="4255" y="39"/>
                    </a:lnTo>
                    <a:lnTo>
                      <a:pt x="4261" y="77"/>
                    </a:lnTo>
                    <a:lnTo>
                      <a:pt x="4264" y="116"/>
                    </a:lnTo>
                    <a:lnTo>
                      <a:pt x="4267" y="155"/>
                    </a:lnTo>
                    <a:lnTo>
                      <a:pt x="4269" y="195"/>
                    </a:lnTo>
                    <a:lnTo>
                      <a:pt x="4271" y="234"/>
                    </a:lnTo>
                    <a:lnTo>
                      <a:pt x="4272" y="274"/>
                    </a:lnTo>
                    <a:lnTo>
                      <a:pt x="4272" y="314"/>
                    </a:lnTo>
                    <a:lnTo>
                      <a:pt x="4270" y="430"/>
                    </a:lnTo>
                    <a:lnTo>
                      <a:pt x="4261" y="546"/>
                    </a:lnTo>
                    <a:lnTo>
                      <a:pt x="4246" y="659"/>
                    </a:lnTo>
                    <a:lnTo>
                      <a:pt x="4226" y="771"/>
                    </a:lnTo>
                    <a:lnTo>
                      <a:pt x="4201" y="881"/>
                    </a:lnTo>
                    <a:lnTo>
                      <a:pt x="4170" y="989"/>
                    </a:lnTo>
                    <a:lnTo>
                      <a:pt x="4135" y="1094"/>
                    </a:lnTo>
                    <a:lnTo>
                      <a:pt x="4095" y="1197"/>
                    </a:lnTo>
                    <a:lnTo>
                      <a:pt x="4048" y="1297"/>
                    </a:lnTo>
                    <a:lnTo>
                      <a:pt x="3999" y="1395"/>
                    </a:lnTo>
                    <a:lnTo>
                      <a:pt x="3944" y="1490"/>
                    </a:lnTo>
                    <a:lnTo>
                      <a:pt x="3884" y="1582"/>
                    </a:lnTo>
                    <a:lnTo>
                      <a:pt x="3821" y="1671"/>
                    </a:lnTo>
                    <a:lnTo>
                      <a:pt x="3754" y="1756"/>
                    </a:lnTo>
                    <a:lnTo>
                      <a:pt x="3683" y="1839"/>
                    </a:lnTo>
                    <a:lnTo>
                      <a:pt x="3608" y="1918"/>
                    </a:lnTo>
                    <a:lnTo>
                      <a:pt x="3529" y="1993"/>
                    </a:lnTo>
                    <a:lnTo>
                      <a:pt x="3446" y="2064"/>
                    </a:lnTo>
                    <a:lnTo>
                      <a:pt x="3361" y="2131"/>
                    </a:lnTo>
                    <a:lnTo>
                      <a:pt x="3272" y="2194"/>
                    </a:lnTo>
                    <a:lnTo>
                      <a:pt x="3179" y="2254"/>
                    </a:lnTo>
                    <a:lnTo>
                      <a:pt x="3084" y="2309"/>
                    </a:lnTo>
                    <a:lnTo>
                      <a:pt x="2987" y="2358"/>
                    </a:lnTo>
                    <a:lnTo>
                      <a:pt x="2886" y="2404"/>
                    </a:lnTo>
                    <a:lnTo>
                      <a:pt x="2783" y="2444"/>
                    </a:lnTo>
                    <a:lnTo>
                      <a:pt x="2678" y="2480"/>
                    </a:lnTo>
                    <a:lnTo>
                      <a:pt x="2569" y="2510"/>
                    </a:lnTo>
                    <a:lnTo>
                      <a:pt x="2460" y="2535"/>
                    </a:lnTo>
                    <a:lnTo>
                      <a:pt x="2348" y="2555"/>
                    </a:lnTo>
                    <a:lnTo>
                      <a:pt x="2234" y="2570"/>
                    </a:lnTo>
                    <a:lnTo>
                      <a:pt x="2119" y="2580"/>
                    </a:lnTo>
                    <a:lnTo>
                      <a:pt x="2002" y="2582"/>
                    </a:lnTo>
                    <a:lnTo>
                      <a:pt x="1926" y="2581"/>
                    </a:lnTo>
                    <a:lnTo>
                      <a:pt x="1850" y="2577"/>
                    </a:lnTo>
                    <a:lnTo>
                      <a:pt x="1775" y="2571"/>
                    </a:lnTo>
                    <a:lnTo>
                      <a:pt x="1701" y="2562"/>
                    </a:lnTo>
                    <a:lnTo>
                      <a:pt x="1627" y="2551"/>
                    </a:lnTo>
                    <a:lnTo>
                      <a:pt x="1554" y="2538"/>
                    </a:lnTo>
                    <a:lnTo>
                      <a:pt x="1483" y="2522"/>
                    </a:lnTo>
                    <a:lnTo>
                      <a:pt x="1411" y="2504"/>
                    </a:lnTo>
                    <a:lnTo>
                      <a:pt x="1341" y="2484"/>
                    </a:lnTo>
                    <a:lnTo>
                      <a:pt x="1271" y="2462"/>
                    </a:lnTo>
                    <a:lnTo>
                      <a:pt x="1203" y="2438"/>
                    </a:lnTo>
                    <a:lnTo>
                      <a:pt x="1137" y="2412"/>
                    </a:lnTo>
                    <a:lnTo>
                      <a:pt x="1070" y="2382"/>
                    </a:lnTo>
                    <a:lnTo>
                      <a:pt x="1005" y="2352"/>
                    </a:lnTo>
                    <a:lnTo>
                      <a:pt x="941" y="2319"/>
                    </a:lnTo>
                    <a:lnTo>
                      <a:pt x="878" y="2284"/>
                    </a:lnTo>
                    <a:lnTo>
                      <a:pt x="817" y="2249"/>
                    </a:lnTo>
                    <a:lnTo>
                      <a:pt x="756" y="2210"/>
                    </a:lnTo>
                    <a:lnTo>
                      <a:pt x="697" y="2170"/>
                    </a:lnTo>
                    <a:lnTo>
                      <a:pt x="640" y="2128"/>
                    </a:lnTo>
                    <a:lnTo>
                      <a:pt x="584" y="2085"/>
                    </a:lnTo>
                    <a:lnTo>
                      <a:pt x="529" y="2040"/>
                    </a:lnTo>
                    <a:lnTo>
                      <a:pt x="476" y="1993"/>
                    </a:lnTo>
                    <a:lnTo>
                      <a:pt x="424" y="1944"/>
                    </a:lnTo>
                    <a:lnTo>
                      <a:pt x="374" y="1894"/>
                    </a:lnTo>
                    <a:lnTo>
                      <a:pt x="325" y="1842"/>
                    </a:lnTo>
                    <a:lnTo>
                      <a:pt x="278" y="1789"/>
                    </a:lnTo>
                    <a:lnTo>
                      <a:pt x="233" y="1734"/>
                    </a:lnTo>
                    <a:lnTo>
                      <a:pt x="189" y="1679"/>
                    </a:lnTo>
                    <a:lnTo>
                      <a:pt x="147" y="1621"/>
                    </a:lnTo>
                    <a:lnTo>
                      <a:pt x="107" y="1562"/>
                    </a:lnTo>
                    <a:lnTo>
                      <a:pt x="68" y="1502"/>
                    </a:lnTo>
                    <a:lnTo>
                      <a:pt x="0" y="1523"/>
                    </a:lnTo>
                    <a:lnTo>
                      <a:pt x="40" y="1586"/>
                    </a:lnTo>
                    <a:lnTo>
                      <a:pt x="81" y="1647"/>
                    </a:lnTo>
                    <a:lnTo>
                      <a:pt x="124" y="1708"/>
                    </a:lnTo>
                    <a:lnTo>
                      <a:pt x="170" y="1766"/>
                    </a:lnTo>
                    <a:lnTo>
                      <a:pt x="216" y="1824"/>
                    </a:lnTo>
                    <a:lnTo>
                      <a:pt x="264" y="1878"/>
                    </a:lnTo>
                    <a:lnTo>
                      <a:pt x="315" y="1933"/>
                    </a:lnTo>
                    <a:lnTo>
                      <a:pt x="367" y="1985"/>
                    </a:lnTo>
                    <a:lnTo>
                      <a:pt x="421" y="2036"/>
                    </a:lnTo>
                    <a:lnTo>
                      <a:pt x="476" y="2085"/>
                    </a:lnTo>
                    <a:lnTo>
                      <a:pt x="532" y="2132"/>
                    </a:lnTo>
                    <a:lnTo>
                      <a:pt x="590" y="2177"/>
                    </a:lnTo>
                    <a:lnTo>
                      <a:pt x="650" y="2220"/>
                    </a:lnTo>
                    <a:lnTo>
                      <a:pt x="711" y="2262"/>
                    </a:lnTo>
                    <a:lnTo>
                      <a:pt x="773" y="2302"/>
                    </a:lnTo>
                    <a:lnTo>
                      <a:pt x="837" y="2340"/>
                    </a:lnTo>
                    <a:lnTo>
                      <a:pt x="902" y="2377"/>
                    </a:lnTo>
                    <a:lnTo>
                      <a:pt x="969" y="2410"/>
                    </a:lnTo>
                    <a:lnTo>
                      <a:pt x="1036" y="2443"/>
                    </a:lnTo>
                    <a:lnTo>
                      <a:pt x="1104" y="2472"/>
                    </a:lnTo>
                    <a:lnTo>
                      <a:pt x="1173" y="2500"/>
                    </a:lnTo>
                    <a:lnTo>
                      <a:pt x="1244" y="2526"/>
                    </a:lnTo>
                    <a:lnTo>
                      <a:pt x="1316" y="2549"/>
                    </a:lnTo>
                    <a:lnTo>
                      <a:pt x="1389" y="2570"/>
                    </a:lnTo>
                    <a:lnTo>
                      <a:pt x="1463" y="2588"/>
                    </a:lnTo>
                    <a:lnTo>
                      <a:pt x="1537" y="2605"/>
                    </a:lnTo>
                    <a:lnTo>
                      <a:pt x="1613" y="2618"/>
                    </a:lnTo>
                    <a:lnTo>
                      <a:pt x="1690" y="2630"/>
                    </a:lnTo>
                    <a:lnTo>
                      <a:pt x="1766" y="2639"/>
                    </a:lnTo>
                    <a:lnTo>
                      <a:pt x="1844" y="2646"/>
                    </a:lnTo>
                    <a:lnTo>
                      <a:pt x="1923" y="2650"/>
                    </a:lnTo>
                    <a:lnTo>
                      <a:pt x="2002" y="2651"/>
                    </a:lnTo>
                    <a:lnTo>
                      <a:pt x="2123" y="2648"/>
                    </a:lnTo>
                    <a:lnTo>
                      <a:pt x="2241" y="2638"/>
                    </a:lnTo>
                    <a:lnTo>
                      <a:pt x="2358" y="2624"/>
                    </a:lnTo>
                    <a:lnTo>
                      <a:pt x="2474" y="2604"/>
                    </a:lnTo>
                    <a:lnTo>
                      <a:pt x="2586" y="2577"/>
                    </a:lnTo>
                    <a:lnTo>
                      <a:pt x="2698" y="2546"/>
                    </a:lnTo>
                    <a:lnTo>
                      <a:pt x="2806" y="2509"/>
                    </a:lnTo>
                    <a:lnTo>
                      <a:pt x="2913" y="2467"/>
                    </a:lnTo>
                    <a:lnTo>
                      <a:pt x="3016" y="2420"/>
                    </a:lnTo>
                    <a:lnTo>
                      <a:pt x="3117" y="2368"/>
                    </a:lnTo>
                    <a:lnTo>
                      <a:pt x="3215" y="2313"/>
                    </a:lnTo>
                    <a:lnTo>
                      <a:pt x="3310" y="2252"/>
                    </a:lnTo>
                    <a:lnTo>
                      <a:pt x="3402" y="2187"/>
                    </a:lnTo>
                    <a:lnTo>
                      <a:pt x="3490" y="2118"/>
                    </a:lnTo>
                    <a:lnTo>
                      <a:pt x="3575" y="2044"/>
                    </a:lnTo>
                    <a:lnTo>
                      <a:pt x="3656" y="1966"/>
                    </a:lnTo>
                    <a:lnTo>
                      <a:pt x="3734" y="1885"/>
                    </a:lnTo>
                    <a:lnTo>
                      <a:pt x="3808" y="1800"/>
                    </a:lnTo>
                    <a:lnTo>
                      <a:pt x="3877" y="1712"/>
                    </a:lnTo>
                    <a:lnTo>
                      <a:pt x="3942" y="1621"/>
                    </a:lnTo>
                    <a:lnTo>
                      <a:pt x="4003" y="1525"/>
                    </a:lnTo>
                    <a:lnTo>
                      <a:pt x="4059" y="1428"/>
                    </a:lnTo>
                    <a:lnTo>
                      <a:pt x="4110" y="1327"/>
                    </a:lnTo>
                    <a:lnTo>
                      <a:pt x="4158" y="1224"/>
                    </a:lnTo>
                    <a:lnTo>
                      <a:pt x="4200" y="1118"/>
                    </a:lnTo>
                    <a:lnTo>
                      <a:pt x="4236" y="1009"/>
                    </a:lnTo>
                    <a:lnTo>
                      <a:pt x="4268" y="898"/>
                    </a:lnTo>
                    <a:lnTo>
                      <a:pt x="4294" y="785"/>
                    </a:lnTo>
                    <a:lnTo>
                      <a:pt x="4314" y="670"/>
                    </a:lnTo>
                    <a:lnTo>
                      <a:pt x="4329" y="553"/>
                    </a:lnTo>
                    <a:lnTo>
                      <a:pt x="4338" y="434"/>
                    </a:lnTo>
                    <a:lnTo>
                      <a:pt x="4342" y="314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046320" y="2894040"/>
                <a:ext cx="1357560" cy="830160"/>
              </a:xfrm>
              <a:custGeom>
                <a:avLst/>
                <a:gdLst/>
                <a:ahLst/>
                <a:rect l="l" t="t" r="r" b="b"/>
                <a:pathLst>
                  <a:path w="4273" h="2616">
                    <a:moveTo>
                      <a:pt x="4273" y="314"/>
                    </a:moveTo>
                    <a:lnTo>
                      <a:pt x="4273" y="274"/>
                    </a:lnTo>
                    <a:lnTo>
                      <a:pt x="4272" y="234"/>
                    </a:lnTo>
                    <a:lnTo>
                      <a:pt x="4270" y="195"/>
                    </a:lnTo>
                    <a:lnTo>
                      <a:pt x="4268" y="155"/>
                    </a:lnTo>
                    <a:lnTo>
                      <a:pt x="4264" y="116"/>
                    </a:lnTo>
                    <a:lnTo>
                      <a:pt x="4261" y="77"/>
                    </a:lnTo>
                    <a:lnTo>
                      <a:pt x="4256" y="39"/>
                    </a:lnTo>
                    <a:lnTo>
                      <a:pt x="4252" y="0"/>
                    </a:lnTo>
                    <a:lnTo>
                      <a:pt x="4204" y="0"/>
                    </a:lnTo>
                    <a:lnTo>
                      <a:pt x="4184" y="10"/>
                    </a:lnTo>
                    <a:lnTo>
                      <a:pt x="4189" y="48"/>
                    </a:lnTo>
                    <a:lnTo>
                      <a:pt x="4193" y="85"/>
                    </a:lnTo>
                    <a:lnTo>
                      <a:pt x="4196" y="123"/>
                    </a:lnTo>
                    <a:lnTo>
                      <a:pt x="4199" y="160"/>
                    </a:lnTo>
                    <a:lnTo>
                      <a:pt x="4201" y="199"/>
                    </a:lnTo>
                    <a:lnTo>
                      <a:pt x="4202" y="237"/>
                    </a:lnTo>
                    <a:lnTo>
                      <a:pt x="4204" y="276"/>
                    </a:lnTo>
                    <a:lnTo>
                      <a:pt x="4205" y="314"/>
                    </a:lnTo>
                    <a:lnTo>
                      <a:pt x="4201" y="429"/>
                    </a:lnTo>
                    <a:lnTo>
                      <a:pt x="4193" y="543"/>
                    </a:lnTo>
                    <a:lnTo>
                      <a:pt x="4178" y="654"/>
                    </a:lnTo>
                    <a:lnTo>
                      <a:pt x="4158" y="764"/>
                    </a:lnTo>
                    <a:lnTo>
                      <a:pt x="4134" y="872"/>
                    </a:lnTo>
                    <a:lnTo>
                      <a:pt x="4104" y="978"/>
                    </a:lnTo>
                    <a:lnTo>
                      <a:pt x="4069" y="1082"/>
                    </a:lnTo>
                    <a:lnTo>
                      <a:pt x="4028" y="1183"/>
                    </a:lnTo>
                    <a:lnTo>
                      <a:pt x="3984" y="1283"/>
                    </a:lnTo>
                    <a:lnTo>
                      <a:pt x="3934" y="1378"/>
                    </a:lnTo>
                    <a:lnTo>
                      <a:pt x="3881" y="1472"/>
                    </a:lnTo>
                    <a:lnTo>
                      <a:pt x="3822" y="1563"/>
                    </a:lnTo>
                    <a:lnTo>
                      <a:pt x="3760" y="1650"/>
                    </a:lnTo>
                    <a:lnTo>
                      <a:pt x="3694" y="1734"/>
                    </a:lnTo>
                    <a:lnTo>
                      <a:pt x="3623" y="1816"/>
                    </a:lnTo>
                    <a:lnTo>
                      <a:pt x="3550" y="1894"/>
                    </a:lnTo>
                    <a:lnTo>
                      <a:pt x="3472" y="1967"/>
                    </a:lnTo>
                    <a:lnTo>
                      <a:pt x="3390" y="2038"/>
                    </a:lnTo>
                    <a:lnTo>
                      <a:pt x="3306" y="2104"/>
                    </a:lnTo>
                    <a:lnTo>
                      <a:pt x="3219" y="2166"/>
                    </a:lnTo>
                    <a:lnTo>
                      <a:pt x="3127" y="2225"/>
                    </a:lnTo>
                    <a:lnTo>
                      <a:pt x="3034" y="2278"/>
                    </a:lnTo>
                    <a:lnTo>
                      <a:pt x="2938" y="2328"/>
                    </a:lnTo>
                    <a:lnTo>
                      <a:pt x="2838" y="2372"/>
                    </a:lnTo>
                    <a:lnTo>
                      <a:pt x="2737" y="2413"/>
                    </a:lnTo>
                    <a:lnTo>
                      <a:pt x="2633" y="2447"/>
                    </a:lnTo>
                    <a:lnTo>
                      <a:pt x="2527" y="2478"/>
                    </a:lnTo>
                    <a:lnTo>
                      <a:pt x="2419" y="2502"/>
                    </a:lnTo>
                    <a:lnTo>
                      <a:pt x="2308" y="2522"/>
                    </a:lnTo>
                    <a:lnTo>
                      <a:pt x="2197" y="2536"/>
                    </a:lnTo>
                    <a:lnTo>
                      <a:pt x="2083" y="2545"/>
                    </a:lnTo>
                    <a:lnTo>
                      <a:pt x="1968" y="2548"/>
                    </a:lnTo>
                    <a:lnTo>
                      <a:pt x="1893" y="2546"/>
                    </a:lnTo>
                    <a:lnTo>
                      <a:pt x="1819" y="2543"/>
                    </a:lnTo>
                    <a:lnTo>
                      <a:pt x="1745" y="2536"/>
                    </a:lnTo>
                    <a:lnTo>
                      <a:pt x="1672" y="2528"/>
                    </a:lnTo>
                    <a:lnTo>
                      <a:pt x="1600" y="2518"/>
                    </a:lnTo>
                    <a:lnTo>
                      <a:pt x="1528" y="2505"/>
                    </a:lnTo>
                    <a:lnTo>
                      <a:pt x="1458" y="2489"/>
                    </a:lnTo>
                    <a:lnTo>
                      <a:pt x="1389" y="2471"/>
                    </a:lnTo>
                    <a:lnTo>
                      <a:pt x="1319" y="2452"/>
                    </a:lnTo>
                    <a:lnTo>
                      <a:pt x="1251" y="2430"/>
                    </a:lnTo>
                    <a:lnTo>
                      <a:pt x="1185" y="2406"/>
                    </a:lnTo>
                    <a:lnTo>
                      <a:pt x="1118" y="2381"/>
                    </a:lnTo>
                    <a:lnTo>
                      <a:pt x="1053" y="2353"/>
                    </a:lnTo>
                    <a:lnTo>
                      <a:pt x="989" y="2322"/>
                    </a:lnTo>
                    <a:lnTo>
                      <a:pt x="926" y="2291"/>
                    </a:lnTo>
                    <a:lnTo>
                      <a:pt x="865" y="2257"/>
                    </a:lnTo>
                    <a:lnTo>
                      <a:pt x="804" y="2221"/>
                    </a:lnTo>
                    <a:lnTo>
                      <a:pt x="745" y="2185"/>
                    </a:lnTo>
                    <a:lnTo>
                      <a:pt x="687" y="2145"/>
                    </a:lnTo>
                    <a:lnTo>
                      <a:pt x="631" y="2104"/>
                    </a:lnTo>
                    <a:lnTo>
                      <a:pt x="575" y="2062"/>
                    </a:lnTo>
                    <a:lnTo>
                      <a:pt x="521" y="2017"/>
                    </a:lnTo>
                    <a:lnTo>
                      <a:pt x="469" y="1972"/>
                    </a:lnTo>
                    <a:lnTo>
                      <a:pt x="418" y="1923"/>
                    </a:lnTo>
                    <a:lnTo>
                      <a:pt x="369" y="1875"/>
                    </a:lnTo>
                    <a:lnTo>
                      <a:pt x="321" y="1825"/>
                    </a:lnTo>
                    <a:lnTo>
                      <a:pt x="274" y="1772"/>
                    </a:lnTo>
                    <a:lnTo>
                      <a:pt x="230" y="1719"/>
                    </a:lnTo>
                    <a:lnTo>
                      <a:pt x="187" y="1664"/>
                    </a:lnTo>
                    <a:lnTo>
                      <a:pt x="145" y="1607"/>
                    </a:lnTo>
                    <a:lnTo>
                      <a:pt x="105" y="1549"/>
                    </a:lnTo>
                    <a:lnTo>
                      <a:pt x="67" y="1491"/>
                    </a:lnTo>
                    <a:lnTo>
                      <a:pt x="49" y="1497"/>
                    </a:lnTo>
                    <a:lnTo>
                      <a:pt x="0" y="1513"/>
                    </a:lnTo>
                    <a:lnTo>
                      <a:pt x="39" y="1574"/>
                    </a:lnTo>
                    <a:lnTo>
                      <a:pt x="80" y="1635"/>
                    </a:lnTo>
                    <a:lnTo>
                      <a:pt x="122" y="1693"/>
                    </a:lnTo>
                    <a:lnTo>
                      <a:pt x="167" y="1750"/>
                    </a:lnTo>
                    <a:lnTo>
                      <a:pt x="213" y="1806"/>
                    </a:lnTo>
                    <a:lnTo>
                      <a:pt x="261" y="1860"/>
                    </a:lnTo>
                    <a:lnTo>
                      <a:pt x="310" y="1913"/>
                    </a:lnTo>
                    <a:lnTo>
                      <a:pt x="362" y="1964"/>
                    </a:lnTo>
                    <a:lnTo>
                      <a:pt x="414" y="2014"/>
                    </a:lnTo>
                    <a:lnTo>
                      <a:pt x="468" y="2062"/>
                    </a:lnTo>
                    <a:lnTo>
                      <a:pt x="524" y="2108"/>
                    </a:lnTo>
                    <a:lnTo>
                      <a:pt x="581" y="2153"/>
                    </a:lnTo>
                    <a:lnTo>
                      <a:pt x="639" y="2195"/>
                    </a:lnTo>
                    <a:lnTo>
                      <a:pt x="700" y="2236"/>
                    </a:lnTo>
                    <a:lnTo>
                      <a:pt x="761" y="2276"/>
                    </a:lnTo>
                    <a:lnTo>
                      <a:pt x="823" y="2313"/>
                    </a:lnTo>
                    <a:lnTo>
                      <a:pt x="887" y="2349"/>
                    </a:lnTo>
                    <a:lnTo>
                      <a:pt x="952" y="2381"/>
                    </a:lnTo>
                    <a:lnTo>
                      <a:pt x="1019" y="2413"/>
                    </a:lnTo>
                    <a:lnTo>
                      <a:pt x="1086" y="2442"/>
                    </a:lnTo>
                    <a:lnTo>
                      <a:pt x="1154" y="2469"/>
                    </a:lnTo>
                    <a:lnTo>
                      <a:pt x="1224" y="2493"/>
                    </a:lnTo>
                    <a:lnTo>
                      <a:pt x="1295" y="2517"/>
                    </a:lnTo>
                    <a:lnTo>
                      <a:pt x="1367" y="2538"/>
                    </a:lnTo>
                    <a:lnTo>
                      <a:pt x="1438" y="2555"/>
                    </a:lnTo>
                    <a:lnTo>
                      <a:pt x="1512" y="2571"/>
                    </a:lnTo>
                    <a:lnTo>
                      <a:pt x="1586" y="2585"/>
                    </a:lnTo>
                    <a:lnTo>
                      <a:pt x="1661" y="2596"/>
                    </a:lnTo>
                    <a:lnTo>
                      <a:pt x="1737" y="2605"/>
                    </a:lnTo>
                    <a:lnTo>
                      <a:pt x="1813" y="2611"/>
                    </a:lnTo>
                    <a:lnTo>
                      <a:pt x="1890" y="2615"/>
                    </a:lnTo>
                    <a:lnTo>
                      <a:pt x="1968" y="2616"/>
                    </a:lnTo>
                    <a:lnTo>
                      <a:pt x="2087" y="2613"/>
                    </a:lnTo>
                    <a:lnTo>
                      <a:pt x="2204" y="2605"/>
                    </a:lnTo>
                    <a:lnTo>
                      <a:pt x="2319" y="2590"/>
                    </a:lnTo>
                    <a:lnTo>
                      <a:pt x="2432" y="2570"/>
                    </a:lnTo>
                    <a:lnTo>
                      <a:pt x="2544" y="2544"/>
                    </a:lnTo>
                    <a:lnTo>
                      <a:pt x="2653" y="2513"/>
                    </a:lnTo>
                    <a:lnTo>
                      <a:pt x="2760" y="2477"/>
                    </a:lnTo>
                    <a:lnTo>
                      <a:pt x="2865" y="2436"/>
                    </a:lnTo>
                    <a:lnTo>
                      <a:pt x="2967" y="2389"/>
                    </a:lnTo>
                    <a:lnTo>
                      <a:pt x="3066" y="2338"/>
                    </a:lnTo>
                    <a:lnTo>
                      <a:pt x="3163" y="2283"/>
                    </a:lnTo>
                    <a:lnTo>
                      <a:pt x="3256" y="2224"/>
                    </a:lnTo>
                    <a:lnTo>
                      <a:pt x="3347" y="2158"/>
                    </a:lnTo>
                    <a:lnTo>
                      <a:pt x="3434" y="2090"/>
                    </a:lnTo>
                    <a:lnTo>
                      <a:pt x="3518" y="2018"/>
                    </a:lnTo>
                    <a:lnTo>
                      <a:pt x="3598" y="1942"/>
                    </a:lnTo>
                    <a:lnTo>
                      <a:pt x="3674" y="1862"/>
                    </a:lnTo>
                    <a:lnTo>
                      <a:pt x="3746" y="1778"/>
                    </a:lnTo>
                    <a:lnTo>
                      <a:pt x="3815" y="1691"/>
                    </a:lnTo>
                    <a:lnTo>
                      <a:pt x="3880" y="1601"/>
                    </a:lnTo>
                    <a:lnTo>
                      <a:pt x="3940" y="1507"/>
                    </a:lnTo>
                    <a:lnTo>
                      <a:pt x="3994" y="1411"/>
                    </a:lnTo>
                    <a:lnTo>
                      <a:pt x="4046" y="1312"/>
                    </a:lnTo>
                    <a:lnTo>
                      <a:pt x="4092" y="1210"/>
                    </a:lnTo>
                    <a:lnTo>
                      <a:pt x="4133" y="1105"/>
                    </a:lnTo>
                    <a:lnTo>
                      <a:pt x="4170" y="998"/>
                    </a:lnTo>
                    <a:lnTo>
                      <a:pt x="4200" y="889"/>
                    </a:lnTo>
                    <a:lnTo>
                      <a:pt x="4227" y="778"/>
                    </a:lnTo>
                    <a:lnTo>
                      <a:pt x="4247" y="664"/>
                    </a:lnTo>
                    <a:lnTo>
                      <a:pt x="4261" y="550"/>
                    </a:lnTo>
                    <a:lnTo>
                      <a:pt x="4270" y="432"/>
                    </a:lnTo>
                    <a:lnTo>
                      <a:pt x="4273" y="31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057480" y="2894040"/>
                <a:ext cx="1335240" cy="819000"/>
              </a:xfrm>
              <a:custGeom>
                <a:avLst/>
                <a:gdLst/>
                <a:ahLst/>
                <a:rect l="l" t="t" r="r" b="b"/>
                <a:pathLst>
                  <a:path w="4204" h="2582">
                    <a:moveTo>
                      <a:pt x="4204" y="314"/>
                    </a:moveTo>
                    <a:lnTo>
                      <a:pt x="4204" y="274"/>
                    </a:lnTo>
                    <a:lnTo>
                      <a:pt x="4203" y="234"/>
                    </a:lnTo>
                    <a:lnTo>
                      <a:pt x="4201" y="195"/>
                    </a:lnTo>
                    <a:lnTo>
                      <a:pt x="4199" y="155"/>
                    </a:lnTo>
                    <a:lnTo>
                      <a:pt x="4196" y="116"/>
                    </a:lnTo>
                    <a:lnTo>
                      <a:pt x="4193" y="77"/>
                    </a:lnTo>
                    <a:lnTo>
                      <a:pt x="4187" y="39"/>
                    </a:lnTo>
                    <a:lnTo>
                      <a:pt x="4183" y="0"/>
                    </a:lnTo>
                    <a:lnTo>
                      <a:pt x="4170" y="0"/>
                    </a:lnTo>
                    <a:lnTo>
                      <a:pt x="4117" y="27"/>
                    </a:lnTo>
                    <a:lnTo>
                      <a:pt x="4121" y="63"/>
                    </a:lnTo>
                    <a:lnTo>
                      <a:pt x="4125" y="98"/>
                    </a:lnTo>
                    <a:lnTo>
                      <a:pt x="4129" y="133"/>
                    </a:lnTo>
                    <a:lnTo>
                      <a:pt x="4132" y="170"/>
                    </a:lnTo>
                    <a:lnTo>
                      <a:pt x="4133" y="205"/>
                    </a:lnTo>
                    <a:lnTo>
                      <a:pt x="4135" y="241"/>
                    </a:lnTo>
                    <a:lnTo>
                      <a:pt x="4136" y="278"/>
                    </a:lnTo>
                    <a:lnTo>
                      <a:pt x="4136" y="314"/>
                    </a:lnTo>
                    <a:lnTo>
                      <a:pt x="4133" y="427"/>
                    </a:lnTo>
                    <a:lnTo>
                      <a:pt x="4124" y="538"/>
                    </a:lnTo>
                    <a:lnTo>
                      <a:pt x="4111" y="649"/>
                    </a:lnTo>
                    <a:lnTo>
                      <a:pt x="4091" y="757"/>
                    </a:lnTo>
                    <a:lnTo>
                      <a:pt x="4067" y="864"/>
                    </a:lnTo>
                    <a:lnTo>
                      <a:pt x="4037" y="968"/>
                    </a:lnTo>
                    <a:lnTo>
                      <a:pt x="4002" y="1071"/>
                    </a:lnTo>
                    <a:lnTo>
                      <a:pt x="3962" y="1170"/>
                    </a:lnTo>
                    <a:lnTo>
                      <a:pt x="3918" y="1267"/>
                    </a:lnTo>
                    <a:lnTo>
                      <a:pt x="3870" y="1363"/>
                    </a:lnTo>
                    <a:lnTo>
                      <a:pt x="3817" y="1454"/>
                    </a:lnTo>
                    <a:lnTo>
                      <a:pt x="3760" y="1543"/>
                    </a:lnTo>
                    <a:lnTo>
                      <a:pt x="3699" y="1630"/>
                    </a:lnTo>
                    <a:lnTo>
                      <a:pt x="3633" y="1713"/>
                    </a:lnTo>
                    <a:lnTo>
                      <a:pt x="3564" y="1793"/>
                    </a:lnTo>
                    <a:lnTo>
                      <a:pt x="3490" y="1869"/>
                    </a:lnTo>
                    <a:lnTo>
                      <a:pt x="3415" y="1942"/>
                    </a:lnTo>
                    <a:lnTo>
                      <a:pt x="3335" y="2011"/>
                    </a:lnTo>
                    <a:lnTo>
                      <a:pt x="3252" y="2077"/>
                    </a:lnTo>
                    <a:lnTo>
                      <a:pt x="3165" y="2137"/>
                    </a:lnTo>
                    <a:lnTo>
                      <a:pt x="3075" y="2195"/>
                    </a:lnTo>
                    <a:lnTo>
                      <a:pt x="2984" y="2248"/>
                    </a:lnTo>
                    <a:lnTo>
                      <a:pt x="2888" y="2296"/>
                    </a:lnTo>
                    <a:lnTo>
                      <a:pt x="2791" y="2340"/>
                    </a:lnTo>
                    <a:lnTo>
                      <a:pt x="2692" y="2380"/>
                    </a:lnTo>
                    <a:lnTo>
                      <a:pt x="2589" y="2415"/>
                    </a:lnTo>
                    <a:lnTo>
                      <a:pt x="2485" y="2444"/>
                    </a:lnTo>
                    <a:lnTo>
                      <a:pt x="2378" y="2468"/>
                    </a:lnTo>
                    <a:lnTo>
                      <a:pt x="2269" y="2488"/>
                    </a:lnTo>
                    <a:lnTo>
                      <a:pt x="2160" y="2502"/>
                    </a:lnTo>
                    <a:lnTo>
                      <a:pt x="2047" y="2510"/>
                    </a:lnTo>
                    <a:lnTo>
                      <a:pt x="1934" y="2513"/>
                    </a:lnTo>
                    <a:lnTo>
                      <a:pt x="1860" y="2512"/>
                    </a:lnTo>
                    <a:lnTo>
                      <a:pt x="1788" y="2508"/>
                    </a:lnTo>
                    <a:lnTo>
                      <a:pt x="1715" y="2503"/>
                    </a:lnTo>
                    <a:lnTo>
                      <a:pt x="1644" y="2494"/>
                    </a:lnTo>
                    <a:lnTo>
                      <a:pt x="1573" y="2484"/>
                    </a:lnTo>
                    <a:lnTo>
                      <a:pt x="1503" y="2471"/>
                    </a:lnTo>
                    <a:lnTo>
                      <a:pt x="1433" y="2457"/>
                    </a:lnTo>
                    <a:lnTo>
                      <a:pt x="1365" y="2439"/>
                    </a:lnTo>
                    <a:lnTo>
                      <a:pt x="1298" y="2420"/>
                    </a:lnTo>
                    <a:lnTo>
                      <a:pt x="1231" y="2399"/>
                    </a:lnTo>
                    <a:lnTo>
                      <a:pt x="1165" y="2376"/>
                    </a:lnTo>
                    <a:lnTo>
                      <a:pt x="1100" y="2350"/>
                    </a:lnTo>
                    <a:lnTo>
                      <a:pt x="1036" y="2323"/>
                    </a:lnTo>
                    <a:lnTo>
                      <a:pt x="974" y="2294"/>
                    </a:lnTo>
                    <a:lnTo>
                      <a:pt x="912" y="2262"/>
                    </a:lnTo>
                    <a:lnTo>
                      <a:pt x="852" y="2230"/>
                    </a:lnTo>
                    <a:lnTo>
                      <a:pt x="792" y="2195"/>
                    </a:lnTo>
                    <a:lnTo>
                      <a:pt x="734" y="2158"/>
                    </a:lnTo>
                    <a:lnTo>
                      <a:pt x="678" y="2120"/>
                    </a:lnTo>
                    <a:lnTo>
                      <a:pt x="622" y="2080"/>
                    </a:lnTo>
                    <a:lnTo>
                      <a:pt x="567" y="2038"/>
                    </a:lnTo>
                    <a:lnTo>
                      <a:pt x="515" y="1995"/>
                    </a:lnTo>
                    <a:lnTo>
                      <a:pt x="463" y="1950"/>
                    </a:lnTo>
                    <a:lnTo>
                      <a:pt x="413" y="1903"/>
                    </a:lnTo>
                    <a:lnTo>
                      <a:pt x="364" y="1855"/>
                    </a:lnTo>
                    <a:lnTo>
                      <a:pt x="317" y="1806"/>
                    </a:lnTo>
                    <a:lnTo>
                      <a:pt x="271" y="1755"/>
                    </a:lnTo>
                    <a:lnTo>
                      <a:pt x="227" y="1703"/>
                    </a:lnTo>
                    <a:lnTo>
                      <a:pt x="185" y="1649"/>
                    </a:lnTo>
                    <a:lnTo>
                      <a:pt x="144" y="1594"/>
                    </a:lnTo>
                    <a:lnTo>
                      <a:pt x="105" y="1538"/>
                    </a:lnTo>
                    <a:lnTo>
                      <a:pt x="67" y="1480"/>
                    </a:lnTo>
                    <a:lnTo>
                      <a:pt x="15" y="1497"/>
                    </a:lnTo>
                    <a:lnTo>
                      <a:pt x="0" y="1502"/>
                    </a:lnTo>
                    <a:lnTo>
                      <a:pt x="39" y="1562"/>
                    </a:lnTo>
                    <a:lnTo>
                      <a:pt x="79" y="1621"/>
                    </a:lnTo>
                    <a:lnTo>
                      <a:pt x="121" y="1679"/>
                    </a:lnTo>
                    <a:lnTo>
                      <a:pt x="165" y="1734"/>
                    </a:lnTo>
                    <a:lnTo>
                      <a:pt x="210" y="1789"/>
                    </a:lnTo>
                    <a:lnTo>
                      <a:pt x="257" y="1842"/>
                    </a:lnTo>
                    <a:lnTo>
                      <a:pt x="306" y="1894"/>
                    </a:lnTo>
                    <a:lnTo>
                      <a:pt x="356" y="1944"/>
                    </a:lnTo>
                    <a:lnTo>
                      <a:pt x="408" y="1993"/>
                    </a:lnTo>
                    <a:lnTo>
                      <a:pt x="461" y="2040"/>
                    </a:lnTo>
                    <a:lnTo>
                      <a:pt x="516" y="2085"/>
                    </a:lnTo>
                    <a:lnTo>
                      <a:pt x="572" y="2128"/>
                    </a:lnTo>
                    <a:lnTo>
                      <a:pt x="629" y="2170"/>
                    </a:lnTo>
                    <a:lnTo>
                      <a:pt x="688" y="2210"/>
                    </a:lnTo>
                    <a:lnTo>
                      <a:pt x="749" y="2249"/>
                    </a:lnTo>
                    <a:lnTo>
                      <a:pt x="810" y="2284"/>
                    </a:lnTo>
                    <a:lnTo>
                      <a:pt x="873" y="2319"/>
                    </a:lnTo>
                    <a:lnTo>
                      <a:pt x="937" y="2352"/>
                    </a:lnTo>
                    <a:lnTo>
                      <a:pt x="1002" y="2382"/>
                    </a:lnTo>
                    <a:lnTo>
                      <a:pt x="1069" y="2412"/>
                    </a:lnTo>
                    <a:lnTo>
                      <a:pt x="1135" y="2438"/>
                    </a:lnTo>
                    <a:lnTo>
                      <a:pt x="1203" y="2462"/>
                    </a:lnTo>
                    <a:lnTo>
                      <a:pt x="1273" y="2484"/>
                    </a:lnTo>
                    <a:lnTo>
                      <a:pt x="1343" y="2504"/>
                    </a:lnTo>
                    <a:lnTo>
                      <a:pt x="1415" y="2522"/>
                    </a:lnTo>
                    <a:lnTo>
                      <a:pt x="1486" y="2538"/>
                    </a:lnTo>
                    <a:lnTo>
                      <a:pt x="1559" y="2551"/>
                    </a:lnTo>
                    <a:lnTo>
                      <a:pt x="1633" y="2562"/>
                    </a:lnTo>
                    <a:lnTo>
                      <a:pt x="1707" y="2571"/>
                    </a:lnTo>
                    <a:lnTo>
                      <a:pt x="1782" y="2577"/>
                    </a:lnTo>
                    <a:lnTo>
                      <a:pt x="1858" y="2581"/>
                    </a:lnTo>
                    <a:lnTo>
                      <a:pt x="1934" y="2582"/>
                    </a:lnTo>
                    <a:lnTo>
                      <a:pt x="2051" y="2580"/>
                    </a:lnTo>
                    <a:lnTo>
                      <a:pt x="2166" y="2570"/>
                    </a:lnTo>
                    <a:lnTo>
                      <a:pt x="2280" y="2555"/>
                    </a:lnTo>
                    <a:lnTo>
                      <a:pt x="2392" y="2535"/>
                    </a:lnTo>
                    <a:lnTo>
                      <a:pt x="2501" y="2510"/>
                    </a:lnTo>
                    <a:lnTo>
                      <a:pt x="2610" y="2480"/>
                    </a:lnTo>
                    <a:lnTo>
                      <a:pt x="2715" y="2444"/>
                    </a:lnTo>
                    <a:lnTo>
                      <a:pt x="2818" y="2404"/>
                    </a:lnTo>
                    <a:lnTo>
                      <a:pt x="2919" y="2358"/>
                    </a:lnTo>
                    <a:lnTo>
                      <a:pt x="3016" y="2309"/>
                    </a:lnTo>
                    <a:lnTo>
                      <a:pt x="3111" y="2254"/>
                    </a:lnTo>
                    <a:lnTo>
                      <a:pt x="3204" y="2194"/>
                    </a:lnTo>
                    <a:lnTo>
                      <a:pt x="3293" y="2131"/>
                    </a:lnTo>
                    <a:lnTo>
                      <a:pt x="3378" y="2064"/>
                    </a:lnTo>
                    <a:lnTo>
                      <a:pt x="3461" y="1993"/>
                    </a:lnTo>
                    <a:lnTo>
                      <a:pt x="3540" y="1918"/>
                    </a:lnTo>
                    <a:lnTo>
                      <a:pt x="3615" y="1839"/>
                    </a:lnTo>
                    <a:lnTo>
                      <a:pt x="3686" y="1756"/>
                    </a:lnTo>
                    <a:lnTo>
                      <a:pt x="3753" y="1671"/>
                    </a:lnTo>
                    <a:lnTo>
                      <a:pt x="3816" y="1582"/>
                    </a:lnTo>
                    <a:lnTo>
                      <a:pt x="3876" y="1490"/>
                    </a:lnTo>
                    <a:lnTo>
                      <a:pt x="3931" y="1395"/>
                    </a:lnTo>
                    <a:lnTo>
                      <a:pt x="3980" y="1297"/>
                    </a:lnTo>
                    <a:lnTo>
                      <a:pt x="4027" y="1197"/>
                    </a:lnTo>
                    <a:lnTo>
                      <a:pt x="4067" y="1094"/>
                    </a:lnTo>
                    <a:lnTo>
                      <a:pt x="4102" y="989"/>
                    </a:lnTo>
                    <a:lnTo>
                      <a:pt x="4133" y="881"/>
                    </a:lnTo>
                    <a:lnTo>
                      <a:pt x="4158" y="771"/>
                    </a:lnTo>
                    <a:lnTo>
                      <a:pt x="4178" y="659"/>
                    </a:lnTo>
                    <a:lnTo>
                      <a:pt x="4193" y="546"/>
                    </a:lnTo>
                    <a:lnTo>
                      <a:pt x="4202" y="430"/>
                    </a:lnTo>
                    <a:lnTo>
                      <a:pt x="4204" y="31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068640" y="2897280"/>
                <a:ext cx="1312920" cy="804600"/>
              </a:xfrm>
              <a:custGeom>
                <a:avLst/>
                <a:gdLst/>
                <a:ahLst/>
                <a:rect l="l" t="t" r="r" b="b"/>
                <a:pathLst>
                  <a:path w="4138" h="2538">
                    <a:moveTo>
                      <a:pt x="4138" y="304"/>
                    </a:moveTo>
                    <a:lnTo>
                      <a:pt x="4137" y="266"/>
                    </a:lnTo>
                    <a:lnTo>
                      <a:pt x="4135" y="227"/>
                    </a:lnTo>
                    <a:lnTo>
                      <a:pt x="4134" y="189"/>
                    </a:lnTo>
                    <a:lnTo>
                      <a:pt x="4132" y="150"/>
                    </a:lnTo>
                    <a:lnTo>
                      <a:pt x="4129" y="113"/>
                    </a:lnTo>
                    <a:lnTo>
                      <a:pt x="4126" y="75"/>
                    </a:lnTo>
                    <a:lnTo>
                      <a:pt x="4122" y="38"/>
                    </a:lnTo>
                    <a:lnTo>
                      <a:pt x="4117" y="0"/>
                    </a:lnTo>
                    <a:lnTo>
                      <a:pt x="4080" y="19"/>
                    </a:lnTo>
                    <a:lnTo>
                      <a:pt x="4050" y="19"/>
                    </a:lnTo>
                    <a:lnTo>
                      <a:pt x="4055" y="55"/>
                    </a:lnTo>
                    <a:lnTo>
                      <a:pt x="4058" y="89"/>
                    </a:lnTo>
                    <a:lnTo>
                      <a:pt x="4061" y="125"/>
                    </a:lnTo>
                    <a:lnTo>
                      <a:pt x="4064" y="161"/>
                    </a:lnTo>
                    <a:lnTo>
                      <a:pt x="4066" y="197"/>
                    </a:lnTo>
                    <a:lnTo>
                      <a:pt x="4067" y="232"/>
                    </a:lnTo>
                    <a:lnTo>
                      <a:pt x="4068" y="268"/>
                    </a:lnTo>
                    <a:lnTo>
                      <a:pt x="4068" y="304"/>
                    </a:lnTo>
                    <a:lnTo>
                      <a:pt x="4066" y="415"/>
                    </a:lnTo>
                    <a:lnTo>
                      <a:pt x="4058" y="525"/>
                    </a:lnTo>
                    <a:lnTo>
                      <a:pt x="4043" y="633"/>
                    </a:lnTo>
                    <a:lnTo>
                      <a:pt x="4024" y="740"/>
                    </a:lnTo>
                    <a:lnTo>
                      <a:pt x="4000" y="845"/>
                    </a:lnTo>
                    <a:lnTo>
                      <a:pt x="3972" y="947"/>
                    </a:lnTo>
                    <a:lnTo>
                      <a:pt x="3937" y="1048"/>
                    </a:lnTo>
                    <a:lnTo>
                      <a:pt x="3898" y="1147"/>
                    </a:lnTo>
                    <a:lnTo>
                      <a:pt x="3855" y="1242"/>
                    </a:lnTo>
                    <a:lnTo>
                      <a:pt x="3806" y="1336"/>
                    </a:lnTo>
                    <a:lnTo>
                      <a:pt x="3755" y="1427"/>
                    </a:lnTo>
                    <a:lnTo>
                      <a:pt x="3698" y="1514"/>
                    </a:lnTo>
                    <a:lnTo>
                      <a:pt x="3638" y="1599"/>
                    </a:lnTo>
                    <a:lnTo>
                      <a:pt x="3573" y="1681"/>
                    </a:lnTo>
                    <a:lnTo>
                      <a:pt x="3506" y="1760"/>
                    </a:lnTo>
                    <a:lnTo>
                      <a:pt x="3433" y="1835"/>
                    </a:lnTo>
                    <a:lnTo>
                      <a:pt x="3359" y="1907"/>
                    </a:lnTo>
                    <a:lnTo>
                      <a:pt x="3280" y="1974"/>
                    </a:lnTo>
                    <a:lnTo>
                      <a:pt x="3198" y="2039"/>
                    </a:lnTo>
                    <a:lnTo>
                      <a:pt x="3113" y="2099"/>
                    </a:lnTo>
                    <a:lnTo>
                      <a:pt x="3024" y="2156"/>
                    </a:lnTo>
                    <a:lnTo>
                      <a:pt x="2934" y="2207"/>
                    </a:lnTo>
                    <a:lnTo>
                      <a:pt x="2840" y="2256"/>
                    </a:lnTo>
                    <a:lnTo>
                      <a:pt x="2745" y="2299"/>
                    </a:lnTo>
                    <a:lnTo>
                      <a:pt x="2646" y="2337"/>
                    </a:lnTo>
                    <a:lnTo>
                      <a:pt x="2545" y="2372"/>
                    </a:lnTo>
                    <a:lnTo>
                      <a:pt x="2443" y="2400"/>
                    </a:lnTo>
                    <a:lnTo>
                      <a:pt x="2338" y="2425"/>
                    </a:lnTo>
                    <a:lnTo>
                      <a:pt x="2231" y="2444"/>
                    </a:lnTo>
                    <a:lnTo>
                      <a:pt x="2123" y="2458"/>
                    </a:lnTo>
                    <a:lnTo>
                      <a:pt x="2012" y="2466"/>
                    </a:lnTo>
                    <a:lnTo>
                      <a:pt x="1901" y="2469"/>
                    </a:lnTo>
                    <a:lnTo>
                      <a:pt x="1829" y="2468"/>
                    </a:lnTo>
                    <a:lnTo>
                      <a:pt x="1758" y="2465"/>
                    </a:lnTo>
                    <a:lnTo>
                      <a:pt x="1686" y="2458"/>
                    </a:lnTo>
                    <a:lnTo>
                      <a:pt x="1617" y="2451"/>
                    </a:lnTo>
                    <a:lnTo>
                      <a:pt x="1547" y="2440"/>
                    </a:lnTo>
                    <a:lnTo>
                      <a:pt x="1478" y="2428"/>
                    </a:lnTo>
                    <a:lnTo>
                      <a:pt x="1410" y="2413"/>
                    </a:lnTo>
                    <a:lnTo>
                      <a:pt x="1343" y="2396"/>
                    </a:lnTo>
                    <a:lnTo>
                      <a:pt x="1276" y="2377"/>
                    </a:lnTo>
                    <a:lnTo>
                      <a:pt x="1211" y="2357"/>
                    </a:lnTo>
                    <a:lnTo>
                      <a:pt x="1147" y="2334"/>
                    </a:lnTo>
                    <a:lnTo>
                      <a:pt x="1083" y="2309"/>
                    </a:lnTo>
                    <a:lnTo>
                      <a:pt x="1021" y="2283"/>
                    </a:lnTo>
                    <a:lnTo>
                      <a:pt x="959" y="2255"/>
                    </a:lnTo>
                    <a:lnTo>
                      <a:pt x="898" y="2224"/>
                    </a:lnTo>
                    <a:lnTo>
                      <a:pt x="839" y="2192"/>
                    </a:lnTo>
                    <a:lnTo>
                      <a:pt x="780" y="2158"/>
                    </a:lnTo>
                    <a:lnTo>
                      <a:pt x="724" y="2122"/>
                    </a:lnTo>
                    <a:lnTo>
                      <a:pt x="668" y="2084"/>
                    </a:lnTo>
                    <a:lnTo>
                      <a:pt x="613" y="2046"/>
                    </a:lnTo>
                    <a:lnTo>
                      <a:pt x="560" y="2005"/>
                    </a:lnTo>
                    <a:lnTo>
                      <a:pt x="508" y="1963"/>
                    </a:lnTo>
                    <a:lnTo>
                      <a:pt x="458" y="1919"/>
                    </a:lnTo>
                    <a:lnTo>
                      <a:pt x="408" y="1872"/>
                    </a:lnTo>
                    <a:lnTo>
                      <a:pt x="360" y="1826"/>
                    </a:lnTo>
                    <a:lnTo>
                      <a:pt x="314" y="1778"/>
                    </a:lnTo>
                    <a:lnTo>
                      <a:pt x="268" y="1727"/>
                    </a:lnTo>
                    <a:lnTo>
                      <a:pt x="225" y="1676"/>
                    </a:lnTo>
                    <a:lnTo>
                      <a:pt x="183" y="1625"/>
                    </a:lnTo>
                    <a:lnTo>
                      <a:pt x="143" y="1570"/>
                    </a:lnTo>
                    <a:lnTo>
                      <a:pt x="104" y="1515"/>
                    </a:lnTo>
                    <a:lnTo>
                      <a:pt x="68" y="1459"/>
                    </a:lnTo>
                    <a:lnTo>
                      <a:pt x="67" y="1460"/>
                    </a:lnTo>
                    <a:lnTo>
                      <a:pt x="0" y="1481"/>
                    </a:lnTo>
                    <a:lnTo>
                      <a:pt x="38" y="1539"/>
                    </a:lnTo>
                    <a:lnTo>
                      <a:pt x="78" y="1597"/>
                    </a:lnTo>
                    <a:lnTo>
                      <a:pt x="119" y="1654"/>
                    </a:lnTo>
                    <a:lnTo>
                      <a:pt x="163" y="1709"/>
                    </a:lnTo>
                    <a:lnTo>
                      <a:pt x="207" y="1762"/>
                    </a:lnTo>
                    <a:lnTo>
                      <a:pt x="254" y="1815"/>
                    </a:lnTo>
                    <a:lnTo>
                      <a:pt x="302" y="1865"/>
                    </a:lnTo>
                    <a:lnTo>
                      <a:pt x="351" y="1913"/>
                    </a:lnTo>
                    <a:lnTo>
                      <a:pt x="402" y="1962"/>
                    </a:lnTo>
                    <a:lnTo>
                      <a:pt x="454" y="2007"/>
                    </a:lnTo>
                    <a:lnTo>
                      <a:pt x="508" y="2052"/>
                    </a:lnTo>
                    <a:lnTo>
                      <a:pt x="564" y="2094"/>
                    </a:lnTo>
                    <a:lnTo>
                      <a:pt x="620" y="2135"/>
                    </a:lnTo>
                    <a:lnTo>
                      <a:pt x="678" y="2175"/>
                    </a:lnTo>
                    <a:lnTo>
                      <a:pt x="737" y="2211"/>
                    </a:lnTo>
                    <a:lnTo>
                      <a:pt x="798" y="2247"/>
                    </a:lnTo>
                    <a:lnTo>
                      <a:pt x="859" y="2281"/>
                    </a:lnTo>
                    <a:lnTo>
                      <a:pt x="922" y="2312"/>
                    </a:lnTo>
                    <a:lnTo>
                      <a:pt x="986" y="2343"/>
                    </a:lnTo>
                    <a:lnTo>
                      <a:pt x="1051" y="2371"/>
                    </a:lnTo>
                    <a:lnTo>
                      <a:pt x="1118" y="2396"/>
                    </a:lnTo>
                    <a:lnTo>
                      <a:pt x="1184" y="2420"/>
                    </a:lnTo>
                    <a:lnTo>
                      <a:pt x="1252" y="2442"/>
                    </a:lnTo>
                    <a:lnTo>
                      <a:pt x="1322" y="2461"/>
                    </a:lnTo>
                    <a:lnTo>
                      <a:pt x="1391" y="2479"/>
                    </a:lnTo>
                    <a:lnTo>
                      <a:pt x="1461" y="2495"/>
                    </a:lnTo>
                    <a:lnTo>
                      <a:pt x="1533" y="2508"/>
                    </a:lnTo>
                    <a:lnTo>
                      <a:pt x="1605" y="2518"/>
                    </a:lnTo>
                    <a:lnTo>
                      <a:pt x="1678" y="2526"/>
                    </a:lnTo>
                    <a:lnTo>
                      <a:pt x="1752" y="2533"/>
                    </a:lnTo>
                    <a:lnTo>
                      <a:pt x="1826" y="2536"/>
                    </a:lnTo>
                    <a:lnTo>
                      <a:pt x="1901" y="2538"/>
                    </a:lnTo>
                    <a:lnTo>
                      <a:pt x="2016" y="2535"/>
                    </a:lnTo>
                    <a:lnTo>
                      <a:pt x="2130" y="2526"/>
                    </a:lnTo>
                    <a:lnTo>
                      <a:pt x="2241" y="2512"/>
                    </a:lnTo>
                    <a:lnTo>
                      <a:pt x="2352" y="2492"/>
                    </a:lnTo>
                    <a:lnTo>
                      <a:pt x="2460" y="2468"/>
                    </a:lnTo>
                    <a:lnTo>
                      <a:pt x="2566" y="2437"/>
                    </a:lnTo>
                    <a:lnTo>
                      <a:pt x="2670" y="2403"/>
                    </a:lnTo>
                    <a:lnTo>
                      <a:pt x="2771" y="2362"/>
                    </a:lnTo>
                    <a:lnTo>
                      <a:pt x="2871" y="2318"/>
                    </a:lnTo>
                    <a:lnTo>
                      <a:pt x="2967" y="2268"/>
                    </a:lnTo>
                    <a:lnTo>
                      <a:pt x="3060" y="2215"/>
                    </a:lnTo>
                    <a:lnTo>
                      <a:pt x="3152" y="2156"/>
                    </a:lnTo>
                    <a:lnTo>
                      <a:pt x="3239" y="2094"/>
                    </a:lnTo>
                    <a:lnTo>
                      <a:pt x="3323" y="2028"/>
                    </a:lnTo>
                    <a:lnTo>
                      <a:pt x="3405" y="1957"/>
                    </a:lnTo>
                    <a:lnTo>
                      <a:pt x="3483" y="1884"/>
                    </a:lnTo>
                    <a:lnTo>
                      <a:pt x="3556" y="1806"/>
                    </a:lnTo>
                    <a:lnTo>
                      <a:pt x="3627" y="1724"/>
                    </a:lnTo>
                    <a:lnTo>
                      <a:pt x="3693" y="1640"/>
                    </a:lnTo>
                    <a:lnTo>
                      <a:pt x="3755" y="1553"/>
                    </a:lnTo>
                    <a:lnTo>
                      <a:pt x="3814" y="1462"/>
                    </a:lnTo>
                    <a:lnTo>
                      <a:pt x="3867" y="1368"/>
                    </a:lnTo>
                    <a:lnTo>
                      <a:pt x="3917" y="1273"/>
                    </a:lnTo>
                    <a:lnTo>
                      <a:pt x="3962" y="1173"/>
                    </a:lnTo>
                    <a:lnTo>
                      <a:pt x="4002" y="1072"/>
                    </a:lnTo>
                    <a:lnTo>
                      <a:pt x="4037" y="968"/>
                    </a:lnTo>
                    <a:lnTo>
                      <a:pt x="4067" y="862"/>
                    </a:lnTo>
                    <a:lnTo>
                      <a:pt x="4091" y="754"/>
                    </a:lnTo>
                    <a:lnTo>
                      <a:pt x="4111" y="644"/>
                    </a:lnTo>
                    <a:lnTo>
                      <a:pt x="4126" y="533"/>
                    </a:lnTo>
                    <a:lnTo>
                      <a:pt x="4134" y="419"/>
                    </a:lnTo>
                    <a:lnTo>
                      <a:pt x="4138" y="30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079800" y="2901960"/>
                <a:ext cx="1290600" cy="789120"/>
              </a:xfrm>
              <a:custGeom>
                <a:avLst/>
                <a:gdLst/>
                <a:ahLst/>
                <a:rect l="l" t="t" r="r" b="b"/>
                <a:pathLst>
                  <a:path w="4068" h="2486">
                    <a:moveTo>
                      <a:pt x="4068" y="287"/>
                    </a:moveTo>
                    <a:lnTo>
                      <a:pt x="4068" y="251"/>
                    </a:lnTo>
                    <a:lnTo>
                      <a:pt x="4067" y="214"/>
                    </a:lnTo>
                    <a:lnTo>
                      <a:pt x="4065" y="178"/>
                    </a:lnTo>
                    <a:lnTo>
                      <a:pt x="4064" y="143"/>
                    </a:lnTo>
                    <a:lnTo>
                      <a:pt x="4061" y="106"/>
                    </a:lnTo>
                    <a:lnTo>
                      <a:pt x="4057" y="71"/>
                    </a:lnTo>
                    <a:lnTo>
                      <a:pt x="4053" y="36"/>
                    </a:lnTo>
                    <a:lnTo>
                      <a:pt x="4049" y="0"/>
                    </a:lnTo>
                    <a:lnTo>
                      <a:pt x="4045" y="2"/>
                    </a:lnTo>
                    <a:lnTo>
                      <a:pt x="3981" y="2"/>
                    </a:lnTo>
                    <a:lnTo>
                      <a:pt x="3985" y="38"/>
                    </a:lnTo>
                    <a:lnTo>
                      <a:pt x="3988" y="72"/>
                    </a:lnTo>
                    <a:lnTo>
                      <a:pt x="3991" y="108"/>
                    </a:lnTo>
                    <a:lnTo>
                      <a:pt x="3994" y="144"/>
                    </a:lnTo>
                    <a:lnTo>
                      <a:pt x="3996" y="180"/>
                    </a:lnTo>
                    <a:lnTo>
                      <a:pt x="3997" y="215"/>
                    </a:lnTo>
                    <a:lnTo>
                      <a:pt x="3999" y="251"/>
                    </a:lnTo>
                    <a:lnTo>
                      <a:pt x="4000" y="287"/>
                    </a:lnTo>
                    <a:lnTo>
                      <a:pt x="3996" y="397"/>
                    </a:lnTo>
                    <a:lnTo>
                      <a:pt x="3988" y="505"/>
                    </a:lnTo>
                    <a:lnTo>
                      <a:pt x="3974" y="611"/>
                    </a:lnTo>
                    <a:lnTo>
                      <a:pt x="3955" y="716"/>
                    </a:lnTo>
                    <a:lnTo>
                      <a:pt x="3932" y="819"/>
                    </a:lnTo>
                    <a:lnTo>
                      <a:pt x="3903" y="921"/>
                    </a:lnTo>
                    <a:lnTo>
                      <a:pt x="3869" y="1020"/>
                    </a:lnTo>
                    <a:lnTo>
                      <a:pt x="3831" y="1116"/>
                    </a:lnTo>
                    <a:lnTo>
                      <a:pt x="3788" y="1211"/>
                    </a:lnTo>
                    <a:lnTo>
                      <a:pt x="3742" y="1303"/>
                    </a:lnTo>
                    <a:lnTo>
                      <a:pt x="3691" y="1392"/>
                    </a:lnTo>
                    <a:lnTo>
                      <a:pt x="3635" y="1478"/>
                    </a:lnTo>
                    <a:lnTo>
                      <a:pt x="3575" y="1561"/>
                    </a:lnTo>
                    <a:lnTo>
                      <a:pt x="3512" y="1642"/>
                    </a:lnTo>
                    <a:lnTo>
                      <a:pt x="3445" y="1720"/>
                    </a:lnTo>
                    <a:lnTo>
                      <a:pt x="3374" y="1793"/>
                    </a:lnTo>
                    <a:lnTo>
                      <a:pt x="3301" y="1864"/>
                    </a:lnTo>
                    <a:lnTo>
                      <a:pt x="3223" y="1931"/>
                    </a:lnTo>
                    <a:lnTo>
                      <a:pt x="3142" y="1994"/>
                    </a:lnTo>
                    <a:lnTo>
                      <a:pt x="3059" y="2054"/>
                    </a:lnTo>
                    <a:lnTo>
                      <a:pt x="2972" y="2109"/>
                    </a:lnTo>
                    <a:lnTo>
                      <a:pt x="2882" y="2161"/>
                    </a:lnTo>
                    <a:lnTo>
                      <a:pt x="2791" y="2207"/>
                    </a:lnTo>
                    <a:lnTo>
                      <a:pt x="2696" y="2250"/>
                    </a:lnTo>
                    <a:lnTo>
                      <a:pt x="2599" y="2288"/>
                    </a:lnTo>
                    <a:lnTo>
                      <a:pt x="2501" y="2322"/>
                    </a:lnTo>
                    <a:lnTo>
                      <a:pt x="2399" y="2351"/>
                    </a:lnTo>
                    <a:lnTo>
                      <a:pt x="2296" y="2374"/>
                    </a:lnTo>
                    <a:lnTo>
                      <a:pt x="2191" y="2393"/>
                    </a:lnTo>
                    <a:lnTo>
                      <a:pt x="2084" y="2407"/>
                    </a:lnTo>
                    <a:lnTo>
                      <a:pt x="1976" y="2415"/>
                    </a:lnTo>
                    <a:lnTo>
                      <a:pt x="1866" y="2417"/>
                    </a:lnTo>
                    <a:lnTo>
                      <a:pt x="1795" y="2416"/>
                    </a:lnTo>
                    <a:lnTo>
                      <a:pt x="1725" y="2413"/>
                    </a:lnTo>
                    <a:lnTo>
                      <a:pt x="1656" y="2408"/>
                    </a:lnTo>
                    <a:lnTo>
                      <a:pt x="1586" y="2399"/>
                    </a:lnTo>
                    <a:lnTo>
                      <a:pt x="1518" y="2390"/>
                    </a:lnTo>
                    <a:lnTo>
                      <a:pt x="1450" y="2377"/>
                    </a:lnTo>
                    <a:lnTo>
                      <a:pt x="1383" y="2362"/>
                    </a:lnTo>
                    <a:lnTo>
                      <a:pt x="1317" y="2346"/>
                    </a:lnTo>
                    <a:lnTo>
                      <a:pt x="1252" y="2328"/>
                    </a:lnTo>
                    <a:lnTo>
                      <a:pt x="1187" y="2307"/>
                    </a:lnTo>
                    <a:lnTo>
                      <a:pt x="1124" y="2285"/>
                    </a:lnTo>
                    <a:lnTo>
                      <a:pt x="1061" y="2261"/>
                    </a:lnTo>
                    <a:lnTo>
                      <a:pt x="1000" y="2234"/>
                    </a:lnTo>
                    <a:lnTo>
                      <a:pt x="939" y="2206"/>
                    </a:lnTo>
                    <a:lnTo>
                      <a:pt x="879" y="2177"/>
                    </a:lnTo>
                    <a:lnTo>
                      <a:pt x="821" y="2144"/>
                    </a:lnTo>
                    <a:lnTo>
                      <a:pt x="763" y="2110"/>
                    </a:lnTo>
                    <a:lnTo>
                      <a:pt x="707" y="2076"/>
                    </a:lnTo>
                    <a:lnTo>
                      <a:pt x="652" y="2039"/>
                    </a:lnTo>
                    <a:lnTo>
                      <a:pt x="598" y="2000"/>
                    </a:lnTo>
                    <a:lnTo>
                      <a:pt x="546" y="1960"/>
                    </a:lnTo>
                    <a:lnTo>
                      <a:pt x="494" y="1918"/>
                    </a:lnTo>
                    <a:lnTo>
                      <a:pt x="445" y="1875"/>
                    </a:lnTo>
                    <a:lnTo>
                      <a:pt x="396" y="1830"/>
                    </a:lnTo>
                    <a:lnTo>
                      <a:pt x="349" y="1784"/>
                    </a:lnTo>
                    <a:lnTo>
                      <a:pt x="304" y="1737"/>
                    </a:lnTo>
                    <a:lnTo>
                      <a:pt x="260" y="1687"/>
                    </a:lnTo>
                    <a:lnTo>
                      <a:pt x="217" y="1637"/>
                    </a:lnTo>
                    <a:lnTo>
                      <a:pt x="176" y="1585"/>
                    </a:lnTo>
                    <a:lnTo>
                      <a:pt x="136" y="1533"/>
                    </a:lnTo>
                    <a:lnTo>
                      <a:pt x="98" y="1478"/>
                    </a:lnTo>
                    <a:lnTo>
                      <a:pt x="62" y="1423"/>
                    </a:lnTo>
                    <a:lnTo>
                      <a:pt x="32" y="1443"/>
                    </a:lnTo>
                    <a:lnTo>
                      <a:pt x="0" y="1453"/>
                    </a:lnTo>
                    <a:lnTo>
                      <a:pt x="37" y="1511"/>
                    </a:lnTo>
                    <a:lnTo>
                      <a:pt x="76" y="1567"/>
                    </a:lnTo>
                    <a:lnTo>
                      <a:pt x="117" y="1622"/>
                    </a:lnTo>
                    <a:lnTo>
                      <a:pt x="159" y="1676"/>
                    </a:lnTo>
                    <a:lnTo>
                      <a:pt x="203" y="1728"/>
                    </a:lnTo>
                    <a:lnTo>
                      <a:pt x="249" y="1779"/>
                    </a:lnTo>
                    <a:lnTo>
                      <a:pt x="296" y="1828"/>
                    </a:lnTo>
                    <a:lnTo>
                      <a:pt x="345" y="1876"/>
                    </a:lnTo>
                    <a:lnTo>
                      <a:pt x="395" y="1923"/>
                    </a:lnTo>
                    <a:lnTo>
                      <a:pt x="447" y="1968"/>
                    </a:lnTo>
                    <a:lnTo>
                      <a:pt x="499" y="2011"/>
                    </a:lnTo>
                    <a:lnTo>
                      <a:pt x="554" y="2053"/>
                    </a:lnTo>
                    <a:lnTo>
                      <a:pt x="610" y="2093"/>
                    </a:lnTo>
                    <a:lnTo>
                      <a:pt x="666" y="2131"/>
                    </a:lnTo>
                    <a:lnTo>
                      <a:pt x="724" y="2167"/>
                    </a:lnTo>
                    <a:lnTo>
                      <a:pt x="784" y="2203"/>
                    </a:lnTo>
                    <a:lnTo>
                      <a:pt x="844" y="2235"/>
                    </a:lnTo>
                    <a:lnTo>
                      <a:pt x="906" y="2267"/>
                    </a:lnTo>
                    <a:lnTo>
                      <a:pt x="968" y="2295"/>
                    </a:lnTo>
                    <a:lnTo>
                      <a:pt x="1032" y="2323"/>
                    </a:lnTo>
                    <a:lnTo>
                      <a:pt x="1097" y="2349"/>
                    </a:lnTo>
                    <a:lnTo>
                      <a:pt x="1163" y="2372"/>
                    </a:lnTo>
                    <a:lnTo>
                      <a:pt x="1230" y="2393"/>
                    </a:lnTo>
                    <a:lnTo>
                      <a:pt x="1297" y="2412"/>
                    </a:lnTo>
                    <a:lnTo>
                      <a:pt x="1365" y="2430"/>
                    </a:lnTo>
                    <a:lnTo>
                      <a:pt x="1435" y="2444"/>
                    </a:lnTo>
                    <a:lnTo>
                      <a:pt x="1505" y="2457"/>
                    </a:lnTo>
                    <a:lnTo>
                      <a:pt x="1576" y="2467"/>
                    </a:lnTo>
                    <a:lnTo>
                      <a:pt x="1647" y="2476"/>
                    </a:lnTo>
                    <a:lnTo>
                      <a:pt x="1720" y="2481"/>
                    </a:lnTo>
                    <a:lnTo>
                      <a:pt x="1792" y="2485"/>
                    </a:lnTo>
                    <a:lnTo>
                      <a:pt x="1866" y="2486"/>
                    </a:lnTo>
                    <a:lnTo>
                      <a:pt x="1979" y="2483"/>
                    </a:lnTo>
                    <a:lnTo>
                      <a:pt x="2092" y="2475"/>
                    </a:lnTo>
                    <a:lnTo>
                      <a:pt x="2201" y="2461"/>
                    </a:lnTo>
                    <a:lnTo>
                      <a:pt x="2310" y="2441"/>
                    </a:lnTo>
                    <a:lnTo>
                      <a:pt x="2417" y="2417"/>
                    </a:lnTo>
                    <a:lnTo>
                      <a:pt x="2521" y="2388"/>
                    </a:lnTo>
                    <a:lnTo>
                      <a:pt x="2624" y="2353"/>
                    </a:lnTo>
                    <a:lnTo>
                      <a:pt x="2723" y="2313"/>
                    </a:lnTo>
                    <a:lnTo>
                      <a:pt x="2820" y="2269"/>
                    </a:lnTo>
                    <a:lnTo>
                      <a:pt x="2916" y="2221"/>
                    </a:lnTo>
                    <a:lnTo>
                      <a:pt x="3007" y="2168"/>
                    </a:lnTo>
                    <a:lnTo>
                      <a:pt x="3097" y="2110"/>
                    </a:lnTo>
                    <a:lnTo>
                      <a:pt x="3184" y="2050"/>
                    </a:lnTo>
                    <a:lnTo>
                      <a:pt x="3267" y="1984"/>
                    </a:lnTo>
                    <a:lnTo>
                      <a:pt x="3347" y="1915"/>
                    </a:lnTo>
                    <a:lnTo>
                      <a:pt x="3422" y="1842"/>
                    </a:lnTo>
                    <a:lnTo>
                      <a:pt x="3496" y="1766"/>
                    </a:lnTo>
                    <a:lnTo>
                      <a:pt x="3565" y="1686"/>
                    </a:lnTo>
                    <a:lnTo>
                      <a:pt x="3631" y="1603"/>
                    </a:lnTo>
                    <a:lnTo>
                      <a:pt x="3692" y="1516"/>
                    </a:lnTo>
                    <a:lnTo>
                      <a:pt x="3749" y="1427"/>
                    </a:lnTo>
                    <a:lnTo>
                      <a:pt x="3802" y="1336"/>
                    </a:lnTo>
                    <a:lnTo>
                      <a:pt x="3850" y="1240"/>
                    </a:lnTo>
                    <a:lnTo>
                      <a:pt x="3894" y="1143"/>
                    </a:lnTo>
                    <a:lnTo>
                      <a:pt x="3934" y="1044"/>
                    </a:lnTo>
                    <a:lnTo>
                      <a:pt x="3969" y="941"/>
                    </a:lnTo>
                    <a:lnTo>
                      <a:pt x="3999" y="837"/>
                    </a:lnTo>
                    <a:lnTo>
                      <a:pt x="4023" y="730"/>
                    </a:lnTo>
                    <a:lnTo>
                      <a:pt x="4043" y="622"/>
                    </a:lnTo>
                    <a:lnTo>
                      <a:pt x="4056" y="511"/>
                    </a:lnTo>
                    <a:lnTo>
                      <a:pt x="4065" y="400"/>
                    </a:lnTo>
                    <a:lnTo>
                      <a:pt x="4068" y="287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089160" y="2901960"/>
                <a:ext cx="1270080" cy="777960"/>
              </a:xfrm>
              <a:custGeom>
                <a:avLst/>
                <a:gdLst/>
                <a:ahLst/>
                <a:rect l="l" t="t" r="r" b="b"/>
                <a:pathLst>
                  <a:path w="4000" h="2450">
                    <a:moveTo>
                      <a:pt x="4000" y="285"/>
                    </a:moveTo>
                    <a:lnTo>
                      <a:pt x="4000" y="249"/>
                    </a:lnTo>
                    <a:lnTo>
                      <a:pt x="3999" y="213"/>
                    </a:lnTo>
                    <a:lnTo>
                      <a:pt x="3998" y="178"/>
                    </a:lnTo>
                    <a:lnTo>
                      <a:pt x="3996" y="142"/>
                    </a:lnTo>
                    <a:lnTo>
                      <a:pt x="3993" y="106"/>
                    </a:lnTo>
                    <a:lnTo>
                      <a:pt x="3990" y="70"/>
                    </a:lnTo>
                    <a:lnTo>
                      <a:pt x="3987" y="36"/>
                    </a:lnTo>
                    <a:lnTo>
                      <a:pt x="3982" y="0"/>
                    </a:lnTo>
                    <a:lnTo>
                      <a:pt x="3928" y="0"/>
                    </a:lnTo>
                    <a:lnTo>
                      <a:pt x="3913" y="0"/>
                    </a:lnTo>
                    <a:lnTo>
                      <a:pt x="3917" y="36"/>
                    </a:lnTo>
                    <a:lnTo>
                      <a:pt x="3920" y="70"/>
                    </a:lnTo>
                    <a:lnTo>
                      <a:pt x="3923" y="106"/>
                    </a:lnTo>
                    <a:lnTo>
                      <a:pt x="3927" y="142"/>
                    </a:lnTo>
                    <a:lnTo>
                      <a:pt x="3929" y="178"/>
                    </a:lnTo>
                    <a:lnTo>
                      <a:pt x="3931" y="213"/>
                    </a:lnTo>
                    <a:lnTo>
                      <a:pt x="3931" y="249"/>
                    </a:lnTo>
                    <a:lnTo>
                      <a:pt x="3932" y="285"/>
                    </a:lnTo>
                    <a:lnTo>
                      <a:pt x="3929" y="393"/>
                    </a:lnTo>
                    <a:lnTo>
                      <a:pt x="3920" y="499"/>
                    </a:lnTo>
                    <a:lnTo>
                      <a:pt x="3908" y="604"/>
                    </a:lnTo>
                    <a:lnTo>
                      <a:pt x="3889" y="708"/>
                    </a:lnTo>
                    <a:lnTo>
                      <a:pt x="3866" y="809"/>
                    </a:lnTo>
                    <a:lnTo>
                      <a:pt x="3837" y="908"/>
                    </a:lnTo>
                    <a:lnTo>
                      <a:pt x="3805" y="1006"/>
                    </a:lnTo>
                    <a:lnTo>
                      <a:pt x="3767" y="1100"/>
                    </a:lnTo>
                    <a:lnTo>
                      <a:pt x="3725" y="1194"/>
                    </a:lnTo>
                    <a:lnTo>
                      <a:pt x="3679" y="1284"/>
                    </a:lnTo>
                    <a:lnTo>
                      <a:pt x="3628" y="1372"/>
                    </a:lnTo>
                    <a:lnTo>
                      <a:pt x="3573" y="1457"/>
                    </a:lnTo>
                    <a:lnTo>
                      <a:pt x="3515" y="1539"/>
                    </a:lnTo>
                    <a:lnTo>
                      <a:pt x="3453" y="1618"/>
                    </a:lnTo>
                    <a:lnTo>
                      <a:pt x="3386" y="1695"/>
                    </a:lnTo>
                    <a:lnTo>
                      <a:pt x="3317" y="1767"/>
                    </a:lnTo>
                    <a:lnTo>
                      <a:pt x="3244" y="1837"/>
                    </a:lnTo>
                    <a:lnTo>
                      <a:pt x="3168" y="1903"/>
                    </a:lnTo>
                    <a:lnTo>
                      <a:pt x="3089" y="1965"/>
                    </a:lnTo>
                    <a:lnTo>
                      <a:pt x="3007" y="2023"/>
                    </a:lnTo>
                    <a:lnTo>
                      <a:pt x="2921" y="2078"/>
                    </a:lnTo>
                    <a:lnTo>
                      <a:pt x="2833" y="2128"/>
                    </a:lnTo>
                    <a:lnTo>
                      <a:pt x="2743" y="2175"/>
                    </a:lnTo>
                    <a:lnTo>
                      <a:pt x="2650" y="2217"/>
                    </a:lnTo>
                    <a:lnTo>
                      <a:pt x="2555" y="2254"/>
                    </a:lnTo>
                    <a:lnTo>
                      <a:pt x="2457" y="2287"/>
                    </a:lnTo>
                    <a:lnTo>
                      <a:pt x="2357" y="2315"/>
                    </a:lnTo>
                    <a:lnTo>
                      <a:pt x="2256" y="2338"/>
                    </a:lnTo>
                    <a:lnTo>
                      <a:pt x="2152" y="2357"/>
                    </a:lnTo>
                    <a:lnTo>
                      <a:pt x="2047" y="2370"/>
                    </a:lnTo>
                    <a:lnTo>
                      <a:pt x="1941" y="2378"/>
                    </a:lnTo>
                    <a:lnTo>
                      <a:pt x="1833" y="2381"/>
                    </a:lnTo>
                    <a:lnTo>
                      <a:pt x="1763" y="2380"/>
                    </a:lnTo>
                    <a:lnTo>
                      <a:pt x="1694" y="2376"/>
                    </a:lnTo>
                    <a:lnTo>
                      <a:pt x="1626" y="2371"/>
                    </a:lnTo>
                    <a:lnTo>
                      <a:pt x="1557" y="2364"/>
                    </a:lnTo>
                    <a:lnTo>
                      <a:pt x="1490" y="2353"/>
                    </a:lnTo>
                    <a:lnTo>
                      <a:pt x="1424" y="2342"/>
                    </a:lnTo>
                    <a:lnTo>
                      <a:pt x="1358" y="2327"/>
                    </a:lnTo>
                    <a:lnTo>
                      <a:pt x="1292" y="2311"/>
                    </a:lnTo>
                    <a:lnTo>
                      <a:pt x="1228" y="2293"/>
                    </a:lnTo>
                    <a:lnTo>
                      <a:pt x="1165" y="2272"/>
                    </a:lnTo>
                    <a:lnTo>
                      <a:pt x="1102" y="2250"/>
                    </a:lnTo>
                    <a:lnTo>
                      <a:pt x="1040" y="2226"/>
                    </a:lnTo>
                    <a:lnTo>
                      <a:pt x="980" y="2201"/>
                    </a:lnTo>
                    <a:lnTo>
                      <a:pt x="920" y="2173"/>
                    </a:lnTo>
                    <a:lnTo>
                      <a:pt x="862" y="2143"/>
                    </a:lnTo>
                    <a:lnTo>
                      <a:pt x="805" y="2113"/>
                    </a:lnTo>
                    <a:lnTo>
                      <a:pt x="748" y="2079"/>
                    </a:lnTo>
                    <a:lnTo>
                      <a:pt x="692" y="2044"/>
                    </a:lnTo>
                    <a:lnTo>
                      <a:pt x="639" y="2009"/>
                    </a:lnTo>
                    <a:lnTo>
                      <a:pt x="585" y="1970"/>
                    </a:lnTo>
                    <a:lnTo>
                      <a:pt x="534" y="1931"/>
                    </a:lnTo>
                    <a:lnTo>
                      <a:pt x="483" y="1890"/>
                    </a:lnTo>
                    <a:lnTo>
                      <a:pt x="435" y="1847"/>
                    </a:lnTo>
                    <a:lnTo>
                      <a:pt x="386" y="1803"/>
                    </a:lnTo>
                    <a:lnTo>
                      <a:pt x="340" y="1758"/>
                    </a:lnTo>
                    <a:lnTo>
                      <a:pt x="295" y="1711"/>
                    </a:lnTo>
                    <a:lnTo>
                      <a:pt x="252" y="1662"/>
                    </a:lnTo>
                    <a:lnTo>
                      <a:pt x="210" y="1613"/>
                    </a:lnTo>
                    <a:lnTo>
                      <a:pt x="169" y="1562"/>
                    </a:lnTo>
                    <a:lnTo>
                      <a:pt x="130" y="1510"/>
                    </a:lnTo>
                    <a:lnTo>
                      <a:pt x="93" y="1456"/>
                    </a:lnTo>
                    <a:lnTo>
                      <a:pt x="57" y="1402"/>
                    </a:lnTo>
                    <a:lnTo>
                      <a:pt x="0" y="1440"/>
                    </a:lnTo>
                    <a:lnTo>
                      <a:pt x="36" y="1496"/>
                    </a:lnTo>
                    <a:lnTo>
                      <a:pt x="75" y="1551"/>
                    </a:lnTo>
                    <a:lnTo>
                      <a:pt x="115" y="1606"/>
                    </a:lnTo>
                    <a:lnTo>
                      <a:pt x="157" y="1657"/>
                    </a:lnTo>
                    <a:lnTo>
                      <a:pt x="200" y="1708"/>
                    </a:lnTo>
                    <a:lnTo>
                      <a:pt x="246" y="1759"/>
                    </a:lnTo>
                    <a:lnTo>
                      <a:pt x="292" y="1807"/>
                    </a:lnTo>
                    <a:lnTo>
                      <a:pt x="340" y="1853"/>
                    </a:lnTo>
                    <a:lnTo>
                      <a:pt x="390" y="1900"/>
                    </a:lnTo>
                    <a:lnTo>
                      <a:pt x="440" y="1944"/>
                    </a:lnTo>
                    <a:lnTo>
                      <a:pt x="492" y="1986"/>
                    </a:lnTo>
                    <a:lnTo>
                      <a:pt x="545" y="2027"/>
                    </a:lnTo>
                    <a:lnTo>
                      <a:pt x="600" y="2065"/>
                    </a:lnTo>
                    <a:lnTo>
                      <a:pt x="656" y="2103"/>
                    </a:lnTo>
                    <a:lnTo>
                      <a:pt x="712" y="2139"/>
                    </a:lnTo>
                    <a:lnTo>
                      <a:pt x="771" y="2173"/>
                    </a:lnTo>
                    <a:lnTo>
                      <a:pt x="830" y="2205"/>
                    </a:lnTo>
                    <a:lnTo>
                      <a:pt x="891" y="2236"/>
                    </a:lnTo>
                    <a:lnTo>
                      <a:pt x="953" y="2264"/>
                    </a:lnTo>
                    <a:lnTo>
                      <a:pt x="1015" y="2290"/>
                    </a:lnTo>
                    <a:lnTo>
                      <a:pt x="1079" y="2315"/>
                    </a:lnTo>
                    <a:lnTo>
                      <a:pt x="1143" y="2338"/>
                    </a:lnTo>
                    <a:lnTo>
                      <a:pt x="1208" y="2358"/>
                    </a:lnTo>
                    <a:lnTo>
                      <a:pt x="1275" y="2377"/>
                    </a:lnTo>
                    <a:lnTo>
                      <a:pt x="1342" y="2394"/>
                    </a:lnTo>
                    <a:lnTo>
                      <a:pt x="1410" y="2409"/>
                    </a:lnTo>
                    <a:lnTo>
                      <a:pt x="1479" y="2421"/>
                    </a:lnTo>
                    <a:lnTo>
                      <a:pt x="1549" y="2432"/>
                    </a:lnTo>
                    <a:lnTo>
                      <a:pt x="1618" y="2439"/>
                    </a:lnTo>
                    <a:lnTo>
                      <a:pt x="1690" y="2446"/>
                    </a:lnTo>
                    <a:lnTo>
                      <a:pt x="1761" y="2449"/>
                    </a:lnTo>
                    <a:lnTo>
                      <a:pt x="1833" y="2450"/>
                    </a:lnTo>
                    <a:lnTo>
                      <a:pt x="1944" y="2447"/>
                    </a:lnTo>
                    <a:lnTo>
                      <a:pt x="2055" y="2439"/>
                    </a:lnTo>
                    <a:lnTo>
                      <a:pt x="2163" y="2425"/>
                    </a:lnTo>
                    <a:lnTo>
                      <a:pt x="2270" y="2406"/>
                    </a:lnTo>
                    <a:lnTo>
                      <a:pt x="2375" y="2381"/>
                    </a:lnTo>
                    <a:lnTo>
                      <a:pt x="2477" y="2353"/>
                    </a:lnTo>
                    <a:lnTo>
                      <a:pt x="2578" y="2318"/>
                    </a:lnTo>
                    <a:lnTo>
                      <a:pt x="2677" y="2280"/>
                    </a:lnTo>
                    <a:lnTo>
                      <a:pt x="2772" y="2237"/>
                    </a:lnTo>
                    <a:lnTo>
                      <a:pt x="2866" y="2188"/>
                    </a:lnTo>
                    <a:lnTo>
                      <a:pt x="2956" y="2137"/>
                    </a:lnTo>
                    <a:lnTo>
                      <a:pt x="3045" y="2080"/>
                    </a:lnTo>
                    <a:lnTo>
                      <a:pt x="3130" y="2020"/>
                    </a:lnTo>
                    <a:lnTo>
                      <a:pt x="3212" y="1955"/>
                    </a:lnTo>
                    <a:lnTo>
                      <a:pt x="3291" y="1888"/>
                    </a:lnTo>
                    <a:lnTo>
                      <a:pt x="3365" y="1816"/>
                    </a:lnTo>
                    <a:lnTo>
                      <a:pt x="3438" y="1741"/>
                    </a:lnTo>
                    <a:lnTo>
                      <a:pt x="3505" y="1662"/>
                    </a:lnTo>
                    <a:lnTo>
                      <a:pt x="3570" y="1580"/>
                    </a:lnTo>
                    <a:lnTo>
                      <a:pt x="3630" y="1495"/>
                    </a:lnTo>
                    <a:lnTo>
                      <a:pt x="3687" y="1408"/>
                    </a:lnTo>
                    <a:lnTo>
                      <a:pt x="3738" y="1317"/>
                    </a:lnTo>
                    <a:lnTo>
                      <a:pt x="3787" y="1223"/>
                    </a:lnTo>
                    <a:lnTo>
                      <a:pt x="3830" y="1128"/>
                    </a:lnTo>
                    <a:lnTo>
                      <a:pt x="3869" y="1029"/>
                    </a:lnTo>
                    <a:lnTo>
                      <a:pt x="3904" y="928"/>
                    </a:lnTo>
                    <a:lnTo>
                      <a:pt x="3932" y="826"/>
                    </a:lnTo>
                    <a:lnTo>
                      <a:pt x="3956" y="721"/>
                    </a:lnTo>
                    <a:lnTo>
                      <a:pt x="3975" y="614"/>
                    </a:lnTo>
                    <a:lnTo>
                      <a:pt x="3990" y="506"/>
                    </a:lnTo>
                    <a:lnTo>
                      <a:pt x="3998" y="396"/>
                    </a:lnTo>
                    <a:lnTo>
                      <a:pt x="4000" y="28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98880" y="2901960"/>
                <a:ext cx="1251000" cy="766800"/>
              </a:xfrm>
              <a:custGeom>
                <a:avLst/>
                <a:gdLst/>
                <a:ahLst/>
                <a:rect l="l" t="t" r="r" b="b"/>
                <a:pathLst>
                  <a:path w="3938" h="2415">
                    <a:moveTo>
                      <a:pt x="3938" y="285"/>
                    </a:moveTo>
                    <a:lnTo>
                      <a:pt x="3937" y="249"/>
                    </a:lnTo>
                    <a:lnTo>
                      <a:pt x="3935" y="213"/>
                    </a:lnTo>
                    <a:lnTo>
                      <a:pt x="3934" y="178"/>
                    </a:lnTo>
                    <a:lnTo>
                      <a:pt x="3932" y="142"/>
                    </a:lnTo>
                    <a:lnTo>
                      <a:pt x="3929" y="106"/>
                    </a:lnTo>
                    <a:lnTo>
                      <a:pt x="3926" y="70"/>
                    </a:lnTo>
                    <a:lnTo>
                      <a:pt x="3923" y="36"/>
                    </a:lnTo>
                    <a:lnTo>
                      <a:pt x="3919" y="0"/>
                    </a:lnTo>
                    <a:lnTo>
                      <a:pt x="3899" y="0"/>
                    </a:lnTo>
                    <a:lnTo>
                      <a:pt x="3848" y="0"/>
                    </a:lnTo>
                    <a:lnTo>
                      <a:pt x="3853" y="36"/>
                    </a:lnTo>
                    <a:lnTo>
                      <a:pt x="3857" y="70"/>
                    </a:lnTo>
                    <a:lnTo>
                      <a:pt x="3861" y="106"/>
                    </a:lnTo>
                    <a:lnTo>
                      <a:pt x="3863" y="142"/>
                    </a:lnTo>
                    <a:lnTo>
                      <a:pt x="3865" y="178"/>
                    </a:lnTo>
                    <a:lnTo>
                      <a:pt x="3867" y="213"/>
                    </a:lnTo>
                    <a:lnTo>
                      <a:pt x="3868" y="249"/>
                    </a:lnTo>
                    <a:lnTo>
                      <a:pt x="3868" y="285"/>
                    </a:lnTo>
                    <a:lnTo>
                      <a:pt x="3865" y="391"/>
                    </a:lnTo>
                    <a:lnTo>
                      <a:pt x="3858" y="496"/>
                    </a:lnTo>
                    <a:lnTo>
                      <a:pt x="3844" y="599"/>
                    </a:lnTo>
                    <a:lnTo>
                      <a:pt x="3826" y="700"/>
                    </a:lnTo>
                    <a:lnTo>
                      <a:pt x="3803" y="800"/>
                    </a:lnTo>
                    <a:lnTo>
                      <a:pt x="3776" y="898"/>
                    </a:lnTo>
                    <a:lnTo>
                      <a:pt x="3743" y="994"/>
                    </a:lnTo>
                    <a:lnTo>
                      <a:pt x="3706" y="1088"/>
                    </a:lnTo>
                    <a:lnTo>
                      <a:pt x="3664" y="1179"/>
                    </a:lnTo>
                    <a:lnTo>
                      <a:pt x="3619" y="1267"/>
                    </a:lnTo>
                    <a:lnTo>
                      <a:pt x="3570" y="1355"/>
                    </a:lnTo>
                    <a:lnTo>
                      <a:pt x="3516" y="1438"/>
                    </a:lnTo>
                    <a:lnTo>
                      <a:pt x="3458" y="1518"/>
                    </a:lnTo>
                    <a:lnTo>
                      <a:pt x="3397" y="1596"/>
                    </a:lnTo>
                    <a:lnTo>
                      <a:pt x="3332" y="1672"/>
                    </a:lnTo>
                    <a:lnTo>
                      <a:pt x="3264" y="1743"/>
                    </a:lnTo>
                    <a:lnTo>
                      <a:pt x="3192" y="1811"/>
                    </a:lnTo>
                    <a:lnTo>
                      <a:pt x="3117" y="1876"/>
                    </a:lnTo>
                    <a:lnTo>
                      <a:pt x="3039" y="1937"/>
                    </a:lnTo>
                    <a:lnTo>
                      <a:pt x="2958" y="1995"/>
                    </a:lnTo>
                    <a:lnTo>
                      <a:pt x="2874" y="2049"/>
                    </a:lnTo>
                    <a:lnTo>
                      <a:pt x="2788" y="2098"/>
                    </a:lnTo>
                    <a:lnTo>
                      <a:pt x="2699" y="2143"/>
                    </a:lnTo>
                    <a:lnTo>
                      <a:pt x="2608" y="2185"/>
                    </a:lnTo>
                    <a:lnTo>
                      <a:pt x="2513" y="2222"/>
                    </a:lnTo>
                    <a:lnTo>
                      <a:pt x="2418" y="2254"/>
                    </a:lnTo>
                    <a:lnTo>
                      <a:pt x="2320" y="2282"/>
                    </a:lnTo>
                    <a:lnTo>
                      <a:pt x="2220" y="2305"/>
                    </a:lnTo>
                    <a:lnTo>
                      <a:pt x="2118" y="2323"/>
                    </a:lnTo>
                    <a:lnTo>
                      <a:pt x="2015" y="2336"/>
                    </a:lnTo>
                    <a:lnTo>
                      <a:pt x="1910" y="2344"/>
                    </a:lnTo>
                    <a:lnTo>
                      <a:pt x="1804" y="2347"/>
                    </a:lnTo>
                    <a:lnTo>
                      <a:pt x="1735" y="2346"/>
                    </a:lnTo>
                    <a:lnTo>
                      <a:pt x="1667" y="2343"/>
                    </a:lnTo>
                    <a:lnTo>
                      <a:pt x="1600" y="2337"/>
                    </a:lnTo>
                    <a:lnTo>
                      <a:pt x="1533" y="2329"/>
                    </a:lnTo>
                    <a:lnTo>
                      <a:pt x="1466" y="2320"/>
                    </a:lnTo>
                    <a:lnTo>
                      <a:pt x="1401" y="2308"/>
                    </a:lnTo>
                    <a:lnTo>
                      <a:pt x="1336" y="2293"/>
                    </a:lnTo>
                    <a:lnTo>
                      <a:pt x="1272" y="2278"/>
                    </a:lnTo>
                    <a:lnTo>
                      <a:pt x="1209" y="2260"/>
                    </a:lnTo>
                    <a:lnTo>
                      <a:pt x="1147" y="2240"/>
                    </a:lnTo>
                    <a:lnTo>
                      <a:pt x="1085" y="2219"/>
                    </a:lnTo>
                    <a:lnTo>
                      <a:pt x="1024" y="2195"/>
                    </a:lnTo>
                    <a:lnTo>
                      <a:pt x="965" y="2169"/>
                    </a:lnTo>
                    <a:lnTo>
                      <a:pt x="906" y="2142"/>
                    </a:lnTo>
                    <a:lnTo>
                      <a:pt x="848" y="2113"/>
                    </a:lnTo>
                    <a:lnTo>
                      <a:pt x="792" y="2082"/>
                    </a:lnTo>
                    <a:lnTo>
                      <a:pt x="736" y="2050"/>
                    </a:lnTo>
                    <a:lnTo>
                      <a:pt x="682" y="2015"/>
                    </a:lnTo>
                    <a:lnTo>
                      <a:pt x="629" y="1979"/>
                    </a:lnTo>
                    <a:lnTo>
                      <a:pt x="576" y="1943"/>
                    </a:lnTo>
                    <a:lnTo>
                      <a:pt x="526" y="1904"/>
                    </a:lnTo>
                    <a:lnTo>
                      <a:pt x="476" y="1863"/>
                    </a:lnTo>
                    <a:lnTo>
                      <a:pt x="428" y="1821"/>
                    </a:lnTo>
                    <a:lnTo>
                      <a:pt x="381" y="1778"/>
                    </a:lnTo>
                    <a:lnTo>
                      <a:pt x="335" y="1734"/>
                    </a:lnTo>
                    <a:lnTo>
                      <a:pt x="291" y="1687"/>
                    </a:lnTo>
                    <a:lnTo>
                      <a:pt x="248" y="1639"/>
                    </a:lnTo>
                    <a:lnTo>
                      <a:pt x="207" y="1591"/>
                    </a:lnTo>
                    <a:lnTo>
                      <a:pt x="167" y="1540"/>
                    </a:lnTo>
                    <a:lnTo>
                      <a:pt x="129" y="1489"/>
                    </a:lnTo>
                    <a:lnTo>
                      <a:pt x="93" y="1436"/>
                    </a:lnTo>
                    <a:lnTo>
                      <a:pt x="57" y="1383"/>
                    </a:lnTo>
                    <a:lnTo>
                      <a:pt x="56" y="1384"/>
                    </a:lnTo>
                    <a:lnTo>
                      <a:pt x="0" y="1421"/>
                    </a:lnTo>
                    <a:lnTo>
                      <a:pt x="36" y="1476"/>
                    </a:lnTo>
                    <a:lnTo>
                      <a:pt x="74" y="1531"/>
                    </a:lnTo>
                    <a:lnTo>
                      <a:pt x="114" y="1583"/>
                    </a:lnTo>
                    <a:lnTo>
                      <a:pt x="155" y="1635"/>
                    </a:lnTo>
                    <a:lnTo>
                      <a:pt x="198" y="1685"/>
                    </a:lnTo>
                    <a:lnTo>
                      <a:pt x="242" y="1735"/>
                    </a:lnTo>
                    <a:lnTo>
                      <a:pt x="287" y="1782"/>
                    </a:lnTo>
                    <a:lnTo>
                      <a:pt x="334" y="1828"/>
                    </a:lnTo>
                    <a:lnTo>
                      <a:pt x="383" y="1873"/>
                    </a:lnTo>
                    <a:lnTo>
                      <a:pt x="432" y="1916"/>
                    </a:lnTo>
                    <a:lnTo>
                      <a:pt x="484" y="1958"/>
                    </a:lnTo>
                    <a:lnTo>
                      <a:pt x="536" y="1998"/>
                    </a:lnTo>
                    <a:lnTo>
                      <a:pt x="590" y="2037"/>
                    </a:lnTo>
                    <a:lnTo>
                      <a:pt x="645" y="2074"/>
                    </a:lnTo>
                    <a:lnTo>
                      <a:pt x="701" y="2108"/>
                    </a:lnTo>
                    <a:lnTo>
                      <a:pt x="759" y="2142"/>
                    </a:lnTo>
                    <a:lnTo>
                      <a:pt x="817" y="2175"/>
                    </a:lnTo>
                    <a:lnTo>
                      <a:pt x="877" y="2204"/>
                    </a:lnTo>
                    <a:lnTo>
                      <a:pt x="938" y="2232"/>
                    </a:lnTo>
                    <a:lnTo>
                      <a:pt x="999" y="2259"/>
                    </a:lnTo>
                    <a:lnTo>
                      <a:pt x="1062" y="2283"/>
                    </a:lnTo>
                    <a:lnTo>
                      <a:pt x="1125" y="2305"/>
                    </a:lnTo>
                    <a:lnTo>
                      <a:pt x="1190" y="2326"/>
                    </a:lnTo>
                    <a:lnTo>
                      <a:pt x="1255" y="2344"/>
                    </a:lnTo>
                    <a:lnTo>
                      <a:pt x="1321" y="2360"/>
                    </a:lnTo>
                    <a:lnTo>
                      <a:pt x="1388" y="2375"/>
                    </a:lnTo>
                    <a:lnTo>
                      <a:pt x="1456" y="2388"/>
                    </a:lnTo>
                    <a:lnTo>
                      <a:pt x="1524" y="2397"/>
                    </a:lnTo>
                    <a:lnTo>
                      <a:pt x="1594" y="2406"/>
                    </a:lnTo>
                    <a:lnTo>
                      <a:pt x="1663" y="2411"/>
                    </a:lnTo>
                    <a:lnTo>
                      <a:pt x="1733" y="2414"/>
                    </a:lnTo>
                    <a:lnTo>
                      <a:pt x="1804" y="2415"/>
                    </a:lnTo>
                    <a:lnTo>
                      <a:pt x="1914" y="2413"/>
                    </a:lnTo>
                    <a:lnTo>
                      <a:pt x="2022" y="2405"/>
                    </a:lnTo>
                    <a:lnTo>
                      <a:pt x="2129" y="2391"/>
                    </a:lnTo>
                    <a:lnTo>
                      <a:pt x="2234" y="2372"/>
                    </a:lnTo>
                    <a:lnTo>
                      <a:pt x="2337" y="2349"/>
                    </a:lnTo>
                    <a:lnTo>
                      <a:pt x="2439" y="2320"/>
                    </a:lnTo>
                    <a:lnTo>
                      <a:pt x="2537" y="2286"/>
                    </a:lnTo>
                    <a:lnTo>
                      <a:pt x="2634" y="2248"/>
                    </a:lnTo>
                    <a:lnTo>
                      <a:pt x="2729" y="2205"/>
                    </a:lnTo>
                    <a:lnTo>
                      <a:pt x="2820" y="2159"/>
                    </a:lnTo>
                    <a:lnTo>
                      <a:pt x="2910" y="2107"/>
                    </a:lnTo>
                    <a:lnTo>
                      <a:pt x="2997" y="2052"/>
                    </a:lnTo>
                    <a:lnTo>
                      <a:pt x="3080" y="1992"/>
                    </a:lnTo>
                    <a:lnTo>
                      <a:pt x="3161" y="1929"/>
                    </a:lnTo>
                    <a:lnTo>
                      <a:pt x="3239" y="1862"/>
                    </a:lnTo>
                    <a:lnTo>
                      <a:pt x="3312" y="1791"/>
                    </a:lnTo>
                    <a:lnTo>
                      <a:pt x="3383" y="1718"/>
                    </a:lnTo>
                    <a:lnTo>
                      <a:pt x="3450" y="1640"/>
                    </a:lnTo>
                    <a:lnTo>
                      <a:pt x="3513" y="1559"/>
                    </a:lnTo>
                    <a:lnTo>
                      <a:pt x="3573" y="1476"/>
                    </a:lnTo>
                    <a:lnTo>
                      <a:pt x="3629" y="1390"/>
                    </a:lnTo>
                    <a:lnTo>
                      <a:pt x="3680" y="1301"/>
                    </a:lnTo>
                    <a:lnTo>
                      <a:pt x="3726" y="1209"/>
                    </a:lnTo>
                    <a:lnTo>
                      <a:pt x="3769" y="1114"/>
                    </a:lnTo>
                    <a:lnTo>
                      <a:pt x="3807" y="1018"/>
                    </a:lnTo>
                    <a:lnTo>
                      <a:pt x="3841" y="919"/>
                    </a:lnTo>
                    <a:lnTo>
                      <a:pt x="3870" y="817"/>
                    </a:lnTo>
                    <a:lnTo>
                      <a:pt x="3893" y="714"/>
                    </a:lnTo>
                    <a:lnTo>
                      <a:pt x="3912" y="609"/>
                    </a:lnTo>
                    <a:lnTo>
                      <a:pt x="3926" y="503"/>
                    </a:lnTo>
                    <a:lnTo>
                      <a:pt x="3934" y="395"/>
                    </a:lnTo>
                    <a:lnTo>
                      <a:pt x="3938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108240" y="2901960"/>
                <a:ext cx="1230480" cy="757080"/>
              </a:xfrm>
              <a:custGeom>
                <a:avLst/>
                <a:gdLst/>
                <a:ahLst/>
                <a:rect l="l" t="t" r="r" b="b"/>
                <a:pathLst>
                  <a:path w="3875" h="2381">
                    <a:moveTo>
                      <a:pt x="3875" y="285"/>
                    </a:moveTo>
                    <a:lnTo>
                      <a:pt x="3874" y="249"/>
                    </a:lnTo>
                    <a:lnTo>
                      <a:pt x="3874" y="213"/>
                    </a:lnTo>
                    <a:lnTo>
                      <a:pt x="3872" y="178"/>
                    </a:lnTo>
                    <a:lnTo>
                      <a:pt x="3870" y="142"/>
                    </a:lnTo>
                    <a:lnTo>
                      <a:pt x="3866" y="106"/>
                    </a:lnTo>
                    <a:lnTo>
                      <a:pt x="3863" y="70"/>
                    </a:lnTo>
                    <a:lnTo>
                      <a:pt x="3860" y="36"/>
                    </a:lnTo>
                    <a:lnTo>
                      <a:pt x="3856" y="0"/>
                    </a:lnTo>
                    <a:lnTo>
                      <a:pt x="3814" y="0"/>
                    </a:lnTo>
                    <a:lnTo>
                      <a:pt x="3786" y="0"/>
                    </a:lnTo>
                    <a:lnTo>
                      <a:pt x="3791" y="36"/>
                    </a:lnTo>
                    <a:lnTo>
                      <a:pt x="3795" y="70"/>
                    </a:lnTo>
                    <a:lnTo>
                      <a:pt x="3798" y="106"/>
                    </a:lnTo>
                    <a:lnTo>
                      <a:pt x="3801" y="142"/>
                    </a:lnTo>
                    <a:lnTo>
                      <a:pt x="3803" y="178"/>
                    </a:lnTo>
                    <a:lnTo>
                      <a:pt x="3804" y="213"/>
                    </a:lnTo>
                    <a:lnTo>
                      <a:pt x="3806" y="249"/>
                    </a:lnTo>
                    <a:lnTo>
                      <a:pt x="3806" y="285"/>
                    </a:lnTo>
                    <a:lnTo>
                      <a:pt x="3803" y="390"/>
                    </a:lnTo>
                    <a:lnTo>
                      <a:pt x="3795" y="493"/>
                    </a:lnTo>
                    <a:lnTo>
                      <a:pt x="3782" y="593"/>
                    </a:lnTo>
                    <a:lnTo>
                      <a:pt x="3765" y="693"/>
                    </a:lnTo>
                    <a:lnTo>
                      <a:pt x="3741" y="792"/>
                    </a:lnTo>
                    <a:lnTo>
                      <a:pt x="3714" y="888"/>
                    </a:lnTo>
                    <a:lnTo>
                      <a:pt x="3683" y="982"/>
                    </a:lnTo>
                    <a:lnTo>
                      <a:pt x="3647" y="1074"/>
                    </a:lnTo>
                    <a:lnTo>
                      <a:pt x="3606" y="1163"/>
                    </a:lnTo>
                    <a:lnTo>
                      <a:pt x="3561" y="1252"/>
                    </a:lnTo>
                    <a:lnTo>
                      <a:pt x="3512" y="1337"/>
                    </a:lnTo>
                    <a:lnTo>
                      <a:pt x="3460" y="1419"/>
                    </a:lnTo>
                    <a:lnTo>
                      <a:pt x="3403" y="1498"/>
                    </a:lnTo>
                    <a:lnTo>
                      <a:pt x="3342" y="1575"/>
                    </a:lnTo>
                    <a:lnTo>
                      <a:pt x="3279" y="1649"/>
                    </a:lnTo>
                    <a:lnTo>
                      <a:pt x="3212" y="1719"/>
                    </a:lnTo>
                    <a:lnTo>
                      <a:pt x="3141" y="1786"/>
                    </a:lnTo>
                    <a:lnTo>
                      <a:pt x="3068" y="1849"/>
                    </a:lnTo>
                    <a:lnTo>
                      <a:pt x="2991" y="1910"/>
                    </a:lnTo>
                    <a:lnTo>
                      <a:pt x="2911" y="1966"/>
                    </a:lnTo>
                    <a:lnTo>
                      <a:pt x="2829" y="2019"/>
                    </a:lnTo>
                    <a:lnTo>
                      <a:pt x="2744" y="2068"/>
                    </a:lnTo>
                    <a:lnTo>
                      <a:pt x="2656" y="2113"/>
                    </a:lnTo>
                    <a:lnTo>
                      <a:pt x="2566" y="2153"/>
                    </a:lnTo>
                    <a:lnTo>
                      <a:pt x="2474" y="2189"/>
                    </a:lnTo>
                    <a:lnTo>
                      <a:pt x="2379" y="2221"/>
                    </a:lnTo>
                    <a:lnTo>
                      <a:pt x="2283" y="2248"/>
                    </a:lnTo>
                    <a:lnTo>
                      <a:pt x="2185" y="2271"/>
                    </a:lnTo>
                    <a:lnTo>
                      <a:pt x="2085" y="2289"/>
                    </a:lnTo>
                    <a:lnTo>
                      <a:pt x="1984" y="2302"/>
                    </a:lnTo>
                    <a:lnTo>
                      <a:pt x="1881" y="2310"/>
                    </a:lnTo>
                    <a:lnTo>
                      <a:pt x="1776" y="2312"/>
                    </a:lnTo>
                    <a:lnTo>
                      <a:pt x="1708" y="2311"/>
                    </a:lnTo>
                    <a:lnTo>
                      <a:pt x="1641" y="2308"/>
                    </a:lnTo>
                    <a:lnTo>
                      <a:pt x="1574" y="2303"/>
                    </a:lnTo>
                    <a:lnTo>
                      <a:pt x="1508" y="2295"/>
                    </a:lnTo>
                    <a:lnTo>
                      <a:pt x="1443" y="2285"/>
                    </a:lnTo>
                    <a:lnTo>
                      <a:pt x="1377" y="2273"/>
                    </a:lnTo>
                    <a:lnTo>
                      <a:pt x="1314" y="2260"/>
                    </a:lnTo>
                    <a:lnTo>
                      <a:pt x="1250" y="2244"/>
                    </a:lnTo>
                    <a:lnTo>
                      <a:pt x="1188" y="2226"/>
                    </a:lnTo>
                    <a:lnTo>
                      <a:pt x="1126" y="2206"/>
                    </a:lnTo>
                    <a:lnTo>
                      <a:pt x="1066" y="2185"/>
                    </a:lnTo>
                    <a:lnTo>
                      <a:pt x="1006" y="2161"/>
                    </a:lnTo>
                    <a:lnTo>
                      <a:pt x="947" y="2136"/>
                    </a:lnTo>
                    <a:lnTo>
                      <a:pt x="890" y="2110"/>
                    </a:lnTo>
                    <a:lnTo>
                      <a:pt x="832" y="2080"/>
                    </a:lnTo>
                    <a:lnTo>
                      <a:pt x="776" y="2050"/>
                    </a:lnTo>
                    <a:lnTo>
                      <a:pt x="721" y="2017"/>
                    </a:lnTo>
                    <a:lnTo>
                      <a:pt x="668" y="1984"/>
                    </a:lnTo>
                    <a:lnTo>
                      <a:pt x="615" y="1948"/>
                    </a:lnTo>
                    <a:lnTo>
                      <a:pt x="564" y="1911"/>
                    </a:lnTo>
                    <a:lnTo>
                      <a:pt x="513" y="1872"/>
                    </a:lnTo>
                    <a:lnTo>
                      <a:pt x="465" y="1832"/>
                    </a:lnTo>
                    <a:lnTo>
                      <a:pt x="418" y="1791"/>
                    </a:lnTo>
                    <a:lnTo>
                      <a:pt x="371" y="1748"/>
                    </a:lnTo>
                    <a:lnTo>
                      <a:pt x="326" y="1703"/>
                    </a:lnTo>
                    <a:lnTo>
                      <a:pt x="283" y="1658"/>
                    </a:lnTo>
                    <a:lnTo>
                      <a:pt x="241" y="1611"/>
                    </a:lnTo>
                    <a:lnTo>
                      <a:pt x="200" y="1562"/>
                    </a:lnTo>
                    <a:lnTo>
                      <a:pt x="161" y="1513"/>
                    </a:lnTo>
                    <a:lnTo>
                      <a:pt x="123" y="1462"/>
                    </a:lnTo>
                    <a:lnTo>
                      <a:pt x="88" y="1410"/>
                    </a:lnTo>
                    <a:lnTo>
                      <a:pt x="53" y="1357"/>
                    </a:lnTo>
                    <a:lnTo>
                      <a:pt x="28" y="1384"/>
                    </a:lnTo>
                    <a:lnTo>
                      <a:pt x="0" y="1402"/>
                    </a:lnTo>
                    <a:lnTo>
                      <a:pt x="36" y="1456"/>
                    </a:lnTo>
                    <a:lnTo>
                      <a:pt x="73" y="1510"/>
                    </a:lnTo>
                    <a:lnTo>
                      <a:pt x="112" y="1562"/>
                    </a:lnTo>
                    <a:lnTo>
                      <a:pt x="153" y="1613"/>
                    </a:lnTo>
                    <a:lnTo>
                      <a:pt x="195" y="1662"/>
                    </a:lnTo>
                    <a:lnTo>
                      <a:pt x="238" y="1711"/>
                    </a:lnTo>
                    <a:lnTo>
                      <a:pt x="283" y="1758"/>
                    </a:lnTo>
                    <a:lnTo>
                      <a:pt x="329" y="1803"/>
                    </a:lnTo>
                    <a:lnTo>
                      <a:pt x="378" y="1847"/>
                    </a:lnTo>
                    <a:lnTo>
                      <a:pt x="426" y="1890"/>
                    </a:lnTo>
                    <a:lnTo>
                      <a:pt x="477" y="1931"/>
                    </a:lnTo>
                    <a:lnTo>
                      <a:pt x="528" y="1970"/>
                    </a:lnTo>
                    <a:lnTo>
                      <a:pt x="582" y="2009"/>
                    </a:lnTo>
                    <a:lnTo>
                      <a:pt x="635" y="2044"/>
                    </a:lnTo>
                    <a:lnTo>
                      <a:pt x="691" y="2079"/>
                    </a:lnTo>
                    <a:lnTo>
                      <a:pt x="748" y="2113"/>
                    </a:lnTo>
                    <a:lnTo>
                      <a:pt x="805" y="2143"/>
                    </a:lnTo>
                    <a:lnTo>
                      <a:pt x="863" y="2173"/>
                    </a:lnTo>
                    <a:lnTo>
                      <a:pt x="923" y="2201"/>
                    </a:lnTo>
                    <a:lnTo>
                      <a:pt x="983" y="2226"/>
                    </a:lnTo>
                    <a:lnTo>
                      <a:pt x="1045" y="2250"/>
                    </a:lnTo>
                    <a:lnTo>
                      <a:pt x="1108" y="2272"/>
                    </a:lnTo>
                    <a:lnTo>
                      <a:pt x="1171" y="2293"/>
                    </a:lnTo>
                    <a:lnTo>
                      <a:pt x="1235" y="2311"/>
                    </a:lnTo>
                    <a:lnTo>
                      <a:pt x="1301" y="2327"/>
                    </a:lnTo>
                    <a:lnTo>
                      <a:pt x="1367" y="2342"/>
                    </a:lnTo>
                    <a:lnTo>
                      <a:pt x="1433" y="2353"/>
                    </a:lnTo>
                    <a:lnTo>
                      <a:pt x="1500" y="2364"/>
                    </a:lnTo>
                    <a:lnTo>
                      <a:pt x="1569" y="2371"/>
                    </a:lnTo>
                    <a:lnTo>
                      <a:pt x="1637" y="2376"/>
                    </a:lnTo>
                    <a:lnTo>
                      <a:pt x="1706" y="2380"/>
                    </a:lnTo>
                    <a:lnTo>
                      <a:pt x="1776" y="2381"/>
                    </a:lnTo>
                    <a:lnTo>
                      <a:pt x="1884" y="2378"/>
                    </a:lnTo>
                    <a:lnTo>
                      <a:pt x="1990" y="2370"/>
                    </a:lnTo>
                    <a:lnTo>
                      <a:pt x="2095" y="2357"/>
                    </a:lnTo>
                    <a:lnTo>
                      <a:pt x="2199" y="2338"/>
                    </a:lnTo>
                    <a:lnTo>
                      <a:pt x="2300" y="2315"/>
                    </a:lnTo>
                    <a:lnTo>
                      <a:pt x="2400" y="2287"/>
                    </a:lnTo>
                    <a:lnTo>
                      <a:pt x="2498" y="2254"/>
                    </a:lnTo>
                    <a:lnTo>
                      <a:pt x="2593" y="2217"/>
                    </a:lnTo>
                    <a:lnTo>
                      <a:pt x="2686" y="2175"/>
                    </a:lnTo>
                    <a:lnTo>
                      <a:pt x="2776" y="2128"/>
                    </a:lnTo>
                    <a:lnTo>
                      <a:pt x="2864" y="2078"/>
                    </a:lnTo>
                    <a:lnTo>
                      <a:pt x="2950" y="2023"/>
                    </a:lnTo>
                    <a:lnTo>
                      <a:pt x="3032" y="1965"/>
                    </a:lnTo>
                    <a:lnTo>
                      <a:pt x="3111" y="1903"/>
                    </a:lnTo>
                    <a:lnTo>
                      <a:pt x="3187" y="1837"/>
                    </a:lnTo>
                    <a:lnTo>
                      <a:pt x="3260" y="1767"/>
                    </a:lnTo>
                    <a:lnTo>
                      <a:pt x="3329" y="1695"/>
                    </a:lnTo>
                    <a:lnTo>
                      <a:pt x="3396" y="1618"/>
                    </a:lnTo>
                    <a:lnTo>
                      <a:pt x="3458" y="1539"/>
                    </a:lnTo>
                    <a:lnTo>
                      <a:pt x="3516" y="1457"/>
                    </a:lnTo>
                    <a:lnTo>
                      <a:pt x="3571" y="1372"/>
                    </a:lnTo>
                    <a:lnTo>
                      <a:pt x="3622" y="1284"/>
                    </a:lnTo>
                    <a:lnTo>
                      <a:pt x="3668" y="1194"/>
                    </a:lnTo>
                    <a:lnTo>
                      <a:pt x="3710" y="1100"/>
                    </a:lnTo>
                    <a:lnTo>
                      <a:pt x="3748" y="1006"/>
                    </a:lnTo>
                    <a:lnTo>
                      <a:pt x="3780" y="908"/>
                    </a:lnTo>
                    <a:lnTo>
                      <a:pt x="3809" y="809"/>
                    </a:lnTo>
                    <a:lnTo>
                      <a:pt x="3832" y="708"/>
                    </a:lnTo>
                    <a:lnTo>
                      <a:pt x="3851" y="604"/>
                    </a:lnTo>
                    <a:lnTo>
                      <a:pt x="3863" y="499"/>
                    </a:lnTo>
                    <a:lnTo>
                      <a:pt x="3872" y="393"/>
                    </a:lnTo>
                    <a:lnTo>
                      <a:pt x="3875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116160" y="2901960"/>
                <a:ext cx="1211400" cy="746280"/>
              </a:xfrm>
              <a:custGeom>
                <a:avLst/>
                <a:gdLst/>
                <a:ahLst/>
                <a:rect l="l" t="t" r="r" b="b"/>
                <a:pathLst>
                  <a:path w="3811" h="2347">
                    <a:moveTo>
                      <a:pt x="3811" y="285"/>
                    </a:moveTo>
                    <a:lnTo>
                      <a:pt x="3811" y="249"/>
                    </a:lnTo>
                    <a:lnTo>
                      <a:pt x="3810" y="213"/>
                    </a:lnTo>
                    <a:lnTo>
                      <a:pt x="3808" y="178"/>
                    </a:lnTo>
                    <a:lnTo>
                      <a:pt x="3806" y="142"/>
                    </a:lnTo>
                    <a:lnTo>
                      <a:pt x="3804" y="106"/>
                    </a:lnTo>
                    <a:lnTo>
                      <a:pt x="3800" y="70"/>
                    </a:lnTo>
                    <a:lnTo>
                      <a:pt x="3796" y="36"/>
                    </a:lnTo>
                    <a:lnTo>
                      <a:pt x="3791" y="0"/>
                    </a:lnTo>
                    <a:lnTo>
                      <a:pt x="3785" y="0"/>
                    </a:lnTo>
                    <a:lnTo>
                      <a:pt x="3722" y="0"/>
                    </a:lnTo>
                    <a:lnTo>
                      <a:pt x="3727" y="36"/>
                    </a:lnTo>
                    <a:lnTo>
                      <a:pt x="3731" y="70"/>
                    </a:lnTo>
                    <a:lnTo>
                      <a:pt x="3734" y="106"/>
                    </a:lnTo>
                    <a:lnTo>
                      <a:pt x="3738" y="141"/>
                    </a:lnTo>
                    <a:lnTo>
                      <a:pt x="3740" y="176"/>
                    </a:lnTo>
                    <a:lnTo>
                      <a:pt x="3741" y="213"/>
                    </a:lnTo>
                    <a:lnTo>
                      <a:pt x="3742" y="249"/>
                    </a:lnTo>
                    <a:lnTo>
                      <a:pt x="3743" y="285"/>
                    </a:lnTo>
                    <a:lnTo>
                      <a:pt x="3740" y="388"/>
                    </a:lnTo>
                    <a:lnTo>
                      <a:pt x="3732" y="488"/>
                    </a:lnTo>
                    <a:lnTo>
                      <a:pt x="3720" y="588"/>
                    </a:lnTo>
                    <a:lnTo>
                      <a:pt x="3702" y="687"/>
                    </a:lnTo>
                    <a:lnTo>
                      <a:pt x="3680" y="783"/>
                    </a:lnTo>
                    <a:lnTo>
                      <a:pt x="3652" y="878"/>
                    </a:lnTo>
                    <a:lnTo>
                      <a:pt x="3621" y="970"/>
                    </a:lnTo>
                    <a:lnTo>
                      <a:pt x="3585" y="1061"/>
                    </a:lnTo>
                    <a:lnTo>
                      <a:pt x="3545" y="1149"/>
                    </a:lnTo>
                    <a:lnTo>
                      <a:pt x="3501" y="1235"/>
                    </a:lnTo>
                    <a:lnTo>
                      <a:pt x="3454" y="1319"/>
                    </a:lnTo>
                    <a:lnTo>
                      <a:pt x="3401" y="1400"/>
                    </a:lnTo>
                    <a:lnTo>
                      <a:pt x="3346" y="1477"/>
                    </a:lnTo>
                    <a:lnTo>
                      <a:pt x="3287" y="1553"/>
                    </a:lnTo>
                    <a:lnTo>
                      <a:pt x="3224" y="1625"/>
                    </a:lnTo>
                    <a:lnTo>
                      <a:pt x="3158" y="1695"/>
                    </a:lnTo>
                    <a:lnTo>
                      <a:pt x="3089" y="1760"/>
                    </a:lnTo>
                    <a:lnTo>
                      <a:pt x="3017" y="1823"/>
                    </a:lnTo>
                    <a:lnTo>
                      <a:pt x="2941" y="1882"/>
                    </a:lnTo>
                    <a:lnTo>
                      <a:pt x="2863" y="1937"/>
                    </a:lnTo>
                    <a:lnTo>
                      <a:pt x="2782" y="1990"/>
                    </a:lnTo>
                    <a:lnTo>
                      <a:pt x="2698" y="2037"/>
                    </a:lnTo>
                    <a:lnTo>
                      <a:pt x="2612" y="2081"/>
                    </a:lnTo>
                    <a:lnTo>
                      <a:pt x="2524" y="2121"/>
                    </a:lnTo>
                    <a:lnTo>
                      <a:pt x="2433" y="2157"/>
                    </a:lnTo>
                    <a:lnTo>
                      <a:pt x="2341" y="2188"/>
                    </a:lnTo>
                    <a:lnTo>
                      <a:pt x="2246" y="2216"/>
                    </a:lnTo>
                    <a:lnTo>
                      <a:pt x="2149" y="2238"/>
                    </a:lnTo>
                    <a:lnTo>
                      <a:pt x="2051" y="2255"/>
                    </a:lnTo>
                    <a:lnTo>
                      <a:pt x="1951" y="2268"/>
                    </a:lnTo>
                    <a:lnTo>
                      <a:pt x="1850" y="2275"/>
                    </a:lnTo>
                    <a:lnTo>
                      <a:pt x="1747" y="2279"/>
                    </a:lnTo>
                    <a:lnTo>
                      <a:pt x="1681" y="2278"/>
                    </a:lnTo>
                    <a:lnTo>
                      <a:pt x="1613" y="2273"/>
                    </a:lnTo>
                    <a:lnTo>
                      <a:pt x="1548" y="2268"/>
                    </a:lnTo>
                    <a:lnTo>
                      <a:pt x="1483" y="2261"/>
                    </a:lnTo>
                    <a:lnTo>
                      <a:pt x="1418" y="2251"/>
                    </a:lnTo>
                    <a:lnTo>
                      <a:pt x="1354" y="2240"/>
                    </a:lnTo>
                    <a:lnTo>
                      <a:pt x="1291" y="2226"/>
                    </a:lnTo>
                    <a:lnTo>
                      <a:pt x="1229" y="2210"/>
                    </a:lnTo>
                    <a:lnTo>
                      <a:pt x="1167" y="2192"/>
                    </a:lnTo>
                    <a:lnTo>
                      <a:pt x="1107" y="2173"/>
                    </a:lnTo>
                    <a:lnTo>
                      <a:pt x="1047" y="2152"/>
                    </a:lnTo>
                    <a:lnTo>
                      <a:pt x="987" y="2128"/>
                    </a:lnTo>
                    <a:lnTo>
                      <a:pt x="929" y="2103"/>
                    </a:lnTo>
                    <a:lnTo>
                      <a:pt x="872" y="2077"/>
                    </a:lnTo>
                    <a:lnTo>
                      <a:pt x="815" y="2048"/>
                    </a:lnTo>
                    <a:lnTo>
                      <a:pt x="761" y="2018"/>
                    </a:lnTo>
                    <a:lnTo>
                      <a:pt x="707" y="1986"/>
                    </a:lnTo>
                    <a:lnTo>
                      <a:pt x="654" y="1952"/>
                    </a:lnTo>
                    <a:lnTo>
                      <a:pt x="602" y="1917"/>
                    </a:lnTo>
                    <a:lnTo>
                      <a:pt x="552" y="1881"/>
                    </a:lnTo>
                    <a:lnTo>
                      <a:pt x="502" y="1843"/>
                    </a:lnTo>
                    <a:lnTo>
                      <a:pt x="454" y="1803"/>
                    </a:lnTo>
                    <a:lnTo>
                      <a:pt x="408" y="1762"/>
                    </a:lnTo>
                    <a:lnTo>
                      <a:pt x="361" y="1719"/>
                    </a:lnTo>
                    <a:lnTo>
                      <a:pt x="317" y="1675"/>
                    </a:lnTo>
                    <a:lnTo>
                      <a:pt x="274" y="1630"/>
                    </a:lnTo>
                    <a:lnTo>
                      <a:pt x="233" y="1583"/>
                    </a:lnTo>
                    <a:lnTo>
                      <a:pt x="193" y="1535"/>
                    </a:lnTo>
                    <a:lnTo>
                      <a:pt x="155" y="1486"/>
                    </a:lnTo>
                    <a:lnTo>
                      <a:pt x="119" y="1435"/>
                    </a:lnTo>
                    <a:lnTo>
                      <a:pt x="83" y="1384"/>
                    </a:lnTo>
                    <a:lnTo>
                      <a:pt x="49" y="1331"/>
                    </a:lnTo>
                    <a:lnTo>
                      <a:pt x="26" y="1354"/>
                    </a:lnTo>
                    <a:lnTo>
                      <a:pt x="0" y="1383"/>
                    </a:lnTo>
                    <a:lnTo>
                      <a:pt x="36" y="1436"/>
                    </a:lnTo>
                    <a:lnTo>
                      <a:pt x="72" y="1489"/>
                    </a:lnTo>
                    <a:lnTo>
                      <a:pt x="110" y="1540"/>
                    </a:lnTo>
                    <a:lnTo>
                      <a:pt x="150" y="1591"/>
                    </a:lnTo>
                    <a:lnTo>
                      <a:pt x="191" y="1639"/>
                    </a:lnTo>
                    <a:lnTo>
                      <a:pt x="234" y="1687"/>
                    </a:lnTo>
                    <a:lnTo>
                      <a:pt x="278" y="1734"/>
                    </a:lnTo>
                    <a:lnTo>
                      <a:pt x="324" y="1778"/>
                    </a:lnTo>
                    <a:lnTo>
                      <a:pt x="371" y="1821"/>
                    </a:lnTo>
                    <a:lnTo>
                      <a:pt x="419" y="1863"/>
                    </a:lnTo>
                    <a:lnTo>
                      <a:pt x="469" y="1904"/>
                    </a:lnTo>
                    <a:lnTo>
                      <a:pt x="519" y="1943"/>
                    </a:lnTo>
                    <a:lnTo>
                      <a:pt x="572" y="1979"/>
                    </a:lnTo>
                    <a:lnTo>
                      <a:pt x="625" y="2015"/>
                    </a:lnTo>
                    <a:lnTo>
                      <a:pt x="679" y="2050"/>
                    </a:lnTo>
                    <a:lnTo>
                      <a:pt x="735" y="2082"/>
                    </a:lnTo>
                    <a:lnTo>
                      <a:pt x="791" y="2113"/>
                    </a:lnTo>
                    <a:lnTo>
                      <a:pt x="849" y="2142"/>
                    </a:lnTo>
                    <a:lnTo>
                      <a:pt x="908" y="2169"/>
                    </a:lnTo>
                    <a:lnTo>
                      <a:pt x="967" y="2195"/>
                    </a:lnTo>
                    <a:lnTo>
                      <a:pt x="1028" y="2219"/>
                    </a:lnTo>
                    <a:lnTo>
                      <a:pt x="1090" y="2240"/>
                    </a:lnTo>
                    <a:lnTo>
                      <a:pt x="1152" y="2260"/>
                    </a:lnTo>
                    <a:lnTo>
                      <a:pt x="1215" y="2278"/>
                    </a:lnTo>
                    <a:lnTo>
                      <a:pt x="1279" y="2293"/>
                    </a:lnTo>
                    <a:lnTo>
                      <a:pt x="1344" y="2308"/>
                    </a:lnTo>
                    <a:lnTo>
                      <a:pt x="1409" y="2320"/>
                    </a:lnTo>
                    <a:lnTo>
                      <a:pt x="1476" y="2329"/>
                    </a:lnTo>
                    <a:lnTo>
                      <a:pt x="1543" y="2337"/>
                    </a:lnTo>
                    <a:lnTo>
                      <a:pt x="1610" y="2343"/>
                    </a:lnTo>
                    <a:lnTo>
                      <a:pt x="1678" y="2346"/>
                    </a:lnTo>
                    <a:lnTo>
                      <a:pt x="1747" y="2347"/>
                    </a:lnTo>
                    <a:lnTo>
                      <a:pt x="1853" y="2344"/>
                    </a:lnTo>
                    <a:lnTo>
                      <a:pt x="1958" y="2336"/>
                    </a:lnTo>
                    <a:lnTo>
                      <a:pt x="2061" y="2323"/>
                    </a:lnTo>
                    <a:lnTo>
                      <a:pt x="2163" y="2305"/>
                    </a:lnTo>
                    <a:lnTo>
                      <a:pt x="2263" y="2282"/>
                    </a:lnTo>
                    <a:lnTo>
                      <a:pt x="2361" y="2254"/>
                    </a:lnTo>
                    <a:lnTo>
                      <a:pt x="2456" y="2222"/>
                    </a:lnTo>
                    <a:lnTo>
                      <a:pt x="2551" y="2185"/>
                    </a:lnTo>
                    <a:lnTo>
                      <a:pt x="2642" y="2143"/>
                    </a:lnTo>
                    <a:lnTo>
                      <a:pt x="2731" y="2098"/>
                    </a:lnTo>
                    <a:lnTo>
                      <a:pt x="2817" y="2049"/>
                    </a:lnTo>
                    <a:lnTo>
                      <a:pt x="2901" y="1995"/>
                    </a:lnTo>
                    <a:lnTo>
                      <a:pt x="2982" y="1937"/>
                    </a:lnTo>
                    <a:lnTo>
                      <a:pt x="3060" y="1876"/>
                    </a:lnTo>
                    <a:lnTo>
                      <a:pt x="3135" y="1811"/>
                    </a:lnTo>
                    <a:lnTo>
                      <a:pt x="3207" y="1743"/>
                    </a:lnTo>
                    <a:lnTo>
                      <a:pt x="3275" y="1672"/>
                    </a:lnTo>
                    <a:lnTo>
                      <a:pt x="3340" y="1596"/>
                    </a:lnTo>
                    <a:lnTo>
                      <a:pt x="3401" y="1518"/>
                    </a:lnTo>
                    <a:lnTo>
                      <a:pt x="3459" y="1438"/>
                    </a:lnTo>
                    <a:lnTo>
                      <a:pt x="3513" y="1355"/>
                    </a:lnTo>
                    <a:lnTo>
                      <a:pt x="3562" y="1267"/>
                    </a:lnTo>
                    <a:lnTo>
                      <a:pt x="3607" y="1179"/>
                    </a:lnTo>
                    <a:lnTo>
                      <a:pt x="3649" y="1088"/>
                    </a:lnTo>
                    <a:lnTo>
                      <a:pt x="3686" y="994"/>
                    </a:lnTo>
                    <a:lnTo>
                      <a:pt x="3719" y="898"/>
                    </a:lnTo>
                    <a:lnTo>
                      <a:pt x="3746" y="800"/>
                    </a:lnTo>
                    <a:lnTo>
                      <a:pt x="3769" y="700"/>
                    </a:lnTo>
                    <a:lnTo>
                      <a:pt x="3787" y="599"/>
                    </a:lnTo>
                    <a:lnTo>
                      <a:pt x="3801" y="496"/>
                    </a:lnTo>
                    <a:lnTo>
                      <a:pt x="3808" y="391"/>
                    </a:lnTo>
                    <a:lnTo>
                      <a:pt x="3811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124080" y="2901960"/>
                <a:ext cx="1192320" cy="735120"/>
              </a:xfrm>
              <a:custGeom>
                <a:avLst/>
                <a:gdLst/>
                <a:ahLst/>
                <a:rect l="l" t="t" r="r" b="b"/>
                <a:pathLst>
                  <a:path w="3753" h="2312">
                    <a:moveTo>
                      <a:pt x="3753" y="285"/>
                    </a:moveTo>
                    <a:lnTo>
                      <a:pt x="3753" y="249"/>
                    </a:lnTo>
                    <a:lnTo>
                      <a:pt x="3751" y="213"/>
                    </a:lnTo>
                    <a:lnTo>
                      <a:pt x="3750" y="178"/>
                    </a:lnTo>
                    <a:lnTo>
                      <a:pt x="3748" y="142"/>
                    </a:lnTo>
                    <a:lnTo>
                      <a:pt x="3745" y="106"/>
                    </a:lnTo>
                    <a:lnTo>
                      <a:pt x="3742" y="70"/>
                    </a:lnTo>
                    <a:lnTo>
                      <a:pt x="3738" y="36"/>
                    </a:lnTo>
                    <a:lnTo>
                      <a:pt x="3733" y="0"/>
                    </a:lnTo>
                    <a:lnTo>
                      <a:pt x="3677" y="0"/>
                    </a:lnTo>
                    <a:lnTo>
                      <a:pt x="3663" y="0"/>
                    </a:lnTo>
                    <a:lnTo>
                      <a:pt x="3668" y="36"/>
                    </a:lnTo>
                    <a:lnTo>
                      <a:pt x="3673" y="70"/>
                    </a:lnTo>
                    <a:lnTo>
                      <a:pt x="3676" y="106"/>
                    </a:lnTo>
                    <a:lnTo>
                      <a:pt x="3679" y="141"/>
                    </a:lnTo>
                    <a:lnTo>
                      <a:pt x="3681" y="176"/>
                    </a:lnTo>
                    <a:lnTo>
                      <a:pt x="3683" y="213"/>
                    </a:lnTo>
                    <a:lnTo>
                      <a:pt x="3684" y="249"/>
                    </a:lnTo>
                    <a:lnTo>
                      <a:pt x="3684" y="285"/>
                    </a:lnTo>
                    <a:lnTo>
                      <a:pt x="3681" y="385"/>
                    </a:lnTo>
                    <a:lnTo>
                      <a:pt x="3674" y="485"/>
                    </a:lnTo>
                    <a:lnTo>
                      <a:pt x="3661" y="583"/>
                    </a:lnTo>
                    <a:lnTo>
                      <a:pt x="3644" y="679"/>
                    </a:lnTo>
                    <a:lnTo>
                      <a:pt x="3622" y="775"/>
                    </a:lnTo>
                    <a:lnTo>
                      <a:pt x="3596" y="867"/>
                    </a:lnTo>
                    <a:lnTo>
                      <a:pt x="3565" y="959"/>
                    </a:lnTo>
                    <a:lnTo>
                      <a:pt x="3530" y="1047"/>
                    </a:lnTo>
                    <a:lnTo>
                      <a:pt x="3491" y="1134"/>
                    </a:lnTo>
                    <a:lnTo>
                      <a:pt x="3448" y="1219"/>
                    </a:lnTo>
                    <a:lnTo>
                      <a:pt x="3400" y="1301"/>
                    </a:lnTo>
                    <a:lnTo>
                      <a:pt x="3349" y="1380"/>
                    </a:lnTo>
                    <a:lnTo>
                      <a:pt x="3294" y="1457"/>
                    </a:lnTo>
                    <a:lnTo>
                      <a:pt x="3236" y="1531"/>
                    </a:lnTo>
                    <a:lnTo>
                      <a:pt x="3174" y="1602"/>
                    </a:lnTo>
                    <a:lnTo>
                      <a:pt x="3109" y="1670"/>
                    </a:lnTo>
                    <a:lnTo>
                      <a:pt x="3042" y="1735"/>
                    </a:lnTo>
                    <a:lnTo>
                      <a:pt x="2970" y="1797"/>
                    </a:lnTo>
                    <a:lnTo>
                      <a:pt x="2896" y="1854"/>
                    </a:lnTo>
                    <a:lnTo>
                      <a:pt x="2819" y="1909"/>
                    </a:lnTo>
                    <a:lnTo>
                      <a:pt x="2740" y="1960"/>
                    </a:lnTo>
                    <a:lnTo>
                      <a:pt x="2658" y="2008"/>
                    </a:lnTo>
                    <a:lnTo>
                      <a:pt x="2573" y="2051"/>
                    </a:lnTo>
                    <a:lnTo>
                      <a:pt x="2486" y="2090"/>
                    </a:lnTo>
                    <a:lnTo>
                      <a:pt x="2398" y="2125"/>
                    </a:lnTo>
                    <a:lnTo>
                      <a:pt x="2306" y="2156"/>
                    </a:lnTo>
                    <a:lnTo>
                      <a:pt x="2214" y="2182"/>
                    </a:lnTo>
                    <a:lnTo>
                      <a:pt x="2118" y="2204"/>
                    </a:lnTo>
                    <a:lnTo>
                      <a:pt x="2021" y="2221"/>
                    </a:lnTo>
                    <a:lnTo>
                      <a:pt x="1924" y="2233"/>
                    </a:lnTo>
                    <a:lnTo>
                      <a:pt x="1824" y="2241"/>
                    </a:lnTo>
                    <a:lnTo>
                      <a:pt x="1723" y="2244"/>
                    </a:lnTo>
                    <a:lnTo>
                      <a:pt x="1657" y="2243"/>
                    </a:lnTo>
                    <a:lnTo>
                      <a:pt x="1590" y="2240"/>
                    </a:lnTo>
                    <a:lnTo>
                      <a:pt x="1525" y="2233"/>
                    </a:lnTo>
                    <a:lnTo>
                      <a:pt x="1461" y="2226"/>
                    </a:lnTo>
                    <a:lnTo>
                      <a:pt x="1397" y="2217"/>
                    </a:lnTo>
                    <a:lnTo>
                      <a:pt x="1334" y="2205"/>
                    </a:lnTo>
                    <a:lnTo>
                      <a:pt x="1271" y="2191"/>
                    </a:lnTo>
                    <a:lnTo>
                      <a:pt x="1209" y="2176"/>
                    </a:lnTo>
                    <a:lnTo>
                      <a:pt x="1148" y="2158"/>
                    </a:lnTo>
                    <a:lnTo>
                      <a:pt x="1088" y="2139"/>
                    </a:lnTo>
                    <a:lnTo>
                      <a:pt x="1028" y="2117"/>
                    </a:lnTo>
                    <a:lnTo>
                      <a:pt x="970" y="2094"/>
                    </a:lnTo>
                    <a:lnTo>
                      <a:pt x="912" y="2069"/>
                    </a:lnTo>
                    <a:lnTo>
                      <a:pt x="856" y="2042"/>
                    </a:lnTo>
                    <a:lnTo>
                      <a:pt x="800" y="2014"/>
                    </a:lnTo>
                    <a:lnTo>
                      <a:pt x="746" y="1984"/>
                    </a:lnTo>
                    <a:lnTo>
                      <a:pt x="693" y="1952"/>
                    </a:lnTo>
                    <a:lnTo>
                      <a:pt x="640" y="1918"/>
                    </a:lnTo>
                    <a:lnTo>
                      <a:pt x="589" y="1883"/>
                    </a:lnTo>
                    <a:lnTo>
                      <a:pt x="539" y="1846"/>
                    </a:lnTo>
                    <a:lnTo>
                      <a:pt x="490" y="1808"/>
                    </a:lnTo>
                    <a:lnTo>
                      <a:pt x="442" y="1768"/>
                    </a:lnTo>
                    <a:lnTo>
                      <a:pt x="396" y="1727"/>
                    </a:lnTo>
                    <a:lnTo>
                      <a:pt x="352" y="1685"/>
                    </a:lnTo>
                    <a:lnTo>
                      <a:pt x="308" y="1641"/>
                    </a:lnTo>
                    <a:lnTo>
                      <a:pt x="266" y="1596"/>
                    </a:lnTo>
                    <a:lnTo>
                      <a:pt x="226" y="1549"/>
                    </a:lnTo>
                    <a:lnTo>
                      <a:pt x="186" y="1502"/>
                    </a:lnTo>
                    <a:lnTo>
                      <a:pt x="148" y="1452"/>
                    </a:lnTo>
                    <a:lnTo>
                      <a:pt x="112" y="1402"/>
                    </a:lnTo>
                    <a:lnTo>
                      <a:pt x="78" y="1350"/>
                    </a:lnTo>
                    <a:lnTo>
                      <a:pt x="45" y="1298"/>
                    </a:lnTo>
                    <a:lnTo>
                      <a:pt x="29" y="1327"/>
                    </a:lnTo>
                    <a:lnTo>
                      <a:pt x="2" y="1354"/>
                    </a:lnTo>
                    <a:lnTo>
                      <a:pt x="0" y="1357"/>
                    </a:lnTo>
                    <a:lnTo>
                      <a:pt x="35" y="1410"/>
                    </a:lnTo>
                    <a:lnTo>
                      <a:pt x="70" y="1462"/>
                    </a:lnTo>
                    <a:lnTo>
                      <a:pt x="108" y="1513"/>
                    </a:lnTo>
                    <a:lnTo>
                      <a:pt x="147" y="1562"/>
                    </a:lnTo>
                    <a:lnTo>
                      <a:pt x="188" y="1611"/>
                    </a:lnTo>
                    <a:lnTo>
                      <a:pt x="230" y="1658"/>
                    </a:lnTo>
                    <a:lnTo>
                      <a:pt x="273" y="1703"/>
                    </a:lnTo>
                    <a:lnTo>
                      <a:pt x="318" y="1748"/>
                    </a:lnTo>
                    <a:lnTo>
                      <a:pt x="365" y="1791"/>
                    </a:lnTo>
                    <a:lnTo>
                      <a:pt x="412" y="1832"/>
                    </a:lnTo>
                    <a:lnTo>
                      <a:pt x="461" y="1872"/>
                    </a:lnTo>
                    <a:lnTo>
                      <a:pt x="511" y="1911"/>
                    </a:lnTo>
                    <a:lnTo>
                      <a:pt x="562" y="1948"/>
                    </a:lnTo>
                    <a:lnTo>
                      <a:pt x="615" y="1984"/>
                    </a:lnTo>
                    <a:lnTo>
                      <a:pt x="668" y="2017"/>
                    </a:lnTo>
                    <a:lnTo>
                      <a:pt x="723" y="2050"/>
                    </a:lnTo>
                    <a:lnTo>
                      <a:pt x="779" y="2080"/>
                    </a:lnTo>
                    <a:lnTo>
                      <a:pt x="837" y="2110"/>
                    </a:lnTo>
                    <a:lnTo>
                      <a:pt x="894" y="2136"/>
                    </a:lnTo>
                    <a:lnTo>
                      <a:pt x="953" y="2161"/>
                    </a:lnTo>
                    <a:lnTo>
                      <a:pt x="1013" y="2185"/>
                    </a:lnTo>
                    <a:lnTo>
                      <a:pt x="1073" y="2206"/>
                    </a:lnTo>
                    <a:lnTo>
                      <a:pt x="1135" y="2226"/>
                    </a:lnTo>
                    <a:lnTo>
                      <a:pt x="1197" y="2244"/>
                    </a:lnTo>
                    <a:lnTo>
                      <a:pt x="1261" y="2260"/>
                    </a:lnTo>
                    <a:lnTo>
                      <a:pt x="1324" y="2273"/>
                    </a:lnTo>
                    <a:lnTo>
                      <a:pt x="1390" y="2285"/>
                    </a:lnTo>
                    <a:lnTo>
                      <a:pt x="1455" y="2295"/>
                    </a:lnTo>
                    <a:lnTo>
                      <a:pt x="1521" y="2303"/>
                    </a:lnTo>
                    <a:lnTo>
                      <a:pt x="1588" y="2308"/>
                    </a:lnTo>
                    <a:lnTo>
                      <a:pt x="1655" y="2311"/>
                    </a:lnTo>
                    <a:lnTo>
                      <a:pt x="1723" y="2312"/>
                    </a:lnTo>
                    <a:lnTo>
                      <a:pt x="1828" y="2310"/>
                    </a:lnTo>
                    <a:lnTo>
                      <a:pt x="1931" y="2302"/>
                    </a:lnTo>
                    <a:lnTo>
                      <a:pt x="2032" y="2289"/>
                    </a:lnTo>
                    <a:lnTo>
                      <a:pt x="2132" y="2271"/>
                    </a:lnTo>
                    <a:lnTo>
                      <a:pt x="2230" y="2249"/>
                    </a:lnTo>
                    <a:lnTo>
                      <a:pt x="2326" y="2221"/>
                    </a:lnTo>
                    <a:lnTo>
                      <a:pt x="2421" y="2189"/>
                    </a:lnTo>
                    <a:lnTo>
                      <a:pt x="2513" y="2154"/>
                    </a:lnTo>
                    <a:lnTo>
                      <a:pt x="2603" y="2113"/>
                    </a:lnTo>
                    <a:lnTo>
                      <a:pt x="2691" y="2068"/>
                    </a:lnTo>
                    <a:lnTo>
                      <a:pt x="2776" y="2019"/>
                    </a:lnTo>
                    <a:lnTo>
                      <a:pt x="2858" y="1966"/>
                    </a:lnTo>
                    <a:lnTo>
                      <a:pt x="2938" y="1910"/>
                    </a:lnTo>
                    <a:lnTo>
                      <a:pt x="3015" y="1849"/>
                    </a:lnTo>
                    <a:lnTo>
                      <a:pt x="3088" y="1786"/>
                    </a:lnTo>
                    <a:lnTo>
                      <a:pt x="3159" y="1719"/>
                    </a:lnTo>
                    <a:lnTo>
                      <a:pt x="3226" y="1649"/>
                    </a:lnTo>
                    <a:lnTo>
                      <a:pt x="3289" y="1575"/>
                    </a:lnTo>
                    <a:lnTo>
                      <a:pt x="3350" y="1498"/>
                    </a:lnTo>
                    <a:lnTo>
                      <a:pt x="3407" y="1419"/>
                    </a:lnTo>
                    <a:lnTo>
                      <a:pt x="3459" y="1337"/>
                    </a:lnTo>
                    <a:lnTo>
                      <a:pt x="3508" y="1252"/>
                    </a:lnTo>
                    <a:lnTo>
                      <a:pt x="3553" y="1163"/>
                    </a:lnTo>
                    <a:lnTo>
                      <a:pt x="3594" y="1074"/>
                    </a:lnTo>
                    <a:lnTo>
                      <a:pt x="3630" y="982"/>
                    </a:lnTo>
                    <a:lnTo>
                      <a:pt x="3661" y="888"/>
                    </a:lnTo>
                    <a:lnTo>
                      <a:pt x="3688" y="792"/>
                    </a:lnTo>
                    <a:lnTo>
                      <a:pt x="3712" y="693"/>
                    </a:lnTo>
                    <a:lnTo>
                      <a:pt x="3729" y="593"/>
                    </a:lnTo>
                    <a:lnTo>
                      <a:pt x="3742" y="493"/>
                    </a:lnTo>
                    <a:lnTo>
                      <a:pt x="3750" y="390"/>
                    </a:lnTo>
                    <a:lnTo>
                      <a:pt x="3753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132000" y="2901960"/>
                <a:ext cx="1173240" cy="723960"/>
              </a:xfrm>
              <a:custGeom>
                <a:avLst/>
                <a:gdLst/>
                <a:ahLst/>
                <a:rect l="l" t="t" r="r" b="b"/>
                <a:pathLst>
                  <a:path w="3694" h="2279">
                    <a:moveTo>
                      <a:pt x="3694" y="285"/>
                    </a:moveTo>
                    <a:lnTo>
                      <a:pt x="3693" y="249"/>
                    </a:lnTo>
                    <a:lnTo>
                      <a:pt x="3692" y="213"/>
                    </a:lnTo>
                    <a:lnTo>
                      <a:pt x="3691" y="176"/>
                    </a:lnTo>
                    <a:lnTo>
                      <a:pt x="3689" y="141"/>
                    </a:lnTo>
                    <a:lnTo>
                      <a:pt x="3685" y="106"/>
                    </a:lnTo>
                    <a:lnTo>
                      <a:pt x="3682" y="70"/>
                    </a:lnTo>
                    <a:lnTo>
                      <a:pt x="3678" y="36"/>
                    </a:lnTo>
                    <a:lnTo>
                      <a:pt x="3673" y="0"/>
                    </a:lnTo>
                    <a:lnTo>
                      <a:pt x="3652" y="0"/>
                    </a:lnTo>
                    <a:lnTo>
                      <a:pt x="3603" y="0"/>
                    </a:lnTo>
                    <a:lnTo>
                      <a:pt x="3609" y="36"/>
                    </a:lnTo>
                    <a:lnTo>
                      <a:pt x="3613" y="70"/>
                    </a:lnTo>
                    <a:lnTo>
                      <a:pt x="3616" y="106"/>
                    </a:lnTo>
                    <a:lnTo>
                      <a:pt x="3619" y="141"/>
                    </a:lnTo>
                    <a:lnTo>
                      <a:pt x="3621" y="176"/>
                    </a:lnTo>
                    <a:lnTo>
                      <a:pt x="3623" y="213"/>
                    </a:lnTo>
                    <a:lnTo>
                      <a:pt x="3624" y="249"/>
                    </a:lnTo>
                    <a:lnTo>
                      <a:pt x="3624" y="285"/>
                    </a:lnTo>
                    <a:lnTo>
                      <a:pt x="3622" y="384"/>
                    </a:lnTo>
                    <a:lnTo>
                      <a:pt x="3615" y="482"/>
                    </a:lnTo>
                    <a:lnTo>
                      <a:pt x="3602" y="578"/>
                    </a:lnTo>
                    <a:lnTo>
                      <a:pt x="3586" y="673"/>
                    </a:lnTo>
                    <a:lnTo>
                      <a:pt x="3564" y="766"/>
                    </a:lnTo>
                    <a:lnTo>
                      <a:pt x="3538" y="857"/>
                    </a:lnTo>
                    <a:lnTo>
                      <a:pt x="3508" y="946"/>
                    </a:lnTo>
                    <a:lnTo>
                      <a:pt x="3473" y="1034"/>
                    </a:lnTo>
                    <a:lnTo>
                      <a:pt x="3434" y="1119"/>
                    </a:lnTo>
                    <a:lnTo>
                      <a:pt x="3392" y="1202"/>
                    </a:lnTo>
                    <a:lnTo>
                      <a:pt x="3346" y="1283"/>
                    </a:lnTo>
                    <a:lnTo>
                      <a:pt x="3295" y="1361"/>
                    </a:lnTo>
                    <a:lnTo>
                      <a:pt x="3242" y="1436"/>
                    </a:lnTo>
                    <a:lnTo>
                      <a:pt x="3185" y="1509"/>
                    </a:lnTo>
                    <a:lnTo>
                      <a:pt x="3124" y="1579"/>
                    </a:lnTo>
                    <a:lnTo>
                      <a:pt x="3060" y="1645"/>
                    </a:lnTo>
                    <a:lnTo>
                      <a:pt x="2994" y="1709"/>
                    </a:lnTo>
                    <a:lnTo>
                      <a:pt x="2923" y="1770"/>
                    </a:lnTo>
                    <a:lnTo>
                      <a:pt x="2851" y="1827"/>
                    </a:lnTo>
                    <a:lnTo>
                      <a:pt x="2775" y="1881"/>
                    </a:lnTo>
                    <a:lnTo>
                      <a:pt x="2697" y="1931"/>
                    </a:lnTo>
                    <a:lnTo>
                      <a:pt x="2616" y="1977"/>
                    </a:lnTo>
                    <a:lnTo>
                      <a:pt x="2533" y="2019"/>
                    </a:lnTo>
                    <a:lnTo>
                      <a:pt x="2448" y="2058"/>
                    </a:lnTo>
                    <a:lnTo>
                      <a:pt x="2360" y="2093"/>
                    </a:lnTo>
                    <a:lnTo>
                      <a:pt x="2271" y="2123"/>
                    </a:lnTo>
                    <a:lnTo>
                      <a:pt x="2179" y="2148"/>
                    </a:lnTo>
                    <a:lnTo>
                      <a:pt x="2087" y="2170"/>
                    </a:lnTo>
                    <a:lnTo>
                      <a:pt x="1991" y="2187"/>
                    </a:lnTo>
                    <a:lnTo>
                      <a:pt x="1895" y="2200"/>
                    </a:lnTo>
                    <a:lnTo>
                      <a:pt x="1798" y="2207"/>
                    </a:lnTo>
                    <a:lnTo>
                      <a:pt x="1698" y="2209"/>
                    </a:lnTo>
                    <a:lnTo>
                      <a:pt x="1633" y="2208"/>
                    </a:lnTo>
                    <a:lnTo>
                      <a:pt x="1566" y="2205"/>
                    </a:lnTo>
                    <a:lnTo>
                      <a:pt x="1502" y="2200"/>
                    </a:lnTo>
                    <a:lnTo>
                      <a:pt x="1438" y="2191"/>
                    </a:lnTo>
                    <a:lnTo>
                      <a:pt x="1374" y="2182"/>
                    </a:lnTo>
                    <a:lnTo>
                      <a:pt x="1311" y="2170"/>
                    </a:lnTo>
                    <a:lnTo>
                      <a:pt x="1249" y="2157"/>
                    </a:lnTo>
                    <a:lnTo>
                      <a:pt x="1188" y="2141"/>
                    </a:lnTo>
                    <a:lnTo>
                      <a:pt x="1127" y="2123"/>
                    </a:lnTo>
                    <a:lnTo>
                      <a:pt x="1067" y="2104"/>
                    </a:lnTo>
                    <a:lnTo>
                      <a:pt x="1008" y="2082"/>
                    </a:lnTo>
                    <a:lnTo>
                      <a:pt x="950" y="2059"/>
                    </a:lnTo>
                    <a:lnTo>
                      <a:pt x="894" y="2034"/>
                    </a:lnTo>
                    <a:lnTo>
                      <a:pt x="838" y="2007"/>
                    </a:lnTo>
                    <a:lnTo>
                      <a:pt x="782" y="1978"/>
                    </a:lnTo>
                    <a:lnTo>
                      <a:pt x="729" y="1948"/>
                    </a:lnTo>
                    <a:lnTo>
                      <a:pt x="676" y="1916"/>
                    </a:lnTo>
                    <a:lnTo>
                      <a:pt x="625" y="1883"/>
                    </a:lnTo>
                    <a:lnTo>
                      <a:pt x="574" y="1847"/>
                    </a:lnTo>
                    <a:lnTo>
                      <a:pt x="525" y="1810"/>
                    </a:lnTo>
                    <a:lnTo>
                      <a:pt x="476" y="1772"/>
                    </a:lnTo>
                    <a:lnTo>
                      <a:pt x="429" y="1733"/>
                    </a:lnTo>
                    <a:lnTo>
                      <a:pt x="384" y="1692"/>
                    </a:lnTo>
                    <a:lnTo>
                      <a:pt x="340" y="1649"/>
                    </a:lnTo>
                    <a:lnTo>
                      <a:pt x="297" y="1606"/>
                    </a:lnTo>
                    <a:lnTo>
                      <a:pt x="256" y="1559"/>
                    </a:lnTo>
                    <a:lnTo>
                      <a:pt x="216" y="1513"/>
                    </a:lnTo>
                    <a:lnTo>
                      <a:pt x="177" y="1465"/>
                    </a:lnTo>
                    <a:lnTo>
                      <a:pt x="140" y="1417"/>
                    </a:lnTo>
                    <a:lnTo>
                      <a:pt x="104" y="1366"/>
                    </a:lnTo>
                    <a:lnTo>
                      <a:pt x="71" y="1315"/>
                    </a:lnTo>
                    <a:lnTo>
                      <a:pt x="38" y="1262"/>
                    </a:lnTo>
                    <a:lnTo>
                      <a:pt x="34" y="1270"/>
                    </a:lnTo>
                    <a:lnTo>
                      <a:pt x="4" y="1327"/>
                    </a:lnTo>
                    <a:lnTo>
                      <a:pt x="0" y="1331"/>
                    </a:lnTo>
                    <a:lnTo>
                      <a:pt x="34" y="1384"/>
                    </a:lnTo>
                    <a:lnTo>
                      <a:pt x="70" y="1435"/>
                    </a:lnTo>
                    <a:lnTo>
                      <a:pt x="106" y="1486"/>
                    </a:lnTo>
                    <a:lnTo>
                      <a:pt x="144" y="1535"/>
                    </a:lnTo>
                    <a:lnTo>
                      <a:pt x="184" y="1583"/>
                    </a:lnTo>
                    <a:lnTo>
                      <a:pt x="226" y="1630"/>
                    </a:lnTo>
                    <a:lnTo>
                      <a:pt x="268" y="1675"/>
                    </a:lnTo>
                    <a:lnTo>
                      <a:pt x="312" y="1719"/>
                    </a:lnTo>
                    <a:lnTo>
                      <a:pt x="359" y="1762"/>
                    </a:lnTo>
                    <a:lnTo>
                      <a:pt x="405" y="1803"/>
                    </a:lnTo>
                    <a:lnTo>
                      <a:pt x="453" y="1843"/>
                    </a:lnTo>
                    <a:lnTo>
                      <a:pt x="503" y="1881"/>
                    </a:lnTo>
                    <a:lnTo>
                      <a:pt x="553" y="1917"/>
                    </a:lnTo>
                    <a:lnTo>
                      <a:pt x="605" y="1952"/>
                    </a:lnTo>
                    <a:lnTo>
                      <a:pt x="658" y="1986"/>
                    </a:lnTo>
                    <a:lnTo>
                      <a:pt x="712" y="2018"/>
                    </a:lnTo>
                    <a:lnTo>
                      <a:pt x="766" y="2048"/>
                    </a:lnTo>
                    <a:lnTo>
                      <a:pt x="823" y="2077"/>
                    </a:lnTo>
                    <a:lnTo>
                      <a:pt x="880" y="2103"/>
                    </a:lnTo>
                    <a:lnTo>
                      <a:pt x="938" y="2128"/>
                    </a:lnTo>
                    <a:lnTo>
                      <a:pt x="998" y="2152"/>
                    </a:lnTo>
                    <a:lnTo>
                      <a:pt x="1058" y="2173"/>
                    </a:lnTo>
                    <a:lnTo>
                      <a:pt x="1118" y="2192"/>
                    </a:lnTo>
                    <a:lnTo>
                      <a:pt x="1180" y="2210"/>
                    </a:lnTo>
                    <a:lnTo>
                      <a:pt x="1242" y="2226"/>
                    </a:lnTo>
                    <a:lnTo>
                      <a:pt x="1305" y="2240"/>
                    </a:lnTo>
                    <a:lnTo>
                      <a:pt x="1369" y="2251"/>
                    </a:lnTo>
                    <a:lnTo>
                      <a:pt x="1434" y="2261"/>
                    </a:lnTo>
                    <a:lnTo>
                      <a:pt x="1499" y="2268"/>
                    </a:lnTo>
                    <a:lnTo>
                      <a:pt x="1564" y="2273"/>
                    </a:lnTo>
                    <a:lnTo>
                      <a:pt x="1632" y="2276"/>
                    </a:lnTo>
                    <a:lnTo>
                      <a:pt x="1698" y="2279"/>
                    </a:lnTo>
                    <a:lnTo>
                      <a:pt x="1801" y="2275"/>
                    </a:lnTo>
                    <a:lnTo>
                      <a:pt x="1902" y="2268"/>
                    </a:lnTo>
                    <a:lnTo>
                      <a:pt x="2002" y="2255"/>
                    </a:lnTo>
                    <a:lnTo>
                      <a:pt x="2100" y="2238"/>
                    </a:lnTo>
                    <a:lnTo>
                      <a:pt x="2197" y="2216"/>
                    </a:lnTo>
                    <a:lnTo>
                      <a:pt x="2292" y="2188"/>
                    </a:lnTo>
                    <a:lnTo>
                      <a:pt x="2384" y="2157"/>
                    </a:lnTo>
                    <a:lnTo>
                      <a:pt x="2475" y="2121"/>
                    </a:lnTo>
                    <a:lnTo>
                      <a:pt x="2563" y="2081"/>
                    </a:lnTo>
                    <a:lnTo>
                      <a:pt x="2649" y="2037"/>
                    </a:lnTo>
                    <a:lnTo>
                      <a:pt x="2733" y="1990"/>
                    </a:lnTo>
                    <a:lnTo>
                      <a:pt x="2814" y="1937"/>
                    </a:lnTo>
                    <a:lnTo>
                      <a:pt x="2892" y="1882"/>
                    </a:lnTo>
                    <a:lnTo>
                      <a:pt x="2968" y="1823"/>
                    </a:lnTo>
                    <a:lnTo>
                      <a:pt x="3040" y="1760"/>
                    </a:lnTo>
                    <a:lnTo>
                      <a:pt x="3109" y="1695"/>
                    </a:lnTo>
                    <a:lnTo>
                      <a:pt x="3175" y="1625"/>
                    </a:lnTo>
                    <a:lnTo>
                      <a:pt x="3238" y="1553"/>
                    </a:lnTo>
                    <a:lnTo>
                      <a:pt x="3297" y="1477"/>
                    </a:lnTo>
                    <a:lnTo>
                      <a:pt x="3352" y="1400"/>
                    </a:lnTo>
                    <a:lnTo>
                      <a:pt x="3405" y="1319"/>
                    </a:lnTo>
                    <a:lnTo>
                      <a:pt x="3452" y="1235"/>
                    </a:lnTo>
                    <a:lnTo>
                      <a:pt x="3496" y="1149"/>
                    </a:lnTo>
                    <a:lnTo>
                      <a:pt x="3536" y="1061"/>
                    </a:lnTo>
                    <a:lnTo>
                      <a:pt x="3572" y="970"/>
                    </a:lnTo>
                    <a:lnTo>
                      <a:pt x="3603" y="878"/>
                    </a:lnTo>
                    <a:lnTo>
                      <a:pt x="3631" y="783"/>
                    </a:lnTo>
                    <a:lnTo>
                      <a:pt x="3653" y="687"/>
                    </a:lnTo>
                    <a:lnTo>
                      <a:pt x="3671" y="588"/>
                    </a:lnTo>
                    <a:lnTo>
                      <a:pt x="3683" y="488"/>
                    </a:lnTo>
                    <a:lnTo>
                      <a:pt x="3691" y="388"/>
                    </a:lnTo>
                    <a:lnTo>
                      <a:pt x="3694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138480" y="2901960"/>
                <a:ext cx="1155600" cy="712800"/>
              </a:xfrm>
              <a:custGeom>
                <a:avLst/>
                <a:gdLst/>
                <a:ahLst/>
                <a:rect l="l" t="t" r="r" b="b"/>
                <a:pathLst>
                  <a:path w="3639" h="2244">
                    <a:moveTo>
                      <a:pt x="3639" y="285"/>
                    </a:moveTo>
                    <a:lnTo>
                      <a:pt x="3639" y="249"/>
                    </a:lnTo>
                    <a:lnTo>
                      <a:pt x="3638" y="213"/>
                    </a:lnTo>
                    <a:lnTo>
                      <a:pt x="3636" y="176"/>
                    </a:lnTo>
                    <a:lnTo>
                      <a:pt x="3634" y="141"/>
                    </a:lnTo>
                    <a:lnTo>
                      <a:pt x="3631" y="106"/>
                    </a:lnTo>
                    <a:lnTo>
                      <a:pt x="3628" y="70"/>
                    </a:lnTo>
                    <a:lnTo>
                      <a:pt x="3623" y="36"/>
                    </a:lnTo>
                    <a:lnTo>
                      <a:pt x="3618" y="0"/>
                    </a:lnTo>
                    <a:lnTo>
                      <a:pt x="3574" y="0"/>
                    </a:lnTo>
                    <a:lnTo>
                      <a:pt x="3549" y="0"/>
                    </a:lnTo>
                    <a:lnTo>
                      <a:pt x="3554" y="36"/>
                    </a:lnTo>
                    <a:lnTo>
                      <a:pt x="3558" y="70"/>
                    </a:lnTo>
                    <a:lnTo>
                      <a:pt x="3561" y="106"/>
                    </a:lnTo>
                    <a:lnTo>
                      <a:pt x="3565" y="141"/>
                    </a:lnTo>
                    <a:lnTo>
                      <a:pt x="3567" y="176"/>
                    </a:lnTo>
                    <a:lnTo>
                      <a:pt x="3569" y="213"/>
                    </a:lnTo>
                    <a:lnTo>
                      <a:pt x="3570" y="249"/>
                    </a:lnTo>
                    <a:lnTo>
                      <a:pt x="3570" y="285"/>
                    </a:lnTo>
                    <a:lnTo>
                      <a:pt x="3568" y="382"/>
                    </a:lnTo>
                    <a:lnTo>
                      <a:pt x="3560" y="478"/>
                    </a:lnTo>
                    <a:lnTo>
                      <a:pt x="3549" y="572"/>
                    </a:lnTo>
                    <a:lnTo>
                      <a:pt x="3532" y="666"/>
                    </a:lnTo>
                    <a:lnTo>
                      <a:pt x="3511" y="757"/>
                    </a:lnTo>
                    <a:lnTo>
                      <a:pt x="3485" y="847"/>
                    </a:lnTo>
                    <a:lnTo>
                      <a:pt x="3455" y="935"/>
                    </a:lnTo>
                    <a:lnTo>
                      <a:pt x="3422" y="1021"/>
                    </a:lnTo>
                    <a:lnTo>
                      <a:pt x="3384" y="1105"/>
                    </a:lnTo>
                    <a:lnTo>
                      <a:pt x="3342" y="1186"/>
                    </a:lnTo>
                    <a:lnTo>
                      <a:pt x="3297" y="1265"/>
                    </a:lnTo>
                    <a:lnTo>
                      <a:pt x="3247" y="1342"/>
                    </a:lnTo>
                    <a:lnTo>
                      <a:pt x="3195" y="1415"/>
                    </a:lnTo>
                    <a:lnTo>
                      <a:pt x="3138" y="1487"/>
                    </a:lnTo>
                    <a:lnTo>
                      <a:pt x="3079" y="1556"/>
                    </a:lnTo>
                    <a:lnTo>
                      <a:pt x="3016" y="1621"/>
                    </a:lnTo>
                    <a:lnTo>
                      <a:pt x="2951" y="1684"/>
                    </a:lnTo>
                    <a:lnTo>
                      <a:pt x="2881" y="1743"/>
                    </a:lnTo>
                    <a:lnTo>
                      <a:pt x="2810" y="1800"/>
                    </a:lnTo>
                    <a:lnTo>
                      <a:pt x="2736" y="1852"/>
                    </a:lnTo>
                    <a:lnTo>
                      <a:pt x="2660" y="1902"/>
                    </a:lnTo>
                    <a:lnTo>
                      <a:pt x="2580" y="1947"/>
                    </a:lnTo>
                    <a:lnTo>
                      <a:pt x="2499" y="1989"/>
                    </a:lnTo>
                    <a:lnTo>
                      <a:pt x="2415" y="2027"/>
                    </a:lnTo>
                    <a:lnTo>
                      <a:pt x="2328" y="2060"/>
                    </a:lnTo>
                    <a:lnTo>
                      <a:pt x="2241" y="2090"/>
                    </a:lnTo>
                    <a:lnTo>
                      <a:pt x="2151" y="2116"/>
                    </a:lnTo>
                    <a:lnTo>
                      <a:pt x="2059" y="2137"/>
                    </a:lnTo>
                    <a:lnTo>
                      <a:pt x="1966" y="2154"/>
                    </a:lnTo>
                    <a:lnTo>
                      <a:pt x="1871" y="2165"/>
                    </a:lnTo>
                    <a:lnTo>
                      <a:pt x="1776" y="2173"/>
                    </a:lnTo>
                    <a:lnTo>
                      <a:pt x="1678" y="2175"/>
                    </a:lnTo>
                    <a:lnTo>
                      <a:pt x="1613" y="2174"/>
                    </a:lnTo>
                    <a:lnTo>
                      <a:pt x="1547" y="2170"/>
                    </a:lnTo>
                    <a:lnTo>
                      <a:pt x="1483" y="2165"/>
                    </a:lnTo>
                    <a:lnTo>
                      <a:pt x="1419" y="2158"/>
                    </a:lnTo>
                    <a:lnTo>
                      <a:pt x="1356" y="2147"/>
                    </a:lnTo>
                    <a:lnTo>
                      <a:pt x="1294" y="2136"/>
                    </a:lnTo>
                    <a:lnTo>
                      <a:pt x="1232" y="2122"/>
                    </a:lnTo>
                    <a:lnTo>
                      <a:pt x="1171" y="2106"/>
                    </a:lnTo>
                    <a:lnTo>
                      <a:pt x="1111" y="2089"/>
                    </a:lnTo>
                    <a:lnTo>
                      <a:pt x="1051" y="2069"/>
                    </a:lnTo>
                    <a:lnTo>
                      <a:pt x="993" y="2048"/>
                    </a:lnTo>
                    <a:lnTo>
                      <a:pt x="936" y="2024"/>
                    </a:lnTo>
                    <a:lnTo>
                      <a:pt x="879" y="1999"/>
                    </a:lnTo>
                    <a:lnTo>
                      <a:pt x="824" y="1972"/>
                    </a:lnTo>
                    <a:lnTo>
                      <a:pt x="770" y="1944"/>
                    </a:lnTo>
                    <a:lnTo>
                      <a:pt x="716" y="1913"/>
                    </a:lnTo>
                    <a:lnTo>
                      <a:pt x="663" y="1881"/>
                    </a:lnTo>
                    <a:lnTo>
                      <a:pt x="613" y="1847"/>
                    </a:lnTo>
                    <a:lnTo>
                      <a:pt x="563" y="1811"/>
                    </a:lnTo>
                    <a:lnTo>
                      <a:pt x="514" y="1775"/>
                    </a:lnTo>
                    <a:lnTo>
                      <a:pt x="466" y="1737"/>
                    </a:lnTo>
                    <a:lnTo>
                      <a:pt x="420" y="1697"/>
                    </a:lnTo>
                    <a:lnTo>
                      <a:pt x="375" y="1655"/>
                    </a:lnTo>
                    <a:lnTo>
                      <a:pt x="331" y="1613"/>
                    </a:lnTo>
                    <a:lnTo>
                      <a:pt x="289" y="1569"/>
                    </a:lnTo>
                    <a:lnTo>
                      <a:pt x="248" y="1523"/>
                    </a:lnTo>
                    <a:lnTo>
                      <a:pt x="209" y="1476"/>
                    </a:lnTo>
                    <a:lnTo>
                      <a:pt x="171" y="1428"/>
                    </a:lnTo>
                    <a:lnTo>
                      <a:pt x="136" y="1379"/>
                    </a:lnTo>
                    <a:lnTo>
                      <a:pt x="101" y="1328"/>
                    </a:lnTo>
                    <a:lnTo>
                      <a:pt x="67" y="1277"/>
                    </a:lnTo>
                    <a:lnTo>
                      <a:pt x="36" y="1224"/>
                    </a:lnTo>
                    <a:lnTo>
                      <a:pt x="14" y="1270"/>
                    </a:lnTo>
                    <a:lnTo>
                      <a:pt x="0" y="1298"/>
                    </a:lnTo>
                    <a:lnTo>
                      <a:pt x="33" y="1350"/>
                    </a:lnTo>
                    <a:lnTo>
                      <a:pt x="67" y="1402"/>
                    </a:lnTo>
                    <a:lnTo>
                      <a:pt x="103" y="1452"/>
                    </a:lnTo>
                    <a:lnTo>
                      <a:pt x="141" y="1502"/>
                    </a:lnTo>
                    <a:lnTo>
                      <a:pt x="181" y="1549"/>
                    </a:lnTo>
                    <a:lnTo>
                      <a:pt x="221" y="1596"/>
                    </a:lnTo>
                    <a:lnTo>
                      <a:pt x="263" y="1641"/>
                    </a:lnTo>
                    <a:lnTo>
                      <a:pt x="307" y="1685"/>
                    </a:lnTo>
                    <a:lnTo>
                      <a:pt x="351" y="1727"/>
                    </a:lnTo>
                    <a:lnTo>
                      <a:pt x="397" y="1768"/>
                    </a:lnTo>
                    <a:lnTo>
                      <a:pt x="445" y="1808"/>
                    </a:lnTo>
                    <a:lnTo>
                      <a:pt x="494" y="1846"/>
                    </a:lnTo>
                    <a:lnTo>
                      <a:pt x="544" y="1883"/>
                    </a:lnTo>
                    <a:lnTo>
                      <a:pt x="595" y="1918"/>
                    </a:lnTo>
                    <a:lnTo>
                      <a:pt x="648" y="1952"/>
                    </a:lnTo>
                    <a:lnTo>
                      <a:pt x="701" y="1984"/>
                    </a:lnTo>
                    <a:lnTo>
                      <a:pt x="755" y="2014"/>
                    </a:lnTo>
                    <a:lnTo>
                      <a:pt x="811" y="2042"/>
                    </a:lnTo>
                    <a:lnTo>
                      <a:pt x="867" y="2069"/>
                    </a:lnTo>
                    <a:lnTo>
                      <a:pt x="925" y="2094"/>
                    </a:lnTo>
                    <a:lnTo>
                      <a:pt x="983" y="2117"/>
                    </a:lnTo>
                    <a:lnTo>
                      <a:pt x="1043" y="2139"/>
                    </a:lnTo>
                    <a:lnTo>
                      <a:pt x="1103" y="2158"/>
                    </a:lnTo>
                    <a:lnTo>
                      <a:pt x="1164" y="2176"/>
                    </a:lnTo>
                    <a:lnTo>
                      <a:pt x="1226" y="2191"/>
                    </a:lnTo>
                    <a:lnTo>
                      <a:pt x="1289" y="2205"/>
                    </a:lnTo>
                    <a:lnTo>
                      <a:pt x="1352" y="2217"/>
                    </a:lnTo>
                    <a:lnTo>
                      <a:pt x="1416" y="2226"/>
                    </a:lnTo>
                    <a:lnTo>
                      <a:pt x="1480" y="2233"/>
                    </a:lnTo>
                    <a:lnTo>
                      <a:pt x="1545" y="2240"/>
                    </a:lnTo>
                    <a:lnTo>
                      <a:pt x="1612" y="2243"/>
                    </a:lnTo>
                    <a:lnTo>
                      <a:pt x="1678" y="2244"/>
                    </a:lnTo>
                    <a:lnTo>
                      <a:pt x="1779" y="2241"/>
                    </a:lnTo>
                    <a:lnTo>
                      <a:pt x="1879" y="2233"/>
                    </a:lnTo>
                    <a:lnTo>
                      <a:pt x="1976" y="2221"/>
                    </a:lnTo>
                    <a:lnTo>
                      <a:pt x="2073" y="2204"/>
                    </a:lnTo>
                    <a:lnTo>
                      <a:pt x="2169" y="2182"/>
                    </a:lnTo>
                    <a:lnTo>
                      <a:pt x="2261" y="2156"/>
                    </a:lnTo>
                    <a:lnTo>
                      <a:pt x="2353" y="2125"/>
                    </a:lnTo>
                    <a:lnTo>
                      <a:pt x="2441" y="2090"/>
                    </a:lnTo>
                    <a:lnTo>
                      <a:pt x="2528" y="2051"/>
                    </a:lnTo>
                    <a:lnTo>
                      <a:pt x="2613" y="2008"/>
                    </a:lnTo>
                    <a:lnTo>
                      <a:pt x="2695" y="1960"/>
                    </a:lnTo>
                    <a:lnTo>
                      <a:pt x="2774" y="1909"/>
                    </a:lnTo>
                    <a:lnTo>
                      <a:pt x="2851" y="1854"/>
                    </a:lnTo>
                    <a:lnTo>
                      <a:pt x="2925" y="1797"/>
                    </a:lnTo>
                    <a:lnTo>
                      <a:pt x="2997" y="1735"/>
                    </a:lnTo>
                    <a:lnTo>
                      <a:pt x="3064" y="1670"/>
                    </a:lnTo>
                    <a:lnTo>
                      <a:pt x="3129" y="1602"/>
                    </a:lnTo>
                    <a:lnTo>
                      <a:pt x="3191" y="1531"/>
                    </a:lnTo>
                    <a:lnTo>
                      <a:pt x="3249" y="1457"/>
                    </a:lnTo>
                    <a:lnTo>
                      <a:pt x="3304" y="1380"/>
                    </a:lnTo>
                    <a:lnTo>
                      <a:pt x="3355" y="1301"/>
                    </a:lnTo>
                    <a:lnTo>
                      <a:pt x="3403" y="1219"/>
                    </a:lnTo>
                    <a:lnTo>
                      <a:pt x="3446" y="1134"/>
                    </a:lnTo>
                    <a:lnTo>
                      <a:pt x="3485" y="1047"/>
                    </a:lnTo>
                    <a:lnTo>
                      <a:pt x="3520" y="959"/>
                    </a:lnTo>
                    <a:lnTo>
                      <a:pt x="3551" y="867"/>
                    </a:lnTo>
                    <a:lnTo>
                      <a:pt x="3577" y="775"/>
                    </a:lnTo>
                    <a:lnTo>
                      <a:pt x="3599" y="679"/>
                    </a:lnTo>
                    <a:lnTo>
                      <a:pt x="3616" y="583"/>
                    </a:lnTo>
                    <a:lnTo>
                      <a:pt x="3629" y="485"/>
                    </a:lnTo>
                    <a:lnTo>
                      <a:pt x="3636" y="385"/>
                    </a:lnTo>
                    <a:lnTo>
                      <a:pt x="3639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44960" y="2901960"/>
                <a:ext cx="1137960" cy="701640"/>
              </a:xfrm>
              <a:custGeom>
                <a:avLst/>
                <a:gdLst/>
                <a:ahLst/>
                <a:rect l="l" t="t" r="r" b="b"/>
                <a:pathLst>
                  <a:path w="3586" h="2209">
                    <a:moveTo>
                      <a:pt x="3586" y="285"/>
                    </a:moveTo>
                    <a:lnTo>
                      <a:pt x="3586" y="249"/>
                    </a:lnTo>
                    <a:lnTo>
                      <a:pt x="3585" y="213"/>
                    </a:lnTo>
                    <a:lnTo>
                      <a:pt x="3583" y="176"/>
                    </a:lnTo>
                    <a:lnTo>
                      <a:pt x="3581" y="141"/>
                    </a:lnTo>
                    <a:lnTo>
                      <a:pt x="3578" y="106"/>
                    </a:lnTo>
                    <a:lnTo>
                      <a:pt x="3575" y="70"/>
                    </a:lnTo>
                    <a:lnTo>
                      <a:pt x="3571" y="36"/>
                    </a:lnTo>
                    <a:lnTo>
                      <a:pt x="3565" y="0"/>
                    </a:lnTo>
                    <a:lnTo>
                      <a:pt x="3556" y="0"/>
                    </a:lnTo>
                    <a:lnTo>
                      <a:pt x="3496" y="0"/>
                    </a:lnTo>
                    <a:lnTo>
                      <a:pt x="3501" y="36"/>
                    </a:lnTo>
                    <a:lnTo>
                      <a:pt x="3506" y="70"/>
                    </a:lnTo>
                    <a:lnTo>
                      <a:pt x="3510" y="106"/>
                    </a:lnTo>
                    <a:lnTo>
                      <a:pt x="3512" y="141"/>
                    </a:lnTo>
                    <a:lnTo>
                      <a:pt x="3515" y="176"/>
                    </a:lnTo>
                    <a:lnTo>
                      <a:pt x="3516" y="212"/>
                    </a:lnTo>
                    <a:lnTo>
                      <a:pt x="3517" y="249"/>
                    </a:lnTo>
                    <a:lnTo>
                      <a:pt x="3518" y="285"/>
                    </a:lnTo>
                    <a:lnTo>
                      <a:pt x="3515" y="380"/>
                    </a:lnTo>
                    <a:lnTo>
                      <a:pt x="3509" y="475"/>
                    </a:lnTo>
                    <a:lnTo>
                      <a:pt x="3496" y="567"/>
                    </a:lnTo>
                    <a:lnTo>
                      <a:pt x="3480" y="658"/>
                    </a:lnTo>
                    <a:lnTo>
                      <a:pt x="3459" y="749"/>
                    </a:lnTo>
                    <a:lnTo>
                      <a:pt x="3434" y="837"/>
                    </a:lnTo>
                    <a:lnTo>
                      <a:pt x="3405" y="923"/>
                    </a:lnTo>
                    <a:lnTo>
                      <a:pt x="3372" y="1007"/>
                    </a:lnTo>
                    <a:lnTo>
                      <a:pt x="3334" y="1090"/>
                    </a:lnTo>
                    <a:lnTo>
                      <a:pt x="3293" y="1170"/>
                    </a:lnTo>
                    <a:lnTo>
                      <a:pt x="3249" y="1247"/>
                    </a:lnTo>
                    <a:lnTo>
                      <a:pt x="3201" y="1322"/>
                    </a:lnTo>
                    <a:lnTo>
                      <a:pt x="3148" y="1396"/>
                    </a:lnTo>
                    <a:lnTo>
                      <a:pt x="3094" y="1465"/>
                    </a:lnTo>
                    <a:lnTo>
                      <a:pt x="3035" y="1533"/>
                    </a:lnTo>
                    <a:lnTo>
                      <a:pt x="2974" y="1597"/>
                    </a:lnTo>
                    <a:lnTo>
                      <a:pt x="2910" y="1658"/>
                    </a:lnTo>
                    <a:lnTo>
                      <a:pt x="2841" y="1717"/>
                    </a:lnTo>
                    <a:lnTo>
                      <a:pt x="2772" y="1772"/>
                    </a:lnTo>
                    <a:lnTo>
                      <a:pt x="2698" y="1824"/>
                    </a:lnTo>
                    <a:lnTo>
                      <a:pt x="2624" y="1872"/>
                    </a:lnTo>
                    <a:lnTo>
                      <a:pt x="2546" y="1916"/>
                    </a:lnTo>
                    <a:lnTo>
                      <a:pt x="2465" y="1957"/>
                    </a:lnTo>
                    <a:lnTo>
                      <a:pt x="2383" y="1995"/>
                    </a:lnTo>
                    <a:lnTo>
                      <a:pt x="2299" y="2028"/>
                    </a:lnTo>
                    <a:lnTo>
                      <a:pt x="2213" y="2057"/>
                    </a:lnTo>
                    <a:lnTo>
                      <a:pt x="2124" y="2082"/>
                    </a:lnTo>
                    <a:lnTo>
                      <a:pt x="2035" y="2103"/>
                    </a:lnTo>
                    <a:lnTo>
                      <a:pt x="1943" y="2119"/>
                    </a:lnTo>
                    <a:lnTo>
                      <a:pt x="1850" y="2131"/>
                    </a:lnTo>
                    <a:lnTo>
                      <a:pt x="1755" y="2138"/>
                    </a:lnTo>
                    <a:lnTo>
                      <a:pt x="1660" y="2141"/>
                    </a:lnTo>
                    <a:lnTo>
                      <a:pt x="1595" y="2140"/>
                    </a:lnTo>
                    <a:lnTo>
                      <a:pt x="1530" y="2136"/>
                    </a:lnTo>
                    <a:lnTo>
                      <a:pt x="1466" y="2131"/>
                    </a:lnTo>
                    <a:lnTo>
                      <a:pt x="1403" y="2123"/>
                    </a:lnTo>
                    <a:lnTo>
                      <a:pt x="1340" y="2114"/>
                    </a:lnTo>
                    <a:lnTo>
                      <a:pt x="1278" y="2101"/>
                    </a:lnTo>
                    <a:lnTo>
                      <a:pt x="1217" y="2087"/>
                    </a:lnTo>
                    <a:lnTo>
                      <a:pt x="1156" y="2072"/>
                    </a:lnTo>
                    <a:lnTo>
                      <a:pt x="1097" y="2054"/>
                    </a:lnTo>
                    <a:lnTo>
                      <a:pt x="1039" y="2034"/>
                    </a:lnTo>
                    <a:lnTo>
                      <a:pt x="981" y="2013"/>
                    </a:lnTo>
                    <a:lnTo>
                      <a:pt x="924" y="1989"/>
                    </a:lnTo>
                    <a:lnTo>
                      <a:pt x="867" y="1964"/>
                    </a:lnTo>
                    <a:lnTo>
                      <a:pt x="813" y="1936"/>
                    </a:lnTo>
                    <a:lnTo>
                      <a:pt x="759" y="1908"/>
                    </a:lnTo>
                    <a:lnTo>
                      <a:pt x="706" y="1877"/>
                    </a:lnTo>
                    <a:lnTo>
                      <a:pt x="654" y="1845"/>
                    </a:lnTo>
                    <a:lnTo>
                      <a:pt x="603" y="1811"/>
                    </a:lnTo>
                    <a:lnTo>
                      <a:pt x="554" y="1776"/>
                    </a:lnTo>
                    <a:lnTo>
                      <a:pt x="506" y="1739"/>
                    </a:lnTo>
                    <a:lnTo>
                      <a:pt x="459" y="1700"/>
                    </a:lnTo>
                    <a:lnTo>
                      <a:pt x="413" y="1660"/>
                    </a:lnTo>
                    <a:lnTo>
                      <a:pt x="369" y="1619"/>
                    </a:lnTo>
                    <a:lnTo>
                      <a:pt x="326" y="1576"/>
                    </a:lnTo>
                    <a:lnTo>
                      <a:pt x="285" y="1532"/>
                    </a:lnTo>
                    <a:lnTo>
                      <a:pt x="245" y="1487"/>
                    </a:lnTo>
                    <a:lnTo>
                      <a:pt x="206" y="1440"/>
                    </a:lnTo>
                    <a:lnTo>
                      <a:pt x="169" y="1391"/>
                    </a:lnTo>
                    <a:lnTo>
                      <a:pt x="134" y="1342"/>
                    </a:lnTo>
                    <a:lnTo>
                      <a:pt x="100" y="1292"/>
                    </a:lnTo>
                    <a:lnTo>
                      <a:pt x="67" y="1240"/>
                    </a:lnTo>
                    <a:lnTo>
                      <a:pt x="37" y="1188"/>
                    </a:lnTo>
                    <a:lnTo>
                      <a:pt x="23" y="1213"/>
                    </a:lnTo>
                    <a:lnTo>
                      <a:pt x="0" y="1262"/>
                    </a:lnTo>
                    <a:lnTo>
                      <a:pt x="33" y="1315"/>
                    </a:lnTo>
                    <a:lnTo>
                      <a:pt x="66" y="1366"/>
                    </a:lnTo>
                    <a:lnTo>
                      <a:pt x="102" y="1417"/>
                    </a:lnTo>
                    <a:lnTo>
                      <a:pt x="139" y="1465"/>
                    </a:lnTo>
                    <a:lnTo>
                      <a:pt x="178" y="1513"/>
                    </a:lnTo>
                    <a:lnTo>
                      <a:pt x="218" y="1559"/>
                    </a:lnTo>
                    <a:lnTo>
                      <a:pt x="259" y="1606"/>
                    </a:lnTo>
                    <a:lnTo>
                      <a:pt x="302" y="1649"/>
                    </a:lnTo>
                    <a:lnTo>
                      <a:pt x="346" y="1692"/>
                    </a:lnTo>
                    <a:lnTo>
                      <a:pt x="391" y="1733"/>
                    </a:lnTo>
                    <a:lnTo>
                      <a:pt x="438" y="1772"/>
                    </a:lnTo>
                    <a:lnTo>
                      <a:pt x="487" y="1810"/>
                    </a:lnTo>
                    <a:lnTo>
                      <a:pt x="536" y="1847"/>
                    </a:lnTo>
                    <a:lnTo>
                      <a:pt x="587" y="1883"/>
                    </a:lnTo>
                    <a:lnTo>
                      <a:pt x="638" y="1916"/>
                    </a:lnTo>
                    <a:lnTo>
                      <a:pt x="691" y="1948"/>
                    </a:lnTo>
                    <a:lnTo>
                      <a:pt x="744" y="1978"/>
                    </a:lnTo>
                    <a:lnTo>
                      <a:pt x="800" y="2007"/>
                    </a:lnTo>
                    <a:lnTo>
                      <a:pt x="856" y="2034"/>
                    </a:lnTo>
                    <a:lnTo>
                      <a:pt x="912" y="2059"/>
                    </a:lnTo>
                    <a:lnTo>
                      <a:pt x="970" y="2082"/>
                    </a:lnTo>
                    <a:lnTo>
                      <a:pt x="1029" y="2104"/>
                    </a:lnTo>
                    <a:lnTo>
                      <a:pt x="1089" y="2123"/>
                    </a:lnTo>
                    <a:lnTo>
                      <a:pt x="1150" y="2141"/>
                    </a:lnTo>
                    <a:lnTo>
                      <a:pt x="1211" y="2157"/>
                    </a:lnTo>
                    <a:lnTo>
                      <a:pt x="1273" y="2170"/>
                    </a:lnTo>
                    <a:lnTo>
                      <a:pt x="1336" y="2182"/>
                    </a:lnTo>
                    <a:lnTo>
                      <a:pt x="1400" y="2191"/>
                    </a:lnTo>
                    <a:lnTo>
                      <a:pt x="1464" y="2200"/>
                    </a:lnTo>
                    <a:lnTo>
                      <a:pt x="1528" y="2205"/>
                    </a:lnTo>
                    <a:lnTo>
                      <a:pt x="1595" y="2208"/>
                    </a:lnTo>
                    <a:lnTo>
                      <a:pt x="1660" y="2209"/>
                    </a:lnTo>
                    <a:lnTo>
                      <a:pt x="1760" y="2207"/>
                    </a:lnTo>
                    <a:lnTo>
                      <a:pt x="1857" y="2200"/>
                    </a:lnTo>
                    <a:lnTo>
                      <a:pt x="1953" y="2187"/>
                    </a:lnTo>
                    <a:lnTo>
                      <a:pt x="2049" y="2170"/>
                    </a:lnTo>
                    <a:lnTo>
                      <a:pt x="2141" y="2148"/>
                    </a:lnTo>
                    <a:lnTo>
                      <a:pt x="2233" y="2123"/>
                    </a:lnTo>
                    <a:lnTo>
                      <a:pt x="2322" y="2093"/>
                    </a:lnTo>
                    <a:lnTo>
                      <a:pt x="2410" y="2058"/>
                    </a:lnTo>
                    <a:lnTo>
                      <a:pt x="2495" y="2019"/>
                    </a:lnTo>
                    <a:lnTo>
                      <a:pt x="2578" y="1977"/>
                    </a:lnTo>
                    <a:lnTo>
                      <a:pt x="2659" y="1931"/>
                    </a:lnTo>
                    <a:lnTo>
                      <a:pt x="2737" y="1881"/>
                    </a:lnTo>
                    <a:lnTo>
                      <a:pt x="2813" y="1827"/>
                    </a:lnTo>
                    <a:lnTo>
                      <a:pt x="2885" y="1770"/>
                    </a:lnTo>
                    <a:lnTo>
                      <a:pt x="2956" y="1709"/>
                    </a:lnTo>
                    <a:lnTo>
                      <a:pt x="3022" y="1645"/>
                    </a:lnTo>
                    <a:lnTo>
                      <a:pt x="3086" y="1579"/>
                    </a:lnTo>
                    <a:lnTo>
                      <a:pt x="3147" y="1509"/>
                    </a:lnTo>
                    <a:lnTo>
                      <a:pt x="3204" y="1436"/>
                    </a:lnTo>
                    <a:lnTo>
                      <a:pt x="3257" y="1361"/>
                    </a:lnTo>
                    <a:lnTo>
                      <a:pt x="3308" y="1283"/>
                    </a:lnTo>
                    <a:lnTo>
                      <a:pt x="3354" y="1202"/>
                    </a:lnTo>
                    <a:lnTo>
                      <a:pt x="3396" y="1119"/>
                    </a:lnTo>
                    <a:lnTo>
                      <a:pt x="3435" y="1034"/>
                    </a:lnTo>
                    <a:lnTo>
                      <a:pt x="3470" y="946"/>
                    </a:lnTo>
                    <a:lnTo>
                      <a:pt x="3500" y="857"/>
                    </a:lnTo>
                    <a:lnTo>
                      <a:pt x="3526" y="766"/>
                    </a:lnTo>
                    <a:lnTo>
                      <a:pt x="3548" y="673"/>
                    </a:lnTo>
                    <a:lnTo>
                      <a:pt x="3564" y="578"/>
                    </a:lnTo>
                    <a:lnTo>
                      <a:pt x="3577" y="482"/>
                    </a:lnTo>
                    <a:lnTo>
                      <a:pt x="3584" y="384"/>
                    </a:lnTo>
                    <a:lnTo>
                      <a:pt x="3586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149640" y="2901960"/>
                <a:ext cx="1122480" cy="690480"/>
              </a:xfrm>
              <a:custGeom>
                <a:avLst/>
                <a:gdLst/>
                <a:ahLst/>
                <a:rect l="l" t="t" r="r" b="b"/>
                <a:pathLst>
                  <a:path w="3534" h="2175">
                    <a:moveTo>
                      <a:pt x="3534" y="285"/>
                    </a:moveTo>
                    <a:lnTo>
                      <a:pt x="3534" y="249"/>
                    </a:lnTo>
                    <a:lnTo>
                      <a:pt x="3533" y="213"/>
                    </a:lnTo>
                    <a:lnTo>
                      <a:pt x="3531" y="176"/>
                    </a:lnTo>
                    <a:lnTo>
                      <a:pt x="3529" y="141"/>
                    </a:lnTo>
                    <a:lnTo>
                      <a:pt x="3525" y="106"/>
                    </a:lnTo>
                    <a:lnTo>
                      <a:pt x="3522" y="70"/>
                    </a:lnTo>
                    <a:lnTo>
                      <a:pt x="3518" y="36"/>
                    </a:lnTo>
                    <a:lnTo>
                      <a:pt x="3513" y="0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49" y="36"/>
                    </a:lnTo>
                    <a:lnTo>
                      <a:pt x="3453" y="70"/>
                    </a:lnTo>
                    <a:lnTo>
                      <a:pt x="3457" y="106"/>
                    </a:lnTo>
                    <a:lnTo>
                      <a:pt x="3460" y="141"/>
                    </a:lnTo>
                    <a:lnTo>
                      <a:pt x="3462" y="176"/>
                    </a:lnTo>
                    <a:lnTo>
                      <a:pt x="3464" y="212"/>
                    </a:lnTo>
                    <a:lnTo>
                      <a:pt x="3465" y="249"/>
                    </a:lnTo>
                    <a:lnTo>
                      <a:pt x="3465" y="285"/>
                    </a:lnTo>
                    <a:lnTo>
                      <a:pt x="3463" y="379"/>
                    </a:lnTo>
                    <a:lnTo>
                      <a:pt x="3456" y="472"/>
                    </a:lnTo>
                    <a:lnTo>
                      <a:pt x="3444" y="562"/>
                    </a:lnTo>
                    <a:lnTo>
                      <a:pt x="3429" y="652"/>
                    </a:lnTo>
                    <a:lnTo>
                      <a:pt x="3408" y="740"/>
                    </a:lnTo>
                    <a:lnTo>
                      <a:pt x="3383" y="826"/>
                    </a:lnTo>
                    <a:lnTo>
                      <a:pt x="3355" y="911"/>
                    </a:lnTo>
                    <a:lnTo>
                      <a:pt x="3323" y="993"/>
                    </a:lnTo>
                    <a:lnTo>
                      <a:pt x="3286" y="1074"/>
                    </a:lnTo>
                    <a:lnTo>
                      <a:pt x="3246" y="1153"/>
                    </a:lnTo>
                    <a:lnTo>
                      <a:pt x="3202" y="1230"/>
                    </a:lnTo>
                    <a:lnTo>
                      <a:pt x="3154" y="1303"/>
                    </a:lnTo>
                    <a:lnTo>
                      <a:pt x="3103" y="1375"/>
                    </a:lnTo>
                    <a:lnTo>
                      <a:pt x="3049" y="1444"/>
                    </a:lnTo>
                    <a:lnTo>
                      <a:pt x="2991" y="1510"/>
                    </a:lnTo>
                    <a:lnTo>
                      <a:pt x="2932" y="1573"/>
                    </a:lnTo>
                    <a:lnTo>
                      <a:pt x="2868" y="1633"/>
                    </a:lnTo>
                    <a:lnTo>
                      <a:pt x="2802" y="1691"/>
                    </a:lnTo>
                    <a:lnTo>
                      <a:pt x="2733" y="1744"/>
                    </a:lnTo>
                    <a:lnTo>
                      <a:pt x="2661" y="1796"/>
                    </a:lnTo>
                    <a:lnTo>
                      <a:pt x="2588" y="1843"/>
                    </a:lnTo>
                    <a:lnTo>
                      <a:pt x="2511" y="1887"/>
                    </a:lnTo>
                    <a:lnTo>
                      <a:pt x="2432" y="1927"/>
                    </a:lnTo>
                    <a:lnTo>
                      <a:pt x="2352" y="1964"/>
                    </a:lnTo>
                    <a:lnTo>
                      <a:pt x="2269" y="1996"/>
                    </a:lnTo>
                    <a:lnTo>
                      <a:pt x="2184" y="2024"/>
                    </a:lnTo>
                    <a:lnTo>
                      <a:pt x="2098" y="2049"/>
                    </a:lnTo>
                    <a:lnTo>
                      <a:pt x="2010" y="2070"/>
                    </a:lnTo>
                    <a:lnTo>
                      <a:pt x="1919" y="2085"/>
                    </a:lnTo>
                    <a:lnTo>
                      <a:pt x="1829" y="2097"/>
                    </a:lnTo>
                    <a:lnTo>
                      <a:pt x="1736" y="2104"/>
                    </a:lnTo>
                    <a:lnTo>
                      <a:pt x="1642" y="2106"/>
                    </a:lnTo>
                    <a:lnTo>
                      <a:pt x="1578" y="2105"/>
                    </a:lnTo>
                    <a:lnTo>
                      <a:pt x="1512" y="2102"/>
                    </a:lnTo>
                    <a:lnTo>
                      <a:pt x="1449" y="2096"/>
                    </a:lnTo>
                    <a:lnTo>
                      <a:pt x="1386" y="2089"/>
                    </a:lnTo>
                    <a:lnTo>
                      <a:pt x="1323" y="2079"/>
                    </a:lnTo>
                    <a:lnTo>
                      <a:pt x="1262" y="2066"/>
                    </a:lnTo>
                    <a:lnTo>
                      <a:pt x="1201" y="2053"/>
                    </a:lnTo>
                    <a:lnTo>
                      <a:pt x="1141" y="2037"/>
                    </a:lnTo>
                    <a:lnTo>
                      <a:pt x="1082" y="2018"/>
                    </a:lnTo>
                    <a:lnTo>
                      <a:pt x="1024" y="1998"/>
                    </a:lnTo>
                    <a:lnTo>
                      <a:pt x="966" y="1977"/>
                    </a:lnTo>
                    <a:lnTo>
                      <a:pt x="909" y="1953"/>
                    </a:lnTo>
                    <a:lnTo>
                      <a:pt x="853" y="1928"/>
                    </a:lnTo>
                    <a:lnTo>
                      <a:pt x="799" y="1901"/>
                    </a:lnTo>
                    <a:lnTo>
                      <a:pt x="746" y="1871"/>
                    </a:lnTo>
                    <a:lnTo>
                      <a:pt x="694" y="1841"/>
                    </a:lnTo>
                    <a:lnTo>
                      <a:pt x="642" y="1808"/>
                    </a:lnTo>
                    <a:lnTo>
                      <a:pt x="592" y="1774"/>
                    </a:lnTo>
                    <a:lnTo>
                      <a:pt x="543" y="1738"/>
                    </a:lnTo>
                    <a:lnTo>
                      <a:pt x="496" y="1701"/>
                    </a:lnTo>
                    <a:lnTo>
                      <a:pt x="449" y="1662"/>
                    </a:lnTo>
                    <a:lnTo>
                      <a:pt x="405" y="1622"/>
                    </a:lnTo>
                    <a:lnTo>
                      <a:pt x="360" y="1580"/>
                    </a:lnTo>
                    <a:lnTo>
                      <a:pt x="318" y="1537"/>
                    </a:lnTo>
                    <a:lnTo>
                      <a:pt x="277" y="1493"/>
                    </a:lnTo>
                    <a:lnTo>
                      <a:pt x="239" y="1447"/>
                    </a:lnTo>
                    <a:lnTo>
                      <a:pt x="201" y="1400"/>
                    </a:lnTo>
                    <a:lnTo>
                      <a:pt x="164" y="1351"/>
                    </a:lnTo>
                    <a:lnTo>
                      <a:pt x="129" y="1302"/>
                    </a:lnTo>
                    <a:lnTo>
                      <a:pt x="97" y="1251"/>
                    </a:lnTo>
                    <a:lnTo>
                      <a:pt x="65" y="1199"/>
                    </a:lnTo>
                    <a:lnTo>
                      <a:pt x="36" y="1146"/>
                    </a:lnTo>
                    <a:lnTo>
                      <a:pt x="36" y="1156"/>
                    </a:lnTo>
                    <a:lnTo>
                      <a:pt x="5" y="1213"/>
                    </a:lnTo>
                    <a:lnTo>
                      <a:pt x="0" y="1224"/>
                    </a:lnTo>
                    <a:lnTo>
                      <a:pt x="31" y="1277"/>
                    </a:lnTo>
                    <a:lnTo>
                      <a:pt x="65" y="1328"/>
                    </a:lnTo>
                    <a:lnTo>
                      <a:pt x="100" y="1379"/>
                    </a:lnTo>
                    <a:lnTo>
                      <a:pt x="135" y="1428"/>
                    </a:lnTo>
                    <a:lnTo>
                      <a:pt x="173" y="1476"/>
                    </a:lnTo>
                    <a:lnTo>
                      <a:pt x="212" y="1523"/>
                    </a:lnTo>
                    <a:lnTo>
                      <a:pt x="253" y="1569"/>
                    </a:lnTo>
                    <a:lnTo>
                      <a:pt x="295" y="1613"/>
                    </a:lnTo>
                    <a:lnTo>
                      <a:pt x="339" y="1655"/>
                    </a:lnTo>
                    <a:lnTo>
                      <a:pt x="384" y="1697"/>
                    </a:lnTo>
                    <a:lnTo>
                      <a:pt x="430" y="1737"/>
                    </a:lnTo>
                    <a:lnTo>
                      <a:pt x="478" y="1775"/>
                    </a:lnTo>
                    <a:lnTo>
                      <a:pt x="527" y="1811"/>
                    </a:lnTo>
                    <a:lnTo>
                      <a:pt x="577" y="1847"/>
                    </a:lnTo>
                    <a:lnTo>
                      <a:pt x="627" y="1881"/>
                    </a:lnTo>
                    <a:lnTo>
                      <a:pt x="680" y="1913"/>
                    </a:lnTo>
                    <a:lnTo>
                      <a:pt x="734" y="1944"/>
                    </a:lnTo>
                    <a:lnTo>
                      <a:pt x="788" y="1972"/>
                    </a:lnTo>
                    <a:lnTo>
                      <a:pt x="843" y="1999"/>
                    </a:lnTo>
                    <a:lnTo>
                      <a:pt x="900" y="2024"/>
                    </a:lnTo>
                    <a:lnTo>
                      <a:pt x="957" y="2048"/>
                    </a:lnTo>
                    <a:lnTo>
                      <a:pt x="1015" y="2069"/>
                    </a:lnTo>
                    <a:lnTo>
                      <a:pt x="1075" y="2089"/>
                    </a:lnTo>
                    <a:lnTo>
                      <a:pt x="1135" y="2106"/>
                    </a:lnTo>
                    <a:lnTo>
                      <a:pt x="1196" y="2122"/>
                    </a:lnTo>
                    <a:lnTo>
                      <a:pt x="1258" y="2136"/>
                    </a:lnTo>
                    <a:lnTo>
                      <a:pt x="1320" y="2147"/>
                    </a:lnTo>
                    <a:lnTo>
                      <a:pt x="1383" y="2158"/>
                    </a:lnTo>
                    <a:lnTo>
                      <a:pt x="1447" y="2165"/>
                    </a:lnTo>
                    <a:lnTo>
                      <a:pt x="1511" y="2170"/>
                    </a:lnTo>
                    <a:lnTo>
                      <a:pt x="1577" y="2174"/>
                    </a:lnTo>
                    <a:lnTo>
                      <a:pt x="1642" y="2175"/>
                    </a:lnTo>
                    <a:lnTo>
                      <a:pt x="1740" y="2173"/>
                    </a:lnTo>
                    <a:lnTo>
                      <a:pt x="1835" y="2165"/>
                    </a:lnTo>
                    <a:lnTo>
                      <a:pt x="1930" y="2154"/>
                    </a:lnTo>
                    <a:lnTo>
                      <a:pt x="2023" y="2137"/>
                    </a:lnTo>
                    <a:lnTo>
                      <a:pt x="2115" y="2116"/>
                    </a:lnTo>
                    <a:lnTo>
                      <a:pt x="2205" y="2090"/>
                    </a:lnTo>
                    <a:lnTo>
                      <a:pt x="2292" y="2060"/>
                    </a:lnTo>
                    <a:lnTo>
                      <a:pt x="2379" y="2027"/>
                    </a:lnTo>
                    <a:lnTo>
                      <a:pt x="2463" y="1989"/>
                    </a:lnTo>
                    <a:lnTo>
                      <a:pt x="2544" y="1947"/>
                    </a:lnTo>
                    <a:lnTo>
                      <a:pt x="2624" y="1902"/>
                    </a:lnTo>
                    <a:lnTo>
                      <a:pt x="2700" y="1852"/>
                    </a:lnTo>
                    <a:lnTo>
                      <a:pt x="2774" y="1800"/>
                    </a:lnTo>
                    <a:lnTo>
                      <a:pt x="2845" y="1743"/>
                    </a:lnTo>
                    <a:lnTo>
                      <a:pt x="2915" y="1684"/>
                    </a:lnTo>
                    <a:lnTo>
                      <a:pt x="2980" y="1621"/>
                    </a:lnTo>
                    <a:lnTo>
                      <a:pt x="3043" y="1556"/>
                    </a:lnTo>
                    <a:lnTo>
                      <a:pt x="3102" y="1487"/>
                    </a:lnTo>
                    <a:lnTo>
                      <a:pt x="3159" y="1415"/>
                    </a:lnTo>
                    <a:lnTo>
                      <a:pt x="3211" y="1342"/>
                    </a:lnTo>
                    <a:lnTo>
                      <a:pt x="3261" y="1265"/>
                    </a:lnTo>
                    <a:lnTo>
                      <a:pt x="3306" y="1186"/>
                    </a:lnTo>
                    <a:lnTo>
                      <a:pt x="3348" y="1105"/>
                    </a:lnTo>
                    <a:lnTo>
                      <a:pt x="3386" y="1021"/>
                    </a:lnTo>
                    <a:lnTo>
                      <a:pt x="3419" y="935"/>
                    </a:lnTo>
                    <a:lnTo>
                      <a:pt x="3449" y="847"/>
                    </a:lnTo>
                    <a:lnTo>
                      <a:pt x="3475" y="757"/>
                    </a:lnTo>
                    <a:lnTo>
                      <a:pt x="3496" y="666"/>
                    </a:lnTo>
                    <a:lnTo>
                      <a:pt x="3513" y="572"/>
                    </a:lnTo>
                    <a:lnTo>
                      <a:pt x="3524" y="478"/>
                    </a:lnTo>
                    <a:lnTo>
                      <a:pt x="3532" y="382"/>
                    </a:lnTo>
                    <a:lnTo>
                      <a:pt x="3534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156120" y="2901960"/>
                <a:ext cx="1104840" cy="681120"/>
              </a:xfrm>
              <a:custGeom>
                <a:avLst/>
                <a:gdLst/>
                <a:ahLst/>
                <a:rect l="l" t="t" r="r" b="b"/>
                <a:pathLst>
                  <a:path w="3481" h="2141">
                    <a:moveTo>
                      <a:pt x="3481" y="285"/>
                    </a:moveTo>
                    <a:lnTo>
                      <a:pt x="3480" y="249"/>
                    </a:lnTo>
                    <a:lnTo>
                      <a:pt x="3479" y="212"/>
                    </a:lnTo>
                    <a:lnTo>
                      <a:pt x="3478" y="176"/>
                    </a:lnTo>
                    <a:lnTo>
                      <a:pt x="3475" y="141"/>
                    </a:lnTo>
                    <a:lnTo>
                      <a:pt x="3473" y="106"/>
                    </a:lnTo>
                    <a:lnTo>
                      <a:pt x="3469" y="70"/>
                    </a:lnTo>
                    <a:lnTo>
                      <a:pt x="3464" y="36"/>
                    </a:lnTo>
                    <a:lnTo>
                      <a:pt x="3459" y="0"/>
                    </a:lnTo>
                    <a:lnTo>
                      <a:pt x="3435" y="0"/>
                    </a:lnTo>
                    <a:lnTo>
                      <a:pt x="3390" y="0"/>
                    </a:lnTo>
                    <a:lnTo>
                      <a:pt x="3395" y="36"/>
                    </a:lnTo>
                    <a:lnTo>
                      <a:pt x="3399" y="70"/>
                    </a:lnTo>
                    <a:lnTo>
                      <a:pt x="3403" y="106"/>
                    </a:lnTo>
                    <a:lnTo>
                      <a:pt x="3407" y="141"/>
                    </a:lnTo>
                    <a:lnTo>
                      <a:pt x="3409" y="176"/>
                    </a:lnTo>
                    <a:lnTo>
                      <a:pt x="3411" y="212"/>
                    </a:lnTo>
                    <a:lnTo>
                      <a:pt x="3412" y="249"/>
                    </a:lnTo>
                    <a:lnTo>
                      <a:pt x="3412" y="285"/>
                    </a:lnTo>
                    <a:lnTo>
                      <a:pt x="3410" y="377"/>
                    </a:lnTo>
                    <a:lnTo>
                      <a:pt x="3402" y="467"/>
                    </a:lnTo>
                    <a:lnTo>
                      <a:pt x="3392" y="557"/>
                    </a:lnTo>
                    <a:lnTo>
                      <a:pt x="3376" y="645"/>
                    </a:lnTo>
                    <a:lnTo>
                      <a:pt x="3356" y="732"/>
                    </a:lnTo>
                    <a:lnTo>
                      <a:pt x="3332" y="816"/>
                    </a:lnTo>
                    <a:lnTo>
                      <a:pt x="3304" y="899"/>
                    </a:lnTo>
                    <a:lnTo>
                      <a:pt x="3271" y="981"/>
                    </a:lnTo>
                    <a:lnTo>
                      <a:pt x="3235" y="1060"/>
                    </a:lnTo>
                    <a:lnTo>
                      <a:pt x="3196" y="1137"/>
                    </a:lnTo>
                    <a:lnTo>
                      <a:pt x="3153" y="1212"/>
                    </a:lnTo>
                    <a:lnTo>
                      <a:pt x="3107" y="1284"/>
                    </a:lnTo>
                    <a:lnTo>
                      <a:pt x="3057" y="1355"/>
                    </a:lnTo>
                    <a:lnTo>
                      <a:pt x="3004" y="1422"/>
                    </a:lnTo>
                    <a:lnTo>
                      <a:pt x="2947" y="1487"/>
                    </a:lnTo>
                    <a:lnTo>
                      <a:pt x="2888" y="1549"/>
                    </a:lnTo>
                    <a:lnTo>
                      <a:pt x="2826" y="1608"/>
                    </a:lnTo>
                    <a:lnTo>
                      <a:pt x="2761" y="1664"/>
                    </a:lnTo>
                    <a:lnTo>
                      <a:pt x="2694" y="1717"/>
                    </a:lnTo>
                    <a:lnTo>
                      <a:pt x="2623" y="1767"/>
                    </a:lnTo>
                    <a:lnTo>
                      <a:pt x="2551" y="1813"/>
                    </a:lnTo>
                    <a:lnTo>
                      <a:pt x="2476" y="1856"/>
                    </a:lnTo>
                    <a:lnTo>
                      <a:pt x="2399" y="1895"/>
                    </a:lnTo>
                    <a:lnTo>
                      <a:pt x="2320" y="1931"/>
                    </a:lnTo>
                    <a:lnTo>
                      <a:pt x="2238" y="1964"/>
                    </a:lnTo>
                    <a:lnTo>
                      <a:pt x="2155" y="1992"/>
                    </a:lnTo>
                    <a:lnTo>
                      <a:pt x="2071" y="2016"/>
                    </a:lnTo>
                    <a:lnTo>
                      <a:pt x="1983" y="2036"/>
                    </a:lnTo>
                    <a:lnTo>
                      <a:pt x="1896" y="2052"/>
                    </a:lnTo>
                    <a:lnTo>
                      <a:pt x="1806" y="2062"/>
                    </a:lnTo>
                    <a:lnTo>
                      <a:pt x="1715" y="2070"/>
                    </a:lnTo>
                    <a:lnTo>
                      <a:pt x="1623" y="2072"/>
                    </a:lnTo>
                    <a:lnTo>
                      <a:pt x="1558" y="2071"/>
                    </a:lnTo>
                    <a:lnTo>
                      <a:pt x="1493" y="2068"/>
                    </a:lnTo>
                    <a:lnTo>
                      <a:pt x="1429" y="2061"/>
                    </a:lnTo>
                    <a:lnTo>
                      <a:pt x="1365" y="2054"/>
                    </a:lnTo>
                    <a:lnTo>
                      <a:pt x="1303" y="2043"/>
                    </a:lnTo>
                    <a:lnTo>
                      <a:pt x="1241" y="2031"/>
                    </a:lnTo>
                    <a:lnTo>
                      <a:pt x="1180" y="2016"/>
                    </a:lnTo>
                    <a:lnTo>
                      <a:pt x="1119" y="2000"/>
                    </a:lnTo>
                    <a:lnTo>
                      <a:pt x="1060" y="1981"/>
                    </a:lnTo>
                    <a:lnTo>
                      <a:pt x="1002" y="1961"/>
                    </a:lnTo>
                    <a:lnTo>
                      <a:pt x="944" y="1938"/>
                    </a:lnTo>
                    <a:lnTo>
                      <a:pt x="887" y="1914"/>
                    </a:lnTo>
                    <a:lnTo>
                      <a:pt x="831" y="1888"/>
                    </a:lnTo>
                    <a:lnTo>
                      <a:pt x="777" y="1860"/>
                    </a:lnTo>
                    <a:lnTo>
                      <a:pt x="724" y="1830"/>
                    </a:lnTo>
                    <a:lnTo>
                      <a:pt x="671" y="1798"/>
                    </a:lnTo>
                    <a:lnTo>
                      <a:pt x="620" y="1765"/>
                    </a:lnTo>
                    <a:lnTo>
                      <a:pt x="571" y="1729"/>
                    </a:lnTo>
                    <a:lnTo>
                      <a:pt x="522" y="1693"/>
                    </a:lnTo>
                    <a:lnTo>
                      <a:pt x="475" y="1655"/>
                    </a:lnTo>
                    <a:lnTo>
                      <a:pt x="429" y="1615"/>
                    </a:lnTo>
                    <a:lnTo>
                      <a:pt x="385" y="1574"/>
                    </a:lnTo>
                    <a:lnTo>
                      <a:pt x="341" y="1531"/>
                    </a:lnTo>
                    <a:lnTo>
                      <a:pt x="299" y="1487"/>
                    </a:lnTo>
                    <a:lnTo>
                      <a:pt x="259" y="1441"/>
                    </a:lnTo>
                    <a:lnTo>
                      <a:pt x="221" y="1394"/>
                    </a:lnTo>
                    <a:lnTo>
                      <a:pt x="184" y="1346"/>
                    </a:lnTo>
                    <a:lnTo>
                      <a:pt x="148" y="1296"/>
                    </a:lnTo>
                    <a:lnTo>
                      <a:pt x="114" y="1245"/>
                    </a:lnTo>
                    <a:lnTo>
                      <a:pt x="83" y="1193"/>
                    </a:lnTo>
                    <a:lnTo>
                      <a:pt x="52" y="1140"/>
                    </a:lnTo>
                    <a:lnTo>
                      <a:pt x="24" y="1086"/>
                    </a:lnTo>
                    <a:lnTo>
                      <a:pt x="17" y="1102"/>
                    </a:lnTo>
                    <a:lnTo>
                      <a:pt x="17" y="1156"/>
                    </a:lnTo>
                    <a:lnTo>
                      <a:pt x="0" y="1188"/>
                    </a:lnTo>
                    <a:lnTo>
                      <a:pt x="30" y="1240"/>
                    </a:lnTo>
                    <a:lnTo>
                      <a:pt x="63" y="1292"/>
                    </a:lnTo>
                    <a:lnTo>
                      <a:pt x="97" y="1342"/>
                    </a:lnTo>
                    <a:lnTo>
                      <a:pt x="132" y="1391"/>
                    </a:lnTo>
                    <a:lnTo>
                      <a:pt x="169" y="1440"/>
                    </a:lnTo>
                    <a:lnTo>
                      <a:pt x="208" y="1487"/>
                    </a:lnTo>
                    <a:lnTo>
                      <a:pt x="248" y="1532"/>
                    </a:lnTo>
                    <a:lnTo>
                      <a:pt x="289" y="1576"/>
                    </a:lnTo>
                    <a:lnTo>
                      <a:pt x="332" y="1619"/>
                    </a:lnTo>
                    <a:lnTo>
                      <a:pt x="376" y="1660"/>
                    </a:lnTo>
                    <a:lnTo>
                      <a:pt x="422" y="1700"/>
                    </a:lnTo>
                    <a:lnTo>
                      <a:pt x="469" y="1739"/>
                    </a:lnTo>
                    <a:lnTo>
                      <a:pt x="517" y="1776"/>
                    </a:lnTo>
                    <a:lnTo>
                      <a:pt x="566" y="1811"/>
                    </a:lnTo>
                    <a:lnTo>
                      <a:pt x="617" y="1845"/>
                    </a:lnTo>
                    <a:lnTo>
                      <a:pt x="669" y="1877"/>
                    </a:lnTo>
                    <a:lnTo>
                      <a:pt x="722" y="1908"/>
                    </a:lnTo>
                    <a:lnTo>
                      <a:pt x="776" y="1936"/>
                    </a:lnTo>
                    <a:lnTo>
                      <a:pt x="830" y="1964"/>
                    </a:lnTo>
                    <a:lnTo>
                      <a:pt x="887" y="1989"/>
                    </a:lnTo>
                    <a:lnTo>
                      <a:pt x="944" y="2013"/>
                    </a:lnTo>
                    <a:lnTo>
                      <a:pt x="1002" y="2034"/>
                    </a:lnTo>
                    <a:lnTo>
                      <a:pt x="1060" y="2054"/>
                    </a:lnTo>
                    <a:lnTo>
                      <a:pt x="1119" y="2072"/>
                    </a:lnTo>
                    <a:lnTo>
                      <a:pt x="1180" y="2087"/>
                    </a:lnTo>
                    <a:lnTo>
                      <a:pt x="1241" y="2101"/>
                    </a:lnTo>
                    <a:lnTo>
                      <a:pt x="1303" y="2114"/>
                    </a:lnTo>
                    <a:lnTo>
                      <a:pt x="1366" y="2123"/>
                    </a:lnTo>
                    <a:lnTo>
                      <a:pt x="1429" y="2131"/>
                    </a:lnTo>
                    <a:lnTo>
                      <a:pt x="1493" y="2136"/>
                    </a:lnTo>
                    <a:lnTo>
                      <a:pt x="1558" y="2140"/>
                    </a:lnTo>
                    <a:lnTo>
                      <a:pt x="1623" y="2141"/>
                    </a:lnTo>
                    <a:lnTo>
                      <a:pt x="1718" y="2138"/>
                    </a:lnTo>
                    <a:lnTo>
                      <a:pt x="1813" y="2131"/>
                    </a:lnTo>
                    <a:lnTo>
                      <a:pt x="1906" y="2119"/>
                    </a:lnTo>
                    <a:lnTo>
                      <a:pt x="1998" y="2103"/>
                    </a:lnTo>
                    <a:lnTo>
                      <a:pt x="2087" y="2082"/>
                    </a:lnTo>
                    <a:lnTo>
                      <a:pt x="2176" y="2057"/>
                    </a:lnTo>
                    <a:lnTo>
                      <a:pt x="2262" y="2028"/>
                    </a:lnTo>
                    <a:lnTo>
                      <a:pt x="2346" y="1995"/>
                    </a:lnTo>
                    <a:lnTo>
                      <a:pt x="2428" y="1957"/>
                    </a:lnTo>
                    <a:lnTo>
                      <a:pt x="2509" y="1916"/>
                    </a:lnTo>
                    <a:lnTo>
                      <a:pt x="2587" y="1872"/>
                    </a:lnTo>
                    <a:lnTo>
                      <a:pt x="2661" y="1824"/>
                    </a:lnTo>
                    <a:lnTo>
                      <a:pt x="2735" y="1772"/>
                    </a:lnTo>
                    <a:lnTo>
                      <a:pt x="2804" y="1717"/>
                    </a:lnTo>
                    <a:lnTo>
                      <a:pt x="2873" y="1658"/>
                    </a:lnTo>
                    <a:lnTo>
                      <a:pt x="2937" y="1597"/>
                    </a:lnTo>
                    <a:lnTo>
                      <a:pt x="2998" y="1533"/>
                    </a:lnTo>
                    <a:lnTo>
                      <a:pt x="3057" y="1465"/>
                    </a:lnTo>
                    <a:lnTo>
                      <a:pt x="3111" y="1396"/>
                    </a:lnTo>
                    <a:lnTo>
                      <a:pt x="3164" y="1322"/>
                    </a:lnTo>
                    <a:lnTo>
                      <a:pt x="3212" y="1247"/>
                    </a:lnTo>
                    <a:lnTo>
                      <a:pt x="3256" y="1170"/>
                    </a:lnTo>
                    <a:lnTo>
                      <a:pt x="3297" y="1090"/>
                    </a:lnTo>
                    <a:lnTo>
                      <a:pt x="3335" y="1007"/>
                    </a:lnTo>
                    <a:lnTo>
                      <a:pt x="3368" y="923"/>
                    </a:lnTo>
                    <a:lnTo>
                      <a:pt x="3397" y="837"/>
                    </a:lnTo>
                    <a:lnTo>
                      <a:pt x="3422" y="749"/>
                    </a:lnTo>
                    <a:lnTo>
                      <a:pt x="3443" y="658"/>
                    </a:lnTo>
                    <a:lnTo>
                      <a:pt x="3459" y="567"/>
                    </a:lnTo>
                    <a:lnTo>
                      <a:pt x="3472" y="475"/>
                    </a:lnTo>
                    <a:lnTo>
                      <a:pt x="3478" y="380"/>
                    </a:lnTo>
                    <a:lnTo>
                      <a:pt x="3481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162240" y="2901960"/>
                <a:ext cx="1087560" cy="669960"/>
              </a:xfrm>
              <a:custGeom>
                <a:avLst/>
                <a:gdLst/>
                <a:ahLst/>
                <a:rect l="l" t="t" r="r" b="b"/>
                <a:pathLst>
                  <a:path w="3429" h="2106">
                    <a:moveTo>
                      <a:pt x="3429" y="285"/>
                    </a:moveTo>
                    <a:lnTo>
                      <a:pt x="3429" y="249"/>
                    </a:lnTo>
                    <a:lnTo>
                      <a:pt x="3428" y="212"/>
                    </a:lnTo>
                    <a:lnTo>
                      <a:pt x="3426" y="176"/>
                    </a:lnTo>
                    <a:lnTo>
                      <a:pt x="3424" y="141"/>
                    </a:lnTo>
                    <a:lnTo>
                      <a:pt x="3421" y="106"/>
                    </a:lnTo>
                    <a:lnTo>
                      <a:pt x="3417" y="70"/>
                    </a:lnTo>
                    <a:lnTo>
                      <a:pt x="3413" y="36"/>
                    </a:lnTo>
                    <a:lnTo>
                      <a:pt x="3407" y="0"/>
                    </a:lnTo>
                    <a:lnTo>
                      <a:pt x="3361" y="0"/>
                    </a:lnTo>
                    <a:lnTo>
                      <a:pt x="3338" y="0"/>
                    </a:lnTo>
                    <a:lnTo>
                      <a:pt x="3343" y="36"/>
                    </a:lnTo>
                    <a:lnTo>
                      <a:pt x="3347" y="70"/>
                    </a:lnTo>
                    <a:lnTo>
                      <a:pt x="3352" y="106"/>
                    </a:lnTo>
                    <a:lnTo>
                      <a:pt x="3355" y="141"/>
                    </a:lnTo>
                    <a:lnTo>
                      <a:pt x="3357" y="176"/>
                    </a:lnTo>
                    <a:lnTo>
                      <a:pt x="3359" y="212"/>
                    </a:lnTo>
                    <a:lnTo>
                      <a:pt x="3360" y="249"/>
                    </a:lnTo>
                    <a:lnTo>
                      <a:pt x="3361" y="285"/>
                    </a:lnTo>
                    <a:lnTo>
                      <a:pt x="3358" y="375"/>
                    </a:lnTo>
                    <a:lnTo>
                      <a:pt x="3352" y="464"/>
                    </a:lnTo>
                    <a:lnTo>
                      <a:pt x="3340" y="552"/>
                    </a:lnTo>
                    <a:lnTo>
                      <a:pt x="3325" y="638"/>
                    </a:lnTo>
                    <a:lnTo>
                      <a:pt x="3305" y="722"/>
                    </a:lnTo>
                    <a:lnTo>
                      <a:pt x="3281" y="806"/>
                    </a:lnTo>
                    <a:lnTo>
                      <a:pt x="3254" y="887"/>
                    </a:lnTo>
                    <a:lnTo>
                      <a:pt x="3222" y="967"/>
                    </a:lnTo>
                    <a:lnTo>
                      <a:pt x="3188" y="1045"/>
                    </a:lnTo>
                    <a:lnTo>
                      <a:pt x="3149" y="1120"/>
                    </a:lnTo>
                    <a:lnTo>
                      <a:pt x="3107" y="1194"/>
                    </a:lnTo>
                    <a:lnTo>
                      <a:pt x="3061" y="1265"/>
                    </a:lnTo>
                    <a:lnTo>
                      <a:pt x="3012" y="1334"/>
                    </a:lnTo>
                    <a:lnTo>
                      <a:pt x="2960" y="1400"/>
                    </a:lnTo>
                    <a:lnTo>
                      <a:pt x="2905" y="1464"/>
                    </a:lnTo>
                    <a:lnTo>
                      <a:pt x="2847" y="1525"/>
                    </a:lnTo>
                    <a:lnTo>
                      <a:pt x="2786" y="1582"/>
                    </a:lnTo>
                    <a:lnTo>
                      <a:pt x="2722" y="1637"/>
                    </a:lnTo>
                    <a:lnTo>
                      <a:pt x="2656" y="1690"/>
                    </a:lnTo>
                    <a:lnTo>
                      <a:pt x="2588" y="1738"/>
                    </a:lnTo>
                    <a:lnTo>
                      <a:pt x="2516" y="1784"/>
                    </a:lnTo>
                    <a:lnTo>
                      <a:pt x="2442" y="1826"/>
                    </a:lnTo>
                    <a:lnTo>
                      <a:pt x="2367" y="1865"/>
                    </a:lnTo>
                    <a:lnTo>
                      <a:pt x="2289" y="1900"/>
                    </a:lnTo>
                    <a:lnTo>
                      <a:pt x="2209" y="1931"/>
                    </a:lnTo>
                    <a:lnTo>
                      <a:pt x="2128" y="1958"/>
                    </a:lnTo>
                    <a:lnTo>
                      <a:pt x="2044" y="1982"/>
                    </a:lnTo>
                    <a:lnTo>
                      <a:pt x="1960" y="2002"/>
                    </a:lnTo>
                    <a:lnTo>
                      <a:pt x="1874" y="2017"/>
                    </a:lnTo>
                    <a:lnTo>
                      <a:pt x="1786" y="2029"/>
                    </a:lnTo>
                    <a:lnTo>
                      <a:pt x="1696" y="2035"/>
                    </a:lnTo>
                    <a:lnTo>
                      <a:pt x="1606" y="2037"/>
                    </a:lnTo>
                    <a:lnTo>
                      <a:pt x="1542" y="2036"/>
                    </a:lnTo>
                    <a:lnTo>
                      <a:pt x="1476" y="2033"/>
                    </a:lnTo>
                    <a:lnTo>
                      <a:pt x="1413" y="2028"/>
                    </a:lnTo>
                    <a:lnTo>
                      <a:pt x="1350" y="2019"/>
                    </a:lnTo>
                    <a:lnTo>
                      <a:pt x="1288" y="2009"/>
                    </a:lnTo>
                    <a:lnTo>
                      <a:pt x="1226" y="1996"/>
                    </a:lnTo>
                    <a:lnTo>
                      <a:pt x="1165" y="1981"/>
                    </a:lnTo>
                    <a:lnTo>
                      <a:pt x="1105" y="1966"/>
                    </a:lnTo>
                    <a:lnTo>
                      <a:pt x="1047" y="1947"/>
                    </a:lnTo>
                    <a:lnTo>
                      <a:pt x="989" y="1926"/>
                    </a:lnTo>
                    <a:lnTo>
                      <a:pt x="931" y="1904"/>
                    </a:lnTo>
                    <a:lnTo>
                      <a:pt x="875" y="1879"/>
                    </a:lnTo>
                    <a:lnTo>
                      <a:pt x="821" y="1852"/>
                    </a:lnTo>
                    <a:lnTo>
                      <a:pt x="766" y="1824"/>
                    </a:lnTo>
                    <a:lnTo>
                      <a:pt x="713" y="1793"/>
                    </a:lnTo>
                    <a:lnTo>
                      <a:pt x="662" y="1762"/>
                    </a:lnTo>
                    <a:lnTo>
                      <a:pt x="611" y="1728"/>
                    </a:lnTo>
                    <a:lnTo>
                      <a:pt x="562" y="1694"/>
                    </a:lnTo>
                    <a:lnTo>
                      <a:pt x="514" y="1656"/>
                    </a:lnTo>
                    <a:lnTo>
                      <a:pt x="467" y="1618"/>
                    </a:lnTo>
                    <a:lnTo>
                      <a:pt x="421" y="1578"/>
                    </a:lnTo>
                    <a:lnTo>
                      <a:pt x="378" y="1536"/>
                    </a:lnTo>
                    <a:lnTo>
                      <a:pt x="335" y="1493"/>
                    </a:lnTo>
                    <a:lnTo>
                      <a:pt x="295" y="1449"/>
                    </a:lnTo>
                    <a:lnTo>
                      <a:pt x="255" y="1403"/>
                    </a:lnTo>
                    <a:lnTo>
                      <a:pt x="217" y="1356"/>
                    </a:lnTo>
                    <a:lnTo>
                      <a:pt x="181" y="1307"/>
                    </a:lnTo>
                    <a:lnTo>
                      <a:pt x="147" y="1258"/>
                    </a:lnTo>
                    <a:lnTo>
                      <a:pt x="113" y="1207"/>
                    </a:lnTo>
                    <a:lnTo>
                      <a:pt x="83" y="1154"/>
                    </a:lnTo>
                    <a:lnTo>
                      <a:pt x="53" y="1100"/>
                    </a:lnTo>
                    <a:lnTo>
                      <a:pt x="26" y="1047"/>
                    </a:lnTo>
                    <a:lnTo>
                      <a:pt x="0" y="1102"/>
                    </a:lnTo>
                    <a:lnTo>
                      <a:pt x="0" y="1146"/>
                    </a:lnTo>
                    <a:lnTo>
                      <a:pt x="29" y="1199"/>
                    </a:lnTo>
                    <a:lnTo>
                      <a:pt x="61" y="1251"/>
                    </a:lnTo>
                    <a:lnTo>
                      <a:pt x="93" y="1302"/>
                    </a:lnTo>
                    <a:lnTo>
                      <a:pt x="128" y="1351"/>
                    </a:lnTo>
                    <a:lnTo>
                      <a:pt x="165" y="1400"/>
                    </a:lnTo>
                    <a:lnTo>
                      <a:pt x="203" y="1447"/>
                    </a:lnTo>
                    <a:lnTo>
                      <a:pt x="241" y="1493"/>
                    </a:lnTo>
                    <a:lnTo>
                      <a:pt x="282" y="1537"/>
                    </a:lnTo>
                    <a:lnTo>
                      <a:pt x="324" y="1580"/>
                    </a:lnTo>
                    <a:lnTo>
                      <a:pt x="369" y="1622"/>
                    </a:lnTo>
                    <a:lnTo>
                      <a:pt x="413" y="1662"/>
                    </a:lnTo>
                    <a:lnTo>
                      <a:pt x="460" y="1701"/>
                    </a:lnTo>
                    <a:lnTo>
                      <a:pt x="507" y="1738"/>
                    </a:lnTo>
                    <a:lnTo>
                      <a:pt x="556" y="1774"/>
                    </a:lnTo>
                    <a:lnTo>
                      <a:pt x="606" y="1808"/>
                    </a:lnTo>
                    <a:lnTo>
                      <a:pt x="658" y="1841"/>
                    </a:lnTo>
                    <a:lnTo>
                      <a:pt x="710" y="1871"/>
                    </a:lnTo>
                    <a:lnTo>
                      <a:pt x="763" y="1901"/>
                    </a:lnTo>
                    <a:lnTo>
                      <a:pt x="817" y="1928"/>
                    </a:lnTo>
                    <a:lnTo>
                      <a:pt x="873" y="1953"/>
                    </a:lnTo>
                    <a:lnTo>
                      <a:pt x="930" y="1977"/>
                    </a:lnTo>
                    <a:lnTo>
                      <a:pt x="988" y="1998"/>
                    </a:lnTo>
                    <a:lnTo>
                      <a:pt x="1046" y="2018"/>
                    </a:lnTo>
                    <a:lnTo>
                      <a:pt x="1105" y="2037"/>
                    </a:lnTo>
                    <a:lnTo>
                      <a:pt x="1165" y="2053"/>
                    </a:lnTo>
                    <a:lnTo>
                      <a:pt x="1226" y="2066"/>
                    </a:lnTo>
                    <a:lnTo>
                      <a:pt x="1287" y="2079"/>
                    </a:lnTo>
                    <a:lnTo>
                      <a:pt x="1350" y="2089"/>
                    </a:lnTo>
                    <a:lnTo>
                      <a:pt x="1413" y="2096"/>
                    </a:lnTo>
                    <a:lnTo>
                      <a:pt x="1476" y="2102"/>
                    </a:lnTo>
                    <a:lnTo>
                      <a:pt x="1542" y="2105"/>
                    </a:lnTo>
                    <a:lnTo>
                      <a:pt x="1606" y="2106"/>
                    </a:lnTo>
                    <a:lnTo>
                      <a:pt x="1700" y="2104"/>
                    </a:lnTo>
                    <a:lnTo>
                      <a:pt x="1793" y="2097"/>
                    </a:lnTo>
                    <a:lnTo>
                      <a:pt x="1883" y="2085"/>
                    </a:lnTo>
                    <a:lnTo>
                      <a:pt x="1974" y="2070"/>
                    </a:lnTo>
                    <a:lnTo>
                      <a:pt x="2062" y="2049"/>
                    </a:lnTo>
                    <a:lnTo>
                      <a:pt x="2148" y="2024"/>
                    </a:lnTo>
                    <a:lnTo>
                      <a:pt x="2233" y="1996"/>
                    </a:lnTo>
                    <a:lnTo>
                      <a:pt x="2316" y="1964"/>
                    </a:lnTo>
                    <a:lnTo>
                      <a:pt x="2396" y="1927"/>
                    </a:lnTo>
                    <a:lnTo>
                      <a:pt x="2475" y="1887"/>
                    </a:lnTo>
                    <a:lnTo>
                      <a:pt x="2552" y="1843"/>
                    </a:lnTo>
                    <a:lnTo>
                      <a:pt x="2625" y="1796"/>
                    </a:lnTo>
                    <a:lnTo>
                      <a:pt x="2697" y="1744"/>
                    </a:lnTo>
                    <a:lnTo>
                      <a:pt x="2766" y="1691"/>
                    </a:lnTo>
                    <a:lnTo>
                      <a:pt x="2832" y="1633"/>
                    </a:lnTo>
                    <a:lnTo>
                      <a:pt x="2896" y="1573"/>
                    </a:lnTo>
                    <a:lnTo>
                      <a:pt x="2955" y="1510"/>
                    </a:lnTo>
                    <a:lnTo>
                      <a:pt x="3013" y="1444"/>
                    </a:lnTo>
                    <a:lnTo>
                      <a:pt x="3067" y="1375"/>
                    </a:lnTo>
                    <a:lnTo>
                      <a:pt x="3118" y="1303"/>
                    </a:lnTo>
                    <a:lnTo>
                      <a:pt x="3166" y="1230"/>
                    </a:lnTo>
                    <a:lnTo>
                      <a:pt x="3210" y="1153"/>
                    </a:lnTo>
                    <a:lnTo>
                      <a:pt x="3250" y="1074"/>
                    </a:lnTo>
                    <a:lnTo>
                      <a:pt x="3287" y="993"/>
                    </a:lnTo>
                    <a:lnTo>
                      <a:pt x="3319" y="911"/>
                    </a:lnTo>
                    <a:lnTo>
                      <a:pt x="3347" y="826"/>
                    </a:lnTo>
                    <a:lnTo>
                      <a:pt x="3372" y="740"/>
                    </a:lnTo>
                    <a:lnTo>
                      <a:pt x="3393" y="652"/>
                    </a:lnTo>
                    <a:lnTo>
                      <a:pt x="3408" y="562"/>
                    </a:lnTo>
                    <a:lnTo>
                      <a:pt x="3420" y="472"/>
                    </a:lnTo>
                    <a:lnTo>
                      <a:pt x="3427" y="379"/>
                    </a:lnTo>
                    <a:lnTo>
                      <a:pt x="3429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164040" y="2901960"/>
                <a:ext cx="1076040" cy="658800"/>
              </a:xfrm>
              <a:custGeom>
                <a:avLst/>
                <a:gdLst/>
                <a:ahLst/>
                <a:rect l="l" t="t" r="r" b="b"/>
                <a:pathLst>
                  <a:path w="3388" h="2072">
                    <a:moveTo>
                      <a:pt x="3388" y="285"/>
                    </a:moveTo>
                    <a:lnTo>
                      <a:pt x="3388" y="249"/>
                    </a:lnTo>
                    <a:lnTo>
                      <a:pt x="3387" y="212"/>
                    </a:lnTo>
                    <a:lnTo>
                      <a:pt x="3385" y="176"/>
                    </a:lnTo>
                    <a:lnTo>
                      <a:pt x="3383" y="141"/>
                    </a:lnTo>
                    <a:lnTo>
                      <a:pt x="3379" y="106"/>
                    </a:lnTo>
                    <a:lnTo>
                      <a:pt x="3375" y="70"/>
                    </a:lnTo>
                    <a:lnTo>
                      <a:pt x="3371" y="36"/>
                    </a:lnTo>
                    <a:lnTo>
                      <a:pt x="3366" y="0"/>
                    </a:lnTo>
                    <a:lnTo>
                      <a:pt x="3354" y="0"/>
                    </a:lnTo>
                    <a:lnTo>
                      <a:pt x="3300" y="0"/>
                    </a:lnTo>
                    <a:lnTo>
                      <a:pt x="3295" y="0"/>
                    </a:lnTo>
                    <a:lnTo>
                      <a:pt x="3302" y="36"/>
                    </a:lnTo>
                    <a:lnTo>
                      <a:pt x="3306" y="70"/>
                    </a:lnTo>
                    <a:lnTo>
                      <a:pt x="3310" y="105"/>
                    </a:lnTo>
                    <a:lnTo>
                      <a:pt x="3313" y="141"/>
                    </a:lnTo>
                    <a:lnTo>
                      <a:pt x="3316" y="176"/>
                    </a:lnTo>
                    <a:lnTo>
                      <a:pt x="3317" y="212"/>
                    </a:lnTo>
                    <a:lnTo>
                      <a:pt x="3318" y="249"/>
                    </a:lnTo>
                    <a:lnTo>
                      <a:pt x="3319" y="285"/>
                    </a:lnTo>
                    <a:lnTo>
                      <a:pt x="3317" y="374"/>
                    </a:lnTo>
                    <a:lnTo>
                      <a:pt x="3310" y="461"/>
                    </a:lnTo>
                    <a:lnTo>
                      <a:pt x="3300" y="547"/>
                    </a:lnTo>
                    <a:lnTo>
                      <a:pt x="3285" y="631"/>
                    </a:lnTo>
                    <a:lnTo>
                      <a:pt x="3265" y="714"/>
                    </a:lnTo>
                    <a:lnTo>
                      <a:pt x="3242" y="796"/>
                    </a:lnTo>
                    <a:lnTo>
                      <a:pt x="3214" y="876"/>
                    </a:lnTo>
                    <a:lnTo>
                      <a:pt x="3184" y="953"/>
                    </a:lnTo>
                    <a:lnTo>
                      <a:pt x="3149" y="1030"/>
                    </a:lnTo>
                    <a:lnTo>
                      <a:pt x="3111" y="1104"/>
                    </a:lnTo>
                    <a:lnTo>
                      <a:pt x="3070" y="1176"/>
                    </a:lnTo>
                    <a:lnTo>
                      <a:pt x="3025" y="1245"/>
                    </a:lnTo>
                    <a:lnTo>
                      <a:pt x="2978" y="1313"/>
                    </a:lnTo>
                    <a:lnTo>
                      <a:pt x="2926" y="1378"/>
                    </a:lnTo>
                    <a:lnTo>
                      <a:pt x="2873" y="1441"/>
                    </a:lnTo>
                    <a:lnTo>
                      <a:pt x="2815" y="1499"/>
                    </a:lnTo>
                    <a:lnTo>
                      <a:pt x="2756" y="1557"/>
                    </a:lnTo>
                    <a:lnTo>
                      <a:pt x="2693" y="1611"/>
                    </a:lnTo>
                    <a:lnTo>
                      <a:pt x="2628" y="1662"/>
                    </a:lnTo>
                    <a:lnTo>
                      <a:pt x="2561" y="1709"/>
                    </a:lnTo>
                    <a:lnTo>
                      <a:pt x="2491" y="1755"/>
                    </a:lnTo>
                    <a:lnTo>
                      <a:pt x="2419" y="1796"/>
                    </a:lnTo>
                    <a:lnTo>
                      <a:pt x="2345" y="1833"/>
                    </a:lnTo>
                    <a:lnTo>
                      <a:pt x="2268" y="1868"/>
                    </a:lnTo>
                    <a:lnTo>
                      <a:pt x="2191" y="1898"/>
                    </a:lnTo>
                    <a:lnTo>
                      <a:pt x="2111" y="1926"/>
                    </a:lnTo>
                    <a:lnTo>
                      <a:pt x="2029" y="1949"/>
                    </a:lnTo>
                    <a:lnTo>
                      <a:pt x="1946" y="1968"/>
                    </a:lnTo>
                    <a:lnTo>
                      <a:pt x="1862" y="1984"/>
                    </a:lnTo>
                    <a:lnTo>
                      <a:pt x="1775" y="1994"/>
                    </a:lnTo>
                    <a:lnTo>
                      <a:pt x="1688" y="2001"/>
                    </a:lnTo>
                    <a:lnTo>
                      <a:pt x="1599" y="2003"/>
                    </a:lnTo>
                    <a:lnTo>
                      <a:pt x="1534" y="2002"/>
                    </a:lnTo>
                    <a:lnTo>
                      <a:pt x="1469" y="1998"/>
                    </a:lnTo>
                    <a:lnTo>
                      <a:pt x="1405" y="1992"/>
                    </a:lnTo>
                    <a:lnTo>
                      <a:pt x="1342" y="1985"/>
                    </a:lnTo>
                    <a:lnTo>
                      <a:pt x="1280" y="1974"/>
                    </a:lnTo>
                    <a:lnTo>
                      <a:pt x="1218" y="1961"/>
                    </a:lnTo>
                    <a:lnTo>
                      <a:pt x="1157" y="1946"/>
                    </a:lnTo>
                    <a:lnTo>
                      <a:pt x="1097" y="1929"/>
                    </a:lnTo>
                    <a:lnTo>
                      <a:pt x="1039" y="1910"/>
                    </a:lnTo>
                    <a:lnTo>
                      <a:pt x="981" y="1889"/>
                    </a:lnTo>
                    <a:lnTo>
                      <a:pt x="924" y="1866"/>
                    </a:lnTo>
                    <a:lnTo>
                      <a:pt x="867" y="1841"/>
                    </a:lnTo>
                    <a:lnTo>
                      <a:pt x="813" y="1813"/>
                    </a:lnTo>
                    <a:lnTo>
                      <a:pt x="759" y="1784"/>
                    </a:lnTo>
                    <a:lnTo>
                      <a:pt x="706" y="1754"/>
                    </a:lnTo>
                    <a:lnTo>
                      <a:pt x="655" y="1721"/>
                    </a:lnTo>
                    <a:lnTo>
                      <a:pt x="604" y="1686"/>
                    </a:lnTo>
                    <a:lnTo>
                      <a:pt x="556" y="1651"/>
                    </a:lnTo>
                    <a:lnTo>
                      <a:pt x="508" y="1613"/>
                    </a:lnTo>
                    <a:lnTo>
                      <a:pt x="461" y="1574"/>
                    </a:lnTo>
                    <a:lnTo>
                      <a:pt x="417" y="1533"/>
                    </a:lnTo>
                    <a:lnTo>
                      <a:pt x="374" y="1491"/>
                    </a:lnTo>
                    <a:lnTo>
                      <a:pt x="332" y="1447"/>
                    </a:lnTo>
                    <a:lnTo>
                      <a:pt x="292" y="1402"/>
                    </a:lnTo>
                    <a:lnTo>
                      <a:pt x="253" y="1355"/>
                    </a:lnTo>
                    <a:lnTo>
                      <a:pt x="217" y="1306"/>
                    </a:lnTo>
                    <a:lnTo>
                      <a:pt x="181" y="1257"/>
                    </a:lnTo>
                    <a:lnTo>
                      <a:pt x="147" y="1207"/>
                    </a:lnTo>
                    <a:lnTo>
                      <a:pt x="116" y="1155"/>
                    </a:lnTo>
                    <a:lnTo>
                      <a:pt x="85" y="1102"/>
                    </a:lnTo>
                    <a:lnTo>
                      <a:pt x="58" y="1047"/>
                    </a:lnTo>
                    <a:lnTo>
                      <a:pt x="32" y="991"/>
                    </a:lnTo>
                    <a:lnTo>
                      <a:pt x="20" y="1015"/>
                    </a:lnTo>
                    <a:lnTo>
                      <a:pt x="20" y="1045"/>
                    </a:lnTo>
                    <a:lnTo>
                      <a:pt x="0" y="1086"/>
                    </a:lnTo>
                    <a:lnTo>
                      <a:pt x="28" y="1140"/>
                    </a:lnTo>
                    <a:lnTo>
                      <a:pt x="59" y="1193"/>
                    </a:lnTo>
                    <a:lnTo>
                      <a:pt x="90" y="1245"/>
                    </a:lnTo>
                    <a:lnTo>
                      <a:pt x="124" y="1296"/>
                    </a:lnTo>
                    <a:lnTo>
                      <a:pt x="160" y="1346"/>
                    </a:lnTo>
                    <a:lnTo>
                      <a:pt x="197" y="1394"/>
                    </a:lnTo>
                    <a:lnTo>
                      <a:pt x="235" y="1441"/>
                    </a:lnTo>
                    <a:lnTo>
                      <a:pt x="275" y="1487"/>
                    </a:lnTo>
                    <a:lnTo>
                      <a:pt x="317" y="1531"/>
                    </a:lnTo>
                    <a:lnTo>
                      <a:pt x="361" y="1574"/>
                    </a:lnTo>
                    <a:lnTo>
                      <a:pt x="405" y="1615"/>
                    </a:lnTo>
                    <a:lnTo>
                      <a:pt x="451" y="1655"/>
                    </a:lnTo>
                    <a:lnTo>
                      <a:pt x="498" y="1693"/>
                    </a:lnTo>
                    <a:lnTo>
                      <a:pt x="547" y="1729"/>
                    </a:lnTo>
                    <a:lnTo>
                      <a:pt x="596" y="1765"/>
                    </a:lnTo>
                    <a:lnTo>
                      <a:pt x="647" y="1798"/>
                    </a:lnTo>
                    <a:lnTo>
                      <a:pt x="700" y="1830"/>
                    </a:lnTo>
                    <a:lnTo>
                      <a:pt x="753" y="1860"/>
                    </a:lnTo>
                    <a:lnTo>
                      <a:pt x="807" y="1888"/>
                    </a:lnTo>
                    <a:lnTo>
                      <a:pt x="863" y="1914"/>
                    </a:lnTo>
                    <a:lnTo>
                      <a:pt x="920" y="1938"/>
                    </a:lnTo>
                    <a:lnTo>
                      <a:pt x="978" y="1961"/>
                    </a:lnTo>
                    <a:lnTo>
                      <a:pt x="1036" y="1981"/>
                    </a:lnTo>
                    <a:lnTo>
                      <a:pt x="1095" y="2000"/>
                    </a:lnTo>
                    <a:lnTo>
                      <a:pt x="1156" y="2017"/>
                    </a:lnTo>
                    <a:lnTo>
                      <a:pt x="1217" y="2031"/>
                    </a:lnTo>
                    <a:lnTo>
                      <a:pt x="1279" y="2043"/>
                    </a:lnTo>
                    <a:lnTo>
                      <a:pt x="1341" y="2054"/>
                    </a:lnTo>
                    <a:lnTo>
                      <a:pt x="1405" y="2061"/>
                    </a:lnTo>
                    <a:lnTo>
                      <a:pt x="1469" y="2068"/>
                    </a:lnTo>
                    <a:lnTo>
                      <a:pt x="1534" y="2071"/>
                    </a:lnTo>
                    <a:lnTo>
                      <a:pt x="1599" y="2072"/>
                    </a:lnTo>
                    <a:lnTo>
                      <a:pt x="1691" y="2070"/>
                    </a:lnTo>
                    <a:lnTo>
                      <a:pt x="1782" y="2062"/>
                    </a:lnTo>
                    <a:lnTo>
                      <a:pt x="1872" y="2052"/>
                    </a:lnTo>
                    <a:lnTo>
                      <a:pt x="1959" y="2036"/>
                    </a:lnTo>
                    <a:lnTo>
                      <a:pt x="2047" y="2016"/>
                    </a:lnTo>
                    <a:lnTo>
                      <a:pt x="2131" y="1992"/>
                    </a:lnTo>
                    <a:lnTo>
                      <a:pt x="2214" y="1964"/>
                    </a:lnTo>
                    <a:lnTo>
                      <a:pt x="2296" y="1931"/>
                    </a:lnTo>
                    <a:lnTo>
                      <a:pt x="2375" y="1895"/>
                    </a:lnTo>
                    <a:lnTo>
                      <a:pt x="2452" y="1856"/>
                    </a:lnTo>
                    <a:lnTo>
                      <a:pt x="2527" y="1813"/>
                    </a:lnTo>
                    <a:lnTo>
                      <a:pt x="2599" y="1767"/>
                    </a:lnTo>
                    <a:lnTo>
                      <a:pt x="2670" y="1717"/>
                    </a:lnTo>
                    <a:lnTo>
                      <a:pt x="2737" y="1664"/>
                    </a:lnTo>
                    <a:lnTo>
                      <a:pt x="2802" y="1608"/>
                    </a:lnTo>
                    <a:lnTo>
                      <a:pt x="2864" y="1549"/>
                    </a:lnTo>
                    <a:lnTo>
                      <a:pt x="2923" y="1487"/>
                    </a:lnTo>
                    <a:lnTo>
                      <a:pt x="2980" y="1422"/>
                    </a:lnTo>
                    <a:lnTo>
                      <a:pt x="3033" y="1355"/>
                    </a:lnTo>
                    <a:lnTo>
                      <a:pt x="3083" y="1284"/>
                    </a:lnTo>
                    <a:lnTo>
                      <a:pt x="3129" y="1212"/>
                    </a:lnTo>
                    <a:lnTo>
                      <a:pt x="3172" y="1137"/>
                    </a:lnTo>
                    <a:lnTo>
                      <a:pt x="3211" y="1060"/>
                    </a:lnTo>
                    <a:lnTo>
                      <a:pt x="3248" y="981"/>
                    </a:lnTo>
                    <a:lnTo>
                      <a:pt x="3280" y="899"/>
                    </a:lnTo>
                    <a:lnTo>
                      <a:pt x="3308" y="816"/>
                    </a:lnTo>
                    <a:lnTo>
                      <a:pt x="3332" y="732"/>
                    </a:lnTo>
                    <a:lnTo>
                      <a:pt x="3352" y="645"/>
                    </a:lnTo>
                    <a:lnTo>
                      <a:pt x="3368" y="557"/>
                    </a:lnTo>
                    <a:lnTo>
                      <a:pt x="3378" y="467"/>
                    </a:lnTo>
                    <a:lnTo>
                      <a:pt x="3386" y="377"/>
                    </a:lnTo>
                    <a:lnTo>
                      <a:pt x="3388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170160" y="2901960"/>
                <a:ext cx="1059120" cy="647640"/>
              </a:xfrm>
              <a:custGeom>
                <a:avLst/>
                <a:gdLst/>
                <a:ahLst/>
                <a:rect l="l" t="t" r="r" b="b"/>
                <a:pathLst>
                  <a:path w="3335" h="2037">
                    <a:moveTo>
                      <a:pt x="3335" y="285"/>
                    </a:moveTo>
                    <a:lnTo>
                      <a:pt x="3334" y="249"/>
                    </a:lnTo>
                    <a:lnTo>
                      <a:pt x="3333" y="212"/>
                    </a:lnTo>
                    <a:lnTo>
                      <a:pt x="3331" y="176"/>
                    </a:lnTo>
                    <a:lnTo>
                      <a:pt x="3329" y="141"/>
                    </a:lnTo>
                    <a:lnTo>
                      <a:pt x="3326" y="106"/>
                    </a:lnTo>
                    <a:lnTo>
                      <a:pt x="3321" y="70"/>
                    </a:lnTo>
                    <a:lnTo>
                      <a:pt x="3317" y="36"/>
                    </a:lnTo>
                    <a:lnTo>
                      <a:pt x="3312" y="0"/>
                    </a:lnTo>
                    <a:lnTo>
                      <a:pt x="3281" y="0"/>
                    </a:lnTo>
                    <a:lnTo>
                      <a:pt x="3242" y="0"/>
                    </a:lnTo>
                    <a:lnTo>
                      <a:pt x="3247" y="35"/>
                    </a:lnTo>
                    <a:lnTo>
                      <a:pt x="3252" y="70"/>
                    </a:lnTo>
                    <a:lnTo>
                      <a:pt x="3256" y="105"/>
                    </a:lnTo>
                    <a:lnTo>
                      <a:pt x="3259" y="141"/>
                    </a:lnTo>
                    <a:lnTo>
                      <a:pt x="3263" y="176"/>
                    </a:lnTo>
                    <a:lnTo>
                      <a:pt x="3265" y="212"/>
                    </a:lnTo>
                    <a:lnTo>
                      <a:pt x="3266" y="249"/>
                    </a:lnTo>
                    <a:lnTo>
                      <a:pt x="3266" y="285"/>
                    </a:lnTo>
                    <a:lnTo>
                      <a:pt x="3264" y="372"/>
                    </a:lnTo>
                    <a:lnTo>
                      <a:pt x="3257" y="457"/>
                    </a:lnTo>
                    <a:lnTo>
                      <a:pt x="3247" y="542"/>
                    </a:lnTo>
                    <a:lnTo>
                      <a:pt x="3231" y="624"/>
                    </a:lnTo>
                    <a:lnTo>
                      <a:pt x="3213" y="706"/>
                    </a:lnTo>
                    <a:lnTo>
                      <a:pt x="3190" y="785"/>
                    </a:lnTo>
                    <a:lnTo>
                      <a:pt x="3164" y="864"/>
                    </a:lnTo>
                    <a:lnTo>
                      <a:pt x="3133" y="940"/>
                    </a:lnTo>
                    <a:lnTo>
                      <a:pt x="3100" y="1015"/>
                    </a:lnTo>
                    <a:lnTo>
                      <a:pt x="3062" y="1088"/>
                    </a:lnTo>
                    <a:lnTo>
                      <a:pt x="3022" y="1158"/>
                    </a:lnTo>
                    <a:lnTo>
                      <a:pt x="2978" y="1226"/>
                    </a:lnTo>
                    <a:lnTo>
                      <a:pt x="2930" y="1293"/>
                    </a:lnTo>
                    <a:lnTo>
                      <a:pt x="2881" y="1356"/>
                    </a:lnTo>
                    <a:lnTo>
                      <a:pt x="2827" y="1418"/>
                    </a:lnTo>
                    <a:lnTo>
                      <a:pt x="2772" y="1475"/>
                    </a:lnTo>
                    <a:lnTo>
                      <a:pt x="2714" y="1531"/>
                    </a:lnTo>
                    <a:lnTo>
                      <a:pt x="2652" y="1585"/>
                    </a:lnTo>
                    <a:lnTo>
                      <a:pt x="2589" y="1634"/>
                    </a:lnTo>
                    <a:lnTo>
                      <a:pt x="2523" y="1681"/>
                    </a:lnTo>
                    <a:lnTo>
                      <a:pt x="2454" y="1725"/>
                    </a:lnTo>
                    <a:lnTo>
                      <a:pt x="2384" y="1765"/>
                    </a:lnTo>
                    <a:lnTo>
                      <a:pt x="2311" y="1803"/>
                    </a:lnTo>
                    <a:lnTo>
                      <a:pt x="2237" y="1837"/>
                    </a:lnTo>
                    <a:lnTo>
                      <a:pt x="2160" y="1867"/>
                    </a:lnTo>
                    <a:lnTo>
                      <a:pt x="2081" y="1893"/>
                    </a:lnTo>
                    <a:lnTo>
                      <a:pt x="2001" y="1916"/>
                    </a:lnTo>
                    <a:lnTo>
                      <a:pt x="1920" y="1934"/>
                    </a:lnTo>
                    <a:lnTo>
                      <a:pt x="1837" y="1950"/>
                    </a:lnTo>
                    <a:lnTo>
                      <a:pt x="1752" y="1960"/>
                    </a:lnTo>
                    <a:lnTo>
                      <a:pt x="1667" y="1967"/>
                    </a:lnTo>
                    <a:lnTo>
                      <a:pt x="1580" y="1969"/>
                    </a:lnTo>
                    <a:lnTo>
                      <a:pt x="1516" y="1968"/>
                    </a:lnTo>
                    <a:lnTo>
                      <a:pt x="1452" y="1964"/>
                    </a:lnTo>
                    <a:lnTo>
                      <a:pt x="1387" y="1958"/>
                    </a:lnTo>
                    <a:lnTo>
                      <a:pt x="1325" y="1950"/>
                    </a:lnTo>
                    <a:lnTo>
                      <a:pt x="1263" y="1939"/>
                    </a:lnTo>
                    <a:lnTo>
                      <a:pt x="1202" y="1926"/>
                    </a:lnTo>
                    <a:lnTo>
                      <a:pt x="1141" y="1911"/>
                    </a:lnTo>
                    <a:lnTo>
                      <a:pt x="1083" y="1894"/>
                    </a:lnTo>
                    <a:lnTo>
                      <a:pt x="1024" y="1874"/>
                    </a:lnTo>
                    <a:lnTo>
                      <a:pt x="966" y="1853"/>
                    </a:lnTo>
                    <a:lnTo>
                      <a:pt x="909" y="1830"/>
                    </a:lnTo>
                    <a:lnTo>
                      <a:pt x="853" y="1805"/>
                    </a:lnTo>
                    <a:lnTo>
                      <a:pt x="799" y="1778"/>
                    </a:lnTo>
                    <a:lnTo>
                      <a:pt x="746" y="1748"/>
                    </a:lnTo>
                    <a:lnTo>
                      <a:pt x="694" y="1718"/>
                    </a:lnTo>
                    <a:lnTo>
                      <a:pt x="643" y="1684"/>
                    </a:lnTo>
                    <a:lnTo>
                      <a:pt x="594" y="1651"/>
                    </a:lnTo>
                    <a:lnTo>
                      <a:pt x="545" y="1614"/>
                    </a:lnTo>
                    <a:lnTo>
                      <a:pt x="498" y="1576"/>
                    </a:lnTo>
                    <a:lnTo>
                      <a:pt x="453" y="1536"/>
                    </a:lnTo>
                    <a:lnTo>
                      <a:pt x="409" y="1495"/>
                    </a:lnTo>
                    <a:lnTo>
                      <a:pt x="366" y="1453"/>
                    </a:lnTo>
                    <a:lnTo>
                      <a:pt x="325" y="1409"/>
                    </a:lnTo>
                    <a:lnTo>
                      <a:pt x="286" y="1363"/>
                    </a:lnTo>
                    <a:lnTo>
                      <a:pt x="248" y="1317"/>
                    </a:lnTo>
                    <a:lnTo>
                      <a:pt x="211" y="1268"/>
                    </a:lnTo>
                    <a:lnTo>
                      <a:pt x="178" y="1218"/>
                    </a:lnTo>
                    <a:lnTo>
                      <a:pt x="145" y="1168"/>
                    </a:lnTo>
                    <a:lnTo>
                      <a:pt x="113" y="1115"/>
                    </a:lnTo>
                    <a:lnTo>
                      <a:pt x="84" y="1062"/>
                    </a:lnTo>
                    <a:lnTo>
                      <a:pt x="58" y="1008"/>
                    </a:lnTo>
                    <a:lnTo>
                      <a:pt x="33" y="952"/>
                    </a:lnTo>
                    <a:lnTo>
                      <a:pt x="27" y="961"/>
                    </a:lnTo>
                    <a:lnTo>
                      <a:pt x="1" y="1015"/>
                    </a:lnTo>
                    <a:lnTo>
                      <a:pt x="1" y="1045"/>
                    </a:lnTo>
                    <a:lnTo>
                      <a:pt x="0" y="1047"/>
                    </a:lnTo>
                    <a:lnTo>
                      <a:pt x="27" y="1100"/>
                    </a:lnTo>
                    <a:lnTo>
                      <a:pt x="57" y="1154"/>
                    </a:lnTo>
                    <a:lnTo>
                      <a:pt x="87" y="1207"/>
                    </a:lnTo>
                    <a:lnTo>
                      <a:pt x="121" y="1258"/>
                    </a:lnTo>
                    <a:lnTo>
                      <a:pt x="155" y="1307"/>
                    </a:lnTo>
                    <a:lnTo>
                      <a:pt x="191" y="1356"/>
                    </a:lnTo>
                    <a:lnTo>
                      <a:pt x="229" y="1403"/>
                    </a:lnTo>
                    <a:lnTo>
                      <a:pt x="269" y="1449"/>
                    </a:lnTo>
                    <a:lnTo>
                      <a:pt x="309" y="1493"/>
                    </a:lnTo>
                    <a:lnTo>
                      <a:pt x="352" y="1536"/>
                    </a:lnTo>
                    <a:lnTo>
                      <a:pt x="395" y="1578"/>
                    </a:lnTo>
                    <a:lnTo>
                      <a:pt x="441" y="1618"/>
                    </a:lnTo>
                    <a:lnTo>
                      <a:pt x="488" y="1656"/>
                    </a:lnTo>
                    <a:lnTo>
                      <a:pt x="536" y="1693"/>
                    </a:lnTo>
                    <a:lnTo>
                      <a:pt x="585" y="1728"/>
                    </a:lnTo>
                    <a:lnTo>
                      <a:pt x="636" y="1762"/>
                    </a:lnTo>
                    <a:lnTo>
                      <a:pt x="687" y="1793"/>
                    </a:lnTo>
                    <a:lnTo>
                      <a:pt x="740" y="1824"/>
                    </a:lnTo>
                    <a:lnTo>
                      <a:pt x="795" y="1852"/>
                    </a:lnTo>
                    <a:lnTo>
                      <a:pt x="849" y="1879"/>
                    </a:lnTo>
                    <a:lnTo>
                      <a:pt x="905" y="1904"/>
                    </a:lnTo>
                    <a:lnTo>
                      <a:pt x="963" y="1926"/>
                    </a:lnTo>
                    <a:lnTo>
                      <a:pt x="1021" y="1947"/>
                    </a:lnTo>
                    <a:lnTo>
                      <a:pt x="1079" y="1966"/>
                    </a:lnTo>
                    <a:lnTo>
                      <a:pt x="1139" y="1981"/>
                    </a:lnTo>
                    <a:lnTo>
                      <a:pt x="1200" y="1996"/>
                    </a:lnTo>
                    <a:lnTo>
                      <a:pt x="1262" y="2009"/>
                    </a:lnTo>
                    <a:lnTo>
                      <a:pt x="1324" y="2019"/>
                    </a:lnTo>
                    <a:lnTo>
                      <a:pt x="1387" y="2027"/>
                    </a:lnTo>
                    <a:lnTo>
                      <a:pt x="1450" y="2033"/>
                    </a:lnTo>
                    <a:lnTo>
                      <a:pt x="1516" y="2036"/>
                    </a:lnTo>
                    <a:lnTo>
                      <a:pt x="1580" y="2037"/>
                    </a:lnTo>
                    <a:lnTo>
                      <a:pt x="1670" y="2035"/>
                    </a:lnTo>
                    <a:lnTo>
                      <a:pt x="1760" y="2029"/>
                    </a:lnTo>
                    <a:lnTo>
                      <a:pt x="1848" y="2017"/>
                    </a:lnTo>
                    <a:lnTo>
                      <a:pt x="1934" y="2002"/>
                    </a:lnTo>
                    <a:lnTo>
                      <a:pt x="2018" y="1982"/>
                    </a:lnTo>
                    <a:lnTo>
                      <a:pt x="2102" y="1958"/>
                    </a:lnTo>
                    <a:lnTo>
                      <a:pt x="2183" y="1931"/>
                    </a:lnTo>
                    <a:lnTo>
                      <a:pt x="2263" y="1900"/>
                    </a:lnTo>
                    <a:lnTo>
                      <a:pt x="2341" y="1865"/>
                    </a:lnTo>
                    <a:lnTo>
                      <a:pt x="2416" y="1826"/>
                    </a:lnTo>
                    <a:lnTo>
                      <a:pt x="2490" y="1784"/>
                    </a:lnTo>
                    <a:lnTo>
                      <a:pt x="2562" y="1738"/>
                    </a:lnTo>
                    <a:lnTo>
                      <a:pt x="2630" y="1690"/>
                    </a:lnTo>
                    <a:lnTo>
                      <a:pt x="2696" y="1637"/>
                    </a:lnTo>
                    <a:lnTo>
                      <a:pt x="2760" y="1582"/>
                    </a:lnTo>
                    <a:lnTo>
                      <a:pt x="2821" y="1525"/>
                    </a:lnTo>
                    <a:lnTo>
                      <a:pt x="2879" y="1464"/>
                    </a:lnTo>
                    <a:lnTo>
                      <a:pt x="2934" y="1400"/>
                    </a:lnTo>
                    <a:lnTo>
                      <a:pt x="2986" y="1334"/>
                    </a:lnTo>
                    <a:lnTo>
                      <a:pt x="3035" y="1265"/>
                    </a:lnTo>
                    <a:lnTo>
                      <a:pt x="3081" y="1194"/>
                    </a:lnTo>
                    <a:lnTo>
                      <a:pt x="3123" y="1120"/>
                    </a:lnTo>
                    <a:lnTo>
                      <a:pt x="3162" y="1045"/>
                    </a:lnTo>
                    <a:lnTo>
                      <a:pt x="3196" y="967"/>
                    </a:lnTo>
                    <a:lnTo>
                      <a:pt x="3228" y="887"/>
                    </a:lnTo>
                    <a:lnTo>
                      <a:pt x="3255" y="806"/>
                    </a:lnTo>
                    <a:lnTo>
                      <a:pt x="3279" y="722"/>
                    </a:lnTo>
                    <a:lnTo>
                      <a:pt x="3299" y="638"/>
                    </a:lnTo>
                    <a:lnTo>
                      <a:pt x="3314" y="552"/>
                    </a:lnTo>
                    <a:lnTo>
                      <a:pt x="3326" y="464"/>
                    </a:lnTo>
                    <a:lnTo>
                      <a:pt x="3332" y="375"/>
                    </a:lnTo>
                    <a:lnTo>
                      <a:pt x="3335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173400" y="2901960"/>
                <a:ext cx="1044720" cy="636480"/>
              </a:xfrm>
              <a:custGeom>
                <a:avLst/>
                <a:gdLst/>
                <a:ahLst/>
                <a:rect l="l" t="t" r="r" b="b"/>
                <a:pathLst>
                  <a:path w="3287" h="2003">
                    <a:moveTo>
                      <a:pt x="3287" y="285"/>
                    </a:moveTo>
                    <a:lnTo>
                      <a:pt x="3286" y="249"/>
                    </a:lnTo>
                    <a:lnTo>
                      <a:pt x="3285" y="212"/>
                    </a:lnTo>
                    <a:lnTo>
                      <a:pt x="3284" y="176"/>
                    </a:lnTo>
                    <a:lnTo>
                      <a:pt x="3281" y="141"/>
                    </a:lnTo>
                    <a:lnTo>
                      <a:pt x="3278" y="105"/>
                    </a:lnTo>
                    <a:lnTo>
                      <a:pt x="3274" y="70"/>
                    </a:lnTo>
                    <a:lnTo>
                      <a:pt x="3270" y="36"/>
                    </a:lnTo>
                    <a:lnTo>
                      <a:pt x="3263" y="0"/>
                    </a:lnTo>
                    <a:lnTo>
                      <a:pt x="3211" y="0"/>
                    </a:lnTo>
                    <a:lnTo>
                      <a:pt x="3194" y="0"/>
                    </a:lnTo>
                    <a:lnTo>
                      <a:pt x="3199" y="35"/>
                    </a:lnTo>
                    <a:lnTo>
                      <a:pt x="3204" y="70"/>
                    </a:lnTo>
                    <a:lnTo>
                      <a:pt x="3209" y="105"/>
                    </a:lnTo>
                    <a:lnTo>
                      <a:pt x="3212" y="141"/>
                    </a:lnTo>
                    <a:lnTo>
                      <a:pt x="3215" y="176"/>
                    </a:lnTo>
                    <a:lnTo>
                      <a:pt x="3217" y="212"/>
                    </a:lnTo>
                    <a:lnTo>
                      <a:pt x="3218" y="249"/>
                    </a:lnTo>
                    <a:lnTo>
                      <a:pt x="3218" y="285"/>
                    </a:lnTo>
                    <a:lnTo>
                      <a:pt x="3216" y="370"/>
                    </a:lnTo>
                    <a:lnTo>
                      <a:pt x="3210" y="454"/>
                    </a:lnTo>
                    <a:lnTo>
                      <a:pt x="3199" y="537"/>
                    </a:lnTo>
                    <a:lnTo>
                      <a:pt x="3184" y="617"/>
                    </a:lnTo>
                    <a:lnTo>
                      <a:pt x="3167" y="697"/>
                    </a:lnTo>
                    <a:lnTo>
                      <a:pt x="3145" y="775"/>
                    </a:lnTo>
                    <a:lnTo>
                      <a:pt x="3118" y="852"/>
                    </a:lnTo>
                    <a:lnTo>
                      <a:pt x="3089" y="927"/>
                    </a:lnTo>
                    <a:lnTo>
                      <a:pt x="3055" y="1000"/>
                    </a:lnTo>
                    <a:lnTo>
                      <a:pt x="3019" y="1071"/>
                    </a:lnTo>
                    <a:lnTo>
                      <a:pt x="2979" y="1140"/>
                    </a:lnTo>
                    <a:lnTo>
                      <a:pt x="2936" y="1208"/>
                    </a:lnTo>
                    <a:lnTo>
                      <a:pt x="2890" y="1272"/>
                    </a:lnTo>
                    <a:lnTo>
                      <a:pt x="2842" y="1335"/>
                    </a:lnTo>
                    <a:lnTo>
                      <a:pt x="2789" y="1394"/>
                    </a:lnTo>
                    <a:lnTo>
                      <a:pt x="2735" y="1451"/>
                    </a:lnTo>
                    <a:lnTo>
                      <a:pt x="2678" y="1506"/>
                    </a:lnTo>
                    <a:lnTo>
                      <a:pt x="2618" y="1558"/>
                    </a:lnTo>
                    <a:lnTo>
                      <a:pt x="2555" y="1607"/>
                    </a:lnTo>
                    <a:lnTo>
                      <a:pt x="2491" y="1653"/>
                    </a:lnTo>
                    <a:lnTo>
                      <a:pt x="2423" y="1696"/>
                    </a:lnTo>
                    <a:lnTo>
                      <a:pt x="2354" y="1736"/>
                    </a:lnTo>
                    <a:lnTo>
                      <a:pt x="2283" y="1771"/>
                    </a:lnTo>
                    <a:lnTo>
                      <a:pt x="2210" y="1805"/>
                    </a:lnTo>
                    <a:lnTo>
                      <a:pt x="2134" y="1834"/>
                    </a:lnTo>
                    <a:lnTo>
                      <a:pt x="2058" y="1861"/>
                    </a:lnTo>
                    <a:lnTo>
                      <a:pt x="1980" y="1883"/>
                    </a:lnTo>
                    <a:lnTo>
                      <a:pt x="1900" y="1901"/>
                    </a:lnTo>
                    <a:lnTo>
                      <a:pt x="1819" y="1915"/>
                    </a:lnTo>
                    <a:lnTo>
                      <a:pt x="1736" y="1926"/>
                    </a:lnTo>
                    <a:lnTo>
                      <a:pt x="1652" y="1932"/>
                    </a:lnTo>
                    <a:lnTo>
                      <a:pt x="1567" y="1934"/>
                    </a:lnTo>
                    <a:lnTo>
                      <a:pt x="1503" y="1933"/>
                    </a:lnTo>
                    <a:lnTo>
                      <a:pt x="1440" y="1930"/>
                    </a:lnTo>
                    <a:lnTo>
                      <a:pt x="1377" y="1924"/>
                    </a:lnTo>
                    <a:lnTo>
                      <a:pt x="1313" y="1915"/>
                    </a:lnTo>
                    <a:lnTo>
                      <a:pt x="1252" y="1905"/>
                    </a:lnTo>
                    <a:lnTo>
                      <a:pt x="1192" y="1891"/>
                    </a:lnTo>
                    <a:lnTo>
                      <a:pt x="1132" y="1876"/>
                    </a:lnTo>
                    <a:lnTo>
                      <a:pt x="1073" y="1859"/>
                    </a:lnTo>
                    <a:lnTo>
                      <a:pt x="1014" y="1840"/>
                    </a:lnTo>
                    <a:lnTo>
                      <a:pt x="957" y="1819"/>
                    </a:lnTo>
                    <a:lnTo>
                      <a:pt x="901" y="1795"/>
                    </a:lnTo>
                    <a:lnTo>
                      <a:pt x="846" y="1769"/>
                    </a:lnTo>
                    <a:lnTo>
                      <a:pt x="792" y="1742"/>
                    </a:lnTo>
                    <a:lnTo>
                      <a:pt x="740" y="1713"/>
                    </a:lnTo>
                    <a:lnTo>
                      <a:pt x="688" y="1681"/>
                    </a:lnTo>
                    <a:lnTo>
                      <a:pt x="638" y="1649"/>
                    </a:lnTo>
                    <a:lnTo>
                      <a:pt x="589" y="1614"/>
                    </a:lnTo>
                    <a:lnTo>
                      <a:pt x="541" y="1577"/>
                    </a:lnTo>
                    <a:lnTo>
                      <a:pt x="495" y="1539"/>
                    </a:lnTo>
                    <a:lnTo>
                      <a:pt x="450" y="1499"/>
                    </a:lnTo>
                    <a:lnTo>
                      <a:pt x="406" y="1459"/>
                    </a:lnTo>
                    <a:lnTo>
                      <a:pt x="364" y="1415"/>
                    </a:lnTo>
                    <a:lnTo>
                      <a:pt x="324" y="1371"/>
                    </a:lnTo>
                    <a:lnTo>
                      <a:pt x="285" y="1325"/>
                    </a:lnTo>
                    <a:lnTo>
                      <a:pt x="249" y="1278"/>
                    </a:lnTo>
                    <a:lnTo>
                      <a:pt x="214" y="1230"/>
                    </a:lnTo>
                    <a:lnTo>
                      <a:pt x="180" y="1180"/>
                    </a:lnTo>
                    <a:lnTo>
                      <a:pt x="148" y="1129"/>
                    </a:lnTo>
                    <a:lnTo>
                      <a:pt x="118" y="1076"/>
                    </a:lnTo>
                    <a:lnTo>
                      <a:pt x="90" y="1023"/>
                    </a:lnTo>
                    <a:lnTo>
                      <a:pt x="64" y="968"/>
                    </a:lnTo>
                    <a:lnTo>
                      <a:pt x="39" y="913"/>
                    </a:lnTo>
                    <a:lnTo>
                      <a:pt x="14" y="961"/>
                    </a:lnTo>
                    <a:lnTo>
                      <a:pt x="0" y="991"/>
                    </a:lnTo>
                    <a:lnTo>
                      <a:pt x="26" y="1047"/>
                    </a:lnTo>
                    <a:lnTo>
                      <a:pt x="53" y="1102"/>
                    </a:lnTo>
                    <a:lnTo>
                      <a:pt x="84" y="1155"/>
                    </a:lnTo>
                    <a:lnTo>
                      <a:pt x="115" y="1207"/>
                    </a:lnTo>
                    <a:lnTo>
                      <a:pt x="149" y="1257"/>
                    </a:lnTo>
                    <a:lnTo>
                      <a:pt x="185" y="1306"/>
                    </a:lnTo>
                    <a:lnTo>
                      <a:pt x="221" y="1355"/>
                    </a:lnTo>
                    <a:lnTo>
                      <a:pt x="260" y="1402"/>
                    </a:lnTo>
                    <a:lnTo>
                      <a:pt x="300" y="1447"/>
                    </a:lnTo>
                    <a:lnTo>
                      <a:pt x="342" y="1491"/>
                    </a:lnTo>
                    <a:lnTo>
                      <a:pt x="385" y="1533"/>
                    </a:lnTo>
                    <a:lnTo>
                      <a:pt x="429" y="1574"/>
                    </a:lnTo>
                    <a:lnTo>
                      <a:pt x="476" y="1613"/>
                    </a:lnTo>
                    <a:lnTo>
                      <a:pt x="524" y="1651"/>
                    </a:lnTo>
                    <a:lnTo>
                      <a:pt x="572" y="1686"/>
                    </a:lnTo>
                    <a:lnTo>
                      <a:pt x="623" y="1721"/>
                    </a:lnTo>
                    <a:lnTo>
                      <a:pt x="674" y="1754"/>
                    </a:lnTo>
                    <a:lnTo>
                      <a:pt x="727" y="1784"/>
                    </a:lnTo>
                    <a:lnTo>
                      <a:pt x="781" y="1813"/>
                    </a:lnTo>
                    <a:lnTo>
                      <a:pt x="835" y="1841"/>
                    </a:lnTo>
                    <a:lnTo>
                      <a:pt x="892" y="1866"/>
                    </a:lnTo>
                    <a:lnTo>
                      <a:pt x="949" y="1889"/>
                    </a:lnTo>
                    <a:lnTo>
                      <a:pt x="1007" y="1910"/>
                    </a:lnTo>
                    <a:lnTo>
                      <a:pt x="1065" y="1929"/>
                    </a:lnTo>
                    <a:lnTo>
                      <a:pt x="1125" y="1946"/>
                    </a:lnTo>
                    <a:lnTo>
                      <a:pt x="1186" y="1961"/>
                    </a:lnTo>
                    <a:lnTo>
                      <a:pt x="1248" y="1974"/>
                    </a:lnTo>
                    <a:lnTo>
                      <a:pt x="1310" y="1985"/>
                    </a:lnTo>
                    <a:lnTo>
                      <a:pt x="1373" y="1992"/>
                    </a:lnTo>
                    <a:lnTo>
                      <a:pt x="1437" y="1998"/>
                    </a:lnTo>
                    <a:lnTo>
                      <a:pt x="1502" y="2002"/>
                    </a:lnTo>
                    <a:lnTo>
                      <a:pt x="1567" y="2003"/>
                    </a:lnTo>
                    <a:lnTo>
                      <a:pt x="1656" y="2001"/>
                    </a:lnTo>
                    <a:lnTo>
                      <a:pt x="1743" y="1994"/>
                    </a:lnTo>
                    <a:lnTo>
                      <a:pt x="1830" y="1984"/>
                    </a:lnTo>
                    <a:lnTo>
                      <a:pt x="1914" y="1968"/>
                    </a:lnTo>
                    <a:lnTo>
                      <a:pt x="1997" y="1949"/>
                    </a:lnTo>
                    <a:lnTo>
                      <a:pt x="2079" y="1926"/>
                    </a:lnTo>
                    <a:lnTo>
                      <a:pt x="2159" y="1898"/>
                    </a:lnTo>
                    <a:lnTo>
                      <a:pt x="2236" y="1868"/>
                    </a:lnTo>
                    <a:lnTo>
                      <a:pt x="2313" y="1833"/>
                    </a:lnTo>
                    <a:lnTo>
                      <a:pt x="2387" y="1796"/>
                    </a:lnTo>
                    <a:lnTo>
                      <a:pt x="2459" y="1755"/>
                    </a:lnTo>
                    <a:lnTo>
                      <a:pt x="2529" y="1709"/>
                    </a:lnTo>
                    <a:lnTo>
                      <a:pt x="2596" y="1662"/>
                    </a:lnTo>
                    <a:lnTo>
                      <a:pt x="2661" y="1611"/>
                    </a:lnTo>
                    <a:lnTo>
                      <a:pt x="2724" y="1557"/>
                    </a:lnTo>
                    <a:lnTo>
                      <a:pt x="2783" y="1499"/>
                    </a:lnTo>
                    <a:lnTo>
                      <a:pt x="2841" y="1441"/>
                    </a:lnTo>
                    <a:lnTo>
                      <a:pt x="2894" y="1378"/>
                    </a:lnTo>
                    <a:lnTo>
                      <a:pt x="2946" y="1313"/>
                    </a:lnTo>
                    <a:lnTo>
                      <a:pt x="2993" y="1245"/>
                    </a:lnTo>
                    <a:lnTo>
                      <a:pt x="3038" y="1176"/>
                    </a:lnTo>
                    <a:lnTo>
                      <a:pt x="3079" y="1104"/>
                    </a:lnTo>
                    <a:lnTo>
                      <a:pt x="3117" y="1030"/>
                    </a:lnTo>
                    <a:lnTo>
                      <a:pt x="3152" y="953"/>
                    </a:lnTo>
                    <a:lnTo>
                      <a:pt x="3182" y="876"/>
                    </a:lnTo>
                    <a:lnTo>
                      <a:pt x="3210" y="796"/>
                    </a:lnTo>
                    <a:lnTo>
                      <a:pt x="3233" y="714"/>
                    </a:lnTo>
                    <a:lnTo>
                      <a:pt x="3253" y="631"/>
                    </a:lnTo>
                    <a:lnTo>
                      <a:pt x="3268" y="547"/>
                    </a:lnTo>
                    <a:lnTo>
                      <a:pt x="3278" y="461"/>
                    </a:lnTo>
                    <a:lnTo>
                      <a:pt x="3285" y="374"/>
                    </a:lnTo>
                    <a:lnTo>
                      <a:pt x="3287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179880" y="2901960"/>
                <a:ext cx="1027080" cy="625320"/>
              </a:xfrm>
              <a:custGeom>
                <a:avLst/>
                <a:gdLst/>
                <a:ahLst/>
                <a:rect l="l" t="t" r="r" b="b"/>
                <a:pathLst>
                  <a:path w="3233" h="1969">
                    <a:moveTo>
                      <a:pt x="3233" y="285"/>
                    </a:moveTo>
                    <a:lnTo>
                      <a:pt x="3233" y="249"/>
                    </a:lnTo>
                    <a:lnTo>
                      <a:pt x="3232" y="212"/>
                    </a:lnTo>
                    <a:lnTo>
                      <a:pt x="3230" y="176"/>
                    </a:lnTo>
                    <a:lnTo>
                      <a:pt x="3226" y="141"/>
                    </a:lnTo>
                    <a:lnTo>
                      <a:pt x="3223" y="105"/>
                    </a:lnTo>
                    <a:lnTo>
                      <a:pt x="3219" y="70"/>
                    </a:lnTo>
                    <a:lnTo>
                      <a:pt x="3214" y="35"/>
                    </a:lnTo>
                    <a:lnTo>
                      <a:pt x="3209" y="0"/>
                    </a:lnTo>
                    <a:lnTo>
                      <a:pt x="3191" y="0"/>
                    </a:lnTo>
                    <a:lnTo>
                      <a:pt x="3139" y="0"/>
                    </a:lnTo>
                    <a:lnTo>
                      <a:pt x="3144" y="35"/>
                    </a:lnTo>
                    <a:lnTo>
                      <a:pt x="3150" y="70"/>
                    </a:lnTo>
                    <a:lnTo>
                      <a:pt x="3154" y="105"/>
                    </a:lnTo>
                    <a:lnTo>
                      <a:pt x="3158" y="141"/>
                    </a:lnTo>
                    <a:lnTo>
                      <a:pt x="3160" y="176"/>
                    </a:lnTo>
                    <a:lnTo>
                      <a:pt x="3162" y="212"/>
                    </a:lnTo>
                    <a:lnTo>
                      <a:pt x="3163" y="249"/>
                    </a:lnTo>
                    <a:lnTo>
                      <a:pt x="3164" y="285"/>
                    </a:lnTo>
                    <a:lnTo>
                      <a:pt x="3162" y="368"/>
                    </a:lnTo>
                    <a:lnTo>
                      <a:pt x="3156" y="451"/>
                    </a:lnTo>
                    <a:lnTo>
                      <a:pt x="3146" y="531"/>
                    </a:lnTo>
                    <a:lnTo>
                      <a:pt x="3131" y="610"/>
                    </a:lnTo>
                    <a:lnTo>
                      <a:pt x="3113" y="689"/>
                    </a:lnTo>
                    <a:lnTo>
                      <a:pt x="3091" y="766"/>
                    </a:lnTo>
                    <a:lnTo>
                      <a:pt x="3066" y="840"/>
                    </a:lnTo>
                    <a:lnTo>
                      <a:pt x="3037" y="914"/>
                    </a:lnTo>
                    <a:lnTo>
                      <a:pt x="3005" y="985"/>
                    </a:lnTo>
                    <a:lnTo>
                      <a:pt x="2969" y="1055"/>
                    </a:lnTo>
                    <a:lnTo>
                      <a:pt x="2930" y="1123"/>
                    </a:lnTo>
                    <a:lnTo>
                      <a:pt x="2888" y="1188"/>
                    </a:lnTo>
                    <a:lnTo>
                      <a:pt x="2843" y="1252"/>
                    </a:lnTo>
                    <a:lnTo>
                      <a:pt x="2794" y="1313"/>
                    </a:lnTo>
                    <a:lnTo>
                      <a:pt x="2744" y="1371"/>
                    </a:lnTo>
                    <a:lnTo>
                      <a:pt x="2690" y="1427"/>
                    </a:lnTo>
                    <a:lnTo>
                      <a:pt x="2635" y="1481"/>
                    </a:lnTo>
                    <a:lnTo>
                      <a:pt x="2576" y="1531"/>
                    </a:lnTo>
                    <a:lnTo>
                      <a:pt x="2515" y="1579"/>
                    </a:lnTo>
                    <a:lnTo>
                      <a:pt x="2451" y="1624"/>
                    </a:lnTo>
                    <a:lnTo>
                      <a:pt x="2386" y="1666"/>
                    </a:lnTo>
                    <a:lnTo>
                      <a:pt x="2317" y="1705"/>
                    </a:lnTo>
                    <a:lnTo>
                      <a:pt x="2248" y="1741"/>
                    </a:lnTo>
                    <a:lnTo>
                      <a:pt x="2176" y="1774"/>
                    </a:lnTo>
                    <a:lnTo>
                      <a:pt x="2103" y="1802"/>
                    </a:lnTo>
                    <a:lnTo>
                      <a:pt x="2028" y="1827"/>
                    </a:lnTo>
                    <a:lnTo>
                      <a:pt x="1951" y="1849"/>
                    </a:lnTo>
                    <a:lnTo>
                      <a:pt x="1873" y="1867"/>
                    </a:lnTo>
                    <a:lnTo>
                      <a:pt x="1794" y="1882"/>
                    </a:lnTo>
                    <a:lnTo>
                      <a:pt x="1713" y="1892"/>
                    </a:lnTo>
                    <a:lnTo>
                      <a:pt x="1631" y="1898"/>
                    </a:lnTo>
                    <a:lnTo>
                      <a:pt x="1547" y="1900"/>
                    </a:lnTo>
                    <a:lnTo>
                      <a:pt x="1483" y="1898"/>
                    </a:lnTo>
                    <a:lnTo>
                      <a:pt x="1417" y="1895"/>
                    </a:lnTo>
                    <a:lnTo>
                      <a:pt x="1354" y="1889"/>
                    </a:lnTo>
                    <a:lnTo>
                      <a:pt x="1291" y="1880"/>
                    </a:lnTo>
                    <a:lnTo>
                      <a:pt x="1229" y="1869"/>
                    </a:lnTo>
                    <a:lnTo>
                      <a:pt x="1168" y="1855"/>
                    </a:lnTo>
                    <a:lnTo>
                      <a:pt x="1107" y="1840"/>
                    </a:lnTo>
                    <a:lnTo>
                      <a:pt x="1049" y="1822"/>
                    </a:lnTo>
                    <a:lnTo>
                      <a:pt x="990" y="1802"/>
                    </a:lnTo>
                    <a:lnTo>
                      <a:pt x="933" y="1780"/>
                    </a:lnTo>
                    <a:lnTo>
                      <a:pt x="876" y="1755"/>
                    </a:lnTo>
                    <a:lnTo>
                      <a:pt x="821" y="1728"/>
                    </a:lnTo>
                    <a:lnTo>
                      <a:pt x="767" y="1700"/>
                    </a:lnTo>
                    <a:lnTo>
                      <a:pt x="714" y="1670"/>
                    </a:lnTo>
                    <a:lnTo>
                      <a:pt x="663" y="1637"/>
                    </a:lnTo>
                    <a:lnTo>
                      <a:pt x="613" y="1603"/>
                    </a:lnTo>
                    <a:lnTo>
                      <a:pt x="564" y="1568"/>
                    </a:lnTo>
                    <a:lnTo>
                      <a:pt x="517" y="1530"/>
                    </a:lnTo>
                    <a:lnTo>
                      <a:pt x="471" y="1490"/>
                    </a:lnTo>
                    <a:lnTo>
                      <a:pt x="426" y="1449"/>
                    </a:lnTo>
                    <a:lnTo>
                      <a:pt x="384" y="1406"/>
                    </a:lnTo>
                    <a:lnTo>
                      <a:pt x="342" y="1362"/>
                    </a:lnTo>
                    <a:lnTo>
                      <a:pt x="303" y="1317"/>
                    </a:lnTo>
                    <a:lnTo>
                      <a:pt x="265" y="1270"/>
                    </a:lnTo>
                    <a:lnTo>
                      <a:pt x="230" y="1220"/>
                    </a:lnTo>
                    <a:lnTo>
                      <a:pt x="195" y="1171"/>
                    </a:lnTo>
                    <a:lnTo>
                      <a:pt x="162" y="1119"/>
                    </a:lnTo>
                    <a:lnTo>
                      <a:pt x="132" y="1067"/>
                    </a:lnTo>
                    <a:lnTo>
                      <a:pt x="104" y="1012"/>
                    </a:lnTo>
                    <a:lnTo>
                      <a:pt x="77" y="958"/>
                    </a:lnTo>
                    <a:lnTo>
                      <a:pt x="52" y="901"/>
                    </a:lnTo>
                    <a:lnTo>
                      <a:pt x="30" y="844"/>
                    </a:lnTo>
                    <a:lnTo>
                      <a:pt x="25" y="846"/>
                    </a:lnTo>
                    <a:lnTo>
                      <a:pt x="25" y="904"/>
                    </a:lnTo>
                    <a:lnTo>
                      <a:pt x="0" y="952"/>
                    </a:lnTo>
                    <a:lnTo>
                      <a:pt x="25" y="1008"/>
                    </a:lnTo>
                    <a:lnTo>
                      <a:pt x="51" y="1062"/>
                    </a:lnTo>
                    <a:lnTo>
                      <a:pt x="80" y="1115"/>
                    </a:lnTo>
                    <a:lnTo>
                      <a:pt x="112" y="1168"/>
                    </a:lnTo>
                    <a:lnTo>
                      <a:pt x="145" y="1218"/>
                    </a:lnTo>
                    <a:lnTo>
                      <a:pt x="178" y="1268"/>
                    </a:lnTo>
                    <a:lnTo>
                      <a:pt x="215" y="1317"/>
                    </a:lnTo>
                    <a:lnTo>
                      <a:pt x="253" y="1363"/>
                    </a:lnTo>
                    <a:lnTo>
                      <a:pt x="292" y="1409"/>
                    </a:lnTo>
                    <a:lnTo>
                      <a:pt x="333" y="1453"/>
                    </a:lnTo>
                    <a:lnTo>
                      <a:pt x="376" y="1495"/>
                    </a:lnTo>
                    <a:lnTo>
                      <a:pt x="420" y="1536"/>
                    </a:lnTo>
                    <a:lnTo>
                      <a:pt x="465" y="1576"/>
                    </a:lnTo>
                    <a:lnTo>
                      <a:pt x="512" y="1614"/>
                    </a:lnTo>
                    <a:lnTo>
                      <a:pt x="561" y="1651"/>
                    </a:lnTo>
                    <a:lnTo>
                      <a:pt x="610" y="1684"/>
                    </a:lnTo>
                    <a:lnTo>
                      <a:pt x="661" y="1718"/>
                    </a:lnTo>
                    <a:lnTo>
                      <a:pt x="713" y="1748"/>
                    </a:lnTo>
                    <a:lnTo>
                      <a:pt x="766" y="1778"/>
                    </a:lnTo>
                    <a:lnTo>
                      <a:pt x="820" y="1805"/>
                    </a:lnTo>
                    <a:lnTo>
                      <a:pt x="876" y="1830"/>
                    </a:lnTo>
                    <a:lnTo>
                      <a:pt x="933" y="1853"/>
                    </a:lnTo>
                    <a:lnTo>
                      <a:pt x="991" y="1874"/>
                    </a:lnTo>
                    <a:lnTo>
                      <a:pt x="1050" y="1894"/>
                    </a:lnTo>
                    <a:lnTo>
                      <a:pt x="1108" y="1911"/>
                    </a:lnTo>
                    <a:lnTo>
                      <a:pt x="1169" y="1926"/>
                    </a:lnTo>
                    <a:lnTo>
                      <a:pt x="1230" y="1939"/>
                    </a:lnTo>
                    <a:lnTo>
                      <a:pt x="1292" y="1950"/>
                    </a:lnTo>
                    <a:lnTo>
                      <a:pt x="1354" y="1958"/>
                    </a:lnTo>
                    <a:lnTo>
                      <a:pt x="1419" y="1964"/>
                    </a:lnTo>
                    <a:lnTo>
                      <a:pt x="1483" y="1968"/>
                    </a:lnTo>
                    <a:lnTo>
                      <a:pt x="1547" y="1969"/>
                    </a:lnTo>
                    <a:lnTo>
                      <a:pt x="1634" y="1967"/>
                    </a:lnTo>
                    <a:lnTo>
                      <a:pt x="1719" y="1960"/>
                    </a:lnTo>
                    <a:lnTo>
                      <a:pt x="1804" y="1950"/>
                    </a:lnTo>
                    <a:lnTo>
                      <a:pt x="1887" y="1934"/>
                    </a:lnTo>
                    <a:lnTo>
                      <a:pt x="1968" y="1916"/>
                    </a:lnTo>
                    <a:lnTo>
                      <a:pt x="2048" y="1893"/>
                    </a:lnTo>
                    <a:lnTo>
                      <a:pt x="2127" y="1867"/>
                    </a:lnTo>
                    <a:lnTo>
                      <a:pt x="2204" y="1837"/>
                    </a:lnTo>
                    <a:lnTo>
                      <a:pt x="2278" y="1803"/>
                    </a:lnTo>
                    <a:lnTo>
                      <a:pt x="2351" y="1765"/>
                    </a:lnTo>
                    <a:lnTo>
                      <a:pt x="2421" y="1725"/>
                    </a:lnTo>
                    <a:lnTo>
                      <a:pt x="2490" y="1681"/>
                    </a:lnTo>
                    <a:lnTo>
                      <a:pt x="2556" y="1634"/>
                    </a:lnTo>
                    <a:lnTo>
                      <a:pt x="2619" y="1585"/>
                    </a:lnTo>
                    <a:lnTo>
                      <a:pt x="2681" y="1531"/>
                    </a:lnTo>
                    <a:lnTo>
                      <a:pt x="2739" y="1475"/>
                    </a:lnTo>
                    <a:lnTo>
                      <a:pt x="2794" y="1418"/>
                    </a:lnTo>
                    <a:lnTo>
                      <a:pt x="2848" y="1356"/>
                    </a:lnTo>
                    <a:lnTo>
                      <a:pt x="2897" y="1293"/>
                    </a:lnTo>
                    <a:lnTo>
                      <a:pt x="2945" y="1226"/>
                    </a:lnTo>
                    <a:lnTo>
                      <a:pt x="2989" y="1158"/>
                    </a:lnTo>
                    <a:lnTo>
                      <a:pt x="3029" y="1088"/>
                    </a:lnTo>
                    <a:lnTo>
                      <a:pt x="3067" y="1015"/>
                    </a:lnTo>
                    <a:lnTo>
                      <a:pt x="3100" y="940"/>
                    </a:lnTo>
                    <a:lnTo>
                      <a:pt x="3131" y="864"/>
                    </a:lnTo>
                    <a:lnTo>
                      <a:pt x="3157" y="785"/>
                    </a:lnTo>
                    <a:lnTo>
                      <a:pt x="3180" y="706"/>
                    </a:lnTo>
                    <a:lnTo>
                      <a:pt x="3198" y="624"/>
                    </a:lnTo>
                    <a:lnTo>
                      <a:pt x="3214" y="542"/>
                    </a:lnTo>
                    <a:lnTo>
                      <a:pt x="3224" y="457"/>
                    </a:lnTo>
                    <a:lnTo>
                      <a:pt x="3231" y="372"/>
                    </a:lnTo>
                    <a:lnTo>
                      <a:pt x="3233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186000" y="2897280"/>
                <a:ext cx="1009800" cy="619200"/>
              </a:xfrm>
              <a:custGeom>
                <a:avLst/>
                <a:gdLst/>
                <a:ahLst/>
                <a:rect l="l" t="t" r="r" b="b"/>
                <a:pathLst>
                  <a:path w="3179" h="1951">
                    <a:moveTo>
                      <a:pt x="3179" y="302"/>
                    </a:moveTo>
                    <a:lnTo>
                      <a:pt x="3179" y="266"/>
                    </a:lnTo>
                    <a:lnTo>
                      <a:pt x="3178" y="229"/>
                    </a:lnTo>
                    <a:lnTo>
                      <a:pt x="3176" y="193"/>
                    </a:lnTo>
                    <a:lnTo>
                      <a:pt x="3173" y="158"/>
                    </a:lnTo>
                    <a:lnTo>
                      <a:pt x="3170" y="122"/>
                    </a:lnTo>
                    <a:lnTo>
                      <a:pt x="3165" y="87"/>
                    </a:lnTo>
                    <a:lnTo>
                      <a:pt x="3160" y="52"/>
                    </a:lnTo>
                    <a:lnTo>
                      <a:pt x="3155" y="17"/>
                    </a:lnTo>
                    <a:lnTo>
                      <a:pt x="3115" y="17"/>
                    </a:lnTo>
                    <a:lnTo>
                      <a:pt x="3081" y="0"/>
                    </a:lnTo>
                    <a:lnTo>
                      <a:pt x="3089" y="37"/>
                    </a:lnTo>
                    <a:lnTo>
                      <a:pt x="3094" y="74"/>
                    </a:lnTo>
                    <a:lnTo>
                      <a:pt x="3099" y="112"/>
                    </a:lnTo>
                    <a:lnTo>
                      <a:pt x="3103" y="149"/>
                    </a:lnTo>
                    <a:lnTo>
                      <a:pt x="3107" y="187"/>
                    </a:lnTo>
                    <a:lnTo>
                      <a:pt x="3109" y="225"/>
                    </a:lnTo>
                    <a:lnTo>
                      <a:pt x="3110" y="264"/>
                    </a:lnTo>
                    <a:lnTo>
                      <a:pt x="3111" y="302"/>
                    </a:lnTo>
                    <a:lnTo>
                      <a:pt x="3109" y="384"/>
                    </a:lnTo>
                    <a:lnTo>
                      <a:pt x="3102" y="463"/>
                    </a:lnTo>
                    <a:lnTo>
                      <a:pt x="3092" y="543"/>
                    </a:lnTo>
                    <a:lnTo>
                      <a:pt x="3078" y="621"/>
                    </a:lnTo>
                    <a:lnTo>
                      <a:pt x="3060" y="697"/>
                    </a:lnTo>
                    <a:lnTo>
                      <a:pt x="3039" y="772"/>
                    </a:lnTo>
                    <a:lnTo>
                      <a:pt x="3014" y="846"/>
                    </a:lnTo>
                    <a:lnTo>
                      <a:pt x="2987" y="917"/>
                    </a:lnTo>
                    <a:lnTo>
                      <a:pt x="2954" y="987"/>
                    </a:lnTo>
                    <a:lnTo>
                      <a:pt x="2919" y="1056"/>
                    </a:lnTo>
                    <a:lnTo>
                      <a:pt x="2882" y="1122"/>
                    </a:lnTo>
                    <a:lnTo>
                      <a:pt x="2841" y="1186"/>
                    </a:lnTo>
                    <a:lnTo>
                      <a:pt x="2796" y="1248"/>
                    </a:lnTo>
                    <a:lnTo>
                      <a:pt x="2749" y="1308"/>
                    </a:lnTo>
                    <a:lnTo>
                      <a:pt x="2700" y="1365"/>
                    </a:lnTo>
                    <a:lnTo>
                      <a:pt x="2647" y="1420"/>
                    </a:lnTo>
                    <a:lnTo>
                      <a:pt x="2593" y="1472"/>
                    </a:lnTo>
                    <a:lnTo>
                      <a:pt x="2535" y="1522"/>
                    </a:lnTo>
                    <a:lnTo>
                      <a:pt x="2475" y="1569"/>
                    </a:lnTo>
                    <a:lnTo>
                      <a:pt x="2413" y="1613"/>
                    </a:lnTo>
                    <a:lnTo>
                      <a:pt x="2349" y="1654"/>
                    </a:lnTo>
                    <a:lnTo>
                      <a:pt x="2282" y="1692"/>
                    </a:lnTo>
                    <a:lnTo>
                      <a:pt x="2214" y="1726"/>
                    </a:lnTo>
                    <a:lnTo>
                      <a:pt x="2144" y="1758"/>
                    </a:lnTo>
                    <a:lnTo>
                      <a:pt x="2072" y="1786"/>
                    </a:lnTo>
                    <a:lnTo>
                      <a:pt x="1999" y="1812"/>
                    </a:lnTo>
                    <a:lnTo>
                      <a:pt x="1924" y="1833"/>
                    </a:lnTo>
                    <a:lnTo>
                      <a:pt x="1847" y="1850"/>
                    </a:lnTo>
                    <a:lnTo>
                      <a:pt x="1770" y="1864"/>
                    </a:lnTo>
                    <a:lnTo>
                      <a:pt x="1690" y="1875"/>
                    </a:lnTo>
                    <a:lnTo>
                      <a:pt x="1610" y="1881"/>
                    </a:lnTo>
                    <a:lnTo>
                      <a:pt x="1528" y="1883"/>
                    </a:lnTo>
                    <a:lnTo>
                      <a:pt x="1465" y="1882"/>
                    </a:lnTo>
                    <a:lnTo>
                      <a:pt x="1402" y="1878"/>
                    </a:lnTo>
                    <a:lnTo>
                      <a:pt x="1340" y="1871"/>
                    </a:lnTo>
                    <a:lnTo>
                      <a:pt x="1278" y="1863"/>
                    </a:lnTo>
                    <a:lnTo>
                      <a:pt x="1217" y="1852"/>
                    </a:lnTo>
                    <a:lnTo>
                      <a:pt x="1157" y="1839"/>
                    </a:lnTo>
                    <a:lnTo>
                      <a:pt x="1098" y="1823"/>
                    </a:lnTo>
                    <a:lnTo>
                      <a:pt x="1039" y="1806"/>
                    </a:lnTo>
                    <a:lnTo>
                      <a:pt x="982" y="1786"/>
                    </a:lnTo>
                    <a:lnTo>
                      <a:pt x="925" y="1764"/>
                    </a:lnTo>
                    <a:lnTo>
                      <a:pt x="871" y="1740"/>
                    </a:lnTo>
                    <a:lnTo>
                      <a:pt x="817" y="1714"/>
                    </a:lnTo>
                    <a:lnTo>
                      <a:pt x="764" y="1687"/>
                    </a:lnTo>
                    <a:lnTo>
                      <a:pt x="712" y="1656"/>
                    </a:lnTo>
                    <a:lnTo>
                      <a:pt x="662" y="1625"/>
                    </a:lnTo>
                    <a:lnTo>
                      <a:pt x="612" y="1591"/>
                    </a:lnTo>
                    <a:lnTo>
                      <a:pt x="565" y="1556"/>
                    </a:lnTo>
                    <a:lnTo>
                      <a:pt x="519" y="1519"/>
                    </a:lnTo>
                    <a:lnTo>
                      <a:pt x="473" y="1481"/>
                    </a:lnTo>
                    <a:lnTo>
                      <a:pt x="430" y="1440"/>
                    </a:lnTo>
                    <a:lnTo>
                      <a:pt x="388" y="1398"/>
                    </a:lnTo>
                    <a:lnTo>
                      <a:pt x="347" y="1355"/>
                    </a:lnTo>
                    <a:lnTo>
                      <a:pt x="310" y="1310"/>
                    </a:lnTo>
                    <a:lnTo>
                      <a:pt x="273" y="1263"/>
                    </a:lnTo>
                    <a:lnTo>
                      <a:pt x="237" y="1216"/>
                    </a:lnTo>
                    <a:lnTo>
                      <a:pt x="203" y="1167"/>
                    </a:lnTo>
                    <a:lnTo>
                      <a:pt x="172" y="1116"/>
                    </a:lnTo>
                    <a:lnTo>
                      <a:pt x="142" y="1065"/>
                    </a:lnTo>
                    <a:lnTo>
                      <a:pt x="114" y="1011"/>
                    </a:lnTo>
                    <a:lnTo>
                      <a:pt x="88" y="958"/>
                    </a:lnTo>
                    <a:lnTo>
                      <a:pt x="65" y="902"/>
                    </a:lnTo>
                    <a:lnTo>
                      <a:pt x="43" y="847"/>
                    </a:lnTo>
                    <a:lnTo>
                      <a:pt x="6" y="863"/>
                    </a:lnTo>
                    <a:lnTo>
                      <a:pt x="6" y="921"/>
                    </a:lnTo>
                    <a:lnTo>
                      <a:pt x="0" y="930"/>
                    </a:lnTo>
                    <a:lnTo>
                      <a:pt x="25" y="985"/>
                    </a:lnTo>
                    <a:lnTo>
                      <a:pt x="51" y="1040"/>
                    </a:lnTo>
                    <a:lnTo>
                      <a:pt x="79" y="1093"/>
                    </a:lnTo>
                    <a:lnTo>
                      <a:pt x="109" y="1146"/>
                    </a:lnTo>
                    <a:lnTo>
                      <a:pt x="141" y="1197"/>
                    </a:lnTo>
                    <a:lnTo>
                      <a:pt x="175" y="1247"/>
                    </a:lnTo>
                    <a:lnTo>
                      <a:pt x="210" y="1295"/>
                    </a:lnTo>
                    <a:lnTo>
                      <a:pt x="246" y="1342"/>
                    </a:lnTo>
                    <a:lnTo>
                      <a:pt x="285" y="1388"/>
                    </a:lnTo>
                    <a:lnTo>
                      <a:pt x="325" y="1432"/>
                    </a:lnTo>
                    <a:lnTo>
                      <a:pt x="367" y="1476"/>
                    </a:lnTo>
                    <a:lnTo>
                      <a:pt x="411" y="1516"/>
                    </a:lnTo>
                    <a:lnTo>
                      <a:pt x="456" y="1556"/>
                    </a:lnTo>
                    <a:lnTo>
                      <a:pt x="502" y="1594"/>
                    </a:lnTo>
                    <a:lnTo>
                      <a:pt x="550" y="1631"/>
                    </a:lnTo>
                    <a:lnTo>
                      <a:pt x="599" y="1666"/>
                    </a:lnTo>
                    <a:lnTo>
                      <a:pt x="649" y="1698"/>
                    </a:lnTo>
                    <a:lnTo>
                      <a:pt x="701" y="1730"/>
                    </a:lnTo>
                    <a:lnTo>
                      <a:pt x="753" y="1759"/>
                    </a:lnTo>
                    <a:lnTo>
                      <a:pt x="807" y="1786"/>
                    </a:lnTo>
                    <a:lnTo>
                      <a:pt x="862" y="1812"/>
                    </a:lnTo>
                    <a:lnTo>
                      <a:pt x="918" y="1836"/>
                    </a:lnTo>
                    <a:lnTo>
                      <a:pt x="975" y="1857"/>
                    </a:lnTo>
                    <a:lnTo>
                      <a:pt x="1034" y="1876"/>
                    </a:lnTo>
                    <a:lnTo>
                      <a:pt x="1093" y="1893"/>
                    </a:lnTo>
                    <a:lnTo>
                      <a:pt x="1153" y="1908"/>
                    </a:lnTo>
                    <a:lnTo>
                      <a:pt x="1213" y="1922"/>
                    </a:lnTo>
                    <a:lnTo>
                      <a:pt x="1274" y="1932"/>
                    </a:lnTo>
                    <a:lnTo>
                      <a:pt x="1338" y="1941"/>
                    </a:lnTo>
                    <a:lnTo>
                      <a:pt x="1401" y="1947"/>
                    </a:lnTo>
                    <a:lnTo>
                      <a:pt x="1464" y="1950"/>
                    </a:lnTo>
                    <a:lnTo>
                      <a:pt x="1528" y="1951"/>
                    </a:lnTo>
                    <a:lnTo>
                      <a:pt x="1613" y="1949"/>
                    </a:lnTo>
                    <a:lnTo>
                      <a:pt x="1697" y="1943"/>
                    </a:lnTo>
                    <a:lnTo>
                      <a:pt x="1780" y="1932"/>
                    </a:lnTo>
                    <a:lnTo>
                      <a:pt x="1861" y="1918"/>
                    </a:lnTo>
                    <a:lnTo>
                      <a:pt x="1941" y="1900"/>
                    </a:lnTo>
                    <a:lnTo>
                      <a:pt x="2019" y="1878"/>
                    </a:lnTo>
                    <a:lnTo>
                      <a:pt x="2095" y="1851"/>
                    </a:lnTo>
                    <a:lnTo>
                      <a:pt x="2171" y="1822"/>
                    </a:lnTo>
                    <a:lnTo>
                      <a:pt x="2244" y="1788"/>
                    </a:lnTo>
                    <a:lnTo>
                      <a:pt x="2315" y="1753"/>
                    </a:lnTo>
                    <a:lnTo>
                      <a:pt x="2384" y="1713"/>
                    </a:lnTo>
                    <a:lnTo>
                      <a:pt x="2452" y="1670"/>
                    </a:lnTo>
                    <a:lnTo>
                      <a:pt x="2516" y="1624"/>
                    </a:lnTo>
                    <a:lnTo>
                      <a:pt x="2579" y="1575"/>
                    </a:lnTo>
                    <a:lnTo>
                      <a:pt x="2639" y="1523"/>
                    </a:lnTo>
                    <a:lnTo>
                      <a:pt x="2696" y="1468"/>
                    </a:lnTo>
                    <a:lnTo>
                      <a:pt x="2750" y="1411"/>
                    </a:lnTo>
                    <a:lnTo>
                      <a:pt x="2803" y="1352"/>
                    </a:lnTo>
                    <a:lnTo>
                      <a:pt x="2851" y="1289"/>
                    </a:lnTo>
                    <a:lnTo>
                      <a:pt x="2897" y="1225"/>
                    </a:lnTo>
                    <a:lnTo>
                      <a:pt x="2940" y="1157"/>
                    </a:lnTo>
                    <a:lnTo>
                      <a:pt x="2980" y="1088"/>
                    </a:lnTo>
                    <a:lnTo>
                      <a:pt x="3016" y="1017"/>
                    </a:lnTo>
                    <a:lnTo>
                      <a:pt x="3050" y="944"/>
                    </a:lnTo>
                    <a:lnTo>
                      <a:pt x="3079" y="869"/>
                    </a:lnTo>
                    <a:lnTo>
                      <a:pt x="3106" y="792"/>
                    </a:lnTo>
                    <a:lnTo>
                      <a:pt x="3128" y="714"/>
                    </a:lnTo>
                    <a:lnTo>
                      <a:pt x="3145" y="634"/>
                    </a:lnTo>
                    <a:lnTo>
                      <a:pt x="3160" y="554"/>
                    </a:lnTo>
                    <a:lnTo>
                      <a:pt x="3171" y="471"/>
                    </a:lnTo>
                    <a:lnTo>
                      <a:pt x="3177" y="387"/>
                    </a:lnTo>
                    <a:lnTo>
                      <a:pt x="3179" y="302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189240" y="2894040"/>
                <a:ext cx="995400" cy="611280"/>
              </a:xfrm>
              <a:custGeom>
                <a:avLst/>
                <a:gdLst/>
                <a:ahLst/>
                <a:rect l="l" t="t" r="r" b="b"/>
                <a:pathLst>
                  <a:path w="3134" h="1929">
                    <a:moveTo>
                      <a:pt x="3134" y="314"/>
                    </a:moveTo>
                    <a:lnTo>
                      <a:pt x="3133" y="278"/>
                    </a:lnTo>
                    <a:lnTo>
                      <a:pt x="3132" y="241"/>
                    </a:lnTo>
                    <a:lnTo>
                      <a:pt x="3130" y="205"/>
                    </a:lnTo>
                    <a:lnTo>
                      <a:pt x="3128" y="170"/>
                    </a:lnTo>
                    <a:lnTo>
                      <a:pt x="3124" y="134"/>
                    </a:lnTo>
                    <a:lnTo>
                      <a:pt x="3120" y="99"/>
                    </a:lnTo>
                    <a:lnTo>
                      <a:pt x="3114" y="64"/>
                    </a:lnTo>
                    <a:lnTo>
                      <a:pt x="3109" y="29"/>
                    </a:lnTo>
                    <a:lnTo>
                      <a:pt x="3104" y="29"/>
                    </a:lnTo>
                    <a:lnTo>
                      <a:pt x="3047" y="0"/>
                    </a:lnTo>
                    <a:lnTo>
                      <a:pt x="3034" y="0"/>
                    </a:lnTo>
                    <a:lnTo>
                      <a:pt x="3041" y="37"/>
                    </a:lnTo>
                    <a:lnTo>
                      <a:pt x="3047" y="76"/>
                    </a:lnTo>
                    <a:lnTo>
                      <a:pt x="3052" y="115"/>
                    </a:lnTo>
                    <a:lnTo>
                      <a:pt x="3057" y="154"/>
                    </a:lnTo>
                    <a:lnTo>
                      <a:pt x="3061" y="194"/>
                    </a:lnTo>
                    <a:lnTo>
                      <a:pt x="3063" y="234"/>
                    </a:lnTo>
                    <a:lnTo>
                      <a:pt x="3065" y="274"/>
                    </a:lnTo>
                    <a:lnTo>
                      <a:pt x="3065" y="314"/>
                    </a:lnTo>
                    <a:lnTo>
                      <a:pt x="3063" y="393"/>
                    </a:lnTo>
                    <a:lnTo>
                      <a:pt x="3058" y="472"/>
                    </a:lnTo>
                    <a:lnTo>
                      <a:pt x="3047" y="550"/>
                    </a:lnTo>
                    <a:lnTo>
                      <a:pt x="3034" y="625"/>
                    </a:lnTo>
                    <a:lnTo>
                      <a:pt x="3017" y="700"/>
                    </a:lnTo>
                    <a:lnTo>
                      <a:pt x="2996" y="774"/>
                    </a:lnTo>
                    <a:lnTo>
                      <a:pt x="2972" y="846"/>
                    </a:lnTo>
                    <a:lnTo>
                      <a:pt x="2943" y="915"/>
                    </a:lnTo>
                    <a:lnTo>
                      <a:pt x="2913" y="985"/>
                    </a:lnTo>
                    <a:lnTo>
                      <a:pt x="2878" y="1051"/>
                    </a:lnTo>
                    <a:lnTo>
                      <a:pt x="2841" y="1116"/>
                    </a:lnTo>
                    <a:lnTo>
                      <a:pt x="2801" y="1179"/>
                    </a:lnTo>
                    <a:lnTo>
                      <a:pt x="2757" y="1239"/>
                    </a:lnTo>
                    <a:lnTo>
                      <a:pt x="2712" y="1297"/>
                    </a:lnTo>
                    <a:lnTo>
                      <a:pt x="2663" y="1354"/>
                    </a:lnTo>
                    <a:lnTo>
                      <a:pt x="2612" y="1408"/>
                    </a:lnTo>
                    <a:lnTo>
                      <a:pt x="2558" y="1458"/>
                    </a:lnTo>
                    <a:lnTo>
                      <a:pt x="2502" y="1507"/>
                    </a:lnTo>
                    <a:lnTo>
                      <a:pt x="2443" y="1554"/>
                    </a:lnTo>
                    <a:lnTo>
                      <a:pt x="2383" y="1597"/>
                    </a:lnTo>
                    <a:lnTo>
                      <a:pt x="2320" y="1637"/>
                    </a:lnTo>
                    <a:lnTo>
                      <a:pt x="2255" y="1673"/>
                    </a:lnTo>
                    <a:lnTo>
                      <a:pt x="2188" y="1708"/>
                    </a:lnTo>
                    <a:lnTo>
                      <a:pt x="2120" y="1738"/>
                    </a:lnTo>
                    <a:lnTo>
                      <a:pt x="2050" y="1767"/>
                    </a:lnTo>
                    <a:lnTo>
                      <a:pt x="1977" y="1791"/>
                    </a:lnTo>
                    <a:lnTo>
                      <a:pt x="1904" y="1812"/>
                    </a:lnTo>
                    <a:lnTo>
                      <a:pt x="1829" y="1829"/>
                    </a:lnTo>
                    <a:lnTo>
                      <a:pt x="1753" y="1842"/>
                    </a:lnTo>
                    <a:lnTo>
                      <a:pt x="1675" y="1852"/>
                    </a:lnTo>
                    <a:lnTo>
                      <a:pt x="1597" y="1858"/>
                    </a:lnTo>
                    <a:lnTo>
                      <a:pt x="1517" y="1860"/>
                    </a:lnTo>
                    <a:lnTo>
                      <a:pt x="1455" y="1859"/>
                    </a:lnTo>
                    <a:lnTo>
                      <a:pt x="1393" y="1855"/>
                    </a:lnTo>
                    <a:lnTo>
                      <a:pt x="1331" y="1849"/>
                    </a:lnTo>
                    <a:lnTo>
                      <a:pt x="1270" y="1840"/>
                    </a:lnTo>
                    <a:lnTo>
                      <a:pt x="1210" y="1830"/>
                    </a:lnTo>
                    <a:lnTo>
                      <a:pt x="1151" y="1817"/>
                    </a:lnTo>
                    <a:lnTo>
                      <a:pt x="1093" y="1801"/>
                    </a:lnTo>
                    <a:lnTo>
                      <a:pt x="1035" y="1784"/>
                    </a:lnTo>
                    <a:lnTo>
                      <a:pt x="980" y="1765"/>
                    </a:lnTo>
                    <a:lnTo>
                      <a:pt x="924" y="1743"/>
                    </a:lnTo>
                    <a:lnTo>
                      <a:pt x="869" y="1719"/>
                    </a:lnTo>
                    <a:lnTo>
                      <a:pt x="817" y="1693"/>
                    </a:lnTo>
                    <a:lnTo>
                      <a:pt x="764" y="1666"/>
                    </a:lnTo>
                    <a:lnTo>
                      <a:pt x="714" y="1636"/>
                    </a:lnTo>
                    <a:lnTo>
                      <a:pt x="664" y="1604"/>
                    </a:lnTo>
                    <a:lnTo>
                      <a:pt x="616" y="1572"/>
                    </a:lnTo>
                    <a:lnTo>
                      <a:pt x="569" y="1536"/>
                    </a:lnTo>
                    <a:lnTo>
                      <a:pt x="523" y="1499"/>
                    </a:lnTo>
                    <a:lnTo>
                      <a:pt x="479" y="1461"/>
                    </a:lnTo>
                    <a:lnTo>
                      <a:pt x="437" y="1421"/>
                    </a:lnTo>
                    <a:lnTo>
                      <a:pt x="395" y="1379"/>
                    </a:lnTo>
                    <a:lnTo>
                      <a:pt x="356" y="1336"/>
                    </a:lnTo>
                    <a:lnTo>
                      <a:pt x="318" y="1292"/>
                    </a:lnTo>
                    <a:lnTo>
                      <a:pt x="283" y="1246"/>
                    </a:lnTo>
                    <a:lnTo>
                      <a:pt x="248" y="1199"/>
                    </a:lnTo>
                    <a:lnTo>
                      <a:pt x="215" y="1150"/>
                    </a:lnTo>
                    <a:lnTo>
                      <a:pt x="184" y="1100"/>
                    </a:lnTo>
                    <a:lnTo>
                      <a:pt x="156" y="1050"/>
                    </a:lnTo>
                    <a:lnTo>
                      <a:pt x="128" y="997"/>
                    </a:lnTo>
                    <a:lnTo>
                      <a:pt x="103" y="944"/>
                    </a:lnTo>
                    <a:lnTo>
                      <a:pt x="80" y="889"/>
                    </a:lnTo>
                    <a:lnTo>
                      <a:pt x="59" y="833"/>
                    </a:lnTo>
                    <a:lnTo>
                      <a:pt x="51" y="849"/>
                    </a:lnTo>
                    <a:lnTo>
                      <a:pt x="0" y="873"/>
                    </a:lnTo>
                    <a:lnTo>
                      <a:pt x="22" y="930"/>
                    </a:lnTo>
                    <a:lnTo>
                      <a:pt x="47" y="987"/>
                    </a:lnTo>
                    <a:lnTo>
                      <a:pt x="74" y="1041"/>
                    </a:lnTo>
                    <a:lnTo>
                      <a:pt x="102" y="1096"/>
                    </a:lnTo>
                    <a:lnTo>
                      <a:pt x="132" y="1148"/>
                    </a:lnTo>
                    <a:lnTo>
                      <a:pt x="165" y="1200"/>
                    </a:lnTo>
                    <a:lnTo>
                      <a:pt x="200" y="1249"/>
                    </a:lnTo>
                    <a:lnTo>
                      <a:pt x="235" y="1299"/>
                    </a:lnTo>
                    <a:lnTo>
                      <a:pt x="273" y="1346"/>
                    </a:lnTo>
                    <a:lnTo>
                      <a:pt x="312" y="1391"/>
                    </a:lnTo>
                    <a:lnTo>
                      <a:pt x="354" y="1435"/>
                    </a:lnTo>
                    <a:lnTo>
                      <a:pt x="396" y="1478"/>
                    </a:lnTo>
                    <a:lnTo>
                      <a:pt x="441" y="1519"/>
                    </a:lnTo>
                    <a:lnTo>
                      <a:pt x="487" y="1559"/>
                    </a:lnTo>
                    <a:lnTo>
                      <a:pt x="534" y="1597"/>
                    </a:lnTo>
                    <a:lnTo>
                      <a:pt x="583" y="1632"/>
                    </a:lnTo>
                    <a:lnTo>
                      <a:pt x="633" y="1666"/>
                    </a:lnTo>
                    <a:lnTo>
                      <a:pt x="684" y="1699"/>
                    </a:lnTo>
                    <a:lnTo>
                      <a:pt x="737" y="1729"/>
                    </a:lnTo>
                    <a:lnTo>
                      <a:pt x="791" y="1757"/>
                    </a:lnTo>
                    <a:lnTo>
                      <a:pt x="846" y="1784"/>
                    </a:lnTo>
                    <a:lnTo>
                      <a:pt x="903" y="1809"/>
                    </a:lnTo>
                    <a:lnTo>
                      <a:pt x="960" y="1831"/>
                    </a:lnTo>
                    <a:lnTo>
                      <a:pt x="1019" y="1851"/>
                    </a:lnTo>
                    <a:lnTo>
                      <a:pt x="1077" y="1869"/>
                    </a:lnTo>
                    <a:lnTo>
                      <a:pt x="1138" y="1884"/>
                    </a:lnTo>
                    <a:lnTo>
                      <a:pt x="1199" y="1898"/>
                    </a:lnTo>
                    <a:lnTo>
                      <a:pt x="1261" y="1909"/>
                    </a:lnTo>
                    <a:lnTo>
                      <a:pt x="1324" y="1918"/>
                    </a:lnTo>
                    <a:lnTo>
                      <a:pt x="1387" y="1924"/>
                    </a:lnTo>
                    <a:lnTo>
                      <a:pt x="1453" y="1927"/>
                    </a:lnTo>
                    <a:lnTo>
                      <a:pt x="1517" y="1929"/>
                    </a:lnTo>
                    <a:lnTo>
                      <a:pt x="1601" y="1927"/>
                    </a:lnTo>
                    <a:lnTo>
                      <a:pt x="1683" y="1921"/>
                    </a:lnTo>
                    <a:lnTo>
                      <a:pt x="1764" y="1911"/>
                    </a:lnTo>
                    <a:lnTo>
                      <a:pt x="1843" y="1896"/>
                    </a:lnTo>
                    <a:lnTo>
                      <a:pt x="1921" y="1878"/>
                    </a:lnTo>
                    <a:lnTo>
                      <a:pt x="1998" y="1856"/>
                    </a:lnTo>
                    <a:lnTo>
                      <a:pt x="2073" y="1831"/>
                    </a:lnTo>
                    <a:lnTo>
                      <a:pt x="2146" y="1803"/>
                    </a:lnTo>
                    <a:lnTo>
                      <a:pt x="2218" y="1770"/>
                    </a:lnTo>
                    <a:lnTo>
                      <a:pt x="2287" y="1734"/>
                    </a:lnTo>
                    <a:lnTo>
                      <a:pt x="2356" y="1695"/>
                    </a:lnTo>
                    <a:lnTo>
                      <a:pt x="2421" y="1653"/>
                    </a:lnTo>
                    <a:lnTo>
                      <a:pt x="2485" y="1608"/>
                    </a:lnTo>
                    <a:lnTo>
                      <a:pt x="2546" y="1560"/>
                    </a:lnTo>
                    <a:lnTo>
                      <a:pt x="2605" y="1510"/>
                    </a:lnTo>
                    <a:lnTo>
                      <a:pt x="2660" y="1456"/>
                    </a:lnTo>
                    <a:lnTo>
                      <a:pt x="2714" y="1400"/>
                    </a:lnTo>
                    <a:lnTo>
                      <a:pt x="2764" y="1342"/>
                    </a:lnTo>
                    <a:lnTo>
                      <a:pt x="2813" y="1281"/>
                    </a:lnTo>
                    <a:lnTo>
                      <a:pt x="2858" y="1217"/>
                    </a:lnTo>
                    <a:lnTo>
                      <a:pt x="2900" y="1152"/>
                    </a:lnTo>
                    <a:lnTo>
                      <a:pt x="2939" y="1084"/>
                    </a:lnTo>
                    <a:lnTo>
                      <a:pt x="2975" y="1014"/>
                    </a:lnTo>
                    <a:lnTo>
                      <a:pt x="3007" y="943"/>
                    </a:lnTo>
                    <a:lnTo>
                      <a:pt x="3036" y="869"/>
                    </a:lnTo>
                    <a:lnTo>
                      <a:pt x="3061" y="795"/>
                    </a:lnTo>
                    <a:lnTo>
                      <a:pt x="3083" y="718"/>
                    </a:lnTo>
                    <a:lnTo>
                      <a:pt x="3101" y="639"/>
                    </a:lnTo>
                    <a:lnTo>
                      <a:pt x="3116" y="560"/>
                    </a:lnTo>
                    <a:lnTo>
                      <a:pt x="3126" y="480"/>
                    </a:lnTo>
                    <a:lnTo>
                      <a:pt x="3132" y="397"/>
                    </a:lnTo>
                    <a:lnTo>
                      <a:pt x="3134" y="31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200400" y="2894040"/>
                <a:ext cx="973080" cy="601560"/>
              </a:xfrm>
              <a:custGeom>
                <a:avLst/>
                <a:gdLst/>
                <a:ahLst/>
                <a:rect l="l" t="t" r="r" b="b"/>
                <a:pathLst>
                  <a:path w="3068" h="1895">
                    <a:moveTo>
                      <a:pt x="3068" y="314"/>
                    </a:moveTo>
                    <a:lnTo>
                      <a:pt x="3067" y="276"/>
                    </a:lnTo>
                    <a:lnTo>
                      <a:pt x="3066" y="237"/>
                    </a:lnTo>
                    <a:lnTo>
                      <a:pt x="3064" y="199"/>
                    </a:lnTo>
                    <a:lnTo>
                      <a:pt x="3060" y="161"/>
                    </a:lnTo>
                    <a:lnTo>
                      <a:pt x="3056" y="124"/>
                    </a:lnTo>
                    <a:lnTo>
                      <a:pt x="3051" y="86"/>
                    </a:lnTo>
                    <a:lnTo>
                      <a:pt x="3046" y="49"/>
                    </a:lnTo>
                    <a:lnTo>
                      <a:pt x="3038" y="12"/>
                    </a:lnTo>
                    <a:lnTo>
                      <a:pt x="3015" y="0"/>
                    </a:lnTo>
                    <a:lnTo>
                      <a:pt x="2966" y="0"/>
                    </a:lnTo>
                    <a:lnTo>
                      <a:pt x="2973" y="37"/>
                    </a:lnTo>
                    <a:lnTo>
                      <a:pt x="2981" y="76"/>
                    </a:lnTo>
                    <a:lnTo>
                      <a:pt x="2986" y="115"/>
                    </a:lnTo>
                    <a:lnTo>
                      <a:pt x="2991" y="154"/>
                    </a:lnTo>
                    <a:lnTo>
                      <a:pt x="2994" y="194"/>
                    </a:lnTo>
                    <a:lnTo>
                      <a:pt x="2996" y="234"/>
                    </a:lnTo>
                    <a:lnTo>
                      <a:pt x="2998" y="274"/>
                    </a:lnTo>
                    <a:lnTo>
                      <a:pt x="2998" y="314"/>
                    </a:lnTo>
                    <a:lnTo>
                      <a:pt x="2997" y="391"/>
                    </a:lnTo>
                    <a:lnTo>
                      <a:pt x="2991" y="469"/>
                    </a:lnTo>
                    <a:lnTo>
                      <a:pt x="2982" y="545"/>
                    </a:lnTo>
                    <a:lnTo>
                      <a:pt x="2968" y="619"/>
                    </a:lnTo>
                    <a:lnTo>
                      <a:pt x="2951" y="692"/>
                    </a:lnTo>
                    <a:lnTo>
                      <a:pt x="2931" y="764"/>
                    </a:lnTo>
                    <a:lnTo>
                      <a:pt x="2907" y="834"/>
                    </a:lnTo>
                    <a:lnTo>
                      <a:pt x="2880" y="903"/>
                    </a:lnTo>
                    <a:lnTo>
                      <a:pt x="2849" y="970"/>
                    </a:lnTo>
                    <a:lnTo>
                      <a:pt x="2817" y="1035"/>
                    </a:lnTo>
                    <a:lnTo>
                      <a:pt x="2780" y="1098"/>
                    </a:lnTo>
                    <a:lnTo>
                      <a:pt x="2740" y="1159"/>
                    </a:lnTo>
                    <a:lnTo>
                      <a:pt x="2698" y="1219"/>
                    </a:lnTo>
                    <a:lnTo>
                      <a:pt x="2654" y="1275"/>
                    </a:lnTo>
                    <a:lnTo>
                      <a:pt x="2605" y="1331"/>
                    </a:lnTo>
                    <a:lnTo>
                      <a:pt x="2556" y="1384"/>
                    </a:lnTo>
                    <a:lnTo>
                      <a:pt x="2503" y="1433"/>
                    </a:lnTo>
                    <a:lnTo>
                      <a:pt x="2448" y="1481"/>
                    </a:lnTo>
                    <a:lnTo>
                      <a:pt x="2391" y="1525"/>
                    </a:lnTo>
                    <a:lnTo>
                      <a:pt x="2331" y="1567"/>
                    </a:lnTo>
                    <a:lnTo>
                      <a:pt x="2270" y="1607"/>
                    </a:lnTo>
                    <a:lnTo>
                      <a:pt x="2207" y="1644"/>
                    </a:lnTo>
                    <a:lnTo>
                      <a:pt x="2142" y="1677"/>
                    </a:lnTo>
                    <a:lnTo>
                      <a:pt x="2074" y="1707"/>
                    </a:lnTo>
                    <a:lnTo>
                      <a:pt x="2005" y="1734"/>
                    </a:lnTo>
                    <a:lnTo>
                      <a:pt x="1936" y="1758"/>
                    </a:lnTo>
                    <a:lnTo>
                      <a:pt x="1863" y="1778"/>
                    </a:lnTo>
                    <a:lnTo>
                      <a:pt x="1791" y="1795"/>
                    </a:lnTo>
                    <a:lnTo>
                      <a:pt x="1716" y="1809"/>
                    </a:lnTo>
                    <a:lnTo>
                      <a:pt x="1640" y="1818"/>
                    </a:lnTo>
                    <a:lnTo>
                      <a:pt x="1563" y="1825"/>
                    </a:lnTo>
                    <a:lnTo>
                      <a:pt x="1485" y="1826"/>
                    </a:lnTo>
                    <a:lnTo>
                      <a:pt x="1423" y="1825"/>
                    </a:lnTo>
                    <a:lnTo>
                      <a:pt x="1361" y="1821"/>
                    </a:lnTo>
                    <a:lnTo>
                      <a:pt x="1300" y="1815"/>
                    </a:lnTo>
                    <a:lnTo>
                      <a:pt x="1239" y="1806"/>
                    </a:lnTo>
                    <a:lnTo>
                      <a:pt x="1180" y="1795"/>
                    </a:lnTo>
                    <a:lnTo>
                      <a:pt x="1121" y="1782"/>
                    </a:lnTo>
                    <a:lnTo>
                      <a:pt x="1063" y="1767"/>
                    </a:lnTo>
                    <a:lnTo>
                      <a:pt x="1007" y="1749"/>
                    </a:lnTo>
                    <a:lnTo>
                      <a:pt x="950" y="1729"/>
                    </a:lnTo>
                    <a:lnTo>
                      <a:pt x="895" y="1707"/>
                    </a:lnTo>
                    <a:lnTo>
                      <a:pt x="841" y="1683"/>
                    </a:lnTo>
                    <a:lnTo>
                      <a:pt x="789" y="1657"/>
                    </a:lnTo>
                    <a:lnTo>
                      <a:pt x="737" y="1629"/>
                    </a:lnTo>
                    <a:lnTo>
                      <a:pt x="687" y="1599"/>
                    </a:lnTo>
                    <a:lnTo>
                      <a:pt x="638" y="1567"/>
                    </a:lnTo>
                    <a:lnTo>
                      <a:pt x="590" y="1534"/>
                    </a:lnTo>
                    <a:lnTo>
                      <a:pt x="544" y="1498"/>
                    </a:lnTo>
                    <a:lnTo>
                      <a:pt x="499" y="1461"/>
                    </a:lnTo>
                    <a:lnTo>
                      <a:pt x="456" y="1422"/>
                    </a:lnTo>
                    <a:lnTo>
                      <a:pt x="414" y="1381"/>
                    </a:lnTo>
                    <a:lnTo>
                      <a:pt x="374" y="1341"/>
                    </a:lnTo>
                    <a:lnTo>
                      <a:pt x="335" y="1296"/>
                    </a:lnTo>
                    <a:lnTo>
                      <a:pt x="298" y="1251"/>
                    </a:lnTo>
                    <a:lnTo>
                      <a:pt x="262" y="1205"/>
                    </a:lnTo>
                    <a:lnTo>
                      <a:pt x="229" y="1158"/>
                    </a:lnTo>
                    <a:lnTo>
                      <a:pt x="197" y="1108"/>
                    </a:lnTo>
                    <a:lnTo>
                      <a:pt x="168" y="1058"/>
                    </a:lnTo>
                    <a:lnTo>
                      <a:pt x="139" y="1007"/>
                    </a:lnTo>
                    <a:lnTo>
                      <a:pt x="113" y="954"/>
                    </a:lnTo>
                    <a:lnTo>
                      <a:pt x="90" y="901"/>
                    </a:lnTo>
                    <a:lnTo>
                      <a:pt x="68" y="845"/>
                    </a:lnTo>
                    <a:lnTo>
                      <a:pt x="48" y="789"/>
                    </a:lnTo>
                    <a:lnTo>
                      <a:pt x="47" y="791"/>
                    </a:lnTo>
                    <a:lnTo>
                      <a:pt x="19" y="849"/>
                    </a:lnTo>
                    <a:lnTo>
                      <a:pt x="0" y="859"/>
                    </a:lnTo>
                    <a:lnTo>
                      <a:pt x="22" y="914"/>
                    </a:lnTo>
                    <a:lnTo>
                      <a:pt x="45" y="970"/>
                    </a:lnTo>
                    <a:lnTo>
                      <a:pt x="71" y="1023"/>
                    </a:lnTo>
                    <a:lnTo>
                      <a:pt x="99" y="1077"/>
                    </a:lnTo>
                    <a:lnTo>
                      <a:pt x="129" y="1128"/>
                    </a:lnTo>
                    <a:lnTo>
                      <a:pt x="160" y="1179"/>
                    </a:lnTo>
                    <a:lnTo>
                      <a:pt x="194" y="1228"/>
                    </a:lnTo>
                    <a:lnTo>
                      <a:pt x="230" y="1275"/>
                    </a:lnTo>
                    <a:lnTo>
                      <a:pt x="267" y="1322"/>
                    </a:lnTo>
                    <a:lnTo>
                      <a:pt x="304" y="1367"/>
                    </a:lnTo>
                    <a:lnTo>
                      <a:pt x="345" y="1410"/>
                    </a:lnTo>
                    <a:lnTo>
                      <a:pt x="387" y="1452"/>
                    </a:lnTo>
                    <a:lnTo>
                      <a:pt x="430" y="1493"/>
                    </a:lnTo>
                    <a:lnTo>
                      <a:pt x="476" y="1531"/>
                    </a:lnTo>
                    <a:lnTo>
                      <a:pt x="522" y="1568"/>
                    </a:lnTo>
                    <a:lnTo>
                      <a:pt x="569" y="1603"/>
                    </a:lnTo>
                    <a:lnTo>
                      <a:pt x="619" y="1637"/>
                    </a:lnTo>
                    <a:lnTo>
                      <a:pt x="669" y="1668"/>
                    </a:lnTo>
                    <a:lnTo>
                      <a:pt x="721" y="1699"/>
                    </a:lnTo>
                    <a:lnTo>
                      <a:pt x="774" y="1726"/>
                    </a:lnTo>
                    <a:lnTo>
                      <a:pt x="828" y="1752"/>
                    </a:lnTo>
                    <a:lnTo>
                      <a:pt x="882" y="1776"/>
                    </a:lnTo>
                    <a:lnTo>
                      <a:pt x="939" y="1798"/>
                    </a:lnTo>
                    <a:lnTo>
                      <a:pt x="996" y="1818"/>
                    </a:lnTo>
                    <a:lnTo>
                      <a:pt x="1055" y="1835"/>
                    </a:lnTo>
                    <a:lnTo>
                      <a:pt x="1114" y="1851"/>
                    </a:lnTo>
                    <a:lnTo>
                      <a:pt x="1174" y="1864"/>
                    </a:lnTo>
                    <a:lnTo>
                      <a:pt x="1235" y="1875"/>
                    </a:lnTo>
                    <a:lnTo>
                      <a:pt x="1297" y="1883"/>
                    </a:lnTo>
                    <a:lnTo>
                      <a:pt x="1359" y="1890"/>
                    </a:lnTo>
                    <a:lnTo>
                      <a:pt x="1422" y="1894"/>
                    </a:lnTo>
                    <a:lnTo>
                      <a:pt x="1485" y="1895"/>
                    </a:lnTo>
                    <a:lnTo>
                      <a:pt x="1567" y="1893"/>
                    </a:lnTo>
                    <a:lnTo>
                      <a:pt x="1647" y="1887"/>
                    </a:lnTo>
                    <a:lnTo>
                      <a:pt x="1727" y="1876"/>
                    </a:lnTo>
                    <a:lnTo>
                      <a:pt x="1804" y="1862"/>
                    </a:lnTo>
                    <a:lnTo>
                      <a:pt x="1881" y="1845"/>
                    </a:lnTo>
                    <a:lnTo>
                      <a:pt x="1956" y="1824"/>
                    </a:lnTo>
                    <a:lnTo>
                      <a:pt x="2029" y="1798"/>
                    </a:lnTo>
                    <a:lnTo>
                      <a:pt x="2101" y="1770"/>
                    </a:lnTo>
                    <a:lnTo>
                      <a:pt x="2171" y="1738"/>
                    </a:lnTo>
                    <a:lnTo>
                      <a:pt x="2239" y="1704"/>
                    </a:lnTo>
                    <a:lnTo>
                      <a:pt x="2306" y="1666"/>
                    </a:lnTo>
                    <a:lnTo>
                      <a:pt x="2370" y="1625"/>
                    </a:lnTo>
                    <a:lnTo>
                      <a:pt x="2432" y="1581"/>
                    </a:lnTo>
                    <a:lnTo>
                      <a:pt x="2492" y="1534"/>
                    </a:lnTo>
                    <a:lnTo>
                      <a:pt x="2550" y="1484"/>
                    </a:lnTo>
                    <a:lnTo>
                      <a:pt x="2604" y="1432"/>
                    </a:lnTo>
                    <a:lnTo>
                      <a:pt x="2657" y="1377"/>
                    </a:lnTo>
                    <a:lnTo>
                      <a:pt x="2706" y="1320"/>
                    </a:lnTo>
                    <a:lnTo>
                      <a:pt x="2753" y="1260"/>
                    </a:lnTo>
                    <a:lnTo>
                      <a:pt x="2798" y="1198"/>
                    </a:lnTo>
                    <a:lnTo>
                      <a:pt x="2839" y="1134"/>
                    </a:lnTo>
                    <a:lnTo>
                      <a:pt x="2876" y="1068"/>
                    </a:lnTo>
                    <a:lnTo>
                      <a:pt x="2911" y="999"/>
                    </a:lnTo>
                    <a:lnTo>
                      <a:pt x="2944" y="929"/>
                    </a:lnTo>
                    <a:lnTo>
                      <a:pt x="2971" y="858"/>
                    </a:lnTo>
                    <a:lnTo>
                      <a:pt x="2996" y="784"/>
                    </a:lnTo>
                    <a:lnTo>
                      <a:pt x="3017" y="709"/>
                    </a:lnTo>
                    <a:lnTo>
                      <a:pt x="3035" y="633"/>
                    </a:lnTo>
                    <a:lnTo>
                      <a:pt x="3049" y="555"/>
                    </a:lnTo>
                    <a:lnTo>
                      <a:pt x="3059" y="475"/>
                    </a:lnTo>
                    <a:lnTo>
                      <a:pt x="3066" y="396"/>
                    </a:lnTo>
                    <a:lnTo>
                      <a:pt x="3068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208320" y="2894040"/>
                <a:ext cx="954000" cy="590400"/>
              </a:xfrm>
              <a:custGeom>
                <a:avLst/>
                <a:gdLst/>
                <a:ahLst/>
                <a:rect l="l" t="t" r="r" b="b"/>
                <a:pathLst>
                  <a:path w="3006" h="1860">
                    <a:moveTo>
                      <a:pt x="3006" y="314"/>
                    </a:moveTo>
                    <a:lnTo>
                      <a:pt x="3006" y="274"/>
                    </a:lnTo>
                    <a:lnTo>
                      <a:pt x="3004" y="234"/>
                    </a:lnTo>
                    <a:lnTo>
                      <a:pt x="3002" y="194"/>
                    </a:lnTo>
                    <a:lnTo>
                      <a:pt x="2998" y="154"/>
                    </a:lnTo>
                    <a:lnTo>
                      <a:pt x="2993" y="115"/>
                    </a:lnTo>
                    <a:lnTo>
                      <a:pt x="2988" y="76"/>
                    </a:lnTo>
                    <a:lnTo>
                      <a:pt x="2982" y="37"/>
                    </a:lnTo>
                    <a:lnTo>
                      <a:pt x="2975" y="0"/>
                    </a:lnTo>
                    <a:lnTo>
                      <a:pt x="2930" y="0"/>
                    </a:lnTo>
                    <a:lnTo>
                      <a:pt x="2904" y="0"/>
                    </a:lnTo>
                    <a:lnTo>
                      <a:pt x="2911" y="37"/>
                    </a:lnTo>
                    <a:lnTo>
                      <a:pt x="2919" y="76"/>
                    </a:lnTo>
                    <a:lnTo>
                      <a:pt x="2924" y="115"/>
                    </a:lnTo>
                    <a:lnTo>
                      <a:pt x="2929" y="154"/>
                    </a:lnTo>
                    <a:lnTo>
                      <a:pt x="2933" y="194"/>
                    </a:lnTo>
                    <a:lnTo>
                      <a:pt x="2936" y="234"/>
                    </a:lnTo>
                    <a:lnTo>
                      <a:pt x="2937" y="274"/>
                    </a:lnTo>
                    <a:lnTo>
                      <a:pt x="2938" y="314"/>
                    </a:lnTo>
                    <a:lnTo>
                      <a:pt x="2936" y="390"/>
                    </a:lnTo>
                    <a:lnTo>
                      <a:pt x="2929" y="465"/>
                    </a:lnTo>
                    <a:lnTo>
                      <a:pt x="2920" y="539"/>
                    </a:lnTo>
                    <a:lnTo>
                      <a:pt x="2907" y="612"/>
                    </a:lnTo>
                    <a:lnTo>
                      <a:pt x="2890" y="683"/>
                    </a:lnTo>
                    <a:lnTo>
                      <a:pt x="2870" y="754"/>
                    </a:lnTo>
                    <a:lnTo>
                      <a:pt x="2847" y="822"/>
                    </a:lnTo>
                    <a:lnTo>
                      <a:pt x="2821" y="889"/>
                    </a:lnTo>
                    <a:lnTo>
                      <a:pt x="2792" y="954"/>
                    </a:lnTo>
                    <a:lnTo>
                      <a:pt x="2759" y="1018"/>
                    </a:lnTo>
                    <a:lnTo>
                      <a:pt x="2723" y="1080"/>
                    </a:lnTo>
                    <a:lnTo>
                      <a:pt x="2684" y="1140"/>
                    </a:lnTo>
                    <a:lnTo>
                      <a:pt x="2643" y="1198"/>
                    </a:lnTo>
                    <a:lnTo>
                      <a:pt x="2599" y="1253"/>
                    </a:lnTo>
                    <a:lnTo>
                      <a:pt x="2553" y="1308"/>
                    </a:lnTo>
                    <a:lnTo>
                      <a:pt x="2504" y="1358"/>
                    </a:lnTo>
                    <a:lnTo>
                      <a:pt x="2453" y="1408"/>
                    </a:lnTo>
                    <a:lnTo>
                      <a:pt x="2399" y="1454"/>
                    </a:lnTo>
                    <a:lnTo>
                      <a:pt x="2343" y="1498"/>
                    </a:lnTo>
                    <a:lnTo>
                      <a:pt x="2285" y="1539"/>
                    </a:lnTo>
                    <a:lnTo>
                      <a:pt x="2225" y="1578"/>
                    </a:lnTo>
                    <a:lnTo>
                      <a:pt x="2163" y="1614"/>
                    </a:lnTo>
                    <a:lnTo>
                      <a:pt x="2099" y="1646"/>
                    </a:lnTo>
                    <a:lnTo>
                      <a:pt x="2034" y="1675"/>
                    </a:lnTo>
                    <a:lnTo>
                      <a:pt x="1967" y="1702"/>
                    </a:lnTo>
                    <a:lnTo>
                      <a:pt x="1898" y="1725"/>
                    </a:lnTo>
                    <a:lnTo>
                      <a:pt x="1828" y="1745"/>
                    </a:lnTo>
                    <a:lnTo>
                      <a:pt x="1756" y="1762"/>
                    </a:lnTo>
                    <a:lnTo>
                      <a:pt x="1684" y="1774"/>
                    </a:lnTo>
                    <a:lnTo>
                      <a:pt x="1609" y="1784"/>
                    </a:lnTo>
                    <a:lnTo>
                      <a:pt x="1535" y="1790"/>
                    </a:lnTo>
                    <a:lnTo>
                      <a:pt x="1458" y="1792"/>
                    </a:lnTo>
                    <a:lnTo>
                      <a:pt x="1396" y="1790"/>
                    </a:lnTo>
                    <a:lnTo>
                      <a:pt x="1335" y="1787"/>
                    </a:lnTo>
                    <a:lnTo>
                      <a:pt x="1274" y="1780"/>
                    </a:lnTo>
                    <a:lnTo>
                      <a:pt x="1214" y="1771"/>
                    </a:lnTo>
                    <a:lnTo>
                      <a:pt x="1154" y="1761"/>
                    </a:lnTo>
                    <a:lnTo>
                      <a:pt x="1096" y="1747"/>
                    </a:lnTo>
                    <a:lnTo>
                      <a:pt x="1038" y="1731"/>
                    </a:lnTo>
                    <a:lnTo>
                      <a:pt x="982" y="1713"/>
                    </a:lnTo>
                    <a:lnTo>
                      <a:pt x="927" y="1693"/>
                    </a:lnTo>
                    <a:lnTo>
                      <a:pt x="872" y="1671"/>
                    </a:lnTo>
                    <a:lnTo>
                      <a:pt x="819" y="1647"/>
                    </a:lnTo>
                    <a:lnTo>
                      <a:pt x="766" y="1621"/>
                    </a:lnTo>
                    <a:lnTo>
                      <a:pt x="716" y="1593"/>
                    </a:lnTo>
                    <a:lnTo>
                      <a:pt x="666" y="1562"/>
                    </a:lnTo>
                    <a:lnTo>
                      <a:pt x="617" y="1530"/>
                    </a:lnTo>
                    <a:lnTo>
                      <a:pt x="571" y="1496"/>
                    </a:lnTo>
                    <a:lnTo>
                      <a:pt x="524" y="1460"/>
                    </a:lnTo>
                    <a:lnTo>
                      <a:pt x="480" y="1422"/>
                    </a:lnTo>
                    <a:lnTo>
                      <a:pt x="438" y="1384"/>
                    </a:lnTo>
                    <a:lnTo>
                      <a:pt x="397" y="1343"/>
                    </a:lnTo>
                    <a:lnTo>
                      <a:pt x="357" y="1301"/>
                    </a:lnTo>
                    <a:lnTo>
                      <a:pt x="319" y="1257"/>
                    </a:lnTo>
                    <a:lnTo>
                      <a:pt x="284" y="1211"/>
                    </a:lnTo>
                    <a:lnTo>
                      <a:pt x="249" y="1165"/>
                    </a:lnTo>
                    <a:lnTo>
                      <a:pt x="216" y="1117"/>
                    </a:lnTo>
                    <a:lnTo>
                      <a:pt x="186" y="1068"/>
                    </a:lnTo>
                    <a:lnTo>
                      <a:pt x="156" y="1017"/>
                    </a:lnTo>
                    <a:lnTo>
                      <a:pt x="130" y="965"/>
                    </a:lnTo>
                    <a:lnTo>
                      <a:pt x="105" y="912"/>
                    </a:lnTo>
                    <a:lnTo>
                      <a:pt x="83" y="858"/>
                    </a:lnTo>
                    <a:lnTo>
                      <a:pt x="62" y="803"/>
                    </a:lnTo>
                    <a:lnTo>
                      <a:pt x="44" y="746"/>
                    </a:lnTo>
                    <a:lnTo>
                      <a:pt x="20" y="791"/>
                    </a:lnTo>
                    <a:lnTo>
                      <a:pt x="0" y="833"/>
                    </a:lnTo>
                    <a:lnTo>
                      <a:pt x="21" y="889"/>
                    </a:lnTo>
                    <a:lnTo>
                      <a:pt x="44" y="944"/>
                    </a:lnTo>
                    <a:lnTo>
                      <a:pt x="69" y="997"/>
                    </a:lnTo>
                    <a:lnTo>
                      <a:pt x="97" y="1050"/>
                    </a:lnTo>
                    <a:lnTo>
                      <a:pt x="125" y="1100"/>
                    </a:lnTo>
                    <a:lnTo>
                      <a:pt x="156" y="1150"/>
                    </a:lnTo>
                    <a:lnTo>
                      <a:pt x="189" y="1199"/>
                    </a:lnTo>
                    <a:lnTo>
                      <a:pt x="224" y="1246"/>
                    </a:lnTo>
                    <a:lnTo>
                      <a:pt x="259" y="1292"/>
                    </a:lnTo>
                    <a:lnTo>
                      <a:pt x="297" y="1336"/>
                    </a:lnTo>
                    <a:lnTo>
                      <a:pt x="336" y="1379"/>
                    </a:lnTo>
                    <a:lnTo>
                      <a:pt x="378" y="1421"/>
                    </a:lnTo>
                    <a:lnTo>
                      <a:pt x="420" y="1461"/>
                    </a:lnTo>
                    <a:lnTo>
                      <a:pt x="464" y="1500"/>
                    </a:lnTo>
                    <a:lnTo>
                      <a:pt x="510" y="1537"/>
                    </a:lnTo>
                    <a:lnTo>
                      <a:pt x="557" y="1572"/>
                    </a:lnTo>
                    <a:lnTo>
                      <a:pt x="605" y="1604"/>
                    </a:lnTo>
                    <a:lnTo>
                      <a:pt x="655" y="1636"/>
                    </a:lnTo>
                    <a:lnTo>
                      <a:pt x="705" y="1666"/>
                    </a:lnTo>
                    <a:lnTo>
                      <a:pt x="758" y="1693"/>
                    </a:lnTo>
                    <a:lnTo>
                      <a:pt x="810" y="1720"/>
                    </a:lnTo>
                    <a:lnTo>
                      <a:pt x="865" y="1743"/>
                    </a:lnTo>
                    <a:lnTo>
                      <a:pt x="921" y="1765"/>
                    </a:lnTo>
                    <a:lnTo>
                      <a:pt x="976" y="1784"/>
                    </a:lnTo>
                    <a:lnTo>
                      <a:pt x="1034" y="1801"/>
                    </a:lnTo>
                    <a:lnTo>
                      <a:pt x="1092" y="1817"/>
                    </a:lnTo>
                    <a:lnTo>
                      <a:pt x="1151" y="1830"/>
                    </a:lnTo>
                    <a:lnTo>
                      <a:pt x="1211" y="1840"/>
                    </a:lnTo>
                    <a:lnTo>
                      <a:pt x="1272" y="1850"/>
                    </a:lnTo>
                    <a:lnTo>
                      <a:pt x="1334" y="1855"/>
                    </a:lnTo>
                    <a:lnTo>
                      <a:pt x="1396" y="1859"/>
                    </a:lnTo>
                    <a:lnTo>
                      <a:pt x="1458" y="1860"/>
                    </a:lnTo>
                    <a:lnTo>
                      <a:pt x="1538" y="1858"/>
                    </a:lnTo>
                    <a:lnTo>
                      <a:pt x="1616" y="1853"/>
                    </a:lnTo>
                    <a:lnTo>
                      <a:pt x="1694" y="1842"/>
                    </a:lnTo>
                    <a:lnTo>
                      <a:pt x="1770" y="1829"/>
                    </a:lnTo>
                    <a:lnTo>
                      <a:pt x="1845" y="1812"/>
                    </a:lnTo>
                    <a:lnTo>
                      <a:pt x="1918" y="1791"/>
                    </a:lnTo>
                    <a:lnTo>
                      <a:pt x="1991" y="1767"/>
                    </a:lnTo>
                    <a:lnTo>
                      <a:pt x="2061" y="1738"/>
                    </a:lnTo>
                    <a:lnTo>
                      <a:pt x="2129" y="1708"/>
                    </a:lnTo>
                    <a:lnTo>
                      <a:pt x="2196" y="1673"/>
                    </a:lnTo>
                    <a:lnTo>
                      <a:pt x="2261" y="1637"/>
                    </a:lnTo>
                    <a:lnTo>
                      <a:pt x="2324" y="1597"/>
                    </a:lnTo>
                    <a:lnTo>
                      <a:pt x="2384" y="1554"/>
                    </a:lnTo>
                    <a:lnTo>
                      <a:pt x="2443" y="1507"/>
                    </a:lnTo>
                    <a:lnTo>
                      <a:pt x="2499" y="1459"/>
                    </a:lnTo>
                    <a:lnTo>
                      <a:pt x="2553" y="1408"/>
                    </a:lnTo>
                    <a:lnTo>
                      <a:pt x="2604" y="1354"/>
                    </a:lnTo>
                    <a:lnTo>
                      <a:pt x="2653" y="1297"/>
                    </a:lnTo>
                    <a:lnTo>
                      <a:pt x="2698" y="1240"/>
                    </a:lnTo>
                    <a:lnTo>
                      <a:pt x="2742" y="1179"/>
                    </a:lnTo>
                    <a:lnTo>
                      <a:pt x="2782" y="1116"/>
                    </a:lnTo>
                    <a:lnTo>
                      <a:pt x="2819" y="1051"/>
                    </a:lnTo>
                    <a:lnTo>
                      <a:pt x="2854" y="985"/>
                    </a:lnTo>
                    <a:lnTo>
                      <a:pt x="2884" y="916"/>
                    </a:lnTo>
                    <a:lnTo>
                      <a:pt x="2913" y="846"/>
                    </a:lnTo>
                    <a:lnTo>
                      <a:pt x="2937" y="774"/>
                    </a:lnTo>
                    <a:lnTo>
                      <a:pt x="2958" y="700"/>
                    </a:lnTo>
                    <a:lnTo>
                      <a:pt x="2975" y="625"/>
                    </a:lnTo>
                    <a:lnTo>
                      <a:pt x="2988" y="550"/>
                    </a:lnTo>
                    <a:lnTo>
                      <a:pt x="2999" y="472"/>
                    </a:lnTo>
                    <a:lnTo>
                      <a:pt x="3004" y="393"/>
                    </a:lnTo>
                    <a:lnTo>
                      <a:pt x="3006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214800" y="2894040"/>
                <a:ext cx="936360" cy="579240"/>
              </a:xfrm>
              <a:custGeom>
                <a:avLst/>
                <a:gdLst/>
                <a:ahLst/>
                <a:rect l="l" t="t" r="r" b="b"/>
                <a:pathLst>
                  <a:path w="2950" h="1826">
                    <a:moveTo>
                      <a:pt x="2950" y="314"/>
                    </a:moveTo>
                    <a:lnTo>
                      <a:pt x="2950" y="274"/>
                    </a:lnTo>
                    <a:lnTo>
                      <a:pt x="2948" y="234"/>
                    </a:lnTo>
                    <a:lnTo>
                      <a:pt x="2946" y="194"/>
                    </a:lnTo>
                    <a:lnTo>
                      <a:pt x="2942" y="154"/>
                    </a:lnTo>
                    <a:lnTo>
                      <a:pt x="2938" y="115"/>
                    </a:lnTo>
                    <a:lnTo>
                      <a:pt x="2933" y="76"/>
                    </a:lnTo>
                    <a:lnTo>
                      <a:pt x="2925" y="37"/>
                    </a:lnTo>
                    <a:lnTo>
                      <a:pt x="2918" y="0"/>
                    </a:lnTo>
                    <a:lnTo>
                      <a:pt x="2909" y="0"/>
                    </a:lnTo>
                    <a:lnTo>
                      <a:pt x="2847" y="0"/>
                    </a:lnTo>
                    <a:lnTo>
                      <a:pt x="2856" y="37"/>
                    </a:lnTo>
                    <a:lnTo>
                      <a:pt x="2862" y="76"/>
                    </a:lnTo>
                    <a:lnTo>
                      <a:pt x="2868" y="115"/>
                    </a:lnTo>
                    <a:lnTo>
                      <a:pt x="2874" y="154"/>
                    </a:lnTo>
                    <a:lnTo>
                      <a:pt x="2877" y="194"/>
                    </a:lnTo>
                    <a:lnTo>
                      <a:pt x="2880" y="234"/>
                    </a:lnTo>
                    <a:lnTo>
                      <a:pt x="2881" y="274"/>
                    </a:lnTo>
                    <a:lnTo>
                      <a:pt x="2882" y="314"/>
                    </a:lnTo>
                    <a:lnTo>
                      <a:pt x="2880" y="388"/>
                    </a:lnTo>
                    <a:lnTo>
                      <a:pt x="2875" y="462"/>
                    </a:lnTo>
                    <a:lnTo>
                      <a:pt x="2865" y="534"/>
                    </a:lnTo>
                    <a:lnTo>
                      <a:pt x="2853" y="604"/>
                    </a:lnTo>
                    <a:lnTo>
                      <a:pt x="2837" y="675"/>
                    </a:lnTo>
                    <a:lnTo>
                      <a:pt x="2817" y="743"/>
                    </a:lnTo>
                    <a:lnTo>
                      <a:pt x="2794" y="810"/>
                    </a:lnTo>
                    <a:lnTo>
                      <a:pt x="2769" y="875"/>
                    </a:lnTo>
                    <a:lnTo>
                      <a:pt x="2739" y="939"/>
                    </a:lnTo>
                    <a:lnTo>
                      <a:pt x="2708" y="1002"/>
                    </a:lnTo>
                    <a:lnTo>
                      <a:pt x="2673" y="1062"/>
                    </a:lnTo>
                    <a:lnTo>
                      <a:pt x="2635" y="1121"/>
                    </a:lnTo>
                    <a:lnTo>
                      <a:pt x="2595" y="1178"/>
                    </a:lnTo>
                    <a:lnTo>
                      <a:pt x="2552" y="1232"/>
                    </a:lnTo>
                    <a:lnTo>
                      <a:pt x="2507" y="1285"/>
                    </a:lnTo>
                    <a:lnTo>
                      <a:pt x="2458" y="1334"/>
                    </a:lnTo>
                    <a:lnTo>
                      <a:pt x="2409" y="1383"/>
                    </a:lnTo>
                    <a:lnTo>
                      <a:pt x="2357" y="1428"/>
                    </a:lnTo>
                    <a:lnTo>
                      <a:pt x="2302" y="1471"/>
                    </a:lnTo>
                    <a:lnTo>
                      <a:pt x="2245" y="1511"/>
                    </a:lnTo>
                    <a:lnTo>
                      <a:pt x="2186" y="1548"/>
                    </a:lnTo>
                    <a:lnTo>
                      <a:pt x="2125" y="1583"/>
                    </a:lnTo>
                    <a:lnTo>
                      <a:pt x="2063" y="1615"/>
                    </a:lnTo>
                    <a:lnTo>
                      <a:pt x="1999" y="1644"/>
                    </a:lnTo>
                    <a:lnTo>
                      <a:pt x="1934" y="1670"/>
                    </a:lnTo>
                    <a:lnTo>
                      <a:pt x="1867" y="1692"/>
                    </a:lnTo>
                    <a:lnTo>
                      <a:pt x="1798" y="1712"/>
                    </a:lnTo>
                    <a:lnTo>
                      <a:pt x="1728" y="1728"/>
                    </a:lnTo>
                    <a:lnTo>
                      <a:pt x="1658" y="1741"/>
                    </a:lnTo>
                    <a:lnTo>
                      <a:pt x="1585" y="1750"/>
                    </a:lnTo>
                    <a:lnTo>
                      <a:pt x="1511" y="1755"/>
                    </a:lnTo>
                    <a:lnTo>
                      <a:pt x="1437" y="1757"/>
                    </a:lnTo>
                    <a:lnTo>
                      <a:pt x="1376" y="1756"/>
                    </a:lnTo>
                    <a:lnTo>
                      <a:pt x="1315" y="1752"/>
                    </a:lnTo>
                    <a:lnTo>
                      <a:pt x="1255" y="1746"/>
                    </a:lnTo>
                    <a:lnTo>
                      <a:pt x="1195" y="1737"/>
                    </a:lnTo>
                    <a:lnTo>
                      <a:pt x="1137" y="1726"/>
                    </a:lnTo>
                    <a:lnTo>
                      <a:pt x="1079" y="1712"/>
                    </a:lnTo>
                    <a:lnTo>
                      <a:pt x="1023" y="1696"/>
                    </a:lnTo>
                    <a:lnTo>
                      <a:pt x="967" y="1679"/>
                    </a:lnTo>
                    <a:lnTo>
                      <a:pt x="912" y="1659"/>
                    </a:lnTo>
                    <a:lnTo>
                      <a:pt x="858" y="1637"/>
                    </a:lnTo>
                    <a:lnTo>
                      <a:pt x="805" y="1612"/>
                    </a:lnTo>
                    <a:lnTo>
                      <a:pt x="754" y="1586"/>
                    </a:lnTo>
                    <a:lnTo>
                      <a:pt x="704" y="1558"/>
                    </a:lnTo>
                    <a:lnTo>
                      <a:pt x="655" y="1527"/>
                    </a:lnTo>
                    <a:lnTo>
                      <a:pt x="607" y="1495"/>
                    </a:lnTo>
                    <a:lnTo>
                      <a:pt x="561" y="1461"/>
                    </a:lnTo>
                    <a:lnTo>
                      <a:pt x="516" y="1426"/>
                    </a:lnTo>
                    <a:lnTo>
                      <a:pt x="473" y="1389"/>
                    </a:lnTo>
                    <a:lnTo>
                      <a:pt x="431" y="1349"/>
                    </a:lnTo>
                    <a:lnTo>
                      <a:pt x="391" y="1309"/>
                    </a:lnTo>
                    <a:lnTo>
                      <a:pt x="352" y="1267"/>
                    </a:lnTo>
                    <a:lnTo>
                      <a:pt x="315" y="1223"/>
                    </a:lnTo>
                    <a:lnTo>
                      <a:pt x="279" y="1178"/>
                    </a:lnTo>
                    <a:lnTo>
                      <a:pt x="246" y="1131"/>
                    </a:lnTo>
                    <a:lnTo>
                      <a:pt x="214" y="1083"/>
                    </a:lnTo>
                    <a:lnTo>
                      <a:pt x="185" y="1034"/>
                    </a:lnTo>
                    <a:lnTo>
                      <a:pt x="156" y="984"/>
                    </a:lnTo>
                    <a:lnTo>
                      <a:pt x="131" y="931"/>
                    </a:lnTo>
                    <a:lnTo>
                      <a:pt x="107" y="879"/>
                    </a:lnTo>
                    <a:lnTo>
                      <a:pt x="86" y="825"/>
                    </a:lnTo>
                    <a:lnTo>
                      <a:pt x="66" y="769"/>
                    </a:lnTo>
                    <a:lnTo>
                      <a:pt x="48" y="714"/>
                    </a:lnTo>
                    <a:lnTo>
                      <a:pt x="28" y="735"/>
                    </a:lnTo>
                    <a:lnTo>
                      <a:pt x="0" y="789"/>
                    </a:lnTo>
                    <a:lnTo>
                      <a:pt x="20" y="845"/>
                    </a:lnTo>
                    <a:lnTo>
                      <a:pt x="42" y="900"/>
                    </a:lnTo>
                    <a:lnTo>
                      <a:pt x="65" y="954"/>
                    </a:lnTo>
                    <a:lnTo>
                      <a:pt x="91" y="1007"/>
                    </a:lnTo>
                    <a:lnTo>
                      <a:pt x="120" y="1058"/>
                    </a:lnTo>
                    <a:lnTo>
                      <a:pt x="149" y="1108"/>
                    </a:lnTo>
                    <a:lnTo>
                      <a:pt x="181" y="1158"/>
                    </a:lnTo>
                    <a:lnTo>
                      <a:pt x="214" y="1205"/>
                    </a:lnTo>
                    <a:lnTo>
                      <a:pt x="250" y="1251"/>
                    </a:lnTo>
                    <a:lnTo>
                      <a:pt x="287" y="1296"/>
                    </a:lnTo>
                    <a:lnTo>
                      <a:pt x="326" y="1339"/>
                    </a:lnTo>
                    <a:lnTo>
                      <a:pt x="366" y="1381"/>
                    </a:lnTo>
                    <a:lnTo>
                      <a:pt x="408" y="1422"/>
                    </a:lnTo>
                    <a:lnTo>
                      <a:pt x="451" y="1461"/>
                    </a:lnTo>
                    <a:lnTo>
                      <a:pt x="496" y="1498"/>
                    </a:lnTo>
                    <a:lnTo>
                      <a:pt x="542" y="1534"/>
                    </a:lnTo>
                    <a:lnTo>
                      <a:pt x="590" y="1567"/>
                    </a:lnTo>
                    <a:lnTo>
                      <a:pt x="639" y="1599"/>
                    </a:lnTo>
                    <a:lnTo>
                      <a:pt x="689" y="1628"/>
                    </a:lnTo>
                    <a:lnTo>
                      <a:pt x="741" y="1657"/>
                    </a:lnTo>
                    <a:lnTo>
                      <a:pt x="793" y="1683"/>
                    </a:lnTo>
                    <a:lnTo>
                      <a:pt x="847" y="1707"/>
                    </a:lnTo>
                    <a:lnTo>
                      <a:pt x="902" y="1729"/>
                    </a:lnTo>
                    <a:lnTo>
                      <a:pt x="959" y="1749"/>
                    </a:lnTo>
                    <a:lnTo>
                      <a:pt x="1015" y="1767"/>
                    </a:lnTo>
                    <a:lnTo>
                      <a:pt x="1073" y="1782"/>
                    </a:lnTo>
                    <a:lnTo>
                      <a:pt x="1132" y="1795"/>
                    </a:lnTo>
                    <a:lnTo>
                      <a:pt x="1191" y="1806"/>
                    </a:lnTo>
                    <a:lnTo>
                      <a:pt x="1252" y="1815"/>
                    </a:lnTo>
                    <a:lnTo>
                      <a:pt x="1313" y="1821"/>
                    </a:lnTo>
                    <a:lnTo>
                      <a:pt x="1375" y="1825"/>
                    </a:lnTo>
                    <a:lnTo>
                      <a:pt x="1437" y="1826"/>
                    </a:lnTo>
                    <a:lnTo>
                      <a:pt x="1515" y="1824"/>
                    </a:lnTo>
                    <a:lnTo>
                      <a:pt x="1592" y="1818"/>
                    </a:lnTo>
                    <a:lnTo>
                      <a:pt x="1668" y="1809"/>
                    </a:lnTo>
                    <a:lnTo>
                      <a:pt x="1743" y="1795"/>
                    </a:lnTo>
                    <a:lnTo>
                      <a:pt x="1815" y="1778"/>
                    </a:lnTo>
                    <a:lnTo>
                      <a:pt x="1888" y="1758"/>
                    </a:lnTo>
                    <a:lnTo>
                      <a:pt x="1957" y="1734"/>
                    </a:lnTo>
                    <a:lnTo>
                      <a:pt x="2026" y="1707"/>
                    </a:lnTo>
                    <a:lnTo>
                      <a:pt x="2094" y="1677"/>
                    </a:lnTo>
                    <a:lnTo>
                      <a:pt x="2159" y="1644"/>
                    </a:lnTo>
                    <a:lnTo>
                      <a:pt x="2222" y="1607"/>
                    </a:lnTo>
                    <a:lnTo>
                      <a:pt x="2283" y="1567"/>
                    </a:lnTo>
                    <a:lnTo>
                      <a:pt x="2343" y="1525"/>
                    </a:lnTo>
                    <a:lnTo>
                      <a:pt x="2400" y="1481"/>
                    </a:lnTo>
                    <a:lnTo>
                      <a:pt x="2455" y="1433"/>
                    </a:lnTo>
                    <a:lnTo>
                      <a:pt x="2508" y="1384"/>
                    </a:lnTo>
                    <a:lnTo>
                      <a:pt x="2557" y="1331"/>
                    </a:lnTo>
                    <a:lnTo>
                      <a:pt x="2606" y="1275"/>
                    </a:lnTo>
                    <a:lnTo>
                      <a:pt x="2650" y="1219"/>
                    </a:lnTo>
                    <a:lnTo>
                      <a:pt x="2692" y="1159"/>
                    </a:lnTo>
                    <a:lnTo>
                      <a:pt x="2732" y="1098"/>
                    </a:lnTo>
                    <a:lnTo>
                      <a:pt x="2769" y="1035"/>
                    </a:lnTo>
                    <a:lnTo>
                      <a:pt x="2801" y="970"/>
                    </a:lnTo>
                    <a:lnTo>
                      <a:pt x="2832" y="903"/>
                    </a:lnTo>
                    <a:lnTo>
                      <a:pt x="2859" y="833"/>
                    </a:lnTo>
                    <a:lnTo>
                      <a:pt x="2883" y="764"/>
                    </a:lnTo>
                    <a:lnTo>
                      <a:pt x="2903" y="692"/>
                    </a:lnTo>
                    <a:lnTo>
                      <a:pt x="2920" y="619"/>
                    </a:lnTo>
                    <a:lnTo>
                      <a:pt x="2934" y="545"/>
                    </a:lnTo>
                    <a:lnTo>
                      <a:pt x="2943" y="469"/>
                    </a:lnTo>
                    <a:lnTo>
                      <a:pt x="2949" y="391"/>
                    </a:lnTo>
                    <a:lnTo>
                      <a:pt x="2950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222720" y="2894040"/>
                <a:ext cx="919080" cy="568440"/>
              </a:xfrm>
              <a:custGeom>
                <a:avLst/>
                <a:gdLst/>
                <a:ahLst/>
                <a:rect l="l" t="t" r="r" b="b"/>
                <a:pathLst>
                  <a:path w="2894" h="1792">
                    <a:moveTo>
                      <a:pt x="2894" y="314"/>
                    </a:moveTo>
                    <a:lnTo>
                      <a:pt x="2893" y="274"/>
                    </a:lnTo>
                    <a:lnTo>
                      <a:pt x="2892" y="234"/>
                    </a:lnTo>
                    <a:lnTo>
                      <a:pt x="2889" y="194"/>
                    </a:lnTo>
                    <a:lnTo>
                      <a:pt x="2885" y="154"/>
                    </a:lnTo>
                    <a:lnTo>
                      <a:pt x="2880" y="115"/>
                    </a:lnTo>
                    <a:lnTo>
                      <a:pt x="2875" y="76"/>
                    </a:lnTo>
                    <a:lnTo>
                      <a:pt x="2867" y="37"/>
                    </a:lnTo>
                    <a:lnTo>
                      <a:pt x="2860" y="0"/>
                    </a:lnTo>
                    <a:lnTo>
                      <a:pt x="2802" y="0"/>
                    </a:lnTo>
                    <a:lnTo>
                      <a:pt x="2790" y="0"/>
                    </a:lnTo>
                    <a:lnTo>
                      <a:pt x="2797" y="37"/>
                    </a:lnTo>
                    <a:lnTo>
                      <a:pt x="2804" y="76"/>
                    </a:lnTo>
                    <a:lnTo>
                      <a:pt x="2811" y="115"/>
                    </a:lnTo>
                    <a:lnTo>
                      <a:pt x="2816" y="154"/>
                    </a:lnTo>
                    <a:lnTo>
                      <a:pt x="2819" y="194"/>
                    </a:lnTo>
                    <a:lnTo>
                      <a:pt x="2822" y="234"/>
                    </a:lnTo>
                    <a:lnTo>
                      <a:pt x="2824" y="274"/>
                    </a:lnTo>
                    <a:lnTo>
                      <a:pt x="2824" y="314"/>
                    </a:lnTo>
                    <a:lnTo>
                      <a:pt x="2822" y="386"/>
                    </a:lnTo>
                    <a:lnTo>
                      <a:pt x="2817" y="459"/>
                    </a:lnTo>
                    <a:lnTo>
                      <a:pt x="2809" y="529"/>
                    </a:lnTo>
                    <a:lnTo>
                      <a:pt x="2796" y="598"/>
                    </a:lnTo>
                    <a:lnTo>
                      <a:pt x="2780" y="666"/>
                    </a:lnTo>
                    <a:lnTo>
                      <a:pt x="2761" y="733"/>
                    </a:lnTo>
                    <a:lnTo>
                      <a:pt x="2739" y="799"/>
                    </a:lnTo>
                    <a:lnTo>
                      <a:pt x="2714" y="863"/>
                    </a:lnTo>
                    <a:lnTo>
                      <a:pt x="2686" y="925"/>
                    </a:lnTo>
                    <a:lnTo>
                      <a:pt x="2654" y="986"/>
                    </a:lnTo>
                    <a:lnTo>
                      <a:pt x="2620" y="1044"/>
                    </a:lnTo>
                    <a:lnTo>
                      <a:pt x="2584" y="1102"/>
                    </a:lnTo>
                    <a:lnTo>
                      <a:pt x="2545" y="1157"/>
                    </a:lnTo>
                    <a:lnTo>
                      <a:pt x="2503" y="1210"/>
                    </a:lnTo>
                    <a:lnTo>
                      <a:pt x="2459" y="1262"/>
                    </a:lnTo>
                    <a:lnTo>
                      <a:pt x="2411" y="1310"/>
                    </a:lnTo>
                    <a:lnTo>
                      <a:pt x="2363" y="1357"/>
                    </a:lnTo>
                    <a:lnTo>
                      <a:pt x="2311" y="1401"/>
                    </a:lnTo>
                    <a:lnTo>
                      <a:pt x="2258" y="1443"/>
                    </a:lnTo>
                    <a:lnTo>
                      <a:pt x="2203" y="1482"/>
                    </a:lnTo>
                    <a:lnTo>
                      <a:pt x="2145" y="1519"/>
                    </a:lnTo>
                    <a:lnTo>
                      <a:pt x="2086" y="1553"/>
                    </a:lnTo>
                    <a:lnTo>
                      <a:pt x="2026" y="1584"/>
                    </a:lnTo>
                    <a:lnTo>
                      <a:pt x="1964" y="1612"/>
                    </a:lnTo>
                    <a:lnTo>
                      <a:pt x="1899" y="1638"/>
                    </a:lnTo>
                    <a:lnTo>
                      <a:pt x="1833" y="1660"/>
                    </a:lnTo>
                    <a:lnTo>
                      <a:pt x="1767" y="1679"/>
                    </a:lnTo>
                    <a:lnTo>
                      <a:pt x="1699" y="1694"/>
                    </a:lnTo>
                    <a:lnTo>
                      <a:pt x="1629" y="1707"/>
                    </a:lnTo>
                    <a:lnTo>
                      <a:pt x="1559" y="1715"/>
                    </a:lnTo>
                    <a:lnTo>
                      <a:pt x="1486" y="1721"/>
                    </a:lnTo>
                    <a:lnTo>
                      <a:pt x="1414" y="1723"/>
                    </a:lnTo>
                    <a:lnTo>
                      <a:pt x="1354" y="1722"/>
                    </a:lnTo>
                    <a:lnTo>
                      <a:pt x="1294" y="1717"/>
                    </a:lnTo>
                    <a:lnTo>
                      <a:pt x="1234" y="1711"/>
                    </a:lnTo>
                    <a:lnTo>
                      <a:pt x="1175" y="1703"/>
                    </a:lnTo>
                    <a:lnTo>
                      <a:pt x="1117" y="1692"/>
                    </a:lnTo>
                    <a:lnTo>
                      <a:pt x="1061" y="1679"/>
                    </a:lnTo>
                    <a:lnTo>
                      <a:pt x="1005" y="1663"/>
                    </a:lnTo>
                    <a:lnTo>
                      <a:pt x="950" y="1645"/>
                    </a:lnTo>
                    <a:lnTo>
                      <a:pt x="896" y="1625"/>
                    </a:lnTo>
                    <a:lnTo>
                      <a:pt x="843" y="1603"/>
                    </a:lnTo>
                    <a:lnTo>
                      <a:pt x="791" y="1579"/>
                    </a:lnTo>
                    <a:lnTo>
                      <a:pt x="741" y="1553"/>
                    </a:lnTo>
                    <a:lnTo>
                      <a:pt x="692" y="1524"/>
                    </a:lnTo>
                    <a:lnTo>
                      <a:pt x="643" y="1494"/>
                    </a:lnTo>
                    <a:lnTo>
                      <a:pt x="596" y="1462"/>
                    </a:lnTo>
                    <a:lnTo>
                      <a:pt x="551" y="1428"/>
                    </a:lnTo>
                    <a:lnTo>
                      <a:pt x="507" y="1393"/>
                    </a:lnTo>
                    <a:lnTo>
                      <a:pt x="465" y="1355"/>
                    </a:lnTo>
                    <a:lnTo>
                      <a:pt x="424" y="1316"/>
                    </a:lnTo>
                    <a:lnTo>
                      <a:pt x="384" y="1276"/>
                    </a:lnTo>
                    <a:lnTo>
                      <a:pt x="346" y="1234"/>
                    </a:lnTo>
                    <a:lnTo>
                      <a:pt x="310" y="1190"/>
                    </a:lnTo>
                    <a:lnTo>
                      <a:pt x="275" y="1145"/>
                    </a:lnTo>
                    <a:lnTo>
                      <a:pt x="243" y="1099"/>
                    </a:lnTo>
                    <a:lnTo>
                      <a:pt x="212" y="1052"/>
                    </a:lnTo>
                    <a:lnTo>
                      <a:pt x="184" y="1002"/>
                    </a:lnTo>
                    <a:lnTo>
                      <a:pt x="157" y="952"/>
                    </a:lnTo>
                    <a:lnTo>
                      <a:pt x="131" y="901"/>
                    </a:lnTo>
                    <a:lnTo>
                      <a:pt x="109" y="848"/>
                    </a:lnTo>
                    <a:lnTo>
                      <a:pt x="88" y="795"/>
                    </a:lnTo>
                    <a:lnTo>
                      <a:pt x="69" y="740"/>
                    </a:lnTo>
                    <a:lnTo>
                      <a:pt x="54" y="684"/>
                    </a:lnTo>
                    <a:lnTo>
                      <a:pt x="5" y="735"/>
                    </a:lnTo>
                    <a:lnTo>
                      <a:pt x="0" y="746"/>
                    </a:lnTo>
                    <a:lnTo>
                      <a:pt x="18" y="803"/>
                    </a:lnTo>
                    <a:lnTo>
                      <a:pt x="39" y="858"/>
                    </a:lnTo>
                    <a:lnTo>
                      <a:pt x="61" y="912"/>
                    </a:lnTo>
                    <a:lnTo>
                      <a:pt x="86" y="965"/>
                    </a:lnTo>
                    <a:lnTo>
                      <a:pt x="112" y="1017"/>
                    </a:lnTo>
                    <a:lnTo>
                      <a:pt x="142" y="1068"/>
                    </a:lnTo>
                    <a:lnTo>
                      <a:pt x="172" y="1117"/>
                    </a:lnTo>
                    <a:lnTo>
                      <a:pt x="205" y="1165"/>
                    </a:lnTo>
                    <a:lnTo>
                      <a:pt x="240" y="1211"/>
                    </a:lnTo>
                    <a:lnTo>
                      <a:pt x="275" y="1257"/>
                    </a:lnTo>
                    <a:lnTo>
                      <a:pt x="313" y="1301"/>
                    </a:lnTo>
                    <a:lnTo>
                      <a:pt x="353" y="1343"/>
                    </a:lnTo>
                    <a:lnTo>
                      <a:pt x="394" y="1384"/>
                    </a:lnTo>
                    <a:lnTo>
                      <a:pt x="436" y="1422"/>
                    </a:lnTo>
                    <a:lnTo>
                      <a:pt x="480" y="1460"/>
                    </a:lnTo>
                    <a:lnTo>
                      <a:pt x="527" y="1496"/>
                    </a:lnTo>
                    <a:lnTo>
                      <a:pt x="573" y="1530"/>
                    </a:lnTo>
                    <a:lnTo>
                      <a:pt x="622" y="1562"/>
                    </a:lnTo>
                    <a:lnTo>
                      <a:pt x="672" y="1593"/>
                    </a:lnTo>
                    <a:lnTo>
                      <a:pt x="722" y="1621"/>
                    </a:lnTo>
                    <a:lnTo>
                      <a:pt x="775" y="1647"/>
                    </a:lnTo>
                    <a:lnTo>
                      <a:pt x="828" y="1671"/>
                    </a:lnTo>
                    <a:lnTo>
                      <a:pt x="883" y="1693"/>
                    </a:lnTo>
                    <a:lnTo>
                      <a:pt x="938" y="1713"/>
                    </a:lnTo>
                    <a:lnTo>
                      <a:pt x="994" y="1731"/>
                    </a:lnTo>
                    <a:lnTo>
                      <a:pt x="1052" y="1747"/>
                    </a:lnTo>
                    <a:lnTo>
                      <a:pt x="1110" y="1761"/>
                    </a:lnTo>
                    <a:lnTo>
                      <a:pt x="1170" y="1771"/>
                    </a:lnTo>
                    <a:lnTo>
                      <a:pt x="1230" y="1780"/>
                    </a:lnTo>
                    <a:lnTo>
                      <a:pt x="1291" y="1787"/>
                    </a:lnTo>
                    <a:lnTo>
                      <a:pt x="1352" y="1790"/>
                    </a:lnTo>
                    <a:lnTo>
                      <a:pt x="1414" y="1792"/>
                    </a:lnTo>
                    <a:lnTo>
                      <a:pt x="1491" y="1790"/>
                    </a:lnTo>
                    <a:lnTo>
                      <a:pt x="1565" y="1784"/>
                    </a:lnTo>
                    <a:lnTo>
                      <a:pt x="1640" y="1774"/>
                    </a:lnTo>
                    <a:lnTo>
                      <a:pt x="1712" y="1762"/>
                    </a:lnTo>
                    <a:lnTo>
                      <a:pt x="1784" y="1745"/>
                    </a:lnTo>
                    <a:lnTo>
                      <a:pt x="1854" y="1725"/>
                    </a:lnTo>
                    <a:lnTo>
                      <a:pt x="1923" y="1702"/>
                    </a:lnTo>
                    <a:lnTo>
                      <a:pt x="1990" y="1675"/>
                    </a:lnTo>
                    <a:lnTo>
                      <a:pt x="2055" y="1646"/>
                    </a:lnTo>
                    <a:lnTo>
                      <a:pt x="2119" y="1614"/>
                    </a:lnTo>
                    <a:lnTo>
                      <a:pt x="2181" y="1578"/>
                    </a:lnTo>
                    <a:lnTo>
                      <a:pt x="2241" y="1539"/>
                    </a:lnTo>
                    <a:lnTo>
                      <a:pt x="2299" y="1498"/>
                    </a:lnTo>
                    <a:lnTo>
                      <a:pt x="2355" y="1454"/>
                    </a:lnTo>
                    <a:lnTo>
                      <a:pt x="2409" y="1408"/>
                    </a:lnTo>
                    <a:lnTo>
                      <a:pt x="2460" y="1358"/>
                    </a:lnTo>
                    <a:lnTo>
                      <a:pt x="2509" y="1308"/>
                    </a:lnTo>
                    <a:lnTo>
                      <a:pt x="2555" y="1253"/>
                    </a:lnTo>
                    <a:lnTo>
                      <a:pt x="2599" y="1198"/>
                    </a:lnTo>
                    <a:lnTo>
                      <a:pt x="2640" y="1140"/>
                    </a:lnTo>
                    <a:lnTo>
                      <a:pt x="2679" y="1080"/>
                    </a:lnTo>
                    <a:lnTo>
                      <a:pt x="2715" y="1018"/>
                    </a:lnTo>
                    <a:lnTo>
                      <a:pt x="2748" y="954"/>
                    </a:lnTo>
                    <a:lnTo>
                      <a:pt x="2777" y="889"/>
                    </a:lnTo>
                    <a:lnTo>
                      <a:pt x="2803" y="822"/>
                    </a:lnTo>
                    <a:lnTo>
                      <a:pt x="2826" y="754"/>
                    </a:lnTo>
                    <a:lnTo>
                      <a:pt x="2846" y="683"/>
                    </a:lnTo>
                    <a:lnTo>
                      <a:pt x="2863" y="612"/>
                    </a:lnTo>
                    <a:lnTo>
                      <a:pt x="2876" y="539"/>
                    </a:lnTo>
                    <a:lnTo>
                      <a:pt x="2885" y="465"/>
                    </a:lnTo>
                    <a:lnTo>
                      <a:pt x="2892" y="390"/>
                    </a:lnTo>
                    <a:lnTo>
                      <a:pt x="2894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230640" y="2894040"/>
                <a:ext cx="900000" cy="557280"/>
              </a:xfrm>
              <a:custGeom>
                <a:avLst/>
                <a:gdLst/>
                <a:ahLst/>
                <a:rect l="l" t="t" r="r" b="b"/>
                <a:pathLst>
                  <a:path w="2834" h="1757">
                    <a:moveTo>
                      <a:pt x="2834" y="314"/>
                    </a:moveTo>
                    <a:lnTo>
                      <a:pt x="2833" y="274"/>
                    </a:lnTo>
                    <a:lnTo>
                      <a:pt x="2832" y="234"/>
                    </a:lnTo>
                    <a:lnTo>
                      <a:pt x="2829" y="194"/>
                    </a:lnTo>
                    <a:lnTo>
                      <a:pt x="2826" y="154"/>
                    </a:lnTo>
                    <a:lnTo>
                      <a:pt x="2820" y="115"/>
                    </a:lnTo>
                    <a:lnTo>
                      <a:pt x="2814" y="76"/>
                    </a:lnTo>
                    <a:lnTo>
                      <a:pt x="2808" y="37"/>
                    </a:lnTo>
                    <a:lnTo>
                      <a:pt x="2799" y="0"/>
                    </a:lnTo>
                    <a:lnTo>
                      <a:pt x="2777" y="0"/>
                    </a:lnTo>
                    <a:lnTo>
                      <a:pt x="2729" y="0"/>
                    </a:lnTo>
                    <a:lnTo>
                      <a:pt x="2737" y="37"/>
                    </a:lnTo>
                    <a:lnTo>
                      <a:pt x="2745" y="76"/>
                    </a:lnTo>
                    <a:lnTo>
                      <a:pt x="2751" y="115"/>
                    </a:lnTo>
                    <a:lnTo>
                      <a:pt x="2756" y="154"/>
                    </a:lnTo>
                    <a:lnTo>
                      <a:pt x="2759" y="194"/>
                    </a:lnTo>
                    <a:lnTo>
                      <a:pt x="2763" y="234"/>
                    </a:lnTo>
                    <a:lnTo>
                      <a:pt x="2765" y="274"/>
                    </a:lnTo>
                    <a:lnTo>
                      <a:pt x="2766" y="314"/>
                    </a:lnTo>
                    <a:lnTo>
                      <a:pt x="2764" y="385"/>
                    </a:lnTo>
                    <a:lnTo>
                      <a:pt x="2758" y="454"/>
                    </a:lnTo>
                    <a:lnTo>
                      <a:pt x="2749" y="524"/>
                    </a:lnTo>
                    <a:lnTo>
                      <a:pt x="2737" y="591"/>
                    </a:lnTo>
                    <a:lnTo>
                      <a:pt x="2722" y="657"/>
                    </a:lnTo>
                    <a:lnTo>
                      <a:pt x="2704" y="723"/>
                    </a:lnTo>
                    <a:lnTo>
                      <a:pt x="2682" y="786"/>
                    </a:lnTo>
                    <a:lnTo>
                      <a:pt x="2657" y="849"/>
                    </a:lnTo>
                    <a:lnTo>
                      <a:pt x="2629" y="910"/>
                    </a:lnTo>
                    <a:lnTo>
                      <a:pt x="2599" y="969"/>
                    </a:lnTo>
                    <a:lnTo>
                      <a:pt x="2566" y="1027"/>
                    </a:lnTo>
                    <a:lnTo>
                      <a:pt x="2530" y="1082"/>
                    </a:lnTo>
                    <a:lnTo>
                      <a:pt x="2491" y="1137"/>
                    </a:lnTo>
                    <a:lnTo>
                      <a:pt x="2450" y="1188"/>
                    </a:lnTo>
                    <a:lnTo>
                      <a:pt x="2407" y="1239"/>
                    </a:lnTo>
                    <a:lnTo>
                      <a:pt x="2362" y="1286"/>
                    </a:lnTo>
                    <a:lnTo>
                      <a:pt x="2315" y="1331"/>
                    </a:lnTo>
                    <a:lnTo>
                      <a:pt x="2264" y="1374"/>
                    </a:lnTo>
                    <a:lnTo>
                      <a:pt x="2213" y="1415"/>
                    </a:lnTo>
                    <a:lnTo>
                      <a:pt x="2158" y="1454"/>
                    </a:lnTo>
                    <a:lnTo>
                      <a:pt x="2102" y="1490"/>
                    </a:lnTo>
                    <a:lnTo>
                      <a:pt x="2045" y="1522"/>
                    </a:lnTo>
                    <a:lnTo>
                      <a:pt x="1986" y="1553"/>
                    </a:lnTo>
                    <a:lnTo>
                      <a:pt x="1925" y="1581"/>
                    </a:lnTo>
                    <a:lnTo>
                      <a:pt x="1862" y="1605"/>
                    </a:lnTo>
                    <a:lnTo>
                      <a:pt x="1799" y="1627"/>
                    </a:lnTo>
                    <a:lnTo>
                      <a:pt x="1734" y="1645"/>
                    </a:lnTo>
                    <a:lnTo>
                      <a:pt x="1666" y="1661"/>
                    </a:lnTo>
                    <a:lnTo>
                      <a:pt x="1599" y="1672"/>
                    </a:lnTo>
                    <a:lnTo>
                      <a:pt x="1530" y="1682"/>
                    </a:lnTo>
                    <a:lnTo>
                      <a:pt x="1460" y="1687"/>
                    </a:lnTo>
                    <a:lnTo>
                      <a:pt x="1389" y="1688"/>
                    </a:lnTo>
                    <a:lnTo>
                      <a:pt x="1329" y="1687"/>
                    </a:lnTo>
                    <a:lnTo>
                      <a:pt x="1269" y="1684"/>
                    </a:lnTo>
                    <a:lnTo>
                      <a:pt x="1210" y="1677"/>
                    </a:lnTo>
                    <a:lnTo>
                      <a:pt x="1152" y="1668"/>
                    </a:lnTo>
                    <a:lnTo>
                      <a:pt x="1094" y="1657"/>
                    </a:lnTo>
                    <a:lnTo>
                      <a:pt x="1039" y="1644"/>
                    </a:lnTo>
                    <a:lnTo>
                      <a:pt x="983" y="1627"/>
                    </a:lnTo>
                    <a:lnTo>
                      <a:pt x="928" y="1609"/>
                    </a:lnTo>
                    <a:lnTo>
                      <a:pt x="875" y="1589"/>
                    </a:lnTo>
                    <a:lnTo>
                      <a:pt x="822" y="1567"/>
                    </a:lnTo>
                    <a:lnTo>
                      <a:pt x="772" y="1542"/>
                    </a:lnTo>
                    <a:lnTo>
                      <a:pt x="721" y="1516"/>
                    </a:lnTo>
                    <a:lnTo>
                      <a:pt x="673" y="1488"/>
                    </a:lnTo>
                    <a:lnTo>
                      <a:pt x="625" y="1457"/>
                    </a:lnTo>
                    <a:lnTo>
                      <a:pt x="578" y="1425"/>
                    </a:lnTo>
                    <a:lnTo>
                      <a:pt x="534" y="1391"/>
                    </a:lnTo>
                    <a:lnTo>
                      <a:pt x="491" y="1355"/>
                    </a:lnTo>
                    <a:lnTo>
                      <a:pt x="449" y="1317"/>
                    </a:lnTo>
                    <a:lnTo>
                      <a:pt x="409" y="1279"/>
                    </a:lnTo>
                    <a:lnTo>
                      <a:pt x="370" y="1238"/>
                    </a:lnTo>
                    <a:lnTo>
                      <a:pt x="333" y="1196"/>
                    </a:lnTo>
                    <a:lnTo>
                      <a:pt x="298" y="1152"/>
                    </a:lnTo>
                    <a:lnTo>
                      <a:pt x="265" y="1106"/>
                    </a:lnTo>
                    <a:lnTo>
                      <a:pt x="234" y="1059"/>
                    </a:lnTo>
                    <a:lnTo>
                      <a:pt x="203" y="1012"/>
                    </a:lnTo>
                    <a:lnTo>
                      <a:pt x="176" y="963"/>
                    </a:lnTo>
                    <a:lnTo>
                      <a:pt x="149" y="912"/>
                    </a:lnTo>
                    <a:lnTo>
                      <a:pt x="126" y="861"/>
                    </a:lnTo>
                    <a:lnTo>
                      <a:pt x="104" y="807"/>
                    </a:lnTo>
                    <a:lnTo>
                      <a:pt x="85" y="754"/>
                    </a:lnTo>
                    <a:lnTo>
                      <a:pt x="69" y="699"/>
                    </a:lnTo>
                    <a:lnTo>
                      <a:pt x="53" y="643"/>
                    </a:lnTo>
                    <a:lnTo>
                      <a:pt x="35" y="678"/>
                    </a:lnTo>
                    <a:lnTo>
                      <a:pt x="0" y="714"/>
                    </a:lnTo>
                    <a:lnTo>
                      <a:pt x="18" y="769"/>
                    </a:lnTo>
                    <a:lnTo>
                      <a:pt x="38" y="825"/>
                    </a:lnTo>
                    <a:lnTo>
                      <a:pt x="59" y="879"/>
                    </a:lnTo>
                    <a:lnTo>
                      <a:pt x="83" y="931"/>
                    </a:lnTo>
                    <a:lnTo>
                      <a:pt x="108" y="984"/>
                    </a:lnTo>
                    <a:lnTo>
                      <a:pt x="137" y="1034"/>
                    </a:lnTo>
                    <a:lnTo>
                      <a:pt x="166" y="1083"/>
                    </a:lnTo>
                    <a:lnTo>
                      <a:pt x="198" y="1131"/>
                    </a:lnTo>
                    <a:lnTo>
                      <a:pt x="231" y="1178"/>
                    </a:lnTo>
                    <a:lnTo>
                      <a:pt x="267" y="1223"/>
                    </a:lnTo>
                    <a:lnTo>
                      <a:pt x="304" y="1267"/>
                    </a:lnTo>
                    <a:lnTo>
                      <a:pt x="343" y="1309"/>
                    </a:lnTo>
                    <a:lnTo>
                      <a:pt x="383" y="1349"/>
                    </a:lnTo>
                    <a:lnTo>
                      <a:pt x="425" y="1389"/>
                    </a:lnTo>
                    <a:lnTo>
                      <a:pt x="468" y="1426"/>
                    </a:lnTo>
                    <a:lnTo>
                      <a:pt x="513" y="1461"/>
                    </a:lnTo>
                    <a:lnTo>
                      <a:pt x="559" y="1495"/>
                    </a:lnTo>
                    <a:lnTo>
                      <a:pt x="607" y="1527"/>
                    </a:lnTo>
                    <a:lnTo>
                      <a:pt x="656" y="1558"/>
                    </a:lnTo>
                    <a:lnTo>
                      <a:pt x="706" y="1586"/>
                    </a:lnTo>
                    <a:lnTo>
                      <a:pt x="757" y="1612"/>
                    </a:lnTo>
                    <a:lnTo>
                      <a:pt x="810" y="1637"/>
                    </a:lnTo>
                    <a:lnTo>
                      <a:pt x="864" y="1659"/>
                    </a:lnTo>
                    <a:lnTo>
                      <a:pt x="919" y="1679"/>
                    </a:lnTo>
                    <a:lnTo>
                      <a:pt x="975" y="1696"/>
                    </a:lnTo>
                    <a:lnTo>
                      <a:pt x="1031" y="1712"/>
                    </a:lnTo>
                    <a:lnTo>
                      <a:pt x="1089" y="1726"/>
                    </a:lnTo>
                    <a:lnTo>
                      <a:pt x="1147" y="1737"/>
                    </a:lnTo>
                    <a:lnTo>
                      <a:pt x="1207" y="1746"/>
                    </a:lnTo>
                    <a:lnTo>
                      <a:pt x="1267" y="1752"/>
                    </a:lnTo>
                    <a:lnTo>
                      <a:pt x="1328" y="1756"/>
                    </a:lnTo>
                    <a:lnTo>
                      <a:pt x="1389" y="1757"/>
                    </a:lnTo>
                    <a:lnTo>
                      <a:pt x="1463" y="1755"/>
                    </a:lnTo>
                    <a:lnTo>
                      <a:pt x="1537" y="1750"/>
                    </a:lnTo>
                    <a:lnTo>
                      <a:pt x="1610" y="1741"/>
                    </a:lnTo>
                    <a:lnTo>
                      <a:pt x="1680" y="1728"/>
                    </a:lnTo>
                    <a:lnTo>
                      <a:pt x="1750" y="1712"/>
                    </a:lnTo>
                    <a:lnTo>
                      <a:pt x="1819" y="1692"/>
                    </a:lnTo>
                    <a:lnTo>
                      <a:pt x="1886" y="1670"/>
                    </a:lnTo>
                    <a:lnTo>
                      <a:pt x="1951" y="1644"/>
                    </a:lnTo>
                    <a:lnTo>
                      <a:pt x="2015" y="1615"/>
                    </a:lnTo>
                    <a:lnTo>
                      <a:pt x="2077" y="1583"/>
                    </a:lnTo>
                    <a:lnTo>
                      <a:pt x="2138" y="1548"/>
                    </a:lnTo>
                    <a:lnTo>
                      <a:pt x="2197" y="1511"/>
                    </a:lnTo>
                    <a:lnTo>
                      <a:pt x="2254" y="1471"/>
                    </a:lnTo>
                    <a:lnTo>
                      <a:pt x="2309" y="1428"/>
                    </a:lnTo>
                    <a:lnTo>
                      <a:pt x="2361" y="1383"/>
                    </a:lnTo>
                    <a:lnTo>
                      <a:pt x="2410" y="1334"/>
                    </a:lnTo>
                    <a:lnTo>
                      <a:pt x="2459" y="1285"/>
                    </a:lnTo>
                    <a:lnTo>
                      <a:pt x="2504" y="1232"/>
                    </a:lnTo>
                    <a:lnTo>
                      <a:pt x="2547" y="1178"/>
                    </a:lnTo>
                    <a:lnTo>
                      <a:pt x="2587" y="1121"/>
                    </a:lnTo>
                    <a:lnTo>
                      <a:pt x="2625" y="1062"/>
                    </a:lnTo>
                    <a:lnTo>
                      <a:pt x="2660" y="1002"/>
                    </a:lnTo>
                    <a:lnTo>
                      <a:pt x="2691" y="939"/>
                    </a:lnTo>
                    <a:lnTo>
                      <a:pt x="2721" y="875"/>
                    </a:lnTo>
                    <a:lnTo>
                      <a:pt x="2746" y="810"/>
                    </a:lnTo>
                    <a:lnTo>
                      <a:pt x="2769" y="743"/>
                    </a:lnTo>
                    <a:lnTo>
                      <a:pt x="2789" y="675"/>
                    </a:lnTo>
                    <a:lnTo>
                      <a:pt x="2805" y="604"/>
                    </a:lnTo>
                    <a:lnTo>
                      <a:pt x="2817" y="534"/>
                    </a:lnTo>
                    <a:lnTo>
                      <a:pt x="2827" y="462"/>
                    </a:lnTo>
                    <a:lnTo>
                      <a:pt x="2832" y="388"/>
                    </a:lnTo>
                    <a:lnTo>
                      <a:pt x="2834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240000" y="2894040"/>
                <a:ext cx="879480" cy="546120"/>
              </a:xfrm>
              <a:custGeom>
                <a:avLst/>
                <a:gdLst/>
                <a:ahLst/>
                <a:rect l="l" t="t" r="r" b="b"/>
                <a:pathLst>
                  <a:path w="2770" h="1723">
                    <a:moveTo>
                      <a:pt x="2770" y="314"/>
                    </a:moveTo>
                    <a:lnTo>
                      <a:pt x="2770" y="274"/>
                    </a:lnTo>
                    <a:lnTo>
                      <a:pt x="2768" y="234"/>
                    </a:lnTo>
                    <a:lnTo>
                      <a:pt x="2765" y="194"/>
                    </a:lnTo>
                    <a:lnTo>
                      <a:pt x="2762" y="154"/>
                    </a:lnTo>
                    <a:lnTo>
                      <a:pt x="2757" y="115"/>
                    </a:lnTo>
                    <a:lnTo>
                      <a:pt x="2750" y="76"/>
                    </a:lnTo>
                    <a:lnTo>
                      <a:pt x="2743" y="37"/>
                    </a:lnTo>
                    <a:lnTo>
                      <a:pt x="2736" y="0"/>
                    </a:lnTo>
                    <a:lnTo>
                      <a:pt x="2692" y="0"/>
                    </a:lnTo>
                    <a:lnTo>
                      <a:pt x="2664" y="0"/>
                    </a:lnTo>
                    <a:lnTo>
                      <a:pt x="2673" y="37"/>
                    </a:lnTo>
                    <a:lnTo>
                      <a:pt x="2681" y="76"/>
                    </a:lnTo>
                    <a:lnTo>
                      <a:pt x="2687" y="115"/>
                    </a:lnTo>
                    <a:lnTo>
                      <a:pt x="2693" y="154"/>
                    </a:lnTo>
                    <a:lnTo>
                      <a:pt x="2697" y="194"/>
                    </a:lnTo>
                    <a:lnTo>
                      <a:pt x="2699" y="234"/>
                    </a:lnTo>
                    <a:lnTo>
                      <a:pt x="2701" y="274"/>
                    </a:lnTo>
                    <a:lnTo>
                      <a:pt x="2702" y="314"/>
                    </a:lnTo>
                    <a:lnTo>
                      <a:pt x="2700" y="383"/>
                    </a:lnTo>
                    <a:lnTo>
                      <a:pt x="2695" y="451"/>
                    </a:lnTo>
                    <a:lnTo>
                      <a:pt x="2686" y="518"/>
                    </a:lnTo>
                    <a:lnTo>
                      <a:pt x="2675" y="585"/>
                    </a:lnTo>
                    <a:lnTo>
                      <a:pt x="2660" y="649"/>
                    </a:lnTo>
                    <a:lnTo>
                      <a:pt x="2641" y="713"/>
                    </a:lnTo>
                    <a:lnTo>
                      <a:pt x="2620" y="775"/>
                    </a:lnTo>
                    <a:lnTo>
                      <a:pt x="2596" y="835"/>
                    </a:lnTo>
                    <a:lnTo>
                      <a:pt x="2570" y="895"/>
                    </a:lnTo>
                    <a:lnTo>
                      <a:pt x="2540" y="953"/>
                    </a:lnTo>
                    <a:lnTo>
                      <a:pt x="2508" y="1009"/>
                    </a:lnTo>
                    <a:lnTo>
                      <a:pt x="2473" y="1063"/>
                    </a:lnTo>
                    <a:lnTo>
                      <a:pt x="2435" y="1116"/>
                    </a:lnTo>
                    <a:lnTo>
                      <a:pt x="2395" y="1166"/>
                    </a:lnTo>
                    <a:lnTo>
                      <a:pt x="2353" y="1215"/>
                    </a:lnTo>
                    <a:lnTo>
                      <a:pt x="2309" y="1262"/>
                    </a:lnTo>
                    <a:lnTo>
                      <a:pt x="2262" y="1306"/>
                    </a:lnTo>
                    <a:lnTo>
                      <a:pt x="2213" y="1348"/>
                    </a:lnTo>
                    <a:lnTo>
                      <a:pt x="2163" y="1388"/>
                    </a:lnTo>
                    <a:lnTo>
                      <a:pt x="2110" y="1426"/>
                    </a:lnTo>
                    <a:lnTo>
                      <a:pt x="2056" y="1460"/>
                    </a:lnTo>
                    <a:lnTo>
                      <a:pt x="2000" y="1493"/>
                    </a:lnTo>
                    <a:lnTo>
                      <a:pt x="1942" y="1522"/>
                    </a:lnTo>
                    <a:lnTo>
                      <a:pt x="1882" y="1548"/>
                    </a:lnTo>
                    <a:lnTo>
                      <a:pt x="1821" y="1573"/>
                    </a:lnTo>
                    <a:lnTo>
                      <a:pt x="1759" y="1594"/>
                    </a:lnTo>
                    <a:lnTo>
                      <a:pt x="1695" y="1611"/>
                    </a:lnTo>
                    <a:lnTo>
                      <a:pt x="1631" y="1627"/>
                    </a:lnTo>
                    <a:lnTo>
                      <a:pt x="1565" y="1639"/>
                    </a:lnTo>
                    <a:lnTo>
                      <a:pt x="1497" y="1647"/>
                    </a:lnTo>
                    <a:lnTo>
                      <a:pt x="1429" y="1652"/>
                    </a:lnTo>
                    <a:lnTo>
                      <a:pt x="1360" y="1654"/>
                    </a:lnTo>
                    <a:lnTo>
                      <a:pt x="1301" y="1652"/>
                    </a:lnTo>
                    <a:lnTo>
                      <a:pt x="1242" y="1649"/>
                    </a:lnTo>
                    <a:lnTo>
                      <a:pt x="1183" y="1643"/>
                    </a:lnTo>
                    <a:lnTo>
                      <a:pt x="1126" y="1633"/>
                    </a:lnTo>
                    <a:lnTo>
                      <a:pt x="1070" y="1623"/>
                    </a:lnTo>
                    <a:lnTo>
                      <a:pt x="1014" y="1609"/>
                    </a:lnTo>
                    <a:lnTo>
                      <a:pt x="959" y="1594"/>
                    </a:lnTo>
                    <a:lnTo>
                      <a:pt x="906" y="1576"/>
                    </a:lnTo>
                    <a:lnTo>
                      <a:pt x="853" y="1555"/>
                    </a:lnTo>
                    <a:lnTo>
                      <a:pt x="802" y="1533"/>
                    </a:lnTo>
                    <a:lnTo>
                      <a:pt x="751" y="1509"/>
                    </a:lnTo>
                    <a:lnTo>
                      <a:pt x="702" y="1482"/>
                    </a:lnTo>
                    <a:lnTo>
                      <a:pt x="653" y="1454"/>
                    </a:lnTo>
                    <a:lnTo>
                      <a:pt x="607" y="1423"/>
                    </a:lnTo>
                    <a:lnTo>
                      <a:pt x="562" y="1391"/>
                    </a:lnTo>
                    <a:lnTo>
                      <a:pt x="518" y="1357"/>
                    </a:lnTo>
                    <a:lnTo>
                      <a:pt x="476" y="1322"/>
                    </a:lnTo>
                    <a:lnTo>
                      <a:pt x="435" y="1284"/>
                    </a:lnTo>
                    <a:lnTo>
                      <a:pt x="395" y="1245"/>
                    </a:lnTo>
                    <a:lnTo>
                      <a:pt x="358" y="1204"/>
                    </a:lnTo>
                    <a:lnTo>
                      <a:pt x="321" y="1162"/>
                    </a:lnTo>
                    <a:lnTo>
                      <a:pt x="288" y="1119"/>
                    </a:lnTo>
                    <a:lnTo>
                      <a:pt x="255" y="1074"/>
                    </a:lnTo>
                    <a:lnTo>
                      <a:pt x="225" y="1028"/>
                    </a:lnTo>
                    <a:lnTo>
                      <a:pt x="195" y="979"/>
                    </a:lnTo>
                    <a:lnTo>
                      <a:pt x="169" y="930"/>
                    </a:lnTo>
                    <a:lnTo>
                      <a:pt x="144" y="881"/>
                    </a:lnTo>
                    <a:lnTo>
                      <a:pt x="122" y="829"/>
                    </a:lnTo>
                    <a:lnTo>
                      <a:pt x="101" y="777"/>
                    </a:lnTo>
                    <a:lnTo>
                      <a:pt x="83" y="723"/>
                    </a:lnTo>
                    <a:lnTo>
                      <a:pt x="66" y="669"/>
                    </a:lnTo>
                    <a:lnTo>
                      <a:pt x="52" y="613"/>
                    </a:lnTo>
                    <a:lnTo>
                      <a:pt x="35" y="621"/>
                    </a:lnTo>
                    <a:lnTo>
                      <a:pt x="6" y="678"/>
                    </a:lnTo>
                    <a:lnTo>
                      <a:pt x="0" y="684"/>
                    </a:lnTo>
                    <a:lnTo>
                      <a:pt x="15" y="740"/>
                    </a:lnTo>
                    <a:lnTo>
                      <a:pt x="34" y="795"/>
                    </a:lnTo>
                    <a:lnTo>
                      <a:pt x="55" y="848"/>
                    </a:lnTo>
                    <a:lnTo>
                      <a:pt x="77" y="901"/>
                    </a:lnTo>
                    <a:lnTo>
                      <a:pt x="103" y="952"/>
                    </a:lnTo>
                    <a:lnTo>
                      <a:pt x="130" y="1002"/>
                    </a:lnTo>
                    <a:lnTo>
                      <a:pt x="158" y="1052"/>
                    </a:lnTo>
                    <a:lnTo>
                      <a:pt x="189" y="1099"/>
                    </a:lnTo>
                    <a:lnTo>
                      <a:pt x="221" y="1145"/>
                    </a:lnTo>
                    <a:lnTo>
                      <a:pt x="256" y="1190"/>
                    </a:lnTo>
                    <a:lnTo>
                      <a:pt x="292" y="1234"/>
                    </a:lnTo>
                    <a:lnTo>
                      <a:pt x="330" y="1276"/>
                    </a:lnTo>
                    <a:lnTo>
                      <a:pt x="370" y="1316"/>
                    </a:lnTo>
                    <a:lnTo>
                      <a:pt x="411" y="1355"/>
                    </a:lnTo>
                    <a:lnTo>
                      <a:pt x="453" y="1393"/>
                    </a:lnTo>
                    <a:lnTo>
                      <a:pt x="497" y="1428"/>
                    </a:lnTo>
                    <a:lnTo>
                      <a:pt x="542" y="1462"/>
                    </a:lnTo>
                    <a:lnTo>
                      <a:pt x="589" y="1494"/>
                    </a:lnTo>
                    <a:lnTo>
                      <a:pt x="638" y="1524"/>
                    </a:lnTo>
                    <a:lnTo>
                      <a:pt x="687" y="1553"/>
                    </a:lnTo>
                    <a:lnTo>
                      <a:pt x="737" y="1579"/>
                    </a:lnTo>
                    <a:lnTo>
                      <a:pt x="789" y="1603"/>
                    </a:lnTo>
                    <a:lnTo>
                      <a:pt x="842" y="1625"/>
                    </a:lnTo>
                    <a:lnTo>
                      <a:pt x="896" y="1645"/>
                    </a:lnTo>
                    <a:lnTo>
                      <a:pt x="951" y="1663"/>
                    </a:lnTo>
                    <a:lnTo>
                      <a:pt x="1007" y="1679"/>
                    </a:lnTo>
                    <a:lnTo>
                      <a:pt x="1063" y="1692"/>
                    </a:lnTo>
                    <a:lnTo>
                      <a:pt x="1121" y="1703"/>
                    </a:lnTo>
                    <a:lnTo>
                      <a:pt x="1180" y="1711"/>
                    </a:lnTo>
                    <a:lnTo>
                      <a:pt x="1240" y="1717"/>
                    </a:lnTo>
                    <a:lnTo>
                      <a:pt x="1300" y="1722"/>
                    </a:lnTo>
                    <a:lnTo>
                      <a:pt x="1360" y="1723"/>
                    </a:lnTo>
                    <a:lnTo>
                      <a:pt x="1432" y="1721"/>
                    </a:lnTo>
                    <a:lnTo>
                      <a:pt x="1505" y="1715"/>
                    </a:lnTo>
                    <a:lnTo>
                      <a:pt x="1575" y="1707"/>
                    </a:lnTo>
                    <a:lnTo>
                      <a:pt x="1645" y="1694"/>
                    </a:lnTo>
                    <a:lnTo>
                      <a:pt x="1713" y="1679"/>
                    </a:lnTo>
                    <a:lnTo>
                      <a:pt x="1779" y="1660"/>
                    </a:lnTo>
                    <a:lnTo>
                      <a:pt x="1845" y="1638"/>
                    </a:lnTo>
                    <a:lnTo>
                      <a:pt x="1910" y="1612"/>
                    </a:lnTo>
                    <a:lnTo>
                      <a:pt x="1972" y="1584"/>
                    </a:lnTo>
                    <a:lnTo>
                      <a:pt x="2032" y="1553"/>
                    </a:lnTo>
                    <a:lnTo>
                      <a:pt x="2091" y="1519"/>
                    </a:lnTo>
                    <a:lnTo>
                      <a:pt x="2149" y="1482"/>
                    </a:lnTo>
                    <a:lnTo>
                      <a:pt x="2204" y="1443"/>
                    </a:lnTo>
                    <a:lnTo>
                      <a:pt x="2257" y="1401"/>
                    </a:lnTo>
                    <a:lnTo>
                      <a:pt x="2309" y="1357"/>
                    </a:lnTo>
                    <a:lnTo>
                      <a:pt x="2357" y="1310"/>
                    </a:lnTo>
                    <a:lnTo>
                      <a:pt x="2405" y="1262"/>
                    </a:lnTo>
                    <a:lnTo>
                      <a:pt x="2449" y="1210"/>
                    </a:lnTo>
                    <a:lnTo>
                      <a:pt x="2491" y="1157"/>
                    </a:lnTo>
                    <a:lnTo>
                      <a:pt x="2530" y="1102"/>
                    </a:lnTo>
                    <a:lnTo>
                      <a:pt x="2566" y="1044"/>
                    </a:lnTo>
                    <a:lnTo>
                      <a:pt x="2600" y="986"/>
                    </a:lnTo>
                    <a:lnTo>
                      <a:pt x="2632" y="925"/>
                    </a:lnTo>
                    <a:lnTo>
                      <a:pt x="2660" y="863"/>
                    </a:lnTo>
                    <a:lnTo>
                      <a:pt x="2685" y="799"/>
                    </a:lnTo>
                    <a:lnTo>
                      <a:pt x="2707" y="733"/>
                    </a:lnTo>
                    <a:lnTo>
                      <a:pt x="2726" y="666"/>
                    </a:lnTo>
                    <a:lnTo>
                      <a:pt x="2742" y="598"/>
                    </a:lnTo>
                    <a:lnTo>
                      <a:pt x="2755" y="529"/>
                    </a:lnTo>
                    <a:lnTo>
                      <a:pt x="2763" y="459"/>
                    </a:lnTo>
                    <a:lnTo>
                      <a:pt x="2768" y="386"/>
                    </a:lnTo>
                    <a:lnTo>
                      <a:pt x="2770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7920" y="2894040"/>
                <a:ext cx="860400" cy="534960"/>
              </a:xfrm>
              <a:custGeom>
                <a:avLst/>
                <a:gdLst/>
                <a:ahLst/>
                <a:rect l="l" t="t" r="r" b="b"/>
                <a:pathLst>
                  <a:path w="2713" h="1688">
                    <a:moveTo>
                      <a:pt x="2713" y="314"/>
                    </a:moveTo>
                    <a:lnTo>
                      <a:pt x="2712" y="274"/>
                    </a:lnTo>
                    <a:lnTo>
                      <a:pt x="2710" y="234"/>
                    </a:lnTo>
                    <a:lnTo>
                      <a:pt x="2706" y="194"/>
                    </a:lnTo>
                    <a:lnTo>
                      <a:pt x="2703" y="154"/>
                    </a:lnTo>
                    <a:lnTo>
                      <a:pt x="2698" y="115"/>
                    </a:lnTo>
                    <a:lnTo>
                      <a:pt x="2692" y="76"/>
                    </a:lnTo>
                    <a:lnTo>
                      <a:pt x="2684" y="37"/>
                    </a:lnTo>
                    <a:lnTo>
                      <a:pt x="2676" y="0"/>
                    </a:lnTo>
                    <a:lnTo>
                      <a:pt x="2668" y="0"/>
                    </a:lnTo>
                    <a:lnTo>
                      <a:pt x="2611" y="0"/>
                    </a:lnTo>
                    <a:lnTo>
                      <a:pt x="2606" y="0"/>
                    </a:lnTo>
                    <a:lnTo>
                      <a:pt x="2614" y="37"/>
                    </a:lnTo>
                    <a:lnTo>
                      <a:pt x="2621" y="76"/>
                    </a:lnTo>
                    <a:lnTo>
                      <a:pt x="2629" y="115"/>
                    </a:lnTo>
                    <a:lnTo>
                      <a:pt x="2634" y="154"/>
                    </a:lnTo>
                    <a:lnTo>
                      <a:pt x="2638" y="194"/>
                    </a:lnTo>
                    <a:lnTo>
                      <a:pt x="2641" y="233"/>
                    </a:lnTo>
                    <a:lnTo>
                      <a:pt x="2643" y="274"/>
                    </a:lnTo>
                    <a:lnTo>
                      <a:pt x="2643" y="314"/>
                    </a:lnTo>
                    <a:lnTo>
                      <a:pt x="2641" y="381"/>
                    </a:lnTo>
                    <a:lnTo>
                      <a:pt x="2637" y="447"/>
                    </a:lnTo>
                    <a:lnTo>
                      <a:pt x="2629" y="513"/>
                    </a:lnTo>
                    <a:lnTo>
                      <a:pt x="2617" y="577"/>
                    </a:lnTo>
                    <a:lnTo>
                      <a:pt x="2602" y="640"/>
                    </a:lnTo>
                    <a:lnTo>
                      <a:pt x="2585" y="702"/>
                    </a:lnTo>
                    <a:lnTo>
                      <a:pt x="2565" y="763"/>
                    </a:lnTo>
                    <a:lnTo>
                      <a:pt x="2540" y="822"/>
                    </a:lnTo>
                    <a:lnTo>
                      <a:pt x="2514" y="881"/>
                    </a:lnTo>
                    <a:lnTo>
                      <a:pt x="2486" y="936"/>
                    </a:lnTo>
                    <a:lnTo>
                      <a:pt x="2454" y="991"/>
                    </a:lnTo>
                    <a:lnTo>
                      <a:pt x="2421" y="1044"/>
                    </a:lnTo>
                    <a:lnTo>
                      <a:pt x="2384" y="1095"/>
                    </a:lnTo>
                    <a:lnTo>
                      <a:pt x="2345" y="1144"/>
                    </a:lnTo>
                    <a:lnTo>
                      <a:pt x="2304" y="1192"/>
                    </a:lnTo>
                    <a:lnTo>
                      <a:pt x="2261" y="1238"/>
                    </a:lnTo>
                    <a:lnTo>
                      <a:pt x="2216" y="1281"/>
                    </a:lnTo>
                    <a:lnTo>
                      <a:pt x="2167" y="1322"/>
                    </a:lnTo>
                    <a:lnTo>
                      <a:pt x="2118" y="1360"/>
                    </a:lnTo>
                    <a:lnTo>
                      <a:pt x="2067" y="1397"/>
                    </a:lnTo>
                    <a:lnTo>
                      <a:pt x="2014" y="1431"/>
                    </a:lnTo>
                    <a:lnTo>
                      <a:pt x="1959" y="1462"/>
                    </a:lnTo>
                    <a:lnTo>
                      <a:pt x="1902" y="1491"/>
                    </a:lnTo>
                    <a:lnTo>
                      <a:pt x="1845" y="1517"/>
                    </a:lnTo>
                    <a:lnTo>
                      <a:pt x="1786" y="1541"/>
                    </a:lnTo>
                    <a:lnTo>
                      <a:pt x="1725" y="1561"/>
                    </a:lnTo>
                    <a:lnTo>
                      <a:pt x="1663" y="1579"/>
                    </a:lnTo>
                    <a:lnTo>
                      <a:pt x="1600" y="1594"/>
                    </a:lnTo>
                    <a:lnTo>
                      <a:pt x="1535" y="1605"/>
                    </a:lnTo>
                    <a:lnTo>
                      <a:pt x="1470" y="1614"/>
                    </a:lnTo>
                    <a:lnTo>
                      <a:pt x="1403" y="1618"/>
                    </a:lnTo>
                    <a:lnTo>
                      <a:pt x="1336" y="1620"/>
                    </a:lnTo>
                    <a:lnTo>
                      <a:pt x="1278" y="1619"/>
                    </a:lnTo>
                    <a:lnTo>
                      <a:pt x="1220" y="1615"/>
                    </a:lnTo>
                    <a:lnTo>
                      <a:pt x="1163" y="1608"/>
                    </a:lnTo>
                    <a:lnTo>
                      <a:pt x="1108" y="1600"/>
                    </a:lnTo>
                    <a:lnTo>
                      <a:pt x="1052" y="1589"/>
                    </a:lnTo>
                    <a:lnTo>
                      <a:pt x="997" y="1576"/>
                    </a:lnTo>
                    <a:lnTo>
                      <a:pt x="944" y="1560"/>
                    </a:lnTo>
                    <a:lnTo>
                      <a:pt x="891" y="1542"/>
                    </a:lnTo>
                    <a:lnTo>
                      <a:pt x="840" y="1522"/>
                    </a:lnTo>
                    <a:lnTo>
                      <a:pt x="789" y="1500"/>
                    </a:lnTo>
                    <a:lnTo>
                      <a:pt x="741" y="1477"/>
                    </a:lnTo>
                    <a:lnTo>
                      <a:pt x="692" y="1451"/>
                    </a:lnTo>
                    <a:lnTo>
                      <a:pt x="645" y="1422"/>
                    </a:lnTo>
                    <a:lnTo>
                      <a:pt x="600" y="1393"/>
                    </a:lnTo>
                    <a:lnTo>
                      <a:pt x="556" y="1362"/>
                    </a:lnTo>
                    <a:lnTo>
                      <a:pt x="513" y="1328"/>
                    </a:lnTo>
                    <a:lnTo>
                      <a:pt x="471" y="1293"/>
                    </a:lnTo>
                    <a:lnTo>
                      <a:pt x="432" y="1257"/>
                    </a:lnTo>
                    <a:lnTo>
                      <a:pt x="393" y="1218"/>
                    </a:lnTo>
                    <a:lnTo>
                      <a:pt x="356" y="1178"/>
                    </a:lnTo>
                    <a:lnTo>
                      <a:pt x="321" y="1137"/>
                    </a:lnTo>
                    <a:lnTo>
                      <a:pt x="288" y="1094"/>
                    </a:lnTo>
                    <a:lnTo>
                      <a:pt x="256" y="1050"/>
                    </a:lnTo>
                    <a:lnTo>
                      <a:pt x="227" y="1005"/>
                    </a:lnTo>
                    <a:lnTo>
                      <a:pt x="198" y="957"/>
                    </a:lnTo>
                    <a:lnTo>
                      <a:pt x="172" y="909"/>
                    </a:lnTo>
                    <a:lnTo>
                      <a:pt x="148" y="860"/>
                    </a:lnTo>
                    <a:lnTo>
                      <a:pt x="127" y="809"/>
                    </a:lnTo>
                    <a:lnTo>
                      <a:pt x="107" y="758"/>
                    </a:lnTo>
                    <a:lnTo>
                      <a:pt x="89" y="705"/>
                    </a:lnTo>
                    <a:lnTo>
                      <a:pt x="73" y="652"/>
                    </a:lnTo>
                    <a:lnTo>
                      <a:pt x="60" y="598"/>
                    </a:lnTo>
                    <a:lnTo>
                      <a:pt x="11" y="621"/>
                    </a:lnTo>
                    <a:lnTo>
                      <a:pt x="0" y="643"/>
                    </a:lnTo>
                    <a:lnTo>
                      <a:pt x="16" y="699"/>
                    </a:lnTo>
                    <a:lnTo>
                      <a:pt x="32" y="754"/>
                    </a:lnTo>
                    <a:lnTo>
                      <a:pt x="51" y="807"/>
                    </a:lnTo>
                    <a:lnTo>
                      <a:pt x="73" y="861"/>
                    </a:lnTo>
                    <a:lnTo>
                      <a:pt x="96" y="912"/>
                    </a:lnTo>
                    <a:lnTo>
                      <a:pt x="123" y="963"/>
                    </a:lnTo>
                    <a:lnTo>
                      <a:pt x="150" y="1012"/>
                    </a:lnTo>
                    <a:lnTo>
                      <a:pt x="181" y="1059"/>
                    </a:lnTo>
                    <a:lnTo>
                      <a:pt x="212" y="1106"/>
                    </a:lnTo>
                    <a:lnTo>
                      <a:pt x="245" y="1152"/>
                    </a:lnTo>
                    <a:lnTo>
                      <a:pt x="280" y="1196"/>
                    </a:lnTo>
                    <a:lnTo>
                      <a:pt x="317" y="1238"/>
                    </a:lnTo>
                    <a:lnTo>
                      <a:pt x="356" y="1279"/>
                    </a:lnTo>
                    <a:lnTo>
                      <a:pt x="396" y="1317"/>
                    </a:lnTo>
                    <a:lnTo>
                      <a:pt x="438" y="1355"/>
                    </a:lnTo>
                    <a:lnTo>
                      <a:pt x="481" y="1391"/>
                    </a:lnTo>
                    <a:lnTo>
                      <a:pt x="525" y="1425"/>
                    </a:lnTo>
                    <a:lnTo>
                      <a:pt x="572" y="1457"/>
                    </a:lnTo>
                    <a:lnTo>
                      <a:pt x="620" y="1488"/>
                    </a:lnTo>
                    <a:lnTo>
                      <a:pt x="668" y="1516"/>
                    </a:lnTo>
                    <a:lnTo>
                      <a:pt x="719" y="1542"/>
                    </a:lnTo>
                    <a:lnTo>
                      <a:pt x="769" y="1567"/>
                    </a:lnTo>
                    <a:lnTo>
                      <a:pt x="822" y="1589"/>
                    </a:lnTo>
                    <a:lnTo>
                      <a:pt x="875" y="1609"/>
                    </a:lnTo>
                    <a:lnTo>
                      <a:pt x="930" y="1627"/>
                    </a:lnTo>
                    <a:lnTo>
                      <a:pt x="986" y="1644"/>
                    </a:lnTo>
                    <a:lnTo>
                      <a:pt x="1041" y="1657"/>
                    </a:lnTo>
                    <a:lnTo>
                      <a:pt x="1099" y="1668"/>
                    </a:lnTo>
                    <a:lnTo>
                      <a:pt x="1157" y="1677"/>
                    </a:lnTo>
                    <a:lnTo>
                      <a:pt x="1216" y="1684"/>
                    </a:lnTo>
                    <a:lnTo>
                      <a:pt x="1276" y="1687"/>
                    </a:lnTo>
                    <a:lnTo>
                      <a:pt x="1336" y="1688"/>
                    </a:lnTo>
                    <a:lnTo>
                      <a:pt x="1407" y="1687"/>
                    </a:lnTo>
                    <a:lnTo>
                      <a:pt x="1477" y="1682"/>
                    </a:lnTo>
                    <a:lnTo>
                      <a:pt x="1546" y="1672"/>
                    </a:lnTo>
                    <a:lnTo>
                      <a:pt x="1613" y="1661"/>
                    </a:lnTo>
                    <a:lnTo>
                      <a:pt x="1681" y="1645"/>
                    </a:lnTo>
                    <a:lnTo>
                      <a:pt x="1746" y="1627"/>
                    </a:lnTo>
                    <a:lnTo>
                      <a:pt x="1809" y="1605"/>
                    </a:lnTo>
                    <a:lnTo>
                      <a:pt x="1872" y="1581"/>
                    </a:lnTo>
                    <a:lnTo>
                      <a:pt x="1933" y="1553"/>
                    </a:lnTo>
                    <a:lnTo>
                      <a:pt x="1992" y="1522"/>
                    </a:lnTo>
                    <a:lnTo>
                      <a:pt x="2049" y="1490"/>
                    </a:lnTo>
                    <a:lnTo>
                      <a:pt x="2105" y="1454"/>
                    </a:lnTo>
                    <a:lnTo>
                      <a:pt x="2160" y="1415"/>
                    </a:lnTo>
                    <a:lnTo>
                      <a:pt x="2211" y="1374"/>
                    </a:lnTo>
                    <a:lnTo>
                      <a:pt x="2262" y="1331"/>
                    </a:lnTo>
                    <a:lnTo>
                      <a:pt x="2309" y="1286"/>
                    </a:lnTo>
                    <a:lnTo>
                      <a:pt x="2354" y="1239"/>
                    </a:lnTo>
                    <a:lnTo>
                      <a:pt x="2397" y="1188"/>
                    </a:lnTo>
                    <a:lnTo>
                      <a:pt x="2438" y="1137"/>
                    </a:lnTo>
                    <a:lnTo>
                      <a:pt x="2477" y="1082"/>
                    </a:lnTo>
                    <a:lnTo>
                      <a:pt x="2513" y="1027"/>
                    </a:lnTo>
                    <a:lnTo>
                      <a:pt x="2546" y="969"/>
                    </a:lnTo>
                    <a:lnTo>
                      <a:pt x="2576" y="910"/>
                    </a:lnTo>
                    <a:lnTo>
                      <a:pt x="2604" y="849"/>
                    </a:lnTo>
                    <a:lnTo>
                      <a:pt x="2629" y="786"/>
                    </a:lnTo>
                    <a:lnTo>
                      <a:pt x="2651" y="723"/>
                    </a:lnTo>
                    <a:lnTo>
                      <a:pt x="2669" y="657"/>
                    </a:lnTo>
                    <a:lnTo>
                      <a:pt x="2684" y="591"/>
                    </a:lnTo>
                    <a:lnTo>
                      <a:pt x="2696" y="524"/>
                    </a:lnTo>
                    <a:lnTo>
                      <a:pt x="2705" y="454"/>
                    </a:lnTo>
                    <a:lnTo>
                      <a:pt x="2711" y="385"/>
                    </a:lnTo>
                    <a:lnTo>
                      <a:pt x="2713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255840" y="2894040"/>
                <a:ext cx="841320" cy="523800"/>
              </a:xfrm>
              <a:custGeom>
                <a:avLst/>
                <a:gdLst/>
                <a:ahLst/>
                <a:rect l="l" t="t" r="r" b="b"/>
                <a:pathLst>
                  <a:path w="2650" h="1654">
                    <a:moveTo>
                      <a:pt x="2650" y="314"/>
                    </a:moveTo>
                    <a:lnTo>
                      <a:pt x="2649" y="274"/>
                    </a:lnTo>
                    <a:lnTo>
                      <a:pt x="2648" y="234"/>
                    </a:lnTo>
                    <a:lnTo>
                      <a:pt x="2645" y="194"/>
                    </a:lnTo>
                    <a:lnTo>
                      <a:pt x="2641" y="154"/>
                    </a:lnTo>
                    <a:lnTo>
                      <a:pt x="2635" y="115"/>
                    </a:lnTo>
                    <a:lnTo>
                      <a:pt x="2629" y="76"/>
                    </a:lnTo>
                    <a:lnTo>
                      <a:pt x="2622" y="37"/>
                    </a:lnTo>
                    <a:lnTo>
                      <a:pt x="2612" y="0"/>
                    </a:lnTo>
                    <a:lnTo>
                      <a:pt x="2583" y="0"/>
                    </a:lnTo>
                    <a:lnTo>
                      <a:pt x="2542" y="0"/>
                    </a:lnTo>
                    <a:lnTo>
                      <a:pt x="2551" y="37"/>
                    </a:lnTo>
                    <a:lnTo>
                      <a:pt x="2559" y="76"/>
                    </a:lnTo>
                    <a:lnTo>
                      <a:pt x="2566" y="115"/>
                    </a:lnTo>
                    <a:lnTo>
                      <a:pt x="2571" y="154"/>
                    </a:lnTo>
                    <a:lnTo>
                      <a:pt x="2575" y="193"/>
                    </a:lnTo>
                    <a:lnTo>
                      <a:pt x="2579" y="233"/>
                    </a:lnTo>
                    <a:lnTo>
                      <a:pt x="2581" y="274"/>
                    </a:lnTo>
                    <a:lnTo>
                      <a:pt x="2581" y="314"/>
                    </a:lnTo>
                    <a:lnTo>
                      <a:pt x="2580" y="380"/>
                    </a:lnTo>
                    <a:lnTo>
                      <a:pt x="2574" y="444"/>
                    </a:lnTo>
                    <a:lnTo>
                      <a:pt x="2566" y="508"/>
                    </a:lnTo>
                    <a:lnTo>
                      <a:pt x="2555" y="570"/>
                    </a:lnTo>
                    <a:lnTo>
                      <a:pt x="2541" y="632"/>
                    </a:lnTo>
                    <a:lnTo>
                      <a:pt x="2524" y="692"/>
                    </a:lnTo>
                    <a:lnTo>
                      <a:pt x="2504" y="751"/>
                    </a:lnTo>
                    <a:lnTo>
                      <a:pt x="2481" y="809"/>
                    </a:lnTo>
                    <a:lnTo>
                      <a:pt x="2456" y="865"/>
                    </a:lnTo>
                    <a:lnTo>
                      <a:pt x="2427" y="921"/>
                    </a:lnTo>
                    <a:lnTo>
                      <a:pt x="2397" y="973"/>
                    </a:lnTo>
                    <a:lnTo>
                      <a:pt x="2363" y="1024"/>
                    </a:lnTo>
                    <a:lnTo>
                      <a:pt x="2328" y="1075"/>
                    </a:lnTo>
                    <a:lnTo>
                      <a:pt x="2291" y="1123"/>
                    </a:lnTo>
                    <a:lnTo>
                      <a:pt x="2251" y="1169"/>
                    </a:lnTo>
                    <a:lnTo>
                      <a:pt x="2209" y="1213"/>
                    </a:lnTo>
                    <a:lnTo>
                      <a:pt x="2164" y="1255"/>
                    </a:lnTo>
                    <a:lnTo>
                      <a:pt x="2118" y="1295"/>
                    </a:lnTo>
                    <a:lnTo>
                      <a:pt x="2070" y="1333"/>
                    </a:lnTo>
                    <a:lnTo>
                      <a:pt x="2019" y="1368"/>
                    </a:lnTo>
                    <a:lnTo>
                      <a:pt x="1968" y="1401"/>
                    </a:lnTo>
                    <a:lnTo>
                      <a:pt x="1915" y="1432"/>
                    </a:lnTo>
                    <a:lnTo>
                      <a:pt x="1860" y="1460"/>
                    </a:lnTo>
                    <a:lnTo>
                      <a:pt x="1804" y="1485"/>
                    </a:lnTo>
                    <a:lnTo>
                      <a:pt x="1746" y="1509"/>
                    </a:lnTo>
                    <a:lnTo>
                      <a:pt x="1686" y="1528"/>
                    </a:lnTo>
                    <a:lnTo>
                      <a:pt x="1626" y="1545"/>
                    </a:lnTo>
                    <a:lnTo>
                      <a:pt x="1564" y="1560"/>
                    </a:lnTo>
                    <a:lnTo>
                      <a:pt x="1502" y="1570"/>
                    </a:lnTo>
                    <a:lnTo>
                      <a:pt x="1438" y="1579"/>
                    </a:lnTo>
                    <a:lnTo>
                      <a:pt x="1374" y="1584"/>
                    </a:lnTo>
                    <a:lnTo>
                      <a:pt x="1308" y="1585"/>
                    </a:lnTo>
                    <a:lnTo>
                      <a:pt x="1251" y="1584"/>
                    </a:lnTo>
                    <a:lnTo>
                      <a:pt x="1194" y="1580"/>
                    </a:lnTo>
                    <a:lnTo>
                      <a:pt x="1139" y="1575"/>
                    </a:lnTo>
                    <a:lnTo>
                      <a:pt x="1083" y="1565"/>
                    </a:lnTo>
                    <a:lnTo>
                      <a:pt x="1028" y="1555"/>
                    </a:lnTo>
                    <a:lnTo>
                      <a:pt x="976" y="1541"/>
                    </a:lnTo>
                    <a:lnTo>
                      <a:pt x="922" y="1526"/>
                    </a:lnTo>
                    <a:lnTo>
                      <a:pt x="870" y="1509"/>
                    </a:lnTo>
                    <a:lnTo>
                      <a:pt x="820" y="1489"/>
                    </a:lnTo>
                    <a:lnTo>
                      <a:pt x="771" y="1467"/>
                    </a:lnTo>
                    <a:lnTo>
                      <a:pt x="722" y="1443"/>
                    </a:lnTo>
                    <a:lnTo>
                      <a:pt x="675" y="1417"/>
                    </a:lnTo>
                    <a:lnTo>
                      <a:pt x="629" y="1390"/>
                    </a:lnTo>
                    <a:lnTo>
                      <a:pt x="585" y="1360"/>
                    </a:lnTo>
                    <a:lnTo>
                      <a:pt x="541" y="1329"/>
                    </a:lnTo>
                    <a:lnTo>
                      <a:pt x="499" y="1295"/>
                    </a:lnTo>
                    <a:lnTo>
                      <a:pt x="458" y="1261"/>
                    </a:lnTo>
                    <a:lnTo>
                      <a:pt x="420" y="1224"/>
                    </a:lnTo>
                    <a:lnTo>
                      <a:pt x="382" y="1186"/>
                    </a:lnTo>
                    <a:lnTo>
                      <a:pt x="346" y="1147"/>
                    </a:lnTo>
                    <a:lnTo>
                      <a:pt x="312" y="1105"/>
                    </a:lnTo>
                    <a:lnTo>
                      <a:pt x="280" y="1063"/>
                    </a:lnTo>
                    <a:lnTo>
                      <a:pt x="249" y="1019"/>
                    </a:lnTo>
                    <a:lnTo>
                      <a:pt x="220" y="974"/>
                    </a:lnTo>
                    <a:lnTo>
                      <a:pt x="194" y="928"/>
                    </a:lnTo>
                    <a:lnTo>
                      <a:pt x="168" y="881"/>
                    </a:lnTo>
                    <a:lnTo>
                      <a:pt x="145" y="831"/>
                    </a:lnTo>
                    <a:lnTo>
                      <a:pt x="124" y="782"/>
                    </a:lnTo>
                    <a:lnTo>
                      <a:pt x="105" y="730"/>
                    </a:lnTo>
                    <a:lnTo>
                      <a:pt x="88" y="679"/>
                    </a:lnTo>
                    <a:lnTo>
                      <a:pt x="74" y="625"/>
                    </a:lnTo>
                    <a:lnTo>
                      <a:pt x="62" y="572"/>
                    </a:lnTo>
                    <a:lnTo>
                      <a:pt x="41" y="594"/>
                    </a:lnTo>
                    <a:lnTo>
                      <a:pt x="0" y="613"/>
                    </a:lnTo>
                    <a:lnTo>
                      <a:pt x="14" y="669"/>
                    </a:lnTo>
                    <a:lnTo>
                      <a:pt x="31" y="723"/>
                    </a:lnTo>
                    <a:lnTo>
                      <a:pt x="49" y="777"/>
                    </a:lnTo>
                    <a:lnTo>
                      <a:pt x="70" y="829"/>
                    </a:lnTo>
                    <a:lnTo>
                      <a:pt x="92" y="881"/>
                    </a:lnTo>
                    <a:lnTo>
                      <a:pt x="117" y="931"/>
                    </a:lnTo>
                    <a:lnTo>
                      <a:pt x="143" y="979"/>
                    </a:lnTo>
                    <a:lnTo>
                      <a:pt x="173" y="1028"/>
                    </a:lnTo>
                    <a:lnTo>
                      <a:pt x="203" y="1074"/>
                    </a:lnTo>
                    <a:lnTo>
                      <a:pt x="236" y="1119"/>
                    </a:lnTo>
                    <a:lnTo>
                      <a:pt x="269" y="1162"/>
                    </a:lnTo>
                    <a:lnTo>
                      <a:pt x="306" y="1204"/>
                    </a:lnTo>
                    <a:lnTo>
                      <a:pt x="343" y="1245"/>
                    </a:lnTo>
                    <a:lnTo>
                      <a:pt x="383" y="1284"/>
                    </a:lnTo>
                    <a:lnTo>
                      <a:pt x="424" y="1322"/>
                    </a:lnTo>
                    <a:lnTo>
                      <a:pt x="466" y="1357"/>
                    </a:lnTo>
                    <a:lnTo>
                      <a:pt x="510" y="1391"/>
                    </a:lnTo>
                    <a:lnTo>
                      <a:pt x="555" y="1423"/>
                    </a:lnTo>
                    <a:lnTo>
                      <a:pt x="601" y="1454"/>
                    </a:lnTo>
                    <a:lnTo>
                      <a:pt x="650" y="1482"/>
                    </a:lnTo>
                    <a:lnTo>
                      <a:pt x="699" y="1509"/>
                    </a:lnTo>
                    <a:lnTo>
                      <a:pt x="750" y="1533"/>
                    </a:lnTo>
                    <a:lnTo>
                      <a:pt x="801" y="1555"/>
                    </a:lnTo>
                    <a:lnTo>
                      <a:pt x="854" y="1576"/>
                    </a:lnTo>
                    <a:lnTo>
                      <a:pt x="907" y="1594"/>
                    </a:lnTo>
                    <a:lnTo>
                      <a:pt x="962" y="1609"/>
                    </a:lnTo>
                    <a:lnTo>
                      <a:pt x="1018" y="1623"/>
                    </a:lnTo>
                    <a:lnTo>
                      <a:pt x="1074" y="1633"/>
                    </a:lnTo>
                    <a:lnTo>
                      <a:pt x="1131" y="1643"/>
                    </a:lnTo>
                    <a:lnTo>
                      <a:pt x="1190" y="1649"/>
                    </a:lnTo>
                    <a:lnTo>
                      <a:pt x="1249" y="1652"/>
                    </a:lnTo>
                    <a:lnTo>
                      <a:pt x="1308" y="1654"/>
                    </a:lnTo>
                    <a:lnTo>
                      <a:pt x="1377" y="1652"/>
                    </a:lnTo>
                    <a:lnTo>
                      <a:pt x="1445" y="1647"/>
                    </a:lnTo>
                    <a:lnTo>
                      <a:pt x="1513" y="1639"/>
                    </a:lnTo>
                    <a:lnTo>
                      <a:pt x="1579" y="1627"/>
                    </a:lnTo>
                    <a:lnTo>
                      <a:pt x="1643" y="1612"/>
                    </a:lnTo>
                    <a:lnTo>
                      <a:pt x="1707" y="1594"/>
                    </a:lnTo>
                    <a:lnTo>
                      <a:pt x="1769" y="1573"/>
                    </a:lnTo>
                    <a:lnTo>
                      <a:pt x="1830" y="1548"/>
                    </a:lnTo>
                    <a:lnTo>
                      <a:pt x="1890" y="1522"/>
                    </a:lnTo>
                    <a:lnTo>
                      <a:pt x="1948" y="1493"/>
                    </a:lnTo>
                    <a:lnTo>
                      <a:pt x="2004" y="1460"/>
                    </a:lnTo>
                    <a:lnTo>
                      <a:pt x="2058" y="1426"/>
                    </a:lnTo>
                    <a:lnTo>
                      <a:pt x="2111" y="1388"/>
                    </a:lnTo>
                    <a:lnTo>
                      <a:pt x="2161" y="1348"/>
                    </a:lnTo>
                    <a:lnTo>
                      <a:pt x="2211" y="1306"/>
                    </a:lnTo>
                    <a:lnTo>
                      <a:pt x="2257" y="1262"/>
                    </a:lnTo>
                    <a:lnTo>
                      <a:pt x="2301" y="1216"/>
                    </a:lnTo>
                    <a:lnTo>
                      <a:pt x="2343" y="1166"/>
                    </a:lnTo>
                    <a:lnTo>
                      <a:pt x="2383" y="1116"/>
                    </a:lnTo>
                    <a:lnTo>
                      <a:pt x="2421" y="1063"/>
                    </a:lnTo>
                    <a:lnTo>
                      <a:pt x="2456" y="1009"/>
                    </a:lnTo>
                    <a:lnTo>
                      <a:pt x="2488" y="953"/>
                    </a:lnTo>
                    <a:lnTo>
                      <a:pt x="2518" y="895"/>
                    </a:lnTo>
                    <a:lnTo>
                      <a:pt x="2544" y="835"/>
                    </a:lnTo>
                    <a:lnTo>
                      <a:pt x="2568" y="775"/>
                    </a:lnTo>
                    <a:lnTo>
                      <a:pt x="2589" y="713"/>
                    </a:lnTo>
                    <a:lnTo>
                      <a:pt x="2608" y="649"/>
                    </a:lnTo>
                    <a:lnTo>
                      <a:pt x="2623" y="585"/>
                    </a:lnTo>
                    <a:lnTo>
                      <a:pt x="2634" y="518"/>
                    </a:lnTo>
                    <a:lnTo>
                      <a:pt x="2643" y="451"/>
                    </a:lnTo>
                    <a:lnTo>
                      <a:pt x="2648" y="383"/>
                    </a:lnTo>
                    <a:lnTo>
                      <a:pt x="2650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2894040"/>
                <a:ext cx="819360" cy="514440"/>
              </a:xfrm>
              <a:custGeom>
                <a:avLst/>
                <a:gdLst/>
                <a:ahLst/>
                <a:rect l="l" t="t" r="r" b="b"/>
                <a:pathLst>
                  <a:path w="2583" h="1620">
                    <a:moveTo>
                      <a:pt x="2583" y="314"/>
                    </a:moveTo>
                    <a:lnTo>
                      <a:pt x="2582" y="274"/>
                    </a:lnTo>
                    <a:lnTo>
                      <a:pt x="2581" y="233"/>
                    </a:lnTo>
                    <a:lnTo>
                      <a:pt x="2578" y="194"/>
                    </a:lnTo>
                    <a:lnTo>
                      <a:pt x="2574" y="154"/>
                    </a:lnTo>
                    <a:lnTo>
                      <a:pt x="2569" y="115"/>
                    </a:lnTo>
                    <a:lnTo>
                      <a:pt x="2561" y="76"/>
                    </a:lnTo>
                    <a:lnTo>
                      <a:pt x="2554" y="37"/>
                    </a:lnTo>
                    <a:lnTo>
                      <a:pt x="2546" y="0"/>
                    </a:lnTo>
                    <a:lnTo>
                      <a:pt x="2474" y="0"/>
                    </a:lnTo>
                    <a:lnTo>
                      <a:pt x="2484" y="37"/>
                    </a:lnTo>
                    <a:lnTo>
                      <a:pt x="2492" y="76"/>
                    </a:lnTo>
                    <a:lnTo>
                      <a:pt x="2498" y="114"/>
                    </a:lnTo>
                    <a:lnTo>
                      <a:pt x="2505" y="154"/>
                    </a:lnTo>
                    <a:lnTo>
                      <a:pt x="2509" y="193"/>
                    </a:lnTo>
                    <a:lnTo>
                      <a:pt x="2512" y="233"/>
                    </a:lnTo>
                    <a:lnTo>
                      <a:pt x="2514" y="274"/>
                    </a:lnTo>
                    <a:lnTo>
                      <a:pt x="2515" y="314"/>
                    </a:lnTo>
                    <a:lnTo>
                      <a:pt x="2513" y="378"/>
                    </a:lnTo>
                    <a:lnTo>
                      <a:pt x="2508" y="441"/>
                    </a:lnTo>
                    <a:lnTo>
                      <a:pt x="2500" y="503"/>
                    </a:lnTo>
                    <a:lnTo>
                      <a:pt x="2490" y="564"/>
                    </a:lnTo>
                    <a:lnTo>
                      <a:pt x="2475" y="623"/>
                    </a:lnTo>
                    <a:lnTo>
                      <a:pt x="2459" y="682"/>
                    </a:lnTo>
                    <a:lnTo>
                      <a:pt x="2439" y="739"/>
                    </a:lnTo>
                    <a:lnTo>
                      <a:pt x="2417" y="796"/>
                    </a:lnTo>
                    <a:lnTo>
                      <a:pt x="2392" y="850"/>
                    </a:lnTo>
                    <a:lnTo>
                      <a:pt x="2365" y="904"/>
                    </a:lnTo>
                    <a:lnTo>
                      <a:pt x="2335" y="955"/>
                    </a:lnTo>
                    <a:lnTo>
                      <a:pt x="2303" y="1006"/>
                    </a:lnTo>
                    <a:lnTo>
                      <a:pt x="2268" y="1054"/>
                    </a:lnTo>
                    <a:lnTo>
                      <a:pt x="2231" y="1101"/>
                    </a:lnTo>
                    <a:lnTo>
                      <a:pt x="2192" y="1146"/>
                    </a:lnTo>
                    <a:lnTo>
                      <a:pt x="2151" y="1188"/>
                    </a:lnTo>
                    <a:lnTo>
                      <a:pt x="2108" y="1229"/>
                    </a:lnTo>
                    <a:lnTo>
                      <a:pt x="2064" y="1269"/>
                    </a:lnTo>
                    <a:lnTo>
                      <a:pt x="2017" y="1306"/>
                    </a:lnTo>
                    <a:lnTo>
                      <a:pt x="1968" y="1339"/>
                    </a:lnTo>
                    <a:lnTo>
                      <a:pt x="1918" y="1372"/>
                    </a:lnTo>
                    <a:lnTo>
                      <a:pt x="1867" y="1401"/>
                    </a:lnTo>
                    <a:lnTo>
                      <a:pt x="1813" y="1429"/>
                    </a:lnTo>
                    <a:lnTo>
                      <a:pt x="1758" y="1454"/>
                    </a:lnTo>
                    <a:lnTo>
                      <a:pt x="1701" y="1476"/>
                    </a:lnTo>
                    <a:lnTo>
                      <a:pt x="1645" y="1496"/>
                    </a:lnTo>
                    <a:lnTo>
                      <a:pt x="1586" y="1512"/>
                    </a:lnTo>
                    <a:lnTo>
                      <a:pt x="1526" y="1526"/>
                    </a:lnTo>
                    <a:lnTo>
                      <a:pt x="1465" y="1537"/>
                    </a:lnTo>
                    <a:lnTo>
                      <a:pt x="1403" y="1544"/>
                    </a:lnTo>
                    <a:lnTo>
                      <a:pt x="1340" y="1549"/>
                    </a:lnTo>
                    <a:lnTo>
                      <a:pt x="1276" y="1551"/>
                    </a:lnTo>
                    <a:lnTo>
                      <a:pt x="1220" y="1549"/>
                    </a:lnTo>
                    <a:lnTo>
                      <a:pt x="1163" y="1546"/>
                    </a:lnTo>
                    <a:lnTo>
                      <a:pt x="1109" y="1540"/>
                    </a:lnTo>
                    <a:lnTo>
                      <a:pt x="1054" y="1532"/>
                    </a:lnTo>
                    <a:lnTo>
                      <a:pt x="1000" y="1520"/>
                    </a:lnTo>
                    <a:lnTo>
                      <a:pt x="948" y="1507"/>
                    </a:lnTo>
                    <a:lnTo>
                      <a:pt x="896" y="1492"/>
                    </a:lnTo>
                    <a:lnTo>
                      <a:pt x="845" y="1474"/>
                    </a:lnTo>
                    <a:lnTo>
                      <a:pt x="795" y="1454"/>
                    </a:lnTo>
                    <a:lnTo>
                      <a:pt x="747" y="1433"/>
                    </a:lnTo>
                    <a:lnTo>
                      <a:pt x="699" y="1409"/>
                    </a:lnTo>
                    <a:lnTo>
                      <a:pt x="652" y="1384"/>
                    </a:lnTo>
                    <a:lnTo>
                      <a:pt x="607" y="1355"/>
                    </a:lnTo>
                    <a:lnTo>
                      <a:pt x="564" y="1326"/>
                    </a:lnTo>
                    <a:lnTo>
                      <a:pt x="521" y="1294"/>
                    </a:lnTo>
                    <a:lnTo>
                      <a:pt x="480" y="1262"/>
                    </a:lnTo>
                    <a:lnTo>
                      <a:pt x="440" y="1227"/>
                    </a:lnTo>
                    <a:lnTo>
                      <a:pt x="402" y="1190"/>
                    </a:lnTo>
                    <a:lnTo>
                      <a:pt x="365" y="1153"/>
                    </a:lnTo>
                    <a:lnTo>
                      <a:pt x="331" y="1114"/>
                    </a:lnTo>
                    <a:lnTo>
                      <a:pt x="298" y="1073"/>
                    </a:lnTo>
                    <a:lnTo>
                      <a:pt x="267" y="1030"/>
                    </a:lnTo>
                    <a:lnTo>
                      <a:pt x="236" y="987"/>
                    </a:lnTo>
                    <a:lnTo>
                      <a:pt x="209" y="942"/>
                    </a:lnTo>
                    <a:lnTo>
                      <a:pt x="183" y="895"/>
                    </a:lnTo>
                    <a:lnTo>
                      <a:pt x="158" y="848"/>
                    </a:lnTo>
                    <a:lnTo>
                      <a:pt x="136" y="800"/>
                    </a:lnTo>
                    <a:lnTo>
                      <a:pt x="116" y="749"/>
                    </a:lnTo>
                    <a:lnTo>
                      <a:pt x="99" y="699"/>
                    </a:lnTo>
                    <a:lnTo>
                      <a:pt x="84" y="648"/>
                    </a:lnTo>
                    <a:lnTo>
                      <a:pt x="70" y="595"/>
                    </a:lnTo>
                    <a:lnTo>
                      <a:pt x="59" y="541"/>
                    </a:lnTo>
                    <a:lnTo>
                      <a:pt x="9" y="594"/>
                    </a:lnTo>
                    <a:lnTo>
                      <a:pt x="0" y="598"/>
                    </a:lnTo>
                    <a:lnTo>
                      <a:pt x="13" y="652"/>
                    </a:lnTo>
                    <a:lnTo>
                      <a:pt x="29" y="705"/>
                    </a:lnTo>
                    <a:lnTo>
                      <a:pt x="47" y="758"/>
                    </a:lnTo>
                    <a:lnTo>
                      <a:pt x="67" y="809"/>
                    </a:lnTo>
                    <a:lnTo>
                      <a:pt x="89" y="860"/>
                    </a:lnTo>
                    <a:lnTo>
                      <a:pt x="112" y="909"/>
                    </a:lnTo>
                    <a:lnTo>
                      <a:pt x="138" y="957"/>
                    </a:lnTo>
                    <a:lnTo>
                      <a:pt x="167" y="1005"/>
                    </a:lnTo>
                    <a:lnTo>
                      <a:pt x="196" y="1050"/>
                    </a:lnTo>
                    <a:lnTo>
                      <a:pt x="228" y="1094"/>
                    </a:lnTo>
                    <a:lnTo>
                      <a:pt x="261" y="1137"/>
                    </a:lnTo>
                    <a:lnTo>
                      <a:pt x="296" y="1178"/>
                    </a:lnTo>
                    <a:lnTo>
                      <a:pt x="333" y="1218"/>
                    </a:lnTo>
                    <a:lnTo>
                      <a:pt x="372" y="1257"/>
                    </a:lnTo>
                    <a:lnTo>
                      <a:pt x="411" y="1293"/>
                    </a:lnTo>
                    <a:lnTo>
                      <a:pt x="453" y="1328"/>
                    </a:lnTo>
                    <a:lnTo>
                      <a:pt x="496" y="1362"/>
                    </a:lnTo>
                    <a:lnTo>
                      <a:pt x="540" y="1393"/>
                    </a:lnTo>
                    <a:lnTo>
                      <a:pt x="585" y="1422"/>
                    </a:lnTo>
                    <a:lnTo>
                      <a:pt x="632" y="1451"/>
                    </a:lnTo>
                    <a:lnTo>
                      <a:pt x="681" y="1477"/>
                    </a:lnTo>
                    <a:lnTo>
                      <a:pt x="729" y="1500"/>
                    </a:lnTo>
                    <a:lnTo>
                      <a:pt x="780" y="1522"/>
                    </a:lnTo>
                    <a:lnTo>
                      <a:pt x="831" y="1542"/>
                    </a:lnTo>
                    <a:lnTo>
                      <a:pt x="884" y="1560"/>
                    </a:lnTo>
                    <a:lnTo>
                      <a:pt x="937" y="1576"/>
                    </a:lnTo>
                    <a:lnTo>
                      <a:pt x="992" y="1589"/>
                    </a:lnTo>
                    <a:lnTo>
                      <a:pt x="1048" y="1600"/>
                    </a:lnTo>
                    <a:lnTo>
                      <a:pt x="1103" y="1608"/>
                    </a:lnTo>
                    <a:lnTo>
                      <a:pt x="1160" y="1615"/>
                    </a:lnTo>
                    <a:lnTo>
                      <a:pt x="1218" y="1619"/>
                    </a:lnTo>
                    <a:lnTo>
                      <a:pt x="1276" y="1620"/>
                    </a:lnTo>
                    <a:lnTo>
                      <a:pt x="1343" y="1618"/>
                    </a:lnTo>
                    <a:lnTo>
                      <a:pt x="1410" y="1614"/>
                    </a:lnTo>
                    <a:lnTo>
                      <a:pt x="1475" y="1605"/>
                    </a:lnTo>
                    <a:lnTo>
                      <a:pt x="1540" y="1594"/>
                    </a:lnTo>
                    <a:lnTo>
                      <a:pt x="1603" y="1579"/>
                    </a:lnTo>
                    <a:lnTo>
                      <a:pt x="1665" y="1561"/>
                    </a:lnTo>
                    <a:lnTo>
                      <a:pt x="1726" y="1541"/>
                    </a:lnTo>
                    <a:lnTo>
                      <a:pt x="1785" y="1517"/>
                    </a:lnTo>
                    <a:lnTo>
                      <a:pt x="1842" y="1491"/>
                    </a:lnTo>
                    <a:lnTo>
                      <a:pt x="1899" y="1462"/>
                    </a:lnTo>
                    <a:lnTo>
                      <a:pt x="1954" y="1431"/>
                    </a:lnTo>
                    <a:lnTo>
                      <a:pt x="2007" y="1397"/>
                    </a:lnTo>
                    <a:lnTo>
                      <a:pt x="2058" y="1360"/>
                    </a:lnTo>
                    <a:lnTo>
                      <a:pt x="2107" y="1322"/>
                    </a:lnTo>
                    <a:lnTo>
                      <a:pt x="2156" y="1281"/>
                    </a:lnTo>
                    <a:lnTo>
                      <a:pt x="2201" y="1238"/>
                    </a:lnTo>
                    <a:lnTo>
                      <a:pt x="2244" y="1192"/>
                    </a:lnTo>
                    <a:lnTo>
                      <a:pt x="2285" y="1144"/>
                    </a:lnTo>
                    <a:lnTo>
                      <a:pt x="2324" y="1095"/>
                    </a:lnTo>
                    <a:lnTo>
                      <a:pt x="2361" y="1044"/>
                    </a:lnTo>
                    <a:lnTo>
                      <a:pt x="2394" y="991"/>
                    </a:lnTo>
                    <a:lnTo>
                      <a:pt x="2426" y="936"/>
                    </a:lnTo>
                    <a:lnTo>
                      <a:pt x="2454" y="880"/>
                    </a:lnTo>
                    <a:lnTo>
                      <a:pt x="2480" y="822"/>
                    </a:lnTo>
                    <a:lnTo>
                      <a:pt x="2505" y="763"/>
                    </a:lnTo>
                    <a:lnTo>
                      <a:pt x="2525" y="702"/>
                    </a:lnTo>
                    <a:lnTo>
                      <a:pt x="2542" y="640"/>
                    </a:lnTo>
                    <a:lnTo>
                      <a:pt x="2557" y="577"/>
                    </a:lnTo>
                    <a:lnTo>
                      <a:pt x="2569" y="513"/>
                    </a:lnTo>
                    <a:lnTo>
                      <a:pt x="2577" y="447"/>
                    </a:lnTo>
                    <a:lnTo>
                      <a:pt x="2581" y="381"/>
                    </a:lnTo>
                    <a:lnTo>
                      <a:pt x="2583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76720" y="2894040"/>
                <a:ext cx="798480" cy="503280"/>
              </a:xfrm>
              <a:custGeom>
                <a:avLst/>
                <a:gdLst/>
                <a:ahLst/>
                <a:rect l="l" t="t" r="r" b="b"/>
                <a:pathLst>
                  <a:path w="2519" h="1585">
                    <a:moveTo>
                      <a:pt x="2519" y="314"/>
                    </a:moveTo>
                    <a:lnTo>
                      <a:pt x="2519" y="274"/>
                    </a:lnTo>
                    <a:lnTo>
                      <a:pt x="2517" y="233"/>
                    </a:lnTo>
                    <a:lnTo>
                      <a:pt x="2513" y="193"/>
                    </a:lnTo>
                    <a:lnTo>
                      <a:pt x="2509" y="154"/>
                    </a:lnTo>
                    <a:lnTo>
                      <a:pt x="2504" y="115"/>
                    </a:lnTo>
                    <a:lnTo>
                      <a:pt x="2497" y="76"/>
                    </a:lnTo>
                    <a:lnTo>
                      <a:pt x="2489" y="37"/>
                    </a:lnTo>
                    <a:lnTo>
                      <a:pt x="2480" y="0"/>
                    </a:lnTo>
                    <a:lnTo>
                      <a:pt x="2437" y="0"/>
                    </a:lnTo>
                    <a:lnTo>
                      <a:pt x="2408" y="0"/>
                    </a:lnTo>
                    <a:lnTo>
                      <a:pt x="2418" y="37"/>
                    </a:lnTo>
                    <a:lnTo>
                      <a:pt x="2426" y="75"/>
                    </a:lnTo>
                    <a:lnTo>
                      <a:pt x="2434" y="114"/>
                    </a:lnTo>
                    <a:lnTo>
                      <a:pt x="2440" y="154"/>
                    </a:lnTo>
                    <a:lnTo>
                      <a:pt x="2444" y="193"/>
                    </a:lnTo>
                    <a:lnTo>
                      <a:pt x="2447" y="233"/>
                    </a:lnTo>
                    <a:lnTo>
                      <a:pt x="2449" y="274"/>
                    </a:lnTo>
                    <a:lnTo>
                      <a:pt x="2450" y="314"/>
                    </a:lnTo>
                    <a:lnTo>
                      <a:pt x="2448" y="376"/>
                    </a:lnTo>
                    <a:lnTo>
                      <a:pt x="2444" y="436"/>
                    </a:lnTo>
                    <a:lnTo>
                      <a:pt x="2437" y="497"/>
                    </a:lnTo>
                    <a:lnTo>
                      <a:pt x="2426" y="556"/>
                    </a:lnTo>
                    <a:lnTo>
                      <a:pt x="2413" y="615"/>
                    </a:lnTo>
                    <a:lnTo>
                      <a:pt x="2396" y="672"/>
                    </a:lnTo>
                    <a:lnTo>
                      <a:pt x="2377" y="727"/>
                    </a:lnTo>
                    <a:lnTo>
                      <a:pt x="2356" y="782"/>
                    </a:lnTo>
                    <a:lnTo>
                      <a:pt x="2332" y="835"/>
                    </a:lnTo>
                    <a:lnTo>
                      <a:pt x="2305" y="887"/>
                    </a:lnTo>
                    <a:lnTo>
                      <a:pt x="2276" y="937"/>
                    </a:lnTo>
                    <a:lnTo>
                      <a:pt x="2244" y="987"/>
                    </a:lnTo>
                    <a:lnTo>
                      <a:pt x="2211" y="1034"/>
                    </a:lnTo>
                    <a:lnTo>
                      <a:pt x="2175" y="1079"/>
                    </a:lnTo>
                    <a:lnTo>
                      <a:pt x="2137" y="1123"/>
                    </a:lnTo>
                    <a:lnTo>
                      <a:pt x="2097" y="1164"/>
                    </a:lnTo>
                    <a:lnTo>
                      <a:pt x="2055" y="1204"/>
                    </a:lnTo>
                    <a:lnTo>
                      <a:pt x="2012" y="1242"/>
                    </a:lnTo>
                    <a:lnTo>
                      <a:pt x="1967" y="1278"/>
                    </a:lnTo>
                    <a:lnTo>
                      <a:pt x="1920" y="1311"/>
                    </a:lnTo>
                    <a:lnTo>
                      <a:pt x="1870" y="1343"/>
                    </a:lnTo>
                    <a:lnTo>
                      <a:pt x="1820" y="1372"/>
                    </a:lnTo>
                    <a:lnTo>
                      <a:pt x="1768" y="1398"/>
                    </a:lnTo>
                    <a:lnTo>
                      <a:pt x="1715" y="1422"/>
                    </a:lnTo>
                    <a:lnTo>
                      <a:pt x="1660" y="1443"/>
                    </a:lnTo>
                    <a:lnTo>
                      <a:pt x="1604" y="1462"/>
                    </a:lnTo>
                    <a:lnTo>
                      <a:pt x="1547" y="1479"/>
                    </a:lnTo>
                    <a:lnTo>
                      <a:pt x="1489" y="1492"/>
                    </a:lnTo>
                    <a:lnTo>
                      <a:pt x="1430" y="1503"/>
                    </a:lnTo>
                    <a:lnTo>
                      <a:pt x="1370" y="1511"/>
                    </a:lnTo>
                    <a:lnTo>
                      <a:pt x="1308" y="1515"/>
                    </a:lnTo>
                    <a:lnTo>
                      <a:pt x="1246" y="1517"/>
                    </a:lnTo>
                    <a:lnTo>
                      <a:pt x="1191" y="1516"/>
                    </a:lnTo>
                    <a:lnTo>
                      <a:pt x="1136" y="1512"/>
                    </a:lnTo>
                    <a:lnTo>
                      <a:pt x="1082" y="1505"/>
                    </a:lnTo>
                    <a:lnTo>
                      <a:pt x="1029" y="1497"/>
                    </a:lnTo>
                    <a:lnTo>
                      <a:pt x="977" y="1486"/>
                    </a:lnTo>
                    <a:lnTo>
                      <a:pt x="925" y="1474"/>
                    </a:lnTo>
                    <a:lnTo>
                      <a:pt x="875" y="1458"/>
                    </a:lnTo>
                    <a:lnTo>
                      <a:pt x="824" y="1441"/>
                    </a:lnTo>
                    <a:lnTo>
                      <a:pt x="776" y="1421"/>
                    </a:lnTo>
                    <a:lnTo>
                      <a:pt x="729" y="1400"/>
                    </a:lnTo>
                    <a:lnTo>
                      <a:pt x="681" y="1376"/>
                    </a:lnTo>
                    <a:lnTo>
                      <a:pt x="636" y="1351"/>
                    </a:lnTo>
                    <a:lnTo>
                      <a:pt x="592" y="1324"/>
                    </a:lnTo>
                    <a:lnTo>
                      <a:pt x="550" y="1295"/>
                    </a:lnTo>
                    <a:lnTo>
                      <a:pt x="508" y="1264"/>
                    </a:lnTo>
                    <a:lnTo>
                      <a:pt x="468" y="1231"/>
                    </a:lnTo>
                    <a:lnTo>
                      <a:pt x="429" y="1198"/>
                    </a:lnTo>
                    <a:lnTo>
                      <a:pt x="392" y="1162"/>
                    </a:lnTo>
                    <a:lnTo>
                      <a:pt x="357" y="1124"/>
                    </a:lnTo>
                    <a:lnTo>
                      <a:pt x="323" y="1085"/>
                    </a:lnTo>
                    <a:lnTo>
                      <a:pt x="290" y="1045"/>
                    </a:lnTo>
                    <a:lnTo>
                      <a:pt x="260" y="1005"/>
                    </a:lnTo>
                    <a:lnTo>
                      <a:pt x="231" y="961"/>
                    </a:lnTo>
                    <a:lnTo>
                      <a:pt x="204" y="917"/>
                    </a:lnTo>
                    <a:lnTo>
                      <a:pt x="179" y="871"/>
                    </a:lnTo>
                    <a:lnTo>
                      <a:pt x="156" y="825"/>
                    </a:lnTo>
                    <a:lnTo>
                      <a:pt x="135" y="777"/>
                    </a:lnTo>
                    <a:lnTo>
                      <a:pt x="116" y="728"/>
                    </a:lnTo>
                    <a:lnTo>
                      <a:pt x="99" y="679"/>
                    </a:lnTo>
                    <a:lnTo>
                      <a:pt x="83" y="628"/>
                    </a:lnTo>
                    <a:lnTo>
                      <a:pt x="71" y="576"/>
                    </a:lnTo>
                    <a:lnTo>
                      <a:pt x="60" y="524"/>
                    </a:lnTo>
                    <a:lnTo>
                      <a:pt x="33" y="536"/>
                    </a:lnTo>
                    <a:lnTo>
                      <a:pt x="0" y="572"/>
                    </a:lnTo>
                    <a:lnTo>
                      <a:pt x="12" y="625"/>
                    </a:lnTo>
                    <a:lnTo>
                      <a:pt x="26" y="679"/>
                    </a:lnTo>
                    <a:lnTo>
                      <a:pt x="43" y="730"/>
                    </a:lnTo>
                    <a:lnTo>
                      <a:pt x="62" y="782"/>
                    </a:lnTo>
                    <a:lnTo>
                      <a:pt x="83" y="831"/>
                    </a:lnTo>
                    <a:lnTo>
                      <a:pt x="106" y="881"/>
                    </a:lnTo>
                    <a:lnTo>
                      <a:pt x="132" y="928"/>
                    </a:lnTo>
                    <a:lnTo>
                      <a:pt x="158" y="974"/>
                    </a:lnTo>
                    <a:lnTo>
                      <a:pt x="187" y="1019"/>
                    </a:lnTo>
                    <a:lnTo>
                      <a:pt x="218" y="1063"/>
                    </a:lnTo>
                    <a:lnTo>
                      <a:pt x="250" y="1105"/>
                    </a:lnTo>
                    <a:lnTo>
                      <a:pt x="284" y="1147"/>
                    </a:lnTo>
                    <a:lnTo>
                      <a:pt x="320" y="1186"/>
                    </a:lnTo>
                    <a:lnTo>
                      <a:pt x="358" y="1224"/>
                    </a:lnTo>
                    <a:lnTo>
                      <a:pt x="396" y="1261"/>
                    </a:lnTo>
                    <a:lnTo>
                      <a:pt x="437" y="1295"/>
                    </a:lnTo>
                    <a:lnTo>
                      <a:pt x="479" y="1329"/>
                    </a:lnTo>
                    <a:lnTo>
                      <a:pt x="523" y="1360"/>
                    </a:lnTo>
                    <a:lnTo>
                      <a:pt x="567" y="1390"/>
                    </a:lnTo>
                    <a:lnTo>
                      <a:pt x="613" y="1417"/>
                    </a:lnTo>
                    <a:lnTo>
                      <a:pt x="660" y="1443"/>
                    </a:lnTo>
                    <a:lnTo>
                      <a:pt x="709" y="1467"/>
                    </a:lnTo>
                    <a:lnTo>
                      <a:pt x="758" y="1489"/>
                    </a:lnTo>
                    <a:lnTo>
                      <a:pt x="808" y="1509"/>
                    </a:lnTo>
                    <a:lnTo>
                      <a:pt x="860" y="1526"/>
                    </a:lnTo>
                    <a:lnTo>
                      <a:pt x="914" y="1541"/>
                    </a:lnTo>
                    <a:lnTo>
                      <a:pt x="966" y="1555"/>
                    </a:lnTo>
                    <a:lnTo>
                      <a:pt x="1021" y="1565"/>
                    </a:lnTo>
                    <a:lnTo>
                      <a:pt x="1077" y="1575"/>
                    </a:lnTo>
                    <a:lnTo>
                      <a:pt x="1132" y="1580"/>
                    </a:lnTo>
                    <a:lnTo>
                      <a:pt x="1189" y="1584"/>
                    </a:lnTo>
                    <a:lnTo>
                      <a:pt x="1246" y="1585"/>
                    </a:lnTo>
                    <a:lnTo>
                      <a:pt x="1312" y="1584"/>
                    </a:lnTo>
                    <a:lnTo>
                      <a:pt x="1376" y="1579"/>
                    </a:lnTo>
                    <a:lnTo>
                      <a:pt x="1440" y="1570"/>
                    </a:lnTo>
                    <a:lnTo>
                      <a:pt x="1502" y="1560"/>
                    </a:lnTo>
                    <a:lnTo>
                      <a:pt x="1564" y="1545"/>
                    </a:lnTo>
                    <a:lnTo>
                      <a:pt x="1624" y="1528"/>
                    </a:lnTo>
                    <a:lnTo>
                      <a:pt x="1684" y="1509"/>
                    </a:lnTo>
                    <a:lnTo>
                      <a:pt x="1742" y="1485"/>
                    </a:lnTo>
                    <a:lnTo>
                      <a:pt x="1798" y="1460"/>
                    </a:lnTo>
                    <a:lnTo>
                      <a:pt x="1853" y="1432"/>
                    </a:lnTo>
                    <a:lnTo>
                      <a:pt x="1906" y="1401"/>
                    </a:lnTo>
                    <a:lnTo>
                      <a:pt x="1957" y="1368"/>
                    </a:lnTo>
                    <a:lnTo>
                      <a:pt x="2008" y="1333"/>
                    </a:lnTo>
                    <a:lnTo>
                      <a:pt x="2056" y="1295"/>
                    </a:lnTo>
                    <a:lnTo>
                      <a:pt x="2102" y="1255"/>
                    </a:lnTo>
                    <a:lnTo>
                      <a:pt x="2147" y="1213"/>
                    </a:lnTo>
                    <a:lnTo>
                      <a:pt x="2189" y="1169"/>
                    </a:lnTo>
                    <a:lnTo>
                      <a:pt x="2229" y="1123"/>
                    </a:lnTo>
                    <a:lnTo>
                      <a:pt x="2266" y="1075"/>
                    </a:lnTo>
                    <a:lnTo>
                      <a:pt x="2301" y="1024"/>
                    </a:lnTo>
                    <a:lnTo>
                      <a:pt x="2335" y="973"/>
                    </a:lnTo>
                    <a:lnTo>
                      <a:pt x="2365" y="921"/>
                    </a:lnTo>
                    <a:lnTo>
                      <a:pt x="2394" y="865"/>
                    </a:lnTo>
                    <a:lnTo>
                      <a:pt x="2419" y="809"/>
                    </a:lnTo>
                    <a:lnTo>
                      <a:pt x="2442" y="751"/>
                    </a:lnTo>
                    <a:lnTo>
                      <a:pt x="2462" y="692"/>
                    </a:lnTo>
                    <a:lnTo>
                      <a:pt x="2479" y="632"/>
                    </a:lnTo>
                    <a:lnTo>
                      <a:pt x="2493" y="570"/>
                    </a:lnTo>
                    <a:lnTo>
                      <a:pt x="2504" y="508"/>
                    </a:lnTo>
                    <a:lnTo>
                      <a:pt x="2512" y="444"/>
                    </a:lnTo>
                    <a:lnTo>
                      <a:pt x="2518" y="380"/>
                    </a:lnTo>
                    <a:lnTo>
                      <a:pt x="2519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84640" y="2894040"/>
                <a:ext cx="780840" cy="492120"/>
              </a:xfrm>
              <a:custGeom>
                <a:avLst/>
                <a:gdLst/>
                <a:ahLst/>
                <a:rect l="l" t="t" r="r" b="b"/>
                <a:pathLst>
                  <a:path w="2456" h="1551">
                    <a:moveTo>
                      <a:pt x="2456" y="314"/>
                    </a:moveTo>
                    <a:lnTo>
                      <a:pt x="2455" y="274"/>
                    </a:lnTo>
                    <a:lnTo>
                      <a:pt x="2453" y="233"/>
                    </a:lnTo>
                    <a:lnTo>
                      <a:pt x="2450" y="193"/>
                    </a:lnTo>
                    <a:lnTo>
                      <a:pt x="2446" y="154"/>
                    </a:lnTo>
                    <a:lnTo>
                      <a:pt x="2439" y="114"/>
                    </a:lnTo>
                    <a:lnTo>
                      <a:pt x="2433" y="76"/>
                    </a:lnTo>
                    <a:lnTo>
                      <a:pt x="2425" y="37"/>
                    </a:lnTo>
                    <a:lnTo>
                      <a:pt x="2415" y="0"/>
                    </a:lnTo>
                    <a:lnTo>
                      <a:pt x="2408" y="0"/>
                    </a:lnTo>
                    <a:lnTo>
                      <a:pt x="2351" y="0"/>
                    </a:lnTo>
                    <a:lnTo>
                      <a:pt x="2344" y="0"/>
                    </a:lnTo>
                    <a:lnTo>
                      <a:pt x="2354" y="37"/>
                    </a:lnTo>
                    <a:lnTo>
                      <a:pt x="2363" y="75"/>
                    </a:lnTo>
                    <a:lnTo>
                      <a:pt x="2370" y="114"/>
                    </a:lnTo>
                    <a:lnTo>
                      <a:pt x="2376" y="153"/>
                    </a:lnTo>
                    <a:lnTo>
                      <a:pt x="2380" y="193"/>
                    </a:lnTo>
                    <a:lnTo>
                      <a:pt x="2384" y="233"/>
                    </a:lnTo>
                    <a:lnTo>
                      <a:pt x="2386" y="274"/>
                    </a:lnTo>
                    <a:lnTo>
                      <a:pt x="2387" y="314"/>
                    </a:lnTo>
                    <a:lnTo>
                      <a:pt x="2386" y="375"/>
                    </a:lnTo>
                    <a:lnTo>
                      <a:pt x="2380" y="433"/>
                    </a:lnTo>
                    <a:lnTo>
                      <a:pt x="2373" y="492"/>
                    </a:lnTo>
                    <a:lnTo>
                      <a:pt x="2363" y="550"/>
                    </a:lnTo>
                    <a:lnTo>
                      <a:pt x="2350" y="606"/>
                    </a:lnTo>
                    <a:lnTo>
                      <a:pt x="2334" y="661"/>
                    </a:lnTo>
                    <a:lnTo>
                      <a:pt x="2316" y="716"/>
                    </a:lnTo>
                    <a:lnTo>
                      <a:pt x="2295" y="768"/>
                    </a:lnTo>
                    <a:lnTo>
                      <a:pt x="2271" y="821"/>
                    </a:lnTo>
                    <a:lnTo>
                      <a:pt x="2246" y="871"/>
                    </a:lnTo>
                    <a:lnTo>
                      <a:pt x="2217" y="919"/>
                    </a:lnTo>
                    <a:lnTo>
                      <a:pt x="2187" y="967"/>
                    </a:lnTo>
                    <a:lnTo>
                      <a:pt x="2154" y="1013"/>
                    </a:lnTo>
                    <a:lnTo>
                      <a:pt x="2120" y="1057"/>
                    </a:lnTo>
                    <a:lnTo>
                      <a:pt x="2083" y="1100"/>
                    </a:lnTo>
                    <a:lnTo>
                      <a:pt x="2044" y="1140"/>
                    </a:lnTo>
                    <a:lnTo>
                      <a:pt x="2003" y="1179"/>
                    </a:lnTo>
                    <a:lnTo>
                      <a:pt x="1961" y="1216"/>
                    </a:lnTo>
                    <a:lnTo>
                      <a:pt x="1917" y="1250"/>
                    </a:lnTo>
                    <a:lnTo>
                      <a:pt x="1871" y="1283"/>
                    </a:lnTo>
                    <a:lnTo>
                      <a:pt x="1823" y="1313"/>
                    </a:lnTo>
                    <a:lnTo>
                      <a:pt x="1775" y="1342"/>
                    </a:lnTo>
                    <a:lnTo>
                      <a:pt x="1724" y="1367"/>
                    </a:lnTo>
                    <a:lnTo>
                      <a:pt x="1672" y="1391"/>
                    </a:lnTo>
                    <a:lnTo>
                      <a:pt x="1619" y="1412"/>
                    </a:lnTo>
                    <a:lnTo>
                      <a:pt x="1565" y="1430"/>
                    </a:lnTo>
                    <a:lnTo>
                      <a:pt x="1509" y="1446"/>
                    </a:lnTo>
                    <a:lnTo>
                      <a:pt x="1453" y="1458"/>
                    </a:lnTo>
                    <a:lnTo>
                      <a:pt x="1395" y="1469"/>
                    </a:lnTo>
                    <a:lnTo>
                      <a:pt x="1337" y="1476"/>
                    </a:lnTo>
                    <a:lnTo>
                      <a:pt x="1278" y="1481"/>
                    </a:lnTo>
                    <a:lnTo>
                      <a:pt x="1217" y="1482"/>
                    </a:lnTo>
                    <a:lnTo>
                      <a:pt x="1163" y="1481"/>
                    </a:lnTo>
                    <a:lnTo>
                      <a:pt x="1110" y="1477"/>
                    </a:lnTo>
                    <a:lnTo>
                      <a:pt x="1057" y="1472"/>
                    </a:lnTo>
                    <a:lnTo>
                      <a:pt x="1004" y="1463"/>
                    </a:lnTo>
                    <a:lnTo>
                      <a:pt x="954" y="1453"/>
                    </a:lnTo>
                    <a:lnTo>
                      <a:pt x="904" y="1439"/>
                    </a:lnTo>
                    <a:lnTo>
                      <a:pt x="854" y="1425"/>
                    </a:lnTo>
                    <a:lnTo>
                      <a:pt x="805" y="1408"/>
                    </a:lnTo>
                    <a:lnTo>
                      <a:pt x="757" y="1389"/>
                    </a:lnTo>
                    <a:lnTo>
                      <a:pt x="711" y="1368"/>
                    </a:lnTo>
                    <a:lnTo>
                      <a:pt x="666" y="1345"/>
                    </a:lnTo>
                    <a:lnTo>
                      <a:pt x="622" y="1320"/>
                    </a:lnTo>
                    <a:lnTo>
                      <a:pt x="579" y="1293"/>
                    </a:lnTo>
                    <a:lnTo>
                      <a:pt x="537" y="1265"/>
                    </a:lnTo>
                    <a:lnTo>
                      <a:pt x="497" y="1234"/>
                    </a:lnTo>
                    <a:lnTo>
                      <a:pt x="458" y="1202"/>
                    </a:lnTo>
                    <a:lnTo>
                      <a:pt x="420" y="1168"/>
                    </a:lnTo>
                    <a:lnTo>
                      <a:pt x="383" y="1134"/>
                    </a:lnTo>
                    <a:lnTo>
                      <a:pt x="350" y="1097"/>
                    </a:lnTo>
                    <a:lnTo>
                      <a:pt x="316" y="1059"/>
                    </a:lnTo>
                    <a:lnTo>
                      <a:pt x="284" y="1019"/>
                    </a:lnTo>
                    <a:lnTo>
                      <a:pt x="255" y="978"/>
                    </a:lnTo>
                    <a:lnTo>
                      <a:pt x="228" y="936"/>
                    </a:lnTo>
                    <a:lnTo>
                      <a:pt x="201" y="893"/>
                    </a:lnTo>
                    <a:lnTo>
                      <a:pt x="177" y="848"/>
                    </a:lnTo>
                    <a:lnTo>
                      <a:pt x="154" y="803"/>
                    </a:lnTo>
                    <a:lnTo>
                      <a:pt x="134" y="756"/>
                    </a:lnTo>
                    <a:lnTo>
                      <a:pt x="116" y="707"/>
                    </a:lnTo>
                    <a:lnTo>
                      <a:pt x="99" y="659"/>
                    </a:lnTo>
                    <a:lnTo>
                      <a:pt x="86" y="610"/>
                    </a:lnTo>
                    <a:lnTo>
                      <a:pt x="73" y="558"/>
                    </a:lnTo>
                    <a:lnTo>
                      <a:pt x="64" y="507"/>
                    </a:lnTo>
                    <a:lnTo>
                      <a:pt x="62" y="510"/>
                    </a:lnTo>
                    <a:lnTo>
                      <a:pt x="4" y="536"/>
                    </a:lnTo>
                    <a:lnTo>
                      <a:pt x="0" y="541"/>
                    </a:lnTo>
                    <a:lnTo>
                      <a:pt x="11" y="595"/>
                    </a:lnTo>
                    <a:lnTo>
                      <a:pt x="25" y="648"/>
                    </a:lnTo>
                    <a:lnTo>
                      <a:pt x="40" y="699"/>
                    </a:lnTo>
                    <a:lnTo>
                      <a:pt x="57" y="749"/>
                    </a:lnTo>
                    <a:lnTo>
                      <a:pt x="77" y="800"/>
                    </a:lnTo>
                    <a:lnTo>
                      <a:pt x="99" y="848"/>
                    </a:lnTo>
                    <a:lnTo>
                      <a:pt x="124" y="895"/>
                    </a:lnTo>
                    <a:lnTo>
                      <a:pt x="150" y="942"/>
                    </a:lnTo>
                    <a:lnTo>
                      <a:pt x="177" y="987"/>
                    </a:lnTo>
                    <a:lnTo>
                      <a:pt x="208" y="1030"/>
                    </a:lnTo>
                    <a:lnTo>
                      <a:pt x="239" y="1073"/>
                    </a:lnTo>
                    <a:lnTo>
                      <a:pt x="272" y="1114"/>
                    </a:lnTo>
                    <a:lnTo>
                      <a:pt x="306" y="1153"/>
                    </a:lnTo>
                    <a:lnTo>
                      <a:pt x="343" y="1190"/>
                    </a:lnTo>
                    <a:lnTo>
                      <a:pt x="381" y="1227"/>
                    </a:lnTo>
                    <a:lnTo>
                      <a:pt x="421" y="1262"/>
                    </a:lnTo>
                    <a:lnTo>
                      <a:pt x="462" y="1294"/>
                    </a:lnTo>
                    <a:lnTo>
                      <a:pt x="505" y="1326"/>
                    </a:lnTo>
                    <a:lnTo>
                      <a:pt x="548" y="1355"/>
                    </a:lnTo>
                    <a:lnTo>
                      <a:pt x="593" y="1384"/>
                    </a:lnTo>
                    <a:lnTo>
                      <a:pt x="640" y="1409"/>
                    </a:lnTo>
                    <a:lnTo>
                      <a:pt x="688" y="1433"/>
                    </a:lnTo>
                    <a:lnTo>
                      <a:pt x="736" y="1454"/>
                    </a:lnTo>
                    <a:lnTo>
                      <a:pt x="786" y="1474"/>
                    </a:lnTo>
                    <a:lnTo>
                      <a:pt x="837" y="1492"/>
                    </a:lnTo>
                    <a:lnTo>
                      <a:pt x="889" y="1507"/>
                    </a:lnTo>
                    <a:lnTo>
                      <a:pt x="941" y="1520"/>
                    </a:lnTo>
                    <a:lnTo>
                      <a:pt x="995" y="1532"/>
                    </a:lnTo>
                    <a:lnTo>
                      <a:pt x="1050" y="1540"/>
                    </a:lnTo>
                    <a:lnTo>
                      <a:pt x="1104" y="1546"/>
                    </a:lnTo>
                    <a:lnTo>
                      <a:pt x="1161" y="1549"/>
                    </a:lnTo>
                    <a:lnTo>
                      <a:pt x="1217" y="1551"/>
                    </a:lnTo>
                    <a:lnTo>
                      <a:pt x="1281" y="1549"/>
                    </a:lnTo>
                    <a:lnTo>
                      <a:pt x="1344" y="1544"/>
                    </a:lnTo>
                    <a:lnTo>
                      <a:pt x="1406" y="1537"/>
                    </a:lnTo>
                    <a:lnTo>
                      <a:pt x="1467" y="1526"/>
                    </a:lnTo>
                    <a:lnTo>
                      <a:pt x="1527" y="1512"/>
                    </a:lnTo>
                    <a:lnTo>
                      <a:pt x="1586" y="1496"/>
                    </a:lnTo>
                    <a:lnTo>
                      <a:pt x="1642" y="1476"/>
                    </a:lnTo>
                    <a:lnTo>
                      <a:pt x="1699" y="1454"/>
                    </a:lnTo>
                    <a:lnTo>
                      <a:pt x="1754" y="1429"/>
                    </a:lnTo>
                    <a:lnTo>
                      <a:pt x="1808" y="1401"/>
                    </a:lnTo>
                    <a:lnTo>
                      <a:pt x="1859" y="1372"/>
                    </a:lnTo>
                    <a:lnTo>
                      <a:pt x="1909" y="1339"/>
                    </a:lnTo>
                    <a:lnTo>
                      <a:pt x="1958" y="1306"/>
                    </a:lnTo>
                    <a:lnTo>
                      <a:pt x="2005" y="1269"/>
                    </a:lnTo>
                    <a:lnTo>
                      <a:pt x="2049" y="1229"/>
                    </a:lnTo>
                    <a:lnTo>
                      <a:pt x="2092" y="1188"/>
                    </a:lnTo>
                    <a:lnTo>
                      <a:pt x="2133" y="1146"/>
                    </a:lnTo>
                    <a:lnTo>
                      <a:pt x="2172" y="1101"/>
                    </a:lnTo>
                    <a:lnTo>
                      <a:pt x="2209" y="1054"/>
                    </a:lnTo>
                    <a:lnTo>
                      <a:pt x="2244" y="1006"/>
                    </a:lnTo>
                    <a:lnTo>
                      <a:pt x="2276" y="955"/>
                    </a:lnTo>
                    <a:lnTo>
                      <a:pt x="2306" y="904"/>
                    </a:lnTo>
                    <a:lnTo>
                      <a:pt x="2333" y="850"/>
                    </a:lnTo>
                    <a:lnTo>
                      <a:pt x="2358" y="796"/>
                    </a:lnTo>
                    <a:lnTo>
                      <a:pt x="2380" y="739"/>
                    </a:lnTo>
                    <a:lnTo>
                      <a:pt x="2400" y="682"/>
                    </a:lnTo>
                    <a:lnTo>
                      <a:pt x="2416" y="623"/>
                    </a:lnTo>
                    <a:lnTo>
                      <a:pt x="2431" y="564"/>
                    </a:lnTo>
                    <a:lnTo>
                      <a:pt x="2441" y="503"/>
                    </a:lnTo>
                    <a:lnTo>
                      <a:pt x="2449" y="441"/>
                    </a:lnTo>
                    <a:lnTo>
                      <a:pt x="2454" y="378"/>
                    </a:lnTo>
                    <a:lnTo>
                      <a:pt x="2456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295800" y="2894040"/>
                <a:ext cx="758520" cy="480960"/>
              </a:xfrm>
              <a:custGeom>
                <a:avLst/>
                <a:gdLst/>
                <a:ahLst/>
                <a:rect l="l" t="t" r="r" b="b"/>
                <a:pathLst>
                  <a:path w="2390" h="1517">
                    <a:moveTo>
                      <a:pt x="2390" y="314"/>
                    </a:moveTo>
                    <a:lnTo>
                      <a:pt x="2389" y="274"/>
                    </a:lnTo>
                    <a:lnTo>
                      <a:pt x="2387" y="233"/>
                    </a:lnTo>
                    <a:lnTo>
                      <a:pt x="2384" y="193"/>
                    </a:lnTo>
                    <a:lnTo>
                      <a:pt x="2380" y="154"/>
                    </a:lnTo>
                    <a:lnTo>
                      <a:pt x="2374" y="114"/>
                    </a:lnTo>
                    <a:lnTo>
                      <a:pt x="2366" y="75"/>
                    </a:lnTo>
                    <a:lnTo>
                      <a:pt x="2358" y="37"/>
                    </a:lnTo>
                    <a:lnTo>
                      <a:pt x="2348" y="0"/>
                    </a:lnTo>
                    <a:lnTo>
                      <a:pt x="2320" y="0"/>
                    </a:lnTo>
                    <a:lnTo>
                      <a:pt x="2277" y="0"/>
                    </a:lnTo>
                    <a:lnTo>
                      <a:pt x="2287" y="37"/>
                    </a:lnTo>
                    <a:lnTo>
                      <a:pt x="2296" y="75"/>
                    </a:lnTo>
                    <a:lnTo>
                      <a:pt x="2304" y="114"/>
                    </a:lnTo>
                    <a:lnTo>
                      <a:pt x="2310" y="153"/>
                    </a:lnTo>
                    <a:lnTo>
                      <a:pt x="2315" y="193"/>
                    </a:lnTo>
                    <a:lnTo>
                      <a:pt x="2319" y="233"/>
                    </a:lnTo>
                    <a:lnTo>
                      <a:pt x="2321" y="274"/>
                    </a:lnTo>
                    <a:lnTo>
                      <a:pt x="2321" y="314"/>
                    </a:lnTo>
                    <a:lnTo>
                      <a:pt x="2320" y="372"/>
                    </a:lnTo>
                    <a:lnTo>
                      <a:pt x="2316" y="430"/>
                    </a:lnTo>
                    <a:lnTo>
                      <a:pt x="2308" y="487"/>
                    </a:lnTo>
                    <a:lnTo>
                      <a:pt x="2298" y="543"/>
                    </a:lnTo>
                    <a:lnTo>
                      <a:pt x="2285" y="597"/>
                    </a:lnTo>
                    <a:lnTo>
                      <a:pt x="2271" y="651"/>
                    </a:lnTo>
                    <a:lnTo>
                      <a:pt x="2253" y="704"/>
                    </a:lnTo>
                    <a:lnTo>
                      <a:pt x="2233" y="756"/>
                    </a:lnTo>
                    <a:lnTo>
                      <a:pt x="2210" y="806"/>
                    </a:lnTo>
                    <a:lnTo>
                      <a:pt x="2184" y="854"/>
                    </a:lnTo>
                    <a:lnTo>
                      <a:pt x="2157" y="902"/>
                    </a:lnTo>
                    <a:lnTo>
                      <a:pt x="2128" y="948"/>
                    </a:lnTo>
                    <a:lnTo>
                      <a:pt x="2096" y="992"/>
                    </a:lnTo>
                    <a:lnTo>
                      <a:pt x="2062" y="1035"/>
                    </a:lnTo>
                    <a:lnTo>
                      <a:pt x="2027" y="1077"/>
                    </a:lnTo>
                    <a:lnTo>
                      <a:pt x="1989" y="1116"/>
                    </a:lnTo>
                    <a:lnTo>
                      <a:pt x="1949" y="1154"/>
                    </a:lnTo>
                    <a:lnTo>
                      <a:pt x="1908" y="1189"/>
                    </a:lnTo>
                    <a:lnTo>
                      <a:pt x="1865" y="1223"/>
                    </a:lnTo>
                    <a:lnTo>
                      <a:pt x="1821" y="1254"/>
                    </a:lnTo>
                    <a:lnTo>
                      <a:pt x="1774" y="1284"/>
                    </a:lnTo>
                    <a:lnTo>
                      <a:pt x="1727" y="1311"/>
                    </a:lnTo>
                    <a:lnTo>
                      <a:pt x="1679" y="1336"/>
                    </a:lnTo>
                    <a:lnTo>
                      <a:pt x="1628" y="1358"/>
                    </a:lnTo>
                    <a:lnTo>
                      <a:pt x="1577" y="1379"/>
                    </a:lnTo>
                    <a:lnTo>
                      <a:pt x="1523" y="1397"/>
                    </a:lnTo>
                    <a:lnTo>
                      <a:pt x="1470" y="1412"/>
                    </a:lnTo>
                    <a:lnTo>
                      <a:pt x="1415" y="1425"/>
                    </a:lnTo>
                    <a:lnTo>
                      <a:pt x="1359" y="1435"/>
                    </a:lnTo>
                    <a:lnTo>
                      <a:pt x="1302" y="1442"/>
                    </a:lnTo>
                    <a:lnTo>
                      <a:pt x="1245" y="1447"/>
                    </a:lnTo>
                    <a:lnTo>
                      <a:pt x="1186" y="1448"/>
                    </a:lnTo>
                    <a:lnTo>
                      <a:pt x="1133" y="1447"/>
                    </a:lnTo>
                    <a:lnTo>
                      <a:pt x="1081" y="1443"/>
                    </a:lnTo>
                    <a:lnTo>
                      <a:pt x="1028" y="1437"/>
                    </a:lnTo>
                    <a:lnTo>
                      <a:pt x="977" y="1429"/>
                    </a:lnTo>
                    <a:lnTo>
                      <a:pt x="926" y="1418"/>
                    </a:lnTo>
                    <a:lnTo>
                      <a:pt x="877" y="1406"/>
                    </a:lnTo>
                    <a:lnTo>
                      <a:pt x="828" y="1391"/>
                    </a:lnTo>
                    <a:lnTo>
                      <a:pt x="781" y="1373"/>
                    </a:lnTo>
                    <a:lnTo>
                      <a:pt x="734" y="1354"/>
                    </a:lnTo>
                    <a:lnTo>
                      <a:pt x="689" y="1333"/>
                    </a:lnTo>
                    <a:lnTo>
                      <a:pt x="643" y="1310"/>
                    </a:lnTo>
                    <a:lnTo>
                      <a:pt x="600" y="1286"/>
                    </a:lnTo>
                    <a:lnTo>
                      <a:pt x="558" y="1259"/>
                    </a:lnTo>
                    <a:lnTo>
                      <a:pt x="517" y="1230"/>
                    </a:lnTo>
                    <a:lnTo>
                      <a:pt x="478" y="1200"/>
                    </a:lnTo>
                    <a:lnTo>
                      <a:pt x="439" y="1168"/>
                    </a:lnTo>
                    <a:lnTo>
                      <a:pt x="403" y="1135"/>
                    </a:lnTo>
                    <a:lnTo>
                      <a:pt x="368" y="1100"/>
                    </a:lnTo>
                    <a:lnTo>
                      <a:pt x="334" y="1063"/>
                    </a:lnTo>
                    <a:lnTo>
                      <a:pt x="302" y="1026"/>
                    </a:lnTo>
                    <a:lnTo>
                      <a:pt x="272" y="986"/>
                    </a:lnTo>
                    <a:lnTo>
                      <a:pt x="243" y="946"/>
                    </a:lnTo>
                    <a:lnTo>
                      <a:pt x="217" y="904"/>
                    </a:lnTo>
                    <a:lnTo>
                      <a:pt x="191" y="861"/>
                    </a:lnTo>
                    <a:lnTo>
                      <a:pt x="168" y="816"/>
                    </a:lnTo>
                    <a:lnTo>
                      <a:pt x="147" y="770"/>
                    </a:lnTo>
                    <a:lnTo>
                      <a:pt x="127" y="724"/>
                    </a:lnTo>
                    <a:lnTo>
                      <a:pt x="110" y="676"/>
                    </a:lnTo>
                    <a:lnTo>
                      <a:pt x="95" y="628"/>
                    </a:lnTo>
                    <a:lnTo>
                      <a:pt x="82" y="578"/>
                    </a:lnTo>
                    <a:lnTo>
                      <a:pt x="72" y="528"/>
                    </a:lnTo>
                    <a:lnTo>
                      <a:pt x="63" y="476"/>
                    </a:lnTo>
                    <a:lnTo>
                      <a:pt x="60" y="480"/>
                    </a:lnTo>
                    <a:lnTo>
                      <a:pt x="31" y="510"/>
                    </a:lnTo>
                    <a:lnTo>
                      <a:pt x="0" y="524"/>
                    </a:lnTo>
                    <a:lnTo>
                      <a:pt x="11" y="576"/>
                    </a:lnTo>
                    <a:lnTo>
                      <a:pt x="23" y="628"/>
                    </a:lnTo>
                    <a:lnTo>
                      <a:pt x="39" y="679"/>
                    </a:lnTo>
                    <a:lnTo>
                      <a:pt x="56" y="728"/>
                    </a:lnTo>
                    <a:lnTo>
                      <a:pt x="75" y="777"/>
                    </a:lnTo>
                    <a:lnTo>
                      <a:pt x="96" y="825"/>
                    </a:lnTo>
                    <a:lnTo>
                      <a:pt x="119" y="871"/>
                    </a:lnTo>
                    <a:lnTo>
                      <a:pt x="144" y="917"/>
                    </a:lnTo>
                    <a:lnTo>
                      <a:pt x="171" y="961"/>
                    </a:lnTo>
                    <a:lnTo>
                      <a:pt x="200" y="1005"/>
                    </a:lnTo>
                    <a:lnTo>
                      <a:pt x="230" y="1045"/>
                    </a:lnTo>
                    <a:lnTo>
                      <a:pt x="263" y="1085"/>
                    </a:lnTo>
                    <a:lnTo>
                      <a:pt x="297" y="1124"/>
                    </a:lnTo>
                    <a:lnTo>
                      <a:pt x="332" y="1162"/>
                    </a:lnTo>
                    <a:lnTo>
                      <a:pt x="369" y="1198"/>
                    </a:lnTo>
                    <a:lnTo>
                      <a:pt x="408" y="1231"/>
                    </a:lnTo>
                    <a:lnTo>
                      <a:pt x="448" y="1264"/>
                    </a:lnTo>
                    <a:lnTo>
                      <a:pt x="490" y="1295"/>
                    </a:lnTo>
                    <a:lnTo>
                      <a:pt x="532" y="1324"/>
                    </a:lnTo>
                    <a:lnTo>
                      <a:pt x="576" y="1351"/>
                    </a:lnTo>
                    <a:lnTo>
                      <a:pt x="621" y="1376"/>
                    </a:lnTo>
                    <a:lnTo>
                      <a:pt x="669" y="1400"/>
                    </a:lnTo>
                    <a:lnTo>
                      <a:pt x="716" y="1421"/>
                    </a:lnTo>
                    <a:lnTo>
                      <a:pt x="764" y="1441"/>
                    </a:lnTo>
                    <a:lnTo>
                      <a:pt x="815" y="1458"/>
                    </a:lnTo>
                    <a:lnTo>
                      <a:pt x="865" y="1474"/>
                    </a:lnTo>
                    <a:lnTo>
                      <a:pt x="917" y="1486"/>
                    </a:lnTo>
                    <a:lnTo>
                      <a:pt x="969" y="1497"/>
                    </a:lnTo>
                    <a:lnTo>
                      <a:pt x="1022" y="1505"/>
                    </a:lnTo>
                    <a:lnTo>
                      <a:pt x="1076" y="1512"/>
                    </a:lnTo>
                    <a:lnTo>
                      <a:pt x="1131" y="1516"/>
                    </a:lnTo>
                    <a:lnTo>
                      <a:pt x="1186" y="1517"/>
                    </a:lnTo>
                    <a:lnTo>
                      <a:pt x="1248" y="1515"/>
                    </a:lnTo>
                    <a:lnTo>
                      <a:pt x="1310" y="1511"/>
                    </a:lnTo>
                    <a:lnTo>
                      <a:pt x="1370" y="1503"/>
                    </a:lnTo>
                    <a:lnTo>
                      <a:pt x="1429" y="1492"/>
                    </a:lnTo>
                    <a:lnTo>
                      <a:pt x="1487" y="1479"/>
                    </a:lnTo>
                    <a:lnTo>
                      <a:pt x="1544" y="1462"/>
                    </a:lnTo>
                    <a:lnTo>
                      <a:pt x="1600" y="1443"/>
                    </a:lnTo>
                    <a:lnTo>
                      <a:pt x="1655" y="1422"/>
                    </a:lnTo>
                    <a:lnTo>
                      <a:pt x="1708" y="1398"/>
                    </a:lnTo>
                    <a:lnTo>
                      <a:pt x="1760" y="1372"/>
                    </a:lnTo>
                    <a:lnTo>
                      <a:pt x="1810" y="1343"/>
                    </a:lnTo>
                    <a:lnTo>
                      <a:pt x="1860" y="1311"/>
                    </a:lnTo>
                    <a:lnTo>
                      <a:pt x="1907" y="1278"/>
                    </a:lnTo>
                    <a:lnTo>
                      <a:pt x="1952" y="1242"/>
                    </a:lnTo>
                    <a:lnTo>
                      <a:pt x="1995" y="1204"/>
                    </a:lnTo>
                    <a:lnTo>
                      <a:pt x="2037" y="1164"/>
                    </a:lnTo>
                    <a:lnTo>
                      <a:pt x="2077" y="1123"/>
                    </a:lnTo>
                    <a:lnTo>
                      <a:pt x="2115" y="1079"/>
                    </a:lnTo>
                    <a:lnTo>
                      <a:pt x="2151" y="1034"/>
                    </a:lnTo>
                    <a:lnTo>
                      <a:pt x="2184" y="987"/>
                    </a:lnTo>
                    <a:lnTo>
                      <a:pt x="2216" y="937"/>
                    </a:lnTo>
                    <a:lnTo>
                      <a:pt x="2245" y="887"/>
                    </a:lnTo>
                    <a:lnTo>
                      <a:pt x="2272" y="835"/>
                    </a:lnTo>
                    <a:lnTo>
                      <a:pt x="2296" y="782"/>
                    </a:lnTo>
                    <a:lnTo>
                      <a:pt x="2317" y="727"/>
                    </a:lnTo>
                    <a:lnTo>
                      <a:pt x="2336" y="672"/>
                    </a:lnTo>
                    <a:lnTo>
                      <a:pt x="2353" y="615"/>
                    </a:lnTo>
                    <a:lnTo>
                      <a:pt x="2366" y="556"/>
                    </a:lnTo>
                    <a:lnTo>
                      <a:pt x="2377" y="497"/>
                    </a:lnTo>
                    <a:lnTo>
                      <a:pt x="2384" y="436"/>
                    </a:lnTo>
                    <a:lnTo>
                      <a:pt x="2388" y="376"/>
                    </a:lnTo>
                    <a:lnTo>
                      <a:pt x="2390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305160" y="2894040"/>
                <a:ext cx="738360" cy="469800"/>
              </a:xfrm>
              <a:custGeom>
                <a:avLst/>
                <a:gdLst/>
                <a:ahLst/>
                <a:rect l="l" t="t" r="r" b="b"/>
                <a:pathLst>
                  <a:path w="2323" h="1482">
                    <a:moveTo>
                      <a:pt x="2323" y="314"/>
                    </a:moveTo>
                    <a:lnTo>
                      <a:pt x="2322" y="274"/>
                    </a:lnTo>
                    <a:lnTo>
                      <a:pt x="2320" y="233"/>
                    </a:lnTo>
                    <a:lnTo>
                      <a:pt x="2316" y="193"/>
                    </a:lnTo>
                    <a:lnTo>
                      <a:pt x="2312" y="153"/>
                    </a:lnTo>
                    <a:lnTo>
                      <a:pt x="2306" y="114"/>
                    </a:lnTo>
                    <a:lnTo>
                      <a:pt x="2299" y="75"/>
                    </a:lnTo>
                    <a:lnTo>
                      <a:pt x="2290" y="37"/>
                    </a:lnTo>
                    <a:lnTo>
                      <a:pt x="2280" y="0"/>
                    </a:lnTo>
                    <a:lnTo>
                      <a:pt x="2232" y="0"/>
                    </a:lnTo>
                    <a:lnTo>
                      <a:pt x="2208" y="0"/>
                    </a:lnTo>
                    <a:lnTo>
                      <a:pt x="2219" y="37"/>
                    </a:lnTo>
                    <a:lnTo>
                      <a:pt x="2228" y="75"/>
                    </a:lnTo>
                    <a:lnTo>
                      <a:pt x="2235" y="114"/>
                    </a:lnTo>
                    <a:lnTo>
                      <a:pt x="2243" y="153"/>
                    </a:lnTo>
                    <a:lnTo>
                      <a:pt x="2247" y="193"/>
                    </a:lnTo>
                    <a:lnTo>
                      <a:pt x="2251" y="233"/>
                    </a:lnTo>
                    <a:lnTo>
                      <a:pt x="2253" y="273"/>
                    </a:lnTo>
                    <a:lnTo>
                      <a:pt x="2254" y="314"/>
                    </a:lnTo>
                    <a:lnTo>
                      <a:pt x="2252" y="370"/>
                    </a:lnTo>
                    <a:lnTo>
                      <a:pt x="2248" y="426"/>
                    </a:lnTo>
                    <a:lnTo>
                      <a:pt x="2242" y="482"/>
                    </a:lnTo>
                    <a:lnTo>
                      <a:pt x="2231" y="535"/>
                    </a:lnTo>
                    <a:lnTo>
                      <a:pt x="2220" y="589"/>
                    </a:lnTo>
                    <a:lnTo>
                      <a:pt x="2205" y="641"/>
                    </a:lnTo>
                    <a:lnTo>
                      <a:pt x="2187" y="692"/>
                    </a:lnTo>
                    <a:lnTo>
                      <a:pt x="2167" y="742"/>
                    </a:lnTo>
                    <a:lnTo>
                      <a:pt x="2145" y="790"/>
                    </a:lnTo>
                    <a:lnTo>
                      <a:pt x="2121" y="839"/>
                    </a:lnTo>
                    <a:lnTo>
                      <a:pt x="2095" y="884"/>
                    </a:lnTo>
                    <a:lnTo>
                      <a:pt x="2066" y="929"/>
                    </a:lnTo>
                    <a:lnTo>
                      <a:pt x="2036" y="972"/>
                    </a:lnTo>
                    <a:lnTo>
                      <a:pt x="2002" y="1013"/>
                    </a:lnTo>
                    <a:lnTo>
                      <a:pt x="1968" y="1053"/>
                    </a:lnTo>
                    <a:lnTo>
                      <a:pt x="1932" y="1092"/>
                    </a:lnTo>
                    <a:lnTo>
                      <a:pt x="1894" y="1128"/>
                    </a:lnTo>
                    <a:lnTo>
                      <a:pt x="1854" y="1162"/>
                    </a:lnTo>
                    <a:lnTo>
                      <a:pt x="1812" y="1196"/>
                    </a:lnTo>
                    <a:lnTo>
                      <a:pt x="1769" y="1226"/>
                    </a:lnTo>
                    <a:lnTo>
                      <a:pt x="1724" y="1254"/>
                    </a:lnTo>
                    <a:lnTo>
                      <a:pt x="1678" y="1281"/>
                    </a:lnTo>
                    <a:lnTo>
                      <a:pt x="1630" y="1305"/>
                    </a:lnTo>
                    <a:lnTo>
                      <a:pt x="1582" y="1327"/>
                    </a:lnTo>
                    <a:lnTo>
                      <a:pt x="1531" y="1347"/>
                    </a:lnTo>
                    <a:lnTo>
                      <a:pt x="1481" y="1365"/>
                    </a:lnTo>
                    <a:lnTo>
                      <a:pt x="1428" y="1379"/>
                    </a:lnTo>
                    <a:lnTo>
                      <a:pt x="1375" y="1391"/>
                    </a:lnTo>
                    <a:lnTo>
                      <a:pt x="1321" y="1401"/>
                    </a:lnTo>
                    <a:lnTo>
                      <a:pt x="1265" y="1408"/>
                    </a:lnTo>
                    <a:lnTo>
                      <a:pt x="1210" y="1412"/>
                    </a:lnTo>
                    <a:lnTo>
                      <a:pt x="1153" y="1414"/>
                    </a:lnTo>
                    <a:lnTo>
                      <a:pt x="1100" y="1412"/>
                    </a:lnTo>
                    <a:lnTo>
                      <a:pt x="1049" y="1409"/>
                    </a:lnTo>
                    <a:lnTo>
                      <a:pt x="997" y="1402"/>
                    </a:lnTo>
                    <a:lnTo>
                      <a:pt x="947" y="1394"/>
                    </a:lnTo>
                    <a:lnTo>
                      <a:pt x="897" y="1384"/>
                    </a:lnTo>
                    <a:lnTo>
                      <a:pt x="849" y="1371"/>
                    </a:lnTo>
                    <a:lnTo>
                      <a:pt x="801" y="1356"/>
                    </a:lnTo>
                    <a:lnTo>
                      <a:pt x="753" y="1339"/>
                    </a:lnTo>
                    <a:lnTo>
                      <a:pt x="708" y="1320"/>
                    </a:lnTo>
                    <a:lnTo>
                      <a:pt x="663" y="1299"/>
                    </a:lnTo>
                    <a:lnTo>
                      <a:pt x="619" y="1275"/>
                    </a:lnTo>
                    <a:lnTo>
                      <a:pt x="577" y="1251"/>
                    </a:lnTo>
                    <a:lnTo>
                      <a:pt x="536" y="1224"/>
                    </a:lnTo>
                    <a:lnTo>
                      <a:pt x="496" y="1196"/>
                    </a:lnTo>
                    <a:lnTo>
                      <a:pt x="457" y="1165"/>
                    </a:lnTo>
                    <a:lnTo>
                      <a:pt x="420" y="1134"/>
                    </a:lnTo>
                    <a:lnTo>
                      <a:pt x="383" y="1100"/>
                    </a:lnTo>
                    <a:lnTo>
                      <a:pt x="350" y="1065"/>
                    </a:lnTo>
                    <a:lnTo>
                      <a:pt x="317" y="1029"/>
                    </a:lnTo>
                    <a:lnTo>
                      <a:pt x="286" y="991"/>
                    </a:lnTo>
                    <a:lnTo>
                      <a:pt x="256" y="952"/>
                    </a:lnTo>
                    <a:lnTo>
                      <a:pt x="229" y="911"/>
                    </a:lnTo>
                    <a:lnTo>
                      <a:pt x="204" y="869"/>
                    </a:lnTo>
                    <a:lnTo>
                      <a:pt x="179" y="826"/>
                    </a:lnTo>
                    <a:lnTo>
                      <a:pt x="157" y="782"/>
                    </a:lnTo>
                    <a:lnTo>
                      <a:pt x="137" y="737"/>
                    </a:lnTo>
                    <a:lnTo>
                      <a:pt x="118" y="691"/>
                    </a:lnTo>
                    <a:lnTo>
                      <a:pt x="103" y="643"/>
                    </a:lnTo>
                    <a:lnTo>
                      <a:pt x="89" y="595"/>
                    </a:lnTo>
                    <a:lnTo>
                      <a:pt x="77" y="546"/>
                    </a:lnTo>
                    <a:lnTo>
                      <a:pt x="68" y="495"/>
                    </a:lnTo>
                    <a:lnTo>
                      <a:pt x="61" y="445"/>
                    </a:lnTo>
                    <a:lnTo>
                      <a:pt x="27" y="480"/>
                    </a:lnTo>
                    <a:lnTo>
                      <a:pt x="0" y="507"/>
                    </a:lnTo>
                    <a:lnTo>
                      <a:pt x="9" y="558"/>
                    </a:lnTo>
                    <a:lnTo>
                      <a:pt x="22" y="610"/>
                    </a:lnTo>
                    <a:lnTo>
                      <a:pt x="35" y="659"/>
                    </a:lnTo>
                    <a:lnTo>
                      <a:pt x="52" y="707"/>
                    </a:lnTo>
                    <a:lnTo>
                      <a:pt x="70" y="756"/>
                    </a:lnTo>
                    <a:lnTo>
                      <a:pt x="90" y="803"/>
                    </a:lnTo>
                    <a:lnTo>
                      <a:pt x="113" y="848"/>
                    </a:lnTo>
                    <a:lnTo>
                      <a:pt x="137" y="893"/>
                    </a:lnTo>
                    <a:lnTo>
                      <a:pt x="164" y="936"/>
                    </a:lnTo>
                    <a:lnTo>
                      <a:pt x="191" y="978"/>
                    </a:lnTo>
                    <a:lnTo>
                      <a:pt x="220" y="1019"/>
                    </a:lnTo>
                    <a:lnTo>
                      <a:pt x="252" y="1059"/>
                    </a:lnTo>
                    <a:lnTo>
                      <a:pt x="286" y="1097"/>
                    </a:lnTo>
                    <a:lnTo>
                      <a:pt x="319" y="1134"/>
                    </a:lnTo>
                    <a:lnTo>
                      <a:pt x="356" y="1168"/>
                    </a:lnTo>
                    <a:lnTo>
                      <a:pt x="394" y="1202"/>
                    </a:lnTo>
                    <a:lnTo>
                      <a:pt x="433" y="1234"/>
                    </a:lnTo>
                    <a:lnTo>
                      <a:pt x="473" y="1265"/>
                    </a:lnTo>
                    <a:lnTo>
                      <a:pt x="515" y="1293"/>
                    </a:lnTo>
                    <a:lnTo>
                      <a:pt x="558" y="1320"/>
                    </a:lnTo>
                    <a:lnTo>
                      <a:pt x="602" y="1345"/>
                    </a:lnTo>
                    <a:lnTo>
                      <a:pt x="647" y="1368"/>
                    </a:lnTo>
                    <a:lnTo>
                      <a:pt x="693" y="1389"/>
                    </a:lnTo>
                    <a:lnTo>
                      <a:pt x="741" y="1408"/>
                    </a:lnTo>
                    <a:lnTo>
                      <a:pt x="790" y="1425"/>
                    </a:lnTo>
                    <a:lnTo>
                      <a:pt x="840" y="1439"/>
                    </a:lnTo>
                    <a:lnTo>
                      <a:pt x="890" y="1453"/>
                    </a:lnTo>
                    <a:lnTo>
                      <a:pt x="940" y="1463"/>
                    </a:lnTo>
                    <a:lnTo>
                      <a:pt x="993" y="1472"/>
                    </a:lnTo>
                    <a:lnTo>
                      <a:pt x="1046" y="1477"/>
                    </a:lnTo>
                    <a:lnTo>
                      <a:pt x="1099" y="1481"/>
                    </a:lnTo>
                    <a:lnTo>
                      <a:pt x="1153" y="1482"/>
                    </a:lnTo>
                    <a:lnTo>
                      <a:pt x="1214" y="1481"/>
                    </a:lnTo>
                    <a:lnTo>
                      <a:pt x="1273" y="1476"/>
                    </a:lnTo>
                    <a:lnTo>
                      <a:pt x="1331" y="1469"/>
                    </a:lnTo>
                    <a:lnTo>
                      <a:pt x="1389" y="1458"/>
                    </a:lnTo>
                    <a:lnTo>
                      <a:pt x="1445" y="1446"/>
                    </a:lnTo>
                    <a:lnTo>
                      <a:pt x="1501" y="1430"/>
                    </a:lnTo>
                    <a:lnTo>
                      <a:pt x="1555" y="1412"/>
                    </a:lnTo>
                    <a:lnTo>
                      <a:pt x="1608" y="1391"/>
                    </a:lnTo>
                    <a:lnTo>
                      <a:pt x="1660" y="1367"/>
                    </a:lnTo>
                    <a:lnTo>
                      <a:pt x="1711" y="1342"/>
                    </a:lnTo>
                    <a:lnTo>
                      <a:pt x="1759" y="1313"/>
                    </a:lnTo>
                    <a:lnTo>
                      <a:pt x="1807" y="1283"/>
                    </a:lnTo>
                    <a:lnTo>
                      <a:pt x="1853" y="1250"/>
                    </a:lnTo>
                    <a:lnTo>
                      <a:pt x="1897" y="1216"/>
                    </a:lnTo>
                    <a:lnTo>
                      <a:pt x="1939" y="1179"/>
                    </a:lnTo>
                    <a:lnTo>
                      <a:pt x="1980" y="1140"/>
                    </a:lnTo>
                    <a:lnTo>
                      <a:pt x="2019" y="1100"/>
                    </a:lnTo>
                    <a:lnTo>
                      <a:pt x="2056" y="1057"/>
                    </a:lnTo>
                    <a:lnTo>
                      <a:pt x="2090" y="1013"/>
                    </a:lnTo>
                    <a:lnTo>
                      <a:pt x="2123" y="967"/>
                    </a:lnTo>
                    <a:lnTo>
                      <a:pt x="2153" y="919"/>
                    </a:lnTo>
                    <a:lnTo>
                      <a:pt x="2182" y="871"/>
                    </a:lnTo>
                    <a:lnTo>
                      <a:pt x="2207" y="821"/>
                    </a:lnTo>
                    <a:lnTo>
                      <a:pt x="2231" y="768"/>
                    </a:lnTo>
                    <a:lnTo>
                      <a:pt x="2252" y="716"/>
                    </a:lnTo>
                    <a:lnTo>
                      <a:pt x="2270" y="661"/>
                    </a:lnTo>
                    <a:lnTo>
                      <a:pt x="2286" y="606"/>
                    </a:lnTo>
                    <a:lnTo>
                      <a:pt x="2299" y="550"/>
                    </a:lnTo>
                    <a:lnTo>
                      <a:pt x="2309" y="492"/>
                    </a:lnTo>
                    <a:lnTo>
                      <a:pt x="2316" y="433"/>
                    </a:lnTo>
                    <a:lnTo>
                      <a:pt x="2322" y="375"/>
                    </a:lnTo>
                    <a:lnTo>
                      <a:pt x="2323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314880" y="2894040"/>
                <a:ext cx="717480" cy="458640"/>
              </a:xfrm>
              <a:custGeom>
                <a:avLst/>
                <a:gdLst/>
                <a:ahLst/>
                <a:rect l="l" t="t" r="r" b="b"/>
                <a:pathLst>
                  <a:path w="2258" h="1448">
                    <a:moveTo>
                      <a:pt x="2258" y="314"/>
                    </a:moveTo>
                    <a:lnTo>
                      <a:pt x="2258" y="274"/>
                    </a:lnTo>
                    <a:lnTo>
                      <a:pt x="2256" y="233"/>
                    </a:lnTo>
                    <a:lnTo>
                      <a:pt x="2252" y="193"/>
                    </a:lnTo>
                    <a:lnTo>
                      <a:pt x="2247" y="153"/>
                    </a:lnTo>
                    <a:lnTo>
                      <a:pt x="2241" y="114"/>
                    </a:lnTo>
                    <a:lnTo>
                      <a:pt x="2233" y="75"/>
                    </a:lnTo>
                    <a:lnTo>
                      <a:pt x="2224" y="37"/>
                    </a:lnTo>
                    <a:lnTo>
                      <a:pt x="2214" y="0"/>
                    </a:lnTo>
                    <a:lnTo>
                      <a:pt x="2202" y="0"/>
                    </a:lnTo>
                    <a:lnTo>
                      <a:pt x="2142" y="0"/>
                    </a:lnTo>
                    <a:lnTo>
                      <a:pt x="2153" y="37"/>
                    </a:lnTo>
                    <a:lnTo>
                      <a:pt x="2162" y="75"/>
                    </a:lnTo>
                    <a:lnTo>
                      <a:pt x="2171" y="114"/>
                    </a:lnTo>
                    <a:lnTo>
                      <a:pt x="2178" y="153"/>
                    </a:lnTo>
                    <a:lnTo>
                      <a:pt x="2182" y="193"/>
                    </a:lnTo>
                    <a:lnTo>
                      <a:pt x="2187" y="233"/>
                    </a:lnTo>
                    <a:lnTo>
                      <a:pt x="2189" y="273"/>
                    </a:lnTo>
                    <a:lnTo>
                      <a:pt x="2190" y="314"/>
                    </a:lnTo>
                    <a:lnTo>
                      <a:pt x="2189" y="369"/>
                    </a:lnTo>
                    <a:lnTo>
                      <a:pt x="2184" y="423"/>
                    </a:lnTo>
                    <a:lnTo>
                      <a:pt x="2177" y="476"/>
                    </a:lnTo>
                    <a:lnTo>
                      <a:pt x="2168" y="529"/>
                    </a:lnTo>
                    <a:lnTo>
                      <a:pt x="2156" y="580"/>
                    </a:lnTo>
                    <a:lnTo>
                      <a:pt x="2141" y="631"/>
                    </a:lnTo>
                    <a:lnTo>
                      <a:pt x="2125" y="680"/>
                    </a:lnTo>
                    <a:lnTo>
                      <a:pt x="2106" y="728"/>
                    </a:lnTo>
                    <a:lnTo>
                      <a:pt x="2085" y="776"/>
                    </a:lnTo>
                    <a:lnTo>
                      <a:pt x="2061" y="822"/>
                    </a:lnTo>
                    <a:lnTo>
                      <a:pt x="2035" y="866"/>
                    </a:lnTo>
                    <a:lnTo>
                      <a:pt x="2008" y="910"/>
                    </a:lnTo>
                    <a:lnTo>
                      <a:pt x="1977" y="951"/>
                    </a:lnTo>
                    <a:lnTo>
                      <a:pt x="1946" y="992"/>
                    </a:lnTo>
                    <a:lnTo>
                      <a:pt x="1912" y="1031"/>
                    </a:lnTo>
                    <a:lnTo>
                      <a:pt x="1877" y="1068"/>
                    </a:lnTo>
                    <a:lnTo>
                      <a:pt x="1841" y="1102"/>
                    </a:lnTo>
                    <a:lnTo>
                      <a:pt x="1802" y="1136"/>
                    </a:lnTo>
                    <a:lnTo>
                      <a:pt x="1761" y="1167"/>
                    </a:lnTo>
                    <a:lnTo>
                      <a:pt x="1720" y="1198"/>
                    </a:lnTo>
                    <a:lnTo>
                      <a:pt x="1676" y="1225"/>
                    </a:lnTo>
                    <a:lnTo>
                      <a:pt x="1632" y="1251"/>
                    </a:lnTo>
                    <a:lnTo>
                      <a:pt x="1585" y="1274"/>
                    </a:lnTo>
                    <a:lnTo>
                      <a:pt x="1538" y="1295"/>
                    </a:lnTo>
                    <a:lnTo>
                      <a:pt x="1490" y="1314"/>
                    </a:lnTo>
                    <a:lnTo>
                      <a:pt x="1440" y="1331"/>
                    </a:lnTo>
                    <a:lnTo>
                      <a:pt x="1390" y="1346"/>
                    </a:lnTo>
                    <a:lnTo>
                      <a:pt x="1338" y="1357"/>
                    </a:lnTo>
                    <a:lnTo>
                      <a:pt x="1286" y="1367"/>
                    </a:lnTo>
                    <a:lnTo>
                      <a:pt x="1232" y="1374"/>
                    </a:lnTo>
                    <a:lnTo>
                      <a:pt x="1178" y="1378"/>
                    </a:lnTo>
                    <a:lnTo>
                      <a:pt x="1123" y="1379"/>
                    </a:lnTo>
                    <a:lnTo>
                      <a:pt x="1071" y="1378"/>
                    </a:lnTo>
                    <a:lnTo>
                      <a:pt x="1021" y="1374"/>
                    </a:lnTo>
                    <a:lnTo>
                      <a:pt x="970" y="1369"/>
                    </a:lnTo>
                    <a:lnTo>
                      <a:pt x="921" y="1360"/>
                    </a:lnTo>
                    <a:lnTo>
                      <a:pt x="872" y="1350"/>
                    </a:lnTo>
                    <a:lnTo>
                      <a:pt x="824" y="1336"/>
                    </a:lnTo>
                    <a:lnTo>
                      <a:pt x="777" y="1322"/>
                    </a:lnTo>
                    <a:lnTo>
                      <a:pt x="731" y="1305"/>
                    </a:lnTo>
                    <a:lnTo>
                      <a:pt x="685" y="1286"/>
                    </a:lnTo>
                    <a:lnTo>
                      <a:pt x="642" y="1265"/>
                    </a:lnTo>
                    <a:lnTo>
                      <a:pt x="599" y="1242"/>
                    </a:lnTo>
                    <a:lnTo>
                      <a:pt x="557" y="1218"/>
                    </a:lnTo>
                    <a:lnTo>
                      <a:pt x="517" y="1190"/>
                    </a:lnTo>
                    <a:lnTo>
                      <a:pt x="478" y="1162"/>
                    </a:lnTo>
                    <a:lnTo>
                      <a:pt x="441" y="1133"/>
                    </a:lnTo>
                    <a:lnTo>
                      <a:pt x="405" y="1101"/>
                    </a:lnTo>
                    <a:lnTo>
                      <a:pt x="369" y="1068"/>
                    </a:lnTo>
                    <a:lnTo>
                      <a:pt x="337" y="1033"/>
                    </a:lnTo>
                    <a:lnTo>
                      <a:pt x="305" y="997"/>
                    </a:lnTo>
                    <a:lnTo>
                      <a:pt x="275" y="959"/>
                    </a:lnTo>
                    <a:lnTo>
                      <a:pt x="246" y="921"/>
                    </a:lnTo>
                    <a:lnTo>
                      <a:pt x="220" y="880"/>
                    </a:lnTo>
                    <a:lnTo>
                      <a:pt x="195" y="839"/>
                    </a:lnTo>
                    <a:lnTo>
                      <a:pt x="171" y="796"/>
                    </a:lnTo>
                    <a:lnTo>
                      <a:pt x="150" y="751"/>
                    </a:lnTo>
                    <a:lnTo>
                      <a:pt x="132" y="707"/>
                    </a:lnTo>
                    <a:lnTo>
                      <a:pt x="115" y="661"/>
                    </a:lnTo>
                    <a:lnTo>
                      <a:pt x="100" y="614"/>
                    </a:lnTo>
                    <a:lnTo>
                      <a:pt x="86" y="567"/>
                    </a:lnTo>
                    <a:lnTo>
                      <a:pt x="76" y="517"/>
                    </a:lnTo>
                    <a:lnTo>
                      <a:pt x="67" y="468"/>
                    </a:lnTo>
                    <a:lnTo>
                      <a:pt x="62" y="418"/>
                    </a:lnTo>
                    <a:lnTo>
                      <a:pt x="52" y="423"/>
                    </a:lnTo>
                    <a:lnTo>
                      <a:pt x="0" y="476"/>
                    </a:lnTo>
                    <a:lnTo>
                      <a:pt x="9" y="528"/>
                    </a:lnTo>
                    <a:lnTo>
                      <a:pt x="19" y="578"/>
                    </a:lnTo>
                    <a:lnTo>
                      <a:pt x="32" y="628"/>
                    </a:lnTo>
                    <a:lnTo>
                      <a:pt x="47" y="676"/>
                    </a:lnTo>
                    <a:lnTo>
                      <a:pt x="64" y="724"/>
                    </a:lnTo>
                    <a:lnTo>
                      <a:pt x="84" y="770"/>
                    </a:lnTo>
                    <a:lnTo>
                      <a:pt x="105" y="816"/>
                    </a:lnTo>
                    <a:lnTo>
                      <a:pt x="128" y="861"/>
                    </a:lnTo>
                    <a:lnTo>
                      <a:pt x="154" y="904"/>
                    </a:lnTo>
                    <a:lnTo>
                      <a:pt x="180" y="946"/>
                    </a:lnTo>
                    <a:lnTo>
                      <a:pt x="209" y="986"/>
                    </a:lnTo>
                    <a:lnTo>
                      <a:pt x="239" y="1026"/>
                    </a:lnTo>
                    <a:lnTo>
                      <a:pt x="271" y="1063"/>
                    </a:lnTo>
                    <a:lnTo>
                      <a:pt x="305" y="1100"/>
                    </a:lnTo>
                    <a:lnTo>
                      <a:pt x="340" y="1135"/>
                    </a:lnTo>
                    <a:lnTo>
                      <a:pt x="376" y="1168"/>
                    </a:lnTo>
                    <a:lnTo>
                      <a:pt x="415" y="1200"/>
                    </a:lnTo>
                    <a:lnTo>
                      <a:pt x="454" y="1230"/>
                    </a:lnTo>
                    <a:lnTo>
                      <a:pt x="495" y="1259"/>
                    </a:lnTo>
                    <a:lnTo>
                      <a:pt x="537" y="1286"/>
                    </a:lnTo>
                    <a:lnTo>
                      <a:pt x="580" y="1310"/>
                    </a:lnTo>
                    <a:lnTo>
                      <a:pt x="626" y="1333"/>
                    </a:lnTo>
                    <a:lnTo>
                      <a:pt x="671" y="1354"/>
                    </a:lnTo>
                    <a:lnTo>
                      <a:pt x="718" y="1373"/>
                    </a:lnTo>
                    <a:lnTo>
                      <a:pt x="765" y="1391"/>
                    </a:lnTo>
                    <a:lnTo>
                      <a:pt x="814" y="1406"/>
                    </a:lnTo>
                    <a:lnTo>
                      <a:pt x="863" y="1418"/>
                    </a:lnTo>
                    <a:lnTo>
                      <a:pt x="914" y="1429"/>
                    </a:lnTo>
                    <a:lnTo>
                      <a:pt x="965" y="1437"/>
                    </a:lnTo>
                    <a:lnTo>
                      <a:pt x="1018" y="1443"/>
                    </a:lnTo>
                    <a:lnTo>
                      <a:pt x="1070" y="1447"/>
                    </a:lnTo>
                    <a:lnTo>
                      <a:pt x="1123" y="1448"/>
                    </a:lnTo>
                    <a:lnTo>
                      <a:pt x="1182" y="1447"/>
                    </a:lnTo>
                    <a:lnTo>
                      <a:pt x="1239" y="1442"/>
                    </a:lnTo>
                    <a:lnTo>
                      <a:pt x="1296" y="1435"/>
                    </a:lnTo>
                    <a:lnTo>
                      <a:pt x="1352" y="1425"/>
                    </a:lnTo>
                    <a:lnTo>
                      <a:pt x="1407" y="1412"/>
                    </a:lnTo>
                    <a:lnTo>
                      <a:pt x="1460" y="1397"/>
                    </a:lnTo>
                    <a:lnTo>
                      <a:pt x="1514" y="1379"/>
                    </a:lnTo>
                    <a:lnTo>
                      <a:pt x="1565" y="1358"/>
                    </a:lnTo>
                    <a:lnTo>
                      <a:pt x="1616" y="1336"/>
                    </a:lnTo>
                    <a:lnTo>
                      <a:pt x="1664" y="1311"/>
                    </a:lnTo>
                    <a:lnTo>
                      <a:pt x="1711" y="1284"/>
                    </a:lnTo>
                    <a:lnTo>
                      <a:pt x="1758" y="1254"/>
                    </a:lnTo>
                    <a:lnTo>
                      <a:pt x="1802" y="1223"/>
                    </a:lnTo>
                    <a:lnTo>
                      <a:pt x="1845" y="1189"/>
                    </a:lnTo>
                    <a:lnTo>
                      <a:pt x="1886" y="1154"/>
                    </a:lnTo>
                    <a:lnTo>
                      <a:pt x="1926" y="1116"/>
                    </a:lnTo>
                    <a:lnTo>
                      <a:pt x="1964" y="1077"/>
                    </a:lnTo>
                    <a:lnTo>
                      <a:pt x="1999" y="1035"/>
                    </a:lnTo>
                    <a:lnTo>
                      <a:pt x="2033" y="992"/>
                    </a:lnTo>
                    <a:lnTo>
                      <a:pt x="2065" y="948"/>
                    </a:lnTo>
                    <a:lnTo>
                      <a:pt x="2094" y="902"/>
                    </a:lnTo>
                    <a:lnTo>
                      <a:pt x="2121" y="854"/>
                    </a:lnTo>
                    <a:lnTo>
                      <a:pt x="2147" y="806"/>
                    </a:lnTo>
                    <a:lnTo>
                      <a:pt x="2170" y="756"/>
                    </a:lnTo>
                    <a:lnTo>
                      <a:pt x="2190" y="704"/>
                    </a:lnTo>
                    <a:lnTo>
                      <a:pt x="2208" y="651"/>
                    </a:lnTo>
                    <a:lnTo>
                      <a:pt x="2222" y="597"/>
                    </a:lnTo>
                    <a:lnTo>
                      <a:pt x="2235" y="543"/>
                    </a:lnTo>
                    <a:lnTo>
                      <a:pt x="2245" y="487"/>
                    </a:lnTo>
                    <a:lnTo>
                      <a:pt x="2253" y="430"/>
                    </a:lnTo>
                    <a:lnTo>
                      <a:pt x="2257" y="372"/>
                    </a:lnTo>
                    <a:lnTo>
                      <a:pt x="2258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324240" y="2894040"/>
                <a:ext cx="696960" cy="447480"/>
              </a:xfrm>
              <a:custGeom>
                <a:avLst/>
                <a:gdLst/>
                <a:ahLst/>
                <a:rect l="l" t="t" r="r" b="b"/>
                <a:pathLst>
                  <a:path w="2193" h="1414">
                    <a:moveTo>
                      <a:pt x="2193" y="314"/>
                    </a:moveTo>
                    <a:lnTo>
                      <a:pt x="2192" y="273"/>
                    </a:lnTo>
                    <a:lnTo>
                      <a:pt x="2190" y="233"/>
                    </a:lnTo>
                    <a:lnTo>
                      <a:pt x="2186" y="193"/>
                    </a:lnTo>
                    <a:lnTo>
                      <a:pt x="2182" y="153"/>
                    </a:lnTo>
                    <a:lnTo>
                      <a:pt x="2174" y="114"/>
                    </a:lnTo>
                    <a:lnTo>
                      <a:pt x="2167" y="75"/>
                    </a:lnTo>
                    <a:lnTo>
                      <a:pt x="2158" y="37"/>
                    </a:lnTo>
                    <a:lnTo>
                      <a:pt x="2147" y="0"/>
                    </a:lnTo>
                    <a:lnTo>
                      <a:pt x="2084" y="0"/>
                    </a:lnTo>
                    <a:lnTo>
                      <a:pt x="2076" y="0"/>
                    </a:lnTo>
                    <a:lnTo>
                      <a:pt x="2086" y="37"/>
                    </a:lnTo>
                    <a:lnTo>
                      <a:pt x="2097" y="75"/>
                    </a:lnTo>
                    <a:lnTo>
                      <a:pt x="2105" y="114"/>
                    </a:lnTo>
                    <a:lnTo>
                      <a:pt x="2111" y="153"/>
                    </a:lnTo>
                    <a:lnTo>
                      <a:pt x="2117" y="193"/>
                    </a:lnTo>
                    <a:lnTo>
                      <a:pt x="2121" y="233"/>
                    </a:lnTo>
                    <a:lnTo>
                      <a:pt x="2123" y="273"/>
                    </a:lnTo>
                    <a:lnTo>
                      <a:pt x="2124" y="314"/>
                    </a:lnTo>
                    <a:lnTo>
                      <a:pt x="2123" y="367"/>
                    </a:lnTo>
                    <a:lnTo>
                      <a:pt x="2119" y="420"/>
                    </a:lnTo>
                    <a:lnTo>
                      <a:pt x="2112" y="471"/>
                    </a:lnTo>
                    <a:lnTo>
                      <a:pt x="2103" y="522"/>
                    </a:lnTo>
                    <a:lnTo>
                      <a:pt x="2091" y="572"/>
                    </a:lnTo>
                    <a:lnTo>
                      <a:pt x="2078" y="620"/>
                    </a:lnTo>
                    <a:lnTo>
                      <a:pt x="2062" y="669"/>
                    </a:lnTo>
                    <a:lnTo>
                      <a:pt x="2043" y="715"/>
                    </a:lnTo>
                    <a:lnTo>
                      <a:pt x="2022" y="761"/>
                    </a:lnTo>
                    <a:lnTo>
                      <a:pt x="2000" y="805"/>
                    </a:lnTo>
                    <a:lnTo>
                      <a:pt x="1975" y="848"/>
                    </a:lnTo>
                    <a:lnTo>
                      <a:pt x="1947" y="890"/>
                    </a:lnTo>
                    <a:lnTo>
                      <a:pt x="1919" y="931"/>
                    </a:lnTo>
                    <a:lnTo>
                      <a:pt x="1889" y="970"/>
                    </a:lnTo>
                    <a:lnTo>
                      <a:pt x="1856" y="1007"/>
                    </a:lnTo>
                    <a:lnTo>
                      <a:pt x="1822" y="1043"/>
                    </a:lnTo>
                    <a:lnTo>
                      <a:pt x="1786" y="1077"/>
                    </a:lnTo>
                    <a:lnTo>
                      <a:pt x="1749" y="1110"/>
                    </a:lnTo>
                    <a:lnTo>
                      <a:pt x="1710" y="1140"/>
                    </a:lnTo>
                    <a:lnTo>
                      <a:pt x="1669" y="1168"/>
                    </a:lnTo>
                    <a:lnTo>
                      <a:pt x="1627" y="1196"/>
                    </a:lnTo>
                    <a:lnTo>
                      <a:pt x="1584" y="1221"/>
                    </a:lnTo>
                    <a:lnTo>
                      <a:pt x="1540" y="1243"/>
                    </a:lnTo>
                    <a:lnTo>
                      <a:pt x="1494" y="1264"/>
                    </a:lnTo>
                    <a:lnTo>
                      <a:pt x="1447" y="1283"/>
                    </a:lnTo>
                    <a:lnTo>
                      <a:pt x="1399" y="1299"/>
                    </a:lnTo>
                    <a:lnTo>
                      <a:pt x="1350" y="1312"/>
                    </a:lnTo>
                    <a:lnTo>
                      <a:pt x="1300" y="1324"/>
                    </a:lnTo>
                    <a:lnTo>
                      <a:pt x="1249" y="1333"/>
                    </a:lnTo>
                    <a:lnTo>
                      <a:pt x="1198" y="1339"/>
                    </a:lnTo>
                    <a:lnTo>
                      <a:pt x="1145" y="1344"/>
                    </a:lnTo>
                    <a:lnTo>
                      <a:pt x="1092" y="1345"/>
                    </a:lnTo>
                    <a:lnTo>
                      <a:pt x="1041" y="1344"/>
                    </a:lnTo>
                    <a:lnTo>
                      <a:pt x="992" y="1341"/>
                    </a:lnTo>
                    <a:lnTo>
                      <a:pt x="943" y="1334"/>
                    </a:lnTo>
                    <a:lnTo>
                      <a:pt x="895" y="1326"/>
                    </a:lnTo>
                    <a:lnTo>
                      <a:pt x="847" y="1315"/>
                    </a:lnTo>
                    <a:lnTo>
                      <a:pt x="801" y="1303"/>
                    </a:lnTo>
                    <a:lnTo>
                      <a:pt x="754" y="1289"/>
                    </a:lnTo>
                    <a:lnTo>
                      <a:pt x="710" y="1272"/>
                    </a:lnTo>
                    <a:lnTo>
                      <a:pt x="666" y="1253"/>
                    </a:lnTo>
                    <a:lnTo>
                      <a:pt x="623" y="1232"/>
                    </a:lnTo>
                    <a:lnTo>
                      <a:pt x="582" y="1210"/>
                    </a:lnTo>
                    <a:lnTo>
                      <a:pt x="541" y="1186"/>
                    </a:lnTo>
                    <a:lnTo>
                      <a:pt x="502" y="1160"/>
                    </a:lnTo>
                    <a:lnTo>
                      <a:pt x="464" y="1132"/>
                    </a:lnTo>
                    <a:lnTo>
                      <a:pt x="427" y="1102"/>
                    </a:lnTo>
                    <a:lnTo>
                      <a:pt x="393" y="1072"/>
                    </a:lnTo>
                    <a:lnTo>
                      <a:pt x="358" y="1039"/>
                    </a:lnTo>
                    <a:lnTo>
                      <a:pt x="327" y="1005"/>
                    </a:lnTo>
                    <a:lnTo>
                      <a:pt x="295" y="970"/>
                    </a:lnTo>
                    <a:lnTo>
                      <a:pt x="267" y="932"/>
                    </a:lnTo>
                    <a:lnTo>
                      <a:pt x="239" y="894"/>
                    </a:lnTo>
                    <a:lnTo>
                      <a:pt x="213" y="854"/>
                    </a:lnTo>
                    <a:lnTo>
                      <a:pt x="190" y="814"/>
                    </a:lnTo>
                    <a:lnTo>
                      <a:pt x="168" y="772"/>
                    </a:lnTo>
                    <a:lnTo>
                      <a:pt x="148" y="729"/>
                    </a:lnTo>
                    <a:lnTo>
                      <a:pt x="129" y="685"/>
                    </a:lnTo>
                    <a:lnTo>
                      <a:pt x="113" y="640"/>
                    </a:lnTo>
                    <a:lnTo>
                      <a:pt x="98" y="594"/>
                    </a:lnTo>
                    <a:lnTo>
                      <a:pt x="87" y="548"/>
                    </a:lnTo>
                    <a:lnTo>
                      <a:pt x="77" y="499"/>
                    </a:lnTo>
                    <a:lnTo>
                      <a:pt x="69" y="451"/>
                    </a:lnTo>
                    <a:lnTo>
                      <a:pt x="64" y="402"/>
                    </a:lnTo>
                    <a:lnTo>
                      <a:pt x="21" y="423"/>
                    </a:lnTo>
                    <a:lnTo>
                      <a:pt x="0" y="445"/>
                    </a:lnTo>
                    <a:lnTo>
                      <a:pt x="7" y="495"/>
                    </a:lnTo>
                    <a:lnTo>
                      <a:pt x="16" y="546"/>
                    </a:lnTo>
                    <a:lnTo>
                      <a:pt x="28" y="595"/>
                    </a:lnTo>
                    <a:lnTo>
                      <a:pt x="42" y="643"/>
                    </a:lnTo>
                    <a:lnTo>
                      <a:pt x="57" y="691"/>
                    </a:lnTo>
                    <a:lnTo>
                      <a:pt x="75" y="737"/>
                    </a:lnTo>
                    <a:lnTo>
                      <a:pt x="96" y="782"/>
                    </a:lnTo>
                    <a:lnTo>
                      <a:pt x="118" y="826"/>
                    </a:lnTo>
                    <a:lnTo>
                      <a:pt x="142" y="869"/>
                    </a:lnTo>
                    <a:lnTo>
                      <a:pt x="168" y="911"/>
                    </a:lnTo>
                    <a:lnTo>
                      <a:pt x="195" y="952"/>
                    </a:lnTo>
                    <a:lnTo>
                      <a:pt x="225" y="991"/>
                    </a:lnTo>
                    <a:lnTo>
                      <a:pt x="256" y="1029"/>
                    </a:lnTo>
                    <a:lnTo>
                      <a:pt x="289" y="1065"/>
                    </a:lnTo>
                    <a:lnTo>
                      <a:pt x="322" y="1100"/>
                    </a:lnTo>
                    <a:lnTo>
                      <a:pt x="359" y="1134"/>
                    </a:lnTo>
                    <a:lnTo>
                      <a:pt x="396" y="1165"/>
                    </a:lnTo>
                    <a:lnTo>
                      <a:pt x="435" y="1196"/>
                    </a:lnTo>
                    <a:lnTo>
                      <a:pt x="475" y="1224"/>
                    </a:lnTo>
                    <a:lnTo>
                      <a:pt x="516" y="1251"/>
                    </a:lnTo>
                    <a:lnTo>
                      <a:pt x="558" y="1275"/>
                    </a:lnTo>
                    <a:lnTo>
                      <a:pt x="602" y="1299"/>
                    </a:lnTo>
                    <a:lnTo>
                      <a:pt x="647" y="1320"/>
                    </a:lnTo>
                    <a:lnTo>
                      <a:pt x="692" y="1339"/>
                    </a:lnTo>
                    <a:lnTo>
                      <a:pt x="740" y="1356"/>
                    </a:lnTo>
                    <a:lnTo>
                      <a:pt x="788" y="1371"/>
                    </a:lnTo>
                    <a:lnTo>
                      <a:pt x="836" y="1384"/>
                    </a:lnTo>
                    <a:lnTo>
                      <a:pt x="886" y="1394"/>
                    </a:lnTo>
                    <a:lnTo>
                      <a:pt x="936" y="1402"/>
                    </a:lnTo>
                    <a:lnTo>
                      <a:pt x="988" y="1409"/>
                    </a:lnTo>
                    <a:lnTo>
                      <a:pt x="1039" y="1412"/>
                    </a:lnTo>
                    <a:lnTo>
                      <a:pt x="1092" y="1414"/>
                    </a:lnTo>
                    <a:lnTo>
                      <a:pt x="1149" y="1412"/>
                    </a:lnTo>
                    <a:lnTo>
                      <a:pt x="1204" y="1408"/>
                    </a:lnTo>
                    <a:lnTo>
                      <a:pt x="1260" y="1401"/>
                    </a:lnTo>
                    <a:lnTo>
                      <a:pt x="1314" y="1391"/>
                    </a:lnTo>
                    <a:lnTo>
                      <a:pt x="1367" y="1379"/>
                    </a:lnTo>
                    <a:lnTo>
                      <a:pt x="1420" y="1365"/>
                    </a:lnTo>
                    <a:lnTo>
                      <a:pt x="1470" y="1347"/>
                    </a:lnTo>
                    <a:lnTo>
                      <a:pt x="1521" y="1327"/>
                    </a:lnTo>
                    <a:lnTo>
                      <a:pt x="1569" y="1305"/>
                    </a:lnTo>
                    <a:lnTo>
                      <a:pt x="1617" y="1281"/>
                    </a:lnTo>
                    <a:lnTo>
                      <a:pt x="1663" y="1254"/>
                    </a:lnTo>
                    <a:lnTo>
                      <a:pt x="1708" y="1226"/>
                    </a:lnTo>
                    <a:lnTo>
                      <a:pt x="1751" y="1196"/>
                    </a:lnTo>
                    <a:lnTo>
                      <a:pt x="1793" y="1162"/>
                    </a:lnTo>
                    <a:lnTo>
                      <a:pt x="1833" y="1128"/>
                    </a:lnTo>
                    <a:lnTo>
                      <a:pt x="1871" y="1092"/>
                    </a:lnTo>
                    <a:lnTo>
                      <a:pt x="1907" y="1053"/>
                    </a:lnTo>
                    <a:lnTo>
                      <a:pt x="1941" y="1013"/>
                    </a:lnTo>
                    <a:lnTo>
                      <a:pt x="1975" y="972"/>
                    </a:lnTo>
                    <a:lnTo>
                      <a:pt x="2005" y="929"/>
                    </a:lnTo>
                    <a:lnTo>
                      <a:pt x="2034" y="884"/>
                    </a:lnTo>
                    <a:lnTo>
                      <a:pt x="2060" y="839"/>
                    </a:lnTo>
                    <a:lnTo>
                      <a:pt x="2084" y="790"/>
                    </a:lnTo>
                    <a:lnTo>
                      <a:pt x="2106" y="742"/>
                    </a:lnTo>
                    <a:lnTo>
                      <a:pt x="2126" y="692"/>
                    </a:lnTo>
                    <a:lnTo>
                      <a:pt x="2144" y="641"/>
                    </a:lnTo>
                    <a:lnTo>
                      <a:pt x="2159" y="589"/>
                    </a:lnTo>
                    <a:lnTo>
                      <a:pt x="2170" y="535"/>
                    </a:lnTo>
                    <a:lnTo>
                      <a:pt x="2181" y="482"/>
                    </a:lnTo>
                    <a:lnTo>
                      <a:pt x="2187" y="426"/>
                    </a:lnTo>
                    <a:lnTo>
                      <a:pt x="2191" y="370"/>
                    </a:lnTo>
                    <a:lnTo>
                      <a:pt x="2193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335400" y="2894040"/>
                <a:ext cx="674640" cy="436680"/>
              </a:xfrm>
              <a:custGeom>
                <a:avLst/>
                <a:gdLst/>
                <a:ahLst/>
                <a:rect l="l" t="t" r="r" b="b"/>
                <a:pathLst>
                  <a:path w="2128" h="1379">
                    <a:moveTo>
                      <a:pt x="2128" y="314"/>
                    </a:moveTo>
                    <a:lnTo>
                      <a:pt x="2127" y="273"/>
                    </a:lnTo>
                    <a:lnTo>
                      <a:pt x="2125" y="233"/>
                    </a:lnTo>
                    <a:lnTo>
                      <a:pt x="2120" y="193"/>
                    </a:lnTo>
                    <a:lnTo>
                      <a:pt x="2115" y="153"/>
                    </a:lnTo>
                    <a:lnTo>
                      <a:pt x="2109" y="114"/>
                    </a:lnTo>
                    <a:lnTo>
                      <a:pt x="2100" y="75"/>
                    </a:lnTo>
                    <a:lnTo>
                      <a:pt x="2091" y="37"/>
                    </a:lnTo>
                    <a:lnTo>
                      <a:pt x="2080" y="0"/>
                    </a:lnTo>
                    <a:lnTo>
                      <a:pt x="2053" y="0"/>
                    </a:lnTo>
                    <a:lnTo>
                      <a:pt x="2008" y="0"/>
                    </a:lnTo>
                    <a:lnTo>
                      <a:pt x="2019" y="37"/>
                    </a:lnTo>
                    <a:lnTo>
                      <a:pt x="2030" y="75"/>
                    </a:lnTo>
                    <a:lnTo>
                      <a:pt x="2038" y="113"/>
                    </a:lnTo>
                    <a:lnTo>
                      <a:pt x="2046" y="153"/>
                    </a:lnTo>
                    <a:lnTo>
                      <a:pt x="2051" y="192"/>
                    </a:lnTo>
                    <a:lnTo>
                      <a:pt x="2055" y="233"/>
                    </a:lnTo>
                    <a:lnTo>
                      <a:pt x="2058" y="273"/>
                    </a:lnTo>
                    <a:lnTo>
                      <a:pt x="2059" y="314"/>
                    </a:lnTo>
                    <a:lnTo>
                      <a:pt x="2057" y="365"/>
                    </a:lnTo>
                    <a:lnTo>
                      <a:pt x="2054" y="415"/>
                    </a:lnTo>
                    <a:lnTo>
                      <a:pt x="2048" y="466"/>
                    </a:lnTo>
                    <a:lnTo>
                      <a:pt x="2038" y="515"/>
                    </a:lnTo>
                    <a:lnTo>
                      <a:pt x="2028" y="564"/>
                    </a:lnTo>
                    <a:lnTo>
                      <a:pt x="2014" y="611"/>
                    </a:lnTo>
                    <a:lnTo>
                      <a:pt x="1998" y="657"/>
                    </a:lnTo>
                    <a:lnTo>
                      <a:pt x="1981" y="702"/>
                    </a:lnTo>
                    <a:lnTo>
                      <a:pt x="1961" y="746"/>
                    </a:lnTo>
                    <a:lnTo>
                      <a:pt x="1938" y="789"/>
                    </a:lnTo>
                    <a:lnTo>
                      <a:pt x="1914" y="831"/>
                    </a:lnTo>
                    <a:lnTo>
                      <a:pt x="1888" y="871"/>
                    </a:lnTo>
                    <a:lnTo>
                      <a:pt x="1861" y="910"/>
                    </a:lnTo>
                    <a:lnTo>
                      <a:pt x="1831" y="948"/>
                    </a:lnTo>
                    <a:lnTo>
                      <a:pt x="1800" y="985"/>
                    </a:lnTo>
                    <a:lnTo>
                      <a:pt x="1766" y="1018"/>
                    </a:lnTo>
                    <a:lnTo>
                      <a:pt x="1731" y="1052"/>
                    </a:lnTo>
                    <a:lnTo>
                      <a:pt x="1696" y="1083"/>
                    </a:lnTo>
                    <a:lnTo>
                      <a:pt x="1658" y="1113"/>
                    </a:lnTo>
                    <a:lnTo>
                      <a:pt x="1619" y="1140"/>
                    </a:lnTo>
                    <a:lnTo>
                      <a:pt x="1578" y="1166"/>
                    </a:lnTo>
                    <a:lnTo>
                      <a:pt x="1537" y="1190"/>
                    </a:lnTo>
                    <a:lnTo>
                      <a:pt x="1494" y="1212"/>
                    </a:lnTo>
                    <a:lnTo>
                      <a:pt x="1450" y="1232"/>
                    </a:lnTo>
                    <a:lnTo>
                      <a:pt x="1404" y="1250"/>
                    </a:lnTo>
                    <a:lnTo>
                      <a:pt x="1358" y="1266"/>
                    </a:lnTo>
                    <a:lnTo>
                      <a:pt x="1311" y="1280"/>
                    </a:lnTo>
                    <a:lnTo>
                      <a:pt x="1263" y="1290"/>
                    </a:lnTo>
                    <a:lnTo>
                      <a:pt x="1213" y="1299"/>
                    </a:lnTo>
                    <a:lnTo>
                      <a:pt x="1163" y="1306"/>
                    </a:lnTo>
                    <a:lnTo>
                      <a:pt x="1112" y="1309"/>
                    </a:lnTo>
                    <a:lnTo>
                      <a:pt x="1061" y="1310"/>
                    </a:lnTo>
                    <a:lnTo>
                      <a:pt x="1012" y="1309"/>
                    </a:lnTo>
                    <a:lnTo>
                      <a:pt x="964" y="1306"/>
                    </a:lnTo>
                    <a:lnTo>
                      <a:pt x="917" y="1301"/>
                    </a:lnTo>
                    <a:lnTo>
                      <a:pt x="869" y="1292"/>
                    </a:lnTo>
                    <a:lnTo>
                      <a:pt x="824" y="1282"/>
                    </a:lnTo>
                    <a:lnTo>
                      <a:pt x="779" y="1270"/>
                    </a:lnTo>
                    <a:lnTo>
                      <a:pt x="734" y="1255"/>
                    </a:lnTo>
                    <a:lnTo>
                      <a:pt x="691" y="1240"/>
                    </a:lnTo>
                    <a:lnTo>
                      <a:pt x="649" y="1222"/>
                    </a:lnTo>
                    <a:lnTo>
                      <a:pt x="607" y="1202"/>
                    </a:lnTo>
                    <a:lnTo>
                      <a:pt x="567" y="1180"/>
                    </a:lnTo>
                    <a:lnTo>
                      <a:pt x="528" y="1156"/>
                    </a:lnTo>
                    <a:lnTo>
                      <a:pt x="490" y="1131"/>
                    </a:lnTo>
                    <a:lnTo>
                      <a:pt x="453" y="1104"/>
                    </a:lnTo>
                    <a:lnTo>
                      <a:pt x="417" y="1075"/>
                    </a:lnTo>
                    <a:lnTo>
                      <a:pt x="384" y="1045"/>
                    </a:lnTo>
                    <a:lnTo>
                      <a:pt x="350" y="1014"/>
                    </a:lnTo>
                    <a:lnTo>
                      <a:pt x="320" y="980"/>
                    </a:lnTo>
                    <a:lnTo>
                      <a:pt x="290" y="946"/>
                    </a:lnTo>
                    <a:lnTo>
                      <a:pt x="262" y="910"/>
                    </a:lnTo>
                    <a:lnTo>
                      <a:pt x="236" y="873"/>
                    </a:lnTo>
                    <a:lnTo>
                      <a:pt x="210" y="834"/>
                    </a:lnTo>
                    <a:lnTo>
                      <a:pt x="187" y="796"/>
                    </a:lnTo>
                    <a:lnTo>
                      <a:pt x="166" y="755"/>
                    </a:lnTo>
                    <a:lnTo>
                      <a:pt x="146" y="713"/>
                    </a:lnTo>
                    <a:lnTo>
                      <a:pt x="129" y="671"/>
                    </a:lnTo>
                    <a:lnTo>
                      <a:pt x="114" y="627"/>
                    </a:lnTo>
                    <a:lnTo>
                      <a:pt x="100" y="582"/>
                    </a:lnTo>
                    <a:lnTo>
                      <a:pt x="88" y="536"/>
                    </a:lnTo>
                    <a:lnTo>
                      <a:pt x="79" y="490"/>
                    </a:lnTo>
                    <a:lnTo>
                      <a:pt x="72" y="444"/>
                    </a:lnTo>
                    <a:lnTo>
                      <a:pt x="67" y="396"/>
                    </a:lnTo>
                    <a:lnTo>
                      <a:pt x="46" y="396"/>
                    </a:lnTo>
                    <a:lnTo>
                      <a:pt x="0" y="418"/>
                    </a:lnTo>
                    <a:lnTo>
                      <a:pt x="5" y="468"/>
                    </a:lnTo>
                    <a:lnTo>
                      <a:pt x="14" y="517"/>
                    </a:lnTo>
                    <a:lnTo>
                      <a:pt x="25" y="567"/>
                    </a:lnTo>
                    <a:lnTo>
                      <a:pt x="38" y="614"/>
                    </a:lnTo>
                    <a:lnTo>
                      <a:pt x="53" y="661"/>
                    </a:lnTo>
                    <a:lnTo>
                      <a:pt x="70" y="707"/>
                    </a:lnTo>
                    <a:lnTo>
                      <a:pt x="88" y="751"/>
                    </a:lnTo>
                    <a:lnTo>
                      <a:pt x="109" y="796"/>
                    </a:lnTo>
                    <a:lnTo>
                      <a:pt x="133" y="839"/>
                    </a:lnTo>
                    <a:lnTo>
                      <a:pt x="158" y="880"/>
                    </a:lnTo>
                    <a:lnTo>
                      <a:pt x="184" y="921"/>
                    </a:lnTo>
                    <a:lnTo>
                      <a:pt x="213" y="959"/>
                    </a:lnTo>
                    <a:lnTo>
                      <a:pt x="243" y="997"/>
                    </a:lnTo>
                    <a:lnTo>
                      <a:pt x="275" y="1033"/>
                    </a:lnTo>
                    <a:lnTo>
                      <a:pt x="307" y="1068"/>
                    </a:lnTo>
                    <a:lnTo>
                      <a:pt x="343" y="1101"/>
                    </a:lnTo>
                    <a:lnTo>
                      <a:pt x="379" y="1133"/>
                    </a:lnTo>
                    <a:lnTo>
                      <a:pt x="416" y="1162"/>
                    </a:lnTo>
                    <a:lnTo>
                      <a:pt x="455" y="1190"/>
                    </a:lnTo>
                    <a:lnTo>
                      <a:pt x="495" y="1218"/>
                    </a:lnTo>
                    <a:lnTo>
                      <a:pt x="537" y="1242"/>
                    </a:lnTo>
                    <a:lnTo>
                      <a:pt x="580" y="1265"/>
                    </a:lnTo>
                    <a:lnTo>
                      <a:pt x="623" y="1286"/>
                    </a:lnTo>
                    <a:lnTo>
                      <a:pt x="669" y="1305"/>
                    </a:lnTo>
                    <a:lnTo>
                      <a:pt x="715" y="1322"/>
                    </a:lnTo>
                    <a:lnTo>
                      <a:pt x="762" y="1336"/>
                    </a:lnTo>
                    <a:lnTo>
                      <a:pt x="810" y="1350"/>
                    </a:lnTo>
                    <a:lnTo>
                      <a:pt x="859" y="1360"/>
                    </a:lnTo>
                    <a:lnTo>
                      <a:pt x="908" y="1369"/>
                    </a:lnTo>
                    <a:lnTo>
                      <a:pt x="959" y="1374"/>
                    </a:lnTo>
                    <a:lnTo>
                      <a:pt x="1009" y="1378"/>
                    </a:lnTo>
                    <a:lnTo>
                      <a:pt x="1061" y="1379"/>
                    </a:lnTo>
                    <a:lnTo>
                      <a:pt x="1116" y="1378"/>
                    </a:lnTo>
                    <a:lnTo>
                      <a:pt x="1170" y="1374"/>
                    </a:lnTo>
                    <a:lnTo>
                      <a:pt x="1224" y="1367"/>
                    </a:lnTo>
                    <a:lnTo>
                      <a:pt x="1276" y="1357"/>
                    </a:lnTo>
                    <a:lnTo>
                      <a:pt x="1328" y="1346"/>
                    </a:lnTo>
                    <a:lnTo>
                      <a:pt x="1378" y="1331"/>
                    </a:lnTo>
                    <a:lnTo>
                      <a:pt x="1428" y="1314"/>
                    </a:lnTo>
                    <a:lnTo>
                      <a:pt x="1476" y="1295"/>
                    </a:lnTo>
                    <a:lnTo>
                      <a:pt x="1523" y="1274"/>
                    </a:lnTo>
                    <a:lnTo>
                      <a:pt x="1570" y="1250"/>
                    </a:lnTo>
                    <a:lnTo>
                      <a:pt x="1614" y="1225"/>
                    </a:lnTo>
                    <a:lnTo>
                      <a:pt x="1658" y="1198"/>
                    </a:lnTo>
                    <a:lnTo>
                      <a:pt x="1699" y="1167"/>
                    </a:lnTo>
                    <a:lnTo>
                      <a:pt x="1740" y="1136"/>
                    </a:lnTo>
                    <a:lnTo>
                      <a:pt x="1779" y="1102"/>
                    </a:lnTo>
                    <a:lnTo>
                      <a:pt x="1815" y="1068"/>
                    </a:lnTo>
                    <a:lnTo>
                      <a:pt x="1850" y="1031"/>
                    </a:lnTo>
                    <a:lnTo>
                      <a:pt x="1884" y="992"/>
                    </a:lnTo>
                    <a:lnTo>
                      <a:pt x="1915" y="951"/>
                    </a:lnTo>
                    <a:lnTo>
                      <a:pt x="1946" y="910"/>
                    </a:lnTo>
                    <a:lnTo>
                      <a:pt x="1973" y="866"/>
                    </a:lnTo>
                    <a:lnTo>
                      <a:pt x="1998" y="822"/>
                    </a:lnTo>
                    <a:lnTo>
                      <a:pt x="2023" y="776"/>
                    </a:lnTo>
                    <a:lnTo>
                      <a:pt x="2044" y="728"/>
                    </a:lnTo>
                    <a:lnTo>
                      <a:pt x="2063" y="680"/>
                    </a:lnTo>
                    <a:lnTo>
                      <a:pt x="2079" y="631"/>
                    </a:lnTo>
                    <a:lnTo>
                      <a:pt x="2094" y="580"/>
                    </a:lnTo>
                    <a:lnTo>
                      <a:pt x="2106" y="529"/>
                    </a:lnTo>
                    <a:lnTo>
                      <a:pt x="2115" y="476"/>
                    </a:lnTo>
                    <a:lnTo>
                      <a:pt x="2122" y="423"/>
                    </a:lnTo>
                    <a:lnTo>
                      <a:pt x="2127" y="369"/>
                    </a:lnTo>
                    <a:lnTo>
                      <a:pt x="2128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344760" y="2894040"/>
                <a:ext cx="654120" cy="426960"/>
              </a:xfrm>
              <a:custGeom>
                <a:avLst/>
                <a:gdLst/>
                <a:ahLst/>
                <a:rect l="l" t="t" r="r" b="b"/>
                <a:pathLst>
                  <a:path w="2060" h="1345">
                    <a:moveTo>
                      <a:pt x="2060" y="314"/>
                    </a:moveTo>
                    <a:lnTo>
                      <a:pt x="2059" y="273"/>
                    </a:lnTo>
                    <a:lnTo>
                      <a:pt x="2057" y="233"/>
                    </a:lnTo>
                    <a:lnTo>
                      <a:pt x="2053" y="193"/>
                    </a:lnTo>
                    <a:lnTo>
                      <a:pt x="2047" y="153"/>
                    </a:lnTo>
                    <a:lnTo>
                      <a:pt x="2041" y="114"/>
                    </a:lnTo>
                    <a:lnTo>
                      <a:pt x="2033" y="75"/>
                    </a:lnTo>
                    <a:lnTo>
                      <a:pt x="2022" y="37"/>
                    </a:lnTo>
                    <a:lnTo>
                      <a:pt x="2012" y="0"/>
                    </a:lnTo>
                    <a:lnTo>
                      <a:pt x="1963" y="0"/>
                    </a:lnTo>
                    <a:lnTo>
                      <a:pt x="1939" y="0"/>
                    </a:lnTo>
                    <a:lnTo>
                      <a:pt x="1951" y="36"/>
                    </a:lnTo>
                    <a:lnTo>
                      <a:pt x="1961" y="75"/>
                    </a:lnTo>
                    <a:lnTo>
                      <a:pt x="1971" y="113"/>
                    </a:lnTo>
                    <a:lnTo>
                      <a:pt x="1978" y="152"/>
                    </a:lnTo>
                    <a:lnTo>
                      <a:pt x="1983" y="192"/>
                    </a:lnTo>
                    <a:lnTo>
                      <a:pt x="1989" y="232"/>
                    </a:lnTo>
                    <a:lnTo>
                      <a:pt x="1991" y="273"/>
                    </a:lnTo>
                    <a:lnTo>
                      <a:pt x="1992" y="314"/>
                    </a:lnTo>
                    <a:lnTo>
                      <a:pt x="1991" y="363"/>
                    </a:lnTo>
                    <a:lnTo>
                      <a:pt x="1986" y="412"/>
                    </a:lnTo>
                    <a:lnTo>
                      <a:pt x="1980" y="461"/>
                    </a:lnTo>
                    <a:lnTo>
                      <a:pt x="1972" y="508"/>
                    </a:lnTo>
                    <a:lnTo>
                      <a:pt x="1961" y="554"/>
                    </a:lnTo>
                    <a:lnTo>
                      <a:pt x="1949" y="600"/>
                    </a:lnTo>
                    <a:lnTo>
                      <a:pt x="1933" y="644"/>
                    </a:lnTo>
                    <a:lnTo>
                      <a:pt x="1916" y="688"/>
                    </a:lnTo>
                    <a:lnTo>
                      <a:pt x="1896" y="732"/>
                    </a:lnTo>
                    <a:lnTo>
                      <a:pt x="1875" y="772"/>
                    </a:lnTo>
                    <a:lnTo>
                      <a:pt x="1852" y="813"/>
                    </a:lnTo>
                    <a:lnTo>
                      <a:pt x="1827" y="852"/>
                    </a:lnTo>
                    <a:lnTo>
                      <a:pt x="1800" y="890"/>
                    </a:lnTo>
                    <a:lnTo>
                      <a:pt x="1771" y="926"/>
                    </a:lnTo>
                    <a:lnTo>
                      <a:pt x="1741" y="961"/>
                    </a:lnTo>
                    <a:lnTo>
                      <a:pt x="1709" y="994"/>
                    </a:lnTo>
                    <a:lnTo>
                      <a:pt x="1676" y="1027"/>
                    </a:lnTo>
                    <a:lnTo>
                      <a:pt x="1641" y="1056"/>
                    </a:lnTo>
                    <a:lnTo>
                      <a:pt x="1605" y="1085"/>
                    </a:lnTo>
                    <a:lnTo>
                      <a:pt x="1567" y="1112"/>
                    </a:lnTo>
                    <a:lnTo>
                      <a:pt x="1528" y="1137"/>
                    </a:lnTo>
                    <a:lnTo>
                      <a:pt x="1487" y="1160"/>
                    </a:lnTo>
                    <a:lnTo>
                      <a:pt x="1446" y="1181"/>
                    </a:lnTo>
                    <a:lnTo>
                      <a:pt x="1403" y="1201"/>
                    </a:lnTo>
                    <a:lnTo>
                      <a:pt x="1359" y="1218"/>
                    </a:lnTo>
                    <a:lnTo>
                      <a:pt x="1315" y="1233"/>
                    </a:lnTo>
                    <a:lnTo>
                      <a:pt x="1268" y="1246"/>
                    </a:lnTo>
                    <a:lnTo>
                      <a:pt x="1222" y="1257"/>
                    </a:lnTo>
                    <a:lnTo>
                      <a:pt x="1175" y="1265"/>
                    </a:lnTo>
                    <a:lnTo>
                      <a:pt x="1127" y="1271"/>
                    </a:lnTo>
                    <a:lnTo>
                      <a:pt x="1078" y="1274"/>
                    </a:lnTo>
                    <a:lnTo>
                      <a:pt x="1028" y="1276"/>
                    </a:lnTo>
                    <a:lnTo>
                      <a:pt x="982" y="1275"/>
                    </a:lnTo>
                    <a:lnTo>
                      <a:pt x="935" y="1271"/>
                    </a:lnTo>
                    <a:lnTo>
                      <a:pt x="889" y="1266"/>
                    </a:lnTo>
                    <a:lnTo>
                      <a:pt x="844" y="1259"/>
                    </a:lnTo>
                    <a:lnTo>
                      <a:pt x="800" y="1249"/>
                    </a:lnTo>
                    <a:lnTo>
                      <a:pt x="756" y="1238"/>
                    </a:lnTo>
                    <a:lnTo>
                      <a:pt x="713" y="1224"/>
                    </a:lnTo>
                    <a:lnTo>
                      <a:pt x="671" y="1208"/>
                    </a:lnTo>
                    <a:lnTo>
                      <a:pt x="630" y="1190"/>
                    </a:lnTo>
                    <a:lnTo>
                      <a:pt x="590" y="1171"/>
                    </a:lnTo>
                    <a:lnTo>
                      <a:pt x="552" y="1150"/>
                    </a:lnTo>
                    <a:lnTo>
                      <a:pt x="514" y="1127"/>
                    </a:lnTo>
                    <a:lnTo>
                      <a:pt x="477" y="1103"/>
                    </a:lnTo>
                    <a:lnTo>
                      <a:pt x="442" y="1077"/>
                    </a:lnTo>
                    <a:lnTo>
                      <a:pt x="408" y="1050"/>
                    </a:lnTo>
                    <a:lnTo>
                      <a:pt x="375" y="1021"/>
                    </a:lnTo>
                    <a:lnTo>
                      <a:pt x="343" y="991"/>
                    </a:lnTo>
                    <a:lnTo>
                      <a:pt x="313" y="958"/>
                    </a:lnTo>
                    <a:lnTo>
                      <a:pt x="285" y="926"/>
                    </a:lnTo>
                    <a:lnTo>
                      <a:pt x="257" y="891"/>
                    </a:lnTo>
                    <a:lnTo>
                      <a:pt x="232" y="855"/>
                    </a:lnTo>
                    <a:lnTo>
                      <a:pt x="208" y="819"/>
                    </a:lnTo>
                    <a:lnTo>
                      <a:pt x="186" y="781"/>
                    </a:lnTo>
                    <a:lnTo>
                      <a:pt x="165" y="741"/>
                    </a:lnTo>
                    <a:lnTo>
                      <a:pt x="146" y="701"/>
                    </a:lnTo>
                    <a:lnTo>
                      <a:pt x="129" y="660"/>
                    </a:lnTo>
                    <a:lnTo>
                      <a:pt x="114" y="618"/>
                    </a:lnTo>
                    <a:lnTo>
                      <a:pt x="101" y="575"/>
                    </a:lnTo>
                    <a:lnTo>
                      <a:pt x="90" y="531"/>
                    </a:lnTo>
                    <a:lnTo>
                      <a:pt x="81" y="487"/>
                    </a:lnTo>
                    <a:lnTo>
                      <a:pt x="73" y="442"/>
                    </a:lnTo>
                    <a:lnTo>
                      <a:pt x="69" y="396"/>
                    </a:lnTo>
                    <a:lnTo>
                      <a:pt x="13" y="396"/>
                    </a:lnTo>
                    <a:lnTo>
                      <a:pt x="0" y="402"/>
                    </a:lnTo>
                    <a:lnTo>
                      <a:pt x="5" y="451"/>
                    </a:lnTo>
                    <a:lnTo>
                      <a:pt x="13" y="499"/>
                    </a:lnTo>
                    <a:lnTo>
                      <a:pt x="23" y="548"/>
                    </a:lnTo>
                    <a:lnTo>
                      <a:pt x="34" y="594"/>
                    </a:lnTo>
                    <a:lnTo>
                      <a:pt x="49" y="640"/>
                    </a:lnTo>
                    <a:lnTo>
                      <a:pt x="65" y="685"/>
                    </a:lnTo>
                    <a:lnTo>
                      <a:pt x="84" y="729"/>
                    </a:lnTo>
                    <a:lnTo>
                      <a:pt x="104" y="772"/>
                    </a:lnTo>
                    <a:lnTo>
                      <a:pt x="126" y="814"/>
                    </a:lnTo>
                    <a:lnTo>
                      <a:pt x="149" y="854"/>
                    </a:lnTo>
                    <a:lnTo>
                      <a:pt x="175" y="894"/>
                    </a:lnTo>
                    <a:lnTo>
                      <a:pt x="203" y="932"/>
                    </a:lnTo>
                    <a:lnTo>
                      <a:pt x="231" y="970"/>
                    </a:lnTo>
                    <a:lnTo>
                      <a:pt x="263" y="1005"/>
                    </a:lnTo>
                    <a:lnTo>
                      <a:pt x="294" y="1039"/>
                    </a:lnTo>
                    <a:lnTo>
                      <a:pt x="329" y="1072"/>
                    </a:lnTo>
                    <a:lnTo>
                      <a:pt x="363" y="1102"/>
                    </a:lnTo>
                    <a:lnTo>
                      <a:pt x="400" y="1132"/>
                    </a:lnTo>
                    <a:lnTo>
                      <a:pt x="438" y="1160"/>
                    </a:lnTo>
                    <a:lnTo>
                      <a:pt x="477" y="1186"/>
                    </a:lnTo>
                    <a:lnTo>
                      <a:pt x="518" y="1210"/>
                    </a:lnTo>
                    <a:lnTo>
                      <a:pt x="559" y="1232"/>
                    </a:lnTo>
                    <a:lnTo>
                      <a:pt x="602" y="1253"/>
                    </a:lnTo>
                    <a:lnTo>
                      <a:pt x="646" y="1272"/>
                    </a:lnTo>
                    <a:lnTo>
                      <a:pt x="690" y="1289"/>
                    </a:lnTo>
                    <a:lnTo>
                      <a:pt x="737" y="1303"/>
                    </a:lnTo>
                    <a:lnTo>
                      <a:pt x="783" y="1315"/>
                    </a:lnTo>
                    <a:lnTo>
                      <a:pt x="831" y="1326"/>
                    </a:lnTo>
                    <a:lnTo>
                      <a:pt x="879" y="1334"/>
                    </a:lnTo>
                    <a:lnTo>
                      <a:pt x="928" y="1341"/>
                    </a:lnTo>
                    <a:lnTo>
                      <a:pt x="977" y="1344"/>
                    </a:lnTo>
                    <a:lnTo>
                      <a:pt x="1028" y="1345"/>
                    </a:lnTo>
                    <a:lnTo>
                      <a:pt x="1081" y="1344"/>
                    </a:lnTo>
                    <a:lnTo>
                      <a:pt x="1134" y="1339"/>
                    </a:lnTo>
                    <a:lnTo>
                      <a:pt x="1185" y="1333"/>
                    </a:lnTo>
                    <a:lnTo>
                      <a:pt x="1236" y="1324"/>
                    </a:lnTo>
                    <a:lnTo>
                      <a:pt x="1286" y="1312"/>
                    </a:lnTo>
                    <a:lnTo>
                      <a:pt x="1335" y="1299"/>
                    </a:lnTo>
                    <a:lnTo>
                      <a:pt x="1383" y="1283"/>
                    </a:lnTo>
                    <a:lnTo>
                      <a:pt x="1430" y="1264"/>
                    </a:lnTo>
                    <a:lnTo>
                      <a:pt x="1476" y="1243"/>
                    </a:lnTo>
                    <a:lnTo>
                      <a:pt x="1520" y="1221"/>
                    </a:lnTo>
                    <a:lnTo>
                      <a:pt x="1563" y="1196"/>
                    </a:lnTo>
                    <a:lnTo>
                      <a:pt x="1605" y="1168"/>
                    </a:lnTo>
                    <a:lnTo>
                      <a:pt x="1646" y="1140"/>
                    </a:lnTo>
                    <a:lnTo>
                      <a:pt x="1685" y="1110"/>
                    </a:lnTo>
                    <a:lnTo>
                      <a:pt x="1722" y="1077"/>
                    </a:lnTo>
                    <a:lnTo>
                      <a:pt x="1758" y="1043"/>
                    </a:lnTo>
                    <a:lnTo>
                      <a:pt x="1792" y="1007"/>
                    </a:lnTo>
                    <a:lnTo>
                      <a:pt x="1825" y="970"/>
                    </a:lnTo>
                    <a:lnTo>
                      <a:pt x="1855" y="931"/>
                    </a:lnTo>
                    <a:lnTo>
                      <a:pt x="1883" y="890"/>
                    </a:lnTo>
                    <a:lnTo>
                      <a:pt x="1911" y="848"/>
                    </a:lnTo>
                    <a:lnTo>
                      <a:pt x="1936" y="805"/>
                    </a:lnTo>
                    <a:lnTo>
                      <a:pt x="1958" y="761"/>
                    </a:lnTo>
                    <a:lnTo>
                      <a:pt x="1979" y="715"/>
                    </a:lnTo>
                    <a:lnTo>
                      <a:pt x="1998" y="669"/>
                    </a:lnTo>
                    <a:lnTo>
                      <a:pt x="2014" y="620"/>
                    </a:lnTo>
                    <a:lnTo>
                      <a:pt x="2027" y="572"/>
                    </a:lnTo>
                    <a:lnTo>
                      <a:pt x="2039" y="522"/>
                    </a:lnTo>
                    <a:lnTo>
                      <a:pt x="2048" y="471"/>
                    </a:lnTo>
                    <a:lnTo>
                      <a:pt x="2055" y="420"/>
                    </a:lnTo>
                    <a:lnTo>
                      <a:pt x="2059" y="367"/>
                    </a:lnTo>
                    <a:lnTo>
                      <a:pt x="2060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355920" y="2894040"/>
                <a:ext cx="631800" cy="415800"/>
              </a:xfrm>
              <a:custGeom>
                <a:avLst/>
                <a:gdLst/>
                <a:ahLst/>
                <a:rect l="l" t="t" r="r" b="b"/>
                <a:pathLst>
                  <a:path w="1992" h="1310">
                    <a:moveTo>
                      <a:pt x="1992" y="314"/>
                    </a:moveTo>
                    <a:lnTo>
                      <a:pt x="1991" y="273"/>
                    </a:lnTo>
                    <a:lnTo>
                      <a:pt x="1988" y="233"/>
                    </a:lnTo>
                    <a:lnTo>
                      <a:pt x="1984" y="192"/>
                    </a:lnTo>
                    <a:lnTo>
                      <a:pt x="1979" y="153"/>
                    </a:lnTo>
                    <a:lnTo>
                      <a:pt x="1971" y="113"/>
                    </a:lnTo>
                    <a:lnTo>
                      <a:pt x="1963" y="75"/>
                    </a:lnTo>
                    <a:lnTo>
                      <a:pt x="1952" y="37"/>
                    </a:lnTo>
                    <a:lnTo>
                      <a:pt x="1941" y="0"/>
                    </a:lnTo>
                    <a:lnTo>
                      <a:pt x="1929" y="0"/>
                    </a:lnTo>
                    <a:lnTo>
                      <a:pt x="1875" y="0"/>
                    </a:lnTo>
                    <a:lnTo>
                      <a:pt x="1870" y="4"/>
                    </a:lnTo>
                    <a:lnTo>
                      <a:pt x="1882" y="41"/>
                    </a:lnTo>
                    <a:lnTo>
                      <a:pt x="1892" y="78"/>
                    </a:lnTo>
                    <a:lnTo>
                      <a:pt x="1902" y="116"/>
                    </a:lnTo>
                    <a:lnTo>
                      <a:pt x="1909" y="155"/>
                    </a:lnTo>
                    <a:lnTo>
                      <a:pt x="1916" y="194"/>
                    </a:lnTo>
                    <a:lnTo>
                      <a:pt x="1920" y="234"/>
                    </a:lnTo>
                    <a:lnTo>
                      <a:pt x="1922" y="274"/>
                    </a:lnTo>
                    <a:lnTo>
                      <a:pt x="1923" y="314"/>
                    </a:lnTo>
                    <a:lnTo>
                      <a:pt x="1922" y="362"/>
                    </a:lnTo>
                    <a:lnTo>
                      <a:pt x="1918" y="409"/>
                    </a:lnTo>
                    <a:lnTo>
                      <a:pt x="1912" y="455"/>
                    </a:lnTo>
                    <a:lnTo>
                      <a:pt x="1904" y="501"/>
                    </a:lnTo>
                    <a:lnTo>
                      <a:pt x="1894" y="546"/>
                    </a:lnTo>
                    <a:lnTo>
                      <a:pt x="1881" y="590"/>
                    </a:lnTo>
                    <a:lnTo>
                      <a:pt x="1866" y="633"/>
                    </a:lnTo>
                    <a:lnTo>
                      <a:pt x="1850" y="675"/>
                    </a:lnTo>
                    <a:lnTo>
                      <a:pt x="1832" y="716"/>
                    </a:lnTo>
                    <a:lnTo>
                      <a:pt x="1811" y="757"/>
                    </a:lnTo>
                    <a:lnTo>
                      <a:pt x="1788" y="796"/>
                    </a:lnTo>
                    <a:lnTo>
                      <a:pt x="1764" y="832"/>
                    </a:lnTo>
                    <a:lnTo>
                      <a:pt x="1738" y="869"/>
                    </a:lnTo>
                    <a:lnTo>
                      <a:pt x="1711" y="904"/>
                    </a:lnTo>
                    <a:lnTo>
                      <a:pt x="1681" y="937"/>
                    </a:lnTo>
                    <a:lnTo>
                      <a:pt x="1651" y="970"/>
                    </a:lnTo>
                    <a:lnTo>
                      <a:pt x="1618" y="1000"/>
                    </a:lnTo>
                    <a:lnTo>
                      <a:pt x="1585" y="1030"/>
                    </a:lnTo>
                    <a:lnTo>
                      <a:pt x="1550" y="1057"/>
                    </a:lnTo>
                    <a:lnTo>
                      <a:pt x="1513" y="1083"/>
                    </a:lnTo>
                    <a:lnTo>
                      <a:pt x="1476" y="1107"/>
                    </a:lnTo>
                    <a:lnTo>
                      <a:pt x="1437" y="1129"/>
                    </a:lnTo>
                    <a:lnTo>
                      <a:pt x="1396" y="1150"/>
                    </a:lnTo>
                    <a:lnTo>
                      <a:pt x="1355" y="1169"/>
                    </a:lnTo>
                    <a:lnTo>
                      <a:pt x="1313" y="1185"/>
                    </a:lnTo>
                    <a:lnTo>
                      <a:pt x="1270" y="1200"/>
                    </a:lnTo>
                    <a:lnTo>
                      <a:pt x="1226" y="1212"/>
                    </a:lnTo>
                    <a:lnTo>
                      <a:pt x="1181" y="1223"/>
                    </a:lnTo>
                    <a:lnTo>
                      <a:pt x="1136" y="1231"/>
                    </a:lnTo>
                    <a:lnTo>
                      <a:pt x="1089" y="1237"/>
                    </a:lnTo>
                    <a:lnTo>
                      <a:pt x="1042" y="1241"/>
                    </a:lnTo>
                    <a:lnTo>
                      <a:pt x="994" y="1242"/>
                    </a:lnTo>
                    <a:lnTo>
                      <a:pt x="949" y="1241"/>
                    </a:lnTo>
                    <a:lnTo>
                      <a:pt x="903" y="1238"/>
                    </a:lnTo>
                    <a:lnTo>
                      <a:pt x="859" y="1232"/>
                    </a:lnTo>
                    <a:lnTo>
                      <a:pt x="815" y="1224"/>
                    </a:lnTo>
                    <a:lnTo>
                      <a:pt x="772" y="1215"/>
                    </a:lnTo>
                    <a:lnTo>
                      <a:pt x="730" y="1204"/>
                    </a:lnTo>
                    <a:lnTo>
                      <a:pt x="688" y="1190"/>
                    </a:lnTo>
                    <a:lnTo>
                      <a:pt x="647" y="1175"/>
                    </a:lnTo>
                    <a:lnTo>
                      <a:pt x="608" y="1158"/>
                    </a:lnTo>
                    <a:lnTo>
                      <a:pt x="569" y="1139"/>
                    </a:lnTo>
                    <a:lnTo>
                      <a:pt x="531" y="1119"/>
                    </a:lnTo>
                    <a:lnTo>
                      <a:pt x="494" y="1096"/>
                    </a:lnTo>
                    <a:lnTo>
                      <a:pt x="459" y="1073"/>
                    </a:lnTo>
                    <a:lnTo>
                      <a:pt x="425" y="1047"/>
                    </a:lnTo>
                    <a:lnTo>
                      <a:pt x="391" y="1020"/>
                    </a:lnTo>
                    <a:lnTo>
                      <a:pt x="360" y="992"/>
                    </a:lnTo>
                    <a:lnTo>
                      <a:pt x="329" y="961"/>
                    </a:lnTo>
                    <a:lnTo>
                      <a:pt x="300" y="931"/>
                    </a:lnTo>
                    <a:lnTo>
                      <a:pt x="273" y="898"/>
                    </a:lnTo>
                    <a:lnTo>
                      <a:pt x="246" y="865"/>
                    </a:lnTo>
                    <a:lnTo>
                      <a:pt x="222" y="830"/>
                    </a:lnTo>
                    <a:lnTo>
                      <a:pt x="199" y="793"/>
                    </a:lnTo>
                    <a:lnTo>
                      <a:pt x="178" y="757"/>
                    </a:lnTo>
                    <a:lnTo>
                      <a:pt x="158" y="718"/>
                    </a:lnTo>
                    <a:lnTo>
                      <a:pt x="140" y="679"/>
                    </a:lnTo>
                    <a:lnTo>
                      <a:pt x="123" y="639"/>
                    </a:lnTo>
                    <a:lnTo>
                      <a:pt x="110" y="598"/>
                    </a:lnTo>
                    <a:lnTo>
                      <a:pt x="97" y="556"/>
                    </a:lnTo>
                    <a:lnTo>
                      <a:pt x="87" y="513"/>
                    </a:lnTo>
                    <a:lnTo>
                      <a:pt x="78" y="470"/>
                    </a:lnTo>
                    <a:lnTo>
                      <a:pt x="72" y="426"/>
                    </a:lnTo>
                    <a:lnTo>
                      <a:pt x="68" y="381"/>
                    </a:lnTo>
                    <a:lnTo>
                      <a:pt x="36" y="396"/>
                    </a:lnTo>
                    <a:lnTo>
                      <a:pt x="0" y="396"/>
                    </a:lnTo>
                    <a:lnTo>
                      <a:pt x="5" y="444"/>
                    </a:lnTo>
                    <a:lnTo>
                      <a:pt x="12" y="490"/>
                    </a:lnTo>
                    <a:lnTo>
                      <a:pt x="21" y="536"/>
                    </a:lnTo>
                    <a:lnTo>
                      <a:pt x="33" y="582"/>
                    </a:lnTo>
                    <a:lnTo>
                      <a:pt x="47" y="627"/>
                    </a:lnTo>
                    <a:lnTo>
                      <a:pt x="62" y="671"/>
                    </a:lnTo>
                    <a:lnTo>
                      <a:pt x="79" y="713"/>
                    </a:lnTo>
                    <a:lnTo>
                      <a:pt x="99" y="755"/>
                    </a:lnTo>
                    <a:lnTo>
                      <a:pt x="120" y="796"/>
                    </a:lnTo>
                    <a:lnTo>
                      <a:pt x="143" y="834"/>
                    </a:lnTo>
                    <a:lnTo>
                      <a:pt x="169" y="873"/>
                    </a:lnTo>
                    <a:lnTo>
                      <a:pt x="195" y="910"/>
                    </a:lnTo>
                    <a:lnTo>
                      <a:pt x="223" y="946"/>
                    </a:lnTo>
                    <a:lnTo>
                      <a:pt x="253" y="980"/>
                    </a:lnTo>
                    <a:lnTo>
                      <a:pt x="283" y="1014"/>
                    </a:lnTo>
                    <a:lnTo>
                      <a:pt x="317" y="1045"/>
                    </a:lnTo>
                    <a:lnTo>
                      <a:pt x="350" y="1075"/>
                    </a:lnTo>
                    <a:lnTo>
                      <a:pt x="386" y="1104"/>
                    </a:lnTo>
                    <a:lnTo>
                      <a:pt x="423" y="1131"/>
                    </a:lnTo>
                    <a:lnTo>
                      <a:pt x="461" y="1156"/>
                    </a:lnTo>
                    <a:lnTo>
                      <a:pt x="500" y="1180"/>
                    </a:lnTo>
                    <a:lnTo>
                      <a:pt x="540" y="1202"/>
                    </a:lnTo>
                    <a:lnTo>
                      <a:pt x="582" y="1222"/>
                    </a:lnTo>
                    <a:lnTo>
                      <a:pt x="624" y="1240"/>
                    </a:lnTo>
                    <a:lnTo>
                      <a:pt x="667" y="1255"/>
                    </a:lnTo>
                    <a:lnTo>
                      <a:pt x="712" y="1270"/>
                    </a:lnTo>
                    <a:lnTo>
                      <a:pt x="757" y="1282"/>
                    </a:lnTo>
                    <a:lnTo>
                      <a:pt x="802" y="1292"/>
                    </a:lnTo>
                    <a:lnTo>
                      <a:pt x="850" y="1301"/>
                    </a:lnTo>
                    <a:lnTo>
                      <a:pt x="897" y="1306"/>
                    </a:lnTo>
                    <a:lnTo>
                      <a:pt x="945" y="1309"/>
                    </a:lnTo>
                    <a:lnTo>
                      <a:pt x="994" y="1310"/>
                    </a:lnTo>
                    <a:lnTo>
                      <a:pt x="1045" y="1309"/>
                    </a:lnTo>
                    <a:lnTo>
                      <a:pt x="1096" y="1306"/>
                    </a:lnTo>
                    <a:lnTo>
                      <a:pt x="1146" y="1299"/>
                    </a:lnTo>
                    <a:lnTo>
                      <a:pt x="1196" y="1290"/>
                    </a:lnTo>
                    <a:lnTo>
                      <a:pt x="1244" y="1280"/>
                    </a:lnTo>
                    <a:lnTo>
                      <a:pt x="1291" y="1266"/>
                    </a:lnTo>
                    <a:lnTo>
                      <a:pt x="1337" y="1250"/>
                    </a:lnTo>
                    <a:lnTo>
                      <a:pt x="1383" y="1232"/>
                    </a:lnTo>
                    <a:lnTo>
                      <a:pt x="1427" y="1212"/>
                    </a:lnTo>
                    <a:lnTo>
                      <a:pt x="1470" y="1190"/>
                    </a:lnTo>
                    <a:lnTo>
                      <a:pt x="1511" y="1166"/>
                    </a:lnTo>
                    <a:lnTo>
                      <a:pt x="1552" y="1140"/>
                    </a:lnTo>
                    <a:lnTo>
                      <a:pt x="1591" y="1113"/>
                    </a:lnTo>
                    <a:lnTo>
                      <a:pt x="1629" y="1083"/>
                    </a:lnTo>
                    <a:lnTo>
                      <a:pt x="1664" y="1052"/>
                    </a:lnTo>
                    <a:lnTo>
                      <a:pt x="1699" y="1018"/>
                    </a:lnTo>
                    <a:lnTo>
                      <a:pt x="1733" y="985"/>
                    </a:lnTo>
                    <a:lnTo>
                      <a:pt x="1764" y="948"/>
                    </a:lnTo>
                    <a:lnTo>
                      <a:pt x="1794" y="910"/>
                    </a:lnTo>
                    <a:lnTo>
                      <a:pt x="1821" y="871"/>
                    </a:lnTo>
                    <a:lnTo>
                      <a:pt x="1847" y="831"/>
                    </a:lnTo>
                    <a:lnTo>
                      <a:pt x="1871" y="789"/>
                    </a:lnTo>
                    <a:lnTo>
                      <a:pt x="1894" y="746"/>
                    </a:lnTo>
                    <a:lnTo>
                      <a:pt x="1914" y="702"/>
                    </a:lnTo>
                    <a:lnTo>
                      <a:pt x="1931" y="657"/>
                    </a:lnTo>
                    <a:lnTo>
                      <a:pt x="1947" y="611"/>
                    </a:lnTo>
                    <a:lnTo>
                      <a:pt x="1961" y="564"/>
                    </a:lnTo>
                    <a:lnTo>
                      <a:pt x="1971" y="515"/>
                    </a:lnTo>
                    <a:lnTo>
                      <a:pt x="1981" y="466"/>
                    </a:lnTo>
                    <a:lnTo>
                      <a:pt x="1987" y="415"/>
                    </a:lnTo>
                    <a:lnTo>
                      <a:pt x="1990" y="365"/>
                    </a:lnTo>
                    <a:lnTo>
                      <a:pt x="1992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367080" y="2894040"/>
                <a:ext cx="611280" cy="404640"/>
              </a:xfrm>
              <a:custGeom>
                <a:avLst/>
                <a:gdLst/>
                <a:ahLst/>
                <a:rect l="l" t="t" r="r" b="b"/>
                <a:pathLst>
                  <a:path w="1923" h="1276">
                    <a:moveTo>
                      <a:pt x="1923" y="314"/>
                    </a:moveTo>
                    <a:lnTo>
                      <a:pt x="1922" y="273"/>
                    </a:lnTo>
                    <a:lnTo>
                      <a:pt x="1920" y="232"/>
                    </a:lnTo>
                    <a:lnTo>
                      <a:pt x="1914" y="192"/>
                    </a:lnTo>
                    <a:lnTo>
                      <a:pt x="1909" y="152"/>
                    </a:lnTo>
                    <a:lnTo>
                      <a:pt x="1902" y="113"/>
                    </a:lnTo>
                    <a:lnTo>
                      <a:pt x="1892" y="75"/>
                    </a:lnTo>
                    <a:lnTo>
                      <a:pt x="1882" y="36"/>
                    </a:lnTo>
                    <a:lnTo>
                      <a:pt x="1870" y="0"/>
                    </a:lnTo>
                    <a:lnTo>
                      <a:pt x="1840" y="0"/>
                    </a:lnTo>
                    <a:lnTo>
                      <a:pt x="1810" y="29"/>
                    </a:lnTo>
                    <a:lnTo>
                      <a:pt x="1807" y="29"/>
                    </a:lnTo>
                    <a:lnTo>
                      <a:pt x="1818" y="64"/>
                    </a:lnTo>
                    <a:lnTo>
                      <a:pt x="1827" y="97"/>
                    </a:lnTo>
                    <a:lnTo>
                      <a:pt x="1835" y="133"/>
                    </a:lnTo>
                    <a:lnTo>
                      <a:pt x="1842" y="168"/>
                    </a:lnTo>
                    <a:lnTo>
                      <a:pt x="1847" y="203"/>
                    </a:lnTo>
                    <a:lnTo>
                      <a:pt x="1850" y="240"/>
                    </a:lnTo>
                    <a:lnTo>
                      <a:pt x="1853" y="277"/>
                    </a:lnTo>
                    <a:lnTo>
                      <a:pt x="1853" y="314"/>
                    </a:lnTo>
                    <a:lnTo>
                      <a:pt x="1852" y="360"/>
                    </a:lnTo>
                    <a:lnTo>
                      <a:pt x="1849" y="405"/>
                    </a:lnTo>
                    <a:lnTo>
                      <a:pt x="1843" y="450"/>
                    </a:lnTo>
                    <a:lnTo>
                      <a:pt x="1835" y="494"/>
                    </a:lnTo>
                    <a:lnTo>
                      <a:pt x="1825" y="537"/>
                    </a:lnTo>
                    <a:lnTo>
                      <a:pt x="1813" y="579"/>
                    </a:lnTo>
                    <a:lnTo>
                      <a:pt x="1800" y="621"/>
                    </a:lnTo>
                    <a:lnTo>
                      <a:pt x="1783" y="662"/>
                    </a:lnTo>
                    <a:lnTo>
                      <a:pt x="1765" y="701"/>
                    </a:lnTo>
                    <a:lnTo>
                      <a:pt x="1746" y="740"/>
                    </a:lnTo>
                    <a:lnTo>
                      <a:pt x="1724" y="778"/>
                    </a:lnTo>
                    <a:lnTo>
                      <a:pt x="1701" y="813"/>
                    </a:lnTo>
                    <a:lnTo>
                      <a:pt x="1676" y="848"/>
                    </a:lnTo>
                    <a:lnTo>
                      <a:pt x="1649" y="883"/>
                    </a:lnTo>
                    <a:lnTo>
                      <a:pt x="1621" y="914"/>
                    </a:lnTo>
                    <a:lnTo>
                      <a:pt x="1592" y="946"/>
                    </a:lnTo>
                    <a:lnTo>
                      <a:pt x="1560" y="975"/>
                    </a:lnTo>
                    <a:lnTo>
                      <a:pt x="1528" y="1003"/>
                    </a:lnTo>
                    <a:lnTo>
                      <a:pt x="1494" y="1030"/>
                    </a:lnTo>
                    <a:lnTo>
                      <a:pt x="1459" y="1055"/>
                    </a:lnTo>
                    <a:lnTo>
                      <a:pt x="1423" y="1078"/>
                    </a:lnTo>
                    <a:lnTo>
                      <a:pt x="1386" y="1100"/>
                    </a:lnTo>
                    <a:lnTo>
                      <a:pt x="1347" y="1119"/>
                    </a:lnTo>
                    <a:lnTo>
                      <a:pt x="1308" y="1137"/>
                    </a:lnTo>
                    <a:lnTo>
                      <a:pt x="1267" y="1154"/>
                    </a:lnTo>
                    <a:lnTo>
                      <a:pt x="1225" y="1167"/>
                    </a:lnTo>
                    <a:lnTo>
                      <a:pt x="1183" y="1179"/>
                    </a:lnTo>
                    <a:lnTo>
                      <a:pt x="1140" y="1189"/>
                    </a:lnTo>
                    <a:lnTo>
                      <a:pt x="1095" y="1197"/>
                    </a:lnTo>
                    <a:lnTo>
                      <a:pt x="1050" y="1203"/>
                    </a:lnTo>
                    <a:lnTo>
                      <a:pt x="1005" y="1206"/>
                    </a:lnTo>
                    <a:lnTo>
                      <a:pt x="959" y="1207"/>
                    </a:lnTo>
                    <a:lnTo>
                      <a:pt x="915" y="1206"/>
                    </a:lnTo>
                    <a:lnTo>
                      <a:pt x="870" y="1203"/>
                    </a:lnTo>
                    <a:lnTo>
                      <a:pt x="827" y="1198"/>
                    </a:lnTo>
                    <a:lnTo>
                      <a:pt x="785" y="1190"/>
                    </a:lnTo>
                    <a:lnTo>
                      <a:pt x="743" y="1181"/>
                    </a:lnTo>
                    <a:lnTo>
                      <a:pt x="702" y="1170"/>
                    </a:lnTo>
                    <a:lnTo>
                      <a:pt x="662" y="1157"/>
                    </a:lnTo>
                    <a:lnTo>
                      <a:pt x="622" y="1142"/>
                    </a:lnTo>
                    <a:lnTo>
                      <a:pt x="584" y="1125"/>
                    </a:lnTo>
                    <a:lnTo>
                      <a:pt x="547" y="1106"/>
                    </a:lnTo>
                    <a:lnTo>
                      <a:pt x="510" y="1086"/>
                    </a:lnTo>
                    <a:lnTo>
                      <a:pt x="474" y="1064"/>
                    </a:lnTo>
                    <a:lnTo>
                      <a:pt x="440" y="1041"/>
                    </a:lnTo>
                    <a:lnTo>
                      <a:pt x="407" y="1017"/>
                    </a:lnTo>
                    <a:lnTo>
                      <a:pt x="374" y="990"/>
                    </a:lnTo>
                    <a:lnTo>
                      <a:pt x="344" y="963"/>
                    </a:lnTo>
                    <a:lnTo>
                      <a:pt x="314" y="933"/>
                    </a:lnTo>
                    <a:lnTo>
                      <a:pt x="287" y="903"/>
                    </a:lnTo>
                    <a:lnTo>
                      <a:pt x="260" y="871"/>
                    </a:lnTo>
                    <a:lnTo>
                      <a:pt x="235" y="839"/>
                    </a:lnTo>
                    <a:lnTo>
                      <a:pt x="211" y="804"/>
                    </a:lnTo>
                    <a:lnTo>
                      <a:pt x="189" y="769"/>
                    </a:lnTo>
                    <a:lnTo>
                      <a:pt x="169" y="733"/>
                    </a:lnTo>
                    <a:lnTo>
                      <a:pt x="150" y="695"/>
                    </a:lnTo>
                    <a:lnTo>
                      <a:pt x="133" y="657"/>
                    </a:lnTo>
                    <a:lnTo>
                      <a:pt x="118" y="618"/>
                    </a:lnTo>
                    <a:lnTo>
                      <a:pt x="104" y="577"/>
                    </a:lnTo>
                    <a:lnTo>
                      <a:pt x="93" y="536"/>
                    </a:lnTo>
                    <a:lnTo>
                      <a:pt x="83" y="495"/>
                    </a:lnTo>
                    <a:lnTo>
                      <a:pt x="76" y="452"/>
                    </a:lnTo>
                    <a:lnTo>
                      <a:pt x="70" y="409"/>
                    </a:lnTo>
                    <a:lnTo>
                      <a:pt x="66" y="366"/>
                    </a:lnTo>
                    <a:lnTo>
                      <a:pt x="58" y="368"/>
                    </a:lnTo>
                    <a:lnTo>
                      <a:pt x="1" y="396"/>
                    </a:lnTo>
                    <a:lnTo>
                      <a:pt x="0" y="396"/>
                    </a:lnTo>
                    <a:lnTo>
                      <a:pt x="4" y="442"/>
                    </a:lnTo>
                    <a:lnTo>
                      <a:pt x="12" y="487"/>
                    </a:lnTo>
                    <a:lnTo>
                      <a:pt x="21" y="531"/>
                    </a:lnTo>
                    <a:lnTo>
                      <a:pt x="32" y="575"/>
                    </a:lnTo>
                    <a:lnTo>
                      <a:pt x="45" y="618"/>
                    </a:lnTo>
                    <a:lnTo>
                      <a:pt x="60" y="660"/>
                    </a:lnTo>
                    <a:lnTo>
                      <a:pt x="77" y="701"/>
                    </a:lnTo>
                    <a:lnTo>
                      <a:pt x="96" y="741"/>
                    </a:lnTo>
                    <a:lnTo>
                      <a:pt x="117" y="781"/>
                    </a:lnTo>
                    <a:lnTo>
                      <a:pt x="139" y="819"/>
                    </a:lnTo>
                    <a:lnTo>
                      <a:pt x="163" y="855"/>
                    </a:lnTo>
                    <a:lnTo>
                      <a:pt x="188" y="891"/>
                    </a:lnTo>
                    <a:lnTo>
                      <a:pt x="216" y="926"/>
                    </a:lnTo>
                    <a:lnTo>
                      <a:pt x="244" y="958"/>
                    </a:lnTo>
                    <a:lnTo>
                      <a:pt x="274" y="991"/>
                    </a:lnTo>
                    <a:lnTo>
                      <a:pt x="306" y="1021"/>
                    </a:lnTo>
                    <a:lnTo>
                      <a:pt x="339" y="1050"/>
                    </a:lnTo>
                    <a:lnTo>
                      <a:pt x="373" y="1077"/>
                    </a:lnTo>
                    <a:lnTo>
                      <a:pt x="408" y="1103"/>
                    </a:lnTo>
                    <a:lnTo>
                      <a:pt x="445" y="1127"/>
                    </a:lnTo>
                    <a:lnTo>
                      <a:pt x="483" y="1150"/>
                    </a:lnTo>
                    <a:lnTo>
                      <a:pt x="521" y="1171"/>
                    </a:lnTo>
                    <a:lnTo>
                      <a:pt x="561" y="1190"/>
                    </a:lnTo>
                    <a:lnTo>
                      <a:pt x="602" y="1208"/>
                    </a:lnTo>
                    <a:lnTo>
                      <a:pt x="644" y="1224"/>
                    </a:lnTo>
                    <a:lnTo>
                      <a:pt x="687" y="1238"/>
                    </a:lnTo>
                    <a:lnTo>
                      <a:pt x="731" y="1249"/>
                    </a:lnTo>
                    <a:lnTo>
                      <a:pt x="775" y="1259"/>
                    </a:lnTo>
                    <a:lnTo>
                      <a:pt x="820" y="1266"/>
                    </a:lnTo>
                    <a:lnTo>
                      <a:pt x="866" y="1271"/>
                    </a:lnTo>
                    <a:lnTo>
                      <a:pt x="913" y="1275"/>
                    </a:lnTo>
                    <a:lnTo>
                      <a:pt x="959" y="1276"/>
                    </a:lnTo>
                    <a:lnTo>
                      <a:pt x="1009" y="1274"/>
                    </a:lnTo>
                    <a:lnTo>
                      <a:pt x="1058" y="1271"/>
                    </a:lnTo>
                    <a:lnTo>
                      <a:pt x="1106" y="1265"/>
                    </a:lnTo>
                    <a:lnTo>
                      <a:pt x="1153" y="1257"/>
                    </a:lnTo>
                    <a:lnTo>
                      <a:pt x="1199" y="1246"/>
                    </a:lnTo>
                    <a:lnTo>
                      <a:pt x="1246" y="1233"/>
                    </a:lnTo>
                    <a:lnTo>
                      <a:pt x="1290" y="1218"/>
                    </a:lnTo>
                    <a:lnTo>
                      <a:pt x="1334" y="1201"/>
                    </a:lnTo>
                    <a:lnTo>
                      <a:pt x="1377" y="1181"/>
                    </a:lnTo>
                    <a:lnTo>
                      <a:pt x="1418" y="1160"/>
                    </a:lnTo>
                    <a:lnTo>
                      <a:pt x="1459" y="1137"/>
                    </a:lnTo>
                    <a:lnTo>
                      <a:pt x="1498" y="1112"/>
                    </a:lnTo>
                    <a:lnTo>
                      <a:pt x="1536" y="1085"/>
                    </a:lnTo>
                    <a:lnTo>
                      <a:pt x="1572" y="1056"/>
                    </a:lnTo>
                    <a:lnTo>
                      <a:pt x="1607" y="1027"/>
                    </a:lnTo>
                    <a:lnTo>
                      <a:pt x="1640" y="994"/>
                    </a:lnTo>
                    <a:lnTo>
                      <a:pt x="1672" y="961"/>
                    </a:lnTo>
                    <a:lnTo>
                      <a:pt x="1702" y="926"/>
                    </a:lnTo>
                    <a:lnTo>
                      <a:pt x="1731" y="890"/>
                    </a:lnTo>
                    <a:lnTo>
                      <a:pt x="1758" y="852"/>
                    </a:lnTo>
                    <a:lnTo>
                      <a:pt x="1783" y="813"/>
                    </a:lnTo>
                    <a:lnTo>
                      <a:pt x="1806" y="772"/>
                    </a:lnTo>
                    <a:lnTo>
                      <a:pt x="1827" y="732"/>
                    </a:lnTo>
                    <a:lnTo>
                      <a:pt x="1847" y="688"/>
                    </a:lnTo>
                    <a:lnTo>
                      <a:pt x="1864" y="644"/>
                    </a:lnTo>
                    <a:lnTo>
                      <a:pt x="1880" y="600"/>
                    </a:lnTo>
                    <a:lnTo>
                      <a:pt x="1892" y="554"/>
                    </a:lnTo>
                    <a:lnTo>
                      <a:pt x="1903" y="508"/>
                    </a:lnTo>
                    <a:lnTo>
                      <a:pt x="1911" y="461"/>
                    </a:lnTo>
                    <a:lnTo>
                      <a:pt x="1917" y="412"/>
                    </a:lnTo>
                    <a:lnTo>
                      <a:pt x="1922" y="363"/>
                    </a:lnTo>
                    <a:lnTo>
                      <a:pt x="1923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378240" y="2894040"/>
                <a:ext cx="588960" cy="393840"/>
              </a:xfrm>
              <a:custGeom>
                <a:avLst/>
                <a:gdLst/>
                <a:ahLst/>
                <a:rect l="l" t="t" r="r" b="b"/>
                <a:pathLst>
                  <a:path w="1855" h="1238">
                    <a:moveTo>
                      <a:pt x="1855" y="310"/>
                    </a:moveTo>
                    <a:lnTo>
                      <a:pt x="1854" y="270"/>
                    </a:lnTo>
                    <a:lnTo>
                      <a:pt x="1852" y="230"/>
                    </a:lnTo>
                    <a:lnTo>
                      <a:pt x="1848" y="190"/>
                    </a:lnTo>
                    <a:lnTo>
                      <a:pt x="1841" y="151"/>
                    </a:lnTo>
                    <a:lnTo>
                      <a:pt x="1834" y="112"/>
                    </a:lnTo>
                    <a:lnTo>
                      <a:pt x="1824" y="74"/>
                    </a:lnTo>
                    <a:lnTo>
                      <a:pt x="1814" y="37"/>
                    </a:lnTo>
                    <a:lnTo>
                      <a:pt x="1802" y="0"/>
                    </a:lnTo>
                    <a:lnTo>
                      <a:pt x="1777" y="25"/>
                    </a:lnTo>
                    <a:lnTo>
                      <a:pt x="1738" y="25"/>
                    </a:lnTo>
                    <a:lnTo>
                      <a:pt x="1749" y="59"/>
                    </a:lnTo>
                    <a:lnTo>
                      <a:pt x="1758" y="93"/>
                    </a:lnTo>
                    <a:lnTo>
                      <a:pt x="1767" y="128"/>
                    </a:lnTo>
                    <a:lnTo>
                      <a:pt x="1774" y="164"/>
                    </a:lnTo>
                    <a:lnTo>
                      <a:pt x="1779" y="199"/>
                    </a:lnTo>
                    <a:lnTo>
                      <a:pt x="1783" y="236"/>
                    </a:lnTo>
                    <a:lnTo>
                      <a:pt x="1786" y="273"/>
                    </a:lnTo>
                    <a:lnTo>
                      <a:pt x="1787" y="310"/>
                    </a:lnTo>
                    <a:lnTo>
                      <a:pt x="1786" y="354"/>
                    </a:lnTo>
                    <a:lnTo>
                      <a:pt x="1781" y="398"/>
                    </a:lnTo>
                    <a:lnTo>
                      <a:pt x="1776" y="441"/>
                    </a:lnTo>
                    <a:lnTo>
                      <a:pt x="1769" y="483"/>
                    </a:lnTo>
                    <a:lnTo>
                      <a:pt x="1759" y="525"/>
                    </a:lnTo>
                    <a:lnTo>
                      <a:pt x="1748" y="566"/>
                    </a:lnTo>
                    <a:lnTo>
                      <a:pt x="1734" y="606"/>
                    </a:lnTo>
                    <a:lnTo>
                      <a:pt x="1718" y="645"/>
                    </a:lnTo>
                    <a:lnTo>
                      <a:pt x="1702" y="682"/>
                    </a:lnTo>
                    <a:lnTo>
                      <a:pt x="1683" y="719"/>
                    </a:lnTo>
                    <a:lnTo>
                      <a:pt x="1662" y="756"/>
                    </a:lnTo>
                    <a:lnTo>
                      <a:pt x="1639" y="791"/>
                    </a:lnTo>
                    <a:lnTo>
                      <a:pt x="1615" y="824"/>
                    </a:lnTo>
                    <a:lnTo>
                      <a:pt x="1590" y="857"/>
                    </a:lnTo>
                    <a:lnTo>
                      <a:pt x="1563" y="888"/>
                    </a:lnTo>
                    <a:lnTo>
                      <a:pt x="1534" y="918"/>
                    </a:lnTo>
                    <a:lnTo>
                      <a:pt x="1505" y="946"/>
                    </a:lnTo>
                    <a:lnTo>
                      <a:pt x="1473" y="973"/>
                    </a:lnTo>
                    <a:lnTo>
                      <a:pt x="1441" y="998"/>
                    </a:lnTo>
                    <a:lnTo>
                      <a:pt x="1407" y="1023"/>
                    </a:lnTo>
                    <a:lnTo>
                      <a:pt x="1373" y="1045"/>
                    </a:lnTo>
                    <a:lnTo>
                      <a:pt x="1336" y="1066"/>
                    </a:lnTo>
                    <a:lnTo>
                      <a:pt x="1299" y="1085"/>
                    </a:lnTo>
                    <a:lnTo>
                      <a:pt x="1261" y="1101"/>
                    </a:lnTo>
                    <a:lnTo>
                      <a:pt x="1222" y="1117"/>
                    </a:lnTo>
                    <a:lnTo>
                      <a:pt x="1182" y="1131"/>
                    </a:lnTo>
                    <a:lnTo>
                      <a:pt x="1141" y="1142"/>
                    </a:lnTo>
                    <a:lnTo>
                      <a:pt x="1099" y="1152"/>
                    </a:lnTo>
                    <a:lnTo>
                      <a:pt x="1057" y="1159"/>
                    </a:lnTo>
                    <a:lnTo>
                      <a:pt x="1014" y="1164"/>
                    </a:lnTo>
                    <a:lnTo>
                      <a:pt x="970" y="1167"/>
                    </a:lnTo>
                    <a:lnTo>
                      <a:pt x="926" y="1170"/>
                    </a:lnTo>
                    <a:lnTo>
                      <a:pt x="883" y="1169"/>
                    </a:lnTo>
                    <a:lnTo>
                      <a:pt x="841" y="1165"/>
                    </a:lnTo>
                    <a:lnTo>
                      <a:pt x="799" y="1160"/>
                    </a:lnTo>
                    <a:lnTo>
                      <a:pt x="758" y="1153"/>
                    </a:lnTo>
                    <a:lnTo>
                      <a:pt x="717" y="1143"/>
                    </a:lnTo>
                    <a:lnTo>
                      <a:pt x="678" y="1133"/>
                    </a:lnTo>
                    <a:lnTo>
                      <a:pt x="638" y="1120"/>
                    </a:lnTo>
                    <a:lnTo>
                      <a:pt x="600" y="1106"/>
                    </a:lnTo>
                    <a:lnTo>
                      <a:pt x="563" y="1089"/>
                    </a:lnTo>
                    <a:lnTo>
                      <a:pt x="526" y="1071"/>
                    </a:lnTo>
                    <a:lnTo>
                      <a:pt x="492" y="1051"/>
                    </a:lnTo>
                    <a:lnTo>
                      <a:pt x="457" y="1030"/>
                    </a:lnTo>
                    <a:lnTo>
                      <a:pt x="423" y="1008"/>
                    </a:lnTo>
                    <a:lnTo>
                      <a:pt x="392" y="983"/>
                    </a:lnTo>
                    <a:lnTo>
                      <a:pt x="361" y="957"/>
                    </a:lnTo>
                    <a:lnTo>
                      <a:pt x="331" y="930"/>
                    </a:lnTo>
                    <a:lnTo>
                      <a:pt x="303" y="902"/>
                    </a:lnTo>
                    <a:lnTo>
                      <a:pt x="276" y="872"/>
                    </a:lnTo>
                    <a:lnTo>
                      <a:pt x="251" y="842"/>
                    </a:lnTo>
                    <a:lnTo>
                      <a:pt x="227" y="809"/>
                    </a:lnTo>
                    <a:lnTo>
                      <a:pt x="204" y="776"/>
                    </a:lnTo>
                    <a:lnTo>
                      <a:pt x="183" y="742"/>
                    </a:lnTo>
                    <a:lnTo>
                      <a:pt x="163" y="707"/>
                    </a:lnTo>
                    <a:lnTo>
                      <a:pt x="145" y="670"/>
                    </a:lnTo>
                    <a:lnTo>
                      <a:pt x="129" y="633"/>
                    </a:lnTo>
                    <a:lnTo>
                      <a:pt x="114" y="594"/>
                    </a:lnTo>
                    <a:lnTo>
                      <a:pt x="102" y="555"/>
                    </a:lnTo>
                    <a:lnTo>
                      <a:pt x="91" y="515"/>
                    </a:lnTo>
                    <a:lnTo>
                      <a:pt x="82" y="476"/>
                    </a:lnTo>
                    <a:lnTo>
                      <a:pt x="75" y="435"/>
                    </a:lnTo>
                    <a:lnTo>
                      <a:pt x="70" y="393"/>
                    </a:lnTo>
                    <a:lnTo>
                      <a:pt x="67" y="350"/>
                    </a:lnTo>
                    <a:lnTo>
                      <a:pt x="25" y="364"/>
                    </a:lnTo>
                    <a:lnTo>
                      <a:pt x="0" y="377"/>
                    </a:lnTo>
                    <a:lnTo>
                      <a:pt x="4" y="422"/>
                    </a:lnTo>
                    <a:lnTo>
                      <a:pt x="10" y="466"/>
                    </a:lnTo>
                    <a:lnTo>
                      <a:pt x="19" y="509"/>
                    </a:lnTo>
                    <a:lnTo>
                      <a:pt x="29" y="552"/>
                    </a:lnTo>
                    <a:lnTo>
                      <a:pt x="42" y="594"/>
                    </a:lnTo>
                    <a:lnTo>
                      <a:pt x="55" y="635"/>
                    </a:lnTo>
                    <a:lnTo>
                      <a:pt x="72" y="675"/>
                    </a:lnTo>
                    <a:lnTo>
                      <a:pt x="90" y="714"/>
                    </a:lnTo>
                    <a:lnTo>
                      <a:pt x="110" y="753"/>
                    </a:lnTo>
                    <a:lnTo>
                      <a:pt x="131" y="789"/>
                    </a:lnTo>
                    <a:lnTo>
                      <a:pt x="154" y="826"/>
                    </a:lnTo>
                    <a:lnTo>
                      <a:pt x="178" y="861"/>
                    </a:lnTo>
                    <a:lnTo>
                      <a:pt x="205" y="894"/>
                    </a:lnTo>
                    <a:lnTo>
                      <a:pt x="232" y="927"/>
                    </a:lnTo>
                    <a:lnTo>
                      <a:pt x="261" y="957"/>
                    </a:lnTo>
                    <a:lnTo>
                      <a:pt x="292" y="988"/>
                    </a:lnTo>
                    <a:lnTo>
                      <a:pt x="323" y="1016"/>
                    </a:lnTo>
                    <a:lnTo>
                      <a:pt x="357" y="1043"/>
                    </a:lnTo>
                    <a:lnTo>
                      <a:pt x="391" y="1069"/>
                    </a:lnTo>
                    <a:lnTo>
                      <a:pt x="426" y="1092"/>
                    </a:lnTo>
                    <a:lnTo>
                      <a:pt x="463" y="1115"/>
                    </a:lnTo>
                    <a:lnTo>
                      <a:pt x="501" y="1135"/>
                    </a:lnTo>
                    <a:lnTo>
                      <a:pt x="540" y="1154"/>
                    </a:lnTo>
                    <a:lnTo>
                      <a:pt x="579" y="1171"/>
                    </a:lnTo>
                    <a:lnTo>
                      <a:pt x="620" y="1186"/>
                    </a:lnTo>
                    <a:lnTo>
                      <a:pt x="662" y="1200"/>
                    </a:lnTo>
                    <a:lnTo>
                      <a:pt x="704" y="1211"/>
                    </a:lnTo>
                    <a:lnTo>
                      <a:pt x="747" y="1220"/>
                    </a:lnTo>
                    <a:lnTo>
                      <a:pt x="791" y="1228"/>
                    </a:lnTo>
                    <a:lnTo>
                      <a:pt x="835" y="1234"/>
                    </a:lnTo>
                    <a:lnTo>
                      <a:pt x="881" y="1237"/>
                    </a:lnTo>
                    <a:lnTo>
                      <a:pt x="926" y="1238"/>
                    </a:lnTo>
                    <a:lnTo>
                      <a:pt x="974" y="1237"/>
                    </a:lnTo>
                    <a:lnTo>
                      <a:pt x="1021" y="1233"/>
                    </a:lnTo>
                    <a:lnTo>
                      <a:pt x="1068" y="1227"/>
                    </a:lnTo>
                    <a:lnTo>
                      <a:pt x="1113" y="1219"/>
                    </a:lnTo>
                    <a:lnTo>
                      <a:pt x="1158" y="1208"/>
                    </a:lnTo>
                    <a:lnTo>
                      <a:pt x="1202" y="1196"/>
                    </a:lnTo>
                    <a:lnTo>
                      <a:pt x="1245" y="1181"/>
                    </a:lnTo>
                    <a:lnTo>
                      <a:pt x="1287" y="1165"/>
                    </a:lnTo>
                    <a:lnTo>
                      <a:pt x="1328" y="1146"/>
                    </a:lnTo>
                    <a:lnTo>
                      <a:pt x="1369" y="1125"/>
                    </a:lnTo>
                    <a:lnTo>
                      <a:pt x="1408" y="1103"/>
                    </a:lnTo>
                    <a:lnTo>
                      <a:pt x="1445" y="1079"/>
                    </a:lnTo>
                    <a:lnTo>
                      <a:pt x="1482" y="1053"/>
                    </a:lnTo>
                    <a:lnTo>
                      <a:pt x="1517" y="1026"/>
                    </a:lnTo>
                    <a:lnTo>
                      <a:pt x="1550" y="996"/>
                    </a:lnTo>
                    <a:lnTo>
                      <a:pt x="1583" y="966"/>
                    </a:lnTo>
                    <a:lnTo>
                      <a:pt x="1613" y="933"/>
                    </a:lnTo>
                    <a:lnTo>
                      <a:pt x="1643" y="900"/>
                    </a:lnTo>
                    <a:lnTo>
                      <a:pt x="1670" y="865"/>
                    </a:lnTo>
                    <a:lnTo>
                      <a:pt x="1696" y="828"/>
                    </a:lnTo>
                    <a:lnTo>
                      <a:pt x="1720" y="792"/>
                    </a:lnTo>
                    <a:lnTo>
                      <a:pt x="1743" y="753"/>
                    </a:lnTo>
                    <a:lnTo>
                      <a:pt x="1764" y="712"/>
                    </a:lnTo>
                    <a:lnTo>
                      <a:pt x="1782" y="671"/>
                    </a:lnTo>
                    <a:lnTo>
                      <a:pt x="1798" y="629"/>
                    </a:lnTo>
                    <a:lnTo>
                      <a:pt x="1813" y="586"/>
                    </a:lnTo>
                    <a:lnTo>
                      <a:pt x="1826" y="542"/>
                    </a:lnTo>
                    <a:lnTo>
                      <a:pt x="1836" y="497"/>
                    </a:lnTo>
                    <a:lnTo>
                      <a:pt x="1844" y="451"/>
                    </a:lnTo>
                    <a:lnTo>
                      <a:pt x="1850" y="405"/>
                    </a:lnTo>
                    <a:lnTo>
                      <a:pt x="1854" y="358"/>
                    </a:lnTo>
                    <a:lnTo>
                      <a:pt x="1855" y="310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387600" y="2901960"/>
                <a:ext cx="568440" cy="374760"/>
              </a:xfrm>
              <a:custGeom>
                <a:avLst/>
                <a:gdLst/>
                <a:ahLst/>
                <a:rect l="l" t="t" r="r" b="b"/>
                <a:pathLst>
                  <a:path w="1787" h="1178">
                    <a:moveTo>
                      <a:pt x="1787" y="285"/>
                    </a:moveTo>
                    <a:lnTo>
                      <a:pt x="1787" y="248"/>
                    </a:lnTo>
                    <a:lnTo>
                      <a:pt x="1784" y="211"/>
                    </a:lnTo>
                    <a:lnTo>
                      <a:pt x="1781" y="174"/>
                    </a:lnTo>
                    <a:lnTo>
                      <a:pt x="1776" y="139"/>
                    </a:lnTo>
                    <a:lnTo>
                      <a:pt x="1769" y="104"/>
                    </a:lnTo>
                    <a:lnTo>
                      <a:pt x="1761" y="68"/>
                    </a:lnTo>
                    <a:lnTo>
                      <a:pt x="1752" y="35"/>
                    </a:lnTo>
                    <a:lnTo>
                      <a:pt x="1741" y="0"/>
                    </a:lnTo>
                    <a:lnTo>
                      <a:pt x="1687" y="0"/>
                    </a:lnTo>
                    <a:lnTo>
                      <a:pt x="1669" y="0"/>
                    </a:lnTo>
                    <a:lnTo>
                      <a:pt x="1680" y="34"/>
                    </a:lnTo>
                    <a:lnTo>
                      <a:pt x="1690" y="68"/>
                    </a:lnTo>
                    <a:lnTo>
                      <a:pt x="1699" y="103"/>
                    </a:lnTo>
                    <a:lnTo>
                      <a:pt x="1706" y="139"/>
                    </a:lnTo>
                    <a:lnTo>
                      <a:pt x="1712" y="174"/>
                    </a:lnTo>
                    <a:lnTo>
                      <a:pt x="1716" y="211"/>
                    </a:lnTo>
                    <a:lnTo>
                      <a:pt x="1718" y="248"/>
                    </a:lnTo>
                    <a:lnTo>
                      <a:pt x="1719" y="285"/>
                    </a:lnTo>
                    <a:lnTo>
                      <a:pt x="1718" y="328"/>
                    </a:lnTo>
                    <a:lnTo>
                      <a:pt x="1715" y="370"/>
                    </a:lnTo>
                    <a:lnTo>
                      <a:pt x="1710" y="411"/>
                    </a:lnTo>
                    <a:lnTo>
                      <a:pt x="1702" y="452"/>
                    </a:lnTo>
                    <a:lnTo>
                      <a:pt x="1693" y="491"/>
                    </a:lnTo>
                    <a:lnTo>
                      <a:pt x="1682" y="530"/>
                    </a:lnTo>
                    <a:lnTo>
                      <a:pt x="1669" y="568"/>
                    </a:lnTo>
                    <a:lnTo>
                      <a:pt x="1654" y="606"/>
                    </a:lnTo>
                    <a:lnTo>
                      <a:pt x="1637" y="643"/>
                    </a:lnTo>
                    <a:lnTo>
                      <a:pt x="1619" y="678"/>
                    </a:lnTo>
                    <a:lnTo>
                      <a:pt x="1599" y="713"/>
                    </a:lnTo>
                    <a:lnTo>
                      <a:pt x="1578" y="746"/>
                    </a:lnTo>
                    <a:lnTo>
                      <a:pt x="1555" y="778"/>
                    </a:lnTo>
                    <a:lnTo>
                      <a:pt x="1530" y="810"/>
                    </a:lnTo>
                    <a:lnTo>
                      <a:pt x="1505" y="839"/>
                    </a:lnTo>
                    <a:lnTo>
                      <a:pt x="1477" y="868"/>
                    </a:lnTo>
                    <a:lnTo>
                      <a:pt x="1448" y="896"/>
                    </a:lnTo>
                    <a:lnTo>
                      <a:pt x="1418" y="921"/>
                    </a:lnTo>
                    <a:lnTo>
                      <a:pt x="1387" y="946"/>
                    </a:lnTo>
                    <a:lnTo>
                      <a:pt x="1354" y="969"/>
                    </a:lnTo>
                    <a:lnTo>
                      <a:pt x="1322" y="990"/>
                    </a:lnTo>
                    <a:lnTo>
                      <a:pt x="1287" y="1010"/>
                    </a:lnTo>
                    <a:lnTo>
                      <a:pt x="1251" y="1028"/>
                    </a:lnTo>
                    <a:lnTo>
                      <a:pt x="1214" y="1045"/>
                    </a:lnTo>
                    <a:lnTo>
                      <a:pt x="1177" y="1060"/>
                    </a:lnTo>
                    <a:lnTo>
                      <a:pt x="1139" y="1072"/>
                    </a:lnTo>
                    <a:lnTo>
                      <a:pt x="1100" y="1084"/>
                    </a:lnTo>
                    <a:lnTo>
                      <a:pt x="1060" y="1093"/>
                    </a:lnTo>
                    <a:lnTo>
                      <a:pt x="1019" y="1100"/>
                    </a:lnTo>
                    <a:lnTo>
                      <a:pt x="978" y="1106"/>
                    </a:lnTo>
                    <a:lnTo>
                      <a:pt x="936" y="1109"/>
                    </a:lnTo>
                    <a:lnTo>
                      <a:pt x="893" y="1110"/>
                    </a:lnTo>
                    <a:lnTo>
                      <a:pt x="852" y="1109"/>
                    </a:lnTo>
                    <a:lnTo>
                      <a:pt x="811" y="1106"/>
                    </a:lnTo>
                    <a:lnTo>
                      <a:pt x="770" y="1100"/>
                    </a:lnTo>
                    <a:lnTo>
                      <a:pt x="730" y="1093"/>
                    </a:lnTo>
                    <a:lnTo>
                      <a:pt x="691" y="1085"/>
                    </a:lnTo>
                    <a:lnTo>
                      <a:pt x="652" y="1074"/>
                    </a:lnTo>
                    <a:lnTo>
                      <a:pt x="614" y="1062"/>
                    </a:lnTo>
                    <a:lnTo>
                      <a:pt x="577" y="1047"/>
                    </a:lnTo>
                    <a:lnTo>
                      <a:pt x="542" y="1031"/>
                    </a:lnTo>
                    <a:lnTo>
                      <a:pt x="507" y="1014"/>
                    </a:lnTo>
                    <a:lnTo>
                      <a:pt x="472" y="994"/>
                    </a:lnTo>
                    <a:lnTo>
                      <a:pt x="440" y="974"/>
                    </a:lnTo>
                    <a:lnTo>
                      <a:pt x="408" y="952"/>
                    </a:lnTo>
                    <a:lnTo>
                      <a:pt x="377" y="928"/>
                    </a:lnTo>
                    <a:lnTo>
                      <a:pt x="347" y="903"/>
                    </a:lnTo>
                    <a:lnTo>
                      <a:pt x="319" y="877"/>
                    </a:lnTo>
                    <a:lnTo>
                      <a:pt x="292" y="850"/>
                    </a:lnTo>
                    <a:lnTo>
                      <a:pt x="265" y="821"/>
                    </a:lnTo>
                    <a:lnTo>
                      <a:pt x="241" y="791"/>
                    </a:lnTo>
                    <a:lnTo>
                      <a:pt x="218" y="759"/>
                    </a:lnTo>
                    <a:lnTo>
                      <a:pt x="196" y="727"/>
                    </a:lnTo>
                    <a:lnTo>
                      <a:pt x="176" y="694"/>
                    </a:lnTo>
                    <a:lnTo>
                      <a:pt x="157" y="659"/>
                    </a:lnTo>
                    <a:lnTo>
                      <a:pt x="140" y="624"/>
                    </a:lnTo>
                    <a:lnTo>
                      <a:pt x="125" y="588"/>
                    </a:lnTo>
                    <a:lnTo>
                      <a:pt x="112" y="550"/>
                    </a:lnTo>
                    <a:lnTo>
                      <a:pt x="99" y="512"/>
                    </a:lnTo>
                    <a:lnTo>
                      <a:pt x="90" y="474"/>
                    </a:lnTo>
                    <a:lnTo>
                      <a:pt x="81" y="435"/>
                    </a:lnTo>
                    <a:lnTo>
                      <a:pt x="75" y="395"/>
                    </a:lnTo>
                    <a:lnTo>
                      <a:pt x="71" y="354"/>
                    </a:lnTo>
                    <a:lnTo>
                      <a:pt x="69" y="313"/>
                    </a:lnTo>
                    <a:lnTo>
                      <a:pt x="0" y="337"/>
                    </a:lnTo>
                    <a:lnTo>
                      <a:pt x="4" y="380"/>
                    </a:lnTo>
                    <a:lnTo>
                      <a:pt x="10" y="423"/>
                    </a:lnTo>
                    <a:lnTo>
                      <a:pt x="17" y="466"/>
                    </a:lnTo>
                    <a:lnTo>
                      <a:pt x="27" y="507"/>
                    </a:lnTo>
                    <a:lnTo>
                      <a:pt x="38" y="548"/>
                    </a:lnTo>
                    <a:lnTo>
                      <a:pt x="52" y="589"/>
                    </a:lnTo>
                    <a:lnTo>
                      <a:pt x="67" y="628"/>
                    </a:lnTo>
                    <a:lnTo>
                      <a:pt x="84" y="666"/>
                    </a:lnTo>
                    <a:lnTo>
                      <a:pt x="103" y="704"/>
                    </a:lnTo>
                    <a:lnTo>
                      <a:pt x="123" y="740"/>
                    </a:lnTo>
                    <a:lnTo>
                      <a:pt x="145" y="775"/>
                    </a:lnTo>
                    <a:lnTo>
                      <a:pt x="169" y="810"/>
                    </a:lnTo>
                    <a:lnTo>
                      <a:pt x="194" y="842"/>
                    </a:lnTo>
                    <a:lnTo>
                      <a:pt x="221" y="874"/>
                    </a:lnTo>
                    <a:lnTo>
                      <a:pt x="248" y="904"/>
                    </a:lnTo>
                    <a:lnTo>
                      <a:pt x="278" y="934"/>
                    </a:lnTo>
                    <a:lnTo>
                      <a:pt x="308" y="961"/>
                    </a:lnTo>
                    <a:lnTo>
                      <a:pt x="341" y="988"/>
                    </a:lnTo>
                    <a:lnTo>
                      <a:pt x="374" y="1012"/>
                    </a:lnTo>
                    <a:lnTo>
                      <a:pt x="408" y="1035"/>
                    </a:lnTo>
                    <a:lnTo>
                      <a:pt x="444" y="1057"/>
                    </a:lnTo>
                    <a:lnTo>
                      <a:pt x="481" y="1077"/>
                    </a:lnTo>
                    <a:lnTo>
                      <a:pt x="518" y="1096"/>
                    </a:lnTo>
                    <a:lnTo>
                      <a:pt x="556" y="1113"/>
                    </a:lnTo>
                    <a:lnTo>
                      <a:pt x="596" y="1128"/>
                    </a:lnTo>
                    <a:lnTo>
                      <a:pt x="636" y="1141"/>
                    </a:lnTo>
                    <a:lnTo>
                      <a:pt x="677" y="1152"/>
                    </a:lnTo>
                    <a:lnTo>
                      <a:pt x="719" y="1161"/>
                    </a:lnTo>
                    <a:lnTo>
                      <a:pt x="761" y="1169"/>
                    </a:lnTo>
                    <a:lnTo>
                      <a:pt x="804" y="1174"/>
                    </a:lnTo>
                    <a:lnTo>
                      <a:pt x="849" y="1177"/>
                    </a:lnTo>
                    <a:lnTo>
                      <a:pt x="893" y="1178"/>
                    </a:lnTo>
                    <a:lnTo>
                      <a:pt x="939" y="1177"/>
                    </a:lnTo>
                    <a:lnTo>
                      <a:pt x="984" y="1174"/>
                    </a:lnTo>
                    <a:lnTo>
                      <a:pt x="1029" y="1168"/>
                    </a:lnTo>
                    <a:lnTo>
                      <a:pt x="1074" y="1160"/>
                    </a:lnTo>
                    <a:lnTo>
                      <a:pt x="1117" y="1150"/>
                    </a:lnTo>
                    <a:lnTo>
                      <a:pt x="1159" y="1138"/>
                    </a:lnTo>
                    <a:lnTo>
                      <a:pt x="1201" y="1125"/>
                    </a:lnTo>
                    <a:lnTo>
                      <a:pt x="1242" y="1108"/>
                    </a:lnTo>
                    <a:lnTo>
                      <a:pt x="1281" y="1090"/>
                    </a:lnTo>
                    <a:lnTo>
                      <a:pt x="1320" y="1071"/>
                    </a:lnTo>
                    <a:lnTo>
                      <a:pt x="1357" y="1049"/>
                    </a:lnTo>
                    <a:lnTo>
                      <a:pt x="1393" y="1026"/>
                    </a:lnTo>
                    <a:lnTo>
                      <a:pt x="1428" y="1001"/>
                    </a:lnTo>
                    <a:lnTo>
                      <a:pt x="1462" y="974"/>
                    </a:lnTo>
                    <a:lnTo>
                      <a:pt x="1494" y="946"/>
                    </a:lnTo>
                    <a:lnTo>
                      <a:pt x="1526" y="917"/>
                    </a:lnTo>
                    <a:lnTo>
                      <a:pt x="1555" y="885"/>
                    </a:lnTo>
                    <a:lnTo>
                      <a:pt x="1583" y="854"/>
                    </a:lnTo>
                    <a:lnTo>
                      <a:pt x="1610" y="819"/>
                    </a:lnTo>
                    <a:lnTo>
                      <a:pt x="1635" y="784"/>
                    </a:lnTo>
                    <a:lnTo>
                      <a:pt x="1658" y="749"/>
                    </a:lnTo>
                    <a:lnTo>
                      <a:pt x="1680" y="711"/>
                    </a:lnTo>
                    <a:lnTo>
                      <a:pt x="1699" y="672"/>
                    </a:lnTo>
                    <a:lnTo>
                      <a:pt x="1717" y="633"/>
                    </a:lnTo>
                    <a:lnTo>
                      <a:pt x="1734" y="592"/>
                    </a:lnTo>
                    <a:lnTo>
                      <a:pt x="1747" y="550"/>
                    </a:lnTo>
                    <a:lnTo>
                      <a:pt x="1759" y="508"/>
                    </a:lnTo>
                    <a:lnTo>
                      <a:pt x="1769" y="465"/>
                    </a:lnTo>
                    <a:lnTo>
                      <a:pt x="1778" y="421"/>
                    </a:lnTo>
                    <a:lnTo>
                      <a:pt x="1783" y="376"/>
                    </a:lnTo>
                    <a:lnTo>
                      <a:pt x="1786" y="331"/>
                    </a:lnTo>
                    <a:lnTo>
                      <a:pt x="1787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398760" y="2901960"/>
                <a:ext cx="546120" cy="363600"/>
              </a:xfrm>
              <a:custGeom>
                <a:avLst/>
                <a:gdLst/>
                <a:ahLst/>
                <a:rect l="l" t="t" r="r" b="b"/>
                <a:pathLst>
                  <a:path w="1720" h="1144">
                    <a:moveTo>
                      <a:pt x="1720" y="285"/>
                    </a:moveTo>
                    <a:lnTo>
                      <a:pt x="1719" y="248"/>
                    </a:lnTo>
                    <a:lnTo>
                      <a:pt x="1716" y="211"/>
                    </a:lnTo>
                    <a:lnTo>
                      <a:pt x="1712" y="174"/>
                    </a:lnTo>
                    <a:lnTo>
                      <a:pt x="1707" y="139"/>
                    </a:lnTo>
                    <a:lnTo>
                      <a:pt x="1700" y="103"/>
                    </a:lnTo>
                    <a:lnTo>
                      <a:pt x="1691" y="68"/>
                    </a:lnTo>
                    <a:lnTo>
                      <a:pt x="1682" y="34"/>
                    </a:lnTo>
                    <a:lnTo>
                      <a:pt x="1671" y="0"/>
                    </a:lnTo>
                    <a:lnTo>
                      <a:pt x="1653" y="0"/>
                    </a:lnTo>
                    <a:lnTo>
                      <a:pt x="1598" y="0"/>
                    </a:lnTo>
                    <a:lnTo>
                      <a:pt x="1609" y="34"/>
                    </a:lnTo>
                    <a:lnTo>
                      <a:pt x="1620" y="68"/>
                    </a:lnTo>
                    <a:lnTo>
                      <a:pt x="1629" y="103"/>
                    </a:lnTo>
                    <a:lnTo>
                      <a:pt x="1637" y="139"/>
                    </a:lnTo>
                    <a:lnTo>
                      <a:pt x="1643" y="174"/>
                    </a:lnTo>
                    <a:lnTo>
                      <a:pt x="1647" y="210"/>
                    </a:lnTo>
                    <a:lnTo>
                      <a:pt x="1649" y="248"/>
                    </a:lnTo>
                    <a:lnTo>
                      <a:pt x="1650" y="285"/>
                    </a:lnTo>
                    <a:lnTo>
                      <a:pt x="1649" y="326"/>
                    </a:lnTo>
                    <a:lnTo>
                      <a:pt x="1646" y="365"/>
                    </a:lnTo>
                    <a:lnTo>
                      <a:pt x="1641" y="405"/>
                    </a:lnTo>
                    <a:lnTo>
                      <a:pt x="1635" y="444"/>
                    </a:lnTo>
                    <a:lnTo>
                      <a:pt x="1625" y="482"/>
                    </a:lnTo>
                    <a:lnTo>
                      <a:pt x="1615" y="520"/>
                    </a:lnTo>
                    <a:lnTo>
                      <a:pt x="1602" y="557"/>
                    </a:lnTo>
                    <a:lnTo>
                      <a:pt x="1588" y="592"/>
                    </a:lnTo>
                    <a:lnTo>
                      <a:pt x="1572" y="628"/>
                    </a:lnTo>
                    <a:lnTo>
                      <a:pt x="1555" y="662"/>
                    </a:lnTo>
                    <a:lnTo>
                      <a:pt x="1536" y="695"/>
                    </a:lnTo>
                    <a:lnTo>
                      <a:pt x="1516" y="727"/>
                    </a:lnTo>
                    <a:lnTo>
                      <a:pt x="1493" y="758"/>
                    </a:lnTo>
                    <a:lnTo>
                      <a:pt x="1469" y="788"/>
                    </a:lnTo>
                    <a:lnTo>
                      <a:pt x="1445" y="816"/>
                    </a:lnTo>
                    <a:lnTo>
                      <a:pt x="1419" y="844"/>
                    </a:lnTo>
                    <a:lnTo>
                      <a:pt x="1391" y="871"/>
                    </a:lnTo>
                    <a:lnTo>
                      <a:pt x="1362" y="895"/>
                    </a:lnTo>
                    <a:lnTo>
                      <a:pt x="1333" y="919"/>
                    </a:lnTo>
                    <a:lnTo>
                      <a:pt x="1301" y="941"/>
                    </a:lnTo>
                    <a:lnTo>
                      <a:pt x="1270" y="961"/>
                    </a:lnTo>
                    <a:lnTo>
                      <a:pt x="1236" y="980"/>
                    </a:lnTo>
                    <a:lnTo>
                      <a:pt x="1202" y="998"/>
                    </a:lnTo>
                    <a:lnTo>
                      <a:pt x="1167" y="1013"/>
                    </a:lnTo>
                    <a:lnTo>
                      <a:pt x="1131" y="1027"/>
                    </a:lnTo>
                    <a:lnTo>
                      <a:pt x="1094" y="1040"/>
                    </a:lnTo>
                    <a:lnTo>
                      <a:pt x="1056" y="1050"/>
                    </a:lnTo>
                    <a:lnTo>
                      <a:pt x="1019" y="1060"/>
                    </a:lnTo>
                    <a:lnTo>
                      <a:pt x="980" y="1066"/>
                    </a:lnTo>
                    <a:lnTo>
                      <a:pt x="940" y="1071"/>
                    </a:lnTo>
                    <a:lnTo>
                      <a:pt x="900" y="1074"/>
                    </a:lnTo>
                    <a:lnTo>
                      <a:pt x="859" y="1075"/>
                    </a:lnTo>
                    <a:lnTo>
                      <a:pt x="819" y="1074"/>
                    </a:lnTo>
                    <a:lnTo>
                      <a:pt x="780" y="1071"/>
                    </a:lnTo>
                    <a:lnTo>
                      <a:pt x="740" y="1067"/>
                    </a:lnTo>
                    <a:lnTo>
                      <a:pt x="702" y="1060"/>
                    </a:lnTo>
                    <a:lnTo>
                      <a:pt x="664" y="1051"/>
                    </a:lnTo>
                    <a:lnTo>
                      <a:pt x="628" y="1041"/>
                    </a:lnTo>
                    <a:lnTo>
                      <a:pt x="591" y="1029"/>
                    </a:lnTo>
                    <a:lnTo>
                      <a:pt x="555" y="1014"/>
                    </a:lnTo>
                    <a:lnTo>
                      <a:pt x="520" y="1000"/>
                    </a:lnTo>
                    <a:lnTo>
                      <a:pt x="487" y="983"/>
                    </a:lnTo>
                    <a:lnTo>
                      <a:pt x="454" y="964"/>
                    </a:lnTo>
                    <a:lnTo>
                      <a:pt x="423" y="944"/>
                    </a:lnTo>
                    <a:lnTo>
                      <a:pt x="391" y="923"/>
                    </a:lnTo>
                    <a:lnTo>
                      <a:pt x="362" y="900"/>
                    </a:lnTo>
                    <a:lnTo>
                      <a:pt x="333" y="876"/>
                    </a:lnTo>
                    <a:lnTo>
                      <a:pt x="306" y="850"/>
                    </a:lnTo>
                    <a:lnTo>
                      <a:pt x="280" y="823"/>
                    </a:lnTo>
                    <a:lnTo>
                      <a:pt x="254" y="795"/>
                    </a:lnTo>
                    <a:lnTo>
                      <a:pt x="231" y="767"/>
                    </a:lnTo>
                    <a:lnTo>
                      <a:pt x="209" y="736"/>
                    </a:lnTo>
                    <a:lnTo>
                      <a:pt x="188" y="705"/>
                    </a:lnTo>
                    <a:lnTo>
                      <a:pt x="169" y="672"/>
                    </a:lnTo>
                    <a:lnTo>
                      <a:pt x="151" y="638"/>
                    </a:lnTo>
                    <a:lnTo>
                      <a:pt x="136" y="605"/>
                    </a:lnTo>
                    <a:lnTo>
                      <a:pt x="121" y="569"/>
                    </a:lnTo>
                    <a:lnTo>
                      <a:pt x="108" y="533"/>
                    </a:lnTo>
                    <a:lnTo>
                      <a:pt x="97" y="497"/>
                    </a:lnTo>
                    <a:lnTo>
                      <a:pt x="87" y="460"/>
                    </a:lnTo>
                    <a:lnTo>
                      <a:pt x="80" y="421"/>
                    </a:lnTo>
                    <a:lnTo>
                      <a:pt x="74" y="382"/>
                    </a:lnTo>
                    <a:lnTo>
                      <a:pt x="70" y="343"/>
                    </a:lnTo>
                    <a:lnTo>
                      <a:pt x="68" y="304"/>
                    </a:lnTo>
                    <a:lnTo>
                      <a:pt x="43" y="310"/>
                    </a:lnTo>
                    <a:lnTo>
                      <a:pt x="0" y="325"/>
                    </a:lnTo>
                    <a:lnTo>
                      <a:pt x="3" y="368"/>
                    </a:lnTo>
                    <a:lnTo>
                      <a:pt x="8" y="410"/>
                    </a:lnTo>
                    <a:lnTo>
                      <a:pt x="15" y="451"/>
                    </a:lnTo>
                    <a:lnTo>
                      <a:pt x="24" y="490"/>
                    </a:lnTo>
                    <a:lnTo>
                      <a:pt x="35" y="530"/>
                    </a:lnTo>
                    <a:lnTo>
                      <a:pt x="47" y="569"/>
                    </a:lnTo>
                    <a:lnTo>
                      <a:pt x="62" y="608"/>
                    </a:lnTo>
                    <a:lnTo>
                      <a:pt x="78" y="645"/>
                    </a:lnTo>
                    <a:lnTo>
                      <a:pt x="96" y="682"/>
                    </a:lnTo>
                    <a:lnTo>
                      <a:pt x="116" y="717"/>
                    </a:lnTo>
                    <a:lnTo>
                      <a:pt x="137" y="751"/>
                    </a:lnTo>
                    <a:lnTo>
                      <a:pt x="160" y="784"/>
                    </a:lnTo>
                    <a:lnTo>
                      <a:pt x="184" y="817"/>
                    </a:lnTo>
                    <a:lnTo>
                      <a:pt x="209" y="847"/>
                    </a:lnTo>
                    <a:lnTo>
                      <a:pt x="236" y="877"/>
                    </a:lnTo>
                    <a:lnTo>
                      <a:pt x="265" y="905"/>
                    </a:lnTo>
                    <a:lnTo>
                      <a:pt x="294" y="932"/>
                    </a:lnTo>
                    <a:lnTo>
                      <a:pt x="325" y="958"/>
                    </a:lnTo>
                    <a:lnTo>
                      <a:pt x="356" y="983"/>
                    </a:lnTo>
                    <a:lnTo>
                      <a:pt x="390" y="1005"/>
                    </a:lnTo>
                    <a:lnTo>
                      <a:pt x="425" y="1026"/>
                    </a:lnTo>
                    <a:lnTo>
                      <a:pt x="459" y="1046"/>
                    </a:lnTo>
                    <a:lnTo>
                      <a:pt x="496" y="1064"/>
                    </a:lnTo>
                    <a:lnTo>
                      <a:pt x="533" y="1081"/>
                    </a:lnTo>
                    <a:lnTo>
                      <a:pt x="572" y="1095"/>
                    </a:lnTo>
                    <a:lnTo>
                      <a:pt x="611" y="1108"/>
                    </a:lnTo>
                    <a:lnTo>
                      <a:pt x="650" y="1118"/>
                    </a:lnTo>
                    <a:lnTo>
                      <a:pt x="691" y="1128"/>
                    </a:lnTo>
                    <a:lnTo>
                      <a:pt x="732" y="1135"/>
                    </a:lnTo>
                    <a:lnTo>
                      <a:pt x="774" y="1140"/>
                    </a:lnTo>
                    <a:lnTo>
                      <a:pt x="816" y="1142"/>
                    </a:lnTo>
                    <a:lnTo>
                      <a:pt x="859" y="1144"/>
                    </a:lnTo>
                    <a:lnTo>
                      <a:pt x="903" y="1142"/>
                    </a:lnTo>
                    <a:lnTo>
                      <a:pt x="947" y="1139"/>
                    </a:lnTo>
                    <a:lnTo>
                      <a:pt x="990" y="1134"/>
                    </a:lnTo>
                    <a:lnTo>
                      <a:pt x="1032" y="1127"/>
                    </a:lnTo>
                    <a:lnTo>
                      <a:pt x="1074" y="1117"/>
                    </a:lnTo>
                    <a:lnTo>
                      <a:pt x="1115" y="1106"/>
                    </a:lnTo>
                    <a:lnTo>
                      <a:pt x="1155" y="1092"/>
                    </a:lnTo>
                    <a:lnTo>
                      <a:pt x="1194" y="1076"/>
                    </a:lnTo>
                    <a:lnTo>
                      <a:pt x="1232" y="1060"/>
                    </a:lnTo>
                    <a:lnTo>
                      <a:pt x="1269" y="1041"/>
                    </a:lnTo>
                    <a:lnTo>
                      <a:pt x="1306" y="1020"/>
                    </a:lnTo>
                    <a:lnTo>
                      <a:pt x="1340" y="998"/>
                    </a:lnTo>
                    <a:lnTo>
                      <a:pt x="1374" y="973"/>
                    </a:lnTo>
                    <a:lnTo>
                      <a:pt x="1406" y="948"/>
                    </a:lnTo>
                    <a:lnTo>
                      <a:pt x="1437" y="921"/>
                    </a:lnTo>
                    <a:lnTo>
                      <a:pt x="1467" y="893"/>
                    </a:lnTo>
                    <a:lnTo>
                      <a:pt x="1496" y="862"/>
                    </a:lnTo>
                    <a:lnTo>
                      <a:pt x="1523" y="832"/>
                    </a:lnTo>
                    <a:lnTo>
                      <a:pt x="1548" y="799"/>
                    </a:lnTo>
                    <a:lnTo>
                      <a:pt x="1572" y="766"/>
                    </a:lnTo>
                    <a:lnTo>
                      <a:pt x="1595" y="731"/>
                    </a:lnTo>
                    <a:lnTo>
                      <a:pt x="1616" y="694"/>
                    </a:lnTo>
                    <a:lnTo>
                      <a:pt x="1635" y="657"/>
                    </a:lnTo>
                    <a:lnTo>
                      <a:pt x="1651" y="620"/>
                    </a:lnTo>
                    <a:lnTo>
                      <a:pt x="1667" y="581"/>
                    </a:lnTo>
                    <a:lnTo>
                      <a:pt x="1681" y="541"/>
                    </a:lnTo>
                    <a:lnTo>
                      <a:pt x="1692" y="500"/>
                    </a:lnTo>
                    <a:lnTo>
                      <a:pt x="1702" y="458"/>
                    </a:lnTo>
                    <a:lnTo>
                      <a:pt x="1709" y="416"/>
                    </a:lnTo>
                    <a:lnTo>
                      <a:pt x="1714" y="373"/>
                    </a:lnTo>
                    <a:lnTo>
                      <a:pt x="1719" y="329"/>
                    </a:lnTo>
                    <a:lnTo>
                      <a:pt x="1720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409920" y="2901960"/>
                <a:ext cx="523800" cy="352440"/>
              </a:xfrm>
              <a:custGeom>
                <a:avLst/>
                <a:gdLst/>
                <a:ahLst/>
                <a:rect l="l" t="t" r="r" b="b"/>
                <a:pathLst>
                  <a:path w="1650" h="1110">
                    <a:moveTo>
                      <a:pt x="1650" y="285"/>
                    </a:moveTo>
                    <a:lnTo>
                      <a:pt x="1649" y="248"/>
                    </a:lnTo>
                    <a:lnTo>
                      <a:pt x="1647" y="211"/>
                    </a:lnTo>
                    <a:lnTo>
                      <a:pt x="1643" y="174"/>
                    </a:lnTo>
                    <a:lnTo>
                      <a:pt x="1637" y="139"/>
                    </a:lnTo>
                    <a:lnTo>
                      <a:pt x="1630" y="103"/>
                    </a:lnTo>
                    <a:lnTo>
                      <a:pt x="1621" y="68"/>
                    </a:lnTo>
                    <a:lnTo>
                      <a:pt x="1611" y="34"/>
                    </a:lnTo>
                    <a:lnTo>
                      <a:pt x="1600" y="0"/>
                    </a:lnTo>
                    <a:lnTo>
                      <a:pt x="1526" y="0"/>
                    </a:lnTo>
                    <a:lnTo>
                      <a:pt x="1539" y="34"/>
                    </a:lnTo>
                    <a:lnTo>
                      <a:pt x="1549" y="67"/>
                    </a:lnTo>
                    <a:lnTo>
                      <a:pt x="1559" y="103"/>
                    </a:lnTo>
                    <a:lnTo>
                      <a:pt x="1567" y="138"/>
                    </a:lnTo>
                    <a:lnTo>
                      <a:pt x="1573" y="174"/>
                    </a:lnTo>
                    <a:lnTo>
                      <a:pt x="1577" y="210"/>
                    </a:lnTo>
                    <a:lnTo>
                      <a:pt x="1580" y="248"/>
                    </a:lnTo>
                    <a:lnTo>
                      <a:pt x="1581" y="285"/>
                    </a:lnTo>
                    <a:lnTo>
                      <a:pt x="1580" y="323"/>
                    </a:lnTo>
                    <a:lnTo>
                      <a:pt x="1577" y="362"/>
                    </a:lnTo>
                    <a:lnTo>
                      <a:pt x="1572" y="400"/>
                    </a:lnTo>
                    <a:lnTo>
                      <a:pt x="1566" y="437"/>
                    </a:lnTo>
                    <a:lnTo>
                      <a:pt x="1557" y="474"/>
                    </a:lnTo>
                    <a:lnTo>
                      <a:pt x="1547" y="509"/>
                    </a:lnTo>
                    <a:lnTo>
                      <a:pt x="1535" y="545"/>
                    </a:lnTo>
                    <a:lnTo>
                      <a:pt x="1522" y="580"/>
                    </a:lnTo>
                    <a:lnTo>
                      <a:pt x="1506" y="613"/>
                    </a:lnTo>
                    <a:lnTo>
                      <a:pt x="1489" y="646"/>
                    </a:lnTo>
                    <a:lnTo>
                      <a:pt x="1471" y="677"/>
                    </a:lnTo>
                    <a:lnTo>
                      <a:pt x="1451" y="708"/>
                    </a:lnTo>
                    <a:lnTo>
                      <a:pt x="1430" y="737"/>
                    </a:lnTo>
                    <a:lnTo>
                      <a:pt x="1408" y="766"/>
                    </a:lnTo>
                    <a:lnTo>
                      <a:pt x="1384" y="793"/>
                    </a:lnTo>
                    <a:lnTo>
                      <a:pt x="1360" y="819"/>
                    </a:lnTo>
                    <a:lnTo>
                      <a:pt x="1333" y="844"/>
                    </a:lnTo>
                    <a:lnTo>
                      <a:pt x="1305" y="868"/>
                    </a:lnTo>
                    <a:lnTo>
                      <a:pt x="1277" y="890"/>
                    </a:lnTo>
                    <a:lnTo>
                      <a:pt x="1247" y="911"/>
                    </a:lnTo>
                    <a:lnTo>
                      <a:pt x="1217" y="931"/>
                    </a:lnTo>
                    <a:lnTo>
                      <a:pt x="1185" y="949"/>
                    </a:lnTo>
                    <a:lnTo>
                      <a:pt x="1152" y="966"/>
                    </a:lnTo>
                    <a:lnTo>
                      <a:pt x="1119" y="982"/>
                    </a:lnTo>
                    <a:lnTo>
                      <a:pt x="1084" y="995"/>
                    </a:lnTo>
                    <a:lnTo>
                      <a:pt x="1049" y="1007"/>
                    </a:lnTo>
                    <a:lnTo>
                      <a:pt x="1013" y="1018"/>
                    </a:lnTo>
                    <a:lnTo>
                      <a:pt x="977" y="1026"/>
                    </a:lnTo>
                    <a:lnTo>
                      <a:pt x="939" y="1032"/>
                    </a:lnTo>
                    <a:lnTo>
                      <a:pt x="902" y="1037"/>
                    </a:lnTo>
                    <a:lnTo>
                      <a:pt x="863" y="1040"/>
                    </a:lnTo>
                    <a:lnTo>
                      <a:pt x="824" y="1041"/>
                    </a:lnTo>
                    <a:lnTo>
                      <a:pt x="786" y="1040"/>
                    </a:lnTo>
                    <a:lnTo>
                      <a:pt x="747" y="1037"/>
                    </a:lnTo>
                    <a:lnTo>
                      <a:pt x="710" y="1032"/>
                    </a:lnTo>
                    <a:lnTo>
                      <a:pt x="673" y="1026"/>
                    </a:lnTo>
                    <a:lnTo>
                      <a:pt x="637" y="1018"/>
                    </a:lnTo>
                    <a:lnTo>
                      <a:pt x="601" y="1007"/>
                    </a:lnTo>
                    <a:lnTo>
                      <a:pt x="566" y="995"/>
                    </a:lnTo>
                    <a:lnTo>
                      <a:pt x="532" y="983"/>
                    </a:lnTo>
                    <a:lnTo>
                      <a:pt x="499" y="968"/>
                    </a:lnTo>
                    <a:lnTo>
                      <a:pt x="466" y="951"/>
                    </a:lnTo>
                    <a:lnTo>
                      <a:pt x="435" y="934"/>
                    </a:lnTo>
                    <a:lnTo>
                      <a:pt x="404" y="914"/>
                    </a:lnTo>
                    <a:lnTo>
                      <a:pt x="375" y="894"/>
                    </a:lnTo>
                    <a:lnTo>
                      <a:pt x="347" y="872"/>
                    </a:lnTo>
                    <a:lnTo>
                      <a:pt x="319" y="847"/>
                    </a:lnTo>
                    <a:lnTo>
                      <a:pt x="293" y="823"/>
                    </a:lnTo>
                    <a:lnTo>
                      <a:pt x="268" y="797"/>
                    </a:lnTo>
                    <a:lnTo>
                      <a:pt x="244" y="770"/>
                    </a:lnTo>
                    <a:lnTo>
                      <a:pt x="221" y="742"/>
                    </a:lnTo>
                    <a:lnTo>
                      <a:pt x="200" y="713"/>
                    </a:lnTo>
                    <a:lnTo>
                      <a:pt x="180" y="683"/>
                    </a:lnTo>
                    <a:lnTo>
                      <a:pt x="162" y="651"/>
                    </a:lnTo>
                    <a:lnTo>
                      <a:pt x="145" y="620"/>
                    </a:lnTo>
                    <a:lnTo>
                      <a:pt x="130" y="586"/>
                    </a:lnTo>
                    <a:lnTo>
                      <a:pt x="116" y="552"/>
                    </a:lnTo>
                    <a:lnTo>
                      <a:pt x="104" y="518"/>
                    </a:lnTo>
                    <a:lnTo>
                      <a:pt x="93" y="482"/>
                    </a:lnTo>
                    <a:lnTo>
                      <a:pt x="85" y="446"/>
                    </a:lnTo>
                    <a:lnTo>
                      <a:pt x="77" y="410"/>
                    </a:lnTo>
                    <a:lnTo>
                      <a:pt x="72" y="372"/>
                    </a:lnTo>
                    <a:lnTo>
                      <a:pt x="69" y="334"/>
                    </a:lnTo>
                    <a:lnTo>
                      <a:pt x="68" y="295"/>
                    </a:lnTo>
                    <a:lnTo>
                      <a:pt x="8" y="310"/>
                    </a:lnTo>
                    <a:lnTo>
                      <a:pt x="0" y="313"/>
                    </a:lnTo>
                    <a:lnTo>
                      <a:pt x="2" y="354"/>
                    </a:lnTo>
                    <a:lnTo>
                      <a:pt x="6" y="395"/>
                    </a:lnTo>
                    <a:lnTo>
                      <a:pt x="12" y="435"/>
                    </a:lnTo>
                    <a:lnTo>
                      <a:pt x="21" y="474"/>
                    </a:lnTo>
                    <a:lnTo>
                      <a:pt x="30" y="512"/>
                    </a:lnTo>
                    <a:lnTo>
                      <a:pt x="43" y="550"/>
                    </a:lnTo>
                    <a:lnTo>
                      <a:pt x="56" y="588"/>
                    </a:lnTo>
                    <a:lnTo>
                      <a:pt x="71" y="624"/>
                    </a:lnTo>
                    <a:lnTo>
                      <a:pt x="88" y="659"/>
                    </a:lnTo>
                    <a:lnTo>
                      <a:pt x="107" y="694"/>
                    </a:lnTo>
                    <a:lnTo>
                      <a:pt x="127" y="727"/>
                    </a:lnTo>
                    <a:lnTo>
                      <a:pt x="149" y="759"/>
                    </a:lnTo>
                    <a:lnTo>
                      <a:pt x="172" y="791"/>
                    </a:lnTo>
                    <a:lnTo>
                      <a:pt x="196" y="821"/>
                    </a:lnTo>
                    <a:lnTo>
                      <a:pt x="223" y="850"/>
                    </a:lnTo>
                    <a:lnTo>
                      <a:pt x="250" y="877"/>
                    </a:lnTo>
                    <a:lnTo>
                      <a:pt x="278" y="903"/>
                    </a:lnTo>
                    <a:lnTo>
                      <a:pt x="308" y="928"/>
                    </a:lnTo>
                    <a:lnTo>
                      <a:pt x="339" y="952"/>
                    </a:lnTo>
                    <a:lnTo>
                      <a:pt x="371" y="974"/>
                    </a:lnTo>
                    <a:lnTo>
                      <a:pt x="403" y="994"/>
                    </a:lnTo>
                    <a:lnTo>
                      <a:pt x="438" y="1014"/>
                    </a:lnTo>
                    <a:lnTo>
                      <a:pt x="473" y="1031"/>
                    </a:lnTo>
                    <a:lnTo>
                      <a:pt x="508" y="1047"/>
                    </a:lnTo>
                    <a:lnTo>
                      <a:pt x="545" y="1062"/>
                    </a:lnTo>
                    <a:lnTo>
                      <a:pt x="583" y="1074"/>
                    </a:lnTo>
                    <a:lnTo>
                      <a:pt x="622" y="1085"/>
                    </a:lnTo>
                    <a:lnTo>
                      <a:pt x="661" y="1093"/>
                    </a:lnTo>
                    <a:lnTo>
                      <a:pt x="701" y="1100"/>
                    </a:lnTo>
                    <a:lnTo>
                      <a:pt x="742" y="1106"/>
                    </a:lnTo>
                    <a:lnTo>
                      <a:pt x="783" y="1109"/>
                    </a:lnTo>
                    <a:lnTo>
                      <a:pt x="824" y="1110"/>
                    </a:lnTo>
                    <a:lnTo>
                      <a:pt x="867" y="1109"/>
                    </a:lnTo>
                    <a:lnTo>
                      <a:pt x="909" y="1106"/>
                    </a:lnTo>
                    <a:lnTo>
                      <a:pt x="950" y="1100"/>
                    </a:lnTo>
                    <a:lnTo>
                      <a:pt x="991" y="1093"/>
                    </a:lnTo>
                    <a:lnTo>
                      <a:pt x="1031" y="1084"/>
                    </a:lnTo>
                    <a:lnTo>
                      <a:pt x="1070" y="1072"/>
                    </a:lnTo>
                    <a:lnTo>
                      <a:pt x="1108" y="1060"/>
                    </a:lnTo>
                    <a:lnTo>
                      <a:pt x="1145" y="1045"/>
                    </a:lnTo>
                    <a:lnTo>
                      <a:pt x="1182" y="1028"/>
                    </a:lnTo>
                    <a:lnTo>
                      <a:pt x="1218" y="1010"/>
                    </a:lnTo>
                    <a:lnTo>
                      <a:pt x="1253" y="990"/>
                    </a:lnTo>
                    <a:lnTo>
                      <a:pt x="1285" y="969"/>
                    </a:lnTo>
                    <a:lnTo>
                      <a:pt x="1318" y="946"/>
                    </a:lnTo>
                    <a:lnTo>
                      <a:pt x="1349" y="921"/>
                    </a:lnTo>
                    <a:lnTo>
                      <a:pt x="1379" y="896"/>
                    </a:lnTo>
                    <a:lnTo>
                      <a:pt x="1408" y="868"/>
                    </a:lnTo>
                    <a:lnTo>
                      <a:pt x="1436" y="839"/>
                    </a:lnTo>
                    <a:lnTo>
                      <a:pt x="1461" y="810"/>
                    </a:lnTo>
                    <a:lnTo>
                      <a:pt x="1486" y="778"/>
                    </a:lnTo>
                    <a:lnTo>
                      <a:pt x="1509" y="746"/>
                    </a:lnTo>
                    <a:lnTo>
                      <a:pt x="1530" y="713"/>
                    </a:lnTo>
                    <a:lnTo>
                      <a:pt x="1550" y="678"/>
                    </a:lnTo>
                    <a:lnTo>
                      <a:pt x="1568" y="643"/>
                    </a:lnTo>
                    <a:lnTo>
                      <a:pt x="1585" y="606"/>
                    </a:lnTo>
                    <a:lnTo>
                      <a:pt x="1600" y="568"/>
                    </a:lnTo>
                    <a:lnTo>
                      <a:pt x="1613" y="530"/>
                    </a:lnTo>
                    <a:lnTo>
                      <a:pt x="1624" y="491"/>
                    </a:lnTo>
                    <a:lnTo>
                      <a:pt x="1633" y="452"/>
                    </a:lnTo>
                    <a:lnTo>
                      <a:pt x="1641" y="411"/>
                    </a:lnTo>
                    <a:lnTo>
                      <a:pt x="1646" y="370"/>
                    </a:lnTo>
                    <a:lnTo>
                      <a:pt x="1649" y="328"/>
                    </a:lnTo>
                    <a:lnTo>
                      <a:pt x="1650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421080" y="2901960"/>
                <a:ext cx="501480" cy="341280"/>
              </a:xfrm>
              <a:custGeom>
                <a:avLst/>
                <a:gdLst/>
                <a:ahLst/>
                <a:rect l="l" t="t" r="r" b="b"/>
                <a:pathLst>
                  <a:path w="1582" h="1075">
                    <a:moveTo>
                      <a:pt x="1582" y="285"/>
                    </a:moveTo>
                    <a:lnTo>
                      <a:pt x="1581" y="248"/>
                    </a:lnTo>
                    <a:lnTo>
                      <a:pt x="1579" y="210"/>
                    </a:lnTo>
                    <a:lnTo>
                      <a:pt x="1575" y="174"/>
                    </a:lnTo>
                    <a:lnTo>
                      <a:pt x="1569" y="139"/>
                    </a:lnTo>
                    <a:lnTo>
                      <a:pt x="1561" y="103"/>
                    </a:lnTo>
                    <a:lnTo>
                      <a:pt x="1552" y="68"/>
                    </a:lnTo>
                    <a:lnTo>
                      <a:pt x="1541" y="34"/>
                    </a:lnTo>
                    <a:lnTo>
                      <a:pt x="1530" y="0"/>
                    </a:lnTo>
                    <a:lnTo>
                      <a:pt x="1474" y="0"/>
                    </a:lnTo>
                    <a:lnTo>
                      <a:pt x="1455" y="0"/>
                    </a:lnTo>
                    <a:lnTo>
                      <a:pt x="1469" y="34"/>
                    </a:lnTo>
                    <a:lnTo>
                      <a:pt x="1480" y="67"/>
                    </a:lnTo>
                    <a:lnTo>
                      <a:pt x="1490" y="102"/>
                    </a:lnTo>
                    <a:lnTo>
                      <a:pt x="1498" y="138"/>
                    </a:lnTo>
                    <a:lnTo>
                      <a:pt x="1504" y="173"/>
                    </a:lnTo>
                    <a:lnTo>
                      <a:pt x="1510" y="210"/>
                    </a:lnTo>
                    <a:lnTo>
                      <a:pt x="1513" y="247"/>
                    </a:lnTo>
                    <a:lnTo>
                      <a:pt x="1514" y="285"/>
                    </a:lnTo>
                    <a:lnTo>
                      <a:pt x="1513" y="322"/>
                    </a:lnTo>
                    <a:lnTo>
                      <a:pt x="1510" y="359"/>
                    </a:lnTo>
                    <a:lnTo>
                      <a:pt x="1506" y="395"/>
                    </a:lnTo>
                    <a:lnTo>
                      <a:pt x="1499" y="431"/>
                    </a:lnTo>
                    <a:lnTo>
                      <a:pt x="1491" y="465"/>
                    </a:lnTo>
                    <a:lnTo>
                      <a:pt x="1481" y="500"/>
                    </a:lnTo>
                    <a:lnTo>
                      <a:pt x="1470" y="533"/>
                    </a:lnTo>
                    <a:lnTo>
                      <a:pt x="1457" y="566"/>
                    </a:lnTo>
                    <a:lnTo>
                      <a:pt x="1442" y="598"/>
                    </a:lnTo>
                    <a:lnTo>
                      <a:pt x="1427" y="629"/>
                    </a:lnTo>
                    <a:lnTo>
                      <a:pt x="1409" y="659"/>
                    </a:lnTo>
                    <a:lnTo>
                      <a:pt x="1390" y="689"/>
                    </a:lnTo>
                    <a:lnTo>
                      <a:pt x="1370" y="717"/>
                    </a:lnTo>
                    <a:lnTo>
                      <a:pt x="1349" y="743"/>
                    </a:lnTo>
                    <a:lnTo>
                      <a:pt x="1326" y="770"/>
                    </a:lnTo>
                    <a:lnTo>
                      <a:pt x="1302" y="795"/>
                    </a:lnTo>
                    <a:lnTo>
                      <a:pt x="1276" y="819"/>
                    </a:lnTo>
                    <a:lnTo>
                      <a:pt x="1250" y="842"/>
                    </a:lnTo>
                    <a:lnTo>
                      <a:pt x="1223" y="863"/>
                    </a:lnTo>
                    <a:lnTo>
                      <a:pt x="1195" y="883"/>
                    </a:lnTo>
                    <a:lnTo>
                      <a:pt x="1166" y="902"/>
                    </a:lnTo>
                    <a:lnTo>
                      <a:pt x="1136" y="920"/>
                    </a:lnTo>
                    <a:lnTo>
                      <a:pt x="1104" y="936"/>
                    </a:lnTo>
                    <a:lnTo>
                      <a:pt x="1072" y="950"/>
                    </a:lnTo>
                    <a:lnTo>
                      <a:pt x="1040" y="963"/>
                    </a:lnTo>
                    <a:lnTo>
                      <a:pt x="1006" y="974"/>
                    </a:lnTo>
                    <a:lnTo>
                      <a:pt x="972" y="984"/>
                    </a:lnTo>
                    <a:lnTo>
                      <a:pt x="937" y="992"/>
                    </a:lnTo>
                    <a:lnTo>
                      <a:pt x="901" y="999"/>
                    </a:lnTo>
                    <a:lnTo>
                      <a:pt x="865" y="1003"/>
                    </a:lnTo>
                    <a:lnTo>
                      <a:pt x="829" y="1006"/>
                    </a:lnTo>
                    <a:lnTo>
                      <a:pt x="791" y="1007"/>
                    </a:lnTo>
                    <a:lnTo>
                      <a:pt x="754" y="1006"/>
                    </a:lnTo>
                    <a:lnTo>
                      <a:pt x="717" y="1003"/>
                    </a:lnTo>
                    <a:lnTo>
                      <a:pt x="681" y="999"/>
                    </a:lnTo>
                    <a:lnTo>
                      <a:pt x="646" y="992"/>
                    </a:lnTo>
                    <a:lnTo>
                      <a:pt x="611" y="984"/>
                    </a:lnTo>
                    <a:lnTo>
                      <a:pt x="576" y="974"/>
                    </a:lnTo>
                    <a:lnTo>
                      <a:pt x="543" y="963"/>
                    </a:lnTo>
                    <a:lnTo>
                      <a:pt x="510" y="950"/>
                    </a:lnTo>
                    <a:lnTo>
                      <a:pt x="479" y="936"/>
                    </a:lnTo>
                    <a:lnTo>
                      <a:pt x="447" y="920"/>
                    </a:lnTo>
                    <a:lnTo>
                      <a:pt x="418" y="902"/>
                    </a:lnTo>
                    <a:lnTo>
                      <a:pt x="388" y="884"/>
                    </a:lnTo>
                    <a:lnTo>
                      <a:pt x="360" y="864"/>
                    </a:lnTo>
                    <a:lnTo>
                      <a:pt x="332" y="842"/>
                    </a:lnTo>
                    <a:lnTo>
                      <a:pt x="306" y="820"/>
                    </a:lnTo>
                    <a:lnTo>
                      <a:pt x="281" y="796"/>
                    </a:lnTo>
                    <a:lnTo>
                      <a:pt x="257" y="771"/>
                    </a:lnTo>
                    <a:lnTo>
                      <a:pt x="235" y="745"/>
                    </a:lnTo>
                    <a:lnTo>
                      <a:pt x="213" y="718"/>
                    </a:lnTo>
                    <a:lnTo>
                      <a:pt x="193" y="690"/>
                    </a:lnTo>
                    <a:lnTo>
                      <a:pt x="174" y="661"/>
                    </a:lnTo>
                    <a:lnTo>
                      <a:pt x="157" y="630"/>
                    </a:lnTo>
                    <a:lnTo>
                      <a:pt x="141" y="600"/>
                    </a:lnTo>
                    <a:lnTo>
                      <a:pt x="126" y="567"/>
                    </a:lnTo>
                    <a:lnTo>
                      <a:pt x="113" y="535"/>
                    </a:lnTo>
                    <a:lnTo>
                      <a:pt x="102" y="501"/>
                    </a:lnTo>
                    <a:lnTo>
                      <a:pt x="92" y="467"/>
                    </a:lnTo>
                    <a:lnTo>
                      <a:pt x="84" y="433"/>
                    </a:lnTo>
                    <a:lnTo>
                      <a:pt x="77" y="397"/>
                    </a:lnTo>
                    <a:lnTo>
                      <a:pt x="73" y="361"/>
                    </a:lnTo>
                    <a:lnTo>
                      <a:pt x="70" y="325"/>
                    </a:lnTo>
                    <a:lnTo>
                      <a:pt x="69" y="287"/>
                    </a:lnTo>
                    <a:lnTo>
                      <a:pt x="0" y="304"/>
                    </a:lnTo>
                    <a:lnTo>
                      <a:pt x="2" y="343"/>
                    </a:lnTo>
                    <a:lnTo>
                      <a:pt x="6" y="382"/>
                    </a:lnTo>
                    <a:lnTo>
                      <a:pt x="12" y="421"/>
                    </a:lnTo>
                    <a:lnTo>
                      <a:pt x="19" y="460"/>
                    </a:lnTo>
                    <a:lnTo>
                      <a:pt x="29" y="497"/>
                    </a:lnTo>
                    <a:lnTo>
                      <a:pt x="40" y="533"/>
                    </a:lnTo>
                    <a:lnTo>
                      <a:pt x="53" y="569"/>
                    </a:lnTo>
                    <a:lnTo>
                      <a:pt x="68" y="605"/>
                    </a:lnTo>
                    <a:lnTo>
                      <a:pt x="83" y="638"/>
                    </a:lnTo>
                    <a:lnTo>
                      <a:pt x="101" y="672"/>
                    </a:lnTo>
                    <a:lnTo>
                      <a:pt x="120" y="705"/>
                    </a:lnTo>
                    <a:lnTo>
                      <a:pt x="141" y="736"/>
                    </a:lnTo>
                    <a:lnTo>
                      <a:pt x="163" y="767"/>
                    </a:lnTo>
                    <a:lnTo>
                      <a:pt x="186" y="795"/>
                    </a:lnTo>
                    <a:lnTo>
                      <a:pt x="212" y="823"/>
                    </a:lnTo>
                    <a:lnTo>
                      <a:pt x="238" y="850"/>
                    </a:lnTo>
                    <a:lnTo>
                      <a:pt x="265" y="876"/>
                    </a:lnTo>
                    <a:lnTo>
                      <a:pt x="294" y="900"/>
                    </a:lnTo>
                    <a:lnTo>
                      <a:pt x="323" y="923"/>
                    </a:lnTo>
                    <a:lnTo>
                      <a:pt x="355" y="944"/>
                    </a:lnTo>
                    <a:lnTo>
                      <a:pt x="386" y="964"/>
                    </a:lnTo>
                    <a:lnTo>
                      <a:pt x="419" y="983"/>
                    </a:lnTo>
                    <a:lnTo>
                      <a:pt x="452" y="1000"/>
                    </a:lnTo>
                    <a:lnTo>
                      <a:pt x="487" y="1014"/>
                    </a:lnTo>
                    <a:lnTo>
                      <a:pt x="523" y="1029"/>
                    </a:lnTo>
                    <a:lnTo>
                      <a:pt x="560" y="1041"/>
                    </a:lnTo>
                    <a:lnTo>
                      <a:pt x="596" y="1051"/>
                    </a:lnTo>
                    <a:lnTo>
                      <a:pt x="634" y="1060"/>
                    </a:lnTo>
                    <a:lnTo>
                      <a:pt x="672" y="1067"/>
                    </a:lnTo>
                    <a:lnTo>
                      <a:pt x="712" y="1071"/>
                    </a:lnTo>
                    <a:lnTo>
                      <a:pt x="751" y="1074"/>
                    </a:lnTo>
                    <a:lnTo>
                      <a:pt x="791" y="1075"/>
                    </a:lnTo>
                    <a:lnTo>
                      <a:pt x="832" y="1074"/>
                    </a:lnTo>
                    <a:lnTo>
                      <a:pt x="872" y="1071"/>
                    </a:lnTo>
                    <a:lnTo>
                      <a:pt x="912" y="1066"/>
                    </a:lnTo>
                    <a:lnTo>
                      <a:pt x="951" y="1060"/>
                    </a:lnTo>
                    <a:lnTo>
                      <a:pt x="988" y="1050"/>
                    </a:lnTo>
                    <a:lnTo>
                      <a:pt x="1026" y="1040"/>
                    </a:lnTo>
                    <a:lnTo>
                      <a:pt x="1063" y="1027"/>
                    </a:lnTo>
                    <a:lnTo>
                      <a:pt x="1099" y="1013"/>
                    </a:lnTo>
                    <a:lnTo>
                      <a:pt x="1134" y="998"/>
                    </a:lnTo>
                    <a:lnTo>
                      <a:pt x="1168" y="980"/>
                    </a:lnTo>
                    <a:lnTo>
                      <a:pt x="1202" y="961"/>
                    </a:lnTo>
                    <a:lnTo>
                      <a:pt x="1233" y="941"/>
                    </a:lnTo>
                    <a:lnTo>
                      <a:pt x="1265" y="919"/>
                    </a:lnTo>
                    <a:lnTo>
                      <a:pt x="1294" y="895"/>
                    </a:lnTo>
                    <a:lnTo>
                      <a:pt x="1323" y="871"/>
                    </a:lnTo>
                    <a:lnTo>
                      <a:pt x="1351" y="844"/>
                    </a:lnTo>
                    <a:lnTo>
                      <a:pt x="1377" y="816"/>
                    </a:lnTo>
                    <a:lnTo>
                      <a:pt x="1401" y="788"/>
                    </a:lnTo>
                    <a:lnTo>
                      <a:pt x="1425" y="758"/>
                    </a:lnTo>
                    <a:lnTo>
                      <a:pt x="1448" y="727"/>
                    </a:lnTo>
                    <a:lnTo>
                      <a:pt x="1468" y="695"/>
                    </a:lnTo>
                    <a:lnTo>
                      <a:pt x="1487" y="662"/>
                    </a:lnTo>
                    <a:lnTo>
                      <a:pt x="1504" y="628"/>
                    </a:lnTo>
                    <a:lnTo>
                      <a:pt x="1520" y="592"/>
                    </a:lnTo>
                    <a:lnTo>
                      <a:pt x="1534" y="557"/>
                    </a:lnTo>
                    <a:lnTo>
                      <a:pt x="1547" y="520"/>
                    </a:lnTo>
                    <a:lnTo>
                      <a:pt x="1557" y="482"/>
                    </a:lnTo>
                    <a:lnTo>
                      <a:pt x="1567" y="444"/>
                    </a:lnTo>
                    <a:lnTo>
                      <a:pt x="1573" y="405"/>
                    </a:lnTo>
                    <a:lnTo>
                      <a:pt x="1578" y="365"/>
                    </a:lnTo>
                    <a:lnTo>
                      <a:pt x="1581" y="326"/>
                    </a:lnTo>
                    <a:lnTo>
                      <a:pt x="1582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432240" y="2901960"/>
                <a:ext cx="479520" cy="331920"/>
              </a:xfrm>
              <a:custGeom>
                <a:avLst/>
                <a:gdLst/>
                <a:ahLst/>
                <a:rect l="l" t="t" r="r" b="b"/>
                <a:pathLst>
                  <a:path w="1513" h="1041">
                    <a:moveTo>
                      <a:pt x="1513" y="285"/>
                    </a:moveTo>
                    <a:lnTo>
                      <a:pt x="1512" y="248"/>
                    </a:lnTo>
                    <a:lnTo>
                      <a:pt x="1509" y="210"/>
                    </a:lnTo>
                    <a:lnTo>
                      <a:pt x="1505" y="174"/>
                    </a:lnTo>
                    <a:lnTo>
                      <a:pt x="1499" y="138"/>
                    </a:lnTo>
                    <a:lnTo>
                      <a:pt x="1491" y="103"/>
                    </a:lnTo>
                    <a:lnTo>
                      <a:pt x="1481" y="67"/>
                    </a:lnTo>
                    <a:lnTo>
                      <a:pt x="1471" y="34"/>
                    </a:lnTo>
                    <a:lnTo>
                      <a:pt x="1458" y="0"/>
                    </a:lnTo>
                    <a:lnTo>
                      <a:pt x="1439" y="0"/>
                    </a:lnTo>
                    <a:lnTo>
                      <a:pt x="1382" y="0"/>
                    </a:lnTo>
                    <a:lnTo>
                      <a:pt x="1397" y="34"/>
                    </a:lnTo>
                    <a:lnTo>
                      <a:pt x="1409" y="67"/>
                    </a:lnTo>
                    <a:lnTo>
                      <a:pt x="1419" y="102"/>
                    </a:lnTo>
                    <a:lnTo>
                      <a:pt x="1428" y="138"/>
                    </a:lnTo>
                    <a:lnTo>
                      <a:pt x="1435" y="173"/>
                    </a:lnTo>
                    <a:lnTo>
                      <a:pt x="1440" y="210"/>
                    </a:lnTo>
                    <a:lnTo>
                      <a:pt x="1443" y="247"/>
                    </a:lnTo>
                    <a:lnTo>
                      <a:pt x="1444" y="285"/>
                    </a:lnTo>
                    <a:lnTo>
                      <a:pt x="1443" y="320"/>
                    </a:lnTo>
                    <a:lnTo>
                      <a:pt x="1441" y="355"/>
                    </a:lnTo>
                    <a:lnTo>
                      <a:pt x="1436" y="390"/>
                    </a:lnTo>
                    <a:lnTo>
                      <a:pt x="1431" y="423"/>
                    </a:lnTo>
                    <a:lnTo>
                      <a:pt x="1422" y="457"/>
                    </a:lnTo>
                    <a:lnTo>
                      <a:pt x="1413" y="489"/>
                    </a:lnTo>
                    <a:lnTo>
                      <a:pt x="1402" y="521"/>
                    </a:lnTo>
                    <a:lnTo>
                      <a:pt x="1390" y="552"/>
                    </a:lnTo>
                    <a:lnTo>
                      <a:pt x="1376" y="583"/>
                    </a:lnTo>
                    <a:lnTo>
                      <a:pt x="1361" y="612"/>
                    </a:lnTo>
                    <a:lnTo>
                      <a:pt x="1344" y="642"/>
                    </a:lnTo>
                    <a:lnTo>
                      <a:pt x="1327" y="669"/>
                    </a:lnTo>
                    <a:lnTo>
                      <a:pt x="1308" y="696"/>
                    </a:lnTo>
                    <a:lnTo>
                      <a:pt x="1287" y="722"/>
                    </a:lnTo>
                    <a:lnTo>
                      <a:pt x="1266" y="747"/>
                    </a:lnTo>
                    <a:lnTo>
                      <a:pt x="1242" y="771"/>
                    </a:lnTo>
                    <a:lnTo>
                      <a:pt x="1218" y="794"/>
                    </a:lnTo>
                    <a:lnTo>
                      <a:pt x="1194" y="815"/>
                    </a:lnTo>
                    <a:lnTo>
                      <a:pt x="1168" y="836"/>
                    </a:lnTo>
                    <a:lnTo>
                      <a:pt x="1140" y="855"/>
                    </a:lnTo>
                    <a:lnTo>
                      <a:pt x="1113" y="873"/>
                    </a:lnTo>
                    <a:lnTo>
                      <a:pt x="1084" y="889"/>
                    </a:lnTo>
                    <a:lnTo>
                      <a:pt x="1054" y="904"/>
                    </a:lnTo>
                    <a:lnTo>
                      <a:pt x="1024" y="918"/>
                    </a:lnTo>
                    <a:lnTo>
                      <a:pt x="992" y="930"/>
                    </a:lnTo>
                    <a:lnTo>
                      <a:pt x="961" y="941"/>
                    </a:lnTo>
                    <a:lnTo>
                      <a:pt x="928" y="950"/>
                    </a:lnTo>
                    <a:lnTo>
                      <a:pt x="895" y="959"/>
                    </a:lnTo>
                    <a:lnTo>
                      <a:pt x="861" y="964"/>
                    </a:lnTo>
                    <a:lnTo>
                      <a:pt x="826" y="968"/>
                    </a:lnTo>
                    <a:lnTo>
                      <a:pt x="792" y="971"/>
                    </a:lnTo>
                    <a:lnTo>
                      <a:pt x="756" y="972"/>
                    </a:lnTo>
                    <a:lnTo>
                      <a:pt x="721" y="971"/>
                    </a:lnTo>
                    <a:lnTo>
                      <a:pt x="685" y="968"/>
                    </a:lnTo>
                    <a:lnTo>
                      <a:pt x="652" y="964"/>
                    </a:lnTo>
                    <a:lnTo>
                      <a:pt x="617" y="959"/>
                    </a:lnTo>
                    <a:lnTo>
                      <a:pt x="584" y="950"/>
                    </a:lnTo>
                    <a:lnTo>
                      <a:pt x="552" y="941"/>
                    </a:lnTo>
                    <a:lnTo>
                      <a:pt x="519" y="930"/>
                    </a:lnTo>
                    <a:lnTo>
                      <a:pt x="489" y="918"/>
                    </a:lnTo>
                    <a:lnTo>
                      <a:pt x="458" y="904"/>
                    </a:lnTo>
                    <a:lnTo>
                      <a:pt x="428" y="889"/>
                    </a:lnTo>
                    <a:lnTo>
                      <a:pt x="399" y="873"/>
                    </a:lnTo>
                    <a:lnTo>
                      <a:pt x="371" y="855"/>
                    </a:lnTo>
                    <a:lnTo>
                      <a:pt x="345" y="836"/>
                    </a:lnTo>
                    <a:lnTo>
                      <a:pt x="318" y="815"/>
                    </a:lnTo>
                    <a:lnTo>
                      <a:pt x="293" y="794"/>
                    </a:lnTo>
                    <a:lnTo>
                      <a:pt x="270" y="771"/>
                    </a:lnTo>
                    <a:lnTo>
                      <a:pt x="247" y="747"/>
                    </a:lnTo>
                    <a:lnTo>
                      <a:pt x="225" y="722"/>
                    </a:lnTo>
                    <a:lnTo>
                      <a:pt x="205" y="696"/>
                    </a:lnTo>
                    <a:lnTo>
                      <a:pt x="186" y="669"/>
                    </a:lnTo>
                    <a:lnTo>
                      <a:pt x="168" y="642"/>
                    </a:lnTo>
                    <a:lnTo>
                      <a:pt x="151" y="612"/>
                    </a:lnTo>
                    <a:lnTo>
                      <a:pt x="136" y="583"/>
                    </a:lnTo>
                    <a:lnTo>
                      <a:pt x="122" y="552"/>
                    </a:lnTo>
                    <a:lnTo>
                      <a:pt x="110" y="521"/>
                    </a:lnTo>
                    <a:lnTo>
                      <a:pt x="99" y="489"/>
                    </a:lnTo>
                    <a:lnTo>
                      <a:pt x="89" y="457"/>
                    </a:lnTo>
                    <a:lnTo>
                      <a:pt x="82" y="423"/>
                    </a:lnTo>
                    <a:lnTo>
                      <a:pt x="76" y="390"/>
                    </a:lnTo>
                    <a:lnTo>
                      <a:pt x="71" y="355"/>
                    </a:lnTo>
                    <a:lnTo>
                      <a:pt x="69" y="320"/>
                    </a:lnTo>
                    <a:lnTo>
                      <a:pt x="68" y="285"/>
                    </a:lnTo>
                    <a:lnTo>
                      <a:pt x="68" y="284"/>
                    </a:lnTo>
                    <a:lnTo>
                      <a:pt x="68" y="281"/>
                    </a:lnTo>
                    <a:lnTo>
                      <a:pt x="68" y="280"/>
                    </a:lnTo>
                    <a:lnTo>
                      <a:pt x="68" y="278"/>
                    </a:lnTo>
                    <a:lnTo>
                      <a:pt x="68" y="277"/>
                    </a:lnTo>
                    <a:lnTo>
                      <a:pt x="68" y="275"/>
                    </a:lnTo>
                    <a:lnTo>
                      <a:pt x="68" y="274"/>
                    </a:lnTo>
                    <a:lnTo>
                      <a:pt x="68" y="272"/>
                    </a:lnTo>
                    <a:lnTo>
                      <a:pt x="54" y="283"/>
                    </a:lnTo>
                    <a:lnTo>
                      <a:pt x="0" y="295"/>
                    </a:lnTo>
                    <a:lnTo>
                      <a:pt x="1" y="334"/>
                    </a:lnTo>
                    <a:lnTo>
                      <a:pt x="4" y="372"/>
                    </a:lnTo>
                    <a:lnTo>
                      <a:pt x="9" y="410"/>
                    </a:lnTo>
                    <a:lnTo>
                      <a:pt x="17" y="446"/>
                    </a:lnTo>
                    <a:lnTo>
                      <a:pt x="25" y="482"/>
                    </a:lnTo>
                    <a:lnTo>
                      <a:pt x="36" y="518"/>
                    </a:lnTo>
                    <a:lnTo>
                      <a:pt x="48" y="552"/>
                    </a:lnTo>
                    <a:lnTo>
                      <a:pt x="62" y="586"/>
                    </a:lnTo>
                    <a:lnTo>
                      <a:pt x="77" y="620"/>
                    </a:lnTo>
                    <a:lnTo>
                      <a:pt x="94" y="651"/>
                    </a:lnTo>
                    <a:lnTo>
                      <a:pt x="112" y="683"/>
                    </a:lnTo>
                    <a:lnTo>
                      <a:pt x="132" y="713"/>
                    </a:lnTo>
                    <a:lnTo>
                      <a:pt x="153" y="742"/>
                    </a:lnTo>
                    <a:lnTo>
                      <a:pt x="176" y="770"/>
                    </a:lnTo>
                    <a:lnTo>
                      <a:pt x="200" y="797"/>
                    </a:lnTo>
                    <a:lnTo>
                      <a:pt x="225" y="823"/>
                    </a:lnTo>
                    <a:lnTo>
                      <a:pt x="251" y="847"/>
                    </a:lnTo>
                    <a:lnTo>
                      <a:pt x="279" y="872"/>
                    </a:lnTo>
                    <a:lnTo>
                      <a:pt x="307" y="894"/>
                    </a:lnTo>
                    <a:lnTo>
                      <a:pt x="336" y="914"/>
                    </a:lnTo>
                    <a:lnTo>
                      <a:pt x="367" y="934"/>
                    </a:lnTo>
                    <a:lnTo>
                      <a:pt x="398" y="951"/>
                    </a:lnTo>
                    <a:lnTo>
                      <a:pt x="431" y="968"/>
                    </a:lnTo>
                    <a:lnTo>
                      <a:pt x="464" y="983"/>
                    </a:lnTo>
                    <a:lnTo>
                      <a:pt x="498" y="995"/>
                    </a:lnTo>
                    <a:lnTo>
                      <a:pt x="533" y="1007"/>
                    </a:lnTo>
                    <a:lnTo>
                      <a:pt x="569" y="1018"/>
                    </a:lnTo>
                    <a:lnTo>
                      <a:pt x="605" y="1026"/>
                    </a:lnTo>
                    <a:lnTo>
                      <a:pt x="642" y="1032"/>
                    </a:lnTo>
                    <a:lnTo>
                      <a:pt x="679" y="1037"/>
                    </a:lnTo>
                    <a:lnTo>
                      <a:pt x="718" y="1040"/>
                    </a:lnTo>
                    <a:lnTo>
                      <a:pt x="756" y="1041"/>
                    </a:lnTo>
                    <a:lnTo>
                      <a:pt x="795" y="1040"/>
                    </a:lnTo>
                    <a:lnTo>
                      <a:pt x="834" y="1037"/>
                    </a:lnTo>
                    <a:lnTo>
                      <a:pt x="871" y="1032"/>
                    </a:lnTo>
                    <a:lnTo>
                      <a:pt x="909" y="1026"/>
                    </a:lnTo>
                    <a:lnTo>
                      <a:pt x="945" y="1018"/>
                    </a:lnTo>
                    <a:lnTo>
                      <a:pt x="981" y="1007"/>
                    </a:lnTo>
                    <a:lnTo>
                      <a:pt x="1016" y="995"/>
                    </a:lnTo>
                    <a:lnTo>
                      <a:pt x="1051" y="982"/>
                    </a:lnTo>
                    <a:lnTo>
                      <a:pt x="1084" y="966"/>
                    </a:lnTo>
                    <a:lnTo>
                      <a:pt x="1117" y="949"/>
                    </a:lnTo>
                    <a:lnTo>
                      <a:pt x="1149" y="931"/>
                    </a:lnTo>
                    <a:lnTo>
                      <a:pt x="1179" y="911"/>
                    </a:lnTo>
                    <a:lnTo>
                      <a:pt x="1209" y="890"/>
                    </a:lnTo>
                    <a:lnTo>
                      <a:pt x="1237" y="868"/>
                    </a:lnTo>
                    <a:lnTo>
                      <a:pt x="1265" y="844"/>
                    </a:lnTo>
                    <a:lnTo>
                      <a:pt x="1292" y="819"/>
                    </a:lnTo>
                    <a:lnTo>
                      <a:pt x="1316" y="793"/>
                    </a:lnTo>
                    <a:lnTo>
                      <a:pt x="1340" y="766"/>
                    </a:lnTo>
                    <a:lnTo>
                      <a:pt x="1362" y="737"/>
                    </a:lnTo>
                    <a:lnTo>
                      <a:pt x="1383" y="708"/>
                    </a:lnTo>
                    <a:lnTo>
                      <a:pt x="1403" y="677"/>
                    </a:lnTo>
                    <a:lnTo>
                      <a:pt x="1421" y="646"/>
                    </a:lnTo>
                    <a:lnTo>
                      <a:pt x="1438" y="613"/>
                    </a:lnTo>
                    <a:lnTo>
                      <a:pt x="1454" y="580"/>
                    </a:lnTo>
                    <a:lnTo>
                      <a:pt x="1467" y="545"/>
                    </a:lnTo>
                    <a:lnTo>
                      <a:pt x="1479" y="509"/>
                    </a:lnTo>
                    <a:lnTo>
                      <a:pt x="1489" y="474"/>
                    </a:lnTo>
                    <a:lnTo>
                      <a:pt x="1498" y="437"/>
                    </a:lnTo>
                    <a:lnTo>
                      <a:pt x="1504" y="400"/>
                    </a:lnTo>
                    <a:lnTo>
                      <a:pt x="1509" y="362"/>
                    </a:lnTo>
                    <a:lnTo>
                      <a:pt x="1512" y="323"/>
                    </a:lnTo>
                    <a:lnTo>
                      <a:pt x="1513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441600" y="2901960"/>
                <a:ext cx="459000" cy="320760"/>
              </a:xfrm>
              <a:custGeom>
                <a:avLst/>
                <a:gdLst/>
                <a:ahLst/>
                <a:rect l="l" t="t" r="r" b="b"/>
                <a:pathLst>
                  <a:path w="1445" h="1007">
                    <a:moveTo>
                      <a:pt x="1445" y="285"/>
                    </a:moveTo>
                    <a:lnTo>
                      <a:pt x="1444" y="247"/>
                    </a:lnTo>
                    <a:lnTo>
                      <a:pt x="1441" y="210"/>
                    </a:lnTo>
                    <a:lnTo>
                      <a:pt x="1435" y="173"/>
                    </a:lnTo>
                    <a:lnTo>
                      <a:pt x="1429" y="138"/>
                    </a:lnTo>
                    <a:lnTo>
                      <a:pt x="1421" y="102"/>
                    </a:lnTo>
                    <a:lnTo>
                      <a:pt x="1411" y="67"/>
                    </a:lnTo>
                    <a:lnTo>
                      <a:pt x="1400" y="34"/>
                    </a:lnTo>
                    <a:lnTo>
                      <a:pt x="1386" y="0"/>
                    </a:lnTo>
                    <a:lnTo>
                      <a:pt x="1321" y="0"/>
                    </a:lnTo>
                    <a:lnTo>
                      <a:pt x="1311" y="2"/>
                    </a:lnTo>
                    <a:lnTo>
                      <a:pt x="1326" y="35"/>
                    </a:lnTo>
                    <a:lnTo>
                      <a:pt x="1339" y="68"/>
                    </a:lnTo>
                    <a:lnTo>
                      <a:pt x="1350" y="103"/>
                    </a:lnTo>
                    <a:lnTo>
                      <a:pt x="1359" y="138"/>
                    </a:lnTo>
                    <a:lnTo>
                      <a:pt x="1366" y="173"/>
                    </a:lnTo>
                    <a:lnTo>
                      <a:pt x="1371" y="210"/>
                    </a:lnTo>
                    <a:lnTo>
                      <a:pt x="1375" y="247"/>
                    </a:lnTo>
                    <a:lnTo>
                      <a:pt x="1376" y="285"/>
                    </a:lnTo>
                    <a:lnTo>
                      <a:pt x="1375" y="318"/>
                    </a:lnTo>
                    <a:lnTo>
                      <a:pt x="1372" y="352"/>
                    </a:lnTo>
                    <a:lnTo>
                      <a:pt x="1368" y="384"/>
                    </a:lnTo>
                    <a:lnTo>
                      <a:pt x="1363" y="417"/>
                    </a:lnTo>
                    <a:lnTo>
                      <a:pt x="1356" y="448"/>
                    </a:lnTo>
                    <a:lnTo>
                      <a:pt x="1346" y="479"/>
                    </a:lnTo>
                    <a:lnTo>
                      <a:pt x="1336" y="509"/>
                    </a:lnTo>
                    <a:lnTo>
                      <a:pt x="1324" y="539"/>
                    </a:lnTo>
                    <a:lnTo>
                      <a:pt x="1311" y="568"/>
                    </a:lnTo>
                    <a:lnTo>
                      <a:pt x="1297" y="596"/>
                    </a:lnTo>
                    <a:lnTo>
                      <a:pt x="1281" y="624"/>
                    </a:lnTo>
                    <a:lnTo>
                      <a:pt x="1264" y="650"/>
                    </a:lnTo>
                    <a:lnTo>
                      <a:pt x="1246" y="675"/>
                    </a:lnTo>
                    <a:lnTo>
                      <a:pt x="1226" y="700"/>
                    </a:lnTo>
                    <a:lnTo>
                      <a:pt x="1206" y="724"/>
                    </a:lnTo>
                    <a:lnTo>
                      <a:pt x="1184" y="747"/>
                    </a:lnTo>
                    <a:lnTo>
                      <a:pt x="1161" y="769"/>
                    </a:lnTo>
                    <a:lnTo>
                      <a:pt x="1138" y="789"/>
                    </a:lnTo>
                    <a:lnTo>
                      <a:pt x="1113" y="809"/>
                    </a:lnTo>
                    <a:lnTo>
                      <a:pt x="1088" y="826"/>
                    </a:lnTo>
                    <a:lnTo>
                      <a:pt x="1061" y="843"/>
                    </a:lnTo>
                    <a:lnTo>
                      <a:pt x="1034" y="859"/>
                    </a:lnTo>
                    <a:lnTo>
                      <a:pt x="1006" y="874"/>
                    </a:lnTo>
                    <a:lnTo>
                      <a:pt x="976" y="886"/>
                    </a:lnTo>
                    <a:lnTo>
                      <a:pt x="947" y="898"/>
                    </a:lnTo>
                    <a:lnTo>
                      <a:pt x="916" y="908"/>
                    </a:lnTo>
                    <a:lnTo>
                      <a:pt x="886" y="918"/>
                    </a:lnTo>
                    <a:lnTo>
                      <a:pt x="854" y="924"/>
                    </a:lnTo>
                    <a:lnTo>
                      <a:pt x="822" y="930"/>
                    </a:lnTo>
                    <a:lnTo>
                      <a:pt x="789" y="935"/>
                    </a:lnTo>
                    <a:lnTo>
                      <a:pt x="755" y="937"/>
                    </a:lnTo>
                    <a:lnTo>
                      <a:pt x="722" y="938"/>
                    </a:lnTo>
                    <a:lnTo>
                      <a:pt x="688" y="937"/>
                    </a:lnTo>
                    <a:lnTo>
                      <a:pt x="656" y="935"/>
                    </a:lnTo>
                    <a:lnTo>
                      <a:pt x="623" y="930"/>
                    </a:lnTo>
                    <a:lnTo>
                      <a:pt x="590" y="924"/>
                    </a:lnTo>
                    <a:lnTo>
                      <a:pt x="559" y="918"/>
                    </a:lnTo>
                    <a:lnTo>
                      <a:pt x="528" y="908"/>
                    </a:lnTo>
                    <a:lnTo>
                      <a:pt x="498" y="898"/>
                    </a:lnTo>
                    <a:lnTo>
                      <a:pt x="467" y="886"/>
                    </a:lnTo>
                    <a:lnTo>
                      <a:pt x="439" y="874"/>
                    </a:lnTo>
                    <a:lnTo>
                      <a:pt x="411" y="859"/>
                    </a:lnTo>
                    <a:lnTo>
                      <a:pt x="383" y="843"/>
                    </a:lnTo>
                    <a:lnTo>
                      <a:pt x="357" y="826"/>
                    </a:lnTo>
                    <a:lnTo>
                      <a:pt x="331" y="809"/>
                    </a:lnTo>
                    <a:lnTo>
                      <a:pt x="307" y="789"/>
                    </a:lnTo>
                    <a:lnTo>
                      <a:pt x="282" y="769"/>
                    </a:lnTo>
                    <a:lnTo>
                      <a:pt x="260" y="747"/>
                    </a:lnTo>
                    <a:lnTo>
                      <a:pt x="238" y="724"/>
                    </a:lnTo>
                    <a:lnTo>
                      <a:pt x="218" y="700"/>
                    </a:lnTo>
                    <a:lnTo>
                      <a:pt x="198" y="675"/>
                    </a:lnTo>
                    <a:lnTo>
                      <a:pt x="180" y="650"/>
                    </a:lnTo>
                    <a:lnTo>
                      <a:pt x="164" y="624"/>
                    </a:lnTo>
                    <a:lnTo>
                      <a:pt x="148" y="596"/>
                    </a:lnTo>
                    <a:lnTo>
                      <a:pt x="133" y="568"/>
                    </a:lnTo>
                    <a:lnTo>
                      <a:pt x="121" y="539"/>
                    </a:lnTo>
                    <a:lnTo>
                      <a:pt x="108" y="509"/>
                    </a:lnTo>
                    <a:lnTo>
                      <a:pt x="98" y="479"/>
                    </a:lnTo>
                    <a:lnTo>
                      <a:pt x="89" y="448"/>
                    </a:lnTo>
                    <a:lnTo>
                      <a:pt x="82" y="417"/>
                    </a:lnTo>
                    <a:lnTo>
                      <a:pt x="76" y="384"/>
                    </a:lnTo>
                    <a:lnTo>
                      <a:pt x="72" y="352"/>
                    </a:lnTo>
                    <a:lnTo>
                      <a:pt x="69" y="318"/>
                    </a:lnTo>
                    <a:lnTo>
                      <a:pt x="69" y="285"/>
                    </a:lnTo>
                    <a:lnTo>
                      <a:pt x="69" y="280"/>
                    </a:lnTo>
                    <a:lnTo>
                      <a:pt x="69" y="276"/>
                    </a:lnTo>
                    <a:lnTo>
                      <a:pt x="69" y="271"/>
                    </a:lnTo>
                    <a:lnTo>
                      <a:pt x="69" y="267"/>
                    </a:lnTo>
                    <a:lnTo>
                      <a:pt x="69" y="263"/>
                    </a:lnTo>
                    <a:lnTo>
                      <a:pt x="69" y="257"/>
                    </a:lnTo>
                    <a:lnTo>
                      <a:pt x="69" y="253"/>
                    </a:lnTo>
                    <a:lnTo>
                      <a:pt x="70" y="249"/>
                    </a:lnTo>
                    <a:lnTo>
                      <a:pt x="20" y="283"/>
                    </a:lnTo>
                    <a:lnTo>
                      <a:pt x="0" y="287"/>
                    </a:lnTo>
                    <a:lnTo>
                      <a:pt x="1" y="325"/>
                    </a:lnTo>
                    <a:lnTo>
                      <a:pt x="4" y="361"/>
                    </a:lnTo>
                    <a:lnTo>
                      <a:pt x="8" y="397"/>
                    </a:lnTo>
                    <a:lnTo>
                      <a:pt x="15" y="433"/>
                    </a:lnTo>
                    <a:lnTo>
                      <a:pt x="23" y="467"/>
                    </a:lnTo>
                    <a:lnTo>
                      <a:pt x="33" y="501"/>
                    </a:lnTo>
                    <a:lnTo>
                      <a:pt x="44" y="535"/>
                    </a:lnTo>
                    <a:lnTo>
                      <a:pt x="57" y="567"/>
                    </a:lnTo>
                    <a:lnTo>
                      <a:pt x="72" y="600"/>
                    </a:lnTo>
                    <a:lnTo>
                      <a:pt x="88" y="630"/>
                    </a:lnTo>
                    <a:lnTo>
                      <a:pt x="105" y="661"/>
                    </a:lnTo>
                    <a:lnTo>
                      <a:pt x="124" y="690"/>
                    </a:lnTo>
                    <a:lnTo>
                      <a:pt x="144" y="718"/>
                    </a:lnTo>
                    <a:lnTo>
                      <a:pt x="166" y="745"/>
                    </a:lnTo>
                    <a:lnTo>
                      <a:pt x="188" y="771"/>
                    </a:lnTo>
                    <a:lnTo>
                      <a:pt x="212" y="796"/>
                    </a:lnTo>
                    <a:lnTo>
                      <a:pt x="237" y="820"/>
                    </a:lnTo>
                    <a:lnTo>
                      <a:pt x="263" y="842"/>
                    </a:lnTo>
                    <a:lnTo>
                      <a:pt x="291" y="864"/>
                    </a:lnTo>
                    <a:lnTo>
                      <a:pt x="319" y="884"/>
                    </a:lnTo>
                    <a:lnTo>
                      <a:pt x="349" y="902"/>
                    </a:lnTo>
                    <a:lnTo>
                      <a:pt x="378" y="920"/>
                    </a:lnTo>
                    <a:lnTo>
                      <a:pt x="410" y="936"/>
                    </a:lnTo>
                    <a:lnTo>
                      <a:pt x="441" y="950"/>
                    </a:lnTo>
                    <a:lnTo>
                      <a:pt x="474" y="963"/>
                    </a:lnTo>
                    <a:lnTo>
                      <a:pt x="507" y="974"/>
                    </a:lnTo>
                    <a:lnTo>
                      <a:pt x="542" y="984"/>
                    </a:lnTo>
                    <a:lnTo>
                      <a:pt x="577" y="992"/>
                    </a:lnTo>
                    <a:lnTo>
                      <a:pt x="612" y="999"/>
                    </a:lnTo>
                    <a:lnTo>
                      <a:pt x="648" y="1003"/>
                    </a:lnTo>
                    <a:lnTo>
                      <a:pt x="685" y="1006"/>
                    </a:lnTo>
                    <a:lnTo>
                      <a:pt x="722" y="1007"/>
                    </a:lnTo>
                    <a:lnTo>
                      <a:pt x="760" y="1006"/>
                    </a:lnTo>
                    <a:lnTo>
                      <a:pt x="796" y="1003"/>
                    </a:lnTo>
                    <a:lnTo>
                      <a:pt x="832" y="999"/>
                    </a:lnTo>
                    <a:lnTo>
                      <a:pt x="868" y="992"/>
                    </a:lnTo>
                    <a:lnTo>
                      <a:pt x="903" y="984"/>
                    </a:lnTo>
                    <a:lnTo>
                      <a:pt x="937" y="974"/>
                    </a:lnTo>
                    <a:lnTo>
                      <a:pt x="971" y="963"/>
                    </a:lnTo>
                    <a:lnTo>
                      <a:pt x="1003" y="950"/>
                    </a:lnTo>
                    <a:lnTo>
                      <a:pt x="1035" y="936"/>
                    </a:lnTo>
                    <a:lnTo>
                      <a:pt x="1067" y="920"/>
                    </a:lnTo>
                    <a:lnTo>
                      <a:pt x="1097" y="902"/>
                    </a:lnTo>
                    <a:lnTo>
                      <a:pt x="1126" y="883"/>
                    </a:lnTo>
                    <a:lnTo>
                      <a:pt x="1154" y="863"/>
                    </a:lnTo>
                    <a:lnTo>
                      <a:pt x="1181" y="842"/>
                    </a:lnTo>
                    <a:lnTo>
                      <a:pt x="1207" y="819"/>
                    </a:lnTo>
                    <a:lnTo>
                      <a:pt x="1233" y="795"/>
                    </a:lnTo>
                    <a:lnTo>
                      <a:pt x="1257" y="770"/>
                    </a:lnTo>
                    <a:lnTo>
                      <a:pt x="1280" y="743"/>
                    </a:lnTo>
                    <a:lnTo>
                      <a:pt x="1301" y="717"/>
                    </a:lnTo>
                    <a:lnTo>
                      <a:pt x="1321" y="689"/>
                    </a:lnTo>
                    <a:lnTo>
                      <a:pt x="1340" y="659"/>
                    </a:lnTo>
                    <a:lnTo>
                      <a:pt x="1358" y="629"/>
                    </a:lnTo>
                    <a:lnTo>
                      <a:pt x="1373" y="598"/>
                    </a:lnTo>
                    <a:lnTo>
                      <a:pt x="1388" y="566"/>
                    </a:lnTo>
                    <a:lnTo>
                      <a:pt x="1401" y="533"/>
                    </a:lnTo>
                    <a:lnTo>
                      <a:pt x="1412" y="500"/>
                    </a:lnTo>
                    <a:lnTo>
                      <a:pt x="1422" y="465"/>
                    </a:lnTo>
                    <a:lnTo>
                      <a:pt x="1430" y="431"/>
                    </a:lnTo>
                    <a:lnTo>
                      <a:pt x="1437" y="395"/>
                    </a:lnTo>
                    <a:lnTo>
                      <a:pt x="1441" y="359"/>
                    </a:lnTo>
                    <a:lnTo>
                      <a:pt x="1444" y="322"/>
                    </a:lnTo>
                    <a:lnTo>
                      <a:pt x="1445" y="28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452760" y="2901960"/>
                <a:ext cx="436680" cy="309600"/>
              </a:xfrm>
              <a:custGeom>
                <a:avLst/>
                <a:gdLst/>
                <a:ahLst/>
                <a:rect l="l" t="t" r="r" b="b"/>
                <a:pathLst>
                  <a:path w="1376" h="972">
                    <a:moveTo>
                      <a:pt x="1376" y="285"/>
                    </a:moveTo>
                    <a:lnTo>
                      <a:pt x="1375" y="247"/>
                    </a:lnTo>
                    <a:lnTo>
                      <a:pt x="1372" y="210"/>
                    </a:lnTo>
                    <a:lnTo>
                      <a:pt x="1367" y="173"/>
                    </a:lnTo>
                    <a:lnTo>
                      <a:pt x="1360" y="138"/>
                    </a:lnTo>
                    <a:lnTo>
                      <a:pt x="1351" y="102"/>
                    </a:lnTo>
                    <a:lnTo>
                      <a:pt x="1341" y="67"/>
                    </a:lnTo>
                    <a:lnTo>
                      <a:pt x="1329" y="34"/>
                    </a:lnTo>
                    <a:lnTo>
                      <a:pt x="1314" y="0"/>
                    </a:lnTo>
                    <a:lnTo>
                      <a:pt x="1287" y="0"/>
                    </a:lnTo>
                    <a:lnTo>
                      <a:pt x="1244" y="11"/>
                    </a:lnTo>
                    <a:lnTo>
                      <a:pt x="1257" y="42"/>
                    </a:lnTo>
                    <a:lnTo>
                      <a:pt x="1271" y="75"/>
                    </a:lnTo>
                    <a:lnTo>
                      <a:pt x="1282" y="108"/>
                    </a:lnTo>
                    <a:lnTo>
                      <a:pt x="1291" y="142"/>
                    </a:lnTo>
                    <a:lnTo>
                      <a:pt x="1298" y="176"/>
                    </a:lnTo>
                    <a:lnTo>
                      <a:pt x="1304" y="212"/>
                    </a:lnTo>
                    <a:lnTo>
                      <a:pt x="1307" y="248"/>
                    </a:lnTo>
                    <a:lnTo>
                      <a:pt x="1308" y="285"/>
                    </a:lnTo>
                    <a:lnTo>
                      <a:pt x="1307" y="317"/>
                    </a:lnTo>
                    <a:lnTo>
                      <a:pt x="1305" y="349"/>
                    </a:lnTo>
                    <a:lnTo>
                      <a:pt x="1301" y="379"/>
                    </a:lnTo>
                    <a:lnTo>
                      <a:pt x="1295" y="410"/>
                    </a:lnTo>
                    <a:lnTo>
                      <a:pt x="1288" y="440"/>
                    </a:lnTo>
                    <a:lnTo>
                      <a:pt x="1280" y="469"/>
                    </a:lnTo>
                    <a:lnTo>
                      <a:pt x="1270" y="498"/>
                    </a:lnTo>
                    <a:lnTo>
                      <a:pt x="1259" y="526"/>
                    </a:lnTo>
                    <a:lnTo>
                      <a:pt x="1246" y="553"/>
                    </a:lnTo>
                    <a:lnTo>
                      <a:pt x="1232" y="580"/>
                    </a:lnTo>
                    <a:lnTo>
                      <a:pt x="1218" y="606"/>
                    </a:lnTo>
                    <a:lnTo>
                      <a:pt x="1202" y="631"/>
                    </a:lnTo>
                    <a:lnTo>
                      <a:pt x="1184" y="655"/>
                    </a:lnTo>
                    <a:lnTo>
                      <a:pt x="1166" y="678"/>
                    </a:lnTo>
                    <a:lnTo>
                      <a:pt x="1146" y="701"/>
                    </a:lnTo>
                    <a:lnTo>
                      <a:pt x="1126" y="722"/>
                    </a:lnTo>
                    <a:lnTo>
                      <a:pt x="1104" y="742"/>
                    </a:lnTo>
                    <a:lnTo>
                      <a:pt x="1082" y="762"/>
                    </a:lnTo>
                    <a:lnTo>
                      <a:pt x="1059" y="780"/>
                    </a:lnTo>
                    <a:lnTo>
                      <a:pt x="1035" y="798"/>
                    </a:lnTo>
                    <a:lnTo>
                      <a:pt x="1009" y="814"/>
                    </a:lnTo>
                    <a:lnTo>
                      <a:pt x="983" y="829"/>
                    </a:lnTo>
                    <a:lnTo>
                      <a:pt x="957" y="842"/>
                    </a:lnTo>
                    <a:lnTo>
                      <a:pt x="930" y="855"/>
                    </a:lnTo>
                    <a:lnTo>
                      <a:pt x="901" y="866"/>
                    </a:lnTo>
                    <a:lnTo>
                      <a:pt x="873" y="876"/>
                    </a:lnTo>
                    <a:lnTo>
                      <a:pt x="843" y="884"/>
                    </a:lnTo>
                    <a:lnTo>
                      <a:pt x="813" y="892"/>
                    </a:lnTo>
                    <a:lnTo>
                      <a:pt x="782" y="897"/>
                    </a:lnTo>
                    <a:lnTo>
                      <a:pt x="752" y="900"/>
                    </a:lnTo>
                    <a:lnTo>
                      <a:pt x="720" y="903"/>
                    </a:lnTo>
                    <a:lnTo>
                      <a:pt x="688" y="903"/>
                    </a:lnTo>
                    <a:lnTo>
                      <a:pt x="656" y="903"/>
                    </a:lnTo>
                    <a:lnTo>
                      <a:pt x="625" y="900"/>
                    </a:lnTo>
                    <a:lnTo>
                      <a:pt x="594" y="897"/>
                    </a:lnTo>
                    <a:lnTo>
                      <a:pt x="564" y="892"/>
                    </a:lnTo>
                    <a:lnTo>
                      <a:pt x="533" y="884"/>
                    </a:lnTo>
                    <a:lnTo>
                      <a:pt x="504" y="876"/>
                    </a:lnTo>
                    <a:lnTo>
                      <a:pt x="475" y="866"/>
                    </a:lnTo>
                    <a:lnTo>
                      <a:pt x="447" y="855"/>
                    </a:lnTo>
                    <a:lnTo>
                      <a:pt x="420" y="842"/>
                    </a:lnTo>
                    <a:lnTo>
                      <a:pt x="393" y="829"/>
                    </a:lnTo>
                    <a:lnTo>
                      <a:pt x="367" y="814"/>
                    </a:lnTo>
                    <a:lnTo>
                      <a:pt x="342" y="798"/>
                    </a:lnTo>
                    <a:lnTo>
                      <a:pt x="318" y="780"/>
                    </a:lnTo>
                    <a:lnTo>
                      <a:pt x="295" y="762"/>
                    </a:lnTo>
                    <a:lnTo>
                      <a:pt x="272" y="742"/>
                    </a:lnTo>
                    <a:lnTo>
                      <a:pt x="250" y="722"/>
                    </a:lnTo>
                    <a:lnTo>
                      <a:pt x="229" y="701"/>
                    </a:lnTo>
                    <a:lnTo>
                      <a:pt x="211" y="678"/>
                    </a:lnTo>
                    <a:lnTo>
                      <a:pt x="192" y="655"/>
                    </a:lnTo>
                    <a:lnTo>
                      <a:pt x="175" y="631"/>
                    </a:lnTo>
                    <a:lnTo>
                      <a:pt x="158" y="606"/>
                    </a:lnTo>
                    <a:lnTo>
                      <a:pt x="143" y="580"/>
                    </a:lnTo>
                    <a:lnTo>
                      <a:pt x="130" y="553"/>
                    </a:lnTo>
                    <a:lnTo>
                      <a:pt x="118" y="526"/>
                    </a:lnTo>
                    <a:lnTo>
                      <a:pt x="106" y="498"/>
                    </a:lnTo>
                    <a:lnTo>
                      <a:pt x="97" y="469"/>
                    </a:lnTo>
                    <a:lnTo>
                      <a:pt x="89" y="440"/>
                    </a:lnTo>
                    <a:lnTo>
                      <a:pt x="81" y="410"/>
                    </a:lnTo>
                    <a:lnTo>
                      <a:pt x="76" y="379"/>
                    </a:lnTo>
                    <a:lnTo>
                      <a:pt x="72" y="349"/>
                    </a:lnTo>
                    <a:lnTo>
                      <a:pt x="70" y="317"/>
                    </a:lnTo>
                    <a:lnTo>
                      <a:pt x="69" y="285"/>
                    </a:lnTo>
                    <a:lnTo>
                      <a:pt x="69" y="277"/>
                    </a:lnTo>
                    <a:lnTo>
                      <a:pt x="69" y="270"/>
                    </a:lnTo>
                    <a:lnTo>
                      <a:pt x="70" y="263"/>
                    </a:lnTo>
                    <a:lnTo>
                      <a:pt x="70" y="255"/>
                    </a:lnTo>
                    <a:lnTo>
                      <a:pt x="70" y="248"/>
                    </a:lnTo>
                    <a:lnTo>
                      <a:pt x="71" y="239"/>
                    </a:lnTo>
                    <a:lnTo>
                      <a:pt x="72" y="232"/>
                    </a:lnTo>
                    <a:lnTo>
                      <a:pt x="72" y="225"/>
                    </a:lnTo>
                    <a:lnTo>
                      <a:pt x="70" y="226"/>
                    </a:lnTo>
                    <a:lnTo>
                      <a:pt x="0" y="272"/>
                    </a:lnTo>
                    <a:lnTo>
                      <a:pt x="0" y="274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8"/>
                    </a:lnTo>
                    <a:lnTo>
                      <a:pt x="0" y="280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5"/>
                    </a:lnTo>
                    <a:lnTo>
                      <a:pt x="1" y="320"/>
                    </a:lnTo>
                    <a:lnTo>
                      <a:pt x="3" y="355"/>
                    </a:lnTo>
                    <a:lnTo>
                      <a:pt x="8" y="390"/>
                    </a:lnTo>
                    <a:lnTo>
                      <a:pt x="14" y="423"/>
                    </a:lnTo>
                    <a:lnTo>
                      <a:pt x="21" y="457"/>
                    </a:lnTo>
                    <a:lnTo>
                      <a:pt x="31" y="489"/>
                    </a:lnTo>
                    <a:lnTo>
                      <a:pt x="42" y="521"/>
                    </a:lnTo>
                    <a:lnTo>
                      <a:pt x="54" y="552"/>
                    </a:lnTo>
                    <a:lnTo>
                      <a:pt x="68" y="583"/>
                    </a:lnTo>
                    <a:lnTo>
                      <a:pt x="83" y="612"/>
                    </a:lnTo>
                    <a:lnTo>
                      <a:pt x="100" y="642"/>
                    </a:lnTo>
                    <a:lnTo>
                      <a:pt x="118" y="669"/>
                    </a:lnTo>
                    <a:lnTo>
                      <a:pt x="137" y="696"/>
                    </a:lnTo>
                    <a:lnTo>
                      <a:pt x="157" y="722"/>
                    </a:lnTo>
                    <a:lnTo>
                      <a:pt x="179" y="747"/>
                    </a:lnTo>
                    <a:lnTo>
                      <a:pt x="202" y="771"/>
                    </a:lnTo>
                    <a:lnTo>
                      <a:pt x="225" y="794"/>
                    </a:lnTo>
                    <a:lnTo>
                      <a:pt x="250" y="815"/>
                    </a:lnTo>
                    <a:lnTo>
                      <a:pt x="277" y="836"/>
                    </a:lnTo>
                    <a:lnTo>
                      <a:pt x="303" y="855"/>
                    </a:lnTo>
                    <a:lnTo>
                      <a:pt x="331" y="873"/>
                    </a:lnTo>
                    <a:lnTo>
                      <a:pt x="360" y="889"/>
                    </a:lnTo>
                    <a:lnTo>
                      <a:pt x="390" y="904"/>
                    </a:lnTo>
                    <a:lnTo>
                      <a:pt x="421" y="918"/>
                    </a:lnTo>
                    <a:lnTo>
                      <a:pt x="451" y="930"/>
                    </a:lnTo>
                    <a:lnTo>
                      <a:pt x="484" y="941"/>
                    </a:lnTo>
                    <a:lnTo>
                      <a:pt x="516" y="950"/>
                    </a:lnTo>
                    <a:lnTo>
                      <a:pt x="549" y="959"/>
                    </a:lnTo>
                    <a:lnTo>
                      <a:pt x="584" y="964"/>
                    </a:lnTo>
                    <a:lnTo>
                      <a:pt x="617" y="968"/>
                    </a:lnTo>
                    <a:lnTo>
                      <a:pt x="653" y="971"/>
                    </a:lnTo>
                    <a:lnTo>
                      <a:pt x="688" y="972"/>
                    </a:lnTo>
                    <a:lnTo>
                      <a:pt x="724" y="971"/>
                    </a:lnTo>
                    <a:lnTo>
                      <a:pt x="758" y="968"/>
                    </a:lnTo>
                    <a:lnTo>
                      <a:pt x="793" y="964"/>
                    </a:lnTo>
                    <a:lnTo>
                      <a:pt x="827" y="959"/>
                    </a:lnTo>
                    <a:lnTo>
                      <a:pt x="860" y="950"/>
                    </a:lnTo>
                    <a:lnTo>
                      <a:pt x="893" y="941"/>
                    </a:lnTo>
                    <a:lnTo>
                      <a:pt x="924" y="930"/>
                    </a:lnTo>
                    <a:lnTo>
                      <a:pt x="956" y="918"/>
                    </a:lnTo>
                    <a:lnTo>
                      <a:pt x="986" y="904"/>
                    </a:lnTo>
                    <a:lnTo>
                      <a:pt x="1016" y="889"/>
                    </a:lnTo>
                    <a:lnTo>
                      <a:pt x="1045" y="873"/>
                    </a:lnTo>
                    <a:lnTo>
                      <a:pt x="1072" y="855"/>
                    </a:lnTo>
                    <a:lnTo>
                      <a:pt x="1100" y="836"/>
                    </a:lnTo>
                    <a:lnTo>
                      <a:pt x="1126" y="815"/>
                    </a:lnTo>
                    <a:lnTo>
                      <a:pt x="1150" y="794"/>
                    </a:lnTo>
                    <a:lnTo>
                      <a:pt x="1174" y="771"/>
                    </a:lnTo>
                    <a:lnTo>
                      <a:pt x="1198" y="747"/>
                    </a:lnTo>
                    <a:lnTo>
                      <a:pt x="1219" y="722"/>
                    </a:lnTo>
                    <a:lnTo>
                      <a:pt x="1240" y="696"/>
                    </a:lnTo>
                    <a:lnTo>
                      <a:pt x="1259" y="669"/>
                    </a:lnTo>
                    <a:lnTo>
                      <a:pt x="1276" y="642"/>
                    </a:lnTo>
                    <a:lnTo>
                      <a:pt x="1293" y="612"/>
                    </a:lnTo>
                    <a:lnTo>
                      <a:pt x="1308" y="583"/>
                    </a:lnTo>
                    <a:lnTo>
                      <a:pt x="1322" y="552"/>
                    </a:lnTo>
                    <a:lnTo>
                      <a:pt x="1334" y="521"/>
                    </a:lnTo>
                    <a:lnTo>
                      <a:pt x="1345" y="489"/>
                    </a:lnTo>
                    <a:lnTo>
                      <a:pt x="1354" y="457"/>
                    </a:lnTo>
                    <a:lnTo>
                      <a:pt x="1363" y="423"/>
                    </a:lnTo>
                    <a:lnTo>
                      <a:pt x="1368" y="390"/>
                    </a:lnTo>
                    <a:lnTo>
                      <a:pt x="1373" y="355"/>
                    </a:lnTo>
                    <a:lnTo>
                      <a:pt x="1375" y="320"/>
                    </a:lnTo>
                    <a:lnTo>
                      <a:pt x="1376" y="28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463920" y="2903400"/>
                <a:ext cx="415800" cy="297000"/>
              </a:xfrm>
              <a:custGeom>
                <a:avLst/>
                <a:gdLst/>
                <a:ahLst/>
                <a:rect l="l" t="t" r="r" b="b"/>
                <a:pathLst>
                  <a:path w="1307" h="936">
                    <a:moveTo>
                      <a:pt x="1307" y="283"/>
                    </a:moveTo>
                    <a:lnTo>
                      <a:pt x="1306" y="245"/>
                    </a:lnTo>
                    <a:lnTo>
                      <a:pt x="1302" y="208"/>
                    </a:lnTo>
                    <a:lnTo>
                      <a:pt x="1297" y="171"/>
                    </a:lnTo>
                    <a:lnTo>
                      <a:pt x="1290" y="136"/>
                    </a:lnTo>
                    <a:lnTo>
                      <a:pt x="1281" y="101"/>
                    </a:lnTo>
                    <a:lnTo>
                      <a:pt x="1270" y="66"/>
                    </a:lnTo>
                    <a:lnTo>
                      <a:pt x="1257" y="33"/>
                    </a:lnTo>
                    <a:lnTo>
                      <a:pt x="1242" y="0"/>
                    </a:lnTo>
                    <a:lnTo>
                      <a:pt x="1174" y="17"/>
                    </a:lnTo>
                    <a:lnTo>
                      <a:pt x="1189" y="47"/>
                    </a:lnTo>
                    <a:lnTo>
                      <a:pt x="1201" y="79"/>
                    </a:lnTo>
                    <a:lnTo>
                      <a:pt x="1212" y="110"/>
                    </a:lnTo>
                    <a:lnTo>
                      <a:pt x="1221" y="144"/>
                    </a:lnTo>
                    <a:lnTo>
                      <a:pt x="1229" y="178"/>
                    </a:lnTo>
                    <a:lnTo>
                      <a:pt x="1234" y="212"/>
                    </a:lnTo>
                    <a:lnTo>
                      <a:pt x="1237" y="247"/>
                    </a:lnTo>
                    <a:lnTo>
                      <a:pt x="1238" y="283"/>
                    </a:lnTo>
                    <a:lnTo>
                      <a:pt x="1237" y="313"/>
                    </a:lnTo>
                    <a:lnTo>
                      <a:pt x="1235" y="342"/>
                    </a:lnTo>
                    <a:lnTo>
                      <a:pt x="1231" y="372"/>
                    </a:lnTo>
                    <a:lnTo>
                      <a:pt x="1226" y="400"/>
                    </a:lnTo>
                    <a:lnTo>
                      <a:pt x="1219" y="429"/>
                    </a:lnTo>
                    <a:lnTo>
                      <a:pt x="1212" y="457"/>
                    </a:lnTo>
                    <a:lnTo>
                      <a:pt x="1203" y="484"/>
                    </a:lnTo>
                    <a:lnTo>
                      <a:pt x="1192" y="510"/>
                    </a:lnTo>
                    <a:lnTo>
                      <a:pt x="1180" y="537"/>
                    </a:lnTo>
                    <a:lnTo>
                      <a:pt x="1168" y="562"/>
                    </a:lnTo>
                    <a:lnTo>
                      <a:pt x="1153" y="586"/>
                    </a:lnTo>
                    <a:lnTo>
                      <a:pt x="1138" y="609"/>
                    </a:lnTo>
                    <a:lnTo>
                      <a:pt x="1122" y="632"/>
                    </a:lnTo>
                    <a:lnTo>
                      <a:pt x="1105" y="654"/>
                    </a:lnTo>
                    <a:lnTo>
                      <a:pt x="1086" y="675"/>
                    </a:lnTo>
                    <a:lnTo>
                      <a:pt x="1067" y="696"/>
                    </a:lnTo>
                    <a:lnTo>
                      <a:pt x="1046" y="715"/>
                    </a:lnTo>
                    <a:lnTo>
                      <a:pt x="1025" y="734"/>
                    </a:lnTo>
                    <a:lnTo>
                      <a:pt x="1003" y="751"/>
                    </a:lnTo>
                    <a:lnTo>
                      <a:pt x="980" y="768"/>
                    </a:lnTo>
                    <a:lnTo>
                      <a:pt x="957" y="782"/>
                    </a:lnTo>
                    <a:lnTo>
                      <a:pt x="932" y="797"/>
                    </a:lnTo>
                    <a:lnTo>
                      <a:pt x="907" y="810"/>
                    </a:lnTo>
                    <a:lnTo>
                      <a:pt x="881" y="821"/>
                    </a:lnTo>
                    <a:lnTo>
                      <a:pt x="855" y="832"/>
                    </a:lnTo>
                    <a:lnTo>
                      <a:pt x="827" y="841"/>
                    </a:lnTo>
                    <a:lnTo>
                      <a:pt x="799" y="849"/>
                    </a:lnTo>
                    <a:lnTo>
                      <a:pt x="772" y="855"/>
                    </a:lnTo>
                    <a:lnTo>
                      <a:pt x="742" y="860"/>
                    </a:lnTo>
                    <a:lnTo>
                      <a:pt x="713" y="864"/>
                    </a:lnTo>
                    <a:lnTo>
                      <a:pt x="683" y="866"/>
                    </a:lnTo>
                    <a:lnTo>
                      <a:pt x="653" y="867"/>
                    </a:lnTo>
                    <a:lnTo>
                      <a:pt x="623" y="866"/>
                    </a:lnTo>
                    <a:lnTo>
                      <a:pt x="594" y="864"/>
                    </a:lnTo>
                    <a:lnTo>
                      <a:pt x="564" y="860"/>
                    </a:lnTo>
                    <a:lnTo>
                      <a:pt x="535" y="855"/>
                    </a:lnTo>
                    <a:lnTo>
                      <a:pt x="507" y="849"/>
                    </a:lnTo>
                    <a:lnTo>
                      <a:pt x="479" y="841"/>
                    </a:lnTo>
                    <a:lnTo>
                      <a:pt x="452" y="832"/>
                    </a:lnTo>
                    <a:lnTo>
                      <a:pt x="426" y="821"/>
                    </a:lnTo>
                    <a:lnTo>
                      <a:pt x="399" y="810"/>
                    </a:lnTo>
                    <a:lnTo>
                      <a:pt x="374" y="797"/>
                    </a:lnTo>
                    <a:lnTo>
                      <a:pt x="350" y="782"/>
                    </a:lnTo>
                    <a:lnTo>
                      <a:pt x="326" y="768"/>
                    </a:lnTo>
                    <a:lnTo>
                      <a:pt x="303" y="751"/>
                    </a:lnTo>
                    <a:lnTo>
                      <a:pt x="281" y="734"/>
                    </a:lnTo>
                    <a:lnTo>
                      <a:pt x="260" y="715"/>
                    </a:lnTo>
                    <a:lnTo>
                      <a:pt x="240" y="696"/>
                    </a:lnTo>
                    <a:lnTo>
                      <a:pt x="221" y="675"/>
                    </a:lnTo>
                    <a:lnTo>
                      <a:pt x="202" y="654"/>
                    </a:lnTo>
                    <a:lnTo>
                      <a:pt x="185" y="632"/>
                    </a:lnTo>
                    <a:lnTo>
                      <a:pt x="168" y="609"/>
                    </a:lnTo>
                    <a:lnTo>
                      <a:pt x="153" y="586"/>
                    </a:lnTo>
                    <a:lnTo>
                      <a:pt x="139" y="562"/>
                    </a:lnTo>
                    <a:lnTo>
                      <a:pt x="126" y="537"/>
                    </a:lnTo>
                    <a:lnTo>
                      <a:pt x="115" y="510"/>
                    </a:lnTo>
                    <a:lnTo>
                      <a:pt x="104" y="484"/>
                    </a:lnTo>
                    <a:lnTo>
                      <a:pt x="95" y="457"/>
                    </a:lnTo>
                    <a:lnTo>
                      <a:pt x="87" y="429"/>
                    </a:lnTo>
                    <a:lnTo>
                      <a:pt x="80" y="400"/>
                    </a:lnTo>
                    <a:lnTo>
                      <a:pt x="75" y="372"/>
                    </a:lnTo>
                    <a:lnTo>
                      <a:pt x="71" y="342"/>
                    </a:lnTo>
                    <a:lnTo>
                      <a:pt x="69" y="313"/>
                    </a:lnTo>
                    <a:lnTo>
                      <a:pt x="68" y="283"/>
                    </a:lnTo>
                    <a:lnTo>
                      <a:pt x="68" y="274"/>
                    </a:lnTo>
                    <a:lnTo>
                      <a:pt x="68" y="266"/>
                    </a:lnTo>
                    <a:lnTo>
                      <a:pt x="69" y="257"/>
                    </a:lnTo>
                    <a:lnTo>
                      <a:pt x="69" y="249"/>
                    </a:lnTo>
                    <a:lnTo>
                      <a:pt x="70" y="240"/>
                    </a:lnTo>
                    <a:lnTo>
                      <a:pt x="70" y="231"/>
                    </a:lnTo>
                    <a:lnTo>
                      <a:pt x="71" y="223"/>
                    </a:lnTo>
                    <a:lnTo>
                      <a:pt x="73" y="214"/>
                    </a:lnTo>
                    <a:lnTo>
                      <a:pt x="35" y="224"/>
                    </a:lnTo>
                    <a:lnTo>
                      <a:pt x="1" y="247"/>
                    </a:lnTo>
                    <a:lnTo>
                      <a:pt x="0" y="251"/>
                    </a:lnTo>
                    <a:lnTo>
                      <a:pt x="0" y="255"/>
                    </a:lnTo>
                    <a:lnTo>
                      <a:pt x="0" y="261"/>
                    </a:lnTo>
                    <a:lnTo>
                      <a:pt x="0" y="265"/>
                    </a:lnTo>
                    <a:lnTo>
                      <a:pt x="0" y="269"/>
                    </a:lnTo>
                    <a:lnTo>
                      <a:pt x="0" y="274"/>
                    </a:lnTo>
                    <a:lnTo>
                      <a:pt x="0" y="278"/>
                    </a:lnTo>
                    <a:lnTo>
                      <a:pt x="0" y="283"/>
                    </a:lnTo>
                    <a:lnTo>
                      <a:pt x="0" y="316"/>
                    </a:lnTo>
                    <a:lnTo>
                      <a:pt x="3" y="350"/>
                    </a:lnTo>
                    <a:lnTo>
                      <a:pt x="7" y="382"/>
                    </a:lnTo>
                    <a:lnTo>
                      <a:pt x="13" y="415"/>
                    </a:lnTo>
                    <a:lnTo>
                      <a:pt x="20" y="446"/>
                    </a:lnTo>
                    <a:lnTo>
                      <a:pt x="29" y="477"/>
                    </a:lnTo>
                    <a:lnTo>
                      <a:pt x="39" y="507"/>
                    </a:lnTo>
                    <a:lnTo>
                      <a:pt x="50" y="537"/>
                    </a:lnTo>
                    <a:lnTo>
                      <a:pt x="64" y="566"/>
                    </a:lnTo>
                    <a:lnTo>
                      <a:pt x="79" y="594"/>
                    </a:lnTo>
                    <a:lnTo>
                      <a:pt x="95" y="622"/>
                    </a:lnTo>
                    <a:lnTo>
                      <a:pt x="111" y="648"/>
                    </a:lnTo>
                    <a:lnTo>
                      <a:pt x="129" y="673"/>
                    </a:lnTo>
                    <a:lnTo>
                      <a:pt x="149" y="698"/>
                    </a:lnTo>
                    <a:lnTo>
                      <a:pt x="169" y="722"/>
                    </a:lnTo>
                    <a:lnTo>
                      <a:pt x="191" y="745"/>
                    </a:lnTo>
                    <a:lnTo>
                      <a:pt x="213" y="767"/>
                    </a:lnTo>
                    <a:lnTo>
                      <a:pt x="238" y="787"/>
                    </a:lnTo>
                    <a:lnTo>
                      <a:pt x="262" y="807"/>
                    </a:lnTo>
                    <a:lnTo>
                      <a:pt x="288" y="824"/>
                    </a:lnTo>
                    <a:lnTo>
                      <a:pt x="314" y="841"/>
                    </a:lnTo>
                    <a:lnTo>
                      <a:pt x="342" y="857"/>
                    </a:lnTo>
                    <a:lnTo>
                      <a:pt x="370" y="872"/>
                    </a:lnTo>
                    <a:lnTo>
                      <a:pt x="398" y="884"/>
                    </a:lnTo>
                    <a:lnTo>
                      <a:pt x="429" y="896"/>
                    </a:lnTo>
                    <a:lnTo>
                      <a:pt x="458" y="906"/>
                    </a:lnTo>
                    <a:lnTo>
                      <a:pt x="490" y="916"/>
                    </a:lnTo>
                    <a:lnTo>
                      <a:pt x="521" y="923"/>
                    </a:lnTo>
                    <a:lnTo>
                      <a:pt x="554" y="928"/>
                    </a:lnTo>
                    <a:lnTo>
                      <a:pt x="587" y="933"/>
                    </a:lnTo>
                    <a:lnTo>
                      <a:pt x="619" y="935"/>
                    </a:lnTo>
                    <a:lnTo>
                      <a:pt x="653" y="936"/>
                    </a:lnTo>
                    <a:lnTo>
                      <a:pt x="686" y="935"/>
                    </a:lnTo>
                    <a:lnTo>
                      <a:pt x="720" y="933"/>
                    </a:lnTo>
                    <a:lnTo>
                      <a:pt x="753" y="928"/>
                    </a:lnTo>
                    <a:lnTo>
                      <a:pt x="785" y="923"/>
                    </a:lnTo>
                    <a:lnTo>
                      <a:pt x="817" y="916"/>
                    </a:lnTo>
                    <a:lnTo>
                      <a:pt x="847" y="906"/>
                    </a:lnTo>
                    <a:lnTo>
                      <a:pt x="878" y="896"/>
                    </a:lnTo>
                    <a:lnTo>
                      <a:pt x="907" y="884"/>
                    </a:lnTo>
                    <a:lnTo>
                      <a:pt x="937" y="872"/>
                    </a:lnTo>
                    <a:lnTo>
                      <a:pt x="965" y="857"/>
                    </a:lnTo>
                    <a:lnTo>
                      <a:pt x="992" y="841"/>
                    </a:lnTo>
                    <a:lnTo>
                      <a:pt x="1019" y="824"/>
                    </a:lnTo>
                    <a:lnTo>
                      <a:pt x="1044" y="807"/>
                    </a:lnTo>
                    <a:lnTo>
                      <a:pt x="1069" y="787"/>
                    </a:lnTo>
                    <a:lnTo>
                      <a:pt x="1092" y="767"/>
                    </a:lnTo>
                    <a:lnTo>
                      <a:pt x="1115" y="745"/>
                    </a:lnTo>
                    <a:lnTo>
                      <a:pt x="1137" y="722"/>
                    </a:lnTo>
                    <a:lnTo>
                      <a:pt x="1157" y="698"/>
                    </a:lnTo>
                    <a:lnTo>
                      <a:pt x="1177" y="673"/>
                    </a:lnTo>
                    <a:lnTo>
                      <a:pt x="1195" y="648"/>
                    </a:lnTo>
                    <a:lnTo>
                      <a:pt x="1212" y="622"/>
                    </a:lnTo>
                    <a:lnTo>
                      <a:pt x="1228" y="594"/>
                    </a:lnTo>
                    <a:lnTo>
                      <a:pt x="1242" y="566"/>
                    </a:lnTo>
                    <a:lnTo>
                      <a:pt x="1255" y="537"/>
                    </a:lnTo>
                    <a:lnTo>
                      <a:pt x="1267" y="507"/>
                    </a:lnTo>
                    <a:lnTo>
                      <a:pt x="1277" y="477"/>
                    </a:lnTo>
                    <a:lnTo>
                      <a:pt x="1287" y="446"/>
                    </a:lnTo>
                    <a:lnTo>
                      <a:pt x="1294" y="415"/>
                    </a:lnTo>
                    <a:lnTo>
                      <a:pt x="1299" y="382"/>
                    </a:lnTo>
                    <a:lnTo>
                      <a:pt x="1303" y="350"/>
                    </a:lnTo>
                    <a:lnTo>
                      <a:pt x="1306" y="316"/>
                    </a:lnTo>
                    <a:lnTo>
                      <a:pt x="1307" y="28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475080" y="2906640"/>
                <a:ext cx="393480" cy="282600"/>
              </a:xfrm>
              <a:custGeom>
                <a:avLst/>
                <a:gdLst/>
                <a:ahLst/>
                <a:rect l="l" t="t" r="r" b="b"/>
                <a:pathLst>
                  <a:path w="1239" h="892">
                    <a:moveTo>
                      <a:pt x="1239" y="274"/>
                    </a:moveTo>
                    <a:lnTo>
                      <a:pt x="1237" y="237"/>
                    </a:lnTo>
                    <a:lnTo>
                      <a:pt x="1234" y="201"/>
                    </a:lnTo>
                    <a:lnTo>
                      <a:pt x="1228" y="165"/>
                    </a:lnTo>
                    <a:lnTo>
                      <a:pt x="1222" y="131"/>
                    </a:lnTo>
                    <a:lnTo>
                      <a:pt x="1213" y="97"/>
                    </a:lnTo>
                    <a:lnTo>
                      <a:pt x="1202" y="64"/>
                    </a:lnTo>
                    <a:lnTo>
                      <a:pt x="1188" y="31"/>
                    </a:lnTo>
                    <a:lnTo>
                      <a:pt x="1175" y="0"/>
                    </a:lnTo>
                    <a:lnTo>
                      <a:pt x="1105" y="16"/>
                    </a:lnTo>
                    <a:lnTo>
                      <a:pt x="1120" y="46"/>
                    </a:lnTo>
                    <a:lnTo>
                      <a:pt x="1133" y="76"/>
                    </a:lnTo>
                    <a:lnTo>
                      <a:pt x="1143" y="107"/>
                    </a:lnTo>
                    <a:lnTo>
                      <a:pt x="1153" y="139"/>
                    </a:lnTo>
                    <a:lnTo>
                      <a:pt x="1160" y="172"/>
                    </a:lnTo>
                    <a:lnTo>
                      <a:pt x="1165" y="205"/>
                    </a:lnTo>
                    <a:lnTo>
                      <a:pt x="1167" y="222"/>
                    </a:lnTo>
                    <a:lnTo>
                      <a:pt x="1169" y="239"/>
                    </a:lnTo>
                    <a:lnTo>
                      <a:pt x="1170" y="257"/>
                    </a:lnTo>
                    <a:lnTo>
                      <a:pt x="1170" y="274"/>
                    </a:lnTo>
                    <a:lnTo>
                      <a:pt x="1169" y="302"/>
                    </a:lnTo>
                    <a:lnTo>
                      <a:pt x="1166" y="330"/>
                    </a:lnTo>
                    <a:lnTo>
                      <a:pt x="1163" y="358"/>
                    </a:lnTo>
                    <a:lnTo>
                      <a:pt x="1158" y="385"/>
                    </a:lnTo>
                    <a:lnTo>
                      <a:pt x="1153" y="411"/>
                    </a:lnTo>
                    <a:lnTo>
                      <a:pt x="1144" y="437"/>
                    </a:lnTo>
                    <a:lnTo>
                      <a:pt x="1136" y="463"/>
                    </a:lnTo>
                    <a:lnTo>
                      <a:pt x="1126" y="488"/>
                    </a:lnTo>
                    <a:lnTo>
                      <a:pt x="1115" y="512"/>
                    </a:lnTo>
                    <a:lnTo>
                      <a:pt x="1103" y="536"/>
                    </a:lnTo>
                    <a:lnTo>
                      <a:pt x="1090" y="559"/>
                    </a:lnTo>
                    <a:lnTo>
                      <a:pt x="1076" y="581"/>
                    </a:lnTo>
                    <a:lnTo>
                      <a:pt x="1060" y="603"/>
                    </a:lnTo>
                    <a:lnTo>
                      <a:pt x="1043" y="623"/>
                    </a:lnTo>
                    <a:lnTo>
                      <a:pt x="1027" y="643"/>
                    </a:lnTo>
                    <a:lnTo>
                      <a:pt x="1009" y="663"/>
                    </a:lnTo>
                    <a:lnTo>
                      <a:pt x="989" y="681"/>
                    </a:lnTo>
                    <a:lnTo>
                      <a:pt x="969" y="698"/>
                    </a:lnTo>
                    <a:lnTo>
                      <a:pt x="949" y="715"/>
                    </a:lnTo>
                    <a:lnTo>
                      <a:pt x="927" y="730"/>
                    </a:lnTo>
                    <a:lnTo>
                      <a:pt x="905" y="744"/>
                    </a:lnTo>
                    <a:lnTo>
                      <a:pt x="882" y="758"/>
                    </a:lnTo>
                    <a:lnTo>
                      <a:pt x="857" y="769"/>
                    </a:lnTo>
                    <a:lnTo>
                      <a:pt x="833" y="781"/>
                    </a:lnTo>
                    <a:lnTo>
                      <a:pt x="808" y="790"/>
                    </a:lnTo>
                    <a:lnTo>
                      <a:pt x="783" y="799"/>
                    </a:lnTo>
                    <a:lnTo>
                      <a:pt x="756" y="807"/>
                    </a:lnTo>
                    <a:lnTo>
                      <a:pt x="730" y="812"/>
                    </a:lnTo>
                    <a:lnTo>
                      <a:pt x="703" y="818"/>
                    </a:lnTo>
                    <a:lnTo>
                      <a:pt x="676" y="821"/>
                    </a:lnTo>
                    <a:lnTo>
                      <a:pt x="647" y="823"/>
                    </a:lnTo>
                    <a:lnTo>
                      <a:pt x="619" y="824"/>
                    </a:lnTo>
                    <a:lnTo>
                      <a:pt x="590" y="823"/>
                    </a:lnTo>
                    <a:lnTo>
                      <a:pt x="563" y="821"/>
                    </a:lnTo>
                    <a:lnTo>
                      <a:pt x="536" y="818"/>
                    </a:lnTo>
                    <a:lnTo>
                      <a:pt x="508" y="812"/>
                    </a:lnTo>
                    <a:lnTo>
                      <a:pt x="481" y="807"/>
                    </a:lnTo>
                    <a:lnTo>
                      <a:pt x="456" y="799"/>
                    </a:lnTo>
                    <a:lnTo>
                      <a:pt x="430" y="790"/>
                    </a:lnTo>
                    <a:lnTo>
                      <a:pt x="405" y="781"/>
                    </a:lnTo>
                    <a:lnTo>
                      <a:pt x="380" y="769"/>
                    </a:lnTo>
                    <a:lnTo>
                      <a:pt x="357" y="758"/>
                    </a:lnTo>
                    <a:lnTo>
                      <a:pt x="334" y="744"/>
                    </a:lnTo>
                    <a:lnTo>
                      <a:pt x="312" y="730"/>
                    </a:lnTo>
                    <a:lnTo>
                      <a:pt x="290" y="715"/>
                    </a:lnTo>
                    <a:lnTo>
                      <a:pt x="269" y="698"/>
                    </a:lnTo>
                    <a:lnTo>
                      <a:pt x="249" y="681"/>
                    </a:lnTo>
                    <a:lnTo>
                      <a:pt x="230" y="663"/>
                    </a:lnTo>
                    <a:lnTo>
                      <a:pt x="212" y="643"/>
                    </a:lnTo>
                    <a:lnTo>
                      <a:pt x="194" y="623"/>
                    </a:lnTo>
                    <a:lnTo>
                      <a:pt x="178" y="603"/>
                    </a:lnTo>
                    <a:lnTo>
                      <a:pt x="163" y="581"/>
                    </a:lnTo>
                    <a:lnTo>
                      <a:pt x="149" y="559"/>
                    </a:lnTo>
                    <a:lnTo>
                      <a:pt x="135" y="536"/>
                    </a:lnTo>
                    <a:lnTo>
                      <a:pt x="123" y="512"/>
                    </a:lnTo>
                    <a:lnTo>
                      <a:pt x="112" y="488"/>
                    </a:lnTo>
                    <a:lnTo>
                      <a:pt x="103" y="463"/>
                    </a:lnTo>
                    <a:lnTo>
                      <a:pt x="93" y="437"/>
                    </a:lnTo>
                    <a:lnTo>
                      <a:pt x="86" y="411"/>
                    </a:lnTo>
                    <a:lnTo>
                      <a:pt x="80" y="385"/>
                    </a:lnTo>
                    <a:lnTo>
                      <a:pt x="75" y="358"/>
                    </a:lnTo>
                    <a:lnTo>
                      <a:pt x="71" y="330"/>
                    </a:lnTo>
                    <a:lnTo>
                      <a:pt x="69" y="302"/>
                    </a:lnTo>
                    <a:lnTo>
                      <a:pt x="69" y="274"/>
                    </a:lnTo>
                    <a:lnTo>
                      <a:pt x="69" y="264"/>
                    </a:lnTo>
                    <a:lnTo>
                      <a:pt x="69" y="255"/>
                    </a:lnTo>
                    <a:lnTo>
                      <a:pt x="70" y="245"/>
                    </a:lnTo>
                    <a:lnTo>
                      <a:pt x="70" y="235"/>
                    </a:lnTo>
                    <a:lnTo>
                      <a:pt x="71" y="225"/>
                    </a:lnTo>
                    <a:lnTo>
                      <a:pt x="72" y="216"/>
                    </a:lnTo>
                    <a:lnTo>
                      <a:pt x="73" y="206"/>
                    </a:lnTo>
                    <a:lnTo>
                      <a:pt x="74" y="197"/>
                    </a:lnTo>
                    <a:lnTo>
                      <a:pt x="3" y="214"/>
                    </a:lnTo>
                    <a:lnTo>
                      <a:pt x="3" y="221"/>
                    </a:lnTo>
                    <a:lnTo>
                      <a:pt x="2" y="228"/>
                    </a:lnTo>
                    <a:lnTo>
                      <a:pt x="1" y="237"/>
                    </a:lnTo>
                    <a:lnTo>
                      <a:pt x="1" y="244"/>
                    </a:lnTo>
                    <a:lnTo>
                      <a:pt x="1" y="252"/>
                    </a:lnTo>
                    <a:lnTo>
                      <a:pt x="1" y="259"/>
                    </a:lnTo>
                    <a:lnTo>
                      <a:pt x="0" y="266"/>
                    </a:lnTo>
                    <a:lnTo>
                      <a:pt x="0" y="274"/>
                    </a:lnTo>
                    <a:lnTo>
                      <a:pt x="1" y="306"/>
                    </a:lnTo>
                    <a:lnTo>
                      <a:pt x="3" y="338"/>
                    </a:lnTo>
                    <a:lnTo>
                      <a:pt x="7" y="368"/>
                    </a:lnTo>
                    <a:lnTo>
                      <a:pt x="12" y="399"/>
                    </a:lnTo>
                    <a:lnTo>
                      <a:pt x="20" y="429"/>
                    </a:lnTo>
                    <a:lnTo>
                      <a:pt x="28" y="458"/>
                    </a:lnTo>
                    <a:lnTo>
                      <a:pt x="37" y="487"/>
                    </a:lnTo>
                    <a:lnTo>
                      <a:pt x="49" y="515"/>
                    </a:lnTo>
                    <a:lnTo>
                      <a:pt x="61" y="542"/>
                    </a:lnTo>
                    <a:lnTo>
                      <a:pt x="74" y="569"/>
                    </a:lnTo>
                    <a:lnTo>
                      <a:pt x="90" y="595"/>
                    </a:lnTo>
                    <a:lnTo>
                      <a:pt x="106" y="620"/>
                    </a:lnTo>
                    <a:lnTo>
                      <a:pt x="123" y="644"/>
                    </a:lnTo>
                    <a:lnTo>
                      <a:pt x="142" y="667"/>
                    </a:lnTo>
                    <a:lnTo>
                      <a:pt x="160" y="689"/>
                    </a:lnTo>
                    <a:lnTo>
                      <a:pt x="181" y="711"/>
                    </a:lnTo>
                    <a:lnTo>
                      <a:pt x="203" y="731"/>
                    </a:lnTo>
                    <a:lnTo>
                      <a:pt x="226" y="751"/>
                    </a:lnTo>
                    <a:lnTo>
                      <a:pt x="249" y="769"/>
                    </a:lnTo>
                    <a:lnTo>
                      <a:pt x="273" y="787"/>
                    </a:lnTo>
                    <a:lnTo>
                      <a:pt x="298" y="803"/>
                    </a:lnTo>
                    <a:lnTo>
                      <a:pt x="324" y="818"/>
                    </a:lnTo>
                    <a:lnTo>
                      <a:pt x="351" y="831"/>
                    </a:lnTo>
                    <a:lnTo>
                      <a:pt x="378" y="844"/>
                    </a:lnTo>
                    <a:lnTo>
                      <a:pt x="406" y="855"/>
                    </a:lnTo>
                    <a:lnTo>
                      <a:pt x="435" y="865"/>
                    </a:lnTo>
                    <a:lnTo>
                      <a:pt x="464" y="873"/>
                    </a:lnTo>
                    <a:lnTo>
                      <a:pt x="495" y="879"/>
                    </a:lnTo>
                    <a:lnTo>
                      <a:pt x="525" y="886"/>
                    </a:lnTo>
                    <a:lnTo>
                      <a:pt x="556" y="889"/>
                    </a:lnTo>
                    <a:lnTo>
                      <a:pt x="587" y="892"/>
                    </a:lnTo>
                    <a:lnTo>
                      <a:pt x="619" y="892"/>
                    </a:lnTo>
                    <a:lnTo>
                      <a:pt x="651" y="892"/>
                    </a:lnTo>
                    <a:lnTo>
                      <a:pt x="683" y="889"/>
                    </a:lnTo>
                    <a:lnTo>
                      <a:pt x="713" y="886"/>
                    </a:lnTo>
                    <a:lnTo>
                      <a:pt x="744" y="879"/>
                    </a:lnTo>
                    <a:lnTo>
                      <a:pt x="774" y="873"/>
                    </a:lnTo>
                    <a:lnTo>
                      <a:pt x="804" y="865"/>
                    </a:lnTo>
                    <a:lnTo>
                      <a:pt x="832" y="855"/>
                    </a:lnTo>
                    <a:lnTo>
                      <a:pt x="861" y="844"/>
                    </a:lnTo>
                    <a:lnTo>
                      <a:pt x="888" y="831"/>
                    </a:lnTo>
                    <a:lnTo>
                      <a:pt x="914" y="818"/>
                    </a:lnTo>
                    <a:lnTo>
                      <a:pt x="940" y="803"/>
                    </a:lnTo>
                    <a:lnTo>
                      <a:pt x="966" y="787"/>
                    </a:lnTo>
                    <a:lnTo>
                      <a:pt x="990" y="769"/>
                    </a:lnTo>
                    <a:lnTo>
                      <a:pt x="1013" y="751"/>
                    </a:lnTo>
                    <a:lnTo>
                      <a:pt x="1035" y="731"/>
                    </a:lnTo>
                    <a:lnTo>
                      <a:pt x="1057" y="711"/>
                    </a:lnTo>
                    <a:lnTo>
                      <a:pt x="1077" y="689"/>
                    </a:lnTo>
                    <a:lnTo>
                      <a:pt x="1097" y="667"/>
                    </a:lnTo>
                    <a:lnTo>
                      <a:pt x="1115" y="644"/>
                    </a:lnTo>
                    <a:lnTo>
                      <a:pt x="1133" y="620"/>
                    </a:lnTo>
                    <a:lnTo>
                      <a:pt x="1149" y="595"/>
                    </a:lnTo>
                    <a:lnTo>
                      <a:pt x="1163" y="569"/>
                    </a:lnTo>
                    <a:lnTo>
                      <a:pt x="1177" y="542"/>
                    </a:lnTo>
                    <a:lnTo>
                      <a:pt x="1190" y="515"/>
                    </a:lnTo>
                    <a:lnTo>
                      <a:pt x="1201" y="487"/>
                    </a:lnTo>
                    <a:lnTo>
                      <a:pt x="1211" y="458"/>
                    </a:lnTo>
                    <a:lnTo>
                      <a:pt x="1219" y="429"/>
                    </a:lnTo>
                    <a:lnTo>
                      <a:pt x="1226" y="399"/>
                    </a:lnTo>
                    <a:lnTo>
                      <a:pt x="1232" y="368"/>
                    </a:lnTo>
                    <a:lnTo>
                      <a:pt x="1235" y="338"/>
                    </a:lnTo>
                    <a:lnTo>
                      <a:pt x="1238" y="306"/>
                    </a:lnTo>
                    <a:lnTo>
                      <a:pt x="1239" y="27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486240" y="2908440"/>
                <a:ext cx="371520" cy="269640"/>
              </a:xfrm>
              <a:custGeom>
                <a:avLst/>
                <a:gdLst/>
                <a:ahLst/>
                <a:rect l="l" t="t" r="r" b="b"/>
                <a:pathLst>
                  <a:path w="1170" h="850">
                    <a:moveTo>
                      <a:pt x="1170" y="266"/>
                    </a:moveTo>
                    <a:lnTo>
                      <a:pt x="1169" y="230"/>
                    </a:lnTo>
                    <a:lnTo>
                      <a:pt x="1166" y="195"/>
                    </a:lnTo>
                    <a:lnTo>
                      <a:pt x="1161" y="161"/>
                    </a:lnTo>
                    <a:lnTo>
                      <a:pt x="1153" y="127"/>
                    </a:lnTo>
                    <a:lnTo>
                      <a:pt x="1144" y="93"/>
                    </a:lnTo>
                    <a:lnTo>
                      <a:pt x="1133" y="62"/>
                    </a:lnTo>
                    <a:lnTo>
                      <a:pt x="1121" y="30"/>
                    </a:lnTo>
                    <a:lnTo>
                      <a:pt x="1106" y="0"/>
                    </a:lnTo>
                    <a:lnTo>
                      <a:pt x="1069" y="8"/>
                    </a:lnTo>
                    <a:lnTo>
                      <a:pt x="1033" y="8"/>
                    </a:lnTo>
                    <a:lnTo>
                      <a:pt x="1048" y="38"/>
                    </a:lnTo>
                    <a:lnTo>
                      <a:pt x="1062" y="67"/>
                    </a:lnTo>
                    <a:lnTo>
                      <a:pt x="1068" y="83"/>
                    </a:lnTo>
                    <a:lnTo>
                      <a:pt x="1074" y="99"/>
                    </a:lnTo>
                    <a:lnTo>
                      <a:pt x="1079" y="114"/>
                    </a:lnTo>
                    <a:lnTo>
                      <a:pt x="1083" y="130"/>
                    </a:lnTo>
                    <a:lnTo>
                      <a:pt x="1087" y="147"/>
                    </a:lnTo>
                    <a:lnTo>
                      <a:pt x="1091" y="164"/>
                    </a:lnTo>
                    <a:lnTo>
                      <a:pt x="1094" y="180"/>
                    </a:lnTo>
                    <a:lnTo>
                      <a:pt x="1097" y="196"/>
                    </a:lnTo>
                    <a:lnTo>
                      <a:pt x="1099" y="214"/>
                    </a:lnTo>
                    <a:lnTo>
                      <a:pt x="1100" y="231"/>
                    </a:lnTo>
                    <a:lnTo>
                      <a:pt x="1101" y="249"/>
                    </a:lnTo>
                    <a:lnTo>
                      <a:pt x="1101" y="266"/>
                    </a:lnTo>
                    <a:lnTo>
                      <a:pt x="1101" y="293"/>
                    </a:lnTo>
                    <a:lnTo>
                      <a:pt x="1099" y="319"/>
                    </a:lnTo>
                    <a:lnTo>
                      <a:pt x="1096" y="344"/>
                    </a:lnTo>
                    <a:lnTo>
                      <a:pt x="1090" y="370"/>
                    </a:lnTo>
                    <a:lnTo>
                      <a:pt x="1085" y="395"/>
                    </a:lnTo>
                    <a:lnTo>
                      <a:pt x="1078" y="419"/>
                    </a:lnTo>
                    <a:lnTo>
                      <a:pt x="1069" y="443"/>
                    </a:lnTo>
                    <a:lnTo>
                      <a:pt x="1061" y="466"/>
                    </a:lnTo>
                    <a:lnTo>
                      <a:pt x="1050" y="489"/>
                    </a:lnTo>
                    <a:lnTo>
                      <a:pt x="1039" y="511"/>
                    </a:lnTo>
                    <a:lnTo>
                      <a:pt x="1026" y="533"/>
                    </a:lnTo>
                    <a:lnTo>
                      <a:pt x="1013" y="554"/>
                    </a:lnTo>
                    <a:lnTo>
                      <a:pt x="999" y="574"/>
                    </a:lnTo>
                    <a:lnTo>
                      <a:pt x="983" y="594"/>
                    </a:lnTo>
                    <a:lnTo>
                      <a:pt x="967" y="612"/>
                    </a:lnTo>
                    <a:lnTo>
                      <a:pt x="951" y="630"/>
                    </a:lnTo>
                    <a:lnTo>
                      <a:pt x="932" y="648"/>
                    </a:lnTo>
                    <a:lnTo>
                      <a:pt x="914" y="664"/>
                    </a:lnTo>
                    <a:lnTo>
                      <a:pt x="894" y="679"/>
                    </a:lnTo>
                    <a:lnTo>
                      <a:pt x="874" y="693"/>
                    </a:lnTo>
                    <a:lnTo>
                      <a:pt x="853" y="707"/>
                    </a:lnTo>
                    <a:lnTo>
                      <a:pt x="831" y="719"/>
                    </a:lnTo>
                    <a:lnTo>
                      <a:pt x="809" y="731"/>
                    </a:lnTo>
                    <a:lnTo>
                      <a:pt x="786" y="741"/>
                    </a:lnTo>
                    <a:lnTo>
                      <a:pt x="762" y="750"/>
                    </a:lnTo>
                    <a:lnTo>
                      <a:pt x="738" y="758"/>
                    </a:lnTo>
                    <a:lnTo>
                      <a:pt x="714" y="765"/>
                    </a:lnTo>
                    <a:lnTo>
                      <a:pt x="689" y="771"/>
                    </a:lnTo>
                    <a:lnTo>
                      <a:pt x="664" y="776"/>
                    </a:lnTo>
                    <a:lnTo>
                      <a:pt x="638" y="779"/>
                    </a:lnTo>
                    <a:lnTo>
                      <a:pt x="612" y="781"/>
                    </a:lnTo>
                    <a:lnTo>
                      <a:pt x="585" y="781"/>
                    </a:lnTo>
                    <a:lnTo>
                      <a:pt x="558" y="781"/>
                    </a:lnTo>
                    <a:lnTo>
                      <a:pt x="532" y="779"/>
                    </a:lnTo>
                    <a:lnTo>
                      <a:pt x="507" y="776"/>
                    </a:lnTo>
                    <a:lnTo>
                      <a:pt x="481" y="771"/>
                    </a:lnTo>
                    <a:lnTo>
                      <a:pt x="457" y="765"/>
                    </a:lnTo>
                    <a:lnTo>
                      <a:pt x="431" y="758"/>
                    </a:lnTo>
                    <a:lnTo>
                      <a:pt x="408" y="750"/>
                    </a:lnTo>
                    <a:lnTo>
                      <a:pt x="384" y="741"/>
                    </a:lnTo>
                    <a:lnTo>
                      <a:pt x="362" y="731"/>
                    </a:lnTo>
                    <a:lnTo>
                      <a:pt x="339" y="719"/>
                    </a:lnTo>
                    <a:lnTo>
                      <a:pt x="318" y="707"/>
                    </a:lnTo>
                    <a:lnTo>
                      <a:pt x="297" y="693"/>
                    </a:lnTo>
                    <a:lnTo>
                      <a:pt x="277" y="679"/>
                    </a:lnTo>
                    <a:lnTo>
                      <a:pt x="257" y="664"/>
                    </a:lnTo>
                    <a:lnTo>
                      <a:pt x="238" y="648"/>
                    </a:lnTo>
                    <a:lnTo>
                      <a:pt x="220" y="630"/>
                    </a:lnTo>
                    <a:lnTo>
                      <a:pt x="203" y="612"/>
                    </a:lnTo>
                    <a:lnTo>
                      <a:pt x="187" y="594"/>
                    </a:lnTo>
                    <a:lnTo>
                      <a:pt x="172" y="574"/>
                    </a:lnTo>
                    <a:lnTo>
                      <a:pt x="157" y="554"/>
                    </a:lnTo>
                    <a:lnTo>
                      <a:pt x="143" y="533"/>
                    </a:lnTo>
                    <a:lnTo>
                      <a:pt x="132" y="511"/>
                    </a:lnTo>
                    <a:lnTo>
                      <a:pt x="120" y="489"/>
                    </a:lnTo>
                    <a:lnTo>
                      <a:pt x="110" y="466"/>
                    </a:lnTo>
                    <a:lnTo>
                      <a:pt x="100" y="443"/>
                    </a:lnTo>
                    <a:lnTo>
                      <a:pt x="93" y="419"/>
                    </a:lnTo>
                    <a:lnTo>
                      <a:pt x="85" y="395"/>
                    </a:lnTo>
                    <a:lnTo>
                      <a:pt x="79" y="370"/>
                    </a:lnTo>
                    <a:lnTo>
                      <a:pt x="75" y="344"/>
                    </a:lnTo>
                    <a:lnTo>
                      <a:pt x="72" y="319"/>
                    </a:lnTo>
                    <a:lnTo>
                      <a:pt x="70" y="293"/>
                    </a:lnTo>
                    <a:lnTo>
                      <a:pt x="70" y="266"/>
                    </a:lnTo>
                    <a:lnTo>
                      <a:pt x="70" y="255"/>
                    </a:lnTo>
                    <a:lnTo>
                      <a:pt x="70" y="245"/>
                    </a:lnTo>
                    <a:lnTo>
                      <a:pt x="70" y="233"/>
                    </a:lnTo>
                    <a:lnTo>
                      <a:pt x="71" y="223"/>
                    </a:lnTo>
                    <a:lnTo>
                      <a:pt x="72" y="212"/>
                    </a:lnTo>
                    <a:lnTo>
                      <a:pt x="73" y="202"/>
                    </a:lnTo>
                    <a:lnTo>
                      <a:pt x="75" y="191"/>
                    </a:lnTo>
                    <a:lnTo>
                      <a:pt x="76" y="181"/>
                    </a:lnTo>
                    <a:lnTo>
                      <a:pt x="5" y="197"/>
                    </a:lnTo>
                    <a:lnTo>
                      <a:pt x="3" y="206"/>
                    </a:lnTo>
                    <a:lnTo>
                      <a:pt x="2" y="214"/>
                    </a:lnTo>
                    <a:lnTo>
                      <a:pt x="2" y="223"/>
                    </a:lnTo>
                    <a:lnTo>
                      <a:pt x="1" y="232"/>
                    </a:lnTo>
                    <a:lnTo>
                      <a:pt x="1" y="240"/>
                    </a:lnTo>
                    <a:lnTo>
                      <a:pt x="0" y="249"/>
                    </a:lnTo>
                    <a:lnTo>
                      <a:pt x="0" y="257"/>
                    </a:lnTo>
                    <a:lnTo>
                      <a:pt x="0" y="266"/>
                    </a:lnTo>
                    <a:lnTo>
                      <a:pt x="1" y="296"/>
                    </a:lnTo>
                    <a:lnTo>
                      <a:pt x="3" y="325"/>
                    </a:lnTo>
                    <a:lnTo>
                      <a:pt x="7" y="355"/>
                    </a:lnTo>
                    <a:lnTo>
                      <a:pt x="12" y="383"/>
                    </a:lnTo>
                    <a:lnTo>
                      <a:pt x="19" y="412"/>
                    </a:lnTo>
                    <a:lnTo>
                      <a:pt x="27" y="440"/>
                    </a:lnTo>
                    <a:lnTo>
                      <a:pt x="36" y="467"/>
                    </a:lnTo>
                    <a:lnTo>
                      <a:pt x="47" y="493"/>
                    </a:lnTo>
                    <a:lnTo>
                      <a:pt x="58" y="520"/>
                    </a:lnTo>
                    <a:lnTo>
                      <a:pt x="71" y="545"/>
                    </a:lnTo>
                    <a:lnTo>
                      <a:pt x="85" y="569"/>
                    </a:lnTo>
                    <a:lnTo>
                      <a:pt x="100" y="592"/>
                    </a:lnTo>
                    <a:lnTo>
                      <a:pt x="117" y="615"/>
                    </a:lnTo>
                    <a:lnTo>
                      <a:pt x="134" y="637"/>
                    </a:lnTo>
                    <a:lnTo>
                      <a:pt x="153" y="658"/>
                    </a:lnTo>
                    <a:lnTo>
                      <a:pt x="172" y="679"/>
                    </a:lnTo>
                    <a:lnTo>
                      <a:pt x="192" y="698"/>
                    </a:lnTo>
                    <a:lnTo>
                      <a:pt x="213" y="717"/>
                    </a:lnTo>
                    <a:lnTo>
                      <a:pt x="235" y="734"/>
                    </a:lnTo>
                    <a:lnTo>
                      <a:pt x="258" y="751"/>
                    </a:lnTo>
                    <a:lnTo>
                      <a:pt x="282" y="765"/>
                    </a:lnTo>
                    <a:lnTo>
                      <a:pt x="306" y="780"/>
                    </a:lnTo>
                    <a:lnTo>
                      <a:pt x="331" y="793"/>
                    </a:lnTo>
                    <a:lnTo>
                      <a:pt x="358" y="804"/>
                    </a:lnTo>
                    <a:lnTo>
                      <a:pt x="384" y="815"/>
                    </a:lnTo>
                    <a:lnTo>
                      <a:pt x="411" y="824"/>
                    </a:lnTo>
                    <a:lnTo>
                      <a:pt x="439" y="832"/>
                    </a:lnTo>
                    <a:lnTo>
                      <a:pt x="467" y="838"/>
                    </a:lnTo>
                    <a:lnTo>
                      <a:pt x="496" y="843"/>
                    </a:lnTo>
                    <a:lnTo>
                      <a:pt x="526" y="847"/>
                    </a:lnTo>
                    <a:lnTo>
                      <a:pt x="555" y="849"/>
                    </a:lnTo>
                    <a:lnTo>
                      <a:pt x="585" y="850"/>
                    </a:lnTo>
                    <a:lnTo>
                      <a:pt x="615" y="849"/>
                    </a:lnTo>
                    <a:lnTo>
                      <a:pt x="645" y="847"/>
                    </a:lnTo>
                    <a:lnTo>
                      <a:pt x="674" y="843"/>
                    </a:lnTo>
                    <a:lnTo>
                      <a:pt x="704" y="838"/>
                    </a:lnTo>
                    <a:lnTo>
                      <a:pt x="731" y="832"/>
                    </a:lnTo>
                    <a:lnTo>
                      <a:pt x="759" y="824"/>
                    </a:lnTo>
                    <a:lnTo>
                      <a:pt x="787" y="815"/>
                    </a:lnTo>
                    <a:lnTo>
                      <a:pt x="813" y="804"/>
                    </a:lnTo>
                    <a:lnTo>
                      <a:pt x="839" y="793"/>
                    </a:lnTo>
                    <a:lnTo>
                      <a:pt x="864" y="780"/>
                    </a:lnTo>
                    <a:lnTo>
                      <a:pt x="889" y="765"/>
                    </a:lnTo>
                    <a:lnTo>
                      <a:pt x="912" y="751"/>
                    </a:lnTo>
                    <a:lnTo>
                      <a:pt x="935" y="734"/>
                    </a:lnTo>
                    <a:lnTo>
                      <a:pt x="957" y="717"/>
                    </a:lnTo>
                    <a:lnTo>
                      <a:pt x="978" y="698"/>
                    </a:lnTo>
                    <a:lnTo>
                      <a:pt x="999" y="679"/>
                    </a:lnTo>
                    <a:lnTo>
                      <a:pt x="1018" y="658"/>
                    </a:lnTo>
                    <a:lnTo>
                      <a:pt x="1037" y="637"/>
                    </a:lnTo>
                    <a:lnTo>
                      <a:pt x="1054" y="615"/>
                    </a:lnTo>
                    <a:lnTo>
                      <a:pt x="1070" y="592"/>
                    </a:lnTo>
                    <a:lnTo>
                      <a:pt x="1085" y="569"/>
                    </a:lnTo>
                    <a:lnTo>
                      <a:pt x="1100" y="545"/>
                    </a:lnTo>
                    <a:lnTo>
                      <a:pt x="1112" y="520"/>
                    </a:lnTo>
                    <a:lnTo>
                      <a:pt x="1124" y="493"/>
                    </a:lnTo>
                    <a:lnTo>
                      <a:pt x="1135" y="467"/>
                    </a:lnTo>
                    <a:lnTo>
                      <a:pt x="1144" y="440"/>
                    </a:lnTo>
                    <a:lnTo>
                      <a:pt x="1151" y="412"/>
                    </a:lnTo>
                    <a:lnTo>
                      <a:pt x="1158" y="383"/>
                    </a:lnTo>
                    <a:lnTo>
                      <a:pt x="1163" y="355"/>
                    </a:lnTo>
                    <a:lnTo>
                      <a:pt x="1167" y="325"/>
                    </a:lnTo>
                    <a:lnTo>
                      <a:pt x="1169" y="296"/>
                    </a:lnTo>
                    <a:lnTo>
                      <a:pt x="1170" y="26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497400" y="2911320"/>
                <a:ext cx="349200" cy="255600"/>
              </a:xfrm>
              <a:custGeom>
                <a:avLst/>
                <a:gdLst/>
                <a:ahLst/>
                <a:rect l="l" t="t" r="r" b="b"/>
                <a:pathLst>
                  <a:path w="1101" h="808">
                    <a:moveTo>
                      <a:pt x="1101" y="258"/>
                    </a:moveTo>
                    <a:lnTo>
                      <a:pt x="1101" y="241"/>
                    </a:lnTo>
                    <a:lnTo>
                      <a:pt x="1100" y="223"/>
                    </a:lnTo>
                    <a:lnTo>
                      <a:pt x="1098" y="206"/>
                    </a:lnTo>
                    <a:lnTo>
                      <a:pt x="1096" y="189"/>
                    </a:lnTo>
                    <a:lnTo>
                      <a:pt x="1091" y="156"/>
                    </a:lnTo>
                    <a:lnTo>
                      <a:pt x="1084" y="123"/>
                    </a:lnTo>
                    <a:lnTo>
                      <a:pt x="1074" y="91"/>
                    </a:lnTo>
                    <a:lnTo>
                      <a:pt x="1064" y="60"/>
                    </a:lnTo>
                    <a:lnTo>
                      <a:pt x="1051" y="30"/>
                    </a:lnTo>
                    <a:lnTo>
                      <a:pt x="1036" y="0"/>
                    </a:lnTo>
                    <a:lnTo>
                      <a:pt x="1034" y="0"/>
                    </a:lnTo>
                    <a:lnTo>
                      <a:pt x="958" y="0"/>
                    </a:lnTo>
                    <a:lnTo>
                      <a:pt x="966" y="15"/>
                    </a:lnTo>
                    <a:lnTo>
                      <a:pt x="974" y="29"/>
                    </a:lnTo>
                    <a:lnTo>
                      <a:pt x="982" y="44"/>
                    </a:lnTo>
                    <a:lnTo>
                      <a:pt x="989" y="59"/>
                    </a:lnTo>
                    <a:lnTo>
                      <a:pt x="995" y="74"/>
                    </a:lnTo>
                    <a:lnTo>
                      <a:pt x="1002" y="90"/>
                    </a:lnTo>
                    <a:lnTo>
                      <a:pt x="1007" y="105"/>
                    </a:lnTo>
                    <a:lnTo>
                      <a:pt x="1012" y="122"/>
                    </a:lnTo>
                    <a:lnTo>
                      <a:pt x="1016" y="138"/>
                    </a:lnTo>
                    <a:lnTo>
                      <a:pt x="1021" y="155"/>
                    </a:lnTo>
                    <a:lnTo>
                      <a:pt x="1024" y="172"/>
                    </a:lnTo>
                    <a:lnTo>
                      <a:pt x="1027" y="188"/>
                    </a:lnTo>
                    <a:lnTo>
                      <a:pt x="1029" y="205"/>
                    </a:lnTo>
                    <a:lnTo>
                      <a:pt x="1030" y="223"/>
                    </a:lnTo>
                    <a:lnTo>
                      <a:pt x="1031" y="241"/>
                    </a:lnTo>
                    <a:lnTo>
                      <a:pt x="1032" y="258"/>
                    </a:lnTo>
                    <a:lnTo>
                      <a:pt x="1031" y="283"/>
                    </a:lnTo>
                    <a:lnTo>
                      <a:pt x="1029" y="307"/>
                    </a:lnTo>
                    <a:lnTo>
                      <a:pt x="1026" y="331"/>
                    </a:lnTo>
                    <a:lnTo>
                      <a:pt x="1022" y="355"/>
                    </a:lnTo>
                    <a:lnTo>
                      <a:pt x="1016" y="378"/>
                    </a:lnTo>
                    <a:lnTo>
                      <a:pt x="1010" y="401"/>
                    </a:lnTo>
                    <a:lnTo>
                      <a:pt x="1003" y="424"/>
                    </a:lnTo>
                    <a:lnTo>
                      <a:pt x="994" y="446"/>
                    </a:lnTo>
                    <a:lnTo>
                      <a:pt x="984" y="467"/>
                    </a:lnTo>
                    <a:lnTo>
                      <a:pt x="973" y="488"/>
                    </a:lnTo>
                    <a:lnTo>
                      <a:pt x="962" y="508"/>
                    </a:lnTo>
                    <a:lnTo>
                      <a:pt x="949" y="527"/>
                    </a:lnTo>
                    <a:lnTo>
                      <a:pt x="936" y="546"/>
                    </a:lnTo>
                    <a:lnTo>
                      <a:pt x="922" y="564"/>
                    </a:lnTo>
                    <a:lnTo>
                      <a:pt x="906" y="581"/>
                    </a:lnTo>
                    <a:lnTo>
                      <a:pt x="890" y="598"/>
                    </a:lnTo>
                    <a:lnTo>
                      <a:pt x="874" y="614"/>
                    </a:lnTo>
                    <a:lnTo>
                      <a:pt x="857" y="629"/>
                    </a:lnTo>
                    <a:lnTo>
                      <a:pt x="838" y="644"/>
                    </a:lnTo>
                    <a:lnTo>
                      <a:pt x="820" y="657"/>
                    </a:lnTo>
                    <a:lnTo>
                      <a:pt x="800" y="669"/>
                    </a:lnTo>
                    <a:lnTo>
                      <a:pt x="780" y="681"/>
                    </a:lnTo>
                    <a:lnTo>
                      <a:pt x="759" y="691"/>
                    </a:lnTo>
                    <a:lnTo>
                      <a:pt x="738" y="701"/>
                    </a:lnTo>
                    <a:lnTo>
                      <a:pt x="716" y="710"/>
                    </a:lnTo>
                    <a:lnTo>
                      <a:pt x="694" y="718"/>
                    </a:lnTo>
                    <a:lnTo>
                      <a:pt x="671" y="724"/>
                    </a:lnTo>
                    <a:lnTo>
                      <a:pt x="648" y="729"/>
                    </a:lnTo>
                    <a:lnTo>
                      <a:pt x="623" y="733"/>
                    </a:lnTo>
                    <a:lnTo>
                      <a:pt x="599" y="736"/>
                    </a:lnTo>
                    <a:lnTo>
                      <a:pt x="575" y="739"/>
                    </a:lnTo>
                    <a:lnTo>
                      <a:pt x="550" y="739"/>
                    </a:lnTo>
                    <a:lnTo>
                      <a:pt x="526" y="739"/>
                    </a:lnTo>
                    <a:lnTo>
                      <a:pt x="501" y="736"/>
                    </a:lnTo>
                    <a:lnTo>
                      <a:pt x="477" y="733"/>
                    </a:lnTo>
                    <a:lnTo>
                      <a:pt x="453" y="729"/>
                    </a:lnTo>
                    <a:lnTo>
                      <a:pt x="430" y="724"/>
                    </a:lnTo>
                    <a:lnTo>
                      <a:pt x="407" y="718"/>
                    </a:lnTo>
                    <a:lnTo>
                      <a:pt x="385" y="710"/>
                    </a:lnTo>
                    <a:lnTo>
                      <a:pt x="363" y="701"/>
                    </a:lnTo>
                    <a:lnTo>
                      <a:pt x="342" y="691"/>
                    </a:lnTo>
                    <a:lnTo>
                      <a:pt x="321" y="681"/>
                    </a:lnTo>
                    <a:lnTo>
                      <a:pt x="301" y="669"/>
                    </a:lnTo>
                    <a:lnTo>
                      <a:pt x="281" y="657"/>
                    </a:lnTo>
                    <a:lnTo>
                      <a:pt x="262" y="644"/>
                    </a:lnTo>
                    <a:lnTo>
                      <a:pt x="244" y="629"/>
                    </a:lnTo>
                    <a:lnTo>
                      <a:pt x="226" y="614"/>
                    </a:lnTo>
                    <a:lnTo>
                      <a:pt x="209" y="598"/>
                    </a:lnTo>
                    <a:lnTo>
                      <a:pt x="193" y="581"/>
                    </a:lnTo>
                    <a:lnTo>
                      <a:pt x="179" y="564"/>
                    </a:lnTo>
                    <a:lnTo>
                      <a:pt x="164" y="546"/>
                    </a:lnTo>
                    <a:lnTo>
                      <a:pt x="151" y="527"/>
                    </a:lnTo>
                    <a:lnTo>
                      <a:pt x="139" y="508"/>
                    </a:lnTo>
                    <a:lnTo>
                      <a:pt x="127" y="488"/>
                    </a:lnTo>
                    <a:lnTo>
                      <a:pt x="116" y="467"/>
                    </a:lnTo>
                    <a:lnTo>
                      <a:pt x="106" y="446"/>
                    </a:lnTo>
                    <a:lnTo>
                      <a:pt x="98" y="424"/>
                    </a:lnTo>
                    <a:lnTo>
                      <a:pt x="90" y="401"/>
                    </a:lnTo>
                    <a:lnTo>
                      <a:pt x="84" y="378"/>
                    </a:lnTo>
                    <a:lnTo>
                      <a:pt x="79" y="355"/>
                    </a:lnTo>
                    <a:lnTo>
                      <a:pt x="75" y="331"/>
                    </a:lnTo>
                    <a:lnTo>
                      <a:pt x="72" y="307"/>
                    </a:lnTo>
                    <a:lnTo>
                      <a:pt x="69" y="283"/>
                    </a:lnTo>
                    <a:lnTo>
                      <a:pt x="68" y="258"/>
                    </a:lnTo>
                    <a:lnTo>
                      <a:pt x="68" y="246"/>
                    </a:lnTo>
                    <a:lnTo>
                      <a:pt x="69" y="233"/>
                    </a:lnTo>
                    <a:lnTo>
                      <a:pt x="70" y="222"/>
                    </a:lnTo>
                    <a:lnTo>
                      <a:pt x="72" y="209"/>
                    </a:lnTo>
                    <a:lnTo>
                      <a:pt x="73" y="198"/>
                    </a:lnTo>
                    <a:lnTo>
                      <a:pt x="74" y="186"/>
                    </a:lnTo>
                    <a:lnTo>
                      <a:pt x="76" y="175"/>
                    </a:lnTo>
                    <a:lnTo>
                      <a:pt x="78" y="163"/>
                    </a:lnTo>
                    <a:lnTo>
                      <a:pt x="46" y="172"/>
                    </a:lnTo>
                    <a:lnTo>
                      <a:pt x="5" y="181"/>
                    </a:lnTo>
                    <a:lnTo>
                      <a:pt x="4" y="190"/>
                    </a:lnTo>
                    <a:lnTo>
                      <a:pt x="3" y="200"/>
                    </a:lnTo>
                    <a:lnTo>
                      <a:pt x="2" y="209"/>
                    </a:lnTo>
                    <a:lnTo>
                      <a:pt x="1" y="219"/>
                    </a:lnTo>
                    <a:lnTo>
                      <a:pt x="1" y="229"/>
                    </a:lnTo>
                    <a:lnTo>
                      <a:pt x="0" y="239"/>
                    </a:lnTo>
                    <a:lnTo>
                      <a:pt x="0" y="248"/>
                    </a:lnTo>
                    <a:lnTo>
                      <a:pt x="0" y="258"/>
                    </a:lnTo>
                    <a:lnTo>
                      <a:pt x="0" y="286"/>
                    </a:lnTo>
                    <a:lnTo>
                      <a:pt x="2" y="314"/>
                    </a:lnTo>
                    <a:lnTo>
                      <a:pt x="6" y="342"/>
                    </a:lnTo>
                    <a:lnTo>
                      <a:pt x="11" y="369"/>
                    </a:lnTo>
                    <a:lnTo>
                      <a:pt x="17" y="395"/>
                    </a:lnTo>
                    <a:lnTo>
                      <a:pt x="24" y="421"/>
                    </a:lnTo>
                    <a:lnTo>
                      <a:pt x="34" y="447"/>
                    </a:lnTo>
                    <a:lnTo>
                      <a:pt x="43" y="472"/>
                    </a:lnTo>
                    <a:lnTo>
                      <a:pt x="54" y="496"/>
                    </a:lnTo>
                    <a:lnTo>
                      <a:pt x="66" y="520"/>
                    </a:lnTo>
                    <a:lnTo>
                      <a:pt x="80" y="543"/>
                    </a:lnTo>
                    <a:lnTo>
                      <a:pt x="94" y="565"/>
                    </a:lnTo>
                    <a:lnTo>
                      <a:pt x="109" y="587"/>
                    </a:lnTo>
                    <a:lnTo>
                      <a:pt x="125" y="607"/>
                    </a:lnTo>
                    <a:lnTo>
                      <a:pt x="143" y="627"/>
                    </a:lnTo>
                    <a:lnTo>
                      <a:pt x="161" y="647"/>
                    </a:lnTo>
                    <a:lnTo>
                      <a:pt x="180" y="665"/>
                    </a:lnTo>
                    <a:lnTo>
                      <a:pt x="200" y="682"/>
                    </a:lnTo>
                    <a:lnTo>
                      <a:pt x="221" y="699"/>
                    </a:lnTo>
                    <a:lnTo>
                      <a:pt x="243" y="714"/>
                    </a:lnTo>
                    <a:lnTo>
                      <a:pt x="265" y="728"/>
                    </a:lnTo>
                    <a:lnTo>
                      <a:pt x="288" y="742"/>
                    </a:lnTo>
                    <a:lnTo>
                      <a:pt x="311" y="753"/>
                    </a:lnTo>
                    <a:lnTo>
                      <a:pt x="336" y="765"/>
                    </a:lnTo>
                    <a:lnTo>
                      <a:pt x="361" y="774"/>
                    </a:lnTo>
                    <a:lnTo>
                      <a:pt x="387" y="783"/>
                    </a:lnTo>
                    <a:lnTo>
                      <a:pt x="412" y="791"/>
                    </a:lnTo>
                    <a:lnTo>
                      <a:pt x="439" y="796"/>
                    </a:lnTo>
                    <a:lnTo>
                      <a:pt x="467" y="802"/>
                    </a:lnTo>
                    <a:lnTo>
                      <a:pt x="494" y="805"/>
                    </a:lnTo>
                    <a:lnTo>
                      <a:pt x="521" y="807"/>
                    </a:lnTo>
                    <a:lnTo>
                      <a:pt x="550" y="808"/>
                    </a:lnTo>
                    <a:lnTo>
                      <a:pt x="578" y="807"/>
                    </a:lnTo>
                    <a:lnTo>
                      <a:pt x="607" y="805"/>
                    </a:lnTo>
                    <a:lnTo>
                      <a:pt x="634" y="802"/>
                    </a:lnTo>
                    <a:lnTo>
                      <a:pt x="661" y="796"/>
                    </a:lnTo>
                    <a:lnTo>
                      <a:pt x="687" y="791"/>
                    </a:lnTo>
                    <a:lnTo>
                      <a:pt x="714" y="783"/>
                    </a:lnTo>
                    <a:lnTo>
                      <a:pt x="739" y="774"/>
                    </a:lnTo>
                    <a:lnTo>
                      <a:pt x="764" y="765"/>
                    </a:lnTo>
                    <a:lnTo>
                      <a:pt x="788" y="753"/>
                    </a:lnTo>
                    <a:lnTo>
                      <a:pt x="813" y="742"/>
                    </a:lnTo>
                    <a:lnTo>
                      <a:pt x="836" y="728"/>
                    </a:lnTo>
                    <a:lnTo>
                      <a:pt x="858" y="714"/>
                    </a:lnTo>
                    <a:lnTo>
                      <a:pt x="880" y="699"/>
                    </a:lnTo>
                    <a:lnTo>
                      <a:pt x="900" y="682"/>
                    </a:lnTo>
                    <a:lnTo>
                      <a:pt x="920" y="665"/>
                    </a:lnTo>
                    <a:lnTo>
                      <a:pt x="940" y="647"/>
                    </a:lnTo>
                    <a:lnTo>
                      <a:pt x="958" y="627"/>
                    </a:lnTo>
                    <a:lnTo>
                      <a:pt x="974" y="607"/>
                    </a:lnTo>
                    <a:lnTo>
                      <a:pt x="991" y="587"/>
                    </a:lnTo>
                    <a:lnTo>
                      <a:pt x="1007" y="565"/>
                    </a:lnTo>
                    <a:lnTo>
                      <a:pt x="1021" y="543"/>
                    </a:lnTo>
                    <a:lnTo>
                      <a:pt x="1034" y="520"/>
                    </a:lnTo>
                    <a:lnTo>
                      <a:pt x="1046" y="496"/>
                    </a:lnTo>
                    <a:lnTo>
                      <a:pt x="1057" y="472"/>
                    </a:lnTo>
                    <a:lnTo>
                      <a:pt x="1067" y="447"/>
                    </a:lnTo>
                    <a:lnTo>
                      <a:pt x="1075" y="421"/>
                    </a:lnTo>
                    <a:lnTo>
                      <a:pt x="1084" y="395"/>
                    </a:lnTo>
                    <a:lnTo>
                      <a:pt x="1089" y="369"/>
                    </a:lnTo>
                    <a:lnTo>
                      <a:pt x="1094" y="342"/>
                    </a:lnTo>
                    <a:lnTo>
                      <a:pt x="1097" y="314"/>
                    </a:lnTo>
                    <a:lnTo>
                      <a:pt x="1100" y="286"/>
                    </a:lnTo>
                    <a:lnTo>
                      <a:pt x="1101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200" y="2911320"/>
                <a:ext cx="327240" cy="244800"/>
              </a:xfrm>
              <a:custGeom>
                <a:avLst/>
                <a:gdLst/>
                <a:ahLst/>
                <a:rect l="l" t="t" r="r" b="b"/>
                <a:pathLst>
                  <a:path w="1031" h="773">
                    <a:moveTo>
                      <a:pt x="1031" y="258"/>
                    </a:moveTo>
                    <a:lnTo>
                      <a:pt x="1031" y="241"/>
                    </a:lnTo>
                    <a:lnTo>
                      <a:pt x="1030" y="223"/>
                    </a:lnTo>
                    <a:lnTo>
                      <a:pt x="1029" y="206"/>
                    </a:lnTo>
                    <a:lnTo>
                      <a:pt x="1027" y="188"/>
                    </a:lnTo>
                    <a:lnTo>
                      <a:pt x="1024" y="172"/>
                    </a:lnTo>
                    <a:lnTo>
                      <a:pt x="1021" y="156"/>
                    </a:lnTo>
                    <a:lnTo>
                      <a:pt x="1017" y="139"/>
                    </a:lnTo>
                    <a:lnTo>
                      <a:pt x="1013" y="122"/>
                    </a:lnTo>
                    <a:lnTo>
                      <a:pt x="1009" y="106"/>
                    </a:lnTo>
                    <a:lnTo>
                      <a:pt x="1004" y="91"/>
                    </a:lnTo>
                    <a:lnTo>
                      <a:pt x="998" y="75"/>
                    </a:lnTo>
                    <a:lnTo>
                      <a:pt x="992" y="59"/>
                    </a:lnTo>
                    <a:lnTo>
                      <a:pt x="978" y="30"/>
                    </a:lnTo>
                    <a:lnTo>
                      <a:pt x="963" y="0"/>
                    </a:lnTo>
                    <a:lnTo>
                      <a:pt x="915" y="0"/>
                    </a:lnTo>
                    <a:lnTo>
                      <a:pt x="886" y="8"/>
                    </a:lnTo>
                    <a:lnTo>
                      <a:pt x="895" y="21"/>
                    </a:lnTo>
                    <a:lnTo>
                      <a:pt x="903" y="36"/>
                    </a:lnTo>
                    <a:lnTo>
                      <a:pt x="911" y="50"/>
                    </a:lnTo>
                    <a:lnTo>
                      <a:pt x="918" y="64"/>
                    </a:lnTo>
                    <a:lnTo>
                      <a:pt x="925" y="79"/>
                    </a:lnTo>
                    <a:lnTo>
                      <a:pt x="931" y="94"/>
                    </a:lnTo>
                    <a:lnTo>
                      <a:pt x="937" y="110"/>
                    </a:lnTo>
                    <a:lnTo>
                      <a:pt x="943" y="125"/>
                    </a:lnTo>
                    <a:lnTo>
                      <a:pt x="947" y="141"/>
                    </a:lnTo>
                    <a:lnTo>
                      <a:pt x="951" y="157"/>
                    </a:lnTo>
                    <a:lnTo>
                      <a:pt x="954" y="174"/>
                    </a:lnTo>
                    <a:lnTo>
                      <a:pt x="957" y="190"/>
                    </a:lnTo>
                    <a:lnTo>
                      <a:pt x="959" y="206"/>
                    </a:lnTo>
                    <a:lnTo>
                      <a:pt x="962" y="224"/>
                    </a:lnTo>
                    <a:lnTo>
                      <a:pt x="963" y="241"/>
                    </a:lnTo>
                    <a:lnTo>
                      <a:pt x="963" y="258"/>
                    </a:lnTo>
                    <a:lnTo>
                      <a:pt x="962" y="281"/>
                    </a:lnTo>
                    <a:lnTo>
                      <a:pt x="960" y="304"/>
                    </a:lnTo>
                    <a:lnTo>
                      <a:pt x="957" y="326"/>
                    </a:lnTo>
                    <a:lnTo>
                      <a:pt x="953" y="348"/>
                    </a:lnTo>
                    <a:lnTo>
                      <a:pt x="948" y="370"/>
                    </a:lnTo>
                    <a:lnTo>
                      <a:pt x="943" y="391"/>
                    </a:lnTo>
                    <a:lnTo>
                      <a:pt x="935" y="412"/>
                    </a:lnTo>
                    <a:lnTo>
                      <a:pt x="927" y="432"/>
                    </a:lnTo>
                    <a:lnTo>
                      <a:pt x="918" y="452"/>
                    </a:lnTo>
                    <a:lnTo>
                      <a:pt x="908" y="471"/>
                    </a:lnTo>
                    <a:lnTo>
                      <a:pt x="897" y="490"/>
                    </a:lnTo>
                    <a:lnTo>
                      <a:pt x="886" y="508"/>
                    </a:lnTo>
                    <a:lnTo>
                      <a:pt x="873" y="525"/>
                    </a:lnTo>
                    <a:lnTo>
                      <a:pt x="861" y="542"/>
                    </a:lnTo>
                    <a:lnTo>
                      <a:pt x="846" y="558"/>
                    </a:lnTo>
                    <a:lnTo>
                      <a:pt x="831" y="574"/>
                    </a:lnTo>
                    <a:lnTo>
                      <a:pt x="815" y="588"/>
                    </a:lnTo>
                    <a:lnTo>
                      <a:pt x="800" y="603"/>
                    </a:lnTo>
                    <a:lnTo>
                      <a:pt x="783" y="616"/>
                    </a:lnTo>
                    <a:lnTo>
                      <a:pt x="765" y="628"/>
                    </a:lnTo>
                    <a:lnTo>
                      <a:pt x="747" y="640"/>
                    </a:lnTo>
                    <a:lnTo>
                      <a:pt x="728" y="650"/>
                    </a:lnTo>
                    <a:lnTo>
                      <a:pt x="709" y="661"/>
                    </a:lnTo>
                    <a:lnTo>
                      <a:pt x="689" y="669"/>
                    </a:lnTo>
                    <a:lnTo>
                      <a:pt x="669" y="678"/>
                    </a:lnTo>
                    <a:lnTo>
                      <a:pt x="648" y="685"/>
                    </a:lnTo>
                    <a:lnTo>
                      <a:pt x="627" y="690"/>
                    </a:lnTo>
                    <a:lnTo>
                      <a:pt x="605" y="695"/>
                    </a:lnTo>
                    <a:lnTo>
                      <a:pt x="583" y="700"/>
                    </a:lnTo>
                    <a:lnTo>
                      <a:pt x="561" y="703"/>
                    </a:lnTo>
                    <a:lnTo>
                      <a:pt x="538" y="704"/>
                    </a:lnTo>
                    <a:lnTo>
                      <a:pt x="515" y="705"/>
                    </a:lnTo>
                    <a:lnTo>
                      <a:pt x="493" y="704"/>
                    </a:lnTo>
                    <a:lnTo>
                      <a:pt x="470" y="703"/>
                    </a:lnTo>
                    <a:lnTo>
                      <a:pt x="447" y="700"/>
                    </a:lnTo>
                    <a:lnTo>
                      <a:pt x="425" y="695"/>
                    </a:lnTo>
                    <a:lnTo>
                      <a:pt x="403" y="690"/>
                    </a:lnTo>
                    <a:lnTo>
                      <a:pt x="382" y="685"/>
                    </a:lnTo>
                    <a:lnTo>
                      <a:pt x="361" y="678"/>
                    </a:lnTo>
                    <a:lnTo>
                      <a:pt x="341" y="669"/>
                    </a:lnTo>
                    <a:lnTo>
                      <a:pt x="321" y="661"/>
                    </a:lnTo>
                    <a:lnTo>
                      <a:pt x="302" y="650"/>
                    </a:lnTo>
                    <a:lnTo>
                      <a:pt x="284" y="640"/>
                    </a:lnTo>
                    <a:lnTo>
                      <a:pt x="266" y="628"/>
                    </a:lnTo>
                    <a:lnTo>
                      <a:pt x="248" y="616"/>
                    </a:lnTo>
                    <a:lnTo>
                      <a:pt x="231" y="603"/>
                    </a:lnTo>
                    <a:lnTo>
                      <a:pt x="214" y="588"/>
                    </a:lnTo>
                    <a:lnTo>
                      <a:pt x="199" y="574"/>
                    </a:lnTo>
                    <a:lnTo>
                      <a:pt x="185" y="558"/>
                    </a:lnTo>
                    <a:lnTo>
                      <a:pt x="170" y="542"/>
                    </a:lnTo>
                    <a:lnTo>
                      <a:pt x="156" y="525"/>
                    </a:lnTo>
                    <a:lnTo>
                      <a:pt x="145" y="508"/>
                    </a:lnTo>
                    <a:lnTo>
                      <a:pt x="133" y="490"/>
                    </a:lnTo>
                    <a:lnTo>
                      <a:pt x="122" y="471"/>
                    </a:lnTo>
                    <a:lnTo>
                      <a:pt x="112" y="452"/>
                    </a:lnTo>
                    <a:lnTo>
                      <a:pt x="103" y="432"/>
                    </a:lnTo>
                    <a:lnTo>
                      <a:pt x="95" y="412"/>
                    </a:lnTo>
                    <a:lnTo>
                      <a:pt x="88" y="391"/>
                    </a:lnTo>
                    <a:lnTo>
                      <a:pt x="82" y="370"/>
                    </a:lnTo>
                    <a:lnTo>
                      <a:pt x="77" y="348"/>
                    </a:lnTo>
                    <a:lnTo>
                      <a:pt x="73" y="326"/>
                    </a:lnTo>
                    <a:lnTo>
                      <a:pt x="70" y="304"/>
                    </a:lnTo>
                    <a:lnTo>
                      <a:pt x="69" y="281"/>
                    </a:lnTo>
                    <a:lnTo>
                      <a:pt x="68" y="258"/>
                    </a:lnTo>
                    <a:lnTo>
                      <a:pt x="68" y="244"/>
                    </a:lnTo>
                    <a:lnTo>
                      <a:pt x="69" y="231"/>
                    </a:lnTo>
                    <a:lnTo>
                      <a:pt x="70" y="218"/>
                    </a:lnTo>
                    <a:lnTo>
                      <a:pt x="71" y="204"/>
                    </a:lnTo>
                    <a:lnTo>
                      <a:pt x="73" y="191"/>
                    </a:lnTo>
                    <a:lnTo>
                      <a:pt x="75" y="178"/>
                    </a:lnTo>
                    <a:lnTo>
                      <a:pt x="77" y="165"/>
                    </a:lnTo>
                    <a:lnTo>
                      <a:pt x="81" y="153"/>
                    </a:lnTo>
                    <a:lnTo>
                      <a:pt x="11" y="172"/>
                    </a:lnTo>
                    <a:lnTo>
                      <a:pt x="6" y="173"/>
                    </a:lnTo>
                    <a:lnTo>
                      <a:pt x="5" y="183"/>
                    </a:lnTo>
                    <a:lnTo>
                      <a:pt x="3" y="194"/>
                    </a:lnTo>
                    <a:lnTo>
                      <a:pt x="2" y="204"/>
                    </a:lnTo>
                    <a:lnTo>
                      <a:pt x="1" y="215"/>
                    </a:lnTo>
                    <a:lnTo>
                      <a:pt x="0" y="225"/>
                    </a:lnTo>
                    <a:lnTo>
                      <a:pt x="0" y="237"/>
                    </a:lnTo>
                    <a:lnTo>
                      <a:pt x="0" y="247"/>
                    </a:lnTo>
                    <a:lnTo>
                      <a:pt x="0" y="258"/>
                    </a:lnTo>
                    <a:lnTo>
                      <a:pt x="0" y="285"/>
                    </a:lnTo>
                    <a:lnTo>
                      <a:pt x="2" y="311"/>
                    </a:lnTo>
                    <a:lnTo>
                      <a:pt x="5" y="336"/>
                    </a:lnTo>
                    <a:lnTo>
                      <a:pt x="9" y="362"/>
                    </a:lnTo>
                    <a:lnTo>
                      <a:pt x="15" y="387"/>
                    </a:lnTo>
                    <a:lnTo>
                      <a:pt x="23" y="411"/>
                    </a:lnTo>
                    <a:lnTo>
                      <a:pt x="30" y="435"/>
                    </a:lnTo>
                    <a:lnTo>
                      <a:pt x="40" y="458"/>
                    </a:lnTo>
                    <a:lnTo>
                      <a:pt x="50" y="481"/>
                    </a:lnTo>
                    <a:lnTo>
                      <a:pt x="62" y="503"/>
                    </a:lnTo>
                    <a:lnTo>
                      <a:pt x="73" y="525"/>
                    </a:lnTo>
                    <a:lnTo>
                      <a:pt x="87" y="546"/>
                    </a:lnTo>
                    <a:lnTo>
                      <a:pt x="102" y="566"/>
                    </a:lnTo>
                    <a:lnTo>
                      <a:pt x="117" y="586"/>
                    </a:lnTo>
                    <a:lnTo>
                      <a:pt x="133" y="604"/>
                    </a:lnTo>
                    <a:lnTo>
                      <a:pt x="150" y="622"/>
                    </a:lnTo>
                    <a:lnTo>
                      <a:pt x="168" y="640"/>
                    </a:lnTo>
                    <a:lnTo>
                      <a:pt x="187" y="656"/>
                    </a:lnTo>
                    <a:lnTo>
                      <a:pt x="207" y="671"/>
                    </a:lnTo>
                    <a:lnTo>
                      <a:pt x="227" y="685"/>
                    </a:lnTo>
                    <a:lnTo>
                      <a:pt x="248" y="699"/>
                    </a:lnTo>
                    <a:lnTo>
                      <a:pt x="269" y="711"/>
                    </a:lnTo>
                    <a:lnTo>
                      <a:pt x="292" y="723"/>
                    </a:lnTo>
                    <a:lnTo>
                      <a:pt x="314" y="733"/>
                    </a:lnTo>
                    <a:lnTo>
                      <a:pt x="338" y="742"/>
                    </a:lnTo>
                    <a:lnTo>
                      <a:pt x="361" y="750"/>
                    </a:lnTo>
                    <a:lnTo>
                      <a:pt x="387" y="757"/>
                    </a:lnTo>
                    <a:lnTo>
                      <a:pt x="411" y="763"/>
                    </a:lnTo>
                    <a:lnTo>
                      <a:pt x="437" y="768"/>
                    </a:lnTo>
                    <a:lnTo>
                      <a:pt x="462" y="771"/>
                    </a:lnTo>
                    <a:lnTo>
                      <a:pt x="488" y="773"/>
                    </a:lnTo>
                    <a:lnTo>
                      <a:pt x="515" y="773"/>
                    </a:lnTo>
                    <a:lnTo>
                      <a:pt x="542" y="773"/>
                    </a:lnTo>
                    <a:lnTo>
                      <a:pt x="568" y="771"/>
                    </a:lnTo>
                    <a:lnTo>
                      <a:pt x="594" y="768"/>
                    </a:lnTo>
                    <a:lnTo>
                      <a:pt x="619" y="763"/>
                    </a:lnTo>
                    <a:lnTo>
                      <a:pt x="644" y="757"/>
                    </a:lnTo>
                    <a:lnTo>
                      <a:pt x="668" y="750"/>
                    </a:lnTo>
                    <a:lnTo>
                      <a:pt x="692" y="742"/>
                    </a:lnTo>
                    <a:lnTo>
                      <a:pt x="716" y="733"/>
                    </a:lnTo>
                    <a:lnTo>
                      <a:pt x="739" y="723"/>
                    </a:lnTo>
                    <a:lnTo>
                      <a:pt x="761" y="711"/>
                    </a:lnTo>
                    <a:lnTo>
                      <a:pt x="783" y="699"/>
                    </a:lnTo>
                    <a:lnTo>
                      <a:pt x="804" y="685"/>
                    </a:lnTo>
                    <a:lnTo>
                      <a:pt x="824" y="671"/>
                    </a:lnTo>
                    <a:lnTo>
                      <a:pt x="844" y="656"/>
                    </a:lnTo>
                    <a:lnTo>
                      <a:pt x="862" y="640"/>
                    </a:lnTo>
                    <a:lnTo>
                      <a:pt x="881" y="622"/>
                    </a:lnTo>
                    <a:lnTo>
                      <a:pt x="897" y="604"/>
                    </a:lnTo>
                    <a:lnTo>
                      <a:pt x="913" y="586"/>
                    </a:lnTo>
                    <a:lnTo>
                      <a:pt x="929" y="566"/>
                    </a:lnTo>
                    <a:lnTo>
                      <a:pt x="943" y="546"/>
                    </a:lnTo>
                    <a:lnTo>
                      <a:pt x="956" y="525"/>
                    </a:lnTo>
                    <a:lnTo>
                      <a:pt x="969" y="503"/>
                    </a:lnTo>
                    <a:lnTo>
                      <a:pt x="980" y="481"/>
                    </a:lnTo>
                    <a:lnTo>
                      <a:pt x="991" y="458"/>
                    </a:lnTo>
                    <a:lnTo>
                      <a:pt x="999" y="435"/>
                    </a:lnTo>
                    <a:lnTo>
                      <a:pt x="1008" y="411"/>
                    </a:lnTo>
                    <a:lnTo>
                      <a:pt x="1015" y="387"/>
                    </a:lnTo>
                    <a:lnTo>
                      <a:pt x="1020" y="362"/>
                    </a:lnTo>
                    <a:lnTo>
                      <a:pt x="1026" y="336"/>
                    </a:lnTo>
                    <a:lnTo>
                      <a:pt x="1029" y="311"/>
                    </a:lnTo>
                    <a:lnTo>
                      <a:pt x="1031" y="285"/>
                    </a:lnTo>
                    <a:lnTo>
                      <a:pt x="1031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517920" y="2911320"/>
                <a:ext cx="306360" cy="235080"/>
              </a:xfrm>
              <a:custGeom>
                <a:avLst/>
                <a:gdLst/>
                <a:ahLst/>
                <a:rect l="l" t="t" r="r" b="b"/>
                <a:pathLst>
                  <a:path w="964" h="739">
                    <a:moveTo>
                      <a:pt x="964" y="258"/>
                    </a:moveTo>
                    <a:lnTo>
                      <a:pt x="963" y="241"/>
                    </a:lnTo>
                    <a:lnTo>
                      <a:pt x="962" y="223"/>
                    </a:lnTo>
                    <a:lnTo>
                      <a:pt x="961" y="205"/>
                    </a:lnTo>
                    <a:lnTo>
                      <a:pt x="959" y="188"/>
                    </a:lnTo>
                    <a:lnTo>
                      <a:pt x="956" y="172"/>
                    </a:lnTo>
                    <a:lnTo>
                      <a:pt x="953" y="155"/>
                    </a:lnTo>
                    <a:lnTo>
                      <a:pt x="948" y="138"/>
                    </a:lnTo>
                    <a:lnTo>
                      <a:pt x="944" y="122"/>
                    </a:lnTo>
                    <a:lnTo>
                      <a:pt x="939" y="105"/>
                    </a:lnTo>
                    <a:lnTo>
                      <a:pt x="934" y="90"/>
                    </a:lnTo>
                    <a:lnTo>
                      <a:pt x="927" y="74"/>
                    </a:lnTo>
                    <a:lnTo>
                      <a:pt x="921" y="59"/>
                    </a:lnTo>
                    <a:lnTo>
                      <a:pt x="914" y="44"/>
                    </a:lnTo>
                    <a:lnTo>
                      <a:pt x="906" y="29"/>
                    </a:lnTo>
                    <a:lnTo>
                      <a:pt x="898" y="15"/>
                    </a:lnTo>
                    <a:lnTo>
                      <a:pt x="890" y="0"/>
                    </a:lnTo>
                    <a:lnTo>
                      <a:pt x="882" y="0"/>
                    </a:lnTo>
                    <a:lnTo>
                      <a:pt x="817" y="17"/>
                    </a:lnTo>
                    <a:lnTo>
                      <a:pt x="827" y="31"/>
                    </a:lnTo>
                    <a:lnTo>
                      <a:pt x="835" y="43"/>
                    </a:lnTo>
                    <a:lnTo>
                      <a:pt x="842" y="57"/>
                    </a:lnTo>
                    <a:lnTo>
                      <a:pt x="851" y="71"/>
                    </a:lnTo>
                    <a:lnTo>
                      <a:pt x="857" y="85"/>
                    </a:lnTo>
                    <a:lnTo>
                      <a:pt x="863" y="100"/>
                    </a:lnTo>
                    <a:lnTo>
                      <a:pt x="870" y="115"/>
                    </a:lnTo>
                    <a:lnTo>
                      <a:pt x="875" y="130"/>
                    </a:lnTo>
                    <a:lnTo>
                      <a:pt x="879" y="144"/>
                    </a:lnTo>
                    <a:lnTo>
                      <a:pt x="883" y="160"/>
                    </a:lnTo>
                    <a:lnTo>
                      <a:pt x="886" y="176"/>
                    </a:lnTo>
                    <a:lnTo>
                      <a:pt x="890" y="193"/>
                    </a:lnTo>
                    <a:lnTo>
                      <a:pt x="892" y="208"/>
                    </a:lnTo>
                    <a:lnTo>
                      <a:pt x="894" y="225"/>
                    </a:lnTo>
                    <a:lnTo>
                      <a:pt x="895" y="241"/>
                    </a:lnTo>
                    <a:lnTo>
                      <a:pt x="895" y="258"/>
                    </a:lnTo>
                    <a:lnTo>
                      <a:pt x="895" y="280"/>
                    </a:lnTo>
                    <a:lnTo>
                      <a:pt x="893" y="301"/>
                    </a:lnTo>
                    <a:lnTo>
                      <a:pt x="891" y="321"/>
                    </a:lnTo>
                    <a:lnTo>
                      <a:pt x="886" y="341"/>
                    </a:lnTo>
                    <a:lnTo>
                      <a:pt x="882" y="362"/>
                    </a:lnTo>
                    <a:lnTo>
                      <a:pt x="877" y="380"/>
                    </a:lnTo>
                    <a:lnTo>
                      <a:pt x="870" y="399"/>
                    </a:lnTo>
                    <a:lnTo>
                      <a:pt x="862" y="418"/>
                    </a:lnTo>
                    <a:lnTo>
                      <a:pt x="854" y="437"/>
                    </a:lnTo>
                    <a:lnTo>
                      <a:pt x="845" y="455"/>
                    </a:lnTo>
                    <a:lnTo>
                      <a:pt x="835" y="472"/>
                    </a:lnTo>
                    <a:lnTo>
                      <a:pt x="824" y="489"/>
                    </a:lnTo>
                    <a:lnTo>
                      <a:pt x="813" y="504"/>
                    </a:lnTo>
                    <a:lnTo>
                      <a:pt x="800" y="520"/>
                    </a:lnTo>
                    <a:lnTo>
                      <a:pt x="788" y="535"/>
                    </a:lnTo>
                    <a:lnTo>
                      <a:pt x="774" y="550"/>
                    </a:lnTo>
                    <a:lnTo>
                      <a:pt x="759" y="563"/>
                    </a:lnTo>
                    <a:lnTo>
                      <a:pt x="745" y="576"/>
                    </a:lnTo>
                    <a:lnTo>
                      <a:pt x="729" y="588"/>
                    </a:lnTo>
                    <a:lnTo>
                      <a:pt x="713" y="600"/>
                    </a:lnTo>
                    <a:lnTo>
                      <a:pt x="696" y="610"/>
                    </a:lnTo>
                    <a:lnTo>
                      <a:pt x="679" y="621"/>
                    </a:lnTo>
                    <a:lnTo>
                      <a:pt x="662" y="629"/>
                    </a:lnTo>
                    <a:lnTo>
                      <a:pt x="643" y="638"/>
                    </a:lnTo>
                    <a:lnTo>
                      <a:pt x="624" y="645"/>
                    </a:lnTo>
                    <a:lnTo>
                      <a:pt x="605" y="651"/>
                    </a:lnTo>
                    <a:lnTo>
                      <a:pt x="585" y="658"/>
                    </a:lnTo>
                    <a:lnTo>
                      <a:pt x="566" y="662"/>
                    </a:lnTo>
                    <a:lnTo>
                      <a:pt x="545" y="666"/>
                    </a:lnTo>
                    <a:lnTo>
                      <a:pt x="525" y="668"/>
                    </a:lnTo>
                    <a:lnTo>
                      <a:pt x="504" y="670"/>
                    </a:lnTo>
                    <a:lnTo>
                      <a:pt x="482" y="670"/>
                    </a:lnTo>
                    <a:lnTo>
                      <a:pt x="461" y="670"/>
                    </a:lnTo>
                    <a:lnTo>
                      <a:pt x="440" y="668"/>
                    </a:lnTo>
                    <a:lnTo>
                      <a:pt x="420" y="666"/>
                    </a:lnTo>
                    <a:lnTo>
                      <a:pt x="399" y="662"/>
                    </a:lnTo>
                    <a:lnTo>
                      <a:pt x="379" y="658"/>
                    </a:lnTo>
                    <a:lnTo>
                      <a:pt x="360" y="651"/>
                    </a:lnTo>
                    <a:lnTo>
                      <a:pt x="340" y="645"/>
                    </a:lnTo>
                    <a:lnTo>
                      <a:pt x="322" y="638"/>
                    </a:lnTo>
                    <a:lnTo>
                      <a:pt x="303" y="629"/>
                    </a:lnTo>
                    <a:lnTo>
                      <a:pt x="285" y="621"/>
                    </a:lnTo>
                    <a:lnTo>
                      <a:pt x="268" y="610"/>
                    </a:lnTo>
                    <a:lnTo>
                      <a:pt x="252" y="600"/>
                    </a:lnTo>
                    <a:lnTo>
                      <a:pt x="235" y="588"/>
                    </a:lnTo>
                    <a:lnTo>
                      <a:pt x="220" y="576"/>
                    </a:lnTo>
                    <a:lnTo>
                      <a:pt x="204" y="563"/>
                    </a:lnTo>
                    <a:lnTo>
                      <a:pt x="191" y="550"/>
                    </a:lnTo>
                    <a:lnTo>
                      <a:pt x="177" y="535"/>
                    </a:lnTo>
                    <a:lnTo>
                      <a:pt x="163" y="520"/>
                    </a:lnTo>
                    <a:lnTo>
                      <a:pt x="152" y="504"/>
                    </a:lnTo>
                    <a:lnTo>
                      <a:pt x="140" y="489"/>
                    </a:lnTo>
                    <a:lnTo>
                      <a:pt x="129" y="472"/>
                    </a:lnTo>
                    <a:lnTo>
                      <a:pt x="119" y="455"/>
                    </a:lnTo>
                    <a:lnTo>
                      <a:pt x="110" y="437"/>
                    </a:lnTo>
                    <a:lnTo>
                      <a:pt x="102" y="418"/>
                    </a:lnTo>
                    <a:lnTo>
                      <a:pt x="94" y="399"/>
                    </a:lnTo>
                    <a:lnTo>
                      <a:pt x="88" y="380"/>
                    </a:lnTo>
                    <a:lnTo>
                      <a:pt x="82" y="362"/>
                    </a:lnTo>
                    <a:lnTo>
                      <a:pt x="78" y="341"/>
                    </a:lnTo>
                    <a:lnTo>
                      <a:pt x="74" y="321"/>
                    </a:lnTo>
                    <a:lnTo>
                      <a:pt x="72" y="301"/>
                    </a:lnTo>
                    <a:lnTo>
                      <a:pt x="70" y="280"/>
                    </a:lnTo>
                    <a:lnTo>
                      <a:pt x="70" y="258"/>
                    </a:lnTo>
                    <a:lnTo>
                      <a:pt x="70" y="243"/>
                    </a:lnTo>
                    <a:lnTo>
                      <a:pt x="71" y="228"/>
                    </a:lnTo>
                    <a:lnTo>
                      <a:pt x="72" y="214"/>
                    </a:lnTo>
                    <a:lnTo>
                      <a:pt x="74" y="199"/>
                    </a:lnTo>
                    <a:lnTo>
                      <a:pt x="76" y="184"/>
                    </a:lnTo>
                    <a:lnTo>
                      <a:pt x="79" y="170"/>
                    </a:lnTo>
                    <a:lnTo>
                      <a:pt x="82" y="157"/>
                    </a:lnTo>
                    <a:lnTo>
                      <a:pt x="85" y="142"/>
                    </a:lnTo>
                    <a:lnTo>
                      <a:pt x="10" y="163"/>
                    </a:lnTo>
                    <a:lnTo>
                      <a:pt x="8" y="175"/>
                    </a:lnTo>
                    <a:lnTo>
                      <a:pt x="6" y="186"/>
                    </a:lnTo>
                    <a:lnTo>
                      <a:pt x="5" y="198"/>
                    </a:lnTo>
                    <a:lnTo>
                      <a:pt x="4" y="209"/>
                    </a:lnTo>
                    <a:lnTo>
                      <a:pt x="2" y="222"/>
                    </a:lnTo>
                    <a:lnTo>
                      <a:pt x="1" y="233"/>
                    </a:lnTo>
                    <a:lnTo>
                      <a:pt x="0" y="246"/>
                    </a:lnTo>
                    <a:lnTo>
                      <a:pt x="0" y="258"/>
                    </a:lnTo>
                    <a:lnTo>
                      <a:pt x="1" y="283"/>
                    </a:lnTo>
                    <a:lnTo>
                      <a:pt x="4" y="307"/>
                    </a:lnTo>
                    <a:lnTo>
                      <a:pt x="7" y="331"/>
                    </a:lnTo>
                    <a:lnTo>
                      <a:pt x="11" y="355"/>
                    </a:lnTo>
                    <a:lnTo>
                      <a:pt x="16" y="378"/>
                    </a:lnTo>
                    <a:lnTo>
                      <a:pt x="22" y="401"/>
                    </a:lnTo>
                    <a:lnTo>
                      <a:pt x="30" y="424"/>
                    </a:lnTo>
                    <a:lnTo>
                      <a:pt x="38" y="446"/>
                    </a:lnTo>
                    <a:lnTo>
                      <a:pt x="48" y="467"/>
                    </a:lnTo>
                    <a:lnTo>
                      <a:pt x="59" y="488"/>
                    </a:lnTo>
                    <a:lnTo>
                      <a:pt x="71" y="508"/>
                    </a:lnTo>
                    <a:lnTo>
                      <a:pt x="83" y="527"/>
                    </a:lnTo>
                    <a:lnTo>
                      <a:pt x="96" y="546"/>
                    </a:lnTo>
                    <a:lnTo>
                      <a:pt x="111" y="564"/>
                    </a:lnTo>
                    <a:lnTo>
                      <a:pt x="125" y="581"/>
                    </a:lnTo>
                    <a:lnTo>
                      <a:pt x="141" y="598"/>
                    </a:lnTo>
                    <a:lnTo>
                      <a:pt x="158" y="614"/>
                    </a:lnTo>
                    <a:lnTo>
                      <a:pt x="176" y="629"/>
                    </a:lnTo>
                    <a:lnTo>
                      <a:pt x="194" y="644"/>
                    </a:lnTo>
                    <a:lnTo>
                      <a:pt x="213" y="657"/>
                    </a:lnTo>
                    <a:lnTo>
                      <a:pt x="233" y="669"/>
                    </a:lnTo>
                    <a:lnTo>
                      <a:pt x="253" y="681"/>
                    </a:lnTo>
                    <a:lnTo>
                      <a:pt x="274" y="691"/>
                    </a:lnTo>
                    <a:lnTo>
                      <a:pt x="295" y="701"/>
                    </a:lnTo>
                    <a:lnTo>
                      <a:pt x="317" y="710"/>
                    </a:lnTo>
                    <a:lnTo>
                      <a:pt x="339" y="718"/>
                    </a:lnTo>
                    <a:lnTo>
                      <a:pt x="362" y="724"/>
                    </a:lnTo>
                    <a:lnTo>
                      <a:pt x="385" y="729"/>
                    </a:lnTo>
                    <a:lnTo>
                      <a:pt x="409" y="733"/>
                    </a:lnTo>
                    <a:lnTo>
                      <a:pt x="433" y="736"/>
                    </a:lnTo>
                    <a:lnTo>
                      <a:pt x="458" y="739"/>
                    </a:lnTo>
                    <a:lnTo>
                      <a:pt x="482" y="739"/>
                    </a:lnTo>
                    <a:lnTo>
                      <a:pt x="507" y="739"/>
                    </a:lnTo>
                    <a:lnTo>
                      <a:pt x="531" y="736"/>
                    </a:lnTo>
                    <a:lnTo>
                      <a:pt x="555" y="733"/>
                    </a:lnTo>
                    <a:lnTo>
                      <a:pt x="580" y="729"/>
                    </a:lnTo>
                    <a:lnTo>
                      <a:pt x="603" y="724"/>
                    </a:lnTo>
                    <a:lnTo>
                      <a:pt x="626" y="718"/>
                    </a:lnTo>
                    <a:lnTo>
                      <a:pt x="648" y="710"/>
                    </a:lnTo>
                    <a:lnTo>
                      <a:pt x="670" y="701"/>
                    </a:lnTo>
                    <a:lnTo>
                      <a:pt x="691" y="691"/>
                    </a:lnTo>
                    <a:lnTo>
                      <a:pt x="712" y="681"/>
                    </a:lnTo>
                    <a:lnTo>
                      <a:pt x="732" y="669"/>
                    </a:lnTo>
                    <a:lnTo>
                      <a:pt x="752" y="657"/>
                    </a:lnTo>
                    <a:lnTo>
                      <a:pt x="770" y="644"/>
                    </a:lnTo>
                    <a:lnTo>
                      <a:pt x="789" y="629"/>
                    </a:lnTo>
                    <a:lnTo>
                      <a:pt x="806" y="614"/>
                    </a:lnTo>
                    <a:lnTo>
                      <a:pt x="822" y="598"/>
                    </a:lnTo>
                    <a:lnTo>
                      <a:pt x="838" y="581"/>
                    </a:lnTo>
                    <a:lnTo>
                      <a:pt x="854" y="564"/>
                    </a:lnTo>
                    <a:lnTo>
                      <a:pt x="868" y="546"/>
                    </a:lnTo>
                    <a:lnTo>
                      <a:pt x="881" y="527"/>
                    </a:lnTo>
                    <a:lnTo>
                      <a:pt x="894" y="508"/>
                    </a:lnTo>
                    <a:lnTo>
                      <a:pt x="905" y="488"/>
                    </a:lnTo>
                    <a:lnTo>
                      <a:pt x="916" y="467"/>
                    </a:lnTo>
                    <a:lnTo>
                      <a:pt x="926" y="446"/>
                    </a:lnTo>
                    <a:lnTo>
                      <a:pt x="935" y="424"/>
                    </a:lnTo>
                    <a:lnTo>
                      <a:pt x="942" y="401"/>
                    </a:lnTo>
                    <a:lnTo>
                      <a:pt x="948" y="378"/>
                    </a:lnTo>
                    <a:lnTo>
                      <a:pt x="954" y="355"/>
                    </a:lnTo>
                    <a:lnTo>
                      <a:pt x="958" y="331"/>
                    </a:lnTo>
                    <a:lnTo>
                      <a:pt x="961" y="307"/>
                    </a:lnTo>
                    <a:lnTo>
                      <a:pt x="963" y="283"/>
                    </a:lnTo>
                    <a:lnTo>
                      <a:pt x="964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529080" y="2913120"/>
                <a:ext cx="284040" cy="222120"/>
              </a:xfrm>
              <a:custGeom>
                <a:avLst/>
                <a:gdLst/>
                <a:ahLst/>
                <a:rect l="l" t="t" r="r" b="b"/>
                <a:pathLst>
                  <a:path w="895" h="697">
                    <a:moveTo>
                      <a:pt x="895" y="250"/>
                    </a:moveTo>
                    <a:lnTo>
                      <a:pt x="895" y="233"/>
                    </a:lnTo>
                    <a:lnTo>
                      <a:pt x="894" y="216"/>
                    </a:lnTo>
                    <a:lnTo>
                      <a:pt x="891" y="198"/>
                    </a:lnTo>
                    <a:lnTo>
                      <a:pt x="889" y="182"/>
                    </a:lnTo>
                    <a:lnTo>
                      <a:pt x="886" y="166"/>
                    </a:lnTo>
                    <a:lnTo>
                      <a:pt x="883" y="149"/>
                    </a:lnTo>
                    <a:lnTo>
                      <a:pt x="879" y="133"/>
                    </a:lnTo>
                    <a:lnTo>
                      <a:pt x="875" y="117"/>
                    </a:lnTo>
                    <a:lnTo>
                      <a:pt x="869" y="102"/>
                    </a:lnTo>
                    <a:lnTo>
                      <a:pt x="863" y="86"/>
                    </a:lnTo>
                    <a:lnTo>
                      <a:pt x="857" y="71"/>
                    </a:lnTo>
                    <a:lnTo>
                      <a:pt x="850" y="56"/>
                    </a:lnTo>
                    <a:lnTo>
                      <a:pt x="843" y="42"/>
                    </a:lnTo>
                    <a:lnTo>
                      <a:pt x="836" y="28"/>
                    </a:lnTo>
                    <a:lnTo>
                      <a:pt x="827" y="13"/>
                    </a:lnTo>
                    <a:lnTo>
                      <a:pt x="818" y="0"/>
                    </a:lnTo>
                    <a:lnTo>
                      <a:pt x="746" y="19"/>
                    </a:lnTo>
                    <a:lnTo>
                      <a:pt x="756" y="31"/>
                    </a:lnTo>
                    <a:lnTo>
                      <a:pt x="764" y="44"/>
                    </a:lnTo>
                    <a:lnTo>
                      <a:pt x="773" y="56"/>
                    </a:lnTo>
                    <a:lnTo>
                      <a:pt x="780" y="70"/>
                    </a:lnTo>
                    <a:lnTo>
                      <a:pt x="787" y="84"/>
                    </a:lnTo>
                    <a:lnTo>
                      <a:pt x="794" y="97"/>
                    </a:lnTo>
                    <a:lnTo>
                      <a:pt x="799" y="111"/>
                    </a:lnTo>
                    <a:lnTo>
                      <a:pt x="805" y="126"/>
                    </a:lnTo>
                    <a:lnTo>
                      <a:pt x="809" y="140"/>
                    </a:lnTo>
                    <a:lnTo>
                      <a:pt x="814" y="155"/>
                    </a:lnTo>
                    <a:lnTo>
                      <a:pt x="817" y="171"/>
                    </a:lnTo>
                    <a:lnTo>
                      <a:pt x="820" y="187"/>
                    </a:lnTo>
                    <a:lnTo>
                      <a:pt x="822" y="201"/>
                    </a:lnTo>
                    <a:lnTo>
                      <a:pt x="824" y="218"/>
                    </a:lnTo>
                    <a:lnTo>
                      <a:pt x="825" y="234"/>
                    </a:lnTo>
                    <a:lnTo>
                      <a:pt x="825" y="250"/>
                    </a:lnTo>
                    <a:lnTo>
                      <a:pt x="825" y="270"/>
                    </a:lnTo>
                    <a:lnTo>
                      <a:pt x="824" y="288"/>
                    </a:lnTo>
                    <a:lnTo>
                      <a:pt x="821" y="307"/>
                    </a:lnTo>
                    <a:lnTo>
                      <a:pt x="818" y="326"/>
                    </a:lnTo>
                    <a:lnTo>
                      <a:pt x="814" y="344"/>
                    </a:lnTo>
                    <a:lnTo>
                      <a:pt x="808" y="362"/>
                    </a:lnTo>
                    <a:lnTo>
                      <a:pt x="802" y="380"/>
                    </a:lnTo>
                    <a:lnTo>
                      <a:pt x="796" y="397"/>
                    </a:lnTo>
                    <a:lnTo>
                      <a:pt x="788" y="413"/>
                    </a:lnTo>
                    <a:lnTo>
                      <a:pt x="780" y="430"/>
                    </a:lnTo>
                    <a:lnTo>
                      <a:pt x="771" y="446"/>
                    </a:lnTo>
                    <a:lnTo>
                      <a:pt x="761" y="462"/>
                    </a:lnTo>
                    <a:lnTo>
                      <a:pt x="751" y="476"/>
                    </a:lnTo>
                    <a:lnTo>
                      <a:pt x="739" y="490"/>
                    </a:lnTo>
                    <a:lnTo>
                      <a:pt x="727" y="504"/>
                    </a:lnTo>
                    <a:lnTo>
                      <a:pt x="715" y="517"/>
                    </a:lnTo>
                    <a:lnTo>
                      <a:pt x="701" y="530"/>
                    </a:lnTo>
                    <a:lnTo>
                      <a:pt x="687" y="542"/>
                    </a:lnTo>
                    <a:lnTo>
                      <a:pt x="674" y="553"/>
                    </a:lnTo>
                    <a:lnTo>
                      <a:pt x="659" y="564"/>
                    </a:lnTo>
                    <a:lnTo>
                      <a:pt x="643" y="573"/>
                    </a:lnTo>
                    <a:lnTo>
                      <a:pt x="628" y="582"/>
                    </a:lnTo>
                    <a:lnTo>
                      <a:pt x="611" y="591"/>
                    </a:lnTo>
                    <a:lnTo>
                      <a:pt x="595" y="598"/>
                    </a:lnTo>
                    <a:lnTo>
                      <a:pt x="577" y="606"/>
                    </a:lnTo>
                    <a:lnTo>
                      <a:pt x="559" y="611"/>
                    </a:lnTo>
                    <a:lnTo>
                      <a:pt x="541" y="616"/>
                    </a:lnTo>
                    <a:lnTo>
                      <a:pt x="524" y="620"/>
                    </a:lnTo>
                    <a:lnTo>
                      <a:pt x="505" y="623"/>
                    </a:lnTo>
                    <a:lnTo>
                      <a:pt x="486" y="626"/>
                    </a:lnTo>
                    <a:lnTo>
                      <a:pt x="467" y="628"/>
                    </a:lnTo>
                    <a:lnTo>
                      <a:pt x="447" y="628"/>
                    </a:lnTo>
                    <a:lnTo>
                      <a:pt x="428" y="628"/>
                    </a:lnTo>
                    <a:lnTo>
                      <a:pt x="409" y="626"/>
                    </a:lnTo>
                    <a:lnTo>
                      <a:pt x="390" y="623"/>
                    </a:lnTo>
                    <a:lnTo>
                      <a:pt x="371" y="620"/>
                    </a:lnTo>
                    <a:lnTo>
                      <a:pt x="352" y="616"/>
                    </a:lnTo>
                    <a:lnTo>
                      <a:pt x="334" y="611"/>
                    </a:lnTo>
                    <a:lnTo>
                      <a:pt x="317" y="606"/>
                    </a:lnTo>
                    <a:lnTo>
                      <a:pt x="300" y="598"/>
                    </a:lnTo>
                    <a:lnTo>
                      <a:pt x="283" y="591"/>
                    </a:lnTo>
                    <a:lnTo>
                      <a:pt x="267" y="582"/>
                    </a:lnTo>
                    <a:lnTo>
                      <a:pt x="251" y="573"/>
                    </a:lnTo>
                    <a:lnTo>
                      <a:pt x="235" y="564"/>
                    </a:lnTo>
                    <a:lnTo>
                      <a:pt x="221" y="553"/>
                    </a:lnTo>
                    <a:lnTo>
                      <a:pt x="206" y="542"/>
                    </a:lnTo>
                    <a:lnTo>
                      <a:pt x="192" y="530"/>
                    </a:lnTo>
                    <a:lnTo>
                      <a:pt x="180" y="517"/>
                    </a:lnTo>
                    <a:lnTo>
                      <a:pt x="167" y="504"/>
                    </a:lnTo>
                    <a:lnTo>
                      <a:pt x="156" y="490"/>
                    </a:lnTo>
                    <a:lnTo>
                      <a:pt x="144" y="476"/>
                    </a:lnTo>
                    <a:lnTo>
                      <a:pt x="134" y="462"/>
                    </a:lnTo>
                    <a:lnTo>
                      <a:pt x="123" y="446"/>
                    </a:lnTo>
                    <a:lnTo>
                      <a:pt x="115" y="430"/>
                    </a:lnTo>
                    <a:lnTo>
                      <a:pt x="106" y="413"/>
                    </a:lnTo>
                    <a:lnTo>
                      <a:pt x="99" y="397"/>
                    </a:lnTo>
                    <a:lnTo>
                      <a:pt x="91" y="380"/>
                    </a:lnTo>
                    <a:lnTo>
                      <a:pt x="86" y="362"/>
                    </a:lnTo>
                    <a:lnTo>
                      <a:pt x="81" y="344"/>
                    </a:lnTo>
                    <a:lnTo>
                      <a:pt x="77" y="326"/>
                    </a:lnTo>
                    <a:lnTo>
                      <a:pt x="74" y="307"/>
                    </a:lnTo>
                    <a:lnTo>
                      <a:pt x="70" y="288"/>
                    </a:lnTo>
                    <a:lnTo>
                      <a:pt x="69" y="270"/>
                    </a:lnTo>
                    <a:lnTo>
                      <a:pt x="68" y="250"/>
                    </a:lnTo>
                    <a:lnTo>
                      <a:pt x="69" y="235"/>
                    </a:lnTo>
                    <a:lnTo>
                      <a:pt x="70" y="220"/>
                    </a:lnTo>
                    <a:lnTo>
                      <a:pt x="72" y="204"/>
                    </a:lnTo>
                    <a:lnTo>
                      <a:pt x="74" y="190"/>
                    </a:lnTo>
                    <a:lnTo>
                      <a:pt x="76" y="176"/>
                    </a:lnTo>
                    <a:lnTo>
                      <a:pt x="79" y="161"/>
                    </a:lnTo>
                    <a:lnTo>
                      <a:pt x="83" y="148"/>
                    </a:lnTo>
                    <a:lnTo>
                      <a:pt x="87" y="133"/>
                    </a:lnTo>
                    <a:lnTo>
                      <a:pt x="55" y="133"/>
                    </a:lnTo>
                    <a:lnTo>
                      <a:pt x="13" y="145"/>
                    </a:lnTo>
                    <a:lnTo>
                      <a:pt x="9" y="157"/>
                    </a:lnTo>
                    <a:lnTo>
                      <a:pt x="7" y="170"/>
                    </a:lnTo>
                    <a:lnTo>
                      <a:pt x="5" y="183"/>
                    </a:lnTo>
                    <a:lnTo>
                      <a:pt x="3" y="196"/>
                    </a:lnTo>
                    <a:lnTo>
                      <a:pt x="2" y="210"/>
                    </a:lnTo>
                    <a:lnTo>
                      <a:pt x="1" y="223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1" y="273"/>
                    </a:lnTo>
                    <a:lnTo>
                      <a:pt x="2" y="296"/>
                    </a:lnTo>
                    <a:lnTo>
                      <a:pt x="5" y="318"/>
                    </a:lnTo>
                    <a:lnTo>
                      <a:pt x="9" y="340"/>
                    </a:lnTo>
                    <a:lnTo>
                      <a:pt x="14" y="362"/>
                    </a:lnTo>
                    <a:lnTo>
                      <a:pt x="20" y="383"/>
                    </a:lnTo>
                    <a:lnTo>
                      <a:pt x="27" y="404"/>
                    </a:lnTo>
                    <a:lnTo>
                      <a:pt x="35" y="424"/>
                    </a:lnTo>
                    <a:lnTo>
                      <a:pt x="44" y="444"/>
                    </a:lnTo>
                    <a:lnTo>
                      <a:pt x="54" y="463"/>
                    </a:lnTo>
                    <a:lnTo>
                      <a:pt x="64" y="482"/>
                    </a:lnTo>
                    <a:lnTo>
                      <a:pt x="77" y="500"/>
                    </a:lnTo>
                    <a:lnTo>
                      <a:pt x="88" y="517"/>
                    </a:lnTo>
                    <a:lnTo>
                      <a:pt x="102" y="534"/>
                    </a:lnTo>
                    <a:lnTo>
                      <a:pt x="116" y="550"/>
                    </a:lnTo>
                    <a:lnTo>
                      <a:pt x="131" y="566"/>
                    </a:lnTo>
                    <a:lnTo>
                      <a:pt x="146" y="580"/>
                    </a:lnTo>
                    <a:lnTo>
                      <a:pt x="163" y="595"/>
                    </a:lnTo>
                    <a:lnTo>
                      <a:pt x="180" y="608"/>
                    </a:lnTo>
                    <a:lnTo>
                      <a:pt x="198" y="620"/>
                    </a:lnTo>
                    <a:lnTo>
                      <a:pt x="216" y="632"/>
                    </a:lnTo>
                    <a:lnTo>
                      <a:pt x="234" y="642"/>
                    </a:lnTo>
                    <a:lnTo>
                      <a:pt x="253" y="653"/>
                    </a:lnTo>
                    <a:lnTo>
                      <a:pt x="273" y="661"/>
                    </a:lnTo>
                    <a:lnTo>
                      <a:pt x="293" y="670"/>
                    </a:lnTo>
                    <a:lnTo>
                      <a:pt x="314" y="677"/>
                    </a:lnTo>
                    <a:lnTo>
                      <a:pt x="335" y="682"/>
                    </a:lnTo>
                    <a:lnTo>
                      <a:pt x="357" y="687"/>
                    </a:lnTo>
                    <a:lnTo>
                      <a:pt x="379" y="692"/>
                    </a:lnTo>
                    <a:lnTo>
                      <a:pt x="402" y="695"/>
                    </a:lnTo>
                    <a:lnTo>
                      <a:pt x="425" y="696"/>
                    </a:lnTo>
                    <a:lnTo>
                      <a:pt x="447" y="697"/>
                    </a:lnTo>
                    <a:lnTo>
                      <a:pt x="470" y="696"/>
                    </a:lnTo>
                    <a:lnTo>
                      <a:pt x="493" y="695"/>
                    </a:lnTo>
                    <a:lnTo>
                      <a:pt x="515" y="692"/>
                    </a:lnTo>
                    <a:lnTo>
                      <a:pt x="537" y="687"/>
                    </a:lnTo>
                    <a:lnTo>
                      <a:pt x="559" y="682"/>
                    </a:lnTo>
                    <a:lnTo>
                      <a:pt x="580" y="677"/>
                    </a:lnTo>
                    <a:lnTo>
                      <a:pt x="601" y="670"/>
                    </a:lnTo>
                    <a:lnTo>
                      <a:pt x="621" y="661"/>
                    </a:lnTo>
                    <a:lnTo>
                      <a:pt x="641" y="653"/>
                    </a:lnTo>
                    <a:lnTo>
                      <a:pt x="660" y="642"/>
                    </a:lnTo>
                    <a:lnTo>
                      <a:pt x="679" y="632"/>
                    </a:lnTo>
                    <a:lnTo>
                      <a:pt x="697" y="620"/>
                    </a:lnTo>
                    <a:lnTo>
                      <a:pt x="715" y="608"/>
                    </a:lnTo>
                    <a:lnTo>
                      <a:pt x="732" y="595"/>
                    </a:lnTo>
                    <a:lnTo>
                      <a:pt x="747" y="580"/>
                    </a:lnTo>
                    <a:lnTo>
                      <a:pt x="763" y="566"/>
                    </a:lnTo>
                    <a:lnTo>
                      <a:pt x="778" y="550"/>
                    </a:lnTo>
                    <a:lnTo>
                      <a:pt x="793" y="534"/>
                    </a:lnTo>
                    <a:lnTo>
                      <a:pt x="805" y="517"/>
                    </a:lnTo>
                    <a:lnTo>
                      <a:pt x="818" y="500"/>
                    </a:lnTo>
                    <a:lnTo>
                      <a:pt x="829" y="482"/>
                    </a:lnTo>
                    <a:lnTo>
                      <a:pt x="841" y="463"/>
                    </a:lnTo>
                    <a:lnTo>
                      <a:pt x="850" y="444"/>
                    </a:lnTo>
                    <a:lnTo>
                      <a:pt x="859" y="424"/>
                    </a:lnTo>
                    <a:lnTo>
                      <a:pt x="867" y="404"/>
                    </a:lnTo>
                    <a:lnTo>
                      <a:pt x="875" y="383"/>
                    </a:lnTo>
                    <a:lnTo>
                      <a:pt x="880" y="362"/>
                    </a:lnTo>
                    <a:lnTo>
                      <a:pt x="885" y="340"/>
                    </a:lnTo>
                    <a:lnTo>
                      <a:pt x="889" y="318"/>
                    </a:lnTo>
                    <a:lnTo>
                      <a:pt x="892" y="296"/>
                    </a:lnTo>
                    <a:lnTo>
                      <a:pt x="894" y="273"/>
                    </a:lnTo>
                    <a:lnTo>
                      <a:pt x="895" y="25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540240" y="2916360"/>
                <a:ext cx="261720" cy="207720"/>
              </a:xfrm>
              <a:custGeom>
                <a:avLst/>
                <a:gdLst/>
                <a:ahLst/>
                <a:rect l="l" t="t" r="r" b="b"/>
                <a:pathLst>
                  <a:path w="825" h="653">
                    <a:moveTo>
                      <a:pt x="825" y="241"/>
                    </a:moveTo>
                    <a:lnTo>
                      <a:pt x="825" y="224"/>
                    </a:lnTo>
                    <a:lnTo>
                      <a:pt x="824" y="208"/>
                    </a:lnTo>
                    <a:lnTo>
                      <a:pt x="822" y="191"/>
                    </a:lnTo>
                    <a:lnTo>
                      <a:pt x="820" y="176"/>
                    </a:lnTo>
                    <a:lnTo>
                      <a:pt x="816" y="159"/>
                    </a:lnTo>
                    <a:lnTo>
                      <a:pt x="813" y="143"/>
                    </a:lnTo>
                    <a:lnTo>
                      <a:pt x="809" y="127"/>
                    </a:lnTo>
                    <a:lnTo>
                      <a:pt x="805" y="113"/>
                    </a:lnTo>
                    <a:lnTo>
                      <a:pt x="800" y="98"/>
                    </a:lnTo>
                    <a:lnTo>
                      <a:pt x="793" y="83"/>
                    </a:lnTo>
                    <a:lnTo>
                      <a:pt x="787" y="68"/>
                    </a:lnTo>
                    <a:lnTo>
                      <a:pt x="781" y="54"/>
                    </a:lnTo>
                    <a:lnTo>
                      <a:pt x="772" y="40"/>
                    </a:lnTo>
                    <a:lnTo>
                      <a:pt x="765" y="26"/>
                    </a:lnTo>
                    <a:lnTo>
                      <a:pt x="757" y="14"/>
                    </a:lnTo>
                    <a:lnTo>
                      <a:pt x="747" y="0"/>
                    </a:lnTo>
                    <a:lnTo>
                      <a:pt x="698" y="14"/>
                    </a:lnTo>
                    <a:lnTo>
                      <a:pt x="675" y="19"/>
                    </a:lnTo>
                    <a:lnTo>
                      <a:pt x="684" y="31"/>
                    </a:lnTo>
                    <a:lnTo>
                      <a:pt x="692" y="42"/>
                    </a:lnTo>
                    <a:lnTo>
                      <a:pt x="701" y="55"/>
                    </a:lnTo>
                    <a:lnTo>
                      <a:pt x="709" y="67"/>
                    </a:lnTo>
                    <a:lnTo>
                      <a:pt x="717" y="80"/>
                    </a:lnTo>
                    <a:lnTo>
                      <a:pt x="723" y="94"/>
                    </a:lnTo>
                    <a:lnTo>
                      <a:pt x="729" y="107"/>
                    </a:lnTo>
                    <a:lnTo>
                      <a:pt x="734" y="121"/>
                    </a:lnTo>
                    <a:lnTo>
                      <a:pt x="740" y="135"/>
                    </a:lnTo>
                    <a:lnTo>
                      <a:pt x="744" y="149"/>
                    </a:lnTo>
                    <a:lnTo>
                      <a:pt x="747" y="164"/>
                    </a:lnTo>
                    <a:lnTo>
                      <a:pt x="750" y="179"/>
                    </a:lnTo>
                    <a:lnTo>
                      <a:pt x="753" y="194"/>
                    </a:lnTo>
                    <a:lnTo>
                      <a:pt x="754" y="209"/>
                    </a:lnTo>
                    <a:lnTo>
                      <a:pt x="755" y="225"/>
                    </a:lnTo>
                    <a:lnTo>
                      <a:pt x="757" y="241"/>
                    </a:lnTo>
                    <a:lnTo>
                      <a:pt x="755" y="258"/>
                    </a:lnTo>
                    <a:lnTo>
                      <a:pt x="754" y="276"/>
                    </a:lnTo>
                    <a:lnTo>
                      <a:pt x="752" y="293"/>
                    </a:lnTo>
                    <a:lnTo>
                      <a:pt x="749" y="310"/>
                    </a:lnTo>
                    <a:lnTo>
                      <a:pt x="745" y="327"/>
                    </a:lnTo>
                    <a:lnTo>
                      <a:pt x="741" y="344"/>
                    </a:lnTo>
                    <a:lnTo>
                      <a:pt x="736" y="359"/>
                    </a:lnTo>
                    <a:lnTo>
                      <a:pt x="729" y="375"/>
                    </a:lnTo>
                    <a:lnTo>
                      <a:pt x="722" y="390"/>
                    </a:lnTo>
                    <a:lnTo>
                      <a:pt x="714" y="404"/>
                    </a:lnTo>
                    <a:lnTo>
                      <a:pt x="706" y="419"/>
                    </a:lnTo>
                    <a:lnTo>
                      <a:pt x="698" y="433"/>
                    </a:lnTo>
                    <a:lnTo>
                      <a:pt x="688" y="446"/>
                    </a:lnTo>
                    <a:lnTo>
                      <a:pt x="678" y="460"/>
                    </a:lnTo>
                    <a:lnTo>
                      <a:pt x="667" y="472"/>
                    </a:lnTo>
                    <a:lnTo>
                      <a:pt x="656" y="484"/>
                    </a:lnTo>
                    <a:lnTo>
                      <a:pt x="643" y="496"/>
                    </a:lnTo>
                    <a:lnTo>
                      <a:pt x="631" y="506"/>
                    </a:lnTo>
                    <a:lnTo>
                      <a:pt x="618" y="517"/>
                    </a:lnTo>
                    <a:lnTo>
                      <a:pt x="604" y="526"/>
                    </a:lnTo>
                    <a:lnTo>
                      <a:pt x="590" y="535"/>
                    </a:lnTo>
                    <a:lnTo>
                      <a:pt x="576" y="543"/>
                    </a:lnTo>
                    <a:lnTo>
                      <a:pt x="561" y="550"/>
                    </a:lnTo>
                    <a:lnTo>
                      <a:pt x="546" y="558"/>
                    </a:lnTo>
                    <a:lnTo>
                      <a:pt x="531" y="564"/>
                    </a:lnTo>
                    <a:lnTo>
                      <a:pt x="515" y="569"/>
                    </a:lnTo>
                    <a:lnTo>
                      <a:pt x="498" y="573"/>
                    </a:lnTo>
                    <a:lnTo>
                      <a:pt x="481" y="578"/>
                    </a:lnTo>
                    <a:lnTo>
                      <a:pt x="464" y="581"/>
                    </a:lnTo>
                    <a:lnTo>
                      <a:pt x="448" y="583"/>
                    </a:lnTo>
                    <a:lnTo>
                      <a:pt x="430" y="584"/>
                    </a:lnTo>
                    <a:lnTo>
                      <a:pt x="412" y="585"/>
                    </a:lnTo>
                    <a:lnTo>
                      <a:pt x="395" y="584"/>
                    </a:lnTo>
                    <a:lnTo>
                      <a:pt x="377" y="583"/>
                    </a:lnTo>
                    <a:lnTo>
                      <a:pt x="360" y="581"/>
                    </a:lnTo>
                    <a:lnTo>
                      <a:pt x="342" y="578"/>
                    </a:lnTo>
                    <a:lnTo>
                      <a:pt x="327" y="573"/>
                    </a:lnTo>
                    <a:lnTo>
                      <a:pt x="310" y="569"/>
                    </a:lnTo>
                    <a:lnTo>
                      <a:pt x="294" y="564"/>
                    </a:lnTo>
                    <a:lnTo>
                      <a:pt x="278" y="558"/>
                    </a:lnTo>
                    <a:lnTo>
                      <a:pt x="264" y="550"/>
                    </a:lnTo>
                    <a:lnTo>
                      <a:pt x="248" y="543"/>
                    </a:lnTo>
                    <a:lnTo>
                      <a:pt x="234" y="535"/>
                    </a:lnTo>
                    <a:lnTo>
                      <a:pt x="219" y="526"/>
                    </a:lnTo>
                    <a:lnTo>
                      <a:pt x="207" y="517"/>
                    </a:lnTo>
                    <a:lnTo>
                      <a:pt x="193" y="506"/>
                    </a:lnTo>
                    <a:lnTo>
                      <a:pt x="181" y="496"/>
                    </a:lnTo>
                    <a:lnTo>
                      <a:pt x="169" y="484"/>
                    </a:lnTo>
                    <a:lnTo>
                      <a:pt x="157" y="472"/>
                    </a:lnTo>
                    <a:lnTo>
                      <a:pt x="147" y="460"/>
                    </a:lnTo>
                    <a:lnTo>
                      <a:pt x="136" y="446"/>
                    </a:lnTo>
                    <a:lnTo>
                      <a:pt x="127" y="433"/>
                    </a:lnTo>
                    <a:lnTo>
                      <a:pt x="117" y="419"/>
                    </a:lnTo>
                    <a:lnTo>
                      <a:pt x="110" y="404"/>
                    </a:lnTo>
                    <a:lnTo>
                      <a:pt x="102" y="390"/>
                    </a:lnTo>
                    <a:lnTo>
                      <a:pt x="95" y="375"/>
                    </a:lnTo>
                    <a:lnTo>
                      <a:pt x="89" y="359"/>
                    </a:lnTo>
                    <a:lnTo>
                      <a:pt x="84" y="344"/>
                    </a:lnTo>
                    <a:lnTo>
                      <a:pt x="79" y="327"/>
                    </a:lnTo>
                    <a:lnTo>
                      <a:pt x="75" y="310"/>
                    </a:lnTo>
                    <a:lnTo>
                      <a:pt x="72" y="293"/>
                    </a:lnTo>
                    <a:lnTo>
                      <a:pt x="70" y="276"/>
                    </a:lnTo>
                    <a:lnTo>
                      <a:pt x="69" y="258"/>
                    </a:lnTo>
                    <a:lnTo>
                      <a:pt x="68" y="241"/>
                    </a:lnTo>
                    <a:lnTo>
                      <a:pt x="68" y="226"/>
                    </a:lnTo>
                    <a:lnTo>
                      <a:pt x="69" y="210"/>
                    </a:lnTo>
                    <a:lnTo>
                      <a:pt x="71" y="195"/>
                    </a:lnTo>
                    <a:lnTo>
                      <a:pt x="73" y="181"/>
                    </a:lnTo>
                    <a:lnTo>
                      <a:pt x="76" y="167"/>
                    </a:lnTo>
                    <a:lnTo>
                      <a:pt x="80" y="152"/>
                    </a:lnTo>
                    <a:lnTo>
                      <a:pt x="84" y="139"/>
                    </a:lnTo>
                    <a:lnTo>
                      <a:pt x="89" y="124"/>
                    </a:lnTo>
                    <a:lnTo>
                      <a:pt x="20" y="124"/>
                    </a:lnTo>
                    <a:lnTo>
                      <a:pt x="15" y="125"/>
                    </a:lnTo>
                    <a:lnTo>
                      <a:pt x="12" y="140"/>
                    </a:lnTo>
                    <a:lnTo>
                      <a:pt x="9" y="153"/>
                    </a:lnTo>
                    <a:lnTo>
                      <a:pt x="6" y="167"/>
                    </a:lnTo>
                    <a:lnTo>
                      <a:pt x="4" y="182"/>
                    </a:lnTo>
                    <a:lnTo>
                      <a:pt x="2" y="197"/>
                    </a:lnTo>
                    <a:lnTo>
                      <a:pt x="1" y="211"/>
                    </a:lnTo>
                    <a:lnTo>
                      <a:pt x="0" y="226"/>
                    </a:lnTo>
                    <a:lnTo>
                      <a:pt x="0" y="241"/>
                    </a:lnTo>
                    <a:lnTo>
                      <a:pt x="0" y="263"/>
                    </a:lnTo>
                    <a:lnTo>
                      <a:pt x="2" y="284"/>
                    </a:lnTo>
                    <a:lnTo>
                      <a:pt x="4" y="304"/>
                    </a:lnTo>
                    <a:lnTo>
                      <a:pt x="8" y="324"/>
                    </a:lnTo>
                    <a:lnTo>
                      <a:pt x="12" y="345"/>
                    </a:lnTo>
                    <a:lnTo>
                      <a:pt x="18" y="363"/>
                    </a:lnTo>
                    <a:lnTo>
                      <a:pt x="24" y="382"/>
                    </a:lnTo>
                    <a:lnTo>
                      <a:pt x="32" y="401"/>
                    </a:lnTo>
                    <a:lnTo>
                      <a:pt x="40" y="420"/>
                    </a:lnTo>
                    <a:lnTo>
                      <a:pt x="49" y="438"/>
                    </a:lnTo>
                    <a:lnTo>
                      <a:pt x="59" y="455"/>
                    </a:lnTo>
                    <a:lnTo>
                      <a:pt x="70" y="472"/>
                    </a:lnTo>
                    <a:lnTo>
                      <a:pt x="82" y="487"/>
                    </a:lnTo>
                    <a:lnTo>
                      <a:pt x="93" y="503"/>
                    </a:lnTo>
                    <a:lnTo>
                      <a:pt x="107" y="518"/>
                    </a:lnTo>
                    <a:lnTo>
                      <a:pt x="121" y="533"/>
                    </a:lnTo>
                    <a:lnTo>
                      <a:pt x="134" y="546"/>
                    </a:lnTo>
                    <a:lnTo>
                      <a:pt x="150" y="559"/>
                    </a:lnTo>
                    <a:lnTo>
                      <a:pt x="165" y="571"/>
                    </a:lnTo>
                    <a:lnTo>
                      <a:pt x="182" y="583"/>
                    </a:lnTo>
                    <a:lnTo>
                      <a:pt x="198" y="593"/>
                    </a:lnTo>
                    <a:lnTo>
                      <a:pt x="215" y="604"/>
                    </a:lnTo>
                    <a:lnTo>
                      <a:pt x="233" y="612"/>
                    </a:lnTo>
                    <a:lnTo>
                      <a:pt x="252" y="621"/>
                    </a:lnTo>
                    <a:lnTo>
                      <a:pt x="270" y="628"/>
                    </a:lnTo>
                    <a:lnTo>
                      <a:pt x="290" y="634"/>
                    </a:lnTo>
                    <a:lnTo>
                      <a:pt x="309" y="641"/>
                    </a:lnTo>
                    <a:lnTo>
                      <a:pt x="329" y="645"/>
                    </a:lnTo>
                    <a:lnTo>
                      <a:pt x="350" y="649"/>
                    </a:lnTo>
                    <a:lnTo>
                      <a:pt x="370" y="651"/>
                    </a:lnTo>
                    <a:lnTo>
                      <a:pt x="391" y="653"/>
                    </a:lnTo>
                    <a:lnTo>
                      <a:pt x="412" y="653"/>
                    </a:lnTo>
                    <a:lnTo>
                      <a:pt x="434" y="653"/>
                    </a:lnTo>
                    <a:lnTo>
                      <a:pt x="455" y="651"/>
                    </a:lnTo>
                    <a:lnTo>
                      <a:pt x="475" y="649"/>
                    </a:lnTo>
                    <a:lnTo>
                      <a:pt x="496" y="645"/>
                    </a:lnTo>
                    <a:lnTo>
                      <a:pt x="515" y="641"/>
                    </a:lnTo>
                    <a:lnTo>
                      <a:pt x="535" y="634"/>
                    </a:lnTo>
                    <a:lnTo>
                      <a:pt x="554" y="628"/>
                    </a:lnTo>
                    <a:lnTo>
                      <a:pt x="573" y="621"/>
                    </a:lnTo>
                    <a:lnTo>
                      <a:pt x="592" y="612"/>
                    </a:lnTo>
                    <a:lnTo>
                      <a:pt x="609" y="604"/>
                    </a:lnTo>
                    <a:lnTo>
                      <a:pt x="626" y="593"/>
                    </a:lnTo>
                    <a:lnTo>
                      <a:pt x="643" y="583"/>
                    </a:lnTo>
                    <a:lnTo>
                      <a:pt x="659" y="571"/>
                    </a:lnTo>
                    <a:lnTo>
                      <a:pt x="675" y="559"/>
                    </a:lnTo>
                    <a:lnTo>
                      <a:pt x="689" y="546"/>
                    </a:lnTo>
                    <a:lnTo>
                      <a:pt x="704" y="533"/>
                    </a:lnTo>
                    <a:lnTo>
                      <a:pt x="718" y="518"/>
                    </a:lnTo>
                    <a:lnTo>
                      <a:pt x="730" y="503"/>
                    </a:lnTo>
                    <a:lnTo>
                      <a:pt x="743" y="487"/>
                    </a:lnTo>
                    <a:lnTo>
                      <a:pt x="754" y="472"/>
                    </a:lnTo>
                    <a:lnTo>
                      <a:pt x="765" y="455"/>
                    </a:lnTo>
                    <a:lnTo>
                      <a:pt x="775" y="438"/>
                    </a:lnTo>
                    <a:lnTo>
                      <a:pt x="784" y="420"/>
                    </a:lnTo>
                    <a:lnTo>
                      <a:pt x="792" y="401"/>
                    </a:lnTo>
                    <a:lnTo>
                      <a:pt x="800" y="382"/>
                    </a:lnTo>
                    <a:lnTo>
                      <a:pt x="806" y="363"/>
                    </a:lnTo>
                    <a:lnTo>
                      <a:pt x="812" y="345"/>
                    </a:lnTo>
                    <a:lnTo>
                      <a:pt x="816" y="324"/>
                    </a:lnTo>
                    <a:lnTo>
                      <a:pt x="821" y="304"/>
                    </a:lnTo>
                    <a:lnTo>
                      <a:pt x="823" y="284"/>
                    </a:lnTo>
                    <a:lnTo>
                      <a:pt x="825" y="263"/>
                    </a:lnTo>
                    <a:lnTo>
                      <a:pt x="825" y="241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551400" y="2919240"/>
                <a:ext cx="239400" cy="193680"/>
              </a:xfrm>
              <a:custGeom>
                <a:avLst/>
                <a:gdLst/>
                <a:ahLst/>
                <a:rect l="l" t="t" r="r" b="b"/>
                <a:pathLst>
                  <a:path w="757" h="609">
                    <a:moveTo>
                      <a:pt x="757" y="231"/>
                    </a:moveTo>
                    <a:lnTo>
                      <a:pt x="757" y="215"/>
                    </a:lnTo>
                    <a:lnTo>
                      <a:pt x="756" y="199"/>
                    </a:lnTo>
                    <a:lnTo>
                      <a:pt x="754" y="182"/>
                    </a:lnTo>
                    <a:lnTo>
                      <a:pt x="752" y="168"/>
                    </a:lnTo>
                    <a:lnTo>
                      <a:pt x="749" y="152"/>
                    </a:lnTo>
                    <a:lnTo>
                      <a:pt x="746" y="136"/>
                    </a:lnTo>
                    <a:lnTo>
                      <a:pt x="741" y="121"/>
                    </a:lnTo>
                    <a:lnTo>
                      <a:pt x="737" y="107"/>
                    </a:lnTo>
                    <a:lnTo>
                      <a:pt x="731" y="92"/>
                    </a:lnTo>
                    <a:lnTo>
                      <a:pt x="726" y="78"/>
                    </a:lnTo>
                    <a:lnTo>
                      <a:pt x="719" y="65"/>
                    </a:lnTo>
                    <a:lnTo>
                      <a:pt x="712" y="51"/>
                    </a:lnTo>
                    <a:lnTo>
                      <a:pt x="705" y="37"/>
                    </a:lnTo>
                    <a:lnTo>
                      <a:pt x="696" y="25"/>
                    </a:lnTo>
                    <a:lnTo>
                      <a:pt x="688" y="12"/>
                    </a:lnTo>
                    <a:lnTo>
                      <a:pt x="678" y="0"/>
                    </a:lnTo>
                    <a:lnTo>
                      <a:pt x="665" y="4"/>
                    </a:lnTo>
                    <a:lnTo>
                      <a:pt x="604" y="17"/>
                    </a:lnTo>
                    <a:lnTo>
                      <a:pt x="613" y="29"/>
                    </a:lnTo>
                    <a:lnTo>
                      <a:pt x="623" y="40"/>
                    </a:lnTo>
                    <a:lnTo>
                      <a:pt x="631" y="51"/>
                    </a:lnTo>
                    <a:lnTo>
                      <a:pt x="639" y="63"/>
                    </a:lnTo>
                    <a:lnTo>
                      <a:pt x="647" y="75"/>
                    </a:lnTo>
                    <a:lnTo>
                      <a:pt x="654" y="88"/>
                    </a:lnTo>
                    <a:lnTo>
                      <a:pt x="660" y="101"/>
                    </a:lnTo>
                    <a:lnTo>
                      <a:pt x="666" y="114"/>
                    </a:lnTo>
                    <a:lnTo>
                      <a:pt x="671" y="128"/>
                    </a:lnTo>
                    <a:lnTo>
                      <a:pt x="676" y="142"/>
                    </a:lnTo>
                    <a:lnTo>
                      <a:pt x="679" y="156"/>
                    </a:lnTo>
                    <a:lnTo>
                      <a:pt x="683" y="171"/>
                    </a:lnTo>
                    <a:lnTo>
                      <a:pt x="686" y="185"/>
                    </a:lnTo>
                    <a:lnTo>
                      <a:pt x="688" y="200"/>
                    </a:lnTo>
                    <a:lnTo>
                      <a:pt x="689" y="216"/>
                    </a:lnTo>
                    <a:lnTo>
                      <a:pt x="689" y="231"/>
                    </a:lnTo>
                    <a:lnTo>
                      <a:pt x="689" y="246"/>
                    </a:lnTo>
                    <a:lnTo>
                      <a:pt x="687" y="262"/>
                    </a:lnTo>
                    <a:lnTo>
                      <a:pt x="686" y="278"/>
                    </a:lnTo>
                    <a:lnTo>
                      <a:pt x="683" y="294"/>
                    </a:lnTo>
                    <a:lnTo>
                      <a:pt x="679" y="308"/>
                    </a:lnTo>
                    <a:lnTo>
                      <a:pt x="675" y="323"/>
                    </a:lnTo>
                    <a:lnTo>
                      <a:pt x="670" y="338"/>
                    </a:lnTo>
                    <a:lnTo>
                      <a:pt x="665" y="351"/>
                    </a:lnTo>
                    <a:lnTo>
                      <a:pt x="658" y="365"/>
                    </a:lnTo>
                    <a:lnTo>
                      <a:pt x="651" y="379"/>
                    </a:lnTo>
                    <a:lnTo>
                      <a:pt x="644" y="391"/>
                    </a:lnTo>
                    <a:lnTo>
                      <a:pt x="636" y="404"/>
                    </a:lnTo>
                    <a:lnTo>
                      <a:pt x="627" y="416"/>
                    </a:lnTo>
                    <a:lnTo>
                      <a:pt x="618" y="428"/>
                    </a:lnTo>
                    <a:lnTo>
                      <a:pt x="608" y="439"/>
                    </a:lnTo>
                    <a:lnTo>
                      <a:pt x="598" y="450"/>
                    </a:lnTo>
                    <a:lnTo>
                      <a:pt x="587" y="460"/>
                    </a:lnTo>
                    <a:lnTo>
                      <a:pt x="576" y="470"/>
                    </a:lnTo>
                    <a:lnTo>
                      <a:pt x="565" y="478"/>
                    </a:lnTo>
                    <a:lnTo>
                      <a:pt x="552" y="488"/>
                    </a:lnTo>
                    <a:lnTo>
                      <a:pt x="540" y="495"/>
                    </a:lnTo>
                    <a:lnTo>
                      <a:pt x="527" y="503"/>
                    </a:lnTo>
                    <a:lnTo>
                      <a:pt x="513" y="510"/>
                    </a:lnTo>
                    <a:lnTo>
                      <a:pt x="500" y="516"/>
                    </a:lnTo>
                    <a:lnTo>
                      <a:pt x="486" y="521"/>
                    </a:lnTo>
                    <a:lnTo>
                      <a:pt x="471" y="527"/>
                    </a:lnTo>
                    <a:lnTo>
                      <a:pt x="457" y="531"/>
                    </a:lnTo>
                    <a:lnTo>
                      <a:pt x="442" y="534"/>
                    </a:lnTo>
                    <a:lnTo>
                      <a:pt x="426" y="536"/>
                    </a:lnTo>
                    <a:lnTo>
                      <a:pt x="410" y="538"/>
                    </a:lnTo>
                    <a:lnTo>
                      <a:pt x="396" y="539"/>
                    </a:lnTo>
                    <a:lnTo>
                      <a:pt x="379" y="540"/>
                    </a:lnTo>
                    <a:lnTo>
                      <a:pt x="363" y="539"/>
                    </a:lnTo>
                    <a:lnTo>
                      <a:pt x="347" y="538"/>
                    </a:lnTo>
                    <a:lnTo>
                      <a:pt x="333" y="536"/>
                    </a:lnTo>
                    <a:lnTo>
                      <a:pt x="317" y="534"/>
                    </a:lnTo>
                    <a:lnTo>
                      <a:pt x="302" y="531"/>
                    </a:lnTo>
                    <a:lnTo>
                      <a:pt x="287" y="527"/>
                    </a:lnTo>
                    <a:lnTo>
                      <a:pt x="273" y="521"/>
                    </a:lnTo>
                    <a:lnTo>
                      <a:pt x="259" y="516"/>
                    </a:lnTo>
                    <a:lnTo>
                      <a:pt x="245" y="510"/>
                    </a:lnTo>
                    <a:lnTo>
                      <a:pt x="232" y="503"/>
                    </a:lnTo>
                    <a:lnTo>
                      <a:pt x="219" y="495"/>
                    </a:lnTo>
                    <a:lnTo>
                      <a:pt x="206" y="488"/>
                    </a:lnTo>
                    <a:lnTo>
                      <a:pt x="194" y="478"/>
                    </a:lnTo>
                    <a:lnTo>
                      <a:pt x="182" y="470"/>
                    </a:lnTo>
                    <a:lnTo>
                      <a:pt x="171" y="460"/>
                    </a:lnTo>
                    <a:lnTo>
                      <a:pt x="160" y="450"/>
                    </a:lnTo>
                    <a:lnTo>
                      <a:pt x="150" y="439"/>
                    </a:lnTo>
                    <a:lnTo>
                      <a:pt x="140" y="428"/>
                    </a:lnTo>
                    <a:lnTo>
                      <a:pt x="131" y="416"/>
                    </a:lnTo>
                    <a:lnTo>
                      <a:pt x="122" y="404"/>
                    </a:lnTo>
                    <a:lnTo>
                      <a:pt x="114" y="391"/>
                    </a:lnTo>
                    <a:lnTo>
                      <a:pt x="107" y="379"/>
                    </a:lnTo>
                    <a:lnTo>
                      <a:pt x="100" y="365"/>
                    </a:lnTo>
                    <a:lnTo>
                      <a:pt x="94" y="351"/>
                    </a:lnTo>
                    <a:lnTo>
                      <a:pt x="89" y="338"/>
                    </a:lnTo>
                    <a:lnTo>
                      <a:pt x="83" y="323"/>
                    </a:lnTo>
                    <a:lnTo>
                      <a:pt x="79" y="308"/>
                    </a:lnTo>
                    <a:lnTo>
                      <a:pt x="76" y="294"/>
                    </a:lnTo>
                    <a:lnTo>
                      <a:pt x="73" y="278"/>
                    </a:lnTo>
                    <a:lnTo>
                      <a:pt x="71" y="262"/>
                    </a:lnTo>
                    <a:lnTo>
                      <a:pt x="70" y="246"/>
                    </a:lnTo>
                    <a:lnTo>
                      <a:pt x="70" y="231"/>
                    </a:lnTo>
                    <a:lnTo>
                      <a:pt x="70" y="216"/>
                    </a:lnTo>
                    <a:lnTo>
                      <a:pt x="71" y="200"/>
                    </a:lnTo>
                    <a:lnTo>
                      <a:pt x="73" y="185"/>
                    </a:lnTo>
                    <a:lnTo>
                      <a:pt x="76" y="171"/>
                    </a:lnTo>
                    <a:lnTo>
                      <a:pt x="79" y="156"/>
                    </a:lnTo>
                    <a:lnTo>
                      <a:pt x="82" y="142"/>
                    </a:lnTo>
                    <a:lnTo>
                      <a:pt x="88" y="129"/>
                    </a:lnTo>
                    <a:lnTo>
                      <a:pt x="93" y="114"/>
                    </a:lnTo>
                    <a:lnTo>
                      <a:pt x="19" y="114"/>
                    </a:lnTo>
                    <a:lnTo>
                      <a:pt x="15" y="129"/>
                    </a:lnTo>
                    <a:lnTo>
                      <a:pt x="11" y="142"/>
                    </a:lnTo>
                    <a:lnTo>
                      <a:pt x="8" y="157"/>
                    </a:lnTo>
                    <a:lnTo>
                      <a:pt x="6" y="171"/>
                    </a:lnTo>
                    <a:lnTo>
                      <a:pt x="4" y="185"/>
                    </a:lnTo>
                    <a:lnTo>
                      <a:pt x="2" y="201"/>
                    </a:lnTo>
                    <a:lnTo>
                      <a:pt x="1" y="216"/>
                    </a:lnTo>
                    <a:lnTo>
                      <a:pt x="0" y="231"/>
                    </a:lnTo>
                    <a:lnTo>
                      <a:pt x="1" y="251"/>
                    </a:lnTo>
                    <a:lnTo>
                      <a:pt x="2" y="269"/>
                    </a:lnTo>
                    <a:lnTo>
                      <a:pt x="6" y="288"/>
                    </a:lnTo>
                    <a:lnTo>
                      <a:pt x="9" y="307"/>
                    </a:lnTo>
                    <a:lnTo>
                      <a:pt x="13" y="325"/>
                    </a:lnTo>
                    <a:lnTo>
                      <a:pt x="18" y="343"/>
                    </a:lnTo>
                    <a:lnTo>
                      <a:pt x="23" y="361"/>
                    </a:lnTo>
                    <a:lnTo>
                      <a:pt x="31" y="378"/>
                    </a:lnTo>
                    <a:lnTo>
                      <a:pt x="38" y="394"/>
                    </a:lnTo>
                    <a:lnTo>
                      <a:pt x="47" y="411"/>
                    </a:lnTo>
                    <a:lnTo>
                      <a:pt x="55" y="427"/>
                    </a:lnTo>
                    <a:lnTo>
                      <a:pt x="66" y="443"/>
                    </a:lnTo>
                    <a:lnTo>
                      <a:pt x="76" y="457"/>
                    </a:lnTo>
                    <a:lnTo>
                      <a:pt x="88" y="471"/>
                    </a:lnTo>
                    <a:lnTo>
                      <a:pt x="99" y="485"/>
                    </a:lnTo>
                    <a:lnTo>
                      <a:pt x="112" y="498"/>
                    </a:lnTo>
                    <a:lnTo>
                      <a:pt x="124" y="511"/>
                    </a:lnTo>
                    <a:lnTo>
                      <a:pt x="138" y="523"/>
                    </a:lnTo>
                    <a:lnTo>
                      <a:pt x="153" y="534"/>
                    </a:lnTo>
                    <a:lnTo>
                      <a:pt x="167" y="545"/>
                    </a:lnTo>
                    <a:lnTo>
                      <a:pt x="183" y="554"/>
                    </a:lnTo>
                    <a:lnTo>
                      <a:pt x="199" y="563"/>
                    </a:lnTo>
                    <a:lnTo>
                      <a:pt x="215" y="572"/>
                    </a:lnTo>
                    <a:lnTo>
                      <a:pt x="232" y="579"/>
                    </a:lnTo>
                    <a:lnTo>
                      <a:pt x="249" y="587"/>
                    </a:lnTo>
                    <a:lnTo>
                      <a:pt x="266" y="592"/>
                    </a:lnTo>
                    <a:lnTo>
                      <a:pt x="284" y="597"/>
                    </a:lnTo>
                    <a:lnTo>
                      <a:pt x="303" y="601"/>
                    </a:lnTo>
                    <a:lnTo>
                      <a:pt x="322" y="604"/>
                    </a:lnTo>
                    <a:lnTo>
                      <a:pt x="341" y="607"/>
                    </a:lnTo>
                    <a:lnTo>
                      <a:pt x="360" y="609"/>
                    </a:lnTo>
                    <a:lnTo>
                      <a:pt x="379" y="609"/>
                    </a:lnTo>
                    <a:lnTo>
                      <a:pt x="399" y="609"/>
                    </a:lnTo>
                    <a:lnTo>
                      <a:pt x="418" y="607"/>
                    </a:lnTo>
                    <a:lnTo>
                      <a:pt x="437" y="604"/>
                    </a:lnTo>
                    <a:lnTo>
                      <a:pt x="456" y="601"/>
                    </a:lnTo>
                    <a:lnTo>
                      <a:pt x="473" y="597"/>
                    </a:lnTo>
                    <a:lnTo>
                      <a:pt x="491" y="592"/>
                    </a:lnTo>
                    <a:lnTo>
                      <a:pt x="509" y="587"/>
                    </a:lnTo>
                    <a:lnTo>
                      <a:pt x="527" y="579"/>
                    </a:lnTo>
                    <a:lnTo>
                      <a:pt x="543" y="572"/>
                    </a:lnTo>
                    <a:lnTo>
                      <a:pt x="560" y="563"/>
                    </a:lnTo>
                    <a:lnTo>
                      <a:pt x="575" y="554"/>
                    </a:lnTo>
                    <a:lnTo>
                      <a:pt x="591" y="545"/>
                    </a:lnTo>
                    <a:lnTo>
                      <a:pt x="606" y="534"/>
                    </a:lnTo>
                    <a:lnTo>
                      <a:pt x="619" y="523"/>
                    </a:lnTo>
                    <a:lnTo>
                      <a:pt x="633" y="511"/>
                    </a:lnTo>
                    <a:lnTo>
                      <a:pt x="647" y="498"/>
                    </a:lnTo>
                    <a:lnTo>
                      <a:pt x="659" y="485"/>
                    </a:lnTo>
                    <a:lnTo>
                      <a:pt x="671" y="471"/>
                    </a:lnTo>
                    <a:lnTo>
                      <a:pt x="683" y="457"/>
                    </a:lnTo>
                    <a:lnTo>
                      <a:pt x="693" y="443"/>
                    </a:lnTo>
                    <a:lnTo>
                      <a:pt x="703" y="427"/>
                    </a:lnTo>
                    <a:lnTo>
                      <a:pt x="712" y="411"/>
                    </a:lnTo>
                    <a:lnTo>
                      <a:pt x="720" y="394"/>
                    </a:lnTo>
                    <a:lnTo>
                      <a:pt x="728" y="378"/>
                    </a:lnTo>
                    <a:lnTo>
                      <a:pt x="734" y="361"/>
                    </a:lnTo>
                    <a:lnTo>
                      <a:pt x="740" y="343"/>
                    </a:lnTo>
                    <a:lnTo>
                      <a:pt x="746" y="325"/>
                    </a:lnTo>
                    <a:lnTo>
                      <a:pt x="750" y="307"/>
                    </a:lnTo>
                    <a:lnTo>
                      <a:pt x="753" y="288"/>
                    </a:lnTo>
                    <a:lnTo>
                      <a:pt x="756" y="269"/>
                    </a:lnTo>
                    <a:lnTo>
                      <a:pt x="757" y="251"/>
                    </a:lnTo>
                    <a:lnTo>
                      <a:pt x="757" y="23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562200" y="2922480"/>
                <a:ext cx="219240" cy="179640"/>
              </a:xfrm>
              <a:custGeom>
                <a:avLst/>
                <a:gdLst/>
                <a:ahLst/>
                <a:rect l="l" t="t" r="r" b="b"/>
                <a:pathLst>
                  <a:path w="689" h="566">
                    <a:moveTo>
                      <a:pt x="689" y="222"/>
                    </a:moveTo>
                    <a:lnTo>
                      <a:pt x="687" y="206"/>
                    </a:lnTo>
                    <a:lnTo>
                      <a:pt x="686" y="190"/>
                    </a:lnTo>
                    <a:lnTo>
                      <a:pt x="685" y="175"/>
                    </a:lnTo>
                    <a:lnTo>
                      <a:pt x="682" y="160"/>
                    </a:lnTo>
                    <a:lnTo>
                      <a:pt x="679" y="145"/>
                    </a:lnTo>
                    <a:lnTo>
                      <a:pt x="676" y="130"/>
                    </a:lnTo>
                    <a:lnTo>
                      <a:pt x="672" y="116"/>
                    </a:lnTo>
                    <a:lnTo>
                      <a:pt x="666" y="102"/>
                    </a:lnTo>
                    <a:lnTo>
                      <a:pt x="661" y="88"/>
                    </a:lnTo>
                    <a:lnTo>
                      <a:pt x="655" y="75"/>
                    </a:lnTo>
                    <a:lnTo>
                      <a:pt x="649" y="61"/>
                    </a:lnTo>
                    <a:lnTo>
                      <a:pt x="641" y="48"/>
                    </a:lnTo>
                    <a:lnTo>
                      <a:pt x="633" y="36"/>
                    </a:lnTo>
                    <a:lnTo>
                      <a:pt x="624" y="23"/>
                    </a:lnTo>
                    <a:lnTo>
                      <a:pt x="616" y="12"/>
                    </a:lnTo>
                    <a:lnTo>
                      <a:pt x="607" y="0"/>
                    </a:lnTo>
                    <a:lnTo>
                      <a:pt x="529" y="18"/>
                    </a:lnTo>
                    <a:lnTo>
                      <a:pt x="539" y="28"/>
                    </a:lnTo>
                    <a:lnTo>
                      <a:pt x="549" y="38"/>
                    </a:lnTo>
                    <a:lnTo>
                      <a:pt x="558" y="49"/>
                    </a:lnTo>
                    <a:lnTo>
                      <a:pt x="567" y="60"/>
                    </a:lnTo>
                    <a:lnTo>
                      <a:pt x="575" y="71"/>
                    </a:lnTo>
                    <a:lnTo>
                      <a:pt x="582" y="84"/>
                    </a:lnTo>
                    <a:lnTo>
                      <a:pt x="589" y="96"/>
                    </a:lnTo>
                    <a:lnTo>
                      <a:pt x="595" y="108"/>
                    </a:lnTo>
                    <a:lnTo>
                      <a:pt x="600" y="122"/>
                    </a:lnTo>
                    <a:lnTo>
                      <a:pt x="606" y="136"/>
                    </a:lnTo>
                    <a:lnTo>
                      <a:pt x="610" y="149"/>
                    </a:lnTo>
                    <a:lnTo>
                      <a:pt x="613" y="163"/>
                    </a:lnTo>
                    <a:lnTo>
                      <a:pt x="616" y="178"/>
                    </a:lnTo>
                    <a:lnTo>
                      <a:pt x="618" y="192"/>
                    </a:lnTo>
                    <a:lnTo>
                      <a:pt x="619" y="207"/>
                    </a:lnTo>
                    <a:lnTo>
                      <a:pt x="619" y="222"/>
                    </a:lnTo>
                    <a:lnTo>
                      <a:pt x="619" y="236"/>
                    </a:lnTo>
                    <a:lnTo>
                      <a:pt x="618" y="250"/>
                    </a:lnTo>
                    <a:lnTo>
                      <a:pt x="616" y="264"/>
                    </a:lnTo>
                    <a:lnTo>
                      <a:pt x="614" y="277"/>
                    </a:lnTo>
                    <a:lnTo>
                      <a:pt x="611" y="291"/>
                    </a:lnTo>
                    <a:lnTo>
                      <a:pt x="607" y="304"/>
                    </a:lnTo>
                    <a:lnTo>
                      <a:pt x="602" y="316"/>
                    </a:lnTo>
                    <a:lnTo>
                      <a:pt x="598" y="329"/>
                    </a:lnTo>
                    <a:lnTo>
                      <a:pt x="592" y="341"/>
                    </a:lnTo>
                    <a:lnTo>
                      <a:pt x="587" y="353"/>
                    </a:lnTo>
                    <a:lnTo>
                      <a:pt x="579" y="364"/>
                    </a:lnTo>
                    <a:lnTo>
                      <a:pt x="572" y="376"/>
                    </a:lnTo>
                    <a:lnTo>
                      <a:pt x="565" y="386"/>
                    </a:lnTo>
                    <a:lnTo>
                      <a:pt x="556" y="397"/>
                    </a:lnTo>
                    <a:lnTo>
                      <a:pt x="548" y="406"/>
                    </a:lnTo>
                    <a:lnTo>
                      <a:pt x="539" y="416"/>
                    </a:lnTo>
                    <a:lnTo>
                      <a:pt x="529" y="425"/>
                    </a:lnTo>
                    <a:lnTo>
                      <a:pt x="519" y="434"/>
                    </a:lnTo>
                    <a:lnTo>
                      <a:pt x="509" y="442"/>
                    </a:lnTo>
                    <a:lnTo>
                      <a:pt x="498" y="449"/>
                    </a:lnTo>
                    <a:lnTo>
                      <a:pt x="487" y="457"/>
                    </a:lnTo>
                    <a:lnTo>
                      <a:pt x="475" y="464"/>
                    </a:lnTo>
                    <a:lnTo>
                      <a:pt x="464" y="469"/>
                    </a:lnTo>
                    <a:lnTo>
                      <a:pt x="451" y="476"/>
                    </a:lnTo>
                    <a:lnTo>
                      <a:pt x="438" y="480"/>
                    </a:lnTo>
                    <a:lnTo>
                      <a:pt x="426" y="484"/>
                    </a:lnTo>
                    <a:lnTo>
                      <a:pt x="413" y="488"/>
                    </a:lnTo>
                    <a:lnTo>
                      <a:pt x="399" y="491"/>
                    </a:lnTo>
                    <a:lnTo>
                      <a:pt x="386" y="494"/>
                    </a:lnTo>
                    <a:lnTo>
                      <a:pt x="372" y="496"/>
                    </a:lnTo>
                    <a:lnTo>
                      <a:pt x="358" y="497"/>
                    </a:lnTo>
                    <a:lnTo>
                      <a:pt x="344" y="497"/>
                    </a:lnTo>
                    <a:lnTo>
                      <a:pt x="330" y="497"/>
                    </a:lnTo>
                    <a:lnTo>
                      <a:pt x="316" y="496"/>
                    </a:lnTo>
                    <a:lnTo>
                      <a:pt x="302" y="494"/>
                    </a:lnTo>
                    <a:lnTo>
                      <a:pt x="289" y="491"/>
                    </a:lnTo>
                    <a:lnTo>
                      <a:pt x="275" y="488"/>
                    </a:lnTo>
                    <a:lnTo>
                      <a:pt x="263" y="484"/>
                    </a:lnTo>
                    <a:lnTo>
                      <a:pt x="249" y="480"/>
                    </a:lnTo>
                    <a:lnTo>
                      <a:pt x="237" y="476"/>
                    </a:lnTo>
                    <a:lnTo>
                      <a:pt x="225" y="469"/>
                    </a:lnTo>
                    <a:lnTo>
                      <a:pt x="213" y="464"/>
                    </a:lnTo>
                    <a:lnTo>
                      <a:pt x="202" y="457"/>
                    </a:lnTo>
                    <a:lnTo>
                      <a:pt x="190" y="449"/>
                    </a:lnTo>
                    <a:lnTo>
                      <a:pt x="180" y="442"/>
                    </a:lnTo>
                    <a:lnTo>
                      <a:pt x="169" y="434"/>
                    </a:lnTo>
                    <a:lnTo>
                      <a:pt x="159" y="425"/>
                    </a:lnTo>
                    <a:lnTo>
                      <a:pt x="149" y="416"/>
                    </a:lnTo>
                    <a:lnTo>
                      <a:pt x="141" y="406"/>
                    </a:lnTo>
                    <a:lnTo>
                      <a:pt x="131" y="397"/>
                    </a:lnTo>
                    <a:lnTo>
                      <a:pt x="124" y="386"/>
                    </a:lnTo>
                    <a:lnTo>
                      <a:pt x="116" y="376"/>
                    </a:lnTo>
                    <a:lnTo>
                      <a:pt x="108" y="364"/>
                    </a:lnTo>
                    <a:lnTo>
                      <a:pt x="102" y="353"/>
                    </a:lnTo>
                    <a:lnTo>
                      <a:pt x="96" y="341"/>
                    </a:lnTo>
                    <a:lnTo>
                      <a:pt x="90" y="329"/>
                    </a:lnTo>
                    <a:lnTo>
                      <a:pt x="86" y="316"/>
                    </a:lnTo>
                    <a:lnTo>
                      <a:pt x="81" y="304"/>
                    </a:lnTo>
                    <a:lnTo>
                      <a:pt x="78" y="291"/>
                    </a:lnTo>
                    <a:lnTo>
                      <a:pt x="75" y="277"/>
                    </a:lnTo>
                    <a:lnTo>
                      <a:pt x="73" y="264"/>
                    </a:lnTo>
                    <a:lnTo>
                      <a:pt x="70" y="250"/>
                    </a:lnTo>
                    <a:lnTo>
                      <a:pt x="69" y="236"/>
                    </a:lnTo>
                    <a:lnTo>
                      <a:pt x="69" y="222"/>
                    </a:lnTo>
                    <a:lnTo>
                      <a:pt x="69" y="205"/>
                    </a:lnTo>
                    <a:lnTo>
                      <a:pt x="72" y="189"/>
                    </a:lnTo>
                    <a:lnTo>
                      <a:pt x="74" y="173"/>
                    </a:lnTo>
                    <a:lnTo>
                      <a:pt x="77" y="157"/>
                    </a:lnTo>
                    <a:lnTo>
                      <a:pt x="81" y="142"/>
                    </a:lnTo>
                    <a:lnTo>
                      <a:pt x="86" y="126"/>
                    </a:lnTo>
                    <a:lnTo>
                      <a:pt x="93" y="111"/>
                    </a:lnTo>
                    <a:lnTo>
                      <a:pt x="99" y="98"/>
                    </a:lnTo>
                    <a:lnTo>
                      <a:pt x="65" y="105"/>
                    </a:lnTo>
                    <a:lnTo>
                      <a:pt x="21" y="105"/>
                    </a:lnTo>
                    <a:lnTo>
                      <a:pt x="16" y="120"/>
                    </a:lnTo>
                    <a:lnTo>
                      <a:pt x="12" y="133"/>
                    </a:lnTo>
                    <a:lnTo>
                      <a:pt x="8" y="148"/>
                    </a:lnTo>
                    <a:lnTo>
                      <a:pt x="5" y="162"/>
                    </a:lnTo>
                    <a:lnTo>
                      <a:pt x="3" y="176"/>
                    </a:lnTo>
                    <a:lnTo>
                      <a:pt x="1" y="191"/>
                    </a:lnTo>
                    <a:lnTo>
                      <a:pt x="0" y="207"/>
                    </a:lnTo>
                    <a:lnTo>
                      <a:pt x="0" y="222"/>
                    </a:lnTo>
                    <a:lnTo>
                      <a:pt x="1" y="239"/>
                    </a:lnTo>
                    <a:lnTo>
                      <a:pt x="2" y="257"/>
                    </a:lnTo>
                    <a:lnTo>
                      <a:pt x="4" y="274"/>
                    </a:lnTo>
                    <a:lnTo>
                      <a:pt x="7" y="291"/>
                    </a:lnTo>
                    <a:lnTo>
                      <a:pt x="11" y="308"/>
                    </a:lnTo>
                    <a:lnTo>
                      <a:pt x="16" y="325"/>
                    </a:lnTo>
                    <a:lnTo>
                      <a:pt x="21" y="340"/>
                    </a:lnTo>
                    <a:lnTo>
                      <a:pt x="27" y="356"/>
                    </a:lnTo>
                    <a:lnTo>
                      <a:pt x="34" y="371"/>
                    </a:lnTo>
                    <a:lnTo>
                      <a:pt x="42" y="385"/>
                    </a:lnTo>
                    <a:lnTo>
                      <a:pt x="49" y="400"/>
                    </a:lnTo>
                    <a:lnTo>
                      <a:pt x="59" y="414"/>
                    </a:lnTo>
                    <a:lnTo>
                      <a:pt x="68" y="427"/>
                    </a:lnTo>
                    <a:lnTo>
                      <a:pt x="79" y="441"/>
                    </a:lnTo>
                    <a:lnTo>
                      <a:pt x="89" y="453"/>
                    </a:lnTo>
                    <a:lnTo>
                      <a:pt x="101" y="465"/>
                    </a:lnTo>
                    <a:lnTo>
                      <a:pt x="113" y="477"/>
                    </a:lnTo>
                    <a:lnTo>
                      <a:pt x="125" y="487"/>
                    </a:lnTo>
                    <a:lnTo>
                      <a:pt x="139" y="498"/>
                    </a:lnTo>
                    <a:lnTo>
                      <a:pt x="151" y="507"/>
                    </a:lnTo>
                    <a:lnTo>
                      <a:pt x="166" y="516"/>
                    </a:lnTo>
                    <a:lnTo>
                      <a:pt x="180" y="524"/>
                    </a:lnTo>
                    <a:lnTo>
                      <a:pt x="196" y="531"/>
                    </a:lnTo>
                    <a:lnTo>
                      <a:pt x="210" y="539"/>
                    </a:lnTo>
                    <a:lnTo>
                      <a:pt x="226" y="545"/>
                    </a:lnTo>
                    <a:lnTo>
                      <a:pt x="242" y="550"/>
                    </a:lnTo>
                    <a:lnTo>
                      <a:pt x="259" y="554"/>
                    </a:lnTo>
                    <a:lnTo>
                      <a:pt x="274" y="559"/>
                    </a:lnTo>
                    <a:lnTo>
                      <a:pt x="292" y="562"/>
                    </a:lnTo>
                    <a:lnTo>
                      <a:pt x="309" y="564"/>
                    </a:lnTo>
                    <a:lnTo>
                      <a:pt x="327" y="565"/>
                    </a:lnTo>
                    <a:lnTo>
                      <a:pt x="344" y="566"/>
                    </a:lnTo>
                    <a:lnTo>
                      <a:pt x="362" y="565"/>
                    </a:lnTo>
                    <a:lnTo>
                      <a:pt x="380" y="564"/>
                    </a:lnTo>
                    <a:lnTo>
                      <a:pt x="396" y="562"/>
                    </a:lnTo>
                    <a:lnTo>
                      <a:pt x="413" y="559"/>
                    </a:lnTo>
                    <a:lnTo>
                      <a:pt x="430" y="554"/>
                    </a:lnTo>
                    <a:lnTo>
                      <a:pt x="447" y="550"/>
                    </a:lnTo>
                    <a:lnTo>
                      <a:pt x="463" y="545"/>
                    </a:lnTo>
                    <a:lnTo>
                      <a:pt x="478" y="539"/>
                    </a:lnTo>
                    <a:lnTo>
                      <a:pt x="493" y="531"/>
                    </a:lnTo>
                    <a:lnTo>
                      <a:pt x="508" y="524"/>
                    </a:lnTo>
                    <a:lnTo>
                      <a:pt x="522" y="516"/>
                    </a:lnTo>
                    <a:lnTo>
                      <a:pt x="536" y="507"/>
                    </a:lnTo>
                    <a:lnTo>
                      <a:pt x="550" y="498"/>
                    </a:lnTo>
                    <a:lnTo>
                      <a:pt x="563" y="487"/>
                    </a:lnTo>
                    <a:lnTo>
                      <a:pt x="575" y="477"/>
                    </a:lnTo>
                    <a:lnTo>
                      <a:pt x="588" y="465"/>
                    </a:lnTo>
                    <a:lnTo>
                      <a:pt x="599" y="453"/>
                    </a:lnTo>
                    <a:lnTo>
                      <a:pt x="610" y="441"/>
                    </a:lnTo>
                    <a:lnTo>
                      <a:pt x="620" y="427"/>
                    </a:lnTo>
                    <a:lnTo>
                      <a:pt x="630" y="414"/>
                    </a:lnTo>
                    <a:lnTo>
                      <a:pt x="638" y="400"/>
                    </a:lnTo>
                    <a:lnTo>
                      <a:pt x="646" y="385"/>
                    </a:lnTo>
                    <a:lnTo>
                      <a:pt x="654" y="371"/>
                    </a:lnTo>
                    <a:lnTo>
                      <a:pt x="661" y="356"/>
                    </a:lnTo>
                    <a:lnTo>
                      <a:pt x="668" y="340"/>
                    </a:lnTo>
                    <a:lnTo>
                      <a:pt x="673" y="325"/>
                    </a:lnTo>
                    <a:lnTo>
                      <a:pt x="677" y="308"/>
                    </a:lnTo>
                    <a:lnTo>
                      <a:pt x="681" y="291"/>
                    </a:lnTo>
                    <a:lnTo>
                      <a:pt x="684" y="274"/>
                    </a:lnTo>
                    <a:lnTo>
                      <a:pt x="686" y="257"/>
                    </a:lnTo>
                    <a:lnTo>
                      <a:pt x="687" y="239"/>
                    </a:lnTo>
                    <a:lnTo>
                      <a:pt x="689" y="222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573360" y="2925720"/>
                <a:ext cx="196920" cy="165240"/>
              </a:xfrm>
              <a:custGeom>
                <a:avLst/>
                <a:gdLst/>
                <a:ahLst/>
                <a:rect l="l" t="t" r="r" b="b"/>
                <a:pathLst>
                  <a:path w="619" h="523">
                    <a:moveTo>
                      <a:pt x="619" y="214"/>
                    </a:moveTo>
                    <a:lnTo>
                      <a:pt x="619" y="199"/>
                    </a:lnTo>
                    <a:lnTo>
                      <a:pt x="618" y="183"/>
                    </a:lnTo>
                    <a:lnTo>
                      <a:pt x="616" y="168"/>
                    </a:lnTo>
                    <a:lnTo>
                      <a:pt x="613" y="154"/>
                    </a:lnTo>
                    <a:lnTo>
                      <a:pt x="609" y="139"/>
                    </a:lnTo>
                    <a:lnTo>
                      <a:pt x="606" y="125"/>
                    </a:lnTo>
                    <a:lnTo>
                      <a:pt x="601" y="111"/>
                    </a:lnTo>
                    <a:lnTo>
                      <a:pt x="596" y="97"/>
                    </a:lnTo>
                    <a:lnTo>
                      <a:pt x="590" y="84"/>
                    </a:lnTo>
                    <a:lnTo>
                      <a:pt x="584" y="71"/>
                    </a:lnTo>
                    <a:lnTo>
                      <a:pt x="577" y="58"/>
                    </a:lnTo>
                    <a:lnTo>
                      <a:pt x="569" y="46"/>
                    </a:lnTo>
                    <a:lnTo>
                      <a:pt x="561" y="34"/>
                    </a:lnTo>
                    <a:lnTo>
                      <a:pt x="553" y="23"/>
                    </a:lnTo>
                    <a:lnTo>
                      <a:pt x="543" y="12"/>
                    </a:lnTo>
                    <a:lnTo>
                      <a:pt x="534" y="0"/>
                    </a:lnTo>
                    <a:lnTo>
                      <a:pt x="481" y="13"/>
                    </a:lnTo>
                    <a:lnTo>
                      <a:pt x="442" y="13"/>
                    </a:lnTo>
                    <a:lnTo>
                      <a:pt x="454" y="21"/>
                    </a:lnTo>
                    <a:lnTo>
                      <a:pt x="465" y="31"/>
                    </a:lnTo>
                    <a:lnTo>
                      <a:pt x="476" y="41"/>
                    </a:lnTo>
                    <a:lnTo>
                      <a:pt x="486" y="51"/>
                    </a:lnTo>
                    <a:lnTo>
                      <a:pt x="496" y="62"/>
                    </a:lnTo>
                    <a:lnTo>
                      <a:pt x="505" y="74"/>
                    </a:lnTo>
                    <a:lnTo>
                      <a:pt x="513" y="86"/>
                    </a:lnTo>
                    <a:lnTo>
                      <a:pt x="520" y="98"/>
                    </a:lnTo>
                    <a:lnTo>
                      <a:pt x="527" y="112"/>
                    </a:lnTo>
                    <a:lnTo>
                      <a:pt x="533" y="125"/>
                    </a:lnTo>
                    <a:lnTo>
                      <a:pt x="538" y="139"/>
                    </a:lnTo>
                    <a:lnTo>
                      <a:pt x="542" y="154"/>
                    </a:lnTo>
                    <a:lnTo>
                      <a:pt x="545" y="168"/>
                    </a:lnTo>
                    <a:lnTo>
                      <a:pt x="548" y="183"/>
                    </a:lnTo>
                    <a:lnTo>
                      <a:pt x="549" y="199"/>
                    </a:lnTo>
                    <a:lnTo>
                      <a:pt x="551" y="214"/>
                    </a:lnTo>
                    <a:lnTo>
                      <a:pt x="549" y="226"/>
                    </a:lnTo>
                    <a:lnTo>
                      <a:pt x="548" y="239"/>
                    </a:lnTo>
                    <a:lnTo>
                      <a:pt x="547" y="250"/>
                    </a:lnTo>
                    <a:lnTo>
                      <a:pt x="545" y="263"/>
                    </a:lnTo>
                    <a:lnTo>
                      <a:pt x="542" y="275"/>
                    </a:lnTo>
                    <a:lnTo>
                      <a:pt x="539" y="285"/>
                    </a:lnTo>
                    <a:lnTo>
                      <a:pt x="536" y="297"/>
                    </a:lnTo>
                    <a:lnTo>
                      <a:pt x="531" y="307"/>
                    </a:lnTo>
                    <a:lnTo>
                      <a:pt x="526" y="319"/>
                    </a:lnTo>
                    <a:lnTo>
                      <a:pt x="521" y="329"/>
                    </a:lnTo>
                    <a:lnTo>
                      <a:pt x="515" y="339"/>
                    </a:lnTo>
                    <a:lnTo>
                      <a:pt x="508" y="348"/>
                    </a:lnTo>
                    <a:lnTo>
                      <a:pt x="502" y="357"/>
                    </a:lnTo>
                    <a:lnTo>
                      <a:pt x="495" y="367"/>
                    </a:lnTo>
                    <a:lnTo>
                      <a:pt x="487" y="375"/>
                    </a:lnTo>
                    <a:lnTo>
                      <a:pt x="479" y="384"/>
                    </a:lnTo>
                    <a:lnTo>
                      <a:pt x="471" y="392"/>
                    </a:lnTo>
                    <a:lnTo>
                      <a:pt x="462" y="399"/>
                    </a:lnTo>
                    <a:lnTo>
                      <a:pt x="453" y="407"/>
                    </a:lnTo>
                    <a:lnTo>
                      <a:pt x="443" y="413"/>
                    </a:lnTo>
                    <a:lnTo>
                      <a:pt x="434" y="419"/>
                    </a:lnTo>
                    <a:lnTo>
                      <a:pt x="424" y="426"/>
                    </a:lnTo>
                    <a:lnTo>
                      <a:pt x="414" y="431"/>
                    </a:lnTo>
                    <a:lnTo>
                      <a:pt x="403" y="435"/>
                    </a:lnTo>
                    <a:lnTo>
                      <a:pt x="392" y="440"/>
                    </a:lnTo>
                    <a:lnTo>
                      <a:pt x="380" y="444"/>
                    </a:lnTo>
                    <a:lnTo>
                      <a:pt x="370" y="447"/>
                    </a:lnTo>
                    <a:lnTo>
                      <a:pt x="358" y="450"/>
                    </a:lnTo>
                    <a:lnTo>
                      <a:pt x="346" y="452"/>
                    </a:lnTo>
                    <a:lnTo>
                      <a:pt x="334" y="453"/>
                    </a:lnTo>
                    <a:lnTo>
                      <a:pt x="321" y="454"/>
                    </a:lnTo>
                    <a:lnTo>
                      <a:pt x="309" y="454"/>
                    </a:lnTo>
                    <a:lnTo>
                      <a:pt x="297" y="454"/>
                    </a:lnTo>
                    <a:lnTo>
                      <a:pt x="285" y="453"/>
                    </a:lnTo>
                    <a:lnTo>
                      <a:pt x="272" y="452"/>
                    </a:lnTo>
                    <a:lnTo>
                      <a:pt x="260" y="450"/>
                    </a:lnTo>
                    <a:lnTo>
                      <a:pt x="249" y="447"/>
                    </a:lnTo>
                    <a:lnTo>
                      <a:pt x="237" y="444"/>
                    </a:lnTo>
                    <a:lnTo>
                      <a:pt x="227" y="440"/>
                    </a:lnTo>
                    <a:lnTo>
                      <a:pt x="215" y="435"/>
                    </a:lnTo>
                    <a:lnTo>
                      <a:pt x="205" y="431"/>
                    </a:lnTo>
                    <a:lnTo>
                      <a:pt x="194" y="426"/>
                    </a:lnTo>
                    <a:lnTo>
                      <a:pt x="185" y="419"/>
                    </a:lnTo>
                    <a:lnTo>
                      <a:pt x="174" y="413"/>
                    </a:lnTo>
                    <a:lnTo>
                      <a:pt x="165" y="407"/>
                    </a:lnTo>
                    <a:lnTo>
                      <a:pt x="156" y="399"/>
                    </a:lnTo>
                    <a:lnTo>
                      <a:pt x="147" y="392"/>
                    </a:lnTo>
                    <a:lnTo>
                      <a:pt x="138" y="384"/>
                    </a:lnTo>
                    <a:lnTo>
                      <a:pt x="131" y="375"/>
                    </a:lnTo>
                    <a:lnTo>
                      <a:pt x="124" y="367"/>
                    </a:lnTo>
                    <a:lnTo>
                      <a:pt x="116" y="357"/>
                    </a:lnTo>
                    <a:lnTo>
                      <a:pt x="109" y="348"/>
                    </a:lnTo>
                    <a:lnTo>
                      <a:pt x="103" y="339"/>
                    </a:lnTo>
                    <a:lnTo>
                      <a:pt x="97" y="329"/>
                    </a:lnTo>
                    <a:lnTo>
                      <a:pt x="92" y="319"/>
                    </a:lnTo>
                    <a:lnTo>
                      <a:pt x="87" y="307"/>
                    </a:lnTo>
                    <a:lnTo>
                      <a:pt x="83" y="297"/>
                    </a:lnTo>
                    <a:lnTo>
                      <a:pt x="80" y="285"/>
                    </a:lnTo>
                    <a:lnTo>
                      <a:pt x="76" y="275"/>
                    </a:lnTo>
                    <a:lnTo>
                      <a:pt x="73" y="263"/>
                    </a:lnTo>
                    <a:lnTo>
                      <a:pt x="71" y="250"/>
                    </a:lnTo>
                    <a:lnTo>
                      <a:pt x="70" y="239"/>
                    </a:lnTo>
                    <a:lnTo>
                      <a:pt x="69" y="226"/>
                    </a:lnTo>
                    <a:lnTo>
                      <a:pt x="68" y="214"/>
                    </a:lnTo>
                    <a:lnTo>
                      <a:pt x="69" y="196"/>
                    </a:lnTo>
                    <a:lnTo>
                      <a:pt x="71" y="177"/>
                    </a:lnTo>
                    <a:lnTo>
                      <a:pt x="74" y="159"/>
                    </a:lnTo>
                    <a:lnTo>
                      <a:pt x="80" y="142"/>
                    </a:lnTo>
                    <a:lnTo>
                      <a:pt x="86" y="125"/>
                    </a:lnTo>
                    <a:lnTo>
                      <a:pt x="92" y="109"/>
                    </a:lnTo>
                    <a:lnTo>
                      <a:pt x="101" y="94"/>
                    </a:lnTo>
                    <a:lnTo>
                      <a:pt x="110" y="78"/>
                    </a:lnTo>
                    <a:lnTo>
                      <a:pt x="30" y="97"/>
                    </a:lnTo>
                    <a:lnTo>
                      <a:pt x="23" y="97"/>
                    </a:lnTo>
                    <a:lnTo>
                      <a:pt x="18" y="112"/>
                    </a:lnTo>
                    <a:lnTo>
                      <a:pt x="12" y="125"/>
                    </a:lnTo>
                    <a:lnTo>
                      <a:pt x="9" y="139"/>
                    </a:lnTo>
                    <a:lnTo>
                      <a:pt x="6" y="154"/>
                    </a:lnTo>
                    <a:lnTo>
                      <a:pt x="3" y="168"/>
                    </a:lnTo>
                    <a:lnTo>
                      <a:pt x="1" y="183"/>
                    </a:lnTo>
                    <a:lnTo>
                      <a:pt x="0" y="199"/>
                    </a:lnTo>
                    <a:lnTo>
                      <a:pt x="0" y="214"/>
                    </a:lnTo>
                    <a:lnTo>
                      <a:pt x="0" y="229"/>
                    </a:lnTo>
                    <a:lnTo>
                      <a:pt x="1" y="245"/>
                    </a:lnTo>
                    <a:lnTo>
                      <a:pt x="3" y="261"/>
                    </a:lnTo>
                    <a:lnTo>
                      <a:pt x="6" y="277"/>
                    </a:lnTo>
                    <a:lnTo>
                      <a:pt x="9" y="291"/>
                    </a:lnTo>
                    <a:lnTo>
                      <a:pt x="13" y="306"/>
                    </a:lnTo>
                    <a:lnTo>
                      <a:pt x="19" y="321"/>
                    </a:lnTo>
                    <a:lnTo>
                      <a:pt x="24" y="334"/>
                    </a:lnTo>
                    <a:lnTo>
                      <a:pt x="30" y="348"/>
                    </a:lnTo>
                    <a:lnTo>
                      <a:pt x="37" y="362"/>
                    </a:lnTo>
                    <a:lnTo>
                      <a:pt x="44" y="374"/>
                    </a:lnTo>
                    <a:lnTo>
                      <a:pt x="52" y="387"/>
                    </a:lnTo>
                    <a:lnTo>
                      <a:pt x="61" y="399"/>
                    </a:lnTo>
                    <a:lnTo>
                      <a:pt x="70" y="411"/>
                    </a:lnTo>
                    <a:lnTo>
                      <a:pt x="80" y="422"/>
                    </a:lnTo>
                    <a:lnTo>
                      <a:pt x="90" y="433"/>
                    </a:lnTo>
                    <a:lnTo>
                      <a:pt x="101" y="443"/>
                    </a:lnTo>
                    <a:lnTo>
                      <a:pt x="112" y="453"/>
                    </a:lnTo>
                    <a:lnTo>
                      <a:pt x="124" y="461"/>
                    </a:lnTo>
                    <a:lnTo>
                      <a:pt x="136" y="471"/>
                    </a:lnTo>
                    <a:lnTo>
                      <a:pt x="149" y="478"/>
                    </a:lnTo>
                    <a:lnTo>
                      <a:pt x="162" y="486"/>
                    </a:lnTo>
                    <a:lnTo>
                      <a:pt x="175" y="493"/>
                    </a:lnTo>
                    <a:lnTo>
                      <a:pt x="189" y="499"/>
                    </a:lnTo>
                    <a:lnTo>
                      <a:pt x="203" y="504"/>
                    </a:lnTo>
                    <a:lnTo>
                      <a:pt x="217" y="510"/>
                    </a:lnTo>
                    <a:lnTo>
                      <a:pt x="232" y="514"/>
                    </a:lnTo>
                    <a:lnTo>
                      <a:pt x="247" y="517"/>
                    </a:lnTo>
                    <a:lnTo>
                      <a:pt x="263" y="519"/>
                    </a:lnTo>
                    <a:lnTo>
                      <a:pt x="277" y="521"/>
                    </a:lnTo>
                    <a:lnTo>
                      <a:pt x="293" y="522"/>
                    </a:lnTo>
                    <a:lnTo>
                      <a:pt x="309" y="523"/>
                    </a:lnTo>
                    <a:lnTo>
                      <a:pt x="326" y="522"/>
                    </a:lnTo>
                    <a:lnTo>
                      <a:pt x="340" y="521"/>
                    </a:lnTo>
                    <a:lnTo>
                      <a:pt x="356" y="519"/>
                    </a:lnTo>
                    <a:lnTo>
                      <a:pt x="372" y="517"/>
                    </a:lnTo>
                    <a:lnTo>
                      <a:pt x="387" y="514"/>
                    </a:lnTo>
                    <a:lnTo>
                      <a:pt x="401" y="510"/>
                    </a:lnTo>
                    <a:lnTo>
                      <a:pt x="416" y="504"/>
                    </a:lnTo>
                    <a:lnTo>
                      <a:pt x="430" y="499"/>
                    </a:lnTo>
                    <a:lnTo>
                      <a:pt x="443" y="493"/>
                    </a:lnTo>
                    <a:lnTo>
                      <a:pt x="457" y="486"/>
                    </a:lnTo>
                    <a:lnTo>
                      <a:pt x="470" y="478"/>
                    </a:lnTo>
                    <a:lnTo>
                      <a:pt x="482" y="471"/>
                    </a:lnTo>
                    <a:lnTo>
                      <a:pt x="495" y="461"/>
                    </a:lnTo>
                    <a:lnTo>
                      <a:pt x="506" y="453"/>
                    </a:lnTo>
                    <a:lnTo>
                      <a:pt x="517" y="443"/>
                    </a:lnTo>
                    <a:lnTo>
                      <a:pt x="528" y="433"/>
                    </a:lnTo>
                    <a:lnTo>
                      <a:pt x="538" y="422"/>
                    </a:lnTo>
                    <a:lnTo>
                      <a:pt x="548" y="411"/>
                    </a:lnTo>
                    <a:lnTo>
                      <a:pt x="557" y="399"/>
                    </a:lnTo>
                    <a:lnTo>
                      <a:pt x="566" y="387"/>
                    </a:lnTo>
                    <a:lnTo>
                      <a:pt x="574" y="374"/>
                    </a:lnTo>
                    <a:lnTo>
                      <a:pt x="581" y="362"/>
                    </a:lnTo>
                    <a:lnTo>
                      <a:pt x="588" y="348"/>
                    </a:lnTo>
                    <a:lnTo>
                      <a:pt x="595" y="334"/>
                    </a:lnTo>
                    <a:lnTo>
                      <a:pt x="600" y="321"/>
                    </a:lnTo>
                    <a:lnTo>
                      <a:pt x="605" y="306"/>
                    </a:lnTo>
                    <a:lnTo>
                      <a:pt x="609" y="291"/>
                    </a:lnTo>
                    <a:lnTo>
                      <a:pt x="613" y="277"/>
                    </a:lnTo>
                    <a:lnTo>
                      <a:pt x="616" y="261"/>
                    </a:lnTo>
                    <a:lnTo>
                      <a:pt x="617" y="245"/>
                    </a:lnTo>
                    <a:lnTo>
                      <a:pt x="619" y="229"/>
                    </a:lnTo>
                    <a:lnTo>
                      <a:pt x="619" y="21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584520" y="2928960"/>
                <a:ext cx="174600" cy="150840"/>
              </a:xfrm>
              <a:custGeom>
                <a:avLst/>
                <a:gdLst/>
                <a:ahLst/>
                <a:rect l="l" t="t" r="r" b="b"/>
                <a:pathLst>
                  <a:path w="550" h="479">
                    <a:moveTo>
                      <a:pt x="550" y="204"/>
                    </a:moveTo>
                    <a:lnTo>
                      <a:pt x="550" y="189"/>
                    </a:lnTo>
                    <a:lnTo>
                      <a:pt x="549" y="174"/>
                    </a:lnTo>
                    <a:lnTo>
                      <a:pt x="547" y="160"/>
                    </a:lnTo>
                    <a:lnTo>
                      <a:pt x="544" y="145"/>
                    </a:lnTo>
                    <a:lnTo>
                      <a:pt x="541" y="131"/>
                    </a:lnTo>
                    <a:lnTo>
                      <a:pt x="537" y="118"/>
                    </a:lnTo>
                    <a:lnTo>
                      <a:pt x="531" y="104"/>
                    </a:lnTo>
                    <a:lnTo>
                      <a:pt x="526" y="90"/>
                    </a:lnTo>
                    <a:lnTo>
                      <a:pt x="520" y="78"/>
                    </a:lnTo>
                    <a:lnTo>
                      <a:pt x="513" y="66"/>
                    </a:lnTo>
                    <a:lnTo>
                      <a:pt x="506" y="53"/>
                    </a:lnTo>
                    <a:lnTo>
                      <a:pt x="498" y="42"/>
                    </a:lnTo>
                    <a:lnTo>
                      <a:pt x="489" y="31"/>
                    </a:lnTo>
                    <a:lnTo>
                      <a:pt x="480" y="20"/>
                    </a:lnTo>
                    <a:lnTo>
                      <a:pt x="470" y="10"/>
                    </a:lnTo>
                    <a:lnTo>
                      <a:pt x="460" y="0"/>
                    </a:lnTo>
                    <a:lnTo>
                      <a:pt x="447" y="3"/>
                    </a:lnTo>
                    <a:lnTo>
                      <a:pt x="336" y="3"/>
                    </a:lnTo>
                    <a:lnTo>
                      <a:pt x="329" y="5"/>
                    </a:lnTo>
                    <a:lnTo>
                      <a:pt x="345" y="10"/>
                    </a:lnTo>
                    <a:lnTo>
                      <a:pt x="361" y="17"/>
                    </a:lnTo>
                    <a:lnTo>
                      <a:pt x="376" y="24"/>
                    </a:lnTo>
                    <a:lnTo>
                      <a:pt x="390" y="32"/>
                    </a:lnTo>
                    <a:lnTo>
                      <a:pt x="403" y="43"/>
                    </a:lnTo>
                    <a:lnTo>
                      <a:pt x="416" y="53"/>
                    </a:lnTo>
                    <a:lnTo>
                      <a:pt x="427" y="65"/>
                    </a:lnTo>
                    <a:lnTo>
                      <a:pt x="439" y="78"/>
                    </a:lnTo>
                    <a:lnTo>
                      <a:pt x="448" y="91"/>
                    </a:lnTo>
                    <a:lnTo>
                      <a:pt x="457" y="106"/>
                    </a:lnTo>
                    <a:lnTo>
                      <a:pt x="464" y="121"/>
                    </a:lnTo>
                    <a:lnTo>
                      <a:pt x="470" y="136"/>
                    </a:lnTo>
                    <a:lnTo>
                      <a:pt x="476" y="152"/>
                    </a:lnTo>
                    <a:lnTo>
                      <a:pt x="479" y="169"/>
                    </a:lnTo>
                    <a:lnTo>
                      <a:pt x="481" y="187"/>
                    </a:lnTo>
                    <a:lnTo>
                      <a:pt x="482" y="204"/>
                    </a:lnTo>
                    <a:lnTo>
                      <a:pt x="481" y="214"/>
                    </a:lnTo>
                    <a:lnTo>
                      <a:pt x="481" y="225"/>
                    </a:lnTo>
                    <a:lnTo>
                      <a:pt x="479" y="235"/>
                    </a:lnTo>
                    <a:lnTo>
                      <a:pt x="478" y="246"/>
                    </a:lnTo>
                    <a:lnTo>
                      <a:pt x="472" y="266"/>
                    </a:lnTo>
                    <a:lnTo>
                      <a:pt x="465" y="284"/>
                    </a:lnTo>
                    <a:lnTo>
                      <a:pt x="457" y="302"/>
                    </a:lnTo>
                    <a:lnTo>
                      <a:pt x="446" y="319"/>
                    </a:lnTo>
                    <a:lnTo>
                      <a:pt x="435" y="335"/>
                    </a:lnTo>
                    <a:lnTo>
                      <a:pt x="421" y="350"/>
                    </a:lnTo>
                    <a:lnTo>
                      <a:pt x="406" y="363"/>
                    </a:lnTo>
                    <a:lnTo>
                      <a:pt x="390" y="375"/>
                    </a:lnTo>
                    <a:lnTo>
                      <a:pt x="374" y="385"/>
                    </a:lnTo>
                    <a:lnTo>
                      <a:pt x="356" y="394"/>
                    </a:lnTo>
                    <a:lnTo>
                      <a:pt x="346" y="398"/>
                    </a:lnTo>
                    <a:lnTo>
                      <a:pt x="337" y="401"/>
                    </a:lnTo>
                    <a:lnTo>
                      <a:pt x="326" y="404"/>
                    </a:lnTo>
                    <a:lnTo>
                      <a:pt x="317" y="406"/>
                    </a:lnTo>
                    <a:lnTo>
                      <a:pt x="306" y="407"/>
                    </a:lnTo>
                    <a:lnTo>
                      <a:pt x="296" y="409"/>
                    </a:lnTo>
                    <a:lnTo>
                      <a:pt x="285" y="409"/>
                    </a:lnTo>
                    <a:lnTo>
                      <a:pt x="275" y="410"/>
                    </a:lnTo>
                    <a:lnTo>
                      <a:pt x="264" y="409"/>
                    </a:lnTo>
                    <a:lnTo>
                      <a:pt x="254" y="409"/>
                    </a:lnTo>
                    <a:lnTo>
                      <a:pt x="243" y="407"/>
                    </a:lnTo>
                    <a:lnTo>
                      <a:pt x="234" y="406"/>
                    </a:lnTo>
                    <a:lnTo>
                      <a:pt x="223" y="404"/>
                    </a:lnTo>
                    <a:lnTo>
                      <a:pt x="214" y="401"/>
                    </a:lnTo>
                    <a:lnTo>
                      <a:pt x="204" y="398"/>
                    </a:lnTo>
                    <a:lnTo>
                      <a:pt x="195" y="394"/>
                    </a:lnTo>
                    <a:lnTo>
                      <a:pt x="177" y="385"/>
                    </a:lnTo>
                    <a:lnTo>
                      <a:pt x="160" y="375"/>
                    </a:lnTo>
                    <a:lnTo>
                      <a:pt x="143" y="363"/>
                    </a:lnTo>
                    <a:lnTo>
                      <a:pt x="130" y="350"/>
                    </a:lnTo>
                    <a:lnTo>
                      <a:pt x="116" y="335"/>
                    </a:lnTo>
                    <a:lnTo>
                      <a:pt x="104" y="319"/>
                    </a:lnTo>
                    <a:lnTo>
                      <a:pt x="94" y="302"/>
                    </a:lnTo>
                    <a:lnTo>
                      <a:pt x="86" y="284"/>
                    </a:lnTo>
                    <a:lnTo>
                      <a:pt x="81" y="275"/>
                    </a:lnTo>
                    <a:lnTo>
                      <a:pt x="78" y="266"/>
                    </a:lnTo>
                    <a:lnTo>
                      <a:pt x="75" y="255"/>
                    </a:lnTo>
                    <a:lnTo>
                      <a:pt x="73" y="246"/>
                    </a:lnTo>
                    <a:lnTo>
                      <a:pt x="71" y="235"/>
                    </a:lnTo>
                    <a:lnTo>
                      <a:pt x="70" y="225"/>
                    </a:lnTo>
                    <a:lnTo>
                      <a:pt x="69" y="214"/>
                    </a:lnTo>
                    <a:lnTo>
                      <a:pt x="69" y="204"/>
                    </a:lnTo>
                    <a:lnTo>
                      <a:pt x="69" y="193"/>
                    </a:lnTo>
                    <a:lnTo>
                      <a:pt x="70" y="183"/>
                    </a:lnTo>
                    <a:lnTo>
                      <a:pt x="72" y="171"/>
                    </a:lnTo>
                    <a:lnTo>
                      <a:pt x="73" y="161"/>
                    </a:lnTo>
                    <a:lnTo>
                      <a:pt x="76" y="151"/>
                    </a:lnTo>
                    <a:lnTo>
                      <a:pt x="79" y="141"/>
                    </a:lnTo>
                    <a:lnTo>
                      <a:pt x="82" y="131"/>
                    </a:lnTo>
                    <a:lnTo>
                      <a:pt x="87" y="121"/>
                    </a:lnTo>
                    <a:lnTo>
                      <a:pt x="91" y="112"/>
                    </a:lnTo>
                    <a:lnTo>
                      <a:pt x="96" y="103"/>
                    </a:lnTo>
                    <a:lnTo>
                      <a:pt x="101" y="93"/>
                    </a:lnTo>
                    <a:lnTo>
                      <a:pt x="107" y="85"/>
                    </a:lnTo>
                    <a:lnTo>
                      <a:pt x="119" y="69"/>
                    </a:lnTo>
                    <a:lnTo>
                      <a:pt x="134" y="55"/>
                    </a:lnTo>
                    <a:lnTo>
                      <a:pt x="111" y="61"/>
                    </a:lnTo>
                    <a:lnTo>
                      <a:pt x="30" y="80"/>
                    </a:lnTo>
                    <a:lnTo>
                      <a:pt x="24" y="93"/>
                    </a:lnTo>
                    <a:lnTo>
                      <a:pt x="17" y="108"/>
                    </a:lnTo>
                    <a:lnTo>
                      <a:pt x="12" y="124"/>
                    </a:lnTo>
                    <a:lnTo>
                      <a:pt x="8" y="139"/>
                    </a:lnTo>
                    <a:lnTo>
                      <a:pt x="5" y="155"/>
                    </a:lnTo>
                    <a:lnTo>
                      <a:pt x="3" y="171"/>
                    </a:lnTo>
                    <a:lnTo>
                      <a:pt x="0" y="187"/>
                    </a:lnTo>
                    <a:lnTo>
                      <a:pt x="0" y="204"/>
                    </a:lnTo>
                    <a:lnTo>
                      <a:pt x="0" y="218"/>
                    </a:lnTo>
                    <a:lnTo>
                      <a:pt x="1" y="232"/>
                    </a:lnTo>
                    <a:lnTo>
                      <a:pt x="4" y="246"/>
                    </a:lnTo>
                    <a:lnTo>
                      <a:pt x="6" y="259"/>
                    </a:lnTo>
                    <a:lnTo>
                      <a:pt x="9" y="273"/>
                    </a:lnTo>
                    <a:lnTo>
                      <a:pt x="12" y="286"/>
                    </a:lnTo>
                    <a:lnTo>
                      <a:pt x="17" y="298"/>
                    </a:lnTo>
                    <a:lnTo>
                      <a:pt x="21" y="311"/>
                    </a:lnTo>
                    <a:lnTo>
                      <a:pt x="27" y="323"/>
                    </a:lnTo>
                    <a:lnTo>
                      <a:pt x="33" y="335"/>
                    </a:lnTo>
                    <a:lnTo>
                      <a:pt x="39" y="346"/>
                    </a:lnTo>
                    <a:lnTo>
                      <a:pt x="47" y="358"/>
                    </a:lnTo>
                    <a:lnTo>
                      <a:pt x="55" y="368"/>
                    </a:lnTo>
                    <a:lnTo>
                      <a:pt x="62" y="379"/>
                    </a:lnTo>
                    <a:lnTo>
                      <a:pt x="72" y="388"/>
                    </a:lnTo>
                    <a:lnTo>
                      <a:pt x="80" y="398"/>
                    </a:lnTo>
                    <a:lnTo>
                      <a:pt x="90" y="407"/>
                    </a:lnTo>
                    <a:lnTo>
                      <a:pt x="100" y="416"/>
                    </a:lnTo>
                    <a:lnTo>
                      <a:pt x="111" y="424"/>
                    </a:lnTo>
                    <a:lnTo>
                      <a:pt x="121" y="431"/>
                    </a:lnTo>
                    <a:lnTo>
                      <a:pt x="133" y="439"/>
                    </a:lnTo>
                    <a:lnTo>
                      <a:pt x="144" y="446"/>
                    </a:lnTo>
                    <a:lnTo>
                      <a:pt x="156" y="451"/>
                    </a:lnTo>
                    <a:lnTo>
                      <a:pt x="168" y="458"/>
                    </a:lnTo>
                    <a:lnTo>
                      <a:pt x="180" y="462"/>
                    </a:lnTo>
                    <a:lnTo>
                      <a:pt x="194" y="466"/>
                    </a:lnTo>
                    <a:lnTo>
                      <a:pt x="206" y="470"/>
                    </a:lnTo>
                    <a:lnTo>
                      <a:pt x="220" y="473"/>
                    </a:lnTo>
                    <a:lnTo>
                      <a:pt x="233" y="476"/>
                    </a:lnTo>
                    <a:lnTo>
                      <a:pt x="247" y="478"/>
                    </a:lnTo>
                    <a:lnTo>
                      <a:pt x="261" y="479"/>
                    </a:lnTo>
                    <a:lnTo>
                      <a:pt x="275" y="479"/>
                    </a:lnTo>
                    <a:lnTo>
                      <a:pt x="289" y="479"/>
                    </a:lnTo>
                    <a:lnTo>
                      <a:pt x="303" y="478"/>
                    </a:lnTo>
                    <a:lnTo>
                      <a:pt x="317" y="476"/>
                    </a:lnTo>
                    <a:lnTo>
                      <a:pt x="330" y="473"/>
                    </a:lnTo>
                    <a:lnTo>
                      <a:pt x="344" y="470"/>
                    </a:lnTo>
                    <a:lnTo>
                      <a:pt x="357" y="466"/>
                    </a:lnTo>
                    <a:lnTo>
                      <a:pt x="369" y="462"/>
                    </a:lnTo>
                    <a:lnTo>
                      <a:pt x="382" y="458"/>
                    </a:lnTo>
                    <a:lnTo>
                      <a:pt x="395" y="451"/>
                    </a:lnTo>
                    <a:lnTo>
                      <a:pt x="406" y="446"/>
                    </a:lnTo>
                    <a:lnTo>
                      <a:pt x="418" y="439"/>
                    </a:lnTo>
                    <a:lnTo>
                      <a:pt x="429" y="431"/>
                    </a:lnTo>
                    <a:lnTo>
                      <a:pt x="440" y="424"/>
                    </a:lnTo>
                    <a:lnTo>
                      <a:pt x="450" y="416"/>
                    </a:lnTo>
                    <a:lnTo>
                      <a:pt x="460" y="407"/>
                    </a:lnTo>
                    <a:lnTo>
                      <a:pt x="470" y="398"/>
                    </a:lnTo>
                    <a:lnTo>
                      <a:pt x="479" y="388"/>
                    </a:lnTo>
                    <a:lnTo>
                      <a:pt x="487" y="379"/>
                    </a:lnTo>
                    <a:lnTo>
                      <a:pt x="496" y="368"/>
                    </a:lnTo>
                    <a:lnTo>
                      <a:pt x="503" y="358"/>
                    </a:lnTo>
                    <a:lnTo>
                      <a:pt x="510" y="346"/>
                    </a:lnTo>
                    <a:lnTo>
                      <a:pt x="518" y="335"/>
                    </a:lnTo>
                    <a:lnTo>
                      <a:pt x="523" y="323"/>
                    </a:lnTo>
                    <a:lnTo>
                      <a:pt x="529" y="311"/>
                    </a:lnTo>
                    <a:lnTo>
                      <a:pt x="533" y="298"/>
                    </a:lnTo>
                    <a:lnTo>
                      <a:pt x="538" y="286"/>
                    </a:lnTo>
                    <a:lnTo>
                      <a:pt x="542" y="273"/>
                    </a:lnTo>
                    <a:lnTo>
                      <a:pt x="545" y="259"/>
                    </a:lnTo>
                    <a:lnTo>
                      <a:pt x="547" y="246"/>
                    </a:lnTo>
                    <a:lnTo>
                      <a:pt x="549" y="232"/>
                    </a:lnTo>
                    <a:lnTo>
                      <a:pt x="550" y="218"/>
                    </a:lnTo>
                    <a:lnTo>
                      <a:pt x="550" y="20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595680" y="2928960"/>
                <a:ext cx="152280" cy="139680"/>
              </a:xfrm>
              <a:custGeom>
                <a:avLst/>
                <a:gdLst/>
                <a:ahLst/>
                <a:rect l="l" t="t" r="r" b="b"/>
                <a:pathLst>
                  <a:path w="483" h="441">
                    <a:moveTo>
                      <a:pt x="483" y="201"/>
                    </a:moveTo>
                    <a:lnTo>
                      <a:pt x="481" y="186"/>
                    </a:lnTo>
                    <a:lnTo>
                      <a:pt x="480" y="170"/>
                    </a:lnTo>
                    <a:lnTo>
                      <a:pt x="477" y="155"/>
                    </a:lnTo>
                    <a:lnTo>
                      <a:pt x="474" y="141"/>
                    </a:lnTo>
                    <a:lnTo>
                      <a:pt x="470" y="126"/>
                    </a:lnTo>
                    <a:lnTo>
                      <a:pt x="465" y="112"/>
                    </a:lnTo>
                    <a:lnTo>
                      <a:pt x="459" y="99"/>
                    </a:lnTo>
                    <a:lnTo>
                      <a:pt x="452" y="85"/>
                    </a:lnTo>
                    <a:lnTo>
                      <a:pt x="445" y="73"/>
                    </a:lnTo>
                    <a:lnTo>
                      <a:pt x="437" y="61"/>
                    </a:lnTo>
                    <a:lnTo>
                      <a:pt x="428" y="49"/>
                    </a:lnTo>
                    <a:lnTo>
                      <a:pt x="418" y="38"/>
                    </a:lnTo>
                    <a:lnTo>
                      <a:pt x="408" y="28"/>
                    </a:lnTo>
                    <a:lnTo>
                      <a:pt x="397" y="18"/>
                    </a:lnTo>
                    <a:lnTo>
                      <a:pt x="386" y="8"/>
                    </a:lnTo>
                    <a:lnTo>
                      <a:pt x="374" y="0"/>
                    </a:lnTo>
                    <a:lnTo>
                      <a:pt x="302" y="0"/>
                    </a:lnTo>
                    <a:lnTo>
                      <a:pt x="188" y="27"/>
                    </a:lnTo>
                    <a:lnTo>
                      <a:pt x="77" y="58"/>
                    </a:lnTo>
                    <a:lnTo>
                      <a:pt x="42" y="65"/>
                    </a:lnTo>
                    <a:lnTo>
                      <a:pt x="33" y="81"/>
                    </a:lnTo>
                    <a:lnTo>
                      <a:pt x="24" y="96"/>
                    </a:lnTo>
                    <a:lnTo>
                      <a:pt x="18" y="112"/>
                    </a:lnTo>
                    <a:lnTo>
                      <a:pt x="12" y="129"/>
                    </a:lnTo>
                    <a:lnTo>
                      <a:pt x="6" y="146"/>
                    </a:lnTo>
                    <a:lnTo>
                      <a:pt x="3" y="164"/>
                    </a:lnTo>
                    <a:lnTo>
                      <a:pt x="1" y="183"/>
                    </a:lnTo>
                    <a:lnTo>
                      <a:pt x="0" y="201"/>
                    </a:lnTo>
                    <a:lnTo>
                      <a:pt x="1" y="213"/>
                    </a:lnTo>
                    <a:lnTo>
                      <a:pt x="2" y="226"/>
                    </a:lnTo>
                    <a:lnTo>
                      <a:pt x="3" y="237"/>
                    </a:lnTo>
                    <a:lnTo>
                      <a:pt x="5" y="250"/>
                    </a:lnTo>
                    <a:lnTo>
                      <a:pt x="8" y="262"/>
                    </a:lnTo>
                    <a:lnTo>
                      <a:pt x="12" y="272"/>
                    </a:lnTo>
                    <a:lnTo>
                      <a:pt x="15" y="284"/>
                    </a:lnTo>
                    <a:lnTo>
                      <a:pt x="19" y="294"/>
                    </a:lnTo>
                    <a:lnTo>
                      <a:pt x="24" y="306"/>
                    </a:lnTo>
                    <a:lnTo>
                      <a:pt x="29" y="316"/>
                    </a:lnTo>
                    <a:lnTo>
                      <a:pt x="35" y="326"/>
                    </a:lnTo>
                    <a:lnTo>
                      <a:pt x="41" y="335"/>
                    </a:lnTo>
                    <a:lnTo>
                      <a:pt x="48" y="344"/>
                    </a:lnTo>
                    <a:lnTo>
                      <a:pt x="56" y="354"/>
                    </a:lnTo>
                    <a:lnTo>
                      <a:pt x="63" y="362"/>
                    </a:lnTo>
                    <a:lnTo>
                      <a:pt x="70" y="371"/>
                    </a:lnTo>
                    <a:lnTo>
                      <a:pt x="79" y="379"/>
                    </a:lnTo>
                    <a:lnTo>
                      <a:pt x="88" y="386"/>
                    </a:lnTo>
                    <a:lnTo>
                      <a:pt x="97" y="394"/>
                    </a:lnTo>
                    <a:lnTo>
                      <a:pt x="106" y="400"/>
                    </a:lnTo>
                    <a:lnTo>
                      <a:pt x="117" y="406"/>
                    </a:lnTo>
                    <a:lnTo>
                      <a:pt x="126" y="413"/>
                    </a:lnTo>
                    <a:lnTo>
                      <a:pt x="137" y="418"/>
                    </a:lnTo>
                    <a:lnTo>
                      <a:pt x="147" y="422"/>
                    </a:lnTo>
                    <a:lnTo>
                      <a:pt x="159" y="427"/>
                    </a:lnTo>
                    <a:lnTo>
                      <a:pt x="169" y="431"/>
                    </a:lnTo>
                    <a:lnTo>
                      <a:pt x="181" y="434"/>
                    </a:lnTo>
                    <a:lnTo>
                      <a:pt x="192" y="437"/>
                    </a:lnTo>
                    <a:lnTo>
                      <a:pt x="204" y="439"/>
                    </a:lnTo>
                    <a:lnTo>
                      <a:pt x="217" y="440"/>
                    </a:lnTo>
                    <a:lnTo>
                      <a:pt x="229" y="441"/>
                    </a:lnTo>
                    <a:lnTo>
                      <a:pt x="241" y="441"/>
                    </a:lnTo>
                    <a:lnTo>
                      <a:pt x="253" y="441"/>
                    </a:lnTo>
                    <a:lnTo>
                      <a:pt x="266" y="440"/>
                    </a:lnTo>
                    <a:lnTo>
                      <a:pt x="278" y="439"/>
                    </a:lnTo>
                    <a:lnTo>
                      <a:pt x="290" y="437"/>
                    </a:lnTo>
                    <a:lnTo>
                      <a:pt x="302" y="434"/>
                    </a:lnTo>
                    <a:lnTo>
                      <a:pt x="312" y="431"/>
                    </a:lnTo>
                    <a:lnTo>
                      <a:pt x="324" y="427"/>
                    </a:lnTo>
                    <a:lnTo>
                      <a:pt x="335" y="422"/>
                    </a:lnTo>
                    <a:lnTo>
                      <a:pt x="346" y="418"/>
                    </a:lnTo>
                    <a:lnTo>
                      <a:pt x="356" y="413"/>
                    </a:lnTo>
                    <a:lnTo>
                      <a:pt x="366" y="406"/>
                    </a:lnTo>
                    <a:lnTo>
                      <a:pt x="375" y="400"/>
                    </a:lnTo>
                    <a:lnTo>
                      <a:pt x="385" y="394"/>
                    </a:lnTo>
                    <a:lnTo>
                      <a:pt x="394" y="386"/>
                    </a:lnTo>
                    <a:lnTo>
                      <a:pt x="403" y="379"/>
                    </a:lnTo>
                    <a:lnTo>
                      <a:pt x="411" y="371"/>
                    </a:lnTo>
                    <a:lnTo>
                      <a:pt x="419" y="362"/>
                    </a:lnTo>
                    <a:lnTo>
                      <a:pt x="427" y="354"/>
                    </a:lnTo>
                    <a:lnTo>
                      <a:pt x="434" y="344"/>
                    </a:lnTo>
                    <a:lnTo>
                      <a:pt x="440" y="335"/>
                    </a:lnTo>
                    <a:lnTo>
                      <a:pt x="447" y="326"/>
                    </a:lnTo>
                    <a:lnTo>
                      <a:pt x="453" y="316"/>
                    </a:lnTo>
                    <a:lnTo>
                      <a:pt x="458" y="306"/>
                    </a:lnTo>
                    <a:lnTo>
                      <a:pt x="463" y="294"/>
                    </a:lnTo>
                    <a:lnTo>
                      <a:pt x="468" y="284"/>
                    </a:lnTo>
                    <a:lnTo>
                      <a:pt x="471" y="272"/>
                    </a:lnTo>
                    <a:lnTo>
                      <a:pt x="474" y="262"/>
                    </a:lnTo>
                    <a:lnTo>
                      <a:pt x="477" y="250"/>
                    </a:lnTo>
                    <a:lnTo>
                      <a:pt x="479" y="237"/>
                    </a:lnTo>
                    <a:lnTo>
                      <a:pt x="480" y="226"/>
                    </a:lnTo>
                    <a:lnTo>
                      <a:pt x="481" y="213"/>
                    </a:lnTo>
                    <a:lnTo>
                      <a:pt x="483" y="201"/>
                    </a:lnTo>
                    <a:close/>
                    <a:moveTo>
                      <a:pt x="413" y="201"/>
                    </a:moveTo>
                    <a:lnTo>
                      <a:pt x="412" y="218"/>
                    </a:lnTo>
                    <a:lnTo>
                      <a:pt x="410" y="235"/>
                    </a:lnTo>
                    <a:lnTo>
                      <a:pt x="406" y="252"/>
                    </a:lnTo>
                    <a:lnTo>
                      <a:pt x="399" y="268"/>
                    </a:lnTo>
                    <a:lnTo>
                      <a:pt x="392" y="283"/>
                    </a:lnTo>
                    <a:lnTo>
                      <a:pt x="384" y="297"/>
                    </a:lnTo>
                    <a:lnTo>
                      <a:pt x="374" y="310"/>
                    </a:lnTo>
                    <a:lnTo>
                      <a:pt x="363" y="322"/>
                    </a:lnTo>
                    <a:lnTo>
                      <a:pt x="351" y="334"/>
                    </a:lnTo>
                    <a:lnTo>
                      <a:pt x="337" y="343"/>
                    </a:lnTo>
                    <a:lnTo>
                      <a:pt x="323" y="352"/>
                    </a:lnTo>
                    <a:lnTo>
                      <a:pt x="308" y="359"/>
                    </a:lnTo>
                    <a:lnTo>
                      <a:pt x="292" y="365"/>
                    </a:lnTo>
                    <a:lnTo>
                      <a:pt x="275" y="370"/>
                    </a:lnTo>
                    <a:lnTo>
                      <a:pt x="259" y="372"/>
                    </a:lnTo>
                    <a:lnTo>
                      <a:pt x="241" y="373"/>
                    </a:lnTo>
                    <a:lnTo>
                      <a:pt x="224" y="372"/>
                    </a:lnTo>
                    <a:lnTo>
                      <a:pt x="206" y="370"/>
                    </a:lnTo>
                    <a:lnTo>
                      <a:pt x="190" y="365"/>
                    </a:lnTo>
                    <a:lnTo>
                      <a:pt x="175" y="359"/>
                    </a:lnTo>
                    <a:lnTo>
                      <a:pt x="159" y="352"/>
                    </a:lnTo>
                    <a:lnTo>
                      <a:pt x="145" y="343"/>
                    </a:lnTo>
                    <a:lnTo>
                      <a:pt x="131" y="334"/>
                    </a:lnTo>
                    <a:lnTo>
                      <a:pt x="120" y="322"/>
                    </a:lnTo>
                    <a:lnTo>
                      <a:pt x="108" y="310"/>
                    </a:lnTo>
                    <a:lnTo>
                      <a:pt x="99" y="297"/>
                    </a:lnTo>
                    <a:lnTo>
                      <a:pt x="90" y="283"/>
                    </a:lnTo>
                    <a:lnTo>
                      <a:pt x="83" y="268"/>
                    </a:lnTo>
                    <a:lnTo>
                      <a:pt x="77" y="252"/>
                    </a:lnTo>
                    <a:lnTo>
                      <a:pt x="73" y="235"/>
                    </a:lnTo>
                    <a:lnTo>
                      <a:pt x="70" y="218"/>
                    </a:lnTo>
                    <a:lnTo>
                      <a:pt x="69" y="201"/>
                    </a:lnTo>
                    <a:lnTo>
                      <a:pt x="70" y="184"/>
                    </a:lnTo>
                    <a:lnTo>
                      <a:pt x="73" y="166"/>
                    </a:lnTo>
                    <a:lnTo>
                      <a:pt x="77" y="150"/>
                    </a:lnTo>
                    <a:lnTo>
                      <a:pt x="83" y="134"/>
                    </a:lnTo>
                    <a:lnTo>
                      <a:pt x="90" y="119"/>
                    </a:lnTo>
                    <a:lnTo>
                      <a:pt x="99" y="105"/>
                    </a:lnTo>
                    <a:lnTo>
                      <a:pt x="108" y="91"/>
                    </a:lnTo>
                    <a:lnTo>
                      <a:pt x="120" y="80"/>
                    </a:lnTo>
                    <a:lnTo>
                      <a:pt x="131" y="68"/>
                    </a:lnTo>
                    <a:lnTo>
                      <a:pt x="145" y="59"/>
                    </a:lnTo>
                    <a:lnTo>
                      <a:pt x="159" y="49"/>
                    </a:lnTo>
                    <a:lnTo>
                      <a:pt x="175" y="42"/>
                    </a:lnTo>
                    <a:lnTo>
                      <a:pt x="190" y="37"/>
                    </a:lnTo>
                    <a:lnTo>
                      <a:pt x="206" y="33"/>
                    </a:lnTo>
                    <a:lnTo>
                      <a:pt x="224" y="29"/>
                    </a:lnTo>
                    <a:lnTo>
                      <a:pt x="241" y="29"/>
                    </a:lnTo>
                    <a:lnTo>
                      <a:pt x="259" y="29"/>
                    </a:lnTo>
                    <a:lnTo>
                      <a:pt x="275" y="33"/>
                    </a:lnTo>
                    <a:lnTo>
                      <a:pt x="292" y="37"/>
                    </a:lnTo>
                    <a:lnTo>
                      <a:pt x="308" y="42"/>
                    </a:lnTo>
                    <a:lnTo>
                      <a:pt x="323" y="49"/>
                    </a:lnTo>
                    <a:lnTo>
                      <a:pt x="337" y="59"/>
                    </a:lnTo>
                    <a:lnTo>
                      <a:pt x="351" y="68"/>
                    </a:lnTo>
                    <a:lnTo>
                      <a:pt x="363" y="80"/>
                    </a:lnTo>
                    <a:lnTo>
                      <a:pt x="374" y="91"/>
                    </a:lnTo>
                    <a:lnTo>
                      <a:pt x="384" y="105"/>
                    </a:lnTo>
                    <a:lnTo>
                      <a:pt x="392" y="119"/>
                    </a:lnTo>
                    <a:lnTo>
                      <a:pt x="399" y="134"/>
                    </a:lnTo>
                    <a:lnTo>
                      <a:pt x="406" y="150"/>
                    </a:lnTo>
                    <a:lnTo>
                      <a:pt x="410" y="166"/>
                    </a:lnTo>
                    <a:lnTo>
                      <a:pt x="412" y="184"/>
                    </a:lnTo>
                    <a:lnTo>
                      <a:pt x="413" y="20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606840" y="2930400"/>
                <a:ext cx="129960" cy="128880"/>
              </a:xfrm>
              <a:custGeom>
                <a:avLst/>
                <a:gdLst/>
                <a:ahLst/>
                <a:rect l="l" t="t" r="r" b="b"/>
                <a:pathLst>
                  <a:path w="413" h="405">
                    <a:moveTo>
                      <a:pt x="413" y="199"/>
                    </a:moveTo>
                    <a:lnTo>
                      <a:pt x="412" y="182"/>
                    </a:lnTo>
                    <a:lnTo>
                      <a:pt x="410" y="164"/>
                    </a:lnTo>
                    <a:lnTo>
                      <a:pt x="407" y="147"/>
                    </a:lnTo>
                    <a:lnTo>
                      <a:pt x="401" y="131"/>
                    </a:lnTo>
                    <a:lnTo>
                      <a:pt x="395" y="116"/>
                    </a:lnTo>
                    <a:lnTo>
                      <a:pt x="388" y="101"/>
                    </a:lnTo>
                    <a:lnTo>
                      <a:pt x="379" y="86"/>
                    </a:lnTo>
                    <a:lnTo>
                      <a:pt x="370" y="73"/>
                    </a:lnTo>
                    <a:lnTo>
                      <a:pt x="359" y="60"/>
                    </a:lnTo>
                    <a:lnTo>
                      <a:pt x="347" y="48"/>
                    </a:lnTo>
                    <a:lnTo>
                      <a:pt x="334" y="38"/>
                    </a:lnTo>
                    <a:lnTo>
                      <a:pt x="321" y="27"/>
                    </a:lnTo>
                    <a:lnTo>
                      <a:pt x="307" y="19"/>
                    </a:lnTo>
                    <a:lnTo>
                      <a:pt x="292" y="12"/>
                    </a:lnTo>
                    <a:lnTo>
                      <a:pt x="276" y="5"/>
                    </a:lnTo>
                    <a:lnTo>
                      <a:pt x="260" y="0"/>
                    </a:lnTo>
                    <a:lnTo>
                      <a:pt x="153" y="25"/>
                    </a:lnTo>
                    <a:lnTo>
                      <a:pt x="65" y="50"/>
                    </a:lnTo>
                    <a:lnTo>
                      <a:pt x="50" y="64"/>
                    </a:lnTo>
                    <a:lnTo>
                      <a:pt x="38" y="80"/>
                    </a:lnTo>
                    <a:lnTo>
                      <a:pt x="27" y="98"/>
                    </a:lnTo>
                    <a:lnTo>
                      <a:pt x="18" y="116"/>
                    </a:lnTo>
                    <a:lnTo>
                      <a:pt x="13" y="126"/>
                    </a:lnTo>
                    <a:lnTo>
                      <a:pt x="10" y="136"/>
                    </a:lnTo>
                    <a:lnTo>
                      <a:pt x="7" y="146"/>
                    </a:lnTo>
                    <a:lnTo>
                      <a:pt x="4" y="156"/>
                    </a:lnTo>
                    <a:lnTo>
                      <a:pt x="3" y="166"/>
                    </a:lnTo>
                    <a:lnTo>
                      <a:pt x="1" y="178"/>
                    </a:lnTo>
                    <a:lnTo>
                      <a:pt x="0" y="188"/>
                    </a:lnTo>
                    <a:lnTo>
                      <a:pt x="0" y="199"/>
                    </a:lnTo>
                    <a:lnTo>
                      <a:pt x="0" y="209"/>
                    </a:lnTo>
                    <a:lnTo>
                      <a:pt x="1" y="220"/>
                    </a:lnTo>
                    <a:lnTo>
                      <a:pt x="2" y="230"/>
                    </a:lnTo>
                    <a:lnTo>
                      <a:pt x="4" y="241"/>
                    </a:lnTo>
                    <a:lnTo>
                      <a:pt x="6" y="250"/>
                    </a:lnTo>
                    <a:lnTo>
                      <a:pt x="9" y="261"/>
                    </a:lnTo>
                    <a:lnTo>
                      <a:pt x="12" y="270"/>
                    </a:lnTo>
                    <a:lnTo>
                      <a:pt x="16" y="279"/>
                    </a:lnTo>
                    <a:lnTo>
                      <a:pt x="25" y="297"/>
                    </a:lnTo>
                    <a:lnTo>
                      <a:pt x="35" y="314"/>
                    </a:lnTo>
                    <a:lnTo>
                      <a:pt x="47" y="330"/>
                    </a:lnTo>
                    <a:lnTo>
                      <a:pt x="61" y="345"/>
                    </a:lnTo>
                    <a:lnTo>
                      <a:pt x="74" y="358"/>
                    </a:lnTo>
                    <a:lnTo>
                      <a:pt x="91" y="370"/>
                    </a:lnTo>
                    <a:lnTo>
                      <a:pt x="108" y="380"/>
                    </a:lnTo>
                    <a:lnTo>
                      <a:pt x="126" y="389"/>
                    </a:lnTo>
                    <a:lnTo>
                      <a:pt x="135" y="393"/>
                    </a:lnTo>
                    <a:lnTo>
                      <a:pt x="145" y="396"/>
                    </a:lnTo>
                    <a:lnTo>
                      <a:pt x="154" y="399"/>
                    </a:lnTo>
                    <a:lnTo>
                      <a:pt x="165" y="401"/>
                    </a:lnTo>
                    <a:lnTo>
                      <a:pt x="174" y="402"/>
                    </a:lnTo>
                    <a:lnTo>
                      <a:pt x="185" y="404"/>
                    </a:lnTo>
                    <a:lnTo>
                      <a:pt x="195" y="404"/>
                    </a:lnTo>
                    <a:lnTo>
                      <a:pt x="206" y="405"/>
                    </a:lnTo>
                    <a:lnTo>
                      <a:pt x="216" y="404"/>
                    </a:lnTo>
                    <a:lnTo>
                      <a:pt x="227" y="404"/>
                    </a:lnTo>
                    <a:lnTo>
                      <a:pt x="237" y="402"/>
                    </a:lnTo>
                    <a:lnTo>
                      <a:pt x="248" y="401"/>
                    </a:lnTo>
                    <a:lnTo>
                      <a:pt x="257" y="399"/>
                    </a:lnTo>
                    <a:lnTo>
                      <a:pt x="268" y="396"/>
                    </a:lnTo>
                    <a:lnTo>
                      <a:pt x="277" y="393"/>
                    </a:lnTo>
                    <a:lnTo>
                      <a:pt x="287" y="389"/>
                    </a:lnTo>
                    <a:lnTo>
                      <a:pt x="305" y="380"/>
                    </a:lnTo>
                    <a:lnTo>
                      <a:pt x="321" y="370"/>
                    </a:lnTo>
                    <a:lnTo>
                      <a:pt x="337" y="358"/>
                    </a:lnTo>
                    <a:lnTo>
                      <a:pt x="352" y="345"/>
                    </a:lnTo>
                    <a:lnTo>
                      <a:pt x="366" y="330"/>
                    </a:lnTo>
                    <a:lnTo>
                      <a:pt x="377" y="314"/>
                    </a:lnTo>
                    <a:lnTo>
                      <a:pt x="388" y="297"/>
                    </a:lnTo>
                    <a:lnTo>
                      <a:pt x="396" y="279"/>
                    </a:lnTo>
                    <a:lnTo>
                      <a:pt x="403" y="261"/>
                    </a:lnTo>
                    <a:lnTo>
                      <a:pt x="409" y="241"/>
                    </a:lnTo>
                    <a:lnTo>
                      <a:pt x="410" y="230"/>
                    </a:lnTo>
                    <a:lnTo>
                      <a:pt x="412" y="220"/>
                    </a:lnTo>
                    <a:lnTo>
                      <a:pt x="412" y="209"/>
                    </a:lnTo>
                    <a:lnTo>
                      <a:pt x="413" y="199"/>
                    </a:lnTo>
                    <a:close/>
                    <a:moveTo>
                      <a:pt x="343" y="199"/>
                    </a:moveTo>
                    <a:lnTo>
                      <a:pt x="343" y="213"/>
                    </a:lnTo>
                    <a:lnTo>
                      <a:pt x="341" y="227"/>
                    </a:lnTo>
                    <a:lnTo>
                      <a:pt x="337" y="240"/>
                    </a:lnTo>
                    <a:lnTo>
                      <a:pt x="333" y="252"/>
                    </a:lnTo>
                    <a:lnTo>
                      <a:pt x="327" y="265"/>
                    </a:lnTo>
                    <a:lnTo>
                      <a:pt x="320" y="276"/>
                    </a:lnTo>
                    <a:lnTo>
                      <a:pt x="312" y="287"/>
                    </a:lnTo>
                    <a:lnTo>
                      <a:pt x="304" y="296"/>
                    </a:lnTo>
                    <a:lnTo>
                      <a:pt x="294" y="305"/>
                    </a:lnTo>
                    <a:lnTo>
                      <a:pt x="284" y="313"/>
                    </a:lnTo>
                    <a:lnTo>
                      <a:pt x="272" y="319"/>
                    </a:lnTo>
                    <a:lnTo>
                      <a:pt x="259" y="326"/>
                    </a:lnTo>
                    <a:lnTo>
                      <a:pt x="247" y="330"/>
                    </a:lnTo>
                    <a:lnTo>
                      <a:pt x="234" y="334"/>
                    </a:lnTo>
                    <a:lnTo>
                      <a:pt x="220" y="336"/>
                    </a:lnTo>
                    <a:lnTo>
                      <a:pt x="206" y="336"/>
                    </a:lnTo>
                    <a:lnTo>
                      <a:pt x="192" y="336"/>
                    </a:lnTo>
                    <a:lnTo>
                      <a:pt x="178" y="334"/>
                    </a:lnTo>
                    <a:lnTo>
                      <a:pt x="165" y="330"/>
                    </a:lnTo>
                    <a:lnTo>
                      <a:pt x="152" y="326"/>
                    </a:lnTo>
                    <a:lnTo>
                      <a:pt x="141" y="319"/>
                    </a:lnTo>
                    <a:lnTo>
                      <a:pt x="129" y="313"/>
                    </a:lnTo>
                    <a:lnTo>
                      <a:pt x="119" y="305"/>
                    </a:lnTo>
                    <a:lnTo>
                      <a:pt x="109" y="296"/>
                    </a:lnTo>
                    <a:lnTo>
                      <a:pt x="100" y="287"/>
                    </a:lnTo>
                    <a:lnTo>
                      <a:pt x="92" y="276"/>
                    </a:lnTo>
                    <a:lnTo>
                      <a:pt x="85" y="265"/>
                    </a:lnTo>
                    <a:lnTo>
                      <a:pt x="80" y="252"/>
                    </a:lnTo>
                    <a:lnTo>
                      <a:pt x="74" y="240"/>
                    </a:lnTo>
                    <a:lnTo>
                      <a:pt x="71" y="227"/>
                    </a:lnTo>
                    <a:lnTo>
                      <a:pt x="69" y="213"/>
                    </a:lnTo>
                    <a:lnTo>
                      <a:pt x="69" y="199"/>
                    </a:lnTo>
                    <a:lnTo>
                      <a:pt x="69" y="185"/>
                    </a:lnTo>
                    <a:lnTo>
                      <a:pt x="71" y="171"/>
                    </a:lnTo>
                    <a:lnTo>
                      <a:pt x="74" y="158"/>
                    </a:lnTo>
                    <a:lnTo>
                      <a:pt x="80" y="145"/>
                    </a:lnTo>
                    <a:lnTo>
                      <a:pt x="85" y="134"/>
                    </a:lnTo>
                    <a:lnTo>
                      <a:pt x="92" y="122"/>
                    </a:lnTo>
                    <a:lnTo>
                      <a:pt x="100" y="111"/>
                    </a:lnTo>
                    <a:lnTo>
                      <a:pt x="109" y="102"/>
                    </a:lnTo>
                    <a:lnTo>
                      <a:pt x="119" y="93"/>
                    </a:lnTo>
                    <a:lnTo>
                      <a:pt x="129" y="85"/>
                    </a:lnTo>
                    <a:lnTo>
                      <a:pt x="141" y="78"/>
                    </a:lnTo>
                    <a:lnTo>
                      <a:pt x="152" y="73"/>
                    </a:lnTo>
                    <a:lnTo>
                      <a:pt x="165" y="67"/>
                    </a:lnTo>
                    <a:lnTo>
                      <a:pt x="178" y="64"/>
                    </a:lnTo>
                    <a:lnTo>
                      <a:pt x="192" y="62"/>
                    </a:lnTo>
                    <a:lnTo>
                      <a:pt x="206" y="61"/>
                    </a:lnTo>
                    <a:lnTo>
                      <a:pt x="220" y="62"/>
                    </a:lnTo>
                    <a:lnTo>
                      <a:pt x="234" y="64"/>
                    </a:lnTo>
                    <a:lnTo>
                      <a:pt x="247" y="67"/>
                    </a:lnTo>
                    <a:lnTo>
                      <a:pt x="259" y="73"/>
                    </a:lnTo>
                    <a:lnTo>
                      <a:pt x="272" y="78"/>
                    </a:lnTo>
                    <a:lnTo>
                      <a:pt x="284" y="85"/>
                    </a:lnTo>
                    <a:lnTo>
                      <a:pt x="294" y="93"/>
                    </a:lnTo>
                    <a:lnTo>
                      <a:pt x="304" y="102"/>
                    </a:lnTo>
                    <a:lnTo>
                      <a:pt x="312" y="111"/>
                    </a:lnTo>
                    <a:lnTo>
                      <a:pt x="320" y="122"/>
                    </a:lnTo>
                    <a:lnTo>
                      <a:pt x="327" y="134"/>
                    </a:lnTo>
                    <a:lnTo>
                      <a:pt x="333" y="145"/>
                    </a:lnTo>
                    <a:lnTo>
                      <a:pt x="337" y="158"/>
                    </a:lnTo>
                    <a:lnTo>
                      <a:pt x="341" y="171"/>
                    </a:lnTo>
                    <a:lnTo>
                      <a:pt x="343" y="185"/>
                    </a:lnTo>
                    <a:lnTo>
                      <a:pt x="343" y="19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616200" y="293832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344" y="172"/>
                    </a:moveTo>
                    <a:lnTo>
                      <a:pt x="343" y="155"/>
                    </a:lnTo>
                    <a:lnTo>
                      <a:pt x="341" y="137"/>
                    </a:lnTo>
                    <a:lnTo>
                      <a:pt x="337" y="121"/>
                    </a:lnTo>
                    <a:lnTo>
                      <a:pt x="330" y="105"/>
                    </a:lnTo>
                    <a:lnTo>
                      <a:pt x="323" y="90"/>
                    </a:lnTo>
                    <a:lnTo>
                      <a:pt x="315" y="76"/>
                    </a:lnTo>
                    <a:lnTo>
                      <a:pt x="305" y="62"/>
                    </a:lnTo>
                    <a:lnTo>
                      <a:pt x="294" y="51"/>
                    </a:lnTo>
                    <a:lnTo>
                      <a:pt x="281" y="39"/>
                    </a:lnTo>
                    <a:lnTo>
                      <a:pt x="268" y="30"/>
                    </a:lnTo>
                    <a:lnTo>
                      <a:pt x="254" y="20"/>
                    </a:lnTo>
                    <a:lnTo>
                      <a:pt x="239" y="14"/>
                    </a:lnTo>
                    <a:lnTo>
                      <a:pt x="223" y="8"/>
                    </a:lnTo>
                    <a:lnTo>
                      <a:pt x="206" y="4"/>
                    </a:lnTo>
                    <a:lnTo>
                      <a:pt x="190" y="2"/>
                    </a:lnTo>
                    <a:lnTo>
                      <a:pt x="172" y="0"/>
                    </a:lnTo>
                    <a:lnTo>
                      <a:pt x="155" y="2"/>
                    </a:lnTo>
                    <a:lnTo>
                      <a:pt x="137" y="4"/>
                    </a:lnTo>
                    <a:lnTo>
                      <a:pt x="121" y="8"/>
                    </a:lnTo>
                    <a:lnTo>
                      <a:pt x="106" y="14"/>
                    </a:lnTo>
                    <a:lnTo>
                      <a:pt x="90" y="20"/>
                    </a:lnTo>
                    <a:lnTo>
                      <a:pt x="76" y="30"/>
                    </a:lnTo>
                    <a:lnTo>
                      <a:pt x="62" y="39"/>
                    </a:lnTo>
                    <a:lnTo>
                      <a:pt x="51" y="51"/>
                    </a:lnTo>
                    <a:lnTo>
                      <a:pt x="39" y="62"/>
                    </a:lnTo>
                    <a:lnTo>
                      <a:pt x="30" y="76"/>
                    </a:lnTo>
                    <a:lnTo>
                      <a:pt x="21" y="90"/>
                    </a:lnTo>
                    <a:lnTo>
                      <a:pt x="14" y="105"/>
                    </a:lnTo>
                    <a:lnTo>
                      <a:pt x="8" y="121"/>
                    </a:lnTo>
                    <a:lnTo>
                      <a:pt x="4" y="137"/>
                    </a:lnTo>
                    <a:lnTo>
                      <a:pt x="1" y="155"/>
                    </a:lnTo>
                    <a:lnTo>
                      <a:pt x="0" y="172"/>
                    </a:lnTo>
                    <a:lnTo>
                      <a:pt x="1" y="189"/>
                    </a:lnTo>
                    <a:lnTo>
                      <a:pt x="4" y="206"/>
                    </a:lnTo>
                    <a:lnTo>
                      <a:pt x="8" y="223"/>
                    </a:lnTo>
                    <a:lnTo>
                      <a:pt x="14" y="239"/>
                    </a:lnTo>
                    <a:lnTo>
                      <a:pt x="21" y="254"/>
                    </a:lnTo>
                    <a:lnTo>
                      <a:pt x="30" y="268"/>
                    </a:lnTo>
                    <a:lnTo>
                      <a:pt x="39" y="281"/>
                    </a:lnTo>
                    <a:lnTo>
                      <a:pt x="51" y="293"/>
                    </a:lnTo>
                    <a:lnTo>
                      <a:pt x="62" y="305"/>
                    </a:lnTo>
                    <a:lnTo>
                      <a:pt x="76" y="314"/>
                    </a:lnTo>
                    <a:lnTo>
                      <a:pt x="90" y="323"/>
                    </a:lnTo>
                    <a:lnTo>
                      <a:pt x="106" y="330"/>
                    </a:lnTo>
                    <a:lnTo>
                      <a:pt x="121" y="336"/>
                    </a:lnTo>
                    <a:lnTo>
                      <a:pt x="137" y="341"/>
                    </a:lnTo>
                    <a:lnTo>
                      <a:pt x="155" y="343"/>
                    </a:lnTo>
                    <a:lnTo>
                      <a:pt x="172" y="344"/>
                    </a:lnTo>
                    <a:lnTo>
                      <a:pt x="190" y="343"/>
                    </a:lnTo>
                    <a:lnTo>
                      <a:pt x="206" y="341"/>
                    </a:lnTo>
                    <a:lnTo>
                      <a:pt x="223" y="336"/>
                    </a:lnTo>
                    <a:lnTo>
                      <a:pt x="239" y="330"/>
                    </a:lnTo>
                    <a:lnTo>
                      <a:pt x="254" y="323"/>
                    </a:lnTo>
                    <a:lnTo>
                      <a:pt x="268" y="314"/>
                    </a:lnTo>
                    <a:lnTo>
                      <a:pt x="281" y="305"/>
                    </a:lnTo>
                    <a:lnTo>
                      <a:pt x="294" y="293"/>
                    </a:lnTo>
                    <a:lnTo>
                      <a:pt x="305" y="281"/>
                    </a:lnTo>
                    <a:lnTo>
                      <a:pt x="315" y="268"/>
                    </a:lnTo>
                    <a:lnTo>
                      <a:pt x="323" y="254"/>
                    </a:lnTo>
                    <a:lnTo>
                      <a:pt x="330" y="239"/>
                    </a:lnTo>
                    <a:lnTo>
                      <a:pt x="337" y="223"/>
                    </a:lnTo>
                    <a:lnTo>
                      <a:pt x="341" y="206"/>
                    </a:lnTo>
                    <a:lnTo>
                      <a:pt x="343" y="189"/>
                    </a:lnTo>
                    <a:lnTo>
                      <a:pt x="344" y="172"/>
                    </a:lnTo>
                    <a:close/>
                    <a:moveTo>
                      <a:pt x="276" y="172"/>
                    </a:moveTo>
                    <a:lnTo>
                      <a:pt x="275" y="182"/>
                    </a:lnTo>
                    <a:lnTo>
                      <a:pt x="274" y="193"/>
                    </a:lnTo>
                    <a:lnTo>
                      <a:pt x="271" y="203"/>
                    </a:lnTo>
                    <a:lnTo>
                      <a:pt x="267" y="212"/>
                    </a:lnTo>
                    <a:lnTo>
                      <a:pt x="263" y="221"/>
                    </a:lnTo>
                    <a:lnTo>
                      <a:pt x="258" y="229"/>
                    </a:lnTo>
                    <a:lnTo>
                      <a:pt x="252" y="238"/>
                    </a:lnTo>
                    <a:lnTo>
                      <a:pt x="245" y="245"/>
                    </a:lnTo>
                    <a:lnTo>
                      <a:pt x="238" y="251"/>
                    </a:lnTo>
                    <a:lnTo>
                      <a:pt x="230" y="258"/>
                    </a:lnTo>
                    <a:lnTo>
                      <a:pt x="221" y="263"/>
                    </a:lnTo>
                    <a:lnTo>
                      <a:pt x="213" y="267"/>
                    </a:lnTo>
                    <a:lnTo>
                      <a:pt x="203" y="270"/>
                    </a:lnTo>
                    <a:lnTo>
                      <a:pt x="193" y="272"/>
                    </a:lnTo>
                    <a:lnTo>
                      <a:pt x="182" y="275"/>
                    </a:lnTo>
                    <a:lnTo>
                      <a:pt x="172" y="275"/>
                    </a:lnTo>
                    <a:lnTo>
                      <a:pt x="161" y="275"/>
                    </a:lnTo>
                    <a:lnTo>
                      <a:pt x="152" y="272"/>
                    </a:lnTo>
                    <a:lnTo>
                      <a:pt x="141" y="270"/>
                    </a:lnTo>
                    <a:lnTo>
                      <a:pt x="132" y="267"/>
                    </a:lnTo>
                    <a:lnTo>
                      <a:pt x="123" y="263"/>
                    </a:lnTo>
                    <a:lnTo>
                      <a:pt x="115" y="258"/>
                    </a:lnTo>
                    <a:lnTo>
                      <a:pt x="107" y="251"/>
                    </a:lnTo>
                    <a:lnTo>
                      <a:pt x="99" y="245"/>
                    </a:lnTo>
                    <a:lnTo>
                      <a:pt x="93" y="238"/>
                    </a:lnTo>
                    <a:lnTo>
                      <a:pt x="87" y="229"/>
                    </a:lnTo>
                    <a:lnTo>
                      <a:pt x="81" y="221"/>
                    </a:lnTo>
                    <a:lnTo>
                      <a:pt x="77" y="212"/>
                    </a:lnTo>
                    <a:lnTo>
                      <a:pt x="74" y="203"/>
                    </a:lnTo>
                    <a:lnTo>
                      <a:pt x="71" y="193"/>
                    </a:lnTo>
                    <a:lnTo>
                      <a:pt x="70" y="182"/>
                    </a:lnTo>
                    <a:lnTo>
                      <a:pt x="69" y="172"/>
                    </a:lnTo>
                    <a:lnTo>
                      <a:pt x="70" y="161"/>
                    </a:lnTo>
                    <a:lnTo>
                      <a:pt x="71" y="152"/>
                    </a:lnTo>
                    <a:lnTo>
                      <a:pt x="74" y="141"/>
                    </a:lnTo>
                    <a:lnTo>
                      <a:pt x="77" y="132"/>
                    </a:lnTo>
                    <a:lnTo>
                      <a:pt x="81" y="123"/>
                    </a:lnTo>
                    <a:lnTo>
                      <a:pt x="87" y="114"/>
                    </a:lnTo>
                    <a:lnTo>
                      <a:pt x="93" y="107"/>
                    </a:lnTo>
                    <a:lnTo>
                      <a:pt x="99" y="99"/>
                    </a:lnTo>
                    <a:lnTo>
                      <a:pt x="107" y="93"/>
                    </a:lnTo>
                    <a:lnTo>
                      <a:pt x="115" y="87"/>
                    </a:lnTo>
                    <a:lnTo>
                      <a:pt x="123" y="81"/>
                    </a:lnTo>
                    <a:lnTo>
                      <a:pt x="132" y="77"/>
                    </a:lnTo>
                    <a:lnTo>
                      <a:pt x="141" y="74"/>
                    </a:lnTo>
                    <a:lnTo>
                      <a:pt x="152" y="71"/>
                    </a:lnTo>
                    <a:lnTo>
                      <a:pt x="161" y="70"/>
                    </a:lnTo>
                    <a:lnTo>
                      <a:pt x="172" y="69"/>
                    </a:lnTo>
                    <a:lnTo>
                      <a:pt x="182" y="70"/>
                    </a:lnTo>
                    <a:lnTo>
                      <a:pt x="193" y="71"/>
                    </a:lnTo>
                    <a:lnTo>
                      <a:pt x="203" y="74"/>
                    </a:lnTo>
                    <a:lnTo>
                      <a:pt x="213" y="77"/>
                    </a:lnTo>
                    <a:lnTo>
                      <a:pt x="221" y="81"/>
                    </a:lnTo>
                    <a:lnTo>
                      <a:pt x="230" y="87"/>
                    </a:lnTo>
                    <a:lnTo>
                      <a:pt x="238" y="93"/>
                    </a:lnTo>
                    <a:lnTo>
                      <a:pt x="245" y="99"/>
                    </a:lnTo>
                    <a:lnTo>
                      <a:pt x="252" y="107"/>
                    </a:lnTo>
                    <a:lnTo>
                      <a:pt x="258" y="114"/>
                    </a:lnTo>
                    <a:lnTo>
                      <a:pt x="263" y="123"/>
                    </a:lnTo>
                    <a:lnTo>
                      <a:pt x="267" y="132"/>
                    </a:lnTo>
                    <a:lnTo>
                      <a:pt x="271" y="141"/>
                    </a:lnTo>
                    <a:lnTo>
                      <a:pt x="274" y="152"/>
                    </a:lnTo>
                    <a:lnTo>
                      <a:pt x="275" y="161"/>
                    </a:lnTo>
                    <a:lnTo>
                      <a:pt x="276" y="172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627360" y="29494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274" h="275">
                    <a:moveTo>
                      <a:pt x="274" y="138"/>
                    </a:moveTo>
                    <a:lnTo>
                      <a:pt x="274" y="124"/>
                    </a:lnTo>
                    <a:lnTo>
                      <a:pt x="272" y="110"/>
                    </a:lnTo>
                    <a:lnTo>
                      <a:pt x="268" y="97"/>
                    </a:lnTo>
                    <a:lnTo>
                      <a:pt x="264" y="84"/>
                    </a:lnTo>
                    <a:lnTo>
                      <a:pt x="258" y="73"/>
                    </a:lnTo>
                    <a:lnTo>
                      <a:pt x="251" y="61"/>
                    </a:lnTo>
                    <a:lnTo>
                      <a:pt x="243" y="50"/>
                    </a:lnTo>
                    <a:lnTo>
                      <a:pt x="235" y="41"/>
                    </a:lnTo>
                    <a:lnTo>
                      <a:pt x="225" y="32"/>
                    </a:lnTo>
                    <a:lnTo>
                      <a:pt x="215" y="24"/>
                    </a:lnTo>
                    <a:lnTo>
                      <a:pt x="203" y="17"/>
                    </a:lnTo>
                    <a:lnTo>
                      <a:pt x="190" y="12"/>
                    </a:lnTo>
                    <a:lnTo>
                      <a:pt x="178" y="6"/>
                    </a:lnTo>
                    <a:lnTo>
                      <a:pt x="165" y="3"/>
                    </a:lnTo>
                    <a:lnTo>
                      <a:pt x="151" y="1"/>
                    </a:lnTo>
                    <a:lnTo>
                      <a:pt x="137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6" y="6"/>
                    </a:lnTo>
                    <a:lnTo>
                      <a:pt x="83" y="12"/>
                    </a:lnTo>
                    <a:lnTo>
                      <a:pt x="72" y="17"/>
                    </a:lnTo>
                    <a:lnTo>
                      <a:pt x="60" y="24"/>
                    </a:lnTo>
                    <a:lnTo>
                      <a:pt x="50" y="32"/>
                    </a:lnTo>
                    <a:lnTo>
                      <a:pt x="40" y="41"/>
                    </a:lnTo>
                    <a:lnTo>
                      <a:pt x="31" y="50"/>
                    </a:lnTo>
                    <a:lnTo>
                      <a:pt x="23" y="61"/>
                    </a:lnTo>
                    <a:lnTo>
                      <a:pt x="16" y="73"/>
                    </a:lnTo>
                    <a:lnTo>
                      <a:pt x="11" y="84"/>
                    </a:lnTo>
                    <a:lnTo>
                      <a:pt x="5" y="97"/>
                    </a:lnTo>
                    <a:lnTo>
                      <a:pt x="2" y="110"/>
                    </a:lnTo>
                    <a:lnTo>
                      <a:pt x="0" y="124"/>
                    </a:lnTo>
                    <a:lnTo>
                      <a:pt x="0" y="138"/>
                    </a:lnTo>
                    <a:lnTo>
                      <a:pt x="0" y="152"/>
                    </a:lnTo>
                    <a:lnTo>
                      <a:pt x="2" y="166"/>
                    </a:lnTo>
                    <a:lnTo>
                      <a:pt x="5" y="179"/>
                    </a:lnTo>
                    <a:lnTo>
                      <a:pt x="11" y="191"/>
                    </a:lnTo>
                    <a:lnTo>
                      <a:pt x="16" y="204"/>
                    </a:lnTo>
                    <a:lnTo>
                      <a:pt x="23" y="215"/>
                    </a:lnTo>
                    <a:lnTo>
                      <a:pt x="31" y="226"/>
                    </a:lnTo>
                    <a:lnTo>
                      <a:pt x="40" y="235"/>
                    </a:lnTo>
                    <a:lnTo>
                      <a:pt x="50" y="244"/>
                    </a:lnTo>
                    <a:lnTo>
                      <a:pt x="60" y="252"/>
                    </a:lnTo>
                    <a:lnTo>
                      <a:pt x="72" y="258"/>
                    </a:lnTo>
                    <a:lnTo>
                      <a:pt x="83" y="265"/>
                    </a:lnTo>
                    <a:lnTo>
                      <a:pt x="96" y="269"/>
                    </a:lnTo>
                    <a:lnTo>
                      <a:pt x="109" y="273"/>
                    </a:lnTo>
                    <a:lnTo>
                      <a:pt x="123" y="275"/>
                    </a:lnTo>
                    <a:lnTo>
                      <a:pt x="137" y="275"/>
                    </a:lnTo>
                    <a:lnTo>
                      <a:pt x="151" y="275"/>
                    </a:lnTo>
                    <a:lnTo>
                      <a:pt x="165" y="273"/>
                    </a:lnTo>
                    <a:lnTo>
                      <a:pt x="178" y="269"/>
                    </a:lnTo>
                    <a:lnTo>
                      <a:pt x="190" y="265"/>
                    </a:lnTo>
                    <a:lnTo>
                      <a:pt x="203" y="258"/>
                    </a:lnTo>
                    <a:lnTo>
                      <a:pt x="215" y="252"/>
                    </a:lnTo>
                    <a:lnTo>
                      <a:pt x="225" y="244"/>
                    </a:lnTo>
                    <a:lnTo>
                      <a:pt x="235" y="235"/>
                    </a:lnTo>
                    <a:lnTo>
                      <a:pt x="243" y="226"/>
                    </a:lnTo>
                    <a:lnTo>
                      <a:pt x="251" y="215"/>
                    </a:lnTo>
                    <a:lnTo>
                      <a:pt x="258" y="204"/>
                    </a:lnTo>
                    <a:lnTo>
                      <a:pt x="264" y="191"/>
                    </a:lnTo>
                    <a:lnTo>
                      <a:pt x="268" y="179"/>
                    </a:lnTo>
                    <a:lnTo>
                      <a:pt x="272" y="166"/>
                    </a:lnTo>
                    <a:lnTo>
                      <a:pt x="274" y="152"/>
                    </a:lnTo>
                    <a:lnTo>
                      <a:pt x="274" y="138"/>
                    </a:lnTo>
                    <a:close/>
                    <a:moveTo>
                      <a:pt x="206" y="138"/>
                    </a:moveTo>
                    <a:lnTo>
                      <a:pt x="206" y="145"/>
                    </a:lnTo>
                    <a:lnTo>
                      <a:pt x="204" y="152"/>
                    </a:lnTo>
                    <a:lnTo>
                      <a:pt x="203" y="159"/>
                    </a:lnTo>
                    <a:lnTo>
                      <a:pt x="201" y="165"/>
                    </a:lnTo>
                    <a:lnTo>
                      <a:pt x="198" y="171"/>
                    </a:lnTo>
                    <a:lnTo>
                      <a:pt x="195" y="176"/>
                    </a:lnTo>
                    <a:lnTo>
                      <a:pt x="190" y="182"/>
                    </a:lnTo>
                    <a:lnTo>
                      <a:pt x="186" y="187"/>
                    </a:lnTo>
                    <a:lnTo>
                      <a:pt x="181" y="191"/>
                    </a:lnTo>
                    <a:lnTo>
                      <a:pt x="176" y="195"/>
                    </a:lnTo>
                    <a:lnTo>
                      <a:pt x="170" y="199"/>
                    </a:lnTo>
                    <a:lnTo>
                      <a:pt x="164" y="202"/>
                    </a:lnTo>
                    <a:lnTo>
                      <a:pt x="158" y="204"/>
                    </a:lnTo>
                    <a:lnTo>
                      <a:pt x="151" y="205"/>
                    </a:lnTo>
                    <a:lnTo>
                      <a:pt x="144" y="206"/>
                    </a:lnTo>
                    <a:lnTo>
                      <a:pt x="137" y="207"/>
                    </a:lnTo>
                    <a:lnTo>
                      <a:pt x="130" y="206"/>
                    </a:lnTo>
                    <a:lnTo>
                      <a:pt x="123" y="205"/>
                    </a:lnTo>
                    <a:lnTo>
                      <a:pt x="117" y="204"/>
                    </a:lnTo>
                    <a:lnTo>
                      <a:pt x="110" y="202"/>
                    </a:lnTo>
                    <a:lnTo>
                      <a:pt x="104" y="199"/>
                    </a:lnTo>
                    <a:lnTo>
                      <a:pt x="99" y="195"/>
                    </a:lnTo>
                    <a:lnTo>
                      <a:pt x="94" y="191"/>
                    </a:lnTo>
                    <a:lnTo>
                      <a:pt x="88" y="187"/>
                    </a:lnTo>
                    <a:lnTo>
                      <a:pt x="84" y="182"/>
                    </a:lnTo>
                    <a:lnTo>
                      <a:pt x="80" y="176"/>
                    </a:lnTo>
                    <a:lnTo>
                      <a:pt x="77" y="171"/>
                    </a:lnTo>
                    <a:lnTo>
                      <a:pt x="74" y="165"/>
                    </a:lnTo>
                    <a:lnTo>
                      <a:pt x="72" y="159"/>
                    </a:lnTo>
                    <a:lnTo>
                      <a:pt x="69" y="152"/>
                    </a:lnTo>
                    <a:lnTo>
                      <a:pt x="68" y="145"/>
                    </a:lnTo>
                    <a:lnTo>
                      <a:pt x="68" y="138"/>
                    </a:lnTo>
                    <a:lnTo>
                      <a:pt x="68" y="131"/>
                    </a:lnTo>
                    <a:lnTo>
                      <a:pt x="69" y="124"/>
                    </a:lnTo>
                    <a:lnTo>
                      <a:pt x="72" y="118"/>
                    </a:lnTo>
                    <a:lnTo>
                      <a:pt x="74" y="111"/>
                    </a:lnTo>
                    <a:lnTo>
                      <a:pt x="77" y="105"/>
                    </a:lnTo>
                    <a:lnTo>
                      <a:pt x="80" y="100"/>
                    </a:lnTo>
                    <a:lnTo>
                      <a:pt x="84" y="95"/>
                    </a:lnTo>
                    <a:lnTo>
                      <a:pt x="88" y="89"/>
                    </a:lnTo>
                    <a:lnTo>
                      <a:pt x="94" y="85"/>
                    </a:lnTo>
                    <a:lnTo>
                      <a:pt x="99" y="81"/>
                    </a:lnTo>
                    <a:lnTo>
                      <a:pt x="104" y="78"/>
                    </a:lnTo>
                    <a:lnTo>
                      <a:pt x="110" y="75"/>
                    </a:lnTo>
                    <a:lnTo>
                      <a:pt x="117" y="73"/>
                    </a:lnTo>
                    <a:lnTo>
                      <a:pt x="123" y="70"/>
                    </a:lnTo>
                    <a:lnTo>
                      <a:pt x="130" y="69"/>
                    </a:lnTo>
                    <a:lnTo>
                      <a:pt x="137" y="69"/>
                    </a:lnTo>
                    <a:lnTo>
                      <a:pt x="144" y="69"/>
                    </a:lnTo>
                    <a:lnTo>
                      <a:pt x="151" y="70"/>
                    </a:lnTo>
                    <a:lnTo>
                      <a:pt x="158" y="73"/>
                    </a:lnTo>
                    <a:lnTo>
                      <a:pt x="164" y="75"/>
                    </a:lnTo>
                    <a:lnTo>
                      <a:pt x="170" y="78"/>
                    </a:lnTo>
                    <a:lnTo>
                      <a:pt x="176" y="81"/>
                    </a:lnTo>
                    <a:lnTo>
                      <a:pt x="181" y="85"/>
                    </a:lnTo>
                    <a:lnTo>
                      <a:pt x="186" y="89"/>
                    </a:lnTo>
                    <a:lnTo>
                      <a:pt x="190" y="95"/>
                    </a:lnTo>
                    <a:lnTo>
                      <a:pt x="195" y="100"/>
                    </a:lnTo>
                    <a:lnTo>
                      <a:pt x="198" y="105"/>
                    </a:lnTo>
                    <a:lnTo>
                      <a:pt x="201" y="111"/>
                    </a:lnTo>
                    <a:lnTo>
                      <a:pt x="203" y="118"/>
                    </a:lnTo>
                    <a:lnTo>
                      <a:pt x="204" y="124"/>
                    </a:lnTo>
                    <a:lnTo>
                      <a:pt x="206" y="131"/>
                    </a:lnTo>
                    <a:lnTo>
                      <a:pt x="206" y="138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38520" y="296064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207" h="206">
                    <a:moveTo>
                      <a:pt x="207" y="103"/>
                    </a:moveTo>
                    <a:lnTo>
                      <a:pt x="206" y="92"/>
                    </a:lnTo>
                    <a:lnTo>
                      <a:pt x="205" y="83"/>
                    </a:lnTo>
                    <a:lnTo>
                      <a:pt x="202" y="72"/>
                    </a:lnTo>
                    <a:lnTo>
                      <a:pt x="198" y="63"/>
                    </a:lnTo>
                    <a:lnTo>
                      <a:pt x="194" y="54"/>
                    </a:lnTo>
                    <a:lnTo>
                      <a:pt x="189" y="45"/>
                    </a:lnTo>
                    <a:lnTo>
                      <a:pt x="183" y="38"/>
                    </a:lnTo>
                    <a:lnTo>
                      <a:pt x="176" y="30"/>
                    </a:lnTo>
                    <a:lnTo>
                      <a:pt x="169" y="24"/>
                    </a:lnTo>
                    <a:lnTo>
                      <a:pt x="161" y="18"/>
                    </a:lnTo>
                    <a:lnTo>
                      <a:pt x="152" y="12"/>
                    </a:lnTo>
                    <a:lnTo>
                      <a:pt x="144" y="8"/>
                    </a:lnTo>
                    <a:lnTo>
                      <a:pt x="134" y="5"/>
                    </a:lnTo>
                    <a:lnTo>
                      <a:pt x="124" y="2"/>
                    </a:lnTo>
                    <a:lnTo>
                      <a:pt x="113" y="1"/>
                    </a:lnTo>
                    <a:lnTo>
                      <a:pt x="103" y="0"/>
                    </a:lnTo>
                    <a:lnTo>
                      <a:pt x="92" y="1"/>
                    </a:lnTo>
                    <a:lnTo>
                      <a:pt x="83" y="2"/>
                    </a:lnTo>
                    <a:lnTo>
                      <a:pt x="72" y="5"/>
                    </a:lnTo>
                    <a:lnTo>
                      <a:pt x="63" y="8"/>
                    </a:lnTo>
                    <a:lnTo>
                      <a:pt x="54" y="12"/>
                    </a:lnTo>
                    <a:lnTo>
                      <a:pt x="46" y="18"/>
                    </a:lnTo>
                    <a:lnTo>
                      <a:pt x="38" y="24"/>
                    </a:lnTo>
                    <a:lnTo>
                      <a:pt x="30" y="30"/>
                    </a:lnTo>
                    <a:lnTo>
                      <a:pt x="24" y="38"/>
                    </a:lnTo>
                    <a:lnTo>
                      <a:pt x="18" y="45"/>
                    </a:lnTo>
                    <a:lnTo>
                      <a:pt x="12" y="54"/>
                    </a:lnTo>
                    <a:lnTo>
                      <a:pt x="8" y="63"/>
                    </a:lnTo>
                    <a:lnTo>
                      <a:pt x="5" y="72"/>
                    </a:lnTo>
                    <a:lnTo>
                      <a:pt x="2" y="83"/>
                    </a:lnTo>
                    <a:lnTo>
                      <a:pt x="1" y="92"/>
                    </a:lnTo>
                    <a:lnTo>
                      <a:pt x="0" y="103"/>
                    </a:lnTo>
                    <a:lnTo>
                      <a:pt x="1" y="113"/>
                    </a:lnTo>
                    <a:lnTo>
                      <a:pt x="2" y="124"/>
                    </a:lnTo>
                    <a:lnTo>
                      <a:pt x="5" y="134"/>
                    </a:lnTo>
                    <a:lnTo>
                      <a:pt x="8" y="143"/>
                    </a:lnTo>
                    <a:lnTo>
                      <a:pt x="12" y="152"/>
                    </a:lnTo>
                    <a:lnTo>
                      <a:pt x="18" y="160"/>
                    </a:lnTo>
                    <a:lnTo>
                      <a:pt x="24" y="169"/>
                    </a:lnTo>
                    <a:lnTo>
                      <a:pt x="30" y="176"/>
                    </a:lnTo>
                    <a:lnTo>
                      <a:pt x="38" y="182"/>
                    </a:lnTo>
                    <a:lnTo>
                      <a:pt x="46" y="189"/>
                    </a:lnTo>
                    <a:lnTo>
                      <a:pt x="54" y="194"/>
                    </a:lnTo>
                    <a:lnTo>
                      <a:pt x="63" y="198"/>
                    </a:lnTo>
                    <a:lnTo>
                      <a:pt x="72" y="201"/>
                    </a:lnTo>
                    <a:lnTo>
                      <a:pt x="83" y="203"/>
                    </a:lnTo>
                    <a:lnTo>
                      <a:pt x="92" y="206"/>
                    </a:lnTo>
                    <a:lnTo>
                      <a:pt x="103" y="206"/>
                    </a:lnTo>
                    <a:lnTo>
                      <a:pt x="113" y="206"/>
                    </a:lnTo>
                    <a:lnTo>
                      <a:pt x="124" y="203"/>
                    </a:lnTo>
                    <a:lnTo>
                      <a:pt x="134" y="201"/>
                    </a:lnTo>
                    <a:lnTo>
                      <a:pt x="144" y="198"/>
                    </a:lnTo>
                    <a:lnTo>
                      <a:pt x="152" y="194"/>
                    </a:lnTo>
                    <a:lnTo>
                      <a:pt x="161" y="189"/>
                    </a:lnTo>
                    <a:lnTo>
                      <a:pt x="169" y="182"/>
                    </a:lnTo>
                    <a:lnTo>
                      <a:pt x="176" y="176"/>
                    </a:lnTo>
                    <a:lnTo>
                      <a:pt x="183" y="169"/>
                    </a:lnTo>
                    <a:lnTo>
                      <a:pt x="189" y="160"/>
                    </a:lnTo>
                    <a:lnTo>
                      <a:pt x="194" y="152"/>
                    </a:lnTo>
                    <a:lnTo>
                      <a:pt x="198" y="143"/>
                    </a:lnTo>
                    <a:lnTo>
                      <a:pt x="202" y="134"/>
                    </a:lnTo>
                    <a:lnTo>
                      <a:pt x="205" y="124"/>
                    </a:lnTo>
                    <a:lnTo>
                      <a:pt x="206" y="113"/>
                    </a:lnTo>
                    <a:lnTo>
                      <a:pt x="207" y="10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9680" y="297180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69"/>
                    </a:moveTo>
                    <a:lnTo>
                      <a:pt x="138" y="62"/>
                    </a:lnTo>
                    <a:lnTo>
                      <a:pt x="136" y="55"/>
                    </a:lnTo>
                    <a:lnTo>
                      <a:pt x="135" y="49"/>
                    </a:lnTo>
                    <a:lnTo>
                      <a:pt x="133" y="42"/>
                    </a:lnTo>
                    <a:lnTo>
                      <a:pt x="130" y="36"/>
                    </a:lnTo>
                    <a:lnTo>
                      <a:pt x="127" y="31"/>
                    </a:lnTo>
                    <a:lnTo>
                      <a:pt x="122" y="26"/>
                    </a:lnTo>
                    <a:lnTo>
                      <a:pt x="118" y="20"/>
                    </a:lnTo>
                    <a:lnTo>
                      <a:pt x="113" y="16"/>
                    </a:lnTo>
                    <a:lnTo>
                      <a:pt x="108" y="12"/>
                    </a:lnTo>
                    <a:lnTo>
                      <a:pt x="102" y="9"/>
                    </a:lnTo>
                    <a:lnTo>
                      <a:pt x="96" y="6"/>
                    </a:lnTo>
                    <a:lnTo>
                      <a:pt x="90" y="4"/>
                    </a:lnTo>
                    <a:lnTo>
                      <a:pt x="83" y="1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9" y="4"/>
                    </a:lnTo>
                    <a:lnTo>
                      <a:pt x="42" y="6"/>
                    </a:lnTo>
                    <a:lnTo>
                      <a:pt x="36" y="9"/>
                    </a:lnTo>
                    <a:lnTo>
                      <a:pt x="31" y="12"/>
                    </a:lnTo>
                    <a:lnTo>
                      <a:pt x="26" y="16"/>
                    </a:lnTo>
                    <a:lnTo>
                      <a:pt x="20" y="20"/>
                    </a:lnTo>
                    <a:lnTo>
                      <a:pt x="16" y="26"/>
                    </a:lnTo>
                    <a:lnTo>
                      <a:pt x="12" y="31"/>
                    </a:lnTo>
                    <a:lnTo>
                      <a:pt x="9" y="36"/>
                    </a:lnTo>
                    <a:lnTo>
                      <a:pt x="6" y="42"/>
                    </a:lnTo>
                    <a:lnTo>
                      <a:pt x="4" y="49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1" y="83"/>
                    </a:lnTo>
                    <a:lnTo>
                      <a:pt x="4" y="90"/>
                    </a:lnTo>
                    <a:lnTo>
                      <a:pt x="6" y="96"/>
                    </a:lnTo>
                    <a:lnTo>
                      <a:pt x="9" y="102"/>
                    </a:lnTo>
                    <a:lnTo>
                      <a:pt x="12" y="107"/>
                    </a:lnTo>
                    <a:lnTo>
                      <a:pt x="16" y="113"/>
                    </a:lnTo>
                    <a:lnTo>
                      <a:pt x="20" y="118"/>
                    </a:lnTo>
                    <a:lnTo>
                      <a:pt x="26" y="122"/>
                    </a:lnTo>
                    <a:lnTo>
                      <a:pt x="31" y="126"/>
                    </a:lnTo>
                    <a:lnTo>
                      <a:pt x="36" y="130"/>
                    </a:lnTo>
                    <a:lnTo>
                      <a:pt x="42" y="133"/>
                    </a:lnTo>
                    <a:lnTo>
                      <a:pt x="49" y="135"/>
                    </a:lnTo>
                    <a:lnTo>
                      <a:pt x="55" y="136"/>
                    </a:lnTo>
                    <a:lnTo>
                      <a:pt x="62" y="137"/>
                    </a:lnTo>
                    <a:lnTo>
                      <a:pt x="69" y="138"/>
                    </a:lnTo>
                    <a:lnTo>
                      <a:pt x="76" y="137"/>
                    </a:lnTo>
                    <a:lnTo>
                      <a:pt x="83" y="136"/>
                    </a:lnTo>
                    <a:lnTo>
                      <a:pt x="90" y="135"/>
                    </a:lnTo>
                    <a:lnTo>
                      <a:pt x="96" y="133"/>
                    </a:lnTo>
                    <a:lnTo>
                      <a:pt x="102" y="130"/>
                    </a:lnTo>
                    <a:lnTo>
                      <a:pt x="108" y="126"/>
                    </a:lnTo>
                    <a:lnTo>
                      <a:pt x="113" y="122"/>
                    </a:lnTo>
                    <a:lnTo>
                      <a:pt x="118" y="118"/>
                    </a:lnTo>
                    <a:lnTo>
                      <a:pt x="122" y="113"/>
                    </a:lnTo>
                    <a:lnTo>
                      <a:pt x="127" y="107"/>
                    </a:lnTo>
                    <a:lnTo>
                      <a:pt x="130" y="102"/>
                    </a:lnTo>
                    <a:lnTo>
                      <a:pt x="133" y="96"/>
                    </a:lnTo>
                    <a:lnTo>
                      <a:pt x="135" y="90"/>
                    </a:lnTo>
                    <a:lnTo>
                      <a:pt x="136" y="83"/>
                    </a:lnTo>
                    <a:lnTo>
                      <a:pt x="138" y="76"/>
                    </a:lnTo>
                    <a:lnTo>
                      <a:pt x="138" y="6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60840" y="29829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4"/>
                    </a:moveTo>
                    <a:lnTo>
                      <a:pt x="67" y="27"/>
                    </a:lnTo>
                    <a:lnTo>
                      <a:pt x="66" y="21"/>
                    </a:lnTo>
                    <a:lnTo>
                      <a:pt x="63" y="15"/>
                    </a:lnTo>
                    <a:lnTo>
                      <a:pt x="59" y="9"/>
                    </a:lnTo>
                    <a:lnTo>
                      <a:pt x="54" y="5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4"/>
                    </a:lnTo>
                    <a:lnTo>
                      <a:pt x="10" y="58"/>
                    </a:lnTo>
                    <a:lnTo>
                      <a:pt x="15" y="62"/>
                    </a:lnTo>
                    <a:lnTo>
                      <a:pt x="21" y="65"/>
                    </a:lnTo>
                    <a:lnTo>
                      <a:pt x="27" y="67"/>
                    </a:lnTo>
                    <a:lnTo>
                      <a:pt x="34" y="68"/>
                    </a:lnTo>
                    <a:lnTo>
                      <a:pt x="41" y="67"/>
                    </a:lnTo>
                    <a:lnTo>
                      <a:pt x="47" y="65"/>
                    </a:lnTo>
                    <a:lnTo>
                      <a:pt x="54" y="62"/>
                    </a:lnTo>
                    <a:lnTo>
                      <a:pt x="59" y="58"/>
                    </a:lnTo>
                    <a:lnTo>
                      <a:pt x="63" y="54"/>
                    </a:lnTo>
                    <a:lnTo>
                      <a:pt x="66" y="47"/>
                    </a:lnTo>
                    <a:lnTo>
                      <a:pt x="67" y="41"/>
                    </a:lnTo>
                    <a:lnTo>
                      <a:pt x="68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685960" y="2498760"/>
                <a:ext cx="3651480" cy="1336680"/>
              </a:xfrm>
              <a:custGeom>
                <a:avLst/>
                <a:gdLst/>
                <a:ahLst/>
                <a:rect l="l" t="t" r="r" b="b"/>
                <a:pathLst>
                  <a:path w="11502" h="4207">
                    <a:moveTo>
                      <a:pt x="26" y="3474"/>
                    </a:moveTo>
                    <a:lnTo>
                      <a:pt x="56" y="3529"/>
                    </a:lnTo>
                    <a:lnTo>
                      <a:pt x="113" y="3585"/>
                    </a:lnTo>
                    <a:lnTo>
                      <a:pt x="168" y="3642"/>
                    </a:lnTo>
                    <a:lnTo>
                      <a:pt x="225" y="3700"/>
                    </a:lnTo>
                    <a:lnTo>
                      <a:pt x="281" y="3726"/>
                    </a:lnTo>
                    <a:lnTo>
                      <a:pt x="339" y="3726"/>
                    </a:lnTo>
                    <a:lnTo>
                      <a:pt x="396" y="3756"/>
                    </a:lnTo>
                    <a:lnTo>
                      <a:pt x="423" y="3726"/>
                    </a:lnTo>
                    <a:lnTo>
                      <a:pt x="507" y="3726"/>
                    </a:lnTo>
                    <a:lnTo>
                      <a:pt x="564" y="3726"/>
                    </a:lnTo>
                    <a:lnTo>
                      <a:pt x="621" y="3700"/>
                    </a:lnTo>
                    <a:lnTo>
                      <a:pt x="679" y="3700"/>
                    </a:lnTo>
                    <a:lnTo>
                      <a:pt x="736" y="3669"/>
                    </a:lnTo>
                    <a:lnTo>
                      <a:pt x="789" y="3642"/>
                    </a:lnTo>
                    <a:lnTo>
                      <a:pt x="847" y="3615"/>
                    </a:lnTo>
                    <a:lnTo>
                      <a:pt x="904" y="3585"/>
                    </a:lnTo>
                    <a:lnTo>
                      <a:pt x="960" y="3529"/>
                    </a:lnTo>
                    <a:lnTo>
                      <a:pt x="1017" y="3501"/>
                    </a:lnTo>
                    <a:lnTo>
                      <a:pt x="1075" y="3474"/>
                    </a:lnTo>
                    <a:lnTo>
                      <a:pt x="1129" y="3445"/>
                    </a:lnTo>
                    <a:lnTo>
                      <a:pt x="1186" y="3417"/>
                    </a:lnTo>
                    <a:lnTo>
                      <a:pt x="1216" y="3417"/>
                    </a:lnTo>
                    <a:lnTo>
                      <a:pt x="1271" y="3387"/>
                    </a:lnTo>
                    <a:lnTo>
                      <a:pt x="1327" y="3387"/>
                    </a:lnTo>
                    <a:lnTo>
                      <a:pt x="1441" y="3387"/>
                    </a:lnTo>
                    <a:lnTo>
                      <a:pt x="1526" y="3417"/>
                    </a:lnTo>
                    <a:lnTo>
                      <a:pt x="1610" y="3445"/>
                    </a:lnTo>
                    <a:lnTo>
                      <a:pt x="1667" y="3474"/>
                    </a:lnTo>
                    <a:lnTo>
                      <a:pt x="1724" y="3529"/>
                    </a:lnTo>
                    <a:lnTo>
                      <a:pt x="1780" y="3558"/>
                    </a:lnTo>
                    <a:lnTo>
                      <a:pt x="1838" y="3615"/>
                    </a:lnTo>
                    <a:lnTo>
                      <a:pt x="1892" y="3669"/>
                    </a:lnTo>
                    <a:lnTo>
                      <a:pt x="1950" y="3756"/>
                    </a:lnTo>
                    <a:lnTo>
                      <a:pt x="2006" y="3813"/>
                    </a:lnTo>
                    <a:lnTo>
                      <a:pt x="2063" y="3868"/>
                    </a:lnTo>
                    <a:lnTo>
                      <a:pt x="2147" y="3924"/>
                    </a:lnTo>
                    <a:lnTo>
                      <a:pt x="2231" y="3981"/>
                    </a:lnTo>
                    <a:lnTo>
                      <a:pt x="2319" y="4039"/>
                    </a:lnTo>
                    <a:lnTo>
                      <a:pt x="2459" y="4065"/>
                    </a:lnTo>
                    <a:lnTo>
                      <a:pt x="2601" y="4123"/>
                    </a:lnTo>
                    <a:lnTo>
                      <a:pt x="2685" y="4123"/>
                    </a:lnTo>
                    <a:lnTo>
                      <a:pt x="2797" y="4149"/>
                    </a:lnTo>
                    <a:lnTo>
                      <a:pt x="2883" y="4180"/>
                    </a:lnTo>
                    <a:lnTo>
                      <a:pt x="2994" y="4180"/>
                    </a:lnTo>
                    <a:lnTo>
                      <a:pt x="3109" y="4207"/>
                    </a:lnTo>
                    <a:lnTo>
                      <a:pt x="3222" y="4207"/>
                    </a:lnTo>
                    <a:lnTo>
                      <a:pt x="3334" y="4207"/>
                    </a:lnTo>
                    <a:lnTo>
                      <a:pt x="3476" y="4207"/>
                    </a:lnTo>
                    <a:lnTo>
                      <a:pt x="3589" y="4207"/>
                    </a:lnTo>
                    <a:lnTo>
                      <a:pt x="3704" y="4207"/>
                    </a:lnTo>
                    <a:lnTo>
                      <a:pt x="3845" y="4207"/>
                    </a:lnTo>
                    <a:lnTo>
                      <a:pt x="3956" y="4207"/>
                    </a:lnTo>
                    <a:lnTo>
                      <a:pt x="4097" y="4207"/>
                    </a:lnTo>
                    <a:lnTo>
                      <a:pt x="4212" y="4180"/>
                    </a:lnTo>
                    <a:lnTo>
                      <a:pt x="4352" y="4180"/>
                    </a:lnTo>
                    <a:lnTo>
                      <a:pt x="4466" y="4180"/>
                    </a:lnTo>
                    <a:lnTo>
                      <a:pt x="4608" y="4149"/>
                    </a:lnTo>
                    <a:lnTo>
                      <a:pt x="4719" y="4123"/>
                    </a:lnTo>
                    <a:lnTo>
                      <a:pt x="4860" y="4123"/>
                    </a:lnTo>
                    <a:lnTo>
                      <a:pt x="5001" y="4096"/>
                    </a:lnTo>
                    <a:lnTo>
                      <a:pt x="5116" y="4065"/>
                    </a:lnTo>
                    <a:lnTo>
                      <a:pt x="5229" y="4039"/>
                    </a:lnTo>
                    <a:lnTo>
                      <a:pt x="5371" y="4008"/>
                    </a:lnTo>
                    <a:lnTo>
                      <a:pt x="5482" y="3981"/>
                    </a:lnTo>
                    <a:lnTo>
                      <a:pt x="5596" y="3924"/>
                    </a:lnTo>
                    <a:lnTo>
                      <a:pt x="5711" y="3897"/>
                    </a:lnTo>
                    <a:lnTo>
                      <a:pt x="5822" y="3868"/>
                    </a:lnTo>
                    <a:lnTo>
                      <a:pt x="5935" y="3813"/>
                    </a:lnTo>
                    <a:lnTo>
                      <a:pt x="6050" y="3784"/>
                    </a:lnTo>
                    <a:lnTo>
                      <a:pt x="6161" y="3726"/>
                    </a:lnTo>
                    <a:lnTo>
                      <a:pt x="6246" y="3700"/>
                    </a:lnTo>
                    <a:lnTo>
                      <a:pt x="6332" y="3642"/>
                    </a:lnTo>
                    <a:lnTo>
                      <a:pt x="6501" y="3558"/>
                    </a:lnTo>
                    <a:lnTo>
                      <a:pt x="6642" y="3501"/>
                    </a:lnTo>
                    <a:lnTo>
                      <a:pt x="6783" y="3445"/>
                    </a:lnTo>
                    <a:lnTo>
                      <a:pt x="6954" y="3387"/>
                    </a:lnTo>
                    <a:lnTo>
                      <a:pt x="7095" y="3333"/>
                    </a:lnTo>
                    <a:lnTo>
                      <a:pt x="7263" y="3303"/>
                    </a:lnTo>
                    <a:lnTo>
                      <a:pt x="7405" y="3277"/>
                    </a:lnTo>
                    <a:lnTo>
                      <a:pt x="7576" y="3246"/>
                    </a:lnTo>
                    <a:lnTo>
                      <a:pt x="7717" y="3219"/>
                    </a:lnTo>
                    <a:lnTo>
                      <a:pt x="7885" y="3192"/>
                    </a:lnTo>
                    <a:lnTo>
                      <a:pt x="8057" y="3162"/>
                    </a:lnTo>
                    <a:lnTo>
                      <a:pt x="8198" y="3162"/>
                    </a:lnTo>
                    <a:lnTo>
                      <a:pt x="8366" y="3135"/>
                    </a:lnTo>
                    <a:lnTo>
                      <a:pt x="8535" y="3135"/>
                    </a:lnTo>
                    <a:lnTo>
                      <a:pt x="8678" y="3135"/>
                    </a:lnTo>
                    <a:lnTo>
                      <a:pt x="8847" y="3105"/>
                    </a:lnTo>
                    <a:lnTo>
                      <a:pt x="9015" y="3105"/>
                    </a:lnTo>
                    <a:lnTo>
                      <a:pt x="9156" y="3105"/>
                    </a:lnTo>
                    <a:lnTo>
                      <a:pt x="9327" y="3078"/>
                    </a:lnTo>
                    <a:lnTo>
                      <a:pt x="9496" y="3049"/>
                    </a:lnTo>
                    <a:lnTo>
                      <a:pt x="9638" y="3049"/>
                    </a:lnTo>
                    <a:lnTo>
                      <a:pt x="9808" y="3021"/>
                    </a:lnTo>
                    <a:lnTo>
                      <a:pt x="9950" y="2994"/>
                    </a:lnTo>
                    <a:lnTo>
                      <a:pt x="10118" y="2937"/>
                    </a:lnTo>
                    <a:lnTo>
                      <a:pt x="10259" y="2907"/>
                    </a:lnTo>
                    <a:lnTo>
                      <a:pt x="10400" y="2853"/>
                    </a:lnTo>
                    <a:lnTo>
                      <a:pt x="10571" y="2796"/>
                    </a:lnTo>
                    <a:lnTo>
                      <a:pt x="10713" y="2739"/>
                    </a:lnTo>
                    <a:lnTo>
                      <a:pt x="10854" y="2682"/>
                    </a:lnTo>
                    <a:lnTo>
                      <a:pt x="10995" y="2598"/>
                    </a:lnTo>
                    <a:lnTo>
                      <a:pt x="11136" y="2514"/>
                    </a:lnTo>
                    <a:lnTo>
                      <a:pt x="11250" y="2400"/>
                    </a:lnTo>
                    <a:lnTo>
                      <a:pt x="11277" y="2400"/>
                    </a:lnTo>
                    <a:lnTo>
                      <a:pt x="11307" y="2373"/>
                    </a:lnTo>
                    <a:lnTo>
                      <a:pt x="11361" y="2373"/>
                    </a:lnTo>
                    <a:lnTo>
                      <a:pt x="11391" y="2343"/>
                    </a:lnTo>
                    <a:lnTo>
                      <a:pt x="11418" y="2316"/>
                    </a:lnTo>
                    <a:lnTo>
                      <a:pt x="11476" y="2286"/>
                    </a:lnTo>
                    <a:lnTo>
                      <a:pt x="11502" y="2259"/>
                    </a:lnTo>
                    <a:lnTo>
                      <a:pt x="11502" y="2232"/>
                    </a:lnTo>
                    <a:lnTo>
                      <a:pt x="11418" y="2201"/>
                    </a:lnTo>
                    <a:lnTo>
                      <a:pt x="11334" y="2145"/>
                    </a:lnTo>
                    <a:lnTo>
                      <a:pt x="11250" y="2091"/>
                    </a:lnTo>
                    <a:lnTo>
                      <a:pt x="11166" y="2004"/>
                    </a:lnTo>
                    <a:lnTo>
                      <a:pt x="11051" y="1893"/>
                    </a:lnTo>
                    <a:lnTo>
                      <a:pt x="10967" y="1778"/>
                    </a:lnTo>
                    <a:lnTo>
                      <a:pt x="10854" y="1665"/>
                    </a:lnTo>
                    <a:lnTo>
                      <a:pt x="10770" y="1554"/>
                    </a:lnTo>
                    <a:lnTo>
                      <a:pt x="10686" y="1413"/>
                    </a:lnTo>
                    <a:lnTo>
                      <a:pt x="10598" y="1271"/>
                    </a:lnTo>
                    <a:lnTo>
                      <a:pt x="10514" y="1158"/>
                    </a:lnTo>
                    <a:lnTo>
                      <a:pt x="10430" y="1043"/>
                    </a:lnTo>
                    <a:lnTo>
                      <a:pt x="10373" y="932"/>
                    </a:lnTo>
                    <a:lnTo>
                      <a:pt x="10316" y="848"/>
                    </a:lnTo>
                    <a:lnTo>
                      <a:pt x="10259" y="762"/>
                    </a:lnTo>
                    <a:lnTo>
                      <a:pt x="10231" y="707"/>
                    </a:lnTo>
                    <a:lnTo>
                      <a:pt x="10231" y="620"/>
                    </a:lnTo>
                    <a:lnTo>
                      <a:pt x="10204" y="536"/>
                    </a:lnTo>
                    <a:lnTo>
                      <a:pt x="10175" y="452"/>
                    </a:lnTo>
                    <a:lnTo>
                      <a:pt x="10147" y="339"/>
                    </a:lnTo>
                    <a:lnTo>
                      <a:pt x="10118" y="227"/>
                    </a:lnTo>
                    <a:lnTo>
                      <a:pt x="10091" y="140"/>
                    </a:lnTo>
                    <a:lnTo>
                      <a:pt x="10091" y="56"/>
                    </a:lnTo>
                    <a:lnTo>
                      <a:pt x="10091" y="0"/>
                    </a:lnTo>
                    <a:lnTo>
                      <a:pt x="9976" y="56"/>
                    </a:lnTo>
                    <a:lnTo>
                      <a:pt x="9892" y="86"/>
                    </a:lnTo>
                    <a:lnTo>
                      <a:pt x="9778" y="113"/>
                    </a:lnTo>
                    <a:lnTo>
                      <a:pt x="9724" y="140"/>
                    </a:lnTo>
                    <a:lnTo>
                      <a:pt x="9638" y="170"/>
                    </a:lnTo>
                    <a:lnTo>
                      <a:pt x="9552" y="170"/>
                    </a:lnTo>
                    <a:lnTo>
                      <a:pt x="9496" y="197"/>
                    </a:lnTo>
                    <a:lnTo>
                      <a:pt x="9441" y="197"/>
                    </a:lnTo>
                    <a:lnTo>
                      <a:pt x="9355" y="197"/>
                    </a:lnTo>
                    <a:lnTo>
                      <a:pt x="9300" y="197"/>
                    </a:lnTo>
                    <a:lnTo>
                      <a:pt x="9213" y="197"/>
                    </a:lnTo>
                    <a:lnTo>
                      <a:pt x="9129" y="197"/>
                    </a:lnTo>
                    <a:lnTo>
                      <a:pt x="9045" y="197"/>
                    </a:lnTo>
                    <a:lnTo>
                      <a:pt x="8961" y="227"/>
                    </a:lnTo>
                    <a:lnTo>
                      <a:pt x="8847" y="227"/>
                    </a:lnTo>
                    <a:lnTo>
                      <a:pt x="8733" y="227"/>
                    </a:lnTo>
                    <a:lnTo>
                      <a:pt x="8678" y="227"/>
                    </a:lnTo>
                    <a:lnTo>
                      <a:pt x="8621" y="227"/>
                    </a:lnTo>
                    <a:lnTo>
                      <a:pt x="8564" y="227"/>
                    </a:lnTo>
                    <a:lnTo>
                      <a:pt x="8508" y="227"/>
                    </a:lnTo>
                    <a:lnTo>
                      <a:pt x="8451" y="227"/>
                    </a:lnTo>
                    <a:lnTo>
                      <a:pt x="8393" y="227"/>
                    </a:lnTo>
                    <a:lnTo>
                      <a:pt x="8339" y="227"/>
                    </a:lnTo>
                    <a:lnTo>
                      <a:pt x="8282" y="227"/>
                    </a:lnTo>
                    <a:lnTo>
                      <a:pt x="8225" y="227"/>
                    </a:lnTo>
                    <a:lnTo>
                      <a:pt x="8141" y="227"/>
                    </a:lnTo>
                    <a:lnTo>
                      <a:pt x="8084" y="227"/>
                    </a:lnTo>
                    <a:lnTo>
                      <a:pt x="8026" y="254"/>
                    </a:lnTo>
                    <a:lnTo>
                      <a:pt x="7969" y="254"/>
                    </a:lnTo>
                    <a:lnTo>
                      <a:pt x="7913" y="254"/>
                    </a:lnTo>
                    <a:lnTo>
                      <a:pt x="7858" y="281"/>
                    </a:lnTo>
                    <a:lnTo>
                      <a:pt x="7772" y="281"/>
                    </a:lnTo>
                    <a:lnTo>
                      <a:pt x="7717" y="281"/>
                    </a:lnTo>
                    <a:lnTo>
                      <a:pt x="7660" y="311"/>
                    </a:lnTo>
                    <a:lnTo>
                      <a:pt x="7603" y="311"/>
                    </a:lnTo>
                    <a:lnTo>
                      <a:pt x="7546" y="311"/>
                    </a:lnTo>
                    <a:lnTo>
                      <a:pt x="7462" y="339"/>
                    </a:lnTo>
                    <a:lnTo>
                      <a:pt x="7405" y="339"/>
                    </a:lnTo>
                    <a:lnTo>
                      <a:pt x="7348" y="368"/>
                    </a:lnTo>
                    <a:lnTo>
                      <a:pt x="7290" y="395"/>
                    </a:lnTo>
                    <a:lnTo>
                      <a:pt x="7237" y="395"/>
                    </a:lnTo>
                    <a:lnTo>
                      <a:pt x="7179" y="423"/>
                    </a:lnTo>
                    <a:lnTo>
                      <a:pt x="7122" y="452"/>
                    </a:lnTo>
                    <a:lnTo>
                      <a:pt x="7065" y="452"/>
                    </a:lnTo>
                    <a:lnTo>
                      <a:pt x="6981" y="479"/>
                    </a:lnTo>
                    <a:lnTo>
                      <a:pt x="6925" y="509"/>
                    </a:lnTo>
                    <a:lnTo>
                      <a:pt x="6867" y="536"/>
                    </a:lnTo>
                    <a:lnTo>
                      <a:pt x="6813" y="563"/>
                    </a:lnTo>
                    <a:lnTo>
                      <a:pt x="6755" y="593"/>
                    </a:lnTo>
                    <a:lnTo>
                      <a:pt x="6699" y="620"/>
                    </a:lnTo>
                    <a:lnTo>
                      <a:pt x="6642" y="651"/>
                    </a:lnTo>
                    <a:lnTo>
                      <a:pt x="6585" y="678"/>
                    </a:lnTo>
                    <a:lnTo>
                      <a:pt x="6527" y="707"/>
                    </a:lnTo>
                    <a:lnTo>
                      <a:pt x="6474" y="762"/>
                    </a:lnTo>
                    <a:lnTo>
                      <a:pt x="6416" y="791"/>
                    </a:lnTo>
                    <a:lnTo>
                      <a:pt x="6359" y="819"/>
                    </a:lnTo>
                    <a:lnTo>
                      <a:pt x="6302" y="848"/>
                    </a:lnTo>
                    <a:lnTo>
                      <a:pt x="6246" y="875"/>
                    </a:lnTo>
                    <a:lnTo>
                      <a:pt x="6191" y="903"/>
                    </a:lnTo>
                    <a:lnTo>
                      <a:pt x="6134" y="959"/>
                    </a:lnTo>
                    <a:lnTo>
                      <a:pt x="6077" y="990"/>
                    </a:lnTo>
                    <a:lnTo>
                      <a:pt x="6020" y="1016"/>
                    </a:lnTo>
                    <a:lnTo>
                      <a:pt x="5963" y="1043"/>
                    </a:lnTo>
                    <a:lnTo>
                      <a:pt x="5906" y="1074"/>
                    </a:lnTo>
                    <a:lnTo>
                      <a:pt x="5851" y="1101"/>
                    </a:lnTo>
                    <a:lnTo>
                      <a:pt x="5795" y="1130"/>
                    </a:lnTo>
                    <a:lnTo>
                      <a:pt x="5738" y="1158"/>
                    </a:lnTo>
                    <a:lnTo>
                      <a:pt x="5654" y="1158"/>
                    </a:lnTo>
                    <a:lnTo>
                      <a:pt x="5596" y="1185"/>
                    </a:lnTo>
                    <a:lnTo>
                      <a:pt x="5539" y="1214"/>
                    </a:lnTo>
                    <a:lnTo>
                      <a:pt x="5482" y="1214"/>
                    </a:lnTo>
                    <a:lnTo>
                      <a:pt x="5428" y="1242"/>
                    </a:lnTo>
                    <a:lnTo>
                      <a:pt x="5341" y="1242"/>
                    </a:lnTo>
                    <a:lnTo>
                      <a:pt x="5284" y="1271"/>
                    </a:lnTo>
                    <a:lnTo>
                      <a:pt x="5200" y="1271"/>
                    </a:lnTo>
                    <a:lnTo>
                      <a:pt x="5143" y="1271"/>
                    </a:lnTo>
                    <a:lnTo>
                      <a:pt x="5059" y="1271"/>
                    </a:lnTo>
                    <a:lnTo>
                      <a:pt x="5001" y="1271"/>
                    </a:lnTo>
                    <a:lnTo>
                      <a:pt x="4917" y="1271"/>
                    </a:lnTo>
                    <a:lnTo>
                      <a:pt x="4860" y="1271"/>
                    </a:lnTo>
                    <a:lnTo>
                      <a:pt x="4806" y="1271"/>
                    </a:lnTo>
                    <a:lnTo>
                      <a:pt x="4749" y="1271"/>
                    </a:lnTo>
                    <a:lnTo>
                      <a:pt x="4692" y="1271"/>
                    </a:lnTo>
                    <a:lnTo>
                      <a:pt x="4635" y="1242"/>
                    </a:lnTo>
                    <a:lnTo>
                      <a:pt x="4577" y="1242"/>
                    </a:lnTo>
                    <a:lnTo>
                      <a:pt x="4493" y="1242"/>
                    </a:lnTo>
                    <a:lnTo>
                      <a:pt x="4437" y="1242"/>
                    </a:lnTo>
                    <a:lnTo>
                      <a:pt x="4380" y="1242"/>
                    </a:lnTo>
                    <a:lnTo>
                      <a:pt x="4296" y="1242"/>
                    </a:lnTo>
                    <a:lnTo>
                      <a:pt x="4239" y="1242"/>
                    </a:lnTo>
                    <a:lnTo>
                      <a:pt x="4184" y="1242"/>
                    </a:lnTo>
                    <a:lnTo>
                      <a:pt x="4097" y="1242"/>
                    </a:lnTo>
                    <a:lnTo>
                      <a:pt x="4040" y="1242"/>
                    </a:lnTo>
                    <a:lnTo>
                      <a:pt x="3986" y="1242"/>
                    </a:lnTo>
                    <a:lnTo>
                      <a:pt x="3956" y="1271"/>
                    </a:lnTo>
                    <a:lnTo>
                      <a:pt x="3899" y="1271"/>
                    </a:lnTo>
                    <a:lnTo>
                      <a:pt x="3788" y="1271"/>
                    </a:lnTo>
                    <a:lnTo>
                      <a:pt x="3704" y="1271"/>
                    </a:lnTo>
                    <a:lnTo>
                      <a:pt x="3589" y="1298"/>
                    </a:lnTo>
                    <a:lnTo>
                      <a:pt x="3505" y="1298"/>
                    </a:lnTo>
                    <a:lnTo>
                      <a:pt x="3391" y="1329"/>
                    </a:lnTo>
                    <a:lnTo>
                      <a:pt x="3277" y="1355"/>
                    </a:lnTo>
                    <a:lnTo>
                      <a:pt x="3166" y="1355"/>
                    </a:lnTo>
                    <a:lnTo>
                      <a:pt x="3052" y="1382"/>
                    </a:lnTo>
                    <a:lnTo>
                      <a:pt x="2941" y="1413"/>
                    </a:lnTo>
                    <a:lnTo>
                      <a:pt x="2826" y="1439"/>
                    </a:lnTo>
                    <a:lnTo>
                      <a:pt x="2713" y="1439"/>
                    </a:lnTo>
                    <a:lnTo>
                      <a:pt x="2601" y="1470"/>
                    </a:lnTo>
                    <a:lnTo>
                      <a:pt x="2487" y="1497"/>
                    </a:lnTo>
                    <a:lnTo>
                      <a:pt x="2403" y="1554"/>
                    </a:lnTo>
                    <a:lnTo>
                      <a:pt x="2289" y="1581"/>
                    </a:lnTo>
                    <a:lnTo>
                      <a:pt x="2204" y="1610"/>
                    </a:lnTo>
                    <a:lnTo>
                      <a:pt x="2147" y="1638"/>
                    </a:lnTo>
                    <a:lnTo>
                      <a:pt x="2090" y="1638"/>
                    </a:lnTo>
                    <a:lnTo>
                      <a:pt x="2034" y="1665"/>
                    </a:lnTo>
                    <a:lnTo>
                      <a:pt x="1979" y="1722"/>
                    </a:lnTo>
                    <a:lnTo>
                      <a:pt x="1950" y="1752"/>
                    </a:lnTo>
                    <a:lnTo>
                      <a:pt x="1892" y="1778"/>
                    </a:lnTo>
                    <a:lnTo>
                      <a:pt x="1838" y="1836"/>
                    </a:lnTo>
                    <a:lnTo>
                      <a:pt x="1780" y="1863"/>
                    </a:lnTo>
                    <a:lnTo>
                      <a:pt x="1751" y="1920"/>
                    </a:lnTo>
                    <a:lnTo>
                      <a:pt x="1696" y="1977"/>
                    </a:lnTo>
                    <a:lnTo>
                      <a:pt x="1667" y="2033"/>
                    </a:lnTo>
                    <a:lnTo>
                      <a:pt x="1639" y="2091"/>
                    </a:lnTo>
                    <a:lnTo>
                      <a:pt x="1583" y="2117"/>
                    </a:lnTo>
                    <a:lnTo>
                      <a:pt x="1583" y="2175"/>
                    </a:lnTo>
                    <a:lnTo>
                      <a:pt x="1552" y="2232"/>
                    </a:lnTo>
                    <a:lnTo>
                      <a:pt x="1526" y="2286"/>
                    </a:lnTo>
                    <a:lnTo>
                      <a:pt x="1526" y="2316"/>
                    </a:lnTo>
                    <a:lnTo>
                      <a:pt x="1499" y="2373"/>
                    </a:lnTo>
                    <a:lnTo>
                      <a:pt x="1499" y="2427"/>
                    </a:lnTo>
                    <a:lnTo>
                      <a:pt x="1468" y="2484"/>
                    </a:lnTo>
                    <a:lnTo>
                      <a:pt x="1441" y="2541"/>
                    </a:lnTo>
                    <a:lnTo>
                      <a:pt x="1411" y="2598"/>
                    </a:lnTo>
                    <a:lnTo>
                      <a:pt x="1384" y="2625"/>
                    </a:lnTo>
                    <a:lnTo>
                      <a:pt x="1357" y="2655"/>
                    </a:lnTo>
                    <a:lnTo>
                      <a:pt x="1271" y="2712"/>
                    </a:lnTo>
                    <a:lnTo>
                      <a:pt x="1186" y="2739"/>
                    </a:lnTo>
                    <a:lnTo>
                      <a:pt x="1102" y="2766"/>
                    </a:lnTo>
                    <a:lnTo>
                      <a:pt x="988" y="2766"/>
                    </a:lnTo>
                    <a:lnTo>
                      <a:pt x="876" y="2796"/>
                    </a:lnTo>
                    <a:lnTo>
                      <a:pt x="736" y="2796"/>
                    </a:lnTo>
                    <a:lnTo>
                      <a:pt x="621" y="2823"/>
                    </a:lnTo>
                    <a:lnTo>
                      <a:pt x="507" y="2823"/>
                    </a:lnTo>
                    <a:lnTo>
                      <a:pt x="396" y="2853"/>
                    </a:lnTo>
                    <a:lnTo>
                      <a:pt x="281" y="2880"/>
                    </a:lnTo>
                    <a:lnTo>
                      <a:pt x="197" y="2937"/>
                    </a:lnTo>
                    <a:lnTo>
                      <a:pt x="113" y="2994"/>
                    </a:lnTo>
                    <a:lnTo>
                      <a:pt x="56" y="3078"/>
                    </a:lnTo>
                    <a:lnTo>
                      <a:pt x="0" y="3192"/>
                    </a:lnTo>
                    <a:lnTo>
                      <a:pt x="0" y="3303"/>
                    </a:lnTo>
                    <a:lnTo>
                      <a:pt x="26" y="34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418440" y="3224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402240" y="32130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0" y="64"/>
                    </a:moveTo>
                    <a:lnTo>
                      <a:pt x="50" y="38"/>
                    </a:lnTo>
                    <a:lnTo>
                      <a:pt x="80" y="11"/>
                    </a:lnTo>
                    <a:lnTo>
                      <a:pt x="85" y="0"/>
                    </a:lnTo>
                    <a:lnTo>
                      <a:pt x="75" y="8"/>
                    </a:lnTo>
                    <a:lnTo>
                      <a:pt x="64" y="16"/>
                    </a:lnTo>
                    <a:lnTo>
                      <a:pt x="54" y="24"/>
                    </a:lnTo>
                    <a:lnTo>
                      <a:pt x="43" y="32"/>
                    </a:lnTo>
                    <a:lnTo>
                      <a:pt x="33" y="41"/>
                    </a:lnTo>
                    <a:lnTo>
                      <a:pt x="22" y="48"/>
                    </a:lnTo>
                    <a:lnTo>
                      <a:pt x="11" y="56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396120" y="320688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14" h="86">
                    <a:moveTo>
                      <a:pt x="68" y="56"/>
                    </a:moveTo>
                    <a:lnTo>
                      <a:pt x="69" y="56"/>
                    </a:lnTo>
                    <a:lnTo>
                      <a:pt x="70" y="56"/>
                    </a:lnTo>
                    <a:lnTo>
                      <a:pt x="70" y="55"/>
                    </a:lnTo>
                    <a:lnTo>
                      <a:pt x="71" y="55"/>
                    </a:lnTo>
                    <a:lnTo>
                      <a:pt x="71" y="54"/>
                    </a:lnTo>
                    <a:lnTo>
                      <a:pt x="72" y="54"/>
                    </a:lnTo>
                    <a:lnTo>
                      <a:pt x="72" y="53"/>
                    </a:lnTo>
                    <a:lnTo>
                      <a:pt x="73" y="53"/>
                    </a:lnTo>
                    <a:lnTo>
                      <a:pt x="100" y="29"/>
                    </a:lnTo>
                    <a:lnTo>
                      <a:pt x="114" y="0"/>
                    </a:lnTo>
                    <a:lnTo>
                      <a:pt x="100" y="11"/>
                    </a:lnTo>
                    <a:lnTo>
                      <a:pt x="85" y="22"/>
                    </a:lnTo>
                    <a:lnTo>
                      <a:pt x="72" y="33"/>
                    </a:lnTo>
                    <a:lnTo>
                      <a:pt x="58" y="44"/>
                    </a:lnTo>
                    <a:lnTo>
                      <a:pt x="43" y="54"/>
                    </a:lnTo>
                    <a:lnTo>
                      <a:pt x="30" y="65"/>
                    </a:lnTo>
                    <a:lnTo>
                      <a:pt x="15" y="75"/>
                    </a:lnTo>
                    <a:lnTo>
                      <a:pt x="0" y="86"/>
                    </a:lnTo>
                    <a:lnTo>
                      <a:pt x="13" y="86"/>
                    </a:lnTo>
                    <a:lnTo>
                      <a:pt x="68" y="5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392880" y="320184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136" h="104">
                    <a:moveTo>
                      <a:pt x="34" y="100"/>
                    </a:moveTo>
                    <a:lnTo>
                      <a:pt x="45" y="92"/>
                    </a:lnTo>
                    <a:lnTo>
                      <a:pt x="56" y="84"/>
                    </a:lnTo>
                    <a:lnTo>
                      <a:pt x="67" y="77"/>
                    </a:lnTo>
                    <a:lnTo>
                      <a:pt x="77" y="68"/>
                    </a:lnTo>
                    <a:lnTo>
                      <a:pt x="88" y="60"/>
                    </a:lnTo>
                    <a:lnTo>
                      <a:pt x="98" y="52"/>
                    </a:lnTo>
                    <a:lnTo>
                      <a:pt x="109" y="44"/>
                    </a:lnTo>
                    <a:lnTo>
                      <a:pt x="119" y="36"/>
                    </a:lnTo>
                    <a:lnTo>
                      <a:pt x="136" y="0"/>
                    </a:lnTo>
                    <a:lnTo>
                      <a:pt x="119" y="14"/>
                    </a:lnTo>
                    <a:lnTo>
                      <a:pt x="103" y="27"/>
                    </a:lnTo>
                    <a:lnTo>
                      <a:pt x="86" y="41"/>
                    </a:lnTo>
                    <a:lnTo>
                      <a:pt x="69" y="53"/>
                    </a:lnTo>
                    <a:lnTo>
                      <a:pt x="52" y="66"/>
                    </a:lnTo>
                    <a:lnTo>
                      <a:pt x="34" y="79"/>
                    </a:lnTo>
                    <a:lnTo>
                      <a:pt x="17" y="91"/>
                    </a:lnTo>
                    <a:lnTo>
                      <a:pt x="0" y="104"/>
                    </a:lnTo>
                    <a:lnTo>
                      <a:pt x="27" y="104"/>
                    </a:lnTo>
                    <a:lnTo>
                      <a:pt x="34" y="10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88200" y="3197160"/>
                <a:ext cx="48960" cy="36720"/>
              </a:xfrm>
              <a:custGeom>
                <a:avLst/>
                <a:gdLst/>
                <a:ahLst/>
                <a:rect l="l" t="t" r="r" b="b"/>
                <a:pathLst>
                  <a:path w="155" h="119">
                    <a:moveTo>
                      <a:pt x="29" y="119"/>
                    </a:moveTo>
                    <a:lnTo>
                      <a:pt x="44" y="108"/>
                    </a:lnTo>
                    <a:lnTo>
                      <a:pt x="59" y="98"/>
                    </a:lnTo>
                    <a:lnTo>
                      <a:pt x="72" y="87"/>
                    </a:lnTo>
                    <a:lnTo>
                      <a:pt x="87" y="77"/>
                    </a:lnTo>
                    <a:lnTo>
                      <a:pt x="101" y="66"/>
                    </a:lnTo>
                    <a:lnTo>
                      <a:pt x="114" y="55"/>
                    </a:lnTo>
                    <a:lnTo>
                      <a:pt x="129" y="44"/>
                    </a:lnTo>
                    <a:lnTo>
                      <a:pt x="143" y="33"/>
                    </a:lnTo>
                    <a:lnTo>
                      <a:pt x="155" y="4"/>
                    </a:lnTo>
                    <a:lnTo>
                      <a:pt x="155" y="0"/>
                    </a:lnTo>
                    <a:lnTo>
                      <a:pt x="138" y="16"/>
                    </a:lnTo>
                    <a:lnTo>
                      <a:pt x="118" y="31"/>
                    </a:lnTo>
                    <a:lnTo>
                      <a:pt x="99" y="46"/>
                    </a:lnTo>
                    <a:lnTo>
                      <a:pt x="80" y="61"/>
                    </a:lnTo>
                    <a:lnTo>
                      <a:pt x="60" y="76"/>
                    </a:lnTo>
                    <a:lnTo>
                      <a:pt x="40" y="90"/>
                    </a:lnTo>
                    <a:lnTo>
                      <a:pt x="20" y="105"/>
                    </a:lnTo>
                    <a:lnTo>
                      <a:pt x="0" y="119"/>
                    </a:lnTo>
                    <a:lnTo>
                      <a:pt x="29" y="11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383160" y="3192480"/>
                <a:ext cx="54000" cy="41400"/>
              </a:xfrm>
              <a:custGeom>
                <a:avLst/>
                <a:gdLst/>
                <a:ahLst/>
                <a:rect l="l" t="t" r="r" b="b"/>
                <a:pathLst>
                  <a:path w="170" h="130">
                    <a:moveTo>
                      <a:pt x="30" y="130"/>
                    </a:moveTo>
                    <a:lnTo>
                      <a:pt x="47" y="117"/>
                    </a:lnTo>
                    <a:lnTo>
                      <a:pt x="64" y="105"/>
                    </a:lnTo>
                    <a:lnTo>
                      <a:pt x="82" y="92"/>
                    </a:lnTo>
                    <a:lnTo>
                      <a:pt x="99" y="79"/>
                    </a:lnTo>
                    <a:lnTo>
                      <a:pt x="116" y="67"/>
                    </a:lnTo>
                    <a:lnTo>
                      <a:pt x="133" y="53"/>
                    </a:lnTo>
                    <a:lnTo>
                      <a:pt x="149" y="40"/>
                    </a:lnTo>
                    <a:lnTo>
                      <a:pt x="166" y="26"/>
                    </a:lnTo>
                    <a:lnTo>
                      <a:pt x="170" y="15"/>
                    </a:lnTo>
                    <a:lnTo>
                      <a:pt x="170" y="0"/>
                    </a:lnTo>
                    <a:lnTo>
                      <a:pt x="150" y="17"/>
                    </a:lnTo>
                    <a:lnTo>
                      <a:pt x="129" y="34"/>
                    </a:lnTo>
                    <a:lnTo>
                      <a:pt x="108" y="51"/>
                    </a:lnTo>
                    <a:lnTo>
                      <a:pt x="87" y="67"/>
                    </a:lnTo>
                    <a:lnTo>
                      <a:pt x="66" y="84"/>
                    </a:lnTo>
                    <a:lnTo>
                      <a:pt x="44" y="99"/>
                    </a:lnTo>
                    <a:lnTo>
                      <a:pt x="22" y="114"/>
                    </a:lnTo>
                    <a:lnTo>
                      <a:pt x="0" y="130"/>
                    </a:lnTo>
                    <a:lnTo>
                      <a:pt x="30" y="13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378480" y="318924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185" h="141">
                    <a:moveTo>
                      <a:pt x="30" y="141"/>
                    </a:moveTo>
                    <a:lnTo>
                      <a:pt x="50" y="127"/>
                    </a:lnTo>
                    <a:lnTo>
                      <a:pt x="70" y="112"/>
                    </a:lnTo>
                    <a:lnTo>
                      <a:pt x="90" y="98"/>
                    </a:lnTo>
                    <a:lnTo>
                      <a:pt x="110" y="83"/>
                    </a:lnTo>
                    <a:lnTo>
                      <a:pt x="129" y="68"/>
                    </a:lnTo>
                    <a:lnTo>
                      <a:pt x="148" y="53"/>
                    </a:lnTo>
                    <a:lnTo>
                      <a:pt x="168" y="38"/>
                    </a:lnTo>
                    <a:lnTo>
                      <a:pt x="185" y="22"/>
                    </a:lnTo>
                    <a:lnTo>
                      <a:pt x="185" y="0"/>
                    </a:lnTo>
                    <a:lnTo>
                      <a:pt x="163" y="19"/>
                    </a:lnTo>
                    <a:lnTo>
                      <a:pt x="141" y="37"/>
                    </a:lnTo>
                    <a:lnTo>
                      <a:pt x="118" y="56"/>
                    </a:lnTo>
                    <a:lnTo>
                      <a:pt x="95" y="74"/>
                    </a:lnTo>
                    <a:lnTo>
                      <a:pt x="72" y="90"/>
                    </a:lnTo>
                    <a:lnTo>
                      <a:pt x="49" y="107"/>
                    </a:lnTo>
                    <a:lnTo>
                      <a:pt x="25" y="124"/>
                    </a:lnTo>
                    <a:lnTo>
                      <a:pt x="0" y="141"/>
                    </a:lnTo>
                    <a:lnTo>
                      <a:pt x="15" y="141"/>
                    </a:lnTo>
                    <a:lnTo>
                      <a:pt x="30" y="14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373800" y="3186000"/>
                <a:ext cx="63360" cy="47880"/>
              </a:xfrm>
              <a:custGeom>
                <a:avLst/>
                <a:gdLst/>
                <a:ahLst/>
                <a:rect l="l" t="t" r="r" b="b"/>
                <a:pathLst>
                  <a:path w="200" h="151">
                    <a:moveTo>
                      <a:pt x="30" y="151"/>
                    </a:moveTo>
                    <a:lnTo>
                      <a:pt x="52" y="135"/>
                    </a:lnTo>
                    <a:lnTo>
                      <a:pt x="74" y="120"/>
                    </a:lnTo>
                    <a:lnTo>
                      <a:pt x="96" y="105"/>
                    </a:lnTo>
                    <a:lnTo>
                      <a:pt x="117" y="88"/>
                    </a:lnTo>
                    <a:lnTo>
                      <a:pt x="138" y="72"/>
                    </a:lnTo>
                    <a:lnTo>
                      <a:pt x="159" y="55"/>
                    </a:lnTo>
                    <a:lnTo>
                      <a:pt x="180" y="38"/>
                    </a:lnTo>
                    <a:lnTo>
                      <a:pt x="200" y="21"/>
                    </a:lnTo>
                    <a:lnTo>
                      <a:pt x="200" y="0"/>
                    </a:lnTo>
                    <a:lnTo>
                      <a:pt x="177" y="20"/>
                    </a:lnTo>
                    <a:lnTo>
                      <a:pt x="152" y="40"/>
                    </a:lnTo>
                    <a:lnTo>
                      <a:pt x="128" y="58"/>
                    </a:lnTo>
                    <a:lnTo>
                      <a:pt x="103" y="78"/>
                    </a:lnTo>
                    <a:lnTo>
                      <a:pt x="77" y="97"/>
                    </a:lnTo>
                    <a:lnTo>
                      <a:pt x="52" y="115"/>
                    </a:lnTo>
                    <a:lnTo>
                      <a:pt x="26" y="133"/>
                    </a:lnTo>
                    <a:lnTo>
                      <a:pt x="0" y="151"/>
                    </a:lnTo>
                    <a:lnTo>
                      <a:pt x="30" y="151"/>
                    </a:lnTo>
                    <a:lnTo>
                      <a:pt x="30" y="15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369120" y="3182760"/>
                <a:ext cx="68040" cy="51120"/>
              </a:xfrm>
              <a:custGeom>
                <a:avLst/>
                <a:gdLst/>
                <a:ahLst/>
                <a:rect l="l" t="t" r="r" b="b"/>
                <a:pathLst>
                  <a:path w="215" h="163">
                    <a:moveTo>
                      <a:pt x="30" y="163"/>
                    </a:moveTo>
                    <a:lnTo>
                      <a:pt x="55" y="146"/>
                    </a:lnTo>
                    <a:lnTo>
                      <a:pt x="78" y="129"/>
                    </a:lnTo>
                    <a:lnTo>
                      <a:pt x="102" y="112"/>
                    </a:lnTo>
                    <a:lnTo>
                      <a:pt x="125" y="95"/>
                    </a:lnTo>
                    <a:lnTo>
                      <a:pt x="148" y="78"/>
                    </a:lnTo>
                    <a:lnTo>
                      <a:pt x="171" y="59"/>
                    </a:lnTo>
                    <a:lnTo>
                      <a:pt x="193" y="41"/>
                    </a:lnTo>
                    <a:lnTo>
                      <a:pt x="215" y="22"/>
                    </a:lnTo>
                    <a:lnTo>
                      <a:pt x="215" y="0"/>
                    </a:lnTo>
                    <a:lnTo>
                      <a:pt x="190" y="22"/>
                    </a:lnTo>
                    <a:lnTo>
                      <a:pt x="164" y="43"/>
                    </a:lnTo>
                    <a:lnTo>
                      <a:pt x="138" y="64"/>
                    </a:lnTo>
                    <a:lnTo>
                      <a:pt x="110" y="85"/>
                    </a:lnTo>
                    <a:lnTo>
                      <a:pt x="83" y="105"/>
                    </a:lnTo>
                    <a:lnTo>
                      <a:pt x="56" y="125"/>
                    </a:lnTo>
                    <a:lnTo>
                      <a:pt x="28" y="144"/>
                    </a:lnTo>
                    <a:lnTo>
                      <a:pt x="0" y="163"/>
                    </a:lnTo>
                    <a:lnTo>
                      <a:pt x="30" y="16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362640" y="3179880"/>
                <a:ext cx="74520" cy="54000"/>
              </a:xfrm>
              <a:custGeom>
                <a:avLst/>
                <a:gdLst/>
                <a:ahLst/>
                <a:rect l="l" t="t" r="r" b="b"/>
                <a:pathLst>
                  <a:path w="231" h="173">
                    <a:moveTo>
                      <a:pt x="31" y="173"/>
                    </a:moveTo>
                    <a:lnTo>
                      <a:pt x="57" y="155"/>
                    </a:lnTo>
                    <a:lnTo>
                      <a:pt x="83" y="137"/>
                    </a:lnTo>
                    <a:lnTo>
                      <a:pt x="108" y="119"/>
                    </a:lnTo>
                    <a:lnTo>
                      <a:pt x="134" y="100"/>
                    </a:lnTo>
                    <a:lnTo>
                      <a:pt x="159" y="80"/>
                    </a:lnTo>
                    <a:lnTo>
                      <a:pt x="183" y="62"/>
                    </a:lnTo>
                    <a:lnTo>
                      <a:pt x="208" y="42"/>
                    </a:lnTo>
                    <a:lnTo>
                      <a:pt x="231" y="22"/>
                    </a:lnTo>
                    <a:lnTo>
                      <a:pt x="231" y="2"/>
                    </a:lnTo>
                    <a:lnTo>
                      <a:pt x="231" y="0"/>
                    </a:lnTo>
                    <a:lnTo>
                      <a:pt x="204" y="23"/>
                    </a:lnTo>
                    <a:lnTo>
                      <a:pt x="177" y="46"/>
                    </a:lnTo>
                    <a:lnTo>
                      <a:pt x="148" y="68"/>
                    </a:lnTo>
                    <a:lnTo>
                      <a:pt x="120" y="90"/>
                    </a:lnTo>
                    <a:lnTo>
                      <a:pt x="91" y="112"/>
                    </a:lnTo>
                    <a:lnTo>
                      <a:pt x="61" y="133"/>
                    </a:lnTo>
                    <a:lnTo>
                      <a:pt x="31" y="153"/>
                    </a:lnTo>
                    <a:lnTo>
                      <a:pt x="0" y="173"/>
                    </a:lnTo>
                    <a:lnTo>
                      <a:pt x="7" y="173"/>
                    </a:lnTo>
                    <a:lnTo>
                      <a:pt x="31" y="17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359400" y="3174840"/>
                <a:ext cx="77760" cy="59040"/>
              </a:xfrm>
              <a:custGeom>
                <a:avLst/>
                <a:gdLst/>
                <a:ahLst/>
                <a:rect l="l" t="t" r="r" b="b"/>
                <a:pathLst>
                  <a:path w="245" h="185">
                    <a:moveTo>
                      <a:pt x="30" y="185"/>
                    </a:moveTo>
                    <a:lnTo>
                      <a:pt x="58" y="166"/>
                    </a:lnTo>
                    <a:lnTo>
                      <a:pt x="86" y="147"/>
                    </a:lnTo>
                    <a:lnTo>
                      <a:pt x="113" y="127"/>
                    </a:lnTo>
                    <a:lnTo>
                      <a:pt x="140" y="107"/>
                    </a:lnTo>
                    <a:lnTo>
                      <a:pt x="168" y="86"/>
                    </a:lnTo>
                    <a:lnTo>
                      <a:pt x="194" y="65"/>
                    </a:lnTo>
                    <a:lnTo>
                      <a:pt x="220" y="44"/>
                    </a:lnTo>
                    <a:lnTo>
                      <a:pt x="245" y="22"/>
                    </a:lnTo>
                    <a:lnTo>
                      <a:pt x="245" y="14"/>
                    </a:lnTo>
                    <a:lnTo>
                      <a:pt x="245" y="0"/>
                    </a:lnTo>
                    <a:lnTo>
                      <a:pt x="217" y="25"/>
                    </a:lnTo>
                    <a:lnTo>
                      <a:pt x="187" y="49"/>
                    </a:lnTo>
                    <a:lnTo>
                      <a:pt x="157" y="74"/>
                    </a:lnTo>
                    <a:lnTo>
                      <a:pt x="127" y="97"/>
                    </a:lnTo>
                    <a:lnTo>
                      <a:pt x="95" y="120"/>
                    </a:lnTo>
                    <a:lnTo>
                      <a:pt x="64" y="142"/>
                    </a:lnTo>
                    <a:lnTo>
                      <a:pt x="31" y="164"/>
                    </a:lnTo>
                    <a:lnTo>
                      <a:pt x="0" y="185"/>
                    </a:lnTo>
                    <a:lnTo>
                      <a:pt x="21" y="185"/>
                    </a:lnTo>
                    <a:lnTo>
                      <a:pt x="30" y="185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353280" y="3171960"/>
                <a:ext cx="83880" cy="61920"/>
              </a:xfrm>
              <a:custGeom>
                <a:avLst/>
                <a:gdLst/>
                <a:ahLst/>
                <a:rect l="l" t="t" r="r" b="b"/>
                <a:pathLst>
                  <a:path w="261" h="197">
                    <a:moveTo>
                      <a:pt x="30" y="197"/>
                    </a:moveTo>
                    <a:lnTo>
                      <a:pt x="61" y="177"/>
                    </a:lnTo>
                    <a:lnTo>
                      <a:pt x="91" y="157"/>
                    </a:lnTo>
                    <a:lnTo>
                      <a:pt x="121" y="136"/>
                    </a:lnTo>
                    <a:lnTo>
                      <a:pt x="150" y="114"/>
                    </a:lnTo>
                    <a:lnTo>
                      <a:pt x="178" y="92"/>
                    </a:lnTo>
                    <a:lnTo>
                      <a:pt x="207" y="70"/>
                    </a:lnTo>
                    <a:lnTo>
                      <a:pt x="234" y="47"/>
                    </a:lnTo>
                    <a:lnTo>
                      <a:pt x="261" y="24"/>
                    </a:lnTo>
                    <a:lnTo>
                      <a:pt x="261" y="0"/>
                    </a:lnTo>
                    <a:lnTo>
                      <a:pt x="231" y="28"/>
                    </a:lnTo>
                    <a:lnTo>
                      <a:pt x="199" y="54"/>
                    </a:lnTo>
                    <a:lnTo>
                      <a:pt x="167" y="79"/>
                    </a:lnTo>
                    <a:lnTo>
                      <a:pt x="134" y="104"/>
                    </a:lnTo>
                    <a:lnTo>
                      <a:pt x="102" y="129"/>
                    </a:lnTo>
                    <a:lnTo>
                      <a:pt x="68" y="152"/>
                    </a:lnTo>
                    <a:lnTo>
                      <a:pt x="33" y="175"/>
                    </a:lnTo>
                    <a:lnTo>
                      <a:pt x="0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348240" y="3168720"/>
                <a:ext cx="88920" cy="65160"/>
              </a:xfrm>
              <a:custGeom>
                <a:avLst/>
                <a:gdLst/>
                <a:ahLst/>
                <a:rect l="l" t="t" r="r" b="b"/>
                <a:pathLst>
                  <a:path w="278" h="207">
                    <a:moveTo>
                      <a:pt x="33" y="207"/>
                    </a:moveTo>
                    <a:lnTo>
                      <a:pt x="64" y="186"/>
                    </a:lnTo>
                    <a:lnTo>
                      <a:pt x="97" y="164"/>
                    </a:lnTo>
                    <a:lnTo>
                      <a:pt x="128" y="142"/>
                    </a:lnTo>
                    <a:lnTo>
                      <a:pt x="160" y="119"/>
                    </a:lnTo>
                    <a:lnTo>
                      <a:pt x="190" y="96"/>
                    </a:lnTo>
                    <a:lnTo>
                      <a:pt x="220" y="71"/>
                    </a:lnTo>
                    <a:lnTo>
                      <a:pt x="250" y="47"/>
                    </a:lnTo>
                    <a:lnTo>
                      <a:pt x="278" y="22"/>
                    </a:lnTo>
                    <a:lnTo>
                      <a:pt x="278" y="0"/>
                    </a:lnTo>
                    <a:lnTo>
                      <a:pt x="246" y="28"/>
                    </a:lnTo>
                    <a:lnTo>
                      <a:pt x="213" y="56"/>
                    </a:lnTo>
                    <a:lnTo>
                      <a:pt x="179" y="83"/>
                    </a:lnTo>
                    <a:lnTo>
                      <a:pt x="144" y="109"/>
                    </a:lnTo>
                    <a:lnTo>
                      <a:pt x="109" y="134"/>
                    </a:lnTo>
                    <a:lnTo>
                      <a:pt x="73" y="160"/>
                    </a:lnTo>
                    <a:lnTo>
                      <a:pt x="37" y="184"/>
                    </a:lnTo>
                    <a:lnTo>
                      <a:pt x="0" y="207"/>
                    </a:lnTo>
                    <a:lnTo>
                      <a:pt x="33" y="20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345360" y="3165480"/>
                <a:ext cx="91800" cy="68400"/>
              </a:xfrm>
              <a:custGeom>
                <a:avLst/>
                <a:gdLst/>
                <a:ahLst/>
                <a:rect l="l" t="t" r="r" b="b"/>
                <a:pathLst>
                  <a:path w="288" h="219">
                    <a:moveTo>
                      <a:pt x="27" y="219"/>
                    </a:moveTo>
                    <a:lnTo>
                      <a:pt x="60" y="197"/>
                    </a:lnTo>
                    <a:lnTo>
                      <a:pt x="95" y="174"/>
                    </a:lnTo>
                    <a:lnTo>
                      <a:pt x="129" y="151"/>
                    </a:lnTo>
                    <a:lnTo>
                      <a:pt x="161" y="126"/>
                    </a:lnTo>
                    <a:lnTo>
                      <a:pt x="194" y="101"/>
                    </a:lnTo>
                    <a:lnTo>
                      <a:pt x="226" y="76"/>
                    </a:lnTo>
                    <a:lnTo>
                      <a:pt x="258" y="50"/>
                    </a:lnTo>
                    <a:lnTo>
                      <a:pt x="288" y="22"/>
                    </a:lnTo>
                    <a:lnTo>
                      <a:pt x="288" y="0"/>
                    </a:lnTo>
                    <a:lnTo>
                      <a:pt x="255" y="30"/>
                    </a:lnTo>
                    <a:lnTo>
                      <a:pt x="220" y="59"/>
                    </a:lnTo>
                    <a:lnTo>
                      <a:pt x="185" y="87"/>
                    </a:lnTo>
                    <a:lnTo>
                      <a:pt x="150" y="114"/>
                    </a:lnTo>
                    <a:lnTo>
                      <a:pt x="113" y="141"/>
                    </a:lnTo>
                    <a:lnTo>
                      <a:pt x="76" y="166"/>
                    </a:lnTo>
                    <a:lnTo>
                      <a:pt x="38" y="192"/>
                    </a:lnTo>
                    <a:lnTo>
                      <a:pt x="0" y="216"/>
                    </a:lnTo>
                    <a:lnTo>
                      <a:pt x="7" y="219"/>
                    </a:lnTo>
                    <a:lnTo>
                      <a:pt x="27" y="21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342120" y="31608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297" h="230">
                    <a:moveTo>
                      <a:pt x="19" y="230"/>
                    </a:moveTo>
                    <a:lnTo>
                      <a:pt x="56" y="207"/>
                    </a:lnTo>
                    <a:lnTo>
                      <a:pt x="92" y="183"/>
                    </a:lnTo>
                    <a:lnTo>
                      <a:pt x="128" y="157"/>
                    </a:lnTo>
                    <a:lnTo>
                      <a:pt x="163" y="132"/>
                    </a:lnTo>
                    <a:lnTo>
                      <a:pt x="198" y="106"/>
                    </a:lnTo>
                    <a:lnTo>
                      <a:pt x="232" y="79"/>
                    </a:lnTo>
                    <a:lnTo>
                      <a:pt x="265" y="51"/>
                    </a:lnTo>
                    <a:lnTo>
                      <a:pt x="297" y="23"/>
                    </a:lnTo>
                    <a:lnTo>
                      <a:pt x="297" y="0"/>
                    </a:lnTo>
                    <a:lnTo>
                      <a:pt x="263" y="30"/>
                    </a:lnTo>
                    <a:lnTo>
                      <a:pt x="228" y="61"/>
                    </a:lnTo>
                    <a:lnTo>
                      <a:pt x="191" y="89"/>
                    </a:lnTo>
                    <a:lnTo>
                      <a:pt x="155" y="117"/>
                    </a:lnTo>
                    <a:lnTo>
                      <a:pt x="117" y="145"/>
                    </a:lnTo>
                    <a:lnTo>
                      <a:pt x="79" y="172"/>
                    </a:lnTo>
                    <a:lnTo>
                      <a:pt x="40" y="197"/>
                    </a:lnTo>
                    <a:lnTo>
                      <a:pt x="0" y="221"/>
                    </a:lnTo>
                    <a:lnTo>
                      <a:pt x="16" y="230"/>
                    </a:lnTo>
                    <a:lnTo>
                      <a:pt x="19" y="23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340320" y="31575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305" h="239">
                    <a:moveTo>
                      <a:pt x="17" y="239"/>
                    </a:moveTo>
                    <a:lnTo>
                      <a:pt x="55" y="215"/>
                    </a:lnTo>
                    <a:lnTo>
                      <a:pt x="93" y="189"/>
                    </a:lnTo>
                    <a:lnTo>
                      <a:pt x="130" y="164"/>
                    </a:lnTo>
                    <a:lnTo>
                      <a:pt x="167" y="137"/>
                    </a:lnTo>
                    <a:lnTo>
                      <a:pt x="202" y="110"/>
                    </a:lnTo>
                    <a:lnTo>
                      <a:pt x="237" y="82"/>
                    </a:lnTo>
                    <a:lnTo>
                      <a:pt x="272" y="53"/>
                    </a:lnTo>
                    <a:lnTo>
                      <a:pt x="305" y="23"/>
                    </a:lnTo>
                    <a:lnTo>
                      <a:pt x="305" y="0"/>
                    </a:lnTo>
                    <a:lnTo>
                      <a:pt x="270" y="33"/>
                    </a:lnTo>
                    <a:lnTo>
                      <a:pt x="234" y="63"/>
                    </a:lnTo>
                    <a:lnTo>
                      <a:pt x="196" y="94"/>
                    </a:lnTo>
                    <a:lnTo>
                      <a:pt x="158" y="122"/>
                    </a:lnTo>
                    <a:lnTo>
                      <a:pt x="119" y="150"/>
                    </a:lnTo>
                    <a:lnTo>
                      <a:pt x="81" y="178"/>
                    </a:lnTo>
                    <a:lnTo>
                      <a:pt x="41" y="204"/>
                    </a:lnTo>
                    <a:lnTo>
                      <a:pt x="0" y="229"/>
                    </a:lnTo>
                    <a:lnTo>
                      <a:pt x="17" y="23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337440" y="3154320"/>
                <a:ext cx="99720" cy="77760"/>
              </a:xfrm>
              <a:custGeom>
                <a:avLst/>
                <a:gdLst/>
                <a:ahLst/>
                <a:rect l="l" t="t" r="r" b="b"/>
                <a:pathLst>
                  <a:path w="314" h="243">
                    <a:moveTo>
                      <a:pt x="17" y="243"/>
                    </a:moveTo>
                    <a:lnTo>
                      <a:pt x="57" y="219"/>
                    </a:lnTo>
                    <a:lnTo>
                      <a:pt x="96" y="194"/>
                    </a:lnTo>
                    <a:lnTo>
                      <a:pt x="134" y="167"/>
                    </a:lnTo>
                    <a:lnTo>
                      <a:pt x="172" y="139"/>
                    </a:lnTo>
                    <a:lnTo>
                      <a:pt x="208" y="111"/>
                    </a:lnTo>
                    <a:lnTo>
                      <a:pt x="245" y="83"/>
                    </a:lnTo>
                    <a:lnTo>
                      <a:pt x="280" y="52"/>
                    </a:lnTo>
                    <a:lnTo>
                      <a:pt x="314" y="22"/>
                    </a:lnTo>
                    <a:lnTo>
                      <a:pt x="314" y="0"/>
                    </a:lnTo>
                    <a:lnTo>
                      <a:pt x="279" y="32"/>
                    </a:lnTo>
                    <a:lnTo>
                      <a:pt x="241" y="64"/>
                    </a:lnTo>
                    <a:lnTo>
                      <a:pt x="203" y="95"/>
                    </a:lnTo>
                    <a:lnTo>
                      <a:pt x="163" y="125"/>
                    </a:lnTo>
                    <a:lnTo>
                      <a:pt x="124" y="154"/>
                    </a:lnTo>
                    <a:lnTo>
                      <a:pt x="83" y="181"/>
                    </a:lnTo>
                    <a:lnTo>
                      <a:pt x="42" y="209"/>
                    </a:lnTo>
                    <a:lnTo>
                      <a:pt x="0" y="235"/>
                    </a:lnTo>
                    <a:lnTo>
                      <a:pt x="17" y="243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334200" y="3151080"/>
                <a:ext cx="102960" cy="79560"/>
              </a:xfrm>
              <a:custGeom>
                <a:avLst/>
                <a:gdLst/>
                <a:ahLst/>
                <a:rect l="l" t="t" r="r" b="b"/>
                <a:pathLst>
                  <a:path w="323" h="249">
                    <a:moveTo>
                      <a:pt x="18" y="249"/>
                    </a:moveTo>
                    <a:lnTo>
                      <a:pt x="59" y="224"/>
                    </a:lnTo>
                    <a:lnTo>
                      <a:pt x="99" y="198"/>
                    </a:lnTo>
                    <a:lnTo>
                      <a:pt x="137" y="170"/>
                    </a:lnTo>
                    <a:lnTo>
                      <a:pt x="176" y="142"/>
                    </a:lnTo>
                    <a:lnTo>
                      <a:pt x="214" y="114"/>
                    </a:lnTo>
                    <a:lnTo>
                      <a:pt x="252" y="83"/>
                    </a:lnTo>
                    <a:lnTo>
                      <a:pt x="288" y="53"/>
                    </a:lnTo>
                    <a:lnTo>
                      <a:pt x="323" y="20"/>
                    </a:lnTo>
                    <a:lnTo>
                      <a:pt x="323" y="7"/>
                    </a:lnTo>
                    <a:lnTo>
                      <a:pt x="321" y="0"/>
                    </a:lnTo>
                    <a:lnTo>
                      <a:pt x="284" y="34"/>
                    </a:lnTo>
                    <a:lnTo>
                      <a:pt x="246" y="67"/>
                    </a:lnTo>
                    <a:lnTo>
                      <a:pt x="207" y="98"/>
                    </a:lnTo>
                    <a:lnTo>
                      <a:pt x="167" y="128"/>
                    </a:lnTo>
                    <a:lnTo>
                      <a:pt x="126" y="158"/>
                    </a:lnTo>
                    <a:lnTo>
                      <a:pt x="85" y="186"/>
                    </a:lnTo>
                    <a:lnTo>
                      <a:pt x="43" y="214"/>
                    </a:lnTo>
                    <a:lnTo>
                      <a:pt x="0" y="240"/>
                    </a:lnTo>
                    <a:lnTo>
                      <a:pt x="18" y="24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330960" y="3149640"/>
                <a:ext cx="106200" cy="79200"/>
              </a:xfrm>
              <a:custGeom>
                <a:avLst/>
                <a:gdLst/>
                <a:ahLst/>
                <a:rect l="l" t="t" r="r" b="b"/>
                <a:pathLst>
                  <a:path w="332" h="252">
                    <a:moveTo>
                      <a:pt x="18" y="252"/>
                    </a:moveTo>
                    <a:lnTo>
                      <a:pt x="60" y="226"/>
                    </a:lnTo>
                    <a:lnTo>
                      <a:pt x="101" y="198"/>
                    </a:lnTo>
                    <a:lnTo>
                      <a:pt x="142" y="171"/>
                    </a:lnTo>
                    <a:lnTo>
                      <a:pt x="181" y="142"/>
                    </a:lnTo>
                    <a:lnTo>
                      <a:pt x="221" y="112"/>
                    </a:lnTo>
                    <a:lnTo>
                      <a:pt x="259" y="81"/>
                    </a:lnTo>
                    <a:lnTo>
                      <a:pt x="297" y="49"/>
                    </a:lnTo>
                    <a:lnTo>
                      <a:pt x="332" y="17"/>
                    </a:lnTo>
                    <a:lnTo>
                      <a:pt x="332" y="14"/>
                    </a:lnTo>
                    <a:lnTo>
                      <a:pt x="326" y="0"/>
                    </a:lnTo>
                    <a:lnTo>
                      <a:pt x="288" y="34"/>
                    </a:lnTo>
                    <a:lnTo>
                      <a:pt x="249" y="67"/>
                    </a:lnTo>
                    <a:lnTo>
                      <a:pt x="211" y="99"/>
                    </a:lnTo>
                    <a:lnTo>
                      <a:pt x="170" y="129"/>
                    </a:lnTo>
                    <a:lnTo>
                      <a:pt x="129" y="160"/>
                    </a:lnTo>
                    <a:lnTo>
                      <a:pt x="87" y="188"/>
                    </a:lnTo>
                    <a:lnTo>
                      <a:pt x="44" y="216"/>
                    </a:lnTo>
                    <a:lnTo>
                      <a:pt x="0" y="243"/>
                    </a:lnTo>
                    <a:lnTo>
                      <a:pt x="18" y="25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327720" y="3146400"/>
                <a:ext cx="108000" cy="81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20" y="255"/>
                    </a:moveTo>
                    <a:lnTo>
                      <a:pt x="62" y="229"/>
                    </a:lnTo>
                    <a:lnTo>
                      <a:pt x="104" y="201"/>
                    </a:lnTo>
                    <a:lnTo>
                      <a:pt x="146" y="173"/>
                    </a:lnTo>
                    <a:lnTo>
                      <a:pt x="186" y="143"/>
                    </a:lnTo>
                    <a:lnTo>
                      <a:pt x="226" y="113"/>
                    </a:lnTo>
                    <a:lnTo>
                      <a:pt x="265" y="82"/>
                    </a:lnTo>
                    <a:lnTo>
                      <a:pt x="303" y="49"/>
                    </a:lnTo>
                    <a:lnTo>
                      <a:pt x="340" y="15"/>
                    </a:lnTo>
                    <a:lnTo>
                      <a:pt x="332" y="0"/>
                    </a:lnTo>
                    <a:lnTo>
                      <a:pt x="294" y="34"/>
                    </a:lnTo>
                    <a:lnTo>
                      <a:pt x="254" y="68"/>
                    </a:lnTo>
                    <a:lnTo>
                      <a:pt x="214" y="100"/>
                    </a:lnTo>
                    <a:lnTo>
                      <a:pt x="173" y="132"/>
                    </a:lnTo>
                    <a:lnTo>
                      <a:pt x="131" y="162"/>
                    </a:lnTo>
                    <a:lnTo>
                      <a:pt x="88" y="192"/>
                    </a:lnTo>
                    <a:lnTo>
                      <a:pt x="45" y="220"/>
                    </a:lnTo>
                    <a:lnTo>
                      <a:pt x="0" y="247"/>
                    </a:lnTo>
                    <a:lnTo>
                      <a:pt x="4" y="247"/>
                    </a:lnTo>
                    <a:lnTo>
                      <a:pt x="20" y="255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23040" y="3143160"/>
                <a:ext cx="111240" cy="82800"/>
              </a:xfrm>
              <a:custGeom>
                <a:avLst/>
                <a:gdLst/>
                <a:ahLst/>
                <a:rect l="l" t="t" r="r" b="b"/>
                <a:pathLst>
                  <a:path w="352" h="259">
                    <a:moveTo>
                      <a:pt x="26" y="259"/>
                    </a:moveTo>
                    <a:lnTo>
                      <a:pt x="70" y="232"/>
                    </a:lnTo>
                    <a:lnTo>
                      <a:pt x="113" y="204"/>
                    </a:lnTo>
                    <a:lnTo>
                      <a:pt x="155" y="176"/>
                    </a:lnTo>
                    <a:lnTo>
                      <a:pt x="196" y="145"/>
                    </a:lnTo>
                    <a:lnTo>
                      <a:pt x="237" y="115"/>
                    </a:lnTo>
                    <a:lnTo>
                      <a:pt x="275" y="83"/>
                    </a:lnTo>
                    <a:lnTo>
                      <a:pt x="314" y="50"/>
                    </a:lnTo>
                    <a:lnTo>
                      <a:pt x="352" y="16"/>
                    </a:lnTo>
                    <a:lnTo>
                      <a:pt x="345" y="0"/>
                    </a:lnTo>
                    <a:lnTo>
                      <a:pt x="305" y="36"/>
                    </a:lnTo>
                    <a:lnTo>
                      <a:pt x="264" y="71"/>
                    </a:lnTo>
                    <a:lnTo>
                      <a:pt x="222" y="104"/>
                    </a:lnTo>
                    <a:lnTo>
                      <a:pt x="180" y="137"/>
                    </a:lnTo>
                    <a:lnTo>
                      <a:pt x="136" y="168"/>
                    </a:lnTo>
                    <a:lnTo>
                      <a:pt x="91" y="199"/>
                    </a:lnTo>
                    <a:lnTo>
                      <a:pt x="46" y="227"/>
                    </a:lnTo>
                    <a:lnTo>
                      <a:pt x="0" y="255"/>
                    </a:lnTo>
                    <a:lnTo>
                      <a:pt x="20" y="255"/>
                    </a:lnTo>
                    <a:lnTo>
                      <a:pt x="26" y="25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318360" y="3141720"/>
                <a:ext cx="115920" cy="82440"/>
              </a:xfrm>
              <a:custGeom>
                <a:avLst/>
                <a:gdLst/>
                <a:ahLst/>
                <a:rect l="l" t="t" r="r" b="b"/>
                <a:pathLst>
                  <a:path w="361" h="263">
                    <a:moveTo>
                      <a:pt x="29" y="263"/>
                    </a:moveTo>
                    <a:lnTo>
                      <a:pt x="74" y="236"/>
                    </a:lnTo>
                    <a:lnTo>
                      <a:pt x="117" y="208"/>
                    </a:lnTo>
                    <a:lnTo>
                      <a:pt x="160" y="178"/>
                    </a:lnTo>
                    <a:lnTo>
                      <a:pt x="202" y="148"/>
                    </a:lnTo>
                    <a:lnTo>
                      <a:pt x="243" y="116"/>
                    </a:lnTo>
                    <a:lnTo>
                      <a:pt x="283" y="84"/>
                    </a:lnTo>
                    <a:lnTo>
                      <a:pt x="323" y="50"/>
                    </a:lnTo>
                    <a:lnTo>
                      <a:pt x="361" y="16"/>
                    </a:lnTo>
                    <a:lnTo>
                      <a:pt x="354" y="0"/>
                    </a:lnTo>
                    <a:lnTo>
                      <a:pt x="314" y="37"/>
                    </a:lnTo>
                    <a:lnTo>
                      <a:pt x="272" y="72"/>
                    </a:lnTo>
                    <a:lnTo>
                      <a:pt x="229" y="107"/>
                    </a:lnTo>
                    <a:lnTo>
                      <a:pt x="184" y="141"/>
                    </a:lnTo>
                    <a:lnTo>
                      <a:pt x="140" y="172"/>
                    </a:lnTo>
                    <a:lnTo>
                      <a:pt x="94" y="203"/>
                    </a:lnTo>
                    <a:lnTo>
                      <a:pt x="48" y="232"/>
                    </a:lnTo>
                    <a:lnTo>
                      <a:pt x="0" y="260"/>
                    </a:lnTo>
                    <a:lnTo>
                      <a:pt x="6" y="263"/>
                    </a:lnTo>
                    <a:lnTo>
                      <a:pt x="29" y="26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316560" y="313848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367" h="270">
                    <a:moveTo>
                      <a:pt x="22" y="270"/>
                    </a:moveTo>
                    <a:lnTo>
                      <a:pt x="68" y="242"/>
                    </a:lnTo>
                    <a:lnTo>
                      <a:pt x="113" y="214"/>
                    </a:lnTo>
                    <a:lnTo>
                      <a:pt x="158" y="183"/>
                    </a:lnTo>
                    <a:lnTo>
                      <a:pt x="202" y="152"/>
                    </a:lnTo>
                    <a:lnTo>
                      <a:pt x="244" y="119"/>
                    </a:lnTo>
                    <a:lnTo>
                      <a:pt x="286" y="86"/>
                    </a:lnTo>
                    <a:lnTo>
                      <a:pt x="327" y="51"/>
                    </a:lnTo>
                    <a:lnTo>
                      <a:pt x="367" y="15"/>
                    </a:lnTo>
                    <a:lnTo>
                      <a:pt x="359" y="0"/>
                    </a:lnTo>
                    <a:lnTo>
                      <a:pt x="317" y="36"/>
                    </a:lnTo>
                    <a:lnTo>
                      <a:pt x="275" y="73"/>
                    </a:lnTo>
                    <a:lnTo>
                      <a:pt x="232" y="108"/>
                    </a:lnTo>
                    <a:lnTo>
                      <a:pt x="187" y="141"/>
                    </a:lnTo>
                    <a:lnTo>
                      <a:pt x="142" y="174"/>
                    </a:lnTo>
                    <a:lnTo>
                      <a:pt x="96" y="205"/>
                    </a:lnTo>
                    <a:lnTo>
                      <a:pt x="48" y="235"/>
                    </a:lnTo>
                    <a:lnTo>
                      <a:pt x="0" y="263"/>
                    </a:lnTo>
                    <a:lnTo>
                      <a:pt x="15" y="270"/>
                    </a:lnTo>
                    <a:lnTo>
                      <a:pt x="22" y="27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313320" y="3137040"/>
                <a:ext cx="117720" cy="87120"/>
              </a:xfrm>
              <a:custGeom>
                <a:avLst/>
                <a:gdLst/>
                <a:ahLst/>
                <a:rect l="l" t="t" r="r" b="b"/>
                <a:pathLst>
                  <a:path w="373" h="276">
                    <a:moveTo>
                      <a:pt x="19" y="276"/>
                    </a:moveTo>
                    <a:lnTo>
                      <a:pt x="67" y="248"/>
                    </a:lnTo>
                    <a:lnTo>
                      <a:pt x="113" y="219"/>
                    </a:lnTo>
                    <a:lnTo>
                      <a:pt x="159" y="188"/>
                    </a:lnTo>
                    <a:lnTo>
                      <a:pt x="203" y="157"/>
                    </a:lnTo>
                    <a:lnTo>
                      <a:pt x="248" y="123"/>
                    </a:lnTo>
                    <a:lnTo>
                      <a:pt x="291" y="88"/>
                    </a:lnTo>
                    <a:lnTo>
                      <a:pt x="333" y="53"/>
                    </a:lnTo>
                    <a:lnTo>
                      <a:pt x="373" y="16"/>
                    </a:lnTo>
                    <a:lnTo>
                      <a:pt x="365" y="0"/>
                    </a:lnTo>
                    <a:lnTo>
                      <a:pt x="323" y="38"/>
                    </a:lnTo>
                    <a:lnTo>
                      <a:pt x="280" y="75"/>
                    </a:lnTo>
                    <a:lnTo>
                      <a:pt x="236" y="110"/>
                    </a:lnTo>
                    <a:lnTo>
                      <a:pt x="192" y="145"/>
                    </a:lnTo>
                    <a:lnTo>
                      <a:pt x="146" y="178"/>
                    </a:lnTo>
                    <a:lnTo>
                      <a:pt x="98" y="209"/>
                    </a:lnTo>
                    <a:lnTo>
                      <a:pt x="50" y="240"/>
                    </a:lnTo>
                    <a:lnTo>
                      <a:pt x="0" y="268"/>
                    </a:lnTo>
                    <a:lnTo>
                      <a:pt x="19" y="27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310440" y="3133800"/>
                <a:ext cx="118800" cy="88920"/>
              </a:xfrm>
              <a:custGeom>
                <a:avLst/>
                <a:gdLst/>
                <a:ahLst/>
                <a:rect l="l" t="t" r="r" b="b"/>
                <a:pathLst>
                  <a:path w="378" h="281">
                    <a:moveTo>
                      <a:pt x="19" y="281"/>
                    </a:moveTo>
                    <a:lnTo>
                      <a:pt x="67" y="253"/>
                    </a:lnTo>
                    <a:lnTo>
                      <a:pt x="115" y="223"/>
                    </a:lnTo>
                    <a:lnTo>
                      <a:pt x="161" y="192"/>
                    </a:lnTo>
                    <a:lnTo>
                      <a:pt x="206" y="159"/>
                    </a:lnTo>
                    <a:lnTo>
                      <a:pt x="251" y="126"/>
                    </a:lnTo>
                    <a:lnTo>
                      <a:pt x="294" y="91"/>
                    </a:lnTo>
                    <a:lnTo>
                      <a:pt x="336" y="54"/>
                    </a:lnTo>
                    <a:lnTo>
                      <a:pt x="378" y="18"/>
                    </a:lnTo>
                    <a:lnTo>
                      <a:pt x="373" y="6"/>
                    </a:lnTo>
                    <a:lnTo>
                      <a:pt x="373" y="0"/>
                    </a:lnTo>
                    <a:lnTo>
                      <a:pt x="330" y="39"/>
                    </a:lnTo>
                    <a:lnTo>
                      <a:pt x="286" y="75"/>
                    </a:lnTo>
                    <a:lnTo>
                      <a:pt x="242" y="112"/>
                    </a:lnTo>
                    <a:lnTo>
                      <a:pt x="196" y="147"/>
                    </a:lnTo>
                    <a:lnTo>
                      <a:pt x="148" y="180"/>
                    </a:lnTo>
                    <a:lnTo>
                      <a:pt x="100" y="213"/>
                    </a:lnTo>
                    <a:lnTo>
                      <a:pt x="50" y="243"/>
                    </a:lnTo>
                    <a:lnTo>
                      <a:pt x="0" y="273"/>
                    </a:lnTo>
                    <a:lnTo>
                      <a:pt x="19" y="2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307200" y="3129120"/>
                <a:ext cx="122040" cy="91800"/>
              </a:xfrm>
              <a:custGeom>
                <a:avLst/>
                <a:gdLst/>
                <a:ahLst/>
                <a:rect l="l" t="t" r="r" b="b"/>
                <a:pathLst>
                  <a:path w="382" h="289">
                    <a:moveTo>
                      <a:pt x="17" y="289"/>
                    </a:moveTo>
                    <a:lnTo>
                      <a:pt x="67" y="261"/>
                    </a:lnTo>
                    <a:lnTo>
                      <a:pt x="115" y="230"/>
                    </a:lnTo>
                    <a:lnTo>
                      <a:pt x="163" y="199"/>
                    </a:lnTo>
                    <a:lnTo>
                      <a:pt x="209" y="166"/>
                    </a:lnTo>
                    <a:lnTo>
                      <a:pt x="253" y="131"/>
                    </a:lnTo>
                    <a:lnTo>
                      <a:pt x="297" y="96"/>
                    </a:lnTo>
                    <a:lnTo>
                      <a:pt x="340" y="59"/>
                    </a:lnTo>
                    <a:lnTo>
                      <a:pt x="382" y="21"/>
                    </a:lnTo>
                    <a:lnTo>
                      <a:pt x="381" y="18"/>
                    </a:lnTo>
                    <a:lnTo>
                      <a:pt x="381" y="0"/>
                    </a:lnTo>
                    <a:lnTo>
                      <a:pt x="337" y="40"/>
                    </a:lnTo>
                    <a:lnTo>
                      <a:pt x="293" y="79"/>
                    </a:lnTo>
                    <a:lnTo>
                      <a:pt x="247" y="116"/>
                    </a:lnTo>
                    <a:lnTo>
                      <a:pt x="199" y="151"/>
                    </a:lnTo>
                    <a:lnTo>
                      <a:pt x="151" y="186"/>
                    </a:lnTo>
                    <a:lnTo>
                      <a:pt x="102" y="219"/>
                    </a:lnTo>
                    <a:lnTo>
                      <a:pt x="51" y="250"/>
                    </a:lnTo>
                    <a:lnTo>
                      <a:pt x="0" y="279"/>
                    </a:lnTo>
                    <a:lnTo>
                      <a:pt x="17" y="28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303960" y="312588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391" h="296">
                    <a:moveTo>
                      <a:pt x="18" y="296"/>
                    </a:moveTo>
                    <a:lnTo>
                      <a:pt x="68" y="266"/>
                    </a:lnTo>
                    <a:lnTo>
                      <a:pt x="118" y="236"/>
                    </a:lnTo>
                    <a:lnTo>
                      <a:pt x="166" y="203"/>
                    </a:lnTo>
                    <a:lnTo>
                      <a:pt x="214" y="170"/>
                    </a:lnTo>
                    <a:lnTo>
                      <a:pt x="260" y="135"/>
                    </a:lnTo>
                    <a:lnTo>
                      <a:pt x="304" y="98"/>
                    </a:lnTo>
                    <a:lnTo>
                      <a:pt x="348" y="62"/>
                    </a:lnTo>
                    <a:lnTo>
                      <a:pt x="391" y="23"/>
                    </a:lnTo>
                    <a:lnTo>
                      <a:pt x="391" y="0"/>
                    </a:lnTo>
                    <a:lnTo>
                      <a:pt x="346" y="41"/>
                    </a:lnTo>
                    <a:lnTo>
                      <a:pt x="301" y="80"/>
                    </a:lnTo>
                    <a:lnTo>
                      <a:pt x="253" y="118"/>
                    </a:lnTo>
                    <a:lnTo>
                      <a:pt x="205" y="155"/>
                    </a:lnTo>
                    <a:lnTo>
                      <a:pt x="156" y="191"/>
                    </a:lnTo>
                    <a:lnTo>
                      <a:pt x="104" y="224"/>
                    </a:lnTo>
                    <a:lnTo>
                      <a:pt x="53" y="256"/>
                    </a:lnTo>
                    <a:lnTo>
                      <a:pt x="0" y="286"/>
                    </a:lnTo>
                    <a:lnTo>
                      <a:pt x="18" y="29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302520" y="3122640"/>
                <a:ext cx="125280" cy="95400"/>
              </a:xfrm>
              <a:custGeom>
                <a:avLst/>
                <a:gdLst/>
                <a:ahLst/>
                <a:rect l="l" t="t" r="r" b="b"/>
                <a:pathLst>
                  <a:path w="399" h="303">
                    <a:moveTo>
                      <a:pt x="18" y="303"/>
                    </a:moveTo>
                    <a:lnTo>
                      <a:pt x="69" y="274"/>
                    </a:lnTo>
                    <a:lnTo>
                      <a:pt x="120" y="243"/>
                    </a:lnTo>
                    <a:lnTo>
                      <a:pt x="169" y="210"/>
                    </a:lnTo>
                    <a:lnTo>
                      <a:pt x="217" y="175"/>
                    </a:lnTo>
                    <a:lnTo>
                      <a:pt x="265" y="140"/>
                    </a:lnTo>
                    <a:lnTo>
                      <a:pt x="311" y="103"/>
                    </a:lnTo>
                    <a:lnTo>
                      <a:pt x="355" y="64"/>
                    </a:lnTo>
                    <a:lnTo>
                      <a:pt x="399" y="24"/>
                    </a:lnTo>
                    <a:lnTo>
                      <a:pt x="399" y="0"/>
                    </a:lnTo>
                    <a:lnTo>
                      <a:pt x="376" y="22"/>
                    </a:lnTo>
                    <a:lnTo>
                      <a:pt x="353" y="43"/>
                    </a:lnTo>
                    <a:lnTo>
                      <a:pt x="330" y="63"/>
                    </a:lnTo>
                    <a:lnTo>
                      <a:pt x="307" y="84"/>
                    </a:lnTo>
                    <a:lnTo>
                      <a:pt x="258" y="123"/>
                    </a:lnTo>
                    <a:lnTo>
                      <a:pt x="209" y="161"/>
                    </a:lnTo>
                    <a:lnTo>
                      <a:pt x="184" y="178"/>
                    </a:lnTo>
                    <a:lnTo>
                      <a:pt x="158" y="196"/>
                    </a:lnTo>
                    <a:lnTo>
                      <a:pt x="133" y="214"/>
                    </a:lnTo>
                    <a:lnTo>
                      <a:pt x="107" y="231"/>
                    </a:lnTo>
                    <a:lnTo>
                      <a:pt x="81" y="248"/>
                    </a:lnTo>
                    <a:lnTo>
                      <a:pt x="53" y="264"/>
                    </a:lnTo>
                    <a:lnTo>
                      <a:pt x="27" y="279"/>
                    </a:lnTo>
                    <a:lnTo>
                      <a:pt x="0" y="294"/>
                    </a:lnTo>
                    <a:lnTo>
                      <a:pt x="2" y="297"/>
                    </a:lnTo>
                    <a:lnTo>
                      <a:pt x="18" y="303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99280" y="3117960"/>
                <a:ext cx="128520" cy="98280"/>
              </a:xfrm>
              <a:custGeom>
                <a:avLst/>
                <a:gdLst/>
                <a:ahLst/>
                <a:rect l="l" t="t" r="r" b="b"/>
                <a:pathLst>
                  <a:path w="406" h="311">
                    <a:moveTo>
                      <a:pt x="15" y="311"/>
                    </a:moveTo>
                    <a:lnTo>
                      <a:pt x="68" y="281"/>
                    </a:lnTo>
                    <a:lnTo>
                      <a:pt x="119" y="249"/>
                    </a:lnTo>
                    <a:lnTo>
                      <a:pt x="171" y="216"/>
                    </a:lnTo>
                    <a:lnTo>
                      <a:pt x="220" y="180"/>
                    </a:lnTo>
                    <a:lnTo>
                      <a:pt x="268" y="143"/>
                    </a:lnTo>
                    <a:lnTo>
                      <a:pt x="316" y="105"/>
                    </a:lnTo>
                    <a:lnTo>
                      <a:pt x="361" y="66"/>
                    </a:lnTo>
                    <a:lnTo>
                      <a:pt x="406" y="25"/>
                    </a:lnTo>
                    <a:lnTo>
                      <a:pt x="406" y="0"/>
                    </a:lnTo>
                    <a:lnTo>
                      <a:pt x="383" y="22"/>
                    </a:lnTo>
                    <a:lnTo>
                      <a:pt x="360" y="43"/>
                    </a:lnTo>
                    <a:lnTo>
                      <a:pt x="336" y="64"/>
                    </a:lnTo>
                    <a:lnTo>
                      <a:pt x="313" y="85"/>
                    </a:lnTo>
                    <a:lnTo>
                      <a:pt x="288" y="105"/>
                    </a:lnTo>
                    <a:lnTo>
                      <a:pt x="263" y="125"/>
                    </a:lnTo>
                    <a:lnTo>
                      <a:pt x="239" y="145"/>
                    </a:lnTo>
                    <a:lnTo>
                      <a:pt x="214" y="164"/>
                    </a:lnTo>
                    <a:lnTo>
                      <a:pt x="188" y="183"/>
                    </a:lnTo>
                    <a:lnTo>
                      <a:pt x="162" y="201"/>
                    </a:lnTo>
                    <a:lnTo>
                      <a:pt x="136" y="219"/>
                    </a:lnTo>
                    <a:lnTo>
                      <a:pt x="110" y="236"/>
                    </a:lnTo>
                    <a:lnTo>
                      <a:pt x="82" y="252"/>
                    </a:lnTo>
                    <a:lnTo>
                      <a:pt x="55" y="269"/>
                    </a:lnTo>
                    <a:lnTo>
                      <a:pt x="28" y="285"/>
                    </a:lnTo>
                    <a:lnTo>
                      <a:pt x="0" y="301"/>
                    </a:lnTo>
                    <a:lnTo>
                      <a:pt x="9" y="309"/>
                    </a:lnTo>
                    <a:lnTo>
                      <a:pt x="15" y="31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297480" y="3114720"/>
                <a:ext cx="130320" cy="100080"/>
              </a:xfrm>
              <a:custGeom>
                <a:avLst/>
                <a:gdLst/>
                <a:ahLst/>
                <a:rect l="l" t="t" r="r" b="b"/>
                <a:pathLst>
                  <a:path w="413" h="317">
                    <a:moveTo>
                      <a:pt x="14" y="317"/>
                    </a:moveTo>
                    <a:lnTo>
                      <a:pt x="41" y="302"/>
                    </a:lnTo>
                    <a:lnTo>
                      <a:pt x="67" y="287"/>
                    </a:lnTo>
                    <a:lnTo>
                      <a:pt x="95" y="271"/>
                    </a:lnTo>
                    <a:lnTo>
                      <a:pt x="121" y="254"/>
                    </a:lnTo>
                    <a:lnTo>
                      <a:pt x="147" y="237"/>
                    </a:lnTo>
                    <a:lnTo>
                      <a:pt x="172" y="219"/>
                    </a:lnTo>
                    <a:lnTo>
                      <a:pt x="198" y="201"/>
                    </a:lnTo>
                    <a:lnTo>
                      <a:pt x="223" y="184"/>
                    </a:lnTo>
                    <a:lnTo>
                      <a:pt x="272" y="146"/>
                    </a:lnTo>
                    <a:lnTo>
                      <a:pt x="321" y="107"/>
                    </a:lnTo>
                    <a:lnTo>
                      <a:pt x="344" y="86"/>
                    </a:lnTo>
                    <a:lnTo>
                      <a:pt x="367" y="66"/>
                    </a:lnTo>
                    <a:lnTo>
                      <a:pt x="390" y="45"/>
                    </a:lnTo>
                    <a:lnTo>
                      <a:pt x="413" y="23"/>
                    </a:lnTo>
                    <a:lnTo>
                      <a:pt x="413" y="0"/>
                    </a:lnTo>
                    <a:lnTo>
                      <a:pt x="390" y="22"/>
                    </a:lnTo>
                    <a:lnTo>
                      <a:pt x="366" y="44"/>
                    </a:lnTo>
                    <a:lnTo>
                      <a:pt x="343" y="66"/>
                    </a:lnTo>
                    <a:lnTo>
                      <a:pt x="319" y="87"/>
                    </a:lnTo>
                    <a:lnTo>
                      <a:pt x="293" y="108"/>
                    </a:lnTo>
                    <a:lnTo>
                      <a:pt x="268" y="128"/>
                    </a:lnTo>
                    <a:lnTo>
                      <a:pt x="243" y="148"/>
                    </a:lnTo>
                    <a:lnTo>
                      <a:pt x="218" y="167"/>
                    </a:lnTo>
                    <a:lnTo>
                      <a:pt x="191" y="186"/>
                    </a:lnTo>
                    <a:lnTo>
                      <a:pt x="165" y="205"/>
                    </a:lnTo>
                    <a:lnTo>
                      <a:pt x="139" y="222"/>
                    </a:lnTo>
                    <a:lnTo>
                      <a:pt x="112" y="240"/>
                    </a:lnTo>
                    <a:lnTo>
                      <a:pt x="84" y="257"/>
                    </a:lnTo>
                    <a:lnTo>
                      <a:pt x="57" y="274"/>
                    </a:lnTo>
                    <a:lnTo>
                      <a:pt x="28" y="290"/>
                    </a:lnTo>
                    <a:lnTo>
                      <a:pt x="0" y="305"/>
                    </a:lnTo>
                    <a:lnTo>
                      <a:pt x="14" y="31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296040" y="3111480"/>
                <a:ext cx="131760" cy="101520"/>
              </a:xfrm>
              <a:custGeom>
                <a:avLst/>
                <a:gdLst/>
                <a:ahLst/>
                <a:rect l="l" t="t" r="r" b="b"/>
                <a:pathLst>
                  <a:path w="419" h="324">
                    <a:moveTo>
                      <a:pt x="13" y="324"/>
                    </a:moveTo>
                    <a:lnTo>
                      <a:pt x="41" y="308"/>
                    </a:lnTo>
                    <a:lnTo>
                      <a:pt x="68" y="292"/>
                    </a:lnTo>
                    <a:lnTo>
                      <a:pt x="95" y="275"/>
                    </a:lnTo>
                    <a:lnTo>
                      <a:pt x="123" y="259"/>
                    </a:lnTo>
                    <a:lnTo>
                      <a:pt x="149" y="242"/>
                    </a:lnTo>
                    <a:lnTo>
                      <a:pt x="175" y="224"/>
                    </a:lnTo>
                    <a:lnTo>
                      <a:pt x="201" y="206"/>
                    </a:lnTo>
                    <a:lnTo>
                      <a:pt x="227" y="187"/>
                    </a:lnTo>
                    <a:lnTo>
                      <a:pt x="252" y="168"/>
                    </a:lnTo>
                    <a:lnTo>
                      <a:pt x="276" y="148"/>
                    </a:lnTo>
                    <a:lnTo>
                      <a:pt x="301" y="129"/>
                    </a:lnTo>
                    <a:lnTo>
                      <a:pt x="326" y="108"/>
                    </a:lnTo>
                    <a:lnTo>
                      <a:pt x="349" y="89"/>
                    </a:lnTo>
                    <a:lnTo>
                      <a:pt x="373" y="68"/>
                    </a:lnTo>
                    <a:lnTo>
                      <a:pt x="396" y="45"/>
                    </a:lnTo>
                    <a:lnTo>
                      <a:pt x="419" y="23"/>
                    </a:lnTo>
                    <a:lnTo>
                      <a:pt x="419" y="0"/>
                    </a:lnTo>
                    <a:lnTo>
                      <a:pt x="395" y="23"/>
                    </a:lnTo>
                    <a:lnTo>
                      <a:pt x="372" y="45"/>
                    </a:lnTo>
                    <a:lnTo>
                      <a:pt x="348" y="68"/>
                    </a:lnTo>
                    <a:lnTo>
                      <a:pt x="322" y="89"/>
                    </a:lnTo>
                    <a:lnTo>
                      <a:pt x="298" y="110"/>
                    </a:lnTo>
                    <a:lnTo>
                      <a:pt x="272" y="131"/>
                    </a:lnTo>
                    <a:lnTo>
                      <a:pt x="247" y="150"/>
                    </a:lnTo>
                    <a:lnTo>
                      <a:pt x="221" y="170"/>
                    </a:lnTo>
                    <a:lnTo>
                      <a:pt x="194" y="190"/>
                    </a:lnTo>
                    <a:lnTo>
                      <a:pt x="168" y="208"/>
                    </a:lnTo>
                    <a:lnTo>
                      <a:pt x="141" y="227"/>
                    </a:lnTo>
                    <a:lnTo>
                      <a:pt x="113" y="245"/>
                    </a:lnTo>
                    <a:lnTo>
                      <a:pt x="85" y="263"/>
                    </a:lnTo>
                    <a:lnTo>
                      <a:pt x="58" y="280"/>
                    </a:lnTo>
                    <a:lnTo>
                      <a:pt x="29" y="295"/>
                    </a:lnTo>
                    <a:lnTo>
                      <a:pt x="0" y="311"/>
                    </a:lnTo>
                    <a:lnTo>
                      <a:pt x="13" y="32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292800" y="3108240"/>
                <a:ext cx="135000" cy="103320"/>
              </a:xfrm>
              <a:custGeom>
                <a:avLst/>
                <a:gdLst/>
                <a:ahLst/>
                <a:rect l="l" t="t" r="r" b="b"/>
                <a:pathLst>
                  <a:path w="426" h="327">
                    <a:moveTo>
                      <a:pt x="13" y="327"/>
                    </a:moveTo>
                    <a:lnTo>
                      <a:pt x="41" y="312"/>
                    </a:lnTo>
                    <a:lnTo>
                      <a:pt x="70" y="296"/>
                    </a:lnTo>
                    <a:lnTo>
                      <a:pt x="97" y="279"/>
                    </a:lnTo>
                    <a:lnTo>
                      <a:pt x="125" y="262"/>
                    </a:lnTo>
                    <a:lnTo>
                      <a:pt x="152" y="244"/>
                    </a:lnTo>
                    <a:lnTo>
                      <a:pt x="178" y="227"/>
                    </a:lnTo>
                    <a:lnTo>
                      <a:pt x="204" y="208"/>
                    </a:lnTo>
                    <a:lnTo>
                      <a:pt x="231" y="189"/>
                    </a:lnTo>
                    <a:lnTo>
                      <a:pt x="256" y="170"/>
                    </a:lnTo>
                    <a:lnTo>
                      <a:pt x="281" y="150"/>
                    </a:lnTo>
                    <a:lnTo>
                      <a:pt x="306" y="130"/>
                    </a:lnTo>
                    <a:lnTo>
                      <a:pt x="332" y="109"/>
                    </a:lnTo>
                    <a:lnTo>
                      <a:pt x="356" y="88"/>
                    </a:lnTo>
                    <a:lnTo>
                      <a:pt x="379" y="66"/>
                    </a:lnTo>
                    <a:lnTo>
                      <a:pt x="403" y="44"/>
                    </a:lnTo>
                    <a:lnTo>
                      <a:pt x="426" y="22"/>
                    </a:lnTo>
                    <a:lnTo>
                      <a:pt x="426" y="3"/>
                    </a:lnTo>
                    <a:lnTo>
                      <a:pt x="425" y="0"/>
                    </a:lnTo>
                    <a:lnTo>
                      <a:pt x="401" y="23"/>
                    </a:lnTo>
                    <a:lnTo>
                      <a:pt x="377" y="46"/>
                    </a:lnTo>
                    <a:lnTo>
                      <a:pt x="353" y="68"/>
                    </a:lnTo>
                    <a:lnTo>
                      <a:pt x="327" y="90"/>
                    </a:lnTo>
                    <a:lnTo>
                      <a:pt x="302" y="111"/>
                    </a:lnTo>
                    <a:lnTo>
                      <a:pt x="277" y="132"/>
                    </a:lnTo>
                    <a:lnTo>
                      <a:pt x="251" y="153"/>
                    </a:lnTo>
                    <a:lnTo>
                      <a:pt x="224" y="173"/>
                    </a:lnTo>
                    <a:lnTo>
                      <a:pt x="198" y="192"/>
                    </a:lnTo>
                    <a:lnTo>
                      <a:pt x="171" y="212"/>
                    </a:lnTo>
                    <a:lnTo>
                      <a:pt x="143" y="230"/>
                    </a:lnTo>
                    <a:lnTo>
                      <a:pt x="115" y="249"/>
                    </a:lnTo>
                    <a:lnTo>
                      <a:pt x="87" y="265"/>
                    </a:lnTo>
                    <a:lnTo>
                      <a:pt x="58" y="283"/>
                    </a:lnTo>
                    <a:lnTo>
                      <a:pt x="30" y="299"/>
                    </a:lnTo>
                    <a:lnTo>
                      <a:pt x="0" y="316"/>
                    </a:lnTo>
                    <a:lnTo>
                      <a:pt x="13" y="32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291360" y="310500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434" h="331">
                    <a:moveTo>
                      <a:pt x="15" y="331"/>
                    </a:moveTo>
                    <a:lnTo>
                      <a:pt x="44" y="315"/>
                    </a:lnTo>
                    <a:lnTo>
                      <a:pt x="73" y="300"/>
                    </a:lnTo>
                    <a:lnTo>
                      <a:pt x="100" y="283"/>
                    </a:lnTo>
                    <a:lnTo>
                      <a:pt x="128" y="265"/>
                    </a:lnTo>
                    <a:lnTo>
                      <a:pt x="156" y="247"/>
                    </a:lnTo>
                    <a:lnTo>
                      <a:pt x="183" y="228"/>
                    </a:lnTo>
                    <a:lnTo>
                      <a:pt x="209" y="210"/>
                    </a:lnTo>
                    <a:lnTo>
                      <a:pt x="236" y="190"/>
                    </a:lnTo>
                    <a:lnTo>
                      <a:pt x="262" y="170"/>
                    </a:lnTo>
                    <a:lnTo>
                      <a:pt x="287" y="151"/>
                    </a:lnTo>
                    <a:lnTo>
                      <a:pt x="313" y="130"/>
                    </a:lnTo>
                    <a:lnTo>
                      <a:pt x="337" y="109"/>
                    </a:lnTo>
                    <a:lnTo>
                      <a:pt x="363" y="88"/>
                    </a:lnTo>
                    <a:lnTo>
                      <a:pt x="387" y="65"/>
                    </a:lnTo>
                    <a:lnTo>
                      <a:pt x="410" y="43"/>
                    </a:lnTo>
                    <a:lnTo>
                      <a:pt x="434" y="20"/>
                    </a:lnTo>
                    <a:lnTo>
                      <a:pt x="434" y="13"/>
                    </a:lnTo>
                    <a:lnTo>
                      <a:pt x="430" y="0"/>
                    </a:lnTo>
                    <a:lnTo>
                      <a:pt x="406" y="25"/>
                    </a:lnTo>
                    <a:lnTo>
                      <a:pt x="382" y="48"/>
                    </a:lnTo>
                    <a:lnTo>
                      <a:pt x="356" y="70"/>
                    </a:lnTo>
                    <a:lnTo>
                      <a:pt x="331" y="93"/>
                    </a:lnTo>
                    <a:lnTo>
                      <a:pt x="306" y="114"/>
                    </a:lnTo>
                    <a:lnTo>
                      <a:pt x="280" y="135"/>
                    </a:lnTo>
                    <a:lnTo>
                      <a:pt x="253" y="156"/>
                    </a:lnTo>
                    <a:lnTo>
                      <a:pt x="227" y="177"/>
                    </a:lnTo>
                    <a:lnTo>
                      <a:pt x="200" y="196"/>
                    </a:lnTo>
                    <a:lnTo>
                      <a:pt x="172" y="216"/>
                    </a:lnTo>
                    <a:lnTo>
                      <a:pt x="144" y="235"/>
                    </a:lnTo>
                    <a:lnTo>
                      <a:pt x="117" y="252"/>
                    </a:lnTo>
                    <a:lnTo>
                      <a:pt x="87" y="270"/>
                    </a:lnTo>
                    <a:lnTo>
                      <a:pt x="59" y="288"/>
                    </a:lnTo>
                    <a:lnTo>
                      <a:pt x="30" y="305"/>
                    </a:lnTo>
                    <a:lnTo>
                      <a:pt x="0" y="321"/>
                    </a:lnTo>
                    <a:lnTo>
                      <a:pt x="7" y="325"/>
                    </a:lnTo>
                    <a:lnTo>
                      <a:pt x="15" y="33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88120" y="3102120"/>
                <a:ext cx="139680" cy="106200"/>
              </a:xfrm>
              <a:custGeom>
                <a:avLst/>
                <a:gdLst/>
                <a:ahLst/>
                <a:rect l="l" t="t" r="r" b="b"/>
                <a:pathLst>
                  <a:path w="441" h="334">
                    <a:moveTo>
                      <a:pt x="16" y="334"/>
                    </a:moveTo>
                    <a:lnTo>
                      <a:pt x="46" y="317"/>
                    </a:lnTo>
                    <a:lnTo>
                      <a:pt x="74" y="301"/>
                    </a:lnTo>
                    <a:lnTo>
                      <a:pt x="103" y="283"/>
                    </a:lnTo>
                    <a:lnTo>
                      <a:pt x="131" y="267"/>
                    </a:lnTo>
                    <a:lnTo>
                      <a:pt x="159" y="248"/>
                    </a:lnTo>
                    <a:lnTo>
                      <a:pt x="187" y="230"/>
                    </a:lnTo>
                    <a:lnTo>
                      <a:pt x="214" y="210"/>
                    </a:lnTo>
                    <a:lnTo>
                      <a:pt x="240" y="191"/>
                    </a:lnTo>
                    <a:lnTo>
                      <a:pt x="267" y="171"/>
                    </a:lnTo>
                    <a:lnTo>
                      <a:pt x="293" y="150"/>
                    </a:lnTo>
                    <a:lnTo>
                      <a:pt x="318" y="129"/>
                    </a:lnTo>
                    <a:lnTo>
                      <a:pt x="343" y="108"/>
                    </a:lnTo>
                    <a:lnTo>
                      <a:pt x="369" y="86"/>
                    </a:lnTo>
                    <a:lnTo>
                      <a:pt x="393" y="64"/>
                    </a:lnTo>
                    <a:lnTo>
                      <a:pt x="417" y="41"/>
                    </a:lnTo>
                    <a:lnTo>
                      <a:pt x="441" y="18"/>
                    </a:lnTo>
                    <a:lnTo>
                      <a:pt x="435" y="0"/>
                    </a:lnTo>
                    <a:lnTo>
                      <a:pt x="411" y="24"/>
                    </a:lnTo>
                    <a:lnTo>
                      <a:pt x="385" y="47"/>
                    </a:lnTo>
                    <a:lnTo>
                      <a:pt x="360" y="70"/>
                    </a:lnTo>
                    <a:lnTo>
                      <a:pt x="335" y="92"/>
                    </a:lnTo>
                    <a:lnTo>
                      <a:pt x="310" y="114"/>
                    </a:lnTo>
                    <a:lnTo>
                      <a:pt x="283" y="136"/>
                    </a:lnTo>
                    <a:lnTo>
                      <a:pt x="256" y="157"/>
                    </a:lnTo>
                    <a:lnTo>
                      <a:pt x="230" y="177"/>
                    </a:lnTo>
                    <a:lnTo>
                      <a:pt x="201" y="198"/>
                    </a:lnTo>
                    <a:lnTo>
                      <a:pt x="174" y="217"/>
                    </a:lnTo>
                    <a:lnTo>
                      <a:pt x="146" y="236"/>
                    </a:lnTo>
                    <a:lnTo>
                      <a:pt x="117" y="255"/>
                    </a:lnTo>
                    <a:lnTo>
                      <a:pt x="88" y="273"/>
                    </a:lnTo>
                    <a:lnTo>
                      <a:pt x="59" y="291"/>
                    </a:lnTo>
                    <a:lnTo>
                      <a:pt x="29" y="308"/>
                    </a:lnTo>
                    <a:lnTo>
                      <a:pt x="0" y="323"/>
                    </a:lnTo>
                    <a:lnTo>
                      <a:pt x="15" y="333"/>
                    </a:lnTo>
                    <a:lnTo>
                      <a:pt x="16" y="33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284880" y="3098880"/>
                <a:ext cx="142920" cy="108000"/>
              </a:xfrm>
              <a:custGeom>
                <a:avLst/>
                <a:gdLst/>
                <a:ahLst/>
                <a:rect l="l" t="t" r="r" b="b"/>
                <a:pathLst>
                  <a:path w="448" h="337">
                    <a:moveTo>
                      <a:pt x="18" y="337"/>
                    </a:moveTo>
                    <a:lnTo>
                      <a:pt x="48" y="321"/>
                    </a:lnTo>
                    <a:lnTo>
                      <a:pt x="77" y="304"/>
                    </a:lnTo>
                    <a:lnTo>
                      <a:pt x="105" y="286"/>
                    </a:lnTo>
                    <a:lnTo>
                      <a:pt x="135" y="268"/>
                    </a:lnTo>
                    <a:lnTo>
                      <a:pt x="162" y="251"/>
                    </a:lnTo>
                    <a:lnTo>
                      <a:pt x="190" y="232"/>
                    </a:lnTo>
                    <a:lnTo>
                      <a:pt x="218" y="212"/>
                    </a:lnTo>
                    <a:lnTo>
                      <a:pt x="245" y="193"/>
                    </a:lnTo>
                    <a:lnTo>
                      <a:pt x="271" y="172"/>
                    </a:lnTo>
                    <a:lnTo>
                      <a:pt x="298" y="151"/>
                    </a:lnTo>
                    <a:lnTo>
                      <a:pt x="324" y="130"/>
                    </a:lnTo>
                    <a:lnTo>
                      <a:pt x="349" y="109"/>
                    </a:lnTo>
                    <a:lnTo>
                      <a:pt x="374" y="86"/>
                    </a:lnTo>
                    <a:lnTo>
                      <a:pt x="400" y="64"/>
                    </a:lnTo>
                    <a:lnTo>
                      <a:pt x="424" y="41"/>
                    </a:lnTo>
                    <a:lnTo>
                      <a:pt x="448" y="16"/>
                    </a:lnTo>
                    <a:lnTo>
                      <a:pt x="442" y="0"/>
                    </a:lnTo>
                    <a:lnTo>
                      <a:pt x="416" y="24"/>
                    </a:lnTo>
                    <a:lnTo>
                      <a:pt x="392" y="47"/>
                    </a:lnTo>
                    <a:lnTo>
                      <a:pt x="367" y="71"/>
                    </a:lnTo>
                    <a:lnTo>
                      <a:pt x="341" y="93"/>
                    </a:lnTo>
                    <a:lnTo>
                      <a:pt x="314" y="116"/>
                    </a:lnTo>
                    <a:lnTo>
                      <a:pt x="288" y="137"/>
                    </a:lnTo>
                    <a:lnTo>
                      <a:pt x="261" y="159"/>
                    </a:lnTo>
                    <a:lnTo>
                      <a:pt x="234" y="179"/>
                    </a:lnTo>
                    <a:lnTo>
                      <a:pt x="206" y="200"/>
                    </a:lnTo>
                    <a:lnTo>
                      <a:pt x="178" y="220"/>
                    </a:lnTo>
                    <a:lnTo>
                      <a:pt x="149" y="239"/>
                    </a:lnTo>
                    <a:lnTo>
                      <a:pt x="120" y="258"/>
                    </a:lnTo>
                    <a:lnTo>
                      <a:pt x="91" y="276"/>
                    </a:lnTo>
                    <a:lnTo>
                      <a:pt x="61" y="294"/>
                    </a:lnTo>
                    <a:lnTo>
                      <a:pt x="31" y="310"/>
                    </a:lnTo>
                    <a:lnTo>
                      <a:pt x="0" y="327"/>
                    </a:lnTo>
                    <a:lnTo>
                      <a:pt x="18" y="33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281640" y="3095640"/>
                <a:ext cx="144720" cy="109440"/>
              </a:xfrm>
              <a:custGeom>
                <a:avLst/>
                <a:gdLst/>
                <a:ahLst/>
                <a:rect l="l" t="t" r="r" b="b"/>
                <a:pathLst>
                  <a:path w="453" h="341">
                    <a:moveTo>
                      <a:pt x="18" y="341"/>
                    </a:moveTo>
                    <a:lnTo>
                      <a:pt x="47" y="326"/>
                    </a:lnTo>
                    <a:lnTo>
                      <a:pt x="77" y="309"/>
                    </a:lnTo>
                    <a:lnTo>
                      <a:pt x="106" y="291"/>
                    </a:lnTo>
                    <a:lnTo>
                      <a:pt x="135" y="273"/>
                    </a:lnTo>
                    <a:lnTo>
                      <a:pt x="164" y="254"/>
                    </a:lnTo>
                    <a:lnTo>
                      <a:pt x="192" y="235"/>
                    </a:lnTo>
                    <a:lnTo>
                      <a:pt x="219" y="216"/>
                    </a:lnTo>
                    <a:lnTo>
                      <a:pt x="248" y="195"/>
                    </a:lnTo>
                    <a:lnTo>
                      <a:pt x="274" y="175"/>
                    </a:lnTo>
                    <a:lnTo>
                      <a:pt x="301" y="154"/>
                    </a:lnTo>
                    <a:lnTo>
                      <a:pt x="328" y="132"/>
                    </a:lnTo>
                    <a:lnTo>
                      <a:pt x="353" y="110"/>
                    </a:lnTo>
                    <a:lnTo>
                      <a:pt x="378" y="88"/>
                    </a:lnTo>
                    <a:lnTo>
                      <a:pt x="403" y="65"/>
                    </a:lnTo>
                    <a:lnTo>
                      <a:pt x="429" y="42"/>
                    </a:lnTo>
                    <a:lnTo>
                      <a:pt x="453" y="18"/>
                    </a:lnTo>
                    <a:lnTo>
                      <a:pt x="447" y="0"/>
                    </a:lnTo>
                    <a:lnTo>
                      <a:pt x="421" y="25"/>
                    </a:lnTo>
                    <a:lnTo>
                      <a:pt x="396" y="49"/>
                    </a:lnTo>
                    <a:lnTo>
                      <a:pt x="371" y="73"/>
                    </a:lnTo>
                    <a:lnTo>
                      <a:pt x="345" y="96"/>
                    </a:lnTo>
                    <a:lnTo>
                      <a:pt x="318" y="119"/>
                    </a:lnTo>
                    <a:lnTo>
                      <a:pt x="291" y="141"/>
                    </a:lnTo>
                    <a:lnTo>
                      <a:pt x="264" y="162"/>
                    </a:lnTo>
                    <a:lnTo>
                      <a:pt x="236" y="183"/>
                    </a:lnTo>
                    <a:lnTo>
                      <a:pt x="208" y="204"/>
                    </a:lnTo>
                    <a:lnTo>
                      <a:pt x="180" y="224"/>
                    </a:lnTo>
                    <a:lnTo>
                      <a:pt x="150" y="244"/>
                    </a:lnTo>
                    <a:lnTo>
                      <a:pt x="121" y="263"/>
                    </a:lnTo>
                    <a:lnTo>
                      <a:pt x="91" y="280"/>
                    </a:lnTo>
                    <a:lnTo>
                      <a:pt x="61" y="298"/>
                    </a:lnTo>
                    <a:lnTo>
                      <a:pt x="30" y="315"/>
                    </a:lnTo>
                    <a:lnTo>
                      <a:pt x="0" y="332"/>
                    </a:lnTo>
                    <a:lnTo>
                      <a:pt x="18" y="34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278400" y="309420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460" h="345">
                    <a:moveTo>
                      <a:pt x="18" y="345"/>
                    </a:moveTo>
                    <a:lnTo>
                      <a:pt x="49" y="328"/>
                    </a:lnTo>
                    <a:lnTo>
                      <a:pt x="79" y="312"/>
                    </a:lnTo>
                    <a:lnTo>
                      <a:pt x="109" y="294"/>
                    </a:lnTo>
                    <a:lnTo>
                      <a:pt x="138" y="276"/>
                    </a:lnTo>
                    <a:lnTo>
                      <a:pt x="167" y="257"/>
                    </a:lnTo>
                    <a:lnTo>
                      <a:pt x="196" y="238"/>
                    </a:lnTo>
                    <a:lnTo>
                      <a:pt x="224" y="218"/>
                    </a:lnTo>
                    <a:lnTo>
                      <a:pt x="252" y="197"/>
                    </a:lnTo>
                    <a:lnTo>
                      <a:pt x="279" y="177"/>
                    </a:lnTo>
                    <a:lnTo>
                      <a:pt x="306" y="155"/>
                    </a:lnTo>
                    <a:lnTo>
                      <a:pt x="332" y="134"/>
                    </a:lnTo>
                    <a:lnTo>
                      <a:pt x="359" y="111"/>
                    </a:lnTo>
                    <a:lnTo>
                      <a:pt x="385" y="89"/>
                    </a:lnTo>
                    <a:lnTo>
                      <a:pt x="410" y="65"/>
                    </a:lnTo>
                    <a:lnTo>
                      <a:pt x="434" y="42"/>
                    </a:lnTo>
                    <a:lnTo>
                      <a:pt x="460" y="18"/>
                    </a:lnTo>
                    <a:lnTo>
                      <a:pt x="453" y="0"/>
                    </a:lnTo>
                    <a:lnTo>
                      <a:pt x="428" y="25"/>
                    </a:lnTo>
                    <a:lnTo>
                      <a:pt x="403" y="49"/>
                    </a:lnTo>
                    <a:lnTo>
                      <a:pt x="377" y="73"/>
                    </a:lnTo>
                    <a:lnTo>
                      <a:pt x="350" y="96"/>
                    </a:lnTo>
                    <a:lnTo>
                      <a:pt x="324" y="119"/>
                    </a:lnTo>
                    <a:lnTo>
                      <a:pt x="297" y="141"/>
                    </a:lnTo>
                    <a:lnTo>
                      <a:pt x="268" y="164"/>
                    </a:lnTo>
                    <a:lnTo>
                      <a:pt x="241" y="185"/>
                    </a:lnTo>
                    <a:lnTo>
                      <a:pt x="212" y="206"/>
                    </a:lnTo>
                    <a:lnTo>
                      <a:pt x="183" y="227"/>
                    </a:lnTo>
                    <a:lnTo>
                      <a:pt x="154" y="245"/>
                    </a:lnTo>
                    <a:lnTo>
                      <a:pt x="124" y="264"/>
                    </a:lnTo>
                    <a:lnTo>
                      <a:pt x="94" y="283"/>
                    </a:lnTo>
                    <a:lnTo>
                      <a:pt x="63" y="301"/>
                    </a:lnTo>
                    <a:lnTo>
                      <a:pt x="32" y="319"/>
                    </a:lnTo>
                    <a:lnTo>
                      <a:pt x="0" y="336"/>
                    </a:lnTo>
                    <a:lnTo>
                      <a:pt x="18" y="34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276960" y="309096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465" h="349">
                    <a:moveTo>
                      <a:pt x="18" y="349"/>
                    </a:moveTo>
                    <a:lnTo>
                      <a:pt x="48" y="332"/>
                    </a:lnTo>
                    <a:lnTo>
                      <a:pt x="79" y="315"/>
                    </a:lnTo>
                    <a:lnTo>
                      <a:pt x="109" y="297"/>
                    </a:lnTo>
                    <a:lnTo>
                      <a:pt x="139" y="280"/>
                    </a:lnTo>
                    <a:lnTo>
                      <a:pt x="168" y="261"/>
                    </a:lnTo>
                    <a:lnTo>
                      <a:pt x="198" y="241"/>
                    </a:lnTo>
                    <a:lnTo>
                      <a:pt x="226" y="221"/>
                    </a:lnTo>
                    <a:lnTo>
                      <a:pt x="254" y="200"/>
                    </a:lnTo>
                    <a:lnTo>
                      <a:pt x="282" y="179"/>
                    </a:lnTo>
                    <a:lnTo>
                      <a:pt x="309" y="158"/>
                    </a:lnTo>
                    <a:lnTo>
                      <a:pt x="336" y="136"/>
                    </a:lnTo>
                    <a:lnTo>
                      <a:pt x="363" y="113"/>
                    </a:lnTo>
                    <a:lnTo>
                      <a:pt x="389" y="90"/>
                    </a:lnTo>
                    <a:lnTo>
                      <a:pt x="414" y="66"/>
                    </a:lnTo>
                    <a:lnTo>
                      <a:pt x="439" y="42"/>
                    </a:lnTo>
                    <a:lnTo>
                      <a:pt x="465" y="17"/>
                    </a:lnTo>
                    <a:lnTo>
                      <a:pt x="458" y="0"/>
                    </a:lnTo>
                    <a:lnTo>
                      <a:pt x="433" y="26"/>
                    </a:lnTo>
                    <a:lnTo>
                      <a:pt x="407" y="50"/>
                    </a:lnTo>
                    <a:lnTo>
                      <a:pt x="380" y="75"/>
                    </a:lnTo>
                    <a:lnTo>
                      <a:pt x="354" y="98"/>
                    </a:lnTo>
                    <a:lnTo>
                      <a:pt x="327" y="121"/>
                    </a:lnTo>
                    <a:lnTo>
                      <a:pt x="299" y="144"/>
                    </a:lnTo>
                    <a:lnTo>
                      <a:pt x="271" y="166"/>
                    </a:lnTo>
                    <a:lnTo>
                      <a:pt x="243" y="187"/>
                    </a:lnTo>
                    <a:lnTo>
                      <a:pt x="214" y="209"/>
                    </a:lnTo>
                    <a:lnTo>
                      <a:pt x="185" y="229"/>
                    </a:lnTo>
                    <a:lnTo>
                      <a:pt x="155" y="249"/>
                    </a:lnTo>
                    <a:lnTo>
                      <a:pt x="125" y="268"/>
                    </a:lnTo>
                    <a:lnTo>
                      <a:pt x="95" y="287"/>
                    </a:lnTo>
                    <a:lnTo>
                      <a:pt x="63" y="305"/>
                    </a:lnTo>
                    <a:lnTo>
                      <a:pt x="31" y="323"/>
                    </a:lnTo>
                    <a:lnTo>
                      <a:pt x="0" y="339"/>
                    </a:lnTo>
                    <a:lnTo>
                      <a:pt x="18" y="34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273720" y="3087720"/>
                <a:ext cx="149400" cy="112680"/>
              </a:xfrm>
              <a:custGeom>
                <a:avLst/>
                <a:gdLst/>
                <a:ahLst/>
                <a:rect l="l" t="t" r="r" b="b"/>
                <a:pathLst>
                  <a:path w="468" h="354">
                    <a:moveTo>
                      <a:pt x="15" y="354"/>
                    </a:moveTo>
                    <a:lnTo>
                      <a:pt x="47" y="337"/>
                    </a:lnTo>
                    <a:lnTo>
                      <a:pt x="78" y="319"/>
                    </a:lnTo>
                    <a:lnTo>
                      <a:pt x="109" y="301"/>
                    </a:lnTo>
                    <a:lnTo>
                      <a:pt x="139" y="282"/>
                    </a:lnTo>
                    <a:lnTo>
                      <a:pt x="169" y="263"/>
                    </a:lnTo>
                    <a:lnTo>
                      <a:pt x="198" y="245"/>
                    </a:lnTo>
                    <a:lnTo>
                      <a:pt x="227" y="224"/>
                    </a:lnTo>
                    <a:lnTo>
                      <a:pt x="256" y="203"/>
                    </a:lnTo>
                    <a:lnTo>
                      <a:pt x="283" y="182"/>
                    </a:lnTo>
                    <a:lnTo>
                      <a:pt x="312" y="159"/>
                    </a:lnTo>
                    <a:lnTo>
                      <a:pt x="339" y="137"/>
                    </a:lnTo>
                    <a:lnTo>
                      <a:pt x="365" y="114"/>
                    </a:lnTo>
                    <a:lnTo>
                      <a:pt x="392" y="91"/>
                    </a:lnTo>
                    <a:lnTo>
                      <a:pt x="418" y="67"/>
                    </a:lnTo>
                    <a:lnTo>
                      <a:pt x="443" y="43"/>
                    </a:lnTo>
                    <a:lnTo>
                      <a:pt x="468" y="18"/>
                    </a:lnTo>
                    <a:lnTo>
                      <a:pt x="462" y="0"/>
                    </a:lnTo>
                    <a:lnTo>
                      <a:pt x="437" y="26"/>
                    </a:lnTo>
                    <a:lnTo>
                      <a:pt x="411" y="50"/>
                    </a:lnTo>
                    <a:lnTo>
                      <a:pt x="384" y="75"/>
                    </a:lnTo>
                    <a:lnTo>
                      <a:pt x="357" y="100"/>
                    </a:lnTo>
                    <a:lnTo>
                      <a:pt x="330" y="123"/>
                    </a:lnTo>
                    <a:lnTo>
                      <a:pt x="302" y="146"/>
                    </a:lnTo>
                    <a:lnTo>
                      <a:pt x="274" y="168"/>
                    </a:lnTo>
                    <a:lnTo>
                      <a:pt x="246" y="190"/>
                    </a:lnTo>
                    <a:lnTo>
                      <a:pt x="216" y="211"/>
                    </a:lnTo>
                    <a:lnTo>
                      <a:pt x="187" y="232"/>
                    </a:lnTo>
                    <a:lnTo>
                      <a:pt x="156" y="252"/>
                    </a:lnTo>
                    <a:lnTo>
                      <a:pt x="126" y="271"/>
                    </a:lnTo>
                    <a:lnTo>
                      <a:pt x="95" y="290"/>
                    </a:lnTo>
                    <a:lnTo>
                      <a:pt x="64" y="309"/>
                    </a:lnTo>
                    <a:lnTo>
                      <a:pt x="32" y="325"/>
                    </a:lnTo>
                    <a:lnTo>
                      <a:pt x="0" y="342"/>
                    </a:lnTo>
                    <a:lnTo>
                      <a:pt x="4" y="346"/>
                    </a:lnTo>
                    <a:lnTo>
                      <a:pt x="15" y="35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272280" y="3084480"/>
                <a:ext cx="149040" cy="114480"/>
              </a:xfrm>
              <a:custGeom>
                <a:avLst/>
                <a:gdLst/>
                <a:ahLst/>
                <a:rect l="l" t="t" r="r" b="b"/>
                <a:pathLst>
                  <a:path w="472" h="357">
                    <a:moveTo>
                      <a:pt x="14" y="357"/>
                    </a:moveTo>
                    <a:lnTo>
                      <a:pt x="45" y="341"/>
                    </a:lnTo>
                    <a:lnTo>
                      <a:pt x="77" y="323"/>
                    </a:lnTo>
                    <a:lnTo>
                      <a:pt x="109" y="305"/>
                    </a:lnTo>
                    <a:lnTo>
                      <a:pt x="139" y="286"/>
                    </a:lnTo>
                    <a:lnTo>
                      <a:pt x="169" y="267"/>
                    </a:lnTo>
                    <a:lnTo>
                      <a:pt x="199" y="247"/>
                    </a:lnTo>
                    <a:lnTo>
                      <a:pt x="228" y="227"/>
                    </a:lnTo>
                    <a:lnTo>
                      <a:pt x="257" y="205"/>
                    </a:lnTo>
                    <a:lnTo>
                      <a:pt x="285" y="184"/>
                    </a:lnTo>
                    <a:lnTo>
                      <a:pt x="313" y="162"/>
                    </a:lnTo>
                    <a:lnTo>
                      <a:pt x="341" y="139"/>
                    </a:lnTo>
                    <a:lnTo>
                      <a:pt x="368" y="116"/>
                    </a:lnTo>
                    <a:lnTo>
                      <a:pt x="394" y="93"/>
                    </a:lnTo>
                    <a:lnTo>
                      <a:pt x="421" y="68"/>
                    </a:lnTo>
                    <a:lnTo>
                      <a:pt x="447" y="44"/>
                    </a:lnTo>
                    <a:lnTo>
                      <a:pt x="472" y="18"/>
                    </a:lnTo>
                    <a:lnTo>
                      <a:pt x="466" y="0"/>
                    </a:lnTo>
                    <a:lnTo>
                      <a:pt x="441" y="27"/>
                    </a:lnTo>
                    <a:lnTo>
                      <a:pt x="414" y="52"/>
                    </a:lnTo>
                    <a:lnTo>
                      <a:pt x="388" y="76"/>
                    </a:lnTo>
                    <a:lnTo>
                      <a:pt x="361" y="100"/>
                    </a:lnTo>
                    <a:lnTo>
                      <a:pt x="333" y="124"/>
                    </a:lnTo>
                    <a:lnTo>
                      <a:pt x="305" y="147"/>
                    </a:lnTo>
                    <a:lnTo>
                      <a:pt x="277" y="170"/>
                    </a:lnTo>
                    <a:lnTo>
                      <a:pt x="248" y="192"/>
                    </a:lnTo>
                    <a:lnTo>
                      <a:pt x="219" y="214"/>
                    </a:lnTo>
                    <a:lnTo>
                      <a:pt x="188" y="234"/>
                    </a:lnTo>
                    <a:lnTo>
                      <a:pt x="158" y="255"/>
                    </a:lnTo>
                    <a:lnTo>
                      <a:pt x="127" y="273"/>
                    </a:lnTo>
                    <a:lnTo>
                      <a:pt x="97" y="292"/>
                    </a:lnTo>
                    <a:lnTo>
                      <a:pt x="65" y="311"/>
                    </a:lnTo>
                    <a:lnTo>
                      <a:pt x="33" y="328"/>
                    </a:lnTo>
                    <a:lnTo>
                      <a:pt x="0" y="346"/>
                    </a:lnTo>
                    <a:lnTo>
                      <a:pt x="11" y="355"/>
                    </a:lnTo>
                    <a:lnTo>
                      <a:pt x="14" y="357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270480" y="3083040"/>
                <a:ext cx="150840" cy="114120"/>
              </a:xfrm>
              <a:custGeom>
                <a:avLst/>
                <a:gdLst/>
                <a:ahLst/>
                <a:rect l="l" t="t" r="r" b="b"/>
                <a:pathLst>
                  <a:path w="474" h="360">
                    <a:moveTo>
                      <a:pt x="12" y="360"/>
                    </a:moveTo>
                    <a:lnTo>
                      <a:pt x="44" y="343"/>
                    </a:lnTo>
                    <a:lnTo>
                      <a:pt x="76" y="327"/>
                    </a:lnTo>
                    <a:lnTo>
                      <a:pt x="107" y="308"/>
                    </a:lnTo>
                    <a:lnTo>
                      <a:pt x="138" y="289"/>
                    </a:lnTo>
                    <a:lnTo>
                      <a:pt x="168" y="270"/>
                    </a:lnTo>
                    <a:lnTo>
                      <a:pt x="199" y="250"/>
                    </a:lnTo>
                    <a:lnTo>
                      <a:pt x="228" y="229"/>
                    </a:lnTo>
                    <a:lnTo>
                      <a:pt x="258" y="208"/>
                    </a:lnTo>
                    <a:lnTo>
                      <a:pt x="286" y="186"/>
                    </a:lnTo>
                    <a:lnTo>
                      <a:pt x="314" y="164"/>
                    </a:lnTo>
                    <a:lnTo>
                      <a:pt x="342" y="141"/>
                    </a:lnTo>
                    <a:lnTo>
                      <a:pt x="369" y="118"/>
                    </a:lnTo>
                    <a:lnTo>
                      <a:pt x="396" y="93"/>
                    </a:lnTo>
                    <a:lnTo>
                      <a:pt x="423" y="68"/>
                    </a:lnTo>
                    <a:lnTo>
                      <a:pt x="449" y="44"/>
                    </a:lnTo>
                    <a:lnTo>
                      <a:pt x="474" y="18"/>
                    </a:lnTo>
                    <a:lnTo>
                      <a:pt x="468" y="0"/>
                    </a:lnTo>
                    <a:lnTo>
                      <a:pt x="441" y="26"/>
                    </a:lnTo>
                    <a:lnTo>
                      <a:pt x="416" y="53"/>
                    </a:lnTo>
                    <a:lnTo>
                      <a:pt x="389" y="77"/>
                    </a:lnTo>
                    <a:lnTo>
                      <a:pt x="363" y="102"/>
                    </a:lnTo>
                    <a:lnTo>
                      <a:pt x="334" y="125"/>
                    </a:lnTo>
                    <a:lnTo>
                      <a:pt x="306" y="149"/>
                    </a:lnTo>
                    <a:lnTo>
                      <a:pt x="278" y="171"/>
                    </a:lnTo>
                    <a:lnTo>
                      <a:pt x="249" y="193"/>
                    </a:lnTo>
                    <a:lnTo>
                      <a:pt x="219" y="215"/>
                    </a:lnTo>
                    <a:lnTo>
                      <a:pt x="189" y="236"/>
                    </a:lnTo>
                    <a:lnTo>
                      <a:pt x="159" y="256"/>
                    </a:lnTo>
                    <a:lnTo>
                      <a:pt x="127" y="276"/>
                    </a:lnTo>
                    <a:lnTo>
                      <a:pt x="96" y="295"/>
                    </a:lnTo>
                    <a:lnTo>
                      <a:pt x="64" y="313"/>
                    </a:lnTo>
                    <a:lnTo>
                      <a:pt x="32" y="331"/>
                    </a:lnTo>
                    <a:lnTo>
                      <a:pt x="0" y="349"/>
                    </a:lnTo>
                    <a:lnTo>
                      <a:pt x="12" y="360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269040" y="3079800"/>
                <a:ext cx="150840" cy="115920"/>
              </a:xfrm>
              <a:custGeom>
                <a:avLst/>
                <a:gdLst/>
                <a:ahLst/>
                <a:rect l="l" t="t" r="r" b="b"/>
                <a:pathLst>
                  <a:path w="477" h="362">
                    <a:moveTo>
                      <a:pt x="11" y="362"/>
                    </a:moveTo>
                    <a:lnTo>
                      <a:pt x="44" y="344"/>
                    </a:lnTo>
                    <a:lnTo>
                      <a:pt x="76" y="327"/>
                    </a:lnTo>
                    <a:lnTo>
                      <a:pt x="108" y="308"/>
                    </a:lnTo>
                    <a:lnTo>
                      <a:pt x="138" y="289"/>
                    </a:lnTo>
                    <a:lnTo>
                      <a:pt x="169" y="271"/>
                    </a:lnTo>
                    <a:lnTo>
                      <a:pt x="199" y="250"/>
                    </a:lnTo>
                    <a:lnTo>
                      <a:pt x="230" y="230"/>
                    </a:lnTo>
                    <a:lnTo>
                      <a:pt x="259" y="208"/>
                    </a:lnTo>
                    <a:lnTo>
                      <a:pt x="288" y="186"/>
                    </a:lnTo>
                    <a:lnTo>
                      <a:pt x="316" y="163"/>
                    </a:lnTo>
                    <a:lnTo>
                      <a:pt x="344" y="140"/>
                    </a:lnTo>
                    <a:lnTo>
                      <a:pt x="372" y="116"/>
                    </a:lnTo>
                    <a:lnTo>
                      <a:pt x="399" y="92"/>
                    </a:lnTo>
                    <a:lnTo>
                      <a:pt x="425" y="68"/>
                    </a:lnTo>
                    <a:lnTo>
                      <a:pt x="452" y="43"/>
                    </a:lnTo>
                    <a:lnTo>
                      <a:pt x="477" y="16"/>
                    </a:lnTo>
                    <a:lnTo>
                      <a:pt x="473" y="6"/>
                    </a:lnTo>
                    <a:lnTo>
                      <a:pt x="470" y="0"/>
                    </a:lnTo>
                    <a:lnTo>
                      <a:pt x="444" y="26"/>
                    </a:lnTo>
                    <a:lnTo>
                      <a:pt x="418" y="51"/>
                    </a:lnTo>
                    <a:lnTo>
                      <a:pt x="392" y="76"/>
                    </a:lnTo>
                    <a:lnTo>
                      <a:pt x="364" y="102"/>
                    </a:lnTo>
                    <a:lnTo>
                      <a:pt x="336" y="126"/>
                    </a:lnTo>
                    <a:lnTo>
                      <a:pt x="308" y="149"/>
                    </a:lnTo>
                    <a:lnTo>
                      <a:pt x="279" y="172"/>
                    </a:lnTo>
                    <a:lnTo>
                      <a:pt x="250" y="194"/>
                    </a:lnTo>
                    <a:lnTo>
                      <a:pt x="220" y="215"/>
                    </a:lnTo>
                    <a:lnTo>
                      <a:pt x="190" y="236"/>
                    </a:lnTo>
                    <a:lnTo>
                      <a:pt x="159" y="257"/>
                    </a:lnTo>
                    <a:lnTo>
                      <a:pt x="128" y="277"/>
                    </a:lnTo>
                    <a:lnTo>
                      <a:pt x="96" y="296"/>
                    </a:lnTo>
                    <a:lnTo>
                      <a:pt x="65" y="314"/>
                    </a:lnTo>
                    <a:lnTo>
                      <a:pt x="32" y="331"/>
                    </a:lnTo>
                    <a:lnTo>
                      <a:pt x="0" y="349"/>
                    </a:lnTo>
                    <a:lnTo>
                      <a:pt x="11" y="362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265800" y="3076560"/>
                <a:ext cx="154080" cy="115920"/>
              </a:xfrm>
              <a:custGeom>
                <a:avLst/>
                <a:gdLst/>
                <a:ahLst/>
                <a:rect l="l" t="t" r="r" b="b"/>
                <a:pathLst>
                  <a:path w="481" h="365">
                    <a:moveTo>
                      <a:pt x="13" y="365"/>
                    </a:moveTo>
                    <a:lnTo>
                      <a:pt x="46" y="347"/>
                    </a:lnTo>
                    <a:lnTo>
                      <a:pt x="77" y="330"/>
                    </a:lnTo>
                    <a:lnTo>
                      <a:pt x="109" y="311"/>
                    </a:lnTo>
                    <a:lnTo>
                      <a:pt x="140" y="292"/>
                    </a:lnTo>
                    <a:lnTo>
                      <a:pt x="172" y="272"/>
                    </a:lnTo>
                    <a:lnTo>
                      <a:pt x="202" y="252"/>
                    </a:lnTo>
                    <a:lnTo>
                      <a:pt x="232" y="231"/>
                    </a:lnTo>
                    <a:lnTo>
                      <a:pt x="262" y="209"/>
                    </a:lnTo>
                    <a:lnTo>
                      <a:pt x="291" y="187"/>
                    </a:lnTo>
                    <a:lnTo>
                      <a:pt x="319" y="165"/>
                    </a:lnTo>
                    <a:lnTo>
                      <a:pt x="347" y="141"/>
                    </a:lnTo>
                    <a:lnTo>
                      <a:pt x="376" y="118"/>
                    </a:lnTo>
                    <a:lnTo>
                      <a:pt x="402" y="93"/>
                    </a:lnTo>
                    <a:lnTo>
                      <a:pt x="429" y="69"/>
                    </a:lnTo>
                    <a:lnTo>
                      <a:pt x="454" y="42"/>
                    </a:lnTo>
                    <a:lnTo>
                      <a:pt x="481" y="16"/>
                    </a:lnTo>
                    <a:lnTo>
                      <a:pt x="480" y="15"/>
                    </a:lnTo>
                    <a:lnTo>
                      <a:pt x="473" y="0"/>
                    </a:lnTo>
                    <a:lnTo>
                      <a:pt x="447" y="27"/>
                    </a:lnTo>
                    <a:lnTo>
                      <a:pt x="421" y="53"/>
                    </a:lnTo>
                    <a:lnTo>
                      <a:pt x="395" y="78"/>
                    </a:lnTo>
                    <a:lnTo>
                      <a:pt x="367" y="102"/>
                    </a:lnTo>
                    <a:lnTo>
                      <a:pt x="339" y="127"/>
                    </a:lnTo>
                    <a:lnTo>
                      <a:pt x="310" y="150"/>
                    </a:lnTo>
                    <a:lnTo>
                      <a:pt x="281" y="174"/>
                    </a:lnTo>
                    <a:lnTo>
                      <a:pt x="252" y="196"/>
                    </a:lnTo>
                    <a:lnTo>
                      <a:pt x="222" y="218"/>
                    </a:lnTo>
                    <a:lnTo>
                      <a:pt x="192" y="239"/>
                    </a:lnTo>
                    <a:lnTo>
                      <a:pt x="161" y="260"/>
                    </a:lnTo>
                    <a:lnTo>
                      <a:pt x="130" y="280"/>
                    </a:lnTo>
                    <a:lnTo>
                      <a:pt x="98" y="298"/>
                    </a:lnTo>
                    <a:lnTo>
                      <a:pt x="66" y="316"/>
                    </a:lnTo>
                    <a:lnTo>
                      <a:pt x="33" y="334"/>
                    </a:lnTo>
                    <a:lnTo>
                      <a:pt x="0" y="352"/>
                    </a:lnTo>
                    <a:lnTo>
                      <a:pt x="13" y="365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264360" y="3075120"/>
                <a:ext cx="154080" cy="115920"/>
              </a:xfrm>
              <a:custGeom>
                <a:avLst/>
                <a:gdLst/>
                <a:ahLst/>
                <a:rect l="l" t="t" r="r" b="b"/>
                <a:pathLst>
                  <a:path w="483" h="366">
                    <a:moveTo>
                      <a:pt x="13" y="366"/>
                    </a:moveTo>
                    <a:lnTo>
                      <a:pt x="45" y="348"/>
                    </a:lnTo>
                    <a:lnTo>
                      <a:pt x="78" y="331"/>
                    </a:lnTo>
                    <a:lnTo>
                      <a:pt x="109" y="313"/>
                    </a:lnTo>
                    <a:lnTo>
                      <a:pt x="141" y="294"/>
                    </a:lnTo>
                    <a:lnTo>
                      <a:pt x="172" y="274"/>
                    </a:lnTo>
                    <a:lnTo>
                      <a:pt x="203" y="253"/>
                    </a:lnTo>
                    <a:lnTo>
                      <a:pt x="233" y="232"/>
                    </a:lnTo>
                    <a:lnTo>
                      <a:pt x="263" y="211"/>
                    </a:lnTo>
                    <a:lnTo>
                      <a:pt x="292" y="189"/>
                    </a:lnTo>
                    <a:lnTo>
                      <a:pt x="321" y="166"/>
                    </a:lnTo>
                    <a:lnTo>
                      <a:pt x="349" y="142"/>
                    </a:lnTo>
                    <a:lnTo>
                      <a:pt x="377" y="119"/>
                    </a:lnTo>
                    <a:lnTo>
                      <a:pt x="404" y="93"/>
                    </a:lnTo>
                    <a:lnTo>
                      <a:pt x="431" y="68"/>
                    </a:lnTo>
                    <a:lnTo>
                      <a:pt x="457" y="43"/>
                    </a:lnTo>
                    <a:lnTo>
                      <a:pt x="483" y="17"/>
                    </a:lnTo>
                    <a:lnTo>
                      <a:pt x="475" y="0"/>
                    </a:lnTo>
                    <a:lnTo>
                      <a:pt x="449" y="27"/>
                    </a:lnTo>
                    <a:lnTo>
                      <a:pt x="423" y="52"/>
                    </a:lnTo>
                    <a:lnTo>
                      <a:pt x="396" y="79"/>
                    </a:lnTo>
                    <a:lnTo>
                      <a:pt x="369" y="103"/>
                    </a:lnTo>
                    <a:lnTo>
                      <a:pt x="341" y="128"/>
                    </a:lnTo>
                    <a:lnTo>
                      <a:pt x="312" y="151"/>
                    </a:lnTo>
                    <a:lnTo>
                      <a:pt x="283" y="174"/>
                    </a:lnTo>
                    <a:lnTo>
                      <a:pt x="253" y="197"/>
                    </a:lnTo>
                    <a:lnTo>
                      <a:pt x="223" y="219"/>
                    </a:lnTo>
                    <a:lnTo>
                      <a:pt x="192" y="240"/>
                    </a:lnTo>
                    <a:lnTo>
                      <a:pt x="162" y="260"/>
                    </a:lnTo>
                    <a:lnTo>
                      <a:pt x="130" y="280"/>
                    </a:lnTo>
                    <a:lnTo>
                      <a:pt x="98" y="300"/>
                    </a:lnTo>
                    <a:lnTo>
                      <a:pt x="65" y="318"/>
                    </a:lnTo>
                    <a:lnTo>
                      <a:pt x="33" y="336"/>
                    </a:lnTo>
                    <a:lnTo>
                      <a:pt x="0" y="354"/>
                    </a:lnTo>
                    <a:lnTo>
                      <a:pt x="13" y="36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262560" y="3071880"/>
                <a:ext cx="154080" cy="117360"/>
              </a:xfrm>
              <a:custGeom>
                <a:avLst/>
                <a:gdLst/>
                <a:ahLst/>
                <a:rect l="l" t="t" r="r" b="b"/>
                <a:pathLst>
                  <a:path w="485" h="369">
                    <a:moveTo>
                      <a:pt x="12" y="369"/>
                    </a:moveTo>
                    <a:lnTo>
                      <a:pt x="45" y="351"/>
                    </a:lnTo>
                    <a:lnTo>
                      <a:pt x="78" y="333"/>
                    </a:lnTo>
                    <a:lnTo>
                      <a:pt x="110" y="315"/>
                    </a:lnTo>
                    <a:lnTo>
                      <a:pt x="142" y="297"/>
                    </a:lnTo>
                    <a:lnTo>
                      <a:pt x="173" y="277"/>
                    </a:lnTo>
                    <a:lnTo>
                      <a:pt x="204" y="256"/>
                    </a:lnTo>
                    <a:lnTo>
                      <a:pt x="234" y="235"/>
                    </a:lnTo>
                    <a:lnTo>
                      <a:pt x="264" y="213"/>
                    </a:lnTo>
                    <a:lnTo>
                      <a:pt x="293" y="191"/>
                    </a:lnTo>
                    <a:lnTo>
                      <a:pt x="322" y="167"/>
                    </a:lnTo>
                    <a:lnTo>
                      <a:pt x="351" y="144"/>
                    </a:lnTo>
                    <a:lnTo>
                      <a:pt x="379" y="119"/>
                    </a:lnTo>
                    <a:lnTo>
                      <a:pt x="407" y="95"/>
                    </a:lnTo>
                    <a:lnTo>
                      <a:pt x="433" y="70"/>
                    </a:lnTo>
                    <a:lnTo>
                      <a:pt x="459" y="44"/>
                    </a:lnTo>
                    <a:lnTo>
                      <a:pt x="485" y="17"/>
                    </a:lnTo>
                    <a:lnTo>
                      <a:pt x="477" y="0"/>
                    </a:lnTo>
                    <a:lnTo>
                      <a:pt x="452" y="28"/>
                    </a:lnTo>
                    <a:lnTo>
                      <a:pt x="424" y="54"/>
                    </a:lnTo>
                    <a:lnTo>
                      <a:pt x="398" y="79"/>
                    </a:lnTo>
                    <a:lnTo>
                      <a:pt x="370" y="104"/>
                    </a:lnTo>
                    <a:lnTo>
                      <a:pt x="341" y="130"/>
                    </a:lnTo>
                    <a:lnTo>
                      <a:pt x="313" y="153"/>
                    </a:lnTo>
                    <a:lnTo>
                      <a:pt x="284" y="177"/>
                    </a:lnTo>
                    <a:lnTo>
                      <a:pt x="254" y="199"/>
                    </a:lnTo>
                    <a:lnTo>
                      <a:pt x="224" y="221"/>
                    </a:lnTo>
                    <a:lnTo>
                      <a:pt x="193" y="242"/>
                    </a:lnTo>
                    <a:lnTo>
                      <a:pt x="163" y="263"/>
                    </a:lnTo>
                    <a:lnTo>
                      <a:pt x="130" y="283"/>
                    </a:lnTo>
                    <a:lnTo>
                      <a:pt x="99" y="303"/>
                    </a:lnTo>
                    <a:lnTo>
                      <a:pt x="66" y="321"/>
                    </a:lnTo>
                    <a:lnTo>
                      <a:pt x="32" y="339"/>
                    </a:lnTo>
                    <a:lnTo>
                      <a:pt x="0" y="356"/>
                    </a:lnTo>
                    <a:lnTo>
                      <a:pt x="12" y="369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261120" y="3070080"/>
                <a:ext cx="154080" cy="117720"/>
              </a:xfrm>
              <a:custGeom>
                <a:avLst/>
                <a:gdLst/>
                <a:ahLst/>
                <a:rect l="l" t="t" r="r" b="b"/>
                <a:pathLst>
                  <a:path w="488" h="370">
                    <a:moveTo>
                      <a:pt x="13" y="370"/>
                    </a:moveTo>
                    <a:lnTo>
                      <a:pt x="46" y="352"/>
                    </a:lnTo>
                    <a:lnTo>
                      <a:pt x="78" y="334"/>
                    </a:lnTo>
                    <a:lnTo>
                      <a:pt x="111" y="316"/>
                    </a:lnTo>
                    <a:lnTo>
                      <a:pt x="143" y="296"/>
                    </a:lnTo>
                    <a:lnTo>
                      <a:pt x="175" y="276"/>
                    </a:lnTo>
                    <a:lnTo>
                      <a:pt x="205" y="256"/>
                    </a:lnTo>
                    <a:lnTo>
                      <a:pt x="236" y="235"/>
                    </a:lnTo>
                    <a:lnTo>
                      <a:pt x="266" y="213"/>
                    </a:lnTo>
                    <a:lnTo>
                      <a:pt x="296" y="190"/>
                    </a:lnTo>
                    <a:lnTo>
                      <a:pt x="325" y="167"/>
                    </a:lnTo>
                    <a:lnTo>
                      <a:pt x="354" y="144"/>
                    </a:lnTo>
                    <a:lnTo>
                      <a:pt x="382" y="119"/>
                    </a:lnTo>
                    <a:lnTo>
                      <a:pt x="409" y="95"/>
                    </a:lnTo>
                    <a:lnTo>
                      <a:pt x="436" y="68"/>
                    </a:lnTo>
                    <a:lnTo>
                      <a:pt x="462" y="43"/>
                    </a:lnTo>
                    <a:lnTo>
                      <a:pt x="488" y="16"/>
                    </a:lnTo>
                    <a:lnTo>
                      <a:pt x="481" y="0"/>
                    </a:lnTo>
                    <a:lnTo>
                      <a:pt x="455" y="27"/>
                    </a:lnTo>
                    <a:lnTo>
                      <a:pt x="428" y="54"/>
                    </a:lnTo>
                    <a:lnTo>
                      <a:pt x="401" y="79"/>
                    </a:lnTo>
                    <a:lnTo>
                      <a:pt x="373" y="104"/>
                    </a:lnTo>
                    <a:lnTo>
                      <a:pt x="344" y="129"/>
                    </a:lnTo>
                    <a:lnTo>
                      <a:pt x="316" y="153"/>
                    </a:lnTo>
                    <a:lnTo>
                      <a:pt x="286" y="177"/>
                    </a:lnTo>
                    <a:lnTo>
                      <a:pt x="257" y="199"/>
                    </a:lnTo>
                    <a:lnTo>
                      <a:pt x="226" y="222"/>
                    </a:lnTo>
                    <a:lnTo>
                      <a:pt x="195" y="243"/>
                    </a:lnTo>
                    <a:lnTo>
                      <a:pt x="164" y="264"/>
                    </a:lnTo>
                    <a:lnTo>
                      <a:pt x="132" y="284"/>
                    </a:lnTo>
                    <a:lnTo>
                      <a:pt x="99" y="303"/>
                    </a:lnTo>
                    <a:lnTo>
                      <a:pt x="67" y="321"/>
                    </a:lnTo>
                    <a:lnTo>
                      <a:pt x="34" y="339"/>
                    </a:lnTo>
                    <a:lnTo>
                      <a:pt x="0" y="357"/>
                    </a:lnTo>
                    <a:lnTo>
                      <a:pt x="13" y="370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257880" y="3067200"/>
                <a:ext cx="155520" cy="117360"/>
              </a:xfrm>
              <a:custGeom>
                <a:avLst/>
                <a:gdLst/>
                <a:ahLst/>
                <a:rect l="l" t="t" r="r" b="b"/>
                <a:pathLst>
                  <a:path w="490" h="371">
                    <a:moveTo>
                      <a:pt x="13" y="371"/>
                    </a:moveTo>
                    <a:lnTo>
                      <a:pt x="45" y="354"/>
                    </a:lnTo>
                    <a:lnTo>
                      <a:pt x="79" y="336"/>
                    </a:lnTo>
                    <a:lnTo>
                      <a:pt x="112" y="318"/>
                    </a:lnTo>
                    <a:lnTo>
                      <a:pt x="143" y="298"/>
                    </a:lnTo>
                    <a:lnTo>
                      <a:pt x="176" y="278"/>
                    </a:lnTo>
                    <a:lnTo>
                      <a:pt x="206" y="257"/>
                    </a:lnTo>
                    <a:lnTo>
                      <a:pt x="237" y="236"/>
                    </a:lnTo>
                    <a:lnTo>
                      <a:pt x="267" y="214"/>
                    </a:lnTo>
                    <a:lnTo>
                      <a:pt x="297" y="192"/>
                    </a:lnTo>
                    <a:lnTo>
                      <a:pt x="326" y="168"/>
                    </a:lnTo>
                    <a:lnTo>
                      <a:pt x="354" y="145"/>
                    </a:lnTo>
                    <a:lnTo>
                      <a:pt x="383" y="119"/>
                    </a:lnTo>
                    <a:lnTo>
                      <a:pt x="411" y="94"/>
                    </a:lnTo>
                    <a:lnTo>
                      <a:pt x="437" y="69"/>
                    </a:lnTo>
                    <a:lnTo>
                      <a:pt x="465" y="43"/>
                    </a:lnTo>
                    <a:lnTo>
                      <a:pt x="490" y="15"/>
                    </a:lnTo>
                    <a:lnTo>
                      <a:pt x="483" y="0"/>
                    </a:lnTo>
                    <a:lnTo>
                      <a:pt x="456" y="27"/>
                    </a:lnTo>
                    <a:lnTo>
                      <a:pt x="430" y="53"/>
                    </a:lnTo>
                    <a:lnTo>
                      <a:pt x="403" y="80"/>
                    </a:lnTo>
                    <a:lnTo>
                      <a:pt x="374" y="105"/>
                    </a:lnTo>
                    <a:lnTo>
                      <a:pt x="346" y="130"/>
                    </a:lnTo>
                    <a:lnTo>
                      <a:pt x="318" y="154"/>
                    </a:lnTo>
                    <a:lnTo>
                      <a:pt x="288" y="177"/>
                    </a:lnTo>
                    <a:lnTo>
                      <a:pt x="258" y="200"/>
                    </a:lnTo>
                    <a:lnTo>
                      <a:pt x="227" y="222"/>
                    </a:lnTo>
                    <a:lnTo>
                      <a:pt x="196" y="244"/>
                    </a:lnTo>
                    <a:lnTo>
                      <a:pt x="164" y="265"/>
                    </a:lnTo>
                    <a:lnTo>
                      <a:pt x="133" y="285"/>
                    </a:lnTo>
                    <a:lnTo>
                      <a:pt x="100" y="304"/>
                    </a:lnTo>
                    <a:lnTo>
                      <a:pt x="67" y="323"/>
                    </a:lnTo>
                    <a:lnTo>
                      <a:pt x="34" y="341"/>
                    </a:lnTo>
                    <a:lnTo>
                      <a:pt x="0" y="359"/>
                    </a:lnTo>
                    <a:lnTo>
                      <a:pt x="13" y="37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56440" y="3063960"/>
                <a:ext cx="156960" cy="118800"/>
              </a:xfrm>
              <a:custGeom>
                <a:avLst/>
                <a:gdLst/>
                <a:ahLst/>
                <a:rect l="l" t="t" r="r" b="b"/>
                <a:pathLst>
                  <a:path w="493" h="374">
                    <a:moveTo>
                      <a:pt x="12" y="374"/>
                    </a:moveTo>
                    <a:lnTo>
                      <a:pt x="46" y="356"/>
                    </a:lnTo>
                    <a:lnTo>
                      <a:pt x="79" y="338"/>
                    </a:lnTo>
                    <a:lnTo>
                      <a:pt x="111" y="320"/>
                    </a:lnTo>
                    <a:lnTo>
                      <a:pt x="144" y="301"/>
                    </a:lnTo>
                    <a:lnTo>
                      <a:pt x="176" y="281"/>
                    </a:lnTo>
                    <a:lnTo>
                      <a:pt x="207" y="260"/>
                    </a:lnTo>
                    <a:lnTo>
                      <a:pt x="238" y="239"/>
                    </a:lnTo>
                    <a:lnTo>
                      <a:pt x="269" y="216"/>
                    </a:lnTo>
                    <a:lnTo>
                      <a:pt x="298" y="194"/>
                    </a:lnTo>
                    <a:lnTo>
                      <a:pt x="328" y="170"/>
                    </a:lnTo>
                    <a:lnTo>
                      <a:pt x="356" y="146"/>
                    </a:lnTo>
                    <a:lnTo>
                      <a:pt x="385" y="121"/>
                    </a:lnTo>
                    <a:lnTo>
                      <a:pt x="413" y="96"/>
                    </a:lnTo>
                    <a:lnTo>
                      <a:pt x="440" y="71"/>
                    </a:lnTo>
                    <a:lnTo>
                      <a:pt x="467" y="44"/>
                    </a:lnTo>
                    <a:lnTo>
                      <a:pt x="493" y="17"/>
                    </a:lnTo>
                    <a:lnTo>
                      <a:pt x="484" y="0"/>
                    </a:lnTo>
                    <a:lnTo>
                      <a:pt x="458" y="28"/>
                    </a:lnTo>
                    <a:lnTo>
                      <a:pt x="432" y="55"/>
                    </a:lnTo>
                    <a:lnTo>
                      <a:pt x="405" y="81"/>
                    </a:lnTo>
                    <a:lnTo>
                      <a:pt x="376" y="106"/>
                    </a:lnTo>
                    <a:lnTo>
                      <a:pt x="348" y="132"/>
                    </a:lnTo>
                    <a:lnTo>
                      <a:pt x="318" y="156"/>
                    </a:lnTo>
                    <a:lnTo>
                      <a:pt x="289" y="180"/>
                    </a:lnTo>
                    <a:lnTo>
                      <a:pt x="258" y="203"/>
                    </a:lnTo>
                    <a:lnTo>
                      <a:pt x="228" y="225"/>
                    </a:lnTo>
                    <a:lnTo>
                      <a:pt x="197" y="246"/>
                    </a:lnTo>
                    <a:lnTo>
                      <a:pt x="165" y="267"/>
                    </a:lnTo>
                    <a:lnTo>
                      <a:pt x="133" y="288"/>
                    </a:lnTo>
                    <a:lnTo>
                      <a:pt x="101" y="307"/>
                    </a:lnTo>
                    <a:lnTo>
                      <a:pt x="67" y="326"/>
                    </a:lnTo>
                    <a:lnTo>
                      <a:pt x="33" y="345"/>
                    </a:lnTo>
                    <a:lnTo>
                      <a:pt x="0" y="362"/>
                    </a:lnTo>
                    <a:lnTo>
                      <a:pt x="3" y="365"/>
                    </a:lnTo>
                    <a:lnTo>
                      <a:pt x="12" y="37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254640" y="3062160"/>
                <a:ext cx="157320" cy="119160"/>
              </a:xfrm>
              <a:custGeom>
                <a:avLst/>
                <a:gdLst/>
                <a:ahLst/>
                <a:rect l="l" t="t" r="r" b="b"/>
                <a:pathLst>
                  <a:path w="497" h="375">
                    <a:moveTo>
                      <a:pt x="14" y="375"/>
                    </a:moveTo>
                    <a:lnTo>
                      <a:pt x="48" y="357"/>
                    </a:lnTo>
                    <a:lnTo>
                      <a:pt x="81" y="339"/>
                    </a:lnTo>
                    <a:lnTo>
                      <a:pt x="114" y="320"/>
                    </a:lnTo>
                    <a:lnTo>
                      <a:pt x="147" y="301"/>
                    </a:lnTo>
                    <a:lnTo>
                      <a:pt x="178" y="281"/>
                    </a:lnTo>
                    <a:lnTo>
                      <a:pt x="210" y="260"/>
                    </a:lnTo>
                    <a:lnTo>
                      <a:pt x="241" y="238"/>
                    </a:lnTo>
                    <a:lnTo>
                      <a:pt x="272" y="216"/>
                    </a:lnTo>
                    <a:lnTo>
                      <a:pt x="302" y="193"/>
                    </a:lnTo>
                    <a:lnTo>
                      <a:pt x="332" y="170"/>
                    </a:lnTo>
                    <a:lnTo>
                      <a:pt x="360" y="146"/>
                    </a:lnTo>
                    <a:lnTo>
                      <a:pt x="388" y="121"/>
                    </a:lnTo>
                    <a:lnTo>
                      <a:pt x="417" y="96"/>
                    </a:lnTo>
                    <a:lnTo>
                      <a:pt x="444" y="69"/>
                    </a:lnTo>
                    <a:lnTo>
                      <a:pt x="470" y="43"/>
                    </a:lnTo>
                    <a:lnTo>
                      <a:pt x="497" y="16"/>
                    </a:lnTo>
                    <a:lnTo>
                      <a:pt x="491" y="5"/>
                    </a:lnTo>
                    <a:lnTo>
                      <a:pt x="488" y="0"/>
                    </a:lnTo>
                    <a:lnTo>
                      <a:pt x="462" y="27"/>
                    </a:lnTo>
                    <a:lnTo>
                      <a:pt x="436" y="55"/>
                    </a:lnTo>
                    <a:lnTo>
                      <a:pt x="408" y="81"/>
                    </a:lnTo>
                    <a:lnTo>
                      <a:pt x="380" y="106"/>
                    </a:lnTo>
                    <a:lnTo>
                      <a:pt x="352" y="131"/>
                    </a:lnTo>
                    <a:lnTo>
                      <a:pt x="322" y="155"/>
                    </a:lnTo>
                    <a:lnTo>
                      <a:pt x="292" y="180"/>
                    </a:lnTo>
                    <a:lnTo>
                      <a:pt x="262" y="203"/>
                    </a:lnTo>
                    <a:lnTo>
                      <a:pt x="231" y="226"/>
                    </a:lnTo>
                    <a:lnTo>
                      <a:pt x="199" y="247"/>
                    </a:lnTo>
                    <a:lnTo>
                      <a:pt x="168" y="268"/>
                    </a:lnTo>
                    <a:lnTo>
                      <a:pt x="135" y="289"/>
                    </a:lnTo>
                    <a:lnTo>
                      <a:pt x="102" y="309"/>
                    </a:lnTo>
                    <a:lnTo>
                      <a:pt x="69" y="328"/>
                    </a:lnTo>
                    <a:lnTo>
                      <a:pt x="35" y="345"/>
                    </a:lnTo>
                    <a:lnTo>
                      <a:pt x="0" y="362"/>
                    </a:lnTo>
                    <a:lnTo>
                      <a:pt x="11" y="372"/>
                    </a:lnTo>
                    <a:lnTo>
                      <a:pt x="14" y="37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51400" y="3059280"/>
                <a:ext cx="158760" cy="120600"/>
              </a:xfrm>
              <a:custGeom>
                <a:avLst/>
                <a:gdLst/>
                <a:ahLst/>
                <a:rect l="l" t="t" r="r" b="b"/>
                <a:pathLst>
                  <a:path w="498" h="377">
                    <a:moveTo>
                      <a:pt x="14" y="377"/>
                    </a:moveTo>
                    <a:lnTo>
                      <a:pt x="47" y="360"/>
                    </a:lnTo>
                    <a:lnTo>
                      <a:pt x="81" y="341"/>
                    </a:lnTo>
                    <a:lnTo>
                      <a:pt x="115" y="322"/>
                    </a:lnTo>
                    <a:lnTo>
                      <a:pt x="147" y="303"/>
                    </a:lnTo>
                    <a:lnTo>
                      <a:pt x="179" y="282"/>
                    </a:lnTo>
                    <a:lnTo>
                      <a:pt x="211" y="261"/>
                    </a:lnTo>
                    <a:lnTo>
                      <a:pt x="242" y="240"/>
                    </a:lnTo>
                    <a:lnTo>
                      <a:pt x="272" y="218"/>
                    </a:lnTo>
                    <a:lnTo>
                      <a:pt x="303" y="195"/>
                    </a:lnTo>
                    <a:lnTo>
                      <a:pt x="332" y="171"/>
                    </a:lnTo>
                    <a:lnTo>
                      <a:pt x="362" y="147"/>
                    </a:lnTo>
                    <a:lnTo>
                      <a:pt x="390" y="121"/>
                    </a:lnTo>
                    <a:lnTo>
                      <a:pt x="419" y="96"/>
                    </a:lnTo>
                    <a:lnTo>
                      <a:pt x="446" y="70"/>
                    </a:lnTo>
                    <a:lnTo>
                      <a:pt x="472" y="43"/>
                    </a:lnTo>
                    <a:lnTo>
                      <a:pt x="498" y="15"/>
                    </a:lnTo>
                    <a:lnTo>
                      <a:pt x="497" y="13"/>
                    </a:lnTo>
                    <a:lnTo>
                      <a:pt x="490" y="0"/>
                    </a:lnTo>
                    <a:lnTo>
                      <a:pt x="464" y="28"/>
                    </a:lnTo>
                    <a:lnTo>
                      <a:pt x="437" y="55"/>
                    </a:lnTo>
                    <a:lnTo>
                      <a:pt x="409" y="81"/>
                    </a:lnTo>
                    <a:lnTo>
                      <a:pt x="382" y="108"/>
                    </a:lnTo>
                    <a:lnTo>
                      <a:pt x="352" y="133"/>
                    </a:lnTo>
                    <a:lnTo>
                      <a:pt x="323" y="157"/>
                    </a:lnTo>
                    <a:lnTo>
                      <a:pt x="293" y="181"/>
                    </a:lnTo>
                    <a:lnTo>
                      <a:pt x="263" y="204"/>
                    </a:lnTo>
                    <a:lnTo>
                      <a:pt x="231" y="226"/>
                    </a:lnTo>
                    <a:lnTo>
                      <a:pt x="200" y="248"/>
                    </a:lnTo>
                    <a:lnTo>
                      <a:pt x="168" y="269"/>
                    </a:lnTo>
                    <a:lnTo>
                      <a:pt x="136" y="290"/>
                    </a:lnTo>
                    <a:lnTo>
                      <a:pt x="102" y="310"/>
                    </a:lnTo>
                    <a:lnTo>
                      <a:pt x="69" y="329"/>
                    </a:lnTo>
                    <a:lnTo>
                      <a:pt x="35" y="347"/>
                    </a:lnTo>
                    <a:lnTo>
                      <a:pt x="0" y="365"/>
                    </a:lnTo>
                    <a:lnTo>
                      <a:pt x="14" y="37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249960" y="3057480"/>
                <a:ext cx="158760" cy="119160"/>
              </a:xfrm>
              <a:custGeom>
                <a:avLst/>
                <a:gdLst/>
                <a:ahLst/>
                <a:rect l="l" t="t" r="r" b="b"/>
                <a:pathLst>
                  <a:path w="500" h="378">
                    <a:moveTo>
                      <a:pt x="12" y="378"/>
                    </a:moveTo>
                    <a:lnTo>
                      <a:pt x="47" y="361"/>
                    </a:lnTo>
                    <a:lnTo>
                      <a:pt x="81" y="344"/>
                    </a:lnTo>
                    <a:lnTo>
                      <a:pt x="114" y="325"/>
                    </a:lnTo>
                    <a:lnTo>
                      <a:pt x="147" y="305"/>
                    </a:lnTo>
                    <a:lnTo>
                      <a:pt x="180" y="284"/>
                    </a:lnTo>
                    <a:lnTo>
                      <a:pt x="211" y="263"/>
                    </a:lnTo>
                    <a:lnTo>
                      <a:pt x="243" y="242"/>
                    </a:lnTo>
                    <a:lnTo>
                      <a:pt x="274" y="219"/>
                    </a:lnTo>
                    <a:lnTo>
                      <a:pt x="304" y="196"/>
                    </a:lnTo>
                    <a:lnTo>
                      <a:pt x="334" y="171"/>
                    </a:lnTo>
                    <a:lnTo>
                      <a:pt x="364" y="147"/>
                    </a:lnTo>
                    <a:lnTo>
                      <a:pt x="392" y="122"/>
                    </a:lnTo>
                    <a:lnTo>
                      <a:pt x="420" y="97"/>
                    </a:lnTo>
                    <a:lnTo>
                      <a:pt x="448" y="71"/>
                    </a:lnTo>
                    <a:lnTo>
                      <a:pt x="474" y="43"/>
                    </a:lnTo>
                    <a:lnTo>
                      <a:pt x="500" y="16"/>
                    </a:lnTo>
                    <a:lnTo>
                      <a:pt x="493" y="0"/>
                    </a:lnTo>
                    <a:lnTo>
                      <a:pt x="466" y="28"/>
                    </a:lnTo>
                    <a:lnTo>
                      <a:pt x="438" y="55"/>
                    </a:lnTo>
                    <a:lnTo>
                      <a:pt x="411" y="82"/>
                    </a:lnTo>
                    <a:lnTo>
                      <a:pt x="382" y="108"/>
                    </a:lnTo>
                    <a:lnTo>
                      <a:pt x="354" y="134"/>
                    </a:lnTo>
                    <a:lnTo>
                      <a:pt x="325" y="158"/>
                    </a:lnTo>
                    <a:lnTo>
                      <a:pt x="294" y="182"/>
                    </a:lnTo>
                    <a:lnTo>
                      <a:pt x="264" y="206"/>
                    </a:lnTo>
                    <a:lnTo>
                      <a:pt x="232" y="228"/>
                    </a:lnTo>
                    <a:lnTo>
                      <a:pt x="201" y="250"/>
                    </a:lnTo>
                    <a:lnTo>
                      <a:pt x="168" y="271"/>
                    </a:lnTo>
                    <a:lnTo>
                      <a:pt x="135" y="292"/>
                    </a:lnTo>
                    <a:lnTo>
                      <a:pt x="102" y="312"/>
                    </a:lnTo>
                    <a:lnTo>
                      <a:pt x="68" y="331"/>
                    </a:lnTo>
                    <a:lnTo>
                      <a:pt x="35" y="349"/>
                    </a:lnTo>
                    <a:lnTo>
                      <a:pt x="0" y="367"/>
                    </a:lnTo>
                    <a:lnTo>
                      <a:pt x="12" y="37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248520" y="3054240"/>
                <a:ext cx="158760" cy="120600"/>
              </a:xfrm>
              <a:custGeom>
                <a:avLst/>
                <a:gdLst/>
                <a:ahLst/>
                <a:rect l="l" t="t" r="r" b="b"/>
                <a:pathLst>
                  <a:path w="503" h="381">
                    <a:moveTo>
                      <a:pt x="13" y="381"/>
                    </a:moveTo>
                    <a:lnTo>
                      <a:pt x="48" y="363"/>
                    </a:lnTo>
                    <a:lnTo>
                      <a:pt x="82" y="345"/>
                    </a:lnTo>
                    <a:lnTo>
                      <a:pt x="115" y="326"/>
                    </a:lnTo>
                    <a:lnTo>
                      <a:pt x="149" y="306"/>
                    </a:lnTo>
                    <a:lnTo>
                      <a:pt x="181" y="285"/>
                    </a:lnTo>
                    <a:lnTo>
                      <a:pt x="213" y="264"/>
                    </a:lnTo>
                    <a:lnTo>
                      <a:pt x="244" y="242"/>
                    </a:lnTo>
                    <a:lnTo>
                      <a:pt x="276" y="220"/>
                    </a:lnTo>
                    <a:lnTo>
                      <a:pt x="306" y="197"/>
                    </a:lnTo>
                    <a:lnTo>
                      <a:pt x="336" y="173"/>
                    </a:lnTo>
                    <a:lnTo>
                      <a:pt x="365" y="149"/>
                    </a:lnTo>
                    <a:lnTo>
                      <a:pt x="395" y="124"/>
                    </a:lnTo>
                    <a:lnTo>
                      <a:pt x="422" y="97"/>
                    </a:lnTo>
                    <a:lnTo>
                      <a:pt x="450" y="71"/>
                    </a:lnTo>
                    <a:lnTo>
                      <a:pt x="477" y="44"/>
                    </a:lnTo>
                    <a:lnTo>
                      <a:pt x="503" y="16"/>
                    </a:lnTo>
                    <a:lnTo>
                      <a:pt x="496" y="0"/>
                    </a:lnTo>
                    <a:lnTo>
                      <a:pt x="468" y="28"/>
                    </a:lnTo>
                    <a:lnTo>
                      <a:pt x="441" y="55"/>
                    </a:lnTo>
                    <a:lnTo>
                      <a:pt x="414" y="83"/>
                    </a:lnTo>
                    <a:lnTo>
                      <a:pt x="385" y="109"/>
                    </a:lnTo>
                    <a:lnTo>
                      <a:pt x="356" y="134"/>
                    </a:lnTo>
                    <a:lnTo>
                      <a:pt x="326" y="159"/>
                    </a:lnTo>
                    <a:lnTo>
                      <a:pt x="296" y="184"/>
                    </a:lnTo>
                    <a:lnTo>
                      <a:pt x="265" y="207"/>
                    </a:lnTo>
                    <a:lnTo>
                      <a:pt x="234" y="230"/>
                    </a:lnTo>
                    <a:lnTo>
                      <a:pt x="202" y="252"/>
                    </a:lnTo>
                    <a:lnTo>
                      <a:pt x="170" y="273"/>
                    </a:lnTo>
                    <a:lnTo>
                      <a:pt x="136" y="294"/>
                    </a:lnTo>
                    <a:lnTo>
                      <a:pt x="103" y="314"/>
                    </a:lnTo>
                    <a:lnTo>
                      <a:pt x="69" y="333"/>
                    </a:lnTo>
                    <a:lnTo>
                      <a:pt x="34" y="352"/>
                    </a:lnTo>
                    <a:lnTo>
                      <a:pt x="0" y="368"/>
                    </a:lnTo>
                    <a:lnTo>
                      <a:pt x="1" y="368"/>
                    </a:lnTo>
                    <a:lnTo>
                      <a:pt x="13" y="38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245280" y="3051000"/>
                <a:ext cx="162000" cy="122400"/>
              </a:xfrm>
              <a:custGeom>
                <a:avLst/>
                <a:gdLst/>
                <a:ahLst/>
                <a:rect l="l" t="t" r="r" b="b"/>
                <a:pathLst>
                  <a:path w="510" h="383">
                    <a:moveTo>
                      <a:pt x="17" y="383"/>
                    </a:moveTo>
                    <a:lnTo>
                      <a:pt x="52" y="365"/>
                    </a:lnTo>
                    <a:lnTo>
                      <a:pt x="85" y="347"/>
                    </a:lnTo>
                    <a:lnTo>
                      <a:pt x="119" y="328"/>
                    </a:lnTo>
                    <a:lnTo>
                      <a:pt x="152" y="308"/>
                    </a:lnTo>
                    <a:lnTo>
                      <a:pt x="185" y="287"/>
                    </a:lnTo>
                    <a:lnTo>
                      <a:pt x="218" y="266"/>
                    </a:lnTo>
                    <a:lnTo>
                      <a:pt x="249" y="244"/>
                    </a:lnTo>
                    <a:lnTo>
                      <a:pt x="281" y="222"/>
                    </a:lnTo>
                    <a:lnTo>
                      <a:pt x="311" y="198"/>
                    </a:lnTo>
                    <a:lnTo>
                      <a:pt x="342" y="174"/>
                    </a:lnTo>
                    <a:lnTo>
                      <a:pt x="371" y="150"/>
                    </a:lnTo>
                    <a:lnTo>
                      <a:pt x="399" y="124"/>
                    </a:lnTo>
                    <a:lnTo>
                      <a:pt x="428" y="98"/>
                    </a:lnTo>
                    <a:lnTo>
                      <a:pt x="455" y="71"/>
                    </a:lnTo>
                    <a:lnTo>
                      <a:pt x="483" y="44"/>
                    </a:lnTo>
                    <a:lnTo>
                      <a:pt x="510" y="16"/>
                    </a:lnTo>
                    <a:lnTo>
                      <a:pt x="501" y="0"/>
                    </a:lnTo>
                    <a:lnTo>
                      <a:pt x="474" y="29"/>
                    </a:lnTo>
                    <a:lnTo>
                      <a:pt x="447" y="56"/>
                    </a:lnTo>
                    <a:lnTo>
                      <a:pt x="418" y="83"/>
                    </a:lnTo>
                    <a:lnTo>
                      <a:pt x="390" y="111"/>
                    </a:lnTo>
                    <a:lnTo>
                      <a:pt x="361" y="136"/>
                    </a:lnTo>
                    <a:lnTo>
                      <a:pt x="331" y="161"/>
                    </a:lnTo>
                    <a:lnTo>
                      <a:pt x="300" y="185"/>
                    </a:lnTo>
                    <a:lnTo>
                      <a:pt x="269" y="209"/>
                    </a:lnTo>
                    <a:lnTo>
                      <a:pt x="238" y="233"/>
                    </a:lnTo>
                    <a:lnTo>
                      <a:pt x="205" y="255"/>
                    </a:lnTo>
                    <a:lnTo>
                      <a:pt x="172" y="277"/>
                    </a:lnTo>
                    <a:lnTo>
                      <a:pt x="139" y="297"/>
                    </a:lnTo>
                    <a:lnTo>
                      <a:pt x="105" y="317"/>
                    </a:lnTo>
                    <a:lnTo>
                      <a:pt x="70" y="336"/>
                    </a:lnTo>
                    <a:lnTo>
                      <a:pt x="36" y="354"/>
                    </a:lnTo>
                    <a:lnTo>
                      <a:pt x="0" y="372"/>
                    </a:lnTo>
                    <a:lnTo>
                      <a:pt x="11" y="376"/>
                    </a:lnTo>
                    <a:lnTo>
                      <a:pt x="17" y="38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242040" y="3049560"/>
                <a:ext cx="163440" cy="122400"/>
              </a:xfrm>
              <a:custGeom>
                <a:avLst/>
                <a:gdLst/>
                <a:ahLst/>
                <a:rect l="l" t="t" r="r" b="b"/>
                <a:pathLst>
                  <a:path w="515" h="384">
                    <a:moveTo>
                      <a:pt x="19" y="384"/>
                    </a:moveTo>
                    <a:lnTo>
                      <a:pt x="53" y="368"/>
                    </a:lnTo>
                    <a:lnTo>
                      <a:pt x="88" y="349"/>
                    </a:lnTo>
                    <a:lnTo>
                      <a:pt x="122" y="330"/>
                    </a:lnTo>
                    <a:lnTo>
                      <a:pt x="155" y="310"/>
                    </a:lnTo>
                    <a:lnTo>
                      <a:pt x="189" y="289"/>
                    </a:lnTo>
                    <a:lnTo>
                      <a:pt x="221" y="268"/>
                    </a:lnTo>
                    <a:lnTo>
                      <a:pt x="253" y="246"/>
                    </a:lnTo>
                    <a:lnTo>
                      <a:pt x="284" y="223"/>
                    </a:lnTo>
                    <a:lnTo>
                      <a:pt x="315" y="200"/>
                    </a:lnTo>
                    <a:lnTo>
                      <a:pt x="345" y="175"/>
                    </a:lnTo>
                    <a:lnTo>
                      <a:pt x="375" y="150"/>
                    </a:lnTo>
                    <a:lnTo>
                      <a:pt x="404" y="125"/>
                    </a:lnTo>
                    <a:lnTo>
                      <a:pt x="433" y="99"/>
                    </a:lnTo>
                    <a:lnTo>
                      <a:pt x="460" y="71"/>
                    </a:lnTo>
                    <a:lnTo>
                      <a:pt x="487" y="44"/>
                    </a:lnTo>
                    <a:lnTo>
                      <a:pt x="515" y="16"/>
                    </a:lnTo>
                    <a:lnTo>
                      <a:pt x="506" y="0"/>
                    </a:lnTo>
                    <a:lnTo>
                      <a:pt x="479" y="29"/>
                    </a:lnTo>
                    <a:lnTo>
                      <a:pt x="452" y="58"/>
                    </a:lnTo>
                    <a:lnTo>
                      <a:pt x="423" y="85"/>
                    </a:lnTo>
                    <a:lnTo>
                      <a:pt x="394" y="111"/>
                    </a:lnTo>
                    <a:lnTo>
                      <a:pt x="364" y="138"/>
                    </a:lnTo>
                    <a:lnTo>
                      <a:pt x="334" y="163"/>
                    </a:lnTo>
                    <a:lnTo>
                      <a:pt x="303" y="188"/>
                    </a:lnTo>
                    <a:lnTo>
                      <a:pt x="272" y="211"/>
                    </a:lnTo>
                    <a:lnTo>
                      <a:pt x="239" y="235"/>
                    </a:lnTo>
                    <a:lnTo>
                      <a:pt x="207" y="257"/>
                    </a:lnTo>
                    <a:lnTo>
                      <a:pt x="174" y="279"/>
                    </a:lnTo>
                    <a:lnTo>
                      <a:pt x="140" y="299"/>
                    </a:lnTo>
                    <a:lnTo>
                      <a:pt x="106" y="320"/>
                    </a:lnTo>
                    <a:lnTo>
                      <a:pt x="71" y="339"/>
                    </a:lnTo>
                    <a:lnTo>
                      <a:pt x="35" y="357"/>
                    </a:lnTo>
                    <a:lnTo>
                      <a:pt x="0" y="375"/>
                    </a:lnTo>
                    <a:lnTo>
                      <a:pt x="19" y="384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238800" y="304632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520" h="387">
                    <a:moveTo>
                      <a:pt x="19" y="387"/>
                    </a:moveTo>
                    <a:lnTo>
                      <a:pt x="55" y="369"/>
                    </a:lnTo>
                    <a:lnTo>
                      <a:pt x="89" y="351"/>
                    </a:lnTo>
                    <a:lnTo>
                      <a:pt x="124" y="332"/>
                    </a:lnTo>
                    <a:lnTo>
                      <a:pt x="158" y="312"/>
                    </a:lnTo>
                    <a:lnTo>
                      <a:pt x="191" y="292"/>
                    </a:lnTo>
                    <a:lnTo>
                      <a:pt x="224" y="270"/>
                    </a:lnTo>
                    <a:lnTo>
                      <a:pt x="257" y="248"/>
                    </a:lnTo>
                    <a:lnTo>
                      <a:pt x="288" y="224"/>
                    </a:lnTo>
                    <a:lnTo>
                      <a:pt x="319" y="200"/>
                    </a:lnTo>
                    <a:lnTo>
                      <a:pt x="350" y="176"/>
                    </a:lnTo>
                    <a:lnTo>
                      <a:pt x="380" y="151"/>
                    </a:lnTo>
                    <a:lnTo>
                      <a:pt x="409" y="126"/>
                    </a:lnTo>
                    <a:lnTo>
                      <a:pt x="437" y="98"/>
                    </a:lnTo>
                    <a:lnTo>
                      <a:pt x="466" y="71"/>
                    </a:lnTo>
                    <a:lnTo>
                      <a:pt x="493" y="44"/>
                    </a:lnTo>
                    <a:lnTo>
                      <a:pt x="520" y="15"/>
                    </a:lnTo>
                    <a:lnTo>
                      <a:pt x="512" y="0"/>
                    </a:lnTo>
                    <a:lnTo>
                      <a:pt x="485" y="29"/>
                    </a:lnTo>
                    <a:lnTo>
                      <a:pt x="456" y="57"/>
                    </a:lnTo>
                    <a:lnTo>
                      <a:pt x="428" y="85"/>
                    </a:lnTo>
                    <a:lnTo>
                      <a:pt x="399" y="112"/>
                    </a:lnTo>
                    <a:lnTo>
                      <a:pt x="369" y="138"/>
                    </a:lnTo>
                    <a:lnTo>
                      <a:pt x="339" y="164"/>
                    </a:lnTo>
                    <a:lnTo>
                      <a:pt x="307" y="189"/>
                    </a:lnTo>
                    <a:lnTo>
                      <a:pt x="276" y="213"/>
                    </a:lnTo>
                    <a:lnTo>
                      <a:pt x="243" y="236"/>
                    </a:lnTo>
                    <a:lnTo>
                      <a:pt x="209" y="259"/>
                    </a:lnTo>
                    <a:lnTo>
                      <a:pt x="176" y="281"/>
                    </a:lnTo>
                    <a:lnTo>
                      <a:pt x="142" y="302"/>
                    </a:lnTo>
                    <a:lnTo>
                      <a:pt x="107" y="322"/>
                    </a:lnTo>
                    <a:lnTo>
                      <a:pt x="72" y="341"/>
                    </a:lnTo>
                    <a:lnTo>
                      <a:pt x="36" y="360"/>
                    </a:lnTo>
                    <a:lnTo>
                      <a:pt x="0" y="378"/>
                    </a:lnTo>
                    <a:lnTo>
                      <a:pt x="19" y="38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35560" y="3044880"/>
                <a:ext cx="166680" cy="123840"/>
              </a:xfrm>
              <a:custGeom>
                <a:avLst/>
                <a:gdLst/>
                <a:ahLst/>
                <a:rect l="l" t="t" r="r" b="b"/>
                <a:pathLst>
                  <a:path w="525" h="391">
                    <a:moveTo>
                      <a:pt x="19" y="391"/>
                    </a:moveTo>
                    <a:lnTo>
                      <a:pt x="54" y="373"/>
                    </a:lnTo>
                    <a:lnTo>
                      <a:pt x="90" y="355"/>
                    </a:lnTo>
                    <a:lnTo>
                      <a:pt x="125" y="336"/>
                    </a:lnTo>
                    <a:lnTo>
                      <a:pt x="158" y="315"/>
                    </a:lnTo>
                    <a:lnTo>
                      <a:pt x="193" y="295"/>
                    </a:lnTo>
                    <a:lnTo>
                      <a:pt x="226" y="273"/>
                    </a:lnTo>
                    <a:lnTo>
                      <a:pt x="258" y="251"/>
                    </a:lnTo>
                    <a:lnTo>
                      <a:pt x="291" y="227"/>
                    </a:lnTo>
                    <a:lnTo>
                      <a:pt x="322" y="204"/>
                    </a:lnTo>
                    <a:lnTo>
                      <a:pt x="353" y="179"/>
                    </a:lnTo>
                    <a:lnTo>
                      <a:pt x="383" y="154"/>
                    </a:lnTo>
                    <a:lnTo>
                      <a:pt x="413" y="127"/>
                    </a:lnTo>
                    <a:lnTo>
                      <a:pt x="442" y="101"/>
                    </a:lnTo>
                    <a:lnTo>
                      <a:pt x="471" y="74"/>
                    </a:lnTo>
                    <a:lnTo>
                      <a:pt x="498" y="45"/>
                    </a:lnTo>
                    <a:lnTo>
                      <a:pt x="525" y="16"/>
                    </a:lnTo>
                    <a:lnTo>
                      <a:pt x="519" y="5"/>
                    </a:lnTo>
                    <a:lnTo>
                      <a:pt x="517" y="0"/>
                    </a:lnTo>
                    <a:lnTo>
                      <a:pt x="490" y="30"/>
                    </a:lnTo>
                    <a:lnTo>
                      <a:pt x="461" y="59"/>
                    </a:lnTo>
                    <a:lnTo>
                      <a:pt x="433" y="86"/>
                    </a:lnTo>
                    <a:lnTo>
                      <a:pt x="402" y="114"/>
                    </a:lnTo>
                    <a:lnTo>
                      <a:pt x="373" y="141"/>
                    </a:lnTo>
                    <a:lnTo>
                      <a:pt x="341" y="166"/>
                    </a:lnTo>
                    <a:lnTo>
                      <a:pt x="310" y="191"/>
                    </a:lnTo>
                    <a:lnTo>
                      <a:pt x="278" y="217"/>
                    </a:lnTo>
                    <a:lnTo>
                      <a:pt x="245" y="240"/>
                    </a:lnTo>
                    <a:lnTo>
                      <a:pt x="212" y="263"/>
                    </a:lnTo>
                    <a:lnTo>
                      <a:pt x="177" y="285"/>
                    </a:lnTo>
                    <a:lnTo>
                      <a:pt x="144" y="306"/>
                    </a:lnTo>
                    <a:lnTo>
                      <a:pt x="108" y="326"/>
                    </a:lnTo>
                    <a:lnTo>
                      <a:pt x="72" y="346"/>
                    </a:lnTo>
                    <a:lnTo>
                      <a:pt x="36" y="364"/>
                    </a:lnTo>
                    <a:lnTo>
                      <a:pt x="0" y="381"/>
                    </a:lnTo>
                    <a:lnTo>
                      <a:pt x="19" y="391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232680" y="3041640"/>
                <a:ext cx="168120" cy="125280"/>
              </a:xfrm>
              <a:custGeom>
                <a:avLst/>
                <a:gdLst/>
                <a:ahLst/>
                <a:rect l="l" t="t" r="r" b="b"/>
                <a:pathLst>
                  <a:path w="531" h="395">
                    <a:moveTo>
                      <a:pt x="19" y="395"/>
                    </a:moveTo>
                    <a:lnTo>
                      <a:pt x="55" y="377"/>
                    </a:lnTo>
                    <a:lnTo>
                      <a:pt x="91" y="358"/>
                    </a:lnTo>
                    <a:lnTo>
                      <a:pt x="126" y="339"/>
                    </a:lnTo>
                    <a:lnTo>
                      <a:pt x="161" y="319"/>
                    </a:lnTo>
                    <a:lnTo>
                      <a:pt x="195" y="298"/>
                    </a:lnTo>
                    <a:lnTo>
                      <a:pt x="228" y="276"/>
                    </a:lnTo>
                    <a:lnTo>
                      <a:pt x="262" y="253"/>
                    </a:lnTo>
                    <a:lnTo>
                      <a:pt x="295" y="230"/>
                    </a:lnTo>
                    <a:lnTo>
                      <a:pt x="326" y="206"/>
                    </a:lnTo>
                    <a:lnTo>
                      <a:pt x="358" y="181"/>
                    </a:lnTo>
                    <a:lnTo>
                      <a:pt x="388" y="155"/>
                    </a:lnTo>
                    <a:lnTo>
                      <a:pt x="418" y="129"/>
                    </a:lnTo>
                    <a:lnTo>
                      <a:pt x="447" y="102"/>
                    </a:lnTo>
                    <a:lnTo>
                      <a:pt x="475" y="74"/>
                    </a:lnTo>
                    <a:lnTo>
                      <a:pt x="504" y="46"/>
                    </a:lnTo>
                    <a:lnTo>
                      <a:pt x="531" y="17"/>
                    </a:lnTo>
                    <a:lnTo>
                      <a:pt x="529" y="13"/>
                    </a:lnTo>
                    <a:lnTo>
                      <a:pt x="523" y="0"/>
                    </a:lnTo>
                    <a:lnTo>
                      <a:pt x="495" y="30"/>
                    </a:lnTo>
                    <a:lnTo>
                      <a:pt x="467" y="60"/>
                    </a:lnTo>
                    <a:lnTo>
                      <a:pt x="437" y="88"/>
                    </a:lnTo>
                    <a:lnTo>
                      <a:pt x="408" y="115"/>
                    </a:lnTo>
                    <a:lnTo>
                      <a:pt x="378" y="143"/>
                    </a:lnTo>
                    <a:lnTo>
                      <a:pt x="346" y="169"/>
                    </a:lnTo>
                    <a:lnTo>
                      <a:pt x="315" y="194"/>
                    </a:lnTo>
                    <a:lnTo>
                      <a:pt x="282" y="218"/>
                    </a:lnTo>
                    <a:lnTo>
                      <a:pt x="248" y="242"/>
                    </a:lnTo>
                    <a:lnTo>
                      <a:pt x="215" y="266"/>
                    </a:lnTo>
                    <a:lnTo>
                      <a:pt x="180" y="288"/>
                    </a:lnTo>
                    <a:lnTo>
                      <a:pt x="145" y="309"/>
                    </a:lnTo>
                    <a:lnTo>
                      <a:pt x="110" y="329"/>
                    </a:lnTo>
                    <a:lnTo>
                      <a:pt x="74" y="349"/>
                    </a:lnTo>
                    <a:lnTo>
                      <a:pt x="37" y="367"/>
                    </a:lnTo>
                    <a:lnTo>
                      <a:pt x="0" y="384"/>
                    </a:lnTo>
                    <a:lnTo>
                      <a:pt x="19" y="39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230880" y="3038400"/>
                <a:ext cx="169920" cy="127080"/>
              </a:xfrm>
              <a:custGeom>
                <a:avLst/>
                <a:gdLst/>
                <a:ahLst/>
                <a:rect l="l" t="t" r="r" b="b"/>
                <a:pathLst>
                  <a:path w="534" h="397">
                    <a:moveTo>
                      <a:pt x="17" y="397"/>
                    </a:moveTo>
                    <a:lnTo>
                      <a:pt x="53" y="380"/>
                    </a:lnTo>
                    <a:lnTo>
                      <a:pt x="89" y="362"/>
                    </a:lnTo>
                    <a:lnTo>
                      <a:pt x="125" y="342"/>
                    </a:lnTo>
                    <a:lnTo>
                      <a:pt x="161" y="322"/>
                    </a:lnTo>
                    <a:lnTo>
                      <a:pt x="194" y="301"/>
                    </a:lnTo>
                    <a:lnTo>
                      <a:pt x="229" y="279"/>
                    </a:lnTo>
                    <a:lnTo>
                      <a:pt x="262" y="256"/>
                    </a:lnTo>
                    <a:lnTo>
                      <a:pt x="295" y="233"/>
                    </a:lnTo>
                    <a:lnTo>
                      <a:pt x="327" y="207"/>
                    </a:lnTo>
                    <a:lnTo>
                      <a:pt x="358" y="182"/>
                    </a:lnTo>
                    <a:lnTo>
                      <a:pt x="390" y="157"/>
                    </a:lnTo>
                    <a:lnTo>
                      <a:pt x="419" y="130"/>
                    </a:lnTo>
                    <a:lnTo>
                      <a:pt x="450" y="102"/>
                    </a:lnTo>
                    <a:lnTo>
                      <a:pt x="478" y="75"/>
                    </a:lnTo>
                    <a:lnTo>
                      <a:pt x="507" y="46"/>
                    </a:lnTo>
                    <a:lnTo>
                      <a:pt x="534" y="16"/>
                    </a:lnTo>
                    <a:lnTo>
                      <a:pt x="526" y="0"/>
                    </a:lnTo>
                    <a:lnTo>
                      <a:pt x="498" y="30"/>
                    </a:lnTo>
                    <a:lnTo>
                      <a:pt x="470" y="59"/>
                    </a:lnTo>
                    <a:lnTo>
                      <a:pt x="440" y="89"/>
                    </a:lnTo>
                    <a:lnTo>
                      <a:pt x="410" y="116"/>
                    </a:lnTo>
                    <a:lnTo>
                      <a:pt x="379" y="143"/>
                    </a:lnTo>
                    <a:lnTo>
                      <a:pt x="348" y="170"/>
                    </a:lnTo>
                    <a:lnTo>
                      <a:pt x="316" y="195"/>
                    </a:lnTo>
                    <a:lnTo>
                      <a:pt x="284" y="220"/>
                    </a:lnTo>
                    <a:lnTo>
                      <a:pt x="250" y="244"/>
                    </a:lnTo>
                    <a:lnTo>
                      <a:pt x="216" y="267"/>
                    </a:lnTo>
                    <a:lnTo>
                      <a:pt x="182" y="289"/>
                    </a:lnTo>
                    <a:lnTo>
                      <a:pt x="146" y="310"/>
                    </a:lnTo>
                    <a:lnTo>
                      <a:pt x="110" y="331"/>
                    </a:lnTo>
                    <a:lnTo>
                      <a:pt x="73" y="350"/>
                    </a:lnTo>
                    <a:lnTo>
                      <a:pt x="37" y="369"/>
                    </a:lnTo>
                    <a:lnTo>
                      <a:pt x="0" y="387"/>
                    </a:lnTo>
                    <a:lnTo>
                      <a:pt x="1" y="390"/>
                    </a:lnTo>
                    <a:lnTo>
                      <a:pt x="17" y="397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229440" y="3036960"/>
                <a:ext cx="169920" cy="127080"/>
              </a:xfrm>
              <a:custGeom>
                <a:avLst/>
                <a:gdLst/>
                <a:ahLst/>
                <a:rect l="l" t="t" r="r" b="b"/>
                <a:pathLst>
                  <a:path w="534" h="400">
                    <a:moveTo>
                      <a:pt x="11" y="400"/>
                    </a:moveTo>
                    <a:lnTo>
                      <a:pt x="48" y="383"/>
                    </a:lnTo>
                    <a:lnTo>
                      <a:pt x="85" y="365"/>
                    </a:lnTo>
                    <a:lnTo>
                      <a:pt x="121" y="345"/>
                    </a:lnTo>
                    <a:lnTo>
                      <a:pt x="156" y="325"/>
                    </a:lnTo>
                    <a:lnTo>
                      <a:pt x="191" y="304"/>
                    </a:lnTo>
                    <a:lnTo>
                      <a:pt x="226" y="282"/>
                    </a:lnTo>
                    <a:lnTo>
                      <a:pt x="259" y="258"/>
                    </a:lnTo>
                    <a:lnTo>
                      <a:pt x="293" y="234"/>
                    </a:lnTo>
                    <a:lnTo>
                      <a:pt x="326" y="210"/>
                    </a:lnTo>
                    <a:lnTo>
                      <a:pt x="357" y="185"/>
                    </a:lnTo>
                    <a:lnTo>
                      <a:pt x="389" y="159"/>
                    </a:lnTo>
                    <a:lnTo>
                      <a:pt x="419" y="131"/>
                    </a:lnTo>
                    <a:lnTo>
                      <a:pt x="448" y="104"/>
                    </a:lnTo>
                    <a:lnTo>
                      <a:pt x="478" y="76"/>
                    </a:lnTo>
                    <a:lnTo>
                      <a:pt x="506" y="46"/>
                    </a:lnTo>
                    <a:lnTo>
                      <a:pt x="534" y="16"/>
                    </a:lnTo>
                    <a:lnTo>
                      <a:pt x="526" y="0"/>
                    </a:lnTo>
                    <a:lnTo>
                      <a:pt x="498" y="30"/>
                    </a:lnTo>
                    <a:lnTo>
                      <a:pt x="470" y="60"/>
                    </a:lnTo>
                    <a:lnTo>
                      <a:pt x="440" y="88"/>
                    </a:lnTo>
                    <a:lnTo>
                      <a:pt x="411" y="116"/>
                    </a:lnTo>
                    <a:lnTo>
                      <a:pt x="380" y="143"/>
                    </a:lnTo>
                    <a:lnTo>
                      <a:pt x="349" y="170"/>
                    </a:lnTo>
                    <a:lnTo>
                      <a:pt x="316" y="195"/>
                    </a:lnTo>
                    <a:lnTo>
                      <a:pt x="283" y="221"/>
                    </a:lnTo>
                    <a:lnTo>
                      <a:pt x="250" y="244"/>
                    </a:lnTo>
                    <a:lnTo>
                      <a:pt x="216" y="267"/>
                    </a:lnTo>
                    <a:lnTo>
                      <a:pt x="182" y="290"/>
                    </a:lnTo>
                    <a:lnTo>
                      <a:pt x="146" y="311"/>
                    </a:lnTo>
                    <a:lnTo>
                      <a:pt x="110" y="332"/>
                    </a:lnTo>
                    <a:lnTo>
                      <a:pt x="74" y="351"/>
                    </a:lnTo>
                    <a:lnTo>
                      <a:pt x="38" y="370"/>
                    </a:lnTo>
                    <a:lnTo>
                      <a:pt x="0" y="388"/>
                    </a:lnTo>
                    <a:lnTo>
                      <a:pt x="5" y="398"/>
                    </a:lnTo>
                    <a:lnTo>
                      <a:pt x="11" y="400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27640" y="303372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5" h="403">
                    <a:moveTo>
                      <a:pt x="9" y="403"/>
                    </a:moveTo>
                    <a:lnTo>
                      <a:pt x="46" y="385"/>
                    </a:lnTo>
                    <a:lnTo>
                      <a:pt x="82" y="366"/>
                    </a:lnTo>
                    <a:lnTo>
                      <a:pt x="119" y="347"/>
                    </a:lnTo>
                    <a:lnTo>
                      <a:pt x="155" y="326"/>
                    </a:lnTo>
                    <a:lnTo>
                      <a:pt x="191" y="305"/>
                    </a:lnTo>
                    <a:lnTo>
                      <a:pt x="225" y="283"/>
                    </a:lnTo>
                    <a:lnTo>
                      <a:pt x="259" y="260"/>
                    </a:lnTo>
                    <a:lnTo>
                      <a:pt x="293" y="236"/>
                    </a:lnTo>
                    <a:lnTo>
                      <a:pt x="325" y="211"/>
                    </a:lnTo>
                    <a:lnTo>
                      <a:pt x="357" y="186"/>
                    </a:lnTo>
                    <a:lnTo>
                      <a:pt x="388" y="159"/>
                    </a:lnTo>
                    <a:lnTo>
                      <a:pt x="419" y="132"/>
                    </a:lnTo>
                    <a:lnTo>
                      <a:pt x="449" y="105"/>
                    </a:lnTo>
                    <a:lnTo>
                      <a:pt x="479" y="75"/>
                    </a:lnTo>
                    <a:lnTo>
                      <a:pt x="507" y="46"/>
                    </a:lnTo>
                    <a:lnTo>
                      <a:pt x="535" y="16"/>
                    </a:lnTo>
                    <a:lnTo>
                      <a:pt x="527" y="0"/>
                    </a:lnTo>
                    <a:lnTo>
                      <a:pt x="500" y="30"/>
                    </a:lnTo>
                    <a:lnTo>
                      <a:pt x="471" y="60"/>
                    </a:lnTo>
                    <a:lnTo>
                      <a:pt x="442" y="88"/>
                    </a:lnTo>
                    <a:lnTo>
                      <a:pt x="411" y="116"/>
                    </a:lnTo>
                    <a:lnTo>
                      <a:pt x="381" y="144"/>
                    </a:lnTo>
                    <a:lnTo>
                      <a:pt x="349" y="170"/>
                    </a:lnTo>
                    <a:lnTo>
                      <a:pt x="318" y="196"/>
                    </a:lnTo>
                    <a:lnTo>
                      <a:pt x="285" y="220"/>
                    </a:lnTo>
                    <a:lnTo>
                      <a:pt x="252" y="244"/>
                    </a:lnTo>
                    <a:lnTo>
                      <a:pt x="217" y="268"/>
                    </a:lnTo>
                    <a:lnTo>
                      <a:pt x="182" y="291"/>
                    </a:lnTo>
                    <a:lnTo>
                      <a:pt x="148" y="312"/>
                    </a:lnTo>
                    <a:lnTo>
                      <a:pt x="112" y="332"/>
                    </a:lnTo>
                    <a:lnTo>
                      <a:pt x="75" y="352"/>
                    </a:lnTo>
                    <a:lnTo>
                      <a:pt x="38" y="370"/>
                    </a:lnTo>
                    <a:lnTo>
                      <a:pt x="0" y="388"/>
                    </a:lnTo>
                    <a:lnTo>
                      <a:pt x="9" y="403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26200" y="303048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8" y="405"/>
                    </a:moveTo>
                    <a:lnTo>
                      <a:pt x="46" y="387"/>
                    </a:lnTo>
                    <a:lnTo>
                      <a:pt x="82" y="368"/>
                    </a:lnTo>
                    <a:lnTo>
                      <a:pt x="118" y="349"/>
                    </a:lnTo>
                    <a:lnTo>
                      <a:pt x="154" y="328"/>
                    </a:lnTo>
                    <a:lnTo>
                      <a:pt x="190" y="307"/>
                    </a:lnTo>
                    <a:lnTo>
                      <a:pt x="224" y="284"/>
                    </a:lnTo>
                    <a:lnTo>
                      <a:pt x="258" y="261"/>
                    </a:lnTo>
                    <a:lnTo>
                      <a:pt x="291" y="238"/>
                    </a:lnTo>
                    <a:lnTo>
                      <a:pt x="324" y="212"/>
                    </a:lnTo>
                    <a:lnTo>
                      <a:pt x="357" y="187"/>
                    </a:lnTo>
                    <a:lnTo>
                      <a:pt x="388" y="160"/>
                    </a:lnTo>
                    <a:lnTo>
                      <a:pt x="419" y="133"/>
                    </a:lnTo>
                    <a:lnTo>
                      <a:pt x="448" y="105"/>
                    </a:lnTo>
                    <a:lnTo>
                      <a:pt x="478" y="77"/>
                    </a:lnTo>
                    <a:lnTo>
                      <a:pt x="506" y="47"/>
                    </a:lnTo>
                    <a:lnTo>
                      <a:pt x="534" y="17"/>
                    </a:lnTo>
                    <a:lnTo>
                      <a:pt x="526" y="0"/>
                    </a:lnTo>
                    <a:lnTo>
                      <a:pt x="499" y="31"/>
                    </a:lnTo>
                    <a:lnTo>
                      <a:pt x="470" y="60"/>
                    </a:lnTo>
                    <a:lnTo>
                      <a:pt x="441" y="90"/>
                    </a:lnTo>
                    <a:lnTo>
                      <a:pt x="411" y="117"/>
                    </a:lnTo>
                    <a:lnTo>
                      <a:pt x="380" y="144"/>
                    </a:lnTo>
                    <a:lnTo>
                      <a:pt x="349" y="172"/>
                    </a:lnTo>
                    <a:lnTo>
                      <a:pt x="317" y="197"/>
                    </a:lnTo>
                    <a:lnTo>
                      <a:pt x="284" y="222"/>
                    </a:lnTo>
                    <a:lnTo>
                      <a:pt x="250" y="246"/>
                    </a:lnTo>
                    <a:lnTo>
                      <a:pt x="217" y="269"/>
                    </a:lnTo>
                    <a:lnTo>
                      <a:pt x="182" y="291"/>
                    </a:lnTo>
                    <a:lnTo>
                      <a:pt x="146" y="313"/>
                    </a:lnTo>
                    <a:lnTo>
                      <a:pt x="111" y="333"/>
                    </a:lnTo>
                    <a:lnTo>
                      <a:pt x="74" y="353"/>
                    </a:lnTo>
                    <a:lnTo>
                      <a:pt x="37" y="372"/>
                    </a:lnTo>
                    <a:lnTo>
                      <a:pt x="0" y="390"/>
                    </a:lnTo>
                    <a:lnTo>
                      <a:pt x="8" y="40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226200" y="3029040"/>
                <a:ext cx="16812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7" y="405"/>
                    </a:moveTo>
                    <a:lnTo>
                      <a:pt x="45" y="387"/>
                    </a:lnTo>
                    <a:lnTo>
                      <a:pt x="82" y="369"/>
                    </a:lnTo>
                    <a:lnTo>
                      <a:pt x="119" y="349"/>
                    </a:lnTo>
                    <a:lnTo>
                      <a:pt x="155" y="329"/>
                    </a:lnTo>
                    <a:lnTo>
                      <a:pt x="189" y="308"/>
                    </a:lnTo>
                    <a:lnTo>
                      <a:pt x="224" y="285"/>
                    </a:lnTo>
                    <a:lnTo>
                      <a:pt x="259" y="261"/>
                    </a:lnTo>
                    <a:lnTo>
                      <a:pt x="292" y="237"/>
                    </a:lnTo>
                    <a:lnTo>
                      <a:pt x="325" y="213"/>
                    </a:lnTo>
                    <a:lnTo>
                      <a:pt x="356" y="187"/>
                    </a:lnTo>
                    <a:lnTo>
                      <a:pt x="388" y="161"/>
                    </a:lnTo>
                    <a:lnTo>
                      <a:pt x="418" y="133"/>
                    </a:lnTo>
                    <a:lnTo>
                      <a:pt x="449" y="105"/>
                    </a:lnTo>
                    <a:lnTo>
                      <a:pt x="478" y="77"/>
                    </a:lnTo>
                    <a:lnTo>
                      <a:pt x="507" y="47"/>
                    </a:lnTo>
                    <a:lnTo>
                      <a:pt x="534" y="17"/>
                    </a:lnTo>
                    <a:lnTo>
                      <a:pt x="527" y="0"/>
                    </a:lnTo>
                    <a:lnTo>
                      <a:pt x="498" y="30"/>
                    </a:lnTo>
                    <a:lnTo>
                      <a:pt x="470" y="61"/>
                    </a:lnTo>
                    <a:lnTo>
                      <a:pt x="442" y="89"/>
                    </a:lnTo>
                    <a:lnTo>
                      <a:pt x="411" y="118"/>
                    </a:lnTo>
                    <a:lnTo>
                      <a:pt x="381" y="145"/>
                    </a:lnTo>
                    <a:lnTo>
                      <a:pt x="349" y="171"/>
                    </a:lnTo>
                    <a:lnTo>
                      <a:pt x="318" y="197"/>
                    </a:lnTo>
                    <a:lnTo>
                      <a:pt x="284" y="223"/>
                    </a:lnTo>
                    <a:lnTo>
                      <a:pt x="251" y="247"/>
                    </a:lnTo>
                    <a:lnTo>
                      <a:pt x="217" y="270"/>
                    </a:lnTo>
                    <a:lnTo>
                      <a:pt x="182" y="292"/>
                    </a:lnTo>
                    <a:lnTo>
                      <a:pt x="147" y="314"/>
                    </a:lnTo>
                    <a:lnTo>
                      <a:pt x="110" y="334"/>
                    </a:lnTo>
                    <a:lnTo>
                      <a:pt x="75" y="354"/>
                    </a:lnTo>
                    <a:lnTo>
                      <a:pt x="38" y="373"/>
                    </a:lnTo>
                    <a:lnTo>
                      <a:pt x="0" y="391"/>
                    </a:lnTo>
                    <a:lnTo>
                      <a:pt x="7" y="40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224760" y="3025800"/>
                <a:ext cx="16956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8" y="405"/>
                    </a:moveTo>
                    <a:lnTo>
                      <a:pt x="45" y="387"/>
                    </a:lnTo>
                    <a:lnTo>
                      <a:pt x="82" y="368"/>
                    </a:lnTo>
                    <a:lnTo>
                      <a:pt x="119" y="348"/>
                    </a:lnTo>
                    <a:lnTo>
                      <a:pt x="154" y="328"/>
                    </a:lnTo>
                    <a:lnTo>
                      <a:pt x="190" y="306"/>
                    </a:lnTo>
                    <a:lnTo>
                      <a:pt x="225" y="284"/>
                    </a:lnTo>
                    <a:lnTo>
                      <a:pt x="258" y="261"/>
                    </a:lnTo>
                    <a:lnTo>
                      <a:pt x="292" y="237"/>
                    </a:lnTo>
                    <a:lnTo>
                      <a:pt x="325" y="212"/>
                    </a:lnTo>
                    <a:lnTo>
                      <a:pt x="357" y="187"/>
                    </a:lnTo>
                    <a:lnTo>
                      <a:pt x="388" y="159"/>
                    </a:lnTo>
                    <a:lnTo>
                      <a:pt x="419" y="132"/>
                    </a:lnTo>
                    <a:lnTo>
                      <a:pt x="449" y="105"/>
                    </a:lnTo>
                    <a:lnTo>
                      <a:pt x="478" y="75"/>
                    </a:lnTo>
                    <a:lnTo>
                      <a:pt x="507" y="46"/>
                    </a:lnTo>
                    <a:lnTo>
                      <a:pt x="534" y="15"/>
                    </a:lnTo>
                    <a:lnTo>
                      <a:pt x="529" y="4"/>
                    </a:lnTo>
                    <a:lnTo>
                      <a:pt x="527" y="0"/>
                    </a:lnTo>
                    <a:lnTo>
                      <a:pt x="498" y="30"/>
                    </a:lnTo>
                    <a:lnTo>
                      <a:pt x="470" y="59"/>
                    </a:lnTo>
                    <a:lnTo>
                      <a:pt x="441" y="89"/>
                    </a:lnTo>
                    <a:lnTo>
                      <a:pt x="411" y="117"/>
                    </a:lnTo>
                    <a:lnTo>
                      <a:pt x="380" y="145"/>
                    </a:lnTo>
                    <a:lnTo>
                      <a:pt x="349" y="171"/>
                    </a:lnTo>
                    <a:lnTo>
                      <a:pt x="317" y="197"/>
                    </a:lnTo>
                    <a:lnTo>
                      <a:pt x="285" y="221"/>
                    </a:lnTo>
                    <a:lnTo>
                      <a:pt x="251" y="246"/>
                    </a:lnTo>
                    <a:lnTo>
                      <a:pt x="217" y="269"/>
                    </a:lnTo>
                    <a:lnTo>
                      <a:pt x="183" y="292"/>
                    </a:lnTo>
                    <a:lnTo>
                      <a:pt x="147" y="314"/>
                    </a:lnTo>
                    <a:lnTo>
                      <a:pt x="111" y="334"/>
                    </a:lnTo>
                    <a:lnTo>
                      <a:pt x="75" y="353"/>
                    </a:lnTo>
                    <a:lnTo>
                      <a:pt x="38" y="372"/>
                    </a:lnTo>
                    <a:lnTo>
                      <a:pt x="0" y="390"/>
                    </a:lnTo>
                    <a:lnTo>
                      <a:pt x="8" y="405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22960" y="302436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5" h="407">
                    <a:moveTo>
                      <a:pt x="8" y="407"/>
                    </a:moveTo>
                    <a:lnTo>
                      <a:pt x="46" y="389"/>
                    </a:lnTo>
                    <a:lnTo>
                      <a:pt x="83" y="370"/>
                    </a:lnTo>
                    <a:lnTo>
                      <a:pt x="118" y="350"/>
                    </a:lnTo>
                    <a:lnTo>
                      <a:pt x="155" y="330"/>
                    </a:lnTo>
                    <a:lnTo>
                      <a:pt x="190" y="308"/>
                    </a:lnTo>
                    <a:lnTo>
                      <a:pt x="225" y="286"/>
                    </a:lnTo>
                    <a:lnTo>
                      <a:pt x="259" y="263"/>
                    </a:lnTo>
                    <a:lnTo>
                      <a:pt x="292" y="239"/>
                    </a:lnTo>
                    <a:lnTo>
                      <a:pt x="326" y="213"/>
                    </a:lnTo>
                    <a:lnTo>
                      <a:pt x="357" y="187"/>
                    </a:lnTo>
                    <a:lnTo>
                      <a:pt x="389" y="161"/>
                    </a:lnTo>
                    <a:lnTo>
                      <a:pt x="419" y="134"/>
                    </a:lnTo>
                    <a:lnTo>
                      <a:pt x="450" y="105"/>
                    </a:lnTo>
                    <a:lnTo>
                      <a:pt x="478" y="77"/>
                    </a:lnTo>
                    <a:lnTo>
                      <a:pt x="506" y="46"/>
                    </a:lnTo>
                    <a:lnTo>
                      <a:pt x="535" y="16"/>
                    </a:lnTo>
                    <a:lnTo>
                      <a:pt x="533" y="13"/>
                    </a:lnTo>
                    <a:lnTo>
                      <a:pt x="526" y="0"/>
                    </a:lnTo>
                    <a:lnTo>
                      <a:pt x="498" y="31"/>
                    </a:lnTo>
                    <a:lnTo>
                      <a:pt x="470" y="61"/>
                    </a:lnTo>
                    <a:lnTo>
                      <a:pt x="441" y="89"/>
                    </a:lnTo>
                    <a:lnTo>
                      <a:pt x="411" y="118"/>
                    </a:lnTo>
                    <a:lnTo>
                      <a:pt x="380" y="146"/>
                    </a:lnTo>
                    <a:lnTo>
                      <a:pt x="349" y="172"/>
                    </a:lnTo>
                    <a:lnTo>
                      <a:pt x="317" y="199"/>
                    </a:lnTo>
                    <a:lnTo>
                      <a:pt x="285" y="223"/>
                    </a:lnTo>
                    <a:lnTo>
                      <a:pt x="251" y="247"/>
                    </a:lnTo>
                    <a:lnTo>
                      <a:pt x="217" y="271"/>
                    </a:lnTo>
                    <a:lnTo>
                      <a:pt x="183" y="293"/>
                    </a:lnTo>
                    <a:lnTo>
                      <a:pt x="147" y="314"/>
                    </a:lnTo>
                    <a:lnTo>
                      <a:pt x="111" y="335"/>
                    </a:lnTo>
                    <a:lnTo>
                      <a:pt x="74" y="355"/>
                    </a:lnTo>
                    <a:lnTo>
                      <a:pt x="38" y="374"/>
                    </a:lnTo>
                    <a:lnTo>
                      <a:pt x="0" y="392"/>
                    </a:lnTo>
                    <a:lnTo>
                      <a:pt x="8" y="407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221520" y="302112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4" h="406">
                    <a:moveTo>
                      <a:pt x="7" y="406"/>
                    </a:moveTo>
                    <a:lnTo>
                      <a:pt x="45" y="388"/>
                    </a:lnTo>
                    <a:lnTo>
                      <a:pt x="82" y="369"/>
                    </a:lnTo>
                    <a:lnTo>
                      <a:pt x="118" y="350"/>
                    </a:lnTo>
                    <a:lnTo>
                      <a:pt x="154" y="330"/>
                    </a:lnTo>
                    <a:lnTo>
                      <a:pt x="190" y="308"/>
                    </a:lnTo>
                    <a:lnTo>
                      <a:pt x="224" y="285"/>
                    </a:lnTo>
                    <a:lnTo>
                      <a:pt x="258" y="262"/>
                    </a:lnTo>
                    <a:lnTo>
                      <a:pt x="292" y="237"/>
                    </a:lnTo>
                    <a:lnTo>
                      <a:pt x="324" y="213"/>
                    </a:lnTo>
                    <a:lnTo>
                      <a:pt x="356" y="187"/>
                    </a:lnTo>
                    <a:lnTo>
                      <a:pt x="387" y="161"/>
                    </a:lnTo>
                    <a:lnTo>
                      <a:pt x="418" y="133"/>
                    </a:lnTo>
                    <a:lnTo>
                      <a:pt x="448" y="105"/>
                    </a:lnTo>
                    <a:lnTo>
                      <a:pt x="477" y="75"/>
                    </a:lnTo>
                    <a:lnTo>
                      <a:pt x="505" y="46"/>
                    </a:lnTo>
                    <a:lnTo>
                      <a:pt x="534" y="16"/>
                    </a:lnTo>
                    <a:lnTo>
                      <a:pt x="525" y="0"/>
                    </a:lnTo>
                    <a:lnTo>
                      <a:pt x="497" y="30"/>
                    </a:lnTo>
                    <a:lnTo>
                      <a:pt x="469" y="60"/>
                    </a:lnTo>
                    <a:lnTo>
                      <a:pt x="440" y="89"/>
                    </a:lnTo>
                    <a:lnTo>
                      <a:pt x="411" y="117"/>
                    </a:lnTo>
                    <a:lnTo>
                      <a:pt x="379" y="145"/>
                    </a:lnTo>
                    <a:lnTo>
                      <a:pt x="349" y="172"/>
                    </a:lnTo>
                    <a:lnTo>
                      <a:pt x="316" y="197"/>
                    </a:lnTo>
                    <a:lnTo>
                      <a:pt x="283" y="222"/>
                    </a:lnTo>
                    <a:lnTo>
                      <a:pt x="250" y="247"/>
                    </a:lnTo>
                    <a:lnTo>
                      <a:pt x="216" y="271"/>
                    </a:lnTo>
                    <a:lnTo>
                      <a:pt x="181" y="293"/>
                    </a:lnTo>
                    <a:lnTo>
                      <a:pt x="147" y="314"/>
                    </a:lnTo>
                    <a:lnTo>
                      <a:pt x="110" y="335"/>
                    </a:lnTo>
                    <a:lnTo>
                      <a:pt x="74" y="355"/>
                    </a:lnTo>
                    <a:lnTo>
                      <a:pt x="36" y="374"/>
                    </a:lnTo>
                    <a:lnTo>
                      <a:pt x="0" y="392"/>
                    </a:lnTo>
                    <a:lnTo>
                      <a:pt x="7" y="40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19720" y="3017880"/>
                <a:ext cx="169920" cy="129960"/>
              </a:xfrm>
              <a:custGeom>
                <a:avLst/>
                <a:gdLst/>
                <a:ahLst/>
                <a:rect l="l" t="t" r="r" b="b"/>
                <a:pathLst>
                  <a:path w="535" h="408">
                    <a:moveTo>
                      <a:pt x="9" y="408"/>
                    </a:moveTo>
                    <a:lnTo>
                      <a:pt x="47" y="390"/>
                    </a:lnTo>
                    <a:lnTo>
                      <a:pt x="83" y="371"/>
                    </a:lnTo>
                    <a:lnTo>
                      <a:pt x="120" y="351"/>
                    </a:lnTo>
                    <a:lnTo>
                      <a:pt x="156" y="330"/>
                    </a:lnTo>
                    <a:lnTo>
                      <a:pt x="192" y="309"/>
                    </a:lnTo>
                    <a:lnTo>
                      <a:pt x="226" y="287"/>
                    </a:lnTo>
                    <a:lnTo>
                      <a:pt x="260" y="263"/>
                    </a:lnTo>
                    <a:lnTo>
                      <a:pt x="294" y="239"/>
                    </a:lnTo>
                    <a:lnTo>
                      <a:pt x="326" y="215"/>
                    </a:lnTo>
                    <a:lnTo>
                      <a:pt x="358" y="188"/>
                    </a:lnTo>
                    <a:lnTo>
                      <a:pt x="389" y="162"/>
                    </a:lnTo>
                    <a:lnTo>
                      <a:pt x="420" y="134"/>
                    </a:lnTo>
                    <a:lnTo>
                      <a:pt x="450" y="105"/>
                    </a:lnTo>
                    <a:lnTo>
                      <a:pt x="479" y="77"/>
                    </a:lnTo>
                    <a:lnTo>
                      <a:pt x="507" y="47"/>
                    </a:lnTo>
                    <a:lnTo>
                      <a:pt x="535" y="16"/>
                    </a:lnTo>
                    <a:lnTo>
                      <a:pt x="527" y="0"/>
                    </a:lnTo>
                    <a:lnTo>
                      <a:pt x="499" y="32"/>
                    </a:lnTo>
                    <a:lnTo>
                      <a:pt x="470" y="61"/>
                    </a:lnTo>
                    <a:lnTo>
                      <a:pt x="442" y="91"/>
                    </a:lnTo>
                    <a:lnTo>
                      <a:pt x="411" y="119"/>
                    </a:lnTo>
                    <a:lnTo>
                      <a:pt x="381" y="146"/>
                    </a:lnTo>
                    <a:lnTo>
                      <a:pt x="349" y="174"/>
                    </a:lnTo>
                    <a:lnTo>
                      <a:pt x="318" y="200"/>
                    </a:lnTo>
                    <a:lnTo>
                      <a:pt x="285" y="225"/>
                    </a:lnTo>
                    <a:lnTo>
                      <a:pt x="252" y="249"/>
                    </a:lnTo>
                    <a:lnTo>
                      <a:pt x="218" y="272"/>
                    </a:lnTo>
                    <a:lnTo>
                      <a:pt x="183" y="294"/>
                    </a:lnTo>
                    <a:lnTo>
                      <a:pt x="147" y="317"/>
                    </a:lnTo>
                    <a:lnTo>
                      <a:pt x="112" y="338"/>
                    </a:lnTo>
                    <a:lnTo>
                      <a:pt x="75" y="356"/>
                    </a:lnTo>
                    <a:lnTo>
                      <a:pt x="38" y="375"/>
                    </a:lnTo>
                    <a:lnTo>
                      <a:pt x="0" y="393"/>
                    </a:lnTo>
                    <a:lnTo>
                      <a:pt x="4" y="397"/>
                    </a:lnTo>
                    <a:lnTo>
                      <a:pt x="9" y="408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18280" y="3016080"/>
                <a:ext cx="169920" cy="128880"/>
              </a:xfrm>
              <a:custGeom>
                <a:avLst/>
                <a:gdLst/>
                <a:ahLst/>
                <a:rect l="l" t="t" r="r" b="b"/>
                <a:pathLst>
                  <a:path w="537" h="406">
                    <a:moveTo>
                      <a:pt x="12" y="406"/>
                    </a:moveTo>
                    <a:lnTo>
                      <a:pt x="48" y="390"/>
                    </a:lnTo>
                    <a:lnTo>
                      <a:pt x="86" y="371"/>
                    </a:lnTo>
                    <a:lnTo>
                      <a:pt x="122" y="351"/>
                    </a:lnTo>
                    <a:lnTo>
                      <a:pt x="159" y="330"/>
                    </a:lnTo>
                    <a:lnTo>
                      <a:pt x="193" y="309"/>
                    </a:lnTo>
                    <a:lnTo>
                      <a:pt x="228" y="287"/>
                    </a:lnTo>
                    <a:lnTo>
                      <a:pt x="262" y="263"/>
                    </a:lnTo>
                    <a:lnTo>
                      <a:pt x="295" y="238"/>
                    </a:lnTo>
                    <a:lnTo>
                      <a:pt x="328" y="213"/>
                    </a:lnTo>
                    <a:lnTo>
                      <a:pt x="361" y="188"/>
                    </a:lnTo>
                    <a:lnTo>
                      <a:pt x="391" y="161"/>
                    </a:lnTo>
                    <a:lnTo>
                      <a:pt x="423" y="133"/>
                    </a:lnTo>
                    <a:lnTo>
                      <a:pt x="452" y="105"/>
                    </a:lnTo>
                    <a:lnTo>
                      <a:pt x="481" y="76"/>
                    </a:lnTo>
                    <a:lnTo>
                      <a:pt x="509" y="46"/>
                    </a:lnTo>
                    <a:lnTo>
                      <a:pt x="537" y="16"/>
                    </a:lnTo>
                    <a:lnTo>
                      <a:pt x="528" y="0"/>
                    </a:lnTo>
                    <a:lnTo>
                      <a:pt x="500" y="31"/>
                    </a:lnTo>
                    <a:lnTo>
                      <a:pt x="472" y="61"/>
                    </a:lnTo>
                    <a:lnTo>
                      <a:pt x="443" y="90"/>
                    </a:lnTo>
                    <a:lnTo>
                      <a:pt x="413" y="119"/>
                    </a:lnTo>
                    <a:lnTo>
                      <a:pt x="383" y="147"/>
                    </a:lnTo>
                    <a:lnTo>
                      <a:pt x="351" y="173"/>
                    </a:lnTo>
                    <a:lnTo>
                      <a:pt x="318" y="200"/>
                    </a:lnTo>
                    <a:lnTo>
                      <a:pt x="286" y="225"/>
                    </a:lnTo>
                    <a:lnTo>
                      <a:pt x="252" y="249"/>
                    </a:lnTo>
                    <a:lnTo>
                      <a:pt x="219" y="273"/>
                    </a:lnTo>
                    <a:lnTo>
                      <a:pt x="184" y="295"/>
                    </a:lnTo>
                    <a:lnTo>
                      <a:pt x="148" y="317"/>
                    </a:lnTo>
                    <a:lnTo>
                      <a:pt x="111" y="337"/>
                    </a:lnTo>
                    <a:lnTo>
                      <a:pt x="76" y="357"/>
                    </a:lnTo>
                    <a:lnTo>
                      <a:pt x="38" y="376"/>
                    </a:lnTo>
                    <a:lnTo>
                      <a:pt x="0" y="394"/>
                    </a:lnTo>
                    <a:lnTo>
                      <a:pt x="10" y="404"/>
                    </a:lnTo>
                    <a:lnTo>
                      <a:pt x="12" y="40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16480" y="3014640"/>
                <a:ext cx="171720" cy="128520"/>
              </a:xfrm>
              <a:custGeom>
                <a:avLst/>
                <a:gdLst/>
                <a:ahLst/>
                <a:rect l="l" t="t" r="r" b="b"/>
                <a:pathLst>
                  <a:path w="539" h="407">
                    <a:moveTo>
                      <a:pt x="12" y="407"/>
                    </a:moveTo>
                    <a:lnTo>
                      <a:pt x="50" y="389"/>
                    </a:lnTo>
                    <a:lnTo>
                      <a:pt x="87" y="370"/>
                    </a:lnTo>
                    <a:lnTo>
                      <a:pt x="124" y="352"/>
                    </a:lnTo>
                    <a:lnTo>
                      <a:pt x="159" y="331"/>
                    </a:lnTo>
                    <a:lnTo>
                      <a:pt x="195" y="308"/>
                    </a:lnTo>
                    <a:lnTo>
                      <a:pt x="230" y="286"/>
                    </a:lnTo>
                    <a:lnTo>
                      <a:pt x="264" y="263"/>
                    </a:lnTo>
                    <a:lnTo>
                      <a:pt x="297" y="239"/>
                    </a:lnTo>
                    <a:lnTo>
                      <a:pt x="330" y="214"/>
                    </a:lnTo>
                    <a:lnTo>
                      <a:pt x="361" y="188"/>
                    </a:lnTo>
                    <a:lnTo>
                      <a:pt x="393" y="160"/>
                    </a:lnTo>
                    <a:lnTo>
                      <a:pt x="423" y="133"/>
                    </a:lnTo>
                    <a:lnTo>
                      <a:pt x="454" y="105"/>
                    </a:lnTo>
                    <a:lnTo>
                      <a:pt x="482" y="75"/>
                    </a:lnTo>
                    <a:lnTo>
                      <a:pt x="511" y="46"/>
                    </a:lnTo>
                    <a:lnTo>
                      <a:pt x="539" y="14"/>
                    </a:lnTo>
                    <a:lnTo>
                      <a:pt x="529" y="0"/>
                    </a:lnTo>
                    <a:lnTo>
                      <a:pt x="502" y="30"/>
                    </a:lnTo>
                    <a:lnTo>
                      <a:pt x="474" y="61"/>
                    </a:lnTo>
                    <a:lnTo>
                      <a:pt x="444" y="90"/>
                    </a:lnTo>
                    <a:lnTo>
                      <a:pt x="415" y="118"/>
                    </a:lnTo>
                    <a:lnTo>
                      <a:pt x="384" y="147"/>
                    </a:lnTo>
                    <a:lnTo>
                      <a:pt x="353" y="174"/>
                    </a:lnTo>
                    <a:lnTo>
                      <a:pt x="320" y="200"/>
                    </a:lnTo>
                    <a:lnTo>
                      <a:pt x="288" y="226"/>
                    </a:lnTo>
                    <a:lnTo>
                      <a:pt x="254" y="250"/>
                    </a:lnTo>
                    <a:lnTo>
                      <a:pt x="219" y="273"/>
                    </a:lnTo>
                    <a:lnTo>
                      <a:pt x="185" y="296"/>
                    </a:lnTo>
                    <a:lnTo>
                      <a:pt x="149" y="317"/>
                    </a:lnTo>
                    <a:lnTo>
                      <a:pt x="112" y="338"/>
                    </a:lnTo>
                    <a:lnTo>
                      <a:pt x="75" y="358"/>
                    </a:lnTo>
                    <a:lnTo>
                      <a:pt x="39" y="377"/>
                    </a:lnTo>
                    <a:lnTo>
                      <a:pt x="0" y="395"/>
                    </a:lnTo>
                    <a:lnTo>
                      <a:pt x="12" y="407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15040" y="3011400"/>
                <a:ext cx="171360" cy="130320"/>
              </a:xfrm>
              <a:custGeom>
                <a:avLst/>
                <a:gdLst/>
                <a:ahLst/>
                <a:rect l="l" t="t" r="r" b="b"/>
                <a:pathLst>
                  <a:path w="540" h="410">
                    <a:moveTo>
                      <a:pt x="12" y="410"/>
                    </a:moveTo>
                    <a:lnTo>
                      <a:pt x="50" y="392"/>
                    </a:lnTo>
                    <a:lnTo>
                      <a:pt x="88" y="373"/>
                    </a:lnTo>
                    <a:lnTo>
                      <a:pt x="123" y="353"/>
                    </a:lnTo>
                    <a:lnTo>
                      <a:pt x="160" y="333"/>
                    </a:lnTo>
                    <a:lnTo>
                      <a:pt x="196" y="311"/>
                    </a:lnTo>
                    <a:lnTo>
                      <a:pt x="231" y="289"/>
                    </a:lnTo>
                    <a:lnTo>
                      <a:pt x="264" y="265"/>
                    </a:lnTo>
                    <a:lnTo>
                      <a:pt x="298" y="241"/>
                    </a:lnTo>
                    <a:lnTo>
                      <a:pt x="330" y="216"/>
                    </a:lnTo>
                    <a:lnTo>
                      <a:pt x="363" y="189"/>
                    </a:lnTo>
                    <a:lnTo>
                      <a:pt x="395" y="163"/>
                    </a:lnTo>
                    <a:lnTo>
                      <a:pt x="425" y="135"/>
                    </a:lnTo>
                    <a:lnTo>
                      <a:pt x="455" y="106"/>
                    </a:lnTo>
                    <a:lnTo>
                      <a:pt x="484" y="77"/>
                    </a:lnTo>
                    <a:lnTo>
                      <a:pt x="512" y="47"/>
                    </a:lnTo>
                    <a:lnTo>
                      <a:pt x="540" y="16"/>
                    </a:lnTo>
                    <a:lnTo>
                      <a:pt x="531" y="0"/>
                    </a:lnTo>
                    <a:lnTo>
                      <a:pt x="504" y="32"/>
                    </a:lnTo>
                    <a:lnTo>
                      <a:pt x="476" y="62"/>
                    </a:lnTo>
                    <a:lnTo>
                      <a:pt x="446" y="92"/>
                    </a:lnTo>
                    <a:lnTo>
                      <a:pt x="417" y="120"/>
                    </a:lnTo>
                    <a:lnTo>
                      <a:pt x="385" y="148"/>
                    </a:lnTo>
                    <a:lnTo>
                      <a:pt x="354" y="176"/>
                    </a:lnTo>
                    <a:lnTo>
                      <a:pt x="321" y="202"/>
                    </a:lnTo>
                    <a:lnTo>
                      <a:pt x="288" y="227"/>
                    </a:lnTo>
                    <a:lnTo>
                      <a:pt x="255" y="251"/>
                    </a:lnTo>
                    <a:lnTo>
                      <a:pt x="220" y="275"/>
                    </a:lnTo>
                    <a:lnTo>
                      <a:pt x="185" y="299"/>
                    </a:lnTo>
                    <a:lnTo>
                      <a:pt x="150" y="320"/>
                    </a:lnTo>
                    <a:lnTo>
                      <a:pt x="113" y="341"/>
                    </a:lnTo>
                    <a:lnTo>
                      <a:pt x="76" y="361"/>
                    </a:lnTo>
                    <a:lnTo>
                      <a:pt x="38" y="379"/>
                    </a:lnTo>
                    <a:lnTo>
                      <a:pt x="0" y="396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211800" y="300996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1" h="410">
                    <a:moveTo>
                      <a:pt x="12" y="410"/>
                    </a:moveTo>
                    <a:lnTo>
                      <a:pt x="51" y="392"/>
                    </a:lnTo>
                    <a:lnTo>
                      <a:pt x="87" y="373"/>
                    </a:lnTo>
                    <a:lnTo>
                      <a:pt x="124" y="353"/>
                    </a:lnTo>
                    <a:lnTo>
                      <a:pt x="161" y="332"/>
                    </a:lnTo>
                    <a:lnTo>
                      <a:pt x="197" y="311"/>
                    </a:lnTo>
                    <a:lnTo>
                      <a:pt x="231" y="288"/>
                    </a:lnTo>
                    <a:lnTo>
                      <a:pt x="266" y="265"/>
                    </a:lnTo>
                    <a:lnTo>
                      <a:pt x="300" y="241"/>
                    </a:lnTo>
                    <a:lnTo>
                      <a:pt x="332" y="215"/>
                    </a:lnTo>
                    <a:lnTo>
                      <a:pt x="365" y="189"/>
                    </a:lnTo>
                    <a:lnTo>
                      <a:pt x="396" y="162"/>
                    </a:lnTo>
                    <a:lnTo>
                      <a:pt x="427" y="133"/>
                    </a:lnTo>
                    <a:lnTo>
                      <a:pt x="456" y="105"/>
                    </a:lnTo>
                    <a:lnTo>
                      <a:pt x="486" y="76"/>
                    </a:lnTo>
                    <a:lnTo>
                      <a:pt x="514" y="45"/>
                    </a:lnTo>
                    <a:lnTo>
                      <a:pt x="541" y="15"/>
                    </a:lnTo>
                    <a:lnTo>
                      <a:pt x="536" y="3"/>
                    </a:lnTo>
                    <a:lnTo>
                      <a:pt x="532" y="0"/>
                    </a:lnTo>
                    <a:lnTo>
                      <a:pt x="505" y="31"/>
                    </a:lnTo>
                    <a:lnTo>
                      <a:pt x="476" y="61"/>
                    </a:lnTo>
                    <a:lnTo>
                      <a:pt x="447" y="91"/>
                    </a:lnTo>
                    <a:lnTo>
                      <a:pt x="416" y="120"/>
                    </a:lnTo>
                    <a:lnTo>
                      <a:pt x="386" y="148"/>
                    </a:lnTo>
                    <a:lnTo>
                      <a:pt x="354" y="175"/>
                    </a:lnTo>
                    <a:lnTo>
                      <a:pt x="322" y="202"/>
                    </a:lnTo>
                    <a:lnTo>
                      <a:pt x="289" y="227"/>
                    </a:lnTo>
                    <a:lnTo>
                      <a:pt x="256" y="251"/>
                    </a:lnTo>
                    <a:lnTo>
                      <a:pt x="221" y="275"/>
                    </a:lnTo>
                    <a:lnTo>
                      <a:pt x="185" y="297"/>
                    </a:lnTo>
                    <a:lnTo>
                      <a:pt x="149" y="319"/>
                    </a:lnTo>
                    <a:lnTo>
                      <a:pt x="114" y="340"/>
                    </a:lnTo>
                    <a:lnTo>
                      <a:pt x="76" y="360"/>
                    </a:lnTo>
                    <a:lnTo>
                      <a:pt x="38" y="378"/>
                    </a:lnTo>
                    <a:lnTo>
                      <a:pt x="0" y="396"/>
                    </a:lnTo>
                    <a:lnTo>
                      <a:pt x="1" y="397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10360" y="3006720"/>
                <a:ext cx="172800" cy="130320"/>
              </a:xfrm>
              <a:custGeom>
                <a:avLst/>
                <a:gdLst/>
                <a:ahLst/>
                <a:rect l="l" t="t" r="r" b="b"/>
                <a:pathLst>
                  <a:path w="543" h="408">
                    <a:moveTo>
                      <a:pt x="12" y="408"/>
                    </a:moveTo>
                    <a:lnTo>
                      <a:pt x="50" y="391"/>
                    </a:lnTo>
                    <a:lnTo>
                      <a:pt x="88" y="373"/>
                    </a:lnTo>
                    <a:lnTo>
                      <a:pt x="125" y="353"/>
                    </a:lnTo>
                    <a:lnTo>
                      <a:pt x="162" y="332"/>
                    </a:lnTo>
                    <a:lnTo>
                      <a:pt x="197" y="311"/>
                    </a:lnTo>
                    <a:lnTo>
                      <a:pt x="232" y="287"/>
                    </a:lnTo>
                    <a:lnTo>
                      <a:pt x="267" y="263"/>
                    </a:lnTo>
                    <a:lnTo>
                      <a:pt x="300" y="239"/>
                    </a:lnTo>
                    <a:lnTo>
                      <a:pt x="333" y="214"/>
                    </a:lnTo>
                    <a:lnTo>
                      <a:pt x="366" y="188"/>
                    </a:lnTo>
                    <a:lnTo>
                      <a:pt x="397" y="160"/>
                    </a:lnTo>
                    <a:lnTo>
                      <a:pt x="429" y="132"/>
                    </a:lnTo>
                    <a:lnTo>
                      <a:pt x="458" y="104"/>
                    </a:lnTo>
                    <a:lnTo>
                      <a:pt x="488" y="74"/>
                    </a:lnTo>
                    <a:lnTo>
                      <a:pt x="516" y="44"/>
                    </a:lnTo>
                    <a:lnTo>
                      <a:pt x="543" y="12"/>
                    </a:lnTo>
                    <a:lnTo>
                      <a:pt x="542" y="9"/>
                    </a:lnTo>
                    <a:lnTo>
                      <a:pt x="533" y="0"/>
                    </a:lnTo>
                    <a:lnTo>
                      <a:pt x="504" y="31"/>
                    </a:lnTo>
                    <a:lnTo>
                      <a:pt x="476" y="62"/>
                    </a:lnTo>
                    <a:lnTo>
                      <a:pt x="447" y="91"/>
                    </a:lnTo>
                    <a:lnTo>
                      <a:pt x="417" y="119"/>
                    </a:lnTo>
                    <a:lnTo>
                      <a:pt x="386" y="148"/>
                    </a:lnTo>
                    <a:lnTo>
                      <a:pt x="354" y="175"/>
                    </a:lnTo>
                    <a:lnTo>
                      <a:pt x="322" y="201"/>
                    </a:lnTo>
                    <a:lnTo>
                      <a:pt x="289" y="227"/>
                    </a:lnTo>
                    <a:lnTo>
                      <a:pt x="255" y="252"/>
                    </a:lnTo>
                    <a:lnTo>
                      <a:pt x="221" y="275"/>
                    </a:lnTo>
                    <a:lnTo>
                      <a:pt x="185" y="298"/>
                    </a:lnTo>
                    <a:lnTo>
                      <a:pt x="149" y="319"/>
                    </a:lnTo>
                    <a:lnTo>
                      <a:pt x="113" y="340"/>
                    </a:lnTo>
                    <a:lnTo>
                      <a:pt x="75" y="360"/>
                    </a:lnTo>
                    <a:lnTo>
                      <a:pt x="38" y="378"/>
                    </a:lnTo>
                    <a:lnTo>
                      <a:pt x="0" y="396"/>
                    </a:lnTo>
                    <a:lnTo>
                      <a:pt x="7" y="403"/>
                    </a:lnTo>
                    <a:lnTo>
                      <a:pt x="12" y="408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3259080" y="2382840"/>
              <a:ext cx="3195720" cy="1703520"/>
              <a:chOff x="3259080" y="2382840"/>
              <a:chExt cx="3195720" cy="1703520"/>
            </a:xfrm>
          </p:grpSpPr>
          <p:sp>
            <p:nvSpPr>
              <p:cNvPr id="1140" name=""/>
              <p:cNvSpPr/>
              <p:nvPr/>
            </p:nvSpPr>
            <p:spPr>
              <a:xfrm>
                <a:off x="6208560" y="300528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5" h="409">
                    <a:moveTo>
                      <a:pt x="13" y="409"/>
                    </a:moveTo>
                    <a:lnTo>
                      <a:pt x="51" y="391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2" y="332"/>
                    </a:lnTo>
                    <a:lnTo>
                      <a:pt x="198" y="310"/>
                    </a:lnTo>
                    <a:lnTo>
                      <a:pt x="234" y="288"/>
                    </a:lnTo>
                    <a:lnTo>
                      <a:pt x="269" y="264"/>
                    </a:lnTo>
                    <a:lnTo>
                      <a:pt x="302" y="240"/>
                    </a:lnTo>
                    <a:lnTo>
                      <a:pt x="335" y="215"/>
                    </a:lnTo>
                    <a:lnTo>
                      <a:pt x="367" y="188"/>
                    </a:lnTo>
                    <a:lnTo>
                      <a:pt x="399" y="161"/>
                    </a:lnTo>
                    <a:lnTo>
                      <a:pt x="429" y="133"/>
                    </a:lnTo>
                    <a:lnTo>
                      <a:pt x="460" y="104"/>
                    </a:lnTo>
                    <a:lnTo>
                      <a:pt x="489" y="74"/>
                    </a:lnTo>
                    <a:lnTo>
                      <a:pt x="518" y="44"/>
                    </a:lnTo>
                    <a:lnTo>
                      <a:pt x="545" y="13"/>
                    </a:lnTo>
                    <a:lnTo>
                      <a:pt x="533" y="0"/>
                    </a:lnTo>
                    <a:lnTo>
                      <a:pt x="506" y="32"/>
                    </a:lnTo>
                    <a:lnTo>
                      <a:pt x="478" y="62"/>
                    </a:lnTo>
                    <a:lnTo>
                      <a:pt x="448" y="92"/>
                    </a:lnTo>
                    <a:lnTo>
                      <a:pt x="418" y="121"/>
                    </a:lnTo>
                    <a:lnTo>
                      <a:pt x="387" y="149"/>
                    </a:lnTo>
                    <a:lnTo>
                      <a:pt x="356" y="176"/>
                    </a:lnTo>
                    <a:lnTo>
                      <a:pt x="323" y="202"/>
                    </a:lnTo>
                    <a:lnTo>
                      <a:pt x="290" y="228"/>
                    </a:lnTo>
                    <a:lnTo>
                      <a:pt x="256" y="252"/>
                    </a:lnTo>
                    <a:lnTo>
                      <a:pt x="221" y="276"/>
                    </a:lnTo>
                    <a:lnTo>
                      <a:pt x="187" y="299"/>
                    </a:lnTo>
                    <a:lnTo>
                      <a:pt x="150" y="320"/>
                    </a:lnTo>
                    <a:lnTo>
                      <a:pt x="114" y="341"/>
                    </a:lnTo>
                    <a:lnTo>
                      <a:pt x="76" y="361"/>
                    </a:lnTo>
                    <a:lnTo>
                      <a:pt x="38" y="380"/>
                    </a:lnTo>
                    <a:lnTo>
                      <a:pt x="0" y="396"/>
                    </a:lnTo>
                    <a:lnTo>
                      <a:pt x="13" y="40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205680" y="300348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547" h="409">
                    <a:moveTo>
                      <a:pt x="14" y="409"/>
                    </a:moveTo>
                    <a:lnTo>
                      <a:pt x="52" y="391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3" y="332"/>
                    </a:lnTo>
                    <a:lnTo>
                      <a:pt x="199" y="311"/>
                    </a:lnTo>
                    <a:lnTo>
                      <a:pt x="235" y="288"/>
                    </a:lnTo>
                    <a:lnTo>
                      <a:pt x="269" y="265"/>
                    </a:lnTo>
                    <a:lnTo>
                      <a:pt x="303" y="240"/>
                    </a:lnTo>
                    <a:lnTo>
                      <a:pt x="336" y="214"/>
                    </a:lnTo>
                    <a:lnTo>
                      <a:pt x="368" y="188"/>
                    </a:lnTo>
                    <a:lnTo>
                      <a:pt x="400" y="161"/>
                    </a:lnTo>
                    <a:lnTo>
                      <a:pt x="431" y="132"/>
                    </a:lnTo>
                    <a:lnTo>
                      <a:pt x="461" y="104"/>
                    </a:lnTo>
                    <a:lnTo>
                      <a:pt x="490" y="75"/>
                    </a:lnTo>
                    <a:lnTo>
                      <a:pt x="518" y="44"/>
                    </a:lnTo>
                    <a:lnTo>
                      <a:pt x="547" y="13"/>
                    </a:lnTo>
                    <a:lnTo>
                      <a:pt x="535" y="0"/>
                    </a:lnTo>
                    <a:lnTo>
                      <a:pt x="507" y="32"/>
                    </a:lnTo>
                    <a:lnTo>
                      <a:pt x="478" y="62"/>
                    </a:lnTo>
                    <a:lnTo>
                      <a:pt x="449" y="92"/>
                    </a:lnTo>
                    <a:lnTo>
                      <a:pt x="420" y="121"/>
                    </a:lnTo>
                    <a:lnTo>
                      <a:pt x="388" y="149"/>
                    </a:lnTo>
                    <a:lnTo>
                      <a:pt x="356" y="177"/>
                    </a:lnTo>
                    <a:lnTo>
                      <a:pt x="324" y="203"/>
                    </a:lnTo>
                    <a:lnTo>
                      <a:pt x="291" y="228"/>
                    </a:lnTo>
                    <a:lnTo>
                      <a:pt x="257" y="252"/>
                    </a:lnTo>
                    <a:lnTo>
                      <a:pt x="222" y="276"/>
                    </a:lnTo>
                    <a:lnTo>
                      <a:pt x="187" y="298"/>
                    </a:lnTo>
                    <a:lnTo>
                      <a:pt x="150" y="320"/>
                    </a:lnTo>
                    <a:lnTo>
                      <a:pt x="115" y="340"/>
                    </a:lnTo>
                    <a:lnTo>
                      <a:pt x="77" y="360"/>
                    </a:lnTo>
                    <a:lnTo>
                      <a:pt x="39" y="379"/>
                    </a:lnTo>
                    <a:lnTo>
                      <a:pt x="0" y="396"/>
                    </a:lnTo>
                    <a:lnTo>
                      <a:pt x="14" y="40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203880" y="3002040"/>
                <a:ext cx="173160" cy="128520"/>
              </a:xfrm>
              <a:custGeom>
                <a:avLst/>
                <a:gdLst/>
                <a:ahLst/>
                <a:rect l="l" t="t" r="r" b="b"/>
                <a:pathLst>
                  <a:path w="546" h="408">
                    <a:moveTo>
                      <a:pt x="13" y="408"/>
                    </a:moveTo>
                    <a:lnTo>
                      <a:pt x="51" y="392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3" y="332"/>
                    </a:lnTo>
                    <a:lnTo>
                      <a:pt x="200" y="311"/>
                    </a:lnTo>
                    <a:lnTo>
                      <a:pt x="234" y="288"/>
                    </a:lnTo>
                    <a:lnTo>
                      <a:pt x="269" y="264"/>
                    </a:lnTo>
                    <a:lnTo>
                      <a:pt x="303" y="240"/>
                    </a:lnTo>
                    <a:lnTo>
                      <a:pt x="336" y="214"/>
                    </a:lnTo>
                    <a:lnTo>
                      <a:pt x="369" y="188"/>
                    </a:lnTo>
                    <a:lnTo>
                      <a:pt x="400" y="161"/>
                    </a:lnTo>
                    <a:lnTo>
                      <a:pt x="431" y="133"/>
                    </a:lnTo>
                    <a:lnTo>
                      <a:pt x="461" y="104"/>
                    </a:lnTo>
                    <a:lnTo>
                      <a:pt x="491" y="74"/>
                    </a:lnTo>
                    <a:lnTo>
                      <a:pt x="519" y="44"/>
                    </a:lnTo>
                    <a:lnTo>
                      <a:pt x="546" y="12"/>
                    </a:lnTo>
                    <a:lnTo>
                      <a:pt x="535" y="0"/>
                    </a:lnTo>
                    <a:lnTo>
                      <a:pt x="508" y="31"/>
                    </a:lnTo>
                    <a:lnTo>
                      <a:pt x="479" y="62"/>
                    </a:lnTo>
                    <a:lnTo>
                      <a:pt x="450" y="92"/>
                    </a:lnTo>
                    <a:lnTo>
                      <a:pt x="419" y="121"/>
                    </a:lnTo>
                    <a:lnTo>
                      <a:pt x="389" y="149"/>
                    </a:lnTo>
                    <a:lnTo>
                      <a:pt x="356" y="176"/>
                    </a:lnTo>
                    <a:lnTo>
                      <a:pt x="325" y="203"/>
                    </a:lnTo>
                    <a:lnTo>
                      <a:pt x="291" y="228"/>
                    </a:lnTo>
                    <a:lnTo>
                      <a:pt x="257" y="253"/>
                    </a:lnTo>
                    <a:lnTo>
                      <a:pt x="222" y="276"/>
                    </a:lnTo>
                    <a:lnTo>
                      <a:pt x="187" y="298"/>
                    </a:lnTo>
                    <a:lnTo>
                      <a:pt x="151" y="320"/>
                    </a:lnTo>
                    <a:lnTo>
                      <a:pt x="114" y="341"/>
                    </a:lnTo>
                    <a:lnTo>
                      <a:pt x="77" y="360"/>
                    </a:lnTo>
                    <a:lnTo>
                      <a:pt x="39" y="379"/>
                    </a:lnTo>
                    <a:lnTo>
                      <a:pt x="0" y="396"/>
                    </a:lnTo>
                    <a:lnTo>
                      <a:pt x="13" y="40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02440" y="3000240"/>
                <a:ext cx="172800" cy="128880"/>
              </a:xfrm>
              <a:custGeom>
                <a:avLst/>
                <a:gdLst/>
                <a:ahLst/>
                <a:rect l="l" t="t" r="r" b="b"/>
                <a:pathLst>
                  <a:path w="547" h="407">
                    <a:moveTo>
                      <a:pt x="12" y="407"/>
                    </a:moveTo>
                    <a:lnTo>
                      <a:pt x="51" y="390"/>
                    </a:lnTo>
                    <a:lnTo>
                      <a:pt x="89" y="371"/>
                    </a:lnTo>
                    <a:lnTo>
                      <a:pt x="127" y="351"/>
                    </a:lnTo>
                    <a:lnTo>
                      <a:pt x="162" y="331"/>
                    </a:lnTo>
                    <a:lnTo>
                      <a:pt x="199" y="309"/>
                    </a:lnTo>
                    <a:lnTo>
                      <a:pt x="234" y="287"/>
                    </a:lnTo>
                    <a:lnTo>
                      <a:pt x="269" y="263"/>
                    </a:lnTo>
                    <a:lnTo>
                      <a:pt x="303" y="239"/>
                    </a:lnTo>
                    <a:lnTo>
                      <a:pt x="336" y="214"/>
                    </a:lnTo>
                    <a:lnTo>
                      <a:pt x="368" y="188"/>
                    </a:lnTo>
                    <a:lnTo>
                      <a:pt x="400" y="160"/>
                    </a:lnTo>
                    <a:lnTo>
                      <a:pt x="432" y="132"/>
                    </a:lnTo>
                    <a:lnTo>
                      <a:pt x="461" y="103"/>
                    </a:lnTo>
                    <a:lnTo>
                      <a:pt x="490" y="73"/>
                    </a:lnTo>
                    <a:lnTo>
                      <a:pt x="519" y="43"/>
                    </a:lnTo>
                    <a:lnTo>
                      <a:pt x="547" y="11"/>
                    </a:lnTo>
                    <a:lnTo>
                      <a:pt x="536" y="0"/>
                    </a:lnTo>
                    <a:lnTo>
                      <a:pt x="507" y="31"/>
                    </a:lnTo>
                    <a:lnTo>
                      <a:pt x="479" y="62"/>
                    </a:lnTo>
                    <a:lnTo>
                      <a:pt x="449" y="91"/>
                    </a:lnTo>
                    <a:lnTo>
                      <a:pt x="420" y="120"/>
                    </a:lnTo>
                    <a:lnTo>
                      <a:pt x="388" y="148"/>
                    </a:lnTo>
                    <a:lnTo>
                      <a:pt x="357" y="175"/>
                    </a:lnTo>
                    <a:lnTo>
                      <a:pt x="324" y="201"/>
                    </a:lnTo>
                    <a:lnTo>
                      <a:pt x="291" y="226"/>
                    </a:lnTo>
                    <a:lnTo>
                      <a:pt x="257" y="252"/>
                    </a:lnTo>
                    <a:lnTo>
                      <a:pt x="222" y="275"/>
                    </a:lnTo>
                    <a:lnTo>
                      <a:pt x="187" y="298"/>
                    </a:lnTo>
                    <a:lnTo>
                      <a:pt x="151" y="319"/>
                    </a:lnTo>
                    <a:lnTo>
                      <a:pt x="114" y="340"/>
                    </a:lnTo>
                    <a:lnTo>
                      <a:pt x="76" y="359"/>
                    </a:lnTo>
                    <a:lnTo>
                      <a:pt x="38" y="378"/>
                    </a:lnTo>
                    <a:lnTo>
                      <a:pt x="0" y="394"/>
                    </a:lnTo>
                    <a:lnTo>
                      <a:pt x="12" y="40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200640" y="299736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8" h="408">
                    <a:moveTo>
                      <a:pt x="13" y="408"/>
                    </a:moveTo>
                    <a:lnTo>
                      <a:pt x="52" y="391"/>
                    </a:lnTo>
                    <a:lnTo>
                      <a:pt x="90" y="372"/>
                    </a:lnTo>
                    <a:lnTo>
                      <a:pt x="127" y="353"/>
                    </a:lnTo>
                    <a:lnTo>
                      <a:pt x="164" y="332"/>
                    </a:lnTo>
                    <a:lnTo>
                      <a:pt x="200" y="310"/>
                    </a:lnTo>
                    <a:lnTo>
                      <a:pt x="235" y="288"/>
                    </a:lnTo>
                    <a:lnTo>
                      <a:pt x="270" y="265"/>
                    </a:lnTo>
                    <a:lnTo>
                      <a:pt x="304" y="240"/>
                    </a:lnTo>
                    <a:lnTo>
                      <a:pt x="338" y="215"/>
                    </a:lnTo>
                    <a:lnTo>
                      <a:pt x="369" y="188"/>
                    </a:lnTo>
                    <a:lnTo>
                      <a:pt x="402" y="161"/>
                    </a:lnTo>
                    <a:lnTo>
                      <a:pt x="432" y="133"/>
                    </a:lnTo>
                    <a:lnTo>
                      <a:pt x="463" y="104"/>
                    </a:lnTo>
                    <a:lnTo>
                      <a:pt x="492" y="74"/>
                    </a:lnTo>
                    <a:lnTo>
                      <a:pt x="521" y="43"/>
                    </a:lnTo>
                    <a:lnTo>
                      <a:pt x="548" y="12"/>
                    </a:lnTo>
                    <a:lnTo>
                      <a:pt x="536" y="0"/>
                    </a:lnTo>
                    <a:lnTo>
                      <a:pt x="509" y="32"/>
                    </a:lnTo>
                    <a:lnTo>
                      <a:pt x="481" y="62"/>
                    </a:lnTo>
                    <a:lnTo>
                      <a:pt x="451" y="92"/>
                    </a:lnTo>
                    <a:lnTo>
                      <a:pt x="421" y="121"/>
                    </a:lnTo>
                    <a:lnTo>
                      <a:pt x="389" y="149"/>
                    </a:lnTo>
                    <a:lnTo>
                      <a:pt x="358" y="177"/>
                    </a:lnTo>
                    <a:lnTo>
                      <a:pt x="325" y="203"/>
                    </a:lnTo>
                    <a:lnTo>
                      <a:pt x="292" y="228"/>
                    </a:lnTo>
                    <a:lnTo>
                      <a:pt x="258" y="252"/>
                    </a:lnTo>
                    <a:lnTo>
                      <a:pt x="223" y="275"/>
                    </a:lnTo>
                    <a:lnTo>
                      <a:pt x="187" y="299"/>
                    </a:lnTo>
                    <a:lnTo>
                      <a:pt x="152" y="320"/>
                    </a:lnTo>
                    <a:lnTo>
                      <a:pt x="115" y="341"/>
                    </a:lnTo>
                    <a:lnTo>
                      <a:pt x="77" y="359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3" y="40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197760" y="2995560"/>
                <a:ext cx="174600" cy="128520"/>
              </a:xfrm>
              <a:custGeom>
                <a:avLst/>
                <a:gdLst/>
                <a:ahLst/>
                <a:rect l="l" t="t" r="r" b="b"/>
                <a:pathLst>
                  <a:path w="549" h="407">
                    <a:moveTo>
                      <a:pt x="13" y="407"/>
                    </a:moveTo>
                    <a:lnTo>
                      <a:pt x="51" y="391"/>
                    </a:lnTo>
                    <a:lnTo>
                      <a:pt x="89" y="372"/>
                    </a:lnTo>
                    <a:lnTo>
                      <a:pt x="127" y="353"/>
                    </a:lnTo>
                    <a:lnTo>
                      <a:pt x="164" y="332"/>
                    </a:lnTo>
                    <a:lnTo>
                      <a:pt x="200" y="311"/>
                    </a:lnTo>
                    <a:lnTo>
                      <a:pt x="235" y="288"/>
                    </a:lnTo>
                    <a:lnTo>
                      <a:pt x="270" y="265"/>
                    </a:lnTo>
                    <a:lnTo>
                      <a:pt x="304" y="239"/>
                    </a:lnTo>
                    <a:lnTo>
                      <a:pt x="337" y="214"/>
                    </a:lnTo>
                    <a:lnTo>
                      <a:pt x="370" y="188"/>
                    </a:lnTo>
                    <a:lnTo>
                      <a:pt x="401" y="161"/>
                    </a:lnTo>
                    <a:lnTo>
                      <a:pt x="433" y="133"/>
                    </a:lnTo>
                    <a:lnTo>
                      <a:pt x="462" y="104"/>
                    </a:lnTo>
                    <a:lnTo>
                      <a:pt x="492" y="75"/>
                    </a:lnTo>
                    <a:lnTo>
                      <a:pt x="520" y="44"/>
                    </a:lnTo>
                    <a:lnTo>
                      <a:pt x="549" y="13"/>
                    </a:lnTo>
                    <a:lnTo>
                      <a:pt x="537" y="0"/>
                    </a:lnTo>
                    <a:lnTo>
                      <a:pt x="509" y="32"/>
                    </a:lnTo>
                    <a:lnTo>
                      <a:pt x="480" y="62"/>
                    </a:lnTo>
                    <a:lnTo>
                      <a:pt x="451" y="92"/>
                    </a:lnTo>
                    <a:lnTo>
                      <a:pt x="420" y="121"/>
                    </a:lnTo>
                    <a:lnTo>
                      <a:pt x="390" y="149"/>
                    </a:lnTo>
                    <a:lnTo>
                      <a:pt x="358" y="176"/>
                    </a:lnTo>
                    <a:lnTo>
                      <a:pt x="326" y="203"/>
                    </a:lnTo>
                    <a:lnTo>
                      <a:pt x="292" y="228"/>
                    </a:lnTo>
                    <a:lnTo>
                      <a:pt x="257" y="252"/>
                    </a:lnTo>
                    <a:lnTo>
                      <a:pt x="223" y="276"/>
                    </a:lnTo>
                    <a:lnTo>
                      <a:pt x="187" y="298"/>
                    </a:lnTo>
                    <a:lnTo>
                      <a:pt x="151" y="320"/>
                    </a:lnTo>
                    <a:lnTo>
                      <a:pt x="114" y="340"/>
                    </a:lnTo>
                    <a:lnTo>
                      <a:pt x="77" y="359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3" y="40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195960" y="2994120"/>
                <a:ext cx="174600" cy="128520"/>
              </a:xfrm>
              <a:custGeom>
                <a:avLst/>
                <a:gdLst/>
                <a:ahLst/>
                <a:rect l="l" t="t" r="r" b="b"/>
                <a:pathLst>
                  <a:path w="549" h="407">
                    <a:moveTo>
                      <a:pt x="13" y="407"/>
                    </a:moveTo>
                    <a:lnTo>
                      <a:pt x="52" y="390"/>
                    </a:lnTo>
                    <a:lnTo>
                      <a:pt x="90" y="371"/>
                    </a:lnTo>
                    <a:lnTo>
                      <a:pt x="128" y="353"/>
                    </a:lnTo>
                    <a:lnTo>
                      <a:pt x="165" y="332"/>
                    </a:lnTo>
                    <a:lnTo>
                      <a:pt x="200" y="311"/>
                    </a:lnTo>
                    <a:lnTo>
                      <a:pt x="236" y="287"/>
                    </a:lnTo>
                    <a:lnTo>
                      <a:pt x="271" y="264"/>
                    </a:lnTo>
                    <a:lnTo>
                      <a:pt x="305" y="240"/>
                    </a:lnTo>
                    <a:lnTo>
                      <a:pt x="338" y="215"/>
                    </a:lnTo>
                    <a:lnTo>
                      <a:pt x="371" y="189"/>
                    </a:lnTo>
                    <a:lnTo>
                      <a:pt x="402" y="161"/>
                    </a:lnTo>
                    <a:lnTo>
                      <a:pt x="434" y="133"/>
                    </a:lnTo>
                    <a:lnTo>
                      <a:pt x="464" y="104"/>
                    </a:lnTo>
                    <a:lnTo>
                      <a:pt x="494" y="74"/>
                    </a:lnTo>
                    <a:lnTo>
                      <a:pt x="522" y="44"/>
                    </a:lnTo>
                    <a:lnTo>
                      <a:pt x="549" y="12"/>
                    </a:lnTo>
                    <a:lnTo>
                      <a:pt x="538" y="0"/>
                    </a:lnTo>
                    <a:lnTo>
                      <a:pt x="510" y="31"/>
                    </a:lnTo>
                    <a:lnTo>
                      <a:pt x="482" y="62"/>
                    </a:lnTo>
                    <a:lnTo>
                      <a:pt x="453" y="92"/>
                    </a:lnTo>
                    <a:lnTo>
                      <a:pt x="422" y="122"/>
                    </a:lnTo>
                    <a:lnTo>
                      <a:pt x="391" y="149"/>
                    </a:lnTo>
                    <a:lnTo>
                      <a:pt x="359" y="176"/>
                    </a:lnTo>
                    <a:lnTo>
                      <a:pt x="326" y="202"/>
                    </a:lnTo>
                    <a:lnTo>
                      <a:pt x="293" y="228"/>
                    </a:lnTo>
                    <a:lnTo>
                      <a:pt x="259" y="253"/>
                    </a:lnTo>
                    <a:lnTo>
                      <a:pt x="223" y="276"/>
                    </a:lnTo>
                    <a:lnTo>
                      <a:pt x="188" y="298"/>
                    </a:lnTo>
                    <a:lnTo>
                      <a:pt x="152" y="320"/>
                    </a:lnTo>
                    <a:lnTo>
                      <a:pt x="115" y="340"/>
                    </a:lnTo>
                    <a:lnTo>
                      <a:pt x="77" y="360"/>
                    </a:lnTo>
                    <a:lnTo>
                      <a:pt x="38" y="378"/>
                    </a:lnTo>
                    <a:lnTo>
                      <a:pt x="0" y="395"/>
                    </a:lnTo>
                    <a:lnTo>
                      <a:pt x="13" y="40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194520" y="299088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550" h="408">
                    <a:moveTo>
                      <a:pt x="14" y="408"/>
                    </a:moveTo>
                    <a:lnTo>
                      <a:pt x="53" y="391"/>
                    </a:lnTo>
                    <a:lnTo>
                      <a:pt x="91" y="372"/>
                    </a:lnTo>
                    <a:lnTo>
                      <a:pt x="128" y="353"/>
                    </a:lnTo>
                    <a:lnTo>
                      <a:pt x="165" y="333"/>
                    </a:lnTo>
                    <a:lnTo>
                      <a:pt x="201" y="311"/>
                    </a:lnTo>
                    <a:lnTo>
                      <a:pt x="237" y="289"/>
                    </a:lnTo>
                    <a:lnTo>
                      <a:pt x="271" y="265"/>
                    </a:lnTo>
                    <a:lnTo>
                      <a:pt x="306" y="241"/>
                    </a:lnTo>
                    <a:lnTo>
                      <a:pt x="339" y="216"/>
                    </a:lnTo>
                    <a:lnTo>
                      <a:pt x="372" y="189"/>
                    </a:lnTo>
                    <a:lnTo>
                      <a:pt x="404" y="162"/>
                    </a:lnTo>
                    <a:lnTo>
                      <a:pt x="434" y="134"/>
                    </a:lnTo>
                    <a:lnTo>
                      <a:pt x="465" y="105"/>
                    </a:lnTo>
                    <a:lnTo>
                      <a:pt x="494" y="75"/>
                    </a:lnTo>
                    <a:lnTo>
                      <a:pt x="523" y="45"/>
                    </a:lnTo>
                    <a:lnTo>
                      <a:pt x="550" y="13"/>
                    </a:lnTo>
                    <a:lnTo>
                      <a:pt x="541" y="3"/>
                    </a:lnTo>
                    <a:lnTo>
                      <a:pt x="539" y="0"/>
                    </a:lnTo>
                    <a:lnTo>
                      <a:pt x="512" y="32"/>
                    </a:lnTo>
                    <a:lnTo>
                      <a:pt x="483" y="62"/>
                    </a:lnTo>
                    <a:lnTo>
                      <a:pt x="453" y="93"/>
                    </a:lnTo>
                    <a:lnTo>
                      <a:pt x="424" y="121"/>
                    </a:lnTo>
                    <a:lnTo>
                      <a:pt x="392" y="150"/>
                    </a:lnTo>
                    <a:lnTo>
                      <a:pt x="361" y="177"/>
                    </a:lnTo>
                    <a:lnTo>
                      <a:pt x="327" y="203"/>
                    </a:lnTo>
                    <a:lnTo>
                      <a:pt x="295" y="229"/>
                    </a:lnTo>
                    <a:lnTo>
                      <a:pt x="260" y="253"/>
                    </a:lnTo>
                    <a:lnTo>
                      <a:pt x="225" y="277"/>
                    </a:lnTo>
                    <a:lnTo>
                      <a:pt x="189" y="300"/>
                    </a:lnTo>
                    <a:lnTo>
                      <a:pt x="153" y="321"/>
                    </a:lnTo>
                    <a:lnTo>
                      <a:pt x="116" y="341"/>
                    </a:lnTo>
                    <a:lnTo>
                      <a:pt x="78" y="361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4" y="408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191280" y="2989440"/>
                <a:ext cx="176040" cy="129960"/>
              </a:xfrm>
              <a:custGeom>
                <a:avLst/>
                <a:gdLst/>
                <a:ahLst/>
                <a:rect l="l" t="t" r="r" b="b"/>
                <a:pathLst>
                  <a:path w="551" h="410">
                    <a:moveTo>
                      <a:pt x="13" y="410"/>
                    </a:moveTo>
                    <a:lnTo>
                      <a:pt x="51" y="393"/>
                    </a:lnTo>
                    <a:lnTo>
                      <a:pt x="90" y="375"/>
                    </a:lnTo>
                    <a:lnTo>
                      <a:pt x="128" y="355"/>
                    </a:lnTo>
                    <a:lnTo>
                      <a:pt x="165" y="335"/>
                    </a:lnTo>
                    <a:lnTo>
                      <a:pt x="201" y="313"/>
                    </a:lnTo>
                    <a:lnTo>
                      <a:pt x="236" y="291"/>
                    </a:lnTo>
                    <a:lnTo>
                      <a:pt x="272" y="268"/>
                    </a:lnTo>
                    <a:lnTo>
                      <a:pt x="306" y="243"/>
                    </a:lnTo>
                    <a:lnTo>
                      <a:pt x="339" y="217"/>
                    </a:lnTo>
                    <a:lnTo>
                      <a:pt x="372" y="191"/>
                    </a:lnTo>
                    <a:lnTo>
                      <a:pt x="404" y="164"/>
                    </a:lnTo>
                    <a:lnTo>
                      <a:pt x="435" y="137"/>
                    </a:lnTo>
                    <a:lnTo>
                      <a:pt x="466" y="107"/>
                    </a:lnTo>
                    <a:lnTo>
                      <a:pt x="495" y="77"/>
                    </a:lnTo>
                    <a:lnTo>
                      <a:pt x="523" y="46"/>
                    </a:lnTo>
                    <a:lnTo>
                      <a:pt x="551" y="15"/>
                    </a:lnTo>
                    <a:lnTo>
                      <a:pt x="547" y="11"/>
                    </a:lnTo>
                    <a:lnTo>
                      <a:pt x="541" y="0"/>
                    </a:lnTo>
                    <a:lnTo>
                      <a:pt x="513" y="33"/>
                    </a:lnTo>
                    <a:lnTo>
                      <a:pt x="485" y="63"/>
                    </a:lnTo>
                    <a:lnTo>
                      <a:pt x="455" y="93"/>
                    </a:lnTo>
                    <a:lnTo>
                      <a:pt x="425" y="123"/>
                    </a:lnTo>
                    <a:lnTo>
                      <a:pt x="394" y="151"/>
                    </a:lnTo>
                    <a:lnTo>
                      <a:pt x="362" y="179"/>
                    </a:lnTo>
                    <a:lnTo>
                      <a:pt x="329" y="205"/>
                    </a:lnTo>
                    <a:lnTo>
                      <a:pt x="295" y="230"/>
                    </a:lnTo>
                    <a:lnTo>
                      <a:pt x="261" y="255"/>
                    </a:lnTo>
                    <a:lnTo>
                      <a:pt x="226" y="278"/>
                    </a:lnTo>
                    <a:lnTo>
                      <a:pt x="189" y="300"/>
                    </a:lnTo>
                    <a:lnTo>
                      <a:pt x="153" y="322"/>
                    </a:lnTo>
                    <a:lnTo>
                      <a:pt x="116" y="342"/>
                    </a:lnTo>
                    <a:lnTo>
                      <a:pt x="78" y="362"/>
                    </a:lnTo>
                    <a:lnTo>
                      <a:pt x="39" y="380"/>
                    </a:lnTo>
                    <a:lnTo>
                      <a:pt x="0" y="397"/>
                    </a:lnTo>
                    <a:lnTo>
                      <a:pt x="13" y="410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89840" y="2986200"/>
                <a:ext cx="174600" cy="129960"/>
              </a:xfrm>
              <a:custGeom>
                <a:avLst/>
                <a:gdLst/>
                <a:ahLst/>
                <a:rect l="l" t="t" r="r" b="b"/>
                <a:pathLst>
                  <a:path w="551" h="410">
                    <a:moveTo>
                      <a:pt x="12" y="410"/>
                    </a:moveTo>
                    <a:lnTo>
                      <a:pt x="51" y="393"/>
                    </a:lnTo>
                    <a:lnTo>
                      <a:pt x="90" y="376"/>
                    </a:lnTo>
                    <a:lnTo>
                      <a:pt x="128" y="356"/>
                    </a:lnTo>
                    <a:lnTo>
                      <a:pt x="165" y="336"/>
                    </a:lnTo>
                    <a:lnTo>
                      <a:pt x="201" y="315"/>
                    </a:lnTo>
                    <a:lnTo>
                      <a:pt x="237" y="292"/>
                    </a:lnTo>
                    <a:lnTo>
                      <a:pt x="272" y="268"/>
                    </a:lnTo>
                    <a:lnTo>
                      <a:pt x="307" y="244"/>
                    </a:lnTo>
                    <a:lnTo>
                      <a:pt x="339" y="218"/>
                    </a:lnTo>
                    <a:lnTo>
                      <a:pt x="373" y="192"/>
                    </a:lnTo>
                    <a:lnTo>
                      <a:pt x="404" y="165"/>
                    </a:lnTo>
                    <a:lnTo>
                      <a:pt x="436" y="136"/>
                    </a:lnTo>
                    <a:lnTo>
                      <a:pt x="465" y="108"/>
                    </a:lnTo>
                    <a:lnTo>
                      <a:pt x="495" y="77"/>
                    </a:lnTo>
                    <a:lnTo>
                      <a:pt x="524" y="47"/>
                    </a:lnTo>
                    <a:lnTo>
                      <a:pt x="551" y="15"/>
                    </a:lnTo>
                    <a:lnTo>
                      <a:pt x="543" y="0"/>
                    </a:lnTo>
                    <a:lnTo>
                      <a:pt x="515" y="31"/>
                    </a:lnTo>
                    <a:lnTo>
                      <a:pt x="486" y="63"/>
                    </a:lnTo>
                    <a:lnTo>
                      <a:pt x="457" y="93"/>
                    </a:lnTo>
                    <a:lnTo>
                      <a:pt x="426" y="123"/>
                    </a:lnTo>
                    <a:lnTo>
                      <a:pt x="395" y="151"/>
                    </a:lnTo>
                    <a:lnTo>
                      <a:pt x="363" y="178"/>
                    </a:lnTo>
                    <a:lnTo>
                      <a:pt x="330" y="204"/>
                    </a:lnTo>
                    <a:lnTo>
                      <a:pt x="296" y="231"/>
                    </a:lnTo>
                    <a:lnTo>
                      <a:pt x="261" y="255"/>
                    </a:lnTo>
                    <a:lnTo>
                      <a:pt x="226" y="279"/>
                    </a:lnTo>
                    <a:lnTo>
                      <a:pt x="190" y="301"/>
                    </a:lnTo>
                    <a:lnTo>
                      <a:pt x="153" y="323"/>
                    </a:lnTo>
                    <a:lnTo>
                      <a:pt x="115" y="343"/>
                    </a:lnTo>
                    <a:lnTo>
                      <a:pt x="77" y="363"/>
                    </a:lnTo>
                    <a:lnTo>
                      <a:pt x="39" y="381"/>
                    </a:lnTo>
                    <a:lnTo>
                      <a:pt x="0" y="398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188040" y="2984400"/>
                <a:ext cx="176400" cy="130320"/>
              </a:xfrm>
              <a:custGeom>
                <a:avLst/>
                <a:gdLst/>
                <a:ahLst/>
                <a:rect l="l" t="t" r="r" b="b"/>
                <a:pathLst>
                  <a:path w="555" h="413">
                    <a:moveTo>
                      <a:pt x="14" y="413"/>
                    </a:moveTo>
                    <a:lnTo>
                      <a:pt x="53" y="396"/>
                    </a:lnTo>
                    <a:lnTo>
                      <a:pt x="92" y="378"/>
                    </a:lnTo>
                    <a:lnTo>
                      <a:pt x="130" y="358"/>
                    </a:lnTo>
                    <a:lnTo>
                      <a:pt x="167" y="338"/>
                    </a:lnTo>
                    <a:lnTo>
                      <a:pt x="203" y="316"/>
                    </a:lnTo>
                    <a:lnTo>
                      <a:pt x="240" y="294"/>
                    </a:lnTo>
                    <a:lnTo>
                      <a:pt x="275" y="271"/>
                    </a:lnTo>
                    <a:lnTo>
                      <a:pt x="309" y="246"/>
                    </a:lnTo>
                    <a:lnTo>
                      <a:pt x="343" y="221"/>
                    </a:lnTo>
                    <a:lnTo>
                      <a:pt x="376" y="195"/>
                    </a:lnTo>
                    <a:lnTo>
                      <a:pt x="408" y="167"/>
                    </a:lnTo>
                    <a:lnTo>
                      <a:pt x="439" y="139"/>
                    </a:lnTo>
                    <a:lnTo>
                      <a:pt x="469" y="109"/>
                    </a:lnTo>
                    <a:lnTo>
                      <a:pt x="499" y="79"/>
                    </a:lnTo>
                    <a:lnTo>
                      <a:pt x="527" y="49"/>
                    </a:lnTo>
                    <a:lnTo>
                      <a:pt x="555" y="16"/>
                    </a:lnTo>
                    <a:lnTo>
                      <a:pt x="547" y="0"/>
                    </a:lnTo>
                    <a:lnTo>
                      <a:pt x="518" y="33"/>
                    </a:lnTo>
                    <a:lnTo>
                      <a:pt x="490" y="63"/>
                    </a:lnTo>
                    <a:lnTo>
                      <a:pt x="461" y="95"/>
                    </a:lnTo>
                    <a:lnTo>
                      <a:pt x="430" y="124"/>
                    </a:lnTo>
                    <a:lnTo>
                      <a:pt x="399" y="153"/>
                    </a:lnTo>
                    <a:lnTo>
                      <a:pt x="366" y="180"/>
                    </a:lnTo>
                    <a:lnTo>
                      <a:pt x="332" y="207"/>
                    </a:lnTo>
                    <a:lnTo>
                      <a:pt x="299" y="232"/>
                    </a:lnTo>
                    <a:lnTo>
                      <a:pt x="264" y="258"/>
                    </a:lnTo>
                    <a:lnTo>
                      <a:pt x="228" y="281"/>
                    </a:lnTo>
                    <a:lnTo>
                      <a:pt x="193" y="304"/>
                    </a:lnTo>
                    <a:lnTo>
                      <a:pt x="156" y="326"/>
                    </a:lnTo>
                    <a:lnTo>
                      <a:pt x="118" y="346"/>
                    </a:lnTo>
                    <a:lnTo>
                      <a:pt x="79" y="365"/>
                    </a:lnTo>
                    <a:lnTo>
                      <a:pt x="40" y="384"/>
                    </a:lnTo>
                    <a:lnTo>
                      <a:pt x="0" y="400"/>
                    </a:lnTo>
                    <a:lnTo>
                      <a:pt x="14" y="413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84800" y="298116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557" h="415">
                    <a:moveTo>
                      <a:pt x="14" y="415"/>
                    </a:moveTo>
                    <a:lnTo>
                      <a:pt x="53" y="398"/>
                    </a:lnTo>
                    <a:lnTo>
                      <a:pt x="91" y="380"/>
                    </a:lnTo>
                    <a:lnTo>
                      <a:pt x="129" y="360"/>
                    </a:lnTo>
                    <a:lnTo>
                      <a:pt x="167" y="340"/>
                    </a:lnTo>
                    <a:lnTo>
                      <a:pt x="204" y="318"/>
                    </a:lnTo>
                    <a:lnTo>
                      <a:pt x="240" y="296"/>
                    </a:lnTo>
                    <a:lnTo>
                      <a:pt x="275" y="272"/>
                    </a:lnTo>
                    <a:lnTo>
                      <a:pt x="310" y="248"/>
                    </a:lnTo>
                    <a:lnTo>
                      <a:pt x="344" y="221"/>
                    </a:lnTo>
                    <a:lnTo>
                      <a:pt x="377" y="195"/>
                    </a:lnTo>
                    <a:lnTo>
                      <a:pt x="409" y="168"/>
                    </a:lnTo>
                    <a:lnTo>
                      <a:pt x="440" y="140"/>
                    </a:lnTo>
                    <a:lnTo>
                      <a:pt x="471" y="110"/>
                    </a:lnTo>
                    <a:lnTo>
                      <a:pt x="500" y="80"/>
                    </a:lnTo>
                    <a:lnTo>
                      <a:pt x="529" y="48"/>
                    </a:lnTo>
                    <a:lnTo>
                      <a:pt x="557" y="17"/>
                    </a:lnTo>
                    <a:lnTo>
                      <a:pt x="549" y="0"/>
                    </a:lnTo>
                    <a:lnTo>
                      <a:pt x="520" y="32"/>
                    </a:lnTo>
                    <a:lnTo>
                      <a:pt x="492" y="64"/>
                    </a:lnTo>
                    <a:lnTo>
                      <a:pt x="462" y="95"/>
                    </a:lnTo>
                    <a:lnTo>
                      <a:pt x="431" y="125"/>
                    </a:lnTo>
                    <a:lnTo>
                      <a:pt x="399" y="153"/>
                    </a:lnTo>
                    <a:lnTo>
                      <a:pt x="368" y="182"/>
                    </a:lnTo>
                    <a:lnTo>
                      <a:pt x="334" y="208"/>
                    </a:lnTo>
                    <a:lnTo>
                      <a:pt x="301" y="234"/>
                    </a:lnTo>
                    <a:lnTo>
                      <a:pt x="265" y="259"/>
                    </a:lnTo>
                    <a:lnTo>
                      <a:pt x="229" y="282"/>
                    </a:lnTo>
                    <a:lnTo>
                      <a:pt x="193" y="305"/>
                    </a:lnTo>
                    <a:lnTo>
                      <a:pt x="156" y="327"/>
                    </a:lnTo>
                    <a:lnTo>
                      <a:pt x="118" y="347"/>
                    </a:lnTo>
                    <a:lnTo>
                      <a:pt x="80" y="366"/>
                    </a:lnTo>
                    <a:lnTo>
                      <a:pt x="40" y="385"/>
                    </a:lnTo>
                    <a:lnTo>
                      <a:pt x="0" y="402"/>
                    </a:lnTo>
                    <a:lnTo>
                      <a:pt x="14" y="415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183360" y="29797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558" h="415">
                    <a:moveTo>
                      <a:pt x="11" y="415"/>
                    </a:moveTo>
                    <a:lnTo>
                      <a:pt x="51" y="399"/>
                    </a:lnTo>
                    <a:lnTo>
                      <a:pt x="90" y="380"/>
                    </a:lnTo>
                    <a:lnTo>
                      <a:pt x="129" y="361"/>
                    </a:lnTo>
                    <a:lnTo>
                      <a:pt x="167" y="341"/>
                    </a:lnTo>
                    <a:lnTo>
                      <a:pt x="204" y="319"/>
                    </a:lnTo>
                    <a:lnTo>
                      <a:pt x="239" y="296"/>
                    </a:lnTo>
                    <a:lnTo>
                      <a:pt x="275" y="273"/>
                    </a:lnTo>
                    <a:lnTo>
                      <a:pt x="310" y="247"/>
                    </a:lnTo>
                    <a:lnTo>
                      <a:pt x="343" y="222"/>
                    </a:lnTo>
                    <a:lnTo>
                      <a:pt x="377" y="195"/>
                    </a:lnTo>
                    <a:lnTo>
                      <a:pt x="410" y="168"/>
                    </a:lnTo>
                    <a:lnTo>
                      <a:pt x="441" y="139"/>
                    </a:lnTo>
                    <a:lnTo>
                      <a:pt x="472" y="110"/>
                    </a:lnTo>
                    <a:lnTo>
                      <a:pt x="501" y="78"/>
                    </a:lnTo>
                    <a:lnTo>
                      <a:pt x="529" y="48"/>
                    </a:lnTo>
                    <a:lnTo>
                      <a:pt x="558" y="15"/>
                    </a:lnTo>
                    <a:lnTo>
                      <a:pt x="549" y="0"/>
                    </a:lnTo>
                    <a:lnTo>
                      <a:pt x="521" y="32"/>
                    </a:lnTo>
                    <a:lnTo>
                      <a:pt x="493" y="64"/>
                    </a:lnTo>
                    <a:lnTo>
                      <a:pt x="463" y="94"/>
                    </a:lnTo>
                    <a:lnTo>
                      <a:pt x="433" y="124"/>
                    </a:lnTo>
                    <a:lnTo>
                      <a:pt x="400" y="153"/>
                    </a:lnTo>
                    <a:lnTo>
                      <a:pt x="369" y="181"/>
                    </a:lnTo>
                    <a:lnTo>
                      <a:pt x="335" y="207"/>
                    </a:lnTo>
                    <a:lnTo>
                      <a:pt x="300" y="234"/>
                    </a:lnTo>
                    <a:lnTo>
                      <a:pt x="266" y="259"/>
                    </a:lnTo>
                    <a:lnTo>
                      <a:pt x="230" y="283"/>
                    </a:lnTo>
                    <a:lnTo>
                      <a:pt x="193" y="305"/>
                    </a:lnTo>
                    <a:lnTo>
                      <a:pt x="156" y="327"/>
                    </a:lnTo>
                    <a:lnTo>
                      <a:pt x="118" y="347"/>
                    </a:lnTo>
                    <a:lnTo>
                      <a:pt x="80" y="367"/>
                    </a:lnTo>
                    <a:lnTo>
                      <a:pt x="40" y="385"/>
                    </a:lnTo>
                    <a:lnTo>
                      <a:pt x="0" y="402"/>
                    </a:lnTo>
                    <a:lnTo>
                      <a:pt x="4" y="408"/>
                    </a:lnTo>
                    <a:lnTo>
                      <a:pt x="11" y="415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183360" y="2976480"/>
                <a:ext cx="176040" cy="131760"/>
              </a:xfrm>
              <a:custGeom>
                <a:avLst/>
                <a:gdLst/>
                <a:ahLst/>
                <a:rect l="l" t="t" r="r" b="b"/>
                <a:pathLst>
                  <a:path w="558" h="418">
                    <a:moveTo>
                      <a:pt x="9" y="418"/>
                    </a:moveTo>
                    <a:lnTo>
                      <a:pt x="49" y="401"/>
                    </a:lnTo>
                    <a:lnTo>
                      <a:pt x="89" y="382"/>
                    </a:lnTo>
                    <a:lnTo>
                      <a:pt x="127" y="363"/>
                    </a:lnTo>
                    <a:lnTo>
                      <a:pt x="165" y="343"/>
                    </a:lnTo>
                    <a:lnTo>
                      <a:pt x="202" y="321"/>
                    </a:lnTo>
                    <a:lnTo>
                      <a:pt x="238" y="298"/>
                    </a:lnTo>
                    <a:lnTo>
                      <a:pt x="274" y="275"/>
                    </a:lnTo>
                    <a:lnTo>
                      <a:pt x="310" y="250"/>
                    </a:lnTo>
                    <a:lnTo>
                      <a:pt x="343" y="224"/>
                    </a:lnTo>
                    <a:lnTo>
                      <a:pt x="377" y="198"/>
                    </a:lnTo>
                    <a:lnTo>
                      <a:pt x="408" y="169"/>
                    </a:lnTo>
                    <a:lnTo>
                      <a:pt x="440" y="141"/>
                    </a:lnTo>
                    <a:lnTo>
                      <a:pt x="471" y="111"/>
                    </a:lnTo>
                    <a:lnTo>
                      <a:pt x="501" y="80"/>
                    </a:lnTo>
                    <a:lnTo>
                      <a:pt x="529" y="48"/>
                    </a:lnTo>
                    <a:lnTo>
                      <a:pt x="558" y="16"/>
                    </a:lnTo>
                    <a:lnTo>
                      <a:pt x="549" y="0"/>
                    </a:lnTo>
                    <a:lnTo>
                      <a:pt x="521" y="33"/>
                    </a:lnTo>
                    <a:lnTo>
                      <a:pt x="492" y="64"/>
                    </a:lnTo>
                    <a:lnTo>
                      <a:pt x="463" y="96"/>
                    </a:lnTo>
                    <a:lnTo>
                      <a:pt x="433" y="125"/>
                    </a:lnTo>
                    <a:lnTo>
                      <a:pt x="400" y="154"/>
                    </a:lnTo>
                    <a:lnTo>
                      <a:pt x="368" y="183"/>
                    </a:lnTo>
                    <a:lnTo>
                      <a:pt x="335" y="209"/>
                    </a:lnTo>
                    <a:lnTo>
                      <a:pt x="300" y="235"/>
                    </a:lnTo>
                    <a:lnTo>
                      <a:pt x="265" y="261"/>
                    </a:lnTo>
                    <a:lnTo>
                      <a:pt x="230" y="285"/>
                    </a:lnTo>
                    <a:lnTo>
                      <a:pt x="193" y="307"/>
                    </a:lnTo>
                    <a:lnTo>
                      <a:pt x="156" y="329"/>
                    </a:lnTo>
                    <a:lnTo>
                      <a:pt x="118" y="350"/>
                    </a:lnTo>
                    <a:lnTo>
                      <a:pt x="79" y="369"/>
                    </a:lnTo>
                    <a:lnTo>
                      <a:pt x="39" y="387"/>
                    </a:lnTo>
                    <a:lnTo>
                      <a:pt x="0" y="403"/>
                    </a:lnTo>
                    <a:lnTo>
                      <a:pt x="8" y="417"/>
                    </a:lnTo>
                    <a:lnTo>
                      <a:pt x="9" y="41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81560" y="2973240"/>
                <a:ext cx="176400" cy="133560"/>
              </a:xfrm>
              <a:custGeom>
                <a:avLst/>
                <a:gdLst/>
                <a:ahLst/>
                <a:rect l="l" t="t" r="r" b="b"/>
                <a:pathLst>
                  <a:path w="558" h="419">
                    <a:moveTo>
                      <a:pt x="9" y="419"/>
                    </a:moveTo>
                    <a:lnTo>
                      <a:pt x="49" y="402"/>
                    </a:lnTo>
                    <a:lnTo>
                      <a:pt x="89" y="384"/>
                    </a:lnTo>
                    <a:lnTo>
                      <a:pt x="127" y="364"/>
                    </a:lnTo>
                    <a:lnTo>
                      <a:pt x="165" y="344"/>
                    </a:lnTo>
                    <a:lnTo>
                      <a:pt x="202" y="322"/>
                    </a:lnTo>
                    <a:lnTo>
                      <a:pt x="239" y="300"/>
                    </a:lnTo>
                    <a:lnTo>
                      <a:pt x="275" y="276"/>
                    </a:lnTo>
                    <a:lnTo>
                      <a:pt x="309" y="251"/>
                    </a:lnTo>
                    <a:lnTo>
                      <a:pt x="344" y="224"/>
                    </a:lnTo>
                    <a:lnTo>
                      <a:pt x="378" y="198"/>
                    </a:lnTo>
                    <a:lnTo>
                      <a:pt x="409" y="170"/>
                    </a:lnTo>
                    <a:lnTo>
                      <a:pt x="442" y="141"/>
                    </a:lnTo>
                    <a:lnTo>
                      <a:pt x="472" y="111"/>
                    </a:lnTo>
                    <a:lnTo>
                      <a:pt x="502" y="81"/>
                    </a:lnTo>
                    <a:lnTo>
                      <a:pt x="530" y="49"/>
                    </a:lnTo>
                    <a:lnTo>
                      <a:pt x="558" y="17"/>
                    </a:lnTo>
                    <a:lnTo>
                      <a:pt x="551" y="2"/>
                    </a:lnTo>
                    <a:lnTo>
                      <a:pt x="550" y="0"/>
                    </a:lnTo>
                    <a:lnTo>
                      <a:pt x="522" y="32"/>
                    </a:lnTo>
                    <a:lnTo>
                      <a:pt x="493" y="65"/>
                    </a:lnTo>
                    <a:lnTo>
                      <a:pt x="464" y="95"/>
                    </a:lnTo>
                    <a:lnTo>
                      <a:pt x="433" y="126"/>
                    </a:lnTo>
                    <a:lnTo>
                      <a:pt x="402" y="155"/>
                    </a:lnTo>
                    <a:lnTo>
                      <a:pt x="369" y="183"/>
                    </a:lnTo>
                    <a:lnTo>
                      <a:pt x="336" y="210"/>
                    </a:lnTo>
                    <a:lnTo>
                      <a:pt x="301" y="236"/>
                    </a:lnTo>
                    <a:lnTo>
                      <a:pt x="266" y="261"/>
                    </a:lnTo>
                    <a:lnTo>
                      <a:pt x="230" y="285"/>
                    </a:lnTo>
                    <a:lnTo>
                      <a:pt x="194" y="308"/>
                    </a:lnTo>
                    <a:lnTo>
                      <a:pt x="157" y="329"/>
                    </a:lnTo>
                    <a:lnTo>
                      <a:pt x="118" y="350"/>
                    </a:lnTo>
                    <a:lnTo>
                      <a:pt x="79" y="369"/>
                    </a:lnTo>
                    <a:lnTo>
                      <a:pt x="40" y="388"/>
                    </a:lnTo>
                    <a:lnTo>
                      <a:pt x="0" y="405"/>
                    </a:lnTo>
                    <a:lnTo>
                      <a:pt x="9" y="41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80120" y="2970360"/>
                <a:ext cx="176400" cy="133200"/>
              </a:xfrm>
              <a:custGeom>
                <a:avLst/>
                <a:gdLst/>
                <a:ahLst/>
                <a:rect l="l" t="t" r="r" b="b"/>
                <a:pathLst>
                  <a:path w="559" h="420">
                    <a:moveTo>
                      <a:pt x="10" y="420"/>
                    </a:moveTo>
                    <a:lnTo>
                      <a:pt x="49" y="404"/>
                    </a:lnTo>
                    <a:lnTo>
                      <a:pt x="89" y="386"/>
                    </a:lnTo>
                    <a:lnTo>
                      <a:pt x="128" y="367"/>
                    </a:lnTo>
                    <a:lnTo>
                      <a:pt x="166" y="346"/>
                    </a:lnTo>
                    <a:lnTo>
                      <a:pt x="203" y="324"/>
                    </a:lnTo>
                    <a:lnTo>
                      <a:pt x="240" y="302"/>
                    </a:lnTo>
                    <a:lnTo>
                      <a:pt x="275" y="278"/>
                    </a:lnTo>
                    <a:lnTo>
                      <a:pt x="310" y="252"/>
                    </a:lnTo>
                    <a:lnTo>
                      <a:pt x="345" y="226"/>
                    </a:lnTo>
                    <a:lnTo>
                      <a:pt x="378" y="200"/>
                    </a:lnTo>
                    <a:lnTo>
                      <a:pt x="410" y="171"/>
                    </a:lnTo>
                    <a:lnTo>
                      <a:pt x="443" y="142"/>
                    </a:lnTo>
                    <a:lnTo>
                      <a:pt x="473" y="113"/>
                    </a:lnTo>
                    <a:lnTo>
                      <a:pt x="502" y="81"/>
                    </a:lnTo>
                    <a:lnTo>
                      <a:pt x="531" y="50"/>
                    </a:lnTo>
                    <a:lnTo>
                      <a:pt x="559" y="17"/>
                    </a:lnTo>
                    <a:lnTo>
                      <a:pt x="556" y="11"/>
                    </a:lnTo>
                    <a:lnTo>
                      <a:pt x="551" y="0"/>
                    </a:lnTo>
                    <a:lnTo>
                      <a:pt x="524" y="34"/>
                    </a:lnTo>
                    <a:lnTo>
                      <a:pt x="494" y="65"/>
                    </a:lnTo>
                    <a:lnTo>
                      <a:pt x="465" y="97"/>
                    </a:lnTo>
                    <a:lnTo>
                      <a:pt x="434" y="126"/>
                    </a:lnTo>
                    <a:lnTo>
                      <a:pt x="403" y="156"/>
                    </a:lnTo>
                    <a:lnTo>
                      <a:pt x="370" y="184"/>
                    </a:lnTo>
                    <a:lnTo>
                      <a:pt x="336" y="211"/>
                    </a:lnTo>
                    <a:lnTo>
                      <a:pt x="303" y="238"/>
                    </a:lnTo>
                    <a:lnTo>
                      <a:pt x="267" y="263"/>
                    </a:lnTo>
                    <a:lnTo>
                      <a:pt x="231" y="287"/>
                    </a:lnTo>
                    <a:lnTo>
                      <a:pt x="195" y="310"/>
                    </a:lnTo>
                    <a:lnTo>
                      <a:pt x="158" y="331"/>
                    </a:lnTo>
                    <a:lnTo>
                      <a:pt x="119" y="352"/>
                    </a:lnTo>
                    <a:lnTo>
                      <a:pt x="80" y="371"/>
                    </a:lnTo>
                    <a:lnTo>
                      <a:pt x="41" y="390"/>
                    </a:lnTo>
                    <a:lnTo>
                      <a:pt x="0" y="407"/>
                    </a:lnTo>
                    <a:lnTo>
                      <a:pt x="10" y="420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78680" y="2968560"/>
                <a:ext cx="177840" cy="133560"/>
              </a:xfrm>
              <a:custGeom>
                <a:avLst/>
                <a:gdLst/>
                <a:ahLst/>
                <a:rect l="l" t="t" r="r" b="b"/>
                <a:pathLst>
                  <a:path w="559" h="422">
                    <a:moveTo>
                      <a:pt x="9" y="422"/>
                    </a:moveTo>
                    <a:lnTo>
                      <a:pt x="49" y="405"/>
                    </a:lnTo>
                    <a:lnTo>
                      <a:pt x="88" y="386"/>
                    </a:lnTo>
                    <a:lnTo>
                      <a:pt x="127" y="367"/>
                    </a:lnTo>
                    <a:lnTo>
                      <a:pt x="166" y="346"/>
                    </a:lnTo>
                    <a:lnTo>
                      <a:pt x="203" y="325"/>
                    </a:lnTo>
                    <a:lnTo>
                      <a:pt x="239" y="302"/>
                    </a:lnTo>
                    <a:lnTo>
                      <a:pt x="275" y="278"/>
                    </a:lnTo>
                    <a:lnTo>
                      <a:pt x="310" y="253"/>
                    </a:lnTo>
                    <a:lnTo>
                      <a:pt x="345" y="227"/>
                    </a:lnTo>
                    <a:lnTo>
                      <a:pt x="378" y="200"/>
                    </a:lnTo>
                    <a:lnTo>
                      <a:pt x="411" y="172"/>
                    </a:lnTo>
                    <a:lnTo>
                      <a:pt x="442" y="143"/>
                    </a:lnTo>
                    <a:lnTo>
                      <a:pt x="473" y="112"/>
                    </a:lnTo>
                    <a:lnTo>
                      <a:pt x="502" y="82"/>
                    </a:lnTo>
                    <a:lnTo>
                      <a:pt x="531" y="49"/>
                    </a:lnTo>
                    <a:lnTo>
                      <a:pt x="559" y="17"/>
                    </a:lnTo>
                    <a:lnTo>
                      <a:pt x="551" y="0"/>
                    </a:lnTo>
                    <a:lnTo>
                      <a:pt x="523" y="34"/>
                    </a:lnTo>
                    <a:lnTo>
                      <a:pt x="495" y="65"/>
                    </a:lnTo>
                    <a:lnTo>
                      <a:pt x="464" y="97"/>
                    </a:lnTo>
                    <a:lnTo>
                      <a:pt x="434" y="127"/>
                    </a:lnTo>
                    <a:lnTo>
                      <a:pt x="402" y="156"/>
                    </a:lnTo>
                    <a:lnTo>
                      <a:pt x="370" y="185"/>
                    </a:lnTo>
                    <a:lnTo>
                      <a:pt x="336" y="212"/>
                    </a:lnTo>
                    <a:lnTo>
                      <a:pt x="303" y="238"/>
                    </a:lnTo>
                    <a:lnTo>
                      <a:pt x="267" y="263"/>
                    </a:lnTo>
                    <a:lnTo>
                      <a:pt x="231" y="288"/>
                    </a:lnTo>
                    <a:lnTo>
                      <a:pt x="194" y="311"/>
                    </a:lnTo>
                    <a:lnTo>
                      <a:pt x="156" y="332"/>
                    </a:lnTo>
                    <a:lnTo>
                      <a:pt x="119" y="353"/>
                    </a:lnTo>
                    <a:lnTo>
                      <a:pt x="80" y="372"/>
                    </a:lnTo>
                    <a:lnTo>
                      <a:pt x="40" y="391"/>
                    </a:lnTo>
                    <a:lnTo>
                      <a:pt x="0" y="407"/>
                    </a:lnTo>
                    <a:lnTo>
                      <a:pt x="9" y="42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176880" y="296532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59" h="423">
                    <a:moveTo>
                      <a:pt x="8" y="423"/>
                    </a:moveTo>
                    <a:lnTo>
                      <a:pt x="49" y="406"/>
                    </a:lnTo>
                    <a:lnTo>
                      <a:pt x="88" y="387"/>
                    </a:lnTo>
                    <a:lnTo>
                      <a:pt x="127" y="368"/>
                    </a:lnTo>
                    <a:lnTo>
                      <a:pt x="166" y="347"/>
                    </a:lnTo>
                    <a:lnTo>
                      <a:pt x="203" y="326"/>
                    </a:lnTo>
                    <a:lnTo>
                      <a:pt x="239" y="303"/>
                    </a:lnTo>
                    <a:lnTo>
                      <a:pt x="275" y="279"/>
                    </a:lnTo>
                    <a:lnTo>
                      <a:pt x="311" y="254"/>
                    </a:lnTo>
                    <a:lnTo>
                      <a:pt x="344" y="227"/>
                    </a:lnTo>
                    <a:lnTo>
                      <a:pt x="378" y="200"/>
                    </a:lnTo>
                    <a:lnTo>
                      <a:pt x="411" y="172"/>
                    </a:lnTo>
                    <a:lnTo>
                      <a:pt x="442" y="142"/>
                    </a:lnTo>
                    <a:lnTo>
                      <a:pt x="473" y="113"/>
                    </a:lnTo>
                    <a:lnTo>
                      <a:pt x="502" y="81"/>
                    </a:lnTo>
                    <a:lnTo>
                      <a:pt x="532" y="50"/>
                    </a:lnTo>
                    <a:lnTo>
                      <a:pt x="559" y="16"/>
                    </a:lnTo>
                    <a:lnTo>
                      <a:pt x="551" y="0"/>
                    </a:lnTo>
                    <a:lnTo>
                      <a:pt x="523" y="33"/>
                    </a:lnTo>
                    <a:lnTo>
                      <a:pt x="495" y="66"/>
                    </a:lnTo>
                    <a:lnTo>
                      <a:pt x="465" y="97"/>
                    </a:lnTo>
                    <a:lnTo>
                      <a:pt x="435" y="128"/>
                    </a:lnTo>
                    <a:lnTo>
                      <a:pt x="402" y="157"/>
                    </a:lnTo>
                    <a:lnTo>
                      <a:pt x="370" y="185"/>
                    </a:lnTo>
                    <a:lnTo>
                      <a:pt x="337" y="213"/>
                    </a:lnTo>
                    <a:lnTo>
                      <a:pt x="302" y="239"/>
                    </a:lnTo>
                    <a:lnTo>
                      <a:pt x="267" y="264"/>
                    </a:lnTo>
                    <a:lnTo>
                      <a:pt x="231" y="288"/>
                    </a:lnTo>
                    <a:lnTo>
                      <a:pt x="194" y="311"/>
                    </a:lnTo>
                    <a:lnTo>
                      <a:pt x="156" y="333"/>
                    </a:lnTo>
                    <a:lnTo>
                      <a:pt x="118" y="353"/>
                    </a:lnTo>
                    <a:lnTo>
                      <a:pt x="80" y="373"/>
                    </a:lnTo>
                    <a:lnTo>
                      <a:pt x="40" y="391"/>
                    </a:lnTo>
                    <a:lnTo>
                      <a:pt x="0" y="408"/>
                    </a:lnTo>
                    <a:lnTo>
                      <a:pt x="8" y="423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175440" y="2962440"/>
                <a:ext cx="177840" cy="134640"/>
              </a:xfrm>
              <a:custGeom>
                <a:avLst/>
                <a:gdLst/>
                <a:ahLst/>
                <a:rect l="l" t="t" r="r" b="b"/>
                <a:pathLst>
                  <a:path w="561" h="424">
                    <a:moveTo>
                      <a:pt x="10" y="424"/>
                    </a:moveTo>
                    <a:lnTo>
                      <a:pt x="50" y="408"/>
                    </a:lnTo>
                    <a:lnTo>
                      <a:pt x="90" y="390"/>
                    </a:lnTo>
                    <a:lnTo>
                      <a:pt x="129" y="370"/>
                    </a:lnTo>
                    <a:lnTo>
                      <a:pt x="168" y="349"/>
                    </a:lnTo>
                    <a:lnTo>
                      <a:pt x="204" y="328"/>
                    </a:lnTo>
                    <a:lnTo>
                      <a:pt x="241" y="305"/>
                    </a:lnTo>
                    <a:lnTo>
                      <a:pt x="277" y="280"/>
                    </a:lnTo>
                    <a:lnTo>
                      <a:pt x="313" y="255"/>
                    </a:lnTo>
                    <a:lnTo>
                      <a:pt x="346" y="229"/>
                    </a:lnTo>
                    <a:lnTo>
                      <a:pt x="380" y="202"/>
                    </a:lnTo>
                    <a:lnTo>
                      <a:pt x="412" y="173"/>
                    </a:lnTo>
                    <a:lnTo>
                      <a:pt x="444" y="144"/>
                    </a:lnTo>
                    <a:lnTo>
                      <a:pt x="474" y="114"/>
                    </a:lnTo>
                    <a:lnTo>
                      <a:pt x="505" y="82"/>
                    </a:lnTo>
                    <a:lnTo>
                      <a:pt x="533" y="51"/>
                    </a:lnTo>
                    <a:lnTo>
                      <a:pt x="561" y="17"/>
                    </a:lnTo>
                    <a:lnTo>
                      <a:pt x="553" y="0"/>
                    </a:lnTo>
                    <a:lnTo>
                      <a:pt x="525" y="34"/>
                    </a:lnTo>
                    <a:lnTo>
                      <a:pt x="497" y="66"/>
                    </a:lnTo>
                    <a:lnTo>
                      <a:pt x="467" y="98"/>
                    </a:lnTo>
                    <a:lnTo>
                      <a:pt x="437" y="128"/>
                    </a:lnTo>
                    <a:lnTo>
                      <a:pt x="405" y="158"/>
                    </a:lnTo>
                    <a:lnTo>
                      <a:pt x="372" y="186"/>
                    </a:lnTo>
                    <a:lnTo>
                      <a:pt x="339" y="214"/>
                    </a:lnTo>
                    <a:lnTo>
                      <a:pt x="304" y="241"/>
                    </a:lnTo>
                    <a:lnTo>
                      <a:pt x="269" y="266"/>
                    </a:lnTo>
                    <a:lnTo>
                      <a:pt x="233" y="290"/>
                    </a:lnTo>
                    <a:lnTo>
                      <a:pt x="196" y="313"/>
                    </a:lnTo>
                    <a:lnTo>
                      <a:pt x="158" y="335"/>
                    </a:lnTo>
                    <a:lnTo>
                      <a:pt x="120" y="355"/>
                    </a:lnTo>
                    <a:lnTo>
                      <a:pt x="81" y="375"/>
                    </a:lnTo>
                    <a:lnTo>
                      <a:pt x="41" y="393"/>
                    </a:lnTo>
                    <a:lnTo>
                      <a:pt x="0" y="410"/>
                    </a:lnTo>
                    <a:lnTo>
                      <a:pt x="10" y="424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173640" y="296064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1" h="425">
                    <a:moveTo>
                      <a:pt x="10" y="425"/>
                    </a:moveTo>
                    <a:lnTo>
                      <a:pt x="50" y="408"/>
                    </a:lnTo>
                    <a:lnTo>
                      <a:pt x="90" y="390"/>
                    </a:lnTo>
                    <a:lnTo>
                      <a:pt x="128" y="370"/>
                    </a:lnTo>
                    <a:lnTo>
                      <a:pt x="166" y="350"/>
                    </a:lnTo>
                    <a:lnTo>
                      <a:pt x="204" y="328"/>
                    </a:lnTo>
                    <a:lnTo>
                      <a:pt x="241" y="305"/>
                    </a:lnTo>
                    <a:lnTo>
                      <a:pt x="277" y="281"/>
                    </a:lnTo>
                    <a:lnTo>
                      <a:pt x="312" y="256"/>
                    </a:lnTo>
                    <a:lnTo>
                      <a:pt x="347" y="230"/>
                    </a:lnTo>
                    <a:lnTo>
                      <a:pt x="380" y="202"/>
                    </a:lnTo>
                    <a:lnTo>
                      <a:pt x="412" y="174"/>
                    </a:lnTo>
                    <a:lnTo>
                      <a:pt x="445" y="145"/>
                    </a:lnTo>
                    <a:lnTo>
                      <a:pt x="475" y="114"/>
                    </a:lnTo>
                    <a:lnTo>
                      <a:pt x="505" y="83"/>
                    </a:lnTo>
                    <a:lnTo>
                      <a:pt x="533" y="50"/>
                    </a:lnTo>
                    <a:lnTo>
                      <a:pt x="561" y="17"/>
                    </a:lnTo>
                    <a:lnTo>
                      <a:pt x="553" y="0"/>
                    </a:lnTo>
                    <a:lnTo>
                      <a:pt x="526" y="33"/>
                    </a:lnTo>
                    <a:lnTo>
                      <a:pt x="496" y="66"/>
                    </a:lnTo>
                    <a:lnTo>
                      <a:pt x="467" y="97"/>
                    </a:lnTo>
                    <a:lnTo>
                      <a:pt x="436" y="129"/>
                    </a:lnTo>
                    <a:lnTo>
                      <a:pt x="405" y="158"/>
                    </a:lnTo>
                    <a:lnTo>
                      <a:pt x="372" y="187"/>
                    </a:lnTo>
                    <a:lnTo>
                      <a:pt x="339" y="214"/>
                    </a:lnTo>
                    <a:lnTo>
                      <a:pt x="304" y="241"/>
                    </a:lnTo>
                    <a:lnTo>
                      <a:pt x="269" y="266"/>
                    </a:lnTo>
                    <a:lnTo>
                      <a:pt x="232" y="291"/>
                    </a:lnTo>
                    <a:lnTo>
                      <a:pt x="196" y="314"/>
                    </a:lnTo>
                    <a:lnTo>
                      <a:pt x="158" y="336"/>
                    </a:lnTo>
                    <a:lnTo>
                      <a:pt x="120" y="357"/>
                    </a:lnTo>
                    <a:lnTo>
                      <a:pt x="80" y="376"/>
                    </a:lnTo>
                    <a:lnTo>
                      <a:pt x="40" y="393"/>
                    </a:lnTo>
                    <a:lnTo>
                      <a:pt x="0" y="410"/>
                    </a:lnTo>
                    <a:lnTo>
                      <a:pt x="10" y="425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172200" y="295740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7">
                    <a:moveTo>
                      <a:pt x="9" y="427"/>
                    </a:moveTo>
                    <a:lnTo>
                      <a:pt x="50" y="410"/>
                    </a:lnTo>
                    <a:lnTo>
                      <a:pt x="90" y="392"/>
                    </a:lnTo>
                    <a:lnTo>
                      <a:pt x="129" y="372"/>
                    </a:lnTo>
                    <a:lnTo>
                      <a:pt x="167" y="352"/>
                    </a:lnTo>
                    <a:lnTo>
                      <a:pt x="205" y="330"/>
                    </a:lnTo>
                    <a:lnTo>
                      <a:pt x="242" y="307"/>
                    </a:lnTo>
                    <a:lnTo>
                      <a:pt x="278" y="283"/>
                    </a:lnTo>
                    <a:lnTo>
                      <a:pt x="313" y="258"/>
                    </a:lnTo>
                    <a:lnTo>
                      <a:pt x="348" y="231"/>
                    </a:lnTo>
                    <a:lnTo>
                      <a:pt x="381" y="203"/>
                    </a:lnTo>
                    <a:lnTo>
                      <a:pt x="414" y="175"/>
                    </a:lnTo>
                    <a:lnTo>
                      <a:pt x="446" y="145"/>
                    </a:lnTo>
                    <a:lnTo>
                      <a:pt x="476" y="115"/>
                    </a:lnTo>
                    <a:lnTo>
                      <a:pt x="506" y="83"/>
                    </a:lnTo>
                    <a:lnTo>
                      <a:pt x="534" y="51"/>
                    </a:lnTo>
                    <a:lnTo>
                      <a:pt x="562" y="17"/>
                    </a:lnTo>
                    <a:lnTo>
                      <a:pt x="554" y="0"/>
                    </a:lnTo>
                    <a:lnTo>
                      <a:pt x="527" y="34"/>
                    </a:lnTo>
                    <a:lnTo>
                      <a:pt x="498" y="68"/>
                    </a:lnTo>
                    <a:lnTo>
                      <a:pt x="468" y="99"/>
                    </a:lnTo>
                    <a:lnTo>
                      <a:pt x="437" y="129"/>
                    </a:lnTo>
                    <a:lnTo>
                      <a:pt x="406" y="160"/>
                    </a:lnTo>
                    <a:lnTo>
                      <a:pt x="373" y="188"/>
                    </a:lnTo>
                    <a:lnTo>
                      <a:pt x="339" y="216"/>
                    </a:lnTo>
                    <a:lnTo>
                      <a:pt x="306" y="243"/>
                    </a:lnTo>
                    <a:lnTo>
                      <a:pt x="270" y="268"/>
                    </a:lnTo>
                    <a:lnTo>
                      <a:pt x="234" y="292"/>
                    </a:lnTo>
                    <a:lnTo>
                      <a:pt x="196" y="315"/>
                    </a:lnTo>
                    <a:lnTo>
                      <a:pt x="159" y="337"/>
                    </a:lnTo>
                    <a:lnTo>
                      <a:pt x="121" y="358"/>
                    </a:lnTo>
                    <a:lnTo>
                      <a:pt x="81" y="377"/>
                    </a:lnTo>
                    <a:lnTo>
                      <a:pt x="41" y="396"/>
                    </a:lnTo>
                    <a:lnTo>
                      <a:pt x="0" y="413"/>
                    </a:lnTo>
                    <a:lnTo>
                      <a:pt x="9" y="427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70760" y="2954160"/>
                <a:ext cx="179280" cy="136800"/>
              </a:xfrm>
              <a:custGeom>
                <a:avLst/>
                <a:gdLst/>
                <a:ahLst/>
                <a:rect l="l" t="t" r="r" b="b"/>
                <a:pathLst>
                  <a:path w="562" h="427">
                    <a:moveTo>
                      <a:pt x="9" y="427"/>
                    </a:moveTo>
                    <a:lnTo>
                      <a:pt x="49" y="410"/>
                    </a:lnTo>
                    <a:lnTo>
                      <a:pt x="89" y="393"/>
                    </a:lnTo>
                    <a:lnTo>
                      <a:pt x="129" y="374"/>
                    </a:lnTo>
                    <a:lnTo>
                      <a:pt x="167" y="353"/>
                    </a:lnTo>
                    <a:lnTo>
                      <a:pt x="205" y="331"/>
                    </a:lnTo>
                    <a:lnTo>
                      <a:pt x="241" y="308"/>
                    </a:lnTo>
                    <a:lnTo>
                      <a:pt x="278" y="283"/>
                    </a:lnTo>
                    <a:lnTo>
                      <a:pt x="313" y="258"/>
                    </a:lnTo>
                    <a:lnTo>
                      <a:pt x="348" y="231"/>
                    </a:lnTo>
                    <a:lnTo>
                      <a:pt x="381" y="204"/>
                    </a:lnTo>
                    <a:lnTo>
                      <a:pt x="414" y="175"/>
                    </a:lnTo>
                    <a:lnTo>
                      <a:pt x="445" y="146"/>
                    </a:lnTo>
                    <a:lnTo>
                      <a:pt x="476" y="114"/>
                    </a:lnTo>
                    <a:lnTo>
                      <a:pt x="505" y="83"/>
                    </a:lnTo>
                    <a:lnTo>
                      <a:pt x="535" y="50"/>
                    </a:lnTo>
                    <a:lnTo>
                      <a:pt x="562" y="17"/>
                    </a:lnTo>
                    <a:lnTo>
                      <a:pt x="556" y="3"/>
                    </a:lnTo>
                    <a:lnTo>
                      <a:pt x="554" y="0"/>
                    </a:lnTo>
                    <a:lnTo>
                      <a:pt x="526" y="35"/>
                    </a:lnTo>
                    <a:lnTo>
                      <a:pt x="498" y="67"/>
                    </a:lnTo>
                    <a:lnTo>
                      <a:pt x="469" y="99"/>
                    </a:lnTo>
                    <a:lnTo>
                      <a:pt x="438" y="130"/>
                    </a:lnTo>
                    <a:lnTo>
                      <a:pt x="405" y="160"/>
                    </a:lnTo>
                    <a:lnTo>
                      <a:pt x="373" y="189"/>
                    </a:lnTo>
                    <a:lnTo>
                      <a:pt x="339" y="216"/>
                    </a:lnTo>
                    <a:lnTo>
                      <a:pt x="306" y="244"/>
                    </a:lnTo>
                    <a:lnTo>
                      <a:pt x="270" y="269"/>
                    </a:lnTo>
                    <a:lnTo>
                      <a:pt x="234" y="293"/>
                    </a:lnTo>
                    <a:lnTo>
                      <a:pt x="196" y="316"/>
                    </a:lnTo>
                    <a:lnTo>
                      <a:pt x="158" y="338"/>
                    </a:lnTo>
                    <a:lnTo>
                      <a:pt x="120" y="359"/>
                    </a:lnTo>
                    <a:lnTo>
                      <a:pt x="81" y="379"/>
                    </a:lnTo>
                    <a:lnTo>
                      <a:pt x="41" y="397"/>
                    </a:lnTo>
                    <a:lnTo>
                      <a:pt x="0" y="414"/>
                    </a:lnTo>
                    <a:lnTo>
                      <a:pt x="9" y="42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68960" y="295272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4" h="428">
                    <a:moveTo>
                      <a:pt x="10" y="428"/>
                    </a:moveTo>
                    <a:lnTo>
                      <a:pt x="51" y="411"/>
                    </a:lnTo>
                    <a:lnTo>
                      <a:pt x="91" y="392"/>
                    </a:lnTo>
                    <a:lnTo>
                      <a:pt x="131" y="373"/>
                    </a:lnTo>
                    <a:lnTo>
                      <a:pt x="169" y="352"/>
                    </a:lnTo>
                    <a:lnTo>
                      <a:pt x="206" y="330"/>
                    </a:lnTo>
                    <a:lnTo>
                      <a:pt x="244" y="307"/>
                    </a:lnTo>
                    <a:lnTo>
                      <a:pt x="280" y="283"/>
                    </a:lnTo>
                    <a:lnTo>
                      <a:pt x="316" y="258"/>
                    </a:lnTo>
                    <a:lnTo>
                      <a:pt x="349" y="231"/>
                    </a:lnTo>
                    <a:lnTo>
                      <a:pt x="383" y="203"/>
                    </a:lnTo>
                    <a:lnTo>
                      <a:pt x="416" y="175"/>
                    </a:lnTo>
                    <a:lnTo>
                      <a:pt x="447" y="144"/>
                    </a:lnTo>
                    <a:lnTo>
                      <a:pt x="478" y="114"/>
                    </a:lnTo>
                    <a:lnTo>
                      <a:pt x="508" y="83"/>
                    </a:lnTo>
                    <a:lnTo>
                      <a:pt x="537" y="49"/>
                    </a:lnTo>
                    <a:lnTo>
                      <a:pt x="564" y="15"/>
                    </a:lnTo>
                    <a:lnTo>
                      <a:pt x="562" y="10"/>
                    </a:lnTo>
                    <a:lnTo>
                      <a:pt x="555" y="0"/>
                    </a:lnTo>
                    <a:lnTo>
                      <a:pt x="528" y="33"/>
                    </a:lnTo>
                    <a:lnTo>
                      <a:pt x="500" y="66"/>
                    </a:lnTo>
                    <a:lnTo>
                      <a:pt x="470" y="98"/>
                    </a:lnTo>
                    <a:lnTo>
                      <a:pt x="440" y="129"/>
                    </a:lnTo>
                    <a:lnTo>
                      <a:pt x="407" y="159"/>
                    </a:lnTo>
                    <a:lnTo>
                      <a:pt x="375" y="189"/>
                    </a:lnTo>
                    <a:lnTo>
                      <a:pt x="342" y="216"/>
                    </a:lnTo>
                    <a:lnTo>
                      <a:pt x="307" y="243"/>
                    </a:lnTo>
                    <a:lnTo>
                      <a:pt x="272" y="268"/>
                    </a:lnTo>
                    <a:lnTo>
                      <a:pt x="235" y="293"/>
                    </a:lnTo>
                    <a:lnTo>
                      <a:pt x="198" y="316"/>
                    </a:lnTo>
                    <a:lnTo>
                      <a:pt x="160" y="338"/>
                    </a:lnTo>
                    <a:lnTo>
                      <a:pt x="121" y="359"/>
                    </a:lnTo>
                    <a:lnTo>
                      <a:pt x="82" y="379"/>
                    </a:lnTo>
                    <a:lnTo>
                      <a:pt x="41" y="396"/>
                    </a:lnTo>
                    <a:lnTo>
                      <a:pt x="0" y="413"/>
                    </a:lnTo>
                    <a:lnTo>
                      <a:pt x="10" y="428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167520" y="2949480"/>
                <a:ext cx="179280" cy="136800"/>
              </a:xfrm>
              <a:custGeom>
                <a:avLst/>
                <a:gdLst/>
                <a:ahLst/>
                <a:rect l="l" t="t" r="r" b="b"/>
                <a:pathLst>
                  <a:path w="564" h="430">
                    <a:moveTo>
                      <a:pt x="10" y="430"/>
                    </a:moveTo>
                    <a:lnTo>
                      <a:pt x="51" y="413"/>
                    </a:lnTo>
                    <a:lnTo>
                      <a:pt x="91" y="395"/>
                    </a:lnTo>
                    <a:lnTo>
                      <a:pt x="130" y="375"/>
                    </a:lnTo>
                    <a:lnTo>
                      <a:pt x="168" y="354"/>
                    </a:lnTo>
                    <a:lnTo>
                      <a:pt x="206" y="332"/>
                    </a:lnTo>
                    <a:lnTo>
                      <a:pt x="244" y="309"/>
                    </a:lnTo>
                    <a:lnTo>
                      <a:pt x="280" y="285"/>
                    </a:lnTo>
                    <a:lnTo>
                      <a:pt x="316" y="260"/>
                    </a:lnTo>
                    <a:lnTo>
                      <a:pt x="349" y="232"/>
                    </a:lnTo>
                    <a:lnTo>
                      <a:pt x="383" y="205"/>
                    </a:lnTo>
                    <a:lnTo>
                      <a:pt x="415" y="176"/>
                    </a:lnTo>
                    <a:lnTo>
                      <a:pt x="448" y="146"/>
                    </a:lnTo>
                    <a:lnTo>
                      <a:pt x="479" y="115"/>
                    </a:lnTo>
                    <a:lnTo>
                      <a:pt x="508" y="83"/>
                    </a:lnTo>
                    <a:lnTo>
                      <a:pt x="536" y="51"/>
                    </a:lnTo>
                    <a:lnTo>
                      <a:pt x="564" y="16"/>
                    </a:lnTo>
                    <a:lnTo>
                      <a:pt x="555" y="0"/>
                    </a:lnTo>
                    <a:lnTo>
                      <a:pt x="528" y="34"/>
                    </a:lnTo>
                    <a:lnTo>
                      <a:pt x="500" y="67"/>
                    </a:lnTo>
                    <a:lnTo>
                      <a:pt x="470" y="99"/>
                    </a:lnTo>
                    <a:lnTo>
                      <a:pt x="440" y="130"/>
                    </a:lnTo>
                    <a:lnTo>
                      <a:pt x="408" y="161"/>
                    </a:lnTo>
                    <a:lnTo>
                      <a:pt x="376" y="189"/>
                    </a:lnTo>
                    <a:lnTo>
                      <a:pt x="342" y="218"/>
                    </a:lnTo>
                    <a:lnTo>
                      <a:pt x="307" y="244"/>
                    </a:lnTo>
                    <a:lnTo>
                      <a:pt x="271" y="270"/>
                    </a:lnTo>
                    <a:lnTo>
                      <a:pt x="235" y="294"/>
                    </a:lnTo>
                    <a:lnTo>
                      <a:pt x="198" y="317"/>
                    </a:lnTo>
                    <a:lnTo>
                      <a:pt x="160" y="339"/>
                    </a:lnTo>
                    <a:lnTo>
                      <a:pt x="121" y="360"/>
                    </a:lnTo>
                    <a:lnTo>
                      <a:pt x="81" y="380"/>
                    </a:lnTo>
                    <a:lnTo>
                      <a:pt x="41" y="398"/>
                    </a:lnTo>
                    <a:lnTo>
                      <a:pt x="0" y="415"/>
                    </a:lnTo>
                    <a:lnTo>
                      <a:pt x="0" y="416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165720" y="29480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4" h="430">
                    <a:moveTo>
                      <a:pt x="9" y="430"/>
                    </a:moveTo>
                    <a:lnTo>
                      <a:pt x="50" y="413"/>
                    </a:lnTo>
                    <a:lnTo>
                      <a:pt x="91" y="396"/>
                    </a:lnTo>
                    <a:lnTo>
                      <a:pt x="130" y="376"/>
                    </a:lnTo>
                    <a:lnTo>
                      <a:pt x="169" y="355"/>
                    </a:lnTo>
                    <a:lnTo>
                      <a:pt x="207" y="333"/>
                    </a:lnTo>
                    <a:lnTo>
                      <a:pt x="244" y="310"/>
                    </a:lnTo>
                    <a:lnTo>
                      <a:pt x="281" y="285"/>
                    </a:lnTo>
                    <a:lnTo>
                      <a:pt x="316" y="260"/>
                    </a:lnTo>
                    <a:lnTo>
                      <a:pt x="351" y="233"/>
                    </a:lnTo>
                    <a:lnTo>
                      <a:pt x="384" y="206"/>
                    </a:lnTo>
                    <a:lnTo>
                      <a:pt x="416" y="176"/>
                    </a:lnTo>
                    <a:lnTo>
                      <a:pt x="449" y="146"/>
                    </a:lnTo>
                    <a:lnTo>
                      <a:pt x="479" y="115"/>
                    </a:lnTo>
                    <a:lnTo>
                      <a:pt x="509" y="83"/>
                    </a:lnTo>
                    <a:lnTo>
                      <a:pt x="537" y="50"/>
                    </a:lnTo>
                    <a:lnTo>
                      <a:pt x="564" y="17"/>
                    </a:lnTo>
                    <a:lnTo>
                      <a:pt x="556" y="0"/>
                    </a:lnTo>
                    <a:lnTo>
                      <a:pt x="529" y="34"/>
                    </a:lnTo>
                    <a:lnTo>
                      <a:pt x="500" y="67"/>
                    </a:lnTo>
                    <a:lnTo>
                      <a:pt x="471" y="100"/>
                    </a:lnTo>
                    <a:lnTo>
                      <a:pt x="440" y="131"/>
                    </a:lnTo>
                    <a:lnTo>
                      <a:pt x="409" y="161"/>
                    </a:lnTo>
                    <a:lnTo>
                      <a:pt x="375" y="190"/>
                    </a:lnTo>
                    <a:lnTo>
                      <a:pt x="343" y="218"/>
                    </a:lnTo>
                    <a:lnTo>
                      <a:pt x="308" y="245"/>
                    </a:lnTo>
                    <a:lnTo>
                      <a:pt x="272" y="271"/>
                    </a:lnTo>
                    <a:lnTo>
                      <a:pt x="235" y="295"/>
                    </a:lnTo>
                    <a:lnTo>
                      <a:pt x="199" y="319"/>
                    </a:lnTo>
                    <a:lnTo>
                      <a:pt x="161" y="341"/>
                    </a:lnTo>
                    <a:lnTo>
                      <a:pt x="122" y="362"/>
                    </a:lnTo>
                    <a:lnTo>
                      <a:pt x="82" y="381"/>
                    </a:lnTo>
                    <a:lnTo>
                      <a:pt x="42" y="399"/>
                    </a:lnTo>
                    <a:lnTo>
                      <a:pt x="0" y="416"/>
                    </a:lnTo>
                    <a:lnTo>
                      <a:pt x="5" y="424"/>
                    </a:lnTo>
                    <a:lnTo>
                      <a:pt x="9" y="43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164280" y="294480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4" h="432">
                    <a:moveTo>
                      <a:pt x="9" y="432"/>
                    </a:moveTo>
                    <a:lnTo>
                      <a:pt x="50" y="415"/>
                    </a:lnTo>
                    <a:lnTo>
                      <a:pt x="90" y="397"/>
                    </a:lnTo>
                    <a:lnTo>
                      <a:pt x="130" y="377"/>
                    </a:lnTo>
                    <a:lnTo>
                      <a:pt x="169" y="356"/>
                    </a:lnTo>
                    <a:lnTo>
                      <a:pt x="207" y="334"/>
                    </a:lnTo>
                    <a:lnTo>
                      <a:pt x="244" y="311"/>
                    </a:lnTo>
                    <a:lnTo>
                      <a:pt x="280" y="287"/>
                    </a:lnTo>
                    <a:lnTo>
                      <a:pt x="316" y="261"/>
                    </a:lnTo>
                    <a:lnTo>
                      <a:pt x="351" y="235"/>
                    </a:lnTo>
                    <a:lnTo>
                      <a:pt x="385" y="206"/>
                    </a:lnTo>
                    <a:lnTo>
                      <a:pt x="417" y="178"/>
                    </a:lnTo>
                    <a:lnTo>
                      <a:pt x="449" y="147"/>
                    </a:lnTo>
                    <a:lnTo>
                      <a:pt x="479" y="116"/>
                    </a:lnTo>
                    <a:lnTo>
                      <a:pt x="509" y="84"/>
                    </a:lnTo>
                    <a:lnTo>
                      <a:pt x="537" y="51"/>
                    </a:lnTo>
                    <a:lnTo>
                      <a:pt x="564" y="17"/>
                    </a:lnTo>
                    <a:lnTo>
                      <a:pt x="556" y="0"/>
                    </a:lnTo>
                    <a:lnTo>
                      <a:pt x="529" y="35"/>
                    </a:lnTo>
                    <a:lnTo>
                      <a:pt x="500" y="69"/>
                    </a:lnTo>
                    <a:lnTo>
                      <a:pt x="471" y="101"/>
                    </a:lnTo>
                    <a:lnTo>
                      <a:pt x="440" y="132"/>
                    </a:lnTo>
                    <a:lnTo>
                      <a:pt x="409" y="162"/>
                    </a:lnTo>
                    <a:lnTo>
                      <a:pt x="376" y="191"/>
                    </a:lnTo>
                    <a:lnTo>
                      <a:pt x="342" y="220"/>
                    </a:lnTo>
                    <a:lnTo>
                      <a:pt x="308" y="247"/>
                    </a:lnTo>
                    <a:lnTo>
                      <a:pt x="272" y="272"/>
                    </a:lnTo>
                    <a:lnTo>
                      <a:pt x="235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1" y="364"/>
                    </a:lnTo>
                    <a:lnTo>
                      <a:pt x="82" y="383"/>
                    </a:lnTo>
                    <a:lnTo>
                      <a:pt x="41" y="401"/>
                    </a:lnTo>
                    <a:lnTo>
                      <a:pt x="0" y="418"/>
                    </a:lnTo>
                    <a:lnTo>
                      <a:pt x="9" y="43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162840" y="2941560"/>
                <a:ext cx="179280" cy="138240"/>
              </a:xfrm>
              <a:custGeom>
                <a:avLst/>
                <a:gdLst/>
                <a:ahLst/>
                <a:rect l="l" t="t" r="r" b="b"/>
                <a:pathLst>
                  <a:path w="565" h="433">
                    <a:moveTo>
                      <a:pt x="9" y="433"/>
                    </a:moveTo>
                    <a:lnTo>
                      <a:pt x="51" y="416"/>
                    </a:lnTo>
                    <a:lnTo>
                      <a:pt x="91" y="398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4" y="312"/>
                    </a:lnTo>
                    <a:lnTo>
                      <a:pt x="281" y="288"/>
                    </a:lnTo>
                    <a:lnTo>
                      <a:pt x="317" y="262"/>
                    </a:lnTo>
                    <a:lnTo>
                      <a:pt x="352" y="235"/>
                    </a:lnTo>
                    <a:lnTo>
                      <a:pt x="384" y="207"/>
                    </a:lnTo>
                    <a:lnTo>
                      <a:pt x="418" y="178"/>
                    </a:lnTo>
                    <a:lnTo>
                      <a:pt x="449" y="148"/>
                    </a:lnTo>
                    <a:lnTo>
                      <a:pt x="480" y="117"/>
                    </a:lnTo>
                    <a:lnTo>
                      <a:pt x="509" y="84"/>
                    </a:lnTo>
                    <a:lnTo>
                      <a:pt x="538" y="51"/>
                    </a:lnTo>
                    <a:lnTo>
                      <a:pt x="565" y="17"/>
                    </a:lnTo>
                    <a:lnTo>
                      <a:pt x="557" y="0"/>
                    </a:lnTo>
                    <a:lnTo>
                      <a:pt x="529" y="35"/>
                    </a:lnTo>
                    <a:lnTo>
                      <a:pt x="501" y="68"/>
                    </a:lnTo>
                    <a:lnTo>
                      <a:pt x="471" y="101"/>
                    </a:lnTo>
                    <a:lnTo>
                      <a:pt x="441" y="132"/>
                    </a:lnTo>
                    <a:lnTo>
                      <a:pt x="409" y="163"/>
                    </a:lnTo>
                    <a:lnTo>
                      <a:pt x="377" y="192"/>
                    </a:lnTo>
                    <a:lnTo>
                      <a:pt x="343" y="220"/>
                    </a:lnTo>
                    <a:lnTo>
                      <a:pt x="309" y="248"/>
                    </a:lnTo>
                    <a:lnTo>
                      <a:pt x="273" y="273"/>
                    </a:lnTo>
                    <a:lnTo>
                      <a:pt x="236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1" y="364"/>
                    </a:lnTo>
                    <a:lnTo>
                      <a:pt x="82" y="384"/>
                    </a:lnTo>
                    <a:lnTo>
                      <a:pt x="42" y="402"/>
                    </a:lnTo>
                    <a:lnTo>
                      <a:pt x="0" y="419"/>
                    </a:lnTo>
                    <a:lnTo>
                      <a:pt x="9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161040" y="294012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566" h="433">
                    <a:moveTo>
                      <a:pt x="10" y="433"/>
                    </a:moveTo>
                    <a:lnTo>
                      <a:pt x="51" y="416"/>
                    </a:lnTo>
                    <a:lnTo>
                      <a:pt x="92" y="398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5" y="313"/>
                    </a:lnTo>
                    <a:lnTo>
                      <a:pt x="282" y="287"/>
                    </a:lnTo>
                    <a:lnTo>
                      <a:pt x="318" y="262"/>
                    </a:lnTo>
                    <a:lnTo>
                      <a:pt x="352" y="235"/>
                    </a:lnTo>
                    <a:lnTo>
                      <a:pt x="386" y="206"/>
                    </a:lnTo>
                    <a:lnTo>
                      <a:pt x="419" y="177"/>
                    </a:lnTo>
                    <a:lnTo>
                      <a:pt x="450" y="147"/>
                    </a:lnTo>
                    <a:lnTo>
                      <a:pt x="481" y="116"/>
                    </a:lnTo>
                    <a:lnTo>
                      <a:pt x="510" y="84"/>
                    </a:lnTo>
                    <a:lnTo>
                      <a:pt x="539" y="50"/>
                    </a:lnTo>
                    <a:lnTo>
                      <a:pt x="566" y="15"/>
                    </a:lnTo>
                    <a:lnTo>
                      <a:pt x="557" y="0"/>
                    </a:lnTo>
                    <a:lnTo>
                      <a:pt x="530" y="34"/>
                    </a:lnTo>
                    <a:lnTo>
                      <a:pt x="502" y="68"/>
                    </a:lnTo>
                    <a:lnTo>
                      <a:pt x="472" y="100"/>
                    </a:lnTo>
                    <a:lnTo>
                      <a:pt x="442" y="132"/>
                    </a:lnTo>
                    <a:lnTo>
                      <a:pt x="410" y="162"/>
                    </a:lnTo>
                    <a:lnTo>
                      <a:pt x="378" y="192"/>
                    </a:lnTo>
                    <a:lnTo>
                      <a:pt x="344" y="220"/>
                    </a:lnTo>
                    <a:lnTo>
                      <a:pt x="309" y="247"/>
                    </a:lnTo>
                    <a:lnTo>
                      <a:pt x="274" y="273"/>
                    </a:lnTo>
                    <a:lnTo>
                      <a:pt x="237" y="298"/>
                    </a:lnTo>
                    <a:lnTo>
                      <a:pt x="199" y="321"/>
                    </a:lnTo>
                    <a:lnTo>
                      <a:pt x="161" y="343"/>
                    </a:lnTo>
                    <a:lnTo>
                      <a:pt x="122" y="364"/>
                    </a:lnTo>
                    <a:lnTo>
                      <a:pt x="82" y="384"/>
                    </a:lnTo>
                    <a:lnTo>
                      <a:pt x="41" y="402"/>
                    </a:lnTo>
                    <a:lnTo>
                      <a:pt x="0" y="419"/>
                    </a:lnTo>
                    <a:lnTo>
                      <a:pt x="10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59600" y="2936880"/>
                <a:ext cx="180720" cy="138240"/>
              </a:xfrm>
              <a:custGeom>
                <a:avLst/>
                <a:gdLst/>
                <a:ahLst/>
                <a:rect l="l" t="t" r="r" b="b"/>
                <a:pathLst>
                  <a:path w="567" h="434">
                    <a:moveTo>
                      <a:pt x="10" y="434"/>
                    </a:moveTo>
                    <a:lnTo>
                      <a:pt x="52" y="417"/>
                    </a:lnTo>
                    <a:lnTo>
                      <a:pt x="92" y="399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6" y="313"/>
                    </a:lnTo>
                    <a:lnTo>
                      <a:pt x="283" y="288"/>
                    </a:lnTo>
                    <a:lnTo>
                      <a:pt x="319" y="263"/>
                    </a:lnTo>
                    <a:lnTo>
                      <a:pt x="353" y="235"/>
                    </a:lnTo>
                    <a:lnTo>
                      <a:pt x="387" y="207"/>
                    </a:lnTo>
                    <a:lnTo>
                      <a:pt x="419" y="178"/>
                    </a:lnTo>
                    <a:lnTo>
                      <a:pt x="451" y="147"/>
                    </a:lnTo>
                    <a:lnTo>
                      <a:pt x="481" y="116"/>
                    </a:lnTo>
                    <a:lnTo>
                      <a:pt x="511" y="83"/>
                    </a:lnTo>
                    <a:lnTo>
                      <a:pt x="539" y="50"/>
                    </a:lnTo>
                    <a:lnTo>
                      <a:pt x="567" y="15"/>
                    </a:lnTo>
                    <a:lnTo>
                      <a:pt x="559" y="2"/>
                    </a:lnTo>
                    <a:lnTo>
                      <a:pt x="557" y="0"/>
                    </a:lnTo>
                    <a:lnTo>
                      <a:pt x="530" y="35"/>
                    </a:lnTo>
                    <a:lnTo>
                      <a:pt x="501" y="69"/>
                    </a:lnTo>
                    <a:lnTo>
                      <a:pt x="472" y="101"/>
                    </a:lnTo>
                    <a:lnTo>
                      <a:pt x="442" y="133"/>
                    </a:lnTo>
                    <a:lnTo>
                      <a:pt x="410" y="163"/>
                    </a:lnTo>
                    <a:lnTo>
                      <a:pt x="377" y="192"/>
                    </a:lnTo>
                    <a:lnTo>
                      <a:pt x="344" y="221"/>
                    </a:lnTo>
                    <a:lnTo>
                      <a:pt x="309" y="248"/>
                    </a:lnTo>
                    <a:lnTo>
                      <a:pt x="273" y="274"/>
                    </a:lnTo>
                    <a:lnTo>
                      <a:pt x="237" y="298"/>
                    </a:lnTo>
                    <a:lnTo>
                      <a:pt x="200" y="323"/>
                    </a:lnTo>
                    <a:lnTo>
                      <a:pt x="161" y="345"/>
                    </a:lnTo>
                    <a:lnTo>
                      <a:pt x="122" y="366"/>
                    </a:lnTo>
                    <a:lnTo>
                      <a:pt x="82" y="385"/>
                    </a:lnTo>
                    <a:lnTo>
                      <a:pt x="41" y="402"/>
                    </a:lnTo>
                    <a:lnTo>
                      <a:pt x="0" y="419"/>
                    </a:lnTo>
                    <a:lnTo>
                      <a:pt x="10" y="4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57800" y="2935440"/>
                <a:ext cx="181080" cy="137880"/>
              </a:xfrm>
              <a:custGeom>
                <a:avLst/>
                <a:gdLst/>
                <a:ahLst/>
                <a:rect l="l" t="t" r="r" b="b"/>
                <a:pathLst>
                  <a:path w="567" h="433">
                    <a:moveTo>
                      <a:pt x="10" y="433"/>
                    </a:moveTo>
                    <a:lnTo>
                      <a:pt x="51" y="416"/>
                    </a:lnTo>
                    <a:lnTo>
                      <a:pt x="92" y="398"/>
                    </a:lnTo>
                    <a:lnTo>
                      <a:pt x="132" y="378"/>
                    </a:lnTo>
                    <a:lnTo>
                      <a:pt x="171" y="357"/>
                    </a:lnTo>
                    <a:lnTo>
                      <a:pt x="209" y="335"/>
                    </a:lnTo>
                    <a:lnTo>
                      <a:pt x="247" y="312"/>
                    </a:lnTo>
                    <a:lnTo>
                      <a:pt x="284" y="287"/>
                    </a:lnTo>
                    <a:lnTo>
                      <a:pt x="319" y="261"/>
                    </a:lnTo>
                    <a:lnTo>
                      <a:pt x="354" y="234"/>
                    </a:lnTo>
                    <a:lnTo>
                      <a:pt x="388" y="206"/>
                    </a:lnTo>
                    <a:lnTo>
                      <a:pt x="420" y="176"/>
                    </a:lnTo>
                    <a:lnTo>
                      <a:pt x="452" y="146"/>
                    </a:lnTo>
                    <a:lnTo>
                      <a:pt x="482" y="114"/>
                    </a:lnTo>
                    <a:lnTo>
                      <a:pt x="512" y="82"/>
                    </a:lnTo>
                    <a:lnTo>
                      <a:pt x="540" y="48"/>
                    </a:lnTo>
                    <a:lnTo>
                      <a:pt x="567" y="14"/>
                    </a:lnTo>
                    <a:lnTo>
                      <a:pt x="564" y="8"/>
                    </a:lnTo>
                    <a:lnTo>
                      <a:pt x="556" y="0"/>
                    </a:lnTo>
                    <a:lnTo>
                      <a:pt x="530" y="35"/>
                    </a:lnTo>
                    <a:lnTo>
                      <a:pt x="501" y="68"/>
                    </a:lnTo>
                    <a:lnTo>
                      <a:pt x="472" y="101"/>
                    </a:lnTo>
                    <a:lnTo>
                      <a:pt x="441" y="132"/>
                    </a:lnTo>
                    <a:lnTo>
                      <a:pt x="410" y="163"/>
                    </a:lnTo>
                    <a:lnTo>
                      <a:pt x="377" y="192"/>
                    </a:lnTo>
                    <a:lnTo>
                      <a:pt x="344" y="220"/>
                    </a:lnTo>
                    <a:lnTo>
                      <a:pt x="309" y="248"/>
                    </a:lnTo>
                    <a:lnTo>
                      <a:pt x="273" y="274"/>
                    </a:lnTo>
                    <a:lnTo>
                      <a:pt x="237" y="298"/>
                    </a:lnTo>
                    <a:lnTo>
                      <a:pt x="200" y="321"/>
                    </a:lnTo>
                    <a:lnTo>
                      <a:pt x="162" y="343"/>
                    </a:lnTo>
                    <a:lnTo>
                      <a:pt x="122" y="364"/>
                    </a:lnTo>
                    <a:lnTo>
                      <a:pt x="83" y="384"/>
                    </a:lnTo>
                    <a:lnTo>
                      <a:pt x="42" y="402"/>
                    </a:lnTo>
                    <a:lnTo>
                      <a:pt x="0" y="418"/>
                    </a:lnTo>
                    <a:lnTo>
                      <a:pt x="10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157800" y="29336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6" h="431">
                    <a:moveTo>
                      <a:pt x="9" y="431"/>
                    </a:moveTo>
                    <a:lnTo>
                      <a:pt x="50" y="414"/>
                    </a:lnTo>
                    <a:lnTo>
                      <a:pt x="91" y="397"/>
                    </a:lnTo>
                    <a:lnTo>
                      <a:pt x="131" y="378"/>
                    </a:lnTo>
                    <a:lnTo>
                      <a:pt x="170" y="357"/>
                    </a:lnTo>
                    <a:lnTo>
                      <a:pt x="209" y="335"/>
                    </a:lnTo>
                    <a:lnTo>
                      <a:pt x="246" y="310"/>
                    </a:lnTo>
                    <a:lnTo>
                      <a:pt x="282" y="286"/>
                    </a:lnTo>
                    <a:lnTo>
                      <a:pt x="318" y="260"/>
                    </a:lnTo>
                    <a:lnTo>
                      <a:pt x="353" y="233"/>
                    </a:lnTo>
                    <a:lnTo>
                      <a:pt x="386" y="204"/>
                    </a:lnTo>
                    <a:lnTo>
                      <a:pt x="419" y="175"/>
                    </a:lnTo>
                    <a:lnTo>
                      <a:pt x="451" y="145"/>
                    </a:lnTo>
                    <a:lnTo>
                      <a:pt x="481" y="113"/>
                    </a:lnTo>
                    <a:lnTo>
                      <a:pt x="510" y="81"/>
                    </a:lnTo>
                    <a:lnTo>
                      <a:pt x="539" y="47"/>
                    </a:lnTo>
                    <a:lnTo>
                      <a:pt x="566" y="12"/>
                    </a:lnTo>
                    <a:lnTo>
                      <a:pt x="555" y="0"/>
                    </a:lnTo>
                    <a:lnTo>
                      <a:pt x="527" y="34"/>
                    </a:lnTo>
                    <a:lnTo>
                      <a:pt x="499" y="68"/>
                    </a:lnTo>
                    <a:lnTo>
                      <a:pt x="469" y="100"/>
                    </a:lnTo>
                    <a:lnTo>
                      <a:pt x="439" y="132"/>
                    </a:lnTo>
                    <a:lnTo>
                      <a:pt x="409" y="162"/>
                    </a:lnTo>
                    <a:lnTo>
                      <a:pt x="376" y="192"/>
                    </a:lnTo>
                    <a:lnTo>
                      <a:pt x="342" y="220"/>
                    </a:lnTo>
                    <a:lnTo>
                      <a:pt x="308" y="247"/>
                    </a:lnTo>
                    <a:lnTo>
                      <a:pt x="272" y="273"/>
                    </a:lnTo>
                    <a:lnTo>
                      <a:pt x="236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2" y="364"/>
                    </a:lnTo>
                    <a:lnTo>
                      <a:pt x="82" y="383"/>
                    </a:lnTo>
                    <a:lnTo>
                      <a:pt x="41" y="401"/>
                    </a:lnTo>
                    <a:lnTo>
                      <a:pt x="0" y="418"/>
                    </a:lnTo>
                    <a:lnTo>
                      <a:pt x="9" y="43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54560" y="293220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566" h="430">
                    <a:moveTo>
                      <a:pt x="10" y="430"/>
                    </a:moveTo>
                    <a:lnTo>
                      <a:pt x="52" y="414"/>
                    </a:lnTo>
                    <a:lnTo>
                      <a:pt x="93" y="396"/>
                    </a:lnTo>
                    <a:lnTo>
                      <a:pt x="132" y="376"/>
                    </a:lnTo>
                    <a:lnTo>
                      <a:pt x="172" y="355"/>
                    </a:lnTo>
                    <a:lnTo>
                      <a:pt x="210" y="333"/>
                    </a:lnTo>
                    <a:lnTo>
                      <a:pt x="247" y="310"/>
                    </a:lnTo>
                    <a:lnTo>
                      <a:pt x="283" y="286"/>
                    </a:lnTo>
                    <a:lnTo>
                      <a:pt x="319" y="260"/>
                    </a:lnTo>
                    <a:lnTo>
                      <a:pt x="354" y="232"/>
                    </a:lnTo>
                    <a:lnTo>
                      <a:pt x="387" y="204"/>
                    </a:lnTo>
                    <a:lnTo>
                      <a:pt x="420" y="175"/>
                    </a:lnTo>
                    <a:lnTo>
                      <a:pt x="451" y="144"/>
                    </a:lnTo>
                    <a:lnTo>
                      <a:pt x="482" y="113"/>
                    </a:lnTo>
                    <a:lnTo>
                      <a:pt x="511" y="80"/>
                    </a:lnTo>
                    <a:lnTo>
                      <a:pt x="540" y="47"/>
                    </a:lnTo>
                    <a:lnTo>
                      <a:pt x="566" y="12"/>
                    </a:lnTo>
                    <a:lnTo>
                      <a:pt x="554" y="0"/>
                    </a:lnTo>
                    <a:lnTo>
                      <a:pt x="527" y="35"/>
                    </a:lnTo>
                    <a:lnTo>
                      <a:pt x="500" y="69"/>
                    </a:lnTo>
                    <a:lnTo>
                      <a:pt x="470" y="101"/>
                    </a:lnTo>
                    <a:lnTo>
                      <a:pt x="440" y="132"/>
                    </a:lnTo>
                    <a:lnTo>
                      <a:pt x="408" y="162"/>
                    </a:lnTo>
                    <a:lnTo>
                      <a:pt x="376" y="192"/>
                    </a:lnTo>
                    <a:lnTo>
                      <a:pt x="343" y="220"/>
                    </a:lnTo>
                    <a:lnTo>
                      <a:pt x="308" y="247"/>
                    </a:lnTo>
                    <a:lnTo>
                      <a:pt x="273" y="272"/>
                    </a:lnTo>
                    <a:lnTo>
                      <a:pt x="237" y="297"/>
                    </a:lnTo>
                    <a:lnTo>
                      <a:pt x="199" y="321"/>
                    </a:lnTo>
                    <a:lnTo>
                      <a:pt x="161" y="342"/>
                    </a:lnTo>
                    <a:lnTo>
                      <a:pt x="122" y="363"/>
                    </a:lnTo>
                    <a:lnTo>
                      <a:pt x="82" y="382"/>
                    </a:lnTo>
                    <a:lnTo>
                      <a:pt x="42" y="399"/>
                    </a:lnTo>
                    <a:lnTo>
                      <a:pt x="0" y="416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54560" y="292896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5" h="430">
                    <a:moveTo>
                      <a:pt x="10" y="430"/>
                    </a:moveTo>
                    <a:lnTo>
                      <a:pt x="51" y="413"/>
                    </a:lnTo>
                    <a:lnTo>
                      <a:pt x="92" y="395"/>
                    </a:lnTo>
                    <a:lnTo>
                      <a:pt x="132" y="376"/>
                    </a:lnTo>
                    <a:lnTo>
                      <a:pt x="170" y="355"/>
                    </a:lnTo>
                    <a:lnTo>
                      <a:pt x="208" y="333"/>
                    </a:lnTo>
                    <a:lnTo>
                      <a:pt x="246" y="310"/>
                    </a:lnTo>
                    <a:lnTo>
                      <a:pt x="282" y="285"/>
                    </a:lnTo>
                    <a:lnTo>
                      <a:pt x="318" y="259"/>
                    </a:lnTo>
                    <a:lnTo>
                      <a:pt x="352" y="232"/>
                    </a:lnTo>
                    <a:lnTo>
                      <a:pt x="386" y="204"/>
                    </a:lnTo>
                    <a:lnTo>
                      <a:pt x="419" y="174"/>
                    </a:lnTo>
                    <a:lnTo>
                      <a:pt x="449" y="144"/>
                    </a:lnTo>
                    <a:lnTo>
                      <a:pt x="479" y="112"/>
                    </a:lnTo>
                    <a:lnTo>
                      <a:pt x="509" y="80"/>
                    </a:lnTo>
                    <a:lnTo>
                      <a:pt x="537" y="46"/>
                    </a:lnTo>
                    <a:lnTo>
                      <a:pt x="565" y="12"/>
                    </a:lnTo>
                    <a:lnTo>
                      <a:pt x="552" y="0"/>
                    </a:lnTo>
                    <a:lnTo>
                      <a:pt x="526" y="35"/>
                    </a:lnTo>
                    <a:lnTo>
                      <a:pt x="497" y="68"/>
                    </a:lnTo>
                    <a:lnTo>
                      <a:pt x="468" y="101"/>
                    </a:lnTo>
                    <a:lnTo>
                      <a:pt x="438" y="132"/>
                    </a:lnTo>
                    <a:lnTo>
                      <a:pt x="407" y="162"/>
                    </a:lnTo>
                    <a:lnTo>
                      <a:pt x="374" y="191"/>
                    </a:lnTo>
                    <a:lnTo>
                      <a:pt x="341" y="220"/>
                    </a:lnTo>
                    <a:lnTo>
                      <a:pt x="307" y="247"/>
                    </a:lnTo>
                    <a:lnTo>
                      <a:pt x="271" y="272"/>
                    </a:lnTo>
                    <a:lnTo>
                      <a:pt x="236" y="296"/>
                    </a:lnTo>
                    <a:lnTo>
                      <a:pt x="198" y="319"/>
                    </a:lnTo>
                    <a:lnTo>
                      <a:pt x="160" y="341"/>
                    </a:lnTo>
                    <a:lnTo>
                      <a:pt x="121" y="362"/>
                    </a:lnTo>
                    <a:lnTo>
                      <a:pt x="81" y="381"/>
                    </a:lnTo>
                    <a:lnTo>
                      <a:pt x="41" y="399"/>
                    </a:lnTo>
                    <a:lnTo>
                      <a:pt x="0" y="415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153120" y="2927520"/>
                <a:ext cx="177840" cy="136440"/>
              </a:xfrm>
              <a:custGeom>
                <a:avLst/>
                <a:gdLst/>
                <a:ahLst/>
                <a:rect l="l" t="t" r="r" b="b"/>
                <a:pathLst>
                  <a:path w="563" h="428">
                    <a:moveTo>
                      <a:pt x="9" y="428"/>
                    </a:moveTo>
                    <a:lnTo>
                      <a:pt x="51" y="411"/>
                    </a:lnTo>
                    <a:lnTo>
                      <a:pt x="91" y="394"/>
                    </a:lnTo>
                    <a:lnTo>
                      <a:pt x="131" y="375"/>
                    </a:lnTo>
                    <a:lnTo>
                      <a:pt x="170" y="354"/>
                    </a:lnTo>
                    <a:lnTo>
                      <a:pt x="208" y="333"/>
                    </a:lnTo>
                    <a:lnTo>
                      <a:pt x="246" y="309"/>
                    </a:lnTo>
                    <a:lnTo>
                      <a:pt x="282" y="284"/>
                    </a:lnTo>
                    <a:lnTo>
                      <a:pt x="317" y="259"/>
                    </a:lnTo>
                    <a:lnTo>
                      <a:pt x="352" y="232"/>
                    </a:lnTo>
                    <a:lnTo>
                      <a:pt x="385" y="204"/>
                    </a:lnTo>
                    <a:lnTo>
                      <a:pt x="417" y="174"/>
                    </a:lnTo>
                    <a:lnTo>
                      <a:pt x="449" y="144"/>
                    </a:lnTo>
                    <a:lnTo>
                      <a:pt x="479" y="113"/>
                    </a:lnTo>
                    <a:lnTo>
                      <a:pt x="509" y="81"/>
                    </a:lnTo>
                    <a:lnTo>
                      <a:pt x="536" y="47"/>
                    </a:lnTo>
                    <a:lnTo>
                      <a:pt x="563" y="12"/>
                    </a:lnTo>
                    <a:lnTo>
                      <a:pt x="551" y="0"/>
                    </a:lnTo>
                    <a:lnTo>
                      <a:pt x="524" y="34"/>
                    </a:lnTo>
                    <a:lnTo>
                      <a:pt x="497" y="68"/>
                    </a:lnTo>
                    <a:lnTo>
                      <a:pt x="468" y="101"/>
                    </a:lnTo>
                    <a:lnTo>
                      <a:pt x="437" y="132"/>
                    </a:lnTo>
                    <a:lnTo>
                      <a:pt x="407" y="163"/>
                    </a:lnTo>
                    <a:lnTo>
                      <a:pt x="374" y="191"/>
                    </a:lnTo>
                    <a:lnTo>
                      <a:pt x="340" y="219"/>
                    </a:lnTo>
                    <a:lnTo>
                      <a:pt x="307" y="246"/>
                    </a:lnTo>
                    <a:lnTo>
                      <a:pt x="271" y="272"/>
                    </a:lnTo>
                    <a:lnTo>
                      <a:pt x="235" y="296"/>
                    </a:lnTo>
                    <a:lnTo>
                      <a:pt x="198" y="319"/>
                    </a:lnTo>
                    <a:lnTo>
                      <a:pt x="160" y="341"/>
                    </a:lnTo>
                    <a:lnTo>
                      <a:pt x="121" y="361"/>
                    </a:lnTo>
                    <a:lnTo>
                      <a:pt x="82" y="380"/>
                    </a:lnTo>
                    <a:lnTo>
                      <a:pt x="41" y="398"/>
                    </a:lnTo>
                    <a:lnTo>
                      <a:pt x="0" y="414"/>
                    </a:lnTo>
                    <a:lnTo>
                      <a:pt x="9" y="428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51680" y="292572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6">
                    <a:moveTo>
                      <a:pt x="10" y="426"/>
                    </a:moveTo>
                    <a:lnTo>
                      <a:pt x="51" y="410"/>
                    </a:lnTo>
                    <a:lnTo>
                      <a:pt x="91" y="392"/>
                    </a:lnTo>
                    <a:lnTo>
                      <a:pt x="131" y="373"/>
                    </a:lnTo>
                    <a:lnTo>
                      <a:pt x="170" y="352"/>
                    </a:lnTo>
                    <a:lnTo>
                      <a:pt x="208" y="330"/>
                    </a:lnTo>
                    <a:lnTo>
                      <a:pt x="246" y="307"/>
                    </a:lnTo>
                    <a:lnTo>
                      <a:pt x="281" y="283"/>
                    </a:lnTo>
                    <a:lnTo>
                      <a:pt x="317" y="258"/>
                    </a:lnTo>
                    <a:lnTo>
                      <a:pt x="351" y="231"/>
                    </a:lnTo>
                    <a:lnTo>
                      <a:pt x="384" y="202"/>
                    </a:lnTo>
                    <a:lnTo>
                      <a:pt x="417" y="173"/>
                    </a:lnTo>
                    <a:lnTo>
                      <a:pt x="448" y="143"/>
                    </a:lnTo>
                    <a:lnTo>
                      <a:pt x="478" y="112"/>
                    </a:lnTo>
                    <a:lnTo>
                      <a:pt x="507" y="79"/>
                    </a:lnTo>
                    <a:lnTo>
                      <a:pt x="536" y="46"/>
                    </a:lnTo>
                    <a:lnTo>
                      <a:pt x="562" y="11"/>
                    </a:lnTo>
                    <a:lnTo>
                      <a:pt x="550" y="0"/>
                    </a:lnTo>
                    <a:lnTo>
                      <a:pt x="523" y="33"/>
                    </a:lnTo>
                    <a:lnTo>
                      <a:pt x="496" y="67"/>
                    </a:lnTo>
                    <a:lnTo>
                      <a:pt x="466" y="99"/>
                    </a:lnTo>
                    <a:lnTo>
                      <a:pt x="437" y="131"/>
                    </a:lnTo>
                    <a:lnTo>
                      <a:pt x="405" y="161"/>
                    </a:lnTo>
                    <a:lnTo>
                      <a:pt x="374" y="190"/>
                    </a:lnTo>
                    <a:lnTo>
                      <a:pt x="340" y="218"/>
                    </a:lnTo>
                    <a:lnTo>
                      <a:pt x="307" y="244"/>
                    </a:lnTo>
                    <a:lnTo>
                      <a:pt x="271" y="270"/>
                    </a:lnTo>
                    <a:lnTo>
                      <a:pt x="235" y="295"/>
                    </a:lnTo>
                    <a:lnTo>
                      <a:pt x="197" y="318"/>
                    </a:lnTo>
                    <a:lnTo>
                      <a:pt x="159" y="339"/>
                    </a:lnTo>
                    <a:lnTo>
                      <a:pt x="121" y="360"/>
                    </a:lnTo>
                    <a:lnTo>
                      <a:pt x="82" y="379"/>
                    </a:lnTo>
                    <a:lnTo>
                      <a:pt x="41" y="395"/>
                    </a:lnTo>
                    <a:lnTo>
                      <a:pt x="0" y="411"/>
                    </a:lnTo>
                    <a:lnTo>
                      <a:pt x="10" y="42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48440" y="292428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562" h="426">
                    <a:moveTo>
                      <a:pt x="11" y="426"/>
                    </a:moveTo>
                    <a:lnTo>
                      <a:pt x="52" y="410"/>
                    </a:lnTo>
                    <a:lnTo>
                      <a:pt x="93" y="392"/>
                    </a:lnTo>
                    <a:lnTo>
                      <a:pt x="132" y="373"/>
                    </a:lnTo>
                    <a:lnTo>
                      <a:pt x="171" y="353"/>
                    </a:lnTo>
                    <a:lnTo>
                      <a:pt x="209" y="331"/>
                    </a:lnTo>
                    <a:lnTo>
                      <a:pt x="246" y="308"/>
                    </a:lnTo>
                    <a:lnTo>
                      <a:pt x="282" y="284"/>
                    </a:lnTo>
                    <a:lnTo>
                      <a:pt x="318" y="258"/>
                    </a:lnTo>
                    <a:lnTo>
                      <a:pt x="351" y="231"/>
                    </a:lnTo>
                    <a:lnTo>
                      <a:pt x="385" y="203"/>
                    </a:lnTo>
                    <a:lnTo>
                      <a:pt x="418" y="175"/>
                    </a:lnTo>
                    <a:lnTo>
                      <a:pt x="448" y="144"/>
                    </a:lnTo>
                    <a:lnTo>
                      <a:pt x="479" y="113"/>
                    </a:lnTo>
                    <a:lnTo>
                      <a:pt x="508" y="80"/>
                    </a:lnTo>
                    <a:lnTo>
                      <a:pt x="535" y="46"/>
                    </a:lnTo>
                    <a:lnTo>
                      <a:pt x="562" y="12"/>
                    </a:lnTo>
                    <a:lnTo>
                      <a:pt x="550" y="0"/>
                    </a:lnTo>
                    <a:lnTo>
                      <a:pt x="524" y="35"/>
                    </a:lnTo>
                    <a:lnTo>
                      <a:pt x="495" y="67"/>
                    </a:lnTo>
                    <a:lnTo>
                      <a:pt x="467" y="100"/>
                    </a:lnTo>
                    <a:lnTo>
                      <a:pt x="438" y="132"/>
                    </a:lnTo>
                    <a:lnTo>
                      <a:pt x="406" y="162"/>
                    </a:lnTo>
                    <a:lnTo>
                      <a:pt x="374" y="190"/>
                    </a:lnTo>
                    <a:lnTo>
                      <a:pt x="341" y="219"/>
                    </a:lnTo>
                    <a:lnTo>
                      <a:pt x="306" y="245"/>
                    </a:lnTo>
                    <a:lnTo>
                      <a:pt x="272" y="270"/>
                    </a:lnTo>
                    <a:lnTo>
                      <a:pt x="236" y="295"/>
                    </a:lnTo>
                    <a:lnTo>
                      <a:pt x="198" y="317"/>
                    </a:lnTo>
                    <a:lnTo>
                      <a:pt x="160" y="339"/>
                    </a:lnTo>
                    <a:lnTo>
                      <a:pt x="121" y="359"/>
                    </a:lnTo>
                    <a:lnTo>
                      <a:pt x="82" y="378"/>
                    </a:lnTo>
                    <a:lnTo>
                      <a:pt x="41" y="396"/>
                    </a:lnTo>
                    <a:lnTo>
                      <a:pt x="0" y="412"/>
                    </a:lnTo>
                    <a:lnTo>
                      <a:pt x="2" y="414"/>
                    </a:lnTo>
                    <a:lnTo>
                      <a:pt x="11" y="42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146640" y="2922480"/>
                <a:ext cx="179640" cy="133560"/>
              </a:xfrm>
              <a:custGeom>
                <a:avLst/>
                <a:gdLst/>
                <a:ahLst/>
                <a:rect l="l" t="t" r="r" b="b"/>
                <a:pathLst>
                  <a:path w="562" h="424">
                    <a:moveTo>
                      <a:pt x="12" y="424"/>
                    </a:moveTo>
                    <a:lnTo>
                      <a:pt x="53" y="408"/>
                    </a:lnTo>
                    <a:lnTo>
                      <a:pt x="94" y="392"/>
                    </a:lnTo>
                    <a:lnTo>
                      <a:pt x="133" y="373"/>
                    </a:lnTo>
                    <a:lnTo>
                      <a:pt x="171" y="352"/>
                    </a:lnTo>
                    <a:lnTo>
                      <a:pt x="209" y="331"/>
                    </a:lnTo>
                    <a:lnTo>
                      <a:pt x="247" y="308"/>
                    </a:lnTo>
                    <a:lnTo>
                      <a:pt x="283" y="283"/>
                    </a:lnTo>
                    <a:lnTo>
                      <a:pt x="319" y="257"/>
                    </a:lnTo>
                    <a:lnTo>
                      <a:pt x="352" y="231"/>
                    </a:lnTo>
                    <a:lnTo>
                      <a:pt x="386" y="203"/>
                    </a:lnTo>
                    <a:lnTo>
                      <a:pt x="417" y="174"/>
                    </a:lnTo>
                    <a:lnTo>
                      <a:pt x="449" y="144"/>
                    </a:lnTo>
                    <a:lnTo>
                      <a:pt x="478" y="112"/>
                    </a:lnTo>
                    <a:lnTo>
                      <a:pt x="508" y="80"/>
                    </a:lnTo>
                    <a:lnTo>
                      <a:pt x="535" y="46"/>
                    </a:lnTo>
                    <a:lnTo>
                      <a:pt x="562" y="13"/>
                    </a:lnTo>
                    <a:lnTo>
                      <a:pt x="550" y="0"/>
                    </a:lnTo>
                    <a:lnTo>
                      <a:pt x="524" y="35"/>
                    </a:lnTo>
                    <a:lnTo>
                      <a:pt x="496" y="68"/>
                    </a:lnTo>
                    <a:lnTo>
                      <a:pt x="467" y="100"/>
                    </a:lnTo>
                    <a:lnTo>
                      <a:pt x="437" y="131"/>
                    </a:lnTo>
                    <a:lnTo>
                      <a:pt x="406" y="162"/>
                    </a:lnTo>
                    <a:lnTo>
                      <a:pt x="374" y="191"/>
                    </a:lnTo>
                    <a:lnTo>
                      <a:pt x="341" y="218"/>
                    </a:lnTo>
                    <a:lnTo>
                      <a:pt x="307" y="245"/>
                    </a:lnTo>
                    <a:lnTo>
                      <a:pt x="271" y="271"/>
                    </a:lnTo>
                    <a:lnTo>
                      <a:pt x="236" y="295"/>
                    </a:lnTo>
                    <a:lnTo>
                      <a:pt x="199" y="318"/>
                    </a:lnTo>
                    <a:lnTo>
                      <a:pt x="160" y="339"/>
                    </a:lnTo>
                    <a:lnTo>
                      <a:pt x="122" y="359"/>
                    </a:lnTo>
                    <a:lnTo>
                      <a:pt x="82" y="378"/>
                    </a:lnTo>
                    <a:lnTo>
                      <a:pt x="41" y="396"/>
                    </a:lnTo>
                    <a:lnTo>
                      <a:pt x="0" y="412"/>
                    </a:lnTo>
                    <a:lnTo>
                      <a:pt x="8" y="420"/>
                    </a:lnTo>
                    <a:lnTo>
                      <a:pt x="12" y="424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145200" y="291924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4">
                    <a:moveTo>
                      <a:pt x="12" y="424"/>
                    </a:moveTo>
                    <a:lnTo>
                      <a:pt x="53" y="408"/>
                    </a:lnTo>
                    <a:lnTo>
                      <a:pt x="94" y="390"/>
                    </a:lnTo>
                    <a:lnTo>
                      <a:pt x="133" y="371"/>
                    </a:lnTo>
                    <a:lnTo>
                      <a:pt x="172" y="351"/>
                    </a:lnTo>
                    <a:lnTo>
                      <a:pt x="210" y="329"/>
                    </a:lnTo>
                    <a:lnTo>
                      <a:pt x="248" y="307"/>
                    </a:lnTo>
                    <a:lnTo>
                      <a:pt x="284" y="282"/>
                    </a:lnTo>
                    <a:lnTo>
                      <a:pt x="318" y="257"/>
                    </a:lnTo>
                    <a:lnTo>
                      <a:pt x="353" y="231"/>
                    </a:lnTo>
                    <a:lnTo>
                      <a:pt x="386" y="202"/>
                    </a:lnTo>
                    <a:lnTo>
                      <a:pt x="418" y="174"/>
                    </a:lnTo>
                    <a:lnTo>
                      <a:pt x="450" y="144"/>
                    </a:lnTo>
                    <a:lnTo>
                      <a:pt x="479" y="112"/>
                    </a:lnTo>
                    <a:lnTo>
                      <a:pt x="507" y="79"/>
                    </a:lnTo>
                    <a:lnTo>
                      <a:pt x="536" y="47"/>
                    </a:lnTo>
                    <a:lnTo>
                      <a:pt x="562" y="12"/>
                    </a:lnTo>
                    <a:lnTo>
                      <a:pt x="553" y="3"/>
                    </a:lnTo>
                    <a:lnTo>
                      <a:pt x="551" y="0"/>
                    </a:lnTo>
                    <a:lnTo>
                      <a:pt x="524" y="33"/>
                    </a:lnTo>
                    <a:lnTo>
                      <a:pt x="497" y="67"/>
                    </a:lnTo>
                    <a:lnTo>
                      <a:pt x="468" y="99"/>
                    </a:lnTo>
                    <a:lnTo>
                      <a:pt x="438" y="131"/>
                    </a:lnTo>
                    <a:lnTo>
                      <a:pt x="407" y="161"/>
                    </a:lnTo>
                    <a:lnTo>
                      <a:pt x="374" y="191"/>
                    </a:lnTo>
                    <a:lnTo>
                      <a:pt x="341" y="218"/>
                    </a:lnTo>
                    <a:lnTo>
                      <a:pt x="307" y="244"/>
                    </a:lnTo>
                    <a:lnTo>
                      <a:pt x="272" y="271"/>
                    </a:lnTo>
                    <a:lnTo>
                      <a:pt x="235" y="295"/>
                    </a:lnTo>
                    <a:lnTo>
                      <a:pt x="198" y="317"/>
                    </a:lnTo>
                    <a:lnTo>
                      <a:pt x="161" y="339"/>
                    </a:lnTo>
                    <a:lnTo>
                      <a:pt x="122" y="359"/>
                    </a:lnTo>
                    <a:lnTo>
                      <a:pt x="82" y="378"/>
                    </a:lnTo>
                    <a:lnTo>
                      <a:pt x="41" y="394"/>
                    </a:lnTo>
                    <a:lnTo>
                      <a:pt x="0" y="410"/>
                    </a:lnTo>
                    <a:lnTo>
                      <a:pt x="12" y="42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143760" y="291780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3" h="427">
                    <a:moveTo>
                      <a:pt x="13" y="427"/>
                    </a:moveTo>
                    <a:lnTo>
                      <a:pt x="54" y="411"/>
                    </a:lnTo>
                    <a:lnTo>
                      <a:pt x="95" y="393"/>
                    </a:lnTo>
                    <a:lnTo>
                      <a:pt x="135" y="374"/>
                    </a:lnTo>
                    <a:lnTo>
                      <a:pt x="173" y="354"/>
                    </a:lnTo>
                    <a:lnTo>
                      <a:pt x="212" y="333"/>
                    </a:lnTo>
                    <a:lnTo>
                      <a:pt x="249" y="310"/>
                    </a:lnTo>
                    <a:lnTo>
                      <a:pt x="284" y="286"/>
                    </a:lnTo>
                    <a:lnTo>
                      <a:pt x="320" y="260"/>
                    </a:lnTo>
                    <a:lnTo>
                      <a:pt x="354" y="233"/>
                    </a:lnTo>
                    <a:lnTo>
                      <a:pt x="387" y="206"/>
                    </a:lnTo>
                    <a:lnTo>
                      <a:pt x="419" y="177"/>
                    </a:lnTo>
                    <a:lnTo>
                      <a:pt x="450" y="146"/>
                    </a:lnTo>
                    <a:lnTo>
                      <a:pt x="480" y="115"/>
                    </a:lnTo>
                    <a:lnTo>
                      <a:pt x="509" y="83"/>
                    </a:lnTo>
                    <a:lnTo>
                      <a:pt x="537" y="50"/>
                    </a:lnTo>
                    <a:lnTo>
                      <a:pt x="563" y="15"/>
                    </a:lnTo>
                    <a:lnTo>
                      <a:pt x="560" y="12"/>
                    </a:lnTo>
                    <a:lnTo>
                      <a:pt x="553" y="0"/>
                    </a:lnTo>
                    <a:lnTo>
                      <a:pt x="527" y="35"/>
                    </a:lnTo>
                    <a:lnTo>
                      <a:pt x="500" y="69"/>
                    </a:lnTo>
                    <a:lnTo>
                      <a:pt x="470" y="101"/>
                    </a:lnTo>
                    <a:lnTo>
                      <a:pt x="441" y="133"/>
                    </a:lnTo>
                    <a:lnTo>
                      <a:pt x="409" y="163"/>
                    </a:lnTo>
                    <a:lnTo>
                      <a:pt x="377" y="192"/>
                    </a:lnTo>
                    <a:lnTo>
                      <a:pt x="343" y="220"/>
                    </a:lnTo>
                    <a:lnTo>
                      <a:pt x="310" y="247"/>
                    </a:lnTo>
                    <a:lnTo>
                      <a:pt x="274" y="272"/>
                    </a:lnTo>
                    <a:lnTo>
                      <a:pt x="237" y="296"/>
                    </a:lnTo>
                    <a:lnTo>
                      <a:pt x="200" y="319"/>
                    </a:lnTo>
                    <a:lnTo>
                      <a:pt x="161" y="342"/>
                    </a:lnTo>
                    <a:lnTo>
                      <a:pt x="122" y="361"/>
                    </a:lnTo>
                    <a:lnTo>
                      <a:pt x="82" y="380"/>
                    </a:lnTo>
                    <a:lnTo>
                      <a:pt x="43" y="397"/>
                    </a:lnTo>
                    <a:lnTo>
                      <a:pt x="0" y="413"/>
                    </a:lnTo>
                    <a:lnTo>
                      <a:pt x="13" y="4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140520" y="291456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564" h="427">
                    <a:moveTo>
                      <a:pt x="13" y="427"/>
                    </a:moveTo>
                    <a:lnTo>
                      <a:pt x="54" y="411"/>
                    </a:lnTo>
                    <a:lnTo>
                      <a:pt x="95" y="395"/>
                    </a:lnTo>
                    <a:lnTo>
                      <a:pt x="135" y="376"/>
                    </a:lnTo>
                    <a:lnTo>
                      <a:pt x="174" y="356"/>
                    </a:lnTo>
                    <a:lnTo>
                      <a:pt x="211" y="334"/>
                    </a:lnTo>
                    <a:lnTo>
                      <a:pt x="248" y="312"/>
                    </a:lnTo>
                    <a:lnTo>
                      <a:pt x="285" y="288"/>
                    </a:lnTo>
                    <a:lnTo>
                      <a:pt x="320" y="261"/>
                    </a:lnTo>
                    <a:lnTo>
                      <a:pt x="354" y="235"/>
                    </a:lnTo>
                    <a:lnTo>
                      <a:pt x="387" y="208"/>
                    </a:lnTo>
                    <a:lnTo>
                      <a:pt x="420" y="178"/>
                    </a:lnTo>
                    <a:lnTo>
                      <a:pt x="451" y="148"/>
                    </a:lnTo>
                    <a:lnTo>
                      <a:pt x="481" y="116"/>
                    </a:lnTo>
                    <a:lnTo>
                      <a:pt x="510" y="84"/>
                    </a:lnTo>
                    <a:lnTo>
                      <a:pt x="537" y="50"/>
                    </a:lnTo>
                    <a:lnTo>
                      <a:pt x="564" y="17"/>
                    </a:lnTo>
                    <a:lnTo>
                      <a:pt x="555" y="0"/>
                    </a:lnTo>
                    <a:lnTo>
                      <a:pt x="529" y="35"/>
                    </a:lnTo>
                    <a:lnTo>
                      <a:pt x="501" y="69"/>
                    </a:lnTo>
                    <a:lnTo>
                      <a:pt x="472" y="102"/>
                    </a:lnTo>
                    <a:lnTo>
                      <a:pt x="442" y="133"/>
                    </a:lnTo>
                    <a:lnTo>
                      <a:pt x="410" y="164"/>
                    </a:lnTo>
                    <a:lnTo>
                      <a:pt x="379" y="193"/>
                    </a:lnTo>
                    <a:lnTo>
                      <a:pt x="345" y="221"/>
                    </a:lnTo>
                    <a:lnTo>
                      <a:pt x="310" y="248"/>
                    </a:lnTo>
                    <a:lnTo>
                      <a:pt x="275" y="274"/>
                    </a:lnTo>
                    <a:lnTo>
                      <a:pt x="238" y="298"/>
                    </a:lnTo>
                    <a:lnTo>
                      <a:pt x="201" y="321"/>
                    </a:lnTo>
                    <a:lnTo>
                      <a:pt x="162" y="342"/>
                    </a:lnTo>
                    <a:lnTo>
                      <a:pt x="123" y="363"/>
                    </a:lnTo>
                    <a:lnTo>
                      <a:pt x="83" y="381"/>
                    </a:lnTo>
                    <a:lnTo>
                      <a:pt x="42" y="399"/>
                    </a:lnTo>
                    <a:lnTo>
                      <a:pt x="0" y="415"/>
                    </a:lnTo>
                    <a:lnTo>
                      <a:pt x="13" y="4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138720" y="2911320"/>
                <a:ext cx="179640" cy="136800"/>
              </a:xfrm>
              <a:custGeom>
                <a:avLst/>
                <a:gdLst/>
                <a:ahLst/>
                <a:rect l="l" t="t" r="r" b="b"/>
                <a:pathLst>
                  <a:path w="565" h="430">
                    <a:moveTo>
                      <a:pt x="12" y="430"/>
                    </a:moveTo>
                    <a:lnTo>
                      <a:pt x="55" y="414"/>
                    </a:lnTo>
                    <a:lnTo>
                      <a:pt x="94" y="397"/>
                    </a:lnTo>
                    <a:lnTo>
                      <a:pt x="134" y="378"/>
                    </a:lnTo>
                    <a:lnTo>
                      <a:pt x="173" y="359"/>
                    </a:lnTo>
                    <a:lnTo>
                      <a:pt x="212" y="336"/>
                    </a:lnTo>
                    <a:lnTo>
                      <a:pt x="249" y="313"/>
                    </a:lnTo>
                    <a:lnTo>
                      <a:pt x="286" y="289"/>
                    </a:lnTo>
                    <a:lnTo>
                      <a:pt x="322" y="264"/>
                    </a:lnTo>
                    <a:lnTo>
                      <a:pt x="355" y="237"/>
                    </a:lnTo>
                    <a:lnTo>
                      <a:pt x="389" y="209"/>
                    </a:lnTo>
                    <a:lnTo>
                      <a:pt x="421" y="180"/>
                    </a:lnTo>
                    <a:lnTo>
                      <a:pt x="453" y="150"/>
                    </a:lnTo>
                    <a:lnTo>
                      <a:pt x="482" y="118"/>
                    </a:lnTo>
                    <a:lnTo>
                      <a:pt x="512" y="86"/>
                    </a:lnTo>
                    <a:lnTo>
                      <a:pt x="539" y="52"/>
                    </a:lnTo>
                    <a:lnTo>
                      <a:pt x="565" y="17"/>
                    </a:lnTo>
                    <a:lnTo>
                      <a:pt x="557" y="0"/>
                    </a:lnTo>
                    <a:lnTo>
                      <a:pt x="531" y="36"/>
                    </a:lnTo>
                    <a:lnTo>
                      <a:pt x="502" y="70"/>
                    </a:lnTo>
                    <a:lnTo>
                      <a:pt x="474" y="103"/>
                    </a:lnTo>
                    <a:lnTo>
                      <a:pt x="443" y="135"/>
                    </a:lnTo>
                    <a:lnTo>
                      <a:pt x="412" y="165"/>
                    </a:lnTo>
                    <a:lnTo>
                      <a:pt x="379" y="195"/>
                    </a:lnTo>
                    <a:lnTo>
                      <a:pt x="346" y="223"/>
                    </a:lnTo>
                    <a:lnTo>
                      <a:pt x="311" y="250"/>
                    </a:lnTo>
                    <a:lnTo>
                      <a:pt x="275" y="277"/>
                    </a:lnTo>
                    <a:lnTo>
                      <a:pt x="240" y="301"/>
                    </a:lnTo>
                    <a:lnTo>
                      <a:pt x="202" y="324"/>
                    </a:lnTo>
                    <a:lnTo>
                      <a:pt x="163" y="345"/>
                    </a:lnTo>
                    <a:lnTo>
                      <a:pt x="123" y="366"/>
                    </a:lnTo>
                    <a:lnTo>
                      <a:pt x="83" y="384"/>
                    </a:lnTo>
                    <a:lnTo>
                      <a:pt x="42" y="402"/>
                    </a:lnTo>
                    <a:lnTo>
                      <a:pt x="0" y="416"/>
                    </a:lnTo>
                    <a:lnTo>
                      <a:pt x="12" y="43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37280" y="290988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7" h="432">
                    <a:moveTo>
                      <a:pt x="12" y="432"/>
                    </a:moveTo>
                    <a:lnTo>
                      <a:pt x="54" y="416"/>
                    </a:lnTo>
                    <a:lnTo>
                      <a:pt x="95" y="398"/>
                    </a:lnTo>
                    <a:lnTo>
                      <a:pt x="135" y="380"/>
                    </a:lnTo>
                    <a:lnTo>
                      <a:pt x="174" y="359"/>
                    </a:lnTo>
                    <a:lnTo>
                      <a:pt x="213" y="338"/>
                    </a:lnTo>
                    <a:lnTo>
                      <a:pt x="250" y="315"/>
                    </a:lnTo>
                    <a:lnTo>
                      <a:pt x="287" y="291"/>
                    </a:lnTo>
                    <a:lnTo>
                      <a:pt x="322" y="265"/>
                    </a:lnTo>
                    <a:lnTo>
                      <a:pt x="357" y="238"/>
                    </a:lnTo>
                    <a:lnTo>
                      <a:pt x="391" y="210"/>
                    </a:lnTo>
                    <a:lnTo>
                      <a:pt x="423" y="181"/>
                    </a:lnTo>
                    <a:lnTo>
                      <a:pt x="454" y="150"/>
                    </a:lnTo>
                    <a:lnTo>
                      <a:pt x="484" y="119"/>
                    </a:lnTo>
                    <a:lnTo>
                      <a:pt x="513" y="86"/>
                    </a:lnTo>
                    <a:lnTo>
                      <a:pt x="541" y="52"/>
                    </a:lnTo>
                    <a:lnTo>
                      <a:pt x="567" y="17"/>
                    </a:lnTo>
                    <a:lnTo>
                      <a:pt x="559" y="0"/>
                    </a:lnTo>
                    <a:lnTo>
                      <a:pt x="531" y="36"/>
                    </a:lnTo>
                    <a:lnTo>
                      <a:pt x="504" y="70"/>
                    </a:lnTo>
                    <a:lnTo>
                      <a:pt x="476" y="103"/>
                    </a:lnTo>
                    <a:lnTo>
                      <a:pt x="445" y="136"/>
                    </a:lnTo>
                    <a:lnTo>
                      <a:pt x="414" y="166"/>
                    </a:lnTo>
                    <a:lnTo>
                      <a:pt x="381" y="196"/>
                    </a:lnTo>
                    <a:lnTo>
                      <a:pt x="347" y="225"/>
                    </a:lnTo>
                    <a:lnTo>
                      <a:pt x="313" y="252"/>
                    </a:lnTo>
                    <a:lnTo>
                      <a:pt x="277" y="277"/>
                    </a:lnTo>
                    <a:lnTo>
                      <a:pt x="239" y="301"/>
                    </a:lnTo>
                    <a:lnTo>
                      <a:pt x="201" y="326"/>
                    </a:lnTo>
                    <a:lnTo>
                      <a:pt x="164" y="347"/>
                    </a:lnTo>
                    <a:lnTo>
                      <a:pt x="124" y="367"/>
                    </a:lnTo>
                    <a:lnTo>
                      <a:pt x="83" y="385"/>
                    </a:lnTo>
                    <a:lnTo>
                      <a:pt x="42" y="402"/>
                    </a:lnTo>
                    <a:lnTo>
                      <a:pt x="0" y="418"/>
                    </a:lnTo>
                    <a:lnTo>
                      <a:pt x="12" y="432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35840" y="2906640"/>
                <a:ext cx="180720" cy="136440"/>
              </a:xfrm>
              <a:custGeom>
                <a:avLst/>
                <a:gdLst/>
                <a:ahLst/>
                <a:rect l="l" t="t" r="r" b="b"/>
                <a:pathLst>
                  <a:path w="570" h="432">
                    <a:moveTo>
                      <a:pt x="13" y="432"/>
                    </a:moveTo>
                    <a:lnTo>
                      <a:pt x="55" y="418"/>
                    </a:lnTo>
                    <a:lnTo>
                      <a:pt x="96" y="400"/>
                    </a:lnTo>
                    <a:lnTo>
                      <a:pt x="136" y="381"/>
                    </a:lnTo>
                    <a:lnTo>
                      <a:pt x="176" y="361"/>
                    </a:lnTo>
                    <a:lnTo>
                      <a:pt x="215" y="340"/>
                    </a:lnTo>
                    <a:lnTo>
                      <a:pt x="251" y="317"/>
                    </a:lnTo>
                    <a:lnTo>
                      <a:pt x="288" y="293"/>
                    </a:lnTo>
                    <a:lnTo>
                      <a:pt x="324" y="266"/>
                    </a:lnTo>
                    <a:lnTo>
                      <a:pt x="359" y="239"/>
                    </a:lnTo>
                    <a:lnTo>
                      <a:pt x="392" y="211"/>
                    </a:lnTo>
                    <a:lnTo>
                      <a:pt x="425" y="181"/>
                    </a:lnTo>
                    <a:lnTo>
                      <a:pt x="456" y="151"/>
                    </a:lnTo>
                    <a:lnTo>
                      <a:pt x="487" y="119"/>
                    </a:lnTo>
                    <a:lnTo>
                      <a:pt x="515" y="86"/>
                    </a:lnTo>
                    <a:lnTo>
                      <a:pt x="544" y="52"/>
                    </a:lnTo>
                    <a:lnTo>
                      <a:pt x="570" y="16"/>
                    </a:lnTo>
                    <a:lnTo>
                      <a:pt x="562" y="0"/>
                    </a:lnTo>
                    <a:lnTo>
                      <a:pt x="534" y="35"/>
                    </a:lnTo>
                    <a:lnTo>
                      <a:pt x="507" y="70"/>
                    </a:lnTo>
                    <a:lnTo>
                      <a:pt x="477" y="104"/>
                    </a:lnTo>
                    <a:lnTo>
                      <a:pt x="448" y="136"/>
                    </a:lnTo>
                    <a:lnTo>
                      <a:pt x="416" y="167"/>
                    </a:lnTo>
                    <a:lnTo>
                      <a:pt x="384" y="197"/>
                    </a:lnTo>
                    <a:lnTo>
                      <a:pt x="349" y="225"/>
                    </a:lnTo>
                    <a:lnTo>
                      <a:pt x="315" y="253"/>
                    </a:lnTo>
                    <a:lnTo>
                      <a:pt x="279" y="279"/>
                    </a:lnTo>
                    <a:lnTo>
                      <a:pt x="242" y="303"/>
                    </a:lnTo>
                    <a:lnTo>
                      <a:pt x="203" y="326"/>
                    </a:lnTo>
                    <a:lnTo>
                      <a:pt x="164" y="348"/>
                    </a:lnTo>
                    <a:lnTo>
                      <a:pt x="124" y="368"/>
                    </a:lnTo>
                    <a:lnTo>
                      <a:pt x="84" y="387"/>
                    </a:lnTo>
                    <a:lnTo>
                      <a:pt x="42" y="404"/>
                    </a:lnTo>
                    <a:lnTo>
                      <a:pt x="0" y="420"/>
                    </a:lnTo>
                    <a:lnTo>
                      <a:pt x="13" y="432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132600" y="2903400"/>
                <a:ext cx="182520" cy="138240"/>
              </a:xfrm>
              <a:custGeom>
                <a:avLst/>
                <a:gdLst/>
                <a:ahLst/>
                <a:rect l="l" t="t" r="r" b="b"/>
                <a:pathLst>
                  <a:path w="572" h="435">
                    <a:moveTo>
                      <a:pt x="13" y="435"/>
                    </a:moveTo>
                    <a:lnTo>
                      <a:pt x="55" y="419"/>
                    </a:lnTo>
                    <a:lnTo>
                      <a:pt x="96" y="402"/>
                    </a:lnTo>
                    <a:lnTo>
                      <a:pt x="137" y="384"/>
                    </a:lnTo>
                    <a:lnTo>
                      <a:pt x="177" y="364"/>
                    </a:lnTo>
                    <a:lnTo>
                      <a:pt x="214" y="343"/>
                    </a:lnTo>
                    <a:lnTo>
                      <a:pt x="252" y="318"/>
                    </a:lnTo>
                    <a:lnTo>
                      <a:pt x="290" y="294"/>
                    </a:lnTo>
                    <a:lnTo>
                      <a:pt x="326" y="269"/>
                    </a:lnTo>
                    <a:lnTo>
                      <a:pt x="360" y="242"/>
                    </a:lnTo>
                    <a:lnTo>
                      <a:pt x="394" y="213"/>
                    </a:lnTo>
                    <a:lnTo>
                      <a:pt x="427" y="183"/>
                    </a:lnTo>
                    <a:lnTo>
                      <a:pt x="458" y="153"/>
                    </a:lnTo>
                    <a:lnTo>
                      <a:pt x="489" y="120"/>
                    </a:lnTo>
                    <a:lnTo>
                      <a:pt x="517" y="87"/>
                    </a:lnTo>
                    <a:lnTo>
                      <a:pt x="544" y="53"/>
                    </a:lnTo>
                    <a:lnTo>
                      <a:pt x="572" y="17"/>
                    </a:lnTo>
                    <a:lnTo>
                      <a:pt x="562" y="0"/>
                    </a:lnTo>
                    <a:lnTo>
                      <a:pt x="536" y="36"/>
                    </a:lnTo>
                    <a:lnTo>
                      <a:pt x="509" y="72"/>
                    </a:lnTo>
                    <a:lnTo>
                      <a:pt x="479" y="105"/>
                    </a:lnTo>
                    <a:lnTo>
                      <a:pt x="449" y="138"/>
                    </a:lnTo>
                    <a:lnTo>
                      <a:pt x="417" y="168"/>
                    </a:lnTo>
                    <a:lnTo>
                      <a:pt x="385" y="199"/>
                    </a:lnTo>
                    <a:lnTo>
                      <a:pt x="351" y="227"/>
                    </a:lnTo>
                    <a:lnTo>
                      <a:pt x="315" y="255"/>
                    </a:lnTo>
                    <a:lnTo>
                      <a:pt x="280" y="281"/>
                    </a:lnTo>
                    <a:lnTo>
                      <a:pt x="243" y="306"/>
                    </a:lnTo>
                    <a:lnTo>
                      <a:pt x="204" y="329"/>
                    </a:lnTo>
                    <a:lnTo>
                      <a:pt x="165" y="351"/>
                    </a:lnTo>
                    <a:lnTo>
                      <a:pt x="125" y="371"/>
                    </a:lnTo>
                    <a:lnTo>
                      <a:pt x="84" y="390"/>
                    </a:lnTo>
                    <a:lnTo>
                      <a:pt x="42" y="407"/>
                    </a:lnTo>
                    <a:lnTo>
                      <a:pt x="0" y="421"/>
                    </a:lnTo>
                    <a:lnTo>
                      <a:pt x="13" y="43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130800" y="2901960"/>
                <a:ext cx="182520" cy="138240"/>
              </a:xfrm>
              <a:custGeom>
                <a:avLst/>
                <a:gdLst/>
                <a:ahLst/>
                <a:rect l="l" t="t" r="r" b="b"/>
                <a:pathLst>
                  <a:path w="574" h="436">
                    <a:moveTo>
                      <a:pt x="12" y="436"/>
                    </a:moveTo>
                    <a:lnTo>
                      <a:pt x="54" y="420"/>
                    </a:lnTo>
                    <a:lnTo>
                      <a:pt x="96" y="403"/>
                    </a:lnTo>
                    <a:lnTo>
                      <a:pt x="136" y="384"/>
                    </a:lnTo>
                    <a:lnTo>
                      <a:pt x="176" y="364"/>
                    </a:lnTo>
                    <a:lnTo>
                      <a:pt x="215" y="342"/>
                    </a:lnTo>
                    <a:lnTo>
                      <a:pt x="254" y="319"/>
                    </a:lnTo>
                    <a:lnTo>
                      <a:pt x="291" y="295"/>
                    </a:lnTo>
                    <a:lnTo>
                      <a:pt x="327" y="269"/>
                    </a:lnTo>
                    <a:lnTo>
                      <a:pt x="361" y="241"/>
                    </a:lnTo>
                    <a:lnTo>
                      <a:pt x="396" y="213"/>
                    </a:lnTo>
                    <a:lnTo>
                      <a:pt x="428" y="183"/>
                    </a:lnTo>
                    <a:lnTo>
                      <a:pt x="460" y="152"/>
                    </a:lnTo>
                    <a:lnTo>
                      <a:pt x="489" y="120"/>
                    </a:lnTo>
                    <a:lnTo>
                      <a:pt x="519" y="86"/>
                    </a:lnTo>
                    <a:lnTo>
                      <a:pt x="546" y="51"/>
                    </a:lnTo>
                    <a:lnTo>
                      <a:pt x="574" y="16"/>
                    </a:lnTo>
                    <a:lnTo>
                      <a:pt x="566" y="3"/>
                    </a:lnTo>
                    <a:lnTo>
                      <a:pt x="563" y="0"/>
                    </a:lnTo>
                    <a:lnTo>
                      <a:pt x="537" y="37"/>
                    </a:lnTo>
                    <a:lnTo>
                      <a:pt x="509" y="71"/>
                    </a:lnTo>
                    <a:lnTo>
                      <a:pt x="480" y="105"/>
                    </a:lnTo>
                    <a:lnTo>
                      <a:pt x="450" y="137"/>
                    </a:lnTo>
                    <a:lnTo>
                      <a:pt x="418" y="169"/>
                    </a:lnTo>
                    <a:lnTo>
                      <a:pt x="385" y="199"/>
                    </a:lnTo>
                    <a:lnTo>
                      <a:pt x="352" y="228"/>
                    </a:lnTo>
                    <a:lnTo>
                      <a:pt x="316" y="255"/>
                    </a:lnTo>
                    <a:lnTo>
                      <a:pt x="280" y="281"/>
                    </a:lnTo>
                    <a:lnTo>
                      <a:pt x="242" y="307"/>
                    </a:lnTo>
                    <a:lnTo>
                      <a:pt x="205" y="330"/>
                    </a:lnTo>
                    <a:lnTo>
                      <a:pt x="166" y="352"/>
                    </a:lnTo>
                    <a:lnTo>
                      <a:pt x="125" y="372"/>
                    </a:lnTo>
                    <a:lnTo>
                      <a:pt x="84" y="389"/>
                    </a:lnTo>
                    <a:lnTo>
                      <a:pt x="42" y="407"/>
                    </a:lnTo>
                    <a:lnTo>
                      <a:pt x="0" y="422"/>
                    </a:lnTo>
                    <a:lnTo>
                      <a:pt x="12" y="436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129360" y="29005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6" h="433">
                    <a:moveTo>
                      <a:pt x="14" y="433"/>
                    </a:moveTo>
                    <a:lnTo>
                      <a:pt x="56" y="419"/>
                    </a:lnTo>
                    <a:lnTo>
                      <a:pt x="98" y="402"/>
                    </a:lnTo>
                    <a:lnTo>
                      <a:pt x="139" y="383"/>
                    </a:lnTo>
                    <a:lnTo>
                      <a:pt x="179" y="363"/>
                    </a:lnTo>
                    <a:lnTo>
                      <a:pt x="218" y="341"/>
                    </a:lnTo>
                    <a:lnTo>
                      <a:pt x="257" y="318"/>
                    </a:lnTo>
                    <a:lnTo>
                      <a:pt x="294" y="293"/>
                    </a:lnTo>
                    <a:lnTo>
                      <a:pt x="329" y="267"/>
                    </a:lnTo>
                    <a:lnTo>
                      <a:pt x="365" y="239"/>
                    </a:lnTo>
                    <a:lnTo>
                      <a:pt x="399" y="211"/>
                    </a:lnTo>
                    <a:lnTo>
                      <a:pt x="431" y="180"/>
                    </a:lnTo>
                    <a:lnTo>
                      <a:pt x="463" y="150"/>
                    </a:lnTo>
                    <a:lnTo>
                      <a:pt x="493" y="117"/>
                    </a:lnTo>
                    <a:lnTo>
                      <a:pt x="523" y="84"/>
                    </a:lnTo>
                    <a:lnTo>
                      <a:pt x="550" y="48"/>
                    </a:lnTo>
                    <a:lnTo>
                      <a:pt x="576" y="12"/>
                    </a:lnTo>
                    <a:lnTo>
                      <a:pt x="574" y="8"/>
                    </a:lnTo>
                    <a:lnTo>
                      <a:pt x="566" y="0"/>
                    </a:lnTo>
                    <a:lnTo>
                      <a:pt x="540" y="35"/>
                    </a:lnTo>
                    <a:lnTo>
                      <a:pt x="511" y="70"/>
                    </a:lnTo>
                    <a:lnTo>
                      <a:pt x="483" y="105"/>
                    </a:lnTo>
                    <a:lnTo>
                      <a:pt x="452" y="137"/>
                    </a:lnTo>
                    <a:lnTo>
                      <a:pt x="421" y="169"/>
                    </a:lnTo>
                    <a:lnTo>
                      <a:pt x="387" y="198"/>
                    </a:lnTo>
                    <a:lnTo>
                      <a:pt x="353" y="228"/>
                    </a:lnTo>
                    <a:lnTo>
                      <a:pt x="319" y="255"/>
                    </a:lnTo>
                    <a:lnTo>
                      <a:pt x="282" y="281"/>
                    </a:lnTo>
                    <a:lnTo>
                      <a:pt x="244" y="305"/>
                    </a:lnTo>
                    <a:lnTo>
                      <a:pt x="206" y="328"/>
                    </a:lnTo>
                    <a:lnTo>
                      <a:pt x="167" y="350"/>
                    </a:lnTo>
                    <a:lnTo>
                      <a:pt x="126" y="370"/>
                    </a:lnTo>
                    <a:lnTo>
                      <a:pt x="85" y="388"/>
                    </a:lnTo>
                    <a:lnTo>
                      <a:pt x="43" y="405"/>
                    </a:lnTo>
                    <a:lnTo>
                      <a:pt x="0" y="421"/>
                    </a:lnTo>
                    <a:lnTo>
                      <a:pt x="14" y="433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126120" y="2897280"/>
                <a:ext cx="184320" cy="137880"/>
              </a:xfrm>
              <a:custGeom>
                <a:avLst/>
                <a:gdLst/>
                <a:ahLst/>
                <a:rect l="l" t="t" r="r" b="b"/>
                <a:pathLst>
                  <a:path w="577" h="434">
                    <a:moveTo>
                      <a:pt x="14" y="434"/>
                    </a:moveTo>
                    <a:lnTo>
                      <a:pt x="56" y="419"/>
                    </a:lnTo>
                    <a:lnTo>
                      <a:pt x="98" y="401"/>
                    </a:lnTo>
                    <a:lnTo>
                      <a:pt x="139" y="384"/>
                    </a:lnTo>
                    <a:lnTo>
                      <a:pt x="180" y="364"/>
                    </a:lnTo>
                    <a:lnTo>
                      <a:pt x="219" y="342"/>
                    </a:lnTo>
                    <a:lnTo>
                      <a:pt x="256" y="319"/>
                    </a:lnTo>
                    <a:lnTo>
                      <a:pt x="294" y="293"/>
                    </a:lnTo>
                    <a:lnTo>
                      <a:pt x="330" y="267"/>
                    </a:lnTo>
                    <a:lnTo>
                      <a:pt x="366" y="240"/>
                    </a:lnTo>
                    <a:lnTo>
                      <a:pt x="399" y="211"/>
                    </a:lnTo>
                    <a:lnTo>
                      <a:pt x="432" y="181"/>
                    </a:lnTo>
                    <a:lnTo>
                      <a:pt x="464" y="149"/>
                    </a:lnTo>
                    <a:lnTo>
                      <a:pt x="494" y="117"/>
                    </a:lnTo>
                    <a:lnTo>
                      <a:pt x="523" y="83"/>
                    </a:lnTo>
                    <a:lnTo>
                      <a:pt x="551" y="49"/>
                    </a:lnTo>
                    <a:lnTo>
                      <a:pt x="577" y="12"/>
                    </a:lnTo>
                    <a:lnTo>
                      <a:pt x="565" y="0"/>
                    </a:lnTo>
                    <a:lnTo>
                      <a:pt x="539" y="36"/>
                    </a:lnTo>
                    <a:lnTo>
                      <a:pt x="512" y="72"/>
                    </a:lnTo>
                    <a:lnTo>
                      <a:pt x="482" y="105"/>
                    </a:lnTo>
                    <a:lnTo>
                      <a:pt x="452" y="138"/>
                    </a:lnTo>
                    <a:lnTo>
                      <a:pt x="420" y="169"/>
                    </a:lnTo>
                    <a:lnTo>
                      <a:pt x="388" y="200"/>
                    </a:lnTo>
                    <a:lnTo>
                      <a:pt x="353" y="228"/>
                    </a:lnTo>
                    <a:lnTo>
                      <a:pt x="318" y="256"/>
                    </a:lnTo>
                    <a:lnTo>
                      <a:pt x="282" y="282"/>
                    </a:lnTo>
                    <a:lnTo>
                      <a:pt x="245" y="306"/>
                    </a:lnTo>
                    <a:lnTo>
                      <a:pt x="206" y="329"/>
                    </a:lnTo>
                    <a:lnTo>
                      <a:pt x="167" y="351"/>
                    </a:lnTo>
                    <a:lnTo>
                      <a:pt x="126" y="371"/>
                    </a:lnTo>
                    <a:lnTo>
                      <a:pt x="85" y="389"/>
                    </a:lnTo>
                    <a:lnTo>
                      <a:pt x="43" y="406"/>
                    </a:lnTo>
                    <a:lnTo>
                      <a:pt x="0" y="420"/>
                    </a:lnTo>
                    <a:lnTo>
                      <a:pt x="14" y="434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124680" y="2895480"/>
                <a:ext cx="183960" cy="138240"/>
              </a:xfrm>
              <a:custGeom>
                <a:avLst/>
                <a:gdLst/>
                <a:ahLst/>
                <a:rect l="l" t="t" r="r" b="b"/>
                <a:pathLst>
                  <a:path w="578" h="434">
                    <a:moveTo>
                      <a:pt x="12" y="434"/>
                    </a:moveTo>
                    <a:lnTo>
                      <a:pt x="55" y="418"/>
                    </a:lnTo>
                    <a:lnTo>
                      <a:pt x="97" y="401"/>
                    </a:lnTo>
                    <a:lnTo>
                      <a:pt x="138" y="383"/>
                    </a:lnTo>
                    <a:lnTo>
                      <a:pt x="179" y="363"/>
                    </a:lnTo>
                    <a:lnTo>
                      <a:pt x="218" y="341"/>
                    </a:lnTo>
                    <a:lnTo>
                      <a:pt x="256" y="318"/>
                    </a:lnTo>
                    <a:lnTo>
                      <a:pt x="294" y="294"/>
                    </a:lnTo>
                    <a:lnTo>
                      <a:pt x="331" y="268"/>
                    </a:lnTo>
                    <a:lnTo>
                      <a:pt x="365" y="241"/>
                    </a:lnTo>
                    <a:lnTo>
                      <a:pt x="399" y="211"/>
                    </a:lnTo>
                    <a:lnTo>
                      <a:pt x="433" y="182"/>
                    </a:lnTo>
                    <a:lnTo>
                      <a:pt x="464" y="150"/>
                    </a:lnTo>
                    <a:lnTo>
                      <a:pt x="495" y="118"/>
                    </a:lnTo>
                    <a:lnTo>
                      <a:pt x="523" y="83"/>
                    </a:lnTo>
                    <a:lnTo>
                      <a:pt x="552" y="48"/>
                    </a:lnTo>
                    <a:lnTo>
                      <a:pt x="578" y="13"/>
                    </a:lnTo>
                    <a:lnTo>
                      <a:pt x="565" y="0"/>
                    </a:lnTo>
                    <a:lnTo>
                      <a:pt x="539" y="37"/>
                    </a:lnTo>
                    <a:lnTo>
                      <a:pt x="512" y="71"/>
                    </a:lnTo>
                    <a:lnTo>
                      <a:pt x="482" y="105"/>
                    </a:lnTo>
                    <a:lnTo>
                      <a:pt x="452" y="138"/>
                    </a:lnTo>
                    <a:lnTo>
                      <a:pt x="420" y="169"/>
                    </a:lnTo>
                    <a:lnTo>
                      <a:pt x="388" y="200"/>
                    </a:lnTo>
                    <a:lnTo>
                      <a:pt x="354" y="228"/>
                    </a:lnTo>
                    <a:lnTo>
                      <a:pt x="318" y="255"/>
                    </a:lnTo>
                    <a:lnTo>
                      <a:pt x="281" y="281"/>
                    </a:lnTo>
                    <a:lnTo>
                      <a:pt x="245" y="306"/>
                    </a:lnTo>
                    <a:lnTo>
                      <a:pt x="206" y="329"/>
                    </a:lnTo>
                    <a:lnTo>
                      <a:pt x="167" y="351"/>
                    </a:lnTo>
                    <a:lnTo>
                      <a:pt x="126" y="371"/>
                    </a:lnTo>
                    <a:lnTo>
                      <a:pt x="85" y="389"/>
                    </a:lnTo>
                    <a:lnTo>
                      <a:pt x="43" y="405"/>
                    </a:lnTo>
                    <a:lnTo>
                      <a:pt x="0" y="420"/>
                    </a:lnTo>
                    <a:lnTo>
                      <a:pt x="12" y="43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122880" y="289404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8" h="432">
                    <a:moveTo>
                      <a:pt x="13" y="432"/>
                    </a:moveTo>
                    <a:lnTo>
                      <a:pt x="56" y="418"/>
                    </a:lnTo>
                    <a:lnTo>
                      <a:pt x="98" y="401"/>
                    </a:lnTo>
                    <a:lnTo>
                      <a:pt x="139" y="383"/>
                    </a:lnTo>
                    <a:lnTo>
                      <a:pt x="180" y="363"/>
                    </a:lnTo>
                    <a:lnTo>
                      <a:pt x="219" y="341"/>
                    </a:lnTo>
                    <a:lnTo>
                      <a:pt x="258" y="318"/>
                    </a:lnTo>
                    <a:lnTo>
                      <a:pt x="295" y="294"/>
                    </a:lnTo>
                    <a:lnTo>
                      <a:pt x="331" y="268"/>
                    </a:lnTo>
                    <a:lnTo>
                      <a:pt x="366" y="240"/>
                    </a:lnTo>
                    <a:lnTo>
                      <a:pt x="401" y="212"/>
                    </a:lnTo>
                    <a:lnTo>
                      <a:pt x="433" y="181"/>
                    </a:lnTo>
                    <a:lnTo>
                      <a:pt x="465" y="150"/>
                    </a:lnTo>
                    <a:lnTo>
                      <a:pt x="495" y="117"/>
                    </a:lnTo>
                    <a:lnTo>
                      <a:pt x="525" y="84"/>
                    </a:lnTo>
                    <a:lnTo>
                      <a:pt x="552" y="48"/>
                    </a:lnTo>
                    <a:lnTo>
                      <a:pt x="578" y="12"/>
                    </a:lnTo>
                    <a:lnTo>
                      <a:pt x="566" y="0"/>
                    </a:lnTo>
                    <a:lnTo>
                      <a:pt x="540" y="37"/>
                    </a:lnTo>
                    <a:lnTo>
                      <a:pt x="512" y="71"/>
                    </a:lnTo>
                    <a:lnTo>
                      <a:pt x="484" y="106"/>
                    </a:lnTo>
                    <a:lnTo>
                      <a:pt x="453" y="138"/>
                    </a:lnTo>
                    <a:lnTo>
                      <a:pt x="422" y="170"/>
                    </a:lnTo>
                    <a:lnTo>
                      <a:pt x="388" y="199"/>
                    </a:lnTo>
                    <a:lnTo>
                      <a:pt x="355" y="229"/>
                    </a:lnTo>
                    <a:lnTo>
                      <a:pt x="320" y="256"/>
                    </a:lnTo>
                    <a:lnTo>
                      <a:pt x="283" y="281"/>
                    </a:lnTo>
                    <a:lnTo>
                      <a:pt x="245" y="306"/>
                    </a:lnTo>
                    <a:lnTo>
                      <a:pt x="207" y="328"/>
                    </a:lnTo>
                    <a:lnTo>
                      <a:pt x="167" y="350"/>
                    </a:lnTo>
                    <a:lnTo>
                      <a:pt x="128" y="370"/>
                    </a:lnTo>
                    <a:lnTo>
                      <a:pt x="85" y="388"/>
                    </a:lnTo>
                    <a:lnTo>
                      <a:pt x="43" y="404"/>
                    </a:lnTo>
                    <a:lnTo>
                      <a:pt x="0" y="419"/>
                    </a:lnTo>
                    <a:lnTo>
                      <a:pt x="1" y="421"/>
                    </a:lnTo>
                    <a:lnTo>
                      <a:pt x="13" y="432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121440" y="289260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7" h="431">
                    <a:moveTo>
                      <a:pt x="12" y="431"/>
                    </a:moveTo>
                    <a:lnTo>
                      <a:pt x="55" y="416"/>
                    </a:lnTo>
                    <a:lnTo>
                      <a:pt x="97" y="400"/>
                    </a:lnTo>
                    <a:lnTo>
                      <a:pt x="138" y="382"/>
                    </a:lnTo>
                    <a:lnTo>
                      <a:pt x="179" y="362"/>
                    </a:lnTo>
                    <a:lnTo>
                      <a:pt x="218" y="340"/>
                    </a:lnTo>
                    <a:lnTo>
                      <a:pt x="257" y="317"/>
                    </a:lnTo>
                    <a:lnTo>
                      <a:pt x="293" y="292"/>
                    </a:lnTo>
                    <a:lnTo>
                      <a:pt x="330" y="266"/>
                    </a:lnTo>
                    <a:lnTo>
                      <a:pt x="366" y="239"/>
                    </a:lnTo>
                    <a:lnTo>
                      <a:pt x="400" y="211"/>
                    </a:lnTo>
                    <a:lnTo>
                      <a:pt x="432" y="180"/>
                    </a:lnTo>
                    <a:lnTo>
                      <a:pt x="464" y="149"/>
                    </a:lnTo>
                    <a:lnTo>
                      <a:pt x="494" y="116"/>
                    </a:lnTo>
                    <a:lnTo>
                      <a:pt x="524" y="82"/>
                    </a:lnTo>
                    <a:lnTo>
                      <a:pt x="551" y="48"/>
                    </a:lnTo>
                    <a:lnTo>
                      <a:pt x="577" y="11"/>
                    </a:lnTo>
                    <a:lnTo>
                      <a:pt x="566" y="0"/>
                    </a:lnTo>
                    <a:lnTo>
                      <a:pt x="539" y="35"/>
                    </a:lnTo>
                    <a:lnTo>
                      <a:pt x="512" y="71"/>
                    </a:lnTo>
                    <a:lnTo>
                      <a:pt x="483" y="105"/>
                    </a:lnTo>
                    <a:lnTo>
                      <a:pt x="452" y="137"/>
                    </a:lnTo>
                    <a:lnTo>
                      <a:pt x="421" y="169"/>
                    </a:lnTo>
                    <a:lnTo>
                      <a:pt x="388" y="198"/>
                    </a:lnTo>
                    <a:lnTo>
                      <a:pt x="354" y="227"/>
                    </a:lnTo>
                    <a:lnTo>
                      <a:pt x="319" y="254"/>
                    </a:lnTo>
                    <a:lnTo>
                      <a:pt x="283" y="280"/>
                    </a:lnTo>
                    <a:lnTo>
                      <a:pt x="245" y="304"/>
                    </a:lnTo>
                    <a:lnTo>
                      <a:pt x="207" y="327"/>
                    </a:lnTo>
                    <a:lnTo>
                      <a:pt x="167" y="348"/>
                    </a:lnTo>
                    <a:lnTo>
                      <a:pt x="127" y="368"/>
                    </a:lnTo>
                    <a:lnTo>
                      <a:pt x="85" y="386"/>
                    </a:lnTo>
                    <a:lnTo>
                      <a:pt x="43" y="403"/>
                    </a:lnTo>
                    <a:lnTo>
                      <a:pt x="0" y="417"/>
                    </a:lnTo>
                    <a:lnTo>
                      <a:pt x="6" y="426"/>
                    </a:lnTo>
                    <a:lnTo>
                      <a:pt x="12" y="4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119640" y="2890800"/>
                <a:ext cx="182880" cy="136440"/>
              </a:xfrm>
              <a:custGeom>
                <a:avLst/>
                <a:gdLst/>
                <a:ahLst/>
                <a:rect l="l" t="t" r="r" b="b"/>
                <a:pathLst>
                  <a:path w="575" h="431">
                    <a:moveTo>
                      <a:pt x="9" y="431"/>
                    </a:moveTo>
                    <a:lnTo>
                      <a:pt x="52" y="416"/>
                    </a:lnTo>
                    <a:lnTo>
                      <a:pt x="94" y="400"/>
                    </a:lnTo>
                    <a:lnTo>
                      <a:pt x="137" y="382"/>
                    </a:lnTo>
                    <a:lnTo>
                      <a:pt x="176" y="362"/>
                    </a:lnTo>
                    <a:lnTo>
                      <a:pt x="216" y="340"/>
                    </a:lnTo>
                    <a:lnTo>
                      <a:pt x="254" y="318"/>
                    </a:lnTo>
                    <a:lnTo>
                      <a:pt x="292" y="293"/>
                    </a:lnTo>
                    <a:lnTo>
                      <a:pt x="329" y="268"/>
                    </a:lnTo>
                    <a:lnTo>
                      <a:pt x="364" y="241"/>
                    </a:lnTo>
                    <a:lnTo>
                      <a:pt x="397" y="211"/>
                    </a:lnTo>
                    <a:lnTo>
                      <a:pt x="431" y="182"/>
                    </a:lnTo>
                    <a:lnTo>
                      <a:pt x="462" y="150"/>
                    </a:lnTo>
                    <a:lnTo>
                      <a:pt x="493" y="118"/>
                    </a:lnTo>
                    <a:lnTo>
                      <a:pt x="521" y="83"/>
                    </a:lnTo>
                    <a:lnTo>
                      <a:pt x="549" y="49"/>
                    </a:lnTo>
                    <a:lnTo>
                      <a:pt x="575" y="12"/>
                    </a:lnTo>
                    <a:lnTo>
                      <a:pt x="563" y="0"/>
                    </a:lnTo>
                    <a:lnTo>
                      <a:pt x="537" y="36"/>
                    </a:lnTo>
                    <a:lnTo>
                      <a:pt x="510" y="72"/>
                    </a:lnTo>
                    <a:lnTo>
                      <a:pt x="481" y="105"/>
                    </a:lnTo>
                    <a:lnTo>
                      <a:pt x="451" y="138"/>
                    </a:lnTo>
                    <a:lnTo>
                      <a:pt x="419" y="169"/>
                    </a:lnTo>
                    <a:lnTo>
                      <a:pt x="387" y="199"/>
                    </a:lnTo>
                    <a:lnTo>
                      <a:pt x="353" y="227"/>
                    </a:lnTo>
                    <a:lnTo>
                      <a:pt x="317" y="254"/>
                    </a:lnTo>
                    <a:lnTo>
                      <a:pt x="282" y="281"/>
                    </a:lnTo>
                    <a:lnTo>
                      <a:pt x="244" y="305"/>
                    </a:lnTo>
                    <a:lnTo>
                      <a:pt x="206" y="328"/>
                    </a:lnTo>
                    <a:lnTo>
                      <a:pt x="166" y="349"/>
                    </a:lnTo>
                    <a:lnTo>
                      <a:pt x="126" y="368"/>
                    </a:lnTo>
                    <a:lnTo>
                      <a:pt x="85" y="386"/>
                    </a:lnTo>
                    <a:lnTo>
                      <a:pt x="43" y="402"/>
                    </a:lnTo>
                    <a:lnTo>
                      <a:pt x="0" y="417"/>
                    </a:lnTo>
                    <a:lnTo>
                      <a:pt x="9" y="4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18200" y="2887560"/>
                <a:ext cx="182520" cy="136800"/>
              </a:xfrm>
              <a:custGeom>
                <a:avLst/>
                <a:gdLst/>
                <a:ahLst/>
                <a:rect l="l" t="t" r="r" b="b"/>
                <a:pathLst>
                  <a:path w="575" h="430">
                    <a:moveTo>
                      <a:pt x="9" y="430"/>
                    </a:moveTo>
                    <a:lnTo>
                      <a:pt x="52" y="416"/>
                    </a:lnTo>
                    <a:lnTo>
                      <a:pt x="94" y="399"/>
                    </a:lnTo>
                    <a:lnTo>
                      <a:pt x="136" y="381"/>
                    </a:lnTo>
                    <a:lnTo>
                      <a:pt x="176" y="361"/>
                    </a:lnTo>
                    <a:lnTo>
                      <a:pt x="216" y="340"/>
                    </a:lnTo>
                    <a:lnTo>
                      <a:pt x="254" y="317"/>
                    </a:lnTo>
                    <a:lnTo>
                      <a:pt x="292" y="293"/>
                    </a:lnTo>
                    <a:lnTo>
                      <a:pt x="328" y="267"/>
                    </a:lnTo>
                    <a:lnTo>
                      <a:pt x="363" y="240"/>
                    </a:lnTo>
                    <a:lnTo>
                      <a:pt x="397" y="211"/>
                    </a:lnTo>
                    <a:lnTo>
                      <a:pt x="430" y="182"/>
                    </a:lnTo>
                    <a:lnTo>
                      <a:pt x="461" y="150"/>
                    </a:lnTo>
                    <a:lnTo>
                      <a:pt x="492" y="118"/>
                    </a:lnTo>
                    <a:lnTo>
                      <a:pt x="521" y="84"/>
                    </a:lnTo>
                    <a:lnTo>
                      <a:pt x="548" y="48"/>
                    </a:lnTo>
                    <a:lnTo>
                      <a:pt x="575" y="13"/>
                    </a:lnTo>
                    <a:lnTo>
                      <a:pt x="562" y="0"/>
                    </a:lnTo>
                    <a:lnTo>
                      <a:pt x="537" y="37"/>
                    </a:lnTo>
                    <a:lnTo>
                      <a:pt x="509" y="71"/>
                    </a:lnTo>
                    <a:lnTo>
                      <a:pt x="480" y="105"/>
                    </a:lnTo>
                    <a:lnTo>
                      <a:pt x="451" y="137"/>
                    </a:lnTo>
                    <a:lnTo>
                      <a:pt x="419" y="169"/>
                    </a:lnTo>
                    <a:lnTo>
                      <a:pt x="386" y="198"/>
                    </a:lnTo>
                    <a:lnTo>
                      <a:pt x="353" y="227"/>
                    </a:lnTo>
                    <a:lnTo>
                      <a:pt x="317" y="254"/>
                    </a:lnTo>
                    <a:lnTo>
                      <a:pt x="281" y="280"/>
                    </a:lnTo>
                    <a:lnTo>
                      <a:pt x="243" y="304"/>
                    </a:lnTo>
                    <a:lnTo>
                      <a:pt x="206" y="326"/>
                    </a:lnTo>
                    <a:lnTo>
                      <a:pt x="167" y="347"/>
                    </a:lnTo>
                    <a:lnTo>
                      <a:pt x="126" y="367"/>
                    </a:lnTo>
                    <a:lnTo>
                      <a:pt x="85" y="385"/>
                    </a:lnTo>
                    <a:lnTo>
                      <a:pt x="43" y="401"/>
                    </a:lnTo>
                    <a:lnTo>
                      <a:pt x="0" y="416"/>
                    </a:lnTo>
                    <a:lnTo>
                      <a:pt x="9" y="430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16760" y="28861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4" h="428">
                    <a:moveTo>
                      <a:pt x="11" y="428"/>
                    </a:moveTo>
                    <a:lnTo>
                      <a:pt x="54" y="413"/>
                    </a:lnTo>
                    <a:lnTo>
                      <a:pt x="96" y="397"/>
                    </a:lnTo>
                    <a:lnTo>
                      <a:pt x="137" y="379"/>
                    </a:lnTo>
                    <a:lnTo>
                      <a:pt x="177" y="360"/>
                    </a:lnTo>
                    <a:lnTo>
                      <a:pt x="217" y="339"/>
                    </a:lnTo>
                    <a:lnTo>
                      <a:pt x="255" y="316"/>
                    </a:lnTo>
                    <a:lnTo>
                      <a:pt x="293" y="292"/>
                    </a:lnTo>
                    <a:lnTo>
                      <a:pt x="328" y="265"/>
                    </a:lnTo>
                    <a:lnTo>
                      <a:pt x="364" y="238"/>
                    </a:lnTo>
                    <a:lnTo>
                      <a:pt x="398" y="210"/>
                    </a:lnTo>
                    <a:lnTo>
                      <a:pt x="430" y="180"/>
                    </a:lnTo>
                    <a:lnTo>
                      <a:pt x="462" y="149"/>
                    </a:lnTo>
                    <a:lnTo>
                      <a:pt x="492" y="116"/>
                    </a:lnTo>
                    <a:lnTo>
                      <a:pt x="521" y="83"/>
                    </a:lnTo>
                    <a:lnTo>
                      <a:pt x="548" y="47"/>
                    </a:lnTo>
                    <a:lnTo>
                      <a:pt x="574" y="11"/>
                    </a:lnTo>
                    <a:lnTo>
                      <a:pt x="563" y="0"/>
                    </a:lnTo>
                    <a:lnTo>
                      <a:pt x="536" y="35"/>
                    </a:lnTo>
                    <a:lnTo>
                      <a:pt x="509" y="70"/>
                    </a:lnTo>
                    <a:lnTo>
                      <a:pt x="481" y="104"/>
                    </a:lnTo>
                    <a:lnTo>
                      <a:pt x="450" y="136"/>
                    </a:lnTo>
                    <a:lnTo>
                      <a:pt x="420" y="168"/>
                    </a:lnTo>
                    <a:lnTo>
                      <a:pt x="387" y="197"/>
                    </a:lnTo>
                    <a:lnTo>
                      <a:pt x="353" y="225"/>
                    </a:lnTo>
                    <a:lnTo>
                      <a:pt x="318" y="253"/>
                    </a:lnTo>
                    <a:lnTo>
                      <a:pt x="282" y="279"/>
                    </a:lnTo>
                    <a:lnTo>
                      <a:pt x="244" y="302"/>
                    </a:lnTo>
                    <a:lnTo>
                      <a:pt x="206" y="325"/>
                    </a:lnTo>
                    <a:lnTo>
                      <a:pt x="168" y="346"/>
                    </a:lnTo>
                    <a:lnTo>
                      <a:pt x="127" y="365"/>
                    </a:lnTo>
                    <a:lnTo>
                      <a:pt x="86" y="383"/>
                    </a:lnTo>
                    <a:lnTo>
                      <a:pt x="43" y="399"/>
                    </a:lnTo>
                    <a:lnTo>
                      <a:pt x="0" y="413"/>
                    </a:lnTo>
                    <a:lnTo>
                      <a:pt x="11" y="42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114960" y="2884320"/>
                <a:ext cx="181080" cy="136800"/>
              </a:xfrm>
              <a:custGeom>
                <a:avLst/>
                <a:gdLst/>
                <a:ahLst/>
                <a:rect l="l" t="t" r="r" b="b"/>
                <a:pathLst>
                  <a:path w="572" h="428">
                    <a:moveTo>
                      <a:pt x="10" y="428"/>
                    </a:moveTo>
                    <a:lnTo>
                      <a:pt x="53" y="413"/>
                    </a:lnTo>
                    <a:lnTo>
                      <a:pt x="95" y="397"/>
                    </a:lnTo>
                    <a:lnTo>
                      <a:pt x="136" y="379"/>
                    </a:lnTo>
                    <a:lnTo>
                      <a:pt x="177" y="359"/>
                    </a:lnTo>
                    <a:lnTo>
                      <a:pt x="216" y="338"/>
                    </a:lnTo>
                    <a:lnTo>
                      <a:pt x="253" y="316"/>
                    </a:lnTo>
                    <a:lnTo>
                      <a:pt x="291" y="292"/>
                    </a:lnTo>
                    <a:lnTo>
                      <a:pt x="327" y="266"/>
                    </a:lnTo>
                    <a:lnTo>
                      <a:pt x="363" y="239"/>
                    </a:lnTo>
                    <a:lnTo>
                      <a:pt x="396" y="210"/>
                    </a:lnTo>
                    <a:lnTo>
                      <a:pt x="429" y="181"/>
                    </a:lnTo>
                    <a:lnTo>
                      <a:pt x="461" y="149"/>
                    </a:lnTo>
                    <a:lnTo>
                      <a:pt x="490" y="117"/>
                    </a:lnTo>
                    <a:lnTo>
                      <a:pt x="519" y="83"/>
                    </a:lnTo>
                    <a:lnTo>
                      <a:pt x="547" y="49"/>
                    </a:lnTo>
                    <a:lnTo>
                      <a:pt x="572" y="12"/>
                    </a:lnTo>
                    <a:lnTo>
                      <a:pt x="560" y="0"/>
                    </a:lnTo>
                    <a:lnTo>
                      <a:pt x="560" y="0"/>
                    </a:lnTo>
                    <a:lnTo>
                      <a:pt x="534" y="36"/>
                    </a:lnTo>
                    <a:lnTo>
                      <a:pt x="508" y="71"/>
                    </a:lnTo>
                    <a:lnTo>
                      <a:pt x="478" y="104"/>
                    </a:lnTo>
                    <a:lnTo>
                      <a:pt x="449" y="137"/>
                    </a:lnTo>
                    <a:lnTo>
                      <a:pt x="417" y="168"/>
                    </a:lnTo>
                    <a:lnTo>
                      <a:pt x="385" y="198"/>
                    </a:lnTo>
                    <a:lnTo>
                      <a:pt x="351" y="226"/>
                    </a:lnTo>
                    <a:lnTo>
                      <a:pt x="317" y="253"/>
                    </a:lnTo>
                    <a:lnTo>
                      <a:pt x="281" y="279"/>
                    </a:lnTo>
                    <a:lnTo>
                      <a:pt x="243" y="303"/>
                    </a:lnTo>
                    <a:lnTo>
                      <a:pt x="205" y="326"/>
                    </a:lnTo>
                    <a:lnTo>
                      <a:pt x="166" y="346"/>
                    </a:lnTo>
                    <a:lnTo>
                      <a:pt x="125" y="366"/>
                    </a:lnTo>
                    <a:lnTo>
                      <a:pt x="84" y="384"/>
                    </a:lnTo>
                    <a:lnTo>
                      <a:pt x="42" y="399"/>
                    </a:lnTo>
                    <a:lnTo>
                      <a:pt x="0" y="413"/>
                    </a:lnTo>
                    <a:lnTo>
                      <a:pt x="10" y="42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05440" y="2382840"/>
                <a:ext cx="389160" cy="635040"/>
              </a:xfrm>
              <a:custGeom>
                <a:avLst/>
                <a:gdLst/>
                <a:ahLst/>
                <a:rect l="l" t="t" r="r" b="b"/>
                <a:pathLst>
                  <a:path w="1228" h="2001">
                    <a:moveTo>
                      <a:pt x="665" y="2001"/>
                    </a:moveTo>
                    <a:lnTo>
                      <a:pt x="708" y="1987"/>
                    </a:lnTo>
                    <a:lnTo>
                      <a:pt x="751" y="1971"/>
                    </a:lnTo>
                    <a:lnTo>
                      <a:pt x="792" y="1953"/>
                    </a:lnTo>
                    <a:lnTo>
                      <a:pt x="833" y="1934"/>
                    </a:lnTo>
                    <a:lnTo>
                      <a:pt x="871" y="1913"/>
                    </a:lnTo>
                    <a:lnTo>
                      <a:pt x="909" y="1890"/>
                    </a:lnTo>
                    <a:lnTo>
                      <a:pt x="947" y="1867"/>
                    </a:lnTo>
                    <a:lnTo>
                      <a:pt x="983" y="1841"/>
                    </a:lnTo>
                    <a:lnTo>
                      <a:pt x="1018" y="1813"/>
                    </a:lnTo>
                    <a:lnTo>
                      <a:pt x="1052" y="1785"/>
                    </a:lnTo>
                    <a:lnTo>
                      <a:pt x="1085" y="1756"/>
                    </a:lnTo>
                    <a:lnTo>
                      <a:pt x="1115" y="1724"/>
                    </a:lnTo>
                    <a:lnTo>
                      <a:pt x="1146" y="1692"/>
                    </a:lnTo>
                    <a:lnTo>
                      <a:pt x="1174" y="1658"/>
                    </a:lnTo>
                    <a:lnTo>
                      <a:pt x="1201" y="1623"/>
                    </a:lnTo>
                    <a:lnTo>
                      <a:pt x="1228" y="1588"/>
                    </a:lnTo>
                    <a:lnTo>
                      <a:pt x="1221" y="1581"/>
                    </a:lnTo>
                    <a:lnTo>
                      <a:pt x="1217" y="1572"/>
                    </a:lnTo>
                    <a:lnTo>
                      <a:pt x="1192" y="1609"/>
                    </a:lnTo>
                    <a:lnTo>
                      <a:pt x="1165" y="1643"/>
                    </a:lnTo>
                    <a:lnTo>
                      <a:pt x="1136" y="1678"/>
                    </a:lnTo>
                    <a:lnTo>
                      <a:pt x="1106" y="1709"/>
                    </a:lnTo>
                    <a:lnTo>
                      <a:pt x="1075" y="1741"/>
                    </a:lnTo>
                    <a:lnTo>
                      <a:pt x="1043" y="1771"/>
                    </a:lnTo>
                    <a:lnTo>
                      <a:pt x="1009" y="1800"/>
                    </a:lnTo>
                    <a:lnTo>
                      <a:pt x="973" y="1827"/>
                    </a:lnTo>
                    <a:lnTo>
                      <a:pt x="938" y="1852"/>
                    </a:lnTo>
                    <a:lnTo>
                      <a:pt x="900" y="1876"/>
                    </a:lnTo>
                    <a:lnTo>
                      <a:pt x="862" y="1900"/>
                    </a:lnTo>
                    <a:lnTo>
                      <a:pt x="823" y="1921"/>
                    </a:lnTo>
                    <a:lnTo>
                      <a:pt x="782" y="1939"/>
                    </a:lnTo>
                    <a:lnTo>
                      <a:pt x="741" y="1957"/>
                    </a:lnTo>
                    <a:lnTo>
                      <a:pt x="699" y="1973"/>
                    </a:lnTo>
                    <a:lnTo>
                      <a:pt x="656" y="1987"/>
                    </a:lnTo>
                    <a:lnTo>
                      <a:pt x="665" y="2001"/>
                    </a:lnTo>
                    <a:close/>
                    <a:moveTo>
                      <a:pt x="49" y="0"/>
                    </a:moveTo>
                    <a:lnTo>
                      <a:pt x="35" y="0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18" y="10"/>
                    </a:lnTo>
                    <a:lnTo>
                      <a:pt x="24" y="7"/>
                    </a:lnTo>
                    <a:lnTo>
                      <a:pt x="30" y="6"/>
                    </a:lnTo>
                    <a:lnTo>
                      <a:pt x="37" y="4"/>
                    </a:lnTo>
                    <a:lnTo>
                      <a:pt x="43" y="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880240" y="2382840"/>
                <a:ext cx="412560" cy="633240"/>
              </a:xfrm>
              <a:custGeom>
                <a:avLst/>
                <a:gdLst/>
                <a:ahLst/>
                <a:rect l="l" t="t" r="r" b="b"/>
                <a:pathLst>
                  <a:path w="1298" h="1994">
                    <a:moveTo>
                      <a:pt x="738" y="1994"/>
                    </a:moveTo>
                    <a:lnTo>
                      <a:pt x="780" y="1980"/>
                    </a:lnTo>
                    <a:lnTo>
                      <a:pt x="822" y="1965"/>
                    </a:lnTo>
                    <a:lnTo>
                      <a:pt x="863" y="1947"/>
                    </a:lnTo>
                    <a:lnTo>
                      <a:pt x="904" y="1927"/>
                    </a:lnTo>
                    <a:lnTo>
                      <a:pt x="943" y="1907"/>
                    </a:lnTo>
                    <a:lnTo>
                      <a:pt x="981" y="1884"/>
                    </a:lnTo>
                    <a:lnTo>
                      <a:pt x="1019" y="1860"/>
                    </a:lnTo>
                    <a:lnTo>
                      <a:pt x="1055" y="1834"/>
                    </a:lnTo>
                    <a:lnTo>
                      <a:pt x="1089" y="1807"/>
                    </a:lnTo>
                    <a:lnTo>
                      <a:pt x="1123" y="1779"/>
                    </a:lnTo>
                    <a:lnTo>
                      <a:pt x="1155" y="1749"/>
                    </a:lnTo>
                    <a:lnTo>
                      <a:pt x="1187" y="1718"/>
                    </a:lnTo>
                    <a:lnTo>
                      <a:pt x="1216" y="1685"/>
                    </a:lnTo>
                    <a:lnTo>
                      <a:pt x="1246" y="1652"/>
                    </a:lnTo>
                    <a:lnTo>
                      <a:pt x="1272" y="1617"/>
                    </a:lnTo>
                    <a:lnTo>
                      <a:pt x="1298" y="1581"/>
                    </a:lnTo>
                    <a:lnTo>
                      <a:pt x="1290" y="1564"/>
                    </a:lnTo>
                    <a:lnTo>
                      <a:pt x="1265" y="1600"/>
                    </a:lnTo>
                    <a:lnTo>
                      <a:pt x="1237" y="1635"/>
                    </a:lnTo>
                    <a:lnTo>
                      <a:pt x="1209" y="1670"/>
                    </a:lnTo>
                    <a:lnTo>
                      <a:pt x="1180" y="1702"/>
                    </a:lnTo>
                    <a:lnTo>
                      <a:pt x="1148" y="1734"/>
                    </a:lnTo>
                    <a:lnTo>
                      <a:pt x="1116" y="1763"/>
                    </a:lnTo>
                    <a:lnTo>
                      <a:pt x="1082" y="1792"/>
                    </a:lnTo>
                    <a:lnTo>
                      <a:pt x="1047" y="1820"/>
                    </a:lnTo>
                    <a:lnTo>
                      <a:pt x="1010" y="1845"/>
                    </a:lnTo>
                    <a:lnTo>
                      <a:pt x="974" y="1869"/>
                    </a:lnTo>
                    <a:lnTo>
                      <a:pt x="935" y="1892"/>
                    </a:lnTo>
                    <a:lnTo>
                      <a:pt x="895" y="1913"/>
                    </a:lnTo>
                    <a:lnTo>
                      <a:pt x="855" y="1932"/>
                    </a:lnTo>
                    <a:lnTo>
                      <a:pt x="814" y="1950"/>
                    </a:lnTo>
                    <a:lnTo>
                      <a:pt x="771" y="1966"/>
                    </a:lnTo>
                    <a:lnTo>
                      <a:pt x="728" y="1979"/>
                    </a:lnTo>
                    <a:lnTo>
                      <a:pt x="738" y="1994"/>
                    </a:lnTo>
                    <a:close/>
                    <a:moveTo>
                      <a:pt x="156" y="0"/>
                    </a:moveTo>
                    <a:lnTo>
                      <a:pt x="112" y="0"/>
                    </a:lnTo>
                    <a:lnTo>
                      <a:pt x="55" y="2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9" y="48"/>
                    </a:lnTo>
                    <a:lnTo>
                      <a:pt x="38" y="40"/>
                    </a:lnTo>
                    <a:lnTo>
                      <a:pt x="57" y="33"/>
                    </a:lnTo>
                    <a:lnTo>
                      <a:pt x="77" y="25"/>
                    </a:lnTo>
                    <a:lnTo>
                      <a:pt x="96" y="19"/>
                    </a:lnTo>
                    <a:lnTo>
                      <a:pt x="116" y="12"/>
                    </a:lnTo>
                    <a:lnTo>
                      <a:pt x="136" y="5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73760" y="2382840"/>
                <a:ext cx="417600" cy="630360"/>
              </a:xfrm>
              <a:custGeom>
                <a:avLst/>
                <a:gdLst/>
                <a:ahLst/>
                <a:rect l="l" t="t" r="r" b="b"/>
                <a:pathLst>
                  <a:path w="1316" h="1987">
                    <a:moveTo>
                      <a:pt x="148" y="0"/>
                    </a:moveTo>
                    <a:lnTo>
                      <a:pt x="142" y="2"/>
                    </a:lnTo>
                    <a:lnTo>
                      <a:pt x="136" y="4"/>
                    </a:lnTo>
                    <a:lnTo>
                      <a:pt x="129" y="6"/>
                    </a:lnTo>
                    <a:lnTo>
                      <a:pt x="123" y="7"/>
                    </a:lnTo>
                    <a:lnTo>
                      <a:pt x="117" y="10"/>
                    </a:lnTo>
                    <a:lnTo>
                      <a:pt x="112" y="12"/>
                    </a:lnTo>
                    <a:lnTo>
                      <a:pt x="105" y="14"/>
                    </a:lnTo>
                    <a:lnTo>
                      <a:pt x="99" y="16"/>
                    </a:lnTo>
                    <a:lnTo>
                      <a:pt x="77" y="27"/>
                    </a:lnTo>
                    <a:lnTo>
                      <a:pt x="22" y="57"/>
                    </a:lnTo>
                    <a:lnTo>
                      <a:pt x="0" y="77"/>
                    </a:lnTo>
                    <a:lnTo>
                      <a:pt x="25" y="65"/>
                    </a:lnTo>
                    <a:lnTo>
                      <a:pt x="52" y="54"/>
                    </a:lnTo>
                    <a:lnTo>
                      <a:pt x="77" y="43"/>
                    </a:lnTo>
                    <a:lnTo>
                      <a:pt x="103" y="33"/>
                    </a:lnTo>
                    <a:lnTo>
                      <a:pt x="131" y="23"/>
                    </a:lnTo>
                    <a:lnTo>
                      <a:pt x="157" y="15"/>
                    </a:lnTo>
                    <a:lnTo>
                      <a:pt x="184" y="7"/>
                    </a:lnTo>
                    <a:lnTo>
                      <a:pt x="211" y="0"/>
                    </a:lnTo>
                    <a:lnTo>
                      <a:pt x="190" y="0"/>
                    </a:lnTo>
                    <a:lnTo>
                      <a:pt x="148" y="0"/>
                    </a:lnTo>
                    <a:close/>
                    <a:moveTo>
                      <a:pt x="755" y="1987"/>
                    </a:moveTo>
                    <a:lnTo>
                      <a:pt x="798" y="1973"/>
                    </a:lnTo>
                    <a:lnTo>
                      <a:pt x="840" y="1957"/>
                    </a:lnTo>
                    <a:lnTo>
                      <a:pt x="881" y="1939"/>
                    </a:lnTo>
                    <a:lnTo>
                      <a:pt x="922" y="1921"/>
                    </a:lnTo>
                    <a:lnTo>
                      <a:pt x="961" y="1900"/>
                    </a:lnTo>
                    <a:lnTo>
                      <a:pt x="999" y="1876"/>
                    </a:lnTo>
                    <a:lnTo>
                      <a:pt x="1037" y="1852"/>
                    </a:lnTo>
                    <a:lnTo>
                      <a:pt x="1072" y="1827"/>
                    </a:lnTo>
                    <a:lnTo>
                      <a:pt x="1108" y="1800"/>
                    </a:lnTo>
                    <a:lnTo>
                      <a:pt x="1142" y="1771"/>
                    </a:lnTo>
                    <a:lnTo>
                      <a:pt x="1174" y="1741"/>
                    </a:lnTo>
                    <a:lnTo>
                      <a:pt x="1205" y="1709"/>
                    </a:lnTo>
                    <a:lnTo>
                      <a:pt x="1235" y="1678"/>
                    </a:lnTo>
                    <a:lnTo>
                      <a:pt x="1264" y="1643"/>
                    </a:lnTo>
                    <a:lnTo>
                      <a:pt x="1291" y="1609"/>
                    </a:lnTo>
                    <a:lnTo>
                      <a:pt x="1316" y="1572"/>
                    </a:lnTo>
                    <a:lnTo>
                      <a:pt x="1308" y="1555"/>
                    </a:lnTo>
                    <a:lnTo>
                      <a:pt x="1283" y="1592"/>
                    </a:lnTo>
                    <a:lnTo>
                      <a:pt x="1255" y="1627"/>
                    </a:lnTo>
                    <a:lnTo>
                      <a:pt x="1227" y="1661"/>
                    </a:lnTo>
                    <a:lnTo>
                      <a:pt x="1197" y="1694"/>
                    </a:lnTo>
                    <a:lnTo>
                      <a:pt x="1166" y="1725"/>
                    </a:lnTo>
                    <a:lnTo>
                      <a:pt x="1133" y="1756"/>
                    </a:lnTo>
                    <a:lnTo>
                      <a:pt x="1100" y="1785"/>
                    </a:lnTo>
                    <a:lnTo>
                      <a:pt x="1065" y="1812"/>
                    </a:lnTo>
                    <a:lnTo>
                      <a:pt x="1028" y="1838"/>
                    </a:lnTo>
                    <a:lnTo>
                      <a:pt x="990" y="1862"/>
                    </a:lnTo>
                    <a:lnTo>
                      <a:pt x="953" y="1885"/>
                    </a:lnTo>
                    <a:lnTo>
                      <a:pt x="913" y="1906"/>
                    </a:lnTo>
                    <a:lnTo>
                      <a:pt x="873" y="1925"/>
                    </a:lnTo>
                    <a:lnTo>
                      <a:pt x="831" y="1943"/>
                    </a:lnTo>
                    <a:lnTo>
                      <a:pt x="789" y="1958"/>
                    </a:lnTo>
                    <a:lnTo>
                      <a:pt x="745" y="1972"/>
                    </a:lnTo>
                    <a:lnTo>
                      <a:pt x="755" y="19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870520" y="2382840"/>
                <a:ext cx="419040" cy="628560"/>
              </a:xfrm>
              <a:custGeom>
                <a:avLst/>
                <a:gdLst/>
                <a:ahLst/>
                <a:rect l="l" t="t" r="r" b="b"/>
                <a:pathLst>
                  <a:path w="1323" h="1979">
                    <a:moveTo>
                      <a:pt x="189" y="0"/>
                    </a:moveTo>
                    <a:lnTo>
                      <a:pt x="169" y="5"/>
                    </a:lnTo>
                    <a:lnTo>
                      <a:pt x="149" y="12"/>
                    </a:lnTo>
                    <a:lnTo>
                      <a:pt x="129" y="19"/>
                    </a:lnTo>
                    <a:lnTo>
                      <a:pt x="110" y="25"/>
                    </a:lnTo>
                    <a:lnTo>
                      <a:pt x="90" y="33"/>
                    </a:lnTo>
                    <a:lnTo>
                      <a:pt x="71" y="40"/>
                    </a:lnTo>
                    <a:lnTo>
                      <a:pt x="52" y="48"/>
                    </a:lnTo>
                    <a:lnTo>
                      <a:pt x="33" y="57"/>
                    </a:lnTo>
                    <a:lnTo>
                      <a:pt x="4" y="84"/>
                    </a:lnTo>
                    <a:lnTo>
                      <a:pt x="0" y="92"/>
                    </a:lnTo>
                    <a:lnTo>
                      <a:pt x="28" y="78"/>
                    </a:lnTo>
                    <a:lnTo>
                      <a:pt x="56" y="65"/>
                    </a:lnTo>
                    <a:lnTo>
                      <a:pt x="86" y="53"/>
                    </a:lnTo>
                    <a:lnTo>
                      <a:pt x="115" y="41"/>
                    </a:lnTo>
                    <a:lnTo>
                      <a:pt x="146" y="31"/>
                    </a:lnTo>
                    <a:lnTo>
                      <a:pt x="176" y="21"/>
                    </a:lnTo>
                    <a:lnTo>
                      <a:pt x="208" y="13"/>
                    </a:lnTo>
                    <a:lnTo>
                      <a:pt x="239" y="4"/>
                    </a:lnTo>
                    <a:lnTo>
                      <a:pt x="229" y="0"/>
                    </a:lnTo>
                    <a:lnTo>
                      <a:pt x="201" y="0"/>
                    </a:lnTo>
                    <a:lnTo>
                      <a:pt x="189" y="0"/>
                    </a:lnTo>
                    <a:close/>
                    <a:moveTo>
                      <a:pt x="761" y="1979"/>
                    </a:moveTo>
                    <a:lnTo>
                      <a:pt x="804" y="1966"/>
                    </a:lnTo>
                    <a:lnTo>
                      <a:pt x="847" y="1950"/>
                    </a:lnTo>
                    <a:lnTo>
                      <a:pt x="888" y="1932"/>
                    </a:lnTo>
                    <a:lnTo>
                      <a:pt x="928" y="1913"/>
                    </a:lnTo>
                    <a:lnTo>
                      <a:pt x="968" y="1892"/>
                    </a:lnTo>
                    <a:lnTo>
                      <a:pt x="1007" y="1869"/>
                    </a:lnTo>
                    <a:lnTo>
                      <a:pt x="1043" y="1845"/>
                    </a:lnTo>
                    <a:lnTo>
                      <a:pt x="1080" y="1820"/>
                    </a:lnTo>
                    <a:lnTo>
                      <a:pt x="1115" y="1792"/>
                    </a:lnTo>
                    <a:lnTo>
                      <a:pt x="1149" y="1763"/>
                    </a:lnTo>
                    <a:lnTo>
                      <a:pt x="1181" y="1734"/>
                    </a:lnTo>
                    <a:lnTo>
                      <a:pt x="1213" y="1702"/>
                    </a:lnTo>
                    <a:lnTo>
                      <a:pt x="1242" y="1670"/>
                    </a:lnTo>
                    <a:lnTo>
                      <a:pt x="1270" y="1635"/>
                    </a:lnTo>
                    <a:lnTo>
                      <a:pt x="1298" y="1600"/>
                    </a:lnTo>
                    <a:lnTo>
                      <a:pt x="1323" y="1564"/>
                    </a:lnTo>
                    <a:lnTo>
                      <a:pt x="1315" y="1546"/>
                    </a:lnTo>
                    <a:lnTo>
                      <a:pt x="1289" y="1582"/>
                    </a:lnTo>
                    <a:lnTo>
                      <a:pt x="1262" y="1618"/>
                    </a:lnTo>
                    <a:lnTo>
                      <a:pt x="1234" y="1653"/>
                    </a:lnTo>
                    <a:lnTo>
                      <a:pt x="1204" y="1686"/>
                    </a:lnTo>
                    <a:lnTo>
                      <a:pt x="1173" y="1718"/>
                    </a:lnTo>
                    <a:lnTo>
                      <a:pt x="1140" y="1748"/>
                    </a:lnTo>
                    <a:lnTo>
                      <a:pt x="1106" y="1777"/>
                    </a:lnTo>
                    <a:lnTo>
                      <a:pt x="1072" y="1804"/>
                    </a:lnTo>
                    <a:lnTo>
                      <a:pt x="1035" y="1830"/>
                    </a:lnTo>
                    <a:lnTo>
                      <a:pt x="998" y="1854"/>
                    </a:lnTo>
                    <a:lnTo>
                      <a:pt x="959" y="1877"/>
                    </a:lnTo>
                    <a:lnTo>
                      <a:pt x="919" y="1898"/>
                    </a:lnTo>
                    <a:lnTo>
                      <a:pt x="878" y="1917"/>
                    </a:lnTo>
                    <a:lnTo>
                      <a:pt x="837" y="1935"/>
                    </a:lnTo>
                    <a:lnTo>
                      <a:pt x="816" y="1944"/>
                    </a:lnTo>
                    <a:lnTo>
                      <a:pt x="794" y="1951"/>
                    </a:lnTo>
                    <a:lnTo>
                      <a:pt x="773" y="1958"/>
                    </a:lnTo>
                    <a:lnTo>
                      <a:pt x="751" y="1965"/>
                    </a:lnTo>
                    <a:lnTo>
                      <a:pt x="761" y="197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867280" y="2382840"/>
                <a:ext cx="422280" cy="625320"/>
              </a:xfrm>
              <a:custGeom>
                <a:avLst/>
                <a:gdLst/>
                <a:ahLst/>
                <a:rect l="l" t="t" r="r" b="b"/>
                <a:pathLst>
                  <a:path w="1326" h="1972">
                    <a:moveTo>
                      <a:pt x="229" y="0"/>
                    </a:moveTo>
                    <a:lnTo>
                      <a:pt x="202" y="7"/>
                    </a:lnTo>
                    <a:lnTo>
                      <a:pt x="175" y="15"/>
                    </a:lnTo>
                    <a:lnTo>
                      <a:pt x="149" y="23"/>
                    </a:lnTo>
                    <a:lnTo>
                      <a:pt x="121" y="33"/>
                    </a:lnTo>
                    <a:lnTo>
                      <a:pt x="95" y="43"/>
                    </a:lnTo>
                    <a:lnTo>
                      <a:pt x="70" y="54"/>
                    </a:lnTo>
                    <a:lnTo>
                      <a:pt x="43" y="65"/>
                    </a:lnTo>
                    <a:lnTo>
                      <a:pt x="18" y="77"/>
                    </a:lnTo>
                    <a:lnTo>
                      <a:pt x="11" y="84"/>
                    </a:lnTo>
                    <a:lnTo>
                      <a:pt x="0" y="105"/>
                    </a:lnTo>
                    <a:lnTo>
                      <a:pt x="31" y="89"/>
                    </a:lnTo>
                    <a:lnTo>
                      <a:pt x="62" y="75"/>
                    </a:lnTo>
                    <a:lnTo>
                      <a:pt x="93" y="61"/>
                    </a:lnTo>
                    <a:lnTo>
                      <a:pt x="125" y="49"/>
                    </a:lnTo>
                    <a:lnTo>
                      <a:pt x="158" y="38"/>
                    </a:lnTo>
                    <a:lnTo>
                      <a:pt x="191" y="27"/>
                    </a:lnTo>
                    <a:lnTo>
                      <a:pt x="224" y="19"/>
                    </a:lnTo>
                    <a:lnTo>
                      <a:pt x="258" y="11"/>
                    </a:lnTo>
                    <a:lnTo>
                      <a:pt x="236" y="0"/>
                    </a:lnTo>
                    <a:lnTo>
                      <a:pt x="229" y="0"/>
                    </a:lnTo>
                    <a:close/>
                    <a:moveTo>
                      <a:pt x="763" y="1972"/>
                    </a:moveTo>
                    <a:lnTo>
                      <a:pt x="807" y="1958"/>
                    </a:lnTo>
                    <a:lnTo>
                      <a:pt x="849" y="1943"/>
                    </a:lnTo>
                    <a:lnTo>
                      <a:pt x="891" y="1925"/>
                    </a:lnTo>
                    <a:lnTo>
                      <a:pt x="931" y="1906"/>
                    </a:lnTo>
                    <a:lnTo>
                      <a:pt x="971" y="1885"/>
                    </a:lnTo>
                    <a:lnTo>
                      <a:pt x="1008" y="1862"/>
                    </a:lnTo>
                    <a:lnTo>
                      <a:pt x="1046" y="1838"/>
                    </a:lnTo>
                    <a:lnTo>
                      <a:pt x="1083" y="1812"/>
                    </a:lnTo>
                    <a:lnTo>
                      <a:pt x="1118" y="1785"/>
                    </a:lnTo>
                    <a:lnTo>
                      <a:pt x="1151" y="1756"/>
                    </a:lnTo>
                    <a:lnTo>
                      <a:pt x="1184" y="1725"/>
                    </a:lnTo>
                    <a:lnTo>
                      <a:pt x="1215" y="1694"/>
                    </a:lnTo>
                    <a:lnTo>
                      <a:pt x="1245" y="1661"/>
                    </a:lnTo>
                    <a:lnTo>
                      <a:pt x="1273" y="1627"/>
                    </a:lnTo>
                    <a:lnTo>
                      <a:pt x="1301" y="1592"/>
                    </a:lnTo>
                    <a:lnTo>
                      <a:pt x="1326" y="1555"/>
                    </a:lnTo>
                    <a:lnTo>
                      <a:pt x="1317" y="1537"/>
                    </a:lnTo>
                    <a:lnTo>
                      <a:pt x="1292" y="1574"/>
                    </a:lnTo>
                    <a:lnTo>
                      <a:pt x="1265" y="1610"/>
                    </a:lnTo>
                    <a:lnTo>
                      <a:pt x="1238" y="1644"/>
                    </a:lnTo>
                    <a:lnTo>
                      <a:pt x="1207" y="1678"/>
                    </a:lnTo>
                    <a:lnTo>
                      <a:pt x="1177" y="1709"/>
                    </a:lnTo>
                    <a:lnTo>
                      <a:pt x="1144" y="1740"/>
                    </a:lnTo>
                    <a:lnTo>
                      <a:pt x="1109" y="1769"/>
                    </a:lnTo>
                    <a:lnTo>
                      <a:pt x="1075" y="1797"/>
                    </a:lnTo>
                    <a:lnTo>
                      <a:pt x="1038" y="1823"/>
                    </a:lnTo>
                    <a:lnTo>
                      <a:pt x="1001" y="1848"/>
                    </a:lnTo>
                    <a:lnTo>
                      <a:pt x="962" y="1870"/>
                    </a:lnTo>
                    <a:lnTo>
                      <a:pt x="922" y="1891"/>
                    </a:lnTo>
                    <a:lnTo>
                      <a:pt x="881" y="1911"/>
                    </a:lnTo>
                    <a:lnTo>
                      <a:pt x="839" y="1928"/>
                    </a:lnTo>
                    <a:lnTo>
                      <a:pt x="818" y="1936"/>
                    </a:lnTo>
                    <a:lnTo>
                      <a:pt x="797" y="1944"/>
                    </a:lnTo>
                    <a:lnTo>
                      <a:pt x="775" y="1951"/>
                    </a:lnTo>
                    <a:lnTo>
                      <a:pt x="753" y="1957"/>
                    </a:lnTo>
                    <a:lnTo>
                      <a:pt x="763" y="1972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65840" y="2384280"/>
                <a:ext cx="422280" cy="622440"/>
              </a:xfrm>
              <a:custGeom>
                <a:avLst/>
                <a:gdLst/>
                <a:ahLst/>
                <a:rect l="l" t="t" r="r" b="b"/>
                <a:pathLst>
                  <a:path w="1327" h="1961">
                    <a:moveTo>
                      <a:pt x="251" y="0"/>
                    </a:moveTo>
                    <a:lnTo>
                      <a:pt x="220" y="9"/>
                    </a:lnTo>
                    <a:lnTo>
                      <a:pt x="188" y="17"/>
                    </a:lnTo>
                    <a:lnTo>
                      <a:pt x="158" y="27"/>
                    </a:lnTo>
                    <a:lnTo>
                      <a:pt x="127" y="37"/>
                    </a:lnTo>
                    <a:lnTo>
                      <a:pt x="98" y="49"/>
                    </a:lnTo>
                    <a:lnTo>
                      <a:pt x="68" y="61"/>
                    </a:lnTo>
                    <a:lnTo>
                      <a:pt x="40" y="74"/>
                    </a:lnTo>
                    <a:lnTo>
                      <a:pt x="12" y="88"/>
                    </a:lnTo>
                    <a:lnTo>
                      <a:pt x="0" y="114"/>
                    </a:lnTo>
                    <a:lnTo>
                      <a:pt x="32" y="97"/>
                    </a:lnTo>
                    <a:lnTo>
                      <a:pt x="65" y="81"/>
                    </a:lnTo>
                    <a:lnTo>
                      <a:pt x="99" y="66"/>
                    </a:lnTo>
                    <a:lnTo>
                      <a:pt x="133" y="53"/>
                    </a:lnTo>
                    <a:lnTo>
                      <a:pt x="167" y="41"/>
                    </a:lnTo>
                    <a:lnTo>
                      <a:pt x="203" y="30"/>
                    </a:lnTo>
                    <a:lnTo>
                      <a:pt x="239" y="20"/>
                    </a:lnTo>
                    <a:lnTo>
                      <a:pt x="275" y="13"/>
                    </a:lnTo>
                    <a:lnTo>
                      <a:pt x="251" y="0"/>
                    </a:lnTo>
                    <a:close/>
                    <a:moveTo>
                      <a:pt x="763" y="1961"/>
                    </a:moveTo>
                    <a:lnTo>
                      <a:pt x="785" y="1954"/>
                    </a:lnTo>
                    <a:lnTo>
                      <a:pt x="806" y="1947"/>
                    </a:lnTo>
                    <a:lnTo>
                      <a:pt x="828" y="1940"/>
                    </a:lnTo>
                    <a:lnTo>
                      <a:pt x="849" y="1931"/>
                    </a:lnTo>
                    <a:lnTo>
                      <a:pt x="890" y="1913"/>
                    </a:lnTo>
                    <a:lnTo>
                      <a:pt x="931" y="1894"/>
                    </a:lnTo>
                    <a:lnTo>
                      <a:pt x="971" y="1873"/>
                    </a:lnTo>
                    <a:lnTo>
                      <a:pt x="1010" y="1850"/>
                    </a:lnTo>
                    <a:lnTo>
                      <a:pt x="1047" y="1826"/>
                    </a:lnTo>
                    <a:lnTo>
                      <a:pt x="1084" y="1800"/>
                    </a:lnTo>
                    <a:lnTo>
                      <a:pt x="1118" y="1773"/>
                    </a:lnTo>
                    <a:lnTo>
                      <a:pt x="1152" y="1744"/>
                    </a:lnTo>
                    <a:lnTo>
                      <a:pt x="1185" y="1714"/>
                    </a:lnTo>
                    <a:lnTo>
                      <a:pt x="1216" y="1682"/>
                    </a:lnTo>
                    <a:lnTo>
                      <a:pt x="1246" y="1649"/>
                    </a:lnTo>
                    <a:lnTo>
                      <a:pt x="1274" y="1614"/>
                    </a:lnTo>
                    <a:lnTo>
                      <a:pt x="1301" y="1578"/>
                    </a:lnTo>
                    <a:lnTo>
                      <a:pt x="1327" y="1542"/>
                    </a:lnTo>
                    <a:lnTo>
                      <a:pt x="1318" y="1524"/>
                    </a:lnTo>
                    <a:lnTo>
                      <a:pt x="1293" y="1562"/>
                    </a:lnTo>
                    <a:lnTo>
                      <a:pt x="1267" y="1597"/>
                    </a:lnTo>
                    <a:lnTo>
                      <a:pt x="1238" y="1632"/>
                    </a:lnTo>
                    <a:lnTo>
                      <a:pt x="1209" y="1666"/>
                    </a:lnTo>
                    <a:lnTo>
                      <a:pt x="1177" y="1698"/>
                    </a:lnTo>
                    <a:lnTo>
                      <a:pt x="1145" y="1729"/>
                    </a:lnTo>
                    <a:lnTo>
                      <a:pt x="1111" y="1758"/>
                    </a:lnTo>
                    <a:lnTo>
                      <a:pt x="1075" y="1785"/>
                    </a:lnTo>
                    <a:lnTo>
                      <a:pt x="1039" y="1812"/>
                    </a:lnTo>
                    <a:lnTo>
                      <a:pt x="1002" y="1837"/>
                    </a:lnTo>
                    <a:lnTo>
                      <a:pt x="982" y="1848"/>
                    </a:lnTo>
                    <a:lnTo>
                      <a:pt x="963" y="1859"/>
                    </a:lnTo>
                    <a:lnTo>
                      <a:pt x="943" y="1870"/>
                    </a:lnTo>
                    <a:lnTo>
                      <a:pt x="923" y="1880"/>
                    </a:lnTo>
                    <a:lnTo>
                      <a:pt x="902" y="1890"/>
                    </a:lnTo>
                    <a:lnTo>
                      <a:pt x="882" y="1900"/>
                    </a:lnTo>
                    <a:lnTo>
                      <a:pt x="861" y="1908"/>
                    </a:lnTo>
                    <a:lnTo>
                      <a:pt x="840" y="1918"/>
                    </a:lnTo>
                    <a:lnTo>
                      <a:pt x="819" y="1925"/>
                    </a:lnTo>
                    <a:lnTo>
                      <a:pt x="797" y="1932"/>
                    </a:lnTo>
                    <a:lnTo>
                      <a:pt x="775" y="1940"/>
                    </a:lnTo>
                    <a:lnTo>
                      <a:pt x="754" y="1946"/>
                    </a:lnTo>
                    <a:lnTo>
                      <a:pt x="763" y="196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64400" y="2386080"/>
                <a:ext cx="422280" cy="617400"/>
              </a:xfrm>
              <a:custGeom>
                <a:avLst/>
                <a:gdLst/>
                <a:ahLst/>
                <a:rect l="l" t="t" r="r" b="b"/>
                <a:pathLst>
                  <a:path w="1328" h="1946">
                    <a:moveTo>
                      <a:pt x="269" y="0"/>
                    </a:moveTo>
                    <a:lnTo>
                      <a:pt x="235" y="8"/>
                    </a:lnTo>
                    <a:lnTo>
                      <a:pt x="202" y="16"/>
                    </a:lnTo>
                    <a:lnTo>
                      <a:pt x="169" y="27"/>
                    </a:lnTo>
                    <a:lnTo>
                      <a:pt x="136" y="38"/>
                    </a:lnTo>
                    <a:lnTo>
                      <a:pt x="104" y="50"/>
                    </a:lnTo>
                    <a:lnTo>
                      <a:pt x="73" y="64"/>
                    </a:lnTo>
                    <a:lnTo>
                      <a:pt x="42" y="78"/>
                    </a:lnTo>
                    <a:lnTo>
                      <a:pt x="11" y="94"/>
                    </a:lnTo>
                    <a:lnTo>
                      <a:pt x="0" y="119"/>
                    </a:lnTo>
                    <a:lnTo>
                      <a:pt x="33" y="101"/>
                    </a:lnTo>
                    <a:lnTo>
                      <a:pt x="69" y="84"/>
                    </a:lnTo>
                    <a:lnTo>
                      <a:pt x="105" y="69"/>
                    </a:lnTo>
                    <a:lnTo>
                      <a:pt x="142" y="54"/>
                    </a:lnTo>
                    <a:lnTo>
                      <a:pt x="178" y="42"/>
                    </a:lnTo>
                    <a:lnTo>
                      <a:pt x="216" y="30"/>
                    </a:lnTo>
                    <a:lnTo>
                      <a:pt x="255" y="20"/>
                    </a:lnTo>
                    <a:lnTo>
                      <a:pt x="294" y="11"/>
                    </a:lnTo>
                    <a:lnTo>
                      <a:pt x="269" y="0"/>
                    </a:lnTo>
                    <a:close/>
                    <a:moveTo>
                      <a:pt x="764" y="1946"/>
                    </a:moveTo>
                    <a:lnTo>
                      <a:pt x="786" y="1940"/>
                    </a:lnTo>
                    <a:lnTo>
                      <a:pt x="808" y="1933"/>
                    </a:lnTo>
                    <a:lnTo>
                      <a:pt x="829" y="1925"/>
                    </a:lnTo>
                    <a:lnTo>
                      <a:pt x="850" y="1917"/>
                    </a:lnTo>
                    <a:lnTo>
                      <a:pt x="892" y="1900"/>
                    </a:lnTo>
                    <a:lnTo>
                      <a:pt x="933" y="1880"/>
                    </a:lnTo>
                    <a:lnTo>
                      <a:pt x="973" y="1859"/>
                    </a:lnTo>
                    <a:lnTo>
                      <a:pt x="1012" y="1837"/>
                    </a:lnTo>
                    <a:lnTo>
                      <a:pt x="1049" y="1812"/>
                    </a:lnTo>
                    <a:lnTo>
                      <a:pt x="1086" y="1786"/>
                    </a:lnTo>
                    <a:lnTo>
                      <a:pt x="1120" y="1758"/>
                    </a:lnTo>
                    <a:lnTo>
                      <a:pt x="1155" y="1729"/>
                    </a:lnTo>
                    <a:lnTo>
                      <a:pt x="1188" y="1698"/>
                    </a:lnTo>
                    <a:lnTo>
                      <a:pt x="1218" y="1667"/>
                    </a:lnTo>
                    <a:lnTo>
                      <a:pt x="1249" y="1633"/>
                    </a:lnTo>
                    <a:lnTo>
                      <a:pt x="1276" y="1599"/>
                    </a:lnTo>
                    <a:lnTo>
                      <a:pt x="1303" y="1563"/>
                    </a:lnTo>
                    <a:lnTo>
                      <a:pt x="1328" y="1526"/>
                    </a:lnTo>
                    <a:lnTo>
                      <a:pt x="1322" y="1514"/>
                    </a:lnTo>
                    <a:lnTo>
                      <a:pt x="1319" y="1509"/>
                    </a:lnTo>
                    <a:lnTo>
                      <a:pt x="1294" y="1547"/>
                    </a:lnTo>
                    <a:lnTo>
                      <a:pt x="1267" y="1583"/>
                    </a:lnTo>
                    <a:lnTo>
                      <a:pt x="1239" y="1619"/>
                    </a:lnTo>
                    <a:lnTo>
                      <a:pt x="1210" y="1652"/>
                    </a:lnTo>
                    <a:lnTo>
                      <a:pt x="1178" y="1684"/>
                    </a:lnTo>
                    <a:lnTo>
                      <a:pt x="1146" y="1714"/>
                    </a:lnTo>
                    <a:lnTo>
                      <a:pt x="1112" y="1744"/>
                    </a:lnTo>
                    <a:lnTo>
                      <a:pt x="1077" y="1772"/>
                    </a:lnTo>
                    <a:lnTo>
                      <a:pt x="1040" y="1798"/>
                    </a:lnTo>
                    <a:lnTo>
                      <a:pt x="1003" y="1822"/>
                    </a:lnTo>
                    <a:lnTo>
                      <a:pt x="984" y="1834"/>
                    </a:lnTo>
                    <a:lnTo>
                      <a:pt x="964" y="1845"/>
                    </a:lnTo>
                    <a:lnTo>
                      <a:pt x="944" y="1856"/>
                    </a:lnTo>
                    <a:lnTo>
                      <a:pt x="924" y="1866"/>
                    </a:lnTo>
                    <a:lnTo>
                      <a:pt x="904" y="1876"/>
                    </a:lnTo>
                    <a:lnTo>
                      <a:pt x="883" y="1885"/>
                    </a:lnTo>
                    <a:lnTo>
                      <a:pt x="862" y="1895"/>
                    </a:lnTo>
                    <a:lnTo>
                      <a:pt x="841" y="1903"/>
                    </a:lnTo>
                    <a:lnTo>
                      <a:pt x="820" y="1911"/>
                    </a:lnTo>
                    <a:lnTo>
                      <a:pt x="798" y="1919"/>
                    </a:lnTo>
                    <a:lnTo>
                      <a:pt x="777" y="1925"/>
                    </a:lnTo>
                    <a:lnTo>
                      <a:pt x="754" y="1932"/>
                    </a:lnTo>
                    <a:lnTo>
                      <a:pt x="758" y="1937"/>
                    </a:lnTo>
                    <a:lnTo>
                      <a:pt x="764" y="194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862600" y="2387520"/>
                <a:ext cx="422280" cy="614520"/>
              </a:xfrm>
              <a:custGeom>
                <a:avLst/>
                <a:gdLst/>
                <a:ahLst/>
                <a:rect l="l" t="t" r="r" b="b"/>
                <a:pathLst>
                  <a:path w="1329" h="1933">
                    <a:moveTo>
                      <a:pt x="286" y="0"/>
                    </a:moveTo>
                    <a:lnTo>
                      <a:pt x="250" y="7"/>
                    </a:lnTo>
                    <a:lnTo>
                      <a:pt x="214" y="17"/>
                    </a:lnTo>
                    <a:lnTo>
                      <a:pt x="178" y="28"/>
                    </a:lnTo>
                    <a:lnTo>
                      <a:pt x="144" y="40"/>
                    </a:lnTo>
                    <a:lnTo>
                      <a:pt x="110" y="53"/>
                    </a:lnTo>
                    <a:lnTo>
                      <a:pt x="76" y="68"/>
                    </a:lnTo>
                    <a:lnTo>
                      <a:pt x="43" y="84"/>
                    </a:lnTo>
                    <a:lnTo>
                      <a:pt x="11" y="101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35" y="106"/>
                    </a:lnTo>
                    <a:lnTo>
                      <a:pt x="73" y="88"/>
                    </a:lnTo>
                    <a:lnTo>
                      <a:pt x="111" y="71"/>
                    </a:lnTo>
                    <a:lnTo>
                      <a:pt x="150" y="56"/>
                    </a:lnTo>
                    <a:lnTo>
                      <a:pt x="189" y="42"/>
                    </a:lnTo>
                    <a:lnTo>
                      <a:pt x="230" y="30"/>
                    </a:lnTo>
                    <a:lnTo>
                      <a:pt x="271" y="20"/>
                    </a:lnTo>
                    <a:lnTo>
                      <a:pt x="312" y="11"/>
                    </a:lnTo>
                    <a:lnTo>
                      <a:pt x="309" y="10"/>
                    </a:lnTo>
                    <a:lnTo>
                      <a:pt x="286" y="0"/>
                    </a:lnTo>
                    <a:close/>
                    <a:moveTo>
                      <a:pt x="765" y="1933"/>
                    </a:moveTo>
                    <a:lnTo>
                      <a:pt x="786" y="1927"/>
                    </a:lnTo>
                    <a:lnTo>
                      <a:pt x="808" y="1919"/>
                    </a:lnTo>
                    <a:lnTo>
                      <a:pt x="830" y="1912"/>
                    </a:lnTo>
                    <a:lnTo>
                      <a:pt x="851" y="1905"/>
                    </a:lnTo>
                    <a:lnTo>
                      <a:pt x="872" y="1895"/>
                    </a:lnTo>
                    <a:lnTo>
                      <a:pt x="893" y="1887"/>
                    </a:lnTo>
                    <a:lnTo>
                      <a:pt x="913" y="1877"/>
                    </a:lnTo>
                    <a:lnTo>
                      <a:pt x="934" y="1867"/>
                    </a:lnTo>
                    <a:lnTo>
                      <a:pt x="954" y="1857"/>
                    </a:lnTo>
                    <a:lnTo>
                      <a:pt x="974" y="1846"/>
                    </a:lnTo>
                    <a:lnTo>
                      <a:pt x="993" y="1835"/>
                    </a:lnTo>
                    <a:lnTo>
                      <a:pt x="1013" y="1824"/>
                    </a:lnTo>
                    <a:lnTo>
                      <a:pt x="1050" y="1799"/>
                    </a:lnTo>
                    <a:lnTo>
                      <a:pt x="1086" y="1772"/>
                    </a:lnTo>
                    <a:lnTo>
                      <a:pt x="1122" y="1745"/>
                    </a:lnTo>
                    <a:lnTo>
                      <a:pt x="1156" y="1716"/>
                    </a:lnTo>
                    <a:lnTo>
                      <a:pt x="1188" y="1685"/>
                    </a:lnTo>
                    <a:lnTo>
                      <a:pt x="1220" y="1653"/>
                    </a:lnTo>
                    <a:lnTo>
                      <a:pt x="1249" y="1619"/>
                    </a:lnTo>
                    <a:lnTo>
                      <a:pt x="1278" y="1584"/>
                    </a:lnTo>
                    <a:lnTo>
                      <a:pt x="1304" y="1549"/>
                    </a:lnTo>
                    <a:lnTo>
                      <a:pt x="1329" y="1511"/>
                    </a:lnTo>
                    <a:lnTo>
                      <a:pt x="1327" y="1508"/>
                    </a:lnTo>
                    <a:lnTo>
                      <a:pt x="1318" y="1498"/>
                    </a:lnTo>
                    <a:lnTo>
                      <a:pt x="1292" y="1535"/>
                    </a:lnTo>
                    <a:lnTo>
                      <a:pt x="1266" y="1572"/>
                    </a:lnTo>
                    <a:lnTo>
                      <a:pt x="1239" y="1606"/>
                    </a:lnTo>
                    <a:lnTo>
                      <a:pt x="1208" y="1640"/>
                    </a:lnTo>
                    <a:lnTo>
                      <a:pt x="1178" y="1671"/>
                    </a:lnTo>
                    <a:lnTo>
                      <a:pt x="1145" y="1702"/>
                    </a:lnTo>
                    <a:lnTo>
                      <a:pt x="1128" y="1718"/>
                    </a:lnTo>
                    <a:lnTo>
                      <a:pt x="1112" y="1731"/>
                    </a:lnTo>
                    <a:lnTo>
                      <a:pt x="1094" y="1746"/>
                    </a:lnTo>
                    <a:lnTo>
                      <a:pt x="1077" y="1760"/>
                    </a:lnTo>
                    <a:lnTo>
                      <a:pt x="1058" y="1772"/>
                    </a:lnTo>
                    <a:lnTo>
                      <a:pt x="1040" y="1785"/>
                    </a:lnTo>
                    <a:lnTo>
                      <a:pt x="1021" y="1797"/>
                    </a:lnTo>
                    <a:lnTo>
                      <a:pt x="1002" y="1810"/>
                    </a:lnTo>
                    <a:lnTo>
                      <a:pt x="983" y="1822"/>
                    </a:lnTo>
                    <a:lnTo>
                      <a:pt x="963" y="1832"/>
                    </a:lnTo>
                    <a:lnTo>
                      <a:pt x="943" y="1844"/>
                    </a:lnTo>
                    <a:lnTo>
                      <a:pt x="923" y="1853"/>
                    </a:lnTo>
                    <a:lnTo>
                      <a:pt x="903" y="1864"/>
                    </a:lnTo>
                    <a:lnTo>
                      <a:pt x="882" y="1873"/>
                    </a:lnTo>
                    <a:lnTo>
                      <a:pt x="862" y="1881"/>
                    </a:lnTo>
                    <a:lnTo>
                      <a:pt x="841" y="1890"/>
                    </a:lnTo>
                    <a:lnTo>
                      <a:pt x="819" y="1898"/>
                    </a:lnTo>
                    <a:lnTo>
                      <a:pt x="798" y="1906"/>
                    </a:lnTo>
                    <a:lnTo>
                      <a:pt x="776" y="1912"/>
                    </a:lnTo>
                    <a:lnTo>
                      <a:pt x="754" y="1918"/>
                    </a:lnTo>
                    <a:lnTo>
                      <a:pt x="763" y="1931"/>
                    </a:lnTo>
                    <a:lnTo>
                      <a:pt x="765" y="1933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62600" y="2389320"/>
                <a:ext cx="420840" cy="609480"/>
              </a:xfrm>
              <a:custGeom>
                <a:avLst/>
                <a:gdLst/>
                <a:ahLst/>
                <a:rect l="l" t="t" r="r" b="b"/>
                <a:pathLst>
                  <a:path w="1324" h="1921">
                    <a:moveTo>
                      <a:pt x="299" y="0"/>
                    </a:moveTo>
                    <a:lnTo>
                      <a:pt x="260" y="9"/>
                    </a:lnTo>
                    <a:lnTo>
                      <a:pt x="221" y="19"/>
                    </a:lnTo>
                    <a:lnTo>
                      <a:pt x="183" y="31"/>
                    </a:lnTo>
                    <a:lnTo>
                      <a:pt x="147" y="43"/>
                    </a:lnTo>
                    <a:lnTo>
                      <a:pt x="110" y="58"/>
                    </a:lnTo>
                    <a:lnTo>
                      <a:pt x="74" y="73"/>
                    </a:lnTo>
                    <a:lnTo>
                      <a:pt x="38" y="90"/>
                    </a:lnTo>
                    <a:lnTo>
                      <a:pt x="5" y="108"/>
                    </a:lnTo>
                    <a:lnTo>
                      <a:pt x="0" y="119"/>
                    </a:lnTo>
                    <a:lnTo>
                      <a:pt x="0" y="130"/>
                    </a:lnTo>
                    <a:lnTo>
                      <a:pt x="36" y="110"/>
                    </a:lnTo>
                    <a:lnTo>
                      <a:pt x="75" y="90"/>
                    </a:lnTo>
                    <a:lnTo>
                      <a:pt x="115" y="74"/>
                    </a:lnTo>
                    <a:lnTo>
                      <a:pt x="155" y="58"/>
                    </a:lnTo>
                    <a:lnTo>
                      <a:pt x="196" y="44"/>
                    </a:lnTo>
                    <a:lnTo>
                      <a:pt x="238" y="32"/>
                    </a:lnTo>
                    <a:lnTo>
                      <a:pt x="281" y="21"/>
                    </a:lnTo>
                    <a:lnTo>
                      <a:pt x="324" y="13"/>
                    </a:lnTo>
                    <a:lnTo>
                      <a:pt x="309" y="5"/>
                    </a:lnTo>
                    <a:lnTo>
                      <a:pt x="299" y="0"/>
                    </a:lnTo>
                    <a:close/>
                    <a:moveTo>
                      <a:pt x="759" y="1921"/>
                    </a:moveTo>
                    <a:lnTo>
                      <a:pt x="782" y="1914"/>
                    </a:lnTo>
                    <a:lnTo>
                      <a:pt x="803" y="1908"/>
                    </a:lnTo>
                    <a:lnTo>
                      <a:pt x="825" y="1900"/>
                    </a:lnTo>
                    <a:lnTo>
                      <a:pt x="846" y="1892"/>
                    </a:lnTo>
                    <a:lnTo>
                      <a:pt x="867" y="1884"/>
                    </a:lnTo>
                    <a:lnTo>
                      <a:pt x="888" y="1874"/>
                    </a:lnTo>
                    <a:lnTo>
                      <a:pt x="909" y="1865"/>
                    </a:lnTo>
                    <a:lnTo>
                      <a:pt x="929" y="1855"/>
                    </a:lnTo>
                    <a:lnTo>
                      <a:pt x="949" y="1845"/>
                    </a:lnTo>
                    <a:lnTo>
                      <a:pt x="969" y="1834"/>
                    </a:lnTo>
                    <a:lnTo>
                      <a:pt x="989" y="1823"/>
                    </a:lnTo>
                    <a:lnTo>
                      <a:pt x="1008" y="1811"/>
                    </a:lnTo>
                    <a:lnTo>
                      <a:pt x="1045" y="1787"/>
                    </a:lnTo>
                    <a:lnTo>
                      <a:pt x="1082" y="1761"/>
                    </a:lnTo>
                    <a:lnTo>
                      <a:pt x="1117" y="1733"/>
                    </a:lnTo>
                    <a:lnTo>
                      <a:pt x="1151" y="1703"/>
                    </a:lnTo>
                    <a:lnTo>
                      <a:pt x="1183" y="1673"/>
                    </a:lnTo>
                    <a:lnTo>
                      <a:pt x="1215" y="1641"/>
                    </a:lnTo>
                    <a:lnTo>
                      <a:pt x="1244" y="1608"/>
                    </a:lnTo>
                    <a:lnTo>
                      <a:pt x="1272" y="1572"/>
                    </a:lnTo>
                    <a:lnTo>
                      <a:pt x="1299" y="1536"/>
                    </a:lnTo>
                    <a:lnTo>
                      <a:pt x="1324" y="1498"/>
                    </a:lnTo>
                    <a:lnTo>
                      <a:pt x="1311" y="1487"/>
                    </a:lnTo>
                    <a:lnTo>
                      <a:pt x="1287" y="1524"/>
                    </a:lnTo>
                    <a:lnTo>
                      <a:pt x="1261" y="1560"/>
                    </a:lnTo>
                    <a:lnTo>
                      <a:pt x="1232" y="1595"/>
                    </a:lnTo>
                    <a:lnTo>
                      <a:pt x="1203" y="1629"/>
                    </a:lnTo>
                    <a:lnTo>
                      <a:pt x="1187" y="1644"/>
                    </a:lnTo>
                    <a:lnTo>
                      <a:pt x="1173" y="1660"/>
                    </a:lnTo>
                    <a:lnTo>
                      <a:pt x="1156" y="1676"/>
                    </a:lnTo>
                    <a:lnTo>
                      <a:pt x="1140" y="1691"/>
                    </a:lnTo>
                    <a:lnTo>
                      <a:pt x="1106" y="1720"/>
                    </a:lnTo>
                    <a:lnTo>
                      <a:pt x="1071" y="1747"/>
                    </a:lnTo>
                    <a:lnTo>
                      <a:pt x="1035" y="1774"/>
                    </a:lnTo>
                    <a:lnTo>
                      <a:pt x="997" y="1798"/>
                    </a:lnTo>
                    <a:lnTo>
                      <a:pt x="958" y="1821"/>
                    </a:lnTo>
                    <a:lnTo>
                      <a:pt x="918" y="1842"/>
                    </a:lnTo>
                    <a:lnTo>
                      <a:pt x="898" y="1851"/>
                    </a:lnTo>
                    <a:lnTo>
                      <a:pt x="878" y="1861"/>
                    </a:lnTo>
                    <a:lnTo>
                      <a:pt x="857" y="1869"/>
                    </a:lnTo>
                    <a:lnTo>
                      <a:pt x="836" y="1878"/>
                    </a:lnTo>
                    <a:lnTo>
                      <a:pt x="814" y="1886"/>
                    </a:lnTo>
                    <a:lnTo>
                      <a:pt x="793" y="1893"/>
                    </a:lnTo>
                    <a:lnTo>
                      <a:pt x="771" y="1901"/>
                    </a:lnTo>
                    <a:lnTo>
                      <a:pt x="749" y="1907"/>
                    </a:lnTo>
                    <a:lnTo>
                      <a:pt x="759" y="192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862600" y="2390760"/>
                <a:ext cx="419040" cy="606600"/>
              </a:xfrm>
              <a:custGeom>
                <a:avLst/>
                <a:gdLst/>
                <a:ahLst/>
                <a:rect l="l" t="t" r="r" b="b"/>
                <a:pathLst>
                  <a:path w="1318" h="1907">
                    <a:moveTo>
                      <a:pt x="312" y="0"/>
                    </a:moveTo>
                    <a:lnTo>
                      <a:pt x="271" y="9"/>
                    </a:lnTo>
                    <a:lnTo>
                      <a:pt x="230" y="19"/>
                    </a:lnTo>
                    <a:lnTo>
                      <a:pt x="189" y="31"/>
                    </a:lnTo>
                    <a:lnTo>
                      <a:pt x="150" y="45"/>
                    </a:lnTo>
                    <a:lnTo>
                      <a:pt x="111" y="60"/>
                    </a:lnTo>
                    <a:lnTo>
                      <a:pt x="73" y="77"/>
                    </a:lnTo>
                    <a:lnTo>
                      <a:pt x="35" y="95"/>
                    </a:lnTo>
                    <a:lnTo>
                      <a:pt x="0" y="115"/>
                    </a:lnTo>
                    <a:lnTo>
                      <a:pt x="0" y="134"/>
                    </a:lnTo>
                    <a:lnTo>
                      <a:pt x="38" y="113"/>
                    </a:lnTo>
                    <a:lnTo>
                      <a:pt x="78" y="93"/>
                    </a:lnTo>
                    <a:lnTo>
                      <a:pt x="118" y="75"/>
                    </a:lnTo>
                    <a:lnTo>
                      <a:pt x="160" y="58"/>
                    </a:lnTo>
                    <a:lnTo>
                      <a:pt x="181" y="51"/>
                    </a:lnTo>
                    <a:lnTo>
                      <a:pt x="203" y="45"/>
                    </a:lnTo>
                    <a:lnTo>
                      <a:pt x="224" y="38"/>
                    </a:lnTo>
                    <a:lnTo>
                      <a:pt x="247" y="32"/>
                    </a:lnTo>
                    <a:lnTo>
                      <a:pt x="269" y="27"/>
                    </a:lnTo>
                    <a:lnTo>
                      <a:pt x="292" y="21"/>
                    </a:lnTo>
                    <a:lnTo>
                      <a:pt x="314" y="17"/>
                    </a:lnTo>
                    <a:lnTo>
                      <a:pt x="337" y="13"/>
                    </a:lnTo>
                    <a:lnTo>
                      <a:pt x="312" y="0"/>
                    </a:lnTo>
                    <a:close/>
                    <a:moveTo>
                      <a:pt x="754" y="1907"/>
                    </a:moveTo>
                    <a:lnTo>
                      <a:pt x="776" y="1901"/>
                    </a:lnTo>
                    <a:lnTo>
                      <a:pt x="798" y="1895"/>
                    </a:lnTo>
                    <a:lnTo>
                      <a:pt x="819" y="1887"/>
                    </a:lnTo>
                    <a:lnTo>
                      <a:pt x="841" y="1879"/>
                    </a:lnTo>
                    <a:lnTo>
                      <a:pt x="862" y="1870"/>
                    </a:lnTo>
                    <a:lnTo>
                      <a:pt x="882" y="1862"/>
                    </a:lnTo>
                    <a:lnTo>
                      <a:pt x="903" y="1853"/>
                    </a:lnTo>
                    <a:lnTo>
                      <a:pt x="923" y="1842"/>
                    </a:lnTo>
                    <a:lnTo>
                      <a:pt x="943" y="1833"/>
                    </a:lnTo>
                    <a:lnTo>
                      <a:pt x="963" y="1821"/>
                    </a:lnTo>
                    <a:lnTo>
                      <a:pt x="983" y="1811"/>
                    </a:lnTo>
                    <a:lnTo>
                      <a:pt x="1002" y="1799"/>
                    </a:lnTo>
                    <a:lnTo>
                      <a:pt x="1021" y="1786"/>
                    </a:lnTo>
                    <a:lnTo>
                      <a:pt x="1040" y="1774"/>
                    </a:lnTo>
                    <a:lnTo>
                      <a:pt x="1058" y="1761"/>
                    </a:lnTo>
                    <a:lnTo>
                      <a:pt x="1077" y="1749"/>
                    </a:lnTo>
                    <a:lnTo>
                      <a:pt x="1094" y="1735"/>
                    </a:lnTo>
                    <a:lnTo>
                      <a:pt x="1112" y="1720"/>
                    </a:lnTo>
                    <a:lnTo>
                      <a:pt x="1128" y="1707"/>
                    </a:lnTo>
                    <a:lnTo>
                      <a:pt x="1145" y="1691"/>
                    </a:lnTo>
                    <a:lnTo>
                      <a:pt x="1178" y="1660"/>
                    </a:lnTo>
                    <a:lnTo>
                      <a:pt x="1208" y="1629"/>
                    </a:lnTo>
                    <a:lnTo>
                      <a:pt x="1239" y="1595"/>
                    </a:lnTo>
                    <a:lnTo>
                      <a:pt x="1266" y="1561"/>
                    </a:lnTo>
                    <a:lnTo>
                      <a:pt x="1292" y="1524"/>
                    </a:lnTo>
                    <a:lnTo>
                      <a:pt x="1318" y="1487"/>
                    </a:lnTo>
                    <a:lnTo>
                      <a:pt x="1305" y="1475"/>
                    </a:lnTo>
                    <a:lnTo>
                      <a:pt x="1293" y="1494"/>
                    </a:lnTo>
                    <a:lnTo>
                      <a:pt x="1281" y="1512"/>
                    </a:lnTo>
                    <a:lnTo>
                      <a:pt x="1268" y="1530"/>
                    </a:lnTo>
                    <a:lnTo>
                      <a:pt x="1255" y="1548"/>
                    </a:lnTo>
                    <a:lnTo>
                      <a:pt x="1227" y="1583"/>
                    </a:lnTo>
                    <a:lnTo>
                      <a:pt x="1198" y="1616"/>
                    </a:lnTo>
                    <a:lnTo>
                      <a:pt x="1182" y="1632"/>
                    </a:lnTo>
                    <a:lnTo>
                      <a:pt x="1166" y="1648"/>
                    </a:lnTo>
                    <a:lnTo>
                      <a:pt x="1151" y="1664"/>
                    </a:lnTo>
                    <a:lnTo>
                      <a:pt x="1135" y="1678"/>
                    </a:lnTo>
                    <a:lnTo>
                      <a:pt x="1118" y="1694"/>
                    </a:lnTo>
                    <a:lnTo>
                      <a:pt x="1101" y="1708"/>
                    </a:lnTo>
                    <a:lnTo>
                      <a:pt x="1083" y="1722"/>
                    </a:lnTo>
                    <a:lnTo>
                      <a:pt x="1065" y="1735"/>
                    </a:lnTo>
                    <a:lnTo>
                      <a:pt x="1030" y="1761"/>
                    </a:lnTo>
                    <a:lnTo>
                      <a:pt x="992" y="1785"/>
                    </a:lnTo>
                    <a:lnTo>
                      <a:pt x="973" y="1797"/>
                    </a:lnTo>
                    <a:lnTo>
                      <a:pt x="953" y="1809"/>
                    </a:lnTo>
                    <a:lnTo>
                      <a:pt x="934" y="1819"/>
                    </a:lnTo>
                    <a:lnTo>
                      <a:pt x="914" y="1828"/>
                    </a:lnTo>
                    <a:lnTo>
                      <a:pt x="893" y="1839"/>
                    </a:lnTo>
                    <a:lnTo>
                      <a:pt x="873" y="1847"/>
                    </a:lnTo>
                    <a:lnTo>
                      <a:pt x="852" y="1857"/>
                    </a:lnTo>
                    <a:lnTo>
                      <a:pt x="831" y="1865"/>
                    </a:lnTo>
                    <a:lnTo>
                      <a:pt x="810" y="1873"/>
                    </a:lnTo>
                    <a:lnTo>
                      <a:pt x="788" y="1880"/>
                    </a:lnTo>
                    <a:lnTo>
                      <a:pt x="767" y="1887"/>
                    </a:lnTo>
                    <a:lnTo>
                      <a:pt x="745" y="1894"/>
                    </a:lnTo>
                    <a:lnTo>
                      <a:pt x="754" y="1907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862600" y="2394000"/>
                <a:ext cx="415800" cy="601560"/>
              </a:xfrm>
              <a:custGeom>
                <a:avLst/>
                <a:gdLst/>
                <a:ahLst/>
                <a:rect l="l" t="t" r="r" b="b"/>
                <a:pathLst>
                  <a:path w="1311" h="1894">
                    <a:moveTo>
                      <a:pt x="324" y="0"/>
                    </a:moveTo>
                    <a:lnTo>
                      <a:pt x="281" y="8"/>
                    </a:lnTo>
                    <a:lnTo>
                      <a:pt x="238" y="19"/>
                    </a:lnTo>
                    <a:lnTo>
                      <a:pt x="196" y="31"/>
                    </a:lnTo>
                    <a:lnTo>
                      <a:pt x="155" y="45"/>
                    </a:lnTo>
                    <a:lnTo>
                      <a:pt x="115" y="61"/>
                    </a:lnTo>
                    <a:lnTo>
                      <a:pt x="75" y="77"/>
                    </a:lnTo>
                    <a:lnTo>
                      <a:pt x="36" y="97"/>
                    </a:lnTo>
                    <a:lnTo>
                      <a:pt x="0" y="117"/>
                    </a:lnTo>
                    <a:lnTo>
                      <a:pt x="0" y="137"/>
                    </a:lnTo>
                    <a:lnTo>
                      <a:pt x="19" y="126"/>
                    </a:lnTo>
                    <a:lnTo>
                      <a:pt x="39" y="114"/>
                    </a:lnTo>
                    <a:lnTo>
                      <a:pt x="59" y="104"/>
                    </a:lnTo>
                    <a:lnTo>
                      <a:pt x="80" y="94"/>
                    </a:lnTo>
                    <a:lnTo>
                      <a:pt x="101" y="85"/>
                    </a:lnTo>
                    <a:lnTo>
                      <a:pt x="122" y="75"/>
                    </a:lnTo>
                    <a:lnTo>
                      <a:pt x="145" y="67"/>
                    </a:lnTo>
                    <a:lnTo>
                      <a:pt x="167" y="59"/>
                    </a:lnTo>
                    <a:lnTo>
                      <a:pt x="189" y="51"/>
                    </a:lnTo>
                    <a:lnTo>
                      <a:pt x="211" y="44"/>
                    </a:lnTo>
                    <a:lnTo>
                      <a:pt x="233" y="38"/>
                    </a:lnTo>
                    <a:lnTo>
                      <a:pt x="256" y="31"/>
                    </a:lnTo>
                    <a:lnTo>
                      <a:pt x="279" y="26"/>
                    </a:lnTo>
                    <a:lnTo>
                      <a:pt x="302" y="21"/>
                    </a:lnTo>
                    <a:lnTo>
                      <a:pt x="325" y="17"/>
                    </a:lnTo>
                    <a:lnTo>
                      <a:pt x="350" y="13"/>
                    </a:lnTo>
                    <a:lnTo>
                      <a:pt x="324" y="0"/>
                    </a:lnTo>
                    <a:close/>
                    <a:moveTo>
                      <a:pt x="749" y="1894"/>
                    </a:moveTo>
                    <a:lnTo>
                      <a:pt x="771" y="1888"/>
                    </a:lnTo>
                    <a:lnTo>
                      <a:pt x="793" y="1880"/>
                    </a:lnTo>
                    <a:lnTo>
                      <a:pt x="814" y="1873"/>
                    </a:lnTo>
                    <a:lnTo>
                      <a:pt x="836" y="1865"/>
                    </a:lnTo>
                    <a:lnTo>
                      <a:pt x="857" y="1856"/>
                    </a:lnTo>
                    <a:lnTo>
                      <a:pt x="878" y="1848"/>
                    </a:lnTo>
                    <a:lnTo>
                      <a:pt x="898" y="1838"/>
                    </a:lnTo>
                    <a:lnTo>
                      <a:pt x="919" y="1829"/>
                    </a:lnTo>
                    <a:lnTo>
                      <a:pt x="958" y="1808"/>
                    </a:lnTo>
                    <a:lnTo>
                      <a:pt x="997" y="1785"/>
                    </a:lnTo>
                    <a:lnTo>
                      <a:pt x="1035" y="1761"/>
                    </a:lnTo>
                    <a:lnTo>
                      <a:pt x="1071" y="1734"/>
                    </a:lnTo>
                    <a:lnTo>
                      <a:pt x="1106" y="1707"/>
                    </a:lnTo>
                    <a:lnTo>
                      <a:pt x="1140" y="1678"/>
                    </a:lnTo>
                    <a:lnTo>
                      <a:pt x="1156" y="1663"/>
                    </a:lnTo>
                    <a:lnTo>
                      <a:pt x="1173" y="1647"/>
                    </a:lnTo>
                    <a:lnTo>
                      <a:pt x="1188" y="1631"/>
                    </a:lnTo>
                    <a:lnTo>
                      <a:pt x="1203" y="1616"/>
                    </a:lnTo>
                    <a:lnTo>
                      <a:pt x="1232" y="1582"/>
                    </a:lnTo>
                    <a:lnTo>
                      <a:pt x="1261" y="1547"/>
                    </a:lnTo>
                    <a:lnTo>
                      <a:pt x="1287" y="1511"/>
                    </a:lnTo>
                    <a:lnTo>
                      <a:pt x="1311" y="1474"/>
                    </a:lnTo>
                    <a:lnTo>
                      <a:pt x="1300" y="1461"/>
                    </a:lnTo>
                    <a:lnTo>
                      <a:pt x="1287" y="1480"/>
                    </a:lnTo>
                    <a:lnTo>
                      <a:pt x="1275" y="1499"/>
                    </a:lnTo>
                    <a:lnTo>
                      <a:pt x="1262" y="1517"/>
                    </a:lnTo>
                    <a:lnTo>
                      <a:pt x="1248" y="1535"/>
                    </a:lnTo>
                    <a:lnTo>
                      <a:pt x="1221" y="1569"/>
                    </a:lnTo>
                    <a:lnTo>
                      <a:pt x="1192" y="1603"/>
                    </a:lnTo>
                    <a:lnTo>
                      <a:pt x="1161" y="1635"/>
                    </a:lnTo>
                    <a:lnTo>
                      <a:pt x="1128" y="1665"/>
                    </a:lnTo>
                    <a:lnTo>
                      <a:pt x="1095" y="1694"/>
                    </a:lnTo>
                    <a:lnTo>
                      <a:pt x="1060" y="1722"/>
                    </a:lnTo>
                    <a:lnTo>
                      <a:pt x="1042" y="1735"/>
                    </a:lnTo>
                    <a:lnTo>
                      <a:pt x="1024" y="1748"/>
                    </a:lnTo>
                    <a:lnTo>
                      <a:pt x="1005" y="1761"/>
                    </a:lnTo>
                    <a:lnTo>
                      <a:pt x="987" y="1772"/>
                    </a:lnTo>
                    <a:lnTo>
                      <a:pt x="968" y="1784"/>
                    </a:lnTo>
                    <a:lnTo>
                      <a:pt x="948" y="1794"/>
                    </a:lnTo>
                    <a:lnTo>
                      <a:pt x="929" y="1805"/>
                    </a:lnTo>
                    <a:lnTo>
                      <a:pt x="909" y="1815"/>
                    </a:lnTo>
                    <a:lnTo>
                      <a:pt x="888" y="1825"/>
                    </a:lnTo>
                    <a:lnTo>
                      <a:pt x="868" y="1834"/>
                    </a:lnTo>
                    <a:lnTo>
                      <a:pt x="847" y="1842"/>
                    </a:lnTo>
                    <a:lnTo>
                      <a:pt x="826" y="1851"/>
                    </a:lnTo>
                    <a:lnTo>
                      <a:pt x="805" y="1858"/>
                    </a:lnTo>
                    <a:lnTo>
                      <a:pt x="783" y="1866"/>
                    </a:lnTo>
                    <a:lnTo>
                      <a:pt x="762" y="1873"/>
                    </a:lnTo>
                    <a:lnTo>
                      <a:pt x="740" y="1879"/>
                    </a:lnTo>
                    <a:lnTo>
                      <a:pt x="749" y="189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862600" y="2395440"/>
                <a:ext cx="414360" cy="596880"/>
              </a:xfrm>
              <a:custGeom>
                <a:avLst/>
                <a:gdLst/>
                <a:ahLst/>
                <a:rect l="l" t="t" r="r" b="b"/>
                <a:pathLst>
                  <a:path w="1305" h="1881">
                    <a:moveTo>
                      <a:pt x="337" y="0"/>
                    </a:moveTo>
                    <a:lnTo>
                      <a:pt x="314" y="4"/>
                    </a:lnTo>
                    <a:lnTo>
                      <a:pt x="292" y="8"/>
                    </a:lnTo>
                    <a:lnTo>
                      <a:pt x="269" y="14"/>
                    </a:lnTo>
                    <a:lnTo>
                      <a:pt x="247" y="19"/>
                    </a:lnTo>
                    <a:lnTo>
                      <a:pt x="203" y="32"/>
                    </a:lnTo>
                    <a:lnTo>
                      <a:pt x="160" y="45"/>
                    </a:lnTo>
                    <a:lnTo>
                      <a:pt x="118" y="62"/>
                    </a:lnTo>
                    <a:lnTo>
                      <a:pt x="78" y="80"/>
                    </a:lnTo>
                    <a:lnTo>
                      <a:pt x="38" y="100"/>
                    </a:lnTo>
                    <a:lnTo>
                      <a:pt x="0" y="121"/>
                    </a:lnTo>
                    <a:lnTo>
                      <a:pt x="0" y="141"/>
                    </a:lnTo>
                    <a:lnTo>
                      <a:pt x="19" y="129"/>
                    </a:lnTo>
                    <a:lnTo>
                      <a:pt x="41" y="118"/>
                    </a:lnTo>
                    <a:lnTo>
                      <a:pt x="62" y="106"/>
                    </a:lnTo>
                    <a:lnTo>
                      <a:pt x="84" y="96"/>
                    </a:lnTo>
                    <a:lnTo>
                      <a:pt x="105" y="86"/>
                    </a:lnTo>
                    <a:lnTo>
                      <a:pt x="127" y="77"/>
                    </a:lnTo>
                    <a:lnTo>
                      <a:pt x="150" y="67"/>
                    </a:lnTo>
                    <a:lnTo>
                      <a:pt x="172" y="59"/>
                    </a:lnTo>
                    <a:lnTo>
                      <a:pt x="195" y="51"/>
                    </a:lnTo>
                    <a:lnTo>
                      <a:pt x="218" y="44"/>
                    </a:lnTo>
                    <a:lnTo>
                      <a:pt x="241" y="38"/>
                    </a:lnTo>
                    <a:lnTo>
                      <a:pt x="265" y="32"/>
                    </a:lnTo>
                    <a:lnTo>
                      <a:pt x="289" y="26"/>
                    </a:lnTo>
                    <a:lnTo>
                      <a:pt x="313" y="22"/>
                    </a:lnTo>
                    <a:lnTo>
                      <a:pt x="337" y="18"/>
                    </a:lnTo>
                    <a:lnTo>
                      <a:pt x="362" y="14"/>
                    </a:lnTo>
                    <a:lnTo>
                      <a:pt x="337" y="0"/>
                    </a:lnTo>
                    <a:close/>
                    <a:moveTo>
                      <a:pt x="745" y="1881"/>
                    </a:moveTo>
                    <a:lnTo>
                      <a:pt x="767" y="1874"/>
                    </a:lnTo>
                    <a:lnTo>
                      <a:pt x="788" y="1867"/>
                    </a:lnTo>
                    <a:lnTo>
                      <a:pt x="810" y="1860"/>
                    </a:lnTo>
                    <a:lnTo>
                      <a:pt x="831" y="1852"/>
                    </a:lnTo>
                    <a:lnTo>
                      <a:pt x="852" y="1844"/>
                    </a:lnTo>
                    <a:lnTo>
                      <a:pt x="873" y="1834"/>
                    </a:lnTo>
                    <a:lnTo>
                      <a:pt x="893" y="1826"/>
                    </a:lnTo>
                    <a:lnTo>
                      <a:pt x="914" y="1815"/>
                    </a:lnTo>
                    <a:lnTo>
                      <a:pt x="934" y="1806"/>
                    </a:lnTo>
                    <a:lnTo>
                      <a:pt x="953" y="1796"/>
                    </a:lnTo>
                    <a:lnTo>
                      <a:pt x="973" y="1784"/>
                    </a:lnTo>
                    <a:lnTo>
                      <a:pt x="992" y="1772"/>
                    </a:lnTo>
                    <a:lnTo>
                      <a:pt x="1030" y="1748"/>
                    </a:lnTo>
                    <a:lnTo>
                      <a:pt x="1065" y="1722"/>
                    </a:lnTo>
                    <a:lnTo>
                      <a:pt x="1083" y="1708"/>
                    </a:lnTo>
                    <a:lnTo>
                      <a:pt x="1101" y="1695"/>
                    </a:lnTo>
                    <a:lnTo>
                      <a:pt x="1118" y="1680"/>
                    </a:lnTo>
                    <a:lnTo>
                      <a:pt x="1135" y="1665"/>
                    </a:lnTo>
                    <a:lnTo>
                      <a:pt x="1151" y="1651"/>
                    </a:lnTo>
                    <a:lnTo>
                      <a:pt x="1166" y="1635"/>
                    </a:lnTo>
                    <a:lnTo>
                      <a:pt x="1182" y="1619"/>
                    </a:lnTo>
                    <a:lnTo>
                      <a:pt x="1198" y="1603"/>
                    </a:lnTo>
                    <a:lnTo>
                      <a:pt x="1227" y="1570"/>
                    </a:lnTo>
                    <a:lnTo>
                      <a:pt x="1255" y="1535"/>
                    </a:lnTo>
                    <a:lnTo>
                      <a:pt x="1268" y="1517"/>
                    </a:lnTo>
                    <a:lnTo>
                      <a:pt x="1281" y="1499"/>
                    </a:lnTo>
                    <a:lnTo>
                      <a:pt x="1293" y="1481"/>
                    </a:lnTo>
                    <a:lnTo>
                      <a:pt x="1305" y="1462"/>
                    </a:lnTo>
                    <a:lnTo>
                      <a:pt x="1293" y="1449"/>
                    </a:lnTo>
                    <a:lnTo>
                      <a:pt x="1269" y="1487"/>
                    </a:lnTo>
                    <a:lnTo>
                      <a:pt x="1243" y="1523"/>
                    </a:lnTo>
                    <a:lnTo>
                      <a:pt x="1229" y="1540"/>
                    </a:lnTo>
                    <a:lnTo>
                      <a:pt x="1216" y="1557"/>
                    </a:lnTo>
                    <a:lnTo>
                      <a:pt x="1201" y="1574"/>
                    </a:lnTo>
                    <a:lnTo>
                      <a:pt x="1186" y="1591"/>
                    </a:lnTo>
                    <a:lnTo>
                      <a:pt x="1170" y="1607"/>
                    </a:lnTo>
                    <a:lnTo>
                      <a:pt x="1156" y="1622"/>
                    </a:lnTo>
                    <a:lnTo>
                      <a:pt x="1140" y="1638"/>
                    </a:lnTo>
                    <a:lnTo>
                      <a:pt x="1123" y="1653"/>
                    </a:lnTo>
                    <a:lnTo>
                      <a:pt x="1106" y="1667"/>
                    </a:lnTo>
                    <a:lnTo>
                      <a:pt x="1090" y="1682"/>
                    </a:lnTo>
                    <a:lnTo>
                      <a:pt x="1073" y="1696"/>
                    </a:lnTo>
                    <a:lnTo>
                      <a:pt x="1055" y="1709"/>
                    </a:lnTo>
                    <a:lnTo>
                      <a:pt x="1037" y="1723"/>
                    </a:lnTo>
                    <a:lnTo>
                      <a:pt x="1019" y="1736"/>
                    </a:lnTo>
                    <a:lnTo>
                      <a:pt x="1000" y="1747"/>
                    </a:lnTo>
                    <a:lnTo>
                      <a:pt x="981" y="1760"/>
                    </a:lnTo>
                    <a:lnTo>
                      <a:pt x="962" y="1770"/>
                    </a:lnTo>
                    <a:lnTo>
                      <a:pt x="942" y="1782"/>
                    </a:lnTo>
                    <a:lnTo>
                      <a:pt x="923" y="1792"/>
                    </a:lnTo>
                    <a:lnTo>
                      <a:pt x="903" y="1802"/>
                    </a:lnTo>
                    <a:lnTo>
                      <a:pt x="882" y="1812"/>
                    </a:lnTo>
                    <a:lnTo>
                      <a:pt x="862" y="1821"/>
                    </a:lnTo>
                    <a:lnTo>
                      <a:pt x="841" y="1830"/>
                    </a:lnTo>
                    <a:lnTo>
                      <a:pt x="820" y="1838"/>
                    </a:lnTo>
                    <a:lnTo>
                      <a:pt x="799" y="1846"/>
                    </a:lnTo>
                    <a:lnTo>
                      <a:pt x="778" y="1852"/>
                    </a:lnTo>
                    <a:lnTo>
                      <a:pt x="756" y="1860"/>
                    </a:lnTo>
                    <a:lnTo>
                      <a:pt x="734" y="1866"/>
                    </a:lnTo>
                    <a:lnTo>
                      <a:pt x="745" y="188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862600" y="2397240"/>
                <a:ext cx="412920" cy="593640"/>
              </a:xfrm>
              <a:custGeom>
                <a:avLst/>
                <a:gdLst/>
                <a:ahLst/>
                <a:rect l="l" t="t" r="r" b="b"/>
                <a:pathLst>
                  <a:path w="1300" h="1866">
                    <a:moveTo>
                      <a:pt x="350" y="0"/>
                    </a:moveTo>
                    <a:lnTo>
                      <a:pt x="325" y="4"/>
                    </a:lnTo>
                    <a:lnTo>
                      <a:pt x="302" y="8"/>
                    </a:lnTo>
                    <a:lnTo>
                      <a:pt x="279" y="13"/>
                    </a:lnTo>
                    <a:lnTo>
                      <a:pt x="256" y="18"/>
                    </a:lnTo>
                    <a:lnTo>
                      <a:pt x="233" y="25"/>
                    </a:lnTo>
                    <a:lnTo>
                      <a:pt x="211" y="31"/>
                    </a:lnTo>
                    <a:lnTo>
                      <a:pt x="189" y="38"/>
                    </a:lnTo>
                    <a:lnTo>
                      <a:pt x="167" y="46"/>
                    </a:lnTo>
                    <a:lnTo>
                      <a:pt x="145" y="54"/>
                    </a:lnTo>
                    <a:lnTo>
                      <a:pt x="122" y="62"/>
                    </a:lnTo>
                    <a:lnTo>
                      <a:pt x="101" y="72"/>
                    </a:lnTo>
                    <a:lnTo>
                      <a:pt x="80" y="81"/>
                    </a:lnTo>
                    <a:lnTo>
                      <a:pt x="59" y="91"/>
                    </a:lnTo>
                    <a:lnTo>
                      <a:pt x="39" y="101"/>
                    </a:lnTo>
                    <a:lnTo>
                      <a:pt x="19" y="113"/>
                    </a:lnTo>
                    <a:lnTo>
                      <a:pt x="0" y="124"/>
                    </a:lnTo>
                    <a:lnTo>
                      <a:pt x="0" y="143"/>
                    </a:lnTo>
                    <a:lnTo>
                      <a:pt x="21" y="131"/>
                    </a:lnTo>
                    <a:lnTo>
                      <a:pt x="42" y="119"/>
                    </a:lnTo>
                    <a:lnTo>
                      <a:pt x="64" y="107"/>
                    </a:lnTo>
                    <a:lnTo>
                      <a:pt x="86" y="97"/>
                    </a:lnTo>
                    <a:lnTo>
                      <a:pt x="108" y="86"/>
                    </a:lnTo>
                    <a:lnTo>
                      <a:pt x="130" y="77"/>
                    </a:lnTo>
                    <a:lnTo>
                      <a:pt x="153" y="69"/>
                    </a:lnTo>
                    <a:lnTo>
                      <a:pt x="176" y="59"/>
                    </a:lnTo>
                    <a:lnTo>
                      <a:pt x="199" y="52"/>
                    </a:lnTo>
                    <a:lnTo>
                      <a:pt x="223" y="44"/>
                    </a:lnTo>
                    <a:lnTo>
                      <a:pt x="248" y="38"/>
                    </a:lnTo>
                    <a:lnTo>
                      <a:pt x="272" y="32"/>
                    </a:lnTo>
                    <a:lnTo>
                      <a:pt x="296" y="27"/>
                    </a:lnTo>
                    <a:lnTo>
                      <a:pt x="321" y="21"/>
                    </a:lnTo>
                    <a:lnTo>
                      <a:pt x="345" y="17"/>
                    </a:lnTo>
                    <a:lnTo>
                      <a:pt x="372" y="14"/>
                    </a:lnTo>
                    <a:lnTo>
                      <a:pt x="366" y="9"/>
                    </a:lnTo>
                    <a:lnTo>
                      <a:pt x="350" y="0"/>
                    </a:lnTo>
                    <a:close/>
                    <a:moveTo>
                      <a:pt x="740" y="1866"/>
                    </a:moveTo>
                    <a:lnTo>
                      <a:pt x="762" y="1860"/>
                    </a:lnTo>
                    <a:lnTo>
                      <a:pt x="783" y="1853"/>
                    </a:lnTo>
                    <a:lnTo>
                      <a:pt x="805" y="1845"/>
                    </a:lnTo>
                    <a:lnTo>
                      <a:pt x="826" y="1838"/>
                    </a:lnTo>
                    <a:lnTo>
                      <a:pt x="847" y="1829"/>
                    </a:lnTo>
                    <a:lnTo>
                      <a:pt x="868" y="1821"/>
                    </a:lnTo>
                    <a:lnTo>
                      <a:pt x="888" y="1812"/>
                    </a:lnTo>
                    <a:lnTo>
                      <a:pt x="909" y="1802"/>
                    </a:lnTo>
                    <a:lnTo>
                      <a:pt x="929" y="1792"/>
                    </a:lnTo>
                    <a:lnTo>
                      <a:pt x="948" y="1781"/>
                    </a:lnTo>
                    <a:lnTo>
                      <a:pt x="968" y="1771"/>
                    </a:lnTo>
                    <a:lnTo>
                      <a:pt x="987" y="1759"/>
                    </a:lnTo>
                    <a:lnTo>
                      <a:pt x="1005" y="1748"/>
                    </a:lnTo>
                    <a:lnTo>
                      <a:pt x="1024" y="1735"/>
                    </a:lnTo>
                    <a:lnTo>
                      <a:pt x="1042" y="1722"/>
                    </a:lnTo>
                    <a:lnTo>
                      <a:pt x="1060" y="1709"/>
                    </a:lnTo>
                    <a:lnTo>
                      <a:pt x="1095" y="1681"/>
                    </a:lnTo>
                    <a:lnTo>
                      <a:pt x="1128" y="1652"/>
                    </a:lnTo>
                    <a:lnTo>
                      <a:pt x="1161" y="1622"/>
                    </a:lnTo>
                    <a:lnTo>
                      <a:pt x="1192" y="1590"/>
                    </a:lnTo>
                    <a:lnTo>
                      <a:pt x="1221" y="1556"/>
                    </a:lnTo>
                    <a:lnTo>
                      <a:pt x="1248" y="1522"/>
                    </a:lnTo>
                    <a:lnTo>
                      <a:pt x="1262" y="1504"/>
                    </a:lnTo>
                    <a:lnTo>
                      <a:pt x="1275" y="1486"/>
                    </a:lnTo>
                    <a:lnTo>
                      <a:pt x="1287" y="1467"/>
                    </a:lnTo>
                    <a:lnTo>
                      <a:pt x="1300" y="1448"/>
                    </a:lnTo>
                    <a:lnTo>
                      <a:pt x="1287" y="1437"/>
                    </a:lnTo>
                    <a:lnTo>
                      <a:pt x="1276" y="1456"/>
                    </a:lnTo>
                    <a:lnTo>
                      <a:pt x="1263" y="1474"/>
                    </a:lnTo>
                    <a:lnTo>
                      <a:pt x="1250" y="1491"/>
                    </a:lnTo>
                    <a:lnTo>
                      <a:pt x="1237" y="1509"/>
                    </a:lnTo>
                    <a:lnTo>
                      <a:pt x="1223" y="1527"/>
                    </a:lnTo>
                    <a:lnTo>
                      <a:pt x="1209" y="1544"/>
                    </a:lnTo>
                    <a:lnTo>
                      <a:pt x="1196" y="1561"/>
                    </a:lnTo>
                    <a:lnTo>
                      <a:pt x="1181" y="1577"/>
                    </a:lnTo>
                    <a:lnTo>
                      <a:pt x="1165" y="1593"/>
                    </a:lnTo>
                    <a:lnTo>
                      <a:pt x="1149" y="1609"/>
                    </a:lnTo>
                    <a:lnTo>
                      <a:pt x="1134" y="1625"/>
                    </a:lnTo>
                    <a:lnTo>
                      <a:pt x="1118" y="1639"/>
                    </a:lnTo>
                    <a:lnTo>
                      <a:pt x="1084" y="1669"/>
                    </a:lnTo>
                    <a:lnTo>
                      <a:pt x="1050" y="1696"/>
                    </a:lnTo>
                    <a:lnTo>
                      <a:pt x="1032" y="1709"/>
                    </a:lnTo>
                    <a:lnTo>
                      <a:pt x="1014" y="1721"/>
                    </a:lnTo>
                    <a:lnTo>
                      <a:pt x="995" y="1734"/>
                    </a:lnTo>
                    <a:lnTo>
                      <a:pt x="976" y="1745"/>
                    </a:lnTo>
                    <a:lnTo>
                      <a:pt x="957" y="1757"/>
                    </a:lnTo>
                    <a:lnTo>
                      <a:pt x="938" y="1768"/>
                    </a:lnTo>
                    <a:lnTo>
                      <a:pt x="918" y="1778"/>
                    </a:lnTo>
                    <a:lnTo>
                      <a:pt x="898" y="1789"/>
                    </a:lnTo>
                    <a:lnTo>
                      <a:pt x="878" y="1798"/>
                    </a:lnTo>
                    <a:lnTo>
                      <a:pt x="857" y="1807"/>
                    </a:lnTo>
                    <a:lnTo>
                      <a:pt x="836" y="1816"/>
                    </a:lnTo>
                    <a:lnTo>
                      <a:pt x="816" y="1824"/>
                    </a:lnTo>
                    <a:lnTo>
                      <a:pt x="794" y="1832"/>
                    </a:lnTo>
                    <a:lnTo>
                      <a:pt x="773" y="1839"/>
                    </a:lnTo>
                    <a:lnTo>
                      <a:pt x="751" y="1845"/>
                    </a:lnTo>
                    <a:lnTo>
                      <a:pt x="730" y="1852"/>
                    </a:lnTo>
                    <a:lnTo>
                      <a:pt x="740" y="1866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862600" y="2400480"/>
                <a:ext cx="411120" cy="587160"/>
              </a:xfrm>
              <a:custGeom>
                <a:avLst/>
                <a:gdLst/>
                <a:ahLst/>
                <a:rect l="l" t="t" r="r" b="b"/>
                <a:pathLst>
                  <a:path w="1293" h="1852">
                    <a:moveTo>
                      <a:pt x="362" y="0"/>
                    </a:moveTo>
                    <a:lnTo>
                      <a:pt x="337" y="4"/>
                    </a:lnTo>
                    <a:lnTo>
                      <a:pt x="313" y="8"/>
                    </a:lnTo>
                    <a:lnTo>
                      <a:pt x="289" y="12"/>
                    </a:lnTo>
                    <a:lnTo>
                      <a:pt x="265" y="18"/>
                    </a:lnTo>
                    <a:lnTo>
                      <a:pt x="241" y="24"/>
                    </a:lnTo>
                    <a:lnTo>
                      <a:pt x="218" y="30"/>
                    </a:lnTo>
                    <a:lnTo>
                      <a:pt x="195" y="37"/>
                    </a:lnTo>
                    <a:lnTo>
                      <a:pt x="172" y="45"/>
                    </a:lnTo>
                    <a:lnTo>
                      <a:pt x="150" y="53"/>
                    </a:lnTo>
                    <a:lnTo>
                      <a:pt x="127" y="63"/>
                    </a:lnTo>
                    <a:lnTo>
                      <a:pt x="105" y="72"/>
                    </a:lnTo>
                    <a:lnTo>
                      <a:pt x="84" y="82"/>
                    </a:lnTo>
                    <a:lnTo>
                      <a:pt x="62" y="92"/>
                    </a:lnTo>
                    <a:lnTo>
                      <a:pt x="41" y="104"/>
                    </a:lnTo>
                    <a:lnTo>
                      <a:pt x="19" y="115"/>
                    </a:lnTo>
                    <a:lnTo>
                      <a:pt x="0" y="127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21" y="134"/>
                    </a:lnTo>
                    <a:lnTo>
                      <a:pt x="43" y="121"/>
                    </a:lnTo>
                    <a:lnTo>
                      <a:pt x="65" y="110"/>
                    </a:lnTo>
                    <a:lnTo>
                      <a:pt x="87" y="98"/>
                    </a:lnTo>
                    <a:lnTo>
                      <a:pt x="110" y="88"/>
                    </a:lnTo>
                    <a:lnTo>
                      <a:pt x="132" y="78"/>
                    </a:lnTo>
                    <a:lnTo>
                      <a:pt x="156" y="69"/>
                    </a:lnTo>
                    <a:lnTo>
                      <a:pt x="179" y="61"/>
                    </a:lnTo>
                    <a:lnTo>
                      <a:pt x="203" y="52"/>
                    </a:lnTo>
                    <a:lnTo>
                      <a:pt x="228" y="45"/>
                    </a:lnTo>
                    <a:lnTo>
                      <a:pt x="252" y="39"/>
                    </a:lnTo>
                    <a:lnTo>
                      <a:pt x="277" y="32"/>
                    </a:lnTo>
                    <a:lnTo>
                      <a:pt x="302" y="27"/>
                    </a:lnTo>
                    <a:lnTo>
                      <a:pt x="327" y="22"/>
                    </a:lnTo>
                    <a:lnTo>
                      <a:pt x="353" y="18"/>
                    </a:lnTo>
                    <a:lnTo>
                      <a:pt x="379" y="14"/>
                    </a:lnTo>
                    <a:lnTo>
                      <a:pt x="366" y="2"/>
                    </a:lnTo>
                    <a:lnTo>
                      <a:pt x="362" y="0"/>
                    </a:lnTo>
                    <a:close/>
                    <a:moveTo>
                      <a:pt x="734" y="1852"/>
                    </a:moveTo>
                    <a:lnTo>
                      <a:pt x="756" y="1846"/>
                    </a:lnTo>
                    <a:lnTo>
                      <a:pt x="778" y="1838"/>
                    </a:lnTo>
                    <a:lnTo>
                      <a:pt x="799" y="1832"/>
                    </a:lnTo>
                    <a:lnTo>
                      <a:pt x="820" y="1824"/>
                    </a:lnTo>
                    <a:lnTo>
                      <a:pt x="841" y="1816"/>
                    </a:lnTo>
                    <a:lnTo>
                      <a:pt x="862" y="1807"/>
                    </a:lnTo>
                    <a:lnTo>
                      <a:pt x="882" y="1798"/>
                    </a:lnTo>
                    <a:lnTo>
                      <a:pt x="903" y="1788"/>
                    </a:lnTo>
                    <a:lnTo>
                      <a:pt x="923" y="1778"/>
                    </a:lnTo>
                    <a:lnTo>
                      <a:pt x="942" y="1768"/>
                    </a:lnTo>
                    <a:lnTo>
                      <a:pt x="962" y="1756"/>
                    </a:lnTo>
                    <a:lnTo>
                      <a:pt x="981" y="1746"/>
                    </a:lnTo>
                    <a:lnTo>
                      <a:pt x="1000" y="1733"/>
                    </a:lnTo>
                    <a:lnTo>
                      <a:pt x="1019" y="1722"/>
                    </a:lnTo>
                    <a:lnTo>
                      <a:pt x="1037" y="1709"/>
                    </a:lnTo>
                    <a:lnTo>
                      <a:pt x="1055" y="1695"/>
                    </a:lnTo>
                    <a:lnTo>
                      <a:pt x="1073" y="1682"/>
                    </a:lnTo>
                    <a:lnTo>
                      <a:pt x="1090" y="1668"/>
                    </a:lnTo>
                    <a:lnTo>
                      <a:pt x="1106" y="1653"/>
                    </a:lnTo>
                    <a:lnTo>
                      <a:pt x="1123" y="1639"/>
                    </a:lnTo>
                    <a:lnTo>
                      <a:pt x="1140" y="1624"/>
                    </a:lnTo>
                    <a:lnTo>
                      <a:pt x="1156" y="1608"/>
                    </a:lnTo>
                    <a:lnTo>
                      <a:pt x="1170" y="1593"/>
                    </a:lnTo>
                    <a:lnTo>
                      <a:pt x="1186" y="1577"/>
                    </a:lnTo>
                    <a:lnTo>
                      <a:pt x="1201" y="1560"/>
                    </a:lnTo>
                    <a:lnTo>
                      <a:pt x="1216" y="1543"/>
                    </a:lnTo>
                    <a:lnTo>
                      <a:pt x="1229" y="1526"/>
                    </a:lnTo>
                    <a:lnTo>
                      <a:pt x="1243" y="1509"/>
                    </a:lnTo>
                    <a:lnTo>
                      <a:pt x="1269" y="1473"/>
                    </a:lnTo>
                    <a:lnTo>
                      <a:pt x="1293" y="1435"/>
                    </a:lnTo>
                    <a:lnTo>
                      <a:pt x="1281" y="1423"/>
                    </a:lnTo>
                    <a:lnTo>
                      <a:pt x="1269" y="1442"/>
                    </a:lnTo>
                    <a:lnTo>
                      <a:pt x="1257" y="1460"/>
                    </a:lnTo>
                    <a:lnTo>
                      <a:pt x="1244" y="1479"/>
                    </a:lnTo>
                    <a:lnTo>
                      <a:pt x="1231" y="1496"/>
                    </a:lnTo>
                    <a:lnTo>
                      <a:pt x="1218" y="1514"/>
                    </a:lnTo>
                    <a:lnTo>
                      <a:pt x="1204" y="1531"/>
                    </a:lnTo>
                    <a:lnTo>
                      <a:pt x="1189" y="1547"/>
                    </a:lnTo>
                    <a:lnTo>
                      <a:pt x="1175" y="1564"/>
                    </a:lnTo>
                    <a:lnTo>
                      <a:pt x="1160" y="1580"/>
                    </a:lnTo>
                    <a:lnTo>
                      <a:pt x="1144" y="1596"/>
                    </a:lnTo>
                    <a:lnTo>
                      <a:pt x="1128" y="1611"/>
                    </a:lnTo>
                    <a:lnTo>
                      <a:pt x="1113" y="1626"/>
                    </a:lnTo>
                    <a:lnTo>
                      <a:pt x="1096" y="1641"/>
                    </a:lnTo>
                    <a:lnTo>
                      <a:pt x="1079" y="1656"/>
                    </a:lnTo>
                    <a:lnTo>
                      <a:pt x="1062" y="1669"/>
                    </a:lnTo>
                    <a:lnTo>
                      <a:pt x="1044" y="1683"/>
                    </a:lnTo>
                    <a:lnTo>
                      <a:pt x="1026" y="1695"/>
                    </a:lnTo>
                    <a:lnTo>
                      <a:pt x="1009" y="1708"/>
                    </a:lnTo>
                    <a:lnTo>
                      <a:pt x="990" y="1721"/>
                    </a:lnTo>
                    <a:lnTo>
                      <a:pt x="971" y="1732"/>
                    </a:lnTo>
                    <a:lnTo>
                      <a:pt x="952" y="1744"/>
                    </a:lnTo>
                    <a:lnTo>
                      <a:pt x="933" y="1754"/>
                    </a:lnTo>
                    <a:lnTo>
                      <a:pt x="913" y="1765"/>
                    </a:lnTo>
                    <a:lnTo>
                      <a:pt x="893" y="1774"/>
                    </a:lnTo>
                    <a:lnTo>
                      <a:pt x="873" y="1784"/>
                    </a:lnTo>
                    <a:lnTo>
                      <a:pt x="852" y="1793"/>
                    </a:lnTo>
                    <a:lnTo>
                      <a:pt x="832" y="1801"/>
                    </a:lnTo>
                    <a:lnTo>
                      <a:pt x="811" y="1810"/>
                    </a:lnTo>
                    <a:lnTo>
                      <a:pt x="790" y="1817"/>
                    </a:lnTo>
                    <a:lnTo>
                      <a:pt x="768" y="1825"/>
                    </a:lnTo>
                    <a:lnTo>
                      <a:pt x="747" y="1831"/>
                    </a:lnTo>
                    <a:lnTo>
                      <a:pt x="725" y="1837"/>
                    </a:lnTo>
                    <a:lnTo>
                      <a:pt x="734" y="185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62600" y="2401920"/>
                <a:ext cx="409680" cy="584280"/>
              </a:xfrm>
              <a:custGeom>
                <a:avLst/>
                <a:gdLst/>
                <a:ahLst/>
                <a:rect l="l" t="t" r="r" b="b"/>
                <a:pathLst>
                  <a:path w="1287" h="1838">
                    <a:moveTo>
                      <a:pt x="372" y="0"/>
                    </a:moveTo>
                    <a:lnTo>
                      <a:pt x="345" y="3"/>
                    </a:lnTo>
                    <a:lnTo>
                      <a:pt x="321" y="7"/>
                    </a:lnTo>
                    <a:lnTo>
                      <a:pt x="296" y="13"/>
                    </a:lnTo>
                    <a:lnTo>
                      <a:pt x="272" y="18"/>
                    </a:lnTo>
                    <a:lnTo>
                      <a:pt x="248" y="24"/>
                    </a:lnTo>
                    <a:lnTo>
                      <a:pt x="223" y="30"/>
                    </a:lnTo>
                    <a:lnTo>
                      <a:pt x="199" y="38"/>
                    </a:lnTo>
                    <a:lnTo>
                      <a:pt x="176" y="45"/>
                    </a:lnTo>
                    <a:lnTo>
                      <a:pt x="153" y="55"/>
                    </a:lnTo>
                    <a:lnTo>
                      <a:pt x="130" y="63"/>
                    </a:lnTo>
                    <a:lnTo>
                      <a:pt x="108" y="72"/>
                    </a:lnTo>
                    <a:lnTo>
                      <a:pt x="86" y="83"/>
                    </a:lnTo>
                    <a:lnTo>
                      <a:pt x="64" y="93"/>
                    </a:lnTo>
                    <a:lnTo>
                      <a:pt x="42" y="105"/>
                    </a:lnTo>
                    <a:lnTo>
                      <a:pt x="21" y="117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0" y="149"/>
                    </a:lnTo>
                    <a:lnTo>
                      <a:pt x="21" y="137"/>
                    </a:lnTo>
                    <a:lnTo>
                      <a:pt x="43" y="124"/>
                    </a:lnTo>
                    <a:lnTo>
                      <a:pt x="66" y="111"/>
                    </a:lnTo>
                    <a:lnTo>
                      <a:pt x="88" y="101"/>
                    </a:lnTo>
                    <a:lnTo>
                      <a:pt x="111" y="89"/>
                    </a:lnTo>
                    <a:lnTo>
                      <a:pt x="135" y="80"/>
                    </a:lnTo>
                    <a:lnTo>
                      <a:pt x="158" y="70"/>
                    </a:lnTo>
                    <a:lnTo>
                      <a:pt x="182" y="61"/>
                    </a:lnTo>
                    <a:lnTo>
                      <a:pt x="208" y="53"/>
                    </a:lnTo>
                    <a:lnTo>
                      <a:pt x="232" y="45"/>
                    </a:lnTo>
                    <a:lnTo>
                      <a:pt x="257" y="39"/>
                    </a:lnTo>
                    <a:lnTo>
                      <a:pt x="282" y="33"/>
                    </a:lnTo>
                    <a:lnTo>
                      <a:pt x="307" y="27"/>
                    </a:lnTo>
                    <a:lnTo>
                      <a:pt x="334" y="22"/>
                    </a:lnTo>
                    <a:lnTo>
                      <a:pt x="360" y="18"/>
                    </a:lnTo>
                    <a:lnTo>
                      <a:pt x="386" y="15"/>
                    </a:lnTo>
                    <a:lnTo>
                      <a:pt x="372" y="0"/>
                    </a:lnTo>
                    <a:close/>
                    <a:moveTo>
                      <a:pt x="730" y="1838"/>
                    </a:moveTo>
                    <a:lnTo>
                      <a:pt x="751" y="1831"/>
                    </a:lnTo>
                    <a:lnTo>
                      <a:pt x="773" y="1825"/>
                    </a:lnTo>
                    <a:lnTo>
                      <a:pt x="794" y="1818"/>
                    </a:lnTo>
                    <a:lnTo>
                      <a:pt x="816" y="1810"/>
                    </a:lnTo>
                    <a:lnTo>
                      <a:pt x="836" y="1802"/>
                    </a:lnTo>
                    <a:lnTo>
                      <a:pt x="857" y="1793"/>
                    </a:lnTo>
                    <a:lnTo>
                      <a:pt x="878" y="1784"/>
                    </a:lnTo>
                    <a:lnTo>
                      <a:pt x="898" y="1775"/>
                    </a:lnTo>
                    <a:lnTo>
                      <a:pt x="918" y="1764"/>
                    </a:lnTo>
                    <a:lnTo>
                      <a:pt x="938" y="1754"/>
                    </a:lnTo>
                    <a:lnTo>
                      <a:pt x="957" y="1743"/>
                    </a:lnTo>
                    <a:lnTo>
                      <a:pt x="976" y="1731"/>
                    </a:lnTo>
                    <a:lnTo>
                      <a:pt x="995" y="1720"/>
                    </a:lnTo>
                    <a:lnTo>
                      <a:pt x="1014" y="1707"/>
                    </a:lnTo>
                    <a:lnTo>
                      <a:pt x="1032" y="1695"/>
                    </a:lnTo>
                    <a:lnTo>
                      <a:pt x="1050" y="1682"/>
                    </a:lnTo>
                    <a:lnTo>
                      <a:pt x="1084" y="1655"/>
                    </a:lnTo>
                    <a:lnTo>
                      <a:pt x="1118" y="1625"/>
                    </a:lnTo>
                    <a:lnTo>
                      <a:pt x="1134" y="1611"/>
                    </a:lnTo>
                    <a:lnTo>
                      <a:pt x="1149" y="1595"/>
                    </a:lnTo>
                    <a:lnTo>
                      <a:pt x="1165" y="1579"/>
                    </a:lnTo>
                    <a:lnTo>
                      <a:pt x="1181" y="1563"/>
                    </a:lnTo>
                    <a:lnTo>
                      <a:pt x="1196" y="1547"/>
                    </a:lnTo>
                    <a:lnTo>
                      <a:pt x="1209" y="1530"/>
                    </a:lnTo>
                    <a:lnTo>
                      <a:pt x="1223" y="1513"/>
                    </a:lnTo>
                    <a:lnTo>
                      <a:pt x="1237" y="1495"/>
                    </a:lnTo>
                    <a:lnTo>
                      <a:pt x="1250" y="1477"/>
                    </a:lnTo>
                    <a:lnTo>
                      <a:pt x="1263" y="1460"/>
                    </a:lnTo>
                    <a:lnTo>
                      <a:pt x="1276" y="1442"/>
                    </a:lnTo>
                    <a:lnTo>
                      <a:pt x="1287" y="1423"/>
                    </a:lnTo>
                    <a:lnTo>
                      <a:pt x="1275" y="1410"/>
                    </a:lnTo>
                    <a:lnTo>
                      <a:pt x="1263" y="1429"/>
                    </a:lnTo>
                    <a:lnTo>
                      <a:pt x="1251" y="1448"/>
                    </a:lnTo>
                    <a:lnTo>
                      <a:pt x="1239" y="1466"/>
                    </a:lnTo>
                    <a:lnTo>
                      <a:pt x="1225" y="1484"/>
                    </a:lnTo>
                    <a:lnTo>
                      <a:pt x="1211" y="1500"/>
                    </a:lnTo>
                    <a:lnTo>
                      <a:pt x="1198" y="1518"/>
                    </a:lnTo>
                    <a:lnTo>
                      <a:pt x="1184" y="1535"/>
                    </a:lnTo>
                    <a:lnTo>
                      <a:pt x="1169" y="1551"/>
                    </a:lnTo>
                    <a:lnTo>
                      <a:pt x="1154" y="1568"/>
                    </a:lnTo>
                    <a:lnTo>
                      <a:pt x="1139" y="1583"/>
                    </a:lnTo>
                    <a:lnTo>
                      <a:pt x="1123" y="1598"/>
                    </a:lnTo>
                    <a:lnTo>
                      <a:pt x="1106" y="1613"/>
                    </a:lnTo>
                    <a:lnTo>
                      <a:pt x="1074" y="1642"/>
                    </a:lnTo>
                    <a:lnTo>
                      <a:pt x="1039" y="1670"/>
                    </a:lnTo>
                    <a:lnTo>
                      <a:pt x="1021" y="1682"/>
                    </a:lnTo>
                    <a:lnTo>
                      <a:pt x="1003" y="1695"/>
                    </a:lnTo>
                    <a:lnTo>
                      <a:pt x="984" y="1707"/>
                    </a:lnTo>
                    <a:lnTo>
                      <a:pt x="966" y="1719"/>
                    </a:lnTo>
                    <a:lnTo>
                      <a:pt x="947" y="1729"/>
                    </a:lnTo>
                    <a:lnTo>
                      <a:pt x="928" y="1741"/>
                    </a:lnTo>
                    <a:lnTo>
                      <a:pt x="908" y="1751"/>
                    </a:lnTo>
                    <a:lnTo>
                      <a:pt x="888" y="1761"/>
                    </a:lnTo>
                    <a:lnTo>
                      <a:pt x="868" y="1770"/>
                    </a:lnTo>
                    <a:lnTo>
                      <a:pt x="847" y="1779"/>
                    </a:lnTo>
                    <a:lnTo>
                      <a:pt x="827" y="1788"/>
                    </a:lnTo>
                    <a:lnTo>
                      <a:pt x="806" y="1796"/>
                    </a:lnTo>
                    <a:lnTo>
                      <a:pt x="785" y="1803"/>
                    </a:lnTo>
                    <a:lnTo>
                      <a:pt x="763" y="1810"/>
                    </a:lnTo>
                    <a:lnTo>
                      <a:pt x="742" y="1817"/>
                    </a:lnTo>
                    <a:lnTo>
                      <a:pt x="720" y="1823"/>
                    </a:lnTo>
                    <a:lnTo>
                      <a:pt x="730" y="1838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62600" y="2405160"/>
                <a:ext cx="406440" cy="577800"/>
              </a:xfrm>
              <a:custGeom>
                <a:avLst/>
                <a:gdLst/>
                <a:ahLst/>
                <a:rect l="l" t="t" r="r" b="b"/>
                <a:pathLst>
                  <a:path w="1281" h="1823">
                    <a:moveTo>
                      <a:pt x="379" y="0"/>
                    </a:moveTo>
                    <a:lnTo>
                      <a:pt x="353" y="4"/>
                    </a:lnTo>
                    <a:lnTo>
                      <a:pt x="327" y="8"/>
                    </a:lnTo>
                    <a:lnTo>
                      <a:pt x="302" y="13"/>
                    </a:lnTo>
                    <a:lnTo>
                      <a:pt x="277" y="18"/>
                    </a:lnTo>
                    <a:lnTo>
                      <a:pt x="252" y="25"/>
                    </a:lnTo>
                    <a:lnTo>
                      <a:pt x="228" y="31"/>
                    </a:lnTo>
                    <a:lnTo>
                      <a:pt x="203" y="38"/>
                    </a:lnTo>
                    <a:lnTo>
                      <a:pt x="179" y="47"/>
                    </a:lnTo>
                    <a:lnTo>
                      <a:pt x="156" y="55"/>
                    </a:lnTo>
                    <a:lnTo>
                      <a:pt x="132" y="64"/>
                    </a:lnTo>
                    <a:lnTo>
                      <a:pt x="110" y="74"/>
                    </a:lnTo>
                    <a:lnTo>
                      <a:pt x="87" y="84"/>
                    </a:lnTo>
                    <a:lnTo>
                      <a:pt x="65" y="96"/>
                    </a:lnTo>
                    <a:lnTo>
                      <a:pt x="43" y="107"/>
                    </a:lnTo>
                    <a:lnTo>
                      <a:pt x="21" y="120"/>
                    </a:lnTo>
                    <a:lnTo>
                      <a:pt x="0" y="133"/>
                    </a:lnTo>
                    <a:lnTo>
                      <a:pt x="0" y="153"/>
                    </a:lnTo>
                    <a:lnTo>
                      <a:pt x="22" y="139"/>
                    </a:lnTo>
                    <a:lnTo>
                      <a:pt x="44" y="125"/>
                    </a:lnTo>
                    <a:lnTo>
                      <a:pt x="67" y="114"/>
                    </a:lnTo>
                    <a:lnTo>
                      <a:pt x="90" y="102"/>
                    </a:lnTo>
                    <a:lnTo>
                      <a:pt x="113" y="91"/>
                    </a:lnTo>
                    <a:lnTo>
                      <a:pt x="137" y="80"/>
                    </a:lnTo>
                    <a:lnTo>
                      <a:pt x="161" y="71"/>
                    </a:lnTo>
                    <a:lnTo>
                      <a:pt x="187" y="61"/>
                    </a:lnTo>
                    <a:lnTo>
                      <a:pt x="211" y="54"/>
                    </a:lnTo>
                    <a:lnTo>
                      <a:pt x="237" y="46"/>
                    </a:lnTo>
                    <a:lnTo>
                      <a:pt x="262" y="39"/>
                    </a:lnTo>
                    <a:lnTo>
                      <a:pt x="289" y="33"/>
                    </a:lnTo>
                    <a:lnTo>
                      <a:pt x="314" y="28"/>
                    </a:lnTo>
                    <a:lnTo>
                      <a:pt x="341" y="22"/>
                    </a:lnTo>
                    <a:lnTo>
                      <a:pt x="367" y="19"/>
                    </a:lnTo>
                    <a:lnTo>
                      <a:pt x="395" y="16"/>
                    </a:lnTo>
                    <a:lnTo>
                      <a:pt x="393" y="15"/>
                    </a:lnTo>
                    <a:lnTo>
                      <a:pt x="379" y="0"/>
                    </a:lnTo>
                    <a:close/>
                    <a:moveTo>
                      <a:pt x="725" y="1823"/>
                    </a:moveTo>
                    <a:lnTo>
                      <a:pt x="747" y="1817"/>
                    </a:lnTo>
                    <a:lnTo>
                      <a:pt x="768" y="1811"/>
                    </a:lnTo>
                    <a:lnTo>
                      <a:pt x="790" y="1803"/>
                    </a:lnTo>
                    <a:lnTo>
                      <a:pt x="811" y="1796"/>
                    </a:lnTo>
                    <a:lnTo>
                      <a:pt x="832" y="1787"/>
                    </a:lnTo>
                    <a:lnTo>
                      <a:pt x="852" y="1779"/>
                    </a:lnTo>
                    <a:lnTo>
                      <a:pt x="873" y="1770"/>
                    </a:lnTo>
                    <a:lnTo>
                      <a:pt x="893" y="1760"/>
                    </a:lnTo>
                    <a:lnTo>
                      <a:pt x="913" y="1751"/>
                    </a:lnTo>
                    <a:lnTo>
                      <a:pt x="933" y="1740"/>
                    </a:lnTo>
                    <a:lnTo>
                      <a:pt x="952" y="1730"/>
                    </a:lnTo>
                    <a:lnTo>
                      <a:pt x="971" y="1718"/>
                    </a:lnTo>
                    <a:lnTo>
                      <a:pt x="990" y="1707"/>
                    </a:lnTo>
                    <a:lnTo>
                      <a:pt x="1009" y="1694"/>
                    </a:lnTo>
                    <a:lnTo>
                      <a:pt x="1026" y="1681"/>
                    </a:lnTo>
                    <a:lnTo>
                      <a:pt x="1044" y="1669"/>
                    </a:lnTo>
                    <a:lnTo>
                      <a:pt x="1062" y="1655"/>
                    </a:lnTo>
                    <a:lnTo>
                      <a:pt x="1079" y="1642"/>
                    </a:lnTo>
                    <a:lnTo>
                      <a:pt x="1096" y="1627"/>
                    </a:lnTo>
                    <a:lnTo>
                      <a:pt x="1113" y="1612"/>
                    </a:lnTo>
                    <a:lnTo>
                      <a:pt x="1128" y="1597"/>
                    </a:lnTo>
                    <a:lnTo>
                      <a:pt x="1144" y="1582"/>
                    </a:lnTo>
                    <a:lnTo>
                      <a:pt x="1160" y="1566"/>
                    </a:lnTo>
                    <a:lnTo>
                      <a:pt x="1175" y="1550"/>
                    </a:lnTo>
                    <a:lnTo>
                      <a:pt x="1189" y="1533"/>
                    </a:lnTo>
                    <a:lnTo>
                      <a:pt x="1204" y="1517"/>
                    </a:lnTo>
                    <a:lnTo>
                      <a:pt x="1218" y="1500"/>
                    </a:lnTo>
                    <a:lnTo>
                      <a:pt x="1231" y="1482"/>
                    </a:lnTo>
                    <a:lnTo>
                      <a:pt x="1244" y="1465"/>
                    </a:lnTo>
                    <a:lnTo>
                      <a:pt x="1257" y="1446"/>
                    </a:lnTo>
                    <a:lnTo>
                      <a:pt x="1269" y="1428"/>
                    </a:lnTo>
                    <a:lnTo>
                      <a:pt x="1281" y="1409"/>
                    </a:lnTo>
                    <a:lnTo>
                      <a:pt x="1270" y="1399"/>
                    </a:lnTo>
                    <a:lnTo>
                      <a:pt x="1269" y="1397"/>
                    </a:lnTo>
                    <a:lnTo>
                      <a:pt x="1258" y="1416"/>
                    </a:lnTo>
                    <a:lnTo>
                      <a:pt x="1245" y="1434"/>
                    </a:lnTo>
                    <a:lnTo>
                      <a:pt x="1232" y="1451"/>
                    </a:lnTo>
                    <a:lnTo>
                      <a:pt x="1220" y="1469"/>
                    </a:lnTo>
                    <a:lnTo>
                      <a:pt x="1206" y="1487"/>
                    </a:lnTo>
                    <a:lnTo>
                      <a:pt x="1193" y="1504"/>
                    </a:lnTo>
                    <a:lnTo>
                      <a:pt x="1179" y="1521"/>
                    </a:lnTo>
                    <a:lnTo>
                      <a:pt x="1164" y="1538"/>
                    </a:lnTo>
                    <a:lnTo>
                      <a:pt x="1148" y="1553"/>
                    </a:lnTo>
                    <a:lnTo>
                      <a:pt x="1134" y="1569"/>
                    </a:lnTo>
                    <a:lnTo>
                      <a:pt x="1118" y="1585"/>
                    </a:lnTo>
                    <a:lnTo>
                      <a:pt x="1102" y="1600"/>
                    </a:lnTo>
                    <a:lnTo>
                      <a:pt x="1085" y="1614"/>
                    </a:lnTo>
                    <a:lnTo>
                      <a:pt x="1069" y="1628"/>
                    </a:lnTo>
                    <a:lnTo>
                      <a:pt x="1052" y="1643"/>
                    </a:lnTo>
                    <a:lnTo>
                      <a:pt x="1034" y="1655"/>
                    </a:lnTo>
                    <a:lnTo>
                      <a:pt x="1016" y="1669"/>
                    </a:lnTo>
                    <a:lnTo>
                      <a:pt x="998" y="1681"/>
                    </a:lnTo>
                    <a:lnTo>
                      <a:pt x="979" y="1693"/>
                    </a:lnTo>
                    <a:lnTo>
                      <a:pt x="960" y="1705"/>
                    </a:lnTo>
                    <a:lnTo>
                      <a:pt x="941" y="1716"/>
                    </a:lnTo>
                    <a:lnTo>
                      <a:pt x="922" y="1727"/>
                    </a:lnTo>
                    <a:lnTo>
                      <a:pt x="902" y="1737"/>
                    </a:lnTo>
                    <a:lnTo>
                      <a:pt x="882" y="1747"/>
                    </a:lnTo>
                    <a:lnTo>
                      <a:pt x="862" y="1756"/>
                    </a:lnTo>
                    <a:lnTo>
                      <a:pt x="843" y="1765"/>
                    </a:lnTo>
                    <a:lnTo>
                      <a:pt x="822" y="1774"/>
                    </a:lnTo>
                    <a:lnTo>
                      <a:pt x="800" y="1781"/>
                    </a:lnTo>
                    <a:lnTo>
                      <a:pt x="779" y="1789"/>
                    </a:lnTo>
                    <a:lnTo>
                      <a:pt x="758" y="1796"/>
                    </a:lnTo>
                    <a:lnTo>
                      <a:pt x="736" y="1802"/>
                    </a:lnTo>
                    <a:lnTo>
                      <a:pt x="714" y="1808"/>
                    </a:lnTo>
                    <a:lnTo>
                      <a:pt x="725" y="1823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62600" y="2406600"/>
                <a:ext cx="405000" cy="574560"/>
              </a:xfrm>
              <a:custGeom>
                <a:avLst/>
                <a:gdLst/>
                <a:ahLst/>
                <a:rect l="l" t="t" r="r" b="b"/>
                <a:pathLst>
                  <a:path w="1275" h="1808">
                    <a:moveTo>
                      <a:pt x="386" y="0"/>
                    </a:moveTo>
                    <a:lnTo>
                      <a:pt x="360" y="3"/>
                    </a:lnTo>
                    <a:lnTo>
                      <a:pt x="334" y="7"/>
                    </a:lnTo>
                    <a:lnTo>
                      <a:pt x="307" y="12"/>
                    </a:lnTo>
                    <a:lnTo>
                      <a:pt x="282" y="18"/>
                    </a:lnTo>
                    <a:lnTo>
                      <a:pt x="257" y="24"/>
                    </a:lnTo>
                    <a:lnTo>
                      <a:pt x="232" y="30"/>
                    </a:lnTo>
                    <a:lnTo>
                      <a:pt x="208" y="38"/>
                    </a:lnTo>
                    <a:lnTo>
                      <a:pt x="182" y="46"/>
                    </a:lnTo>
                    <a:lnTo>
                      <a:pt x="158" y="55"/>
                    </a:lnTo>
                    <a:lnTo>
                      <a:pt x="135" y="65"/>
                    </a:lnTo>
                    <a:lnTo>
                      <a:pt x="111" y="74"/>
                    </a:lnTo>
                    <a:lnTo>
                      <a:pt x="88" y="86"/>
                    </a:lnTo>
                    <a:lnTo>
                      <a:pt x="66" y="96"/>
                    </a:lnTo>
                    <a:lnTo>
                      <a:pt x="43" y="109"/>
                    </a:lnTo>
                    <a:lnTo>
                      <a:pt x="21" y="122"/>
                    </a:lnTo>
                    <a:lnTo>
                      <a:pt x="0" y="134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2" y="140"/>
                    </a:lnTo>
                    <a:lnTo>
                      <a:pt x="45" y="127"/>
                    </a:lnTo>
                    <a:lnTo>
                      <a:pt x="69" y="114"/>
                    </a:lnTo>
                    <a:lnTo>
                      <a:pt x="93" y="102"/>
                    </a:lnTo>
                    <a:lnTo>
                      <a:pt x="117" y="90"/>
                    </a:lnTo>
                    <a:lnTo>
                      <a:pt x="141" y="80"/>
                    </a:lnTo>
                    <a:lnTo>
                      <a:pt x="167" y="70"/>
                    </a:lnTo>
                    <a:lnTo>
                      <a:pt x="193" y="61"/>
                    </a:lnTo>
                    <a:lnTo>
                      <a:pt x="218" y="52"/>
                    </a:lnTo>
                    <a:lnTo>
                      <a:pt x="244" y="45"/>
                    </a:lnTo>
                    <a:lnTo>
                      <a:pt x="271" y="38"/>
                    </a:lnTo>
                    <a:lnTo>
                      <a:pt x="298" y="31"/>
                    </a:lnTo>
                    <a:lnTo>
                      <a:pt x="325" y="26"/>
                    </a:lnTo>
                    <a:lnTo>
                      <a:pt x="353" y="22"/>
                    </a:lnTo>
                    <a:lnTo>
                      <a:pt x="380" y="18"/>
                    </a:lnTo>
                    <a:lnTo>
                      <a:pt x="408" y="14"/>
                    </a:lnTo>
                    <a:lnTo>
                      <a:pt x="393" y="7"/>
                    </a:lnTo>
                    <a:lnTo>
                      <a:pt x="386" y="0"/>
                    </a:lnTo>
                    <a:close/>
                    <a:moveTo>
                      <a:pt x="720" y="1808"/>
                    </a:moveTo>
                    <a:lnTo>
                      <a:pt x="742" y="1802"/>
                    </a:lnTo>
                    <a:lnTo>
                      <a:pt x="763" y="1795"/>
                    </a:lnTo>
                    <a:lnTo>
                      <a:pt x="785" y="1788"/>
                    </a:lnTo>
                    <a:lnTo>
                      <a:pt x="806" y="1781"/>
                    </a:lnTo>
                    <a:lnTo>
                      <a:pt x="827" y="1773"/>
                    </a:lnTo>
                    <a:lnTo>
                      <a:pt x="847" y="1764"/>
                    </a:lnTo>
                    <a:lnTo>
                      <a:pt x="868" y="1755"/>
                    </a:lnTo>
                    <a:lnTo>
                      <a:pt x="888" y="1746"/>
                    </a:lnTo>
                    <a:lnTo>
                      <a:pt x="908" y="1736"/>
                    </a:lnTo>
                    <a:lnTo>
                      <a:pt x="928" y="1726"/>
                    </a:lnTo>
                    <a:lnTo>
                      <a:pt x="947" y="1714"/>
                    </a:lnTo>
                    <a:lnTo>
                      <a:pt x="966" y="1704"/>
                    </a:lnTo>
                    <a:lnTo>
                      <a:pt x="984" y="1692"/>
                    </a:lnTo>
                    <a:lnTo>
                      <a:pt x="1003" y="1680"/>
                    </a:lnTo>
                    <a:lnTo>
                      <a:pt x="1021" y="1667"/>
                    </a:lnTo>
                    <a:lnTo>
                      <a:pt x="1039" y="1655"/>
                    </a:lnTo>
                    <a:lnTo>
                      <a:pt x="1074" y="1627"/>
                    </a:lnTo>
                    <a:lnTo>
                      <a:pt x="1106" y="1598"/>
                    </a:lnTo>
                    <a:lnTo>
                      <a:pt x="1123" y="1583"/>
                    </a:lnTo>
                    <a:lnTo>
                      <a:pt x="1139" y="1568"/>
                    </a:lnTo>
                    <a:lnTo>
                      <a:pt x="1154" y="1553"/>
                    </a:lnTo>
                    <a:lnTo>
                      <a:pt x="1169" y="1536"/>
                    </a:lnTo>
                    <a:lnTo>
                      <a:pt x="1184" y="1520"/>
                    </a:lnTo>
                    <a:lnTo>
                      <a:pt x="1198" y="1503"/>
                    </a:lnTo>
                    <a:lnTo>
                      <a:pt x="1211" y="1485"/>
                    </a:lnTo>
                    <a:lnTo>
                      <a:pt x="1225" y="1469"/>
                    </a:lnTo>
                    <a:lnTo>
                      <a:pt x="1239" y="1451"/>
                    </a:lnTo>
                    <a:lnTo>
                      <a:pt x="1251" y="1433"/>
                    </a:lnTo>
                    <a:lnTo>
                      <a:pt x="1263" y="1414"/>
                    </a:lnTo>
                    <a:lnTo>
                      <a:pt x="1275" y="1395"/>
                    </a:lnTo>
                    <a:lnTo>
                      <a:pt x="1270" y="1391"/>
                    </a:lnTo>
                    <a:lnTo>
                      <a:pt x="1265" y="1379"/>
                    </a:lnTo>
                    <a:lnTo>
                      <a:pt x="1254" y="1398"/>
                    </a:lnTo>
                    <a:lnTo>
                      <a:pt x="1241" y="1417"/>
                    </a:lnTo>
                    <a:lnTo>
                      <a:pt x="1228" y="1435"/>
                    </a:lnTo>
                    <a:lnTo>
                      <a:pt x="1216" y="1453"/>
                    </a:lnTo>
                    <a:lnTo>
                      <a:pt x="1202" y="1471"/>
                    </a:lnTo>
                    <a:lnTo>
                      <a:pt x="1188" y="1488"/>
                    </a:lnTo>
                    <a:lnTo>
                      <a:pt x="1175" y="1504"/>
                    </a:lnTo>
                    <a:lnTo>
                      <a:pt x="1160" y="1521"/>
                    </a:lnTo>
                    <a:lnTo>
                      <a:pt x="1145" y="1537"/>
                    </a:lnTo>
                    <a:lnTo>
                      <a:pt x="1129" y="1554"/>
                    </a:lnTo>
                    <a:lnTo>
                      <a:pt x="1114" y="1568"/>
                    </a:lnTo>
                    <a:lnTo>
                      <a:pt x="1098" y="1584"/>
                    </a:lnTo>
                    <a:lnTo>
                      <a:pt x="1081" y="1599"/>
                    </a:lnTo>
                    <a:lnTo>
                      <a:pt x="1064" y="1613"/>
                    </a:lnTo>
                    <a:lnTo>
                      <a:pt x="1047" y="1626"/>
                    </a:lnTo>
                    <a:lnTo>
                      <a:pt x="1030" y="1640"/>
                    </a:lnTo>
                    <a:lnTo>
                      <a:pt x="1012" y="1653"/>
                    </a:lnTo>
                    <a:lnTo>
                      <a:pt x="994" y="1666"/>
                    </a:lnTo>
                    <a:lnTo>
                      <a:pt x="975" y="1678"/>
                    </a:lnTo>
                    <a:lnTo>
                      <a:pt x="957" y="1689"/>
                    </a:lnTo>
                    <a:lnTo>
                      <a:pt x="937" y="1701"/>
                    </a:lnTo>
                    <a:lnTo>
                      <a:pt x="918" y="1711"/>
                    </a:lnTo>
                    <a:lnTo>
                      <a:pt x="898" y="1722"/>
                    </a:lnTo>
                    <a:lnTo>
                      <a:pt x="878" y="1731"/>
                    </a:lnTo>
                    <a:lnTo>
                      <a:pt x="858" y="1741"/>
                    </a:lnTo>
                    <a:lnTo>
                      <a:pt x="837" y="1750"/>
                    </a:lnTo>
                    <a:lnTo>
                      <a:pt x="817" y="1758"/>
                    </a:lnTo>
                    <a:lnTo>
                      <a:pt x="796" y="1766"/>
                    </a:lnTo>
                    <a:lnTo>
                      <a:pt x="774" y="1773"/>
                    </a:lnTo>
                    <a:lnTo>
                      <a:pt x="753" y="1781"/>
                    </a:lnTo>
                    <a:lnTo>
                      <a:pt x="731" y="1787"/>
                    </a:lnTo>
                    <a:lnTo>
                      <a:pt x="709" y="1793"/>
                    </a:lnTo>
                    <a:lnTo>
                      <a:pt x="720" y="1808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862600" y="2409840"/>
                <a:ext cx="403200" cy="568440"/>
              </a:xfrm>
              <a:custGeom>
                <a:avLst/>
                <a:gdLst/>
                <a:ahLst/>
                <a:rect l="l" t="t" r="r" b="b"/>
                <a:pathLst>
                  <a:path w="1269" h="1792">
                    <a:moveTo>
                      <a:pt x="395" y="0"/>
                    </a:moveTo>
                    <a:lnTo>
                      <a:pt x="367" y="3"/>
                    </a:lnTo>
                    <a:lnTo>
                      <a:pt x="341" y="6"/>
                    </a:lnTo>
                    <a:lnTo>
                      <a:pt x="314" y="12"/>
                    </a:lnTo>
                    <a:lnTo>
                      <a:pt x="289" y="17"/>
                    </a:lnTo>
                    <a:lnTo>
                      <a:pt x="262" y="23"/>
                    </a:lnTo>
                    <a:lnTo>
                      <a:pt x="237" y="30"/>
                    </a:lnTo>
                    <a:lnTo>
                      <a:pt x="211" y="38"/>
                    </a:lnTo>
                    <a:lnTo>
                      <a:pt x="187" y="45"/>
                    </a:lnTo>
                    <a:lnTo>
                      <a:pt x="161" y="55"/>
                    </a:lnTo>
                    <a:lnTo>
                      <a:pt x="137" y="64"/>
                    </a:lnTo>
                    <a:lnTo>
                      <a:pt x="113" y="75"/>
                    </a:lnTo>
                    <a:lnTo>
                      <a:pt x="90" y="86"/>
                    </a:lnTo>
                    <a:lnTo>
                      <a:pt x="67" y="98"/>
                    </a:lnTo>
                    <a:lnTo>
                      <a:pt x="44" y="109"/>
                    </a:lnTo>
                    <a:lnTo>
                      <a:pt x="22" y="123"/>
                    </a:lnTo>
                    <a:lnTo>
                      <a:pt x="0" y="137"/>
                    </a:lnTo>
                    <a:lnTo>
                      <a:pt x="0" y="140"/>
                    </a:lnTo>
                    <a:lnTo>
                      <a:pt x="0" y="156"/>
                    </a:lnTo>
                    <a:lnTo>
                      <a:pt x="23" y="142"/>
                    </a:lnTo>
                    <a:lnTo>
                      <a:pt x="47" y="127"/>
                    </a:lnTo>
                    <a:lnTo>
                      <a:pt x="71" y="115"/>
                    </a:lnTo>
                    <a:lnTo>
                      <a:pt x="95" y="102"/>
                    </a:lnTo>
                    <a:lnTo>
                      <a:pt x="120" y="90"/>
                    </a:lnTo>
                    <a:lnTo>
                      <a:pt x="147" y="79"/>
                    </a:lnTo>
                    <a:lnTo>
                      <a:pt x="172" y="68"/>
                    </a:lnTo>
                    <a:lnTo>
                      <a:pt x="198" y="59"/>
                    </a:lnTo>
                    <a:lnTo>
                      <a:pt x="226" y="51"/>
                    </a:lnTo>
                    <a:lnTo>
                      <a:pt x="253" y="43"/>
                    </a:lnTo>
                    <a:lnTo>
                      <a:pt x="280" y="36"/>
                    </a:lnTo>
                    <a:lnTo>
                      <a:pt x="307" y="30"/>
                    </a:lnTo>
                    <a:lnTo>
                      <a:pt x="336" y="24"/>
                    </a:lnTo>
                    <a:lnTo>
                      <a:pt x="364" y="20"/>
                    </a:lnTo>
                    <a:lnTo>
                      <a:pt x="393" y="17"/>
                    </a:lnTo>
                    <a:lnTo>
                      <a:pt x="422" y="14"/>
                    </a:lnTo>
                    <a:lnTo>
                      <a:pt x="395" y="0"/>
                    </a:lnTo>
                    <a:close/>
                    <a:moveTo>
                      <a:pt x="714" y="1792"/>
                    </a:moveTo>
                    <a:lnTo>
                      <a:pt x="736" y="1786"/>
                    </a:lnTo>
                    <a:lnTo>
                      <a:pt x="758" y="1780"/>
                    </a:lnTo>
                    <a:lnTo>
                      <a:pt x="779" y="1773"/>
                    </a:lnTo>
                    <a:lnTo>
                      <a:pt x="800" y="1765"/>
                    </a:lnTo>
                    <a:lnTo>
                      <a:pt x="822" y="1758"/>
                    </a:lnTo>
                    <a:lnTo>
                      <a:pt x="843" y="1749"/>
                    </a:lnTo>
                    <a:lnTo>
                      <a:pt x="862" y="1740"/>
                    </a:lnTo>
                    <a:lnTo>
                      <a:pt x="882" y="1731"/>
                    </a:lnTo>
                    <a:lnTo>
                      <a:pt x="902" y="1721"/>
                    </a:lnTo>
                    <a:lnTo>
                      <a:pt x="922" y="1711"/>
                    </a:lnTo>
                    <a:lnTo>
                      <a:pt x="941" y="1700"/>
                    </a:lnTo>
                    <a:lnTo>
                      <a:pt x="960" y="1689"/>
                    </a:lnTo>
                    <a:lnTo>
                      <a:pt x="979" y="1677"/>
                    </a:lnTo>
                    <a:lnTo>
                      <a:pt x="998" y="1665"/>
                    </a:lnTo>
                    <a:lnTo>
                      <a:pt x="1016" y="1653"/>
                    </a:lnTo>
                    <a:lnTo>
                      <a:pt x="1034" y="1639"/>
                    </a:lnTo>
                    <a:lnTo>
                      <a:pt x="1052" y="1627"/>
                    </a:lnTo>
                    <a:lnTo>
                      <a:pt x="1069" y="1612"/>
                    </a:lnTo>
                    <a:lnTo>
                      <a:pt x="1085" y="1598"/>
                    </a:lnTo>
                    <a:lnTo>
                      <a:pt x="1102" y="1584"/>
                    </a:lnTo>
                    <a:lnTo>
                      <a:pt x="1118" y="1569"/>
                    </a:lnTo>
                    <a:lnTo>
                      <a:pt x="1134" y="1553"/>
                    </a:lnTo>
                    <a:lnTo>
                      <a:pt x="1148" y="1537"/>
                    </a:lnTo>
                    <a:lnTo>
                      <a:pt x="1164" y="1522"/>
                    </a:lnTo>
                    <a:lnTo>
                      <a:pt x="1179" y="1505"/>
                    </a:lnTo>
                    <a:lnTo>
                      <a:pt x="1193" y="1488"/>
                    </a:lnTo>
                    <a:lnTo>
                      <a:pt x="1206" y="1471"/>
                    </a:lnTo>
                    <a:lnTo>
                      <a:pt x="1220" y="1453"/>
                    </a:lnTo>
                    <a:lnTo>
                      <a:pt x="1232" y="1435"/>
                    </a:lnTo>
                    <a:lnTo>
                      <a:pt x="1245" y="1418"/>
                    </a:lnTo>
                    <a:lnTo>
                      <a:pt x="1258" y="1400"/>
                    </a:lnTo>
                    <a:lnTo>
                      <a:pt x="1269" y="1381"/>
                    </a:lnTo>
                    <a:lnTo>
                      <a:pt x="1261" y="1362"/>
                    </a:lnTo>
                    <a:lnTo>
                      <a:pt x="1249" y="1381"/>
                    </a:lnTo>
                    <a:lnTo>
                      <a:pt x="1237" y="1400"/>
                    </a:lnTo>
                    <a:lnTo>
                      <a:pt x="1224" y="1419"/>
                    </a:lnTo>
                    <a:lnTo>
                      <a:pt x="1211" y="1437"/>
                    </a:lnTo>
                    <a:lnTo>
                      <a:pt x="1199" y="1454"/>
                    </a:lnTo>
                    <a:lnTo>
                      <a:pt x="1184" y="1471"/>
                    </a:lnTo>
                    <a:lnTo>
                      <a:pt x="1170" y="1489"/>
                    </a:lnTo>
                    <a:lnTo>
                      <a:pt x="1156" y="1505"/>
                    </a:lnTo>
                    <a:lnTo>
                      <a:pt x="1141" y="1522"/>
                    </a:lnTo>
                    <a:lnTo>
                      <a:pt x="1125" y="1537"/>
                    </a:lnTo>
                    <a:lnTo>
                      <a:pt x="1110" y="1553"/>
                    </a:lnTo>
                    <a:lnTo>
                      <a:pt x="1094" y="1568"/>
                    </a:lnTo>
                    <a:lnTo>
                      <a:pt x="1077" y="1582"/>
                    </a:lnTo>
                    <a:lnTo>
                      <a:pt x="1060" y="1597"/>
                    </a:lnTo>
                    <a:lnTo>
                      <a:pt x="1043" y="1611"/>
                    </a:lnTo>
                    <a:lnTo>
                      <a:pt x="1025" y="1624"/>
                    </a:lnTo>
                    <a:lnTo>
                      <a:pt x="1008" y="1638"/>
                    </a:lnTo>
                    <a:lnTo>
                      <a:pt x="990" y="1651"/>
                    </a:lnTo>
                    <a:lnTo>
                      <a:pt x="971" y="1662"/>
                    </a:lnTo>
                    <a:lnTo>
                      <a:pt x="952" y="1674"/>
                    </a:lnTo>
                    <a:lnTo>
                      <a:pt x="933" y="1685"/>
                    </a:lnTo>
                    <a:lnTo>
                      <a:pt x="914" y="1696"/>
                    </a:lnTo>
                    <a:lnTo>
                      <a:pt x="894" y="1706"/>
                    </a:lnTo>
                    <a:lnTo>
                      <a:pt x="874" y="1717"/>
                    </a:lnTo>
                    <a:lnTo>
                      <a:pt x="853" y="1726"/>
                    </a:lnTo>
                    <a:lnTo>
                      <a:pt x="833" y="1735"/>
                    </a:lnTo>
                    <a:lnTo>
                      <a:pt x="812" y="1743"/>
                    </a:lnTo>
                    <a:lnTo>
                      <a:pt x="791" y="1752"/>
                    </a:lnTo>
                    <a:lnTo>
                      <a:pt x="770" y="1759"/>
                    </a:lnTo>
                    <a:lnTo>
                      <a:pt x="748" y="1765"/>
                    </a:lnTo>
                    <a:lnTo>
                      <a:pt x="726" y="1771"/>
                    </a:lnTo>
                    <a:lnTo>
                      <a:pt x="704" y="1778"/>
                    </a:lnTo>
                    <a:lnTo>
                      <a:pt x="706" y="1779"/>
                    </a:lnTo>
                    <a:lnTo>
                      <a:pt x="714" y="179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62600" y="2411280"/>
                <a:ext cx="401760" cy="565200"/>
              </a:xfrm>
              <a:custGeom>
                <a:avLst/>
                <a:gdLst/>
                <a:ahLst/>
                <a:rect l="l" t="t" r="r" b="b"/>
                <a:pathLst>
                  <a:path w="1265" h="1779">
                    <a:moveTo>
                      <a:pt x="408" y="0"/>
                    </a:moveTo>
                    <a:lnTo>
                      <a:pt x="380" y="4"/>
                    </a:lnTo>
                    <a:lnTo>
                      <a:pt x="353" y="8"/>
                    </a:lnTo>
                    <a:lnTo>
                      <a:pt x="325" y="12"/>
                    </a:lnTo>
                    <a:lnTo>
                      <a:pt x="298" y="17"/>
                    </a:lnTo>
                    <a:lnTo>
                      <a:pt x="271" y="24"/>
                    </a:lnTo>
                    <a:lnTo>
                      <a:pt x="244" y="31"/>
                    </a:lnTo>
                    <a:lnTo>
                      <a:pt x="218" y="38"/>
                    </a:lnTo>
                    <a:lnTo>
                      <a:pt x="193" y="47"/>
                    </a:lnTo>
                    <a:lnTo>
                      <a:pt x="167" y="56"/>
                    </a:lnTo>
                    <a:lnTo>
                      <a:pt x="141" y="66"/>
                    </a:lnTo>
                    <a:lnTo>
                      <a:pt x="117" y="76"/>
                    </a:lnTo>
                    <a:lnTo>
                      <a:pt x="93" y="88"/>
                    </a:lnTo>
                    <a:lnTo>
                      <a:pt x="69" y="100"/>
                    </a:lnTo>
                    <a:lnTo>
                      <a:pt x="45" y="113"/>
                    </a:lnTo>
                    <a:lnTo>
                      <a:pt x="22" y="126"/>
                    </a:lnTo>
                    <a:lnTo>
                      <a:pt x="0" y="140"/>
                    </a:lnTo>
                    <a:lnTo>
                      <a:pt x="0" y="160"/>
                    </a:lnTo>
                    <a:lnTo>
                      <a:pt x="24" y="145"/>
                    </a:lnTo>
                    <a:lnTo>
                      <a:pt x="48" y="131"/>
                    </a:lnTo>
                    <a:lnTo>
                      <a:pt x="73" y="117"/>
                    </a:lnTo>
                    <a:lnTo>
                      <a:pt x="98" y="103"/>
                    </a:lnTo>
                    <a:lnTo>
                      <a:pt x="125" y="92"/>
                    </a:lnTo>
                    <a:lnTo>
                      <a:pt x="151" y="80"/>
                    </a:lnTo>
                    <a:lnTo>
                      <a:pt x="177" y="70"/>
                    </a:lnTo>
                    <a:lnTo>
                      <a:pt x="204" y="60"/>
                    </a:lnTo>
                    <a:lnTo>
                      <a:pt x="233" y="51"/>
                    </a:lnTo>
                    <a:lnTo>
                      <a:pt x="260" y="43"/>
                    </a:lnTo>
                    <a:lnTo>
                      <a:pt x="289" y="36"/>
                    </a:lnTo>
                    <a:lnTo>
                      <a:pt x="318" y="31"/>
                    </a:lnTo>
                    <a:lnTo>
                      <a:pt x="347" y="26"/>
                    </a:lnTo>
                    <a:lnTo>
                      <a:pt x="377" y="21"/>
                    </a:lnTo>
                    <a:lnTo>
                      <a:pt x="406" y="18"/>
                    </a:lnTo>
                    <a:lnTo>
                      <a:pt x="436" y="15"/>
                    </a:lnTo>
                    <a:lnTo>
                      <a:pt x="408" y="0"/>
                    </a:lnTo>
                    <a:close/>
                    <a:moveTo>
                      <a:pt x="709" y="1779"/>
                    </a:moveTo>
                    <a:lnTo>
                      <a:pt x="731" y="1773"/>
                    </a:lnTo>
                    <a:lnTo>
                      <a:pt x="753" y="1767"/>
                    </a:lnTo>
                    <a:lnTo>
                      <a:pt x="774" y="1759"/>
                    </a:lnTo>
                    <a:lnTo>
                      <a:pt x="796" y="1752"/>
                    </a:lnTo>
                    <a:lnTo>
                      <a:pt x="817" y="1744"/>
                    </a:lnTo>
                    <a:lnTo>
                      <a:pt x="837" y="1736"/>
                    </a:lnTo>
                    <a:lnTo>
                      <a:pt x="858" y="1727"/>
                    </a:lnTo>
                    <a:lnTo>
                      <a:pt x="878" y="1717"/>
                    </a:lnTo>
                    <a:lnTo>
                      <a:pt x="898" y="1708"/>
                    </a:lnTo>
                    <a:lnTo>
                      <a:pt x="918" y="1697"/>
                    </a:lnTo>
                    <a:lnTo>
                      <a:pt x="937" y="1687"/>
                    </a:lnTo>
                    <a:lnTo>
                      <a:pt x="957" y="1675"/>
                    </a:lnTo>
                    <a:lnTo>
                      <a:pt x="975" y="1664"/>
                    </a:lnTo>
                    <a:lnTo>
                      <a:pt x="994" y="1652"/>
                    </a:lnTo>
                    <a:lnTo>
                      <a:pt x="1012" y="1639"/>
                    </a:lnTo>
                    <a:lnTo>
                      <a:pt x="1030" y="1626"/>
                    </a:lnTo>
                    <a:lnTo>
                      <a:pt x="1047" y="1612"/>
                    </a:lnTo>
                    <a:lnTo>
                      <a:pt x="1064" y="1599"/>
                    </a:lnTo>
                    <a:lnTo>
                      <a:pt x="1081" y="1585"/>
                    </a:lnTo>
                    <a:lnTo>
                      <a:pt x="1098" y="1570"/>
                    </a:lnTo>
                    <a:lnTo>
                      <a:pt x="1114" y="1554"/>
                    </a:lnTo>
                    <a:lnTo>
                      <a:pt x="1129" y="1540"/>
                    </a:lnTo>
                    <a:lnTo>
                      <a:pt x="1145" y="1523"/>
                    </a:lnTo>
                    <a:lnTo>
                      <a:pt x="1160" y="1507"/>
                    </a:lnTo>
                    <a:lnTo>
                      <a:pt x="1175" y="1490"/>
                    </a:lnTo>
                    <a:lnTo>
                      <a:pt x="1188" y="1474"/>
                    </a:lnTo>
                    <a:lnTo>
                      <a:pt x="1202" y="1457"/>
                    </a:lnTo>
                    <a:lnTo>
                      <a:pt x="1216" y="1439"/>
                    </a:lnTo>
                    <a:lnTo>
                      <a:pt x="1228" y="1421"/>
                    </a:lnTo>
                    <a:lnTo>
                      <a:pt x="1241" y="1403"/>
                    </a:lnTo>
                    <a:lnTo>
                      <a:pt x="1254" y="1384"/>
                    </a:lnTo>
                    <a:lnTo>
                      <a:pt x="1265" y="1365"/>
                    </a:lnTo>
                    <a:lnTo>
                      <a:pt x="1257" y="1348"/>
                    </a:lnTo>
                    <a:lnTo>
                      <a:pt x="1245" y="1366"/>
                    </a:lnTo>
                    <a:lnTo>
                      <a:pt x="1232" y="1385"/>
                    </a:lnTo>
                    <a:lnTo>
                      <a:pt x="1220" y="1404"/>
                    </a:lnTo>
                    <a:lnTo>
                      <a:pt x="1207" y="1422"/>
                    </a:lnTo>
                    <a:lnTo>
                      <a:pt x="1195" y="1440"/>
                    </a:lnTo>
                    <a:lnTo>
                      <a:pt x="1180" y="1458"/>
                    </a:lnTo>
                    <a:lnTo>
                      <a:pt x="1166" y="1475"/>
                    </a:lnTo>
                    <a:lnTo>
                      <a:pt x="1152" y="1491"/>
                    </a:lnTo>
                    <a:lnTo>
                      <a:pt x="1137" y="1508"/>
                    </a:lnTo>
                    <a:lnTo>
                      <a:pt x="1121" y="1524"/>
                    </a:lnTo>
                    <a:lnTo>
                      <a:pt x="1105" y="1540"/>
                    </a:lnTo>
                    <a:lnTo>
                      <a:pt x="1090" y="1554"/>
                    </a:lnTo>
                    <a:lnTo>
                      <a:pt x="1073" y="1569"/>
                    </a:lnTo>
                    <a:lnTo>
                      <a:pt x="1056" y="1584"/>
                    </a:lnTo>
                    <a:lnTo>
                      <a:pt x="1039" y="1599"/>
                    </a:lnTo>
                    <a:lnTo>
                      <a:pt x="1021" y="1611"/>
                    </a:lnTo>
                    <a:lnTo>
                      <a:pt x="1003" y="1625"/>
                    </a:lnTo>
                    <a:lnTo>
                      <a:pt x="984" y="1637"/>
                    </a:lnTo>
                    <a:lnTo>
                      <a:pt x="967" y="1650"/>
                    </a:lnTo>
                    <a:lnTo>
                      <a:pt x="948" y="1662"/>
                    </a:lnTo>
                    <a:lnTo>
                      <a:pt x="928" y="1673"/>
                    </a:lnTo>
                    <a:lnTo>
                      <a:pt x="909" y="1684"/>
                    </a:lnTo>
                    <a:lnTo>
                      <a:pt x="889" y="1694"/>
                    </a:lnTo>
                    <a:lnTo>
                      <a:pt x="868" y="1704"/>
                    </a:lnTo>
                    <a:lnTo>
                      <a:pt x="848" y="1713"/>
                    </a:lnTo>
                    <a:lnTo>
                      <a:pt x="827" y="1722"/>
                    </a:lnTo>
                    <a:lnTo>
                      <a:pt x="806" y="1731"/>
                    </a:lnTo>
                    <a:lnTo>
                      <a:pt x="785" y="1738"/>
                    </a:lnTo>
                    <a:lnTo>
                      <a:pt x="764" y="1746"/>
                    </a:lnTo>
                    <a:lnTo>
                      <a:pt x="742" y="1753"/>
                    </a:lnTo>
                    <a:lnTo>
                      <a:pt x="720" y="1759"/>
                    </a:lnTo>
                    <a:lnTo>
                      <a:pt x="697" y="1764"/>
                    </a:lnTo>
                    <a:lnTo>
                      <a:pt x="706" y="1773"/>
                    </a:lnTo>
                    <a:lnTo>
                      <a:pt x="709" y="177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62600" y="2414520"/>
                <a:ext cx="399960" cy="558720"/>
              </a:xfrm>
              <a:custGeom>
                <a:avLst/>
                <a:gdLst/>
                <a:ahLst/>
                <a:rect l="l" t="t" r="r" b="b"/>
                <a:pathLst>
                  <a:path w="1261" h="1764">
                    <a:moveTo>
                      <a:pt x="422" y="0"/>
                    </a:moveTo>
                    <a:lnTo>
                      <a:pt x="393" y="3"/>
                    </a:lnTo>
                    <a:lnTo>
                      <a:pt x="364" y="6"/>
                    </a:lnTo>
                    <a:lnTo>
                      <a:pt x="336" y="10"/>
                    </a:lnTo>
                    <a:lnTo>
                      <a:pt x="307" y="16"/>
                    </a:lnTo>
                    <a:lnTo>
                      <a:pt x="280" y="22"/>
                    </a:lnTo>
                    <a:lnTo>
                      <a:pt x="253" y="29"/>
                    </a:lnTo>
                    <a:lnTo>
                      <a:pt x="226" y="37"/>
                    </a:lnTo>
                    <a:lnTo>
                      <a:pt x="198" y="45"/>
                    </a:lnTo>
                    <a:lnTo>
                      <a:pt x="172" y="54"/>
                    </a:lnTo>
                    <a:lnTo>
                      <a:pt x="147" y="65"/>
                    </a:lnTo>
                    <a:lnTo>
                      <a:pt x="120" y="76"/>
                    </a:lnTo>
                    <a:lnTo>
                      <a:pt x="95" y="88"/>
                    </a:lnTo>
                    <a:lnTo>
                      <a:pt x="71" y="101"/>
                    </a:lnTo>
                    <a:lnTo>
                      <a:pt x="47" y="113"/>
                    </a:lnTo>
                    <a:lnTo>
                      <a:pt x="23" y="128"/>
                    </a:lnTo>
                    <a:lnTo>
                      <a:pt x="0" y="142"/>
                    </a:lnTo>
                    <a:lnTo>
                      <a:pt x="0" y="163"/>
                    </a:lnTo>
                    <a:lnTo>
                      <a:pt x="24" y="147"/>
                    </a:lnTo>
                    <a:lnTo>
                      <a:pt x="49" y="131"/>
                    </a:lnTo>
                    <a:lnTo>
                      <a:pt x="75" y="117"/>
                    </a:lnTo>
                    <a:lnTo>
                      <a:pt x="101" y="104"/>
                    </a:lnTo>
                    <a:lnTo>
                      <a:pt x="128" y="91"/>
                    </a:lnTo>
                    <a:lnTo>
                      <a:pt x="155" y="80"/>
                    </a:lnTo>
                    <a:lnTo>
                      <a:pt x="183" y="69"/>
                    </a:lnTo>
                    <a:lnTo>
                      <a:pt x="211" y="59"/>
                    </a:lnTo>
                    <a:lnTo>
                      <a:pt x="240" y="50"/>
                    </a:lnTo>
                    <a:lnTo>
                      <a:pt x="269" y="42"/>
                    </a:lnTo>
                    <a:lnTo>
                      <a:pt x="298" y="34"/>
                    </a:lnTo>
                    <a:lnTo>
                      <a:pt x="327" y="29"/>
                    </a:lnTo>
                    <a:lnTo>
                      <a:pt x="358" y="24"/>
                    </a:lnTo>
                    <a:lnTo>
                      <a:pt x="388" y="20"/>
                    </a:lnTo>
                    <a:lnTo>
                      <a:pt x="419" y="18"/>
                    </a:lnTo>
                    <a:lnTo>
                      <a:pt x="450" y="16"/>
                    </a:lnTo>
                    <a:lnTo>
                      <a:pt x="450" y="14"/>
                    </a:lnTo>
                    <a:lnTo>
                      <a:pt x="422" y="0"/>
                    </a:lnTo>
                    <a:close/>
                    <a:moveTo>
                      <a:pt x="704" y="1764"/>
                    </a:moveTo>
                    <a:lnTo>
                      <a:pt x="726" y="1757"/>
                    </a:lnTo>
                    <a:lnTo>
                      <a:pt x="748" y="1751"/>
                    </a:lnTo>
                    <a:lnTo>
                      <a:pt x="770" y="1745"/>
                    </a:lnTo>
                    <a:lnTo>
                      <a:pt x="791" y="1738"/>
                    </a:lnTo>
                    <a:lnTo>
                      <a:pt x="812" y="1729"/>
                    </a:lnTo>
                    <a:lnTo>
                      <a:pt x="833" y="1721"/>
                    </a:lnTo>
                    <a:lnTo>
                      <a:pt x="853" y="1712"/>
                    </a:lnTo>
                    <a:lnTo>
                      <a:pt x="874" y="1703"/>
                    </a:lnTo>
                    <a:lnTo>
                      <a:pt x="894" y="1692"/>
                    </a:lnTo>
                    <a:lnTo>
                      <a:pt x="914" y="1682"/>
                    </a:lnTo>
                    <a:lnTo>
                      <a:pt x="933" y="1671"/>
                    </a:lnTo>
                    <a:lnTo>
                      <a:pt x="952" y="1660"/>
                    </a:lnTo>
                    <a:lnTo>
                      <a:pt x="971" y="1648"/>
                    </a:lnTo>
                    <a:lnTo>
                      <a:pt x="990" y="1637"/>
                    </a:lnTo>
                    <a:lnTo>
                      <a:pt x="1008" y="1624"/>
                    </a:lnTo>
                    <a:lnTo>
                      <a:pt x="1025" y="1610"/>
                    </a:lnTo>
                    <a:lnTo>
                      <a:pt x="1043" y="1597"/>
                    </a:lnTo>
                    <a:lnTo>
                      <a:pt x="1060" y="1583"/>
                    </a:lnTo>
                    <a:lnTo>
                      <a:pt x="1077" y="1568"/>
                    </a:lnTo>
                    <a:lnTo>
                      <a:pt x="1094" y="1554"/>
                    </a:lnTo>
                    <a:lnTo>
                      <a:pt x="1110" y="1539"/>
                    </a:lnTo>
                    <a:lnTo>
                      <a:pt x="1125" y="1523"/>
                    </a:lnTo>
                    <a:lnTo>
                      <a:pt x="1141" y="1508"/>
                    </a:lnTo>
                    <a:lnTo>
                      <a:pt x="1156" y="1491"/>
                    </a:lnTo>
                    <a:lnTo>
                      <a:pt x="1170" y="1475"/>
                    </a:lnTo>
                    <a:lnTo>
                      <a:pt x="1184" y="1457"/>
                    </a:lnTo>
                    <a:lnTo>
                      <a:pt x="1199" y="1440"/>
                    </a:lnTo>
                    <a:lnTo>
                      <a:pt x="1211" y="1423"/>
                    </a:lnTo>
                    <a:lnTo>
                      <a:pt x="1224" y="1405"/>
                    </a:lnTo>
                    <a:lnTo>
                      <a:pt x="1237" y="1386"/>
                    </a:lnTo>
                    <a:lnTo>
                      <a:pt x="1249" y="1367"/>
                    </a:lnTo>
                    <a:lnTo>
                      <a:pt x="1261" y="1348"/>
                    </a:lnTo>
                    <a:lnTo>
                      <a:pt x="1251" y="1330"/>
                    </a:lnTo>
                    <a:lnTo>
                      <a:pt x="1241" y="1349"/>
                    </a:lnTo>
                    <a:lnTo>
                      <a:pt x="1228" y="1369"/>
                    </a:lnTo>
                    <a:lnTo>
                      <a:pt x="1216" y="1387"/>
                    </a:lnTo>
                    <a:lnTo>
                      <a:pt x="1203" y="1406"/>
                    </a:lnTo>
                    <a:lnTo>
                      <a:pt x="1190" y="1424"/>
                    </a:lnTo>
                    <a:lnTo>
                      <a:pt x="1177" y="1441"/>
                    </a:lnTo>
                    <a:lnTo>
                      <a:pt x="1162" y="1458"/>
                    </a:lnTo>
                    <a:lnTo>
                      <a:pt x="1147" y="1475"/>
                    </a:lnTo>
                    <a:lnTo>
                      <a:pt x="1133" y="1492"/>
                    </a:lnTo>
                    <a:lnTo>
                      <a:pt x="1117" y="1509"/>
                    </a:lnTo>
                    <a:lnTo>
                      <a:pt x="1101" y="1524"/>
                    </a:lnTo>
                    <a:lnTo>
                      <a:pt x="1085" y="1539"/>
                    </a:lnTo>
                    <a:lnTo>
                      <a:pt x="1069" y="1555"/>
                    </a:lnTo>
                    <a:lnTo>
                      <a:pt x="1052" y="1568"/>
                    </a:lnTo>
                    <a:lnTo>
                      <a:pt x="1034" y="1583"/>
                    </a:lnTo>
                    <a:lnTo>
                      <a:pt x="1016" y="1597"/>
                    </a:lnTo>
                    <a:lnTo>
                      <a:pt x="998" y="1610"/>
                    </a:lnTo>
                    <a:lnTo>
                      <a:pt x="980" y="1623"/>
                    </a:lnTo>
                    <a:lnTo>
                      <a:pt x="961" y="1635"/>
                    </a:lnTo>
                    <a:lnTo>
                      <a:pt x="942" y="1647"/>
                    </a:lnTo>
                    <a:lnTo>
                      <a:pt x="922" y="1659"/>
                    </a:lnTo>
                    <a:lnTo>
                      <a:pt x="902" y="1669"/>
                    </a:lnTo>
                    <a:lnTo>
                      <a:pt x="882" y="1680"/>
                    </a:lnTo>
                    <a:lnTo>
                      <a:pt x="862" y="1689"/>
                    </a:lnTo>
                    <a:lnTo>
                      <a:pt x="841" y="1699"/>
                    </a:lnTo>
                    <a:lnTo>
                      <a:pt x="822" y="1708"/>
                    </a:lnTo>
                    <a:lnTo>
                      <a:pt x="799" y="1717"/>
                    </a:lnTo>
                    <a:lnTo>
                      <a:pt x="778" y="1724"/>
                    </a:lnTo>
                    <a:lnTo>
                      <a:pt x="756" y="1731"/>
                    </a:lnTo>
                    <a:lnTo>
                      <a:pt x="735" y="1738"/>
                    </a:lnTo>
                    <a:lnTo>
                      <a:pt x="712" y="1744"/>
                    </a:lnTo>
                    <a:lnTo>
                      <a:pt x="690" y="1749"/>
                    </a:lnTo>
                    <a:lnTo>
                      <a:pt x="704" y="1764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2600" y="2416320"/>
                <a:ext cx="399960" cy="555480"/>
              </a:xfrm>
              <a:custGeom>
                <a:avLst/>
                <a:gdLst/>
                <a:ahLst/>
                <a:rect l="l" t="t" r="r" b="b"/>
                <a:pathLst>
                  <a:path w="1257" h="1749">
                    <a:moveTo>
                      <a:pt x="436" y="0"/>
                    </a:moveTo>
                    <a:lnTo>
                      <a:pt x="406" y="3"/>
                    </a:lnTo>
                    <a:lnTo>
                      <a:pt x="377" y="6"/>
                    </a:lnTo>
                    <a:lnTo>
                      <a:pt x="347" y="11"/>
                    </a:lnTo>
                    <a:lnTo>
                      <a:pt x="318" y="16"/>
                    </a:lnTo>
                    <a:lnTo>
                      <a:pt x="289" y="21"/>
                    </a:lnTo>
                    <a:lnTo>
                      <a:pt x="260" y="28"/>
                    </a:lnTo>
                    <a:lnTo>
                      <a:pt x="233" y="36"/>
                    </a:lnTo>
                    <a:lnTo>
                      <a:pt x="204" y="45"/>
                    </a:lnTo>
                    <a:lnTo>
                      <a:pt x="177" y="55"/>
                    </a:lnTo>
                    <a:lnTo>
                      <a:pt x="151" y="65"/>
                    </a:lnTo>
                    <a:lnTo>
                      <a:pt x="125" y="77"/>
                    </a:lnTo>
                    <a:lnTo>
                      <a:pt x="98" y="88"/>
                    </a:lnTo>
                    <a:lnTo>
                      <a:pt x="73" y="102"/>
                    </a:lnTo>
                    <a:lnTo>
                      <a:pt x="48" y="116"/>
                    </a:lnTo>
                    <a:lnTo>
                      <a:pt x="24" y="130"/>
                    </a:lnTo>
                    <a:lnTo>
                      <a:pt x="0" y="145"/>
                    </a:lnTo>
                    <a:lnTo>
                      <a:pt x="0" y="165"/>
                    </a:lnTo>
                    <a:lnTo>
                      <a:pt x="24" y="149"/>
                    </a:lnTo>
                    <a:lnTo>
                      <a:pt x="50" y="133"/>
                    </a:lnTo>
                    <a:lnTo>
                      <a:pt x="75" y="119"/>
                    </a:lnTo>
                    <a:lnTo>
                      <a:pt x="101" y="105"/>
                    </a:lnTo>
                    <a:lnTo>
                      <a:pt x="129" y="93"/>
                    </a:lnTo>
                    <a:lnTo>
                      <a:pt x="156" y="81"/>
                    </a:lnTo>
                    <a:lnTo>
                      <a:pt x="185" y="70"/>
                    </a:lnTo>
                    <a:lnTo>
                      <a:pt x="213" y="60"/>
                    </a:lnTo>
                    <a:lnTo>
                      <a:pt x="242" y="51"/>
                    </a:lnTo>
                    <a:lnTo>
                      <a:pt x="271" y="43"/>
                    </a:lnTo>
                    <a:lnTo>
                      <a:pt x="301" y="36"/>
                    </a:lnTo>
                    <a:lnTo>
                      <a:pt x="331" y="30"/>
                    </a:lnTo>
                    <a:lnTo>
                      <a:pt x="361" y="25"/>
                    </a:lnTo>
                    <a:lnTo>
                      <a:pt x="393" y="21"/>
                    </a:lnTo>
                    <a:lnTo>
                      <a:pt x="423" y="18"/>
                    </a:lnTo>
                    <a:lnTo>
                      <a:pt x="455" y="17"/>
                    </a:lnTo>
                    <a:lnTo>
                      <a:pt x="450" y="7"/>
                    </a:lnTo>
                    <a:lnTo>
                      <a:pt x="436" y="0"/>
                    </a:lnTo>
                    <a:close/>
                    <a:moveTo>
                      <a:pt x="697" y="1749"/>
                    </a:moveTo>
                    <a:lnTo>
                      <a:pt x="720" y="1744"/>
                    </a:lnTo>
                    <a:lnTo>
                      <a:pt x="742" y="1738"/>
                    </a:lnTo>
                    <a:lnTo>
                      <a:pt x="764" y="1731"/>
                    </a:lnTo>
                    <a:lnTo>
                      <a:pt x="785" y="1723"/>
                    </a:lnTo>
                    <a:lnTo>
                      <a:pt x="806" y="1716"/>
                    </a:lnTo>
                    <a:lnTo>
                      <a:pt x="827" y="1707"/>
                    </a:lnTo>
                    <a:lnTo>
                      <a:pt x="848" y="1698"/>
                    </a:lnTo>
                    <a:lnTo>
                      <a:pt x="868" y="1689"/>
                    </a:lnTo>
                    <a:lnTo>
                      <a:pt x="889" y="1679"/>
                    </a:lnTo>
                    <a:lnTo>
                      <a:pt x="909" y="1669"/>
                    </a:lnTo>
                    <a:lnTo>
                      <a:pt x="928" y="1658"/>
                    </a:lnTo>
                    <a:lnTo>
                      <a:pt x="948" y="1647"/>
                    </a:lnTo>
                    <a:lnTo>
                      <a:pt x="967" y="1635"/>
                    </a:lnTo>
                    <a:lnTo>
                      <a:pt x="984" y="1622"/>
                    </a:lnTo>
                    <a:lnTo>
                      <a:pt x="1003" y="1610"/>
                    </a:lnTo>
                    <a:lnTo>
                      <a:pt x="1021" y="1596"/>
                    </a:lnTo>
                    <a:lnTo>
                      <a:pt x="1039" y="1584"/>
                    </a:lnTo>
                    <a:lnTo>
                      <a:pt x="1056" y="1569"/>
                    </a:lnTo>
                    <a:lnTo>
                      <a:pt x="1073" y="1554"/>
                    </a:lnTo>
                    <a:lnTo>
                      <a:pt x="1090" y="1539"/>
                    </a:lnTo>
                    <a:lnTo>
                      <a:pt x="1105" y="1525"/>
                    </a:lnTo>
                    <a:lnTo>
                      <a:pt x="1121" y="1509"/>
                    </a:lnTo>
                    <a:lnTo>
                      <a:pt x="1137" y="1493"/>
                    </a:lnTo>
                    <a:lnTo>
                      <a:pt x="1152" y="1476"/>
                    </a:lnTo>
                    <a:lnTo>
                      <a:pt x="1166" y="1460"/>
                    </a:lnTo>
                    <a:lnTo>
                      <a:pt x="1180" y="1443"/>
                    </a:lnTo>
                    <a:lnTo>
                      <a:pt x="1195" y="1425"/>
                    </a:lnTo>
                    <a:lnTo>
                      <a:pt x="1207" y="1407"/>
                    </a:lnTo>
                    <a:lnTo>
                      <a:pt x="1220" y="1389"/>
                    </a:lnTo>
                    <a:lnTo>
                      <a:pt x="1232" y="1370"/>
                    </a:lnTo>
                    <a:lnTo>
                      <a:pt x="1245" y="1351"/>
                    </a:lnTo>
                    <a:lnTo>
                      <a:pt x="1257" y="1333"/>
                    </a:lnTo>
                    <a:lnTo>
                      <a:pt x="1247" y="1314"/>
                    </a:lnTo>
                    <a:lnTo>
                      <a:pt x="1236" y="1334"/>
                    </a:lnTo>
                    <a:lnTo>
                      <a:pt x="1224" y="1353"/>
                    </a:lnTo>
                    <a:lnTo>
                      <a:pt x="1211" y="1371"/>
                    </a:lnTo>
                    <a:lnTo>
                      <a:pt x="1199" y="1390"/>
                    </a:lnTo>
                    <a:lnTo>
                      <a:pt x="1186" y="1408"/>
                    </a:lnTo>
                    <a:lnTo>
                      <a:pt x="1172" y="1426"/>
                    </a:lnTo>
                    <a:lnTo>
                      <a:pt x="1158" y="1444"/>
                    </a:lnTo>
                    <a:lnTo>
                      <a:pt x="1143" y="1461"/>
                    </a:lnTo>
                    <a:lnTo>
                      <a:pt x="1128" y="1477"/>
                    </a:lnTo>
                    <a:lnTo>
                      <a:pt x="1113" y="1493"/>
                    </a:lnTo>
                    <a:lnTo>
                      <a:pt x="1097" y="1510"/>
                    </a:lnTo>
                    <a:lnTo>
                      <a:pt x="1080" y="1525"/>
                    </a:lnTo>
                    <a:lnTo>
                      <a:pt x="1064" y="1540"/>
                    </a:lnTo>
                    <a:lnTo>
                      <a:pt x="1046" y="1555"/>
                    </a:lnTo>
                    <a:lnTo>
                      <a:pt x="1030" y="1569"/>
                    </a:lnTo>
                    <a:lnTo>
                      <a:pt x="1012" y="1582"/>
                    </a:lnTo>
                    <a:lnTo>
                      <a:pt x="994" y="1596"/>
                    </a:lnTo>
                    <a:lnTo>
                      <a:pt x="975" y="1609"/>
                    </a:lnTo>
                    <a:lnTo>
                      <a:pt x="956" y="1621"/>
                    </a:lnTo>
                    <a:lnTo>
                      <a:pt x="937" y="1633"/>
                    </a:lnTo>
                    <a:lnTo>
                      <a:pt x="917" y="1644"/>
                    </a:lnTo>
                    <a:lnTo>
                      <a:pt x="897" y="1656"/>
                    </a:lnTo>
                    <a:lnTo>
                      <a:pt x="877" y="1666"/>
                    </a:lnTo>
                    <a:lnTo>
                      <a:pt x="857" y="1676"/>
                    </a:lnTo>
                    <a:lnTo>
                      <a:pt x="836" y="1685"/>
                    </a:lnTo>
                    <a:lnTo>
                      <a:pt x="815" y="1694"/>
                    </a:lnTo>
                    <a:lnTo>
                      <a:pt x="794" y="1702"/>
                    </a:lnTo>
                    <a:lnTo>
                      <a:pt x="772" y="1711"/>
                    </a:lnTo>
                    <a:lnTo>
                      <a:pt x="750" y="1717"/>
                    </a:lnTo>
                    <a:lnTo>
                      <a:pt x="728" y="1724"/>
                    </a:lnTo>
                    <a:lnTo>
                      <a:pt x="706" y="1731"/>
                    </a:lnTo>
                    <a:lnTo>
                      <a:pt x="684" y="1736"/>
                    </a:lnTo>
                    <a:lnTo>
                      <a:pt x="697" y="174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62600" y="2419200"/>
                <a:ext cx="397080" cy="549360"/>
              </a:xfrm>
              <a:custGeom>
                <a:avLst/>
                <a:gdLst/>
                <a:ahLst/>
                <a:rect l="l" t="t" r="r" b="b"/>
                <a:pathLst>
                  <a:path w="1251" h="1733">
                    <a:moveTo>
                      <a:pt x="450" y="0"/>
                    </a:moveTo>
                    <a:lnTo>
                      <a:pt x="419" y="2"/>
                    </a:lnTo>
                    <a:lnTo>
                      <a:pt x="388" y="4"/>
                    </a:lnTo>
                    <a:lnTo>
                      <a:pt x="358" y="8"/>
                    </a:lnTo>
                    <a:lnTo>
                      <a:pt x="327" y="13"/>
                    </a:lnTo>
                    <a:lnTo>
                      <a:pt x="298" y="18"/>
                    </a:lnTo>
                    <a:lnTo>
                      <a:pt x="269" y="26"/>
                    </a:lnTo>
                    <a:lnTo>
                      <a:pt x="240" y="34"/>
                    </a:lnTo>
                    <a:lnTo>
                      <a:pt x="211" y="43"/>
                    </a:lnTo>
                    <a:lnTo>
                      <a:pt x="183" y="53"/>
                    </a:lnTo>
                    <a:lnTo>
                      <a:pt x="155" y="64"/>
                    </a:lnTo>
                    <a:lnTo>
                      <a:pt x="128" y="75"/>
                    </a:lnTo>
                    <a:lnTo>
                      <a:pt x="101" y="88"/>
                    </a:lnTo>
                    <a:lnTo>
                      <a:pt x="75" y="101"/>
                    </a:lnTo>
                    <a:lnTo>
                      <a:pt x="49" y="115"/>
                    </a:lnTo>
                    <a:lnTo>
                      <a:pt x="24" y="131"/>
                    </a:lnTo>
                    <a:lnTo>
                      <a:pt x="0" y="147"/>
                    </a:lnTo>
                    <a:lnTo>
                      <a:pt x="0" y="166"/>
                    </a:lnTo>
                    <a:lnTo>
                      <a:pt x="25" y="150"/>
                    </a:lnTo>
                    <a:lnTo>
                      <a:pt x="50" y="134"/>
                    </a:lnTo>
                    <a:lnTo>
                      <a:pt x="76" y="119"/>
                    </a:lnTo>
                    <a:lnTo>
                      <a:pt x="103" y="106"/>
                    </a:lnTo>
                    <a:lnTo>
                      <a:pt x="130" y="93"/>
                    </a:lnTo>
                    <a:lnTo>
                      <a:pt x="158" y="80"/>
                    </a:lnTo>
                    <a:lnTo>
                      <a:pt x="186" y="69"/>
                    </a:lnTo>
                    <a:lnTo>
                      <a:pt x="215" y="59"/>
                    </a:lnTo>
                    <a:lnTo>
                      <a:pt x="244" y="50"/>
                    </a:lnTo>
                    <a:lnTo>
                      <a:pt x="274" y="42"/>
                    </a:lnTo>
                    <a:lnTo>
                      <a:pt x="303" y="35"/>
                    </a:lnTo>
                    <a:lnTo>
                      <a:pt x="334" y="29"/>
                    </a:lnTo>
                    <a:lnTo>
                      <a:pt x="365" y="24"/>
                    </a:lnTo>
                    <a:lnTo>
                      <a:pt x="396" y="19"/>
                    </a:lnTo>
                    <a:lnTo>
                      <a:pt x="427" y="17"/>
                    </a:lnTo>
                    <a:lnTo>
                      <a:pt x="459" y="15"/>
                    </a:lnTo>
                    <a:lnTo>
                      <a:pt x="450" y="0"/>
                    </a:lnTo>
                    <a:close/>
                    <a:moveTo>
                      <a:pt x="690" y="1733"/>
                    </a:moveTo>
                    <a:lnTo>
                      <a:pt x="712" y="1728"/>
                    </a:lnTo>
                    <a:lnTo>
                      <a:pt x="735" y="1722"/>
                    </a:lnTo>
                    <a:lnTo>
                      <a:pt x="756" y="1715"/>
                    </a:lnTo>
                    <a:lnTo>
                      <a:pt x="778" y="1708"/>
                    </a:lnTo>
                    <a:lnTo>
                      <a:pt x="799" y="1701"/>
                    </a:lnTo>
                    <a:lnTo>
                      <a:pt x="822" y="1692"/>
                    </a:lnTo>
                    <a:lnTo>
                      <a:pt x="841" y="1683"/>
                    </a:lnTo>
                    <a:lnTo>
                      <a:pt x="862" y="1673"/>
                    </a:lnTo>
                    <a:lnTo>
                      <a:pt x="882" y="1664"/>
                    </a:lnTo>
                    <a:lnTo>
                      <a:pt x="902" y="1653"/>
                    </a:lnTo>
                    <a:lnTo>
                      <a:pt x="922" y="1643"/>
                    </a:lnTo>
                    <a:lnTo>
                      <a:pt x="942" y="1631"/>
                    </a:lnTo>
                    <a:lnTo>
                      <a:pt x="961" y="1619"/>
                    </a:lnTo>
                    <a:lnTo>
                      <a:pt x="980" y="1607"/>
                    </a:lnTo>
                    <a:lnTo>
                      <a:pt x="998" y="1594"/>
                    </a:lnTo>
                    <a:lnTo>
                      <a:pt x="1016" y="1581"/>
                    </a:lnTo>
                    <a:lnTo>
                      <a:pt x="1034" y="1567"/>
                    </a:lnTo>
                    <a:lnTo>
                      <a:pt x="1052" y="1552"/>
                    </a:lnTo>
                    <a:lnTo>
                      <a:pt x="1069" y="1539"/>
                    </a:lnTo>
                    <a:lnTo>
                      <a:pt x="1085" y="1523"/>
                    </a:lnTo>
                    <a:lnTo>
                      <a:pt x="1101" y="1508"/>
                    </a:lnTo>
                    <a:lnTo>
                      <a:pt x="1117" y="1493"/>
                    </a:lnTo>
                    <a:lnTo>
                      <a:pt x="1133" y="1476"/>
                    </a:lnTo>
                    <a:lnTo>
                      <a:pt x="1147" y="1459"/>
                    </a:lnTo>
                    <a:lnTo>
                      <a:pt x="1162" y="1442"/>
                    </a:lnTo>
                    <a:lnTo>
                      <a:pt x="1177" y="1425"/>
                    </a:lnTo>
                    <a:lnTo>
                      <a:pt x="1190" y="1408"/>
                    </a:lnTo>
                    <a:lnTo>
                      <a:pt x="1203" y="1390"/>
                    </a:lnTo>
                    <a:lnTo>
                      <a:pt x="1216" y="1371"/>
                    </a:lnTo>
                    <a:lnTo>
                      <a:pt x="1228" y="1353"/>
                    </a:lnTo>
                    <a:lnTo>
                      <a:pt x="1241" y="1333"/>
                    </a:lnTo>
                    <a:lnTo>
                      <a:pt x="1251" y="1314"/>
                    </a:lnTo>
                    <a:lnTo>
                      <a:pt x="1243" y="1295"/>
                    </a:lnTo>
                    <a:lnTo>
                      <a:pt x="1231" y="1315"/>
                    </a:lnTo>
                    <a:lnTo>
                      <a:pt x="1220" y="1335"/>
                    </a:lnTo>
                    <a:lnTo>
                      <a:pt x="1207" y="1354"/>
                    </a:lnTo>
                    <a:lnTo>
                      <a:pt x="1195" y="1373"/>
                    </a:lnTo>
                    <a:lnTo>
                      <a:pt x="1182" y="1391"/>
                    </a:lnTo>
                    <a:lnTo>
                      <a:pt x="1167" y="1409"/>
                    </a:lnTo>
                    <a:lnTo>
                      <a:pt x="1154" y="1426"/>
                    </a:lnTo>
                    <a:lnTo>
                      <a:pt x="1139" y="1443"/>
                    </a:lnTo>
                    <a:lnTo>
                      <a:pt x="1124" y="1461"/>
                    </a:lnTo>
                    <a:lnTo>
                      <a:pt x="1108" y="1477"/>
                    </a:lnTo>
                    <a:lnTo>
                      <a:pt x="1093" y="1494"/>
                    </a:lnTo>
                    <a:lnTo>
                      <a:pt x="1076" y="1508"/>
                    </a:lnTo>
                    <a:lnTo>
                      <a:pt x="1059" y="1524"/>
                    </a:lnTo>
                    <a:lnTo>
                      <a:pt x="1042" y="1539"/>
                    </a:lnTo>
                    <a:lnTo>
                      <a:pt x="1024" y="1554"/>
                    </a:lnTo>
                    <a:lnTo>
                      <a:pt x="1007" y="1567"/>
                    </a:lnTo>
                    <a:lnTo>
                      <a:pt x="989" y="1580"/>
                    </a:lnTo>
                    <a:lnTo>
                      <a:pt x="970" y="1593"/>
                    </a:lnTo>
                    <a:lnTo>
                      <a:pt x="951" y="1606"/>
                    </a:lnTo>
                    <a:lnTo>
                      <a:pt x="932" y="1618"/>
                    </a:lnTo>
                    <a:lnTo>
                      <a:pt x="912" y="1629"/>
                    </a:lnTo>
                    <a:lnTo>
                      <a:pt x="892" y="1640"/>
                    </a:lnTo>
                    <a:lnTo>
                      <a:pt x="872" y="1650"/>
                    </a:lnTo>
                    <a:lnTo>
                      <a:pt x="851" y="1661"/>
                    </a:lnTo>
                    <a:lnTo>
                      <a:pt x="830" y="1670"/>
                    </a:lnTo>
                    <a:lnTo>
                      <a:pt x="809" y="1678"/>
                    </a:lnTo>
                    <a:lnTo>
                      <a:pt x="788" y="1687"/>
                    </a:lnTo>
                    <a:lnTo>
                      <a:pt x="766" y="1694"/>
                    </a:lnTo>
                    <a:lnTo>
                      <a:pt x="744" y="1702"/>
                    </a:lnTo>
                    <a:lnTo>
                      <a:pt x="722" y="1708"/>
                    </a:lnTo>
                    <a:lnTo>
                      <a:pt x="700" y="1714"/>
                    </a:lnTo>
                    <a:lnTo>
                      <a:pt x="676" y="1719"/>
                    </a:lnTo>
                    <a:lnTo>
                      <a:pt x="690" y="173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2600" y="2421000"/>
                <a:ext cx="397080" cy="546120"/>
              </a:xfrm>
              <a:custGeom>
                <a:avLst/>
                <a:gdLst/>
                <a:ahLst/>
                <a:rect l="l" t="t" r="r" b="b"/>
                <a:pathLst>
                  <a:path w="1247" h="1719">
                    <a:moveTo>
                      <a:pt x="455" y="0"/>
                    </a:moveTo>
                    <a:lnTo>
                      <a:pt x="423" y="1"/>
                    </a:lnTo>
                    <a:lnTo>
                      <a:pt x="393" y="4"/>
                    </a:lnTo>
                    <a:lnTo>
                      <a:pt x="361" y="8"/>
                    </a:lnTo>
                    <a:lnTo>
                      <a:pt x="331" y="13"/>
                    </a:lnTo>
                    <a:lnTo>
                      <a:pt x="301" y="19"/>
                    </a:lnTo>
                    <a:lnTo>
                      <a:pt x="271" y="26"/>
                    </a:lnTo>
                    <a:lnTo>
                      <a:pt x="242" y="34"/>
                    </a:lnTo>
                    <a:lnTo>
                      <a:pt x="213" y="43"/>
                    </a:lnTo>
                    <a:lnTo>
                      <a:pt x="185" y="53"/>
                    </a:lnTo>
                    <a:lnTo>
                      <a:pt x="156" y="64"/>
                    </a:lnTo>
                    <a:lnTo>
                      <a:pt x="129" y="76"/>
                    </a:lnTo>
                    <a:lnTo>
                      <a:pt x="103" y="88"/>
                    </a:lnTo>
                    <a:lnTo>
                      <a:pt x="75" y="102"/>
                    </a:lnTo>
                    <a:lnTo>
                      <a:pt x="50" y="116"/>
                    </a:lnTo>
                    <a:lnTo>
                      <a:pt x="24" y="132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69"/>
                    </a:lnTo>
                    <a:lnTo>
                      <a:pt x="25" y="152"/>
                    </a:lnTo>
                    <a:lnTo>
                      <a:pt x="50" y="135"/>
                    </a:lnTo>
                    <a:lnTo>
                      <a:pt x="76" y="121"/>
                    </a:lnTo>
                    <a:lnTo>
                      <a:pt x="104" y="106"/>
                    </a:lnTo>
                    <a:lnTo>
                      <a:pt x="131" y="93"/>
                    </a:lnTo>
                    <a:lnTo>
                      <a:pt x="159" y="81"/>
                    </a:lnTo>
                    <a:lnTo>
                      <a:pt x="188" y="69"/>
                    </a:lnTo>
                    <a:lnTo>
                      <a:pt x="216" y="60"/>
                    </a:lnTo>
                    <a:lnTo>
                      <a:pt x="245" y="50"/>
                    </a:lnTo>
                    <a:lnTo>
                      <a:pt x="276" y="42"/>
                    </a:lnTo>
                    <a:lnTo>
                      <a:pt x="306" y="35"/>
                    </a:lnTo>
                    <a:lnTo>
                      <a:pt x="337" y="28"/>
                    </a:lnTo>
                    <a:lnTo>
                      <a:pt x="368" y="24"/>
                    </a:lnTo>
                    <a:lnTo>
                      <a:pt x="400" y="20"/>
                    </a:lnTo>
                    <a:lnTo>
                      <a:pt x="432" y="18"/>
                    </a:lnTo>
                    <a:lnTo>
                      <a:pt x="464" y="16"/>
                    </a:lnTo>
                    <a:lnTo>
                      <a:pt x="455" y="0"/>
                    </a:lnTo>
                    <a:close/>
                    <a:moveTo>
                      <a:pt x="684" y="1719"/>
                    </a:moveTo>
                    <a:lnTo>
                      <a:pt x="706" y="1714"/>
                    </a:lnTo>
                    <a:lnTo>
                      <a:pt x="728" y="1707"/>
                    </a:lnTo>
                    <a:lnTo>
                      <a:pt x="750" y="1701"/>
                    </a:lnTo>
                    <a:lnTo>
                      <a:pt x="772" y="1694"/>
                    </a:lnTo>
                    <a:lnTo>
                      <a:pt x="794" y="1685"/>
                    </a:lnTo>
                    <a:lnTo>
                      <a:pt x="815" y="1677"/>
                    </a:lnTo>
                    <a:lnTo>
                      <a:pt x="836" y="1668"/>
                    </a:lnTo>
                    <a:lnTo>
                      <a:pt x="857" y="1659"/>
                    </a:lnTo>
                    <a:lnTo>
                      <a:pt x="877" y="1649"/>
                    </a:lnTo>
                    <a:lnTo>
                      <a:pt x="897" y="1639"/>
                    </a:lnTo>
                    <a:lnTo>
                      <a:pt x="917" y="1627"/>
                    </a:lnTo>
                    <a:lnTo>
                      <a:pt x="937" y="1616"/>
                    </a:lnTo>
                    <a:lnTo>
                      <a:pt x="956" y="1604"/>
                    </a:lnTo>
                    <a:lnTo>
                      <a:pt x="975" y="1592"/>
                    </a:lnTo>
                    <a:lnTo>
                      <a:pt x="994" y="1579"/>
                    </a:lnTo>
                    <a:lnTo>
                      <a:pt x="1012" y="1565"/>
                    </a:lnTo>
                    <a:lnTo>
                      <a:pt x="1030" y="1552"/>
                    </a:lnTo>
                    <a:lnTo>
                      <a:pt x="1046" y="1538"/>
                    </a:lnTo>
                    <a:lnTo>
                      <a:pt x="1064" y="1523"/>
                    </a:lnTo>
                    <a:lnTo>
                      <a:pt x="1081" y="1508"/>
                    </a:lnTo>
                    <a:lnTo>
                      <a:pt x="1097" y="1493"/>
                    </a:lnTo>
                    <a:lnTo>
                      <a:pt x="1113" y="1476"/>
                    </a:lnTo>
                    <a:lnTo>
                      <a:pt x="1128" y="1460"/>
                    </a:lnTo>
                    <a:lnTo>
                      <a:pt x="1143" y="1444"/>
                    </a:lnTo>
                    <a:lnTo>
                      <a:pt x="1158" y="1427"/>
                    </a:lnTo>
                    <a:lnTo>
                      <a:pt x="1173" y="1409"/>
                    </a:lnTo>
                    <a:lnTo>
                      <a:pt x="1186" y="1391"/>
                    </a:lnTo>
                    <a:lnTo>
                      <a:pt x="1199" y="1373"/>
                    </a:lnTo>
                    <a:lnTo>
                      <a:pt x="1211" y="1354"/>
                    </a:lnTo>
                    <a:lnTo>
                      <a:pt x="1224" y="1336"/>
                    </a:lnTo>
                    <a:lnTo>
                      <a:pt x="1236" y="1317"/>
                    </a:lnTo>
                    <a:lnTo>
                      <a:pt x="1247" y="1297"/>
                    </a:lnTo>
                    <a:lnTo>
                      <a:pt x="1243" y="1287"/>
                    </a:lnTo>
                    <a:lnTo>
                      <a:pt x="1237" y="1282"/>
                    </a:lnTo>
                    <a:lnTo>
                      <a:pt x="1225" y="1302"/>
                    </a:lnTo>
                    <a:lnTo>
                      <a:pt x="1214" y="1321"/>
                    </a:lnTo>
                    <a:lnTo>
                      <a:pt x="1201" y="1340"/>
                    </a:lnTo>
                    <a:lnTo>
                      <a:pt x="1188" y="1359"/>
                    </a:lnTo>
                    <a:lnTo>
                      <a:pt x="1176" y="1378"/>
                    </a:lnTo>
                    <a:lnTo>
                      <a:pt x="1162" y="1395"/>
                    </a:lnTo>
                    <a:lnTo>
                      <a:pt x="1147" y="1413"/>
                    </a:lnTo>
                    <a:lnTo>
                      <a:pt x="1133" y="1430"/>
                    </a:lnTo>
                    <a:lnTo>
                      <a:pt x="1118" y="1447"/>
                    </a:lnTo>
                    <a:lnTo>
                      <a:pt x="1102" y="1464"/>
                    </a:lnTo>
                    <a:lnTo>
                      <a:pt x="1086" y="1479"/>
                    </a:lnTo>
                    <a:lnTo>
                      <a:pt x="1070" y="1495"/>
                    </a:lnTo>
                    <a:lnTo>
                      <a:pt x="1053" y="1510"/>
                    </a:lnTo>
                    <a:lnTo>
                      <a:pt x="1036" y="1525"/>
                    </a:lnTo>
                    <a:lnTo>
                      <a:pt x="1018" y="1539"/>
                    </a:lnTo>
                    <a:lnTo>
                      <a:pt x="1000" y="1553"/>
                    </a:lnTo>
                    <a:lnTo>
                      <a:pt x="982" y="1567"/>
                    </a:lnTo>
                    <a:lnTo>
                      <a:pt x="963" y="1579"/>
                    </a:lnTo>
                    <a:lnTo>
                      <a:pt x="944" y="1592"/>
                    </a:lnTo>
                    <a:lnTo>
                      <a:pt x="926" y="1603"/>
                    </a:lnTo>
                    <a:lnTo>
                      <a:pt x="906" y="1615"/>
                    </a:lnTo>
                    <a:lnTo>
                      <a:pt x="886" y="1625"/>
                    </a:lnTo>
                    <a:lnTo>
                      <a:pt x="866" y="1636"/>
                    </a:lnTo>
                    <a:lnTo>
                      <a:pt x="845" y="1646"/>
                    </a:lnTo>
                    <a:lnTo>
                      <a:pt x="824" y="1656"/>
                    </a:lnTo>
                    <a:lnTo>
                      <a:pt x="803" y="1664"/>
                    </a:lnTo>
                    <a:lnTo>
                      <a:pt x="781" y="1673"/>
                    </a:lnTo>
                    <a:lnTo>
                      <a:pt x="759" y="1680"/>
                    </a:lnTo>
                    <a:lnTo>
                      <a:pt x="737" y="1687"/>
                    </a:lnTo>
                    <a:lnTo>
                      <a:pt x="714" y="1694"/>
                    </a:lnTo>
                    <a:lnTo>
                      <a:pt x="692" y="1699"/>
                    </a:lnTo>
                    <a:lnTo>
                      <a:pt x="669" y="1704"/>
                    </a:lnTo>
                    <a:lnTo>
                      <a:pt x="684" y="171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62600" y="2424240"/>
                <a:ext cx="395280" cy="541080"/>
              </a:xfrm>
              <a:custGeom>
                <a:avLst/>
                <a:gdLst/>
                <a:ahLst/>
                <a:rect l="l" t="t" r="r" b="b"/>
                <a:pathLst>
                  <a:path w="1243" h="1704">
                    <a:moveTo>
                      <a:pt x="460" y="0"/>
                    </a:moveTo>
                    <a:lnTo>
                      <a:pt x="427" y="2"/>
                    </a:lnTo>
                    <a:lnTo>
                      <a:pt x="396" y="6"/>
                    </a:lnTo>
                    <a:lnTo>
                      <a:pt x="365" y="9"/>
                    </a:lnTo>
                    <a:lnTo>
                      <a:pt x="334" y="14"/>
                    </a:lnTo>
                    <a:lnTo>
                      <a:pt x="303" y="20"/>
                    </a:lnTo>
                    <a:lnTo>
                      <a:pt x="274" y="27"/>
                    </a:lnTo>
                    <a:lnTo>
                      <a:pt x="244" y="35"/>
                    </a:lnTo>
                    <a:lnTo>
                      <a:pt x="215" y="44"/>
                    </a:lnTo>
                    <a:lnTo>
                      <a:pt x="186" y="55"/>
                    </a:lnTo>
                    <a:lnTo>
                      <a:pt x="158" y="65"/>
                    </a:lnTo>
                    <a:lnTo>
                      <a:pt x="130" y="78"/>
                    </a:lnTo>
                    <a:lnTo>
                      <a:pt x="103" y="91"/>
                    </a:lnTo>
                    <a:lnTo>
                      <a:pt x="76" y="104"/>
                    </a:lnTo>
                    <a:lnTo>
                      <a:pt x="50" y="119"/>
                    </a:lnTo>
                    <a:lnTo>
                      <a:pt x="25" y="135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71"/>
                    </a:lnTo>
                    <a:lnTo>
                      <a:pt x="25" y="155"/>
                    </a:lnTo>
                    <a:lnTo>
                      <a:pt x="51" y="138"/>
                    </a:lnTo>
                    <a:lnTo>
                      <a:pt x="77" y="123"/>
                    </a:lnTo>
                    <a:lnTo>
                      <a:pt x="105" y="108"/>
                    </a:lnTo>
                    <a:lnTo>
                      <a:pt x="132" y="95"/>
                    </a:lnTo>
                    <a:lnTo>
                      <a:pt x="160" y="82"/>
                    </a:lnTo>
                    <a:lnTo>
                      <a:pt x="189" y="71"/>
                    </a:lnTo>
                    <a:lnTo>
                      <a:pt x="218" y="61"/>
                    </a:lnTo>
                    <a:lnTo>
                      <a:pt x="248" y="52"/>
                    </a:lnTo>
                    <a:lnTo>
                      <a:pt x="278" y="43"/>
                    </a:lnTo>
                    <a:lnTo>
                      <a:pt x="310" y="36"/>
                    </a:lnTo>
                    <a:lnTo>
                      <a:pt x="340" y="30"/>
                    </a:lnTo>
                    <a:lnTo>
                      <a:pt x="372" y="24"/>
                    </a:lnTo>
                    <a:lnTo>
                      <a:pt x="403" y="21"/>
                    </a:lnTo>
                    <a:lnTo>
                      <a:pt x="436" y="18"/>
                    </a:lnTo>
                    <a:lnTo>
                      <a:pt x="468" y="17"/>
                    </a:lnTo>
                    <a:lnTo>
                      <a:pt x="460" y="0"/>
                    </a:lnTo>
                    <a:close/>
                    <a:moveTo>
                      <a:pt x="676" y="1704"/>
                    </a:moveTo>
                    <a:lnTo>
                      <a:pt x="699" y="1699"/>
                    </a:lnTo>
                    <a:lnTo>
                      <a:pt x="722" y="1693"/>
                    </a:lnTo>
                    <a:lnTo>
                      <a:pt x="744" y="1687"/>
                    </a:lnTo>
                    <a:lnTo>
                      <a:pt x="766" y="1679"/>
                    </a:lnTo>
                    <a:lnTo>
                      <a:pt x="788" y="1672"/>
                    </a:lnTo>
                    <a:lnTo>
                      <a:pt x="809" y="1663"/>
                    </a:lnTo>
                    <a:lnTo>
                      <a:pt x="830" y="1655"/>
                    </a:lnTo>
                    <a:lnTo>
                      <a:pt x="851" y="1646"/>
                    </a:lnTo>
                    <a:lnTo>
                      <a:pt x="872" y="1635"/>
                    </a:lnTo>
                    <a:lnTo>
                      <a:pt x="892" y="1625"/>
                    </a:lnTo>
                    <a:lnTo>
                      <a:pt x="912" y="1614"/>
                    </a:lnTo>
                    <a:lnTo>
                      <a:pt x="932" y="1603"/>
                    </a:lnTo>
                    <a:lnTo>
                      <a:pt x="951" y="1591"/>
                    </a:lnTo>
                    <a:lnTo>
                      <a:pt x="970" y="1578"/>
                    </a:lnTo>
                    <a:lnTo>
                      <a:pt x="989" y="1565"/>
                    </a:lnTo>
                    <a:lnTo>
                      <a:pt x="1007" y="1552"/>
                    </a:lnTo>
                    <a:lnTo>
                      <a:pt x="1024" y="1539"/>
                    </a:lnTo>
                    <a:lnTo>
                      <a:pt x="1042" y="1524"/>
                    </a:lnTo>
                    <a:lnTo>
                      <a:pt x="1059" y="1509"/>
                    </a:lnTo>
                    <a:lnTo>
                      <a:pt x="1076" y="1493"/>
                    </a:lnTo>
                    <a:lnTo>
                      <a:pt x="1093" y="1479"/>
                    </a:lnTo>
                    <a:lnTo>
                      <a:pt x="1108" y="1462"/>
                    </a:lnTo>
                    <a:lnTo>
                      <a:pt x="1124" y="1446"/>
                    </a:lnTo>
                    <a:lnTo>
                      <a:pt x="1139" y="1428"/>
                    </a:lnTo>
                    <a:lnTo>
                      <a:pt x="1154" y="1411"/>
                    </a:lnTo>
                    <a:lnTo>
                      <a:pt x="1167" y="1394"/>
                    </a:lnTo>
                    <a:lnTo>
                      <a:pt x="1182" y="1376"/>
                    </a:lnTo>
                    <a:lnTo>
                      <a:pt x="1195" y="1358"/>
                    </a:lnTo>
                    <a:lnTo>
                      <a:pt x="1207" y="1339"/>
                    </a:lnTo>
                    <a:lnTo>
                      <a:pt x="1220" y="1320"/>
                    </a:lnTo>
                    <a:lnTo>
                      <a:pt x="1231" y="1300"/>
                    </a:lnTo>
                    <a:lnTo>
                      <a:pt x="1243" y="1280"/>
                    </a:lnTo>
                    <a:lnTo>
                      <a:pt x="1230" y="1269"/>
                    </a:lnTo>
                    <a:lnTo>
                      <a:pt x="1219" y="1289"/>
                    </a:lnTo>
                    <a:lnTo>
                      <a:pt x="1207" y="1308"/>
                    </a:lnTo>
                    <a:lnTo>
                      <a:pt x="1196" y="1327"/>
                    </a:lnTo>
                    <a:lnTo>
                      <a:pt x="1183" y="1346"/>
                    </a:lnTo>
                    <a:lnTo>
                      <a:pt x="1169" y="1364"/>
                    </a:lnTo>
                    <a:lnTo>
                      <a:pt x="1156" y="1382"/>
                    </a:lnTo>
                    <a:lnTo>
                      <a:pt x="1141" y="1400"/>
                    </a:lnTo>
                    <a:lnTo>
                      <a:pt x="1126" y="1417"/>
                    </a:lnTo>
                    <a:lnTo>
                      <a:pt x="1112" y="1435"/>
                    </a:lnTo>
                    <a:lnTo>
                      <a:pt x="1096" y="1450"/>
                    </a:lnTo>
                    <a:lnTo>
                      <a:pt x="1080" y="1467"/>
                    </a:lnTo>
                    <a:lnTo>
                      <a:pt x="1064" y="1482"/>
                    </a:lnTo>
                    <a:lnTo>
                      <a:pt x="1047" y="1498"/>
                    </a:lnTo>
                    <a:lnTo>
                      <a:pt x="1030" y="1512"/>
                    </a:lnTo>
                    <a:lnTo>
                      <a:pt x="1013" y="1527"/>
                    </a:lnTo>
                    <a:lnTo>
                      <a:pt x="995" y="1541"/>
                    </a:lnTo>
                    <a:lnTo>
                      <a:pt x="976" y="1553"/>
                    </a:lnTo>
                    <a:lnTo>
                      <a:pt x="957" y="1567"/>
                    </a:lnTo>
                    <a:lnTo>
                      <a:pt x="938" y="1578"/>
                    </a:lnTo>
                    <a:lnTo>
                      <a:pt x="919" y="1591"/>
                    </a:lnTo>
                    <a:lnTo>
                      <a:pt x="899" y="1602"/>
                    </a:lnTo>
                    <a:lnTo>
                      <a:pt x="879" y="1613"/>
                    </a:lnTo>
                    <a:lnTo>
                      <a:pt x="858" y="1624"/>
                    </a:lnTo>
                    <a:lnTo>
                      <a:pt x="838" y="1633"/>
                    </a:lnTo>
                    <a:lnTo>
                      <a:pt x="817" y="1642"/>
                    </a:lnTo>
                    <a:lnTo>
                      <a:pt x="795" y="1651"/>
                    </a:lnTo>
                    <a:lnTo>
                      <a:pt x="774" y="1659"/>
                    </a:lnTo>
                    <a:lnTo>
                      <a:pt x="752" y="1667"/>
                    </a:lnTo>
                    <a:lnTo>
                      <a:pt x="730" y="1673"/>
                    </a:lnTo>
                    <a:lnTo>
                      <a:pt x="708" y="1679"/>
                    </a:lnTo>
                    <a:lnTo>
                      <a:pt x="685" y="1686"/>
                    </a:lnTo>
                    <a:lnTo>
                      <a:pt x="662" y="1691"/>
                    </a:lnTo>
                    <a:lnTo>
                      <a:pt x="676" y="1704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62600" y="2427120"/>
                <a:ext cx="393840" cy="535320"/>
              </a:xfrm>
              <a:custGeom>
                <a:avLst/>
                <a:gdLst/>
                <a:ahLst/>
                <a:rect l="l" t="t" r="r" b="b"/>
                <a:pathLst>
                  <a:path w="1237" h="1688">
                    <a:moveTo>
                      <a:pt x="464" y="0"/>
                    </a:moveTo>
                    <a:lnTo>
                      <a:pt x="432" y="2"/>
                    </a:lnTo>
                    <a:lnTo>
                      <a:pt x="400" y="4"/>
                    </a:lnTo>
                    <a:lnTo>
                      <a:pt x="368" y="8"/>
                    </a:lnTo>
                    <a:lnTo>
                      <a:pt x="337" y="12"/>
                    </a:lnTo>
                    <a:lnTo>
                      <a:pt x="306" y="19"/>
                    </a:lnTo>
                    <a:lnTo>
                      <a:pt x="276" y="26"/>
                    </a:lnTo>
                    <a:lnTo>
                      <a:pt x="245" y="34"/>
                    </a:lnTo>
                    <a:lnTo>
                      <a:pt x="216" y="44"/>
                    </a:lnTo>
                    <a:lnTo>
                      <a:pt x="188" y="53"/>
                    </a:lnTo>
                    <a:lnTo>
                      <a:pt x="159" y="65"/>
                    </a:lnTo>
                    <a:lnTo>
                      <a:pt x="131" y="77"/>
                    </a:lnTo>
                    <a:lnTo>
                      <a:pt x="104" y="90"/>
                    </a:lnTo>
                    <a:lnTo>
                      <a:pt x="76" y="105"/>
                    </a:lnTo>
                    <a:lnTo>
                      <a:pt x="50" y="119"/>
                    </a:lnTo>
                    <a:lnTo>
                      <a:pt x="25" y="136"/>
                    </a:lnTo>
                    <a:lnTo>
                      <a:pt x="0" y="153"/>
                    </a:lnTo>
                    <a:lnTo>
                      <a:pt x="0" y="173"/>
                    </a:lnTo>
                    <a:lnTo>
                      <a:pt x="25" y="155"/>
                    </a:lnTo>
                    <a:lnTo>
                      <a:pt x="51" y="139"/>
                    </a:lnTo>
                    <a:lnTo>
                      <a:pt x="77" y="124"/>
                    </a:lnTo>
                    <a:lnTo>
                      <a:pt x="105" y="109"/>
                    </a:lnTo>
                    <a:lnTo>
                      <a:pt x="133" y="95"/>
                    </a:lnTo>
                    <a:lnTo>
                      <a:pt x="161" y="83"/>
                    </a:lnTo>
                    <a:lnTo>
                      <a:pt x="191" y="71"/>
                    </a:lnTo>
                    <a:lnTo>
                      <a:pt x="220" y="60"/>
                    </a:lnTo>
                    <a:lnTo>
                      <a:pt x="250" y="50"/>
                    </a:lnTo>
                    <a:lnTo>
                      <a:pt x="281" y="42"/>
                    </a:lnTo>
                    <a:lnTo>
                      <a:pt x="312" y="34"/>
                    </a:lnTo>
                    <a:lnTo>
                      <a:pt x="343" y="29"/>
                    </a:lnTo>
                    <a:lnTo>
                      <a:pt x="375" y="24"/>
                    </a:lnTo>
                    <a:lnTo>
                      <a:pt x="407" y="20"/>
                    </a:lnTo>
                    <a:lnTo>
                      <a:pt x="440" y="18"/>
                    </a:lnTo>
                    <a:lnTo>
                      <a:pt x="473" y="16"/>
                    </a:lnTo>
                    <a:lnTo>
                      <a:pt x="464" y="0"/>
                    </a:lnTo>
                    <a:close/>
                    <a:moveTo>
                      <a:pt x="669" y="1688"/>
                    </a:moveTo>
                    <a:lnTo>
                      <a:pt x="692" y="1683"/>
                    </a:lnTo>
                    <a:lnTo>
                      <a:pt x="714" y="1678"/>
                    </a:lnTo>
                    <a:lnTo>
                      <a:pt x="737" y="1671"/>
                    </a:lnTo>
                    <a:lnTo>
                      <a:pt x="759" y="1664"/>
                    </a:lnTo>
                    <a:lnTo>
                      <a:pt x="781" y="1657"/>
                    </a:lnTo>
                    <a:lnTo>
                      <a:pt x="803" y="1648"/>
                    </a:lnTo>
                    <a:lnTo>
                      <a:pt x="824" y="1640"/>
                    </a:lnTo>
                    <a:lnTo>
                      <a:pt x="845" y="1630"/>
                    </a:lnTo>
                    <a:lnTo>
                      <a:pt x="866" y="1620"/>
                    </a:lnTo>
                    <a:lnTo>
                      <a:pt x="886" y="1609"/>
                    </a:lnTo>
                    <a:lnTo>
                      <a:pt x="906" y="1599"/>
                    </a:lnTo>
                    <a:lnTo>
                      <a:pt x="926" y="1587"/>
                    </a:lnTo>
                    <a:lnTo>
                      <a:pt x="944" y="1576"/>
                    </a:lnTo>
                    <a:lnTo>
                      <a:pt x="963" y="1563"/>
                    </a:lnTo>
                    <a:lnTo>
                      <a:pt x="982" y="1551"/>
                    </a:lnTo>
                    <a:lnTo>
                      <a:pt x="1000" y="1537"/>
                    </a:lnTo>
                    <a:lnTo>
                      <a:pt x="1018" y="1523"/>
                    </a:lnTo>
                    <a:lnTo>
                      <a:pt x="1036" y="1509"/>
                    </a:lnTo>
                    <a:lnTo>
                      <a:pt x="1053" y="1494"/>
                    </a:lnTo>
                    <a:lnTo>
                      <a:pt x="1070" y="1479"/>
                    </a:lnTo>
                    <a:lnTo>
                      <a:pt x="1086" y="1463"/>
                    </a:lnTo>
                    <a:lnTo>
                      <a:pt x="1102" y="1448"/>
                    </a:lnTo>
                    <a:lnTo>
                      <a:pt x="1118" y="1431"/>
                    </a:lnTo>
                    <a:lnTo>
                      <a:pt x="1133" y="1414"/>
                    </a:lnTo>
                    <a:lnTo>
                      <a:pt x="1147" y="1397"/>
                    </a:lnTo>
                    <a:lnTo>
                      <a:pt x="1162" y="1379"/>
                    </a:lnTo>
                    <a:lnTo>
                      <a:pt x="1176" y="1362"/>
                    </a:lnTo>
                    <a:lnTo>
                      <a:pt x="1188" y="1343"/>
                    </a:lnTo>
                    <a:lnTo>
                      <a:pt x="1201" y="1324"/>
                    </a:lnTo>
                    <a:lnTo>
                      <a:pt x="1214" y="1305"/>
                    </a:lnTo>
                    <a:lnTo>
                      <a:pt x="1225" y="1286"/>
                    </a:lnTo>
                    <a:lnTo>
                      <a:pt x="1237" y="1266"/>
                    </a:lnTo>
                    <a:lnTo>
                      <a:pt x="1224" y="1253"/>
                    </a:lnTo>
                    <a:lnTo>
                      <a:pt x="1213" y="1273"/>
                    </a:lnTo>
                    <a:lnTo>
                      <a:pt x="1201" y="1293"/>
                    </a:lnTo>
                    <a:lnTo>
                      <a:pt x="1189" y="1312"/>
                    </a:lnTo>
                    <a:lnTo>
                      <a:pt x="1177" y="1331"/>
                    </a:lnTo>
                    <a:lnTo>
                      <a:pt x="1163" y="1350"/>
                    </a:lnTo>
                    <a:lnTo>
                      <a:pt x="1149" y="1368"/>
                    </a:lnTo>
                    <a:lnTo>
                      <a:pt x="1136" y="1386"/>
                    </a:lnTo>
                    <a:lnTo>
                      <a:pt x="1121" y="1402"/>
                    </a:lnTo>
                    <a:lnTo>
                      <a:pt x="1105" y="1419"/>
                    </a:lnTo>
                    <a:lnTo>
                      <a:pt x="1091" y="1436"/>
                    </a:lnTo>
                    <a:lnTo>
                      <a:pt x="1074" y="1452"/>
                    </a:lnTo>
                    <a:lnTo>
                      <a:pt x="1058" y="1468"/>
                    </a:lnTo>
                    <a:lnTo>
                      <a:pt x="1041" y="1482"/>
                    </a:lnTo>
                    <a:lnTo>
                      <a:pt x="1023" y="1497"/>
                    </a:lnTo>
                    <a:lnTo>
                      <a:pt x="1007" y="1512"/>
                    </a:lnTo>
                    <a:lnTo>
                      <a:pt x="989" y="1525"/>
                    </a:lnTo>
                    <a:lnTo>
                      <a:pt x="970" y="1539"/>
                    </a:lnTo>
                    <a:lnTo>
                      <a:pt x="951" y="1552"/>
                    </a:lnTo>
                    <a:lnTo>
                      <a:pt x="932" y="1564"/>
                    </a:lnTo>
                    <a:lnTo>
                      <a:pt x="913" y="1576"/>
                    </a:lnTo>
                    <a:lnTo>
                      <a:pt x="893" y="1587"/>
                    </a:lnTo>
                    <a:lnTo>
                      <a:pt x="873" y="1598"/>
                    </a:lnTo>
                    <a:lnTo>
                      <a:pt x="852" y="1608"/>
                    </a:lnTo>
                    <a:lnTo>
                      <a:pt x="831" y="1618"/>
                    </a:lnTo>
                    <a:lnTo>
                      <a:pt x="810" y="1627"/>
                    </a:lnTo>
                    <a:lnTo>
                      <a:pt x="789" y="1636"/>
                    </a:lnTo>
                    <a:lnTo>
                      <a:pt x="767" y="1643"/>
                    </a:lnTo>
                    <a:lnTo>
                      <a:pt x="746" y="1650"/>
                    </a:lnTo>
                    <a:lnTo>
                      <a:pt x="723" y="1658"/>
                    </a:lnTo>
                    <a:lnTo>
                      <a:pt x="701" y="1664"/>
                    </a:lnTo>
                    <a:lnTo>
                      <a:pt x="677" y="1669"/>
                    </a:lnTo>
                    <a:lnTo>
                      <a:pt x="655" y="1674"/>
                    </a:lnTo>
                    <a:lnTo>
                      <a:pt x="669" y="168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862600" y="2428920"/>
                <a:ext cx="390600" cy="531720"/>
              </a:xfrm>
              <a:custGeom>
                <a:avLst/>
                <a:gdLst/>
                <a:ahLst/>
                <a:rect l="l" t="t" r="r" b="b"/>
                <a:pathLst>
                  <a:path w="1230" h="1674">
                    <a:moveTo>
                      <a:pt x="468" y="0"/>
                    </a:moveTo>
                    <a:lnTo>
                      <a:pt x="436" y="1"/>
                    </a:lnTo>
                    <a:lnTo>
                      <a:pt x="403" y="4"/>
                    </a:lnTo>
                    <a:lnTo>
                      <a:pt x="372" y="7"/>
                    </a:lnTo>
                    <a:lnTo>
                      <a:pt x="340" y="13"/>
                    </a:lnTo>
                    <a:lnTo>
                      <a:pt x="310" y="19"/>
                    </a:lnTo>
                    <a:lnTo>
                      <a:pt x="278" y="26"/>
                    </a:lnTo>
                    <a:lnTo>
                      <a:pt x="248" y="35"/>
                    </a:lnTo>
                    <a:lnTo>
                      <a:pt x="218" y="44"/>
                    </a:lnTo>
                    <a:lnTo>
                      <a:pt x="189" y="54"/>
                    </a:lnTo>
                    <a:lnTo>
                      <a:pt x="160" y="65"/>
                    </a:lnTo>
                    <a:lnTo>
                      <a:pt x="132" y="78"/>
                    </a:lnTo>
                    <a:lnTo>
                      <a:pt x="105" y="91"/>
                    </a:lnTo>
                    <a:lnTo>
                      <a:pt x="77" y="106"/>
                    </a:lnTo>
                    <a:lnTo>
                      <a:pt x="51" y="121"/>
                    </a:lnTo>
                    <a:lnTo>
                      <a:pt x="25" y="138"/>
                    </a:lnTo>
                    <a:lnTo>
                      <a:pt x="0" y="154"/>
                    </a:lnTo>
                    <a:lnTo>
                      <a:pt x="0" y="175"/>
                    </a:lnTo>
                    <a:lnTo>
                      <a:pt x="25" y="158"/>
                    </a:lnTo>
                    <a:lnTo>
                      <a:pt x="51" y="141"/>
                    </a:lnTo>
                    <a:lnTo>
                      <a:pt x="78" y="125"/>
                    </a:lnTo>
                    <a:lnTo>
                      <a:pt x="106" y="109"/>
                    </a:lnTo>
                    <a:lnTo>
                      <a:pt x="134" y="96"/>
                    </a:lnTo>
                    <a:lnTo>
                      <a:pt x="162" y="83"/>
                    </a:lnTo>
                    <a:lnTo>
                      <a:pt x="192" y="71"/>
                    </a:lnTo>
                    <a:lnTo>
                      <a:pt x="222" y="60"/>
                    </a:lnTo>
                    <a:lnTo>
                      <a:pt x="252" y="50"/>
                    </a:lnTo>
                    <a:lnTo>
                      <a:pt x="283" y="42"/>
                    </a:lnTo>
                    <a:lnTo>
                      <a:pt x="315" y="35"/>
                    </a:lnTo>
                    <a:lnTo>
                      <a:pt x="346" y="28"/>
                    </a:lnTo>
                    <a:lnTo>
                      <a:pt x="379" y="24"/>
                    </a:lnTo>
                    <a:lnTo>
                      <a:pt x="412" y="20"/>
                    </a:lnTo>
                    <a:lnTo>
                      <a:pt x="444" y="18"/>
                    </a:lnTo>
                    <a:lnTo>
                      <a:pt x="478" y="17"/>
                    </a:lnTo>
                    <a:lnTo>
                      <a:pt x="468" y="0"/>
                    </a:lnTo>
                    <a:close/>
                    <a:moveTo>
                      <a:pt x="662" y="1674"/>
                    </a:moveTo>
                    <a:lnTo>
                      <a:pt x="685" y="1669"/>
                    </a:lnTo>
                    <a:lnTo>
                      <a:pt x="708" y="1662"/>
                    </a:lnTo>
                    <a:lnTo>
                      <a:pt x="730" y="1656"/>
                    </a:lnTo>
                    <a:lnTo>
                      <a:pt x="752" y="1650"/>
                    </a:lnTo>
                    <a:lnTo>
                      <a:pt x="774" y="1642"/>
                    </a:lnTo>
                    <a:lnTo>
                      <a:pt x="795" y="1634"/>
                    </a:lnTo>
                    <a:lnTo>
                      <a:pt x="817" y="1625"/>
                    </a:lnTo>
                    <a:lnTo>
                      <a:pt x="838" y="1616"/>
                    </a:lnTo>
                    <a:lnTo>
                      <a:pt x="858" y="1607"/>
                    </a:lnTo>
                    <a:lnTo>
                      <a:pt x="879" y="1596"/>
                    </a:lnTo>
                    <a:lnTo>
                      <a:pt x="899" y="1585"/>
                    </a:lnTo>
                    <a:lnTo>
                      <a:pt x="919" y="1574"/>
                    </a:lnTo>
                    <a:lnTo>
                      <a:pt x="938" y="1561"/>
                    </a:lnTo>
                    <a:lnTo>
                      <a:pt x="957" y="1550"/>
                    </a:lnTo>
                    <a:lnTo>
                      <a:pt x="976" y="1536"/>
                    </a:lnTo>
                    <a:lnTo>
                      <a:pt x="995" y="1524"/>
                    </a:lnTo>
                    <a:lnTo>
                      <a:pt x="1013" y="1510"/>
                    </a:lnTo>
                    <a:lnTo>
                      <a:pt x="1030" y="1495"/>
                    </a:lnTo>
                    <a:lnTo>
                      <a:pt x="1047" y="1481"/>
                    </a:lnTo>
                    <a:lnTo>
                      <a:pt x="1064" y="1465"/>
                    </a:lnTo>
                    <a:lnTo>
                      <a:pt x="1080" y="1450"/>
                    </a:lnTo>
                    <a:lnTo>
                      <a:pt x="1096" y="1433"/>
                    </a:lnTo>
                    <a:lnTo>
                      <a:pt x="1112" y="1418"/>
                    </a:lnTo>
                    <a:lnTo>
                      <a:pt x="1126" y="1400"/>
                    </a:lnTo>
                    <a:lnTo>
                      <a:pt x="1141" y="1383"/>
                    </a:lnTo>
                    <a:lnTo>
                      <a:pt x="1156" y="1365"/>
                    </a:lnTo>
                    <a:lnTo>
                      <a:pt x="1169" y="1347"/>
                    </a:lnTo>
                    <a:lnTo>
                      <a:pt x="1183" y="1329"/>
                    </a:lnTo>
                    <a:lnTo>
                      <a:pt x="1196" y="1310"/>
                    </a:lnTo>
                    <a:lnTo>
                      <a:pt x="1207" y="1291"/>
                    </a:lnTo>
                    <a:lnTo>
                      <a:pt x="1219" y="1272"/>
                    </a:lnTo>
                    <a:lnTo>
                      <a:pt x="1230" y="1252"/>
                    </a:lnTo>
                    <a:lnTo>
                      <a:pt x="1218" y="1240"/>
                    </a:lnTo>
                    <a:lnTo>
                      <a:pt x="1207" y="1260"/>
                    </a:lnTo>
                    <a:lnTo>
                      <a:pt x="1195" y="1279"/>
                    </a:lnTo>
                    <a:lnTo>
                      <a:pt x="1183" y="1299"/>
                    </a:lnTo>
                    <a:lnTo>
                      <a:pt x="1170" y="1317"/>
                    </a:lnTo>
                    <a:lnTo>
                      <a:pt x="1157" y="1336"/>
                    </a:lnTo>
                    <a:lnTo>
                      <a:pt x="1143" y="1354"/>
                    </a:lnTo>
                    <a:lnTo>
                      <a:pt x="1129" y="1371"/>
                    </a:lnTo>
                    <a:lnTo>
                      <a:pt x="1115" y="1389"/>
                    </a:lnTo>
                    <a:lnTo>
                      <a:pt x="1099" y="1406"/>
                    </a:lnTo>
                    <a:lnTo>
                      <a:pt x="1084" y="1422"/>
                    </a:lnTo>
                    <a:lnTo>
                      <a:pt x="1067" y="1439"/>
                    </a:lnTo>
                    <a:lnTo>
                      <a:pt x="1052" y="1454"/>
                    </a:lnTo>
                    <a:lnTo>
                      <a:pt x="1035" y="1469"/>
                    </a:lnTo>
                    <a:lnTo>
                      <a:pt x="1017" y="1484"/>
                    </a:lnTo>
                    <a:lnTo>
                      <a:pt x="1000" y="1498"/>
                    </a:lnTo>
                    <a:lnTo>
                      <a:pt x="982" y="1512"/>
                    </a:lnTo>
                    <a:lnTo>
                      <a:pt x="963" y="1525"/>
                    </a:lnTo>
                    <a:lnTo>
                      <a:pt x="944" y="1537"/>
                    </a:lnTo>
                    <a:lnTo>
                      <a:pt x="926" y="1550"/>
                    </a:lnTo>
                    <a:lnTo>
                      <a:pt x="906" y="1561"/>
                    </a:lnTo>
                    <a:lnTo>
                      <a:pt x="886" y="1573"/>
                    </a:lnTo>
                    <a:lnTo>
                      <a:pt x="866" y="1583"/>
                    </a:lnTo>
                    <a:lnTo>
                      <a:pt x="846" y="1594"/>
                    </a:lnTo>
                    <a:lnTo>
                      <a:pt x="825" y="1603"/>
                    </a:lnTo>
                    <a:lnTo>
                      <a:pt x="804" y="1613"/>
                    </a:lnTo>
                    <a:lnTo>
                      <a:pt x="783" y="1621"/>
                    </a:lnTo>
                    <a:lnTo>
                      <a:pt x="761" y="1629"/>
                    </a:lnTo>
                    <a:lnTo>
                      <a:pt x="738" y="1636"/>
                    </a:lnTo>
                    <a:lnTo>
                      <a:pt x="716" y="1643"/>
                    </a:lnTo>
                    <a:lnTo>
                      <a:pt x="693" y="1649"/>
                    </a:lnTo>
                    <a:lnTo>
                      <a:pt x="671" y="1655"/>
                    </a:lnTo>
                    <a:lnTo>
                      <a:pt x="648" y="1659"/>
                    </a:lnTo>
                    <a:lnTo>
                      <a:pt x="662" y="1674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862600" y="2432160"/>
                <a:ext cx="388800" cy="525240"/>
              </a:xfrm>
              <a:custGeom>
                <a:avLst/>
                <a:gdLst/>
                <a:ahLst/>
                <a:rect l="l" t="t" r="r" b="b"/>
                <a:pathLst>
                  <a:path w="1224" h="1658">
                    <a:moveTo>
                      <a:pt x="473" y="0"/>
                    </a:moveTo>
                    <a:lnTo>
                      <a:pt x="440" y="2"/>
                    </a:lnTo>
                    <a:lnTo>
                      <a:pt x="407" y="4"/>
                    </a:lnTo>
                    <a:lnTo>
                      <a:pt x="375" y="8"/>
                    </a:lnTo>
                    <a:lnTo>
                      <a:pt x="343" y="13"/>
                    </a:lnTo>
                    <a:lnTo>
                      <a:pt x="312" y="18"/>
                    </a:lnTo>
                    <a:lnTo>
                      <a:pt x="281" y="26"/>
                    </a:lnTo>
                    <a:lnTo>
                      <a:pt x="250" y="34"/>
                    </a:lnTo>
                    <a:lnTo>
                      <a:pt x="220" y="44"/>
                    </a:lnTo>
                    <a:lnTo>
                      <a:pt x="191" y="55"/>
                    </a:lnTo>
                    <a:lnTo>
                      <a:pt x="161" y="67"/>
                    </a:lnTo>
                    <a:lnTo>
                      <a:pt x="133" y="79"/>
                    </a:lnTo>
                    <a:lnTo>
                      <a:pt x="105" y="93"/>
                    </a:lnTo>
                    <a:lnTo>
                      <a:pt x="77" y="108"/>
                    </a:lnTo>
                    <a:lnTo>
                      <a:pt x="51" y="123"/>
                    </a:lnTo>
                    <a:lnTo>
                      <a:pt x="25" y="139"/>
                    </a:lnTo>
                    <a:lnTo>
                      <a:pt x="0" y="157"/>
                    </a:lnTo>
                    <a:lnTo>
                      <a:pt x="0" y="178"/>
                    </a:lnTo>
                    <a:lnTo>
                      <a:pt x="25" y="159"/>
                    </a:lnTo>
                    <a:lnTo>
                      <a:pt x="52" y="142"/>
                    </a:lnTo>
                    <a:lnTo>
                      <a:pt x="78" y="125"/>
                    </a:lnTo>
                    <a:lnTo>
                      <a:pt x="107" y="111"/>
                    </a:lnTo>
                    <a:lnTo>
                      <a:pt x="135" y="96"/>
                    </a:lnTo>
                    <a:lnTo>
                      <a:pt x="165" y="83"/>
                    </a:lnTo>
                    <a:lnTo>
                      <a:pt x="194" y="71"/>
                    </a:lnTo>
                    <a:lnTo>
                      <a:pt x="224" y="60"/>
                    </a:lnTo>
                    <a:lnTo>
                      <a:pt x="255" y="51"/>
                    </a:lnTo>
                    <a:lnTo>
                      <a:pt x="286" y="41"/>
                    </a:lnTo>
                    <a:lnTo>
                      <a:pt x="318" y="35"/>
                    </a:lnTo>
                    <a:lnTo>
                      <a:pt x="351" y="29"/>
                    </a:lnTo>
                    <a:lnTo>
                      <a:pt x="383" y="24"/>
                    </a:lnTo>
                    <a:lnTo>
                      <a:pt x="416" y="20"/>
                    </a:lnTo>
                    <a:lnTo>
                      <a:pt x="449" y="18"/>
                    </a:lnTo>
                    <a:lnTo>
                      <a:pt x="484" y="17"/>
                    </a:lnTo>
                    <a:lnTo>
                      <a:pt x="480" y="13"/>
                    </a:lnTo>
                    <a:lnTo>
                      <a:pt x="473" y="0"/>
                    </a:lnTo>
                    <a:close/>
                    <a:moveTo>
                      <a:pt x="655" y="1658"/>
                    </a:moveTo>
                    <a:lnTo>
                      <a:pt x="677" y="1653"/>
                    </a:lnTo>
                    <a:lnTo>
                      <a:pt x="701" y="1648"/>
                    </a:lnTo>
                    <a:lnTo>
                      <a:pt x="723" y="1642"/>
                    </a:lnTo>
                    <a:lnTo>
                      <a:pt x="746" y="1634"/>
                    </a:lnTo>
                    <a:lnTo>
                      <a:pt x="767" y="1627"/>
                    </a:lnTo>
                    <a:lnTo>
                      <a:pt x="789" y="1620"/>
                    </a:lnTo>
                    <a:lnTo>
                      <a:pt x="810" y="1611"/>
                    </a:lnTo>
                    <a:lnTo>
                      <a:pt x="831" y="1602"/>
                    </a:lnTo>
                    <a:lnTo>
                      <a:pt x="852" y="1592"/>
                    </a:lnTo>
                    <a:lnTo>
                      <a:pt x="873" y="1582"/>
                    </a:lnTo>
                    <a:lnTo>
                      <a:pt x="893" y="1571"/>
                    </a:lnTo>
                    <a:lnTo>
                      <a:pt x="913" y="1560"/>
                    </a:lnTo>
                    <a:lnTo>
                      <a:pt x="932" y="1548"/>
                    </a:lnTo>
                    <a:lnTo>
                      <a:pt x="951" y="1536"/>
                    </a:lnTo>
                    <a:lnTo>
                      <a:pt x="970" y="1523"/>
                    </a:lnTo>
                    <a:lnTo>
                      <a:pt x="989" y="1509"/>
                    </a:lnTo>
                    <a:lnTo>
                      <a:pt x="1007" y="1496"/>
                    </a:lnTo>
                    <a:lnTo>
                      <a:pt x="1023" y="1481"/>
                    </a:lnTo>
                    <a:lnTo>
                      <a:pt x="1041" y="1466"/>
                    </a:lnTo>
                    <a:lnTo>
                      <a:pt x="1058" y="1452"/>
                    </a:lnTo>
                    <a:lnTo>
                      <a:pt x="1074" y="1436"/>
                    </a:lnTo>
                    <a:lnTo>
                      <a:pt x="1091" y="1420"/>
                    </a:lnTo>
                    <a:lnTo>
                      <a:pt x="1105" y="1403"/>
                    </a:lnTo>
                    <a:lnTo>
                      <a:pt x="1121" y="1386"/>
                    </a:lnTo>
                    <a:lnTo>
                      <a:pt x="1136" y="1370"/>
                    </a:lnTo>
                    <a:lnTo>
                      <a:pt x="1149" y="1352"/>
                    </a:lnTo>
                    <a:lnTo>
                      <a:pt x="1163" y="1334"/>
                    </a:lnTo>
                    <a:lnTo>
                      <a:pt x="1177" y="1315"/>
                    </a:lnTo>
                    <a:lnTo>
                      <a:pt x="1189" y="1296"/>
                    </a:lnTo>
                    <a:lnTo>
                      <a:pt x="1201" y="1277"/>
                    </a:lnTo>
                    <a:lnTo>
                      <a:pt x="1213" y="1257"/>
                    </a:lnTo>
                    <a:lnTo>
                      <a:pt x="1224" y="1237"/>
                    </a:lnTo>
                    <a:lnTo>
                      <a:pt x="1211" y="1226"/>
                    </a:lnTo>
                    <a:lnTo>
                      <a:pt x="1201" y="1246"/>
                    </a:lnTo>
                    <a:lnTo>
                      <a:pt x="1189" y="1266"/>
                    </a:lnTo>
                    <a:lnTo>
                      <a:pt x="1177" y="1285"/>
                    </a:lnTo>
                    <a:lnTo>
                      <a:pt x="1164" y="1304"/>
                    </a:lnTo>
                    <a:lnTo>
                      <a:pt x="1151" y="1322"/>
                    </a:lnTo>
                    <a:lnTo>
                      <a:pt x="1137" y="1340"/>
                    </a:lnTo>
                    <a:lnTo>
                      <a:pt x="1123" y="1358"/>
                    </a:lnTo>
                    <a:lnTo>
                      <a:pt x="1108" y="1375"/>
                    </a:lnTo>
                    <a:lnTo>
                      <a:pt x="1094" y="1392"/>
                    </a:lnTo>
                    <a:lnTo>
                      <a:pt x="1078" y="1409"/>
                    </a:lnTo>
                    <a:lnTo>
                      <a:pt x="1062" y="1424"/>
                    </a:lnTo>
                    <a:lnTo>
                      <a:pt x="1045" y="1440"/>
                    </a:lnTo>
                    <a:lnTo>
                      <a:pt x="1029" y="1456"/>
                    </a:lnTo>
                    <a:lnTo>
                      <a:pt x="1012" y="1470"/>
                    </a:lnTo>
                    <a:lnTo>
                      <a:pt x="994" y="1484"/>
                    </a:lnTo>
                    <a:lnTo>
                      <a:pt x="976" y="1498"/>
                    </a:lnTo>
                    <a:lnTo>
                      <a:pt x="957" y="1511"/>
                    </a:lnTo>
                    <a:lnTo>
                      <a:pt x="938" y="1524"/>
                    </a:lnTo>
                    <a:lnTo>
                      <a:pt x="919" y="1537"/>
                    </a:lnTo>
                    <a:lnTo>
                      <a:pt x="899" y="1548"/>
                    </a:lnTo>
                    <a:lnTo>
                      <a:pt x="879" y="1559"/>
                    </a:lnTo>
                    <a:lnTo>
                      <a:pt x="859" y="1569"/>
                    </a:lnTo>
                    <a:lnTo>
                      <a:pt x="839" y="1580"/>
                    </a:lnTo>
                    <a:lnTo>
                      <a:pt x="818" y="1589"/>
                    </a:lnTo>
                    <a:lnTo>
                      <a:pt x="797" y="1599"/>
                    </a:lnTo>
                    <a:lnTo>
                      <a:pt x="775" y="1607"/>
                    </a:lnTo>
                    <a:lnTo>
                      <a:pt x="753" y="1614"/>
                    </a:lnTo>
                    <a:lnTo>
                      <a:pt x="731" y="1622"/>
                    </a:lnTo>
                    <a:lnTo>
                      <a:pt x="709" y="1628"/>
                    </a:lnTo>
                    <a:lnTo>
                      <a:pt x="687" y="1634"/>
                    </a:lnTo>
                    <a:lnTo>
                      <a:pt x="664" y="1640"/>
                    </a:lnTo>
                    <a:lnTo>
                      <a:pt x="641" y="1644"/>
                    </a:lnTo>
                    <a:lnTo>
                      <a:pt x="655" y="165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62600" y="2435400"/>
                <a:ext cx="387360" cy="520560"/>
              </a:xfrm>
              <a:custGeom>
                <a:avLst/>
                <a:gdLst/>
                <a:ahLst/>
                <a:rect l="l" t="t" r="r" b="b"/>
                <a:pathLst>
                  <a:path w="1218" h="1642">
                    <a:moveTo>
                      <a:pt x="478" y="0"/>
                    </a:moveTo>
                    <a:lnTo>
                      <a:pt x="444" y="1"/>
                    </a:lnTo>
                    <a:lnTo>
                      <a:pt x="412" y="3"/>
                    </a:lnTo>
                    <a:lnTo>
                      <a:pt x="379" y="7"/>
                    </a:lnTo>
                    <a:lnTo>
                      <a:pt x="346" y="11"/>
                    </a:lnTo>
                    <a:lnTo>
                      <a:pt x="315" y="18"/>
                    </a:lnTo>
                    <a:lnTo>
                      <a:pt x="283" y="25"/>
                    </a:lnTo>
                    <a:lnTo>
                      <a:pt x="252" y="33"/>
                    </a:lnTo>
                    <a:lnTo>
                      <a:pt x="222" y="43"/>
                    </a:lnTo>
                    <a:lnTo>
                      <a:pt x="192" y="54"/>
                    </a:lnTo>
                    <a:lnTo>
                      <a:pt x="162" y="66"/>
                    </a:lnTo>
                    <a:lnTo>
                      <a:pt x="134" y="79"/>
                    </a:lnTo>
                    <a:lnTo>
                      <a:pt x="106" y="92"/>
                    </a:lnTo>
                    <a:lnTo>
                      <a:pt x="78" y="108"/>
                    </a:lnTo>
                    <a:lnTo>
                      <a:pt x="51" y="124"/>
                    </a:lnTo>
                    <a:lnTo>
                      <a:pt x="25" y="141"/>
                    </a:lnTo>
                    <a:lnTo>
                      <a:pt x="0" y="158"/>
                    </a:lnTo>
                    <a:lnTo>
                      <a:pt x="0" y="179"/>
                    </a:lnTo>
                    <a:lnTo>
                      <a:pt x="25" y="161"/>
                    </a:lnTo>
                    <a:lnTo>
                      <a:pt x="52" y="143"/>
                    </a:lnTo>
                    <a:lnTo>
                      <a:pt x="79" y="126"/>
                    </a:lnTo>
                    <a:lnTo>
                      <a:pt x="107" y="111"/>
                    </a:lnTo>
                    <a:lnTo>
                      <a:pt x="136" y="96"/>
                    </a:lnTo>
                    <a:lnTo>
                      <a:pt x="166" y="83"/>
                    </a:lnTo>
                    <a:lnTo>
                      <a:pt x="195" y="70"/>
                    </a:lnTo>
                    <a:lnTo>
                      <a:pt x="226" y="60"/>
                    </a:lnTo>
                    <a:lnTo>
                      <a:pt x="257" y="49"/>
                    </a:lnTo>
                    <a:lnTo>
                      <a:pt x="289" y="41"/>
                    </a:lnTo>
                    <a:lnTo>
                      <a:pt x="320" y="33"/>
                    </a:lnTo>
                    <a:lnTo>
                      <a:pt x="353" y="27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88" y="17"/>
                    </a:lnTo>
                    <a:lnTo>
                      <a:pt x="488" y="17"/>
                    </a:lnTo>
                    <a:lnTo>
                      <a:pt x="489" y="17"/>
                    </a:lnTo>
                    <a:lnTo>
                      <a:pt x="489" y="17"/>
                    </a:lnTo>
                    <a:lnTo>
                      <a:pt x="489" y="17"/>
                    </a:lnTo>
                    <a:lnTo>
                      <a:pt x="490" y="17"/>
                    </a:lnTo>
                    <a:lnTo>
                      <a:pt x="490" y="17"/>
                    </a:lnTo>
                    <a:lnTo>
                      <a:pt x="491" y="17"/>
                    </a:lnTo>
                    <a:lnTo>
                      <a:pt x="480" y="4"/>
                    </a:lnTo>
                    <a:lnTo>
                      <a:pt x="478" y="0"/>
                    </a:lnTo>
                    <a:close/>
                    <a:moveTo>
                      <a:pt x="648" y="1642"/>
                    </a:moveTo>
                    <a:lnTo>
                      <a:pt x="671" y="1638"/>
                    </a:lnTo>
                    <a:lnTo>
                      <a:pt x="693" y="1632"/>
                    </a:lnTo>
                    <a:lnTo>
                      <a:pt x="716" y="1626"/>
                    </a:lnTo>
                    <a:lnTo>
                      <a:pt x="738" y="1619"/>
                    </a:lnTo>
                    <a:lnTo>
                      <a:pt x="761" y="1612"/>
                    </a:lnTo>
                    <a:lnTo>
                      <a:pt x="783" y="1604"/>
                    </a:lnTo>
                    <a:lnTo>
                      <a:pt x="804" y="1596"/>
                    </a:lnTo>
                    <a:lnTo>
                      <a:pt x="825" y="1586"/>
                    </a:lnTo>
                    <a:lnTo>
                      <a:pt x="846" y="1577"/>
                    </a:lnTo>
                    <a:lnTo>
                      <a:pt x="866" y="1566"/>
                    </a:lnTo>
                    <a:lnTo>
                      <a:pt x="886" y="1556"/>
                    </a:lnTo>
                    <a:lnTo>
                      <a:pt x="906" y="1544"/>
                    </a:lnTo>
                    <a:lnTo>
                      <a:pt x="926" y="1533"/>
                    </a:lnTo>
                    <a:lnTo>
                      <a:pt x="944" y="1520"/>
                    </a:lnTo>
                    <a:lnTo>
                      <a:pt x="963" y="1508"/>
                    </a:lnTo>
                    <a:lnTo>
                      <a:pt x="982" y="1495"/>
                    </a:lnTo>
                    <a:lnTo>
                      <a:pt x="1000" y="1481"/>
                    </a:lnTo>
                    <a:lnTo>
                      <a:pt x="1017" y="1467"/>
                    </a:lnTo>
                    <a:lnTo>
                      <a:pt x="1035" y="1452"/>
                    </a:lnTo>
                    <a:lnTo>
                      <a:pt x="1052" y="1437"/>
                    </a:lnTo>
                    <a:lnTo>
                      <a:pt x="1067" y="1422"/>
                    </a:lnTo>
                    <a:lnTo>
                      <a:pt x="1084" y="1405"/>
                    </a:lnTo>
                    <a:lnTo>
                      <a:pt x="1099" y="1389"/>
                    </a:lnTo>
                    <a:lnTo>
                      <a:pt x="1115" y="1372"/>
                    </a:lnTo>
                    <a:lnTo>
                      <a:pt x="1129" y="1354"/>
                    </a:lnTo>
                    <a:lnTo>
                      <a:pt x="1143" y="1337"/>
                    </a:lnTo>
                    <a:lnTo>
                      <a:pt x="1157" y="1319"/>
                    </a:lnTo>
                    <a:lnTo>
                      <a:pt x="1170" y="1300"/>
                    </a:lnTo>
                    <a:lnTo>
                      <a:pt x="1183" y="1282"/>
                    </a:lnTo>
                    <a:lnTo>
                      <a:pt x="1195" y="1262"/>
                    </a:lnTo>
                    <a:lnTo>
                      <a:pt x="1207" y="1243"/>
                    </a:lnTo>
                    <a:lnTo>
                      <a:pt x="1218" y="1223"/>
                    </a:lnTo>
                    <a:lnTo>
                      <a:pt x="1205" y="1211"/>
                    </a:lnTo>
                    <a:lnTo>
                      <a:pt x="1195" y="1230"/>
                    </a:lnTo>
                    <a:lnTo>
                      <a:pt x="1183" y="1250"/>
                    </a:lnTo>
                    <a:lnTo>
                      <a:pt x="1170" y="1269"/>
                    </a:lnTo>
                    <a:lnTo>
                      <a:pt x="1158" y="1288"/>
                    </a:lnTo>
                    <a:lnTo>
                      <a:pt x="1145" y="1307"/>
                    </a:lnTo>
                    <a:lnTo>
                      <a:pt x="1132" y="1325"/>
                    </a:lnTo>
                    <a:lnTo>
                      <a:pt x="1117" y="1343"/>
                    </a:lnTo>
                    <a:lnTo>
                      <a:pt x="1102" y="1361"/>
                    </a:lnTo>
                    <a:lnTo>
                      <a:pt x="1087" y="1377"/>
                    </a:lnTo>
                    <a:lnTo>
                      <a:pt x="1072" y="1393"/>
                    </a:lnTo>
                    <a:lnTo>
                      <a:pt x="1056" y="1410"/>
                    </a:lnTo>
                    <a:lnTo>
                      <a:pt x="1039" y="1426"/>
                    </a:lnTo>
                    <a:lnTo>
                      <a:pt x="1022" y="1440"/>
                    </a:lnTo>
                    <a:lnTo>
                      <a:pt x="1005" y="1455"/>
                    </a:lnTo>
                    <a:lnTo>
                      <a:pt x="988" y="1470"/>
                    </a:lnTo>
                    <a:lnTo>
                      <a:pt x="970" y="1484"/>
                    </a:lnTo>
                    <a:lnTo>
                      <a:pt x="951" y="1496"/>
                    </a:lnTo>
                    <a:lnTo>
                      <a:pt x="932" y="1509"/>
                    </a:lnTo>
                    <a:lnTo>
                      <a:pt x="913" y="1521"/>
                    </a:lnTo>
                    <a:lnTo>
                      <a:pt x="893" y="1533"/>
                    </a:lnTo>
                    <a:lnTo>
                      <a:pt x="873" y="1544"/>
                    </a:lnTo>
                    <a:lnTo>
                      <a:pt x="853" y="1555"/>
                    </a:lnTo>
                    <a:lnTo>
                      <a:pt x="832" y="1564"/>
                    </a:lnTo>
                    <a:lnTo>
                      <a:pt x="811" y="1574"/>
                    </a:lnTo>
                    <a:lnTo>
                      <a:pt x="790" y="1583"/>
                    </a:lnTo>
                    <a:lnTo>
                      <a:pt x="769" y="1592"/>
                    </a:lnTo>
                    <a:lnTo>
                      <a:pt x="747" y="1599"/>
                    </a:lnTo>
                    <a:lnTo>
                      <a:pt x="725" y="1606"/>
                    </a:lnTo>
                    <a:lnTo>
                      <a:pt x="702" y="1613"/>
                    </a:lnTo>
                    <a:lnTo>
                      <a:pt x="680" y="1618"/>
                    </a:lnTo>
                    <a:lnTo>
                      <a:pt x="656" y="1623"/>
                    </a:lnTo>
                    <a:lnTo>
                      <a:pt x="633" y="1627"/>
                    </a:lnTo>
                    <a:lnTo>
                      <a:pt x="648" y="164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62600" y="2436840"/>
                <a:ext cx="384120" cy="517320"/>
              </a:xfrm>
              <a:custGeom>
                <a:avLst/>
                <a:gdLst/>
                <a:ahLst/>
                <a:rect l="l" t="t" r="r" b="b"/>
                <a:pathLst>
                  <a:path w="1211" h="1627">
                    <a:moveTo>
                      <a:pt x="484" y="0"/>
                    </a:moveTo>
                    <a:lnTo>
                      <a:pt x="449" y="1"/>
                    </a:lnTo>
                    <a:lnTo>
                      <a:pt x="416" y="3"/>
                    </a:lnTo>
                    <a:lnTo>
                      <a:pt x="383" y="7"/>
                    </a:lnTo>
                    <a:lnTo>
                      <a:pt x="351" y="12"/>
                    </a:lnTo>
                    <a:lnTo>
                      <a:pt x="318" y="18"/>
                    </a:lnTo>
                    <a:lnTo>
                      <a:pt x="286" y="24"/>
                    </a:lnTo>
                    <a:lnTo>
                      <a:pt x="255" y="34"/>
                    </a:lnTo>
                    <a:lnTo>
                      <a:pt x="224" y="43"/>
                    </a:lnTo>
                    <a:lnTo>
                      <a:pt x="194" y="54"/>
                    </a:lnTo>
                    <a:lnTo>
                      <a:pt x="165" y="66"/>
                    </a:lnTo>
                    <a:lnTo>
                      <a:pt x="135" y="79"/>
                    </a:lnTo>
                    <a:lnTo>
                      <a:pt x="107" y="94"/>
                    </a:lnTo>
                    <a:lnTo>
                      <a:pt x="78" y="108"/>
                    </a:lnTo>
                    <a:lnTo>
                      <a:pt x="52" y="125"/>
                    </a:lnTo>
                    <a:lnTo>
                      <a:pt x="25" y="142"/>
                    </a:lnTo>
                    <a:lnTo>
                      <a:pt x="0" y="161"/>
                    </a:lnTo>
                    <a:lnTo>
                      <a:pt x="0" y="182"/>
                    </a:lnTo>
                    <a:lnTo>
                      <a:pt x="25" y="163"/>
                    </a:lnTo>
                    <a:lnTo>
                      <a:pt x="52" y="145"/>
                    </a:lnTo>
                    <a:lnTo>
                      <a:pt x="79" y="128"/>
                    </a:lnTo>
                    <a:lnTo>
                      <a:pt x="107" y="113"/>
                    </a:lnTo>
                    <a:lnTo>
                      <a:pt x="135" y="98"/>
                    </a:lnTo>
                    <a:lnTo>
                      <a:pt x="165" y="84"/>
                    </a:lnTo>
                    <a:lnTo>
                      <a:pt x="195" y="72"/>
                    </a:lnTo>
                    <a:lnTo>
                      <a:pt x="226" y="60"/>
                    </a:lnTo>
                    <a:lnTo>
                      <a:pt x="257" y="51"/>
                    </a:lnTo>
                    <a:lnTo>
                      <a:pt x="289" y="41"/>
                    </a:lnTo>
                    <a:lnTo>
                      <a:pt x="320" y="34"/>
                    </a:lnTo>
                    <a:lnTo>
                      <a:pt x="353" y="28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89" y="17"/>
                    </a:lnTo>
                    <a:lnTo>
                      <a:pt x="490" y="17"/>
                    </a:lnTo>
                    <a:lnTo>
                      <a:pt x="491" y="17"/>
                    </a:lnTo>
                    <a:lnTo>
                      <a:pt x="494" y="17"/>
                    </a:lnTo>
                    <a:lnTo>
                      <a:pt x="495" y="17"/>
                    </a:lnTo>
                    <a:lnTo>
                      <a:pt x="496" y="17"/>
                    </a:lnTo>
                    <a:lnTo>
                      <a:pt x="498" y="17"/>
                    </a:lnTo>
                    <a:lnTo>
                      <a:pt x="499" y="17"/>
                    </a:lnTo>
                    <a:lnTo>
                      <a:pt x="484" y="0"/>
                    </a:lnTo>
                    <a:close/>
                    <a:moveTo>
                      <a:pt x="641" y="1627"/>
                    </a:moveTo>
                    <a:lnTo>
                      <a:pt x="664" y="1623"/>
                    </a:lnTo>
                    <a:lnTo>
                      <a:pt x="687" y="1617"/>
                    </a:lnTo>
                    <a:lnTo>
                      <a:pt x="709" y="1611"/>
                    </a:lnTo>
                    <a:lnTo>
                      <a:pt x="731" y="1605"/>
                    </a:lnTo>
                    <a:lnTo>
                      <a:pt x="753" y="1597"/>
                    </a:lnTo>
                    <a:lnTo>
                      <a:pt x="775" y="1590"/>
                    </a:lnTo>
                    <a:lnTo>
                      <a:pt x="797" y="1582"/>
                    </a:lnTo>
                    <a:lnTo>
                      <a:pt x="818" y="1572"/>
                    </a:lnTo>
                    <a:lnTo>
                      <a:pt x="839" y="1563"/>
                    </a:lnTo>
                    <a:lnTo>
                      <a:pt x="859" y="1552"/>
                    </a:lnTo>
                    <a:lnTo>
                      <a:pt x="879" y="1542"/>
                    </a:lnTo>
                    <a:lnTo>
                      <a:pt x="899" y="1531"/>
                    </a:lnTo>
                    <a:lnTo>
                      <a:pt x="919" y="1520"/>
                    </a:lnTo>
                    <a:lnTo>
                      <a:pt x="938" y="1507"/>
                    </a:lnTo>
                    <a:lnTo>
                      <a:pt x="957" y="1494"/>
                    </a:lnTo>
                    <a:lnTo>
                      <a:pt x="976" y="1481"/>
                    </a:lnTo>
                    <a:lnTo>
                      <a:pt x="994" y="1467"/>
                    </a:lnTo>
                    <a:lnTo>
                      <a:pt x="1012" y="1453"/>
                    </a:lnTo>
                    <a:lnTo>
                      <a:pt x="1029" y="1439"/>
                    </a:lnTo>
                    <a:lnTo>
                      <a:pt x="1045" y="1423"/>
                    </a:lnTo>
                    <a:lnTo>
                      <a:pt x="1062" y="1407"/>
                    </a:lnTo>
                    <a:lnTo>
                      <a:pt x="1078" y="1392"/>
                    </a:lnTo>
                    <a:lnTo>
                      <a:pt x="1094" y="1375"/>
                    </a:lnTo>
                    <a:lnTo>
                      <a:pt x="1108" y="1358"/>
                    </a:lnTo>
                    <a:lnTo>
                      <a:pt x="1123" y="1341"/>
                    </a:lnTo>
                    <a:lnTo>
                      <a:pt x="1137" y="1323"/>
                    </a:lnTo>
                    <a:lnTo>
                      <a:pt x="1151" y="1305"/>
                    </a:lnTo>
                    <a:lnTo>
                      <a:pt x="1164" y="1287"/>
                    </a:lnTo>
                    <a:lnTo>
                      <a:pt x="1177" y="1268"/>
                    </a:lnTo>
                    <a:lnTo>
                      <a:pt x="1189" y="1249"/>
                    </a:lnTo>
                    <a:lnTo>
                      <a:pt x="1201" y="1229"/>
                    </a:lnTo>
                    <a:lnTo>
                      <a:pt x="1211" y="1209"/>
                    </a:lnTo>
                    <a:lnTo>
                      <a:pt x="1199" y="1196"/>
                    </a:lnTo>
                    <a:lnTo>
                      <a:pt x="1188" y="1216"/>
                    </a:lnTo>
                    <a:lnTo>
                      <a:pt x="1177" y="1236"/>
                    </a:lnTo>
                    <a:lnTo>
                      <a:pt x="1164" y="1256"/>
                    </a:lnTo>
                    <a:lnTo>
                      <a:pt x="1152" y="1275"/>
                    </a:lnTo>
                    <a:lnTo>
                      <a:pt x="1139" y="1293"/>
                    </a:lnTo>
                    <a:lnTo>
                      <a:pt x="1125" y="1312"/>
                    </a:lnTo>
                    <a:lnTo>
                      <a:pt x="1111" y="1330"/>
                    </a:lnTo>
                    <a:lnTo>
                      <a:pt x="1096" y="1346"/>
                    </a:lnTo>
                    <a:lnTo>
                      <a:pt x="1081" y="1363"/>
                    </a:lnTo>
                    <a:lnTo>
                      <a:pt x="1065" y="1380"/>
                    </a:lnTo>
                    <a:lnTo>
                      <a:pt x="1050" y="1396"/>
                    </a:lnTo>
                    <a:lnTo>
                      <a:pt x="1033" y="1411"/>
                    </a:lnTo>
                    <a:lnTo>
                      <a:pt x="1016" y="1427"/>
                    </a:lnTo>
                    <a:lnTo>
                      <a:pt x="999" y="1442"/>
                    </a:lnTo>
                    <a:lnTo>
                      <a:pt x="981" y="1456"/>
                    </a:lnTo>
                    <a:lnTo>
                      <a:pt x="963" y="1469"/>
                    </a:lnTo>
                    <a:lnTo>
                      <a:pt x="944" y="1483"/>
                    </a:lnTo>
                    <a:lnTo>
                      <a:pt x="926" y="1495"/>
                    </a:lnTo>
                    <a:lnTo>
                      <a:pt x="907" y="1507"/>
                    </a:lnTo>
                    <a:lnTo>
                      <a:pt x="887" y="1519"/>
                    </a:lnTo>
                    <a:lnTo>
                      <a:pt x="867" y="1530"/>
                    </a:lnTo>
                    <a:lnTo>
                      <a:pt x="847" y="1541"/>
                    </a:lnTo>
                    <a:lnTo>
                      <a:pt x="826" y="1550"/>
                    </a:lnTo>
                    <a:lnTo>
                      <a:pt x="805" y="1560"/>
                    </a:lnTo>
                    <a:lnTo>
                      <a:pt x="784" y="1569"/>
                    </a:lnTo>
                    <a:lnTo>
                      <a:pt x="762" y="1576"/>
                    </a:lnTo>
                    <a:lnTo>
                      <a:pt x="740" y="1585"/>
                    </a:lnTo>
                    <a:lnTo>
                      <a:pt x="717" y="1591"/>
                    </a:lnTo>
                    <a:lnTo>
                      <a:pt x="695" y="1597"/>
                    </a:lnTo>
                    <a:lnTo>
                      <a:pt x="672" y="1604"/>
                    </a:lnTo>
                    <a:lnTo>
                      <a:pt x="649" y="1609"/>
                    </a:lnTo>
                    <a:lnTo>
                      <a:pt x="626" y="1613"/>
                    </a:lnTo>
                    <a:lnTo>
                      <a:pt x="641" y="162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62600" y="2440080"/>
                <a:ext cx="382680" cy="511200"/>
              </a:xfrm>
              <a:custGeom>
                <a:avLst/>
                <a:gdLst/>
                <a:ahLst/>
                <a:rect l="l" t="t" r="r" b="b"/>
                <a:pathLst>
                  <a:path w="1205" h="1610">
                    <a:moveTo>
                      <a:pt x="491" y="0"/>
                    </a:moveTo>
                    <a:lnTo>
                      <a:pt x="490" y="0"/>
                    </a:lnTo>
                    <a:lnTo>
                      <a:pt x="490" y="0"/>
                    </a:lnTo>
                    <a:lnTo>
                      <a:pt x="489" y="0"/>
                    </a:lnTo>
                    <a:lnTo>
                      <a:pt x="489" y="0"/>
                    </a:lnTo>
                    <a:lnTo>
                      <a:pt x="489" y="0"/>
                    </a:lnTo>
                    <a:lnTo>
                      <a:pt x="488" y="0"/>
                    </a:lnTo>
                    <a:lnTo>
                      <a:pt x="488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20" y="2"/>
                    </a:lnTo>
                    <a:lnTo>
                      <a:pt x="386" y="6"/>
                    </a:lnTo>
                    <a:lnTo>
                      <a:pt x="353" y="10"/>
                    </a:lnTo>
                    <a:lnTo>
                      <a:pt x="320" y="16"/>
                    </a:lnTo>
                    <a:lnTo>
                      <a:pt x="289" y="24"/>
                    </a:lnTo>
                    <a:lnTo>
                      <a:pt x="257" y="32"/>
                    </a:lnTo>
                    <a:lnTo>
                      <a:pt x="226" y="43"/>
                    </a:lnTo>
                    <a:lnTo>
                      <a:pt x="195" y="53"/>
                    </a:lnTo>
                    <a:lnTo>
                      <a:pt x="166" y="66"/>
                    </a:lnTo>
                    <a:lnTo>
                      <a:pt x="136" y="79"/>
                    </a:lnTo>
                    <a:lnTo>
                      <a:pt x="107" y="94"/>
                    </a:lnTo>
                    <a:lnTo>
                      <a:pt x="79" y="109"/>
                    </a:lnTo>
                    <a:lnTo>
                      <a:pt x="52" y="126"/>
                    </a:lnTo>
                    <a:lnTo>
                      <a:pt x="25" y="144"/>
                    </a:lnTo>
                    <a:lnTo>
                      <a:pt x="0" y="162"/>
                    </a:lnTo>
                    <a:lnTo>
                      <a:pt x="0" y="183"/>
                    </a:lnTo>
                    <a:lnTo>
                      <a:pt x="25" y="165"/>
                    </a:lnTo>
                    <a:lnTo>
                      <a:pt x="51" y="146"/>
                    </a:lnTo>
                    <a:lnTo>
                      <a:pt x="78" y="129"/>
                    </a:lnTo>
                    <a:lnTo>
                      <a:pt x="107" y="113"/>
                    </a:lnTo>
                    <a:lnTo>
                      <a:pt x="135" y="98"/>
                    </a:lnTo>
                    <a:lnTo>
                      <a:pt x="165" y="85"/>
                    </a:lnTo>
                    <a:lnTo>
                      <a:pt x="194" y="72"/>
                    </a:lnTo>
                    <a:lnTo>
                      <a:pt x="226" y="61"/>
                    </a:lnTo>
                    <a:lnTo>
                      <a:pt x="256" y="50"/>
                    </a:lnTo>
                    <a:lnTo>
                      <a:pt x="288" y="42"/>
                    </a:lnTo>
                    <a:lnTo>
                      <a:pt x="320" y="34"/>
                    </a:lnTo>
                    <a:lnTo>
                      <a:pt x="353" y="28"/>
                    </a:lnTo>
                    <a:lnTo>
                      <a:pt x="385" y="23"/>
                    </a:lnTo>
                    <a:lnTo>
                      <a:pt x="419" y="19"/>
                    </a:lnTo>
                    <a:lnTo>
                      <a:pt x="454" y="16"/>
                    </a:lnTo>
                    <a:lnTo>
                      <a:pt x="487" y="16"/>
                    </a:lnTo>
                    <a:lnTo>
                      <a:pt x="490" y="16"/>
                    </a:lnTo>
                    <a:lnTo>
                      <a:pt x="492" y="16"/>
                    </a:lnTo>
                    <a:lnTo>
                      <a:pt x="495" y="16"/>
                    </a:lnTo>
                    <a:lnTo>
                      <a:pt x="497" y="16"/>
                    </a:lnTo>
                    <a:lnTo>
                      <a:pt x="500" y="16"/>
                    </a:lnTo>
                    <a:lnTo>
                      <a:pt x="502" y="16"/>
                    </a:lnTo>
                    <a:lnTo>
                      <a:pt x="504" y="16"/>
                    </a:lnTo>
                    <a:lnTo>
                      <a:pt x="507" y="16"/>
                    </a:lnTo>
                    <a:lnTo>
                      <a:pt x="491" y="0"/>
                    </a:lnTo>
                    <a:close/>
                    <a:moveTo>
                      <a:pt x="633" y="1610"/>
                    </a:moveTo>
                    <a:lnTo>
                      <a:pt x="656" y="1606"/>
                    </a:lnTo>
                    <a:lnTo>
                      <a:pt x="680" y="1601"/>
                    </a:lnTo>
                    <a:lnTo>
                      <a:pt x="702" y="1596"/>
                    </a:lnTo>
                    <a:lnTo>
                      <a:pt x="725" y="1589"/>
                    </a:lnTo>
                    <a:lnTo>
                      <a:pt x="747" y="1582"/>
                    </a:lnTo>
                    <a:lnTo>
                      <a:pt x="769" y="1575"/>
                    </a:lnTo>
                    <a:lnTo>
                      <a:pt x="790" y="1566"/>
                    </a:lnTo>
                    <a:lnTo>
                      <a:pt x="811" y="1557"/>
                    </a:lnTo>
                    <a:lnTo>
                      <a:pt x="832" y="1547"/>
                    </a:lnTo>
                    <a:lnTo>
                      <a:pt x="853" y="1538"/>
                    </a:lnTo>
                    <a:lnTo>
                      <a:pt x="873" y="1527"/>
                    </a:lnTo>
                    <a:lnTo>
                      <a:pt x="893" y="1516"/>
                    </a:lnTo>
                    <a:lnTo>
                      <a:pt x="913" y="1504"/>
                    </a:lnTo>
                    <a:lnTo>
                      <a:pt x="932" y="1492"/>
                    </a:lnTo>
                    <a:lnTo>
                      <a:pt x="951" y="1479"/>
                    </a:lnTo>
                    <a:lnTo>
                      <a:pt x="970" y="1467"/>
                    </a:lnTo>
                    <a:lnTo>
                      <a:pt x="988" y="1453"/>
                    </a:lnTo>
                    <a:lnTo>
                      <a:pt x="1005" y="1438"/>
                    </a:lnTo>
                    <a:lnTo>
                      <a:pt x="1022" y="1423"/>
                    </a:lnTo>
                    <a:lnTo>
                      <a:pt x="1039" y="1409"/>
                    </a:lnTo>
                    <a:lnTo>
                      <a:pt x="1056" y="1393"/>
                    </a:lnTo>
                    <a:lnTo>
                      <a:pt x="1072" y="1376"/>
                    </a:lnTo>
                    <a:lnTo>
                      <a:pt x="1087" y="1360"/>
                    </a:lnTo>
                    <a:lnTo>
                      <a:pt x="1102" y="1344"/>
                    </a:lnTo>
                    <a:lnTo>
                      <a:pt x="1117" y="1326"/>
                    </a:lnTo>
                    <a:lnTo>
                      <a:pt x="1132" y="1308"/>
                    </a:lnTo>
                    <a:lnTo>
                      <a:pt x="1145" y="1290"/>
                    </a:lnTo>
                    <a:lnTo>
                      <a:pt x="1158" y="1271"/>
                    </a:lnTo>
                    <a:lnTo>
                      <a:pt x="1170" y="1252"/>
                    </a:lnTo>
                    <a:lnTo>
                      <a:pt x="1183" y="1233"/>
                    </a:lnTo>
                    <a:lnTo>
                      <a:pt x="1195" y="1213"/>
                    </a:lnTo>
                    <a:lnTo>
                      <a:pt x="1205" y="1194"/>
                    </a:lnTo>
                    <a:lnTo>
                      <a:pt x="1193" y="1182"/>
                    </a:lnTo>
                    <a:lnTo>
                      <a:pt x="1182" y="1202"/>
                    </a:lnTo>
                    <a:lnTo>
                      <a:pt x="1170" y="1222"/>
                    </a:lnTo>
                    <a:lnTo>
                      <a:pt x="1158" y="1241"/>
                    </a:lnTo>
                    <a:lnTo>
                      <a:pt x="1145" y="1260"/>
                    </a:lnTo>
                    <a:lnTo>
                      <a:pt x="1133" y="1279"/>
                    </a:lnTo>
                    <a:lnTo>
                      <a:pt x="1119" y="1296"/>
                    </a:lnTo>
                    <a:lnTo>
                      <a:pt x="1105" y="1314"/>
                    </a:lnTo>
                    <a:lnTo>
                      <a:pt x="1091" y="1332"/>
                    </a:lnTo>
                    <a:lnTo>
                      <a:pt x="1075" y="1349"/>
                    </a:lnTo>
                    <a:lnTo>
                      <a:pt x="1059" y="1365"/>
                    </a:lnTo>
                    <a:lnTo>
                      <a:pt x="1043" y="1381"/>
                    </a:lnTo>
                    <a:lnTo>
                      <a:pt x="1028" y="1397"/>
                    </a:lnTo>
                    <a:lnTo>
                      <a:pt x="1010" y="1412"/>
                    </a:lnTo>
                    <a:lnTo>
                      <a:pt x="993" y="1427"/>
                    </a:lnTo>
                    <a:lnTo>
                      <a:pt x="975" y="1440"/>
                    </a:lnTo>
                    <a:lnTo>
                      <a:pt x="957" y="1454"/>
                    </a:lnTo>
                    <a:lnTo>
                      <a:pt x="938" y="1468"/>
                    </a:lnTo>
                    <a:lnTo>
                      <a:pt x="919" y="1480"/>
                    </a:lnTo>
                    <a:lnTo>
                      <a:pt x="900" y="1492"/>
                    </a:lnTo>
                    <a:lnTo>
                      <a:pt x="880" y="1503"/>
                    </a:lnTo>
                    <a:lnTo>
                      <a:pt x="860" y="1515"/>
                    </a:lnTo>
                    <a:lnTo>
                      <a:pt x="840" y="1525"/>
                    </a:lnTo>
                    <a:lnTo>
                      <a:pt x="819" y="1535"/>
                    </a:lnTo>
                    <a:lnTo>
                      <a:pt x="798" y="1544"/>
                    </a:lnTo>
                    <a:lnTo>
                      <a:pt x="777" y="1553"/>
                    </a:lnTo>
                    <a:lnTo>
                      <a:pt x="755" y="1561"/>
                    </a:lnTo>
                    <a:lnTo>
                      <a:pt x="733" y="1568"/>
                    </a:lnTo>
                    <a:lnTo>
                      <a:pt x="711" y="1576"/>
                    </a:lnTo>
                    <a:lnTo>
                      <a:pt x="689" y="1582"/>
                    </a:lnTo>
                    <a:lnTo>
                      <a:pt x="666" y="1587"/>
                    </a:lnTo>
                    <a:lnTo>
                      <a:pt x="643" y="1593"/>
                    </a:lnTo>
                    <a:lnTo>
                      <a:pt x="620" y="1597"/>
                    </a:lnTo>
                    <a:lnTo>
                      <a:pt x="621" y="1599"/>
                    </a:lnTo>
                    <a:lnTo>
                      <a:pt x="633" y="1610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2600" y="2443320"/>
                <a:ext cx="380880" cy="506160"/>
              </a:xfrm>
              <a:custGeom>
                <a:avLst/>
                <a:gdLst/>
                <a:ahLst/>
                <a:rect l="l" t="t" r="r" b="b"/>
                <a:pathLst>
                  <a:path w="1199" h="1596">
                    <a:moveTo>
                      <a:pt x="499" y="0"/>
                    </a:moveTo>
                    <a:lnTo>
                      <a:pt x="498" y="0"/>
                    </a:lnTo>
                    <a:lnTo>
                      <a:pt x="496" y="0"/>
                    </a:lnTo>
                    <a:lnTo>
                      <a:pt x="495" y="0"/>
                    </a:lnTo>
                    <a:lnTo>
                      <a:pt x="494" y="0"/>
                    </a:lnTo>
                    <a:lnTo>
                      <a:pt x="491" y="0"/>
                    </a:lnTo>
                    <a:lnTo>
                      <a:pt x="490" y="0"/>
                    </a:lnTo>
                    <a:lnTo>
                      <a:pt x="489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20" y="2"/>
                    </a:lnTo>
                    <a:lnTo>
                      <a:pt x="386" y="6"/>
                    </a:lnTo>
                    <a:lnTo>
                      <a:pt x="353" y="11"/>
                    </a:lnTo>
                    <a:lnTo>
                      <a:pt x="320" y="17"/>
                    </a:lnTo>
                    <a:lnTo>
                      <a:pt x="289" y="24"/>
                    </a:lnTo>
                    <a:lnTo>
                      <a:pt x="257" y="34"/>
                    </a:lnTo>
                    <a:lnTo>
                      <a:pt x="226" y="43"/>
                    </a:lnTo>
                    <a:lnTo>
                      <a:pt x="195" y="55"/>
                    </a:lnTo>
                    <a:lnTo>
                      <a:pt x="165" y="67"/>
                    </a:lnTo>
                    <a:lnTo>
                      <a:pt x="135" y="81"/>
                    </a:lnTo>
                    <a:lnTo>
                      <a:pt x="107" y="96"/>
                    </a:lnTo>
                    <a:lnTo>
                      <a:pt x="79" y="111"/>
                    </a:lnTo>
                    <a:lnTo>
                      <a:pt x="52" y="128"/>
                    </a:lnTo>
                    <a:lnTo>
                      <a:pt x="25" y="146"/>
                    </a:lnTo>
                    <a:lnTo>
                      <a:pt x="0" y="165"/>
                    </a:lnTo>
                    <a:lnTo>
                      <a:pt x="0" y="178"/>
                    </a:lnTo>
                    <a:lnTo>
                      <a:pt x="2" y="185"/>
                    </a:lnTo>
                    <a:lnTo>
                      <a:pt x="27" y="165"/>
                    </a:lnTo>
                    <a:lnTo>
                      <a:pt x="53" y="147"/>
                    </a:lnTo>
                    <a:lnTo>
                      <a:pt x="79" y="130"/>
                    </a:lnTo>
                    <a:lnTo>
                      <a:pt x="108" y="113"/>
                    </a:lnTo>
                    <a:lnTo>
                      <a:pt x="136" y="99"/>
                    </a:lnTo>
                    <a:lnTo>
                      <a:pt x="166" y="85"/>
                    </a:lnTo>
                    <a:lnTo>
                      <a:pt x="195" y="73"/>
                    </a:lnTo>
                    <a:lnTo>
                      <a:pt x="226" y="61"/>
                    </a:lnTo>
                    <a:lnTo>
                      <a:pt x="257" y="50"/>
                    </a:lnTo>
                    <a:lnTo>
                      <a:pt x="289" y="42"/>
                    </a:lnTo>
                    <a:lnTo>
                      <a:pt x="320" y="35"/>
                    </a:lnTo>
                    <a:lnTo>
                      <a:pt x="353" y="28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90" y="17"/>
                    </a:lnTo>
                    <a:lnTo>
                      <a:pt x="494" y="17"/>
                    </a:lnTo>
                    <a:lnTo>
                      <a:pt x="497" y="17"/>
                    </a:lnTo>
                    <a:lnTo>
                      <a:pt x="500" y="17"/>
                    </a:lnTo>
                    <a:lnTo>
                      <a:pt x="502" y="17"/>
                    </a:lnTo>
                    <a:lnTo>
                      <a:pt x="505" y="17"/>
                    </a:lnTo>
                    <a:lnTo>
                      <a:pt x="508" y="17"/>
                    </a:lnTo>
                    <a:lnTo>
                      <a:pt x="511" y="17"/>
                    </a:lnTo>
                    <a:lnTo>
                      <a:pt x="507" y="8"/>
                    </a:lnTo>
                    <a:lnTo>
                      <a:pt x="499" y="0"/>
                    </a:lnTo>
                    <a:close/>
                    <a:moveTo>
                      <a:pt x="626" y="1596"/>
                    </a:moveTo>
                    <a:lnTo>
                      <a:pt x="649" y="1592"/>
                    </a:lnTo>
                    <a:lnTo>
                      <a:pt x="672" y="1587"/>
                    </a:lnTo>
                    <a:lnTo>
                      <a:pt x="695" y="1580"/>
                    </a:lnTo>
                    <a:lnTo>
                      <a:pt x="717" y="1574"/>
                    </a:lnTo>
                    <a:lnTo>
                      <a:pt x="740" y="1568"/>
                    </a:lnTo>
                    <a:lnTo>
                      <a:pt x="762" y="1559"/>
                    </a:lnTo>
                    <a:lnTo>
                      <a:pt x="784" y="1552"/>
                    </a:lnTo>
                    <a:lnTo>
                      <a:pt x="805" y="1543"/>
                    </a:lnTo>
                    <a:lnTo>
                      <a:pt x="826" y="1533"/>
                    </a:lnTo>
                    <a:lnTo>
                      <a:pt x="847" y="1524"/>
                    </a:lnTo>
                    <a:lnTo>
                      <a:pt x="867" y="1513"/>
                    </a:lnTo>
                    <a:lnTo>
                      <a:pt x="887" y="1502"/>
                    </a:lnTo>
                    <a:lnTo>
                      <a:pt x="907" y="1490"/>
                    </a:lnTo>
                    <a:lnTo>
                      <a:pt x="926" y="1478"/>
                    </a:lnTo>
                    <a:lnTo>
                      <a:pt x="944" y="1466"/>
                    </a:lnTo>
                    <a:lnTo>
                      <a:pt x="963" y="1452"/>
                    </a:lnTo>
                    <a:lnTo>
                      <a:pt x="981" y="1439"/>
                    </a:lnTo>
                    <a:lnTo>
                      <a:pt x="999" y="1425"/>
                    </a:lnTo>
                    <a:lnTo>
                      <a:pt x="1016" y="1410"/>
                    </a:lnTo>
                    <a:lnTo>
                      <a:pt x="1033" y="1394"/>
                    </a:lnTo>
                    <a:lnTo>
                      <a:pt x="1050" y="1379"/>
                    </a:lnTo>
                    <a:lnTo>
                      <a:pt x="1065" y="1363"/>
                    </a:lnTo>
                    <a:lnTo>
                      <a:pt x="1081" y="1346"/>
                    </a:lnTo>
                    <a:lnTo>
                      <a:pt x="1096" y="1329"/>
                    </a:lnTo>
                    <a:lnTo>
                      <a:pt x="1111" y="1313"/>
                    </a:lnTo>
                    <a:lnTo>
                      <a:pt x="1125" y="1295"/>
                    </a:lnTo>
                    <a:lnTo>
                      <a:pt x="1139" y="1276"/>
                    </a:lnTo>
                    <a:lnTo>
                      <a:pt x="1152" y="1258"/>
                    </a:lnTo>
                    <a:lnTo>
                      <a:pt x="1164" y="1239"/>
                    </a:lnTo>
                    <a:lnTo>
                      <a:pt x="1177" y="1219"/>
                    </a:lnTo>
                    <a:lnTo>
                      <a:pt x="1188" y="1199"/>
                    </a:lnTo>
                    <a:lnTo>
                      <a:pt x="1199" y="1179"/>
                    </a:lnTo>
                    <a:lnTo>
                      <a:pt x="1186" y="1168"/>
                    </a:lnTo>
                    <a:lnTo>
                      <a:pt x="1176" y="1188"/>
                    </a:lnTo>
                    <a:lnTo>
                      <a:pt x="1164" y="1208"/>
                    </a:lnTo>
                    <a:lnTo>
                      <a:pt x="1153" y="1226"/>
                    </a:lnTo>
                    <a:lnTo>
                      <a:pt x="1140" y="1245"/>
                    </a:lnTo>
                    <a:lnTo>
                      <a:pt x="1126" y="1264"/>
                    </a:lnTo>
                    <a:lnTo>
                      <a:pt x="1113" y="1282"/>
                    </a:lnTo>
                    <a:lnTo>
                      <a:pt x="1099" y="1300"/>
                    </a:lnTo>
                    <a:lnTo>
                      <a:pt x="1084" y="1318"/>
                    </a:lnTo>
                    <a:lnTo>
                      <a:pt x="1070" y="1335"/>
                    </a:lnTo>
                    <a:lnTo>
                      <a:pt x="1054" y="1351"/>
                    </a:lnTo>
                    <a:lnTo>
                      <a:pt x="1038" y="1367"/>
                    </a:lnTo>
                    <a:lnTo>
                      <a:pt x="1021" y="1383"/>
                    </a:lnTo>
                    <a:lnTo>
                      <a:pt x="1004" y="1398"/>
                    </a:lnTo>
                    <a:lnTo>
                      <a:pt x="988" y="1412"/>
                    </a:lnTo>
                    <a:lnTo>
                      <a:pt x="970" y="1426"/>
                    </a:lnTo>
                    <a:lnTo>
                      <a:pt x="952" y="1440"/>
                    </a:lnTo>
                    <a:lnTo>
                      <a:pt x="933" y="1453"/>
                    </a:lnTo>
                    <a:lnTo>
                      <a:pt x="914" y="1466"/>
                    </a:lnTo>
                    <a:lnTo>
                      <a:pt x="895" y="1477"/>
                    </a:lnTo>
                    <a:lnTo>
                      <a:pt x="875" y="1489"/>
                    </a:lnTo>
                    <a:lnTo>
                      <a:pt x="855" y="1501"/>
                    </a:lnTo>
                    <a:lnTo>
                      <a:pt x="835" y="1511"/>
                    </a:lnTo>
                    <a:lnTo>
                      <a:pt x="814" y="1520"/>
                    </a:lnTo>
                    <a:lnTo>
                      <a:pt x="793" y="1530"/>
                    </a:lnTo>
                    <a:lnTo>
                      <a:pt x="772" y="1538"/>
                    </a:lnTo>
                    <a:lnTo>
                      <a:pt x="750" y="1546"/>
                    </a:lnTo>
                    <a:lnTo>
                      <a:pt x="728" y="1553"/>
                    </a:lnTo>
                    <a:lnTo>
                      <a:pt x="706" y="1560"/>
                    </a:lnTo>
                    <a:lnTo>
                      <a:pt x="684" y="1567"/>
                    </a:lnTo>
                    <a:lnTo>
                      <a:pt x="661" y="1572"/>
                    </a:lnTo>
                    <a:lnTo>
                      <a:pt x="638" y="1576"/>
                    </a:lnTo>
                    <a:lnTo>
                      <a:pt x="614" y="1580"/>
                    </a:lnTo>
                    <a:lnTo>
                      <a:pt x="621" y="1591"/>
                    </a:lnTo>
                    <a:lnTo>
                      <a:pt x="626" y="1596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2600" y="2444760"/>
                <a:ext cx="379440" cy="501480"/>
              </a:xfrm>
              <a:custGeom>
                <a:avLst/>
                <a:gdLst/>
                <a:ahLst/>
                <a:rect l="l" t="t" r="r" b="b"/>
                <a:pathLst>
                  <a:path w="1193" h="1581">
                    <a:moveTo>
                      <a:pt x="507" y="0"/>
                    </a:moveTo>
                    <a:lnTo>
                      <a:pt x="504" y="0"/>
                    </a:lnTo>
                    <a:lnTo>
                      <a:pt x="502" y="0"/>
                    </a:lnTo>
                    <a:lnTo>
                      <a:pt x="500" y="0"/>
                    </a:lnTo>
                    <a:lnTo>
                      <a:pt x="497" y="0"/>
                    </a:lnTo>
                    <a:lnTo>
                      <a:pt x="495" y="0"/>
                    </a:lnTo>
                    <a:lnTo>
                      <a:pt x="492" y="0"/>
                    </a:lnTo>
                    <a:lnTo>
                      <a:pt x="490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19" y="3"/>
                    </a:lnTo>
                    <a:lnTo>
                      <a:pt x="385" y="7"/>
                    </a:lnTo>
                    <a:lnTo>
                      <a:pt x="353" y="12"/>
                    </a:lnTo>
                    <a:lnTo>
                      <a:pt x="320" y="18"/>
                    </a:lnTo>
                    <a:lnTo>
                      <a:pt x="288" y="26"/>
                    </a:lnTo>
                    <a:lnTo>
                      <a:pt x="256" y="34"/>
                    </a:lnTo>
                    <a:lnTo>
                      <a:pt x="226" y="45"/>
                    </a:lnTo>
                    <a:lnTo>
                      <a:pt x="194" y="56"/>
                    </a:lnTo>
                    <a:lnTo>
                      <a:pt x="165" y="69"/>
                    </a:lnTo>
                    <a:lnTo>
                      <a:pt x="135" y="82"/>
                    </a:lnTo>
                    <a:lnTo>
                      <a:pt x="107" y="97"/>
                    </a:lnTo>
                    <a:lnTo>
                      <a:pt x="78" y="113"/>
                    </a:lnTo>
                    <a:lnTo>
                      <a:pt x="51" y="130"/>
                    </a:lnTo>
                    <a:lnTo>
                      <a:pt x="25" y="149"/>
                    </a:lnTo>
                    <a:lnTo>
                      <a:pt x="0" y="167"/>
                    </a:lnTo>
                    <a:lnTo>
                      <a:pt x="0" y="170"/>
                    </a:lnTo>
                    <a:lnTo>
                      <a:pt x="4" y="185"/>
                    </a:lnTo>
                    <a:lnTo>
                      <a:pt x="29" y="166"/>
                    </a:lnTo>
                    <a:lnTo>
                      <a:pt x="55" y="149"/>
                    </a:lnTo>
                    <a:lnTo>
                      <a:pt x="82" y="131"/>
                    </a:lnTo>
                    <a:lnTo>
                      <a:pt x="109" y="115"/>
                    </a:lnTo>
                    <a:lnTo>
                      <a:pt x="137" y="100"/>
                    </a:lnTo>
                    <a:lnTo>
                      <a:pt x="167" y="86"/>
                    </a:lnTo>
                    <a:lnTo>
                      <a:pt x="196" y="73"/>
                    </a:lnTo>
                    <a:lnTo>
                      <a:pt x="227" y="61"/>
                    </a:lnTo>
                    <a:lnTo>
                      <a:pt x="257" y="52"/>
                    </a:lnTo>
                    <a:lnTo>
                      <a:pt x="289" y="42"/>
                    </a:lnTo>
                    <a:lnTo>
                      <a:pt x="321" y="35"/>
                    </a:lnTo>
                    <a:lnTo>
                      <a:pt x="354" y="29"/>
                    </a:lnTo>
                    <a:lnTo>
                      <a:pt x="386" y="24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91" y="17"/>
                    </a:lnTo>
                    <a:lnTo>
                      <a:pt x="495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5" y="17"/>
                    </a:lnTo>
                    <a:lnTo>
                      <a:pt x="508" y="17"/>
                    </a:lnTo>
                    <a:lnTo>
                      <a:pt x="512" y="17"/>
                    </a:lnTo>
                    <a:lnTo>
                      <a:pt x="516" y="17"/>
                    </a:lnTo>
                    <a:lnTo>
                      <a:pt x="507" y="0"/>
                    </a:lnTo>
                    <a:lnTo>
                      <a:pt x="507" y="0"/>
                    </a:lnTo>
                    <a:close/>
                    <a:moveTo>
                      <a:pt x="620" y="1581"/>
                    </a:moveTo>
                    <a:lnTo>
                      <a:pt x="643" y="1577"/>
                    </a:lnTo>
                    <a:lnTo>
                      <a:pt x="666" y="1571"/>
                    </a:lnTo>
                    <a:lnTo>
                      <a:pt x="689" y="1566"/>
                    </a:lnTo>
                    <a:lnTo>
                      <a:pt x="711" y="1560"/>
                    </a:lnTo>
                    <a:lnTo>
                      <a:pt x="733" y="1552"/>
                    </a:lnTo>
                    <a:lnTo>
                      <a:pt x="755" y="1545"/>
                    </a:lnTo>
                    <a:lnTo>
                      <a:pt x="777" y="1537"/>
                    </a:lnTo>
                    <a:lnTo>
                      <a:pt x="798" y="1528"/>
                    </a:lnTo>
                    <a:lnTo>
                      <a:pt x="819" y="1519"/>
                    </a:lnTo>
                    <a:lnTo>
                      <a:pt x="840" y="1509"/>
                    </a:lnTo>
                    <a:lnTo>
                      <a:pt x="860" y="1499"/>
                    </a:lnTo>
                    <a:lnTo>
                      <a:pt x="880" y="1487"/>
                    </a:lnTo>
                    <a:lnTo>
                      <a:pt x="900" y="1476"/>
                    </a:lnTo>
                    <a:lnTo>
                      <a:pt x="919" y="1464"/>
                    </a:lnTo>
                    <a:lnTo>
                      <a:pt x="938" y="1452"/>
                    </a:lnTo>
                    <a:lnTo>
                      <a:pt x="957" y="1438"/>
                    </a:lnTo>
                    <a:lnTo>
                      <a:pt x="975" y="1424"/>
                    </a:lnTo>
                    <a:lnTo>
                      <a:pt x="993" y="1411"/>
                    </a:lnTo>
                    <a:lnTo>
                      <a:pt x="1010" y="1396"/>
                    </a:lnTo>
                    <a:lnTo>
                      <a:pt x="1028" y="1381"/>
                    </a:lnTo>
                    <a:lnTo>
                      <a:pt x="1043" y="1365"/>
                    </a:lnTo>
                    <a:lnTo>
                      <a:pt x="1059" y="1349"/>
                    </a:lnTo>
                    <a:lnTo>
                      <a:pt x="1075" y="1333"/>
                    </a:lnTo>
                    <a:lnTo>
                      <a:pt x="1091" y="1316"/>
                    </a:lnTo>
                    <a:lnTo>
                      <a:pt x="1105" y="1298"/>
                    </a:lnTo>
                    <a:lnTo>
                      <a:pt x="1119" y="1280"/>
                    </a:lnTo>
                    <a:lnTo>
                      <a:pt x="1133" y="1263"/>
                    </a:lnTo>
                    <a:lnTo>
                      <a:pt x="1145" y="1244"/>
                    </a:lnTo>
                    <a:lnTo>
                      <a:pt x="1158" y="1225"/>
                    </a:lnTo>
                    <a:lnTo>
                      <a:pt x="1170" y="1206"/>
                    </a:lnTo>
                    <a:lnTo>
                      <a:pt x="1182" y="1186"/>
                    </a:lnTo>
                    <a:lnTo>
                      <a:pt x="1193" y="1166"/>
                    </a:lnTo>
                    <a:lnTo>
                      <a:pt x="1186" y="1160"/>
                    </a:lnTo>
                    <a:lnTo>
                      <a:pt x="1180" y="1153"/>
                    </a:lnTo>
                    <a:lnTo>
                      <a:pt x="1169" y="1173"/>
                    </a:lnTo>
                    <a:lnTo>
                      <a:pt x="1158" y="1193"/>
                    </a:lnTo>
                    <a:lnTo>
                      <a:pt x="1146" y="1212"/>
                    </a:lnTo>
                    <a:lnTo>
                      <a:pt x="1134" y="1231"/>
                    </a:lnTo>
                    <a:lnTo>
                      <a:pt x="1121" y="1250"/>
                    </a:lnTo>
                    <a:lnTo>
                      <a:pt x="1107" y="1268"/>
                    </a:lnTo>
                    <a:lnTo>
                      <a:pt x="1094" y="1286"/>
                    </a:lnTo>
                    <a:lnTo>
                      <a:pt x="1079" y="1304"/>
                    </a:lnTo>
                    <a:lnTo>
                      <a:pt x="1064" y="1320"/>
                    </a:lnTo>
                    <a:lnTo>
                      <a:pt x="1049" y="1336"/>
                    </a:lnTo>
                    <a:lnTo>
                      <a:pt x="1033" y="1353"/>
                    </a:lnTo>
                    <a:lnTo>
                      <a:pt x="1016" y="1368"/>
                    </a:lnTo>
                    <a:lnTo>
                      <a:pt x="999" y="1383"/>
                    </a:lnTo>
                    <a:lnTo>
                      <a:pt x="982" y="1398"/>
                    </a:lnTo>
                    <a:lnTo>
                      <a:pt x="964" y="1412"/>
                    </a:lnTo>
                    <a:lnTo>
                      <a:pt x="947" y="1425"/>
                    </a:lnTo>
                    <a:lnTo>
                      <a:pt x="928" y="1439"/>
                    </a:lnTo>
                    <a:lnTo>
                      <a:pt x="909" y="1451"/>
                    </a:lnTo>
                    <a:lnTo>
                      <a:pt x="890" y="1463"/>
                    </a:lnTo>
                    <a:lnTo>
                      <a:pt x="870" y="1475"/>
                    </a:lnTo>
                    <a:lnTo>
                      <a:pt x="850" y="1485"/>
                    </a:lnTo>
                    <a:lnTo>
                      <a:pt x="830" y="1496"/>
                    </a:lnTo>
                    <a:lnTo>
                      <a:pt x="809" y="1505"/>
                    </a:lnTo>
                    <a:lnTo>
                      <a:pt x="788" y="1515"/>
                    </a:lnTo>
                    <a:lnTo>
                      <a:pt x="767" y="1523"/>
                    </a:lnTo>
                    <a:lnTo>
                      <a:pt x="745" y="1531"/>
                    </a:lnTo>
                    <a:lnTo>
                      <a:pt x="723" y="1539"/>
                    </a:lnTo>
                    <a:lnTo>
                      <a:pt x="701" y="1545"/>
                    </a:lnTo>
                    <a:lnTo>
                      <a:pt x="679" y="1551"/>
                    </a:lnTo>
                    <a:lnTo>
                      <a:pt x="655" y="1557"/>
                    </a:lnTo>
                    <a:lnTo>
                      <a:pt x="632" y="1561"/>
                    </a:lnTo>
                    <a:lnTo>
                      <a:pt x="609" y="1565"/>
                    </a:lnTo>
                    <a:lnTo>
                      <a:pt x="620" y="158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64400" y="2448000"/>
                <a:ext cx="374400" cy="496800"/>
              </a:xfrm>
              <a:custGeom>
                <a:avLst/>
                <a:gdLst/>
                <a:ahLst/>
                <a:rect l="l" t="t" r="r" b="b"/>
                <a:pathLst>
                  <a:path w="1184" h="1563">
                    <a:moveTo>
                      <a:pt x="509" y="0"/>
                    </a:moveTo>
                    <a:lnTo>
                      <a:pt x="506" y="0"/>
                    </a:lnTo>
                    <a:lnTo>
                      <a:pt x="503" y="0"/>
                    </a:lnTo>
                    <a:lnTo>
                      <a:pt x="500" y="0"/>
                    </a:lnTo>
                    <a:lnTo>
                      <a:pt x="498" y="0"/>
                    </a:lnTo>
                    <a:lnTo>
                      <a:pt x="495" y="0"/>
                    </a:lnTo>
                    <a:lnTo>
                      <a:pt x="492" y="0"/>
                    </a:lnTo>
                    <a:lnTo>
                      <a:pt x="488" y="0"/>
                    </a:lnTo>
                    <a:lnTo>
                      <a:pt x="485" y="0"/>
                    </a:lnTo>
                    <a:lnTo>
                      <a:pt x="452" y="0"/>
                    </a:lnTo>
                    <a:lnTo>
                      <a:pt x="418" y="2"/>
                    </a:lnTo>
                    <a:lnTo>
                      <a:pt x="384" y="6"/>
                    </a:lnTo>
                    <a:lnTo>
                      <a:pt x="351" y="11"/>
                    </a:lnTo>
                    <a:lnTo>
                      <a:pt x="318" y="18"/>
                    </a:lnTo>
                    <a:lnTo>
                      <a:pt x="287" y="25"/>
                    </a:lnTo>
                    <a:lnTo>
                      <a:pt x="255" y="33"/>
                    </a:lnTo>
                    <a:lnTo>
                      <a:pt x="224" y="44"/>
                    </a:lnTo>
                    <a:lnTo>
                      <a:pt x="193" y="56"/>
                    </a:lnTo>
                    <a:lnTo>
                      <a:pt x="164" y="68"/>
                    </a:lnTo>
                    <a:lnTo>
                      <a:pt x="134" y="82"/>
                    </a:lnTo>
                    <a:lnTo>
                      <a:pt x="106" y="96"/>
                    </a:lnTo>
                    <a:lnTo>
                      <a:pt x="77" y="113"/>
                    </a:lnTo>
                    <a:lnTo>
                      <a:pt x="51" y="130"/>
                    </a:lnTo>
                    <a:lnTo>
                      <a:pt x="25" y="148"/>
                    </a:lnTo>
                    <a:lnTo>
                      <a:pt x="0" y="168"/>
                    </a:lnTo>
                    <a:lnTo>
                      <a:pt x="4" y="186"/>
                    </a:lnTo>
                    <a:lnTo>
                      <a:pt x="29" y="166"/>
                    </a:lnTo>
                    <a:lnTo>
                      <a:pt x="54" y="148"/>
                    </a:lnTo>
                    <a:lnTo>
                      <a:pt x="82" y="131"/>
                    </a:lnTo>
                    <a:lnTo>
                      <a:pt x="109" y="114"/>
                    </a:lnTo>
                    <a:lnTo>
                      <a:pt x="137" y="100"/>
                    </a:lnTo>
                    <a:lnTo>
                      <a:pt x="166" y="86"/>
                    </a:lnTo>
                    <a:lnTo>
                      <a:pt x="195" y="72"/>
                    </a:lnTo>
                    <a:lnTo>
                      <a:pt x="226" y="61"/>
                    </a:lnTo>
                    <a:lnTo>
                      <a:pt x="256" y="51"/>
                    </a:lnTo>
                    <a:lnTo>
                      <a:pt x="288" y="42"/>
                    </a:lnTo>
                    <a:lnTo>
                      <a:pt x="319" y="35"/>
                    </a:lnTo>
                    <a:lnTo>
                      <a:pt x="352" y="28"/>
                    </a:lnTo>
                    <a:lnTo>
                      <a:pt x="384" y="23"/>
                    </a:lnTo>
                    <a:lnTo>
                      <a:pt x="418" y="19"/>
                    </a:lnTo>
                    <a:lnTo>
                      <a:pt x="452" y="17"/>
                    </a:lnTo>
                    <a:lnTo>
                      <a:pt x="485" y="16"/>
                    </a:lnTo>
                    <a:lnTo>
                      <a:pt x="489" y="17"/>
                    </a:lnTo>
                    <a:lnTo>
                      <a:pt x="494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6" y="17"/>
                    </a:lnTo>
                    <a:lnTo>
                      <a:pt x="510" y="17"/>
                    </a:lnTo>
                    <a:lnTo>
                      <a:pt x="514" y="17"/>
                    </a:lnTo>
                    <a:lnTo>
                      <a:pt x="518" y="17"/>
                    </a:lnTo>
                    <a:lnTo>
                      <a:pt x="509" y="0"/>
                    </a:lnTo>
                    <a:close/>
                    <a:moveTo>
                      <a:pt x="612" y="1563"/>
                    </a:moveTo>
                    <a:lnTo>
                      <a:pt x="636" y="1559"/>
                    </a:lnTo>
                    <a:lnTo>
                      <a:pt x="659" y="1555"/>
                    </a:lnTo>
                    <a:lnTo>
                      <a:pt x="682" y="1550"/>
                    </a:lnTo>
                    <a:lnTo>
                      <a:pt x="704" y="1543"/>
                    </a:lnTo>
                    <a:lnTo>
                      <a:pt x="726" y="1536"/>
                    </a:lnTo>
                    <a:lnTo>
                      <a:pt x="748" y="1529"/>
                    </a:lnTo>
                    <a:lnTo>
                      <a:pt x="770" y="1521"/>
                    </a:lnTo>
                    <a:lnTo>
                      <a:pt x="791" y="1513"/>
                    </a:lnTo>
                    <a:lnTo>
                      <a:pt x="812" y="1503"/>
                    </a:lnTo>
                    <a:lnTo>
                      <a:pt x="833" y="1494"/>
                    </a:lnTo>
                    <a:lnTo>
                      <a:pt x="853" y="1484"/>
                    </a:lnTo>
                    <a:lnTo>
                      <a:pt x="873" y="1472"/>
                    </a:lnTo>
                    <a:lnTo>
                      <a:pt x="893" y="1460"/>
                    </a:lnTo>
                    <a:lnTo>
                      <a:pt x="912" y="1449"/>
                    </a:lnTo>
                    <a:lnTo>
                      <a:pt x="931" y="1436"/>
                    </a:lnTo>
                    <a:lnTo>
                      <a:pt x="950" y="1423"/>
                    </a:lnTo>
                    <a:lnTo>
                      <a:pt x="968" y="1409"/>
                    </a:lnTo>
                    <a:lnTo>
                      <a:pt x="986" y="1395"/>
                    </a:lnTo>
                    <a:lnTo>
                      <a:pt x="1002" y="1381"/>
                    </a:lnTo>
                    <a:lnTo>
                      <a:pt x="1019" y="1366"/>
                    </a:lnTo>
                    <a:lnTo>
                      <a:pt x="1036" y="1350"/>
                    </a:lnTo>
                    <a:lnTo>
                      <a:pt x="1052" y="1334"/>
                    </a:lnTo>
                    <a:lnTo>
                      <a:pt x="1068" y="1318"/>
                    </a:lnTo>
                    <a:lnTo>
                      <a:pt x="1082" y="1301"/>
                    </a:lnTo>
                    <a:lnTo>
                      <a:pt x="1097" y="1283"/>
                    </a:lnTo>
                    <a:lnTo>
                      <a:pt x="1111" y="1265"/>
                    </a:lnTo>
                    <a:lnTo>
                      <a:pt x="1124" y="1247"/>
                    </a:lnTo>
                    <a:lnTo>
                      <a:pt x="1138" y="1228"/>
                    </a:lnTo>
                    <a:lnTo>
                      <a:pt x="1151" y="1209"/>
                    </a:lnTo>
                    <a:lnTo>
                      <a:pt x="1162" y="1191"/>
                    </a:lnTo>
                    <a:lnTo>
                      <a:pt x="1174" y="1171"/>
                    </a:lnTo>
                    <a:lnTo>
                      <a:pt x="1184" y="1151"/>
                    </a:lnTo>
                    <a:lnTo>
                      <a:pt x="1184" y="1151"/>
                    </a:lnTo>
                    <a:lnTo>
                      <a:pt x="1173" y="1137"/>
                    </a:lnTo>
                    <a:lnTo>
                      <a:pt x="1162" y="1158"/>
                    </a:lnTo>
                    <a:lnTo>
                      <a:pt x="1151" y="1177"/>
                    </a:lnTo>
                    <a:lnTo>
                      <a:pt x="1139" y="1197"/>
                    </a:lnTo>
                    <a:lnTo>
                      <a:pt x="1126" y="1216"/>
                    </a:lnTo>
                    <a:lnTo>
                      <a:pt x="1114" y="1235"/>
                    </a:lnTo>
                    <a:lnTo>
                      <a:pt x="1100" y="1253"/>
                    </a:lnTo>
                    <a:lnTo>
                      <a:pt x="1086" y="1270"/>
                    </a:lnTo>
                    <a:lnTo>
                      <a:pt x="1072" y="1287"/>
                    </a:lnTo>
                    <a:lnTo>
                      <a:pt x="1057" y="1305"/>
                    </a:lnTo>
                    <a:lnTo>
                      <a:pt x="1041" y="1321"/>
                    </a:lnTo>
                    <a:lnTo>
                      <a:pt x="1026" y="1338"/>
                    </a:lnTo>
                    <a:lnTo>
                      <a:pt x="1009" y="1352"/>
                    </a:lnTo>
                    <a:lnTo>
                      <a:pt x="992" y="1368"/>
                    </a:lnTo>
                    <a:lnTo>
                      <a:pt x="975" y="1383"/>
                    </a:lnTo>
                    <a:lnTo>
                      <a:pt x="957" y="1396"/>
                    </a:lnTo>
                    <a:lnTo>
                      <a:pt x="939" y="1410"/>
                    </a:lnTo>
                    <a:lnTo>
                      <a:pt x="920" y="1423"/>
                    </a:lnTo>
                    <a:lnTo>
                      <a:pt x="901" y="1435"/>
                    </a:lnTo>
                    <a:lnTo>
                      <a:pt x="883" y="1448"/>
                    </a:lnTo>
                    <a:lnTo>
                      <a:pt x="863" y="1459"/>
                    </a:lnTo>
                    <a:lnTo>
                      <a:pt x="843" y="1470"/>
                    </a:lnTo>
                    <a:lnTo>
                      <a:pt x="823" y="1480"/>
                    </a:lnTo>
                    <a:lnTo>
                      <a:pt x="802" y="1490"/>
                    </a:lnTo>
                    <a:lnTo>
                      <a:pt x="781" y="1498"/>
                    </a:lnTo>
                    <a:lnTo>
                      <a:pt x="760" y="1508"/>
                    </a:lnTo>
                    <a:lnTo>
                      <a:pt x="738" y="1515"/>
                    </a:lnTo>
                    <a:lnTo>
                      <a:pt x="715" y="1522"/>
                    </a:lnTo>
                    <a:lnTo>
                      <a:pt x="693" y="1529"/>
                    </a:lnTo>
                    <a:lnTo>
                      <a:pt x="671" y="1535"/>
                    </a:lnTo>
                    <a:lnTo>
                      <a:pt x="648" y="1540"/>
                    </a:lnTo>
                    <a:lnTo>
                      <a:pt x="625" y="1544"/>
                    </a:lnTo>
                    <a:lnTo>
                      <a:pt x="602" y="1549"/>
                    </a:lnTo>
                    <a:lnTo>
                      <a:pt x="612" y="1563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4400" y="2451240"/>
                <a:ext cx="372960" cy="490320"/>
              </a:xfrm>
              <a:custGeom>
                <a:avLst/>
                <a:gdLst/>
                <a:ahLst/>
                <a:rect l="l" t="t" r="r" b="b"/>
                <a:pathLst>
                  <a:path w="1176" h="1548">
                    <a:moveTo>
                      <a:pt x="512" y="0"/>
                    </a:moveTo>
                    <a:lnTo>
                      <a:pt x="508" y="0"/>
                    </a:lnTo>
                    <a:lnTo>
                      <a:pt x="504" y="0"/>
                    </a:lnTo>
                    <a:lnTo>
                      <a:pt x="501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91" y="0"/>
                    </a:lnTo>
                    <a:lnTo>
                      <a:pt x="487" y="0"/>
                    </a:lnTo>
                    <a:lnTo>
                      <a:pt x="483" y="0"/>
                    </a:lnTo>
                    <a:lnTo>
                      <a:pt x="450" y="0"/>
                    </a:lnTo>
                    <a:lnTo>
                      <a:pt x="416" y="2"/>
                    </a:lnTo>
                    <a:lnTo>
                      <a:pt x="382" y="7"/>
                    </a:lnTo>
                    <a:lnTo>
                      <a:pt x="350" y="12"/>
                    </a:lnTo>
                    <a:lnTo>
                      <a:pt x="317" y="18"/>
                    </a:lnTo>
                    <a:lnTo>
                      <a:pt x="285" y="25"/>
                    </a:lnTo>
                    <a:lnTo>
                      <a:pt x="253" y="35"/>
                    </a:lnTo>
                    <a:lnTo>
                      <a:pt x="223" y="44"/>
                    </a:lnTo>
                    <a:lnTo>
                      <a:pt x="192" y="56"/>
                    </a:lnTo>
                    <a:lnTo>
                      <a:pt x="163" y="69"/>
                    </a:lnTo>
                    <a:lnTo>
                      <a:pt x="133" y="82"/>
                    </a:lnTo>
                    <a:lnTo>
                      <a:pt x="105" y="98"/>
                    </a:lnTo>
                    <a:lnTo>
                      <a:pt x="78" y="114"/>
                    </a:lnTo>
                    <a:lnTo>
                      <a:pt x="51" y="130"/>
                    </a:lnTo>
                    <a:lnTo>
                      <a:pt x="25" y="149"/>
                    </a:lnTo>
                    <a:lnTo>
                      <a:pt x="0" y="168"/>
                    </a:lnTo>
                    <a:lnTo>
                      <a:pt x="4" y="186"/>
                    </a:lnTo>
                    <a:lnTo>
                      <a:pt x="28" y="167"/>
                    </a:lnTo>
                    <a:lnTo>
                      <a:pt x="54" y="148"/>
                    </a:lnTo>
                    <a:lnTo>
                      <a:pt x="81" y="132"/>
                    </a:lnTo>
                    <a:lnTo>
                      <a:pt x="108" y="116"/>
                    </a:lnTo>
                    <a:lnTo>
                      <a:pt x="136" y="100"/>
                    </a:lnTo>
                    <a:lnTo>
                      <a:pt x="165" y="86"/>
                    </a:lnTo>
                    <a:lnTo>
                      <a:pt x="194" y="74"/>
                    </a:lnTo>
                    <a:lnTo>
                      <a:pt x="225" y="62"/>
                    </a:lnTo>
                    <a:lnTo>
                      <a:pt x="255" y="52"/>
                    </a:lnTo>
                    <a:lnTo>
                      <a:pt x="287" y="42"/>
                    </a:lnTo>
                    <a:lnTo>
                      <a:pt x="318" y="35"/>
                    </a:lnTo>
                    <a:lnTo>
                      <a:pt x="351" y="29"/>
                    </a:lnTo>
                    <a:lnTo>
                      <a:pt x="383" y="23"/>
                    </a:lnTo>
                    <a:lnTo>
                      <a:pt x="416" y="19"/>
                    </a:lnTo>
                    <a:lnTo>
                      <a:pt x="450" y="17"/>
                    </a:lnTo>
                    <a:lnTo>
                      <a:pt x="483" y="17"/>
                    </a:lnTo>
                    <a:lnTo>
                      <a:pt x="488" y="17"/>
                    </a:lnTo>
                    <a:lnTo>
                      <a:pt x="493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6" y="17"/>
                    </a:lnTo>
                    <a:lnTo>
                      <a:pt x="512" y="17"/>
                    </a:lnTo>
                    <a:lnTo>
                      <a:pt x="516" y="17"/>
                    </a:lnTo>
                    <a:lnTo>
                      <a:pt x="521" y="17"/>
                    </a:lnTo>
                    <a:lnTo>
                      <a:pt x="512" y="0"/>
                    </a:lnTo>
                    <a:close/>
                    <a:moveTo>
                      <a:pt x="605" y="1548"/>
                    </a:moveTo>
                    <a:lnTo>
                      <a:pt x="628" y="1544"/>
                    </a:lnTo>
                    <a:lnTo>
                      <a:pt x="651" y="1540"/>
                    </a:lnTo>
                    <a:lnTo>
                      <a:pt x="675" y="1534"/>
                    </a:lnTo>
                    <a:lnTo>
                      <a:pt x="697" y="1528"/>
                    </a:lnTo>
                    <a:lnTo>
                      <a:pt x="719" y="1522"/>
                    </a:lnTo>
                    <a:lnTo>
                      <a:pt x="741" y="1514"/>
                    </a:lnTo>
                    <a:lnTo>
                      <a:pt x="763" y="1506"/>
                    </a:lnTo>
                    <a:lnTo>
                      <a:pt x="784" y="1498"/>
                    </a:lnTo>
                    <a:lnTo>
                      <a:pt x="805" y="1488"/>
                    </a:lnTo>
                    <a:lnTo>
                      <a:pt x="826" y="1479"/>
                    </a:lnTo>
                    <a:lnTo>
                      <a:pt x="846" y="1468"/>
                    </a:lnTo>
                    <a:lnTo>
                      <a:pt x="866" y="1458"/>
                    </a:lnTo>
                    <a:lnTo>
                      <a:pt x="886" y="1446"/>
                    </a:lnTo>
                    <a:lnTo>
                      <a:pt x="905" y="1434"/>
                    </a:lnTo>
                    <a:lnTo>
                      <a:pt x="924" y="1422"/>
                    </a:lnTo>
                    <a:lnTo>
                      <a:pt x="943" y="1408"/>
                    </a:lnTo>
                    <a:lnTo>
                      <a:pt x="960" y="1395"/>
                    </a:lnTo>
                    <a:lnTo>
                      <a:pt x="978" y="1381"/>
                    </a:lnTo>
                    <a:lnTo>
                      <a:pt x="995" y="1366"/>
                    </a:lnTo>
                    <a:lnTo>
                      <a:pt x="1012" y="1351"/>
                    </a:lnTo>
                    <a:lnTo>
                      <a:pt x="1029" y="1336"/>
                    </a:lnTo>
                    <a:lnTo>
                      <a:pt x="1045" y="1319"/>
                    </a:lnTo>
                    <a:lnTo>
                      <a:pt x="1060" y="1303"/>
                    </a:lnTo>
                    <a:lnTo>
                      <a:pt x="1075" y="1287"/>
                    </a:lnTo>
                    <a:lnTo>
                      <a:pt x="1090" y="1269"/>
                    </a:lnTo>
                    <a:lnTo>
                      <a:pt x="1103" y="1251"/>
                    </a:lnTo>
                    <a:lnTo>
                      <a:pt x="1117" y="1233"/>
                    </a:lnTo>
                    <a:lnTo>
                      <a:pt x="1130" y="1214"/>
                    </a:lnTo>
                    <a:lnTo>
                      <a:pt x="1142" y="1195"/>
                    </a:lnTo>
                    <a:lnTo>
                      <a:pt x="1154" y="1176"/>
                    </a:lnTo>
                    <a:lnTo>
                      <a:pt x="1165" y="1156"/>
                    </a:lnTo>
                    <a:lnTo>
                      <a:pt x="1176" y="1136"/>
                    </a:lnTo>
                    <a:lnTo>
                      <a:pt x="1164" y="1123"/>
                    </a:lnTo>
                    <a:lnTo>
                      <a:pt x="1154" y="1143"/>
                    </a:lnTo>
                    <a:lnTo>
                      <a:pt x="1142" y="1163"/>
                    </a:lnTo>
                    <a:lnTo>
                      <a:pt x="1131" y="1183"/>
                    </a:lnTo>
                    <a:lnTo>
                      <a:pt x="1118" y="1201"/>
                    </a:lnTo>
                    <a:lnTo>
                      <a:pt x="1106" y="1219"/>
                    </a:lnTo>
                    <a:lnTo>
                      <a:pt x="1092" y="1238"/>
                    </a:lnTo>
                    <a:lnTo>
                      <a:pt x="1078" y="1256"/>
                    </a:lnTo>
                    <a:lnTo>
                      <a:pt x="1065" y="1273"/>
                    </a:lnTo>
                    <a:lnTo>
                      <a:pt x="1049" y="1290"/>
                    </a:lnTo>
                    <a:lnTo>
                      <a:pt x="1034" y="1306"/>
                    </a:lnTo>
                    <a:lnTo>
                      <a:pt x="1018" y="1322"/>
                    </a:lnTo>
                    <a:lnTo>
                      <a:pt x="1001" y="1338"/>
                    </a:lnTo>
                    <a:lnTo>
                      <a:pt x="985" y="1353"/>
                    </a:lnTo>
                    <a:lnTo>
                      <a:pt x="968" y="1367"/>
                    </a:lnTo>
                    <a:lnTo>
                      <a:pt x="950" y="1382"/>
                    </a:lnTo>
                    <a:lnTo>
                      <a:pt x="932" y="1396"/>
                    </a:lnTo>
                    <a:lnTo>
                      <a:pt x="913" y="1408"/>
                    </a:lnTo>
                    <a:lnTo>
                      <a:pt x="894" y="1421"/>
                    </a:lnTo>
                    <a:lnTo>
                      <a:pt x="875" y="1432"/>
                    </a:lnTo>
                    <a:lnTo>
                      <a:pt x="855" y="1444"/>
                    </a:lnTo>
                    <a:lnTo>
                      <a:pt x="835" y="1455"/>
                    </a:lnTo>
                    <a:lnTo>
                      <a:pt x="815" y="1465"/>
                    </a:lnTo>
                    <a:lnTo>
                      <a:pt x="794" y="1474"/>
                    </a:lnTo>
                    <a:lnTo>
                      <a:pt x="773" y="1484"/>
                    </a:lnTo>
                    <a:lnTo>
                      <a:pt x="752" y="1492"/>
                    </a:lnTo>
                    <a:lnTo>
                      <a:pt x="730" y="1500"/>
                    </a:lnTo>
                    <a:lnTo>
                      <a:pt x="708" y="1507"/>
                    </a:lnTo>
                    <a:lnTo>
                      <a:pt x="686" y="1513"/>
                    </a:lnTo>
                    <a:lnTo>
                      <a:pt x="664" y="1520"/>
                    </a:lnTo>
                    <a:lnTo>
                      <a:pt x="641" y="1525"/>
                    </a:lnTo>
                    <a:lnTo>
                      <a:pt x="618" y="1529"/>
                    </a:lnTo>
                    <a:lnTo>
                      <a:pt x="595" y="1532"/>
                    </a:lnTo>
                    <a:lnTo>
                      <a:pt x="605" y="1548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64400" y="2452680"/>
                <a:ext cx="371160" cy="487440"/>
              </a:xfrm>
              <a:custGeom>
                <a:avLst/>
                <a:gdLst/>
                <a:ahLst/>
                <a:rect l="l" t="t" r="r" b="b"/>
                <a:pathLst>
                  <a:path w="1169" h="1532">
                    <a:moveTo>
                      <a:pt x="514" y="0"/>
                    </a:moveTo>
                    <a:lnTo>
                      <a:pt x="511" y="0"/>
                    </a:lnTo>
                    <a:lnTo>
                      <a:pt x="506" y="0"/>
                    </a:lnTo>
                    <a:lnTo>
                      <a:pt x="502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90" y="0"/>
                    </a:lnTo>
                    <a:lnTo>
                      <a:pt x="485" y="0"/>
                    </a:lnTo>
                    <a:lnTo>
                      <a:pt x="481" y="0"/>
                    </a:lnTo>
                    <a:lnTo>
                      <a:pt x="448" y="0"/>
                    </a:lnTo>
                    <a:lnTo>
                      <a:pt x="414" y="2"/>
                    </a:lnTo>
                    <a:lnTo>
                      <a:pt x="380" y="6"/>
                    </a:lnTo>
                    <a:lnTo>
                      <a:pt x="348" y="11"/>
                    </a:lnTo>
                    <a:lnTo>
                      <a:pt x="315" y="18"/>
                    </a:lnTo>
                    <a:lnTo>
                      <a:pt x="284" y="25"/>
                    </a:lnTo>
                    <a:lnTo>
                      <a:pt x="252" y="34"/>
                    </a:lnTo>
                    <a:lnTo>
                      <a:pt x="222" y="44"/>
                    </a:lnTo>
                    <a:lnTo>
                      <a:pt x="191" y="55"/>
                    </a:lnTo>
                    <a:lnTo>
                      <a:pt x="162" y="69"/>
                    </a:lnTo>
                    <a:lnTo>
                      <a:pt x="133" y="83"/>
                    </a:lnTo>
                    <a:lnTo>
                      <a:pt x="105" y="97"/>
                    </a:lnTo>
                    <a:lnTo>
                      <a:pt x="78" y="114"/>
                    </a:lnTo>
                    <a:lnTo>
                      <a:pt x="50" y="131"/>
                    </a:lnTo>
                    <a:lnTo>
                      <a:pt x="25" y="149"/>
                    </a:lnTo>
                    <a:lnTo>
                      <a:pt x="0" y="169"/>
                    </a:lnTo>
                    <a:lnTo>
                      <a:pt x="4" y="187"/>
                    </a:lnTo>
                    <a:lnTo>
                      <a:pt x="28" y="167"/>
                    </a:lnTo>
                    <a:lnTo>
                      <a:pt x="54" y="149"/>
                    </a:lnTo>
                    <a:lnTo>
                      <a:pt x="81" y="131"/>
                    </a:lnTo>
                    <a:lnTo>
                      <a:pt x="108" y="115"/>
                    </a:lnTo>
                    <a:lnTo>
                      <a:pt x="135" y="99"/>
                    </a:lnTo>
                    <a:lnTo>
                      <a:pt x="164" y="86"/>
                    </a:lnTo>
                    <a:lnTo>
                      <a:pt x="193" y="73"/>
                    </a:lnTo>
                    <a:lnTo>
                      <a:pt x="224" y="62"/>
                    </a:lnTo>
                    <a:lnTo>
                      <a:pt x="254" y="51"/>
                    </a:lnTo>
                    <a:lnTo>
                      <a:pt x="285" y="42"/>
                    </a:lnTo>
                    <a:lnTo>
                      <a:pt x="316" y="34"/>
                    </a:lnTo>
                    <a:lnTo>
                      <a:pt x="349" y="28"/>
                    </a:lnTo>
                    <a:lnTo>
                      <a:pt x="381" y="23"/>
                    </a:lnTo>
                    <a:lnTo>
                      <a:pt x="414" y="19"/>
                    </a:lnTo>
                    <a:lnTo>
                      <a:pt x="448" y="16"/>
                    </a:lnTo>
                    <a:lnTo>
                      <a:pt x="481" y="15"/>
                    </a:lnTo>
                    <a:lnTo>
                      <a:pt x="486" y="16"/>
                    </a:lnTo>
                    <a:lnTo>
                      <a:pt x="492" y="16"/>
                    </a:lnTo>
                    <a:lnTo>
                      <a:pt x="497" y="16"/>
                    </a:lnTo>
                    <a:lnTo>
                      <a:pt x="502" y="16"/>
                    </a:lnTo>
                    <a:lnTo>
                      <a:pt x="508" y="16"/>
                    </a:lnTo>
                    <a:lnTo>
                      <a:pt x="513" y="16"/>
                    </a:lnTo>
                    <a:lnTo>
                      <a:pt x="518" y="16"/>
                    </a:lnTo>
                    <a:lnTo>
                      <a:pt x="523" y="18"/>
                    </a:lnTo>
                    <a:lnTo>
                      <a:pt x="514" y="0"/>
                    </a:lnTo>
                    <a:close/>
                    <a:moveTo>
                      <a:pt x="598" y="1532"/>
                    </a:moveTo>
                    <a:lnTo>
                      <a:pt x="621" y="1527"/>
                    </a:lnTo>
                    <a:lnTo>
                      <a:pt x="644" y="1523"/>
                    </a:lnTo>
                    <a:lnTo>
                      <a:pt x="667" y="1518"/>
                    </a:lnTo>
                    <a:lnTo>
                      <a:pt x="689" y="1512"/>
                    </a:lnTo>
                    <a:lnTo>
                      <a:pt x="711" y="1505"/>
                    </a:lnTo>
                    <a:lnTo>
                      <a:pt x="734" y="1498"/>
                    </a:lnTo>
                    <a:lnTo>
                      <a:pt x="756" y="1491"/>
                    </a:lnTo>
                    <a:lnTo>
                      <a:pt x="777" y="1481"/>
                    </a:lnTo>
                    <a:lnTo>
                      <a:pt x="798" y="1473"/>
                    </a:lnTo>
                    <a:lnTo>
                      <a:pt x="819" y="1463"/>
                    </a:lnTo>
                    <a:lnTo>
                      <a:pt x="839" y="1453"/>
                    </a:lnTo>
                    <a:lnTo>
                      <a:pt x="859" y="1441"/>
                    </a:lnTo>
                    <a:lnTo>
                      <a:pt x="879" y="1431"/>
                    </a:lnTo>
                    <a:lnTo>
                      <a:pt x="897" y="1418"/>
                    </a:lnTo>
                    <a:lnTo>
                      <a:pt x="916" y="1406"/>
                    </a:lnTo>
                    <a:lnTo>
                      <a:pt x="935" y="1393"/>
                    </a:lnTo>
                    <a:lnTo>
                      <a:pt x="953" y="1379"/>
                    </a:lnTo>
                    <a:lnTo>
                      <a:pt x="971" y="1366"/>
                    </a:lnTo>
                    <a:lnTo>
                      <a:pt x="988" y="1351"/>
                    </a:lnTo>
                    <a:lnTo>
                      <a:pt x="1005" y="1335"/>
                    </a:lnTo>
                    <a:lnTo>
                      <a:pt x="1022" y="1321"/>
                    </a:lnTo>
                    <a:lnTo>
                      <a:pt x="1037" y="1304"/>
                    </a:lnTo>
                    <a:lnTo>
                      <a:pt x="1053" y="1288"/>
                    </a:lnTo>
                    <a:lnTo>
                      <a:pt x="1068" y="1270"/>
                    </a:lnTo>
                    <a:lnTo>
                      <a:pt x="1082" y="1253"/>
                    </a:lnTo>
                    <a:lnTo>
                      <a:pt x="1096" y="1236"/>
                    </a:lnTo>
                    <a:lnTo>
                      <a:pt x="1110" y="1218"/>
                    </a:lnTo>
                    <a:lnTo>
                      <a:pt x="1122" y="1199"/>
                    </a:lnTo>
                    <a:lnTo>
                      <a:pt x="1135" y="1180"/>
                    </a:lnTo>
                    <a:lnTo>
                      <a:pt x="1147" y="1160"/>
                    </a:lnTo>
                    <a:lnTo>
                      <a:pt x="1157" y="1141"/>
                    </a:lnTo>
                    <a:lnTo>
                      <a:pt x="1169" y="1120"/>
                    </a:lnTo>
                    <a:lnTo>
                      <a:pt x="1156" y="1107"/>
                    </a:lnTo>
                    <a:lnTo>
                      <a:pt x="1146" y="1127"/>
                    </a:lnTo>
                    <a:lnTo>
                      <a:pt x="1135" y="1147"/>
                    </a:lnTo>
                    <a:lnTo>
                      <a:pt x="1123" y="1166"/>
                    </a:lnTo>
                    <a:lnTo>
                      <a:pt x="1111" y="1185"/>
                    </a:lnTo>
                    <a:lnTo>
                      <a:pt x="1098" y="1204"/>
                    </a:lnTo>
                    <a:lnTo>
                      <a:pt x="1085" y="1223"/>
                    </a:lnTo>
                    <a:lnTo>
                      <a:pt x="1071" y="1240"/>
                    </a:lnTo>
                    <a:lnTo>
                      <a:pt x="1056" y="1258"/>
                    </a:lnTo>
                    <a:lnTo>
                      <a:pt x="1041" y="1274"/>
                    </a:lnTo>
                    <a:lnTo>
                      <a:pt x="1027" y="1291"/>
                    </a:lnTo>
                    <a:lnTo>
                      <a:pt x="1011" y="1307"/>
                    </a:lnTo>
                    <a:lnTo>
                      <a:pt x="994" y="1323"/>
                    </a:lnTo>
                    <a:lnTo>
                      <a:pt x="977" y="1337"/>
                    </a:lnTo>
                    <a:lnTo>
                      <a:pt x="961" y="1352"/>
                    </a:lnTo>
                    <a:lnTo>
                      <a:pt x="943" y="1366"/>
                    </a:lnTo>
                    <a:lnTo>
                      <a:pt x="925" y="1379"/>
                    </a:lnTo>
                    <a:lnTo>
                      <a:pt x="906" y="1393"/>
                    </a:lnTo>
                    <a:lnTo>
                      <a:pt x="887" y="1406"/>
                    </a:lnTo>
                    <a:lnTo>
                      <a:pt x="868" y="1417"/>
                    </a:lnTo>
                    <a:lnTo>
                      <a:pt x="848" y="1429"/>
                    </a:lnTo>
                    <a:lnTo>
                      <a:pt x="828" y="1439"/>
                    </a:lnTo>
                    <a:lnTo>
                      <a:pt x="808" y="1450"/>
                    </a:lnTo>
                    <a:lnTo>
                      <a:pt x="787" y="1459"/>
                    </a:lnTo>
                    <a:lnTo>
                      <a:pt x="766" y="1468"/>
                    </a:lnTo>
                    <a:lnTo>
                      <a:pt x="745" y="1476"/>
                    </a:lnTo>
                    <a:lnTo>
                      <a:pt x="723" y="1484"/>
                    </a:lnTo>
                    <a:lnTo>
                      <a:pt x="701" y="1491"/>
                    </a:lnTo>
                    <a:lnTo>
                      <a:pt x="679" y="1497"/>
                    </a:lnTo>
                    <a:lnTo>
                      <a:pt x="657" y="1503"/>
                    </a:lnTo>
                    <a:lnTo>
                      <a:pt x="634" y="1507"/>
                    </a:lnTo>
                    <a:lnTo>
                      <a:pt x="611" y="1513"/>
                    </a:lnTo>
                    <a:lnTo>
                      <a:pt x="587" y="1516"/>
                    </a:lnTo>
                    <a:lnTo>
                      <a:pt x="598" y="153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65840" y="2455920"/>
                <a:ext cx="368280" cy="480960"/>
              </a:xfrm>
              <a:custGeom>
                <a:avLst/>
                <a:gdLst/>
                <a:ahLst/>
                <a:rect l="l" t="t" r="r" b="b"/>
                <a:pathLst>
                  <a:path w="1160" h="1515">
                    <a:moveTo>
                      <a:pt x="517" y="0"/>
                    </a:moveTo>
                    <a:lnTo>
                      <a:pt x="512" y="0"/>
                    </a:lnTo>
                    <a:lnTo>
                      <a:pt x="508" y="0"/>
                    </a:lnTo>
                    <a:lnTo>
                      <a:pt x="502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484" y="0"/>
                    </a:lnTo>
                    <a:lnTo>
                      <a:pt x="479" y="0"/>
                    </a:lnTo>
                    <a:lnTo>
                      <a:pt x="446" y="0"/>
                    </a:lnTo>
                    <a:lnTo>
                      <a:pt x="412" y="2"/>
                    </a:lnTo>
                    <a:lnTo>
                      <a:pt x="379" y="6"/>
                    </a:lnTo>
                    <a:lnTo>
                      <a:pt x="347" y="12"/>
                    </a:lnTo>
                    <a:lnTo>
                      <a:pt x="314" y="18"/>
                    </a:lnTo>
                    <a:lnTo>
                      <a:pt x="283" y="25"/>
                    </a:lnTo>
                    <a:lnTo>
                      <a:pt x="251" y="35"/>
                    </a:lnTo>
                    <a:lnTo>
                      <a:pt x="221" y="45"/>
                    </a:lnTo>
                    <a:lnTo>
                      <a:pt x="190" y="57"/>
                    </a:lnTo>
                    <a:lnTo>
                      <a:pt x="161" y="69"/>
                    </a:lnTo>
                    <a:lnTo>
                      <a:pt x="132" y="83"/>
                    </a:lnTo>
                    <a:lnTo>
                      <a:pt x="104" y="99"/>
                    </a:lnTo>
                    <a:lnTo>
                      <a:pt x="77" y="115"/>
                    </a:lnTo>
                    <a:lnTo>
                      <a:pt x="50" y="131"/>
                    </a:lnTo>
                    <a:lnTo>
                      <a:pt x="24" y="150"/>
                    </a:lnTo>
                    <a:lnTo>
                      <a:pt x="0" y="169"/>
                    </a:lnTo>
                    <a:lnTo>
                      <a:pt x="4" y="188"/>
                    </a:lnTo>
                    <a:lnTo>
                      <a:pt x="28" y="168"/>
                    </a:lnTo>
                    <a:lnTo>
                      <a:pt x="54" y="149"/>
                    </a:lnTo>
                    <a:lnTo>
                      <a:pt x="80" y="132"/>
                    </a:lnTo>
                    <a:lnTo>
                      <a:pt x="107" y="116"/>
                    </a:lnTo>
                    <a:lnTo>
                      <a:pt x="134" y="101"/>
                    </a:lnTo>
                    <a:lnTo>
                      <a:pt x="164" y="86"/>
                    </a:lnTo>
                    <a:lnTo>
                      <a:pt x="192" y="74"/>
                    </a:lnTo>
                    <a:lnTo>
                      <a:pt x="223" y="62"/>
                    </a:lnTo>
                    <a:lnTo>
                      <a:pt x="252" y="52"/>
                    </a:lnTo>
                    <a:lnTo>
                      <a:pt x="284" y="42"/>
                    </a:lnTo>
                    <a:lnTo>
                      <a:pt x="315" y="35"/>
                    </a:lnTo>
                    <a:lnTo>
                      <a:pt x="347" y="28"/>
                    </a:lnTo>
                    <a:lnTo>
                      <a:pt x="379" y="23"/>
                    </a:lnTo>
                    <a:lnTo>
                      <a:pt x="413" y="19"/>
                    </a:lnTo>
                    <a:lnTo>
                      <a:pt x="446" y="17"/>
                    </a:lnTo>
                    <a:lnTo>
                      <a:pt x="479" y="16"/>
                    </a:lnTo>
                    <a:lnTo>
                      <a:pt x="486" y="17"/>
                    </a:lnTo>
                    <a:lnTo>
                      <a:pt x="491" y="17"/>
                    </a:lnTo>
                    <a:lnTo>
                      <a:pt x="497" y="17"/>
                    </a:lnTo>
                    <a:lnTo>
                      <a:pt x="502" y="17"/>
                    </a:lnTo>
                    <a:lnTo>
                      <a:pt x="509" y="17"/>
                    </a:lnTo>
                    <a:lnTo>
                      <a:pt x="514" y="17"/>
                    </a:lnTo>
                    <a:lnTo>
                      <a:pt x="520" y="18"/>
                    </a:lnTo>
                    <a:lnTo>
                      <a:pt x="525" y="18"/>
                    </a:lnTo>
                    <a:lnTo>
                      <a:pt x="517" y="0"/>
                    </a:lnTo>
                    <a:close/>
                    <a:moveTo>
                      <a:pt x="591" y="1515"/>
                    </a:moveTo>
                    <a:lnTo>
                      <a:pt x="614" y="1512"/>
                    </a:lnTo>
                    <a:lnTo>
                      <a:pt x="637" y="1508"/>
                    </a:lnTo>
                    <a:lnTo>
                      <a:pt x="660" y="1503"/>
                    </a:lnTo>
                    <a:lnTo>
                      <a:pt x="682" y="1496"/>
                    </a:lnTo>
                    <a:lnTo>
                      <a:pt x="704" y="1490"/>
                    </a:lnTo>
                    <a:lnTo>
                      <a:pt x="726" y="1483"/>
                    </a:lnTo>
                    <a:lnTo>
                      <a:pt x="748" y="1475"/>
                    </a:lnTo>
                    <a:lnTo>
                      <a:pt x="769" y="1467"/>
                    </a:lnTo>
                    <a:lnTo>
                      <a:pt x="790" y="1457"/>
                    </a:lnTo>
                    <a:lnTo>
                      <a:pt x="811" y="1448"/>
                    </a:lnTo>
                    <a:lnTo>
                      <a:pt x="831" y="1438"/>
                    </a:lnTo>
                    <a:lnTo>
                      <a:pt x="851" y="1427"/>
                    </a:lnTo>
                    <a:lnTo>
                      <a:pt x="871" y="1415"/>
                    </a:lnTo>
                    <a:lnTo>
                      <a:pt x="890" y="1404"/>
                    </a:lnTo>
                    <a:lnTo>
                      <a:pt x="909" y="1391"/>
                    </a:lnTo>
                    <a:lnTo>
                      <a:pt x="928" y="1379"/>
                    </a:lnTo>
                    <a:lnTo>
                      <a:pt x="946" y="1365"/>
                    </a:lnTo>
                    <a:lnTo>
                      <a:pt x="964" y="1350"/>
                    </a:lnTo>
                    <a:lnTo>
                      <a:pt x="981" y="1336"/>
                    </a:lnTo>
                    <a:lnTo>
                      <a:pt x="997" y="1321"/>
                    </a:lnTo>
                    <a:lnTo>
                      <a:pt x="1014" y="1305"/>
                    </a:lnTo>
                    <a:lnTo>
                      <a:pt x="1030" y="1289"/>
                    </a:lnTo>
                    <a:lnTo>
                      <a:pt x="1045" y="1273"/>
                    </a:lnTo>
                    <a:lnTo>
                      <a:pt x="1061" y="1256"/>
                    </a:lnTo>
                    <a:lnTo>
                      <a:pt x="1074" y="1239"/>
                    </a:lnTo>
                    <a:lnTo>
                      <a:pt x="1088" y="1221"/>
                    </a:lnTo>
                    <a:lnTo>
                      <a:pt x="1102" y="1202"/>
                    </a:lnTo>
                    <a:lnTo>
                      <a:pt x="1114" y="1184"/>
                    </a:lnTo>
                    <a:lnTo>
                      <a:pt x="1127" y="1166"/>
                    </a:lnTo>
                    <a:lnTo>
                      <a:pt x="1138" y="1146"/>
                    </a:lnTo>
                    <a:lnTo>
                      <a:pt x="1150" y="1126"/>
                    </a:lnTo>
                    <a:lnTo>
                      <a:pt x="1160" y="1106"/>
                    </a:lnTo>
                    <a:lnTo>
                      <a:pt x="1151" y="1095"/>
                    </a:lnTo>
                    <a:lnTo>
                      <a:pt x="1149" y="1091"/>
                    </a:lnTo>
                    <a:lnTo>
                      <a:pt x="1138" y="1112"/>
                    </a:lnTo>
                    <a:lnTo>
                      <a:pt x="1128" y="1132"/>
                    </a:lnTo>
                    <a:lnTo>
                      <a:pt x="1116" y="1151"/>
                    </a:lnTo>
                    <a:lnTo>
                      <a:pt x="1104" y="1170"/>
                    </a:lnTo>
                    <a:lnTo>
                      <a:pt x="1091" y="1189"/>
                    </a:lnTo>
                    <a:lnTo>
                      <a:pt x="1077" y="1208"/>
                    </a:lnTo>
                    <a:lnTo>
                      <a:pt x="1064" y="1225"/>
                    </a:lnTo>
                    <a:lnTo>
                      <a:pt x="1050" y="1242"/>
                    </a:lnTo>
                    <a:lnTo>
                      <a:pt x="1035" y="1259"/>
                    </a:lnTo>
                    <a:lnTo>
                      <a:pt x="1020" y="1276"/>
                    </a:lnTo>
                    <a:lnTo>
                      <a:pt x="1004" y="1292"/>
                    </a:lnTo>
                    <a:lnTo>
                      <a:pt x="988" y="1307"/>
                    </a:lnTo>
                    <a:lnTo>
                      <a:pt x="971" y="1323"/>
                    </a:lnTo>
                    <a:lnTo>
                      <a:pt x="953" y="1337"/>
                    </a:lnTo>
                    <a:lnTo>
                      <a:pt x="936" y="1351"/>
                    </a:lnTo>
                    <a:lnTo>
                      <a:pt x="918" y="1365"/>
                    </a:lnTo>
                    <a:lnTo>
                      <a:pt x="900" y="1378"/>
                    </a:lnTo>
                    <a:lnTo>
                      <a:pt x="881" y="1390"/>
                    </a:lnTo>
                    <a:lnTo>
                      <a:pt x="862" y="1402"/>
                    </a:lnTo>
                    <a:lnTo>
                      <a:pt x="842" y="1413"/>
                    </a:lnTo>
                    <a:lnTo>
                      <a:pt x="822" y="1424"/>
                    </a:lnTo>
                    <a:lnTo>
                      <a:pt x="801" y="1434"/>
                    </a:lnTo>
                    <a:lnTo>
                      <a:pt x="781" y="1444"/>
                    </a:lnTo>
                    <a:lnTo>
                      <a:pt x="760" y="1452"/>
                    </a:lnTo>
                    <a:lnTo>
                      <a:pt x="738" y="1461"/>
                    </a:lnTo>
                    <a:lnTo>
                      <a:pt x="717" y="1469"/>
                    </a:lnTo>
                    <a:lnTo>
                      <a:pt x="695" y="1475"/>
                    </a:lnTo>
                    <a:lnTo>
                      <a:pt x="673" y="1482"/>
                    </a:lnTo>
                    <a:lnTo>
                      <a:pt x="650" y="1488"/>
                    </a:lnTo>
                    <a:lnTo>
                      <a:pt x="626" y="1492"/>
                    </a:lnTo>
                    <a:lnTo>
                      <a:pt x="603" y="1496"/>
                    </a:lnTo>
                    <a:lnTo>
                      <a:pt x="580" y="1501"/>
                    </a:lnTo>
                    <a:lnTo>
                      <a:pt x="591" y="151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65840" y="2457360"/>
                <a:ext cx="366840" cy="478080"/>
              </a:xfrm>
              <a:custGeom>
                <a:avLst/>
                <a:gdLst/>
                <a:ahLst/>
                <a:rect l="l" t="t" r="r" b="b"/>
                <a:pathLst>
                  <a:path w="1152" h="1501">
                    <a:moveTo>
                      <a:pt x="519" y="3"/>
                    </a:moveTo>
                    <a:lnTo>
                      <a:pt x="514" y="1"/>
                    </a:lnTo>
                    <a:lnTo>
                      <a:pt x="509" y="1"/>
                    </a:lnTo>
                    <a:lnTo>
                      <a:pt x="504" y="1"/>
                    </a:lnTo>
                    <a:lnTo>
                      <a:pt x="498" y="1"/>
                    </a:lnTo>
                    <a:lnTo>
                      <a:pt x="493" y="1"/>
                    </a:lnTo>
                    <a:lnTo>
                      <a:pt x="488" y="1"/>
                    </a:lnTo>
                    <a:lnTo>
                      <a:pt x="482" y="1"/>
                    </a:lnTo>
                    <a:lnTo>
                      <a:pt x="477" y="0"/>
                    </a:lnTo>
                    <a:lnTo>
                      <a:pt x="444" y="1"/>
                    </a:lnTo>
                    <a:lnTo>
                      <a:pt x="410" y="4"/>
                    </a:lnTo>
                    <a:lnTo>
                      <a:pt x="377" y="8"/>
                    </a:lnTo>
                    <a:lnTo>
                      <a:pt x="345" y="13"/>
                    </a:lnTo>
                    <a:lnTo>
                      <a:pt x="312" y="19"/>
                    </a:lnTo>
                    <a:lnTo>
                      <a:pt x="281" y="27"/>
                    </a:lnTo>
                    <a:lnTo>
                      <a:pt x="250" y="36"/>
                    </a:lnTo>
                    <a:lnTo>
                      <a:pt x="220" y="47"/>
                    </a:lnTo>
                    <a:lnTo>
                      <a:pt x="189" y="58"/>
                    </a:lnTo>
                    <a:lnTo>
                      <a:pt x="160" y="71"/>
                    </a:lnTo>
                    <a:lnTo>
                      <a:pt x="131" y="84"/>
                    </a:lnTo>
                    <a:lnTo>
                      <a:pt x="104" y="100"/>
                    </a:lnTo>
                    <a:lnTo>
                      <a:pt x="77" y="116"/>
                    </a:lnTo>
                    <a:lnTo>
                      <a:pt x="50" y="134"/>
                    </a:lnTo>
                    <a:lnTo>
                      <a:pt x="24" y="152"/>
                    </a:lnTo>
                    <a:lnTo>
                      <a:pt x="0" y="172"/>
                    </a:lnTo>
                    <a:lnTo>
                      <a:pt x="4" y="189"/>
                    </a:lnTo>
                    <a:lnTo>
                      <a:pt x="28" y="171"/>
                    </a:lnTo>
                    <a:lnTo>
                      <a:pt x="54" y="152"/>
                    </a:lnTo>
                    <a:lnTo>
                      <a:pt x="80" y="134"/>
                    </a:lnTo>
                    <a:lnTo>
                      <a:pt x="106" y="118"/>
                    </a:lnTo>
                    <a:lnTo>
                      <a:pt x="135" y="102"/>
                    </a:lnTo>
                    <a:lnTo>
                      <a:pt x="163" y="89"/>
                    </a:lnTo>
                    <a:lnTo>
                      <a:pt x="191" y="75"/>
                    </a:lnTo>
                    <a:lnTo>
                      <a:pt x="221" y="63"/>
                    </a:lnTo>
                    <a:lnTo>
                      <a:pt x="251" y="53"/>
                    </a:lnTo>
                    <a:lnTo>
                      <a:pt x="283" y="43"/>
                    </a:lnTo>
                    <a:lnTo>
                      <a:pt x="313" y="36"/>
                    </a:lnTo>
                    <a:lnTo>
                      <a:pt x="346" y="30"/>
                    </a:lnTo>
                    <a:lnTo>
                      <a:pt x="378" y="25"/>
                    </a:lnTo>
                    <a:lnTo>
                      <a:pt x="411" y="20"/>
                    </a:lnTo>
                    <a:lnTo>
                      <a:pt x="444" y="18"/>
                    </a:lnTo>
                    <a:lnTo>
                      <a:pt x="477" y="17"/>
                    </a:lnTo>
                    <a:lnTo>
                      <a:pt x="484" y="18"/>
                    </a:lnTo>
                    <a:lnTo>
                      <a:pt x="491" y="18"/>
                    </a:lnTo>
                    <a:lnTo>
                      <a:pt x="497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6" y="18"/>
                    </a:lnTo>
                    <a:lnTo>
                      <a:pt x="522" y="19"/>
                    </a:lnTo>
                    <a:lnTo>
                      <a:pt x="529" y="19"/>
                    </a:lnTo>
                    <a:lnTo>
                      <a:pt x="527" y="17"/>
                    </a:lnTo>
                    <a:lnTo>
                      <a:pt x="519" y="3"/>
                    </a:lnTo>
                    <a:close/>
                    <a:moveTo>
                      <a:pt x="583" y="1501"/>
                    </a:moveTo>
                    <a:lnTo>
                      <a:pt x="607" y="1498"/>
                    </a:lnTo>
                    <a:lnTo>
                      <a:pt x="630" y="1492"/>
                    </a:lnTo>
                    <a:lnTo>
                      <a:pt x="653" y="1488"/>
                    </a:lnTo>
                    <a:lnTo>
                      <a:pt x="675" y="1482"/>
                    </a:lnTo>
                    <a:lnTo>
                      <a:pt x="697" y="1476"/>
                    </a:lnTo>
                    <a:lnTo>
                      <a:pt x="719" y="1469"/>
                    </a:lnTo>
                    <a:lnTo>
                      <a:pt x="741" y="1461"/>
                    </a:lnTo>
                    <a:lnTo>
                      <a:pt x="762" y="1453"/>
                    </a:lnTo>
                    <a:lnTo>
                      <a:pt x="783" y="1444"/>
                    </a:lnTo>
                    <a:lnTo>
                      <a:pt x="804" y="1435"/>
                    </a:lnTo>
                    <a:lnTo>
                      <a:pt x="824" y="1424"/>
                    </a:lnTo>
                    <a:lnTo>
                      <a:pt x="844" y="1414"/>
                    </a:lnTo>
                    <a:lnTo>
                      <a:pt x="864" y="1402"/>
                    </a:lnTo>
                    <a:lnTo>
                      <a:pt x="883" y="1391"/>
                    </a:lnTo>
                    <a:lnTo>
                      <a:pt x="902" y="1378"/>
                    </a:lnTo>
                    <a:lnTo>
                      <a:pt x="921" y="1364"/>
                    </a:lnTo>
                    <a:lnTo>
                      <a:pt x="939" y="1351"/>
                    </a:lnTo>
                    <a:lnTo>
                      <a:pt x="957" y="1337"/>
                    </a:lnTo>
                    <a:lnTo>
                      <a:pt x="973" y="1322"/>
                    </a:lnTo>
                    <a:lnTo>
                      <a:pt x="990" y="1308"/>
                    </a:lnTo>
                    <a:lnTo>
                      <a:pt x="1007" y="1292"/>
                    </a:lnTo>
                    <a:lnTo>
                      <a:pt x="1023" y="1276"/>
                    </a:lnTo>
                    <a:lnTo>
                      <a:pt x="1037" y="1259"/>
                    </a:lnTo>
                    <a:lnTo>
                      <a:pt x="1052" y="1243"/>
                    </a:lnTo>
                    <a:lnTo>
                      <a:pt x="1067" y="1225"/>
                    </a:lnTo>
                    <a:lnTo>
                      <a:pt x="1081" y="1208"/>
                    </a:lnTo>
                    <a:lnTo>
                      <a:pt x="1094" y="1189"/>
                    </a:lnTo>
                    <a:lnTo>
                      <a:pt x="1107" y="1170"/>
                    </a:lnTo>
                    <a:lnTo>
                      <a:pt x="1119" y="1151"/>
                    </a:lnTo>
                    <a:lnTo>
                      <a:pt x="1131" y="1132"/>
                    </a:lnTo>
                    <a:lnTo>
                      <a:pt x="1142" y="1112"/>
                    </a:lnTo>
                    <a:lnTo>
                      <a:pt x="1152" y="1092"/>
                    </a:lnTo>
                    <a:lnTo>
                      <a:pt x="1149" y="1088"/>
                    </a:lnTo>
                    <a:lnTo>
                      <a:pt x="1142" y="1076"/>
                    </a:lnTo>
                    <a:lnTo>
                      <a:pt x="1132" y="1096"/>
                    </a:lnTo>
                    <a:lnTo>
                      <a:pt x="1121" y="1116"/>
                    </a:lnTo>
                    <a:lnTo>
                      <a:pt x="1109" y="1135"/>
                    </a:lnTo>
                    <a:lnTo>
                      <a:pt x="1097" y="1154"/>
                    </a:lnTo>
                    <a:lnTo>
                      <a:pt x="1085" y="1173"/>
                    </a:lnTo>
                    <a:lnTo>
                      <a:pt x="1071" y="1192"/>
                    </a:lnTo>
                    <a:lnTo>
                      <a:pt x="1057" y="1210"/>
                    </a:lnTo>
                    <a:lnTo>
                      <a:pt x="1044" y="1227"/>
                    </a:lnTo>
                    <a:lnTo>
                      <a:pt x="1029" y="1245"/>
                    </a:lnTo>
                    <a:lnTo>
                      <a:pt x="1013" y="1261"/>
                    </a:lnTo>
                    <a:lnTo>
                      <a:pt x="998" y="1277"/>
                    </a:lnTo>
                    <a:lnTo>
                      <a:pt x="982" y="1293"/>
                    </a:lnTo>
                    <a:lnTo>
                      <a:pt x="965" y="1308"/>
                    </a:lnTo>
                    <a:lnTo>
                      <a:pt x="947" y="1322"/>
                    </a:lnTo>
                    <a:lnTo>
                      <a:pt x="930" y="1337"/>
                    </a:lnTo>
                    <a:lnTo>
                      <a:pt x="912" y="1351"/>
                    </a:lnTo>
                    <a:lnTo>
                      <a:pt x="893" y="1363"/>
                    </a:lnTo>
                    <a:lnTo>
                      <a:pt x="875" y="1376"/>
                    </a:lnTo>
                    <a:lnTo>
                      <a:pt x="856" y="1387"/>
                    </a:lnTo>
                    <a:lnTo>
                      <a:pt x="836" y="1399"/>
                    </a:lnTo>
                    <a:lnTo>
                      <a:pt x="816" y="1410"/>
                    </a:lnTo>
                    <a:lnTo>
                      <a:pt x="795" y="1420"/>
                    </a:lnTo>
                    <a:lnTo>
                      <a:pt x="774" y="1429"/>
                    </a:lnTo>
                    <a:lnTo>
                      <a:pt x="753" y="1439"/>
                    </a:lnTo>
                    <a:lnTo>
                      <a:pt x="732" y="1446"/>
                    </a:lnTo>
                    <a:lnTo>
                      <a:pt x="710" y="1455"/>
                    </a:lnTo>
                    <a:lnTo>
                      <a:pt x="687" y="1461"/>
                    </a:lnTo>
                    <a:lnTo>
                      <a:pt x="665" y="1467"/>
                    </a:lnTo>
                    <a:lnTo>
                      <a:pt x="642" y="1474"/>
                    </a:lnTo>
                    <a:lnTo>
                      <a:pt x="620" y="1478"/>
                    </a:lnTo>
                    <a:lnTo>
                      <a:pt x="597" y="1482"/>
                    </a:lnTo>
                    <a:lnTo>
                      <a:pt x="573" y="1485"/>
                    </a:lnTo>
                    <a:lnTo>
                      <a:pt x="583" y="1501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67280" y="2460600"/>
                <a:ext cx="363600" cy="471600"/>
              </a:xfrm>
              <a:custGeom>
                <a:avLst/>
                <a:gdLst/>
                <a:ahLst/>
                <a:rect l="l" t="t" r="r" b="b"/>
                <a:pathLst>
                  <a:path w="1145" h="1485">
                    <a:moveTo>
                      <a:pt x="521" y="2"/>
                    </a:moveTo>
                    <a:lnTo>
                      <a:pt x="516" y="2"/>
                    </a:lnTo>
                    <a:lnTo>
                      <a:pt x="510" y="1"/>
                    </a:lnTo>
                    <a:lnTo>
                      <a:pt x="505" y="1"/>
                    </a:lnTo>
                    <a:lnTo>
                      <a:pt x="498" y="1"/>
                    </a:lnTo>
                    <a:lnTo>
                      <a:pt x="493" y="1"/>
                    </a:lnTo>
                    <a:lnTo>
                      <a:pt x="487" y="1"/>
                    </a:lnTo>
                    <a:lnTo>
                      <a:pt x="482" y="1"/>
                    </a:lnTo>
                    <a:lnTo>
                      <a:pt x="475" y="0"/>
                    </a:lnTo>
                    <a:lnTo>
                      <a:pt x="442" y="1"/>
                    </a:lnTo>
                    <a:lnTo>
                      <a:pt x="409" y="3"/>
                    </a:lnTo>
                    <a:lnTo>
                      <a:pt x="375" y="7"/>
                    </a:lnTo>
                    <a:lnTo>
                      <a:pt x="343" y="12"/>
                    </a:lnTo>
                    <a:lnTo>
                      <a:pt x="311" y="19"/>
                    </a:lnTo>
                    <a:lnTo>
                      <a:pt x="280" y="26"/>
                    </a:lnTo>
                    <a:lnTo>
                      <a:pt x="248" y="36"/>
                    </a:lnTo>
                    <a:lnTo>
                      <a:pt x="219" y="46"/>
                    </a:lnTo>
                    <a:lnTo>
                      <a:pt x="188" y="58"/>
                    </a:lnTo>
                    <a:lnTo>
                      <a:pt x="160" y="70"/>
                    </a:lnTo>
                    <a:lnTo>
                      <a:pt x="130" y="85"/>
                    </a:lnTo>
                    <a:lnTo>
                      <a:pt x="103" y="100"/>
                    </a:lnTo>
                    <a:lnTo>
                      <a:pt x="76" y="116"/>
                    </a:lnTo>
                    <a:lnTo>
                      <a:pt x="50" y="133"/>
                    </a:lnTo>
                    <a:lnTo>
                      <a:pt x="24" y="152"/>
                    </a:lnTo>
                    <a:lnTo>
                      <a:pt x="0" y="172"/>
                    </a:lnTo>
                    <a:lnTo>
                      <a:pt x="4" y="190"/>
                    </a:lnTo>
                    <a:lnTo>
                      <a:pt x="29" y="170"/>
                    </a:lnTo>
                    <a:lnTo>
                      <a:pt x="54" y="152"/>
                    </a:lnTo>
                    <a:lnTo>
                      <a:pt x="80" y="134"/>
                    </a:lnTo>
                    <a:lnTo>
                      <a:pt x="106" y="117"/>
                    </a:lnTo>
                    <a:lnTo>
                      <a:pt x="134" y="102"/>
                    </a:lnTo>
                    <a:lnTo>
                      <a:pt x="162" y="88"/>
                    </a:lnTo>
                    <a:lnTo>
                      <a:pt x="190" y="75"/>
                    </a:lnTo>
                    <a:lnTo>
                      <a:pt x="220" y="63"/>
                    </a:lnTo>
                    <a:lnTo>
                      <a:pt x="250" y="52"/>
                    </a:lnTo>
                    <a:lnTo>
                      <a:pt x="281" y="44"/>
                    </a:lnTo>
                    <a:lnTo>
                      <a:pt x="312" y="36"/>
                    </a:lnTo>
                    <a:lnTo>
                      <a:pt x="344" y="29"/>
                    </a:lnTo>
                    <a:lnTo>
                      <a:pt x="376" y="24"/>
                    </a:lnTo>
                    <a:lnTo>
                      <a:pt x="409" y="20"/>
                    </a:lnTo>
                    <a:lnTo>
                      <a:pt x="442" y="18"/>
                    </a:lnTo>
                    <a:lnTo>
                      <a:pt x="475" y="17"/>
                    </a:lnTo>
                    <a:lnTo>
                      <a:pt x="483" y="18"/>
                    </a:lnTo>
                    <a:lnTo>
                      <a:pt x="490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7" y="19"/>
                    </a:lnTo>
                    <a:lnTo>
                      <a:pt x="524" y="19"/>
                    </a:lnTo>
                    <a:lnTo>
                      <a:pt x="531" y="19"/>
                    </a:lnTo>
                    <a:lnTo>
                      <a:pt x="525" y="8"/>
                    </a:lnTo>
                    <a:lnTo>
                      <a:pt x="521" y="2"/>
                    </a:lnTo>
                    <a:close/>
                    <a:moveTo>
                      <a:pt x="576" y="1485"/>
                    </a:moveTo>
                    <a:lnTo>
                      <a:pt x="599" y="1480"/>
                    </a:lnTo>
                    <a:lnTo>
                      <a:pt x="622" y="1476"/>
                    </a:lnTo>
                    <a:lnTo>
                      <a:pt x="646" y="1472"/>
                    </a:lnTo>
                    <a:lnTo>
                      <a:pt x="669" y="1466"/>
                    </a:lnTo>
                    <a:lnTo>
                      <a:pt x="691" y="1459"/>
                    </a:lnTo>
                    <a:lnTo>
                      <a:pt x="713" y="1453"/>
                    </a:lnTo>
                    <a:lnTo>
                      <a:pt x="734" y="1445"/>
                    </a:lnTo>
                    <a:lnTo>
                      <a:pt x="756" y="1436"/>
                    </a:lnTo>
                    <a:lnTo>
                      <a:pt x="777" y="1428"/>
                    </a:lnTo>
                    <a:lnTo>
                      <a:pt x="797" y="1418"/>
                    </a:lnTo>
                    <a:lnTo>
                      <a:pt x="818" y="1408"/>
                    </a:lnTo>
                    <a:lnTo>
                      <a:pt x="838" y="1397"/>
                    </a:lnTo>
                    <a:lnTo>
                      <a:pt x="858" y="1386"/>
                    </a:lnTo>
                    <a:lnTo>
                      <a:pt x="877" y="1374"/>
                    </a:lnTo>
                    <a:lnTo>
                      <a:pt x="896" y="1362"/>
                    </a:lnTo>
                    <a:lnTo>
                      <a:pt x="914" y="1349"/>
                    </a:lnTo>
                    <a:lnTo>
                      <a:pt x="932" y="1335"/>
                    </a:lnTo>
                    <a:lnTo>
                      <a:pt x="949" y="1321"/>
                    </a:lnTo>
                    <a:lnTo>
                      <a:pt x="967" y="1307"/>
                    </a:lnTo>
                    <a:lnTo>
                      <a:pt x="984" y="1291"/>
                    </a:lnTo>
                    <a:lnTo>
                      <a:pt x="1000" y="1276"/>
                    </a:lnTo>
                    <a:lnTo>
                      <a:pt x="1016" y="1260"/>
                    </a:lnTo>
                    <a:lnTo>
                      <a:pt x="1031" y="1243"/>
                    </a:lnTo>
                    <a:lnTo>
                      <a:pt x="1046" y="1226"/>
                    </a:lnTo>
                    <a:lnTo>
                      <a:pt x="1060" y="1209"/>
                    </a:lnTo>
                    <a:lnTo>
                      <a:pt x="1073" y="1192"/>
                    </a:lnTo>
                    <a:lnTo>
                      <a:pt x="1087" y="1173"/>
                    </a:lnTo>
                    <a:lnTo>
                      <a:pt x="1100" y="1154"/>
                    </a:lnTo>
                    <a:lnTo>
                      <a:pt x="1112" y="1135"/>
                    </a:lnTo>
                    <a:lnTo>
                      <a:pt x="1124" y="1116"/>
                    </a:lnTo>
                    <a:lnTo>
                      <a:pt x="1134" y="1096"/>
                    </a:lnTo>
                    <a:lnTo>
                      <a:pt x="1145" y="1075"/>
                    </a:lnTo>
                    <a:lnTo>
                      <a:pt x="1135" y="1057"/>
                    </a:lnTo>
                    <a:lnTo>
                      <a:pt x="1125" y="1077"/>
                    </a:lnTo>
                    <a:lnTo>
                      <a:pt x="1114" y="1098"/>
                    </a:lnTo>
                    <a:lnTo>
                      <a:pt x="1103" y="1117"/>
                    </a:lnTo>
                    <a:lnTo>
                      <a:pt x="1091" y="1137"/>
                    </a:lnTo>
                    <a:lnTo>
                      <a:pt x="1079" y="1156"/>
                    </a:lnTo>
                    <a:lnTo>
                      <a:pt x="1065" y="1175"/>
                    </a:lnTo>
                    <a:lnTo>
                      <a:pt x="1051" y="1193"/>
                    </a:lnTo>
                    <a:lnTo>
                      <a:pt x="1038" y="1210"/>
                    </a:lnTo>
                    <a:lnTo>
                      <a:pt x="1023" y="1227"/>
                    </a:lnTo>
                    <a:lnTo>
                      <a:pt x="1007" y="1244"/>
                    </a:lnTo>
                    <a:lnTo>
                      <a:pt x="991" y="1261"/>
                    </a:lnTo>
                    <a:lnTo>
                      <a:pt x="976" y="1276"/>
                    </a:lnTo>
                    <a:lnTo>
                      <a:pt x="959" y="1291"/>
                    </a:lnTo>
                    <a:lnTo>
                      <a:pt x="942" y="1306"/>
                    </a:lnTo>
                    <a:lnTo>
                      <a:pt x="924" y="1321"/>
                    </a:lnTo>
                    <a:lnTo>
                      <a:pt x="906" y="1334"/>
                    </a:lnTo>
                    <a:lnTo>
                      <a:pt x="887" y="1347"/>
                    </a:lnTo>
                    <a:lnTo>
                      <a:pt x="868" y="1360"/>
                    </a:lnTo>
                    <a:lnTo>
                      <a:pt x="849" y="1371"/>
                    </a:lnTo>
                    <a:lnTo>
                      <a:pt x="829" y="1383"/>
                    </a:lnTo>
                    <a:lnTo>
                      <a:pt x="810" y="1394"/>
                    </a:lnTo>
                    <a:lnTo>
                      <a:pt x="788" y="1404"/>
                    </a:lnTo>
                    <a:lnTo>
                      <a:pt x="767" y="1413"/>
                    </a:lnTo>
                    <a:lnTo>
                      <a:pt x="746" y="1423"/>
                    </a:lnTo>
                    <a:lnTo>
                      <a:pt x="725" y="1431"/>
                    </a:lnTo>
                    <a:lnTo>
                      <a:pt x="703" y="1438"/>
                    </a:lnTo>
                    <a:lnTo>
                      <a:pt x="681" y="1445"/>
                    </a:lnTo>
                    <a:lnTo>
                      <a:pt x="658" y="1451"/>
                    </a:lnTo>
                    <a:lnTo>
                      <a:pt x="636" y="1456"/>
                    </a:lnTo>
                    <a:lnTo>
                      <a:pt x="613" y="1461"/>
                    </a:lnTo>
                    <a:lnTo>
                      <a:pt x="590" y="1466"/>
                    </a:lnTo>
                    <a:lnTo>
                      <a:pt x="566" y="1469"/>
                    </a:lnTo>
                    <a:lnTo>
                      <a:pt x="576" y="148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67280" y="2463840"/>
                <a:ext cx="362160" cy="465120"/>
              </a:xfrm>
              <a:custGeom>
                <a:avLst/>
                <a:gdLst/>
                <a:ahLst/>
                <a:rect l="l" t="t" r="r" b="b"/>
                <a:pathLst>
                  <a:path w="1138" h="1468">
                    <a:moveTo>
                      <a:pt x="525" y="2"/>
                    </a:moveTo>
                    <a:lnTo>
                      <a:pt x="518" y="2"/>
                    </a:lnTo>
                    <a:lnTo>
                      <a:pt x="512" y="1"/>
                    </a:lnTo>
                    <a:lnTo>
                      <a:pt x="506" y="1"/>
                    </a:lnTo>
                    <a:lnTo>
                      <a:pt x="500" y="1"/>
                    </a:lnTo>
                    <a:lnTo>
                      <a:pt x="493" y="1"/>
                    </a:lnTo>
                    <a:lnTo>
                      <a:pt x="487" y="1"/>
                    </a:lnTo>
                    <a:lnTo>
                      <a:pt x="480" y="1"/>
                    </a:lnTo>
                    <a:lnTo>
                      <a:pt x="473" y="0"/>
                    </a:lnTo>
                    <a:lnTo>
                      <a:pt x="440" y="1"/>
                    </a:lnTo>
                    <a:lnTo>
                      <a:pt x="407" y="3"/>
                    </a:lnTo>
                    <a:lnTo>
                      <a:pt x="374" y="8"/>
                    </a:lnTo>
                    <a:lnTo>
                      <a:pt x="342" y="13"/>
                    </a:lnTo>
                    <a:lnTo>
                      <a:pt x="309" y="19"/>
                    </a:lnTo>
                    <a:lnTo>
                      <a:pt x="279" y="26"/>
                    </a:lnTo>
                    <a:lnTo>
                      <a:pt x="247" y="36"/>
                    </a:lnTo>
                    <a:lnTo>
                      <a:pt x="217" y="46"/>
                    </a:lnTo>
                    <a:lnTo>
                      <a:pt x="187" y="58"/>
                    </a:lnTo>
                    <a:lnTo>
                      <a:pt x="159" y="72"/>
                    </a:lnTo>
                    <a:lnTo>
                      <a:pt x="131" y="85"/>
                    </a:lnTo>
                    <a:lnTo>
                      <a:pt x="102" y="101"/>
                    </a:lnTo>
                    <a:lnTo>
                      <a:pt x="76" y="117"/>
                    </a:lnTo>
                    <a:lnTo>
                      <a:pt x="50" y="135"/>
                    </a:lnTo>
                    <a:lnTo>
                      <a:pt x="24" y="154"/>
                    </a:lnTo>
                    <a:lnTo>
                      <a:pt x="0" y="172"/>
                    </a:lnTo>
                    <a:lnTo>
                      <a:pt x="4" y="191"/>
                    </a:lnTo>
                    <a:lnTo>
                      <a:pt x="29" y="171"/>
                    </a:lnTo>
                    <a:lnTo>
                      <a:pt x="54" y="152"/>
                    </a:lnTo>
                    <a:lnTo>
                      <a:pt x="79" y="135"/>
                    </a:lnTo>
                    <a:lnTo>
                      <a:pt x="105" y="118"/>
                    </a:lnTo>
                    <a:lnTo>
                      <a:pt x="133" y="103"/>
                    </a:lnTo>
                    <a:lnTo>
                      <a:pt x="161" y="88"/>
                    </a:lnTo>
                    <a:lnTo>
                      <a:pt x="189" y="76"/>
                    </a:lnTo>
                    <a:lnTo>
                      <a:pt x="219" y="63"/>
                    </a:lnTo>
                    <a:lnTo>
                      <a:pt x="249" y="53"/>
                    </a:lnTo>
                    <a:lnTo>
                      <a:pt x="280" y="44"/>
                    </a:lnTo>
                    <a:lnTo>
                      <a:pt x="310" y="36"/>
                    </a:lnTo>
                    <a:lnTo>
                      <a:pt x="343" y="30"/>
                    </a:lnTo>
                    <a:lnTo>
                      <a:pt x="374" y="24"/>
                    </a:lnTo>
                    <a:lnTo>
                      <a:pt x="407" y="20"/>
                    </a:lnTo>
                    <a:lnTo>
                      <a:pt x="441" y="18"/>
                    </a:lnTo>
                    <a:lnTo>
                      <a:pt x="473" y="17"/>
                    </a:lnTo>
                    <a:lnTo>
                      <a:pt x="482" y="17"/>
                    </a:lnTo>
                    <a:lnTo>
                      <a:pt x="489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1" y="18"/>
                    </a:lnTo>
                    <a:lnTo>
                      <a:pt x="518" y="19"/>
                    </a:lnTo>
                    <a:lnTo>
                      <a:pt x="526" y="19"/>
                    </a:lnTo>
                    <a:lnTo>
                      <a:pt x="533" y="20"/>
                    </a:lnTo>
                    <a:lnTo>
                      <a:pt x="525" y="2"/>
                    </a:lnTo>
                    <a:close/>
                    <a:moveTo>
                      <a:pt x="569" y="1468"/>
                    </a:moveTo>
                    <a:lnTo>
                      <a:pt x="593" y="1465"/>
                    </a:lnTo>
                    <a:lnTo>
                      <a:pt x="616" y="1461"/>
                    </a:lnTo>
                    <a:lnTo>
                      <a:pt x="638" y="1457"/>
                    </a:lnTo>
                    <a:lnTo>
                      <a:pt x="661" y="1450"/>
                    </a:lnTo>
                    <a:lnTo>
                      <a:pt x="683" y="1444"/>
                    </a:lnTo>
                    <a:lnTo>
                      <a:pt x="706" y="1438"/>
                    </a:lnTo>
                    <a:lnTo>
                      <a:pt x="728" y="1429"/>
                    </a:lnTo>
                    <a:lnTo>
                      <a:pt x="749" y="1422"/>
                    </a:lnTo>
                    <a:lnTo>
                      <a:pt x="770" y="1412"/>
                    </a:lnTo>
                    <a:lnTo>
                      <a:pt x="791" y="1403"/>
                    </a:lnTo>
                    <a:lnTo>
                      <a:pt x="812" y="1393"/>
                    </a:lnTo>
                    <a:lnTo>
                      <a:pt x="832" y="1382"/>
                    </a:lnTo>
                    <a:lnTo>
                      <a:pt x="852" y="1370"/>
                    </a:lnTo>
                    <a:lnTo>
                      <a:pt x="871" y="1359"/>
                    </a:lnTo>
                    <a:lnTo>
                      <a:pt x="889" y="1346"/>
                    </a:lnTo>
                    <a:lnTo>
                      <a:pt x="908" y="1334"/>
                    </a:lnTo>
                    <a:lnTo>
                      <a:pt x="926" y="1320"/>
                    </a:lnTo>
                    <a:lnTo>
                      <a:pt x="943" y="1305"/>
                    </a:lnTo>
                    <a:lnTo>
                      <a:pt x="961" y="1291"/>
                    </a:lnTo>
                    <a:lnTo>
                      <a:pt x="978" y="1276"/>
                    </a:lnTo>
                    <a:lnTo>
                      <a:pt x="994" y="1260"/>
                    </a:lnTo>
                    <a:lnTo>
                      <a:pt x="1009" y="1244"/>
                    </a:lnTo>
                    <a:lnTo>
                      <a:pt x="1025" y="1228"/>
                    </a:lnTo>
                    <a:lnTo>
                      <a:pt x="1040" y="1210"/>
                    </a:lnTo>
                    <a:lnTo>
                      <a:pt x="1053" y="1193"/>
                    </a:lnTo>
                    <a:lnTo>
                      <a:pt x="1067" y="1175"/>
                    </a:lnTo>
                    <a:lnTo>
                      <a:pt x="1081" y="1156"/>
                    </a:lnTo>
                    <a:lnTo>
                      <a:pt x="1093" y="1137"/>
                    </a:lnTo>
                    <a:lnTo>
                      <a:pt x="1105" y="1118"/>
                    </a:lnTo>
                    <a:lnTo>
                      <a:pt x="1117" y="1099"/>
                    </a:lnTo>
                    <a:lnTo>
                      <a:pt x="1128" y="1079"/>
                    </a:lnTo>
                    <a:lnTo>
                      <a:pt x="1138" y="1059"/>
                    </a:lnTo>
                    <a:lnTo>
                      <a:pt x="1128" y="1040"/>
                    </a:lnTo>
                    <a:lnTo>
                      <a:pt x="1119" y="1061"/>
                    </a:lnTo>
                    <a:lnTo>
                      <a:pt x="1108" y="1081"/>
                    </a:lnTo>
                    <a:lnTo>
                      <a:pt x="1097" y="1101"/>
                    </a:lnTo>
                    <a:lnTo>
                      <a:pt x="1085" y="1121"/>
                    </a:lnTo>
                    <a:lnTo>
                      <a:pt x="1072" y="1139"/>
                    </a:lnTo>
                    <a:lnTo>
                      <a:pt x="1059" y="1158"/>
                    </a:lnTo>
                    <a:lnTo>
                      <a:pt x="1045" y="1176"/>
                    </a:lnTo>
                    <a:lnTo>
                      <a:pt x="1031" y="1194"/>
                    </a:lnTo>
                    <a:lnTo>
                      <a:pt x="1017" y="1211"/>
                    </a:lnTo>
                    <a:lnTo>
                      <a:pt x="1002" y="1228"/>
                    </a:lnTo>
                    <a:lnTo>
                      <a:pt x="986" y="1244"/>
                    </a:lnTo>
                    <a:lnTo>
                      <a:pt x="969" y="1260"/>
                    </a:lnTo>
                    <a:lnTo>
                      <a:pt x="953" y="1276"/>
                    </a:lnTo>
                    <a:lnTo>
                      <a:pt x="936" y="1291"/>
                    </a:lnTo>
                    <a:lnTo>
                      <a:pt x="918" y="1305"/>
                    </a:lnTo>
                    <a:lnTo>
                      <a:pt x="900" y="1319"/>
                    </a:lnTo>
                    <a:lnTo>
                      <a:pt x="881" y="1332"/>
                    </a:lnTo>
                    <a:lnTo>
                      <a:pt x="862" y="1344"/>
                    </a:lnTo>
                    <a:lnTo>
                      <a:pt x="843" y="1357"/>
                    </a:lnTo>
                    <a:lnTo>
                      <a:pt x="823" y="1367"/>
                    </a:lnTo>
                    <a:lnTo>
                      <a:pt x="802" y="1379"/>
                    </a:lnTo>
                    <a:lnTo>
                      <a:pt x="782" y="1388"/>
                    </a:lnTo>
                    <a:lnTo>
                      <a:pt x="761" y="1398"/>
                    </a:lnTo>
                    <a:lnTo>
                      <a:pt x="740" y="1407"/>
                    </a:lnTo>
                    <a:lnTo>
                      <a:pt x="718" y="1416"/>
                    </a:lnTo>
                    <a:lnTo>
                      <a:pt x="696" y="1423"/>
                    </a:lnTo>
                    <a:lnTo>
                      <a:pt x="674" y="1429"/>
                    </a:lnTo>
                    <a:lnTo>
                      <a:pt x="652" y="1436"/>
                    </a:lnTo>
                    <a:lnTo>
                      <a:pt x="629" y="1441"/>
                    </a:lnTo>
                    <a:lnTo>
                      <a:pt x="606" y="1446"/>
                    </a:lnTo>
                    <a:lnTo>
                      <a:pt x="583" y="1449"/>
                    </a:lnTo>
                    <a:lnTo>
                      <a:pt x="558" y="1452"/>
                    </a:lnTo>
                    <a:lnTo>
                      <a:pt x="569" y="1468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867280" y="2467080"/>
                <a:ext cx="360360" cy="460440"/>
              </a:xfrm>
              <a:custGeom>
                <a:avLst/>
                <a:gdLst/>
                <a:ahLst/>
                <a:rect l="l" t="t" r="r" b="b"/>
                <a:pathLst>
                  <a:path w="1131" h="1452">
                    <a:moveTo>
                      <a:pt x="527" y="2"/>
                    </a:moveTo>
                    <a:lnTo>
                      <a:pt x="520" y="2"/>
                    </a:lnTo>
                    <a:lnTo>
                      <a:pt x="513" y="2"/>
                    </a:lnTo>
                    <a:lnTo>
                      <a:pt x="506" y="1"/>
                    </a:lnTo>
                    <a:lnTo>
                      <a:pt x="500" y="1"/>
                    </a:lnTo>
                    <a:lnTo>
                      <a:pt x="492" y="1"/>
                    </a:lnTo>
                    <a:lnTo>
                      <a:pt x="486" y="1"/>
                    </a:lnTo>
                    <a:lnTo>
                      <a:pt x="479" y="1"/>
                    </a:lnTo>
                    <a:lnTo>
                      <a:pt x="471" y="0"/>
                    </a:lnTo>
                    <a:lnTo>
                      <a:pt x="438" y="1"/>
                    </a:lnTo>
                    <a:lnTo>
                      <a:pt x="405" y="3"/>
                    </a:lnTo>
                    <a:lnTo>
                      <a:pt x="372" y="7"/>
                    </a:lnTo>
                    <a:lnTo>
                      <a:pt x="340" y="12"/>
                    </a:lnTo>
                    <a:lnTo>
                      <a:pt x="308" y="19"/>
                    </a:lnTo>
                    <a:lnTo>
                      <a:pt x="277" y="27"/>
                    </a:lnTo>
                    <a:lnTo>
                      <a:pt x="246" y="35"/>
                    </a:lnTo>
                    <a:lnTo>
                      <a:pt x="216" y="46"/>
                    </a:lnTo>
                    <a:lnTo>
                      <a:pt x="186" y="58"/>
                    </a:lnTo>
                    <a:lnTo>
                      <a:pt x="158" y="71"/>
                    </a:lnTo>
                    <a:lnTo>
                      <a:pt x="130" y="85"/>
                    </a:lnTo>
                    <a:lnTo>
                      <a:pt x="102" y="100"/>
                    </a:lnTo>
                    <a:lnTo>
                      <a:pt x="76" y="117"/>
                    </a:lnTo>
                    <a:lnTo>
                      <a:pt x="50" y="135"/>
                    </a:lnTo>
                    <a:lnTo>
                      <a:pt x="25" y="153"/>
                    </a:lnTo>
                    <a:lnTo>
                      <a:pt x="0" y="173"/>
                    </a:lnTo>
                    <a:lnTo>
                      <a:pt x="5" y="191"/>
                    </a:lnTo>
                    <a:lnTo>
                      <a:pt x="29" y="172"/>
                    </a:lnTo>
                    <a:lnTo>
                      <a:pt x="53" y="153"/>
                    </a:lnTo>
                    <a:lnTo>
                      <a:pt x="79" y="135"/>
                    </a:lnTo>
                    <a:lnTo>
                      <a:pt x="105" y="118"/>
                    </a:lnTo>
                    <a:lnTo>
                      <a:pt x="133" y="103"/>
                    </a:lnTo>
                    <a:lnTo>
                      <a:pt x="160" y="89"/>
                    </a:lnTo>
                    <a:lnTo>
                      <a:pt x="188" y="75"/>
                    </a:lnTo>
                    <a:lnTo>
                      <a:pt x="218" y="64"/>
                    </a:lnTo>
                    <a:lnTo>
                      <a:pt x="247" y="53"/>
                    </a:lnTo>
                    <a:lnTo>
                      <a:pt x="278" y="44"/>
                    </a:lnTo>
                    <a:lnTo>
                      <a:pt x="309" y="35"/>
                    </a:lnTo>
                    <a:lnTo>
                      <a:pt x="341" y="29"/>
                    </a:lnTo>
                    <a:lnTo>
                      <a:pt x="372" y="24"/>
                    </a:lnTo>
                    <a:lnTo>
                      <a:pt x="405" y="20"/>
                    </a:lnTo>
                    <a:lnTo>
                      <a:pt x="439" y="17"/>
                    </a:lnTo>
                    <a:lnTo>
                      <a:pt x="471" y="16"/>
                    </a:lnTo>
                    <a:lnTo>
                      <a:pt x="480" y="16"/>
                    </a:lnTo>
                    <a:lnTo>
                      <a:pt x="488" y="17"/>
                    </a:lnTo>
                    <a:lnTo>
                      <a:pt x="495" y="17"/>
                    </a:lnTo>
                    <a:lnTo>
                      <a:pt x="504" y="17"/>
                    </a:lnTo>
                    <a:lnTo>
                      <a:pt x="511" y="19"/>
                    </a:lnTo>
                    <a:lnTo>
                      <a:pt x="520" y="19"/>
                    </a:lnTo>
                    <a:lnTo>
                      <a:pt x="527" y="20"/>
                    </a:lnTo>
                    <a:lnTo>
                      <a:pt x="535" y="20"/>
                    </a:lnTo>
                    <a:lnTo>
                      <a:pt x="527" y="2"/>
                    </a:lnTo>
                    <a:close/>
                    <a:moveTo>
                      <a:pt x="562" y="1452"/>
                    </a:moveTo>
                    <a:lnTo>
                      <a:pt x="586" y="1449"/>
                    </a:lnTo>
                    <a:lnTo>
                      <a:pt x="609" y="1444"/>
                    </a:lnTo>
                    <a:lnTo>
                      <a:pt x="632" y="1439"/>
                    </a:lnTo>
                    <a:lnTo>
                      <a:pt x="654" y="1434"/>
                    </a:lnTo>
                    <a:lnTo>
                      <a:pt x="677" y="1428"/>
                    </a:lnTo>
                    <a:lnTo>
                      <a:pt x="699" y="1421"/>
                    </a:lnTo>
                    <a:lnTo>
                      <a:pt x="721" y="1414"/>
                    </a:lnTo>
                    <a:lnTo>
                      <a:pt x="742" y="1406"/>
                    </a:lnTo>
                    <a:lnTo>
                      <a:pt x="763" y="1396"/>
                    </a:lnTo>
                    <a:lnTo>
                      <a:pt x="784" y="1387"/>
                    </a:lnTo>
                    <a:lnTo>
                      <a:pt x="806" y="1377"/>
                    </a:lnTo>
                    <a:lnTo>
                      <a:pt x="825" y="1366"/>
                    </a:lnTo>
                    <a:lnTo>
                      <a:pt x="845" y="1354"/>
                    </a:lnTo>
                    <a:lnTo>
                      <a:pt x="864" y="1343"/>
                    </a:lnTo>
                    <a:lnTo>
                      <a:pt x="883" y="1330"/>
                    </a:lnTo>
                    <a:lnTo>
                      <a:pt x="902" y="1317"/>
                    </a:lnTo>
                    <a:lnTo>
                      <a:pt x="920" y="1304"/>
                    </a:lnTo>
                    <a:lnTo>
                      <a:pt x="938" y="1289"/>
                    </a:lnTo>
                    <a:lnTo>
                      <a:pt x="955" y="1274"/>
                    </a:lnTo>
                    <a:lnTo>
                      <a:pt x="972" y="1259"/>
                    </a:lnTo>
                    <a:lnTo>
                      <a:pt x="987" y="1244"/>
                    </a:lnTo>
                    <a:lnTo>
                      <a:pt x="1003" y="1227"/>
                    </a:lnTo>
                    <a:lnTo>
                      <a:pt x="1019" y="1210"/>
                    </a:lnTo>
                    <a:lnTo>
                      <a:pt x="1034" y="1193"/>
                    </a:lnTo>
                    <a:lnTo>
                      <a:pt x="1047" y="1176"/>
                    </a:lnTo>
                    <a:lnTo>
                      <a:pt x="1061" y="1158"/>
                    </a:lnTo>
                    <a:lnTo>
                      <a:pt x="1075" y="1139"/>
                    </a:lnTo>
                    <a:lnTo>
                      <a:pt x="1087" y="1120"/>
                    </a:lnTo>
                    <a:lnTo>
                      <a:pt x="1099" y="1100"/>
                    </a:lnTo>
                    <a:lnTo>
                      <a:pt x="1110" y="1081"/>
                    </a:lnTo>
                    <a:lnTo>
                      <a:pt x="1121" y="1060"/>
                    </a:lnTo>
                    <a:lnTo>
                      <a:pt x="1131" y="1040"/>
                    </a:lnTo>
                    <a:lnTo>
                      <a:pt x="1121" y="1021"/>
                    </a:lnTo>
                    <a:lnTo>
                      <a:pt x="1111" y="1042"/>
                    </a:lnTo>
                    <a:lnTo>
                      <a:pt x="1101" y="1062"/>
                    </a:lnTo>
                    <a:lnTo>
                      <a:pt x="1089" y="1082"/>
                    </a:lnTo>
                    <a:lnTo>
                      <a:pt x="1078" y="1102"/>
                    </a:lnTo>
                    <a:lnTo>
                      <a:pt x="1066" y="1122"/>
                    </a:lnTo>
                    <a:lnTo>
                      <a:pt x="1053" y="1140"/>
                    </a:lnTo>
                    <a:lnTo>
                      <a:pt x="1039" y="1159"/>
                    </a:lnTo>
                    <a:lnTo>
                      <a:pt x="1025" y="1177"/>
                    </a:lnTo>
                    <a:lnTo>
                      <a:pt x="1010" y="1195"/>
                    </a:lnTo>
                    <a:lnTo>
                      <a:pt x="996" y="1211"/>
                    </a:lnTo>
                    <a:lnTo>
                      <a:pt x="980" y="1228"/>
                    </a:lnTo>
                    <a:lnTo>
                      <a:pt x="963" y="1244"/>
                    </a:lnTo>
                    <a:lnTo>
                      <a:pt x="946" y="1259"/>
                    </a:lnTo>
                    <a:lnTo>
                      <a:pt x="930" y="1274"/>
                    </a:lnTo>
                    <a:lnTo>
                      <a:pt x="912" y="1288"/>
                    </a:lnTo>
                    <a:lnTo>
                      <a:pt x="894" y="1302"/>
                    </a:lnTo>
                    <a:lnTo>
                      <a:pt x="875" y="1315"/>
                    </a:lnTo>
                    <a:lnTo>
                      <a:pt x="856" y="1328"/>
                    </a:lnTo>
                    <a:lnTo>
                      <a:pt x="837" y="1340"/>
                    </a:lnTo>
                    <a:lnTo>
                      <a:pt x="817" y="1352"/>
                    </a:lnTo>
                    <a:lnTo>
                      <a:pt x="796" y="1363"/>
                    </a:lnTo>
                    <a:lnTo>
                      <a:pt x="776" y="1373"/>
                    </a:lnTo>
                    <a:lnTo>
                      <a:pt x="755" y="1382"/>
                    </a:lnTo>
                    <a:lnTo>
                      <a:pt x="734" y="1391"/>
                    </a:lnTo>
                    <a:lnTo>
                      <a:pt x="712" y="1399"/>
                    </a:lnTo>
                    <a:lnTo>
                      <a:pt x="690" y="1407"/>
                    </a:lnTo>
                    <a:lnTo>
                      <a:pt x="668" y="1413"/>
                    </a:lnTo>
                    <a:lnTo>
                      <a:pt x="645" y="1419"/>
                    </a:lnTo>
                    <a:lnTo>
                      <a:pt x="622" y="1424"/>
                    </a:lnTo>
                    <a:lnTo>
                      <a:pt x="598" y="1430"/>
                    </a:lnTo>
                    <a:lnTo>
                      <a:pt x="575" y="1433"/>
                    </a:lnTo>
                    <a:lnTo>
                      <a:pt x="551" y="1436"/>
                    </a:lnTo>
                    <a:lnTo>
                      <a:pt x="562" y="145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869080" y="2468520"/>
                <a:ext cx="357120" cy="455760"/>
              </a:xfrm>
              <a:custGeom>
                <a:avLst/>
                <a:gdLst/>
                <a:ahLst/>
                <a:rect l="l" t="t" r="r" b="b"/>
                <a:pathLst>
                  <a:path w="1124" h="1435">
                    <a:moveTo>
                      <a:pt x="529" y="3"/>
                    </a:moveTo>
                    <a:lnTo>
                      <a:pt x="522" y="2"/>
                    </a:lnTo>
                    <a:lnTo>
                      <a:pt x="514" y="2"/>
                    </a:lnTo>
                    <a:lnTo>
                      <a:pt x="507" y="1"/>
                    </a:lnTo>
                    <a:lnTo>
                      <a:pt x="500" y="1"/>
                    </a:lnTo>
                    <a:lnTo>
                      <a:pt x="492" y="1"/>
                    </a:lnTo>
                    <a:lnTo>
                      <a:pt x="485" y="1"/>
                    </a:lnTo>
                    <a:lnTo>
                      <a:pt x="478" y="0"/>
                    </a:lnTo>
                    <a:lnTo>
                      <a:pt x="469" y="0"/>
                    </a:lnTo>
                    <a:lnTo>
                      <a:pt x="437" y="1"/>
                    </a:lnTo>
                    <a:lnTo>
                      <a:pt x="403" y="3"/>
                    </a:lnTo>
                    <a:lnTo>
                      <a:pt x="370" y="7"/>
                    </a:lnTo>
                    <a:lnTo>
                      <a:pt x="339" y="13"/>
                    </a:lnTo>
                    <a:lnTo>
                      <a:pt x="306" y="19"/>
                    </a:lnTo>
                    <a:lnTo>
                      <a:pt x="276" y="27"/>
                    </a:lnTo>
                    <a:lnTo>
                      <a:pt x="245" y="36"/>
                    </a:lnTo>
                    <a:lnTo>
                      <a:pt x="215" y="46"/>
                    </a:lnTo>
                    <a:lnTo>
                      <a:pt x="185" y="59"/>
                    </a:lnTo>
                    <a:lnTo>
                      <a:pt x="157" y="71"/>
                    </a:lnTo>
                    <a:lnTo>
                      <a:pt x="129" y="86"/>
                    </a:lnTo>
                    <a:lnTo>
                      <a:pt x="101" y="101"/>
                    </a:lnTo>
                    <a:lnTo>
                      <a:pt x="75" y="118"/>
                    </a:lnTo>
                    <a:lnTo>
                      <a:pt x="50" y="135"/>
                    </a:lnTo>
                    <a:lnTo>
                      <a:pt x="25" y="154"/>
                    </a:lnTo>
                    <a:lnTo>
                      <a:pt x="0" y="174"/>
                    </a:lnTo>
                    <a:lnTo>
                      <a:pt x="5" y="192"/>
                    </a:lnTo>
                    <a:lnTo>
                      <a:pt x="29" y="172"/>
                    </a:lnTo>
                    <a:lnTo>
                      <a:pt x="53" y="153"/>
                    </a:lnTo>
                    <a:lnTo>
                      <a:pt x="78" y="135"/>
                    </a:lnTo>
                    <a:lnTo>
                      <a:pt x="104" y="119"/>
                    </a:lnTo>
                    <a:lnTo>
                      <a:pt x="132" y="104"/>
                    </a:lnTo>
                    <a:lnTo>
                      <a:pt x="159" y="89"/>
                    </a:lnTo>
                    <a:lnTo>
                      <a:pt x="188" y="76"/>
                    </a:lnTo>
                    <a:lnTo>
                      <a:pt x="217" y="64"/>
                    </a:lnTo>
                    <a:lnTo>
                      <a:pt x="246" y="54"/>
                    </a:lnTo>
                    <a:lnTo>
                      <a:pt x="277" y="44"/>
                    </a:lnTo>
                    <a:lnTo>
                      <a:pt x="307" y="36"/>
                    </a:lnTo>
                    <a:lnTo>
                      <a:pt x="339" y="29"/>
                    </a:lnTo>
                    <a:lnTo>
                      <a:pt x="371" y="24"/>
                    </a:lnTo>
                    <a:lnTo>
                      <a:pt x="404" y="20"/>
                    </a:lnTo>
                    <a:lnTo>
                      <a:pt x="437" y="18"/>
                    </a:lnTo>
                    <a:lnTo>
                      <a:pt x="469" y="17"/>
                    </a:lnTo>
                    <a:lnTo>
                      <a:pt x="479" y="17"/>
                    </a:lnTo>
                    <a:lnTo>
                      <a:pt x="487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2" y="19"/>
                    </a:lnTo>
                    <a:lnTo>
                      <a:pt x="521" y="19"/>
                    </a:lnTo>
                    <a:lnTo>
                      <a:pt x="529" y="20"/>
                    </a:lnTo>
                    <a:lnTo>
                      <a:pt x="538" y="21"/>
                    </a:lnTo>
                    <a:lnTo>
                      <a:pt x="529" y="3"/>
                    </a:lnTo>
                    <a:close/>
                    <a:moveTo>
                      <a:pt x="554" y="1435"/>
                    </a:moveTo>
                    <a:lnTo>
                      <a:pt x="579" y="1432"/>
                    </a:lnTo>
                    <a:lnTo>
                      <a:pt x="602" y="1429"/>
                    </a:lnTo>
                    <a:lnTo>
                      <a:pt x="625" y="1424"/>
                    </a:lnTo>
                    <a:lnTo>
                      <a:pt x="648" y="1419"/>
                    </a:lnTo>
                    <a:lnTo>
                      <a:pt x="670" y="1412"/>
                    </a:lnTo>
                    <a:lnTo>
                      <a:pt x="692" y="1406"/>
                    </a:lnTo>
                    <a:lnTo>
                      <a:pt x="714" y="1399"/>
                    </a:lnTo>
                    <a:lnTo>
                      <a:pt x="736" y="1390"/>
                    </a:lnTo>
                    <a:lnTo>
                      <a:pt x="757" y="1381"/>
                    </a:lnTo>
                    <a:lnTo>
                      <a:pt x="778" y="1371"/>
                    </a:lnTo>
                    <a:lnTo>
                      <a:pt x="798" y="1362"/>
                    </a:lnTo>
                    <a:lnTo>
                      <a:pt x="819" y="1350"/>
                    </a:lnTo>
                    <a:lnTo>
                      <a:pt x="839" y="1340"/>
                    </a:lnTo>
                    <a:lnTo>
                      <a:pt x="858" y="1327"/>
                    </a:lnTo>
                    <a:lnTo>
                      <a:pt x="877" y="1315"/>
                    </a:lnTo>
                    <a:lnTo>
                      <a:pt x="896" y="1302"/>
                    </a:lnTo>
                    <a:lnTo>
                      <a:pt x="914" y="1288"/>
                    </a:lnTo>
                    <a:lnTo>
                      <a:pt x="932" y="1274"/>
                    </a:lnTo>
                    <a:lnTo>
                      <a:pt x="949" y="1259"/>
                    </a:lnTo>
                    <a:lnTo>
                      <a:pt x="965" y="1243"/>
                    </a:lnTo>
                    <a:lnTo>
                      <a:pt x="982" y="1227"/>
                    </a:lnTo>
                    <a:lnTo>
                      <a:pt x="998" y="1211"/>
                    </a:lnTo>
                    <a:lnTo>
                      <a:pt x="1013" y="1194"/>
                    </a:lnTo>
                    <a:lnTo>
                      <a:pt x="1027" y="1177"/>
                    </a:lnTo>
                    <a:lnTo>
                      <a:pt x="1041" y="1159"/>
                    </a:lnTo>
                    <a:lnTo>
                      <a:pt x="1055" y="1141"/>
                    </a:lnTo>
                    <a:lnTo>
                      <a:pt x="1068" y="1122"/>
                    </a:lnTo>
                    <a:lnTo>
                      <a:pt x="1081" y="1104"/>
                    </a:lnTo>
                    <a:lnTo>
                      <a:pt x="1093" y="1084"/>
                    </a:lnTo>
                    <a:lnTo>
                      <a:pt x="1104" y="1064"/>
                    </a:lnTo>
                    <a:lnTo>
                      <a:pt x="1115" y="1044"/>
                    </a:lnTo>
                    <a:lnTo>
                      <a:pt x="1124" y="1023"/>
                    </a:lnTo>
                    <a:lnTo>
                      <a:pt x="1115" y="1004"/>
                    </a:lnTo>
                    <a:lnTo>
                      <a:pt x="1104" y="1025"/>
                    </a:lnTo>
                    <a:lnTo>
                      <a:pt x="1095" y="1046"/>
                    </a:lnTo>
                    <a:lnTo>
                      <a:pt x="1083" y="1066"/>
                    </a:lnTo>
                    <a:lnTo>
                      <a:pt x="1072" y="1086"/>
                    </a:lnTo>
                    <a:lnTo>
                      <a:pt x="1059" y="1105"/>
                    </a:lnTo>
                    <a:lnTo>
                      <a:pt x="1046" y="1124"/>
                    </a:lnTo>
                    <a:lnTo>
                      <a:pt x="1033" y="1142"/>
                    </a:lnTo>
                    <a:lnTo>
                      <a:pt x="1019" y="1160"/>
                    </a:lnTo>
                    <a:lnTo>
                      <a:pt x="1004" y="1178"/>
                    </a:lnTo>
                    <a:lnTo>
                      <a:pt x="990" y="1195"/>
                    </a:lnTo>
                    <a:lnTo>
                      <a:pt x="974" y="1212"/>
                    </a:lnTo>
                    <a:lnTo>
                      <a:pt x="958" y="1227"/>
                    </a:lnTo>
                    <a:lnTo>
                      <a:pt x="941" y="1243"/>
                    </a:lnTo>
                    <a:lnTo>
                      <a:pt x="923" y="1258"/>
                    </a:lnTo>
                    <a:lnTo>
                      <a:pt x="905" y="1273"/>
                    </a:lnTo>
                    <a:lnTo>
                      <a:pt x="888" y="1286"/>
                    </a:lnTo>
                    <a:lnTo>
                      <a:pt x="869" y="1300"/>
                    </a:lnTo>
                    <a:lnTo>
                      <a:pt x="850" y="1313"/>
                    </a:lnTo>
                    <a:lnTo>
                      <a:pt x="831" y="1325"/>
                    </a:lnTo>
                    <a:lnTo>
                      <a:pt x="811" y="1337"/>
                    </a:lnTo>
                    <a:lnTo>
                      <a:pt x="790" y="1347"/>
                    </a:lnTo>
                    <a:lnTo>
                      <a:pt x="770" y="1358"/>
                    </a:lnTo>
                    <a:lnTo>
                      <a:pt x="749" y="1367"/>
                    </a:lnTo>
                    <a:lnTo>
                      <a:pt x="727" y="1376"/>
                    </a:lnTo>
                    <a:lnTo>
                      <a:pt x="705" y="1384"/>
                    </a:lnTo>
                    <a:lnTo>
                      <a:pt x="683" y="1391"/>
                    </a:lnTo>
                    <a:lnTo>
                      <a:pt x="661" y="1398"/>
                    </a:lnTo>
                    <a:lnTo>
                      <a:pt x="637" y="1404"/>
                    </a:lnTo>
                    <a:lnTo>
                      <a:pt x="614" y="1409"/>
                    </a:lnTo>
                    <a:lnTo>
                      <a:pt x="591" y="1413"/>
                    </a:lnTo>
                    <a:lnTo>
                      <a:pt x="568" y="1418"/>
                    </a:lnTo>
                    <a:lnTo>
                      <a:pt x="544" y="1421"/>
                    </a:lnTo>
                    <a:lnTo>
                      <a:pt x="546" y="1424"/>
                    </a:lnTo>
                    <a:lnTo>
                      <a:pt x="554" y="143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869080" y="2471760"/>
                <a:ext cx="355680" cy="450720"/>
              </a:xfrm>
              <a:custGeom>
                <a:avLst/>
                <a:gdLst/>
                <a:ahLst/>
                <a:rect l="l" t="t" r="r" b="b"/>
                <a:pathLst>
                  <a:path w="1116" h="1420">
                    <a:moveTo>
                      <a:pt x="530" y="4"/>
                    </a:moveTo>
                    <a:lnTo>
                      <a:pt x="522" y="4"/>
                    </a:lnTo>
                    <a:lnTo>
                      <a:pt x="515" y="3"/>
                    </a:lnTo>
                    <a:lnTo>
                      <a:pt x="506" y="3"/>
                    </a:lnTo>
                    <a:lnTo>
                      <a:pt x="499" y="1"/>
                    </a:lnTo>
                    <a:lnTo>
                      <a:pt x="490" y="1"/>
                    </a:lnTo>
                    <a:lnTo>
                      <a:pt x="483" y="1"/>
                    </a:lnTo>
                    <a:lnTo>
                      <a:pt x="475" y="0"/>
                    </a:lnTo>
                    <a:lnTo>
                      <a:pt x="466" y="0"/>
                    </a:lnTo>
                    <a:lnTo>
                      <a:pt x="434" y="1"/>
                    </a:lnTo>
                    <a:lnTo>
                      <a:pt x="400" y="4"/>
                    </a:lnTo>
                    <a:lnTo>
                      <a:pt x="367" y="8"/>
                    </a:lnTo>
                    <a:lnTo>
                      <a:pt x="336" y="13"/>
                    </a:lnTo>
                    <a:lnTo>
                      <a:pt x="304" y="19"/>
                    </a:lnTo>
                    <a:lnTo>
                      <a:pt x="273" y="28"/>
                    </a:lnTo>
                    <a:lnTo>
                      <a:pt x="242" y="37"/>
                    </a:lnTo>
                    <a:lnTo>
                      <a:pt x="213" y="48"/>
                    </a:lnTo>
                    <a:lnTo>
                      <a:pt x="183" y="59"/>
                    </a:lnTo>
                    <a:lnTo>
                      <a:pt x="155" y="73"/>
                    </a:lnTo>
                    <a:lnTo>
                      <a:pt x="128" y="87"/>
                    </a:lnTo>
                    <a:lnTo>
                      <a:pt x="100" y="102"/>
                    </a:lnTo>
                    <a:lnTo>
                      <a:pt x="74" y="119"/>
                    </a:lnTo>
                    <a:lnTo>
                      <a:pt x="48" y="137"/>
                    </a:lnTo>
                    <a:lnTo>
                      <a:pt x="24" y="156"/>
                    </a:lnTo>
                    <a:lnTo>
                      <a:pt x="0" y="175"/>
                    </a:lnTo>
                    <a:lnTo>
                      <a:pt x="4" y="194"/>
                    </a:lnTo>
                    <a:lnTo>
                      <a:pt x="28" y="174"/>
                    </a:lnTo>
                    <a:lnTo>
                      <a:pt x="52" y="155"/>
                    </a:lnTo>
                    <a:lnTo>
                      <a:pt x="77" y="137"/>
                    </a:lnTo>
                    <a:lnTo>
                      <a:pt x="104" y="120"/>
                    </a:lnTo>
                    <a:lnTo>
                      <a:pt x="130" y="104"/>
                    </a:lnTo>
                    <a:lnTo>
                      <a:pt x="157" y="90"/>
                    </a:lnTo>
                    <a:lnTo>
                      <a:pt x="186" y="77"/>
                    </a:lnTo>
                    <a:lnTo>
                      <a:pt x="215" y="64"/>
                    </a:lnTo>
                    <a:lnTo>
                      <a:pt x="244" y="54"/>
                    </a:lnTo>
                    <a:lnTo>
                      <a:pt x="275" y="45"/>
                    </a:lnTo>
                    <a:lnTo>
                      <a:pt x="305" y="36"/>
                    </a:lnTo>
                    <a:lnTo>
                      <a:pt x="337" y="30"/>
                    </a:lnTo>
                    <a:lnTo>
                      <a:pt x="368" y="25"/>
                    </a:lnTo>
                    <a:lnTo>
                      <a:pt x="401" y="20"/>
                    </a:lnTo>
                    <a:lnTo>
                      <a:pt x="434" y="18"/>
                    </a:lnTo>
                    <a:lnTo>
                      <a:pt x="466" y="17"/>
                    </a:lnTo>
                    <a:lnTo>
                      <a:pt x="476" y="17"/>
                    </a:lnTo>
                    <a:lnTo>
                      <a:pt x="485" y="18"/>
                    </a:lnTo>
                    <a:lnTo>
                      <a:pt x="494" y="18"/>
                    </a:lnTo>
                    <a:lnTo>
                      <a:pt x="503" y="18"/>
                    </a:lnTo>
                    <a:lnTo>
                      <a:pt x="512" y="19"/>
                    </a:lnTo>
                    <a:lnTo>
                      <a:pt x="521" y="19"/>
                    </a:lnTo>
                    <a:lnTo>
                      <a:pt x="530" y="20"/>
                    </a:lnTo>
                    <a:lnTo>
                      <a:pt x="540" y="21"/>
                    </a:lnTo>
                    <a:lnTo>
                      <a:pt x="530" y="4"/>
                    </a:lnTo>
                    <a:close/>
                    <a:moveTo>
                      <a:pt x="546" y="1420"/>
                    </a:moveTo>
                    <a:lnTo>
                      <a:pt x="570" y="1417"/>
                    </a:lnTo>
                    <a:lnTo>
                      <a:pt x="593" y="1414"/>
                    </a:lnTo>
                    <a:lnTo>
                      <a:pt x="617" y="1408"/>
                    </a:lnTo>
                    <a:lnTo>
                      <a:pt x="640" y="1403"/>
                    </a:lnTo>
                    <a:lnTo>
                      <a:pt x="663" y="1397"/>
                    </a:lnTo>
                    <a:lnTo>
                      <a:pt x="685" y="1391"/>
                    </a:lnTo>
                    <a:lnTo>
                      <a:pt x="707" y="1383"/>
                    </a:lnTo>
                    <a:lnTo>
                      <a:pt x="729" y="1375"/>
                    </a:lnTo>
                    <a:lnTo>
                      <a:pt x="750" y="1366"/>
                    </a:lnTo>
                    <a:lnTo>
                      <a:pt x="771" y="1357"/>
                    </a:lnTo>
                    <a:lnTo>
                      <a:pt x="791" y="1347"/>
                    </a:lnTo>
                    <a:lnTo>
                      <a:pt x="812" y="1336"/>
                    </a:lnTo>
                    <a:lnTo>
                      <a:pt x="832" y="1324"/>
                    </a:lnTo>
                    <a:lnTo>
                      <a:pt x="851" y="1312"/>
                    </a:lnTo>
                    <a:lnTo>
                      <a:pt x="870" y="1299"/>
                    </a:lnTo>
                    <a:lnTo>
                      <a:pt x="889" y="1286"/>
                    </a:lnTo>
                    <a:lnTo>
                      <a:pt x="907" y="1272"/>
                    </a:lnTo>
                    <a:lnTo>
                      <a:pt x="925" y="1258"/>
                    </a:lnTo>
                    <a:lnTo>
                      <a:pt x="941" y="1243"/>
                    </a:lnTo>
                    <a:lnTo>
                      <a:pt x="958" y="1228"/>
                    </a:lnTo>
                    <a:lnTo>
                      <a:pt x="975" y="1212"/>
                    </a:lnTo>
                    <a:lnTo>
                      <a:pt x="991" y="1195"/>
                    </a:lnTo>
                    <a:lnTo>
                      <a:pt x="1005" y="1179"/>
                    </a:lnTo>
                    <a:lnTo>
                      <a:pt x="1020" y="1161"/>
                    </a:lnTo>
                    <a:lnTo>
                      <a:pt x="1034" y="1143"/>
                    </a:lnTo>
                    <a:lnTo>
                      <a:pt x="1048" y="1124"/>
                    </a:lnTo>
                    <a:lnTo>
                      <a:pt x="1061" y="1106"/>
                    </a:lnTo>
                    <a:lnTo>
                      <a:pt x="1073" y="1086"/>
                    </a:lnTo>
                    <a:lnTo>
                      <a:pt x="1084" y="1066"/>
                    </a:lnTo>
                    <a:lnTo>
                      <a:pt x="1096" y="1046"/>
                    </a:lnTo>
                    <a:lnTo>
                      <a:pt x="1106" y="1026"/>
                    </a:lnTo>
                    <a:lnTo>
                      <a:pt x="1116" y="1005"/>
                    </a:lnTo>
                    <a:lnTo>
                      <a:pt x="1108" y="990"/>
                    </a:lnTo>
                    <a:lnTo>
                      <a:pt x="1106" y="987"/>
                    </a:lnTo>
                    <a:lnTo>
                      <a:pt x="1096" y="1008"/>
                    </a:lnTo>
                    <a:lnTo>
                      <a:pt x="1086" y="1029"/>
                    </a:lnTo>
                    <a:lnTo>
                      <a:pt x="1075" y="1049"/>
                    </a:lnTo>
                    <a:lnTo>
                      <a:pt x="1063" y="1069"/>
                    </a:lnTo>
                    <a:lnTo>
                      <a:pt x="1052" y="1089"/>
                    </a:lnTo>
                    <a:lnTo>
                      <a:pt x="1039" y="1108"/>
                    </a:lnTo>
                    <a:lnTo>
                      <a:pt x="1025" y="1127"/>
                    </a:lnTo>
                    <a:lnTo>
                      <a:pt x="1012" y="1145"/>
                    </a:lnTo>
                    <a:lnTo>
                      <a:pt x="997" y="1163"/>
                    </a:lnTo>
                    <a:lnTo>
                      <a:pt x="981" y="1180"/>
                    </a:lnTo>
                    <a:lnTo>
                      <a:pt x="967" y="1196"/>
                    </a:lnTo>
                    <a:lnTo>
                      <a:pt x="950" y="1212"/>
                    </a:lnTo>
                    <a:lnTo>
                      <a:pt x="933" y="1228"/>
                    </a:lnTo>
                    <a:lnTo>
                      <a:pt x="916" y="1243"/>
                    </a:lnTo>
                    <a:lnTo>
                      <a:pt x="898" y="1257"/>
                    </a:lnTo>
                    <a:lnTo>
                      <a:pt x="880" y="1272"/>
                    </a:lnTo>
                    <a:lnTo>
                      <a:pt x="861" y="1285"/>
                    </a:lnTo>
                    <a:lnTo>
                      <a:pt x="843" y="1297"/>
                    </a:lnTo>
                    <a:lnTo>
                      <a:pt x="823" y="1310"/>
                    </a:lnTo>
                    <a:lnTo>
                      <a:pt x="803" y="1321"/>
                    </a:lnTo>
                    <a:lnTo>
                      <a:pt x="783" y="1332"/>
                    </a:lnTo>
                    <a:lnTo>
                      <a:pt x="762" y="1342"/>
                    </a:lnTo>
                    <a:lnTo>
                      <a:pt x="741" y="1352"/>
                    </a:lnTo>
                    <a:lnTo>
                      <a:pt x="720" y="1360"/>
                    </a:lnTo>
                    <a:lnTo>
                      <a:pt x="697" y="1369"/>
                    </a:lnTo>
                    <a:lnTo>
                      <a:pt x="675" y="1376"/>
                    </a:lnTo>
                    <a:lnTo>
                      <a:pt x="652" y="1382"/>
                    </a:lnTo>
                    <a:lnTo>
                      <a:pt x="630" y="1389"/>
                    </a:lnTo>
                    <a:lnTo>
                      <a:pt x="607" y="1394"/>
                    </a:lnTo>
                    <a:lnTo>
                      <a:pt x="584" y="1398"/>
                    </a:lnTo>
                    <a:lnTo>
                      <a:pt x="560" y="1401"/>
                    </a:lnTo>
                    <a:lnTo>
                      <a:pt x="536" y="1404"/>
                    </a:lnTo>
                    <a:lnTo>
                      <a:pt x="543" y="1416"/>
                    </a:lnTo>
                    <a:lnTo>
                      <a:pt x="546" y="142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870520" y="2475000"/>
                <a:ext cx="352440" cy="444240"/>
              </a:xfrm>
              <a:custGeom>
                <a:avLst/>
                <a:gdLst/>
                <a:ahLst/>
                <a:rect l="l" t="t" r="r" b="b"/>
                <a:pathLst>
                  <a:path w="1110" h="1404">
                    <a:moveTo>
                      <a:pt x="533" y="4"/>
                    </a:moveTo>
                    <a:lnTo>
                      <a:pt x="524" y="3"/>
                    </a:lnTo>
                    <a:lnTo>
                      <a:pt x="516" y="2"/>
                    </a:lnTo>
                    <a:lnTo>
                      <a:pt x="507" y="2"/>
                    </a:lnTo>
                    <a:lnTo>
                      <a:pt x="499" y="1"/>
                    </a:lnTo>
                    <a:lnTo>
                      <a:pt x="491" y="1"/>
                    </a:lnTo>
                    <a:lnTo>
                      <a:pt x="482" y="1"/>
                    </a:lnTo>
                    <a:lnTo>
                      <a:pt x="474" y="0"/>
                    </a:lnTo>
                    <a:lnTo>
                      <a:pt x="464" y="0"/>
                    </a:lnTo>
                    <a:lnTo>
                      <a:pt x="432" y="1"/>
                    </a:lnTo>
                    <a:lnTo>
                      <a:pt x="399" y="3"/>
                    </a:lnTo>
                    <a:lnTo>
                      <a:pt x="366" y="7"/>
                    </a:lnTo>
                    <a:lnTo>
                      <a:pt x="334" y="12"/>
                    </a:lnTo>
                    <a:lnTo>
                      <a:pt x="302" y="19"/>
                    </a:lnTo>
                    <a:lnTo>
                      <a:pt x="272" y="27"/>
                    </a:lnTo>
                    <a:lnTo>
                      <a:pt x="241" y="37"/>
                    </a:lnTo>
                    <a:lnTo>
                      <a:pt x="212" y="47"/>
                    </a:lnTo>
                    <a:lnTo>
                      <a:pt x="183" y="59"/>
                    </a:lnTo>
                    <a:lnTo>
                      <a:pt x="154" y="72"/>
                    </a:lnTo>
                    <a:lnTo>
                      <a:pt x="127" y="87"/>
                    </a:lnTo>
                    <a:lnTo>
                      <a:pt x="99" y="102"/>
                    </a:lnTo>
                    <a:lnTo>
                      <a:pt x="73" y="118"/>
                    </a:lnTo>
                    <a:lnTo>
                      <a:pt x="48" y="136"/>
                    </a:lnTo>
                    <a:lnTo>
                      <a:pt x="24" y="155"/>
                    </a:lnTo>
                    <a:lnTo>
                      <a:pt x="0" y="175"/>
                    </a:lnTo>
                    <a:lnTo>
                      <a:pt x="4" y="191"/>
                    </a:lnTo>
                    <a:lnTo>
                      <a:pt x="4" y="194"/>
                    </a:lnTo>
                    <a:lnTo>
                      <a:pt x="27" y="174"/>
                    </a:lnTo>
                    <a:lnTo>
                      <a:pt x="51" y="155"/>
                    </a:lnTo>
                    <a:lnTo>
                      <a:pt x="76" y="137"/>
                    </a:lnTo>
                    <a:lnTo>
                      <a:pt x="102" y="121"/>
                    </a:lnTo>
                    <a:lnTo>
                      <a:pt x="129" y="105"/>
                    </a:lnTo>
                    <a:lnTo>
                      <a:pt x="156" y="90"/>
                    </a:lnTo>
                    <a:lnTo>
                      <a:pt x="185" y="76"/>
                    </a:lnTo>
                    <a:lnTo>
                      <a:pt x="213" y="65"/>
                    </a:lnTo>
                    <a:lnTo>
                      <a:pt x="242" y="53"/>
                    </a:lnTo>
                    <a:lnTo>
                      <a:pt x="273" y="44"/>
                    </a:lnTo>
                    <a:lnTo>
                      <a:pt x="303" y="36"/>
                    </a:lnTo>
                    <a:lnTo>
                      <a:pt x="335" y="29"/>
                    </a:lnTo>
                    <a:lnTo>
                      <a:pt x="366" y="24"/>
                    </a:lnTo>
                    <a:lnTo>
                      <a:pt x="399" y="20"/>
                    </a:lnTo>
                    <a:lnTo>
                      <a:pt x="432" y="18"/>
                    </a:lnTo>
                    <a:lnTo>
                      <a:pt x="464" y="17"/>
                    </a:lnTo>
                    <a:lnTo>
                      <a:pt x="475" y="17"/>
                    </a:lnTo>
                    <a:lnTo>
                      <a:pt x="484" y="18"/>
                    </a:lnTo>
                    <a:lnTo>
                      <a:pt x="494" y="18"/>
                    </a:lnTo>
                    <a:lnTo>
                      <a:pt x="504" y="18"/>
                    </a:lnTo>
                    <a:lnTo>
                      <a:pt x="514" y="19"/>
                    </a:lnTo>
                    <a:lnTo>
                      <a:pt x="523" y="20"/>
                    </a:lnTo>
                    <a:lnTo>
                      <a:pt x="533" y="21"/>
                    </a:lnTo>
                    <a:lnTo>
                      <a:pt x="542" y="22"/>
                    </a:lnTo>
                    <a:lnTo>
                      <a:pt x="541" y="20"/>
                    </a:lnTo>
                    <a:lnTo>
                      <a:pt x="533" y="4"/>
                    </a:lnTo>
                    <a:close/>
                    <a:moveTo>
                      <a:pt x="539" y="1404"/>
                    </a:moveTo>
                    <a:lnTo>
                      <a:pt x="563" y="1401"/>
                    </a:lnTo>
                    <a:lnTo>
                      <a:pt x="586" y="1396"/>
                    </a:lnTo>
                    <a:lnTo>
                      <a:pt x="609" y="1392"/>
                    </a:lnTo>
                    <a:lnTo>
                      <a:pt x="632" y="1387"/>
                    </a:lnTo>
                    <a:lnTo>
                      <a:pt x="656" y="1381"/>
                    </a:lnTo>
                    <a:lnTo>
                      <a:pt x="678" y="1374"/>
                    </a:lnTo>
                    <a:lnTo>
                      <a:pt x="700" y="1367"/>
                    </a:lnTo>
                    <a:lnTo>
                      <a:pt x="722" y="1359"/>
                    </a:lnTo>
                    <a:lnTo>
                      <a:pt x="744" y="1350"/>
                    </a:lnTo>
                    <a:lnTo>
                      <a:pt x="765" y="1341"/>
                    </a:lnTo>
                    <a:lnTo>
                      <a:pt x="785" y="1330"/>
                    </a:lnTo>
                    <a:lnTo>
                      <a:pt x="806" y="1320"/>
                    </a:lnTo>
                    <a:lnTo>
                      <a:pt x="826" y="1308"/>
                    </a:lnTo>
                    <a:lnTo>
                      <a:pt x="845" y="1296"/>
                    </a:lnTo>
                    <a:lnTo>
                      <a:pt x="864" y="1283"/>
                    </a:lnTo>
                    <a:lnTo>
                      <a:pt x="883" y="1269"/>
                    </a:lnTo>
                    <a:lnTo>
                      <a:pt x="900" y="1256"/>
                    </a:lnTo>
                    <a:lnTo>
                      <a:pt x="918" y="1241"/>
                    </a:lnTo>
                    <a:lnTo>
                      <a:pt x="936" y="1226"/>
                    </a:lnTo>
                    <a:lnTo>
                      <a:pt x="953" y="1210"/>
                    </a:lnTo>
                    <a:lnTo>
                      <a:pt x="969" y="1195"/>
                    </a:lnTo>
                    <a:lnTo>
                      <a:pt x="985" y="1178"/>
                    </a:lnTo>
                    <a:lnTo>
                      <a:pt x="999" y="1161"/>
                    </a:lnTo>
                    <a:lnTo>
                      <a:pt x="1014" y="1143"/>
                    </a:lnTo>
                    <a:lnTo>
                      <a:pt x="1028" y="1125"/>
                    </a:lnTo>
                    <a:lnTo>
                      <a:pt x="1041" y="1107"/>
                    </a:lnTo>
                    <a:lnTo>
                      <a:pt x="1054" y="1088"/>
                    </a:lnTo>
                    <a:lnTo>
                      <a:pt x="1067" y="1069"/>
                    </a:lnTo>
                    <a:lnTo>
                      <a:pt x="1078" y="1049"/>
                    </a:lnTo>
                    <a:lnTo>
                      <a:pt x="1090" y="1029"/>
                    </a:lnTo>
                    <a:lnTo>
                      <a:pt x="1099" y="1008"/>
                    </a:lnTo>
                    <a:lnTo>
                      <a:pt x="1110" y="987"/>
                    </a:lnTo>
                    <a:lnTo>
                      <a:pt x="1106" y="981"/>
                    </a:lnTo>
                    <a:lnTo>
                      <a:pt x="1097" y="972"/>
                    </a:lnTo>
                    <a:lnTo>
                      <a:pt x="1088" y="993"/>
                    </a:lnTo>
                    <a:lnTo>
                      <a:pt x="1078" y="1014"/>
                    </a:lnTo>
                    <a:lnTo>
                      <a:pt x="1067" y="1034"/>
                    </a:lnTo>
                    <a:lnTo>
                      <a:pt x="1056" y="1054"/>
                    </a:lnTo>
                    <a:lnTo>
                      <a:pt x="1043" y="1074"/>
                    </a:lnTo>
                    <a:lnTo>
                      <a:pt x="1031" y="1093"/>
                    </a:lnTo>
                    <a:lnTo>
                      <a:pt x="1017" y="1112"/>
                    </a:lnTo>
                    <a:lnTo>
                      <a:pt x="1003" y="1130"/>
                    </a:lnTo>
                    <a:lnTo>
                      <a:pt x="989" y="1147"/>
                    </a:lnTo>
                    <a:lnTo>
                      <a:pt x="974" y="1164"/>
                    </a:lnTo>
                    <a:lnTo>
                      <a:pt x="958" y="1181"/>
                    </a:lnTo>
                    <a:lnTo>
                      <a:pt x="943" y="1197"/>
                    </a:lnTo>
                    <a:lnTo>
                      <a:pt x="926" y="1213"/>
                    </a:lnTo>
                    <a:lnTo>
                      <a:pt x="909" y="1228"/>
                    </a:lnTo>
                    <a:lnTo>
                      <a:pt x="891" y="1242"/>
                    </a:lnTo>
                    <a:lnTo>
                      <a:pt x="873" y="1256"/>
                    </a:lnTo>
                    <a:lnTo>
                      <a:pt x="854" y="1269"/>
                    </a:lnTo>
                    <a:lnTo>
                      <a:pt x="835" y="1282"/>
                    </a:lnTo>
                    <a:lnTo>
                      <a:pt x="815" y="1294"/>
                    </a:lnTo>
                    <a:lnTo>
                      <a:pt x="795" y="1306"/>
                    </a:lnTo>
                    <a:lnTo>
                      <a:pt x="775" y="1317"/>
                    </a:lnTo>
                    <a:lnTo>
                      <a:pt x="754" y="1326"/>
                    </a:lnTo>
                    <a:lnTo>
                      <a:pt x="733" y="1335"/>
                    </a:lnTo>
                    <a:lnTo>
                      <a:pt x="712" y="1345"/>
                    </a:lnTo>
                    <a:lnTo>
                      <a:pt x="690" y="1352"/>
                    </a:lnTo>
                    <a:lnTo>
                      <a:pt x="668" y="1360"/>
                    </a:lnTo>
                    <a:lnTo>
                      <a:pt x="645" y="1366"/>
                    </a:lnTo>
                    <a:lnTo>
                      <a:pt x="623" y="1372"/>
                    </a:lnTo>
                    <a:lnTo>
                      <a:pt x="600" y="1377"/>
                    </a:lnTo>
                    <a:lnTo>
                      <a:pt x="577" y="1382"/>
                    </a:lnTo>
                    <a:lnTo>
                      <a:pt x="553" y="1385"/>
                    </a:lnTo>
                    <a:lnTo>
                      <a:pt x="528" y="1387"/>
                    </a:lnTo>
                    <a:lnTo>
                      <a:pt x="539" y="140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870520" y="2476440"/>
                <a:ext cx="351000" cy="441360"/>
              </a:xfrm>
              <a:custGeom>
                <a:avLst/>
                <a:gdLst/>
                <a:ahLst/>
                <a:rect l="l" t="t" r="r" b="b"/>
                <a:pathLst>
                  <a:path w="1102" h="1387">
                    <a:moveTo>
                      <a:pt x="536" y="4"/>
                    </a:moveTo>
                    <a:lnTo>
                      <a:pt x="526" y="3"/>
                    </a:lnTo>
                    <a:lnTo>
                      <a:pt x="517" y="2"/>
                    </a:lnTo>
                    <a:lnTo>
                      <a:pt x="508" y="2"/>
                    </a:lnTo>
                    <a:lnTo>
                      <a:pt x="499" y="1"/>
                    </a:lnTo>
                    <a:lnTo>
                      <a:pt x="490" y="1"/>
                    </a:lnTo>
                    <a:lnTo>
                      <a:pt x="481" y="1"/>
                    </a:lnTo>
                    <a:lnTo>
                      <a:pt x="472" y="0"/>
                    </a:lnTo>
                    <a:lnTo>
                      <a:pt x="462" y="0"/>
                    </a:lnTo>
                    <a:lnTo>
                      <a:pt x="430" y="1"/>
                    </a:lnTo>
                    <a:lnTo>
                      <a:pt x="397" y="3"/>
                    </a:lnTo>
                    <a:lnTo>
                      <a:pt x="364" y="8"/>
                    </a:lnTo>
                    <a:lnTo>
                      <a:pt x="333" y="13"/>
                    </a:lnTo>
                    <a:lnTo>
                      <a:pt x="301" y="19"/>
                    </a:lnTo>
                    <a:lnTo>
                      <a:pt x="271" y="28"/>
                    </a:lnTo>
                    <a:lnTo>
                      <a:pt x="240" y="37"/>
                    </a:lnTo>
                    <a:lnTo>
                      <a:pt x="211" y="47"/>
                    </a:lnTo>
                    <a:lnTo>
                      <a:pt x="182" y="60"/>
                    </a:lnTo>
                    <a:lnTo>
                      <a:pt x="153" y="73"/>
                    </a:lnTo>
                    <a:lnTo>
                      <a:pt x="126" y="87"/>
                    </a:lnTo>
                    <a:lnTo>
                      <a:pt x="100" y="103"/>
                    </a:lnTo>
                    <a:lnTo>
                      <a:pt x="73" y="120"/>
                    </a:lnTo>
                    <a:lnTo>
                      <a:pt x="48" y="138"/>
                    </a:lnTo>
                    <a:lnTo>
                      <a:pt x="24" y="157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2" y="198"/>
                    </a:lnTo>
                    <a:lnTo>
                      <a:pt x="25" y="178"/>
                    </a:lnTo>
                    <a:lnTo>
                      <a:pt x="49" y="158"/>
                    </a:lnTo>
                    <a:lnTo>
                      <a:pt x="73" y="140"/>
                    </a:lnTo>
                    <a:lnTo>
                      <a:pt x="100" y="122"/>
                    </a:lnTo>
                    <a:lnTo>
                      <a:pt x="126" y="106"/>
                    </a:lnTo>
                    <a:lnTo>
                      <a:pt x="153" y="92"/>
                    </a:lnTo>
                    <a:lnTo>
                      <a:pt x="182" y="78"/>
                    </a:lnTo>
                    <a:lnTo>
                      <a:pt x="211" y="65"/>
                    </a:lnTo>
                    <a:lnTo>
                      <a:pt x="240" y="55"/>
                    </a:lnTo>
                    <a:lnTo>
                      <a:pt x="270" y="45"/>
                    </a:lnTo>
                    <a:lnTo>
                      <a:pt x="301" y="37"/>
                    </a:lnTo>
                    <a:lnTo>
                      <a:pt x="333" y="30"/>
                    </a:lnTo>
                    <a:lnTo>
                      <a:pt x="364" y="24"/>
                    </a:lnTo>
                    <a:lnTo>
                      <a:pt x="397" y="20"/>
                    </a:lnTo>
                    <a:lnTo>
                      <a:pt x="430" y="18"/>
                    </a:lnTo>
                    <a:lnTo>
                      <a:pt x="462" y="17"/>
                    </a:lnTo>
                    <a:lnTo>
                      <a:pt x="474" y="17"/>
                    </a:lnTo>
                    <a:lnTo>
                      <a:pt x="484" y="18"/>
                    </a:lnTo>
                    <a:lnTo>
                      <a:pt x="495" y="18"/>
                    </a:lnTo>
                    <a:lnTo>
                      <a:pt x="506" y="19"/>
                    </a:lnTo>
                    <a:lnTo>
                      <a:pt x="517" y="19"/>
                    </a:lnTo>
                    <a:lnTo>
                      <a:pt x="527" y="20"/>
                    </a:lnTo>
                    <a:lnTo>
                      <a:pt x="538" y="21"/>
                    </a:lnTo>
                    <a:lnTo>
                      <a:pt x="549" y="23"/>
                    </a:lnTo>
                    <a:lnTo>
                      <a:pt x="539" y="12"/>
                    </a:lnTo>
                    <a:lnTo>
                      <a:pt x="536" y="4"/>
                    </a:lnTo>
                    <a:close/>
                    <a:moveTo>
                      <a:pt x="532" y="1387"/>
                    </a:moveTo>
                    <a:lnTo>
                      <a:pt x="556" y="1384"/>
                    </a:lnTo>
                    <a:lnTo>
                      <a:pt x="580" y="1381"/>
                    </a:lnTo>
                    <a:lnTo>
                      <a:pt x="603" y="1377"/>
                    </a:lnTo>
                    <a:lnTo>
                      <a:pt x="626" y="1372"/>
                    </a:lnTo>
                    <a:lnTo>
                      <a:pt x="648" y="1365"/>
                    </a:lnTo>
                    <a:lnTo>
                      <a:pt x="671" y="1359"/>
                    </a:lnTo>
                    <a:lnTo>
                      <a:pt x="693" y="1352"/>
                    </a:lnTo>
                    <a:lnTo>
                      <a:pt x="716" y="1343"/>
                    </a:lnTo>
                    <a:lnTo>
                      <a:pt x="737" y="1335"/>
                    </a:lnTo>
                    <a:lnTo>
                      <a:pt x="758" y="1325"/>
                    </a:lnTo>
                    <a:lnTo>
                      <a:pt x="779" y="1315"/>
                    </a:lnTo>
                    <a:lnTo>
                      <a:pt x="799" y="1304"/>
                    </a:lnTo>
                    <a:lnTo>
                      <a:pt x="819" y="1293"/>
                    </a:lnTo>
                    <a:lnTo>
                      <a:pt x="839" y="1280"/>
                    </a:lnTo>
                    <a:lnTo>
                      <a:pt x="857" y="1268"/>
                    </a:lnTo>
                    <a:lnTo>
                      <a:pt x="876" y="1255"/>
                    </a:lnTo>
                    <a:lnTo>
                      <a:pt x="894" y="1240"/>
                    </a:lnTo>
                    <a:lnTo>
                      <a:pt x="912" y="1226"/>
                    </a:lnTo>
                    <a:lnTo>
                      <a:pt x="929" y="1211"/>
                    </a:lnTo>
                    <a:lnTo>
                      <a:pt x="946" y="1195"/>
                    </a:lnTo>
                    <a:lnTo>
                      <a:pt x="963" y="1179"/>
                    </a:lnTo>
                    <a:lnTo>
                      <a:pt x="977" y="1163"/>
                    </a:lnTo>
                    <a:lnTo>
                      <a:pt x="993" y="1146"/>
                    </a:lnTo>
                    <a:lnTo>
                      <a:pt x="1008" y="1128"/>
                    </a:lnTo>
                    <a:lnTo>
                      <a:pt x="1021" y="1110"/>
                    </a:lnTo>
                    <a:lnTo>
                      <a:pt x="1035" y="1091"/>
                    </a:lnTo>
                    <a:lnTo>
                      <a:pt x="1048" y="1072"/>
                    </a:lnTo>
                    <a:lnTo>
                      <a:pt x="1059" y="1052"/>
                    </a:lnTo>
                    <a:lnTo>
                      <a:pt x="1071" y="1032"/>
                    </a:lnTo>
                    <a:lnTo>
                      <a:pt x="1082" y="1012"/>
                    </a:lnTo>
                    <a:lnTo>
                      <a:pt x="1092" y="991"/>
                    </a:lnTo>
                    <a:lnTo>
                      <a:pt x="1102" y="970"/>
                    </a:lnTo>
                    <a:lnTo>
                      <a:pt x="1089" y="958"/>
                    </a:lnTo>
                    <a:lnTo>
                      <a:pt x="1079" y="979"/>
                    </a:lnTo>
                    <a:lnTo>
                      <a:pt x="1070" y="1000"/>
                    </a:lnTo>
                    <a:lnTo>
                      <a:pt x="1059" y="1020"/>
                    </a:lnTo>
                    <a:lnTo>
                      <a:pt x="1048" y="1040"/>
                    </a:lnTo>
                    <a:lnTo>
                      <a:pt x="1035" y="1060"/>
                    </a:lnTo>
                    <a:lnTo>
                      <a:pt x="1022" y="1079"/>
                    </a:lnTo>
                    <a:lnTo>
                      <a:pt x="1010" y="1097"/>
                    </a:lnTo>
                    <a:lnTo>
                      <a:pt x="996" y="1115"/>
                    </a:lnTo>
                    <a:lnTo>
                      <a:pt x="982" y="1133"/>
                    </a:lnTo>
                    <a:lnTo>
                      <a:pt x="967" y="1150"/>
                    </a:lnTo>
                    <a:lnTo>
                      <a:pt x="951" y="1167"/>
                    </a:lnTo>
                    <a:lnTo>
                      <a:pt x="935" y="1183"/>
                    </a:lnTo>
                    <a:lnTo>
                      <a:pt x="918" y="1198"/>
                    </a:lnTo>
                    <a:lnTo>
                      <a:pt x="902" y="1213"/>
                    </a:lnTo>
                    <a:lnTo>
                      <a:pt x="884" y="1228"/>
                    </a:lnTo>
                    <a:lnTo>
                      <a:pt x="866" y="1241"/>
                    </a:lnTo>
                    <a:lnTo>
                      <a:pt x="847" y="1255"/>
                    </a:lnTo>
                    <a:lnTo>
                      <a:pt x="828" y="1268"/>
                    </a:lnTo>
                    <a:lnTo>
                      <a:pt x="808" y="1279"/>
                    </a:lnTo>
                    <a:lnTo>
                      <a:pt x="788" y="1291"/>
                    </a:lnTo>
                    <a:lnTo>
                      <a:pt x="768" y="1301"/>
                    </a:lnTo>
                    <a:lnTo>
                      <a:pt x="747" y="1312"/>
                    </a:lnTo>
                    <a:lnTo>
                      <a:pt x="726" y="1321"/>
                    </a:lnTo>
                    <a:lnTo>
                      <a:pt x="705" y="1330"/>
                    </a:lnTo>
                    <a:lnTo>
                      <a:pt x="683" y="1338"/>
                    </a:lnTo>
                    <a:lnTo>
                      <a:pt x="661" y="1344"/>
                    </a:lnTo>
                    <a:lnTo>
                      <a:pt x="638" y="1352"/>
                    </a:lnTo>
                    <a:lnTo>
                      <a:pt x="616" y="1357"/>
                    </a:lnTo>
                    <a:lnTo>
                      <a:pt x="593" y="1362"/>
                    </a:lnTo>
                    <a:lnTo>
                      <a:pt x="569" y="1365"/>
                    </a:lnTo>
                    <a:lnTo>
                      <a:pt x="545" y="1369"/>
                    </a:lnTo>
                    <a:lnTo>
                      <a:pt x="521" y="1372"/>
                    </a:lnTo>
                    <a:lnTo>
                      <a:pt x="532" y="138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872320" y="2479680"/>
                <a:ext cx="345960" cy="434880"/>
              </a:xfrm>
              <a:custGeom>
                <a:avLst/>
                <a:gdLst/>
                <a:ahLst/>
                <a:rect l="l" t="t" r="r" b="b"/>
                <a:pathLst>
                  <a:path w="1093" h="1370">
                    <a:moveTo>
                      <a:pt x="538" y="5"/>
                    </a:moveTo>
                    <a:lnTo>
                      <a:pt x="529" y="4"/>
                    </a:lnTo>
                    <a:lnTo>
                      <a:pt x="519" y="3"/>
                    </a:lnTo>
                    <a:lnTo>
                      <a:pt x="510" y="2"/>
                    </a:lnTo>
                    <a:lnTo>
                      <a:pt x="500" y="1"/>
                    </a:lnTo>
                    <a:lnTo>
                      <a:pt x="490" y="1"/>
                    </a:lnTo>
                    <a:lnTo>
                      <a:pt x="480" y="1"/>
                    </a:lnTo>
                    <a:lnTo>
                      <a:pt x="471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5" y="3"/>
                    </a:lnTo>
                    <a:lnTo>
                      <a:pt x="362" y="7"/>
                    </a:lnTo>
                    <a:lnTo>
                      <a:pt x="331" y="12"/>
                    </a:lnTo>
                    <a:lnTo>
                      <a:pt x="299" y="19"/>
                    </a:lnTo>
                    <a:lnTo>
                      <a:pt x="269" y="27"/>
                    </a:lnTo>
                    <a:lnTo>
                      <a:pt x="238" y="36"/>
                    </a:lnTo>
                    <a:lnTo>
                      <a:pt x="209" y="48"/>
                    </a:lnTo>
                    <a:lnTo>
                      <a:pt x="181" y="59"/>
                    </a:lnTo>
                    <a:lnTo>
                      <a:pt x="152" y="73"/>
                    </a:lnTo>
                    <a:lnTo>
                      <a:pt x="125" y="88"/>
                    </a:lnTo>
                    <a:lnTo>
                      <a:pt x="98" y="104"/>
                    </a:lnTo>
                    <a:lnTo>
                      <a:pt x="72" y="120"/>
                    </a:lnTo>
                    <a:lnTo>
                      <a:pt x="47" y="138"/>
                    </a:lnTo>
                    <a:lnTo>
                      <a:pt x="23" y="157"/>
                    </a:lnTo>
                    <a:lnTo>
                      <a:pt x="0" y="177"/>
                    </a:lnTo>
                    <a:lnTo>
                      <a:pt x="0" y="200"/>
                    </a:lnTo>
                    <a:lnTo>
                      <a:pt x="23" y="179"/>
                    </a:lnTo>
                    <a:lnTo>
                      <a:pt x="46" y="159"/>
                    </a:lnTo>
                    <a:lnTo>
                      <a:pt x="71" y="141"/>
                    </a:lnTo>
                    <a:lnTo>
                      <a:pt x="98" y="124"/>
                    </a:lnTo>
                    <a:lnTo>
                      <a:pt x="124" y="108"/>
                    </a:lnTo>
                    <a:lnTo>
                      <a:pt x="151" y="92"/>
                    </a:lnTo>
                    <a:lnTo>
                      <a:pt x="180" y="78"/>
                    </a:lnTo>
                    <a:lnTo>
                      <a:pt x="208" y="66"/>
                    </a:lnTo>
                    <a:lnTo>
                      <a:pt x="237" y="54"/>
                    </a:lnTo>
                    <a:lnTo>
                      <a:pt x="268" y="45"/>
                    </a:lnTo>
                    <a:lnTo>
                      <a:pt x="298" y="36"/>
                    </a:lnTo>
                    <a:lnTo>
                      <a:pt x="330" y="29"/>
                    </a:lnTo>
                    <a:lnTo>
                      <a:pt x="362" y="24"/>
                    </a:lnTo>
                    <a:lnTo>
                      <a:pt x="394" y="20"/>
                    </a:lnTo>
                    <a:lnTo>
                      <a:pt x="428" y="17"/>
                    </a:lnTo>
                    <a:lnTo>
                      <a:pt x="460" y="16"/>
                    </a:lnTo>
                    <a:lnTo>
                      <a:pt x="473" y="16"/>
                    </a:lnTo>
                    <a:lnTo>
                      <a:pt x="484" y="17"/>
                    </a:lnTo>
                    <a:lnTo>
                      <a:pt x="497" y="17"/>
                    </a:lnTo>
                    <a:lnTo>
                      <a:pt x="509" y="19"/>
                    </a:lnTo>
                    <a:lnTo>
                      <a:pt x="520" y="20"/>
                    </a:lnTo>
                    <a:lnTo>
                      <a:pt x="533" y="21"/>
                    </a:lnTo>
                    <a:lnTo>
                      <a:pt x="544" y="22"/>
                    </a:lnTo>
                    <a:lnTo>
                      <a:pt x="556" y="24"/>
                    </a:lnTo>
                    <a:lnTo>
                      <a:pt x="538" y="5"/>
                    </a:lnTo>
                    <a:close/>
                    <a:moveTo>
                      <a:pt x="524" y="1370"/>
                    </a:moveTo>
                    <a:lnTo>
                      <a:pt x="549" y="1368"/>
                    </a:lnTo>
                    <a:lnTo>
                      <a:pt x="573" y="1365"/>
                    </a:lnTo>
                    <a:lnTo>
                      <a:pt x="596" y="1360"/>
                    </a:lnTo>
                    <a:lnTo>
                      <a:pt x="619" y="1355"/>
                    </a:lnTo>
                    <a:lnTo>
                      <a:pt x="641" y="1349"/>
                    </a:lnTo>
                    <a:lnTo>
                      <a:pt x="664" y="1343"/>
                    </a:lnTo>
                    <a:lnTo>
                      <a:pt x="686" y="1335"/>
                    </a:lnTo>
                    <a:lnTo>
                      <a:pt x="708" y="1328"/>
                    </a:lnTo>
                    <a:lnTo>
                      <a:pt x="729" y="1318"/>
                    </a:lnTo>
                    <a:lnTo>
                      <a:pt x="750" y="1309"/>
                    </a:lnTo>
                    <a:lnTo>
                      <a:pt x="771" y="1300"/>
                    </a:lnTo>
                    <a:lnTo>
                      <a:pt x="791" y="1289"/>
                    </a:lnTo>
                    <a:lnTo>
                      <a:pt x="811" y="1277"/>
                    </a:lnTo>
                    <a:lnTo>
                      <a:pt x="831" y="1265"/>
                    </a:lnTo>
                    <a:lnTo>
                      <a:pt x="850" y="1252"/>
                    </a:lnTo>
                    <a:lnTo>
                      <a:pt x="869" y="1239"/>
                    </a:lnTo>
                    <a:lnTo>
                      <a:pt x="887" y="1225"/>
                    </a:lnTo>
                    <a:lnTo>
                      <a:pt x="905" y="1211"/>
                    </a:lnTo>
                    <a:lnTo>
                      <a:pt x="922" y="1196"/>
                    </a:lnTo>
                    <a:lnTo>
                      <a:pt x="939" y="1180"/>
                    </a:lnTo>
                    <a:lnTo>
                      <a:pt x="954" y="1164"/>
                    </a:lnTo>
                    <a:lnTo>
                      <a:pt x="970" y="1147"/>
                    </a:lnTo>
                    <a:lnTo>
                      <a:pt x="985" y="1130"/>
                    </a:lnTo>
                    <a:lnTo>
                      <a:pt x="999" y="1113"/>
                    </a:lnTo>
                    <a:lnTo>
                      <a:pt x="1013" y="1095"/>
                    </a:lnTo>
                    <a:lnTo>
                      <a:pt x="1027" y="1076"/>
                    </a:lnTo>
                    <a:lnTo>
                      <a:pt x="1039" y="1057"/>
                    </a:lnTo>
                    <a:lnTo>
                      <a:pt x="1052" y="1037"/>
                    </a:lnTo>
                    <a:lnTo>
                      <a:pt x="1063" y="1017"/>
                    </a:lnTo>
                    <a:lnTo>
                      <a:pt x="1074" y="997"/>
                    </a:lnTo>
                    <a:lnTo>
                      <a:pt x="1084" y="976"/>
                    </a:lnTo>
                    <a:lnTo>
                      <a:pt x="1093" y="955"/>
                    </a:lnTo>
                    <a:lnTo>
                      <a:pt x="1080" y="943"/>
                    </a:lnTo>
                    <a:lnTo>
                      <a:pt x="1071" y="965"/>
                    </a:lnTo>
                    <a:lnTo>
                      <a:pt x="1061" y="985"/>
                    </a:lnTo>
                    <a:lnTo>
                      <a:pt x="1051" y="1006"/>
                    </a:lnTo>
                    <a:lnTo>
                      <a:pt x="1039" y="1025"/>
                    </a:lnTo>
                    <a:lnTo>
                      <a:pt x="1028" y="1044"/>
                    </a:lnTo>
                    <a:lnTo>
                      <a:pt x="1015" y="1063"/>
                    </a:lnTo>
                    <a:lnTo>
                      <a:pt x="1002" y="1082"/>
                    </a:lnTo>
                    <a:lnTo>
                      <a:pt x="988" y="1100"/>
                    </a:lnTo>
                    <a:lnTo>
                      <a:pt x="974" y="1118"/>
                    </a:lnTo>
                    <a:lnTo>
                      <a:pt x="958" y="1135"/>
                    </a:lnTo>
                    <a:lnTo>
                      <a:pt x="944" y="1151"/>
                    </a:lnTo>
                    <a:lnTo>
                      <a:pt x="927" y="1167"/>
                    </a:lnTo>
                    <a:lnTo>
                      <a:pt x="911" y="1183"/>
                    </a:lnTo>
                    <a:lnTo>
                      <a:pt x="893" y="1198"/>
                    </a:lnTo>
                    <a:lnTo>
                      <a:pt x="876" y="1212"/>
                    </a:lnTo>
                    <a:lnTo>
                      <a:pt x="859" y="1226"/>
                    </a:lnTo>
                    <a:lnTo>
                      <a:pt x="840" y="1240"/>
                    </a:lnTo>
                    <a:lnTo>
                      <a:pt x="821" y="1252"/>
                    </a:lnTo>
                    <a:lnTo>
                      <a:pt x="801" y="1264"/>
                    </a:lnTo>
                    <a:lnTo>
                      <a:pt x="781" y="1275"/>
                    </a:lnTo>
                    <a:lnTo>
                      <a:pt x="761" y="1286"/>
                    </a:lnTo>
                    <a:lnTo>
                      <a:pt x="740" y="1296"/>
                    </a:lnTo>
                    <a:lnTo>
                      <a:pt x="719" y="1305"/>
                    </a:lnTo>
                    <a:lnTo>
                      <a:pt x="698" y="1313"/>
                    </a:lnTo>
                    <a:lnTo>
                      <a:pt x="676" y="1322"/>
                    </a:lnTo>
                    <a:lnTo>
                      <a:pt x="654" y="1329"/>
                    </a:lnTo>
                    <a:lnTo>
                      <a:pt x="632" y="1335"/>
                    </a:lnTo>
                    <a:lnTo>
                      <a:pt x="608" y="1340"/>
                    </a:lnTo>
                    <a:lnTo>
                      <a:pt x="585" y="1345"/>
                    </a:lnTo>
                    <a:lnTo>
                      <a:pt x="562" y="1349"/>
                    </a:lnTo>
                    <a:lnTo>
                      <a:pt x="538" y="1352"/>
                    </a:lnTo>
                    <a:lnTo>
                      <a:pt x="514" y="1354"/>
                    </a:lnTo>
                    <a:lnTo>
                      <a:pt x="524" y="1370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72320" y="2482920"/>
                <a:ext cx="344160" cy="430200"/>
              </a:xfrm>
              <a:custGeom>
                <a:avLst/>
                <a:gdLst/>
                <a:ahLst/>
                <a:rect l="l" t="t" r="r" b="b"/>
                <a:pathLst>
                  <a:path w="1087" h="1355">
                    <a:moveTo>
                      <a:pt x="546" y="6"/>
                    </a:moveTo>
                    <a:lnTo>
                      <a:pt x="536" y="4"/>
                    </a:lnTo>
                    <a:lnTo>
                      <a:pt x="525" y="3"/>
                    </a:lnTo>
                    <a:lnTo>
                      <a:pt x="515" y="2"/>
                    </a:lnTo>
                    <a:lnTo>
                      <a:pt x="504" y="2"/>
                    </a:lnTo>
                    <a:lnTo>
                      <a:pt x="493" y="1"/>
                    </a:lnTo>
                    <a:lnTo>
                      <a:pt x="482" y="1"/>
                    </a:lnTo>
                    <a:lnTo>
                      <a:pt x="472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5" y="3"/>
                    </a:lnTo>
                    <a:lnTo>
                      <a:pt x="362" y="7"/>
                    </a:lnTo>
                    <a:lnTo>
                      <a:pt x="331" y="13"/>
                    </a:lnTo>
                    <a:lnTo>
                      <a:pt x="299" y="20"/>
                    </a:lnTo>
                    <a:lnTo>
                      <a:pt x="268" y="28"/>
                    </a:lnTo>
                    <a:lnTo>
                      <a:pt x="238" y="38"/>
                    </a:lnTo>
                    <a:lnTo>
                      <a:pt x="209" y="48"/>
                    </a:lnTo>
                    <a:lnTo>
                      <a:pt x="180" y="61"/>
                    </a:lnTo>
                    <a:lnTo>
                      <a:pt x="151" y="75"/>
                    </a:lnTo>
                    <a:lnTo>
                      <a:pt x="124" y="89"/>
                    </a:lnTo>
                    <a:lnTo>
                      <a:pt x="98" y="105"/>
                    </a:lnTo>
                    <a:lnTo>
                      <a:pt x="71" y="123"/>
                    </a:lnTo>
                    <a:lnTo>
                      <a:pt x="47" y="141"/>
                    </a:lnTo>
                    <a:lnTo>
                      <a:pt x="23" y="161"/>
                    </a:lnTo>
                    <a:lnTo>
                      <a:pt x="0" y="181"/>
                    </a:lnTo>
                    <a:lnTo>
                      <a:pt x="0" y="204"/>
                    </a:lnTo>
                    <a:lnTo>
                      <a:pt x="22" y="183"/>
                    </a:lnTo>
                    <a:lnTo>
                      <a:pt x="46" y="163"/>
                    </a:lnTo>
                    <a:lnTo>
                      <a:pt x="71" y="144"/>
                    </a:lnTo>
                    <a:lnTo>
                      <a:pt x="97" y="126"/>
                    </a:lnTo>
                    <a:lnTo>
                      <a:pt x="123" y="109"/>
                    </a:lnTo>
                    <a:lnTo>
                      <a:pt x="150" y="95"/>
                    </a:lnTo>
                    <a:lnTo>
                      <a:pt x="179" y="80"/>
                    </a:lnTo>
                    <a:lnTo>
                      <a:pt x="208" y="67"/>
                    </a:lnTo>
                    <a:lnTo>
                      <a:pt x="237" y="56"/>
                    </a:lnTo>
                    <a:lnTo>
                      <a:pt x="268" y="46"/>
                    </a:lnTo>
                    <a:lnTo>
                      <a:pt x="298" y="37"/>
                    </a:lnTo>
                    <a:lnTo>
                      <a:pt x="330" y="30"/>
                    </a:lnTo>
                    <a:lnTo>
                      <a:pt x="361" y="24"/>
                    </a:lnTo>
                    <a:lnTo>
                      <a:pt x="394" y="20"/>
                    </a:lnTo>
                    <a:lnTo>
                      <a:pt x="428" y="18"/>
                    </a:lnTo>
                    <a:lnTo>
                      <a:pt x="460" y="17"/>
                    </a:lnTo>
                    <a:lnTo>
                      <a:pt x="474" y="17"/>
                    </a:lnTo>
                    <a:lnTo>
                      <a:pt x="487" y="18"/>
                    </a:lnTo>
                    <a:lnTo>
                      <a:pt x="500" y="18"/>
                    </a:lnTo>
                    <a:lnTo>
                      <a:pt x="513" y="19"/>
                    </a:lnTo>
                    <a:lnTo>
                      <a:pt x="526" y="20"/>
                    </a:lnTo>
                    <a:lnTo>
                      <a:pt x="539" y="22"/>
                    </a:lnTo>
                    <a:lnTo>
                      <a:pt x="552" y="23"/>
                    </a:lnTo>
                    <a:lnTo>
                      <a:pt x="564" y="25"/>
                    </a:lnTo>
                    <a:lnTo>
                      <a:pt x="564" y="25"/>
                    </a:lnTo>
                    <a:lnTo>
                      <a:pt x="546" y="6"/>
                    </a:lnTo>
                    <a:close/>
                    <a:moveTo>
                      <a:pt x="519" y="1355"/>
                    </a:moveTo>
                    <a:lnTo>
                      <a:pt x="543" y="1352"/>
                    </a:lnTo>
                    <a:lnTo>
                      <a:pt x="567" y="1348"/>
                    </a:lnTo>
                    <a:lnTo>
                      <a:pt x="591" y="1345"/>
                    </a:lnTo>
                    <a:lnTo>
                      <a:pt x="614" y="1340"/>
                    </a:lnTo>
                    <a:lnTo>
                      <a:pt x="636" y="1335"/>
                    </a:lnTo>
                    <a:lnTo>
                      <a:pt x="659" y="1327"/>
                    </a:lnTo>
                    <a:lnTo>
                      <a:pt x="681" y="1321"/>
                    </a:lnTo>
                    <a:lnTo>
                      <a:pt x="703" y="1313"/>
                    </a:lnTo>
                    <a:lnTo>
                      <a:pt x="724" y="1304"/>
                    </a:lnTo>
                    <a:lnTo>
                      <a:pt x="745" y="1295"/>
                    </a:lnTo>
                    <a:lnTo>
                      <a:pt x="766" y="1284"/>
                    </a:lnTo>
                    <a:lnTo>
                      <a:pt x="786" y="1274"/>
                    </a:lnTo>
                    <a:lnTo>
                      <a:pt x="806" y="1262"/>
                    </a:lnTo>
                    <a:lnTo>
                      <a:pt x="826" y="1251"/>
                    </a:lnTo>
                    <a:lnTo>
                      <a:pt x="845" y="1238"/>
                    </a:lnTo>
                    <a:lnTo>
                      <a:pt x="864" y="1224"/>
                    </a:lnTo>
                    <a:lnTo>
                      <a:pt x="882" y="1211"/>
                    </a:lnTo>
                    <a:lnTo>
                      <a:pt x="900" y="1196"/>
                    </a:lnTo>
                    <a:lnTo>
                      <a:pt x="916" y="1181"/>
                    </a:lnTo>
                    <a:lnTo>
                      <a:pt x="933" y="1166"/>
                    </a:lnTo>
                    <a:lnTo>
                      <a:pt x="949" y="1150"/>
                    </a:lnTo>
                    <a:lnTo>
                      <a:pt x="965" y="1133"/>
                    </a:lnTo>
                    <a:lnTo>
                      <a:pt x="980" y="1116"/>
                    </a:lnTo>
                    <a:lnTo>
                      <a:pt x="994" y="1098"/>
                    </a:lnTo>
                    <a:lnTo>
                      <a:pt x="1008" y="1080"/>
                    </a:lnTo>
                    <a:lnTo>
                      <a:pt x="1020" y="1062"/>
                    </a:lnTo>
                    <a:lnTo>
                      <a:pt x="1033" y="1043"/>
                    </a:lnTo>
                    <a:lnTo>
                      <a:pt x="1046" y="1023"/>
                    </a:lnTo>
                    <a:lnTo>
                      <a:pt x="1057" y="1003"/>
                    </a:lnTo>
                    <a:lnTo>
                      <a:pt x="1068" y="983"/>
                    </a:lnTo>
                    <a:lnTo>
                      <a:pt x="1077" y="962"/>
                    </a:lnTo>
                    <a:lnTo>
                      <a:pt x="1087" y="941"/>
                    </a:lnTo>
                    <a:lnTo>
                      <a:pt x="1074" y="928"/>
                    </a:lnTo>
                    <a:lnTo>
                      <a:pt x="1065" y="950"/>
                    </a:lnTo>
                    <a:lnTo>
                      <a:pt x="1055" y="970"/>
                    </a:lnTo>
                    <a:lnTo>
                      <a:pt x="1045" y="991"/>
                    </a:lnTo>
                    <a:lnTo>
                      <a:pt x="1033" y="1011"/>
                    </a:lnTo>
                    <a:lnTo>
                      <a:pt x="1022" y="1030"/>
                    </a:lnTo>
                    <a:lnTo>
                      <a:pt x="1009" y="1049"/>
                    </a:lnTo>
                    <a:lnTo>
                      <a:pt x="996" y="1068"/>
                    </a:lnTo>
                    <a:lnTo>
                      <a:pt x="983" y="1086"/>
                    </a:lnTo>
                    <a:lnTo>
                      <a:pt x="968" y="1104"/>
                    </a:lnTo>
                    <a:lnTo>
                      <a:pt x="953" y="1120"/>
                    </a:lnTo>
                    <a:lnTo>
                      <a:pt x="937" y="1137"/>
                    </a:lnTo>
                    <a:lnTo>
                      <a:pt x="922" y="1154"/>
                    </a:lnTo>
                    <a:lnTo>
                      <a:pt x="905" y="1169"/>
                    </a:lnTo>
                    <a:lnTo>
                      <a:pt x="888" y="1183"/>
                    </a:lnTo>
                    <a:lnTo>
                      <a:pt x="870" y="1198"/>
                    </a:lnTo>
                    <a:lnTo>
                      <a:pt x="852" y="1212"/>
                    </a:lnTo>
                    <a:lnTo>
                      <a:pt x="834" y="1225"/>
                    </a:lnTo>
                    <a:lnTo>
                      <a:pt x="816" y="1238"/>
                    </a:lnTo>
                    <a:lnTo>
                      <a:pt x="796" y="1250"/>
                    </a:lnTo>
                    <a:lnTo>
                      <a:pt x="776" y="1261"/>
                    </a:lnTo>
                    <a:lnTo>
                      <a:pt x="756" y="1272"/>
                    </a:lnTo>
                    <a:lnTo>
                      <a:pt x="735" y="1281"/>
                    </a:lnTo>
                    <a:lnTo>
                      <a:pt x="714" y="1290"/>
                    </a:lnTo>
                    <a:lnTo>
                      <a:pt x="693" y="1299"/>
                    </a:lnTo>
                    <a:lnTo>
                      <a:pt x="670" y="1306"/>
                    </a:lnTo>
                    <a:lnTo>
                      <a:pt x="648" y="1314"/>
                    </a:lnTo>
                    <a:lnTo>
                      <a:pt x="625" y="1320"/>
                    </a:lnTo>
                    <a:lnTo>
                      <a:pt x="603" y="1325"/>
                    </a:lnTo>
                    <a:lnTo>
                      <a:pt x="580" y="1329"/>
                    </a:lnTo>
                    <a:lnTo>
                      <a:pt x="557" y="1334"/>
                    </a:lnTo>
                    <a:lnTo>
                      <a:pt x="533" y="1337"/>
                    </a:lnTo>
                    <a:lnTo>
                      <a:pt x="509" y="1339"/>
                    </a:lnTo>
                    <a:lnTo>
                      <a:pt x="519" y="1355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872320" y="2484360"/>
                <a:ext cx="342720" cy="425520"/>
              </a:xfrm>
              <a:custGeom>
                <a:avLst/>
                <a:gdLst/>
                <a:ahLst/>
                <a:rect l="l" t="t" r="r" b="b"/>
                <a:pathLst>
                  <a:path w="1080" h="1338">
                    <a:moveTo>
                      <a:pt x="556" y="8"/>
                    </a:moveTo>
                    <a:lnTo>
                      <a:pt x="544" y="6"/>
                    </a:lnTo>
                    <a:lnTo>
                      <a:pt x="533" y="5"/>
                    </a:lnTo>
                    <a:lnTo>
                      <a:pt x="520" y="4"/>
                    </a:lnTo>
                    <a:lnTo>
                      <a:pt x="509" y="3"/>
                    </a:lnTo>
                    <a:lnTo>
                      <a:pt x="497" y="1"/>
                    </a:lnTo>
                    <a:lnTo>
                      <a:pt x="484" y="1"/>
                    </a:lnTo>
                    <a:lnTo>
                      <a:pt x="473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4" y="4"/>
                    </a:lnTo>
                    <a:lnTo>
                      <a:pt x="362" y="8"/>
                    </a:lnTo>
                    <a:lnTo>
                      <a:pt x="330" y="13"/>
                    </a:lnTo>
                    <a:lnTo>
                      <a:pt x="298" y="20"/>
                    </a:lnTo>
                    <a:lnTo>
                      <a:pt x="268" y="29"/>
                    </a:lnTo>
                    <a:lnTo>
                      <a:pt x="237" y="38"/>
                    </a:lnTo>
                    <a:lnTo>
                      <a:pt x="208" y="50"/>
                    </a:lnTo>
                    <a:lnTo>
                      <a:pt x="180" y="62"/>
                    </a:lnTo>
                    <a:lnTo>
                      <a:pt x="151" y="76"/>
                    </a:lnTo>
                    <a:lnTo>
                      <a:pt x="124" y="92"/>
                    </a:lnTo>
                    <a:lnTo>
                      <a:pt x="98" y="108"/>
                    </a:lnTo>
                    <a:lnTo>
                      <a:pt x="71" y="125"/>
                    </a:lnTo>
                    <a:lnTo>
                      <a:pt x="46" y="144"/>
                    </a:lnTo>
                    <a:lnTo>
                      <a:pt x="23" y="163"/>
                    </a:lnTo>
                    <a:lnTo>
                      <a:pt x="0" y="184"/>
                    </a:lnTo>
                    <a:lnTo>
                      <a:pt x="0" y="207"/>
                    </a:lnTo>
                    <a:lnTo>
                      <a:pt x="22" y="186"/>
                    </a:lnTo>
                    <a:lnTo>
                      <a:pt x="46" y="165"/>
                    </a:lnTo>
                    <a:lnTo>
                      <a:pt x="70" y="146"/>
                    </a:lnTo>
                    <a:lnTo>
                      <a:pt x="97" y="129"/>
                    </a:lnTo>
                    <a:lnTo>
                      <a:pt x="123" y="112"/>
                    </a:lnTo>
                    <a:lnTo>
                      <a:pt x="150" y="96"/>
                    </a:lnTo>
                    <a:lnTo>
                      <a:pt x="179" y="81"/>
                    </a:lnTo>
                    <a:lnTo>
                      <a:pt x="207" y="69"/>
                    </a:lnTo>
                    <a:lnTo>
                      <a:pt x="236" y="57"/>
                    </a:lnTo>
                    <a:lnTo>
                      <a:pt x="267" y="47"/>
                    </a:lnTo>
                    <a:lnTo>
                      <a:pt x="297" y="38"/>
                    </a:lnTo>
                    <a:lnTo>
                      <a:pt x="329" y="31"/>
                    </a:lnTo>
                    <a:lnTo>
                      <a:pt x="361" y="25"/>
                    </a:lnTo>
                    <a:lnTo>
                      <a:pt x="394" y="20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5" y="17"/>
                    </a:lnTo>
                    <a:lnTo>
                      <a:pt x="489" y="18"/>
                    </a:lnTo>
                    <a:lnTo>
                      <a:pt x="502" y="19"/>
                    </a:lnTo>
                    <a:lnTo>
                      <a:pt x="516" y="19"/>
                    </a:lnTo>
                    <a:lnTo>
                      <a:pt x="530" y="21"/>
                    </a:lnTo>
                    <a:lnTo>
                      <a:pt x="542" y="22"/>
                    </a:lnTo>
                    <a:lnTo>
                      <a:pt x="556" y="25"/>
                    </a:lnTo>
                    <a:lnTo>
                      <a:pt x="570" y="27"/>
                    </a:lnTo>
                    <a:lnTo>
                      <a:pt x="564" y="17"/>
                    </a:lnTo>
                    <a:lnTo>
                      <a:pt x="556" y="8"/>
                    </a:lnTo>
                    <a:close/>
                    <a:moveTo>
                      <a:pt x="514" y="1338"/>
                    </a:moveTo>
                    <a:lnTo>
                      <a:pt x="538" y="1336"/>
                    </a:lnTo>
                    <a:lnTo>
                      <a:pt x="562" y="1333"/>
                    </a:lnTo>
                    <a:lnTo>
                      <a:pt x="585" y="1329"/>
                    </a:lnTo>
                    <a:lnTo>
                      <a:pt x="608" y="1324"/>
                    </a:lnTo>
                    <a:lnTo>
                      <a:pt x="631" y="1319"/>
                    </a:lnTo>
                    <a:lnTo>
                      <a:pt x="654" y="1313"/>
                    </a:lnTo>
                    <a:lnTo>
                      <a:pt x="676" y="1306"/>
                    </a:lnTo>
                    <a:lnTo>
                      <a:pt x="698" y="1297"/>
                    </a:lnTo>
                    <a:lnTo>
                      <a:pt x="719" y="1289"/>
                    </a:lnTo>
                    <a:lnTo>
                      <a:pt x="740" y="1280"/>
                    </a:lnTo>
                    <a:lnTo>
                      <a:pt x="761" y="1270"/>
                    </a:lnTo>
                    <a:lnTo>
                      <a:pt x="781" y="1259"/>
                    </a:lnTo>
                    <a:lnTo>
                      <a:pt x="801" y="1248"/>
                    </a:lnTo>
                    <a:lnTo>
                      <a:pt x="821" y="1236"/>
                    </a:lnTo>
                    <a:lnTo>
                      <a:pt x="840" y="1224"/>
                    </a:lnTo>
                    <a:lnTo>
                      <a:pt x="859" y="1210"/>
                    </a:lnTo>
                    <a:lnTo>
                      <a:pt x="876" y="1196"/>
                    </a:lnTo>
                    <a:lnTo>
                      <a:pt x="893" y="1182"/>
                    </a:lnTo>
                    <a:lnTo>
                      <a:pt x="911" y="1167"/>
                    </a:lnTo>
                    <a:lnTo>
                      <a:pt x="927" y="1151"/>
                    </a:lnTo>
                    <a:lnTo>
                      <a:pt x="944" y="1135"/>
                    </a:lnTo>
                    <a:lnTo>
                      <a:pt x="958" y="1119"/>
                    </a:lnTo>
                    <a:lnTo>
                      <a:pt x="974" y="1102"/>
                    </a:lnTo>
                    <a:lnTo>
                      <a:pt x="988" y="1084"/>
                    </a:lnTo>
                    <a:lnTo>
                      <a:pt x="1002" y="1066"/>
                    </a:lnTo>
                    <a:lnTo>
                      <a:pt x="1015" y="1047"/>
                    </a:lnTo>
                    <a:lnTo>
                      <a:pt x="1028" y="1028"/>
                    </a:lnTo>
                    <a:lnTo>
                      <a:pt x="1039" y="1009"/>
                    </a:lnTo>
                    <a:lnTo>
                      <a:pt x="1051" y="990"/>
                    </a:lnTo>
                    <a:lnTo>
                      <a:pt x="1061" y="969"/>
                    </a:lnTo>
                    <a:lnTo>
                      <a:pt x="1071" y="949"/>
                    </a:lnTo>
                    <a:lnTo>
                      <a:pt x="1080" y="927"/>
                    </a:lnTo>
                    <a:lnTo>
                      <a:pt x="1068" y="914"/>
                    </a:lnTo>
                    <a:lnTo>
                      <a:pt x="1058" y="936"/>
                    </a:lnTo>
                    <a:lnTo>
                      <a:pt x="1049" y="956"/>
                    </a:lnTo>
                    <a:lnTo>
                      <a:pt x="1038" y="977"/>
                    </a:lnTo>
                    <a:lnTo>
                      <a:pt x="1027" y="997"/>
                    </a:lnTo>
                    <a:lnTo>
                      <a:pt x="1015" y="1016"/>
                    </a:lnTo>
                    <a:lnTo>
                      <a:pt x="1004" y="1035"/>
                    </a:lnTo>
                    <a:lnTo>
                      <a:pt x="990" y="1054"/>
                    </a:lnTo>
                    <a:lnTo>
                      <a:pt x="976" y="1071"/>
                    </a:lnTo>
                    <a:lnTo>
                      <a:pt x="963" y="1089"/>
                    </a:lnTo>
                    <a:lnTo>
                      <a:pt x="948" y="1106"/>
                    </a:lnTo>
                    <a:lnTo>
                      <a:pt x="932" y="1123"/>
                    </a:lnTo>
                    <a:lnTo>
                      <a:pt x="916" y="1139"/>
                    </a:lnTo>
                    <a:lnTo>
                      <a:pt x="900" y="1154"/>
                    </a:lnTo>
                    <a:lnTo>
                      <a:pt x="883" y="1169"/>
                    </a:lnTo>
                    <a:lnTo>
                      <a:pt x="865" y="1184"/>
                    </a:lnTo>
                    <a:lnTo>
                      <a:pt x="847" y="1197"/>
                    </a:lnTo>
                    <a:lnTo>
                      <a:pt x="828" y="1211"/>
                    </a:lnTo>
                    <a:lnTo>
                      <a:pt x="809" y="1223"/>
                    </a:lnTo>
                    <a:lnTo>
                      <a:pt x="790" y="1235"/>
                    </a:lnTo>
                    <a:lnTo>
                      <a:pt x="770" y="1246"/>
                    </a:lnTo>
                    <a:lnTo>
                      <a:pt x="750" y="1256"/>
                    </a:lnTo>
                    <a:lnTo>
                      <a:pt x="729" y="1267"/>
                    </a:lnTo>
                    <a:lnTo>
                      <a:pt x="708" y="1275"/>
                    </a:lnTo>
                    <a:lnTo>
                      <a:pt x="687" y="1284"/>
                    </a:lnTo>
                    <a:lnTo>
                      <a:pt x="665" y="1291"/>
                    </a:lnTo>
                    <a:lnTo>
                      <a:pt x="643" y="1298"/>
                    </a:lnTo>
                    <a:lnTo>
                      <a:pt x="620" y="1305"/>
                    </a:lnTo>
                    <a:lnTo>
                      <a:pt x="598" y="1310"/>
                    </a:lnTo>
                    <a:lnTo>
                      <a:pt x="575" y="1314"/>
                    </a:lnTo>
                    <a:lnTo>
                      <a:pt x="552" y="1317"/>
                    </a:lnTo>
                    <a:lnTo>
                      <a:pt x="528" y="1320"/>
                    </a:lnTo>
                    <a:lnTo>
                      <a:pt x="503" y="1322"/>
                    </a:lnTo>
                    <a:lnTo>
                      <a:pt x="514" y="133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72320" y="2487600"/>
                <a:ext cx="339480" cy="419040"/>
              </a:xfrm>
              <a:custGeom>
                <a:avLst/>
                <a:gdLst/>
                <a:ahLst/>
                <a:rect l="l" t="t" r="r" b="b"/>
                <a:pathLst>
                  <a:path w="1074" h="1322">
                    <a:moveTo>
                      <a:pt x="564" y="8"/>
                    </a:moveTo>
                    <a:lnTo>
                      <a:pt x="552" y="6"/>
                    </a:lnTo>
                    <a:lnTo>
                      <a:pt x="539" y="5"/>
                    </a:lnTo>
                    <a:lnTo>
                      <a:pt x="526" y="3"/>
                    </a:lnTo>
                    <a:lnTo>
                      <a:pt x="513" y="2"/>
                    </a:lnTo>
                    <a:lnTo>
                      <a:pt x="500" y="1"/>
                    </a:lnTo>
                    <a:lnTo>
                      <a:pt x="487" y="1"/>
                    </a:lnTo>
                    <a:lnTo>
                      <a:pt x="474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4" y="3"/>
                    </a:lnTo>
                    <a:lnTo>
                      <a:pt x="361" y="7"/>
                    </a:lnTo>
                    <a:lnTo>
                      <a:pt x="330" y="13"/>
                    </a:lnTo>
                    <a:lnTo>
                      <a:pt x="298" y="20"/>
                    </a:lnTo>
                    <a:lnTo>
                      <a:pt x="268" y="29"/>
                    </a:lnTo>
                    <a:lnTo>
                      <a:pt x="237" y="39"/>
                    </a:lnTo>
                    <a:lnTo>
                      <a:pt x="208" y="50"/>
                    </a:lnTo>
                    <a:lnTo>
                      <a:pt x="179" y="63"/>
                    </a:lnTo>
                    <a:lnTo>
                      <a:pt x="150" y="78"/>
                    </a:lnTo>
                    <a:lnTo>
                      <a:pt x="123" y="92"/>
                    </a:lnTo>
                    <a:lnTo>
                      <a:pt x="97" y="109"/>
                    </a:lnTo>
                    <a:lnTo>
                      <a:pt x="71" y="127"/>
                    </a:lnTo>
                    <a:lnTo>
                      <a:pt x="46" y="146"/>
                    </a:lnTo>
                    <a:lnTo>
                      <a:pt x="22" y="166"/>
                    </a:lnTo>
                    <a:lnTo>
                      <a:pt x="0" y="187"/>
                    </a:lnTo>
                    <a:lnTo>
                      <a:pt x="0" y="211"/>
                    </a:lnTo>
                    <a:lnTo>
                      <a:pt x="22" y="189"/>
                    </a:lnTo>
                    <a:lnTo>
                      <a:pt x="45" y="168"/>
                    </a:lnTo>
                    <a:lnTo>
                      <a:pt x="70" y="149"/>
                    </a:lnTo>
                    <a:lnTo>
                      <a:pt x="95" y="130"/>
                    </a:lnTo>
                    <a:lnTo>
                      <a:pt x="122" y="113"/>
                    </a:lnTo>
                    <a:lnTo>
                      <a:pt x="149" y="96"/>
                    </a:lnTo>
                    <a:lnTo>
                      <a:pt x="177" y="82"/>
                    </a:lnTo>
                    <a:lnTo>
                      <a:pt x="206" y="69"/>
                    </a:lnTo>
                    <a:lnTo>
                      <a:pt x="235" y="58"/>
                    </a:lnTo>
                    <a:lnTo>
                      <a:pt x="266" y="47"/>
                    </a:lnTo>
                    <a:lnTo>
                      <a:pt x="297" y="38"/>
                    </a:lnTo>
                    <a:lnTo>
                      <a:pt x="329" y="30"/>
                    </a:lnTo>
                    <a:lnTo>
                      <a:pt x="361" y="25"/>
                    </a:lnTo>
                    <a:lnTo>
                      <a:pt x="394" y="20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5" y="17"/>
                    </a:lnTo>
                    <a:lnTo>
                      <a:pt x="490" y="18"/>
                    </a:lnTo>
                    <a:lnTo>
                      <a:pt x="504" y="19"/>
                    </a:lnTo>
                    <a:lnTo>
                      <a:pt x="518" y="20"/>
                    </a:lnTo>
                    <a:lnTo>
                      <a:pt x="533" y="21"/>
                    </a:lnTo>
                    <a:lnTo>
                      <a:pt x="546" y="23"/>
                    </a:lnTo>
                    <a:lnTo>
                      <a:pt x="560" y="25"/>
                    </a:lnTo>
                    <a:lnTo>
                      <a:pt x="574" y="27"/>
                    </a:lnTo>
                    <a:lnTo>
                      <a:pt x="564" y="8"/>
                    </a:lnTo>
                    <a:close/>
                    <a:moveTo>
                      <a:pt x="509" y="1322"/>
                    </a:moveTo>
                    <a:lnTo>
                      <a:pt x="533" y="1320"/>
                    </a:lnTo>
                    <a:lnTo>
                      <a:pt x="557" y="1317"/>
                    </a:lnTo>
                    <a:lnTo>
                      <a:pt x="580" y="1312"/>
                    </a:lnTo>
                    <a:lnTo>
                      <a:pt x="603" y="1308"/>
                    </a:lnTo>
                    <a:lnTo>
                      <a:pt x="625" y="1303"/>
                    </a:lnTo>
                    <a:lnTo>
                      <a:pt x="648" y="1297"/>
                    </a:lnTo>
                    <a:lnTo>
                      <a:pt x="670" y="1289"/>
                    </a:lnTo>
                    <a:lnTo>
                      <a:pt x="693" y="1282"/>
                    </a:lnTo>
                    <a:lnTo>
                      <a:pt x="714" y="1273"/>
                    </a:lnTo>
                    <a:lnTo>
                      <a:pt x="735" y="1264"/>
                    </a:lnTo>
                    <a:lnTo>
                      <a:pt x="756" y="1255"/>
                    </a:lnTo>
                    <a:lnTo>
                      <a:pt x="776" y="1244"/>
                    </a:lnTo>
                    <a:lnTo>
                      <a:pt x="796" y="1233"/>
                    </a:lnTo>
                    <a:lnTo>
                      <a:pt x="816" y="1221"/>
                    </a:lnTo>
                    <a:lnTo>
                      <a:pt x="834" y="1208"/>
                    </a:lnTo>
                    <a:lnTo>
                      <a:pt x="852" y="1195"/>
                    </a:lnTo>
                    <a:lnTo>
                      <a:pt x="870" y="1181"/>
                    </a:lnTo>
                    <a:lnTo>
                      <a:pt x="888" y="1166"/>
                    </a:lnTo>
                    <a:lnTo>
                      <a:pt x="905" y="1152"/>
                    </a:lnTo>
                    <a:lnTo>
                      <a:pt x="922" y="1137"/>
                    </a:lnTo>
                    <a:lnTo>
                      <a:pt x="937" y="1120"/>
                    </a:lnTo>
                    <a:lnTo>
                      <a:pt x="953" y="1103"/>
                    </a:lnTo>
                    <a:lnTo>
                      <a:pt x="968" y="1087"/>
                    </a:lnTo>
                    <a:lnTo>
                      <a:pt x="983" y="1069"/>
                    </a:lnTo>
                    <a:lnTo>
                      <a:pt x="996" y="1051"/>
                    </a:lnTo>
                    <a:lnTo>
                      <a:pt x="1009" y="1032"/>
                    </a:lnTo>
                    <a:lnTo>
                      <a:pt x="1022" y="1013"/>
                    </a:lnTo>
                    <a:lnTo>
                      <a:pt x="1033" y="994"/>
                    </a:lnTo>
                    <a:lnTo>
                      <a:pt x="1045" y="974"/>
                    </a:lnTo>
                    <a:lnTo>
                      <a:pt x="1055" y="953"/>
                    </a:lnTo>
                    <a:lnTo>
                      <a:pt x="1065" y="933"/>
                    </a:lnTo>
                    <a:lnTo>
                      <a:pt x="1074" y="911"/>
                    </a:lnTo>
                    <a:lnTo>
                      <a:pt x="1060" y="900"/>
                    </a:lnTo>
                    <a:lnTo>
                      <a:pt x="1052" y="921"/>
                    </a:lnTo>
                    <a:lnTo>
                      <a:pt x="1043" y="942"/>
                    </a:lnTo>
                    <a:lnTo>
                      <a:pt x="1032" y="962"/>
                    </a:lnTo>
                    <a:lnTo>
                      <a:pt x="1022" y="982"/>
                    </a:lnTo>
                    <a:lnTo>
                      <a:pt x="1010" y="1000"/>
                    </a:lnTo>
                    <a:lnTo>
                      <a:pt x="997" y="1020"/>
                    </a:lnTo>
                    <a:lnTo>
                      <a:pt x="985" y="1038"/>
                    </a:lnTo>
                    <a:lnTo>
                      <a:pt x="971" y="1056"/>
                    </a:lnTo>
                    <a:lnTo>
                      <a:pt x="956" y="1074"/>
                    </a:lnTo>
                    <a:lnTo>
                      <a:pt x="942" y="1092"/>
                    </a:lnTo>
                    <a:lnTo>
                      <a:pt x="927" y="1108"/>
                    </a:lnTo>
                    <a:lnTo>
                      <a:pt x="910" y="1123"/>
                    </a:lnTo>
                    <a:lnTo>
                      <a:pt x="894" y="1139"/>
                    </a:lnTo>
                    <a:lnTo>
                      <a:pt x="878" y="1154"/>
                    </a:lnTo>
                    <a:lnTo>
                      <a:pt x="860" y="1168"/>
                    </a:lnTo>
                    <a:lnTo>
                      <a:pt x="842" y="1182"/>
                    </a:lnTo>
                    <a:lnTo>
                      <a:pt x="823" y="1195"/>
                    </a:lnTo>
                    <a:lnTo>
                      <a:pt x="804" y="1207"/>
                    </a:lnTo>
                    <a:lnTo>
                      <a:pt x="785" y="1219"/>
                    </a:lnTo>
                    <a:lnTo>
                      <a:pt x="765" y="1230"/>
                    </a:lnTo>
                    <a:lnTo>
                      <a:pt x="745" y="1241"/>
                    </a:lnTo>
                    <a:lnTo>
                      <a:pt x="724" y="1250"/>
                    </a:lnTo>
                    <a:lnTo>
                      <a:pt x="703" y="1260"/>
                    </a:lnTo>
                    <a:lnTo>
                      <a:pt x="682" y="1267"/>
                    </a:lnTo>
                    <a:lnTo>
                      <a:pt x="660" y="1276"/>
                    </a:lnTo>
                    <a:lnTo>
                      <a:pt x="638" y="1282"/>
                    </a:lnTo>
                    <a:lnTo>
                      <a:pt x="615" y="1288"/>
                    </a:lnTo>
                    <a:lnTo>
                      <a:pt x="593" y="1293"/>
                    </a:lnTo>
                    <a:lnTo>
                      <a:pt x="570" y="1298"/>
                    </a:lnTo>
                    <a:lnTo>
                      <a:pt x="545" y="1301"/>
                    </a:lnTo>
                    <a:lnTo>
                      <a:pt x="522" y="1304"/>
                    </a:lnTo>
                    <a:lnTo>
                      <a:pt x="498" y="1305"/>
                    </a:lnTo>
                    <a:lnTo>
                      <a:pt x="509" y="132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72320" y="2490840"/>
                <a:ext cx="338040" cy="414360"/>
              </a:xfrm>
              <a:custGeom>
                <a:avLst/>
                <a:gdLst/>
                <a:ahLst/>
                <a:rect l="l" t="t" r="r" b="b"/>
                <a:pathLst>
                  <a:path w="1068" h="1305">
                    <a:moveTo>
                      <a:pt x="570" y="10"/>
                    </a:moveTo>
                    <a:lnTo>
                      <a:pt x="556" y="8"/>
                    </a:lnTo>
                    <a:lnTo>
                      <a:pt x="542" y="5"/>
                    </a:lnTo>
                    <a:lnTo>
                      <a:pt x="530" y="4"/>
                    </a:lnTo>
                    <a:lnTo>
                      <a:pt x="516" y="2"/>
                    </a:lnTo>
                    <a:lnTo>
                      <a:pt x="502" y="2"/>
                    </a:lnTo>
                    <a:lnTo>
                      <a:pt x="489" y="1"/>
                    </a:lnTo>
                    <a:lnTo>
                      <a:pt x="475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3"/>
                    </a:lnTo>
                    <a:lnTo>
                      <a:pt x="361" y="8"/>
                    </a:lnTo>
                    <a:lnTo>
                      <a:pt x="329" y="14"/>
                    </a:lnTo>
                    <a:lnTo>
                      <a:pt x="297" y="21"/>
                    </a:lnTo>
                    <a:lnTo>
                      <a:pt x="267" y="30"/>
                    </a:lnTo>
                    <a:lnTo>
                      <a:pt x="236" y="40"/>
                    </a:lnTo>
                    <a:lnTo>
                      <a:pt x="207" y="52"/>
                    </a:lnTo>
                    <a:lnTo>
                      <a:pt x="179" y="64"/>
                    </a:lnTo>
                    <a:lnTo>
                      <a:pt x="150" y="79"/>
                    </a:lnTo>
                    <a:lnTo>
                      <a:pt x="123" y="95"/>
                    </a:lnTo>
                    <a:lnTo>
                      <a:pt x="97" y="112"/>
                    </a:lnTo>
                    <a:lnTo>
                      <a:pt x="70" y="129"/>
                    </a:lnTo>
                    <a:lnTo>
                      <a:pt x="46" y="148"/>
                    </a:lnTo>
                    <a:lnTo>
                      <a:pt x="22" y="169"/>
                    </a:lnTo>
                    <a:lnTo>
                      <a:pt x="0" y="190"/>
                    </a:lnTo>
                    <a:lnTo>
                      <a:pt x="0" y="214"/>
                    </a:lnTo>
                    <a:lnTo>
                      <a:pt x="22" y="192"/>
                    </a:lnTo>
                    <a:lnTo>
                      <a:pt x="45" y="171"/>
                    </a:lnTo>
                    <a:lnTo>
                      <a:pt x="69" y="151"/>
                    </a:lnTo>
                    <a:lnTo>
                      <a:pt x="95" y="133"/>
                    </a:lnTo>
                    <a:lnTo>
                      <a:pt x="122" y="115"/>
                    </a:lnTo>
                    <a:lnTo>
                      <a:pt x="148" y="99"/>
                    </a:lnTo>
                    <a:lnTo>
                      <a:pt x="176" y="84"/>
                    </a:lnTo>
                    <a:lnTo>
                      <a:pt x="206" y="71"/>
                    </a:lnTo>
                    <a:lnTo>
                      <a:pt x="235" y="58"/>
                    </a:lnTo>
                    <a:lnTo>
                      <a:pt x="266" y="47"/>
                    </a:lnTo>
                    <a:lnTo>
                      <a:pt x="296" y="39"/>
                    </a:lnTo>
                    <a:lnTo>
                      <a:pt x="329" y="31"/>
                    </a:lnTo>
                    <a:lnTo>
                      <a:pt x="360" y="25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6" y="17"/>
                    </a:lnTo>
                    <a:lnTo>
                      <a:pt x="491" y="18"/>
                    </a:lnTo>
                    <a:lnTo>
                      <a:pt x="505" y="19"/>
                    </a:lnTo>
                    <a:lnTo>
                      <a:pt x="521" y="20"/>
                    </a:lnTo>
                    <a:lnTo>
                      <a:pt x="536" y="21"/>
                    </a:lnTo>
                    <a:lnTo>
                      <a:pt x="551" y="23"/>
                    </a:lnTo>
                    <a:lnTo>
                      <a:pt x="564" y="25"/>
                    </a:lnTo>
                    <a:lnTo>
                      <a:pt x="579" y="29"/>
                    </a:lnTo>
                    <a:lnTo>
                      <a:pt x="570" y="10"/>
                    </a:lnTo>
                    <a:close/>
                    <a:moveTo>
                      <a:pt x="503" y="1305"/>
                    </a:moveTo>
                    <a:lnTo>
                      <a:pt x="528" y="1303"/>
                    </a:lnTo>
                    <a:lnTo>
                      <a:pt x="552" y="1300"/>
                    </a:lnTo>
                    <a:lnTo>
                      <a:pt x="575" y="1297"/>
                    </a:lnTo>
                    <a:lnTo>
                      <a:pt x="598" y="1293"/>
                    </a:lnTo>
                    <a:lnTo>
                      <a:pt x="620" y="1288"/>
                    </a:lnTo>
                    <a:lnTo>
                      <a:pt x="643" y="1281"/>
                    </a:lnTo>
                    <a:lnTo>
                      <a:pt x="665" y="1274"/>
                    </a:lnTo>
                    <a:lnTo>
                      <a:pt x="687" y="1267"/>
                    </a:lnTo>
                    <a:lnTo>
                      <a:pt x="708" y="1258"/>
                    </a:lnTo>
                    <a:lnTo>
                      <a:pt x="729" y="1250"/>
                    </a:lnTo>
                    <a:lnTo>
                      <a:pt x="750" y="1239"/>
                    </a:lnTo>
                    <a:lnTo>
                      <a:pt x="770" y="1229"/>
                    </a:lnTo>
                    <a:lnTo>
                      <a:pt x="790" y="1218"/>
                    </a:lnTo>
                    <a:lnTo>
                      <a:pt x="809" y="1206"/>
                    </a:lnTo>
                    <a:lnTo>
                      <a:pt x="828" y="1194"/>
                    </a:lnTo>
                    <a:lnTo>
                      <a:pt x="847" y="1180"/>
                    </a:lnTo>
                    <a:lnTo>
                      <a:pt x="865" y="1167"/>
                    </a:lnTo>
                    <a:lnTo>
                      <a:pt x="883" y="1152"/>
                    </a:lnTo>
                    <a:lnTo>
                      <a:pt x="900" y="1137"/>
                    </a:lnTo>
                    <a:lnTo>
                      <a:pt x="916" y="1122"/>
                    </a:lnTo>
                    <a:lnTo>
                      <a:pt x="932" y="1106"/>
                    </a:lnTo>
                    <a:lnTo>
                      <a:pt x="948" y="1089"/>
                    </a:lnTo>
                    <a:lnTo>
                      <a:pt x="963" y="1072"/>
                    </a:lnTo>
                    <a:lnTo>
                      <a:pt x="976" y="1054"/>
                    </a:lnTo>
                    <a:lnTo>
                      <a:pt x="990" y="1037"/>
                    </a:lnTo>
                    <a:lnTo>
                      <a:pt x="1004" y="1018"/>
                    </a:lnTo>
                    <a:lnTo>
                      <a:pt x="1015" y="999"/>
                    </a:lnTo>
                    <a:lnTo>
                      <a:pt x="1027" y="980"/>
                    </a:lnTo>
                    <a:lnTo>
                      <a:pt x="1038" y="960"/>
                    </a:lnTo>
                    <a:lnTo>
                      <a:pt x="1049" y="939"/>
                    </a:lnTo>
                    <a:lnTo>
                      <a:pt x="1058" y="919"/>
                    </a:lnTo>
                    <a:lnTo>
                      <a:pt x="1068" y="897"/>
                    </a:lnTo>
                    <a:lnTo>
                      <a:pt x="1054" y="885"/>
                    </a:lnTo>
                    <a:lnTo>
                      <a:pt x="1046" y="906"/>
                    </a:lnTo>
                    <a:lnTo>
                      <a:pt x="1036" y="927"/>
                    </a:lnTo>
                    <a:lnTo>
                      <a:pt x="1026" y="947"/>
                    </a:lnTo>
                    <a:lnTo>
                      <a:pt x="1015" y="967"/>
                    </a:lnTo>
                    <a:lnTo>
                      <a:pt x="1004" y="987"/>
                    </a:lnTo>
                    <a:lnTo>
                      <a:pt x="991" y="1006"/>
                    </a:lnTo>
                    <a:lnTo>
                      <a:pt x="978" y="1024"/>
                    </a:lnTo>
                    <a:lnTo>
                      <a:pt x="965" y="1043"/>
                    </a:lnTo>
                    <a:lnTo>
                      <a:pt x="951" y="1060"/>
                    </a:lnTo>
                    <a:lnTo>
                      <a:pt x="936" y="1078"/>
                    </a:lnTo>
                    <a:lnTo>
                      <a:pt x="921" y="1093"/>
                    </a:lnTo>
                    <a:lnTo>
                      <a:pt x="905" y="1110"/>
                    </a:lnTo>
                    <a:lnTo>
                      <a:pt x="889" y="1125"/>
                    </a:lnTo>
                    <a:lnTo>
                      <a:pt x="871" y="1139"/>
                    </a:lnTo>
                    <a:lnTo>
                      <a:pt x="854" y="1154"/>
                    </a:lnTo>
                    <a:lnTo>
                      <a:pt x="837" y="1168"/>
                    </a:lnTo>
                    <a:lnTo>
                      <a:pt x="818" y="1180"/>
                    </a:lnTo>
                    <a:lnTo>
                      <a:pt x="799" y="1193"/>
                    </a:lnTo>
                    <a:lnTo>
                      <a:pt x="780" y="1205"/>
                    </a:lnTo>
                    <a:lnTo>
                      <a:pt x="760" y="1216"/>
                    </a:lnTo>
                    <a:lnTo>
                      <a:pt x="740" y="1227"/>
                    </a:lnTo>
                    <a:lnTo>
                      <a:pt x="719" y="1236"/>
                    </a:lnTo>
                    <a:lnTo>
                      <a:pt x="698" y="1244"/>
                    </a:lnTo>
                    <a:lnTo>
                      <a:pt x="677" y="1253"/>
                    </a:lnTo>
                    <a:lnTo>
                      <a:pt x="655" y="1260"/>
                    </a:lnTo>
                    <a:lnTo>
                      <a:pt x="633" y="1267"/>
                    </a:lnTo>
                    <a:lnTo>
                      <a:pt x="610" y="1273"/>
                    </a:lnTo>
                    <a:lnTo>
                      <a:pt x="587" y="1278"/>
                    </a:lnTo>
                    <a:lnTo>
                      <a:pt x="564" y="1282"/>
                    </a:lnTo>
                    <a:lnTo>
                      <a:pt x="540" y="1285"/>
                    </a:lnTo>
                    <a:lnTo>
                      <a:pt x="517" y="1288"/>
                    </a:lnTo>
                    <a:lnTo>
                      <a:pt x="493" y="1290"/>
                    </a:lnTo>
                    <a:lnTo>
                      <a:pt x="503" y="1305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72320" y="2492280"/>
                <a:ext cx="336240" cy="409680"/>
              </a:xfrm>
              <a:custGeom>
                <a:avLst/>
                <a:gdLst/>
                <a:ahLst/>
                <a:rect l="l" t="t" r="r" b="b"/>
                <a:pathLst>
                  <a:path w="1060" h="1288">
                    <a:moveTo>
                      <a:pt x="574" y="10"/>
                    </a:moveTo>
                    <a:lnTo>
                      <a:pt x="560" y="8"/>
                    </a:lnTo>
                    <a:lnTo>
                      <a:pt x="546" y="6"/>
                    </a:lnTo>
                    <a:lnTo>
                      <a:pt x="533" y="4"/>
                    </a:lnTo>
                    <a:lnTo>
                      <a:pt x="518" y="3"/>
                    </a:lnTo>
                    <a:lnTo>
                      <a:pt x="504" y="2"/>
                    </a:lnTo>
                    <a:lnTo>
                      <a:pt x="490" y="1"/>
                    </a:lnTo>
                    <a:lnTo>
                      <a:pt x="475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3"/>
                    </a:lnTo>
                    <a:lnTo>
                      <a:pt x="361" y="8"/>
                    </a:lnTo>
                    <a:lnTo>
                      <a:pt x="329" y="13"/>
                    </a:lnTo>
                    <a:lnTo>
                      <a:pt x="297" y="21"/>
                    </a:lnTo>
                    <a:lnTo>
                      <a:pt x="266" y="30"/>
                    </a:lnTo>
                    <a:lnTo>
                      <a:pt x="235" y="41"/>
                    </a:lnTo>
                    <a:lnTo>
                      <a:pt x="206" y="52"/>
                    </a:lnTo>
                    <a:lnTo>
                      <a:pt x="177" y="65"/>
                    </a:lnTo>
                    <a:lnTo>
                      <a:pt x="149" y="79"/>
                    </a:lnTo>
                    <a:lnTo>
                      <a:pt x="122" y="96"/>
                    </a:lnTo>
                    <a:lnTo>
                      <a:pt x="95" y="113"/>
                    </a:lnTo>
                    <a:lnTo>
                      <a:pt x="70" y="132"/>
                    </a:lnTo>
                    <a:lnTo>
                      <a:pt x="45" y="151"/>
                    </a:lnTo>
                    <a:lnTo>
                      <a:pt x="22" y="172"/>
                    </a:lnTo>
                    <a:lnTo>
                      <a:pt x="0" y="194"/>
                    </a:lnTo>
                    <a:lnTo>
                      <a:pt x="0" y="216"/>
                    </a:lnTo>
                    <a:lnTo>
                      <a:pt x="0" y="218"/>
                    </a:lnTo>
                    <a:lnTo>
                      <a:pt x="22" y="195"/>
                    </a:lnTo>
                    <a:lnTo>
                      <a:pt x="45" y="174"/>
                    </a:lnTo>
                    <a:lnTo>
                      <a:pt x="69" y="153"/>
                    </a:lnTo>
                    <a:lnTo>
                      <a:pt x="94" y="134"/>
                    </a:lnTo>
                    <a:lnTo>
                      <a:pt x="121" y="116"/>
                    </a:lnTo>
                    <a:lnTo>
                      <a:pt x="148" y="99"/>
                    </a:lnTo>
                    <a:lnTo>
                      <a:pt x="176" y="85"/>
                    </a:lnTo>
                    <a:lnTo>
                      <a:pt x="205" y="71"/>
                    </a:lnTo>
                    <a:lnTo>
                      <a:pt x="234" y="58"/>
                    </a:lnTo>
                    <a:lnTo>
                      <a:pt x="265" y="48"/>
                    </a:lnTo>
                    <a:lnTo>
                      <a:pt x="296" y="38"/>
                    </a:lnTo>
                    <a:lnTo>
                      <a:pt x="328" y="31"/>
                    </a:lnTo>
                    <a:lnTo>
                      <a:pt x="360" y="25"/>
                    </a:lnTo>
                    <a:lnTo>
                      <a:pt x="393" y="21"/>
                    </a:lnTo>
                    <a:lnTo>
                      <a:pt x="427" y="17"/>
                    </a:lnTo>
                    <a:lnTo>
                      <a:pt x="460" y="16"/>
                    </a:lnTo>
                    <a:lnTo>
                      <a:pt x="476" y="16"/>
                    </a:lnTo>
                    <a:lnTo>
                      <a:pt x="492" y="17"/>
                    </a:lnTo>
                    <a:lnTo>
                      <a:pt x="508" y="19"/>
                    </a:lnTo>
                    <a:lnTo>
                      <a:pt x="523" y="20"/>
                    </a:lnTo>
                    <a:lnTo>
                      <a:pt x="539" y="22"/>
                    </a:lnTo>
                    <a:lnTo>
                      <a:pt x="554" y="24"/>
                    </a:lnTo>
                    <a:lnTo>
                      <a:pt x="570" y="26"/>
                    </a:lnTo>
                    <a:lnTo>
                      <a:pt x="584" y="29"/>
                    </a:lnTo>
                    <a:lnTo>
                      <a:pt x="574" y="10"/>
                    </a:lnTo>
                    <a:close/>
                    <a:moveTo>
                      <a:pt x="498" y="1288"/>
                    </a:moveTo>
                    <a:lnTo>
                      <a:pt x="522" y="1287"/>
                    </a:lnTo>
                    <a:lnTo>
                      <a:pt x="545" y="1284"/>
                    </a:lnTo>
                    <a:lnTo>
                      <a:pt x="570" y="1281"/>
                    </a:lnTo>
                    <a:lnTo>
                      <a:pt x="593" y="1276"/>
                    </a:lnTo>
                    <a:lnTo>
                      <a:pt x="615" y="1271"/>
                    </a:lnTo>
                    <a:lnTo>
                      <a:pt x="638" y="1265"/>
                    </a:lnTo>
                    <a:lnTo>
                      <a:pt x="660" y="1259"/>
                    </a:lnTo>
                    <a:lnTo>
                      <a:pt x="682" y="1250"/>
                    </a:lnTo>
                    <a:lnTo>
                      <a:pt x="703" y="1243"/>
                    </a:lnTo>
                    <a:lnTo>
                      <a:pt x="724" y="1233"/>
                    </a:lnTo>
                    <a:lnTo>
                      <a:pt x="745" y="1224"/>
                    </a:lnTo>
                    <a:lnTo>
                      <a:pt x="765" y="1213"/>
                    </a:lnTo>
                    <a:lnTo>
                      <a:pt x="785" y="1202"/>
                    </a:lnTo>
                    <a:lnTo>
                      <a:pt x="804" y="1190"/>
                    </a:lnTo>
                    <a:lnTo>
                      <a:pt x="823" y="1178"/>
                    </a:lnTo>
                    <a:lnTo>
                      <a:pt x="842" y="1165"/>
                    </a:lnTo>
                    <a:lnTo>
                      <a:pt x="860" y="1151"/>
                    </a:lnTo>
                    <a:lnTo>
                      <a:pt x="878" y="1137"/>
                    </a:lnTo>
                    <a:lnTo>
                      <a:pt x="894" y="1122"/>
                    </a:lnTo>
                    <a:lnTo>
                      <a:pt x="910" y="1106"/>
                    </a:lnTo>
                    <a:lnTo>
                      <a:pt x="927" y="1091"/>
                    </a:lnTo>
                    <a:lnTo>
                      <a:pt x="942" y="1075"/>
                    </a:lnTo>
                    <a:lnTo>
                      <a:pt x="956" y="1057"/>
                    </a:lnTo>
                    <a:lnTo>
                      <a:pt x="971" y="1039"/>
                    </a:lnTo>
                    <a:lnTo>
                      <a:pt x="985" y="1021"/>
                    </a:lnTo>
                    <a:lnTo>
                      <a:pt x="997" y="1003"/>
                    </a:lnTo>
                    <a:lnTo>
                      <a:pt x="1010" y="983"/>
                    </a:lnTo>
                    <a:lnTo>
                      <a:pt x="1022" y="965"/>
                    </a:lnTo>
                    <a:lnTo>
                      <a:pt x="1032" y="945"/>
                    </a:lnTo>
                    <a:lnTo>
                      <a:pt x="1043" y="925"/>
                    </a:lnTo>
                    <a:lnTo>
                      <a:pt x="1052" y="904"/>
                    </a:lnTo>
                    <a:lnTo>
                      <a:pt x="1060" y="883"/>
                    </a:lnTo>
                    <a:lnTo>
                      <a:pt x="1048" y="870"/>
                    </a:lnTo>
                    <a:lnTo>
                      <a:pt x="1039" y="891"/>
                    </a:lnTo>
                    <a:lnTo>
                      <a:pt x="1030" y="912"/>
                    </a:lnTo>
                    <a:lnTo>
                      <a:pt x="1019" y="932"/>
                    </a:lnTo>
                    <a:lnTo>
                      <a:pt x="1009" y="952"/>
                    </a:lnTo>
                    <a:lnTo>
                      <a:pt x="997" y="972"/>
                    </a:lnTo>
                    <a:lnTo>
                      <a:pt x="986" y="991"/>
                    </a:lnTo>
                    <a:lnTo>
                      <a:pt x="972" y="1009"/>
                    </a:lnTo>
                    <a:lnTo>
                      <a:pt x="960" y="1028"/>
                    </a:lnTo>
                    <a:lnTo>
                      <a:pt x="945" y="1044"/>
                    </a:lnTo>
                    <a:lnTo>
                      <a:pt x="930" y="1062"/>
                    </a:lnTo>
                    <a:lnTo>
                      <a:pt x="915" y="1078"/>
                    </a:lnTo>
                    <a:lnTo>
                      <a:pt x="900" y="1095"/>
                    </a:lnTo>
                    <a:lnTo>
                      <a:pt x="883" y="1109"/>
                    </a:lnTo>
                    <a:lnTo>
                      <a:pt x="866" y="1124"/>
                    </a:lnTo>
                    <a:lnTo>
                      <a:pt x="849" y="1139"/>
                    </a:lnTo>
                    <a:lnTo>
                      <a:pt x="831" y="1153"/>
                    </a:lnTo>
                    <a:lnTo>
                      <a:pt x="812" y="1165"/>
                    </a:lnTo>
                    <a:lnTo>
                      <a:pt x="793" y="1178"/>
                    </a:lnTo>
                    <a:lnTo>
                      <a:pt x="775" y="1189"/>
                    </a:lnTo>
                    <a:lnTo>
                      <a:pt x="755" y="1200"/>
                    </a:lnTo>
                    <a:lnTo>
                      <a:pt x="734" y="1210"/>
                    </a:lnTo>
                    <a:lnTo>
                      <a:pt x="714" y="1220"/>
                    </a:lnTo>
                    <a:lnTo>
                      <a:pt x="693" y="1229"/>
                    </a:lnTo>
                    <a:lnTo>
                      <a:pt x="670" y="1237"/>
                    </a:lnTo>
                    <a:lnTo>
                      <a:pt x="649" y="1244"/>
                    </a:lnTo>
                    <a:lnTo>
                      <a:pt x="627" y="1250"/>
                    </a:lnTo>
                    <a:lnTo>
                      <a:pt x="604" y="1256"/>
                    </a:lnTo>
                    <a:lnTo>
                      <a:pt x="582" y="1261"/>
                    </a:lnTo>
                    <a:lnTo>
                      <a:pt x="559" y="1265"/>
                    </a:lnTo>
                    <a:lnTo>
                      <a:pt x="535" y="1268"/>
                    </a:lnTo>
                    <a:lnTo>
                      <a:pt x="512" y="1271"/>
                    </a:lnTo>
                    <a:lnTo>
                      <a:pt x="488" y="1272"/>
                    </a:lnTo>
                    <a:lnTo>
                      <a:pt x="498" y="128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872320" y="2495520"/>
                <a:ext cx="333360" cy="405000"/>
              </a:xfrm>
              <a:custGeom>
                <a:avLst/>
                <a:gdLst/>
                <a:ahLst/>
                <a:rect l="l" t="t" r="r" b="b"/>
                <a:pathLst>
                  <a:path w="1054" h="1273">
                    <a:moveTo>
                      <a:pt x="579" y="12"/>
                    </a:moveTo>
                    <a:lnTo>
                      <a:pt x="564" y="8"/>
                    </a:lnTo>
                    <a:lnTo>
                      <a:pt x="551" y="6"/>
                    </a:lnTo>
                    <a:lnTo>
                      <a:pt x="536" y="4"/>
                    </a:lnTo>
                    <a:lnTo>
                      <a:pt x="521" y="3"/>
                    </a:lnTo>
                    <a:lnTo>
                      <a:pt x="505" y="2"/>
                    </a:lnTo>
                    <a:lnTo>
                      <a:pt x="491" y="1"/>
                    </a:lnTo>
                    <a:lnTo>
                      <a:pt x="476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4"/>
                    </a:lnTo>
                    <a:lnTo>
                      <a:pt x="360" y="8"/>
                    </a:lnTo>
                    <a:lnTo>
                      <a:pt x="329" y="14"/>
                    </a:lnTo>
                    <a:lnTo>
                      <a:pt x="296" y="22"/>
                    </a:lnTo>
                    <a:lnTo>
                      <a:pt x="266" y="30"/>
                    </a:lnTo>
                    <a:lnTo>
                      <a:pt x="235" y="41"/>
                    </a:lnTo>
                    <a:lnTo>
                      <a:pt x="206" y="54"/>
                    </a:lnTo>
                    <a:lnTo>
                      <a:pt x="176" y="67"/>
                    </a:lnTo>
                    <a:lnTo>
                      <a:pt x="148" y="82"/>
                    </a:lnTo>
                    <a:lnTo>
                      <a:pt x="122" y="98"/>
                    </a:lnTo>
                    <a:lnTo>
                      <a:pt x="95" y="116"/>
                    </a:lnTo>
                    <a:lnTo>
                      <a:pt x="69" y="134"/>
                    </a:lnTo>
                    <a:lnTo>
                      <a:pt x="45" y="154"/>
                    </a:lnTo>
                    <a:lnTo>
                      <a:pt x="22" y="175"/>
                    </a:lnTo>
                    <a:lnTo>
                      <a:pt x="0" y="197"/>
                    </a:lnTo>
                    <a:lnTo>
                      <a:pt x="0" y="208"/>
                    </a:lnTo>
                    <a:lnTo>
                      <a:pt x="2" y="219"/>
                    </a:lnTo>
                    <a:lnTo>
                      <a:pt x="24" y="196"/>
                    </a:lnTo>
                    <a:lnTo>
                      <a:pt x="47" y="174"/>
                    </a:lnTo>
                    <a:lnTo>
                      <a:pt x="71" y="154"/>
                    </a:lnTo>
                    <a:lnTo>
                      <a:pt x="97" y="135"/>
                    </a:lnTo>
                    <a:lnTo>
                      <a:pt x="123" y="118"/>
                    </a:lnTo>
                    <a:lnTo>
                      <a:pt x="149" y="101"/>
                    </a:lnTo>
                    <a:lnTo>
                      <a:pt x="177" y="85"/>
                    </a:lnTo>
                    <a:lnTo>
                      <a:pt x="206" y="71"/>
                    </a:lnTo>
                    <a:lnTo>
                      <a:pt x="235" y="59"/>
                    </a:lnTo>
                    <a:lnTo>
                      <a:pt x="266" y="48"/>
                    </a:lnTo>
                    <a:lnTo>
                      <a:pt x="296" y="39"/>
                    </a:lnTo>
                    <a:lnTo>
                      <a:pt x="329" y="32"/>
                    </a:lnTo>
                    <a:lnTo>
                      <a:pt x="360" y="25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7" y="17"/>
                    </a:lnTo>
                    <a:lnTo>
                      <a:pt x="494" y="18"/>
                    </a:lnTo>
                    <a:lnTo>
                      <a:pt x="510" y="19"/>
                    </a:lnTo>
                    <a:lnTo>
                      <a:pt x="525" y="20"/>
                    </a:lnTo>
                    <a:lnTo>
                      <a:pt x="542" y="22"/>
                    </a:lnTo>
                    <a:lnTo>
                      <a:pt x="558" y="24"/>
                    </a:lnTo>
                    <a:lnTo>
                      <a:pt x="574" y="27"/>
                    </a:lnTo>
                    <a:lnTo>
                      <a:pt x="590" y="30"/>
                    </a:lnTo>
                    <a:lnTo>
                      <a:pt x="579" y="12"/>
                    </a:lnTo>
                    <a:close/>
                    <a:moveTo>
                      <a:pt x="493" y="1273"/>
                    </a:moveTo>
                    <a:lnTo>
                      <a:pt x="517" y="1271"/>
                    </a:lnTo>
                    <a:lnTo>
                      <a:pt x="540" y="1268"/>
                    </a:lnTo>
                    <a:lnTo>
                      <a:pt x="564" y="1265"/>
                    </a:lnTo>
                    <a:lnTo>
                      <a:pt x="587" y="1261"/>
                    </a:lnTo>
                    <a:lnTo>
                      <a:pt x="610" y="1256"/>
                    </a:lnTo>
                    <a:lnTo>
                      <a:pt x="633" y="1250"/>
                    </a:lnTo>
                    <a:lnTo>
                      <a:pt x="655" y="1243"/>
                    </a:lnTo>
                    <a:lnTo>
                      <a:pt x="677" y="1236"/>
                    </a:lnTo>
                    <a:lnTo>
                      <a:pt x="698" y="1227"/>
                    </a:lnTo>
                    <a:lnTo>
                      <a:pt x="719" y="1219"/>
                    </a:lnTo>
                    <a:lnTo>
                      <a:pt x="740" y="1210"/>
                    </a:lnTo>
                    <a:lnTo>
                      <a:pt x="760" y="1199"/>
                    </a:lnTo>
                    <a:lnTo>
                      <a:pt x="780" y="1188"/>
                    </a:lnTo>
                    <a:lnTo>
                      <a:pt x="799" y="1176"/>
                    </a:lnTo>
                    <a:lnTo>
                      <a:pt x="818" y="1163"/>
                    </a:lnTo>
                    <a:lnTo>
                      <a:pt x="837" y="1151"/>
                    </a:lnTo>
                    <a:lnTo>
                      <a:pt x="854" y="1137"/>
                    </a:lnTo>
                    <a:lnTo>
                      <a:pt x="871" y="1122"/>
                    </a:lnTo>
                    <a:lnTo>
                      <a:pt x="889" y="1108"/>
                    </a:lnTo>
                    <a:lnTo>
                      <a:pt x="905" y="1093"/>
                    </a:lnTo>
                    <a:lnTo>
                      <a:pt x="921" y="1076"/>
                    </a:lnTo>
                    <a:lnTo>
                      <a:pt x="936" y="1061"/>
                    </a:lnTo>
                    <a:lnTo>
                      <a:pt x="951" y="1043"/>
                    </a:lnTo>
                    <a:lnTo>
                      <a:pt x="965" y="1026"/>
                    </a:lnTo>
                    <a:lnTo>
                      <a:pt x="978" y="1007"/>
                    </a:lnTo>
                    <a:lnTo>
                      <a:pt x="991" y="989"/>
                    </a:lnTo>
                    <a:lnTo>
                      <a:pt x="1004" y="970"/>
                    </a:lnTo>
                    <a:lnTo>
                      <a:pt x="1015" y="950"/>
                    </a:lnTo>
                    <a:lnTo>
                      <a:pt x="1026" y="930"/>
                    </a:lnTo>
                    <a:lnTo>
                      <a:pt x="1036" y="910"/>
                    </a:lnTo>
                    <a:lnTo>
                      <a:pt x="1046" y="889"/>
                    </a:lnTo>
                    <a:lnTo>
                      <a:pt x="1054" y="868"/>
                    </a:lnTo>
                    <a:lnTo>
                      <a:pt x="1045" y="859"/>
                    </a:lnTo>
                    <a:lnTo>
                      <a:pt x="1043" y="853"/>
                    </a:lnTo>
                    <a:lnTo>
                      <a:pt x="1033" y="875"/>
                    </a:lnTo>
                    <a:lnTo>
                      <a:pt x="1025" y="896"/>
                    </a:lnTo>
                    <a:lnTo>
                      <a:pt x="1014" y="916"/>
                    </a:lnTo>
                    <a:lnTo>
                      <a:pt x="1004" y="936"/>
                    </a:lnTo>
                    <a:lnTo>
                      <a:pt x="992" y="956"/>
                    </a:lnTo>
                    <a:lnTo>
                      <a:pt x="981" y="974"/>
                    </a:lnTo>
                    <a:lnTo>
                      <a:pt x="968" y="993"/>
                    </a:lnTo>
                    <a:lnTo>
                      <a:pt x="954" y="1011"/>
                    </a:lnTo>
                    <a:lnTo>
                      <a:pt x="941" y="1029"/>
                    </a:lnTo>
                    <a:lnTo>
                      <a:pt x="926" y="1046"/>
                    </a:lnTo>
                    <a:lnTo>
                      <a:pt x="911" y="1063"/>
                    </a:lnTo>
                    <a:lnTo>
                      <a:pt x="895" y="1078"/>
                    </a:lnTo>
                    <a:lnTo>
                      <a:pt x="879" y="1094"/>
                    </a:lnTo>
                    <a:lnTo>
                      <a:pt x="862" y="1109"/>
                    </a:lnTo>
                    <a:lnTo>
                      <a:pt x="844" y="1124"/>
                    </a:lnTo>
                    <a:lnTo>
                      <a:pt x="826" y="1137"/>
                    </a:lnTo>
                    <a:lnTo>
                      <a:pt x="808" y="1150"/>
                    </a:lnTo>
                    <a:lnTo>
                      <a:pt x="789" y="1162"/>
                    </a:lnTo>
                    <a:lnTo>
                      <a:pt x="769" y="1174"/>
                    </a:lnTo>
                    <a:lnTo>
                      <a:pt x="749" y="1185"/>
                    </a:lnTo>
                    <a:lnTo>
                      <a:pt x="729" y="1195"/>
                    </a:lnTo>
                    <a:lnTo>
                      <a:pt x="708" y="1204"/>
                    </a:lnTo>
                    <a:lnTo>
                      <a:pt x="687" y="1214"/>
                    </a:lnTo>
                    <a:lnTo>
                      <a:pt x="666" y="1221"/>
                    </a:lnTo>
                    <a:lnTo>
                      <a:pt x="644" y="1229"/>
                    </a:lnTo>
                    <a:lnTo>
                      <a:pt x="622" y="1235"/>
                    </a:lnTo>
                    <a:lnTo>
                      <a:pt x="599" y="1241"/>
                    </a:lnTo>
                    <a:lnTo>
                      <a:pt x="577" y="1245"/>
                    </a:lnTo>
                    <a:lnTo>
                      <a:pt x="554" y="1250"/>
                    </a:lnTo>
                    <a:lnTo>
                      <a:pt x="530" y="1253"/>
                    </a:lnTo>
                    <a:lnTo>
                      <a:pt x="506" y="1255"/>
                    </a:lnTo>
                    <a:lnTo>
                      <a:pt x="482" y="1256"/>
                    </a:lnTo>
                    <a:lnTo>
                      <a:pt x="493" y="127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872320" y="2498760"/>
                <a:ext cx="331560" cy="398520"/>
              </a:xfrm>
              <a:custGeom>
                <a:avLst/>
                <a:gdLst/>
                <a:ahLst/>
                <a:rect l="l" t="t" r="r" b="b"/>
                <a:pathLst>
                  <a:path w="1048" h="1256">
                    <a:moveTo>
                      <a:pt x="584" y="13"/>
                    </a:moveTo>
                    <a:lnTo>
                      <a:pt x="570" y="10"/>
                    </a:lnTo>
                    <a:lnTo>
                      <a:pt x="554" y="8"/>
                    </a:lnTo>
                    <a:lnTo>
                      <a:pt x="539" y="6"/>
                    </a:lnTo>
                    <a:lnTo>
                      <a:pt x="523" y="4"/>
                    </a:lnTo>
                    <a:lnTo>
                      <a:pt x="508" y="3"/>
                    </a:lnTo>
                    <a:lnTo>
                      <a:pt x="492" y="1"/>
                    </a:lnTo>
                    <a:lnTo>
                      <a:pt x="476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3" y="5"/>
                    </a:lnTo>
                    <a:lnTo>
                      <a:pt x="360" y="9"/>
                    </a:lnTo>
                    <a:lnTo>
                      <a:pt x="328" y="15"/>
                    </a:lnTo>
                    <a:lnTo>
                      <a:pt x="296" y="22"/>
                    </a:lnTo>
                    <a:lnTo>
                      <a:pt x="265" y="32"/>
                    </a:lnTo>
                    <a:lnTo>
                      <a:pt x="234" y="42"/>
                    </a:lnTo>
                    <a:lnTo>
                      <a:pt x="205" y="55"/>
                    </a:lnTo>
                    <a:lnTo>
                      <a:pt x="176" y="69"/>
                    </a:lnTo>
                    <a:lnTo>
                      <a:pt x="148" y="83"/>
                    </a:lnTo>
                    <a:lnTo>
                      <a:pt x="121" y="100"/>
                    </a:lnTo>
                    <a:lnTo>
                      <a:pt x="94" y="118"/>
                    </a:lnTo>
                    <a:lnTo>
                      <a:pt x="69" y="137"/>
                    </a:lnTo>
                    <a:lnTo>
                      <a:pt x="45" y="158"/>
                    </a:lnTo>
                    <a:lnTo>
                      <a:pt x="22" y="179"/>
                    </a:lnTo>
                    <a:lnTo>
                      <a:pt x="0" y="202"/>
                    </a:lnTo>
                    <a:lnTo>
                      <a:pt x="5" y="221"/>
                    </a:lnTo>
                    <a:lnTo>
                      <a:pt x="26" y="198"/>
                    </a:lnTo>
                    <a:lnTo>
                      <a:pt x="49" y="176"/>
                    </a:lnTo>
                    <a:lnTo>
                      <a:pt x="73" y="156"/>
                    </a:lnTo>
                    <a:lnTo>
                      <a:pt x="98" y="136"/>
                    </a:lnTo>
                    <a:lnTo>
                      <a:pt x="124" y="118"/>
                    </a:lnTo>
                    <a:lnTo>
                      <a:pt x="150" y="101"/>
                    </a:lnTo>
                    <a:lnTo>
                      <a:pt x="179" y="87"/>
                    </a:lnTo>
                    <a:lnTo>
                      <a:pt x="207" y="72"/>
                    </a:lnTo>
                    <a:lnTo>
                      <a:pt x="236" y="60"/>
                    </a:lnTo>
                    <a:lnTo>
                      <a:pt x="267" y="49"/>
                    </a:lnTo>
                    <a:lnTo>
                      <a:pt x="297" y="39"/>
                    </a:lnTo>
                    <a:lnTo>
                      <a:pt x="329" y="32"/>
                    </a:lnTo>
                    <a:lnTo>
                      <a:pt x="361" y="26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8" y="17"/>
                    </a:lnTo>
                    <a:lnTo>
                      <a:pt x="495" y="18"/>
                    </a:lnTo>
                    <a:lnTo>
                      <a:pt x="512" y="19"/>
                    </a:lnTo>
                    <a:lnTo>
                      <a:pt x="529" y="21"/>
                    </a:lnTo>
                    <a:lnTo>
                      <a:pt x="545" y="24"/>
                    </a:lnTo>
                    <a:lnTo>
                      <a:pt x="562" y="26"/>
                    </a:lnTo>
                    <a:lnTo>
                      <a:pt x="578" y="29"/>
                    </a:lnTo>
                    <a:lnTo>
                      <a:pt x="595" y="32"/>
                    </a:lnTo>
                    <a:lnTo>
                      <a:pt x="594" y="32"/>
                    </a:lnTo>
                    <a:lnTo>
                      <a:pt x="584" y="13"/>
                    </a:lnTo>
                    <a:close/>
                    <a:moveTo>
                      <a:pt x="488" y="1256"/>
                    </a:moveTo>
                    <a:lnTo>
                      <a:pt x="512" y="1255"/>
                    </a:lnTo>
                    <a:lnTo>
                      <a:pt x="535" y="1252"/>
                    </a:lnTo>
                    <a:lnTo>
                      <a:pt x="559" y="1249"/>
                    </a:lnTo>
                    <a:lnTo>
                      <a:pt x="582" y="1245"/>
                    </a:lnTo>
                    <a:lnTo>
                      <a:pt x="604" y="1240"/>
                    </a:lnTo>
                    <a:lnTo>
                      <a:pt x="627" y="1234"/>
                    </a:lnTo>
                    <a:lnTo>
                      <a:pt x="649" y="1228"/>
                    </a:lnTo>
                    <a:lnTo>
                      <a:pt x="670" y="1221"/>
                    </a:lnTo>
                    <a:lnTo>
                      <a:pt x="693" y="1213"/>
                    </a:lnTo>
                    <a:lnTo>
                      <a:pt x="714" y="1204"/>
                    </a:lnTo>
                    <a:lnTo>
                      <a:pt x="734" y="1194"/>
                    </a:lnTo>
                    <a:lnTo>
                      <a:pt x="755" y="1184"/>
                    </a:lnTo>
                    <a:lnTo>
                      <a:pt x="775" y="1173"/>
                    </a:lnTo>
                    <a:lnTo>
                      <a:pt x="793" y="1162"/>
                    </a:lnTo>
                    <a:lnTo>
                      <a:pt x="812" y="1149"/>
                    </a:lnTo>
                    <a:lnTo>
                      <a:pt x="831" y="1137"/>
                    </a:lnTo>
                    <a:lnTo>
                      <a:pt x="849" y="1123"/>
                    </a:lnTo>
                    <a:lnTo>
                      <a:pt x="866" y="1108"/>
                    </a:lnTo>
                    <a:lnTo>
                      <a:pt x="883" y="1093"/>
                    </a:lnTo>
                    <a:lnTo>
                      <a:pt x="900" y="1079"/>
                    </a:lnTo>
                    <a:lnTo>
                      <a:pt x="915" y="1062"/>
                    </a:lnTo>
                    <a:lnTo>
                      <a:pt x="930" y="1046"/>
                    </a:lnTo>
                    <a:lnTo>
                      <a:pt x="945" y="1028"/>
                    </a:lnTo>
                    <a:lnTo>
                      <a:pt x="960" y="1012"/>
                    </a:lnTo>
                    <a:lnTo>
                      <a:pt x="972" y="993"/>
                    </a:lnTo>
                    <a:lnTo>
                      <a:pt x="986" y="975"/>
                    </a:lnTo>
                    <a:lnTo>
                      <a:pt x="997" y="956"/>
                    </a:lnTo>
                    <a:lnTo>
                      <a:pt x="1009" y="936"/>
                    </a:lnTo>
                    <a:lnTo>
                      <a:pt x="1019" y="916"/>
                    </a:lnTo>
                    <a:lnTo>
                      <a:pt x="1030" y="896"/>
                    </a:lnTo>
                    <a:lnTo>
                      <a:pt x="1039" y="875"/>
                    </a:lnTo>
                    <a:lnTo>
                      <a:pt x="1048" y="854"/>
                    </a:lnTo>
                    <a:lnTo>
                      <a:pt x="1045" y="851"/>
                    </a:lnTo>
                    <a:lnTo>
                      <a:pt x="1037" y="834"/>
                    </a:lnTo>
                    <a:lnTo>
                      <a:pt x="1029" y="856"/>
                    </a:lnTo>
                    <a:lnTo>
                      <a:pt x="1019" y="877"/>
                    </a:lnTo>
                    <a:lnTo>
                      <a:pt x="1010" y="898"/>
                    </a:lnTo>
                    <a:lnTo>
                      <a:pt x="999" y="918"/>
                    </a:lnTo>
                    <a:lnTo>
                      <a:pt x="989" y="938"/>
                    </a:lnTo>
                    <a:lnTo>
                      <a:pt x="976" y="957"/>
                    </a:lnTo>
                    <a:lnTo>
                      <a:pt x="964" y="976"/>
                    </a:lnTo>
                    <a:lnTo>
                      <a:pt x="951" y="995"/>
                    </a:lnTo>
                    <a:lnTo>
                      <a:pt x="937" y="1013"/>
                    </a:lnTo>
                    <a:lnTo>
                      <a:pt x="923" y="1029"/>
                    </a:lnTo>
                    <a:lnTo>
                      <a:pt x="907" y="1046"/>
                    </a:lnTo>
                    <a:lnTo>
                      <a:pt x="891" y="1063"/>
                    </a:lnTo>
                    <a:lnTo>
                      <a:pt x="875" y="1078"/>
                    </a:lnTo>
                    <a:lnTo>
                      <a:pt x="859" y="1093"/>
                    </a:lnTo>
                    <a:lnTo>
                      <a:pt x="841" y="1107"/>
                    </a:lnTo>
                    <a:lnTo>
                      <a:pt x="823" y="1121"/>
                    </a:lnTo>
                    <a:lnTo>
                      <a:pt x="805" y="1134"/>
                    </a:lnTo>
                    <a:lnTo>
                      <a:pt x="786" y="1147"/>
                    </a:lnTo>
                    <a:lnTo>
                      <a:pt x="766" y="1159"/>
                    </a:lnTo>
                    <a:lnTo>
                      <a:pt x="746" y="1169"/>
                    </a:lnTo>
                    <a:lnTo>
                      <a:pt x="726" y="1180"/>
                    </a:lnTo>
                    <a:lnTo>
                      <a:pt x="705" y="1189"/>
                    </a:lnTo>
                    <a:lnTo>
                      <a:pt x="684" y="1198"/>
                    </a:lnTo>
                    <a:lnTo>
                      <a:pt x="662" y="1206"/>
                    </a:lnTo>
                    <a:lnTo>
                      <a:pt x="640" y="1213"/>
                    </a:lnTo>
                    <a:lnTo>
                      <a:pt x="618" y="1219"/>
                    </a:lnTo>
                    <a:lnTo>
                      <a:pt x="596" y="1225"/>
                    </a:lnTo>
                    <a:lnTo>
                      <a:pt x="573" y="1230"/>
                    </a:lnTo>
                    <a:lnTo>
                      <a:pt x="550" y="1234"/>
                    </a:lnTo>
                    <a:lnTo>
                      <a:pt x="525" y="1236"/>
                    </a:lnTo>
                    <a:lnTo>
                      <a:pt x="501" y="1238"/>
                    </a:lnTo>
                    <a:lnTo>
                      <a:pt x="478" y="1239"/>
                    </a:lnTo>
                    <a:lnTo>
                      <a:pt x="480" y="1245"/>
                    </a:lnTo>
                    <a:lnTo>
                      <a:pt x="488" y="1256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72320" y="2500200"/>
                <a:ext cx="330120" cy="393840"/>
              </a:xfrm>
              <a:custGeom>
                <a:avLst/>
                <a:gdLst/>
                <a:ahLst/>
                <a:rect l="l" t="t" r="r" b="b"/>
                <a:pathLst>
                  <a:path w="1041" h="1239">
                    <a:moveTo>
                      <a:pt x="588" y="13"/>
                    </a:moveTo>
                    <a:lnTo>
                      <a:pt x="572" y="10"/>
                    </a:lnTo>
                    <a:lnTo>
                      <a:pt x="556" y="7"/>
                    </a:lnTo>
                    <a:lnTo>
                      <a:pt x="540" y="5"/>
                    </a:lnTo>
                    <a:lnTo>
                      <a:pt x="523" y="3"/>
                    </a:lnTo>
                    <a:lnTo>
                      <a:pt x="508" y="2"/>
                    </a:lnTo>
                    <a:lnTo>
                      <a:pt x="492" y="1"/>
                    </a:lnTo>
                    <a:lnTo>
                      <a:pt x="475" y="0"/>
                    </a:lnTo>
                    <a:lnTo>
                      <a:pt x="458" y="0"/>
                    </a:lnTo>
                    <a:lnTo>
                      <a:pt x="425" y="1"/>
                    </a:lnTo>
                    <a:lnTo>
                      <a:pt x="392" y="4"/>
                    </a:lnTo>
                    <a:lnTo>
                      <a:pt x="358" y="8"/>
                    </a:lnTo>
                    <a:lnTo>
                      <a:pt x="327" y="15"/>
                    </a:lnTo>
                    <a:lnTo>
                      <a:pt x="294" y="22"/>
                    </a:lnTo>
                    <a:lnTo>
                      <a:pt x="264" y="31"/>
                    </a:lnTo>
                    <a:lnTo>
                      <a:pt x="233" y="42"/>
                    </a:lnTo>
                    <a:lnTo>
                      <a:pt x="204" y="54"/>
                    </a:lnTo>
                    <a:lnTo>
                      <a:pt x="175" y="68"/>
                    </a:lnTo>
                    <a:lnTo>
                      <a:pt x="147" y="84"/>
                    </a:lnTo>
                    <a:lnTo>
                      <a:pt x="121" y="101"/>
                    </a:lnTo>
                    <a:lnTo>
                      <a:pt x="95" y="118"/>
                    </a:lnTo>
                    <a:lnTo>
                      <a:pt x="69" y="137"/>
                    </a:lnTo>
                    <a:lnTo>
                      <a:pt x="45" y="157"/>
                    </a:lnTo>
                    <a:lnTo>
                      <a:pt x="22" y="179"/>
                    </a:lnTo>
                    <a:lnTo>
                      <a:pt x="0" y="202"/>
                    </a:lnTo>
                    <a:lnTo>
                      <a:pt x="5" y="221"/>
                    </a:lnTo>
                    <a:lnTo>
                      <a:pt x="26" y="198"/>
                    </a:lnTo>
                    <a:lnTo>
                      <a:pt x="49" y="176"/>
                    </a:lnTo>
                    <a:lnTo>
                      <a:pt x="72" y="156"/>
                    </a:lnTo>
                    <a:lnTo>
                      <a:pt x="98" y="136"/>
                    </a:lnTo>
                    <a:lnTo>
                      <a:pt x="123" y="118"/>
                    </a:lnTo>
                    <a:lnTo>
                      <a:pt x="150" y="102"/>
                    </a:lnTo>
                    <a:lnTo>
                      <a:pt x="178" y="86"/>
                    </a:lnTo>
                    <a:lnTo>
                      <a:pt x="206" y="72"/>
                    </a:lnTo>
                    <a:lnTo>
                      <a:pt x="235" y="60"/>
                    </a:lnTo>
                    <a:lnTo>
                      <a:pt x="265" y="48"/>
                    </a:lnTo>
                    <a:lnTo>
                      <a:pt x="295" y="39"/>
                    </a:lnTo>
                    <a:lnTo>
                      <a:pt x="327" y="31"/>
                    </a:lnTo>
                    <a:lnTo>
                      <a:pt x="359" y="25"/>
                    </a:lnTo>
                    <a:lnTo>
                      <a:pt x="392" y="21"/>
                    </a:lnTo>
                    <a:lnTo>
                      <a:pt x="425" y="18"/>
                    </a:lnTo>
                    <a:lnTo>
                      <a:pt x="458" y="17"/>
                    </a:lnTo>
                    <a:lnTo>
                      <a:pt x="477" y="17"/>
                    </a:lnTo>
                    <a:lnTo>
                      <a:pt x="496" y="18"/>
                    </a:lnTo>
                    <a:lnTo>
                      <a:pt x="514" y="20"/>
                    </a:lnTo>
                    <a:lnTo>
                      <a:pt x="533" y="21"/>
                    </a:lnTo>
                    <a:lnTo>
                      <a:pt x="551" y="24"/>
                    </a:lnTo>
                    <a:lnTo>
                      <a:pt x="569" y="27"/>
                    </a:lnTo>
                    <a:lnTo>
                      <a:pt x="586" y="30"/>
                    </a:lnTo>
                    <a:lnTo>
                      <a:pt x="603" y="34"/>
                    </a:lnTo>
                    <a:lnTo>
                      <a:pt x="592" y="23"/>
                    </a:lnTo>
                    <a:lnTo>
                      <a:pt x="588" y="13"/>
                    </a:lnTo>
                    <a:close/>
                    <a:moveTo>
                      <a:pt x="480" y="1239"/>
                    </a:moveTo>
                    <a:lnTo>
                      <a:pt x="504" y="1238"/>
                    </a:lnTo>
                    <a:lnTo>
                      <a:pt x="528" y="1236"/>
                    </a:lnTo>
                    <a:lnTo>
                      <a:pt x="552" y="1233"/>
                    </a:lnTo>
                    <a:lnTo>
                      <a:pt x="575" y="1228"/>
                    </a:lnTo>
                    <a:lnTo>
                      <a:pt x="597" y="1224"/>
                    </a:lnTo>
                    <a:lnTo>
                      <a:pt x="620" y="1218"/>
                    </a:lnTo>
                    <a:lnTo>
                      <a:pt x="642" y="1212"/>
                    </a:lnTo>
                    <a:lnTo>
                      <a:pt x="664" y="1204"/>
                    </a:lnTo>
                    <a:lnTo>
                      <a:pt x="685" y="1197"/>
                    </a:lnTo>
                    <a:lnTo>
                      <a:pt x="706" y="1187"/>
                    </a:lnTo>
                    <a:lnTo>
                      <a:pt x="727" y="1178"/>
                    </a:lnTo>
                    <a:lnTo>
                      <a:pt x="747" y="1168"/>
                    </a:lnTo>
                    <a:lnTo>
                      <a:pt x="767" y="1157"/>
                    </a:lnTo>
                    <a:lnTo>
                      <a:pt x="787" y="1145"/>
                    </a:lnTo>
                    <a:lnTo>
                      <a:pt x="806" y="1133"/>
                    </a:lnTo>
                    <a:lnTo>
                      <a:pt x="824" y="1120"/>
                    </a:lnTo>
                    <a:lnTo>
                      <a:pt x="842" y="1107"/>
                    </a:lnTo>
                    <a:lnTo>
                      <a:pt x="860" y="1092"/>
                    </a:lnTo>
                    <a:lnTo>
                      <a:pt x="877" y="1077"/>
                    </a:lnTo>
                    <a:lnTo>
                      <a:pt x="893" y="1061"/>
                    </a:lnTo>
                    <a:lnTo>
                      <a:pt x="909" y="1046"/>
                    </a:lnTo>
                    <a:lnTo>
                      <a:pt x="924" y="1029"/>
                    </a:lnTo>
                    <a:lnTo>
                      <a:pt x="939" y="1012"/>
                    </a:lnTo>
                    <a:lnTo>
                      <a:pt x="952" y="994"/>
                    </a:lnTo>
                    <a:lnTo>
                      <a:pt x="966" y="976"/>
                    </a:lnTo>
                    <a:lnTo>
                      <a:pt x="979" y="957"/>
                    </a:lnTo>
                    <a:lnTo>
                      <a:pt x="990" y="939"/>
                    </a:lnTo>
                    <a:lnTo>
                      <a:pt x="1002" y="919"/>
                    </a:lnTo>
                    <a:lnTo>
                      <a:pt x="1012" y="899"/>
                    </a:lnTo>
                    <a:lnTo>
                      <a:pt x="1023" y="879"/>
                    </a:lnTo>
                    <a:lnTo>
                      <a:pt x="1031" y="858"/>
                    </a:lnTo>
                    <a:lnTo>
                      <a:pt x="1041" y="836"/>
                    </a:lnTo>
                    <a:lnTo>
                      <a:pt x="1030" y="815"/>
                    </a:lnTo>
                    <a:lnTo>
                      <a:pt x="1022" y="837"/>
                    </a:lnTo>
                    <a:lnTo>
                      <a:pt x="1013" y="858"/>
                    </a:lnTo>
                    <a:lnTo>
                      <a:pt x="1004" y="879"/>
                    </a:lnTo>
                    <a:lnTo>
                      <a:pt x="993" y="899"/>
                    </a:lnTo>
                    <a:lnTo>
                      <a:pt x="983" y="920"/>
                    </a:lnTo>
                    <a:lnTo>
                      <a:pt x="971" y="939"/>
                    </a:lnTo>
                    <a:lnTo>
                      <a:pt x="959" y="957"/>
                    </a:lnTo>
                    <a:lnTo>
                      <a:pt x="945" y="976"/>
                    </a:lnTo>
                    <a:lnTo>
                      <a:pt x="931" y="994"/>
                    </a:lnTo>
                    <a:lnTo>
                      <a:pt x="918" y="1012"/>
                    </a:lnTo>
                    <a:lnTo>
                      <a:pt x="902" y="1029"/>
                    </a:lnTo>
                    <a:lnTo>
                      <a:pt x="886" y="1045"/>
                    </a:lnTo>
                    <a:lnTo>
                      <a:pt x="870" y="1060"/>
                    </a:lnTo>
                    <a:lnTo>
                      <a:pt x="853" y="1076"/>
                    </a:lnTo>
                    <a:lnTo>
                      <a:pt x="836" y="1091"/>
                    </a:lnTo>
                    <a:lnTo>
                      <a:pt x="818" y="1104"/>
                    </a:lnTo>
                    <a:lnTo>
                      <a:pt x="800" y="1117"/>
                    </a:lnTo>
                    <a:lnTo>
                      <a:pt x="781" y="1130"/>
                    </a:lnTo>
                    <a:lnTo>
                      <a:pt x="761" y="1141"/>
                    </a:lnTo>
                    <a:lnTo>
                      <a:pt x="741" y="1153"/>
                    </a:lnTo>
                    <a:lnTo>
                      <a:pt x="721" y="1163"/>
                    </a:lnTo>
                    <a:lnTo>
                      <a:pt x="700" y="1173"/>
                    </a:lnTo>
                    <a:lnTo>
                      <a:pt x="679" y="1181"/>
                    </a:lnTo>
                    <a:lnTo>
                      <a:pt x="657" y="1189"/>
                    </a:lnTo>
                    <a:lnTo>
                      <a:pt x="635" y="1197"/>
                    </a:lnTo>
                    <a:lnTo>
                      <a:pt x="613" y="1203"/>
                    </a:lnTo>
                    <a:lnTo>
                      <a:pt x="590" y="1208"/>
                    </a:lnTo>
                    <a:lnTo>
                      <a:pt x="567" y="1213"/>
                    </a:lnTo>
                    <a:lnTo>
                      <a:pt x="543" y="1217"/>
                    </a:lnTo>
                    <a:lnTo>
                      <a:pt x="519" y="1220"/>
                    </a:lnTo>
                    <a:lnTo>
                      <a:pt x="495" y="1222"/>
                    </a:lnTo>
                    <a:lnTo>
                      <a:pt x="472" y="1222"/>
                    </a:lnTo>
                    <a:lnTo>
                      <a:pt x="478" y="1236"/>
                    </a:lnTo>
                    <a:lnTo>
                      <a:pt x="480" y="123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873760" y="2503440"/>
                <a:ext cx="326880" cy="387360"/>
              </a:xfrm>
              <a:custGeom>
                <a:avLst/>
                <a:gdLst/>
                <a:ahLst/>
                <a:rect l="l" t="t" r="r" b="b"/>
                <a:pathLst>
                  <a:path w="1032" h="1222">
                    <a:moveTo>
                      <a:pt x="590" y="15"/>
                    </a:moveTo>
                    <a:lnTo>
                      <a:pt x="573" y="12"/>
                    </a:lnTo>
                    <a:lnTo>
                      <a:pt x="557" y="9"/>
                    </a:lnTo>
                    <a:lnTo>
                      <a:pt x="540" y="7"/>
                    </a:lnTo>
                    <a:lnTo>
                      <a:pt x="524" y="4"/>
                    </a:lnTo>
                    <a:lnTo>
                      <a:pt x="507" y="2"/>
                    </a:lnTo>
                    <a:lnTo>
                      <a:pt x="490" y="1"/>
                    </a:lnTo>
                    <a:lnTo>
                      <a:pt x="473" y="0"/>
                    </a:lnTo>
                    <a:lnTo>
                      <a:pt x="455" y="0"/>
                    </a:lnTo>
                    <a:lnTo>
                      <a:pt x="422" y="1"/>
                    </a:lnTo>
                    <a:lnTo>
                      <a:pt x="389" y="4"/>
                    </a:lnTo>
                    <a:lnTo>
                      <a:pt x="356" y="9"/>
                    </a:lnTo>
                    <a:lnTo>
                      <a:pt x="324" y="15"/>
                    </a:lnTo>
                    <a:lnTo>
                      <a:pt x="292" y="22"/>
                    </a:lnTo>
                    <a:lnTo>
                      <a:pt x="262" y="32"/>
                    </a:lnTo>
                    <a:lnTo>
                      <a:pt x="231" y="43"/>
                    </a:lnTo>
                    <a:lnTo>
                      <a:pt x="202" y="55"/>
                    </a:lnTo>
                    <a:lnTo>
                      <a:pt x="174" y="70"/>
                    </a:lnTo>
                    <a:lnTo>
                      <a:pt x="145" y="84"/>
                    </a:lnTo>
                    <a:lnTo>
                      <a:pt x="119" y="101"/>
                    </a:lnTo>
                    <a:lnTo>
                      <a:pt x="93" y="119"/>
                    </a:lnTo>
                    <a:lnTo>
                      <a:pt x="68" y="139"/>
                    </a:lnTo>
                    <a:lnTo>
                      <a:pt x="44" y="159"/>
                    </a:lnTo>
                    <a:lnTo>
                      <a:pt x="21" y="181"/>
                    </a:lnTo>
                    <a:lnTo>
                      <a:pt x="0" y="204"/>
                    </a:lnTo>
                    <a:lnTo>
                      <a:pt x="5" y="223"/>
                    </a:lnTo>
                    <a:lnTo>
                      <a:pt x="26" y="200"/>
                    </a:lnTo>
                    <a:lnTo>
                      <a:pt x="48" y="179"/>
                    </a:lnTo>
                    <a:lnTo>
                      <a:pt x="72" y="158"/>
                    </a:lnTo>
                    <a:lnTo>
                      <a:pt x="96" y="138"/>
                    </a:lnTo>
                    <a:lnTo>
                      <a:pt x="122" y="120"/>
                    </a:lnTo>
                    <a:lnTo>
                      <a:pt x="148" y="103"/>
                    </a:lnTo>
                    <a:lnTo>
                      <a:pt x="176" y="87"/>
                    </a:lnTo>
                    <a:lnTo>
                      <a:pt x="204" y="73"/>
                    </a:lnTo>
                    <a:lnTo>
                      <a:pt x="232" y="60"/>
                    </a:lnTo>
                    <a:lnTo>
                      <a:pt x="263" y="50"/>
                    </a:lnTo>
                    <a:lnTo>
                      <a:pt x="293" y="39"/>
                    </a:lnTo>
                    <a:lnTo>
                      <a:pt x="325" y="32"/>
                    </a:lnTo>
                    <a:lnTo>
                      <a:pt x="356" y="25"/>
                    </a:lnTo>
                    <a:lnTo>
                      <a:pt x="389" y="21"/>
                    </a:lnTo>
                    <a:lnTo>
                      <a:pt x="422" y="18"/>
                    </a:lnTo>
                    <a:lnTo>
                      <a:pt x="455" y="17"/>
                    </a:lnTo>
                    <a:lnTo>
                      <a:pt x="476" y="17"/>
                    </a:lnTo>
                    <a:lnTo>
                      <a:pt x="496" y="18"/>
                    </a:lnTo>
                    <a:lnTo>
                      <a:pt x="516" y="20"/>
                    </a:lnTo>
                    <a:lnTo>
                      <a:pt x="535" y="22"/>
                    </a:lnTo>
                    <a:lnTo>
                      <a:pt x="555" y="25"/>
                    </a:lnTo>
                    <a:lnTo>
                      <a:pt x="574" y="30"/>
                    </a:lnTo>
                    <a:lnTo>
                      <a:pt x="594" y="34"/>
                    </a:lnTo>
                    <a:lnTo>
                      <a:pt x="613" y="38"/>
                    </a:lnTo>
                    <a:lnTo>
                      <a:pt x="590" y="15"/>
                    </a:lnTo>
                    <a:close/>
                    <a:moveTo>
                      <a:pt x="473" y="1222"/>
                    </a:moveTo>
                    <a:lnTo>
                      <a:pt x="496" y="1221"/>
                    </a:lnTo>
                    <a:lnTo>
                      <a:pt x="520" y="1219"/>
                    </a:lnTo>
                    <a:lnTo>
                      <a:pt x="545" y="1217"/>
                    </a:lnTo>
                    <a:lnTo>
                      <a:pt x="568" y="1213"/>
                    </a:lnTo>
                    <a:lnTo>
                      <a:pt x="591" y="1208"/>
                    </a:lnTo>
                    <a:lnTo>
                      <a:pt x="613" y="1202"/>
                    </a:lnTo>
                    <a:lnTo>
                      <a:pt x="635" y="1196"/>
                    </a:lnTo>
                    <a:lnTo>
                      <a:pt x="657" y="1189"/>
                    </a:lnTo>
                    <a:lnTo>
                      <a:pt x="679" y="1181"/>
                    </a:lnTo>
                    <a:lnTo>
                      <a:pt x="700" y="1172"/>
                    </a:lnTo>
                    <a:lnTo>
                      <a:pt x="721" y="1163"/>
                    </a:lnTo>
                    <a:lnTo>
                      <a:pt x="741" y="1152"/>
                    </a:lnTo>
                    <a:lnTo>
                      <a:pt x="761" y="1142"/>
                    </a:lnTo>
                    <a:lnTo>
                      <a:pt x="781" y="1130"/>
                    </a:lnTo>
                    <a:lnTo>
                      <a:pt x="800" y="1117"/>
                    </a:lnTo>
                    <a:lnTo>
                      <a:pt x="818" y="1104"/>
                    </a:lnTo>
                    <a:lnTo>
                      <a:pt x="836" y="1090"/>
                    </a:lnTo>
                    <a:lnTo>
                      <a:pt x="854" y="1076"/>
                    </a:lnTo>
                    <a:lnTo>
                      <a:pt x="870" y="1061"/>
                    </a:lnTo>
                    <a:lnTo>
                      <a:pt x="886" y="1046"/>
                    </a:lnTo>
                    <a:lnTo>
                      <a:pt x="902" y="1029"/>
                    </a:lnTo>
                    <a:lnTo>
                      <a:pt x="918" y="1012"/>
                    </a:lnTo>
                    <a:lnTo>
                      <a:pt x="932" y="996"/>
                    </a:lnTo>
                    <a:lnTo>
                      <a:pt x="946" y="978"/>
                    </a:lnTo>
                    <a:lnTo>
                      <a:pt x="959" y="959"/>
                    </a:lnTo>
                    <a:lnTo>
                      <a:pt x="971" y="940"/>
                    </a:lnTo>
                    <a:lnTo>
                      <a:pt x="984" y="921"/>
                    </a:lnTo>
                    <a:lnTo>
                      <a:pt x="994" y="901"/>
                    </a:lnTo>
                    <a:lnTo>
                      <a:pt x="1005" y="881"/>
                    </a:lnTo>
                    <a:lnTo>
                      <a:pt x="1014" y="860"/>
                    </a:lnTo>
                    <a:lnTo>
                      <a:pt x="1024" y="839"/>
                    </a:lnTo>
                    <a:lnTo>
                      <a:pt x="1032" y="817"/>
                    </a:lnTo>
                    <a:lnTo>
                      <a:pt x="1022" y="796"/>
                    </a:lnTo>
                    <a:lnTo>
                      <a:pt x="1013" y="817"/>
                    </a:lnTo>
                    <a:lnTo>
                      <a:pt x="1005" y="839"/>
                    </a:lnTo>
                    <a:lnTo>
                      <a:pt x="997" y="860"/>
                    </a:lnTo>
                    <a:lnTo>
                      <a:pt x="986" y="881"/>
                    </a:lnTo>
                    <a:lnTo>
                      <a:pt x="976" y="901"/>
                    </a:lnTo>
                    <a:lnTo>
                      <a:pt x="964" y="921"/>
                    </a:lnTo>
                    <a:lnTo>
                      <a:pt x="951" y="940"/>
                    </a:lnTo>
                    <a:lnTo>
                      <a:pt x="939" y="959"/>
                    </a:lnTo>
                    <a:lnTo>
                      <a:pt x="925" y="977"/>
                    </a:lnTo>
                    <a:lnTo>
                      <a:pt x="910" y="995"/>
                    </a:lnTo>
                    <a:lnTo>
                      <a:pt x="896" y="1011"/>
                    </a:lnTo>
                    <a:lnTo>
                      <a:pt x="880" y="1028"/>
                    </a:lnTo>
                    <a:lnTo>
                      <a:pt x="864" y="1044"/>
                    </a:lnTo>
                    <a:lnTo>
                      <a:pt x="847" y="1060"/>
                    </a:lnTo>
                    <a:lnTo>
                      <a:pt x="829" y="1074"/>
                    </a:lnTo>
                    <a:lnTo>
                      <a:pt x="812" y="1088"/>
                    </a:lnTo>
                    <a:lnTo>
                      <a:pt x="794" y="1102"/>
                    </a:lnTo>
                    <a:lnTo>
                      <a:pt x="775" y="1114"/>
                    </a:lnTo>
                    <a:lnTo>
                      <a:pt x="755" y="1126"/>
                    </a:lnTo>
                    <a:lnTo>
                      <a:pt x="735" y="1136"/>
                    </a:lnTo>
                    <a:lnTo>
                      <a:pt x="714" y="1147"/>
                    </a:lnTo>
                    <a:lnTo>
                      <a:pt x="694" y="1157"/>
                    </a:lnTo>
                    <a:lnTo>
                      <a:pt x="672" y="1166"/>
                    </a:lnTo>
                    <a:lnTo>
                      <a:pt x="651" y="1173"/>
                    </a:lnTo>
                    <a:lnTo>
                      <a:pt x="629" y="1180"/>
                    </a:lnTo>
                    <a:lnTo>
                      <a:pt x="606" y="1187"/>
                    </a:lnTo>
                    <a:lnTo>
                      <a:pt x="582" y="1193"/>
                    </a:lnTo>
                    <a:lnTo>
                      <a:pt x="559" y="1197"/>
                    </a:lnTo>
                    <a:lnTo>
                      <a:pt x="536" y="1200"/>
                    </a:lnTo>
                    <a:lnTo>
                      <a:pt x="512" y="1204"/>
                    </a:lnTo>
                    <a:lnTo>
                      <a:pt x="489" y="1206"/>
                    </a:lnTo>
                    <a:lnTo>
                      <a:pt x="464" y="1206"/>
                    </a:lnTo>
                    <a:lnTo>
                      <a:pt x="473" y="1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873760" y="2506680"/>
                <a:ext cx="325440" cy="382680"/>
              </a:xfrm>
              <a:custGeom>
                <a:avLst/>
                <a:gdLst/>
                <a:ahLst/>
                <a:rect l="l" t="t" r="r" b="b"/>
                <a:pathLst>
                  <a:path w="1025" h="1205">
                    <a:moveTo>
                      <a:pt x="598" y="17"/>
                    </a:moveTo>
                    <a:lnTo>
                      <a:pt x="581" y="13"/>
                    </a:lnTo>
                    <a:lnTo>
                      <a:pt x="564" y="10"/>
                    </a:lnTo>
                    <a:lnTo>
                      <a:pt x="546" y="7"/>
                    </a:lnTo>
                    <a:lnTo>
                      <a:pt x="528" y="4"/>
                    </a:lnTo>
                    <a:lnTo>
                      <a:pt x="509" y="3"/>
                    </a:lnTo>
                    <a:lnTo>
                      <a:pt x="491" y="1"/>
                    </a:lnTo>
                    <a:lnTo>
                      <a:pt x="472" y="0"/>
                    </a:lnTo>
                    <a:lnTo>
                      <a:pt x="453" y="0"/>
                    </a:lnTo>
                    <a:lnTo>
                      <a:pt x="420" y="1"/>
                    </a:lnTo>
                    <a:lnTo>
                      <a:pt x="387" y="4"/>
                    </a:lnTo>
                    <a:lnTo>
                      <a:pt x="354" y="8"/>
                    </a:lnTo>
                    <a:lnTo>
                      <a:pt x="322" y="14"/>
                    </a:lnTo>
                    <a:lnTo>
                      <a:pt x="290" y="22"/>
                    </a:lnTo>
                    <a:lnTo>
                      <a:pt x="260" y="31"/>
                    </a:lnTo>
                    <a:lnTo>
                      <a:pt x="230" y="43"/>
                    </a:lnTo>
                    <a:lnTo>
                      <a:pt x="201" y="55"/>
                    </a:lnTo>
                    <a:lnTo>
                      <a:pt x="173" y="69"/>
                    </a:lnTo>
                    <a:lnTo>
                      <a:pt x="145" y="85"/>
                    </a:lnTo>
                    <a:lnTo>
                      <a:pt x="118" y="101"/>
                    </a:lnTo>
                    <a:lnTo>
                      <a:pt x="93" y="119"/>
                    </a:lnTo>
                    <a:lnTo>
                      <a:pt x="67" y="139"/>
                    </a:lnTo>
                    <a:lnTo>
                      <a:pt x="44" y="159"/>
                    </a:lnTo>
                    <a:lnTo>
                      <a:pt x="21" y="181"/>
                    </a:lnTo>
                    <a:lnTo>
                      <a:pt x="0" y="204"/>
                    </a:lnTo>
                    <a:lnTo>
                      <a:pt x="5" y="224"/>
                    </a:lnTo>
                    <a:lnTo>
                      <a:pt x="26" y="201"/>
                    </a:lnTo>
                    <a:lnTo>
                      <a:pt x="49" y="179"/>
                    </a:lnTo>
                    <a:lnTo>
                      <a:pt x="72" y="158"/>
                    </a:lnTo>
                    <a:lnTo>
                      <a:pt x="96" y="138"/>
                    </a:lnTo>
                    <a:lnTo>
                      <a:pt x="121" y="119"/>
                    </a:lnTo>
                    <a:lnTo>
                      <a:pt x="147" y="103"/>
                    </a:lnTo>
                    <a:lnTo>
                      <a:pt x="175" y="87"/>
                    </a:lnTo>
                    <a:lnTo>
                      <a:pt x="203" y="73"/>
                    </a:lnTo>
                    <a:lnTo>
                      <a:pt x="231" y="59"/>
                    </a:lnTo>
                    <a:lnTo>
                      <a:pt x="261" y="49"/>
                    </a:lnTo>
                    <a:lnTo>
                      <a:pt x="291" y="40"/>
                    </a:lnTo>
                    <a:lnTo>
                      <a:pt x="323" y="31"/>
                    </a:lnTo>
                    <a:lnTo>
                      <a:pt x="354" y="25"/>
                    </a:lnTo>
                    <a:lnTo>
                      <a:pt x="387" y="21"/>
                    </a:lnTo>
                    <a:lnTo>
                      <a:pt x="421" y="17"/>
                    </a:lnTo>
                    <a:lnTo>
                      <a:pt x="453" y="16"/>
                    </a:lnTo>
                    <a:lnTo>
                      <a:pt x="475" y="16"/>
                    </a:lnTo>
                    <a:lnTo>
                      <a:pt x="496" y="19"/>
                    </a:lnTo>
                    <a:lnTo>
                      <a:pt x="517" y="20"/>
                    </a:lnTo>
                    <a:lnTo>
                      <a:pt x="537" y="23"/>
                    </a:lnTo>
                    <a:lnTo>
                      <a:pt x="558" y="26"/>
                    </a:lnTo>
                    <a:lnTo>
                      <a:pt x="578" y="30"/>
                    </a:lnTo>
                    <a:lnTo>
                      <a:pt x="598" y="34"/>
                    </a:lnTo>
                    <a:lnTo>
                      <a:pt x="618" y="40"/>
                    </a:lnTo>
                    <a:lnTo>
                      <a:pt x="614" y="33"/>
                    </a:lnTo>
                    <a:lnTo>
                      <a:pt x="598" y="17"/>
                    </a:lnTo>
                    <a:close/>
                    <a:moveTo>
                      <a:pt x="467" y="1205"/>
                    </a:moveTo>
                    <a:lnTo>
                      <a:pt x="490" y="1205"/>
                    </a:lnTo>
                    <a:lnTo>
                      <a:pt x="514" y="1203"/>
                    </a:lnTo>
                    <a:lnTo>
                      <a:pt x="538" y="1200"/>
                    </a:lnTo>
                    <a:lnTo>
                      <a:pt x="562" y="1196"/>
                    </a:lnTo>
                    <a:lnTo>
                      <a:pt x="585" y="1191"/>
                    </a:lnTo>
                    <a:lnTo>
                      <a:pt x="608" y="1186"/>
                    </a:lnTo>
                    <a:lnTo>
                      <a:pt x="630" y="1180"/>
                    </a:lnTo>
                    <a:lnTo>
                      <a:pt x="652" y="1172"/>
                    </a:lnTo>
                    <a:lnTo>
                      <a:pt x="674" y="1164"/>
                    </a:lnTo>
                    <a:lnTo>
                      <a:pt x="695" y="1156"/>
                    </a:lnTo>
                    <a:lnTo>
                      <a:pt x="716" y="1146"/>
                    </a:lnTo>
                    <a:lnTo>
                      <a:pt x="736" y="1136"/>
                    </a:lnTo>
                    <a:lnTo>
                      <a:pt x="756" y="1124"/>
                    </a:lnTo>
                    <a:lnTo>
                      <a:pt x="776" y="1113"/>
                    </a:lnTo>
                    <a:lnTo>
                      <a:pt x="795" y="1100"/>
                    </a:lnTo>
                    <a:lnTo>
                      <a:pt x="813" y="1087"/>
                    </a:lnTo>
                    <a:lnTo>
                      <a:pt x="831" y="1074"/>
                    </a:lnTo>
                    <a:lnTo>
                      <a:pt x="848" y="1059"/>
                    </a:lnTo>
                    <a:lnTo>
                      <a:pt x="865" y="1043"/>
                    </a:lnTo>
                    <a:lnTo>
                      <a:pt x="881" y="1028"/>
                    </a:lnTo>
                    <a:lnTo>
                      <a:pt x="897" y="1012"/>
                    </a:lnTo>
                    <a:lnTo>
                      <a:pt x="913" y="995"/>
                    </a:lnTo>
                    <a:lnTo>
                      <a:pt x="926" y="977"/>
                    </a:lnTo>
                    <a:lnTo>
                      <a:pt x="940" y="959"/>
                    </a:lnTo>
                    <a:lnTo>
                      <a:pt x="954" y="940"/>
                    </a:lnTo>
                    <a:lnTo>
                      <a:pt x="966" y="922"/>
                    </a:lnTo>
                    <a:lnTo>
                      <a:pt x="978" y="903"/>
                    </a:lnTo>
                    <a:lnTo>
                      <a:pt x="988" y="882"/>
                    </a:lnTo>
                    <a:lnTo>
                      <a:pt x="999" y="862"/>
                    </a:lnTo>
                    <a:lnTo>
                      <a:pt x="1008" y="841"/>
                    </a:lnTo>
                    <a:lnTo>
                      <a:pt x="1017" y="820"/>
                    </a:lnTo>
                    <a:lnTo>
                      <a:pt x="1025" y="798"/>
                    </a:lnTo>
                    <a:lnTo>
                      <a:pt x="1015" y="776"/>
                    </a:lnTo>
                    <a:lnTo>
                      <a:pt x="1007" y="798"/>
                    </a:lnTo>
                    <a:lnTo>
                      <a:pt x="999" y="820"/>
                    </a:lnTo>
                    <a:lnTo>
                      <a:pt x="990" y="841"/>
                    </a:lnTo>
                    <a:lnTo>
                      <a:pt x="980" y="862"/>
                    </a:lnTo>
                    <a:lnTo>
                      <a:pt x="969" y="883"/>
                    </a:lnTo>
                    <a:lnTo>
                      <a:pt x="958" y="902"/>
                    </a:lnTo>
                    <a:lnTo>
                      <a:pt x="946" y="922"/>
                    </a:lnTo>
                    <a:lnTo>
                      <a:pt x="934" y="940"/>
                    </a:lnTo>
                    <a:lnTo>
                      <a:pt x="920" y="959"/>
                    </a:lnTo>
                    <a:lnTo>
                      <a:pt x="905" y="977"/>
                    </a:lnTo>
                    <a:lnTo>
                      <a:pt x="891" y="994"/>
                    </a:lnTo>
                    <a:lnTo>
                      <a:pt x="875" y="1011"/>
                    </a:lnTo>
                    <a:lnTo>
                      <a:pt x="859" y="1027"/>
                    </a:lnTo>
                    <a:lnTo>
                      <a:pt x="842" y="1042"/>
                    </a:lnTo>
                    <a:lnTo>
                      <a:pt x="824" y="1057"/>
                    </a:lnTo>
                    <a:lnTo>
                      <a:pt x="806" y="1071"/>
                    </a:lnTo>
                    <a:lnTo>
                      <a:pt x="789" y="1084"/>
                    </a:lnTo>
                    <a:lnTo>
                      <a:pt x="770" y="1097"/>
                    </a:lnTo>
                    <a:lnTo>
                      <a:pt x="750" y="1108"/>
                    </a:lnTo>
                    <a:lnTo>
                      <a:pt x="730" y="1120"/>
                    </a:lnTo>
                    <a:lnTo>
                      <a:pt x="709" y="1130"/>
                    </a:lnTo>
                    <a:lnTo>
                      <a:pt x="688" y="1140"/>
                    </a:lnTo>
                    <a:lnTo>
                      <a:pt x="667" y="1149"/>
                    </a:lnTo>
                    <a:lnTo>
                      <a:pt x="645" y="1157"/>
                    </a:lnTo>
                    <a:lnTo>
                      <a:pt x="622" y="1164"/>
                    </a:lnTo>
                    <a:lnTo>
                      <a:pt x="600" y="1170"/>
                    </a:lnTo>
                    <a:lnTo>
                      <a:pt x="577" y="1176"/>
                    </a:lnTo>
                    <a:lnTo>
                      <a:pt x="554" y="1180"/>
                    </a:lnTo>
                    <a:lnTo>
                      <a:pt x="530" y="1184"/>
                    </a:lnTo>
                    <a:lnTo>
                      <a:pt x="507" y="1186"/>
                    </a:lnTo>
                    <a:lnTo>
                      <a:pt x="483" y="1188"/>
                    </a:lnTo>
                    <a:lnTo>
                      <a:pt x="457" y="1188"/>
                    </a:lnTo>
                    <a:lnTo>
                      <a:pt x="467" y="120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875200" y="2508120"/>
                <a:ext cx="322560" cy="378000"/>
              </a:xfrm>
              <a:custGeom>
                <a:avLst/>
                <a:gdLst/>
                <a:ahLst/>
                <a:rect l="l" t="t" r="r" b="b"/>
                <a:pathLst>
                  <a:path w="1017" h="1189">
                    <a:moveTo>
                      <a:pt x="608" y="21"/>
                    </a:moveTo>
                    <a:lnTo>
                      <a:pt x="589" y="17"/>
                    </a:lnTo>
                    <a:lnTo>
                      <a:pt x="569" y="13"/>
                    </a:lnTo>
                    <a:lnTo>
                      <a:pt x="550" y="8"/>
                    </a:lnTo>
                    <a:lnTo>
                      <a:pt x="530" y="5"/>
                    </a:lnTo>
                    <a:lnTo>
                      <a:pt x="511" y="3"/>
                    </a:lnTo>
                    <a:lnTo>
                      <a:pt x="491" y="1"/>
                    </a:lnTo>
                    <a:lnTo>
                      <a:pt x="471" y="0"/>
                    </a:lnTo>
                    <a:lnTo>
                      <a:pt x="450" y="0"/>
                    </a:lnTo>
                    <a:lnTo>
                      <a:pt x="417" y="1"/>
                    </a:lnTo>
                    <a:lnTo>
                      <a:pt x="384" y="4"/>
                    </a:lnTo>
                    <a:lnTo>
                      <a:pt x="351" y="8"/>
                    </a:lnTo>
                    <a:lnTo>
                      <a:pt x="320" y="15"/>
                    </a:lnTo>
                    <a:lnTo>
                      <a:pt x="288" y="22"/>
                    </a:lnTo>
                    <a:lnTo>
                      <a:pt x="258" y="33"/>
                    </a:lnTo>
                    <a:lnTo>
                      <a:pt x="227" y="43"/>
                    </a:lnTo>
                    <a:lnTo>
                      <a:pt x="199" y="56"/>
                    </a:lnTo>
                    <a:lnTo>
                      <a:pt x="171" y="70"/>
                    </a:lnTo>
                    <a:lnTo>
                      <a:pt x="143" y="86"/>
                    </a:lnTo>
                    <a:lnTo>
                      <a:pt x="117" y="103"/>
                    </a:lnTo>
                    <a:lnTo>
                      <a:pt x="91" y="121"/>
                    </a:lnTo>
                    <a:lnTo>
                      <a:pt x="67" y="141"/>
                    </a:lnTo>
                    <a:lnTo>
                      <a:pt x="43" y="162"/>
                    </a:lnTo>
                    <a:lnTo>
                      <a:pt x="21" y="183"/>
                    </a:lnTo>
                    <a:lnTo>
                      <a:pt x="0" y="206"/>
                    </a:lnTo>
                    <a:lnTo>
                      <a:pt x="6" y="226"/>
                    </a:lnTo>
                    <a:lnTo>
                      <a:pt x="26" y="203"/>
                    </a:lnTo>
                    <a:lnTo>
                      <a:pt x="48" y="181"/>
                    </a:lnTo>
                    <a:lnTo>
                      <a:pt x="71" y="160"/>
                    </a:lnTo>
                    <a:lnTo>
                      <a:pt x="94" y="140"/>
                    </a:lnTo>
                    <a:lnTo>
                      <a:pt x="119" y="121"/>
                    </a:lnTo>
                    <a:lnTo>
                      <a:pt x="145" y="104"/>
                    </a:lnTo>
                    <a:lnTo>
                      <a:pt x="173" y="88"/>
                    </a:lnTo>
                    <a:lnTo>
                      <a:pt x="200" y="74"/>
                    </a:lnTo>
                    <a:lnTo>
                      <a:pt x="230" y="61"/>
                    </a:lnTo>
                    <a:lnTo>
                      <a:pt x="259" y="49"/>
                    </a:lnTo>
                    <a:lnTo>
                      <a:pt x="289" y="40"/>
                    </a:lnTo>
                    <a:lnTo>
                      <a:pt x="320" y="32"/>
                    </a:lnTo>
                    <a:lnTo>
                      <a:pt x="352" y="25"/>
                    </a:lnTo>
                    <a:lnTo>
                      <a:pt x="384" y="21"/>
                    </a:lnTo>
                    <a:lnTo>
                      <a:pt x="418" y="18"/>
                    </a:lnTo>
                    <a:lnTo>
                      <a:pt x="450" y="17"/>
                    </a:lnTo>
                    <a:lnTo>
                      <a:pt x="472" y="17"/>
                    </a:lnTo>
                    <a:lnTo>
                      <a:pt x="494" y="19"/>
                    </a:lnTo>
                    <a:lnTo>
                      <a:pt x="516" y="21"/>
                    </a:lnTo>
                    <a:lnTo>
                      <a:pt x="537" y="23"/>
                    </a:lnTo>
                    <a:lnTo>
                      <a:pt x="559" y="27"/>
                    </a:lnTo>
                    <a:lnTo>
                      <a:pt x="580" y="32"/>
                    </a:lnTo>
                    <a:lnTo>
                      <a:pt x="600" y="37"/>
                    </a:lnTo>
                    <a:lnTo>
                      <a:pt x="621" y="42"/>
                    </a:lnTo>
                    <a:lnTo>
                      <a:pt x="611" y="25"/>
                    </a:lnTo>
                    <a:lnTo>
                      <a:pt x="608" y="21"/>
                    </a:lnTo>
                    <a:close/>
                    <a:moveTo>
                      <a:pt x="459" y="1189"/>
                    </a:moveTo>
                    <a:lnTo>
                      <a:pt x="484" y="1189"/>
                    </a:lnTo>
                    <a:lnTo>
                      <a:pt x="507" y="1187"/>
                    </a:lnTo>
                    <a:lnTo>
                      <a:pt x="531" y="1183"/>
                    </a:lnTo>
                    <a:lnTo>
                      <a:pt x="554" y="1180"/>
                    </a:lnTo>
                    <a:lnTo>
                      <a:pt x="577" y="1176"/>
                    </a:lnTo>
                    <a:lnTo>
                      <a:pt x="601" y="1170"/>
                    </a:lnTo>
                    <a:lnTo>
                      <a:pt x="624" y="1163"/>
                    </a:lnTo>
                    <a:lnTo>
                      <a:pt x="646" y="1156"/>
                    </a:lnTo>
                    <a:lnTo>
                      <a:pt x="667" y="1149"/>
                    </a:lnTo>
                    <a:lnTo>
                      <a:pt x="689" y="1140"/>
                    </a:lnTo>
                    <a:lnTo>
                      <a:pt x="709" y="1130"/>
                    </a:lnTo>
                    <a:lnTo>
                      <a:pt x="730" y="1119"/>
                    </a:lnTo>
                    <a:lnTo>
                      <a:pt x="750" y="1109"/>
                    </a:lnTo>
                    <a:lnTo>
                      <a:pt x="770" y="1097"/>
                    </a:lnTo>
                    <a:lnTo>
                      <a:pt x="789" y="1085"/>
                    </a:lnTo>
                    <a:lnTo>
                      <a:pt x="807" y="1071"/>
                    </a:lnTo>
                    <a:lnTo>
                      <a:pt x="824" y="1057"/>
                    </a:lnTo>
                    <a:lnTo>
                      <a:pt x="842" y="1043"/>
                    </a:lnTo>
                    <a:lnTo>
                      <a:pt x="859" y="1027"/>
                    </a:lnTo>
                    <a:lnTo>
                      <a:pt x="875" y="1011"/>
                    </a:lnTo>
                    <a:lnTo>
                      <a:pt x="891" y="994"/>
                    </a:lnTo>
                    <a:lnTo>
                      <a:pt x="905" y="978"/>
                    </a:lnTo>
                    <a:lnTo>
                      <a:pt x="920" y="960"/>
                    </a:lnTo>
                    <a:lnTo>
                      <a:pt x="934" y="942"/>
                    </a:lnTo>
                    <a:lnTo>
                      <a:pt x="946" y="923"/>
                    </a:lnTo>
                    <a:lnTo>
                      <a:pt x="959" y="904"/>
                    </a:lnTo>
                    <a:lnTo>
                      <a:pt x="971" y="884"/>
                    </a:lnTo>
                    <a:lnTo>
                      <a:pt x="981" y="864"/>
                    </a:lnTo>
                    <a:lnTo>
                      <a:pt x="992" y="843"/>
                    </a:lnTo>
                    <a:lnTo>
                      <a:pt x="1000" y="822"/>
                    </a:lnTo>
                    <a:lnTo>
                      <a:pt x="1008" y="800"/>
                    </a:lnTo>
                    <a:lnTo>
                      <a:pt x="1017" y="779"/>
                    </a:lnTo>
                    <a:lnTo>
                      <a:pt x="1007" y="760"/>
                    </a:lnTo>
                    <a:lnTo>
                      <a:pt x="1005" y="757"/>
                    </a:lnTo>
                    <a:lnTo>
                      <a:pt x="999" y="779"/>
                    </a:lnTo>
                    <a:lnTo>
                      <a:pt x="991" y="801"/>
                    </a:lnTo>
                    <a:lnTo>
                      <a:pt x="982" y="823"/>
                    </a:lnTo>
                    <a:lnTo>
                      <a:pt x="973" y="844"/>
                    </a:lnTo>
                    <a:lnTo>
                      <a:pt x="962" y="864"/>
                    </a:lnTo>
                    <a:lnTo>
                      <a:pt x="951" y="885"/>
                    </a:lnTo>
                    <a:lnTo>
                      <a:pt x="939" y="904"/>
                    </a:lnTo>
                    <a:lnTo>
                      <a:pt x="926" y="923"/>
                    </a:lnTo>
                    <a:lnTo>
                      <a:pt x="913" y="942"/>
                    </a:lnTo>
                    <a:lnTo>
                      <a:pt x="899" y="960"/>
                    </a:lnTo>
                    <a:lnTo>
                      <a:pt x="884" y="978"/>
                    </a:lnTo>
                    <a:lnTo>
                      <a:pt x="869" y="994"/>
                    </a:lnTo>
                    <a:lnTo>
                      <a:pt x="853" y="1010"/>
                    </a:lnTo>
                    <a:lnTo>
                      <a:pt x="836" y="1026"/>
                    </a:lnTo>
                    <a:lnTo>
                      <a:pt x="818" y="1041"/>
                    </a:lnTo>
                    <a:lnTo>
                      <a:pt x="800" y="1055"/>
                    </a:lnTo>
                    <a:lnTo>
                      <a:pt x="781" y="1068"/>
                    </a:lnTo>
                    <a:lnTo>
                      <a:pt x="762" y="1082"/>
                    </a:lnTo>
                    <a:lnTo>
                      <a:pt x="744" y="1093"/>
                    </a:lnTo>
                    <a:lnTo>
                      <a:pt x="724" y="1105"/>
                    </a:lnTo>
                    <a:lnTo>
                      <a:pt x="703" y="1115"/>
                    </a:lnTo>
                    <a:lnTo>
                      <a:pt x="681" y="1125"/>
                    </a:lnTo>
                    <a:lnTo>
                      <a:pt x="660" y="1133"/>
                    </a:lnTo>
                    <a:lnTo>
                      <a:pt x="638" y="1141"/>
                    </a:lnTo>
                    <a:lnTo>
                      <a:pt x="616" y="1149"/>
                    </a:lnTo>
                    <a:lnTo>
                      <a:pt x="593" y="1155"/>
                    </a:lnTo>
                    <a:lnTo>
                      <a:pt x="570" y="1160"/>
                    </a:lnTo>
                    <a:lnTo>
                      <a:pt x="547" y="1164"/>
                    </a:lnTo>
                    <a:lnTo>
                      <a:pt x="524" y="1168"/>
                    </a:lnTo>
                    <a:lnTo>
                      <a:pt x="500" y="1171"/>
                    </a:lnTo>
                    <a:lnTo>
                      <a:pt x="475" y="1172"/>
                    </a:lnTo>
                    <a:lnTo>
                      <a:pt x="450" y="1173"/>
                    </a:lnTo>
                    <a:lnTo>
                      <a:pt x="450" y="1173"/>
                    </a:lnTo>
                    <a:lnTo>
                      <a:pt x="459" y="118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875200" y="2511360"/>
                <a:ext cx="320760" cy="371520"/>
              </a:xfrm>
              <a:custGeom>
                <a:avLst/>
                <a:gdLst/>
                <a:ahLst/>
                <a:rect l="l" t="t" r="r" b="b"/>
                <a:pathLst>
                  <a:path w="1010" h="1172">
                    <a:moveTo>
                      <a:pt x="613" y="24"/>
                    </a:moveTo>
                    <a:lnTo>
                      <a:pt x="593" y="18"/>
                    </a:lnTo>
                    <a:lnTo>
                      <a:pt x="573" y="14"/>
                    </a:lnTo>
                    <a:lnTo>
                      <a:pt x="553" y="10"/>
                    </a:lnTo>
                    <a:lnTo>
                      <a:pt x="532" y="7"/>
                    </a:lnTo>
                    <a:lnTo>
                      <a:pt x="512" y="4"/>
                    </a:lnTo>
                    <a:lnTo>
                      <a:pt x="491" y="3"/>
                    </a:lnTo>
                    <a:lnTo>
                      <a:pt x="470" y="0"/>
                    </a:lnTo>
                    <a:lnTo>
                      <a:pt x="448" y="0"/>
                    </a:lnTo>
                    <a:lnTo>
                      <a:pt x="416" y="1"/>
                    </a:lnTo>
                    <a:lnTo>
                      <a:pt x="382" y="5"/>
                    </a:lnTo>
                    <a:lnTo>
                      <a:pt x="349" y="9"/>
                    </a:lnTo>
                    <a:lnTo>
                      <a:pt x="318" y="15"/>
                    </a:lnTo>
                    <a:lnTo>
                      <a:pt x="286" y="24"/>
                    </a:lnTo>
                    <a:lnTo>
                      <a:pt x="256" y="33"/>
                    </a:lnTo>
                    <a:lnTo>
                      <a:pt x="226" y="43"/>
                    </a:lnTo>
                    <a:lnTo>
                      <a:pt x="198" y="57"/>
                    </a:lnTo>
                    <a:lnTo>
                      <a:pt x="170" y="71"/>
                    </a:lnTo>
                    <a:lnTo>
                      <a:pt x="142" y="87"/>
                    </a:lnTo>
                    <a:lnTo>
                      <a:pt x="116" y="103"/>
                    </a:lnTo>
                    <a:lnTo>
                      <a:pt x="91" y="122"/>
                    </a:lnTo>
                    <a:lnTo>
                      <a:pt x="67" y="142"/>
                    </a:lnTo>
                    <a:lnTo>
                      <a:pt x="44" y="163"/>
                    </a:lnTo>
                    <a:lnTo>
                      <a:pt x="21" y="185"/>
                    </a:lnTo>
                    <a:lnTo>
                      <a:pt x="0" y="208"/>
                    </a:lnTo>
                    <a:lnTo>
                      <a:pt x="6" y="228"/>
                    </a:lnTo>
                    <a:lnTo>
                      <a:pt x="26" y="204"/>
                    </a:lnTo>
                    <a:lnTo>
                      <a:pt x="48" y="182"/>
                    </a:lnTo>
                    <a:lnTo>
                      <a:pt x="70" y="161"/>
                    </a:lnTo>
                    <a:lnTo>
                      <a:pt x="94" y="141"/>
                    </a:lnTo>
                    <a:lnTo>
                      <a:pt x="119" y="122"/>
                    </a:lnTo>
                    <a:lnTo>
                      <a:pt x="144" y="105"/>
                    </a:lnTo>
                    <a:lnTo>
                      <a:pt x="172" y="89"/>
                    </a:lnTo>
                    <a:lnTo>
                      <a:pt x="199" y="74"/>
                    </a:lnTo>
                    <a:lnTo>
                      <a:pt x="228" y="61"/>
                    </a:lnTo>
                    <a:lnTo>
                      <a:pt x="258" y="50"/>
                    </a:lnTo>
                    <a:lnTo>
                      <a:pt x="287" y="40"/>
                    </a:lnTo>
                    <a:lnTo>
                      <a:pt x="319" y="32"/>
                    </a:lnTo>
                    <a:lnTo>
                      <a:pt x="350" y="26"/>
                    </a:lnTo>
                    <a:lnTo>
                      <a:pt x="383" y="21"/>
                    </a:lnTo>
                    <a:lnTo>
                      <a:pt x="416" y="18"/>
                    </a:lnTo>
                    <a:lnTo>
                      <a:pt x="448" y="17"/>
                    </a:lnTo>
                    <a:lnTo>
                      <a:pt x="471" y="17"/>
                    </a:lnTo>
                    <a:lnTo>
                      <a:pt x="494" y="19"/>
                    </a:lnTo>
                    <a:lnTo>
                      <a:pt x="517" y="21"/>
                    </a:lnTo>
                    <a:lnTo>
                      <a:pt x="539" y="25"/>
                    </a:lnTo>
                    <a:lnTo>
                      <a:pt x="561" y="28"/>
                    </a:lnTo>
                    <a:lnTo>
                      <a:pt x="582" y="33"/>
                    </a:lnTo>
                    <a:lnTo>
                      <a:pt x="603" y="38"/>
                    </a:lnTo>
                    <a:lnTo>
                      <a:pt x="624" y="45"/>
                    </a:lnTo>
                    <a:lnTo>
                      <a:pt x="613" y="24"/>
                    </a:lnTo>
                    <a:close/>
                    <a:moveTo>
                      <a:pt x="452" y="1172"/>
                    </a:moveTo>
                    <a:lnTo>
                      <a:pt x="478" y="1172"/>
                    </a:lnTo>
                    <a:lnTo>
                      <a:pt x="502" y="1170"/>
                    </a:lnTo>
                    <a:lnTo>
                      <a:pt x="525" y="1168"/>
                    </a:lnTo>
                    <a:lnTo>
                      <a:pt x="549" y="1164"/>
                    </a:lnTo>
                    <a:lnTo>
                      <a:pt x="572" y="1160"/>
                    </a:lnTo>
                    <a:lnTo>
                      <a:pt x="595" y="1154"/>
                    </a:lnTo>
                    <a:lnTo>
                      <a:pt x="617" y="1148"/>
                    </a:lnTo>
                    <a:lnTo>
                      <a:pt x="640" y="1141"/>
                    </a:lnTo>
                    <a:lnTo>
                      <a:pt x="662" y="1133"/>
                    </a:lnTo>
                    <a:lnTo>
                      <a:pt x="683" y="1124"/>
                    </a:lnTo>
                    <a:lnTo>
                      <a:pt x="704" y="1114"/>
                    </a:lnTo>
                    <a:lnTo>
                      <a:pt x="725" y="1104"/>
                    </a:lnTo>
                    <a:lnTo>
                      <a:pt x="745" y="1092"/>
                    </a:lnTo>
                    <a:lnTo>
                      <a:pt x="765" y="1081"/>
                    </a:lnTo>
                    <a:lnTo>
                      <a:pt x="784" y="1068"/>
                    </a:lnTo>
                    <a:lnTo>
                      <a:pt x="801" y="1055"/>
                    </a:lnTo>
                    <a:lnTo>
                      <a:pt x="819" y="1041"/>
                    </a:lnTo>
                    <a:lnTo>
                      <a:pt x="837" y="1026"/>
                    </a:lnTo>
                    <a:lnTo>
                      <a:pt x="854" y="1011"/>
                    </a:lnTo>
                    <a:lnTo>
                      <a:pt x="870" y="995"/>
                    </a:lnTo>
                    <a:lnTo>
                      <a:pt x="886" y="978"/>
                    </a:lnTo>
                    <a:lnTo>
                      <a:pt x="900" y="961"/>
                    </a:lnTo>
                    <a:lnTo>
                      <a:pt x="915" y="943"/>
                    </a:lnTo>
                    <a:lnTo>
                      <a:pt x="929" y="924"/>
                    </a:lnTo>
                    <a:lnTo>
                      <a:pt x="941" y="906"/>
                    </a:lnTo>
                    <a:lnTo>
                      <a:pt x="953" y="886"/>
                    </a:lnTo>
                    <a:lnTo>
                      <a:pt x="964" y="867"/>
                    </a:lnTo>
                    <a:lnTo>
                      <a:pt x="975" y="846"/>
                    </a:lnTo>
                    <a:lnTo>
                      <a:pt x="985" y="825"/>
                    </a:lnTo>
                    <a:lnTo>
                      <a:pt x="994" y="804"/>
                    </a:lnTo>
                    <a:lnTo>
                      <a:pt x="1002" y="782"/>
                    </a:lnTo>
                    <a:lnTo>
                      <a:pt x="1010" y="760"/>
                    </a:lnTo>
                    <a:lnTo>
                      <a:pt x="1005" y="752"/>
                    </a:lnTo>
                    <a:lnTo>
                      <a:pt x="998" y="741"/>
                    </a:lnTo>
                    <a:lnTo>
                      <a:pt x="991" y="763"/>
                    </a:lnTo>
                    <a:lnTo>
                      <a:pt x="983" y="785"/>
                    </a:lnTo>
                    <a:lnTo>
                      <a:pt x="975" y="806"/>
                    </a:lnTo>
                    <a:lnTo>
                      <a:pt x="965" y="827"/>
                    </a:lnTo>
                    <a:lnTo>
                      <a:pt x="955" y="848"/>
                    </a:lnTo>
                    <a:lnTo>
                      <a:pt x="944" y="868"/>
                    </a:lnTo>
                    <a:lnTo>
                      <a:pt x="933" y="888"/>
                    </a:lnTo>
                    <a:lnTo>
                      <a:pt x="920" y="907"/>
                    </a:lnTo>
                    <a:lnTo>
                      <a:pt x="908" y="925"/>
                    </a:lnTo>
                    <a:lnTo>
                      <a:pt x="893" y="943"/>
                    </a:lnTo>
                    <a:lnTo>
                      <a:pt x="878" y="960"/>
                    </a:lnTo>
                    <a:lnTo>
                      <a:pt x="863" y="977"/>
                    </a:lnTo>
                    <a:lnTo>
                      <a:pt x="848" y="994"/>
                    </a:lnTo>
                    <a:lnTo>
                      <a:pt x="831" y="1009"/>
                    </a:lnTo>
                    <a:lnTo>
                      <a:pt x="814" y="1024"/>
                    </a:lnTo>
                    <a:lnTo>
                      <a:pt x="796" y="1038"/>
                    </a:lnTo>
                    <a:lnTo>
                      <a:pt x="777" y="1051"/>
                    </a:lnTo>
                    <a:lnTo>
                      <a:pt x="758" y="1064"/>
                    </a:lnTo>
                    <a:lnTo>
                      <a:pt x="739" y="1077"/>
                    </a:lnTo>
                    <a:lnTo>
                      <a:pt x="719" y="1088"/>
                    </a:lnTo>
                    <a:lnTo>
                      <a:pt x="699" y="1099"/>
                    </a:lnTo>
                    <a:lnTo>
                      <a:pt x="678" y="1108"/>
                    </a:lnTo>
                    <a:lnTo>
                      <a:pt x="657" y="1117"/>
                    </a:lnTo>
                    <a:lnTo>
                      <a:pt x="635" y="1125"/>
                    </a:lnTo>
                    <a:lnTo>
                      <a:pt x="613" y="1132"/>
                    </a:lnTo>
                    <a:lnTo>
                      <a:pt x="590" y="1139"/>
                    </a:lnTo>
                    <a:lnTo>
                      <a:pt x="568" y="1144"/>
                    </a:lnTo>
                    <a:lnTo>
                      <a:pt x="545" y="1148"/>
                    </a:lnTo>
                    <a:lnTo>
                      <a:pt x="521" y="1151"/>
                    </a:lnTo>
                    <a:lnTo>
                      <a:pt x="498" y="1154"/>
                    </a:lnTo>
                    <a:lnTo>
                      <a:pt x="473" y="1155"/>
                    </a:lnTo>
                    <a:lnTo>
                      <a:pt x="448" y="1156"/>
                    </a:lnTo>
                    <a:lnTo>
                      <a:pt x="448" y="1156"/>
                    </a:lnTo>
                    <a:lnTo>
                      <a:pt x="447" y="1156"/>
                    </a:lnTo>
                    <a:lnTo>
                      <a:pt x="447" y="1156"/>
                    </a:lnTo>
                    <a:lnTo>
                      <a:pt x="446" y="1156"/>
                    </a:lnTo>
                    <a:lnTo>
                      <a:pt x="446" y="1156"/>
                    </a:lnTo>
                    <a:lnTo>
                      <a:pt x="445" y="1156"/>
                    </a:lnTo>
                    <a:lnTo>
                      <a:pt x="445" y="1156"/>
                    </a:lnTo>
                    <a:lnTo>
                      <a:pt x="444" y="1156"/>
                    </a:lnTo>
                    <a:lnTo>
                      <a:pt x="452" y="117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877000" y="2514600"/>
                <a:ext cx="317520" cy="366840"/>
              </a:xfrm>
              <a:custGeom>
                <a:avLst/>
                <a:gdLst/>
                <a:ahLst/>
                <a:rect l="l" t="t" r="r" b="b"/>
                <a:pathLst>
                  <a:path w="1000" h="1156">
                    <a:moveTo>
                      <a:pt x="615" y="25"/>
                    </a:moveTo>
                    <a:lnTo>
                      <a:pt x="594" y="20"/>
                    </a:lnTo>
                    <a:lnTo>
                      <a:pt x="574" y="15"/>
                    </a:lnTo>
                    <a:lnTo>
                      <a:pt x="553" y="10"/>
                    </a:lnTo>
                    <a:lnTo>
                      <a:pt x="531" y="6"/>
                    </a:lnTo>
                    <a:lnTo>
                      <a:pt x="510" y="4"/>
                    </a:lnTo>
                    <a:lnTo>
                      <a:pt x="488" y="2"/>
                    </a:lnTo>
                    <a:lnTo>
                      <a:pt x="466" y="0"/>
                    </a:lnTo>
                    <a:lnTo>
                      <a:pt x="444" y="0"/>
                    </a:lnTo>
                    <a:lnTo>
                      <a:pt x="412" y="1"/>
                    </a:lnTo>
                    <a:lnTo>
                      <a:pt x="378" y="4"/>
                    </a:lnTo>
                    <a:lnTo>
                      <a:pt x="346" y="8"/>
                    </a:lnTo>
                    <a:lnTo>
                      <a:pt x="314" y="15"/>
                    </a:lnTo>
                    <a:lnTo>
                      <a:pt x="283" y="23"/>
                    </a:lnTo>
                    <a:lnTo>
                      <a:pt x="253" y="32"/>
                    </a:lnTo>
                    <a:lnTo>
                      <a:pt x="224" y="44"/>
                    </a:lnTo>
                    <a:lnTo>
                      <a:pt x="194" y="57"/>
                    </a:lnTo>
                    <a:lnTo>
                      <a:pt x="167" y="71"/>
                    </a:lnTo>
                    <a:lnTo>
                      <a:pt x="139" y="87"/>
                    </a:lnTo>
                    <a:lnTo>
                      <a:pt x="113" y="104"/>
                    </a:lnTo>
                    <a:lnTo>
                      <a:pt x="88" y="123"/>
                    </a:lnTo>
                    <a:lnTo>
                      <a:pt x="65" y="143"/>
                    </a:lnTo>
                    <a:lnTo>
                      <a:pt x="42" y="164"/>
                    </a:lnTo>
                    <a:lnTo>
                      <a:pt x="20" y="186"/>
                    </a:lnTo>
                    <a:lnTo>
                      <a:pt x="0" y="209"/>
                    </a:lnTo>
                    <a:lnTo>
                      <a:pt x="5" y="229"/>
                    </a:lnTo>
                    <a:lnTo>
                      <a:pt x="25" y="206"/>
                    </a:lnTo>
                    <a:lnTo>
                      <a:pt x="46" y="183"/>
                    </a:lnTo>
                    <a:lnTo>
                      <a:pt x="68" y="162"/>
                    </a:lnTo>
                    <a:lnTo>
                      <a:pt x="91" y="142"/>
                    </a:lnTo>
                    <a:lnTo>
                      <a:pt x="116" y="123"/>
                    </a:lnTo>
                    <a:lnTo>
                      <a:pt x="142" y="105"/>
                    </a:lnTo>
                    <a:lnTo>
                      <a:pt x="169" y="89"/>
                    </a:lnTo>
                    <a:lnTo>
                      <a:pt x="196" y="74"/>
                    </a:lnTo>
                    <a:lnTo>
                      <a:pt x="225" y="62"/>
                    </a:lnTo>
                    <a:lnTo>
                      <a:pt x="254" y="50"/>
                    </a:lnTo>
                    <a:lnTo>
                      <a:pt x="284" y="40"/>
                    </a:lnTo>
                    <a:lnTo>
                      <a:pt x="315" y="31"/>
                    </a:lnTo>
                    <a:lnTo>
                      <a:pt x="346" y="25"/>
                    </a:lnTo>
                    <a:lnTo>
                      <a:pt x="379" y="21"/>
                    </a:lnTo>
                    <a:lnTo>
                      <a:pt x="412" y="18"/>
                    </a:lnTo>
                    <a:lnTo>
                      <a:pt x="444" y="17"/>
                    </a:lnTo>
                    <a:lnTo>
                      <a:pt x="468" y="17"/>
                    </a:lnTo>
                    <a:lnTo>
                      <a:pt x="492" y="19"/>
                    </a:lnTo>
                    <a:lnTo>
                      <a:pt x="515" y="21"/>
                    </a:lnTo>
                    <a:lnTo>
                      <a:pt x="538" y="24"/>
                    </a:lnTo>
                    <a:lnTo>
                      <a:pt x="560" y="28"/>
                    </a:lnTo>
                    <a:lnTo>
                      <a:pt x="582" y="33"/>
                    </a:lnTo>
                    <a:lnTo>
                      <a:pt x="604" y="40"/>
                    </a:lnTo>
                    <a:lnTo>
                      <a:pt x="625" y="46"/>
                    </a:lnTo>
                    <a:lnTo>
                      <a:pt x="615" y="25"/>
                    </a:lnTo>
                    <a:close/>
                    <a:moveTo>
                      <a:pt x="444" y="1156"/>
                    </a:moveTo>
                    <a:lnTo>
                      <a:pt x="444" y="1156"/>
                    </a:lnTo>
                    <a:lnTo>
                      <a:pt x="469" y="1155"/>
                    </a:lnTo>
                    <a:lnTo>
                      <a:pt x="494" y="1154"/>
                    </a:lnTo>
                    <a:lnTo>
                      <a:pt x="518" y="1151"/>
                    </a:lnTo>
                    <a:lnTo>
                      <a:pt x="541" y="1147"/>
                    </a:lnTo>
                    <a:lnTo>
                      <a:pt x="564" y="1143"/>
                    </a:lnTo>
                    <a:lnTo>
                      <a:pt x="587" y="1138"/>
                    </a:lnTo>
                    <a:lnTo>
                      <a:pt x="610" y="1132"/>
                    </a:lnTo>
                    <a:lnTo>
                      <a:pt x="632" y="1124"/>
                    </a:lnTo>
                    <a:lnTo>
                      <a:pt x="654" y="1116"/>
                    </a:lnTo>
                    <a:lnTo>
                      <a:pt x="675" y="1108"/>
                    </a:lnTo>
                    <a:lnTo>
                      <a:pt x="697" y="1098"/>
                    </a:lnTo>
                    <a:lnTo>
                      <a:pt x="718" y="1088"/>
                    </a:lnTo>
                    <a:lnTo>
                      <a:pt x="738" y="1076"/>
                    </a:lnTo>
                    <a:lnTo>
                      <a:pt x="756" y="1065"/>
                    </a:lnTo>
                    <a:lnTo>
                      <a:pt x="776" y="1051"/>
                    </a:lnTo>
                    <a:lnTo>
                      <a:pt x="794" y="1038"/>
                    </a:lnTo>
                    <a:lnTo>
                      <a:pt x="812" y="1024"/>
                    </a:lnTo>
                    <a:lnTo>
                      <a:pt x="830" y="1009"/>
                    </a:lnTo>
                    <a:lnTo>
                      <a:pt x="847" y="993"/>
                    </a:lnTo>
                    <a:lnTo>
                      <a:pt x="863" y="977"/>
                    </a:lnTo>
                    <a:lnTo>
                      <a:pt x="878" y="961"/>
                    </a:lnTo>
                    <a:lnTo>
                      <a:pt x="893" y="943"/>
                    </a:lnTo>
                    <a:lnTo>
                      <a:pt x="907" y="925"/>
                    </a:lnTo>
                    <a:lnTo>
                      <a:pt x="920" y="906"/>
                    </a:lnTo>
                    <a:lnTo>
                      <a:pt x="933" y="887"/>
                    </a:lnTo>
                    <a:lnTo>
                      <a:pt x="945" y="868"/>
                    </a:lnTo>
                    <a:lnTo>
                      <a:pt x="956" y="847"/>
                    </a:lnTo>
                    <a:lnTo>
                      <a:pt x="967" y="827"/>
                    </a:lnTo>
                    <a:lnTo>
                      <a:pt x="976" y="806"/>
                    </a:lnTo>
                    <a:lnTo>
                      <a:pt x="985" y="784"/>
                    </a:lnTo>
                    <a:lnTo>
                      <a:pt x="993" y="762"/>
                    </a:lnTo>
                    <a:lnTo>
                      <a:pt x="1000" y="740"/>
                    </a:lnTo>
                    <a:lnTo>
                      <a:pt x="988" y="722"/>
                    </a:lnTo>
                    <a:lnTo>
                      <a:pt x="981" y="744"/>
                    </a:lnTo>
                    <a:lnTo>
                      <a:pt x="974" y="766"/>
                    </a:lnTo>
                    <a:lnTo>
                      <a:pt x="966" y="787"/>
                    </a:lnTo>
                    <a:lnTo>
                      <a:pt x="956" y="808"/>
                    </a:lnTo>
                    <a:lnTo>
                      <a:pt x="947" y="829"/>
                    </a:lnTo>
                    <a:lnTo>
                      <a:pt x="936" y="849"/>
                    </a:lnTo>
                    <a:lnTo>
                      <a:pt x="925" y="869"/>
                    </a:lnTo>
                    <a:lnTo>
                      <a:pt x="912" y="888"/>
                    </a:lnTo>
                    <a:lnTo>
                      <a:pt x="899" y="907"/>
                    </a:lnTo>
                    <a:lnTo>
                      <a:pt x="886" y="925"/>
                    </a:lnTo>
                    <a:lnTo>
                      <a:pt x="871" y="943"/>
                    </a:lnTo>
                    <a:lnTo>
                      <a:pt x="856" y="960"/>
                    </a:lnTo>
                    <a:lnTo>
                      <a:pt x="841" y="975"/>
                    </a:lnTo>
                    <a:lnTo>
                      <a:pt x="824" y="991"/>
                    </a:lnTo>
                    <a:lnTo>
                      <a:pt x="807" y="1006"/>
                    </a:lnTo>
                    <a:lnTo>
                      <a:pt x="790" y="1020"/>
                    </a:lnTo>
                    <a:lnTo>
                      <a:pt x="771" y="1034"/>
                    </a:lnTo>
                    <a:lnTo>
                      <a:pt x="753" y="1047"/>
                    </a:lnTo>
                    <a:lnTo>
                      <a:pt x="733" y="1059"/>
                    </a:lnTo>
                    <a:lnTo>
                      <a:pt x="714" y="1070"/>
                    </a:lnTo>
                    <a:lnTo>
                      <a:pt x="693" y="1080"/>
                    </a:lnTo>
                    <a:lnTo>
                      <a:pt x="673" y="1091"/>
                    </a:lnTo>
                    <a:lnTo>
                      <a:pt x="651" y="1099"/>
                    </a:lnTo>
                    <a:lnTo>
                      <a:pt x="630" y="1108"/>
                    </a:lnTo>
                    <a:lnTo>
                      <a:pt x="608" y="1115"/>
                    </a:lnTo>
                    <a:lnTo>
                      <a:pt x="586" y="1121"/>
                    </a:lnTo>
                    <a:lnTo>
                      <a:pt x="563" y="1126"/>
                    </a:lnTo>
                    <a:lnTo>
                      <a:pt x="540" y="1131"/>
                    </a:lnTo>
                    <a:lnTo>
                      <a:pt x="517" y="1134"/>
                    </a:lnTo>
                    <a:lnTo>
                      <a:pt x="493" y="1137"/>
                    </a:lnTo>
                    <a:lnTo>
                      <a:pt x="468" y="1138"/>
                    </a:lnTo>
                    <a:lnTo>
                      <a:pt x="444" y="1139"/>
                    </a:lnTo>
                    <a:lnTo>
                      <a:pt x="443" y="1139"/>
                    </a:lnTo>
                    <a:lnTo>
                      <a:pt x="442" y="1139"/>
                    </a:lnTo>
                    <a:lnTo>
                      <a:pt x="441" y="1139"/>
                    </a:lnTo>
                    <a:lnTo>
                      <a:pt x="440" y="1139"/>
                    </a:lnTo>
                    <a:lnTo>
                      <a:pt x="439" y="1139"/>
                    </a:lnTo>
                    <a:lnTo>
                      <a:pt x="438" y="1139"/>
                    </a:lnTo>
                    <a:lnTo>
                      <a:pt x="437" y="1139"/>
                    </a:lnTo>
                    <a:lnTo>
                      <a:pt x="436" y="1139"/>
                    </a:lnTo>
                    <a:lnTo>
                      <a:pt x="444" y="115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877000" y="2516040"/>
                <a:ext cx="315720" cy="362160"/>
              </a:xfrm>
              <a:custGeom>
                <a:avLst/>
                <a:gdLst/>
                <a:ahLst/>
                <a:rect l="l" t="t" r="r" b="b"/>
                <a:pathLst>
                  <a:path w="992" h="1139">
                    <a:moveTo>
                      <a:pt x="618" y="28"/>
                    </a:moveTo>
                    <a:lnTo>
                      <a:pt x="597" y="21"/>
                    </a:lnTo>
                    <a:lnTo>
                      <a:pt x="576" y="16"/>
                    </a:lnTo>
                    <a:lnTo>
                      <a:pt x="555" y="12"/>
                    </a:lnTo>
                    <a:lnTo>
                      <a:pt x="533" y="8"/>
                    </a:lnTo>
                    <a:lnTo>
                      <a:pt x="511" y="4"/>
                    </a:lnTo>
                    <a:lnTo>
                      <a:pt x="488" y="2"/>
                    </a:lnTo>
                    <a:lnTo>
                      <a:pt x="465" y="0"/>
                    </a:lnTo>
                    <a:lnTo>
                      <a:pt x="442" y="0"/>
                    </a:lnTo>
                    <a:lnTo>
                      <a:pt x="410" y="1"/>
                    </a:lnTo>
                    <a:lnTo>
                      <a:pt x="377" y="4"/>
                    </a:lnTo>
                    <a:lnTo>
                      <a:pt x="344" y="9"/>
                    </a:lnTo>
                    <a:lnTo>
                      <a:pt x="313" y="15"/>
                    </a:lnTo>
                    <a:lnTo>
                      <a:pt x="281" y="23"/>
                    </a:lnTo>
                    <a:lnTo>
                      <a:pt x="252" y="33"/>
                    </a:lnTo>
                    <a:lnTo>
                      <a:pt x="222" y="44"/>
                    </a:lnTo>
                    <a:lnTo>
                      <a:pt x="193" y="57"/>
                    </a:lnTo>
                    <a:lnTo>
                      <a:pt x="166" y="72"/>
                    </a:lnTo>
                    <a:lnTo>
                      <a:pt x="138" y="88"/>
                    </a:lnTo>
                    <a:lnTo>
                      <a:pt x="113" y="105"/>
                    </a:lnTo>
                    <a:lnTo>
                      <a:pt x="88" y="124"/>
                    </a:lnTo>
                    <a:lnTo>
                      <a:pt x="64" y="144"/>
                    </a:lnTo>
                    <a:lnTo>
                      <a:pt x="42" y="165"/>
                    </a:lnTo>
                    <a:lnTo>
                      <a:pt x="20" y="187"/>
                    </a:lnTo>
                    <a:lnTo>
                      <a:pt x="0" y="211"/>
                    </a:lnTo>
                    <a:lnTo>
                      <a:pt x="5" y="231"/>
                    </a:lnTo>
                    <a:lnTo>
                      <a:pt x="25" y="207"/>
                    </a:lnTo>
                    <a:lnTo>
                      <a:pt x="46" y="185"/>
                    </a:lnTo>
                    <a:lnTo>
                      <a:pt x="68" y="163"/>
                    </a:lnTo>
                    <a:lnTo>
                      <a:pt x="91" y="143"/>
                    </a:lnTo>
                    <a:lnTo>
                      <a:pt x="115" y="124"/>
                    </a:lnTo>
                    <a:lnTo>
                      <a:pt x="142" y="106"/>
                    </a:lnTo>
                    <a:lnTo>
                      <a:pt x="168" y="91"/>
                    </a:lnTo>
                    <a:lnTo>
                      <a:pt x="195" y="75"/>
                    </a:lnTo>
                    <a:lnTo>
                      <a:pt x="224" y="62"/>
                    </a:lnTo>
                    <a:lnTo>
                      <a:pt x="253" y="51"/>
                    </a:lnTo>
                    <a:lnTo>
                      <a:pt x="282" y="40"/>
                    </a:lnTo>
                    <a:lnTo>
                      <a:pt x="313" y="32"/>
                    </a:lnTo>
                    <a:lnTo>
                      <a:pt x="344" y="25"/>
                    </a:lnTo>
                    <a:lnTo>
                      <a:pt x="377" y="21"/>
                    </a:lnTo>
                    <a:lnTo>
                      <a:pt x="410" y="18"/>
                    </a:lnTo>
                    <a:lnTo>
                      <a:pt x="442" y="17"/>
                    </a:lnTo>
                    <a:lnTo>
                      <a:pt x="467" y="17"/>
                    </a:lnTo>
                    <a:lnTo>
                      <a:pt x="492" y="19"/>
                    </a:lnTo>
                    <a:lnTo>
                      <a:pt x="515" y="21"/>
                    </a:lnTo>
                    <a:lnTo>
                      <a:pt x="539" y="25"/>
                    </a:lnTo>
                    <a:lnTo>
                      <a:pt x="562" y="30"/>
                    </a:lnTo>
                    <a:lnTo>
                      <a:pt x="584" y="36"/>
                    </a:lnTo>
                    <a:lnTo>
                      <a:pt x="607" y="42"/>
                    </a:lnTo>
                    <a:lnTo>
                      <a:pt x="629" y="50"/>
                    </a:lnTo>
                    <a:lnTo>
                      <a:pt x="618" y="28"/>
                    </a:lnTo>
                    <a:close/>
                    <a:moveTo>
                      <a:pt x="438" y="1139"/>
                    </a:moveTo>
                    <a:lnTo>
                      <a:pt x="439" y="1139"/>
                    </a:lnTo>
                    <a:lnTo>
                      <a:pt x="439" y="1139"/>
                    </a:lnTo>
                    <a:lnTo>
                      <a:pt x="440" y="1139"/>
                    </a:lnTo>
                    <a:lnTo>
                      <a:pt x="440" y="1139"/>
                    </a:lnTo>
                    <a:lnTo>
                      <a:pt x="441" y="1139"/>
                    </a:lnTo>
                    <a:lnTo>
                      <a:pt x="441" y="1139"/>
                    </a:lnTo>
                    <a:lnTo>
                      <a:pt x="442" y="1139"/>
                    </a:lnTo>
                    <a:lnTo>
                      <a:pt x="442" y="1139"/>
                    </a:lnTo>
                    <a:lnTo>
                      <a:pt x="467" y="1138"/>
                    </a:lnTo>
                    <a:lnTo>
                      <a:pt x="492" y="1137"/>
                    </a:lnTo>
                    <a:lnTo>
                      <a:pt x="515" y="1134"/>
                    </a:lnTo>
                    <a:lnTo>
                      <a:pt x="539" y="1131"/>
                    </a:lnTo>
                    <a:lnTo>
                      <a:pt x="562" y="1127"/>
                    </a:lnTo>
                    <a:lnTo>
                      <a:pt x="584" y="1122"/>
                    </a:lnTo>
                    <a:lnTo>
                      <a:pt x="607" y="1115"/>
                    </a:lnTo>
                    <a:lnTo>
                      <a:pt x="629" y="1108"/>
                    </a:lnTo>
                    <a:lnTo>
                      <a:pt x="651" y="1100"/>
                    </a:lnTo>
                    <a:lnTo>
                      <a:pt x="672" y="1091"/>
                    </a:lnTo>
                    <a:lnTo>
                      <a:pt x="693" y="1082"/>
                    </a:lnTo>
                    <a:lnTo>
                      <a:pt x="713" y="1071"/>
                    </a:lnTo>
                    <a:lnTo>
                      <a:pt x="733" y="1060"/>
                    </a:lnTo>
                    <a:lnTo>
                      <a:pt x="752" y="1047"/>
                    </a:lnTo>
                    <a:lnTo>
                      <a:pt x="771" y="1034"/>
                    </a:lnTo>
                    <a:lnTo>
                      <a:pt x="790" y="1021"/>
                    </a:lnTo>
                    <a:lnTo>
                      <a:pt x="808" y="1007"/>
                    </a:lnTo>
                    <a:lnTo>
                      <a:pt x="825" y="992"/>
                    </a:lnTo>
                    <a:lnTo>
                      <a:pt x="842" y="977"/>
                    </a:lnTo>
                    <a:lnTo>
                      <a:pt x="857" y="960"/>
                    </a:lnTo>
                    <a:lnTo>
                      <a:pt x="872" y="943"/>
                    </a:lnTo>
                    <a:lnTo>
                      <a:pt x="887" y="926"/>
                    </a:lnTo>
                    <a:lnTo>
                      <a:pt x="902" y="908"/>
                    </a:lnTo>
                    <a:lnTo>
                      <a:pt x="914" y="890"/>
                    </a:lnTo>
                    <a:lnTo>
                      <a:pt x="927" y="871"/>
                    </a:lnTo>
                    <a:lnTo>
                      <a:pt x="938" y="851"/>
                    </a:lnTo>
                    <a:lnTo>
                      <a:pt x="949" y="831"/>
                    </a:lnTo>
                    <a:lnTo>
                      <a:pt x="959" y="810"/>
                    </a:lnTo>
                    <a:lnTo>
                      <a:pt x="969" y="789"/>
                    </a:lnTo>
                    <a:lnTo>
                      <a:pt x="977" y="768"/>
                    </a:lnTo>
                    <a:lnTo>
                      <a:pt x="985" y="746"/>
                    </a:lnTo>
                    <a:lnTo>
                      <a:pt x="992" y="724"/>
                    </a:lnTo>
                    <a:lnTo>
                      <a:pt x="979" y="705"/>
                    </a:lnTo>
                    <a:lnTo>
                      <a:pt x="973" y="727"/>
                    </a:lnTo>
                    <a:lnTo>
                      <a:pt x="966" y="749"/>
                    </a:lnTo>
                    <a:lnTo>
                      <a:pt x="958" y="771"/>
                    </a:lnTo>
                    <a:lnTo>
                      <a:pt x="950" y="792"/>
                    </a:lnTo>
                    <a:lnTo>
                      <a:pt x="939" y="813"/>
                    </a:lnTo>
                    <a:lnTo>
                      <a:pt x="929" y="833"/>
                    </a:lnTo>
                    <a:lnTo>
                      <a:pt x="918" y="852"/>
                    </a:lnTo>
                    <a:lnTo>
                      <a:pt x="906" y="872"/>
                    </a:lnTo>
                    <a:lnTo>
                      <a:pt x="893" y="890"/>
                    </a:lnTo>
                    <a:lnTo>
                      <a:pt x="881" y="908"/>
                    </a:lnTo>
                    <a:lnTo>
                      <a:pt x="866" y="925"/>
                    </a:lnTo>
                    <a:lnTo>
                      <a:pt x="851" y="942"/>
                    </a:lnTo>
                    <a:lnTo>
                      <a:pt x="835" y="959"/>
                    </a:lnTo>
                    <a:lnTo>
                      <a:pt x="820" y="975"/>
                    </a:lnTo>
                    <a:lnTo>
                      <a:pt x="803" y="989"/>
                    </a:lnTo>
                    <a:lnTo>
                      <a:pt x="785" y="1004"/>
                    </a:lnTo>
                    <a:lnTo>
                      <a:pt x="767" y="1018"/>
                    </a:lnTo>
                    <a:lnTo>
                      <a:pt x="749" y="1030"/>
                    </a:lnTo>
                    <a:lnTo>
                      <a:pt x="730" y="1042"/>
                    </a:lnTo>
                    <a:lnTo>
                      <a:pt x="710" y="1053"/>
                    </a:lnTo>
                    <a:lnTo>
                      <a:pt x="690" y="1064"/>
                    </a:lnTo>
                    <a:lnTo>
                      <a:pt x="669" y="1074"/>
                    </a:lnTo>
                    <a:lnTo>
                      <a:pt x="648" y="1083"/>
                    </a:lnTo>
                    <a:lnTo>
                      <a:pt x="627" y="1091"/>
                    </a:lnTo>
                    <a:lnTo>
                      <a:pt x="605" y="1099"/>
                    </a:lnTo>
                    <a:lnTo>
                      <a:pt x="583" y="1105"/>
                    </a:lnTo>
                    <a:lnTo>
                      <a:pt x="560" y="1110"/>
                    </a:lnTo>
                    <a:lnTo>
                      <a:pt x="538" y="1114"/>
                    </a:lnTo>
                    <a:lnTo>
                      <a:pt x="514" y="1117"/>
                    </a:lnTo>
                    <a:lnTo>
                      <a:pt x="491" y="1121"/>
                    </a:lnTo>
                    <a:lnTo>
                      <a:pt x="466" y="1122"/>
                    </a:lnTo>
                    <a:lnTo>
                      <a:pt x="442" y="1123"/>
                    </a:lnTo>
                    <a:lnTo>
                      <a:pt x="441" y="1123"/>
                    </a:lnTo>
                    <a:lnTo>
                      <a:pt x="439" y="1123"/>
                    </a:lnTo>
                    <a:lnTo>
                      <a:pt x="438" y="1123"/>
                    </a:lnTo>
                    <a:lnTo>
                      <a:pt x="436" y="1123"/>
                    </a:lnTo>
                    <a:lnTo>
                      <a:pt x="435" y="1123"/>
                    </a:lnTo>
                    <a:lnTo>
                      <a:pt x="433" y="1123"/>
                    </a:lnTo>
                    <a:lnTo>
                      <a:pt x="432" y="1123"/>
                    </a:lnTo>
                    <a:lnTo>
                      <a:pt x="430" y="1123"/>
                    </a:lnTo>
                    <a:lnTo>
                      <a:pt x="438" y="113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878440" y="2519280"/>
                <a:ext cx="311400" cy="357120"/>
              </a:xfrm>
              <a:custGeom>
                <a:avLst/>
                <a:gdLst/>
                <a:ahLst/>
                <a:rect l="l" t="t" r="r" b="b"/>
                <a:pathLst>
                  <a:path w="983" h="1122">
                    <a:moveTo>
                      <a:pt x="620" y="29"/>
                    </a:moveTo>
                    <a:lnTo>
                      <a:pt x="599" y="23"/>
                    </a:lnTo>
                    <a:lnTo>
                      <a:pt x="577" y="16"/>
                    </a:lnTo>
                    <a:lnTo>
                      <a:pt x="555" y="11"/>
                    </a:lnTo>
                    <a:lnTo>
                      <a:pt x="533" y="7"/>
                    </a:lnTo>
                    <a:lnTo>
                      <a:pt x="510" y="4"/>
                    </a:lnTo>
                    <a:lnTo>
                      <a:pt x="487" y="2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07" y="1"/>
                    </a:lnTo>
                    <a:lnTo>
                      <a:pt x="374" y="4"/>
                    </a:lnTo>
                    <a:lnTo>
                      <a:pt x="341" y="8"/>
                    </a:lnTo>
                    <a:lnTo>
                      <a:pt x="310" y="14"/>
                    </a:lnTo>
                    <a:lnTo>
                      <a:pt x="279" y="23"/>
                    </a:lnTo>
                    <a:lnTo>
                      <a:pt x="249" y="33"/>
                    </a:lnTo>
                    <a:lnTo>
                      <a:pt x="220" y="45"/>
                    </a:lnTo>
                    <a:lnTo>
                      <a:pt x="191" y="57"/>
                    </a:lnTo>
                    <a:lnTo>
                      <a:pt x="164" y="72"/>
                    </a:lnTo>
                    <a:lnTo>
                      <a:pt x="137" y="88"/>
                    </a:lnTo>
                    <a:lnTo>
                      <a:pt x="111" y="106"/>
                    </a:lnTo>
                    <a:lnTo>
                      <a:pt x="86" y="125"/>
                    </a:lnTo>
                    <a:lnTo>
                      <a:pt x="63" y="145"/>
                    </a:lnTo>
                    <a:lnTo>
                      <a:pt x="41" y="166"/>
                    </a:lnTo>
                    <a:lnTo>
                      <a:pt x="20" y="189"/>
                    </a:lnTo>
                    <a:lnTo>
                      <a:pt x="0" y="212"/>
                    </a:lnTo>
                    <a:lnTo>
                      <a:pt x="5" y="233"/>
                    </a:lnTo>
                    <a:lnTo>
                      <a:pt x="24" y="209"/>
                    </a:lnTo>
                    <a:lnTo>
                      <a:pt x="45" y="185"/>
                    </a:lnTo>
                    <a:lnTo>
                      <a:pt x="66" y="163"/>
                    </a:lnTo>
                    <a:lnTo>
                      <a:pt x="89" y="143"/>
                    </a:lnTo>
                    <a:lnTo>
                      <a:pt x="114" y="125"/>
                    </a:lnTo>
                    <a:lnTo>
                      <a:pt x="140" y="107"/>
                    </a:lnTo>
                    <a:lnTo>
                      <a:pt x="166" y="90"/>
                    </a:lnTo>
                    <a:lnTo>
                      <a:pt x="193" y="75"/>
                    </a:lnTo>
                    <a:lnTo>
                      <a:pt x="221" y="62"/>
                    </a:lnTo>
                    <a:lnTo>
                      <a:pt x="250" y="50"/>
                    </a:lnTo>
                    <a:lnTo>
                      <a:pt x="281" y="41"/>
                    </a:lnTo>
                    <a:lnTo>
                      <a:pt x="311" y="32"/>
                    </a:lnTo>
                    <a:lnTo>
                      <a:pt x="343" y="25"/>
                    </a:lnTo>
                    <a:lnTo>
                      <a:pt x="374" y="21"/>
                    </a:lnTo>
                    <a:lnTo>
                      <a:pt x="407" y="17"/>
                    </a:lnTo>
                    <a:lnTo>
                      <a:pt x="439" y="16"/>
                    </a:lnTo>
                    <a:lnTo>
                      <a:pt x="464" y="17"/>
                    </a:lnTo>
                    <a:lnTo>
                      <a:pt x="490" y="19"/>
                    </a:lnTo>
                    <a:lnTo>
                      <a:pt x="514" y="22"/>
                    </a:lnTo>
                    <a:lnTo>
                      <a:pt x="538" y="26"/>
                    </a:lnTo>
                    <a:lnTo>
                      <a:pt x="562" y="30"/>
                    </a:lnTo>
                    <a:lnTo>
                      <a:pt x="585" y="36"/>
                    </a:lnTo>
                    <a:lnTo>
                      <a:pt x="608" y="44"/>
                    </a:lnTo>
                    <a:lnTo>
                      <a:pt x="632" y="51"/>
                    </a:lnTo>
                    <a:lnTo>
                      <a:pt x="631" y="48"/>
                    </a:lnTo>
                    <a:lnTo>
                      <a:pt x="620" y="29"/>
                    </a:lnTo>
                    <a:close/>
                    <a:moveTo>
                      <a:pt x="431" y="1122"/>
                    </a:moveTo>
                    <a:lnTo>
                      <a:pt x="432" y="1122"/>
                    </a:lnTo>
                    <a:lnTo>
                      <a:pt x="433" y="1122"/>
                    </a:lnTo>
                    <a:lnTo>
                      <a:pt x="434" y="1122"/>
                    </a:lnTo>
                    <a:lnTo>
                      <a:pt x="435" y="1122"/>
                    </a:lnTo>
                    <a:lnTo>
                      <a:pt x="436" y="1122"/>
                    </a:lnTo>
                    <a:lnTo>
                      <a:pt x="437" y="1122"/>
                    </a:lnTo>
                    <a:lnTo>
                      <a:pt x="438" y="1122"/>
                    </a:lnTo>
                    <a:lnTo>
                      <a:pt x="439" y="1122"/>
                    </a:lnTo>
                    <a:lnTo>
                      <a:pt x="463" y="1121"/>
                    </a:lnTo>
                    <a:lnTo>
                      <a:pt x="488" y="1120"/>
                    </a:lnTo>
                    <a:lnTo>
                      <a:pt x="512" y="1117"/>
                    </a:lnTo>
                    <a:lnTo>
                      <a:pt x="535" y="1114"/>
                    </a:lnTo>
                    <a:lnTo>
                      <a:pt x="558" y="1109"/>
                    </a:lnTo>
                    <a:lnTo>
                      <a:pt x="581" y="1104"/>
                    </a:lnTo>
                    <a:lnTo>
                      <a:pt x="603" y="1098"/>
                    </a:lnTo>
                    <a:lnTo>
                      <a:pt x="625" y="1091"/>
                    </a:lnTo>
                    <a:lnTo>
                      <a:pt x="646" y="1082"/>
                    </a:lnTo>
                    <a:lnTo>
                      <a:pt x="668" y="1074"/>
                    </a:lnTo>
                    <a:lnTo>
                      <a:pt x="688" y="1063"/>
                    </a:lnTo>
                    <a:lnTo>
                      <a:pt x="709" y="1053"/>
                    </a:lnTo>
                    <a:lnTo>
                      <a:pt x="728" y="1042"/>
                    </a:lnTo>
                    <a:lnTo>
                      <a:pt x="748" y="1030"/>
                    </a:lnTo>
                    <a:lnTo>
                      <a:pt x="766" y="1017"/>
                    </a:lnTo>
                    <a:lnTo>
                      <a:pt x="785" y="1003"/>
                    </a:lnTo>
                    <a:lnTo>
                      <a:pt x="802" y="989"/>
                    </a:lnTo>
                    <a:lnTo>
                      <a:pt x="819" y="974"/>
                    </a:lnTo>
                    <a:lnTo>
                      <a:pt x="836" y="958"/>
                    </a:lnTo>
                    <a:lnTo>
                      <a:pt x="851" y="943"/>
                    </a:lnTo>
                    <a:lnTo>
                      <a:pt x="866" y="926"/>
                    </a:lnTo>
                    <a:lnTo>
                      <a:pt x="881" y="908"/>
                    </a:lnTo>
                    <a:lnTo>
                      <a:pt x="894" y="890"/>
                    </a:lnTo>
                    <a:lnTo>
                      <a:pt x="907" y="871"/>
                    </a:lnTo>
                    <a:lnTo>
                      <a:pt x="920" y="852"/>
                    </a:lnTo>
                    <a:lnTo>
                      <a:pt x="931" y="832"/>
                    </a:lnTo>
                    <a:lnTo>
                      <a:pt x="942" y="812"/>
                    </a:lnTo>
                    <a:lnTo>
                      <a:pt x="951" y="791"/>
                    </a:lnTo>
                    <a:lnTo>
                      <a:pt x="961" y="770"/>
                    </a:lnTo>
                    <a:lnTo>
                      <a:pt x="969" y="749"/>
                    </a:lnTo>
                    <a:lnTo>
                      <a:pt x="976" y="727"/>
                    </a:lnTo>
                    <a:lnTo>
                      <a:pt x="983" y="705"/>
                    </a:lnTo>
                    <a:lnTo>
                      <a:pt x="970" y="686"/>
                    </a:lnTo>
                    <a:lnTo>
                      <a:pt x="964" y="708"/>
                    </a:lnTo>
                    <a:lnTo>
                      <a:pt x="957" y="730"/>
                    </a:lnTo>
                    <a:lnTo>
                      <a:pt x="950" y="752"/>
                    </a:lnTo>
                    <a:lnTo>
                      <a:pt x="942" y="773"/>
                    </a:lnTo>
                    <a:lnTo>
                      <a:pt x="932" y="794"/>
                    </a:lnTo>
                    <a:lnTo>
                      <a:pt x="922" y="814"/>
                    </a:lnTo>
                    <a:lnTo>
                      <a:pt x="911" y="834"/>
                    </a:lnTo>
                    <a:lnTo>
                      <a:pt x="900" y="853"/>
                    </a:lnTo>
                    <a:lnTo>
                      <a:pt x="887" y="872"/>
                    </a:lnTo>
                    <a:lnTo>
                      <a:pt x="873" y="890"/>
                    </a:lnTo>
                    <a:lnTo>
                      <a:pt x="860" y="908"/>
                    </a:lnTo>
                    <a:lnTo>
                      <a:pt x="845" y="925"/>
                    </a:lnTo>
                    <a:lnTo>
                      <a:pt x="829" y="940"/>
                    </a:lnTo>
                    <a:lnTo>
                      <a:pt x="813" y="956"/>
                    </a:lnTo>
                    <a:lnTo>
                      <a:pt x="797" y="972"/>
                    </a:lnTo>
                    <a:lnTo>
                      <a:pt x="780" y="986"/>
                    </a:lnTo>
                    <a:lnTo>
                      <a:pt x="762" y="999"/>
                    </a:lnTo>
                    <a:lnTo>
                      <a:pt x="744" y="1012"/>
                    </a:lnTo>
                    <a:lnTo>
                      <a:pt x="725" y="1024"/>
                    </a:lnTo>
                    <a:lnTo>
                      <a:pt x="705" y="1036"/>
                    </a:lnTo>
                    <a:lnTo>
                      <a:pt x="685" y="1046"/>
                    </a:lnTo>
                    <a:lnTo>
                      <a:pt x="665" y="1056"/>
                    </a:lnTo>
                    <a:lnTo>
                      <a:pt x="644" y="1065"/>
                    </a:lnTo>
                    <a:lnTo>
                      <a:pt x="623" y="1074"/>
                    </a:lnTo>
                    <a:lnTo>
                      <a:pt x="601" y="1081"/>
                    </a:lnTo>
                    <a:lnTo>
                      <a:pt x="579" y="1087"/>
                    </a:lnTo>
                    <a:lnTo>
                      <a:pt x="557" y="1093"/>
                    </a:lnTo>
                    <a:lnTo>
                      <a:pt x="534" y="1097"/>
                    </a:lnTo>
                    <a:lnTo>
                      <a:pt x="511" y="1100"/>
                    </a:lnTo>
                    <a:lnTo>
                      <a:pt x="488" y="1103"/>
                    </a:lnTo>
                    <a:lnTo>
                      <a:pt x="463" y="1104"/>
                    </a:lnTo>
                    <a:lnTo>
                      <a:pt x="439" y="1105"/>
                    </a:lnTo>
                    <a:lnTo>
                      <a:pt x="437" y="1105"/>
                    </a:lnTo>
                    <a:lnTo>
                      <a:pt x="435" y="1105"/>
                    </a:lnTo>
                    <a:lnTo>
                      <a:pt x="433" y="1105"/>
                    </a:lnTo>
                    <a:lnTo>
                      <a:pt x="431" y="1105"/>
                    </a:lnTo>
                    <a:lnTo>
                      <a:pt x="429" y="1105"/>
                    </a:lnTo>
                    <a:lnTo>
                      <a:pt x="427" y="1105"/>
                    </a:lnTo>
                    <a:lnTo>
                      <a:pt x="425" y="1105"/>
                    </a:lnTo>
                    <a:lnTo>
                      <a:pt x="422" y="1104"/>
                    </a:lnTo>
                    <a:lnTo>
                      <a:pt x="431" y="112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878440" y="2522520"/>
                <a:ext cx="309600" cy="351000"/>
              </a:xfrm>
              <a:custGeom>
                <a:avLst/>
                <a:gdLst/>
                <a:ahLst/>
                <a:rect l="l" t="t" r="r" b="b"/>
                <a:pathLst>
                  <a:path w="974" h="1106">
                    <a:moveTo>
                      <a:pt x="624" y="33"/>
                    </a:moveTo>
                    <a:lnTo>
                      <a:pt x="602" y="25"/>
                    </a:lnTo>
                    <a:lnTo>
                      <a:pt x="579" y="19"/>
                    </a:lnTo>
                    <a:lnTo>
                      <a:pt x="557" y="13"/>
                    </a:lnTo>
                    <a:lnTo>
                      <a:pt x="534" y="8"/>
                    </a:lnTo>
                    <a:lnTo>
                      <a:pt x="510" y="4"/>
                    </a:lnTo>
                    <a:lnTo>
                      <a:pt x="487" y="2"/>
                    </a:lnTo>
                    <a:lnTo>
                      <a:pt x="462" y="0"/>
                    </a:lnTo>
                    <a:lnTo>
                      <a:pt x="437" y="0"/>
                    </a:lnTo>
                    <a:lnTo>
                      <a:pt x="405" y="1"/>
                    </a:lnTo>
                    <a:lnTo>
                      <a:pt x="372" y="4"/>
                    </a:lnTo>
                    <a:lnTo>
                      <a:pt x="339" y="8"/>
                    </a:lnTo>
                    <a:lnTo>
                      <a:pt x="308" y="15"/>
                    </a:lnTo>
                    <a:lnTo>
                      <a:pt x="277" y="23"/>
                    </a:lnTo>
                    <a:lnTo>
                      <a:pt x="248" y="34"/>
                    </a:lnTo>
                    <a:lnTo>
                      <a:pt x="219" y="45"/>
                    </a:lnTo>
                    <a:lnTo>
                      <a:pt x="190" y="58"/>
                    </a:lnTo>
                    <a:lnTo>
                      <a:pt x="163" y="74"/>
                    </a:lnTo>
                    <a:lnTo>
                      <a:pt x="137" y="89"/>
                    </a:lnTo>
                    <a:lnTo>
                      <a:pt x="110" y="107"/>
                    </a:lnTo>
                    <a:lnTo>
                      <a:pt x="86" y="126"/>
                    </a:lnTo>
                    <a:lnTo>
                      <a:pt x="63" y="146"/>
                    </a:lnTo>
                    <a:lnTo>
                      <a:pt x="41" y="168"/>
                    </a:lnTo>
                    <a:lnTo>
                      <a:pt x="20" y="190"/>
                    </a:lnTo>
                    <a:lnTo>
                      <a:pt x="0" y="214"/>
                    </a:lnTo>
                    <a:lnTo>
                      <a:pt x="5" y="235"/>
                    </a:lnTo>
                    <a:lnTo>
                      <a:pt x="24" y="211"/>
                    </a:lnTo>
                    <a:lnTo>
                      <a:pt x="45" y="188"/>
                    </a:lnTo>
                    <a:lnTo>
                      <a:pt x="66" y="166"/>
                    </a:lnTo>
                    <a:lnTo>
                      <a:pt x="89" y="145"/>
                    </a:lnTo>
                    <a:lnTo>
                      <a:pt x="113" y="126"/>
                    </a:lnTo>
                    <a:lnTo>
                      <a:pt x="139" y="108"/>
                    </a:lnTo>
                    <a:lnTo>
                      <a:pt x="165" y="91"/>
                    </a:lnTo>
                    <a:lnTo>
                      <a:pt x="192" y="77"/>
                    </a:lnTo>
                    <a:lnTo>
                      <a:pt x="220" y="63"/>
                    </a:lnTo>
                    <a:lnTo>
                      <a:pt x="249" y="50"/>
                    </a:lnTo>
                    <a:lnTo>
                      <a:pt x="279" y="41"/>
                    </a:lnTo>
                    <a:lnTo>
                      <a:pt x="309" y="33"/>
                    </a:lnTo>
                    <a:lnTo>
                      <a:pt x="341" y="25"/>
                    </a:lnTo>
                    <a:lnTo>
                      <a:pt x="372" y="21"/>
                    </a:lnTo>
                    <a:lnTo>
                      <a:pt x="405" y="18"/>
                    </a:lnTo>
                    <a:lnTo>
                      <a:pt x="437" y="17"/>
                    </a:lnTo>
                    <a:lnTo>
                      <a:pt x="464" y="17"/>
                    </a:lnTo>
                    <a:lnTo>
                      <a:pt x="489" y="19"/>
                    </a:lnTo>
                    <a:lnTo>
                      <a:pt x="514" y="22"/>
                    </a:lnTo>
                    <a:lnTo>
                      <a:pt x="538" y="26"/>
                    </a:lnTo>
                    <a:lnTo>
                      <a:pt x="562" y="32"/>
                    </a:lnTo>
                    <a:lnTo>
                      <a:pt x="587" y="38"/>
                    </a:lnTo>
                    <a:lnTo>
                      <a:pt x="610" y="45"/>
                    </a:lnTo>
                    <a:lnTo>
                      <a:pt x="633" y="54"/>
                    </a:lnTo>
                    <a:lnTo>
                      <a:pt x="629" y="40"/>
                    </a:lnTo>
                    <a:lnTo>
                      <a:pt x="624" y="33"/>
                    </a:lnTo>
                    <a:close/>
                    <a:moveTo>
                      <a:pt x="425" y="1106"/>
                    </a:moveTo>
                    <a:lnTo>
                      <a:pt x="427" y="1106"/>
                    </a:lnTo>
                    <a:lnTo>
                      <a:pt x="428" y="1106"/>
                    </a:lnTo>
                    <a:lnTo>
                      <a:pt x="430" y="1106"/>
                    </a:lnTo>
                    <a:lnTo>
                      <a:pt x="431" y="1106"/>
                    </a:lnTo>
                    <a:lnTo>
                      <a:pt x="433" y="1106"/>
                    </a:lnTo>
                    <a:lnTo>
                      <a:pt x="434" y="1106"/>
                    </a:lnTo>
                    <a:lnTo>
                      <a:pt x="436" y="1106"/>
                    </a:lnTo>
                    <a:lnTo>
                      <a:pt x="437" y="1106"/>
                    </a:lnTo>
                    <a:lnTo>
                      <a:pt x="461" y="1105"/>
                    </a:lnTo>
                    <a:lnTo>
                      <a:pt x="486" y="1104"/>
                    </a:lnTo>
                    <a:lnTo>
                      <a:pt x="509" y="1100"/>
                    </a:lnTo>
                    <a:lnTo>
                      <a:pt x="533" y="1097"/>
                    </a:lnTo>
                    <a:lnTo>
                      <a:pt x="555" y="1093"/>
                    </a:lnTo>
                    <a:lnTo>
                      <a:pt x="578" y="1088"/>
                    </a:lnTo>
                    <a:lnTo>
                      <a:pt x="600" y="1082"/>
                    </a:lnTo>
                    <a:lnTo>
                      <a:pt x="622" y="1074"/>
                    </a:lnTo>
                    <a:lnTo>
                      <a:pt x="643" y="1066"/>
                    </a:lnTo>
                    <a:lnTo>
                      <a:pt x="664" y="1057"/>
                    </a:lnTo>
                    <a:lnTo>
                      <a:pt x="685" y="1047"/>
                    </a:lnTo>
                    <a:lnTo>
                      <a:pt x="705" y="1036"/>
                    </a:lnTo>
                    <a:lnTo>
                      <a:pt x="725" y="1025"/>
                    </a:lnTo>
                    <a:lnTo>
                      <a:pt x="744" y="1013"/>
                    </a:lnTo>
                    <a:lnTo>
                      <a:pt x="762" y="1001"/>
                    </a:lnTo>
                    <a:lnTo>
                      <a:pt x="780" y="987"/>
                    </a:lnTo>
                    <a:lnTo>
                      <a:pt x="798" y="972"/>
                    </a:lnTo>
                    <a:lnTo>
                      <a:pt x="815" y="958"/>
                    </a:lnTo>
                    <a:lnTo>
                      <a:pt x="830" y="942"/>
                    </a:lnTo>
                    <a:lnTo>
                      <a:pt x="846" y="925"/>
                    </a:lnTo>
                    <a:lnTo>
                      <a:pt x="861" y="908"/>
                    </a:lnTo>
                    <a:lnTo>
                      <a:pt x="876" y="891"/>
                    </a:lnTo>
                    <a:lnTo>
                      <a:pt x="888" y="873"/>
                    </a:lnTo>
                    <a:lnTo>
                      <a:pt x="901" y="855"/>
                    </a:lnTo>
                    <a:lnTo>
                      <a:pt x="913" y="835"/>
                    </a:lnTo>
                    <a:lnTo>
                      <a:pt x="924" y="816"/>
                    </a:lnTo>
                    <a:lnTo>
                      <a:pt x="934" y="796"/>
                    </a:lnTo>
                    <a:lnTo>
                      <a:pt x="945" y="775"/>
                    </a:lnTo>
                    <a:lnTo>
                      <a:pt x="953" y="754"/>
                    </a:lnTo>
                    <a:lnTo>
                      <a:pt x="961" y="732"/>
                    </a:lnTo>
                    <a:lnTo>
                      <a:pt x="968" y="710"/>
                    </a:lnTo>
                    <a:lnTo>
                      <a:pt x="974" y="688"/>
                    </a:lnTo>
                    <a:lnTo>
                      <a:pt x="962" y="669"/>
                    </a:lnTo>
                    <a:lnTo>
                      <a:pt x="955" y="691"/>
                    </a:lnTo>
                    <a:lnTo>
                      <a:pt x="949" y="713"/>
                    </a:lnTo>
                    <a:lnTo>
                      <a:pt x="942" y="735"/>
                    </a:lnTo>
                    <a:lnTo>
                      <a:pt x="934" y="756"/>
                    </a:lnTo>
                    <a:lnTo>
                      <a:pt x="925" y="777"/>
                    </a:lnTo>
                    <a:lnTo>
                      <a:pt x="916" y="797"/>
                    </a:lnTo>
                    <a:lnTo>
                      <a:pt x="905" y="817"/>
                    </a:lnTo>
                    <a:lnTo>
                      <a:pt x="893" y="836"/>
                    </a:lnTo>
                    <a:lnTo>
                      <a:pt x="881" y="855"/>
                    </a:lnTo>
                    <a:lnTo>
                      <a:pt x="868" y="873"/>
                    </a:lnTo>
                    <a:lnTo>
                      <a:pt x="855" y="890"/>
                    </a:lnTo>
                    <a:lnTo>
                      <a:pt x="840" y="907"/>
                    </a:lnTo>
                    <a:lnTo>
                      <a:pt x="825" y="924"/>
                    </a:lnTo>
                    <a:lnTo>
                      <a:pt x="809" y="940"/>
                    </a:lnTo>
                    <a:lnTo>
                      <a:pt x="793" y="954"/>
                    </a:lnTo>
                    <a:lnTo>
                      <a:pt x="776" y="969"/>
                    </a:lnTo>
                    <a:lnTo>
                      <a:pt x="758" y="983"/>
                    </a:lnTo>
                    <a:lnTo>
                      <a:pt x="740" y="995"/>
                    </a:lnTo>
                    <a:lnTo>
                      <a:pt x="721" y="1008"/>
                    </a:lnTo>
                    <a:lnTo>
                      <a:pt x="702" y="1020"/>
                    </a:lnTo>
                    <a:lnTo>
                      <a:pt x="682" y="1030"/>
                    </a:lnTo>
                    <a:lnTo>
                      <a:pt x="662" y="1040"/>
                    </a:lnTo>
                    <a:lnTo>
                      <a:pt x="641" y="1049"/>
                    </a:lnTo>
                    <a:lnTo>
                      <a:pt x="620" y="1056"/>
                    </a:lnTo>
                    <a:lnTo>
                      <a:pt x="598" y="1064"/>
                    </a:lnTo>
                    <a:lnTo>
                      <a:pt x="577" y="1070"/>
                    </a:lnTo>
                    <a:lnTo>
                      <a:pt x="554" y="1076"/>
                    </a:lnTo>
                    <a:lnTo>
                      <a:pt x="532" y="1080"/>
                    </a:lnTo>
                    <a:lnTo>
                      <a:pt x="509" y="1084"/>
                    </a:lnTo>
                    <a:lnTo>
                      <a:pt x="486" y="1087"/>
                    </a:lnTo>
                    <a:lnTo>
                      <a:pt x="461" y="1088"/>
                    </a:lnTo>
                    <a:lnTo>
                      <a:pt x="437" y="1089"/>
                    </a:lnTo>
                    <a:lnTo>
                      <a:pt x="435" y="1089"/>
                    </a:lnTo>
                    <a:lnTo>
                      <a:pt x="432" y="1089"/>
                    </a:lnTo>
                    <a:lnTo>
                      <a:pt x="430" y="1089"/>
                    </a:lnTo>
                    <a:lnTo>
                      <a:pt x="427" y="1089"/>
                    </a:lnTo>
                    <a:lnTo>
                      <a:pt x="424" y="1089"/>
                    </a:lnTo>
                    <a:lnTo>
                      <a:pt x="421" y="1089"/>
                    </a:lnTo>
                    <a:lnTo>
                      <a:pt x="418" y="1088"/>
                    </a:lnTo>
                    <a:lnTo>
                      <a:pt x="416" y="1088"/>
                    </a:lnTo>
                    <a:lnTo>
                      <a:pt x="425" y="110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880240" y="2523960"/>
                <a:ext cx="306360" cy="346320"/>
              </a:xfrm>
              <a:custGeom>
                <a:avLst/>
                <a:gdLst/>
                <a:ahLst/>
                <a:rect l="l" t="t" r="r" b="b"/>
                <a:pathLst>
                  <a:path w="965" h="1089">
                    <a:moveTo>
                      <a:pt x="627" y="35"/>
                    </a:moveTo>
                    <a:lnTo>
                      <a:pt x="603" y="28"/>
                    </a:lnTo>
                    <a:lnTo>
                      <a:pt x="580" y="20"/>
                    </a:lnTo>
                    <a:lnTo>
                      <a:pt x="557" y="14"/>
                    </a:lnTo>
                    <a:lnTo>
                      <a:pt x="533" y="10"/>
                    </a:lnTo>
                    <a:lnTo>
                      <a:pt x="509" y="6"/>
                    </a:lnTo>
                    <a:lnTo>
                      <a:pt x="485" y="3"/>
                    </a:lnTo>
                    <a:lnTo>
                      <a:pt x="459" y="1"/>
                    </a:lnTo>
                    <a:lnTo>
                      <a:pt x="434" y="0"/>
                    </a:lnTo>
                    <a:lnTo>
                      <a:pt x="402" y="1"/>
                    </a:lnTo>
                    <a:lnTo>
                      <a:pt x="369" y="5"/>
                    </a:lnTo>
                    <a:lnTo>
                      <a:pt x="338" y="9"/>
                    </a:lnTo>
                    <a:lnTo>
                      <a:pt x="306" y="16"/>
                    </a:lnTo>
                    <a:lnTo>
                      <a:pt x="276" y="25"/>
                    </a:lnTo>
                    <a:lnTo>
                      <a:pt x="245" y="34"/>
                    </a:lnTo>
                    <a:lnTo>
                      <a:pt x="216" y="46"/>
                    </a:lnTo>
                    <a:lnTo>
                      <a:pt x="188" y="59"/>
                    </a:lnTo>
                    <a:lnTo>
                      <a:pt x="161" y="74"/>
                    </a:lnTo>
                    <a:lnTo>
                      <a:pt x="135" y="91"/>
                    </a:lnTo>
                    <a:lnTo>
                      <a:pt x="109" y="109"/>
                    </a:lnTo>
                    <a:lnTo>
                      <a:pt x="84" y="127"/>
                    </a:lnTo>
                    <a:lnTo>
                      <a:pt x="61" y="147"/>
                    </a:lnTo>
                    <a:lnTo>
                      <a:pt x="40" y="169"/>
                    </a:lnTo>
                    <a:lnTo>
                      <a:pt x="19" y="193"/>
                    </a:lnTo>
                    <a:lnTo>
                      <a:pt x="0" y="217"/>
                    </a:lnTo>
                    <a:lnTo>
                      <a:pt x="3" y="230"/>
                    </a:lnTo>
                    <a:lnTo>
                      <a:pt x="5" y="237"/>
                    </a:lnTo>
                    <a:lnTo>
                      <a:pt x="24" y="213"/>
                    </a:lnTo>
                    <a:lnTo>
                      <a:pt x="44" y="189"/>
                    </a:lnTo>
                    <a:lnTo>
                      <a:pt x="65" y="167"/>
                    </a:lnTo>
                    <a:lnTo>
                      <a:pt x="88" y="146"/>
                    </a:lnTo>
                    <a:lnTo>
                      <a:pt x="112" y="127"/>
                    </a:lnTo>
                    <a:lnTo>
                      <a:pt x="137" y="109"/>
                    </a:lnTo>
                    <a:lnTo>
                      <a:pt x="163" y="93"/>
                    </a:lnTo>
                    <a:lnTo>
                      <a:pt x="189" y="77"/>
                    </a:lnTo>
                    <a:lnTo>
                      <a:pt x="218" y="63"/>
                    </a:lnTo>
                    <a:lnTo>
                      <a:pt x="246" y="52"/>
                    </a:lnTo>
                    <a:lnTo>
                      <a:pt x="277" y="41"/>
                    </a:lnTo>
                    <a:lnTo>
                      <a:pt x="307" y="33"/>
                    </a:lnTo>
                    <a:lnTo>
                      <a:pt x="338" y="26"/>
                    </a:lnTo>
                    <a:lnTo>
                      <a:pt x="369" y="21"/>
                    </a:lnTo>
                    <a:lnTo>
                      <a:pt x="402" y="18"/>
                    </a:lnTo>
                    <a:lnTo>
                      <a:pt x="434" y="17"/>
                    </a:lnTo>
                    <a:lnTo>
                      <a:pt x="461" y="17"/>
                    </a:lnTo>
                    <a:lnTo>
                      <a:pt x="487" y="19"/>
                    </a:lnTo>
                    <a:lnTo>
                      <a:pt x="512" y="22"/>
                    </a:lnTo>
                    <a:lnTo>
                      <a:pt x="537" y="27"/>
                    </a:lnTo>
                    <a:lnTo>
                      <a:pt x="561" y="33"/>
                    </a:lnTo>
                    <a:lnTo>
                      <a:pt x="586" y="39"/>
                    </a:lnTo>
                    <a:lnTo>
                      <a:pt x="610" y="47"/>
                    </a:lnTo>
                    <a:lnTo>
                      <a:pt x="633" y="56"/>
                    </a:lnTo>
                    <a:lnTo>
                      <a:pt x="627" y="35"/>
                    </a:lnTo>
                    <a:close/>
                    <a:moveTo>
                      <a:pt x="417" y="1088"/>
                    </a:moveTo>
                    <a:lnTo>
                      <a:pt x="420" y="1089"/>
                    </a:lnTo>
                    <a:lnTo>
                      <a:pt x="422" y="1089"/>
                    </a:lnTo>
                    <a:lnTo>
                      <a:pt x="424" y="1089"/>
                    </a:lnTo>
                    <a:lnTo>
                      <a:pt x="426" y="1089"/>
                    </a:lnTo>
                    <a:lnTo>
                      <a:pt x="428" y="1089"/>
                    </a:lnTo>
                    <a:lnTo>
                      <a:pt x="430" y="1089"/>
                    </a:lnTo>
                    <a:lnTo>
                      <a:pt x="432" y="1089"/>
                    </a:lnTo>
                    <a:lnTo>
                      <a:pt x="434" y="1089"/>
                    </a:lnTo>
                    <a:lnTo>
                      <a:pt x="458" y="1088"/>
                    </a:lnTo>
                    <a:lnTo>
                      <a:pt x="483" y="1087"/>
                    </a:lnTo>
                    <a:lnTo>
                      <a:pt x="506" y="1084"/>
                    </a:lnTo>
                    <a:lnTo>
                      <a:pt x="529" y="1081"/>
                    </a:lnTo>
                    <a:lnTo>
                      <a:pt x="552" y="1077"/>
                    </a:lnTo>
                    <a:lnTo>
                      <a:pt x="574" y="1071"/>
                    </a:lnTo>
                    <a:lnTo>
                      <a:pt x="596" y="1065"/>
                    </a:lnTo>
                    <a:lnTo>
                      <a:pt x="618" y="1058"/>
                    </a:lnTo>
                    <a:lnTo>
                      <a:pt x="639" y="1049"/>
                    </a:lnTo>
                    <a:lnTo>
                      <a:pt x="660" y="1040"/>
                    </a:lnTo>
                    <a:lnTo>
                      <a:pt x="680" y="1030"/>
                    </a:lnTo>
                    <a:lnTo>
                      <a:pt x="700" y="1020"/>
                    </a:lnTo>
                    <a:lnTo>
                      <a:pt x="720" y="1008"/>
                    </a:lnTo>
                    <a:lnTo>
                      <a:pt x="739" y="996"/>
                    </a:lnTo>
                    <a:lnTo>
                      <a:pt x="757" y="983"/>
                    </a:lnTo>
                    <a:lnTo>
                      <a:pt x="775" y="970"/>
                    </a:lnTo>
                    <a:lnTo>
                      <a:pt x="792" y="956"/>
                    </a:lnTo>
                    <a:lnTo>
                      <a:pt x="808" y="940"/>
                    </a:lnTo>
                    <a:lnTo>
                      <a:pt x="824" y="924"/>
                    </a:lnTo>
                    <a:lnTo>
                      <a:pt x="840" y="909"/>
                    </a:lnTo>
                    <a:lnTo>
                      <a:pt x="855" y="892"/>
                    </a:lnTo>
                    <a:lnTo>
                      <a:pt x="868" y="874"/>
                    </a:lnTo>
                    <a:lnTo>
                      <a:pt x="882" y="856"/>
                    </a:lnTo>
                    <a:lnTo>
                      <a:pt x="895" y="837"/>
                    </a:lnTo>
                    <a:lnTo>
                      <a:pt x="906" y="818"/>
                    </a:lnTo>
                    <a:lnTo>
                      <a:pt x="917" y="798"/>
                    </a:lnTo>
                    <a:lnTo>
                      <a:pt x="927" y="778"/>
                    </a:lnTo>
                    <a:lnTo>
                      <a:pt x="937" y="757"/>
                    </a:lnTo>
                    <a:lnTo>
                      <a:pt x="945" y="736"/>
                    </a:lnTo>
                    <a:lnTo>
                      <a:pt x="952" y="714"/>
                    </a:lnTo>
                    <a:lnTo>
                      <a:pt x="959" y="692"/>
                    </a:lnTo>
                    <a:lnTo>
                      <a:pt x="965" y="670"/>
                    </a:lnTo>
                    <a:lnTo>
                      <a:pt x="952" y="651"/>
                    </a:lnTo>
                    <a:lnTo>
                      <a:pt x="947" y="673"/>
                    </a:lnTo>
                    <a:lnTo>
                      <a:pt x="941" y="696"/>
                    </a:lnTo>
                    <a:lnTo>
                      <a:pt x="934" y="718"/>
                    </a:lnTo>
                    <a:lnTo>
                      <a:pt x="926" y="739"/>
                    </a:lnTo>
                    <a:lnTo>
                      <a:pt x="917" y="760"/>
                    </a:lnTo>
                    <a:lnTo>
                      <a:pt x="907" y="780"/>
                    </a:lnTo>
                    <a:lnTo>
                      <a:pt x="897" y="799"/>
                    </a:lnTo>
                    <a:lnTo>
                      <a:pt x="886" y="818"/>
                    </a:lnTo>
                    <a:lnTo>
                      <a:pt x="874" y="837"/>
                    </a:lnTo>
                    <a:lnTo>
                      <a:pt x="861" y="855"/>
                    </a:lnTo>
                    <a:lnTo>
                      <a:pt x="848" y="873"/>
                    </a:lnTo>
                    <a:lnTo>
                      <a:pt x="834" y="890"/>
                    </a:lnTo>
                    <a:lnTo>
                      <a:pt x="819" y="907"/>
                    </a:lnTo>
                    <a:lnTo>
                      <a:pt x="803" y="922"/>
                    </a:lnTo>
                    <a:lnTo>
                      <a:pt x="787" y="937"/>
                    </a:lnTo>
                    <a:lnTo>
                      <a:pt x="771" y="952"/>
                    </a:lnTo>
                    <a:lnTo>
                      <a:pt x="753" y="965"/>
                    </a:lnTo>
                    <a:lnTo>
                      <a:pt x="735" y="979"/>
                    </a:lnTo>
                    <a:lnTo>
                      <a:pt x="716" y="991"/>
                    </a:lnTo>
                    <a:lnTo>
                      <a:pt x="697" y="1002"/>
                    </a:lnTo>
                    <a:lnTo>
                      <a:pt x="678" y="1013"/>
                    </a:lnTo>
                    <a:lnTo>
                      <a:pt x="658" y="1023"/>
                    </a:lnTo>
                    <a:lnTo>
                      <a:pt x="637" y="1033"/>
                    </a:lnTo>
                    <a:lnTo>
                      <a:pt x="616" y="1040"/>
                    </a:lnTo>
                    <a:lnTo>
                      <a:pt x="595" y="1047"/>
                    </a:lnTo>
                    <a:lnTo>
                      <a:pt x="573" y="1054"/>
                    </a:lnTo>
                    <a:lnTo>
                      <a:pt x="551" y="1060"/>
                    </a:lnTo>
                    <a:lnTo>
                      <a:pt x="528" y="1064"/>
                    </a:lnTo>
                    <a:lnTo>
                      <a:pt x="505" y="1067"/>
                    </a:lnTo>
                    <a:lnTo>
                      <a:pt x="482" y="1070"/>
                    </a:lnTo>
                    <a:lnTo>
                      <a:pt x="458" y="1071"/>
                    </a:lnTo>
                    <a:lnTo>
                      <a:pt x="434" y="1072"/>
                    </a:lnTo>
                    <a:lnTo>
                      <a:pt x="431" y="1072"/>
                    </a:lnTo>
                    <a:lnTo>
                      <a:pt x="428" y="1072"/>
                    </a:lnTo>
                    <a:lnTo>
                      <a:pt x="425" y="1072"/>
                    </a:lnTo>
                    <a:lnTo>
                      <a:pt x="422" y="1072"/>
                    </a:lnTo>
                    <a:lnTo>
                      <a:pt x="418" y="1072"/>
                    </a:lnTo>
                    <a:lnTo>
                      <a:pt x="415" y="1071"/>
                    </a:lnTo>
                    <a:lnTo>
                      <a:pt x="412" y="1071"/>
                    </a:lnTo>
                    <a:lnTo>
                      <a:pt x="409" y="1071"/>
                    </a:lnTo>
                    <a:lnTo>
                      <a:pt x="417" y="1088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880240" y="252720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957" h="1072">
                    <a:moveTo>
                      <a:pt x="628" y="37"/>
                    </a:moveTo>
                    <a:lnTo>
                      <a:pt x="605" y="28"/>
                    </a:lnTo>
                    <a:lnTo>
                      <a:pt x="582" y="21"/>
                    </a:lnTo>
                    <a:lnTo>
                      <a:pt x="557" y="15"/>
                    </a:lnTo>
                    <a:lnTo>
                      <a:pt x="533" y="9"/>
                    </a:lnTo>
                    <a:lnTo>
                      <a:pt x="509" y="5"/>
                    </a:lnTo>
                    <a:lnTo>
                      <a:pt x="484" y="2"/>
                    </a:lnTo>
                    <a:lnTo>
                      <a:pt x="459" y="0"/>
                    </a:lnTo>
                    <a:lnTo>
                      <a:pt x="432" y="0"/>
                    </a:lnTo>
                    <a:lnTo>
                      <a:pt x="400" y="1"/>
                    </a:lnTo>
                    <a:lnTo>
                      <a:pt x="367" y="4"/>
                    </a:lnTo>
                    <a:lnTo>
                      <a:pt x="336" y="8"/>
                    </a:lnTo>
                    <a:lnTo>
                      <a:pt x="304" y="16"/>
                    </a:lnTo>
                    <a:lnTo>
                      <a:pt x="274" y="24"/>
                    </a:lnTo>
                    <a:lnTo>
                      <a:pt x="244" y="33"/>
                    </a:lnTo>
                    <a:lnTo>
                      <a:pt x="215" y="46"/>
                    </a:lnTo>
                    <a:lnTo>
                      <a:pt x="187" y="60"/>
                    </a:lnTo>
                    <a:lnTo>
                      <a:pt x="160" y="74"/>
                    </a:lnTo>
                    <a:lnTo>
                      <a:pt x="134" y="91"/>
                    </a:lnTo>
                    <a:lnTo>
                      <a:pt x="108" y="109"/>
                    </a:lnTo>
                    <a:lnTo>
                      <a:pt x="84" y="128"/>
                    </a:lnTo>
                    <a:lnTo>
                      <a:pt x="61" y="149"/>
                    </a:lnTo>
                    <a:lnTo>
                      <a:pt x="40" y="171"/>
                    </a:lnTo>
                    <a:lnTo>
                      <a:pt x="19" y="194"/>
                    </a:lnTo>
                    <a:lnTo>
                      <a:pt x="0" y="218"/>
                    </a:lnTo>
                    <a:lnTo>
                      <a:pt x="1" y="221"/>
                    </a:lnTo>
                    <a:lnTo>
                      <a:pt x="7" y="238"/>
                    </a:lnTo>
                    <a:lnTo>
                      <a:pt x="25" y="213"/>
                    </a:lnTo>
                    <a:lnTo>
                      <a:pt x="44" y="190"/>
                    </a:lnTo>
                    <a:lnTo>
                      <a:pt x="65" y="168"/>
                    </a:lnTo>
                    <a:lnTo>
                      <a:pt x="89" y="147"/>
                    </a:lnTo>
                    <a:lnTo>
                      <a:pt x="112" y="127"/>
                    </a:lnTo>
                    <a:lnTo>
                      <a:pt x="137" y="109"/>
                    </a:lnTo>
                    <a:lnTo>
                      <a:pt x="162" y="92"/>
                    </a:lnTo>
                    <a:lnTo>
                      <a:pt x="189" y="78"/>
                    </a:lnTo>
                    <a:lnTo>
                      <a:pt x="217" y="64"/>
                    </a:lnTo>
                    <a:lnTo>
                      <a:pt x="245" y="51"/>
                    </a:lnTo>
                    <a:lnTo>
                      <a:pt x="275" y="41"/>
                    </a:lnTo>
                    <a:lnTo>
                      <a:pt x="305" y="32"/>
                    </a:lnTo>
                    <a:lnTo>
                      <a:pt x="336" y="25"/>
                    </a:lnTo>
                    <a:lnTo>
                      <a:pt x="368" y="21"/>
                    </a:lnTo>
                    <a:lnTo>
                      <a:pt x="400" y="18"/>
                    </a:lnTo>
                    <a:lnTo>
                      <a:pt x="432" y="17"/>
                    </a:lnTo>
                    <a:lnTo>
                      <a:pt x="460" y="18"/>
                    </a:lnTo>
                    <a:lnTo>
                      <a:pt x="486" y="19"/>
                    </a:lnTo>
                    <a:lnTo>
                      <a:pt x="511" y="23"/>
                    </a:lnTo>
                    <a:lnTo>
                      <a:pt x="537" y="27"/>
                    </a:lnTo>
                    <a:lnTo>
                      <a:pt x="562" y="32"/>
                    </a:lnTo>
                    <a:lnTo>
                      <a:pt x="587" y="40"/>
                    </a:lnTo>
                    <a:lnTo>
                      <a:pt x="611" y="48"/>
                    </a:lnTo>
                    <a:lnTo>
                      <a:pt x="634" y="57"/>
                    </a:lnTo>
                    <a:lnTo>
                      <a:pt x="628" y="37"/>
                    </a:lnTo>
                    <a:close/>
                    <a:moveTo>
                      <a:pt x="411" y="1071"/>
                    </a:moveTo>
                    <a:lnTo>
                      <a:pt x="413" y="1071"/>
                    </a:lnTo>
                    <a:lnTo>
                      <a:pt x="416" y="1072"/>
                    </a:lnTo>
                    <a:lnTo>
                      <a:pt x="419" y="1072"/>
                    </a:lnTo>
                    <a:lnTo>
                      <a:pt x="422" y="1072"/>
                    </a:lnTo>
                    <a:lnTo>
                      <a:pt x="425" y="1072"/>
                    </a:lnTo>
                    <a:lnTo>
                      <a:pt x="427" y="1072"/>
                    </a:lnTo>
                    <a:lnTo>
                      <a:pt x="430" y="1072"/>
                    </a:lnTo>
                    <a:lnTo>
                      <a:pt x="432" y="1072"/>
                    </a:lnTo>
                    <a:lnTo>
                      <a:pt x="456" y="1071"/>
                    </a:lnTo>
                    <a:lnTo>
                      <a:pt x="481" y="1070"/>
                    </a:lnTo>
                    <a:lnTo>
                      <a:pt x="504" y="1067"/>
                    </a:lnTo>
                    <a:lnTo>
                      <a:pt x="527" y="1063"/>
                    </a:lnTo>
                    <a:lnTo>
                      <a:pt x="549" y="1059"/>
                    </a:lnTo>
                    <a:lnTo>
                      <a:pt x="572" y="1053"/>
                    </a:lnTo>
                    <a:lnTo>
                      <a:pt x="593" y="1047"/>
                    </a:lnTo>
                    <a:lnTo>
                      <a:pt x="615" y="1039"/>
                    </a:lnTo>
                    <a:lnTo>
                      <a:pt x="636" y="1032"/>
                    </a:lnTo>
                    <a:lnTo>
                      <a:pt x="657" y="1023"/>
                    </a:lnTo>
                    <a:lnTo>
                      <a:pt x="677" y="1013"/>
                    </a:lnTo>
                    <a:lnTo>
                      <a:pt x="697" y="1003"/>
                    </a:lnTo>
                    <a:lnTo>
                      <a:pt x="716" y="991"/>
                    </a:lnTo>
                    <a:lnTo>
                      <a:pt x="735" y="978"/>
                    </a:lnTo>
                    <a:lnTo>
                      <a:pt x="753" y="966"/>
                    </a:lnTo>
                    <a:lnTo>
                      <a:pt x="771" y="952"/>
                    </a:lnTo>
                    <a:lnTo>
                      <a:pt x="788" y="937"/>
                    </a:lnTo>
                    <a:lnTo>
                      <a:pt x="804" y="923"/>
                    </a:lnTo>
                    <a:lnTo>
                      <a:pt x="820" y="907"/>
                    </a:lnTo>
                    <a:lnTo>
                      <a:pt x="835" y="890"/>
                    </a:lnTo>
                    <a:lnTo>
                      <a:pt x="850" y="873"/>
                    </a:lnTo>
                    <a:lnTo>
                      <a:pt x="863" y="856"/>
                    </a:lnTo>
                    <a:lnTo>
                      <a:pt x="876" y="838"/>
                    </a:lnTo>
                    <a:lnTo>
                      <a:pt x="888" y="819"/>
                    </a:lnTo>
                    <a:lnTo>
                      <a:pt x="900" y="800"/>
                    </a:lnTo>
                    <a:lnTo>
                      <a:pt x="911" y="780"/>
                    </a:lnTo>
                    <a:lnTo>
                      <a:pt x="920" y="760"/>
                    </a:lnTo>
                    <a:lnTo>
                      <a:pt x="929" y="739"/>
                    </a:lnTo>
                    <a:lnTo>
                      <a:pt x="937" y="718"/>
                    </a:lnTo>
                    <a:lnTo>
                      <a:pt x="944" y="696"/>
                    </a:lnTo>
                    <a:lnTo>
                      <a:pt x="950" y="674"/>
                    </a:lnTo>
                    <a:lnTo>
                      <a:pt x="957" y="652"/>
                    </a:lnTo>
                    <a:lnTo>
                      <a:pt x="943" y="633"/>
                    </a:lnTo>
                    <a:lnTo>
                      <a:pt x="939" y="655"/>
                    </a:lnTo>
                    <a:lnTo>
                      <a:pt x="933" y="677"/>
                    </a:lnTo>
                    <a:lnTo>
                      <a:pt x="926" y="698"/>
                    </a:lnTo>
                    <a:lnTo>
                      <a:pt x="919" y="720"/>
                    </a:lnTo>
                    <a:lnTo>
                      <a:pt x="911" y="740"/>
                    </a:lnTo>
                    <a:lnTo>
                      <a:pt x="901" y="761"/>
                    </a:lnTo>
                    <a:lnTo>
                      <a:pt x="891" y="781"/>
                    </a:lnTo>
                    <a:lnTo>
                      <a:pt x="880" y="800"/>
                    </a:lnTo>
                    <a:lnTo>
                      <a:pt x="868" y="819"/>
                    </a:lnTo>
                    <a:lnTo>
                      <a:pt x="856" y="837"/>
                    </a:lnTo>
                    <a:lnTo>
                      <a:pt x="842" y="855"/>
                    </a:lnTo>
                    <a:lnTo>
                      <a:pt x="829" y="872"/>
                    </a:lnTo>
                    <a:lnTo>
                      <a:pt x="814" y="888"/>
                    </a:lnTo>
                    <a:lnTo>
                      <a:pt x="799" y="904"/>
                    </a:lnTo>
                    <a:lnTo>
                      <a:pt x="782" y="920"/>
                    </a:lnTo>
                    <a:lnTo>
                      <a:pt x="767" y="934"/>
                    </a:lnTo>
                    <a:lnTo>
                      <a:pt x="749" y="948"/>
                    </a:lnTo>
                    <a:lnTo>
                      <a:pt x="731" y="961"/>
                    </a:lnTo>
                    <a:lnTo>
                      <a:pt x="713" y="973"/>
                    </a:lnTo>
                    <a:lnTo>
                      <a:pt x="694" y="985"/>
                    </a:lnTo>
                    <a:lnTo>
                      <a:pt x="674" y="995"/>
                    </a:lnTo>
                    <a:lnTo>
                      <a:pt x="654" y="1006"/>
                    </a:lnTo>
                    <a:lnTo>
                      <a:pt x="634" y="1014"/>
                    </a:lnTo>
                    <a:lnTo>
                      <a:pt x="613" y="1023"/>
                    </a:lnTo>
                    <a:lnTo>
                      <a:pt x="592" y="1030"/>
                    </a:lnTo>
                    <a:lnTo>
                      <a:pt x="570" y="1036"/>
                    </a:lnTo>
                    <a:lnTo>
                      <a:pt x="548" y="1042"/>
                    </a:lnTo>
                    <a:lnTo>
                      <a:pt x="526" y="1047"/>
                    </a:lnTo>
                    <a:lnTo>
                      <a:pt x="503" y="1050"/>
                    </a:lnTo>
                    <a:lnTo>
                      <a:pt x="480" y="1053"/>
                    </a:lnTo>
                    <a:lnTo>
                      <a:pt x="456" y="1054"/>
                    </a:lnTo>
                    <a:lnTo>
                      <a:pt x="432" y="1055"/>
                    </a:lnTo>
                    <a:lnTo>
                      <a:pt x="429" y="1055"/>
                    </a:lnTo>
                    <a:lnTo>
                      <a:pt x="425" y="1055"/>
                    </a:lnTo>
                    <a:lnTo>
                      <a:pt x="421" y="1055"/>
                    </a:lnTo>
                    <a:lnTo>
                      <a:pt x="418" y="1055"/>
                    </a:lnTo>
                    <a:lnTo>
                      <a:pt x="413" y="1054"/>
                    </a:lnTo>
                    <a:lnTo>
                      <a:pt x="410" y="1054"/>
                    </a:lnTo>
                    <a:lnTo>
                      <a:pt x="406" y="1054"/>
                    </a:lnTo>
                    <a:lnTo>
                      <a:pt x="402" y="1054"/>
                    </a:lnTo>
                    <a:lnTo>
                      <a:pt x="411" y="107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81680" y="2530440"/>
                <a:ext cx="299880" cy="335160"/>
              </a:xfrm>
              <a:custGeom>
                <a:avLst/>
                <a:gdLst/>
                <a:ahLst/>
                <a:rect l="l" t="t" r="r" b="b"/>
                <a:pathLst>
                  <a:path w="947" h="1055">
                    <a:moveTo>
                      <a:pt x="628" y="39"/>
                    </a:moveTo>
                    <a:lnTo>
                      <a:pt x="605" y="30"/>
                    </a:lnTo>
                    <a:lnTo>
                      <a:pt x="581" y="22"/>
                    </a:lnTo>
                    <a:lnTo>
                      <a:pt x="556" y="16"/>
                    </a:lnTo>
                    <a:lnTo>
                      <a:pt x="532" y="10"/>
                    </a:lnTo>
                    <a:lnTo>
                      <a:pt x="507" y="5"/>
                    </a:lnTo>
                    <a:lnTo>
                      <a:pt x="482" y="2"/>
                    </a:lnTo>
                    <a:lnTo>
                      <a:pt x="456" y="0"/>
                    </a:lnTo>
                    <a:lnTo>
                      <a:pt x="429" y="0"/>
                    </a:lnTo>
                    <a:lnTo>
                      <a:pt x="397" y="1"/>
                    </a:lnTo>
                    <a:lnTo>
                      <a:pt x="364" y="4"/>
                    </a:lnTo>
                    <a:lnTo>
                      <a:pt x="333" y="9"/>
                    </a:lnTo>
                    <a:lnTo>
                      <a:pt x="302" y="16"/>
                    </a:lnTo>
                    <a:lnTo>
                      <a:pt x="272" y="24"/>
                    </a:lnTo>
                    <a:lnTo>
                      <a:pt x="241" y="35"/>
                    </a:lnTo>
                    <a:lnTo>
                      <a:pt x="213" y="46"/>
                    </a:lnTo>
                    <a:lnTo>
                      <a:pt x="184" y="60"/>
                    </a:lnTo>
                    <a:lnTo>
                      <a:pt x="158" y="76"/>
                    </a:lnTo>
                    <a:lnTo>
                      <a:pt x="132" y="92"/>
                    </a:lnTo>
                    <a:lnTo>
                      <a:pt x="107" y="110"/>
                    </a:lnTo>
                    <a:lnTo>
                      <a:pt x="83" y="129"/>
                    </a:lnTo>
                    <a:lnTo>
                      <a:pt x="60" y="150"/>
                    </a:lnTo>
                    <a:lnTo>
                      <a:pt x="39" y="172"/>
                    </a:lnTo>
                    <a:lnTo>
                      <a:pt x="19" y="196"/>
                    </a:lnTo>
                    <a:lnTo>
                      <a:pt x="0" y="220"/>
                    </a:lnTo>
                    <a:lnTo>
                      <a:pt x="7" y="240"/>
                    </a:lnTo>
                    <a:lnTo>
                      <a:pt x="25" y="215"/>
                    </a:lnTo>
                    <a:lnTo>
                      <a:pt x="45" y="191"/>
                    </a:lnTo>
                    <a:lnTo>
                      <a:pt x="66" y="169"/>
                    </a:lnTo>
                    <a:lnTo>
                      <a:pt x="88" y="148"/>
                    </a:lnTo>
                    <a:lnTo>
                      <a:pt x="111" y="128"/>
                    </a:lnTo>
                    <a:lnTo>
                      <a:pt x="135" y="110"/>
                    </a:lnTo>
                    <a:lnTo>
                      <a:pt x="160" y="94"/>
                    </a:lnTo>
                    <a:lnTo>
                      <a:pt x="187" y="78"/>
                    </a:lnTo>
                    <a:lnTo>
                      <a:pt x="215" y="64"/>
                    </a:lnTo>
                    <a:lnTo>
                      <a:pt x="243" y="52"/>
                    </a:lnTo>
                    <a:lnTo>
                      <a:pt x="273" y="41"/>
                    </a:lnTo>
                    <a:lnTo>
                      <a:pt x="302" y="33"/>
                    </a:lnTo>
                    <a:lnTo>
                      <a:pt x="334" y="26"/>
                    </a:lnTo>
                    <a:lnTo>
                      <a:pt x="365" y="21"/>
                    </a:lnTo>
                    <a:lnTo>
                      <a:pt x="397" y="18"/>
                    </a:lnTo>
                    <a:lnTo>
                      <a:pt x="429" y="17"/>
                    </a:lnTo>
                    <a:lnTo>
                      <a:pt x="457" y="18"/>
                    </a:lnTo>
                    <a:lnTo>
                      <a:pt x="484" y="20"/>
                    </a:lnTo>
                    <a:lnTo>
                      <a:pt x="510" y="23"/>
                    </a:lnTo>
                    <a:lnTo>
                      <a:pt x="536" y="28"/>
                    </a:lnTo>
                    <a:lnTo>
                      <a:pt x="562" y="34"/>
                    </a:lnTo>
                    <a:lnTo>
                      <a:pt x="586" y="41"/>
                    </a:lnTo>
                    <a:lnTo>
                      <a:pt x="611" y="50"/>
                    </a:lnTo>
                    <a:lnTo>
                      <a:pt x="634" y="60"/>
                    </a:lnTo>
                    <a:lnTo>
                      <a:pt x="628" y="39"/>
                    </a:lnTo>
                    <a:close/>
                    <a:moveTo>
                      <a:pt x="404" y="1054"/>
                    </a:moveTo>
                    <a:lnTo>
                      <a:pt x="407" y="1054"/>
                    </a:lnTo>
                    <a:lnTo>
                      <a:pt x="410" y="1054"/>
                    </a:lnTo>
                    <a:lnTo>
                      <a:pt x="413" y="1055"/>
                    </a:lnTo>
                    <a:lnTo>
                      <a:pt x="417" y="1055"/>
                    </a:lnTo>
                    <a:lnTo>
                      <a:pt x="420" y="1055"/>
                    </a:lnTo>
                    <a:lnTo>
                      <a:pt x="423" y="1055"/>
                    </a:lnTo>
                    <a:lnTo>
                      <a:pt x="426" y="1055"/>
                    </a:lnTo>
                    <a:lnTo>
                      <a:pt x="429" y="1055"/>
                    </a:lnTo>
                    <a:lnTo>
                      <a:pt x="453" y="1054"/>
                    </a:lnTo>
                    <a:lnTo>
                      <a:pt x="477" y="1053"/>
                    </a:lnTo>
                    <a:lnTo>
                      <a:pt x="500" y="1050"/>
                    </a:lnTo>
                    <a:lnTo>
                      <a:pt x="523" y="1047"/>
                    </a:lnTo>
                    <a:lnTo>
                      <a:pt x="546" y="1043"/>
                    </a:lnTo>
                    <a:lnTo>
                      <a:pt x="568" y="1037"/>
                    </a:lnTo>
                    <a:lnTo>
                      <a:pt x="590" y="1030"/>
                    </a:lnTo>
                    <a:lnTo>
                      <a:pt x="611" y="1023"/>
                    </a:lnTo>
                    <a:lnTo>
                      <a:pt x="632" y="1016"/>
                    </a:lnTo>
                    <a:lnTo>
                      <a:pt x="653" y="1006"/>
                    </a:lnTo>
                    <a:lnTo>
                      <a:pt x="673" y="996"/>
                    </a:lnTo>
                    <a:lnTo>
                      <a:pt x="692" y="985"/>
                    </a:lnTo>
                    <a:lnTo>
                      <a:pt x="711" y="974"/>
                    </a:lnTo>
                    <a:lnTo>
                      <a:pt x="730" y="962"/>
                    </a:lnTo>
                    <a:lnTo>
                      <a:pt x="748" y="948"/>
                    </a:lnTo>
                    <a:lnTo>
                      <a:pt x="766" y="935"/>
                    </a:lnTo>
                    <a:lnTo>
                      <a:pt x="782" y="920"/>
                    </a:lnTo>
                    <a:lnTo>
                      <a:pt x="798" y="905"/>
                    </a:lnTo>
                    <a:lnTo>
                      <a:pt x="814" y="890"/>
                    </a:lnTo>
                    <a:lnTo>
                      <a:pt x="829" y="873"/>
                    </a:lnTo>
                    <a:lnTo>
                      <a:pt x="843" y="856"/>
                    </a:lnTo>
                    <a:lnTo>
                      <a:pt x="856" y="838"/>
                    </a:lnTo>
                    <a:lnTo>
                      <a:pt x="869" y="820"/>
                    </a:lnTo>
                    <a:lnTo>
                      <a:pt x="881" y="801"/>
                    </a:lnTo>
                    <a:lnTo>
                      <a:pt x="892" y="782"/>
                    </a:lnTo>
                    <a:lnTo>
                      <a:pt x="902" y="763"/>
                    </a:lnTo>
                    <a:lnTo>
                      <a:pt x="912" y="743"/>
                    </a:lnTo>
                    <a:lnTo>
                      <a:pt x="921" y="722"/>
                    </a:lnTo>
                    <a:lnTo>
                      <a:pt x="929" y="701"/>
                    </a:lnTo>
                    <a:lnTo>
                      <a:pt x="936" y="679"/>
                    </a:lnTo>
                    <a:lnTo>
                      <a:pt x="942" y="656"/>
                    </a:lnTo>
                    <a:lnTo>
                      <a:pt x="947" y="634"/>
                    </a:lnTo>
                    <a:lnTo>
                      <a:pt x="934" y="614"/>
                    </a:lnTo>
                    <a:lnTo>
                      <a:pt x="930" y="637"/>
                    </a:lnTo>
                    <a:lnTo>
                      <a:pt x="923" y="659"/>
                    </a:lnTo>
                    <a:lnTo>
                      <a:pt x="917" y="681"/>
                    </a:lnTo>
                    <a:lnTo>
                      <a:pt x="911" y="702"/>
                    </a:lnTo>
                    <a:lnTo>
                      <a:pt x="902" y="723"/>
                    </a:lnTo>
                    <a:lnTo>
                      <a:pt x="893" y="744"/>
                    </a:lnTo>
                    <a:lnTo>
                      <a:pt x="883" y="764"/>
                    </a:lnTo>
                    <a:lnTo>
                      <a:pt x="873" y="782"/>
                    </a:lnTo>
                    <a:lnTo>
                      <a:pt x="861" y="801"/>
                    </a:lnTo>
                    <a:lnTo>
                      <a:pt x="850" y="819"/>
                    </a:lnTo>
                    <a:lnTo>
                      <a:pt x="836" y="837"/>
                    </a:lnTo>
                    <a:lnTo>
                      <a:pt x="822" y="855"/>
                    </a:lnTo>
                    <a:lnTo>
                      <a:pt x="808" y="871"/>
                    </a:lnTo>
                    <a:lnTo>
                      <a:pt x="793" y="887"/>
                    </a:lnTo>
                    <a:lnTo>
                      <a:pt x="777" y="902"/>
                    </a:lnTo>
                    <a:lnTo>
                      <a:pt x="760" y="917"/>
                    </a:lnTo>
                    <a:lnTo>
                      <a:pt x="744" y="931"/>
                    </a:lnTo>
                    <a:lnTo>
                      <a:pt x="726" y="944"/>
                    </a:lnTo>
                    <a:lnTo>
                      <a:pt x="708" y="956"/>
                    </a:lnTo>
                    <a:lnTo>
                      <a:pt x="689" y="968"/>
                    </a:lnTo>
                    <a:lnTo>
                      <a:pt x="670" y="979"/>
                    </a:lnTo>
                    <a:lnTo>
                      <a:pt x="650" y="988"/>
                    </a:lnTo>
                    <a:lnTo>
                      <a:pt x="630" y="998"/>
                    </a:lnTo>
                    <a:lnTo>
                      <a:pt x="609" y="1006"/>
                    </a:lnTo>
                    <a:lnTo>
                      <a:pt x="588" y="1013"/>
                    </a:lnTo>
                    <a:lnTo>
                      <a:pt x="567" y="1020"/>
                    </a:lnTo>
                    <a:lnTo>
                      <a:pt x="545" y="1026"/>
                    </a:lnTo>
                    <a:lnTo>
                      <a:pt x="522" y="1030"/>
                    </a:lnTo>
                    <a:lnTo>
                      <a:pt x="500" y="1033"/>
                    </a:lnTo>
                    <a:lnTo>
                      <a:pt x="477" y="1037"/>
                    </a:lnTo>
                    <a:lnTo>
                      <a:pt x="453" y="1038"/>
                    </a:lnTo>
                    <a:lnTo>
                      <a:pt x="429" y="1039"/>
                    </a:lnTo>
                    <a:lnTo>
                      <a:pt x="425" y="1039"/>
                    </a:lnTo>
                    <a:lnTo>
                      <a:pt x="421" y="1039"/>
                    </a:lnTo>
                    <a:lnTo>
                      <a:pt x="417" y="1039"/>
                    </a:lnTo>
                    <a:lnTo>
                      <a:pt x="412" y="1039"/>
                    </a:lnTo>
                    <a:lnTo>
                      <a:pt x="407" y="1038"/>
                    </a:lnTo>
                    <a:lnTo>
                      <a:pt x="403" y="1038"/>
                    </a:lnTo>
                    <a:lnTo>
                      <a:pt x="399" y="1038"/>
                    </a:lnTo>
                    <a:lnTo>
                      <a:pt x="395" y="1038"/>
                    </a:lnTo>
                    <a:lnTo>
                      <a:pt x="404" y="105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883120" y="2533680"/>
                <a:ext cx="297000" cy="328680"/>
              </a:xfrm>
              <a:custGeom>
                <a:avLst/>
                <a:gdLst/>
                <a:ahLst/>
                <a:rect l="l" t="t" r="r" b="b"/>
                <a:pathLst>
                  <a:path w="936" h="1038">
                    <a:moveTo>
                      <a:pt x="627" y="40"/>
                    </a:moveTo>
                    <a:lnTo>
                      <a:pt x="604" y="31"/>
                    </a:lnTo>
                    <a:lnTo>
                      <a:pt x="580" y="23"/>
                    </a:lnTo>
                    <a:lnTo>
                      <a:pt x="555" y="15"/>
                    </a:lnTo>
                    <a:lnTo>
                      <a:pt x="530" y="10"/>
                    </a:lnTo>
                    <a:lnTo>
                      <a:pt x="504" y="6"/>
                    </a:lnTo>
                    <a:lnTo>
                      <a:pt x="479" y="2"/>
                    </a:lnTo>
                    <a:lnTo>
                      <a:pt x="453" y="1"/>
                    </a:lnTo>
                    <a:lnTo>
                      <a:pt x="425" y="0"/>
                    </a:lnTo>
                    <a:lnTo>
                      <a:pt x="393" y="1"/>
                    </a:lnTo>
                    <a:lnTo>
                      <a:pt x="361" y="4"/>
                    </a:lnTo>
                    <a:lnTo>
                      <a:pt x="329" y="8"/>
                    </a:lnTo>
                    <a:lnTo>
                      <a:pt x="298" y="15"/>
                    </a:lnTo>
                    <a:lnTo>
                      <a:pt x="268" y="24"/>
                    </a:lnTo>
                    <a:lnTo>
                      <a:pt x="238" y="34"/>
                    </a:lnTo>
                    <a:lnTo>
                      <a:pt x="210" y="47"/>
                    </a:lnTo>
                    <a:lnTo>
                      <a:pt x="182" y="61"/>
                    </a:lnTo>
                    <a:lnTo>
                      <a:pt x="155" y="75"/>
                    </a:lnTo>
                    <a:lnTo>
                      <a:pt x="130" y="92"/>
                    </a:lnTo>
                    <a:lnTo>
                      <a:pt x="105" y="110"/>
                    </a:lnTo>
                    <a:lnTo>
                      <a:pt x="82" y="130"/>
                    </a:lnTo>
                    <a:lnTo>
                      <a:pt x="58" y="151"/>
                    </a:lnTo>
                    <a:lnTo>
                      <a:pt x="37" y="173"/>
                    </a:lnTo>
                    <a:lnTo>
                      <a:pt x="18" y="196"/>
                    </a:lnTo>
                    <a:lnTo>
                      <a:pt x="0" y="221"/>
                    </a:lnTo>
                    <a:lnTo>
                      <a:pt x="6" y="241"/>
                    </a:lnTo>
                    <a:lnTo>
                      <a:pt x="24" y="216"/>
                    </a:lnTo>
                    <a:lnTo>
                      <a:pt x="43" y="193"/>
                    </a:lnTo>
                    <a:lnTo>
                      <a:pt x="64" y="170"/>
                    </a:lnTo>
                    <a:lnTo>
                      <a:pt x="86" y="149"/>
                    </a:lnTo>
                    <a:lnTo>
                      <a:pt x="108" y="129"/>
                    </a:lnTo>
                    <a:lnTo>
                      <a:pt x="132" y="111"/>
                    </a:lnTo>
                    <a:lnTo>
                      <a:pt x="157" y="93"/>
                    </a:lnTo>
                    <a:lnTo>
                      <a:pt x="185" y="78"/>
                    </a:lnTo>
                    <a:lnTo>
                      <a:pt x="212" y="64"/>
                    </a:lnTo>
                    <a:lnTo>
                      <a:pt x="240" y="52"/>
                    </a:lnTo>
                    <a:lnTo>
                      <a:pt x="269" y="42"/>
                    </a:lnTo>
                    <a:lnTo>
                      <a:pt x="299" y="32"/>
                    </a:lnTo>
                    <a:lnTo>
                      <a:pt x="330" y="26"/>
                    </a:lnTo>
                    <a:lnTo>
                      <a:pt x="361" y="21"/>
                    </a:lnTo>
                    <a:lnTo>
                      <a:pt x="393" y="17"/>
                    </a:lnTo>
                    <a:lnTo>
                      <a:pt x="425" y="16"/>
                    </a:lnTo>
                    <a:lnTo>
                      <a:pt x="454" y="17"/>
                    </a:lnTo>
                    <a:lnTo>
                      <a:pt x="481" y="20"/>
                    </a:lnTo>
                    <a:lnTo>
                      <a:pt x="507" y="23"/>
                    </a:lnTo>
                    <a:lnTo>
                      <a:pt x="534" y="28"/>
                    </a:lnTo>
                    <a:lnTo>
                      <a:pt x="560" y="34"/>
                    </a:lnTo>
                    <a:lnTo>
                      <a:pt x="585" y="43"/>
                    </a:lnTo>
                    <a:lnTo>
                      <a:pt x="610" y="51"/>
                    </a:lnTo>
                    <a:lnTo>
                      <a:pt x="634" y="62"/>
                    </a:lnTo>
                    <a:lnTo>
                      <a:pt x="627" y="40"/>
                    </a:lnTo>
                    <a:close/>
                    <a:moveTo>
                      <a:pt x="395" y="1037"/>
                    </a:moveTo>
                    <a:lnTo>
                      <a:pt x="399" y="1037"/>
                    </a:lnTo>
                    <a:lnTo>
                      <a:pt x="403" y="1037"/>
                    </a:lnTo>
                    <a:lnTo>
                      <a:pt x="406" y="1037"/>
                    </a:lnTo>
                    <a:lnTo>
                      <a:pt x="411" y="1038"/>
                    </a:lnTo>
                    <a:lnTo>
                      <a:pt x="414" y="1038"/>
                    </a:lnTo>
                    <a:lnTo>
                      <a:pt x="418" y="1038"/>
                    </a:lnTo>
                    <a:lnTo>
                      <a:pt x="422" y="1038"/>
                    </a:lnTo>
                    <a:lnTo>
                      <a:pt x="425" y="1038"/>
                    </a:lnTo>
                    <a:lnTo>
                      <a:pt x="449" y="1037"/>
                    </a:lnTo>
                    <a:lnTo>
                      <a:pt x="473" y="1036"/>
                    </a:lnTo>
                    <a:lnTo>
                      <a:pt x="496" y="1033"/>
                    </a:lnTo>
                    <a:lnTo>
                      <a:pt x="519" y="1030"/>
                    </a:lnTo>
                    <a:lnTo>
                      <a:pt x="541" y="1025"/>
                    </a:lnTo>
                    <a:lnTo>
                      <a:pt x="563" y="1019"/>
                    </a:lnTo>
                    <a:lnTo>
                      <a:pt x="585" y="1013"/>
                    </a:lnTo>
                    <a:lnTo>
                      <a:pt x="606" y="1006"/>
                    </a:lnTo>
                    <a:lnTo>
                      <a:pt x="627" y="997"/>
                    </a:lnTo>
                    <a:lnTo>
                      <a:pt x="647" y="989"/>
                    </a:lnTo>
                    <a:lnTo>
                      <a:pt x="667" y="978"/>
                    </a:lnTo>
                    <a:lnTo>
                      <a:pt x="687" y="968"/>
                    </a:lnTo>
                    <a:lnTo>
                      <a:pt x="706" y="956"/>
                    </a:lnTo>
                    <a:lnTo>
                      <a:pt x="724" y="944"/>
                    </a:lnTo>
                    <a:lnTo>
                      <a:pt x="742" y="931"/>
                    </a:lnTo>
                    <a:lnTo>
                      <a:pt x="760" y="917"/>
                    </a:lnTo>
                    <a:lnTo>
                      <a:pt x="775" y="903"/>
                    </a:lnTo>
                    <a:lnTo>
                      <a:pt x="792" y="887"/>
                    </a:lnTo>
                    <a:lnTo>
                      <a:pt x="807" y="871"/>
                    </a:lnTo>
                    <a:lnTo>
                      <a:pt x="822" y="855"/>
                    </a:lnTo>
                    <a:lnTo>
                      <a:pt x="835" y="838"/>
                    </a:lnTo>
                    <a:lnTo>
                      <a:pt x="849" y="820"/>
                    </a:lnTo>
                    <a:lnTo>
                      <a:pt x="861" y="802"/>
                    </a:lnTo>
                    <a:lnTo>
                      <a:pt x="873" y="783"/>
                    </a:lnTo>
                    <a:lnTo>
                      <a:pt x="884" y="764"/>
                    </a:lnTo>
                    <a:lnTo>
                      <a:pt x="894" y="744"/>
                    </a:lnTo>
                    <a:lnTo>
                      <a:pt x="904" y="723"/>
                    </a:lnTo>
                    <a:lnTo>
                      <a:pt x="912" y="703"/>
                    </a:lnTo>
                    <a:lnTo>
                      <a:pt x="919" y="681"/>
                    </a:lnTo>
                    <a:lnTo>
                      <a:pt x="926" y="660"/>
                    </a:lnTo>
                    <a:lnTo>
                      <a:pt x="932" y="638"/>
                    </a:lnTo>
                    <a:lnTo>
                      <a:pt x="936" y="616"/>
                    </a:lnTo>
                    <a:lnTo>
                      <a:pt x="926" y="600"/>
                    </a:lnTo>
                    <a:lnTo>
                      <a:pt x="923" y="592"/>
                    </a:lnTo>
                    <a:lnTo>
                      <a:pt x="919" y="615"/>
                    </a:lnTo>
                    <a:lnTo>
                      <a:pt x="914" y="637"/>
                    </a:lnTo>
                    <a:lnTo>
                      <a:pt x="909" y="659"/>
                    </a:lnTo>
                    <a:lnTo>
                      <a:pt x="902" y="680"/>
                    </a:lnTo>
                    <a:lnTo>
                      <a:pt x="894" y="701"/>
                    </a:lnTo>
                    <a:lnTo>
                      <a:pt x="886" y="722"/>
                    </a:lnTo>
                    <a:lnTo>
                      <a:pt x="876" y="742"/>
                    </a:lnTo>
                    <a:lnTo>
                      <a:pt x="866" y="762"/>
                    </a:lnTo>
                    <a:lnTo>
                      <a:pt x="855" y="781"/>
                    </a:lnTo>
                    <a:lnTo>
                      <a:pt x="843" y="799"/>
                    </a:lnTo>
                    <a:lnTo>
                      <a:pt x="830" y="817"/>
                    </a:lnTo>
                    <a:lnTo>
                      <a:pt x="817" y="834"/>
                    </a:lnTo>
                    <a:lnTo>
                      <a:pt x="803" y="851"/>
                    </a:lnTo>
                    <a:lnTo>
                      <a:pt x="788" y="867"/>
                    </a:lnTo>
                    <a:lnTo>
                      <a:pt x="772" y="883"/>
                    </a:lnTo>
                    <a:lnTo>
                      <a:pt x="756" y="897"/>
                    </a:lnTo>
                    <a:lnTo>
                      <a:pt x="740" y="912"/>
                    </a:lnTo>
                    <a:lnTo>
                      <a:pt x="722" y="925"/>
                    </a:lnTo>
                    <a:lnTo>
                      <a:pt x="704" y="937"/>
                    </a:lnTo>
                    <a:lnTo>
                      <a:pt x="685" y="949"/>
                    </a:lnTo>
                    <a:lnTo>
                      <a:pt x="666" y="960"/>
                    </a:lnTo>
                    <a:lnTo>
                      <a:pt x="646" y="971"/>
                    </a:lnTo>
                    <a:lnTo>
                      <a:pt x="626" y="980"/>
                    </a:lnTo>
                    <a:lnTo>
                      <a:pt x="605" y="988"/>
                    </a:lnTo>
                    <a:lnTo>
                      <a:pt x="584" y="996"/>
                    </a:lnTo>
                    <a:lnTo>
                      <a:pt x="562" y="1002"/>
                    </a:lnTo>
                    <a:lnTo>
                      <a:pt x="541" y="1008"/>
                    </a:lnTo>
                    <a:lnTo>
                      <a:pt x="518" y="1013"/>
                    </a:lnTo>
                    <a:lnTo>
                      <a:pt x="496" y="1016"/>
                    </a:lnTo>
                    <a:lnTo>
                      <a:pt x="473" y="1019"/>
                    </a:lnTo>
                    <a:lnTo>
                      <a:pt x="449" y="1020"/>
                    </a:lnTo>
                    <a:lnTo>
                      <a:pt x="425" y="1021"/>
                    </a:lnTo>
                    <a:lnTo>
                      <a:pt x="421" y="1021"/>
                    </a:lnTo>
                    <a:lnTo>
                      <a:pt x="416" y="1021"/>
                    </a:lnTo>
                    <a:lnTo>
                      <a:pt x="411" y="1021"/>
                    </a:lnTo>
                    <a:lnTo>
                      <a:pt x="405" y="1020"/>
                    </a:lnTo>
                    <a:lnTo>
                      <a:pt x="400" y="1020"/>
                    </a:lnTo>
                    <a:lnTo>
                      <a:pt x="396" y="1020"/>
                    </a:lnTo>
                    <a:lnTo>
                      <a:pt x="391" y="1020"/>
                    </a:lnTo>
                    <a:lnTo>
                      <a:pt x="385" y="1019"/>
                    </a:lnTo>
                    <a:lnTo>
                      <a:pt x="388" y="1023"/>
                    </a:lnTo>
                    <a:lnTo>
                      <a:pt x="395" y="1037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83120" y="2535120"/>
                <a:ext cx="295560" cy="325440"/>
              </a:xfrm>
              <a:custGeom>
                <a:avLst/>
                <a:gdLst/>
                <a:ahLst/>
                <a:rect l="l" t="t" r="r" b="b"/>
                <a:pathLst>
                  <a:path w="927" h="1022">
                    <a:moveTo>
                      <a:pt x="627" y="43"/>
                    </a:moveTo>
                    <a:lnTo>
                      <a:pt x="604" y="33"/>
                    </a:lnTo>
                    <a:lnTo>
                      <a:pt x="579" y="24"/>
                    </a:lnTo>
                    <a:lnTo>
                      <a:pt x="555" y="17"/>
                    </a:lnTo>
                    <a:lnTo>
                      <a:pt x="529" y="11"/>
                    </a:lnTo>
                    <a:lnTo>
                      <a:pt x="503" y="6"/>
                    </a:lnTo>
                    <a:lnTo>
                      <a:pt x="477" y="3"/>
                    </a:lnTo>
                    <a:lnTo>
                      <a:pt x="450" y="1"/>
                    </a:lnTo>
                    <a:lnTo>
                      <a:pt x="422" y="0"/>
                    </a:lnTo>
                    <a:lnTo>
                      <a:pt x="390" y="1"/>
                    </a:lnTo>
                    <a:lnTo>
                      <a:pt x="358" y="4"/>
                    </a:lnTo>
                    <a:lnTo>
                      <a:pt x="327" y="9"/>
                    </a:lnTo>
                    <a:lnTo>
                      <a:pt x="295" y="16"/>
                    </a:lnTo>
                    <a:lnTo>
                      <a:pt x="266" y="24"/>
                    </a:lnTo>
                    <a:lnTo>
                      <a:pt x="236" y="35"/>
                    </a:lnTo>
                    <a:lnTo>
                      <a:pt x="208" y="47"/>
                    </a:lnTo>
                    <a:lnTo>
                      <a:pt x="180" y="61"/>
                    </a:lnTo>
                    <a:lnTo>
                      <a:pt x="153" y="77"/>
                    </a:lnTo>
                    <a:lnTo>
                      <a:pt x="128" y="93"/>
                    </a:lnTo>
                    <a:lnTo>
                      <a:pt x="104" y="111"/>
                    </a:lnTo>
                    <a:lnTo>
                      <a:pt x="81" y="131"/>
                    </a:lnTo>
                    <a:lnTo>
                      <a:pt x="59" y="152"/>
                    </a:lnTo>
                    <a:lnTo>
                      <a:pt x="38" y="174"/>
                    </a:lnTo>
                    <a:lnTo>
                      <a:pt x="18" y="198"/>
                    </a:lnTo>
                    <a:lnTo>
                      <a:pt x="0" y="223"/>
                    </a:lnTo>
                    <a:lnTo>
                      <a:pt x="7" y="244"/>
                    </a:lnTo>
                    <a:lnTo>
                      <a:pt x="24" y="218"/>
                    </a:lnTo>
                    <a:lnTo>
                      <a:pt x="43" y="194"/>
                    </a:lnTo>
                    <a:lnTo>
                      <a:pt x="63" y="172"/>
                    </a:lnTo>
                    <a:lnTo>
                      <a:pt x="84" y="150"/>
                    </a:lnTo>
                    <a:lnTo>
                      <a:pt x="107" y="130"/>
                    </a:lnTo>
                    <a:lnTo>
                      <a:pt x="131" y="111"/>
                    </a:lnTo>
                    <a:lnTo>
                      <a:pt x="156" y="95"/>
                    </a:lnTo>
                    <a:lnTo>
                      <a:pt x="183" y="79"/>
                    </a:lnTo>
                    <a:lnTo>
                      <a:pt x="209" y="65"/>
                    </a:lnTo>
                    <a:lnTo>
                      <a:pt x="237" y="53"/>
                    </a:lnTo>
                    <a:lnTo>
                      <a:pt x="267" y="42"/>
                    </a:lnTo>
                    <a:lnTo>
                      <a:pt x="296" y="33"/>
                    </a:lnTo>
                    <a:lnTo>
                      <a:pt x="327" y="26"/>
                    </a:lnTo>
                    <a:lnTo>
                      <a:pt x="358" y="21"/>
                    </a:lnTo>
                    <a:lnTo>
                      <a:pt x="390" y="18"/>
                    </a:lnTo>
                    <a:lnTo>
                      <a:pt x="422" y="17"/>
                    </a:lnTo>
                    <a:lnTo>
                      <a:pt x="451" y="18"/>
                    </a:lnTo>
                    <a:lnTo>
                      <a:pt x="479" y="20"/>
                    </a:lnTo>
                    <a:lnTo>
                      <a:pt x="506" y="24"/>
                    </a:lnTo>
                    <a:lnTo>
                      <a:pt x="533" y="29"/>
                    </a:lnTo>
                    <a:lnTo>
                      <a:pt x="559" y="36"/>
                    </a:lnTo>
                    <a:lnTo>
                      <a:pt x="585" y="44"/>
                    </a:lnTo>
                    <a:lnTo>
                      <a:pt x="610" y="54"/>
                    </a:lnTo>
                    <a:lnTo>
                      <a:pt x="635" y="64"/>
                    </a:lnTo>
                    <a:lnTo>
                      <a:pt x="627" y="43"/>
                    </a:lnTo>
                    <a:close/>
                    <a:moveTo>
                      <a:pt x="388" y="1021"/>
                    </a:moveTo>
                    <a:lnTo>
                      <a:pt x="392" y="1021"/>
                    </a:lnTo>
                    <a:lnTo>
                      <a:pt x="396" y="1021"/>
                    </a:lnTo>
                    <a:lnTo>
                      <a:pt x="400" y="1021"/>
                    </a:lnTo>
                    <a:lnTo>
                      <a:pt x="405" y="1022"/>
                    </a:lnTo>
                    <a:lnTo>
                      <a:pt x="410" y="1022"/>
                    </a:lnTo>
                    <a:lnTo>
                      <a:pt x="414" y="1022"/>
                    </a:lnTo>
                    <a:lnTo>
                      <a:pt x="418" y="1022"/>
                    </a:lnTo>
                    <a:lnTo>
                      <a:pt x="422" y="1022"/>
                    </a:lnTo>
                    <a:lnTo>
                      <a:pt x="446" y="1021"/>
                    </a:lnTo>
                    <a:lnTo>
                      <a:pt x="470" y="1020"/>
                    </a:lnTo>
                    <a:lnTo>
                      <a:pt x="493" y="1016"/>
                    </a:lnTo>
                    <a:lnTo>
                      <a:pt x="515" y="1013"/>
                    </a:lnTo>
                    <a:lnTo>
                      <a:pt x="538" y="1009"/>
                    </a:lnTo>
                    <a:lnTo>
                      <a:pt x="560" y="1003"/>
                    </a:lnTo>
                    <a:lnTo>
                      <a:pt x="581" y="996"/>
                    </a:lnTo>
                    <a:lnTo>
                      <a:pt x="602" y="989"/>
                    </a:lnTo>
                    <a:lnTo>
                      <a:pt x="623" y="981"/>
                    </a:lnTo>
                    <a:lnTo>
                      <a:pt x="643" y="971"/>
                    </a:lnTo>
                    <a:lnTo>
                      <a:pt x="663" y="962"/>
                    </a:lnTo>
                    <a:lnTo>
                      <a:pt x="682" y="951"/>
                    </a:lnTo>
                    <a:lnTo>
                      <a:pt x="701" y="939"/>
                    </a:lnTo>
                    <a:lnTo>
                      <a:pt x="719" y="927"/>
                    </a:lnTo>
                    <a:lnTo>
                      <a:pt x="737" y="914"/>
                    </a:lnTo>
                    <a:lnTo>
                      <a:pt x="753" y="900"/>
                    </a:lnTo>
                    <a:lnTo>
                      <a:pt x="770" y="885"/>
                    </a:lnTo>
                    <a:lnTo>
                      <a:pt x="786" y="870"/>
                    </a:lnTo>
                    <a:lnTo>
                      <a:pt x="801" y="854"/>
                    </a:lnTo>
                    <a:lnTo>
                      <a:pt x="815" y="838"/>
                    </a:lnTo>
                    <a:lnTo>
                      <a:pt x="829" y="820"/>
                    </a:lnTo>
                    <a:lnTo>
                      <a:pt x="843" y="802"/>
                    </a:lnTo>
                    <a:lnTo>
                      <a:pt x="854" y="784"/>
                    </a:lnTo>
                    <a:lnTo>
                      <a:pt x="866" y="765"/>
                    </a:lnTo>
                    <a:lnTo>
                      <a:pt x="876" y="747"/>
                    </a:lnTo>
                    <a:lnTo>
                      <a:pt x="886" y="727"/>
                    </a:lnTo>
                    <a:lnTo>
                      <a:pt x="895" y="706"/>
                    </a:lnTo>
                    <a:lnTo>
                      <a:pt x="904" y="685"/>
                    </a:lnTo>
                    <a:lnTo>
                      <a:pt x="910" y="664"/>
                    </a:lnTo>
                    <a:lnTo>
                      <a:pt x="916" y="642"/>
                    </a:lnTo>
                    <a:lnTo>
                      <a:pt x="923" y="620"/>
                    </a:lnTo>
                    <a:lnTo>
                      <a:pt x="927" y="597"/>
                    </a:lnTo>
                    <a:lnTo>
                      <a:pt x="923" y="592"/>
                    </a:lnTo>
                    <a:lnTo>
                      <a:pt x="914" y="565"/>
                    </a:lnTo>
                    <a:lnTo>
                      <a:pt x="911" y="588"/>
                    </a:lnTo>
                    <a:lnTo>
                      <a:pt x="907" y="610"/>
                    </a:lnTo>
                    <a:lnTo>
                      <a:pt x="902" y="633"/>
                    </a:lnTo>
                    <a:lnTo>
                      <a:pt x="896" y="654"/>
                    </a:lnTo>
                    <a:lnTo>
                      <a:pt x="889" y="676"/>
                    </a:lnTo>
                    <a:lnTo>
                      <a:pt x="881" y="697"/>
                    </a:lnTo>
                    <a:lnTo>
                      <a:pt x="872" y="718"/>
                    </a:lnTo>
                    <a:lnTo>
                      <a:pt x="862" y="738"/>
                    </a:lnTo>
                    <a:lnTo>
                      <a:pt x="851" y="757"/>
                    </a:lnTo>
                    <a:lnTo>
                      <a:pt x="840" y="776"/>
                    </a:lnTo>
                    <a:lnTo>
                      <a:pt x="827" y="795"/>
                    </a:lnTo>
                    <a:lnTo>
                      <a:pt x="814" y="813"/>
                    </a:lnTo>
                    <a:lnTo>
                      <a:pt x="800" y="830"/>
                    </a:lnTo>
                    <a:lnTo>
                      <a:pt x="785" y="846"/>
                    </a:lnTo>
                    <a:lnTo>
                      <a:pt x="770" y="862"/>
                    </a:lnTo>
                    <a:lnTo>
                      <a:pt x="754" y="878"/>
                    </a:lnTo>
                    <a:lnTo>
                      <a:pt x="738" y="893"/>
                    </a:lnTo>
                    <a:lnTo>
                      <a:pt x="720" y="906"/>
                    </a:lnTo>
                    <a:lnTo>
                      <a:pt x="702" y="919"/>
                    </a:lnTo>
                    <a:lnTo>
                      <a:pt x="683" y="930"/>
                    </a:lnTo>
                    <a:lnTo>
                      <a:pt x="664" y="942"/>
                    </a:lnTo>
                    <a:lnTo>
                      <a:pt x="644" y="952"/>
                    </a:lnTo>
                    <a:lnTo>
                      <a:pt x="624" y="962"/>
                    </a:lnTo>
                    <a:lnTo>
                      <a:pt x="603" y="970"/>
                    </a:lnTo>
                    <a:lnTo>
                      <a:pt x="582" y="979"/>
                    </a:lnTo>
                    <a:lnTo>
                      <a:pt x="560" y="985"/>
                    </a:lnTo>
                    <a:lnTo>
                      <a:pt x="538" y="991"/>
                    </a:lnTo>
                    <a:lnTo>
                      <a:pt x="516" y="995"/>
                    </a:lnTo>
                    <a:lnTo>
                      <a:pt x="493" y="1000"/>
                    </a:lnTo>
                    <a:lnTo>
                      <a:pt x="470" y="1003"/>
                    </a:lnTo>
                    <a:lnTo>
                      <a:pt x="446" y="1004"/>
                    </a:lnTo>
                    <a:lnTo>
                      <a:pt x="422" y="1005"/>
                    </a:lnTo>
                    <a:lnTo>
                      <a:pt x="417" y="1005"/>
                    </a:lnTo>
                    <a:lnTo>
                      <a:pt x="411" y="1005"/>
                    </a:lnTo>
                    <a:lnTo>
                      <a:pt x="405" y="1005"/>
                    </a:lnTo>
                    <a:lnTo>
                      <a:pt x="399" y="1004"/>
                    </a:lnTo>
                    <a:lnTo>
                      <a:pt x="394" y="1004"/>
                    </a:lnTo>
                    <a:lnTo>
                      <a:pt x="388" y="1004"/>
                    </a:lnTo>
                    <a:lnTo>
                      <a:pt x="382" y="1003"/>
                    </a:lnTo>
                    <a:lnTo>
                      <a:pt x="377" y="1003"/>
                    </a:lnTo>
                    <a:lnTo>
                      <a:pt x="385" y="1015"/>
                    </a:lnTo>
                    <a:lnTo>
                      <a:pt x="388" y="1021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884920" y="2538360"/>
                <a:ext cx="290520" cy="319320"/>
              </a:xfrm>
              <a:custGeom>
                <a:avLst/>
                <a:gdLst/>
                <a:ahLst/>
                <a:rect l="l" t="t" r="r" b="b"/>
                <a:pathLst>
                  <a:path w="917" h="1005">
                    <a:moveTo>
                      <a:pt x="628" y="46"/>
                    </a:moveTo>
                    <a:lnTo>
                      <a:pt x="604" y="35"/>
                    </a:lnTo>
                    <a:lnTo>
                      <a:pt x="579" y="27"/>
                    </a:lnTo>
                    <a:lnTo>
                      <a:pt x="554" y="18"/>
                    </a:lnTo>
                    <a:lnTo>
                      <a:pt x="528" y="12"/>
                    </a:lnTo>
                    <a:lnTo>
                      <a:pt x="501" y="7"/>
                    </a:lnTo>
                    <a:lnTo>
                      <a:pt x="475" y="4"/>
                    </a:lnTo>
                    <a:lnTo>
                      <a:pt x="448" y="1"/>
                    </a:lnTo>
                    <a:lnTo>
                      <a:pt x="419" y="0"/>
                    </a:lnTo>
                    <a:lnTo>
                      <a:pt x="387" y="1"/>
                    </a:lnTo>
                    <a:lnTo>
                      <a:pt x="355" y="5"/>
                    </a:lnTo>
                    <a:lnTo>
                      <a:pt x="324" y="10"/>
                    </a:lnTo>
                    <a:lnTo>
                      <a:pt x="293" y="16"/>
                    </a:lnTo>
                    <a:lnTo>
                      <a:pt x="263" y="26"/>
                    </a:lnTo>
                    <a:lnTo>
                      <a:pt x="234" y="36"/>
                    </a:lnTo>
                    <a:lnTo>
                      <a:pt x="206" y="48"/>
                    </a:lnTo>
                    <a:lnTo>
                      <a:pt x="179" y="62"/>
                    </a:lnTo>
                    <a:lnTo>
                      <a:pt x="151" y="77"/>
                    </a:lnTo>
                    <a:lnTo>
                      <a:pt x="126" y="95"/>
                    </a:lnTo>
                    <a:lnTo>
                      <a:pt x="102" y="113"/>
                    </a:lnTo>
                    <a:lnTo>
                      <a:pt x="80" y="133"/>
                    </a:lnTo>
                    <a:lnTo>
                      <a:pt x="58" y="154"/>
                    </a:lnTo>
                    <a:lnTo>
                      <a:pt x="37" y="177"/>
                    </a:lnTo>
                    <a:lnTo>
                      <a:pt x="18" y="200"/>
                    </a:lnTo>
                    <a:lnTo>
                      <a:pt x="0" y="225"/>
                    </a:lnTo>
                    <a:lnTo>
                      <a:pt x="7" y="246"/>
                    </a:lnTo>
                    <a:lnTo>
                      <a:pt x="24" y="221"/>
                    </a:lnTo>
                    <a:lnTo>
                      <a:pt x="42" y="197"/>
                    </a:lnTo>
                    <a:lnTo>
                      <a:pt x="62" y="174"/>
                    </a:lnTo>
                    <a:lnTo>
                      <a:pt x="83" y="153"/>
                    </a:lnTo>
                    <a:lnTo>
                      <a:pt x="106" y="132"/>
                    </a:lnTo>
                    <a:lnTo>
                      <a:pt x="129" y="113"/>
                    </a:lnTo>
                    <a:lnTo>
                      <a:pt x="154" y="96"/>
                    </a:lnTo>
                    <a:lnTo>
                      <a:pt x="181" y="80"/>
                    </a:lnTo>
                    <a:lnTo>
                      <a:pt x="207" y="66"/>
                    </a:lnTo>
                    <a:lnTo>
                      <a:pt x="235" y="53"/>
                    </a:lnTo>
                    <a:lnTo>
                      <a:pt x="264" y="42"/>
                    </a:lnTo>
                    <a:lnTo>
                      <a:pt x="294" y="33"/>
                    </a:lnTo>
                    <a:lnTo>
                      <a:pt x="325" y="27"/>
                    </a:lnTo>
                    <a:lnTo>
                      <a:pt x="355" y="21"/>
                    </a:lnTo>
                    <a:lnTo>
                      <a:pt x="388" y="18"/>
                    </a:lnTo>
                    <a:lnTo>
                      <a:pt x="419" y="17"/>
                    </a:lnTo>
                    <a:lnTo>
                      <a:pt x="449" y="18"/>
                    </a:lnTo>
                    <a:lnTo>
                      <a:pt x="477" y="20"/>
                    </a:lnTo>
                    <a:lnTo>
                      <a:pt x="504" y="25"/>
                    </a:lnTo>
                    <a:lnTo>
                      <a:pt x="532" y="30"/>
                    </a:lnTo>
                    <a:lnTo>
                      <a:pt x="559" y="37"/>
                    </a:lnTo>
                    <a:lnTo>
                      <a:pt x="585" y="46"/>
                    </a:lnTo>
                    <a:lnTo>
                      <a:pt x="611" y="56"/>
                    </a:lnTo>
                    <a:lnTo>
                      <a:pt x="635" y="68"/>
                    </a:lnTo>
                    <a:lnTo>
                      <a:pt x="628" y="46"/>
                    </a:lnTo>
                    <a:close/>
                    <a:moveTo>
                      <a:pt x="379" y="1003"/>
                    </a:moveTo>
                    <a:lnTo>
                      <a:pt x="385" y="1004"/>
                    </a:lnTo>
                    <a:lnTo>
                      <a:pt x="390" y="1004"/>
                    </a:lnTo>
                    <a:lnTo>
                      <a:pt x="394" y="1004"/>
                    </a:lnTo>
                    <a:lnTo>
                      <a:pt x="399" y="1004"/>
                    </a:lnTo>
                    <a:lnTo>
                      <a:pt x="405" y="1005"/>
                    </a:lnTo>
                    <a:lnTo>
                      <a:pt x="410" y="1005"/>
                    </a:lnTo>
                    <a:lnTo>
                      <a:pt x="415" y="1005"/>
                    </a:lnTo>
                    <a:lnTo>
                      <a:pt x="419" y="1005"/>
                    </a:lnTo>
                    <a:lnTo>
                      <a:pt x="443" y="1004"/>
                    </a:lnTo>
                    <a:lnTo>
                      <a:pt x="467" y="1003"/>
                    </a:lnTo>
                    <a:lnTo>
                      <a:pt x="490" y="1000"/>
                    </a:lnTo>
                    <a:lnTo>
                      <a:pt x="512" y="997"/>
                    </a:lnTo>
                    <a:lnTo>
                      <a:pt x="535" y="992"/>
                    </a:lnTo>
                    <a:lnTo>
                      <a:pt x="556" y="986"/>
                    </a:lnTo>
                    <a:lnTo>
                      <a:pt x="578" y="980"/>
                    </a:lnTo>
                    <a:lnTo>
                      <a:pt x="599" y="972"/>
                    </a:lnTo>
                    <a:lnTo>
                      <a:pt x="620" y="964"/>
                    </a:lnTo>
                    <a:lnTo>
                      <a:pt x="640" y="955"/>
                    </a:lnTo>
                    <a:lnTo>
                      <a:pt x="660" y="944"/>
                    </a:lnTo>
                    <a:lnTo>
                      <a:pt x="679" y="933"/>
                    </a:lnTo>
                    <a:lnTo>
                      <a:pt x="698" y="921"/>
                    </a:lnTo>
                    <a:lnTo>
                      <a:pt x="716" y="909"/>
                    </a:lnTo>
                    <a:lnTo>
                      <a:pt x="734" y="896"/>
                    </a:lnTo>
                    <a:lnTo>
                      <a:pt x="750" y="881"/>
                    </a:lnTo>
                    <a:lnTo>
                      <a:pt x="766" y="867"/>
                    </a:lnTo>
                    <a:lnTo>
                      <a:pt x="782" y="851"/>
                    </a:lnTo>
                    <a:lnTo>
                      <a:pt x="797" y="835"/>
                    </a:lnTo>
                    <a:lnTo>
                      <a:pt x="811" y="818"/>
                    </a:lnTo>
                    <a:lnTo>
                      <a:pt x="824" y="801"/>
                    </a:lnTo>
                    <a:lnTo>
                      <a:pt x="837" y="783"/>
                    </a:lnTo>
                    <a:lnTo>
                      <a:pt x="849" y="765"/>
                    </a:lnTo>
                    <a:lnTo>
                      <a:pt x="860" y="746"/>
                    </a:lnTo>
                    <a:lnTo>
                      <a:pt x="870" y="726"/>
                    </a:lnTo>
                    <a:lnTo>
                      <a:pt x="880" y="706"/>
                    </a:lnTo>
                    <a:lnTo>
                      <a:pt x="888" y="685"/>
                    </a:lnTo>
                    <a:lnTo>
                      <a:pt x="896" y="664"/>
                    </a:lnTo>
                    <a:lnTo>
                      <a:pt x="903" y="643"/>
                    </a:lnTo>
                    <a:lnTo>
                      <a:pt x="908" y="621"/>
                    </a:lnTo>
                    <a:lnTo>
                      <a:pt x="913" y="599"/>
                    </a:lnTo>
                    <a:lnTo>
                      <a:pt x="917" y="576"/>
                    </a:lnTo>
                    <a:lnTo>
                      <a:pt x="905" y="536"/>
                    </a:lnTo>
                    <a:lnTo>
                      <a:pt x="903" y="559"/>
                    </a:lnTo>
                    <a:lnTo>
                      <a:pt x="900" y="582"/>
                    </a:lnTo>
                    <a:lnTo>
                      <a:pt x="894" y="605"/>
                    </a:lnTo>
                    <a:lnTo>
                      <a:pt x="889" y="627"/>
                    </a:lnTo>
                    <a:lnTo>
                      <a:pt x="883" y="650"/>
                    </a:lnTo>
                    <a:lnTo>
                      <a:pt x="875" y="671"/>
                    </a:lnTo>
                    <a:lnTo>
                      <a:pt x="867" y="692"/>
                    </a:lnTo>
                    <a:lnTo>
                      <a:pt x="858" y="713"/>
                    </a:lnTo>
                    <a:lnTo>
                      <a:pt x="848" y="733"/>
                    </a:lnTo>
                    <a:lnTo>
                      <a:pt x="837" y="753"/>
                    </a:lnTo>
                    <a:lnTo>
                      <a:pt x="824" y="772"/>
                    </a:lnTo>
                    <a:lnTo>
                      <a:pt x="811" y="790"/>
                    </a:lnTo>
                    <a:lnTo>
                      <a:pt x="798" y="808"/>
                    </a:lnTo>
                    <a:lnTo>
                      <a:pt x="784" y="825"/>
                    </a:lnTo>
                    <a:lnTo>
                      <a:pt x="768" y="841"/>
                    </a:lnTo>
                    <a:lnTo>
                      <a:pt x="752" y="857"/>
                    </a:lnTo>
                    <a:lnTo>
                      <a:pt x="736" y="872"/>
                    </a:lnTo>
                    <a:lnTo>
                      <a:pt x="719" y="886"/>
                    </a:lnTo>
                    <a:lnTo>
                      <a:pt x="700" y="899"/>
                    </a:lnTo>
                    <a:lnTo>
                      <a:pt x="682" y="912"/>
                    </a:lnTo>
                    <a:lnTo>
                      <a:pt x="662" y="923"/>
                    </a:lnTo>
                    <a:lnTo>
                      <a:pt x="643" y="934"/>
                    </a:lnTo>
                    <a:lnTo>
                      <a:pt x="622" y="944"/>
                    </a:lnTo>
                    <a:lnTo>
                      <a:pt x="602" y="953"/>
                    </a:lnTo>
                    <a:lnTo>
                      <a:pt x="580" y="961"/>
                    </a:lnTo>
                    <a:lnTo>
                      <a:pt x="559" y="969"/>
                    </a:lnTo>
                    <a:lnTo>
                      <a:pt x="536" y="975"/>
                    </a:lnTo>
                    <a:lnTo>
                      <a:pt x="514" y="979"/>
                    </a:lnTo>
                    <a:lnTo>
                      <a:pt x="491" y="983"/>
                    </a:lnTo>
                    <a:lnTo>
                      <a:pt x="468" y="986"/>
                    </a:lnTo>
                    <a:lnTo>
                      <a:pt x="443" y="987"/>
                    </a:lnTo>
                    <a:lnTo>
                      <a:pt x="419" y="988"/>
                    </a:lnTo>
                    <a:lnTo>
                      <a:pt x="413" y="988"/>
                    </a:lnTo>
                    <a:lnTo>
                      <a:pt x="407" y="988"/>
                    </a:lnTo>
                    <a:lnTo>
                      <a:pt x="400" y="987"/>
                    </a:lnTo>
                    <a:lnTo>
                      <a:pt x="394" y="987"/>
                    </a:lnTo>
                    <a:lnTo>
                      <a:pt x="387" y="987"/>
                    </a:lnTo>
                    <a:lnTo>
                      <a:pt x="380" y="986"/>
                    </a:lnTo>
                    <a:lnTo>
                      <a:pt x="374" y="986"/>
                    </a:lnTo>
                    <a:lnTo>
                      <a:pt x="368" y="985"/>
                    </a:lnTo>
                    <a:lnTo>
                      <a:pt x="379" y="1003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886360" y="2541600"/>
                <a:ext cx="287280" cy="312840"/>
              </a:xfrm>
              <a:custGeom>
                <a:avLst/>
                <a:gdLst/>
                <a:ahLst/>
                <a:rect l="l" t="t" r="r" b="b"/>
                <a:pathLst>
                  <a:path w="907" h="988">
                    <a:moveTo>
                      <a:pt x="628" y="47"/>
                    </a:moveTo>
                    <a:lnTo>
                      <a:pt x="603" y="37"/>
                    </a:lnTo>
                    <a:lnTo>
                      <a:pt x="578" y="27"/>
                    </a:lnTo>
                    <a:lnTo>
                      <a:pt x="552" y="19"/>
                    </a:lnTo>
                    <a:lnTo>
                      <a:pt x="526" y="12"/>
                    </a:lnTo>
                    <a:lnTo>
                      <a:pt x="499" y="7"/>
                    </a:lnTo>
                    <a:lnTo>
                      <a:pt x="472" y="3"/>
                    </a:lnTo>
                    <a:lnTo>
                      <a:pt x="444" y="1"/>
                    </a:lnTo>
                    <a:lnTo>
                      <a:pt x="415" y="0"/>
                    </a:lnTo>
                    <a:lnTo>
                      <a:pt x="383" y="1"/>
                    </a:lnTo>
                    <a:lnTo>
                      <a:pt x="351" y="4"/>
                    </a:lnTo>
                    <a:lnTo>
                      <a:pt x="320" y="9"/>
                    </a:lnTo>
                    <a:lnTo>
                      <a:pt x="289" y="16"/>
                    </a:lnTo>
                    <a:lnTo>
                      <a:pt x="260" y="25"/>
                    </a:lnTo>
                    <a:lnTo>
                      <a:pt x="230" y="36"/>
                    </a:lnTo>
                    <a:lnTo>
                      <a:pt x="202" y="48"/>
                    </a:lnTo>
                    <a:lnTo>
                      <a:pt x="176" y="62"/>
                    </a:lnTo>
                    <a:lnTo>
                      <a:pt x="149" y="78"/>
                    </a:lnTo>
                    <a:lnTo>
                      <a:pt x="124" y="94"/>
                    </a:lnTo>
                    <a:lnTo>
                      <a:pt x="100" y="113"/>
                    </a:lnTo>
                    <a:lnTo>
                      <a:pt x="77" y="133"/>
                    </a:lnTo>
                    <a:lnTo>
                      <a:pt x="56" y="155"/>
                    </a:lnTo>
                    <a:lnTo>
                      <a:pt x="36" y="177"/>
                    </a:lnTo>
                    <a:lnTo>
                      <a:pt x="17" y="201"/>
                    </a:lnTo>
                    <a:lnTo>
                      <a:pt x="0" y="227"/>
                    </a:lnTo>
                    <a:lnTo>
                      <a:pt x="6" y="248"/>
                    </a:lnTo>
                    <a:lnTo>
                      <a:pt x="23" y="221"/>
                    </a:lnTo>
                    <a:lnTo>
                      <a:pt x="41" y="197"/>
                    </a:lnTo>
                    <a:lnTo>
                      <a:pt x="60" y="174"/>
                    </a:lnTo>
                    <a:lnTo>
                      <a:pt x="81" y="153"/>
                    </a:lnTo>
                    <a:lnTo>
                      <a:pt x="103" y="132"/>
                    </a:lnTo>
                    <a:lnTo>
                      <a:pt x="127" y="113"/>
                    </a:lnTo>
                    <a:lnTo>
                      <a:pt x="151" y="95"/>
                    </a:lnTo>
                    <a:lnTo>
                      <a:pt x="178" y="80"/>
                    </a:lnTo>
                    <a:lnTo>
                      <a:pt x="204" y="66"/>
                    </a:lnTo>
                    <a:lnTo>
                      <a:pt x="232" y="53"/>
                    </a:lnTo>
                    <a:lnTo>
                      <a:pt x="261" y="42"/>
                    </a:lnTo>
                    <a:lnTo>
                      <a:pt x="290" y="33"/>
                    </a:lnTo>
                    <a:lnTo>
                      <a:pt x="321" y="26"/>
                    </a:lnTo>
                    <a:lnTo>
                      <a:pt x="352" y="21"/>
                    </a:lnTo>
                    <a:lnTo>
                      <a:pt x="367" y="19"/>
                    </a:lnTo>
                    <a:lnTo>
                      <a:pt x="384" y="18"/>
                    </a:lnTo>
                    <a:lnTo>
                      <a:pt x="399" y="17"/>
                    </a:lnTo>
                    <a:lnTo>
                      <a:pt x="415" y="17"/>
                    </a:lnTo>
                    <a:lnTo>
                      <a:pt x="446" y="18"/>
                    </a:lnTo>
                    <a:lnTo>
                      <a:pt x="475" y="20"/>
                    </a:lnTo>
                    <a:lnTo>
                      <a:pt x="504" y="24"/>
                    </a:lnTo>
                    <a:lnTo>
                      <a:pt x="532" y="30"/>
                    </a:lnTo>
                    <a:lnTo>
                      <a:pt x="559" y="39"/>
                    </a:lnTo>
                    <a:lnTo>
                      <a:pt x="586" y="47"/>
                    </a:lnTo>
                    <a:lnTo>
                      <a:pt x="612" y="59"/>
                    </a:lnTo>
                    <a:lnTo>
                      <a:pt x="637" y="70"/>
                    </a:lnTo>
                    <a:lnTo>
                      <a:pt x="634" y="65"/>
                    </a:lnTo>
                    <a:lnTo>
                      <a:pt x="628" y="47"/>
                    </a:lnTo>
                    <a:close/>
                    <a:moveTo>
                      <a:pt x="370" y="986"/>
                    </a:moveTo>
                    <a:lnTo>
                      <a:pt x="375" y="986"/>
                    </a:lnTo>
                    <a:lnTo>
                      <a:pt x="381" y="987"/>
                    </a:lnTo>
                    <a:lnTo>
                      <a:pt x="387" y="987"/>
                    </a:lnTo>
                    <a:lnTo>
                      <a:pt x="392" y="987"/>
                    </a:lnTo>
                    <a:lnTo>
                      <a:pt x="398" y="988"/>
                    </a:lnTo>
                    <a:lnTo>
                      <a:pt x="404" y="988"/>
                    </a:lnTo>
                    <a:lnTo>
                      <a:pt x="410" y="988"/>
                    </a:lnTo>
                    <a:lnTo>
                      <a:pt x="415" y="988"/>
                    </a:lnTo>
                    <a:lnTo>
                      <a:pt x="439" y="987"/>
                    </a:lnTo>
                    <a:lnTo>
                      <a:pt x="463" y="986"/>
                    </a:lnTo>
                    <a:lnTo>
                      <a:pt x="486" y="983"/>
                    </a:lnTo>
                    <a:lnTo>
                      <a:pt x="509" y="978"/>
                    </a:lnTo>
                    <a:lnTo>
                      <a:pt x="531" y="974"/>
                    </a:lnTo>
                    <a:lnTo>
                      <a:pt x="553" y="968"/>
                    </a:lnTo>
                    <a:lnTo>
                      <a:pt x="575" y="962"/>
                    </a:lnTo>
                    <a:lnTo>
                      <a:pt x="596" y="953"/>
                    </a:lnTo>
                    <a:lnTo>
                      <a:pt x="617" y="945"/>
                    </a:lnTo>
                    <a:lnTo>
                      <a:pt x="637" y="935"/>
                    </a:lnTo>
                    <a:lnTo>
                      <a:pt x="657" y="925"/>
                    </a:lnTo>
                    <a:lnTo>
                      <a:pt x="676" y="913"/>
                    </a:lnTo>
                    <a:lnTo>
                      <a:pt x="695" y="902"/>
                    </a:lnTo>
                    <a:lnTo>
                      <a:pt x="713" y="889"/>
                    </a:lnTo>
                    <a:lnTo>
                      <a:pt x="731" y="876"/>
                    </a:lnTo>
                    <a:lnTo>
                      <a:pt x="747" y="861"/>
                    </a:lnTo>
                    <a:lnTo>
                      <a:pt x="763" y="845"/>
                    </a:lnTo>
                    <a:lnTo>
                      <a:pt x="778" y="829"/>
                    </a:lnTo>
                    <a:lnTo>
                      <a:pt x="793" y="813"/>
                    </a:lnTo>
                    <a:lnTo>
                      <a:pt x="807" y="796"/>
                    </a:lnTo>
                    <a:lnTo>
                      <a:pt x="820" y="778"/>
                    </a:lnTo>
                    <a:lnTo>
                      <a:pt x="833" y="759"/>
                    </a:lnTo>
                    <a:lnTo>
                      <a:pt x="844" y="740"/>
                    </a:lnTo>
                    <a:lnTo>
                      <a:pt x="855" y="721"/>
                    </a:lnTo>
                    <a:lnTo>
                      <a:pt x="865" y="701"/>
                    </a:lnTo>
                    <a:lnTo>
                      <a:pt x="874" y="680"/>
                    </a:lnTo>
                    <a:lnTo>
                      <a:pt x="882" y="659"/>
                    </a:lnTo>
                    <a:lnTo>
                      <a:pt x="889" y="637"/>
                    </a:lnTo>
                    <a:lnTo>
                      <a:pt x="895" y="616"/>
                    </a:lnTo>
                    <a:lnTo>
                      <a:pt x="900" y="593"/>
                    </a:lnTo>
                    <a:lnTo>
                      <a:pt x="904" y="571"/>
                    </a:lnTo>
                    <a:lnTo>
                      <a:pt x="907" y="548"/>
                    </a:lnTo>
                    <a:lnTo>
                      <a:pt x="894" y="504"/>
                    </a:lnTo>
                    <a:lnTo>
                      <a:pt x="892" y="528"/>
                    </a:lnTo>
                    <a:lnTo>
                      <a:pt x="890" y="551"/>
                    </a:lnTo>
                    <a:lnTo>
                      <a:pt x="886" y="575"/>
                    </a:lnTo>
                    <a:lnTo>
                      <a:pt x="882" y="598"/>
                    </a:lnTo>
                    <a:lnTo>
                      <a:pt x="877" y="620"/>
                    </a:lnTo>
                    <a:lnTo>
                      <a:pt x="869" y="642"/>
                    </a:lnTo>
                    <a:lnTo>
                      <a:pt x="862" y="664"/>
                    </a:lnTo>
                    <a:lnTo>
                      <a:pt x="854" y="685"/>
                    </a:lnTo>
                    <a:lnTo>
                      <a:pt x="843" y="706"/>
                    </a:lnTo>
                    <a:lnTo>
                      <a:pt x="833" y="726"/>
                    </a:lnTo>
                    <a:lnTo>
                      <a:pt x="821" y="746"/>
                    </a:lnTo>
                    <a:lnTo>
                      <a:pt x="808" y="765"/>
                    </a:lnTo>
                    <a:lnTo>
                      <a:pt x="795" y="784"/>
                    </a:lnTo>
                    <a:lnTo>
                      <a:pt x="781" y="801"/>
                    </a:lnTo>
                    <a:lnTo>
                      <a:pt x="766" y="818"/>
                    </a:lnTo>
                    <a:lnTo>
                      <a:pt x="751" y="835"/>
                    </a:lnTo>
                    <a:lnTo>
                      <a:pt x="734" y="850"/>
                    </a:lnTo>
                    <a:lnTo>
                      <a:pt x="717" y="865"/>
                    </a:lnTo>
                    <a:lnTo>
                      <a:pt x="698" y="879"/>
                    </a:lnTo>
                    <a:lnTo>
                      <a:pt x="680" y="891"/>
                    </a:lnTo>
                    <a:lnTo>
                      <a:pt x="660" y="904"/>
                    </a:lnTo>
                    <a:lnTo>
                      <a:pt x="641" y="914"/>
                    </a:lnTo>
                    <a:lnTo>
                      <a:pt x="620" y="925"/>
                    </a:lnTo>
                    <a:lnTo>
                      <a:pt x="599" y="934"/>
                    </a:lnTo>
                    <a:lnTo>
                      <a:pt x="578" y="943"/>
                    </a:lnTo>
                    <a:lnTo>
                      <a:pt x="556" y="950"/>
                    </a:lnTo>
                    <a:lnTo>
                      <a:pt x="534" y="956"/>
                    </a:lnTo>
                    <a:lnTo>
                      <a:pt x="511" y="962"/>
                    </a:lnTo>
                    <a:lnTo>
                      <a:pt x="488" y="966"/>
                    </a:lnTo>
                    <a:lnTo>
                      <a:pt x="464" y="969"/>
                    </a:lnTo>
                    <a:lnTo>
                      <a:pt x="439" y="970"/>
                    </a:lnTo>
                    <a:lnTo>
                      <a:pt x="415" y="971"/>
                    </a:lnTo>
                    <a:lnTo>
                      <a:pt x="408" y="971"/>
                    </a:lnTo>
                    <a:lnTo>
                      <a:pt x="402" y="971"/>
                    </a:lnTo>
                    <a:lnTo>
                      <a:pt x="394" y="971"/>
                    </a:lnTo>
                    <a:lnTo>
                      <a:pt x="387" y="970"/>
                    </a:lnTo>
                    <a:lnTo>
                      <a:pt x="380" y="970"/>
                    </a:lnTo>
                    <a:lnTo>
                      <a:pt x="372" y="969"/>
                    </a:lnTo>
                    <a:lnTo>
                      <a:pt x="365" y="969"/>
                    </a:lnTo>
                    <a:lnTo>
                      <a:pt x="358" y="968"/>
                    </a:lnTo>
                    <a:lnTo>
                      <a:pt x="370" y="9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86360" y="2543040"/>
                <a:ext cx="285840" cy="308160"/>
              </a:xfrm>
              <a:custGeom>
                <a:avLst/>
                <a:gdLst/>
                <a:ahLst/>
                <a:rect l="l" t="t" r="r" b="b"/>
                <a:pathLst>
                  <a:path w="898" h="971">
                    <a:moveTo>
                      <a:pt x="628" y="51"/>
                    </a:moveTo>
                    <a:lnTo>
                      <a:pt x="604" y="39"/>
                    </a:lnTo>
                    <a:lnTo>
                      <a:pt x="578" y="29"/>
                    </a:lnTo>
                    <a:lnTo>
                      <a:pt x="552" y="20"/>
                    </a:lnTo>
                    <a:lnTo>
                      <a:pt x="525" y="13"/>
                    </a:lnTo>
                    <a:lnTo>
                      <a:pt x="497" y="8"/>
                    </a:lnTo>
                    <a:lnTo>
                      <a:pt x="470" y="3"/>
                    </a:lnTo>
                    <a:lnTo>
                      <a:pt x="442" y="1"/>
                    </a:lnTo>
                    <a:lnTo>
                      <a:pt x="412" y="0"/>
                    </a:lnTo>
                    <a:lnTo>
                      <a:pt x="381" y="1"/>
                    </a:lnTo>
                    <a:lnTo>
                      <a:pt x="348" y="4"/>
                    </a:lnTo>
                    <a:lnTo>
                      <a:pt x="318" y="10"/>
                    </a:lnTo>
                    <a:lnTo>
                      <a:pt x="287" y="16"/>
                    </a:lnTo>
                    <a:lnTo>
                      <a:pt x="257" y="25"/>
                    </a:lnTo>
                    <a:lnTo>
                      <a:pt x="228" y="36"/>
                    </a:lnTo>
                    <a:lnTo>
                      <a:pt x="200" y="49"/>
                    </a:lnTo>
                    <a:lnTo>
                      <a:pt x="174" y="63"/>
                    </a:lnTo>
                    <a:lnTo>
                      <a:pt x="147" y="79"/>
                    </a:lnTo>
                    <a:lnTo>
                      <a:pt x="122" y="96"/>
                    </a:lnTo>
                    <a:lnTo>
                      <a:pt x="99" y="115"/>
                    </a:lnTo>
                    <a:lnTo>
                      <a:pt x="76" y="135"/>
                    </a:lnTo>
                    <a:lnTo>
                      <a:pt x="55" y="157"/>
                    </a:lnTo>
                    <a:lnTo>
                      <a:pt x="35" y="180"/>
                    </a:lnTo>
                    <a:lnTo>
                      <a:pt x="17" y="204"/>
                    </a:lnTo>
                    <a:lnTo>
                      <a:pt x="0" y="229"/>
                    </a:lnTo>
                    <a:lnTo>
                      <a:pt x="7" y="250"/>
                    </a:lnTo>
                    <a:lnTo>
                      <a:pt x="23" y="224"/>
                    </a:lnTo>
                    <a:lnTo>
                      <a:pt x="40" y="200"/>
                    </a:lnTo>
                    <a:lnTo>
                      <a:pt x="60" y="177"/>
                    </a:lnTo>
                    <a:lnTo>
                      <a:pt x="80" y="155"/>
                    </a:lnTo>
                    <a:lnTo>
                      <a:pt x="102" y="134"/>
                    </a:lnTo>
                    <a:lnTo>
                      <a:pt x="125" y="115"/>
                    </a:lnTo>
                    <a:lnTo>
                      <a:pt x="149" y="97"/>
                    </a:lnTo>
                    <a:lnTo>
                      <a:pt x="176" y="81"/>
                    </a:lnTo>
                    <a:lnTo>
                      <a:pt x="202" y="66"/>
                    </a:lnTo>
                    <a:lnTo>
                      <a:pt x="229" y="54"/>
                    </a:lnTo>
                    <a:lnTo>
                      <a:pt x="258" y="43"/>
                    </a:lnTo>
                    <a:lnTo>
                      <a:pt x="287" y="34"/>
                    </a:lnTo>
                    <a:lnTo>
                      <a:pt x="303" y="30"/>
                    </a:lnTo>
                    <a:lnTo>
                      <a:pt x="318" y="26"/>
                    </a:lnTo>
                    <a:lnTo>
                      <a:pt x="333" y="23"/>
                    </a:lnTo>
                    <a:lnTo>
                      <a:pt x="349" y="21"/>
                    </a:lnTo>
                    <a:lnTo>
                      <a:pt x="365" y="19"/>
                    </a:lnTo>
                    <a:lnTo>
                      <a:pt x="381" y="18"/>
                    </a:lnTo>
                    <a:lnTo>
                      <a:pt x="396" y="17"/>
                    </a:lnTo>
                    <a:lnTo>
                      <a:pt x="412" y="17"/>
                    </a:lnTo>
                    <a:lnTo>
                      <a:pt x="444" y="18"/>
                    </a:lnTo>
                    <a:lnTo>
                      <a:pt x="475" y="21"/>
                    </a:lnTo>
                    <a:lnTo>
                      <a:pt x="505" y="25"/>
                    </a:lnTo>
                    <a:lnTo>
                      <a:pt x="534" y="33"/>
                    </a:lnTo>
                    <a:lnTo>
                      <a:pt x="564" y="41"/>
                    </a:lnTo>
                    <a:lnTo>
                      <a:pt x="591" y="52"/>
                    </a:lnTo>
                    <a:lnTo>
                      <a:pt x="618" y="64"/>
                    </a:lnTo>
                    <a:lnTo>
                      <a:pt x="645" y="78"/>
                    </a:lnTo>
                    <a:lnTo>
                      <a:pt x="631" y="57"/>
                    </a:lnTo>
                    <a:lnTo>
                      <a:pt x="628" y="51"/>
                    </a:lnTo>
                    <a:close/>
                    <a:moveTo>
                      <a:pt x="361" y="968"/>
                    </a:moveTo>
                    <a:lnTo>
                      <a:pt x="367" y="969"/>
                    </a:lnTo>
                    <a:lnTo>
                      <a:pt x="373" y="969"/>
                    </a:lnTo>
                    <a:lnTo>
                      <a:pt x="380" y="970"/>
                    </a:lnTo>
                    <a:lnTo>
                      <a:pt x="387" y="970"/>
                    </a:lnTo>
                    <a:lnTo>
                      <a:pt x="393" y="971"/>
                    </a:lnTo>
                    <a:lnTo>
                      <a:pt x="400" y="971"/>
                    </a:lnTo>
                    <a:lnTo>
                      <a:pt x="406" y="971"/>
                    </a:lnTo>
                    <a:lnTo>
                      <a:pt x="412" y="971"/>
                    </a:lnTo>
                    <a:lnTo>
                      <a:pt x="436" y="970"/>
                    </a:lnTo>
                    <a:lnTo>
                      <a:pt x="461" y="969"/>
                    </a:lnTo>
                    <a:lnTo>
                      <a:pt x="484" y="966"/>
                    </a:lnTo>
                    <a:lnTo>
                      <a:pt x="507" y="962"/>
                    </a:lnTo>
                    <a:lnTo>
                      <a:pt x="529" y="958"/>
                    </a:lnTo>
                    <a:lnTo>
                      <a:pt x="552" y="952"/>
                    </a:lnTo>
                    <a:lnTo>
                      <a:pt x="573" y="944"/>
                    </a:lnTo>
                    <a:lnTo>
                      <a:pt x="595" y="936"/>
                    </a:lnTo>
                    <a:lnTo>
                      <a:pt x="615" y="927"/>
                    </a:lnTo>
                    <a:lnTo>
                      <a:pt x="636" y="918"/>
                    </a:lnTo>
                    <a:lnTo>
                      <a:pt x="655" y="906"/>
                    </a:lnTo>
                    <a:lnTo>
                      <a:pt x="675" y="895"/>
                    </a:lnTo>
                    <a:lnTo>
                      <a:pt x="693" y="882"/>
                    </a:lnTo>
                    <a:lnTo>
                      <a:pt x="711" y="869"/>
                    </a:lnTo>
                    <a:lnTo>
                      <a:pt x="729" y="855"/>
                    </a:lnTo>
                    <a:lnTo>
                      <a:pt x="745" y="840"/>
                    </a:lnTo>
                    <a:lnTo>
                      <a:pt x="761" y="824"/>
                    </a:lnTo>
                    <a:lnTo>
                      <a:pt x="776" y="808"/>
                    </a:lnTo>
                    <a:lnTo>
                      <a:pt x="791" y="791"/>
                    </a:lnTo>
                    <a:lnTo>
                      <a:pt x="804" y="773"/>
                    </a:lnTo>
                    <a:lnTo>
                      <a:pt x="817" y="755"/>
                    </a:lnTo>
                    <a:lnTo>
                      <a:pt x="830" y="736"/>
                    </a:lnTo>
                    <a:lnTo>
                      <a:pt x="840" y="716"/>
                    </a:lnTo>
                    <a:lnTo>
                      <a:pt x="851" y="696"/>
                    </a:lnTo>
                    <a:lnTo>
                      <a:pt x="860" y="675"/>
                    </a:lnTo>
                    <a:lnTo>
                      <a:pt x="868" y="654"/>
                    </a:lnTo>
                    <a:lnTo>
                      <a:pt x="876" y="633"/>
                    </a:lnTo>
                    <a:lnTo>
                      <a:pt x="882" y="611"/>
                    </a:lnTo>
                    <a:lnTo>
                      <a:pt x="887" y="588"/>
                    </a:lnTo>
                    <a:lnTo>
                      <a:pt x="893" y="565"/>
                    </a:lnTo>
                    <a:lnTo>
                      <a:pt x="896" y="542"/>
                    </a:lnTo>
                    <a:lnTo>
                      <a:pt x="898" y="519"/>
                    </a:lnTo>
                    <a:lnTo>
                      <a:pt x="885" y="480"/>
                    </a:lnTo>
                    <a:lnTo>
                      <a:pt x="882" y="475"/>
                    </a:lnTo>
                    <a:lnTo>
                      <a:pt x="882" y="476"/>
                    </a:lnTo>
                    <a:lnTo>
                      <a:pt x="882" y="478"/>
                    </a:lnTo>
                    <a:lnTo>
                      <a:pt x="882" y="479"/>
                    </a:lnTo>
                    <a:lnTo>
                      <a:pt x="882" y="480"/>
                    </a:lnTo>
                    <a:lnTo>
                      <a:pt x="882" y="482"/>
                    </a:lnTo>
                    <a:lnTo>
                      <a:pt x="882" y="483"/>
                    </a:lnTo>
                    <a:lnTo>
                      <a:pt x="882" y="484"/>
                    </a:lnTo>
                    <a:lnTo>
                      <a:pt x="882" y="485"/>
                    </a:lnTo>
                    <a:lnTo>
                      <a:pt x="881" y="509"/>
                    </a:lnTo>
                    <a:lnTo>
                      <a:pt x="880" y="534"/>
                    </a:lnTo>
                    <a:lnTo>
                      <a:pt x="877" y="557"/>
                    </a:lnTo>
                    <a:lnTo>
                      <a:pt x="873" y="580"/>
                    </a:lnTo>
                    <a:lnTo>
                      <a:pt x="867" y="603"/>
                    </a:lnTo>
                    <a:lnTo>
                      <a:pt x="861" y="625"/>
                    </a:lnTo>
                    <a:lnTo>
                      <a:pt x="854" y="647"/>
                    </a:lnTo>
                    <a:lnTo>
                      <a:pt x="845" y="668"/>
                    </a:lnTo>
                    <a:lnTo>
                      <a:pt x="836" y="689"/>
                    </a:lnTo>
                    <a:lnTo>
                      <a:pt x="825" y="709"/>
                    </a:lnTo>
                    <a:lnTo>
                      <a:pt x="814" y="729"/>
                    </a:lnTo>
                    <a:lnTo>
                      <a:pt x="802" y="748"/>
                    </a:lnTo>
                    <a:lnTo>
                      <a:pt x="789" y="767"/>
                    </a:lnTo>
                    <a:lnTo>
                      <a:pt x="775" y="784"/>
                    </a:lnTo>
                    <a:lnTo>
                      <a:pt x="760" y="801"/>
                    </a:lnTo>
                    <a:lnTo>
                      <a:pt x="744" y="817"/>
                    </a:lnTo>
                    <a:lnTo>
                      <a:pt x="729" y="833"/>
                    </a:lnTo>
                    <a:lnTo>
                      <a:pt x="711" y="848"/>
                    </a:lnTo>
                    <a:lnTo>
                      <a:pt x="694" y="861"/>
                    </a:lnTo>
                    <a:lnTo>
                      <a:pt x="675" y="875"/>
                    </a:lnTo>
                    <a:lnTo>
                      <a:pt x="656" y="886"/>
                    </a:lnTo>
                    <a:lnTo>
                      <a:pt x="636" y="898"/>
                    </a:lnTo>
                    <a:lnTo>
                      <a:pt x="616" y="908"/>
                    </a:lnTo>
                    <a:lnTo>
                      <a:pt x="595" y="918"/>
                    </a:lnTo>
                    <a:lnTo>
                      <a:pt x="574" y="926"/>
                    </a:lnTo>
                    <a:lnTo>
                      <a:pt x="552" y="934"/>
                    </a:lnTo>
                    <a:lnTo>
                      <a:pt x="530" y="940"/>
                    </a:lnTo>
                    <a:lnTo>
                      <a:pt x="507" y="945"/>
                    </a:lnTo>
                    <a:lnTo>
                      <a:pt x="484" y="949"/>
                    </a:lnTo>
                    <a:lnTo>
                      <a:pt x="461" y="953"/>
                    </a:lnTo>
                    <a:lnTo>
                      <a:pt x="436" y="954"/>
                    </a:lnTo>
                    <a:lnTo>
                      <a:pt x="412" y="955"/>
                    </a:lnTo>
                    <a:lnTo>
                      <a:pt x="405" y="955"/>
                    </a:lnTo>
                    <a:lnTo>
                      <a:pt x="396" y="955"/>
                    </a:lnTo>
                    <a:lnTo>
                      <a:pt x="388" y="954"/>
                    </a:lnTo>
                    <a:lnTo>
                      <a:pt x="381" y="954"/>
                    </a:lnTo>
                    <a:lnTo>
                      <a:pt x="372" y="953"/>
                    </a:lnTo>
                    <a:lnTo>
                      <a:pt x="365" y="953"/>
                    </a:lnTo>
                    <a:lnTo>
                      <a:pt x="357" y="952"/>
                    </a:lnTo>
                    <a:lnTo>
                      <a:pt x="349" y="950"/>
                    </a:lnTo>
                    <a:lnTo>
                      <a:pt x="361" y="968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888160" y="2546280"/>
                <a:ext cx="280800" cy="303120"/>
              </a:xfrm>
              <a:custGeom>
                <a:avLst/>
                <a:gdLst/>
                <a:ahLst/>
                <a:rect l="l" t="t" r="r" b="b"/>
                <a:pathLst>
                  <a:path w="888" h="954">
                    <a:moveTo>
                      <a:pt x="631" y="54"/>
                    </a:moveTo>
                    <a:lnTo>
                      <a:pt x="606" y="42"/>
                    </a:lnTo>
                    <a:lnTo>
                      <a:pt x="580" y="31"/>
                    </a:lnTo>
                    <a:lnTo>
                      <a:pt x="553" y="22"/>
                    </a:lnTo>
                    <a:lnTo>
                      <a:pt x="526" y="13"/>
                    </a:lnTo>
                    <a:lnTo>
                      <a:pt x="498" y="7"/>
                    </a:lnTo>
                    <a:lnTo>
                      <a:pt x="469" y="3"/>
                    </a:lnTo>
                    <a:lnTo>
                      <a:pt x="440" y="1"/>
                    </a:lnTo>
                    <a:lnTo>
                      <a:pt x="409" y="0"/>
                    </a:lnTo>
                    <a:lnTo>
                      <a:pt x="393" y="0"/>
                    </a:lnTo>
                    <a:lnTo>
                      <a:pt x="378" y="1"/>
                    </a:lnTo>
                    <a:lnTo>
                      <a:pt x="361" y="2"/>
                    </a:lnTo>
                    <a:lnTo>
                      <a:pt x="346" y="4"/>
                    </a:lnTo>
                    <a:lnTo>
                      <a:pt x="315" y="9"/>
                    </a:lnTo>
                    <a:lnTo>
                      <a:pt x="284" y="16"/>
                    </a:lnTo>
                    <a:lnTo>
                      <a:pt x="255" y="25"/>
                    </a:lnTo>
                    <a:lnTo>
                      <a:pt x="226" y="36"/>
                    </a:lnTo>
                    <a:lnTo>
                      <a:pt x="198" y="49"/>
                    </a:lnTo>
                    <a:lnTo>
                      <a:pt x="172" y="63"/>
                    </a:lnTo>
                    <a:lnTo>
                      <a:pt x="145" y="79"/>
                    </a:lnTo>
                    <a:lnTo>
                      <a:pt x="121" y="96"/>
                    </a:lnTo>
                    <a:lnTo>
                      <a:pt x="97" y="115"/>
                    </a:lnTo>
                    <a:lnTo>
                      <a:pt x="75" y="136"/>
                    </a:lnTo>
                    <a:lnTo>
                      <a:pt x="54" y="157"/>
                    </a:lnTo>
                    <a:lnTo>
                      <a:pt x="35" y="180"/>
                    </a:lnTo>
                    <a:lnTo>
                      <a:pt x="17" y="204"/>
                    </a:lnTo>
                    <a:lnTo>
                      <a:pt x="0" y="231"/>
                    </a:lnTo>
                    <a:lnTo>
                      <a:pt x="6" y="246"/>
                    </a:lnTo>
                    <a:lnTo>
                      <a:pt x="8" y="252"/>
                    </a:lnTo>
                    <a:lnTo>
                      <a:pt x="22" y="226"/>
                    </a:lnTo>
                    <a:lnTo>
                      <a:pt x="40" y="201"/>
                    </a:lnTo>
                    <a:lnTo>
                      <a:pt x="59" y="178"/>
                    </a:lnTo>
                    <a:lnTo>
                      <a:pt x="79" y="156"/>
                    </a:lnTo>
                    <a:lnTo>
                      <a:pt x="100" y="135"/>
                    </a:lnTo>
                    <a:lnTo>
                      <a:pt x="123" y="115"/>
                    </a:lnTo>
                    <a:lnTo>
                      <a:pt x="148" y="97"/>
                    </a:lnTo>
                    <a:lnTo>
                      <a:pt x="174" y="82"/>
                    </a:lnTo>
                    <a:lnTo>
                      <a:pt x="200" y="67"/>
                    </a:lnTo>
                    <a:lnTo>
                      <a:pt x="227" y="53"/>
                    </a:lnTo>
                    <a:lnTo>
                      <a:pt x="256" y="43"/>
                    </a:lnTo>
                    <a:lnTo>
                      <a:pt x="285" y="33"/>
                    </a:lnTo>
                    <a:lnTo>
                      <a:pt x="300" y="29"/>
                    </a:lnTo>
                    <a:lnTo>
                      <a:pt x="315" y="26"/>
                    </a:lnTo>
                    <a:lnTo>
                      <a:pt x="330" y="23"/>
                    </a:lnTo>
                    <a:lnTo>
                      <a:pt x="346" y="21"/>
                    </a:lnTo>
                    <a:lnTo>
                      <a:pt x="362" y="19"/>
                    </a:lnTo>
                    <a:lnTo>
                      <a:pt x="378" y="17"/>
                    </a:lnTo>
                    <a:lnTo>
                      <a:pt x="393" y="16"/>
                    </a:lnTo>
                    <a:lnTo>
                      <a:pt x="409" y="16"/>
                    </a:lnTo>
                    <a:lnTo>
                      <a:pt x="426" y="16"/>
                    </a:lnTo>
                    <a:lnTo>
                      <a:pt x="443" y="17"/>
                    </a:lnTo>
                    <a:lnTo>
                      <a:pt x="459" y="19"/>
                    </a:lnTo>
                    <a:lnTo>
                      <a:pt x="475" y="21"/>
                    </a:lnTo>
                    <a:lnTo>
                      <a:pt x="491" y="24"/>
                    </a:lnTo>
                    <a:lnTo>
                      <a:pt x="507" y="27"/>
                    </a:lnTo>
                    <a:lnTo>
                      <a:pt x="523" y="30"/>
                    </a:lnTo>
                    <a:lnTo>
                      <a:pt x="539" y="34"/>
                    </a:lnTo>
                    <a:lnTo>
                      <a:pt x="553" y="40"/>
                    </a:lnTo>
                    <a:lnTo>
                      <a:pt x="568" y="44"/>
                    </a:lnTo>
                    <a:lnTo>
                      <a:pt x="583" y="50"/>
                    </a:lnTo>
                    <a:lnTo>
                      <a:pt x="597" y="56"/>
                    </a:lnTo>
                    <a:lnTo>
                      <a:pt x="626" y="70"/>
                    </a:lnTo>
                    <a:lnTo>
                      <a:pt x="653" y="86"/>
                    </a:lnTo>
                    <a:lnTo>
                      <a:pt x="631" y="54"/>
                    </a:lnTo>
                    <a:close/>
                    <a:moveTo>
                      <a:pt x="351" y="951"/>
                    </a:moveTo>
                    <a:lnTo>
                      <a:pt x="359" y="951"/>
                    </a:lnTo>
                    <a:lnTo>
                      <a:pt x="366" y="952"/>
                    </a:lnTo>
                    <a:lnTo>
                      <a:pt x="374" y="953"/>
                    </a:lnTo>
                    <a:lnTo>
                      <a:pt x="381" y="953"/>
                    </a:lnTo>
                    <a:lnTo>
                      <a:pt x="388" y="954"/>
                    </a:lnTo>
                    <a:lnTo>
                      <a:pt x="396" y="954"/>
                    </a:lnTo>
                    <a:lnTo>
                      <a:pt x="402" y="954"/>
                    </a:lnTo>
                    <a:lnTo>
                      <a:pt x="409" y="954"/>
                    </a:lnTo>
                    <a:lnTo>
                      <a:pt x="433" y="953"/>
                    </a:lnTo>
                    <a:lnTo>
                      <a:pt x="458" y="952"/>
                    </a:lnTo>
                    <a:lnTo>
                      <a:pt x="482" y="949"/>
                    </a:lnTo>
                    <a:lnTo>
                      <a:pt x="505" y="945"/>
                    </a:lnTo>
                    <a:lnTo>
                      <a:pt x="528" y="939"/>
                    </a:lnTo>
                    <a:lnTo>
                      <a:pt x="550" y="933"/>
                    </a:lnTo>
                    <a:lnTo>
                      <a:pt x="572" y="926"/>
                    </a:lnTo>
                    <a:lnTo>
                      <a:pt x="593" y="917"/>
                    </a:lnTo>
                    <a:lnTo>
                      <a:pt x="614" y="908"/>
                    </a:lnTo>
                    <a:lnTo>
                      <a:pt x="635" y="897"/>
                    </a:lnTo>
                    <a:lnTo>
                      <a:pt x="654" y="887"/>
                    </a:lnTo>
                    <a:lnTo>
                      <a:pt x="674" y="874"/>
                    </a:lnTo>
                    <a:lnTo>
                      <a:pt x="693" y="862"/>
                    </a:lnTo>
                    <a:lnTo>
                      <a:pt x="711" y="848"/>
                    </a:lnTo>
                    <a:lnTo>
                      <a:pt x="728" y="833"/>
                    </a:lnTo>
                    <a:lnTo>
                      <a:pt x="745" y="818"/>
                    </a:lnTo>
                    <a:lnTo>
                      <a:pt x="760" y="801"/>
                    </a:lnTo>
                    <a:lnTo>
                      <a:pt x="775" y="784"/>
                    </a:lnTo>
                    <a:lnTo>
                      <a:pt x="789" y="766"/>
                    </a:lnTo>
                    <a:lnTo>
                      <a:pt x="802" y="748"/>
                    </a:lnTo>
                    <a:lnTo>
                      <a:pt x="815" y="729"/>
                    </a:lnTo>
                    <a:lnTo>
                      <a:pt x="827" y="709"/>
                    </a:lnTo>
                    <a:lnTo>
                      <a:pt x="837" y="689"/>
                    </a:lnTo>
                    <a:lnTo>
                      <a:pt x="848" y="668"/>
                    </a:lnTo>
                    <a:lnTo>
                      <a:pt x="856" y="647"/>
                    </a:lnTo>
                    <a:lnTo>
                      <a:pt x="863" y="625"/>
                    </a:lnTo>
                    <a:lnTo>
                      <a:pt x="871" y="603"/>
                    </a:lnTo>
                    <a:lnTo>
                      <a:pt x="876" y="581"/>
                    </a:lnTo>
                    <a:lnTo>
                      <a:pt x="880" y="558"/>
                    </a:lnTo>
                    <a:lnTo>
                      <a:pt x="884" y="534"/>
                    </a:lnTo>
                    <a:lnTo>
                      <a:pt x="886" y="511"/>
                    </a:lnTo>
                    <a:lnTo>
                      <a:pt x="888" y="487"/>
                    </a:lnTo>
                    <a:lnTo>
                      <a:pt x="882" y="471"/>
                    </a:lnTo>
                    <a:lnTo>
                      <a:pt x="870" y="453"/>
                    </a:lnTo>
                    <a:lnTo>
                      <a:pt x="871" y="455"/>
                    </a:lnTo>
                    <a:lnTo>
                      <a:pt x="871" y="458"/>
                    </a:lnTo>
                    <a:lnTo>
                      <a:pt x="871" y="462"/>
                    </a:lnTo>
                    <a:lnTo>
                      <a:pt x="871" y="465"/>
                    </a:lnTo>
                    <a:lnTo>
                      <a:pt x="871" y="468"/>
                    </a:lnTo>
                    <a:lnTo>
                      <a:pt x="871" y="471"/>
                    </a:lnTo>
                    <a:lnTo>
                      <a:pt x="871" y="473"/>
                    </a:lnTo>
                    <a:lnTo>
                      <a:pt x="871" y="476"/>
                    </a:lnTo>
                    <a:lnTo>
                      <a:pt x="870" y="500"/>
                    </a:lnTo>
                    <a:lnTo>
                      <a:pt x="869" y="524"/>
                    </a:lnTo>
                    <a:lnTo>
                      <a:pt x="865" y="547"/>
                    </a:lnTo>
                    <a:lnTo>
                      <a:pt x="861" y="570"/>
                    </a:lnTo>
                    <a:lnTo>
                      <a:pt x="856" y="592"/>
                    </a:lnTo>
                    <a:lnTo>
                      <a:pt x="850" y="614"/>
                    </a:lnTo>
                    <a:lnTo>
                      <a:pt x="842" y="635"/>
                    </a:lnTo>
                    <a:lnTo>
                      <a:pt x="835" y="656"/>
                    </a:lnTo>
                    <a:lnTo>
                      <a:pt x="825" y="677"/>
                    </a:lnTo>
                    <a:lnTo>
                      <a:pt x="815" y="696"/>
                    </a:lnTo>
                    <a:lnTo>
                      <a:pt x="803" y="716"/>
                    </a:lnTo>
                    <a:lnTo>
                      <a:pt x="792" y="735"/>
                    </a:lnTo>
                    <a:lnTo>
                      <a:pt x="779" y="752"/>
                    </a:lnTo>
                    <a:lnTo>
                      <a:pt x="766" y="769"/>
                    </a:lnTo>
                    <a:lnTo>
                      <a:pt x="751" y="786"/>
                    </a:lnTo>
                    <a:lnTo>
                      <a:pt x="736" y="802"/>
                    </a:lnTo>
                    <a:lnTo>
                      <a:pt x="719" y="818"/>
                    </a:lnTo>
                    <a:lnTo>
                      <a:pt x="703" y="832"/>
                    </a:lnTo>
                    <a:lnTo>
                      <a:pt x="686" y="846"/>
                    </a:lnTo>
                    <a:lnTo>
                      <a:pt x="668" y="859"/>
                    </a:lnTo>
                    <a:lnTo>
                      <a:pt x="649" y="870"/>
                    </a:lnTo>
                    <a:lnTo>
                      <a:pt x="629" y="882"/>
                    </a:lnTo>
                    <a:lnTo>
                      <a:pt x="610" y="892"/>
                    </a:lnTo>
                    <a:lnTo>
                      <a:pt x="589" y="901"/>
                    </a:lnTo>
                    <a:lnTo>
                      <a:pt x="568" y="909"/>
                    </a:lnTo>
                    <a:lnTo>
                      <a:pt x="547" y="916"/>
                    </a:lnTo>
                    <a:lnTo>
                      <a:pt x="525" y="923"/>
                    </a:lnTo>
                    <a:lnTo>
                      <a:pt x="503" y="928"/>
                    </a:lnTo>
                    <a:lnTo>
                      <a:pt x="480" y="932"/>
                    </a:lnTo>
                    <a:lnTo>
                      <a:pt x="457" y="935"/>
                    </a:lnTo>
                    <a:lnTo>
                      <a:pt x="433" y="936"/>
                    </a:lnTo>
                    <a:lnTo>
                      <a:pt x="409" y="937"/>
                    </a:lnTo>
                    <a:lnTo>
                      <a:pt x="401" y="937"/>
                    </a:lnTo>
                    <a:lnTo>
                      <a:pt x="391" y="937"/>
                    </a:lnTo>
                    <a:lnTo>
                      <a:pt x="383" y="936"/>
                    </a:lnTo>
                    <a:lnTo>
                      <a:pt x="375" y="936"/>
                    </a:lnTo>
                    <a:lnTo>
                      <a:pt x="365" y="935"/>
                    </a:lnTo>
                    <a:lnTo>
                      <a:pt x="357" y="934"/>
                    </a:lnTo>
                    <a:lnTo>
                      <a:pt x="348" y="933"/>
                    </a:lnTo>
                    <a:lnTo>
                      <a:pt x="340" y="932"/>
                    </a:lnTo>
                    <a:lnTo>
                      <a:pt x="351" y="95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89600" y="2549520"/>
                <a:ext cx="277920" cy="297000"/>
              </a:xfrm>
              <a:custGeom>
                <a:avLst/>
                <a:gdLst/>
                <a:ahLst/>
                <a:rect l="l" t="t" r="r" b="b"/>
                <a:pathLst>
                  <a:path w="875" h="938">
                    <a:moveTo>
                      <a:pt x="875" y="468"/>
                    </a:moveTo>
                    <a:lnTo>
                      <a:pt x="875" y="467"/>
                    </a:lnTo>
                    <a:lnTo>
                      <a:pt x="875" y="466"/>
                    </a:lnTo>
                    <a:lnTo>
                      <a:pt x="875" y="465"/>
                    </a:lnTo>
                    <a:lnTo>
                      <a:pt x="875" y="463"/>
                    </a:lnTo>
                    <a:lnTo>
                      <a:pt x="875" y="462"/>
                    </a:lnTo>
                    <a:lnTo>
                      <a:pt x="875" y="461"/>
                    </a:lnTo>
                    <a:lnTo>
                      <a:pt x="875" y="459"/>
                    </a:lnTo>
                    <a:lnTo>
                      <a:pt x="875" y="458"/>
                    </a:lnTo>
                    <a:lnTo>
                      <a:pt x="856" y="431"/>
                    </a:lnTo>
                    <a:lnTo>
                      <a:pt x="857" y="436"/>
                    </a:lnTo>
                    <a:lnTo>
                      <a:pt x="857" y="440"/>
                    </a:lnTo>
                    <a:lnTo>
                      <a:pt x="857" y="445"/>
                    </a:lnTo>
                    <a:lnTo>
                      <a:pt x="858" y="449"/>
                    </a:lnTo>
                    <a:lnTo>
                      <a:pt x="858" y="455"/>
                    </a:lnTo>
                    <a:lnTo>
                      <a:pt x="858" y="459"/>
                    </a:lnTo>
                    <a:lnTo>
                      <a:pt x="858" y="464"/>
                    </a:lnTo>
                    <a:lnTo>
                      <a:pt x="858" y="468"/>
                    </a:lnTo>
                    <a:lnTo>
                      <a:pt x="857" y="491"/>
                    </a:lnTo>
                    <a:lnTo>
                      <a:pt x="856" y="515"/>
                    </a:lnTo>
                    <a:lnTo>
                      <a:pt x="853" y="538"/>
                    </a:lnTo>
                    <a:lnTo>
                      <a:pt x="849" y="560"/>
                    </a:lnTo>
                    <a:lnTo>
                      <a:pt x="844" y="582"/>
                    </a:lnTo>
                    <a:lnTo>
                      <a:pt x="838" y="603"/>
                    </a:lnTo>
                    <a:lnTo>
                      <a:pt x="831" y="624"/>
                    </a:lnTo>
                    <a:lnTo>
                      <a:pt x="823" y="645"/>
                    </a:lnTo>
                    <a:lnTo>
                      <a:pt x="814" y="665"/>
                    </a:lnTo>
                    <a:lnTo>
                      <a:pt x="804" y="685"/>
                    </a:lnTo>
                    <a:lnTo>
                      <a:pt x="793" y="704"/>
                    </a:lnTo>
                    <a:lnTo>
                      <a:pt x="780" y="721"/>
                    </a:lnTo>
                    <a:lnTo>
                      <a:pt x="768" y="739"/>
                    </a:lnTo>
                    <a:lnTo>
                      <a:pt x="755" y="756"/>
                    </a:lnTo>
                    <a:lnTo>
                      <a:pt x="741" y="773"/>
                    </a:lnTo>
                    <a:lnTo>
                      <a:pt x="726" y="789"/>
                    </a:lnTo>
                    <a:lnTo>
                      <a:pt x="710" y="803"/>
                    </a:lnTo>
                    <a:lnTo>
                      <a:pt x="693" y="818"/>
                    </a:lnTo>
                    <a:lnTo>
                      <a:pt x="676" y="831"/>
                    </a:lnTo>
                    <a:lnTo>
                      <a:pt x="659" y="843"/>
                    </a:lnTo>
                    <a:lnTo>
                      <a:pt x="641" y="856"/>
                    </a:lnTo>
                    <a:lnTo>
                      <a:pt x="622" y="866"/>
                    </a:lnTo>
                    <a:lnTo>
                      <a:pt x="602" y="877"/>
                    </a:lnTo>
                    <a:lnTo>
                      <a:pt x="582" y="885"/>
                    </a:lnTo>
                    <a:lnTo>
                      <a:pt x="561" y="894"/>
                    </a:lnTo>
                    <a:lnTo>
                      <a:pt x="540" y="901"/>
                    </a:lnTo>
                    <a:lnTo>
                      <a:pt x="519" y="906"/>
                    </a:lnTo>
                    <a:lnTo>
                      <a:pt x="497" y="911"/>
                    </a:lnTo>
                    <a:lnTo>
                      <a:pt x="475" y="916"/>
                    </a:lnTo>
                    <a:lnTo>
                      <a:pt x="451" y="919"/>
                    </a:lnTo>
                    <a:lnTo>
                      <a:pt x="429" y="920"/>
                    </a:lnTo>
                    <a:lnTo>
                      <a:pt x="405" y="921"/>
                    </a:lnTo>
                    <a:lnTo>
                      <a:pt x="396" y="921"/>
                    </a:lnTo>
                    <a:lnTo>
                      <a:pt x="386" y="921"/>
                    </a:lnTo>
                    <a:lnTo>
                      <a:pt x="377" y="920"/>
                    </a:lnTo>
                    <a:lnTo>
                      <a:pt x="367" y="919"/>
                    </a:lnTo>
                    <a:lnTo>
                      <a:pt x="358" y="919"/>
                    </a:lnTo>
                    <a:lnTo>
                      <a:pt x="348" y="918"/>
                    </a:lnTo>
                    <a:lnTo>
                      <a:pt x="339" y="916"/>
                    </a:lnTo>
                    <a:lnTo>
                      <a:pt x="330" y="915"/>
                    </a:lnTo>
                    <a:lnTo>
                      <a:pt x="342" y="933"/>
                    </a:lnTo>
                    <a:lnTo>
                      <a:pt x="350" y="935"/>
                    </a:lnTo>
                    <a:lnTo>
                      <a:pt x="358" y="936"/>
                    </a:lnTo>
                    <a:lnTo>
                      <a:pt x="365" y="936"/>
                    </a:lnTo>
                    <a:lnTo>
                      <a:pt x="374" y="937"/>
                    </a:lnTo>
                    <a:lnTo>
                      <a:pt x="381" y="937"/>
                    </a:lnTo>
                    <a:lnTo>
                      <a:pt x="389" y="938"/>
                    </a:lnTo>
                    <a:lnTo>
                      <a:pt x="398" y="938"/>
                    </a:lnTo>
                    <a:lnTo>
                      <a:pt x="405" y="938"/>
                    </a:lnTo>
                    <a:lnTo>
                      <a:pt x="429" y="937"/>
                    </a:lnTo>
                    <a:lnTo>
                      <a:pt x="454" y="936"/>
                    </a:lnTo>
                    <a:lnTo>
                      <a:pt x="477" y="932"/>
                    </a:lnTo>
                    <a:lnTo>
                      <a:pt x="500" y="928"/>
                    </a:lnTo>
                    <a:lnTo>
                      <a:pt x="523" y="923"/>
                    </a:lnTo>
                    <a:lnTo>
                      <a:pt x="545" y="917"/>
                    </a:lnTo>
                    <a:lnTo>
                      <a:pt x="567" y="909"/>
                    </a:lnTo>
                    <a:lnTo>
                      <a:pt x="588" y="901"/>
                    </a:lnTo>
                    <a:lnTo>
                      <a:pt x="609" y="891"/>
                    </a:lnTo>
                    <a:lnTo>
                      <a:pt x="629" y="881"/>
                    </a:lnTo>
                    <a:lnTo>
                      <a:pt x="649" y="869"/>
                    </a:lnTo>
                    <a:lnTo>
                      <a:pt x="668" y="858"/>
                    </a:lnTo>
                    <a:lnTo>
                      <a:pt x="687" y="844"/>
                    </a:lnTo>
                    <a:lnTo>
                      <a:pt x="704" y="831"/>
                    </a:lnTo>
                    <a:lnTo>
                      <a:pt x="722" y="816"/>
                    </a:lnTo>
                    <a:lnTo>
                      <a:pt x="737" y="800"/>
                    </a:lnTo>
                    <a:lnTo>
                      <a:pt x="753" y="784"/>
                    </a:lnTo>
                    <a:lnTo>
                      <a:pt x="768" y="767"/>
                    </a:lnTo>
                    <a:lnTo>
                      <a:pt x="782" y="750"/>
                    </a:lnTo>
                    <a:lnTo>
                      <a:pt x="795" y="731"/>
                    </a:lnTo>
                    <a:lnTo>
                      <a:pt x="807" y="712"/>
                    </a:lnTo>
                    <a:lnTo>
                      <a:pt x="818" y="692"/>
                    </a:lnTo>
                    <a:lnTo>
                      <a:pt x="829" y="672"/>
                    </a:lnTo>
                    <a:lnTo>
                      <a:pt x="838" y="651"/>
                    </a:lnTo>
                    <a:lnTo>
                      <a:pt x="847" y="630"/>
                    </a:lnTo>
                    <a:lnTo>
                      <a:pt x="854" y="608"/>
                    </a:lnTo>
                    <a:lnTo>
                      <a:pt x="860" y="586"/>
                    </a:lnTo>
                    <a:lnTo>
                      <a:pt x="866" y="563"/>
                    </a:lnTo>
                    <a:lnTo>
                      <a:pt x="870" y="540"/>
                    </a:lnTo>
                    <a:lnTo>
                      <a:pt x="873" y="517"/>
                    </a:lnTo>
                    <a:lnTo>
                      <a:pt x="874" y="492"/>
                    </a:lnTo>
                    <a:lnTo>
                      <a:pt x="875" y="468"/>
                    </a:lnTo>
                    <a:close/>
                    <a:moveTo>
                      <a:pt x="638" y="61"/>
                    </a:moveTo>
                    <a:lnTo>
                      <a:pt x="611" y="47"/>
                    </a:lnTo>
                    <a:lnTo>
                      <a:pt x="584" y="35"/>
                    </a:lnTo>
                    <a:lnTo>
                      <a:pt x="557" y="24"/>
                    </a:lnTo>
                    <a:lnTo>
                      <a:pt x="527" y="16"/>
                    </a:lnTo>
                    <a:lnTo>
                      <a:pt x="498" y="8"/>
                    </a:lnTo>
                    <a:lnTo>
                      <a:pt x="468" y="4"/>
                    </a:lnTo>
                    <a:lnTo>
                      <a:pt x="437" y="1"/>
                    </a:lnTo>
                    <a:lnTo>
                      <a:pt x="405" y="0"/>
                    </a:lnTo>
                    <a:lnTo>
                      <a:pt x="389" y="0"/>
                    </a:lnTo>
                    <a:lnTo>
                      <a:pt x="374" y="1"/>
                    </a:lnTo>
                    <a:lnTo>
                      <a:pt x="358" y="2"/>
                    </a:lnTo>
                    <a:lnTo>
                      <a:pt x="342" y="4"/>
                    </a:lnTo>
                    <a:lnTo>
                      <a:pt x="326" y="6"/>
                    </a:lnTo>
                    <a:lnTo>
                      <a:pt x="311" y="9"/>
                    </a:lnTo>
                    <a:lnTo>
                      <a:pt x="296" y="13"/>
                    </a:lnTo>
                    <a:lnTo>
                      <a:pt x="280" y="17"/>
                    </a:lnTo>
                    <a:lnTo>
                      <a:pt x="251" y="26"/>
                    </a:lnTo>
                    <a:lnTo>
                      <a:pt x="222" y="37"/>
                    </a:lnTo>
                    <a:lnTo>
                      <a:pt x="195" y="49"/>
                    </a:lnTo>
                    <a:lnTo>
                      <a:pt x="169" y="64"/>
                    </a:lnTo>
                    <a:lnTo>
                      <a:pt x="142" y="80"/>
                    </a:lnTo>
                    <a:lnTo>
                      <a:pt x="118" y="98"/>
                    </a:lnTo>
                    <a:lnTo>
                      <a:pt x="95" y="117"/>
                    </a:lnTo>
                    <a:lnTo>
                      <a:pt x="73" y="138"/>
                    </a:lnTo>
                    <a:lnTo>
                      <a:pt x="53" y="160"/>
                    </a:lnTo>
                    <a:lnTo>
                      <a:pt x="33" y="183"/>
                    </a:lnTo>
                    <a:lnTo>
                      <a:pt x="16" y="207"/>
                    </a:lnTo>
                    <a:lnTo>
                      <a:pt x="0" y="233"/>
                    </a:lnTo>
                    <a:lnTo>
                      <a:pt x="2" y="238"/>
                    </a:lnTo>
                    <a:lnTo>
                      <a:pt x="7" y="254"/>
                    </a:lnTo>
                    <a:lnTo>
                      <a:pt x="22" y="229"/>
                    </a:lnTo>
                    <a:lnTo>
                      <a:pt x="38" y="204"/>
                    </a:lnTo>
                    <a:lnTo>
                      <a:pt x="57" y="180"/>
                    </a:lnTo>
                    <a:lnTo>
                      <a:pt x="77" y="158"/>
                    </a:lnTo>
                    <a:lnTo>
                      <a:pt x="98" y="137"/>
                    </a:lnTo>
                    <a:lnTo>
                      <a:pt x="121" y="117"/>
                    </a:lnTo>
                    <a:lnTo>
                      <a:pt x="145" y="99"/>
                    </a:lnTo>
                    <a:lnTo>
                      <a:pt x="170" y="82"/>
                    </a:lnTo>
                    <a:lnTo>
                      <a:pt x="196" y="67"/>
                    </a:lnTo>
                    <a:lnTo>
                      <a:pt x="223" y="55"/>
                    </a:lnTo>
                    <a:lnTo>
                      <a:pt x="238" y="48"/>
                    </a:lnTo>
                    <a:lnTo>
                      <a:pt x="252" y="43"/>
                    </a:lnTo>
                    <a:lnTo>
                      <a:pt x="266" y="38"/>
                    </a:lnTo>
                    <a:lnTo>
                      <a:pt x="281" y="34"/>
                    </a:lnTo>
                    <a:lnTo>
                      <a:pt x="296" y="29"/>
                    </a:lnTo>
                    <a:lnTo>
                      <a:pt x="312" y="26"/>
                    </a:lnTo>
                    <a:lnTo>
                      <a:pt x="326" y="23"/>
                    </a:lnTo>
                    <a:lnTo>
                      <a:pt x="342" y="21"/>
                    </a:lnTo>
                    <a:lnTo>
                      <a:pt x="358" y="19"/>
                    </a:lnTo>
                    <a:lnTo>
                      <a:pt x="374" y="18"/>
                    </a:lnTo>
                    <a:lnTo>
                      <a:pt x="389" y="17"/>
                    </a:lnTo>
                    <a:lnTo>
                      <a:pt x="405" y="17"/>
                    </a:lnTo>
                    <a:lnTo>
                      <a:pt x="423" y="17"/>
                    </a:lnTo>
                    <a:lnTo>
                      <a:pt x="441" y="18"/>
                    </a:lnTo>
                    <a:lnTo>
                      <a:pt x="458" y="20"/>
                    </a:lnTo>
                    <a:lnTo>
                      <a:pt x="476" y="22"/>
                    </a:lnTo>
                    <a:lnTo>
                      <a:pt x="492" y="25"/>
                    </a:lnTo>
                    <a:lnTo>
                      <a:pt x="509" y="28"/>
                    </a:lnTo>
                    <a:lnTo>
                      <a:pt x="525" y="33"/>
                    </a:lnTo>
                    <a:lnTo>
                      <a:pt x="542" y="37"/>
                    </a:lnTo>
                    <a:lnTo>
                      <a:pt x="558" y="43"/>
                    </a:lnTo>
                    <a:lnTo>
                      <a:pt x="573" y="48"/>
                    </a:lnTo>
                    <a:lnTo>
                      <a:pt x="588" y="55"/>
                    </a:lnTo>
                    <a:lnTo>
                      <a:pt x="604" y="62"/>
                    </a:lnTo>
                    <a:lnTo>
                      <a:pt x="619" y="69"/>
                    </a:lnTo>
                    <a:lnTo>
                      <a:pt x="632" y="78"/>
                    </a:lnTo>
                    <a:lnTo>
                      <a:pt x="647" y="86"/>
                    </a:lnTo>
                    <a:lnTo>
                      <a:pt x="661" y="96"/>
                    </a:lnTo>
                    <a:lnTo>
                      <a:pt x="638" y="6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889600" y="2550960"/>
                <a:ext cx="274680" cy="292320"/>
              </a:xfrm>
              <a:custGeom>
                <a:avLst/>
                <a:gdLst/>
                <a:ahLst/>
                <a:rect l="l" t="t" r="r" b="b"/>
                <a:pathLst>
                  <a:path w="863" h="921">
                    <a:moveTo>
                      <a:pt x="863" y="460"/>
                    </a:moveTo>
                    <a:lnTo>
                      <a:pt x="863" y="457"/>
                    </a:lnTo>
                    <a:lnTo>
                      <a:pt x="863" y="455"/>
                    </a:lnTo>
                    <a:lnTo>
                      <a:pt x="863" y="452"/>
                    </a:lnTo>
                    <a:lnTo>
                      <a:pt x="863" y="449"/>
                    </a:lnTo>
                    <a:lnTo>
                      <a:pt x="863" y="446"/>
                    </a:lnTo>
                    <a:lnTo>
                      <a:pt x="863" y="442"/>
                    </a:lnTo>
                    <a:lnTo>
                      <a:pt x="863" y="439"/>
                    </a:lnTo>
                    <a:lnTo>
                      <a:pt x="862" y="437"/>
                    </a:lnTo>
                    <a:lnTo>
                      <a:pt x="843" y="408"/>
                    </a:lnTo>
                    <a:lnTo>
                      <a:pt x="844" y="415"/>
                    </a:lnTo>
                    <a:lnTo>
                      <a:pt x="844" y="421"/>
                    </a:lnTo>
                    <a:lnTo>
                      <a:pt x="845" y="428"/>
                    </a:lnTo>
                    <a:lnTo>
                      <a:pt x="845" y="434"/>
                    </a:lnTo>
                    <a:lnTo>
                      <a:pt x="846" y="440"/>
                    </a:lnTo>
                    <a:lnTo>
                      <a:pt x="846" y="448"/>
                    </a:lnTo>
                    <a:lnTo>
                      <a:pt x="846" y="454"/>
                    </a:lnTo>
                    <a:lnTo>
                      <a:pt x="846" y="460"/>
                    </a:lnTo>
                    <a:lnTo>
                      <a:pt x="845" y="483"/>
                    </a:lnTo>
                    <a:lnTo>
                      <a:pt x="844" y="507"/>
                    </a:lnTo>
                    <a:lnTo>
                      <a:pt x="841" y="529"/>
                    </a:lnTo>
                    <a:lnTo>
                      <a:pt x="836" y="551"/>
                    </a:lnTo>
                    <a:lnTo>
                      <a:pt x="832" y="572"/>
                    </a:lnTo>
                    <a:lnTo>
                      <a:pt x="826" y="593"/>
                    </a:lnTo>
                    <a:lnTo>
                      <a:pt x="819" y="614"/>
                    </a:lnTo>
                    <a:lnTo>
                      <a:pt x="811" y="634"/>
                    </a:lnTo>
                    <a:lnTo>
                      <a:pt x="802" y="654"/>
                    </a:lnTo>
                    <a:lnTo>
                      <a:pt x="792" y="672"/>
                    </a:lnTo>
                    <a:lnTo>
                      <a:pt x="782" y="691"/>
                    </a:lnTo>
                    <a:lnTo>
                      <a:pt x="770" y="709"/>
                    </a:lnTo>
                    <a:lnTo>
                      <a:pt x="758" y="726"/>
                    </a:lnTo>
                    <a:lnTo>
                      <a:pt x="744" y="743"/>
                    </a:lnTo>
                    <a:lnTo>
                      <a:pt x="730" y="760"/>
                    </a:lnTo>
                    <a:lnTo>
                      <a:pt x="716" y="774"/>
                    </a:lnTo>
                    <a:lnTo>
                      <a:pt x="701" y="789"/>
                    </a:lnTo>
                    <a:lnTo>
                      <a:pt x="684" y="804"/>
                    </a:lnTo>
                    <a:lnTo>
                      <a:pt x="667" y="816"/>
                    </a:lnTo>
                    <a:lnTo>
                      <a:pt x="650" y="829"/>
                    </a:lnTo>
                    <a:lnTo>
                      <a:pt x="631" y="840"/>
                    </a:lnTo>
                    <a:lnTo>
                      <a:pt x="614" y="851"/>
                    </a:lnTo>
                    <a:lnTo>
                      <a:pt x="595" y="860"/>
                    </a:lnTo>
                    <a:lnTo>
                      <a:pt x="575" y="870"/>
                    </a:lnTo>
                    <a:lnTo>
                      <a:pt x="555" y="877"/>
                    </a:lnTo>
                    <a:lnTo>
                      <a:pt x="534" y="885"/>
                    </a:lnTo>
                    <a:lnTo>
                      <a:pt x="513" y="891"/>
                    </a:lnTo>
                    <a:lnTo>
                      <a:pt x="492" y="895"/>
                    </a:lnTo>
                    <a:lnTo>
                      <a:pt x="470" y="899"/>
                    </a:lnTo>
                    <a:lnTo>
                      <a:pt x="447" y="902"/>
                    </a:lnTo>
                    <a:lnTo>
                      <a:pt x="424" y="903"/>
                    </a:lnTo>
                    <a:lnTo>
                      <a:pt x="401" y="904"/>
                    </a:lnTo>
                    <a:lnTo>
                      <a:pt x="391" y="904"/>
                    </a:lnTo>
                    <a:lnTo>
                      <a:pt x="380" y="904"/>
                    </a:lnTo>
                    <a:lnTo>
                      <a:pt x="370" y="903"/>
                    </a:lnTo>
                    <a:lnTo>
                      <a:pt x="360" y="902"/>
                    </a:lnTo>
                    <a:lnTo>
                      <a:pt x="350" y="901"/>
                    </a:lnTo>
                    <a:lnTo>
                      <a:pt x="339" y="900"/>
                    </a:lnTo>
                    <a:lnTo>
                      <a:pt x="329" y="898"/>
                    </a:lnTo>
                    <a:lnTo>
                      <a:pt x="319" y="897"/>
                    </a:lnTo>
                    <a:lnTo>
                      <a:pt x="332" y="916"/>
                    </a:lnTo>
                    <a:lnTo>
                      <a:pt x="340" y="917"/>
                    </a:lnTo>
                    <a:lnTo>
                      <a:pt x="349" y="918"/>
                    </a:lnTo>
                    <a:lnTo>
                      <a:pt x="357" y="919"/>
                    </a:lnTo>
                    <a:lnTo>
                      <a:pt x="367" y="920"/>
                    </a:lnTo>
                    <a:lnTo>
                      <a:pt x="375" y="920"/>
                    </a:lnTo>
                    <a:lnTo>
                      <a:pt x="383" y="921"/>
                    </a:lnTo>
                    <a:lnTo>
                      <a:pt x="393" y="921"/>
                    </a:lnTo>
                    <a:lnTo>
                      <a:pt x="401" y="921"/>
                    </a:lnTo>
                    <a:lnTo>
                      <a:pt x="425" y="920"/>
                    </a:lnTo>
                    <a:lnTo>
                      <a:pt x="449" y="919"/>
                    </a:lnTo>
                    <a:lnTo>
                      <a:pt x="472" y="916"/>
                    </a:lnTo>
                    <a:lnTo>
                      <a:pt x="495" y="912"/>
                    </a:lnTo>
                    <a:lnTo>
                      <a:pt x="517" y="907"/>
                    </a:lnTo>
                    <a:lnTo>
                      <a:pt x="539" y="900"/>
                    </a:lnTo>
                    <a:lnTo>
                      <a:pt x="560" y="893"/>
                    </a:lnTo>
                    <a:lnTo>
                      <a:pt x="581" y="885"/>
                    </a:lnTo>
                    <a:lnTo>
                      <a:pt x="602" y="876"/>
                    </a:lnTo>
                    <a:lnTo>
                      <a:pt x="621" y="866"/>
                    </a:lnTo>
                    <a:lnTo>
                      <a:pt x="641" y="854"/>
                    </a:lnTo>
                    <a:lnTo>
                      <a:pt x="660" y="843"/>
                    </a:lnTo>
                    <a:lnTo>
                      <a:pt x="678" y="830"/>
                    </a:lnTo>
                    <a:lnTo>
                      <a:pt x="695" y="816"/>
                    </a:lnTo>
                    <a:lnTo>
                      <a:pt x="711" y="802"/>
                    </a:lnTo>
                    <a:lnTo>
                      <a:pt x="728" y="786"/>
                    </a:lnTo>
                    <a:lnTo>
                      <a:pt x="743" y="770"/>
                    </a:lnTo>
                    <a:lnTo>
                      <a:pt x="758" y="753"/>
                    </a:lnTo>
                    <a:lnTo>
                      <a:pt x="771" y="736"/>
                    </a:lnTo>
                    <a:lnTo>
                      <a:pt x="784" y="719"/>
                    </a:lnTo>
                    <a:lnTo>
                      <a:pt x="795" y="700"/>
                    </a:lnTo>
                    <a:lnTo>
                      <a:pt x="807" y="680"/>
                    </a:lnTo>
                    <a:lnTo>
                      <a:pt x="817" y="661"/>
                    </a:lnTo>
                    <a:lnTo>
                      <a:pt x="827" y="640"/>
                    </a:lnTo>
                    <a:lnTo>
                      <a:pt x="834" y="619"/>
                    </a:lnTo>
                    <a:lnTo>
                      <a:pt x="842" y="598"/>
                    </a:lnTo>
                    <a:lnTo>
                      <a:pt x="848" y="576"/>
                    </a:lnTo>
                    <a:lnTo>
                      <a:pt x="853" y="554"/>
                    </a:lnTo>
                    <a:lnTo>
                      <a:pt x="857" y="531"/>
                    </a:lnTo>
                    <a:lnTo>
                      <a:pt x="861" y="508"/>
                    </a:lnTo>
                    <a:lnTo>
                      <a:pt x="862" y="484"/>
                    </a:lnTo>
                    <a:lnTo>
                      <a:pt x="863" y="460"/>
                    </a:lnTo>
                    <a:close/>
                    <a:moveTo>
                      <a:pt x="645" y="70"/>
                    </a:moveTo>
                    <a:lnTo>
                      <a:pt x="618" y="54"/>
                    </a:lnTo>
                    <a:lnTo>
                      <a:pt x="589" y="40"/>
                    </a:lnTo>
                    <a:lnTo>
                      <a:pt x="575" y="34"/>
                    </a:lnTo>
                    <a:lnTo>
                      <a:pt x="560" y="28"/>
                    </a:lnTo>
                    <a:lnTo>
                      <a:pt x="545" y="24"/>
                    </a:lnTo>
                    <a:lnTo>
                      <a:pt x="531" y="18"/>
                    </a:lnTo>
                    <a:lnTo>
                      <a:pt x="515" y="14"/>
                    </a:lnTo>
                    <a:lnTo>
                      <a:pt x="499" y="11"/>
                    </a:lnTo>
                    <a:lnTo>
                      <a:pt x="483" y="8"/>
                    </a:lnTo>
                    <a:lnTo>
                      <a:pt x="467" y="5"/>
                    </a:lnTo>
                    <a:lnTo>
                      <a:pt x="451" y="3"/>
                    </a:lnTo>
                    <a:lnTo>
                      <a:pt x="435" y="1"/>
                    </a:lnTo>
                    <a:lnTo>
                      <a:pt x="418" y="0"/>
                    </a:lnTo>
                    <a:lnTo>
                      <a:pt x="401" y="0"/>
                    </a:lnTo>
                    <a:lnTo>
                      <a:pt x="385" y="0"/>
                    </a:lnTo>
                    <a:lnTo>
                      <a:pt x="370" y="1"/>
                    </a:lnTo>
                    <a:lnTo>
                      <a:pt x="354" y="3"/>
                    </a:lnTo>
                    <a:lnTo>
                      <a:pt x="338" y="5"/>
                    </a:lnTo>
                    <a:lnTo>
                      <a:pt x="322" y="7"/>
                    </a:lnTo>
                    <a:lnTo>
                      <a:pt x="307" y="10"/>
                    </a:lnTo>
                    <a:lnTo>
                      <a:pt x="292" y="13"/>
                    </a:lnTo>
                    <a:lnTo>
                      <a:pt x="277" y="17"/>
                    </a:lnTo>
                    <a:lnTo>
                      <a:pt x="248" y="27"/>
                    </a:lnTo>
                    <a:lnTo>
                      <a:pt x="219" y="37"/>
                    </a:lnTo>
                    <a:lnTo>
                      <a:pt x="192" y="51"/>
                    </a:lnTo>
                    <a:lnTo>
                      <a:pt x="166" y="66"/>
                    </a:lnTo>
                    <a:lnTo>
                      <a:pt x="140" y="81"/>
                    </a:lnTo>
                    <a:lnTo>
                      <a:pt x="115" y="99"/>
                    </a:lnTo>
                    <a:lnTo>
                      <a:pt x="92" y="119"/>
                    </a:lnTo>
                    <a:lnTo>
                      <a:pt x="71" y="140"/>
                    </a:lnTo>
                    <a:lnTo>
                      <a:pt x="51" y="162"/>
                    </a:lnTo>
                    <a:lnTo>
                      <a:pt x="32" y="185"/>
                    </a:lnTo>
                    <a:lnTo>
                      <a:pt x="14" y="210"/>
                    </a:lnTo>
                    <a:lnTo>
                      <a:pt x="0" y="236"/>
                    </a:lnTo>
                    <a:lnTo>
                      <a:pt x="6" y="258"/>
                    </a:lnTo>
                    <a:lnTo>
                      <a:pt x="13" y="244"/>
                    </a:lnTo>
                    <a:lnTo>
                      <a:pt x="21" y="231"/>
                    </a:lnTo>
                    <a:lnTo>
                      <a:pt x="29" y="219"/>
                    </a:lnTo>
                    <a:lnTo>
                      <a:pt x="38" y="206"/>
                    </a:lnTo>
                    <a:lnTo>
                      <a:pt x="55" y="182"/>
                    </a:lnTo>
                    <a:lnTo>
                      <a:pt x="75" y="160"/>
                    </a:lnTo>
                    <a:lnTo>
                      <a:pt x="96" y="139"/>
                    </a:lnTo>
                    <a:lnTo>
                      <a:pt x="118" y="119"/>
                    </a:lnTo>
                    <a:lnTo>
                      <a:pt x="143" y="100"/>
                    </a:lnTo>
                    <a:lnTo>
                      <a:pt x="167" y="83"/>
                    </a:lnTo>
                    <a:lnTo>
                      <a:pt x="193" y="69"/>
                    </a:lnTo>
                    <a:lnTo>
                      <a:pt x="220" y="55"/>
                    </a:lnTo>
                    <a:lnTo>
                      <a:pt x="234" y="50"/>
                    </a:lnTo>
                    <a:lnTo>
                      <a:pt x="249" y="43"/>
                    </a:lnTo>
                    <a:lnTo>
                      <a:pt x="262" y="39"/>
                    </a:lnTo>
                    <a:lnTo>
                      <a:pt x="277" y="34"/>
                    </a:lnTo>
                    <a:lnTo>
                      <a:pt x="293" y="31"/>
                    </a:lnTo>
                    <a:lnTo>
                      <a:pt x="308" y="27"/>
                    </a:lnTo>
                    <a:lnTo>
                      <a:pt x="322" y="24"/>
                    </a:lnTo>
                    <a:lnTo>
                      <a:pt x="338" y="21"/>
                    </a:lnTo>
                    <a:lnTo>
                      <a:pt x="354" y="19"/>
                    </a:lnTo>
                    <a:lnTo>
                      <a:pt x="370" y="18"/>
                    </a:lnTo>
                    <a:lnTo>
                      <a:pt x="385" y="17"/>
                    </a:lnTo>
                    <a:lnTo>
                      <a:pt x="401" y="17"/>
                    </a:lnTo>
                    <a:lnTo>
                      <a:pt x="420" y="17"/>
                    </a:lnTo>
                    <a:lnTo>
                      <a:pt x="439" y="18"/>
                    </a:lnTo>
                    <a:lnTo>
                      <a:pt x="458" y="20"/>
                    </a:lnTo>
                    <a:lnTo>
                      <a:pt x="476" y="24"/>
                    </a:lnTo>
                    <a:lnTo>
                      <a:pt x="494" y="27"/>
                    </a:lnTo>
                    <a:lnTo>
                      <a:pt x="512" y="31"/>
                    </a:lnTo>
                    <a:lnTo>
                      <a:pt x="528" y="35"/>
                    </a:lnTo>
                    <a:lnTo>
                      <a:pt x="546" y="41"/>
                    </a:lnTo>
                    <a:lnTo>
                      <a:pt x="563" y="47"/>
                    </a:lnTo>
                    <a:lnTo>
                      <a:pt x="579" y="54"/>
                    </a:lnTo>
                    <a:lnTo>
                      <a:pt x="596" y="61"/>
                    </a:lnTo>
                    <a:lnTo>
                      <a:pt x="611" y="70"/>
                    </a:lnTo>
                    <a:lnTo>
                      <a:pt x="626" y="78"/>
                    </a:lnTo>
                    <a:lnTo>
                      <a:pt x="642" y="88"/>
                    </a:lnTo>
                    <a:lnTo>
                      <a:pt x="657" y="97"/>
                    </a:lnTo>
                    <a:lnTo>
                      <a:pt x="670" y="108"/>
                    </a:lnTo>
                    <a:lnTo>
                      <a:pt x="645" y="7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891040" y="2554200"/>
                <a:ext cx="270000" cy="287280"/>
              </a:xfrm>
              <a:custGeom>
                <a:avLst/>
                <a:gdLst/>
                <a:ahLst/>
                <a:rect l="l" t="t" r="r" b="b"/>
                <a:pathLst>
                  <a:path w="851" h="904">
                    <a:moveTo>
                      <a:pt x="851" y="451"/>
                    </a:moveTo>
                    <a:lnTo>
                      <a:pt x="851" y="447"/>
                    </a:lnTo>
                    <a:lnTo>
                      <a:pt x="851" y="442"/>
                    </a:lnTo>
                    <a:lnTo>
                      <a:pt x="851" y="438"/>
                    </a:lnTo>
                    <a:lnTo>
                      <a:pt x="851" y="432"/>
                    </a:lnTo>
                    <a:lnTo>
                      <a:pt x="850" y="428"/>
                    </a:lnTo>
                    <a:lnTo>
                      <a:pt x="850" y="423"/>
                    </a:lnTo>
                    <a:lnTo>
                      <a:pt x="850" y="419"/>
                    </a:lnTo>
                    <a:lnTo>
                      <a:pt x="849" y="414"/>
                    </a:lnTo>
                    <a:lnTo>
                      <a:pt x="829" y="384"/>
                    </a:lnTo>
                    <a:lnTo>
                      <a:pt x="830" y="393"/>
                    </a:lnTo>
                    <a:lnTo>
                      <a:pt x="831" y="401"/>
                    </a:lnTo>
                    <a:lnTo>
                      <a:pt x="832" y="409"/>
                    </a:lnTo>
                    <a:lnTo>
                      <a:pt x="833" y="418"/>
                    </a:lnTo>
                    <a:lnTo>
                      <a:pt x="833" y="426"/>
                    </a:lnTo>
                    <a:lnTo>
                      <a:pt x="834" y="435"/>
                    </a:lnTo>
                    <a:lnTo>
                      <a:pt x="834" y="443"/>
                    </a:lnTo>
                    <a:lnTo>
                      <a:pt x="834" y="451"/>
                    </a:lnTo>
                    <a:lnTo>
                      <a:pt x="834" y="474"/>
                    </a:lnTo>
                    <a:lnTo>
                      <a:pt x="832" y="496"/>
                    </a:lnTo>
                    <a:lnTo>
                      <a:pt x="829" y="517"/>
                    </a:lnTo>
                    <a:lnTo>
                      <a:pt x="826" y="540"/>
                    </a:lnTo>
                    <a:lnTo>
                      <a:pt x="821" y="561"/>
                    </a:lnTo>
                    <a:lnTo>
                      <a:pt x="814" y="582"/>
                    </a:lnTo>
                    <a:lnTo>
                      <a:pt x="808" y="601"/>
                    </a:lnTo>
                    <a:lnTo>
                      <a:pt x="800" y="621"/>
                    </a:lnTo>
                    <a:lnTo>
                      <a:pt x="791" y="640"/>
                    </a:lnTo>
                    <a:lnTo>
                      <a:pt x="782" y="659"/>
                    </a:lnTo>
                    <a:lnTo>
                      <a:pt x="771" y="677"/>
                    </a:lnTo>
                    <a:lnTo>
                      <a:pt x="760" y="695"/>
                    </a:lnTo>
                    <a:lnTo>
                      <a:pt x="748" y="712"/>
                    </a:lnTo>
                    <a:lnTo>
                      <a:pt x="735" y="729"/>
                    </a:lnTo>
                    <a:lnTo>
                      <a:pt x="721" y="744"/>
                    </a:lnTo>
                    <a:lnTo>
                      <a:pt x="707" y="760"/>
                    </a:lnTo>
                    <a:lnTo>
                      <a:pt x="692" y="774"/>
                    </a:lnTo>
                    <a:lnTo>
                      <a:pt x="676" y="787"/>
                    </a:lnTo>
                    <a:lnTo>
                      <a:pt x="659" y="801"/>
                    </a:lnTo>
                    <a:lnTo>
                      <a:pt x="642" y="813"/>
                    </a:lnTo>
                    <a:lnTo>
                      <a:pt x="624" y="824"/>
                    </a:lnTo>
                    <a:lnTo>
                      <a:pt x="606" y="835"/>
                    </a:lnTo>
                    <a:lnTo>
                      <a:pt x="587" y="844"/>
                    </a:lnTo>
                    <a:lnTo>
                      <a:pt x="569" y="852"/>
                    </a:lnTo>
                    <a:lnTo>
                      <a:pt x="549" y="861"/>
                    </a:lnTo>
                    <a:lnTo>
                      <a:pt x="529" y="867"/>
                    </a:lnTo>
                    <a:lnTo>
                      <a:pt x="508" y="873"/>
                    </a:lnTo>
                    <a:lnTo>
                      <a:pt x="487" y="879"/>
                    </a:lnTo>
                    <a:lnTo>
                      <a:pt x="464" y="882"/>
                    </a:lnTo>
                    <a:lnTo>
                      <a:pt x="443" y="885"/>
                    </a:lnTo>
                    <a:lnTo>
                      <a:pt x="421" y="886"/>
                    </a:lnTo>
                    <a:lnTo>
                      <a:pt x="398" y="887"/>
                    </a:lnTo>
                    <a:lnTo>
                      <a:pt x="388" y="887"/>
                    </a:lnTo>
                    <a:lnTo>
                      <a:pt x="376" y="886"/>
                    </a:lnTo>
                    <a:lnTo>
                      <a:pt x="365" y="886"/>
                    </a:lnTo>
                    <a:lnTo>
                      <a:pt x="353" y="885"/>
                    </a:lnTo>
                    <a:lnTo>
                      <a:pt x="343" y="884"/>
                    </a:lnTo>
                    <a:lnTo>
                      <a:pt x="331" y="882"/>
                    </a:lnTo>
                    <a:lnTo>
                      <a:pt x="320" y="880"/>
                    </a:lnTo>
                    <a:lnTo>
                      <a:pt x="310" y="878"/>
                    </a:lnTo>
                    <a:lnTo>
                      <a:pt x="323" y="898"/>
                    </a:lnTo>
                    <a:lnTo>
                      <a:pt x="332" y="899"/>
                    </a:lnTo>
                    <a:lnTo>
                      <a:pt x="341" y="901"/>
                    </a:lnTo>
                    <a:lnTo>
                      <a:pt x="351" y="902"/>
                    </a:lnTo>
                    <a:lnTo>
                      <a:pt x="360" y="902"/>
                    </a:lnTo>
                    <a:lnTo>
                      <a:pt x="370" y="903"/>
                    </a:lnTo>
                    <a:lnTo>
                      <a:pt x="379" y="904"/>
                    </a:lnTo>
                    <a:lnTo>
                      <a:pt x="389" y="904"/>
                    </a:lnTo>
                    <a:lnTo>
                      <a:pt x="398" y="904"/>
                    </a:lnTo>
                    <a:lnTo>
                      <a:pt x="422" y="903"/>
                    </a:lnTo>
                    <a:lnTo>
                      <a:pt x="444" y="902"/>
                    </a:lnTo>
                    <a:lnTo>
                      <a:pt x="468" y="899"/>
                    </a:lnTo>
                    <a:lnTo>
                      <a:pt x="490" y="894"/>
                    </a:lnTo>
                    <a:lnTo>
                      <a:pt x="512" y="889"/>
                    </a:lnTo>
                    <a:lnTo>
                      <a:pt x="533" y="884"/>
                    </a:lnTo>
                    <a:lnTo>
                      <a:pt x="554" y="877"/>
                    </a:lnTo>
                    <a:lnTo>
                      <a:pt x="575" y="868"/>
                    </a:lnTo>
                    <a:lnTo>
                      <a:pt x="595" y="860"/>
                    </a:lnTo>
                    <a:lnTo>
                      <a:pt x="615" y="849"/>
                    </a:lnTo>
                    <a:lnTo>
                      <a:pt x="634" y="839"/>
                    </a:lnTo>
                    <a:lnTo>
                      <a:pt x="652" y="826"/>
                    </a:lnTo>
                    <a:lnTo>
                      <a:pt x="669" y="814"/>
                    </a:lnTo>
                    <a:lnTo>
                      <a:pt x="686" y="801"/>
                    </a:lnTo>
                    <a:lnTo>
                      <a:pt x="703" y="786"/>
                    </a:lnTo>
                    <a:lnTo>
                      <a:pt x="719" y="772"/>
                    </a:lnTo>
                    <a:lnTo>
                      <a:pt x="734" y="756"/>
                    </a:lnTo>
                    <a:lnTo>
                      <a:pt x="748" y="739"/>
                    </a:lnTo>
                    <a:lnTo>
                      <a:pt x="761" y="722"/>
                    </a:lnTo>
                    <a:lnTo>
                      <a:pt x="773" y="704"/>
                    </a:lnTo>
                    <a:lnTo>
                      <a:pt x="786" y="687"/>
                    </a:lnTo>
                    <a:lnTo>
                      <a:pt x="797" y="668"/>
                    </a:lnTo>
                    <a:lnTo>
                      <a:pt x="807" y="648"/>
                    </a:lnTo>
                    <a:lnTo>
                      <a:pt x="816" y="628"/>
                    </a:lnTo>
                    <a:lnTo>
                      <a:pt x="824" y="607"/>
                    </a:lnTo>
                    <a:lnTo>
                      <a:pt x="831" y="586"/>
                    </a:lnTo>
                    <a:lnTo>
                      <a:pt x="837" y="565"/>
                    </a:lnTo>
                    <a:lnTo>
                      <a:pt x="842" y="543"/>
                    </a:lnTo>
                    <a:lnTo>
                      <a:pt x="846" y="521"/>
                    </a:lnTo>
                    <a:lnTo>
                      <a:pt x="849" y="498"/>
                    </a:lnTo>
                    <a:lnTo>
                      <a:pt x="850" y="474"/>
                    </a:lnTo>
                    <a:lnTo>
                      <a:pt x="851" y="451"/>
                    </a:lnTo>
                    <a:close/>
                    <a:moveTo>
                      <a:pt x="654" y="79"/>
                    </a:moveTo>
                    <a:lnTo>
                      <a:pt x="640" y="69"/>
                    </a:lnTo>
                    <a:lnTo>
                      <a:pt x="625" y="61"/>
                    </a:lnTo>
                    <a:lnTo>
                      <a:pt x="612" y="52"/>
                    </a:lnTo>
                    <a:lnTo>
                      <a:pt x="597" y="45"/>
                    </a:lnTo>
                    <a:lnTo>
                      <a:pt x="581" y="38"/>
                    </a:lnTo>
                    <a:lnTo>
                      <a:pt x="566" y="31"/>
                    </a:lnTo>
                    <a:lnTo>
                      <a:pt x="551" y="26"/>
                    </a:lnTo>
                    <a:lnTo>
                      <a:pt x="535" y="20"/>
                    </a:lnTo>
                    <a:lnTo>
                      <a:pt x="518" y="16"/>
                    </a:lnTo>
                    <a:lnTo>
                      <a:pt x="502" y="11"/>
                    </a:lnTo>
                    <a:lnTo>
                      <a:pt x="485" y="8"/>
                    </a:lnTo>
                    <a:lnTo>
                      <a:pt x="469" y="5"/>
                    </a:lnTo>
                    <a:lnTo>
                      <a:pt x="451" y="3"/>
                    </a:lnTo>
                    <a:lnTo>
                      <a:pt x="434" y="1"/>
                    </a:lnTo>
                    <a:lnTo>
                      <a:pt x="416" y="0"/>
                    </a:lnTo>
                    <a:lnTo>
                      <a:pt x="398" y="0"/>
                    </a:lnTo>
                    <a:lnTo>
                      <a:pt x="382" y="0"/>
                    </a:lnTo>
                    <a:lnTo>
                      <a:pt x="367" y="1"/>
                    </a:lnTo>
                    <a:lnTo>
                      <a:pt x="351" y="2"/>
                    </a:lnTo>
                    <a:lnTo>
                      <a:pt x="335" y="4"/>
                    </a:lnTo>
                    <a:lnTo>
                      <a:pt x="319" y="6"/>
                    </a:lnTo>
                    <a:lnTo>
                      <a:pt x="305" y="9"/>
                    </a:lnTo>
                    <a:lnTo>
                      <a:pt x="289" y="12"/>
                    </a:lnTo>
                    <a:lnTo>
                      <a:pt x="274" y="17"/>
                    </a:lnTo>
                    <a:lnTo>
                      <a:pt x="259" y="21"/>
                    </a:lnTo>
                    <a:lnTo>
                      <a:pt x="245" y="26"/>
                    </a:lnTo>
                    <a:lnTo>
                      <a:pt x="231" y="31"/>
                    </a:lnTo>
                    <a:lnTo>
                      <a:pt x="216" y="38"/>
                    </a:lnTo>
                    <a:lnTo>
                      <a:pt x="189" y="50"/>
                    </a:lnTo>
                    <a:lnTo>
                      <a:pt x="163" y="65"/>
                    </a:lnTo>
                    <a:lnTo>
                      <a:pt x="138" y="82"/>
                    </a:lnTo>
                    <a:lnTo>
                      <a:pt x="114" y="100"/>
                    </a:lnTo>
                    <a:lnTo>
                      <a:pt x="91" y="120"/>
                    </a:lnTo>
                    <a:lnTo>
                      <a:pt x="70" y="141"/>
                    </a:lnTo>
                    <a:lnTo>
                      <a:pt x="50" y="163"/>
                    </a:lnTo>
                    <a:lnTo>
                      <a:pt x="31" y="187"/>
                    </a:lnTo>
                    <a:lnTo>
                      <a:pt x="15" y="212"/>
                    </a:lnTo>
                    <a:lnTo>
                      <a:pt x="0" y="237"/>
                    </a:lnTo>
                    <a:lnTo>
                      <a:pt x="7" y="260"/>
                    </a:lnTo>
                    <a:lnTo>
                      <a:pt x="14" y="247"/>
                    </a:lnTo>
                    <a:lnTo>
                      <a:pt x="21" y="234"/>
                    </a:lnTo>
                    <a:lnTo>
                      <a:pt x="29" y="221"/>
                    </a:lnTo>
                    <a:lnTo>
                      <a:pt x="38" y="209"/>
                    </a:lnTo>
                    <a:lnTo>
                      <a:pt x="55" y="185"/>
                    </a:lnTo>
                    <a:lnTo>
                      <a:pt x="74" y="162"/>
                    </a:lnTo>
                    <a:lnTo>
                      <a:pt x="94" y="139"/>
                    </a:lnTo>
                    <a:lnTo>
                      <a:pt x="117" y="120"/>
                    </a:lnTo>
                    <a:lnTo>
                      <a:pt x="128" y="110"/>
                    </a:lnTo>
                    <a:lnTo>
                      <a:pt x="141" y="101"/>
                    </a:lnTo>
                    <a:lnTo>
                      <a:pt x="152" y="92"/>
                    </a:lnTo>
                    <a:lnTo>
                      <a:pt x="165" y="84"/>
                    </a:lnTo>
                    <a:lnTo>
                      <a:pt x="178" y="76"/>
                    </a:lnTo>
                    <a:lnTo>
                      <a:pt x="191" y="69"/>
                    </a:lnTo>
                    <a:lnTo>
                      <a:pt x="204" y="62"/>
                    </a:lnTo>
                    <a:lnTo>
                      <a:pt x="217" y="55"/>
                    </a:lnTo>
                    <a:lnTo>
                      <a:pt x="232" y="49"/>
                    </a:lnTo>
                    <a:lnTo>
                      <a:pt x="246" y="44"/>
                    </a:lnTo>
                    <a:lnTo>
                      <a:pt x="261" y="39"/>
                    </a:lnTo>
                    <a:lnTo>
                      <a:pt x="275" y="34"/>
                    </a:lnTo>
                    <a:lnTo>
                      <a:pt x="290" y="30"/>
                    </a:lnTo>
                    <a:lnTo>
                      <a:pt x="305" y="26"/>
                    </a:lnTo>
                    <a:lnTo>
                      <a:pt x="320" y="23"/>
                    </a:lnTo>
                    <a:lnTo>
                      <a:pt x="335" y="21"/>
                    </a:lnTo>
                    <a:lnTo>
                      <a:pt x="351" y="19"/>
                    </a:lnTo>
                    <a:lnTo>
                      <a:pt x="367" y="18"/>
                    </a:lnTo>
                    <a:lnTo>
                      <a:pt x="382" y="17"/>
                    </a:lnTo>
                    <a:lnTo>
                      <a:pt x="398" y="17"/>
                    </a:lnTo>
                    <a:lnTo>
                      <a:pt x="418" y="17"/>
                    </a:lnTo>
                    <a:lnTo>
                      <a:pt x="438" y="18"/>
                    </a:lnTo>
                    <a:lnTo>
                      <a:pt x="457" y="20"/>
                    </a:lnTo>
                    <a:lnTo>
                      <a:pt x="476" y="23"/>
                    </a:lnTo>
                    <a:lnTo>
                      <a:pt x="495" y="27"/>
                    </a:lnTo>
                    <a:lnTo>
                      <a:pt x="513" y="31"/>
                    </a:lnTo>
                    <a:lnTo>
                      <a:pt x="531" y="37"/>
                    </a:lnTo>
                    <a:lnTo>
                      <a:pt x="549" y="43"/>
                    </a:lnTo>
                    <a:lnTo>
                      <a:pt x="566" y="49"/>
                    </a:lnTo>
                    <a:lnTo>
                      <a:pt x="583" y="58"/>
                    </a:lnTo>
                    <a:lnTo>
                      <a:pt x="600" y="65"/>
                    </a:lnTo>
                    <a:lnTo>
                      <a:pt x="616" y="74"/>
                    </a:lnTo>
                    <a:lnTo>
                      <a:pt x="632" y="84"/>
                    </a:lnTo>
                    <a:lnTo>
                      <a:pt x="647" y="94"/>
                    </a:lnTo>
                    <a:lnTo>
                      <a:pt x="662" y="105"/>
                    </a:lnTo>
                    <a:lnTo>
                      <a:pt x="676" y="116"/>
                    </a:lnTo>
                    <a:lnTo>
                      <a:pt x="674" y="107"/>
                    </a:lnTo>
                    <a:lnTo>
                      <a:pt x="654" y="79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892840" y="2557440"/>
                <a:ext cx="266760" cy="281160"/>
              </a:xfrm>
              <a:custGeom>
                <a:avLst/>
                <a:gdLst/>
                <a:ahLst/>
                <a:rect l="l" t="t" r="r" b="b"/>
                <a:pathLst>
                  <a:path w="840" h="887">
                    <a:moveTo>
                      <a:pt x="840" y="443"/>
                    </a:moveTo>
                    <a:lnTo>
                      <a:pt x="840" y="437"/>
                    </a:lnTo>
                    <a:lnTo>
                      <a:pt x="840" y="431"/>
                    </a:lnTo>
                    <a:lnTo>
                      <a:pt x="840" y="423"/>
                    </a:lnTo>
                    <a:lnTo>
                      <a:pt x="839" y="417"/>
                    </a:lnTo>
                    <a:lnTo>
                      <a:pt x="839" y="411"/>
                    </a:lnTo>
                    <a:lnTo>
                      <a:pt x="838" y="404"/>
                    </a:lnTo>
                    <a:lnTo>
                      <a:pt x="838" y="398"/>
                    </a:lnTo>
                    <a:lnTo>
                      <a:pt x="837" y="391"/>
                    </a:lnTo>
                    <a:lnTo>
                      <a:pt x="815" y="358"/>
                    </a:lnTo>
                    <a:lnTo>
                      <a:pt x="817" y="369"/>
                    </a:lnTo>
                    <a:lnTo>
                      <a:pt x="818" y="379"/>
                    </a:lnTo>
                    <a:lnTo>
                      <a:pt x="820" y="390"/>
                    </a:lnTo>
                    <a:lnTo>
                      <a:pt x="821" y="400"/>
                    </a:lnTo>
                    <a:lnTo>
                      <a:pt x="822" y="411"/>
                    </a:lnTo>
                    <a:lnTo>
                      <a:pt x="823" y="422"/>
                    </a:lnTo>
                    <a:lnTo>
                      <a:pt x="823" y="433"/>
                    </a:lnTo>
                    <a:lnTo>
                      <a:pt x="823" y="443"/>
                    </a:lnTo>
                    <a:lnTo>
                      <a:pt x="823" y="465"/>
                    </a:lnTo>
                    <a:lnTo>
                      <a:pt x="821" y="487"/>
                    </a:lnTo>
                    <a:lnTo>
                      <a:pt x="818" y="508"/>
                    </a:lnTo>
                    <a:lnTo>
                      <a:pt x="815" y="529"/>
                    </a:lnTo>
                    <a:lnTo>
                      <a:pt x="809" y="550"/>
                    </a:lnTo>
                    <a:lnTo>
                      <a:pt x="804" y="570"/>
                    </a:lnTo>
                    <a:lnTo>
                      <a:pt x="797" y="590"/>
                    </a:lnTo>
                    <a:lnTo>
                      <a:pt x="789" y="610"/>
                    </a:lnTo>
                    <a:lnTo>
                      <a:pt x="781" y="629"/>
                    </a:lnTo>
                    <a:lnTo>
                      <a:pt x="772" y="647"/>
                    </a:lnTo>
                    <a:lnTo>
                      <a:pt x="761" y="665"/>
                    </a:lnTo>
                    <a:lnTo>
                      <a:pt x="751" y="683"/>
                    </a:lnTo>
                    <a:lnTo>
                      <a:pt x="738" y="700"/>
                    </a:lnTo>
                    <a:lnTo>
                      <a:pt x="725" y="715"/>
                    </a:lnTo>
                    <a:lnTo>
                      <a:pt x="712" y="731"/>
                    </a:lnTo>
                    <a:lnTo>
                      <a:pt x="698" y="746"/>
                    </a:lnTo>
                    <a:lnTo>
                      <a:pt x="683" y="759"/>
                    </a:lnTo>
                    <a:lnTo>
                      <a:pt x="667" y="773"/>
                    </a:lnTo>
                    <a:lnTo>
                      <a:pt x="652" y="786"/>
                    </a:lnTo>
                    <a:lnTo>
                      <a:pt x="635" y="798"/>
                    </a:lnTo>
                    <a:lnTo>
                      <a:pt x="617" y="809"/>
                    </a:lnTo>
                    <a:lnTo>
                      <a:pt x="599" y="819"/>
                    </a:lnTo>
                    <a:lnTo>
                      <a:pt x="581" y="829"/>
                    </a:lnTo>
                    <a:lnTo>
                      <a:pt x="562" y="837"/>
                    </a:lnTo>
                    <a:lnTo>
                      <a:pt x="542" y="844"/>
                    </a:lnTo>
                    <a:lnTo>
                      <a:pt x="522" y="852"/>
                    </a:lnTo>
                    <a:lnTo>
                      <a:pt x="502" y="857"/>
                    </a:lnTo>
                    <a:lnTo>
                      <a:pt x="481" y="862"/>
                    </a:lnTo>
                    <a:lnTo>
                      <a:pt x="460" y="865"/>
                    </a:lnTo>
                    <a:lnTo>
                      <a:pt x="439" y="869"/>
                    </a:lnTo>
                    <a:lnTo>
                      <a:pt x="417" y="871"/>
                    </a:lnTo>
                    <a:lnTo>
                      <a:pt x="395" y="871"/>
                    </a:lnTo>
                    <a:lnTo>
                      <a:pt x="384" y="871"/>
                    </a:lnTo>
                    <a:lnTo>
                      <a:pt x="371" y="870"/>
                    </a:lnTo>
                    <a:lnTo>
                      <a:pt x="360" y="870"/>
                    </a:lnTo>
                    <a:lnTo>
                      <a:pt x="347" y="868"/>
                    </a:lnTo>
                    <a:lnTo>
                      <a:pt x="335" y="866"/>
                    </a:lnTo>
                    <a:lnTo>
                      <a:pt x="324" y="864"/>
                    </a:lnTo>
                    <a:lnTo>
                      <a:pt x="312" y="862"/>
                    </a:lnTo>
                    <a:lnTo>
                      <a:pt x="301" y="860"/>
                    </a:lnTo>
                    <a:lnTo>
                      <a:pt x="301" y="861"/>
                    </a:lnTo>
                    <a:lnTo>
                      <a:pt x="313" y="880"/>
                    </a:lnTo>
                    <a:lnTo>
                      <a:pt x="323" y="881"/>
                    </a:lnTo>
                    <a:lnTo>
                      <a:pt x="333" y="883"/>
                    </a:lnTo>
                    <a:lnTo>
                      <a:pt x="344" y="884"/>
                    </a:lnTo>
                    <a:lnTo>
                      <a:pt x="354" y="885"/>
                    </a:lnTo>
                    <a:lnTo>
                      <a:pt x="364" y="886"/>
                    </a:lnTo>
                    <a:lnTo>
                      <a:pt x="374" y="887"/>
                    </a:lnTo>
                    <a:lnTo>
                      <a:pt x="385" y="887"/>
                    </a:lnTo>
                    <a:lnTo>
                      <a:pt x="395" y="887"/>
                    </a:lnTo>
                    <a:lnTo>
                      <a:pt x="418" y="886"/>
                    </a:lnTo>
                    <a:lnTo>
                      <a:pt x="441" y="885"/>
                    </a:lnTo>
                    <a:lnTo>
                      <a:pt x="464" y="882"/>
                    </a:lnTo>
                    <a:lnTo>
                      <a:pt x="486" y="878"/>
                    </a:lnTo>
                    <a:lnTo>
                      <a:pt x="507" y="874"/>
                    </a:lnTo>
                    <a:lnTo>
                      <a:pt x="528" y="868"/>
                    </a:lnTo>
                    <a:lnTo>
                      <a:pt x="549" y="860"/>
                    </a:lnTo>
                    <a:lnTo>
                      <a:pt x="569" y="853"/>
                    </a:lnTo>
                    <a:lnTo>
                      <a:pt x="589" y="843"/>
                    </a:lnTo>
                    <a:lnTo>
                      <a:pt x="608" y="834"/>
                    </a:lnTo>
                    <a:lnTo>
                      <a:pt x="625" y="823"/>
                    </a:lnTo>
                    <a:lnTo>
                      <a:pt x="644" y="812"/>
                    </a:lnTo>
                    <a:lnTo>
                      <a:pt x="661" y="799"/>
                    </a:lnTo>
                    <a:lnTo>
                      <a:pt x="678" y="787"/>
                    </a:lnTo>
                    <a:lnTo>
                      <a:pt x="695" y="772"/>
                    </a:lnTo>
                    <a:lnTo>
                      <a:pt x="710" y="757"/>
                    </a:lnTo>
                    <a:lnTo>
                      <a:pt x="724" y="743"/>
                    </a:lnTo>
                    <a:lnTo>
                      <a:pt x="738" y="726"/>
                    </a:lnTo>
                    <a:lnTo>
                      <a:pt x="752" y="709"/>
                    </a:lnTo>
                    <a:lnTo>
                      <a:pt x="764" y="692"/>
                    </a:lnTo>
                    <a:lnTo>
                      <a:pt x="776" y="674"/>
                    </a:lnTo>
                    <a:lnTo>
                      <a:pt x="786" y="655"/>
                    </a:lnTo>
                    <a:lnTo>
                      <a:pt x="796" y="637"/>
                    </a:lnTo>
                    <a:lnTo>
                      <a:pt x="805" y="617"/>
                    </a:lnTo>
                    <a:lnTo>
                      <a:pt x="813" y="597"/>
                    </a:lnTo>
                    <a:lnTo>
                      <a:pt x="820" y="576"/>
                    </a:lnTo>
                    <a:lnTo>
                      <a:pt x="826" y="555"/>
                    </a:lnTo>
                    <a:lnTo>
                      <a:pt x="830" y="534"/>
                    </a:lnTo>
                    <a:lnTo>
                      <a:pt x="835" y="512"/>
                    </a:lnTo>
                    <a:lnTo>
                      <a:pt x="838" y="490"/>
                    </a:lnTo>
                    <a:lnTo>
                      <a:pt x="839" y="466"/>
                    </a:lnTo>
                    <a:lnTo>
                      <a:pt x="840" y="443"/>
                    </a:lnTo>
                    <a:close/>
                    <a:moveTo>
                      <a:pt x="664" y="91"/>
                    </a:moveTo>
                    <a:lnTo>
                      <a:pt x="651" y="80"/>
                    </a:lnTo>
                    <a:lnTo>
                      <a:pt x="636" y="71"/>
                    </a:lnTo>
                    <a:lnTo>
                      <a:pt x="620" y="61"/>
                    </a:lnTo>
                    <a:lnTo>
                      <a:pt x="605" y="53"/>
                    </a:lnTo>
                    <a:lnTo>
                      <a:pt x="590" y="44"/>
                    </a:lnTo>
                    <a:lnTo>
                      <a:pt x="573" y="37"/>
                    </a:lnTo>
                    <a:lnTo>
                      <a:pt x="557" y="30"/>
                    </a:lnTo>
                    <a:lnTo>
                      <a:pt x="540" y="24"/>
                    </a:lnTo>
                    <a:lnTo>
                      <a:pt x="522" y="18"/>
                    </a:lnTo>
                    <a:lnTo>
                      <a:pt x="506" y="14"/>
                    </a:lnTo>
                    <a:lnTo>
                      <a:pt x="488" y="10"/>
                    </a:lnTo>
                    <a:lnTo>
                      <a:pt x="470" y="7"/>
                    </a:lnTo>
                    <a:lnTo>
                      <a:pt x="452" y="3"/>
                    </a:lnTo>
                    <a:lnTo>
                      <a:pt x="433" y="1"/>
                    </a:lnTo>
                    <a:lnTo>
                      <a:pt x="414" y="0"/>
                    </a:lnTo>
                    <a:lnTo>
                      <a:pt x="395" y="0"/>
                    </a:lnTo>
                    <a:lnTo>
                      <a:pt x="379" y="0"/>
                    </a:lnTo>
                    <a:lnTo>
                      <a:pt x="364" y="1"/>
                    </a:lnTo>
                    <a:lnTo>
                      <a:pt x="348" y="2"/>
                    </a:lnTo>
                    <a:lnTo>
                      <a:pt x="332" y="4"/>
                    </a:lnTo>
                    <a:lnTo>
                      <a:pt x="316" y="7"/>
                    </a:lnTo>
                    <a:lnTo>
                      <a:pt x="302" y="10"/>
                    </a:lnTo>
                    <a:lnTo>
                      <a:pt x="287" y="14"/>
                    </a:lnTo>
                    <a:lnTo>
                      <a:pt x="271" y="17"/>
                    </a:lnTo>
                    <a:lnTo>
                      <a:pt x="256" y="22"/>
                    </a:lnTo>
                    <a:lnTo>
                      <a:pt x="243" y="26"/>
                    </a:lnTo>
                    <a:lnTo>
                      <a:pt x="228" y="33"/>
                    </a:lnTo>
                    <a:lnTo>
                      <a:pt x="214" y="38"/>
                    </a:lnTo>
                    <a:lnTo>
                      <a:pt x="187" y="52"/>
                    </a:lnTo>
                    <a:lnTo>
                      <a:pt x="161" y="66"/>
                    </a:lnTo>
                    <a:lnTo>
                      <a:pt x="137" y="83"/>
                    </a:lnTo>
                    <a:lnTo>
                      <a:pt x="112" y="102"/>
                    </a:lnTo>
                    <a:lnTo>
                      <a:pt x="90" y="122"/>
                    </a:lnTo>
                    <a:lnTo>
                      <a:pt x="69" y="143"/>
                    </a:lnTo>
                    <a:lnTo>
                      <a:pt x="49" y="165"/>
                    </a:lnTo>
                    <a:lnTo>
                      <a:pt x="32" y="189"/>
                    </a:lnTo>
                    <a:lnTo>
                      <a:pt x="23" y="202"/>
                    </a:lnTo>
                    <a:lnTo>
                      <a:pt x="15" y="214"/>
                    </a:lnTo>
                    <a:lnTo>
                      <a:pt x="7" y="227"/>
                    </a:lnTo>
                    <a:lnTo>
                      <a:pt x="0" y="241"/>
                    </a:lnTo>
                    <a:lnTo>
                      <a:pt x="7" y="264"/>
                    </a:lnTo>
                    <a:lnTo>
                      <a:pt x="15" y="250"/>
                    </a:lnTo>
                    <a:lnTo>
                      <a:pt x="21" y="236"/>
                    </a:lnTo>
                    <a:lnTo>
                      <a:pt x="28" y="224"/>
                    </a:lnTo>
                    <a:lnTo>
                      <a:pt x="37" y="211"/>
                    </a:lnTo>
                    <a:lnTo>
                      <a:pt x="45" y="199"/>
                    </a:lnTo>
                    <a:lnTo>
                      <a:pt x="54" y="187"/>
                    </a:lnTo>
                    <a:lnTo>
                      <a:pt x="63" y="175"/>
                    </a:lnTo>
                    <a:lnTo>
                      <a:pt x="73" y="164"/>
                    </a:lnTo>
                    <a:lnTo>
                      <a:pt x="94" y="142"/>
                    </a:lnTo>
                    <a:lnTo>
                      <a:pt x="115" y="121"/>
                    </a:lnTo>
                    <a:lnTo>
                      <a:pt x="126" y="112"/>
                    </a:lnTo>
                    <a:lnTo>
                      <a:pt x="139" y="103"/>
                    </a:lnTo>
                    <a:lnTo>
                      <a:pt x="150" y="94"/>
                    </a:lnTo>
                    <a:lnTo>
                      <a:pt x="163" y="85"/>
                    </a:lnTo>
                    <a:lnTo>
                      <a:pt x="176" y="78"/>
                    </a:lnTo>
                    <a:lnTo>
                      <a:pt x="188" y="70"/>
                    </a:lnTo>
                    <a:lnTo>
                      <a:pt x="202" y="63"/>
                    </a:lnTo>
                    <a:lnTo>
                      <a:pt x="215" y="56"/>
                    </a:lnTo>
                    <a:lnTo>
                      <a:pt x="229" y="51"/>
                    </a:lnTo>
                    <a:lnTo>
                      <a:pt x="243" y="44"/>
                    </a:lnTo>
                    <a:lnTo>
                      <a:pt x="258" y="39"/>
                    </a:lnTo>
                    <a:lnTo>
                      <a:pt x="272" y="35"/>
                    </a:lnTo>
                    <a:lnTo>
                      <a:pt x="287" y="31"/>
                    </a:lnTo>
                    <a:lnTo>
                      <a:pt x="302" y="26"/>
                    </a:lnTo>
                    <a:lnTo>
                      <a:pt x="317" y="24"/>
                    </a:lnTo>
                    <a:lnTo>
                      <a:pt x="332" y="21"/>
                    </a:lnTo>
                    <a:lnTo>
                      <a:pt x="348" y="19"/>
                    </a:lnTo>
                    <a:lnTo>
                      <a:pt x="364" y="18"/>
                    </a:lnTo>
                    <a:lnTo>
                      <a:pt x="379" y="17"/>
                    </a:lnTo>
                    <a:lnTo>
                      <a:pt x="395" y="17"/>
                    </a:lnTo>
                    <a:lnTo>
                      <a:pt x="416" y="17"/>
                    </a:lnTo>
                    <a:lnTo>
                      <a:pt x="436" y="18"/>
                    </a:lnTo>
                    <a:lnTo>
                      <a:pt x="455" y="21"/>
                    </a:lnTo>
                    <a:lnTo>
                      <a:pt x="475" y="24"/>
                    </a:lnTo>
                    <a:lnTo>
                      <a:pt x="494" y="28"/>
                    </a:lnTo>
                    <a:lnTo>
                      <a:pt x="513" y="33"/>
                    </a:lnTo>
                    <a:lnTo>
                      <a:pt x="531" y="38"/>
                    </a:lnTo>
                    <a:lnTo>
                      <a:pt x="549" y="45"/>
                    </a:lnTo>
                    <a:lnTo>
                      <a:pt x="567" y="53"/>
                    </a:lnTo>
                    <a:lnTo>
                      <a:pt x="584" y="60"/>
                    </a:lnTo>
                    <a:lnTo>
                      <a:pt x="601" y="70"/>
                    </a:lnTo>
                    <a:lnTo>
                      <a:pt x="617" y="79"/>
                    </a:lnTo>
                    <a:lnTo>
                      <a:pt x="633" y="88"/>
                    </a:lnTo>
                    <a:lnTo>
                      <a:pt x="649" y="99"/>
                    </a:lnTo>
                    <a:lnTo>
                      <a:pt x="663" y="110"/>
                    </a:lnTo>
                    <a:lnTo>
                      <a:pt x="678" y="123"/>
                    </a:lnTo>
                    <a:lnTo>
                      <a:pt x="671" y="99"/>
                    </a:lnTo>
                    <a:lnTo>
                      <a:pt x="664" y="9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892840" y="2558880"/>
                <a:ext cx="263520" cy="276480"/>
              </a:xfrm>
              <a:custGeom>
                <a:avLst/>
                <a:gdLst/>
                <a:ahLst/>
                <a:rect l="l" t="t" r="r" b="b"/>
                <a:pathLst>
                  <a:path w="827" h="870">
                    <a:moveTo>
                      <a:pt x="827" y="434"/>
                    </a:moveTo>
                    <a:lnTo>
                      <a:pt x="827" y="426"/>
                    </a:lnTo>
                    <a:lnTo>
                      <a:pt x="827" y="418"/>
                    </a:lnTo>
                    <a:lnTo>
                      <a:pt x="826" y="409"/>
                    </a:lnTo>
                    <a:lnTo>
                      <a:pt x="826" y="401"/>
                    </a:lnTo>
                    <a:lnTo>
                      <a:pt x="825" y="392"/>
                    </a:lnTo>
                    <a:lnTo>
                      <a:pt x="824" y="384"/>
                    </a:lnTo>
                    <a:lnTo>
                      <a:pt x="823" y="376"/>
                    </a:lnTo>
                    <a:lnTo>
                      <a:pt x="822" y="367"/>
                    </a:lnTo>
                    <a:lnTo>
                      <a:pt x="807" y="345"/>
                    </a:lnTo>
                    <a:lnTo>
                      <a:pt x="798" y="330"/>
                    </a:lnTo>
                    <a:lnTo>
                      <a:pt x="800" y="343"/>
                    </a:lnTo>
                    <a:lnTo>
                      <a:pt x="803" y="356"/>
                    </a:lnTo>
                    <a:lnTo>
                      <a:pt x="805" y="368"/>
                    </a:lnTo>
                    <a:lnTo>
                      <a:pt x="807" y="382"/>
                    </a:lnTo>
                    <a:lnTo>
                      <a:pt x="809" y="394"/>
                    </a:lnTo>
                    <a:lnTo>
                      <a:pt x="810" y="408"/>
                    </a:lnTo>
                    <a:lnTo>
                      <a:pt x="811" y="422"/>
                    </a:lnTo>
                    <a:lnTo>
                      <a:pt x="811" y="434"/>
                    </a:lnTo>
                    <a:lnTo>
                      <a:pt x="811" y="456"/>
                    </a:lnTo>
                    <a:lnTo>
                      <a:pt x="809" y="477"/>
                    </a:lnTo>
                    <a:lnTo>
                      <a:pt x="805" y="498"/>
                    </a:lnTo>
                    <a:lnTo>
                      <a:pt x="802" y="519"/>
                    </a:lnTo>
                    <a:lnTo>
                      <a:pt x="798" y="539"/>
                    </a:lnTo>
                    <a:lnTo>
                      <a:pt x="792" y="559"/>
                    </a:lnTo>
                    <a:lnTo>
                      <a:pt x="785" y="578"/>
                    </a:lnTo>
                    <a:lnTo>
                      <a:pt x="778" y="598"/>
                    </a:lnTo>
                    <a:lnTo>
                      <a:pt x="770" y="616"/>
                    </a:lnTo>
                    <a:lnTo>
                      <a:pt x="760" y="634"/>
                    </a:lnTo>
                    <a:lnTo>
                      <a:pt x="750" y="652"/>
                    </a:lnTo>
                    <a:lnTo>
                      <a:pt x="739" y="668"/>
                    </a:lnTo>
                    <a:lnTo>
                      <a:pt x="728" y="685"/>
                    </a:lnTo>
                    <a:lnTo>
                      <a:pt x="715" y="701"/>
                    </a:lnTo>
                    <a:lnTo>
                      <a:pt x="702" y="716"/>
                    </a:lnTo>
                    <a:lnTo>
                      <a:pt x="688" y="730"/>
                    </a:lnTo>
                    <a:lnTo>
                      <a:pt x="673" y="745"/>
                    </a:lnTo>
                    <a:lnTo>
                      <a:pt x="658" y="758"/>
                    </a:lnTo>
                    <a:lnTo>
                      <a:pt x="642" y="770"/>
                    </a:lnTo>
                    <a:lnTo>
                      <a:pt x="626" y="782"/>
                    </a:lnTo>
                    <a:lnTo>
                      <a:pt x="609" y="792"/>
                    </a:lnTo>
                    <a:lnTo>
                      <a:pt x="591" y="803"/>
                    </a:lnTo>
                    <a:lnTo>
                      <a:pt x="573" y="812"/>
                    </a:lnTo>
                    <a:lnTo>
                      <a:pt x="555" y="821"/>
                    </a:lnTo>
                    <a:lnTo>
                      <a:pt x="535" y="828"/>
                    </a:lnTo>
                    <a:lnTo>
                      <a:pt x="516" y="834"/>
                    </a:lnTo>
                    <a:lnTo>
                      <a:pt x="496" y="841"/>
                    </a:lnTo>
                    <a:lnTo>
                      <a:pt x="476" y="845"/>
                    </a:lnTo>
                    <a:lnTo>
                      <a:pt x="455" y="849"/>
                    </a:lnTo>
                    <a:lnTo>
                      <a:pt x="434" y="851"/>
                    </a:lnTo>
                    <a:lnTo>
                      <a:pt x="413" y="853"/>
                    </a:lnTo>
                    <a:lnTo>
                      <a:pt x="391" y="853"/>
                    </a:lnTo>
                    <a:lnTo>
                      <a:pt x="379" y="853"/>
                    </a:lnTo>
                    <a:lnTo>
                      <a:pt x="365" y="852"/>
                    </a:lnTo>
                    <a:lnTo>
                      <a:pt x="352" y="851"/>
                    </a:lnTo>
                    <a:lnTo>
                      <a:pt x="340" y="850"/>
                    </a:lnTo>
                    <a:lnTo>
                      <a:pt x="327" y="848"/>
                    </a:lnTo>
                    <a:lnTo>
                      <a:pt x="315" y="846"/>
                    </a:lnTo>
                    <a:lnTo>
                      <a:pt x="302" y="844"/>
                    </a:lnTo>
                    <a:lnTo>
                      <a:pt x="289" y="841"/>
                    </a:lnTo>
                    <a:lnTo>
                      <a:pt x="297" y="852"/>
                    </a:lnTo>
                    <a:lnTo>
                      <a:pt x="303" y="861"/>
                    </a:lnTo>
                    <a:lnTo>
                      <a:pt x="313" y="863"/>
                    </a:lnTo>
                    <a:lnTo>
                      <a:pt x="324" y="865"/>
                    </a:lnTo>
                    <a:lnTo>
                      <a:pt x="336" y="867"/>
                    </a:lnTo>
                    <a:lnTo>
                      <a:pt x="346" y="868"/>
                    </a:lnTo>
                    <a:lnTo>
                      <a:pt x="358" y="869"/>
                    </a:lnTo>
                    <a:lnTo>
                      <a:pt x="369" y="869"/>
                    </a:lnTo>
                    <a:lnTo>
                      <a:pt x="381" y="870"/>
                    </a:lnTo>
                    <a:lnTo>
                      <a:pt x="391" y="870"/>
                    </a:lnTo>
                    <a:lnTo>
                      <a:pt x="414" y="869"/>
                    </a:lnTo>
                    <a:lnTo>
                      <a:pt x="436" y="868"/>
                    </a:lnTo>
                    <a:lnTo>
                      <a:pt x="457" y="865"/>
                    </a:lnTo>
                    <a:lnTo>
                      <a:pt x="480" y="862"/>
                    </a:lnTo>
                    <a:lnTo>
                      <a:pt x="501" y="856"/>
                    </a:lnTo>
                    <a:lnTo>
                      <a:pt x="522" y="850"/>
                    </a:lnTo>
                    <a:lnTo>
                      <a:pt x="542" y="844"/>
                    </a:lnTo>
                    <a:lnTo>
                      <a:pt x="562" y="835"/>
                    </a:lnTo>
                    <a:lnTo>
                      <a:pt x="580" y="827"/>
                    </a:lnTo>
                    <a:lnTo>
                      <a:pt x="599" y="818"/>
                    </a:lnTo>
                    <a:lnTo>
                      <a:pt x="617" y="807"/>
                    </a:lnTo>
                    <a:lnTo>
                      <a:pt x="635" y="796"/>
                    </a:lnTo>
                    <a:lnTo>
                      <a:pt x="652" y="784"/>
                    </a:lnTo>
                    <a:lnTo>
                      <a:pt x="669" y="770"/>
                    </a:lnTo>
                    <a:lnTo>
                      <a:pt x="685" y="757"/>
                    </a:lnTo>
                    <a:lnTo>
                      <a:pt x="700" y="743"/>
                    </a:lnTo>
                    <a:lnTo>
                      <a:pt x="714" y="727"/>
                    </a:lnTo>
                    <a:lnTo>
                      <a:pt x="728" y="712"/>
                    </a:lnTo>
                    <a:lnTo>
                      <a:pt x="741" y="695"/>
                    </a:lnTo>
                    <a:lnTo>
                      <a:pt x="753" y="678"/>
                    </a:lnTo>
                    <a:lnTo>
                      <a:pt x="764" y="660"/>
                    </a:lnTo>
                    <a:lnTo>
                      <a:pt x="775" y="642"/>
                    </a:lnTo>
                    <a:lnTo>
                      <a:pt x="784" y="623"/>
                    </a:lnTo>
                    <a:lnTo>
                      <a:pt x="793" y="604"/>
                    </a:lnTo>
                    <a:lnTo>
                      <a:pt x="801" y="584"/>
                    </a:lnTo>
                    <a:lnTo>
                      <a:pt x="807" y="565"/>
                    </a:lnTo>
                    <a:lnTo>
                      <a:pt x="814" y="544"/>
                    </a:lnTo>
                    <a:lnTo>
                      <a:pt x="819" y="523"/>
                    </a:lnTo>
                    <a:lnTo>
                      <a:pt x="822" y="500"/>
                    </a:lnTo>
                    <a:lnTo>
                      <a:pt x="825" y="479"/>
                    </a:lnTo>
                    <a:lnTo>
                      <a:pt x="827" y="457"/>
                    </a:lnTo>
                    <a:lnTo>
                      <a:pt x="827" y="434"/>
                    </a:lnTo>
                    <a:close/>
                    <a:moveTo>
                      <a:pt x="669" y="99"/>
                    </a:moveTo>
                    <a:lnTo>
                      <a:pt x="655" y="88"/>
                    </a:lnTo>
                    <a:lnTo>
                      <a:pt x="640" y="77"/>
                    </a:lnTo>
                    <a:lnTo>
                      <a:pt x="625" y="67"/>
                    </a:lnTo>
                    <a:lnTo>
                      <a:pt x="609" y="57"/>
                    </a:lnTo>
                    <a:lnTo>
                      <a:pt x="593" y="48"/>
                    </a:lnTo>
                    <a:lnTo>
                      <a:pt x="576" y="41"/>
                    </a:lnTo>
                    <a:lnTo>
                      <a:pt x="559" y="32"/>
                    </a:lnTo>
                    <a:lnTo>
                      <a:pt x="542" y="26"/>
                    </a:lnTo>
                    <a:lnTo>
                      <a:pt x="524" y="20"/>
                    </a:lnTo>
                    <a:lnTo>
                      <a:pt x="506" y="14"/>
                    </a:lnTo>
                    <a:lnTo>
                      <a:pt x="488" y="10"/>
                    </a:lnTo>
                    <a:lnTo>
                      <a:pt x="469" y="6"/>
                    </a:lnTo>
                    <a:lnTo>
                      <a:pt x="450" y="3"/>
                    </a:lnTo>
                    <a:lnTo>
                      <a:pt x="431" y="1"/>
                    </a:lnTo>
                    <a:lnTo>
                      <a:pt x="411" y="0"/>
                    </a:lnTo>
                    <a:lnTo>
                      <a:pt x="391" y="0"/>
                    </a:lnTo>
                    <a:lnTo>
                      <a:pt x="375" y="0"/>
                    </a:lnTo>
                    <a:lnTo>
                      <a:pt x="360" y="1"/>
                    </a:lnTo>
                    <a:lnTo>
                      <a:pt x="344" y="2"/>
                    </a:lnTo>
                    <a:lnTo>
                      <a:pt x="328" y="4"/>
                    </a:lnTo>
                    <a:lnTo>
                      <a:pt x="313" y="6"/>
                    </a:lnTo>
                    <a:lnTo>
                      <a:pt x="298" y="9"/>
                    </a:lnTo>
                    <a:lnTo>
                      <a:pt x="283" y="13"/>
                    </a:lnTo>
                    <a:lnTo>
                      <a:pt x="268" y="17"/>
                    </a:lnTo>
                    <a:lnTo>
                      <a:pt x="254" y="22"/>
                    </a:lnTo>
                    <a:lnTo>
                      <a:pt x="239" y="27"/>
                    </a:lnTo>
                    <a:lnTo>
                      <a:pt x="225" y="32"/>
                    </a:lnTo>
                    <a:lnTo>
                      <a:pt x="210" y="38"/>
                    </a:lnTo>
                    <a:lnTo>
                      <a:pt x="197" y="45"/>
                    </a:lnTo>
                    <a:lnTo>
                      <a:pt x="184" y="52"/>
                    </a:lnTo>
                    <a:lnTo>
                      <a:pt x="171" y="59"/>
                    </a:lnTo>
                    <a:lnTo>
                      <a:pt x="158" y="67"/>
                    </a:lnTo>
                    <a:lnTo>
                      <a:pt x="145" y="75"/>
                    </a:lnTo>
                    <a:lnTo>
                      <a:pt x="134" y="84"/>
                    </a:lnTo>
                    <a:lnTo>
                      <a:pt x="121" y="93"/>
                    </a:lnTo>
                    <a:lnTo>
                      <a:pt x="110" y="103"/>
                    </a:lnTo>
                    <a:lnTo>
                      <a:pt x="87" y="122"/>
                    </a:lnTo>
                    <a:lnTo>
                      <a:pt x="67" y="145"/>
                    </a:lnTo>
                    <a:lnTo>
                      <a:pt x="48" y="168"/>
                    </a:lnTo>
                    <a:lnTo>
                      <a:pt x="31" y="192"/>
                    </a:lnTo>
                    <a:lnTo>
                      <a:pt x="22" y="204"/>
                    </a:lnTo>
                    <a:lnTo>
                      <a:pt x="14" y="217"/>
                    </a:lnTo>
                    <a:lnTo>
                      <a:pt x="7" y="230"/>
                    </a:lnTo>
                    <a:lnTo>
                      <a:pt x="0" y="243"/>
                    </a:lnTo>
                    <a:lnTo>
                      <a:pt x="8" y="266"/>
                    </a:lnTo>
                    <a:lnTo>
                      <a:pt x="14" y="253"/>
                    </a:lnTo>
                    <a:lnTo>
                      <a:pt x="20" y="239"/>
                    </a:lnTo>
                    <a:lnTo>
                      <a:pt x="28" y="226"/>
                    </a:lnTo>
                    <a:lnTo>
                      <a:pt x="36" y="214"/>
                    </a:lnTo>
                    <a:lnTo>
                      <a:pt x="43" y="201"/>
                    </a:lnTo>
                    <a:lnTo>
                      <a:pt x="53" y="189"/>
                    </a:lnTo>
                    <a:lnTo>
                      <a:pt x="61" y="177"/>
                    </a:lnTo>
                    <a:lnTo>
                      <a:pt x="71" y="166"/>
                    </a:lnTo>
                    <a:lnTo>
                      <a:pt x="80" y="154"/>
                    </a:lnTo>
                    <a:lnTo>
                      <a:pt x="91" y="143"/>
                    </a:lnTo>
                    <a:lnTo>
                      <a:pt x="101" y="133"/>
                    </a:lnTo>
                    <a:lnTo>
                      <a:pt x="113" y="122"/>
                    </a:lnTo>
                    <a:lnTo>
                      <a:pt x="123" y="113"/>
                    </a:lnTo>
                    <a:lnTo>
                      <a:pt x="135" y="104"/>
                    </a:lnTo>
                    <a:lnTo>
                      <a:pt x="147" y="94"/>
                    </a:lnTo>
                    <a:lnTo>
                      <a:pt x="160" y="86"/>
                    </a:lnTo>
                    <a:lnTo>
                      <a:pt x="173" y="78"/>
                    </a:lnTo>
                    <a:lnTo>
                      <a:pt x="185" y="70"/>
                    </a:lnTo>
                    <a:lnTo>
                      <a:pt x="198" y="64"/>
                    </a:lnTo>
                    <a:lnTo>
                      <a:pt x="211" y="56"/>
                    </a:lnTo>
                    <a:lnTo>
                      <a:pt x="225" y="50"/>
                    </a:lnTo>
                    <a:lnTo>
                      <a:pt x="240" y="45"/>
                    </a:lnTo>
                    <a:lnTo>
                      <a:pt x="254" y="40"/>
                    </a:lnTo>
                    <a:lnTo>
                      <a:pt x="268" y="34"/>
                    </a:lnTo>
                    <a:lnTo>
                      <a:pt x="283" y="30"/>
                    </a:lnTo>
                    <a:lnTo>
                      <a:pt x="298" y="27"/>
                    </a:lnTo>
                    <a:lnTo>
                      <a:pt x="313" y="24"/>
                    </a:lnTo>
                    <a:lnTo>
                      <a:pt x="328" y="21"/>
                    </a:lnTo>
                    <a:lnTo>
                      <a:pt x="344" y="19"/>
                    </a:lnTo>
                    <a:lnTo>
                      <a:pt x="360" y="17"/>
                    </a:lnTo>
                    <a:lnTo>
                      <a:pt x="375" y="16"/>
                    </a:lnTo>
                    <a:lnTo>
                      <a:pt x="391" y="16"/>
                    </a:lnTo>
                    <a:lnTo>
                      <a:pt x="412" y="16"/>
                    </a:lnTo>
                    <a:lnTo>
                      <a:pt x="433" y="17"/>
                    </a:lnTo>
                    <a:lnTo>
                      <a:pt x="453" y="21"/>
                    </a:lnTo>
                    <a:lnTo>
                      <a:pt x="473" y="24"/>
                    </a:lnTo>
                    <a:lnTo>
                      <a:pt x="492" y="28"/>
                    </a:lnTo>
                    <a:lnTo>
                      <a:pt x="511" y="33"/>
                    </a:lnTo>
                    <a:lnTo>
                      <a:pt x="530" y="40"/>
                    </a:lnTo>
                    <a:lnTo>
                      <a:pt x="549" y="47"/>
                    </a:lnTo>
                    <a:lnTo>
                      <a:pt x="567" y="54"/>
                    </a:lnTo>
                    <a:lnTo>
                      <a:pt x="585" y="63"/>
                    </a:lnTo>
                    <a:lnTo>
                      <a:pt x="601" y="72"/>
                    </a:lnTo>
                    <a:lnTo>
                      <a:pt x="618" y="83"/>
                    </a:lnTo>
                    <a:lnTo>
                      <a:pt x="634" y="93"/>
                    </a:lnTo>
                    <a:lnTo>
                      <a:pt x="650" y="105"/>
                    </a:lnTo>
                    <a:lnTo>
                      <a:pt x="665" y="117"/>
                    </a:lnTo>
                    <a:lnTo>
                      <a:pt x="679" y="130"/>
                    </a:lnTo>
                    <a:lnTo>
                      <a:pt x="669" y="9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894280" y="2562120"/>
                <a:ext cx="258840" cy="271440"/>
              </a:xfrm>
              <a:custGeom>
                <a:avLst/>
                <a:gdLst/>
                <a:ahLst/>
                <a:rect l="l" t="t" r="r" b="b"/>
                <a:pathLst>
                  <a:path w="816" h="854">
                    <a:moveTo>
                      <a:pt x="816" y="426"/>
                    </a:moveTo>
                    <a:lnTo>
                      <a:pt x="816" y="416"/>
                    </a:lnTo>
                    <a:lnTo>
                      <a:pt x="816" y="405"/>
                    </a:lnTo>
                    <a:lnTo>
                      <a:pt x="815" y="394"/>
                    </a:lnTo>
                    <a:lnTo>
                      <a:pt x="814" y="383"/>
                    </a:lnTo>
                    <a:lnTo>
                      <a:pt x="813" y="373"/>
                    </a:lnTo>
                    <a:lnTo>
                      <a:pt x="811" y="362"/>
                    </a:lnTo>
                    <a:lnTo>
                      <a:pt x="810" y="352"/>
                    </a:lnTo>
                    <a:lnTo>
                      <a:pt x="808" y="341"/>
                    </a:lnTo>
                    <a:lnTo>
                      <a:pt x="804" y="337"/>
                    </a:lnTo>
                    <a:lnTo>
                      <a:pt x="779" y="300"/>
                    </a:lnTo>
                    <a:lnTo>
                      <a:pt x="783" y="315"/>
                    </a:lnTo>
                    <a:lnTo>
                      <a:pt x="788" y="331"/>
                    </a:lnTo>
                    <a:lnTo>
                      <a:pt x="791" y="345"/>
                    </a:lnTo>
                    <a:lnTo>
                      <a:pt x="794" y="361"/>
                    </a:lnTo>
                    <a:lnTo>
                      <a:pt x="796" y="378"/>
                    </a:lnTo>
                    <a:lnTo>
                      <a:pt x="798" y="394"/>
                    </a:lnTo>
                    <a:lnTo>
                      <a:pt x="799" y="411"/>
                    </a:lnTo>
                    <a:lnTo>
                      <a:pt x="799" y="426"/>
                    </a:lnTo>
                    <a:lnTo>
                      <a:pt x="799" y="447"/>
                    </a:lnTo>
                    <a:lnTo>
                      <a:pt x="797" y="468"/>
                    </a:lnTo>
                    <a:lnTo>
                      <a:pt x="795" y="489"/>
                    </a:lnTo>
                    <a:lnTo>
                      <a:pt x="791" y="509"/>
                    </a:lnTo>
                    <a:lnTo>
                      <a:pt x="787" y="529"/>
                    </a:lnTo>
                    <a:lnTo>
                      <a:pt x="781" y="549"/>
                    </a:lnTo>
                    <a:lnTo>
                      <a:pt x="774" y="568"/>
                    </a:lnTo>
                    <a:lnTo>
                      <a:pt x="767" y="586"/>
                    </a:lnTo>
                    <a:lnTo>
                      <a:pt x="759" y="605"/>
                    </a:lnTo>
                    <a:lnTo>
                      <a:pt x="750" y="623"/>
                    </a:lnTo>
                    <a:lnTo>
                      <a:pt x="739" y="639"/>
                    </a:lnTo>
                    <a:lnTo>
                      <a:pt x="729" y="656"/>
                    </a:lnTo>
                    <a:lnTo>
                      <a:pt x="717" y="672"/>
                    </a:lnTo>
                    <a:lnTo>
                      <a:pt x="706" y="688"/>
                    </a:lnTo>
                    <a:lnTo>
                      <a:pt x="693" y="702"/>
                    </a:lnTo>
                    <a:lnTo>
                      <a:pt x="679" y="717"/>
                    </a:lnTo>
                    <a:lnTo>
                      <a:pt x="665" y="731"/>
                    </a:lnTo>
                    <a:lnTo>
                      <a:pt x="650" y="743"/>
                    </a:lnTo>
                    <a:lnTo>
                      <a:pt x="634" y="756"/>
                    </a:lnTo>
                    <a:lnTo>
                      <a:pt x="618" y="767"/>
                    </a:lnTo>
                    <a:lnTo>
                      <a:pt x="602" y="778"/>
                    </a:lnTo>
                    <a:lnTo>
                      <a:pt x="585" y="788"/>
                    </a:lnTo>
                    <a:lnTo>
                      <a:pt x="567" y="797"/>
                    </a:lnTo>
                    <a:lnTo>
                      <a:pt x="548" y="804"/>
                    </a:lnTo>
                    <a:lnTo>
                      <a:pt x="530" y="812"/>
                    </a:lnTo>
                    <a:lnTo>
                      <a:pt x="511" y="819"/>
                    </a:lnTo>
                    <a:lnTo>
                      <a:pt x="491" y="824"/>
                    </a:lnTo>
                    <a:lnTo>
                      <a:pt x="471" y="828"/>
                    </a:lnTo>
                    <a:lnTo>
                      <a:pt x="451" y="833"/>
                    </a:lnTo>
                    <a:lnTo>
                      <a:pt x="430" y="835"/>
                    </a:lnTo>
                    <a:lnTo>
                      <a:pt x="409" y="837"/>
                    </a:lnTo>
                    <a:lnTo>
                      <a:pt x="388" y="837"/>
                    </a:lnTo>
                    <a:lnTo>
                      <a:pt x="375" y="837"/>
                    </a:lnTo>
                    <a:lnTo>
                      <a:pt x="361" y="836"/>
                    </a:lnTo>
                    <a:lnTo>
                      <a:pt x="347" y="835"/>
                    </a:lnTo>
                    <a:lnTo>
                      <a:pt x="334" y="834"/>
                    </a:lnTo>
                    <a:lnTo>
                      <a:pt x="320" y="832"/>
                    </a:lnTo>
                    <a:lnTo>
                      <a:pt x="306" y="828"/>
                    </a:lnTo>
                    <a:lnTo>
                      <a:pt x="293" y="826"/>
                    </a:lnTo>
                    <a:lnTo>
                      <a:pt x="280" y="822"/>
                    </a:lnTo>
                    <a:lnTo>
                      <a:pt x="294" y="843"/>
                    </a:lnTo>
                    <a:lnTo>
                      <a:pt x="305" y="845"/>
                    </a:lnTo>
                    <a:lnTo>
                      <a:pt x="317" y="847"/>
                    </a:lnTo>
                    <a:lnTo>
                      <a:pt x="328" y="849"/>
                    </a:lnTo>
                    <a:lnTo>
                      <a:pt x="340" y="851"/>
                    </a:lnTo>
                    <a:lnTo>
                      <a:pt x="353" y="853"/>
                    </a:lnTo>
                    <a:lnTo>
                      <a:pt x="364" y="853"/>
                    </a:lnTo>
                    <a:lnTo>
                      <a:pt x="377" y="854"/>
                    </a:lnTo>
                    <a:lnTo>
                      <a:pt x="388" y="854"/>
                    </a:lnTo>
                    <a:lnTo>
                      <a:pt x="410" y="854"/>
                    </a:lnTo>
                    <a:lnTo>
                      <a:pt x="432" y="852"/>
                    </a:lnTo>
                    <a:lnTo>
                      <a:pt x="453" y="848"/>
                    </a:lnTo>
                    <a:lnTo>
                      <a:pt x="474" y="845"/>
                    </a:lnTo>
                    <a:lnTo>
                      <a:pt x="495" y="840"/>
                    </a:lnTo>
                    <a:lnTo>
                      <a:pt x="515" y="835"/>
                    </a:lnTo>
                    <a:lnTo>
                      <a:pt x="535" y="827"/>
                    </a:lnTo>
                    <a:lnTo>
                      <a:pt x="555" y="820"/>
                    </a:lnTo>
                    <a:lnTo>
                      <a:pt x="574" y="812"/>
                    </a:lnTo>
                    <a:lnTo>
                      <a:pt x="592" y="802"/>
                    </a:lnTo>
                    <a:lnTo>
                      <a:pt x="610" y="792"/>
                    </a:lnTo>
                    <a:lnTo>
                      <a:pt x="628" y="781"/>
                    </a:lnTo>
                    <a:lnTo>
                      <a:pt x="645" y="769"/>
                    </a:lnTo>
                    <a:lnTo>
                      <a:pt x="660" y="756"/>
                    </a:lnTo>
                    <a:lnTo>
                      <a:pt x="676" y="742"/>
                    </a:lnTo>
                    <a:lnTo>
                      <a:pt x="691" y="729"/>
                    </a:lnTo>
                    <a:lnTo>
                      <a:pt x="705" y="714"/>
                    </a:lnTo>
                    <a:lnTo>
                      <a:pt x="718" y="698"/>
                    </a:lnTo>
                    <a:lnTo>
                      <a:pt x="731" y="683"/>
                    </a:lnTo>
                    <a:lnTo>
                      <a:pt x="744" y="666"/>
                    </a:lnTo>
                    <a:lnTo>
                      <a:pt x="754" y="648"/>
                    </a:lnTo>
                    <a:lnTo>
                      <a:pt x="765" y="630"/>
                    </a:lnTo>
                    <a:lnTo>
                      <a:pt x="774" y="612"/>
                    </a:lnTo>
                    <a:lnTo>
                      <a:pt x="782" y="593"/>
                    </a:lnTo>
                    <a:lnTo>
                      <a:pt x="790" y="573"/>
                    </a:lnTo>
                    <a:lnTo>
                      <a:pt x="797" y="553"/>
                    </a:lnTo>
                    <a:lnTo>
                      <a:pt x="802" y="533"/>
                    </a:lnTo>
                    <a:lnTo>
                      <a:pt x="808" y="512"/>
                    </a:lnTo>
                    <a:lnTo>
                      <a:pt x="811" y="491"/>
                    </a:lnTo>
                    <a:lnTo>
                      <a:pt x="814" y="470"/>
                    </a:lnTo>
                    <a:lnTo>
                      <a:pt x="816" y="448"/>
                    </a:lnTo>
                    <a:lnTo>
                      <a:pt x="816" y="426"/>
                    </a:lnTo>
                    <a:close/>
                    <a:moveTo>
                      <a:pt x="671" y="106"/>
                    </a:moveTo>
                    <a:lnTo>
                      <a:pt x="656" y="93"/>
                    </a:lnTo>
                    <a:lnTo>
                      <a:pt x="642" y="82"/>
                    </a:lnTo>
                    <a:lnTo>
                      <a:pt x="626" y="71"/>
                    </a:lnTo>
                    <a:lnTo>
                      <a:pt x="610" y="62"/>
                    </a:lnTo>
                    <a:lnTo>
                      <a:pt x="594" y="53"/>
                    </a:lnTo>
                    <a:lnTo>
                      <a:pt x="577" y="43"/>
                    </a:lnTo>
                    <a:lnTo>
                      <a:pt x="560" y="36"/>
                    </a:lnTo>
                    <a:lnTo>
                      <a:pt x="542" y="28"/>
                    </a:lnTo>
                    <a:lnTo>
                      <a:pt x="524" y="21"/>
                    </a:lnTo>
                    <a:lnTo>
                      <a:pt x="506" y="16"/>
                    </a:lnTo>
                    <a:lnTo>
                      <a:pt x="487" y="11"/>
                    </a:lnTo>
                    <a:lnTo>
                      <a:pt x="468" y="7"/>
                    </a:lnTo>
                    <a:lnTo>
                      <a:pt x="448" y="4"/>
                    </a:lnTo>
                    <a:lnTo>
                      <a:pt x="429" y="1"/>
                    </a:lnTo>
                    <a:lnTo>
                      <a:pt x="409" y="0"/>
                    </a:lnTo>
                    <a:lnTo>
                      <a:pt x="388" y="0"/>
                    </a:lnTo>
                    <a:lnTo>
                      <a:pt x="372" y="0"/>
                    </a:lnTo>
                    <a:lnTo>
                      <a:pt x="357" y="1"/>
                    </a:lnTo>
                    <a:lnTo>
                      <a:pt x="341" y="2"/>
                    </a:lnTo>
                    <a:lnTo>
                      <a:pt x="325" y="4"/>
                    </a:lnTo>
                    <a:lnTo>
                      <a:pt x="310" y="7"/>
                    </a:lnTo>
                    <a:lnTo>
                      <a:pt x="295" y="9"/>
                    </a:lnTo>
                    <a:lnTo>
                      <a:pt x="280" y="14"/>
                    </a:lnTo>
                    <a:lnTo>
                      <a:pt x="265" y="18"/>
                    </a:lnTo>
                    <a:lnTo>
                      <a:pt x="251" y="22"/>
                    </a:lnTo>
                    <a:lnTo>
                      <a:pt x="236" y="27"/>
                    </a:lnTo>
                    <a:lnTo>
                      <a:pt x="222" y="34"/>
                    </a:lnTo>
                    <a:lnTo>
                      <a:pt x="208" y="39"/>
                    </a:lnTo>
                    <a:lnTo>
                      <a:pt x="195" y="46"/>
                    </a:lnTo>
                    <a:lnTo>
                      <a:pt x="181" y="53"/>
                    </a:lnTo>
                    <a:lnTo>
                      <a:pt x="169" y="61"/>
                    </a:lnTo>
                    <a:lnTo>
                      <a:pt x="156" y="68"/>
                    </a:lnTo>
                    <a:lnTo>
                      <a:pt x="143" y="77"/>
                    </a:lnTo>
                    <a:lnTo>
                      <a:pt x="132" y="86"/>
                    </a:lnTo>
                    <a:lnTo>
                      <a:pt x="119" y="95"/>
                    </a:lnTo>
                    <a:lnTo>
                      <a:pt x="108" y="104"/>
                    </a:lnTo>
                    <a:lnTo>
                      <a:pt x="87" y="125"/>
                    </a:lnTo>
                    <a:lnTo>
                      <a:pt x="66" y="147"/>
                    </a:lnTo>
                    <a:lnTo>
                      <a:pt x="56" y="158"/>
                    </a:lnTo>
                    <a:lnTo>
                      <a:pt x="47" y="170"/>
                    </a:lnTo>
                    <a:lnTo>
                      <a:pt x="38" y="182"/>
                    </a:lnTo>
                    <a:lnTo>
                      <a:pt x="30" y="194"/>
                    </a:lnTo>
                    <a:lnTo>
                      <a:pt x="21" y="207"/>
                    </a:lnTo>
                    <a:lnTo>
                      <a:pt x="14" y="219"/>
                    </a:lnTo>
                    <a:lnTo>
                      <a:pt x="8" y="233"/>
                    </a:lnTo>
                    <a:lnTo>
                      <a:pt x="0" y="247"/>
                    </a:lnTo>
                    <a:lnTo>
                      <a:pt x="9" y="271"/>
                    </a:lnTo>
                    <a:lnTo>
                      <a:pt x="14" y="257"/>
                    </a:lnTo>
                    <a:lnTo>
                      <a:pt x="21" y="244"/>
                    </a:lnTo>
                    <a:lnTo>
                      <a:pt x="28" y="230"/>
                    </a:lnTo>
                    <a:lnTo>
                      <a:pt x="35" y="217"/>
                    </a:lnTo>
                    <a:lnTo>
                      <a:pt x="43" y="205"/>
                    </a:lnTo>
                    <a:lnTo>
                      <a:pt x="52" y="192"/>
                    </a:lnTo>
                    <a:lnTo>
                      <a:pt x="60" y="180"/>
                    </a:lnTo>
                    <a:lnTo>
                      <a:pt x="70" y="168"/>
                    </a:lnTo>
                    <a:lnTo>
                      <a:pt x="79" y="156"/>
                    </a:lnTo>
                    <a:lnTo>
                      <a:pt x="90" y="146"/>
                    </a:lnTo>
                    <a:lnTo>
                      <a:pt x="100" y="135"/>
                    </a:lnTo>
                    <a:lnTo>
                      <a:pt x="111" y="125"/>
                    </a:lnTo>
                    <a:lnTo>
                      <a:pt x="121" y="114"/>
                    </a:lnTo>
                    <a:lnTo>
                      <a:pt x="133" y="105"/>
                    </a:lnTo>
                    <a:lnTo>
                      <a:pt x="145" y="97"/>
                    </a:lnTo>
                    <a:lnTo>
                      <a:pt x="157" y="87"/>
                    </a:lnTo>
                    <a:lnTo>
                      <a:pt x="170" y="80"/>
                    </a:lnTo>
                    <a:lnTo>
                      <a:pt x="182" y="71"/>
                    </a:lnTo>
                    <a:lnTo>
                      <a:pt x="196" y="64"/>
                    </a:lnTo>
                    <a:lnTo>
                      <a:pt x="210" y="58"/>
                    </a:lnTo>
                    <a:lnTo>
                      <a:pt x="223" y="51"/>
                    </a:lnTo>
                    <a:lnTo>
                      <a:pt x="237" y="45"/>
                    </a:lnTo>
                    <a:lnTo>
                      <a:pt x="251" y="40"/>
                    </a:lnTo>
                    <a:lnTo>
                      <a:pt x="265" y="35"/>
                    </a:lnTo>
                    <a:lnTo>
                      <a:pt x="280" y="30"/>
                    </a:lnTo>
                    <a:lnTo>
                      <a:pt x="295" y="27"/>
                    </a:lnTo>
                    <a:lnTo>
                      <a:pt x="310" y="24"/>
                    </a:lnTo>
                    <a:lnTo>
                      <a:pt x="325" y="21"/>
                    </a:lnTo>
                    <a:lnTo>
                      <a:pt x="341" y="19"/>
                    </a:lnTo>
                    <a:lnTo>
                      <a:pt x="357" y="18"/>
                    </a:lnTo>
                    <a:lnTo>
                      <a:pt x="372" y="17"/>
                    </a:lnTo>
                    <a:lnTo>
                      <a:pt x="388" y="17"/>
                    </a:lnTo>
                    <a:lnTo>
                      <a:pt x="410" y="17"/>
                    </a:lnTo>
                    <a:lnTo>
                      <a:pt x="431" y="19"/>
                    </a:lnTo>
                    <a:lnTo>
                      <a:pt x="451" y="21"/>
                    </a:lnTo>
                    <a:lnTo>
                      <a:pt x="472" y="25"/>
                    </a:lnTo>
                    <a:lnTo>
                      <a:pt x="492" y="29"/>
                    </a:lnTo>
                    <a:lnTo>
                      <a:pt x="512" y="35"/>
                    </a:lnTo>
                    <a:lnTo>
                      <a:pt x="531" y="42"/>
                    </a:lnTo>
                    <a:lnTo>
                      <a:pt x="550" y="49"/>
                    </a:lnTo>
                    <a:lnTo>
                      <a:pt x="568" y="58"/>
                    </a:lnTo>
                    <a:lnTo>
                      <a:pt x="586" y="67"/>
                    </a:lnTo>
                    <a:lnTo>
                      <a:pt x="603" y="77"/>
                    </a:lnTo>
                    <a:lnTo>
                      <a:pt x="619" y="88"/>
                    </a:lnTo>
                    <a:lnTo>
                      <a:pt x="636" y="100"/>
                    </a:lnTo>
                    <a:lnTo>
                      <a:pt x="652" y="111"/>
                    </a:lnTo>
                    <a:lnTo>
                      <a:pt x="667" y="125"/>
                    </a:lnTo>
                    <a:lnTo>
                      <a:pt x="682" y="139"/>
                    </a:lnTo>
                    <a:lnTo>
                      <a:pt x="671" y="10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96080" y="2565360"/>
                <a:ext cx="255600" cy="265320"/>
              </a:xfrm>
              <a:custGeom>
                <a:avLst/>
                <a:gdLst/>
                <a:ahLst/>
                <a:rect l="l" t="t" r="r" b="b"/>
                <a:pathLst>
                  <a:path w="803" h="837">
                    <a:moveTo>
                      <a:pt x="803" y="418"/>
                    </a:moveTo>
                    <a:lnTo>
                      <a:pt x="803" y="406"/>
                    </a:lnTo>
                    <a:lnTo>
                      <a:pt x="802" y="392"/>
                    </a:lnTo>
                    <a:lnTo>
                      <a:pt x="801" y="378"/>
                    </a:lnTo>
                    <a:lnTo>
                      <a:pt x="799" y="366"/>
                    </a:lnTo>
                    <a:lnTo>
                      <a:pt x="797" y="352"/>
                    </a:lnTo>
                    <a:lnTo>
                      <a:pt x="795" y="340"/>
                    </a:lnTo>
                    <a:lnTo>
                      <a:pt x="792" y="327"/>
                    </a:lnTo>
                    <a:lnTo>
                      <a:pt x="790" y="314"/>
                    </a:lnTo>
                    <a:lnTo>
                      <a:pt x="754" y="263"/>
                    </a:lnTo>
                    <a:lnTo>
                      <a:pt x="762" y="281"/>
                    </a:lnTo>
                    <a:lnTo>
                      <a:pt x="768" y="300"/>
                    </a:lnTo>
                    <a:lnTo>
                      <a:pt x="773" y="319"/>
                    </a:lnTo>
                    <a:lnTo>
                      <a:pt x="777" y="339"/>
                    </a:lnTo>
                    <a:lnTo>
                      <a:pt x="782" y="357"/>
                    </a:lnTo>
                    <a:lnTo>
                      <a:pt x="784" y="377"/>
                    </a:lnTo>
                    <a:lnTo>
                      <a:pt x="786" y="398"/>
                    </a:lnTo>
                    <a:lnTo>
                      <a:pt x="786" y="418"/>
                    </a:lnTo>
                    <a:lnTo>
                      <a:pt x="786" y="439"/>
                    </a:lnTo>
                    <a:lnTo>
                      <a:pt x="784" y="459"/>
                    </a:lnTo>
                    <a:lnTo>
                      <a:pt x="782" y="480"/>
                    </a:lnTo>
                    <a:lnTo>
                      <a:pt x="777" y="499"/>
                    </a:lnTo>
                    <a:lnTo>
                      <a:pt x="773" y="519"/>
                    </a:lnTo>
                    <a:lnTo>
                      <a:pt x="768" y="538"/>
                    </a:lnTo>
                    <a:lnTo>
                      <a:pt x="762" y="557"/>
                    </a:lnTo>
                    <a:lnTo>
                      <a:pt x="754" y="575"/>
                    </a:lnTo>
                    <a:lnTo>
                      <a:pt x="746" y="593"/>
                    </a:lnTo>
                    <a:lnTo>
                      <a:pt x="737" y="610"/>
                    </a:lnTo>
                    <a:lnTo>
                      <a:pt x="728" y="627"/>
                    </a:lnTo>
                    <a:lnTo>
                      <a:pt x="718" y="643"/>
                    </a:lnTo>
                    <a:lnTo>
                      <a:pt x="706" y="659"/>
                    </a:lnTo>
                    <a:lnTo>
                      <a:pt x="694" y="675"/>
                    </a:lnTo>
                    <a:lnTo>
                      <a:pt x="682" y="689"/>
                    </a:lnTo>
                    <a:lnTo>
                      <a:pt x="668" y="703"/>
                    </a:lnTo>
                    <a:lnTo>
                      <a:pt x="654" y="717"/>
                    </a:lnTo>
                    <a:lnTo>
                      <a:pt x="640" y="729"/>
                    </a:lnTo>
                    <a:lnTo>
                      <a:pt x="624" y="741"/>
                    </a:lnTo>
                    <a:lnTo>
                      <a:pt x="608" y="752"/>
                    </a:lnTo>
                    <a:lnTo>
                      <a:pt x="592" y="763"/>
                    </a:lnTo>
                    <a:lnTo>
                      <a:pt x="576" y="772"/>
                    </a:lnTo>
                    <a:lnTo>
                      <a:pt x="558" y="781"/>
                    </a:lnTo>
                    <a:lnTo>
                      <a:pt x="540" y="789"/>
                    </a:lnTo>
                    <a:lnTo>
                      <a:pt x="522" y="796"/>
                    </a:lnTo>
                    <a:lnTo>
                      <a:pt x="503" y="803"/>
                    </a:lnTo>
                    <a:lnTo>
                      <a:pt x="484" y="808"/>
                    </a:lnTo>
                    <a:lnTo>
                      <a:pt x="465" y="812"/>
                    </a:lnTo>
                    <a:lnTo>
                      <a:pt x="445" y="816"/>
                    </a:lnTo>
                    <a:lnTo>
                      <a:pt x="425" y="818"/>
                    </a:lnTo>
                    <a:lnTo>
                      <a:pt x="404" y="820"/>
                    </a:lnTo>
                    <a:lnTo>
                      <a:pt x="383" y="820"/>
                    </a:lnTo>
                    <a:lnTo>
                      <a:pt x="369" y="820"/>
                    </a:lnTo>
                    <a:lnTo>
                      <a:pt x="354" y="819"/>
                    </a:lnTo>
                    <a:lnTo>
                      <a:pt x="339" y="818"/>
                    </a:lnTo>
                    <a:lnTo>
                      <a:pt x="324" y="816"/>
                    </a:lnTo>
                    <a:lnTo>
                      <a:pt x="310" y="814"/>
                    </a:lnTo>
                    <a:lnTo>
                      <a:pt x="296" y="811"/>
                    </a:lnTo>
                    <a:lnTo>
                      <a:pt x="281" y="808"/>
                    </a:lnTo>
                    <a:lnTo>
                      <a:pt x="268" y="804"/>
                    </a:lnTo>
                    <a:lnTo>
                      <a:pt x="281" y="825"/>
                    </a:lnTo>
                    <a:lnTo>
                      <a:pt x="294" y="828"/>
                    </a:lnTo>
                    <a:lnTo>
                      <a:pt x="307" y="830"/>
                    </a:lnTo>
                    <a:lnTo>
                      <a:pt x="319" y="832"/>
                    </a:lnTo>
                    <a:lnTo>
                      <a:pt x="332" y="834"/>
                    </a:lnTo>
                    <a:lnTo>
                      <a:pt x="344" y="835"/>
                    </a:lnTo>
                    <a:lnTo>
                      <a:pt x="357" y="836"/>
                    </a:lnTo>
                    <a:lnTo>
                      <a:pt x="371" y="837"/>
                    </a:lnTo>
                    <a:lnTo>
                      <a:pt x="383" y="837"/>
                    </a:lnTo>
                    <a:lnTo>
                      <a:pt x="405" y="837"/>
                    </a:lnTo>
                    <a:lnTo>
                      <a:pt x="426" y="835"/>
                    </a:lnTo>
                    <a:lnTo>
                      <a:pt x="447" y="833"/>
                    </a:lnTo>
                    <a:lnTo>
                      <a:pt x="468" y="829"/>
                    </a:lnTo>
                    <a:lnTo>
                      <a:pt x="488" y="825"/>
                    </a:lnTo>
                    <a:lnTo>
                      <a:pt x="508" y="818"/>
                    </a:lnTo>
                    <a:lnTo>
                      <a:pt x="527" y="812"/>
                    </a:lnTo>
                    <a:lnTo>
                      <a:pt x="547" y="805"/>
                    </a:lnTo>
                    <a:lnTo>
                      <a:pt x="565" y="796"/>
                    </a:lnTo>
                    <a:lnTo>
                      <a:pt x="583" y="787"/>
                    </a:lnTo>
                    <a:lnTo>
                      <a:pt x="601" y="776"/>
                    </a:lnTo>
                    <a:lnTo>
                      <a:pt x="618" y="766"/>
                    </a:lnTo>
                    <a:lnTo>
                      <a:pt x="634" y="754"/>
                    </a:lnTo>
                    <a:lnTo>
                      <a:pt x="650" y="742"/>
                    </a:lnTo>
                    <a:lnTo>
                      <a:pt x="665" y="729"/>
                    </a:lnTo>
                    <a:lnTo>
                      <a:pt x="680" y="714"/>
                    </a:lnTo>
                    <a:lnTo>
                      <a:pt x="694" y="700"/>
                    </a:lnTo>
                    <a:lnTo>
                      <a:pt x="707" y="685"/>
                    </a:lnTo>
                    <a:lnTo>
                      <a:pt x="720" y="669"/>
                    </a:lnTo>
                    <a:lnTo>
                      <a:pt x="731" y="652"/>
                    </a:lnTo>
                    <a:lnTo>
                      <a:pt x="742" y="636"/>
                    </a:lnTo>
                    <a:lnTo>
                      <a:pt x="752" y="618"/>
                    </a:lnTo>
                    <a:lnTo>
                      <a:pt x="762" y="600"/>
                    </a:lnTo>
                    <a:lnTo>
                      <a:pt x="770" y="582"/>
                    </a:lnTo>
                    <a:lnTo>
                      <a:pt x="777" y="562"/>
                    </a:lnTo>
                    <a:lnTo>
                      <a:pt x="784" y="543"/>
                    </a:lnTo>
                    <a:lnTo>
                      <a:pt x="790" y="523"/>
                    </a:lnTo>
                    <a:lnTo>
                      <a:pt x="794" y="503"/>
                    </a:lnTo>
                    <a:lnTo>
                      <a:pt x="797" y="482"/>
                    </a:lnTo>
                    <a:lnTo>
                      <a:pt x="801" y="461"/>
                    </a:lnTo>
                    <a:lnTo>
                      <a:pt x="803" y="440"/>
                    </a:lnTo>
                    <a:lnTo>
                      <a:pt x="803" y="418"/>
                    </a:lnTo>
                    <a:close/>
                    <a:moveTo>
                      <a:pt x="671" y="114"/>
                    </a:moveTo>
                    <a:lnTo>
                      <a:pt x="657" y="101"/>
                    </a:lnTo>
                    <a:lnTo>
                      <a:pt x="642" y="89"/>
                    </a:lnTo>
                    <a:lnTo>
                      <a:pt x="626" y="77"/>
                    </a:lnTo>
                    <a:lnTo>
                      <a:pt x="610" y="67"/>
                    </a:lnTo>
                    <a:lnTo>
                      <a:pt x="593" y="56"/>
                    </a:lnTo>
                    <a:lnTo>
                      <a:pt x="577" y="47"/>
                    </a:lnTo>
                    <a:lnTo>
                      <a:pt x="559" y="38"/>
                    </a:lnTo>
                    <a:lnTo>
                      <a:pt x="541" y="31"/>
                    </a:lnTo>
                    <a:lnTo>
                      <a:pt x="522" y="24"/>
                    </a:lnTo>
                    <a:lnTo>
                      <a:pt x="503" y="17"/>
                    </a:lnTo>
                    <a:lnTo>
                      <a:pt x="484" y="12"/>
                    </a:lnTo>
                    <a:lnTo>
                      <a:pt x="465" y="8"/>
                    </a:lnTo>
                    <a:lnTo>
                      <a:pt x="445" y="5"/>
                    </a:lnTo>
                    <a:lnTo>
                      <a:pt x="425" y="1"/>
                    </a:lnTo>
                    <a:lnTo>
                      <a:pt x="404" y="0"/>
                    </a:lnTo>
                    <a:lnTo>
                      <a:pt x="383" y="0"/>
                    </a:lnTo>
                    <a:lnTo>
                      <a:pt x="367" y="0"/>
                    </a:lnTo>
                    <a:lnTo>
                      <a:pt x="352" y="1"/>
                    </a:lnTo>
                    <a:lnTo>
                      <a:pt x="336" y="3"/>
                    </a:lnTo>
                    <a:lnTo>
                      <a:pt x="320" y="5"/>
                    </a:lnTo>
                    <a:lnTo>
                      <a:pt x="305" y="8"/>
                    </a:lnTo>
                    <a:lnTo>
                      <a:pt x="290" y="11"/>
                    </a:lnTo>
                    <a:lnTo>
                      <a:pt x="275" y="14"/>
                    </a:lnTo>
                    <a:lnTo>
                      <a:pt x="260" y="18"/>
                    </a:lnTo>
                    <a:lnTo>
                      <a:pt x="246" y="24"/>
                    </a:lnTo>
                    <a:lnTo>
                      <a:pt x="232" y="29"/>
                    </a:lnTo>
                    <a:lnTo>
                      <a:pt x="217" y="34"/>
                    </a:lnTo>
                    <a:lnTo>
                      <a:pt x="203" y="40"/>
                    </a:lnTo>
                    <a:lnTo>
                      <a:pt x="190" y="48"/>
                    </a:lnTo>
                    <a:lnTo>
                      <a:pt x="177" y="54"/>
                    </a:lnTo>
                    <a:lnTo>
                      <a:pt x="165" y="62"/>
                    </a:lnTo>
                    <a:lnTo>
                      <a:pt x="152" y="70"/>
                    </a:lnTo>
                    <a:lnTo>
                      <a:pt x="139" y="78"/>
                    </a:lnTo>
                    <a:lnTo>
                      <a:pt x="127" y="88"/>
                    </a:lnTo>
                    <a:lnTo>
                      <a:pt x="115" y="97"/>
                    </a:lnTo>
                    <a:lnTo>
                      <a:pt x="105" y="106"/>
                    </a:lnTo>
                    <a:lnTo>
                      <a:pt x="93" y="117"/>
                    </a:lnTo>
                    <a:lnTo>
                      <a:pt x="83" y="127"/>
                    </a:lnTo>
                    <a:lnTo>
                      <a:pt x="72" y="138"/>
                    </a:lnTo>
                    <a:lnTo>
                      <a:pt x="63" y="150"/>
                    </a:lnTo>
                    <a:lnTo>
                      <a:pt x="53" y="161"/>
                    </a:lnTo>
                    <a:lnTo>
                      <a:pt x="45" y="173"/>
                    </a:lnTo>
                    <a:lnTo>
                      <a:pt x="35" y="185"/>
                    </a:lnTo>
                    <a:lnTo>
                      <a:pt x="28" y="198"/>
                    </a:lnTo>
                    <a:lnTo>
                      <a:pt x="20" y="210"/>
                    </a:lnTo>
                    <a:lnTo>
                      <a:pt x="12" y="223"/>
                    </a:lnTo>
                    <a:lnTo>
                      <a:pt x="6" y="237"/>
                    </a:lnTo>
                    <a:lnTo>
                      <a:pt x="0" y="250"/>
                    </a:lnTo>
                    <a:lnTo>
                      <a:pt x="7" y="272"/>
                    </a:lnTo>
                    <a:lnTo>
                      <a:pt x="8" y="274"/>
                    </a:lnTo>
                    <a:lnTo>
                      <a:pt x="13" y="261"/>
                    </a:lnTo>
                    <a:lnTo>
                      <a:pt x="20" y="247"/>
                    </a:lnTo>
                    <a:lnTo>
                      <a:pt x="26" y="234"/>
                    </a:lnTo>
                    <a:lnTo>
                      <a:pt x="33" y="220"/>
                    </a:lnTo>
                    <a:lnTo>
                      <a:pt x="42" y="207"/>
                    </a:lnTo>
                    <a:lnTo>
                      <a:pt x="49" y="195"/>
                    </a:lnTo>
                    <a:lnTo>
                      <a:pt x="57" y="183"/>
                    </a:lnTo>
                    <a:lnTo>
                      <a:pt x="67" y="171"/>
                    </a:lnTo>
                    <a:lnTo>
                      <a:pt x="76" y="159"/>
                    </a:lnTo>
                    <a:lnTo>
                      <a:pt x="86" y="148"/>
                    </a:lnTo>
                    <a:lnTo>
                      <a:pt x="96" y="137"/>
                    </a:lnTo>
                    <a:lnTo>
                      <a:pt x="107" y="126"/>
                    </a:lnTo>
                    <a:lnTo>
                      <a:pt x="118" y="117"/>
                    </a:lnTo>
                    <a:lnTo>
                      <a:pt x="129" y="108"/>
                    </a:lnTo>
                    <a:lnTo>
                      <a:pt x="141" y="98"/>
                    </a:lnTo>
                    <a:lnTo>
                      <a:pt x="153" y="89"/>
                    </a:lnTo>
                    <a:lnTo>
                      <a:pt x="166" y="81"/>
                    </a:lnTo>
                    <a:lnTo>
                      <a:pt x="178" y="73"/>
                    </a:lnTo>
                    <a:lnTo>
                      <a:pt x="191" y="66"/>
                    </a:lnTo>
                    <a:lnTo>
                      <a:pt x="205" y="58"/>
                    </a:lnTo>
                    <a:lnTo>
                      <a:pt x="218" y="52"/>
                    </a:lnTo>
                    <a:lnTo>
                      <a:pt x="232" y="47"/>
                    </a:lnTo>
                    <a:lnTo>
                      <a:pt x="247" y="40"/>
                    </a:lnTo>
                    <a:lnTo>
                      <a:pt x="261" y="36"/>
                    </a:lnTo>
                    <a:lnTo>
                      <a:pt x="275" y="32"/>
                    </a:lnTo>
                    <a:lnTo>
                      <a:pt x="291" y="28"/>
                    </a:lnTo>
                    <a:lnTo>
                      <a:pt x="305" y="25"/>
                    </a:lnTo>
                    <a:lnTo>
                      <a:pt x="320" y="21"/>
                    </a:lnTo>
                    <a:lnTo>
                      <a:pt x="336" y="19"/>
                    </a:lnTo>
                    <a:lnTo>
                      <a:pt x="352" y="18"/>
                    </a:lnTo>
                    <a:lnTo>
                      <a:pt x="367" y="17"/>
                    </a:lnTo>
                    <a:lnTo>
                      <a:pt x="383" y="16"/>
                    </a:lnTo>
                    <a:lnTo>
                      <a:pt x="405" y="17"/>
                    </a:lnTo>
                    <a:lnTo>
                      <a:pt x="427" y="19"/>
                    </a:lnTo>
                    <a:lnTo>
                      <a:pt x="448" y="22"/>
                    </a:lnTo>
                    <a:lnTo>
                      <a:pt x="469" y="26"/>
                    </a:lnTo>
                    <a:lnTo>
                      <a:pt x="490" y="31"/>
                    </a:lnTo>
                    <a:lnTo>
                      <a:pt x="510" y="37"/>
                    </a:lnTo>
                    <a:lnTo>
                      <a:pt x="530" y="45"/>
                    </a:lnTo>
                    <a:lnTo>
                      <a:pt x="549" y="52"/>
                    </a:lnTo>
                    <a:lnTo>
                      <a:pt x="568" y="61"/>
                    </a:lnTo>
                    <a:lnTo>
                      <a:pt x="586" y="72"/>
                    </a:lnTo>
                    <a:lnTo>
                      <a:pt x="604" y="82"/>
                    </a:lnTo>
                    <a:lnTo>
                      <a:pt x="621" y="94"/>
                    </a:lnTo>
                    <a:lnTo>
                      <a:pt x="637" y="106"/>
                    </a:lnTo>
                    <a:lnTo>
                      <a:pt x="652" y="120"/>
                    </a:lnTo>
                    <a:lnTo>
                      <a:pt x="668" y="134"/>
                    </a:lnTo>
                    <a:lnTo>
                      <a:pt x="682" y="148"/>
                    </a:lnTo>
                    <a:lnTo>
                      <a:pt x="671" y="11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97520" y="2567160"/>
                <a:ext cx="250920" cy="260280"/>
              </a:xfrm>
              <a:custGeom>
                <a:avLst/>
                <a:gdLst/>
                <a:ahLst/>
                <a:rect l="l" t="t" r="r" b="b"/>
                <a:pathLst>
                  <a:path w="790" h="820">
                    <a:moveTo>
                      <a:pt x="790" y="409"/>
                    </a:moveTo>
                    <a:lnTo>
                      <a:pt x="790" y="394"/>
                    </a:lnTo>
                    <a:lnTo>
                      <a:pt x="789" y="377"/>
                    </a:lnTo>
                    <a:lnTo>
                      <a:pt x="787" y="361"/>
                    </a:lnTo>
                    <a:lnTo>
                      <a:pt x="785" y="344"/>
                    </a:lnTo>
                    <a:lnTo>
                      <a:pt x="782" y="328"/>
                    </a:lnTo>
                    <a:lnTo>
                      <a:pt x="779" y="314"/>
                    </a:lnTo>
                    <a:lnTo>
                      <a:pt x="774" y="298"/>
                    </a:lnTo>
                    <a:lnTo>
                      <a:pt x="770" y="283"/>
                    </a:lnTo>
                    <a:lnTo>
                      <a:pt x="739" y="236"/>
                    </a:lnTo>
                    <a:lnTo>
                      <a:pt x="682" y="152"/>
                    </a:lnTo>
                    <a:lnTo>
                      <a:pt x="673" y="122"/>
                    </a:lnTo>
                    <a:lnTo>
                      <a:pt x="658" y="108"/>
                    </a:lnTo>
                    <a:lnTo>
                      <a:pt x="643" y="94"/>
                    </a:lnTo>
                    <a:lnTo>
                      <a:pt x="627" y="83"/>
                    </a:lnTo>
                    <a:lnTo>
                      <a:pt x="610" y="71"/>
                    </a:lnTo>
                    <a:lnTo>
                      <a:pt x="594" y="60"/>
                    </a:lnTo>
                    <a:lnTo>
                      <a:pt x="577" y="50"/>
                    </a:lnTo>
                    <a:lnTo>
                      <a:pt x="559" y="41"/>
                    </a:lnTo>
                    <a:lnTo>
                      <a:pt x="541" y="32"/>
                    </a:lnTo>
                    <a:lnTo>
                      <a:pt x="522" y="25"/>
                    </a:lnTo>
                    <a:lnTo>
                      <a:pt x="503" y="18"/>
                    </a:lnTo>
                    <a:lnTo>
                      <a:pt x="483" y="12"/>
                    </a:lnTo>
                    <a:lnTo>
                      <a:pt x="463" y="8"/>
                    </a:lnTo>
                    <a:lnTo>
                      <a:pt x="442" y="4"/>
                    </a:lnTo>
                    <a:lnTo>
                      <a:pt x="422" y="2"/>
                    </a:lnTo>
                    <a:lnTo>
                      <a:pt x="401" y="0"/>
                    </a:lnTo>
                    <a:lnTo>
                      <a:pt x="379" y="0"/>
                    </a:lnTo>
                    <a:lnTo>
                      <a:pt x="363" y="0"/>
                    </a:lnTo>
                    <a:lnTo>
                      <a:pt x="348" y="1"/>
                    </a:lnTo>
                    <a:lnTo>
                      <a:pt x="332" y="2"/>
                    </a:lnTo>
                    <a:lnTo>
                      <a:pt x="316" y="4"/>
                    </a:lnTo>
                    <a:lnTo>
                      <a:pt x="301" y="7"/>
                    </a:lnTo>
                    <a:lnTo>
                      <a:pt x="286" y="10"/>
                    </a:lnTo>
                    <a:lnTo>
                      <a:pt x="271" y="13"/>
                    </a:lnTo>
                    <a:lnTo>
                      <a:pt x="256" y="18"/>
                    </a:lnTo>
                    <a:lnTo>
                      <a:pt x="242" y="23"/>
                    </a:lnTo>
                    <a:lnTo>
                      <a:pt x="228" y="28"/>
                    </a:lnTo>
                    <a:lnTo>
                      <a:pt x="214" y="34"/>
                    </a:lnTo>
                    <a:lnTo>
                      <a:pt x="201" y="41"/>
                    </a:lnTo>
                    <a:lnTo>
                      <a:pt x="187" y="47"/>
                    </a:lnTo>
                    <a:lnTo>
                      <a:pt x="173" y="54"/>
                    </a:lnTo>
                    <a:lnTo>
                      <a:pt x="161" y="63"/>
                    </a:lnTo>
                    <a:lnTo>
                      <a:pt x="148" y="70"/>
                    </a:lnTo>
                    <a:lnTo>
                      <a:pt x="136" y="80"/>
                    </a:lnTo>
                    <a:lnTo>
                      <a:pt x="124" y="88"/>
                    </a:lnTo>
                    <a:lnTo>
                      <a:pt x="112" y="97"/>
                    </a:lnTo>
                    <a:lnTo>
                      <a:pt x="102" y="108"/>
                    </a:lnTo>
                    <a:lnTo>
                      <a:pt x="91" y="118"/>
                    </a:lnTo>
                    <a:lnTo>
                      <a:pt x="81" y="129"/>
                    </a:lnTo>
                    <a:lnTo>
                      <a:pt x="70" y="139"/>
                    </a:lnTo>
                    <a:lnTo>
                      <a:pt x="61" y="151"/>
                    </a:lnTo>
                    <a:lnTo>
                      <a:pt x="51" y="163"/>
                    </a:lnTo>
                    <a:lnTo>
                      <a:pt x="43" y="175"/>
                    </a:lnTo>
                    <a:lnTo>
                      <a:pt x="34" y="188"/>
                    </a:lnTo>
                    <a:lnTo>
                      <a:pt x="26" y="200"/>
                    </a:lnTo>
                    <a:lnTo>
                      <a:pt x="19" y="213"/>
                    </a:lnTo>
                    <a:lnTo>
                      <a:pt x="12" y="227"/>
                    </a:lnTo>
                    <a:lnTo>
                      <a:pt x="5" y="240"/>
                    </a:lnTo>
                    <a:lnTo>
                      <a:pt x="0" y="254"/>
                    </a:lnTo>
                    <a:lnTo>
                      <a:pt x="3" y="263"/>
                    </a:lnTo>
                    <a:lnTo>
                      <a:pt x="9" y="276"/>
                    </a:lnTo>
                    <a:lnTo>
                      <a:pt x="14" y="261"/>
                    </a:lnTo>
                    <a:lnTo>
                      <a:pt x="21" y="248"/>
                    </a:lnTo>
                    <a:lnTo>
                      <a:pt x="27" y="234"/>
                    </a:lnTo>
                    <a:lnTo>
                      <a:pt x="33" y="221"/>
                    </a:lnTo>
                    <a:lnTo>
                      <a:pt x="41" y="208"/>
                    </a:lnTo>
                    <a:lnTo>
                      <a:pt x="49" y="195"/>
                    </a:lnTo>
                    <a:lnTo>
                      <a:pt x="58" y="184"/>
                    </a:lnTo>
                    <a:lnTo>
                      <a:pt x="66" y="171"/>
                    </a:lnTo>
                    <a:lnTo>
                      <a:pt x="75" y="159"/>
                    </a:lnTo>
                    <a:lnTo>
                      <a:pt x="85" y="149"/>
                    </a:lnTo>
                    <a:lnTo>
                      <a:pt x="95" y="137"/>
                    </a:lnTo>
                    <a:lnTo>
                      <a:pt x="106" y="127"/>
                    </a:lnTo>
                    <a:lnTo>
                      <a:pt x="116" y="117"/>
                    </a:lnTo>
                    <a:lnTo>
                      <a:pt x="128" y="107"/>
                    </a:lnTo>
                    <a:lnTo>
                      <a:pt x="140" y="97"/>
                    </a:lnTo>
                    <a:lnTo>
                      <a:pt x="151" y="89"/>
                    </a:lnTo>
                    <a:lnTo>
                      <a:pt x="164" y="81"/>
                    </a:lnTo>
                    <a:lnTo>
                      <a:pt x="175" y="73"/>
                    </a:lnTo>
                    <a:lnTo>
                      <a:pt x="189" y="65"/>
                    </a:lnTo>
                    <a:lnTo>
                      <a:pt x="202" y="59"/>
                    </a:lnTo>
                    <a:lnTo>
                      <a:pt x="215" y="52"/>
                    </a:lnTo>
                    <a:lnTo>
                      <a:pt x="229" y="46"/>
                    </a:lnTo>
                    <a:lnTo>
                      <a:pt x="244" y="41"/>
                    </a:lnTo>
                    <a:lnTo>
                      <a:pt x="257" y="36"/>
                    </a:lnTo>
                    <a:lnTo>
                      <a:pt x="272" y="31"/>
                    </a:lnTo>
                    <a:lnTo>
                      <a:pt x="287" y="27"/>
                    </a:lnTo>
                    <a:lnTo>
                      <a:pt x="301" y="24"/>
                    </a:lnTo>
                    <a:lnTo>
                      <a:pt x="317" y="21"/>
                    </a:lnTo>
                    <a:lnTo>
                      <a:pt x="332" y="19"/>
                    </a:lnTo>
                    <a:lnTo>
                      <a:pt x="348" y="18"/>
                    </a:lnTo>
                    <a:lnTo>
                      <a:pt x="363" y="17"/>
                    </a:lnTo>
                    <a:lnTo>
                      <a:pt x="379" y="16"/>
                    </a:lnTo>
                    <a:lnTo>
                      <a:pt x="400" y="17"/>
                    </a:lnTo>
                    <a:lnTo>
                      <a:pt x="420" y="18"/>
                    </a:lnTo>
                    <a:lnTo>
                      <a:pt x="439" y="21"/>
                    </a:lnTo>
                    <a:lnTo>
                      <a:pt x="459" y="24"/>
                    </a:lnTo>
                    <a:lnTo>
                      <a:pt x="478" y="28"/>
                    </a:lnTo>
                    <a:lnTo>
                      <a:pt x="497" y="33"/>
                    </a:lnTo>
                    <a:lnTo>
                      <a:pt x="515" y="40"/>
                    </a:lnTo>
                    <a:lnTo>
                      <a:pt x="533" y="47"/>
                    </a:lnTo>
                    <a:lnTo>
                      <a:pt x="551" y="55"/>
                    </a:lnTo>
                    <a:lnTo>
                      <a:pt x="567" y="64"/>
                    </a:lnTo>
                    <a:lnTo>
                      <a:pt x="584" y="73"/>
                    </a:lnTo>
                    <a:lnTo>
                      <a:pt x="600" y="84"/>
                    </a:lnTo>
                    <a:lnTo>
                      <a:pt x="616" y="94"/>
                    </a:lnTo>
                    <a:lnTo>
                      <a:pt x="630" y="106"/>
                    </a:lnTo>
                    <a:lnTo>
                      <a:pt x="644" y="118"/>
                    </a:lnTo>
                    <a:lnTo>
                      <a:pt x="658" y="131"/>
                    </a:lnTo>
                    <a:lnTo>
                      <a:pt x="671" y="145"/>
                    </a:lnTo>
                    <a:lnTo>
                      <a:pt x="684" y="159"/>
                    </a:lnTo>
                    <a:lnTo>
                      <a:pt x="696" y="174"/>
                    </a:lnTo>
                    <a:lnTo>
                      <a:pt x="706" y="190"/>
                    </a:lnTo>
                    <a:lnTo>
                      <a:pt x="717" y="206"/>
                    </a:lnTo>
                    <a:lnTo>
                      <a:pt x="726" y="222"/>
                    </a:lnTo>
                    <a:lnTo>
                      <a:pt x="735" y="239"/>
                    </a:lnTo>
                    <a:lnTo>
                      <a:pt x="743" y="256"/>
                    </a:lnTo>
                    <a:lnTo>
                      <a:pt x="749" y="275"/>
                    </a:lnTo>
                    <a:lnTo>
                      <a:pt x="756" y="293"/>
                    </a:lnTo>
                    <a:lnTo>
                      <a:pt x="761" y="312"/>
                    </a:lnTo>
                    <a:lnTo>
                      <a:pt x="766" y="331"/>
                    </a:lnTo>
                    <a:lnTo>
                      <a:pt x="769" y="349"/>
                    </a:lnTo>
                    <a:lnTo>
                      <a:pt x="771" y="369"/>
                    </a:lnTo>
                    <a:lnTo>
                      <a:pt x="773" y="389"/>
                    </a:lnTo>
                    <a:lnTo>
                      <a:pt x="773" y="409"/>
                    </a:lnTo>
                    <a:lnTo>
                      <a:pt x="773" y="430"/>
                    </a:lnTo>
                    <a:lnTo>
                      <a:pt x="771" y="450"/>
                    </a:lnTo>
                    <a:lnTo>
                      <a:pt x="769" y="469"/>
                    </a:lnTo>
                    <a:lnTo>
                      <a:pt x="766" y="489"/>
                    </a:lnTo>
                    <a:lnTo>
                      <a:pt x="761" y="508"/>
                    </a:lnTo>
                    <a:lnTo>
                      <a:pt x="756" y="527"/>
                    </a:lnTo>
                    <a:lnTo>
                      <a:pt x="749" y="545"/>
                    </a:lnTo>
                    <a:lnTo>
                      <a:pt x="743" y="563"/>
                    </a:lnTo>
                    <a:lnTo>
                      <a:pt x="735" y="580"/>
                    </a:lnTo>
                    <a:lnTo>
                      <a:pt x="726" y="597"/>
                    </a:lnTo>
                    <a:lnTo>
                      <a:pt x="717" y="614"/>
                    </a:lnTo>
                    <a:lnTo>
                      <a:pt x="706" y="630"/>
                    </a:lnTo>
                    <a:lnTo>
                      <a:pt x="696" y="646"/>
                    </a:lnTo>
                    <a:lnTo>
                      <a:pt x="684" y="660"/>
                    </a:lnTo>
                    <a:lnTo>
                      <a:pt x="671" y="674"/>
                    </a:lnTo>
                    <a:lnTo>
                      <a:pt x="658" y="688"/>
                    </a:lnTo>
                    <a:lnTo>
                      <a:pt x="644" y="701"/>
                    </a:lnTo>
                    <a:lnTo>
                      <a:pt x="630" y="714"/>
                    </a:lnTo>
                    <a:lnTo>
                      <a:pt x="616" y="725"/>
                    </a:lnTo>
                    <a:lnTo>
                      <a:pt x="600" y="736"/>
                    </a:lnTo>
                    <a:lnTo>
                      <a:pt x="584" y="746"/>
                    </a:lnTo>
                    <a:lnTo>
                      <a:pt x="567" y="756"/>
                    </a:lnTo>
                    <a:lnTo>
                      <a:pt x="551" y="764"/>
                    </a:lnTo>
                    <a:lnTo>
                      <a:pt x="533" y="773"/>
                    </a:lnTo>
                    <a:lnTo>
                      <a:pt x="515" y="779"/>
                    </a:lnTo>
                    <a:lnTo>
                      <a:pt x="497" y="785"/>
                    </a:lnTo>
                    <a:lnTo>
                      <a:pt x="478" y="790"/>
                    </a:lnTo>
                    <a:lnTo>
                      <a:pt x="459" y="796"/>
                    </a:lnTo>
                    <a:lnTo>
                      <a:pt x="439" y="799"/>
                    </a:lnTo>
                    <a:lnTo>
                      <a:pt x="420" y="801"/>
                    </a:lnTo>
                    <a:lnTo>
                      <a:pt x="400" y="803"/>
                    </a:lnTo>
                    <a:lnTo>
                      <a:pt x="379" y="803"/>
                    </a:lnTo>
                    <a:lnTo>
                      <a:pt x="363" y="803"/>
                    </a:lnTo>
                    <a:lnTo>
                      <a:pt x="348" y="802"/>
                    </a:lnTo>
                    <a:lnTo>
                      <a:pt x="332" y="800"/>
                    </a:lnTo>
                    <a:lnTo>
                      <a:pt x="316" y="798"/>
                    </a:lnTo>
                    <a:lnTo>
                      <a:pt x="301" y="796"/>
                    </a:lnTo>
                    <a:lnTo>
                      <a:pt x="287" y="793"/>
                    </a:lnTo>
                    <a:lnTo>
                      <a:pt x="271" y="788"/>
                    </a:lnTo>
                    <a:lnTo>
                      <a:pt x="257" y="784"/>
                    </a:lnTo>
                    <a:lnTo>
                      <a:pt x="271" y="805"/>
                    </a:lnTo>
                    <a:lnTo>
                      <a:pt x="284" y="809"/>
                    </a:lnTo>
                    <a:lnTo>
                      <a:pt x="297" y="811"/>
                    </a:lnTo>
                    <a:lnTo>
                      <a:pt x="311" y="815"/>
                    </a:lnTo>
                    <a:lnTo>
                      <a:pt x="325" y="817"/>
                    </a:lnTo>
                    <a:lnTo>
                      <a:pt x="338" y="818"/>
                    </a:lnTo>
                    <a:lnTo>
                      <a:pt x="352" y="819"/>
                    </a:lnTo>
                    <a:lnTo>
                      <a:pt x="366" y="820"/>
                    </a:lnTo>
                    <a:lnTo>
                      <a:pt x="379" y="820"/>
                    </a:lnTo>
                    <a:lnTo>
                      <a:pt x="400" y="820"/>
                    </a:lnTo>
                    <a:lnTo>
                      <a:pt x="421" y="818"/>
                    </a:lnTo>
                    <a:lnTo>
                      <a:pt x="442" y="816"/>
                    </a:lnTo>
                    <a:lnTo>
                      <a:pt x="462" y="811"/>
                    </a:lnTo>
                    <a:lnTo>
                      <a:pt x="482" y="807"/>
                    </a:lnTo>
                    <a:lnTo>
                      <a:pt x="502" y="802"/>
                    </a:lnTo>
                    <a:lnTo>
                      <a:pt x="521" y="795"/>
                    </a:lnTo>
                    <a:lnTo>
                      <a:pt x="539" y="787"/>
                    </a:lnTo>
                    <a:lnTo>
                      <a:pt x="558" y="780"/>
                    </a:lnTo>
                    <a:lnTo>
                      <a:pt x="576" y="771"/>
                    </a:lnTo>
                    <a:lnTo>
                      <a:pt x="593" y="761"/>
                    </a:lnTo>
                    <a:lnTo>
                      <a:pt x="609" y="750"/>
                    </a:lnTo>
                    <a:lnTo>
                      <a:pt x="625" y="739"/>
                    </a:lnTo>
                    <a:lnTo>
                      <a:pt x="641" y="726"/>
                    </a:lnTo>
                    <a:lnTo>
                      <a:pt x="656" y="714"/>
                    </a:lnTo>
                    <a:lnTo>
                      <a:pt x="670" y="700"/>
                    </a:lnTo>
                    <a:lnTo>
                      <a:pt x="684" y="685"/>
                    </a:lnTo>
                    <a:lnTo>
                      <a:pt x="697" y="671"/>
                    </a:lnTo>
                    <a:lnTo>
                      <a:pt x="708" y="655"/>
                    </a:lnTo>
                    <a:lnTo>
                      <a:pt x="720" y="639"/>
                    </a:lnTo>
                    <a:lnTo>
                      <a:pt x="730" y="622"/>
                    </a:lnTo>
                    <a:lnTo>
                      <a:pt x="741" y="606"/>
                    </a:lnTo>
                    <a:lnTo>
                      <a:pt x="750" y="588"/>
                    </a:lnTo>
                    <a:lnTo>
                      <a:pt x="758" y="569"/>
                    </a:lnTo>
                    <a:lnTo>
                      <a:pt x="765" y="551"/>
                    </a:lnTo>
                    <a:lnTo>
                      <a:pt x="772" y="532"/>
                    </a:lnTo>
                    <a:lnTo>
                      <a:pt x="778" y="512"/>
                    </a:lnTo>
                    <a:lnTo>
                      <a:pt x="782" y="492"/>
                    </a:lnTo>
                    <a:lnTo>
                      <a:pt x="786" y="472"/>
                    </a:lnTo>
                    <a:lnTo>
                      <a:pt x="788" y="451"/>
                    </a:lnTo>
                    <a:lnTo>
                      <a:pt x="790" y="430"/>
                    </a:lnTo>
                    <a:lnTo>
                      <a:pt x="790" y="40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99320" y="2570040"/>
                <a:ext cx="245880" cy="255600"/>
              </a:xfrm>
              <a:custGeom>
                <a:avLst/>
                <a:gdLst/>
                <a:ahLst/>
                <a:rect l="l" t="t" r="r" b="b"/>
                <a:pathLst>
                  <a:path w="778" h="804">
                    <a:moveTo>
                      <a:pt x="778" y="402"/>
                    </a:moveTo>
                    <a:lnTo>
                      <a:pt x="778" y="382"/>
                    </a:lnTo>
                    <a:lnTo>
                      <a:pt x="776" y="361"/>
                    </a:lnTo>
                    <a:lnTo>
                      <a:pt x="774" y="341"/>
                    </a:lnTo>
                    <a:lnTo>
                      <a:pt x="769" y="323"/>
                    </a:lnTo>
                    <a:lnTo>
                      <a:pt x="765" y="303"/>
                    </a:lnTo>
                    <a:lnTo>
                      <a:pt x="760" y="284"/>
                    </a:lnTo>
                    <a:lnTo>
                      <a:pt x="754" y="265"/>
                    </a:lnTo>
                    <a:lnTo>
                      <a:pt x="746" y="247"/>
                    </a:lnTo>
                    <a:lnTo>
                      <a:pt x="735" y="229"/>
                    </a:lnTo>
                    <a:lnTo>
                      <a:pt x="678" y="145"/>
                    </a:lnTo>
                    <a:lnTo>
                      <a:pt x="674" y="132"/>
                    </a:lnTo>
                    <a:lnTo>
                      <a:pt x="660" y="118"/>
                    </a:lnTo>
                    <a:lnTo>
                      <a:pt x="644" y="104"/>
                    </a:lnTo>
                    <a:lnTo>
                      <a:pt x="629" y="90"/>
                    </a:lnTo>
                    <a:lnTo>
                      <a:pt x="613" y="78"/>
                    </a:lnTo>
                    <a:lnTo>
                      <a:pt x="596" y="66"/>
                    </a:lnTo>
                    <a:lnTo>
                      <a:pt x="578" y="56"/>
                    </a:lnTo>
                    <a:lnTo>
                      <a:pt x="560" y="45"/>
                    </a:lnTo>
                    <a:lnTo>
                      <a:pt x="541" y="36"/>
                    </a:lnTo>
                    <a:lnTo>
                      <a:pt x="522" y="29"/>
                    </a:lnTo>
                    <a:lnTo>
                      <a:pt x="502" y="21"/>
                    </a:lnTo>
                    <a:lnTo>
                      <a:pt x="482" y="15"/>
                    </a:lnTo>
                    <a:lnTo>
                      <a:pt x="461" y="10"/>
                    </a:lnTo>
                    <a:lnTo>
                      <a:pt x="440" y="6"/>
                    </a:lnTo>
                    <a:lnTo>
                      <a:pt x="419" y="3"/>
                    </a:lnTo>
                    <a:lnTo>
                      <a:pt x="397" y="1"/>
                    </a:lnTo>
                    <a:lnTo>
                      <a:pt x="375" y="0"/>
                    </a:lnTo>
                    <a:lnTo>
                      <a:pt x="359" y="1"/>
                    </a:lnTo>
                    <a:lnTo>
                      <a:pt x="344" y="2"/>
                    </a:lnTo>
                    <a:lnTo>
                      <a:pt x="328" y="3"/>
                    </a:lnTo>
                    <a:lnTo>
                      <a:pt x="312" y="5"/>
                    </a:lnTo>
                    <a:lnTo>
                      <a:pt x="297" y="9"/>
                    </a:lnTo>
                    <a:lnTo>
                      <a:pt x="283" y="12"/>
                    </a:lnTo>
                    <a:lnTo>
                      <a:pt x="267" y="16"/>
                    </a:lnTo>
                    <a:lnTo>
                      <a:pt x="253" y="20"/>
                    </a:lnTo>
                    <a:lnTo>
                      <a:pt x="239" y="24"/>
                    </a:lnTo>
                    <a:lnTo>
                      <a:pt x="224" y="31"/>
                    </a:lnTo>
                    <a:lnTo>
                      <a:pt x="210" y="36"/>
                    </a:lnTo>
                    <a:lnTo>
                      <a:pt x="197" y="42"/>
                    </a:lnTo>
                    <a:lnTo>
                      <a:pt x="183" y="50"/>
                    </a:lnTo>
                    <a:lnTo>
                      <a:pt x="170" y="57"/>
                    </a:lnTo>
                    <a:lnTo>
                      <a:pt x="158" y="65"/>
                    </a:lnTo>
                    <a:lnTo>
                      <a:pt x="145" y="73"/>
                    </a:lnTo>
                    <a:lnTo>
                      <a:pt x="133" y="82"/>
                    </a:lnTo>
                    <a:lnTo>
                      <a:pt x="121" y="92"/>
                    </a:lnTo>
                    <a:lnTo>
                      <a:pt x="110" y="101"/>
                    </a:lnTo>
                    <a:lnTo>
                      <a:pt x="99" y="110"/>
                    </a:lnTo>
                    <a:lnTo>
                      <a:pt x="88" y="121"/>
                    </a:lnTo>
                    <a:lnTo>
                      <a:pt x="78" y="132"/>
                    </a:lnTo>
                    <a:lnTo>
                      <a:pt x="68" y="143"/>
                    </a:lnTo>
                    <a:lnTo>
                      <a:pt x="59" y="155"/>
                    </a:lnTo>
                    <a:lnTo>
                      <a:pt x="49" y="167"/>
                    </a:lnTo>
                    <a:lnTo>
                      <a:pt x="41" y="179"/>
                    </a:lnTo>
                    <a:lnTo>
                      <a:pt x="34" y="191"/>
                    </a:lnTo>
                    <a:lnTo>
                      <a:pt x="25" y="204"/>
                    </a:lnTo>
                    <a:lnTo>
                      <a:pt x="18" y="218"/>
                    </a:lnTo>
                    <a:lnTo>
                      <a:pt x="12" y="231"/>
                    </a:lnTo>
                    <a:lnTo>
                      <a:pt x="5" y="245"/>
                    </a:lnTo>
                    <a:lnTo>
                      <a:pt x="0" y="258"/>
                    </a:lnTo>
                    <a:lnTo>
                      <a:pt x="10" y="278"/>
                    </a:lnTo>
                    <a:lnTo>
                      <a:pt x="16" y="265"/>
                    </a:lnTo>
                    <a:lnTo>
                      <a:pt x="21" y="251"/>
                    </a:lnTo>
                    <a:lnTo>
                      <a:pt x="27" y="237"/>
                    </a:lnTo>
                    <a:lnTo>
                      <a:pt x="34" y="224"/>
                    </a:lnTo>
                    <a:lnTo>
                      <a:pt x="41" y="211"/>
                    </a:lnTo>
                    <a:lnTo>
                      <a:pt x="48" y="199"/>
                    </a:lnTo>
                    <a:lnTo>
                      <a:pt x="57" y="186"/>
                    </a:lnTo>
                    <a:lnTo>
                      <a:pt x="65" y="173"/>
                    </a:lnTo>
                    <a:lnTo>
                      <a:pt x="75" y="162"/>
                    </a:lnTo>
                    <a:lnTo>
                      <a:pt x="84" y="150"/>
                    </a:lnTo>
                    <a:lnTo>
                      <a:pt x="94" y="140"/>
                    </a:lnTo>
                    <a:lnTo>
                      <a:pt x="104" y="129"/>
                    </a:lnTo>
                    <a:lnTo>
                      <a:pt x="115" y="119"/>
                    </a:lnTo>
                    <a:lnTo>
                      <a:pt x="126" y="109"/>
                    </a:lnTo>
                    <a:lnTo>
                      <a:pt x="137" y="100"/>
                    </a:lnTo>
                    <a:lnTo>
                      <a:pt x="149" y="92"/>
                    </a:lnTo>
                    <a:lnTo>
                      <a:pt x="161" y="83"/>
                    </a:lnTo>
                    <a:lnTo>
                      <a:pt x="173" y="75"/>
                    </a:lnTo>
                    <a:lnTo>
                      <a:pt x="186" y="67"/>
                    </a:lnTo>
                    <a:lnTo>
                      <a:pt x="200" y="60"/>
                    </a:lnTo>
                    <a:lnTo>
                      <a:pt x="212" y="54"/>
                    </a:lnTo>
                    <a:lnTo>
                      <a:pt x="226" y="47"/>
                    </a:lnTo>
                    <a:lnTo>
                      <a:pt x="240" y="42"/>
                    </a:lnTo>
                    <a:lnTo>
                      <a:pt x="254" y="37"/>
                    </a:lnTo>
                    <a:lnTo>
                      <a:pt x="269" y="33"/>
                    </a:lnTo>
                    <a:lnTo>
                      <a:pt x="284" y="29"/>
                    </a:lnTo>
                    <a:lnTo>
                      <a:pt x="299" y="25"/>
                    </a:lnTo>
                    <a:lnTo>
                      <a:pt x="313" y="22"/>
                    </a:lnTo>
                    <a:lnTo>
                      <a:pt x="329" y="20"/>
                    </a:lnTo>
                    <a:lnTo>
                      <a:pt x="344" y="19"/>
                    </a:lnTo>
                    <a:lnTo>
                      <a:pt x="359" y="18"/>
                    </a:lnTo>
                    <a:lnTo>
                      <a:pt x="375" y="17"/>
                    </a:lnTo>
                    <a:lnTo>
                      <a:pt x="395" y="18"/>
                    </a:lnTo>
                    <a:lnTo>
                      <a:pt x="415" y="19"/>
                    </a:lnTo>
                    <a:lnTo>
                      <a:pt x="434" y="22"/>
                    </a:lnTo>
                    <a:lnTo>
                      <a:pt x="453" y="25"/>
                    </a:lnTo>
                    <a:lnTo>
                      <a:pt x="472" y="30"/>
                    </a:lnTo>
                    <a:lnTo>
                      <a:pt x="490" y="35"/>
                    </a:lnTo>
                    <a:lnTo>
                      <a:pt x="508" y="41"/>
                    </a:lnTo>
                    <a:lnTo>
                      <a:pt x="526" y="47"/>
                    </a:lnTo>
                    <a:lnTo>
                      <a:pt x="542" y="56"/>
                    </a:lnTo>
                    <a:lnTo>
                      <a:pt x="559" y="64"/>
                    </a:lnTo>
                    <a:lnTo>
                      <a:pt x="576" y="74"/>
                    </a:lnTo>
                    <a:lnTo>
                      <a:pt x="591" y="83"/>
                    </a:lnTo>
                    <a:lnTo>
                      <a:pt x="606" y="94"/>
                    </a:lnTo>
                    <a:lnTo>
                      <a:pt x="621" y="105"/>
                    </a:lnTo>
                    <a:lnTo>
                      <a:pt x="635" y="118"/>
                    </a:lnTo>
                    <a:lnTo>
                      <a:pt x="649" y="130"/>
                    </a:lnTo>
                    <a:lnTo>
                      <a:pt x="661" y="144"/>
                    </a:lnTo>
                    <a:lnTo>
                      <a:pt x="673" y="158"/>
                    </a:lnTo>
                    <a:lnTo>
                      <a:pt x="684" y="172"/>
                    </a:lnTo>
                    <a:lnTo>
                      <a:pt x="696" y="187"/>
                    </a:lnTo>
                    <a:lnTo>
                      <a:pt x="705" y="203"/>
                    </a:lnTo>
                    <a:lnTo>
                      <a:pt x="715" y="220"/>
                    </a:lnTo>
                    <a:lnTo>
                      <a:pt x="723" y="235"/>
                    </a:lnTo>
                    <a:lnTo>
                      <a:pt x="731" y="253"/>
                    </a:lnTo>
                    <a:lnTo>
                      <a:pt x="738" y="270"/>
                    </a:lnTo>
                    <a:lnTo>
                      <a:pt x="744" y="288"/>
                    </a:lnTo>
                    <a:lnTo>
                      <a:pt x="749" y="307"/>
                    </a:lnTo>
                    <a:lnTo>
                      <a:pt x="754" y="325"/>
                    </a:lnTo>
                    <a:lnTo>
                      <a:pt x="757" y="345"/>
                    </a:lnTo>
                    <a:lnTo>
                      <a:pt x="759" y="363"/>
                    </a:lnTo>
                    <a:lnTo>
                      <a:pt x="761" y="382"/>
                    </a:lnTo>
                    <a:lnTo>
                      <a:pt x="761" y="402"/>
                    </a:lnTo>
                    <a:lnTo>
                      <a:pt x="761" y="422"/>
                    </a:lnTo>
                    <a:lnTo>
                      <a:pt x="759" y="442"/>
                    </a:lnTo>
                    <a:lnTo>
                      <a:pt x="757" y="461"/>
                    </a:lnTo>
                    <a:lnTo>
                      <a:pt x="754" y="480"/>
                    </a:lnTo>
                    <a:lnTo>
                      <a:pt x="749" y="499"/>
                    </a:lnTo>
                    <a:lnTo>
                      <a:pt x="744" y="517"/>
                    </a:lnTo>
                    <a:lnTo>
                      <a:pt x="738" y="535"/>
                    </a:lnTo>
                    <a:lnTo>
                      <a:pt x="731" y="552"/>
                    </a:lnTo>
                    <a:lnTo>
                      <a:pt x="723" y="569"/>
                    </a:lnTo>
                    <a:lnTo>
                      <a:pt x="715" y="586"/>
                    </a:lnTo>
                    <a:lnTo>
                      <a:pt x="705" y="603"/>
                    </a:lnTo>
                    <a:lnTo>
                      <a:pt x="696" y="618"/>
                    </a:lnTo>
                    <a:lnTo>
                      <a:pt x="684" y="633"/>
                    </a:lnTo>
                    <a:lnTo>
                      <a:pt x="673" y="648"/>
                    </a:lnTo>
                    <a:lnTo>
                      <a:pt x="661" y="662"/>
                    </a:lnTo>
                    <a:lnTo>
                      <a:pt x="649" y="675"/>
                    </a:lnTo>
                    <a:lnTo>
                      <a:pt x="635" y="688"/>
                    </a:lnTo>
                    <a:lnTo>
                      <a:pt x="621" y="699"/>
                    </a:lnTo>
                    <a:lnTo>
                      <a:pt x="606" y="711"/>
                    </a:lnTo>
                    <a:lnTo>
                      <a:pt x="591" y="723"/>
                    </a:lnTo>
                    <a:lnTo>
                      <a:pt x="576" y="732"/>
                    </a:lnTo>
                    <a:lnTo>
                      <a:pt x="559" y="741"/>
                    </a:lnTo>
                    <a:lnTo>
                      <a:pt x="542" y="750"/>
                    </a:lnTo>
                    <a:lnTo>
                      <a:pt x="526" y="757"/>
                    </a:lnTo>
                    <a:lnTo>
                      <a:pt x="508" y="765"/>
                    </a:lnTo>
                    <a:lnTo>
                      <a:pt x="490" y="771"/>
                    </a:lnTo>
                    <a:lnTo>
                      <a:pt x="472" y="776"/>
                    </a:lnTo>
                    <a:lnTo>
                      <a:pt x="453" y="780"/>
                    </a:lnTo>
                    <a:lnTo>
                      <a:pt x="434" y="783"/>
                    </a:lnTo>
                    <a:lnTo>
                      <a:pt x="415" y="786"/>
                    </a:lnTo>
                    <a:lnTo>
                      <a:pt x="395" y="788"/>
                    </a:lnTo>
                    <a:lnTo>
                      <a:pt x="375" y="788"/>
                    </a:lnTo>
                    <a:lnTo>
                      <a:pt x="358" y="788"/>
                    </a:lnTo>
                    <a:lnTo>
                      <a:pt x="342" y="787"/>
                    </a:lnTo>
                    <a:lnTo>
                      <a:pt x="325" y="785"/>
                    </a:lnTo>
                    <a:lnTo>
                      <a:pt x="309" y="782"/>
                    </a:lnTo>
                    <a:lnTo>
                      <a:pt x="292" y="779"/>
                    </a:lnTo>
                    <a:lnTo>
                      <a:pt x="276" y="775"/>
                    </a:lnTo>
                    <a:lnTo>
                      <a:pt x="261" y="771"/>
                    </a:lnTo>
                    <a:lnTo>
                      <a:pt x="246" y="766"/>
                    </a:lnTo>
                    <a:lnTo>
                      <a:pt x="260" y="788"/>
                    </a:lnTo>
                    <a:lnTo>
                      <a:pt x="273" y="792"/>
                    </a:lnTo>
                    <a:lnTo>
                      <a:pt x="288" y="795"/>
                    </a:lnTo>
                    <a:lnTo>
                      <a:pt x="302" y="798"/>
                    </a:lnTo>
                    <a:lnTo>
                      <a:pt x="316" y="800"/>
                    </a:lnTo>
                    <a:lnTo>
                      <a:pt x="331" y="802"/>
                    </a:lnTo>
                    <a:lnTo>
                      <a:pt x="346" y="803"/>
                    </a:lnTo>
                    <a:lnTo>
                      <a:pt x="361" y="804"/>
                    </a:lnTo>
                    <a:lnTo>
                      <a:pt x="375" y="804"/>
                    </a:lnTo>
                    <a:lnTo>
                      <a:pt x="396" y="804"/>
                    </a:lnTo>
                    <a:lnTo>
                      <a:pt x="417" y="802"/>
                    </a:lnTo>
                    <a:lnTo>
                      <a:pt x="437" y="800"/>
                    </a:lnTo>
                    <a:lnTo>
                      <a:pt x="457" y="796"/>
                    </a:lnTo>
                    <a:lnTo>
                      <a:pt x="476" y="792"/>
                    </a:lnTo>
                    <a:lnTo>
                      <a:pt x="495" y="787"/>
                    </a:lnTo>
                    <a:lnTo>
                      <a:pt x="514" y="780"/>
                    </a:lnTo>
                    <a:lnTo>
                      <a:pt x="532" y="773"/>
                    </a:lnTo>
                    <a:lnTo>
                      <a:pt x="550" y="765"/>
                    </a:lnTo>
                    <a:lnTo>
                      <a:pt x="568" y="756"/>
                    </a:lnTo>
                    <a:lnTo>
                      <a:pt x="584" y="747"/>
                    </a:lnTo>
                    <a:lnTo>
                      <a:pt x="600" y="736"/>
                    </a:lnTo>
                    <a:lnTo>
                      <a:pt x="616" y="725"/>
                    </a:lnTo>
                    <a:lnTo>
                      <a:pt x="632" y="713"/>
                    </a:lnTo>
                    <a:lnTo>
                      <a:pt x="646" y="701"/>
                    </a:lnTo>
                    <a:lnTo>
                      <a:pt x="660" y="687"/>
                    </a:lnTo>
                    <a:lnTo>
                      <a:pt x="674" y="673"/>
                    </a:lnTo>
                    <a:lnTo>
                      <a:pt x="686" y="659"/>
                    </a:lnTo>
                    <a:lnTo>
                      <a:pt x="698" y="643"/>
                    </a:lnTo>
                    <a:lnTo>
                      <a:pt x="710" y="627"/>
                    </a:lnTo>
                    <a:lnTo>
                      <a:pt x="720" y="611"/>
                    </a:lnTo>
                    <a:lnTo>
                      <a:pt x="729" y="594"/>
                    </a:lnTo>
                    <a:lnTo>
                      <a:pt x="738" y="577"/>
                    </a:lnTo>
                    <a:lnTo>
                      <a:pt x="746" y="559"/>
                    </a:lnTo>
                    <a:lnTo>
                      <a:pt x="754" y="541"/>
                    </a:lnTo>
                    <a:lnTo>
                      <a:pt x="760" y="522"/>
                    </a:lnTo>
                    <a:lnTo>
                      <a:pt x="765" y="503"/>
                    </a:lnTo>
                    <a:lnTo>
                      <a:pt x="769" y="483"/>
                    </a:lnTo>
                    <a:lnTo>
                      <a:pt x="774" y="464"/>
                    </a:lnTo>
                    <a:lnTo>
                      <a:pt x="776" y="443"/>
                    </a:lnTo>
                    <a:lnTo>
                      <a:pt x="778" y="423"/>
                    </a:lnTo>
                    <a:lnTo>
                      <a:pt x="778" y="402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900760" y="2573280"/>
                <a:ext cx="241200" cy="249120"/>
              </a:xfrm>
              <a:custGeom>
                <a:avLst/>
                <a:gdLst/>
                <a:ahLst/>
                <a:rect l="l" t="t" r="r" b="b"/>
                <a:pathLst>
                  <a:path w="764" h="787">
                    <a:moveTo>
                      <a:pt x="764" y="393"/>
                    </a:moveTo>
                    <a:lnTo>
                      <a:pt x="764" y="373"/>
                    </a:lnTo>
                    <a:lnTo>
                      <a:pt x="762" y="353"/>
                    </a:lnTo>
                    <a:lnTo>
                      <a:pt x="760" y="333"/>
                    </a:lnTo>
                    <a:lnTo>
                      <a:pt x="757" y="315"/>
                    </a:lnTo>
                    <a:lnTo>
                      <a:pt x="752" y="296"/>
                    </a:lnTo>
                    <a:lnTo>
                      <a:pt x="747" y="277"/>
                    </a:lnTo>
                    <a:lnTo>
                      <a:pt x="740" y="259"/>
                    </a:lnTo>
                    <a:lnTo>
                      <a:pt x="734" y="240"/>
                    </a:lnTo>
                    <a:lnTo>
                      <a:pt x="726" y="223"/>
                    </a:lnTo>
                    <a:lnTo>
                      <a:pt x="717" y="206"/>
                    </a:lnTo>
                    <a:lnTo>
                      <a:pt x="708" y="190"/>
                    </a:lnTo>
                    <a:lnTo>
                      <a:pt x="697" y="174"/>
                    </a:lnTo>
                    <a:lnTo>
                      <a:pt x="687" y="158"/>
                    </a:lnTo>
                    <a:lnTo>
                      <a:pt x="675" y="143"/>
                    </a:lnTo>
                    <a:lnTo>
                      <a:pt x="662" y="129"/>
                    </a:lnTo>
                    <a:lnTo>
                      <a:pt x="649" y="115"/>
                    </a:lnTo>
                    <a:lnTo>
                      <a:pt x="635" y="102"/>
                    </a:lnTo>
                    <a:lnTo>
                      <a:pt x="621" y="90"/>
                    </a:lnTo>
                    <a:lnTo>
                      <a:pt x="607" y="78"/>
                    </a:lnTo>
                    <a:lnTo>
                      <a:pt x="591" y="68"/>
                    </a:lnTo>
                    <a:lnTo>
                      <a:pt x="575" y="57"/>
                    </a:lnTo>
                    <a:lnTo>
                      <a:pt x="558" y="48"/>
                    </a:lnTo>
                    <a:lnTo>
                      <a:pt x="542" y="39"/>
                    </a:lnTo>
                    <a:lnTo>
                      <a:pt x="524" y="31"/>
                    </a:lnTo>
                    <a:lnTo>
                      <a:pt x="506" y="24"/>
                    </a:lnTo>
                    <a:lnTo>
                      <a:pt x="488" y="17"/>
                    </a:lnTo>
                    <a:lnTo>
                      <a:pt x="469" y="12"/>
                    </a:lnTo>
                    <a:lnTo>
                      <a:pt x="450" y="8"/>
                    </a:lnTo>
                    <a:lnTo>
                      <a:pt x="430" y="5"/>
                    </a:lnTo>
                    <a:lnTo>
                      <a:pt x="411" y="2"/>
                    </a:lnTo>
                    <a:lnTo>
                      <a:pt x="391" y="1"/>
                    </a:lnTo>
                    <a:lnTo>
                      <a:pt x="370" y="0"/>
                    </a:lnTo>
                    <a:lnTo>
                      <a:pt x="354" y="1"/>
                    </a:lnTo>
                    <a:lnTo>
                      <a:pt x="339" y="2"/>
                    </a:lnTo>
                    <a:lnTo>
                      <a:pt x="323" y="3"/>
                    </a:lnTo>
                    <a:lnTo>
                      <a:pt x="308" y="5"/>
                    </a:lnTo>
                    <a:lnTo>
                      <a:pt x="292" y="8"/>
                    </a:lnTo>
                    <a:lnTo>
                      <a:pt x="278" y="11"/>
                    </a:lnTo>
                    <a:lnTo>
                      <a:pt x="263" y="15"/>
                    </a:lnTo>
                    <a:lnTo>
                      <a:pt x="248" y="20"/>
                    </a:lnTo>
                    <a:lnTo>
                      <a:pt x="235" y="25"/>
                    </a:lnTo>
                    <a:lnTo>
                      <a:pt x="220" y="30"/>
                    </a:lnTo>
                    <a:lnTo>
                      <a:pt x="206" y="36"/>
                    </a:lnTo>
                    <a:lnTo>
                      <a:pt x="193" y="43"/>
                    </a:lnTo>
                    <a:lnTo>
                      <a:pt x="180" y="49"/>
                    </a:lnTo>
                    <a:lnTo>
                      <a:pt x="166" y="57"/>
                    </a:lnTo>
                    <a:lnTo>
                      <a:pt x="155" y="65"/>
                    </a:lnTo>
                    <a:lnTo>
                      <a:pt x="142" y="73"/>
                    </a:lnTo>
                    <a:lnTo>
                      <a:pt x="131" y="81"/>
                    </a:lnTo>
                    <a:lnTo>
                      <a:pt x="119" y="91"/>
                    </a:lnTo>
                    <a:lnTo>
                      <a:pt x="107" y="101"/>
                    </a:lnTo>
                    <a:lnTo>
                      <a:pt x="97" y="111"/>
                    </a:lnTo>
                    <a:lnTo>
                      <a:pt x="86" y="121"/>
                    </a:lnTo>
                    <a:lnTo>
                      <a:pt x="76" y="133"/>
                    </a:lnTo>
                    <a:lnTo>
                      <a:pt x="66" y="143"/>
                    </a:lnTo>
                    <a:lnTo>
                      <a:pt x="57" y="155"/>
                    </a:lnTo>
                    <a:lnTo>
                      <a:pt x="49" y="168"/>
                    </a:lnTo>
                    <a:lnTo>
                      <a:pt x="40" y="179"/>
                    </a:lnTo>
                    <a:lnTo>
                      <a:pt x="32" y="192"/>
                    </a:lnTo>
                    <a:lnTo>
                      <a:pt x="24" y="205"/>
                    </a:lnTo>
                    <a:lnTo>
                      <a:pt x="18" y="218"/>
                    </a:lnTo>
                    <a:lnTo>
                      <a:pt x="12" y="232"/>
                    </a:lnTo>
                    <a:lnTo>
                      <a:pt x="5" y="245"/>
                    </a:lnTo>
                    <a:lnTo>
                      <a:pt x="0" y="260"/>
                    </a:lnTo>
                    <a:lnTo>
                      <a:pt x="11" y="280"/>
                    </a:lnTo>
                    <a:lnTo>
                      <a:pt x="16" y="266"/>
                    </a:lnTo>
                    <a:lnTo>
                      <a:pt x="21" y="252"/>
                    </a:lnTo>
                    <a:lnTo>
                      <a:pt x="27" y="238"/>
                    </a:lnTo>
                    <a:lnTo>
                      <a:pt x="33" y="225"/>
                    </a:lnTo>
                    <a:lnTo>
                      <a:pt x="40" y="212"/>
                    </a:lnTo>
                    <a:lnTo>
                      <a:pt x="48" y="199"/>
                    </a:lnTo>
                    <a:lnTo>
                      <a:pt x="55" y="186"/>
                    </a:lnTo>
                    <a:lnTo>
                      <a:pt x="63" y="175"/>
                    </a:lnTo>
                    <a:lnTo>
                      <a:pt x="73" y="163"/>
                    </a:lnTo>
                    <a:lnTo>
                      <a:pt x="81" y="152"/>
                    </a:lnTo>
                    <a:lnTo>
                      <a:pt x="92" y="140"/>
                    </a:lnTo>
                    <a:lnTo>
                      <a:pt x="101" y="130"/>
                    </a:lnTo>
                    <a:lnTo>
                      <a:pt x="112" y="119"/>
                    </a:lnTo>
                    <a:lnTo>
                      <a:pt x="122" y="110"/>
                    </a:lnTo>
                    <a:lnTo>
                      <a:pt x="134" y="100"/>
                    </a:lnTo>
                    <a:lnTo>
                      <a:pt x="145" y="91"/>
                    </a:lnTo>
                    <a:lnTo>
                      <a:pt x="158" y="83"/>
                    </a:lnTo>
                    <a:lnTo>
                      <a:pt x="169" y="74"/>
                    </a:lnTo>
                    <a:lnTo>
                      <a:pt x="182" y="67"/>
                    </a:lnTo>
                    <a:lnTo>
                      <a:pt x="196" y="59"/>
                    </a:lnTo>
                    <a:lnTo>
                      <a:pt x="208" y="53"/>
                    </a:lnTo>
                    <a:lnTo>
                      <a:pt x="222" y="47"/>
                    </a:lnTo>
                    <a:lnTo>
                      <a:pt x="236" y="42"/>
                    </a:lnTo>
                    <a:lnTo>
                      <a:pt x="250" y="36"/>
                    </a:lnTo>
                    <a:lnTo>
                      <a:pt x="264" y="32"/>
                    </a:lnTo>
                    <a:lnTo>
                      <a:pt x="279" y="28"/>
                    </a:lnTo>
                    <a:lnTo>
                      <a:pt x="294" y="25"/>
                    </a:lnTo>
                    <a:lnTo>
                      <a:pt x="308" y="22"/>
                    </a:lnTo>
                    <a:lnTo>
                      <a:pt x="324" y="20"/>
                    </a:lnTo>
                    <a:lnTo>
                      <a:pt x="340" y="18"/>
                    </a:lnTo>
                    <a:lnTo>
                      <a:pt x="354" y="17"/>
                    </a:lnTo>
                    <a:lnTo>
                      <a:pt x="370" y="16"/>
                    </a:lnTo>
                    <a:lnTo>
                      <a:pt x="390" y="17"/>
                    </a:lnTo>
                    <a:lnTo>
                      <a:pt x="409" y="18"/>
                    </a:lnTo>
                    <a:lnTo>
                      <a:pt x="428" y="22"/>
                    </a:lnTo>
                    <a:lnTo>
                      <a:pt x="447" y="25"/>
                    </a:lnTo>
                    <a:lnTo>
                      <a:pt x="465" y="29"/>
                    </a:lnTo>
                    <a:lnTo>
                      <a:pt x="483" y="34"/>
                    </a:lnTo>
                    <a:lnTo>
                      <a:pt x="501" y="39"/>
                    </a:lnTo>
                    <a:lnTo>
                      <a:pt x="517" y="47"/>
                    </a:lnTo>
                    <a:lnTo>
                      <a:pt x="534" y="54"/>
                    </a:lnTo>
                    <a:lnTo>
                      <a:pt x="550" y="63"/>
                    </a:lnTo>
                    <a:lnTo>
                      <a:pt x="566" y="71"/>
                    </a:lnTo>
                    <a:lnTo>
                      <a:pt x="582" y="81"/>
                    </a:lnTo>
                    <a:lnTo>
                      <a:pt x="596" y="92"/>
                    </a:lnTo>
                    <a:lnTo>
                      <a:pt x="611" y="102"/>
                    </a:lnTo>
                    <a:lnTo>
                      <a:pt x="625" y="115"/>
                    </a:lnTo>
                    <a:lnTo>
                      <a:pt x="637" y="128"/>
                    </a:lnTo>
                    <a:lnTo>
                      <a:pt x="650" y="140"/>
                    </a:lnTo>
                    <a:lnTo>
                      <a:pt x="661" y="154"/>
                    </a:lnTo>
                    <a:lnTo>
                      <a:pt x="673" y="169"/>
                    </a:lnTo>
                    <a:lnTo>
                      <a:pt x="683" y="183"/>
                    </a:lnTo>
                    <a:lnTo>
                      <a:pt x="693" y="198"/>
                    </a:lnTo>
                    <a:lnTo>
                      <a:pt x="702" y="214"/>
                    </a:lnTo>
                    <a:lnTo>
                      <a:pt x="711" y="231"/>
                    </a:lnTo>
                    <a:lnTo>
                      <a:pt x="718" y="247"/>
                    </a:lnTo>
                    <a:lnTo>
                      <a:pt x="726" y="264"/>
                    </a:lnTo>
                    <a:lnTo>
                      <a:pt x="731" y="282"/>
                    </a:lnTo>
                    <a:lnTo>
                      <a:pt x="736" y="300"/>
                    </a:lnTo>
                    <a:lnTo>
                      <a:pt x="740" y="318"/>
                    </a:lnTo>
                    <a:lnTo>
                      <a:pt x="743" y="337"/>
                    </a:lnTo>
                    <a:lnTo>
                      <a:pt x="745" y="356"/>
                    </a:lnTo>
                    <a:lnTo>
                      <a:pt x="748" y="374"/>
                    </a:lnTo>
                    <a:lnTo>
                      <a:pt x="748" y="393"/>
                    </a:lnTo>
                    <a:lnTo>
                      <a:pt x="748" y="413"/>
                    </a:lnTo>
                    <a:lnTo>
                      <a:pt x="745" y="432"/>
                    </a:lnTo>
                    <a:lnTo>
                      <a:pt x="743" y="451"/>
                    </a:lnTo>
                    <a:lnTo>
                      <a:pt x="740" y="470"/>
                    </a:lnTo>
                    <a:lnTo>
                      <a:pt x="736" y="488"/>
                    </a:lnTo>
                    <a:lnTo>
                      <a:pt x="731" y="506"/>
                    </a:lnTo>
                    <a:lnTo>
                      <a:pt x="726" y="524"/>
                    </a:lnTo>
                    <a:lnTo>
                      <a:pt x="718" y="540"/>
                    </a:lnTo>
                    <a:lnTo>
                      <a:pt x="711" y="557"/>
                    </a:lnTo>
                    <a:lnTo>
                      <a:pt x="702" y="573"/>
                    </a:lnTo>
                    <a:lnTo>
                      <a:pt x="693" y="590"/>
                    </a:lnTo>
                    <a:lnTo>
                      <a:pt x="683" y="604"/>
                    </a:lnTo>
                    <a:lnTo>
                      <a:pt x="673" y="619"/>
                    </a:lnTo>
                    <a:lnTo>
                      <a:pt x="661" y="634"/>
                    </a:lnTo>
                    <a:lnTo>
                      <a:pt x="650" y="647"/>
                    </a:lnTo>
                    <a:lnTo>
                      <a:pt x="637" y="660"/>
                    </a:lnTo>
                    <a:lnTo>
                      <a:pt x="625" y="673"/>
                    </a:lnTo>
                    <a:lnTo>
                      <a:pt x="611" y="684"/>
                    </a:lnTo>
                    <a:lnTo>
                      <a:pt x="596" y="696"/>
                    </a:lnTo>
                    <a:lnTo>
                      <a:pt x="582" y="706"/>
                    </a:lnTo>
                    <a:lnTo>
                      <a:pt x="566" y="716"/>
                    </a:lnTo>
                    <a:lnTo>
                      <a:pt x="550" y="725"/>
                    </a:lnTo>
                    <a:lnTo>
                      <a:pt x="534" y="734"/>
                    </a:lnTo>
                    <a:lnTo>
                      <a:pt x="517" y="741"/>
                    </a:lnTo>
                    <a:lnTo>
                      <a:pt x="501" y="747"/>
                    </a:lnTo>
                    <a:lnTo>
                      <a:pt x="483" y="753"/>
                    </a:lnTo>
                    <a:lnTo>
                      <a:pt x="465" y="759"/>
                    </a:lnTo>
                    <a:lnTo>
                      <a:pt x="447" y="763"/>
                    </a:lnTo>
                    <a:lnTo>
                      <a:pt x="428" y="766"/>
                    </a:lnTo>
                    <a:lnTo>
                      <a:pt x="409" y="768"/>
                    </a:lnTo>
                    <a:lnTo>
                      <a:pt x="390" y="770"/>
                    </a:lnTo>
                    <a:lnTo>
                      <a:pt x="370" y="770"/>
                    </a:lnTo>
                    <a:lnTo>
                      <a:pt x="352" y="770"/>
                    </a:lnTo>
                    <a:lnTo>
                      <a:pt x="335" y="769"/>
                    </a:lnTo>
                    <a:lnTo>
                      <a:pt x="317" y="767"/>
                    </a:lnTo>
                    <a:lnTo>
                      <a:pt x="300" y="764"/>
                    </a:lnTo>
                    <a:lnTo>
                      <a:pt x="282" y="761"/>
                    </a:lnTo>
                    <a:lnTo>
                      <a:pt x="265" y="756"/>
                    </a:lnTo>
                    <a:lnTo>
                      <a:pt x="249" y="750"/>
                    </a:lnTo>
                    <a:lnTo>
                      <a:pt x="233" y="745"/>
                    </a:lnTo>
                    <a:lnTo>
                      <a:pt x="248" y="768"/>
                    </a:lnTo>
                    <a:lnTo>
                      <a:pt x="262" y="772"/>
                    </a:lnTo>
                    <a:lnTo>
                      <a:pt x="278" y="777"/>
                    </a:lnTo>
                    <a:lnTo>
                      <a:pt x="292" y="780"/>
                    </a:lnTo>
                    <a:lnTo>
                      <a:pt x="307" y="782"/>
                    </a:lnTo>
                    <a:lnTo>
                      <a:pt x="323" y="784"/>
                    </a:lnTo>
                    <a:lnTo>
                      <a:pt x="339" y="786"/>
                    </a:lnTo>
                    <a:lnTo>
                      <a:pt x="354" y="787"/>
                    </a:lnTo>
                    <a:lnTo>
                      <a:pt x="370" y="787"/>
                    </a:lnTo>
                    <a:lnTo>
                      <a:pt x="391" y="787"/>
                    </a:lnTo>
                    <a:lnTo>
                      <a:pt x="411" y="785"/>
                    </a:lnTo>
                    <a:lnTo>
                      <a:pt x="430" y="783"/>
                    </a:lnTo>
                    <a:lnTo>
                      <a:pt x="450" y="780"/>
                    </a:lnTo>
                    <a:lnTo>
                      <a:pt x="469" y="774"/>
                    </a:lnTo>
                    <a:lnTo>
                      <a:pt x="488" y="769"/>
                    </a:lnTo>
                    <a:lnTo>
                      <a:pt x="506" y="763"/>
                    </a:lnTo>
                    <a:lnTo>
                      <a:pt x="524" y="757"/>
                    </a:lnTo>
                    <a:lnTo>
                      <a:pt x="542" y="748"/>
                    </a:lnTo>
                    <a:lnTo>
                      <a:pt x="558" y="740"/>
                    </a:lnTo>
                    <a:lnTo>
                      <a:pt x="575" y="730"/>
                    </a:lnTo>
                    <a:lnTo>
                      <a:pt x="591" y="720"/>
                    </a:lnTo>
                    <a:lnTo>
                      <a:pt x="607" y="709"/>
                    </a:lnTo>
                    <a:lnTo>
                      <a:pt x="621" y="698"/>
                    </a:lnTo>
                    <a:lnTo>
                      <a:pt x="635" y="685"/>
                    </a:lnTo>
                    <a:lnTo>
                      <a:pt x="649" y="672"/>
                    </a:lnTo>
                    <a:lnTo>
                      <a:pt x="662" y="658"/>
                    </a:lnTo>
                    <a:lnTo>
                      <a:pt x="675" y="644"/>
                    </a:lnTo>
                    <a:lnTo>
                      <a:pt x="687" y="630"/>
                    </a:lnTo>
                    <a:lnTo>
                      <a:pt x="697" y="614"/>
                    </a:lnTo>
                    <a:lnTo>
                      <a:pt x="708" y="598"/>
                    </a:lnTo>
                    <a:lnTo>
                      <a:pt x="717" y="581"/>
                    </a:lnTo>
                    <a:lnTo>
                      <a:pt x="726" y="564"/>
                    </a:lnTo>
                    <a:lnTo>
                      <a:pt x="734" y="547"/>
                    </a:lnTo>
                    <a:lnTo>
                      <a:pt x="740" y="529"/>
                    </a:lnTo>
                    <a:lnTo>
                      <a:pt x="747" y="511"/>
                    </a:lnTo>
                    <a:lnTo>
                      <a:pt x="752" y="492"/>
                    </a:lnTo>
                    <a:lnTo>
                      <a:pt x="757" y="473"/>
                    </a:lnTo>
                    <a:lnTo>
                      <a:pt x="760" y="453"/>
                    </a:lnTo>
                    <a:lnTo>
                      <a:pt x="762" y="434"/>
                    </a:lnTo>
                    <a:lnTo>
                      <a:pt x="764" y="414"/>
                    </a:lnTo>
                    <a:lnTo>
                      <a:pt x="764" y="393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902200" y="2575080"/>
                <a:ext cx="238320" cy="244440"/>
              </a:xfrm>
              <a:custGeom>
                <a:avLst/>
                <a:gdLst/>
                <a:ahLst/>
                <a:rect l="l" t="t" r="r" b="b"/>
                <a:pathLst>
                  <a:path w="751" h="771">
                    <a:moveTo>
                      <a:pt x="751" y="385"/>
                    </a:moveTo>
                    <a:lnTo>
                      <a:pt x="751" y="365"/>
                    </a:lnTo>
                    <a:lnTo>
                      <a:pt x="749" y="346"/>
                    </a:lnTo>
                    <a:lnTo>
                      <a:pt x="747" y="328"/>
                    </a:lnTo>
                    <a:lnTo>
                      <a:pt x="744" y="308"/>
                    </a:lnTo>
                    <a:lnTo>
                      <a:pt x="739" y="290"/>
                    </a:lnTo>
                    <a:lnTo>
                      <a:pt x="734" y="271"/>
                    </a:lnTo>
                    <a:lnTo>
                      <a:pt x="728" y="253"/>
                    </a:lnTo>
                    <a:lnTo>
                      <a:pt x="721" y="236"/>
                    </a:lnTo>
                    <a:lnTo>
                      <a:pt x="713" y="218"/>
                    </a:lnTo>
                    <a:lnTo>
                      <a:pt x="705" y="203"/>
                    </a:lnTo>
                    <a:lnTo>
                      <a:pt x="695" y="186"/>
                    </a:lnTo>
                    <a:lnTo>
                      <a:pt x="686" y="170"/>
                    </a:lnTo>
                    <a:lnTo>
                      <a:pt x="674" y="155"/>
                    </a:lnTo>
                    <a:lnTo>
                      <a:pt x="663" y="141"/>
                    </a:lnTo>
                    <a:lnTo>
                      <a:pt x="651" y="127"/>
                    </a:lnTo>
                    <a:lnTo>
                      <a:pt x="639" y="113"/>
                    </a:lnTo>
                    <a:lnTo>
                      <a:pt x="625" y="101"/>
                    </a:lnTo>
                    <a:lnTo>
                      <a:pt x="611" y="88"/>
                    </a:lnTo>
                    <a:lnTo>
                      <a:pt x="596" y="77"/>
                    </a:lnTo>
                    <a:lnTo>
                      <a:pt x="581" y="66"/>
                    </a:lnTo>
                    <a:lnTo>
                      <a:pt x="566" y="57"/>
                    </a:lnTo>
                    <a:lnTo>
                      <a:pt x="549" y="47"/>
                    </a:lnTo>
                    <a:lnTo>
                      <a:pt x="532" y="39"/>
                    </a:lnTo>
                    <a:lnTo>
                      <a:pt x="516" y="30"/>
                    </a:lnTo>
                    <a:lnTo>
                      <a:pt x="498" y="24"/>
                    </a:lnTo>
                    <a:lnTo>
                      <a:pt x="480" y="18"/>
                    </a:lnTo>
                    <a:lnTo>
                      <a:pt x="462" y="13"/>
                    </a:lnTo>
                    <a:lnTo>
                      <a:pt x="443" y="8"/>
                    </a:lnTo>
                    <a:lnTo>
                      <a:pt x="424" y="5"/>
                    </a:lnTo>
                    <a:lnTo>
                      <a:pt x="405" y="2"/>
                    </a:lnTo>
                    <a:lnTo>
                      <a:pt x="385" y="1"/>
                    </a:lnTo>
                    <a:lnTo>
                      <a:pt x="365" y="0"/>
                    </a:lnTo>
                    <a:lnTo>
                      <a:pt x="349" y="1"/>
                    </a:lnTo>
                    <a:lnTo>
                      <a:pt x="334" y="2"/>
                    </a:lnTo>
                    <a:lnTo>
                      <a:pt x="319" y="3"/>
                    </a:lnTo>
                    <a:lnTo>
                      <a:pt x="303" y="5"/>
                    </a:lnTo>
                    <a:lnTo>
                      <a:pt x="289" y="8"/>
                    </a:lnTo>
                    <a:lnTo>
                      <a:pt x="274" y="12"/>
                    </a:lnTo>
                    <a:lnTo>
                      <a:pt x="259" y="16"/>
                    </a:lnTo>
                    <a:lnTo>
                      <a:pt x="244" y="20"/>
                    </a:lnTo>
                    <a:lnTo>
                      <a:pt x="230" y="25"/>
                    </a:lnTo>
                    <a:lnTo>
                      <a:pt x="216" y="30"/>
                    </a:lnTo>
                    <a:lnTo>
                      <a:pt x="202" y="37"/>
                    </a:lnTo>
                    <a:lnTo>
                      <a:pt x="190" y="43"/>
                    </a:lnTo>
                    <a:lnTo>
                      <a:pt x="176" y="50"/>
                    </a:lnTo>
                    <a:lnTo>
                      <a:pt x="163" y="58"/>
                    </a:lnTo>
                    <a:lnTo>
                      <a:pt x="151" y="66"/>
                    </a:lnTo>
                    <a:lnTo>
                      <a:pt x="139" y="75"/>
                    </a:lnTo>
                    <a:lnTo>
                      <a:pt x="127" y="83"/>
                    </a:lnTo>
                    <a:lnTo>
                      <a:pt x="115" y="92"/>
                    </a:lnTo>
                    <a:lnTo>
                      <a:pt x="105" y="102"/>
                    </a:lnTo>
                    <a:lnTo>
                      <a:pt x="94" y="112"/>
                    </a:lnTo>
                    <a:lnTo>
                      <a:pt x="84" y="123"/>
                    </a:lnTo>
                    <a:lnTo>
                      <a:pt x="74" y="133"/>
                    </a:lnTo>
                    <a:lnTo>
                      <a:pt x="65" y="145"/>
                    </a:lnTo>
                    <a:lnTo>
                      <a:pt x="55" y="156"/>
                    </a:lnTo>
                    <a:lnTo>
                      <a:pt x="47" y="169"/>
                    </a:lnTo>
                    <a:lnTo>
                      <a:pt x="38" y="182"/>
                    </a:lnTo>
                    <a:lnTo>
                      <a:pt x="31" y="194"/>
                    </a:lnTo>
                    <a:lnTo>
                      <a:pt x="24" y="207"/>
                    </a:lnTo>
                    <a:lnTo>
                      <a:pt x="17" y="220"/>
                    </a:lnTo>
                    <a:lnTo>
                      <a:pt x="11" y="234"/>
                    </a:lnTo>
                    <a:lnTo>
                      <a:pt x="6" y="248"/>
                    </a:lnTo>
                    <a:lnTo>
                      <a:pt x="0" y="261"/>
                    </a:lnTo>
                    <a:lnTo>
                      <a:pt x="11" y="282"/>
                    </a:lnTo>
                    <a:lnTo>
                      <a:pt x="16" y="269"/>
                    </a:lnTo>
                    <a:lnTo>
                      <a:pt x="20" y="254"/>
                    </a:lnTo>
                    <a:lnTo>
                      <a:pt x="27" y="240"/>
                    </a:lnTo>
                    <a:lnTo>
                      <a:pt x="32" y="227"/>
                    </a:lnTo>
                    <a:lnTo>
                      <a:pt x="39" y="214"/>
                    </a:lnTo>
                    <a:lnTo>
                      <a:pt x="46" y="202"/>
                    </a:lnTo>
                    <a:lnTo>
                      <a:pt x="54" y="189"/>
                    </a:lnTo>
                    <a:lnTo>
                      <a:pt x="61" y="176"/>
                    </a:lnTo>
                    <a:lnTo>
                      <a:pt x="71" y="165"/>
                    </a:lnTo>
                    <a:lnTo>
                      <a:pt x="79" y="153"/>
                    </a:lnTo>
                    <a:lnTo>
                      <a:pt x="89" y="142"/>
                    </a:lnTo>
                    <a:lnTo>
                      <a:pt x="98" y="131"/>
                    </a:lnTo>
                    <a:lnTo>
                      <a:pt x="109" y="121"/>
                    </a:lnTo>
                    <a:lnTo>
                      <a:pt x="119" y="111"/>
                    </a:lnTo>
                    <a:lnTo>
                      <a:pt x="131" y="102"/>
                    </a:lnTo>
                    <a:lnTo>
                      <a:pt x="142" y="92"/>
                    </a:lnTo>
                    <a:lnTo>
                      <a:pt x="154" y="84"/>
                    </a:lnTo>
                    <a:lnTo>
                      <a:pt x="167" y="76"/>
                    </a:lnTo>
                    <a:lnTo>
                      <a:pt x="179" y="68"/>
                    </a:lnTo>
                    <a:lnTo>
                      <a:pt x="192" y="61"/>
                    </a:lnTo>
                    <a:lnTo>
                      <a:pt x="204" y="55"/>
                    </a:lnTo>
                    <a:lnTo>
                      <a:pt x="218" y="48"/>
                    </a:lnTo>
                    <a:lnTo>
                      <a:pt x="232" y="42"/>
                    </a:lnTo>
                    <a:lnTo>
                      <a:pt x="245" y="37"/>
                    </a:lnTo>
                    <a:lnTo>
                      <a:pt x="260" y="33"/>
                    </a:lnTo>
                    <a:lnTo>
                      <a:pt x="275" y="28"/>
                    </a:lnTo>
                    <a:lnTo>
                      <a:pt x="290" y="25"/>
                    </a:lnTo>
                    <a:lnTo>
                      <a:pt x="304" y="22"/>
                    </a:lnTo>
                    <a:lnTo>
                      <a:pt x="319" y="20"/>
                    </a:lnTo>
                    <a:lnTo>
                      <a:pt x="335" y="19"/>
                    </a:lnTo>
                    <a:lnTo>
                      <a:pt x="349" y="18"/>
                    </a:lnTo>
                    <a:lnTo>
                      <a:pt x="365" y="17"/>
                    </a:lnTo>
                    <a:lnTo>
                      <a:pt x="384" y="18"/>
                    </a:lnTo>
                    <a:lnTo>
                      <a:pt x="403" y="19"/>
                    </a:lnTo>
                    <a:lnTo>
                      <a:pt x="422" y="21"/>
                    </a:lnTo>
                    <a:lnTo>
                      <a:pt x="440" y="25"/>
                    </a:lnTo>
                    <a:lnTo>
                      <a:pt x="458" y="28"/>
                    </a:lnTo>
                    <a:lnTo>
                      <a:pt x="476" y="34"/>
                    </a:lnTo>
                    <a:lnTo>
                      <a:pt x="492" y="40"/>
                    </a:lnTo>
                    <a:lnTo>
                      <a:pt x="509" y="46"/>
                    </a:lnTo>
                    <a:lnTo>
                      <a:pt x="526" y="54"/>
                    </a:lnTo>
                    <a:lnTo>
                      <a:pt x="542" y="62"/>
                    </a:lnTo>
                    <a:lnTo>
                      <a:pt x="557" y="70"/>
                    </a:lnTo>
                    <a:lnTo>
                      <a:pt x="572" y="80"/>
                    </a:lnTo>
                    <a:lnTo>
                      <a:pt x="586" y="90"/>
                    </a:lnTo>
                    <a:lnTo>
                      <a:pt x="601" y="102"/>
                    </a:lnTo>
                    <a:lnTo>
                      <a:pt x="613" y="113"/>
                    </a:lnTo>
                    <a:lnTo>
                      <a:pt x="627" y="125"/>
                    </a:lnTo>
                    <a:lnTo>
                      <a:pt x="639" y="138"/>
                    </a:lnTo>
                    <a:lnTo>
                      <a:pt x="650" y="151"/>
                    </a:lnTo>
                    <a:lnTo>
                      <a:pt x="662" y="165"/>
                    </a:lnTo>
                    <a:lnTo>
                      <a:pt x="671" y="180"/>
                    </a:lnTo>
                    <a:lnTo>
                      <a:pt x="681" y="194"/>
                    </a:lnTo>
                    <a:lnTo>
                      <a:pt x="690" y="210"/>
                    </a:lnTo>
                    <a:lnTo>
                      <a:pt x="698" y="226"/>
                    </a:lnTo>
                    <a:lnTo>
                      <a:pt x="706" y="243"/>
                    </a:lnTo>
                    <a:lnTo>
                      <a:pt x="712" y="259"/>
                    </a:lnTo>
                    <a:lnTo>
                      <a:pt x="718" y="276"/>
                    </a:lnTo>
                    <a:lnTo>
                      <a:pt x="723" y="294"/>
                    </a:lnTo>
                    <a:lnTo>
                      <a:pt x="727" y="312"/>
                    </a:lnTo>
                    <a:lnTo>
                      <a:pt x="730" y="330"/>
                    </a:lnTo>
                    <a:lnTo>
                      <a:pt x="732" y="348"/>
                    </a:lnTo>
                    <a:lnTo>
                      <a:pt x="734" y="366"/>
                    </a:lnTo>
                    <a:lnTo>
                      <a:pt x="734" y="385"/>
                    </a:lnTo>
                    <a:lnTo>
                      <a:pt x="734" y="404"/>
                    </a:lnTo>
                    <a:lnTo>
                      <a:pt x="732" y="423"/>
                    </a:lnTo>
                    <a:lnTo>
                      <a:pt x="730" y="442"/>
                    </a:lnTo>
                    <a:lnTo>
                      <a:pt x="727" y="460"/>
                    </a:lnTo>
                    <a:lnTo>
                      <a:pt x="723" y="478"/>
                    </a:lnTo>
                    <a:lnTo>
                      <a:pt x="718" y="496"/>
                    </a:lnTo>
                    <a:lnTo>
                      <a:pt x="712" y="512"/>
                    </a:lnTo>
                    <a:lnTo>
                      <a:pt x="706" y="529"/>
                    </a:lnTo>
                    <a:lnTo>
                      <a:pt x="698" y="545"/>
                    </a:lnTo>
                    <a:lnTo>
                      <a:pt x="690" y="562"/>
                    </a:lnTo>
                    <a:lnTo>
                      <a:pt x="681" y="576"/>
                    </a:lnTo>
                    <a:lnTo>
                      <a:pt x="671" y="591"/>
                    </a:lnTo>
                    <a:lnTo>
                      <a:pt x="662" y="606"/>
                    </a:lnTo>
                    <a:lnTo>
                      <a:pt x="650" y="621"/>
                    </a:lnTo>
                    <a:lnTo>
                      <a:pt x="639" y="633"/>
                    </a:lnTo>
                    <a:lnTo>
                      <a:pt x="627" y="646"/>
                    </a:lnTo>
                    <a:lnTo>
                      <a:pt x="613" y="658"/>
                    </a:lnTo>
                    <a:lnTo>
                      <a:pt x="601" y="670"/>
                    </a:lnTo>
                    <a:lnTo>
                      <a:pt x="586" y="681"/>
                    </a:lnTo>
                    <a:lnTo>
                      <a:pt x="572" y="691"/>
                    </a:lnTo>
                    <a:lnTo>
                      <a:pt x="557" y="700"/>
                    </a:lnTo>
                    <a:lnTo>
                      <a:pt x="542" y="710"/>
                    </a:lnTo>
                    <a:lnTo>
                      <a:pt x="526" y="718"/>
                    </a:lnTo>
                    <a:lnTo>
                      <a:pt x="509" y="726"/>
                    </a:lnTo>
                    <a:lnTo>
                      <a:pt x="492" y="732"/>
                    </a:lnTo>
                    <a:lnTo>
                      <a:pt x="476" y="737"/>
                    </a:lnTo>
                    <a:lnTo>
                      <a:pt x="458" y="742"/>
                    </a:lnTo>
                    <a:lnTo>
                      <a:pt x="440" y="747"/>
                    </a:lnTo>
                    <a:lnTo>
                      <a:pt x="422" y="750"/>
                    </a:lnTo>
                    <a:lnTo>
                      <a:pt x="403" y="752"/>
                    </a:lnTo>
                    <a:lnTo>
                      <a:pt x="384" y="754"/>
                    </a:lnTo>
                    <a:lnTo>
                      <a:pt x="365" y="754"/>
                    </a:lnTo>
                    <a:lnTo>
                      <a:pt x="346" y="754"/>
                    </a:lnTo>
                    <a:lnTo>
                      <a:pt x="327" y="752"/>
                    </a:lnTo>
                    <a:lnTo>
                      <a:pt x="308" y="750"/>
                    </a:lnTo>
                    <a:lnTo>
                      <a:pt x="290" y="747"/>
                    </a:lnTo>
                    <a:lnTo>
                      <a:pt x="272" y="742"/>
                    </a:lnTo>
                    <a:lnTo>
                      <a:pt x="254" y="737"/>
                    </a:lnTo>
                    <a:lnTo>
                      <a:pt x="237" y="731"/>
                    </a:lnTo>
                    <a:lnTo>
                      <a:pt x="220" y="724"/>
                    </a:lnTo>
                    <a:lnTo>
                      <a:pt x="236" y="749"/>
                    </a:lnTo>
                    <a:lnTo>
                      <a:pt x="251" y="754"/>
                    </a:lnTo>
                    <a:lnTo>
                      <a:pt x="266" y="758"/>
                    </a:lnTo>
                    <a:lnTo>
                      <a:pt x="282" y="762"/>
                    </a:lnTo>
                    <a:lnTo>
                      <a:pt x="299" y="765"/>
                    </a:lnTo>
                    <a:lnTo>
                      <a:pt x="315" y="768"/>
                    </a:lnTo>
                    <a:lnTo>
                      <a:pt x="332" y="770"/>
                    </a:lnTo>
                    <a:lnTo>
                      <a:pt x="348" y="771"/>
                    </a:lnTo>
                    <a:lnTo>
                      <a:pt x="365" y="771"/>
                    </a:lnTo>
                    <a:lnTo>
                      <a:pt x="385" y="771"/>
                    </a:lnTo>
                    <a:lnTo>
                      <a:pt x="405" y="769"/>
                    </a:lnTo>
                    <a:lnTo>
                      <a:pt x="424" y="766"/>
                    </a:lnTo>
                    <a:lnTo>
                      <a:pt x="443" y="763"/>
                    </a:lnTo>
                    <a:lnTo>
                      <a:pt x="462" y="759"/>
                    </a:lnTo>
                    <a:lnTo>
                      <a:pt x="480" y="754"/>
                    </a:lnTo>
                    <a:lnTo>
                      <a:pt x="498" y="748"/>
                    </a:lnTo>
                    <a:lnTo>
                      <a:pt x="516" y="740"/>
                    </a:lnTo>
                    <a:lnTo>
                      <a:pt x="532" y="733"/>
                    </a:lnTo>
                    <a:lnTo>
                      <a:pt x="549" y="724"/>
                    </a:lnTo>
                    <a:lnTo>
                      <a:pt x="566" y="715"/>
                    </a:lnTo>
                    <a:lnTo>
                      <a:pt x="581" y="706"/>
                    </a:lnTo>
                    <a:lnTo>
                      <a:pt x="596" y="694"/>
                    </a:lnTo>
                    <a:lnTo>
                      <a:pt x="611" y="682"/>
                    </a:lnTo>
                    <a:lnTo>
                      <a:pt x="625" y="671"/>
                    </a:lnTo>
                    <a:lnTo>
                      <a:pt x="639" y="658"/>
                    </a:lnTo>
                    <a:lnTo>
                      <a:pt x="651" y="645"/>
                    </a:lnTo>
                    <a:lnTo>
                      <a:pt x="663" y="631"/>
                    </a:lnTo>
                    <a:lnTo>
                      <a:pt x="674" y="616"/>
                    </a:lnTo>
                    <a:lnTo>
                      <a:pt x="686" y="601"/>
                    </a:lnTo>
                    <a:lnTo>
                      <a:pt x="695" y="586"/>
                    </a:lnTo>
                    <a:lnTo>
                      <a:pt x="705" y="569"/>
                    </a:lnTo>
                    <a:lnTo>
                      <a:pt x="713" y="552"/>
                    </a:lnTo>
                    <a:lnTo>
                      <a:pt x="721" y="535"/>
                    </a:lnTo>
                    <a:lnTo>
                      <a:pt x="728" y="519"/>
                    </a:lnTo>
                    <a:lnTo>
                      <a:pt x="734" y="500"/>
                    </a:lnTo>
                    <a:lnTo>
                      <a:pt x="739" y="482"/>
                    </a:lnTo>
                    <a:lnTo>
                      <a:pt x="744" y="463"/>
                    </a:lnTo>
                    <a:lnTo>
                      <a:pt x="747" y="444"/>
                    </a:lnTo>
                    <a:lnTo>
                      <a:pt x="749" y="425"/>
                    </a:lnTo>
                    <a:lnTo>
                      <a:pt x="751" y="405"/>
                    </a:lnTo>
                    <a:lnTo>
                      <a:pt x="751" y="385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904000" y="2577960"/>
                <a:ext cx="233280" cy="239760"/>
              </a:xfrm>
              <a:custGeom>
                <a:avLst/>
                <a:gdLst/>
                <a:ahLst/>
                <a:rect l="l" t="t" r="r" b="b"/>
                <a:pathLst>
                  <a:path w="737" h="754">
                    <a:moveTo>
                      <a:pt x="737" y="377"/>
                    </a:moveTo>
                    <a:lnTo>
                      <a:pt x="737" y="358"/>
                    </a:lnTo>
                    <a:lnTo>
                      <a:pt x="734" y="340"/>
                    </a:lnTo>
                    <a:lnTo>
                      <a:pt x="732" y="321"/>
                    </a:lnTo>
                    <a:lnTo>
                      <a:pt x="729" y="302"/>
                    </a:lnTo>
                    <a:lnTo>
                      <a:pt x="725" y="284"/>
                    </a:lnTo>
                    <a:lnTo>
                      <a:pt x="720" y="266"/>
                    </a:lnTo>
                    <a:lnTo>
                      <a:pt x="713" y="248"/>
                    </a:lnTo>
                    <a:lnTo>
                      <a:pt x="707" y="231"/>
                    </a:lnTo>
                    <a:lnTo>
                      <a:pt x="700" y="215"/>
                    </a:lnTo>
                    <a:lnTo>
                      <a:pt x="691" y="198"/>
                    </a:lnTo>
                    <a:lnTo>
                      <a:pt x="682" y="182"/>
                    </a:lnTo>
                    <a:lnTo>
                      <a:pt x="672" y="167"/>
                    </a:lnTo>
                    <a:lnTo>
                      <a:pt x="662" y="153"/>
                    </a:lnTo>
                    <a:lnTo>
                      <a:pt x="650" y="138"/>
                    </a:lnTo>
                    <a:lnTo>
                      <a:pt x="639" y="124"/>
                    </a:lnTo>
                    <a:lnTo>
                      <a:pt x="626" y="112"/>
                    </a:lnTo>
                    <a:lnTo>
                      <a:pt x="614" y="99"/>
                    </a:lnTo>
                    <a:lnTo>
                      <a:pt x="600" y="86"/>
                    </a:lnTo>
                    <a:lnTo>
                      <a:pt x="585" y="76"/>
                    </a:lnTo>
                    <a:lnTo>
                      <a:pt x="571" y="65"/>
                    </a:lnTo>
                    <a:lnTo>
                      <a:pt x="555" y="55"/>
                    </a:lnTo>
                    <a:lnTo>
                      <a:pt x="539" y="47"/>
                    </a:lnTo>
                    <a:lnTo>
                      <a:pt x="523" y="38"/>
                    </a:lnTo>
                    <a:lnTo>
                      <a:pt x="506" y="31"/>
                    </a:lnTo>
                    <a:lnTo>
                      <a:pt x="490" y="23"/>
                    </a:lnTo>
                    <a:lnTo>
                      <a:pt x="472" y="18"/>
                    </a:lnTo>
                    <a:lnTo>
                      <a:pt x="454" y="13"/>
                    </a:lnTo>
                    <a:lnTo>
                      <a:pt x="436" y="9"/>
                    </a:lnTo>
                    <a:lnTo>
                      <a:pt x="417" y="6"/>
                    </a:lnTo>
                    <a:lnTo>
                      <a:pt x="398" y="2"/>
                    </a:lnTo>
                    <a:lnTo>
                      <a:pt x="379" y="1"/>
                    </a:lnTo>
                    <a:lnTo>
                      <a:pt x="359" y="0"/>
                    </a:lnTo>
                    <a:lnTo>
                      <a:pt x="343" y="1"/>
                    </a:lnTo>
                    <a:lnTo>
                      <a:pt x="329" y="2"/>
                    </a:lnTo>
                    <a:lnTo>
                      <a:pt x="313" y="4"/>
                    </a:lnTo>
                    <a:lnTo>
                      <a:pt x="297" y="6"/>
                    </a:lnTo>
                    <a:lnTo>
                      <a:pt x="283" y="9"/>
                    </a:lnTo>
                    <a:lnTo>
                      <a:pt x="268" y="12"/>
                    </a:lnTo>
                    <a:lnTo>
                      <a:pt x="253" y="16"/>
                    </a:lnTo>
                    <a:lnTo>
                      <a:pt x="239" y="20"/>
                    </a:lnTo>
                    <a:lnTo>
                      <a:pt x="225" y="26"/>
                    </a:lnTo>
                    <a:lnTo>
                      <a:pt x="211" y="31"/>
                    </a:lnTo>
                    <a:lnTo>
                      <a:pt x="197" y="37"/>
                    </a:lnTo>
                    <a:lnTo>
                      <a:pt x="185" y="43"/>
                    </a:lnTo>
                    <a:lnTo>
                      <a:pt x="171" y="51"/>
                    </a:lnTo>
                    <a:lnTo>
                      <a:pt x="158" y="59"/>
                    </a:lnTo>
                    <a:lnTo>
                      <a:pt x="147" y="67"/>
                    </a:lnTo>
                    <a:lnTo>
                      <a:pt x="134" y="75"/>
                    </a:lnTo>
                    <a:lnTo>
                      <a:pt x="123" y="84"/>
                    </a:lnTo>
                    <a:lnTo>
                      <a:pt x="112" y="94"/>
                    </a:lnTo>
                    <a:lnTo>
                      <a:pt x="101" y="103"/>
                    </a:lnTo>
                    <a:lnTo>
                      <a:pt x="90" y="114"/>
                    </a:lnTo>
                    <a:lnTo>
                      <a:pt x="81" y="124"/>
                    </a:lnTo>
                    <a:lnTo>
                      <a:pt x="70" y="136"/>
                    </a:lnTo>
                    <a:lnTo>
                      <a:pt x="62" y="147"/>
                    </a:lnTo>
                    <a:lnTo>
                      <a:pt x="52" y="159"/>
                    </a:lnTo>
                    <a:lnTo>
                      <a:pt x="44" y="170"/>
                    </a:lnTo>
                    <a:lnTo>
                      <a:pt x="37" y="183"/>
                    </a:lnTo>
                    <a:lnTo>
                      <a:pt x="29" y="196"/>
                    </a:lnTo>
                    <a:lnTo>
                      <a:pt x="22" y="209"/>
                    </a:lnTo>
                    <a:lnTo>
                      <a:pt x="16" y="222"/>
                    </a:lnTo>
                    <a:lnTo>
                      <a:pt x="10" y="236"/>
                    </a:lnTo>
                    <a:lnTo>
                      <a:pt x="5" y="250"/>
                    </a:lnTo>
                    <a:lnTo>
                      <a:pt x="0" y="264"/>
                    </a:lnTo>
                    <a:lnTo>
                      <a:pt x="11" y="285"/>
                    </a:lnTo>
                    <a:lnTo>
                      <a:pt x="16" y="271"/>
                    </a:lnTo>
                    <a:lnTo>
                      <a:pt x="20" y="257"/>
                    </a:lnTo>
                    <a:lnTo>
                      <a:pt x="25" y="243"/>
                    </a:lnTo>
                    <a:lnTo>
                      <a:pt x="31" y="229"/>
                    </a:lnTo>
                    <a:lnTo>
                      <a:pt x="38" y="217"/>
                    </a:lnTo>
                    <a:lnTo>
                      <a:pt x="44" y="203"/>
                    </a:lnTo>
                    <a:lnTo>
                      <a:pt x="51" y="190"/>
                    </a:lnTo>
                    <a:lnTo>
                      <a:pt x="60" y="179"/>
                    </a:lnTo>
                    <a:lnTo>
                      <a:pt x="67" y="166"/>
                    </a:lnTo>
                    <a:lnTo>
                      <a:pt x="76" y="155"/>
                    </a:lnTo>
                    <a:lnTo>
                      <a:pt x="86" y="144"/>
                    </a:lnTo>
                    <a:lnTo>
                      <a:pt x="95" y="133"/>
                    </a:lnTo>
                    <a:lnTo>
                      <a:pt x="105" y="122"/>
                    </a:lnTo>
                    <a:lnTo>
                      <a:pt x="115" y="113"/>
                    </a:lnTo>
                    <a:lnTo>
                      <a:pt x="127" y="103"/>
                    </a:lnTo>
                    <a:lnTo>
                      <a:pt x="139" y="94"/>
                    </a:lnTo>
                    <a:lnTo>
                      <a:pt x="150" y="85"/>
                    </a:lnTo>
                    <a:lnTo>
                      <a:pt x="162" y="77"/>
                    </a:lnTo>
                    <a:lnTo>
                      <a:pt x="174" y="69"/>
                    </a:lnTo>
                    <a:lnTo>
                      <a:pt x="187" y="61"/>
                    </a:lnTo>
                    <a:lnTo>
                      <a:pt x="199" y="55"/>
                    </a:lnTo>
                    <a:lnTo>
                      <a:pt x="213" y="49"/>
                    </a:lnTo>
                    <a:lnTo>
                      <a:pt x="227" y="43"/>
                    </a:lnTo>
                    <a:lnTo>
                      <a:pt x="240" y="38"/>
                    </a:lnTo>
                    <a:lnTo>
                      <a:pt x="254" y="33"/>
                    </a:lnTo>
                    <a:lnTo>
                      <a:pt x="269" y="29"/>
                    </a:lnTo>
                    <a:lnTo>
                      <a:pt x="284" y="26"/>
                    </a:lnTo>
                    <a:lnTo>
                      <a:pt x="298" y="22"/>
                    </a:lnTo>
                    <a:lnTo>
                      <a:pt x="313" y="20"/>
                    </a:lnTo>
                    <a:lnTo>
                      <a:pt x="329" y="19"/>
                    </a:lnTo>
                    <a:lnTo>
                      <a:pt x="345" y="18"/>
                    </a:lnTo>
                    <a:lnTo>
                      <a:pt x="359" y="17"/>
                    </a:lnTo>
                    <a:lnTo>
                      <a:pt x="378" y="18"/>
                    </a:lnTo>
                    <a:lnTo>
                      <a:pt x="396" y="19"/>
                    </a:lnTo>
                    <a:lnTo>
                      <a:pt x="415" y="21"/>
                    </a:lnTo>
                    <a:lnTo>
                      <a:pt x="432" y="25"/>
                    </a:lnTo>
                    <a:lnTo>
                      <a:pt x="450" y="29"/>
                    </a:lnTo>
                    <a:lnTo>
                      <a:pt x="466" y="34"/>
                    </a:lnTo>
                    <a:lnTo>
                      <a:pt x="483" y="39"/>
                    </a:lnTo>
                    <a:lnTo>
                      <a:pt x="500" y="46"/>
                    </a:lnTo>
                    <a:lnTo>
                      <a:pt x="516" y="53"/>
                    </a:lnTo>
                    <a:lnTo>
                      <a:pt x="532" y="61"/>
                    </a:lnTo>
                    <a:lnTo>
                      <a:pt x="546" y="70"/>
                    </a:lnTo>
                    <a:lnTo>
                      <a:pt x="561" y="79"/>
                    </a:lnTo>
                    <a:lnTo>
                      <a:pt x="575" y="90"/>
                    </a:lnTo>
                    <a:lnTo>
                      <a:pt x="588" y="100"/>
                    </a:lnTo>
                    <a:lnTo>
                      <a:pt x="602" y="112"/>
                    </a:lnTo>
                    <a:lnTo>
                      <a:pt x="615" y="123"/>
                    </a:lnTo>
                    <a:lnTo>
                      <a:pt x="626" y="136"/>
                    </a:lnTo>
                    <a:lnTo>
                      <a:pt x="638" y="148"/>
                    </a:lnTo>
                    <a:lnTo>
                      <a:pt x="648" y="162"/>
                    </a:lnTo>
                    <a:lnTo>
                      <a:pt x="659" y="177"/>
                    </a:lnTo>
                    <a:lnTo>
                      <a:pt x="668" y="191"/>
                    </a:lnTo>
                    <a:lnTo>
                      <a:pt x="677" y="206"/>
                    </a:lnTo>
                    <a:lnTo>
                      <a:pt x="684" y="222"/>
                    </a:lnTo>
                    <a:lnTo>
                      <a:pt x="691" y="238"/>
                    </a:lnTo>
                    <a:lnTo>
                      <a:pt x="698" y="253"/>
                    </a:lnTo>
                    <a:lnTo>
                      <a:pt x="704" y="270"/>
                    </a:lnTo>
                    <a:lnTo>
                      <a:pt x="708" y="288"/>
                    </a:lnTo>
                    <a:lnTo>
                      <a:pt x="712" y="305"/>
                    </a:lnTo>
                    <a:lnTo>
                      <a:pt x="716" y="323"/>
                    </a:lnTo>
                    <a:lnTo>
                      <a:pt x="719" y="341"/>
                    </a:lnTo>
                    <a:lnTo>
                      <a:pt x="720" y="359"/>
                    </a:lnTo>
                    <a:lnTo>
                      <a:pt x="720" y="377"/>
                    </a:lnTo>
                    <a:lnTo>
                      <a:pt x="720" y="396"/>
                    </a:lnTo>
                    <a:lnTo>
                      <a:pt x="719" y="414"/>
                    </a:lnTo>
                    <a:lnTo>
                      <a:pt x="716" y="433"/>
                    </a:lnTo>
                    <a:lnTo>
                      <a:pt x="712" y="450"/>
                    </a:lnTo>
                    <a:lnTo>
                      <a:pt x="708" y="468"/>
                    </a:lnTo>
                    <a:lnTo>
                      <a:pt x="704" y="484"/>
                    </a:lnTo>
                    <a:lnTo>
                      <a:pt x="698" y="501"/>
                    </a:lnTo>
                    <a:lnTo>
                      <a:pt x="691" y="518"/>
                    </a:lnTo>
                    <a:lnTo>
                      <a:pt x="684" y="534"/>
                    </a:lnTo>
                    <a:lnTo>
                      <a:pt x="677" y="550"/>
                    </a:lnTo>
                    <a:lnTo>
                      <a:pt x="668" y="564"/>
                    </a:lnTo>
                    <a:lnTo>
                      <a:pt x="659" y="579"/>
                    </a:lnTo>
                    <a:lnTo>
                      <a:pt x="648" y="594"/>
                    </a:lnTo>
                    <a:lnTo>
                      <a:pt x="638" y="606"/>
                    </a:lnTo>
                    <a:lnTo>
                      <a:pt x="626" y="620"/>
                    </a:lnTo>
                    <a:lnTo>
                      <a:pt x="615" y="632"/>
                    </a:lnTo>
                    <a:lnTo>
                      <a:pt x="602" y="644"/>
                    </a:lnTo>
                    <a:lnTo>
                      <a:pt x="588" y="656"/>
                    </a:lnTo>
                    <a:lnTo>
                      <a:pt x="575" y="666"/>
                    </a:lnTo>
                    <a:lnTo>
                      <a:pt x="561" y="677"/>
                    </a:lnTo>
                    <a:lnTo>
                      <a:pt x="546" y="686"/>
                    </a:lnTo>
                    <a:lnTo>
                      <a:pt x="532" y="694"/>
                    </a:lnTo>
                    <a:lnTo>
                      <a:pt x="516" y="702"/>
                    </a:lnTo>
                    <a:lnTo>
                      <a:pt x="500" y="709"/>
                    </a:lnTo>
                    <a:lnTo>
                      <a:pt x="483" y="715"/>
                    </a:lnTo>
                    <a:lnTo>
                      <a:pt x="466" y="722"/>
                    </a:lnTo>
                    <a:lnTo>
                      <a:pt x="450" y="726"/>
                    </a:lnTo>
                    <a:lnTo>
                      <a:pt x="432" y="730"/>
                    </a:lnTo>
                    <a:lnTo>
                      <a:pt x="415" y="733"/>
                    </a:lnTo>
                    <a:lnTo>
                      <a:pt x="396" y="735"/>
                    </a:lnTo>
                    <a:lnTo>
                      <a:pt x="378" y="737"/>
                    </a:lnTo>
                    <a:lnTo>
                      <a:pt x="359" y="737"/>
                    </a:lnTo>
                    <a:lnTo>
                      <a:pt x="339" y="737"/>
                    </a:lnTo>
                    <a:lnTo>
                      <a:pt x="319" y="735"/>
                    </a:lnTo>
                    <a:lnTo>
                      <a:pt x="299" y="733"/>
                    </a:lnTo>
                    <a:lnTo>
                      <a:pt x="280" y="729"/>
                    </a:lnTo>
                    <a:lnTo>
                      <a:pt x="261" y="724"/>
                    </a:lnTo>
                    <a:lnTo>
                      <a:pt x="243" y="719"/>
                    </a:lnTo>
                    <a:lnTo>
                      <a:pt x="225" y="711"/>
                    </a:lnTo>
                    <a:lnTo>
                      <a:pt x="207" y="704"/>
                    </a:lnTo>
                    <a:lnTo>
                      <a:pt x="211" y="711"/>
                    </a:lnTo>
                    <a:lnTo>
                      <a:pt x="222" y="729"/>
                    </a:lnTo>
                    <a:lnTo>
                      <a:pt x="238" y="734"/>
                    </a:lnTo>
                    <a:lnTo>
                      <a:pt x="254" y="740"/>
                    </a:lnTo>
                    <a:lnTo>
                      <a:pt x="271" y="744"/>
                    </a:lnTo>
                    <a:lnTo>
                      <a:pt x="289" y="748"/>
                    </a:lnTo>
                    <a:lnTo>
                      <a:pt x="306" y="751"/>
                    </a:lnTo>
                    <a:lnTo>
                      <a:pt x="324" y="753"/>
                    </a:lnTo>
                    <a:lnTo>
                      <a:pt x="341" y="754"/>
                    </a:lnTo>
                    <a:lnTo>
                      <a:pt x="359" y="754"/>
                    </a:lnTo>
                    <a:lnTo>
                      <a:pt x="379" y="754"/>
                    </a:lnTo>
                    <a:lnTo>
                      <a:pt x="398" y="752"/>
                    </a:lnTo>
                    <a:lnTo>
                      <a:pt x="417" y="750"/>
                    </a:lnTo>
                    <a:lnTo>
                      <a:pt x="436" y="747"/>
                    </a:lnTo>
                    <a:lnTo>
                      <a:pt x="454" y="743"/>
                    </a:lnTo>
                    <a:lnTo>
                      <a:pt x="472" y="737"/>
                    </a:lnTo>
                    <a:lnTo>
                      <a:pt x="490" y="731"/>
                    </a:lnTo>
                    <a:lnTo>
                      <a:pt x="506" y="725"/>
                    </a:lnTo>
                    <a:lnTo>
                      <a:pt x="523" y="718"/>
                    </a:lnTo>
                    <a:lnTo>
                      <a:pt x="539" y="709"/>
                    </a:lnTo>
                    <a:lnTo>
                      <a:pt x="555" y="700"/>
                    </a:lnTo>
                    <a:lnTo>
                      <a:pt x="571" y="690"/>
                    </a:lnTo>
                    <a:lnTo>
                      <a:pt x="585" y="680"/>
                    </a:lnTo>
                    <a:lnTo>
                      <a:pt x="600" y="668"/>
                    </a:lnTo>
                    <a:lnTo>
                      <a:pt x="614" y="657"/>
                    </a:lnTo>
                    <a:lnTo>
                      <a:pt x="626" y="644"/>
                    </a:lnTo>
                    <a:lnTo>
                      <a:pt x="639" y="631"/>
                    </a:lnTo>
                    <a:lnTo>
                      <a:pt x="650" y="618"/>
                    </a:lnTo>
                    <a:lnTo>
                      <a:pt x="662" y="603"/>
                    </a:lnTo>
                    <a:lnTo>
                      <a:pt x="672" y="588"/>
                    </a:lnTo>
                    <a:lnTo>
                      <a:pt x="682" y="574"/>
                    </a:lnTo>
                    <a:lnTo>
                      <a:pt x="691" y="557"/>
                    </a:lnTo>
                    <a:lnTo>
                      <a:pt x="700" y="541"/>
                    </a:lnTo>
                    <a:lnTo>
                      <a:pt x="707" y="524"/>
                    </a:lnTo>
                    <a:lnTo>
                      <a:pt x="713" y="508"/>
                    </a:lnTo>
                    <a:lnTo>
                      <a:pt x="720" y="490"/>
                    </a:lnTo>
                    <a:lnTo>
                      <a:pt x="725" y="472"/>
                    </a:lnTo>
                    <a:lnTo>
                      <a:pt x="729" y="454"/>
                    </a:lnTo>
                    <a:lnTo>
                      <a:pt x="732" y="435"/>
                    </a:lnTo>
                    <a:lnTo>
                      <a:pt x="734" y="416"/>
                    </a:lnTo>
                    <a:lnTo>
                      <a:pt x="737" y="397"/>
                    </a:lnTo>
                    <a:lnTo>
                      <a:pt x="737" y="377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05440" y="2581200"/>
                <a:ext cx="228600" cy="233280"/>
              </a:xfrm>
              <a:custGeom>
                <a:avLst/>
                <a:gdLst/>
                <a:ahLst/>
                <a:rect l="l" t="t" r="r" b="b"/>
                <a:pathLst>
                  <a:path w="723" h="737">
                    <a:moveTo>
                      <a:pt x="723" y="368"/>
                    </a:moveTo>
                    <a:lnTo>
                      <a:pt x="723" y="349"/>
                    </a:lnTo>
                    <a:lnTo>
                      <a:pt x="721" y="331"/>
                    </a:lnTo>
                    <a:lnTo>
                      <a:pt x="719" y="313"/>
                    </a:lnTo>
                    <a:lnTo>
                      <a:pt x="716" y="295"/>
                    </a:lnTo>
                    <a:lnTo>
                      <a:pt x="712" y="277"/>
                    </a:lnTo>
                    <a:lnTo>
                      <a:pt x="707" y="259"/>
                    </a:lnTo>
                    <a:lnTo>
                      <a:pt x="701" y="242"/>
                    </a:lnTo>
                    <a:lnTo>
                      <a:pt x="695" y="226"/>
                    </a:lnTo>
                    <a:lnTo>
                      <a:pt x="687" y="209"/>
                    </a:lnTo>
                    <a:lnTo>
                      <a:pt x="679" y="193"/>
                    </a:lnTo>
                    <a:lnTo>
                      <a:pt x="670" y="177"/>
                    </a:lnTo>
                    <a:lnTo>
                      <a:pt x="660" y="163"/>
                    </a:lnTo>
                    <a:lnTo>
                      <a:pt x="651" y="148"/>
                    </a:lnTo>
                    <a:lnTo>
                      <a:pt x="639" y="134"/>
                    </a:lnTo>
                    <a:lnTo>
                      <a:pt x="628" y="121"/>
                    </a:lnTo>
                    <a:lnTo>
                      <a:pt x="616" y="108"/>
                    </a:lnTo>
                    <a:lnTo>
                      <a:pt x="602" y="96"/>
                    </a:lnTo>
                    <a:lnTo>
                      <a:pt x="590" y="85"/>
                    </a:lnTo>
                    <a:lnTo>
                      <a:pt x="575" y="73"/>
                    </a:lnTo>
                    <a:lnTo>
                      <a:pt x="561" y="63"/>
                    </a:lnTo>
                    <a:lnTo>
                      <a:pt x="546" y="53"/>
                    </a:lnTo>
                    <a:lnTo>
                      <a:pt x="531" y="45"/>
                    </a:lnTo>
                    <a:lnTo>
                      <a:pt x="515" y="37"/>
                    </a:lnTo>
                    <a:lnTo>
                      <a:pt x="498" y="29"/>
                    </a:lnTo>
                    <a:lnTo>
                      <a:pt x="481" y="23"/>
                    </a:lnTo>
                    <a:lnTo>
                      <a:pt x="465" y="17"/>
                    </a:lnTo>
                    <a:lnTo>
                      <a:pt x="447" y="11"/>
                    </a:lnTo>
                    <a:lnTo>
                      <a:pt x="429" y="8"/>
                    </a:lnTo>
                    <a:lnTo>
                      <a:pt x="411" y="4"/>
                    </a:lnTo>
                    <a:lnTo>
                      <a:pt x="392" y="2"/>
                    </a:lnTo>
                    <a:lnTo>
                      <a:pt x="373" y="1"/>
                    </a:lnTo>
                    <a:lnTo>
                      <a:pt x="354" y="0"/>
                    </a:lnTo>
                    <a:lnTo>
                      <a:pt x="338" y="1"/>
                    </a:lnTo>
                    <a:lnTo>
                      <a:pt x="324" y="2"/>
                    </a:lnTo>
                    <a:lnTo>
                      <a:pt x="308" y="3"/>
                    </a:lnTo>
                    <a:lnTo>
                      <a:pt x="293" y="5"/>
                    </a:lnTo>
                    <a:lnTo>
                      <a:pt x="279" y="8"/>
                    </a:lnTo>
                    <a:lnTo>
                      <a:pt x="264" y="11"/>
                    </a:lnTo>
                    <a:lnTo>
                      <a:pt x="249" y="16"/>
                    </a:lnTo>
                    <a:lnTo>
                      <a:pt x="234" y="20"/>
                    </a:lnTo>
                    <a:lnTo>
                      <a:pt x="221" y="25"/>
                    </a:lnTo>
                    <a:lnTo>
                      <a:pt x="207" y="31"/>
                    </a:lnTo>
                    <a:lnTo>
                      <a:pt x="193" y="38"/>
                    </a:lnTo>
                    <a:lnTo>
                      <a:pt x="181" y="44"/>
                    </a:lnTo>
                    <a:lnTo>
                      <a:pt x="168" y="51"/>
                    </a:lnTo>
                    <a:lnTo>
                      <a:pt x="156" y="59"/>
                    </a:lnTo>
                    <a:lnTo>
                      <a:pt x="143" y="67"/>
                    </a:lnTo>
                    <a:lnTo>
                      <a:pt x="131" y="75"/>
                    </a:lnTo>
                    <a:lnTo>
                      <a:pt x="120" y="85"/>
                    </a:lnTo>
                    <a:lnTo>
                      <a:pt x="108" y="94"/>
                    </a:lnTo>
                    <a:lnTo>
                      <a:pt x="98" y="104"/>
                    </a:lnTo>
                    <a:lnTo>
                      <a:pt x="87" y="114"/>
                    </a:lnTo>
                    <a:lnTo>
                      <a:pt x="78" y="125"/>
                    </a:lnTo>
                    <a:lnTo>
                      <a:pt x="68" y="136"/>
                    </a:lnTo>
                    <a:lnTo>
                      <a:pt x="60" y="148"/>
                    </a:lnTo>
                    <a:lnTo>
                      <a:pt x="50" y="159"/>
                    </a:lnTo>
                    <a:lnTo>
                      <a:pt x="43" y="172"/>
                    </a:lnTo>
                    <a:lnTo>
                      <a:pt x="35" y="185"/>
                    </a:lnTo>
                    <a:lnTo>
                      <a:pt x="28" y="197"/>
                    </a:lnTo>
                    <a:lnTo>
                      <a:pt x="21" y="210"/>
                    </a:lnTo>
                    <a:lnTo>
                      <a:pt x="16" y="223"/>
                    </a:lnTo>
                    <a:lnTo>
                      <a:pt x="9" y="237"/>
                    </a:lnTo>
                    <a:lnTo>
                      <a:pt x="5" y="252"/>
                    </a:lnTo>
                    <a:lnTo>
                      <a:pt x="0" y="265"/>
                    </a:lnTo>
                    <a:lnTo>
                      <a:pt x="7" y="279"/>
                    </a:lnTo>
                    <a:lnTo>
                      <a:pt x="12" y="287"/>
                    </a:lnTo>
                    <a:lnTo>
                      <a:pt x="16" y="274"/>
                    </a:lnTo>
                    <a:lnTo>
                      <a:pt x="20" y="259"/>
                    </a:lnTo>
                    <a:lnTo>
                      <a:pt x="25" y="245"/>
                    </a:lnTo>
                    <a:lnTo>
                      <a:pt x="30" y="232"/>
                    </a:lnTo>
                    <a:lnTo>
                      <a:pt x="36" y="218"/>
                    </a:lnTo>
                    <a:lnTo>
                      <a:pt x="43" y="206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65" y="168"/>
                    </a:lnTo>
                    <a:lnTo>
                      <a:pt x="74" y="156"/>
                    </a:lnTo>
                    <a:lnTo>
                      <a:pt x="83" y="145"/>
                    </a:lnTo>
                    <a:lnTo>
                      <a:pt x="93" y="134"/>
                    </a:lnTo>
                    <a:lnTo>
                      <a:pt x="102" y="124"/>
                    </a:lnTo>
                    <a:lnTo>
                      <a:pt x="112" y="113"/>
                    </a:lnTo>
                    <a:lnTo>
                      <a:pt x="123" y="104"/>
                    </a:lnTo>
                    <a:lnTo>
                      <a:pt x="135" y="94"/>
                    </a:lnTo>
                    <a:lnTo>
                      <a:pt x="146" y="86"/>
                    </a:lnTo>
                    <a:lnTo>
                      <a:pt x="158" y="77"/>
                    </a:lnTo>
                    <a:lnTo>
                      <a:pt x="170" y="69"/>
                    </a:lnTo>
                    <a:lnTo>
                      <a:pt x="183" y="62"/>
                    </a:lnTo>
                    <a:lnTo>
                      <a:pt x="196" y="55"/>
                    </a:lnTo>
                    <a:lnTo>
                      <a:pt x="208" y="48"/>
                    </a:lnTo>
                    <a:lnTo>
                      <a:pt x="222" y="43"/>
                    </a:lnTo>
                    <a:lnTo>
                      <a:pt x="235" y="38"/>
                    </a:lnTo>
                    <a:lnTo>
                      <a:pt x="250" y="32"/>
                    </a:lnTo>
                    <a:lnTo>
                      <a:pt x="264" y="29"/>
                    </a:lnTo>
                    <a:lnTo>
                      <a:pt x="279" y="25"/>
                    </a:lnTo>
                    <a:lnTo>
                      <a:pt x="293" y="22"/>
                    </a:lnTo>
                    <a:lnTo>
                      <a:pt x="308" y="20"/>
                    </a:lnTo>
                    <a:lnTo>
                      <a:pt x="324" y="19"/>
                    </a:lnTo>
                    <a:lnTo>
                      <a:pt x="340" y="18"/>
                    </a:lnTo>
                    <a:lnTo>
                      <a:pt x="354" y="17"/>
                    </a:lnTo>
                    <a:lnTo>
                      <a:pt x="373" y="18"/>
                    </a:lnTo>
                    <a:lnTo>
                      <a:pt x="391" y="19"/>
                    </a:lnTo>
                    <a:lnTo>
                      <a:pt x="408" y="21"/>
                    </a:lnTo>
                    <a:lnTo>
                      <a:pt x="426" y="24"/>
                    </a:lnTo>
                    <a:lnTo>
                      <a:pt x="443" y="28"/>
                    </a:lnTo>
                    <a:lnTo>
                      <a:pt x="459" y="33"/>
                    </a:lnTo>
                    <a:lnTo>
                      <a:pt x="475" y="39"/>
                    </a:lnTo>
                    <a:lnTo>
                      <a:pt x="492" y="45"/>
                    </a:lnTo>
                    <a:lnTo>
                      <a:pt x="508" y="51"/>
                    </a:lnTo>
                    <a:lnTo>
                      <a:pt x="522" y="60"/>
                    </a:lnTo>
                    <a:lnTo>
                      <a:pt x="537" y="68"/>
                    </a:lnTo>
                    <a:lnTo>
                      <a:pt x="552" y="77"/>
                    </a:lnTo>
                    <a:lnTo>
                      <a:pt x="566" y="87"/>
                    </a:lnTo>
                    <a:lnTo>
                      <a:pt x="578" y="97"/>
                    </a:lnTo>
                    <a:lnTo>
                      <a:pt x="592" y="108"/>
                    </a:lnTo>
                    <a:lnTo>
                      <a:pt x="603" y="119"/>
                    </a:lnTo>
                    <a:lnTo>
                      <a:pt x="615" y="132"/>
                    </a:lnTo>
                    <a:lnTo>
                      <a:pt x="626" y="145"/>
                    </a:lnTo>
                    <a:lnTo>
                      <a:pt x="637" y="158"/>
                    </a:lnTo>
                    <a:lnTo>
                      <a:pt x="646" y="172"/>
                    </a:lnTo>
                    <a:lnTo>
                      <a:pt x="656" y="187"/>
                    </a:lnTo>
                    <a:lnTo>
                      <a:pt x="664" y="201"/>
                    </a:lnTo>
                    <a:lnTo>
                      <a:pt x="672" y="216"/>
                    </a:lnTo>
                    <a:lnTo>
                      <a:pt x="679" y="232"/>
                    </a:lnTo>
                    <a:lnTo>
                      <a:pt x="685" y="248"/>
                    </a:lnTo>
                    <a:lnTo>
                      <a:pt x="691" y="264"/>
                    </a:lnTo>
                    <a:lnTo>
                      <a:pt x="696" y="281"/>
                    </a:lnTo>
                    <a:lnTo>
                      <a:pt x="700" y="298"/>
                    </a:lnTo>
                    <a:lnTo>
                      <a:pt x="702" y="315"/>
                    </a:lnTo>
                    <a:lnTo>
                      <a:pt x="705" y="333"/>
                    </a:lnTo>
                    <a:lnTo>
                      <a:pt x="706" y="350"/>
                    </a:lnTo>
                    <a:lnTo>
                      <a:pt x="706" y="368"/>
                    </a:lnTo>
                    <a:lnTo>
                      <a:pt x="706" y="387"/>
                    </a:lnTo>
                    <a:lnTo>
                      <a:pt x="705" y="405"/>
                    </a:lnTo>
                    <a:lnTo>
                      <a:pt x="702" y="422"/>
                    </a:lnTo>
                    <a:lnTo>
                      <a:pt x="700" y="440"/>
                    </a:lnTo>
                    <a:lnTo>
                      <a:pt x="696" y="457"/>
                    </a:lnTo>
                    <a:lnTo>
                      <a:pt x="691" y="473"/>
                    </a:lnTo>
                    <a:lnTo>
                      <a:pt x="685" y="490"/>
                    </a:lnTo>
                    <a:lnTo>
                      <a:pt x="679" y="506"/>
                    </a:lnTo>
                    <a:lnTo>
                      <a:pt x="672" y="522"/>
                    </a:lnTo>
                    <a:lnTo>
                      <a:pt x="664" y="536"/>
                    </a:lnTo>
                    <a:lnTo>
                      <a:pt x="656" y="551"/>
                    </a:lnTo>
                    <a:lnTo>
                      <a:pt x="646" y="566"/>
                    </a:lnTo>
                    <a:lnTo>
                      <a:pt x="637" y="579"/>
                    </a:lnTo>
                    <a:lnTo>
                      <a:pt x="626" y="592"/>
                    </a:lnTo>
                    <a:lnTo>
                      <a:pt x="615" y="606"/>
                    </a:lnTo>
                    <a:lnTo>
                      <a:pt x="603" y="617"/>
                    </a:lnTo>
                    <a:lnTo>
                      <a:pt x="592" y="629"/>
                    </a:lnTo>
                    <a:lnTo>
                      <a:pt x="578" y="640"/>
                    </a:lnTo>
                    <a:lnTo>
                      <a:pt x="566" y="651"/>
                    </a:lnTo>
                    <a:lnTo>
                      <a:pt x="552" y="660"/>
                    </a:lnTo>
                    <a:lnTo>
                      <a:pt x="537" y="670"/>
                    </a:lnTo>
                    <a:lnTo>
                      <a:pt x="522" y="678"/>
                    </a:lnTo>
                    <a:lnTo>
                      <a:pt x="508" y="685"/>
                    </a:lnTo>
                    <a:lnTo>
                      <a:pt x="492" y="693"/>
                    </a:lnTo>
                    <a:lnTo>
                      <a:pt x="475" y="699"/>
                    </a:lnTo>
                    <a:lnTo>
                      <a:pt x="459" y="704"/>
                    </a:lnTo>
                    <a:lnTo>
                      <a:pt x="443" y="710"/>
                    </a:lnTo>
                    <a:lnTo>
                      <a:pt x="426" y="713"/>
                    </a:lnTo>
                    <a:lnTo>
                      <a:pt x="408" y="716"/>
                    </a:lnTo>
                    <a:lnTo>
                      <a:pt x="391" y="719"/>
                    </a:lnTo>
                    <a:lnTo>
                      <a:pt x="373" y="720"/>
                    </a:lnTo>
                    <a:lnTo>
                      <a:pt x="354" y="720"/>
                    </a:lnTo>
                    <a:lnTo>
                      <a:pt x="333" y="720"/>
                    </a:lnTo>
                    <a:lnTo>
                      <a:pt x="312" y="718"/>
                    </a:lnTo>
                    <a:lnTo>
                      <a:pt x="292" y="715"/>
                    </a:lnTo>
                    <a:lnTo>
                      <a:pt x="271" y="711"/>
                    </a:lnTo>
                    <a:lnTo>
                      <a:pt x="252" y="705"/>
                    </a:lnTo>
                    <a:lnTo>
                      <a:pt x="232" y="699"/>
                    </a:lnTo>
                    <a:lnTo>
                      <a:pt x="213" y="692"/>
                    </a:lnTo>
                    <a:lnTo>
                      <a:pt x="196" y="682"/>
                    </a:lnTo>
                    <a:lnTo>
                      <a:pt x="206" y="702"/>
                    </a:lnTo>
                    <a:lnTo>
                      <a:pt x="209" y="707"/>
                    </a:lnTo>
                    <a:lnTo>
                      <a:pt x="226" y="714"/>
                    </a:lnTo>
                    <a:lnTo>
                      <a:pt x="243" y="720"/>
                    </a:lnTo>
                    <a:lnTo>
                      <a:pt x="261" y="725"/>
                    </a:lnTo>
                    <a:lnTo>
                      <a:pt x="279" y="730"/>
                    </a:lnTo>
                    <a:lnTo>
                      <a:pt x="297" y="733"/>
                    </a:lnTo>
                    <a:lnTo>
                      <a:pt x="316" y="735"/>
                    </a:lnTo>
                    <a:lnTo>
                      <a:pt x="335" y="737"/>
                    </a:lnTo>
                    <a:lnTo>
                      <a:pt x="354" y="737"/>
                    </a:lnTo>
                    <a:lnTo>
                      <a:pt x="373" y="737"/>
                    </a:lnTo>
                    <a:lnTo>
                      <a:pt x="392" y="735"/>
                    </a:lnTo>
                    <a:lnTo>
                      <a:pt x="411" y="733"/>
                    </a:lnTo>
                    <a:lnTo>
                      <a:pt x="429" y="730"/>
                    </a:lnTo>
                    <a:lnTo>
                      <a:pt x="447" y="725"/>
                    </a:lnTo>
                    <a:lnTo>
                      <a:pt x="465" y="720"/>
                    </a:lnTo>
                    <a:lnTo>
                      <a:pt x="481" y="715"/>
                    </a:lnTo>
                    <a:lnTo>
                      <a:pt x="498" y="709"/>
                    </a:lnTo>
                    <a:lnTo>
                      <a:pt x="515" y="701"/>
                    </a:lnTo>
                    <a:lnTo>
                      <a:pt x="531" y="693"/>
                    </a:lnTo>
                    <a:lnTo>
                      <a:pt x="546" y="683"/>
                    </a:lnTo>
                    <a:lnTo>
                      <a:pt x="561" y="674"/>
                    </a:lnTo>
                    <a:lnTo>
                      <a:pt x="575" y="664"/>
                    </a:lnTo>
                    <a:lnTo>
                      <a:pt x="590" y="653"/>
                    </a:lnTo>
                    <a:lnTo>
                      <a:pt x="602" y="641"/>
                    </a:lnTo>
                    <a:lnTo>
                      <a:pt x="616" y="629"/>
                    </a:lnTo>
                    <a:lnTo>
                      <a:pt x="628" y="616"/>
                    </a:lnTo>
                    <a:lnTo>
                      <a:pt x="639" y="604"/>
                    </a:lnTo>
                    <a:lnTo>
                      <a:pt x="651" y="589"/>
                    </a:lnTo>
                    <a:lnTo>
                      <a:pt x="660" y="574"/>
                    </a:lnTo>
                    <a:lnTo>
                      <a:pt x="670" y="559"/>
                    </a:lnTo>
                    <a:lnTo>
                      <a:pt x="679" y="545"/>
                    </a:lnTo>
                    <a:lnTo>
                      <a:pt x="687" y="528"/>
                    </a:lnTo>
                    <a:lnTo>
                      <a:pt x="695" y="512"/>
                    </a:lnTo>
                    <a:lnTo>
                      <a:pt x="701" y="495"/>
                    </a:lnTo>
                    <a:lnTo>
                      <a:pt x="707" y="479"/>
                    </a:lnTo>
                    <a:lnTo>
                      <a:pt x="712" y="461"/>
                    </a:lnTo>
                    <a:lnTo>
                      <a:pt x="716" y="443"/>
                    </a:lnTo>
                    <a:lnTo>
                      <a:pt x="719" y="425"/>
                    </a:lnTo>
                    <a:lnTo>
                      <a:pt x="721" y="406"/>
                    </a:lnTo>
                    <a:lnTo>
                      <a:pt x="723" y="387"/>
                    </a:lnTo>
                    <a:lnTo>
                      <a:pt x="723" y="368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907240" y="2583000"/>
                <a:ext cx="225360" cy="228600"/>
              </a:xfrm>
              <a:custGeom>
                <a:avLst/>
                <a:gdLst/>
                <a:ahLst/>
                <a:rect l="l" t="t" r="r" b="b"/>
                <a:pathLst>
                  <a:path w="709" h="720">
                    <a:moveTo>
                      <a:pt x="709" y="360"/>
                    </a:moveTo>
                    <a:lnTo>
                      <a:pt x="709" y="342"/>
                    </a:lnTo>
                    <a:lnTo>
                      <a:pt x="708" y="324"/>
                    </a:lnTo>
                    <a:lnTo>
                      <a:pt x="705" y="306"/>
                    </a:lnTo>
                    <a:lnTo>
                      <a:pt x="701" y="288"/>
                    </a:lnTo>
                    <a:lnTo>
                      <a:pt x="697" y="271"/>
                    </a:lnTo>
                    <a:lnTo>
                      <a:pt x="693" y="253"/>
                    </a:lnTo>
                    <a:lnTo>
                      <a:pt x="687" y="236"/>
                    </a:lnTo>
                    <a:lnTo>
                      <a:pt x="680" y="221"/>
                    </a:lnTo>
                    <a:lnTo>
                      <a:pt x="673" y="205"/>
                    </a:lnTo>
                    <a:lnTo>
                      <a:pt x="666" y="189"/>
                    </a:lnTo>
                    <a:lnTo>
                      <a:pt x="657" y="174"/>
                    </a:lnTo>
                    <a:lnTo>
                      <a:pt x="648" y="160"/>
                    </a:lnTo>
                    <a:lnTo>
                      <a:pt x="637" y="145"/>
                    </a:lnTo>
                    <a:lnTo>
                      <a:pt x="627" y="131"/>
                    </a:lnTo>
                    <a:lnTo>
                      <a:pt x="615" y="119"/>
                    </a:lnTo>
                    <a:lnTo>
                      <a:pt x="604" y="106"/>
                    </a:lnTo>
                    <a:lnTo>
                      <a:pt x="591" y="95"/>
                    </a:lnTo>
                    <a:lnTo>
                      <a:pt x="577" y="83"/>
                    </a:lnTo>
                    <a:lnTo>
                      <a:pt x="564" y="73"/>
                    </a:lnTo>
                    <a:lnTo>
                      <a:pt x="550" y="62"/>
                    </a:lnTo>
                    <a:lnTo>
                      <a:pt x="535" y="53"/>
                    </a:lnTo>
                    <a:lnTo>
                      <a:pt x="521" y="44"/>
                    </a:lnTo>
                    <a:lnTo>
                      <a:pt x="505" y="36"/>
                    </a:lnTo>
                    <a:lnTo>
                      <a:pt x="489" y="29"/>
                    </a:lnTo>
                    <a:lnTo>
                      <a:pt x="472" y="22"/>
                    </a:lnTo>
                    <a:lnTo>
                      <a:pt x="455" y="17"/>
                    </a:lnTo>
                    <a:lnTo>
                      <a:pt x="439" y="12"/>
                    </a:lnTo>
                    <a:lnTo>
                      <a:pt x="421" y="8"/>
                    </a:lnTo>
                    <a:lnTo>
                      <a:pt x="404" y="4"/>
                    </a:lnTo>
                    <a:lnTo>
                      <a:pt x="385" y="2"/>
                    </a:lnTo>
                    <a:lnTo>
                      <a:pt x="367" y="1"/>
                    </a:lnTo>
                    <a:lnTo>
                      <a:pt x="348" y="0"/>
                    </a:lnTo>
                    <a:lnTo>
                      <a:pt x="334" y="1"/>
                    </a:lnTo>
                    <a:lnTo>
                      <a:pt x="318" y="2"/>
                    </a:lnTo>
                    <a:lnTo>
                      <a:pt x="302" y="3"/>
                    </a:lnTo>
                    <a:lnTo>
                      <a:pt x="287" y="5"/>
                    </a:lnTo>
                    <a:lnTo>
                      <a:pt x="273" y="9"/>
                    </a:lnTo>
                    <a:lnTo>
                      <a:pt x="258" y="12"/>
                    </a:lnTo>
                    <a:lnTo>
                      <a:pt x="243" y="16"/>
                    </a:lnTo>
                    <a:lnTo>
                      <a:pt x="229" y="21"/>
                    </a:lnTo>
                    <a:lnTo>
                      <a:pt x="216" y="26"/>
                    </a:lnTo>
                    <a:lnTo>
                      <a:pt x="202" y="32"/>
                    </a:lnTo>
                    <a:lnTo>
                      <a:pt x="188" y="38"/>
                    </a:lnTo>
                    <a:lnTo>
                      <a:pt x="176" y="44"/>
                    </a:lnTo>
                    <a:lnTo>
                      <a:pt x="163" y="52"/>
                    </a:lnTo>
                    <a:lnTo>
                      <a:pt x="151" y="60"/>
                    </a:lnTo>
                    <a:lnTo>
                      <a:pt x="139" y="68"/>
                    </a:lnTo>
                    <a:lnTo>
                      <a:pt x="128" y="77"/>
                    </a:lnTo>
                    <a:lnTo>
                      <a:pt x="116" y="86"/>
                    </a:lnTo>
                    <a:lnTo>
                      <a:pt x="104" y="96"/>
                    </a:lnTo>
                    <a:lnTo>
                      <a:pt x="94" y="105"/>
                    </a:lnTo>
                    <a:lnTo>
                      <a:pt x="84" y="116"/>
                    </a:lnTo>
                    <a:lnTo>
                      <a:pt x="75" y="127"/>
                    </a:lnTo>
                    <a:lnTo>
                      <a:pt x="65" y="138"/>
                    </a:lnTo>
                    <a:lnTo>
                      <a:pt x="56" y="149"/>
                    </a:lnTo>
                    <a:lnTo>
                      <a:pt x="49" y="162"/>
                    </a:lnTo>
                    <a:lnTo>
                      <a:pt x="40" y="173"/>
                    </a:lnTo>
                    <a:lnTo>
                      <a:pt x="33" y="186"/>
                    </a:lnTo>
                    <a:lnTo>
                      <a:pt x="27" y="200"/>
                    </a:lnTo>
                    <a:lnTo>
                      <a:pt x="20" y="212"/>
                    </a:lnTo>
                    <a:lnTo>
                      <a:pt x="14" y="226"/>
                    </a:lnTo>
                    <a:lnTo>
                      <a:pt x="9" y="240"/>
                    </a:lnTo>
                    <a:lnTo>
                      <a:pt x="5" y="254"/>
                    </a:lnTo>
                    <a:lnTo>
                      <a:pt x="0" y="268"/>
                    </a:lnTo>
                    <a:lnTo>
                      <a:pt x="1" y="271"/>
                    </a:lnTo>
                    <a:lnTo>
                      <a:pt x="12" y="292"/>
                    </a:lnTo>
                    <a:lnTo>
                      <a:pt x="15" y="277"/>
                    </a:lnTo>
                    <a:lnTo>
                      <a:pt x="19" y="263"/>
                    </a:lnTo>
                    <a:lnTo>
                      <a:pt x="23" y="249"/>
                    </a:lnTo>
                    <a:lnTo>
                      <a:pt x="29" y="235"/>
                    </a:lnTo>
                    <a:lnTo>
                      <a:pt x="34" y="222"/>
                    </a:lnTo>
                    <a:lnTo>
                      <a:pt x="40" y="208"/>
                    </a:lnTo>
                    <a:lnTo>
                      <a:pt x="48" y="195"/>
                    </a:lnTo>
                    <a:lnTo>
                      <a:pt x="55" y="183"/>
                    </a:lnTo>
                    <a:lnTo>
                      <a:pt x="62" y="170"/>
                    </a:lnTo>
                    <a:lnTo>
                      <a:pt x="71" y="159"/>
                    </a:lnTo>
                    <a:lnTo>
                      <a:pt x="79" y="147"/>
                    </a:lnTo>
                    <a:lnTo>
                      <a:pt x="89" y="137"/>
                    </a:lnTo>
                    <a:lnTo>
                      <a:pt x="98" y="125"/>
                    </a:lnTo>
                    <a:lnTo>
                      <a:pt x="109" y="116"/>
                    </a:lnTo>
                    <a:lnTo>
                      <a:pt x="119" y="105"/>
                    </a:lnTo>
                    <a:lnTo>
                      <a:pt x="130" y="96"/>
                    </a:lnTo>
                    <a:lnTo>
                      <a:pt x="141" y="87"/>
                    </a:lnTo>
                    <a:lnTo>
                      <a:pt x="153" y="79"/>
                    </a:lnTo>
                    <a:lnTo>
                      <a:pt x="165" y="71"/>
                    </a:lnTo>
                    <a:lnTo>
                      <a:pt x="178" y="63"/>
                    </a:lnTo>
                    <a:lnTo>
                      <a:pt x="191" y="56"/>
                    </a:lnTo>
                    <a:lnTo>
                      <a:pt x="203" y="50"/>
                    </a:lnTo>
                    <a:lnTo>
                      <a:pt x="217" y="43"/>
                    </a:lnTo>
                    <a:lnTo>
                      <a:pt x="231" y="38"/>
                    </a:lnTo>
                    <a:lnTo>
                      <a:pt x="244" y="34"/>
                    </a:lnTo>
                    <a:lnTo>
                      <a:pt x="259" y="30"/>
                    </a:lnTo>
                    <a:lnTo>
                      <a:pt x="273" y="25"/>
                    </a:lnTo>
                    <a:lnTo>
                      <a:pt x="287" y="22"/>
                    </a:lnTo>
                    <a:lnTo>
                      <a:pt x="303" y="20"/>
                    </a:lnTo>
                    <a:lnTo>
                      <a:pt x="318" y="19"/>
                    </a:lnTo>
                    <a:lnTo>
                      <a:pt x="334" y="18"/>
                    </a:lnTo>
                    <a:lnTo>
                      <a:pt x="348" y="17"/>
                    </a:lnTo>
                    <a:lnTo>
                      <a:pt x="366" y="18"/>
                    </a:lnTo>
                    <a:lnTo>
                      <a:pt x="384" y="19"/>
                    </a:lnTo>
                    <a:lnTo>
                      <a:pt x="401" y="21"/>
                    </a:lnTo>
                    <a:lnTo>
                      <a:pt x="418" y="24"/>
                    </a:lnTo>
                    <a:lnTo>
                      <a:pt x="434" y="29"/>
                    </a:lnTo>
                    <a:lnTo>
                      <a:pt x="451" y="33"/>
                    </a:lnTo>
                    <a:lnTo>
                      <a:pt x="467" y="38"/>
                    </a:lnTo>
                    <a:lnTo>
                      <a:pt x="483" y="44"/>
                    </a:lnTo>
                    <a:lnTo>
                      <a:pt x="498" y="52"/>
                    </a:lnTo>
                    <a:lnTo>
                      <a:pt x="512" y="59"/>
                    </a:lnTo>
                    <a:lnTo>
                      <a:pt x="527" y="67"/>
                    </a:lnTo>
                    <a:lnTo>
                      <a:pt x="541" y="76"/>
                    </a:lnTo>
                    <a:lnTo>
                      <a:pt x="554" y="85"/>
                    </a:lnTo>
                    <a:lnTo>
                      <a:pt x="567" y="96"/>
                    </a:lnTo>
                    <a:lnTo>
                      <a:pt x="579" y="106"/>
                    </a:lnTo>
                    <a:lnTo>
                      <a:pt x="592" y="118"/>
                    </a:lnTo>
                    <a:lnTo>
                      <a:pt x="603" y="130"/>
                    </a:lnTo>
                    <a:lnTo>
                      <a:pt x="614" y="142"/>
                    </a:lnTo>
                    <a:lnTo>
                      <a:pt x="624" y="156"/>
                    </a:lnTo>
                    <a:lnTo>
                      <a:pt x="633" y="169"/>
                    </a:lnTo>
                    <a:lnTo>
                      <a:pt x="643" y="183"/>
                    </a:lnTo>
                    <a:lnTo>
                      <a:pt x="651" y="198"/>
                    </a:lnTo>
                    <a:lnTo>
                      <a:pt x="658" y="212"/>
                    </a:lnTo>
                    <a:lnTo>
                      <a:pt x="666" y="227"/>
                    </a:lnTo>
                    <a:lnTo>
                      <a:pt x="671" y="243"/>
                    </a:lnTo>
                    <a:lnTo>
                      <a:pt x="677" y="258"/>
                    </a:lnTo>
                    <a:lnTo>
                      <a:pt x="681" y="275"/>
                    </a:lnTo>
                    <a:lnTo>
                      <a:pt x="686" y="291"/>
                    </a:lnTo>
                    <a:lnTo>
                      <a:pt x="689" y="309"/>
                    </a:lnTo>
                    <a:lnTo>
                      <a:pt x="691" y="326"/>
                    </a:lnTo>
                    <a:lnTo>
                      <a:pt x="692" y="344"/>
                    </a:lnTo>
                    <a:lnTo>
                      <a:pt x="692" y="360"/>
                    </a:lnTo>
                    <a:lnTo>
                      <a:pt x="692" y="378"/>
                    </a:lnTo>
                    <a:lnTo>
                      <a:pt x="691" y="396"/>
                    </a:lnTo>
                    <a:lnTo>
                      <a:pt x="689" y="413"/>
                    </a:lnTo>
                    <a:lnTo>
                      <a:pt x="686" y="430"/>
                    </a:lnTo>
                    <a:lnTo>
                      <a:pt x="681" y="446"/>
                    </a:lnTo>
                    <a:lnTo>
                      <a:pt x="677" y="463"/>
                    </a:lnTo>
                    <a:lnTo>
                      <a:pt x="671" y="479"/>
                    </a:lnTo>
                    <a:lnTo>
                      <a:pt x="666" y="495"/>
                    </a:lnTo>
                    <a:lnTo>
                      <a:pt x="658" y="509"/>
                    </a:lnTo>
                    <a:lnTo>
                      <a:pt x="651" y="524"/>
                    </a:lnTo>
                    <a:lnTo>
                      <a:pt x="643" y="539"/>
                    </a:lnTo>
                    <a:lnTo>
                      <a:pt x="633" y="552"/>
                    </a:lnTo>
                    <a:lnTo>
                      <a:pt x="624" y="566"/>
                    </a:lnTo>
                    <a:lnTo>
                      <a:pt x="614" y="579"/>
                    </a:lnTo>
                    <a:lnTo>
                      <a:pt x="603" y="591"/>
                    </a:lnTo>
                    <a:lnTo>
                      <a:pt x="592" y="604"/>
                    </a:lnTo>
                    <a:lnTo>
                      <a:pt x="579" y="614"/>
                    </a:lnTo>
                    <a:lnTo>
                      <a:pt x="567" y="626"/>
                    </a:lnTo>
                    <a:lnTo>
                      <a:pt x="554" y="635"/>
                    </a:lnTo>
                    <a:lnTo>
                      <a:pt x="541" y="645"/>
                    </a:lnTo>
                    <a:lnTo>
                      <a:pt x="527" y="654"/>
                    </a:lnTo>
                    <a:lnTo>
                      <a:pt x="512" y="663"/>
                    </a:lnTo>
                    <a:lnTo>
                      <a:pt x="498" y="670"/>
                    </a:lnTo>
                    <a:lnTo>
                      <a:pt x="483" y="677"/>
                    </a:lnTo>
                    <a:lnTo>
                      <a:pt x="467" y="683"/>
                    </a:lnTo>
                    <a:lnTo>
                      <a:pt x="451" y="689"/>
                    </a:lnTo>
                    <a:lnTo>
                      <a:pt x="434" y="693"/>
                    </a:lnTo>
                    <a:lnTo>
                      <a:pt x="418" y="697"/>
                    </a:lnTo>
                    <a:lnTo>
                      <a:pt x="401" y="701"/>
                    </a:lnTo>
                    <a:lnTo>
                      <a:pt x="384" y="703"/>
                    </a:lnTo>
                    <a:lnTo>
                      <a:pt x="366" y="704"/>
                    </a:lnTo>
                    <a:lnTo>
                      <a:pt x="348" y="704"/>
                    </a:lnTo>
                    <a:lnTo>
                      <a:pt x="326" y="704"/>
                    </a:lnTo>
                    <a:lnTo>
                      <a:pt x="304" y="702"/>
                    </a:lnTo>
                    <a:lnTo>
                      <a:pt x="283" y="697"/>
                    </a:lnTo>
                    <a:lnTo>
                      <a:pt x="262" y="693"/>
                    </a:lnTo>
                    <a:lnTo>
                      <a:pt x="241" y="687"/>
                    </a:lnTo>
                    <a:lnTo>
                      <a:pt x="221" y="680"/>
                    </a:lnTo>
                    <a:lnTo>
                      <a:pt x="202" y="671"/>
                    </a:lnTo>
                    <a:lnTo>
                      <a:pt x="183" y="662"/>
                    </a:lnTo>
                    <a:lnTo>
                      <a:pt x="196" y="687"/>
                    </a:lnTo>
                    <a:lnTo>
                      <a:pt x="214" y="694"/>
                    </a:lnTo>
                    <a:lnTo>
                      <a:pt x="232" y="702"/>
                    </a:lnTo>
                    <a:lnTo>
                      <a:pt x="250" y="707"/>
                    </a:lnTo>
                    <a:lnTo>
                      <a:pt x="269" y="712"/>
                    </a:lnTo>
                    <a:lnTo>
                      <a:pt x="288" y="716"/>
                    </a:lnTo>
                    <a:lnTo>
                      <a:pt x="308" y="718"/>
                    </a:lnTo>
                    <a:lnTo>
                      <a:pt x="328" y="720"/>
                    </a:lnTo>
                    <a:lnTo>
                      <a:pt x="348" y="720"/>
                    </a:lnTo>
                    <a:lnTo>
                      <a:pt x="367" y="720"/>
                    </a:lnTo>
                    <a:lnTo>
                      <a:pt x="385" y="718"/>
                    </a:lnTo>
                    <a:lnTo>
                      <a:pt x="404" y="716"/>
                    </a:lnTo>
                    <a:lnTo>
                      <a:pt x="421" y="713"/>
                    </a:lnTo>
                    <a:lnTo>
                      <a:pt x="439" y="709"/>
                    </a:lnTo>
                    <a:lnTo>
                      <a:pt x="455" y="705"/>
                    </a:lnTo>
                    <a:lnTo>
                      <a:pt x="472" y="698"/>
                    </a:lnTo>
                    <a:lnTo>
                      <a:pt x="489" y="692"/>
                    </a:lnTo>
                    <a:lnTo>
                      <a:pt x="505" y="685"/>
                    </a:lnTo>
                    <a:lnTo>
                      <a:pt x="521" y="677"/>
                    </a:lnTo>
                    <a:lnTo>
                      <a:pt x="535" y="669"/>
                    </a:lnTo>
                    <a:lnTo>
                      <a:pt x="550" y="660"/>
                    </a:lnTo>
                    <a:lnTo>
                      <a:pt x="564" y="649"/>
                    </a:lnTo>
                    <a:lnTo>
                      <a:pt x="577" y="639"/>
                    </a:lnTo>
                    <a:lnTo>
                      <a:pt x="591" y="627"/>
                    </a:lnTo>
                    <a:lnTo>
                      <a:pt x="604" y="615"/>
                    </a:lnTo>
                    <a:lnTo>
                      <a:pt x="615" y="603"/>
                    </a:lnTo>
                    <a:lnTo>
                      <a:pt x="627" y="589"/>
                    </a:lnTo>
                    <a:lnTo>
                      <a:pt x="637" y="577"/>
                    </a:lnTo>
                    <a:lnTo>
                      <a:pt x="648" y="562"/>
                    </a:lnTo>
                    <a:lnTo>
                      <a:pt x="657" y="547"/>
                    </a:lnTo>
                    <a:lnTo>
                      <a:pt x="666" y="533"/>
                    </a:lnTo>
                    <a:lnTo>
                      <a:pt x="673" y="517"/>
                    </a:lnTo>
                    <a:lnTo>
                      <a:pt x="680" y="501"/>
                    </a:lnTo>
                    <a:lnTo>
                      <a:pt x="687" y="484"/>
                    </a:lnTo>
                    <a:lnTo>
                      <a:pt x="693" y="467"/>
                    </a:lnTo>
                    <a:lnTo>
                      <a:pt x="697" y="451"/>
                    </a:lnTo>
                    <a:lnTo>
                      <a:pt x="701" y="433"/>
                    </a:lnTo>
                    <a:lnTo>
                      <a:pt x="705" y="416"/>
                    </a:lnTo>
                    <a:lnTo>
                      <a:pt x="708" y="397"/>
                    </a:lnTo>
                    <a:lnTo>
                      <a:pt x="709" y="379"/>
                    </a:lnTo>
                    <a:lnTo>
                      <a:pt x="709" y="360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908680" y="2585880"/>
                <a:ext cx="220680" cy="223920"/>
              </a:xfrm>
              <a:custGeom>
                <a:avLst/>
                <a:gdLst/>
                <a:ahLst/>
                <a:rect l="l" t="t" r="r" b="b"/>
                <a:pathLst>
                  <a:path w="694" h="703">
                    <a:moveTo>
                      <a:pt x="694" y="351"/>
                    </a:moveTo>
                    <a:lnTo>
                      <a:pt x="694" y="333"/>
                    </a:lnTo>
                    <a:lnTo>
                      <a:pt x="693" y="316"/>
                    </a:lnTo>
                    <a:lnTo>
                      <a:pt x="690" y="298"/>
                    </a:lnTo>
                    <a:lnTo>
                      <a:pt x="688" y="281"/>
                    </a:lnTo>
                    <a:lnTo>
                      <a:pt x="684" y="264"/>
                    </a:lnTo>
                    <a:lnTo>
                      <a:pt x="679" y="247"/>
                    </a:lnTo>
                    <a:lnTo>
                      <a:pt x="673" y="231"/>
                    </a:lnTo>
                    <a:lnTo>
                      <a:pt x="667" y="215"/>
                    </a:lnTo>
                    <a:lnTo>
                      <a:pt x="660" y="199"/>
                    </a:lnTo>
                    <a:lnTo>
                      <a:pt x="652" y="184"/>
                    </a:lnTo>
                    <a:lnTo>
                      <a:pt x="644" y="170"/>
                    </a:lnTo>
                    <a:lnTo>
                      <a:pt x="634" y="155"/>
                    </a:lnTo>
                    <a:lnTo>
                      <a:pt x="625" y="141"/>
                    </a:lnTo>
                    <a:lnTo>
                      <a:pt x="614" y="128"/>
                    </a:lnTo>
                    <a:lnTo>
                      <a:pt x="603" y="115"/>
                    </a:lnTo>
                    <a:lnTo>
                      <a:pt x="591" y="102"/>
                    </a:lnTo>
                    <a:lnTo>
                      <a:pt x="580" y="91"/>
                    </a:lnTo>
                    <a:lnTo>
                      <a:pt x="566" y="80"/>
                    </a:lnTo>
                    <a:lnTo>
                      <a:pt x="554" y="70"/>
                    </a:lnTo>
                    <a:lnTo>
                      <a:pt x="540" y="60"/>
                    </a:lnTo>
                    <a:lnTo>
                      <a:pt x="525" y="51"/>
                    </a:lnTo>
                    <a:lnTo>
                      <a:pt x="510" y="43"/>
                    </a:lnTo>
                    <a:lnTo>
                      <a:pt x="496" y="34"/>
                    </a:lnTo>
                    <a:lnTo>
                      <a:pt x="480" y="28"/>
                    </a:lnTo>
                    <a:lnTo>
                      <a:pt x="463" y="22"/>
                    </a:lnTo>
                    <a:lnTo>
                      <a:pt x="447" y="16"/>
                    </a:lnTo>
                    <a:lnTo>
                      <a:pt x="431" y="11"/>
                    </a:lnTo>
                    <a:lnTo>
                      <a:pt x="414" y="7"/>
                    </a:lnTo>
                    <a:lnTo>
                      <a:pt x="396" y="4"/>
                    </a:lnTo>
                    <a:lnTo>
                      <a:pt x="379" y="2"/>
                    </a:lnTo>
                    <a:lnTo>
                      <a:pt x="361" y="1"/>
                    </a:lnTo>
                    <a:lnTo>
                      <a:pt x="342" y="0"/>
                    </a:lnTo>
                    <a:lnTo>
                      <a:pt x="328" y="1"/>
                    </a:lnTo>
                    <a:lnTo>
                      <a:pt x="312" y="2"/>
                    </a:lnTo>
                    <a:lnTo>
                      <a:pt x="296" y="3"/>
                    </a:lnTo>
                    <a:lnTo>
                      <a:pt x="281" y="5"/>
                    </a:lnTo>
                    <a:lnTo>
                      <a:pt x="267" y="8"/>
                    </a:lnTo>
                    <a:lnTo>
                      <a:pt x="252" y="12"/>
                    </a:lnTo>
                    <a:lnTo>
                      <a:pt x="238" y="15"/>
                    </a:lnTo>
                    <a:lnTo>
                      <a:pt x="223" y="21"/>
                    </a:lnTo>
                    <a:lnTo>
                      <a:pt x="210" y="26"/>
                    </a:lnTo>
                    <a:lnTo>
                      <a:pt x="196" y="31"/>
                    </a:lnTo>
                    <a:lnTo>
                      <a:pt x="184" y="38"/>
                    </a:lnTo>
                    <a:lnTo>
                      <a:pt x="171" y="45"/>
                    </a:lnTo>
                    <a:lnTo>
                      <a:pt x="158" y="52"/>
                    </a:lnTo>
                    <a:lnTo>
                      <a:pt x="146" y="60"/>
                    </a:lnTo>
                    <a:lnTo>
                      <a:pt x="134" y="69"/>
                    </a:lnTo>
                    <a:lnTo>
                      <a:pt x="123" y="77"/>
                    </a:lnTo>
                    <a:lnTo>
                      <a:pt x="111" y="87"/>
                    </a:lnTo>
                    <a:lnTo>
                      <a:pt x="100" y="96"/>
                    </a:lnTo>
                    <a:lnTo>
                      <a:pt x="90" y="107"/>
                    </a:lnTo>
                    <a:lnTo>
                      <a:pt x="81" y="117"/>
                    </a:lnTo>
                    <a:lnTo>
                      <a:pt x="71" y="128"/>
                    </a:lnTo>
                    <a:lnTo>
                      <a:pt x="62" y="139"/>
                    </a:lnTo>
                    <a:lnTo>
                      <a:pt x="53" y="151"/>
                    </a:lnTo>
                    <a:lnTo>
                      <a:pt x="46" y="163"/>
                    </a:lnTo>
                    <a:lnTo>
                      <a:pt x="37" y="176"/>
                    </a:lnTo>
                    <a:lnTo>
                      <a:pt x="31" y="189"/>
                    </a:lnTo>
                    <a:lnTo>
                      <a:pt x="24" y="201"/>
                    </a:lnTo>
                    <a:lnTo>
                      <a:pt x="18" y="215"/>
                    </a:lnTo>
                    <a:lnTo>
                      <a:pt x="13" y="228"/>
                    </a:lnTo>
                    <a:lnTo>
                      <a:pt x="8" y="242"/>
                    </a:lnTo>
                    <a:lnTo>
                      <a:pt x="4" y="257"/>
                    </a:lnTo>
                    <a:lnTo>
                      <a:pt x="0" y="270"/>
                    </a:lnTo>
                    <a:lnTo>
                      <a:pt x="12" y="296"/>
                    </a:lnTo>
                    <a:lnTo>
                      <a:pt x="15" y="281"/>
                    </a:lnTo>
                    <a:lnTo>
                      <a:pt x="18" y="266"/>
                    </a:lnTo>
                    <a:lnTo>
                      <a:pt x="23" y="252"/>
                    </a:lnTo>
                    <a:lnTo>
                      <a:pt x="27" y="238"/>
                    </a:lnTo>
                    <a:lnTo>
                      <a:pt x="32" y="224"/>
                    </a:lnTo>
                    <a:lnTo>
                      <a:pt x="38" y="211"/>
                    </a:lnTo>
                    <a:lnTo>
                      <a:pt x="45" y="198"/>
                    </a:lnTo>
                    <a:lnTo>
                      <a:pt x="52" y="185"/>
                    </a:lnTo>
                    <a:lnTo>
                      <a:pt x="59" y="173"/>
                    </a:lnTo>
                    <a:lnTo>
                      <a:pt x="67" y="160"/>
                    </a:lnTo>
                    <a:lnTo>
                      <a:pt x="75" y="149"/>
                    </a:lnTo>
                    <a:lnTo>
                      <a:pt x="85" y="138"/>
                    </a:lnTo>
                    <a:lnTo>
                      <a:pt x="94" y="127"/>
                    </a:lnTo>
                    <a:lnTo>
                      <a:pt x="104" y="116"/>
                    </a:lnTo>
                    <a:lnTo>
                      <a:pt x="114" y="107"/>
                    </a:lnTo>
                    <a:lnTo>
                      <a:pt x="126" y="96"/>
                    </a:lnTo>
                    <a:lnTo>
                      <a:pt x="136" y="88"/>
                    </a:lnTo>
                    <a:lnTo>
                      <a:pt x="148" y="79"/>
                    </a:lnTo>
                    <a:lnTo>
                      <a:pt x="159" y="71"/>
                    </a:lnTo>
                    <a:lnTo>
                      <a:pt x="172" y="64"/>
                    </a:lnTo>
                    <a:lnTo>
                      <a:pt x="185" y="56"/>
                    </a:lnTo>
                    <a:lnTo>
                      <a:pt x="198" y="50"/>
                    </a:lnTo>
                    <a:lnTo>
                      <a:pt x="211" y="44"/>
                    </a:lnTo>
                    <a:lnTo>
                      <a:pt x="225" y="38"/>
                    </a:lnTo>
                    <a:lnTo>
                      <a:pt x="238" y="33"/>
                    </a:lnTo>
                    <a:lnTo>
                      <a:pt x="253" y="29"/>
                    </a:lnTo>
                    <a:lnTo>
                      <a:pt x="268" y="25"/>
                    </a:lnTo>
                    <a:lnTo>
                      <a:pt x="282" y="23"/>
                    </a:lnTo>
                    <a:lnTo>
                      <a:pt x="297" y="20"/>
                    </a:lnTo>
                    <a:lnTo>
                      <a:pt x="312" y="18"/>
                    </a:lnTo>
                    <a:lnTo>
                      <a:pt x="328" y="17"/>
                    </a:lnTo>
                    <a:lnTo>
                      <a:pt x="342" y="16"/>
                    </a:lnTo>
                    <a:lnTo>
                      <a:pt x="360" y="17"/>
                    </a:lnTo>
                    <a:lnTo>
                      <a:pt x="377" y="18"/>
                    </a:lnTo>
                    <a:lnTo>
                      <a:pt x="394" y="21"/>
                    </a:lnTo>
                    <a:lnTo>
                      <a:pt x="411" y="24"/>
                    </a:lnTo>
                    <a:lnTo>
                      <a:pt x="426" y="27"/>
                    </a:lnTo>
                    <a:lnTo>
                      <a:pt x="442" y="32"/>
                    </a:lnTo>
                    <a:lnTo>
                      <a:pt x="458" y="37"/>
                    </a:lnTo>
                    <a:lnTo>
                      <a:pt x="474" y="43"/>
                    </a:lnTo>
                    <a:lnTo>
                      <a:pt x="488" y="50"/>
                    </a:lnTo>
                    <a:lnTo>
                      <a:pt x="502" y="57"/>
                    </a:lnTo>
                    <a:lnTo>
                      <a:pt x="517" y="66"/>
                    </a:lnTo>
                    <a:lnTo>
                      <a:pt x="530" y="74"/>
                    </a:lnTo>
                    <a:lnTo>
                      <a:pt x="543" y="84"/>
                    </a:lnTo>
                    <a:lnTo>
                      <a:pt x="556" y="93"/>
                    </a:lnTo>
                    <a:lnTo>
                      <a:pt x="568" y="104"/>
                    </a:lnTo>
                    <a:lnTo>
                      <a:pt x="580" y="115"/>
                    </a:lnTo>
                    <a:lnTo>
                      <a:pt x="590" y="127"/>
                    </a:lnTo>
                    <a:lnTo>
                      <a:pt x="602" y="138"/>
                    </a:lnTo>
                    <a:lnTo>
                      <a:pt x="611" y="152"/>
                    </a:lnTo>
                    <a:lnTo>
                      <a:pt x="621" y="164"/>
                    </a:lnTo>
                    <a:lnTo>
                      <a:pt x="629" y="178"/>
                    </a:lnTo>
                    <a:lnTo>
                      <a:pt x="638" y="192"/>
                    </a:lnTo>
                    <a:lnTo>
                      <a:pt x="645" y="206"/>
                    </a:lnTo>
                    <a:lnTo>
                      <a:pt x="651" y="221"/>
                    </a:lnTo>
                    <a:lnTo>
                      <a:pt x="658" y="237"/>
                    </a:lnTo>
                    <a:lnTo>
                      <a:pt x="663" y="253"/>
                    </a:lnTo>
                    <a:lnTo>
                      <a:pt x="667" y="268"/>
                    </a:lnTo>
                    <a:lnTo>
                      <a:pt x="671" y="284"/>
                    </a:lnTo>
                    <a:lnTo>
                      <a:pt x="674" y="301"/>
                    </a:lnTo>
                    <a:lnTo>
                      <a:pt x="677" y="318"/>
                    </a:lnTo>
                    <a:lnTo>
                      <a:pt x="678" y="335"/>
                    </a:lnTo>
                    <a:lnTo>
                      <a:pt x="678" y="351"/>
                    </a:lnTo>
                    <a:lnTo>
                      <a:pt x="678" y="369"/>
                    </a:lnTo>
                    <a:lnTo>
                      <a:pt x="677" y="386"/>
                    </a:lnTo>
                    <a:lnTo>
                      <a:pt x="674" y="403"/>
                    </a:lnTo>
                    <a:lnTo>
                      <a:pt x="671" y="420"/>
                    </a:lnTo>
                    <a:lnTo>
                      <a:pt x="667" y="435"/>
                    </a:lnTo>
                    <a:lnTo>
                      <a:pt x="663" y="451"/>
                    </a:lnTo>
                    <a:lnTo>
                      <a:pt x="658" y="467"/>
                    </a:lnTo>
                    <a:lnTo>
                      <a:pt x="651" y="483"/>
                    </a:lnTo>
                    <a:lnTo>
                      <a:pt x="645" y="497"/>
                    </a:lnTo>
                    <a:lnTo>
                      <a:pt x="638" y="511"/>
                    </a:lnTo>
                    <a:lnTo>
                      <a:pt x="629" y="526"/>
                    </a:lnTo>
                    <a:lnTo>
                      <a:pt x="621" y="539"/>
                    </a:lnTo>
                    <a:lnTo>
                      <a:pt x="611" y="552"/>
                    </a:lnTo>
                    <a:lnTo>
                      <a:pt x="602" y="564"/>
                    </a:lnTo>
                    <a:lnTo>
                      <a:pt x="590" y="577"/>
                    </a:lnTo>
                    <a:lnTo>
                      <a:pt x="580" y="589"/>
                    </a:lnTo>
                    <a:lnTo>
                      <a:pt x="568" y="599"/>
                    </a:lnTo>
                    <a:lnTo>
                      <a:pt x="556" y="610"/>
                    </a:lnTo>
                    <a:lnTo>
                      <a:pt x="543" y="620"/>
                    </a:lnTo>
                    <a:lnTo>
                      <a:pt x="530" y="630"/>
                    </a:lnTo>
                    <a:lnTo>
                      <a:pt x="517" y="638"/>
                    </a:lnTo>
                    <a:lnTo>
                      <a:pt x="502" y="646"/>
                    </a:lnTo>
                    <a:lnTo>
                      <a:pt x="488" y="654"/>
                    </a:lnTo>
                    <a:lnTo>
                      <a:pt x="474" y="660"/>
                    </a:lnTo>
                    <a:lnTo>
                      <a:pt x="458" y="666"/>
                    </a:lnTo>
                    <a:lnTo>
                      <a:pt x="442" y="672"/>
                    </a:lnTo>
                    <a:lnTo>
                      <a:pt x="426" y="676"/>
                    </a:lnTo>
                    <a:lnTo>
                      <a:pt x="411" y="680"/>
                    </a:lnTo>
                    <a:lnTo>
                      <a:pt x="394" y="683"/>
                    </a:lnTo>
                    <a:lnTo>
                      <a:pt x="377" y="685"/>
                    </a:lnTo>
                    <a:lnTo>
                      <a:pt x="360" y="686"/>
                    </a:lnTo>
                    <a:lnTo>
                      <a:pt x="342" y="686"/>
                    </a:lnTo>
                    <a:lnTo>
                      <a:pt x="319" y="686"/>
                    </a:lnTo>
                    <a:lnTo>
                      <a:pt x="296" y="683"/>
                    </a:lnTo>
                    <a:lnTo>
                      <a:pt x="274" y="680"/>
                    </a:lnTo>
                    <a:lnTo>
                      <a:pt x="252" y="674"/>
                    </a:lnTo>
                    <a:lnTo>
                      <a:pt x="230" y="667"/>
                    </a:lnTo>
                    <a:lnTo>
                      <a:pt x="210" y="659"/>
                    </a:lnTo>
                    <a:lnTo>
                      <a:pt x="189" y="650"/>
                    </a:lnTo>
                    <a:lnTo>
                      <a:pt x="170" y="639"/>
                    </a:lnTo>
                    <a:lnTo>
                      <a:pt x="184" y="665"/>
                    </a:lnTo>
                    <a:lnTo>
                      <a:pt x="201" y="675"/>
                    </a:lnTo>
                    <a:lnTo>
                      <a:pt x="220" y="682"/>
                    </a:lnTo>
                    <a:lnTo>
                      <a:pt x="240" y="688"/>
                    </a:lnTo>
                    <a:lnTo>
                      <a:pt x="259" y="694"/>
                    </a:lnTo>
                    <a:lnTo>
                      <a:pt x="280" y="698"/>
                    </a:lnTo>
                    <a:lnTo>
                      <a:pt x="300" y="701"/>
                    </a:lnTo>
                    <a:lnTo>
                      <a:pt x="321" y="703"/>
                    </a:lnTo>
                    <a:lnTo>
                      <a:pt x="342" y="703"/>
                    </a:lnTo>
                    <a:lnTo>
                      <a:pt x="361" y="703"/>
                    </a:lnTo>
                    <a:lnTo>
                      <a:pt x="379" y="702"/>
                    </a:lnTo>
                    <a:lnTo>
                      <a:pt x="396" y="699"/>
                    </a:lnTo>
                    <a:lnTo>
                      <a:pt x="414" y="696"/>
                    </a:lnTo>
                    <a:lnTo>
                      <a:pt x="431" y="693"/>
                    </a:lnTo>
                    <a:lnTo>
                      <a:pt x="447" y="687"/>
                    </a:lnTo>
                    <a:lnTo>
                      <a:pt x="463" y="682"/>
                    </a:lnTo>
                    <a:lnTo>
                      <a:pt x="480" y="676"/>
                    </a:lnTo>
                    <a:lnTo>
                      <a:pt x="496" y="668"/>
                    </a:lnTo>
                    <a:lnTo>
                      <a:pt x="510" y="661"/>
                    </a:lnTo>
                    <a:lnTo>
                      <a:pt x="525" y="653"/>
                    </a:lnTo>
                    <a:lnTo>
                      <a:pt x="540" y="643"/>
                    </a:lnTo>
                    <a:lnTo>
                      <a:pt x="554" y="634"/>
                    </a:lnTo>
                    <a:lnTo>
                      <a:pt x="566" y="623"/>
                    </a:lnTo>
                    <a:lnTo>
                      <a:pt x="580" y="612"/>
                    </a:lnTo>
                    <a:lnTo>
                      <a:pt x="591" y="600"/>
                    </a:lnTo>
                    <a:lnTo>
                      <a:pt x="603" y="589"/>
                    </a:lnTo>
                    <a:lnTo>
                      <a:pt x="614" y="575"/>
                    </a:lnTo>
                    <a:lnTo>
                      <a:pt x="625" y="562"/>
                    </a:lnTo>
                    <a:lnTo>
                      <a:pt x="634" y="549"/>
                    </a:lnTo>
                    <a:lnTo>
                      <a:pt x="644" y="534"/>
                    </a:lnTo>
                    <a:lnTo>
                      <a:pt x="652" y="519"/>
                    </a:lnTo>
                    <a:lnTo>
                      <a:pt x="660" y="505"/>
                    </a:lnTo>
                    <a:lnTo>
                      <a:pt x="667" y="489"/>
                    </a:lnTo>
                    <a:lnTo>
                      <a:pt x="673" y="473"/>
                    </a:lnTo>
                    <a:lnTo>
                      <a:pt x="679" y="456"/>
                    </a:lnTo>
                    <a:lnTo>
                      <a:pt x="684" y="440"/>
                    </a:lnTo>
                    <a:lnTo>
                      <a:pt x="688" y="423"/>
                    </a:lnTo>
                    <a:lnTo>
                      <a:pt x="690" y="405"/>
                    </a:lnTo>
                    <a:lnTo>
                      <a:pt x="693" y="388"/>
                    </a:lnTo>
                    <a:lnTo>
                      <a:pt x="694" y="370"/>
                    </a:lnTo>
                    <a:lnTo>
                      <a:pt x="694" y="351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910120" y="2589120"/>
                <a:ext cx="216000" cy="217440"/>
              </a:xfrm>
              <a:custGeom>
                <a:avLst/>
                <a:gdLst/>
                <a:ahLst/>
                <a:rect l="l" t="t" r="r" b="b"/>
                <a:pathLst>
                  <a:path w="680" h="687">
                    <a:moveTo>
                      <a:pt x="680" y="343"/>
                    </a:moveTo>
                    <a:lnTo>
                      <a:pt x="680" y="327"/>
                    </a:lnTo>
                    <a:lnTo>
                      <a:pt x="679" y="309"/>
                    </a:lnTo>
                    <a:lnTo>
                      <a:pt x="677" y="292"/>
                    </a:lnTo>
                    <a:lnTo>
                      <a:pt x="674" y="274"/>
                    </a:lnTo>
                    <a:lnTo>
                      <a:pt x="669" y="258"/>
                    </a:lnTo>
                    <a:lnTo>
                      <a:pt x="665" y="241"/>
                    </a:lnTo>
                    <a:lnTo>
                      <a:pt x="659" y="226"/>
                    </a:lnTo>
                    <a:lnTo>
                      <a:pt x="654" y="210"/>
                    </a:lnTo>
                    <a:lnTo>
                      <a:pt x="646" y="195"/>
                    </a:lnTo>
                    <a:lnTo>
                      <a:pt x="639" y="181"/>
                    </a:lnTo>
                    <a:lnTo>
                      <a:pt x="631" y="166"/>
                    </a:lnTo>
                    <a:lnTo>
                      <a:pt x="621" y="152"/>
                    </a:lnTo>
                    <a:lnTo>
                      <a:pt x="612" y="139"/>
                    </a:lnTo>
                    <a:lnTo>
                      <a:pt x="602" y="125"/>
                    </a:lnTo>
                    <a:lnTo>
                      <a:pt x="591" y="113"/>
                    </a:lnTo>
                    <a:lnTo>
                      <a:pt x="580" y="101"/>
                    </a:lnTo>
                    <a:lnTo>
                      <a:pt x="567" y="89"/>
                    </a:lnTo>
                    <a:lnTo>
                      <a:pt x="555" y="79"/>
                    </a:lnTo>
                    <a:lnTo>
                      <a:pt x="542" y="68"/>
                    </a:lnTo>
                    <a:lnTo>
                      <a:pt x="529" y="59"/>
                    </a:lnTo>
                    <a:lnTo>
                      <a:pt x="515" y="50"/>
                    </a:lnTo>
                    <a:lnTo>
                      <a:pt x="500" y="42"/>
                    </a:lnTo>
                    <a:lnTo>
                      <a:pt x="486" y="35"/>
                    </a:lnTo>
                    <a:lnTo>
                      <a:pt x="471" y="27"/>
                    </a:lnTo>
                    <a:lnTo>
                      <a:pt x="455" y="21"/>
                    </a:lnTo>
                    <a:lnTo>
                      <a:pt x="439" y="16"/>
                    </a:lnTo>
                    <a:lnTo>
                      <a:pt x="422" y="12"/>
                    </a:lnTo>
                    <a:lnTo>
                      <a:pt x="406" y="7"/>
                    </a:lnTo>
                    <a:lnTo>
                      <a:pt x="389" y="4"/>
                    </a:lnTo>
                    <a:lnTo>
                      <a:pt x="372" y="2"/>
                    </a:lnTo>
                    <a:lnTo>
                      <a:pt x="354" y="1"/>
                    </a:lnTo>
                    <a:lnTo>
                      <a:pt x="336" y="0"/>
                    </a:lnTo>
                    <a:lnTo>
                      <a:pt x="322" y="1"/>
                    </a:lnTo>
                    <a:lnTo>
                      <a:pt x="306" y="2"/>
                    </a:lnTo>
                    <a:lnTo>
                      <a:pt x="291" y="3"/>
                    </a:lnTo>
                    <a:lnTo>
                      <a:pt x="275" y="5"/>
                    </a:lnTo>
                    <a:lnTo>
                      <a:pt x="261" y="8"/>
                    </a:lnTo>
                    <a:lnTo>
                      <a:pt x="247" y="13"/>
                    </a:lnTo>
                    <a:lnTo>
                      <a:pt x="232" y="17"/>
                    </a:lnTo>
                    <a:lnTo>
                      <a:pt x="219" y="21"/>
                    </a:lnTo>
                    <a:lnTo>
                      <a:pt x="205" y="26"/>
                    </a:lnTo>
                    <a:lnTo>
                      <a:pt x="191" y="33"/>
                    </a:lnTo>
                    <a:lnTo>
                      <a:pt x="179" y="39"/>
                    </a:lnTo>
                    <a:lnTo>
                      <a:pt x="166" y="46"/>
                    </a:lnTo>
                    <a:lnTo>
                      <a:pt x="153" y="54"/>
                    </a:lnTo>
                    <a:lnTo>
                      <a:pt x="141" y="62"/>
                    </a:lnTo>
                    <a:lnTo>
                      <a:pt x="129" y="70"/>
                    </a:lnTo>
                    <a:lnTo>
                      <a:pt x="118" y="79"/>
                    </a:lnTo>
                    <a:lnTo>
                      <a:pt x="107" y="88"/>
                    </a:lnTo>
                    <a:lnTo>
                      <a:pt x="97" y="99"/>
                    </a:lnTo>
                    <a:lnTo>
                      <a:pt x="86" y="108"/>
                    </a:lnTo>
                    <a:lnTo>
                      <a:pt x="77" y="120"/>
                    </a:lnTo>
                    <a:lnTo>
                      <a:pt x="67" y="130"/>
                    </a:lnTo>
                    <a:lnTo>
                      <a:pt x="59" y="142"/>
                    </a:lnTo>
                    <a:lnTo>
                      <a:pt x="50" y="153"/>
                    </a:lnTo>
                    <a:lnTo>
                      <a:pt x="43" y="166"/>
                    </a:lnTo>
                    <a:lnTo>
                      <a:pt x="36" y="178"/>
                    </a:lnTo>
                    <a:lnTo>
                      <a:pt x="28" y="191"/>
                    </a:lnTo>
                    <a:lnTo>
                      <a:pt x="22" y="205"/>
                    </a:lnTo>
                    <a:lnTo>
                      <a:pt x="17" y="218"/>
                    </a:lnTo>
                    <a:lnTo>
                      <a:pt x="11" y="232"/>
                    </a:lnTo>
                    <a:lnTo>
                      <a:pt x="7" y="246"/>
                    </a:lnTo>
                    <a:lnTo>
                      <a:pt x="3" y="260"/>
                    </a:lnTo>
                    <a:lnTo>
                      <a:pt x="0" y="275"/>
                    </a:lnTo>
                    <a:lnTo>
                      <a:pt x="12" y="300"/>
                    </a:lnTo>
                    <a:lnTo>
                      <a:pt x="15" y="286"/>
                    </a:lnTo>
                    <a:lnTo>
                      <a:pt x="18" y="271"/>
                    </a:lnTo>
                    <a:lnTo>
                      <a:pt x="22" y="256"/>
                    </a:lnTo>
                    <a:lnTo>
                      <a:pt x="26" y="243"/>
                    </a:lnTo>
                    <a:lnTo>
                      <a:pt x="30" y="229"/>
                    </a:lnTo>
                    <a:lnTo>
                      <a:pt x="36" y="215"/>
                    </a:lnTo>
                    <a:lnTo>
                      <a:pt x="42" y="202"/>
                    </a:lnTo>
                    <a:lnTo>
                      <a:pt x="49" y="189"/>
                    </a:lnTo>
                    <a:lnTo>
                      <a:pt x="56" y="176"/>
                    </a:lnTo>
                    <a:lnTo>
                      <a:pt x="64" y="164"/>
                    </a:lnTo>
                    <a:lnTo>
                      <a:pt x="72" y="152"/>
                    </a:lnTo>
                    <a:lnTo>
                      <a:pt x="81" y="141"/>
                    </a:lnTo>
                    <a:lnTo>
                      <a:pt x="90" y="129"/>
                    </a:lnTo>
                    <a:lnTo>
                      <a:pt x="100" y="119"/>
                    </a:lnTo>
                    <a:lnTo>
                      <a:pt x="110" y="108"/>
                    </a:lnTo>
                    <a:lnTo>
                      <a:pt x="121" y="99"/>
                    </a:lnTo>
                    <a:lnTo>
                      <a:pt x="131" y="89"/>
                    </a:lnTo>
                    <a:lnTo>
                      <a:pt x="143" y="81"/>
                    </a:lnTo>
                    <a:lnTo>
                      <a:pt x="154" y="72"/>
                    </a:lnTo>
                    <a:lnTo>
                      <a:pt x="167" y="65"/>
                    </a:lnTo>
                    <a:lnTo>
                      <a:pt x="180" y="58"/>
                    </a:lnTo>
                    <a:lnTo>
                      <a:pt x="192" y="50"/>
                    </a:lnTo>
                    <a:lnTo>
                      <a:pt x="206" y="44"/>
                    </a:lnTo>
                    <a:lnTo>
                      <a:pt x="220" y="39"/>
                    </a:lnTo>
                    <a:lnTo>
                      <a:pt x="233" y="34"/>
                    </a:lnTo>
                    <a:lnTo>
                      <a:pt x="247" y="29"/>
                    </a:lnTo>
                    <a:lnTo>
                      <a:pt x="262" y="26"/>
                    </a:lnTo>
                    <a:lnTo>
                      <a:pt x="276" y="23"/>
                    </a:lnTo>
                    <a:lnTo>
                      <a:pt x="291" y="20"/>
                    </a:lnTo>
                    <a:lnTo>
                      <a:pt x="306" y="19"/>
                    </a:lnTo>
                    <a:lnTo>
                      <a:pt x="322" y="18"/>
                    </a:lnTo>
                    <a:lnTo>
                      <a:pt x="336" y="17"/>
                    </a:lnTo>
                    <a:lnTo>
                      <a:pt x="353" y="18"/>
                    </a:lnTo>
                    <a:lnTo>
                      <a:pt x="370" y="19"/>
                    </a:lnTo>
                    <a:lnTo>
                      <a:pt x="387" y="21"/>
                    </a:lnTo>
                    <a:lnTo>
                      <a:pt x="402" y="24"/>
                    </a:lnTo>
                    <a:lnTo>
                      <a:pt x="418" y="27"/>
                    </a:lnTo>
                    <a:lnTo>
                      <a:pt x="434" y="31"/>
                    </a:lnTo>
                    <a:lnTo>
                      <a:pt x="449" y="37"/>
                    </a:lnTo>
                    <a:lnTo>
                      <a:pt x="463" y="43"/>
                    </a:lnTo>
                    <a:lnTo>
                      <a:pt x="478" y="49"/>
                    </a:lnTo>
                    <a:lnTo>
                      <a:pt x="493" y="57"/>
                    </a:lnTo>
                    <a:lnTo>
                      <a:pt x="507" y="64"/>
                    </a:lnTo>
                    <a:lnTo>
                      <a:pt x="519" y="72"/>
                    </a:lnTo>
                    <a:lnTo>
                      <a:pt x="532" y="82"/>
                    </a:lnTo>
                    <a:lnTo>
                      <a:pt x="544" y="91"/>
                    </a:lnTo>
                    <a:lnTo>
                      <a:pt x="556" y="102"/>
                    </a:lnTo>
                    <a:lnTo>
                      <a:pt x="567" y="112"/>
                    </a:lnTo>
                    <a:lnTo>
                      <a:pt x="579" y="124"/>
                    </a:lnTo>
                    <a:lnTo>
                      <a:pt x="589" y="136"/>
                    </a:lnTo>
                    <a:lnTo>
                      <a:pt x="599" y="148"/>
                    </a:lnTo>
                    <a:lnTo>
                      <a:pt x="607" y="161"/>
                    </a:lnTo>
                    <a:lnTo>
                      <a:pt x="616" y="174"/>
                    </a:lnTo>
                    <a:lnTo>
                      <a:pt x="624" y="188"/>
                    </a:lnTo>
                    <a:lnTo>
                      <a:pt x="632" y="203"/>
                    </a:lnTo>
                    <a:lnTo>
                      <a:pt x="638" y="216"/>
                    </a:lnTo>
                    <a:lnTo>
                      <a:pt x="643" y="231"/>
                    </a:lnTo>
                    <a:lnTo>
                      <a:pt x="648" y="247"/>
                    </a:lnTo>
                    <a:lnTo>
                      <a:pt x="654" y="262"/>
                    </a:lnTo>
                    <a:lnTo>
                      <a:pt x="657" y="278"/>
                    </a:lnTo>
                    <a:lnTo>
                      <a:pt x="660" y="294"/>
                    </a:lnTo>
                    <a:lnTo>
                      <a:pt x="662" y="311"/>
                    </a:lnTo>
                    <a:lnTo>
                      <a:pt x="663" y="327"/>
                    </a:lnTo>
                    <a:lnTo>
                      <a:pt x="663" y="343"/>
                    </a:lnTo>
                    <a:lnTo>
                      <a:pt x="663" y="360"/>
                    </a:lnTo>
                    <a:lnTo>
                      <a:pt x="662" y="377"/>
                    </a:lnTo>
                    <a:lnTo>
                      <a:pt x="660" y="394"/>
                    </a:lnTo>
                    <a:lnTo>
                      <a:pt x="657" y="409"/>
                    </a:lnTo>
                    <a:lnTo>
                      <a:pt x="654" y="425"/>
                    </a:lnTo>
                    <a:lnTo>
                      <a:pt x="648" y="441"/>
                    </a:lnTo>
                    <a:lnTo>
                      <a:pt x="643" y="456"/>
                    </a:lnTo>
                    <a:lnTo>
                      <a:pt x="638" y="470"/>
                    </a:lnTo>
                    <a:lnTo>
                      <a:pt x="632" y="485"/>
                    </a:lnTo>
                    <a:lnTo>
                      <a:pt x="624" y="500"/>
                    </a:lnTo>
                    <a:lnTo>
                      <a:pt x="616" y="513"/>
                    </a:lnTo>
                    <a:lnTo>
                      <a:pt x="607" y="526"/>
                    </a:lnTo>
                    <a:lnTo>
                      <a:pt x="599" y="539"/>
                    </a:lnTo>
                    <a:lnTo>
                      <a:pt x="589" y="551"/>
                    </a:lnTo>
                    <a:lnTo>
                      <a:pt x="579" y="563"/>
                    </a:lnTo>
                    <a:lnTo>
                      <a:pt x="567" y="574"/>
                    </a:lnTo>
                    <a:lnTo>
                      <a:pt x="556" y="586"/>
                    </a:lnTo>
                    <a:lnTo>
                      <a:pt x="544" y="595"/>
                    </a:lnTo>
                    <a:lnTo>
                      <a:pt x="532" y="606"/>
                    </a:lnTo>
                    <a:lnTo>
                      <a:pt x="519" y="614"/>
                    </a:lnTo>
                    <a:lnTo>
                      <a:pt x="507" y="623"/>
                    </a:lnTo>
                    <a:lnTo>
                      <a:pt x="493" y="631"/>
                    </a:lnTo>
                    <a:lnTo>
                      <a:pt x="478" y="638"/>
                    </a:lnTo>
                    <a:lnTo>
                      <a:pt x="463" y="645"/>
                    </a:lnTo>
                    <a:lnTo>
                      <a:pt x="449" y="651"/>
                    </a:lnTo>
                    <a:lnTo>
                      <a:pt x="434" y="655"/>
                    </a:lnTo>
                    <a:lnTo>
                      <a:pt x="418" y="660"/>
                    </a:lnTo>
                    <a:lnTo>
                      <a:pt x="402" y="664"/>
                    </a:lnTo>
                    <a:lnTo>
                      <a:pt x="387" y="667"/>
                    </a:lnTo>
                    <a:lnTo>
                      <a:pt x="370" y="669"/>
                    </a:lnTo>
                    <a:lnTo>
                      <a:pt x="353" y="670"/>
                    </a:lnTo>
                    <a:lnTo>
                      <a:pt x="336" y="670"/>
                    </a:lnTo>
                    <a:lnTo>
                      <a:pt x="312" y="669"/>
                    </a:lnTo>
                    <a:lnTo>
                      <a:pt x="288" y="667"/>
                    </a:lnTo>
                    <a:lnTo>
                      <a:pt x="264" y="663"/>
                    </a:lnTo>
                    <a:lnTo>
                      <a:pt x="241" y="656"/>
                    </a:lnTo>
                    <a:lnTo>
                      <a:pt x="219" y="649"/>
                    </a:lnTo>
                    <a:lnTo>
                      <a:pt x="196" y="639"/>
                    </a:lnTo>
                    <a:lnTo>
                      <a:pt x="176" y="628"/>
                    </a:lnTo>
                    <a:lnTo>
                      <a:pt x="156" y="616"/>
                    </a:lnTo>
                    <a:lnTo>
                      <a:pt x="171" y="645"/>
                    </a:lnTo>
                    <a:lnTo>
                      <a:pt x="190" y="654"/>
                    </a:lnTo>
                    <a:lnTo>
                      <a:pt x="209" y="663"/>
                    </a:lnTo>
                    <a:lnTo>
                      <a:pt x="229" y="670"/>
                    </a:lnTo>
                    <a:lnTo>
                      <a:pt x="250" y="676"/>
                    </a:lnTo>
                    <a:lnTo>
                      <a:pt x="271" y="680"/>
                    </a:lnTo>
                    <a:lnTo>
                      <a:pt x="292" y="685"/>
                    </a:lnTo>
                    <a:lnTo>
                      <a:pt x="314" y="687"/>
                    </a:lnTo>
                    <a:lnTo>
                      <a:pt x="336" y="687"/>
                    </a:lnTo>
                    <a:lnTo>
                      <a:pt x="354" y="687"/>
                    </a:lnTo>
                    <a:lnTo>
                      <a:pt x="372" y="686"/>
                    </a:lnTo>
                    <a:lnTo>
                      <a:pt x="389" y="684"/>
                    </a:lnTo>
                    <a:lnTo>
                      <a:pt x="406" y="680"/>
                    </a:lnTo>
                    <a:lnTo>
                      <a:pt x="422" y="676"/>
                    </a:lnTo>
                    <a:lnTo>
                      <a:pt x="439" y="672"/>
                    </a:lnTo>
                    <a:lnTo>
                      <a:pt x="455" y="666"/>
                    </a:lnTo>
                    <a:lnTo>
                      <a:pt x="471" y="660"/>
                    </a:lnTo>
                    <a:lnTo>
                      <a:pt x="486" y="653"/>
                    </a:lnTo>
                    <a:lnTo>
                      <a:pt x="500" y="646"/>
                    </a:lnTo>
                    <a:lnTo>
                      <a:pt x="515" y="637"/>
                    </a:lnTo>
                    <a:lnTo>
                      <a:pt x="529" y="628"/>
                    </a:lnTo>
                    <a:lnTo>
                      <a:pt x="542" y="618"/>
                    </a:lnTo>
                    <a:lnTo>
                      <a:pt x="555" y="609"/>
                    </a:lnTo>
                    <a:lnTo>
                      <a:pt x="567" y="597"/>
                    </a:lnTo>
                    <a:lnTo>
                      <a:pt x="580" y="587"/>
                    </a:lnTo>
                    <a:lnTo>
                      <a:pt x="591" y="574"/>
                    </a:lnTo>
                    <a:lnTo>
                      <a:pt x="602" y="562"/>
                    </a:lnTo>
                    <a:lnTo>
                      <a:pt x="612" y="549"/>
                    </a:lnTo>
                    <a:lnTo>
                      <a:pt x="621" y="535"/>
                    </a:lnTo>
                    <a:lnTo>
                      <a:pt x="631" y="522"/>
                    </a:lnTo>
                    <a:lnTo>
                      <a:pt x="639" y="507"/>
                    </a:lnTo>
                    <a:lnTo>
                      <a:pt x="646" y="492"/>
                    </a:lnTo>
                    <a:lnTo>
                      <a:pt x="654" y="478"/>
                    </a:lnTo>
                    <a:lnTo>
                      <a:pt x="659" y="462"/>
                    </a:lnTo>
                    <a:lnTo>
                      <a:pt x="665" y="446"/>
                    </a:lnTo>
                    <a:lnTo>
                      <a:pt x="669" y="429"/>
                    </a:lnTo>
                    <a:lnTo>
                      <a:pt x="674" y="413"/>
                    </a:lnTo>
                    <a:lnTo>
                      <a:pt x="677" y="396"/>
                    </a:lnTo>
                    <a:lnTo>
                      <a:pt x="679" y="379"/>
                    </a:lnTo>
                    <a:lnTo>
                      <a:pt x="680" y="361"/>
                    </a:lnTo>
                    <a:lnTo>
                      <a:pt x="680" y="34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13360" y="2590920"/>
                <a:ext cx="211320" cy="212760"/>
              </a:xfrm>
              <a:custGeom>
                <a:avLst/>
                <a:gdLst/>
                <a:ahLst/>
                <a:rect l="l" t="t" r="r" b="b"/>
                <a:pathLst>
                  <a:path w="666" h="670">
                    <a:moveTo>
                      <a:pt x="666" y="335"/>
                    </a:moveTo>
                    <a:lnTo>
                      <a:pt x="666" y="319"/>
                    </a:lnTo>
                    <a:lnTo>
                      <a:pt x="665" y="302"/>
                    </a:lnTo>
                    <a:lnTo>
                      <a:pt x="662" y="285"/>
                    </a:lnTo>
                    <a:lnTo>
                      <a:pt x="659" y="268"/>
                    </a:lnTo>
                    <a:lnTo>
                      <a:pt x="655" y="252"/>
                    </a:lnTo>
                    <a:lnTo>
                      <a:pt x="651" y="237"/>
                    </a:lnTo>
                    <a:lnTo>
                      <a:pt x="646" y="221"/>
                    </a:lnTo>
                    <a:lnTo>
                      <a:pt x="639" y="205"/>
                    </a:lnTo>
                    <a:lnTo>
                      <a:pt x="633" y="190"/>
                    </a:lnTo>
                    <a:lnTo>
                      <a:pt x="626" y="176"/>
                    </a:lnTo>
                    <a:lnTo>
                      <a:pt x="617" y="162"/>
                    </a:lnTo>
                    <a:lnTo>
                      <a:pt x="609" y="148"/>
                    </a:lnTo>
                    <a:lnTo>
                      <a:pt x="599" y="136"/>
                    </a:lnTo>
                    <a:lnTo>
                      <a:pt x="590" y="122"/>
                    </a:lnTo>
                    <a:lnTo>
                      <a:pt x="578" y="111"/>
                    </a:lnTo>
                    <a:lnTo>
                      <a:pt x="568" y="99"/>
                    </a:lnTo>
                    <a:lnTo>
                      <a:pt x="556" y="88"/>
                    </a:lnTo>
                    <a:lnTo>
                      <a:pt x="544" y="77"/>
                    </a:lnTo>
                    <a:lnTo>
                      <a:pt x="531" y="68"/>
                    </a:lnTo>
                    <a:lnTo>
                      <a:pt x="518" y="58"/>
                    </a:lnTo>
                    <a:lnTo>
                      <a:pt x="505" y="50"/>
                    </a:lnTo>
                    <a:lnTo>
                      <a:pt x="490" y="41"/>
                    </a:lnTo>
                    <a:lnTo>
                      <a:pt x="476" y="34"/>
                    </a:lnTo>
                    <a:lnTo>
                      <a:pt x="462" y="27"/>
                    </a:lnTo>
                    <a:lnTo>
                      <a:pt x="446" y="21"/>
                    </a:lnTo>
                    <a:lnTo>
                      <a:pt x="430" y="16"/>
                    </a:lnTo>
                    <a:lnTo>
                      <a:pt x="414" y="11"/>
                    </a:lnTo>
                    <a:lnTo>
                      <a:pt x="399" y="8"/>
                    </a:lnTo>
                    <a:lnTo>
                      <a:pt x="382" y="5"/>
                    </a:lnTo>
                    <a:lnTo>
                      <a:pt x="365" y="2"/>
                    </a:lnTo>
                    <a:lnTo>
                      <a:pt x="348" y="1"/>
                    </a:lnTo>
                    <a:lnTo>
                      <a:pt x="330" y="0"/>
                    </a:lnTo>
                    <a:lnTo>
                      <a:pt x="316" y="1"/>
                    </a:lnTo>
                    <a:lnTo>
                      <a:pt x="300" y="2"/>
                    </a:lnTo>
                    <a:lnTo>
                      <a:pt x="285" y="4"/>
                    </a:lnTo>
                    <a:lnTo>
                      <a:pt x="270" y="7"/>
                    </a:lnTo>
                    <a:lnTo>
                      <a:pt x="256" y="9"/>
                    </a:lnTo>
                    <a:lnTo>
                      <a:pt x="241" y="13"/>
                    </a:lnTo>
                    <a:lnTo>
                      <a:pt x="226" y="17"/>
                    </a:lnTo>
                    <a:lnTo>
                      <a:pt x="213" y="22"/>
                    </a:lnTo>
                    <a:lnTo>
                      <a:pt x="199" y="28"/>
                    </a:lnTo>
                    <a:lnTo>
                      <a:pt x="186" y="34"/>
                    </a:lnTo>
                    <a:lnTo>
                      <a:pt x="173" y="40"/>
                    </a:lnTo>
                    <a:lnTo>
                      <a:pt x="160" y="48"/>
                    </a:lnTo>
                    <a:lnTo>
                      <a:pt x="147" y="55"/>
                    </a:lnTo>
                    <a:lnTo>
                      <a:pt x="136" y="63"/>
                    </a:lnTo>
                    <a:lnTo>
                      <a:pt x="124" y="72"/>
                    </a:lnTo>
                    <a:lnTo>
                      <a:pt x="114" y="80"/>
                    </a:lnTo>
                    <a:lnTo>
                      <a:pt x="102" y="91"/>
                    </a:lnTo>
                    <a:lnTo>
                      <a:pt x="92" y="100"/>
                    </a:lnTo>
                    <a:lnTo>
                      <a:pt x="82" y="111"/>
                    </a:lnTo>
                    <a:lnTo>
                      <a:pt x="73" y="122"/>
                    </a:lnTo>
                    <a:lnTo>
                      <a:pt x="63" y="133"/>
                    </a:lnTo>
                    <a:lnTo>
                      <a:pt x="55" y="144"/>
                    </a:lnTo>
                    <a:lnTo>
                      <a:pt x="47" y="157"/>
                    </a:lnTo>
                    <a:lnTo>
                      <a:pt x="40" y="169"/>
                    </a:lnTo>
                    <a:lnTo>
                      <a:pt x="33" y="182"/>
                    </a:lnTo>
                    <a:lnTo>
                      <a:pt x="26" y="195"/>
                    </a:lnTo>
                    <a:lnTo>
                      <a:pt x="20" y="208"/>
                    </a:lnTo>
                    <a:lnTo>
                      <a:pt x="15" y="222"/>
                    </a:lnTo>
                    <a:lnTo>
                      <a:pt x="11" y="236"/>
                    </a:lnTo>
                    <a:lnTo>
                      <a:pt x="6" y="250"/>
                    </a:lnTo>
                    <a:lnTo>
                      <a:pt x="3" y="265"/>
                    </a:lnTo>
                    <a:lnTo>
                      <a:pt x="0" y="280"/>
                    </a:lnTo>
                    <a:lnTo>
                      <a:pt x="14" y="306"/>
                    </a:lnTo>
                    <a:lnTo>
                      <a:pt x="15" y="291"/>
                    </a:lnTo>
                    <a:lnTo>
                      <a:pt x="18" y="277"/>
                    </a:lnTo>
                    <a:lnTo>
                      <a:pt x="21" y="262"/>
                    </a:lnTo>
                    <a:lnTo>
                      <a:pt x="24" y="247"/>
                    </a:lnTo>
                    <a:lnTo>
                      <a:pt x="29" y="233"/>
                    </a:lnTo>
                    <a:lnTo>
                      <a:pt x="34" y="220"/>
                    </a:lnTo>
                    <a:lnTo>
                      <a:pt x="40" y="206"/>
                    </a:lnTo>
                    <a:lnTo>
                      <a:pt x="46" y="193"/>
                    </a:lnTo>
                    <a:lnTo>
                      <a:pt x="53" y="180"/>
                    </a:lnTo>
                    <a:lnTo>
                      <a:pt x="60" y="167"/>
                    </a:lnTo>
                    <a:lnTo>
                      <a:pt x="69" y="156"/>
                    </a:lnTo>
                    <a:lnTo>
                      <a:pt x="77" y="143"/>
                    </a:lnTo>
                    <a:lnTo>
                      <a:pt x="85" y="133"/>
                    </a:lnTo>
                    <a:lnTo>
                      <a:pt x="95" y="121"/>
                    </a:lnTo>
                    <a:lnTo>
                      <a:pt x="105" y="111"/>
                    </a:lnTo>
                    <a:lnTo>
                      <a:pt x="116" y="101"/>
                    </a:lnTo>
                    <a:lnTo>
                      <a:pt x="126" y="92"/>
                    </a:lnTo>
                    <a:lnTo>
                      <a:pt x="138" y="82"/>
                    </a:lnTo>
                    <a:lnTo>
                      <a:pt x="149" y="74"/>
                    </a:lnTo>
                    <a:lnTo>
                      <a:pt x="161" y="67"/>
                    </a:lnTo>
                    <a:lnTo>
                      <a:pt x="174" y="59"/>
                    </a:lnTo>
                    <a:lnTo>
                      <a:pt x="186" y="52"/>
                    </a:lnTo>
                    <a:lnTo>
                      <a:pt x="200" y="46"/>
                    </a:lnTo>
                    <a:lnTo>
                      <a:pt x="214" y="40"/>
                    </a:lnTo>
                    <a:lnTo>
                      <a:pt x="227" y="35"/>
                    </a:lnTo>
                    <a:lnTo>
                      <a:pt x="241" y="30"/>
                    </a:lnTo>
                    <a:lnTo>
                      <a:pt x="256" y="27"/>
                    </a:lnTo>
                    <a:lnTo>
                      <a:pt x="270" y="23"/>
                    </a:lnTo>
                    <a:lnTo>
                      <a:pt x="285" y="20"/>
                    </a:lnTo>
                    <a:lnTo>
                      <a:pt x="300" y="19"/>
                    </a:lnTo>
                    <a:lnTo>
                      <a:pt x="316" y="18"/>
                    </a:lnTo>
                    <a:lnTo>
                      <a:pt x="330" y="17"/>
                    </a:lnTo>
                    <a:lnTo>
                      <a:pt x="347" y="18"/>
                    </a:lnTo>
                    <a:lnTo>
                      <a:pt x="363" y="19"/>
                    </a:lnTo>
                    <a:lnTo>
                      <a:pt x="379" y="21"/>
                    </a:lnTo>
                    <a:lnTo>
                      <a:pt x="394" y="23"/>
                    </a:lnTo>
                    <a:lnTo>
                      <a:pt x="410" y="28"/>
                    </a:lnTo>
                    <a:lnTo>
                      <a:pt x="425" y="32"/>
                    </a:lnTo>
                    <a:lnTo>
                      <a:pt x="440" y="37"/>
                    </a:lnTo>
                    <a:lnTo>
                      <a:pt x="454" y="42"/>
                    </a:lnTo>
                    <a:lnTo>
                      <a:pt x="469" y="49"/>
                    </a:lnTo>
                    <a:lnTo>
                      <a:pt x="483" y="56"/>
                    </a:lnTo>
                    <a:lnTo>
                      <a:pt x="495" y="63"/>
                    </a:lnTo>
                    <a:lnTo>
                      <a:pt x="509" y="72"/>
                    </a:lnTo>
                    <a:lnTo>
                      <a:pt x="522" y="81"/>
                    </a:lnTo>
                    <a:lnTo>
                      <a:pt x="533" y="91"/>
                    </a:lnTo>
                    <a:lnTo>
                      <a:pt x="545" y="100"/>
                    </a:lnTo>
                    <a:lnTo>
                      <a:pt x="556" y="111"/>
                    </a:lnTo>
                    <a:lnTo>
                      <a:pt x="567" y="122"/>
                    </a:lnTo>
                    <a:lnTo>
                      <a:pt x="576" y="134"/>
                    </a:lnTo>
                    <a:lnTo>
                      <a:pt x="586" y="145"/>
                    </a:lnTo>
                    <a:lnTo>
                      <a:pt x="595" y="158"/>
                    </a:lnTo>
                    <a:lnTo>
                      <a:pt x="602" y="170"/>
                    </a:lnTo>
                    <a:lnTo>
                      <a:pt x="611" y="184"/>
                    </a:lnTo>
                    <a:lnTo>
                      <a:pt x="617" y="198"/>
                    </a:lnTo>
                    <a:lnTo>
                      <a:pt x="625" y="211"/>
                    </a:lnTo>
                    <a:lnTo>
                      <a:pt x="630" y="226"/>
                    </a:lnTo>
                    <a:lnTo>
                      <a:pt x="635" y="241"/>
                    </a:lnTo>
                    <a:lnTo>
                      <a:pt x="639" y="257"/>
                    </a:lnTo>
                    <a:lnTo>
                      <a:pt x="642" y="271"/>
                    </a:lnTo>
                    <a:lnTo>
                      <a:pt x="646" y="287"/>
                    </a:lnTo>
                    <a:lnTo>
                      <a:pt x="648" y="303"/>
                    </a:lnTo>
                    <a:lnTo>
                      <a:pt x="649" y="320"/>
                    </a:lnTo>
                    <a:lnTo>
                      <a:pt x="649" y="335"/>
                    </a:lnTo>
                    <a:lnTo>
                      <a:pt x="649" y="352"/>
                    </a:lnTo>
                    <a:lnTo>
                      <a:pt x="648" y="368"/>
                    </a:lnTo>
                    <a:lnTo>
                      <a:pt x="646" y="385"/>
                    </a:lnTo>
                    <a:lnTo>
                      <a:pt x="642" y="399"/>
                    </a:lnTo>
                    <a:lnTo>
                      <a:pt x="639" y="415"/>
                    </a:lnTo>
                    <a:lnTo>
                      <a:pt x="635" y="430"/>
                    </a:lnTo>
                    <a:lnTo>
                      <a:pt x="630" y="446"/>
                    </a:lnTo>
                    <a:lnTo>
                      <a:pt x="625" y="459"/>
                    </a:lnTo>
                    <a:lnTo>
                      <a:pt x="617" y="474"/>
                    </a:lnTo>
                    <a:lnTo>
                      <a:pt x="611" y="488"/>
                    </a:lnTo>
                    <a:lnTo>
                      <a:pt x="602" y="500"/>
                    </a:lnTo>
                    <a:lnTo>
                      <a:pt x="595" y="514"/>
                    </a:lnTo>
                    <a:lnTo>
                      <a:pt x="586" y="526"/>
                    </a:lnTo>
                    <a:lnTo>
                      <a:pt x="576" y="538"/>
                    </a:lnTo>
                    <a:lnTo>
                      <a:pt x="567" y="550"/>
                    </a:lnTo>
                    <a:lnTo>
                      <a:pt x="556" y="561"/>
                    </a:lnTo>
                    <a:lnTo>
                      <a:pt x="545" y="572"/>
                    </a:lnTo>
                    <a:lnTo>
                      <a:pt x="533" y="581"/>
                    </a:lnTo>
                    <a:lnTo>
                      <a:pt x="522" y="590"/>
                    </a:lnTo>
                    <a:lnTo>
                      <a:pt x="509" y="600"/>
                    </a:lnTo>
                    <a:lnTo>
                      <a:pt x="495" y="608"/>
                    </a:lnTo>
                    <a:lnTo>
                      <a:pt x="483" y="616"/>
                    </a:lnTo>
                    <a:lnTo>
                      <a:pt x="469" y="623"/>
                    </a:lnTo>
                    <a:lnTo>
                      <a:pt x="454" y="629"/>
                    </a:lnTo>
                    <a:lnTo>
                      <a:pt x="440" y="635"/>
                    </a:lnTo>
                    <a:lnTo>
                      <a:pt x="425" y="640"/>
                    </a:lnTo>
                    <a:lnTo>
                      <a:pt x="410" y="644"/>
                    </a:lnTo>
                    <a:lnTo>
                      <a:pt x="394" y="647"/>
                    </a:lnTo>
                    <a:lnTo>
                      <a:pt x="379" y="650"/>
                    </a:lnTo>
                    <a:lnTo>
                      <a:pt x="363" y="652"/>
                    </a:lnTo>
                    <a:lnTo>
                      <a:pt x="347" y="653"/>
                    </a:lnTo>
                    <a:lnTo>
                      <a:pt x="330" y="653"/>
                    </a:lnTo>
                    <a:lnTo>
                      <a:pt x="318" y="653"/>
                    </a:lnTo>
                    <a:lnTo>
                      <a:pt x="305" y="652"/>
                    </a:lnTo>
                    <a:lnTo>
                      <a:pt x="291" y="651"/>
                    </a:lnTo>
                    <a:lnTo>
                      <a:pt x="279" y="649"/>
                    </a:lnTo>
                    <a:lnTo>
                      <a:pt x="266" y="647"/>
                    </a:lnTo>
                    <a:lnTo>
                      <a:pt x="254" y="645"/>
                    </a:lnTo>
                    <a:lnTo>
                      <a:pt x="242" y="641"/>
                    </a:lnTo>
                    <a:lnTo>
                      <a:pt x="229" y="638"/>
                    </a:lnTo>
                    <a:lnTo>
                      <a:pt x="206" y="629"/>
                    </a:lnTo>
                    <a:lnTo>
                      <a:pt x="184" y="619"/>
                    </a:lnTo>
                    <a:lnTo>
                      <a:pt x="162" y="606"/>
                    </a:lnTo>
                    <a:lnTo>
                      <a:pt x="142" y="593"/>
                    </a:lnTo>
                    <a:lnTo>
                      <a:pt x="158" y="623"/>
                    </a:lnTo>
                    <a:lnTo>
                      <a:pt x="177" y="634"/>
                    </a:lnTo>
                    <a:lnTo>
                      <a:pt x="198" y="643"/>
                    </a:lnTo>
                    <a:lnTo>
                      <a:pt x="218" y="651"/>
                    </a:lnTo>
                    <a:lnTo>
                      <a:pt x="240" y="658"/>
                    </a:lnTo>
                    <a:lnTo>
                      <a:pt x="262" y="664"/>
                    </a:lnTo>
                    <a:lnTo>
                      <a:pt x="284" y="667"/>
                    </a:lnTo>
                    <a:lnTo>
                      <a:pt x="307" y="670"/>
                    </a:lnTo>
                    <a:lnTo>
                      <a:pt x="330" y="670"/>
                    </a:lnTo>
                    <a:lnTo>
                      <a:pt x="348" y="670"/>
                    </a:lnTo>
                    <a:lnTo>
                      <a:pt x="365" y="669"/>
                    </a:lnTo>
                    <a:lnTo>
                      <a:pt x="382" y="667"/>
                    </a:lnTo>
                    <a:lnTo>
                      <a:pt x="399" y="664"/>
                    </a:lnTo>
                    <a:lnTo>
                      <a:pt x="414" y="660"/>
                    </a:lnTo>
                    <a:lnTo>
                      <a:pt x="430" y="656"/>
                    </a:lnTo>
                    <a:lnTo>
                      <a:pt x="446" y="650"/>
                    </a:lnTo>
                    <a:lnTo>
                      <a:pt x="462" y="644"/>
                    </a:lnTo>
                    <a:lnTo>
                      <a:pt x="476" y="638"/>
                    </a:lnTo>
                    <a:lnTo>
                      <a:pt x="490" y="630"/>
                    </a:lnTo>
                    <a:lnTo>
                      <a:pt x="505" y="622"/>
                    </a:lnTo>
                    <a:lnTo>
                      <a:pt x="518" y="614"/>
                    </a:lnTo>
                    <a:lnTo>
                      <a:pt x="531" y="604"/>
                    </a:lnTo>
                    <a:lnTo>
                      <a:pt x="544" y="594"/>
                    </a:lnTo>
                    <a:lnTo>
                      <a:pt x="556" y="583"/>
                    </a:lnTo>
                    <a:lnTo>
                      <a:pt x="568" y="573"/>
                    </a:lnTo>
                    <a:lnTo>
                      <a:pt x="578" y="561"/>
                    </a:lnTo>
                    <a:lnTo>
                      <a:pt x="590" y="548"/>
                    </a:lnTo>
                    <a:lnTo>
                      <a:pt x="599" y="536"/>
                    </a:lnTo>
                    <a:lnTo>
                      <a:pt x="609" y="523"/>
                    </a:lnTo>
                    <a:lnTo>
                      <a:pt x="617" y="510"/>
                    </a:lnTo>
                    <a:lnTo>
                      <a:pt x="626" y="495"/>
                    </a:lnTo>
                    <a:lnTo>
                      <a:pt x="633" y="481"/>
                    </a:lnTo>
                    <a:lnTo>
                      <a:pt x="639" y="467"/>
                    </a:lnTo>
                    <a:lnTo>
                      <a:pt x="646" y="451"/>
                    </a:lnTo>
                    <a:lnTo>
                      <a:pt x="651" y="435"/>
                    </a:lnTo>
                    <a:lnTo>
                      <a:pt x="655" y="419"/>
                    </a:lnTo>
                    <a:lnTo>
                      <a:pt x="659" y="404"/>
                    </a:lnTo>
                    <a:lnTo>
                      <a:pt x="662" y="387"/>
                    </a:lnTo>
                    <a:lnTo>
                      <a:pt x="665" y="370"/>
                    </a:lnTo>
                    <a:lnTo>
                      <a:pt x="666" y="353"/>
                    </a:lnTo>
                    <a:lnTo>
                      <a:pt x="666" y="33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15160" y="2593800"/>
                <a:ext cx="206280" cy="208080"/>
              </a:xfrm>
              <a:custGeom>
                <a:avLst/>
                <a:gdLst/>
                <a:ahLst/>
                <a:rect l="l" t="t" r="r" b="b"/>
                <a:pathLst>
                  <a:path w="651" h="653">
                    <a:moveTo>
                      <a:pt x="651" y="326"/>
                    </a:moveTo>
                    <a:lnTo>
                      <a:pt x="651" y="310"/>
                    </a:lnTo>
                    <a:lnTo>
                      <a:pt x="650" y="294"/>
                    </a:lnTo>
                    <a:lnTo>
                      <a:pt x="648" y="277"/>
                    </a:lnTo>
                    <a:lnTo>
                      <a:pt x="645" y="261"/>
                    </a:lnTo>
                    <a:lnTo>
                      <a:pt x="642" y="245"/>
                    </a:lnTo>
                    <a:lnTo>
                      <a:pt x="636" y="230"/>
                    </a:lnTo>
                    <a:lnTo>
                      <a:pt x="631" y="214"/>
                    </a:lnTo>
                    <a:lnTo>
                      <a:pt x="626" y="199"/>
                    </a:lnTo>
                    <a:lnTo>
                      <a:pt x="620" y="186"/>
                    </a:lnTo>
                    <a:lnTo>
                      <a:pt x="612" y="171"/>
                    </a:lnTo>
                    <a:lnTo>
                      <a:pt x="604" y="157"/>
                    </a:lnTo>
                    <a:lnTo>
                      <a:pt x="595" y="144"/>
                    </a:lnTo>
                    <a:lnTo>
                      <a:pt x="587" y="131"/>
                    </a:lnTo>
                    <a:lnTo>
                      <a:pt x="577" y="119"/>
                    </a:lnTo>
                    <a:lnTo>
                      <a:pt x="567" y="107"/>
                    </a:lnTo>
                    <a:lnTo>
                      <a:pt x="555" y="95"/>
                    </a:lnTo>
                    <a:lnTo>
                      <a:pt x="544" y="85"/>
                    </a:lnTo>
                    <a:lnTo>
                      <a:pt x="532" y="74"/>
                    </a:lnTo>
                    <a:lnTo>
                      <a:pt x="520" y="65"/>
                    </a:lnTo>
                    <a:lnTo>
                      <a:pt x="507" y="55"/>
                    </a:lnTo>
                    <a:lnTo>
                      <a:pt x="495" y="47"/>
                    </a:lnTo>
                    <a:lnTo>
                      <a:pt x="481" y="40"/>
                    </a:lnTo>
                    <a:lnTo>
                      <a:pt x="466" y="32"/>
                    </a:lnTo>
                    <a:lnTo>
                      <a:pt x="451" y="26"/>
                    </a:lnTo>
                    <a:lnTo>
                      <a:pt x="437" y="20"/>
                    </a:lnTo>
                    <a:lnTo>
                      <a:pt x="422" y="14"/>
                    </a:lnTo>
                    <a:lnTo>
                      <a:pt x="406" y="10"/>
                    </a:lnTo>
                    <a:lnTo>
                      <a:pt x="390" y="7"/>
                    </a:lnTo>
                    <a:lnTo>
                      <a:pt x="375" y="4"/>
                    </a:lnTo>
                    <a:lnTo>
                      <a:pt x="358" y="2"/>
                    </a:lnTo>
                    <a:lnTo>
                      <a:pt x="341" y="1"/>
                    </a:lnTo>
                    <a:lnTo>
                      <a:pt x="324" y="0"/>
                    </a:lnTo>
                    <a:lnTo>
                      <a:pt x="310" y="1"/>
                    </a:lnTo>
                    <a:lnTo>
                      <a:pt x="294" y="2"/>
                    </a:lnTo>
                    <a:lnTo>
                      <a:pt x="279" y="3"/>
                    </a:lnTo>
                    <a:lnTo>
                      <a:pt x="264" y="6"/>
                    </a:lnTo>
                    <a:lnTo>
                      <a:pt x="250" y="9"/>
                    </a:lnTo>
                    <a:lnTo>
                      <a:pt x="235" y="12"/>
                    </a:lnTo>
                    <a:lnTo>
                      <a:pt x="221" y="17"/>
                    </a:lnTo>
                    <a:lnTo>
                      <a:pt x="208" y="22"/>
                    </a:lnTo>
                    <a:lnTo>
                      <a:pt x="194" y="27"/>
                    </a:lnTo>
                    <a:lnTo>
                      <a:pt x="180" y="33"/>
                    </a:lnTo>
                    <a:lnTo>
                      <a:pt x="168" y="41"/>
                    </a:lnTo>
                    <a:lnTo>
                      <a:pt x="155" y="48"/>
                    </a:lnTo>
                    <a:lnTo>
                      <a:pt x="142" y="55"/>
                    </a:lnTo>
                    <a:lnTo>
                      <a:pt x="131" y="64"/>
                    </a:lnTo>
                    <a:lnTo>
                      <a:pt x="119" y="72"/>
                    </a:lnTo>
                    <a:lnTo>
                      <a:pt x="109" y="82"/>
                    </a:lnTo>
                    <a:lnTo>
                      <a:pt x="98" y="91"/>
                    </a:lnTo>
                    <a:lnTo>
                      <a:pt x="88" y="102"/>
                    </a:lnTo>
                    <a:lnTo>
                      <a:pt x="78" y="112"/>
                    </a:lnTo>
                    <a:lnTo>
                      <a:pt x="69" y="124"/>
                    </a:lnTo>
                    <a:lnTo>
                      <a:pt x="60" y="135"/>
                    </a:lnTo>
                    <a:lnTo>
                      <a:pt x="52" y="147"/>
                    </a:lnTo>
                    <a:lnTo>
                      <a:pt x="44" y="159"/>
                    </a:lnTo>
                    <a:lnTo>
                      <a:pt x="37" y="172"/>
                    </a:lnTo>
                    <a:lnTo>
                      <a:pt x="30" y="185"/>
                    </a:lnTo>
                    <a:lnTo>
                      <a:pt x="24" y="198"/>
                    </a:lnTo>
                    <a:lnTo>
                      <a:pt x="18" y="212"/>
                    </a:lnTo>
                    <a:lnTo>
                      <a:pt x="14" y="226"/>
                    </a:lnTo>
                    <a:lnTo>
                      <a:pt x="10" y="239"/>
                    </a:lnTo>
                    <a:lnTo>
                      <a:pt x="6" y="254"/>
                    </a:lnTo>
                    <a:lnTo>
                      <a:pt x="3" y="269"/>
                    </a:lnTo>
                    <a:lnTo>
                      <a:pt x="0" y="283"/>
                    </a:lnTo>
                    <a:lnTo>
                      <a:pt x="15" y="312"/>
                    </a:lnTo>
                    <a:lnTo>
                      <a:pt x="16" y="297"/>
                    </a:lnTo>
                    <a:lnTo>
                      <a:pt x="17" y="281"/>
                    </a:lnTo>
                    <a:lnTo>
                      <a:pt x="20" y="266"/>
                    </a:lnTo>
                    <a:lnTo>
                      <a:pt x="24" y="252"/>
                    </a:lnTo>
                    <a:lnTo>
                      <a:pt x="28" y="238"/>
                    </a:lnTo>
                    <a:lnTo>
                      <a:pt x="32" y="223"/>
                    </a:lnTo>
                    <a:lnTo>
                      <a:pt x="37" y="210"/>
                    </a:lnTo>
                    <a:lnTo>
                      <a:pt x="44" y="196"/>
                    </a:lnTo>
                    <a:lnTo>
                      <a:pt x="50" y="184"/>
                    </a:lnTo>
                    <a:lnTo>
                      <a:pt x="56" y="171"/>
                    </a:lnTo>
                    <a:lnTo>
                      <a:pt x="65" y="158"/>
                    </a:lnTo>
                    <a:lnTo>
                      <a:pt x="72" y="147"/>
                    </a:lnTo>
                    <a:lnTo>
                      <a:pt x="81" y="135"/>
                    </a:lnTo>
                    <a:lnTo>
                      <a:pt x="91" y="124"/>
                    </a:lnTo>
                    <a:lnTo>
                      <a:pt x="100" y="113"/>
                    </a:lnTo>
                    <a:lnTo>
                      <a:pt x="110" y="103"/>
                    </a:lnTo>
                    <a:lnTo>
                      <a:pt x="121" y="93"/>
                    </a:lnTo>
                    <a:lnTo>
                      <a:pt x="132" y="84"/>
                    </a:lnTo>
                    <a:lnTo>
                      <a:pt x="143" y="75"/>
                    </a:lnTo>
                    <a:lnTo>
                      <a:pt x="156" y="67"/>
                    </a:lnTo>
                    <a:lnTo>
                      <a:pt x="168" y="60"/>
                    </a:lnTo>
                    <a:lnTo>
                      <a:pt x="180" y="52"/>
                    </a:lnTo>
                    <a:lnTo>
                      <a:pt x="194" y="46"/>
                    </a:lnTo>
                    <a:lnTo>
                      <a:pt x="208" y="40"/>
                    </a:lnTo>
                    <a:lnTo>
                      <a:pt x="221" y="34"/>
                    </a:lnTo>
                    <a:lnTo>
                      <a:pt x="235" y="30"/>
                    </a:lnTo>
                    <a:lnTo>
                      <a:pt x="250" y="26"/>
                    </a:lnTo>
                    <a:lnTo>
                      <a:pt x="264" y="23"/>
                    </a:lnTo>
                    <a:lnTo>
                      <a:pt x="279" y="20"/>
                    </a:lnTo>
                    <a:lnTo>
                      <a:pt x="294" y="19"/>
                    </a:lnTo>
                    <a:lnTo>
                      <a:pt x="310" y="18"/>
                    </a:lnTo>
                    <a:lnTo>
                      <a:pt x="324" y="17"/>
                    </a:lnTo>
                    <a:lnTo>
                      <a:pt x="341" y="18"/>
                    </a:lnTo>
                    <a:lnTo>
                      <a:pt x="357" y="19"/>
                    </a:lnTo>
                    <a:lnTo>
                      <a:pt x="372" y="21"/>
                    </a:lnTo>
                    <a:lnTo>
                      <a:pt x="387" y="23"/>
                    </a:lnTo>
                    <a:lnTo>
                      <a:pt x="402" y="27"/>
                    </a:lnTo>
                    <a:lnTo>
                      <a:pt x="417" y="31"/>
                    </a:lnTo>
                    <a:lnTo>
                      <a:pt x="431" y="35"/>
                    </a:lnTo>
                    <a:lnTo>
                      <a:pt x="445" y="41"/>
                    </a:lnTo>
                    <a:lnTo>
                      <a:pt x="459" y="47"/>
                    </a:lnTo>
                    <a:lnTo>
                      <a:pt x="472" y="54"/>
                    </a:lnTo>
                    <a:lnTo>
                      <a:pt x="485" y="62"/>
                    </a:lnTo>
                    <a:lnTo>
                      <a:pt x="498" y="70"/>
                    </a:lnTo>
                    <a:lnTo>
                      <a:pt x="510" y="79"/>
                    </a:lnTo>
                    <a:lnTo>
                      <a:pt x="522" y="88"/>
                    </a:lnTo>
                    <a:lnTo>
                      <a:pt x="533" y="97"/>
                    </a:lnTo>
                    <a:lnTo>
                      <a:pt x="544" y="108"/>
                    </a:lnTo>
                    <a:lnTo>
                      <a:pt x="554" y="118"/>
                    </a:lnTo>
                    <a:lnTo>
                      <a:pt x="564" y="130"/>
                    </a:lnTo>
                    <a:lnTo>
                      <a:pt x="573" y="142"/>
                    </a:lnTo>
                    <a:lnTo>
                      <a:pt x="582" y="153"/>
                    </a:lnTo>
                    <a:lnTo>
                      <a:pt x="590" y="166"/>
                    </a:lnTo>
                    <a:lnTo>
                      <a:pt x="598" y="179"/>
                    </a:lnTo>
                    <a:lnTo>
                      <a:pt x="604" y="192"/>
                    </a:lnTo>
                    <a:lnTo>
                      <a:pt x="610" y="207"/>
                    </a:lnTo>
                    <a:lnTo>
                      <a:pt x="615" y="220"/>
                    </a:lnTo>
                    <a:lnTo>
                      <a:pt x="621" y="235"/>
                    </a:lnTo>
                    <a:lnTo>
                      <a:pt x="625" y="250"/>
                    </a:lnTo>
                    <a:lnTo>
                      <a:pt x="628" y="264"/>
                    </a:lnTo>
                    <a:lnTo>
                      <a:pt x="631" y="279"/>
                    </a:lnTo>
                    <a:lnTo>
                      <a:pt x="633" y="295"/>
                    </a:lnTo>
                    <a:lnTo>
                      <a:pt x="634" y="311"/>
                    </a:lnTo>
                    <a:lnTo>
                      <a:pt x="634" y="326"/>
                    </a:lnTo>
                    <a:lnTo>
                      <a:pt x="634" y="343"/>
                    </a:lnTo>
                    <a:lnTo>
                      <a:pt x="633" y="359"/>
                    </a:lnTo>
                    <a:lnTo>
                      <a:pt x="631" y="374"/>
                    </a:lnTo>
                    <a:lnTo>
                      <a:pt x="628" y="389"/>
                    </a:lnTo>
                    <a:lnTo>
                      <a:pt x="625" y="404"/>
                    </a:lnTo>
                    <a:lnTo>
                      <a:pt x="621" y="419"/>
                    </a:lnTo>
                    <a:lnTo>
                      <a:pt x="615" y="433"/>
                    </a:lnTo>
                    <a:lnTo>
                      <a:pt x="610" y="447"/>
                    </a:lnTo>
                    <a:lnTo>
                      <a:pt x="604" y="461"/>
                    </a:lnTo>
                    <a:lnTo>
                      <a:pt x="598" y="474"/>
                    </a:lnTo>
                    <a:lnTo>
                      <a:pt x="590" y="487"/>
                    </a:lnTo>
                    <a:lnTo>
                      <a:pt x="582" y="500"/>
                    </a:lnTo>
                    <a:lnTo>
                      <a:pt x="573" y="512"/>
                    </a:lnTo>
                    <a:lnTo>
                      <a:pt x="564" y="524"/>
                    </a:lnTo>
                    <a:lnTo>
                      <a:pt x="554" y="535"/>
                    </a:lnTo>
                    <a:lnTo>
                      <a:pt x="544" y="546"/>
                    </a:lnTo>
                    <a:lnTo>
                      <a:pt x="533" y="556"/>
                    </a:lnTo>
                    <a:lnTo>
                      <a:pt x="522" y="566"/>
                    </a:lnTo>
                    <a:lnTo>
                      <a:pt x="510" y="575"/>
                    </a:lnTo>
                    <a:lnTo>
                      <a:pt x="498" y="584"/>
                    </a:lnTo>
                    <a:lnTo>
                      <a:pt x="485" y="592"/>
                    </a:lnTo>
                    <a:lnTo>
                      <a:pt x="472" y="599"/>
                    </a:lnTo>
                    <a:lnTo>
                      <a:pt x="459" y="606"/>
                    </a:lnTo>
                    <a:lnTo>
                      <a:pt x="445" y="612"/>
                    </a:lnTo>
                    <a:lnTo>
                      <a:pt x="431" y="618"/>
                    </a:lnTo>
                    <a:lnTo>
                      <a:pt x="417" y="622"/>
                    </a:lnTo>
                    <a:lnTo>
                      <a:pt x="402" y="627"/>
                    </a:lnTo>
                    <a:lnTo>
                      <a:pt x="387" y="630"/>
                    </a:lnTo>
                    <a:lnTo>
                      <a:pt x="372" y="633"/>
                    </a:lnTo>
                    <a:lnTo>
                      <a:pt x="357" y="635"/>
                    </a:lnTo>
                    <a:lnTo>
                      <a:pt x="341" y="636"/>
                    </a:lnTo>
                    <a:lnTo>
                      <a:pt x="324" y="636"/>
                    </a:lnTo>
                    <a:lnTo>
                      <a:pt x="311" y="636"/>
                    </a:lnTo>
                    <a:lnTo>
                      <a:pt x="297" y="635"/>
                    </a:lnTo>
                    <a:lnTo>
                      <a:pt x="283" y="634"/>
                    </a:lnTo>
                    <a:lnTo>
                      <a:pt x="270" y="632"/>
                    </a:lnTo>
                    <a:lnTo>
                      <a:pt x="256" y="629"/>
                    </a:lnTo>
                    <a:lnTo>
                      <a:pt x="243" y="626"/>
                    </a:lnTo>
                    <a:lnTo>
                      <a:pt x="231" y="622"/>
                    </a:lnTo>
                    <a:lnTo>
                      <a:pt x="218" y="617"/>
                    </a:lnTo>
                    <a:lnTo>
                      <a:pt x="205" y="613"/>
                    </a:lnTo>
                    <a:lnTo>
                      <a:pt x="193" y="608"/>
                    </a:lnTo>
                    <a:lnTo>
                      <a:pt x="181" y="601"/>
                    </a:lnTo>
                    <a:lnTo>
                      <a:pt x="170" y="595"/>
                    </a:lnTo>
                    <a:lnTo>
                      <a:pt x="159" y="589"/>
                    </a:lnTo>
                    <a:lnTo>
                      <a:pt x="148" y="581"/>
                    </a:lnTo>
                    <a:lnTo>
                      <a:pt x="137" y="574"/>
                    </a:lnTo>
                    <a:lnTo>
                      <a:pt x="127" y="566"/>
                    </a:lnTo>
                    <a:lnTo>
                      <a:pt x="144" y="599"/>
                    </a:lnTo>
                    <a:lnTo>
                      <a:pt x="164" y="611"/>
                    </a:lnTo>
                    <a:lnTo>
                      <a:pt x="184" y="622"/>
                    </a:lnTo>
                    <a:lnTo>
                      <a:pt x="207" y="632"/>
                    </a:lnTo>
                    <a:lnTo>
                      <a:pt x="229" y="639"/>
                    </a:lnTo>
                    <a:lnTo>
                      <a:pt x="252" y="646"/>
                    </a:lnTo>
                    <a:lnTo>
                      <a:pt x="276" y="650"/>
                    </a:lnTo>
                    <a:lnTo>
                      <a:pt x="300" y="652"/>
                    </a:lnTo>
                    <a:lnTo>
                      <a:pt x="324" y="653"/>
                    </a:lnTo>
                    <a:lnTo>
                      <a:pt x="341" y="653"/>
                    </a:lnTo>
                    <a:lnTo>
                      <a:pt x="358" y="652"/>
                    </a:lnTo>
                    <a:lnTo>
                      <a:pt x="375" y="650"/>
                    </a:lnTo>
                    <a:lnTo>
                      <a:pt x="390" y="647"/>
                    </a:lnTo>
                    <a:lnTo>
                      <a:pt x="406" y="643"/>
                    </a:lnTo>
                    <a:lnTo>
                      <a:pt x="422" y="638"/>
                    </a:lnTo>
                    <a:lnTo>
                      <a:pt x="437" y="634"/>
                    </a:lnTo>
                    <a:lnTo>
                      <a:pt x="451" y="628"/>
                    </a:lnTo>
                    <a:lnTo>
                      <a:pt x="466" y="621"/>
                    </a:lnTo>
                    <a:lnTo>
                      <a:pt x="481" y="614"/>
                    </a:lnTo>
                    <a:lnTo>
                      <a:pt x="495" y="606"/>
                    </a:lnTo>
                    <a:lnTo>
                      <a:pt x="507" y="597"/>
                    </a:lnTo>
                    <a:lnTo>
                      <a:pt x="520" y="589"/>
                    </a:lnTo>
                    <a:lnTo>
                      <a:pt x="532" y="578"/>
                    </a:lnTo>
                    <a:lnTo>
                      <a:pt x="544" y="569"/>
                    </a:lnTo>
                    <a:lnTo>
                      <a:pt x="555" y="557"/>
                    </a:lnTo>
                    <a:lnTo>
                      <a:pt x="567" y="546"/>
                    </a:lnTo>
                    <a:lnTo>
                      <a:pt x="577" y="534"/>
                    </a:lnTo>
                    <a:lnTo>
                      <a:pt x="587" y="522"/>
                    </a:lnTo>
                    <a:lnTo>
                      <a:pt x="595" y="509"/>
                    </a:lnTo>
                    <a:lnTo>
                      <a:pt x="604" y="496"/>
                    </a:lnTo>
                    <a:lnTo>
                      <a:pt x="612" y="483"/>
                    </a:lnTo>
                    <a:lnTo>
                      <a:pt x="620" y="468"/>
                    </a:lnTo>
                    <a:lnTo>
                      <a:pt x="626" y="453"/>
                    </a:lnTo>
                    <a:lnTo>
                      <a:pt x="631" y="439"/>
                    </a:lnTo>
                    <a:lnTo>
                      <a:pt x="636" y="424"/>
                    </a:lnTo>
                    <a:lnTo>
                      <a:pt x="642" y="408"/>
                    </a:lnTo>
                    <a:lnTo>
                      <a:pt x="645" y="392"/>
                    </a:lnTo>
                    <a:lnTo>
                      <a:pt x="648" y="377"/>
                    </a:lnTo>
                    <a:lnTo>
                      <a:pt x="650" y="360"/>
                    </a:lnTo>
                    <a:lnTo>
                      <a:pt x="651" y="343"/>
                    </a:lnTo>
                    <a:lnTo>
                      <a:pt x="651" y="3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16600" y="2597040"/>
                <a:ext cx="201600" cy="201600"/>
              </a:xfrm>
              <a:custGeom>
                <a:avLst/>
                <a:gdLst/>
                <a:ahLst/>
                <a:rect l="l" t="t" r="r" b="b"/>
                <a:pathLst>
                  <a:path w="635" h="636">
                    <a:moveTo>
                      <a:pt x="635" y="318"/>
                    </a:moveTo>
                    <a:lnTo>
                      <a:pt x="635" y="303"/>
                    </a:lnTo>
                    <a:lnTo>
                      <a:pt x="634" y="286"/>
                    </a:lnTo>
                    <a:lnTo>
                      <a:pt x="632" y="270"/>
                    </a:lnTo>
                    <a:lnTo>
                      <a:pt x="628" y="254"/>
                    </a:lnTo>
                    <a:lnTo>
                      <a:pt x="625" y="240"/>
                    </a:lnTo>
                    <a:lnTo>
                      <a:pt x="621" y="224"/>
                    </a:lnTo>
                    <a:lnTo>
                      <a:pt x="616" y="209"/>
                    </a:lnTo>
                    <a:lnTo>
                      <a:pt x="611" y="194"/>
                    </a:lnTo>
                    <a:lnTo>
                      <a:pt x="603" y="181"/>
                    </a:lnTo>
                    <a:lnTo>
                      <a:pt x="597" y="167"/>
                    </a:lnTo>
                    <a:lnTo>
                      <a:pt x="588" y="153"/>
                    </a:lnTo>
                    <a:lnTo>
                      <a:pt x="581" y="141"/>
                    </a:lnTo>
                    <a:lnTo>
                      <a:pt x="572" y="128"/>
                    </a:lnTo>
                    <a:lnTo>
                      <a:pt x="562" y="117"/>
                    </a:lnTo>
                    <a:lnTo>
                      <a:pt x="553" y="105"/>
                    </a:lnTo>
                    <a:lnTo>
                      <a:pt x="542" y="94"/>
                    </a:lnTo>
                    <a:lnTo>
                      <a:pt x="531" y="83"/>
                    </a:lnTo>
                    <a:lnTo>
                      <a:pt x="519" y="74"/>
                    </a:lnTo>
                    <a:lnTo>
                      <a:pt x="508" y="64"/>
                    </a:lnTo>
                    <a:lnTo>
                      <a:pt x="495" y="55"/>
                    </a:lnTo>
                    <a:lnTo>
                      <a:pt x="481" y="46"/>
                    </a:lnTo>
                    <a:lnTo>
                      <a:pt x="469" y="39"/>
                    </a:lnTo>
                    <a:lnTo>
                      <a:pt x="455" y="32"/>
                    </a:lnTo>
                    <a:lnTo>
                      <a:pt x="440" y="25"/>
                    </a:lnTo>
                    <a:lnTo>
                      <a:pt x="426" y="20"/>
                    </a:lnTo>
                    <a:lnTo>
                      <a:pt x="411" y="15"/>
                    </a:lnTo>
                    <a:lnTo>
                      <a:pt x="396" y="11"/>
                    </a:lnTo>
                    <a:lnTo>
                      <a:pt x="380" y="6"/>
                    </a:lnTo>
                    <a:lnTo>
                      <a:pt x="365" y="4"/>
                    </a:lnTo>
                    <a:lnTo>
                      <a:pt x="349" y="2"/>
                    </a:lnTo>
                    <a:lnTo>
                      <a:pt x="333" y="1"/>
                    </a:lnTo>
                    <a:lnTo>
                      <a:pt x="316" y="0"/>
                    </a:lnTo>
                    <a:lnTo>
                      <a:pt x="302" y="1"/>
                    </a:lnTo>
                    <a:lnTo>
                      <a:pt x="286" y="2"/>
                    </a:lnTo>
                    <a:lnTo>
                      <a:pt x="271" y="3"/>
                    </a:lnTo>
                    <a:lnTo>
                      <a:pt x="256" y="6"/>
                    </a:lnTo>
                    <a:lnTo>
                      <a:pt x="242" y="10"/>
                    </a:lnTo>
                    <a:lnTo>
                      <a:pt x="227" y="13"/>
                    </a:lnTo>
                    <a:lnTo>
                      <a:pt x="213" y="18"/>
                    </a:lnTo>
                    <a:lnTo>
                      <a:pt x="200" y="23"/>
                    </a:lnTo>
                    <a:lnTo>
                      <a:pt x="186" y="29"/>
                    </a:lnTo>
                    <a:lnTo>
                      <a:pt x="172" y="35"/>
                    </a:lnTo>
                    <a:lnTo>
                      <a:pt x="160" y="42"/>
                    </a:lnTo>
                    <a:lnTo>
                      <a:pt x="147" y="50"/>
                    </a:lnTo>
                    <a:lnTo>
                      <a:pt x="135" y="57"/>
                    </a:lnTo>
                    <a:lnTo>
                      <a:pt x="124" y="65"/>
                    </a:lnTo>
                    <a:lnTo>
                      <a:pt x="112" y="75"/>
                    </a:lnTo>
                    <a:lnTo>
                      <a:pt x="102" y="84"/>
                    </a:lnTo>
                    <a:lnTo>
                      <a:pt x="91" y="94"/>
                    </a:lnTo>
                    <a:lnTo>
                      <a:pt x="81" y="104"/>
                    </a:lnTo>
                    <a:lnTo>
                      <a:pt x="71" y="116"/>
                    </a:lnTo>
                    <a:lnTo>
                      <a:pt x="63" y="126"/>
                    </a:lnTo>
                    <a:lnTo>
                      <a:pt x="55" y="139"/>
                    </a:lnTo>
                    <a:lnTo>
                      <a:pt x="46" y="150"/>
                    </a:lnTo>
                    <a:lnTo>
                      <a:pt x="39" y="163"/>
                    </a:lnTo>
                    <a:lnTo>
                      <a:pt x="32" y="176"/>
                    </a:lnTo>
                    <a:lnTo>
                      <a:pt x="26" y="189"/>
                    </a:lnTo>
                    <a:lnTo>
                      <a:pt x="20" y="203"/>
                    </a:lnTo>
                    <a:lnTo>
                      <a:pt x="15" y="216"/>
                    </a:lnTo>
                    <a:lnTo>
                      <a:pt x="10" y="230"/>
                    </a:lnTo>
                    <a:lnTo>
                      <a:pt x="7" y="245"/>
                    </a:lnTo>
                    <a:lnTo>
                      <a:pt x="4" y="260"/>
                    </a:lnTo>
                    <a:lnTo>
                      <a:pt x="1" y="274"/>
                    </a:lnTo>
                    <a:lnTo>
                      <a:pt x="0" y="28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8"/>
                    </a:lnTo>
                    <a:lnTo>
                      <a:pt x="16" y="304"/>
                    </a:lnTo>
                    <a:lnTo>
                      <a:pt x="17" y="288"/>
                    </a:lnTo>
                    <a:lnTo>
                      <a:pt x="19" y="273"/>
                    </a:lnTo>
                    <a:lnTo>
                      <a:pt x="21" y="258"/>
                    </a:lnTo>
                    <a:lnTo>
                      <a:pt x="24" y="244"/>
                    </a:lnTo>
                    <a:lnTo>
                      <a:pt x="28" y="229"/>
                    </a:lnTo>
                    <a:lnTo>
                      <a:pt x="33" y="215"/>
                    </a:lnTo>
                    <a:lnTo>
                      <a:pt x="39" y="202"/>
                    </a:lnTo>
                    <a:lnTo>
                      <a:pt x="45" y="188"/>
                    </a:lnTo>
                    <a:lnTo>
                      <a:pt x="51" y="176"/>
                    </a:lnTo>
                    <a:lnTo>
                      <a:pt x="59" y="163"/>
                    </a:lnTo>
                    <a:lnTo>
                      <a:pt x="66" y="150"/>
                    </a:lnTo>
                    <a:lnTo>
                      <a:pt x="74" y="139"/>
                    </a:lnTo>
                    <a:lnTo>
                      <a:pt x="84" y="127"/>
                    </a:lnTo>
                    <a:lnTo>
                      <a:pt x="93" y="116"/>
                    </a:lnTo>
                    <a:lnTo>
                      <a:pt x="103" y="105"/>
                    </a:lnTo>
                    <a:lnTo>
                      <a:pt x="113" y="96"/>
                    </a:lnTo>
                    <a:lnTo>
                      <a:pt x="125" y="86"/>
                    </a:lnTo>
                    <a:lnTo>
                      <a:pt x="136" y="77"/>
                    </a:lnTo>
                    <a:lnTo>
                      <a:pt x="148" y="68"/>
                    </a:lnTo>
                    <a:lnTo>
                      <a:pt x="160" y="61"/>
                    </a:lnTo>
                    <a:lnTo>
                      <a:pt x="173" y="54"/>
                    </a:lnTo>
                    <a:lnTo>
                      <a:pt x="186" y="47"/>
                    </a:lnTo>
                    <a:lnTo>
                      <a:pt x="200" y="41"/>
                    </a:lnTo>
                    <a:lnTo>
                      <a:pt x="213" y="36"/>
                    </a:lnTo>
                    <a:lnTo>
                      <a:pt x="227" y="31"/>
                    </a:lnTo>
                    <a:lnTo>
                      <a:pt x="242" y="26"/>
                    </a:lnTo>
                    <a:lnTo>
                      <a:pt x="256" y="23"/>
                    </a:lnTo>
                    <a:lnTo>
                      <a:pt x="271" y="21"/>
                    </a:lnTo>
                    <a:lnTo>
                      <a:pt x="286" y="19"/>
                    </a:lnTo>
                    <a:lnTo>
                      <a:pt x="302" y="18"/>
                    </a:lnTo>
                    <a:lnTo>
                      <a:pt x="316" y="17"/>
                    </a:lnTo>
                    <a:lnTo>
                      <a:pt x="332" y="18"/>
                    </a:lnTo>
                    <a:lnTo>
                      <a:pt x="348" y="19"/>
                    </a:lnTo>
                    <a:lnTo>
                      <a:pt x="362" y="21"/>
                    </a:lnTo>
                    <a:lnTo>
                      <a:pt x="377" y="23"/>
                    </a:lnTo>
                    <a:lnTo>
                      <a:pt x="392" y="26"/>
                    </a:lnTo>
                    <a:lnTo>
                      <a:pt x="407" y="31"/>
                    </a:lnTo>
                    <a:lnTo>
                      <a:pt x="420" y="36"/>
                    </a:lnTo>
                    <a:lnTo>
                      <a:pt x="434" y="41"/>
                    </a:lnTo>
                    <a:lnTo>
                      <a:pt x="448" y="47"/>
                    </a:lnTo>
                    <a:lnTo>
                      <a:pt x="460" y="54"/>
                    </a:lnTo>
                    <a:lnTo>
                      <a:pt x="473" y="61"/>
                    </a:lnTo>
                    <a:lnTo>
                      <a:pt x="485" y="68"/>
                    </a:lnTo>
                    <a:lnTo>
                      <a:pt x="497" y="77"/>
                    </a:lnTo>
                    <a:lnTo>
                      <a:pt x="509" y="86"/>
                    </a:lnTo>
                    <a:lnTo>
                      <a:pt x="519" y="96"/>
                    </a:lnTo>
                    <a:lnTo>
                      <a:pt x="530" y="105"/>
                    </a:lnTo>
                    <a:lnTo>
                      <a:pt x="540" y="116"/>
                    </a:lnTo>
                    <a:lnTo>
                      <a:pt x="550" y="127"/>
                    </a:lnTo>
                    <a:lnTo>
                      <a:pt x="558" y="139"/>
                    </a:lnTo>
                    <a:lnTo>
                      <a:pt x="566" y="150"/>
                    </a:lnTo>
                    <a:lnTo>
                      <a:pt x="575" y="163"/>
                    </a:lnTo>
                    <a:lnTo>
                      <a:pt x="582" y="176"/>
                    </a:lnTo>
                    <a:lnTo>
                      <a:pt x="588" y="188"/>
                    </a:lnTo>
                    <a:lnTo>
                      <a:pt x="595" y="202"/>
                    </a:lnTo>
                    <a:lnTo>
                      <a:pt x="600" y="215"/>
                    </a:lnTo>
                    <a:lnTo>
                      <a:pt x="605" y="229"/>
                    </a:lnTo>
                    <a:lnTo>
                      <a:pt x="608" y="244"/>
                    </a:lnTo>
                    <a:lnTo>
                      <a:pt x="613" y="258"/>
                    </a:lnTo>
                    <a:lnTo>
                      <a:pt x="615" y="273"/>
                    </a:lnTo>
                    <a:lnTo>
                      <a:pt x="617" y="288"/>
                    </a:lnTo>
                    <a:lnTo>
                      <a:pt x="618" y="304"/>
                    </a:lnTo>
                    <a:lnTo>
                      <a:pt x="619" y="318"/>
                    </a:lnTo>
                    <a:lnTo>
                      <a:pt x="618" y="334"/>
                    </a:lnTo>
                    <a:lnTo>
                      <a:pt x="617" y="350"/>
                    </a:lnTo>
                    <a:lnTo>
                      <a:pt x="615" y="365"/>
                    </a:lnTo>
                    <a:lnTo>
                      <a:pt x="613" y="379"/>
                    </a:lnTo>
                    <a:lnTo>
                      <a:pt x="608" y="394"/>
                    </a:lnTo>
                    <a:lnTo>
                      <a:pt x="605" y="409"/>
                    </a:lnTo>
                    <a:lnTo>
                      <a:pt x="600" y="422"/>
                    </a:lnTo>
                    <a:lnTo>
                      <a:pt x="595" y="436"/>
                    </a:lnTo>
                    <a:lnTo>
                      <a:pt x="588" y="450"/>
                    </a:lnTo>
                    <a:lnTo>
                      <a:pt x="582" y="462"/>
                    </a:lnTo>
                    <a:lnTo>
                      <a:pt x="575" y="475"/>
                    </a:lnTo>
                    <a:lnTo>
                      <a:pt x="566" y="487"/>
                    </a:lnTo>
                    <a:lnTo>
                      <a:pt x="558" y="499"/>
                    </a:lnTo>
                    <a:lnTo>
                      <a:pt x="550" y="510"/>
                    </a:lnTo>
                    <a:lnTo>
                      <a:pt x="540" y="521"/>
                    </a:lnTo>
                    <a:lnTo>
                      <a:pt x="530" y="531"/>
                    </a:lnTo>
                    <a:lnTo>
                      <a:pt x="519" y="542"/>
                    </a:lnTo>
                    <a:lnTo>
                      <a:pt x="509" y="551"/>
                    </a:lnTo>
                    <a:lnTo>
                      <a:pt x="497" y="560"/>
                    </a:lnTo>
                    <a:lnTo>
                      <a:pt x="485" y="568"/>
                    </a:lnTo>
                    <a:lnTo>
                      <a:pt x="473" y="577"/>
                    </a:lnTo>
                    <a:lnTo>
                      <a:pt x="460" y="584"/>
                    </a:lnTo>
                    <a:lnTo>
                      <a:pt x="448" y="590"/>
                    </a:lnTo>
                    <a:lnTo>
                      <a:pt x="434" y="597"/>
                    </a:lnTo>
                    <a:lnTo>
                      <a:pt x="420" y="602"/>
                    </a:lnTo>
                    <a:lnTo>
                      <a:pt x="407" y="607"/>
                    </a:lnTo>
                    <a:lnTo>
                      <a:pt x="392" y="610"/>
                    </a:lnTo>
                    <a:lnTo>
                      <a:pt x="377" y="614"/>
                    </a:lnTo>
                    <a:lnTo>
                      <a:pt x="362" y="617"/>
                    </a:lnTo>
                    <a:lnTo>
                      <a:pt x="348" y="619"/>
                    </a:lnTo>
                    <a:lnTo>
                      <a:pt x="332" y="620"/>
                    </a:lnTo>
                    <a:lnTo>
                      <a:pt x="316" y="620"/>
                    </a:lnTo>
                    <a:lnTo>
                      <a:pt x="302" y="620"/>
                    </a:lnTo>
                    <a:lnTo>
                      <a:pt x="287" y="619"/>
                    </a:lnTo>
                    <a:lnTo>
                      <a:pt x="272" y="617"/>
                    </a:lnTo>
                    <a:lnTo>
                      <a:pt x="257" y="614"/>
                    </a:lnTo>
                    <a:lnTo>
                      <a:pt x="243" y="611"/>
                    </a:lnTo>
                    <a:lnTo>
                      <a:pt x="229" y="607"/>
                    </a:lnTo>
                    <a:lnTo>
                      <a:pt x="215" y="603"/>
                    </a:lnTo>
                    <a:lnTo>
                      <a:pt x="202" y="598"/>
                    </a:lnTo>
                    <a:lnTo>
                      <a:pt x="188" y="591"/>
                    </a:lnTo>
                    <a:lnTo>
                      <a:pt x="175" y="585"/>
                    </a:lnTo>
                    <a:lnTo>
                      <a:pt x="163" y="579"/>
                    </a:lnTo>
                    <a:lnTo>
                      <a:pt x="151" y="570"/>
                    </a:lnTo>
                    <a:lnTo>
                      <a:pt x="140" y="563"/>
                    </a:lnTo>
                    <a:lnTo>
                      <a:pt x="128" y="555"/>
                    </a:lnTo>
                    <a:lnTo>
                      <a:pt x="118" y="545"/>
                    </a:lnTo>
                    <a:lnTo>
                      <a:pt x="107" y="536"/>
                    </a:lnTo>
                    <a:lnTo>
                      <a:pt x="111" y="541"/>
                    </a:lnTo>
                    <a:lnTo>
                      <a:pt x="128" y="576"/>
                    </a:lnTo>
                    <a:lnTo>
                      <a:pt x="148" y="589"/>
                    </a:lnTo>
                    <a:lnTo>
                      <a:pt x="170" y="602"/>
                    </a:lnTo>
                    <a:lnTo>
                      <a:pt x="192" y="612"/>
                    </a:lnTo>
                    <a:lnTo>
                      <a:pt x="215" y="621"/>
                    </a:lnTo>
                    <a:lnTo>
                      <a:pt x="228" y="624"/>
                    </a:lnTo>
                    <a:lnTo>
                      <a:pt x="240" y="628"/>
                    </a:lnTo>
                    <a:lnTo>
                      <a:pt x="252" y="630"/>
                    </a:lnTo>
                    <a:lnTo>
                      <a:pt x="265" y="632"/>
                    </a:lnTo>
                    <a:lnTo>
                      <a:pt x="277" y="634"/>
                    </a:lnTo>
                    <a:lnTo>
                      <a:pt x="291" y="635"/>
                    </a:lnTo>
                    <a:lnTo>
                      <a:pt x="304" y="636"/>
                    </a:lnTo>
                    <a:lnTo>
                      <a:pt x="316" y="636"/>
                    </a:lnTo>
                    <a:lnTo>
                      <a:pt x="333" y="636"/>
                    </a:lnTo>
                    <a:lnTo>
                      <a:pt x="349" y="635"/>
                    </a:lnTo>
                    <a:lnTo>
                      <a:pt x="365" y="633"/>
                    </a:lnTo>
                    <a:lnTo>
                      <a:pt x="380" y="630"/>
                    </a:lnTo>
                    <a:lnTo>
                      <a:pt x="396" y="627"/>
                    </a:lnTo>
                    <a:lnTo>
                      <a:pt x="411" y="623"/>
                    </a:lnTo>
                    <a:lnTo>
                      <a:pt x="426" y="618"/>
                    </a:lnTo>
                    <a:lnTo>
                      <a:pt x="440" y="612"/>
                    </a:lnTo>
                    <a:lnTo>
                      <a:pt x="455" y="606"/>
                    </a:lnTo>
                    <a:lnTo>
                      <a:pt x="469" y="599"/>
                    </a:lnTo>
                    <a:lnTo>
                      <a:pt x="481" y="591"/>
                    </a:lnTo>
                    <a:lnTo>
                      <a:pt x="495" y="583"/>
                    </a:lnTo>
                    <a:lnTo>
                      <a:pt x="508" y="573"/>
                    </a:lnTo>
                    <a:lnTo>
                      <a:pt x="519" y="564"/>
                    </a:lnTo>
                    <a:lnTo>
                      <a:pt x="531" y="555"/>
                    </a:lnTo>
                    <a:lnTo>
                      <a:pt x="542" y="544"/>
                    </a:lnTo>
                    <a:lnTo>
                      <a:pt x="553" y="533"/>
                    </a:lnTo>
                    <a:lnTo>
                      <a:pt x="562" y="521"/>
                    </a:lnTo>
                    <a:lnTo>
                      <a:pt x="572" y="509"/>
                    </a:lnTo>
                    <a:lnTo>
                      <a:pt x="581" y="497"/>
                    </a:lnTo>
                    <a:lnTo>
                      <a:pt x="588" y="483"/>
                    </a:lnTo>
                    <a:lnTo>
                      <a:pt x="597" y="471"/>
                    </a:lnTo>
                    <a:lnTo>
                      <a:pt x="603" y="457"/>
                    </a:lnTo>
                    <a:lnTo>
                      <a:pt x="611" y="442"/>
                    </a:lnTo>
                    <a:lnTo>
                      <a:pt x="616" y="429"/>
                    </a:lnTo>
                    <a:lnTo>
                      <a:pt x="621" y="413"/>
                    </a:lnTo>
                    <a:lnTo>
                      <a:pt x="625" y="398"/>
                    </a:lnTo>
                    <a:lnTo>
                      <a:pt x="628" y="382"/>
                    </a:lnTo>
                    <a:lnTo>
                      <a:pt x="632" y="368"/>
                    </a:lnTo>
                    <a:lnTo>
                      <a:pt x="634" y="351"/>
                    </a:lnTo>
                    <a:lnTo>
                      <a:pt x="635" y="335"/>
                    </a:lnTo>
                    <a:lnTo>
                      <a:pt x="635" y="3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19840" y="2598840"/>
                <a:ext cx="196920" cy="196920"/>
              </a:xfrm>
              <a:custGeom>
                <a:avLst/>
                <a:gdLst/>
                <a:ahLst/>
                <a:rect l="l" t="t" r="r" b="b"/>
                <a:pathLst>
                  <a:path w="619" h="619">
                    <a:moveTo>
                      <a:pt x="619" y="309"/>
                    </a:moveTo>
                    <a:lnTo>
                      <a:pt x="619" y="294"/>
                    </a:lnTo>
                    <a:lnTo>
                      <a:pt x="618" y="278"/>
                    </a:lnTo>
                    <a:lnTo>
                      <a:pt x="616" y="262"/>
                    </a:lnTo>
                    <a:lnTo>
                      <a:pt x="613" y="247"/>
                    </a:lnTo>
                    <a:lnTo>
                      <a:pt x="610" y="233"/>
                    </a:lnTo>
                    <a:lnTo>
                      <a:pt x="606" y="218"/>
                    </a:lnTo>
                    <a:lnTo>
                      <a:pt x="600" y="203"/>
                    </a:lnTo>
                    <a:lnTo>
                      <a:pt x="595" y="190"/>
                    </a:lnTo>
                    <a:lnTo>
                      <a:pt x="589" y="175"/>
                    </a:lnTo>
                    <a:lnTo>
                      <a:pt x="583" y="162"/>
                    </a:lnTo>
                    <a:lnTo>
                      <a:pt x="575" y="149"/>
                    </a:lnTo>
                    <a:lnTo>
                      <a:pt x="567" y="136"/>
                    </a:lnTo>
                    <a:lnTo>
                      <a:pt x="558" y="125"/>
                    </a:lnTo>
                    <a:lnTo>
                      <a:pt x="549" y="113"/>
                    </a:lnTo>
                    <a:lnTo>
                      <a:pt x="539" y="101"/>
                    </a:lnTo>
                    <a:lnTo>
                      <a:pt x="529" y="91"/>
                    </a:lnTo>
                    <a:lnTo>
                      <a:pt x="518" y="80"/>
                    </a:lnTo>
                    <a:lnTo>
                      <a:pt x="507" y="71"/>
                    </a:lnTo>
                    <a:lnTo>
                      <a:pt x="495" y="62"/>
                    </a:lnTo>
                    <a:lnTo>
                      <a:pt x="483" y="53"/>
                    </a:lnTo>
                    <a:lnTo>
                      <a:pt x="470" y="45"/>
                    </a:lnTo>
                    <a:lnTo>
                      <a:pt x="457" y="37"/>
                    </a:lnTo>
                    <a:lnTo>
                      <a:pt x="444" y="30"/>
                    </a:lnTo>
                    <a:lnTo>
                      <a:pt x="430" y="24"/>
                    </a:lnTo>
                    <a:lnTo>
                      <a:pt x="416" y="18"/>
                    </a:lnTo>
                    <a:lnTo>
                      <a:pt x="402" y="14"/>
                    </a:lnTo>
                    <a:lnTo>
                      <a:pt x="387" y="10"/>
                    </a:lnTo>
                    <a:lnTo>
                      <a:pt x="372" y="6"/>
                    </a:lnTo>
                    <a:lnTo>
                      <a:pt x="357" y="4"/>
                    </a:lnTo>
                    <a:lnTo>
                      <a:pt x="342" y="2"/>
                    </a:lnTo>
                    <a:lnTo>
                      <a:pt x="326" y="1"/>
                    </a:lnTo>
                    <a:lnTo>
                      <a:pt x="309" y="0"/>
                    </a:lnTo>
                    <a:lnTo>
                      <a:pt x="295" y="1"/>
                    </a:lnTo>
                    <a:lnTo>
                      <a:pt x="279" y="2"/>
                    </a:lnTo>
                    <a:lnTo>
                      <a:pt x="264" y="3"/>
                    </a:lnTo>
                    <a:lnTo>
                      <a:pt x="249" y="6"/>
                    </a:lnTo>
                    <a:lnTo>
                      <a:pt x="235" y="9"/>
                    </a:lnTo>
                    <a:lnTo>
                      <a:pt x="220" y="13"/>
                    </a:lnTo>
                    <a:lnTo>
                      <a:pt x="206" y="17"/>
                    </a:lnTo>
                    <a:lnTo>
                      <a:pt x="193" y="23"/>
                    </a:lnTo>
                    <a:lnTo>
                      <a:pt x="179" y="29"/>
                    </a:lnTo>
                    <a:lnTo>
                      <a:pt x="165" y="35"/>
                    </a:lnTo>
                    <a:lnTo>
                      <a:pt x="153" y="43"/>
                    </a:lnTo>
                    <a:lnTo>
                      <a:pt x="141" y="50"/>
                    </a:lnTo>
                    <a:lnTo>
                      <a:pt x="128" y="58"/>
                    </a:lnTo>
                    <a:lnTo>
                      <a:pt x="117" y="67"/>
                    </a:lnTo>
                    <a:lnTo>
                      <a:pt x="106" y="76"/>
                    </a:lnTo>
                    <a:lnTo>
                      <a:pt x="95" y="86"/>
                    </a:lnTo>
                    <a:lnTo>
                      <a:pt x="85" y="96"/>
                    </a:lnTo>
                    <a:lnTo>
                      <a:pt x="76" y="107"/>
                    </a:lnTo>
                    <a:lnTo>
                      <a:pt x="66" y="118"/>
                    </a:lnTo>
                    <a:lnTo>
                      <a:pt x="57" y="130"/>
                    </a:lnTo>
                    <a:lnTo>
                      <a:pt x="50" y="141"/>
                    </a:lnTo>
                    <a:lnTo>
                      <a:pt x="41" y="154"/>
                    </a:lnTo>
                    <a:lnTo>
                      <a:pt x="35" y="167"/>
                    </a:lnTo>
                    <a:lnTo>
                      <a:pt x="29" y="179"/>
                    </a:lnTo>
                    <a:lnTo>
                      <a:pt x="22" y="193"/>
                    </a:lnTo>
                    <a:lnTo>
                      <a:pt x="17" y="206"/>
                    </a:lnTo>
                    <a:lnTo>
                      <a:pt x="13" y="221"/>
                    </a:lnTo>
                    <a:lnTo>
                      <a:pt x="9" y="235"/>
                    </a:lnTo>
                    <a:lnTo>
                      <a:pt x="5" y="249"/>
                    </a:lnTo>
                    <a:lnTo>
                      <a:pt x="2" y="264"/>
                    </a:lnTo>
                    <a:lnTo>
                      <a:pt x="1" y="280"/>
                    </a:lnTo>
                    <a:lnTo>
                      <a:pt x="0" y="295"/>
                    </a:lnTo>
                    <a:lnTo>
                      <a:pt x="17" y="328"/>
                    </a:lnTo>
                    <a:lnTo>
                      <a:pt x="17" y="326"/>
                    </a:lnTo>
                    <a:lnTo>
                      <a:pt x="17" y="324"/>
                    </a:lnTo>
                    <a:lnTo>
                      <a:pt x="16" y="322"/>
                    </a:lnTo>
                    <a:lnTo>
                      <a:pt x="16" y="319"/>
                    </a:lnTo>
                    <a:lnTo>
                      <a:pt x="16" y="317"/>
                    </a:lnTo>
                    <a:lnTo>
                      <a:pt x="16" y="315"/>
                    </a:lnTo>
                    <a:lnTo>
                      <a:pt x="16" y="312"/>
                    </a:lnTo>
                    <a:lnTo>
                      <a:pt x="16" y="309"/>
                    </a:lnTo>
                    <a:lnTo>
                      <a:pt x="17" y="295"/>
                    </a:lnTo>
                    <a:lnTo>
                      <a:pt x="18" y="280"/>
                    </a:lnTo>
                    <a:lnTo>
                      <a:pt x="19" y="265"/>
                    </a:lnTo>
                    <a:lnTo>
                      <a:pt x="22" y="251"/>
                    </a:lnTo>
                    <a:lnTo>
                      <a:pt x="25" y="237"/>
                    </a:lnTo>
                    <a:lnTo>
                      <a:pt x="30" y="222"/>
                    </a:lnTo>
                    <a:lnTo>
                      <a:pt x="34" y="209"/>
                    </a:lnTo>
                    <a:lnTo>
                      <a:pt x="39" y="196"/>
                    </a:lnTo>
                    <a:lnTo>
                      <a:pt x="45" y="182"/>
                    </a:lnTo>
                    <a:lnTo>
                      <a:pt x="52" y="170"/>
                    </a:lnTo>
                    <a:lnTo>
                      <a:pt x="59" y="158"/>
                    </a:lnTo>
                    <a:lnTo>
                      <a:pt x="66" y="146"/>
                    </a:lnTo>
                    <a:lnTo>
                      <a:pt x="75" y="134"/>
                    </a:lnTo>
                    <a:lnTo>
                      <a:pt x="83" y="123"/>
                    </a:lnTo>
                    <a:lnTo>
                      <a:pt x="93" y="113"/>
                    </a:lnTo>
                    <a:lnTo>
                      <a:pt x="102" y="102"/>
                    </a:lnTo>
                    <a:lnTo>
                      <a:pt x="113" y="93"/>
                    </a:lnTo>
                    <a:lnTo>
                      <a:pt x="123" y="84"/>
                    </a:lnTo>
                    <a:lnTo>
                      <a:pt x="134" y="75"/>
                    </a:lnTo>
                    <a:lnTo>
                      <a:pt x="145" y="67"/>
                    </a:lnTo>
                    <a:lnTo>
                      <a:pt x="158" y="59"/>
                    </a:lnTo>
                    <a:lnTo>
                      <a:pt x="169" y="52"/>
                    </a:lnTo>
                    <a:lnTo>
                      <a:pt x="182" y="46"/>
                    </a:lnTo>
                    <a:lnTo>
                      <a:pt x="196" y="39"/>
                    </a:lnTo>
                    <a:lnTo>
                      <a:pt x="208" y="34"/>
                    </a:lnTo>
                    <a:lnTo>
                      <a:pt x="222" y="30"/>
                    </a:lnTo>
                    <a:lnTo>
                      <a:pt x="237" y="26"/>
                    </a:lnTo>
                    <a:lnTo>
                      <a:pt x="250" y="23"/>
                    </a:lnTo>
                    <a:lnTo>
                      <a:pt x="265" y="20"/>
                    </a:lnTo>
                    <a:lnTo>
                      <a:pt x="280" y="18"/>
                    </a:lnTo>
                    <a:lnTo>
                      <a:pt x="295" y="17"/>
                    </a:lnTo>
                    <a:lnTo>
                      <a:pt x="309" y="16"/>
                    </a:lnTo>
                    <a:lnTo>
                      <a:pt x="325" y="17"/>
                    </a:lnTo>
                    <a:lnTo>
                      <a:pt x="340" y="18"/>
                    </a:lnTo>
                    <a:lnTo>
                      <a:pt x="354" y="20"/>
                    </a:lnTo>
                    <a:lnTo>
                      <a:pt x="369" y="23"/>
                    </a:lnTo>
                    <a:lnTo>
                      <a:pt x="383" y="26"/>
                    </a:lnTo>
                    <a:lnTo>
                      <a:pt x="396" y="30"/>
                    </a:lnTo>
                    <a:lnTo>
                      <a:pt x="410" y="34"/>
                    </a:lnTo>
                    <a:lnTo>
                      <a:pt x="424" y="39"/>
                    </a:lnTo>
                    <a:lnTo>
                      <a:pt x="436" y="46"/>
                    </a:lnTo>
                    <a:lnTo>
                      <a:pt x="449" y="52"/>
                    </a:lnTo>
                    <a:lnTo>
                      <a:pt x="462" y="59"/>
                    </a:lnTo>
                    <a:lnTo>
                      <a:pt x="473" y="67"/>
                    </a:lnTo>
                    <a:lnTo>
                      <a:pt x="485" y="75"/>
                    </a:lnTo>
                    <a:lnTo>
                      <a:pt x="496" y="84"/>
                    </a:lnTo>
                    <a:lnTo>
                      <a:pt x="507" y="93"/>
                    </a:lnTo>
                    <a:lnTo>
                      <a:pt x="517" y="102"/>
                    </a:lnTo>
                    <a:lnTo>
                      <a:pt x="527" y="113"/>
                    </a:lnTo>
                    <a:lnTo>
                      <a:pt x="536" y="123"/>
                    </a:lnTo>
                    <a:lnTo>
                      <a:pt x="545" y="134"/>
                    </a:lnTo>
                    <a:lnTo>
                      <a:pt x="553" y="146"/>
                    </a:lnTo>
                    <a:lnTo>
                      <a:pt x="560" y="158"/>
                    </a:lnTo>
                    <a:lnTo>
                      <a:pt x="568" y="170"/>
                    </a:lnTo>
                    <a:lnTo>
                      <a:pt x="574" y="182"/>
                    </a:lnTo>
                    <a:lnTo>
                      <a:pt x="580" y="196"/>
                    </a:lnTo>
                    <a:lnTo>
                      <a:pt x="586" y="209"/>
                    </a:lnTo>
                    <a:lnTo>
                      <a:pt x="590" y="222"/>
                    </a:lnTo>
                    <a:lnTo>
                      <a:pt x="594" y="237"/>
                    </a:lnTo>
                    <a:lnTo>
                      <a:pt x="597" y="251"/>
                    </a:lnTo>
                    <a:lnTo>
                      <a:pt x="599" y="265"/>
                    </a:lnTo>
                    <a:lnTo>
                      <a:pt x="601" y="280"/>
                    </a:lnTo>
                    <a:lnTo>
                      <a:pt x="603" y="295"/>
                    </a:lnTo>
                    <a:lnTo>
                      <a:pt x="604" y="309"/>
                    </a:lnTo>
                    <a:lnTo>
                      <a:pt x="603" y="325"/>
                    </a:lnTo>
                    <a:lnTo>
                      <a:pt x="601" y="340"/>
                    </a:lnTo>
                    <a:lnTo>
                      <a:pt x="599" y="354"/>
                    </a:lnTo>
                    <a:lnTo>
                      <a:pt x="597" y="369"/>
                    </a:lnTo>
                    <a:lnTo>
                      <a:pt x="594" y="383"/>
                    </a:lnTo>
                    <a:lnTo>
                      <a:pt x="590" y="396"/>
                    </a:lnTo>
                    <a:lnTo>
                      <a:pt x="586" y="410"/>
                    </a:lnTo>
                    <a:lnTo>
                      <a:pt x="580" y="424"/>
                    </a:lnTo>
                    <a:lnTo>
                      <a:pt x="574" y="436"/>
                    </a:lnTo>
                    <a:lnTo>
                      <a:pt x="568" y="449"/>
                    </a:lnTo>
                    <a:lnTo>
                      <a:pt x="560" y="462"/>
                    </a:lnTo>
                    <a:lnTo>
                      <a:pt x="553" y="473"/>
                    </a:lnTo>
                    <a:lnTo>
                      <a:pt x="545" y="485"/>
                    </a:lnTo>
                    <a:lnTo>
                      <a:pt x="536" y="496"/>
                    </a:lnTo>
                    <a:lnTo>
                      <a:pt x="527" y="507"/>
                    </a:lnTo>
                    <a:lnTo>
                      <a:pt x="517" y="517"/>
                    </a:lnTo>
                    <a:lnTo>
                      <a:pt x="507" y="527"/>
                    </a:lnTo>
                    <a:lnTo>
                      <a:pt x="496" y="536"/>
                    </a:lnTo>
                    <a:lnTo>
                      <a:pt x="485" y="545"/>
                    </a:lnTo>
                    <a:lnTo>
                      <a:pt x="473" y="553"/>
                    </a:lnTo>
                    <a:lnTo>
                      <a:pt x="462" y="560"/>
                    </a:lnTo>
                    <a:lnTo>
                      <a:pt x="449" y="568"/>
                    </a:lnTo>
                    <a:lnTo>
                      <a:pt x="436" y="574"/>
                    </a:lnTo>
                    <a:lnTo>
                      <a:pt x="424" y="579"/>
                    </a:lnTo>
                    <a:lnTo>
                      <a:pt x="410" y="585"/>
                    </a:lnTo>
                    <a:lnTo>
                      <a:pt x="396" y="590"/>
                    </a:lnTo>
                    <a:lnTo>
                      <a:pt x="383" y="594"/>
                    </a:lnTo>
                    <a:lnTo>
                      <a:pt x="369" y="597"/>
                    </a:lnTo>
                    <a:lnTo>
                      <a:pt x="354" y="599"/>
                    </a:lnTo>
                    <a:lnTo>
                      <a:pt x="340" y="601"/>
                    </a:lnTo>
                    <a:lnTo>
                      <a:pt x="325" y="602"/>
                    </a:lnTo>
                    <a:lnTo>
                      <a:pt x="309" y="602"/>
                    </a:lnTo>
                    <a:lnTo>
                      <a:pt x="288" y="602"/>
                    </a:lnTo>
                    <a:lnTo>
                      <a:pt x="266" y="599"/>
                    </a:lnTo>
                    <a:lnTo>
                      <a:pt x="245" y="596"/>
                    </a:lnTo>
                    <a:lnTo>
                      <a:pt x="225" y="591"/>
                    </a:lnTo>
                    <a:lnTo>
                      <a:pt x="205" y="583"/>
                    </a:lnTo>
                    <a:lnTo>
                      <a:pt x="186" y="576"/>
                    </a:lnTo>
                    <a:lnTo>
                      <a:pt x="168" y="567"/>
                    </a:lnTo>
                    <a:lnTo>
                      <a:pt x="151" y="556"/>
                    </a:lnTo>
                    <a:lnTo>
                      <a:pt x="134" y="545"/>
                    </a:lnTo>
                    <a:lnTo>
                      <a:pt x="118" y="531"/>
                    </a:lnTo>
                    <a:lnTo>
                      <a:pt x="103" y="517"/>
                    </a:lnTo>
                    <a:lnTo>
                      <a:pt x="89" y="503"/>
                    </a:lnTo>
                    <a:lnTo>
                      <a:pt x="76" y="487"/>
                    </a:lnTo>
                    <a:lnTo>
                      <a:pt x="64" y="470"/>
                    </a:lnTo>
                    <a:lnTo>
                      <a:pt x="54" y="453"/>
                    </a:lnTo>
                    <a:lnTo>
                      <a:pt x="44" y="434"/>
                    </a:lnTo>
                    <a:lnTo>
                      <a:pt x="46" y="446"/>
                    </a:lnTo>
                    <a:lnTo>
                      <a:pt x="104" y="532"/>
                    </a:lnTo>
                    <a:lnTo>
                      <a:pt x="112" y="549"/>
                    </a:lnTo>
                    <a:lnTo>
                      <a:pt x="122" y="557"/>
                    </a:lnTo>
                    <a:lnTo>
                      <a:pt x="133" y="564"/>
                    </a:lnTo>
                    <a:lnTo>
                      <a:pt x="144" y="572"/>
                    </a:lnTo>
                    <a:lnTo>
                      <a:pt x="155" y="578"/>
                    </a:lnTo>
                    <a:lnTo>
                      <a:pt x="166" y="584"/>
                    </a:lnTo>
                    <a:lnTo>
                      <a:pt x="178" y="591"/>
                    </a:lnTo>
                    <a:lnTo>
                      <a:pt x="190" y="596"/>
                    </a:lnTo>
                    <a:lnTo>
                      <a:pt x="203" y="600"/>
                    </a:lnTo>
                    <a:lnTo>
                      <a:pt x="216" y="605"/>
                    </a:lnTo>
                    <a:lnTo>
                      <a:pt x="228" y="609"/>
                    </a:lnTo>
                    <a:lnTo>
                      <a:pt x="241" y="612"/>
                    </a:lnTo>
                    <a:lnTo>
                      <a:pt x="255" y="615"/>
                    </a:lnTo>
                    <a:lnTo>
                      <a:pt x="268" y="617"/>
                    </a:lnTo>
                    <a:lnTo>
                      <a:pt x="282" y="618"/>
                    </a:lnTo>
                    <a:lnTo>
                      <a:pt x="296" y="619"/>
                    </a:lnTo>
                    <a:lnTo>
                      <a:pt x="309" y="619"/>
                    </a:lnTo>
                    <a:lnTo>
                      <a:pt x="326" y="619"/>
                    </a:lnTo>
                    <a:lnTo>
                      <a:pt x="342" y="618"/>
                    </a:lnTo>
                    <a:lnTo>
                      <a:pt x="357" y="616"/>
                    </a:lnTo>
                    <a:lnTo>
                      <a:pt x="372" y="613"/>
                    </a:lnTo>
                    <a:lnTo>
                      <a:pt x="387" y="610"/>
                    </a:lnTo>
                    <a:lnTo>
                      <a:pt x="402" y="605"/>
                    </a:lnTo>
                    <a:lnTo>
                      <a:pt x="416" y="601"/>
                    </a:lnTo>
                    <a:lnTo>
                      <a:pt x="430" y="595"/>
                    </a:lnTo>
                    <a:lnTo>
                      <a:pt x="444" y="589"/>
                    </a:lnTo>
                    <a:lnTo>
                      <a:pt x="457" y="582"/>
                    </a:lnTo>
                    <a:lnTo>
                      <a:pt x="470" y="575"/>
                    </a:lnTo>
                    <a:lnTo>
                      <a:pt x="483" y="567"/>
                    </a:lnTo>
                    <a:lnTo>
                      <a:pt x="495" y="558"/>
                    </a:lnTo>
                    <a:lnTo>
                      <a:pt x="507" y="549"/>
                    </a:lnTo>
                    <a:lnTo>
                      <a:pt x="518" y="539"/>
                    </a:lnTo>
                    <a:lnTo>
                      <a:pt x="529" y="529"/>
                    </a:lnTo>
                    <a:lnTo>
                      <a:pt x="539" y="518"/>
                    </a:lnTo>
                    <a:lnTo>
                      <a:pt x="549" y="507"/>
                    </a:lnTo>
                    <a:lnTo>
                      <a:pt x="558" y="495"/>
                    </a:lnTo>
                    <a:lnTo>
                      <a:pt x="567" y="483"/>
                    </a:lnTo>
                    <a:lnTo>
                      <a:pt x="575" y="470"/>
                    </a:lnTo>
                    <a:lnTo>
                      <a:pt x="583" y="457"/>
                    </a:lnTo>
                    <a:lnTo>
                      <a:pt x="589" y="444"/>
                    </a:lnTo>
                    <a:lnTo>
                      <a:pt x="595" y="430"/>
                    </a:lnTo>
                    <a:lnTo>
                      <a:pt x="600" y="416"/>
                    </a:lnTo>
                    <a:lnTo>
                      <a:pt x="606" y="402"/>
                    </a:lnTo>
                    <a:lnTo>
                      <a:pt x="610" y="387"/>
                    </a:lnTo>
                    <a:lnTo>
                      <a:pt x="613" y="372"/>
                    </a:lnTo>
                    <a:lnTo>
                      <a:pt x="616" y="357"/>
                    </a:lnTo>
                    <a:lnTo>
                      <a:pt x="618" y="342"/>
                    </a:lnTo>
                    <a:lnTo>
                      <a:pt x="619" y="326"/>
                    </a:lnTo>
                    <a:lnTo>
                      <a:pt x="619" y="30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921280" y="2602080"/>
                <a:ext cx="192240" cy="191880"/>
              </a:xfrm>
              <a:custGeom>
                <a:avLst/>
                <a:gdLst/>
                <a:ahLst/>
                <a:rect l="l" t="t" r="r" b="b"/>
                <a:pathLst>
                  <a:path w="604" h="603">
                    <a:moveTo>
                      <a:pt x="604" y="301"/>
                    </a:moveTo>
                    <a:lnTo>
                      <a:pt x="603" y="287"/>
                    </a:lnTo>
                    <a:lnTo>
                      <a:pt x="602" y="271"/>
                    </a:lnTo>
                    <a:lnTo>
                      <a:pt x="600" y="256"/>
                    </a:lnTo>
                    <a:lnTo>
                      <a:pt x="598" y="241"/>
                    </a:lnTo>
                    <a:lnTo>
                      <a:pt x="593" y="227"/>
                    </a:lnTo>
                    <a:lnTo>
                      <a:pt x="590" y="212"/>
                    </a:lnTo>
                    <a:lnTo>
                      <a:pt x="585" y="198"/>
                    </a:lnTo>
                    <a:lnTo>
                      <a:pt x="580" y="185"/>
                    </a:lnTo>
                    <a:lnTo>
                      <a:pt x="573" y="171"/>
                    </a:lnTo>
                    <a:lnTo>
                      <a:pt x="567" y="159"/>
                    </a:lnTo>
                    <a:lnTo>
                      <a:pt x="560" y="146"/>
                    </a:lnTo>
                    <a:lnTo>
                      <a:pt x="551" y="133"/>
                    </a:lnTo>
                    <a:lnTo>
                      <a:pt x="543" y="122"/>
                    </a:lnTo>
                    <a:lnTo>
                      <a:pt x="535" y="110"/>
                    </a:lnTo>
                    <a:lnTo>
                      <a:pt x="525" y="99"/>
                    </a:lnTo>
                    <a:lnTo>
                      <a:pt x="515" y="88"/>
                    </a:lnTo>
                    <a:lnTo>
                      <a:pt x="504" y="79"/>
                    </a:lnTo>
                    <a:lnTo>
                      <a:pt x="494" y="69"/>
                    </a:lnTo>
                    <a:lnTo>
                      <a:pt x="482" y="60"/>
                    </a:lnTo>
                    <a:lnTo>
                      <a:pt x="470" y="51"/>
                    </a:lnTo>
                    <a:lnTo>
                      <a:pt x="458" y="44"/>
                    </a:lnTo>
                    <a:lnTo>
                      <a:pt x="445" y="37"/>
                    </a:lnTo>
                    <a:lnTo>
                      <a:pt x="433" y="30"/>
                    </a:lnTo>
                    <a:lnTo>
                      <a:pt x="419" y="24"/>
                    </a:lnTo>
                    <a:lnTo>
                      <a:pt x="405" y="19"/>
                    </a:lnTo>
                    <a:lnTo>
                      <a:pt x="392" y="14"/>
                    </a:lnTo>
                    <a:lnTo>
                      <a:pt x="377" y="9"/>
                    </a:lnTo>
                    <a:lnTo>
                      <a:pt x="362" y="6"/>
                    </a:lnTo>
                    <a:lnTo>
                      <a:pt x="347" y="4"/>
                    </a:lnTo>
                    <a:lnTo>
                      <a:pt x="333" y="2"/>
                    </a:lnTo>
                    <a:lnTo>
                      <a:pt x="317" y="1"/>
                    </a:lnTo>
                    <a:lnTo>
                      <a:pt x="301" y="0"/>
                    </a:lnTo>
                    <a:lnTo>
                      <a:pt x="287" y="1"/>
                    </a:lnTo>
                    <a:lnTo>
                      <a:pt x="271" y="2"/>
                    </a:lnTo>
                    <a:lnTo>
                      <a:pt x="256" y="4"/>
                    </a:lnTo>
                    <a:lnTo>
                      <a:pt x="241" y="6"/>
                    </a:lnTo>
                    <a:lnTo>
                      <a:pt x="227" y="9"/>
                    </a:lnTo>
                    <a:lnTo>
                      <a:pt x="212" y="14"/>
                    </a:lnTo>
                    <a:lnTo>
                      <a:pt x="198" y="19"/>
                    </a:lnTo>
                    <a:lnTo>
                      <a:pt x="185" y="24"/>
                    </a:lnTo>
                    <a:lnTo>
                      <a:pt x="171" y="30"/>
                    </a:lnTo>
                    <a:lnTo>
                      <a:pt x="158" y="37"/>
                    </a:lnTo>
                    <a:lnTo>
                      <a:pt x="145" y="44"/>
                    </a:lnTo>
                    <a:lnTo>
                      <a:pt x="133" y="51"/>
                    </a:lnTo>
                    <a:lnTo>
                      <a:pt x="121" y="60"/>
                    </a:lnTo>
                    <a:lnTo>
                      <a:pt x="110" y="69"/>
                    </a:lnTo>
                    <a:lnTo>
                      <a:pt x="98" y="79"/>
                    </a:lnTo>
                    <a:lnTo>
                      <a:pt x="88" y="88"/>
                    </a:lnTo>
                    <a:lnTo>
                      <a:pt x="78" y="99"/>
                    </a:lnTo>
                    <a:lnTo>
                      <a:pt x="69" y="110"/>
                    </a:lnTo>
                    <a:lnTo>
                      <a:pt x="59" y="122"/>
                    </a:lnTo>
                    <a:lnTo>
                      <a:pt x="51" y="133"/>
                    </a:lnTo>
                    <a:lnTo>
                      <a:pt x="44" y="146"/>
                    </a:lnTo>
                    <a:lnTo>
                      <a:pt x="36" y="159"/>
                    </a:lnTo>
                    <a:lnTo>
                      <a:pt x="30" y="171"/>
                    </a:lnTo>
                    <a:lnTo>
                      <a:pt x="24" y="185"/>
                    </a:lnTo>
                    <a:lnTo>
                      <a:pt x="18" y="198"/>
                    </a:lnTo>
                    <a:lnTo>
                      <a:pt x="13" y="212"/>
                    </a:lnTo>
                    <a:lnTo>
                      <a:pt x="9" y="227"/>
                    </a:lnTo>
                    <a:lnTo>
                      <a:pt x="6" y="241"/>
                    </a:lnTo>
                    <a:lnTo>
                      <a:pt x="4" y="256"/>
                    </a:lnTo>
                    <a:lnTo>
                      <a:pt x="2" y="271"/>
                    </a:lnTo>
                    <a:lnTo>
                      <a:pt x="1" y="287"/>
                    </a:lnTo>
                    <a:lnTo>
                      <a:pt x="0" y="301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11" y="327"/>
                    </a:lnTo>
                    <a:lnTo>
                      <a:pt x="38" y="438"/>
                    </a:lnTo>
                    <a:lnTo>
                      <a:pt x="92" y="519"/>
                    </a:lnTo>
                    <a:lnTo>
                      <a:pt x="103" y="528"/>
                    </a:lnTo>
                    <a:lnTo>
                      <a:pt x="113" y="538"/>
                    </a:lnTo>
                    <a:lnTo>
                      <a:pt x="125" y="546"/>
                    </a:lnTo>
                    <a:lnTo>
                      <a:pt x="136" y="553"/>
                    </a:lnTo>
                    <a:lnTo>
                      <a:pt x="148" y="562"/>
                    </a:lnTo>
                    <a:lnTo>
                      <a:pt x="160" y="568"/>
                    </a:lnTo>
                    <a:lnTo>
                      <a:pt x="173" y="574"/>
                    </a:lnTo>
                    <a:lnTo>
                      <a:pt x="187" y="581"/>
                    </a:lnTo>
                    <a:lnTo>
                      <a:pt x="200" y="586"/>
                    </a:lnTo>
                    <a:lnTo>
                      <a:pt x="214" y="590"/>
                    </a:lnTo>
                    <a:lnTo>
                      <a:pt x="228" y="594"/>
                    </a:lnTo>
                    <a:lnTo>
                      <a:pt x="242" y="597"/>
                    </a:lnTo>
                    <a:lnTo>
                      <a:pt x="257" y="600"/>
                    </a:lnTo>
                    <a:lnTo>
                      <a:pt x="272" y="602"/>
                    </a:lnTo>
                    <a:lnTo>
                      <a:pt x="287" y="603"/>
                    </a:lnTo>
                    <a:lnTo>
                      <a:pt x="301" y="603"/>
                    </a:lnTo>
                    <a:lnTo>
                      <a:pt x="317" y="603"/>
                    </a:lnTo>
                    <a:lnTo>
                      <a:pt x="333" y="602"/>
                    </a:lnTo>
                    <a:lnTo>
                      <a:pt x="347" y="600"/>
                    </a:lnTo>
                    <a:lnTo>
                      <a:pt x="362" y="597"/>
                    </a:lnTo>
                    <a:lnTo>
                      <a:pt x="377" y="593"/>
                    </a:lnTo>
                    <a:lnTo>
                      <a:pt x="392" y="590"/>
                    </a:lnTo>
                    <a:lnTo>
                      <a:pt x="405" y="585"/>
                    </a:lnTo>
                    <a:lnTo>
                      <a:pt x="419" y="580"/>
                    </a:lnTo>
                    <a:lnTo>
                      <a:pt x="433" y="573"/>
                    </a:lnTo>
                    <a:lnTo>
                      <a:pt x="445" y="567"/>
                    </a:lnTo>
                    <a:lnTo>
                      <a:pt x="458" y="560"/>
                    </a:lnTo>
                    <a:lnTo>
                      <a:pt x="470" y="551"/>
                    </a:lnTo>
                    <a:lnTo>
                      <a:pt x="482" y="543"/>
                    </a:lnTo>
                    <a:lnTo>
                      <a:pt x="494" y="534"/>
                    </a:lnTo>
                    <a:lnTo>
                      <a:pt x="504" y="525"/>
                    </a:lnTo>
                    <a:lnTo>
                      <a:pt x="515" y="514"/>
                    </a:lnTo>
                    <a:lnTo>
                      <a:pt x="525" y="504"/>
                    </a:lnTo>
                    <a:lnTo>
                      <a:pt x="535" y="493"/>
                    </a:lnTo>
                    <a:lnTo>
                      <a:pt x="543" y="482"/>
                    </a:lnTo>
                    <a:lnTo>
                      <a:pt x="551" y="470"/>
                    </a:lnTo>
                    <a:lnTo>
                      <a:pt x="560" y="458"/>
                    </a:lnTo>
                    <a:lnTo>
                      <a:pt x="567" y="445"/>
                    </a:lnTo>
                    <a:lnTo>
                      <a:pt x="573" y="433"/>
                    </a:lnTo>
                    <a:lnTo>
                      <a:pt x="580" y="419"/>
                    </a:lnTo>
                    <a:lnTo>
                      <a:pt x="585" y="405"/>
                    </a:lnTo>
                    <a:lnTo>
                      <a:pt x="590" y="392"/>
                    </a:lnTo>
                    <a:lnTo>
                      <a:pt x="593" y="377"/>
                    </a:lnTo>
                    <a:lnTo>
                      <a:pt x="598" y="362"/>
                    </a:lnTo>
                    <a:lnTo>
                      <a:pt x="600" y="348"/>
                    </a:lnTo>
                    <a:lnTo>
                      <a:pt x="602" y="333"/>
                    </a:lnTo>
                    <a:lnTo>
                      <a:pt x="603" y="317"/>
                    </a:lnTo>
                    <a:lnTo>
                      <a:pt x="604" y="301"/>
                    </a:lnTo>
                    <a:close/>
                    <a:moveTo>
                      <a:pt x="587" y="301"/>
                    </a:moveTo>
                    <a:lnTo>
                      <a:pt x="586" y="316"/>
                    </a:lnTo>
                    <a:lnTo>
                      <a:pt x="585" y="331"/>
                    </a:lnTo>
                    <a:lnTo>
                      <a:pt x="583" y="345"/>
                    </a:lnTo>
                    <a:lnTo>
                      <a:pt x="581" y="359"/>
                    </a:lnTo>
                    <a:lnTo>
                      <a:pt x="578" y="373"/>
                    </a:lnTo>
                    <a:lnTo>
                      <a:pt x="573" y="386"/>
                    </a:lnTo>
                    <a:lnTo>
                      <a:pt x="569" y="400"/>
                    </a:lnTo>
                    <a:lnTo>
                      <a:pt x="564" y="413"/>
                    </a:lnTo>
                    <a:lnTo>
                      <a:pt x="559" y="425"/>
                    </a:lnTo>
                    <a:lnTo>
                      <a:pt x="552" y="438"/>
                    </a:lnTo>
                    <a:lnTo>
                      <a:pt x="545" y="449"/>
                    </a:lnTo>
                    <a:lnTo>
                      <a:pt x="538" y="461"/>
                    </a:lnTo>
                    <a:lnTo>
                      <a:pt x="530" y="472"/>
                    </a:lnTo>
                    <a:lnTo>
                      <a:pt x="522" y="483"/>
                    </a:lnTo>
                    <a:lnTo>
                      <a:pt x="513" y="493"/>
                    </a:lnTo>
                    <a:lnTo>
                      <a:pt x="503" y="503"/>
                    </a:lnTo>
                    <a:lnTo>
                      <a:pt x="494" y="512"/>
                    </a:lnTo>
                    <a:lnTo>
                      <a:pt x="483" y="522"/>
                    </a:lnTo>
                    <a:lnTo>
                      <a:pt x="473" y="530"/>
                    </a:lnTo>
                    <a:lnTo>
                      <a:pt x="461" y="538"/>
                    </a:lnTo>
                    <a:lnTo>
                      <a:pt x="449" y="545"/>
                    </a:lnTo>
                    <a:lnTo>
                      <a:pt x="438" y="552"/>
                    </a:lnTo>
                    <a:lnTo>
                      <a:pt x="425" y="559"/>
                    </a:lnTo>
                    <a:lnTo>
                      <a:pt x="413" y="564"/>
                    </a:lnTo>
                    <a:lnTo>
                      <a:pt x="400" y="569"/>
                    </a:lnTo>
                    <a:lnTo>
                      <a:pt x="386" y="573"/>
                    </a:lnTo>
                    <a:lnTo>
                      <a:pt x="373" y="577"/>
                    </a:lnTo>
                    <a:lnTo>
                      <a:pt x="359" y="581"/>
                    </a:lnTo>
                    <a:lnTo>
                      <a:pt x="345" y="583"/>
                    </a:lnTo>
                    <a:lnTo>
                      <a:pt x="331" y="585"/>
                    </a:lnTo>
                    <a:lnTo>
                      <a:pt x="316" y="586"/>
                    </a:lnTo>
                    <a:lnTo>
                      <a:pt x="301" y="586"/>
                    </a:lnTo>
                    <a:lnTo>
                      <a:pt x="287" y="586"/>
                    </a:lnTo>
                    <a:lnTo>
                      <a:pt x="273" y="585"/>
                    </a:lnTo>
                    <a:lnTo>
                      <a:pt x="258" y="583"/>
                    </a:lnTo>
                    <a:lnTo>
                      <a:pt x="244" y="581"/>
                    </a:lnTo>
                    <a:lnTo>
                      <a:pt x="231" y="577"/>
                    </a:lnTo>
                    <a:lnTo>
                      <a:pt x="217" y="573"/>
                    </a:lnTo>
                    <a:lnTo>
                      <a:pt x="203" y="569"/>
                    </a:lnTo>
                    <a:lnTo>
                      <a:pt x="191" y="564"/>
                    </a:lnTo>
                    <a:lnTo>
                      <a:pt x="178" y="559"/>
                    </a:lnTo>
                    <a:lnTo>
                      <a:pt x="166" y="552"/>
                    </a:lnTo>
                    <a:lnTo>
                      <a:pt x="154" y="545"/>
                    </a:lnTo>
                    <a:lnTo>
                      <a:pt x="143" y="538"/>
                    </a:lnTo>
                    <a:lnTo>
                      <a:pt x="131" y="530"/>
                    </a:lnTo>
                    <a:lnTo>
                      <a:pt x="120" y="522"/>
                    </a:lnTo>
                    <a:lnTo>
                      <a:pt x="110" y="512"/>
                    </a:lnTo>
                    <a:lnTo>
                      <a:pt x="100" y="503"/>
                    </a:lnTo>
                    <a:lnTo>
                      <a:pt x="91" y="493"/>
                    </a:lnTo>
                    <a:lnTo>
                      <a:pt x="82" y="483"/>
                    </a:lnTo>
                    <a:lnTo>
                      <a:pt x="73" y="472"/>
                    </a:lnTo>
                    <a:lnTo>
                      <a:pt x="66" y="461"/>
                    </a:lnTo>
                    <a:lnTo>
                      <a:pt x="57" y="449"/>
                    </a:lnTo>
                    <a:lnTo>
                      <a:pt x="51" y="438"/>
                    </a:lnTo>
                    <a:lnTo>
                      <a:pt x="45" y="425"/>
                    </a:lnTo>
                    <a:lnTo>
                      <a:pt x="40" y="413"/>
                    </a:lnTo>
                    <a:lnTo>
                      <a:pt x="34" y="400"/>
                    </a:lnTo>
                    <a:lnTo>
                      <a:pt x="29" y="386"/>
                    </a:lnTo>
                    <a:lnTo>
                      <a:pt x="26" y="373"/>
                    </a:lnTo>
                    <a:lnTo>
                      <a:pt x="23" y="359"/>
                    </a:lnTo>
                    <a:lnTo>
                      <a:pt x="20" y="345"/>
                    </a:lnTo>
                    <a:lnTo>
                      <a:pt x="18" y="331"/>
                    </a:lnTo>
                    <a:lnTo>
                      <a:pt x="17" y="316"/>
                    </a:lnTo>
                    <a:lnTo>
                      <a:pt x="16" y="301"/>
                    </a:lnTo>
                    <a:lnTo>
                      <a:pt x="17" y="287"/>
                    </a:lnTo>
                    <a:lnTo>
                      <a:pt x="18" y="273"/>
                    </a:lnTo>
                    <a:lnTo>
                      <a:pt x="20" y="258"/>
                    </a:lnTo>
                    <a:lnTo>
                      <a:pt x="23" y="245"/>
                    </a:lnTo>
                    <a:lnTo>
                      <a:pt x="26" y="231"/>
                    </a:lnTo>
                    <a:lnTo>
                      <a:pt x="29" y="217"/>
                    </a:lnTo>
                    <a:lnTo>
                      <a:pt x="34" y="204"/>
                    </a:lnTo>
                    <a:lnTo>
                      <a:pt x="40" y="191"/>
                    </a:lnTo>
                    <a:lnTo>
                      <a:pt x="45" y="178"/>
                    </a:lnTo>
                    <a:lnTo>
                      <a:pt x="51" y="166"/>
                    </a:lnTo>
                    <a:lnTo>
                      <a:pt x="57" y="154"/>
                    </a:lnTo>
                    <a:lnTo>
                      <a:pt x="66" y="143"/>
                    </a:lnTo>
                    <a:lnTo>
                      <a:pt x="73" y="131"/>
                    </a:lnTo>
                    <a:lnTo>
                      <a:pt x="82" y="121"/>
                    </a:lnTo>
                    <a:lnTo>
                      <a:pt x="91" y="110"/>
                    </a:lnTo>
                    <a:lnTo>
                      <a:pt x="100" y="101"/>
                    </a:lnTo>
                    <a:lnTo>
                      <a:pt x="110" y="91"/>
                    </a:lnTo>
                    <a:lnTo>
                      <a:pt x="120" y="82"/>
                    </a:lnTo>
                    <a:lnTo>
                      <a:pt x="131" y="73"/>
                    </a:lnTo>
                    <a:lnTo>
                      <a:pt x="143" y="66"/>
                    </a:lnTo>
                    <a:lnTo>
                      <a:pt x="154" y="59"/>
                    </a:lnTo>
                    <a:lnTo>
                      <a:pt x="166" y="51"/>
                    </a:lnTo>
                    <a:lnTo>
                      <a:pt x="178" y="45"/>
                    </a:lnTo>
                    <a:lnTo>
                      <a:pt x="191" y="40"/>
                    </a:lnTo>
                    <a:lnTo>
                      <a:pt x="203" y="35"/>
                    </a:lnTo>
                    <a:lnTo>
                      <a:pt x="217" y="29"/>
                    </a:lnTo>
                    <a:lnTo>
                      <a:pt x="231" y="26"/>
                    </a:lnTo>
                    <a:lnTo>
                      <a:pt x="244" y="23"/>
                    </a:lnTo>
                    <a:lnTo>
                      <a:pt x="258" y="20"/>
                    </a:lnTo>
                    <a:lnTo>
                      <a:pt x="273" y="19"/>
                    </a:lnTo>
                    <a:lnTo>
                      <a:pt x="287" y="18"/>
                    </a:lnTo>
                    <a:lnTo>
                      <a:pt x="301" y="17"/>
                    </a:lnTo>
                    <a:lnTo>
                      <a:pt x="316" y="18"/>
                    </a:lnTo>
                    <a:lnTo>
                      <a:pt x="331" y="19"/>
                    </a:lnTo>
                    <a:lnTo>
                      <a:pt x="345" y="20"/>
                    </a:lnTo>
                    <a:lnTo>
                      <a:pt x="359" y="23"/>
                    </a:lnTo>
                    <a:lnTo>
                      <a:pt x="373" y="26"/>
                    </a:lnTo>
                    <a:lnTo>
                      <a:pt x="386" y="29"/>
                    </a:lnTo>
                    <a:lnTo>
                      <a:pt x="400" y="35"/>
                    </a:lnTo>
                    <a:lnTo>
                      <a:pt x="413" y="40"/>
                    </a:lnTo>
                    <a:lnTo>
                      <a:pt x="425" y="45"/>
                    </a:lnTo>
                    <a:lnTo>
                      <a:pt x="438" y="51"/>
                    </a:lnTo>
                    <a:lnTo>
                      <a:pt x="449" y="59"/>
                    </a:lnTo>
                    <a:lnTo>
                      <a:pt x="461" y="66"/>
                    </a:lnTo>
                    <a:lnTo>
                      <a:pt x="473" y="73"/>
                    </a:lnTo>
                    <a:lnTo>
                      <a:pt x="483" y="82"/>
                    </a:lnTo>
                    <a:lnTo>
                      <a:pt x="494" y="91"/>
                    </a:lnTo>
                    <a:lnTo>
                      <a:pt x="503" y="101"/>
                    </a:lnTo>
                    <a:lnTo>
                      <a:pt x="513" y="110"/>
                    </a:lnTo>
                    <a:lnTo>
                      <a:pt x="522" y="121"/>
                    </a:lnTo>
                    <a:lnTo>
                      <a:pt x="530" y="131"/>
                    </a:lnTo>
                    <a:lnTo>
                      <a:pt x="538" y="143"/>
                    </a:lnTo>
                    <a:lnTo>
                      <a:pt x="545" y="154"/>
                    </a:lnTo>
                    <a:lnTo>
                      <a:pt x="552" y="166"/>
                    </a:lnTo>
                    <a:lnTo>
                      <a:pt x="559" y="178"/>
                    </a:lnTo>
                    <a:lnTo>
                      <a:pt x="564" y="191"/>
                    </a:lnTo>
                    <a:lnTo>
                      <a:pt x="569" y="204"/>
                    </a:lnTo>
                    <a:lnTo>
                      <a:pt x="573" y="217"/>
                    </a:lnTo>
                    <a:lnTo>
                      <a:pt x="578" y="231"/>
                    </a:lnTo>
                    <a:lnTo>
                      <a:pt x="581" y="245"/>
                    </a:lnTo>
                    <a:lnTo>
                      <a:pt x="583" y="258"/>
                    </a:lnTo>
                    <a:lnTo>
                      <a:pt x="585" y="273"/>
                    </a:lnTo>
                    <a:lnTo>
                      <a:pt x="586" y="287"/>
                    </a:lnTo>
                    <a:lnTo>
                      <a:pt x="587" y="301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924520" y="2604960"/>
                <a:ext cx="187200" cy="185760"/>
              </a:xfrm>
              <a:custGeom>
                <a:avLst/>
                <a:gdLst/>
                <a:ahLst/>
                <a:rect l="l" t="t" r="r" b="b"/>
                <a:pathLst>
                  <a:path w="588" h="586">
                    <a:moveTo>
                      <a:pt x="588" y="293"/>
                    </a:moveTo>
                    <a:lnTo>
                      <a:pt x="587" y="279"/>
                    </a:lnTo>
                    <a:lnTo>
                      <a:pt x="585" y="264"/>
                    </a:lnTo>
                    <a:lnTo>
                      <a:pt x="583" y="249"/>
                    </a:lnTo>
                    <a:lnTo>
                      <a:pt x="581" y="235"/>
                    </a:lnTo>
                    <a:lnTo>
                      <a:pt x="578" y="221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80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4" y="142"/>
                    </a:lnTo>
                    <a:lnTo>
                      <a:pt x="537" y="130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7"/>
                    </a:lnTo>
                    <a:lnTo>
                      <a:pt x="501" y="86"/>
                    </a:lnTo>
                    <a:lnTo>
                      <a:pt x="491" y="77"/>
                    </a:lnTo>
                    <a:lnTo>
                      <a:pt x="480" y="68"/>
                    </a:lnTo>
                    <a:lnTo>
                      <a:pt x="469" y="59"/>
                    </a:lnTo>
                    <a:lnTo>
                      <a:pt x="457" y="51"/>
                    </a:lnTo>
                    <a:lnTo>
                      <a:pt x="446" y="43"/>
                    </a:lnTo>
                    <a:lnTo>
                      <a:pt x="433" y="36"/>
                    </a:lnTo>
                    <a:lnTo>
                      <a:pt x="420" y="30"/>
                    </a:lnTo>
                    <a:lnTo>
                      <a:pt x="408" y="23"/>
                    </a:lnTo>
                    <a:lnTo>
                      <a:pt x="394" y="18"/>
                    </a:lnTo>
                    <a:lnTo>
                      <a:pt x="380" y="14"/>
                    </a:lnTo>
                    <a:lnTo>
                      <a:pt x="367" y="10"/>
                    </a:lnTo>
                    <a:lnTo>
                      <a:pt x="353" y="7"/>
                    </a:lnTo>
                    <a:lnTo>
                      <a:pt x="338" y="4"/>
                    </a:lnTo>
                    <a:lnTo>
                      <a:pt x="324" y="2"/>
                    </a:lnTo>
                    <a:lnTo>
                      <a:pt x="309" y="1"/>
                    </a:lnTo>
                    <a:lnTo>
                      <a:pt x="293" y="0"/>
                    </a:lnTo>
                    <a:lnTo>
                      <a:pt x="279" y="1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4" y="7"/>
                    </a:lnTo>
                    <a:lnTo>
                      <a:pt x="221" y="10"/>
                    </a:lnTo>
                    <a:lnTo>
                      <a:pt x="206" y="14"/>
                    </a:lnTo>
                    <a:lnTo>
                      <a:pt x="192" y="18"/>
                    </a:lnTo>
                    <a:lnTo>
                      <a:pt x="180" y="23"/>
                    </a:lnTo>
                    <a:lnTo>
                      <a:pt x="166" y="30"/>
                    </a:lnTo>
                    <a:lnTo>
                      <a:pt x="153" y="36"/>
                    </a:lnTo>
                    <a:lnTo>
                      <a:pt x="142" y="43"/>
                    </a:lnTo>
                    <a:lnTo>
                      <a:pt x="129" y="51"/>
                    </a:lnTo>
                    <a:lnTo>
                      <a:pt x="118" y="59"/>
                    </a:lnTo>
                    <a:lnTo>
                      <a:pt x="107" y="68"/>
                    </a:lnTo>
                    <a:lnTo>
                      <a:pt x="97" y="77"/>
                    </a:lnTo>
                    <a:lnTo>
                      <a:pt x="86" y="86"/>
                    </a:lnTo>
                    <a:lnTo>
                      <a:pt x="77" y="97"/>
                    </a:lnTo>
                    <a:lnTo>
                      <a:pt x="67" y="107"/>
                    </a:lnTo>
                    <a:lnTo>
                      <a:pt x="59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6" y="154"/>
                    </a:lnTo>
                    <a:lnTo>
                      <a:pt x="29" y="166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4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2" y="264"/>
                    </a:lnTo>
                    <a:lnTo>
                      <a:pt x="1" y="279"/>
                    </a:lnTo>
                    <a:lnTo>
                      <a:pt x="0" y="293"/>
                    </a:lnTo>
                    <a:lnTo>
                      <a:pt x="0" y="296"/>
                    </a:lnTo>
                    <a:lnTo>
                      <a:pt x="0" y="299"/>
                    </a:lnTo>
                    <a:lnTo>
                      <a:pt x="0" y="301"/>
                    </a:lnTo>
                    <a:lnTo>
                      <a:pt x="0" y="303"/>
                    </a:lnTo>
                    <a:lnTo>
                      <a:pt x="0" y="306"/>
                    </a:lnTo>
                    <a:lnTo>
                      <a:pt x="1" y="308"/>
                    </a:lnTo>
                    <a:lnTo>
                      <a:pt x="1" y="310"/>
                    </a:lnTo>
                    <a:lnTo>
                      <a:pt x="1" y="312"/>
                    </a:lnTo>
                    <a:lnTo>
                      <a:pt x="3" y="319"/>
                    </a:lnTo>
                    <a:lnTo>
                      <a:pt x="28" y="418"/>
                    </a:lnTo>
                    <a:lnTo>
                      <a:pt x="38" y="437"/>
                    </a:lnTo>
                    <a:lnTo>
                      <a:pt x="48" y="454"/>
                    </a:lnTo>
                    <a:lnTo>
                      <a:pt x="60" y="471"/>
                    </a:lnTo>
                    <a:lnTo>
                      <a:pt x="73" y="487"/>
                    </a:lnTo>
                    <a:lnTo>
                      <a:pt x="87" y="501"/>
                    </a:lnTo>
                    <a:lnTo>
                      <a:pt x="102" y="515"/>
                    </a:lnTo>
                    <a:lnTo>
                      <a:pt x="118" y="529"/>
                    </a:lnTo>
                    <a:lnTo>
                      <a:pt x="135" y="540"/>
                    </a:lnTo>
                    <a:lnTo>
                      <a:pt x="152" y="551"/>
                    </a:lnTo>
                    <a:lnTo>
                      <a:pt x="170" y="560"/>
                    </a:lnTo>
                    <a:lnTo>
                      <a:pt x="189" y="567"/>
                    </a:lnTo>
                    <a:lnTo>
                      <a:pt x="209" y="575"/>
                    </a:lnTo>
                    <a:lnTo>
                      <a:pt x="229" y="580"/>
                    </a:lnTo>
                    <a:lnTo>
                      <a:pt x="250" y="583"/>
                    </a:lnTo>
                    <a:lnTo>
                      <a:pt x="272" y="586"/>
                    </a:lnTo>
                    <a:lnTo>
                      <a:pt x="293" y="586"/>
                    </a:lnTo>
                    <a:lnTo>
                      <a:pt x="309" y="586"/>
                    </a:lnTo>
                    <a:lnTo>
                      <a:pt x="324" y="585"/>
                    </a:lnTo>
                    <a:lnTo>
                      <a:pt x="338" y="583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0" y="574"/>
                    </a:lnTo>
                    <a:lnTo>
                      <a:pt x="394" y="569"/>
                    </a:lnTo>
                    <a:lnTo>
                      <a:pt x="408" y="563"/>
                    </a:lnTo>
                    <a:lnTo>
                      <a:pt x="420" y="558"/>
                    </a:lnTo>
                    <a:lnTo>
                      <a:pt x="433" y="552"/>
                    </a:lnTo>
                    <a:lnTo>
                      <a:pt x="446" y="544"/>
                    </a:lnTo>
                    <a:lnTo>
                      <a:pt x="457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7"/>
                    </a:lnTo>
                    <a:lnTo>
                      <a:pt x="544" y="446"/>
                    </a:lnTo>
                    <a:lnTo>
                      <a:pt x="552" y="433"/>
                    </a:lnTo>
                    <a:lnTo>
                      <a:pt x="558" y="420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0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3" y="338"/>
                    </a:lnTo>
                    <a:lnTo>
                      <a:pt x="585" y="324"/>
                    </a:lnTo>
                    <a:lnTo>
                      <a:pt x="587" y="309"/>
                    </a:lnTo>
                    <a:lnTo>
                      <a:pt x="588" y="293"/>
                    </a:lnTo>
                    <a:close/>
                    <a:moveTo>
                      <a:pt x="571" y="293"/>
                    </a:moveTo>
                    <a:lnTo>
                      <a:pt x="570" y="308"/>
                    </a:lnTo>
                    <a:lnTo>
                      <a:pt x="569" y="322"/>
                    </a:lnTo>
                    <a:lnTo>
                      <a:pt x="568" y="335"/>
                    </a:lnTo>
                    <a:lnTo>
                      <a:pt x="564" y="349"/>
                    </a:lnTo>
                    <a:lnTo>
                      <a:pt x="561" y="363"/>
                    </a:lnTo>
                    <a:lnTo>
                      <a:pt x="558" y="376"/>
                    </a:lnTo>
                    <a:lnTo>
                      <a:pt x="554" y="389"/>
                    </a:lnTo>
                    <a:lnTo>
                      <a:pt x="549" y="401"/>
                    </a:lnTo>
                    <a:lnTo>
                      <a:pt x="543" y="413"/>
                    </a:lnTo>
                    <a:lnTo>
                      <a:pt x="537" y="426"/>
                    </a:lnTo>
                    <a:lnTo>
                      <a:pt x="530" y="437"/>
                    </a:lnTo>
                    <a:lnTo>
                      <a:pt x="523" y="449"/>
                    </a:lnTo>
                    <a:lnTo>
                      <a:pt x="515" y="459"/>
                    </a:lnTo>
                    <a:lnTo>
                      <a:pt x="507" y="470"/>
                    </a:lnTo>
                    <a:lnTo>
                      <a:pt x="498" y="479"/>
                    </a:lnTo>
                    <a:lnTo>
                      <a:pt x="490" y="489"/>
                    </a:lnTo>
                    <a:lnTo>
                      <a:pt x="479" y="498"/>
                    </a:lnTo>
                    <a:lnTo>
                      <a:pt x="470" y="506"/>
                    </a:lnTo>
                    <a:lnTo>
                      <a:pt x="459" y="515"/>
                    </a:lnTo>
                    <a:lnTo>
                      <a:pt x="449" y="523"/>
                    </a:lnTo>
                    <a:lnTo>
                      <a:pt x="437" y="530"/>
                    </a:lnTo>
                    <a:lnTo>
                      <a:pt x="426" y="537"/>
                    </a:lnTo>
                    <a:lnTo>
                      <a:pt x="413" y="543"/>
                    </a:lnTo>
                    <a:lnTo>
                      <a:pt x="402" y="548"/>
                    </a:lnTo>
                    <a:lnTo>
                      <a:pt x="389" y="554"/>
                    </a:lnTo>
                    <a:lnTo>
                      <a:pt x="376" y="558"/>
                    </a:lnTo>
                    <a:lnTo>
                      <a:pt x="363" y="561"/>
                    </a:lnTo>
                    <a:lnTo>
                      <a:pt x="349" y="564"/>
                    </a:lnTo>
                    <a:lnTo>
                      <a:pt x="335" y="567"/>
                    </a:lnTo>
                    <a:lnTo>
                      <a:pt x="322" y="568"/>
                    </a:lnTo>
                    <a:lnTo>
                      <a:pt x="308" y="569"/>
                    </a:lnTo>
                    <a:lnTo>
                      <a:pt x="293" y="571"/>
                    </a:lnTo>
                    <a:lnTo>
                      <a:pt x="280" y="569"/>
                    </a:lnTo>
                    <a:lnTo>
                      <a:pt x="265" y="568"/>
                    </a:lnTo>
                    <a:lnTo>
                      <a:pt x="251" y="567"/>
                    </a:lnTo>
                    <a:lnTo>
                      <a:pt x="238" y="564"/>
                    </a:lnTo>
                    <a:lnTo>
                      <a:pt x="225" y="561"/>
                    </a:lnTo>
                    <a:lnTo>
                      <a:pt x="211" y="558"/>
                    </a:lnTo>
                    <a:lnTo>
                      <a:pt x="199" y="554"/>
                    </a:lnTo>
                    <a:lnTo>
                      <a:pt x="186" y="548"/>
                    </a:lnTo>
                    <a:lnTo>
                      <a:pt x="173" y="543"/>
                    </a:lnTo>
                    <a:lnTo>
                      <a:pt x="162" y="537"/>
                    </a:lnTo>
                    <a:lnTo>
                      <a:pt x="150" y="530"/>
                    </a:lnTo>
                    <a:lnTo>
                      <a:pt x="139" y="523"/>
                    </a:lnTo>
                    <a:lnTo>
                      <a:pt x="128" y="515"/>
                    </a:lnTo>
                    <a:lnTo>
                      <a:pt x="118" y="506"/>
                    </a:lnTo>
                    <a:lnTo>
                      <a:pt x="107" y="498"/>
                    </a:lnTo>
                    <a:lnTo>
                      <a:pt x="98" y="489"/>
                    </a:lnTo>
                    <a:lnTo>
                      <a:pt x="89" y="479"/>
                    </a:lnTo>
                    <a:lnTo>
                      <a:pt x="80" y="470"/>
                    </a:lnTo>
                    <a:lnTo>
                      <a:pt x="71" y="459"/>
                    </a:lnTo>
                    <a:lnTo>
                      <a:pt x="64" y="449"/>
                    </a:lnTo>
                    <a:lnTo>
                      <a:pt x="57" y="437"/>
                    </a:lnTo>
                    <a:lnTo>
                      <a:pt x="50" y="426"/>
                    </a:lnTo>
                    <a:lnTo>
                      <a:pt x="44" y="413"/>
                    </a:lnTo>
                    <a:lnTo>
                      <a:pt x="39" y="401"/>
                    </a:lnTo>
                    <a:lnTo>
                      <a:pt x="34" y="389"/>
                    </a:lnTo>
                    <a:lnTo>
                      <a:pt x="29" y="376"/>
                    </a:lnTo>
                    <a:lnTo>
                      <a:pt x="25" y="363"/>
                    </a:lnTo>
                    <a:lnTo>
                      <a:pt x="23" y="349"/>
                    </a:lnTo>
                    <a:lnTo>
                      <a:pt x="20" y="335"/>
                    </a:lnTo>
                    <a:lnTo>
                      <a:pt x="19" y="322"/>
                    </a:lnTo>
                    <a:lnTo>
                      <a:pt x="17" y="308"/>
                    </a:lnTo>
                    <a:lnTo>
                      <a:pt x="17" y="293"/>
                    </a:lnTo>
                    <a:lnTo>
                      <a:pt x="17" y="280"/>
                    </a:lnTo>
                    <a:lnTo>
                      <a:pt x="19" y="265"/>
                    </a:lnTo>
                    <a:lnTo>
                      <a:pt x="20" y="251"/>
                    </a:lnTo>
                    <a:lnTo>
                      <a:pt x="23" y="238"/>
                    </a:lnTo>
                    <a:lnTo>
                      <a:pt x="25" y="225"/>
                    </a:lnTo>
                    <a:lnTo>
                      <a:pt x="29" y="211"/>
                    </a:lnTo>
                    <a:lnTo>
                      <a:pt x="34" y="199"/>
                    </a:lnTo>
                    <a:lnTo>
                      <a:pt x="39" y="186"/>
                    </a:lnTo>
                    <a:lnTo>
                      <a:pt x="44" y="174"/>
                    </a:lnTo>
                    <a:lnTo>
                      <a:pt x="50" y="162"/>
                    </a:lnTo>
                    <a:lnTo>
                      <a:pt x="57" y="151"/>
                    </a:lnTo>
                    <a:lnTo>
                      <a:pt x="64" y="139"/>
                    </a:lnTo>
                    <a:lnTo>
                      <a:pt x="71" y="128"/>
                    </a:lnTo>
                    <a:lnTo>
                      <a:pt x="80" y="118"/>
                    </a:lnTo>
                    <a:lnTo>
                      <a:pt x="89" y="107"/>
                    </a:lnTo>
                    <a:lnTo>
                      <a:pt x="98" y="98"/>
                    </a:lnTo>
                    <a:lnTo>
                      <a:pt x="107" y="90"/>
                    </a:lnTo>
                    <a:lnTo>
                      <a:pt x="118" y="80"/>
                    </a:lnTo>
                    <a:lnTo>
                      <a:pt x="128" y="72"/>
                    </a:lnTo>
                    <a:lnTo>
                      <a:pt x="139" y="64"/>
                    </a:lnTo>
                    <a:lnTo>
                      <a:pt x="150" y="57"/>
                    </a:lnTo>
                    <a:lnTo>
                      <a:pt x="162" y="51"/>
                    </a:lnTo>
                    <a:lnTo>
                      <a:pt x="173" y="44"/>
                    </a:lnTo>
                    <a:lnTo>
                      <a:pt x="186" y="39"/>
                    </a:lnTo>
                    <a:lnTo>
                      <a:pt x="199" y="34"/>
                    </a:lnTo>
                    <a:lnTo>
                      <a:pt x="211" y="30"/>
                    </a:lnTo>
                    <a:lnTo>
                      <a:pt x="225" y="26"/>
                    </a:lnTo>
                    <a:lnTo>
                      <a:pt x="238" y="22"/>
                    </a:lnTo>
                    <a:lnTo>
                      <a:pt x="251" y="20"/>
                    </a:lnTo>
                    <a:lnTo>
                      <a:pt x="265" y="18"/>
                    </a:lnTo>
                    <a:lnTo>
                      <a:pt x="280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2" y="18"/>
                    </a:lnTo>
                    <a:lnTo>
                      <a:pt x="335" y="20"/>
                    </a:lnTo>
                    <a:lnTo>
                      <a:pt x="349" y="22"/>
                    </a:lnTo>
                    <a:lnTo>
                      <a:pt x="363" y="26"/>
                    </a:lnTo>
                    <a:lnTo>
                      <a:pt x="376" y="30"/>
                    </a:lnTo>
                    <a:lnTo>
                      <a:pt x="389" y="34"/>
                    </a:lnTo>
                    <a:lnTo>
                      <a:pt x="402" y="39"/>
                    </a:lnTo>
                    <a:lnTo>
                      <a:pt x="413" y="44"/>
                    </a:lnTo>
                    <a:lnTo>
                      <a:pt x="426" y="51"/>
                    </a:lnTo>
                    <a:lnTo>
                      <a:pt x="437" y="57"/>
                    </a:lnTo>
                    <a:lnTo>
                      <a:pt x="449" y="64"/>
                    </a:lnTo>
                    <a:lnTo>
                      <a:pt x="459" y="72"/>
                    </a:lnTo>
                    <a:lnTo>
                      <a:pt x="470" y="80"/>
                    </a:lnTo>
                    <a:lnTo>
                      <a:pt x="479" y="90"/>
                    </a:lnTo>
                    <a:lnTo>
                      <a:pt x="490" y="98"/>
                    </a:lnTo>
                    <a:lnTo>
                      <a:pt x="498" y="107"/>
                    </a:lnTo>
                    <a:lnTo>
                      <a:pt x="507" y="118"/>
                    </a:lnTo>
                    <a:lnTo>
                      <a:pt x="515" y="128"/>
                    </a:lnTo>
                    <a:lnTo>
                      <a:pt x="523" y="139"/>
                    </a:lnTo>
                    <a:lnTo>
                      <a:pt x="530" y="151"/>
                    </a:lnTo>
                    <a:lnTo>
                      <a:pt x="537" y="162"/>
                    </a:lnTo>
                    <a:lnTo>
                      <a:pt x="543" y="174"/>
                    </a:lnTo>
                    <a:lnTo>
                      <a:pt x="549" y="186"/>
                    </a:lnTo>
                    <a:lnTo>
                      <a:pt x="554" y="199"/>
                    </a:lnTo>
                    <a:lnTo>
                      <a:pt x="558" y="211"/>
                    </a:lnTo>
                    <a:lnTo>
                      <a:pt x="561" y="225"/>
                    </a:lnTo>
                    <a:lnTo>
                      <a:pt x="564" y="238"/>
                    </a:lnTo>
                    <a:lnTo>
                      <a:pt x="568" y="251"/>
                    </a:lnTo>
                    <a:lnTo>
                      <a:pt x="569" y="265"/>
                    </a:lnTo>
                    <a:lnTo>
                      <a:pt x="570" y="280"/>
                    </a:lnTo>
                    <a:lnTo>
                      <a:pt x="571" y="29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927760" y="2606760"/>
                <a:ext cx="181080" cy="180720"/>
              </a:xfrm>
              <a:custGeom>
                <a:avLst/>
                <a:gdLst/>
                <a:ahLst/>
                <a:rect l="l" t="t" r="r" b="b"/>
                <a:pathLst>
                  <a:path w="571" h="569">
                    <a:moveTo>
                      <a:pt x="571" y="284"/>
                    </a:moveTo>
                    <a:lnTo>
                      <a:pt x="570" y="270"/>
                    </a:lnTo>
                    <a:lnTo>
                      <a:pt x="569" y="256"/>
                    </a:lnTo>
                    <a:lnTo>
                      <a:pt x="567" y="241"/>
                    </a:lnTo>
                    <a:lnTo>
                      <a:pt x="565" y="228"/>
                    </a:lnTo>
                    <a:lnTo>
                      <a:pt x="562" y="214"/>
                    </a:lnTo>
                    <a:lnTo>
                      <a:pt x="557" y="200"/>
                    </a:lnTo>
                    <a:lnTo>
                      <a:pt x="553" y="187"/>
                    </a:lnTo>
                    <a:lnTo>
                      <a:pt x="548" y="174"/>
                    </a:lnTo>
                    <a:lnTo>
                      <a:pt x="543" y="161"/>
                    </a:lnTo>
                    <a:lnTo>
                      <a:pt x="536" y="149"/>
                    </a:lnTo>
                    <a:lnTo>
                      <a:pt x="529" y="137"/>
                    </a:lnTo>
                    <a:lnTo>
                      <a:pt x="522" y="126"/>
                    </a:lnTo>
                    <a:lnTo>
                      <a:pt x="514" y="114"/>
                    </a:lnTo>
                    <a:lnTo>
                      <a:pt x="506" y="104"/>
                    </a:lnTo>
                    <a:lnTo>
                      <a:pt x="497" y="93"/>
                    </a:lnTo>
                    <a:lnTo>
                      <a:pt x="487" y="84"/>
                    </a:lnTo>
                    <a:lnTo>
                      <a:pt x="478" y="74"/>
                    </a:lnTo>
                    <a:lnTo>
                      <a:pt x="467" y="65"/>
                    </a:lnTo>
                    <a:lnTo>
                      <a:pt x="457" y="56"/>
                    </a:lnTo>
                    <a:lnTo>
                      <a:pt x="445" y="48"/>
                    </a:lnTo>
                    <a:lnTo>
                      <a:pt x="433" y="41"/>
                    </a:lnTo>
                    <a:lnTo>
                      <a:pt x="422" y="34"/>
                    </a:lnTo>
                    <a:lnTo>
                      <a:pt x="409" y="28"/>
                    </a:lnTo>
                    <a:lnTo>
                      <a:pt x="397" y="22"/>
                    </a:lnTo>
                    <a:lnTo>
                      <a:pt x="384" y="18"/>
                    </a:lnTo>
                    <a:lnTo>
                      <a:pt x="370" y="12"/>
                    </a:lnTo>
                    <a:lnTo>
                      <a:pt x="357" y="9"/>
                    </a:lnTo>
                    <a:lnTo>
                      <a:pt x="343" y="6"/>
                    </a:lnTo>
                    <a:lnTo>
                      <a:pt x="329" y="3"/>
                    </a:lnTo>
                    <a:lnTo>
                      <a:pt x="315" y="2"/>
                    </a:lnTo>
                    <a:lnTo>
                      <a:pt x="300" y="0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57" y="2"/>
                    </a:lnTo>
                    <a:lnTo>
                      <a:pt x="242" y="3"/>
                    </a:lnTo>
                    <a:lnTo>
                      <a:pt x="228" y="6"/>
                    </a:lnTo>
                    <a:lnTo>
                      <a:pt x="215" y="9"/>
                    </a:lnTo>
                    <a:lnTo>
                      <a:pt x="201" y="12"/>
                    </a:lnTo>
                    <a:lnTo>
                      <a:pt x="187" y="18"/>
                    </a:lnTo>
                    <a:lnTo>
                      <a:pt x="175" y="22"/>
                    </a:lnTo>
                    <a:lnTo>
                      <a:pt x="162" y="28"/>
                    </a:lnTo>
                    <a:lnTo>
                      <a:pt x="150" y="34"/>
                    </a:lnTo>
                    <a:lnTo>
                      <a:pt x="138" y="41"/>
                    </a:lnTo>
                    <a:lnTo>
                      <a:pt x="127" y="48"/>
                    </a:lnTo>
                    <a:lnTo>
                      <a:pt x="115" y="56"/>
                    </a:lnTo>
                    <a:lnTo>
                      <a:pt x="104" y="65"/>
                    </a:lnTo>
                    <a:lnTo>
                      <a:pt x="94" y="74"/>
                    </a:lnTo>
                    <a:lnTo>
                      <a:pt x="84" y="84"/>
                    </a:lnTo>
                    <a:lnTo>
                      <a:pt x="75" y="93"/>
                    </a:lnTo>
                    <a:lnTo>
                      <a:pt x="66" y="104"/>
                    </a:lnTo>
                    <a:lnTo>
                      <a:pt x="57" y="114"/>
                    </a:lnTo>
                    <a:lnTo>
                      <a:pt x="50" y="126"/>
                    </a:lnTo>
                    <a:lnTo>
                      <a:pt x="41" y="137"/>
                    </a:lnTo>
                    <a:lnTo>
                      <a:pt x="35" y="149"/>
                    </a:lnTo>
                    <a:lnTo>
                      <a:pt x="29" y="161"/>
                    </a:lnTo>
                    <a:lnTo>
                      <a:pt x="24" y="174"/>
                    </a:lnTo>
                    <a:lnTo>
                      <a:pt x="18" y="187"/>
                    </a:lnTo>
                    <a:lnTo>
                      <a:pt x="13" y="200"/>
                    </a:lnTo>
                    <a:lnTo>
                      <a:pt x="10" y="214"/>
                    </a:lnTo>
                    <a:lnTo>
                      <a:pt x="7" y="228"/>
                    </a:lnTo>
                    <a:lnTo>
                      <a:pt x="4" y="241"/>
                    </a:lnTo>
                    <a:lnTo>
                      <a:pt x="2" y="256"/>
                    </a:lnTo>
                    <a:lnTo>
                      <a:pt x="1" y="270"/>
                    </a:lnTo>
                    <a:lnTo>
                      <a:pt x="0" y="284"/>
                    </a:lnTo>
                    <a:lnTo>
                      <a:pt x="1" y="299"/>
                    </a:lnTo>
                    <a:lnTo>
                      <a:pt x="2" y="314"/>
                    </a:lnTo>
                    <a:lnTo>
                      <a:pt x="4" y="328"/>
                    </a:lnTo>
                    <a:lnTo>
                      <a:pt x="7" y="342"/>
                    </a:lnTo>
                    <a:lnTo>
                      <a:pt x="10" y="356"/>
                    </a:lnTo>
                    <a:lnTo>
                      <a:pt x="13" y="369"/>
                    </a:lnTo>
                    <a:lnTo>
                      <a:pt x="18" y="383"/>
                    </a:lnTo>
                    <a:lnTo>
                      <a:pt x="24" y="396"/>
                    </a:lnTo>
                    <a:lnTo>
                      <a:pt x="29" y="408"/>
                    </a:lnTo>
                    <a:lnTo>
                      <a:pt x="35" y="421"/>
                    </a:lnTo>
                    <a:lnTo>
                      <a:pt x="41" y="432"/>
                    </a:lnTo>
                    <a:lnTo>
                      <a:pt x="50" y="444"/>
                    </a:lnTo>
                    <a:lnTo>
                      <a:pt x="57" y="455"/>
                    </a:lnTo>
                    <a:lnTo>
                      <a:pt x="66" y="466"/>
                    </a:lnTo>
                    <a:lnTo>
                      <a:pt x="75" y="476"/>
                    </a:lnTo>
                    <a:lnTo>
                      <a:pt x="84" y="486"/>
                    </a:lnTo>
                    <a:lnTo>
                      <a:pt x="94" y="495"/>
                    </a:lnTo>
                    <a:lnTo>
                      <a:pt x="104" y="505"/>
                    </a:lnTo>
                    <a:lnTo>
                      <a:pt x="115" y="513"/>
                    </a:lnTo>
                    <a:lnTo>
                      <a:pt x="127" y="521"/>
                    </a:lnTo>
                    <a:lnTo>
                      <a:pt x="138" y="528"/>
                    </a:lnTo>
                    <a:lnTo>
                      <a:pt x="150" y="535"/>
                    </a:lnTo>
                    <a:lnTo>
                      <a:pt x="162" y="542"/>
                    </a:lnTo>
                    <a:lnTo>
                      <a:pt x="175" y="547"/>
                    </a:lnTo>
                    <a:lnTo>
                      <a:pt x="187" y="552"/>
                    </a:lnTo>
                    <a:lnTo>
                      <a:pt x="201" y="556"/>
                    </a:lnTo>
                    <a:lnTo>
                      <a:pt x="215" y="560"/>
                    </a:lnTo>
                    <a:lnTo>
                      <a:pt x="228" y="564"/>
                    </a:lnTo>
                    <a:lnTo>
                      <a:pt x="242" y="566"/>
                    </a:lnTo>
                    <a:lnTo>
                      <a:pt x="257" y="568"/>
                    </a:lnTo>
                    <a:lnTo>
                      <a:pt x="271" y="569"/>
                    </a:lnTo>
                    <a:lnTo>
                      <a:pt x="285" y="569"/>
                    </a:lnTo>
                    <a:lnTo>
                      <a:pt x="300" y="569"/>
                    </a:lnTo>
                    <a:lnTo>
                      <a:pt x="315" y="568"/>
                    </a:lnTo>
                    <a:lnTo>
                      <a:pt x="329" y="566"/>
                    </a:lnTo>
                    <a:lnTo>
                      <a:pt x="343" y="564"/>
                    </a:lnTo>
                    <a:lnTo>
                      <a:pt x="357" y="560"/>
                    </a:lnTo>
                    <a:lnTo>
                      <a:pt x="370" y="556"/>
                    </a:lnTo>
                    <a:lnTo>
                      <a:pt x="384" y="552"/>
                    </a:lnTo>
                    <a:lnTo>
                      <a:pt x="397" y="547"/>
                    </a:lnTo>
                    <a:lnTo>
                      <a:pt x="409" y="542"/>
                    </a:lnTo>
                    <a:lnTo>
                      <a:pt x="422" y="535"/>
                    </a:lnTo>
                    <a:lnTo>
                      <a:pt x="433" y="528"/>
                    </a:lnTo>
                    <a:lnTo>
                      <a:pt x="445" y="521"/>
                    </a:lnTo>
                    <a:lnTo>
                      <a:pt x="457" y="513"/>
                    </a:lnTo>
                    <a:lnTo>
                      <a:pt x="467" y="505"/>
                    </a:lnTo>
                    <a:lnTo>
                      <a:pt x="478" y="495"/>
                    </a:lnTo>
                    <a:lnTo>
                      <a:pt x="487" y="486"/>
                    </a:lnTo>
                    <a:lnTo>
                      <a:pt x="497" y="476"/>
                    </a:lnTo>
                    <a:lnTo>
                      <a:pt x="506" y="466"/>
                    </a:lnTo>
                    <a:lnTo>
                      <a:pt x="514" y="455"/>
                    </a:lnTo>
                    <a:lnTo>
                      <a:pt x="522" y="444"/>
                    </a:lnTo>
                    <a:lnTo>
                      <a:pt x="529" y="432"/>
                    </a:lnTo>
                    <a:lnTo>
                      <a:pt x="536" y="421"/>
                    </a:lnTo>
                    <a:lnTo>
                      <a:pt x="543" y="408"/>
                    </a:lnTo>
                    <a:lnTo>
                      <a:pt x="548" y="396"/>
                    </a:lnTo>
                    <a:lnTo>
                      <a:pt x="553" y="383"/>
                    </a:lnTo>
                    <a:lnTo>
                      <a:pt x="557" y="369"/>
                    </a:lnTo>
                    <a:lnTo>
                      <a:pt x="562" y="356"/>
                    </a:lnTo>
                    <a:lnTo>
                      <a:pt x="565" y="342"/>
                    </a:lnTo>
                    <a:lnTo>
                      <a:pt x="567" y="328"/>
                    </a:lnTo>
                    <a:lnTo>
                      <a:pt x="569" y="314"/>
                    </a:lnTo>
                    <a:lnTo>
                      <a:pt x="570" y="299"/>
                    </a:lnTo>
                    <a:lnTo>
                      <a:pt x="571" y="284"/>
                    </a:lnTo>
                    <a:close/>
                    <a:moveTo>
                      <a:pt x="554" y="284"/>
                    </a:moveTo>
                    <a:lnTo>
                      <a:pt x="553" y="298"/>
                    </a:lnTo>
                    <a:lnTo>
                      <a:pt x="552" y="312"/>
                    </a:lnTo>
                    <a:lnTo>
                      <a:pt x="551" y="325"/>
                    </a:lnTo>
                    <a:lnTo>
                      <a:pt x="548" y="339"/>
                    </a:lnTo>
                    <a:lnTo>
                      <a:pt x="545" y="352"/>
                    </a:lnTo>
                    <a:lnTo>
                      <a:pt x="542" y="364"/>
                    </a:lnTo>
                    <a:lnTo>
                      <a:pt x="538" y="377"/>
                    </a:lnTo>
                    <a:lnTo>
                      <a:pt x="533" y="389"/>
                    </a:lnTo>
                    <a:lnTo>
                      <a:pt x="527" y="401"/>
                    </a:lnTo>
                    <a:lnTo>
                      <a:pt x="522" y="412"/>
                    </a:lnTo>
                    <a:lnTo>
                      <a:pt x="515" y="424"/>
                    </a:lnTo>
                    <a:lnTo>
                      <a:pt x="508" y="434"/>
                    </a:lnTo>
                    <a:lnTo>
                      <a:pt x="501" y="445"/>
                    </a:lnTo>
                    <a:lnTo>
                      <a:pt x="492" y="455"/>
                    </a:lnTo>
                    <a:lnTo>
                      <a:pt x="484" y="465"/>
                    </a:lnTo>
                    <a:lnTo>
                      <a:pt x="475" y="474"/>
                    </a:lnTo>
                    <a:lnTo>
                      <a:pt x="466" y="483"/>
                    </a:lnTo>
                    <a:lnTo>
                      <a:pt x="457" y="491"/>
                    </a:lnTo>
                    <a:lnTo>
                      <a:pt x="446" y="500"/>
                    </a:lnTo>
                    <a:lnTo>
                      <a:pt x="436" y="507"/>
                    </a:lnTo>
                    <a:lnTo>
                      <a:pt x="425" y="514"/>
                    </a:lnTo>
                    <a:lnTo>
                      <a:pt x="413" y="521"/>
                    </a:lnTo>
                    <a:lnTo>
                      <a:pt x="402" y="526"/>
                    </a:lnTo>
                    <a:lnTo>
                      <a:pt x="390" y="531"/>
                    </a:lnTo>
                    <a:lnTo>
                      <a:pt x="378" y="536"/>
                    </a:lnTo>
                    <a:lnTo>
                      <a:pt x="365" y="541"/>
                    </a:lnTo>
                    <a:lnTo>
                      <a:pt x="353" y="545"/>
                    </a:lnTo>
                    <a:lnTo>
                      <a:pt x="340" y="547"/>
                    </a:lnTo>
                    <a:lnTo>
                      <a:pt x="326" y="550"/>
                    </a:lnTo>
                    <a:lnTo>
                      <a:pt x="313" y="551"/>
                    </a:lnTo>
                    <a:lnTo>
                      <a:pt x="300" y="552"/>
                    </a:lnTo>
                    <a:lnTo>
                      <a:pt x="285" y="552"/>
                    </a:lnTo>
                    <a:lnTo>
                      <a:pt x="272" y="552"/>
                    </a:lnTo>
                    <a:lnTo>
                      <a:pt x="258" y="551"/>
                    </a:lnTo>
                    <a:lnTo>
                      <a:pt x="244" y="550"/>
                    </a:lnTo>
                    <a:lnTo>
                      <a:pt x="232" y="547"/>
                    </a:lnTo>
                    <a:lnTo>
                      <a:pt x="219" y="545"/>
                    </a:lnTo>
                    <a:lnTo>
                      <a:pt x="205" y="541"/>
                    </a:lnTo>
                    <a:lnTo>
                      <a:pt x="194" y="536"/>
                    </a:lnTo>
                    <a:lnTo>
                      <a:pt x="181" y="531"/>
                    </a:lnTo>
                    <a:lnTo>
                      <a:pt x="170" y="526"/>
                    </a:lnTo>
                    <a:lnTo>
                      <a:pt x="158" y="521"/>
                    </a:lnTo>
                    <a:lnTo>
                      <a:pt x="146" y="514"/>
                    </a:lnTo>
                    <a:lnTo>
                      <a:pt x="136" y="507"/>
                    </a:lnTo>
                    <a:lnTo>
                      <a:pt x="125" y="500"/>
                    </a:lnTo>
                    <a:lnTo>
                      <a:pt x="115" y="491"/>
                    </a:lnTo>
                    <a:lnTo>
                      <a:pt x="105" y="483"/>
                    </a:lnTo>
                    <a:lnTo>
                      <a:pt x="96" y="474"/>
                    </a:lnTo>
                    <a:lnTo>
                      <a:pt x="87" y="465"/>
                    </a:lnTo>
                    <a:lnTo>
                      <a:pt x="78" y="455"/>
                    </a:lnTo>
                    <a:lnTo>
                      <a:pt x="71" y="445"/>
                    </a:lnTo>
                    <a:lnTo>
                      <a:pt x="63" y="434"/>
                    </a:lnTo>
                    <a:lnTo>
                      <a:pt x="56" y="424"/>
                    </a:lnTo>
                    <a:lnTo>
                      <a:pt x="50" y="412"/>
                    </a:lnTo>
                    <a:lnTo>
                      <a:pt x="43" y="401"/>
                    </a:lnTo>
                    <a:lnTo>
                      <a:pt x="38" y="389"/>
                    </a:lnTo>
                    <a:lnTo>
                      <a:pt x="34" y="377"/>
                    </a:lnTo>
                    <a:lnTo>
                      <a:pt x="30" y="364"/>
                    </a:lnTo>
                    <a:lnTo>
                      <a:pt x="26" y="352"/>
                    </a:lnTo>
                    <a:lnTo>
                      <a:pt x="22" y="339"/>
                    </a:lnTo>
                    <a:lnTo>
                      <a:pt x="20" y="325"/>
                    </a:lnTo>
                    <a:lnTo>
                      <a:pt x="18" y="312"/>
                    </a:lnTo>
                    <a:lnTo>
                      <a:pt x="18" y="298"/>
                    </a:lnTo>
                    <a:lnTo>
                      <a:pt x="17" y="284"/>
                    </a:lnTo>
                    <a:lnTo>
                      <a:pt x="18" y="271"/>
                    </a:lnTo>
                    <a:lnTo>
                      <a:pt x="18" y="257"/>
                    </a:lnTo>
                    <a:lnTo>
                      <a:pt x="20" y="243"/>
                    </a:lnTo>
                    <a:lnTo>
                      <a:pt x="22" y="231"/>
                    </a:lnTo>
                    <a:lnTo>
                      <a:pt x="26" y="218"/>
                    </a:lnTo>
                    <a:lnTo>
                      <a:pt x="30" y="205"/>
                    </a:lnTo>
                    <a:lnTo>
                      <a:pt x="34" y="193"/>
                    </a:lnTo>
                    <a:lnTo>
                      <a:pt x="38" y="180"/>
                    </a:lnTo>
                    <a:lnTo>
                      <a:pt x="43" y="169"/>
                    </a:lnTo>
                    <a:lnTo>
                      <a:pt x="50" y="157"/>
                    </a:lnTo>
                    <a:lnTo>
                      <a:pt x="56" y="146"/>
                    </a:lnTo>
                    <a:lnTo>
                      <a:pt x="63" y="135"/>
                    </a:lnTo>
                    <a:lnTo>
                      <a:pt x="71" y="125"/>
                    </a:lnTo>
                    <a:lnTo>
                      <a:pt x="78" y="114"/>
                    </a:lnTo>
                    <a:lnTo>
                      <a:pt x="87" y="105"/>
                    </a:lnTo>
                    <a:lnTo>
                      <a:pt x="96" y="95"/>
                    </a:lnTo>
                    <a:lnTo>
                      <a:pt x="105" y="86"/>
                    </a:lnTo>
                    <a:lnTo>
                      <a:pt x="115" y="77"/>
                    </a:lnTo>
                    <a:lnTo>
                      <a:pt x="125" y="70"/>
                    </a:lnTo>
                    <a:lnTo>
                      <a:pt x="136" y="63"/>
                    </a:lnTo>
                    <a:lnTo>
                      <a:pt x="146" y="55"/>
                    </a:lnTo>
                    <a:lnTo>
                      <a:pt x="158" y="49"/>
                    </a:lnTo>
                    <a:lnTo>
                      <a:pt x="170" y="43"/>
                    </a:lnTo>
                    <a:lnTo>
                      <a:pt x="181" y="38"/>
                    </a:lnTo>
                    <a:lnTo>
                      <a:pt x="194" y="33"/>
                    </a:lnTo>
                    <a:lnTo>
                      <a:pt x="205" y="29"/>
                    </a:lnTo>
                    <a:lnTo>
                      <a:pt x="219" y="25"/>
                    </a:lnTo>
                    <a:lnTo>
                      <a:pt x="232" y="22"/>
                    </a:lnTo>
                    <a:lnTo>
                      <a:pt x="244" y="20"/>
                    </a:lnTo>
                    <a:lnTo>
                      <a:pt x="258" y="18"/>
                    </a:lnTo>
                    <a:lnTo>
                      <a:pt x="272" y="17"/>
                    </a:lnTo>
                    <a:lnTo>
                      <a:pt x="285" y="17"/>
                    </a:lnTo>
                    <a:lnTo>
                      <a:pt x="300" y="17"/>
                    </a:lnTo>
                    <a:lnTo>
                      <a:pt x="313" y="18"/>
                    </a:lnTo>
                    <a:lnTo>
                      <a:pt x="326" y="20"/>
                    </a:lnTo>
                    <a:lnTo>
                      <a:pt x="340" y="22"/>
                    </a:lnTo>
                    <a:lnTo>
                      <a:pt x="353" y="25"/>
                    </a:lnTo>
                    <a:lnTo>
                      <a:pt x="365" y="29"/>
                    </a:lnTo>
                    <a:lnTo>
                      <a:pt x="378" y="33"/>
                    </a:lnTo>
                    <a:lnTo>
                      <a:pt x="390" y="38"/>
                    </a:lnTo>
                    <a:lnTo>
                      <a:pt x="402" y="43"/>
                    </a:lnTo>
                    <a:lnTo>
                      <a:pt x="413" y="49"/>
                    </a:lnTo>
                    <a:lnTo>
                      <a:pt x="425" y="55"/>
                    </a:lnTo>
                    <a:lnTo>
                      <a:pt x="436" y="63"/>
                    </a:lnTo>
                    <a:lnTo>
                      <a:pt x="446" y="70"/>
                    </a:lnTo>
                    <a:lnTo>
                      <a:pt x="457" y="77"/>
                    </a:lnTo>
                    <a:lnTo>
                      <a:pt x="466" y="86"/>
                    </a:lnTo>
                    <a:lnTo>
                      <a:pt x="475" y="95"/>
                    </a:lnTo>
                    <a:lnTo>
                      <a:pt x="484" y="105"/>
                    </a:lnTo>
                    <a:lnTo>
                      <a:pt x="492" y="114"/>
                    </a:lnTo>
                    <a:lnTo>
                      <a:pt x="501" y="125"/>
                    </a:lnTo>
                    <a:lnTo>
                      <a:pt x="508" y="135"/>
                    </a:lnTo>
                    <a:lnTo>
                      <a:pt x="515" y="146"/>
                    </a:lnTo>
                    <a:lnTo>
                      <a:pt x="522" y="157"/>
                    </a:lnTo>
                    <a:lnTo>
                      <a:pt x="527" y="169"/>
                    </a:lnTo>
                    <a:lnTo>
                      <a:pt x="533" y="180"/>
                    </a:lnTo>
                    <a:lnTo>
                      <a:pt x="538" y="193"/>
                    </a:lnTo>
                    <a:lnTo>
                      <a:pt x="542" y="205"/>
                    </a:lnTo>
                    <a:lnTo>
                      <a:pt x="545" y="218"/>
                    </a:lnTo>
                    <a:lnTo>
                      <a:pt x="548" y="231"/>
                    </a:lnTo>
                    <a:lnTo>
                      <a:pt x="551" y="243"/>
                    </a:lnTo>
                    <a:lnTo>
                      <a:pt x="552" y="257"/>
                    </a:lnTo>
                    <a:lnTo>
                      <a:pt x="553" y="271"/>
                    </a:lnTo>
                    <a:lnTo>
                      <a:pt x="554" y="28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929200" y="2610000"/>
                <a:ext cx="176400" cy="174600"/>
              </a:xfrm>
              <a:custGeom>
                <a:avLst/>
                <a:gdLst/>
                <a:ahLst/>
                <a:rect l="l" t="t" r="r" b="b"/>
                <a:pathLst>
                  <a:path w="554" h="552">
                    <a:moveTo>
                      <a:pt x="554" y="276"/>
                    </a:moveTo>
                    <a:lnTo>
                      <a:pt x="553" y="263"/>
                    </a:lnTo>
                    <a:lnTo>
                      <a:pt x="552" y="248"/>
                    </a:lnTo>
                    <a:lnTo>
                      <a:pt x="551" y="234"/>
                    </a:lnTo>
                    <a:lnTo>
                      <a:pt x="547" y="221"/>
                    </a:lnTo>
                    <a:lnTo>
                      <a:pt x="544" y="208"/>
                    </a:lnTo>
                    <a:lnTo>
                      <a:pt x="541" y="194"/>
                    </a:lnTo>
                    <a:lnTo>
                      <a:pt x="537" y="182"/>
                    </a:lnTo>
                    <a:lnTo>
                      <a:pt x="532" y="169"/>
                    </a:lnTo>
                    <a:lnTo>
                      <a:pt x="526" y="157"/>
                    </a:lnTo>
                    <a:lnTo>
                      <a:pt x="520" y="145"/>
                    </a:lnTo>
                    <a:lnTo>
                      <a:pt x="513" y="134"/>
                    </a:lnTo>
                    <a:lnTo>
                      <a:pt x="506" y="122"/>
                    </a:lnTo>
                    <a:lnTo>
                      <a:pt x="498" y="111"/>
                    </a:lnTo>
                    <a:lnTo>
                      <a:pt x="490" y="101"/>
                    </a:lnTo>
                    <a:lnTo>
                      <a:pt x="481" y="90"/>
                    </a:lnTo>
                    <a:lnTo>
                      <a:pt x="473" y="81"/>
                    </a:lnTo>
                    <a:lnTo>
                      <a:pt x="462" y="73"/>
                    </a:lnTo>
                    <a:lnTo>
                      <a:pt x="453" y="63"/>
                    </a:lnTo>
                    <a:lnTo>
                      <a:pt x="442" y="55"/>
                    </a:lnTo>
                    <a:lnTo>
                      <a:pt x="432" y="47"/>
                    </a:lnTo>
                    <a:lnTo>
                      <a:pt x="420" y="40"/>
                    </a:lnTo>
                    <a:lnTo>
                      <a:pt x="409" y="34"/>
                    </a:lnTo>
                    <a:lnTo>
                      <a:pt x="396" y="27"/>
                    </a:lnTo>
                    <a:lnTo>
                      <a:pt x="385" y="22"/>
                    </a:lnTo>
                    <a:lnTo>
                      <a:pt x="372" y="17"/>
                    </a:lnTo>
                    <a:lnTo>
                      <a:pt x="359" y="13"/>
                    </a:lnTo>
                    <a:lnTo>
                      <a:pt x="346" y="9"/>
                    </a:lnTo>
                    <a:lnTo>
                      <a:pt x="332" y="5"/>
                    </a:lnTo>
                    <a:lnTo>
                      <a:pt x="318" y="3"/>
                    </a:lnTo>
                    <a:lnTo>
                      <a:pt x="305" y="1"/>
                    </a:lnTo>
                    <a:lnTo>
                      <a:pt x="291" y="0"/>
                    </a:lnTo>
                    <a:lnTo>
                      <a:pt x="276" y="0"/>
                    </a:lnTo>
                    <a:lnTo>
                      <a:pt x="263" y="0"/>
                    </a:lnTo>
                    <a:lnTo>
                      <a:pt x="248" y="1"/>
                    </a:lnTo>
                    <a:lnTo>
                      <a:pt x="234" y="3"/>
                    </a:lnTo>
                    <a:lnTo>
                      <a:pt x="221" y="5"/>
                    </a:lnTo>
                    <a:lnTo>
                      <a:pt x="208" y="9"/>
                    </a:lnTo>
                    <a:lnTo>
                      <a:pt x="194" y="13"/>
                    </a:lnTo>
                    <a:lnTo>
                      <a:pt x="182" y="17"/>
                    </a:lnTo>
                    <a:lnTo>
                      <a:pt x="169" y="22"/>
                    </a:lnTo>
                    <a:lnTo>
                      <a:pt x="156" y="27"/>
                    </a:lnTo>
                    <a:lnTo>
                      <a:pt x="145" y="34"/>
                    </a:lnTo>
                    <a:lnTo>
                      <a:pt x="133" y="40"/>
                    </a:lnTo>
                    <a:lnTo>
                      <a:pt x="122" y="47"/>
                    </a:lnTo>
                    <a:lnTo>
                      <a:pt x="111" y="55"/>
                    </a:lnTo>
                    <a:lnTo>
                      <a:pt x="101" y="63"/>
                    </a:lnTo>
                    <a:lnTo>
                      <a:pt x="90" y="73"/>
                    </a:lnTo>
                    <a:lnTo>
                      <a:pt x="81" y="81"/>
                    </a:lnTo>
                    <a:lnTo>
                      <a:pt x="72" y="90"/>
                    </a:lnTo>
                    <a:lnTo>
                      <a:pt x="63" y="101"/>
                    </a:lnTo>
                    <a:lnTo>
                      <a:pt x="54" y="111"/>
                    </a:lnTo>
                    <a:lnTo>
                      <a:pt x="47" y="122"/>
                    </a:lnTo>
                    <a:lnTo>
                      <a:pt x="40" y="134"/>
                    </a:lnTo>
                    <a:lnTo>
                      <a:pt x="33" y="145"/>
                    </a:lnTo>
                    <a:lnTo>
                      <a:pt x="27" y="157"/>
                    </a:lnTo>
                    <a:lnTo>
                      <a:pt x="22" y="169"/>
                    </a:lnTo>
                    <a:lnTo>
                      <a:pt x="17" y="182"/>
                    </a:lnTo>
                    <a:lnTo>
                      <a:pt x="12" y="194"/>
                    </a:lnTo>
                    <a:lnTo>
                      <a:pt x="8" y="208"/>
                    </a:lnTo>
                    <a:lnTo>
                      <a:pt x="6" y="221"/>
                    </a:lnTo>
                    <a:lnTo>
                      <a:pt x="3" y="234"/>
                    </a:lnTo>
                    <a:lnTo>
                      <a:pt x="2" y="248"/>
                    </a:lnTo>
                    <a:lnTo>
                      <a:pt x="1" y="263"/>
                    </a:lnTo>
                    <a:lnTo>
                      <a:pt x="0" y="276"/>
                    </a:lnTo>
                    <a:lnTo>
                      <a:pt x="1" y="291"/>
                    </a:lnTo>
                    <a:lnTo>
                      <a:pt x="2" y="305"/>
                    </a:lnTo>
                    <a:lnTo>
                      <a:pt x="3" y="318"/>
                    </a:lnTo>
                    <a:lnTo>
                      <a:pt x="6" y="332"/>
                    </a:lnTo>
                    <a:lnTo>
                      <a:pt x="8" y="346"/>
                    </a:lnTo>
                    <a:lnTo>
                      <a:pt x="12" y="359"/>
                    </a:lnTo>
                    <a:lnTo>
                      <a:pt x="17" y="372"/>
                    </a:lnTo>
                    <a:lnTo>
                      <a:pt x="22" y="384"/>
                    </a:lnTo>
                    <a:lnTo>
                      <a:pt x="27" y="396"/>
                    </a:lnTo>
                    <a:lnTo>
                      <a:pt x="33" y="409"/>
                    </a:lnTo>
                    <a:lnTo>
                      <a:pt x="40" y="420"/>
                    </a:lnTo>
                    <a:lnTo>
                      <a:pt x="47" y="431"/>
                    </a:lnTo>
                    <a:lnTo>
                      <a:pt x="54" y="442"/>
                    </a:lnTo>
                    <a:lnTo>
                      <a:pt x="63" y="453"/>
                    </a:lnTo>
                    <a:lnTo>
                      <a:pt x="72" y="462"/>
                    </a:lnTo>
                    <a:lnTo>
                      <a:pt x="81" y="472"/>
                    </a:lnTo>
                    <a:lnTo>
                      <a:pt x="90" y="481"/>
                    </a:lnTo>
                    <a:lnTo>
                      <a:pt x="101" y="489"/>
                    </a:lnTo>
                    <a:lnTo>
                      <a:pt x="111" y="498"/>
                    </a:lnTo>
                    <a:lnTo>
                      <a:pt x="122" y="506"/>
                    </a:lnTo>
                    <a:lnTo>
                      <a:pt x="133" y="513"/>
                    </a:lnTo>
                    <a:lnTo>
                      <a:pt x="145" y="520"/>
                    </a:lnTo>
                    <a:lnTo>
                      <a:pt x="156" y="526"/>
                    </a:lnTo>
                    <a:lnTo>
                      <a:pt x="169" y="531"/>
                    </a:lnTo>
                    <a:lnTo>
                      <a:pt x="182" y="537"/>
                    </a:lnTo>
                    <a:lnTo>
                      <a:pt x="194" y="541"/>
                    </a:lnTo>
                    <a:lnTo>
                      <a:pt x="208" y="544"/>
                    </a:lnTo>
                    <a:lnTo>
                      <a:pt x="221" y="547"/>
                    </a:lnTo>
                    <a:lnTo>
                      <a:pt x="234" y="550"/>
                    </a:lnTo>
                    <a:lnTo>
                      <a:pt x="248" y="551"/>
                    </a:lnTo>
                    <a:lnTo>
                      <a:pt x="263" y="552"/>
                    </a:lnTo>
                    <a:lnTo>
                      <a:pt x="276" y="552"/>
                    </a:lnTo>
                    <a:lnTo>
                      <a:pt x="291" y="552"/>
                    </a:lnTo>
                    <a:lnTo>
                      <a:pt x="305" y="551"/>
                    </a:lnTo>
                    <a:lnTo>
                      <a:pt x="318" y="550"/>
                    </a:lnTo>
                    <a:lnTo>
                      <a:pt x="332" y="547"/>
                    </a:lnTo>
                    <a:lnTo>
                      <a:pt x="346" y="544"/>
                    </a:lnTo>
                    <a:lnTo>
                      <a:pt x="359" y="541"/>
                    </a:lnTo>
                    <a:lnTo>
                      <a:pt x="372" y="537"/>
                    </a:lnTo>
                    <a:lnTo>
                      <a:pt x="385" y="531"/>
                    </a:lnTo>
                    <a:lnTo>
                      <a:pt x="396" y="526"/>
                    </a:lnTo>
                    <a:lnTo>
                      <a:pt x="409" y="520"/>
                    </a:lnTo>
                    <a:lnTo>
                      <a:pt x="420" y="513"/>
                    </a:lnTo>
                    <a:lnTo>
                      <a:pt x="432" y="506"/>
                    </a:lnTo>
                    <a:lnTo>
                      <a:pt x="442" y="498"/>
                    </a:lnTo>
                    <a:lnTo>
                      <a:pt x="453" y="489"/>
                    </a:lnTo>
                    <a:lnTo>
                      <a:pt x="462" y="481"/>
                    </a:lnTo>
                    <a:lnTo>
                      <a:pt x="473" y="472"/>
                    </a:lnTo>
                    <a:lnTo>
                      <a:pt x="481" y="462"/>
                    </a:lnTo>
                    <a:lnTo>
                      <a:pt x="490" y="453"/>
                    </a:lnTo>
                    <a:lnTo>
                      <a:pt x="498" y="442"/>
                    </a:lnTo>
                    <a:lnTo>
                      <a:pt x="506" y="431"/>
                    </a:lnTo>
                    <a:lnTo>
                      <a:pt x="513" y="420"/>
                    </a:lnTo>
                    <a:lnTo>
                      <a:pt x="520" y="409"/>
                    </a:lnTo>
                    <a:lnTo>
                      <a:pt x="526" y="396"/>
                    </a:lnTo>
                    <a:lnTo>
                      <a:pt x="532" y="384"/>
                    </a:lnTo>
                    <a:lnTo>
                      <a:pt x="537" y="372"/>
                    </a:lnTo>
                    <a:lnTo>
                      <a:pt x="541" y="359"/>
                    </a:lnTo>
                    <a:lnTo>
                      <a:pt x="544" y="346"/>
                    </a:lnTo>
                    <a:lnTo>
                      <a:pt x="547" y="332"/>
                    </a:lnTo>
                    <a:lnTo>
                      <a:pt x="551" y="318"/>
                    </a:lnTo>
                    <a:lnTo>
                      <a:pt x="552" y="305"/>
                    </a:lnTo>
                    <a:lnTo>
                      <a:pt x="553" y="291"/>
                    </a:lnTo>
                    <a:lnTo>
                      <a:pt x="554" y="276"/>
                    </a:lnTo>
                    <a:close/>
                    <a:moveTo>
                      <a:pt x="537" y="276"/>
                    </a:moveTo>
                    <a:lnTo>
                      <a:pt x="536" y="290"/>
                    </a:lnTo>
                    <a:lnTo>
                      <a:pt x="535" y="304"/>
                    </a:lnTo>
                    <a:lnTo>
                      <a:pt x="534" y="316"/>
                    </a:lnTo>
                    <a:lnTo>
                      <a:pt x="532" y="329"/>
                    </a:lnTo>
                    <a:lnTo>
                      <a:pt x="529" y="341"/>
                    </a:lnTo>
                    <a:lnTo>
                      <a:pt x="524" y="354"/>
                    </a:lnTo>
                    <a:lnTo>
                      <a:pt x="521" y="366"/>
                    </a:lnTo>
                    <a:lnTo>
                      <a:pt x="516" y="378"/>
                    </a:lnTo>
                    <a:lnTo>
                      <a:pt x="511" y="390"/>
                    </a:lnTo>
                    <a:lnTo>
                      <a:pt x="505" y="400"/>
                    </a:lnTo>
                    <a:lnTo>
                      <a:pt x="499" y="412"/>
                    </a:lnTo>
                    <a:lnTo>
                      <a:pt x="492" y="422"/>
                    </a:lnTo>
                    <a:lnTo>
                      <a:pt x="484" y="432"/>
                    </a:lnTo>
                    <a:lnTo>
                      <a:pt x="477" y="442"/>
                    </a:lnTo>
                    <a:lnTo>
                      <a:pt x="469" y="452"/>
                    </a:lnTo>
                    <a:lnTo>
                      <a:pt x="460" y="460"/>
                    </a:lnTo>
                    <a:lnTo>
                      <a:pt x="452" y="468"/>
                    </a:lnTo>
                    <a:lnTo>
                      <a:pt x="442" y="477"/>
                    </a:lnTo>
                    <a:lnTo>
                      <a:pt x="432" y="484"/>
                    </a:lnTo>
                    <a:lnTo>
                      <a:pt x="422" y="492"/>
                    </a:lnTo>
                    <a:lnTo>
                      <a:pt x="411" y="499"/>
                    </a:lnTo>
                    <a:lnTo>
                      <a:pt x="400" y="505"/>
                    </a:lnTo>
                    <a:lnTo>
                      <a:pt x="389" y="510"/>
                    </a:lnTo>
                    <a:lnTo>
                      <a:pt x="378" y="516"/>
                    </a:lnTo>
                    <a:lnTo>
                      <a:pt x="366" y="521"/>
                    </a:lnTo>
                    <a:lnTo>
                      <a:pt x="354" y="524"/>
                    </a:lnTo>
                    <a:lnTo>
                      <a:pt x="341" y="528"/>
                    </a:lnTo>
                    <a:lnTo>
                      <a:pt x="329" y="531"/>
                    </a:lnTo>
                    <a:lnTo>
                      <a:pt x="316" y="534"/>
                    </a:lnTo>
                    <a:lnTo>
                      <a:pt x="304" y="535"/>
                    </a:lnTo>
                    <a:lnTo>
                      <a:pt x="290" y="536"/>
                    </a:lnTo>
                    <a:lnTo>
                      <a:pt x="276" y="537"/>
                    </a:lnTo>
                    <a:lnTo>
                      <a:pt x="264" y="536"/>
                    </a:lnTo>
                    <a:lnTo>
                      <a:pt x="250" y="535"/>
                    </a:lnTo>
                    <a:lnTo>
                      <a:pt x="237" y="534"/>
                    </a:lnTo>
                    <a:lnTo>
                      <a:pt x="225" y="531"/>
                    </a:lnTo>
                    <a:lnTo>
                      <a:pt x="212" y="528"/>
                    </a:lnTo>
                    <a:lnTo>
                      <a:pt x="200" y="524"/>
                    </a:lnTo>
                    <a:lnTo>
                      <a:pt x="187" y="521"/>
                    </a:lnTo>
                    <a:lnTo>
                      <a:pt x="175" y="516"/>
                    </a:lnTo>
                    <a:lnTo>
                      <a:pt x="164" y="510"/>
                    </a:lnTo>
                    <a:lnTo>
                      <a:pt x="153" y="505"/>
                    </a:lnTo>
                    <a:lnTo>
                      <a:pt x="142" y="499"/>
                    </a:lnTo>
                    <a:lnTo>
                      <a:pt x="131" y="492"/>
                    </a:lnTo>
                    <a:lnTo>
                      <a:pt x="121" y="484"/>
                    </a:lnTo>
                    <a:lnTo>
                      <a:pt x="111" y="477"/>
                    </a:lnTo>
                    <a:lnTo>
                      <a:pt x="102" y="468"/>
                    </a:lnTo>
                    <a:lnTo>
                      <a:pt x="93" y="460"/>
                    </a:lnTo>
                    <a:lnTo>
                      <a:pt x="84" y="452"/>
                    </a:lnTo>
                    <a:lnTo>
                      <a:pt x="77" y="442"/>
                    </a:lnTo>
                    <a:lnTo>
                      <a:pt x="68" y="432"/>
                    </a:lnTo>
                    <a:lnTo>
                      <a:pt x="61" y="422"/>
                    </a:lnTo>
                    <a:lnTo>
                      <a:pt x="54" y="412"/>
                    </a:lnTo>
                    <a:lnTo>
                      <a:pt x="48" y="400"/>
                    </a:lnTo>
                    <a:lnTo>
                      <a:pt x="43" y="390"/>
                    </a:lnTo>
                    <a:lnTo>
                      <a:pt x="38" y="378"/>
                    </a:lnTo>
                    <a:lnTo>
                      <a:pt x="32" y="366"/>
                    </a:lnTo>
                    <a:lnTo>
                      <a:pt x="28" y="354"/>
                    </a:lnTo>
                    <a:lnTo>
                      <a:pt x="25" y="341"/>
                    </a:lnTo>
                    <a:lnTo>
                      <a:pt x="22" y="329"/>
                    </a:lnTo>
                    <a:lnTo>
                      <a:pt x="20" y="316"/>
                    </a:lnTo>
                    <a:lnTo>
                      <a:pt x="18" y="304"/>
                    </a:lnTo>
                    <a:lnTo>
                      <a:pt x="17" y="290"/>
                    </a:lnTo>
                    <a:lnTo>
                      <a:pt x="17" y="276"/>
                    </a:lnTo>
                    <a:lnTo>
                      <a:pt x="17" y="264"/>
                    </a:lnTo>
                    <a:lnTo>
                      <a:pt x="18" y="250"/>
                    </a:lnTo>
                    <a:lnTo>
                      <a:pt x="20" y="237"/>
                    </a:lnTo>
                    <a:lnTo>
                      <a:pt x="22" y="224"/>
                    </a:lnTo>
                    <a:lnTo>
                      <a:pt x="25" y="212"/>
                    </a:lnTo>
                    <a:lnTo>
                      <a:pt x="28" y="200"/>
                    </a:lnTo>
                    <a:lnTo>
                      <a:pt x="32" y="187"/>
                    </a:lnTo>
                    <a:lnTo>
                      <a:pt x="38" y="176"/>
                    </a:lnTo>
                    <a:lnTo>
                      <a:pt x="43" y="164"/>
                    </a:lnTo>
                    <a:lnTo>
                      <a:pt x="48" y="153"/>
                    </a:lnTo>
                    <a:lnTo>
                      <a:pt x="54" y="142"/>
                    </a:lnTo>
                    <a:lnTo>
                      <a:pt x="61" y="131"/>
                    </a:lnTo>
                    <a:lnTo>
                      <a:pt x="68" y="122"/>
                    </a:lnTo>
                    <a:lnTo>
                      <a:pt x="77" y="111"/>
                    </a:lnTo>
                    <a:lnTo>
                      <a:pt x="84" y="102"/>
                    </a:lnTo>
                    <a:lnTo>
                      <a:pt x="93" y="94"/>
                    </a:lnTo>
                    <a:lnTo>
                      <a:pt x="102" y="84"/>
                    </a:lnTo>
                    <a:lnTo>
                      <a:pt x="111" y="77"/>
                    </a:lnTo>
                    <a:lnTo>
                      <a:pt x="121" y="68"/>
                    </a:lnTo>
                    <a:lnTo>
                      <a:pt x="131" y="61"/>
                    </a:lnTo>
                    <a:lnTo>
                      <a:pt x="142" y="55"/>
                    </a:lnTo>
                    <a:lnTo>
                      <a:pt x="153" y="48"/>
                    </a:lnTo>
                    <a:lnTo>
                      <a:pt x="164" y="43"/>
                    </a:lnTo>
                    <a:lnTo>
                      <a:pt x="175" y="38"/>
                    </a:lnTo>
                    <a:lnTo>
                      <a:pt x="187" y="33"/>
                    </a:lnTo>
                    <a:lnTo>
                      <a:pt x="200" y="29"/>
                    </a:lnTo>
                    <a:lnTo>
                      <a:pt x="212" y="25"/>
                    </a:lnTo>
                    <a:lnTo>
                      <a:pt x="225" y="22"/>
                    </a:lnTo>
                    <a:lnTo>
                      <a:pt x="237" y="20"/>
                    </a:lnTo>
                    <a:lnTo>
                      <a:pt x="250" y="18"/>
                    </a:lnTo>
                    <a:lnTo>
                      <a:pt x="264" y="17"/>
                    </a:lnTo>
                    <a:lnTo>
                      <a:pt x="276" y="17"/>
                    </a:lnTo>
                    <a:lnTo>
                      <a:pt x="290" y="17"/>
                    </a:lnTo>
                    <a:lnTo>
                      <a:pt x="304" y="18"/>
                    </a:lnTo>
                    <a:lnTo>
                      <a:pt x="316" y="20"/>
                    </a:lnTo>
                    <a:lnTo>
                      <a:pt x="329" y="22"/>
                    </a:lnTo>
                    <a:lnTo>
                      <a:pt x="341" y="25"/>
                    </a:lnTo>
                    <a:lnTo>
                      <a:pt x="354" y="29"/>
                    </a:lnTo>
                    <a:lnTo>
                      <a:pt x="366" y="33"/>
                    </a:lnTo>
                    <a:lnTo>
                      <a:pt x="378" y="38"/>
                    </a:lnTo>
                    <a:lnTo>
                      <a:pt x="389" y="43"/>
                    </a:lnTo>
                    <a:lnTo>
                      <a:pt x="400" y="48"/>
                    </a:lnTo>
                    <a:lnTo>
                      <a:pt x="411" y="55"/>
                    </a:lnTo>
                    <a:lnTo>
                      <a:pt x="422" y="61"/>
                    </a:lnTo>
                    <a:lnTo>
                      <a:pt x="432" y="68"/>
                    </a:lnTo>
                    <a:lnTo>
                      <a:pt x="442" y="77"/>
                    </a:lnTo>
                    <a:lnTo>
                      <a:pt x="452" y="84"/>
                    </a:lnTo>
                    <a:lnTo>
                      <a:pt x="460" y="94"/>
                    </a:lnTo>
                    <a:lnTo>
                      <a:pt x="469" y="102"/>
                    </a:lnTo>
                    <a:lnTo>
                      <a:pt x="477" y="111"/>
                    </a:lnTo>
                    <a:lnTo>
                      <a:pt x="484" y="122"/>
                    </a:lnTo>
                    <a:lnTo>
                      <a:pt x="492" y="131"/>
                    </a:lnTo>
                    <a:lnTo>
                      <a:pt x="499" y="142"/>
                    </a:lnTo>
                    <a:lnTo>
                      <a:pt x="505" y="153"/>
                    </a:lnTo>
                    <a:lnTo>
                      <a:pt x="511" y="164"/>
                    </a:lnTo>
                    <a:lnTo>
                      <a:pt x="516" y="176"/>
                    </a:lnTo>
                    <a:lnTo>
                      <a:pt x="521" y="187"/>
                    </a:lnTo>
                    <a:lnTo>
                      <a:pt x="524" y="200"/>
                    </a:lnTo>
                    <a:lnTo>
                      <a:pt x="529" y="212"/>
                    </a:lnTo>
                    <a:lnTo>
                      <a:pt x="532" y="224"/>
                    </a:lnTo>
                    <a:lnTo>
                      <a:pt x="534" y="237"/>
                    </a:lnTo>
                    <a:lnTo>
                      <a:pt x="535" y="250"/>
                    </a:lnTo>
                    <a:lnTo>
                      <a:pt x="536" y="264"/>
                    </a:lnTo>
                    <a:lnTo>
                      <a:pt x="537" y="27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932440" y="261288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537" h="535">
                    <a:moveTo>
                      <a:pt x="537" y="267"/>
                    </a:moveTo>
                    <a:lnTo>
                      <a:pt x="536" y="254"/>
                    </a:lnTo>
                    <a:lnTo>
                      <a:pt x="535" y="240"/>
                    </a:lnTo>
                    <a:lnTo>
                      <a:pt x="534" y="226"/>
                    </a:lnTo>
                    <a:lnTo>
                      <a:pt x="531" y="214"/>
                    </a:lnTo>
                    <a:lnTo>
                      <a:pt x="528" y="201"/>
                    </a:lnTo>
                    <a:lnTo>
                      <a:pt x="525" y="188"/>
                    </a:lnTo>
                    <a:lnTo>
                      <a:pt x="521" y="176"/>
                    </a:lnTo>
                    <a:lnTo>
                      <a:pt x="516" y="163"/>
                    </a:lnTo>
                    <a:lnTo>
                      <a:pt x="510" y="152"/>
                    </a:lnTo>
                    <a:lnTo>
                      <a:pt x="505" y="140"/>
                    </a:lnTo>
                    <a:lnTo>
                      <a:pt x="498" y="129"/>
                    </a:lnTo>
                    <a:lnTo>
                      <a:pt x="491" y="118"/>
                    </a:lnTo>
                    <a:lnTo>
                      <a:pt x="484" y="108"/>
                    </a:lnTo>
                    <a:lnTo>
                      <a:pt x="475" y="97"/>
                    </a:lnTo>
                    <a:lnTo>
                      <a:pt x="467" y="88"/>
                    </a:lnTo>
                    <a:lnTo>
                      <a:pt x="458" y="78"/>
                    </a:lnTo>
                    <a:lnTo>
                      <a:pt x="449" y="69"/>
                    </a:lnTo>
                    <a:lnTo>
                      <a:pt x="440" y="60"/>
                    </a:lnTo>
                    <a:lnTo>
                      <a:pt x="429" y="53"/>
                    </a:lnTo>
                    <a:lnTo>
                      <a:pt x="419" y="46"/>
                    </a:lnTo>
                    <a:lnTo>
                      <a:pt x="408" y="38"/>
                    </a:lnTo>
                    <a:lnTo>
                      <a:pt x="396" y="32"/>
                    </a:lnTo>
                    <a:lnTo>
                      <a:pt x="385" y="26"/>
                    </a:lnTo>
                    <a:lnTo>
                      <a:pt x="373" y="21"/>
                    </a:lnTo>
                    <a:lnTo>
                      <a:pt x="361" y="16"/>
                    </a:lnTo>
                    <a:lnTo>
                      <a:pt x="348" y="12"/>
                    </a:lnTo>
                    <a:lnTo>
                      <a:pt x="336" y="8"/>
                    </a:lnTo>
                    <a:lnTo>
                      <a:pt x="323" y="5"/>
                    </a:lnTo>
                    <a:lnTo>
                      <a:pt x="309" y="3"/>
                    </a:lnTo>
                    <a:lnTo>
                      <a:pt x="296" y="1"/>
                    </a:lnTo>
                    <a:lnTo>
                      <a:pt x="283" y="0"/>
                    </a:lnTo>
                    <a:lnTo>
                      <a:pt x="268" y="0"/>
                    </a:lnTo>
                    <a:lnTo>
                      <a:pt x="255" y="0"/>
                    </a:lnTo>
                    <a:lnTo>
                      <a:pt x="241" y="1"/>
                    </a:lnTo>
                    <a:lnTo>
                      <a:pt x="227" y="3"/>
                    </a:lnTo>
                    <a:lnTo>
                      <a:pt x="215" y="5"/>
                    </a:lnTo>
                    <a:lnTo>
                      <a:pt x="202" y="8"/>
                    </a:lnTo>
                    <a:lnTo>
                      <a:pt x="188" y="12"/>
                    </a:lnTo>
                    <a:lnTo>
                      <a:pt x="177" y="16"/>
                    </a:lnTo>
                    <a:lnTo>
                      <a:pt x="164" y="21"/>
                    </a:lnTo>
                    <a:lnTo>
                      <a:pt x="153" y="26"/>
                    </a:lnTo>
                    <a:lnTo>
                      <a:pt x="141" y="32"/>
                    </a:lnTo>
                    <a:lnTo>
                      <a:pt x="129" y="38"/>
                    </a:lnTo>
                    <a:lnTo>
                      <a:pt x="119" y="46"/>
                    </a:lnTo>
                    <a:lnTo>
                      <a:pt x="108" y="53"/>
                    </a:lnTo>
                    <a:lnTo>
                      <a:pt x="98" y="60"/>
                    </a:lnTo>
                    <a:lnTo>
                      <a:pt x="88" y="69"/>
                    </a:lnTo>
                    <a:lnTo>
                      <a:pt x="79" y="78"/>
                    </a:lnTo>
                    <a:lnTo>
                      <a:pt x="70" y="88"/>
                    </a:lnTo>
                    <a:lnTo>
                      <a:pt x="61" y="97"/>
                    </a:lnTo>
                    <a:lnTo>
                      <a:pt x="54" y="108"/>
                    </a:lnTo>
                    <a:lnTo>
                      <a:pt x="46" y="118"/>
                    </a:lnTo>
                    <a:lnTo>
                      <a:pt x="39" y="129"/>
                    </a:lnTo>
                    <a:lnTo>
                      <a:pt x="33" y="140"/>
                    </a:lnTo>
                    <a:lnTo>
                      <a:pt x="26" y="152"/>
                    </a:lnTo>
                    <a:lnTo>
                      <a:pt x="21" y="163"/>
                    </a:lnTo>
                    <a:lnTo>
                      <a:pt x="17" y="176"/>
                    </a:lnTo>
                    <a:lnTo>
                      <a:pt x="13" y="188"/>
                    </a:lnTo>
                    <a:lnTo>
                      <a:pt x="9" y="201"/>
                    </a:lnTo>
                    <a:lnTo>
                      <a:pt x="5" y="214"/>
                    </a:lnTo>
                    <a:lnTo>
                      <a:pt x="3" y="226"/>
                    </a:lnTo>
                    <a:lnTo>
                      <a:pt x="1" y="240"/>
                    </a:lnTo>
                    <a:lnTo>
                      <a:pt x="1" y="254"/>
                    </a:lnTo>
                    <a:lnTo>
                      <a:pt x="0" y="267"/>
                    </a:lnTo>
                    <a:lnTo>
                      <a:pt x="1" y="281"/>
                    </a:lnTo>
                    <a:lnTo>
                      <a:pt x="1" y="295"/>
                    </a:lnTo>
                    <a:lnTo>
                      <a:pt x="3" y="308"/>
                    </a:lnTo>
                    <a:lnTo>
                      <a:pt x="5" y="322"/>
                    </a:lnTo>
                    <a:lnTo>
                      <a:pt x="9" y="335"/>
                    </a:lnTo>
                    <a:lnTo>
                      <a:pt x="13" y="347"/>
                    </a:lnTo>
                    <a:lnTo>
                      <a:pt x="17" y="360"/>
                    </a:lnTo>
                    <a:lnTo>
                      <a:pt x="21" y="372"/>
                    </a:lnTo>
                    <a:lnTo>
                      <a:pt x="26" y="384"/>
                    </a:lnTo>
                    <a:lnTo>
                      <a:pt x="33" y="395"/>
                    </a:lnTo>
                    <a:lnTo>
                      <a:pt x="39" y="407"/>
                    </a:lnTo>
                    <a:lnTo>
                      <a:pt x="46" y="417"/>
                    </a:lnTo>
                    <a:lnTo>
                      <a:pt x="54" y="428"/>
                    </a:lnTo>
                    <a:lnTo>
                      <a:pt x="61" y="438"/>
                    </a:lnTo>
                    <a:lnTo>
                      <a:pt x="70" y="448"/>
                    </a:lnTo>
                    <a:lnTo>
                      <a:pt x="79" y="457"/>
                    </a:lnTo>
                    <a:lnTo>
                      <a:pt x="88" y="466"/>
                    </a:lnTo>
                    <a:lnTo>
                      <a:pt x="98" y="474"/>
                    </a:lnTo>
                    <a:lnTo>
                      <a:pt x="108" y="483"/>
                    </a:lnTo>
                    <a:lnTo>
                      <a:pt x="119" y="490"/>
                    </a:lnTo>
                    <a:lnTo>
                      <a:pt x="129" y="497"/>
                    </a:lnTo>
                    <a:lnTo>
                      <a:pt x="141" y="504"/>
                    </a:lnTo>
                    <a:lnTo>
                      <a:pt x="153" y="509"/>
                    </a:lnTo>
                    <a:lnTo>
                      <a:pt x="164" y="514"/>
                    </a:lnTo>
                    <a:lnTo>
                      <a:pt x="177" y="519"/>
                    </a:lnTo>
                    <a:lnTo>
                      <a:pt x="188" y="524"/>
                    </a:lnTo>
                    <a:lnTo>
                      <a:pt x="202" y="528"/>
                    </a:lnTo>
                    <a:lnTo>
                      <a:pt x="215" y="530"/>
                    </a:lnTo>
                    <a:lnTo>
                      <a:pt x="227" y="533"/>
                    </a:lnTo>
                    <a:lnTo>
                      <a:pt x="241" y="534"/>
                    </a:lnTo>
                    <a:lnTo>
                      <a:pt x="255" y="535"/>
                    </a:lnTo>
                    <a:lnTo>
                      <a:pt x="268" y="535"/>
                    </a:lnTo>
                    <a:lnTo>
                      <a:pt x="283" y="535"/>
                    </a:lnTo>
                    <a:lnTo>
                      <a:pt x="296" y="534"/>
                    </a:lnTo>
                    <a:lnTo>
                      <a:pt x="309" y="533"/>
                    </a:lnTo>
                    <a:lnTo>
                      <a:pt x="323" y="530"/>
                    </a:lnTo>
                    <a:lnTo>
                      <a:pt x="336" y="528"/>
                    </a:lnTo>
                    <a:lnTo>
                      <a:pt x="348" y="524"/>
                    </a:lnTo>
                    <a:lnTo>
                      <a:pt x="361" y="519"/>
                    </a:lnTo>
                    <a:lnTo>
                      <a:pt x="373" y="514"/>
                    </a:lnTo>
                    <a:lnTo>
                      <a:pt x="385" y="509"/>
                    </a:lnTo>
                    <a:lnTo>
                      <a:pt x="396" y="504"/>
                    </a:lnTo>
                    <a:lnTo>
                      <a:pt x="408" y="497"/>
                    </a:lnTo>
                    <a:lnTo>
                      <a:pt x="419" y="490"/>
                    </a:lnTo>
                    <a:lnTo>
                      <a:pt x="429" y="483"/>
                    </a:lnTo>
                    <a:lnTo>
                      <a:pt x="440" y="474"/>
                    </a:lnTo>
                    <a:lnTo>
                      <a:pt x="449" y="466"/>
                    </a:lnTo>
                    <a:lnTo>
                      <a:pt x="458" y="457"/>
                    </a:lnTo>
                    <a:lnTo>
                      <a:pt x="467" y="448"/>
                    </a:lnTo>
                    <a:lnTo>
                      <a:pt x="475" y="438"/>
                    </a:lnTo>
                    <a:lnTo>
                      <a:pt x="484" y="428"/>
                    </a:lnTo>
                    <a:lnTo>
                      <a:pt x="491" y="417"/>
                    </a:lnTo>
                    <a:lnTo>
                      <a:pt x="498" y="407"/>
                    </a:lnTo>
                    <a:lnTo>
                      <a:pt x="505" y="395"/>
                    </a:lnTo>
                    <a:lnTo>
                      <a:pt x="510" y="384"/>
                    </a:lnTo>
                    <a:lnTo>
                      <a:pt x="516" y="372"/>
                    </a:lnTo>
                    <a:lnTo>
                      <a:pt x="521" y="360"/>
                    </a:lnTo>
                    <a:lnTo>
                      <a:pt x="525" y="347"/>
                    </a:lnTo>
                    <a:lnTo>
                      <a:pt x="528" y="335"/>
                    </a:lnTo>
                    <a:lnTo>
                      <a:pt x="531" y="322"/>
                    </a:lnTo>
                    <a:lnTo>
                      <a:pt x="534" y="308"/>
                    </a:lnTo>
                    <a:lnTo>
                      <a:pt x="535" y="295"/>
                    </a:lnTo>
                    <a:lnTo>
                      <a:pt x="536" y="281"/>
                    </a:lnTo>
                    <a:lnTo>
                      <a:pt x="537" y="267"/>
                    </a:lnTo>
                    <a:close/>
                    <a:moveTo>
                      <a:pt x="521" y="267"/>
                    </a:moveTo>
                    <a:lnTo>
                      <a:pt x="519" y="281"/>
                    </a:lnTo>
                    <a:lnTo>
                      <a:pt x="518" y="294"/>
                    </a:lnTo>
                    <a:lnTo>
                      <a:pt x="517" y="306"/>
                    </a:lnTo>
                    <a:lnTo>
                      <a:pt x="515" y="319"/>
                    </a:lnTo>
                    <a:lnTo>
                      <a:pt x="512" y="330"/>
                    </a:lnTo>
                    <a:lnTo>
                      <a:pt x="509" y="342"/>
                    </a:lnTo>
                    <a:lnTo>
                      <a:pt x="505" y="354"/>
                    </a:lnTo>
                    <a:lnTo>
                      <a:pt x="501" y="365"/>
                    </a:lnTo>
                    <a:lnTo>
                      <a:pt x="495" y="377"/>
                    </a:lnTo>
                    <a:lnTo>
                      <a:pt x="490" y="387"/>
                    </a:lnTo>
                    <a:lnTo>
                      <a:pt x="484" y="398"/>
                    </a:lnTo>
                    <a:lnTo>
                      <a:pt x="477" y="408"/>
                    </a:lnTo>
                    <a:lnTo>
                      <a:pt x="470" y="417"/>
                    </a:lnTo>
                    <a:lnTo>
                      <a:pt x="463" y="428"/>
                    </a:lnTo>
                    <a:lnTo>
                      <a:pt x="454" y="436"/>
                    </a:lnTo>
                    <a:lnTo>
                      <a:pt x="447" y="445"/>
                    </a:lnTo>
                    <a:lnTo>
                      <a:pt x="437" y="453"/>
                    </a:lnTo>
                    <a:lnTo>
                      <a:pt x="428" y="462"/>
                    </a:lnTo>
                    <a:lnTo>
                      <a:pt x="419" y="469"/>
                    </a:lnTo>
                    <a:lnTo>
                      <a:pt x="409" y="476"/>
                    </a:lnTo>
                    <a:lnTo>
                      <a:pt x="399" y="483"/>
                    </a:lnTo>
                    <a:lnTo>
                      <a:pt x="388" y="489"/>
                    </a:lnTo>
                    <a:lnTo>
                      <a:pt x="378" y="494"/>
                    </a:lnTo>
                    <a:lnTo>
                      <a:pt x="366" y="499"/>
                    </a:lnTo>
                    <a:lnTo>
                      <a:pt x="355" y="504"/>
                    </a:lnTo>
                    <a:lnTo>
                      <a:pt x="343" y="508"/>
                    </a:lnTo>
                    <a:lnTo>
                      <a:pt x="331" y="511"/>
                    </a:lnTo>
                    <a:lnTo>
                      <a:pt x="320" y="514"/>
                    </a:lnTo>
                    <a:lnTo>
                      <a:pt x="307" y="516"/>
                    </a:lnTo>
                    <a:lnTo>
                      <a:pt x="295" y="517"/>
                    </a:lnTo>
                    <a:lnTo>
                      <a:pt x="282" y="518"/>
                    </a:lnTo>
                    <a:lnTo>
                      <a:pt x="268" y="519"/>
                    </a:lnTo>
                    <a:lnTo>
                      <a:pt x="256" y="518"/>
                    </a:lnTo>
                    <a:lnTo>
                      <a:pt x="243" y="517"/>
                    </a:lnTo>
                    <a:lnTo>
                      <a:pt x="230" y="516"/>
                    </a:lnTo>
                    <a:lnTo>
                      <a:pt x="218" y="514"/>
                    </a:lnTo>
                    <a:lnTo>
                      <a:pt x="206" y="511"/>
                    </a:lnTo>
                    <a:lnTo>
                      <a:pt x="194" y="508"/>
                    </a:lnTo>
                    <a:lnTo>
                      <a:pt x="182" y="504"/>
                    </a:lnTo>
                    <a:lnTo>
                      <a:pt x="170" y="499"/>
                    </a:lnTo>
                    <a:lnTo>
                      <a:pt x="160" y="494"/>
                    </a:lnTo>
                    <a:lnTo>
                      <a:pt x="148" y="489"/>
                    </a:lnTo>
                    <a:lnTo>
                      <a:pt x="138" y="483"/>
                    </a:lnTo>
                    <a:lnTo>
                      <a:pt x="128" y="476"/>
                    </a:lnTo>
                    <a:lnTo>
                      <a:pt x="118" y="469"/>
                    </a:lnTo>
                    <a:lnTo>
                      <a:pt x="108" y="462"/>
                    </a:lnTo>
                    <a:lnTo>
                      <a:pt x="100" y="453"/>
                    </a:lnTo>
                    <a:lnTo>
                      <a:pt x="91" y="445"/>
                    </a:lnTo>
                    <a:lnTo>
                      <a:pt x="82" y="436"/>
                    </a:lnTo>
                    <a:lnTo>
                      <a:pt x="75" y="428"/>
                    </a:lnTo>
                    <a:lnTo>
                      <a:pt x="67" y="417"/>
                    </a:lnTo>
                    <a:lnTo>
                      <a:pt x="60" y="408"/>
                    </a:lnTo>
                    <a:lnTo>
                      <a:pt x="54" y="398"/>
                    </a:lnTo>
                    <a:lnTo>
                      <a:pt x="48" y="387"/>
                    </a:lnTo>
                    <a:lnTo>
                      <a:pt x="42" y="377"/>
                    </a:lnTo>
                    <a:lnTo>
                      <a:pt x="37" y="365"/>
                    </a:lnTo>
                    <a:lnTo>
                      <a:pt x="33" y="354"/>
                    </a:lnTo>
                    <a:lnTo>
                      <a:pt x="29" y="342"/>
                    </a:lnTo>
                    <a:lnTo>
                      <a:pt x="25" y="330"/>
                    </a:lnTo>
                    <a:lnTo>
                      <a:pt x="22" y="319"/>
                    </a:lnTo>
                    <a:lnTo>
                      <a:pt x="20" y="306"/>
                    </a:lnTo>
                    <a:lnTo>
                      <a:pt x="18" y="294"/>
                    </a:lnTo>
                    <a:lnTo>
                      <a:pt x="17" y="281"/>
                    </a:lnTo>
                    <a:lnTo>
                      <a:pt x="17" y="267"/>
                    </a:lnTo>
                    <a:lnTo>
                      <a:pt x="17" y="255"/>
                    </a:lnTo>
                    <a:lnTo>
                      <a:pt x="18" y="242"/>
                    </a:lnTo>
                    <a:lnTo>
                      <a:pt x="20" y="230"/>
                    </a:lnTo>
                    <a:lnTo>
                      <a:pt x="22" y="217"/>
                    </a:lnTo>
                    <a:lnTo>
                      <a:pt x="25" y="205"/>
                    </a:lnTo>
                    <a:lnTo>
                      <a:pt x="29" y="193"/>
                    </a:lnTo>
                    <a:lnTo>
                      <a:pt x="33" y="181"/>
                    </a:lnTo>
                    <a:lnTo>
                      <a:pt x="37" y="170"/>
                    </a:lnTo>
                    <a:lnTo>
                      <a:pt x="42" y="159"/>
                    </a:lnTo>
                    <a:lnTo>
                      <a:pt x="48" y="148"/>
                    </a:lnTo>
                    <a:lnTo>
                      <a:pt x="54" y="137"/>
                    </a:lnTo>
                    <a:lnTo>
                      <a:pt x="60" y="128"/>
                    </a:lnTo>
                    <a:lnTo>
                      <a:pt x="67" y="117"/>
                    </a:lnTo>
                    <a:lnTo>
                      <a:pt x="75" y="108"/>
                    </a:lnTo>
                    <a:lnTo>
                      <a:pt x="82" y="99"/>
                    </a:lnTo>
                    <a:lnTo>
                      <a:pt x="91" y="90"/>
                    </a:lnTo>
                    <a:lnTo>
                      <a:pt x="100" y="81"/>
                    </a:lnTo>
                    <a:lnTo>
                      <a:pt x="108" y="74"/>
                    </a:lnTo>
                    <a:lnTo>
                      <a:pt x="118" y="67"/>
                    </a:lnTo>
                    <a:lnTo>
                      <a:pt x="128" y="59"/>
                    </a:lnTo>
                    <a:lnTo>
                      <a:pt x="138" y="53"/>
                    </a:lnTo>
                    <a:lnTo>
                      <a:pt x="148" y="47"/>
                    </a:lnTo>
                    <a:lnTo>
                      <a:pt x="160" y="42"/>
                    </a:lnTo>
                    <a:lnTo>
                      <a:pt x="170" y="36"/>
                    </a:lnTo>
                    <a:lnTo>
                      <a:pt x="182" y="32"/>
                    </a:lnTo>
                    <a:lnTo>
                      <a:pt x="194" y="28"/>
                    </a:lnTo>
                    <a:lnTo>
                      <a:pt x="206" y="25"/>
                    </a:lnTo>
                    <a:lnTo>
                      <a:pt x="218" y="22"/>
                    </a:lnTo>
                    <a:lnTo>
                      <a:pt x="230" y="20"/>
                    </a:lnTo>
                    <a:lnTo>
                      <a:pt x="243" y="17"/>
                    </a:lnTo>
                    <a:lnTo>
                      <a:pt x="256" y="16"/>
                    </a:lnTo>
                    <a:lnTo>
                      <a:pt x="268" y="16"/>
                    </a:lnTo>
                    <a:lnTo>
                      <a:pt x="282" y="16"/>
                    </a:lnTo>
                    <a:lnTo>
                      <a:pt x="295" y="17"/>
                    </a:lnTo>
                    <a:lnTo>
                      <a:pt x="307" y="20"/>
                    </a:lnTo>
                    <a:lnTo>
                      <a:pt x="320" y="22"/>
                    </a:lnTo>
                    <a:lnTo>
                      <a:pt x="331" y="25"/>
                    </a:lnTo>
                    <a:lnTo>
                      <a:pt x="343" y="28"/>
                    </a:lnTo>
                    <a:lnTo>
                      <a:pt x="355" y="32"/>
                    </a:lnTo>
                    <a:lnTo>
                      <a:pt x="366" y="36"/>
                    </a:lnTo>
                    <a:lnTo>
                      <a:pt x="378" y="42"/>
                    </a:lnTo>
                    <a:lnTo>
                      <a:pt x="388" y="47"/>
                    </a:lnTo>
                    <a:lnTo>
                      <a:pt x="399" y="53"/>
                    </a:lnTo>
                    <a:lnTo>
                      <a:pt x="409" y="59"/>
                    </a:lnTo>
                    <a:lnTo>
                      <a:pt x="419" y="67"/>
                    </a:lnTo>
                    <a:lnTo>
                      <a:pt x="428" y="74"/>
                    </a:lnTo>
                    <a:lnTo>
                      <a:pt x="437" y="81"/>
                    </a:lnTo>
                    <a:lnTo>
                      <a:pt x="447" y="90"/>
                    </a:lnTo>
                    <a:lnTo>
                      <a:pt x="454" y="99"/>
                    </a:lnTo>
                    <a:lnTo>
                      <a:pt x="463" y="108"/>
                    </a:lnTo>
                    <a:lnTo>
                      <a:pt x="470" y="117"/>
                    </a:lnTo>
                    <a:lnTo>
                      <a:pt x="477" y="128"/>
                    </a:lnTo>
                    <a:lnTo>
                      <a:pt x="484" y="137"/>
                    </a:lnTo>
                    <a:lnTo>
                      <a:pt x="490" y="148"/>
                    </a:lnTo>
                    <a:lnTo>
                      <a:pt x="495" y="159"/>
                    </a:lnTo>
                    <a:lnTo>
                      <a:pt x="501" y="170"/>
                    </a:lnTo>
                    <a:lnTo>
                      <a:pt x="505" y="181"/>
                    </a:lnTo>
                    <a:lnTo>
                      <a:pt x="509" y="193"/>
                    </a:lnTo>
                    <a:lnTo>
                      <a:pt x="512" y="205"/>
                    </a:lnTo>
                    <a:lnTo>
                      <a:pt x="515" y="217"/>
                    </a:lnTo>
                    <a:lnTo>
                      <a:pt x="517" y="230"/>
                    </a:lnTo>
                    <a:lnTo>
                      <a:pt x="518" y="242"/>
                    </a:lnTo>
                    <a:lnTo>
                      <a:pt x="519" y="255"/>
                    </a:lnTo>
                    <a:lnTo>
                      <a:pt x="521" y="267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935680" y="2614680"/>
                <a:ext cx="165240" cy="164880"/>
              </a:xfrm>
              <a:custGeom>
                <a:avLst/>
                <a:gdLst/>
                <a:ahLst/>
                <a:rect l="l" t="t" r="r" b="b"/>
                <a:pathLst>
                  <a:path w="520" h="520">
                    <a:moveTo>
                      <a:pt x="520" y="259"/>
                    </a:moveTo>
                    <a:lnTo>
                      <a:pt x="519" y="247"/>
                    </a:lnTo>
                    <a:lnTo>
                      <a:pt x="518" y="233"/>
                    </a:lnTo>
                    <a:lnTo>
                      <a:pt x="517" y="220"/>
                    </a:lnTo>
                    <a:lnTo>
                      <a:pt x="515" y="207"/>
                    </a:lnTo>
                    <a:lnTo>
                      <a:pt x="512" y="195"/>
                    </a:lnTo>
                    <a:lnTo>
                      <a:pt x="507" y="183"/>
                    </a:lnTo>
                    <a:lnTo>
                      <a:pt x="504" y="170"/>
                    </a:lnTo>
                    <a:lnTo>
                      <a:pt x="499" y="159"/>
                    </a:lnTo>
                    <a:lnTo>
                      <a:pt x="494" y="147"/>
                    </a:lnTo>
                    <a:lnTo>
                      <a:pt x="488" y="136"/>
                    </a:lnTo>
                    <a:lnTo>
                      <a:pt x="482" y="125"/>
                    </a:lnTo>
                    <a:lnTo>
                      <a:pt x="475" y="114"/>
                    </a:lnTo>
                    <a:lnTo>
                      <a:pt x="467" y="105"/>
                    </a:lnTo>
                    <a:lnTo>
                      <a:pt x="460" y="94"/>
                    </a:lnTo>
                    <a:lnTo>
                      <a:pt x="452" y="85"/>
                    </a:lnTo>
                    <a:lnTo>
                      <a:pt x="443" y="77"/>
                    </a:lnTo>
                    <a:lnTo>
                      <a:pt x="435" y="67"/>
                    </a:lnTo>
                    <a:lnTo>
                      <a:pt x="425" y="60"/>
                    </a:lnTo>
                    <a:lnTo>
                      <a:pt x="415" y="51"/>
                    </a:lnTo>
                    <a:lnTo>
                      <a:pt x="405" y="44"/>
                    </a:lnTo>
                    <a:lnTo>
                      <a:pt x="394" y="38"/>
                    </a:lnTo>
                    <a:lnTo>
                      <a:pt x="383" y="31"/>
                    </a:lnTo>
                    <a:lnTo>
                      <a:pt x="372" y="26"/>
                    </a:lnTo>
                    <a:lnTo>
                      <a:pt x="361" y="21"/>
                    </a:lnTo>
                    <a:lnTo>
                      <a:pt x="349" y="16"/>
                    </a:lnTo>
                    <a:lnTo>
                      <a:pt x="337" y="12"/>
                    </a:lnTo>
                    <a:lnTo>
                      <a:pt x="324" y="8"/>
                    </a:lnTo>
                    <a:lnTo>
                      <a:pt x="312" y="5"/>
                    </a:lnTo>
                    <a:lnTo>
                      <a:pt x="299" y="3"/>
                    </a:lnTo>
                    <a:lnTo>
                      <a:pt x="287" y="1"/>
                    </a:lnTo>
                    <a:lnTo>
                      <a:pt x="273" y="0"/>
                    </a:lnTo>
                    <a:lnTo>
                      <a:pt x="259" y="0"/>
                    </a:lnTo>
                    <a:lnTo>
                      <a:pt x="247" y="0"/>
                    </a:lnTo>
                    <a:lnTo>
                      <a:pt x="233" y="1"/>
                    </a:lnTo>
                    <a:lnTo>
                      <a:pt x="220" y="3"/>
                    </a:lnTo>
                    <a:lnTo>
                      <a:pt x="208" y="5"/>
                    </a:lnTo>
                    <a:lnTo>
                      <a:pt x="195" y="8"/>
                    </a:lnTo>
                    <a:lnTo>
                      <a:pt x="183" y="12"/>
                    </a:lnTo>
                    <a:lnTo>
                      <a:pt x="170" y="16"/>
                    </a:lnTo>
                    <a:lnTo>
                      <a:pt x="158" y="21"/>
                    </a:lnTo>
                    <a:lnTo>
                      <a:pt x="147" y="26"/>
                    </a:lnTo>
                    <a:lnTo>
                      <a:pt x="136" y="31"/>
                    </a:lnTo>
                    <a:lnTo>
                      <a:pt x="125" y="38"/>
                    </a:lnTo>
                    <a:lnTo>
                      <a:pt x="114" y="44"/>
                    </a:lnTo>
                    <a:lnTo>
                      <a:pt x="104" y="51"/>
                    </a:lnTo>
                    <a:lnTo>
                      <a:pt x="94" y="60"/>
                    </a:lnTo>
                    <a:lnTo>
                      <a:pt x="85" y="67"/>
                    </a:lnTo>
                    <a:lnTo>
                      <a:pt x="76" y="77"/>
                    </a:lnTo>
                    <a:lnTo>
                      <a:pt x="67" y="85"/>
                    </a:lnTo>
                    <a:lnTo>
                      <a:pt x="60" y="94"/>
                    </a:lnTo>
                    <a:lnTo>
                      <a:pt x="51" y="105"/>
                    </a:lnTo>
                    <a:lnTo>
                      <a:pt x="44" y="114"/>
                    </a:lnTo>
                    <a:lnTo>
                      <a:pt x="37" y="125"/>
                    </a:lnTo>
                    <a:lnTo>
                      <a:pt x="31" y="136"/>
                    </a:lnTo>
                    <a:lnTo>
                      <a:pt x="26" y="147"/>
                    </a:lnTo>
                    <a:lnTo>
                      <a:pt x="21" y="159"/>
                    </a:lnTo>
                    <a:lnTo>
                      <a:pt x="15" y="170"/>
                    </a:lnTo>
                    <a:lnTo>
                      <a:pt x="11" y="183"/>
                    </a:lnTo>
                    <a:lnTo>
                      <a:pt x="8" y="195"/>
                    </a:lnTo>
                    <a:lnTo>
                      <a:pt x="5" y="207"/>
                    </a:lnTo>
                    <a:lnTo>
                      <a:pt x="3" y="220"/>
                    </a:lnTo>
                    <a:lnTo>
                      <a:pt x="1" y="233"/>
                    </a:lnTo>
                    <a:lnTo>
                      <a:pt x="0" y="247"/>
                    </a:lnTo>
                    <a:lnTo>
                      <a:pt x="0" y="259"/>
                    </a:lnTo>
                    <a:lnTo>
                      <a:pt x="0" y="273"/>
                    </a:lnTo>
                    <a:lnTo>
                      <a:pt x="1" y="287"/>
                    </a:lnTo>
                    <a:lnTo>
                      <a:pt x="3" y="299"/>
                    </a:lnTo>
                    <a:lnTo>
                      <a:pt x="5" y="312"/>
                    </a:lnTo>
                    <a:lnTo>
                      <a:pt x="8" y="324"/>
                    </a:lnTo>
                    <a:lnTo>
                      <a:pt x="11" y="337"/>
                    </a:lnTo>
                    <a:lnTo>
                      <a:pt x="15" y="349"/>
                    </a:lnTo>
                    <a:lnTo>
                      <a:pt x="21" y="361"/>
                    </a:lnTo>
                    <a:lnTo>
                      <a:pt x="26" y="373"/>
                    </a:lnTo>
                    <a:lnTo>
                      <a:pt x="31" y="383"/>
                    </a:lnTo>
                    <a:lnTo>
                      <a:pt x="37" y="395"/>
                    </a:lnTo>
                    <a:lnTo>
                      <a:pt x="44" y="405"/>
                    </a:lnTo>
                    <a:lnTo>
                      <a:pt x="51" y="415"/>
                    </a:lnTo>
                    <a:lnTo>
                      <a:pt x="60" y="425"/>
                    </a:lnTo>
                    <a:lnTo>
                      <a:pt x="67" y="435"/>
                    </a:lnTo>
                    <a:lnTo>
                      <a:pt x="76" y="443"/>
                    </a:lnTo>
                    <a:lnTo>
                      <a:pt x="85" y="451"/>
                    </a:lnTo>
                    <a:lnTo>
                      <a:pt x="94" y="460"/>
                    </a:lnTo>
                    <a:lnTo>
                      <a:pt x="104" y="467"/>
                    </a:lnTo>
                    <a:lnTo>
                      <a:pt x="114" y="475"/>
                    </a:lnTo>
                    <a:lnTo>
                      <a:pt x="125" y="482"/>
                    </a:lnTo>
                    <a:lnTo>
                      <a:pt x="136" y="488"/>
                    </a:lnTo>
                    <a:lnTo>
                      <a:pt x="147" y="493"/>
                    </a:lnTo>
                    <a:lnTo>
                      <a:pt x="158" y="499"/>
                    </a:lnTo>
                    <a:lnTo>
                      <a:pt x="170" y="504"/>
                    </a:lnTo>
                    <a:lnTo>
                      <a:pt x="183" y="507"/>
                    </a:lnTo>
                    <a:lnTo>
                      <a:pt x="195" y="511"/>
                    </a:lnTo>
                    <a:lnTo>
                      <a:pt x="208" y="514"/>
                    </a:lnTo>
                    <a:lnTo>
                      <a:pt x="220" y="517"/>
                    </a:lnTo>
                    <a:lnTo>
                      <a:pt x="233" y="518"/>
                    </a:lnTo>
                    <a:lnTo>
                      <a:pt x="247" y="519"/>
                    </a:lnTo>
                    <a:lnTo>
                      <a:pt x="259" y="520"/>
                    </a:lnTo>
                    <a:lnTo>
                      <a:pt x="273" y="519"/>
                    </a:lnTo>
                    <a:lnTo>
                      <a:pt x="287" y="518"/>
                    </a:lnTo>
                    <a:lnTo>
                      <a:pt x="299" y="517"/>
                    </a:lnTo>
                    <a:lnTo>
                      <a:pt x="312" y="514"/>
                    </a:lnTo>
                    <a:lnTo>
                      <a:pt x="324" y="511"/>
                    </a:lnTo>
                    <a:lnTo>
                      <a:pt x="337" y="507"/>
                    </a:lnTo>
                    <a:lnTo>
                      <a:pt x="349" y="504"/>
                    </a:lnTo>
                    <a:lnTo>
                      <a:pt x="361" y="499"/>
                    </a:lnTo>
                    <a:lnTo>
                      <a:pt x="372" y="493"/>
                    </a:lnTo>
                    <a:lnTo>
                      <a:pt x="383" y="488"/>
                    </a:lnTo>
                    <a:lnTo>
                      <a:pt x="394" y="482"/>
                    </a:lnTo>
                    <a:lnTo>
                      <a:pt x="405" y="475"/>
                    </a:lnTo>
                    <a:lnTo>
                      <a:pt x="415" y="467"/>
                    </a:lnTo>
                    <a:lnTo>
                      <a:pt x="425" y="460"/>
                    </a:lnTo>
                    <a:lnTo>
                      <a:pt x="435" y="451"/>
                    </a:lnTo>
                    <a:lnTo>
                      <a:pt x="443" y="443"/>
                    </a:lnTo>
                    <a:lnTo>
                      <a:pt x="452" y="435"/>
                    </a:lnTo>
                    <a:lnTo>
                      <a:pt x="460" y="425"/>
                    </a:lnTo>
                    <a:lnTo>
                      <a:pt x="467" y="415"/>
                    </a:lnTo>
                    <a:lnTo>
                      <a:pt x="475" y="405"/>
                    </a:lnTo>
                    <a:lnTo>
                      <a:pt x="482" y="395"/>
                    </a:lnTo>
                    <a:lnTo>
                      <a:pt x="488" y="383"/>
                    </a:lnTo>
                    <a:lnTo>
                      <a:pt x="494" y="373"/>
                    </a:lnTo>
                    <a:lnTo>
                      <a:pt x="499" y="361"/>
                    </a:lnTo>
                    <a:lnTo>
                      <a:pt x="504" y="349"/>
                    </a:lnTo>
                    <a:lnTo>
                      <a:pt x="507" y="337"/>
                    </a:lnTo>
                    <a:lnTo>
                      <a:pt x="512" y="324"/>
                    </a:lnTo>
                    <a:lnTo>
                      <a:pt x="515" y="312"/>
                    </a:lnTo>
                    <a:lnTo>
                      <a:pt x="517" y="299"/>
                    </a:lnTo>
                    <a:lnTo>
                      <a:pt x="518" y="287"/>
                    </a:lnTo>
                    <a:lnTo>
                      <a:pt x="519" y="273"/>
                    </a:lnTo>
                    <a:lnTo>
                      <a:pt x="520" y="259"/>
                    </a:lnTo>
                    <a:close/>
                    <a:moveTo>
                      <a:pt x="503" y="259"/>
                    </a:moveTo>
                    <a:lnTo>
                      <a:pt x="502" y="272"/>
                    </a:lnTo>
                    <a:lnTo>
                      <a:pt x="501" y="285"/>
                    </a:lnTo>
                    <a:lnTo>
                      <a:pt x="500" y="297"/>
                    </a:lnTo>
                    <a:lnTo>
                      <a:pt x="498" y="309"/>
                    </a:lnTo>
                    <a:lnTo>
                      <a:pt x="495" y="320"/>
                    </a:lnTo>
                    <a:lnTo>
                      <a:pt x="492" y="332"/>
                    </a:lnTo>
                    <a:lnTo>
                      <a:pt x="488" y="343"/>
                    </a:lnTo>
                    <a:lnTo>
                      <a:pt x="483" y="354"/>
                    </a:lnTo>
                    <a:lnTo>
                      <a:pt x="479" y="365"/>
                    </a:lnTo>
                    <a:lnTo>
                      <a:pt x="474" y="376"/>
                    </a:lnTo>
                    <a:lnTo>
                      <a:pt x="467" y="385"/>
                    </a:lnTo>
                    <a:lnTo>
                      <a:pt x="461" y="396"/>
                    </a:lnTo>
                    <a:lnTo>
                      <a:pt x="455" y="405"/>
                    </a:lnTo>
                    <a:lnTo>
                      <a:pt x="447" y="414"/>
                    </a:lnTo>
                    <a:lnTo>
                      <a:pt x="440" y="423"/>
                    </a:lnTo>
                    <a:lnTo>
                      <a:pt x="432" y="432"/>
                    </a:lnTo>
                    <a:lnTo>
                      <a:pt x="423" y="440"/>
                    </a:lnTo>
                    <a:lnTo>
                      <a:pt x="414" y="447"/>
                    </a:lnTo>
                    <a:lnTo>
                      <a:pt x="405" y="455"/>
                    </a:lnTo>
                    <a:lnTo>
                      <a:pt x="396" y="461"/>
                    </a:lnTo>
                    <a:lnTo>
                      <a:pt x="385" y="467"/>
                    </a:lnTo>
                    <a:lnTo>
                      <a:pt x="376" y="474"/>
                    </a:lnTo>
                    <a:lnTo>
                      <a:pt x="365" y="479"/>
                    </a:lnTo>
                    <a:lnTo>
                      <a:pt x="354" y="483"/>
                    </a:lnTo>
                    <a:lnTo>
                      <a:pt x="343" y="488"/>
                    </a:lnTo>
                    <a:lnTo>
                      <a:pt x="332" y="491"/>
                    </a:lnTo>
                    <a:lnTo>
                      <a:pt x="320" y="495"/>
                    </a:lnTo>
                    <a:lnTo>
                      <a:pt x="309" y="498"/>
                    </a:lnTo>
                    <a:lnTo>
                      <a:pt x="297" y="500"/>
                    </a:lnTo>
                    <a:lnTo>
                      <a:pt x="284" y="501"/>
                    </a:lnTo>
                    <a:lnTo>
                      <a:pt x="272" y="502"/>
                    </a:lnTo>
                    <a:lnTo>
                      <a:pt x="259" y="503"/>
                    </a:lnTo>
                    <a:lnTo>
                      <a:pt x="247" y="502"/>
                    </a:lnTo>
                    <a:lnTo>
                      <a:pt x="235" y="501"/>
                    </a:lnTo>
                    <a:lnTo>
                      <a:pt x="222" y="500"/>
                    </a:lnTo>
                    <a:lnTo>
                      <a:pt x="211" y="498"/>
                    </a:lnTo>
                    <a:lnTo>
                      <a:pt x="199" y="495"/>
                    </a:lnTo>
                    <a:lnTo>
                      <a:pt x="188" y="491"/>
                    </a:lnTo>
                    <a:lnTo>
                      <a:pt x="176" y="488"/>
                    </a:lnTo>
                    <a:lnTo>
                      <a:pt x="165" y="483"/>
                    </a:lnTo>
                    <a:lnTo>
                      <a:pt x="154" y="479"/>
                    </a:lnTo>
                    <a:lnTo>
                      <a:pt x="144" y="474"/>
                    </a:lnTo>
                    <a:lnTo>
                      <a:pt x="133" y="467"/>
                    </a:lnTo>
                    <a:lnTo>
                      <a:pt x="124" y="461"/>
                    </a:lnTo>
                    <a:lnTo>
                      <a:pt x="114" y="455"/>
                    </a:lnTo>
                    <a:lnTo>
                      <a:pt x="105" y="447"/>
                    </a:lnTo>
                    <a:lnTo>
                      <a:pt x="96" y="440"/>
                    </a:lnTo>
                    <a:lnTo>
                      <a:pt x="88" y="432"/>
                    </a:lnTo>
                    <a:lnTo>
                      <a:pt x="79" y="423"/>
                    </a:lnTo>
                    <a:lnTo>
                      <a:pt x="72" y="414"/>
                    </a:lnTo>
                    <a:lnTo>
                      <a:pt x="65" y="405"/>
                    </a:lnTo>
                    <a:lnTo>
                      <a:pt x="58" y="396"/>
                    </a:lnTo>
                    <a:lnTo>
                      <a:pt x="52" y="385"/>
                    </a:lnTo>
                    <a:lnTo>
                      <a:pt x="46" y="376"/>
                    </a:lnTo>
                    <a:lnTo>
                      <a:pt x="41" y="365"/>
                    </a:lnTo>
                    <a:lnTo>
                      <a:pt x="35" y="354"/>
                    </a:lnTo>
                    <a:lnTo>
                      <a:pt x="31" y="343"/>
                    </a:lnTo>
                    <a:lnTo>
                      <a:pt x="27" y="332"/>
                    </a:lnTo>
                    <a:lnTo>
                      <a:pt x="24" y="320"/>
                    </a:lnTo>
                    <a:lnTo>
                      <a:pt x="22" y="309"/>
                    </a:lnTo>
                    <a:lnTo>
                      <a:pt x="20" y="297"/>
                    </a:lnTo>
                    <a:lnTo>
                      <a:pt x="17" y="285"/>
                    </a:lnTo>
                    <a:lnTo>
                      <a:pt x="16" y="272"/>
                    </a:lnTo>
                    <a:lnTo>
                      <a:pt x="16" y="259"/>
                    </a:lnTo>
                    <a:lnTo>
                      <a:pt x="16" y="247"/>
                    </a:lnTo>
                    <a:lnTo>
                      <a:pt x="17" y="235"/>
                    </a:lnTo>
                    <a:lnTo>
                      <a:pt x="20" y="223"/>
                    </a:lnTo>
                    <a:lnTo>
                      <a:pt x="22" y="211"/>
                    </a:lnTo>
                    <a:lnTo>
                      <a:pt x="24" y="199"/>
                    </a:lnTo>
                    <a:lnTo>
                      <a:pt x="27" y="188"/>
                    </a:lnTo>
                    <a:lnTo>
                      <a:pt x="31" y="176"/>
                    </a:lnTo>
                    <a:lnTo>
                      <a:pt x="35" y="165"/>
                    </a:lnTo>
                    <a:lnTo>
                      <a:pt x="41" y="154"/>
                    </a:lnTo>
                    <a:lnTo>
                      <a:pt x="46" y="144"/>
                    </a:lnTo>
                    <a:lnTo>
                      <a:pt x="52" y="133"/>
                    </a:lnTo>
                    <a:lnTo>
                      <a:pt x="58" y="124"/>
                    </a:lnTo>
                    <a:lnTo>
                      <a:pt x="65" y="114"/>
                    </a:lnTo>
                    <a:lnTo>
                      <a:pt x="72" y="105"/>
                    </a:lnTo>
                    <a:lnTo>
                      <a:pt x="79" y="97"/>
                    </a:lnTo>
                    <a:lnTo>
                      <a:pt x="88" y="88"/>
                    </a:lnTo>
                    <a:lnTo>
                      <a:pt x="96" y="80"/>
                    </a:lnTo>
                    <a:lnTo>
                      <a:pt x="105" y="72"/>
                    </a:lnTo>
                    <a:lnTo>
                      <a:pt x="114" y="65"/>
                    </a:lnTo>
                    <a:lnTo>
                      <a:pt x="124" y="59"/>
                    </a:lnTo>
                    <a:lnTo>
                      <a:pt x="133" y="52"/>
                    </a:lnTo>
                    <a:lnTo>
                      <a:pt x="144" y="46"/>
                    </a:lnTo>
                    <a:lnTo>
                      <a:pt x="154" y="41"/>
                    </a:lnTo>
                    <a:lnTo>
                      <a:pt x="165" y="36"/>
                    </a:lnTo>
                    <a:lnTo>
                      <a:pt x="176" y="31"/>
                    </a:lnTo>
                    <a:lnTo>
                      <a:pt x="188" y="27"/>
                    </a:lnTo>
                    <a:lnTo>
                      <a:pt x="199" y="24"/>
                    </a:lnTo>
                    <a:lnTo>
                      <a:pt x="211" y="22"/>
                    </a:lnTo>
                    <a:lnTo>
                      <a:pt x="222" y="20"/>
                    </a:lnTo>
                    <a:lnTo>
                      <a:pt x="235" y="18"/>
                    </a:lnTo>
                    <a:lnTo>
                      <a:pt x="247" y="17"/>
                    </a:lnTo>
                    <a:lnTo>
                      <a:pt x="259" y="17"/>
                    </a:lnTo>
                    <a:lnTo>
                      <a:pt x="272" y="17"/>
                    </a:lnTo>
                    <a:lnTo>
                      <a:pt x="284" y="18"/>
                    </a:lnTo>
                    <a:lnTo>
                      <a:pt x="297" y="20"/>
                    </a:lnTo>
                    <a:lnTo>
                      <a:pt x="309" y="22"/>
                    </a:lnTo>
                    <a:lnTo>
                      <a:pt x="320" y="24"/>
                    </a:lnTo>
                    <a:lnTo>
                      <a:pt x="332" y="27"/>
                    </a:lnTo>
                    <a:lnTo>
                      <a:pt x="343" y="31"/>
                    </a:lnTo>
                    <a:lnTo>
                      <a:pt x="354" y="36"/>
                    </a:lnTo>
                    <a:lnTo>
                      <a:pt x="365" y="41"/>
                    </a:lnTo>
                    <a:lnTo>
                      <a:pt x="376" y="46"/>
                    </a:lnTo>
                    <a:lnTo>
                      <a:pt x="385" y="52"/>
                    </a:lnTo>
                    <a:lnTo>
                      <a:pt x="396" y="59"/>
                    </a:lnTo>
                    <a:lnTo>
                      <a:pt x="405" y="65"/>
                    </a:lnTo>
                    <a:lnTo>
                      <a:pt x="414" y="72"/>
                    </a:lnTo>
                    <a:lnTo>
                      <a:pt x="423" y="80"/>
                    </a:lnTo>
                    <a:lnTo>
                      <a:pt x="432" y="88"/>
                    </a:lnTo>
                    <a:lnTo>
                      <a:pt x="440" y="97"/>
                    </a:lnTo>
                    <a:lnTo>
                      <a:pt x="447" y="105"/>
                    </a:lnTo>
                    <a:lnTo>
                      <a:pt x="455" y="114"/>
                    </a:lnTo>
                    <a:lnTo>
                      <a:pt x="461" y="124"/>
                    </a:lnTo>
                    <a:lnTo>
                      <a:pt x="467" y="133"/>
                    </a:lnTo>
                    <a:lnTo>
                      <a:pt x="474" y="144"/>
                    </a:lnTo>
                    <a:lnTo>
                      <a:pt x="479" y="154"/>
                    </a:lnTo>
                    <a:lnTo>
                      <a:pt x="483" y="165"/>
                    </a:lnTo>
                    <a:lnTo>
                      <a:pt x="488" y="176"/>
                    </a:lnTo>
                    <a:lnTo>
                      <a:pt x="492" y="188"/>
                    </a:lnTo>
                    <a:lnTo>
                      <a:pt x="495" y="199"/>
                    </a:lnTo>
                    <a:lnTo>
                      <a:pt x="498" y="211"/>
                    </a:lnTo>
                    <a:lnTo>
                      <a:pt x="500" y="223"/>
                    </a:lnTo>
                    <a:lnTo>
                      <a:pt x="501" y="235"/>
                    </a:lnTo>
                    <a:lnTo>
                      <a:pt x="502" y="247"/>
                    </a:lnTo>
                    <a:lnTo>
                      <a:pt x="503" y="259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937120" y="2617920"/>
                <a:ext cx="160560" cy="160200"/>
              </a:xfrm>
              <a:custGeom>
                <a:avLst/>
                <a:gdLst/>
                <a:ahLst/>
                <a:rect l="l" t="t" r="r" b="b"/>
                <a:pathLst>
                  <a:path w="504" h="503">
                    <a:moveTo>
                      <a:pt x="504" y="251"/>
                    </a:moveTo>
                    <a:lnTo>
                      <a:pt x="502" y="239"/>
                    </a:lnTo>
                    <a:lnTo>
                      <a:pt x="501" y="226"/>
                    </a:lnTo>
                    <a:lnTo>
                      <a:pt x="500" y="214"/>
                    </a:lnTo>
                    <a:lnTo>
                      <a:pt x="498" y="201"/>
                    </a:lnTo>
                    <a:lnTo>
                      <a:pt x="495" y="189"/>
                    </a:lnTo>
                    <a:lnTo>
                      <a:pt x="492" y="177"/>
                    </a:lnTo>
                    <a:lnTo>
                      <a:pt x="488" y="165"/>
                    </a:lnTo>
                    <a:lnTo>
                      <a:pt x="484" y="154"/>
                    </a:lnTo>
                    <a:lnTo>
                      <a:pt x="478" y="143"/>
                    </a:lnTo>
                    <a:lnTo>
                      <a:pt x="473" y="132"/>
                    </a:lnTo>
                    <a:lnTo>
                      <a:pt x="467" y="121"/>
                    </a:lnTo>
                    <a:lnTo>
                      <a:pt x="460" y="112"/>
                    </a:lnTo>
                    <a:lnTo>
                      <a:pt x="453" y="101"/>
                    </a:lnTo>
                    <a:lnTo>
                      <a:pt x="446" y="92"/>
                    </a:lnTo>
                    <a:lnTo>
                      <a:pt x="437" y="83"/>
                    </a:lnTo>
                    <a:lnTo>
                      <a:pt x="430" y="74"/>
                    </a:lnTo>
                    <a:lnTo>
                      <a:pt x="420" y="65"/>
                    </a:lnTo>
                    <a:lnTo>
                      <a:pt x="411" y="58"/>
                    </a:lnTo>
                    <a:lnTo>
                      <a:pt x="402" y="51"/>
                    </a:lnTo>
                    <a:lnTo>
                      <a:pt x="392" y="43"/>
                    </a:lnTo>
                    <a:lnTo>
                      <a:pt x="382" y="37"/>
                    </a:lnTo>
                    <a:lnTo>
                      <a:pt x="371" y="31"/>
                    </a:lnTo>
                    <a:lnTo>
                      <a:pt x="361" y="26"/>
                    </a:lnTo>
                    <a:lnTo>
                      <a:pt x="349" y="20"/>
                    </a:lnTo>
                    <a:lnTo>
                      <a:pt x="338" y="16"/>
                    </a:lnTo>
                    <a:lnTo>
                      <a:pt x="326" y="12"/>
                    </a:lnTo>
                    <a:lnTo>
                      <a:pt x="314" y="9"/>
                    </a:lnTo>
                    <a:lnTo>
                      <a:pt x="303" y="6"/>
                    </a:lnTo>
                    <a:lnTo>
                      <a:pt x="290" y="4"/>
                    </a:lnTo>
                    <a:lnTo>
                      <a:pt x="278" y="1"/>
                    </a:lnTo>
                    <a:lnTo>
                      <a:pt x="265" y="0"/>
                    </a:lnTo>
                    <a:lnTo>
                      <a:pt x="251" y="0"/>
                    </a:lnTo>
                    <a:lnTo>
                      <a:pt x="239" y="0"/>
                    </a:lnTo>
                    <a:lnTo>
                      <a:pt x="226" y="1"/>
                    </a:lnTo>
                    <a:lnTo>
                      <a:pt x="213" y="4"/>
                    </a:lnTo>
                    <a:lnTo>
                      <a:pt x="201" y="6"/>
                    </a:lnTo>
                    <a:lnTo>
                      <a:pt x="189" y="9"/>
                    </a:lnTo>
                    <a:lnTo>
                      <a:pt x="177" y="12"/>
                    </a:lnTo>
                    <a:lnTo>
                      <a:pt x="165" y="16"/>
                    </a:lnTo>
                    <a:lnTo>
                      <a:pt x="153" y="20"/>
                    </a:lnTo>
                    <a:lnTo>
                      <a:pt x="143" y="26"/>
                    </a:lnTo>
                    <a:lnTo>
                      <a:pt x="131" y="31"/>
                    </a:lnTo>
                    <a:lnTo>
                      <a:pt x="121" y="37"/>
                    </a:lnTo>
                    <a:lnTo>
                      <a:pt x="111" y="43"/>
                    </a:lnTo>
                    <a:lnTo>
                      <a:pt x="101" y="51"/>
                    </a:lnTo>
                    <a:lnTo>
                      <a:pt x="91" y="58"/>
                    </a:lnTo>
                    <a:lnTo>
                      <a:pt x="83" y="65"/>
                    </a:lnTo>
                    <a:lnTo>
                      <a:pt x="74" y="74"/>
                    </a:lnTo>
                    <a:lnTo>
                      <a:pt x="65" y="83"/>
                    </a:lnTo>
                    <a:lnTo>
                      <a:pt x="58" y="92"/>
                    </a:lnTo>
                    <a:lnTo>
                      <a:pt x="50" y="101"/>
                    </a:lnTo>
                    <a:lnTo>
                      <a:pt x="43" y="112"/>
                    </a:lnTo>
                    <a:lnTo>
                      <a:pt x="37" y="121"/>
                    </a:lnTo>
                    <a:lnTo>
                      <a:pt x="31" y="132"/>
                    </a:lnTo>
                    <a:lnTo>
                      <a:pt x="25" y="143"/>
                    </a:lnTo>
                    <a:lnTo>
                      <a:pt x="20" y="154"/>
                    </a:lnTo>
                    <a:lnTo>
                      <a:pt x="16" y="165"/>
                    </a:lnTo>
                    <a:lnTo>
                      <a:pt x="12" y="177"/>
                    </a:lnTo>
                    <a:lnTo>
                      <a:pt x="8" y="189"/>
                    </a:lnTo>
                    <a:lnTo>
                      <a:pt x="5" y="201"/>
                    </a:lnTo>
                    <a:lnTo>
                      <a:pt x="3" y="214"/>
                    </a:lnTo>
                    <a:lnTo>
                      <a:pt x="1" y="226"/>
                    </a:lnTo>
                    <a:lnTo>
                      <a:pt x="0" y="239"/>
                    </a:lnTo>
                    <a:lnTo>
                      <a:pt x="0" y="251"/>
                    </a:lnTo>
                    <a:lnTo>
                      <a:pt x="0" y="265"/>
                    </a:lnTo>
                    <a:lnTo>
                      <a:pt x="1" y="278"/>
                    </a:lnTo>
                    <a:lnTo>
                      <a:pt x="3" y="290"/>
                    </a:lnTo>
                    <a:lnTo>
                      <a:pt x="5" y="303"/>
                    </a:lnTo>
                    <a:lnTo>
                      <a:pt x="8" y="314"/>
                    </a:lnTo>
                    <a:lnTo>
                      <a:pt x="12" y="326"/>
                    </a:lnTo>
                    <a:lnTo>
                      <a:pt x="16" y="338"/>
                    </a:lnTo>
                    <a:lnTo>
                      <a:pt x="20" y="349"/>
                    </a:lnTo>
                    <a:lnTo>
                      <a:pt x="25" y="361"/>
                    </a:lnTo>
                    <a:lnTo>
                      <a:pt x="31" y="371"/>
                    </a:lnTo>
                    <a:lnTo>
                      <a:pt x="37" y="382"/>
                    </a:lnTo>
                    <a:lnTo>
                      <a:pt x="43" y="392"/>
                    </a:lnTo>
                    <a:lnTo>
                      <a:pt x="50" y="401"/>
                    </a:lnTo>
                    <a:lnTo>
                      <a:pt x="58" y="412"/>
                    </a:lnTo>
                    <a:lnTo>
                      <a:pt x="65" y="420"/>
                    </a:lnTo>
                    <a:lnTo>
                      <a:pt x="74" y="429"/>
                    </a:lnTo>
                    <a:lnTo>
                      <a:pt x="83" y="437"/>
                    </a:lnTo>
                    <a:lnTo>
                      <a:pt x="91" y="446"/>
                    </a:lnTo>
                    <a:lnTo>
                      <a:pt x="101" y="453"/>
                    </a:lnTo>
                    <a:lnTo>
                      <a:pt x="111" y="460"/>
                    </a:lnTo>
                    <a:lnTo>
                      <a:pt x="121" y="467"/>
                    </a:lnTo>
                    <a:lnTo>
                      <a:pt x="131" y="473"/>
                    </a:lnTo>
                    <a:lnTo>
                      <a:pt x="143" y="478"/>
                    </a:lnTo>
                    <a:lnTo>
                      <a:pt x="153" y="483"/>
                    </a:lnTo>
                    <a:lnTo>
                      <a:pt x="165" y="488"/>
                    </a:lnTo>
                    <a:lnTo>
                      <a:pt x="177" y="492"/>
                    </a:lnTo>
                    <a:lnTo>
                      <a:pt x="189" y="495"/>
                    </a:lnTo>
                    <a:lnTo>
                      <a:pt x="201" y="498"/>
                    </a:lnTo>
                    <a:lnTo>
                      <a:pt x="213" y="500"/>
                    </a:lnTo>
                    <a:lnTo>
                      <a:pt x="226" y="501"/>
                    </a:lnTo>
                    <a:lnTo>
                      <a:pt x="239" y="502"/>
                    </a:lnTo>
                    <a:lnTo>
                      <a:pt x="251" y="503"/>
                    </a:lnTo>
                    <a:lnTo>
                      <a:pt x="265" y="502"/>
                    </a:lnTo>
                    <a:lnTo>
                      <a:pt x="278" y="501"/>
                    </a:lnTo>
                    <a:lnTo>
                      <a:pt x="290" y="500"/>
                    </a:lnTo>
                    <a:lnTo>
                      <a:pt x="303" y="498"/>
                    </a:lnTo>
                    <a:lnTo>
                      <a:pt x="314" y="495"/>
                    </a:lnTo>
                    <a:lnTo>
                      <a:pt x="326" y="492"/>
                    </a:lnTo>
                    <a:lnTo>
                      <a:pt x="338" y="488"/>
                    </a:lnTo>
                    <a:lnTo>
                      <a:pt x="349" y="483"/>
                    </a:lnTo>
                    <a:lnTo>
                      <a:pt x="361" y="478"/>
                    </a:lnTo>
                    <a:lnTo>
                      <a:pt x="371" y="473"/>
                    </a:lnTo>
                    <a:lnTo>
                      <a:pt x="382" y="467"/>
                    </a:lnTo>
                    <a:lnTo>
                      <a:pt x="392" y="460"/>
                    </a:lnTo>
                    <a:lnTo>
                      <a:pt x="402" y="453"/>
                    </a:lnTo>
                    <a:lnTo>
                      <a:pt x="411" y="446"/>
                    </a:lnTo>
                    <a:lnTo>
                      <a:pt x="420" y="437"/>
                    </a:lnTo>
                    <a:lnTo>
                      <a:pt x="430" y="429"/>
                    </a:lnTo>
                    <a:lnTo>
                      <a:pt x="437" y="420"/>
                    </a:lnTo>
                    <a:lnTo>
                      <a:pt x="446" y="412"/>
                    </a:lnTo>
                    <a:lnTo>
                      <a:pt x="453" y="401"/>
                    </a:lnTo>
                    <a:lnTo>
                      <a:pt x="460" y="392"/>
                    </a:lnTo>
                    <a:lnTo>
                      <a:pt x="467" y="382"/>
                    </a:lnTo>
                    <a:lnTo>
                      <a:pt x="473" y="371"/>
                    </a:lnTo>
                    <a:lnTo>
                      <a:pt x="478" y="361"/>
                    </a:lnTo>
                    <a:lnTo>
                      <a:pt x="484" y="349"/>
                    </a:lnTo>
                    <a:lnTo>
                      <a:pt x="488" y="338"/>
                    </a:lnTo>
                    <a:lnTo>
                      <a:pt x="492" y="326"/>
                    </a:lnTo>
                    <a:lnTo>
                      <a:pt x="495" y="314"/>
                    </a:lnTo>
                    <a:lnTo>
                      <a:pt x="498" y="303"/>
                    </a:lnTo>
                    <a:lnTo>
                      <a:pt x="500" y="290"/>
                    </a:lnTo>
                    <a:lnTo>
                      <a:pt x="501" y="278"/>
                    </a:lnTo>
                    <a:lnTo>
                      <a:pt x="502" y="265"/>
                    </a:lnTo>
                    <a:lnTo>
                      <a:pt x="504" y="251"/>
                    </a:lnTo>
                    <a:close/>
                    <a:moveTo>
                      <a:pt x="487" y="251"/>
                    </a:moveTo>
                    <a:lnTo>
                      <a:pt x="486" y="264"/>
                    </a:lnTo>
                    <a:lnTo>
                      <a:pt x="486" y="275"/>
                    </a:lnTo>
                    <a:lnTo>
                      <a:pt x="484" y="287"/>
                    </a:lnTo>
                    <a:lnTo>
                      <a:pt x="481" y="299"/>
                    </a:lnTo>
                    <a:lnTo>
                      <a:pt x="479" y="310"/>
                    </a:lnTo>
                    <a:lnTo>
                      <a:pt x="476" y="322"/>
                    </a:lnTo>
                    <a:lnTo>
                      <a:pt x="472" y="332"/>
                    </a:lnTo>
                    <a:lnTo>
                      <a:pt x="468" y="343"/>
                    </a:lnTo>
                    <a:lnTo>
                      <a:pt x="464" y="353"/>
                    </a:lnTo>
                    <a:lnTo>
                      <a:pt x="458" y="364"/>
                    </a:lnTo>
                    <a:lnTo>
                      <a:pt x="452" y="373"/>
                    </a:lnTo>
                    <a:lnTo>
                      <a:pt x="447" y="383"/>
                    </a:lnTo>
                    <a:lnTo>
                      <a:pt x="439" y="392"/>
                    </a:lnTo>
                    <a:lnTo>
                      <a:pt x="433" y="400"/>
                    </a:lnTo>
                    <a:lnTo>
                      <a:pt x="426" y="409"/>
                    </a:lnTo>
                    <a:lnTo>
                      <a:pt x="417" y="417"/>
                    </a:lnTo>
                    <a:lnTo>
                      <a:pt x="409" y="426"/>
                    </a:lnTo>
                    <a:lnTo>
                      <a:pt x="401" y="433"/>
                    </a:lnTo>
                    <a:lnTo>
                      <a:pt x="392" y="439"/>
                    </a:lnTo>
                    <a:lnTo>
                      <a:pt x="383" y="446"/>
                    </a:lnTo>
                    <a:lnTo>
                      <a:pt x="373" y="452"/>
                    </a:lnTo>
                    <a:lnTo>
                      <a:pt x="364" y="458"/>
                    </a:lnTo>
                    <a:lnTo>
                      <a:pt x="353" y="463"/>
                    </a:lnTo>
                    <a:lnTo>
                      <a:pt x="343" y="468"/>
                    </a:lnTo>
                    <a:lnTo>
                      <a:pt x="332" y="472"/>
                    </a:lnTo>
                    <a:lnTo>
                      <a:pt x="322" y="476"/>
                    </a:lnTo>
                    <a:lnTo>
                      <a:pt x="310" y="479"/>
                    </a:lnTo>
                    <a:lnTo>
                      <a:pt x="299" y="481"/>
                    </a:lnTo>
                    <a:lnTo>
                      <a:pt x="287" y="483"/>
                    </a:lnTo>
                    <a:lnTo>
                      <a:pt x="275" y="484"/>
                    </a:lnTo>
                    <a:lnTo>
                      <a:pt x="264" y="485"/>
                    </a:lnTo>
                    <a:lnTo>
                      <a:pt x="251" y="487"/>
                    </a:lnTo>
                    <a:lnTo>
                      <a:pt x="240" y="485"/>
                    </a:lnTo>
                    <a:lnTo>
                      <a:pt x="228" y="484"/>
                    </a:lnTo>
                    <a:lnTo>
                      <a:pt x="216" y="483"/>
                    </a:lnTo>
                    <a:lnTo>
                      <a:pt x="204" y="481"/>
                    </a:lnTo>
                    <a:lnTo>
                      <a:pt x="192" y="479"/>
                    </a:lnTo>
                    <a:lnTo>
                      <a:pt x="182" y="476"/>
                    </a:lnTo>
                    <a:lnTo>
                      <a:pt x="171" y="472"/>
                    </a:lnTo>
                    <a:lnTo>
                      <a:pt x="160" y="468"/>
                    </a:lnTo>
                    <a:lnTo>
                      <a:pt x="150" y="463"/>
                    </a:lnTo>
                    <a:lnTo>
                      <a:pt x="140" y="458"/>
                    </a:lnTo>
                    <a:lnTo>
                      <a:pt x="130" y="452"/>
                    </a:lnTo>
                    <a:lnTo>
                      <a:pt x="121" y="446"/>
                    </a:lnTo>
                    <a:lnTo>
                      <a:pt x="111" y="439"/>
                    </a:lnTo>
                    <a:lnTo>
                      <a:pt x="102" y="433"/>
                    </a:lnTo>
                    <a:lnTo>
                      <a:pt x="94" y="426"/>
                    </a:lnTo>
                    <a:lnTo>
                      <a:pt x="86" y="417"/>
                    </a:lnTo>
                    <a:lnTo>
                      <a:pt x="78" y="409"/>
                    </a:lnTo>
                    <a:lnTo>
                      <a:pt x="70" y="400"/>
                    </a:lnTo>
                    <a:lnTo>
                      <a:pt x="63" y="392"/>
                    </a:lnTo>
                    <a:lnTo>
                      <a:pt x="57" y="383"/>
                    </a:lnTo>
                    <a:lnTo>
                      <a:pt x="50" y="373"/>
                    </a:lnTo>
                    <a:lnTo>
                      <a:pt x="45" y="364"/>
                    </a:lnTo>
                    <a:lnTo>
                      <a:pt x="40" y="353"/>
                    </a:lnTo>
                    <a:lnTo>
                      <a:pt x="36" y="343"/>
                    </a:lnTo>
                    <a:lnTo>
                      <a:pt x="32" y="332"/>
                    </a:lnTo>
                    <a:lnTo>
                      <a:pt x="27" y="322"/>
                    </a:lnTo>
                    <a:lnTo>
                      <a:pt x="24" y="310"/>
                    </a:lnTo>
                    <a:lnTo>
                      <a:pt x="22" y="299"/>
                    </a:lnTo>
                    <a:lnTo>
                      <a:pt x="20" y="287"/>
                    </a:lnTo>
                    <a:lnTo>
                      <a:pt x="18" y="275"/>
                    </a:lnTo>
                    <a:lnTo>
                      <a:pt x="17" y="264"/>
                    </a:lnTo>
                    <a:lnTo>
                      <a:pt x="17" y="251"/>
                    </a:lnTo>
                    <a:lnTo>
                      <a:pt x="17" y="240"/>
                    </a:lnTo>
                    <a:lnTo>
                      <a:pt x="18" y="228"/>
                    </a:lnTo>
                    <a:lnTo>
                      <a:pt x="20" y="216"/>
                    </a:lnTo>
                    <a:lnTo>
                      <a:pt x="22" y="204"/>
                    </a:lnTo>
                    <a:lnTo>
                      <a:pt x="24" y="194"/>
                    </a:lnTo>
                    <a:lnTo>
                      <a:pt x="27" y="182"/>
                    </a:lnTo>
                    <a:lnTo>
                      <a:pt x="32" y="172"/>
                    </a:lnTo>
                    <a:lnTo>
                      <a:pt x="36" y="160"/>
                    </a:lnTo>
                    <a:lnTo>
                      <a:pt x="40" y="151"/>
                    </a:lnTo>
                    <a:lnTo>
                      <a:pt x="45" y="140"/>
                    </a:lnTo>
                    <a:lnTo>
                      <a:pt x="50" y="131"/>
                    </a:lnTo>
                    <a:lnTo>
                      <a:pt x="57" y="121"/>
                    </a:lnTo>
                    <a:lnTo>
                      <a:pt x="63" y="112"/>
                    </a:lnTo>
                    <a:lnTo>
                      <a:pt x="70" y="102"/>
                    </a:lnTo>
                    <a:lnTo>
                      <a:pt x="78" y="94"/>
                    </a:lnTo>
                    <a:lnTo>
                      <a:pt x="86" y="85"/>
                    </a:lnTo>
                    <a:lnTo>
                      <a:pt x="94" y="78"/>
                    </a:lnTo>
                    <a:lnTo>
                      <a:pt x="102" y="71"/>
                    </a:lnTo>
                    <a:lnTo>
                      <a:pt x="111" y="63"/>
                    </a:lnTo>
                    <a:lnTo>
                      <a:pt x="121" y="57"/>
                    </a:lnTo>
                    <a:lnTo>
                      <a:pt x="130" y="51"/>
                    </a:lnTo>
                    <a:lnTo>
                      <a:pt x="140" y="46"/>
                    </a:lnTo>
                    <a:lnTo>
                      <a:pt x="150" y="40"/>
                    </a:lnTo>
                    <a:lnTo>
                      <a:pt x="160" y="36"/>
                    </a:lnTo>
                    <a:lnTo>
                      <a:pt x="171" y="32"/>
                    </a:lnTo>
                    <a:lnTo>
                      <a:pt x="182" y="28"/>
                    </a:lnTo>
                    <a:lnTo>
                      <a:pt x="192" y="25"/>
                    </a:lnTo>
                    <a:lnTo>
                      <a:pt x="204" y="22"/>
                    </a:lnTo>
                    <a:lnTo>
                      <a:pt x="216" y="20"/>
                    </a:lnTo>
                    <a:lnTo>
                      <a:pt x="228" y="18"/>
                    </a:lnTo>
                    <a:lnTo>
                      <a:pt x="240" y="17"/>
                    </a:lnTo>
                    <a:lnTo>
                      <a:pt x="251" y="17"/>
                    </a:lnTo>
                    <a:lnTo>
                      <a:pt x="264" y="17"/>
                    </a:lnTo>
                    <a:lnTo>
                      <a:pt x="275" y="18"/>
                    </a:lnTo>
                    <a:lnTo>
                      <a:pt x="287" y="20"/>
                    </a:lnTo>
                    <a:lnTo>
                      <a:pt x="299" y="22"/>
                    </a:lnTo>
                    <a:lnTo>
                      <a:pt x="310" y="25"/>
                    </a:lnTo>
                    <a:lnTo>
                      <a:pt x="322" y="28"/>
                    </a:lnTo>
                    <a:lnTo>
                      <a:pt x="332" y="32"/>
                    </a:lnTo>
                    <a:lnTo>
                      <a:pt x="343" y="36"/>
                    </a:lnTo>
                    <a:lnTo>
                      <a:pt x="353" y="40"/>
                    </a:lnTo>
                    <a:lnTo>
                      <a:pt x="364" y="46"/>
                    </a:lnTo>
                    <a:lnTo>
                      <a:pt x="373" y="51"/>
                    </a:lnTo>
                    <a:lnTo>
                      <a:pt x="383" y="57"/>
                    </a:lnTo>
                    <a:lnTo>
                      <a:pt x="401" y="71"/>
                    </a:lnTo>
                    <a:lnTo>
                      <a:pt x="417" y="85"/>
                    </a:lnTo>
                    <a:lnTo>
                      <a:pt x="433" y="102"/>
                    </a:lnTo>
                    <a:lnTo>
                      <a:pt x="447" y="121"/>
                    </a:lnTo>
                    <a:lnTo>
                      <a:pt x="452" y="131"/>
                    </a:lnTo>
                    <a:lnTo>
                      <a:pt x="458" y="140"/>
                    </a:lnTo>
                    <a:lnTo>
                      <a:pt x="464" y="151"/>
                    </a:lnTo>
                    <a:lnTo>
                      <a:pt x="468" y="160"/>
                    </a:lnTo>
                    <a:lnTo>
                      <a:pt x="472" y="172"/>
                    </a:lnTo>
                    <a:lnTo>
                      <a:pt x="476" y="182"/>
                    </a:lnTo>
                    <a:lnTo>
                      <a:pt x="479" y="194"/>
                    </a:lnTo>
                    <a:lnTo>
                      <a:pt x="481" y="204"/>
                    </a:lnTo>
                    <a:lnTo>
                      <a:pt x="484" y="216"/>
                    </a:lnTo>
                    <a:lnTo>
                      <a:pt x="486" y="228"/>
                    </a:lnTo>
                    <a:lnTo>
                      <a:pt x="486" y="240"/>
                    </a:lnTo>
                    <a:lnTo>
                      <a:pt x="487" y="251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940360" y="26208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487" h="486">
                    <a:moveTo>
                      <a:pt x="487" y="242"/>
                    </a:moveTo>
                    <a:lnTo>
                      <a:pt x="486" y="230"/>
                    </a:lnTo>
                    <a:lnTo>
                      <a:pt x="485" y="218"/>
                    </a:lnTo>
                    <a:lnTo>
                      <a:pt x="484" y="206"/>
                    </a:lnTo>
                    <a:lnTo>
                      <a:pt x="482" y="194"/>
                    </a:lnTo>
                    <a:lnTo>
                      <a:pt x="479" y="182"/>
                    </a:lnTo>
                    <a:lnTo>
                      <a:pt x="476" y="171"/>
                    </a:lnTo>
                    <a:lnTo>
                      <a:pt x="472" y="159"/>
                    </a:lnTo>
                    <a:lnTo>
                      <a:pt x="467" y="148"/>
                    </a:lnTo>
                    <a:lnTo>
                      <a:pt x="463" y="137"/>
                    </a:lnTo>
                    <a:lnTo>
                      <a:pt x="458" y="127"/>
                    </a:lnTo>
                    <a:lnTo>
                      <a:pt x="451" y="116"/>
                    </a:lnTo>
                    <a:lnTo>
                      <a:pt x="445" y="107"/>
                    </a:lnTo>
                    <a:lnTo>
                      <a:pt x="439" y="97"/>
                    </a:lnTo>
                    <a:lnTo>
                      <a:pt x="431" y="88"/>
                    </a:lnTo>
                    <a:lnTo>
                      <a:pt x="424" y="80"/>
                    </a:lnTo>
                    <a:lnTo>
                      <a:pt x="416" y="71"/>
                    </a:lnTo>
                    <a:lnTo>
                      <a:pt x="407" y="63"/>
                    </a:lnTo>
                    <a:lnTo>
                      <a:pt x="398" y="55"/>
                    </a:lnTo>
                    <a:lnTo>
                      <a:pt x="389" y="48"/>
                    </a:lnTo>
                    <a:lnTo>
                      <a:pt x="380" y="42"/>
                    </a:lnTo>
                    <a:lnTo>
                      <a:pt x="369" y="35"/>
                    </a:lnTo>
                    <a:lnTo>
                      <a:pt x="360" y="29"/>
                    </a:lnTo>
                    <a:lnTo>
                      <a:pt x="349" y="24"/>
                    </a:lnTo>
                    <a:lnTo>
                      <a:pt x="338" y="19"/>
                    </a:lnTo>
                    <a:lnTo>
                      <a:pt x="327" y="14"/>
                    </a:lnTo>
                    <a:lnTo>
                      <a:pt x="316" y="10"/>
                    </a:lnTo>
                    <a:lnTo>
                      <a:pt x="304" y="7"/>
                    </a:lnTo>
                    <a:lnTo>
                      <a:pt x="293" y="5"/>
                    </a:lnTo>
                    <a:lnTo>
                      <a:pt x="281" y="3"/>
                    </a:lnTo>
                    <a:lnTo>
                      <a:pt x="268" y="1"/>
                    </a:lnTo>
                    <a:lnTo>
                      <a:pt x="256" y="0"/>
                    </a:lnTo>
                    <a:lnTo>
                      <a:pt x="243" y="0"/>
                    </a:lnTo>
                    <a:lnTo>
                      <a:pt x="231" y="0"/>
                    </a:lnTo>
                    <a:lnTo>
                      <a:pt x="219" y="1"/>
                    </a:lnTo>
                    <a:lnTo>
                      <a:pt x="206" y="3"/>
                    </a:lnTo>
                    <a:lnTo>
                      <a:pt x="195" y="5"/>
                    </a:lnTo>
                    <a:lnTo>
                      <a:pt x="183" y="7"/>
                    </a:lnTo>
                    <a:lnTo>
                      <a:pt x="172" y="10"/>
                    </a:lnTo>
                    <a:lnTo>
                      <a:pt x="160" y="14"/>
                    </a:lnTo>
                    <a:lnTo>
                      <a:pt x="149" y="19"/>
                    </a:lnTo>
                    <a:lnTo>
                      <a:pt x="138" y="24"/>
                    </a:lnTo>
                    <a:lnTo>
                      <a:pt x="128" y="29"/>
                    </a:lnTo>
                    <a:lnTo>
                      <a:pt x="117" y="35"/>
                    </a:lnTo>
                    <a:lnTo>
                      <a:pt x="108" y="42"/>
                    </a:lnTo>
                    <a:lnTo>
                      <a:pt x="98" y="48"/>
                    </a:lnTo>
                    <a:lnTo>
                      <a:pt x="89" y="55"/>
                    </a:lnTo>
                    <a:lnTo>
                      <a:pt x="80" y="63"/>
                    </a:lnTo>
                    <a:lnTo>
                      <a:pt x="72" y="71"/>
                    </a:lnTo>
                    <a:lnTo>
                      <a:pt x="63" y="80"/>
                    </a:lnTo>
                    <a:lnTo>
                      <a:pt x="56" y="88"/>
                    </a:lnTo>
                    <a:lnTo>
                      <a:pt x="49" y="97"/>
                    </a:lnTo>
                    <a:lnTo>
                      <a:pt x="42" y="107"/>
                    </a:lnTo>
                    <a:lnTo>
                      <a:pt x="36" y="116"/>
                    </a:lnTo>
                    <a:lnTo>
                      <a:pt x="30" y="127"/>
                    </a:lnTo>
                    <a:lnTo>
                      <a:pt x="25" y="137"/>
                    </a:lnTo>
                    <a:lnTo>
                      <a:pt x="19" y="148"/>
                    </a:lnTo>
                    <a:lnTo>
                      <a:pt x="15" y="159"/>
                    </a:lnTo>
                    <a:lnTo>
                      <a:pt x="11" y="171"/>
                    </a:lnTo>
                    <a:lnTo>
                      <a:pt x="8" y="182"/>
                    </a:lnTo>
                    <a:lnTo>
                      <a:pt x="6" y="194"/>
                    </a:lnTo>
                    <a:lnTo>
                      <a:pt x="4" y="206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0" y="242"/>
                    </a:lnTo>
                    <a:lnTo>
                      <a:pt x="0" y="255"/>
                    </a:lnTo>
                    <a:lnTo>
                      <a:pt x="1" y="268"/>
                    </a:lnTo>
                    <a:lnTo>
                      <a:pt x="4" y="280"/>
                    </a:lnTo>
                    <a:lnTo>
                      <a:pt x="6" y="292"/>
                    </a:lnTo>
                    <a:lnTo>
                      <a:pt x="8" y="303"/>
                    </a:lnTo>
                    <a:lnTo>
                      <a:pt x="11" y="315"/>
                    </a:lnTo>
                    <a:lnTo>
                      <a:pt x="15" y="326"/>
                    </a:lnTo>
                    <a:lnTo>
                      <a:pt x="19" y="337"/>
                    </a:lnTo>
                    <a:lnTo>
                      <a:pt x="25" y="348"/>
                    </a:lnTo>
                    <a:lnTo>
                      <a:pt x="30" y="359"/>
                    </a:lnTo>
                    <a:lnTo>
                      <a:pt x="36" y="368"/>
                    </a:lnTo>
                    <a:lnTo>
                      <a:pt x="42" y="379"/>
                    </a:lnTo>
                    <a:lnTo>
                      <a:pt x="49" y="388"/>
                    </a:lnTo>
                    <a:lnTo>
                      <a:pt x="56" y="397"/>
                    </a:lnTo>
                    <a:lnTo>
                      <a:pt x="63" y="406"/>
                    </a:lnTo>
                    <a:lnTo>
                      <a:pt x="72" y="415"/>
                    </a:lnTo>
                    <a:lnTo>
                      <a:pt x="80" y="423"/>
                    </a:lnTo>
                    <a:lnTo>
                      <a:pt x="89" y="430"/>
                    </a:lnTo>
                    <a:lnTo>
                      <a:pt x="98" y="438"/>
                    </a:lnTo>
                    <a:lnTo>
                      <a:pt x="108" y="444"/>
                    </a:lnTo>
                    <a:lnTo>
                      <a:pt x="117" y="450"/>
                    </a:lnTo>
                    <a:lnTo>
                      <a:pt x="128" y="457"/>
                    </a:lnTo>
                    <a:lnTo>
                      <a:pt x="138" y="462"/>
                    </a:lnTo>
                    <a:lnTo>
                      <a:pt x="149" y="466"/>
                    </a:lnTo>
                    <a:lnTo>
                      <a:pt x="160" y="471"/>
                    </a:lnTo>
                    <a:lnTo>
                      <a:pt x="172" y="474"/>
                    </a:lnTo>
                    <a:lnTo>
                      <a:pt x="183" y="478"/>
                    </a:lnTo>
                    <a:lnTo>
                      <a:pt x="195" y="481"/>
                    </a:lnTo>
                    <a:lnTo>
                      <a:pt x="206" y="483"/>
                    </a:lnTo>
                    <a:lnTo>
                      <a:pt x="219" y="484"/>
                    </a:lnTo>
                    <a:lnTo>
                      <a:pt x="231" y="485"/>
                    </a:lnTo>
                    <a:lnTo>
                      <a:pt x="243" y="486"/>
                    </a:lnTo>
                    <a:lnTo>
                      <a:pt x="256" y="485"/>
                    </a:lnTo>
                    <a:lnTo>
                      <a:pt x="268" y="484"/>
                    </a:lnTo>
                    <a:lnTo>
                      <a:pt x="281" y="483"/>
                    </a:lnTo>
                    <a:lnTo>
                      <a:pt x="293" y="481"/>
                    </a:lnTo>
                    <a:lnTo>
                      <a:pt x="304" y="478"/>
                    </a:lnTo>
                    <a:lnTo>
                      <a:pt x="316" y="474"/>
                    </a:lnTo>
                    <a:lnTo>
                      <a:pt x="327" y="471"/>
                    </a:lnTo>
                    <a:lnTo>
                      <a:pt x="338" y="466"/>
                    </a:lnTo>
                    <a:lnTo>
                      <a:pt x="349" y="462"/>
                    </a:lnTo>
                    <a:lnTo>
                      <a:pt x="360" y="457"/>
                    </a:lnTo>
                    <a:lnTo>
                      <a:pt x="369" y="450"/>
                    </a:lnTo>
                    <a:lnTo>
                      <a:pt x="380" y="444"/>
                    </a:lnTo>
                    <a:lnTo>
                      <a:pt x="389" y="438"/>
                    </a:lnTo>
                    <a:lnTo>
                      <a:pt x="398" y="430"/>
                    </a:lnTo>
                    <a:lnTo>
                      <a:pt x="407" y="423"/>
                    </a:lnTo>
                    <a:lnTo>
                      <a:pt x="416" y="415"/>
                    </a:lnTo>
                    <a:lnTo>
                      <a:pt x="424" y="406"/>
                    </a:lnTo>
                    <a:lnTo>
                      <a:pt x="431" y="397"/>
                    </a:lnTo>
                    <a:lnTo>
                      <a:pt x="439" y="388"/>
                    </a:lnTo>
                    <a:lnTo>
                      <a:pt x="445" y="379"/>
                    </a:lnTo>
                    <a:lnTo>
                      <a:pt x="451" y="368"/>
                    </a:lnTo>
                    <a:lnTo>
                      <a:pt x="458" y="359"/>
                    </a:lnTo>
                    <a:lnTo>
                      <a:pt x="463" y="348"/>
                    </a:lnTo>
                    <a:lnTo>
                      <a:pt x="467" y="337"/>
                    </a:lnTo>
                    <a:lnTo>
                      <a:pt x="472" y="326"/>
                    </a:lnTo>
                    <a:lnTo>
                      <a:pt x="476" y="315"/>
                    </a:lnTo>
                    <a:lnTo>
                      <a:pt x="479" y="303"/>
                    </a:lnTo>
                    <a:lnTo>
                      <a:pt x="482" y="292"/>
                    </a:lnTo>
                    <a:lnTo>
                      <a:pt x="484" y="280"/>
                    </a:lnTo>
                    <a:lnTo>
                      <a:pt x="485" y="268"/>
                    </a:lnTo>
                    <a:lnTo>
                      <a:pt x="486" y="255"/>
                    </a:lnTo>
                    <a:lnTo>
                      <a:pt x="487" y="242"/>
                    </a:lnTo>
                    <a:close/>
                    <a:moveTo>
                      <a:pt x="470" y="242"/>
                    </a:moveTo>
                    <a:lnTo>
                      <a:pt x="469" y="254"/>
                    </a:lnTo>
                    <a:lnTo>
                      <a:pt x="469" y="265"/>
                    </a:lnTo>
                    <a:lnTo>
                      <a:pt x="467" y="277"/>
                    </a:lnTo>
                    <a:lnTo>
                      <a:pt x="465" y="289"/>
                    </a:lnTo>
                    <a:lnTo>
                      <a:pt x="463" y="299"/>
                    </a:lnTo>
                    <a:lnTo>
                      <a:pt x="460" y="310"/>
                    </a:lnTo>
                    <a:lnTo>
                      <a:pt x="457" y="320"/>
                    </a:lnTo>
                    <a:lnTo>
                      <a:pt x="452" y="331"/>
                    </a:lnTo>
                    <a:lnTo>
                      <a:pt x="447" y="341"/>
                    </a:lnTo>
                    <a:lnTo>
                      <a:pt x="443" y="350"/>
                    </a:lnTo>
                    <a:lnTo>
                      <a:pt x="437" y="360"/>
                    </a:lnTo>
                    <a:lnTo>
                      <a:pt x="431" y="369"/>
                    </a:lnTo>
                    <a:lnTo>
                      <a:pt x="425" y="378"/>
                    </a:lnTo>
                    <a:lnTo>
                      <a:pt x="418" y="386"/>
                    </a:lnTo>
                    <a:lnTo>
                      <a:pt x="411" y="395"/>
                    </a:lnTo>
                    <a:lnTo>
                      <a:pt x="404" y="403"/>
                    </a:lnTo>
                    <a:lnTo>
                      <a:pt x="396" y="410"/>
                    </a:lnTo>
                    <a:lnTo>
                      <a:pt x="387" y="417"/>
                    </a:lnTo>
                    <a:lnTo>
                      <a:pt x="379" y="424"/>
                    </a:lnTo>
                    <a:lnTo>
                      <a:pt x="370" y="430"/>
                    </a:lnTo>
                    <a:lnTo>
                      <a:pt x="361" y="436"/>
                    </a:lnTo>
                    <a:lnTo>
                      <a:pt x="352" y="442"/>
                    </a:lnTo>
                    <a:lnTo>
                      <a:pt x="342" y="446"/>
                    </a:lnTo>
                    <a:lnTo>
                      <a:pt x="332" y="451"/>
                    </a:lnTo>
                    <a:lnTo>
                      <a:pt x="321" y="455"/>
                    </a:lnTo>
                    <a:lnTo>
                      <a:pt x="311" y="459"/>
                    </a:lnTo>
                    <a:lnTo>
                      <a:pt x="300" y="462"/>
                    </a:lnTo>
                    <a:lnTo>
                      <a:pt x="289" y="464"/>
                    </a:lnTo>
                    <a:lnTo>
                      <a:pt x="278" y="466"/>
                    </a:lnTo>
                    <a:lnTo>
                      <a:pt x="266" y="468"/>
                    </a:lnTo>
                    <a:lnTo>
                      <a:pt x="255" y="468"/>
                    </a:lnTo>
                    <a:lnTo>
                      <a:pt x="243" y="469"/>
                    </a:lnTo>
                    <a:lnTo>
                      <a:pt x="232" y="468"/>
                    </a:lnTo>
                    <a:lnTo>
                      <a:pt x="220" y="468"/>
                    </a:lnTo>
                    <a:lnTo>
                      <a:pt x="210" y="466"/>
                    </a:lnTo>
                    <a:lnTo>
                      <a:pt x="198" y="464"/>
                    </a:lnTo>
                    <a:lnTo>
                      <a:pt x="188" y="462"/>
                    </a:lnTo>
                    <a:lnTo>
                      <a:pt x="176" y="459"/>
                    </a:lnTo>
                    <a:lnTo>
                      <a:pt x="165" y="455"/>
                    </a:lnTo>
                    <a:lnTo>
                      <a:pt x="156" y="451"/>
                    </a:lnTo>
                    <a:lnTo>
                      <a:pt x="145" y="446"/>
                    </a:lnTo>
                    <a:lnTo>
                      <a:pt x="136" y="442"/>
                    </a:lnTo>
                    <a:lnTo>
                      <a:pt x="127" y="436"/>
                    </a:lnTo>
                    <a:lnTo>
                      <a:pt x="117" y="430"/>
                    </a:lnTo>
                    <a:lnTo>
                      <a:pt x="109" y="424"/>
                    </a:lnTo>
                    <a:lnTo>
                      <a:pt x="99" y="417"/>
                    </a:lnTo>
                    <a:lnTo>
                      <a:pt x="92" y="410"/>
                    </a:lnTo>
                    <a:lnTo>
                      <a:pt x="83" y="403"/>
                    </a:lnTo>
                    <a:lnTo>
                      <a:pt x="76" y="395"/>
                    </a:lnTo>
                    <a:lnTo>
                      <a:pt x="69" y="386"/>
                    </a:lnTo>
                    <a:lnTo>
                      <a:pt x="62" y="378"/>
                    </a:lnTo>
                    <a:lnTo>
                      <a:pt x="56" y="369"/>
                    </a:lnTo>
                    <a:lnTo>
                      <a:pt x="50" y="360"/>
                    </a:lnTo>
                    <a:lnTo>
                      <a:pt x="45" y="350"/>
                    </a:lnTo>
                    <a:lnTo>
                      <a:pt x="39" y="341"/>
                    </a:lnTo>
                    <a:lnTo>
                      <a:pt x="35" y="331"/>
                    </a:lnTo>
                    <a:lnTo>
                      <a:pt x="31" y="320"/>
                    </a:lnTo>
                    <a:lnTo>
                      <a:pt x="28" y="310"/>
                    </a:lnTo>
                    <a:lnTo>
                      <a:pt x="25" y="299"/>
                    </a:lnTo>
                    <a:lnTo>
                      <a:pt x="21" y="289"/>
                    </a:lnTo>
                    <a:lnTo>
                      <a:pt x="20" y="277"/>
                    </a:lnTo>
                    <a:lnTo>
                      <a:pt x="18" y="265"/>
                    </a:lnTo>
                    <a:lnTo>
                      <a:pt x="17" y="254"/>
                    </a:lnTo>
                    <a:lnTo>
                      <a:pt x="17" y="242"/>
                    </a:lnTo>
                    <a:lnTo>
                      <a:pt x="17" y="231"/>
                    </a:lnTo>
                    <a:lnTo>
                      <a:pt x="18" y="219"/>
                    </a:lnTo>
                    <a:lnTo>
                      <a:pt x="20" y="209"/>
                    </a:lnTo>
                    <a:lnTo>
                      <a:pt x="21" y="197"/>
                    </a:lnTo>
                    <a:lnTo>
                      <a:pt x="25" y="187"/>
                    </a:lnTo>
                    <a:lnTo>
                      <a:pt x="28" y="175"/>
                    </a:lnTo>
                    <a:lnTo>
                      <a:pt x="31" y="165"/>
                    </a:lnTo>
                    <a:lnTo>
                      <a:pt x="35" y="155"/>
                    </a:lnTo>
                    <a:lnTo>
                      <a:pt x="39" y="145"/>
                    </a:lnTo>
                    <a:lnTo>
                      <a:pt x="45" y="135"/>
                    </a:lnTo>
                    <a:lnTo>
                      <a:pt x="50" y="126"/>
                    </a:lnTo>
                    <a:lnTo>
                      <a:pt x="56" y="116"/>
                    </a:lnTo>
                    <a:lnTo>
                      <a:pt x="62" y="108"/>
                    </a:lnTo>
                    <a:lnTo>
                      <a:pt x="69" y="98"/>
                    </a:lnTo>
                    <a:lnTo>
                      <a:pt x="76" y="91"/>
                    </a:lnTo>
                    <a:lnTo>
                      <a:pt x="83" y="83"/>
                    </a:lnTo>
                    <a:lnTo>
                      <a:pt x="92" y="75"/>
                    </a:lnTo>
                    <a:lnTo>
                      <a:pt x="99" y="68"/>
                    </a:lnTo>
                    <a:lnTo>
                      <a:pt x="109" y="62"/>
                    </a:lnTo>
                    <a:lnTo>
                      <a:pt x="117" y="55"/>
                    </a:lnTo>
                    <a:lnTo>
                      <a:pt x="127" y="49"/>
                    </a:lnTo>
                    <a:lnTo>
                      <a:pt x="136" y="44"/>
                    </a:lnTo>
                    <a:lnTo>
                      <a:pt x="145" y="39"/>
                    </a:lnTo>
                    <a:lnTo>
                      <a:pt x="156" y="34"/>
                    </a:lnTo>
                    <a:lnTo>
                      <a:pt x="165" y="30"/>
                    </a:lnTo>
                    <a:lnTo>
                      <a:pt x="176" y="27"/>
                    </a:lnTo>
                    <a:lnTo>
                      <a:pt x="188" y="24"/>
                    </a:lnTo>
                    <a:lnTo>
                      <a:pt x="198" y="21"/>
                    </a:lnTo>
                    <a:lnTo>
                      <a:pt x="210" y="20"/>
                    </a:lnTo>
                    <a:lnTo>
                      <a:pt x="220" y="18"/>
                    </a:lnTo>
                    <a:lnTo>
                      <a:pt x="232" y="17"/>
                    </a:lnTo>
                    <a:lnTo>
                      <a:pt x="243" y="17"/>
                    </a:lnTo>
                    <a:lnTo>
                      <a:pt x="255" y="17"/>
                    </a:lnTo>
                    <a:lnTo>
                      <a:pt x="266" y="18"/>
                    </a:lnTo>
                    <a:lnTo>
                      <a:pt x="278" y="20"/>
                    </a:lnTo>
                    <a:lnTo>
                      <a:pt x="289" y="21"/>
                    </a:lnTo>
                    <a:lnTo>
                      <a:pt x="300" y="24"/>
                    </a:lnTo>
                    <a:lnTo>
                      <a:pt x="311" y="27"/>
                    </a:lnTo>
                    <a:lnTo>
                      <a:pt x="321" y="30"/>
                    </a:lnTo>
                    <a:lnTo>
                      <a:pt x="332" y="34"/>
                    </a:lnTo>
                    <a:lnTo>
                      <a:pt x="342" y="39"/>
                    </a:lnTo>
                    <a:lnTo>
                      <a:pt x="352" y="44"/>
                    </a:lnTo>
                    <a:lnTo>
                      <a:pt x="361" y="49"/>
                    </a:lnTo>
                    <a:lnTo>
                      <a:pt x="370" y="55"/>
                    </a:lnTo>
                    <a:lnTo>
                      <a:pt x="387" y="68"/>
                    </a:lnTo>
                    <a:lnTo>
                      <a:pt x="404" y="83"/>
                    </a:lnTo>
                    <a:lnTo>
                      <a:pt x="418" y="98"/>
                    </a:lnTo>
                    <a:lnTo>
                      <a:pt x="431" y="116"/>
                    </a:lnTo>
                    <a:lnTo>
                      <a:pt x="437" y="126"/>
                    </a:lnTo>
                    <a:lnTo>
                      <a:pt x="443" y="135"/>
                    </a:lnTo>
                    <a:lnTo>
                      <a:pt x="447" y="145"/>
                    </a:lnTo>
                    <a:lnTo>
                      <a:pt x="452" y="155"/>
                    </a:lnTo>
                    <a:lnTo>
                      <a:pt x="457" y="165"/>
                    </a:lnTo>
                    <a:lnTo>
                      <a:pt x="460" y="175"/>
                    </a:lnTo>
                    <a:lnTo>
                      <a:pt x="463" y="187"/>
                    </a:lnTo>
                    <a:lnTo>
                      <a:pt x="465" y="197"/>
                    </a:lnTo>
                    <a:lnTo>
                      <a:pt x="467" y="209"/>
                    </a:lnTo>
                    <a:lnTo>
                      <a:pt x="469" y="219"/>
                    </a:lnTo>
                    <a:lnTo>
                      <a:pt x="469" y="231"/>
                    </a:lnTo>
                    <a:lnTo>
                      <a:pt x="470" y="242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943600" y="2622600"/>
                <a:ext cx="149400" cy="149040"/>
              </a:xfrm>
              <a:custGeom>
                <a:avLst/>
                <a:gdLst/>
                <a:ahLst/>
                <a:rect l="l" t="t" r="r" b="b"/>
                <a:pathLst>
                  <a:path w="470" h="470">
                    <a:moveTo>
                      <a:pt x="470" y="234"/>
                    </a:moveTo>
                    <a:lnTo>
                      <a:pt x="469" y="223"/>
                    </a:lnTo>
                    <a:lnTo>
                      <a:pt x="469" y="211"/>
                    </a:lnTo>
                    <a:lnTo>
                      <a:pt x="467" y="199"/>
                    </a:lnTo>
                    <a:lnTo>
                      <a:pt x="464" y="187"/>
                    </a:lnTo>
                    <a:lnTo>
                      <a:pt x="462" y="177"/>
                    </a:lnTo>
                    <a:lnTo>
                      <a:pt x="459" y="165"/>
                    </a:lnTo>
                    <a:lnTo>
                      <a:pt x="455" y="155"/>
                    </a:lnTo>
                    <a:lnTo>
                      <a:pt x="451" y="143"/>
                    </a:lnTo>
                    <a:lnTo>
                      <a:pt x="447" y="134"/>
                    </a:lnTo>
                    <a:lnTo>
                      <a:pt x="441" y="123"/>
                    </a:lnTo>
                    <a:lnTo>
                      <a:pt x="435" y="114"/>
                    </a:lnTo>
                    <a:lnTo>
                      <a:pt x="430" y="104"/>
                    </a:lnTo>
                    <a:lnTo>
                      <a:pt x="416" y="85"/>
                    </a:lnTo>
                    <a:lnTo>
                      <a:pt x="400" y="68"/>
                    </a:lnTo>
                    <a:lnTo>
                      <a:pt x="384" y="54"/>
                    </a:lnTo>
                    <a:lnTo>
                      <a:pt x="366" y="40"/>
                    </a:lnTo>
                    <a:lnTo>
                      <a:pt x="356" y="34"/>
                    </a:lnTo>
                    <a:lnTo>
                      <a:pt x="347" y="29"/>
                    </a:lnTo>
                    <a:lnTo>
                      <a:pt x="336" y="23"/>
                    </a:lnTo>
                    <a:lnTo>
                      <a:pt x="326" y="19"/>
                    </a:lnTo>
                    <a:lnTo>
                      <a:pt x="315" y="15"/>
                    </a:lnTo>
                    <a:lnTo>
                      <a:pt x="305" y="11"/>
                    </a:lnTo>
                    <a:lnTo>
                      <a:pt x="293" y="8"/>
                    </a:lnTo>
                    <a:lnTo>
                      <a:pt x="282" y="5"/>
                    </a:lnTo>
                    <a:lnTo>
                      <a:pt x="270" y="3"/>
                    </a:lnTo>
                    <a:lnTo>
                      <a:pt x="258" y="1"/>
                    </a:lnTo>
                    <a:lnTo>
                      <a:pt x="247" y="0"/>
                    </a:lnTo>
                    <a:lnTo>
                      <a:pt x="234" y="0"/>
                    </a:lnTo>
                    <a:lnTo>
                      <a:pt x="223" y="0"/>
                    </a:lnTo>
                    <a:lnTo>
                      <a:pt x="211" y="1"/>
                    </a:lnTo>
                    <a:lnTo>
                      <a:pt x="199" y="3"/>
                    </a:lnTo>
                    <a:lnTo>
                      <a:pt x="187" y="5"/>
                    </a:lnTo>
                    <a:lnTo>
                      <a:pt x="175" y="8"/>
                    </a:lnTo>
                    <a:lnTo>
                      <a:pt x="165" y="11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3" y="23"/>
                    </a:lnTo>
                    <a:lnTo>
                      <a:pt x="123" y="29"/>
                    </a:lnTo>
                    <a:lnTo>
                      <a:pt x="113" y="34"/>
                    </a:lnTo>
                    <a:lnTo>
                      <a:pt x="104" y="40"/>
                    </a:lnTo>
                    <a:lnTo>
                      <a:pt x="94" y="46"/>
                    </a:lnTo>
                    <a:lnTo>
                      <a:pt x="85" y="54"/>
                    </a:lnTo>
                    <a:lnTo>
                      <a:pt x="77" y="61"/>
                    </a:lnTo>
                    <a:lnTo>
                      <a:pt x="69" y="68"/>
                    </a:lnTo>
                    <a:lnTo>
                      <a:pt x="61" y="77"/>
                    </a:lnTo>
                    <a:lnTo>
                      <a:pt x="53" y="85"/>
                    </a:lnTo>
                    <a:lnTo>
                      <a:pt x="46" y="95"/>
                    </a:lnTo>
                    <a:lnTo>
                      <a:pt x="40" y="104"/>
                    </a:lnTo>
                    <a:lnTo>
                      <a:pt x="33" y="114"/>
                    </a:lnTo>
                    <a:lnTo>
                      <a:pt x="28" y="123"/>
                    </a:lnTo>
                    <a:lnTo>
                      <a:pt x="23" y="134"/>
                    </a:lnTo>
                    <a:lnTo>
                      <a:pt x="19" y="143"/>
                    </a:lnTo>
                    <a:lnTo>
                      <a:pt x="15" y="155"/>
                    </a:lnTo>
                    <a:lnTo>
                      <a:pt x="10" y="165"/>
                    </a:lnTo>
                    <a:lnTo>
                      <a:pt x="7" y="177"/>
                    </a:lnTo>
                    <a:lnTo>
                      <a:pt x="5" y="187"/>
                    </a:lnTo>
                    <a:lnTo>
                      <a:pt x="3" y="199"/>
                    </a:lnTo>
                    <a:lnTo>
                      <a:pt x="1" y="211"/>
                    </a:lnTo>
                    <a:lnTo>
                      <a:pt x="0" y="223"/>
                    </a:lnTo>
                    <a:lnTo>
                      <a:pt x="0" y="234"/>
                    </a:lnTo>
                    <a:lnTo>
                      <a:pt x="0" y="247"/>
                    </a:lnTo>
                    <a:lnTo>
                      <a:pt x="1" y="258"/>
                    </a:lnTo>
                    <a:lnTo>
                      <a:pt x="3" y="270"/>
                    </a:lnTo>
                    <a:lnTo>
                      <a:pt x="5" y="282"/>
                    </a:lnTo>
                    <a:lnTo>
                      <a:pt x="7" y="293"/>
                    </a:lnTo>
                    <a:lnTo>
                      <a:pt x="10" y="305"/>
                    </a:lnTo>
                    <a:lnTo>
                      <a:pt x="15" y="315"/>
                    </a:lnTo>
                    <a:lnTo>
                      <a:pt x="19" y="326"/>
                    </a:lnTo>
                    <a:lnTo>
                      <a:pt x="23" y="336"/>
                    </a:lnTo>
                    <a:lnTo>
                      <a:pt x="28" y="347"/>
                    </a:lnTo>
                    <a:lnTo>
                      <a:pt x="33" y="356"/>
                    </a:lnTo>
                    <a:lnTo>
                      <a:pt x="40" y="366"/>
                    </a:lnTo>
                    <a:lnTo>
                      <a:pt x="46" y="375"/>
                    </a:lnTo>
                    <a:lnTo>
                      <a:pt x="53" y="383"/>
                    </a:lnTo>
                    <a:lnTo>
                      <a:pt x="61" y="392"/>
                    </a:lnTo>
                    <a:lnTo>
                      <a:pt x="69" y="400"/>
                    </a:lnTo>
                    <a:lnTo>
                      <a:pt x="77" y="409"/>
                    </a:lnTo>
                    <a:lnTo>
                      <a:pt x="85" y="416"/>
                    </a:lnTo>
                    <a:lnTo>
                      <a:pt x="94" y="422"/>
                    </a:lnTo>
                    <a:lnTo>
                      <a:pt x="104" y="429"/>
                    </a:lnTo>
                    <a:lnTo>
                      <a:pt x="113" y="435"/>
                    </a:lnTo>
                    <a:lnTo>
                      <a:pt x="123" y="441"/>
                    </a:lnTo>
                    <a:lnTo>
                      <a:pt x="133" y="446"/>
                    </a:lnTo>
                    <a:lnTo>
                      <a:pt x="143" y="451"/>
                    </a:lnTo>
                    <a:lnTo>
                      <a:pt x="154" y="455"/>
                    </a:lnTo>
                    <a:lnTo>
                      <a:pt x="165" y="459"/>
                    </a:lnTo>
                    <a:lnTo>
                      <a:pt x="175" y="462"/>
                    </a:lnTo>
                    <a:lnTo>
                      <a:pt x="187" y="464"/>
                    </a:lnTo>
                    <a:lnTo>
                      <a:pt x="199" y="466"/>
                    </a:lnTo>
                    <a:lnTo>
                      <a:pt x="211" y="467"/>
                    </a:lnTo>
                    <a:lnTo>
                      <a:pt x="223" y="468"/>
                    </a:lnTo>
                    <a:lnTo>
                      <a:pt x="234" y="470"/>
                    </a:lnTo>
                    <a:lnTo>
                      <a:pt x="247" y="468"/>
                    </a:lnTo>
                    <a:lnTo>
                      <a:pt x="258" y="467"/>
                    </a:lnTo>
                    <a:lnTo>
                      <a:pt x="270" y="466"/>
                    </a:lnTo>
                    <a:lnTo>
                      <a:pt x="282" y="464"/>
                    </a:lnTo>
                    <a:lnTo>
                      <a:pt x="293" y="462"/>
                    </a:lnTo>
                    <a:lnTo>
                      <a:pt x="305" y="459"/>
                    </a:lnTo>
                    <a:lnTo>
                      <a:pt x="315" y="455"/>
                    </a:lnTo>
                    <a:lnTo>
                      <a:pt x="326" y="451"/>
                    </a:lnTo>
                    <a:lnTo>
                      <a:pt x="336" y="446"/>
                    </a:lnTo>
                    <a:lnTo>
                      <a:pt x="347" y="441"/>
                    </a:lnTo>
                    <a:lnTo>
                      <a:pt x="356" y="435"/>
                    </a:lnTo>
                    <a:lnTo>
                      <a:pt x="366" y="429"/>
                    </a:lnTo>
                    <a:lnTo>
                      <a:pt x="375" y="422"/>
                    </a:lnTo>
                    <a:lnTo>
                      <a:pt x="384" y="416"/>
                    </a:lnTo>
                    <a:lnTo>
                      <a:pt x="392" y="409"/>
                    </a:lnTo>
                    <a:lnTo>
                      <a:pt x="400" y="400"/>
                    </a:lnTo>
                    <a:lnTo>
                      <a:pt x="409" y="392"/>
                    </a:lnTo>
                    <a:lnTo>
                      <a:pt x="416" y="383"/>
                    </a:lnTo>
                    <a:lnTo>
                      <a:pt x="422" y="375"/>
                    </a:lnTo>
                    <a:lnTo>
                      <a:pt x="430" y="366"/>
                    </a:lnTo>
                    <a:lnTo>
                      <a:pt x="435" y="356"/>
                    </a:lnTo>
                    <a:lnTo>
                      <a:pt x="441" y="347"/>
                    </a:lnTo>
                    <a:lnTo>
                      <a:pt x="447" y="336"/>
                    </a:lnTo>
                    <a:lnTo>
                      <a:pt x="451" y="326"/>
                    </a:lnTo>
                    <a:lnTo>
                      <a:pt x="455" y="315"/>
                    </a:lnTo>
                    <a:lnTo>
                      <a:pt x="459" y="305"/>
                    </a:lnTo>
                    <a:lnTo>
                      <a:pt x="462" y="293"/>
                    </a:lnTo>
                    <a:lnTo>
                      <a:pt x="464" y="282"/>
                    </a:lnTo>
                    <a:lnTo>
                      <a:pt x="467" y="270"/>
                    </a:lnTo>
                    <a:lnTo>
                      <a:pt x="469" y="258"/>
                    </a:lnTo>
                    <a:lnTo>
                      <a:pt x="469" y="247"/>
                    </a:lnTo>
                    <a:lnTo>
                      <a:pt x="470" y="234"/>
                    </a:lnTo>
                    <a:close/>
                    <a:moveTo>
                      <a:pt x="453" y="234"/>
                    </a:moveTo>
                    <a:lnTo>
                      <a:pt x="452" y="246"/>
                    </a:lnTo>
                    <a:lnTo>
                      <a:pt x="452" y="257"/>
                    </a:lnTo>
                    <a:lnTo>
                      <a:pt x="450" y="268"/>
                    </a:lnTo>
                    <a:lnTo>
                      <a:pt x="449" y="278"/>
                    </a:lnTo>
                    <a:lnTo>
                      <a:pt x="446" y="289"/>
                    </a:lnTo>
                    <a:lnTo>
                      <a:pt x="442" y="299"/>
                    </a:lnTo>
                    <a:lnTo>
                      <a:pt x="439" y="310"/>
                    </a:lnTo>
                    <a:lnTo>
                      <a:pt x="435" y="319"/>
                    </a:lnTo>
                    <a:lnTo>
                      <a:pt x="427" y="338"/>
                    </a:lnTo>
                    <a:lnTo>
                      <a:pt x="415" y="356"/>
                    </a:lnTo>
                    <a:lnTo>
                      <a:pt x="402" y="373"/>
                    </a:lnTo>
                    <a:lnTo>
                      <a:pt x="389" y="389"/>
                    </a:lnTo>
                    <a:lnTo>
                      <a:pt x="373" y="402"/>
                    </a:lnTo>
                    <a:lnTo>
                      <a:pt x="356" y="415"/>
                    </a:lnTo>
                    <a:lnTo>
                      <a:pt x="338" y="426"/>
                    </a:lnTo>
                    <a:lnTo>
                      <a:pt x="319" y="435"/>
                    </a:lnTo>
                    <a:lnTo>
                      <a:pt x="310" y="439"/>
                    </a:lnTo>
                    <a:lnTo>
                      <a:pt x="299" y="442"/>
                    </a:lnTo>
                    <a:lnTo>
                      <a:pt x="289" y="445"/>
                    </a:lnTo>
                    <a:lnTo>
                      <a:pt x="278" y="447"/>
                    </a:lnTo>
                    <a:lnTo>
                      <a:pt x="268" y="450"/>
                    </a:lnTo>
                    <a:lnTo>
                      <a:pt x="257" y="452"/>
                    </a:lnTo>
                    <a:lnTo>
                      <a:pt x="246" y="452"/>
                    </a:lnTo>
                    <a:lnTo>
                      <a:pt x="234" y="453"/>
                    </a:lnTo>
                    <a:lnTo>
                      <a:pt x="224" y="452"/>
                    </a:lnTo>
                    <a:lnTo>
                      <a:pt x="212" y="452"/>
                    </a:lnTo>
                    <a:lnTo>
                      <a:pt x="202" y="450"/>
                    </a:lnTo>
                    <a:lnTo>
                      <a:pt x="191" y="447"/>
                    </a:lnTo>
                    <a:lnTo>
                      <a:pt x="181" y="445"/>
                    </a:lnTo>
                    <a:lnTo>
                      <a:pt x="170" y="442"/>
                    </a:lnTo>
                    <a:lnTo>
                      <a:pt x="160" y="439"/>
                    </a:lnTo>
                    <a:lnTo>
                      <a:pt x="150" y="435"/>
                    </a:lnTo>
                    <a:lnTo>
                      <a:pt x="140" y="431"/>
                    </a:lnTo>
                    <a:lnTo>
                      <a:pt x="131" y="426"/>
                    </a:lnTo>
                    <a:lnTo>
                      <a:pt x="122" y="421"/>
                    </a:lnTo>
                    <a:lnTo>
                      <a:pt x="112" y="415"/>
                    </a:lnTo>
                    <a:lnTo>
                      <a:pt x="104" y="410"/>
                    </a:lnTo>
                    <a:lnTo>
                      <a:pt x="97" y="402"/>
                    </a:lnTo>
                    <a:lnTo>
                      <a:pt x="88" y="396"/>
                    </a:lnTo>
                    <a:lnTo>
                      <a:pt x="81" y="389"/>
                    </a:lnTo>
                    <a:lnTo>
                      <a:pt x="73" y="381"/>
                    </a:lnTo>
                    <a:lnTo>
                      <a:pt x="66" y="373"/>
                    </a:lnTo>
                    <a:lnTo>
                      <a:pt x="60" y="365"/>
                    </a:lnTo>
                    <a:lnTo>
                      <a:pt x="53" y="356"/>
                    </a:lnTo>
                    <a:lnTo>
                      <a:pt x="48" y="348"/>
                    </a:lnTo>
                    <a:lnTo>
                      <a:pt x="43" y="338"/>
                    </a:lnTo>
                    <a:lnTo>
                      <a:pt x="38" y="329"/>
                    </a:lnTo>
                    <a:lnTo>
                      <a:pt x="33" y="319"/>
                    </a:lnTo>
                    <a:lnTo>
                      <a:pt x="30" y="310"/>
                    </a:lnTo>
                    <a:lnTo>
                      <a:pt x="26" y="299"/>
                    </a:lnTo>
                    <a:lnTo>
                      <a:pt x="24" y="289"/>
                    </a:lnTo>
                    <a:lnTo>
                      <a:pt x="21" y="278"/>
                    </a:lnTo>
                    <a:lnTo>
                      <a:pt x="19" y="268"/>
                    </a:lnTo>
                    <a:lnTo>
                      <a:pt x="18" y="257"/>
                    </a:lnTo>
                    <a:lnTo>
                      <a:pt x="17" y="246"/>
                    </a:lnTo>
                    <a:lnTo>
                      <a:pt x="17" y="234"/>
                    </a:lnTo>
                    <a:lnTo>
                      <a:pt x="17" y="224"/>
                    </a:lnTo>
                    <a:lnTo>
                      <a:pt x="18" y="212"/>
                    </a:lnTo>
                    <a:lnTo>
                      <a:pt x="19" y="202"/>
                    </a:lnTo>
                    <a:lnTo>
                      <a:pt x="21" y="191"/>
                    </a:lnTo>
                    <a:lnTo>
                      <a:pt x="24" y="181"/>
                    </a:lnTo>
                    <a:lnTo>
                      <a:pt x="26" y="170"/>
                    </a:lnTo>
                    <a:lnTo>
                      <a:pt x="30" y="160"/>
                    </a:lnTo>
                    <a:lnTo>
                      <a:pt x="33" y="150"/>
                    </a:lnTo>
                    <a:lnTo>
                      <a:pt x="43" y="131"/>
                    </a:lnTo>
                    <a:lnTo>
                      <a:pt x="53" y="113"/>
                    </a:lnTo>
                    <a:lnTo>
                      <a:pt x="66" y="96"/>
                    </a:lnTo>
                    <a:lnTo>
                      <a:pt x="81" y="81"/>
                    </a:lnTo>
                    <a:lnTo>
                      <a:pt x="97" y="66"/>
                    </a:lnTo>
                    <a:lnTo>
                      <a:pt x="112" y="54"/>
                    </a:lnTo>
                    <a:lnTo>
                      <a:pt x="131" y="43"/>
                    </a:lnTo>
                    <a:lnTo>
                      <a:pt x="150" y="34"/>
                    </a:lnTo>
                    <a:lnTo>
                      <a:pt x="160" y="31"/>
                    </a:lnTo>
                    <a:lnTo>
                      <a:pt x="170" y="26"/>
                    </a:lnTo>
                    <a:lnTo>
                      <a:pt x="181" y="24"/>
                    </a:lnTo>
                    <a:lnTo>
                      <a:pt x="191" y="21"/>
                    </a:lnTo>
                    <a:lnTo>
                      <a:pt x="202" y="19"/>
                    </a:lnTo>
                    <a:lnTo>
                      <a:pt x="212" y="18"/>
                    </a:lnTo>
                    <a:lnTo>
                      <a:pt x="224" y="17"/>
                    </a:lnTo>
                    <a:lnTo>
                      <a:pt x="234" y="17"/>
                    </a:lnTo>
                    <a:lnTo>
                      <a:pt x="246" y="17"/>
                    </a:lnTo>
                    <a:lnTo>
                      <a:pt x="257" y="18"/>
                    </a:lnTo>
                    <a:lnTo>
                      <a:pt x="268" y="19"/>
                    </a:lnTo>
                    <a:lnTo>
                      <a:pt x="278" y="21"/>
                    </a:lnTo>
                    <a:lnTo>
                      <a:pt x="289" y="24"/>
                    </a:lnTo>
                    <a:lnTo>
                      <a:pt x="299" y="26"/>
                    </a:lnTo>
                    <a:lnTo>
                      <a:pt x="310" y="31"/>
                    </a:lnTo>
                    <a:lnTo>
                      <a:pt x="319" y="34"/>
                    </a:lnTo>
                    <a:lnTo>
                      <a:pt x="338" y="43"/>
                    </a:lnTo>
                    <a:lnTo>
                      <a:pt x="356" y="54"/>
                    </a:lnTo>
                    <a:lnTo>
                      <a:pt x="373" y="66"/>
                    </a:lnTo>
                    <a:lnTo>
                      <a:pt x="389" y="81"/>
                    </a:lnTo>
                    <a:lnTo>
                      <a:pt x="402" y="96"/>
                    </a:lnTo>
                    <a:lnTo>
                      <a:pt x="415" y="113"/>
                    </a:lnTo>
                    <a:lnTo>
                      <a:pt x="427" y="131"/>
                    </a:lnTo>
                    <a:lnTo>
                      <a:pt x="435" y="150"/>
                    </a:lnTo>
                    <a:lnTo>
                      <a:pt x="439" y="160"/>
                    </a:lnTo>
                    <a:lnTo>
                      <a:pt x="442" y="170"/>
                    </a:lnTo>
                    <a:lnTo>
                      <a:pt x="446" y="181"/>
                    </a:lnTo>
                    <a:lnTo>
                      <a:pt x="449" y="191"/>
                    </a:lnTo>
                    <a:lnTo>
                      <a:pt x="450" y="202"/>
                    </a:lnTo>
                    <a:lnTo>
                      <a:pt x="452" y="212"/>
                    </a:lnTo>
                    <a:lnTo>
                      <a:pt x="452" y="224"/>
                    </a:lnTo>
                    <a:lnTo>
                      <a:pt x="453" y="23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945040" y="2625840"/>
                <a:ext cx="144720" cy="144360"/>
              </a:xfrm>
              <a:custGeom>
                <a:avLst/>
                <a:gdLst/>
                <a:ahLst/>
                <a:rect l="l" t="t" r="r" b="b"/>
                <a:pathLst>
                  <a:path w="453" h="452">
                    <a:moveTo>
                      <a:pt x="453" y="225"/>
                    </a:moveTo>
                    <a:lnTo>
                      <a:pt x="452" y="214"/>
                    </a:lnTo>
                    <a:lnTo>
                      <a:pt x="452" y="202"/>
                    </a:lnTo>
                    <a:lnTo>
                      <a:pt x="450" y="192"/>
                    </a:lnTo>
                    <a:lnTo>
                      <a:pt x="448" y="180"/>
                    </a:lnTo>
                    <a:lnTo>
                      <a:pt x="446" y="170"/>
                    </a:lnTo>
                    <a:lnTo>
                      <a:pt x="443" y="158"/>
                    </a:lnTo>
                    <a:lnTo>
                      <a:pt x="440" y="148"/>
                    </a:lnTo>
                    <a:lnTo>
                      <a:pt x="435" y="138"/>
                    </a:lnTo>
                    <a:lnTo>
                      <a:pt x="430" y="128"/>
                    </a:lnTo>
                    <a:lnTo>
                      <a:pt x="426" y="118"/>
                    </a:lnTo>
                    <a:lnTo>
                      <a:pt x="420" y="109"/>
                    </a:lnTo>
                    <a:lnTo>
                      <a:pt x="414" y="99"/>
                    </a:lnTo>
                    <a:lnTo>
                      <a:pt x="401" y="81"/>
                    </a:lnTo>
                    <a:lnTo>
                      <a:pt x="387" y="66"/>
                    </a:lnTo>
                    <a:lnTo>
                      <a:pt x="370" y="51"/>
                    </a:lnTo>
                    <a:lnTo>
                      <a:pt x="353" y="38"/>
                    </a:lnTo>
                    <a:lnTo>
                      <a:pt x="344" y="32"/>
                    </a:lnTo>
                    <a:lnTo>
                      <a:pt x="335" y="27"/>
                    </a:lnTo>
                    <a:lnTo>
                      <a:pt x="325" y="22"/>
                    </a:lnTo>
                    <a:lnTo>
                      <a:pt x="315" y="17"/>
                    </a:lnTo>
                    <a:lnTo>
                      <a:pt x="304" y="13"/>
                    </a:lnTo>
                    <a:lnTo>
                      <a:pt x="294" y="10"/>
                    </a:lnTo>
                    <a:lnTo>
                      <a:pt x="283" y="7"/>
                    </a:lnTo>
                    <a:lnTo>
                      <a:pt x="272" y="4"/>
                    </a:lnTo>
                    <a:lnTo>
                      <a:pt x="261" y="3"/>
                    </a:lnTo>
                    <a:lnTo>
                      <a:pt x="249" y="1"/>
                    </a:lnTo>
                    <a:lnTo>
                      <a:pt x="238" y="0"/>
                    </a:lnTo>
                    <a:lnTo>
                      <a:pt x="226" y="0"/>
                    </a:lnTo>
                    <a:lnTo>
                      <a:pt x="215" y="0"/>
                    </a:lnTo>
                    <a:lnTo>
                      <a:pt x="203" y="1"/>
                    </a:lnTo>
                    <a:lnTo>
                      <a:pt x="193" y="3"/>
                    </a:lnTo>
                    <a:lnTo>
                      <a:pt x="181" y="4"/>
                    </a:lnTo>
                    <a:lnTo>
                      <a:pt x="171" y="7"/>
                    </a:lnTo>
                    <a:lnTo>
                      <a:pt x="159" y="10"/>
                    </a:lnTo>
                    <a:lnTo>
                      <a:pt x="148" y="13"/>
                    </a:lnTo>
                    <a:lnTo>
                      <a:pt x="139" y="17"/>
                    </a:lnTo>
                    <a:lnTo>
                      <a:pt x="128" y="22"/>
                    </a:lnTo>
                    <a:lnTo>
                      <a:pt x="119" y="27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2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6"/>
                    </a:lnTo>
                    <a:lnTo>
                      <a:pt x="59" y="74"/>
                    </a:lnTo>
                    <a:lnTo>
                      <a:pt x="52" y="81"/>
                    </a:lnTo>
                    <a:lnTo>
                      <a:pt x="45" y="91"/>
                    </a:lnTo>
                    <a:lnTo>
                      <a:pt x="39" y="99"/>
                    </a:lnTo>
                    <a:lnTo>
                      <a:pt x="33" y="109"/>
                    </a:lnTo>
                    <a:lnTo>
                      <a:pt x="28" y="118"/>
                    </a:lnTo>
                    <a:lnTo>
                      <a:pt x="22" y="128"/>
                    </a:lnTo>
                    <a:lnTo>
                      <a:pt x="18" y="138"/>
                    </a:lnTo>
                    <a:lnTo>
                      <a:pt x="14" y="148"/>
                    </a:lnTo>
                    <a:lnTo>
                      <a:pt x="11" y="158"/>
                    </a:lnTo>
                    <a:lnTo>
                      <a:pt x="8" y="170"/>
                    </a:lnTo>
                    <a:lnTo>
                      <a:pt x="4" y="180"/>
                    </a:lnTo>
                    <a:lnTo>
                      <a:pt x="3" y="192"/>
                    </a:lnTo>
                    <a:lnTo>
                      <a:pt x="1" y="202"/>
                    </a:lnTo>
                    <a:lnTo>
                      <a:pt x="0" y="214"/>
                    </a:lnTo>
                    <a:lnTo>
                      <a:pt x="0" y="225"/>
                    </a:lnTo>
                    <a:lnTo>
                      <a:pt x="0" y="237"/>
                    </a:lnTo>
                    <a:lnTo>
                      <a:pt x="1" y="248"/>
                    </a:lnTo>
                    <a:lnTo>
                      <a:pt x="3" y="260"/>
                    </a:lnTo>
                    <a:lnTo>
                      <a:pt x="4" y="272"/>
                    </a:lnTo>
                    <a:lnTo>
                      <a:pt x="8" y="282"/>
                    </a:lnTo>
                    <a:lnTo>
                      <a:pt x="11" y="293"/>
                    </a:lnTo>
                    <a:lnTo>
                      <a:pt x="14" y="303"/>
                    </a:lnTo>
                    <a:lnTo>
                      <a:pt x="18" y="314"/>
                    </a:lnTo>
                    <a:lnTo>
                      <a:pt x="22" y="324"/>
                    </a:lnTo>
                    <a:lnTo>
                      <a:pt x="28" y="333"/>
                    </a:lnTo>
                    <a:lnTo>
                      <a:pt x="33" y="343"/>
                    </a:lnTo>
                    <a:lnTo>
                      <a:pt x="39" y="352"/>
                    </a:lnTo>
                    <a:lnTo>
                      <a:pt x="45" y="361"/>
                    </a:lnTo>
                    <a:lnTo>
                      <a:pt x="52" y="369"/>
                    </a:lnTo>
                    <a:lnTo>
                      <a:pt x="59" y="378"/>
                    </a:lnTo>
                    <a:lnTo>
                      <a:pt x="66" y="386"/>
                    </a:lnTo>
                    <a:lnTo>
                      <a:pt x="75" y="393"/>
                    </a:lnTo>
                    <a:lnTo>
                      <a:pt x="82" y="400"/>
                    </a:lnTo>
                    <a:lnTo>
                      <a:pt x="92" y="407"/>
                    </a:lnTo>
                    <a:lnTo>
                      <a:pt x="100" y="413"/>
                    </a:lnTo>
                    <a:lnTo>
                      <a:pt x="110" y="419"/>
                    </a:lnTo>
                    <a:lnTo>
                      <a:pt x="119" y="425"/>
                    </a:lnTo>
                    <a:lnTo>
                      <a:pt x="128" y="429"/>
                    </a:lnTo>
                    <a:lnTo>
                      <a:pt x="139" y="434"/>
                    </a:lnTo>
                    <a:lnTo>
                      <a:pt x="148" y="438"/>
                    </a:lnTo>
                    <a:lnTo>
                      <a:pt x="159" y="442"/>
                    </a:lnTo>
                    <a:lnTo>
                      <a:pt x="171" y="445"/>
                    </a:lnTo>
                    <a:lnTo>
                      <a:pt x="181" y="447"/>
                    </a:lnTo>
                    <a:lnTo>
                      <a:pt x="193" y="449"/>
                    </a:lnTo>
                    <a:lnTo>
                      <a:pt x="203" y="451"/>
                    </a:lnTo>
                    <a:lnTo>
                      <a:pt x="215" y="451"/>
                    </a:lnTo>
                    <a:lnTo>
                      <a:pt x="226" y="452"/>
                    </a:lnTo>
                    <a:lnTo>
                      <a:pt x="238" y="451"/>
                    </a:lnTo>
                    <a:lnTo>
                      <a:pt x="249" y="451"/>
                    </a:lnTo>
                    <a:lnTo>
                      <a:pt x="261" y="449"/>
                    </a:lnTo>
                    <a:lnTo>
                      <a:pt x="272" y="447"/>
                    </a:lnTo>
                    <a:lnTo>
                      <a:pt x="283" y="445"/>
                    </a:lnTo>
                    <a:lnTo>
                      <a:pt x="294" y="442"/>
                    </a:lnTo>
                    <a:lnTo>
                      <a:pt x="304" y="438"/>
                    </a:lnTo>
                    <a:lnTo>
                      <a:pt x="315" y="434"/>
                    </a:lnTo>
                    <a:lnTo>
                      <a:pt x="325" y="429"/>
                    </a:lnTo>
                    <a:lnTo>
                      <a:pt x="335" y="425"/>
                    </a:lnTo>
                    <a:lnTo>
                      <a:pt x="344" y="419"/>
                    </a:lnTo>
                    <a:lnTo>
                      <a:pt x="353" y="413"/>
                    </a:lnTo>
                    <a:lnTo>
                      <a:pt x="362" y="407"/>
                    </a:lnTo>
                    <a:lnTo>
                      <a:pt x="370" y="400"/>
                    </a:lnTo>
                    <a:lnTo>
                      <a:pt x="379" y="393"/>
                    </a:lnTo>
                    <a:lnTo>
                      <a:pt x="387" y="386"/>
                    </a:lnTo>
                    <a:lnTo>
                      <a:pt x="394" y="378"/>
                    </a:lnTo>
                    <a:lnTo>
                      <a:pt x="401" y="369"/>
                    </a:lnTo>
                    <a:lnTo>
                      <a:pt x="408" y="361"/>
                    </a:lnTo>
                    <a:lnTo>
                      <a:pt x="414" y="352"/>
                    </a:lnTo>
                    <a:lnTo>
                      <a:pt x="420" y="343"/>
                    </a:lnTo>
                    <a:lnTo>
                      <a:pt x="426" y="333"/>
                    </a:lnTo>
                    <a:lnTo>
                      <a:pt x="430" y="324"/>
                    </a:lnTo>
                    <a:lnTo>
                      <a:pt x="435" y="314"/>
                    </a:lnTo>
                    <a:lnTo>
                      <a:pt x="440" y="303"/>
                    </a:lnTo>
                    <a:lnTo>
                      <a:pt x="443" y="293"/>
                    </a:lnTo>
                    <a:lnTo>
                      <a:pt x="446" y="282"/>
                    </a:lnTo>
                    <a:lnTo>
                      <a:pt x="448" y="272"/>
                    </a:lnTo>
                    <a:lnTo>
                      <a:pt x="450" y="260"/>
                    </a:lnTo>
                    <a:lnTo>
                      <a:pt x="452" y="248"/>
                    </a:lnTo>
                    <a:lnTo>
                      <a:pt x="452" y="237"/>
                    </a:lnTo>
                    <a:lnTo>
                      <a:pt x="453" y="225"/>
                    </a:lnTo>
                    <a:close/>
                    <a:moveTo>
                      <a:pt x="436" y="225"/>
                    </a:moveTo>
                    <a:lnTo>
                      <a:pt x="435" y="237"/>
                    </a:lnTo>
                    <a:lnTo>
                      <a:pt x="435" y="247"/>
                    </a:lnTo>
                    <a:lnTo>
                      <a:pt x="433" y="258"/>
                    </a:lnTo>
                    <a:lnTo>
                      <a:pt x="432" y="268"/>
                    </a:lnTo>
                    <a:lnTo>
                      <a:pt x="427" y="288"/>
                    </a:lnTo>
                    <a:lnTo>
                      <a:pt x="420" y="307"/>
                    </a:lnTo>
                    <a:lnTo>
                      <a:pt x="411" y="325"/>
                    </a:lnTo>
                    <a:lnTo>
                      <a:pt x="401" y="343"/>
                    </a:lnTo>
                    <a:lnTo>
                      <a:pt x="388" y="359"/>
                    </a:lnTo>
                    <a:lnTo>
                      <a:pt x="374" y="373"/>
                    </a:lnTo>
                    <a:lnTo>
                      <a:pt x="360" y="387"/>
                    </a:lnTo>
                    <a:lnTo>
                      <a:pt x="344" y="400"/>
                    </a:lnTo>
                    <a:lnTo>
                      <a:pt x="326" y="410"/>
                    </a:lnTo>
                    <a:lnTo>
                      <a:pt x="308" y="419"/>
                    </a:lnTo>
                    <a:lnTo>
                      <a:pt x="299" y="423"/>
                    </a:lnTo>
                    <a:lnTo>
                      <a:pt x="289" y="426"/>
                    </a:lnTo>
                    <a:lnTo>
                      <a:pt x="279" y="428"/>
                    </a:lnTo>
                    <a:lnTo>
                      <a:pt x="269" y="431"/>
                    </a:lnTo>
                    <a:lnTo>
                      <a:pt x="259" y="432"/>
                    </a:lnTo>
                    <a:lnTo>
                      <a:pt x="248" y="434"/>
                    </a:lnTo>
                    <a:lnTo>
                      <a:pt x="238" y="434"/>
                    </a:lnTo>
                    <a:lnTo>
                      <a:pt x="226" y="435"/>
                    </a:lnTo>
                    <a:lnTo>
                      <a:pt x="216" y="434"/>
                    </a:lnTo>
                    <a:lnTo>
                      <a:pt x="205" y="434"/>
                    </a:lnTo>
                    <a:lnTo>
                      <a:pt x="195" y="432"/>
                    </a:lnTo>
                    <a:lnTo>
                      <a:pt x="184" y="431"/>
                    </a:lnTo>
                    <a:lnTo>
                      <a:pt x="175" y="428"/>
                    </a:lnTo>
                    <a:lnTo>
                      <a:pt x="164" y="426"/>
                    </a:lnTo>
                    <a:lnTo>
                      <a:pt x="155" y="423"/>
                    </a:lnTo>
                    <a:lnTo>
                      <a:pt x="145" y="419"/>
                    </a:lnTo>
                    <a:lnTo>
                      <a:pt x="126" y="410"/>
                    </a:lnTo>
                    <a:lnTo>
                      <a:pt x="110" y="400"/>
                    </a:lnTo>
                    <a:lnTo>
                      <a:pt x="94" y="387"/>
                    </a:lnTo>
                    <a:lnTo>
                      <a:pt x="78" y="373"/>
                    </a:lnTo>
                    <a:lnTo>
                      <a:pt x="65" y="359"/>
                    </a:lnTo>
                    <a:lnTo>
                      <a:pt x="53" y="343"/>
                    </a:lnTo>
                    <a:lnTo>
                      <a:pt x="42" y="325"/>
                    </a:lnTo>
                    <a:lnTo>
                      <a:pt x="34" y="307"/>
                    </a:lnTo>
                    <a:lnTo>
                      <a:pt x="30" y="298"/>
                    </a:lnTo>
                    <a:lnTo>
                      <a:pt x="27" y="288"/>
                    </a:lnTo>
                    <a:lnTo>
                      <a:pt x="23" y="278"/>
                    </a:lnTo>
                    <a:lnTo>
                      <a:pt x="21" y="268"/>
                    </a:lnTo>
                    <a:lnTo>
                      <a:pt x="19" y="258"/>
                    </a:lnTo>
                    <a:lnTo>
                      <a:pt x="18" y="247"/>
                    </a:lnTo>
                    <a:lnTo>
                      <a:pt x="17" y="237"/>
                    </a:lnTo>
                    <a:lnTo>
                      <a:pt x="17" y="225"/>
                    </a:lnTo>
                    <a:lnTo>
                      <a:pt x="17" y="215"/>
                    </a:lnTo>
                    <a:lnTo>
                      <a:pt x="18" y="204"/>
                    </a:lnTo>
                    <a:lnTo>
                      <a:pt x="19" y="194"/>
                    </a:lnTo>
                    <a:lnTo>
                      <a:pt x="21" y="183"/>
                    </a:lnTo>
                    <a:lnTo>
                      <a:pt x="23" y="174"/>
                    </a:lnTo>
                    <a:lnTo>
                      <a:pt x="27" y="163"/>
                    </a:lnTo>
                    <a:lnTo>
                      <a:pt x="30" y="154"/>
                    </a:lnTo>
                    <a:lnTo>
                      <a:pt x="34" y="144"/>
                    </a:lnTo>
                    <a:lnTo>
                      <a:pt x="42" y="126"/>
                    </a:lnTo>
                    <a:lnTo>
                      <a:pt x="53" y="109"/>
                    </a:lnTo>
                    <a:lnTo>
                      <a:pt x="65" y="93"/>
                    </a:lnTo>
                    <a:lnTo>
                      <a:pt x="78" y="77"/>
                    </a:lnTo>
                    <a:lnTo>
                      <a:pt x="94" y="65"/>
                    </a:lnTo>
                    <a:lnTo>
                      <a:pt x="110" y="52"/>
                    </a:lnTo>
                    <a:lnTo>
                      <a:pt x="126" y="42"/>
                    </a:lnTo>
                    <a:lnTo>
                      <a:pt x="145" y="33"/>
                    </a:lnTo>
                    <a:lnTo>
                      <a:pt x="164" y="26"/>
                    </a:lnTo>
                    <a:lnTo>
                      <a:pt x="184" y="21"/>
                    </a:lnTo>
                    <a:lnTo>
                      <a:pt x="195" y="18"/>
                    </a:lnTo>
                    <a:lnTo>
                      <a:pt x="205" y="17"/>
                    </a:lnTo>
                    <a:lnTo>
                      <a:pt x="216" y="16"/>
                    </a:lnTo>
                    <a:lnTo>
                      <a:pt x="226" y="16"/>
                    </a:lnTo>
                    <a:lnTo>
                      <a:pt x="238" y="16"/>
                    </a:lnTo>
                    <a:lnTo>
                      <a:pt x="248" y="17"/>
                    </a:lnTo>
                    <a:lnTo>
                      <a:pt x="259" y="18"/>
                    </a:lnTo>
                    <a:lnTo>
                      <a:pt x="269" y="21"/>
                    </a:lnTo>
                    <a:lnTo>
                      <a:pt x="289" y="26"/>
                    </a:lnTo>
                    <a:lnTo>
                      <a:pt x="308" y="33"/>
                    </a:lnTo>
                    <a:lnTo>
                      <a:pt x="326" y="42"/>
                    </a:lnTo>
                    <a:lnTo>
                      <a:pt x="344" y="52"/>
                    </a:lnTo>
                    <a:lnTo>
                      <a:pt x="360" y="65"/>
                    </a:lnTo>
                    <a:lnTo>
                      <a:pt x="374" y="77"/>
                    </a:lnTo>
                    <a:lnTo>
                      <a:pt x="388" y="93"/>
                    </a:lnTo>
                    <a:lnTo>
                      <a:pt x="401" y="109"/>
                    </a:lnTo>
                    <a:lnTo>
                      <a:pt x="411" y="126"/>
                    </a:lnTo>
                    <a:lnTo>
                      <a:pt x="420" y="144"/>
                    </a:lnTo>
                    <a:lnTo>
                      <a:pt x="427" y="163"/>
                    </a:lnTo>
                    <a:lnTo>
                      <a:pt x="432" y="183"/>
                    </a:lnTo>
                    <a:lnTo>
                      <a:pt x="433" y="194"/>
                    </a:lnTo>
                    <a:lnTo>
                      <a:pt x="435" y="204"/>
                    </a:lnTo>
                    <a:lnTo>
                      <a:pt x="435" y="215"/>
                    </a:lnTo>
                    <a:lnTo>
                      <a:pt x="436" y="225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948280" y="262908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436" h="436">
                    <a:moveTo>
                      <a:pt x="436" y="217"/>
                    </a:moveTo>
                    <a:lnTo>
                      <a:pt x="435" y="207"/>
                    </a:lnTo>
                    <a:lnTo>
                      <a:pt x="435" y="195"/>
                    </a:lnTo>
                    <a:lnTo>
                      <a:pt x="433" y="185"/>
                    </a:lnTo>
                    <a:lnTo>
                      <a:pt x="432" y="174"/>
                    </a:lnTo>
                    <a:lnTo>
                      <a:pt x="429" y="164"/>
                    </a:lnTo>
                    <a:lnTo>
                      <a:pt x="425" y="153"/>
                    </a:lnTo>
                    <a:lnTo>
                      <a:pt x="422" y="143"/>
                    </a:lnTo>
                    <a:lnTo>
                      <a:pt x="418" y="133"/>
                    </a:lnTo>
                    <a:lnTo>
                      <a:pt x="410" y="114"/>
                    </a:lnTo>
                    <a:lnTo>
                      <a:pt x="398" y="96"/>
                    </a:lnTo>
                    <a:lnTo>
                      <a:pt x="385" y="79"/>
                    </a:lnTo>
                    <a:lnTo>
                      <a:pt x="372" y="64"/>
                    </a:lnTo>
                    <a:lnTo>
                      <a:pt x="356" y="49"/>
                    </a:lnTo>
                    <a:lnTo>
                      <a:pt x="339" y="37"/>
                    </a:lnTo>
                    <a:lnTo>
                      <a:pt x="321" y="26"/>
                    </a:lnTo>
                    <a:lnTo>
                      <a:pt x="302" y="17"/>
                    </a:lnTo>
                    <a:lnTo>
                      <a:pt x="293" y="14"/>
                    </a:lnTo>
                    <a:lnTo>
                      <a:pt x="282" y="9"/>
                    </a:lnTo>
                    <a:lnTo>
                      <a:pt x="272" y="7"/>
                    </a:lnTo>
                    <a:lnTo>
                      <a:pt x="261" y="4"/>
                    </a:lnTo>
                    <a:lnTo>
                      <a:pt x="251" y="2"/>
                    </a:lnTo>
                    <a:lnTo>
                      <a:pt x="240" y="1"/>
                    </a:lnTo>
                    <a:lnTo>
                      <a:pt x="229" y="0"/>
                    </a:lnTo>
                    <a:lnTo>
                      <a:pt x="217" y="0"/>
                    </a:lnTo>
                    <a:lnTo>
                      <a:pt x="207" y="0"/>
                    </a:lnTo>
                    <a:lnTo>
                      <a:pt x="195" y="1"/>
                    </a:lnTo>
                    <a:lnTo>
                      <a:pt x="185" y="2"/>
                    </a:lnTo>
                    <a:lnTo>
                      <a:pt x="174" y="4"/>
                    </a:lnTo>
                    <a:lnTo>
                      <a:pt x="164" y="7"/>
                    </a:lnTo>
                    <a:lnTo>
                      <a:pt x="153" y="9"/>
                    </a:lnTo>
                    <a:lnTo>
                      <a:pt x="143" y="14"/>
                    </a:lnTo>
                    <a:lnTo>
                      <a:pt x="133" y="17"/>
                    </a:lnTo>
                    <a:lnTo>
                      <a:pt x="114" y="26"/>
                    </a:lnTo>
                    <a:lnTo>
                      <a:pt x="95" y="37"/>
                    </a:lnTo>
                    <a:lnTo>
                      <a:pt x="80" y="49"/>
                    </a:lnTo>
                    <a:lnTo>
                      <a:pt x="64" y="64"/>
                    </a:lnTo>
                    <a:lnTo>
                      <a:pt x="49" y="79"/>
                    </a:lnTo>
                    <a:lnTo>
                      <a:pt x="36" y="96"/>
                    </a:lnTo>
                    <a:lnTo>
                      <a:pt x="26" y="114"/>
                    </a:lnTo>
                    <a:lnTo>
                      <a:pt x="16" y="133"/>
                    </a:lnTo>
                    <a:lnTo>
                      <a:pt x="13" y="143"/>
                    </a:lnTo>
                    <a:lnTo>
                      <a:pt x="9" y="153"/>
                    </a:lnTo>
                    <a:lnTo>
                      <a:pt x="7" y="164"/>
                    </a:lnTo>
                    <a:lnTo>
                      <a:pt x="4" y="174"/>
                    </a:lnTo>
                    <a:lnTo>
                      <a:pt x="2" y="185"/>
                    </a:lnTo>
                    <a:lnTo>
                      <a:pt x="1" y="195"/>
                    </a:lnTo>
                    <a:lnTo>
                      <a:pt x="0" y="207"/>
                    </a:lnTo>
                    <a:lnTo>
                      <a:pt x="0" y="217"/>
                    </a:lnTo>
                    <a:lnTo>
                      <a:pt x="0" y="229"/>
                    </a:lnTo>
                    <a:lnTo>
                      <a:pt x="1" y="240"/>
                    </a:lnTo>
                    <a:lnTo>
                      <a:pt x="2" y="251"/>
                    </a:lnTo>
                    <a:lnTo>
                      <a:pt x="4" y="261"/>
                    </a:lnTo>
                    <a:lnTo>
                      <a:pt x="7" y="272"/>
                    </a:lnTo>
                    <a:lnTo>
                      <a:pt x="9" y="282"/>
                    </a:lnTo>
                    <a:lnTo>
                      <a:pt x="13" y="293"/>
                    </a:lnTo>
                    <a:lnTo>
                      <a:pt x="16" y="302"/>
                    </a:lnTo>
                    <a:lnTo>
                      <a:pt x="21" y="312"/>
                    </a:lnTo>
                    <a:lnTo>
                      <a:pt x="26" y="321"/>
                    </a:lnTo>
                    <a:lnTo>
                      <a:pt x="31" y="331"/>
                    </a:lnTo>
                    <a:lnTo>
                      <a:pt x="36" y="339"/>
                    </a:lnTo>
                    <a:lnTo>
                      <a:pt x="43" y="348"/>
                    </a:lnTo>
                    <a:lnTo>
                      <a:pt x="49" y="356"/>
                    </a:lnTo>
                    <a:lnTo>
                      <a:pt x="56" y="364"/>
                    </a:lnTo>
                    <a:lnTo>
                      <a:pt x="64" y="372"/>
                    </a:lnTo>
                    <a:lnTo>
                      <a:pt x="71" y="379"/>
                    </a:lnTo>
                    <a:lnTo>
                      <a:pt x="80" y="385"/>
                    </a:lnTo>
                    <a:lnTo>
                      <a:pt x="87" y="393"/>
                    </a:lnTo>
                    <a:lnTo>
                      <a:pt x="95" y="398"/>
                    </a:lnTo>
                    <a:lnTo>
                      <a:pt x="105" y="404"/>
                    </a:lnTo>
                    <a:lnTo>
                      <a:pt x="114" y="409"/>
                    </a:lnTo>
                    <a:lnTo>
                      <a:pt x="123" y="414"/>
                    </a:lnTo>
                    <a:lnTo>
                      <a:pt x="133" y="418"/>
                    </a:lnTo>
                    <a:lnTo>
                      <a:pt x="143" y="422"/>
                    </a:lnTo>
                    <a:lnTo>
                      <a:pt x="153" y="425"/>
                    </a:lnTo>
                    <a:lnTo>
                      <a:pt x="164" y="428"/>
                    </a:lnTo>
                    <a:lnTo>
                      <a:pt x="174" y="430"/>
                    </a:lnTo>
                    <a:lnTo>
                      <a:pt x="185" y="433"/>
                    </a:lnTo>
                    <a:lnTo>
                      <a:pt x="195" y="435"/>
                    </a:lnTo>
                    <a:lnTo>
                      <a:pt x="207" y="435"/>
                    </a:lnTo>
                    <a:lnTo>
                      <a:pt x="217" y="436"/>
                    </a:lnTo>
                    <a:lnTo>
                      <a:pt x="229" y="435"/>
                    </a:lnTo>
                    <a:lnTo>
                      <a:pt x="240" y="435"/>
                    </a:lnTo>
                    <a:lnTo>
                      <a:pt x="251" y="433"/>
                    </a:lnTo>
                    <a:lnTo>
                      <a:pt x="261" y="430"/>
                    </a:lnTo>
                    <a:lnTo>
                      <a:pt x="272" y="428"/>
                    </a:lnTo>
                    <a:lnTo>
                      <a:pt x="282" y="425"/>
                    </a:lnTo>
                    <a:lnTo>
                      <a:pt x="293" y="422"/>
                    </a:lnTo>
                    <a:lnTo>
                      <a:pt x="302" y="418"/>
                    </a:lnTo>
                    <a:lnTo>
                      <a:pt x="321" y="409"/>
                    </a:lnTo>
                    <a:lnTo>
                      <a:pt x="339" y="398"/>
                    </a:lnTo>
                    <a:lnTo>
                      <a:pt x="356" y="385"/>
                    </a:lnTo>
                    <a:lnTo>
                      <a:pt x="372" y="372"/>
                    </a:lnTo>
                    <a:lnTo>
                      <a:pt x="385" y="356"/>
                    </a:lnTo>
                    <a:lnTo>
                      <a:pt x="398" y="339"/>
                    </a:lnTo>
                    <a:lnTo>
                      <a:pt x="410" y="321"/>
                    </a:lnTo>
                    <a:lnTo>
                      <a:pt x="418" y="302"/>
                    </a:lnTo>
                    <a:lnTo>
                      <a:pt x="422" y="293"/>
                    </a:lnTo>
                    <a:lnTo>
                      <a:pt x="425" y="282"/>
                    </a:lnTo>
                    <a:lnTo>
                      <a:pt x="429" y="272"/>
                    </a:lnTo>
                    <a:lnTo>
                      <a:pt x="432" y="261"/>
                    </a:lnTo>
                    <a:lnTo>
                      <a:pt x="433" y="251"/>
                    </a:lnTo>
                    <a:lnTo>
                      <a:pt x="435" y="240"/>
                    </a:lnTo>
                    <a:lnTo>
                      <a:pt x="435" y="229"/>
                    </a:lnTo>
                    <a:lnTo>
                      <a:pt x="436" y="217"/>
                    </a:lnTo>
                    <a:close/>
                    <a:moveTo>
                      <a:pt x="419" y="217"/>
                    </a:moveTo>
                    <a:lnTo>
                      <a:pt x="418" y="238"/>
                    </a:lnTo>
                    <a:lnTo>
                      <a:pt x="415" y="258"/>
                    </a:lnTo>
                    <a:lnTo>
                      <a:pt x="410" y="277"/>
                    </a:lnTo>
                    <a:lnTo>
                      <a:pt x="403" y="296"/>
                    </a:lnTo>
                    <a:lnTo>
                      <a:pt x="395" y="314"/>
                    </a:lnTo>
                    <a:lnTo>
                      <a:pt x="384" y="330"/>
                    </a:lnTo>
                    <a:lnTo>
                      <a:pt x="373" y="345"/>
                    </a:lnTo>
                    <a:lnTo>
                      <a:pt x="360" y="360"/>
                    </a:lnTo>
                    <a:lnTo>
                      <a:pt x="345" y="373"/>
                    </a:lnTo>
                    <a:lnTo>
                      <a:pt x="330" y="384"/>
                    </a:lnTo>
                    <a:lnTo>
                      <a:pt x="314" y="395"/>
                    </a:lnTo>
                    <a:lnTo>
                      <a:pt x="296" y="403"/>
                    </a:lnTo>
                    <a:lnTo>
                      <a:pt x="277" y="409"/>
                    </a:lnTo>
                    <a:lnTo>
                      <a:pt x="258" y="415"/>
                    </a:lnTo>
                    <a:lnTo>
                      <a:pt x="248" y="417"/>
                    </a:lnTo>
                    <a:lnTo>
                      <a:pt x="238" y="418"/>
                    </a:lnTo>
                    <a:lnTo>
                      <a:pt x="228" y="418"/>
                    </a:lnTo>
                    <a:lnTo>
                      <a:pt x="217" y="419"/>
                    </a:lnTo>
                    <a:lnTo>
                      <a:pt x="208" y="418"/>
                    </a:lnTo>
                    <a:lnTo>
                      <a:pt x="197" y="418"/>
                    </a:lnTo>
                    <a:lnTo>
                      <a:pt x="187" y="417"/>
                    </a:lnTo>
                    <a:lnTo>
                      <a:pt x="177" y="415"/>
                    </a:lnTo>
                    <a:lnTo>
                      <a:pt x="157" y="409"/>
                    </a:lnTo>
                    <a:lnTo>
                      <a:pt x="139" y="403"/>
                    </a:lnTo>
                    <a:lnTo>
                      <a:pt x="122" y="395"/>
                    </a:lnTo>
                    <a:lnTo>
                      <a:pt x="105" y="384"/>
                    </a:lnTo>
                    <a:lnTo>
                      <a:pt x="90" y="373"/>
                    </a:lnTo>
                    <a:lnTo>
                      <a:pt x="75" y="360"/>
                    </a:lnTo>
                    <a:lnTo>
                      <a:pt x="63" y="345"/>
                    </a:lnTo>
                    <a:lnTo>
                      <a:pt x="51" y="330"/>
                    </a:lnTo>
                    <a:lnTo>
                      <a:pt x="41" y="314"/>
                    </a:lnTo>
                    <a:lnTo>
                      <a:pt x="32" y="296"/>
                    </a:lnTo>
                    <a:lnTo>
                      <a:pt x="26" y="277"/>
                    </a:lnTo>
                    <a:lnTo>
                      <a:pt x="21" y="258"/>
                    </a:lnTo>
                    <a:lnTo>
                      <a:pt x="19" y="249"/>
                    </a:lnTo>
                    <a:lnTo>
                      <a:pt x="18" y="238"/>
                    </a:lnTo>
                    <a:lnTo>
                      <a:pt x="16" y="228"/>
                    </a:lnTo>
                    <a:lnTo>
                      <a:pt x="16" y="217"/>
                    </a:lnTo>
                    <a:lnTo>
                      <a:pt x="16" y="207"/>
                    </a:lnTo>
                    <a:lnTo>
                      <a:pt x="18" y="197"/>
                    </a:lnTo>
                    <a:lnTo>
                      <a:pt x="19" y="187"/>
                    </a:lnTo>
                    <a:lnTo>
                      <a:pt x="21" y="177"/>
                    </a:lnTo>
                    <a:lnTo>
                      <a:pt x="26" y="157"/>
                    </a:lnTo>
                    <a:lnTo>
                      <a:pt x="32" y="140"/>
                    </a:lnTo>
                    <a:lnTo>
                      <a:pt x="41" y="122"/>
                    </a:lnTo>
                    <a:lnTo>
                      <a:pt x="51" y="105"/>
                    </a:lnTo>
                    <a:lnTo>
                      <a:pt x="63" y="90"/>
                    </a:lnTo>
                    <a:lnTo>
                      <a:pt x="75" y="76"/>
                    </a:lnTo>
                    <a:lnTo>
                      <a:pt x="90" y="63"/>
                    </a:lnTo>
                    <a:lnTo>
                      <a:pt x="105" y="51"/>
                    </a:lnTo>
                    <a:lnTo>
                      <a:pt x="122" y="41"/>
                    </a:lnTo>
                    <a:lnTo>
                      <a:pt x="139" y="33"/>
                    </a:lnTo>
                    <a:lnTo>
                      <a:pt x="157" y="26"/>
                    </a:lnTo>
                    <a:lnTo>
                      <a:pt x="177" y="21"/>
                    </a:lnTo>
                    <a:lnTo>
                      <a:pt x="197" y="18"/>
                    </a:lnTo>
                    <a:lnTo>
                      <a:pt x="217" y="17"/>
                    </a:lnTo>
                    <a:lnTo>
                      <a:pt x="238" y="18"/>
                    </a:lnTo>
                    <a:lnTo>
                      <a:pt x="258" y="21"/>
                    </a:lnTo>
                    <a:lnTo>
                      <a:pt x="277" y="26"/>
                    </a:lnTo>
                    <a:lnTo>
                      <a:pt x="296" y="33"/>
                    </a:lnTo>
                    <a:lnTo>
                      <a:pt x="314" y="41"/>
                    </a:lnTo>
                    <a:lnTo>
                      <a:pt x="330" y="51"/>
                    </a:lnTo>
                    <a:lnTo>
                      <a:pt x="345" y="63"/>
                    </a:lnTo>
                    <a:lnTo>
                      <a:pt x="360" y="76"/>
                    </a:lnTo>
                    <a:lnTo>
                      <a:pt x="373" y="90"/>
                    </a:lnTo>
                    <a:lnTo>
                      <a:pt x="384" y="105"/>
                    </a:lnTo>
                    <a:lnTo>
                      <a:pt x="395" y="122"/>
                    </a:lnTo>
                    <a:lnTo>
                      <a:pt x="403" y="140"/>
                    </a:lnTo>
                    <a:lnTo>
                      <a:pt x="410" y="157"/>
                    </a:lnTo>
                    <a:lnTo>
                      <a:pt x="415" y="177"/>
                    </a:lnTo>
                    <a:lnTo>
                      <a:pt x="418" y="197"/>
                    </a:lnTo>
                    <a:lnTo>
                      <a:pt x="419" y="217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951520" y="263052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419" h="419">
                    <a:moveTo>
                      <a:pt x="419" y="209"/>
                    </a:moveTo>
                    <a:lnTo>
                      <a:pt x="418" y="199"/>
                    </a:lnTo>
                    <a:lnTo>
                      <a:pt x="418" y="188"/>
                    </a:lnTo>
                    <a:lnTo>
                      <a:pt x="416" y="178"/>
                    </a:lnTo>
                    <a:lnTo>
                      <a:pt x="415" y="167"/>
                    </a:lnTo>
                    <a:lnTo>
                      <a:pt x="410" y="147"/>
                    </a:lnTo>
                    <a:lnTo>
                      <a:pt x="403" y="128"/>
                    </a:lnTo>
                    <a:lnTo>
                      <a:pt x="394" y="110"/>
                    </a:lnTo>
                    <a:lnTo>
                      <a:pt x="384" y="93"/>
                    </a:lnTo>
                    <a:lnTo>
                      <a:pt x="371" y="77"/>
                    </a:lnTo>
                    <a:lnTo>
                      <a:pt x="357" y="61"/>
                    </a:lnTo>
                    <a:lnTo>
                      <a:pt x="343" y="49"/>
                    </a:lnTo>
                    <a:lnTo>
                      <a:pt x="327" y="36"/>
                    </a:lnTo>
                    <a:lnTo>
                      <a:pt x="309" y="26"/>
                    </a:lnTo>
                    <a:lnTo>
                      <a:pt x="291" y="17"/>
                    </a:lnTo>
                    <a:lnTo>
                      <a:pt x="272" y="10"/>
                    </a:lnTo>
                    <a:lnTo>
                      <a:pt x="252" y="5"/>
                    </a:lnTo>
                    <a:lnTo>
                      <a:pt x="242" y="2"/>
                    </a:lnTo>
                    <a:lnTo>
                      <a:pt x="231" y="1"/>
                    </a:lnTo>
                    <a:lnTo>
                      <a:pt x="221" y="0"/>
                    </a:lnTo>
                    <a:lnTo>
                      <a:pt x="209" y="0"/>
                    </a:lnTo>
                    <a:lnTo>
                      <a:pt x="199" y="0"/>
                    </a:lnTo>
                    <a:lnTo>
                      <a:pt x="188" y="1"/>
                    </a:lnTo>
                    <a:lnTo>
                      <a:pt x="178" y="2"/>
                    </a:lnTo>
                    <a:lnTo>
                      <a:pt x="167" y="5"/>
                    </a:lnTo>
                    <a:lnTo>
                      <a:pt x="147" y="10"/>
                    </a:lnTo>
                    <a:lnTo>
                      <a:pt x="128" y="17"/>
                    </a:lnTo>
                    <a:lnTo>
                      <a:pt x="109" y="26"/>
                    </a:lnTo>
                    <a:lnTo>
                      <a:pt x="93" y="36"/>
                    </a:lnTo>
                    <a:lnTo>
                      <a:pt x="77" y="49"/>
                    </a:lnTo>
                    <a:lnTo>
                      <a:pt x="61" y="61"/>
                    </a:lnTo>
                    <a:lnTo>
                      <a:pt x="48" y="77"/>
                    </a:lnTo>
                    <a:lnTo>
                      <a:pt x="36" y="93"/>
                    </a:lnTo>
                    <a:lnTo>
                      <a:pt x="25" y="110"/>
                    </a:lnTo>
                    <a:lnTo>
                      <a:pt x="17" y="128"/>
                    </a:lnTo>
                    <a:lnTo>
                      <a:pt x="13" y="138"/>
                    </a:lnTo>
                    <a:lnTo>
                      <a:pt x="10" y="147"/>
                    </a:lnTo>
                    <a:lnTo>
                      <a:pt x="6" y="158"/>
                    </a:lnTo>
                    <a:lnTo>
                      <a:pt x="4" y="167"/>
                    </a:lnTo>
                    <a:lnTo>
                      <a:pt x="2" y="178"/>
                    </a:lnTo>
                    <a:lnTo>
                      <a:pt x="1" y="188"/>
                    </a:lnTo>
                    <a:lnTo>
                      <a:pt x="0" y="199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1" y="231"/>
                    </a:lnTo>
                    <a:lnTo>
                      <a:pt x="2" y="242"/>
                    </a:lnTo>
                    <a:lnTo>
                      <a:pt x="4" y="252"/>
                    </a:lnTo>
                    <a:lnTo>
                      <a:pt x="6" y="262"/>
                    </a:lnTo>
                    <a:lnTo>
                      <a:pt x="10" y="272"/>
                    </a:lnTo>
                    <a:lnTo>
                      <a:pt x="13" y="282"/>
                    </a:lnTo>
                    <a:lnTo>
                      <a:pt x="17" y="291"/>
                    </a:lnTo>
                    <a:lnTo>
                      <a:pt x="25" y="309"/>
                    </a:lnTo>
                    <a:lnTo>
                      <a:pt x="36" y="327"/>
                    </a:lnTo>
                    <a:lnTo>
                      <a:pt x="48" y="343"/>
                    </a:lnTo>
                    <a:lnTo>
                      <a:pt x="61" y="357"/>
                    </a:lnTo>
                    <a:lnTo>
                      <a:pt x="77" y="371"/>
                    </a:lnTo>
                    <a:lnTo>
                      <a:pt x="93" y="384"/>
                    </a:lnTo>
                    <a:lnTo>
                      <a:pt x="109" y="394"/>
                    </a:lnTo>
                    <a:lnTo>
                      <a:pt x="128" y="403"/>
                    </a:lnTo>
                    <a:lnTo>
                      <a:pt x="138" y="407"/>
                    </a:lnTo>
                    <a:lnTo>
                      <a:pt x="147" y="410"/>
                    </a:lnTo>
                    <a:lnTo>
                      <a:pt x="158" y="412"/>
                    </a:lnTo>
                    <a:lnTo>
                      <a:pt x="167" y="415"/>
                    </a:lnTo>
                    <a:lnTo>
                      <a:pt x="178" y="416"/>
                    </a:lnTo>
                    <a:lnTo>
                      <a:pt x="188" y="418"/>
                    </a:lnTo>
                    <a:lnTo>
                      <a:pt x="199" y="418"/>
                    </a:lnTo>
                    <a:lnTo>
                      <a:pt x="209" y="419"/>
                    </a:lnTo>
                    <a:lnTo>
                      <a:pt x="221" y="418"/>
                    </a:lnTo>
                    <a:lnTo>
                      <a:pt x="231" y="418"/>
                    </a:lnTo>
                    <a:lnTo>
                      <a:pt x="242" y="416"/>
                    </a:lnTo>
                    <a:lnTo>
                      <a:pt x="252" y="415"/>
                    </a:lnTo>
                    <a:lnTo>
                      <a:pt x="262" y="412"/>
                    </a:lnTo>
                    <a:lnTo>
                      <a:pt x="272" y="410"/>
                    </a:lnTo>
                    <a:lnTo>
                      <a:pt x="282" y="407"/>
                    </a:lnTo>
                    <a:lnTo>
                      <a:pt x="291" y="403"/>
                    </a:lnTo>
                    <a:lnTo>
                      <a:pt x="309" y="394"/>
                    </a:lnTo>
                    <a:lnTo>
                      <a:pt x="327" y="384"/>
                    </a:lnTo>
                    <a:lnTo>
                      <a:pt x="343" y="371"/>
                    </a:lnTo>
                    <a:lnTo>
                      <a:pt x="357" y="357"/>
                    </a:lnTo>
                    <a:lnTo>
                      <a:pt x="371" y="343"/>
                    </a:lnTo>
                    <a:lnTo>
                      <a:pt x="384" y="327"/>
                    </a:lnTo>
                    <a:lnTo>
                      <a:pt x="394" y="309"/>
                    </a:lnTo>
                    <a:lnTo>
                      <a:pt x="403" y="291"/>
                    </a:lnTo>
                    <a:lnTo>
                      <a:pt x="410" y="272"/>
                    </a:lnTo>
                    <a:lnTo>
                      <a:pt x="415" y="252"/>
                    </a:lnTo>
                    <a:lnTo>
                      <a:pt x="416" y="242"/>
                    </a:lnTo>
                    <a:lnTo>
                      <a:pt x="418" y="231"/>
                    </a:lnTo>
                    <a:lnTo>
                      <a:pt x="418" y="221"/>
                    </a:lnTo>
                    <a:lnTo>
                      <a:pt x="419" y="209"/>
                    </a:lnTo>
                    <a:close/>
                    <a:moveTo>
                      <a:pt x="403" y="209"/>
                    </a:moveTo>
                    <a:lnTo>
                      <a:pt x="402" y="229"/>
                    </a:lnTo>
                    <a:lnTo>
                      <a:pt x="398" y="248"/>
                    </a:lnTo>
                    <a:lnTo>
                      <a:pt x="394" y="267"/>
                    </a:lnTo>
                    <a:lnTo>
                      <a:pt x="387" y="285"/>
                    </a:lnTo>
                    <a:lnTo>
                      <a:pt x="380" y="302"/>
                    </a:lnTo>
                    <a:lnTo>
                      <a:pt x="369" y="317"/>
                    </a:lnTo>
                    <a:lnTo>
                      <a:pt x="359" y="332"/>
                    </a:lnTo>
                    <a:lnTo>
                      <a:pt x="346" y="346"/>
                    </a:lnTo>
                    <a:lnTo>
                      <a:pt x="332" y="358"/>
                    </a:lnTo>
                    <a:lnTo>
                      <a:pt x="318" y="369"/>
                    </a:lnTo>
                    <a:lnTo>
                      <a:pt x="302" y="379"/>
                    </a:lnTo>
                    <a:lnTo>
                      <a:pt x="285" y="387"/>
                    </a:lnTo>
                    <a:lnTo>
                      <a:pt x="267" y="393"/>
                    </a:lnTo>
                    <a:lnTo>
                      <a:pt x="248" y="398"/>
                    </a:lnTo>
                    <a:lnTo>
                      <a:pt x="229" y="401"/>
                    </a:lnTo>
                    <a:lnTo>
                      <a:pt x="209" y="403"/>
                    </a:lnTo>
                    <a:lnTo>
                      <a:pt x="190" y="401"/>
                    </a:lnTo>
                    <a:lnTo>
                      <a:pt x="170" y="398"/>
                    </a:lnTo>
                    <a:lnTo>
                      <a:pt x="152" y="393"/>
                    </a:lnTo>
                    <a:lnTo>
                      <a:pt x="135" y="387"/>
                    </a:lnTo>
                    <a:lnTo>
                      <a:pt x="118" y="379"/>
                    </a:lnTo>
                    <a:lnTo>
                      <a:pt x="102" y="369"/>
                    </a:lnTo>
                    <a:lnTo>
                      <a:pt x="87" y="358"/>
                    </a:lnTo>
                    <a:lnTo>
                      <a:pt x="74" y="346"/>
                    </a:lnTo>
                    <a:lnTo>
                      <a:pt x="61" y="332"/>
                    </a:lnTo>
                    <a:lnTo>
                      <a:pt x="49" y="317"/>
                    </a:lnTo>
                    <a:lnTo>
                      <a:pt x="40" y="302"/>
                    </a:lnTo>
                    <a:lnTo>
                      <a:pt x="32" y="285"/>
                    </a:lnTo>
                    <a:lnTo>
                      <a:pt x="25" y="267"/>
                    </a:lnTo>
                    <a:lnTo>
                      <a:pt x="21" y="248"/>
                    </a:lnTo>
                    <a:lnTo>
                      <a:pt x="18" y="229"/>
                    </a:lnTo>
                    <a:lnTo>
                      <a:pt x="17" y="209"/>
                    </a:lnTo>
                    <a:lnTo>
                      <a:pt x="18" y="190"/>
                    </a:lnTo>
                    <a:lnTo>
                      <a:pt x="21" y="170"/>
                    </a:lnTo>
                    <a:lnTo>
                      <a:pt x="25" y="153"/>
                    </a:lnTo>
                    <a:lnTo>
                      <a:pt x="32" y="135"/>
                    </a:lnTo>
                    <a:lnTo>
                      <a:pt x="40" y="118"/>
                    </a:lnTo>
                    <a:lnTo>
                      <a:pt x="49" y="102"/>
                    </a:lnTo>
                    <a:lnTo>
                      <a:pt x="61" y="88"/>
                    </a:lnTo>
                    <a:lnTo>
                      <a:pt x="74" y="74"/>
                    </a:lnTo>
                    <a:lnTo>
                      <a:pt x="87" y="61"/>
                    </a:lnTo>
                    <a:lnTo>
                      <a:pt x="102" y="50"/>
                    </a:lnTo>
                    <a:lnTo>
                      <a:pt x="118" y="40"/>
                    </a:lnTo>
                    <a:lnTo>
                      <a:pt x="135" y="32"/>
                    </a:lnTo>
                    <a:lnTo>
                      <a:pt x="152" y="26"/>
                    </a:lnTo>
                    <a:lnTo>
                      <a:pt x="170" y="21"/>
                    </a:lnTo>
                    <a:lnTo>
                      <a:pt x="190" y="18"/>
                    </a:lnTo>
                    <a:lnTo>
                      <a:pt x="209" y="17"/>
                    </a:lnTo>
                    <a:lnTo>
                      <a:pt x="229" y="18"/>
                    </a:lnTo>
                    <a:lnTo>
                      <a:pt x="248" y="21"/>
                    </a:lnTo>
                    <a:lnTo>
                      <a:pt x="267" y="26"/>
                    </a:lnTo>
                    <a:lnTo>
                      <a:pt x="285" y="32"/>
                    </a:lnTo>
                    <a:lnTo>
                      <a:pt x="302" y="40"/>
                    </a:lnTo>
                    <a:lnTo>
                      <a:pt x="318" y="50"/>
                    </a:lnTo>
                    <a:lnTo>
                      <a:pt x="332" y="61"/>
                    </a:lnTo>
                    <a:lnTo>
                      <a:pt x="346" y="74"/>
                    </a:lnTo>
                    <a:lnTo>
                      <a:pt x="359" y="88"/>
                    </a:lnTo>
                    <a:lnTo>
                      <a:pt x="369" y="102"/>
                    </a:lnTo>
                    <a:lnTo>
                      <a:pt x="380" y="118"/>
                    </a:lnTo>
                    <a:lnTo>
                      <a:pt x="387" y="135"/>
                    </a:lnTo>
                    <a:lnTo>
                      <a:pt x="394" y="153"/>
                    </a:lnTo>
                    <a:lnTo>
                      <a:pt x="398" y="170"/>
                    </a:lnTo>
                    <a:lnTo>
                      <a:pt x="402" y="190"/>
                    </a:lnTo>
                    <a:lnTo>
                      <a:pt x="403" y="209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952960" y="2633760"/>
                <a:ext cx="128880" cy="128520"/>
              </a:xfrm>
              <a:custGeom>
                <a:avLst/>
                <a:gdLst/>
                <a:ahLst/>
                <a:rect l="l" t="t" r="r" b="b"/>
                <a:pathLst>
                  <a:path w="403" h="402">
                    <a:moveTo>
                      <a:pt x="403" y="200"/>
                    </a:moveTo>
                    <a:lnTo>
                      <a:pt x="402" y="180"/>
                    </a:lnTo>
                    <a:lnTo>
                      <a:pt x="399" y="160"/>
                    </a:lnTo>
                    <a:lnTo>
                      <a:pt x="394" y="140"/>
                    </a:lnTo>
                    <a:lnTo>
                      <a:pt x="387" y="123"/>
                    </a:lnTo>
                    <a:lnTo>
                      <a:pt x="379" y="105"/>
                    </a:lnTo>
                    <a:lnTo>
                      <a:pt x="368" y="88"/>
                    </a:lnTo>
                    <a:lnTo>
                      <a:pt x="357" y="73"/>
                    </a:lnTo>
                    <a:lnTo>
                      <a:pt x="344" y="59"/>
                    </a:lnTo>
                    <a:lnTo>
                      <a:pt x="329" y="46"/>
                    </a:lnTo>
                    <a:lnTo>
                      <a:pt x="314" y="34"/>
                    </a:lnTo>
                    <a:lnTo>
                      <a:pt x="298" y="24"/>
                    </a:lnTo>
                    <a:lnTo>
                      <a:pt x="280" y="16"/>
                    </a:lnTo>
                    <a:lnTo>
                      <a:pt x="261" y="9"/>
                    </a:lnTo>
                    <a:lnTo>
                      <a:pt x="242" y="4"/>
                    </a:lnTo>
                    <a:lnTo>
                      <a:pt x="222" y="1"/>
                    </a:lnTo>
                    <a:lnTo>
                      <a:pt x="201" y="0"/>
                    </a:lnTo>
                    <a:lnTo>
                      <a:pt x="181" y="1"/>
                    </a:lnTo>
                    <a:lnTo>
                      <a:pt x="161" y="4"/>
                    </a:lnTo>
                    <a:lnTo>
                      <a:pt x="141" y="9"/>
                    </a:lnTo>
                    <a:lnTo>
                      <a:pt x="123" y="16"/>
                    </a:lnTo>
                    <a:lnTo>
                      <a:pt x="106" y="24"/>
                    </a:lnTo>
                    <a:lnTo>
                      <a:pt x="89" y="34"/>
                    </a:lnTo>
                    <a:lnTo>
                      <a:pt x="74" y="46"/>
                    </a:lnTo>
                    <a:lnTo>
                      <a:pt x="59" y="59"/>
                    </a:lnTo>
                    <a:lnTo>
                      <a:pt x="47" y="73"/>
                    </a:lnTo>
                    <a:lnTo>
                      <a:pt x="35" y="88"/>
                    </a:lnTo>
                    <a:lnTo>
                      <a:pt x="25" y="105"/>
                    </a:lnTo>
                    <a:lnTo>
                      <a:pt x="16" y="123"/>
                    </a:lnTo>
                    <a:lnTo>
                      <a:pt x="10" y="140"/>
                    </a:lnTo>
                    <a:lnTo>
                      <a:pt x="5" y="160"/>
                    </a:lnTo>
                    <a:lnTo>
                      <a:pt x="3" y="170"/>
                    </a:lnTo>
                    <a:lnTo>
                      <a:pt x="2" y="180"/>
                    </a:lnTo>
                    <a:lnTo>
                      <a:pt x="0" y="190"/>
                    </a:lnTo>
                    <a:lnTo>
                      <a:pt x="0" y="200"/>
                    </a:lnTo>
                    <a:lnTo>
                      <a:pt x="0" y="211"/>
                    </a:lnTo>
                    <a:lnTo>
                      <a:pt x="2" y="221"/>
                    </a:lnTo>
                    <a:lnTo>
                      <a:pt x="3" y="232"/>
                    </a:lnTo>
                    <a:lnTo>
                      <a:pt x="5" y="241"/>
                    </a:lnTo>
                    <a:lnTo>
                      <a:pt x="10" y="260"/>
                    </a:lnTo>
                    <a:lnTo>
                      <a:pt x="16" y="279"/>
                    </a:lnTo>
                    <a:lnTo>
                      <a:pt x="25" y="297"/>
                    </a:lnTo>
                    <a:lnTo>
                      <a:pt x="35" y="313"/>
                    </a:lnTo>
                    <a:lnTo>
                      <a:pt x="47" y="328"/>
                    </a:lnTo>
                    <a:lnTo>
                      <a:pt x="59" y="343"/>
                    </a:lnTo>
                    <a:lnTo>
                      <a:pt x="74" y="356"/>
                    </a:lnTo>
                    <a:lnTo>
                      <a:pt x="89" y="367"/>
                    </a:lnTo>
                    <a:lnTo>
                      <a:pt x="106" y="378"/>
                    </a:lnTo>
                    <a:lnTo>
                      <a:pt x="123" y="386"/>
                    </a:lnTo>
                    <a:lnTo>
                      <a:pt x="141" y="392"/>
                    </a:lnTo>
                    <a:lnTo>
                      <a:pt x="161" y="398"/>
                    </a:lnTo>
                    <a:lnTo>
                      <a:pt x="171" y="400"/>
                    </a:lnTo>
                    <a:lnTo>
                      <a:pt x="181" y="401"/>
                    </a:lnTo>
                    <a:lnTo>
                      <a:pt x="192" y="401"/>
                    </a:lnTo>
                    <a:lnTo>
                      <a:pt x="201" y="402"/>
                    </a:lnTo>
                    <a:lnTo>
                      <a:pt x="212" y="401"/>
                    </a:lnTo>
                    <a:lnTo>
                      <a:pt x="222" y="401"/>
                    </a:lnTo>
                    <a:lnTo>
                      <a:pt x="232" y="400"/>
                    </a:lnTo>
                    <a:lnTo>
                      <a:pt x="242" y="398"/>
                    </a:lnTo>
                    <a:lnTo>
                      <a:pt x="261" y="392"/>
                    </a:lnTo>
                    <a:lnTo>
                      <a:pt x="280" y="386"/>
                    </a:lnTo>
                    <a:lnTo>
                      <a:pt x="298" y="378"/>
                    </a:lnTo>
                    <a:lnTo>
                      <a:pt x="314" y="367"/>
                    </a:lnTo>
                    <a:lnTo>
                      <a:pt x="329" y="356"/>
                    </a:lnTo>
                    <a:lnTo>
                      <a:pt x="344" y="343"/>
                    </a:lnTo>
                    <a:lnTo>
                      <a:pt x="357" y="328"/>
                    </a:lnTo>
                    <a:lnTo>
                      <a:pt x="368" y="313"/>
                    </a:lnTo>
                    <a:lnTo>
                      <a:pt x="379" y="297"/>
                    </a:lnTo>
                    <a:lnTo>
                      <a:pt x="387" y="279"/>
                    </a:lnTo>
                    <a:lnTo>
                      <a:pt x="394" y="260"/>
                    </a:lnTo>
                    <a:lnTo>
                      <a:pt x="399" y="241"/>
                    </a:lnTo>
                    <a:lnTo>
                      <a:pt x="402" y="221"/>
                    </a:lnTo>
                    <a:lnTo>
                      <a:pt x="403" y="200"/>
                    </a:lnTo>
                    <a:close/>
                    <a:moveTo>
                      <a:pt x="386" y="200"/>
                    </a:moveTo>
                    <a:lnTo>
                      <a:pt x="385" y="219"/>
                    </a:lnTo>
                    <a:lnTo>
                      <a:pt x="382" y="238"/>
                    </a:lnTo>
                    <a:lnTo>
                      <a:pt x="378" y="256"/>
                    </a:lnTo>
                    <a:lnTo>
                      <a:pt x="372" y="273"/>
                    </a:lnTo>
                    <a:lnTo>
                      <a:pt x="364" y="289"/>
                    </a:lnTo>
                    <a:lnTo>
                      <a:pt x="355" y="303"/>
                    </a:lnTo>
                    <a:lnTo>
                      <a:pt x="344" y="318"/>
                    </a:lnTo>
                    <a:lnTo>
                      <a:pt x="332" y="331"/>
                    </a:lnTo>
                    <a:lnTo>
                      <a:pt x="319" y="343"/>
                    </a:lnTo>
                    <a:lnTo>
                      <a:pt x="305" y="354"/>
                    </a:lnTo>
                    <a:lnTo>
                      <a:pt x="290" y="363"/>
                    </a:lnTo>
                    <a:lnTo>
                      <a:pt x="274" y="370"/>
                    </a:lnTo>
                    <a:lnTo>
                      <a:pt x="257" y="377"/>
                    </a:lnTo>
                    <a:lnTo>
                      <a:pt x="239" y="381"/>
                    </a:lnTo>
                    <a:lnTo>
                      <a:pt x="220" y="384"/>
                    </a:lnTo>
                    <a:lnTo>
                      <a:pt x="201" y="385"/>
                    </a:lnTo>
                    <a:lnTo>
                      <a:pt x="182" y="384"/>
                    </a:lnTo>
                    <a:lnTo>
                      <a:pt x="164" y="381"/>
                    </a:lnTo>
                    <a:lnTo>
                      <a:pt x="147" y="377"/>
                    </a:lnTo>
                    <a:lnTo>
                      <a:pt x="130" y="370"/>
                    </a:lnTo>
                    <a:lnTo>
                      <a:pt x="114" y="363"/>
                    </a:lnTo>
                    <a:lnTo>
                      <a:pt x="98" y="354"/>
                    </a:lnTo>
                    <a:lnTo>
                      <a:pt x="85" y="343"/>
                    </a:lnTo>
                    <a:lnTo>
                      <a:pt x="71" y="331"/>
                    </a:lnTo>
                    <a:lnTo>
                      <a:pt x="59" y="318"/>
                    </a:lnTo>
                    <a:lnTo>
                      <a:pt x="49" y="303"/>
                    </a:lnTo>
                    <a:lnTo>
                      <a:pt x="39" y="289"/>
                    </a:lnTo>
                    <a:lnTo>
                      <a:pt x="32" y="273"/>
                    </a:lnTo>
                    <a:lnTo>
                      <a:pt x="26" y="256"/>
                    </a:lnTo>
                    <a:lnTo>
                      <a:pt x="20" y="238"/>
                    </a:lnTo>
                    <a:lnTo>
                      <a:pt x="18" y="219"/>
                    </a:lnTo>
                    <a:lnTo>
                      <a:pt x="17" y="200"/>
                    </a:lnTo>
                    <a:lnTo>
                      <a:pt x="18" y="181"/>
                    </a:lnTo>
                    <a:lnTo>
                      <a:pt x="20" y="164"/>
                    </a:lnTo>
                    <a:lnTo>
                      <a:pt x="26" y="146"/>
                    </a:lnTo>
                    <a:lnTo>
                      <a:pt x="32" y="129"/>
                    </a:lnTo>
                    <a:lnTo>
                      <a:pt x="39" y="113"/>
                    </a:lnTo>
                    <a:lnTo>
                      <a:pt x="49" y="97"/>
                    </a:lnTo>
                    <a:lnTo>
                      <a:pt x="59" y="84"/>
                    </a:lnTo>
                    <a:lnTo>
                      <a:pt x="71" y="70"/>
                    </a:lnTo>
                    <a:lnTo>
                      <a:pt x="85" y="59"/>
                    </a:lnTo>
                    <a:lnTo>
                      <a:pt x="98" y="48"/>
                    </a:lnTo>
                    <a:lnTo>
                      <a:pt x="114" y="39"/>
                    </a:lnTo>
                    <a:lnTo>
                      <a:pt x="130" y="31"/>
                    </a:lnTo>
                    <a:lnTo>
                      <a:pt x="147" y="25"/>
                    </a:lnTo>
                    <a:lnTo>
                      <a:pt x="164" y="20"/>
                    </a:lnTo>
                    <a:lnTo>
                      <a:pt x="182" y="18"/>
                    </a:lnTo>
                    <a:lnTo>
                      <a:pt x="201" y="17"/>
                    </a:lnTo>
                    <a:lnTo>
                      <a:pt x="220" y="18"/>
                    </a:lnTo>
                    <a:lnTo>
                      <a:pt x="239" y="20"/>
                    </a:lnTo>
                    <a:lnTo>
                      <a:pt x="257" y="25"/>
                    </a:lnTo>
                    <a:lnTo>
                      <a:pt x="274" y="31"/>
                    </a:lnTo>
                    <a:lnTo>
                      <a:pt x="290" y="39"/>
                    </a:lnTo>
                    <a:lnTo>
                      <a:pt x="305" y="48"/>
                    </a:lnTo>
                    <a:lnTo>
                      <a:pt x="319" y="59"/>
                    </a:lnTo>
                    <a:lnTo>
                      <a:pt x="332" y="70"/>
                    </a:lnTo>
                    <a:lnTo>
                      <a:pt x="344" y="84"/>
                    </a:lnTo>
                    <a:lnTo>
                      <a:pt x="355" y="97"/>
                    </a:lnTo>
                    <a:lnTo>
                      <a:pt x="364" y="113"/>
                    </a:lnTo>
                    <a:lnTo>
                      <a:pt x="372" y="129"/>
                    </a:lnTo>
                    <a:lnTo>
                      <a:pt x="378" y="146"/>
                    </a:lnTo>
                    <a:lnTo>
                      <a:pt x="382" y="164"/>
                    </a:lnTo>
                    <a:lnTo>
                      <a:pt x="385" y="181"/>
                    </a:lnTo>
                    <a:lnTo>
                      <a:pt x="386" y="20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956200" y="2637000"/>
                <a:ext cx="122400" cy="122040"/>
              </a:xfrm>
              <a:custGeom>
                <a:avLst/>
                <a:gdLst/>
                <a:ahLst/>
                <a:rect l="l" t="t" r="r" b="b"/>
                <a:pathLst>
                  <a:path w="386" h="386">
                    <a:moveTo>
                      <a:pt x="386" y="192"/>
                    </a:moveTo>
                    <a:lnTo>
                      <a:pt x="385" y="173"/>
                    </a:lnTo>
                    <a:lnTo>
                      <a:pt x="381" y="153"/>
                    </a:lnTo>
                    <a:lnTo>
                      <a:pt x="377" y="136"/>
                    </a:lnTo>
                    <a:lnTo>
                      <a:pt x="370" y="118"/>
                    </a:lnTo>
                    <a:lnTo>
                      <a:pt x="363" y="101"/>
                    </a:lnTo>
                    <a:lnTo>
                      <a:pt x="352" y="85"/>
                    </a:lnTo>
                    <a:lnTo>
                      <a:pt x="342" y="71"/>
                    </a:lnTo>
                    <a:lnTo>
                      <a:pt x="329" y="57"/>
                    </a:lnTo>
                    <a:lnTo>
                      <a:pt x="315" y="44"/>
                    </a:lnTo>
                    <a:lnTo>
                      <a:pt x="301" y="33"/>
                    </a:lnTo>
                    <a:lnTo>
                      <a:pt x="285" y="23"/>
                    </a:lnTo>
                    <a:lnTo>
                      <a:pt x="268" y="15"/>
                    </a:lnTo>
                    <a:lnTo>
                      <a:pt x="250" y="9"/>
                    </a:lnTo>
                    <a:lnTo>
                      <a:pt x="231" y="4"/>
                    </a:lnTo>
                    <a:lnTo>
                      <a:pt x="212" y="1"/>
                    </a:lnTo>
                    <a:lnTo>
                      <a:pt x="192" y="0"/>
                    </a:lnTo>
                    <a:lnTo>
                      <a:pt x="173" y="1"/>
                    </a:lnTo>
                    <a:lnTo>
                      <a:pt x="153" y="4"/>
                    </a:lnTo>
                    <a:lnTo>
                      <a:pt x="135" y="9"/>
                    </a:lnTo>
                    <a:lnTo>
                      <a:pt x="118" y="15"/>
                    </a:lnTo>
                    <a:lnTo>
                      <a:pt x="101" y="23"/>
                    </a:lnTo>
                    <a:lnTo>
                      <a:pt x="85" y="33"/>
                    </a:lnTo>
                    <a:lnTo>
                      <a:pt x="70" y="44"/>
                    </a:lnTo>
                    <a:lnTo>
                      <a:pt x="57" y="57"/>
                    </a:lnTo>
                    <a:lnTo>
                      <a:pt x="44" y="71"/>
                    </a:lnTo>
                    <a:lnTo>
                      <a:pt x="32" y="85"/>
                    </a:lnTo>
                    <a:lnTo>
                      <a:pt x="23" y="101"/>
                    </a:lnTo>
                    <a:lnTo>
                      <a:pt x="15" y="118"/>
                    </a:lnTo>
                    <a:lnTo>
                      <a:pt x="8" y="136"/>
                    </a:lnTo>
                    <a:lnTo>
                      <a:pt x="4" y="153"/>
                    </a:lnTo>
                    <a:lnTo>
                      <a:pt x="1" y="173"/>
                    </a:lnTo>
                    <a:lnTo>
                      <a:pt x="0" y="192"/>
                    </a:lnTo>
                    <a:lnTo>
                      <a:pt x="1" y="212"/>
                    </a:lnTo>
                    <a:lnTo>
                      <a:pt x="4" y="231"/>
                    </a:lnTo>
                    <a:lnTo>
                      <a:pt x="8" y="250"/>
                    </a:lnTo>
                    <a:lnTo>
                      <a:pt x="15" y="268"/>
                    </a:lnTo>
                    <a:lnTo>
                      <a:pt x="23" y="285"/>
                    </a:lnTo>
                    <a:lnTo>
                      <a:pt x="32" y="300"/>
                    </a:lnTo>
                    <a:lnTo>
                      <a:pt x="44" y="315"/>
                    </a:lnTo>
                    <a:lnTo>
                      <a:pt x="57" y="329"/>
                    </a:lnTo>
                    <a:lnTo>
                      <a:pt x="70" y="341"/>
                    </a:lnTo>
                    <a:lnTo>
                      <a:pt x="85" y="352"/>
                    </a:lnTo>
                    <a:lnTo>
                      <a:pt x="101" y="362"/>
                    </a:lnTo>
                    <a:lnTo>
                      <a:pt x="118" y="370"/>
                    </a:lnTo>
                    <a:lnTo>
                      <a:pt x="135" y="377"/>
                    </a:lnTo>
                    <a:lnTo>
                      <a:pt x="153" y="381"/>
                    </a:lnTo>
                    <a:lnTo>
                      <a:pt x="173" y="384"/>
                    </a:lnTo>
                    <a:lnTo>
                      <a:pt x="192" y="386"/>
                    </a:lnTo>
                    <a:lnTo>
                      <a:pt x="212" y="384"/>
                    </a:lnTo>
                    <a:lnTo>
                      <a:pt x="231" y="381"/>
                    </a:lnTo>
                    <a:lnTo>
                      <a:pt x="250" y="377"/>
                    </a:lnTo>
                    <a:lnTo>
                      <a:pt x="268" y="370"/>
                    </a:lnTo>
                    <a:lnTo>
                      <a:pt x="285" y="362"/>
                    </a:lnTo>
                    <a:lnTo>
                      <a:pt x="301" y="352"/>
                    </a:lnTo>
                    <a:lnTo>
                      <a:pt x="315" y="341"/>
                    </a:lnTo>
                    <a:lnTo>
                      <a:pt x="329" y="329"/>
                    </a:lnTo>
                    <a:lnTo>
                      <a:pt x="342" y="315"/>
                    </a:lnTo>
                    <a:lnTo>
                      <a:pt x="352" y="300"/>
                    </a:lnTo>
                    <a:lnTo>
                      <a:pt x="363" y="285"/>
                    </a:lnTo>
                    <a:lnTo>
                      <a:pt x="370" y="268"/>
                    </a:lnTo>
                    <a:lnTo>
                      <a:pt x="377" y="250"/>
                    </a:lnTo>
                    <a:lnTo>
                      <a:pt x="381" y="231"/>
                    </a:lnTo>
                    <a:lnTo>
                      <a:pt x="385" y="212"/>
                    </a:lnTo>
                    <a:lnTo>
                      <a:pt x="386" y="192"/>
                    </a:lnTo>
                    <a:close/>
                    <a:moveTo>
                      <a:pt x="369" y="192"/>
                    </a:moveTo>
                    <a:lnTo>
                      <a:pt x="368" y="210"/>
                    </a:lnTo>
                    <a:lnTo>
                      <a:pt x="365" y="228"/>
                    </a:lnTo>
                    <a:lnTo>
                      <a:pt x="360" y="245"/>
                    </a:lnTo>
                    <a:lnTo>
                      <a:pt x="355" y="262"/>
                    </a:lnTo>
                    <a:lnTo>
                      <a:pt x="348" y="276"/>
                    </a:lnTo>
                    <a:lnTo>
                      <a:pt x="338" y="291"/>
                    </a:lnTo>
                    <a:lnTo>
                      <a:pt x="329" y="305"/>
                    </a:lnTo>
                    <a:lnTo>
                      <a:pt x="317" y="317"/>
                    </a:lnTo>
                    <a:lnTo>
                      <a:pt x="305" y="329"/>
                    </a:lnTo>
                    <a:lnTo>
                      <a:pt x="291" y="338"/>
                    </a:lnTo>
                    <a:lnTo>
                      <a:pt x="276" y="348"/>
                    </a:lnTo>
                    <a:lnTo>
                      <a:pt x="262" y="355"/>
                    </a:lnTo>
                    <a:lnTo>
                      <a:pt x="245" y="360"/>
                    </a:lnTo>
                    <a:lnTo>
                      <a:pt x="228" y="365"/>
                    </a:lnTo>
                    <a:lnTo>
                      <a:pt x="210" y="368"/>
                    </a:lnTo>
                    <a:lnTo>
                      <a:pt x="192" y="369"/>
                    </a:lnTo>
                    <a:lnTo>
                      <a:pt x="174" y="368"/>
                    </a:lnTo>
                    <a:lnTo>
                      <a:pt x="158" y="365"/>
                    </a:lnTo>
                    <a:lnTo>
                      <a:pt x="141" y="360"/>
                    </a:lnTo>
                    <a:lnTo>
                      <a:pt x="124" y="355"/>
                    </a:lnTo>
                    <a:lnTo>
                      <a:pt x="109" y="348"/>
                    </a:lnTo>
                    <a:lnTo>
                      <a:pt x="94" y="338"/>
                    </a:lnTo>
                    <a:lnTo>
                      <a:pt x="81" y="329"/>
                    </a:lnTo>
                    <a:lnTo>
                      <a:pt x="68" y="317"/>
                    </a:lnTo>
                    <a:lnTo>
                      <a:pt x="57" y="305"/>
                    </a:lnTo>
                    <a:lnTo>
                      <a:pt x="47" y="291"/>
                    </a:lnTo>
                    <a:lnTo>
                      <a:pt x="38" y="276"/>
                    </a:lnTo>
                    <a:lnTo>
                      <a:pt x="30" y="262"/>
                    </a:lnTo>
                    <a:lnTo>
                      <a:pt x="24" y="245"/>
                    </a:lnTo>
                    <a:lnTo>
                      <a:pt x="20" y="228"/>
                    </a:lnTo>
                    <a:lnTo>
                      <a:pt x="18" y="210"/>
                    </a:lnTo>
                    <a:lnTo>
                      <a:pt x="17" y="192"/>
                    </a:lnTo>
                    <a:lnTo>
                      <a:pt x="18" y="174"/>
                    </a:lnTo>
                    <a:lnTo>
                      <a:pt x="20" y="158"/>
                    </a:lnTo>
                    <a:lnTo>
                      <a:pt x="24" y="141"/>
                    </a:lnTo>
                    <a:lnTo>
                      <a:pt x="30" y="124"/>
                    </a:lnTo>
                    <a:lnTo>
                      <a:pt x="38" y="109"/>
                    </a:lnTo>
                    <a:lnTo>
                      <a:pt x="47" y="95"/>
                    </a:lnTo>
                    <a:lnTo>
                      <a:pt x="57" y="81"/>
                    </a:lnTo>
                    <a:lnTo>
                      <a:pt x="68" y="68"/>
                    </a:lnTo>
                    <a:lnTo>
                      <a:pt x="81" y="57"/>
                    </a:lnTo>
                    <a:lnTo>
                      <a:pt x="94" y="46"/>
                    </a:lnTo>
                    <a:lnTo>
                      <a:pt x="109" y="38"/>
                    </a:lnTo>
                    <a:lnTo>
                      <a:pt x="124" y="31"/>
                    </a:lnTo>
                    <a:lnTo>
                      <a:pt x="141" y="24"/>
                    </a:lnTo>
                    <a:lnTo>
                      <a:pt x="158" y="20"/>
                    </a:lnTo>
                    <a:lnTo>
                      <a:pt x="174" y="18"/>
                    </a:lnTo>
                    <a:lnTo>
                      <a:pt x="192" y="17"/>
                    </a:lnTo>
                    <a:lnTo>
                      <a:pt x="210" y="18"/>
                    </a:lnTo>
                    <a:lnTo>
                      <a:pt x="228" y="20"/>
                    </a:lnTo>
                    <a:lnTo>
                      <a:pt x="245" y="24"/>
                    </a:lnTo>
                    <a:lnTo>
                      <a:pt x="262" y="31"/>
                    </a:lnTo>
                    <a:lnTo>
                      <a:pt x="276" y="38"/>
                    </a:lnTo>
                    <a:lnTo>
                      <a:pt x="291" y="46"/>
                    </a:lnTo>
                    <a:lnTo>
                      <a:pt x="305" y="57"/>
                    </a:lnTo>
                    <a:lnTo>
                      <a:pt x="317" y="68"/>
                    </a:lnTo>
                    <a:lnTo>
                      <a:pt x="329" y="81"/>
                    </a:lnTo>
                    <a:lnTo>
                      <a:pt x="338" y="95"/>
                    </a:lnTo>
                    <a:lnTo>
                      <a:pt x="348" y="109"/>
                    </a:lnTo>
                    <a:lnTo>
                      <a:pt x="355" y="124"/>
                    </a:lnTo>
                    <a:lnTo>
                      <a:pt x="360" y="141"/>
                    </a:lnTo>
                    <a:lnTo>
                      <a:pt x="365" y="158"/>
                    </a:lnTo>
                    <a:lnTo>
                      <a:pt x="368" y="174"/>
                    </a:lnTo>
                    <a:lnTo>
                      <a:pt x="369" y="19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959440" y="263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369" h="368">
                    <a:moveTo>
                      <a:pt x="369" y="183"/>
                    </a:moveTo>
                    <a:lnTo>
                      <a:pt x="368" y="164"/>
                    </a:lnTo>
                    <a:lnTo>
                      <a:pt x="365" y="147"/>
                    </a:lnTo>
                    <a:lnTo>
                      <a:pt x="361" y="129"/>
                    </a:lnTo>
                    <a:lnTo>
                      <a:pt x="355" y="112"/>
                    </a:lnTo>
                    <a:lnTo>
                      <a:pt x="347" y="96"/>
                    </a:lnTo>
                    <a:lnTo>
                      <a:pt x="338" y="80"/>
                    </a:lnTo>
                    <a:lnTo>
                      <a:pt x="327" y="67"/>
                    </a:lnTo>
                    <a:lnTo>
                      <a:pt x="315" y="53"/>
                    </a:lnTo>
                    <a:lnTo>
                      <a:pt x="302" y="42"/>
                    </a:lnTo>
                    <a:lnTo>
                      <a:pt x="288" y="31"/>
                    </a:lnTo>
                    <a:lnTo>
                      <a:pt x="273" y="22"/>
                    </a:lnTo>
                    <a:lnTo>
                      <a:pt x="257" y="14"/>
                    </a:lnTo>
                    <a:lnTo>
                      <a:pt x="240" y="8"/>
                    </a:lnTo>
                    <a:lnTo>
                      <a:pt x="222" y="3"/>
                    </a:lnTo>
                    <a:lnTo>
                      <a:pt x="203" y="1"/>
                    </a:lnTo>
                    <a:lnTo>
                      <a:pt x="184" y="0"/>
                    </a:lnTo>
                    <a:lnTo>
                      <a:pt x="165" y="1"/>
                    </a:lnTo>
                    <a:lnTo>
                      <a:pt x="147" y="3"/>
                    </a:lnTo>
                    <a:lnTo>
                      <a:pt x="130" y="8"/>
                    </a:lnTo>
                    <a:lnTo>
                      <a:pt x="113" y="14"/>
                    </a:lnTo>
                    <a:lnTo>
                      <a:pt x="97" y="22"/>
                    </a:lnTo>
                    <a:lnTo>
                      <a:pt x="81" y="31"/>
                    </a:lnTo>
                    <a:lnTo>
                      <a:pt x="68" y="42"/>
                    </a:lnTo>
                    <a:lnTo>
                      <a:pt x="54" y="53"/>
                    </a:lnTo>
                    <a:lnTo>
                      <a:pt x="42" y="67"/>
                    </a:lnTo>
                    <a:lnTo>
                      <a:pt x="32" y="80"/>
                    </a:lnTo>
                    <a:lnTo>
                      <a:pt x="22" y="96"/>
                    </a:lnTo>
                    <a:lnTo>
                      <a:pt x="15" y="112"/>
                    </a:lnTo>
                    <a:lnTo>
                      <a:pt x="9" y="129"/>
                    </a:lnTo>
                    <a:lnTo>
                      <a:pt x="4" y="147"/>
                    </a:lnTo>
                    <a:lnTo>
                      <a:pt x="1" y="164"/>
                    </a:lnTo>
                    <a:lnTo>
                      <a:pt x="0" y="183"/>
                    </a:lnTo>
                    <a:lnTo>
                      <a:pt x="1" y="202"/>
                    </a:lnTo>
                    <a:lnTo>
                      <a:pt x="4" y="221"/>
                    </a:lnTo>
                    <a:lnTo>
                      <a:pt x="9" y="238"/>
                    </a:lnTo>
                    <a:lnTo>
                      <a:pt x="15" y="256"/>
                    </a:lnTo>
                    <a:lnTo>
                      <a:pt x="22" y="272"/>
                    </a:lnTo>
                    <a:lnTo>
                      <a:pt x="32" y="286"/>
                    </a:lnTo>
                    <a:lnTo>
                      <a:pt x="42" y="301"/>
                    </a:lnTo>
                    <a:lnTo>
                      <a:pt x="54" y="314"/>
                    </a:lnTo>
                    <a:lnTo>
                      <a:pt x="68" y="326"/>
                    </a:lnTo>
                    <a:lnTo>
                      <a:pt x="81" y="337"/>
                    </a:lnTo>
                    <a:lnTo>
                      <a:pt x="97" y="346"/>
                    </a:lnTo>
                    <a:lnTo>
                      <a:pt x="113" y="353"/>
                    </a:lnTo>
                    <a:lnTo>
                      <a:pt x="130" y="360"/>
                    </a:lnTo>
                    <a:lnTo>
                      <a:pt x="147" y="364"/>
                    </a:lnTo>
                    <a:lnTo>
                      <a:pt x="165" y="367"/>
                    </a:lnTo>
                    <a:lnTo>
                      <a:pt x="184" y="368"/>
                    </a:lnTo>
                    <a:lnTo>
                      <a:pt x="203" y="367"/>
                    </a:lnTo>
                    <a:lnTo>
                      <a:pt x="222" y="364"/>
                    </a:lnTo>
                    <a:lnTo>
                      <a:pt x="240" y="360"/>
                    </a:lnTo>
                    <a:lnTo>
                      <a:pt x="257" y="353"/>
                    </a:lnTo>
                    <a:lnTo>
                      <a:pt x="273" y="346"/>
                    </a:lnTo>
                    <a:lnTo>
                      <a:pt x="288" y="337"/>
                    </a:lnTo>
                    <a:lnTo>
                      <a:pt x="302" y="326"/>
                    </a:lnTo>
                    <a:lnTo>
                      <a:pt x="315" y="314"/>
                    </a:lnTo>
                    <a:lnTo>
                      <a:pt x="327" y="301"/>
                    </a:lnTo>
                    <a:lnTo>
                      <a:pt x="338" y="286"/>
                    </a:lnTo>
                    <a:lnTo>
                      <a:pt x="347" y="272"/>
                    </a:lnTo>
                    <a:lnTo>
                      <a:pt x="355" y="256"/>
                    </a:lnTo>
                    <a:lnTo>
                      <a:pt x="361" y="238"/>
                    </a:lnTo>
                    <a:lnTo>
                      <a:pt x="365" y="221"/>
                    </a:lnTo>
                    <a:lnTo>
                      <a:pt x="368" y="202"/>
                    </a:lnTo>
                    <a:lnTo>
                      <a:pt x="369" y="183"/>
                    </a:lnTo>
                    <a:close/>
                    <a:moveTo>
                      <a:pt x="352" y="183"/>
                    </a:moveTo>
                    <a:lnTo>
                      <a:pt x="351" y="201"/>
                    </a:lnTo>
                    <a:lnTo>
                      <a:pt x="349" y="217"/>
                    </a:lnTo>
                    <a:lnTo>
                      <a:pt x="345" y="234"/>
                    </a:lnTo>
                    <a:lnTo>
                      <a:pt x="339" y="248"/>
                    </a:lnTo>
                    <a:lnTo>
                      <a:pt x="332" y="263"/>
                    </a:lnTo>
                    <a:lnTo>
                      <a:pt x="324" y="278"/>
                    </a:lnTo>
                    <a:lnTo>
                      <a:pt x="314" y="290"/>
                    </a:lnTo>
                    <a:lnTo>
                      <a:pt x="303" y="302"/>
                    </a:lnTo>
                    <a:lnTo>
                      <a:pt x="291" y="312"/>
                    </a:lnTo>
                    <a:lnTo>
                      <a:pt x="279" y="323"/>
                    </a:lnTo>
                    <a:lnTo>
                      <a:pt x="264" y="331"/>
                    </a:lnTo>
                    <a:lnTo>
                      <a:pt x="249" y="338"/>
                    </a:lnTo>
                    <a:lnTo>
                      <a:pt x="235" y="344"/>
                    </a:lnTo>
                    <a:lnTo>
                      <a:pt x="219" y="348"/>
                    </a:lnTo>
                    <a:lnTo>
                      <a:pt x="202" y="350"/>
                    </a:lnTo>
                    <a:lnTo>
                      <a:pt x="184" y="351"/>
                    </a:lnTo>
                    <a:lnTo>
                      <a:pt x="167" y="350"/>
                    </a:lnTo>
                    <a:lnTo>
                      <a:pt x="151" y="348"/>
                    </a:lnTo>
                    <a:lnTo>
                      <a:pt x="135" y="344"/>
                    </a:lnTo>
                    <a:lnTo>
                      <a:pt x="119" y="338"/>
                    </a:lnTo>
                    <a:lnTo>
                      <a:pt x="104" y="331"/>
                    </a:lnTo>
                    <a:lnTo>
                      <a:pt x="91" y="323"/>
                    </a:lnTo>
                    <a:lnTo>
                      <a:pt x="78" y="312"/>
                    </a:lnTo>
                    <a:lnTo>
                      <a:pt x="67" y="302"/>
                    </a:lnTo>
                    <a:lnTo>
                      <a:pt x="55" y="290"/>
                    </a:lnTo>
                    <a:lnTo>
                      <a:pt x="45" y="278"/>
                    </a:lnTo>
                    <a:lnTo>
                      <a:pt x="37" y="263"/>
                    </a:lnTo>
                    <a:lnTo>
                      <a:pt x="30" y="248"/>
                    </a:lnTo>
                    <a:lnTo>
                      <a:pt x="24" y="234"/>
                    </a:lnTo>
                    <a:lnTo>
                      <a:pt x="20" y="217"/>
                    </a:lnTo>
                    <a:lnTo>
                      <a:pt x="18" y="201"/>
                    </a:lnTo>
                    <a:lnTo>
                      <a:pt x="17" y="183"/>
                    </a:lnTo>
                    <a:lnTo>
                      <a:pt x="18" y="167"/>
                    </a:lnTo>
                    <a:lnTo>
                      <a:pt x="20" y="150"/>
                    </a:lnTo>
                    <a:lnTo>
                      <a:pt x="24" y="134"/>
                    </a:lnTo>
                    <a:lnTo>
                      <a:pt x="30" y="118"/>
                    </a:lnTo>
                    <a:lnTo>
                      <a:pt x="37" y="104"/>
                    </a:lnTo>
                    <a:lnTo>
                      <a:pt x="45" y="90"/>
                    </a:lnTo>
                    <a:lnTo>
                      <a:pt x="55" y="77"/>
                    </a:lnTo>
                    <a:lnTo>
                      <a:pt x="67" y="66"/>
                    </a:lnTo>
                    <a:lnTo>
                      <a:pt x="78" y="54"/>
                    </a:lnTo>
                    <a:lnTo>
                      <a:pt x="91" y="45"/>
                    </a:lnTo>
                    <a:lnTo>
                      <a:pt x="104" y="36"/>
                    </a:lnTo>
                    <a:lnTo>
                      <a:pt x="119" y="29"/>
                    </a:lnTo>
                    <a:lnTo>
                      <a:pt x="135" y="24"/>
                    </a:lnTo>
                    <a:lnTo>
                      <a:pt x="151" y="20"/>
                    </a:lnTo>
                    <a:lnTo>
                      <a:pt x="167" y="17"/>
                    </a:lnTo>
                    <a:lnTo>
                      <a:pt x="184" y="16"/>
                    </a:lnTo>
                    <a:lnTo>
                      <a:pt x="202" y="17"/>
                    </a:lnTo>
                    <a:lnTo>
                      <a:pt x="219" y="20"/>
                    </a:lnTo>
                    <a:lnTo>
                      <a:pt x="235" y="24"/>
                    </a:lnTo>
                    <a:lnTo>
                      <a:pt x="249" y="29"/>
                    </a:lnTo>
                    <a:lnTo>
                      <a:pt x="264" y="36"/>
                    </a:lnTo>
                    <a:lnTo>
                      <a:pt x="279" y="45"/>
                    </a:lnTo>
                    <a:lnTo>
                      <a:pt x="291" y="54"/>
                    </a:lnTo>
                    <a:lnTo>
                      <a:pt x="303" y="66"/>
                    </a:lnTo>
                    <a:lnTo>
                      <a:pt x="314" y="77"/>
                    </a:lnTo>
                    <a:lnTo>
                      <a:pt x="324" y="90"/>
                    </a:lnTo>
                    <a:lnTo>
                      <a:pt x="332" y="104"/>
                    </a:lnTo>
                    <a:lnTo>
                      <a:pt x="339" y="118"/>
                    </a:lnTo>
                    <a:lnTo>
                      <a:pt x="345" y="134"/>
                    </a:lnTo>
                    <a:lnTo>
                      <a:pt x="349" y="150"/>
                    </a:lnTo>
                    <a:lnTo>
                      <a:pt x="351" y="167"/>
                    </a:lnTo>
                    <a:lnTo>
                      <a:pt x="352" y="183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962680" y="2641680"/>
                <a:ext cx="111240" cy="112680"/>
              </a:xfrm>
              <a:custGeom>
                <a:avLst/>
                <a:gdLst/>
                <a:ahLst/>
                <a:rect l="l" t="t" r="r" b="b"/>
                <a:pathLst>
                  <a:path w="352" h="352">
                    <a:moveTo>
                      <a:pt x="352" y="175"/>
                    </a:moveTo>
                    <a:lnTo>
                      <a:pt x="351" y="157"/>
                    </a:lnTo>
                    <a:lnTo>
                      <a:pt x="348" y="141"/>
                    </a:lnTo>
                    <a:lnTo>
                      <a:pt x="343" y="124"/>
                    </a:lnTo>
                    <a:lnTo>
                      <a:pt x="338" y="107"/>
                    </a:lnTo>
                    <a:lnTo>
                      <a:pt x="331" y="92"/>
                    </a:lnTo>
                    <a:lnTo>
                      <a:pt x="321" y="78"/>
                    </a:lnTo>
                    <a:lnTo>
                      <a:pt x="312" y="64"/>
                    </a:lnTo>
                    <a:lnTo>
                      <a:pt x="300" y="51"/>
                    </a:lnTo>
                    <a:lnTo>
                      <a:pt x="288" y="40"/>
                    </a:lnTo>
                    <a:lnTo>
                      <a:pt x="274" y="29"/>
                    </a:lnTo>
                    <a:lnTo>
                      <a:pt x="259" y="21"/>
                    </a:lnTo>
                    <a:lnTo>
                      <a:pt x="245" y="14"/>
                    </a:lnTo>
                    <a:lnTo>
                      <a:pt x="228" y="7"/>
                    </a:lnTo>
                    <a:lnTo>
                      <a:pt x="211" y="3"/>
                    </a:lnTo>
                    <a:lnTo>
                      <a:pt x="193" y="1"/>
                    </a:lnTo>
                    <a:lnTo>
                      <a:pt x="175" y="0"/>
                    </a:lnTo>
                    <a:lnTo>
                      <a:pt x="157" y="1"/>
                    </a:lnTo>
                    <a:lnTo>
                      <a:pt x="141" y="3"/>
                    </a:lnTo>
                    <a:lnTo>
                      <a:pt x="124" y="7"/>
                    </a:lnTo>
                    <a:lnTo>
                      <a:pt x="107" y="14"/>
                    </a:lnTo>
                    <a:lnTo>
                      <a:pt x="92" y="21"/>
                    </a:lnTo>
                    <a:lnTo>
                      <a:pt x="77" y="29"/>
                    </a:lnTo>
                    <a:lnTo>
                      <a:pt x="64" y="40"/>
                    </a:lnTo>
                    <a:lnTo>
                      <a:pt x="51" y="51"/>
                    </a:lnTo>
                    <a:lnTo>
                      <a:pt x="40" y="64"/>
                    </a:lnTo>
                    <a:lnTo>
                      <a:pt x="30" y="78"/>
                    </a:lnTo>
                    <a:lnTo>
                      <a:pt x="21" y="92"/>
                    </a:lnTo>
                    <a:lnTo>
                      <a:pt x="13" y="107"/>
                    </a:lnTo>
                    <a:lnTo>
                      <a:pt x="7" y="124"/>
                    </a:lnTo>
                    <a:lnTo>
                      <a:pt x="3" y="141"/>
                    </a:lnTo>
                    <a:lnTo>
                      <a:pt x="1" y="157"/>
                    </a:lnTo>
                    <a:lnTo>
                      <a:pt x="0" y="175"/>
                    </a:lnTo>
                    <a:lnTo>
                      <a:pt x="1" y="193"/>
                    </a:lnTo>
                    <a:lnTo>
                      <a:pt x="3" y="211"/>
                    </a:lnTo>
                    <a:lnTo>
                      <a:pt x="7" y="228"/>
                    </a:lnTo>
                    <a:lnTo>
                      <a:pt x="13" y="245"/>
                    </a:lnTo>
                    <a:lnTo>
                      <a:pt x="21" y="259"/>
                    </a:lnTo>
                    <a:lnTo>
                      <a:pt x="30" y="274"/>
                    </a:lnTo>
                    <a:lnTo>
                      <a:pt x="40" y="288"/>
                    </a:lnTo>
                    <a:lnTo>
                      <a:pt x="51" y="300"/>
                    </a:lnTo>
                    <a:lnTo>
                      <a:pt x="64" y="312"/>
                    </a:lnTo>
                    <a:lnTo>
                      <a:pt x="77" y="321"/>
                    </a:lnTo>
                    <a:lnTo>
                      <a:pt x="92" y="331"/>
                    </a:lnTo>
                    <a:lnTo>
                      <a:pt x="107" y="338"/>
                    </a:lnTo>
                    <a:lnTo>
                      <a:pt x="124" y="343"/>
                    </a:lnTo>
                    <a:lnTo>
                      <a:pt x="141" y="348"/>
                    </a:lnTo>
                    <a:lnTo>
                      <a:pt x="157" y="351"/>
                    </a:lnTo>
                    <a:lnTo>
                      <a:pt x="175" y="352"/>
                    </a:lnTo>
                    <a:lnTo>
                      <a:pt x="193" y="351"/>
                    </a:lnTo>
                    <a:lnTo>
                      <a:pt x="211" y="348"/>
                    </a:lnTo>
                    <a:lnTo>
                      <a:pt x="228" y="343"/>
                    </a:lnTo>
                    <a:lnTo>
                      <a:pt x="245" y="338"/>
                    </a:lnTo>
                    <a:lnTo>
                      <a:pt x="259" y="331"/>
                    </a:lnTo>
                    <a:lnTo>
                      <a:pt x="274" y="321"/>
                    </a:lnTo>
                    <a:lnTo>
                      <a:pt x="288" y="312"/>
                    </a:lnTo>
                    <a:lnTo>
                      <a:pt x="300" y="300"/>
                    </a:lnTo>
                    <a:lnTo>
                      <a:pt x="312" y="288"/>
                    </a:lnTo>
                    <a:lnTo>
                      <a:pt x="321" y="274"/>
                    </a:lnTo>
                    <a:lnTo>
                      <a:pt x="331" y="259"/>
                    </a:lnTo>
                    <a:lnTo>
                      <a:pt x="338" y="245"/>
                    </a:lnTo>
                    <a:lnTo>
                      <a:pt x="343" y="228"/>
                    </a:lnTo>
                    <a:lnTo>
                      <a:pt x="348" y="211"/>
                    </a:lnTo>
                    <a:lnTo>
                      <a:pt x="351" y="193"/>
                    </a:lnTo>
                    <a:lnTo>
                      <a:pt x="352" y="175"/>
                    </a:lnTo>
                    <a:close/>
                    <a:moveTo>
                      <a:pt x="335" y="175"/>
                    </a:moveTo>
                    <a:lnTo>
                      <a:pt x="334" y="192"/>
                    </a:lnTo>
                    <a:lnTo>
                      <a:pt x="332" y="208"/>
                    </a:lnTo>
                    <a:lnTo>
                      <a:pt x="328" y="223"/>
                    </a:lnTo>
                    <a:lnTo>
                      <a:pt x="322" y="237"/>
                    </a:lnTo>
                    <a:lnTo>
                      <a:pt x="316" y="252"/>
                    </a:lnTo>
                    <a:lnTo>
                      <a:pt x="308" y="265"/>
                    </a:lnTo>
                    <a:lnTo>
                      <a:pt x="298" y="277"/>
                    </a:lnTo>
                    <a:lnTo>
                      <a:pt x="289" y="288"/>
                    </a:lnTo>
                    <a:lnTo>
                      <a:pt x="277" y="298"/>
                    </a:lnTo>
                    <a:lnTo>
                      <a:pt x="265" y="308"/>
                    </a:lnTo>
                    <a:lnTo>
                      <a:pt x="252" y="316"/>
                    </a:lnTo>
                    <a:lnTo>
                      <a:pt x="237" y="322"/>
                    </a:lnTo>
                    <a:lnTo>
                      <a:pt x="223" y="328"/>
                    </a:lnTo>
                    <a:lnTo>
                      <a:pt x="208" y="332"/>
                    </a:lnTo>
                    <a:lnTo>
                      <a:pt x="192" y="334"/>
                    </a:lnTo>
                    <a:lnTo>
                      <a:pt x="175" y="335"/>
                    </a:lnTo>
                    <a:lnTo>
                      <a:pt x="159" y="334"/>
                    </a:lnTo>
                    <a:lnTo>
                      <a:pt x="144" y="332"/>
                    </a:lnTo>
                    <a:lnTo>
                      <a:pt x="128" y="328"/>
                    </a:lnTo>
                    <a:lnTo>
                      <a:pt x="113" y="322"/>
                    </a:lnTo>
                    <a:lnTo>
                      <a:pt x="100" y="316"/>
                    </a:lnTo>
                    <a:lnTo>
                      <a:pt x="87" y="308"/>
                    </a:lnTo>
                    <a:lnTo>
                      <a:pt x="74" y="298"/>
                    </a:lnTo>
                    <a:lnTo>
                      <a:pt x="63" y="288"/>
                    </a:lnTo>
                    <a:lnTo>
                      <a:pt x="52" y="277"/>
                    </a:lnTo>
                    <a:lnTo>
                      <a:pt x="44" y="265"/>
                    </a:lnTo>
                    <a:lnTo>
                      <a:pt x="35" y="252"/>
                    </a:lnTo>
                    <a:lnTo>
                      <a:pt x="29" y="237"/>
                    </a:lnTo>
                    <a:lnTo>
                      <a:pt x="24" y="223"/>
                    </a:lnTo>
                    <a:lnTo>
                      <a:pt x="20" y="208"/>
                    </a:lnTo>
                    <a:lnTo>
                      <a:pt x="18" y="192"/>
                    </a:lnTo>
                    <a:lnTo>
                      <a:pt x="17" y="175"/>
                    </a:lnTo>
                    <a:lnTo>
                      <a:pt x="18" y="160"/>
                    </a:lnTo>
                    <a:lnTo>
                      <a:pt x="20" y="144"/>
                    </a:lnTo>
                    <a:lnTo>
                      <a:pt x="24" y="128"/>
                    </a:lnTo>
                    <a:lnTo>
                      <a:pt x="29" y="113"/>
                    </a:lnTo>
                    <a:lnTo>
                      <a:pt x="35" y="100"/>
                    </a:lnTo>
                    <a:lnTo>
                      <a:pt x="44" y="87"/>
                    </a:lnTo>
                    <a:lnTo>
                      <a:pt x="52" y="75"/>
                    </a:lnTo>
                    <a:lnTo>
                      <a:pt x="63" y="63"/>
                    </a:lnTo>
                    <a:lnTo>
                      <a:pt x="74" y="52"/>
                    </a:lnTo>
                    <a:lnTo>
                      <a:pt x="87" y="44"/>
                    </a:lnTo>
                    <a:lnTo>
                      <a:pt x="100" y="36"/>
                    </a:lnTo>
                    <a:lnTo>
                      <a:pt x="113" y="29"/>
                    </a:lnTo>
                    <a:lnTo>
                      <a:pt x="128" y="24"/>
                    </a:lnTo>
                    <a:lnTo>
                      <a:pt x="144" y="20"/>
                    </a:lnTo>
                    <a:lnTo>
                      <a:pt x="159" y="18"/>
                    </a:lnTo>
                    <a:lnTo>
                      <a:pt x="175" y="17"/>
                    </a:lnTo>
                    <a:lnTo>
                      <a:pt x="192" y="18"/>
                    </a:lnTo>
                    <a:lnTo>
                      <a:pt x="208" y="20"/>
                    </a:lnTo>
                    <a:lnTo>
                      <a:pt x="223" y="24"/>
                    </a:lnTo>
                    <a:lnTo>
                      <a:pt x="237" y="29"/>
                    </a:lnTo>
                    <a:lnTo>
                      <a:pt x="252" y="36"/>
                    </a:lnTo>
                    <a:lnTo>
                      <a:pt x="265" y="44"/>
                    </a:lnTo>
                    <a:lnTo>
                      <a:pt x="277" y="52"/>
                    </a:lnTo>
                    <a:lnTo>
                      <a:pt x="289" y="63"/>
                    </a:lnTo>
                    <a:lnTo>
                      <a:pt x="298" y="75"/>
                    </a:lnTo>
                    <a:lnTo>
                      <a:pt x="308" y="87"/>
                    </a:lnTo>
                    <a:lnTo>
                      <a:pt x="316" y="100"/>
                    </a:lnTo>
                    <a:lnTo>
                      <a:pt x="322" y="113"/>
                    </a:lnTo>
                    <a:lnTo>
                      <a:pt x="328" y="128"/>
                    </a:lnTo>
                    <a:lnTo>
                      <a:pt x="332" y="144"/>
                    </a:lnTo>
                    <a:lnTo>
                      <a:pt x="334" y="160"/>
                    </a:lnTo>
                    <a:lnTo>
                      <a:pt x="335" y="17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964120" y="26449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335" h="335">
                    <a:moveTo>
                      <a:pt x="335" y="167"/>
                    </a:moveTo>
                    <a:lnTo>
                      <a:pt x="334" y="151"/>
                    </a:lnTo>
                    <a:lnTo>
                      <a:pt x="332" y="134"/>
                    </a:lnTo>
                    <a:lnTo>
                      <a:pt x="328" y="118"/>
                    </a:lnTo>
                    <a:lnTo>
                      <a:pt x="322" y="102"/>
                    </a:lnTo>
                    <a:lnTo>
                      <a:pt x="315" y="88"/>
                    </a:lnTo>
                    <a:lnTo>
                      <a:pt x="307" y="74"/>
                    </a:lnTo>
                    <a:lnTo>
                      <a:pt x="297" y="61"/>
                    </a:lnTo>
                    <a:lnTo>
                      <a:pt x="286" y="50"/>
                    </a:lnTo>
                    <a:lnTo>
                      <a:pt x="274" y="38"/>
                    </a:lnTo>
                    <a:lnTo>
                      <a:pt x="262" y="29"/>
                    </a:lnTo>
                    <a:lnTo>
                      <a:pt x="247" y="20"/>
                    </a:lnTo>
                    <a:lnTo>
                      <a:pt x="232" y="13"/>
                    </a:lnTo>
                    <a:lnTo>
                      <a:pt x="218" y="8"/>
                    </a:lnTo>
                    <a:lnTo>
                      <a:pt x="202" y="4"/>
                    </a:lnTo>
                    <a:lnTo>
                      <a:pt x="185" y="1"/>
                    </a:lnTo>
                    <a:lnTo>
                      <a:pt x="167" y="0"/>
                    </a:lnTo>
                    <a:lnTo>
                      <a:pt x="150" y="1"/>
                    </a:lnTo>
                    <a:lnTo>
                      <a:pt x="134" y="4"/>
                    </a:lnTo>
                    <a:lnTo>
                      <a:pt x="118" y="8"/>
                    </a:lnTo>
                    <a:lnTo>
                      <a:pt x="102" y="13"/>
                    </a:lnTo>
                    <a:lnTo>
                      <a:pt x="87" y="20"/>
                    </a:lnTo>
                    <a:lnTo>
                      <a:pt x="74" y="29"/>
                    </a:lnTo>
                    <a:lnTo>
                      <a:pt x="61" y="38"/>
                    </a:lnTo>
                    <a:lnTo>
                      <a:pt x="50" y="50"/>
                    </a:lnTo>
                    <a:lnTo>
                      <a:pt x="38" y="61"/>
                    </a:lnTo>
                    <a:lnTo>
                      <a:pt x="28" y="74"/>
                    </a:lnTo>
                    <a:lnTo>
                      <a:pt x="20" y="88"/>
                    </a:lnTo>
                    <a:lnTo>
                      <a:pt x="13" y="102"/>
                    </a:lnTo>
                    <a:lnTo>
                      <a:pt x="7" y="118"/>
                    </a:lnTo>
                    <a:lnTo>
                      <a:pt x="3" y="134"/>
                    </a:lnTo>
                    <a:lnTo>
                      <a:pt x="1" y="151"/>
                    </a:lnTo>
                    <a:lnTo>
                      <a:pt x="0" y="167"/>
                    </a:lnTo>
                    <a:lnTo>
                      <a:pt x="1" y="185"/>
                    </a:lnTo>
                    <a:lnTo>
                      <a:pt x="3" y="201"/>
                    </a:lnTo>
                    <a:lnTo>
                      <a:pt x="7" y="218"/>
                    </a:lnTo>
                    <a:lnTo>
                      <a:pt x="13" y="232"/>
                    </a:lnTo>
                    <a:lnTo>
                      <a:pt x="20" y="247"/>
                    </a:lnTo>
                    <a:lnTo>
                      <a:pt x="28" y="262"/>
                    </a:lnTo>
                    <a:lnTo>
                      <a:pt x="38" y="274"/>
                    </a:lnTo>
                    <a:lnTo>
                      <a:pt x="50" y="286"/>
                    </a:lnTo>
                    <a:lnTo>
                      <a:pt x="61" y="296"/>
                    </a:lnTo>
                    <a:lnTo>
                      <a:pt x="74" y="307"/>
                    </a:lnTo>
                    <a:lnTo>
                      <a:pt x="87" y="315"/>
                    </a:lnTo>
                    <a:lnTo>
                      <a:pt x="102" y="322"/>
                    </a:lnTo>
                    <a:lnTo>
                      <a:pt x="118" y="328"/>
                    </a:lnTo>
                    <a:lnTo>
                      <a:pt x="134" y="332"/>
                    </a:lnTo>
                    <a:lnTo>
                      <a:pt x="150" y="334"/>
                    </a:lnTo>
                    <a:lnTo>
                      <a:pt x="167" y="335"/>
                    </a:lnTo>
                    <a:lnTo>
                      <a:pt x="185" y="334"/>
                    </a:lnTo>
                    <a:lnTo>
                      <a:pt x="202" y="332"/>
                    </a:lnTo>
                    <a:lnTo>
                      <a:pt x="218" y="328"/>
                    </a:lnTo>
                    <a:lnTo>
                      <a:pt x="232" y="322"/>
                    </a:lnTo>
                    <a:lnTo>
                      <a:pt x="247" y="315"/>
                    </a:lnTo>
                    <a:lnTo>
                      <a:pt x="262" y="307"/>
                    </a:lnTo>
                    <a:lnTo>
                      <a:pt x="274" y="296"/>
                    </a:lnTo>
                    <a:lnTo>
                      <a:pt x="286" y="286"/>
                    </a:lnTo>
                    <a:lnTo>
                      <a:pt x="297" y="274"/>
                    </a:lnTo>
                    <a:lnTo>
                      <a:pt x="307" y="262"/>
                    </a:lnTo>
                    <a:lnTo>
                      <a:pt x="315" y="247"/>
                    </a:lnTo>
                    <a:lnTo>
                      <a:pt x="322" y="232"/>
                    </a:lnTo>
                    <a:lnTo>
                      <a:pt x="328" y="218"/>
                    </a:lnTo>
                    <a:lnTo>
                      <a:pt x="332" y="201"/>
                    </a:lnTo>
                    <a:lnTo>
                      <a:pt x="334" y="185"/>
                    </a:lnTo>
                    <a:lnTo>
                      <a:pt x="335" y="167"/>
                    </a:lnTo>
                    <a:close/>
                    <a:moveTo>
                      <a:pt x="319" y="167"/>
                    </a:moveTo>
                    <a:lnTo>
                      <a:pt x="318" y="183"/>
                    </a:lnTo>
                    <a:lnTo>
                      <a:pt x="315" y="198"/>
                    </a:lnTo>
                    <a:lnTo>
                      <a:pt x="311" y="212"/>
                    </a:lnTo>
                    <a:lnTo>
                      <a:pt x="307" y="226"/>
                    </a:lnTo>
                    <a:lnTo>
                      <a:pt x="301" y="240"/>
                    </a:lnTo>
                    <a:lnTo>
                      <a:pt x="292" y="252"/>
                    </a:lnTo>
                    <a:lnTo>
                      <a:pt x="284" y="264"/>
                    </a:lnTo>
                    <a:lnTo>
                      <a:pt x="274" y="274"/>
                    </a:lnTo>
                    <a:lnTo>
                      <a:pt x="264" y="284"/>
                    </a:lnTo>
                    <a:lnTo>
                      <a:pt x="252" y="292"/>
                    </a:lnTo>
                    <a:lnTo>
                      <a:pt x="240" y="301"/>
                    </a:lnTo>
                    <a:lnTo>
                      <a:pt x="226" y="307"/>
                    </a:lnTo>
                    <a:lnTo>
                      <a:pt x="212" y="311"/>
                    </a:lnTo>
                    <a:lnTo>
                      <a:pt x="198" y="315"/>
                    </a:lnTo>
                    <a:lnTo>
                      <a:pt x="183" y="317"/>
                    </a:lnTo>
                    <a:lnTo>
                      <a:pt x="167" y="319"/>
                    </a:lnTo>
                    <a:lnTo>
                      <a:pt x="153" y="317"/>
                    </a:lnTo>
                    <a:lnTo>
                      <a:pt x="137" y="315"/>
                    </a:lnTo>
                    <a:lnTo>
                      <a:pt x="123" y="311"/>
                    </a:lnTo>
                    <a:lnTo>
                      <a:pt x="108" y="307"/>
                    </a:lnTo>
                    <a:lnTo>
                      <a:pt x="96" y="301"/>
                    </a:lnTo>
                    <a:lnTo>
                      <a:pt x="83" y="292"/>
                    </a:lnTo>
                    <a:lnTo>
                      <a:pt x="72" y="284"/>
                    </a:lnTo>
                    <a:lnTo>
                      <a:pt x="61" y="274"/>
                    </a:lnTo>
                    <a:lnTo>
                      <a:pt x="52" y="264"/>
                    </a:lnTo>
                    <a:lnTo>
                      <a:pt x="42" y="252"/>
                    </a:lnTo>
                    <a:lnTo>
                      <a:pt x="35" y="240"/>
                    </a:lnTo>
                    <a:lnTo>
                      <a:pt x="28" y="226"/>
                    </a:lnTo>
                    <a:lnTo>
                      <a:pt x="23" y="212"/>
                    </a:lnTo>
                    <a:lnTo>
                      <a:pt x="20" y="198"/>
                    </a:lnTo>
                    <a:lnTo>
                      <a:pt x="18" y="183"/>
                    </a:lnTo>
                    <a:lnTo>
                      <a:pt x="17" y="167"/>
                    </a:lnTo>
                    <a:lnTo>
                      <a:pt x="18" y="153"/>
                    </a:lnTo>
                    <a:lnTo>
                      <a:pt x="20" y="137"/>
                    </a:lnTo>
                    <a:lnTo>
                      <a:pt x="23" y="123"/>
                    </a:lnTo>
                    <a:lnTo>
                      <a:pt x="28" y="109"/>
                    </a:lnTo>
                    <a:lnTo>
                      <a:pt x="35" y="96"/>
                    </a:lnTo>
                    <a:lnTo>
                      <a:pt x="42" y="83"/>
                    </a:lnTo>
                    <a:lnTo>
                      <a:pt x="52" y="72"/>
                    </a:lnTo>
                    <a:lnTo>
                      <a:pt x="61" y="61"/>
                    </a:lnTo>
                    <a:lnTo>
                      <a:pt x="72" y="52"/>
                    </a:lnTo>
                    <a:lnTo>
                      <a:pt x="83" y="42"/>
                    </a:lnTo>
                    <a:lnTo>
                      <a:pt x="96" y="35"/>
                    </a:lnTo>
                    <a:lnTo>
                      <a:pt x="108" y="29"/>
                    </a:lnTo>
                    <a:lnTo>
                      <a:pt x="123" y="23"/>
                    </a:lnTo>
                    <a:lnTo>
                      <a:pt x="137" y="20"/>
                    </a:lnTo>
                    <a:lnTo>
                      <a:pt x="153" y="18"/>
                    </a:lnTo>
                    <a:lnTo>
                      <a:pt x="167" y="17"/>
                    </a:lnTo>
                    <a:lnTo>
                      <a:pt x="183" y="18"/>
                    </a:lnTo>
                    <a:lnTo>
                      <a:pt x="198" y="20"/>
                    </a:lnTo>
                    <a:lnTo>
                      <a:pt x="212" y="23"/>
                    </a:lnTo>
                    <a:lnTo>
                      <a:pt x="226" y="29"/>
                    </a:lnTo>
                    <a:lnTo>
                      <a:pt x="240" y="35"/>
                    </a:lnTo>
                    <a:lnTo>
                      <a:pt x="252" y="42"/>
                    </a:lnTo>
                    <a:lnTo>
                      <a:pt x="264" y="52"/>
                    </a:lnTo>
                    <a:lnTo>
                      <a:pt x="274" y="61"/>
                    </a:lnTo>
                    <a:lnTo>
                      <a:pt x="284" y="72"/>
                    </a:lnTo>
                    <a:lnTo>
                      <a:pt x="292" y="83"/>
                    </a:lnTo>
                    <a:lnTo>
                      <a:pt x="301" y="96"/>
                    </a:lnTo>
                    <a:lnTo>
                      <a:pt x="307" y="109"/>
                    </a:lnTo>
                    <a:lnTo>
                      <a:pt x="311" y="123"/>
                    </a:lnTo>
                    <a:lnTo>
                      <a:pt x="315" y="137"/>
                    </a:lnTo>
                    <a:lnTo>
                      <a:pt x="318" y="153"/>
                    </a:lnTo>
                    <a:lnTo>
                      <a:pt x="319" y="1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967360" y="2647800"/>
                <a:ext cx="101520" cy="100080"/>
              </a:xfrm>
              <a:custGeom>
                <a:avLst/>
                <a:gdLst/>
                <a:ahLst/>
                <a:rect l="l" t="t" r="r" b="b"/>
                <a:pathLst>
                  <a:path w="318" h="318">
                    <a:moveTo>
                      <a:pt x="318" y="158"/>
                    </a:moveTo>
                    <a:lnTo>
                      <a:pt x="317" y="143"/>
                    </a:lnTo>
                    <a:lnTo>
                      <a:pt x="315" y="127"/>
                    </a:lnTo>
                    <a:lnTo>
                      <a:pt x="311" y="111"/>
                    </a:lnTo>
                    <a:lnTo>
                      <a:pt x="305" y="96"/>
                    </a:lnTo>
                    <a:lnTo>
                      <a:pt x="299" y="83"/>
                    </a:lnTo>
                    <a:lnTo>
                      <a:pt x="291" y="70"/>
                    </a:lnTo>
                    <a:lnTo>
                      <a:pt x="281" y="58"/>
                    </a:lnTo>
                    <a:lnTo>
                      <a:pt x="272" y="46"/>
                    </a:lnTo>
                    <a:lnTo>
                      <a:pt x="260" y="35"/>
                    </a:lnTo>
                    <a:lnTo>
                      <a:pt x="248" y="27"/>
                    </a:lnTo>
                    <a:lnTo>
                      <a:pt x="235" y="19"/>
                    </a:lnTo>
                    <a:lnTo>
                      <a:pt x="220" y="12"/>
                    </a:lnTo>
                    <a:lnTo>
                      <a:pt x="206" y="7"/>
                    </a:lnTo>
                    <a:lnTo>
                      <a:pt x="191" y="3"/>
                    </a:lnTo>
                    <a:lnTo>
                      <a:pt x="175" y="1"/>
                    </a:lnTo>
                    <a:lnTo>
                      <a:pt x="158" y="0"/>
                    </a:lnTo>
                    <a:lnTo>
                      <a:pt x="142" y="1"/>
                    </a:lnTo>
                    <a:lnTo>
                      <a:pt x="127" y="3"/>
                    </a:lnTo>
                    <a:lnTo>
                      <a:pt x="111" y="7"/>
                    </a:lnTo>
                    <a:lnTo>
                      <a:pt x="96" y="12"/>
                    </a:lnTo>
                    <a:lnTo>
                      <a:pt x="83" y="19"/>
                    </a:lnTo>
                    <a:lnTo>
                      <a:pt x="70" y="27"/>
                    </a:lnTo>
                    <a:lnTo>
                      <a:pt x="57" y="35"/>
                    </a:lnTo>
                    <a:lnTo>
                      <a:pt x="46" y="46"/>
                    </a:lnTo>
                    <a:lnTo>
                      <a:pt x="35" y="58"/>
                    </a:lnTo>
                    <a:lnTo>
                      <a:pt x="27" y="70"/>
                    </a:lnTo>
                    <a:lnTo>
                      <a:pt x="18" y="83"/>
                    </a:lnTo>
                    <a:lnTo>
                      <a:pt x="12" y="96"/>
                    </a:lnTo>
                    <a:lnTo>
                      <a:pt x="7" y="111"/>
                    </a:lnTo>
                    <a:lnTo>
                      <a:pt x="3" y="127"/>
                    </a:lnTo>
                    <a:lnTo>
                      <a:pt x="1" y="143"/>
                    </a:lnTo>
                    <a:lnTo>
                      <a:pt x="0" y="158"/>
                    </a:lnTo>
                    <a:lnTo>
                      <a:pt x="1" y="175"/>
                    </a:lnTo>
                    <a:lnTo>
                      <a:pt x="3" y="191"/>
                    </a:lnTo>
                    <a:lnTo>
                      <a:pt x="7" y="206"/>
                    </a:lnTo>
                    <a:lnTo>
                      <a:pt x="12" y="220"/>
                    </a:lnTo>
                    <a:lnTo>
                      <a:pt x="18" y="235"/>
                    </a:lnTo>
                    <a:lnTo>
                      <a:pt x="27" y="248"/>
                    </a:lnTo>
                    <a:lnTo>
                      <a:pt x="35" y="260"/>
                    </a:lnTo>
                    <a:lnTo>
                      <a:pt x="46" y="271"/>
                    </a:lnTo>
                    <a:lnTo>
                      <a:pt x="57" y="281"/>
                    </a:lnTo>
                    <a:lnTo>
                      <a:pt x="70" y="291"/>
                    </a:lnTo>
                    <a:lnTo>
                      <a:pt x="83" y="299"/>
                    </a:lnTo>
                    <a:lnTo>
                      <a:pt x="96" y="305"/>
                    </a:lnTo>
                    <a:lnTo>
                      <a:pt x="111" y="311"/>
                    </a:lnTo>
                    <a:lnTo>
                      <a:pt x="127" y="315"/>
                    </a:lnTo>
                    <a:lnTo>
                      <a:pt x="142" y="317"/>
                    </a:lnTo>
                    <a:lnTo>
                      <a:pt x="158" y="318"/>
                    </a:lnTo>
                    <a:lnTo>
                      <a:pt x="175" y="317"/>
                    </a:lnTo>
                    <a:lnTo>
                      <a:pt x="191" y="315"/>
                    </a:lnTo>
                    <a:lnTo>
                      <a:pt x="206" y="311"/>
                    </a:lnTo>
                    <a:lnTo>
                      <a:pt x="220" y="305"/>
                    </a:lnTo>
                    <a:lnTo>
                      <a:pt x="235" y="299"/>
                    </a:lnTo>
                    <a:lnTo>
                      <a:pt x="248" y="291"/>
                    </a:lnTo>
                    <a:lnTo>
                      <a:pt x="260" y="281"/>
                    </a:lnTo>
                    <a:lnTo>
                      <a:pt x="272" y="271"/>
                    </a:lnTo>
                    <a:lnTo>
                      <a:pt x="281" y="260"/>
                    </a:lnTo>
                    <a:lnTo>
                      <a:pt x="291" y="248"/>
                    </a:lnTo>
                    <a:lnTo>
                      <a:pt x="299" y="235"/>
                    </a:lnTo>
                    <a:lnTo>
                      <a:pt x="305" y="220"/>
                    </a:lnTo>
                    <a:lnTo>
                      <a:pt x="311" y="206"/>
                    </a:lnTo>
                    <a:lnTo>
                      <a:pt x="315" y="191"/>
                    </a:lnTo>
                    <a:lnTo>
                      <a:pt x="317" y="175"/>
                    </a:lnTo>
                    <a:lnTo>
                      <a:pt x="318" y="158"/>
                    </a:lnTo>
                    <a:close/>
                    <a:moveTo>
                      <a:pt x="301" y="158"/>
                    </a:moveTo>
                    <a:lnTo>
                      <a:pt x="300" y="173"/>
                    </a:lnTo>
                    <a:lnTo>
                      <a:pt x="298" y="188"/>
                    </a:lnTo>
                    <a:lnTo>
                      <a:pt x="295" y="201"/>
                    </a:lnTo>
                    <a:lnTo>
                      <a:pt x="290" y="214"/>
                    </a:lnTo>
                    <a:lnTo>
                      <a:pt x="284" y="227"/>
                    </a:lnTo>
                    <a:lnTo>
                      <a:pt x="277" y="238"/>
                    </a:lnTo>
                    <a:lnTo>
                      <a:pt x="269" y="250"/>
                    </a:lnTo>
                    <a:lnTo>
                      <a:pt x="259" y="259"/>
                    </a:lnTo>
                    <a:lnTo>
                      <a:pt x="250" y="269"/>
                    </a:lnTo>
                    <a:lnTo>
                      <a:pt x="238" y="277"/>
                    </a:lnTo>
                    <a:lnTo>
                      <a:pt x="227" y="284"/>
                    </a:lnTo>
                    <a:lnTo>
                      <a:pt x="214" y="290"/>
                    </a:lnTo>
                    <a:lnTo>
                      <a:pt x="201" y="295"/>
                    </a:lnTo>
                    <a:lnTo>
                      <a:pt x="188" y="298"/>
                    </a:lnTo>
                    <a:lnTo>
                      <a:pt x="173" y="300"/>
                    </a:lnTo>
                    <a:lnTo>
                      <a:pt x="158" y="301"/>
                    </a:lnTo>
                    <a:lnTo>
                      <a:pt x="145" y="300"/>
                    </a:lnTo>
                    <a:lnTo>
                      <a:pt x="130" y="298"/>
                    </a:lnTo>
                    <a:lnTo>
                      <a:pt x="116" y="295"/>
                    </a:lnTo>
                    <a:lnTo>
                      <a:pt x="104" y="290"/>
                    </a:lnTo>
                    <a:lnTo>
                      <a:pt x="91" y="284"/>
                    </a:lnTo>
                    <a:lnTo>
                      <a:pt x="79" y="277"/>
                    </a:lnTo>
                    <a:lnTo>
                      <a:pt x="68" y="269"/>
                    </a:lnTo>
                    <a:lnTo>
                      <a:pt x="58" y="259"/>
                    </a:lnTo>
                    <a:lnTo>
                      <a:pt x="49" y="250"/>
                    </a:lnTo>
                    <a:lnTo>
                      <a:pt x="41" y="238"/>
                    </a:lnTo>
                    <a:lnTo>
                      <a:pt x="33" y="227"/>
                    </a:lnTo>
                    <a:lnTo>
                      <a:pt x="27" y="214"/>
                    </a:lnTo>
                    <a:lnTo>
                      <a:pt x="23" y="201"/>
                    </a:lnTo>
                    <a:lnTo>
                      <a:pt x="19" y="188"/>
                    </a:lnTo>
                    <a:lnTo>
                      <a:pt x="17" y="173"/>
                    </a:lnTo>
                    <a:lnTo>
                      <a:pt x="16" y="158"/>
                    </a:lnTo>
                    <a:lnTo>
                      <a:pt x="17" y="144"/>
                    </a:lnTo>
                    <a:lnTo>
                      <a:pt x="19" y="130"/>
                    </a:lnTo>
                    <a:lnTo>
                      <a:pt x="23" y="116"/>
                    </a:lnTo>
                    <a:lnTo>
                      <a:pt x="27" y="104"/>
                    </a:lnTo>
                    <a:lnTo>
                      <a:pt x="33" y="91"/>
                    </a:lnTo>
                    <a:lnTo>
                      <a:pt x="41" y="80"/>
                    </a:lnTo>
                    <a:lnTo>
                      <a:pt x="49" y="68"/>
                    </a:lnTo>
                    <a:lnTo>
                      <a:pt x="58" y="58"/>
                    </a:lnTo>
                    <a:lnTo>
                      <a:pt x="68" y="49"/>
                    </a:lnTo>
                    <a:lnTo>
                      <a:pt x="79" y="41"/>
                    </a:lnTo>
                    <a:lnTo>
                      <a:pt x="91" y="33"/>
                    </a:lnTo>
                    <a:lnTo>
                      <a:pt x="104" y="27"/>
                    </a:lnTo>
                    <a:lnTo>
                      <a:pt x="116" y="23"/>
                    </a:lnTo>
                    <a:lnTo>
                      <a:pt x="130" y="19"/>
                    </a:lnTo>
                    <a:lnTo>
                      <a:pt x="145" y="17"/>
                    </a:lnTo>
                    <a:lnTo>
                      <a:pt x="158" y="17"/>
                    </a:lnTo>
                    <a:lnTo>
                      <a:pt x="173" y="17"/>
                    </a:lnTo>
                    <a:lnTo>
                      <a:pt x="188" y="19"/>
                    </a:lnTo>
                    <a:lnTo>
                      <a:pt x="201" y="23"/>
                    </a:lnTo>
                    <a:lnTo>
                      <a:pt x="214" y="27"/>
                    </a:lnTo>
                    <a:lnTo>
                      <a:pt x="227" y="33"/>
                    </a:lnTo>
                    <a:lnTo>
                      <a:pt x="238" y="41"/>
                    </a:lnTo>
                    <a:lnTo>
                      <a:pt x="250" y="49"/>
                    </a:lnTo>
                    <a:lnTo>
                      <a:pt x="259" y="58"/>
                    </a:lnTo>
                    <a:lnTo>
                      <a:pt x="269" y="68"/>
                    </a:lnTo>
                    <a:lnTo>
                      <a:pt x="277" y="80"/>
                    </a:lnTo>
                    <a:lnTo>
                      <a:pt x="284" y="91"/>
                    </a:lnTo>
                    <a:lnTo>
                      <a:pt x="290" y="104"/>
                    </a:lnTo>
                    <a:lnTo>
                      <a:pt x="295" y="116"/>
                    </a:lnTo>
                    <a:lnTo>
                      <a:pt x="298" y="130"/>
                    </a:lnTo>
                    <a:lnTo>
                      <a:pt x="300" y="144"/>
                    </a:lnTo>
                    <a:lnTo>
                      <a:pt x="301" y="15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970600" y="264960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302" y="150"/>
                    </a:moveTo>
                    <a:lnTo>
                      <a:pt x="301" y="136"/>
                    </a:lnTo>
                    <a:lnTo>
                      <a:pt x="298" y="120"/>
                    </a:lnTo>
                    <a:lnTo>
                      <a:pt x="294" y="106"/>
                    </a:lnTo>
                    <a:lnTo>
                      <a:pt x="290" y="92"/>
                    </a:lnTo>
                    <a:lnTo>
                      <a:pt x="284" y="79"/>
                    </a:lnTo>
                    <a:lnTo>
                      <a:pt x="275" y="66"/>
                    </a:lnTo>
                    <a:lnTo>
                      <a:pt x="267" y="55"/>
                    </a:lnTo>
                    <a:lnTo>
                      <a:pt x="257" y="44"/>
                    </a:lnTo>
                    <a:lnTo>
                      <a:pt x="247" y="35"/>
                    </a:lnTo>
                    <a:lnTo>
                      <a:pt x="235" y="25"/>
                    </a:lnTo>
                    <a:lnTo>
                      <a:pt x="223" y="18"/>
                    </a:lnTo>
                    <a:lnTo>
                      <a:pt x="209" y="12"/>
                    </a:lnTo>
                    <a:lnTo>
                      <a:pt x="195" y="6"/>
                    </a:lnTo>
                    <a:lnTo>
                      <a:pt x="181" y="3"/>
                    </a:lnTo>
                    <a:lnTo>
                      <a:pt x="166" y="1"/>
                    </a:lnTo>
                    <a:lnTo>
                      <a:pt x="150" y="0"/>
                    </a:lnTo>
                    <a:lnTo>
                      <a:pt x="136" y="1"/>
                    </a:lnTo>
                    <a:lnTo>
                      <a:pt x="120" y="3"/>
                    </a:lnTo>
                    <a:lnTo>
                      <a:pt x="106" y="6"/>
                    </a:lnTo>
                    <a:lnTo>
                      <a:pt x="91" y="12"/>
                    </a:lnTo>
                    <a:lnTo>
                      <a:pt x="79" y="18"/>
                    </a:lnTo>
                    <a:lnTo>
                      <a:pt x="66" y="25"/>
                    </a:lnTo>
                    <a:lnTo>
                      <a:pt x="55" y="35"/>
                    </a:lnTo>
                    <a:lnTo>
                      <a:pt x="44" y="44"/>
                    </a:lnTo>
                    <a:lnTo>
                      <a:pt x="35" y="55"/>
                    </a:lnTo>
                    <a:lnTo>
                      <a:pt x="25" y="66"/>
                    </a:lnTo>
                    <a:lnTo>
                      <a:pt x="18" y="79"/>
                    </a:lnTo>
                    <a:lnTo>
                      <a:pt x="11" y="92"/>
                    </a:lnTo>
                    <a:lnTo>
                      <a:pt x="6" y="106"/>
                    </a:lnTo>
                    <a:lnTo>
                      <a:pt x="3" y="120"/>
                    </a:lnTo>
                    <a:lnTo>
                      <a:pt x="1" y="136"/>
                    </a:lnTo>
                    <a:lnTo>
                      <a:pt x="0" y="150"/>
                    </a:lnTo>
                    <a:lnTo>
                      <a:pt x="1" y="166"/>
                    </a:lnTo>
                    <a:lnTo>
                      <a:pt x="3" y="181"/>
                    </a:lnTo>
                    <a:lnTo>
                      <a:pt x="6" y="195"/>
                    </a:lnTo>
                    <a:lnTo>
                      <a:pt x="11" y="209"/>
                    </a:lnTo>
                    <a:lnTo>
                      <a:pt x="18" y="223"/>
                    </a:lnTo>
                    <a:lnTo>
                      <a:pt x="25" y="235"/>
                    </a:lnTo>
                    <a:lnTo>
                      <a:pt x="35" y="247"/>
                    </a:lnTo>
                    <a:lnTo>
                      <a:pt x="44" y="257"/>
                    </a:lnTo>
                    <a:lnTo>
                      <a:pt x="55" y="267"/>
                    </a:lnTo>
                    <a:lnTo>
                      <a:pt x="66" y="275"/>
                    </a:lnTo>
                    <a:lnTo>
                      <a:pt x="79" y="284"/>
                    </a:lnTo>
                    <a:lnTo>
                      <a:pt x="91" y="290"/>
                    </a:lnTo>
                    <a:lnTo>
                      <a:pt x="106" y="294"/>
                    </a:lnTo>
                    <a:lnTo>
                      <a:pt x="120" y="298"/>
                    </a:lnTo>
                    <a:lnTo>
                      <a:pt x="136" y="300"/>
                    </a:lnTo>
                    <a:lnTo>
                      <a:pt x="150" y="302"/>
                    </a:lnTo>
                    <a:lnTo>
                      <a:pt x="166" y="300"/>
                    </a:lnTo>
                    <a:lnTo>
                      <a:pt x="181" y="298"/>
                    </a:lnTo>
                    <a:lnTo>
                      <a:pt x="195" y="294"/>
                    </a:lnTo>
                    <a:lnTo>
                      <a:pt x="209" y="290"/>
                    </a:lnTo>
                    <a:lnTo>
                      <a:pt x="223" y="284"/>
                    </a:lnTo>
                    <a:lnTo>
                      <a:pt x="235" y="275"/>
                    </a:lnTo>
                    <a:lnTo>
                      <a:pt x="247" y="267"/>
                    </a:lnTo>
                    <a:lnTo>
                      <a:pt x="257" y="257"/>
                    </a:lnTo>
                    <a:lnTo>
                      <a:pt x="267" y="247"/>
                    </a:lnTo>
                    <a:lnTo>
                      <a:pt x="275" y="235"/>
                    </a:lnTo>
                    <a:lnTo>
                      <a:pt x="284" y="223"/>
                    </a:lnTo>
                    <a:lnTo>
                      <a:pt x="290" y="209"/>
                    </a:lnTo>
                    <a:lnTo>
                      <a:pt x="294" y="195"/>
                    </a:lnTo>
                    <a:lnTo>
                      <a:pt x="298" y="181"/>
                    </a:lnTo>
                    <a:lnTo>
                      <a:pt x="301" y="166"/>
                    </a:lnTo>
                    <a:lnTo>
                      <a:pt x="302" y="150"/>
                    </a:lnTo>
                    <a:close/>
                    <a:moveTo>
                      <a:pt x="285" y="150"/>
                    </a:moveTo>
                    <a:lnTo>
                      <a:pt x="284" y="164"/>
                    </a:lnTo>
                    <a:lnTo>
                      <a:pt x="282" y="178"/>
                    </a:lnTo>
                    <a:lnTo>
                      <a:pt x="278" y="190"/>
                    </a:lnTo>
                    <a:lnTo>
                      <a:pt x="274" y="203"/>
                    </a:lnTo>
                    <a:lnTo>
                      <a:pt x="269" y="214"/>
                    </a:lnTo>
                    <a:lnTo>
                      <a:pt x="262" y="226"/>
                    </a:lnTo>
                    <a:lnTo>
                      <a:pt x="254" y="235"/>
                    </a:lnTo>
                    <a:lnTo>
                      <a:pt x="246" y="246"/>
                    </a:lnTo>
                    <a:lnTo>
                      <a:pt x="235" y="254"/>
                    </a:lnTo>
                    <a:lnTo>
                      <a:pt x="226" y="262"/>
                    </a:lnTo>
                    <a:lnTo>
                      <a:pt x="214" y="269"/>
                    </a:lnTo>
                    <a:lnTo>
                      <a:pt x="203" y="274"/>
                    </a:lnTo>
                    <a:lnTo>
                      <a:pt x="190" y="278"/>
                    </a:lnTo>
                    <a:lnTo>
                      <a:pt x="178" y="282"/>
                    </a:lnTo>
                    <a:lnTo>
                      <a:pt x="164" y="284"/>
                    </a:lnTo>
                    <a:lnTo>
                      <a:pt x="150" y="285"/>
                    </a:lnTo>
                    <a:lnTo>
                      <a:pt x="137" y="284"/>
                    </a:lnTo>
                    <a:lnTo>
                      <a:pt x="124" y="282"/>
                    </a:lnTo>
                    <a:lnTo>
                      <a:pt x="110" y="278"/>
                    </a:lnTo>
                    <a:lnTo>
                      <a:pt x="99" y="274"/>
                    </a:lnTo>
                    <a:lnTo>
                      <a:pt x="87" y="269"/>
                    </a:lnTo>
                    <a:lnTo>
                      <a:pt x="76" y="262"/>
                    </a:lnTo>
                    <a:lnTo>
                      <a:pt x="65" y="254"/>
                    </a:lnTo>
                    <a:lnTo>
                      <a:pt x="56" y="246"/>
                    </a:lnTo>
                    <a:lnTo>
                      <a:pt x="47" y="235"/>
                    </a:lnTo>
                    <a:lnTo>
                      <a:pt x="40" y="226"/>
                    </a:lnTo>
                    <a:lnTo>
                      <a:pt x="33" y="214"/>
                    </a:lnTo>
                    <a:lnTo>
                      <a:pt x="27" y="203"/>
                    </a:lnTo>
                    <a:lnTo>
                      <a:pt x="22" y="190"/>
                    </a:lnTo>
                    <a:lnTo>
                      <a:pt x="19" y="178"/>
                    </a:lnTo>
                    <a:lnTo>
                      <a:pt x="17" y="164"/>
                    </a:lnTo>
                    <a:lnTo>
                      <a:pt x="17" y="150"/>
                    </a:lnTo>
                    <a:lnTo>
                      <a:pt x="17" y="137"/>
                    </a:lnTo>
                    <a:lnTo>
                      <a:pt x="19" y="124"/>
                    </a:lnTo>
                    <a:lnTo>
                      <a:pt x="22" y="110"/>
                    </a:lnTo>
                    <a:lnTo>
                      <a:pt x="27" y="99"/>
                    </a:lnTo>
                    <a:lnTo>
                      <a:pt x="33" y="87"/>
                    </a:lnTo>
                    <a:lnTo>
                      <a:pt x="40" y="76"/>
                    </a:lnTo>
                    <a:lnTo>
                      <a:pt x="47" y="65"/>
                    </a:lnTo>
                    <a:lnTo>
                      <a:pt x="56" y="56"/>
                    </a:lnTo>
                    <a:lnTo>
                      <a:pt x="65" y="47"/>
                    </a:lnTo>
                    <a:lnTo>
                      <a:pt x="76" y="40"/>
                    </a:lnTo>
                    <a:lnTo>
                      <a:pt x="87" y="33"/>
                    </a:lnTo>
                    <a:lnTo>
                      <a:pt x="99" y="27"/>
                    </a:lnTo>
                    <a:lnTo>
                      <a:pt x="110" y="23"/>
                    </a:lnTo>
                    <a:lnTo>
                      <a:pt x="124" y="19"/>
                    </a:lnTo>
                    <a:lnTo>
                      <a:pt x="137" y="17"/>
                    </a:lnTo>
                    <a:lnTo>
                      <a:pt x="150" y="17"/>
                    </a:lnTo>
                    <a:lnTo>
                      <a:pt x="164" y="17"/>
                    </a:lnTo>
                    <a:lnTo>
                      <a:pt x="178" y="19"/>
                    </a:lnTo>
                    <a:lnTo>
                      <a:pt x="190" y="23"/>
                    </a:lnTo>
                    <a:lnTo>
                      <a:pt x="203" y="27"/>
                    </a:lnTo>
                    <a:lnTo>
                      <a:pt x="214" y="33"/>
                    </a:lnTo>
                    <a:lnTo>
                      <a:pt x="226" y="40"/>
                    </a:lnTo>
                    <a:lnTo>
                      <a:pt x="235" y="47"/>
                    </a:lnTo>
                    <a:lnTo>
                      <a:pt x="246" y="56"/>
                    </a:lnTo>
                    <a:lnTo>
                      <a:pt x="254" y="65"/>
                    </a:lnTo>
                    <a:lnTo>
                      <a:pt x="262" y="76"/>
                    </a:lnTo>
                    <a:lnTo>
                      <a:pt x="269" y="87"/>
                    </a:lnTo>
                    <a:lnTo>
                      <a:pt x="274" y="99"/>
                    </a:lnTo>
                    <a:lnTo>
                      <a:pt x="278" y="110"/>
                    </a:lnTo>
                    <a:lnTo>
                      <a:pt x="282" y="124"/>
                    </a:lnTo>
                    <a:lnTo>
                      <a:pt x="284" y="137"/>
                    </a:lnTo>
                    <a:lnTo>
                      <a:pt x="285" y="15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72040" y="265284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285" h="284">
                    <a:moveTo>
                      <a:pt x="285" y="141"/>
                    </a:moveTo>
                    <a:lnTo>
                      <a:pt x="284" y="127"/>
                    </a:lnTo>
                    <a:lnTo>
                      <a:pt x="282" y="113"/>
                    </a:lnTo>
                    <a:lnTo>
                      <a:pt x="279" y="99"/>
                    </a:lnTo>
                    <a:lnTo>
                      <a:pt x="274" y="87"/>
                    </a:lnTo>
                    <a:lnTo>
                      <a:pt x="268" y="74"/>
                    </a:lnTo>
                    <a:lnTo>
                      <a:pt x="261" y="63"/>
                    </a:lnTo>
                    <a:lnTo>
                      <a:pt x="253" y="51"/>
                    </a:lnTo>
                    <a:lnTo>
                      <a:pt x="243" y="41"/>
                    </a:lnTo>
                    <a:lnTo>
                      <a:pt x="234" y="32"/>
                    </a:lnTo>
                    <a:lnTo>
                      <a:pt x="222" y="24"/>
                    </a:lnTo>
                    <a:lnTo>
                      <a:pt x="211" y="16"/>
                    </a:lnTo>
                    <a:lnTo>
                      <a:pt x="198" y="10"/>
                    </a:lnTo>
                    <a:lnTo>
                      <a:pt x="185" y="6"/>
                    </a:lnTo>
                    <a:lnTo>
                      <a:pt x="172" y="2"/>
                    </a:lnTo>
                    <a:lnTo>
                      <a:pt x="157" y="0"/>
                    </a:lnTo>
                    <a:lnTo>
                      <a:pt x="142" y="0"/>
                    </a:lnTo>
                    <a:lnTo>
                      <a:pt x="129" y="0"/>
                    </a:lnTo>
                    <a:lnTo>
                      <a:pt x="114" y="2"/>
                    </a:lnTo>
                    <a:lnTo>
                      <a:pt x="100" y="6"/>
                    </a:lnTo>
                    <a:lnTo>
                      <a:pt x="88" y="10"/>
                    </a:lnTo>
                    <a:lnTo>
                      <a:pt x="75" y="16"/>
                    </a:lnTo>
                    <a:lnTo>
                      <a:pt x="63" y="24"/>
                    </a:lnTo>
                    <a:lnTo>
                      <a:pt x="52" y="32"/>
                    </a:lnTo>
                    <a:lnTo>
                      <a:pt x="42" y="41"/>
                    </a:lnTo>
                    <a:lnTo>
                      <a:pt x="33" y="51"/>
                    </a:lnTo>
                    <a:lnTo>
                      <a:pt x="25" y="63"/>
                    </a:lnTo>
                    <a:lnTo>
                      <a:pt x="17" y="74"/>
                    </a:lnTo>
                    <a:lnTo>
                      <a:pt x="11" y="87"/>
                    </a:lnTo>
                    <a:lnTo>
                      <a:pt x="7" y="99"/>
                    </a:lnTo>
                    <a:lnTo>
                      <a:pt x="3" y="113"/>
                    </a:lnTo>
                    <a:lnTo>
                      <a:pt x="1" y="127"/>
                    </a:lnTo>
                    <a:lnTo>
                      <a:pt x="0" y="141"/>
                    </a:lnTo>
                    <a:lnTo>
                      <a:pt x="1" y="156"/>
                    </a:lnTo>
                    <a:lnTo>
                      <a:pt x="3" y="171"/>
                    </a:lnTo>
                    <a:lnTo>
                      <a:pt x="7" y="184"/>
                    </a:lnTo>
                    <a:lnTo>
                      <a:pt x="11" y="197"/>
                    </a:lnTo>
                    <a:lnTo>
                      <a:pt x="17" y="210"/>
                    </a:lnTo>
                    <a:lnTo>
                      <a:pt x="25" y="221"/>
                    </a:lnTo>
                    <a:lnTo>
                      <a:pt x="33" y="233"/>
                    </a:lnTo>
                    <a:lnTo>
                      <a:pt x="42" y="242"/>
                    </a:lnTo>
                    <a:lnTo>
                      <a:pt x="52" y="252"/>
                    </a:lnTo>
                    <a:lnTo>
                      <a:pt x="63" y="260"/>
                    </a:lnTo>
                    <a:lnTo>
                      <a:pt x="75" y="267"/>
                    </a:lnTo>
                    <a:lnTo>
                      <a:pt x="88" y="273"/>
                    </a:lnTo>
                    <a:lnTo>
                      <a:pt x="100" y="278"/>
                    </a:lnTo>
                    <a:lnTo>
                      <a:pt x="114" y="281"/>
                    </a:lnTo>
                    <a:lnTo>
                      <a:pt x="129" y="283"/>
                    </a:lnTo>
                    <a:lnTo>
                      <a:pt x="142" y="284"/>
                    </a:lnTo>
                    <a:lnTo>
                      <a:pt x="157" y="283"/>
                    </a:lnTo>
                    <a:lnTo>
                      <a:pt x="172" y="281"/>
                    </a:lnTo>
                    <a:lnTo>
                      <a:pt x="185" y="278"/>
                    </a:lnTo>
                    <a:lnTo>
                      <a:pt x="198" y="273"/>
                    </a:lnTo>
                    <a:lnTo>
                      <a:pt x="211" y="267"/>
                    </a:lnTo>
                    <a:lnTo>
                      <a:pt x="222" y="260"/>
                    </a:lnTo>
                    <a:lnTo>
                      <a:pt x="234" y="252"/>
                    </a:lnTo>
                    <a:lnTo>
                      <a:pt x="243" y="242"/>
                    </a:lnTo>
                    <a:lnTo>
                      <a:pt x="253" y="233"/>
                    </a:lnTo>
                    <a:lnTo>
                      <a:pt x="261" y="221"/>
                    </a:lnTo>
                    <a:lnTo>
                      <a:pt x="268" y="210"/>
                    </a:lnTo>
                    <a:lnTo>
                      <a:pt x="274" y="197"/>
                    </a:lnTo>
                    <a:lnTo>
                      <a:pt x="279" y="184"/>
                    </a:lnTo>
                    <a:lnTo>
                      <a:pt x="282" y="171"/>
                    </a:lnTo>
                    <a:lnTo>
                      <a:pt x="284" y="156"/>
                    </a:lnTo>
                    <a:lnTo>
                      <a:pt x="285" y="141"/>
                    </a:lnTo>
                    <a:close/>
                    <a:moveTo>
                      <a:pt x="268" y="141"/>
                    </a:moveTo>
                    <a:lnTo>
                      <a:pt x="267" y="155"/>
                    </a:lnTo>
                    <a:lnTo>
                      <a:pt x="266" y="167"/>
                    </a:lnTo>
                    <a:lnTo>
                      <a:pt x="263" y="179"/>
                    </a:lnTo>
                    <a:lnTo>
                      <a:pt x="259" y="191"/>
                    </a:lnTo>
                    <a:lnTo>
                      <a:pt x="254" y="201"/>
                    </a:lnTo>
                    <a:lnTo>
                      <a:pt x="247" y="212"/>
                    </a:lnTo>
                    <a:lnTo>
                      <a:pt x="240" y="221"/>
                    </a:lnTo>
                    <a:lnTo>
                      <a:pt x="232" y="231"/>
                    </a:lnTo>
                    <a:lnTo>
                      <a:pt x="222" y="239"/>
                    </a:lnTo>
                    <a:lnTo>
                      <a:pt x="213" y="246"/>
                    </a:lnTo>
                    <a:lnTo>
                      <a:pt x="202" y="253"/>
                    </a:lnTo>
                    <a:lnTo>
                      <a:pt x="192" y="258"/>
                    </a:lnTo>
                    <a:lnTo>
                      <a:pt x="180" y="262"/>
                    </a:lnTo>
                    <a:lnTo>
                      <a:pt x="167" y="265"/>
                    </a:lnTo>
                    <a:lnTo>
                      <a:pt x="156" y="266"/>
                    </a:lnTo>
                    <a:lnTo>
                      <a:pt x="142" y="267"/>
                    </a:lnTo>
                    <a:lnTo>
                      <a:pt x="130" y="266"/>
                    </a:lnTo>
                    <a:lnTo>
                      <a:pt x="117" y="265"/>
                    </a:lnTo>
                    <a:lnTo>
                      <a:pt x="105" y="262"/>
                    </a:lnTo>
                    <a:lnTo>
                      <a:pt x="94" y="258"/>
                    </a:lnTo>
                    <a:lnTo>
                      <a:pt x="82" y="253"/>
                    </a:lnTo>
                    <a:lnTo>
                      <a:pt x="72" y="246"/>
                    </a:lnTo>
                    <a:lnTo>
                      <a:pt x="62" y="239"/>
                    </a:lnTo>
                    <a:lnTo>
                      <a:pt x="54" y="231"/>
                    </a:lnTo>
                    <a:lnTo>
                      <a:pt x="46" y="221"/>
                    </a:lnTo>
                    <a:lnTo>
                      <a:pt x="38" y="212"/>
                    </a:lnTo>
                    <a:lnTo>
                      <a:pt x="32" y="201"/>
                    </a:lnTo>
                    <a:lnTo>
                      <a:pt x="27" y="191"/>
                    </a:lnTo>
                    <a:lnTo>
                      <a:pt x="22" y="179"/>
                    </a:lnTo>
                    <a:lnTo>
                      <a:pt x="19" y="167"/>
                    </a:lnTo>
                    <a:lnTo>
                      <a:pt x="17" y="155"/>
                    </a:lnTo>
                    <a:lnTo>
                      <a:pt x="17" y="141"/>
                    </a:lnTo>
                    <a:lnTo>
                      <a:pt x="17" y="129"/>
                    </a:lnTo>
                    <a:lnTo>
                      <a:pt x="19" y="116"/>
                    </a:lnTo>
                    <a:lnTo>
                      <a:pt x="22" y="105"/>
                    </a:lnTo>
                    <a:lnTo>
                      <a:pt x="27" y="93"/>
                    </a:lnTo>
                    <a:lnTo>
                      <a:pt x="32" y="81"/>
                    </a:lnTo>
                    <a:lnTo>
                      <a:pt x="38" y="72"/>
                    </a:lnTo>
                    <a:lnTo>
                      <a:pt x="46" y="62"/>
                    </a:lnTo>
                    <a:lnTo>
                      <a:pt x="54" y="53"/>
                    </a:lnTo>
                    <a:lnTo>
                      <a:pt x="62" y="45"/>
                    </a:lnTo>
                    <a:lnTo>
                      <a:pt x="72" y="37"/>
                    </a:lnTo>
                    <a:lnTo>
                      <a:pt x="82" y="31"/>
                    </a:lnTo>
                    <a:lnTo>
                      <a:pt x="94" y="26"/>
                    </a:lnTo>
                    <a:lnTo>
                      <a:pt x="105" y="22"/>
                    </a:lnTo>
                    <a:lnTo>
                      <a:pt x="117" y="18"/>
                    </a:lnTo>
                    <a:lnTo>
                      <a:pt x="130" y="16"/>
                    </a:lnTo>
                    <a:lnTo>
                      <a:pt x="142" y="16"/>
                    </a:lnTo>
                    <a:lnTo>
                      <a:pt x="156" y="16"/>
                    </a:lnTo>
                    <a:lnTo>
                      <a:pt x="167" y="18"/>
                    </a:lnTo>
                    <a:lnTo>
                      <a:pt x="180" y="22"/>
                    </a:lnTo>
                    <a:lnTo>
                      <a:pt x="192" y="26"/>
                    </a:lnTo>
                    <a:lnTo>
                      <a:pt x="202" y="31"/>
                    </a:lnTo>
                    <a:lnTo>
                      <a:pt x="213" y="37"/>
                    </a:lnTo>
                    <a:lnTo>
                      <a:pt x="222" y="45"/>
                    </a:lnTo>
                    <a:lnTo>
                      <a:pt x="232" y="53"/>
                    </a:lnTo>
                    <a:lnTo>
                      <a:pt x="240" y="62"/>
                    </a:lnTo>
                    <a:lnTo>
                      <a:pt x="247" y="72"/>
                    </a:lnTo>
                    <a:lnTo>
                      <a:pt x="254" y="81"/>
                    </a:lnTo>
                    <a:lnTo>
                      <a:pt x="259" y="93"/>
                    </a:lnTo>
                    <a:lnTo>
                      <a:pt x="263" y="105"/>
                    </a:lnTo>
                    <a:lnTo>
                      <a:pt x="266" y="116"/>
                    </a:lnTo>
                    <a:lnTo>
                      <a:pt x="267" y="129"/>
                    </a:lnTo>
                    <a:lnTo>
                      <a:pt x="268" y="14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975280" y="2655720"/>
                <a:ext cx="85680" cy="84240"/>
              </a:xfrm>
              <a:custGeom>
                <a:avLst/>
                <a:gdLst/>
                <a:ahLst/>
                <a:rect l="l" t="t" r="r" b="b"/>
                <a:pathLst>
                  <a:path w="268" h="268">
                    <a:moveTo>
                      <a:pt x="268" y="133"/>
                    </a:moveTo>
                    <a:lnTo>
                      <a:pt x="267" y="120"/>
                    </a:lnTo>
                    <a:lnTo>
                      <a:pt x="265" y="107"/>
                    </a:lnTo>
                    <a:lnTo>
                      <a:pt x="261" y="93"/>
                    </a:lnTo>
                    <a:lnTo>
                      <a:pt x="257" y="82"/>
                    </a:lnTo>
                    <a:lnTo>
                      <a:pt x="252" y="70"/>
                    </a:lnTo>
                    <a:lnTo>
                      <a:pt x="245" y="59"/>
                    </a:lnTo>
                    <a:lnTo>
                      <a:pt x="237" y="48"/>
                    </a:lnTo>
                    <a:lnTo>
                      <a:pt x="229" y="39"/>
                    </a:lnTo>
                    <a:lnTo>
                      <a:pt x="218" y="30"/>
                    </a:lnTo>
                    <a:lnTo>
                      <a:pt x="209" y="23"/>
                    </a:lnTo>
                    <a:lnTo>
                      <a:pt x="197" y="16"/>
                    </a:lnTo>
                    <a:lnTo>
                      <a:pt x="186" y="10"/>
                    </a:lnTo>
                    <a:lnTo>
                      <a:pt x="173" y="6"/>
                    </a:lnTo>
                    <a:lnTo>
                      <a:pt x="161" y="2"/>
                    </a:lnTo>
                    <a:lnTo>
                      <a:pt x="147" y="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07" y="2"/>
                    </a:lnTo>
                    <a:lnTo>
                      <a:pt x="93" y="6"/>
                    </a:lnTo>
                    <a:lnTo>
                      <a:pt x="82" y="10"/>
                    </a:lnTo>
                    <a:lnTo>
                      <a:pt x="70" y="16"/>
                    </a:lnTo>
                    <a:lnTo>
                      <a:pt x="59" y="23"/>
                    </a:lnTo>
                    <a:lnTo>
                      <a:pt x="48" y="30"/>
                    </a:lnTo>
                    <a:lnTo>
                      <a:pt x="39" y="39"/>
                    </a:lnTo>
                    <a:lnTo>
                      <a:pt x="30" y="48"/>
                    </a:lnTo>
                    <a:lnTo>
                      <a:pt x="23" y="59"/>
                    </a:lnTo>
                    <a:lnTo>
                      <a:pt x="16" y="70"/>
                    </a:lnTo>
                    <a:lnTo>
                      <a:pt x="10" y="82"/>
                    </a:lnTo>
                    <a:lnTo>
                      <a:pt x="5" y="93"/>
                    </a:lnTo>
                    <a:lnTo>
                      <a:pt x="2" y="107"/>
                    </a:lnTo>
                    <a:lnTo>
                      <a:pt x="0" y="120"/>
                    </a:lnTo>
                    <a:lnTo>
                      <a:pt x="0" y="133"/>
                    </a:lnTo>
                    <a:lnTo>
                      <a:pt x="0" y="147"/>
                    </a:lnTo>
                    <a:lnTo>
                      <a:pt x="2" y="161"/>
                    </a:lnTo>
                    <a:lnTo>
                      <a:pt x="5" y="173"/>
                    </a:lnTo>
                    <a:lnTo>
                      <a:pt x="10" y="186"/>
                    </a:lnTo>
                    <a:lnTo>
                      <a:pt x="16" y="197"/>
                    </a:lnTo>
                    <a:lnTo>
                      <a:pt x="23" y="209"/>
                    </a:lnTo>
                    <a:lnTo>
                      <a:pt x="30" y="218"/>
                    </a:lnTo>
                    <a:lnTo>
                      <a:pt x="39" y="229"/>
                    </a:lnTo>
                    <a:lnTo>
                      <a:pt x="48" y="237"/>
                    </a:lnTo>
                    <a:lnTo>
                      <a:pt x="59" y="245"/>
                    </a:lnTo>
                    <a:lnTo>
                      <a:pt x="70" y="252"/>
                    </a:lnTo>
                    <a:lnTo>
                      <a:pt x="82" y="257"/>
                    </a:lnTo>
                    <a:lnTo>
                      <a:pt x="93" y="261"/>
                    </a:lnTo>
                    <a:lnTo>
                      <a:pt x="107" y="265"/>
                    </a:lnTo>
                    <a:lnTo>
                      <a:pt x="120" y="267"/>
                    </a:lnTo>
                    <a:lnTo>
                      <a:pt x="133" y="268"/>
                    </a:lnTo>
                    <a:lnTo>
                      <a:pt x="147" y="267"/>
                    </a:lnTo>
                    <a:lnTo>
                      <a:pt x="161" y="265"/>
                    </a:lnTo>
                    <a:lnTo>
                      <a:pt x="173" y="261"/>
                    </a:lnTo>
                    <a:lnTo>
                      <a:pt x="186" y="257"/>
                    </a:lnTo>
                    <a:lnTo>
                      <a:pt x="197" y="252"/>
                    </a:lnTo>
                    <a:lnTo>
                      <a:pt x="209" y="245"/>
                    </a:lnTo>
                    <a:lnTo>
                      <a:pt x="218" y="237"/>
                    </a:lnTo>
                    <a:lnTo>
                      <a:pt x="229" y="229"/>
                    </a:lnTo>
                    <a:lnTo>
                      <a:pt x="237" y="218"/>
                    </a:lnTo>
                    <a:lnTo>
                      <a:pt x="245" y="209"/>
                    </a:lnTo>
                    <a:lnTo>
                      <a:pt x="252" y="197"/>
                    </a:lnTo>
                    <a:lnTo>
                      <a:pt x="257" y="186"/>
                    </a:lnTo>
                    <a:lnTo>
                      <a:pt x="261" y="173"/>
                    </a:lnTo>
                    <a:lnTo>
                      <a:pt x="265" y="161"/>
                    </a:lnTo>
                    <a:lnTo>
                      <a:pt x="267" y="147"/>
                    </a:lnTo>
                    <a:lnTo>
                      <a:pt x="268" y="133"/>
                    </a:lnTo>
                    <a:close/>
                    <a:moveTo>
                      <a:pt x="251" y="133"/>
                    </a:moveTo>
                    <a:lnTo>
                      <a:pt x="250" y="146"/>
                    </a:lnTo>
                    <a:lnTo>
                      <a:pt x="249" y="157"/>
                    </a:lnTo>
                    <a:lnTo>
                      <a:pt x="246" y="169"/>
                    </a:lnTo>
                    <a:lnTo>
                      <a:pt x="242" y="180"/>
                    </a:lnTo>
                    <a:lnTo>
                      <a:pt x="237" y="190"/>
                    </a:lnTo>
                    <a:lnTo>
                      <a:pt x="231" y="199"/>
                    </a:lnTo>
                    <a:lnTo>
                      <a:pt x="224" y="208"/>
                    </a:lnTo>
                    <a:lnTo>
                      <a:pt x="216" y="216"/>
                    </a:lnTo>
                    <a:lnTo>
                      <a:pt x="208" y="224"/>
                    </a:lnTo>
                    <a:lnTo>
                      <a:pt x="199" y="231"/>
                    </a:lnTo>
                    <a:lnTo>
                      <a:pt x="190" y="236"/>
                    </a:lnTo>
                    <a:lnTo>
                      <a:pt x="179" y="241"/>
                    </a:lnTo>
                    <a:lnTo>
                      <a:pt x="169" y="246"/>
                    </a:lnTo>
                    <a:lnTo>
                      <a:pt x="157" y="249"/>
                    </a:lnTo>
                    <a:lnTo>
                      <a:pt x="146" y="250"/>
                    </a:lnTo>
                    <a:lnTo>
                      <a:pt x="133" y="251"/>
                    </a:lnTo>
                    <a:lnTo>
                      <a:pt x="122" y="250"/>
                    </a:lnTo>
                    <a:lnTo>
                      <a:pt x="110" y="249"/>
                    </a:lnTo>
                    <a:lnTo>
                      <a:pt x="99" y="246"/>
                    </a:lnTo>
                    <a:lnTo>
                      <a:pt x="88" y="241"/>
                    </a:lnTo>
                    <a:lnTo>
                      <a:pt x="78" y="236"/>
                    </a:lnTo>
                    <a:lnTo>
                      <a:pt x="68" y="231"/>
                    </a:lnTo>
                    <a:lnTo>
                      <a:pt x="59" y="224"/>
                    </a:lnTo>
                    <a:lnTo>
                      <a:pt x="51" y="216"/>
                    </a:lnTo>
                    <a:lnTo>
                      <a:pt x="43" y="208"/>
                    </a:lnTo>
                    <a:lnTo>
                      <a:pt x="37" y="199"/>
                    </a:lnTo>
                    <a:lnTo>
                      <a:pt x="30" y="190"/>
                    </a:lnTo>
                    <a:lnTo>
                      <a:pt x="26" y="180"/>
                    </a:lnTo>
                    <a:lnTo>
                      <a:pt x="22" y="169"/>
                    </a:lnTo>
                    <a:lnTo>
                      <a:pt x="19" y="157"/>
                    </a:lnTo>
                    <a:lnTo>
                      <a:pt x="17" y="146"/>
                    </a:lnTo>
                    <a:lnTo>
                      <a:pt x="17" y="133"/>
                    </a:lnTo>
                    <a:lnTo>
                      <a:pt x="17" y="122"/>
                    </a:lnTo>
                    <a:lnTo>
                      <a:pt x="19" y="110"/>
                    </a:lnTo>
                    <a:lnTo>
                      <a:pt x="22" y="99"/>
                    </a:lnTo>
                    <a:lnTo>
                      <a:pt x="26" y="88"/>
                    </a:lnTo>
                    <a:lnTo>
                      <a:pt x="30" y="78"/>
                    </a:lnTo>
                    <a:lnTo>
                      <a:pt x="37" y="68"/>
                    </a:lnTo>
                    <a:lnTo>
                      <a:pt x="43" y="59"/>
                    </a:lnTo>
                    <a:lnTo>
                      <a:pt x="51" y="50"/>
                    </a:lnTo>
                    <a:lnTo>
                      <a:pt x="59" y="43"/>
                    </a:lnTo>
                    <a:lnTo>
                      <a:pt x="68" y="37"/>
                    </a:lnTo>
                    <a:lnTo>
                      <a:pt x="78" y="30"/>
                    </a:lnTo>
                    <a:lnTo>
                      <a:pt x="88" y="25"/>
                    </a:lnTo>
                    <a:lnTo>
                      <a:pt x="99" y="22"/>
                    </a:lnTo>
                    <a:lnTo>
                      <a:pt x="110" y="19"/>
                    </a:lnTo>
                    <a:lnTo>
                      <a:pt x="122" y="17"/>
                    </a:lnTo>
                    <a:lnTo>
                      <a:pt x="133" y="17"/>
                    </a:lnTo>
                    <a:lnTo>
                      <a:pt x="146" y="17"/>
                    </a:lnTo>
                    <a:lnTo>
                      <a:pt x="157" y="19"/>
                    </a:lnTo>
                    <a:lnTo>
                      <a:pt x="169" y="22"/>
                    </a:lnTo>
                    <a:lnTo>
                      <a:pt x="179" y="25"/>
                    </a:lnTo>
                    <a:lnTo>
                      <a:pt x="190" y="30"/>
                    </a:lnTo>
                    <a:lnTo>
                      <a:pt x="199" y="37"/>
                    </a:lnTo>
                    <a:lnTo>
                      <a:pt x="208" y="43"/>
                    </a:lnTo>
                    <a:lnTo>
                      <a:pt x="216" y="50"/>
                    </a:lnTo>
                    <a:lnTo>
                      <a:pt x="224" y="59"/>
                    </a:lnTo>
                    <a:lnTo>
                      <a:pt x="231" y="68"/>
                    </a:lnTo>
                    <a:lnTo>
                      <a:pt x="237" y="78"/>
                    </a:lnTo>
                    <a:lnTo>
                      <a:pt x="242" y="88"/>
                    </a:lnTo>
                    <a:lnTo>
                      <a:pt x="246" y="99"/>
                    </a:lnTo>
                    <a:lnTo>
                      <a:pt x="249" y="110"/>
                    </a:lnTo>
                    <a:lnTo>
                      <a:pt x="250" y="122"/>
                    </a:lnTo>
                    <a:lnTo>
                      <a:pt x="251" y="133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978520" y="26575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251" h="251">
                    <a:moveTo>
                      <a:pt x="251" y="125"/>
                    </a:moveTo>
                    <a:lnTo>
                      <a:pt x="250" y="113"/>
                    </a:lnTo>
                    <a:lnTo>
                      <a:pt x="249" y="100"/>
                    </a:lnTo>
                    <a:lnTo>
                      <a:pt x="246" y="89"/>
                    </a:lnTo>
                    <a:lnTo>
                      <a:pt x="242" y="77"/>
                    </a:lnTo>
                    <a:lnTo>
                      <a:pt x="237" y="65"/>
                    </a:lnTo>
                    <a:lnTo>
                      <a:pt x="230" y="56"/>
                    </a:lnTo>
                    <a:lnTo>
                      <a:pt x="223" y="46"/>
                    </a:lnTo>
                    <a:lnTo>
                      <a:pt x="215" y="37"/>
                    </a:lnTo>
                    <a:lnTo>
                      <a:pt x="205" y="29"/>
                    </a:lnTo>
                    <a:lnTo>
                      <a:pt x="196" y="21"/>
                    </a:lnTo>
                    <a:lnTo>
                      <a:pt x="185" y="15"/>
                    </a:lnTo>
                    <a:lnTo>
                      <a:pt x="175" y="10"/>
                    </a:lnTo>
                    <a:lnTo>
                      <a:pt x="163" y="6"/>
                    </a:lnTo>
                    <a:lnTo>
                      <a:pt x="150" y="2"/>
                    </a:lnTo>
                    <a:lnTo>
                      <a:pt x="139" y="0"/>
                    </a:lnTo>
                    <a:lnTo>
                      <a:pt x="125" y="0"/>
                    </a:lnTo>
                    <a:lnTo>
                      <a:pt x="113" y="0"/>
                    </a:lnTo>
                    <a:lnTo>
                      <a:pt x="100" y="2"/>
                    </a:lnTo>
                    <a:lnTo>
                      <a:pt x="88" y="6"/>
                    </a:lnTo>
                    <a:lnTo>
                      <a:pt x="77" y="10"/>
                    </a:lnTo>
                    <a:lnTo>
                      <a:pt x="65" y="15"/>
                    </a:lnTo>
                    <a:lnTo>
                      <a:pt x="55" y="21"/>
                    </a:lnTo>
                    <a:lnTo>
                      <a:pt x="45" y="29"/>
                    </a:lnTo>
                    <a:lnTo>
                      <a:pt x="37" y="37"/>
                    </a:lnTo>
                    <a:lnTo>
                      <a:pt x="29" y="46"/>
                    </a:lnTo>
                    <a:lnTo>
                      <a:pt x="21" y="56"/>
                    </a:lnTo>
                    <a:lnTo>
                      <a:pt x="15" y="65"/>
                    </a:lnTo>
                    <a:lnTo>
                      <a:pt x="10" y="77"/>
                    </a:lnTo>
                    <a:lnTo>
                      <a:pt x="5" y="89"/>
                    </a:lnTo>
                    <a:lnTo>
                      <a:pt x="2" y="100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5" y="163"/>
                    </a:lnTo>
                    <a:lnTo>
                      <a:pt x="10" y="175"/>
                    </a:lnTo>
                    <a:lnTo>
                      <a:pt x="15" y="185"/>
                    </a:lnTo>
                    <a:lnTo>
                      <a:pt x="21" y="196"/>
                    </a:lnTo>
                    <a:lnTo>
                      <a:pt x="29" y="205"/>
                    </a:lnTo>
                    <a:lnTo>
                      <a:pt x="37" y="215"/>
                    </a:lnTo>
                    <a:lnTo>
                      <a:pt x="45" y="223"/>
                    </a:lnTo>
                    <a:lnTo>
                      <a:pt x="55" y="230"/>
                    </a:lnTo>
                    <a:lnTo>
                      <a:pt x="65" y="237"/>
                    </a:lnTo>
                    <a:lnTo>
                      <a:pt x="77" y="242"/>
                    </a:lnTo>
                    <a:lnTo>
                      <a:pt x="88" y="246"/>
                    </a:lnTo>
                    <a:lnTo>
                      <a:pt x="100" y="249"/>
                    </a:lnTo>
                    <a:lnTo>
                      <a:pt x="113" y="250"/>
                    </a:lnTo>
                    <a:lnTo>
                      <a:pt x="125" y="251"/>
                    </a:lnTo>
                    <a:lnTo>
                      <a:pt x="139" y="250"/>
                    </a:lnTo>
                    <a:lnTo>
                      <a:pt x="150" y="249"/>
                    </a:lnTo>
                    <a:lnTo>
                      <a:pt x="163" y="246"/>
                    </a:lnTo>
                    <a:lnTo>
                      <a:pt x="175" y="242"/>
                    </a:lnTo>
                    <a:lnTo>
                      <a:pt x="185" y="237"/>
                    </a:lnTo>
                    <a:lnTo>
                      <a:pt x="196" y="230"/>
                    </a:lnTo>
                    <a:lnTo>
                      <a:pt x="205" y="223"/>
                    </a:lnTo>
                    <a:lnTo>
                      <a:pt x="215" y="215"/>
                    </a:lnTo>
                    <a:lnTo>
                      <a:pt x="223" y="205"/>
                    </a:lnTo>
                    <a:lnTo>
                      <a:pt x="230" y="196"/>
                    </a:lnTo>
                    <a:lnTo>
                      <a:pt x="237" y="185"/>
                    </a:lnTo>
                    <a:lnTo>
                      <a:pt x="242" y="175"/>
                    </a:lnTo>
                    <a:lnTo>
                      <a:pt x="246" y="163"/>
                    </a:lnTo>
                    <a:lnTo>
                      <a:pt x="249" y="151"/>
                    </a:lnTo>
                    <a:lnTo>
                      <a:pt x="250" y="139"/>
                    </a:lnTo>
                    <a:lnTo>
                      <a:pt x="251" y="125"/>
                    </a:lnTo>
                    <a:close/>
                    <a:moveTo>
                      <a:pt x="235" y="125"/>
                    </a:moveTo>
                    <a:lnTo>
                      <a:pt x="235" y="137"/>
                    </a:lnTo>
                    <a:lnTo>
                      <a:pt x="232" y="147"/>
                    </a:lnTo>
                    <a:lnTo>
                      <a:pt x="229" y="158"/>
                    </a:lnTo>
                    <a:lnTo>
                      <a:pt x="226" y="168"/>
                    </a:lnTo>
                    <a:lnTo>
                      <a:pt x="221" y="178"/>
                    </a:lnTo>
                    <a:lnTo>
                      <a:pt x="216" y="186"/>
                    </a:lnTo>
                    <a:lnTo>
                      <a:pt x="209" y="195"/>
                    </a:lnTo>
                    <a:lnTo>
                      <a:pt x="203" y="203"/>
                    </a:lnTo>
                    <a:lnTo>
                      <a:pt x="195" y="209"/>
                    </a:lnTo>
                    <a:lnTo>
                      <a:pt x="186" y="216"/>
                    </a:lnTo>
                    <a:lnTo>
                      <a:pt x="178" y="221"/>
                    </a:lnTo>
                    <a:lnTo>
                      <a:pt x="168" y="226"/>
                    </a:lnTo>
                    <a:lnTo>
                      <a:pt x="158" y="229"/>
                    </a:lnTo>
                    <a:lnTo>
                      <a:pt x="147" y="232"/>
                    </a:lnTo>
                    <a:lnTo>
                      <a:pt x="137" y="233"/>
                    </a:lnTo>
                    <a:lnTo>
                      <a:pt x="125" y="235"/>
                    </a:lnTo>
                    <a:lnTo>
                      <a:pt x="115" y="233"/>
                    </a:lnTo>
                    <a:lnTo>
                      <a:pt x="104" y="232"/>
                    </a:lnTo>
                    <a:lnTo>
                      <a:pt x="94" y="229"/>
                    </a:lnTo>
                    <a:lnTo>
                      <a:pt x="83" y="226"/>
                    </a:lnTo>
                    <a:lnTo>
                      <a:pt x="74" y="221"/>
                    </a:lnTo>
                    <a:lnTo>
                      <a:pt x="64" y="216"/>
                    </a:lnTo>
                    <a:lnTo>
                      <a:pt x="56" y="209"/>
                    </a:lnTo>
                    <a:lnTo>
                      <a:pt x="49" y="203"/>
                    </a:lnTo>
                    <a:lnTo>
                      <a:pt x="41" y="195"/>
                    </a:lnTo>
                    <a:lnTo>
                      <a:pt x="35" y="186"/>
                    </a:lnTo>
                    <a:lnTo>
                      <a:pt x="30" y="178"/>
                    </a:lnTo>
                    <a:lnTo>
                      <a:pt x="25" y="168"/>
                    </a:lnTo>
                    <a:lnTo>
                      <a:pt x="21" y="158"/>
                    </a:lnTo>
                    <a:lnTo>
                      <a:pt x="19" y="147"/>
                    </a:lnTo>
                    <a:lnTo>
                      <a:pt x="17" y="137"/>
                    </a:lnTo>
                    <a:lnTo>
                      <a:pt x="17" y="125"/>
                    </a:lnTo>
                    <a:lnTo>
                      <a:pt x="17" y="115"/>
                    </a:lnTo>
                    <a:lnTo>
                      <a:pt x="19" y="103"/>
                    </a:lnTo>
                    <a:lnTo>
                      <a:pt x="21" y="94"/>
                    </a:lnTo>
                    <a:lnTo>
                      <a:pt x="25" y="83"/>
                    </a:lnTo>
                    <a:lnTo>
                      <a:pt x="30" y="74"/>
                    </a:lnTo>
                    <a:lnTo>
                      <a:pt x="35" y="64"/>
                    </a:lnTo>
                    <a:lnTo>
                      <a:pt x="41" y="56"/>
                    </a:lnTo>
                    <a:lnTo>
                      <a:pt x="49" y="49"/>
                    </a:lnTo>
                    <a:lnTo>
                      <a:pt x="56" y="41"/>
                    </a:lnTo>
                    <a:lnTo>
                      <a:pt x="64" y="35"/>
                    </a:lnTo>
                    <a:lnTo>
                      <a:pt x="74" y="30"/>
                    </a:lnTo>
                    <a:lnTo>
                      <a:pt x="83" y="26"/>
                    </a:lnTo>
                    <a:lnTo>
                      <a:pt x="94" y="21"/>
                    </a:lnTo>
                    <a:lnTo>
                      <a:pt x="104" y="19"/>
                    </a:lnTo>
                    <a:lnTo>
                      <a:pt x="115" y="17"/>
                    </a:lnTo>
                    <a:lnTo>
                      <a:pt x="125" y="17"/>
                    </a:lnTo>
                    <a:lnTo>
                      <a:pt x="137" y="17"/>
                    </a:lnTo>
                    <a:lnTo>
                      <a:pt x="147" y="19"/>
                    </a:lnTo>
                    <a:lnTo>
                      <a:pt x="158" y="21"/>
                    </a:lnTo>
                    <a:lnTo>
                      <a:pt x="168" y="26"/>
                    </a:lnTo>
                    <a:lnTo>
                      <a:pt x="178" y="30"/>
                    </a:lnTo>
                    <a:lnTo>
                      <a:pt x="186" y="35"/>
                    </a:lnTo>
                    <a:lnTo>
                      <a:pt x="195" y="41"/>
                    </a:lnTo>
                    <a:lnTo>
                      <a:pt x="203" y="49"/>
                    </a:lnTo>
                    <a:lnTo>
                      <a:pt x="209" y="56"/>
                    </a:lnTo>
                    <a:lnTo>
                      <a:pt x="216" y="64"/>
                    </a:lnTo>
                    <a:lnTo>
                      <a:pt x="221" y="74"/>
                    </a:lnTo>
                    <a:lnTo>
                      <a:pt x="226" y="83"/>
                    </a:lnTo>
                    <a:lnTo>
                      <a:pt x="229" y="94"/>
                    </a:lnTo>
                    <a:lnTo>
                      <a:pt x="232" y="103"/>
                    </a:lnTo>
                    <a:lnTo>
                      <a:pt x="235" y="115"/>
                    </a:lnTo>
                    <a:lnTo>
                      <a:pt x="235" y="125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79960" y="2660760"/>
                <a:ext cx="74880" cy="74520"/>
              </a:xfrm>
              <a:custGeom>
                <a:avLst/>
                <a:gdLst/>
                <a:ahLst/>
                <a:rect l="l" t="t" r="r" b="b"/>
                <a:pathLst>
                  <a:path w="234" h="234">
                    <a:moveTo>
                      <a:pt x="234" y="116"/>
                    </a:moveTo>
                    <a:lnTo>
                      <a:pt x="233" y="105"/>
                    </a:lnTo>
                    <a:lnTo>
                      <a:pt x="232" y="93"/>
                    </a:lnTo>
                    <a:lnTo>
                      <a:pt x="229" y="82"/>
                    </a:lnTo>
                    <a:lnTo>
                      <a:pt x="225" y="71"/>
                    </a:lnTo>
                    <a:lnTo>
                      <a:pt x="220" y="61"/>
                    </a:lnTo>
                    <a:lnTo>
                      <a:pt x="214" y="51"/>
                    </a:lnTo>
                    <a:lnTo>
                      <a:pt x="207" y="42"/>
                    </a:lnTo>
                    <a:lnTo>
                      <a:pt x="199" y="33"/>
                    </a:lnTo>
                    <a:lnTo>
                      <a:pt x="191" y="26"/>
                    </a:lnTo>
                    <a:lnTo>
                      <a:pt x="182" y="20"/>
                    </a:lnTo>
                    <a:lnTo>
                      <a:pt x="173" y="13"/>
                    </a:lnTo>
                    <a:lnTo>
                      <a:pt x="162" y="8"/>
                    </a:lnTo>
                    <a:lnTo>
                      <a:pt x="152" y="5"/>
                    </a:lnTo>
                    <a:lnTo>
                      <a:pt x="140" y="2"/>
                    </a:lnTo>
                    <a:lnTo>
                      <a:pt x="129" y="0"/>
                    </a:lnTo>
                    <a:lnTo>
                      <a:pt x="116" y="0"/>
                    </a:lnTo>
                    <a:lnTo>
                      <a:pt x="105" y="0"/>
                    </a:lnTo>
                    <a:lnTo>
                      <a:pt x="93" y="2"/>
                    </a:lnTo>
                    <a:lnTo>
                      <a:pt x="82" y="5"/>
                    </a:lnTo>
                    <a:lnTo>
                      <a:pt x="71" y="8"/>
                    </a:lnTo>
                    <a:lnTo>
                      <a:pt x="61" y="13"/>
                    </a:lnTo>
                    <a:lnTo>
                      <a:pt x="51" y="20"/>
                    </a:lnTo>
                    <a:lnTo>
                      <a:pt x="42" y="26"/>
                    </a:lnTo>
                    <a:lnTo>
                      <a:pt x="34" y="33"/>
                    </a:lnTo>
                    <a:lnTo>
                      <a:pt x="26" y="42"/>
                    </a:lnTo>
                    <a:lnTo>
                      <a:pt x="20" y="51"/>
                    </a:lnTo>
                    <a:lnTo>
                      <a:pt x="13" y="61"/>
                    </a:lnTo>
                    <a:lnTo>
                      <a:pt x="9" y="71"/>
                    </a:lnTo>
                    <a:lnTo>
                      <a:pt x="5" y="82"/>
                    </a:lnTo>
                    <a:lnTo>
                      <a:pt x="2" y="93"/>
                    </a:lnTo>
                    <a:lnTo>
                      <a:pt x="0" y="105"/>
                    </a:lnTo>
                    <a:lnTo>
                      <a:pt x="0" y="116"/>
                    </a:lnTo>
                    <a:lnTo>
                      <a:pt x="0" y="129"/>
                    </a:lnTo>
                    <a:lnTo>
                      <a:pt x="2" y="140"/>
                    </a:lnTo>
                    <a:lnTo>
                      <a:pt x="5" y="152"/>
                    </a:lnTo>
                    <a:lnTo>
                      <a:pt x="9" y="163"/>
                    </a:lnTo>
                    <a:lnTo>
                      <a:pt x="13" y="173"/>
                    </a:lnTo>
                    <a:lnTo>
                      <a:pt x="20" y="182"/>
                    </a:lnTo>
                    <a:lnTo>
                      <a:pt x="26" y="191"/>
                    </a:lnTo>
                    <a:lnTo>
                      <a:pt x="34" y="199"/>
                    </a:lnTo>
                    <a:lnTo>
                      <a:pt x="42" y="207"/>
                    </a:lnTo>
                    <a:lnTo>
                      <a:pt x="51" y="214"/>
                    </a:lnTo>
                    <a:lnTo>
                      <a:pt x="61" y="219"/>
                    </a:lnTo>
                    <a:lnTo>
                      <a:pt x="71" y="224"/>
                    </a:lnTo>
                    <a:lnTo>
                      <a:pt x="82" y="229"/>
                    </a:lnTo>
                    <a:lnTo>
                      <a:pt x="93" y="232"/>
                    </a:lnTo>
                    <a:lnTo>
                      <a:pt x="105" y="233"/>
                    </a:lnTo>
                    <a:lnTo>
                      <a:pt x="116" y="234"/>
                    </a:lnTo>
                    <a:lnTo>
                      <a:pt x="129" y="233"/>
                    </a:lnTo>
                    <a:lnTo>
                      <a:pt x="140" y="232"/>
                    </a:lnTo>
                    <a:lnTo>
                      <a:pt x="152" y="229"/>
                    </a:lnTo>
                    <a:lnTo>
                      <a:pt x="162" y="224"/>
                    </a:lnTo>
                    <a:lnTo>
                      <a:pt x="173" y="219"/>
                    </a:lnTo>
                    <a:lnTo>
                      <a:pt x="182" y="214"/>
                    </a:lnTo>
                    <a:lnTo>
                      <a:pt x="191" y="207"/>
                    </a:lnTo>
                    <a:lnTo>
                      <a:pt x="199" y="199"/>
                    </a:lnTo>
                    <a:lnTo>
                      <a:pt x="207" y="191"/>
                    </a:lnTo>
                    <a:lnTo>
                      <a:pt x="214" y="182"/>
                    </a:lnTo>
                    <a:lnTo>
                      <a:pt x="220" y="173"/>
                    </a:lnTo>
                    <a:lnTo>
                      <a:pt x="225" y="163"/>
                    </a:lnTo>
                    <a:lnTo>
                      <a:pt x="229" y="152"/>
                    </a:lnTo>
                    <a:lnTo>
                      <a:pt x="232" y="140"/>
                    </a:lnTo>
                    <a:lnTo>
                      <a:pt x="233" y="129"/>
                    </a:lnTo>
                    <a:lnTo>
                      <a:pt x="234" y="116"/>
                    </a:lnTo>
                    <a:close/>
                    <a:moveTo>
                      <a:pt x="217" y="116"/>
                    </a:moveTo>
                    <a:lnTo>
                      <a:pt x="217" y="127"/>
                    </a:lnTo>
                    <a:lnTo>
                      <a:pt x="215" y="137"/>
                    </a:lnTo>
                    <a:lnTo>
                      <a:pt x="213" y="147"/>
                    </a:lnTo>
                    <a:lnTo>
                      <a:pt x="210" y="156"/>
                    </a:lnTo>
                    <a:lnTo>
                      <a:pt x="205" y="165"/>
                    </a:lnTo>
                    <a:lnTo>
                      <a:pt x="200" y="173"/>
                    </a:lnTo>
                    <a:lnTo>
                      <a:pt x="194" y="180"/>
                    </a:lnTo>
                    <a:lnTo>
                      <a:pt x="188" y="188"/>
                    </a:lnTo>
                    <a:lnTo>
                      <a:pt x="180" y="194"/>
                    </a:lnTo>
                    <a:lnTo>
                      <a:pt x="173" y="200"/>
                    </a:lnTo>
                    <a:lnTo>
                      <a:pt x="165" y="205"/>
                    </a:lnTo>
                    <a:lnTo>
                      <a:pt x="156" y="209"/>
                    </a:lnTo>
                    <a:lnTo>
                      <a:pt x="147" y="213"/>
                    </a:lnTo>
                    <a:lnTo>
                      <a:pt x="137" y="215"/>
                    </a:lnTo>
                    <a:lnTo>
                      <a:pt x="127" y="216"/>
                    </a:lnTo>
                    <a:lnTo>
                      <a:pt x="116" y="217"/>
                    </a:lnTo>
                    <a:lnTo>
                      <a:pt x="107" y="216"/>
                    </a:lnTo>
                    <a:lnTo>
                      <a:pt x="96" y="215"/>
                    </a:lnTo>
                    <a:lnTo>
                      <a:pt x="87" y="213"/>
                    </a:lnTo>
                    <a:lnTo>
                      <a:pt x="77" y="209"/>
                    </a:lnTo>
                    <a:lnTo>
                      <a:pt x="69" y="205"/>
                    </a:lnTo>
                    <a:lnTo>
                      <a:pt x="61" y="200"/>
                    </a:lnTo>
                    <a:lnTo>
                      <a:pt x="53" y="194"/>
                    </a:lnTo>
                    <a:lnTo>
                      <a:pt x="46" y="188"/>
                    </a:lnTo>
                    <a:lnTo>
                      <a:pt x="40" y="180"/>
                    </a:lnTo>
                    <a:lnTo>
                      <a:pt x="33" y="173"/>
                    </a:lnTo>
                    <a:lnTo>
                      <a:pt x="28" y="165"/>
                    </a:lnTo>
                    <a:lnTo>
                      <a:pt x="24" y="156"/>
                    </a:lnTo>
                    <a:lnTo>
                      <a:pt x="21" y="147"/>
                    </a:lnTo>
                    <a:lnTo>
                      <a:pt x="18" y="137"/>
                    </a:lnTo>
                    <a:lnTo>
                      <a:pt x="16" y="127"/>
                    </a:lnTo>
                    <a:lnTo>
                      <a:pt x="16" y="116"/>
                    </a:lnTo>
                    <a:lnTo>
                      <a:pt x="16" y="107"/>
                    </a:lnTo>
                    <a:lnTo>
                      <a:pt x="18" y="96"/>
                    </a:lnTo>
                    <a:lnTo>
                      <a:pt x="21" y="87"/>
                    </a:lnTo>
                    <a:lnTo>
                      <a:pt x="24" y="77"/>
                    </a:lnTo>
                    <a:lnTo>
                      <a:pt x="28" y="69"/>
                    </a:lnTo>
                    <a:lnTo>
                      <a:pt x="33" y="61"/>
                    </a:lnTo>
                    <a:lnTo>
                      <a:pt x="40" y="53"/>
                    </a:lnTo>
                    <a:lnTo>
                      <a:pt x="46" y="46"/>
                    </a:lnTo>
                    <a:lnTo>
                      <a:pt x="53" y="40"/>
                    </a:lnTo>
                    <a:lnTo>
                      <a:pt x="61" y="33"/>
                    </a:lnTo>
                    <a:lnTo>
                      <a:pt x="69" y="28"/>
                    </a:lnTo>
                    <a:lnTo>
                      <a:pt x="77" y="24"/>
                    </a:lnTo>
                    <a:lnTo>
                      <a:pt x="87" y="21"/>
                    </a:lnTo>
                    <a:lnTo>
                      <a:pt x="96" y="19"/>
                    </a:lnTo>
                    <a:lnTo>
                      <a:pt x="107" y="17"/>
                    </a:lnTo>
                    <a:lnTo>
                      <a:pt x="116" y="17"/>
                    </a:lnTo>
                    <a:lnTo>
                      <a:pt x="127" y="17"/>
                    </a:lnTo>
                    <a:lnTo>
                      <a:pt x="137" y="19"/>
                    </a:lnTo>
                    <a:lnTo>
                      <a:pt x="147" y="21"/>
                    </a:lnTo>
                    <a:lnTo>
                      <a:pt x="156" y="24"/>
                    </a:lnTo>
                    <a:lnTo>
                      <a:pt x="165" y="28"/>
                    </a:lnTo>
                    <a:lnTo>
                      <a:pt x="173" y="33"/>
                    </a:lnTo>
                    <a:lnTo>
                      <a:pt x="180" y="40"/>
                    </a:lnTo>
                    <a:lnTo>
                      <a:pt x="188" y="46"/>
                    </a:lnTo>
                    <a:lnTo>
                      <a:pt x="194" y="53"/>
                    </a:lnTo>
                    <a:lnTo>
                      <a:pt x="200" y="61"/>
                    </a:lnTo>
                    <a:lnTo>
                      <a:pt x="205" y="69"/>
                    </a:lnTo>
                    <a:lnTo>
                      <a:pt x="210" y="77"/>
                    </a:lnTo>
                    <a:lnTo>
                      <a:pt x="213" y="87"/>
                    </a:lnTo>
                    <a:lnTo>
                      <a:pt x="215" y="96"/>
                    </a:lnTo>
                    <a:lnTo>
                      <a:pt x="217" y="107"/>
                    </a:lnTo>
                    <a:lnTo>
                      <a:pt x="217" y="11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83200" y="2664000"/>
                <a:ext cx="69840" cy="68040"/>
              </a:xfrm>
              <a:custGeom>
                <a:avLst/>
                <a:gdLst/>
                <a:ahLst/>
                <a:rect l="l" t="t" r="r" b="b"/>
                <a:pathLst>
                  <a:path w="218" h="218">
                    <a:moveTo>
                      <a:pt x="218" y="108"/>
                    </a:moveTo>
                    <a:lnTo>
                      <a:pt x="218" y="98"/>
                    </a:lnTo>
                    <a:lnTo>
                      <a:pt x="215" y="86"/>
                    </a:lnTo>
                    <a:lnTo>
                      <a:pt x="212" y="77"/>
                    </a:lnTo>
                    <a:lnTo>
                      <a:pt x="209" y="66"/>
                    </a:lnTo>
                    <a:lnTo>
                      <a:pt x="204" y="57"/>
                    </a:lnTo>
                    <a:lnTo>
                      <a:pt x="199" y="47"/>
                    </a:lnTo>
                    <a:lnTo>
                      <a:pt x="192" y="39"/>
                    </a:lnTo>
                    <a:lnTo>
                      <a:pt x="186" y="32"/>
                    </a:lnTo>
                    <a:lnTo>
                      <a:pt x="178" y="24"/>
                    </a:lnTo>
                    <a:lnTo>
                      <a:pt x="169" y="18"/>
                    </a:lnTo>
                    <a:lnTo>
                      <a:pt x="161" y="13"/>
                    </a:lnTo>
                    <a:lnTo>
                      <a:pt x="151" y="9"/>
                    </a:lnTo>
                    <a:lnTo>
                      <a:pt x="141" y="4"/>
                    </a:lnTo>
                    <a:lnTo>
                      <a:pt x="130" y="2"/>
                    </a:lnTo>
                    <a:lnTo>
                      <a:pt x="120" y="0"/>
                    </a:lnTo>
                    <a:lnTo>
                      <a:pt x="108" y="0"/>
                    </a:lnTo>
                    <a:lnTo>
                      <a:pt x="98" y="0"/>
                    </a:lnTo>
                    <a:lnTo>
                      <a:pt x="87" y="2"/>
                    </a:lnTo>
                    <a:lnTo>
                      <a:pt x="77" y="4"/>
                    </a:lnTo>
                    <a:lnTo>
                      <a:pt x="66" y="9"/>
                    </a:lnTo>
                    <a:lnTo>
                      <a:pt x="57" y="13"/>
                    </a:lnTo>
                    <a:lnTo>
                      <a:pt x="47" y="18"/>
                    </a:lnTo>
                    <a:lnTo>
                      <a:pt x="39" y="24"/>
                    </a:lnTo>
                    <a:lnTo>
                      <a:pt x="32" y="32"/>
                    </a:lnTo>
                    <a:lnTo>
                      <a:pt x="24" y="39"/>
                    </a:lnTo>
                    <a:lnTo>
                      <a:pt x="18" y="47"/>
                    </a:lnTo>
                    <a:lnTo>
                      <a:pt x="13" y="57"/>
                    </a:lnTo>
                    <a:lnTo>
                      <a:pt x="8" y="66"/>
                    </a:lnTo>
                    <a:lnTo>
                      <a:pt x="4" y="77"/>
                    </a:lnTo>
                    <a:lnTo>
                      <a:pt x="2" y="86"/>
                    </a:lnTo>
                    <a:lnTo>
                      <a:pt x="0" y="98"/>
                    </a:lnTo>
                    <a:lnTo>
                      <a:pt x="0" y="108"/>
                    </a:lnTo>
                    <a:lnTo>
                      <a:pt x="0" y="120"/>
                    </a:lnTo>
                    <a:lnTo>
                      <a:pt x="2" y="130"/>
                    </a:lnTo>
                    <a:lnTo>
                      <a:pt x="4" y="141"/>
                    </a:lnTo>
                    <a:lnTo>
                      <a:pt x="8" y="151"/>
                    </a:lnTo>
                    <a:lnTo>
                      <a:pt x="13" y="161"/>
                    </a:lnTo>
                    <a:lnTo>
                      <a:pt x="18" y="169"/>
                    </a:lnTo>
                    <a:lnTo>
                      <a:pt x="24" y="178"/>
                    </a:lnTo>
                    <a:lnTo>
                      <a:pt x="32" y="186"/>
                    </a:lnTo>
                    <a:lnTo>
                      <a:pt x="39" y="192"/>
                    </a:lnTo>
                    <a:lnTo>
                      <a:pt x="47" y="199"/>
                    </a:lnTo>
                    <a:lnTo>
                      <a:pt x="57" y="204"/>
                    </a:lnTo>
                    <a:lnTo>
                      <a:pt x="66" y="209"/>
                    </a:lnTo>
                    <a:lnTo>
                      <a:pt x="77" y="212"/>
                    </a:lnTo>
                    <a:lnTo>
                      <a:pt x="87" y="215"/>
                    </a:lnTo>
                    <a:lnTo>
                      <a:pt x="98" y="216"/>
                    </a:lnTo>
                    <a:lnTo>
                      <a:pt x="108" y="218"/>
                    </a:lnTo>
                    <a:lnTo>
                      <a:pt x="120" y="216"/>
                    </a:lnTo>
                    <a:lnTo>
                      <a:pt x="130" y="215"/>
                    </a:lnTo>
                    <a:lnTo>
                      <a:pt x="141" y="212"/>
                    </a:lnTo>
                    <a:lnTo>
                      <a:pt x="151" y="209"/>
                    </a:lnTo>
                    <a:lnTo>
                      <a:pt x="161" y="204"/>
                    </a:lnTo>
                    <a:lnTo>
                      <a:pt x="169" y="199"/>
                    </a:lnTo>
                    <a:lnTo>
                      <a:pt x="178" y="192"/>
                    </a:lnTo>
                    <a:lnTo>
                      <a:pt x="186" y="186"/>
                    </a:lnTo>
                    <a:lnTo>
                      <a:pt x="192" y="178"/>
                    </a:lnTo>
                    <a:lnTo>
                      <a:pt x="199" y="169"/>
                    </a:lnTo>
                    <a:lnTo>
                      <a:pt x="204" y="161"/>
                    </a:lnTo>
                    <a:lnTo>
                      <a:pt x="209" y="151"/>
                    </a:lnTo>
                    <a:lnTo>
                      <a:pt x="212" y="141"/>
                    </a:lnTo>
                    <a:lnTo>
                      <a:pt x="215" y="130"/>
                    </a:lnTo>
                    <a:lnTo>
                      <a:pt x="218" y="120"/>
                    </a:lnTo>
                    <a:lnTo>
                      <a:pt x="218" y="108"/>
                    </a:lnTo>
                    <a:close/>
                    <a:moveTo>
                      <a:pt x="201" y="108"/>
                    </a:moveTo>
                    <a:lnTo>
                      <a:pt x="201" y="118"/>
                    </a:lnTo>
                    <a:lnTo>
                      <a:pt x="199" y="127"/>
                    </a:lnTo>
                    <a:lnTo>
                      <a:pt x="197" y="136"/>
                    </a:lnTo>
                    <a:lnTo>
                      <a:pt x="193" y="144"/>
                    </a:lnTo>
                    <a:lnTo>
                      <a:pt x="189" y="152"/>
                    </a:lnTo>
                    <a:lnTo>
                      <a:pt x="185" y="160"/>
                    </a:lnTo>
                    <a:lnTo>
                      <a:pt x="180" y="167"/>
                    </a:lnTo>
                    <a:lnTo>
                      <a:pt x="173" y="173"/>
                    </a:lnTo>
                    <a:lnTo>
                      <a:pt x="167" y="180"/>
                    </a:lnTo>
                    <a:lnTo>
                      <a:pt x="160" y="185"/>
                    </a:lnTo>
                    <a:lnTo>
                      <a:pt x="152" y="189"/>
                    </a:lnTo>
                    <a:lnTo>
                      <a:pt x="145" y="193"/>
                    </a:lnTo>
                    <a:lnTo>
                      <a:pt x="136" y="197"/>
                    </a:lnTo>
                    <a:lnTo>
                      <a:pt x="127" y="199"/>
                    </a:lnTo>
                    <a:lnTo>
                      <a:pt x="118" y="201"/>
                    </a:lnTo>
                    <a:lnTo>
                      <a:pt x="108" y="201"/>
                    </a:lnTo>
                    <a:lnTo>
                      <a:pt x="99" y="201"/>
                    </a:lnTo>
                    <a:lnTo>
                      <a:pt x="90" y="199"/>
                    </a:lnTo>
                    <a:lnTo>
                      <a:pt x="81" y="197"/>
                    </a:lnTo>
                    <a:lnTo>
                      <a:pt x="73" y="193"/>
                    </a:lnTo>
                    <a:lnTo>
                      <a:pt x="65" y="189"/>
                    </a:lnTo>
                    <a:lnTo>
                      <a:pt x="57" y="185"/>
                    </a:lnTo>
                    <a:lnTo>
                      <a:pt x="50" y="180"/>
                    </a:lnTo>
                    <a:lnTo>
                      <a:pt x="43" y="173"/>
                    </a:lnTo>
                    <a:lnTo>
                      <a:pt x="38" y="167"/>
                    </a:lnTo>
                    <a:lnTo>
                      <a:pt x="33" y="160"/>
                    </a:lnTo>
                    <a:lnTo>
                      <a:pt x="27" y="152"/>
                    </a:lnTo>
                    <a:lnTo>
                      <a:pt x="24" y="144"/>
                    </a:lnTo>
                    <a:lnTo>
                      <a:pt x="21" y="136"/>
                    </a:lnTo>
                    <a:lnTo>
                      <a:pt x="19" y="127"/>
                    </a:lnTo>
                    <a:lnTo>
                      <a:pt x="17" y="118"/>
                    </a:lnTo>
                    <a:lnTo>
                      <a:pt x="17" y="108"/>
                    </a:lnTo>
                    <a:lnTo>
                      <a:pt x="17" y="99"/>
                    </a:lnTo>
                    <a:lnTo>
                      <a:pt x="19" y="90"/>
                    </a:lnTo>
                    <a:lnTo>
                      <a:pt x="21" y="81"/>
                    </a:lnTo>
                    <a:lnTo>
                      <a:pt x="24" y="73"/>
                    </a:lnTo>
                    <a:lnTo>
                      <a:pt x="27" y="65"/>
                    </a:lnTo>
                    <a:lnTo>
                      <a:pt x="33" y="57"/>
                    </a:lnTo>
                    <a:lnTo>
                      <a:pt x="38" y="51"/>
                    </a:lnTo>
                    <a:lnTo>
                      <a:pt x="43" y="43"/>
                    </a:lnTo>
                    <a:lnTo>
                      <a:pt x="50" y="38"/>
                    </a:lnTo>
                    <a:lnTo>
                      <a:pt x="57" y="33"/>
                    </a:lnTo>
                    <a:lnTo>
                      <a:pt x="65" y="27"/>
                    </a:lnTo>
                    <a:lnTo>
                      <a:pt x="73" y="24"/>
                    </a:lnTo>
                    <a:lnTo>
                      <a:pt x="81" y="21"/>
                    </a:lnTo>
                    <a:lnTo>
                      <a:pt x="90" y="18"/>
                    </a:lnTo>
                    <a:lnTo>
                      <a:pt x="99" y="17"/>
                    </a:lnTo>
                    <a:lnTo>
                      <a:pt x="108" y="17"/>
                    </a:lnTo>
                    <a:lnTo>
                      <a:pt x="118" y="17"/>
                    </a:lnTo>
                    <a:lnTo>
                      <a:pt x="127" y="18"/>
                    </a:lnTo>
                    <a:lnTo>
                      <a:pt x="136" y="21"/>
                    </a:lnTo>
                    <a:lnTo>
                      <a:pt x="145" y="24"/>
                    </a:lnTo>
                    <a:lnTo>
                      <a:pt x="152" y="27"/>
                    </a:lnTo>
                    <a:lnTo>
                      <a:pt x="160" y="33"/>
                    </a:lnTo>
                    <a:lnTo>
                      <a:pt x="167" y="38"/>
                    </a:lnTo>
                    <a:lnTo>
                      <a:pt x="173" y="43"/>
                    </a:lnTo>
                    <a:lnTo>
                      <a:pt x="180" y="51"/>
                    </a:lnTo>
                    <a:lnTo>
                      <a:pt x="185" y="57"/>
                    </a:lnTo>
                    <a:lnTo>
                      <a:pt x="189" y="65"/>
                    </a:lnTo>
                    <a:lnTo>
                      <a:pt x="193" y="73"/>
                    </a:lnTo>
                    <a:lnTo>
                      <a:pt x="197" y="81"/>
                    </a:lnTo>
                    <a:lnTo>
                      <a:pt x="199" y="90"/>
                    </a:lnTo>
                    <a:lnTo>
                      <a:pt x="201" y="99"/>
                    </a:lnTo>
                    <a:lnTo>
                      <a:pt x="201" y="10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86440" y="266544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201" h="200">
                    <a:moveTo>
                      <a:pt x="201" y="99"/>
                    </a:moveTo>
                    <a:lnTo>
                      <a:pt x="201" y="90"/>
                    </a:lnTo>
                    <a:lnTo>
                      <a:pt x="199" y="79"/>
                    </a:lnTo>
                    <a:lnTo>
                      <a:pt x="197" y="70"/>
                    </a:lnTo>
                    <a:lnTo>
                      <a:pt x="194" y="60"/>
                    </a:lnTo>
                    <a:lnTo>
                      <a:pt x="189" y="52"/>
                    </a:lnTo>
                    <a:lnTo>
                      <a:pt x="184" y="44"/>
                    </a:lnTo>
                    <a:lnTo>
                      <a:pt x="178" y="36"/>
                    </a:lnTo>
                    <a:lnTo>
                      <a:pt x="172" y="29"/>
                    </a:lnTo>
                    <a:lnTo>
                      <a:pt x="164" y="23"/>
                    </a:lnTo>
                    <a:lnTo>
                      <a:pt x="157" y="16"/>
                    </a:lnTo>
                    <a:lnTo>
                      <a:pt x="149" y="11"/>
                    </a:lnTo>
                    <a:lnTo>
                      <a:pt x="140" y="7"/>
                    </a:lnTo>
                    <a:lnTo>
                      <a:pt x="131" y="4"/>
                    </a:lnTo>
                    <a:lnTo>
                      <a:pt x="121" y="2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1" y="0"/>
                    </a:lnTo>
                    <a:lnTo>
                      <a:pt x="80" y="2"/>
                    </a:lnTo>
                    <a:lnTo>
                      <a:pt x="71" y="4"/>
                    </a:lnTo>
                    <a:lnTo>
                      <a:pt x="61" y="7"/>
                    </a:lnTo>
                    <a:lnTo>
                      <a:pt x="53" y="11"/>
                    </a:lnTo>
                    <a:lnTo>
                      <a:pt x="45" y="16"/>
                    </a:lnTo>
                    <a:lnTo>
                      <a:pt x="37" y="23"/>
                    </a:lnTo>
                    <a:lnTo>
                      <a:pt x="30" y="29"/>
                    </a:lnTo>
                    <a:lnTo>
                      <a:pt x="24" y="36"/>
                    </a:lnTo>
                    <a:lnTo>
                      <a:pt x="17" y="44"/>
                    </a:lnTo>
                    <a:lnTo>
                      <a:pt x="12" y="52"/>
                    </a:lnTo>
                    <a:lnTo>
                      <a:pt x="8" y="60"/>
                    </a:lnTo>
                    <a:lnTo>
                      <a:pt x="5" y="70"/>
                    </a:lnTo>
                    <a:lnTo>
                      <a:pt x="2" y="79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5" y="130"/>
                    </a:lnTo>
                    <a:lnTo>
                      <a:pt x="8" y="139"/>
                    </a:lnTo>
                    <a:lnTo>
                      <a:pt x="12" y="148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0" y="171"/>
                    </a:lnTo>
                    <a:lnTo>
                      <a:pt x="37" y="177"/>
                    </a:lnTo>
                    <a:lnTo>
                      <a:pt x="45" y="183"/>
                    </a:lnTo>
                    <a:lnTo>
                      <a:pt x="53" y="188"/>
                    </a:lnTo>
                    <a:lnTo>
                      <a:pt x="61" y="192"/>
                    </a:lnTo>
                    <a:lnTo>
                      <a:pt x="71" y="196"/>
                    </a:lnTo>
                    <a:lnTo>
                      <a:pt x="80" y="198"/>
                    </a:lnTo>
                    <a:lnTo>
                      <a:pt x="91" y="199"/>
                    </a:lnTo>
                    <a:lnTo>
                      <a:pt x="100" y="200"/>
                    </a:lnTo>
                    <a:lnTo>
                      <a:pt x="111" y="199"/>
                    </a:lnTo>
                    <a:lnTo>
                      <a:pt x="121" y="198"/>
                    </a:lnTo>
                    <a:lnTo>
                      <a:pt x="131" y="196"/>
                    </a:lnTo>
                    <a:lnTo>
                      <a:pt x="140" y="192"/>
                    </a:lnTo>
                    <a:lnTo>
                      <a:pt x="149" y="188"/>
                    </a:lnTo>
                    <a:lnTo>
                      <a:pt x="157" y="183"/>
                    </a:lnTo>
                    <a:lnTo>
                      <a:pt x="164" y="177"/>
                    </a:lnTo>
                    <a:lnTo>
                      <a:pt x="172" y="171"/>
                    </a:lnTo>
                    <a:lnTo>
                      <a:pt x="178" y="163"/>
                    </a:lnTo>
                    <a:lnTo>
                      <a:pt x="184" y="156"/>
                    </a:lnTo>
                    <a:lnTo>
                      <a:pt x="189" y="148"/>
                    </a:lnTo>
                    <a:lnTo>
                      <a:pt x="194" y="139"/>
                    </a:lnTo>
                    <a:lnTo>
                      <a:pt x="197" y="130"/>
                    </a:lnTo>
                    <a:lnTo>
                      <a:pt x="199" y="120"/>
                    </a:lnTo>
                    <a:lnTo>
                      <a:pt x="201" y="110"/>
                    </a:lnTo>
                    <a:lnTo>
                      <a:pt x="201" y="99"/>
                    </a:lnTo>
                    <a:close/>
                    <a:moveTo>
                      <a:pt x="184" y="99"/>
                    </a:moveTo>
                    <a:lnTo>
                      <a:pt x="184" y="109"/>
                    </a:lnTo>
                    <a:lnTo>
                      <a:pt x="183" y="116"/>
                    </a:lnTo>
                    <a:lnTo>
                      <a:pt x="181" y="125"/>
                    </a:lnTo>
                    <a:lnTo>
                      <a:pt x="178" y="132"/>
                    </a:lnTo>
                    <a:lnTo>
                      <a:pt x="174" y="139"/>
                    </a:lnTo>
                    <a:lnTo>
                      <a:pt x="171" y="147"/>
                    </a:lnTo>
                    <a:lnTo>
                      <a:pt x="165" y="153"/>
                    </a:lnTo>
                    <a:lnTo>
                      <a:pt x="160" y="159"/>
                    </a:lnTo>
                    <a:lnTo>
                      <a:pt x="154" y="164"/>
                    </a:lnTo>
                    <a:lnTo>
                      <a:pt x="148" y="170"/>
                    </a:lnTo>
                    <a:lnTo>
                      <a:pt x="140" y="174"/>
                    </a:lnTo>
                    <a:lnTo>
                      <a:pt x="133" y="177"/>
                    </a:lnTo>
                    <a:lnTo>
                      <a:pt x="125" y="180"/>
                    </a:lnTo>
                    <a:lnTo>
                      <a:pt x="117" y="181"/>
                    </a:lnTo>
                    <a:lnTo>
                      <a:pt x="110" y="183"/>
                    </a:lnTo>
                    <a:lnTo>
                      <a:pt x="100" y="183"/>
                    </a:lnTo>
                    <a:lnTo>
                      <a:pt x="92" y="183"/>
                    </a:lnTo>
                    <a:lnTo>
                      <a:pt x="83" y="181"/>
                    </a:lnTo>
                    <a:lnTo>
                      <a:pt x="76" y="180"/>
                    </a:lnTo>
                    <a:lnTo>
                      <a:pt x="68" y="177"/>
                    </a:lnTo>
                    <a:lnTo>
                      <a:pt x="60" y="174"/>
                    </a:lnTo>
                    <a:lnTo>
                      <a:pt x="54" y="170"/>
                    </a:lnTo>
                    <a:lnTo>
                      <a:pt x="48" y="164"/>
                    </a:lnTo>
                    <a:lnTo>
                      <a:pt x="41" y="159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7" y="139"/>
                    </a:lnTo>
                    <a:lnTo>
                      <a:pt x="24" y="132"/>
                    </a:lnTo>
                    <a:lnTo>
                      <a:pt x="20" y="125"/>
                    </a:lnTo>
                    <a:lnTo>
                      <a:pt x="18" y="116"/>
                    </a:lnTo>
                    <a:lnTo>
                      <a:pt x="17" y="109"/>
                    </a:lnTo>
                    <a:lnTo>
                      <a:pt x="17" y="99"/>
                    </a:lnTo>
                    <a:lnTo>
                      <a:pt x="17" y="91"/>
                    </a:lnTo>
                    <a:lnTo>
                      <a:pt x="18" y="83"/>
                    </a:lnTo>
                    <a:lnTo>
                      <a:pt x="20" y="75"/>
                    </a:lnTo>
                    <a:lnTo>
                      <a:pt x="24" y="67"/>
                    </a:lnTo>
                    <a:lnTo>
                      <a:pt x="27" y="59"/>
                    </a:lnTo>
                    <a:lnTo>
                      <a:pt x="31" y="53"/>
                    </a:lnTo>
                    <a:lnTo>
                      <a:pt x="36" y="47"/>
                    </a:lnTo>
                    <a:lnTo>
                      <a:pt x="41" y="41"/>
                    </a:lnTo>
                    <a:lnTo>
                      <a:pt x="48" y="35"/>
                    </a:lnTo>
                    <a:lnTo>
                      <a:pt x="54" y="30"/>
                    </a:lnTo>
                    <a:lnTo>
                      <a:pt x="60" y="26"/>
                    </a:lnTo>
                    <a:lnTo>
                      <a:pt x="68" y="23"/>
                    </a:lnTo>
                    <a:lnTo>
                      <a:pt x="76" y="20"/>
                    </a:lnTo>
                    <a:lnTo>
                      <a:pt x="83" y="17"/>
                    </a:lnTo>
                    <a:lnTo>
                      <a:pt x="92" y="16"/>
                    </a:lnTo>
                    <a:lnTo>
                      <a:pt x="100" y="15"/>
                    </a:lnTo>
                    <a:lnTo>
                      <a:pt x="110" y="16"/>
                    </a:lnTo>
                    <a:lnTo>
                      <a:pt x="117" y="17"/>
                    </a:lnTo>
                    <a:lnTo>
                      <a:pt x="125" y="20"/>
                    </a:lnTo>
                    <a:lnTo>
                      <a:pt x="133" y="23"/>
                    </a:lnTo>
                    <a:lnTo>
                      <a:pt x="140" y="26"/>
                    </a:lnTo>
                    <a:lnTo>
                      <a:pt x="148" y="30"/>
                    </a:lnTo>
                    <a:lnTo>
                      <a:pt x="154" y="35"/>
                    </a:lnTo>
                    <a:lnTo>
                      <a:pt x="160" y="41"/>
                    </a:lnTo>
                    <a:lnTo>
                      <a:pt x="165" y="47"/>
                    </a:lnTo>
                    <a:lnTo>
                      <a:pt x="171" y="53"/>
                    </a:lnTo>
                    <a:lnTo>
                      <a:pt x="174" y="59"/>
                    </a:lnTo>
                    <a:lnTo>
                      <a:pt x="178" y="67"/>
                    </a:lnTo>
                    <a:lnTo>
                      <a:pt x="181" y="75"/>
                    </a:lnTo>
                    <a:lnTo>
                      <a:pt x="183" y="83"/>
                    </a:lnTo>
                    <a:lnTo>
                      <a:pt x="184" y="91"/>
                    </a:lnTo>
                    <a:lnTo>
                      <a:pt x="184" y="9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87880" y="2668680"/>
                <a:ext cx="59040" cy="58680"/>
              </a:xfrm>
              <a:custGeom>
                <a:avLst/>
                <a:gdLst/>
                <a:ahLst/>
                <a:rect l="l" t="t" r="r" b="b"/>
                <a:pathLst>
                  <a:path w="184" h="184">
                    <a:moveTo>
                      <a:pt x="184" y="91"/>
                    </a:moveTo>
                    <a:lnTo>
                      <a:pt x="184" y="82"/>
                    </a:lnTo>
                    <a:lnTo>
                      <a:pt x="182" y="73"/>
                    </a:lnTo>
                    <a:lnTo>
                      <a:pt x="180" y="64"/>
                    </a:lnTo>
                    <a:lnTo>
                      <a:pt x="176" y="56"/>
                    </a:lnTo>
                    <a:lnTo>
                      <a:pt x="173" y="48"/>
                    </a:lnTo>
                    <a:lnTo>
                      <a:pt x="168" y="40"/>
                    </a:lnTo>
                    <a:lnTo>
                      <a:pt x="163" y="34"/>
                    </a:lnTo>
                    <a:lnTo>
                      <a:pt x="156" y="26"/>
                    </a:lnTo>
                    <a:lnTo>
                      <a:pt x="150" y="21"/>
                    </a:lnTo>
                    <a:lnTo>
                      <a:pt x="143" y="16"/>
                    </a:lnTo>
                    <a:lnTo>
                      <a:pt x="135" y="10"/>
                    </a:lnTo>
                    <a:lnTo>
                      <a:pt x="128" y="6"/>
                    </a:lnTo>
                    <a:lnTo>
                      <a:pt x="119" y="4"/>
                    </a:lnTo>
                    <a:lnTo>
                      <a:pt x="110" y="1"/>
                    </a:lnTo>
                    <a:lnTo>
                      <a:pt x="101" y="0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3" y="1"/>
                    </a:lnTo>
                    <a:lnTo>
                      <a:pt x="64" y="4"/>
                    </a:lnTo>
                    <a:lnTo>
                      <a:pt x="56" y="6"/>
                    </a:lnTo>
                    <a:lnTo>
                      <a:pt x="48" y="10"/>
                    </a:lnTo>
                    <a:lnTo>
                      <a:pt x="40" y="16"/>
                    </a:lnTo>
                    <a:lnTo>
                      <a:pt x="33" y="21"/>
                    </a:lnTo>
                    <a:lnTo>
                      <a:pt x="26" y="26"/>
                    </a:lnTo>
                    <a:lnTo>
                      <a:pt x="21" y="34"/>
                    </a:lnTo>
                    <a:lnTo>
                      <a:pt x="16" y="40"/>
                    </a:lnTo>
                    <a:lnTo>
                      <a:pt x="10" y="48"/>
                    </a:lnTo>
                    <a:lnTo>
                      <a:pt x="7" y="56"/>
                    </a:lnTo>
                    <a:lnTo>
                      <a:pt x="4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1" y="110"/>
                    </a:lnTo>
                    <a:lnTo>
                      <a:pt x="4" y="119"/>
                    </a:lnTo>
                    <a:lnTo>
                      <a:pt x="7" y="127"/>
                    </a:lnTo>
                    <a:lnTo>
                      <a:pt x="10" y="135"/>
                    </a:lnTo>
                    <a:lnTo>
                      <a:pt x="16" y="143"/>
                    </a:lnTo>
                    <a:lnTo>
                      <a:pt x="21" y="150"/>
                    </a:lnTo>
                    <a:lnTo>
                      <a:pt x="26" y="156"/>
                    </a:lnTo>
                    <a:lnTo>
                      <a:pt x="33" y="163"/>
                    </a:lnTo>
                    <a:lnTo>
                      <a:pt x="40" y="168"/>
                    </a:lnTo>
                    <a:lnTo>
                      <a:pt x="48" y="172"/>
                    </a:lnTo>
                    <a:lnTo>
                      <a:pt x="56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4"/>
                    </a:lnTo>
                    <a:lnTo>
                      <a:pt x="91" y="184"/>
                    </a:lnTo>
                    <a:lnTo>
                      <a:pt x="101" y="184"/>
                    </a:lnTo>
                    <a:lnTo>
                      <a:pt x="110" y="182"/>
                    </a:lnTo>
                    <a:lnTo>
                      <a:pt x="119" y="180"/>
                    </a:lnTo>
                    <a:lnTo>
                      <a:pt x="128" y="176"/>
                    </a:lnTo>
                    <a:lnTo>
                      <a:pt x="135" y="172"/>
                    </a:lnTo>
                    <a:lnTo>
                      <a:pt x="143" y="168"/>
                    </a:lnTo>
                    <a:lnTo>
                      <a:pt x="150" y="163"/>
                    </a:lnTo>
                    <a:lnTo>
                      <a:pt x="156" y="156"/>
                    </a:lnTo>
                    <a:lnTo>
                      <a:pt x="163" y="150"/>
                    </a:lnTo>
                    <a:lnTo>
                      <a:pt x="168" y="143"/>
                    </a:lnTo>
                    <a:lnTo>
                      <a:pt x="173" y="135"/>
                    </a:lnTo>
                    <a:lnTo>
                      <a:pt x="176" y="127"/>
                    </a:lnTo>
                    <a:lnTo>
                      <a:pt x="180" y="119"/>
                    </a:lnTo>
                    <a:lnTo>
                      <a:pt x="182" y="110"/>
                    </a:lnTo>
                    <a:lnTo>
                      <a:pt x="184" y="101"/>
                    </a:lnTo>
                    <a:lnTo>
                      <a:pt x="184" y="91"/>
                    </a:lnTo>
                    <a:close/>
                    <a:moveTo>
                      <a:pt x="167" y="91"/>
                    </a:moveTo>
                    <a:lnTo>
                      <a:pt x="167" y="100"/>
                    </a:lnTo>
                    <a:lnTo>
                      <a:pt x="166" y="107"/>
                    </a:lnTo>
                    <a:lnTo>
                      <a:pt x="164" y="114"/>
                    </a:lnTo>
                    <a:lnTo>
                      <a:pt x="162" y="121"/>
                    </a:lnTo>
                    <a:lnTo>
                      <a:pt x="157" y="128"/>
                    </a:lnTo>
                    <a:lnTo>
                      <a:pt x="154" y="133"/>
                    </a:lnTo>
                    <a:lnTo>
                      <a:pt x="150" y="140"/>
                    </a:lnTo>
                    <a:lnTo>
                      <a:pt x="145" y="145"/>
                    </a:lnTo>
                    <a:lnTo>
                      <a:pt x="140" y="150"/>
                    </a:lnTo>
                    <a:lnTo>
                      <a:pt x="133" y="154"/>
                    </a:lnTo>
                    <a:lnTo>
                      <a:pt x="128" y="157"/>
                    </a:lnTo>
                    <a:lnTo>
                      <a:pt x="121" y="161"/>
                    </a:lnTo>
                    <a:lnTo>
                      <a:pt x="114" y="164"/>
                    </a:lnTo>
                    <a:lnTo>
                      <a:pt x="107" y="166"/>
                    </a:lnTo>
                    <a:lnTo>
                      <a:pt x="100" y="167"/>
                    </a:lnTo>
                    <a:lnTo>
                      <a:pt x="91" y="167"/>
                    </a:lnTo>
                    <a:lnTo>
                      <a:pt x="84" y="167"/>
                    </a:lnTo>
                    <a:lnTo>
                      <a:pt x="77" y="166"/>
                    </a:lnTo>
                    <a:lnTo>
                      <a:pt x="69" y="164"/>
                    </a:lnTo>
                    <a:lnTo>
                      <a:pt x="62" y="161"/>
                    </a:lnTo>
                    <a:lnTo>
                      <a:pt x="56" y="157"/>
                    </a:lnTo>
                    <a:lnTo>
                      <a:pt x="49" y="154"/>
                    </a:lnTo>
                    <a:lnTo>
                      <a:pt x="44" y="150"/>
                    </a:lnTo>
                    <a:lnTo>
                      <a:pt x="39" y="145"/>
                    </a:lnTo>
                    <a:lnTo>
                      <a:pt x="33" y="140"/>
                    </a:lnTo>
                    <a:lnTo>
                      <a:pt x="29" y="133"/>
                    </a:lnTo>
                    <a:lnTo>
                      <a:pt x="25" y="128"/>
                    </a:lnTo>
                    <a:lnTo>
                      <a:pt x="22" y="121"/>
                    </a:lnTo>
                    <a:lnTo>
                      <a:pt x="20" y="114"/>
                    </a:lnTo>
                    <a:lnTo>
                      <a:pt x="18" y="107"/>
                    </a:lnTo>
                    <a:lnTo>
                      <a:pt x="17" y="100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18" y="77"/>
                    </a:lnTo>
                    <a:lnTo>
                      <a:pt x="20" y="69"/>
                    </a:lnTo>
                    <a:lnTo>
                      <a:pt x="22" y="62"/>
                    </a:lnTo>
                    <a:lnTo>
                      <a:pt x="25" y="56"/>
                    </a:lnTo>
                    <a:lnTo>
                      <a:pt x="29" y="49"/>
                    </a:lnTo>
                    <a:lnTo>
                      <a:pt x="33" y="44"/>
                    </a:lnTo>
                    <a:lnTo>
                      <a:pt x="39" y="39"/>
                    </a:lnTo>
                    <a:lnTo>
                      <a:pt x="44" y="34"/>
                    </a:lnTo>
                    <a:lnTo>
                      <a:pt x="49" y="29"/>
                    </a:lnTo>
                    <a:lnTo>
                      <a:pt x="56" y="25"/>
                    </a:lnTo>
                    <a:lnTo>
                      <a:pt x="62" y="22"/>
                    </a:lnTo>
                    <a:lnTo>
                      <a:pt x="69" y="20"/>
                    </a:lnTo>
                    <a:lnTo>
                      <a:pt x="77" y="18"/>
                    </a:lnTo>
                    <a:lnTo>
                      <a:pt x="84" y="17"/>
                    </a:lnTo>
                    <a:lnTo>
                      <a:pt x="91" y="17"/>
                    </a:lnTo>
                    <a:lnTo>
                      <a:pt x="100" y="17"/>
                    </a:lnTo>
                    <a:lnTo>
                      <a:pt x="107" y="18"/>
                    </a:lnTo>
                    <a:lnTo>
                      <a:pt x="114" y="20"/>
                    </a:lnTo>
                    <a:lnTo>
                      <a:pt x="121" y="22"/>
                    </a:lnTo>
                    <a:lnTo>
                      <a:pt x="128" y="25"/>
                    </a:lnTo>
                    <a:lnTo>
                      <a:pt x="133" y="29"/>
                    </a:lnTo>
                    <a:lnTo>
                      <a:pt x="140" y="34"/>
                    </a:lnTo>
                    <a:lnTo>
                      <a:pt x="145" y="39"/>
                    </a:lnTo>
                    <a:lnTo>
                      <a:pt x="150" y="44"/>
                    </a:lnTo>
                    <a:lnTo>
                      <a:pt x="154" y="49"/>
                    </a:lnTo>
                    <a:lnTo>
                      <a:pt x="157" y="56"/>
                    </a:lnTo>
                    <a:lnTo>
                      <a:pt x="162" y="62"/>
                    </a:lnTo>
                    <a:lnTo>
                      <a:pt x="164" y="69"/>
                    </a:lnTo>
                    <a:lnTo>
                      <a:pt x="166" y="77"/>
                    </a:lnTo>
                    <a:lnTo>
                      <a:pt x="167" y="84"/>
                    </a:lnTo>
                    <a:lnTo>
                      <a:pt x="167" y="9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91120" y="26719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67" h="167">
                    <a:moveTo>
                      <a:pt x="167" y="83"/>
                    </a:moveTo>
                    <a:lnTo>
                      <a:pt x="167" y="75"/>
                    </a:lnTo>
                    <a:lnTo>
                      <a:pt x="165" y="67"/>
                    </a:lnTo>
                    <a:lnTo>
                      <a:pt x="164" y="59"/>
                    </a:lnTo>
                    <a:lnTo>
                      <a:pt x="161" y="51"/>
                    </a:lnTo>
                    <a:lnTo>
                      <a:pt x="157" y="43"/>
                    </a:lnTo>
                    <a:lnTo>
                      <a:pt x="153" y="37"/>
                    </a:lnTo>
                    <a:lnTo>
                      <a:pt x="148" y="31"/>
                    </a:lnTo>
                    <a:lnTo>
                      <a:pt x="143" y="25"/>
                    </a:lnTo>
                    <a:lnTo>
                      <a:pt x="137" y="19"/>
                    </a:lnTo>
                    <a:lnTo>
                      <a:pt x="131" y="14"/>
                    </a:lnTo>
                    <a:lnTo>
                      <a:pt x="123" y="10"/>
                    </a:lnTo>
                    <a:lnTo>
                      <a:pt x="116" y="7"/>
                    </a:lnTo>
                    <a:lnTo>
                      <a:pt x="108" y="4"/>
                    </a:lnTo>
                    <a:lnTo>
                      <a:pt x="100" y="1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5" y="0"/>
                    </a:lnTo>
                    <a:lnTo>
                      <a:pt x="66" y="1"/>
                    </a:lnTo>
                    <a:lnTo>
                      <a:pt x="59" y="4"/>
                    </a:lnTo>
                    <a:lnTo>
                      <a:pt x="51" y="7"/>
                    </a:lnTo>
                    <a:lnTo>
                      <a:pt x="43" y="10"/>
                    </a:lnTo>
                    <a:lnTo>
                      <a:pt x="37" y="14"/>
                    </a:lnTo>
                    <a:lnTo>
                      <a:pt x="31" y="19"/>
                    </a:lnTo>
                    <a:lnTo>
                      <a:pt x="24" y="25"/>
                    </a:lnTo>
                    <a:lnTo>
                      <a:pt x="19" y="31"/>
                    </a:lnTo>
                    <a:lnTo>
                      <a:pt x="14" y="37"/>
                    </a:lnTo>
                    <a:lnTo>
                      <a:pt x="10" y="43"/>
                    </a:lnTo>
                    <a:lnTo>
                      <a:pt x="7" y="51"/>
                    </a:lnTo>
                    <a:lnTo>
                      <a:pt x="3" y="59"/>
                    </a:lnTo>
                    <a:lnTo>
                      <a:pt x="1" y="67"/>
                    </a:lnTo>
                    <a:lnTo>
                      <a:pt x="0" y="75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1" y="100"/>
                    </a:lnTo>
                    <a:lnTo>
                      <a:pt x="3" y="109"/>
                    </a:lnTo>
                    <a:lnTo>
                      <a:pt x="7" y="116"/>
                    </a:lnTo>
                    <a:lnTo>
                      <a:pt x="10" y="123"/>
                    </a:lnTo>
                    <a:lnTo>
                      <a:pt x="14" y="131"/>
                    </a:lnTo>
                    <a:lnTo>
                      <a:pt x="19" y="137"/>
                    </a:lnTo>
                    <a:lnTo>
                      <a:pt x="24" y="143"/>
                    </a:lnTo>
                    <a:lnTo>
                      <a:pt x="31" y="148"/>
                    </a:lnTo>
                    <a:lnTo>
                      <a:pt x="37" y="153"/>
                    </a:lnTo>
                    <a:lnTo>
                      <a:pt x="43" y="157"/>
                    </a:lnTo>
                    <a:lnTo>
                      <a:pt x="51" y="161"/>
                    </a:lnTo>
                    <a:lnTo>
                      <a:pt x="59" y="164"/>
                    </a:lnTo>
                    <a:lnTo>
                      <a:pt x="66" y="165"/>
                    </a:lnTo>
                    <a:lnTo>
                      <a:pt x="75" y="167"/>
                    </a:lnTo>
                    <a:lnTo>
                      <a:pt x="83" y="167"/>
                    </a:lnTo>
                    <a:lnTo>
                      <a:pt x="93" y="167"/>
                    </a:lnTo>
                    <a:lnTo>
                      <a:pt x="100" y="165"/>
                    </a:lnTo>
                    <a:lnTo>
                      <a:pt x="108" y="164"/>
                    </a:lnTo>
                    <a:lnTo>
                      <a:pt x="116" y="161"/>
                    </a:lnTo>
                    <a:lnTo>
                      <a:pt x="123" y="157"/>
                    </a:lnTo>
                    <a:lnTo>
                      <a:pt x="131" y="153"/>
                    </a:lnTo>
                    <a:lnTo>
                      <a:pt x="137" y="148"/>
                    </a:lnTo>
                    <a:lnTo>
                      <a:pt x="143" y="143"/>
                    </a:lnTo>
                    <a:lnTo>
                      <a:pt x="148" y="137"/>
                    </a:lnTo>
                    <a:lnTo>
                      <a:pt x="153" y="131"/>
                    </a:lnTo>
                    <a:lnTo>
                      <a:pt x="157" y="123"/>
                    </a:lnTo>
                    <a:lnTo>
                      <a:pt x="161" y="116"/>
                    </a:lnTo>
                    <a:lnTo>
                      <a:pt x="164" y="109"/>
                    </a:lnTo>
                    <a:lnTo>
                      <a:pt x="165" y="100"/>
                    </a:lnTo>
                    <a:lnTo>
                      <a:pt x="167" y="93"/>
                    </a:lnTo>
                    <a:lnTo>
                      <a:pt x="167" y="83"/>
                    </a:lnTo>
                    <a:close/>
                    <a:moveTo>
                      <a:pt x="151" y="83"/>
                    </a:moveTo>
                    <a:lnTo>
                      <a:pt x="151" y="91"/>
                    </a:lnTo>
                    <a:lnTo>
                      <a:pt x="149" y="97"/>
                    </a:lnTo>
                    <a:lnTo>
                      <a:pt x="147" y="103"/>
                    </a:lnTo>
                    <a:lnTo>
                      <a:pt x="145" y="110"/>
                    </a:lnTo>
                    <a:lnTo>
                      <a:pt x="142" y="116"/>
                    </a:lnTo>
                    <a:lnTo>
                      <a:pt x="139" y="121"/>
                    </a:lnTo>
                    <a:lnTo>
                      <a:pt x="136" y="126"/>
                    </a:lnTo>
                    <a:lnTo>
                      <a:pt x="131" y="131"/>
                    </a:lnTo>
                    <a:lnTo>
                      <a:pt x="126" y="136"/>
                    </a:lnTo>
                    <a:lnTo>
                      <a:pt x="121" y="139"/>
                    </a:lnTo>
                    <a:lnTo>
                      <a:pt x="116" y="142"/>
                    </a:lnTo>
                    <a:lnTo>
                      <a:pt x="110" y="145"/>
                    </a:lnTo>
                    <a:lnTo>
                      <a:pt x="103" y="147"/>
                    </a:lnTo>
                    <a:lnTo>
                      <a:pt x="97" y="149"/>
                    </a:lnTo>
                    <a:lnTo>
                      <a:pt x="91" y="151"/>
                    </a:lnTo>
                    <a:lnTo>
                      <a:pt x="83" y="151"/>
                    </a:lnTo>
                    <a:lnTo>
                      <a:pt x="77" y="151"/>
                    </a:lnTo>
                    <a:lnTo>
                      <a:pt x="71" y="149"/>
                    </a:lnTo>
                    <a:lnTo>
                      <a:pt x="63" y="147"/>
                    </a:lnTo>
                    <a:lnTo>
                      <a:pt x="58" y="145"/>
                    </a:lnTo>
                    <a:lnTo>
                      <a:pt x="52" y="142"/>
                    </a:lnTo>
                    <a:lnTo>
                      <a:pt x="46" y="139"/>
                    </a:lnTo>
                    <a:lnTo>
                      <a:pt x="41" y="136"/>
                    </a:lnTo>
                    <a:lnTo>
                      <a:pt x="36" y="131"/>
                    </a:lnTo>
                    <a:lnTo>
                      <a:pt x="32" y="126"/>
                    </a:lnTo>
                    <a:lnTo>
                      <a:pt x="28" y="121"/>
                    </a:lnTo>
                    <a:lnTo>
                      <a:pt x="24" y="116"/>
                    </a:lnTo>
                    <a:lnTo>
                      <a:pt x="22" y="110"/>
                    </a:lnTo>
                    <a:lnTo>
                      <a:pt x="19" y="103"/>
                    </a:lnTo>
                    <a:lnTo>
                      <a:pt x="18" y="97"/>
                    </a:lnTo>
                    <a:lnTo>
                      <a:pt x="17" y="91"/>
                    </a:lnTo>
                    <a:lnTo>
                      <a:pt x="17" y="83"/>
                    </a:lnTo>
                    <a:lnTo>
                      <a:pt x="17" y="77"/>
                    </a:lnTo>
                    <a:lnTo>
                      <a:pt x="18" y="70"/>
                    </a:lnTo>
                    <a:lnTo>
                      <a:pt x="19" y="63"/>
                    </a:lnTo>
                    <a:lnTo>
                      <a:pt x="22" y="58"/>
                    </a:lnTo>
                    <a:lnTo>
                      <a:pt x="24" y="52"/>
                    </a:lnTo>
                    <a:lnTo>
                      <a:pt x="28" y="47"/>
                    </a:lnTo>
                    <a:lnTo>
                      <a:pt x="32" y="41"/>
                    </a:lnTo>
                    <a:lnTo>
                      <a:pt x="36" y="36"/>
                    </a:lnTo>
                    <a:lnTo>
                      <a:pt x="41" y="32"/>
                    </a:lnTo>
                    <a:lnTo>
                      <a:pt x="46" y="28"/>
                    </a:lnTo>
                    <a:lnTo>
                      <a:pt x="52" y="25"/>
                    </a:lnTo>
                    <a:lnTo>
                      <a:pt x="58" y="22"/>
                    </a:lnTo>
                    <a:lnTo>
                      <a:pt x="63" y="19"/>
                    </a:lnTo>
                    <a:lnTo>
                      <a:pt x="71" y="18"/>
                    </a:lnTo>
                    <a:lnTo>
                      <a:pt x="77" y="17"/>
                    </a:lnTo>
                    <a:lnTo>
                      <a:pt x="83" y="16"/>
                    </a:lnTo>
                    <a:lnTo>
                      <a:pt x="91" y="17"/>
                    </a:lnTo>
                    <a:lnTo>
                      <a:pt x="97" y="18"/>
                    </a:lnTo>
                    <a:lnTo>
                      <a:pt x="103" y="19"/>
                    </a:lnTo>
                    <a:lnTo>
                      <a:pt x="110" y="22"/>
                    </a:lnTo>
                    <a:lnTo>
                      <a:pt x="116" y="25"/>
                    </a:lnTo>
                    <a:lnTo>
                      <a:pt x="121" y="28"/>
                    </a:lnTo>
                    <a:lnTo>
                      <a:pt x="126" y="32"/>
                    </a:lnTo>
                    <a:lnTo>
                      <a:pt x="131" y="36"/>
                    </a:lnTo>
                    <a:lnTo>
                      <a:pt x="136" y="41"/>
                    </a:lnTo>
                    <a:lnTo>
                      <a:pt x="139" y="47"/>
                    </a:lnTo>
                    <a:lnTo>
                      <a:pt x="142" y="52"/>
                    </a:lnTo>
                    <a:lnTo>
                      <a:pt x="145" y="58"/>
                    </a:lnTo>
                    <a:lnTo>
                      <a:pt x="147" y="63"/>
                    </a:lnTo>
                    <a:lnTo>
                      <a:pt x="149" y="70"/>
                    </a:lnTo>
                    <a:lnTo>
                      <a:pt x="151" y="77"/>
                    </a:lnTo>
                    <a:lnTo>
                      <a:pt x="151" y="8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994360" y="267336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150" y="74"/>
                    </a:moveTo>
                    <a:lnTo>
                      <a:pt x="150" y="67"/>
                    </a:lnTo>
                    <a:lnTo>
                      <a:pt x="149" y="60"/>
                    </a:lnTo>
                    <a:lnTo>
                      <a:pt x="147" y="52"/>
                    </a:lnTo>
                    <a:lnTo>
                      <a:pt x="145" y="45"/>
                    </a:lnTo>
                    <a:lnTo>
                      <a:pt x="140" y="39"/>
                    </a:lnTo>
                    <a:lnTo>
                      <a:pt x="137" y="32"/>
                    </a:lnTo>
                    <a:lnTo>
                      <a:pt x="133" y="27"/>
                    </a:lnTo>
                    <a:lnTo>
                      <a:pt x="128" y="22"/>
                    </a:lnTo>
                    <a:lnTo>
                      <a:pt x="123" y="17"/>
                    </a:lnTo>
                    <a:lnTo>
                      <a:pt x="116" y="12"/>
                    </a:lnTo>
                    <a:lnTo>
                      <a:pt x="111" y="8"/>
                    </a:lnTo>
                    <a:lnTo>
                      <a:pt x="104" y="5"/>
                    </a:lnTo>
                    <a:lnTo>
                      <a:pt x="97" y="3"/>
                    </a:lnTo>
                    <a:lnTo>
                      <a:pt x="90" y="1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0" y="1"/>
                    </a:lnTo>
                    <a:lnTo>
                      <a:pt x="52" y="3"/>
                    </a:lnTo>
                    <a:lnTo>
                      <a:pt x="45" y="5"/>
                    </a:lnTo>
                    <a:lnTo>
                      <a:pt x="39" y="8"/>
                    </a:lnTo>
                    <a:lnTo>
                      <a:pt x="32" y="12"/>
                    </a:lnTo>
                    <a:lnTo>
                      <a:pt x="27" y="17"/>
                    </a:lnTo>
                    <a:lnTo>
                      <a:pt x="22" y="22"/>
                    </a:lnTo>
                    <a:lnTo>
                      <a:pt x="16" y="27"/>
                    </a:lnTo>
                    <a:lnTo>
                      <a:pt x="12" y="32"/>
                    </a:lnTo>
                    <a:lnTo>
                      <a:pt x="8" y="39"/>
                    </a:lnTo>
                    <a:lnTo>
                      <a:pt x="5" y="45"/>
                    </a:lnTo>
                    <a:lnTo>
                      <a:pt x="3" y="52"/>
                    </a:lnTo>
                    <a:lnTo>
                      <a:pt x="1" y="60"/>
                    </a:lnTo>
                    <a:lnTo>
                      <a:pt x="0" y="67"/>
                    </a:lnTo>
                    <a:lnTo>
                      <a:pt x="0" y="74"/>
                    </a:lnTo>
                    <a:lnTo>
                      <a:pt x="0" y="83"/>
                    </a:lnTo>
                    <a:lnTo>
                      <a:pt x="1" y="90"/>
                    </a:lnTo>
                    <a:lnTo>
                      <a:pt x="3" y="97"/>
                    </a:lnTo>
                    <a:lnTo>
                      <a:pt x="5" y="104"/>
                    </a:lnTo>
                    <a:lnTo>
                      <a:pt x="8" y="111"/>
                    </a:lnTo>
                    <a:lnTo>
                      <a:pt x="12" y="116"/>
                    </a:lnTo>
                    <a:lnTo>
                      <a:pt x="16" y="123"/>
                    </a:lnTo>
                    <a:lnTo>
                      <a:pt x="22" y="128"/>
                    </a:lnTo>
                    <a:lnTo>
                      <a:pt x="27" y="133"/>
                    </a:lnTo>
                    <a:lnTo>
                      <a:pt x="32" y="137"/>
                    </a:lnTo>
                    <a:lnTo>
                      <a:pt x="39" y="140"/>
                    </a:lnTo>
                    <a:lnTo>
                      <a:pt x="45" y="144"/>
                    </a:lnTo>
                    <a:lnTo>
                      <a:pt x="52" y="147"/>
                    </a:lnTo>
                    <a:lnTo>
                      <a:pt x="60" y="149"/>
                    </a:lnTo>
                    <a:lnTo>
                      <a:pt x="67" y="150"/>
                    </a:lnTo>
                    <a:lnTo>
                      <a:pt x="74" y="150"/>
                    </a:lnTo>
                    <a:lnTo>
                      <a:pt x="83" y="150"/>
                    </a:lnTo>
                    <a:lnTo>
                      <a:pt x="90" y="149"/>
                    </a:lnTo>
                    <a:lnTo>
                      <a:pt x="97" y="147"/>
                    </a:lnTo>
                    <a:lnTo>
                      <a:pt x="104" y="144"/>
                    </a:lnTo>
                    <a:lnTo>
                      <a:pt x="111" y="140"/>
                    </a:lnTo>
                    <a:lnTo>
                      <a:pt x="116" y="137"/>
                    </a:lnTo>
                    <a:lnTo>
                      <a:pt x="123" y="133"/>
                    </a:lnTo>
                    <a:lnTo>
                      <a:pt x="128" y="128"/>
                    </a:lnTo>
                    <a:lnTo>
                      <a:pt x="133" y="123"/>
                    </a:lnTo>
                    <a:lnTo>
                      <a:pt x="137" y="116"/>
                    </a:lnTo>
                    <a:lnTo>
                      <a:pt x="140" y="111"/>
                    </a:lnTo>
                    <a:lnTo>
                      <a:pt x="145" y="104"/>
                    </a:lnTo>
                    <a:lnTo>
                      <a:pt x="147" y="97"/>
                    </a:lnTo>
                    <a:lnTo>
                      <a:pt x="149" y="90"/>
                    </a:lnTo>
                    <a:lnTo>
                      <a:pt x="150" y="83"/>
                    </a:lnTo>
                    <a:lnTo>
                      <a:pt x="150" y="74"/>
                    </a:lnTo>
                    <a:close/>
                    <a:moveTo>
                      <a:pt x="133" y="74"/>
                    </a:moveTo>
                    <a:lnTo>
                      <a:pt x="133" y="81"/>
                    </a:lnTo>
                    <a:lnTo>
                      <a:pt x="132" y="87"/>
                    </a:lnTo>
                    <a:lnTo>
                      <a:pt x="131" y="92"/>
                    </a:lnTo>
                    <a:lnTo>
                      <a:pt x="129" y="97"/>
                    </a:lnTo>
                    <a:lnTo>
                      <a:pt x="126" y="103"/>
                    </a:lnTo>
                    <a:lnTo>
                      <a:pt x="124" y="108"/>
                    </a:lnTo>
                    <a:lnTo>
                      <a:pt x="119" y="112"/>
                    </a:lnTo>
                    <a:lnTo>
                      <a:pt x="116" y="116"/>
                    </a:lnTo>
                    <a:lnTo>
                      <a:pt x="112" y="119"/>
                    </a:lnTo>
                    <a:lnTo>
                      <a:pt x="108" y="124"/>
                    </a:lnTo>
                    <a:lnTo>
                      <a:pt x="103" y="126"/>
                    </a:lnTo>
                    <a:lnTo>
                      <a:pt x="97" y="129"/>
                    </a:lnTo>
                    <a:lnTo>
                      <a:pt x="92" y="131"/>
                    </a:lnTo>
                    <a:lnTo>
                      <a:pt x="87" y="132"/>
                    </a:lnTo>
                    <a:lnTo>
                      <a:pt x="81" y="133"/>
                    </a:lnTo>
                    <a:lnTo>
                      <a:pt x="74" y="133"/>
                    </a:lnTo>
                    <a:lnTo>
                      <a:pt x="69" y="133"/>
                    </a:lnTo>
                    <a:lnTo>
                      <a:pt x="63" y="132"/>
                    </a:lnTo>
                    <a:lnTo>
                      <a:pt x="57" y="131"/>
                    </a:lnTo>
                    <a:lnTo>
                      <a:pt x="52" y="129"/>
                    </a:lnTo>
                    <a:lnTo>
                      <a:pt x="47" y="126"/>
                    </a:lnTo>
                    <a:lnTo>
                      <a:pt x="42" y="124"/>
                    </a:lnTo>
                    <a:lnTo>
                      <a:pt x="37" y="119"/>
                    </a:lnTo>
                    <a:lnTo>
                      <a:pt x="33" y="116"/>
                    </a:lnTo>
                    <a:lnTo>
                      <a:pt x="29" y="112"/>
                    </a:lnTo>
                    <a:lnTo>
                      <a:pt x="26" y="108"/>
                    </a:lnTo>
                    <a:lnTo>
                      <a:pt x="23" y="103"/>
                    </a:lnTo>
                    <a:lnTo>
                      <a:pt x="21" y="97"/>
                    </a:lnTo>
                    <a:lnTo>
                      <a:pt x="19" y="92"/>
                    </a:lnTo>
                    <a:lnTo>
                      <a:pt x="17" y="87"/>
                    </a:lnTo>
                    <a:lnTo>
                      <a:pt x="16" y="81"/>
                    </a:lnTo>
                    <a:lnTo>
                      <a:pt x="16" y="74"/>
                    </a:lnTo>
                    <a:lnTo>
                      <a:pt x="16" y="69"/>
                    </a:lnTo>
                    <a:lnTo>
                      <a:pt x="17" y="63"/>
                    </a:lnTo>
                    <a:lnTo>
                      <a:pt x="19" y="58"/>
                    </a:lnTo>
                    <a:lnTo>
                      <a:pt x="21" y="52"/>
                    </a:lnTo>
                    <a:lnTo>
                      <a:pt x="23" y="47"/>
                    </a:lnTo>
                    <a:lnTo>
                      <a:pt x="26" y="42"/>
                    </a:lnTo>
                    <a:lnTo>
                      <a:pt x="29" y="38"/>
                    </a:lnTo>
                    <a:lnTo>
                      <a:pt x="33" y="33"/>
                    </a:lnTo>
                    <a:lnTo>
                      <a:pt x="37" y="29"/>
                    </a:lnTo>
                    <a:lnTo>
                      <a:pt x="42" y="26"/>
                    </a:lnTo>
                    <a:lnTo>
                      <a:pt x="47" y="23"/>
                    </a:lnTo>
                    <a:lnTo>
                      <a:pt x="52" y="21"/>
                    </a:lnTo>
                    <a:lnTo>
                      <a:pt x="57" y="19"/>
                    </a:lnTo>
                    <a:lnTo>
                      <a:pt x="63" y="18"/>
                    </a:lnTo>
                    <a:lnTo>
                      <a:pt x="69" y="17"/>
                    </a:lnTo>
                    <a:lnTo>
                      <a:pt x="74" y="16"/>
                    </a:lnTo>
                    <a:lnTo>
                      <a:pt x="81" y="17"/>
                    </a:lnTo>
                    <a:lnTo>
                      <a:pt x="87" y="18"/>
                    </a:lnTo>
                    <a:lnTo>
                      <a:pt x="92" y="19"/>
                    </a:lnTo>
                    <a:lnTo>
                      <a:pt x="97" y="21"/>
                    </a:lnTo>
                    <a:lnTo>
                      <a:pt x="103" y="23"/>
                    </a:lnTo>
                    <a:lnTo>
                      <a:pt x="108" y="26"/>
                    </a:lnTo>
                    <a:lnTo>
                      <a:pt x="112" y="29"/>
                    </a:lnTo>
                    <a:lnTo>
                      <a:pt x="116" y="33"/>
                    </a:lnTo>
                    <a:lnTo>
                      <a:pt x="119" y="38"/>
                    </a:lnTo>
                    <a:lnTo>
                      <a:pt x="124" y="42"/>
                    </a:lnTo>
                    <a:lnTo>
                      <a:pt x="126" y="47"/>
                    </a:lnTo>
                    <a:lnTo>
                      <a:pt x="129" y="52"/>
                    </a:lnTo>
                    <a:lnTo>
                      <a:pt x="131" y="58"/>
                    </a:lnTo>
                    <a:lnTo>
                      <a:pt x="132" y="63"/>
                    </a:lnTo>
                    <a:lnTo>
                      <a:pt x="133" y="69"/>
                    </a:lnTo>
                    <a:lnTo>
                      <a:pt x="133" y="7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996160" y="26766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34" h="135">
                    <a:moveTo>
                      <a:pt x="134" y="67"/>
                    </a:moveTo>
                    <a:lnTo>
                      <a:pt x="134" y="61"/>
                    </a:lnTo>
                    <a:lnTo>
                      <a:pt x="132" y="54"/>
                    </a:lnTo>
                    <a:lnTo>
                      <a:pt x="130" y="47"/>
                    </a:lnTo>
                    <a:lnTo>
                      <a:pt x="128" y="42"/>
                    </a:lnTo>
                    <a:lnTo>
                      <a:pt x="125" y="36"/>
                    </a:lnTo>
                    <a:lnTo>
                      <a:pt x="122" y="31"/>
                    </a:lnTo>
                    <a:lnTo>
                      <a:pt x="119" y="25"/>
                    </a:lnTo>
                    <a:lnTo>
                      <a:pt x="114" y="20"/>
                    </a:lnTo>
                    <a:lnTo>
                      <a:pt x="109" y="16"/>
                    </a:lnTo>
                    <a:lnTo>
                      <a:pt x="104" y="12"/>
                    </a:lnTo>
                    <a:lnTo>
                      <a:pt x="99" y="9"/>
                    </a:lnTo>
                    <a:lnTo>
                      <a:pt x="93" y="6"/>
                    </a:lnTo>
                    <a:lnTo>
                      <a:pt x="86" y="3"/>
                    </a:lnTo>
                    <a:lnTo>
                      <a:pt x="80" y="2"/>
                    </a:lnTo>
                    <a:lnTo>
                      <a:pt x="74" y="1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4" y="2"/>
                    </a:lnTo>
                    <a:lnTo>
                      <a:pt x="46" y="3"/>
                    </a:lnTo>
                    <a:lnTo>
                      <a:pt x="41" y="6"/>
                    </a:lnTo>
                    <a:lnTo>
                      <a:pt x="35" y="9"/>
                    </a:lnTo>
                    <a:lnTo>
                      <a:pt x="29" y="12"/>
                    </a:lnTo>
                    <a:lnTo>
                      <a:pt x="24" y="16"/>
                    </a:lnTo>
                    <a:lnTo>
                      <a:pt x="19" y="20"/>
                    </a:lnTo>
                    <a:lnTo>
                      <a:pt x="15" y="25"/>
                    </a:lnTo>
                    <a:lnTo>
                      <a:pt x="11" y="31"/>
                    </a:lnTo>
                    <a:lnTo>
                      <a:pt x="7" y="36"/>
                    </a:lnTo>
                    <a:lnTo>
                      <a:pt x="5" y="42"/>
                    </a:lnTo>
                    <a:lnTo>
                      <a:pt x="2" y="47"/>
                    </a:lnTo>
                    <a:lnTo>
                      <a:pt x="1" y="54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0" y="75"/>
                    </a:lnTo>
                    <a:lnTo>
                      <a:pt x="1" y="81"/>
                    </a:lnTo>
                    <a:lnTo>
                      <a:pt x="2" y="87"/>
                    </a:lnTo>
                    <a:lnTo>
                      <a:pt x="5" y="94"/>
                    </a:lnTo>
                    <a:lnTo>
                      <a:pt x="7" y="100"/>
                    </a:lnTo>
                    <a:lnTo>
                      <a:pt x="11" y="105"/>
                    </a:lnTo>
                    <a:lnTo>
                      <a:pt x="15" y="110"/>
                    </a:lnTo>
                    <a:lnTo>
                      <a:pt x="19" y="115"/>
                    </a:lnTo>
                    <a:lnTo>
                      <a:pt x="24" y="120"/>
                    </a:lnTo>
                    <a:lnTo>
                      <a:pt x="29" y="123"/>
                    </a:lnTo>
                    <a:lnTo>
                      <a:pt x="35" y="126"/>
                    </a:lnTo>
                    <a:lnTo>
                      <a:pt x="41" y="129"/>
                    </a:lnTo>
                    <a:lnTo>
                      <a:pt x="46" y="131"/>
                    </a:lnTo>
                    <a:lnTo>
                      <a:pt x="54" y="133"/>
                    </a:lnTo>
                    <a:lnTo>
                      <a:pt x="60" y="135"/>
                    </a:lnTo>
                    <a:lnTo>
                      <a:pt x="66" y="135"/>
                    </a:lnTo>
                    <a:lnTo>
                      <a:pt x="74" y="135"/>
                    </a:lnTo>
                    <a:lnTo>
                      <a:pt x="80" y="133"/>
                    </a:lnTo>
                    <a:lnTo>
                      <a:pt x="86" y="131"/>
                    </a:lnTo>
                    <a:lnTo>
                      <a:pt x="93" y="129"/>
                    </a:lnTo>
                    <a:lnTo>
                      <a:pt x="99" y="126"/>
                    </a:lnTo>
                    <a:lnTo>
                      <a:pt x="104" y="123"/>
                    </a:lnTo>
                    <a:lnTo>
                      <a:pt x="109" y="120"/>
                    </a:lnTo>
                    <a:lnTo>
                      <a:pt x="114" y="115"/>
                    </a:lnTo>
                    <a:lnTo>
                      <a:pt x="119" y="110"/>
                    </a:lnTo>
                    <a:lnTo>
                      <a:pt x="122" y="105"/>
                    </a:lnTo>
                    <a:lnTo>
                      <a:pt x="125" y="100"/>
                    </a:lnTo>
                    <a:lnTo>
                      <a:pt x="128" y="94"/>
                    </a:lnTo>
                    <a:lnTo>
                      <a:pt x="130" y="87"/>
                    </a:lnTo>
                    <a:lnTo>
                      <a:pt x="132" y="81"/>
                    </a:lnTo>
                    <a:lnTo>
                      <a:pt x="134" y="75"/>
                    </a:lnTo>
                    <a:lnTo>
                      <a:pt x="134" y="67"/>
                    </a:lnTo>
                    <a:close/>
                    <a:moveTo>
                      <a:pt x="117" y="67"/>
                    </a:moveTo>
                    <a:lnTo>
                      <a:pt x="116" y="78"/>
                    </a:lnTo>
                    <a:lnTo>
                      <a:pt x="112" y="87"/>
                    </a:lnTo>
                    <a:lnTo>
                      <a:pt x="108" y="96"/>
                    </a:lnTo>
                    <a:lnTo>
                      <a:pt x="102" y="103"/>
                    </a:lnTo>
                    <a:lnTo>
                      <a:pt x="95" y="109"/>
                    </a:lnTo>
                    <a:lnTo>
                      <a:pt x="86" y="114"/>
                    </a:lnTo>
                    <a:lnTo>
                      <a:pt x="77" y="117"/>
                    </a:lnTo>
                    <a:lnTo>
                      <a:pt x="66" y="118"/>
                    </a:lnTo>
                    <a:lnTo>
                      <a:pt x="57" y="117"/>
                    </a:lnTo>
                    <a:lnTo>
                      <a:pt x="47" y="114"/>
                    </a:lnTo>
                    <a:lnTo>
                      <a:pt x="39" y="109"/>
                    </a:lnTo>
                    <a:lnTo>
                      <a:pt x="32" y="103"/>
                    </a:lnTo>
                    <a:lnTo>
                      <a:pt x="25" y="96"/>
                    </a:lnTo>
                    <a:lnTo>
                      <a:pt x="20" y="87"/>
                    </a:lnTo>
                    <a:lnTo>
                      <a:pt x="18" y="78"/>
                    </a:lnTo>
                    <a:lnTo>
                      <a:pt x="17" y="67"/>
                    </a:lnTo>
                    <a:lnTo>
                      <a:pt x="18" y="58"/>
                    </a:lnTo>
                    <a:lnTo>
                      <a:pt x="20" y="48"/>
                    </a:lnTo>
                    <a:lnTo>
                      <a:pt x="25" y="40"/>
                    </a:lnTo>
                    <a:lnTo>
                      <a:pt x="32" y="32"/>
                    </a:lnTo>
                    <a:lnTo>
                      <a:pt x="39" y="26"/>
                    </a:lnTo>
                    <a:lnTo>
                      <a:pt x="47" y="21"/>
                    </a:lnTo>
                    <a:lnTo>
                      <a:pt x="57" y="18"/>
                    </a:lnTo>
                    <a:lnTo>
                      <a:pt x="66" y="17"/>
                    </a:lnTo>
                    <a:lnTo>
                      <a:pt x="77" y="18"/>
                    </a:lnTo>
                    <a:lnTo>
                      <a:pt x="86" y="21"/>
                    </a:lnTo>
                    <a:lnTo>
                      <a:pt x="95" y="26"/>
                    </a:lnTo>
                    <a:lnTo>
                      <a:pt x="102" y="32"/>
                    </a:lnTo>
                    <a:lnTo>
                      <a:pt x="108" y="40"/>
                    </a:lnTo>
                    <a:lnTo>
                      <a:pt x="112" y="48"/>
                    </a:lnTo>
                    <a:lnTo>
                      <a:pt x="116" y="58"/>
                    </a:lnTo>
                    <a:lnTo>
                      <a:pt x="117" y="6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99040" y="267984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117" h="117">
                    <a:moveTo>
                      <a:pt x="117" y="58"/>
                    </a:moveTo>
                    <a:lnTo>
                      <a:pt x="117" y="53"/>
                    </a:lnTo>
                    <a:lnTo>
                      <a:pt x="116" y="47"/>
                    </a:lnTo>
                    <a:lnTo>
                      <a:pt x="115" y="42"/>
                    </a:lnTo>
                    <a:lnTo>
                      <a:pt x="113" y="36"/>
                    </a:lnTo>
                    <a:lnTo>
                      <a:pt x="110" y="31"/>
                    </a:lnTo>
                    <a:lnTo>
                      <a:pt x="108" y="26"/>
                    </a:lnTo>
                    <a:lnTo>
                      <a:pt x="103" y="22"/>
                    </a:lnTo>
                    <a:lnTo>
                      <a:pt x="100" y="17"/>
                    </a:lnTo>
                    <a:lnTo>
                      <a:pt x="96" y="13"/>
                    </a:lnTo>
                    <a:lnTo>
                      <a:pt x="92" y="10"/>
                    </a:lnTo>
                    <a:lnTo>
                      <a:pt x="87" y="7"/>
                    </a:lnTo>
                    <a:lnTo>
                      <a:pt x="81" y="5"/>
                    </a:lnTo>
                    <a:lnTo>
                      <a:pt x="76" y="3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1" y="3"/>
                    </a:lnTo>
                    <a:lnTo>
                      <a:pt x="36" y="5"/>
                    </a:lnTo>
                    <a:lnTo>
                      <a:pt x="31" y="7"/>
                    </a:lnTo>
                    <a:lnTo>
                      <a:pt x="26" y="10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7" y="31"/>
                    </a:lnTo>
                    <a:lnTo>
                      <a:pt x="5" y="36"/>
                    </a:lnTo>
                    <a:lnTo>
                      <a:pt x="3" y="42"/>
                    </a:lnTo>
                    <a:lnTo>
                      <a:pt x="1" y="47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1"/>
                    </a:lnTo>
                    <a:lnTo>
                      <a:pt x="3" y="76"/>
                    </a:lnTo>
                    <a:lnTo>
                      <a:pt x="5" y="81"/>
                    </a:lnTo>
                    <a:lnTo>
                      <a:pt x="7" y="87"/>
                    </a:lnTo>
                    <a:lnTo>
                      <a:pt x="10" y="92"/>
                    </a:lnTo>
                    <a:lnTo>
                      <a:pt x="13" y="96"/>
                    </a:lnTo>
                    <a:lnTo>
                      <a:pt x="17" y="100"/>
                    </a:lnTo>
                    <a:lnTo>
                      <a:pt x="21" y="103"/>
                    </a:lnTo>
                    <a:lnTo>
                      <a:pt x="26" y="108"/>
                    </a:lnTo>
                    <a:lnTo>
                      <a:pt x="31" y="110"/>
                    </a:lnTo>
                    <a:lnTo>
                      <a:pt x="36" y="113"/>
                    </a:lnTo>
                    <a:lnTo>
                      <a:pt x="41" y="115"/>
                    </a:lnTo>
                    <a:lnTo>
                      <a:pt x="47" y="116"/>
                    </a:lnTo>
                    <a:lnTo>
                      <a:pt x="53" y="117"/>
                    </a:lnTo>
                    <a:lnTo>
                      <a:pt x="58" y="117"/>
                    </a:lnTo>
                    <a:lnTo>
                      <a:pt x="65" y="117"/>
                    </a:lnTo>
                    <a:lnTo>
                      <a:pt x="71" y="116"/>
                    </a:lnTo>
                    <a:lnTo>
                      <a:pt x="76" y="115"/>
                    </a:lnTo>
                    <a:lnTo>
                      <a:pt x="81" y="113"/>
                    </a:lnTo>
                    <a:lnTo>
                      <a:pt x="87" y="110"/>
                    </a:lnTo>
                    <a:lnTo>
                      <a:pt x="92" y="108"/>
                    </a:lnTo>
                    <a:lnTo>
                      <a:pt x="96" y="103"/>
                    </a:lnTo>
                    <a:lnTo>
                      <a:pt x="100" y="100"/>
                    </a:lnTo>
                    <a:lnTo>
                      <a:pt x="103" y="96"/>
                    </a:lnTo>
                    <a:lnTo>
                      <a:pt x="108" y="92"/>
                    </a:lnTo>
                    <a:lnTo>
                      <a:pt x="110" y="87"/>
                    </a:lnTo>
                    <a:lnTo>
                      <a:pt x="113" y="81"/>
                    </a:lnTo>
                    <a:lnTo>
                      <a:pt x="115" y="76"/>
                    </a:lnTo>
                    <a:lnTo>
                      <a:pt x="116" y="71"/>
                    </a:lnTo>
                    <a:lnTo>
                      <a:pt x="117" y="65"/>
                    </a:lnTo>
                    <a:lnTo>
                      <a:pt x="117" y="58"/>
                    </a:lnTo>
                    <a:close/>
                    <a:moveTo>
                      <a:pt x="100" y="58"/>
                    </a:moveTo>
                    <a:lnTo>
                      <a:pt x="99" y="67"/>
                    </a:lnTo>
                    <a:lnTo>
                      <a:pt x="97" y="75"/>
                    </a:lnTo>
                    <a:lnTo>
                      <a:pt x="93" y="82"/>
                    </a:lnTo>
                    <a:lnTo>
                      <a:pt x="89" y="88"/>
                    </a:lnTo>
                    <a:lnTo>
                      <a:pt x="82" y="93"/>
                    </a:lnTo>
                    <a:lnTo>
                      <a:pt x="75" y="97"/>
                    </a:lnTo>
                    <a:lnTo>
                      <a:pt x="67" y="99"/>
                    </a:lnTo>
                    <a:lnTo>
                      <a:pt x="58" y="100"/>
                    </a:lnTo>
                    <a:lnTo>
                      <a:pt x="50" y="99"/>
                    </a:lnTo>
                    <a:lnTo>
                      <a:pt x="42" y="97"/>
                    </a:lnTo>
                    <a:lnTo>
                      <a:pt x="35" y="93"/>
                    </a:lnTo>
                    <a:lnTo>
                      <a:pt x="29" y="88"/>
                    </a:lnTo>
                    <a:lnTo>
                      <a:pt x="24" y="82"/>
                    </a:lnTo>
                    <a:lnTo>
                      <a:pt x="20" y="75"/>
                    </a:lnTo>
                    <a:lnTo>
                      <a:pt x="17" y="67"/>
                    </a:lnTo>
                    <a:lnTo>
                      <a:pt x="17" y="58"/>
                    </a:lnTo>
                    <a:lnTo>
                      <a:pt x="17" y="50"/>
                    </a:lnTo>
                    <a:lnTo>
                      <a:pt x="20" y="43"/>
                    </a:lnTo>
                    <a:lnTo>
                      <a:pt x="24" y="35"/>
                    </a:lnTo>
                    <a:lnTo>
                      <a:pt x="29" y="29"/>
                    </a:lnTo>
                    <a:lnTo>
                      <a:pt x="35" y="24"/>
                    </a:lnTo>
                    <a:lnTo>
                      <a:pt x="42" y="21"/>
                    </a:lnTo>
                    <a:lnTo>
                      <a:pt x="50" y="17"/>
                    </a:lnTo>
                    <a:lnTo>
                      <a:pt x="58" y="16"/>
                    </a:lnTo>
                    <a:lnTo>
                      <a:pt x="67" y="17"/>
                    </a:lnTo>
                    <a:lnTo>
                      <a:pt x="75" y="21"/>
                    </a:lnTo>
                    <a:lnTo>
                      <a:pt x="82" y="24"/>
                    </a:lnTo>
                    <a:lnTo>
                      <a:pt x="89" y="29"/>
                    </a:lnTo>
                    <a:lnTo>
                      <a:pt x="93" y="35"/>
                    </a:lnTo>
                    <a:lnTo>
                      <a:pt x="97" y="43"/>
                    </a:lnTo>
                    <a:lnTo>
                      <a:pt x="99" y="50"/>
                    </a:lnTo>
                    <a:lnTo>
                      <a:pt x="100" y="58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02280" y="26812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100" y="50"/>
                    </a:moveTo>
                    <a:lnTo>
                      <a:pt x="99" y="41"/>
                    </a:lnTo>
                    <a:lnTo>
                      <a:pt x="95" y="31"/>
                    </a:lnTo>
                    <a:lnTo>
                      <a:pt x="91" y="23"/>
                    </a:lnTo>
                    <a:lnTo>
                      <a:pt x="85" y="15"/>
                    </a:lnTo>
                    <a:lnTo>
                      <a:pt x="78" y="9"/>
                    </a:lnTo>
                    <a:lnTo>
                      <a:pt x="69" y="4"/>
                    </a:lnTo>
                    <a:lnTo>
                      <a:pt x="60" y="1"/>
                    </a:lnTo>
                    <a:lnTo>
                      <a:pt x="49" y="0"/>
                    </a:lnTo>
                    <a:lnTo>
                      <a:pt x="40" y="1"/>
                    </a:lnTo>
                    <a:lnTo>
                      <a:pt x="30" y="4"/>
                    </a:lnTo>
                    <a:lnTo>
                      <a:pt x="22" y="9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1" y="61"/>
                    </a:lnTo>
                    <a:lnTo>
                      <a:pt x="3" y="70"/>
                    </a:lnTo>
                    <a:lnTo>
                      <a:pt x="8" y="79"/>
                    </a:lnTo>
                    <a:lnTo>
                      <a:pt x="15" y="86"/>
                    </a:lnTo>
                    <a:lnTo>
                      <a:pt x="22" y="92"/>
                    </a:lnTo>
                    <a:lnTo>
                      <a:pt x="30" y="97"/>
                    </a:lnTo>
                    <a:lnTo>
                      <a:pt x="40" y="100"/>
                    </a:lnTo>
                    <a:lnTo>
                      <a:pt x="49" y="101"/>
                    </a:lnTo>
                    <a:lnTo>
                      <a:pt x="60" y="100"/>
                    </a:lnTo>
                    <a:lnTo>
                      <a:pt x="69" y="97"/>
                    </a:lnTo>
                    <a:lnTo>
                      <a:pt x="78" y="92"/>
                    </a:lnTo>
                    <a:lnTo>
                      <a:pt x="85" y="86"/>
                    </a:lnTo>
                    <a:lnTo>
                      <a:pt x="91" y="79"/>
                    </a:lnTo>
                    <a:lnTo>
                      <a:pt x="95" y="70"/>
                    </a:lnTo>
                    <a:lnTo>
                      <a:pt x="99" y="61"/>
                    </a:lnTo>
                    <a:lnTo>
                      <a:pt x="100" y="50"/>
                    </a:lnTo>
                    <a:close/>
                    <a:moveTo>
                      <a:pt x="83" y="50"/>
                    </a:moveTo>
                    <a:lnTo>
                      <a:pt x="83" y="58"/>
                    </a:lnTo>
                    <a:lnTo>
                      <a:pt x="81" y="64"/>
                    </a:lnTo>
                    <a:lnTo>
                      <a:pt x="78" y="69"/>
                    </a:lnTo>
                    <a:lnTo>
                      <a:pt x="73" y="74"/>
                    </a:lnTo>
                    <a:lnTo>
                      <a:pt x="68" y="79"/>
                    </a:lnTo>
                    <a:lnTo>
                      <a:pt x="63" y="82"/>
                    </a:lnTo>
                    <a:lnTo>
                      <a:pt x="57" y="84"/>
                    </a:lnTo>
                    <a:lnTo>
                      <a:pt x="49" y="84"/>
                    </a:lnTo>
                    <a:lnTo>
                      <a:pt x="43" y="84"/>
                    </a:lnTo>
                    <a:lnTo>
                      <a:pt x="37" y="82"/>
                    </a:lnTo>
                    <a:lnTo>
                      <a:pt x="31" y="79"/>
                    </a:lnTo>
                    <a:lnTo>
                      <a:pt x="26" y="74"/>
                    </a:lnTo>
                    <a:lnTo>
                      <a:pt x="22" y="69"/>
                    </a:lnTo>
                    <a:lnTo>
                      <a:pt x="19" y="64"/>
                    </a:lnTo>
                    <a:lnTo>
                      <a:pt x="17" y="58"/>
                    </a:lnTo>
                    <a:lnTo>
                      <a:pt x="17" y="50"/>
                    </a:lnTo>
                    <a:lnTo>
                      <a:pt x="17" y="44"/>
                    </a:lnTo>
                    <a:lnTo>
                      <a:pt x="19" y="38"/>
                    </a:lnTo>
                    <a:lnTo>
                      <a:pt x="22" y="32"/>
                    </a:lnTo>
                    <a:lnTo>
                      <a:pt x="26" y="27"/>
                    </a:lnTo>
                    <a:lnTo>
                      <a:pt x="31" y="23"/>
                    </a:lnTo>
                    <a:lnTo>
                      <a:pt x="37" y="20"/>
                    </a:lnTo>
                    <a:lnTo>
                      <a:pt x="43" y="18"/>
                    </a:lnTo>
                    <a:lnTo>
                      <a:pt x="49" y="17"/>
                    </a:lnTo>
                    <a:lnTo>
                      <a:pt x="57" y="18"/>
                    </a:lnTo>
                    <a:lnTo>
                      <a:pt x="63" y="20"/>
                    </a:lnTo>
                    <a:lnTo>
                      <a:pt x="68" y="23"/>
                    </a:lnTo>
                    <a:lnTo>
                      <a:pt x="73" y="27"/>
                    </a:lnTo>
                    <a:lnTo>
                      <a:pt x="78" y="32"/>
                    </a:lnTo>
                    <a:lnTo>
                      <a:pt x="81" y="38"/>
                    </a:lnTo>
                    <a:lnTo>
                      <a:pt x="83" y="44"/>
                    </a:lnTo>
                    <a:lnTo>
                      <a:pt x="83" y="5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04080" y="2684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3" h="84">
                    <a:moveTo>
                      <a:pt x="83" y="42"/>
                    </a:moveTo>
                    <a:lnTo>
                      <a:pt x="82" y="34"/>
                    </a:lnTo>
                    <a:lnTo>
                      <a:pt x="80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5" y="8"/>
                    </a:lnTo>
                    <a:lnTo>
                      <a:pt x="58" y="5"/>
                    </a:lnTo>
                    <a:lnTo>
                      <a:pt x="50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5"/>
                    </a:lnTo>
                    <a:lnTo>
                      <a:pt x="18" y="8"/>
                    </a:lnTo>
                    <a:lnTo>
                      <a:pt x="12" y="13"/>
                    </a:lnTo>
                    <a:lnTo>
                      <a:pt x="7" y="19"/>
                    </a:lnTo>
                    <a:lnTo>
                      <a:pt x="3" y="27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" y="59"/>
                    </a:lnTo>
                    <a:lnTo>
                      <a:pt x="7" y="66"/>
                    </a:lnTo>
                    <a:lnTo>
                      <a:pt x="12" y="72"/>
                    </a:lnTo>
                    <a:lnTo>
                      <a:pt x="18" y="77"/>
                    </a:lnTo>
                    <a:lnTo>
                      <a:pt x="25" y="81"/>
                    </a:lnTo>
                    <a:lnTo>
                      <a:pt x="33" y="83"/>
                    </a:lnTo>
                    <a:lnTo>
                      <a:pt x="41" y="84"/>
                    </a:lnTo>
                    <a:lnTo>
                      <a:pt x="50" y="83"/>
                    </a:lnTo>
                    <a:lnTo>
                      <a:pt x="58" y="81"/>
                    </a:lnTo>
                    <a:lnTo>
                      <a:pt x="65" y="77"/>
                    </a:lnTo>
                    <a:lnTo>
                      <a:pt x="72" y="72"/>
                    </a:lnTo>
                    <a:lnTo>
                      <a:pt x="76" y="66"/>
                    </a:lnTo>
                    <a:lnTo>
                      <a:pt x="80" y="59"/>
                    </a:lnTo>
                    <a:lnTo>
                      <a:pt x="82" y="51"/>
                    </a:lnTo>
                    <a:lnTo>
                      <a:pt x="83" y="42"/>
                    </a:lnTo>
                    <a:close/>
                    <a:moveTo>
                      <a:pt x="66" y="42"/>
                    </a:moveTo>
                    <a:lnTo>
                      <a:pt x="66" y="48"/>
                    </a:lnTo>
                    <a:lnTo>
                      <a:pt x="64" y="53"/>
                    </a:lnTo>
                    <a:lnTo>
                      <a:pt x="62" y="57"/>
                    </a:lnTo>
                    <a:lnTo>
                      <a:pt x="59" y="60"/>
                    </a:lnTo>
                    <a:lnTo>
                      <a:pt x="56" y="63"/>
                    </a:lnTo>
                    <a:lnTo>
                      <a:pt x="52" y="65"/>
                    </a:lnTo>
                    <a:lnTo>
                      <a:pt x="46" y="68"/>
                    </a:lnTo>
                    <a:lnTo>
                      <a:pt x="41" y="68"/>
                    </a:lnTo>
                    <a:lnTo>
                      <a:pt x="37" y="68"/>
                    </a:lnTo>
                    <a:lnTo>
                      <a:pt x="32" y="65"/>
                    </a:lnTo>
                    <a:lnTo>
                      <a:pt x="28" y="63"/>
                    </a:lnTo>
                    <a:lnTo>
                      <a:pt x="24" y="60"/>
                    </a:lnTo>
                    <a:lnTo>
                      <a:pt x="21" y="57"/>
                    </a:lnTo>
                    <a:lnTo>
                      <a:pt x="18" y="53"/>
                    </a:lnTo>
                    <a:lnTo>
                      <a:pt x="17" y="48"/>
                    </a:lnTo>
                    <a:lnTo>
                      <a:pt x="17" y="42"/>
                    </a:lnTo>
                    <a:lnTo>
                      <a:pt x="17" y="38"/>
                    </a:lnTo>
                    <a:lnTo>
                      <a:pt x="18" y="33"/>
                    </a:lnTo>
                    <a:lnTo>
                      <a:pt x="21" y="29"/>
                    </a:lnTo>
                    <a:lnTo>
                      <a:pt x="24" y="24"/>
                    </a:lnTo>
                    <a:lnTo>
                      <a:pt x="28" y="22"/>
                    </a:lnTo>
                    <a:lnTo>
                      <a:pt x="32" y="19"/>
                    </a:lnTo>
                    <a:lnTo>
                      <a:pt x="37" y="18"/>
                    </a:lnTo>
                    <a:lnTo>
                      <a:pt x="41" y="17"/>
                    </a:lnTo>
                    <a:lnTo>
                      <a:pt x="46" y="18"/>
                    </a:lnTo>
                    <a:lnTo>
                      <a:pt x="52" y="19"/>
                    </a:lnTo>
                    <a:lnTo>
                      <a:pt x="56" y="22"/>
                    </a:lnTo>
                    <a:lnTo>
                      <a:pt x="59" y="24"/>
                    </a:lnTo>
                    <a:lnTo>
                      <a:pt x="62" y="29"/>
                    </a:lnTo>
                    <a:lnTo>
                      <a:pt x="64" y="33"/>
                    </a:lnTo>
                    <a:lnTo>
                      <a:pt x="66" y="38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06960" y="26877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66" y="33"/>
                    </a:moveTo>
                    <a:lnTo>
                      <a:pt x="66" y="27"/>
                    </a:lnTo>
                    <a:lnTo>
                      <a:pt x="64" y="21"/>
                    </a:lnTo>
                    <a:lnTo>
                      <a:pt x="61" y="15"/>
                    </a:lnTo>
                    <a:lnTo>
                      <a:pt x="56" y="10"/>
                    </a:lnTo>
                    <a:lnTo>
                      <a:pt x="51" y="6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9" y="10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9" y="57"/>
                    </a:lnTo>
                    <a:lnTo>
                      <a:pt x="14" y="62"/>
                    </a:lnTo>
                    <a:lnTo>
                      <a:pt x="20" y="65"/>
                    </a:lnTo>
                    <a:lnTo>
                      <a:pt x="26" y="67"/>
                    </a:lnTo>
                    <a:lnTo>
                      <a:pt x="32" y="67"/>
                    </a:lnTo>
                    <a:lnTo>
                      <a:pt x="40" y="67"/>
                    </a:lnTo>
                    <a:lnTo>
                      <a:pt x="46" y="65"/>
                    </a:lnTo>
                    <a:lnTo>
                      <a:pt x="51" y="62"/>
                    </a:lnTo>
                    <a:lnTo>
                      <a:pt x="56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6" y="41"/>
                    </a:lnTo>
                    <a:lnTo>
                      <a:pt x="66" y="33"/>
                    </a:lnTo>
                    <a:close/>
                    <a:moveTo>
                      <a:pt x="49" y="33"/>
                    </a:moveTo>
                    <a:lnTo>
                      <a:pt x="49" y="38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5" y="46"/>
                    </a:lnTo>
                    <a:lnTo>
                      <a:pt x="42" y="48"/>
                    </a:lnTo>
                    <a:lnTo>
                      <a:pt x="40" y="49"/>
                    </a:lnTo>
                    <a:lnTo>
                      <a:pt x="36" y="50"/>
                    </a:lnTo>
                    <a:lnTo>
                      <a:pt x="32" y="50"/>
                    </a:lnTo>
                    <a:lnTo>
                      <a:pt x="29" y="50"/>
                    </a:lnTo>
                    <a:lnTo>
                      <a:pt x="26" y="49"/>
                    </a:lnTo>
                    <a:lnTo>
                      <a:pt x="23" y="48"/>
                    </a:lnTo>
                    <a:lnTo>
                      <a:pt x="21" y="46"/>
                    </a:lnTo>
                    <a:lnTo>
                      <a:pt x="19" y="43"/>
                    </a:lnTo>
                    <a:lnTo>
                      <a:pt x="18" y="40"/>
                    </a:lnTo>
                    <a:lnTo>
                      <a:pt x="16" y="38"/>
                    </a:lnTo>
                    <a:lnTo>
                      <a:pt x="16" y="33"/>
                    </a:lnTo>
                    <a:lnTo>
                      <a:pt x="16" y="30"/>
                    </a:lnTo>
                    <a:lnTo>
                      <a:pt x="18" y="27"/>
                    </a:lnTo>
                    <a:lnTo>
                      <a:pt x="19" y="24"/>
                    </a:lnTo>
                    <a:lnTo>
                      <a:pt x="21" y="22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29" y="18"/>
                    </a:lnTo>
                    <a:lnTo>
                      <a:pt x="32" y="17"/>
                    </a:lnTo>
                    <a:lnTo>
                      <a:pt x="36" y="18"/>
                    </a:lnTo>
                    <a:lnTo>
                      <a:pt x="40" y="19"/>
                    </a:lnTo>
                    <a:lnTo>
                      <a:pt x="42" y="20"/>
                    </a:lnTo>
                    <a:lnTo>
                      <a:pt x="45" y="22"/>
                    </a:lnTo>
                    <a:lnTo>
                      <a:pt x="47" y="24"/>
                    </a:lnTo>
                    <a:lnTo>
                      <a:pt x="48" y="27"/>
                    </a:lnTo>
                    <a:lnTo>
                      <a:pt x="49" y="30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010200" y="2689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25"/>
                    </a:moveTo>
                    <a:lnTo>
                      <a:pt x="49" y="21"/>
                    </a:lnTo>
                    <a:lnTo>
                      <a:pt x="47" y="16"/>
                    </a:lnTo>
                    <a:lnTo>
                      <a:pt x="45" y="12"/>
                    </a:lnTo>
                    <a:lnTo>
                      <a:pt x="42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29" y="1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4" y="40"/>
                    </a:lnTo>
                    <a:lnTo>
                      <a:pt x="7" y="43"/>
                    </a:lnTo>
                    <a:lnTo>
                      <a:pt x="11" y="46"/>
                    </a:lnTo>
                    <a:lnTo>
                      <a:pt x="15" y="48"/>
                    </a:lnTo>
                    <a:lnTo>
                      <a:pt x="20" y="51"/>
                    </a:lnTo>
                    <a:lnTo>
                      <a:pt x="24" y="51"/>
                    </a:lnTo>
                    <a:lnTo>
                      <a:pt x="29" y="51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2" y="43"/>
                    </a:lnTo>
                    <a:lnTo>
                      <a:pt x="45" y="40"/>
                    </a:lnTo>
                    <a:lnTo>
                      <a:pt x="47" y="36"/>
                    </a:lnTo>
                    <a:lnTo>
                      <a:pt x="49" y="31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012000" y="2692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16"/>
                    </a:moveTo>
                    <a:lnTo>
                      <a:pt x="33" y="13"/>
                    </a:lnTo>
                    <a:lnTo>
                      <a:pt x="32" y="10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0" y="1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6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3" y="33"/>
                    </a:lnTo>
                    <a:lnTo>
                      <a:pt x="16" y="33"/>
                    </a:lnTo>
                    <a:lnTo>
                      <a:pt x="20" y="33"/>
                    </a:lnTo>
                    <a:lnTo>
                      <a:pt x="24" y="32"/>
                    </a:lnTo>
                    <a:lnTo>
                      <a:pt x="26" y="31"/>
                    </a:lnTo>
                    <a:lnTo>
                      <a:pt x="29" y="29"/>
                    </a:lnTo>
                    <a:lnTo>
                      <a:pt x="31" y="26"/>
                    </a:lnTo>
                    <a:lnTo>
                      <a:pt x="32" y="23"/>
                    </a:lnTo>
                    <a:lnTo>
                      <a:pt x="33" y="21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014880" y="26956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6" y="14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907240" y="2435400"/>
                <a:ext cx="466560" cy="709560"/>
              </a:xfrm>
              <a:custGeom>
                <a:avLst/>
                <a:gdLst/>
                <a:ahLst/>
                <a:rect l="l" t="t" r="r" b="b"/>
                <a:pathLst>
                  <a:path w="1470" h="2232">
                    <a:moveTo>
                      <a:pt x="1302" y="2176"/>
                    </a:moveTo>
                    <a:lnTo>
                      <a:pt x="1329" y="2203"/>
                    </a:lnTo>
                    <a:lnTo>
                      <a:pt x="1355" y="2203"/>
                    </a:lnTo>
                    <a:lnTo>
                      <a:pt x="1355" y="2232"/>
                    </a:lnTo>
                    <a:lnTo>
                      <a:pt x="1386" y="2232"/>
                    </a:lnTo>
                    <a:lnTo>
                      <a:pt x="1413" y="2232"/>
                    </a:lnTo>
                    <a:lnTo>
                      <a:pt x="1443" y="2232"/>
                    </a:lnTo>
                    <a:lnTo>
                      <a:pt x="1470" y="2203"/>
                    </a:lnTo>
                    <a:lnTo>
                      <a:pt x="1470" y="2176"/>
                    </a:lnTo>
                    <a:lnTo>
                      <a:pt x="1443" y="2148"/>
                    </a:lnTo>
                    <a:lnTo>
                      <a:pt x="1443" y="2119"/>
                    </a:lnTo>
                    <a:lnTo>
                      <a:pt x="1443" y="2092"/>
                    </a:lnTo>
                    <a:lnTo>
                      <a:pt x="1413" y="2035"/>
                    </a:lnTo>
                    <a:lnTo>
                      <a:pt x="1413" y="2005"/>
                    </a:lnTo>
                    <a:lnTo>
                      <a:pt x="1386" y="1951"/>
                    </a:lnTo>
                    <a:lnTo>
                      <a:pt x="1355" y="1921"/>
                    </a:lnTo>
                    <a:lnTo>
                      <a:pt x="1355" y="1893"/>
                    </a:lnTo>
                    <a:lnTo>
                      <a:pt x="1329" y="1837"/>
                    </a:lnTo>
                    <a:lnTo>
                      <a:pt x="1302" y="1809"/>
                    </a:lnTo>
                    <a:lnTo>
                      <a:pt x="1271" y="1780"/>
                    </a:lnTo>
                    <a:lnTo>
                      <a:pt x="1244" y="1723"/>
                    </a:lnTo>
                    <a:lnTo>
                      <a:pt x="1214" y="1696"/>
                    </a:lnTo>
                    <a:lnTo>
                      <a:pt x="1187" y="1638"/>
                    </a:lnTo>
                    <a:lnTo>
                      <a:pt x="1130" y="1581"/>
                    </a:lnTo>
                    <a:lnTo>
                      <a:pt x="1103" y="1554"/>
                    </a:lnTo>
                    <a:lnTo>
                      <a:pt x="1074" y="1497"/>
                    </a:lnTo>
                    <a:lnTo>
                      <a:pt x="1046" y="1470"/>
                    </a:lnTo>
                    <a:lnTo>
                      <a:pt x="962" y="1357"/>
                    </a:lnTo>
                    <a:lnTo>
                      <a:pt x="904" y="1273"/>
                    </a:lnTo>
                    <a:lnTo>
                      <a:pt x="848" y="1189"/>
                    </a:lnTo>
                    <a:lnTo>
                      <a:pt x="791" y="1102"/>
                    </a:lnTo>
                    <a:lnTo>
                      <a:pt x="734" y="1018"/>
                    </a:lnTo>
                    <a:lnTo>
                      <a:pt x="679" y="934"/>
                    </a:lnTo>
                    <a:lnTo>
                      <a:pt x="650" y="850"/>
                    </a:lnTo>
                    <a:lnTo>
                      <a:pt x="592" y="762"/>
                    </a:lnTo>
                    <a:lnTo>
                      <a:pt x="539" y="678"/>
                    </a:lnTo>
                    <a:lnTo>
                      <a:pt x="508" y="594"/>
                    </a:lnTo>
                    <a:lnTo>
                      <a:pt x="451" y="510"/>
                    </a:lnTo>
                    <a:lnTo>
                      <a:pt x="397" y="426"/>
                    </a:lnTo>
                    <a:lnTo>
                      <a:pt x="367" y="339"/>
                    </a:lnTo>
                    <a:lnTo>
                      <a:pt x="310" y="255"/>
                    </a:lnTo>
                    <a:lnTo>
                      <a:pt x="253" y="199"/>
                    </a:lnTo>
                    <a:lnTo>
                      <a:pt x="199" y="113"/>
                    </a:lnTo>
                    <a:lnTo>
                      <a:pt x="142" y="29"/>
                    </a:lnTo>
                    <a:lnTo>
                      <a:pt x="112" y="29"/>
                    </a:lnTo>
                    <a:lnTo>
                      <a:pt x="112" y="0"/>
                    </a:lnTo>
                    <a:lnTo>
                      <a:pt x="84" y="0"/>
                    </a:lnTo>
                    <a:lnTo>
                      <a:pt x="57" y="0"/>
                    </a:lnTo>
                    <a:lnTo>
                      <a:pt x="28" y="57"/>
                    </a:lnTo>
                    <a:lnTo>
                      <a:pt x="0" y="113"/>
                    </a:lnTo>
                    <a:lnTo>
                      <a:pt x="28" y="199"/>
                    </a:lnTo>
                    <a:lnTo>
                      <a:pt x="28" y="285"/>
                    </a:lnTo>
                    <a:lnTo>
                      <a:pt x="57" y="369"/>
                    </a:lnTo>
                    <a:lnTo>
                      <a:pt x="84" y="453"/>
                    </a:lnTo>
                    <a:lnTo>
                      <a:pt x="112" y="567"/>
                    </a:lnTo>
                    <a:lnTo>
                      <a:pt x="142" y="651"/>
                    </a:lnTo>
                    <a:lnTo>
                      <a:pt x="169" y="735"/>
                    </a:lnTo>
                    <a:lnTo>
                      <a:pt x="226" y="819"/>
                    </a:lnTo>
                    <a:lnTo>
                      <a:pt x="283" y="906"/>
                    </a:lnTo>
                    <a:lnTo>
                      <a:pt x="310" y="990"/>
                    </a:lnTo>
                    <a:lnTo>
                      <a:pt x="340" y="1047"/>
                    </a:lnTo>
                    <a:lnTo>
                      <a:pt x="367" y="1074"/>
                    </a:lnTo>
                    <a:lnTo>
                      <a:pt x="397" y="1131"/>
                    </a:lnTo>
                    <a:lnTo>
                      <a:pt x="424" y="1158"/>
                    </a:lnTo>
                    <a:lnTo>
                      <a:pt x="451" y="1215"/>
                    </a:lnTo>
                    <a:lnTo>
                      <a:pt x="481" y="1242"/>
                    </a:lnTo>
                    <a:lnTo>
                      <a:pt x="508" y="1300"/>
                    </a:lnTo>
                    <a:lnTo>
                      <a:pt x="539" y="1329"/>
                    </a:lnTo>
                    <a:lnTo>
                      <a:pt x="566" y="1384"/>
                    </a:lnTo>
                    <a:lnTo>
                      <a:pt x="592" y="1413"/>
                    </a:lnTo>
                    <a:lnTo>
                      <a:pt x="650" y="1470"/>
                    </a:lnTo>
                    <a:lnTo>
                      <a:pt x="679" y="1497"/>
                    </a:lnTo>
                    <a:lnTo>
                      <a:pt x="707" y="1554"/>
                    </a:lnTo>
                    <a:lnTo>
                      <a:pt x="734" y="1581"/>
                    </a:lnTo>
                    <a:lnTo>
                      <a:pt x="763" y="1612"/>
                    </a:lnTo>
                    <a:lnTo>
                      <a:pt x="791" y="1669"/>
                    </a:lnTo>
                    <a:lnTo>
                      <a:pt x="820" y="1696"/>
                    </a:lnTo>
                    <a:lnTo>
                      <a:pt x="875" y="1753"/>
                    </a:lnTo>
                    <a:lnTo>
                      <a:pt x="904" y="1780"/>
                    </a:lnTo>
                    <a:lnTo>
                      <a:pt x="932" y="1837"/>
                    </a:lnTo>
                    <a:lnTo>
                      <a:pt x="989" y="1864"/>
                    </a:lnTo>
                    <a:lnTo>
                      <a:pt x="1019" y="1921"/>
                    </a:lnTo>
                    <a:lnTo>
                      <a:pt x="1046" y="1951"/>
                    </a:lnTo>
                    <a:lnTo>
                      <a:pt x="1103" y="2005"/>
                    </a:lnTo>
                    <a:lnTo>
                      <a:pt x="1130" y="2035"/>
                    </a:lnTo>
                    <a:lnTo>
                      <a:pt x="1160" y="20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259080" y="3100320"/>
                <a:ext cx="341280" cy="204840"/>
              </a:xfrm>
              <a:custGeom>
                <a:avLst/>
                <a:gdLst/>
                <a:ahLst/>
                <a:rect l="l" t="t" r="r" b="b"/>
                <a:pathLst>
                  <a:path w="1075" h="648">
                    <a:moveTo>
                      <a:pt x="0" y="648"/>
                    </a:moveTo>
                    <a:lnTo>
                      <a:pt x="30" y="591"/>
                    </a:lnTo>
                    <a:lnTo>
                      <a:pt x="84" y="534"/>
                    </a:lnTo>
                    <a:lnTo>
                      <a:pt x="142" y="507"/>
                    </a:lnTo>
                    <a:lnTo>
                      <a:pt x="198" y="450"/>
                    </a:lnTo>
                    <a:lnTo>
                      <a:pt x="255" y="393"/>
                    </a:lnTo>
                    <a:lnTo>
                      <a:pt x="339" y="339"/>
                    </a:lnTo>
                    <a:lnTo>
                      <a:pt x="396" y="282"/>
                    </a:lnTo>
                    <a:lnTo>
                      <a:pt x="481" y="224"/>
                    </a:lnTo>
                    <a:lnTo>
                      <a:pt x="538" y="168"/>
                    </a:lnTo>
                    <a:lnTo>
                      <a:pt x="622" y="140"/>
                    </a:lnTo>
                    <a:lnTo>
                      <a:pt x="706" y="84"/>
                    </a:lnTo>
                    <a:lnTo>
                      <a:pt x="763" y="56"/>
                    </a:lnTo>
                    <a:lnTo>
                      <a:pt x="847" y="27"/>
                    </a:lnTo>
                    <a:lnTo>
                      <a:pt x="934" y="0"/>
                    </a:lnTo>
                    <a:lnTo>
                      <a:pt x="1018" y="0"/>
                    </a:lnTo>
                    <a:lnTo>
                      <a:pt x="10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286080" y="3189240"/>
                <a:ext cx="387360" cy="179280"/>
              </a:xfrm>
              <a:custGeom>
                <a:avLst/>
                <a:gdLst/>
                <a:ahLst/>
                <a:rect l="l" t="t" r="r" b="b"/>
                <a:pathLst>
                  <a:path w="1217" h="564">
                    <a:moveTo>
                      <a:pt x="0" y="564"/>
                    </a:moveTo>
                    <a:lnTo>
                      <a:pt x="58" y="507"/>
                    </a:lnTo>
                    <a:lnTo>
                      <a:pt x="114" y="450"/>
                    </a:lnTo>
                    <a:lnTo>
                      <a:pt x="171" y="423"/>
                    </a:lnTo>
                    <a:lnTo>
                      <a:pt x="255" y="366"/>
                    </a:lnTo>
                    <a:lnTo>
                      <a:pt x="312" y="339"/>
                    </a:lnTo>
                    <a:lnTo>
                      <a:pt x="397" y="282"/>
                    </a:lnTo>
                    <a:lnTo>
                      <a:pt x="454" y="252"/>
                    </a:lnTo>
                    <a:lnTo>
                      <a:pt x="538" y="225"/>
                    </a:lnTo>
                    <a:lnTo>
                      <a:pt x="622" y="198"/>
                    </a:lnTo>
                    <a:lnTo>
                      <a:pt x="709" y="168"/>
                    </a:lnTo>
                    <a:lnTo>
                      <a:pt x="793" y="141"/>
                    </a:lnTo>
                    <a:lnTo>
                      <a:pt x="877" y="111"/>
                    </a:lnTo>
                    <a:lnTo>
                      <a:pt x="962" y="84"/>
                    </a:lnTo>
                    <a:lnTo>
                      <a:pt x="1049" y="57"/>
                    </a:lnTo>
                    <a:lnTo>
                      <a:pt x="1133" y="26"/>
                    </a:lnTo>
                    <a:lnTo>
                      <a:pt x="12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578480" y="3584520"/>
                <a:ext cx="1876320" cy="501840"/>
              </a:xfrm>
              <a:custGeom>
                <a:avLst/>
                <a:gdLst/>
                <a:ahLst/>
                <a:rect l="l" t="t" r="r" b="b"/>
                <a:pathLst>
                  <a:path w="5909" h="1582">
                    <a:moveTo>
                      <a:pt x="538" y="480"/>
                    </a:moveTo>
                    <a:lnTo>
                      <a:pt x="538" y="537"/>
                    </a:lnTo>
                    <a:lnTo>
                      <a:pt x="511" y="564"/>
                    </a:lnTo>
                    <a:lnTo>
                      <a:pt x="480" y="622"/>
                    </a:lnTo>
                    <a:lnTo>
                      <a:pt x="423" y="679"/>
                    </a:lnTo>
                    <a:lnTo>
                      <a:pt x="396" y="732"/>
                    </a:lnTo>
                    <a:lnTo>
                      <a:pt x="369" y="790"/>
                    </a:lnTo>
                    <a:lnTo>
                      <a:pt x="312" y="847"/>
                    </a:lnTo>
                    <a:lnTo>
                      <a:pt x="283" y="903"/>
                    </a:lnTo>
                    <a:lnTo>
                      <a:pt x="255" y="960"/>
                    </a:lnTo>
                    <a:lnTo>
                      <a:pt x="198" y="1018"/>
                    </a:lnTo>
                    <a:lnTo>
                      <a:pt x="171" y="1071"/>
                    </a:lnTo>
                    <a:lnTo>
                      <a:pt x="114" y="1129"/>
                    </a:lnTo>
                    <a:lnTo>
                      <a:pt x="87" y="1186"/>
                    </a:lnTo>
                    <a:lnTo>
                      <a:pt x="57" y="1213"/>
                    </a:lnTo>
                    <a:lnTo>
                      <a:pt x="29" y="1270"/>
                    </a:lnTo>
                    <a:lnTo>
                      <a:pt x="0" y="1326"/>
                    </a:lnTo>
                    <a:lnTo>
                      <a:pt x="29" y="1326"/>
                    </a:lnTo>
                    <a:lnTo>
                      <a:pt x="57" y="1326"/>
                    </a:lnTo>
                    <a:lnTo>
                      <a:pt x="87" y="1326"/>
                    </a:lnTo>
                    <a:lnTo>
                      <a:pt x="114" y="1326"/>
                    </a:lnTo>
                    <a:lnTo>
                      <a:pt x="171" y="1326"/>
                    </a:lnTo>
                    <a:lnTo>
                      <a:pt x="198" y="1326"/>
                    </a:lnTo>
                    <a:lnTo>
                      <a:pt x="228" y="1299"/>
                    </a:lnTo>
                    <a:lnTo>
                      <a:pt x="255" y="1299"/>
                    </a:lnTo>
                    <a:lnTo>
                      <a:pt x="283" y="1299"/>
                    </a:lnTo>
                    <a:lnTo>
                      <a:pt x="339" y="1299"/>
                    </a:lnTo>
                    <a:lnTo>
                      <a:pt x="369" y="1299"/>
                    </a:lnTo>
                    <a:lnTo>
                      <a:pt x="396" y="1299"/>
                    </a:lnTo>
                    <a:lnTo>
                      <a:pt x="423" y="1299"/>
                    </a:lnTo>
                    <a:lnTo>
                      <a:pt x="480" y="1299"/>
                    </a:lnTo>
                    <a:lnTo>
                      <a:pt x="511" y="1299"/>
                    </a:lnTo>
                    <a:lnTo>
                      <a:pt x="538" y="1299"/>
                    </a:lnTo>
                    <a:lnTo>
                      <a:pt x="622" y="1299"/>
                    </a:lnTo>
                    <a:lnTo>
                      <a:pt x="679" y="1326"/>
                    </a:lnTo>
                    <a:lnTo>
                      <a:pt x="763" y="1326"/>
                    </a:lnTo>
                    <a:lnTo>
                      <a:pt x="850" y="1326"/>
                    </a:lnTo>
                    <a:lnTo>
                      <a:pt x="934" y="1326"/>
                    </a:lnTo>
                    <a:lnTo>
                      <a:pt x="1018" y="1326"/>
                    </a:lnTo>
                    <a:lnTo>
                      <a:pt x="1102" y="1326"/>
                    </a:lnTo>
                    <a:lnTo>
                      <a:pt x="1187" y="1326"/>
                    </a:lnTo>
                    <a:lnTo>
                      <a:pt x="1274" y="1326"/>
                    </a:lnTo>
                    <a:lnTo>
                      <a:pt x="1358" y="1326"/>
                    </a:lnTo>
                    <a:lnTo>
                      <a:pt x="1442" y="1326"/>
                    </a:lnTo>
                    <a:lnTo>
                      <a:pt x="1526" y="1326"/>
                    </a:lnTo>
                    <a:lnTo>
                      <a:pt x="1613" y="1326"/>
                    </a:lnTo>
                    <a:lnTo>
                      <a:pt x="1697" y="1354"/>
                    </a:lnTo>
                    <a:lnTo>
                      <a:pt x="1781" y="1354"/>
                    </a:lnTo>
                    <a:lnTo>
                      <a:pt x="1838" y="1354"/>
                    </a:lnTo>
                    <a:lnTo>
                      <a:pt x="1922" y="1383"/>
                    </a:lnTo>
                    <a:lnTo>
                      <a:pt x="2037" y="1383"/>
                    </a:lnTo>
                    <a:lnTo>
                      <a:pt x="2121" y="1410"/>
                    </a:lnTo>
                    <a:lnTo>
                      <a:pt x="2235" y="1410"/>
                    </a:lnTo>
                    <a:lnTo>
                      <a:pt x="2319" y="1410"/>
                    </a:lnTo>
                    <a:lnTo>
                      <a:pt x="2430" y="1383"/>
                    </a:lnTo>
                    <a:lnTo>
                      <a:pt x="2517" y="1383"/>
                    </a:lnTo>
                    <a:lnTo>
                      <a:pt x="2629" y="1383"/>
                    </a:lnTo>
                    <a:lnTo>
                      <a:pt x="2742" y="1383"/>
                    </a:lnTo>
                    <a:lnTo>
                      <a:pt x="2826" y="1354"/>
                    </a:lnTo>
                    <a:lnTo>
                      <a:pt x="2941" y="1354"/>
                    </a:lnTo>
                    <a:lnTo>
                      <a:pt x="3025" y="1354"/>
                    </a:lnTo>
                    <a:lnTo>
                      <a:pt x="3140" y="1354"/>
                    </a:lnTo>
                    <a:lnTo>
                      <a:pt x="3224" y="1354"/>
                    </a:lnTo>
                    <a:lnTo>
                      <a:pt x="3337" y="1354"/>
                    </a:lnTo>
                    <a:lnTo>
                      <a:pt x="3421" y="1383"/>
                    </a:lnTo>
                    <a:lnTo>
                      <a:pt x="3449" y="1383"/>
                    </a:lnTo>
                    <a:lnTo>
                      <a:pt x="3478" y="1383"/>
                    </a:lnTo>
                    <a:lnTo>
                      <a:pt x="3533" y="1383"/>
                    </a:lnTo>
                    <a:lnTo>
                      <a:pt x="3563" y="1383"/>
                    </a:lnTo>
                    <a:lnTo>
                      <a:pt x="3589" y="1383"/>
                    </a:lnTo>
                    <a:lnTo>
                      <a:pt x="3647" y="1383"/>
                    </a:lnTo>
                    <a:lnTo>
                      <a:pt x="3675" y="1383"/>
                    </a:lnTo>
                    <a:lnTo>
                      <a:pt x="3731" y="1383"/>
                    </a:lnTo>
                    <a:lnTo>
                      <a:pt x="3788" y="1383"/>
                    </a:lnTo>
                    <a:lnTo>
                      <a:pt x="3815" y="1383"/>
                    </a:lnTo>
                    <a:lnTo>
                      <a:pt x="3872" y="1383"/>
                    </a:lnTo>
                    <a:lnTo>
                      <a:pt x="3902" y="1383"/>
                    </a:lnTo>
                    <a:lnTo>
                      <a:pt x="3959" y="1383"/>
                    </a:lnTo>
                    <a:lnTo>
                      <a:pt x="3987" y="1383"/>
                    </a:lnTo>
                    <a:lnTo>
                      <a:pt x="4044" y="1383"/>
                    </a:lnTo>
                    <a:lnTo>
                      <a:pt x="4071" y="1383"/>
                    </a:lnTo>
                    <a:lnTo>
                      <a:pt x="5116" y="1552"/>
                    </a:lnTo>
                    <a:lnTo>
                      <a:pt x="5146" y="1552"/>
                    </a:lnTo>
                    <a:lnTo>
                      <a:pt x="5173" y="1552"/>
                    </a:lnTo>
                    <a:lnTo>
                      <a:pt x="5203" y="1552"/>
                    </a:lnTo>
                    <a:lnTo>
                      <a:pt x="5230" y="1552"/>
                    </a:lnTo>
                    <a:lnTo>
                      <a:pt x="5258" y="1552"/>
                    </a:lnTo>
                    <a:lnTo>
                      <a:pt x="5287" y="1552"/>
                    </a:lnTo>
                    <a:lnTo>
                      <a:pt x="5344" y="1582"/>
                    </a:lnTo>
                    <a:lnTo>
                      <a:pt x="5371" y="1582"/>
                    </a:lnTo>
                    <a:lnTo>
                      <a:pt x="5428" y="1582"/>
                    </a:lnTo>
                    <a:lnTo>
                      <a:pt x="5455" y="1582"/>
                    </a:lnTo>
                    <a:lnTo>
                      <a:pt x="5513" y="1582"/>
                    </a:lnTo>
                    <a:lnTo>
                      <a:pt x="5539" y="1582"/>
                    </a:lnTo>
                    <a:lnTo>
                      <a:pt x="5570" y="1552"/>
                    </a:lnTo>
                    <a:lnTo>
                      <a:pt x="5597" y="1552"/>
                    </a:lnTo>
                    <a:lnTo>
                      <a:pt x="5627" y="1552"/>
                    </a:lnTo>
                    <a:lnTo>
                      <a:pt x="5654" y="1410"/>
                    </a:lnTo>
                    <a:lnTo>
                      <a:pt x="5654" y="1242"/>
                    </a:lnTo>
                    <a:lnTo>
                      <a:pt x="5681" y="1071"/>
                    </a:lnTo>
                    <a:lnTo>
                      <a:pt x="5681" y="931"/>
                    </a:lnTo>
                    <a:lnTo>
                      <a:pt x="5711" y="847"/>
                    </a:lnTo>
                    <a:lnTo>
                      <a:pt x="5738" y="763"/>
                    </a:lnTo>
                    <a:lnTo>
                      <a:pt x="5795" y="679"/>
                    </a:lnTo>
                    <a:lnTo>
                      <a:pt x="5825" y="564"/>
                    </a:lnTo>
                    <a:lnTo>
                      <a:pt x="5851" y="480"/>
                    </a:lnTo>
                    <a:lnTo>
                      <a:pt x="5879" y="367"/>
                    </a:lnTo>
                    <a:lnTo>
                      <a:pt x="5909" y="283"/>
                    </a:lnTo>
                    <a:lnTo>
                      <a:pt x="5909" y="198"/>
                    </a:lnTo>
                    <a:lnTo>
                      <a:pt x="5879" y="198"/>
                    </a:lnTo>
                    <a:lnTo>
                      <a:pt x="5851" y="198"/>
                    </a:lnTo>
                    <a:lnTo>
                      <a:pt x="5825" y="198"/>
                    </a:lnTo>
                    <a:lnTo>
                      <a:pt x="5795" y="168"/>
                    </a:lnTo>
                    <a:lnTo>
                      <a:pt x="5767" y="168"/>
                    </a:lnTo>
                    <a:lnTo>
                      <a:pt x="5738" y="168"/>
                    </a:lnTo>
                    <a:lnTo>
                      <a:pt x="5711" y="168"/>
                    </a:lnTo>
                    <a:lnTo>
                      <a:pt x="5681" y="168"/>
                    </a:lnTo>
                    <a:lnTo>
                      <a:pt x="5627" y="168"/>
                    </a:lnTo>
                    <a:lnTo>
                      <a:pt x="5539" y="168"/>
                    </a:lnTo>
                    <a:lnTo>
                      <a:pt x="5486" y="141"/>
                    </a:lnTo>
                    <a:lnTo>
                      <a:pt x="5428" y="141"/>
                    </a:lnTo>
                    <a:lnTo>
                      <a:pt x="5371" y="141"/>
                    </a:lnTo>
                    <a:lnTo>
                      <a:pt x="5287" y="141"/>
                    </a:lnTo>
                    <a:lnTo>
                      <a:pt x="5230" y="141"/>
                    </a:lnTo>
                    <a:lnTo>
                      <a:pt x="5173" y="141"/>
                    </a:lnTo>
                    <a:lnTo>
                      <a:pt x="5088" y="141"/>
                    </a:lnTo>
                    <a:lnTo>
                      <a:pt x="5032" y="141"/>
                    </a:lnTo>
                    <a:lnTo>
                      <a:pt x="4975" y="141"/>
                    </a:lnTo>
                    <a:lnTo>
                      <a:pt x="4891" y="168"/>
                    </a:lnTo>
                    <a:lnTo>
                      <a:pt x="4834" y="168"/>
                    </a:lnTo>
                    <a:lnTo>
                      <a:pt x="4776" y="168"/>
                    </a:lnTo>
                    <a:lnTo>
                      <a:pt x="4692" y="168"/>
                    </a:lnTo>
                    <a:lnTo>
                      <a:pt x="4635" y="168"/>
                    </a:lnTo>
                    <a:lnTo>
                      <a:pt x="4581" y="168"/>
                    </a:lnTo>
                    <a:lnTo>
                      <a:pt x="4494" y="168"/>
                    </a:lnTo>
                    <a:lnTo>
                      <a:pt x="4437" y="168"/>
                    </a:lnTo>
                    <a:lnTo>
                      <a:pt x="4383" y="168"/>
                    </a:lnTo>
                    <a:lnTo>
                      <a:pt x="4326" y="168"/>
                    </a:lnTo>
                    <a:lnTo>
                      <a:pt x="4241" y="168"/>
                    </a:lnTo>
                    <a:lnTo>
                      <a:pt x="4184" y="168"/>
                    </a:lnTo>
                    <a:lnTo>
                      <a:pt x="4128" y="168"/>
                    </a:lnTo>
                    <a:lnTo>
                      <a:pt x="4044" y="168"/>
                    </a:lnTo>
                    <a:lnTo>
                      <a:pt x="3987" y="168"/>
                    </a:lnTo>
                    <a:lnTo>
                      <a:pt x="3929" y="168"/>
                    </a:lnTo>
                    <a:lnTo>
                      <a:pt x="3872" y="168"/>
                    </a:lnTo>
                    <a:lnTo>
                      <a:pt x="3815" y="168"/>
                    </a:lnTo>
                    <a:lnTo>
                      <a:pt x="3731" y="168"/>
                    </a:lnTo>
                    <a:lnTo>
                      <a:pt x="3675" y="141"/>
                    </a:lnTo>
                    <a:lnTo>
                      <a:pt x="3620" y="141"/>
                    </a:lnTo>
                    <a:lnTo>
                      <a:pt x="3563" y="141"/>
                    </a:lnTo>
                    <a:lnTo>
                      <a:pt x="3505" y="112"/>
                    </a:lnTo>
                    <a:lnTo>
                      <a:pt x="3449" y="112"/>
                    </a:lnTo>
                    <a:lnTo>
                      <a:pt x="3364" y="112"/>
                    </a:lnTo>
                    <a:lnTo>
                      <a:pt x="3308" y="112"/>
                    </a:lnTo>
                    <a:lnTo>
                      <a:pt x="3250" y="84"/>
                    </a:lnTo>
                    <a:lnTo>
                      <a:pt x="3166" y="84"/>
                    </a:lnTo>
                    <a:lnTo>
                      <a:pt x="3109" y="84"/>
                    </a:lnTo>
                    <a:lnTo>
                      <a:pt x="3052" y="84"/>
                    </a:lnTo>
                    <a:lnTo>
                      <a:pt x="2968" y="84"/>
                    </a:lnTo>
                    <a:lnTo>
                      <a:pt x="2911" y="57"/>
                    </a:lnTo>
                    <a:lnTo>
                      <a:pt x="2857" y="57"/>
                    </a:lnTo>
                    <a:lnTo>
                      <a:pt x="2770" y="57"/>
                    </a:lnTo>
                    <a:lnTo>
                      <a:pt x="2715" y="57"/>
                    </a:lnTo>
                    <a:lnTo>
                      <a:pt x="2658" y="57"/>
                    </a:lnTo>
                    <a:lnTo>
                      <a:pt x="2601" y="57"/>
                    </a:lnTo>
                    <a:lnTo>
                      <a:pt x="2545" y="28"/>
                    </a:lnTo>
                    <a:lnTo>
                      <a:pt x="2517" y="28"/>
                    </a:lnTo>
                    <a:lnTo>
                      <a:pt x="2461" y="28"/>
                    </a:lnTo>
                    <a:lnTo>
                      <a:pt x="2403" y="28"/>
                    </a:lnTo>
                    <a:lnTo>
                      <a:pt x="2346" y="28"/>
                    </a:lnTo>
                    <a:lnTo>
                      <a:pt x="2289" y="28"/>
                    </a:lnTo>
                    <a:lnTo>
                      <a:pt x="2235" y="28"/>
                    </a:lnTo>
                    <a:lnTo>
                      <a:pt x="2178" y="0"/>
                    </a:lnTo>
                    <a:lnTo>
                      <a:pt x="2121" y="0"/>
                    </a:lnTo>
                    <a:lnTo>
                      <a:pt x="2063" y="0"/>
                    </a:lnTo>
                    <a:lnTo>
                      <a:pt x="2006" y="0"/>
                    </a:lnTo>
                    <a:lnTo>
                      <a:pt x="1950" y="0"/>
                    </a:lnTo>
                    <a:lnTo>
                      <a:pt x="1922" y="0"/>
                    </a:lnTo>
                    <a:lnTo>
                      <a:pt x="1866" y="28"/>
                    </a:lnTo>
                    <a:lnTo>
                      <a:pt x="1809" y="28"/>
                    </a:lnTo>
                    <a:lnTo>
                      <a:pt x="1781" y="28"/>
                    </a:lnTo>
                    <a:lnTo>
                      <a:pt x="1725" y="28"/>
                    </a:lnTo>
                    <a:lnTo>
                      <a:pt x="1667" y="28"/>
                    </a:lnTo>
                    <a:lnTo>
                      <a:pt x="1613" y="28"/>
                    </a:lnTo>
                    <a:lnTo>
                      <a:pt x="1555" y="28"/>
                    </a:lnTo>
                    <a:lnTo>
                      <a:pt x="1499" y="57"/>
                    </a:lnTo>
                    <a:lnTo>
                      <a:pt x="1442" y="57"/>
                    </a:lnTo>
                    <a:lnTo>
                      <a:pt x="1385" y="57"/>
                    </a:lnTo>
                    <a:lnTo>
                      <a:pt x="1327" y="57"/>
                    </a:lnTo>
                    <a:lnTo>
                      <a:pt x="1274" y="57"/>
                    </a:lnTo>
                    <a:lnTo>
                      <a:pt x="1216" y="57"/>
                    </a:lnTo>
                    <a:lnTo>
                      <a:pt x="1159" y="57"/>
                    </a:lnTo>
                    <a:lnTo>
                      <a:pt x="1102" y="57"/>
                    </a:lnTo>
                    <a:lnTo>
                      <a:pt x="1046" y="57"/>
                    </a:lnTo>
                    <a:lnTo>
                      <a:pt x="991" y="84"/>
                    </a:lnTo>
                    <a:lnTo>
                      <a:pt x="934" y="84"/>
                    </a:lnTo>
                    <a:lnTo>
                      <a:pt x="876" y="84"/>
                    </a:lnTo>
                    <a:lnTo>
                      <a:pt x="820" y="112"/>
                    </a:lnTo>
                    <a:lnTo>
                      <a:pt x="763" y="141"/>
                    </a:lnTo>
                    <a:lnTo>
                      <a:pt x="706" y="198"/>
                    </a:lnTo>
                    <a:lnTo>
                      <a:pt x="679" y="252"/>
                    </a:lnTo>
                    <a:lnTo>
                      <a:pt x="652" y="309"/>
                    </a:lnTo>
                    <a:lnTo>
                      <a:pt x="622" y="367"/>
                    </a:lnTo>
                    <a:lnTo>
                      <a:pt x="564" y="423"/>
                    </a:lnTo>
                    <a:lnTo>
                      <a:pt x="538" y="480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578480" y="3584520"/>
                <a:ext cx="1876320" cy="501840"/>
              </a:xfrm>
              <a:custGeom>
                <a:avLst/>
                <a:gdLst/>
                <a:ahLst/>
                <a:rect l="l" t="t" r="r" b="b"/>
                <a:pathLst>
                  <a:path w="5909" h="1582">
                    <a:moveTo>
                      <a:pt x="538" y="480"/>
                    </a:moveTo>
                    <a:lnTo>
                      <a:pt x="538" y="537"/>
                    </a:lnTo>
                    <a:lnTo>
                      <a:pt x="511" y="564"/>
                    </a:lnTo>
                    <a:lnTo>
                      <a:pt x="480" y="622"/>
                    </a:lnTo>
                    <a:lnTo>
                      <a:pt x="423" y="679"/>
                    </a:lnTo>
                    <a:lnTo>
                      <a:pt x="396" y="732"/>
                    </a:lnTo>
                    <a:lnTo>
                      <a:pt x="369" y="790"/>
                    </a:lnTo>
                    <a:lnTo>
                      <a:pt x="312" y="847"/>
                    </a:lnTo>
                    <a:lnTo>
                      <a:pt x="283" y="903"/>
                    </a:lnTo>
                    <a:lnTo>
                      <a:pt x="255" y="960"/>
                    </a:lnTo>
                    <a:lnTo>
                      <a:pt x="198" y="1018"/>
                    </a:lnTo>
                    <a:lnTo>
                      <a:pt x="171" y="1071"/>
                    </a:lnTo>
                    <a:lnTo>
                      <a:pt x="114" y="1129"/>
                    </a:lnTo>
                    <a:lnTo>
                      <a:pt x="87" y="1186"/>
                    </a:lnTo>
                    <a:lnTo>
                      <a:pt x="57" y="1213"/>
                    </a:lnTo>
                    <a:lnTo>
                      <a:pt x="29" y="1270"/>
                    </a:lnTo>
                    <a:lnTo>
                      <a:pt x="0" y="1326"/>
                    </a:lnTo>
                    <a:lnTo>
                      <a:pt x="29" y="1326"/>
                    </a:lnTo>
                    <a:lnTo>
                      <a:pt x="57" y="1326"/>
                    </a:lnTo>
                    <a:lnTo>
                      <a:pt x="87" y="1326"/>
                    </a:lnTo>
                    <a:lnTo>
                      <a:pt x="114" y="1326"/>
                    </a:lnTo>
                    <a:lnTo>
                      <a:pt x="171" y="1326"/>
                    </a:lnTo>
                    <a:lnTo>
                      <a:pt x="198" y="1326"/>
                    </a:lnTo>
                    <a:lnTo>
                      <a:pt x="228" y="1299"/>
                    </a:lnTo>
                    <a:lnTo>
                      <a:pt x="255" y="1299"/>
                    </a:lnTo>
                    <a:lnTo>
                      <a:pt x="283" y="1299"/>
                    </a:lnTo>
                    <a:lnTo>
                      <a:pt x="339" y="1299"/>
                    </a:lnTo>
                    <a:lnTo>
                      <a:pt x="369" y="1299"/>
                    </a:lnTo>
                    <a:lnTo>
                      <a:pt x="396" y="1299"/>
                    </a:lnTo>
                    <a:lnTo>
                      <a:pt x="423" y="1299"/>
                    </a:lnTo>
                    <a:lnTo>
                      <a:pt x="480" y="1299"/>
                    </a:lnTo>
                    <a:lnTo>
                      <a:pt x="511" y="1299"/>
                    </a:lnTo>
                    <a:lnTo>
                      <a:pt x="538" y="1299"/>
                    </a:lnTo>
                    <a:lnTo>
                      <a:pt x="622" y="1299"/>
                    </a:lnTo>
                    <a:lnTo>
                      <a:pt x="679" y="1326"/>
                    </a:lnTo>
                    <a:lnTo>
                      <a:pt x="763" y="1326"/>
                    </a:lnTo>
                    <a:lnTo>
                      <a:pt x="850" y="1326"/>
                    </a:lnTo>
                    <a:lnTo>
                      <a:pt x="934" y="1326"/>
                    </a:lnTo>
                    <a:lnTo>
                      <a:pt x="1018" y="1326"/>
                    </a:lnTo>
                    <a:lnTo>
                      <a:pt x="1102" y="1326"/>
                    </a:lnTo>
                    <a:lnTo>
                      <a:pt x="1187" y="1326"/>
                    </a:lnTo>
                    <a:lnTo>
                      <a:pt x="1274" y="1326"/>
                    </a:lnTo>
                    <a:lnTo>
                      <a:pt x="1358" y="1326"/>
                    </a:lnTo>
                    <a:lnTo>
                      <a:pt x="1442" y="1326"/>
                    </a:lnTo>
                    <a:lnTo>
                      <a:pt x="1526" y="1326"/>
                    </a:lnTo>
                    <a:lnTo>
                      <a:pt x="1613" y="1326"/>
                    </a:lnTo>
                    <a:lnTo>
                      <a:pt x="1697" y="1354"/>
                    </a:lnTo>
                    <a:lnTo>
                      <a:pt x="1781" y="1354"/>
                    </a:lnTo>
                    <a:lnTo>
                      <a:pt x="1838" y="1354"/>
                    </a:lnTo>
                    <a:lnTo>
                      <a:pt x="1922" y="1383"/>
                    </a:lnTo>
                    <a:lnTo>
                      <a:pt x="2037" y="1383"/>
                    </a:lnTo>
                    <a:lnTo>
                      <a:pt x="2121" y="1410"/>
                    </a:lnTo>
                    <a:lnTo>
                      <a:pt x="2235" y="1410"/>
                    </a:lnTo>
                    <a:lnTo>
                      <a:pt x="2319" y="1410"/>
                    </a:lnTo>
                    <a:lnTo>
                      <a:pt x="2430" y="1383"/>
                    </a:lnTo>
                    <a:lnTo>
                      <a:pt x="2517" y="1383"/>
                    </a:lnTo>
                    <a:lnTo>
                      <a:pt x="2629" y="1383"/>
                    </a:lnTo>
                    <a:lnTo>
                      <a:pt x="2742" y="1383"/>
                    </a:lnTo>
                    <a:lnTo>
                      <a:pt x="2826" y="1354"/>
                    </a:lnTo>
                    <a:lnTo>
                      <a:pt x="2941" y="1354"/>
                    </a:lnTo>
                    <a:lnTo>
                      <a:pt x="3025" y="1354"/>
                    </a:lnTo>
                    <a:lnTo>
                      <a:pt x="3140" y="1354"/>
                    </a:lnTo>
                    <a:lnTo>
                      <a:pt x="3224" y="1354"/>
                    </a:lnTo>
                    <a:lnTo>
                      <a:pt x="3337" y="1354"/>
                    </a:lnTo>
                    <a:lnTo>
                      <a:pt x="3421" y="1383"/>
                    </a:lnTo>
                    <a:lnTo>
                      <a:pt x="3449" y="1383"/>
                    </a:lnTo>
                    <a:lnTo>
                      <a:pt x="3478" y="1383"/>
                    </a:lnTo>
                    <a:lnTo>
                      <a:pt x="3533" y="1383"/>
                    </a:lnTo>
                    <a:lnTo>
                      <a:pt x="3563" y="1383"/>
                    </a:lnTo>
                    <a:lnTo>
                      <a:pt x="3589" y="1383"/>
                    </a:lnTo>
                    <a:lnTo>
                      <a:pt x="3647" y="1383"/>
                    </a:lnTo>
                    <a:lnTo>
                      <a:pt x="3675" y="1383"/>
                    </a:lnTo>
                    <a:lnTo>
                      <a:pt x="3731" y="1383"/>
                    </a:lnTo>
                    <a:lnTo>
                      <a:pt x="3788" y="1383"/>
                    </a:lnTo>
                    <a:lnTo>
                      <a:pt x="3815" y="1383"/>
                    </a:lnTo>
                    <a:lnTo>
                      <a:pt x="3872" y="1383"/>
                    </a:lnTo>
                    <a:lnTo>
                      <a:pt x="3902" y="1383"/>
                    </a:lnTo>
                    <a:lnTo>
                      <a:pt x="3959" y="1383"/>
                    </a:lnTo>
                    <a:lnTo>
                      <a:pt x="3987" y="1383"/>
                    </a:lnTo>
                    <a:lnTo>
                      <a:pt x="4044" y="1383"/>
                    </a:lnTo>
                    <a:lnTo>
                      <a:pt x="4071" y="1383"/>
                    </a:lnTo>
                    <a:lnTo>
                      <a:pt x="5116" y="1552"/>
                    </a:lnTo>
                    <a:lnTo>
                      <a:pt x="5146" y="1552"/>
                    </a:lnTo>
                    <a:lnTo>
                      <a:pt x="5173" y="1552"/>
                    </a:lnTo>
                    <a:lnTo>
                      <a:pt x="5203" y="1552"/>
                    </a:lnTo>
                    <a:lnTo>
                      <a:pt x="5230" y="1552"/>
                    </a:lnTo>
                    <a:lnTo>
                      <a:pt x="5258" y="1552"/>
                    </a:lnTo>
                    <a:lnTo>
                      <a:pt x="5287" y="1552"/>
                    </a:lnTo>
                    <a:lnTo>
                      <a:pt x="5344" y="1582"/>
                    </a:lnTo>
                    <a:lnTo>
                      <a:pt x="5371" y="1582"/>
                    </a:lnTo>
                    <a:lnTo>
                      <a:pt x="5428" y="1582"/>
                    </a:lnTo>
                    <a:lnTo>
                      <a:pt x="5455" y="1582"/>
                    </a:lnTo>
                    <a:lnTo>
                      <a:pt x="5513" y="1582"/>
                    </a:lnTo>
                    <a:lnTo>
                      <a:pt x="5539" y="1582"/>
                    </a:lnTo>
                    <a:lnTo>
                      <a:pt x="5570" y="1552"/>
                    </a:lnTo>
                    <a:lnTo>
                      <a:pt x="5597" y="1552"/>
                    </a:lnTo>
                    <a:lnTo>
                      <a:pt x="5627" y="1552"/>
                    </a:lnTo>
                    <a:lnTo>
                      <a:pt x="5654" y="1410"/>
                    </a:lnTo>
                    <a:lnTo>
                      <a:pt x="5654" y="1242"/>
                    </a:lnTo>
                    <a:lnTo>
                      <a:pt x="5681" y="1071"/>
                    </a:lnTo>
                    <a:lnTo>
                      <a:pt x="5681" y="931"/>
                    </a:lnTo>
                    <a:lnTo>
                      <a:pt x="5711" y="847"/>
                    </a:lnTo>
                    <a:lnTo>
                      <a:pt x="5738" y="763"/>
                    </a:lnTo>
                    <a:lnTo>
                      <a:pt x="5795" y="679"/>
                    </a:lnTo>
                    <a:lnTo>
                      <a:pt x="5825" y="564"/>
                    </a:lnTo>
                    <a:lnTo>
                      <a:pt x="5851" y="480"/>
                    </a:lnTo>
                    <a:lnTo>
                      <a:pt x="5879" y="367"/>
                    </a:lnTo>
                    <a:lnTo>
                      <a:pt x="5909" y="283"/>
                    </a:lnTo>
                    <a:lnTo>
                      <a:pt x="5909" y="198"/>
                    </a:lnTo>
                    <a:lnTo>
                      <a:pt x="5879" y="198"/>
                    </a:lnTo>
                    <a:lnTo>
                      <a:pt x="5851" y="198"/>
                    </a:lnTo>
                    <a:lnTo>
                      <a:pt x="5825" y="198"/>
                    </a:lnTo>
                    <a:lnTo>
                      <a:pt x="5795" y="168"/>
                    </a:lnTo>
                    <a:lnTo>
                      <a:pt x="5767" y="168"/>
                    </a:lnTo>
                    <a:lnTo>
                      <a:pt x="5738" y="168"/>
                    </a:lnTo>
                    <a:lnTo>
                      <a:pt x="5711" y="168"/>
                    </a:lnTo>
                    <a:lnTo>
                      <a:pt x="5681" y="168"/>
                    </a:lnTo>
                    <a:lnTo>
                      <a:pt x="5627" y="168"/>
                    </a:lnTo>
                    <a:lnTo>
                      <a:pt x="5539" y="168"/>
                    </a:lnTo>
                    <a:lnTo>
                      <a:pt x="5486" y="141"/>
                    </a:lnTo>
                    <a:lnTo>
                      <a:pt x="5428" y="141"/>
                    </a:lnTo>
                    <a:lnTo>
                      <a:pt x="5371" y="141"/>
                    </a:lnTo>
                    <a:lnTo>
                      <a:pt x="5287" y="141"/>
                    </a:lnTo>
                    <a:lnTo>
                      <a:pt x="5230" y="141"/>
                    </a:lnTo>
                    <a:lnTo>
                      <a:pt x="5173" y="141"/>
                    </a:lnTo>
                    <a:lnTo>
                      <a:pt x="5088" y="141"/>
                    </a:lnTo>
                    <a:lnTo>
                      <a:pt x="5032" y="141"/>
                    </a:lnTo>
                    <a:lnTo>
                      <a:pt x="4975" y="141"/>
                    </a:lnTo>
                    <a:lnTo>
                      <a:pt x="4891" y="168"/>
                    </a:lnTo>
                    <a:lnTo>
                      <a:pt x="4834" y="168"/>
                    </a:lnTo>
                    <a:lnTo>
                      <a:pt x="4776" y="168"/>
                    </a:lnTo>
                    <a:lnTo>
                      <a:pt x="4692" y="168"/>
                    </a:lnTo>
                    <a:lnTo>
                      <a:pt x="4635" y="168"/>
                    </a:lnTo>
                    <a:lnTo>
                      <a:pt x="4581" y="168"/>
                    </a:lnTo>
                    <a:lnTo>
                      <a:pt x="4494" y="168"/>
                    </a:lnTo>
                    <a:lnTo>
                      <a:pt x="4437" y="168"/>
                    </a:lnTo>
                    <a:lnTo>
                      <a:pt x="4383" y="168"/>
                    </a:lnTo>
                    <a:lnTo>
                      <a:pt x="4326" y="168"/>
                    </a:lnTo>
                    <a:lnTo>
                      <a:pt x="4241" y="168"/>
                    </a:lnTo>
                    <a:lnTo>
                      <a:pt x="4184" y="168"/>
                    </a:lnTo>
                    <a:lnTo>
                      <a:pt x="4128" y="168"/>
                    </a:lnTo>
                    <a:lnTo>
                      <a:pt x="4044" y="168"/>
                    </a:lnTo>
                    <a:lnTo>
                      <a:pt x="3987" y="168"/>
                    </a:lnTo>
                    <a:lnTo>
                      <a:pt x="3929" y="168"/>
                    </a:lnTo>
                    <a:lnTo>
                      <a:pt x="3872" y="168"/>
                    </a:lnTo>
                    <a:lnTo>
                      <a:pt x="3815" y="168"/>
                    </a:lnTo>
                    <a:lnTo>
                      <a:pt x="3731" y="168"/>
                    </a:lnTo>
                    <a:lnTo>
                      <a:pt x="3675" y="141"/>
                    </a:lnTo>
                    <a:lnTo>
                      <a:pt x="3620" y="141"/>
                    </a:lnTo>
                    <a:lnTo>
                      <a:pt x="3563" y="141"/>
                    </a:lnTo>
                    <a:lnTo>
                      <a:pt x="3505" y="112"/>
                    </a:lnTo>
                    <a:lnTo>
                      <a:pt x="3449" y="112"/>
                    </a:lnTo>
                    <a:lnTo>
                      <a:pt x="3364" y="112"/>
                    </a:lnTo>
                    <a:lnTo>
                      <a:pt x="3308" y="112"/>
                    </a:lnTo>
                    <a:lnTo>
                      <a:pt x="3250" y="84"/>
                    </a:lnTo>
                    <a:lnTo>
                      <a:pt x="3166" y="84"/>
                    </a:lnTo>
                    <a:lnTo>
                      <a:pt x="3109" y="84"/>
                    </a:lnTo>
                    <a:lnTo>
                      <a:pt x="3052" y="84"/>
                    </a:lnTo>
                    <a:lnTo>
                      <a:pt x="2968" y="84"/>
                    </a:lnTo>
                    <a:lnTo>
                      <a:pt x="2911" y="57"/>
                    </a:lnTo>
                    <a:lnTo>
                      <a:pt x="2857" y="57"/>
                    </a:lnTo>
                    <a:lnTo>
                      <a:pt x="2770" y="57"/>
                    </a:lnTo>
                    <a:lnTo>
                      <a:pt x="2715" y="57"/>
                    </a:lnTo>
                    <a:lnTo>
                      <a:pt x="2658" y="57"/>
                    </a:lnTo>
                    <a:lnTo>
                      <a:pt x="2601" y="57"/>
                    </a:lnTo>
                    <a:lnTo>
                      <a:pt x="2545" y="28"/>
                    </a:lnTo>
                    <a:lnTo>
                      <a:pt x="2517" y="28"/>
                    </a:lnTo>
                    <a:lnTo>
                      <a:pt x="2461" y="28"/>
                    </a:lnTo>
                    <a:lnTo>
                      <a:pt x="2403" y="28"/>
                    </a:lnTo>
                    <a:lnTo>
                      <a:pt x="2346" y="28"/>
                    </a:lnTo>
                    <a:lnTo>
                      <a:pt x="2289" y="28"/>
                    </a:lnTo>
                    <a:lnTo>
                      <a:pt x="2235" y="28"/>
                    </a:lnTo>
                    <a:lnTo>
                      <a:pt x="2178" y="0"/>
                    </a:lnTo>
                    <a:lnTo>
                      <a:pt x="2121" y="0"/>
                    </a:lnTo>
                    <a:lnTo>
                      <a:pt x="2063" y="0"/>
                    </a:lnTo>
                    <a:lnTo>
                      <a:pt x="2006" y="0"/>
                    </a:lnTo>
                    <a:lnTo>
                      <a:pt x="1950" y="0"/>
                    </a:lnTo>
                    <a:lnTo>
                      <a:pt x="1922" y="0"/>
                    </a:lnTo>
                    <a:lnTo>
                      <a:pt x="1866" y="28"/>
                    </a:lnTo>
                    <a:lnTo>
                      <a:pt x="1809" y="28"/>
                    </a:lnTo>
                    <a:lnTo>
                      <a:pt x="1781" y="28"/>
                    </a:lnTo>
                    <a:lnTo>
                      <a:pt x="1725" y="28"/>
                    </a:lnTo>
                    <a:lnTo>
                      <a:pt x="1667" y="28"/>
                    </a:lnTo>
                    <a:lnTo>
                      <a:pt x="1613" y="28"/>
                    </a:lnTo>
                    <a:lnTo>
                      <a:pt x="1555" y="28"/>
                    </a:lnTo>
                    <a:lnTo>
                      <a:pt x="1499" y="57"/>
                    </a:lnTo>
                    <a:lnTo>
                      <a:pt x="1442" y="57"/>
                    </a:lnTo>
                    <a:lnTo>
                      <a:pt x="1385" y="57"/>
                    </a:lnTo>
                    <a:lnTo>
                      <a:pt x="1327" y="57"/>
                    </a:lnTo>
                    <a:lnTo>
                      <a:pt x="1274" y="57"/>
                    </a:lnTo>
                    <a:lnTo>
                      <a:pt x="1216" y="57"/>
                    </a:lnTo>
                    <a:lnTo>
                      <a:pt x="1159" y="57"/>
                    </a:lnTo>
                    <a:lnTo>
                      <a:pt x="1102" y="57"/>
                    </a:lnTo>
                    <a:lnTo>
                      <a:pt x="1046" y="57"/>
                    </a:lnTo>
                    <a:lnTo>
                      <a:pt x="991" y="84"/>
                    </a:lnTo>
                    <a:lnTo>
                      <a:pt x="934" y="84"/>
                    </a:lnTo>
                    <a:lnTo>
                      <a:pt x="876" y="84"/>
                    </a:lnTo>
                    <a:lnTo>
                      <a:pt x="820" y="112"/>
                    </a:lnTo>
                    <a:lnTo>
                      <a:pt x="763" y="141"/>
                    </a:lnTo>
                    <a:lnTo>
                      <a:pt x="706" y="198"/>
                    </a:lnTo>
                    <a:lnTo>
                      <a:pt x="679" y="252"/>
                    </a:lnTo>
                    <a:lnTo>
                      <a:pt x="652" y="309"/>
                    </a:lnTo>
                    <a:lnTo>
                      <a:pt x="622" y="367"/>
                    </a:lnTo>
                    <a:lnTo>
                      <a:pt x="564" y="423"/>
                    </a:lnTo>
                    <a:lnTo>
                      <a:pt x="538" y="4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884840" y="3646440"/>
                <a:ext cx="1265040" cy="304920"/>
              </a:xfrm>
              <a:custGeom>
                <a:avLst/>
                <a:gdLst/>
                <a:ahLst/>
                <a:rect l="l" t="t" r="r" b="b"/>
                <a:pathLst>
                  <a:path w="3985" h="960">
                    <a:moveTo>
                      <a:pt x="847" y="0"/>
                    </a:moveTo>
                    <a:lnTo>
                      <a:pt x="933" y="0"/>
                    </a:lnTo>
                    <a:lnTo>
                      <a:pt x="1017" y="0"/>
                    </a:lnTo>
                    <a:lnTo>
                      <a:pt x="1075" y="0"/>
                    </a:lnTo>
                    <a:lnTo>
                      <a:pt x="1159" y="0"/>
                    </a:lnTo>
                    <a:lnTo>
                      <a:pt x="1243" y="0"/>
                    </a:lnTo>
                    <a:lnTo>
                      <a:pt x="1327" y="27"/>
                    </a:lnTo>
                    <a:lnTo>
                      <a:pt x="1414" y="27"/>
                    </a:lnTo>
                    <a:lnTo>
                      <a:pt x="1499" y="27"/>
                    </a:lnTo>
                    <a:lnTo>
                      <a:pt x="1583" y="27"/>
                    </a:lnTo>
                    <a:lnTo>
                      <a:pt x="1667" y="27"/>
                    </a:lnTo>
                    <a:lnTo>
                      <a:pt x="1753" y="27"/>
                    </a:lnTo>
                    <a:lnTo>
                      <a:pt x="1838" y="27"/>
                    </a:lnTo>
                    <a:lnTo>
                      <a:pt x="1922" y="27"/>
                    </a:lnTo>
                    <a:lnTo>
                      <a:pt x="2006" y="27"/>
                    </a:lnTo>
                    <a:lnTo>
                      <a:pt x="2090" y="54"/>
                    </a:lnTo>
                    <a:lnTo>
                      <a:pt x="2178" y="54"/>
                    </a:lnTo>
                    <a:lnTo>
                      <a:pt x="2262" y="54"/>
                    </a:lnTo>
                    <a:lnTo>
                      <a:pt x="2346" y="54"/>
                    </a:lnTo>
                    <a:lnTo>
                      <a:pt x="2430" y="54"/>
                    </a:lnTo>
                    <a:lnTo>
                      <a:pt x="2516" y="54"/>
                    </a:lnTo>
                    <a:lnTo>
                      <a:pt x="2601" y="54"/>
                    </a:lnTo>
                    <a:lnTo>
                      <a:pt x="2685" y="54"/>
                    </a:lnTo>
                    <a:lnTo>
                      <a:pt x="2769" y="54"/>
                    </a:lnTo>
                    <a:lnTo>
                      <a:pt x="2853" y="85"/>
                    </a:lnTo>
                    <a:lnTo>
                      <a:pt x="2940" y="85"/>
                    </a:lnTo>
                    <a:lnTo>
                      <a:pt x="3025" y="85"/>
                    </a:lnTo>
                    <a:lnTo>
                      <a:pt x="3109" y="85"/>
                    </a:lnTo>
                    <a:lnTo>
                      <a:pt x="3193" y="85"/>
                    </a:lnTo>
                    <a:lnTo>
                      <a:pt x="3279" y="85"/>
                    </a:lnTo>
                    <a:lnTo>
                      <a:pt x="3364" y="85"/>
                    </a:lnTo>
                    <a:lnTo>
                      <a:pt x="3448" y="85"/>
                    </a:lnTo>
                    <a:lnTo>
                      <a:pt x="3532" y="111"/>
                    </a:lnTo>
                    <a:lnTo>
                      <a:pt x="3589" y="111"/>
                    </a:lnTo>
                    <a:lnTo>
                      <a:pt x="3619" y="111"/>
                    </a:lnTo>
                    <a:lnTo>
                      <a:pt x="3673" y="111"/>
                    </a:lnTo>
                    <a:lnTo>
                      <a:pt x="3730" y="141"/>
                    </a:lnTo>
                    <a:lnTo>
                      <a:pt x="3761" y="141"/>
                    </a:lnTo>
                    <a:lnTo>
                      <a:pt x="3814" y="169"/>
                    </a:lnTo>
                    <a:lnTo>
                      <a:pt x="3845" y="169"/>
                    </a:lnTo>
                    <a:lnTo>
                      <a:pt x="3872" y="198"/>
                    </a:lnTo>
                    <a:lnTo>
                      <a:pt x="3901" y="225"/>
                    </a:lnTo>
                    <a:lnTo>
                      <a:pt x="3929" y="253"/>
                    </a:lnTo>
                    <a:lnTo>
                      <a:pt x="3956" y="282"/>
                    </a:lnTo>
                    <a:lnTo>
                      <a:pt x="3956" y="309"/>
                    </a:lnTo>
                    <a:lnTo>
                      <a:pt x="3985" y="339"/>
                    </a:lnTo>
                    <a:lnTo>
                      <a:pt x="3985" y="366"/>
                    </a:lnTo>
                    <a:lnTo>
                      <a:pt x="3985" y="393"/>
                    </a:lnTo>
                    <a:lnTo>
                      <a:pt x="3985" y="424"/>
                    </a:lnTo>
                    <a:lnTo>
                      <a:pt x="3985" y="450"/>
                    </a:lnTo>
                    <a:lnTo>
                      <a:pt x="3956" y="481"/>
                    </a:lnTo>
                    <a:lnTo>
                      <a:pt x="3956" y="508"/>
                    </a:lnTo>
                    <a:lnTo>
                      <a:pt x="3956" y="534"/>
                    </a:lnTo>
                    <a:lnTo>
                      <a:pt x="3956" y="565"/>
                    </a:lnTo>
                    <a:lnTo>
                      <a:pt x="3929" y="592"/>
                    </a:lnTo>
                    <a:lnTo>
                      <a:pt x="3929" y="621"/>
                    </a:lnTo>
                    <a:lnTo>
                      <a:pt x="3929" y="649"/>
                    </a:lnTo>
                    <a:lnTo>
                      <a:pt x="3929" y="676"/>
                    </a:lnTo>
                    <a:lnTo>
                      <a:pt x="3901" y="705"/>
                    </a:lnTo>
                    <a:lnTo>
                      <a:pt x="3872" y="733"/>
                    </a:lnTo>
                    <a:lnTo>
                      <a:pt x="3872" y="762"/>
                    </a:lnTo>
                    <a:lnTo>
                      <a:pt x="3814" y="789"/>
                    </a:lnTo>
                    <a:lnTo>
                      <a:pt x="3788" y="820"/>
                    </a:lnTo>
                    <a:lnTo>
                      <a:pt x="3761" y="847"/>
                    </a:lnTo>
                    <a:lnTo>
                      <a:pt x="3730" y="873"/>
                    </a:lnTo>
                    <a:lnTo>
                      <a:pt x="3673" y="904"/>
                    </a:lnTo>
                    <a:lnTo>
                      <a:pt x="3619" y="904"/>
                    </a:lnTo>
                    <a:lnTo>
                      <a:pt x="3562" y="931"/>
                    </a:lnTo>
                    <a:lnTo>
                      <a:pt x="3532" y="931"/>
                    </a:lnTo>
                    <a:lnTo>
                      <a:pt x="3475" y="960"/>
                    </a:lnTo>
                    <a:lnTo>
                      <a:pt x="3421" y="960"/>
                    </a:lnTo>
                    <a:lnTo>
                      <a:pt x="3364" y="960"/>
                    </a:lnTo>
                    <a:lnTo>
                      <a:pt x="3306" y="960"/>
                    </a:lnTo>
                    <a:lnTo>
                      <a:pt x="3193" y="960"/>
                    </a:lnTo>
                    <a:lnTo>
                      <a:pt x="3109" y="960"/>
                    </a:lnTo>
                    <a:lnTo>
                      <a:pt x="3025" y="931"/>
                    </a:lnTo>
                    <a:lnTo>
                      <a:pt x="2940" y="931"/>
                    </a:lnTo>
                    <a:lnTo>
                      <a:pt x="2826" y="931"/>
                    </a:lnTo>
                    <a:lnTo>
                      <a:pt x="2742" y="931"/>
                    </a:lnTo>
                    <a:lnTo>
                      <a:pt x="2658" y="931"/>
                    </a:lnTo>
                    <a:lnTo>
                      <a:pt x="2571" y="931"/>
                    </a:lnTo>
                    <a:lnTo>
                      <a:pt x="2459" y="931"/>
                    </a:lnTo>
                    <a:lnTo>
                      <a:pt x="2375" y="931"/>
                    </a:lnTo>
                    <a:lnTo>
                      <a:pt x="2288" y="904"/>
                    </a:lnTo>
                    <a:lnTo>
                      <a:pt x="2204" y="904"/>
                    </a:lnTo>
                    <a:lnTo>
                      <a:pt x="2090" y="904"/>
                    </a:lnTo>
                    <a:lnTo>
                      <a:pt x="2006" y="904"/>
                    </a:lnTo>
                    <a:lnTo>
                      <a:pt x="1922" y="904"/>
                    </a:lnTo>
                    <a:lnTo>
                      <a:pt x="1838" y="904"/>
                    </a:lnTo>
                    <a:lnTo>
                      <a:pt x="1723" y="904"/>
                    </a:lnTo>
                    <a:lnTo>
                      <a:pt x="1639" y="873"/>
                    </a:lnTo>
                    <a:lnTo>
                      <a:pt x="1555" y="873"/>
                    </a:lnTo>
                    <a:lnTo>
                      <a:pt x="1468" y="873"/>
                    </a:lnTo>
                    <a:lnTo>
                      <a:pt x="1384" y="873"/>
                    </a:lnTo>
                    <a:lnTo>
                      <a:pt x="1273" y="873"/>
                    </a:lnTo>
                    <a:lnTo>
                      <a:pt x="1186" y="873"/>
                    </a:lnTo>
                    <a:lnTo>
                      <a:pt x="1101" y="873"/>
                    </a:lnTo>
                    <a:lnTo>
                      <a:pt x="1017" y="873"/>
                    </a:lnTo>
                    <a:lnTo>
                      <a:pt x="904" y="847"/>
                    </a:lnTo>
                    <a:lnTo>
                      <a:pt x="819" y="847"/>
                    </a:lnTo>
                    <a:lnTo>
                      <a:pt x="735" y="847"/>
                    </a:lnTo>
                    <a:lnTo>
                      <a:pt x="651" y="847"/>
                    </a:lnTo>
                    <a:lnTo>
                      <a:pt x="564" y="847"/>
                    </a:lnTo>
                    <a:lnTo>
                      <a:pt x="453" y="847"/>
                    </a:lnTo>
                    <a:lnTo>
                      <a:pt x="365" y="847"/>
                    </a:lnTo>
                    <a:lnTo>
                      <a:pt x="312" y="820"/>
                    </a:lnTo>
                    <a:lnTo>
                      <a:pt x="281" y="820"/>
                    </a:lnTo>
                    <a:lnTo>
                      <a:pt x="225" y="820"/>
                    </a:lnTo>
                    <a:lnTo>
                      <a:pt x="170" y="789"/>
                    </a:lnTo>
                    <a:lnTo>
                      <a:pt x="140" y="789"/>
                    </a:lnTo>
                    <a:lnTo>
                      <a:pt x="113" y="762"/>
                    </a:lnTo>
                    <a:lnTo>
                      <a:pt x="84" y="733"/>
                    </a:lnTo>
                    <a:lnTo>
                      <a:pt x="56" y="733"/>
                    </a:lnTo>
                    <a:lnTo>
                      <a:pt x="0" y="676"/>
                    </a:lnTo>
                    <a:lnTo>
                      <a:pt x="0" y="621"/>
                    </a:lnTo>
                    <a:lnTo>
                      <a:pt x="0" y="565"/>
                    </a:lnTo>
                    <a:lnTo>
                      <a:pt x="29" y="481"/>
                    </a:lnTo>
                    <a:lnTo>
                      <a:pt x="56" y="450"/>
                    </a:lnTo>
                    <a:lnTo>
                      <a:pt x="56" y="424"/>
                    </a:lnTo>
                    <a:lnTo>
                      <a:pt x="84" y="393"/>
                    </a:lnTo>
                    <a:lnTo>
                      <a:pt x="84" y="366"/>
                    </a:lnTo>
                    <a:lnTo>
                      <a:pt x="113" y="339"/>
                    </a:lnTo>
                    <a:lnTo>
                      <a:pt x="140" y="309"/>
                    </a:lnTo>
                    <a:lnTo>
                      <a:pt x="140" y="282"/>
                    </a:lnTo>
                    <a:lnTo>
                      <a:pt x="170" y="253"/>
                    </a:lnTo>
                    <a:lnTo>
                      <a:pt x="197" y="225"/>
                    </a:lnTo>
                    <a:lnTo>
                      <a:pt x="197" y="198"/>
                    </a:lnTo>
                    <a:lnTo>
                      <a:pt x="225" y="169"/>
                    </a:lnTo>
                    <a:lnTo>
                      <a:pt x="281" y="141"/>
                    </a:lnTo>
                    <a:lnTo>
                      <a:pt x="312" y="141"/>
                    </a:lnTo>
                    <a:lnTo>
                      <a:pt x="338" y="111"/>
                    </a:lnTo>
                    <a:lnTo>
                      <a:pt x="396" y="85"/>
                    </a:lnTo>
                    <a:lnTo>
                      <a:pt x="423" y="54"/>
                    </a:lnTo>
                    <a:lnTo>
                      <a:pt x="480" y="54"/>
                    </a:lnTo>
                    <a:lnTo>
                      <a:pt x="537" y="27"/>
                    </a:lnTo>
                    <a:lnTo>
                      <a:pt x="564" y="27"/>
                    </a:lnTo>
                    <a:lnTo>
                      <a:pt x="621" y="0"/>
                    </a:lnTo>
                    <a:lnTo>
                      <a:pt x="678" y="0"/>
                    </a:lnTo>
                    <a:lnTo>
                      <a:pt x="735" y="0"/>
                    </a:lnTo>
                    <a:lnTo>
                      <a:pt x="792" y="0"/>
                    </a:lnTo>
                    <a:lnTo>
                      <a:pt x="847" y="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884840" y="3646440"/>
                <a:ext cx="1265040" cy="304920"/>
              </a:xfrm>
              <a:custGeom>
                <a:avLst/>
                <a:gdLst/>
                <a:ahLst/>
                <a:rect l="l" t="t" r="r" b="b"/>
                <a:pathLst>
                  <a:path w="3985" h="960">
                    <a:moveTo>
                      <a:pt x="847" y="0"/>
                    </a:moveTo>
                    <a:lnTo>
                      <a:pt x="933" y="0"/>
                    </a:lnTo>
                    <a:lnTo>
                      <a:pt x="1017" y="0"/>
                    </a:lnTo>
                    <a:lnTo>
                      <a:pt x="1075" y="0"/>
                    </a:lnTo>
                    <a:lnTo>
                      <a:pt x="1159" y="0"/>
                    </a:lnTo>
                    <a:lnTo>
                      <a:pt x="1243" y="0"/>
                    </a:lnTo>
                    <a:lnTo>
                      <a:pt x="1327" y="27"/>
                    </a:lnTo>
                    <a:lnTo>
                      <a:pt x="1414" y="27"/>
                    </a:lnTo>
                    <a:lnTo>
                      <a:pt x="1499" y="27"/>
                    </a:lnTo>
                    <a:lnTo>
                      <a:pt x="1583" y="27"/>
                    </a:lnTo>
                    <a:lnTo>
                      <a:pt x="1667" y="27"/>
                    </a:lnTo>
                    <a:lnTo>
                      <a:pt x="1753" y="27"/>
                    </a:lnTo>
                    <a:lnTo>
                      <a:pt x="1838" y="27"/>
                    </a:lnTo>
                    <a:lnTo>
                      <a:pt x="1922" y="27"/>
                    </a:lnTo>
                    <a:lnTo>
                      <a:pt x="2006" y="27"/>
                    </a:lnTo>
                    <a:lnTo>
                      <a:pt x="2090" y="54"/>
                    </a:lnTo>
                    <a:lnTo>
                      <a:pt x="2178" y="54"/>
                    </a:lnTo>
                    <a:lnTo>
                      <a:pt x="2262" y="54"/>
                    </a:lnTo>
                    <a:lnTo>
                      <a:pt x="2346" y="54"/>
                    </a:lnTo>
                    <a:lnTo>
                      <a:pt x="2430" y="54"/>
                    </a:lnTo>
                    <a:lnTo>
                      <a:pt x="2516" y="54"/>
                    </a:lnTo>
                    <a:lnTo>
                      <a:pt x="2601" y="54"/>
                    </a:lnTo>
                    <a:lnTo>
                      <a:pt x="2685" y="54"/>
                    </a:lnTo>
                    <a:lnTo>
                      <a:pt x="2769" y="54"/>
                    </a:lnTo>
                    <a:lnTo>
                      <a:pt x="2853" y="85"/>
                    </a:lnTo>
                    <a:lnTo>
                      <a:pt x="2940" y="85"/>
                    </a:lnTo>
                    <a:lnTo>
                      <a:pt x="3025" y="85"/>
                    </a:lnTo>
                    <a:lnTo>
                      <a:pt x="3109" y="85"/>
                    </a:lnTo>
                    <a:lnTo>
                      <a:pt x="3193" y="85"/>
                    </a:lnTo>
                    <a:lnTo>
                      <a:pt x="3279" y="85"/>
                    </a:lnTo>
                    <a:lnTo>
                      <a:pt x="3364" y="85"/>
                    </a:lnTo>
                    <a:lnTo>
                      <a:pt x="3448" y="85"/>
                    </a:lnTo>
                    <a:lnTo>
                      <a:pt x="3532" y="111"/>
                    </a:lnTo>
                    <a:lnTo>
                      <a:pt x="3589" y="111"/>
                    </a:lnTo>
                    <a:lnTo>
                      <a:pt x="3619" y="111"/>
                    </a:lnTo>
                    <a:lnTo>
                      <a:pt x="3673" y="111"/>
                    </a:lnTo>
                    <a:lnTo>
                      <a:pt x="3730" y="141"/>
                    </a:lnTo>
                    <a:lnTo>
                      <a:pt x="3761" y="141"/>
                    </a:lnTo>
                    <a:lnTo>
                      <a:pt x="3814" y="169"/>
                    </a:lnTo>
                    <a:lnTo>
                      <a:pt x="3845" y="169"/>
                    </a:lnTo>
                    <a:lnTo>
                      <a:pt x="3872" y="198"/>
                    </a:lnTo>
                    <a:lnTo>
                      <a:pt x="3901" y="225"/>
                    </a:lnTo>
                    <a:lnTo>
                      <a:pt x="3929" y="253"/>
                    </a:lnTo>
                    <a:lnTo>
                      <a:pt x="3956" y="282"/>
                    </a:lnTo>
                    <a:lnTo>
                      <a:pt x="3956" y="309"/>
                    </a:lnTo>
                    <a:lnTo>
                      <a:pt x="3985" y="339"/>
                    </a:lnTo>
                    <a:lnTo>
                      <a:pt x="3985" y="366"/>
                    </a:lnTo>
                    <a:lnTo>
                      <a:pt x="3985" y="393"/>
                    </a:lnTo>
                    <a:lnTo>
                      <a:pt x="3985" y="424"/>
                    </a:lnTo>
                    <a:lnTo>
                      <a:pt x="3985" y="450"/>
                    </a:lnTo>
                    <a:lnTo>
                      <a:pt x="3956" y="481"/>
                    </a:lnTo>
                    <a:lnTo>
                      <a:pt x="3956" y="508"/>
                    </a:lnTo>
                    <a:lnTo>
                      <a:pt x="3956" y="534"/>
                    </a:lnTo>
                    <a:lnTo>
                      <a:pt x="3956" y="565"/>
                    </a:lnTo>
                    <a:lnTo>
                      <a:pt x="3929" y="592"/>
                    </a:lnTo>
                    <a:lnTo>
                      <a:pt x="3929" y="621"/>
                    </a:lnTo>
                    <a:lnTo>
                      <a:pt x="3929" y="649"/>
                    </a:lnTo>
                    <a:lnTo>
                      <a:pt x="3929" y="676"/>
                    </a:lnTo>
                    <a:lnTo>
                      <a:pt x="3901" y="705"/>
                    </a:lnTo>
                    <a:lnTo>
                      <a:pt x="3872" y="733"/>
                    </a:lnTo>
                    <a:lnTo>
                      <a:pt x="3872" y="762"/>
                    </a:lnTo>
                    <a:lnTo>
                      <a:pt x="3814" y="789"/>
                    </a:lnTo>
                    <a:lnTo>
                      <a:pt x="3788" y="820"/>
                    </a:lnTo>
                    <a:lnTo>
                      <a:pt x="3761" y="847"/>
                    </a:lnTo>
                    <a:lnTo>
                      <a:pt x="3730" y="873"/>
                    </a:lnTo>
                    <a:lnTo>
                      <a:pt x="3673" y="904"/>
                    </a:lnTo>
                    <a:lnTo>
                      <a:pt x="3619" y="904"/>
                    </a:lnTo>
                    <a:lnTo>
                      <a:pt x="3562" y="931"/>
                    </a:lnTo>
                    <a:lnTo>
                      <a:pt x="3532" y="931"/>
                    </a:lnTo>
                    <a:lnTo>
                      <a:pt x="3475" y="960"/>
                    </a:lnTo>
                    <a:lnTo>
                      <a:pt x="3421" y="960"/>
                    </a:lnTo>
                    <a:lnTo>
                      <a:pt x="3364" y="960"/>
                    </a:lnTo>
                    <a:lnTo>
                      <a:pt x="3306" y="960"/>
                    </a:lnTo>
                    <a:lnTo>
                      <a:pt x="3193" y="960"/>
                    </a:lnTo>
                    <a:lnTo>
                      <a:pt x="3109" y="960"/>
                    </a:lnTo>
                    <a:lnTo>
                      <a:pt x="3025" y="931"/>
                    </a:lnTo>
                    <a:lnTo>
                      <a:pt x="2940" y="931"/>
                    </a:lnTo>
                    <a:lnTo>
                      <a:pt x="2826" y="931"/>
                    </a:lnTo>
                    <a:lnTo>
                      <a:pt x="2742" y="931"/>
                    </a:lnTo>
                    <a:lnTo>
                      <a:pt x="2658" y="931"/>
                    </a:lnTo>
                    <a:lnTo>
                      <a:pt x="2571" y="931"/>
                    </a:lnTo>
                    <a:lnTo>
                      <a:pt x="2459" y="931"/>
                    </a:lnTo>
                    <a:lnTo>
                      <a:pt x="2375" y="931"/>
                    </a:lnTo>
                    <a:lnTo>
                      <a:pt x="2288" y="904"/>
                    </a:lnTo>
                    <a:lnTo>
                      <a:pt x="2204" y="904"/>
                    </a:lnTo>
                    <a:lnTo>
                      <a:pt x="2090" y="904"/>
                    </a:lnTo>
                    <a:lnTo>
                      <a:pt x="2006" y="904"/>
                    </a:lnTo>
                    <a:lnTo>
                      <a:pt x="1922" y="904"/>
                    </a:lnTo>
                    <a:lnTo>
                      <a:pt x="1838" y="904"/>
                    </a:lnTo>
                    <a:lnTo>
                      <a:pt x="1723" y="904"/>
                    </a:lnTo>
                    <a:lnTo>
                      <a:pt x="1639" y="873"/>
                    </a:lnTo>
                    <a:lnTo>
                      <a:pt x="1555" y="873"/>
                    </a:lnTo>
                    <a:lnTo>
                      <a:pt x="1468" y="873"/>
                    </a:lnTo>
                    <a:lnTo>
                      <a:pt x="1384" y="873"/>
                    </a:lnTo>
                    <a:lnTo>
                      <a:pt x="1273" y="873"/>
                    </a:lnTo>
                    <a:lnTo>
                      <a:pt x="1186" y="873"/>
                    </a:lnTo>
                    <a:lnTo>
                      <a:pt x="1101" y="873"/>
                    </a:lnTo>
                    <a:lnTo>
                      <a:pt x="1017" y="873"/>
                    </a:lnTo>
                    <a:lnTo>
                      <a:pt x="904" y="847"/>
                    </a:lnTo>
                    <a:lnTo>
                      <a:pt x="819" y="847"/>
                    </a:lnTo>
                    <a:lnTo>
                      <a:pt x="735" y="847"/>
                    </a:lnTo>
                    <a:lnTo>
                      <a:pt x="651" y="847"/>
                    </a:lnTo>
                    <a:lnTo>
                      <a:pt x="564" y="847"/>
                    </a:lnTo>
                    <a:lnTo>
                      <a:pt x="453" y="847"/>
                    </a:lnTo>
                    <a:lnTo>
                      <a:pt x="365" y="847"/>
                    </a:lnTo>
                    <a:lnTo>
                      <a:pt x="312" y="820"/>
                    </a:lnTo>
                    <a:lnTo>
                      <a:pt x="281" y="820"/>
                    </a:lnTo>
                    <a:lnTo>
                      <a:pt x="225" y="820"/>
                    </a:lnTo>
                    <a:lnTo>
                      <a:pt x="170" y="789"/>
                    </a:lnTo>
                    <a:lnTo>
                      <a:pt x="140" y="789"/>
                    </a:lnTo>
                    <a:lnTo>
                      <a:pt x="113" y="762"/>
                    </a:lnTo>
                    <a:lnTo>
                      <a:pt x="84" y="733"/>
                    </a:lnTo>
                    <a:lnTo>
                      <a:pt x="56" y="733"/>
                    </a:lnTo>
                    <a:lnTo>
                      <a:pt x="0" y="676"/>
                    </a:lnTo>
                    <a:lnTo>
                      <a:pt x="0" y="621"/>
                    </a:lnTo>
                    <a:lnTo>
                      <a:pt x="0" y="565"/>
                    </a:lnTo>
                    <a:lnTo>
                      <a:pt x="29" y="481"/>
                    </a:lnTo>
                    <a:lnTo>
                      <a:pt x="56" y="450"/>
                    </a:lnTo>
                    <a:lnTo>
                      <a:pt x="56" y="424"/>
                    </a:lnTo>
                    <a:lnTo>
                      <a:pt x="84" y="393"/>
                    </a:lnTo>
                    <a:lnTo>
                      <a:pt x="84" y="366"/>
                    </a:lnTo>
                    <a:lnTo>
                      <a:pt x="113" y="339"/>
                    </a:lnTo>
                    <a:lnTo>
                      <a:pt x="140" y="309"/>
                    </a:lnTo>
                    <a:lnTo>
                      <a:pt x="140" y="282"/>
                    </a:lnTo>
                    <a:lnTo>
                      <a:pt x="170" y="253"/>
                    </a:lnTo>
                    <a:lnTo>
                      <a:pt x="197" y="225"/>
                    </a:lnTo>
                    <a:lnTo>
                      <a:pt x="197" y="198"/>
                    </a:lnTo>
                    <a:lnTo>
                      <a:pt x="225" y="169"/>
                    </a:lnTo>
                    <a:lnTo>
                      <a:pt x="281" y="141"/>
                    </a:lnTo>
                    <a:lnTo>
                      <a:pt x="312" y="141"/>
                    </a:lnTo>
                    <a:lnTo>
                      <a:pt x="338" y="111"/>
                    </a:lnTo>
                    <a:lnTo>
                      <a:pt x="396" y="85"/>
                    </a:lnTo>
                    <a:lnTo>
                      <a:pt x="423" y="54"/>
                    </a:lnTo>
                    <a:lnTo>
                      <a:pt x="480" y="54"/>
                    </a:lnTo>
                    <a:lnTo>
                      <a:pt x="537" y="27"/>
                    </a:lnTo>
                    <a:lnTo>
                      <a:pt x="564" y="27"/>
                    </a:lnTo>
                    <a:lnTo>
                      <a:pt x="621" y="0"/>
                    </a:lnTo>
                    <a:lnTo>
                      <a:pt x="678" y="0"/>
                    </a:lnTo>
                    <a:lnTo>
                      <a:pt x="735" y="0"/>
                    </a:lnTo>
                    <a:lnTo>
                      <a:pt x="792" y="0"/>
                    </a:lnTo>
                    <a:lnTo>
                      <a:pt x="8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902120" y="3781440"/>
                <a:ext cx="1247760" cy="169920"/>
              </a:xfrm>
              <a:custGeom>
                <a:avLst/>
                <a:gdLst/>
                <a:ahLst/>
                <a:rect l="l" t="t" r="r" b="b"/>
                <a:pathLst>
                  <a:path w="3929" h="536">
                    <a:moveTo>
                      <a:pt x="3929" y="0"/>
                    </a:moveTo>
                    <a:lnTo>
                      <a:pt x="3929" y="26"/>
                    </a:lnTo>
                    <a:lnTo>
                      <a:pt x="3900" y="57"/>
                    </a:lnTo>
                    <a:lnTo>
                      <a:pt x="3900" y="84"/>
                    </a:lnTo>
                    <a:lnTo>
                      <a:pt x="3900" y="110"/>
                    </a:lnTo>
                    <a:lnTo>
                      <a:pt x="3900" y="141"/>
                    </a:lnTo>
                    <a:lnTo>
                      <a:pt x="3873" y="168"/>
                    </a:lnTo>
                    <a:lnTo>
                      <a:pt x="3873" y="197"/>
                    </a:lnTo>
                    <a:lnTo>
                      <a:pt x="3873" y="225"/>
                    </a:lnTo>
                    <a:lnTo>
                      <a:pt x="3873" y="252"/>
                    </a:lnTo>
                    <a:lnTo>
                      <a:pt x="3845" y="281"/>
                    </a:lnTo>
                    <a:lnTo>
                      <a:pt x="3816" y="309"/>
                    </a:lnTo>
                    <a:lnTo>
                      <a:pt x="3816" y="365"/>
                    </a:lnTo>
                    <a:lnTo>
                      <a:pt x="3758" y="365"/>
                    </a:lnTo>
                    <a:lnTo>
                      <a:pt x="3732" y="396"/>
                    </a:lnTo>
                    <a:lnTo>
                      <a:pt x="3705" y="423"/>
                    </a:lnTo>
                    <a:lnTo>
                      <a:pt x="3674" y="449"/>
                    </a:lnTo>
                    <a:lnTo>
                      <a:pt x="3617" y="480"/>
                    </a:lnTo>
                    <a:lnTo>
                      <a:pt x="3563" y="480"/>
                    </a:lnTo>
                    <a:lnTo>
                      <a:pt x="3506" y="507"/>
                    </a:lnTo>
                    <a:lnTo>
                      <a:pt x="3476" y="507"/>
                    </a:lnTo>
                    <a:lnTo>
                      <a:pt x="3419" y="536"/>
                    </a:lnTo>
                    <a:lnTo>
                      <a:pt x="3365" y="536"/>
                    </a:lnTo>
                    <a:lnTo>
                      <a:pt x="3308" y="536"/>
                    </a:lnTo>
                    <a:lnTo>
                      <a:pt x="3250" y="536"/>
                    </a:lnTo>
                    <a:lnTo>
                      <a:pt x="3137" y="536"/>
                    </a:lnTo>
                    <a:lnTo>
                      <a:pt x="3053" y="536"/>
                    </a:lnTo>
                    <a:lnTo>
                      <a:pt x="2969" y="536"/>
                    </a:lnTo>
                    <a:lnTo>
                      <a:pt x="2884" y="507"/>
                    </a:lnTo>
                    <a:lnTo>
                      <a:pt x="2770" y="507"/>
                    </a:lnTo>
                    <a:lnTo>
                      <a:pt x="2686" y="507"/>
                    </a:lnTo>
                    <a:lnTo>
                      <a:pt x="2602" y="507"/>
                    </a:lnTo>
                    <a:lnTo>
                      <a:pt x="2515" y="507"/>
                    </a:lnTo>
                    <a:lnTo>
                      <a:pt x="2403" y="507"/>
                    </a:lnTo>
                    <a:lnTo>
                      <a:pt x="2319" y="507"/>
                    </a:lnTo>
                    <a:lnTo>
                      <a:pt x="2232" y="480"/>
                    </a:lnTo>
                    <a:lnTo>
                      <a:pt x="2148" y="480"/>
                    </a:lnTo>
                    <a:lnTo>
                      <a:pt x="2034" y="480"/>
                    </a:lnTo>
                    <a:lnTo>
                      <a:pt x="1950" y="480"/>
                    </a:lnTo>
                    <a:lnTo>
                      <a:pt x="1866" y="480"/>
                    </a:lnTo>
                    <a:lnTo>
                      <a:pt x="1782" y="480"/>
                    </a:lnTo>
                    <a:lnTo>
                      <a:pt x="1667" y="480"/>
                    </a:lnTo>
                    <a:lnTo>
                      <a:pt x="1583" y="449"/>
                    </a:lnTo>
                    <a:lnTo>
                      <a:pt x="1499" y="449"/>
                    </a:lnTo>
                    <a:lnTo>
                      <a:pt x="1412" y="449"/>
                    </a:lnTo>
                    <a:lnTo>
                      <a:pt x="1328" y="449"/>
                    </a:lnTo>
                    <a:lnTo>
                      <a:pt x="1217" y="449"/>
                    </a:lnTo>
                    <a:lnTo>
                      <a:pt x="1130" y="449"/>
                    </a:lnTo>
                    <a:lnTo>
                      <a:pt x="1045" y="449"/>
                    </a:lnTo>
                    <a:lnTo>
                      <a:pt x="961" y="449"/>
                    </a:lnTo>
                    <a:lnTo>
                      <a:pt x="848" y="423"/>
                    </a:lnTo>
                    <a:lnTo>
                      <a:pt x="763" y="423"/>
                    </a:lnTo>
                    <a:lnTo>
                      <a:pt x="679" y="423"/>
                    </a:lnTo>
                    <a:lnTo>
                      <a:pt x="595" y="423"/>
                    </a:lnTo>
                    <a:lnTo>
                      <a:pt x="508" y="423"/>
                    </a:lnTo>
                    <a:lnTo>
                      <a:pt x="397" y="423"/>
                    </a:lnTo>
                    <a:lnTo>
                      <a:pt x="309" y="423"/>
                    </a:lnTo>
                    <a:lnTo>
                      <a:pt x="256" y="396"/>
                    </a:lnTo>
                    <a:lnTo>
                      <a:pt x="225" y="396"/>
                    </a:lnTo>
                    <a:lnTo>
                      <a:pt x="169" y="396"/>
                    </a:lnTo>
                    <a:lnTo>
                      <a:pt x="114" y="365"/>
                    </a:lnTo>
                    <a:lnTo>
                      <a:pt x="84" y="365"/>
                    </a:lnTo>
                    <a:lnTo>
                      <a:pt x="57" y="338"/>
                    </a:lnTo>
                    <a:lnTo>
                      <a:pt x="28" y="309"/>
                    </a:lnTo>
                    <a:lnTo>
                      <a:pt x="0" y="3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27760" y="3691080"/>
                <a:ext cx="969840" cy="152280"/>
              </a:xfrm>
              <a:custGeom>
                <a:avLst/>
                <a:gdLst/>
                <a:ahLst/>
                <a:rect l="l" t="t" r="r" b="b"/>
                <a:pathLst>
                  <a:path w="3052" h="480">
                    <a:moveTo>
                      <a:pt x="168" y="0"/>
                    </a:moveTo>
                    <a:lnTo>
                      <a:pt x="140" y="28"/>
                    </a:lnTo>
                    <a:lnTo>
                      <a:pt x="84" y="57"/>
                    </a:lnTo>
                    <a:lnTo>
                      <a:pt x="56" y="84"/>
                    </a:lnTo>
                    <a:lnTo>
                      <a:pt x="27" y="112"/>
                    </a:lnTo>
                    <a:lnTo>
                      <a:pt x="0" y="141"/>
                    </a:lnTo>
                    <a:lnTo>
                      <a:pt x="0" y="168"/>
                    </a:lnTo>
                    <a:lnTo>
                      <a:pt x="0" y="198"/>
                    </a:lnTo>
                    <a:lnTo>
                      <a:pt x="0" y="225"/>
                    </a:lnTo>
                    <a:lnTo>
                      <a:pt x="0" y="252"/>
                    </a:lnTo>
                    <a:lnTo>
                      <a:pt x="27" y="283"/>
                    </a:lnTo>
                    <a:lnTo>
                      <a:pt x="56" y="309"/>
                    </a:lnTo>
                    <a:lnTo>
                      <a:pt x="84" y="309"/>
                    </a:lnTo>
                    <a:lnTo>
                      <a:pt x="111" y="340"/>
                    </a:lnTo>
                    <a:lnTo>
                      <a:pt x="140" y="340"/>
                    </a:lnTo>
                    <a:lnTo>
                      <a:pt x="168" y="340"/>
                    </a:lnTo>
                    <a:lnTo>
                      <a:pt x="198" y="367"/>
                    </a:lnTo>
                    <a:lnTo>
                      <a:pt x="252" y="367"/>
                    </a:lnTo>
                    <a:lnTo>
                      <a:pt x="282" y="367"/>
                    </a:lnTo>
                    <a:lnTo>
                      <a:pt x="310" y="367"/>
                    </a:lnTo>
                    <a:lnTo>
                      <a:pt x="366" y="367"/>
                    </a:lnTo>
                    <a:lnTo>
                      <a:pt x="394" y="367"/>
                    </a:lnTo>
                    <a:lnTo>
                      <a:pt x="423" y="367"/>
                    </a:lnTo>
                    <a:lnTo>
                      <a:pt x="451" y="367"/>
                    </a:lnTo>
                    <a:lnTo>
                      <a:pt x="480" y="367"/>
                    </a:lnTo>
                    <a:lnTo>
                      <a:pt x="564" y="367"/>
                    </a:lnTo>
                    <a:lnTo>
                      <a:pt x="648" y="367"/>
                    </a:lnTo>
                    <a:lnTo>
                      <a:pt x="733" y="367"/>
                    </a:lnTo>
                    <a:lnTo>
                      <a:pt x="820" y="367"/>
                    </a:lnTo>
                    <a:lnTo>
                      <a:pt x="931" y="367"/>
                    </a:lnTo>
                    <a:lnTo>
                      <a:pt x="1015" y="393"/>
                    </a:lnTo>
                    <a:lnTo>
                      <a:pt x="1102" y="393"/>
                    </a:lnTo>
                    <a:lnTo>
                      <a:pt x="1186" y="393"/>
                    </a:lnTo>
                    <a:lnTo>
                      <a:pt x="1270" y="393"/>
                    </a:lnTo>
                    <a:lnTo>
                      <a:pt x="1355" y="424"/>
                    </a:lnTo>
                    <a:lnTo>
                      <a:pt x="1442" y="424"/>
                    </a:lnTo>
                    <a:lnTo>
                      <a:pt x="1526" y="424"/>
                    </a:lnTo>
                    <a:lnTo>
                      <a:pt x="1637" y="424"/>
                    </a:lnTo>
                    <a:lnTo>
                      <a:pt x="1725" y="424"/>
                    </a:lnTo>
                    <a:lnTo>
                      <a:pt x="1809" y="451"/>
                    </a:lnTo>
                    <a:lnTo>
                      <a:pt x="1893" y="451"/>
                    </a:lnTo>
                    <a:lnTo>
                      <a:pt x="2006" y="451"/>
                    </a:lnTo>
                    <a:lnTo>
                      <a:pt x="2118" y="451"/>
                    </a:lnTo>
                    <a:lnTo>
                      <a:pt x="2205" y="451"/>
                    </a:lnTo>
                    <a:lnTo>
                      <a:pt x="2289" y="480"/>
                    </a:lnTo>
                    <a:lnTo>
                      <a:pt x="2373" y="480"/>
                    </a:lnTo>
                    <a:lnTo>
                      <a:pt x="2457" y="480"/>
                    </a:lnTo>
                    <a:lnTo>
                      <a:pt x="2544" y="480"/>
                    </a:lnTo>
                    <a:lnTo>
                      <a:pt x="2598" y="480"/>
                    </a:lnTo>
                    <a:lnTo>
                      <a:pt x="2685" y="480"/>
                    </a:lnTo>
                    <a:lnTo>
                      <a:pt x="2740" y="480"/>
                    </a:lnTo>
                    <a:lnTo>
                      <a:pt x="2797" y="451"/>
                    </a:lnTo>
                    <a:lnTo>
                      <a:pt x="2853" y="451"/>
                    </a:lnTo>
                    <a:lnTo>
                      <a:pt x="2881" y="451"/>
                    </a:lnTo>
                    <a:lnTo>
                      <a:pt x="2938" y="424"/>
                    </a:lnTo>
                    <a:lnTo>
                      <a:pt x="2968" y="393"/>
                    </a:lnTo>
                    <a:lnTo>
                      <a:pt x="2968" y="367"/>
                    </a:lnTo>
                    <a:lnTo>
                      <a:pt x="2995" y="309"/>
                    </a:lnTo>
                    <a:lnTo>
                      <a:pt x="3022" y="283"/>
                    </a:lnTo>
                    <a:lnTo>
                      <a:pt x="3022" y="252"/>
                    </a:lnTo>
                    <a:lnTo>
                      <a:pt x="3052" y="225"/>
                    </a:lnTo>
                    <a:lnTo>
                      <a:pt x="3052" y="198"/>
                    </a:lnTo>
                    <a:lnTo>
                      <a:pt x="3052" y="168"/>
                    </a:lnTo>
                    <a:lnTo>
                      <a:pt x="3052" y="141"/>
                    </a:lnTo>
                    <a:lnTo>
                      <a:pt x="3022" y="1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41840" y="3879720"/>
                <a:ext cx="223920" cy="88920"/>
              </a:xfrm>
              <a:custGeom>
                <a:avLst/>
                <a:gdLst/>
                <a:ahLst/>
                <a:rect l="l" t="t" r="r" b="b"/>
                <a:pathLst>
                  <a:path w="706" h="282">
                    <a:moveTo>
                      <a:pt x="0" y="282"/>
                    </a:moveTo>
                    <a:lnTo>
                      <a:pt x="57" y="255"/>
                    </a:lnTo>
                    <a:lnTo>
                      <a:pt x="85" y="255"/>
                    </a:lnTo>
                    <a:lnTo>
                      <a:pt x="141" y="227"/>
                    </a:lnTo>
                    <a:lnTo>
                      <a:pt x="198" y="227"/>
                    </a:lnTo>
                    <a:lnTo>
                      <a:pt x="225" y="198"/>
                    </a:lnTo>
                    <a:lnTo>
                      <a:pt x="282" y="171"/>
                    </a:lnTo>
                    <a:lnTo>
                      <a:pt x="313" y="171"/>
                    </a:lnTo>
                    <a:lnTo>
                      <a:pt x="366" y="140"/>
                    </a:lnTo>
                    <a:lnTo>
                      <a:pt x="424" y="114"/>
                    </a:lnTo>
                    <a:lnTo>
                      <a:pt x="454" y="114"/>
                    </a:lnTo>
                    <a:lnTo>
                      <a:pt x="508" y="87"/>
                    </a:lnTo>
                    <a:lnTo>
                      <a:pt x="538" y="56"/>
                    </a:lnTo>
                    <a:lnTo>
                      <a:pt x="594" y="56"/>
                    </a:lnTo>
                    <a:lnTo>
                      <a:pt x="622" y="29"/>
                    </a:lnTo>
                    <a:lnTo>
                      <a:pt x="678" y="0"/>
                    </a:lnTo>
                    <a:lnTo>
                      <a:pt x="7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51200" y="3808440"/>
                <a:ext cx="223920" cy="108000"/>
              </a:xfrm>
              <a:custGeom>
                <a:avLst/>
                <a:gdLst/>
                <a:ahLst/>
                <a:rect l="l" t="t" r="r" b="b"/>
                <a:pathLst>
                  <a:path w="706" h="339">
                    <a:moveTo>
                      <a:pt x="0" y="339"/>
                    </a:moveTo>
                    <a:lnTo>
                      <a:pt x="55" y="312"/>
                    </a:lnTo>
                    <a:lnTo>
                      <a:pt x="84" y="312"/>
                    </a:lnTo>
                    <a:lnTo>
                      <a:pt x="111" y="281"/>
                    </a:lnTo>
                    <a:lnTo>
                      <a:pt x="168" y="254"/>
                    </a:lnTo>
                    <a:lnTo>
                      <a:pt x="195" y="225"/>
                    </a:lnTo>
                    <a:lnTo>
                      <a:pt x="252" y="225"/>
                    </a:lnTo>
                    <a:lnTo>
                      <a:pt x="283" y="197"/>
                    </a:lnTo>
                    <a:lnTo>
                      <a:pt x="310" y="197"/>
                    </a:lnTo>
                    <a:lnTo>
                      <a:pt x="367" y="168"/>
                    </a:lnTo>
                    <a:lnTo>
                      <a:pt x="394" y="141"/>
                    </a:lnTo>
                    <a:lnTo>
                      <a:pt x="451" y="141"/>
                    </a:lnTo>
                    <a:lnTo>
                      <a:pt x="478" y="113"/>
                    </a:lnTo>
                    <a:lnTo>
                      <a:pt x="535" y="113"/>
                    </a:lnTo>
                    <a:lnTo>
                      <a:pt x="564" y="84"/>
                    </a:lnTo>
                    <a:lnTo>
                      <a:pt x="592" y="84"/>
                    </a:lnTo>
                    <a:lnTo>
                      <a:pt x="648" y="57"/>
                    </a:lnTo>
                    <a:lnTo>
                      <a:pt x="676" y="26"/>
                    </a:lnTo>
                    <a:lnTo>
                      <a:pt x="7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730760" y="3745080"/>
                <a:ext cx="163440" cy="71280"/>
              </a:xfrm>
              <a:custGeom>
                <a:avLst/>
                <a:gdLst/>
                <a:ahLst/>
                <a:rect l="l" t="t" r="r" b="b"/>
                <a:pathLst>
                  <a:path w="511" h="225">
                    <a:moveTo>
                      <a:pt x="0" y="225"/>
                    </a:moveTo>
                    <a:lnTo>
                      <a:pt x="31" y="225"/>
                    </a:lnTo>
                    <a:lnTo>
                      <a:pt x="58" y="199"/>
                    </a:lnTo>
                    <a:lnTo>
                      <a:pt x="84" y="199"/>
                    </a:lnTo>
                    <a:lnTo>
                      <a:pt x="115" y="172"/>
                    </a:lnTo>
                    <a:lnTo>
                      <a:pt x="142" y="172"/>
                    </a:lnTo>
                    <a:lnTo>
                      <a:pt x="199" y="141"/>
                    </a:lnTo>
                    <a:lnTo>
                      <a:pt x="226" y="141"/>
                    </a:lnTo>
                    <a:lnTo>
                      <a:pt x="256" y="115"/>
                    </a:lnTo>
                    <a:lnTo>
                      <a:pt x="283" y="115"/>
                    </a:lnTo>
                    <a:lnTo>
                      <a:pt x="340" y="84"/>
                    </a:lnTo>
                    <a:lnTo>
                      <a:pt x="370" y="84"/>
                    </a:lnTo>
                    <a:lnTo>
                      <a:pt x="396" y="57"/>
                    </a:lnTo>
                    <a:lnTo>
                      <a:pt x="424" y="57"/>
                    </a:lnTo>
                    <a:lnTo>
                      <a:pt x="454" y="30"/>
                    </a:lnTo>
                    <a:lnTo>
                      <a:pt x="482" y="0"/>
                    </a:lnTo>
                    <a:lnTo>
                      <a:pt x="5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794120" y="3673440"/>
                <a:ext cx="171720" cy="71640"/>
              </a:xfrm>
              <a:custGeom>
                <a:avLst/>
                <a:gdLst/>
                <a:ahLst/>
                <a:rect l="l" t="t" r="r" b="b"/>
                <a:pathLst>
                  <a:path w="537" h="224">
                    <a:moveTo>
                      <a:pt x="0" y="224"/>
                    </a:moveTo>
                    <a:lnTo>
                      <a:pt x="27" y="197"/>
                    </a:lnTo>
                    <a:lnTo>
                      <a:pt x="84" y="197"/>
                    </a:lnTo>
                    <a:lnTo>
                      <a:pt x="113" y="168"/>
                    </a:lnTo>
                    <a:lnTo>
                      <a:pt x="141" y="168"/>
                    </a:lnTo>
                    <a:lnTo>
                      <a:pt x="171" y="140"/>
                    </a:lnTo>
                    <a:lnTo>
                      <a:pt x="197" y="140"/>
                    </a:lnTo>
                    <a:lnTo>
                      <a:pt x="225" y="113"/>
                    </a:lnTo>
                    <a:lnTo>
                      <a:pt x="283" y="113"/>
                    </a:lnTo>
                    <a:lnTo>
                      <a:pt x="312" y="84"/>
                    </a:lnTo>
                    <a:lnTo>
                      <a:pt x="339" y="84"/>
                    </a:lnTo>
                    <a:lnTo>
                      <a:pt x="367" y="56"/>
                    </a:lnTo>
                    <a:lnTo>
                      <a:pt x="396" y="56"/>
                    </a:lnTo>
                    <a:lnTo>
                      <a:pt x="453" y="26"/>
                    </a:lnTo>
                    <a:lnTo>
                      <a:pt x="480" y="26"/>
                    </a:lnTo>
                    <a:lnTo>
                      <a:pt x="508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821120" y="3610080"/>
                <a:ext cx="233640" cy="81000"/>
              </a:xfrm>
              <a:custGeom>
                <a:avLst/>
                <a:gdLst/>
                <a:ahLst/>
                <a:rect l="l" t="t" r="r" b="b"/>
                <a:pathLst>
                  <a:path w="736" h="255">
                    <a:moveTo>
                      <a:pt x="0" y="255"/>
                    </a:moveTo>
                    <a:lnTo>
                      <a:pt x="29" y="225"/>
                    </a:lnTo>
                    <a:lnTo>
                      <a:pt x="57" y="225"/>
                    </a:lnTo>
                    <a:lnTo>
                      <a:pt x="87" y="199"/>
                    </a:lnTo>
                    <a:lnTo>
                      <a:pt x="113" y="199"/>
                    </a:lnTo>
                    <a:lnTo>
                      <a:pt x="652" y="28"/>
                    </a:lnTo>
                    <a:lnTo>
                      <a:pt x="679" y="28"/>
                    </a:lnTo>
                    <a:lnTo>
                      <a:pt x="708" y="0"/>
                    </a:lnTo>
                    <a:lnTo>
                      <a:pt x="7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113520" y="3646440"/>
                <a:ext cx="162000" cy="54000"/>
              </a:xfrm>
              <a:custGeom>
                <a:avLst/>
                <a:gdLst/>
                <a:ahLst/>
                <a:rect l="l" t="t" r="r" b="b"/>
                <a:pathLst>
                  <a:path w="510" h="169">
                    <a:moveTo>
                      <a:pt x="0" y="169"/>
                    </a:moveTo>
                    <a:lnTo>
                      <a:pt x="29" y="141"/>
                    </a:lnTo>
                    <a:lnTo>
                      <a:pt x="57" y="141"/>
                    </a:lnTo>
                    <a:lnTo>
                      <a:pt x="84" y="141"/>
                    </a:lnTo>
                    <a:lnTo>
                      <a:pt x="113" y="111"/>
                    </a:lnTo>
                    <a:lnTo>
                      <a:pt x="170" y="111"/>
                    </a:lnTo>
                    <a:lnTo>
                      <a:pt x="198" y="111"/>
                    </a:lnTo>
                    <a:lnTo>
                      <a:pt x="225" y="111"/>
                    </a:lnTo>
                    <a:lnTo>
                      <a:pt x="254" y="85"/>
                    </a:lnTo>
                    <a:lnTo>
                      <a:pt x="282" y="85"/>
                    </a:lnTo>
                    <a:lnTo>
                      <a:pt x="312" y="85"/>
                    </a:lnTo>
                    <a:lnTo>
                      <a:pt x="339" y="85"/>
                    </a:lnTo>
                    <a:lnTo>
                      <a:pt x="369" y="54"/>
                    </a:lnTo>
                    <a:lnTo>
                      <a:pt x="396" y="54"/>
                    </a:lnTo>
                    <a:lnTo>
                      <a:pt x="453" y="27"/>
                    </a:lnTo>
                    <a:lnTo>
                      <a:pt x="480" y="27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176880" y="3656160"/>
                <a:ext cx="241560" cy="80640"/>
              </a:xfrm>
              <a:custGeom>
                <a:avLst/>
                <a:gdLst/>
                <a:ahLst/>
                <a:rect l="l" t="t" r="r" b="b"/>
                <a:pathLst>
                  <a:path w="763" h="255">
                    <a:moveTo>
                      <a:pt x="0" y="255"/>
                    </a:moveTo>
                    <a:lnTo>
                      <a:pt x="27" y="255"/>
                    </a:lnTo>
                    <a:lnTo>
                      <a:pt x="84" y="226"/>
                    </a:lnTo>
                    <a:lnTo>
                      <a:pt x="114" y="198"/>
                    </a:lnTo>
                    <a:lnTo>
                      <a:pt x="171" y="198"/>
                    </a:lnTo>
                    <a:lnTo>
                      <a:pt x="226" y="171"/>
                    </a:lnTo>
                    <a:lnTo>
                      <a:pt x="255" y="142"/>
                    </a:lnTo>
                    <a:lnTo>
                      <a:pt x="312" y="142"/>
                    </a:lnTo>
                    <a:lnTo>
                      <a:pt x="366" y="114"/>
                    </a:lnTo>
                    <a:lnTo>
                      <a:pt x="396" y="114"/>
                    </a:lnTo>
                    <a:lnTo>
                      <a:pt x="454" y="84"/>
                    </a:lnTo>
                    <a:lnTo>
                      <a:pt x="507" y="58"/>
                    </a:lnTo>
                    <a:lnTo>
                      <a:pt x="538" y="58"/>
                    </a:lnTo>
                    <a:lnTo>
                      <a:pt x="595" y="27"/>
                    </a:lnTo>
                    <a:lnTo>
                      <a:pt x="622" y="27"/>
                    </a:lnTo>
                    <a:lnTo>
                      <a:pt x="679" y="0"/>
                    </a:lnTo>
                    <a:lnTo>
                      <a:pt x="735" y="0"/>
                    </a:lnTo>
                    <a:lnTo>
                      <a:pt x="76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157800" y="3710160"/>
                <a:ext cx="252360" cy="79200"/>
              </a:xfrm>
              <a:custGeom>
                <a:avLst/>
                <a:gdLst/>
                <a:ahLst/>
                <a:rect l="l" t="t" r="r" b="b"/>
                <a:pathLst>
                  <a:path w="792" h="252">
                    <a:moveTo>
                      <a:pt x="0" y="252"/>
                    </a:moveTo>
                    <a:lnTo>
                      <a:pt x="57" y="252"/>
                    </a:lnTo>
                    <a:lnTo>
                      <a:pt x="113" y="252"/>
                    </a:lnTo>
                    <a:lnTo>
                      <a:pt x="171" y="252"/>
                    </a:lnTo>
                    <a:lnTo>
                      <a:pt x="198" y="226"/>
                    </a:lnTo>
                    <a:lnTo>
                      <a:pt x="255" y="226"/>
                    </a:lnTo>
                    <a:lnTo>
                      <a:pt x="312" y="195"/>
                    </a:lnTo>
                    <a:lnTo>
                      <a:pt x="369" y="195"/>
                    </a:lnTo>
                    <a:lnTo>
                      <a:pt x="396" y="168"/>
                    </a:lnTo>
                    <a:lnTo>
                      <a:pt x="453" y="141"/>
                    </a:lnTo>
                    <a:lnTo>
                      <a:pt x="511" y="111"/>
                    </a:lnTo>
                    <a:lnTo>
                      <a:pt x="538" y="111"/>
                    </a:lnTo>
                    <a:lnTo>
                      <a:pt x="595" y="84"/>
                    </a:lnTo>
                    <a:lnTo>
                      <a:pt x="652" y="55"/>
                    </a:lnTo>
                    <a:lnTo>
                      <a:pt x="679" y="55"/>
                    </a:lnTo>
                    <a:lnTo>
                      <a:pt x="736" y="27"/>
                    </a:lnTo>
                    <a:lnTo>
                      <a:pt x="763" y="0"/>
                    </a:lnTo>
                    <a:lnTo>
                      <a:pt x="7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32600" y="3772080"/>
                <a:ext cx="268200" cy="88560"/>
              </a:xfrm>
              <a:custGeom>
                <a:avLst/>
                <a:gdLst/>
                <a:ahLst/>
                <a:rect l="l" t="t" r="r" b="b"/>
                <a:pathLst>
                  <a:path w="847" h="283">
                    <a:moveTo>
                      <a:pt x="0" y="283"/>
                    </a:moveTo>
                    <a:lnTo>
                      <a:pt x="56" y="283"/>
                    </a:lnTo>
                    <a:lnTo>
                      <a:pt x="84" y="283"/>
                    </a:lnTo>
                    <a:lnTo>
                      <a:pt x="141" y="256"/>
                    </a:lnTo>
                    <a:lnTo>
                      <a:pt x="168" y="256"/>
                    </a:lnTo>
                    <a:lnTo>
                      <a:pt x="197" y="256"/>
                    </a:lnTo>
                    <a:lnTo>
                      <a:pt x="255" y="228"/>
                    </a:lnTo>
                    <a:lnTo>
                      <a:pt x="282" y="228"/>
                    </a:lnTo>
                    <a:lnTo>
                      <a:pt x="339" y="199"/>
                    </a:lnTo>
                    <a:lnTo>
                      <a:pt x="367" y="172"/>
                    </a:lnTo>
                    <a:lnTo>
                      <a:pt x="423" y="172"/>
                    </a:lnTo>
                    <a:lnTo>
                      <a:pt x="453" y="141"/>
                    </a:lnTo>
                    <a:lnTo>
                      <a:pt x="507" y="141"/>
                    </a:lnTo>
                    <a:lnTo>
                      <a:pt x="537" y="115"/>
                    </a:lnTo>
                    <a:lnTo>
                      <a:pt x="564" y="115"/>
                    </a:lnTo>
                    <a:lnTo>
                      <a:pt x="622" y="88"/>
                    </a:lnTo>
                    <a:lnTo>
                      <a:pt x="648" y="88"/>
                    </a:lnTo>
                    <a:lnTo>
                      <a:pt x="679" y="57"/>
                    </a:lnTo>
                    <a:lnTo>
                      <a:pt x="706" y="57"/>
                    </a:lnTo>
                    <a:lnTo>
                      <a:pt x="736" y="31"/>
                    </a:lnTo>
                    <a:lnTo>
                      <a:pt x="763" y="31"/>
                    </a:lnTo>
                    <a:lnTo>
                      <a:pt x="790" y="31"/>
                    </a:lnTo>
                    <a:lnTo>
                      <a:pt x="820" y="31"/>
                    </a:lnTo>
                    <a:lnTo>
                      <a:pt x="8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925960" y="3843360"/>
                <a:ext cx="457200" cy="144360"/>
              </a:xfrm>
              <a:custGeom>
                <a:avLst/>
                <a:gdLst/>
                <a:ahLst/>
                <a:rect l="l" t="t" r="r" b="b"/>
                <a:pathLst>
                  <a:path w="1440" h="451">
                    <a:moveTo>
                      <a:pt x="0" y="451"/>
                    </a:moveTo>
                    <a:lnTo>
                      <a:pt x="55" y="451"/>
                    </a:lnTo>
                    <a:lnTo>
                      <a:pt x="112" y="423"/>
                    </a:lnTo>
                    <a:lnTo>
                      <a:pt x="196" y="394"/>
                    </a:lnTo>
                    <a:lnTo>
                      <a:pt x="253" y="394"/>
                    </a:lnTo>
                    <a:lnTo>
                      <a:pt x="310" y="367"/>
                    </a:lnTo>
                    <a:lnTo>
                      <a:pt x="394" y="339"/>
                    </a:lnTo>
                    <a:lnTo>
                      <a:pt x="451" y="310"/>
                    </a:lnTo>
                    <a:lnTo>
                      <a:pt x="535" y="310"/>
                    </a:lnTo>
                    <a:lnTo>
                      <a:pt x="593" y="283"/>
                    </a:lnTo>
                    <a:lnTo>
                      <a:pt x="677" y="252"/>
                    </a:lnTo>
                    <a:lnTo>
                      <a:pt x="734" y="252"/>
                    </a:lnTo>
                    <a:lnTo>
                      <a:pt x="791" y="226"/>
                    </a:lnTo>
                    <a:lnTo>
                      <a:pt x="875" y="199"/>
                    </a:lnTo>
                    <a:lnTo>
                      <a:pt x="932" y="199"/>
                    </a:lnTo>
                    <a:lnTo>
                      <a:pt x="989" y="168"/>
                    </a:lnTo>
                    <a:lnTo>
                      <a:pt x="1073" y="141"/>
                    </a:lnTo>
                    <a:lnTo>
                      <a:pt x="1103" y="141"/>
                    </a:lnTo>
                    <a:lnTo>
                      <a:pt x="1157" y="112"/>
                    </a:lnTo>
                    <a:lnTo>
                      <a:pt x="1214" y="112"/>
                    </a:lnTo>
                    <a:lnTo>
                      <a:pt x="1272" y="84"/>
                    </a:lnTo>
                    <a:lnTo>
                      <a:pt x="1298" y="55"/>
                    </a:lnTo>
                    <a:lnTo>
                      <a:pt x="1356" y="55"/>
                    </a:lnTo>
                    <a:lnTo>
                      <a:pt x="1413" y="28"/>
                    </a:lnTo>
                    <a:lnTo>
                      <a:pt x="144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"/>
            <p:cNvSpPr/>
            <p:nvPr/>
          </p:nvSpPr>
          <p:spPr>
            <a:xfrm>
              <a:off x="6049800" y="3916440"/>
              <a:ext cx="316080" cy="106200"/>
            </a:xfrm>
            <a:custGeom>
              <a:avLst/>
              <a:gdLst/>
              <a:ahLst/>
              <a:rect l="l" t="t" r="r" b="b"/>
              <a:pathLst>
                <a:path w="992" h="338">
                  <a:moveTo>
                    <a:pt x="0" y="338"/>
                  </a:moveTo>
                  <a:lnTo>
                    <a:pt x="57" y="309"/>
                  </a:lnTo>
                  <a:lnTo>
                    <a:pt x="115" y="281"/>
                  </a:lnTo>
                  <a:lnTo>
                    <a:pt x="172" y="254"/>
                  </a:lnTo>
                  <a:lnTo>
                    <a:pt x="228" y="254"/>
                  </a:lnTo>
                  <a:lnTo>
                    <a:pt x="283" y="225"/>
                  </a:lnTo>
                  <a:lnTo>
                    <a:pt x="340" y="197"/>
                  </a:lnTo>
                  <a:lnTo>
                    <a:pt x="397" y="197"/>
                  </a:lnTo>
                  <a:lnTo>
                    <a:pt x="481" y="168"/>
                  </a:lnTo>
                  <a:lnTo>
                    <a:pt x="538" y="141"/>
                  </a:lnTo>
                  <a:lnTo>
                    <a:pt x="595" y="141"/>
                  </a:lnTo>
                  <a:lnTo>
                    <a:pt x="652" y="113"/>
                  </a:lnTo>
                  <a:lnTo>
                    <a:pt x="709" y="84"/>
                  </a:lnTo>
                  <a:lnTo>
                    <a:pt x="763" y="84"/>
                  </a:lnTo>
                  <a:lnTo>
                    <a:pt x="820" y="57"/>
                  </a:lnTo>
                  <a:lnTo>
                    <a:pt x="878" y="57"/>
                  </a:lnTo>
                  <a:lnTo>
                    <a:pt x="935" y="26"/>
                  </a:lnTo>
                  <a:lnTo>
                    <a:pt x="962" y="26"/>
                  </a:lnTo>
                  <a:lnTo>
                    <a:pt x="962" y="0"/>
                  </a:lnTo>
                  <a:lnTo>
                    <a:pt x="99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67520" y="3987720"/>
              <a:ext cx="179280" cy="44640"/>
            </a:xfrm>
            <a:custGeom>
              <a:avLst/>
              <a:gdLst/>
              <a:ahLst/>
              <a:rect l="l" t="t" r="r" b="b"/>
              <a:pathLst>
                <a:path w="566" h="140">
                  <a:moveTo>
                    <a:pt x="0" y="140"/>
                  </a:moveTo>
                  <a:lnTo>
                    <a:pt x="28" y="140"/>
                  </a:lnTo>
                  <a:lnTo>
                    <a:pt x="84" y="140"/>
                  </a:lnTo>
                  <a:lnTo>
                    <a:pt x="112" y="113"/>
                  </a:lnTo>
                  <a:lnTo>
                    <a:pt x="142" y="113"/>
                  </a:lnTo>
                  <a:lnTo>
                    <a:pt x="169" y="113"/>
                  </a:lnTo>
                  <a:lnTo>
                    <a:pt x="226" y="84"/>
                  </a:lnTo>
                  <a:lnTo>
                    <a:pt x="254" y="84"/>
                  </a:lnTo>
                  <a:lnTo>
                    <a:pt x="283" y="84"/>
                  </a:lnTo>
                  <a:lnTo>
                    <a:pt x="340" y="56"/>
                  </a:lnTo>
                  <a:lnTo>
                    <a:pt x="367" y="56"/>
                  </a:lnTo>
                  <a:lnTo>
                    <a:pt x="394" y="56"/>
                  </a:lnTo>
                  <a:lnTo>
                    <a:pt x="424" y="29"/>
                  </a:lnTo>
                  <a:lnTo>
                    <a:pt x="451" y="29"/>
                  </a:lnTo>
                  <a:lnTo>
                    <a:pt x="509" y="29"/>
                  </a:lnTo>
                  <a:lnTo>
                    <a:pt x="535" y="0"/>
                  </a:lnTo>
                  <a:lnTo>
                    <a:pt x="56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86200" y="3924360"/>
              <a:ext cx="115920" cy="54000"/>
            </a:xfrm>
            <a:custGeom>
              <a:avLst/>
              <a:gdLst/>
              <a:ahLst/>
              <a:rect l="l" t="t" r="r" b="b"/>
              <a:pathLst>
                <a:path w="366" h="171">
                  <a:moveTo>
                    <a:pt x="0" y="171"/>
                  </a:moveTo>
                  <a:lnTo>
                    <a:pt x="27" y="142"/>
                  </a:lnTo>
                  <a:lnTo>
                    <a:pt x="54" y="142"/>
                  </a:lnTo>
                  <a:lnTo>
                    <a:pt x="111" y="115"/>
                  </a:lnTo>
                  <a:lnTo>
                    <a:pt x="140" y="87"/>
                  </a:lnTo>
                  <a:lnTo>
                    <a:pt x="198" y="87"/>
                  </a:lnTo>
                  <a:lnTo>
                    <a:pt x="224" y="58"/>
                  </a:lnTo>
                  <a:lnTo>
                    <a:pt x="282" y="58"/>
                  </a:lnTo>
                  <a:lnTo>
                    <a:pt x="310" y="31"/>
                  </a:lnTo>
                  <a:lnTo>
                    <a:pt x="339" y="31"/>
                  </a:lnTo>
                  <a:lnTo>
                    <a:pt x="339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911840" y="3924360"/>
              <a:ext cx="160200" cy="63360"/>
            </a:xfrm>
            <a:custGeom>
              <a:avLst/>
              <a:gdLst/>
              <a:ahLst/>
              <a:rect l="l" t="t" r="r" b="b"/>
              <a:pathLst>
                <a:path w="509" h="199">
                  <a:moveTo>
                    <a:pt x="0" y="199"/>
                  </a:moveTo>
                  <a:lnTo>
                    <a:pt x="29" y="171"/>
                  </a:lnTo>
                  <a:lnTo>
                    <a:pt x="56" y="171"/>
                  </a:lnTo>
                  <a:lnTo>
                    <a:pt x="86" y="171"/>
                  </a:lnTo>
                  <a:lnTo>
                    <a:pt x="113" y="142"/>
                  </a:lnTo>
                  <a:lnTo>
                    <a:pt x="141" y="142"/>
                  </a:lnTo>
                  <a:lnTo>
                    <a:pt x="197" y="142"/>
                  </a:lnTo>
                  <a:lnTo>
                    <a:pt x="228" y="115"/>
                  </a:lnTo>
                  <a:lnTo>
                    <a:pt x="254" y="115"/>
                  </a:lnTo>
                  <a:lnTo>
                    <a:pt x="281" y="115"/>
                  </a:lnTo>
                  <a:lnTo>
                    <a:pt x="312" y="87"/>
                  </a:lnTo>
                  <a:lnTo>
                    <a:pt x="339" y="87"/>
                  </a:lnTo>
                  <a:lnTo>
                    <a:pt x="369" y="58"/>
                  </a:lnTo>
                  <a:lnTo>
                    <a:pt x="396" y="58"/>
                  </a:lnTo>
                  <a:lnTo>
                    <a:pt x="425" y="58"/>
                  </a:lnTo>
                  <a:lnTo>
                    <a:pt x="453" y="31"/>
                  </a:lnTo>
                  <a:lnTo>
                    <a:pt x="480" y="31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54760" y="3924360"/>
              <a:ext cx="188640" cy="63360"/>
            </a:xfrm>
            <a:custGeom>
              <a:avLst/>
              <a:gdLst/>
              <a:ahLst/>
              <a:rect l="l" t="t" r="r" b="b"/>
              <a:pathLst>
                <a:path w="595" h="199">
                  <a:moveTo>
                    <a:pt x="0" y="199"/>
                  </a:moveTo>
                  <a:lnTo>
                    <a:pt x="56" y="199"/>
                  </a:lnTo>
                  <a:lnTo>
                    <a:pt x="84" y="199"/>
                  </a:lnTo>
                  <a:lnTo>
                    <a:pt x="114" y="171"/>
                  </a:lnTo>
                  <a:lnTo>
                    <a:pt x="168" y="171"/>
                  </a:lnTo>
                  <a:lnTo>
                    <a:pt x="198" y="171"/>
                  </a:lnTo>
                  <a:lnTo>
                    <a:pt x="226" y="142"/>
                  </a:lnTo>
                  <a:lnTo>
                    <a:pt x="282" y="142"/>
                  </a:lnTo>
                  <a:lnTo>
                    <a:pt x="310" y="115"/>
                  </a:lnTo>
                  <a:lnTo>
                    <a:pt x="339" y="115"/>
                  </a:lnTo>
                  <a:lnTo>
                    <a:pt x="396" y="87"/>
                  </a:lnTo>
                  <a:lnTo>
                    <a:pt x="423" y="87"/>
                  </a:lnTo>
                  <a:lnTo>
                    <a:pt x="451" y="58"/>
                  </a:lnTo>
                  <a:lnTo>
                    <a:pt x="480" y="58"/>
                  </a:lnTo>
                  <a:lnTo>
                    <a:pt x="538" y="58"/>
                  </a:lnTo>
                  <a:lnTo>
                    <a:pt x="564" y="31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207040" y="3933720"/>
              <a:ext cx="162000" cy="61920"/>
            </a:xfrm>
            <a:custGeom>
              <a:avLst/>
              <a:gdLst/>
              <a:ahLst/>
              <a:rect l="l" t="t" r="r" b="b"/>
              <a:pathLst>
                <a:path w="509" h="197">
                  <a:moveTo>
                    <a:pt x="0" y="197"/>
                  </a:moveTo>
                  <a:lnTo>
                    <a:pt x="27" y="197"/>
                  </a:lnTo>
                  <a:lnTo>
                    <a:pt x="58" y="197"/>
                  </a:lnTo>
                  <a:lnTo>
                    <a:pt x="84" y="197"/>
                  </a:lnTo>
                  <a:lnTo>
                    <a:pt x="115" y="168"/>
                  </a:lnTo>
                  <a:lnTo>
                    <a:pt x="169" y="168"/>
                  </a:lnTo>
                  <a:lnTo>
                    <a:pt x="199" y="140"/>
                  </a:lnTo>
                  <a:lnTo>
                    <a:pt x="226" y="140"/>
                  </a:lnTo>
                  <a:lnTo>
                    <a:pt x="256" y="111"/>
                  </a:lnTo>
                  <a:lnTo>
                    <a:pt x="310" y="111"/>
                  </a:lnTo>
                  <a:lnTo>
                    <a:pt x="340" y="111"/>
                  </a:lnTo>
                  <a:lnTo>
                    <a:pt x="367" y="84"/>
                  </a:lnTo>
                  <a:lnTo>
                    <a:pt x="397" y="56"/>
                  </a:lnTo>
                  <a:lnTo>
                    <a:pt x="424" y="56"/>
                  </a:lnTo>
                  <a:lnTo>
                    <a:pt x="451" y="27"/>
                  </a:lnTo>
                  <a:lnTo>
                    <a:pt x="482" y="27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49960" y="3941640"/>
              <a:ext cx="171360" cy="71640"/>
            </a:xfrm>
            <a:custGeom>
              <a:avLst/>
              <a:gdLst/>
              <a:ahLst/>
              <a:rect l="l" t="t" r="r" b="b"/>
              <a:pathLst>
                <a:path w="538" h="225">
                  <a:moveTo>
                    <a:pt x="0" y="225"/>
                  </a:moveTo>
                  <a:lnTo>
                    <a:pt x="31" y="197"/>
                  </a:lnTo>
                  <a:lnTo>
                    <a:pt x="87" y="197"/>
                  </a:lnTo>
                  <a:lnTo>
                    <a:pt x="115" y="170"/>
                  </a:lnTo>
                  <a:lnTo>
                    <a:pt x="142" y="170"/>
                  </a:lnTo>
                  <a:lnTo>
                    <a:pt x="171" y="141"/>
                  </a:lnTo>
                  <a:lnTo>
                    <a:pt x="199" y="141"/>
                  </a:lnTo>
                  <a:lnTo>
                    <a:pt x="228" y="141"/>
                  </a:lnTo>
                  <a:lnTo>
                    <a:pt x="285" y="113"/>
                  </a:lnTo>
                  <a:lnTo>
                    <a:pt x="312" y="113"/>
                  </a:lnTo>
                  <a:lnTo>
                    <a:pt x="340" y="84"/>
                  </a:lnTo>
                  <a:lnTo>
                    <a:pt x="370" y="84"/>
                  </a:lnTo>
                  <a:lnTo>
                    <a:pt x="396" y="57"/>
                  </a:lnTo>
                  <a:lnTo>
                    <a:pt x="454" y="57"/>
                  </a:lnTo>
                  <a:lnTo>
                    <a:pt x="481" y="29"/>
                  </a:lnTo>
                  <a:lnTo>
                    <a:pt x="511" y="29"/>
                  </a:lnTo>
                  <a:lnTo>
                    <a:pt x="5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13400" y="3951360"/>
              <a:ext cx="177840" cy="61920"/>
            </a:xfrm>
            <a:custGeom>
              <a:avLst/>
              <a:gdLst/>
              <a:ahLst/>
              <a:rect l="l" t="t" r="r" b="b"/>
              <a:pathLst>
                <a:path w="564" h="196">
                  <a:moveTo>
                    <a:pt x="0" y="196"/>
                  </a:moveTo>
                  <a:lnTo>
                    <a:pt x="27" y="168"/>
                  </a:lnTo>
                  <a:lnTo>
                    <a:pt x="57" y="168"/>
                  </a:lnTo>
                  <a:lnTo>
                    <a:pt x="84" y="168"/>
                  </a:lnTo>
                  <a:lnTo>
                    <a:pt x="111" y="141"/>
                  </a:lnTo>
                  <a:lnTo>
                    <a:pt x="141" y="141"/>
                  </a:lnTo>
                  <a:lnTo>
                    <a:pt x="168" y="141"/>
                  </a:lnTo>
                  <a:lnTo>
                    <a:pt x="199" y="112"/>
                  </a:lnTo>
                  <a:lnTo>
                    <a:pt x="225" y="112"/>
                  </a:lnTo>
                  <a:lnTo>
                    <a:pt x="252" y="84"/>
                  </a:lnTo>
                  <a:lnTo>
                    <a:pt x="283" y="84"/>
                  </a:lnTo>
                  <a:lnTo>
                    <a:pt x="339" y="84"/>
                  </a:lnTo>
                  <a:lnTo>
                    <a:pt x="339" y="55"/>
                  </a:lnTo>
                  <a:lnTo>
                    <a:pt x="396" y="55"/>
                  </a:lnTo>
                  <a:lnTo>
                    <a:pt x="451" y="55"/>
                  </a:lnTo>
                  <a:lnTo>
                    <a:pt x="480" y="28"/>
                  </a:lnTo>
                  <a:lnTo>
                    <a:pt x="508" y="28"/>
                  </a:lnTo>
                  <a:lnTo>
                    <a:pt x="508" y="0"/>
                  </a:lnTo>
                  <a:lnTo>
                    <a:pt x="537" y="0"/>
                  </a:lnTo>
                  <a:lnTo>
                    <a:pt x="564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683320" y="3968640"/>
              <a:ext cx="162000" cy="44640"/>
            </a:xfrm>
            <a:custGeom>
              <a:avLst/>
              <a:gdLst/>
              <a:ahLst/>
              <a:rect l="l" t="t" r="r" b="b"/>
              <a:pathLst>
                <a:path w="509" h="141">
                  <a:moveTo>
                    <a:pt x="0" y="141"/>
                  </a:moveTo>
                  <a:lnTo>
                    <a:pt x="27" y="113"/>
                  </a:lnTo>
                  <a:lnTo>
                    <a:pt x="55" y="113"/>
                  </a:lnTo>
                  <a:lnTo>
                    <a:pt x="85" y="113"/>
                  </a:lnTo>
                  <a:lnTo>
                    <a:pt x="111" y="86"/>
                  </a:lnTo>
                  <a:lnTo>
                    <a:pt x="142" y="86"/>
                  </a:lnTo>
                  <a:lnTo>
                    <a:pt x="169" y="86"/>
                  </a:lnTo>
                  <a:lnTo>
                    <a:pt x="197" y="86"/>
                  </a:lnTo>
                  <a:lnTo>
                    <a:pt x="226" y="57"/>
                  </a:lnTo>
                  <a:lnTo>
                    <a:pt x="253" y="57"/>
                  </a:lnTo>
                  <a:lnTo>
                    <a:pt x="283" y="57"/>
                  </a:lnTo>
                  <a:lnTo>
                    <a:pt x="310" y="29"/>
                  </a:lnTo>
                  <a:lnTo>
                    <a:pt x="337" y="29"/>
                  </a:lnTo>
                  <a:lnTo>
                    <a:pt x="367" y="29"/>
                  </a:lnTo>
                  <a:lnTo>
                    <a:pt x="394" y="29"/>
                  </a:lnTo>
                  <a:lnTo>
                    <a:pt x="424" y="0"/>
                  </a:lnTo>
                  <a:lnTo>
                    <a:pt x="451" y="0"/>
                  </a:lnTo>
                  <a:lnTo>
                    <a:pt x="481" y="0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641840" y="3933720"/>
              <a:ext cx="44640" cy="54000"/>
            </a:xfrm>
            <a:custGeom>
              <a:avLst/>
              <a:gdLst/>
              <a:ahLst/>
              <a:rect l="l" t="t" r="r" b="b"/>
              <a:pathLst>
                <a:path w="141" h="168">
                  <a:moveTo>
                    <a:pt x="0" y="0"/>
                  </a:moveTo>
                  <a:lnTo>
                    <a:pt x="30" y="27"/>
                  </a:lnTo>
                  <a:lnTo>
                    <a:pt x="57" y="27"/>
                  </a:lnTo>
                  <a:lnTo>
                    <a:pt x="57" y="56"/>
                  </a:lnTo>
                  <a:lnTo>
                    <a:pt x="85" y="84"/>
                  </a:lnTo>
                  <a:lnTo>
                    <a:pt x="114" y="84"/>
                  </a:lnTo>
                  <a:lnTo>
                    <a:pt x="114" y="111"/>
                  </a:lnTo>
                  <a:lnTo>
                    <a:pt x="141" y="140"/>
                  </a:lnTo>
                  <a:lnTo>
                    <a:pt x="141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678200" y="3879720"/>
              <a:ext cx="125640" cy="115920"/>
            </a:xfrm>
            <a:custGeom>
              <a:avLst/>
              <a:gdLst/>
              <a:ahLst/>
              <a:rect l="l" t="t" r="r" b="b"/>
              <a:pathLst>
                <a:path w="394" h="368">
                  <a:moveTo>
                    <a:pt x="0" y="0"/>
                  </a:moveTo>
                  <a:lnTo>
                    <a:pt x="27" y="29"/>
                  </a:lnTo>
                  <a:lnTo>
                    <a:pt x="57" y="56"/>
                  </a:lnTo>
                  <a:lnTo>
                    <a:pt x="84" y="87"/>
                  </a:lnTo>
                  <a:lnTo>
                    <a:pt x="111" y="114"/>
                  </a:lnTo>
                  <a:lnTo>
                    <a:pt x="141" y="171"/>
                  </a:lnTo>
                  <a:lnTo>
                    <a:pt x="168" y="198"/>
                  </a:lnTo>
                  <a:lnTo>
                    <a:pt x="199" y="227"/>
                  </a:lnTo>
                  <a:lnTo>
                    <a:pt x="226" y="255"/>
                  </a:lnTo>
                  <a:lnTo>
                    <a:pt x="252" y="255"/>
                  </a:lnTo>
                  <a:lnTo>
                    <a:pt x="252" y="282"/>
                  </a:lnTo>
                  <a:lnTo>
                    <a:pt x="283" y="282"/>
                  </a:lnTo>
                  <a:lnTo>
                    <a:pt x="310" y="311"/>
                  </a:lnTo>
                  <a:lnTo>
                    <a:pt x="340" y="339"/>
                  </a:lnTo>
                  <a:lnTo>
                    <a:pt x="367" y="339"/>
                  </a:lnTo>
                  <a:lnTo>
                    <a:pt x="367" y="368"/>
                  </a:lnTo>
                  <a:lnTo>
                    <a:pt x="394" y="3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730760" y="3835440"/>
              <a:ext cx="154080" cy="152280"/>
            </a:xfrm>
            <a:custGeom>
              <a:avLst/>
              <a:gdLst/>
              <a:ahLst/>
              <a:rect l="l" t="t" r="r" b="b"/>
              <a:pathLst>
                <a:path w="482" h="480">
                  <a:moveTo>
                    <a:pt x="0" y="0"/>
                  </a:moveTo>
                  <a:lnTo>
                    <a:pt x="0" y="29"/>
                  </a:lnTo>
                  <a:lnTo>
                    <a:pt x="31" y="29"/>
                  </a:lnTo>
                  <a:lnTo>
                    <a:pt x="31" y="57"/>
                  </a:lnTo>
                  <a:lnTo>
                    <a:pt x="58" y="57"/>
                  </a:lnTo>
                  <a:lnTo>
                    <a:pt x="84" y="84"/>
                  </a:lnTo>
                  <a:lnTo>
                    <a:pt x="115" y="113"/>
                  </a:lnTo>
                  <a:lnTo>
                    <a:pt x="172" y="141"/>
                  </a:lnTo>
                  <a:lnTo>
                    <a:pt x="199" y="197"/>
                  </a:lnTo>
                  <a:lnTo>
                    <a:pt x="256" y="228"/>
                  </a:lnTo>
                  <a:lnTo>
                    <a:pt x="312" y="281"/>
                  </a:lnTo>
                  <a:lnTo>
                    <a:pt x="340" y="339"/>
                  </a:lnTo>
                  <a:lnTo>
                    <a:pt x="396" y="368"/>
                  </a:lnTo>
                  <a:lnTo>
                    <a:pt x="454" y="423"/>
                  </a:lnTo>
                  <a:lnTo>
                    <a:pt x="482" y="4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776840" y="3762360"/>
              <a:ext cx="250920" cy="24300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13200" y="3673440"/>
              <a:ext cx="81000" cy="88920"/>
            </a:xfrm>
            <a:custGeom>
              <a:avLst/>
              <a:gdLst/>
              <a:ahLst/>
              <a:rect l="l" t="t" r="r" b="b"/>
              <a:pathLst>
                <a:path w="255" h="281">
                  <a:moveTo>
                    <a:pt x="0" y="0"/>
                  </a:moveTo>
                  <a:lnTo>
                    <a:pt x="27" y="26"/>
                  </a:lnTo>
                  <a:lnTo>
                    <a:pt x="56" y="84"/>
                  </a:lnTo>
                  <a:lnTo>
                    <a:pt x="84" y="113"/>
                  </a:lnTo>
                  <a:lnTo>
                    <a:pt x="114" y="140"/>
                  </a:lnTo>
                  <a:lnTo>
                    <a:pt x="168" y="197"/>
                  </a:lnTo>
                  <a:lnTo>
                    <a:pt x="198" y="224"/>
                  </a:lnTo>
                  <a:lnTo>
                    <a:pt x="226" y="254"/>
                  </a:lnTo>
                  <a:lnTo>
                    <a:pt x="255" y="2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8120" y="3637080"/>
              <a:ext cx="81000" cy="81000"/>
            </a:xfrm>
            <a:custGeom>
              <a:avLst/>
              <a:gdLst/>
              <a:ahLst/>
              <a:rect l="l" t="t" r="r" b="b"/>
              <a:pathLst>
                <a:path w="252" h="255">
                  <a:moveTo>
                    <a:pt x="0" y="0"/>
                  </a:moveTo>
                  <a:lnTo>
                    <a:pt x="26" y="30"/>
                  </a:lnTo>
                  <a:lnTo>
                    <a:pt x="54" y="57"/>
                  </a:lnTo>
                  <a:lnTo>
                    <a:pt x="84" y="84"/>
                  </a:lnTo>
                  <a:lnTo>
                    <a:pt x="141" y="115"/>
                  </a:lnTo>
                  <a:lnTo>
                    <a:pt x="168" y="171"/>
                  </a:lnTo>
                  <a:lnTo>
                    <a:pt x="196" y="199"/>
                  </a:lnTo>
                  <a:lnTo>
                    <a:pt x="225" y="228"/>
                  </a:lnTo>
                  <a:lnTo>
                    <a:pt x="252" y="2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19760" y="3610080"/>
              <a:ext cx="63360" cy="63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991040" y="3610080"/>
              <a:ext cx="55800" cy="46080"/>
            </a:xfrm>
            <a:custGeom>
              <a:avLst/>
              <a:gdLst/>
              <a:ahLst/>
              <a:rect l="l" t="t" r="r" b="b"/>
              <a:pathLst>
                <a:path w="171" h="141">
                  <a:moveTo>
                    <a:pt x="0" y="0"/>
                  </a:moveTo>
                  <a:lnTo>
                    <a:pt x="27" y="28"/>
                  </a:lnTo>
                  <a:lnTo>
                    <a:pt x="58" y="57"/>
                  </a:lnTo>
                  <a:lnTo>
                    <a:pt x="85" y="84"/>
                  </a:lnTo>
                  <a:lnTo>
                    <a:pt x="85" y="114"/>
                  </a:lnTo>
                  <a:lnTo>
                    <a:pt x="115" y="114"/>
                  </a:lnTo>
                  <a:lnTo>
                    <a:pt x="142" y="141"/>
                  </a:lnTo>
                  <a:lnTo>
                    <a:pt x="171" y="1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091120" y="3602160"/>
              <a:ext cx="34920" cy="44280"/>
            </a:xfrm>
            <a:custGeom>
              <a:avLst/>
              <a:gdLst/>
              <a:ahLst/>
              <a:rect l="l" t="t" r="r" b="b"/>
              <a:pathLst>
                <a:path w="112" h="141">
                  <a:moveTo>
                    <a:pt x="0" y="0"/>
                  </a:moveTo>
                  <a:lnTo>
                    <a:pt x="27" y="27"/>
                  </a:lnTo>
                  <a:lnTo>
                    <a:pt x="54" y="55"/>
                  </a:lnTo>
                  <a:lnTo>
                    <a:pt x="54" y="84"/>
                  </a:lnTo>
                  <a:lnTo>
                    <a:pt x="84" y="84"/>
                  </a:lnTo>
                  <a:lnTo>
                    <a:pt x="84" y="111"/>
                  </a:lnTo>
                  <a:lnTo>
                    <a:pt x="112" y="111"/>
                  </a:lnTo>
                  <a:lnTo>
                    <a:pt x="112" y="1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46840" y="3924360"/>
              <a:ext cx="98280" cy="81000"/>
            </a:xfrm>
            <a:custGeom>
              <a:avLst/>
              <a:gdLst/>
              <a:ahLst/>
              <a:rect l="l" t="t" r="r" b="b"/>
              <a:pathLst>
                <a:path w="310" h="255">
                  <a:moveTo>
                    <a:pt x="0" y="0"/>
                  </a:moveTo>
                  <a:lnTo>
                    <a:pt x="28" y="31"/>
                  </a:lnTo>
                  <a:lnTo>
                    <a:pt x="84" y="58"/>
                  </a:lnTo>
                  <a:lnTo>
                    <a:pt x="112" y="87"/>
                  </a:lnTo>
                  <a:lnTo>
                    <a:pt x="142" y="115"/>
                  </a:lnTo>
                  <a:lnTo>
                    <a:pt x="196" y="171"/>
                  </a:lnTo>
                  <a:lnTo>
                    <a:pt x="226" y="199"/>
                  </a:lnTo>
                  <a:lnTo>
                    <a:pt x="254" y="228"/>
                  </a:lnTo>
                  <a:lnTo>
                    <a:pt x="310" y="2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145120" y="3924360"/>
              <a:ext cx="125280" cy="108000"/>
            </a:xfrm>
            <a:custGeom>
              <a:avLst/>
              <a:gdLst/>
              <a:ahLst/>
              <a:rect l="l" t="t" r="r" b="b"/>
              <a:pathLst>
                <a:path w="397" h="339">
                  <a:moveTo>
                    <a:pt x="0" y="0"/>
                  </a:moveTo>
                  <a:lnTo>
                    <a:pt x="28" y="31"/>
                  </a:lnTo>
                  <a:lnTo>
                    <a:pt x="85" y="87"/>
                  </a:lnTo>
                  <a:lnTo>
                    <a:pt x="141" y="115"/>
                  </a:lnTo>
                  <a:lnTo>
                    <a:pt x="198" y="171"/>
                  </a:lnTo>
                  <a:lnTo>
                    <a:pt x="225" y="199"/>
                  </a:lnTo>
                  <a:lnTo>
                    <a:pt x="282" y="255"/>
                  </a:lnTo>
                  <a:lnTo>
                    <a:pt x="340" y="283"/>
                  </a:lnTo>
                  <a:lnTo>
                    <a:pt x="397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61040" y="3924360"/>
              <a:ext cx="117360" cy="98280"/>
            </a:xfrm>
            <a:custGeom>
              <a:avLst/>
              <a:gdLst/>
              <a:ahLst/>
              <a:rect l="l" t="t" r="r" b="b"/>
              <a:pathLst>
                <a:path w="369" h="312">
                  <a:moveTo>
                    <a:pt x="0" y="0"/>
                  </a:moveTo>
                  <a:lnTo>
                    <a:pt x="57" y="31"/>
                  </a:lnTo>
                  <a:lnTo>
                    <a:pt x="114" y="58"/>
                  </a:lnTo>
                  <a:lnTo>
                    <a:pt x="141" y="115"/>
                  </a:lnTo>
                  <a:lnTo>
                    <a:pt x="198" y="142"/>
                  </a:lnTo>
                  <a:lnTo>
                    <a:pt x="255" y="199"/>
                  </a:lnTo>
                  <a:lnTo>
                    <a:pt x="282" y="228"/>
                  </a:lnTo>
                  <a:lnTo>
                    <a:pt x="340" y="283"/>
                  </a:lnTo>
                  <a:lnTo>
                    <a:pt x="369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361120" y="3924360"/>
              <a:ext cx="106200" cy="98280"/>
            </a:xfrm>
            <a:custGeom>
              <a:avLst/>
              <a:gdLst/>
              <a:ahLst/>
              <a:rect l="l" t="t" r="r" b="b"/>
              <a:pathLst>
                <a:path w="339" h="312">
                  <a:moveTo>
                    <a:pt x="0" y="0"/>
                  </a:moveTo>
                  <a:lnTo>
                    <a:pt x="56" y="58"/>
                  </a:lnTo>
                  <a:lnTo>
                    <a:pt x="84" y="87"/>
                  </a:lnTo>
                  <a:lnTo>
                    <a:pt x="140" y="115"/>
                  </a:lnTo>
                  <a:lnTo>
                    <a:pt x="168" y="142"/>
                  </a:lnTo>
                  <a:lnTo>
                    <a:pt x="224" y="199"/>
                  </a:lnTo>
                  <a:lnTo>
                    <a:pt x="254" y="228"/>
                  </a:lnTo>
                  <a:lnTo>
                    <a:pt x="309" y="255"/>
                  </a:lnTo>
                  <a:lnTo>
                    <a:pt x="339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77040" y="3933720"/>
              <a:ext cx="125280" cy="88920"/>
            </a:xfrm>
            <a:custGeom>
              <a:avLst/>
              <a:gdLst/>
              <a:ahLst/>
              <a:rect l="l" t="t" r="r" b="b"/>
              <a:pathLst>
                <a:path w="398" h="281">
                  <a:moveTo>
                    <a:pt x="0" y="0"/>
                  </a:moveTo>
                  <a:lnTo>
                    <a:pt x="58" y="27"/>
                  </a:lnTo>
                  <a:lnTo>
                    <a:pt x="115" y="56"/>
                  </a:lnTo>
                  <a:lnTo>
                    <a:pt x="172" y="84"/>
                  </a:lnTo>
                  <a:lnTo>
                    <a:pt x="226" y="140"/>
                  </a:lnTo>
                  <a:lnTo>
                    <a:pt x="283" y="168"/>
                  </a:lnTo>
                  <a:lnTo>
                    <a:pt x="314" y="197"/>
                  </a:lnTo>
                  <a:lnTo>
                    <a:pt x="367" y="252"/>
                  </a:lnTo>
                  <a:lnTo>
                    <a:pt x="398" y="2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602320" y="3941640"/>
              <a:ext cx="108000" cy="71640"/>
            </a:xfrm>
            <a:custGeom>
              <a:avLst/>
              <a:gdLst/>
              <a:ahLst/>
              <a:rect l="l" t="t" r="r" b="b"/>
              <a:pathLst>
                <a:path w="339" h="225">
                  <a:moveTo>
                    <a:pt x="0" y="0"/>
                  </a:moveTo>
                  <a:lnTo>
                    <a:pt x="56" y="29"/>
                  </a:lnTo>
                  <a:lnTo>
                    <a:pt x="84" y="57"/>
                  </a:lnTo>
                  <a:lnTo>
                    <a:pt x="140" y="84"/>
                  </a:lnTo>
                  <a:lnTo>
                    <a:pt x="168" y="113"/>
                  </a:lnTo>
                  <a:lnTo>
                    <a:pt x="225" y="141"/>
                  </a:lnTo>
                  <a:lnTo>
                    <a:pt x="254" y="170"/>
                  </a:lnTo>
                  <a:lnTo>
                    <a:pt x="309" y="197"/>
                  </a:lnTo>
                  <a:lnTo>
                    <a:pt x="339" y="2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718240" y="3941640"/>
              <a:ext cx="117360" cy="81000"/>
            </a:xfrm>
            <a:custGeom>
              <a:avLst/>
              <a:gdLst/>
              <a:ahLst/>
              <a:rect l="l" t="t" r="r" b="b"/>
              <a:pathLst>
                <a:path w="370" h="254">
                  <a:moveTo>
                    <a:pt x="0" y="0"/>
                  </a:moveTo>
                  <a:lnTo>
                    <a:pt x="31" y="57"/>
                  </a:lnTo>
                  <a:lnTo>
                    <a:pt x="86" y="84"/>
                  </a:lnTo>
                  <a:lnTo>
                    <a:pt x="115" y="113"/>
                  </a:lnTo>
                  <a:lnTo>
                    <a:pt x="172" y="141"/>
                  </a:lnTo>
                  <a:lnTo>
                    <a:pt x="226" y="170"/>
                  </a:lnTo>
                  <a:lnTo>
                    <a:pt x="283" y="197"/>
                  </a:lnTo>
                  <a:lnTo>
                    <a:pt x="340" y="225"/>
                  </a:lnTo>
                  <a:lnTo>
                    <a:pt x="370" y="25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08600" y="3941640"/>
              <a:ext cx="117360" cy="71640"/>
            </a:xfrm>
            <a:custGeom>
              <a:avLst/>
              <a:gdLst/>
              <a:ahLst/>
              <a:rect l="l" t="t" r="r" b="b"/>
              <a:pathLst>
                <a:path w="369" h="225">
                  <a:moveTo>
                    <a:pt x="0" y="0"/>
                  </a:moveTo>
                  <a:lnTo>
                    <a:pt x="30" y="29"/>
                  </a:lnTo>
                  <a:lnTo>
                    <a:pt x="57" y="29"/>
                  </a:lnTo>
                  <a:lnTo>
                    <a:pt x="87" y="57"/>
                  </a:lnTo>
                  <a:lnTo>
                    <a:pt x="115" y="84"/>
                  </a:lnTo>
                  <a:lnTo>
                    <a:pt x="141" y="113"/>
                  </a:lnTo>
                  <a:lnTo>
                    <a:pt x="172" y="113"/>
                  </a:lnTo>
                  <a:lnTo>
                    <a:pt x="199" y="141"/>
                  </a:lnTo>
                  <a:lnTo>
                    <a:pt x="228" y="141"/>
                  </a:lnTo>
                  <a:lnTo>
                    <a:pt x="256" y="170"/>
                  </a:lnTo>
                  <a:lnTo>
                    <a:pt x="283" y="197"/>
                  </a:lnTo>
                  <a:lnTo>
                    <a:pt x="312" y="225"/>
                  </a:lnTo>
                  <a:lnTo>
                    <a:pt x="340" y="225"/>
                  </a:lnTo>
                  <a:lnTo>
                    <a:pt x="369" y="2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34240" y="3951360"/>
              <a:ext cx="161640" cy="81000"/>
            </a:xfrm>
            <a:custGeom>
              <a:avLst/>
              <a:gdLst/>
              <a:ahLst/>
              <a:rect l="l" t="t" r="r" b="b"/>
              <a:pathLst>
                <a:path w="508" h="252">
                  <a:moveTo>
                    <a:pt x="0" y="0"/>
                  </a:moveTo>
                  <a:lnTo>
                    <a:pt x="28" y="0"/>
                  </a:lnTo>
                  <a:lnTo>
                    <a:pt x="58" y="28"/>
                  </a:lnTo>
                  <a:lnTo>
                    <a:pt x="85" y="28"/>
                  </a:lnTo>
                  <a:lnTo>
                    <a:pt x="115" y="28"/>
                  </a:lnTo>
                  <a:lnTo>
                    <a:pt x="142" y="28"/>
                  </a:lnTo>
                  <a:lnTo>
                    <a:pt x="169" y="55"/>
                  </a:lnTo>
                  <a:lnTo>
                    <a:pt x="199" y="55"/>
                  </a:lnTo>
                  <a:lnTo>
                    <a:pt x="226" y="84"/>
                  </a:lnTo>
                  <a:lnTo>
                    <a:pt x="256" y="112"/>
                  </a:lnTo>
                  <a:lnTo>
                    <a:pt x="283" y="141"/>
                  </a:lnTo>
                  <a:lnTo>
                    <a:pt x="340" y="141"/>
                  </a:lnTo>
                  <a:lnTo>
                    <a:pt x="367" y="168"/>
                  </a:lnTo>
                  <a:lnTo>
                    <a:pt x="397" y="196"/>
                  </a:lnTo>
                  <a:lnTo>
                    <a:pt x="424" y="225"/>
                  </a:lnTo>
                  <a:lnTo>
                    <a:pt x="455" y="225"/>
                  </a:lnTo>
                  <a:lnTo>
                    <a:pt x="482" y="252"/>
                  </a:lnTo>
                  <a:lnTo>
                    <a:pt x="508" y="25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059520" y="3924360"/>
              <a:ext cx="243000" cy="133200"/>
            </a:xfrm>
            <a:custGeom>
              <a:avLst/>
              <a:gdLst/>
              <a:ahLst/>
              <a:rect l="l" t="t" r="r" b="b"/>
              <a:pathLst>
                <a:path w="763" h="423">
                  <a:moveTo>
                    <a:pt x="0" y="0"/>
                  </a:moveTo>
                  <a:lnTo>
                    <a:pt x="27" y="31"/>
                  </a:lnTo>
                  <a:lnTo>
                    <a:pt x="85" y="31"/>
                  </a:lnTo>
                  <a:lnTo>
                    <a:pt x="111" y="58"/>
                  </a:lnTo>
                  <a:lnTo>
                    <a:pt x="169" y="87"/>
                  </a:lnTo>
                  <a:lnTo>
                    <a:pt x="198" y="115"/>
                  </a:lnTo>
                  <a:lnTo>
                    <a:pt x="253" y="142"/>
                  </a:lnTo>
                  <a:lnTo>
                    <a:pt x="310" y="171"/>
                  </a:lnTo>
                  <a:lnTo>
                    <a:pt x="339" y="199"/>
                  </a:lnTo>
                  <a:lnTo>
                    <a:pt x="394" y="228"/>
                  </a:lnTo>
                  <a:lnTo>
                    <a:pt x="423" y="255"/>
                  </a:lnTo>
                  <a:lnTo>
                    <a:pt x="481" y="283"/>
                  </a:lnTo>
                  <a:lnTo>
                    <a:pt x="508" y="312"/>
                  </a:lnTo>
                  <a:lnTo>
                    <a:pt x="565" y="339"/>
                  </a:lnTo>
                  <a:lnTo>
                    <a:pt x="622" y="370"/>
                  </a:lnTo>
                  <a:lnTo>
                    <a:pt x="649" y="370"/>
                  </a:lnTo>
                  <a:lnTo>
                    <a:pt x="706" y="397"/>
                  </a:lnTo>
                  <a:lnTo>
                    <a:pt x="733" y="397"/>
                  </a:lnTo>
                  <a:lnTo>
                    <a:pt x="733" y="423"/>
                  </a:lnTo>
                  <a:lnTo>
                    <a:pt x="763" y="4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149880" y="3870360"/>
              <a:ext cx="196920" cy="135000"/>
            </a:xfrm>
            <a:custGeom>
              <a:avLst/>
              <a:gdLst/>
              <a:ahLst/>
              <a:rect l="l" t="t" r="r" b="b"/>
              <a:pathLst>
                <a:path w="623" h="423">
                  <a:moveTo>
                    <a:pt x="0" y="0"/>
                  </a:moveTo>
                  <a:lnTo>
                    <a:pt x="28" y="28"/>
                  </a:lnTo>
                  <a:lnTo>
                    <a:pt x="57" y="28"/>
                  </a:lnTo>
                  <a:lnTo>
                    <a:pt x="85" y="57"/>
                  </a:lnTo>
                  <a:lnTo>
                    <a:pt x="112" y="84"/>
                  </a:lnTo>
                  <a:lnTo>
                    <a:pt x="169" y="115"/>
                  </a:lnTo>
                  <a:lnTo>
                    <a:pt x="199" y="142"/>
                  </a:lnTo>
                  <a:lnTo>
                    <a:pt x="226" y="168"/>
                  </a:lnTo>
                  <a:lnTo>
                    <a:pt x="256" y="199"/>
                  </a:lnTo>
                  <a:lnTo>
                    <a:pt x="283" y="199"/>
                  </a:lnTo>
                  <a:lnTo>
                    <a:pt x="311" y="226"/>
                  </a:lnTo>
                  <a:lnTo>
                    <a:pt x="367" y="255"/>
                  </a:lnTo>
                  <a:lnTo>
                    <a:pt x="397" y="283"/>
                  </a:lnTo>
                  <a:lnTo>
                    <a:pt x="424" y="283"/>
                  </a:lnTo>
                  <a:lnTo>
                    <a:pt x="451" y="310"/>
                  </a:lnTo>
                  <a:lnTo>
                    <a:pt x="481" y="339"/>
                  </a:lnTo>
                  <a:lnTo>
                    <a:pt x="508" y="339"/>
                  </a:lnTo>
                  <a:lnTo>
                    <a:pt x="508" y="367"/>
                  </a:lnTo>
                  <a:lnTo>
                    <a:pt x="539" y="367"/>
                  </a:lnTo>
                  <a:lnTo>
                    <a:pt x="566" y="396"/>
                  </a:lnTo>
                  <a:lnTo>
                    <a:pt x="592" y="396"/>
                  </a:lnTo>
                  <a:lnTo>
                    <a:pt x="592" y="423"/>
                  </a:lnTo>
                  <a:lnTo>
                    <a:pt x="623" y="4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162400" y="3592440"/>
              <a:ext cx="44640" cy="44640"/>
            </a:xfrm>
            <a:custGeom>
              <a:avLst/>
              <a:gdLst/>
              <a:ahLst/>
              <a:rect l="l" t="t" r="r" b="b"/>
              <a:pathLst>
                <a:path w="141" h="140">
                  <a:moveTo>
                    <a:pt x="0" y="0"/>
                  </a:moveTo>
                  <a:lnTo>
                    <a:pt x="0" y="29"/>
                  </a:lnTo>
                  <a:lnTo>
                    <a:pt x="28" y="29"/>
                  </a:lnTo>
                  <a:lnTo>
                    <a:pt x="28" y="56"/>
                  </a:lnTo>
                  <a:lnTo>
                    <a:pt x="57" y="56"/>
                  </a:lnTo>
                  <a:lnTo>
                    <a:pt x="84" y="84"/>
                  </a:lnTo>
                  <a:lnTo>
                    <a:pt x="112" y="113"/>
                  </a:lnTo>
                  <a:lnTo>
                    <a:pt x="141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234040" y="3592440"/>
              <a:ext cx="71280" cy="44640"/>
            </a:xfrm>
            <a:custGeom>
              <a:avLst/>
              <a:gdLst/>
              <a:ahLst/>
              <a:rect l="l" t="t" r="r" b="b"/>
              <a:pathLst>
                <a:path w="226" h="140">
                  <a:moveTo>
                    <a:pt x="0" y="0"/>
                  </a:moveTo>
                  <a:lnTo>
                    <a:pt x="31" y="0"/>
                  </a:lnTo>
                  <a:lnTo>
                    <a:pt x="58" y="29"/>
                  </a:lnTo>
                  <a:lnTo>
                    <a:pt x="85" y="56"/>
                  </a:lnTo>
                  <a:lnTo>
                    <a:pt x="115" y="56"/>
                  </a:lnTo>
                  <a:lnTo>
                    <a:pt x="142" y="84"/>
                  </a:lnTo>
                  <a:lnTo>
                    <a:pt x="172" y="113"/>
                  </a:lnTo>
                  <a:lnTo>
                    <a:pt x="199" y="113"/>
                  </a:lnTo>
                  <a:lnTo>
                    <a:pt x="226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334120" y="3592440"/>
              <a:ext cx="88920" cy="54000"/>
            </a:xfrm>
            <a:custGeom>
              <a:avLst/>
              <a:gdLst/>
              <a:ahLst/>
              <a:rect l="l" t="t" r="r" b="b"/>
              <a:pathLst>
                <a:path w="282" h="170">
                  <a:moveTo>
                    <a:pt x="0" y="0"/>
                  </a:moveTo>
                  <a:lnTo>
                    <a:pt x="27" y="29"/>
                  </a:lnTo>
                  <a:lnTo>
                    <a:pt x="85" y="29"/>
                  </a:lnTo>
                  <a:lnTo>
                    <a:pt x="112" y="56"/>
                  </a:lnTo>
                  <a:lnTo>
                    <a:pt x="141" y="84"/>
                  </a:lnTo>
                  <a:lnTo>
                    <a:pt x="196" y="113"/>
                  </a:lnTo>
                  <a:lnTo>
                    <a:pt x="225" y="140"/>
                  </a:lnTo>
                  <a:lnTo>
                    <a:pt x="253" y="170"/>
                  </a:lnTo>
                  <a:lnTo>
                    <a:pt x="282" y="1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40320" y="3602160"/>
              <a:ext cx="90360" cy="54000"/>
            </a:xfrm>
            <a:custGeom>
              <a:avLst/>
              <a:gdLst/>
              <a:ahLst/>
              <a:rect l="l" t="t" r="r" b="b"/>
              <a:pathLst>
                <a:path w="283" h="168">
                  <a:moveTo>
                    <a:pt x="0" y="0"/>
                  </a:moveTo>
                  <a:lnTo>
                    <a:pt x="27" y="27"/>
                  </a:lnTo>
                  <a:lnTo>
                    <a:pt x="55" y="27"/>
                  </a:lnTo>
                  <a:lnTo>
                    <a:pt x="111" y="55"/>
                  </a:lnTo>
                  <a:lnTo>
                    <a:pt x="142" y="55"/>
                  </a:lnTo>
                  <a:lnTo>
                    <a:pt x="196" y="84"/>
                  </a:lnTo>
                  <a:lnTo>
                    <a:pt x="226" y="111"/>
                  </a:lnTo>
                  <a:lnTo>
                    <a:pt x="253" y="141"/>
                  </a:lnTo>
                  <a:lnTo>
                    <a:pt x="283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575320" y="3619440"/>
              <a:ext cx="98280" cy="44640"/>
            </a:xfrm>
            <a:custGeom>
              <a:avLst/>
              <a:gdLst/>
              <a:ahLst/>
              <a:rect l="l" t="t" r="r" b="b"/>
              <a:pathLst>
                <a:path w="309" h="140">
                  <a:moveTo>
                    <a:pt x="0" y="0"/>
                  </a:moveTo>
                  <a:lnTo>
                    <a:pt x="26" y="0"/>
                  </a:lnTo>
                  <a:lnTo>
                    <a:pt x="84" y="29"/>
                  </a:lnTo>
                  <a:lnTo>
                    <a:pt x="110" y="29"/>
                  </a:lnTo>
                  <a:lnTo>
                    <a:pt x="168" y="56"/>
                  </a:lnTo>
                  <a:lnTo>
                    <a:pt x="197" y="56"/>
                  </a:lnTo>
                  <a:lnTo>
                    <a:pt x="252" y="86"/>
                  </a:lnTo>
                  <a:lnTo>
                    <a:pt x="281" y="113"/>
                  </a:lnTo>
                  <a:lnTo>
                    <a:pt x="309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4880" y="3646440"/>
              <a:ext cx="385920" cy="152280"/>
            </a:xfrm>
            <a:custGeom>
              <a:avLst/>
              <a:gdLst/>
              <a:ahLst/>
              <a:rect l="l" t="t" r="r" b="b"/>
              <a:pathLst>
                <a:path w="1214" h="481">
                  <a:moveTo>
                    <a:pt x="0" y="0"/>
                  </a:moveTo>
                  <a:lnTo>
                    <a:pt x="27" y="0"/>
                  </a:lnTo>
                  <a:lnTo>
                    <a:pt x="57" y="27"/>
                  </a:lnTo>
                  <a:lnTo>
                    <a:pt x="84" y="27"/>
                  </a:lnTo>
                  <a:lnTo>
                    <a:pt x="111" y="54"/>
                  </a:lnTo>
                  <a:lnTo>
                    <a:pt x="141" y="54"/>
                  </a:lnTo>
                  <a:lnTo>
                    <a:pt x="168" y="85"/>
                  </a:lnTo>
                  <a:lnTo>
                    <a:pt x="199" y="85"/>
                  </a:lnTo>
                  <a:lnTo>
                    <a:pt x="226" y="111"/>
                  </a:lnTo>
                  <a:lnTo>
                    <a:pt x="283" y="141"/>
                  </a:lnTo>
                  <a:lnTo>
                    <a:pt x="339" y="169"/>
                  </a:lnTo>
                  <a:lnTo>
                    <a:pt x="423" y="198"/>
                  </a:lnTo>
                  <a:lnTo>
                    <a:pt x="480" y="225"/>
                  </a:lnTo>
                  <a:lnTo>
                    <a:pt x="535" y="253"/>
                  </a:lnTo>
                  <a:lnTo>
                    <a:pt x="592" y="253"/>
                  </a:lnTo>
                  <a:lnTo>
                    <a:pt x="622" y="282"/>
                  </a:lnTo>
                  <a:lnTo>
                    <a:pt x="649" y="282"/>
                  </a:lnTo>
                  <a:lnTo>
                    <a:pt x="706" y="309"/>
                  </a:lnTo>
                  <a:lnTo>
                    <a:pt x="734" y="309"/>
                  </a:lnTo>
                  <a:lnTo>
                    <a:pt x="763" y="309"/>
                  </a:lnTo>
                  <a:lnTo>
                    <a:pt x="820" y="339"/>
                  </a:lnTo>
                  <a:lnTo>
                    <a:pt x="847" y="339"/>
                  </a:lnTo>
                  <a:lnTo>
                    <a:pt x="874" y="366"/>
                  </a:lnTo>
                  <a:lnTo>
                    <a:pt x="931" y="366"/>
                  </a:lnTo>
                  <a:lnTo>
                    <a:pt x="962" y="393"/>
                  </a:lnTo>
                  <a:lnTo>
                    <a:pt x="989" y="393"/>
                  </a:lnTo>
                  <a:lnTo>
                    <a:pt x="1046" y="424"/>
                  </a:lnTo>
                  <a:lnTo>
                    <a:pt x="1073" y="424"/>
                  </a:lnTo>
                  <a:lnTo>
                    <a:pt x="1103" y="450"/>
                  </a:lnTo>
                  <a:lnTo>
                    <a:pt x="1157" y="450"/>
                  </a:lnTo>
                  <a:lnTo>
                    <a:pt x="1187" y="450"/>
                  </a:lnTo>
                  <a:lnTo>
                    <a:pt x="1214" y="4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167520" y="3781440"/>
              <a:ext cx="225360" cy="98280"/>
            </a:xfrm>
            <a:custGeom>
              <a:avLst/>
              <a:gdLst/>
              <a:ahLst/>
              <a:rect l="l" t="t" r="r" b="b"/>
              <a:pathLst>
                <a:path w="707" h="309">
                  <a:moveTo>
                    <a:pt x="0" y="0"/>
                  </a:moveTo>
                  <a:lnTo>
                    <a:pt x="28" y="0"/>
                  </a:lnTo>
                  <a:lnTo>
                    <a:pt x="84" y="26"/>
                  </a:lnTo>
                  <a:lnTo>
                    <a:pt x="112" y="57"/>
                  </a:lnTo>
                  <a:lnTo>
                    <a:pt x="169" y="84"/>
                  </a:lnTo>
                  <a:lnTo>
                    <a:pt x="199" y="84"/>
                  </a:lnTo>
                  <a:lnTo>
                    <a:pt x="254" y="110"/>
                  </a:lnTo>
                  <a:lnTo>
                    <a:pt x="283" y="141"/>
                  </a:lnTo>
                  <a:lnTo>
                    <a:pt x="340" y="168"/>
                  </a:lnTo>
                  <a:lnTo>
                    <a:pt x="367" y="168"/>
                  </a:lnTo>
                  <a:lnTo>
                    <a:pt x="424" y="197"/>
                  </a:lnTo>
                  <a:lnTo>
                    <a:pt x="451" y="225"/>
                  </a:lnTo>
                  <a:lnTo>
                    <a:pt x="509" y="225"/>
                  </a:lnTo>
                  <a:lnTo>
                    <a:pt x="566" y="252"/>
                  </a:lnTo>
                  <a:lnTo>
                    <a:pt x="593" y="252"/>
                  </a:lnTo>
                  <a:lnTo>
                    <a:pt x="650" y="281"/>
                  </a:lnTo>
                  <a:lnTo>
                    <a:pt x="677" y="281"/>
                  </a:lnTo>
                  <a:lnTo>
                    <a:pt x="707" y="281"/>
                  </a:lnTo>
                  <a:lnTo>
                    <a:pt x="707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132600" y="3637080"/>
              <a:ext cx="277560" cy="117360"/>
            </a:xfrm>
            <a:custGeom>
              <a:avLst/>
              <a:gdLst/>
              <a:ahLst/>
              <a:rect l="l" t="t" r="r" b="b"/>
              <a:pathLst>
                <a:path w="876" h="369">
                  <a:moveTo>
                    <a:pt x="0" y="0"/>
                  </a:moveTo>
                  <a:lnTo>
                    <a:pt x="27" y="30"/>
                  </a:lnTo>
                  <a:lnTo>
                    <a:pt x="84" y="30"/>
                  </a:lnTo>
                  <a:lnTo>
                    <a:pt x="113" y="57"/>
                  </a:lnTo>
                  <a:lnTo>
                    <a:pt x="141" y="84"/>
                  </a:lnTo>
                  <a:lnTo>
                    <a:pt x="197" y="84"/>
                  </a:lnTo>
                  <a:lnTo>
                    <a:pt x="225" y="115"/>
                  </a:lnTo>
                  <a:lnTo>
                    <a:pt x="255" y="115"/>
                  </a:lnTo>
                  <a:lnTo>
                    <a:pt x="312" y="141"/>
                  </a:lnTo>
                  <a:lnTo>
                    <a:pt x="339" y="141"/>
                  </a:lnTo>
                  <a:lnTo>
                    <a:pt x="367" y="171"/>
                  </a:lnTo>
                  <a:lnTo>
                    <a:pt x="423" y="171"/>
                  </a:lnTo>
                  <a:lnTo>
                    <a:pt x="453" y="199"/>
                  </a:lnTo>
                  <a:lnTo>
                    <a:pt x="480" y="199"/>
                  </a:lnTo>
                  <a:lnTo>
                    <a:pt x="537" y="228"/>
                  </a:lnTo>
                  <a:lnTo>
                    <a:pt x="564" y="228"/>
                  </a:lnTo>
                  <a:lnTo>
                    <a:pt x="595" y="255"/>
                  </a:lnTo>
                  <a:lnTo>
                    <a:pt x="622" y="255"/>
                  </a:lnTo>
                  <a:lnTo>
                    <a:pt x="679" y="283"/>
                  </a:lnTo>
                  <a:lnTo>
                    <a:pt x="706" y="312"/>
                  </a:lnTo>
                  <a:lnTo>
                    <a:pt x="736" y="312"/>
                  </a:lnTo>
                  <a:lnTo>
                    <a:pt x="790" y="339"/>
                  </a:lnTo>
                  <a:lnTo>
                    <a:pt x="820" y="339"/>
                  </a:lnTo>
                  <a:lnTo>
                    <a:pt x="847" y="369"/>
                  </a:lnTo>
                  <a:lnTo>
                    <a:pt x="876" y="36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275520" y="3656160"/>
              <a:ext cx="117360" cy="44280"/>
            </a:xfrm>
            <a:custGeom>
              <a:avLst/>
              <a:gdLst/>
              <a:ahLst/>
              <a:rect l="l" t="t" r="r" b="b"/>
              <a:pathLst>
                <a:path w="367" h="142">
                  <a:moveTo>
                    <a:pt x="367" y="142"/>
                  </a:moveTo>
                  <a:lnTo>
                    <a:pt x="337" y="142"/>
                  </a:lnTo>
                  <a:lnTo>
                    <a:pt x="310" y="142"/>
                  </a:lnTo>
                  <a:lnTo>
                    <a:pt x="283" y="142"/>
                  </a:lnTo>
                  <a:lnTo>
                    <a:pt x="253" y="142"/>
                  </a:lnTo>
                  <a:lnTo>
                    <a:pt x="226" y="114"/>
                  </a:lnTo>
                  <a:lnTo>
                    <a:pt x="195" y="114"/>
                  </a:lnTo>
                  <a:lnTo>
                    <a:pt x="169" y="114"/>
                  </a:lnTo>
                  <a:lnTo>
                    <a:pt x="142" y="84"/>
                  </a:lnTo>
                  <a:lnTo>
                    <a:pt x="111" y="84"/>
                  </a:lnTo>
                  <a:lnTo>
                    <a:pt x="84" y="58"/>
                  </a:lnTo>
                  <a:lnTo>
                    <a:pt x="54" y="58"/>
                  </a:lnTo>
                  <a:lnTo>
                    <a:pt x="27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506840" y="3727440"/>
              <a:ext cx="1903320" cy="673200"/>
            </a:xfrm>
            <a:custGeom>
              <a:avLst/>
              <a:gdLst/>
              <a:ahLst/>
              <a:rect l="l" t="t" r="r" b="b"/>
              <a:pathLst>
                <a:path w="5992" h="2119">
                  <a:moveTo>
                    <a:pt x="705" y="339"/>
                  </a:moveTo>
                  <a:lnTo>
                    <a:pt x="678" y="368"/>
                  </a:lnTo>
                  <a:lnTo>
                    <a:pt x="648" y="423"/>
                  </a:lnTo>
                  <a:lnTo>
                    <a:pt x="594" y="480"/>
                  </a:lnTo>
                  <a:lnTo>
                    <a:pt x="564" y="536"/>
                  </a:lnTo>
                  <a:lnTo>
                    <a:pt x="508" y="567"/>
                  </a:lnTo>
                  <a:lnTo>
                    <a:pt x="453" y="620"/>
                  </a:lnTo>
                  <a:lnTo>
                    <a:pt x="423" y="678"/>
                  </a:lnTo>
                  <a:lnTo>
                    <a:pt x="366" y="735"/>
                  </a:lnTo>
                  <a:lnTo>
                    <a:pt x="312" y="762"/>
                  </a:lnTo>
                  <a:lnTo>
                    <a:pt x="254" y="819"/>
                  </a:lnTo>
                  <a:lnTo>
                    <a:pt x="197" y="875"/>
                  </a:lnTo>
                  <a:lnTo>
                    <a:pt x="168" y="903"/>
                  </a:lnTo>
                  <a:lnTo>
                    <a:pt x="113" y="959"/>
                  </a:lnTo>
                  <a:lnTo>
                    <a:pt x="57" y="1017"/>
                  </a:lnTo>
                  <a:lnTo>
                    <a:pt x="26" y="1074"/>
                  </a:lnTo>
                  <a:lnTo>
                    <a:pt x="0" y="1101"/>
                  </a:lnTo>
                  <a:lnTo>
                    <a:pt x="26" y="1131"/>
                  </a:lnTo>
                  <a:lnTo>
                    <a:pt x="57" y="1131"/>
                  </a:lnTo>
                  <a:lnTo>
                    <a:pt x="84" y="1131"/>
                  </a:lnTo>
                  <a:lnTo>
                    <a:pt x="113" y="1131"/>
                  </a:lnTo>
                  <a:lnTo>
                    <a:pt x="141" y="1131"/>
                  </a:lnTo>
                  <a:lnTo>
                    <a:pt x="197" y="1131"/>
                  </a:lnTo>
                  <a:lnTo>
                    <a:pt x="225" y="1131"/>
                  </a:lnTo>
                  <a:lnTo>
                    <a:pt x="254" y="1131"/>
                  </a:lnTo>
                  <a:lnTo>
                    <a:pt x="282" y="1131"/>
                  </a:lnTo>
                  <a:lnTo>
                    <a:pt x="339" y="1131"/>
                  </a:lnTo>
                  <a:lnTo>
                    <a:pt x="366" y="1131"/>
                  </a:lnTo>
                  <a:lnTo>
                    <a:pt x="396" y="1131"/>
                  </a:lnTo>
                  <a:lnTo>
                    <a:pt x="423" y="1131"/>
                  </a:lnTo>
                  <a:lnTo>
                    <a:pt x="453" y="1131"/>
                  </a:lnTo>
                  <a:lnTo>
                    <a:pt x="480" y="1131"/>
                  </a:lnTo>
                  <a:lnTo>
                    <a:pt x="508" y="1158"/>
                  </a:lnTo>
                  <a:lnTo>
                    <a:pt x="594" y="1158"/>
                  </a:lnTo>
                  <a:lnTo>
                    <a:pt x="678" y="1187"/>
                  </a:lnTo>
                  <a:lnTo>
                    <a:pt x="736" y="1215"/>
                  </a:lnTo>
                  <a:lnTo>
                    <a:pt x="820" y="1215"/>
                  </a:lnTo>
                  <a:lnTo>
                    <a:pt x="904" y="1242"/>
                  </a:lnTo>
                  <a:lnTo>
                    <a:pt x="988" y="1242"/>
                  </a:lnTo>
                  <a:lnTo>
                    <a:pt x="1075" y="1242"/>
                  </a:lnTo>
                  <a:lnTo>
                    <a:pt x="1159" y="1271"/>
                  </a:lnTo>
                  <a:lnTo>
                    <a:pt x="1243" y="1271"/>
                  </a:lnTo>
                  <a:lnTo>
                    <a:pt x="1327" y="1299"/>
                  </a:lnTo>
                  <a:lnTo>
                    <a:pt x="1412" y="1299"/>
                  </a:lnTo>
                  <a:lnTo>
                    <a:pt x="1499" y="1329"/>
                  </a:lnTo>
                  <a:lnTo>
                    <a:pt x="1552" y="1329"/>
                  </a:lnTo>
                  <a:lnTo>
                    <a:pt x="1640" y="1356"/>
                  </a:lnTo>
                  <a:lnTo>
                    <a:pt x="1724" y="1383"/>
                  </a:lnTo>
                  <a:lnTo>
                    <a:pt x="1780" y="1413"/>
                  </a:lnTo>
                  <a:lnTo>
                    <a:pt x="1865" y="1440"/>
                  </a:lnTo>
                  <a:lnTo>
                    <a:pt x="1950" y="1470"/>
                  </a:lnTo>
                  <a:lnTo>
                    <a:pt x="2063" y="1470"/>
                  </a:lnTo>
                  <a:lnTo>
                    <a:pt x="2147" y="1497"/>
                  </a:lnTo>
                  <a:lnTo>
                    <a:pt x="2262" y="1497"/>
                  </a:lnTo>
                  <a:lnTo>
                    <a:pt x="2346" y="1524"/>
                  </a:lnTo>
                  <a:lnTo>
                    <a:pt x="2460" y="1524"/>
                  </a:lnTo>
                  <a:lnTo>
                    <a:pt x="2544" y="1524"/>
                  </a:lnTo>
                  <a:lnTo>
                    <a:pt x="2655" y="1524"/>
                  </a:lnTo>
                  <a:lnTo>
                    <a:pt x="2742" y="1554"/>
                  </a:lnTo>
                  <a:lnTo>
                    <a:pt x="2854" y="1554"/>
                  </a:lnTo>
                  <a:lnTo>
                    <a:pt x="2940" y="1554"/>
                  </a:lnTo>
                  <a:lnTo>
                    <a:pt x="3051" y="1581"/>
                  </a:lnTo>
                  <a:lnTo>
                    <a:pt x="3136" y="1581"/>
                  </a:lnTo>
                  <a:lnTo>
                    <a:pt x="3223" y="1610"/>
                  </a:lnTo>
                  <a:lnTo>
                    <a:pt x="3307" y="1638"/>
                  </a:lnTo>
                  <a:lnTo>
                    <a:pt x="3365" y="1638"/>
                  </a:lnTo>
                  <a:lnTo>
                    <a:pt x="3391" y="1638"/>
                  </a:lnTo>
                  <a:lnTo>
                    <a:pt x="3418" y="1665"/>
                  </a:lnTo>
                  <a:lnTo>
                    <a:pt x="3449" y="1665"/>
                  </a:lnTo>
                  <a:lnTo>
                    <a:pt x="3505" y="1665"/>
                  </a:lnTo>
                  <a:lnTo>
                    <a:pt x="3533" y="1665"/>
                  </a:lnTo>
                  <a:lnTo>
                    <a:pt x="3589" y="1665"/>
                  </a:lnTo>
                  <a:lnTo>
                    <a:pt x="3617" y="1694"/>
                  </a:lnTo>
                  <a:lnTo>
                    <a:pt x="3674" y="1694"/>
                  </a:lnTo>
                  <a:lnTo>
                    <a:pt x="3703" y="1694"/>
                  </a:lnTo>
                  <a:lnTo>
                    <a:pt x="3758" y="1694"/>
                  </a:lnTo>
                  <a:lnTo>
                    <a:pt x="3788" y="1694"/>
                  </a:lnTo>
                  <a:lnTo>
                    <a:pt x="3845" y="1722"/>
                  </a:lnTo>
                  <a:lnTo>
                    <a:pt x="3872" y="1722"/>
                  </a:lnTo>
                  <a:lnTo>
                    <a:pt x="3929" y="1722"/>
                  </a:lnTo>
                  <a:lnTo>
                    <a:pt x="3956" y="1752"/>
                  </a:lnTo>
                  <a:lnTo>
                    <a:pt x="4948" y="2034"/>
                  </a:lnTo>
                  <a:lnTo>
                    <a:pt x="4975" y="2034"/>
                  </a:lnTo>
                  <a:lnTo>
                    <a:pt x="4975" y="2061"/>
                  </a:lnTo>
                  <a:lnTo>
                    <a:pt x="5001" y="2061"/>
                  </a:lnTo>
                  <a:lnTo>
                    <a:pt x="5032" y="2061"/>
                  </a:lnTo>
                  <a:lnTo>
                    <a:pt x="5088" y="2061"/>
                  </a:lnTo>
                  <a:lnTo>
                    <a:pt x="5116" y="2091"/>
                  </a:lnTo>
                  <a:lnTo>
                    <a:pt x="5143" y="2091"/>
                  </a:lnTo>
                  <a:lnTo>
                    <a:pt x="5200" y="2091"/>
                  </a:lnTo>
                  <a:lnTo>
                    <a:pt x="5229" y="2119"/>
                  </a:lnTo>
                  <a:lnTo>
                    <a:pt x="5284" y="2119"/>
                  </a:lnTo>
                  <a:lnTo>
                    <a:pt x="5313" y="2119"/>
                  </a:lnTo>
                  <a:lnTo>
                    <a:pt x="5341" y="2119"/>
                  </a:lnTo>
                  <a:lnTo>
                    <a:pt x="5371" y="2119"/>
                  </a:lnTo>
                  <a:lnTo>
                    <a:pt x="5398" y="2119"/>
                  </a:lnTo>
                  <a:lnTo>
                    <a:pt x="5428" y="2119"/>
                  </a:lnTo>
                  <a:lnTo>
                    <a:pt x="5455" y="2034"/>
                  </a:lnTo>
                  <a:lnTo>
                    <a:pt x="5483" y="1977"/>
                  </a:lnTo>
                  <a:lnTo>
                    <a:pt x="5512" y="1893"/>
                  </a:lnTo>
                  <a:lnTo>
                    <a:pt x="5539" y="1809"/>
                  </a:lnTo>
                  <a:lnTo>
                    <a:pt x="5569" y="1722"/>
                  </a:lnTo>
                  <a:lnTo>
                    <a:pt x="5596" y="1638"/>
                  </a:lnTo>
                  <a:lnTo>
                    <a:pt x="5596" y="1581"/>
                  </a:lnTo>
                  <a:lnTo>
                    <a:pt x="5623" y="1524"/>
                  </a:lnTo>
                  <a:lnTo>
                    <a:pt x="5680" y="1440"/>
                  </a:lnTo>
                  <a:lnTo>
                    <a:pt x="5738" y="1356"/>
                  </a:lnTo>
                  <a:lnTo>
                    <a:pt x="5795" y="1271"/>
                  </a:lnTo>
                  <a:lnTo>
                    <a:pt x="5852" y="1158"/>
                  </a:lnTo>
                  <a:lnTo>
                    <a:pt x="5906" y="1074"/>
                  </a:lnTo>
                  <a:lnTo>
                    <a:pt x="5936" y="990"/>
                  </a:lnTo>
                  <a:lnTo>
                    <a:pt x="5992" y="903"/>
                  </a:lnTo>
                  <a:lnTo>
                    <a:pt x="5992" y="819"/>
                  </a:lnTo>
                  <a:lnTo>
                    <a:pt x="5992" y="791"/>
                  </a:lnTo>
                  <a:lnTo>
                    <a:pt x="5963" y="791"/>
                  </a:lnTo>
                  <a:lnTo>
                    <a:pt x="5936" y="791"/>
                  </a:lnTo>
                  <a:lnTo>
                    <a:pt x="5906" y="762"/>
                  </a:lnTo>
                  <a:lnTo>
                    <a:pt x="5879" y="762"/>
                  </a:lnTo>
                  <a:lnTo>
                    <a:pt x="5852" y="762"/>
                  </a:lnTo>
                  <a:lnTo>
                    <a:pt x="5822" y="762"/>
                  </a:lnTo>
                  <a:lnTo>
                    <a:pt x="5795" y="762"/>
                  </a:lnTo>
                  <a:lnTo>
                    <a:pt x="5738" y="735"/>
                  </a:lnTo>
                  <a:lnTo>
                    <a:pt x="5680" y="707"/>
                  </a:lnTo>
                  <a:lnTo>
                    <a:pt x="5596" y="707"/>
                  </a:lnTo>
                  <a:lnTo>
                    <a:pt x="5539" y="707"/>
                  </a:lnTo>
                  <a:lnTo>
                    <a:pt x="5483" y="678"/>
                  </a:lnTo>
                  <a:lnTo>
                    <a:pt x="5428" y="678"/>
                  </a:lnTo>
                  <a:lnTo>
                    <a:pt x="5371" y="678"/>
                  </a:lnTo>
                  <a:lnTo>
                    <a:pt x="5284" y="651"/>
                  </a:lnTo>
                  <a:lnTo>
                    <a:pt x="5229" y="651"/>
                  </a:lnTo>
                  <a:lnTo>
                    <a:pt x="5172" y="651"/>
                  </a:lnTo>
                  <a:lnTo>
                    <a:pt x="5116" y="620"/>
                  </a:lnTo>
                  <a:lnTo>
                    <a:pt x="5032" y="620"/>
                  </a:lnTo>
                  <a:lnTo>
                    <a:pt x="4975" y="620"/>
                  </a:lnTo>
                  <a:lnTo>
                    <a:pt x="4917" y="620"/>
                  </a:lnTo>
                  <a:lnTo>
                    <a:pt x="4833" y="620"/>
                  </a:lnTo>
                  <a:lnTo>
                    <a:pt x="4776" y="594"/>
                  </a:lnTo>
                  <a:lnTo>
                    <a:pt x="4719" y="594"/>
                  </a:lnTo>
                  <a:lnTo>
                    <a:pt x="4635" y="594"/>
                  </a:lnTo>
                  <a:lnTo>
                    <a:pt x="4578" y="594"/>
                  </a:lnTo>
                  <a:lnTo>
                    <a:pt x="4521" y="567"/>
                  </a:lnTo>
                  <a:lnTo>
                    <a:pt x="4466" y="567"/>
                  </a:lnTo>
                  <a:lnTo>
                    <a:pt x="4380" y="567"/>
                  </a:lnTo>
                  <a:lnTo>
                    <a:pt x="4325" y="536"/>
                  </a:lnTo>
                  <a:lnTo>
                    <a:pt x="4269" y="536"/>
                  </a:lnTo>
                  <a:lnTo>
                    <a:pt x="4212" y="536"/>
                  </a:lnTo>
                  <a:lnTo>
                    <a:pt x="4127" y="509"/>
                  </a:lnTo>
                  <a:lnTo>
                    <a:pt x="4070" y="509"/>
                  </a:lnTo>
                  <a:lnTo>
                    <a:pt x="4013" y="509"/>
                  </a:lnTo>
                  <a:lnTo>
                    <a:pt x="3956" y="480"/>
                  </a:lnTo>
                  <a:lnTo>
                    <a:pt x="3900" y="480"/>
                  </a:lnTo>
                  <a:lnTo>
                    <a:pt x="3845" y="452"/>
                  </a:lnTo>
                  <a:lnTo>
                    <a:pt x="3788" y="423"/>
                  </a:lnTo>
                  <a:lnTo>
                    <a:pt x="3730" y="423"/>
                  </a:lnTo>
                  <a:lnTo>
                    <a:pt x="3674" y="396"/>
                  </a:lnTo>
                  <a:lnTo>
                    <a:pt x="3617" y="396"/>
                  </a:lnTo>
                  <a:lnTo>
                    <a:pt x="3562" y="368"/>
                  </a:lnTo>
                  <a:lnTo>
                    <a:pt x="3505" y="339"/>
                  </a:lnTo>
                  <a:lnTo>
                    <a:pt x="3418" y="339"/>
                  </a:lnTo>
                  <a:lnTo>
                    <a:pt x="3365" y="312"/>
                  </a:lnTo>
                  <a:lnTo>
                    <a:pt x="3307" y="312"/>
                  </a:lnTo>
                  <a:lnTo>
                    <a:pt x="3250" y="281"/>
                  </a:lnTo>
                  <a:lnTo>
                    <a:pt x="3166" y="281"/>
                  </a:lnTo>
                  <a:lnTo>
                    <a:pt x="3109" y="255"/>
                  </a:lnTo>
                  <a:lnTo>
                    <a:pt x="3051" y="255"/>
                  </a:lnTo>
                  <a:lnTo>
                    <a:pt x="2995" y="228"/>
                  </a:lnTo>
                  <a:lnTo>
                    <a:pt x="2940" y="228"/>
                  </a:lnTo>
                  <a:lnTo>
                    <a:pt x="2854" y="197"/>
                  </a:lnTo>
                  <a:lnTo>
                    <a:pt x="2797" y="197"/>
                  </a:lnTo>
                  <a:lnTo>
                    <a:pt x="2770" y="171"/>
                  </a:lnTo>
                  <a:lnTo>
                    <a:pt x="2713" y="171"/>
                  </a:lnTo>
                  <a:lnTo>
                    <a:pt x="2686" y="171"/>
                  </a:lnTo>
                  <a:lnTo>
                    <a:pt x="2628" y="140"/>
                  </a:lnTo>
                  <a:lnTo>
                    <a:pt x="2571" y="140"/>
                  </a:lnTo>
                  <a:lnTo>
                    <a:pt x="2514" y="113"/>
                  </a:lnTo>
                  <a:lnTo>
                    <a:pt x="2460" y="113"/>
                  </a:lnTo>
                  <a:lnTo>
                    <a:pt x="2403" y="113"/>
                  </a:lnTo>
                  <a:lnTo>
                    <a:pt x="2346" y="86"/>
                  </a:lnTo>
                  <a:lnTo>
                    <a:pt x="2288" y="86"/>
                  </a:lnTo>
                  <a:lnTo>
                    <a:pt x="2262" y="86"/>
                  </a:lnTo>
                  <a:lnTo>
                    <a:pt x="2204" y="86"/>
                  </a:lnTo>
                  <a:lnTo>
                    <a:pt x="2147" y="56"/>
                  </a:lnTo>
                  <a:lnTo>
                    <a:pt x="2091" y="56"/>
                  </a:lnTo>
                  <a:lnTo>
                    <a:pt x="2034" y="56"/>
                  </a:lnTo>
                  <a:lnTo>
                    <a:pt x="2006" y="56"/>
                  </a:lnTo>
                  <a:lnTo>
                    <a:pt x="1950" y="56"/>
                  </a:lnTo>
                  <a:lnTo>
                    <a:pt x="1892" y="56"/>
                  </a:lnTo>
                  <a:lnTo>
                    <a:pt x="1838" y="56"/>
                  </a:lnTo>
                  <a:lnTo>
                    <a:pt x="1780" y="56"/>
                  </a:lnTo>
                  <a:lnTo>
                    <a:pt x="1724" y="29"/>
                  </a:lnTo>
                  <a:lnTo>
                    <a:pt x="1667" y="29"/>
                  </a:lnTo>
                  <a:lnTo>
                    <a:pt x="1610" y="29"/>
                  </a:lnTo>
                  <a:lnTo>
                    <a:pt x="1552" y="29"/>
                  </a:lnTo>
                  <a:lnTo>
                    <a:pt x="1499" y="0"/>
                  </a:lnTo>
                  <a:lnTo>
                    <a:pt x="1441" y="0"/>
                  </a:lnTo>
                  <a:lnTo>
                    <a:pt x="1384" y="0"/>
                  </a:lnTo>
                  <a:lnTo>
                    <a:pt x="1327" y="0"/>
                  </a:lnTo>
                  <a:lnTo>
                    <a:pt x="1271" y="0"/>
                  </a:lnTo>
                  <a:lnTo>
                    <a:pt x="1243" y="0"/>
                  </a:lnTo>
                  <a:lnTo>
                    <a:pt x="1187" y="0"/>
                  </a:lnTo>
                  <a:lnTo>
                    <a:pt x="1129" y="0"/>
                  </a:lnTo>
                  <a:lnTo>
                    <a:pt x="1045" y="0"/>
                  </a:lnTo>
                  <a:lnTo>
                    <a:pt x="988" y="29"/>
                  </a:lnTo>
                  <a:lnTo>
                    <a:pt x="931" y="86"/>
                  </a:lnTo>
                  <a:lnTo>
                    <a:pt x="877" y="113"/>
                  </a:lnTo>
                  <a:lnTo>
                    <a:pt x="847" y="171"/>
                  </a:lnTo>
                  <a:lnTo>
                    <a:pt x="789" y="228"/>
                  </a:lnTo>
                  <a:lnTo>
                    <a:pt x="763" y="281"/>
                  </a:lnTo>
                  <a:lnTo>
                    <a:pt x="705" y="339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506840" y="3727440"/>
              <a:ext cx="1903320" cy="673200"/>
            </a:xfrm>
            <a:custGeom>
              <a:avLst/>
              <a:gdLst/>
              <a:ahLst/>
              <a:rect l="l" t="t" r="r" b="b"/>
              <a:pathLst>
                <a:path w="5992" h="2119">
                  <a:moveTo>
                    <a:pt x="705" y="339"/>
                  </a:moveTo>
                  <a:lnTo>
                    <a:pt x="678" y="368"/>
                  </a:lnTo>
                  <a:lnTo>
                    <a:pt x="648" y="423"/>
                  </a:lnTo>
                  <a:lnTo>
                    <a:pt x="594" y="480"/>
                  </a:lnTo>
                  <a:lnTo>
                    <a:pt x="564" y="536"/>
                  </a:lnTo>
                  <a:lnTo>
                    <a:pt x="508" y="567"/>
                  </a:lnTo>
                  <a:lnTo>
                    <a:pt x="453" y="620"/>
                  </a:lnTo>
                  <a:lnTo>
                    <a:pt x="423" y="678"/>
                  </a:lnTo>
                  <a:lnTo>
                    <a:pt x="366" y="735"/>
                  </a:lnTo>
                  <a:lnTo>
                    <a:pt x="312" y="762"/>
                  </a:lnTo>
                  <a:lnTo>
                    <a:pt x="254" y="819"/>
                  </a:lnTo>
                  <a:lnTo>
                    <a:pt x="197" y="875"/>
                  </a:lnTo>
                  <a:lnTo>
                    <a:pt x="168" y="903"/>
                  </a:lnTo>
                  <a:lnTo>
                    <a:pt x="113" y="959"/>
                  </a:lnTo>
                  <a:lnTo>
                    <a:pt x="57" y="1017"/>
                  </a:lnTo>
                  <a:lnTo>
                    <a:pt x="26" y="1074"/>
                  </a:lnTo>
                  <a:lnTo>
                    <a:pt x="0" y="1101"/>
                  </a:lnTo>
                  <a:lnTo>
                    <a:pt x="26" y="1131"/>
                  </a:lnTo>
                  <a:lnTo>
                    <a:pt x="57" y="1131"/>
                  </a:lnTo>
                  <a:lnTo>
                    <a:pt x="84" y="1131"/>
                  </a:lnTo>
                  <a:lnTo>
                    <a:pt x="113" y="1131"/>
                  </a:lnTo>
                  <a:lnTo>
                    <a:pt x="141" y="1131"/>
                  </a:lnTo>
                  <a:lnTo>
                    <a:pt x="197" y="1131"/>
                  </a:lnTo>
                  <a:lnTo>
                    <a:pt x="225" y="1131"/>
                  </a:lnTo>
                  <a:lnTo>
                    <a:pt x="254" y="1131"/>
                  </a:lnTo>
                  <a:lnTo>
                    <a:pt x="282" y="1131"/>
                  </a:lnTo>
                  <a:lnTo>
                    <a:pt x="339" y="1131"/>
                  </a:lnTo>
                  <a:lnTo>
                    <a:pt x="366" y="1131"/>
                  </a:lnTo>
                  <a:lnTo>
                    <a:pt x="396" y="1131"/>
                  </a:lnTo>
                  <a:lnTo>
                    <a:pt x="423" y="1131"/>
                  </a:lnTo>
                  <a:lnTo>
                    <a:pt x="453" y="1131"/>
                  </a:lnTo>
                  <a:lnTo>
                    <a:pt x="480" y="1131"/>
                  </a:lnTo>
                  <a:lnTo>
                    <a:pt x="508" y="1158"/>
                  </a:lnTo>
                  <a:lnTo>
                    <a:pt x="594" y="1158"/>
                  </a:lnTo>
                  <a:lnTo>
                    <a:pt x="678" y="1187"/>
                  </a:lnTo>
                  <a:lnTo>
                    <a:pt x="736" y="1215"/>
                  </a:lnTo>
                  <a:lnTo>
                    <a:pt x="820" y="1215"/>
                  </a:lnTo>
                  <a:lnTo>
                    <a:pt x="904" y="1242"/>
                  </a:lnTo>
                  <a:lnTo>
                    <a:pt x="988" y="1242"/>
                  </a:lnTo>
                  <a:lnTo>
                    <a:pt x="1075" y="1242"/>
                  </a:lnTo>
                  <a:lnTo>
                    <a:pt x="1159" y="1271"/>
                  </a:lnTo>
                  <a:lnTo>
                    <a:pt x="1243" y="1271"/>
                  </a:lnTo>
                  <a:lnTo>
                    <a:pt x="1327" y="1299"/>
                  </a:lnTo>
                  <a:lnTo>
                    <a:pt x="1412" y="1299"/>
                  </a:lnTo>
                  <a:lnTo>
                    <a:pt x="1499" y="1329"/>
                  </a:lnTo>
                  <a:lnTo>
                    <a:pt x="1552" y="1329"/>
                  </a:lnTo>
                  <a:lnTo>
                    <a:pt x="1640" y="1356"/>
                  </a:lnTo>
                  <a:lnTo>
                    <a:pt x="1724" y="1383"/>
                  </a:lnTo>
                  <a:lnTo>
                    <a:pt x="1780" y="1413"/>
                  </a:lnTo>
                  <a:lnTo>
                    <a:pt x="1865" y="1440"/>
                  </a:lnTo>
                  <a:lnTo>
                    <a:pt x="1950" y="1470"/>
                  </a:lnTo>
                  <a:lnTo>
                    <a:pt x="2063" y="1470"/>
                  </a:lnTo>
                  <a:lnTo>
                    <a:pt x="2147" y="1497"/>
                  </a:lnTo>
                  <a:lnTo>
                    <a:pt x="2262" y="1497"/>
                  </a:lnTo>
                  <a:lnTo>
                    <a:pt x="2346" y="1524"/>
                  </a:lnTo>
                  <a:lnTo>
                    <a:pt x="2460" y="1524"/>
                  </a:lnTo>
                  <a:lnTo>
                    <a:pt x="2544" y="1524"/>
                  </a:lnTo>
                  <a:lnTo>
                    <a:pt x="2655" y="1524"/>
                  </a:lnTo>
                  <a:lnTo>
                    <a:pt x="2742" y="1554"/>
                  </a:lnTo>
                  <a:lnTo>
                    <a:pt x="2854" y="1554"/>
                  </a:lnTo>
                  <a:lnTo>
                    <a:pt x="2940" y="1554"/>
                  </a:lnTo>
                  <a:lnTo>
                    <a:pt x="3051" y="1581"/>
                  </a:lnTo>
                  <a:lnTo>
                    <a:pt x="3136" y="1581"/>
                  </a:lnTo>
                  <a:lnTo>
                    <a:pt x="3223" y="1610"/>
                  </a:lnTo>
                  <a:lnTo>
                    <a:pt x="3307" y="1638"/>
                  </a:lnTo>
                  <a:lnTo>
                    <a:pt x="3365" y="1638"/>
                  </a:lnTo>
                  <a:lnTo>
                    <a:pt x="3391" y="1638"/>
                  </a:lnTo>
                  <a:lnTo>
                    <a:pt x="3418" y="1665"/>
                  </a:lnTo>
                  <a:lnTo>
                    <a:pt x="3449" y="1665"/>
                  </a:lnTo>
                  <a:lnTo>
                    <a:pt x="3505" y="1665"/>
                  </a:lnTo>
                  <a:lnTo>
                    <a:pt x="3533" y="1665"/>
                  </a:lnTo>
                  <a:lnTo>
                    <a:pt x="3589" y="1665"/>
                  </a:lnTo>
                  <a:lnTo>
                    <a:pt x="3617" y="1694"/>
                  </a:lnTo>
                  <a:lnTo>
                    <a:pt x="3674" y="1694"/>
                  </a:lnTo>
                  <a:lnTo>
                    <a:pt x="3703" y="1694"/>
                  </a:lnTo>
                  <a:lnTo>
                    <a:pt x="3758" y="1694"/>
                  </a:lnTo>
                  <a:lnTo>
                    <a:pt x="3788" y="1694"/>
                  </a:lnTo>
                  <a:lnTo>
                    <a:pt x="3845" y="1722"/>
                  </a:lnTo>
                  <a:lnTo>
                    <a:pt x="3872" y="1722"/>
                  </a:lnTo>
                  <a:lnTo>
                    <a:pt x="3929" y="1722"/>
                  </a:lnTo>
                  <a:lnTo>
                    <a:pt x="3956" y="1752"/>
                  </a:lnTo>
                  <a:lnTo>
                    <a:pt x="4948" y="2034"/>
                  </a:lnTo>
                  <a:lnTo>
                    <a:pt x="4975" y="2034"/>
                  </a:lnTo>
                  <a:lnTo>
                    <a:pt x="4975" y="2061"/>
                  </a:lnTo>
                  <a:lnTo>
                    <a:pt x="5001" y="2061"/>
                  </a:lnTo>
                  <a:lnTo>
                    <a:pt x="5032" y="2061"/>
                  </a:lnTo>
                  <a:lnTo>
                    <a:pt x="5088" y="2061"/>
                  </a:lnTo>
                  <a:lnTo>
                    <a:pt x="5116" y="2091"/>
                  </a:lnTo>
                  <a:lnTo>
                    <a:pt x="5143" y="2091"/>
                  </a:lnTo>
                  <a:lnTo>
                    <a:pt x="5200" y="2091"/>
                  </a:lnTo>
                  <a:lnTo>
                    <a:pt x="5229" y="2119"/>
                  </a:lnTo>
                  <a:lnTo>
                    <a:pt x="5284" y="2119"/>
                  </a:lnTo>
                  <a:lnTo>
                    <a:pt x="5313" y="2119"/>
                  </a:lnTo>
                  <a:lnTo>
                    <a:pt x="5341" y="2119"/>
                  </a:lnTo>
                  <a:lnTo>
                    <a:pt x="5371" y="2119"/>
                  </a:lnTo>
                  <a:lnTo>
                    <a:pt x="5398" y="2119"/>
                  </a:lnTo>
                  <a:lnTo>
                    <a:pt x="5428" y="2119"/>
                  </a:lnTo>
                  <a:lnTo>
                    <a:pt x="5455" y="2034"/>
                  </a:lnTo>
                  <a:lnTo>
                    <a:pt x="5483" y="1977"/>
                  </a:lnTo>
                  <a:lnTo>
                    <a:pt x="5512" y="1893"/>
                  </a:lnTo>
                  <a:lnTo>
                    <a:pt x="5539" y="1809"/>
                  </a:lnTo>
                  <a:lnTo>
                    <a:pt x="5569" y="1722"/>
                  </a:lnTo>
                  <a:lnTo>
                    <a:pt x="5596" y="1638"/>
                  </a:lnTo>
                  <a:lnTo>
                    <a:pt x="5596" y="1581"/>
                  </a:lnTo>
                  <a:lnTo>
                    <a:pt x="5623" y="1524"/>
                  </a:lnTo>
                  <a:lnTo>
                    <a:pt x="5680" y="1440"/>
                  </a:lnTo>
                  <a:lnTo>
                    <a:pt x="5738" y="1356"/>
                  </a:lnTo>
                  <a:lnTo>
                    <a:pt x="5795" y="1271"/>
                  </a:lnTo>
                  <a:lnTo>
                    <a:pt x="5852" y="1158"/>
                  </a:lnTo>
                  <a:lnTo>
                    <a:pt x="5906" y="1074"/>
                  </a:lnTo>
                  <a:lnTo>
                    <a:pt x="5936" y="990"/>
                  </a:lnTo>
                  <a:lnTo>
                    <a:pt x="5992" y="903"/>
                  </a:lnTo>
                  <a:lnTo>
                    <a:pt x="5992" y="819"/>
                  </a:lnTo>
                  <a:lnTo>
                    <a:pt x="5992" y="791"/>
                  </a:lnTo>
                  <a:lnTo>
                    <a:pt x="5963" y="791"/>
                  </a:lnTo>
                  <a:lnTo>
                    <a:pt x="5936" y="791"/>
                  </a:lnTo>
                  <a:lnTo>
                    <a:pt x="5906" y="762"/>
                  </a:lnTo>
                  <a:lnTo>
                    <a:pt x="5879" y="762"/>
                  </a:lnTo>
                  <a:lnTo>
                    <a:pt x="5852" y="762"/>
                  </a:lnTo>
                  <a:lnTo>
                    <a:pt x="5822" y="762"/>
                  </a:lnTo>
                  <a:lnTo>
                    <a:pt x="5795" y="762"/>
                  </a:lnTo>
                  <a:lnTo>
                    <a:pt x="5738" y="735"/>
                  </a:lnTo>
                  <a:lnTo>
                    <a:pt x="5680" y="707"/>
                  </a:lnTo>
                  <a:lnTo>
                    <a:pt x="5596" y="707"/>
                  </a:lnTo>
                  <a:lnTo>
                    <a:pt x="5539" y="707"/>
                  </a:lnTo>
                  <a:lnTo>
                    <a:pt x="5483" y="678"/>
                  </a:lnTo>
                  <a:lnTo>
                    <a:pt x="5428" y="678"/>
                  </a:lnTo>
                  <a:lnTo>
                    <a:pt x="5371" y="678"/>
                  </a:lnTo>
                  <a:lnTo>
                    <a:pt x="5284" y="651"/>
                  </a:lnTo>
                  <a:lnTo>
                    <a:pt x="5229" y="651"/>
                  </a:lnTo>
                  <a:lnTo>
                    <a:pt x="5172" y="651"/>
                  </a:lnTo>
                  <a:lnTo>
                    <a:pt x="5116" y="620"/>
                  </a:lnTo>
                  <a:lnTo>
                    <a:pt x="5032" y="620"/>
                  </a:lnTo>
                  <a:lnTo>
                    <a:pt x="4975" y="620"/>
                  </a:lnTo>
                  <a:lnTo>
                    <a:pt x="4917" y="620"/>
                  </a:lnTo>
                  <a:lnTo>
                    <a:pt x="4833" y="620"/>
                  </a:lnTo>
                  <a:lnTo>
                    <a:pt x="4776" y="594"/>
                  </a:lnTo>
                  <a:lnTo>
                    <a:pt x="4719" y="594"/>
                  </a:lnTo>
                  <a:lnTo>
                    <a:pt x="4635" y="594"/>
                  </a:lnTo>
                  <a:lnTo>
                    <a:pt x="4578" y="594"/>
                  </a:lnTo>
                  <a:lnTo>
                    <a:pt x="4521" y="567"/>
                  </a:lnTo>
                  <a:lnTo>
                    <a:pt x="4466" y="567"/>
                  </a:lnTo>
                  <a:lnTo>
                    <a:pt x="4380" y="567"/>
                  </a:lnTo>
                  <a:lnTo>
                    <a:pt x="4325" y="536"/>
                  </a:lnTo>
                  <a:lnTo>
                    <a:pt x="4269" y="536"/>
                  </a:lnTo>
                  <a:lnTo>
                    <a:pt x="4212" y="536"/>
                  </a:lnTo>
                  <a:lnTo>
                    <a:pt x="4127" y="509"/>
                  </a:lnTo>
                  <a:lnTo>
                    <a:pt x="4070" y="509"/>
                  </a:lnTo>
                  <a:lnTo>
                    <a:pt x="4013" y="509"/>
                  </a:lnTo>
                  <a:lnTo>
                    <a:pt x="3956" y="480"/>
                  </a:lnTo>
                  <a:lnTo>
                    <a:pt x="3900" y="480"/>
                  </a:lnTo>
                  <a:lnTo>
                    <a:pt x="3845" y="452"/>
                  </a:lnTo>
                  <a:lnTo>
                    <a:pt x="3788" y="423"/>
                  </a:lnTo>
                  <a:lnTo>
                    <a:pt x="3730" y="423"/>
                  </a:lnTo>
                  <a:lnTo>
                    <a:pt x="3674" y="396"/>
                  </a:lnTo>
                  <a:lnTo>
                    <a:pt x="3617" y="396"/>
                  </a:lnTo>
                  <a:lnTo>
                    <a:pt x="3562" y="368"/>
                  </a:lnTo>
                  <a:lnTo>
                    <a:pt x="3505" y="339"/>
                  </a:lnTo>
                  <a:lnTo>
                    <a:pt x="3418" y="339"/>
                  </a:lnTo>
                  <a:lnTo>
                    <a:pt x="3365" y="312"/>
                  </a:lnTo>
                  <a:lnTo>
                    <a:pt x="3307" y="312"/>
                  </a:lnTo>
                  <a:lnTo>
                    <a:pt x="3250" y="281"/>
                  </a:lnTo>
                  <a:lnTo>
                    <a:pt x="3166" y="281"/>
                  </a:lnTo>
                  <a:lnTo>
                    <a:pt x="3109" y="255"/>
                  </a:lnTo>
                  <a:lnTo>
                    <a:pt x="3051" y="255"/>
                  </a:lnTo>
                  <a:lnTo>
                    <a:pt x="2995" y="228"/>
                  </a:lnTo>
                  <a:lnTo>
                    <a:pt x="2940" y="228"/>
                  </a:lnTo>
                  <a:lnTo>
                    <a:pt x="2854" y="197"/>
                  </a:lnTo>
                  <a:lnTo>
                    <a:pt x="2797" y="197"/>
                  </a:lnTo>
                  <a:lnTo>
                    <a:pt x="2770" y="171"/>
                  </a:lnTo>
                  <a:lnTo>
                    <a:pt x="2713" y="171"/>
                  </a:lnTo>
                  <a:lnTo>
                    <a:pt x="2686" y="171"/>
                  </a:lnTo>
                  <a:lnTo>
                    <a:pt x="2628" y="140"/>
                  </a:lnTo>
                  <a:lnTo>
                    <a:pt x="2571" y="140"/>
                  </a:lnTo>
                  <a:lnTo>
                    <a:pt x="2514" y="113"/>
                  </a:lnTo>
                  <a:lnTo>
                    <a:pt x="2460" y="113"/>
                  </a:lnTo>
                  <a:lnTo>
                    <a:pt x="2403" y="113"/>
                  </a:lnTo>
                  <a:lnTo>
                    <a:pt x="2346" y="86"/>
                  </a:lnTo>
                  <a:lnTo>
                    <a:pt x="2288" y="86"/>
                  </a:lnTo>
                  <a:lnTo>
                    <a:pt x="2262" y="86"/>
                  </a:lnTo>
                  <a:lnTo>
                    <a:pt x="2204" y="86"/>
                  </a:lnTo>
                  <a:lnTo>
                    <a:pt x="2147" y="56"/>
                  </a:lnTo>
                  <a:lnTo>
                    <a:pt x="2091" y="56"/>
                  </a:lnTo>
                  <a:lnTo>
                    <a:pt x="2034" y="56"/>
                  </a:lnTo>
                  <a:lnTo>
                    <a:pt x="2006" y="56"/>
                  </a:lnTo>
                  <a:lnTo>
                    <a:pt x="1950" y="56"/>
                  </a:lnTo>
                  <a:lnTo>
                    <a:pt x="1892" y="56"/>
                  </a:lnTo>
                  <a:lnTo>
                    <a:pt x="1838" y="56"/>
                  </a:lnTo>
                  <a:lnTo>
                    <a:pt x="1780" y="56"/>
                  </a:lnTo>
                  <a:lnTo>
                    <a:pt x="1724" y="29"/>
                  </a:lnTo>
                  <a:lnTo>
                    <a:pt x="1667" y="29"/>
                  </a:lnTo>
                  <a:lnTo>
                    <a:pt x="1610" y="29"/>
                  </a:lnTo>
                  <a:lnTo>
                    <a:pt x="1552" y="29"/>
                  </a:lnTo>
                  <a:lnTo>
                    <a:pt x="1499" y="0"/>
                  </a:lnTo>
                  <a:lnTo>
                    <a:pt x="1441" y="0"/>
                  </a:lnTo>
                  <a:lnTo>
                    <a:pt x="1384" y="0"/>
                  </a:lnTo>
                  <a:lnTo>
                    <a:pt x="1327" y="0"/>
                  </a:lnTo>
                  <a:lnTo>
                    <a:pt x="1271" y="0"/>
                  </a:lnTo>
                  <a:lnTo>
                    <a:pt x="1243" y="0"/>
                  </a:lnTo>
                  <a:lnTo>
                    <a:pt x="1187" y="0"/>
                  </a:lnTo>
                  <a:lnTo>
                    <a:pt x="1129" y="0"/>
                  </a:lnTo>
                  <a:lnTo>
                    <a:pt x="1045" y="0"/>
                  </a:lnTo>
                  <a:lnTo>
                    <a:pt x="988" y="29"/>
                  </a:lnTo>
                  <a:lnTo>
                    <a:pt x="931" y="86"/>
                  </a:lnTo>
                  <a:lnTo>
                    <a:pt x="877" y="113"/>
                  </a:lnTo>
                  <a:lnTo>
                    <a:pt x="847" y="171"/>
                  </a:lnTo>
                  <a:lnTo>
                    <a:pt x="789" y="228"/>
                  </a:lnTo>
                  <a:lnTo>
                    <a:pt x="763" y="281"/>
                  </a:lnTo>
                  <a:lnTo>
                    <a:pt x="705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838760" y="3789360"/>
              <a:ext cx="1257120" cy="431640"/>
            </a:xfrm>
            <a:custGeom>
              <a:avLst/>
              <a:gdLst/>
              <a:ahLst/>
              <a:rect l="l" t="t" r="r" b="b"/>
              <a:pathLst>
                <a:path w="3956" h="1357">
                  <a:moveTo>
                    <a:pt x="961" y="31"/>
                  </a:moveTo>
                  <a:lnTo>
                    <a:pt x="1046" y="58"/>
                  </a:lnTo>
                  <a:lnTo>
                    <a:pt x="1102" y="58"/>
                  </a:lnTo>
                  <a:lnTo>
                    <a:pt x="1186" y="84"/>
                  </a:lnTo>
                  <a:lnTo>
                    <a:pt x="1274" y="84"/>
                  </a:lnTo>
                  <a:lnTo>
                    <a:pt x="1358" y="115"/>
                  </a:lnTo>
                  <a:lnTo>
                    <a:pt x="1442" y="115"/>
                  </a:lnTo>
                  <a:lnTo>
                    <a:pt x="1526" y="142"/>
                  </a:lnTo>
                  <a:lnTo>
                    <a:pt x="1610" y="142"/>
                  </a:lnTo>
                  <a:lnTo>
                    <a:pt x="1668" y="171"/>
                  </a:lnTo>
                  <a:lnTo>
                    <a:pt x="1752" y="171"/>
                  </a:lnTo>
                  <a:lnTo>
                    <a:pt x="1838" y="199"/>
                  </a:lnTo>
                  <a:lnTo>
                    <a:pt x="1922" y="199"/>
                  </a:lnTo>
                  <a:lnTo>
                    <a:pt x="2006" y="226"/>
                  </a:lnTo>
                  <a:lnTo>
                    <a:pt x="2091" y="226"/>
                  </a:lnTo>
                  <a:lnTo>
                    <a:pt x="2178" y="255"/>
                  </a:lnTo>
                  <a:lnTo>
                    <a:pt x="2262" y="283"/>
                  </a:lnTo>
                  <a:lnTo>
                    <a:pt x="2320" y="283"/>
                  </a:lnTo>
                  <a:lnTo>
                    <a:pt x="2404" y="312"/>
                  </a:lnTo>
                  <a:lnTo>
                    <a:pt x="2488" y="312"/>
                  </a:lnTo>
                  <a:lnTo>
                    <a:pt x="2572" y="339"/>
                  </a:lnTo>
                  <a:lnTo>
                    <a:pt x="2658" y="339"/>
                  </a:lnTo>
                  <a:lnTo>
                    <a:pt x="2743" y="370"/>
                  </a:lnTo>
                  <a:lnTo>
                    <a:pt x="2827" y="370"/>
                  </a:lnTo>
                  <a:lnTo>
                    <a:pt x="2911" y="397"/>
                  </a:lnTo>
                  <a:lnTo>
                    <a:pt x="2995" y="397"/>
                  </a:lnTo>
                  <a:lnTo>
                    <a:pt x="3052" y="423"/>
                  </a:lnTo>
                  <a:lnTo>
                    <a:pt x="3139" y="423"/>
                  </a:lnTo>
                  <a:lnTo>
                    <a:pt x="3224" y="454"/>
                  </a:lnTo>
                  <a:lnTo>
                    <a:pt x="3308" y="454"/>
                  </a:lnTo>
                  <a:lnTo>
                    <a:pt x="3392" y="481"/>
                  </a:lnTo>
                  <a:lnTo>
                    <a:pt x="3476" y="481"/>
                  </a:lnTo>
                  <a:lnTo>
                    <a:pt x="3563" y="510"/>
                  </a:lnTo>
                  <a:lnTo>
                    <a:pt x="3617" y="510"/>
                  </a:lnTo>
                  <a:lnTo>
                    <a:pt x="3647" y="538"/>
                  </a:lnTo>
                  <a:lnTo>
                    <a:pt x="3704" y="565"/>
                  </a:lnTo>
                  <a:lnTo>
                    <a:pt x="3731" y="565"/>
                  </a:lnTo>
                  <a:lnTo>
                    <a:pt x="3788" y="594"/>
                  </a:lnTo>
                  <a:lnTo>
                    <a:pt x="3815" y="622"/>
                  </a:lnTo>
                  <a:lnTo>
                    <a:pt x="3845" y="651"/>
                  </a:lnTo>
                  <a:lnTo>
                    <a:pt x="3872" y="651"/>
                  </a:lnTo>
                  <a:lnTo>
                    <a:pt x="3903" y="678"/>
                  </a:lnTo>
                  <a:lnTo>
                    <a:pt x="3930" y="706"/>
                  </a:lnTo>
                  <a:lnTo>
                    <a:pt x="3930" y="735"/>
                  </a:lnTo>
                  <a:lnTo>
                    <a:pt x="3930" y="762"/>
                  </a:lnTo>
                  <a:lnTo>
                    <a:pt x="3956" y="793"/>
                  </a:lnTo>
                  <a:lnTo>
                    <a:pt x="3930" y="820"/>
                  </a:lnTo>
                  <a:lnTo>
                    <a:pt x="3930" y="846"/>
                  </a:lnTo>
                  <a:lnTo>
                    <a:pt x="3930" y="904"/>
                  </a:lnTo>
                  <a:lnTo>
                    <a:pt x="3930" y="934"/>
                  </a:lnTo>
                  <a:lnTo>
                    <a:pt x="3903" y="934"/>
                  </a:lnTo>
                  <a:lnTo>
                    <a:pt x="3903" y="961"/>
                  </a:lnTo>
                  <a:lnTo>
                    <a:pt x="3872" y="990"/>
                  </a:lnTo>
                  <a:lnTo>
                    <a:pt x="3872" y="1018"/>
                  </a:lnTo>
                  <a:lnTo>
                    <a:pt x="3845" y="1045"/>
                  </a:lnTo>
                  <a:lnTo>
                    <a:pt x="3845" y="1074"/>
                  </a:lnTo>
                  <a:lnTo>
                    <a:pt x="3815" y="1102"/>
                  </a:lnTo>
                  <a:lnTo>
                    <a:pt x="3815" y="1159"/>
                  </a:lnTo>
                  <a:lnTo>
                    <a:pt x="3788" y="1186"/>
                  </a:lnTo>
                  <a:lnTo>
                    <a:pt x="3761" y="1216"/>
                  </a:lnTo>
                  <a:lnTo>
                    <a:pt x="3731" y="1216"/>
                  </a:lnTo>
                  <a:lnTo>
                    <a:pt x="3704" y="1243"/>
                  </a:lnTo>
                  <a:lnTo>
                    <a:pt x="3647" y="1273"/>
                  </a:lnTo>
                  <a:lnTo>
                    <a:pt x="3617" y="1300"/>
                  </a:lnTo>
                  <a:lnTo>
                    <a:pt x="3563" y="1300"/>
                  </a:lnTo>
                  <a:lnTo>
                    <a:pt x="3533" y="1327"/>
                  </a:lnTo>
                  <a:lnTo>
                    <a:pt x="3476" y="1327"/>
                  </a:lnTo>
                  <a:lnTo>
                    <a:pt x="3421" y="1327"/>
                  </a:lnTo>
                  <a:lnTo>
                    <a:pt x="3364" y="1357"/>
                  </a:lnTo>
                  <a:lnTo>
                    <a:pt x="3308" y="1357"/>
                  </a:lnTo>
                  <a:lnTo>
                    <a:pt x="3251" y="1357"/>
                  </a:lnTo>
                  <a:lnTo>
                    <a:pt x="3193" y="1327"/>
                  </a:lnTo>
                  <a:lnTo>
                    <a:pt x="3139" y="1327"/>
                  </a:lnTo>
                  <a:lnTo>
                    <a:pt x="3052" y="1327"/>
                  </a:lnTo>
                  <a:lnTo>
                    <a:pt x="2968" y="1300"/>
                  </a:lnTo>
                  <a:lnTo>
                    <a:pt x="2884" y="1273"/>
                  </a:lnTo>
                  <a:lnTo>
                    <a:pt x="2800" y="1273"/>
                  </a:lnTo>
                  <a:lnTo>
                    <a:pt x="2713" y="1243"/>
                  </a:lnTo>
                  <a:lnTo>
                    <a:pt x="2601" y="1243"/>
                  </a:lnTo>
                  <a:lnTo>
                    <a:pt x="2517" y="1216"/>
                  </a:lnTo>
                  <a:lnTo>
                    <a:pt x="2430" y="1186"/>
                  </a:lnTo>
                  <a:lnTo>
                    <a:pt x="2346" y="1186"/>
                  </a:lnTo>
                  <a:lnTo>
                    <a:pt x="2262" y="1159"/>
                  </a:lnTo>
                  <a:lnTo>
                    <a:pt x="2178" y="1159"/>
                  </a:lnTo>
                  <a:lnTo>
                    <a:pt x="2064" y="1132"/>
                  </a:lnTo>
                  <a:lnTo>
                    <a:pt x="1980" y="1102"/>
                  </a:lnTo>
                  <a:lnTo>
                    <a:pt x="1895" y="1102"/>
                  </a:lnTo>
                  <a:lnTo>
                    <a:pt x="1809" y="1074"/>
                  </a:lnTo>
                  <a:lnTo>
                    <a:pt x="1725" y="1074"/>
                  </a:lnTo>
                  <a:lnTo>
                    <a:pt x="1641" y="1045"/>
                  </a:lnTo>
                  <a:lnTo>
                    <a:pt x="1556" y="1045"/>
                  </a:lnTo>
                  <a:lnTo>
                    <a:pt x="1469" y="1018"/>
                  </a:lnTo>
                  <a:lnTo>
                    <a:pt x="1385" y="990"/>
                  </a:lnTo>
                  <a:lnTo>
                    <a:pt x="1274" y="990"/>
                  </a:lnTo>
                  <a:lnTo>
                    <a:pt x="1186" y="961"/>
                  </a:lnTo>
                  <a:lnTo>
                    <a:pt x="1102" y="961"/>
                  </a:lnTo>
                  <a:lnTo>
                    <a:pt x="1018" y="934"/>
                  </a:lnTo>
                  <a:lnTo>
                    <a:pt x="934" y="904"/>
                  </a:lnTo>
                  <a:lnTo>
                    <a:pt x="847" y="904"/>
                  </a:lnTo>
                  <a:lnTo>
                    <a:pt x="763" y="877"/>
                  </a:lnTo>
                  <a:lnTo>
                    <a:pt x="679" y="877"/>
                  </a:lnTo>
                  <a:lnTo>
                    <a:pt x="595" y="846"/>
                  </a:lnTo>
                  <a:lnTo>
                    <a:pt x="507" y="820"/>
                  </a:lnTo>
                  <a:lnTo>
                    <a:pt x="396" y="820"/>
                  </a:lnTo>
                  <a:lnTo>
                    <a:pt x="312" y="793"/>
                  </a:lnTo>
                  <a:lnTo>
                    <a:pt x="255" y="793"/>
                  </a:lnTo>
                  <a:lnTo>
                    <a:pt x="226" y="762"/>
                  </a:lnTo>
                  <a:lnTo>
                    <a:pt x="171" y="762"/>
                  </a:lnTo>
                  <a:lnTo>
                    <a:pt x="142" y="735"/>
                  </a:lnTo>
                  <a:lnTo>
                    <a:pt x="84" y="706"/>
                  </a:lnTo>
                  <a:lnTo>
                    <a:pt x="56" y="706"/>
                  </a:lnTo>
                  <a:lnTo>
                    <a:pt x="56" y="678"/>
                  </a:lnTo>
                  <a:lnTo>
                    <a:pt x="30" y="651"/>
                  </a:lnTo>
                  <a:lnTo>
                    <a:pt x="0" y="594"/>
                  </a:lnTo>
                  <a:lnTo>
                    <a:pt x="0" y="538"/>
                  </a:lnTo>
                  <a:lnTo>
                    <a:pt x="30" y="481"/>
                  </a:lnTo>
                  <a:lnTo>
                    <a:pt x="56" y="423"/>
                  </a:lnTo>
                  <a:lnTo>
                    <a:pt x="56" y="397"/>
                  </a:lnTo>
                  <a:lnTo>
                    <a:pt x="84" y="397"/>
                  </a:lnTo>
                  <a:lnTo>
                    <a:pt x="84" y="370"/>
                  </a:lnTo>
                  <a:lnTo>
                    <a:pt x="114" y="370"/>
                  </a:lnTo>
                  <a:lnTo>
                    <a:pt x="114" y="339"/>
                  </a:lnTo>
                  <a:lnTo>
                    <a:pt x="142" y="312"/>
                  </a:lnTo>
                  <a:lnTo>
                    <a:pt x="171" y="283"/>
                  </a:lnTo>
                  <a:lnTo>
                    <a:pt x="171" y="255"/>
                  </a:lnTo>
                  <a:lnTo>
                    <a:pt x="198" y="255"/>
                  </a:lnTo>
                  <a:lnTo>
                    <a:pt x="226" y="226"/>
                  </a:lnTo>
                  <a:lnTo>
                    <a:pt x="226" y="199"/>
                  </a:lnTo>
                  <a:lnTo>
                    <a:pt x="255" y="171"/>
                  </a:lnTo>
                  <a:lnTo>
                    <a:pt x="282" y="142"/>
                  </a:lnTo>
                  <a:lnTo>
                    <a:pt x="339" y="142"/>
                  </a:lnTo>
                  <a:lnTo>
                    <a:pt x="367" y="115"/>
                  </a:lnTo>
                  <a:lnTo>
                    <a:pt x="396" y="84"/>
                  </a:lnTo>
                  <a:lnTo>
                    <a:pt x="454" y="58"/>
                  </a:lnTo>
                  <a:lnTo>
                    <a:pt x="507" y="58"/>
                  </a:lnTo>
                  <a:lnTo>
                    <a:pt x="538" y="58"/>
                  </a:lnTo>
                  <a:lnTo>
                    <a:pt x="595" y="31"/>
                  </a:lnTo>
                  <a:lnTo>
                    <a:pt x="651" y="31"/>
                  </a:lnTo>
                  <a:lnTo>
                    <a:pt x="706" y="31"/>
                  </a:lnTo>
                  <a:lnTo>
                    <a:pt x="735" y="31"/>
                  </a:lnTo>
                  <a:lnTo>
                    <a:pt x="793" y="0"/>
                  </a:lnTo>
                  <a:lnTo>
                    <a:pt x="847" y="31"/>
                  </a:lnTo>
                  <a:lnTo>
                    <a:pt x="905" y="31"/>
                  </a:lnTo>
                  <a:lnTo>
                    <a:pt x="961" y="31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838760" y="3789360"/>
              <a:ext cx="1257120" cy="431640"/>
            </a:xfrm>
            <a:custGeom>
              <a:avLst/>
              <a:gdLst/>
              <a:ahLst/>
              <a:rect l="l" t="t" r="r" b="b"/>
              <a:pathLst>
                <a:path w="3956" h="1357">
                  <a:moveTo>
                    <a:pt x="961" y="31"/>
                  </a:moveTo>
                  <a:lnTo>
                    <a:pt x="1046" y="58"/>
                  </a:lnTo>
                  <a:lnTo>
                    <a:pt x="1102" y="58"/>
                  </a:lnTo>
                  <a:lnTo>
                    <a:pt x="1186" y="84"/>
                  </a:lnTo>
                  <a:lnTo>
                    <a:pt x="1274" y="84"/>
                  </a:lnTo>
                  <a:lnTo>
                    <a:pt x="1358" y="115"/>
                  </a:lnTo>
                  <a:lnTo>
                    <a:pt x="1442" y="115"/>
                  </a:lnTo>
                  <a:lnTo>
                    <a:pt x="1526" y="142"/>
                  </a:lnTo>
                  <a:lnTo>
                    <a:pt x="1610" y="142"/>
                  </a:lnTo>
                  <a:lnTo>
                    <a:pt x="1668" y="171"/>
                  </a:lnTo>
                  <a:lnTo>
                    <a:pt x="1752" y="171"/>
                  </a:lnTo>
                  <a:lnTo>
                    <a:pt x="1838" y="199"/>
                  </a:lnTo>
                  <a:lnTo>
                    <a:pt x="1922" y="199"/>
                  </a:lnTo>
                  <a:lnTo>
                    <a:pt x="2006" y="226"/>
                  </a:lnTo>
                  <a:lnTo>
                    <a:pt x="2091" y="226"/>
                  </a:lnTo>
                  <a:lnTo>
                    <a:pt x="2178" y="255"/>
                  </a:lnTo>
                  <a:lnTo>
                    <a:pt x="2262" y="283"/>
                  </a:lnTo>
                  <a:lnTo>
                    <a:pt x="2320" y="283"/>
                  </a:lnTo>
                  <a:lnTo>
                    <a:pt x="2404" y="312"/>
                  </a:lnTo>
                  <a:lnTo>
                    <a:pt x="2488" y="312"/>
                  </a:lnTo>
                  <a:lnTo>
                    <a:pt x="2572" y="339"/>
                  </a:lnTo>
                  <a:lnTo>
                    <a:pt x="2658" y="339"/>
                  </a:lnTo>
                  <a:lnTo>
                    <a:pt x="2743" y="370"/>
                  </a:lnTo>
                  <a:lnTo>
                    <a:pt x="2827" y="370"/>
                  </a:lnTo>
                  <a:lnTo>
                    <a:pt x="2911" y="397"/>
                  </a:lnTo>
                  <a:lnTo>
                    <a:pt x="2995" y="397"/>
                  </a:lnTo>
                  <a:lnTo>
                    <a:pt x="3052" y="423"/>
                  </a:lnTo>
                  <a:lnTo>
                    <a:pt x="3139" y="423"/>
                  </a:lnTo>
                  <a:lnTo>
                    <a:pt x="3224" y="454"/>
                  </a:lnTo>
                  <a:lnTo>
                    <a:pt x="3308" y="454"/>
                  </a:lnTo>
                  <a:lnTo>
                    <a:pt x="3392" y="481"/>
                  </a:lnTo>
                  <a:lnTo>
                    <a:pt x="3476" y="481"/>
                  </a:lnTo>
                  <a:lnTo>
                    <a:pt x="3563" y="510"/>
                  </a:lnTo>
                  <a:lnTo>
                    <a:pt x="3617" y="510"/>
                  </a:lnTo>
                  <a:lnTo>
                    <a:pt x="3647" y="538"/>
                  </a:lnTo>
                  <a:lnTo>
                    <a:pt x="3704" y="565"/>
                  </a:lnTo>
                  <a:lnTo>
                    <a:pt x="3731" y="565"/>
                  </a:lnTo>
                  <a:lnTo>
                    <a:pt x="3788" y="594"/>
                  </a:lnTo>
                  <a:lnTo>
                    <a:pt x="3815" y="622"/>
                  </a:lnTo>
                  <a:lnTo>
                    <a:pt x="3845" y="651"/>
                  </a:lnTo>
                  <a:lnTo>
                    <a:pt x="3872" y="651"/>
                  </a:lnTo>
                  <a:lnTo>
                    <a:pt x="3903" y="678"/>
                  </a:lnTo>
                  <a:lnTo>
                    <a:pt x="3930" y="706"/>
                  </a:lnTo>
                  <a:lnTo>
                    <a:pt x="3930" y="735"/>
                  </a:lnTo>
                  <a:lnTo>
                    <a:pt x="3930" y="762"/>
                  </a:lnTo>
                  <a:lnTo>
                    <a:pt x="3956" y="793"/>
                  </a:lnTo>
                  <a:lnTo>
                    <a:pt x="3930" y="820"/>
                  </a:lnTo>
                  <a:lnTo>
                    <a:pt x="3930" y="846"/>
                  </a:lnTo>
                  <a:lnTo>
                    <a:pt x="3930" y="904"/>
                  </a:lnTo>
                  <a:lnTo>
                    <a:pt x="3930" y="934"/>
                  </a:lnTo>
                  <a:lnTo>
                    <a:pt x="3903" y="934"/>
                  </a:lnTo>
                  <a:lnTo>
                    <a:pt x="3903" y="961"/>
                  </a:lnTo>
                  <a:lnTo>
                    <a:pt x="3872" y="990"/>
                  </a:lnTo>
                  <a:lnTo>
                    <a:pt x="3872" y="1018"/>
                  </a:lnTo>
                  <a:lnTo>
                    <a:pt x="3845" y="1045"/>
                  </a:lnTo>
                  <a:lnTo>
                    <a:pt x="3845" y="1074"/>
                  </a:lnTo>
                  <a:lnTo>
                    <a:pt x="3815" y="1102"/>
                  </a:lnTo>
                  <a:lnTo>
                    <a:pt x="3815" y="1159"/>
                  </a:lnTo>
                  <a:lnTo>
                    <a:pt x="3788" y="1186"/>
                  </a:lnTo>
                  <a:lnTo>
                    <a:pt x="3761" y="1216"/>
                  </a:lnTo>
                  <a:lnTo>
                    <a:pt x="3731" y="1216"/>
                  </a:lnTo>
                  <a:lnTo>
                    <a:pt x="3704" y="1243"/>
                  </a:lnTo>
                  <a:lnTo>
                    <a:pt x="3647" y="1273"/>
                  </a:lnTo>
                  <a:lnTo>
                    <a:pt x="3617" y="1300"/>
                  </a:lnTo>
                  <a:lnTo>
                    <a:pt x="3563" y="1300"/>
                  </a:lnTo>
                  <a:lnTo>
                    <a:pt x="3533" y="1327"/>
                  </a:lnTo>
                  <a:lnTo>
                    <a:pt x="3476" y="1327"/>
                  </a:lnTo>
                  <a:lnTo>
                    <a:pt x="3421" y="1327"/>
                  </a:lnTo>
                  <a:lnTo>
                    <a:pt x="3364" y="1357"/>
                  </a:lnTo>
                  <a:lnTo>
                    <a:pt x="3308" y="1357"/>
                  </a:lnTo>
                  <a:lnTo>
                    <a:pt x="3251" y="1357"/>
                  </a:lnTo>
                  <a:lnTo>
                    <a:pt x="3193" y="1327"/>
                  </a:lnTo>
                  <a:lnTo>
                    <a:pt x="3139" y="1327"/>
                  </a:lnTo>
                  <a:lnTo>
                    <a:pt x="3052" y="1327"/>
                  </a:lnTo>
                  <a:lnTo>
                    <a:pt x="2968" y="1300"/>
                  </a:lnTo>
                  <a:lnTo>
                    <a:pt x="2884" y="1273"/>
                  </a:lnTo>
                  <a:lnTo>
                    <a:pt x="2800" y="1273"/>
                  </a:lnTo>
                  <a:lnTo>
                    <a:pt x="2713" y="1243"/>
                  </a:lnTo>
                  <a:lnTo>
                    <a:pt x="2601" y="1243"/>
                  </a:lnTo>
                  <a:lnTo>
                    <a:pt x="2517" y="1216"/>
                  </a:lnTo>
                  <a:lnTo>
                    <a:pt x="2430" y="1186"/>
                  </a:lnTo>
                  <a:lnTo>
                    <a:pt x="2346" y="1186"/>
                  </a:lnTo>
                  <a:lnTo>
                    <a:pt x="2262" y="1159"/>
                  </a:lnTo>
                  <a:lnTo>
                    <a:pt x="2178" y="1159"/>
                  </a:lnTo>
                  <a:lnTo>
                    <a:pt x="2064" y="1132"/>
                  </a:lnTo>
                  <a:lnTo>
                    <a:pt x="1980" y="1102"/>
                  </a:lnTo>
                  <a:lnTo>
                    <a:pt x="1895" y="1102"/>
                  </a:lnTo>
                  <a:lnTo>
                    <a:pt x="1809" y="1074"/>
                  </a:lnTo>
                  <a:lnTo>
                    <a:pt x="1725" y="1074"/>
                  </a:lnTo>
                  <a:lnTo>
                    <a:pt x="1641" y="1045"/>
                  </a:lnTo>
                  <a:lnTo>
                    <a:pt x="1556" y="1045"/>
                  </a:lnTo>
                  <a:lnTo>
                    <a:pt x="1469" y="1018"/>
                  </a:lnTo>
                  <a:lnTo>
                    <a:pt x="1385" y="990"/>
                  </a:lnTo>
                  <a:lnTo>
                    <a:pt x="1274" y="990"/>
                  </a:lnTo>
                  <a:lnTo>
                    <a:pt x="1186" y="961"/>
                  </a:lnTo>
                  <a:lnTo>
                    <a:pt x="1102" y="961"/>
                  </a:lnTo>
                  <a:lnTo>
                    <a:pt x="1018" y="934"/>
                  </a:lnTo>
                  <a:lnTo>
                    <a:pt x="934" y="904"/>
                  </a:lnTo>
                  <a:lnTo>
                    <a:pt x="847" y="904"/>
                  </a:lnTo>
                  <a:lnTo>
                    <a:pt x="763" y="877"/>
                  </a:lnTo>
                  <a:lnTo>
                    <a:pt x="679" y="877"/>
                  </a:lnTo>
                  <a:lnTo>
                    <a:pt x="595" y="846"/>
                  </a:lnTo>
                  <a:lnTo>
                    <a:pt x="507" y="820"/>
                  </a:lnTo>
                  <a:lnTo>
                    <a:pt x="396" y="820"/>
                  </a:lnTo>
                  <a:lnTo>
                    <a:pt x="312" y="793"/>
                  </a:lnTo>
                  <a:lnTo>
                    <a:pt x="255" y="793"/>
                  </a:lnTo>
                  <a:lnTo>
                    <a:pt x="226" y="762"/>
                  </a:lnTo>
                  <a:lnTo>
                    <a:pt x="171" y="762"/>
                  </a:lnTo>
                  <a:lnTo>
                    <a:pt x="142" y="735"/>
                  </a:lnTo>
                  <a:lnTo>
                    <a:pt x="84" y="706"/>
                  </a:lnTo>
                  <a:lnTo>
                    <a:pt x="56" y="706"/>
                  </a:lnTo>
                  <a:lnTo>
                    <a:pt x="56" y="678"/>
                  </a:lnTo>
                  <a:lnTo>
                    <a:pt x="30" y="651"/>
                  </a:lnTo>
                  <a:lnTo>
                    <a:pt x="0" y="594"/>
                  </a:lnTo>
                  <a:lnTo>
                    <a:pt x="0" y="538"/>
                  </a:lnTo>
                  <a:lnTo>
                    <a:pt x="30" y="481"/>
                  </a:lnTo>
                  <a:lnTo>
                    <a:pt x="56" y="423"/>
                  </a:lnTo>
                  <a:lnTo>
                    <a:pt x="56" y="397"/>
                  </a:lnTo>
                  <a:lnTo>
                    <a:pt x="84" y="397"/>
                  </a:lnTo>
                  <a:lnTo>
                    <a:pt x="84" y="370"/>
                  </a:lnTo>
                  <a:lnTo>
                    <a:pt x="114" y="370"/>
                  </a:lnTo>
                  <a:lnTo>
                    <a:pt x="114" y="339"/>
                  </a:lnTo>
                  <a:lnTo>
                    <a:pt x="142" y="312"/>
                  </a:lnTo>
                  <a:lnTo>
                    <a:pt x="171" y="283"/>
                  </a:lnTo>
                  <a:lnTo>
                    <a:pt x="171" y="255"/>
                  </a:lnTo>
                  <a:lnTo>
                    <a:pt x="198" y="255"/>
                  </a:lnTo>
                  <a:lnTo>
                    <a:pt x="226" y="226"/>
                  </a:lnTo>
                  <a:lnTo>
                    <a:pt x="226" y="199"/>
                  </a:lnTo>
                  <a:lnTo>
                    <a:pt x="255" y="171"/>
                  </a:lnTo>
                  <a:lnTo>
                    <a:pt x="282" y="142"/>
                  </a:lnTo>
                  <a:lnTo>
                    <a:pt x="339" y="142"/>
                  </a:lnTo>
                  <a:lnTo>
                    <a:pt x="367" y="115"/>
                  </a:lnTo>
                  <a:lnTo>
                    <a:pt x="396" y="84"/>
                  </a:lnTo>
                  <a:lnTo>
                    <a:pt x="454" y="58"/>
                  </a:lnTo>
                  <a:lnTo>
                    <a:pt x="507" y="58"/>
                  </a:lnTo>
                  <a:lnTo>
                    <a:pt x="538" y="58"/>
                  </a:lnTo>
                  <a:lnTo>
                    <a:pt x="595" y="31"/>
                  </a:lnTo>
                  <a:lnTo>
                    <a:pt x="651" y="31"/>
                  </a:lnTo>
                  <a:lnTo>
                    <a:pt x="706" y="31"/>
                  </a:lnTo>
                  <a:lnTo>
                    <a:pt x="735" y="31"/>
                  </a:lnTo>
                  <a:lnTo>
                    <a:pt x="793" y="0"/>
                  </a:lnTo>
                  <a:lnTo>
                    <a:pt x="847" y="31"/>
                  </a:lnTo>
                  <a:lnTo>
                    <a:pt x="905" y="31"/>
                  </a:lnTo>
                  <a:lnTo>
                    <a:pt x="961" y="3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848120" y="3995640"/>
              <a:ext cx="1238400" cy="225360"/>
            </a:xfrm>
            <a:custGeom>
              <a:avLst/>
              <a:gdLst/>
              <a:ahLst/>
              <a:rect l="l" t="t" r="r" b="b"/>
              <a:pathLst>
                <a:path w="3900" h="706">
                  <a:moveTo>
                    <a:pt x="3900" y="253"/>
                  </a:moveTo>
                  <a:lnTo>
                    <a:pt x="3900" y="283"/>
                  </a:lnTo>
                  <a:lnTo>
                    <a:pt x="3873" y="283"/>
                  </a:lnTo>
                  <a:lnTo>
                    <a:pt x="3873" y="339"/>
                  </a:lnTo>
                  <a:lnTo>
                    <a:pt x="3842" y="339"/>
                  </a:lnTo>
                  <a:lnTo>
                    <a:pt x="3842" y="367"/>
                  </a:lnTo>
                  <a:lnTo>
                    <a:pt x="3815" y="423"/>
                  </a:lnTo>
                  <a:lnTo>
                    <a:pt x="3785" y="481"/>
                  </a:lnTo>
                  <a:lnTo>
                    <a:pt x="3785" y="508"/>
                  </a:lnTo>
                  <a:lnTo>
                    <a:pt x="3758" y="535"/>
                  </a:lnTo>
                  <a:lnTo>
                    <a:pt x="3731" y="565"/>
                  </a:lnTo>
                  <a:lnTo>
                    <a:pt x="3701" y="592"/>
                  </a:lnTo>
                  <a:lnTo>
                    <a:pt x="3674" y="592"/>
                  </a:lnTo>
                  <a:lnTo>
                    <a:pt x="3617" y="622"/>
                  </a:lnTo>
                  <a:lnTo>
                    <a:pt x="3587" y="649"/>
                  </a:lnTo>
                  <a:lnTo>
                    <a:pt x="3533" y="649"/>
                  </a:lnTo>
                  <a:lnTo>
                    <a:pt x="3503" y="676"/>
                  </a:lnTo>
                  <a:lnTo>
                    <a:pt x="3446" y="676"/>
                  </a:lnTo>
                  <a:lnTo>
                    <a:pt x="3391" y="706"/>
                  </a:lnTo>
                  <a:lnTo>
                    <a:pt x="3334" y="706"/>
                  </a:lnTo>
                  <a:lnTo>
                    <a:pt x="3278" y="706"/>
                  </a:lnTo>
                  <a:lnTo>
                    <a:pt x="3221" y="706"/>
                  </a:lnTo>
                  <a:lnTo>
                    <a:pt x="3163" y="676"/>
                  </a:lnTo>
                  <a:lnTo>
                    <a:pt x="3109" y="676"/>
                  </a:lnTo>
                  <a:lnTo>
                    <a:pt x="3022" y="676"/>
                  </a:lnTo>
                  <a:lnTo>
                    <a:pt x="2938" y="649"/>
                  </a:lnTo>
                  <a:lnTo>
                    <a:pt x="2854" y="622"/>
                  </a:lnTo>
                  <a:lnTo>
                    <a:pt x="2770" y="622"/>
                  </a:lnTo>
                  <a:lnTo>
                    <a:pt x="2683" y="592"/>
                  </a:lnTo>
                  <a:lnTo>
                    <a:pt x="2571" y="592"/>
                  </a:lnTo>
                  <a:lnTo>
                    <a:pt x="2487" y="565"/>
                  </a:lnTo>
                  <a:lnTo>
                    <a:pt x="2400" y="535"/>
                  </a:lnTo>
                  <a:lnTo>
                    <a:pt x="2316" y="535"/>
                  </a:lnTo>
                  <a:lnTo>
                    <a:pt x="2232" y="508"/>
                  </a:lnTo>
                  <a:lnTo>
                    <a:pt x="2148" y="508"/>
                  </a:lnTo>
                  <a:lnTo>
                    <a:pt x="2034" y="481"/>
                  </a:lnTo>
                  <a:lnTo>
                    <a:pt x="1950" y="451"/>
                  </a:lnTo>
                  <a:lnTo>
                    <a:pt x="1865" y="451"/>
                  </a:lnTo>
                  <a:lnTo>
                    <a:pt x="1779" y="423"/>
                  </a:lnTo>
                  <a:lnTo>
                    <a:pt x="1695" y="423"/>
                  </a:lnTo>
                  <a:lnTo>
                    <a:pt x="1611" y="394"/>
                  </a:lnTo>
                  <a:lnTo>
                    <a:pt x="1526" y="394"/>
                  </a:lnTo>
                  <a:lnTo>
                    <a:pt x="1439" y="367"/>
                  </a:lnTo>
                  <a:lnTo>
                    <a:pt x="1355" y="339"/>
                  </a:lnTo>
                  <a:lnTo>
                    <a:pt x="1244" y="339"/>
                  </a:lnTo>
                  <a:lnTo>
                    <a:pt x="1156" y="310"/>
                  </a:lnTo>
                  <a:lnTo>
                    <a:pt x="1072" y="310"/>
                  </a:lnTo>
                  <a:lnTo>
                    <a:pt x="988" y="283"/>
                  </a:lnTo>
                  <a:lnTo>
                    <a:pt x="904" y="253"/>
                  </a:lnTo>
                  <a:lnTo>
                    <a:pt x="817" y="253"/>
                  </a:lnTo>
                  <a:lnTo>
                    <a:pt x="733" y="226"/>
                  </a:lnTo>
                  <a:lnTo>
                    <a:pt x="649" y="226"/>
                  </a:lnTo>
                  <a:lnTo>
                    <a:pt x="535" y="195"/>
                  </a:lnTo>
                  <a:lnTo>
                    <a:pt x="450" y="169"/>
                  </a:lnTo>
                  <a:lnTo>
                    <a:pt x="366" y="169"/>
                  </a:lnTo>
                  <a:lnTo>
                    <a:pt x="282" y="142"/>
                  </a:lnTo>
                  <a:lnTo>
                    <a:pt x="225" y="142"/>
                  </a:lnTo>
                  <a:lnTo>
                    <a:pt x="196" y="111"/>
                  </a:lnTo>
                  <a:lnTo>
                    <a:pt x="141" y="111"/>
                  </a:lnTo>
                  <a:lnTo>
                    <a:pt x="112" y="84"/>
                  </a:lnTo>
                  <a:lnTo>
                    <a:pt x="54" y="55"/>
                  </a:lnTo>
                  <a:lnTo>
                    <a:pt x="26" y="55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00760" y="3843360"/>
              <a:ext cx="942840" cy="260280"/>
            </a:xfrm>
            <a:custGeom>
              <a:avLst/>
              <a:gdLst/>
              <a:ahLst/>
              <a:rect l="l" t="t" r="r" b="b"/>
              <a:pathLst>
                <a:path w="2969" h="819">
                  <a:moveTo>
                    <a:pt x="199" y="0"/>
                  </a:moveTo>
                  <a:lnTo>
                    <a:pt x="172" y="0"/>
                  </a:lnTo>
                  <a:lnTo>
                    <a:pt x="115" y="0"/>
                  </a:lnTo>
                  <a:lnTo>
                    <a:pt x="88" y="28"/>
                  </a:lnTo>
                  <a:lnTo>
                    <a:pt x="58" y="55"/>
                  </a:lnTo>
                  <a:lnTo>
                    <a:pt x="31" y="84"/>
                  </a:lnTo>
                  <a:lnTo>
                    <a:pt x="0" y="112"/>
                  </a:lnTo>
                  <a:lnTo>
                    <a:pt x="0" y="141"/>
                  </a:lnTo>
                  <a:lnTo>
                    <a:pt x="0" y="168"/>
                  </a:lnTo>
                  <a:lnTo>
                    <a:pt x="0" y="226"/>
                  </a:lnTo>
                  <a:lnTo>
                    <a:pt x="31" y="283"/>
                  </a:lnTo>
                  <a:lnTo>
                    <a:pt x="88" y="310"/>
                  </a:lnTo>
                  <a:lnTo>
                    <a:pt x="172" y="339"/>
                  </a:lnTo>
                  <a:lnTo>
                    <a:pt x="228" y="367"/>
                  </a:lnTo>
                  <a:lnTo>
                    <a:pt x="313" y="367"/>
                  </a:lnTo>
                  <a:lnTo>
                    <a:pt x="370" y="367"/>
                  </a:lnTo>
                  <a:lnTo>
                    <a:pt x="427" y="394"/>
                  </a:lnTo>
                  <a:lnTo>
                    <a:pt x="511" y="394"/>
                  </a:lnTo>
                  <a:lnTo>
                    <a:pt x="595" y="394"/>
                  </a:lnTo>
                  <a:lnTo>
                    <a:pt x="679" y="423"/>
                  </a:lnTo>
                  <a:lnTo>
                    <a:pt x="767" y="451"/>
                  </a:lnTo>
                  <a:lnTo>
                    <a:pt x="851" y="451"/>
                  </a:lnTo>
                  <a:lnTo>
                    <a:pt x="935" y="480"/>
                  </a:lnTo>
                  <a:lnTo>
                    <a:pt x="1019" y="507"/>
                  </a:lnTo>
                  <a:lnTo>
                    <a:pt x="1103" y="507"/>
                  </a:lnTo>
                  <a:lnTo>
                    <a:pt x="1190" y="535"/>
                  </a:lnTo>
                  <a:lnTo>
                    <a:pt x="1274" y="535"/>
                  </a:lnTo>
                  <a:lnTo>
                    <a:pt x="1358" y="564"/>
                  </a:lnTo>
                  <a:lnTo>
                    <a:pt x="1443" y="591"/>
                  </a:lnTo>
                  <a:lnTo>
                    <a:pt x="1530" y="622"/>
                  </a:lnTo>
                  <a:lnTo>
                    <a:pt x="1614" y="622"/>
                  </a:lnTo>
                  <a:lnTo>
                    <a:pt x="1698" y="649"/>
                  </a:lnTo>
                  <a:lnTo>
                    <a:pt x="1813" y="649"/>
                  </a:lnTo>
                  <a:lnTo>
                    <a:pt x="1897" y="675"/>
                  </a:lnTo>
                  <a:lnTo>
                    <a:pt x="2010" y="706"/>
                  </a:lnTo>
                  <a:lnTo>
                    <a:pt x="2094" y="733"/>
                  </a:lnTo>
                  <a:lnTo>
                    <a:pt x="2178" y="733"/>
                  </a:lnTo>
                  <a:lnTo>
                    <a:pt x="2262" y="763"/>
                  </a:lnTo>
                  <a:lnTo>
                    <a:pt x="2348" y="763"/>
                  </a:lnTo>
                  <a:lnTo>
                    <a:pt x="2404" y="790"/>
                  </a:lnTo>
                  <a:lnTo>
                    <a:pt x="2488" y="790"/>
                  </a:lnTo>
                  <a:lnTo>
                    <a:pt x="2545" y="819"/>
                  </a:lnTo>
                  <a:lnTo>
                    <a:pt x="2602" y="819"/>
                  </a:lnTo>
                  <a:lnTo>
                    <a:pt x="2660" y="819"/>
                  </a:lnTo>
                  <a:lnTo>
                    <a:pt x="2717" y="790"/>
                  </a:lnTo>
                  <a:lnTo>
                    <a:pt x="2773" y="790"/>
                  </a:lnTo>
                  <a:lnTo>
                    <a:pt x="2801" y="763"/>
                  </a:lnTo>
                  <a:lnTo>
                    <a:pt x="2828" y="763"/>
                  </a:lnTo>
                  <a:lnTo>
                    <a:pt x="2857" y="733"/>
                  </a:lnTo>
                  <a:lnTo>
                    <a:pt x="2885" y="675"/>
                  </a:lnTo>
                  <a:lnTo>
                    <a:pt x="2914" y="649"/>
                  </a:lnTo>
                  <a:lnTo>
                    <a:pt x="2941" y="622"/>
                  </a:lnTo>
                  <a:lnTo>
                    <a:pt x="2969" y="591"/>
                  </a:lnTo>
                  <a:lnTo>
                    <a:pt x="2969" y="564"/>
                  </a:lnTo>
                  <a:lnTo>
                    <a:pt x="2969" y="535"/>
                  </a:lnTo>
                  <a:lnTo>
                    <a:pt x="2969" y="507"/>
                  </a:lnTo>
                  <a:lnTo>
                    <a:pt x="2969" y="4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37120" y="3889440"/>
              <a:ext cx="852480" cy="152280"/>
            </a:xfrm>
            <a:custGeom>
              <a:avLst/>
              <a:gdLst/>
              <a:ahLst/>
              <a:rect l="l" t="t" r="r" b="b"/>
              <a:pathLst>
                <a:path w="2686" h="481">
                  <a:moveTo>
                    <a:pt x="0" y="27"/>
                  </a:moveTo>
                  <a:lnTo>
                    <a:pt x="29" y="27"/>
                  </a:lnTo>
                  <a:lnTo>
                    <a:pt x="57" y="27"/>
                  </a:lnTo>
                  <a:lnTo>
                    <a:pt x="84" y="0"/>
                  </a:lnTo>
                  <a:lnTo>
                    <a:pt x="113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25" y="0"/>
                  </a:lnTo>
                  <a:lnTo>
                    <a:pt x="255" y="0"/>
                  </a:lnTo>
                  <a:lnTo>
                    <a:pt x="312" y="0"/>
                  </a:lnTo>
                  <a:lnTo>
                    <a:pt x="367" y="0"/>
                  </a:lnTo>
                  <a:lnTo>
                    <a:pt x="424" y="27"/>
                  </a:lnTo>
                  <a:lnTo>
                    <a:pt x="480" y="27"/>
                  </a:lnTo>
                  <a:lnTo>
                    <a:pt x="564" y="27"/>
                  </a:lnTo>
                  <a:lnTo>
                    <a:pt x="621" y="58"/>
                  </a:lnTo>
                  <a:lnTo>
                    <a:pt x="679" y="58"/>
                  </a:lnTo>
                  <a:lnTo>
                    <a:pt x="763" y="85"/>
                  </a:lnTo>
                  <a:lnTo>
                    <a:pt x="820" y="85"/>
                  </a:lnTo>
                  <a:lnTo>
                    <a:pt x="904" y="111"/>
                  </a:lnTo>
                  <a:lnTo>
                    <a:pt x="961" y="111"/>
                  </a:lnTo>
                  <a:lnTo>
                    <a:pt x="1046" y="111"/>
                  </a:lnTo>
                  <a:lnTo>
                    <a:pt x="1103" y="142"/>
                  </a:lnTo>
                  <a:lnTo>
                    <a:pt x="1187" y="142"/>
                  </a:lnTo>
                  <a:lnTo>
                    <a:pt x="1243" y="169"/>
                  </a:lnTo>
                  <a:lnTo>
                    <a:pt x="1328" y="169"/>
                  </a:lnTo>
                  <a:lnTo>
                    <a:pt x="1415" y="198"/>
                  </a:lnTo>
                  <a:lnTo>
                    <a:pt x="1469" y="198"/>
                  </a:lnTo>
                  <a:lnTo>
                    <a:pt x="1556" y="226"/>
                  </a:lnTo>
                  <a:lnTo>
                    <a:pt x="1610" y="226"/>
                  </a:lnTo>
                  <a:lnTo>
                    <a:pt x="1698" y="253"/>
                  </a:lnTo>
                  <a:lnTo>
                    <a:pt x="1782" y="253"/>
                  </a:lnTo>
                  <a:lnTo>
                    <a:pt x="1838" y="282"/>
                  </a:lnTo>
                  <a:lnTo>
                    <a:pt x="1895" y="282"/>
                  </a:lnTo>
                  <a:lnTo>
                    <a:pt x="1979" y="310"/>
                  </a:lnTo>
                  <a:lnTo>
                    <a:pt x="2036" y="310"/>
                  </a:lnTo>
                  <a:lnTo>
                    <a:pt x="2121" y="339"/>
                  </a:lnTo>
                  <a:lnTo>
                    <a:pt x="2178" y="339"/>
                  </a:lnTo>
                  <a:lnTo>
                    <a:pt x="2233" y="339"/>
                  </a:lnTo>
                  <a:lnTo>
                    <a:pt x="2319" y="366"/>
                  </a:lnTo>
                  <a:lnTo>
                    <a:pt x="2373" y="366"/>
                  </a:lnTo>
                  <a:lnTo>
                    <a:pt x="2430" y="366"/>
                  </a:lnTo>
                  <a:lnTo>
                    <a:pt x="2460" y="366"/>
                  </a:lnTo>
                  <a:lnTo>
                    <a:pt x="2487" y="394"/>
                  </a:lnTo>
                  <a:lnTo>
                    <a:pt x="2517" y="394"/>
                  </a:lnTo>
                  <a:lnTo>
                    <a:pt x="2545" y="394"/>
                  </a:lnTo>
                  <a:lnTo>
                    <a:pt x="2571" y="423"/>
                  </a:lnTo>
                  <a:lnTo>
                    <a:pt x="2629" y="450"/>
                  </a:lnTo>
                  <a:lnTo>
                    <a:pt x="2658" y="450"/>
                  </a:lnTo>
                  <a:lnTo>
                    <a:pt x="2686" y="4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578480" y="3987720"/>
              <a:ext cx="234720" cy="61920"/>
            </a:xfrm>
            <a:custGeom>
              <a:avLst/>
              <a:gdLst/>
              <a:ahLst/>
              <a:rect l="l" t="t" r="r" b="b"/>
              <a:pathLst>
                <a:path w="736" h="198">
                  <a:moveTo>
                    <a:pt x="0" y="198"/>
                  </a:moveTo>
                  <a:lnTo>
                    <a:pt x="29" y="198"/>
                  </a:lnTo>
                  <a:lnTo>
                    <a:pt x="87" y="171"/>
                  </a:lnTo>
                  <a:lnTo>
                    <a:pt x="141" y="171"/>
                  </a:lnTo>
                  <a:lnTo>
                    <a:pt x="171" y="171"/>
                  </a:lnTo>
                  <a:lnTo>
                    <a:pt x="228" y="140"/>
                  </a:lnTo>
                  <a:lnTo>
                    <a:pt x="283" y="140"/>
                  </a:lnTo>
                  <a:lnTo>
                    <a:pt x="339" y="113"/>
                  </a:lnTo>
                  <a:lnTo>
                    <a:pt x="369" y="113"/>
                  </a:lnTo>
                  <a:lnTo>
                    <a:pt x="423" y="113"/>
                  </a:lnTo>
                  <a:lnTo>
                    <a:pt x="480" y="84"/>
                  </a:lnTo>
                  <a:lnTo>
                    <a:pt x="511" y="84"/>
                  </a:lnTo>
                  <a:lnTo>
                    <a:pt x="564" y="56"/>
                  </a:lnTo>
                  <a:lnTo>
                    <a:pt x="622" y="56"/>
                  </a:lnTo>
                  <a:lnTo>
                    <a:pt x="652" y="29"/>
                  </a:lnTo>
                  <a:lnTo>
                    <a:pt x="706" y="29"/>
                  </a:lnTo>
                  <a:lnTo>
                    <a:pt x="73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97560" y="3924360"/>
              <a:ext cx="241200" cy="81000"/>
            </a:xfrm>
            <a:custGeom>
              <a:avLst/>
              <a:gdLst/>
              <a:ahLst/>
              <a:rect l="l" t="t" r="r" b="b"/>
              <a:pathLst>
                <a:path w="763" h="255">
                  <a:moveTo>
                    <a:pt x="0" y="255"/>
                  </a:moveTo>
                  <a:lnTo>
                    <a:pt x="57" y="228"/>
                  </a:lnTo>
                  <a:lnTo>
                    <a:pt x="84" y="199"/>
                  </a:lnTo>
                  <a:lnTo>
                    <a:pt x="114" y="199"/>
                  </a:lnTo>
                  <a:lnTo>
                    <a:pt x="171" y="171"/>
                  </a:lnTo>
                  <a:lnTo>
                    <a:pt x="198" y="171"/>
                  </a:lnTo>
                  <a:lnTo>
                    <a:pt x="255" y="142"/>
                  </a:lnTo>
                  <a:lnTo>
                    <a:pt x="312" y="142"/>
                  </a:lnTo>
                  <a:lnTo>
                    <a:pt x="339" y="115"/>
                  </a:lnTo>
                  <a:lnTo>
                    <a:pt x="396" y="115"/>
                  </a:lnTo>
                  <a:lnTo>
                    <a:pt x="423" y="115"/>
                  </a:lnTo>
                  <a:lnTo>
                    <a:pt x="481" y="87"/>
                  </a:lnTo>
                  <a:lnTo>
                    <a:pt x="507" y="87"/>
                  </a:lnTo>
                  <a:lnTo>
                    <a:pt x="565" y="87"/>
                  </a:lnTo>
                  <a:lnTo>
                    <a:pt x="595" y="58"/>
                  </a:lnTo>
                  <a:lnTo>
                    <a:pt x="649" y="58"/>
                  </a:lnTo>
                  <a:lnTo>
                    <a:pt x="679" y="58"/>
                  </a:lnTo>
                  <a:lnTo>
                    <a:pt x="706" y="58"/>
                  </a:lnTo>
                  <a:lnTo>
                    <a:pt x="735" y="31"/>
                  </a:lnTo>
                  <a:lnTo>
                    <a:pt x="76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95840" y="3860640"/>
              <a:ext cx="169920" cy="55800"/>
            </a:xfrm>
            <a:custGeom>
              <a:avLst/>
              <a:gdLst/>
              <a:ahLst/>
              <a:rect l="l" t="t" r="r" b="b"/>
              <a:pathLst>
                <a:path w="535" h="171">
                  <a:moveTo>
                    <a:pt x="0" y="171"/>
                  </a:moveTo>
                  <a:lnTo>
                    <a:pt x="27" y="144"/>
                  </a:lnTo>
                  <a:lnTo>
                    <a:pt x="54" y="144"/>
                  </a:lnTo>
                  <a:lnTo>
                    <a:pt x="84" y="144"/>
                  </a:lnTo>
                  <a:lnTo>
                    <a:pt x="142" y="113"/>
                  </a:lnTo>
                  <a:lnTo>
                    <a:pt x="169" y="113"/>
                  </a:lnTo>
                  <a:lnTo>
                    <a:pt x="195" y="113"/>
                  </a:lnTo>
                  <a:lnTo>
                    <a:pt x="226" y="113"/>
                  </a:lnTo>
                  <a:lnTo>
                    <a:pt x="283" y="86"/>
                  </a:lnTo>
                  <a:lnTo>
                    <a:pt x="310" y="86"/>
                  </a:lnTo>
                  <a:lnTo>
                    <a:pt x="337" y="57"/>
                  </a:lnTo>
                  <a:lnTo>
                    <a:pt x="394" y="57"/>
                  </a:lnTo>
                  <a:lnTo>
                    <a:pt x="423" y="57"/>
                  </a:lnTo>
                  <a:lnTo>
                    <a:pt x="451" y="29"/>
                  </a:lnTo>
                  <a:lnTo>
                    <a:pt x="481" y="29"/>
                  </a:lnTo>
                  <a:lnTo>
                    <a:pt x="507" y="29"/>
                  </a:lnTo>
                  <a:lnTo>
                    <a:pt x="53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776840" y="3798720"/>
              <a:ext cx="179280" cy="44640"/>
            </a:xfrm>
            <a:custGeom>
              <a:avLst/>
              <a:gdLst/>
              <a:ahLst/>
              <a:rect l="l" t="t" r="r" b="b"/>
              <a:pathLst>
                <a:path w="565" h="140">
                  <a:moveTo>
                    <a:pt x="0" y="140"/>
                  </a:moveTo>
                  <a:lnTo>
                    <a:pt x="30" y="140"/>
                  </a:lnTo>
                  <a:lnTo>
                    <a:pt x="57" y="140"/>
                  </a:lnTo>
                  <a:lnTo>
                    <a:pt x="114" y="111"/>
                  </a:lnTo>
                  <a:lnTo>
                    <a:pt x="141" y="111"/>
                  </a:lnTo>
                  <a:lnTo>
                    <a:pt x="170" y="111"/>
                  </a:lnTo>
                  <a:lnTo>
                    <a:pt x="198" y="84"/>
                  </a:lnTo>
                  <a:lnTo>
                    <a:pt x="254" y="84"/>
                  </a:lnTo>
                  <a:lnTo>
                    <a:pt x="282" y="84"/>
                  </a:lnTo>
                  <a:lnTo>
                    <a:pt x="312" y="53"/>
                  </a:lnTo>
                  <a:lnTo>
                    <a:pt x="340" y="53"/>
                  </a:lnTo>
                  <a:lnTo>
                    <a:pt x="396" y="53"/>
                  </a:lnTo>
                  <a:lnTo>
                    <a:pt x="424" y="27"/>
                  </a:lnTo>
                  <a:lnTo>
                    <a:pt x="453" y="27"/>
                  </a:lnTo>
                  <a:lnTo>
                    <a:pt x="480" y="27"/>
                  </a:lnTo>
                  <a:lnTo>
                    <a:pt x="510" y="0"/>
                  </a:lnTo>
                  <a:lnTo>
                    <a:pt x="5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03840" y="3754440"/>
              <a:ext cx="250920" cy="44280"/>
            </a:xfrm>
            <a:custGeom>
              <a:avLst/>
              <a:gdLst/>
              <a:ahLst/>
              <a:rect l="l" t="t" r="r" b="b"/>
              <a:pathLst>
                <a:path w="793" h="142">
                  <a:moveTo>
                    <a:pt x="0" y="142"/>
                  </a:moveTo>
                  <a:lnTo>
                    <a:pt x="30" y="142"/>
                  </a:lnTo>
                  <a:lnTo>
                    <a:pt x="57" y="142"/>
                  </a:lnTo>
                  <a:lnTo>
                    <a:pt x="57" y="111"/>
                  </a:lnTo>
                  <a:lnTo>
                    <a:pt x="86" y="111"/>
                  </a:lnTo>
                  <a:lnTo>
                    <a:pt x="114" y="111"/>
                  </a:lnTo>
                  <a:lnTo>
                    <a:pt x="144" y="111"/>
                  </a:lnTo>
                  <a:lnTo>
                    <a:pt x="709" y="0"/>
                  </a:lnTo>
                  <a:lnTo>
                    <a:pt x="736" y="0"/>
                  </a:lnTo>
                  <a:lnTo>
                    <a:pt x="765" y="0"/>
                  </a:lnTo>
                  <a:lnTo>
                    <a:pt x="7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122880" y="3987720"/>
              <a:ext cx="260280" cy="44640"/>
            </a:xfrm>
            <a:custGeom>
              <a:avLst/>
              <a:gdLst/>
              <a:ahLst/>
              <a:rect l="l" t="t" r="r" b="b"/>
              <a:pathLst>
                <a:path w="818" h="140">
                  <a:moveTo>
                    <a:pt x="0" y="140"/>
                  </a:moveTo>
                  <a:lnTo>
                    <a:pt x="28" y="140"/>
                  </a:lnTo>
                  <a:lnTo>
                    <a:pt x="84" y="140"/>
                  </a:lnTo>
                  <a:lnTo>
                    <a:pt x="141" y="113"/>
                  </a:lnTo>
                  <a:lnTo>
                    <a:pt x="169" y="113"/>
                  </a:lnTo>
                  <a:lnTo>
                    <a:pt x="225" y="84"/>
                  </a:lnTo>
                  <a:lnTo>
                    <a:pt x="283" y="84"/>
                  </a:lnTo>
                  <a:lnTo>
                    <a:pt x="340" y="84"/>
                  </a:lnTo>
                  <a:lnTo>
                    <a:pt x="367" y="56"/>
                  </a:lnTo>
                  <a:lnTo>
                    <a:pt x="424" y="56"/>
                  </a:lnTo>
                  <a:lnTo>
                    <a:pt x="481" y="29"/>
                  </a:lnTo>
                  <a:lnTo>
                    <a:pt x="535" y="29"/>
                  </a:lnTo>
                  <a:lnTo>
                    <a:pt x="565" y="29"/>
                  </a:lnTo>
                  <a:lnTo>
                    <a:pt x="623" y="0"/>
                  </a:lnTo>
                  <a:lnTo>
                    <a:pt x="676" y="0"/>
                  </a:lnTo>
                  <a:lnTo>
                    <a:pt x="707" y="0"/>
                  </a:lnTo>
                  <a:lnTo>
                    <a:pt x="764" y="0"/>
                  </a:lnTo>
                  <a:lnTo>
                    <a:pt x="8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095880" y="4041720"/>
              <a:ext cx="270000" cy="44640"/>
            </a:xfrm>
            <a:custGeom>
              <a:avLst/>
              <a:gdLst/>
              <a:ahLst/>
              <a:rect l="l" t="t" r="r" b="b"/>
              <a:pathLst>
                <a:path w="851" h="141">
                  <a:moveTo>
                    <a:pt x="0" y="141"/>
                  </a:moveTo>
                  <a:lnTo>
                    <a:pt x="58" y="141"/>
                  </a:lnTo>
                  <a:lnTo>
                    <a:pt x="115" y="141"/>
                  </a:lnTo>
                  <a:lnTo>
                    <a:pt x="142" y="141"/>
                  </a:lnTo>
                  <a:lnTo>
                    <a:pt x="199" y="141"/>
                  </a:lnTo>
                  <a:lnTo>
                    <a:pt x="256" y="141"/>
                  </a:lnTo>
                  <a:lnTo>
                    <a:pt x="312" y="141"/>
                  </a:lnTo>
                  <a:lnTo>
                    <a:pt x="370" y="111"/>
                  </a:lnTo>
                  <a:lnTo>
                    <a:pt x="397" y="111"/>
                  </a:lnTo>
                  <a:lnTo>
                    <a:pt x="454" y="84"/>
                  </a:lnTo>
                  <a:lnTo>
                    <a:pt x="511" y="84"/>
                  </a:lnTo>
                  <a:lnTo>
                    <a:pt x="568" y="53"/>
                  </a:lnTo>
                  <a:lnTo>
                    <a:pt x="622" y="53"/>
                  </a:lnTo>
                  <a:lnTo>
                    <a:pt x="652" y="27"/>
                  </a:lnTo>
                  <a:lnTo>
                    <a:pt x="710" y="27"/>
                  </a:lnTo>
                  <a:lnTo>
                    <a:pt x="763" y="0"/>
                  </a:lnTo>
                  <a:lnTo>
                    <a:pt x="794" y="0"/>
                  </a:lnTo>
                  <a:lnTo>
                    <a:pt x="821" y="0"/>
                  </a:lnTo>
                  <a:lnTo>
                    <a:pt x="851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59520" y="4103640"/>
              <a:ext cx="270000" cy="54000"/>
            </a:xfrm>
            <a:custGeom>
              <a:avLst/>
              <a:gdLst/>
              <a:ahLst/>
              <a:rect l="l" t="t" r="r" b="b"/>
              <a:pathLst>
                <a:path w="848" h="169">
                  <a:moveTo>
                    <a:pt x="0" y="169"/>
                  </a:moveTo>
                  <a:lnTo>
                    <a:pt x="27" y="169"/>
                  </a:lnTo>
                  <a:lnTo>
                    <a:pt x="58" y="169"/>
                  </a:lnTo>
                  <a:lnTo>
                    <a:pt x="111" y="142"/>
                  </a:lnTo>
                  <a:lnTo>
                    <a:pt x="142" y="142"/>
                  </a:lnTo>
                  <a:lnTo>
                    <a:pt x="198" y="142"/>
                  </a:lnTo>
                  <a:lnTo>
                    <a:pt x="226" y="142"/>
                  </a:lnTo>
                  <a:lnTo>
                    <a:pt x="282" y="112"/>
                  </a:lnTo>
                  <a:lnTo>
                    <a:pt x="310" y="112"/>
                  </a:lnTo>
                  <a:lnTo>
                    <a:pt x="367" y="112"/>
                  </a:lnTo>
                  <a:lnTo>
                    <a:pt x="423" y="84"/>
                  </a:lnTo>
                  <a:lnTo>
                    <a:pt x="451" y="84"/>
                  </a:lnTo>
                  <a:lnTo>
                    <a:pt x="508" y="84"/>
                  </a:lnTo>
                  <a:lnTo>
                    <a:pt x="538" y="55"/>
                  </a:lnTo>
                  <a:lnTo>
                    <a:pt x="565" y="55"/>
                  </a:lnTo>
                  <a:lnTo>
                    <a:pt x="622" y="55"/>
                  </a:lnTo>
                  <a:lnTo>
                    <a:pt x="649" y="28"/>
                  </a:lnTo>
                  <a:lnTo>
                    <a:pt x="679" y="28"/>
                  </a:lnTo>
                  <a:lnTo>
                    <a:pt x="706" y="28"/>
                  </a:lnTo>
                  <a:lnTo>
                    <a:pt x="733" y="28"/>
                  </a:lnTo>
                  <a:lnTo>
                    <a:pt x="763" y="28"/>
                  </a:lnTo>
                  <a:lnTo>
                    <a:pt x="790" y="0"/>
                  </a:lnTo>
                  <a:lnTo>
                    <a:pt x="821" y="0"/>
                  </a:lnTo>
                  <a:lnTo>
                    <a:pt x="84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818320" y="4175280"/>
              <a:ext cx="484200" cy="71280"/>
            </a:xfrm>
            <a:custGeom>
              <a:avLst/>
              <a:gdLst/>
              <a:ahLst/>
              <a:rect l="l" t="t" r="r" b="b"/>
              <a:pathLst>
                <a:path w="1526" h="225">
                  <a:moveTo>
                    <a:pt x="0" y="225"/>
                  </a:moveTo>
                  <a:lnTo>
                    <a:pt x="85" y="225"/>
                  </a:lnTo>
                  <a:lnTo>
                    <a:pt x="142" y="197"/>
                  </a:lnTo>
                  <a:lnTo>
                    <a:pt x="226" y="197"/>
                  </a:lnTo>
                  <a:lnTo>
                    <a:pt x="282" y="197"/>
                  </a:lnTo>
                  <a:lnTo>
                    <a:pt x="366" y="168"/>
                  </a:lnTo>
                  <a:lnTo>
                    <a:pt x="424" y="168"/>
                  </a:lnTo>
                  <a:lnTo>
                    <a:pt x="508" y="168"/>
                  </a:lnTo>
                  <a:lnTo>
                    <a:pt x="565" y="141"/>
                  </a:lnTo>
                  <a:lnTo>
                    <a:pt x="649" y="141"/>
                  </a:lnTo>
                  <a:lnTo>
                    <a:pt x="706" y="141"/>
                  </a:lnTo>
                  <a:lnTo>
                    <a:pt x="790" y="141"/>
                  </a:lnTo>
                  <a:lnTo>
                    <a:pt x="848" y="111"/>
                  </a:lnTo>
                  <a:lnTo>
                    <a:pt x="932" y="111"/>
                  </a:lnTo>
                  <a:lnTo>
                    <a:pt x="989" y="111"/>
                  </a:lnTo>
                  <a:lnTo>
                    <a:pt x="1045" y="84"/>
                  </a:lnTo>
                  <a:lnTo>
                    <a:pt x="1130" y="84"/>
                  </a:lnTo>
                  <a:lnTo>
                    <a:pt x="1157" y="57"/>
                  </a:lnTo>
                  <a:lnTo>
                    <a:pt x="1214" y="57"/>
                  </a:lnTo>
                  <a:lnTo>
                    <a:pt x="1271" y="57"/>
                  </a:lnTo>
                  <a:lnTo>
                    <a:pt x="1328" y="27"/>
                  </a:lnTo>
                  <a:lnTo>
                    <a:pt x="1385" y="27"/>
                  </a:lnTo>
                  <a:lnTo>
                    <a:pt x="1442" y="0"/>
                  </a:lnTo>
                  <a:lnTo>
                    <a:pt x="1469" y="0"/>
                  </a:lnTo>
                  <a:lnTo>
                    <a:pt x="152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34240" y="4238640"/>
              <a:ext cx="331560" cy="63360"/>
            </a:xfrm>
            <a:custGeom>
              <a:avLst/>
              <a:gdLst/>
              <a:ahLst/>
              <a:rect l="l" t="t" r="r" b="b"/>
              <a:pathLst>
                <a:path w="1046" h="199">
                  <a:moveTo>
                    <a:pt x="0" y="199"/>
                  </a:moveTo>
                  <a:lnTo>
                    <a:pt x="58" y="169"/>
                  </a:lnTo>
                  <a:lnTo>
                    <a:pt x="142" y="169"/>
                  </a:lnTo>
                  <a:lnTo>
                    <a:pt x="199" y="142"/>
                  </a:lnTo>
                  <a:lnTo>
                    <a:pt x="256" y="142"/>
                  </a:lnTo>
                  <a:lnTo>
                    <a:pt x="313" y="112"/>
                  </a:lnTo>
                  <a:lnTo>
                    <a:pt x="397" y="112"/>
                  </a:lnTo>
                  <a:lnTo>
                    <a:pt x="455" y="112"/>
                  </a:lnTo>
                  <a:lnTo>
                    <a:pt x="508" y="84"/>
                  </a:lnTo>
                  <a:lnTo>
                    <a:pt x="566" y="84"/>
                  </a:lnTo>
                  <a:lnTo>
                    <a:pt x="623" y="84"/>
                  </a:lnTo>
                  <a:lnTo>
                    <a:pt x="707" y="55"/>
                  </a:lnTo>
                  <a:lnTo>
                    <a:pt x="764" y="55"/>
                  </a:lnTo>
                  <a:lnTo>
                    <a:pt x="820" y="55"/>
                  </a:lnTo>
                  <a:lnTo>
                    <a:pt x="878" y="28"/>
                  </a:lnTo>
                  <a:lnTo>
                    <a:pt x="935" y="28"/>
                  </a:lnTo>
                  <a:lnTo>
                    <a:pt x="990" y="28"/>
                  </a:lnTo>
                  <a:lnTo>
                    <a:pt x="1019" y="28"/>
                  </a:lnTo>
                  <a:lnTo>
                    <a:pt x="1019" y="0"/>
                  </a:lnTo>
                  <a:lnTo>
                    <a:pt x="104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61040" y="4149720"/>
              <a:ext cx="169920" cy="44280"/>
            </a:xfrm>
            <a:custGeom>
              <a:avLst/>
              <a:gdLst/>
              <a:ahLst/>
              <a:rect l="l" t="t" r="r" b="b"/>
              <a:pathLst>
                <a:path w="537" h="141">
                  <a:moveTo>
                    <a:pt x="0" y="141"/>
                  </a:moveTo>
                  <a:lnTo>
                    <a:pt x="30" y="111"/>
                  </a:lnTo>
                  <a:lnTo>
                    <a:pt x="57" y="111"/>
                  </a:lnTo>
                  <a:lnTo>
                    <a:pt x="114" y="111"/>
                  </a:lnTo>
                  <a:lnTo>
                    <a:pt x="141" y="111"/>
                  </a:lnTo>
                  <a:lnTo>
                    <a:pt x="171" y="84"/>
                  </a:lnTo>
                  <a:lnTo>
                    <a:pt x="198" y="84"/>
                  </a:lnTo>
                  <a:lnTo>
                    <a:pt x="255" y="84"/>
                  </a:lnTo>
                  <a:lnTo>
                    <a:pt x="282" y="84"/>
                  </a:lnTo>
                  <a:lnTo>
                    <a:pt x="313" y="54"/>
                  </a:lnTo>
                  <a:lnTo>
                    <a:pt x="340" y="54"/>
                  </a:lnTo>
                  <a:lnTo>
                    <a:pt x="397" y="54"/>
                  </a:lnTo>
                  <a:lnTo>
                    <a:pt x="424" y="27"/>
                  </a:lnTo>
                  <a:lnTo>
                    <a:pt x="453" y="27"/>
                  </a:lnTo>
                  <a:lnTo>
                    <a:pt x="481" y="27"/>
                  </a:lnTo>
                  <a:lnTo>
                    <a:pt x="510" y="0"/>
                  </a:lnTo>
                  <a:lnTo>
                    <a:pt x="53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578480" y="4022640"/>
              <a:ext cx="36360" cy="460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0"/>
                  </a:moveTo>
                  <a:lnTo>
                    <a:pt x="29" y="0"/>
                  </a:lnTo>
                  <a:lnTo>
                    <a:pt x="57" y="27"/>
                  </a:lnTo>
                  <a:lnTo>
                    <a:pt x="87" y="58"/>
                  </a:lnTo>
                  <a:lnTo>
                    <a:pt x="87" y="85"/>
                  </a:lnTo>
                  <a:lnTo>
                    <a:pt x="114" y="111"/>
                  </a:lnTo>
                  <a:lnTo>
                    <a:pt x="114" y="1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624560" y="3968640"/>
              <a:ext cx="98280" cy="135000"/>
            </a:xfrm>
            <a:custGeom>
              <a:avLst/>
              <a:gdLst/>
              <a:ahLst/>
              <a:rect l="l" t="t" r="r" b="b"/>
              <a:pathLst>
                <a:path w="312" h="425">
                  <a:moveTo>
                    <a:pt x="0" y="0"/>
                  </a:moveTo>
                  <a:lnTo>
                    <a:pt x="30" y="29"/>
                  </a:lnTo>
                  <a:lnTo>
                    <a:pt x="57" y="57"/>
                  </a:lnTo>
                  <a:lnTo>
                    <a:pt x="87" y="86"/>
                  </a:lnTo>
                  <a:lnTo>
                    <a:pt x="114" y="141"/>
                  </a:lnTo>
                  <a:lnTo>
                    <a:pt x="114" y="170"/>
                  </a:lnTo>
                  <a:lnTo>
                    <a:pt x="142" y="197"/>
                  </a:lnTo>
                  <a:lnTo>
                    <a:pt x="171" y="255"/>
                  </a:lnTo>
                  <a:lnTo>
                    <a:pt x="198" y="281"/>
                  </a:lnTo>
                  <a:lnTo>
                    <a:pt x="228" y="312"/>
                  </a:lnTo>
                  <a:lnTo>
                    <a:pt x="228" y="339"/>
                  </a:lnTo>
                  <a:lnTo>
                    <a:pt x="255" y="339"/>
                  </a:lnTo>
                  <a:lnTo>
                    <a:pt x="282" y="369"/>
                  </a:lnTo>
                  <a:lnTo>
                    <a:pt x="282" y="396"/>
                  </a:lnTo>
                  <a:lnTo>
                    <a:pt x="312" y="396"/>
                  </a:lnTo>
                  <a:lnTo>
                    <a:pt x="312" y="4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686480" y="3924360"/>
              <a:ext cx="126720" cy="179280"/>
            </a:xfrm>
            <a:custGeom>
              <a:avLst/>
              <a:gdLst/>
              <a:ahLst/>
              <a:rect l="l" t="t" r="r" b="b"/>
              <a:pathLst>
                <a:path w="397" h="567">
                  <a:moveTo>
                    <a:pt x="0" y="0"/>
                  </a:moveTo>
                  <a:lnTo>
                    <a:pt x="30" y="31"/>
                  </a:lnTo>
                  <a:lnTo>
                    <a:pt x="30" y="58"/>
                  </a:lnTo>
                  <a:lnTo>
                    <a:pt x="57" y="87"/>
                  </a:lnTo>
                  <a:lnTo>
                    <a:pt x="57" y="115"/>
                  </a:lnTo>
                  <a:lnTo>
                    <a:pt x="84" y="115"/>
                  </a:lnTo>
                  <a:lnTo>
                    <a:pt x="84" y="142"/>
                  </a:lnTo>
                  <a:lnTo>
                    <a:pt x="141" y="171"/>
                  </a:lnTo>
                  <a:lnTo>
                    <a:pt x="172" y="228"/>
                  </a:lnTo>
                  <a:lnTo>
                    <a:pt x="225" y="283"/>
                  </a:lnTo>
                  <a:lnTo>
                    <a:pt x="256" y="339"/>
                  </a:lnTo>
                  <a:lnTo>
                    <a:pt x="283" y="397"/>
                  </a:lnTo>
                  <a:lnTo>
                    <a:pt x="313" y="454"/>
                  </a:lnTo>
                  <a:lnTo>
                    <a:pt x="367" y="511"/>
                  </a:lnTo>
                  <a:lnTo>
                    <a:pt x="397" y="56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749840" y="3860640"/>
              <a:ext cx="196920" cy="2797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03840" y="3781440"/>
              <a:ext cx="61920" cy="98280"/>
            </a:xfrm>
            <a:custGeom>
              <a:avLst/>
              <a:gdLst/>
              <a:ahLst/>
              <a:rect l="l" t="t" r="r" b="b"/>
              <a:pathLst>
                <a:path w="198" h="309">
                  <a:moveTo>
                    <a:pt x="0" y="0"/>
                  </a:moveTo>
                  <a:lnTo>
                    <a:pt x="30" y="26"/>
                  </a:lnTo>
                  <a:lnTo>
                    <a:pt x="57" y="84"/>
                  </a:lnTo>
                  <a:lnTo>
                    <a:pt x="86" y="110"/>
                  </a:lnTo>
                  <a:lnTo>
                    <a:pt x="86" y="168"/>
                  </a:lnTo>
                  <a:lnTo>
                    <a:pt x="114" y="197"/>
                  </a:lnTo>
                  <a:lnTo>
                    <a:pt x="144" y="252"/>
                  </a:lnTo>
                  <a:lnTo>
                    <a:pt x="170" y="281"/>
                  </a:lnTo>
                  <a:lnTo>
                    <a:pt x="198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48120" y="3745080"/>
              <a:ext cx="63720" cy="98280"/>
            </a:xfrm>
            <a:custGeom>
              <a:avLst/>
              <a:gdLst/>
              <a:ahLst/>
              <a:rect l="l" t="t" r="r" b="b"/>
              <a:pathLst>
                <a:path w="196" h="312">
                  <a:moveTo>
                    <a:pt x="0" y="0"/>
                  </a:moveTo>
                  <a:lnTo>
                    <a:pt x="26" y="30"/>
                  </a:lnTo>
                  <a:lnTo>
                    <a:pt x="54" y="84"/>
                  </a:lnTo>
                  <a:lnTo>
                    <a:pt x="84" y="115"/>
                  </a:lnTo>
                  <a:lnTo>
                    <a:pt x="112" y="141"/>
                  </a:lnTo>
                  <a:lnTo>
                    <a:pt x="141" y="199"/>
                  </a:lnTo>
                  <a:lnTo>
                    <a:pt x="141" y="225"/>
                  </a:lnTo>
                  <a:lnTo>
                    <a:pt x="168" y="283"/>
                  </a:lnTo>
                  <a:lnTo>
                    <a:pt x="196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19760" y="3736800"/>
              <a:ext cx="54000" cy="619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91040" y="3745080"/>
              <a:ext cx="46080" cy="53640"/>
            </a:xfrm>
            <a:custGeom>
              <a:avLst/>
              <a:gdLst/>
              <a:ahLst/>
              <a:rect l="l" t="t" r="r" b="b"/>
              <a:pathLst>
                <a:path w="142" h="172">
                  <a:moveTo>
                    <a:pt x="0" y="0"/>
                  </a:moveTo>
                  <a:lnTo>
                    <a:pt x="27" y="0"/>
                  </a:lnTo>
                  <a:lnTo>
                    <a:pt x="27" y="30"/>
                  </a:lnTo>
                  <a:lnTo>
                    <a:pt x="58" y="57"/>
                  </a:lnTo>
                  <a:lnTo>
                    <a:pt x="58" y="84"/>
                  </a:lnTo>
                  <a:lnTo>
                    <a:pt x="85" y="115"/>
                  </a:lnTo>
                  <a:lnTo>
                    <a:pt x="85" y="141"/>
                  </a:lnTo>
                  <a:lnTo>
                    <a:pt x="115" y="141"/>
                  </a:lnTo>
                  <a:lnTo>
                    <a:pt x="142" y="17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73760" y="4057560"/>
              <a:ext cx="81000" cy="100080"/>
            </a:xfrm>
            <a:custGeom>
              <a:avLst/>
              <a:gdLst/>
              <a:ahLst/>
              <a:rect l="l" t="t" r="r" b="b"/>
              <a:pathLst>
                <a:path w="256" h="313">
                  <a:moveTo>
                    <a:pt x="0" y="0"/>
                  </a:moveTo>
                  <a:lnTo>
                    <a:pt x="57" y="31"/>
                  </a:lnTo>
                  <a:lnTo>
                    <a:pt x="84" y="88"/>
                  </a:lnTo>
                  <a:lnTo>
                    <a:pt x="115" y="115"/>
                  </a:lnTo>
                  <a:lnTo>
                    <a:pt x="142" y="144"/>
                  </a:lnTo>
                  <a:lnTo>
                    <a:pt x="172" y="199"/>
                  </a:lnTo>
                  <a:lnTo>
                    <a:pt x="199" y="228"/>
                  </a:lnTo>
                  <a:lnTo>
                    <a:pt x="228" y="286"/>
                  </a:lnTo>
                  <a:lnTo>
                    <a:pt x="256" y="31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72040" y="4076640"/>
              <a:ext cx="100080" cy="125640"/>
            </a:xfrm>
            <a:custGeom>
              <a:avLst/>
              <a:gdLst/>
              <a:ahLst/>
              <a:rect l="l" t="t" r="r" b="b"/>
              <a:pathLst>
                <a:path w="311" h="396">
                  <a:moveTo>
                    <a:pt x="0" y="0"/>
                  </a:moveTo>
                  <a:lnTo>
                    <a:pt x="28" y="30"/>
                  </a:lnTo>
                  <a:lnTo>
                    <a:pt x="85" y="86"/>
                  </a:lnTo>
                  <a:lnTo>
                    <a:pt x="112" y="141"/>
                  </a:lnTo>
                  <a:lnTo>
                    <a:pt x="170" y="198"/>
                  </a:lnTo>
                  <a:lnTo>
                    <a:pt x="199" y="228"/>
                  </a:lnTo>
                  <a:lnTo>
                    <a:pt x="226" y="282"/>
                  </a:lnTo>
                  <a:lnTo>
                    <a:pt x="283" y="339"/>
                  </a:lnTo>
                  <a:lnTo>
                    <a:pt x="311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189400" y="4094280"/>
              <a:ext cx="88920" cy="108000"/>
            </a:xfrm>
            <a:custGeom>
              <a:avLst/>
              <a:gdLst/>
              <a:ahLst/>
              <a:rect l="l" t="t" r="r" b="b"/>
              <a:pathLst>
                <a:path w="283" h="339">
                  <a:moveTo>
                    <a:pt x="0" y="0"/>
                  </a:moveTo>
                  <a:lnTo>
                    <a:pt x="28" y="29"/>
                  </a:lnTo>
                  <a:lnTo>
                    <a:pt x="84" y="84"/>
                  </a:lnTo>
                  <a:lnTo>
                    <a:pt x="115" y="113"/>
                  </a:lnTo>
                  <a:lnTo>
                    <a:pt x="172" y="171"/>
                  </a:lnTo>
                  <a:lnTo>
                    <a:pt x="199" y="225"/>
                  </a:lnTo>
                  <a:lnTo>
                    <a:pt x="226" y="255"/>
                  </a:lnTo>
                  <a:lnTo>
                    <a:pt x="256" y="312"/>
                  </a:lnTo>
                  <a:lnTo>
                    <a:pt x="283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288040" y="4113360"/>
              <a:ext cx="81000" cy="107640"/>
            </a:xfrm>
            <a:custGeom>
              <a:avLst/>
              <a:gdLst/>
              <a:ahLst/>
              <a:rect l="l" t="t" r="r" b="b"/>
              <a:pathLst>
                <a:path w="253" h="339">
                  <a:moveTo>
                    <a:pt x="0" y="0"/>
                  </a:moveTo>
                  <a:lnTo>
                    <a:pt x="27" y="27"/>
                  </a:lnTo>
                  <a:lnTo>
                    <a:pt x="54" y="84"/>
                  </a:lnTo>
                  <a:lnTo>
                    <a:pt x="111" y="114"/>
                  </a:lnTo>
                  <a:lnTo>
                    <a:pt x="141" y="168"/>
                  </a:lnTo>
                  <a:lnTo>
                    <a:pt x="168" y="198"/>
                  </a:lnTo>
                  <a:lnTo>
                    <a:pt x="195" y="255"/>
                  </a:lnTo>
                  <a:lnTo>
                    <a:pt x="226" y="282"/>
                  </a:lnTo>
                  <a:lnTo>
                    <a:pt x="253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96040" y="4140360"/>
              <a:ext cx="108000" cy="98280"/>
            </a:xfrm>
            <a:custGeom>
              <a:avLst/>
              <a:gdLst/>
              <a:ahLst/>
              <a:rect l="l" t="t" r="r" b="b"/>
              <a:pathLst>
                <a:path w="339" h="311">
                  <a:moveTo>
                    <a:pt x="0" y="0"/>
                  </a:moveTo>
                  <a:lnTo>
                    <a:pt x="57" y="30"/>
                  </a:lnTo>
                  <a:lnTo>
                    <a:pt x="86" y="57"/>
                  </a:lnTo>
                  <a:lnTo>
                    <a:pt x="143" y="84"/>
                  </a:lnTo>
                  <a:lnTo>
                    <a:pt x="198" y="141"/>
                  </a:lnTo>
                  <a:lnTo>
                    <a:pt x="228" y="171"/>
                  </a:lnTo>
                  <a:lnTo>
                    <a:pt x="285" y="225"/>
                  </a:lnTo>
                  <a:lnTo>
                    <a:pt x="312" y="282"/>
                  </a:lnTo>
                  <a:lnTo>
                    <a:pt x="339" y="3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21320" y="4157640"/>
              <a:ext cx="81000" cy="88920"/>
            </a:xfrm>
            <a:custGeom>
              <a:avLst/>
              <a:gdLst/>
              <a:ahLst/>
              <a:rect l="l" t="t" r="r" b="b"/>
              <a:pathLst>
                <a:path w="256" h="282">
                  <a:moveTo>
                    <a:pt x="0" y="0"/>
                  </a:moveTo>
                  <a:lnTo>
                    <a:pt x="30" y="27"/>
                  </a:lnTo>
                  <a:lnTo>
                    <a:pt x="84" y="57"/>
                  </a:lnTo>
                  <a:lnTo>
                    <a:pt x="114" y="114"/>
                  </a:lnTo>
                  <a:lnTo>
                    <a:pt x="141" y="141"/>
                  </a:lnTo>
                  <a:lnTo>
                    <a:pt x="172" y="168"/>
                  </a:lnTo>
                  <a:lnTo>
                    <a:pt x="198" y="198"/>
                  </a:lnTo>
                  <a:lnTo>
                    <a:pt x="256" y="225"/>
                  </a:lnTo>
                  <a:lnTo>
                    <a:pt x="256" y="2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29320" y="4175280"/>
              <a:ext cx="98280" cy="98280"/>
            </a:xfrm>
            <a:custGeom>
              <a:avLst/>
              <a:gdLst/>
              <a:ahLst/>
              <a:rect l="l" t="t" r="r" b="b"/>
              <a:pathLst>
                <a:path w="312" h="309">
                  <a:moveTo>
                    <a:pt x="0" y="0"/>
                  </a:moveTo>
                  <a:lnTo>
                    <a:pt x="29" y="57"/>
                  </a:lnTo>
                  <a:lnTo>
                    <a:pt x="56" y="84"/>
                  </a:lnTo>
                  <a:lnTo>
                    <a:pt x="113" y="111"/>
                  </a:lnTo>
                  <a:lnTo>
                    <a:pt x="141" y="168"/>
                  </a:lnTo>
                  <a:lnTo>
                    <a:pt x="197" y="197"/>
                  </a:lnTo>
                  <a:lnTo>
                    <a:pt x="225" y="225"/>
                  </a:lnTo>
                  <a:lnTo>
                    <a:pt x="281" y="281"/>
                  </a:lnTo>
                  <a:lnTo>
                    <a:pt x="312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18240" y="4194000"/>
              <a:ext cx="100080" cy="88920"/>
            </a:xfrm>
            <a:custGeom>
              <a:avLst/>
              <a:gdLst/>
              <a:ahLst/>
              <a:rect l="l" t="t" r="r" b="b"/>
              <a:pathLst>
                <a:path w="313" h="282">
                  <a:moveTo>
                    <a:pt x="0" y="0"/>
                  </a:moveTo>
                  <a:lnTo>
                    <a:pt x="31" y="0"/>
                  </a:lnTo>
                  <a:lnTo>
                    <a:pt x="31" y="27"/>
                  </a:lnTo>
                  <a:lnTo>
                    <a:pt x="58" y="54"/>
                  </a:lnTo>
                  <a:lnTo>
                    <a:pt x="86" y="84"/>
                  </a:lnTo>
                  <a:lnTo>
                    <a:pt x="115" y="84"/>
                  </a:lnTo>
                  <a:lnTo>
                    <a:pt x="142" y="111"/>
                  </a:lnTo>
                  <a:lnTo>
                    <a:pt x="172" y="140"/>
                  </a:lnTo>
                  <a:lnTo>
                    <a:pt x="199" y="168"/>
                  </a:lnTo>
                  <a:lnTo>
                    <a:pt x="226" y="195"/>
                  </a:lnTo>
                  <a:lnTo>
                    <a:pt x="256" y="224"/>
                  </a:lnTo>
                  <a:lnTo>
                    <a:pt x="283" y="252"/>
                  </a:lnTo>
                  <a:lnTo>
                    <a:pt x="313" y="2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35600" y="4211640"/>
              <a:ext cx="142920" cy="106200"/>
            </a:xfrm>
            <a:custGeom>
              <a:avLst/>
              <a:gdLst/>
              <a:ahLst/>
              <a:rect l="l" t="t" r="r" b="b"/>
              <a:pathLst>
                <a:path w="451" h="339">
                  <a:moveTo>
                    <a:pt x="0" y="0"/>
                  </a:moveTo>
                  <a:lnTo>
                    <a:pt x="28" y="0"/>
                  </a:lnTo>
                  <a:lnTo>
                    <a:pt x="54" y="30"/>
                  </a:lnTo>
                  <a:lnTo>
                    <a:pt x="85" y="30"/>
                  </a:lnTo>
                  <a:lnTo>
                    <a:pt x="112" y="57"/>
                  </a:lnTo>
                  <a:lnTo>
                    <a:pt x="141" y="57"/>
                  </a:lnTo>
                  <a:lnTo>
                    <a:pt x="169" y="86"/>
                  </a:lnTo>
                  <a:lnTo>
                    <a:pt x="196" y="86"/>
                  </a:lnTo>
                  <a:lnTo>
                    <a:pt x="225" y="114"/>
                  </a:lnTo>
                  <a:lnTo>
                    <a:pt x="253" y="141"/>
                  </a:lnTo>
                  <a:lnTo>
                    <a:pt x="282" y="170"/>
                  </a:lnTo>
                  <a:lnTo>
                    <a:pt x="309" y="198"/>
                  </a:lnTo>
                  <a:lnTo>
                    <a:pt x="337" y="228"/>
                  </a:lnTo>
                  <a:lnTo>
                    <a:pt x="337" y="255"/>
                  </a:lnTo>
                  <a:lnTo>
                    <a:pt x="367" y="285"/>
                  </a:lnTo>
                  <a:lnTo>
                    <a:pt x="394" y="285"/>
                  </a:lnTo>
                  <a:lnTo>
                    <a:pt x="424" y="312"/>
                  </a:lnTo>
                  <a:lnTo>
                    <a:pt x="451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70600" y="4202280"/>
              <a:ext cx="206280" cy="171360"/>
            </a:xfrm>
            <a:custGeom>
              <a:avLst/>
              <a:gdLst/>
              <a:ahLst/>
              <a:rect l="l" t="t" r="r" b="b"/>
              <a:pathLst>
                <a:path w="649" h="537">
                  <a:moveTo>
                    <a:pt x="0" y="0"/>
                  </a:moveTo>
                  <a:lnTo>
                    <a:pt x="27" y="27"/>
                  </a:lnTo>
                  <a:lnTo>
                    <a:pt x="54" y="57"/>
                  </a:lnTo>
                  <a:lnTo>
                    <a:pt x="111" y="84"/>
                  </a:lnTo>
                  <a:lnTo>
                    <a:pt x="141" y="113"/>
                  </a:lnTo>
                  <a:lnTo>
                    <a:pt x="168" y="141"/>
                  </a:lnTo>
                  <a:lnTo>
                    <a:pt x="225" y="197"/>
                  </a:lnTo>
                  <a:lnTo>
                    <a:pt x="252" y="225"/>
                  </a:lnTo>
                  <a:lnTo>
                    <a:pt x="282" y="255"/>
                  </a:lnTo>
                  <a:lnTo>
                    <a:pt x="340" y="282"/>
                  </a:lnTo>
                  <a:lnTo>
                    <a:pt x="367" y="312"/>
                  </a:lnTo>
                  <a:lnTo>
                    <a:pt x="393" y="339"/>
                  </a:lnTo>
                  <a:lnTo>
                    <a:pt x="451" y="396"/>
                  </a:lnTo>
                  <a:lnTo>
                    <a:pt x="480" y="423"/>
                  </a:lnTo>
                  <a:lnTo>
                    <a:pt x="508" y="453"/>
                  </a:lnTo>
                  <a:lnTo>
                    <a:pt x="564" y="480"/>
                  </a:lnTo>
                  <a:lnTo>
                    <a:pt x="592" y="480"/>
                  </a:lnTo>
                  <a:lnTo>
                    <a:pt x="592" y="507"/>
                  </a:lnTo>
                  <a:lnTo>
                    <a:pt x="621" y="507"/>
                  </a:lnTo>
                  <a:lnTo>
                    <a:pt x="621" y="537"/>
                  </a:lnTo>
                  <a:lnTo>
                    <a:pt x="649" y="5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068880" y="4165560"/>
              <a:ext cx="162000" cy="162000"/>
            </a:xfrm>
            <a:custGeom>
              <a:avLst/>
              <a:gdLst/>
              <a:ahLst/>
              <a:rect l="l" t="t" r="r" b="b"/>
              <a:pathLst>
                <a:path w="511" h="510">
                  <a:moveTo>
                    <a:pt x="0" y="0"/>
                  </a:moveTo>
                  <a:lnTo>
                    <a:pt x="58" y="30"/>
                  </a:lnTo>
                  <a:lnTo>
                    <a:pt x="115" y="87"/>
                  </a:lnTo>
                  <a:lnTo>
                    <a:pt x="142" y="141"/>
                  </a:lnTo>
                  <a:lnTo>
                    <a:pt x="199" y="198"/>
                  </a:lnTo>
                  <a:lnTo>
                    <a:pt x="255" y="255"/>
                  </a:lnTo>
                  <a:lnTo>
                    <a:pt x="312" y="311"/>
                  </a:lnTo>
                  <a:lnTo>
                    <a:pt x="367" y="369"/>
                  </a:lnTo>
                  <a:lnTo>
                    <a:pt x="424" y="396"/>
                  </a:lnTo>
                  <a:lnTo>
                    <a:pt x="424" y="426"/>
                  </a:lnTo>
                  <a:lnTo>
                    <a:pt x="454" y="426"/>
                  </a:lnTo>
                  <a:lnTo>
                    <a:pt x="454" y="453"/>
                  </a:lnTo>
                  <a:lnTo>
                    <a:pt x="481" y="453"/>
                  </a:lnTo>
                  <a:lnTo>
                    <a:pt x="481" y="480"/>
                  </a:lnTo>
                  <a:lnTo>
                    <a:pt x="511" y="5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62400" y="3754440"/>
              <a:ext cx="34920" cy="44280"/>
            </a:xfrm>
            <a:custGeom>
              <a:avLst/>
              <a:gdLst/>
              <a:ahLst/>
              <a:rect l="l" t="t" r="r" b="b"/>
              <a:pathLst>
                <a:path w="112" h="142">
                  <a:moveTo>
                    <a:pt x="0" y="0"/>
                  </a:moveTo>
                  <a:lnTo>
                    <a:pt x="28" y="27"/>
                  </a:lnTo>
                  <a:lnTo>
                    <a:pt x="57" y="54"/>
                  </a:lnTo>
                  <a:lnTo>
                    <a:pt x="57" y="85"/>
                  </a:lnTo>
                  <a:lnTo>
                    <a:pt x="84" y="85"/>
                  </a:lnTo>
                  <a:lnTo>
                    <a:pt x="112" y="111"/>
                  </a:lnTo>
                  <a:lnTo>
                    <a:pt x="112" y="1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34040" y="3762360"/>
              <a:ext cx="63360" cy="5400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0" y="0"/>
                  </a:moveTo>
                  <a:lnTo>
                    <a:pt x="31" y="0"/>
                  </a:lnTo>
                  <a:lnTo>
                    <a:pt x="58" y="27"/>
                  </a:lnTo>
                  <a:lnTo>
                    <a:pt x="85" y="58"/>
                  </a:lnTo>
                  <a:lnTo>
                    <a:pt x="115" y="58"/>
                  </a:lnTo>
                  <a:lnTo>
                    <a:pt x="142" y="84"/>
                  </a:lnTo>
                  <a:lnTo>
                    <a:pt x="172" y="115"/>
                  </a:lnTo>
                  <a:lnTo>
                    <a:pt x="172" y="142"/>
                  </a:lnTo>
                  <a:lnTo>
                    <a:pt x="199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334120" y="3772080"/>
              <a:ext cx="71280" cy="71280"/>
            </a:xfrm>
            <a:custGeom>
              <a:avLst/>
              <a:gdLst/>
              <a:ahLst/>
              <a:rect l="l" t="t" r="r" b="b"/>
              <a:pathLst>
                <a:path w="225" h="228">
                  <a:moveTo>
                    <a:pt x="0" y="0"/>
                  </a:moveTo>
                  <a:lnTo>
                    <a:pt x="27" y="31"/>
                  </a:lnTo>
                  <a:lnTo>
                    <a:pt x="54" y="57"/>
                  </a:lnTo>
                  <a:lnTo>
                    <a:pt x="85" y="88"/>
                  </a:lnTo>
                  <a:lnTo>
                    <a:pt x="112" y="115"/>
                  </a:lnTo>
                  <a:lnTo>
                    <a:pt x="169" y="141"/>
                  </a:lnTo>
                  <a:lnTo>
                    <a:pt x="196" y="172"/>
                  </a:lnTo>
                  <a:lnTo>
                    <a:pt x="225" y="199"/>
                  </a:lnTo>
                  <a:lnTo>
                    <a:pt x="225" y="2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430960" y="3798720"/>
              <a:ext cx="82440" cy="61920"/>
            </a:xfrm>
            <a:custGeom>
              <a:avLst/>
              <a:gdLst/>
              <a:ahLst/>
              <a:rect l="l" t="t" r="r" b="b"/>
              <a:pathLst>
                <a:path w="256" h="195">
                  <a:moveTo>
                    <a:pt x="0" y="0"/>
                  </a:moveTo>
                  <a:lnTo>
                    <a:pt x="30" y="0"/>
                  </a:lnTo>
                  <a:lnTo>
                    <a:pt x="57" y="27"/>
                  </a:lnTo>
                  <a:lnTo>
                    <a:pt x="115" y="53"/>
                  </a:lnTo>
                  <a:lnTo>
                    <a:pt x="141" y="84"/>
                  </a:lnTo>
                  <a:lnTo>
                    <a:pt x="172" y="111"/>
                  </a:lnTo>
                  <a:lnTo>
                    <a:pt x="226" y="140"/>
                  </a:lnTo>
                  <a:lnTo>
                    <a:pt x="256" y="168"/>
                  </a:lnTo>
                  <a:lnTo>
                    <a:pt x="256" y="19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65600" y="3835440"/>
              <a:ext cx="81000" cy="54000"/>
            </a:xfrm>
            <a:custGeom>
              <a:avLst/>
              <a:gdLst/>
              <a:ahLst/>
              <a:rect l="l" t="t" r="r" b="b"/>
              <a:pathLst>
                <a:path w="255" h="170">
                  <a:moveTo>
                    <a:pt x="0" y="0"/>
                  </a:moveTo>
                  <a:lnTo>
                    <a:pt x="31" y="0"/>
                  </a:lnTo>
                  <a:lnTo>
                    <a:pt x="57" y="29"/>
                  </a:lnTo>
                  <a:lnTo>
                    <a:pt x="115" y="57"/>
                  </a:lnTo>
                  <a:lnTo>
                    <a:pt x="141" y="57"/>
                  </a:lnTo>
                  <a:lnTo>
                    <a:pt x="171" y="84"/>
                  </a:lnTo>
                  <a:lnTo>
                    <a:pt x="199" y="113"/>
                  </a:lnTo>
                  <a:lnTo>
                    <a:pt x="228" y="141"/>
                  </a:lnTo>
                  <a:lnTo>
                    <a:pt x="255" y="1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683320" y="3860640"/>
              <a:ext cx="61920" cy="46080"/>
            </a:xfrm>
            <a:custGeom>
              <a:avLst/>
              <a:gdLst/>
              <a:ahLst/>
              <a:rect l="l" t="t" r="r" b="b"/>
              <a:pathLst>
                <a:path w="197" h="144">
                  <a:moveTo>
                    <a:pt x="0" y="0"/>
                  </a:moveTo>
                  <a:lnTo>
                    <a:pt x="0" y="29"/>
                  </a:lnTo>
                  <a:lnTo>
                    <a:pt x="27" y="57"/>
                  </a:lnTo>
                  <a:lnTo>
                    <a:pt x="55" y="57"/>
                  </a:lnTo>
                  <a:lnTo>
                    <a:pt x="85" y="86"/>
                  </a:lnTo>
                  <a:lnTo>
                    <a:pt x="111" y="86"/>
                  </a:lnTo>
                  <a:lnTo>
                    <a:pt x="142" y="113"/>
                  </a:lnTo>
                  <a:lnTo>
                    <a:pt x="169" y="144"/>
                  </a:lnTo>
                  <a:lnTo>
                    <a:pt x="197" y="14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978520" y="3924360"/>
              <a:ext cx="351000" cy="206280"/>
            </a:xfrm>
            <a:custGeom>
              <a:avLst/>
              <a:gdLst/>
              <a:ahLst/>
              <a:rect l="l" t="t" r="r" b="b"/>
              <a:pathLst>
                <a:path w="1103" h="651">
                  <a:moveTo>
                    <a:pt x="0" y="0"/>
                  </a:moveTo>
                  <a:lnTo>
                    <a:pt x="27" y="0"/>
                  </a:lnTo>
                  <a:lnTo>
                    <a:pt x="57" y="31"/>
                  </a:lnTo>
                  <a:lnTo>
                    <a:pt x="84" y="31"/>
                  </a:lnTo>
                  <a:lnTo>
                    <a:pt x="114" y="58"/>
                  </a:lnTo>
                  <a:lnTo>
                    <a:pt x="141" y="87"/>
                  </a:lnTo>
                  <a:lnTo>
                    <a:pt x="171" y="87"/>
                  </a:lnTo>
                  <a:lnTo>
                    <a:pt x="198" y="115"/>
                  </a:lnTo>
                  <a:lnTo>
                    <a:pt x="225" y="142"/>
                  </a:lnTo>
                  <a:lnTo>
                    <a:pt x="282" y="171"/>
                  </a:lnTo>
                  <a:lnTo>
                    <a:pt x="313" y="199"/>
                  </a:lnTo>
                  <a:lnTo>
                    <a:pt x="397" y="228"/>
                  </a:lnTo>
                  <a:lnTo>
                    <a:pt x="453" y="283"/>
                  </a:lnTo>
                  <a:lnTo>
                    <a:pt x="508" y="312"/>
                  </a:lnTo>
                  <a:lnTo>
                    <a:pt x="537" y="339"/>
                  </a:lnTo>
                  <a:lnTo>
                    <a:pt x="565" y="370"/>
                  </a:lnTo>
                  <a:lnTo>
                    <a:pt x="594" y="370"/>
                  </a:lnTo>
                  <a:lnTo>
                    <a:pt x="622" y="397"/>
                  </a:lnTo>
                  <a:lnTo>
                    <a:pt x="678" y="397"/>
                  </a:lnTo>
                  <a:lnTo>
                    <a:pt x="706" y="423"/>
                  </a:lnTo>
                  <a:lnTo>
                    <a:pt x="736" y="423"/>
                  </a:lnTo>
                  <a:lnTo>
                    <a:pt x="763" y="454"/>
                  </a:lnTo>
                  <a:lnTo>
                    <a:pt x="820" y="481"/>
                  </a:lnTo>
                  <a:lnTo>
                    <a:pt x="848" y="481"/>
                  </a:lnTo>
                  <a:lnTo>
                    <a:pt x="877" y="511"/>
                  </a:lnTo>
                  <a:lnTo>
                    <a:pt x="904" y="538"/>
                  </a:lnTo>
                  <a:lnTo>
                    <a:pt x="934" y="538"/>
                  </a:lnTo>
                  <a:lnTo>
                    <a:pt x="988" y="567"/>
                  </a:lnTo>
                  <a:lnTo>
                    <a:pt x="1018" y="595"/>
                  </a:lnTo>
                  <a:lnTo>
                    <a:pt x="1045" y="595"/>
                  </a:lnTo>
                  <a:lnTo>
                    <a:pt x="1076" y="622"/>
                  </a:lnTo>
                  <a:lnTo>
                    <a:pt x="1103" y="65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105600" y="4076640"/>
              <a:ext cx="204840" cy="125640"/>
            </a:xfrm>
            <a:custGeom>
              <a:avLst/>
              <a:gdLst/>
              <a:ahLst/>
              <a:rect l="l" t="t" r="r" b="b"/>
              <a:pathLst>
                <a:path w="648" h="396">
                  <a:moveTo>
                    <a:pt x="0" y="0"/>
                  </a:moveTo>
                  <a:lnTo>
                    <a:pt x="27" y="30"/>
                  </a:lnTo>
                  <a:lnTo>
                    <a:pt x="84" y="30"/>
                  </a:lnTo>
                  <a:lnTo>
                    <a:pt x="111" y="57"/>
                  </a:lnTo>
                  <a:lnTo>
                    <a:pt x="140" y="86"/>
                  </a:lnTo>
                  <a:lnTo>
                    <a:pt x="197" y="114"/>
                  </a:lnTo>
                  <a:lnTo>
                    <a:pt x="225" y="141"/>
                  </a:lnTo>
                  <a:lnTo>
                    <a:pt x="252" y="170"/>
                  </a:lnTo>
                  <a:lnTo>
                    <a:pt x="281" y="198"/>
                  </a:lnTo>
                  <a:lnTo>
                    <a:pt x="339" y="228"/>
                  </a:lnTo>
                  <a:lnTo>
                    <a:pt x="366" y="255"/>
                  </a:lnTo>
                  <a:lnTo>
                    <a:pt x="396" y="282"/>
                  </a:lnTo>
                  <a:lnTo>
                    <a:pt x="451" y="312"/>
                  </a:lnTo>
                  <a:lnTo>
                    <a:pt x="480" y="339"/>
                  </a:lnTo>
                  <a:lnTo>
                    <a:pt x="537" y="339"/>
                  </a:lnTo>
                  <a:lnTo>
                    <a:pt x="564" y="369"/>
                  </a:lnTo>
                  <a:lnTo>
                    <a:pt x="591" y="396"/>
                  </a:lnTo>
                  <a:lnTo>
                    <a:pt x="621" y="396"/>
                  </a:lnTo>
                  <a:lnTo>
                    <a:pt x="648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05600" y="3924360"/>
              <a:ext cx="241200" cy="162000"/>
            </a:xfrm>
            <a:custGeom>
              <a:avLst/>
              <a:gdLst/>
              <a:ahLst/>
              <a:rect l="l" t="t" r="r" b="b"/>
              <a:pathLst>
                <a:path w="763" h="511">
                  <a:moveTo>
                    <a:pt x="0" y="0"/>
                  </a:moveTo>
                  <a:lnTo>
                    <a:pt x="27" y="31"/>
                  </a:lnTo>
                  <a:lnTo>
                    <a:pt x="56" y="58"/>
                  </a:lnTo>
                  <a:lnTo>
                    <a:pt x="84" y="87"/>
                  </a:lnTo>
                  <a:lnTo>
                    <a:pt x="111" y="115"/>
                  </a:lnTo>
                  <a:lnTo>
                    <a:pt x="140" y="142"/>
                  </a:lnTo>
                  <a:lnTo>
                    <a:pt x="197" y="142"/>
                  </a:lnTo>
                  <a:lnTo>
                    <a:pt x="225" y="171"/>
                  </a:lnTo>
                  <a:lnTo>
                    <a:pt x="252" y="199"/>
                  </a:lnTo>
                  <a:lnTo>
                    <a:pt x="281" y="228"/>
                  </a:lnTo>
                  <a:lnTo>
                    <a:pt x="309" y="228"/>
                  </a:lnTo>
                  <a:lnTo>
                    <a:pt x="366" y="255"/>
                  </a:lnTo>
                  <a:lnTo>
                    <a:pt x="396" y="283"/>
                  </a:lnTo>
                  <a:lnTo>
                    <a:pt x="423" y="283"/>
                  </a:lnTo>
                  <a:lnTo>
                    <a:pt x="451" y="312"/>
                  </a:lnTo>
                  <a:lnTo>
                    <a:pt x="480" y="339"/>
                  </a:lnTo>
                  <a:lnTo>
                    <a:pt x="537" y="339"/>
                  </a:lnTo>
                  <a:lnTo>
                    <a:pt x="564" y="370"/>
                  </a:lnTo>
                  <a:lnTo>
                    <a:pt x="591" y="397"/>
                  </a:lnTo>
                  <a:lnTo>
                    <a:pt x="621" y="423"/>
                  </a:lnTo>
                  <a:lnTo>
                    <a:pt x="648" y="423"/>
                  </a:lnTo>
                  <a:lnTo>
                    <a:pt x="679" y="454"/>
                  </a:lnTo>
                  <a:lnTo>
                    <a:pt x="706" y="481"/>
                  </a:lnTo>
                  <a:lnTo>
                    <a:pt x="732" y="511"/>
                  </a:lnTo>
                  <a:lnTo>
                    <a:pt x="763" y="5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230880" y="3968640"/>
              <a:ext cx="106560" cy="63720"/>
            </a:xfrm>
            <a:custGeom>
              <a:avLst/>
              <a:gdLst/>
              <a:ahLst/>
              <a:rect l="l" t="t" r="r" b="b"/>
              <a:pathLst>
                <a:path w="336" h="197">
                  <a:moveTo>
                    <a:pt x="336" y="197"/>
                  </a:moveTo>
                  <a:lnTo>
                    <a:pt x="310" y="170"/>
                  </a:lnTo>
                  <a:lnTo>
                    <a:pt x="283" y="170"/>
                  </a:lnTo>
                  <a:lnTo>
                    <a:pt x="252" y="170"/>
                  </a:lnTo>
                  <a:lnTo>
                    <a:pt x="225" y="141"/>
                  </a:lnTo>
                  <a:lnTo>
                    <a:pt x="195" y="141"/>
                  </a:lnTo>
                  <a:lnTo>
                    <a:pt x="168" y="141"/>
                  </a:lnTo>
                  <a:lnTo>
                    <a:pt x="141" y="113"/>
                  </a:lnTo>
                  <a:lnTo>
                    <a:pt x="111" y="86"/>
                  </a:lnTo>
                  <a:lnTo>
                    <a:pt x="84" y="86"/>
                  </a:lnTo>
                  <a:lnTo>
                    <a:pt x="84" y="57"/>
                  </a:lnTo>
                  <a:lnTo>
                    <a:pt x="55" y="29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2473560" y="627120"/>
            <a:ext cx="4485960" cy="1378080"/>
            <a:chOff x="2473560" y="627120"/>
            <a:chExt cx="4485960" cy="1378080"/>
          </a:xfrm>
        </p:grpSpPr>
        <p:sp>
          <p:nvSpPr>
            <p:cNvPr id="1426" name=""/>
            <p:cNvSpPr/>
            <p:nvPr/>
          </p:nvSpPr>
          <p:spPr>
            <a:xfrm>
              <a:off x="2996640" y="627120"/>
              <a:ext cx="34585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500" spc="-1" strike="noStrike">
                  <a:solidFill>
                    <a:srgbClr val="1f1a17"/>
                  </a:solidFill>
                  <a:latin typeface="Geometr231 Hv BT"/>
                </a:rPr>
                <a:t>IS YOUR LIFE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473560" y="1319040"/>
              <a:ext cx="44859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500" spc="-1" strike="noStrike">
                  <a:solidFill>
                    <a:srgbClr val="1f1a17"/>
                  </a:solidFill>
                  <a:latin typeface="Geometr231 Hv BT"/>
                </a:rPr>
                <a:t>WORTH RISKING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58800" y="870120"/>
            <a:ext cx="78296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HOW SAFE IS THE COND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IN PREVENTING PREGNA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837080" y="4648320"/>
            <a:ext cx="5479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f1a17"/>
                </a:solidFill>
                <a:latin typeface="Geometr231 Hv BT"/>
              </a:rPr>
              <a:t>20 - 27% Chance a girl will ge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f1a17"/>
                </a:solidFill>
                <a:latin typeface="Geometr231 Hv BT"/>
              </a:rPr>
              <a:t>pregnant even with a condo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3030480" y="2638440"/>
            <a:ext cx="3013200" cy="1614600"/>
            <a:chOff x="3030480" y="2638440"/>
            <a:chExt cx="3013200" cy="1614600"/>
          </a:xfrm>
        </p:grpSpPr>
        <p:sp>
          <p:nvSpPr>
            <p:cNvPr id="1431" name=""/>
            <p:cNvSpPr/>
            <p:nvPr/>
          </p:nvSpPr>
          <p:spPr>
            <a:xfrm>
              <a:off x="3030480" y="2730600"/>
              <a:ext cx="2919600" cy="1069920"/>
            </a:xfrm>
            <a:custGeom>
              <a:avLst/>
              <a:gdLst/>
              <a:ahLst/>
              <a:rect l="l" t="t" r="r" b="b"/>
              <a:pathLst>
                <a:path w="8941" h="3275">
                  <a:moveTo>
                    <a:pt x="21" y="2705"/>
                  </a:moveTo>
                  <a:lnTo>
                    <a:pt x="44" y="2747"/>
                  </a:lnTo>
                  <a:lnTo>
                    <a:pt x="88" y="2791"/>
                  </a:lnTo>
                  <a:lnTo>
                    <a:pt x="131" y="2836"/>
                  </a:lnTo>
                  <a:lnTo>
                    <a:pt x="175" y="2880"/>
                  </a:lnTo>
                  <a:lnTo>
                    <a:pt x="220" y="2902"/>
                  </a:lnTo>
                  <a:lnTo>
                    <a:pt x="263" y="2902"/>
                  </a:lnTo>
                  <a:lnTo>
                    <a:pt x="308" y="2925"/>
                  </a:lnTo>
                  <a:lnTo>
                    <a:pt x="329" y="2902"/>
                  </a:lnTo>
                  <a:lnTo>
                    <a:pt x="395" y="2902"/>
                  </a:lnTo>
                  <a:lnTo>
                    <a:pt x="440" y="2902"/>
                  </a:lnTo>
                  <a:lnTo>
                    <a:pt x="483" y="2880"/>
                  </a:lnTo>
                  <a:lnTo>
                    <a:pt x="528" y="2880"/>
                  </a:lnTo>
                  <a:lnTo>
                    <a:pt x="572" y="2857"/>
                  </a:lnTo>
                  <a:lnTo>
                    <a:pt x="615" y="2836"/>
                  </a:lnTo>
                  <a:lnTo>
                    <a:pt x="658" y="2814"/>
                  </a:lnTo>
                  <a:lnTo>
                    <a:pt x="703" y="2791"/>
                  </a:lnTo>
                  <a:lnTo>
                    <a:pt x="747" y="2747"/>
                  </a:lnTo>
                  <a:lnTo>
                    <a:pt x="792" y="2725"/>
                  </a:lnTo>
                  <a:lnTo>
                    <a:pt x="836" y="2705"/>
                  </a:lnTo>
                  <a:lnTo>
                    <a:pt x="878" y="2682"/>
                  </a:lnTo>
                  <a:lnTo>
                    <a:pt x="922" y="2661"/>
                  </a:lnTo>
                  <a:lnTo>
                    <a:pt x="945" y="2661"/>
                  </a:lnTo>
                  <a:lnTo>
                    <a:pt x="988" y="2637"/>
                  </a:lnTo>
                  <a:lnTo>
                    <a:pt x="1033" y="2637"/>
                  </a:lnTo>
                  <a:lnTo>
                    <a:pt x="1121" y="2637"/>
                  </a:lnTo>
                  <a:lnTo>
                    <a:pt x="1186" y="2661"/>
                  </a:lnTo>
                  <a:lnTo>
                    <a:pt x="1251" y="2682"/>
                  </a:lnTo>
                  <a:lnTo>
                    <a:pt x="1296" y="2705"/>
                  </a:lnTo>
                  <a:lnTo>
                    <a:pt x="1340" y="2747"/>
                  </a:lnTo>
                  <a:lnTo>
                    <a:pt x="1385" y="2770"/>
                  </a:lnTo>
                  <a:lnTo>
                    <a:pt x="1429" y="2814"/>
                  </a:lnTo>
                  <a:lnTo>
                    <a:pt x="1471" y="2857"/>
                  </a:lnTo>
                  <a:lnTo>
                    <a:pt x="1515" y="2925"/>
                  </a:lnTo>
                  <a:lnTo>
                    <a:pt x="1560" y="2968"/>
                  </a:lnTo>
                  <a:lnTo>
                    <a:pt x="1604" y="3011"/>
                  </a:lnTo>
                  <a:lnTo>
                    <a:pt x="1669" y="3055"/>
                  </a:lnTo>
                  <a:lnTo>
                    <a:pt x="1735" y="3100"/>
                  </a:lnTo>
                  <a:lnTo>
                    <a:pt x="1803" y="3143"/>
                  </a:lnTo>
                  <a:lnTo>
                    <a:pt x="1912" y="3165"/>
                  </a:lnTo>
                  <a:lnTo>
                    <a:pt x="2022" y="3209"/>
                  </a:lnTo>
                  <a:lnTo>
                    <a:pt x="2088" y="3209"/>
                  </a:lnTo>
                  <a:lnTo>
                    <a:pt x="2174" y="3231"/>
                  </a:lnTo>
                  <a:lnTo>
                    <a:pt x="2242" y="3254"/>
                  </a:lnTo>
                  <a:lnTo>
                    <a:pt x="2328" y="3254"/>
                  </a:lnTo>
                  <a:lnTo>
                    <a:pt x="2417" y="3275"/>
                  </a:lnTo>
                  <a:lnTo>
                    <a:pt x="2506" y="3275"/>
                  </a:lnTo>
                  <a:lnTo>
                    <a:pt x="2592" y="3275"/>
                  </a:lnTo>
                  <a:lnTo>
                    <a:pt x="2701" y="3275"/>
                  </a:lnTo>
                  <a:lnTo>
                    <a:pt x="2790" y="3275"/>
                  </a:lnTo>
                  <a:lnTo>
                    <a:pt x="2879" y="3275"/>
                  </a:lnTo>
                  <a:lnTo>
                    <a:pt x="2989" y="3275"/>
                  </a:lnTo>
                  <a:lnTo>
                    <a:pt x="3076" y="3275"/>
                  </a:lnTo>
                  <a:lnTo>
                    <a:pt x="3185" y="3275"/>
                  </a:lnTo>
                  <a:lnTo>
                    <a:pt x="3274" y="3254"/>
                  </a:lnTo>
                  <a:lnTo>
                    <a:pt x="3383" y="3254"/>
                  </a:lnTo>
                  <a:lnTo>
                    <a:pt x="3472" y="3254"/>
                  </a:lnTo>
                  <a:lnTo>
                    <a:pt x="3582" y="3231"/>
                  </a:lnTo>
                  <a:lnTo>
                    <a:pt x="3669" y="3209"/>
                  </a:lnTo>
                  <a:lnTo>
                    <a:pt x="3778" y="3209"/>
                  </a:lnTo>
                  <a:lnTo>
                    <a:pt x="3888" y="3188"/>
                  </a:lnTo>
                  <a:lnTo>
                    <a:pt x="3976" y="3165"/>
                  </a:lnTo>
                  <a:lnTo>
                    <a:pt x="4065" y="3143"/>
                  </a:lnTo>
                  <a:lnTo>
                    <a:pt x="4175" y="3120"/>
                  </a:lnTo>
                  <a:lnTo>
                    <a:pt x="4262" y="3100"/>
                  </a:lnTo>
                  <a:lnTo>
                    <a:pt x="4351" y="3055"/>
                  </a:lnTo>
                  <a:lnTo>
                    <a:pt x="4439" y="3034"/>
                  </a:lnTo>
                  <a:lnTo>
                    <a:pt x="4526" y="3011"/>
                  </a:lnTo>
                  <a:lnTo>
                    <a:pt x="4614" y="2968"/>
                  </a:lnTo>
                  <a:lnTo>
                    <a:pt x="4703" y="2945"/>
                  </a:lnTo>
                  <a:lnTo>
                    <a:pt x="4789" y="2902"/>
                  </a:lnTo>
                  <a:lnTo>
                    <a:pt x="4855" y="2880"/>
                  </a:lnTo>
                  <a:lnTo>
                    <a:pt x="4923" y="2836"/>
                  </a:lnTo>
                  <a:lnTo>
                    <a:pt x="5053" y="2770"/>
                  </a:lnTo>
                  <a:lnTo>
                    <a:pt x="5164" y="2725"/>
                  </a:lnTo>
                  <a:lnTo>
                    <a:pt x="5273" y="2682"/>
                  </a:lnTo>
                  <a:lnTo>
                    <a:pt x="5405" y="2637"/>
                  </a:lnTo>
                  <a:lnTo>
                    <a:pt x="5516" y="2595"/>
                  </a:lnTo>
                  <a:lnTo>
                    <a:pt x="5646" y="2572"/>
                  </a:lnTo>
                  <a:lnTo>
                    <a:pt x="5757" y="2550"/>
                  </a:lnTo>
                  <a:lnTo>
                    <a:pt x="5889" y="2527"/>
                  </a:lnTo>
                  <a:lnTo>
                    <a:pt x="5999" y="2506"/>
                  </a:lnTo>
                  <a:lnTo>
                    <a:pt x="6130" y="2485"/>
                  </a:lnTo>
                  <a:lnTo>
                    <a:pt x="6262" y="2462"/>
                  </a:lnTo>
                  <a:lnTo>
                    <a:pt x="6373" y="2462"/>
                  </a:lnTo>
                  <a:lnTo>
                    <a:pt x="6503" y="2441"/>
                  </a:lnTo>
                  <a:lnTo>
                    <a:pt x="6634" y="2441"/>
                  </a:lnTo>
                  <a:lnTo>
                    <a:pt x="6746" y="2441"/>
                  </a:lnTo>
                  <a:lnTo>
                    <a:pt x="6877" y="2418"/>
                  </a:lnTo>
                  <a:lnTo>
                    <a:pt x="7007" y="2418"/>
                  </a:lnTo>
                  <a:lnTo>
                    <a:pt x="7118" y="2418"/>
                  </a:lnTo>
                  <a:lnTo>
                    <a:pt x="7250" y="2396"/>
                  </a:lnTo>
                  <a:lnTo>
                    <a:pt x="7382" y="2373"/>
                  </a:lnTo>
                  <a:lnTo>
                    <a:pt x="7491" y="2373"/>
                  </a:lnTo>
                  <a:lnTo>
                    <a:pt x="7625" y="2352"/>
                  </a:lnTo>
                  <a:lnTo>
                    <a:pt x="7734" y="2331"/>
                  </a:lnTo>
                  <a:lnTo>
                    <a:pt x="7865" y="2286"/>
                  </a:lnTo>
                  <a:lnTo>
                    <a:pt x="7975" y="2263"/>
                  </a:lnTo>
                  <a:lnTo>
                    <a:pt x="8084" y="2221"/>
                  </a:lnTo>
                  <a:lnTo>
                    <a:pt x="8218" y="2177"/>
                  </a:lnTo>
                  <a:lnTo>
                    <a:pt x="8327" y="2132"/>
                  </a:lnTo>
                  <a:lnTo>
                    <a:pt x="8437" y="2088"/>
                  </a:lnTo>
                  <a:lnTo>
                    <a:pt x="8547" y="2023"/>
                  </a:lnTo>
                  <a:lnTo>
                    <a:pt x="8657" y="1957"/>
                  </a:lnTo>
                  <a:lnTo>
                    <a:pt x="8745" y="1868"/>
                  </a:lnTo>
                  <a:lnTo>
                    <a:pt x="8766" y="1868"/>
                  </a:lnTo>
                  <a:lnTo>
                    <a:pt x="8789" y="1847"/>
                  </a:lnTo>
                  <a:lnTo>
                    <a:pt x="8832" y="1847"/>
                  </a:lnTo>
                  <a:lnTo>
                    <a:pt x="8855" y="1824"/>
                  </a:lnTo>
                  <a:lnTo>
                    <a:pt x="8877" y="1803"/>
                  </a:lnTo>
                  <a:lnTo>
                    <a:pt x="8920" y="1780"/>
                  </a:lnTo>
                  <a:lnTo>
                    <a:pt x="8941" y="1759"/>
                  </a:lnTo>
                  <a:lnTo>
                    <a:pt x="8941" y="1738"/>
                  </a:lnTo>
                  <a:lnTo>
                    <a:pt x="8877" y="1714"/>
                  </a:lnTo>
                  <a:lnTo>
                    <a:pt x="8811" y="1670"/>
                  </a:lnTo>
                  <a:lnTo>
                    <a:pt x="8745" y="1627"/>
                  </a:lnTo>
                  <a:lnTo>
                    <a:pt x="8680" y="1561"/>
                  </a:lnTo>
                  <a:lnTo>
                    <a:pt x="8591" y="1474"/>
                  </a:lnTo>
                  <a:lnTo>
                    <a:pt x="8525" y="1386"/>
                  </a:lnTo>
                  <a:lnTo>
                    <a:pt x="8437" y="1297"/>
                  </a:lnTo>
                  <a:lnTo>
                    <a:pt x="8372" y="1209"/>
                  </a:lnTo>
                  <a:lnTo>
                    <a:pt x="8306" y="1100"/>
                  </a:lnTo>
                  <a:lnTo>
                    <a:pt x="8239" y="990"/>
                  </a:lnTo>
                  <a:lnTo>
                    <a:pt x="8173" y="902"/>
                  </a:lnTo>
                  <a:lnTo>
                    <a:pt x="8107" y="813"/>
                  </a:lnTo>
                  <a:lnTo>
                    <a:pt x="8063" y="727"/>
                  </a:lnTo>
                  <a:lnTo>
                    <a:pt x="8019" y="661"/>
                  </a:lnTo>
                  <a:lnTo>
                    <a:pt x="7975" y="593"/>
                  </a:lnTo>
                  <a:lnTo>
                    <a:pt x="7954" y="550"/>
                  </a:lnTo>
                  <a:lnTo>
                    <a:pt x="7954" y="484"/>
                  </a:lnTo>
                  <a:lnTo>
                    <a:pt x="7932" y="418"/>
                  </a:lnTo>
                  <a:lnTo>
                    <a:pt x="7909" y="352"/>
                  </a:lnTo>
                  <a:lnTo>
                    <a:pt x="7888" y="263"/>
                  </a:lnTo>
                  <a:lnTo>
                    <a:pt x="7865" y="177"/>
                  </a:lnTo>
                  <a:lnTo>
                    <a:pt x="7844" y="109"/>
                  </a:lnTo>
                  <a:lnTo>
                    <a:pt x="7844" y="45"/>
                  </a:lnTo>
                  <a:lnTo>
                    <a:pt x="7844" y="0"/>
                  </a:lnTo>
                  <a:lnTo>
                    <a:pt x="7755" y="45"/>
                  </a:lnTo>
                  <a:lnTo>
                    <a:pt x="7689" y="68"/>
                  </a:lnTo>
                  <a:lnTo>
                    <a:pt x="7602" y="88"/>
                  </a:lnTo>
                  <a:lnTo>
                    <a:pt x="7559" y="109"/>
                  </a:lnTo>
                  <a:lnTo>
                    <a:pt x="7491" y="133"/>
                  </a:lnTo>
                  <a:lnTo>
                    <a:pt x="7425" y="133"/>
                  </a:lnTo>
                  <a:lnTo>
                    <a:pt x="7382" y="154"/>
                  </a:lnTo>
                  <a:lnTo>
                    <a:pt x="7339" y="154"/>
                  </a:lnTo>
                  <a:lnTo>
                    <a:pt x="7272" y="154"/>
                  </a:lnTo>
                  <a:lnTo>
                    <a:pt x="7230" y="154"/>
                  </a:lnTo>
                  <a:lnTo>
                    <a:pt x="7162" y="154"/>
                  </a:lnTo>
                  <a:lnTo>
                    <a:pt x="7096" y="154"/>
                  </a:lnTo>
                  <a:lnTo>
                    <a:pt x="7032" y="154"/>
                  </a:lnTo>
                  <a:lnTo>
                    <a:pt x="6966" y="177"/>
                  </a:lnTo>
                  <a:lnTo>
                    <a:pt x="6877" y="177"/>
                  </a:lnTo>
                  <a:lnTo>
                    <a:pt x="6789" y="177"/>
                  </a:lnTo>
                  <a:lnTo>
                    <a:pt x="6746" y="177"/>
                  </a:lnTo>
                  <a:lnTo>
                    <a:pt x="6702" y="177"/>
                  </a:lnTo>
                  <a:lnTo>
                    <a:pt x="6657" y="177"/>
                  </a:lnTo>
                  <a:lnTo>
                    <a:pt x="6614" y="177"/>
                  </a:lnTo>
                  <a:lnTo>
                    <a:pt x="6569" y="177"/>
                  </a:lnTo>
                  <a:lnTo>
                    <a:pt x="6525" y="177"/>
                  </a:lnTo>
                  <a:lnTo>
                    <a:pt x="6482" y="177"/>
                  </a:lnTo>
                  <a:lnTo>
                    <a:pt x="6438" y="177"/>
                  </a:lnTo>
                  <a:lnTo>
                    <a:pt x="6394" y="177"/>
                  </a:lnTo>
                  <a:lnTo>
                    <a:pt x="6328" y="177"/>
                  </a:lnTo>
                  <a:lnTo>
                    <a:pt x="6284" y="177"/>
                  </a:lnTo>
                  <a:lnTo>
                    <a:pt x="6239" y="198"/>
                  </a:lnTo>
                  <a:lnTo>
                    <a:pt x="6195" y="198"/>
                  </a:lnTo>
                  <a:lnTo>
                    <a:pt x="6151" y="198"/>
                  </a:lnTo>
                  <a:lnTo>
                    <a:pt x="6109" y="220"/>
                  </a:lnTo>
                  <a:lnTo>
                    <a:pt x="6041" y="220"/>
                  </a:lnTo>
                  <a:lnTo>
                    <a:pt x="5999" y="220"/>
                  </a:lnTo>
                  <a:lnTo>
                    <a:pt x="5955" y="243"/>
                  </a:lnTo>
                  <a:lnTo>
                    <a:pt x="5910" y="243"/>
                  </a:lnTo>
                  <a:lnTo>
                    <a:pt x="5866" y="243"/>
                  </a:lnTo>
                  <a:lnTo>
                    <a:pt x="5800" y="263"/>
                  </a:lnTo>
                  <a:lnTo>
                    <a:pt x="5757" y="263"/>
                  </a:lnTo>
                  <a:lnTo>
                    <a:pt x="5712" y="287"/>
                  </a:lnTo>
                  <a:lnTo>
                    <a:pt x="5668" y="308"/>
                  </a:lnTo>
                  <a:lnTo>
                    <a:pt x="5625" y="308"/>
                  </a:lnTo>
                  <a:lnTo>
                    <a:pt x="5581" y="329"/>
                  </a:lnTo>
                  <a:lnTo>
                    <a:pt x="5537" y="352"/>
                  </a:lnTo>
                  <a:lnTo>
                    <a:pt x="5492" y="352"/>
                  </a:lnTo>
                  <a:lnTo>
                    <a:pt x="5427" y="374"/>
                  </a:lnTo>
                  <a:lnTo>
                    <a:pt x="5382" y="397"/>
                  </a:lnTo>
                  <a:lnTo>
                    <a:pt x="5339" y="418"/>
                  </a:lnTo>
                  <a:lnTo>
                    <a:pt x="5296" y="439"/>
                  </a:lnTo>
                  <a:lnTo>
                    <a:pt x="5252" y="462"/>
                  </a:lnTo>
                  <a:lnTo>
                    <a:pt x="5207" y="484"/>
                  </a:lnTo>
                  <a:lnTo>
                    <a:pt x="5164" y="507"/>
                  </a:lnTo>
                  <a:lnTo>
                    <a:pt x="5119" y="527"/>
                  </a:lnTo>
                  <a:lnTo>
                    <a:pt x="5075" y="550"/>
                  </a:lnTo>
                  <a:lnTo>
                    <a:pt x="5032" y="593"/>
                  </a:lnTo>
                  <a:lnTo>
                    <a:pt x="4987" y="616"/>
                  </a:lnTo>
                  <a:lnTo>
                    <a:pt x="4944" y="638"/>
                  </a:lnTo>
                  <a:lnTo>
                    <a:pt x="4899" y="661"/>
                  </a:lnTo>
                  <a:lnTo>
                    <a:pt x="4855" y="682"/>
                  </a:lnTo>
                  <a:lnTo>
                    <a:pt x="4812" y="702"/>
                  </a:lnTo>
                  <a:lnTo>
                    <a:pt x="4769" y="747"/>
                  </a:lnTo>
                  <a:lnTo>
                    <a:pt x="4724" y="770"/>
                  </a:lnTo>
                  <a:lnTo>
                    <a:pt x="4680" y="791"/>
                  </a:lnTo>
                  <a:lnTo>
                    <a:pt x="4635" y="813"/>
                  </a:lnTo>
                  <a:lnTo>
                    <a:pt x="4591" y="836"/>
                  </a:lnTo>
                  <a:lnTo>
                    <a:pt x="4549" y="857"/>
                  </a:lnTo>
                  <a:lnTo>
                    <a:pt x="4505" y="880"/>
                  </a:lnTo>
                  <a:lnTo>
                    <a:pt x="4460" y="902"/>
                  </a:lnTo>
                  <a:lnTo>
                    <a:pt x="4394" y="902"/>
                  </a:lnTo>
                  <a:lnTo>
                    <a:pt x="4351" y="922"/>
                  </a:lnTo>
                  <a:lnTo>
                    <a:pt x="4306" y="945"/>
                  </a:lnTo>
                  <a:lnTo>
                    <a:pt x="4262" y="945"/>
                  </a:lnTo>
                  <a:lnTo>
                    <a:pt x="4219" y="967"/>
                  </a:lnTo>
                  <a:lnTo>
                    <a:pt x="4152" y="967"/>
                  </a:lnTo>
                  <a:lnTo>
                    <a:pt x="4108" y="990"/>
                  </a:lnTo>
                  <a:lnTo>
                    <a:pt x="4042" y="990"/>
                  </a:lnTo>
                  <a:lnTo>
                    <a:pt x="3998" y="990"/>
                  </a:lnTo>
                  <a:lnTo>
                    <a:pt x="3932" y="990"/>
                  </a:lnTo>
                  <a:lnTo>
                    <a:pt x="3888" y="990"/>
                  </a:lnTo>
                  <a:lnTo>
                    <a:pt x="3823" y="990"/>
                  </a:lnTo>
                  <a:lnTo>
                    <a:pt x="3778" y="990"/>
                  </a:lnTo>
                  <a:lnTo>
                    <a:pt x="3737" y="990"/>
                  </a:lnTo>
                  <a:lnTo>
                    <a:pt x="3692" y="990"/>
                  </a:lnTo>
                  <a:lnTo>
                    <a:pt x="3648" y="990"/>
                  </a:lnTo>
                  <a:lnTo>
                    <a:pt x="3603" y="967"/>
                  </a:lnTo>
                  <a:lnTo>
                    <a:pt x="3559" y="967"/>
                  </a:lnTo>
                  <a:lnTo>
                    <a:pt x="3494" y="967"/>
                  </a:lnTo>
                  <a:lnTo>
                    <a:pt x="3449" y="967"/>
                  </a:lnTo>
                  <a:lnTo>
                    <a:pt x="3405" y="967"/>
                  </a:lnTo>
                  <a:lnTo>
                    <a:pt x="3339" y="967"/>
                  </a:lnTo>
                  <a:lnTo>
                    <a:pt x="3294" y="967"/>
                  </a:lnTo>
                  <a:lnTo>
                    <a:pt x="3253" y="967"/>
                  </a:lnTo>
                  <a:lnTo>
                    <a:pt x="3185" y="967"/>
                  </a:lnTo>
                  <a:lnTo>
                    <a:pt x="3141" y="967"/>
                  </a:lnTo>
                  <a:lnTo>
                    <a:pt x="3099" y="967"/>
                  </a:lnTo>
                  <a:lnTo>
                    <a:pt x="3076" y="990"/>
                  </a:lnTo>
                  <a:lnTo>
                    <a:pt x="3031" y="990"/>
                  </a:lnTo>
                  <a:lnTo>
                    <a:pt x="2944" y="990"/>
                  </a:lnTo>
                  <a:lnTo>
                    <a:pt x="2879" y="990"/>
                  </a:lnTo>
                  <a:lnTo>
                    <a:pt x="2790" y="1011"/>
                  </a:lnTo>
                  <a:lnTo>
                    <a:pt x="2726" y="1011"/>
                  </a:lnTo>
                  <a:lnTo>
                    <a:pt x="2637" y="1034"/>
                  </a:lnTo>
                  <a:lnTo>
                    <a:pt x="2548" y="1056"/>
                  </a:lnTo>
                  <a:lnTo>
                    <a:pt x="2462" y="1056"/>
                  </a:lnTo>
                  <a:lnTo>
                    <a:pt x="2373" y="1077"/>
                  </a:lnTo>
                  <a:lnTo>
                    <a:pt x="2286" y="1100"/>
                  </a:lnTo>
                  <a:lnTo>
                    <a:pt x="2197" y="1121"/>
                  </a:lnTo>
                  <a:lnTo>
                    <a:pt x="2108" y="1121"/>
                  </a:lnTo>
                  <a:lnTo>
                    <a:pt x="2022" y="1145"/>
                  </a:lnTo>
                  <a:lnTo>
                    <a:pt x="1933" y="1166"/>
                  </a:lnTo>
                  <a:lnTo>
                    <a:pt x="1868" y="1209"/>
                  </a:lnTo>
                  <a:lnTo>
                    <a:pt x="1779" y="1231"/>
                  </a:lnTo>
                  <a:lnTo>
                    <a:pt x="1714" y="1254"/>
                  </a:lnTo>
                  <a:lnTo>
                    <a:pt x="1669" y="1275"/>
                  </a:lnTo>
                  <a:lnTo>
                    <a:pt x="1626" y="1275"/>
                  </a:lnTo>
                  <a:lnTo>
                    <a:pt x="1581" y="1297"/>
                  </a:lnTo>
                  <a:lnTo>
                    <a:pt x="1539" y="1341"/>
                  </a:lnTo>
                  <a:lnTo>
                    <a:pt x="1515" y="1364"/>
                  </a:lnTo>
                  <a:lnTo>
                    <a:pt x="1471" y="1386"/>
                  </a:lnTo>
                  <a:lnTo>
                    <a:pt x="1429" y="1429"/>
                  </a:lnTo>
                  <a:lnTo>
                    <a:pt x="1385" y="1450"/>
                  </a:lnTo>
                  <a:lnTo>
                    <a:pt x="1362" y="1495"/>
                  </a:lnTo>
                  <a:lnTo>
                    <a:pt x="1319" y="1539"/>
                  </a:lnTo>
                  <a:lnTo>
                    <a:pt x="1296" y="1584"/>
                  </a:lnTo>
                  <a:lnTo>
                    <a:pt x="1274" y="1627"/>
                  </a:lnTo>
                  <a:lnTo>
                    <a:pt x="1231" y="1649"/>
                  </a:lnTo>
                  <a:lnTo>
                    <a:pt x="1231" y="1693"/>
                  </a:lnTo>
                  <a:lnTo>
                    <a:pt x="1208" y="1738"/>
                  </a:lnTo>
                  <a:lnTo>
                    <a:pt x="1186" y="1780"/>
                  </a:lnTo>
                  <a:lnTo>
                    <a:pt x="1186" y="1803"/>
                  </a:lnTo>
                  <a:lnTo>
                    <a:pt x="1165" y="1847"/>
                  </a:lnTo>
                  <a:lnTo>
                    <a:pt x="1165" y="1890"/>
                  </a:lnTo>
                  <a:lnTo>
                    <a:pt x="1142" y="1934"/>
                  </a:lnTo>
                  <a:lnTo>
                    <a:pt x="1121" y="1979"/>
                  </a:lnTo>
                  <a:lnTo>
                    <a:pt x="1097" y="2023"/>
                  </a:lnTo>
                  <a:lnTo>
                    <a:pt x="1076" y="2043"/>
                  </a:lnTo>
                  <a:lnTo>
                    <a:pt x="1056" y="2068"/>
                  </a:lnTo>
                  <a:lnTo>
                    <a:pt x="988" y="2111"/>
                  </a:lnTo>
                  <a:lnTo>
                    <a:pt x="922" y="2132"/>
                  </a:lnTo>
                  <a:lnTo>
                    <a:pt x="858" y="2154"/>
                  </a:lnTo>
                  <a:lnTo>
                    <a:pt x="769" y="2154"/>
                  </a:lnTo>
                  <a:lnTo>
                    <a:pt x="681" y="2177"/>
                  </a:lnTo>
                  <a:lnTo>
                    <a:pt x="572" y="2177"/>
                  </a:lnTo>
                  <a:lnTo>
                    <a:pt x="483" y="2198"/>
                  </a:lnTo>
                  <a:lnTo>
                    <a:pt x="395" y="2198"/>
                  </a:lnTo>
                  <a:lnTo>
                    <a:pt x="308" y="2221"/>
                  </a:lnTo>
                  <a:lnTo>
                    <a:pt x="220" y="2243"/>
                  </a:lnTo>
                  <a:lnTo>
                    <a:pt x="154" y="2286"/>
                  </a:lnTo>
                  <a:lnTo>
                    <a:pt x="88" y="2331"/>
                  </a:lnTo>
                  <a:lnTo>
                    <a:pt x="44" y="2396"/>
                  </a:lnTo>
                  <a:lnTo>
                    <a:pt x="0" y="2485"/>
                  </a:lnTo>
                  <a:lnTo>
                    <a:pt x="0" y="2572"/>
                  </a:lnTo>
                  <a:lnTo>
                    <a:pt x="21" y="270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030480" y="2730600"/>
              <a:ext cx="2919600" cy="1069920"/>
            </a:xfrm>
            <a:custGeom>
              <a:avLst/>
              <a:gdLst/>
              <a:ahLst/>
              <a:rect l="l" t="t" r="r" b="b"/>
              <a:pathLst>
                <a:path w="8941" h="3275">
                  <a:moveTo>
                    <a:pt x="21" y="2705"/>
                  </a:moveTo>
                  <a:lnTo>
                    <a:pt x="44" y="2747"/>
                  </a:lnTo>
                  <a:lnTo>
                    <a:pt x="88" y="2791"/>
                  </a:lnTo>
                  <a:lnTo>
                    <a:pt x="131" y="2836"/>
                  </a:lnTo>
                  <a:lnTo>
                    <a:pt x="175" y="2880"/>
                  </a:lnTo>
                  <a:lnTo>
                    <a:pt x="220" y="2902"/>
                  </a:lnTo>
                  <a:lnTo>
                    <a:pt x="263" y="2902"/>
                  </a:lnTo>
                  <a:lnTo>
                    <a:pt x="308" y="2925"/>
                  </a:lnTo>
                  <a:lnTo>
                    <a:pt x="329" y="2902"/>
                  </a:lnTo>
                  <a:lnTo>
                    <a:pt x="395" y="2902"/>
                  </a:lnTo>
                  <a:lnTo>
                    <a:pt x="440" y="2902"/>
                  </a:lnTo>
                  <a:lnTo>
                    <a:pt x="483" y="2880"/>
                  </a:lnTo>
                  <a:lnTo>
                    <a:pt x="528" y="2880"/>
                  </a:lnTo>
                  <a:lnTo>
                    <a:pt x="572" y="2857"/>
                  </a:lnTo>
                  <a:lnTo>
                    <a:pt x="615" y="2836"/>
                  </a:lnTo>
                  <a:lnTo>
                    <a:pt x="658" y="2814"/>
                  </a:lnTo>
                  <a:lnTo>
                    <a:pt x="703" y="2791"/>
                  </a:lnTo>
                  <a:lnTo>
                    <a:pt x="747" y="2747"/>
                  </a:lnTo>
                  <a:lnTo>
                    <a:pt x="792" y="2725"/>
                  </a:lnTo>
                  <a:lnTo>
                    <a:pt x="836" y="2705"/>
                  </a:lnTo>
                  <a:lnTo>
                    <a:pt x="878" y="2682"/>
                  </a:lnTo>
                  <a:lnTo>
                    <a:pt x="922" y="2661"/>
                  </a:lnTo>
                  <a:lnTo>
                    <a:pt x="945" y="2661"/>
                  </a:lnTo>
                  <a:lnTo>
                    <a:pt x="988" y="2637"/>
                  </a:lnTo>
                  <a:lnTo>
                    <a:pt x="1033" y="2637"/>
                  </a:lnTo>
                  <a:lnTo>
                    <a:pt x="1121" y="2637"/>
                  </a:lnTo>
                  <a:lnTo>
                    <a:pt x="1186" y="2661"/>
                  </a:lnTo>
                  <a:lnTo>
                    <a:pt x="1251" y="2682"/>
                  </a:lnTo>
                  <a:lnTo>
                    <a:pt x="1296" y="2705"/>
                  </a:lnTo>
                  <a:lnTo>
                    <a:pt x="1340" y="2747"/>
                  </a:lnTo>
                  <a:lnTo>
                    <a:pt x="1385" y="2770"/>
                  </a:lnTo>
                  <a:lnTo>
                    <a:pt x="1429" y="2814"/>
                  </a:lnTo>
                  <a:lnTo>
                    <a:pt x="1471" y="2857"/>
                  </a:lnTo>
                  <a:lnTo>
                    <a:pt x="1515" y="2925"/>
                  </a:lnTo>
                  <a:lnTo>
                    <a:pt x="1560" y="2968"/>
                  </a:lnTo>
                  <a:lnTo>
                    <a:pt x="1604" y="3011"/>
                  </a:lnTo>
                  <a:lnTo>
                    <a:pt x="1669" y="3055"/>
                  </a:lnTo>
                  <a:lnTo>
                    <a:pt x="1735" y="3100"/>
                  </a:lnTo>
                  <a:lnTo>
                    <a:pt x="1803" y="3143"/>
                  </a:lnTo>
                  <a:lnTo>
                    <a:pt x="1912" y="3165"/>
                  </a:lnTo>
                  <a:lnTo>
                    <a:pt x="2022" y="3209"/>
                  </a:lnTo>
                  <a:lnTo>
                    <a:pt x="2088" y="3209"/>
                  </a:lnTo>
                  <a:lnTo>
                    <a:pt x="2174" y="3231"/>
                  </a:lnTo>
                  <a:lnTo>
                    <a:pt x="2242" y="3254"/>
                  </a:lnTo>
                  <a:lnTo>
                    <a:pt x="2328" y="3254"/>
                  </a:lnTo>
                  <a:lnTo>
                    <a:pt x="2417" y="3275"/>
                  </a:lnTo>
                  <a:lnTo>
                    <a:pt x="2506" y="3275"/>
                  </a:lnTo>
                  <a:lnTo>
                    <a:pt x="2592" y="3275"/>
                  </a:lnTo>
                  <a:lnTo>
                    <a:pt x="2701" y="3275"/>
                  </a:lnTo>
                  <a:lnTo>
                    <a:pt x="2790" y="3275"/>
                  </a:lnTo>
                  <a:lnTo>
                    <a:pt x="2879" y="3275"/>
                  </a:lnTo>
                  <a:lnTo>
                    <a:pt x="2989" y="3275"/>
                  </a:lnTo>
                  <a:lnTo>
                    <a:pt x="3076" y="3275"/>
                  </a:lnTo>
                  <a:lnTo>
                    <a:pt x="3185" y="3275"/>
                  </a:lnTo>
                  <a:lnTo>
                    <a:pt x="3274" y="3254"/>
                  </a:lnTo>
                  <a:lnTo>
                    <a:pt x="3383" y="3254"/>
                  </a:lnTo>
                  <a:lnTo>
                    <a:pt x="3472" y="3254"/>
                  </a:lnTo>
                  <a:lnTo>
                    <a:pt x="3582" y="3231"/>
                  </a:lnTo>
                  <a:lnTo>
                    <a:pt x="3669" y="3209"/>
                  </a:lnTo>
                  <a:lnTo>
                    <a:pt x="3778" y="3209"/>
                  </a:lnTo>
                  <a:lnTo>
                    <a:pt x="3888" y="3188"/>
                  </a:lnTo>
                  <a:lnTo>
                    <a:pt x="3976" y="3165"/>
                  </a:lnTo>
                  <a:lnTo>
                    <a:pt x="4065" y="3143"/>
                  </a:lnTo>
                  <a:lnTo>
                    <a:pt x="4175" y="3120"/>
                  </a:lnTo>
                  <a:lnTo>
                    <a:pt x="4262" y="3100"/>
                  </a:lnTo>
                  <a:lnTo>
                    <a:pt x="4351" y="3055"/>
                  </a:lnTo>
                  <a:lnTo>
                    <a:pt x="4439" y="3034"/>
                  </a:lnTo>
                  <a:lnTo>
                    <a:pt x="4526" y="3011"/>
                  </a:lnTo>
                  <a:lnTo>
                    <a:pt x="4614" y="2968"/>
                  </a:lnTo>
                  <a:lnTo>
                    <a:pt x="4703" y="2945"/>
                  </a:lnTo>
                  <a:lnTo>
                    <a:pt x="4789" y="2902"/>
                  </a:lnTo>
                  <a:lnTo>
                    <a:pt x="4855" y="2880"/>
                  </a:lnTo>
                  <a:lnTo>
                    <a:pt x="4923" y="2836"/>
                  </a:lnTo>
                  <a:lnTo>
                    <a:pt x="5053" y="2770"/>
                  </a:lnTo>
                  <a:lnTo>
                    <a:pt x="5164" y="2725"/>
                  </a:lnTo>
                  <a:lnTo>
                    <a:pt x="5273" y="2682"/>
                  </a:lnTo>
                  <a:lnTo>
                    <a:pt x="5405" y="2637"/>
                  </a:lnTo>
                  <a:lnTo>
                    <a:pt x="5516" y="2595"/>
                  </a:lnTo>
                  <a:lnTo>
                    <a:pt x="5646" y="2572"/>
                  </a:lnTo>
                  <a:lnTo>
                    <a:pt x="5757" y="2550"/>
                  </a:lnTo>
                  <a:lnTo>
                    <a:pt x="5889" y="2527"/>
                  </a:lnTo>
                  <a:lnTo>
                    <a:pt x="5999" y="2506"/>
                  </a:lnTo>
                  <a:lnTo>
                    <a:pt x="6130" y="2485"/>
                  </a:lnTo>
                  <a:lnTo>
                    <a:pt x="6262" y="2462"/>
                  </a:lnTo>
                  <a:lnTo>
                    <a:pt x="6373" y="2462"/>
                  </a:lnTo>
                  <a:lnTo>
                    <a:pt x="6503" y="2441"/>
                  </a:lnTo>
                  <a:lnTo>
                    <a:pt x="6634" y="2441"/>
                  </a:lnTo>
                  <a:lnTo>
                    <a:pt x="6746" y="2441"/>
                  </a:lnTo>
                  <a:lnTo>
                    <a:pt x="6877" y="2418"/>
                  </a:lnTo>
                  <a:lnTo>
                    <a:pt x="7007" y="2418"/>
                  </a:lnTo>
                  <a:lnTo>
                    <a:pt x="7118" y="2418"/>
                  </a:lnTo>
                  <a:lnTo>
                    <a:pt x="7250" y="2396"/>
                  </a:lnTo>
                  <a:lnTo>
                    <a:pt x="7382" y="2373"/>
                  </a:lnTo>
                  <a:lnTo>
                    <a:pt x="7491" y="2373"/>
                  </a:lnTo>
                  <a:lnTo>
                    <a:pt x="7625" y="2352"/>
                  </a:lnTo>
                  <a:lnTo>
                    <a:pt x="7734" y="2331"/>
                  </a:lnTo>
                  <a:lnTo>
                    <a:pt x="7865" y="2286"/>
                  </a:lnTo>
                  <a:lnTo>
                    <a:pt x="7975" y="2263"/>
                  </a:lnTo>
                  <a:lnTo>
                    <a:pt x="8084" y="2221"/>
                  </a:lnTo>
                  <a:lnTo>
                    <a:pt x="8218" y="2177"/>
                  </a:lnTo>
                  <a:lnTo>
                    <a:pt x="8327" y="2132"/>
                  </a:lnTo>
                  <a:lnTo>
                    <a:pt x="8437" y="2088"/>
                  </a:lnTo>
                  <a:lnTo>
                    <a:pt x="8547" y="2023"/>
                  </a:lnTo>
                  <a:lnTo>
                    <a:pt x="8657" y="1957"/>
                  </a:lnTo>
                  <a:lnTo>
                    <a:pt x="8745" y="1868"/>
                  </a:lnTo>
                  <a:lnTo>
                    <a:pt x="8766" y="1868"/>
                  </a:lnTo>
                  <a:lnTo>
                    <a:pt x="8789" y="1847"/>
                  </a:lnTo>
                  <a:lnTo>
                    <a:pt x="8832" y="1847"/>
                  </a:lnTo>
                  <a:lnTo>
                    <a:pt x="8855" y="1824"/>
                  </a:lnTo>
                  <a:lnTo>
                    <a:pt x="8877" y="1803"/>
                  </a:lnTo>
                  <a:lnTo>
                    <a:pt x="8920" y="1780"/>
                  </a:lnTo>
                  <a:lnTo>
                    <a:pt x="8941" y="1759"/>
                  </a:lnTo>
                  <a:lnTo>
                    <a:pt x="8941" y="1738"/>
                  </a:lnTo>
                  <a:lnTo>
                    <a:pt x="8877" y="1714"/>
                  </a:lnTo>
                  <a:lnTo>
                    <a:pt x="8811" y="1670"/>
                  </a:lnTo>
                  <a:lnTo>
                    <a:pt x="8745" y="1627"/>
                  </a:lnTo>
                  <a:lnTo>
                    <a:pt x="8680" y="1561"/>
                  </a:lnTo>
                  <a:lnTo>
                    <a:pt x="8591" y="1474"/>
                  </a:lnTo>
                  <a:lnTo>
                    <a:pt x="8525" y="1386"/>
                  </a:lnTo>
                  <a:lnTo>
                    <a:pt x="8437" y="1297"/>
                  </a:lnTo>
                  <a:lnTo>
                    <a:pt x="8372" y="1209"/>
                  </a:lnTo>
                  <a:lnTo>
                    <a:pt x="8306" y="1100"/>
                  </a:lnTo>
                  <a:lnTo>
                    <a:pt x="8239" y="990"/>
                  </a:lnTo>
                  <a:lnTo>
                    <a:pt x="8173" y="902"/>
                  </a:lnTo>
                  <a:lnTo>
                    <a:pt x="8107" y="813"/>
                  </a:lnTo>
                  <a:lnTo>
                    <a:pt x="8063" y="727"/>
                  </a:lnTo>
                  <a:lnTo>
                    <a:pt x="8019" y="661"/>
                  </a:lnTo>
                  <a:lnTo>
                    <a:pt x="7975" y="593"/>
                  </a:lnTo>
                  <a:lnTo>
                    <a:pt x="7954" y="550"/>
                  </a:lnTo>
                  <a:lnTo>
                    <a:pt x="7954" y="484"/>
                  </a:lnTo>
                  <a:lnTo>
                    <a:pt x="7932" y="418"/>
                  </a:lnTo>
                  <a:lnTo>
                    <a:pt x="7909" y="352"/>
                  </a:lnTo>
                  <a:lnTo>
                    <a:pt x="7888" y="263"/>
                  </a:lnTo>
                  <a:lnTo>
                    <a:pt x="7865" y="177"/>
                  </a:lnTo>
                  <a:lnTo>
                    <a:pt x="7844" y="109"/>
                  </a:lnTo>
                  <a:lnTo>
                    <a:pt x="7844" y="45"/>
                  </a:lnTo>
                  <a:lnTo>
                    <a:pt x="7844" y="0"/>
                  </a:lnTo>
                  <a:lnTo>
                    <a:pt x="7755" y="45"/>
                  </a:lnTo>
                  <a:lnTo>
                    <a:pt x="7689" y="68"/>
                  </a:lnTo>
                  <a:lnTo>
                    <a:pt x="7602" y="88"/>
                  </a:lnTo>
                  <a:lnTo>
                    <a:pt x="7559" y="109"/>
                  </a:lnTo>
                  <a:lnTo>
                    <a:pt x="7491" y="133"/>
                  </a:lnTo>
                  <a:lnTo>
                    <a:pt x="7425" y="133"/>
                  </a:lnTo>
                  <a:lnTo>
                    <a:pt x="7382" y="154"/>
                  </a:lnTo>
                  <a:lnTo>
                    <a:pt x="7339" y="154"/>
                  </a:lnTo>
                  <a:lnTo>
                    <a:pt x="7272" y="154"/>
                  </a:lnTo>
                  <a:lnTo>
                    <a:pt x="7230" y="154"/>
                  </a:lnTo>
                  <a:lnTo>
                    <a:pt x="7162" y="154"/>
                  </a:lnTo>
                  <a:lnTo>
                    <a:pt x="7096" y="154"/>
                  </a:lnTo>
                  <a:lnTo>
                    <a:pt x="7032" y="154"/>
                  </a:lnTo>
                  <a:lnTo>
                    <a:pt x="6966" y="177"/>
                  </a:lnTo>
                  <a:lnTo>
                    <a:pt x="6877" y="177"/>
                  </a:lnTo>
                  <a:lnTo>
                    <a:pt x="6789" y="177"/>
                  </a:lnTo>
                  <a:lnTo>
                    <a:pt x="6746" y="177"/>
                  </a:lnTo>
                  <a:lnTo>
                    <a:pt x="6702" y="177"/>
                  </a:lnTo>
                  <a:lnTo>
                    <a:pt x="6657" y="177"/>
                  </a:lnTo>
                  <a:lnTo>
                    <a:pt x="6614" y="177"/>
                  </a:lnTo>
                  <a:lnTo>
                    <a:pt x="6569" y="177"/>
                  </a:lnTo>
                  <a:lnTo>
                    <a:pt x="6525" y="177"/>
                  </a:lnTo>
                  <a:lnTo>
                    <a:pt x="6482" y="177"/>
                  </a:lnTo>
                  <a:lnTo>
                    <a:pt x="6438" y="177"/>
                  </a:lnTo>
                  <a:lnTo>
                    <a:pt x="6394" y="177"/>
                  </a:lnTo>
                  <a:lnTo>
                    <a:pt x="6328" y="177"/>
                  </a:lnTo>
                  <a:lnTo>
                    <a:pt x="6284" y="177"/>
                  </a:lnTo>
                  <a:lnTo>
                    <a:pt x="6239" y="198"/>
                  </a:lnTo>
                  <a:lnTo>
                    <a:pt x="6195" y="198"/>
                  </a:lnTo>
                  <a:lnTo>
                    <a:pt x="6151" y="198"/>
                  </a:lnTo>
                  <a:lnTo>
                    <a:pt x="6109" y="220"/>
                  </a:lnTo>
                  <a:lnTo>
                    <a:pt x="6041" y="220"/>
                  </a:lnTo>
                  <a:lnTo>
                    <a:pt x="5999" y="220"/>
                  </a:lnTo>
                  <a:lnTo>
                    <a:pt x="5955" y="243"/>
                  </a:lnTo>
                  <a:lnTo>
                    <a:pt x="5910" y="243"/>
                  </a:lnTo>
                  <a:lnTo>
                    <a:pt x="5866" y="243"/>
                  </a:lnTo>
                  <a:lnTo>
                    <a:pt x="5800" y="263"/>
                  </a:lnTo>
                  <a:lnTo>
                    <a:pt x="5757" y="263"/>
                  </a:lnTo>
                  <a:lnTo>
                    <a:pt x="5712" y="287"/>
                  </a:lnTo>
                  <a:lnTo>
                    <a:pt x="5668" y="308"/>
                  </a:lnTo>
                  <a:lnTo>
                    <a:pt x="5625" y="308"/>
                  </a:lnTo>
                  <a:lnTo>
                    <a:pt x="5581" y="329"/>
                  </a:lnTo>
                  <a:lnTo>
                    <a:pt x="5537" y="352"/>
                  </a:lnTo>
                  <a:lnTo>
                    <a:pt x="5492" y="352"/>
                  </a:lnTo>
                  <a:lnTo>
                    <a:pt x="5427" y="374"/>
                  </a:lnTo>
                  <a:lnTo>
                    <a:pt x="5382" y="397"/>
                  </a:lnTo>
                  <a:lnTo>
                    <a:pt x="5339" y="418"/>
                  </a:lnTo>
                  <a:lnTo>
                    <a:pt x="5296" y="439"/>
                  </a:lnTo>
                  <a:lnTo>
                    <a:pt x="5252" y="462"/>
                  </a:lnTo>
                  <a:lnTo>
                    <a:pt x="5207" y="484"/>
                  </a:lnTo>
                  <a:lnTo>
                    <a:pt x="5164" y="507"/>
                  </a:lnTo>
                  <a:lnTo>
                    <a:pt x="5119" y="527"/>
                  </a:lnTo>
                  <a:lnTo>
                    <a:pt x="5075" y="550"/>
                  </a:lnTo>
                  <a:lnTo>
                    <a:pt x="5032" y="593"/>
                  </a:lnTo>
                  <a:lnTo>
                    <a:pt x="4987" y="616"/>
                  </a:lnTo>
                  <a:lnTo>
                    <a:pt x="4944" y="638"/>
                  </a:lnTo>
                  <a:lnTo>
                    <a:pt x="4899" y="661"/>
                  </a:lnTo>
                  <a:lnTo>
                    <a:pt x="4855" y="682"/>
                  </a:lnTo>
                  <a:lnTo>
                    <a:pt x="4812" y="702"/>
                  </a:lnTo>
                  <a:lnTo>
                    <a:pt x="4769" y="747"/>
                  </a:lnTo>
                  <a:lnTo>
                    <a:pt x="4724" y="770"/>
                  </a:lnTo>
                  <a:lnTo>
                    <a:pt x="4680" y="791"/>
                  </a:lnTo>
                  <a:lnTo>
                    <a:pt x="4635" y="813"/>
                  </a:lnTo>
                  <a:lnTo>
                    <a:pt x="4591" y="836"/>
                  </a:lnTo>
                  <a:lnTo>
                    <a:pt x="4549" y="857"/>
                  </a:lnTo>
                  <a:lnTo>
                    <a:pt x="4505" y="880"/>
                  </a:lnTo>
                  <a:lnTo>
                    <a:pt x="4460" y="902"/>
                  </a:lnTo>
                  <a:lnTo>
                    <a:pt x="4394" y="902"/>
                  </a:lnTo>
                  <a:lnTo>
                    <a:pt x="4351" y="922"/>
                  </a:lnTo>
                  <a:lnTo>
                    <a:pt x="4306" y="945"/>
                  </a:lnTo>
                  <a:lnTo>
                    <a:pt x="4262" y="945"/>
                  </a:lnTo>
                  <a:lnTo>
                    <a:pt x="4219" y="967"/>
                  </a:lnTo>
                  <a:lnTo>
                    <a:pt x="4152" y="967"/>
                  </a:lnTo>
                  <a:lnTo>
                    <a:pt x="4108" y="990"/>
                  </a:lnTo>
                  <a:lnTo>
                    <a:pt x="4042" y="990"/>
                  </a:lnTo>
                  <a:lnTo>
                    <a:pt x="3998" y="990"/>
                  </a:lnTo>
                  <a:lnTo>
                    <a:pt x="3932" y="990"/>
                  </a:lnTo>
                  <a:lnTo>
                    <a:pt x="3888" y="990"/>
                  </a:lnTo>
                  <a:lnTo>
                    <a:pt x="3823" y="990"/>
                  </a:lnTo>
                  <a:lnTo>
                    <a:pt x="3778" y="990"/>
                  </a:lnTo>
                  <a:lnTo>
                    <a:pt x="3737" y="990"/>
                  </a:lnTo>
                  <a:lnTo>
                    <a:pt x="3692" y="990"/>
                  </a:lnTo>
                  <a:lnTo>
                    <a:pt x="3648" y="990"/>
                  </a:lnTo>
                  <a:lnTo>
                    <a:pt x="3603" y="967"/>
                  </a:lnTo>
                  <a:lnTo>
                    <a:pt x="3559" y="967"/>
                  </a:lnTo>
                  <a:lnTo>
                    <a:pt x="3494" y="967"/>
                  </a:lnTo>
                  <a:lnTo>
                    <a:pt x="3449" y="967"/>
                  </a:lnTo>
                  <a:lnTo>
                    <a:pt x="3405" y="967"/>
                  </a:lnTo>
                  <a:lnTo>
                    <a:pt x="3339" y="967"/>
                  </a:lnTo>
                  <a:lnTo>
                    <a:pt x="3294" y="967"/>
                  </a:lnTo>
                  <a:lnTo>
                    <a:pt x="3253" y="967"/>
                  </a:lnTo>
                  <a:lnTo>
                    <a:pt x="3185" y="967"/>
                  </a:lnTo>
                  <a:lnTo>
                    <a:pt x="3141" y="967"/>
                  </a:lnTo>
                  <a:lnTo>
                    <a:pt x="3099" y="967"/>
                  </a:lnTo>
                  <a:lnTo>
                    <a:pt x="3076" y="990"/>
                  </a:lnTo>
                  <a:lnTo>
                    <a:pt x="3031" y="990"/>
                  </a:lnTo>
                  <a:lnTo>
                    <a:pt x="2944" y="990"/>
                  </a:lnTo>
                  <a:lnTo>
                    <a:pt x="2879" y="990"/>
                  </a:lnTo>
                  <a:lnTo>
                    <a:pt x="2790" y="1011"/>
                  </a:lnTo>
                  <a:lnTo>
                    <a:pt x="2726" y="1011"/>
                  </a:lnTo>
                  <a:lnTo>
                    <a:pt x="2637" y="1034"/>
                  </a:lnTo>
                  <a:lnTo>
                    <a:pt x="2548" y="1056"/>
                  </a:lnTo>
                  <a:lnTo>
                    <a:pt x="2462" y="1056"/>
                  </a:lnTo>
                  <a:lnTo>
                    <a:pt x="2373" y="1077"/>
                  </a:lnTo>
                  <a:lnTo>
                    <a:pt x="2286" y="1100"/>
                  </a:lnTo>
                  <a:lnTo>
                    <a:pt x="2197" y="1121"/>
                  </a:lnTo>
                  <a:lnTo>
                    <a:pt x="2108" y="1121"/>
                  </a:lnTo>
                  <a:lnTo>
                    <a:pt x="2022" y="1145"/>
                  </a:lnTo>
                  <a:lnTo>
                    <a:pt x="1933" y="1166"/>
                  </a:lnTo>
                  <a:lnTo>
                    <a:pt x="1868" y="1209"/>
                  </a:lnTo>
                  <a:lnTo>
                    <a:pt x="1779" y="1231"/>
                  </a:lnTo>
                  <a:lnTo>
                    <a:pt x="1714" y="1254"/>
                  </a:lnTo>
                  <a:lnTo>
                    <a:pt x="1669" y="1275"/>
                  </a:lnTo>
                  <a:lnTo>
                    <a:pt x="1626" y="1275"/>
                  </a:lnTo>
                  <a:lnTo>
                    <a:pt x="1581" y="1297"/>
                  </a:lnTo>
                  <a:lnTo>
                    <a:pt x="1539" y="1341"/>
                  </a:lnTo>
                  <a:lnTo>
                    <a:pt x="1515" y="1364"/>
                  </a:lnTo>
                  <a:lnTo>
                    <a:pt x="1471" y="1386"/>
                  </a:lnTo>
                  <a:lnTo>
                    <a:pt x="1429" y="1429"/>
                  </a:lnTo>
                  <a:lnTo>
                    <a:pt x="1385" y="1450"/>
                  </a:lnTo>
                  <a:lnTo>
                    <a:pt x="1362" y="1495"/>
                  </a:lnTo>
                  <a:lnTo>
                    <a:pt x="1319" y="1539"/>
                  </a:lnTo>
                  <a:lnTo>
                    <a:pt x="1296" y="1584"/>
                  </a:lnTo>
                  <a:lnTo>
                    <a:pt x="1274" y="1627"/>
                  </a:lnTo>
                  <a:lnTo>
                    <a:pt x="1231" y="1649"/>
                  </a:lnTo>
                  <a:lnTo>
                    <a:pt x="1231" y="1693"/>
                  </a:lnTo>
                  <a:lnTo>
                    <a:pt x="1208" y="1738"/>
                  </a:lnTo>
                  <a:lnTo>
                    <a:pt x="1186" y="1780"/>
                  </a:lnTo>
                  <a:lnTo>
                    <a:pt x="1186" y="1803"/>
                  </a:lnTo>
                  <a:lnTo>
                    <a:pt x="1165" y="1847"/>
                  </a:lnTo>
                  <a:lnTo>
                    <a:pt x="1165" y="1890"/>
                  </a:lnTo>
                  <a:lnTo>
                    <a:pt x="1142" y="1934"/>
                  </a:lnTo>
                  <a:lnTo>
                    <a:pt x="1121" y="1979"/>
                  </a:lnTo>
                  <a:lnTo>
                    <a:pt x="1097" y="2023"/>
                  </a:lnTo>
                  <a:lnTo>
                    <a:pt x="1076" y="2043"/>
                  </a:lnTo>
                  <a:lnTo>
                    <a:pt x="1056" y="2068"/>
                  </a:lnTo>
                  <a:lnTo>
                    <a:pt x="988" y="2111"/>
                  </a:lnTo>
                  <a:lnTo>
                    <a:pt x="922" y="2132"/>
                  </a:lnTo>
                  <a:lnTo>
                    <a:pt x="858" y="2154"/>
                  </a:lnTo>
                  <a:lnTo>
                    <a:pt x="769" y="2154"/>
                  </a:lnTo>
                  <a:lnTo>
                    <a:pt x="681" y="2177"/>
                  </a:lnTo>
                  <a:lnTo>
                    <a:pt x="572" y="2177"/>
                  </a:lnTo>
                  <a:lnTo>
                    <a:pt x="483" y="2198"/>
                  </a:lnTo>
                  <a:lnTo>
                    <a:pt x="395" y="2198"/>
                  </a:lnTo>
                  <a:lnTo>
                    <a:pt x="308" y="2221"/>
                  </a:lnTo>
                  <a:lnTo>
                    <a:pt x="220" y="2243"/>
                  </a:lnTo>
                  <a:lnTo>
                    <a:pt x="154" y="2286"/>
                  </a:lnTo>
                  <a:lnTo>
                    <a:pt x="88" y="2331"/>
                  </a:lnTo>
                  <a:lnTo>
                    <a:pt x="44" y="2396"/>
                  </a:lnTo>
                  <a:lnTo>
                    <a:pt x="0" y="2485"/>
                  </a:lnTo>
                  <a:lnTo>
                    <a:pt x="0" y="2572"/>
                  </a:lnTo>
                  <a:lnTo>
                    <a:pt x="21" y="270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607000" y="2682720"/>
              <a:ext cx="371520" cy="565200"/>
            </a:xfrm>
            <a:custGeom>
              <a:avLst/>
              <a:gdLst/>
              <a:ahLst/>
              <a:rect l="l" t="t" r="r" b="b"/>
              <a:pathLst>
                <a:path w="1142" h="1739">
                  <a:moveTo>
                    <a:pt x="1012" y="1694"/>
                  </a:moveTo>
                  <a:lnTo>
                    <a:pt x="1032" y="1716"/>
                  </a:lnTo>
                  <a:lnTo>
                    <a:pt x="1053" y="1716"/>
                  </a:lnTo>
                  <a:lnTo>
                    <a:pt x="1053" y="1739"/>
                  </a:lnTo>
                  <a:lnTo>
                    <a:pt x="1077" y="1739"/>
                  </a:lnTo>
                  <a:lnTo>
                    <a:pt x="1098" y="1739"/>
                  </a:lnTo>
                  <a:lnTo>
                    <a:pt x="1121" y="1739"/>
                  </a:lnTo>
                  <a:lnTo>
                    <a:pt x="1142" y="1716"/>
                  </a:lnTo>
                  <a:lnTo>
                    <a:pt x="1142" y="1694"/>
                  </a:lnTo>
                  <a:lnTo>
                    <a:pt x="1121" y="1673"/>
                  </a:lnTo>
                  <a:lnTo>
                    <a:pt x="1121" y="1650"/>
                  </a:lnTo>
                  <a:lnTo>
                    <a:pt x="1121" y="1629"/>
                  </a:lnTo>
                  <a:lnTo>
                    <a:pt x="1098" y="1584"/>
                  </a:lnTo>
                  <a:lnTo>
                    <a:pt x="1098" y="1561"/>
                  </a:lnTo>
                  <a:lnTo>
                    <a:pt x="1077" y="1519"/>
                  </a:lnTo>
                  <a:lnTo>
                    <a:pt x="1053" y="1496"/>
                  </a:lnTo>
                  <a:lnTo>
                    <a:pt x="1053" y="1475"/>
                  </a:lnTo>
                  <a:lnTo>
                    <a:pt x="1032" y="1430"/>
                  </a:lnTo>
                  <a:lnTo>
                    <a:pt x="1012" y="1409"/>
                  </a:lnTo>
                  <a:lnTo>
                    <a:pt x="989" y="1386"/>
                  </a:lnTo>
                  <a:lnTo>
                    <a:pt x="967" y="1341"/>
                  </a:lnTo>
                  <a:lnTo>
                    <a:pt x="944" y="1321"/>
                  </a:lnTo>
                  <a:lnTo>
                    <a:pt x="923" y="1276"/>
                  </a:lnTo>
                  <a:lnTo>
                    <a:pt x="878" y="1232"/>
                  </a:lnTo>
                  <a:lnTo>
                    <a:pt x="857" y="1211"/>
                  </a:lnTo>
                  <a:lnTo>
                    <a:pt x="834" y="1166"/>
                  </a:lnTo>
                  <a:lnTo>
                    <a:pt x="812" y="1145"/>
                  </a:lnTo>
                  <a:lnTo>
                    <a:pt x="748" y="1057"/>
                  </a:lnTo>
                  <a:lnTo>
                    <a:pt x="703" y="991"/>
                  </a:lnTo>
                  <a:lnTo>
                    <a:pt x="659" y="925"/>
                  </a:lnTo>
                  <a:lnTo>
                    <a:pt x="614" y="857"/>
                  </a:lnTo>
                  <a:lnTo>
                    <a:pt x="570" y="793"/>
                  </a:lnTo>
                  <a:lnTo>
                    <a:pt x="528" y="727"/>
                  </a:lnTo>
                  <a:lnTo>
                    <a:pt x="505" y="662"/>
                  </a:lnTo>
                  <a:lnTo>
                    <a:pt x="460" y="594"/>
                  </a:lnTo>
                  <a:lnTo>
                    <a:pt x="418" y="529"/>
                  </a:lnTo>
                  <a:lnTo>
                    <a:pt x="395" y="463"/>
                  </a:lnTo>
                  <a:lnTo>
                    <a:pt x="351" y="398"/>
                  </a:lnTo>
                  <a:lnTo>
                    <a:pt x="308" y="332"/>
                  </a:lnTo>
                  <a:lnTo>
                    <a:pt x="285" y="264"/>
                  </a:lnTo>
                  <a:lnTo>
                    <a:pt x="241" y="200"/>
                  </a:lnTo>
                  <a:lnTo>
                    <a:pt x="196" y="155"/>
                  </a:lnTo>
                  <a:lnTo>
                    <a:pt x="155" y="89"/>
                  </a:lnTo>
                  <a:lnTo>
                    <a:pt x="110" y="23"/>
                  </a:lnTo>
                  <a:lnTo>
                    <a:pt x="87" y="23"/>
                  </a:lnTo>
                  <a:lnTo>
                    <a:pt x="87" y="0"/>
                  </a:lnTo>
                  <a:lnTo>
                    <a:pt x="66" y="0"/>
                  </a:lnTo>
                  <a:lnTo>
                    <a:pt x="44" y="0"/>
                  </a:lnTo>
                  <a:lnTo>
                    <a:pt x="21" y="45"/>
                  </a:lnTo>
                  <a:lnTo>
                    <a:pt x="0" y="89"/>
                  </a:lnTo>
                  <a:lnTo>
                    <a:pt x="21" y="155"/>
                  </a:lnTo>
                  <a:lnTo>
                    <a:pt x="21" y="223"/>
                  </a:lnTo>
                  <a:lnTo>
                    <a:pt x="44" y="288"/>
                  </a:lnTo>
                  <a:lnTo>
                    <a:pt x="66" y="353"/>
                  </a:lnTo>
                  <a:lnTo>
                    <a:pt x="87" y="442"/>
                  </a:lnTo>
                  <a:lnTo>
                    <a:pt x="110" y="507"/>
                  </a:lnTo>
                  <a:lnTo>
                    <a:pt x="131" y="573"/>
                  </a:lnTo>
                  <a:lnTo>
                    <a:pt x="175" y="639"/>
                  </a:lnTo>
                  <a:lnTo>
                    <a:pt x="219" y="705"/>
                  </a:lnTo>
                  <a:lnTo>
                    <a:pt x="241" y="771"/>
                  </a:lnTo>
                  <a:lnTo>
                    <a:pt x="264" y="816"/>
                  </a:lnTo>
                  <a:lnTo>
                    <a:pt x="285" y="837"/>
                  </a:lnTo>
                  <a:lnTo>
                    <a:pt x="308" y="882"/>
                  </a:lnTo>
                  <a:lnTo>
                    <a:pt x="330" y="902"/>
                  </a:lnTo>
                  <a:lnTo>
                    <a:pt x="351" y="946"/>
                  </a:lnTo>
                  <a:lnTo>
                    <a:pt x="374" y="968"/>
                  </a:lnTo>
                  <a:lnTo>
                    <a:pt x="395" y="1012"/>
                  </a:lnTo>
                  <a:lnTo>
                    <a:pt x="418" y="1035"/>
                  </a:lnTo>
                  <a:lnTo>
                    <a:pt x="439" y="1077"/>
                  </a:lnTo>
                  <a:lnTo>
                    <a:pt x="460" y="1100"/>
                  </a:lnTo>
                  <a:lnTo>
                    <a:pt x="505" y="1145"/>
                  </a:lnTo>
                  <a:lnTo>
                    <a:pt x="528" y="1166"/>
                  </a:lnTo>
                  <a:lnTo>
                    <a:pt x="549" y="1211"/>
                  </a:lnTo>
                  <a:lnTo>
                    <a:pt x="570" y="1232"/>
                  </a:lnTo>
                  <a:lnTo>
                    <a:pt x="594" y="1255"/>
                  </a:lnTo>
                  <a:lnTo>
                    <a:pt x="614" y="1300"/>
                  </a:lnTo>
                  <a:lnTo>
                    <a:pt x="637" y="1321"/>
                  </a:lnTo>
                  <a:lnTo>
                    <a:pt x="680" y="1364"/>
                  </a:lnTo>
                  <a:lnTo>
                    <a:pt x="703" y="1386"/>
                  </a:lnTo>
                  <a:lnTo>
                    <a:pt x="724" y="1430"/>
                  </a:lnTo>
                  <a:lnTo>
                    <a:pt x="769" y="1452"/>
                  </a:lnTo>
                  <a:lnTo>
                    <a:pt x="792" y="1496"/>
                  </a:lnTo>
                  <a:lnTo>
                    <a:pt x="812" y="1519"/>
                  </a:lnTo>
                  <a:lnTo>
                    <a:pt x="857" y="1561"/>
                  </a:lnTo>
                  <a:lnTo>
                    <a:pt x="878" y="1584"/>
                  </a:lnTo>
                  <a:lnTo>
                    <a:pt x="901" y="160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89480" y="3213000"/>
              <a:ext cx="272880" cy="165240"/>
            </a:xfrm>
            <a:custGeom>
              <a:avLst/>
              <a:gdLst/>
              <a:ahLst/>
              <a:rect l="l" t="t" r="r" b="b"/>
              <a:pathLst>
                <a:path w="836" h="505">
                  <a:moveTo>
                    <a:pt x="0" y="505"/>
                  </a:moveTo>
                  <a:lnTo>
                    <a:pt x="23" y="460"/>
                  </a:lnTo>
                  <a:lnTo>
                    <a:pt x="65" y="416"/>
                  </a:lnTo>
                  <a:lnTo>
                    <a:pt x="109" y="394"/>
                  </a:lnTo>
                  <a:lnTo>
                    <a:pt x="154" y="350"/>
                  </a:lnTo>
                  <a:lnTo>
                    <a:pt x="198" y="306"/>
                  </a:lnTo>
                  <a:lnTo>
                    <a:pt x="263" y="264"/>
                  </a:lnTo>
                  <a:lnTo>
                    <a:pt x="308" y="219"/>
                  </a:lnTo>
                  <a:lnTo>
                    <a:pt x="373" y="175"/>
                  </a:lnTo>
                  <a:lnTo>
                    <a:pt x="418" y="130"/>
                  </a:lnTo>
                  <a:lnTo>
                    <a:pt x="483" y="110"/>
                  </a:lnTo>
                  <a:lnTo>
                    <a:pt x="549" y="65"/>
                  </a:lnTo>
                  <a:lnTo>
                    <a:pt x="593" y="44"/>
                  </a:lnTo>
                  <a:lnTo>
                    <a:pt x="658" y="21"/>
                  </a:lnTo>
                  <a:lnTo>
                    <a:pt x="726" y="0"/>
                  </a:lnTo>
                  <a:lnTo>
                    <a:pt x="791" y="0"/>
                  </a:lnTo>
                  <a:lnTo>
                    <a:pt x="83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11440" y="3286080"/>
              <a:ext cx="309600" cy="142920"/>
            </a:xfrm>
            <a:custGeom>
              <a:avLst/>
              <a:gdLst/>
              <a:ahLst/>
              <a:rect l="l" t="t" r="r" b="b"/>
              <a:pathLst>
                <a:path w="946" h="439">
                  <a:moveTo>
                    <a:pt x="0" y="439"/>
                  </a:moveTo>
                  <a:lnTo>
                    <a:pt x="44" y="395"/>
                  </a:lnTo>
                  <a:lnTo>
                    <a:pt x="89" y="350"/>
                  </a:lnTo>
                  <a:lnTo>
                    <a:pt x="133" y="330"/>
                  </a:lnTo>
                  <a:lnTo>
                    <a:pt x="198" y="286"/>
                  </a:lnTo>
                  <a:lnTo>
                    <a:pt x="243" y="264"/>
                  </a:lnTo>
                  <a:lnTo>
                    <a:pt x="308" y="220"/>
                  </a:lnTo>
                  <a:lnTo>
                    <a:pt x="353" y="197"/>
                  </a:lnTo>
                  <a:lnTo>
                    <a:pt x="418" y="175"/>
                  </a:lnTo>
                  <a:lnTo>
                    <a:pt x="484" y="154"/>
                  </a:lnTo>
                  <a:lnTo>
                    <a:pt x="551" y="131"/>
                  </a:lnTo>
                  <a:lnTo>
                    <a:pt x="617" y="110"/>
                  </a:lnTo>
                  <a:lnTo>
                    <a:pt x="682" y="87"/>
                  </a:lnTo>
                  <a:lnTo>
                    <a:pt x="748" y="66"/>
                  </a:lnTo>
                  <a:lnTo>
                    <a:pt x="815" y="45"/>
                  </a:lnTo>
                  <a:lnTo>
                    <a:pt x="880" y="21"/>
                  </a:lnTo>
                  <a:lnTo>
                    <a:pt x="94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543560" y="3600360"/>
              <a:ext cx="1500120" cy="401760"/>
            </a:xfrm>
            <a:custGeom>
              <a:avLst/>
              <a:gdLst/>
              <a:ahLst/>
              <a:rect l="l" t="t" r="r" b="b"/>
              <a:pathLst>
                <a:path w="4594" h="1230">
                  <a:moveTo>
                    <a:pt x="418" y="373"/>
                  </a:moveTo>
                  <a:lnTo>
                    <a:pt x="418" y="418"/>
                  </a:lnTo>
                  <a:lnTo>
                    <a:pt x="397" y="439"/>
                  </a:lnTo>
                  <a:lnTo>
                    <a:pt x="374" y="482"/>
                  </a:lnTo>
                  <a:lnTo>
                    <a:pt x="329" y="527"/>
                  </a:lnTo>
                  <a:lnTo>
                    <a:pt x="309" y="570"/>
                  </a:lnTo>
                  <a:lnTo>
                    <a:pt x="288" y="614"/>
                  </a:lnTo>
                  <a:lnTo>
                    <a:pt x="243" y="659"/>
                  </a:lnTo>
                  <a:lnTo>
                    <a:pt x="220" y="703"/>
                  </a:lnTo>
                  <a:lnTo>
                    <a:pt x="199" y="746"/>
                  </a:lnTo>
                  <a:lnTo>
                    <a:pt x="154" y="791"/>
                  </a:lnTo>
                  <a:lnTo>
                    <a:pt x="134" y="834"/>
                  </a:lnTo>
                  <a:lnTo>
                    <a:pt x="89" y="878"/>
                  </a:lnTo>
                  <a:lnTo>
                    <a:pt x="68" y="923"/>
                  </a:lnTo>
                  <a:lnTo>
                    <a:pt x="45" y="943"/>
                  </a:lnTo>
                  <a:lnTo>
                    <a:pt x="23" y="987"/>
                  </a:lnTo>
                  <a:lnTo>
                    <a:pt x="0" y="1032"/>
                  </a:lnTo>
                  <a:lnTo>
                    <a:pt x="23" y="1032"/>
                  </a:lnTo>
                  <a:lnTo>
                    <a:pt x="45" y="1032"/>
                  </a:lnTo>
                  <a:lnTo>
                    <a:pt x="68" y="1032"/>
                  </a:lnTo>
                  <a:lnTo>
                    <a:pt x="89" y="1032"/>
                  </a:lnTo>
                  <a:lnTo>
                    <a:pt x="134" y="1032"/>
                  </a:lnTo>
                  <a:lnTo>
                    <a:pt x="154" y="1032"/>
                  </a:lnTo>
                  <a:lnTo>
                    <a:pt x="177" y="1011"/>
                  </a:lnTo>
                  <a:lnTo>
                    <a:pt x="199" y="1011"/>
                  </a:lnTo>
                  <a:lnTo>
                    <a:pt x="220" y="1011"/>
                  </a:lnTo>
                  <a:lnTo>
                    <a:pt x="264" y="1011"/>
                  </a:lnTo>
                  <a:lnTo>
                    <a:pt x="288" y="1011"/>
                  </a:lnTo>
                  <a:lnTo>
                    <a:pt x="309" y="1011"/>
                  </a:lnTo>
                  <a:lnTo>
                    <a:pt x="329" y="1011"/>
                  </a:lnTo>
                  <a:lnTo>
                    <a:pt x="374" y="1011"/>
                  </a:lnTo>
                  <a:lnTo>
                    <a:pt x="397" y="1011"/>
                  </a:lnTo>
                  <a:lnTo>
                    <a:pt x="418" y="1011"/>
                  </a:lnTo>
                  <a:lnTo>
                    <a:pt x="484" y="1011"/>
                  </a:lnTo>
                  <a:lnTo>
                    <a:pt x="529" y="1032"/>
                  </a:lnTo>
                  <a:lnTo>
                    <a:pt x="593" y="1032"/>
                  </a:lnTo>
                  <a:lnTo>
                    <a:pt x="661" y="1032"/>
                  </a:lnTo>
                  <a:lnTo>
                    <a:pt x="727" y="1032"/>
                  </a:lnTo>
                  <a:lnTo>
                    <a:pt x="792" y="1032"/>
                  </a:lnTo>
                  <a:lnTo>
                    <a:pt x="857" y="1032"/>
                  </a:lnTo>
                  <a:lnTo>
                    <a:pt x="922" y="1032"/>
                  </a:lnTo>
                  <a:lnTo>
                    <a:pt x="990" y="1032"/>
                  </a:lnTo>
                  <a:lnTo>
                    <a:pt x="1056" y="1032"/>
                  </a:lnTo>
                  <a:lnTo>
                    <a:pt x="1122" y="1032"/>
                  </a:lnTo>
                  <a:lnTo>
                    <a:pt x="1186" y="1032"/>
                  </a:lnTo>
                  <a:lnTo>
                    <a:pt x="1254" y="1032"/>
                  </a:lnTo>
                  <a:lnTo>
                    <a:pt x="1320" y="1053"/>
                  </a:lnTo>
                  <a:lnTo>
                    <a:pt x="1385" y="1053"/>
                  </a:lnTo>
                  <a:lnTo>
                    <a:pt x="1429" y="1053"/>
                  </a:lnTo>
                  <a:lnTo>
                    <a:pt x="1495" y="1076"/>
                  </a:lnTo>
                  <a:lnTo>
                    <a:pt x="1584" y="1076"/>
                  </a:lnTo>
                  <a:lnTo>
                    <a:pt x="1649" y="1098"/>
                  </a:lnTo>
                  <a:lnTo>
                    <a:pt x="1738" y="1098"/>
                  </a:lnTo>
                  <a:lnTo>
                    <a:pt x="1803" y="1098"/>
                  </a:lnTo>
                  <a:lnTo>
                    <a:pt x="1890" y="1076"/>
                  </a:lnTo>
                  <a:lnTo>
                    <a:pt x="1957" y="1076"/>
                  </a:lnTo>
                  <a:lnTo>
                    <a:pt x="2044" y="1076"/>
                  </a:lnTo>
                  <a:lnTo>
                    <a:pt x="2133" y="1076"/>
                  </a:lnTo>
                  <a:lnTo>
                    <a:pt x="2197" y="1053"/>
                  </a:lnTo>
                  <a:lnTo>
                    <a:pt x="2286" y="1053"/>
                  </a:lnTo>
                  <a:lnTo>
                    <a:pt x="2352" y="1053"/>
                  </a:lnTo>
                  <a:lnTo>
                    <a:pt x="2440" y="1053"/>
                  </a:lnTo>
                  <a:lnTo>
                    <a:pt x="2506" y="1053"/>
                  </a:lnTo>
                  <a:lnTo>
                    <a:pt x="2595" y="1053"/>
                  </a:lnTo>
                  <a:lnTo>
                    <a:pt x="2660" y="1076"/>
                  </a:lnTo>
                  <a:lnTo>
                    <a:pt x="2681" y="1076"/>
                  </a:lnTo>
                  <a:lnTo>
                    <a:pt x="2704" y="1076"/>
                  </a:lnTo>
                  <a:lnTo>
                    <a:pt x="2747" y="1076"/>
                  </a:lnTo>
                  <a:lnTo>
                    <a:pt x="2770" y="1076"/>
                  </a:lnTo>
                  <a:lnTo>
                    <a:pt x="2790" y="1076"/>
                  </a:lnTo>
                  <a:lnTo>
                    <a:pt x="2835" y="1076"/>
                  </a:lnTo>
                  <a:lnTo>
                    <a:pt x="2856" y="1076"/>
                  </a:lnTo>
                  <a:lnTo>
                    <a:pt x="2901" y="1076"/>
                  </a:lnTo>
                  <a:lnTo>
                    <a:pt x="2945" y="1076"/>
                  </a:lnTo>
                  <a:lnTo>
                    <a:pt x="2967" y="1076"/>
                  </a:lnTo>
                  <a:lnTo>
                    <a:pt x="3010" y="1076"/>
                  </a:lnTo>
                  <a:lnTo>
                    <a:pt x="3033" y="1076"/>
                  </a:lnTo>
                  <a:lnTo>
                    <a:pt x="3078" y="1076"/>
                  </a:lnTo>
                  <a:lnTo>
                    <a:pt x="3099" y="1076"/>
                  </a:lnTo>
                  <a:lnTo>
                    <a:pt x="3143" y="1076"/>
                  </a:lnTo>
                  <a:lnTo>
                    <a:pt x="3165" y="1076"/>
                  </a:lnTo>
                  <a:lnTo>
                    <a:pt x="3977" y="1207"/>
                  </a:lnTo>
                  <a:lnTo>
                    <a:pt x="4001" y="1207"/>
                  </a:lnTo>
                  <a:lnTo>
                    <a:pt x="4022" y="1207"/>
                  </a:lnTo>
                  <a:lnTo>
                    <a:pt x="4045" y="1207"/>
                  </a:lnTo>
                  <a:lnTo>
                    <a:pt x="4065" y="1207"/>
                  </a:lnTo>
                  <a:lnTo>
                    <a:pt x="4087" y="1207"/>
                  </a:lnTo>
                  <a:lnTo>
                    <a:pt x="4110" y="1207"/>
                  </a:lnTo>
                  <a:lnTo>
                    <a:pt x="4154" y="1230"/>
                  </a:lnTo>
                  <a:lnTo>
                    <a:pt x="4176" y="1230"/>
                  </a:lnTo>
                  <a:lnTo>
                    <a:pt x="4220" y="1230"/>
                  </a:lnTo>
                  <a:lnTo>
                    <a:pt x="4242" y="1230"/>
                  </a:lnTo>
                  <a:lnTo>
                    <a:pt x="4285" y="1230"/>
                  </a:lnTo>
                  <a:lnTo>
                    <a:pt x="4306" y="1230"/>
                  </a:lnTo>
                  <a:lnTo>
                    <a:pt x="4330" y="1207"/>
                  </a:lnTo>
                  <a:lnTo>
                    <a:pt x="4351" y="1207"/>
                  </a:lnTo>
                  <a:lnTo>
                    <a:pt x="4374" y="1207"/>
                  </a:lnTo>
                  <a:lnTo>
                    <a:pt x="4395" y="1098"/>
                  </a:lnTo>
                  <a:lnTo>
                    <a:pt x="4395" y="966"/>
                  </a:lnTo>
                  <a:lnTo>
                    <a:pt x="4417" y="834"/>
                  </a:lnTo>
                  <a:lnTo>
                    <a:pt x="4417" y="723"/>
                  </a:lnTo>
                  <a:lnTo>
                    <a:pt x="4440" y="659"/>
                  </a:lnTo>
                  <a:lnTo>
                    <a:pt x="4460" y="593"/>
                  </a:lnTo>
                  <a:lnTo>
                    <a:pt x="4505" y="527"/>
                  </a:lnTo>
                  <a:lnTo>
                    <a:pt x="4528" y="439"/>
                  </a:lnTo>
                  <a:lnTo>
                    <a:pt x="4549" y="373"/>
                  </a:lnTo>
                  <a:lnTo>
                    <a:pt x="4571" y="284"/>
                  </a:lnTo>
                  <a:lnTo>
                    <a:pt x="4594" y="219"/>
                  </a:lnTo>
                  <a:lnTo>
                    <a:pt x="4594" y="153"/>
                  </a:lnTo>
                  <a:lnTo>
                    <a:pt x="4571" y="153"/>
                  </a:lnTo>
                  <a:lnTo>
                    <a:pt x="4549" y="153"/>
                  </a:lnTo>
                  <a:lnTo>
                    <a:pt x="4528" y="153"/>
                  </a:lnTo>
                  <a:lnTo>
                    <a:pt x="4505" y="130"/>
                  </a:lnTo>
                  <a:lnTo>
                    <a:pt x="4483" y="130"/>
                  </a:lnTo>
                  <a:lnTo>
                    <a:pt x="4460" y="130"/>
                  </a:lnTo>
                  <a:lnTo>
                    <a:pt x="4440" y="130"/>
                  </a:lnTo>
                  <a:lnTo>
                    <a:pt x="4417" y="130"/>
                  </a:lnTo>
                  <a:lnTo>
                    <a:pt x="4374" y="130"/>
                  </a:lnTo>
                  <a:lnTo>
                    <a:pt x="4306" y="130"/>
                  </a:lnTo>
                  <a:lnTo>
                    <a:pt x="4265" y="109"/>
                  </a:lnTo>
                  <a:lnTo>
                    <a:pt x="4220" y="109"/>
                  </a:lnTo>
                  <a:lnTo>
                    <a:pt x="4176" y="109"/>
                  </a:lnTo>
                  <a:lnTo>
                    <a:pt x="4110" y="109"/>
                  </a:lnTo>
                  <a:lnTo>
                    <a:pt x="4065" y="109"/>
                  </a:lnTo>
                  <a:lnTo>
                    <a:pt x="4022" y="109"/>
                  </a:lnTo>
                  <a:lnTo>
                    <a:pt x="3956" y="109"/>
                  </a:lnTo>
                  <a:lnTo>
                    <a:pt x="3912" y="109"/>
                  </a:lnTo>
                  <a:lnTo>
                    <a:pt x="3867" y="109"/>
                  </a:lnTo>
                  <a:lnTo>
                    <a:pt x="3802" y="130"/>
                  </a:lnTo>
                  <a:lnTo>
                    <a:pt x="3758" y="130"/>
                  </a:lnTo>
                  <a:lnTo>
                    <a:pt x="3713" y="130"/>
                  </a:lnTo>
                  <a:lnTo>
                    <a:pt x="3648" y="130"/>
                  </a:lnTo>
                  <a:lnTo>
                    <a:pt x="3604" y="130"/>
                  </a:lnTo>
                  <a:lnTo>
                    <a:pt x="3561" y="130"/>
                  </a:lnTo>
                  <a:lnTo>
                    <a:pt x="3494" y="130"/>
                  </a:lnTo>
                  <a:lnTo>
                    <a:pt x="3449" y="130"/>
                  </a:lnTo>
                  <a:lnTo>
                    <a:pt x="3408" y="130"/>
                  </a:lnTo>
                  <a:lnTo>
                    <a:pt x="3363" y="130"/>
                  </a:lnTo>
                  <a:lnTo>
                    <a:pt x="3297" y="130"/>
                  </a:lnTo>
                  <a:lnTo>
                    <a:pt x="3253" y="130"/>
                  </a:lnTo>
                  <a:lnTo>
                    <a:pt x="3209" y="130"/>
                  </a:lnTo>
                  <a:lnTo>
                    <a:pt x="3143" y="130"/>
                  </a:lnTo>
                  <a:lnTo>
                    <a:pt x="3099" y="130"/>
                  </a:lnTo>
                  <a:lnTo>
                    <a:pt x="3054" y="130"/>
                  </a:lnTo>
                  <a:lnTo>
                    <a:pt x="3010" y="130"/>
                  </a:lnTo>
                  <a:lnTo>
                    <a:pt x="2967" y="130"/>
                  </a:lnTo>
                  <a:lnTo>
                    <a:pt x="2901" y="130"/>
                  </a:lnTo>
                  <a:lnTo>
                    <a:pt x="2856" y="109"/>
                  </a:lnTo>
                  <a:lnTo>
                    <a:pt x="2815" y="109"/>
                  </a:lnTo>
                  <a:lnTo>
                    <a:pt x="2770" y="109"/>
                  </a:lnTo>
                  <a:lnTo>
                    <a:pt x="2726" y="86"/>
                  </a:lnTo>
                  <a:lnTo>
                    <a:pt x="2681" y="86"/>
                  </a:lnTo>
                  <a:lnTo>
                    <a:pt x="2615" y="86"/>
                  </a:lnTo>
                  <a:lnTo>
                    <a:pt x="2572" y="86"/>
                  </a:lnTo>
                  <a:lnTo>
                    <a:pt x="2527" y="64"/>
                  </a:lnTo>
                  <a:lnTo>
                    <a:pt x="2461" y="64"/>
                  </a:lnTo>
                  <a:lnTo>
                    <a:pt x="2417" y="64"/>
                  </a:lnTo>
                  <a:lnTo>
                    <a:pt x="2372" y="64"/>
                  </a:lnTo>
                  <a:lnTo>
                    <a:pt x="2308" y="64"/>
                  </a:lnTo>
                  <a:lnTo>
                    <a:pt x="2263" y="44"/>
                  </a:lnTo>
                  <a:lnTo>
                    <a:pt x="2222" y="44"/>
                  </a:lnTo>
                  <a:lnTo>
                    <a:pt x="2154" y="44"/>
                  </a:lnTo>
                  <a:lnTo>
                    <a:pt x="2111" y="44"/>
                  </a:lnTo>
                  <a:lnTo>
                    <a:pt x="2067" y="44"/>
                  </a:lnTo>
                  <a:lnTo>
                    <a:pt x="2022" y="44"/>
                  </a:lnTo>
                  <a:lnTo>
                    <a:pt x="1979" y="21"/>
                  </a:lnTo>
                  <a:lnTo>
                    <a:pt x="1957" y="21"/>
                  </a:lnTo>
                  <a:lnTo>
                    <a:pt x="1913" y="21"/>
                  </a:lnTo>
                  <a:lnTo>
                    <a:pt x="1868" y="21"/>
                  </a:lnTo>
                  <a:lnTo>
                    <a:pt x="1824" y="21"/>
                  </a:lnTo>
                  <a:lnTo>
                    <a:pt x="1779" y="21"/>
                  </a:lnTo>
                  <a:lnTo>
                    <a:pt x="1738" y="21"/>
                  </a:lnTo>
                  <a:lnTo>
                    <a:pt x="1693" y="0"/>
                  </a:lnTo>
                  <a:lnTo>
                    <a:pt x="1649" y="0"/>
                  </a:lnTo>
                  <a:lnTo>
                    <a:pt x="1604" y="0"/>
                  </a:lnTo>
                  <a:lnTo>
                    <a:pt x="1560" y="0"/>
                  </a:lnTo>
                  <a:lnTo>
                    <a:pt x="1516" y="0"/>
                  </a:lnTo>
                  <a:lnTo>
                    <a:pt x="1495" y="0"/>
                  </a:lnTo>
                  <a:lnTo>
                    <a:pt x="1451" y="21"/>
                  </a:lnTo>
                  <a:lnTo>
                    <a:pt x="1406" y="21"/>
                  </a:lnTo>
                  <a:lnTo>
                    <a:pt x="1385" y="21"/>
                  </a:lnTo>
                  <a:lnTo>
                    <a:pt x="1341" y="21"/>
                  </a:lnTo>
                  <a:lnTo>
                    <a:pt x="1297" y="21"/>
                  </a:lnTo>
                  <a:lnTo>
                    <a:pt x="1254" y="21"/>
                  </a:lnTo>
                  <a:lnTo>
                    <a:pt x="1210" y="21"/>
                  </a:lnTo>
                  <a:lnTo>
                    <a:pt x="1165" y="44"/>
                  </a:lnTo>
                  <a:lnTo>
                    <a:pt x="1122" y="44"/>
                  </a:lnTo>
                  <a:lnTo>
                    <a:pt x="1077" y="44"/>
                  </a:lnTo>
                  <a:lnTo>
                    <a:pt x="1033" y="44"/>
                  </a:lnTo>
                  <a:lnTo>
                    <a:pt x="990" y="44"/>
                  </a:lnTo>
                  <a:lnTo>
                    <a:pt x="946" y="44"/>
                  </a:lnTo>
                  <a:lnTo>
                    <a:pt x="902" y="44"/>
                  </a:lnTo>
                  <a:lnTo>
                    <a:pt x="857" y="44"/>
                  </a:lnTo>
                  <a:lnTo>
                    <a:pt x="813" y="44"/>
                  </a:lnTo>
                  <a:lnTo>
                    <a:pt x="770" y="64"/>
                  </a:lnTo>
                  <a:lnTo>
                    <a:pt x="727" y="64"/>
                  </a:lnTo>
                  <a:lnTo>
                    <a:pt x="682" y="64"/>
                  </a:lnTo>
                  <a:lnTo>
                    <a:pt x="638" y="86"/>
                  </a:lnTo>
                  <a:lnTo>
                    <a:pt x="593" y="109"/>
                  </a:lnTo>
                  <a:lnTo>
                    <a:pt x="549" y="153"/>
                  </a:lnTo>
                  <a:lnTo>
                    <a:pt x="529" y="196"/>
                  </a:lnTo>
                  <a:lnTo>
                    <a:pt x="507" y="241"/>
                  </a:lnTo>
                  <a:lnTo>
                    <a:pt x="484" y="284"/>
                  </a:lnTo>
                  <a:lnTo>
                    <a:pt x="440" y="329"/>
                  </a:lnTo>
                  <a:lnTo>
                    <a:pt x="418" y="373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543560" y="3600360"/>
              <a:ext cx="1500120" cy="401760"/>
            </a:xfrm>
            <a:custGeom>
              <a:avLst/>
              <a:gdLst/>
              <a:ahLst/>
              <a:rect l="l" t="t" r="r" b="b"/>
              <a:pathLst>
                <a:path w="4594" h="1230">
                  <a:moveTo>
                    <a:pt x="418" y="373"/>
                  </a:moveTo>
                  <a:lnTo>
                    <a:pt x="418" y="418"/>
                  </a:lnTo>
                  <a:lnTo>
                    <a:pt x="397" y="439"/>
                  </a:lnTo>
                  <a:lnTo>
                    <a:pt x="374" y="482"/>
                  </a:lnTo>
                  <a:lnTo>
                    <a:pt x="329" y="527"/>
                  </a:lnTo>
                  <a:lnTo>
                    <a:pt x="309" y="570"/>
                  </a:lnTo>
                  <a:lnTo>
                    <a:pt x="288" y="614"/>
                  </a:lnTo>
                  <a:lnTo>
                    <a:pt x="243" y="659"/>
                  </a:lnTo>
                  <a:lnTo>
                    <a:pt x="220" y="703"/>
                  </a:lnTo>
                  <a:lnTo>
                    <a:pt x="199" y="746"/>
                  </a:lnTo>
                  <a:lnTo>
                    <a:pt x="154" y="791"/>
                  </a:lnTo>
                  <a:lnTo>
                    <a:pt x="134" y="834"/>
                  </a:lnTo>
                  <a:lnTo>
                    <a:pt x="89" y="878"/>
                  </a:lnTo>
                  <a:lnTo>
                    <a:pt x="68" y="923"/>
                  </a:lnTo>
                  <a:lnTo>
                    <a:pt x="45" y="943"/>
                  </a:lnTo>
                  <a:lnTo>
                    <a:pt x="23" y="987"/>
                  </a:lnTo>
                  <a:lnTo>
                    <a:pt x="0" y="1032"/>
                  </a:lnTo>
                  <a:lnTo>
                    <a:pt x="23" y="1032"/>
                  </a:lnTo>
                  <a:lnTo>
                    <a:pt x="45" y="1032"/>
                  </a:lnTo>
                  <a:lnTo>
                    <a:pt x="68" y="1032"/>
                  </a:lnTo>
                  <a:lnTo>
                    <a:pt x="89" y="1032"/>
                  </a:lnTo>
                  <a:lnTo>
                    <a:pt x="134" y="1032"/>
                  </a:lnTo>
                  <a:lnTo>
                    <a:pt x="154" y="1032"/>
                  </a:lnTo>
                  <a:lnTo>
                    <a:pt x="177" y="1011"/>
                  </a:lnTo>
                  <a:lnTo>
                    <a:pt x="199" y="1011"/>
                  </a:lnTo>
                  <a:lnTo>
                    <a:pt x="220" y="1011"/>
                  </a:lnTo>
                  <a:lnTo>
                    <a:pt x="264" y="1011"/>
                  </a:lnTo>
                  <a:lnTo>
                    <a:pt x="288" y="1011"/>
                  </a:lnTo>
                  <a:lnTo>
                    <a:pt x="309" y="1011"/>
                  </a:lnTo>
                  <a:lnTo>
                    <a:pt x="329" y="1011"/>
                  </a:lnTo>
                  <a:lnTo>
                    <a:pt x="374" y="1011"/>
                  </a:lnTo>
                  <a:lnTo>
                    <a:pt x="397" y="1011"/>
                  </a:lnTo>
                  <a:lnTo>
                    <a:pt x="418" y="1011"/>
                  </a:lnTo>
                  <a:lnTo>
                    <a:pt x="484" y="1011"/>
                  </a:lnTo>
                  <a:lnTo>
                    <a:pt x="529" y="1032"/>
                  </a:lnTo>
                  <a:lnTo>
                    <a:pt x="593" y="1032"/>
                  </a:lnTo>
                  <a:lnTo>
                    <a:pt x="661" y="1032"/>
                  </a:lnTo>
                  <a:lnTo>
                    <a:pt x="727" y="1032"/>
                  </a:lnTo>
                  <a:lnTo>
                    <a:pt x="792" y="1032"/>
                  </a:lnTo>
                  <a:lnTo>
                    <a:pt x="857" y="1032"/>
                  </a:lnTo>
                  <a:lnTo>
                    <a:pt x="922" y="1032"/>
                  </a:lnTo>
                  <a:lnTo>
                    <a:pt x="990" y="1032"/>
                  </a:lnTo>
                  <a:lnTo>
                    <a:pt x="1056" y="1032"/>
                  </a:lnTo>
                  <a:lnTo>
                    <a:pt x="1122" y="1032"/>
                  </a:lnTo>
                  <a:lnTo>
                    <a:pt x="1186" y="1032"/>
                  </a:lnTo>
                  <a:lnTo>
                    <a:pt x="1254" y="1032"/>
                  </a:lnTo>
                  <a:lnTo>
                    <a:pt x="1320" y="1053"/>
                  </a:lnTo>
                  <a:lnTo>
                    <a:pt x="1385" y="1053"/>
                  </a:lnTo>
                  <a:lnTo>
                    <a:pt x="1429" y="1053"/>
                  </a:lnTo>
                  <a:lnTo>
                    <a:pt x="1495" y="1076"/>
                  </a:lnTo>
                  <a:lnTo>
                    <a:pt x="1584" y="1076"/>
                  </a:lnTo>
                  <a:lnTo>
                    <a:pt x="1649" y="1098"/>
                  </a:lnTo>
                  <a:lnTo>
                    <a:pt x="1738" y="1098"/>
                  </a:lnTo>
                  <a:lnTo>
                    <a:pt x="1803" y="1098"/>
                  </a:lnTo>
                  <a:lnTo>
                    <a:pt x="1890" y="1076"/>
                  </a:lnTo>
                  <a:lnTo>
                    <a:pt x="1957" y="1076"/>
                  </a:lnTo>
                  <a:lnTo>
                    <a:pt x="2044" y="1076"/>
                  </a:lnTo>
                  <a:lnTo>
                    <a:pt x="2133" y="1076"/>
                  </a:lnTo>
                  <a:lnTo>
                    <a:pt x="2197" y="1053"/>
                  </a:lnTo>
                  <a:lnTo>
                    <a:pt x="2286" y="1053"/>
                  </a:lnTo>
                  <a:lnTo>
                    <a:pt x="2352" y="1053"/>
                  </a:lnTo>
                  <a:lnTo>
                    <a:pt x="2440" y="1053"/>
                  </a:lnTo>
                  <a:lnTo>
                    <a:pt x="2506" y="1053"/>
                  </a:lnTo>
                  <a:lnTo>
                    <a:pt x="2595" y="1053"/>
                  </a:lnTo>
                  <a:lnTo>
                    <a:pt x="2660" y="1076"/>
                  </a:lnTo>
                  <a:lnTo>
                    <a:pt x="2681" y="1076"/>
                  </a:lnTo>
                  <a:lnTo>
                    <a:pt x="2704" y="1076"/>
                  </a:lnTo>
                  <a:lnTo>
                    <a:pt x="2747" y="1076"/>
                  </a:lnTo>
                  <a:lnTo>
                    <a:pt x="2770" y="1076"/>
                  </a:lnTo>
                  <a:lnTo>
                    <a:pt x="2790" y="1076"/>
                  </a:lnTo>
                  <a:lnTo>
                    <a:pt x="2835" y="1076"/>
                  </a:lnTo>
                  <a:lnTo>
                    <a:pt x="2856" y="1076"/>
                  </a:lnTo>
                  <a:lnTo>
                    <a:pt x="2901" y="1076"/>
                  </a:lnTo>
                  <a:lnTo>
                    <a:pt x="2945" y="1076"/>
                  </a:lnTo>
                  <a:lnTo>
                    <a:pt x="2967" y="1076"/>
                  </a:lnTo>
                  <a:lnTo>
                    <a:pt x="3010" y="1076"/>
                  </a:lnTo>
                  <a:lnTo>
                    <a:pt x="3033" y="1076"/>
                  </a:lnTo>
                  <a:lnTo>
                    <a:pt x="3078" y="1076"/>
                  </a:lnTo>
                  <a:lnTo>
                    <a:pt x="3099" y="1076"/>
                  </a:lnTo>
                  <a:lnTo>
                    <a:pt x="3143" y="1076"/>
                  </a:lnTo>
                  <a:lnTo>
                    <a:pt x="3165" y="1076"/>
                  </a:lnTo>
                  <a:lnTo>
                    <a:pt x="3977" y="1207"/>
                  </a:lnTo>
                  <a:lnTo>
                    <a:pt x="4001" y="1207"/>
                  </a:lnTo>
                  <a:lnTo>
                    <a:pt x="4022" y="1207"/>
                  </a:lnTo>
                  <a:lnTo>
                    <a:pt x="4045" y="1207"/>
                  </a:lnTo>
                  <a:lnTo>
                    <a:pt x="4065" y="1207"/>
                  </a:lnTo>
                  <a:lnTo>
                    <a:pt x="4087" y="1207"/>
                  </a:lnTo>
                  <a:lnTo>
                    <a:pt x="4110" y="1207"/>
                  </a:lnTo>
                  <a:lnTo>
                    <a:pt x="4154" y="1230"/>
                  </a:lnTo>
                  <a:lnTo>
                    <a:pt x="4176" y="1230"/>
                  </a:lnTo>
                  <a:lnTo>
                    <a:pt x="4220" y="1230"/>
                  </a:lnTo>
                  <a:lnTo>
                    <a:pt x="4242" y="1230"/>
                  </a:lnTo>
                  <a:lnTo>
                    <a:pt x="4285" y="1230"/>
                  </a:lnTo>
                  <a:lnTo>
                    <a:pt x="4306" y="1230"/>
                  </a:lnTo>
                  <a:lnTo>
                    <a:pt x="4330" y="1207"/>
                  </a:lnTo>
                  <a:lnTo>
                    <a:pt x="4351" y="1207"/>
                  </a:lnTo>
                  <a:lnTo>
                    <a:pt x="4374" y="1207"/>
                  </a:lnTo>
                  <a:lnTo>
                    <a:pt x="4395" y="1098"/>
                  </a:lnTo>
                  <a:lnTo>
                    <a:pt x="4395" y="966"/>
                  </a:lnTo>
                  <a:lnTo>
                    <a:pt x="4417" y="834"/>
                  </a:lnTo>
                  <a:lnTo>
                    <a:pt x="4417" y="723"/>
                  </a:lnTo>
                  <a:lnTo>
                    <a:pt x="4440" y="659"/>
                  </a:lnTo>
                  <a:lnTo>
                    <a:pt x="4460" y="593"/>
                  </a:lnTo>
                  <a:lnTo>
                    <a:pt x="4505" y="527"/>
                  </a:lnTo>
                  <a:lnTo>
                    <a:pt x="4528" y="439"/>
                  </a:lnTo>
                  <a:lnTo>
                    <a:pt x="4549" y="373"/>
                  </a:lnTo>
                  <a:lnTo>
                    <a:pt x="4571" y="284"/>
                  </a:lnTo>
                  <a:lnTo>
                    <a:pt x="4594" y="219"/>
                  </a:lnTo>
                  <a:lnTo>
                    <a:pt x="4594" y="153"/>
                  </a:lnTo>
                  <a:lnTo>
                    <a:pt x="4571" y="153"/>
                  </a:lnTo>
                  <a:lnTo>
                    <a:pt x="4549" y="153"/>
                  </a:lnTo>
                  <a:lnTo>
                    <a:pt x="4528" y="153"/>
                  </a:lnTo>
                  <a:lnTo>
                    <a:pt x="4505" y="130"/>
                  </a:lnTo>
                  <a:lnTo>
                    <a:pt x="4483" y="130"/>
                  </a:lnTo>
                  <a:lnTo>
                    <a:pt x="4460" y="130"/>
                  </a:lnTo>
                  <a:lnTo>
                    <a:pt x="4440" y="130"/>
                  </a:lnTo>
                  <a:lnTo>
                    <a:pt x="4417" y="130"/>
                  </a:lnTo>
                  <a:lnTo>
                    <a:pt x="4374" y="130"/>
                  </a:lnTo>
                  <a:lnTo>
                    <a:pt x="4306" y="130"/>
                  </a:lnTo>
                  <a:lnTo>
                    <a:pt x="4265" y="109"/>
                  </a:lnTo>
                  <a:lnTo>
                    <a:pt x="4220" y="109"/>
                  </a:lnTo>
                  <a:lnTo>
                    <a:pt x="4176" y="109"/>
                  </a:lnTo>
                  <a:lnTo>
                    <a:pt x="4110" y="109"/>
                  </a:lnTo>
                  <a:lnTo>
                    <a:pt x="4065" y="109"/>
                  </a:lnTo>
                  <a:lnTo>
                    <a:pt x="4022" y="109"/>
                  </a:lnTo>
                  <a:lnTo>
                    <a:pt x="3956" y="109"/>
                  </a:lnTo>
                  <a:lnTo>
                    <a:pt x="3912" y="109"/>
                  </a:lnTo>
                  <a:lnTo>
                    <a:pt x="3867" y="109"/>
                  </a:lnTo>
                  <a:lnTo>
                    <a:pt x="3802" y="130"/>
                  </a:lnTo>
                  <a:lnTo>
                    <a:pt x="3758" y="130"/>
                  </a:lnTo>
                  <a:lnTo>
                    <a:pt x="3713" y="130"/>
                  </a:lnTo>
                  <a:lnTo>
                    <a:pt x="3648" y="130"/>
                  </a:lnTo>
                  <a:lnTo>
                    <a:pt x="3604" y="130"/>
                  </a:lnTo>
                  <a:lnTo>
                    <a:pt x="3561" y="130"/>
                  </a:lnTo>
                  <a:lnTo>
                    <a:pt x="3494" y="130"/>
                  </a:lnTo>
                  <a:lnTo>
                    <a:pt x="3449" y="130"/>
                  </a:lnTo>
                  <a:lnTo>
                    <a:pt x="3408" y="130"/>
                  </a:lnTo>
                  <a:lnTo>
                    <a:pt x="3363" y="130"/>
                  </a:lnTo>
                  <a:lnTo>
                    <a:pt x="3297" y="130"/>
                  </a:lnTo>
                  <a:lnTo>
                    <a:pt x="3253" y="130"/>
                  </a:lnTo>
                  <a:lnTo>
                    <a:pt x="3209" y="130"/>
                  </a:lnTo>
                  <a:lnTo>
                    <a:pt x="3143" y="130"/>
                  </a:lnTo>
                  <a:lnTo>
                    <a:pt x="3099" y="130"/>
                  </a:lnTo>
                  <a:lnTo>
                    <a:pt x="3054" y="130"/>
                  </a:lnTo>
                  <a:lnTo>
                    <a:pt x="3010" y="130"/>
                  </a:lnTo>
                  <a:lnTo>
                    <a:pt x="2967" y="130"/>
                  </a:lnTo>
                  <a:lnTo>
                    <a:pt x="2901" y="130"/>
                  </a:lnTo>
                  <a:lnTo>
                    <a:pt x="2856" y="109"/>
                  </a:lnTo>
                  <a:lnTo>
                    <a:pt x="2815" y="109"/>
                  </a:lnTo>
                  <a:lnTo>
                    <a:pt x="2770" y="109"/>
                  </a:lnTo>
                  <a:lnTo>
                    <a:pt x="2726" y="86"/>
                  </a:lnTo>
                  <a:lnTo>
                    <a:pt x="2681" y="86"/>
                  </a:lnTo>
                  <a:lnTo>
                    <a:pt x="2615" y="86"/>
                  </a:lnTo>
                  <a:lnTo>
                    <a:pt x="2572" y="86"/>
                  </a:lnTo>
                  <a:lnTo>
                    <a:pt x="2527" y="64"/>
                  </a:lnTo>
                  <a:lnTo>
                    <a:pt x="2461" y="64"/>
                  </a:lnTo>
                  <a:lnTo>
                    <a:pt x="2417" y="64"/>
                  </a:lnTo>
                  <a:lnTo>
                    <a:pt x="2372" y="64"/>
                  </a:lnTo>
                  <a:lnTo>
                    <a:pt x="2308" y="64"/>
                  </a:lnTo>
                  <a:lnTo>
                    <a:pt x="2263" y="44"/>
                  </a:lnTo>
                  <a:lnTo>
                    <a:pt x="2222" y="44"/>
                  </a:lnTo>
                  <a:lnTo>
                    <a:pt x="2154" y="44"/>
                  </a:lnTo>
                  <a:lnTo>
                    <a:pt x="2111" y="44"/>
                  </a:lnTo>
                  <a:lnTo>
                    <a:pt x="2067" y="44"/>
                  </a:lnTo>
                  <a:lnTo>
                    <a:pt x="2022" y="44"/>
                  </a:lnTo>
                  <a:lnTo>
                    <a:pt x="1979" y="21"/>
                  </a:lnTo>
                  <a:lnTo>
                    <a:pt x="1957" y="21"/>
                  </a:lnTo>
                  <a:lnTo>
                    <a:pt x="1913" y="21"/>
                  </a:lnTo>
                  <a:lnTo>
                    <a:pt x="1868" y="21"/>
                  </a:lnTo>
                  <a:lnTo>
                    <a:pt x="1824" y="21"/>
                  </a:lnTo>
                  <a:lnTo>
                    <a:pt x="1779" y="21"/>
                  </a:lnTo>
                  <a:lnTo>
                    <a:pt x="1738" y="21"/>
                  </a:lnTo>
                  <a:lnTo>
                    <a:pt x="1693" y="0"/>
                  </a:lnTo>
                  <a:lnTo>
                    <a:pt x="1649" y="0"/>
                  </a:lnTo>
                  <a:lnTo>
                    <a:pt x="1604" y="0"/>
                  </a:lnTo>
                  <a:lnTo>
                    <a:pt x="1560" y="0"/>
                  </a:lnTo>
                  <a:lnTo>
                    <a:pt x="1516" y="0"/>
                  </a:lnTo>
                  <a:lnTo>
                    <a:pt x="1495" y="0"/>
                  </a:lnTo>
                  <a:lnTo>
                    <a:pt x="1451" y="21"/>
                  </a:lnTo>
                  <a:lnTo>
                    <a:pt x="1406" y="21"/>
                  </a:lnTo>
                  <a:lnTo>
                    <a:pt x="1385" y="21"/>
                  </a:lnTo>
                  <a:lnTo>
                    <a:pt x="1341" y="21"/>
                  </a:lnTo>
                  <a:lnTo>
                    <a:pt x="1297" y="21"/>
                  </a:lnTo>
                  <a:lnTo>
                    <a:pt x="1254" y="21"/>
                  </a:lnTo>
                  <a:lnTo>
                    <a:pt x="1210" y="21"/>
                  </a:lnTo>
                  <a:lnTo>
                    <a:pt x="1165" y="44"/>
                  </a:lnTo>
                  <a:lnTo>
                    <a:pt x="1122" y="44"/>
                  </a:lnTo>
                  <a:lnTo>
                    <a:pt x="1077" y="44"/>
                  </a:lnTo>
                  <a:lnTo>
                    <a:pt x="1033" y="44"/>
                  </a:lnTo>
                  <a:lnTo>
                    <a:pt x="990" y="44"/>
                  </a:lnTo>
                  <a:lnTo>
                    <a:pt x="946" y="44"/>
                  </a:lnTo>
                  <a:lnTo>
                    <a:pt x="902" y="44"/>
                  </a:lnTo>
                  <a:lnTo>
                    <a:pt x="857" y="44"/>
                  </a:lnTo>
                  <a:lnTo>
                    <a:pt x="813" y="44"/>
                  </a:lnTo>
                  <a:lnTo>
                    <a:pt x="770" y="64"/>
                  </a:lnTo>
                  <a:lnTo>
                    <a:pt x="727" y="64"/>
                  </a:lnTo>
                  <a:lnTo>
                    <a:pt x="682" y="64"/>
                  </a:lnTo>
                  <a:lnTo>
                    <a:pt x="638" y="86"/>
                  </a:lnTo>
                  <a:lnTo>
                    <a:pt x="593" y="109"/>
                  </a:lnTo>
                  <a:lnTo>
                    <a:pt x="549" y="153"/>
                  </a:lnTo>
                  <a:lnTo>
                    <a:pt x="529" y="196"/>
                  </a:lnTo>
                  <a:lnTo>
                    <a:pt x="507" y="241"/>
                  </a:lnTo>
                  <a:lnTo>
                    <a:pt x="484" y="284"/>
                  </a:lnTo>
                  <a:lnTo>
                    <a:pt x="440" y="329"/>
                  </a:lnTo>
                  <a:lnTo>
                    <a:pt x="418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788000" y="3651120"/>
              <a:ext cx="1011240" cy="244440"/>
            </a:xfrm>
            <a:custGeom>
              <a:avLst/>
              <a:gdLst/>
              <a:ahLst/>
              <a:rect l="l" t="t" r="r" b="b"/>
              <a:pathLst>
                <a:path w="3100" h="748">
                  <a:moveTo>
                    <a:pt x="659" y="0"/>
                  </a:moveTo>
                  <a:lnTo>
                    <a:pt x="727" y="0"/>
                  </a:lnTo>
                  <a:lnTo>
                    <a:pt x="793" y="0"/>
                  </a:lnTo>
                  <a:lnTo>
                    <a:pt x="837" y="0"/>
                  </a:lnTo>
                  <a:lnTo>
                    <a:pt x="902" y="0"/>
                  </a:lnTo>
                  <a:lnTo>
                    <a:pt x="968" y="0"/>
                  </a:lnTo>
                  <a:lnTo>
                    <a:pt x="1032" y="22"/>
                  </a:lnTo>
                  <a:lnTo>
                    <a:pt x="1100" y="22"/>
                  </a:lnTo>
                  <a:lnTo>
                    <a:pt x="1166" y="22"/>
                  </a:lnTo>
                  <a:lnTo>
                    <a:pt x="1232" y="22"/>
                  </a:lnTo>
                  <a:lnTo>
                    <a:pt x="1297" y="22"/>
                  </a:lnTo>
                  <a:lnTo>
                    <a:pt x="1364" y="22"/>
                  </a:lnTo>
                  <a:lnTo>
                    <a:pt x="1430" y="22"/>
                  </a:lnTo>
                  <a:lnTo>
                    <a:pt x="1495" y="22"/>
                  </a:lnTo>
                  <a:lnTo>
                    <a:pt x="1561" y="22"/>
                  </a:lnTo>
                  <a:lnTo>
                    <a:pt x="1625" y="43"/>
                  </a:lnTo>
                  <a:lnTo>
                    <a:pt x="1693" y="43"/>
                  </a:lnTo>
                  <a:lnTo>
                    <a:pt x="1759" y="43"/>
                  </a:lnTo>
                  <a:lnTo>
                    <a:pt x="1825" y="43"/>
                  </a:lnTo>
                  <a:lnTo>
                    <a:pt x="1890" y="43"/>
                  </a:lnTo>
                  <a:lnTo>
                    <a:pt x="1957" y="43"/>
                  </a:lnTo>
                  <a:lnTo>
                    <a:pt x="2023" y="43"/>
                  </a:lnTo>
                  <a:lnTo>
                    <a:pt x="2088" y="43"/>
                  </a:lnTo>
                  <a:lnTo>
                    <a:pt x="2154" y="43"/>
                  </a:lnTo>
                  <a:lnTo>
                    <a:pt x="2220" y="66"/>
                  </a:lnTo>
                  <a:lnTo>
                    <a:pt x="2286" y="66"/>
                  </a:lnTo>
                  <a:lnTo>
                    <a:pt x="2352" y="66"/>
                  </a:lnTo>
                  <a:lnTo>
                    <a:pt x="2418" y="66"/>
                  </a:lnTo>
                  <a:lnTo>
                    <a:pt x="2483" y="66"/>
                  </a:lnTo>
                  <a:lnTo>
                    <a:pt x="2550" y="66"/>
                  </a:lnTo>
                  <a:lnTo>
                    <a:pt x="2616" y="66"/>
                  </a:lnTo>
                  <a:lnTo>
                    <a:pt x="2681" y="66"/>
                  </a:lnTo>
                  <a:lnTo>
                    <a:pt x="2747" y="88"/>
                  </a:lnTo>
                  <a:lnTo>
                    <a:pt x="2791" y="88"/>
                  </a:lnTo>
                  <a:lnTo>
                    <a:pt x="2814" y="88"/>
                  </a:lnTo>
                  <a:lnTo>
                    <a:pt x="2857" y="88"/>
                  </a:lnTo>
                  <a:lnTo>
                    <a:pt x="2901" y="111"/>
                  </a:lnTo>
                  <a:lnTo>
                    <a:pt x="2924" y="111"/>
                  </a:lnTo>
                  <a:lnTo>
                    <a:pt x="2966" y="131"/>
                  </a:lnTo>
                  <a:lnTo>
                    <a:pt x="2990" y="131"/>
                  </a:lnTo>
                  <a:lnTo>
                    <a:pt x="3011" y="154"/>
                  </a:lnTo>
                  <a:lnTo>
                    <a:pt x="3034" y="176"/>
                  </a:lnTo>
                  <a:lnTo>
                    <a:pt x="3055" y="197"/>
                  </a:lnTo>
                  <a:lnTo>
                    <a:pt x="3076" y="220"/>
                  </a:lnTo>
                  <a:lnTo>
                    <a:pt x="3076" y="241"/>
                  </a:lnTo>
                  <a:lnTo>
                    <a:pt x="3100" y="265"/>
                  </a:lnTo>
                  <a:lnTo>
                    <a:pt x="3100" y="286"/>
                  </a:lnTo>
                  <a:lnTo>
                    <a:pt x="3100" y="306"/>
                  </a:lnTo>
                  <a:lnTo>
                    <a:pt x="3100" y="329"/>
                  </a:lnTo>
                  <a:lnTo>
                    <a:pt x="3100" y="351"/>
                  </a:lnTo>
                  <a:lnTo>
                    <a:pt x="3076" y="374"/>
                  </a:lnTo>
                  <a:lnTo>
                    <a:pt x="3076" y="395"/>
                  </a:lnTo>
                  <a:lnTo>
                    <a:pt x="3076" y="417"/>
                  </a:lnTo>
                  <a:lnTo>
                    <a:pt x="3076" y="440"/>
                  </a:lnTo>
                  <a:lnTo>
                    <a:pt x="3055" y="461"/>
                  </a:lnTo>
                  <a:lnTo>
                    <a:pt x="3055" y="484"/>
                  </a:lnTo>
                  <a:lnTo>
                    <a:pt x="3055" y="506"/>
                  </a:lnTo>
                  <a:lnTo>
                    <a:pt x="3055" y="526"/>
                  </a:lnTo>
                  <a:lnTo>
                    <a:pt x="3034" y="550"/>
                  </a:lnTo>
                  <a:lnTo>
                    <a:pt x="3011" y="570"/>
                  </a:lnTo>
                  <a:lnTo>
                    <a:pt x="3011" y="593"/>
                  </a:lnTo>
                  <a:lnTo>
                    <a:pt x="2966" y="615"/>
                  </a:lnTo>
                  <a:lnTo>
                    <a:pt x="2945" y="638"/>
                  </a:lnTo>
                  <a:lnTo>
                    <a:pt x="2924" y="659"/>
                  </a:lnTo>
                  <a:lnTo>
                    <a:pt x="2901" y="681"/>
                  </a:lnTo>
                  <a:lnTo>
                    <a:pt x="2857" y="704"/>
                  </a:lnTo>
                  <a:lnTo>
                    <a:pt x="2814" y="704"/>
                  </a:lnTo>
                  <a:lnTo>
                    <a:pt x="2770" y="725"/>
                  </a:lnTo>
                  <a:lnTo>
                    <a:pt x="2747" y="725"/>
                  </a:lnTo>
                  <a:lnTo>
                    <a:pt x="2702" y="748"/>
                  </a:lnTo>
                  <a:lnTo>
                    <a:pt x="2661" y="748"/>
                  </a:lnTo>
                  <a:lnTo>
                    <a:pt x="2616" y="748"/>
                  </a:lnTo>
                  <a:lnTo>
                    <a:pt x="2572" y="748"/>
                  </a:lnTo>
                  <a:lnTo>
                    <a:pt x="2483" y="748"/>
                  </a:lnTo>
                  <a:lnTo>
                    <a:pt x="2418" y="748"/>
                  </a:lnTo>
                  <a:lnTo>
                    <a:pt x="2352" y="725"/>
                  </a:lnTo>
                  <a:lnTo>
                    <a:pt x="2286" y="725"/>
                  </a:lnTo>
                  <a:lnTo>
                    <a:pt x="2198" y="725"/>
                  </a:lnTo>
                  <a:lnTo>
                    <a:pt x="2132" y="725"/>
                  </a:lnTo>
                  <a:lnTo>
                    <a:pt x="2068" y="725"/>
                  </a:lnTo>
                  <a:lnTo>
                    <a:pt x="2000" y="725"/>
                  </a:lnTo>
                  <a:lnTo>
                    <a:pt x="1913" y="725"/>
                  </a:lnTo>
                  <a:lnTo>
                    <a:pt x="1848" y="725"/>
                  </a:lnTo>
                  <a:lnTo>
                    <a:pt x="1780" y="704"/>
                  </a:lnTo>
                  <a:lnTo>
                    <a:pt x="1714" y="704"/>
                  </a:lnTo>
                  <a:lnTo>
                    <a:pt x="1625" y="704"/>
                  </a:lnTo>
                  <a:lnTo>
                    <a:pt x="1561" y="704"/>
                  </a:lnTo>
                  <a:lnTo>
                    <a:pt x="1495" y="704"/>
                  </a:lnTo>
                  <a:lnTo>
                    <a:pt x="1430" y="704"/>
                  </a:lnTo>
                  <a:lnTo>
                    <a:pt x="1341" y="704"/>
                  </a:lnTo>
                  <a:lnTo>
                    <a:pt x="1275" y="681"/>
                  </a:lnTo>
                  <a:lnTo>
                    <a:pt x="1210" y="681"/>
                  </a:lnTo>
                  <a:lnTo>
                    <a:pt x="1143" y="681"/>
                  </a:lnTo>
                  <a:lnTo>
                    <a:pt x="1077" y="681"/>
                  </a:lnTo>
                  <a:lnTo>
                    <a:pt x="991" y="681"/>
                  </a:lnTo>
                  <a:lnTo>
                    <a:pt x="923" y="681"/>
                  </a:lnTo>
                  <a:lnTo>
                    <a:pt x="857" y="681"/>
                  </a:lnTo>
                  <a:lnTo>
                    <a:pt x="793" y="681"/>
                  </a:lnTo>
                  <a:lnTo>
                    <a:pt x="704" y="659"/>
                  </a:lnTo>
                  <a:lnTo>
                    <a:pt x="638" y="659"/>
                  </a:lnTo>
                  <a:lnTo>
                    <a:pt x="573" y="659"/>
                  </a:lnTo>
                  <a:lnTo>
                    <a:pt x="507" y="659"/>
                  </a:lnTo>
                  <a:lnTo>
                    <a:pt x="439" y="659"/>
                  </a:lnTo>
                  <a:lnTo>
                    <a:pt x="353" y="659"/>
                  </a:lnTo>
                  <a:lnTo>
                    <a:pt x="286" y="659"/>
                  </a:lnTo>
                  <a:lnTo>
                    <a:pt x="243" y="638"/>
                  </a:lnTo>
                  <a:lnTo>
                    <a:pt x="220" y="638"/>
                  </a:lnTo>
                  <a:lnTo>
                    <a:pt x="175" y="638"/>
                  </a:lnTo>
                  <a:lnTo>
                    <a:pt x="134" y="615"/>
                  </a:lnTo>
                  <a:lnTo>
                    <a:pt x="110" y="615"/>
                  </a:lnTo>
                  <a:lnTo>
                    <a:pt x="89" y="593"/>
                  </a:lnTo>
                  <a:lnTo>
                    <a:pt x="66" y="570"/>
                  </a:lnTo>
                  <a:lnTo>
                    <a:pt x="45" y="570"/>
                  </a:lnTo>
                  <a:lnTo>
                    <a:pt x="0" y="526"/>
                  </a:lnTo>
                  <a:lnTo>
                    <a:pt x="0" y="484"/>
                  </a:lnTo>
                  <a:lnTo>
                    <a:pt x="0" y="440"/>
                  </a:lnTo>
                  <a:lnTo>
                    <a:pt x="23" y="374"/>
                  </a:lnTo>
                  <a:lnTo>
                    <a:pt x="45" y="351"/>
                  </a:lnTo>
                  <a:lnTo>
                    <a:pt x="45" y="329"/>
                  </a:lnTo>
                  <a:lnTo>
                    <a:pt x="66" y="306"/>
                  </a:lnTo>
                  <a:lnTo>
                    <a:pt x="66" y="286"/>
                  </a:lnTo>
                  <a:lnTo>
                    <a:pt x="89" y="265"/>
                  </a:lnTo>
                  <a:lnTo>
                    <a:pt x="110" y="241"/>
                  </a:lnTo>
                  <a:lnTo>
                    <a:pt x="110" y="220"/>
                  </a:lnTo>
                  <a:lnTo>
                    <a:pt x="134" y="197"/>
                  </a:lnTo>
                  <a:lnTo>
                    <a:pt x="155" y="176"/>
                  </a:lnTo>
                  <a:lnTo>
                    <a:pt x="155" y="154"/>
                  </a:lnTo>
                  <a:lnTo>
                    <a:pt x="175" y="131"/>
                  </a:lnTo>
                  <a:lnTo>
                    <a:pt x="220" y="111"/>
                  </a:lnTo>
                  <a:lnTo>
                    <a:pt x="243" y="111"/>
                  </a:lnTo>
                  <a:lnTo>
                    <a:pt x="264" y="88"/>
                  </a:lnTo>
                  <a:lnTo>
                    <a:pt x="309" y="66"/>
                  </a:lnTo>
                  <a:lnTo>
                    <a:pt x="330" y="43"/>
                  </a:lnTo>
                  <a:lnTo>
                    <a:pt x="375" y="43"/>
                  </a:lnTo>
                  <a:lnTo>
                    <a:pt x="418" y="22"/>
                  </a:lnTo>
                  <a:lnTo>
                    <a:pt x="439" y="22"/>
                  </a:lnTo>
                  <a:lnTo>
                    <a:pt x="484" y="0"/>
                  </a:lnTo>
                  <a:lnTo>
                    <a:pt x="528" y="0"/>
                  </a:lnTo>
                  <a:lnTo>
                    <a:pt x="573" y="0"/>
                  </a:lnTo>
                  <a:lnTo>
                    <a:pt x="617" y="0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788000" y="3651120"/>
              <a:ext cx="1011240" cy="244440"/>
            </a:xfrm>
            <a:custGeom>
              <a:avLst/>
              <a:gdLst/>
              <a:ahLst/>
              <a:rect l="l" t="t" r="r" b="b"/>
              <a:pathLst>
                <a:path w="3100" h="748">
                  <a:moveTo>
                    <a:pt x="659" y="0"/>
                  </a:moveTo>
                  <a:lnTo>
                    <a:pt x="727" y="0"/>
                  </a:lnTo>
                  <a:lnTo>
                    <a:pt x="793" y="0"/>
                  </a:lnTo>
                  <a:lnTo>
                    <a:pt x="837" y="0"/>
                  </a:lnTo>
                  <a:lnTo>
                    <a:pt x="902" y="0"/>
                  </a:lnTo>
                  <a:lnTo>
                    <a:pt x="968" y="0"/>
                  </a:lnTo>
                  <a:lnTo>
                    <a:pt x="1032" y="22"/>
                  </a:lnTo>
                  <a:lnTo>
                    <a:pt x="1100" y="22"/>
                  </a:lnTo>
                  <a:lnTo>
                    <a:pt x="1166" y="22"/>
                  </a:lnTo>
                  <a:lnTo>
                    <a:pt x="1232" y="22"/>
                  </a:lnTo>
                  <a:lnTo>
                    <a:pt x="1297" y="22"/>
                  </a:lnTo>
                  <a:lnTo>
                    <a:pt x="1364" y="22"/>
                  </a:lnTo>
                  <a:lnTo>
                    <a:pt x="1430" y="22"/>
                  </a:lnTo>
                  <a:lnTo>
                    <a:pt x="1495" y="22"/>
                  </a:lnTo>
                  <a:lnTo>
                    <a:pt x="1561" y="22"/>
                  </a:lnTo>
                  <a:lnTo>
                    <a:pt x="1625" y="43"/>
                  </a:lnTo>
                  <a:lnTo>
                    <a:pt x="1693" y="43"/>
                  </a:lnTo>
                  <a:lnTo>
                    <a:pt x="1759" y="43"/>
                  </a:lnTo>
                  <a:lnTo>
                    <a:pt x="1825" y="43"/>
                  </a:lnTo>
                  <a:lnTo>
                    <a:pt x="1890" y="43"/>
                  </a:lnTo>
                  <a:lnTo>
                    <a:pt x="1957" y="43"/>
                  </a:lnTo>
                  <a:lnTo>
                    <a:pt x="2023" y="43"/>
                  </a:lnTo>
                  <a:lnTo>
                    <a:pt x="2088" y="43"/>
                  </a:lnTo>
                  <a:lnTo>
                    <a:pt x="2154" y="43"/>
                  </a:lnTo>
                  <a:lnTo>
                    <a:pt x="2220" y="66"/>
                  </a:lnTo>
                  <a:lnTo>
                    <a:pt x="2286" y="66"/>
                  </a:lnTo>
                  <a:lnTo>
                    <a:pt x="2352" y="66"/>
                  </a:lnTo>
                  <a:lnTo>
                    <a:pt x="2418" y="66"/>
                  </a:lnTo>
                  <a:lnTo>
                    <a:pt x="2483" y="66"/>
                  </a:lnTo>
                  <a:lnTo>
                    <a:pt x="2550" y="66"/>
                  </a:lnTo>
                  <a:lnTo>
                    <a:pt x="2616" y="66"/>
                  </a:lnTo>
                  <a:lnTo>
                    <a:pt x="2681" y="66"/>
                  </a:lnTo>
                  <a:lnTo>
                    <a:pt x="2747" y="88"/>
                  </a:lnTo>
                  <a:lnTo>
                    <a:pt x="2791" y="88"/>
                  </a:lnTo>
                  <a:lnTo>
                    <a:pt x="2814" y="88"/>
                  </a:lnTo>
                  <a:lnTo>
                    <a:pt x="2857" y="88"/>
                  </a:lnTo>
                  <a:lnTo>
                    <a:pt x="2901" y="111"/>
                  </a:lnTo>
                  <a:lnTo>
                    <a:pt x="2924" y="111"/>
                  </a:lnTo>
                  <a:lnTo>
                    <a:pt x="2966" y="131"/>
                  </a:lnTo>
                  <a:lnTo>
                    <a:pt x="2990" y="131"/>
                  </a:lnTo>
                  <a:lnTo>
                    <a:pt x="3011" y="154"/>
                  </a:lnTo>
                  <a:lnTo>
                    <a:pt x="3034" y="176"/>
                  </a:lnTo>
                  <a:lnTo>
                    <a:pt x="3055" y="197"/>
                  </a:lnTo>
                  <a:lnTo>
                    <a:pt x="3076" y="220"/>
                  </a:lnTo>
                  <a:lnTo>
                    <a:pt x="3076" y="241"/>
                  </a:lnTo>
                  <a:lnTo>
                    <a:pt x="3100" y="265"/>
                  </a:lnTo>
                  <a:lnTo>
                    <a:pt x="3100" y="286"/>
                  </a:lnTo>
                  <a:lnTo>
                    <a:pt x="3100" y="306"/>
                  </a:lnTo>
                  <a:lnTo>
                    <a:pt x="3100" y="329"/>
                  </a:lnTo>
                  <a:lnTo>
                    <a:pt x="3100" y="351"/>
                  </a:lnTo>
                  <a:lnTo>
                    <a:pt x="3076" y="374"/>
                  </a:lnTo>
                  <a:lnTo>
                    <a:pt x="3076" y="395"/>
                  </a:lnTo>
                  <a:lnTo>
                    <a:pt x="3076" y="417"/>
                  </a:lnTo>
                  <a:lnTo>
                    <a:pt x="3076" y="440"/>
                  </a:lnTo>
                  <a:lnTo>
                    <a:pt x="3055" y="461"/>
                  </a:lnTo>
                  <a:lnTo>
                    <a:pt x="3055" y="484"/>
                  </a:lnTo>
                  <a:lnTo>
                    <a:pt x="3055" y="506"/>
                  </a:lnTo>
                  <a:lnTo>
                    <a:pt x="3055" y="526"/>
                  </a:lnTo>
                  <a:lnTo>
                    <a:pt x="3034" y="550"/>
                  </a:lnTo>
                  <a:lnTo>
                    <a:pt x="3011" y="570"/>
                  </a:lnTo>
                  <a:lnTo>
                    <a:pt x="3011" y="593"/>
                  </a:lnTo>
                  <a:lnTo>
                    <a:pt x="2966" y="615"/>
                  </a:lnTo>
                  <a:lnTo>
                    <a:pt x="2945" y="638"/>
                  </a:lnTo>
                  <a:lnTo>
                    <a:pt x="2924" y="659"/>
                  </a:lnTo>
                  <a:lnTo>
                    <a:pt x="2901" y="681"/>
                  </a:lnTo>
                  <a:lnTo>
                    <a:pt x="2857" y="704"/>
                  </a:lnTo>
                  <a:lnTo>
                    <a:pt x="2814" y="704"/>
                  </a:lnTo>
                  <a:lnTo>
                    <a:pt x="2770" y="725"/>
                  </a:lnTo>
                  <a:lnTo>
                    <a:pt x="2747" y="725"/>
                  </a:lnTo>
                  <a:lnTo>
                    <a:pt x="2702" y="748"/>
                  </a:lnTo>
                  <a:lnTo>
                    <a:pt x="2661" y="748"/>
                  </a:lnTo>
                  <a:lnTo>
                    <a:pt x="2616" y="748"/>
                  </a:lnTo>
                  <a:lnTo>
                    <a:pt x="2572" y="748"/>
                  </a:lnTo>
                  <a:lnTo>
                    <a:pt x="2483" y="748"/>
                  </a:lnTo>
                  <a:lnTo>
                    <a:pt x="2418" y="748"/>
                  </a:lnTo>
                  <a:lnTo>
                    <a:pt x="2352" y="725"/>
                  </a:lnTo>
                  <a:lnTo>
                    <a:pt x="2286" y="725"/>
                  </a:lnTo>
                  <a:lnTo>
                    <a:pt x="2198" y="725"/>
                  </a:lnTo>
                  <a:lnTo>
                    <a:pt x="2132" y="725"/>
                  </a:lnTo>
                  <a:lnTo>
                    <a:pt x="2068" y="725"/>
                  </a:lnTo>
                  <a:lnTo>
                    <a:pt x="2000" y="725"/>
                  </a:lnTo>
                  <a:lnTo>
                    <a:pt x="1913" y="725"/>
                  </a:lnTo>
                  <a:lnTo>
                    <a:pt x="1848" y="725"/>
                  </a:lnTo>
                  <a:lnTo>
                    <a:pt x="1780" y="704"/>
                  </a:lnTo>
                  <a:lnTo>
                    <a:pt x="1714" y="704"/>
                  </a:lnTo>
                  <a:lnTo>
                    <a:pt x="1625" y="704"/>
                  </a:lnTo>
                  <a:lnTo>
                    <a:pt x="1561" y="704"/>
                  </a:lnTo>
                  <a:lnTo>
                    <a:pt x="1495" y="704"/>
                  </a:lnTo>
                  <a:lnTo>
                    <a:pt x="1430" y="704"/>
                  </a:lnTo>
                  <a:lnTo>
                    <a:pt x="1341" y="704"/>
                  </a:lnTo>
                  <a:lnTo>
                    <a:pt x="1275" y="681"/>
                  </a:lnTo>
                  <a:lnTo>
                    <a:pt x="1210" y="681"/>
                  </a:lnTo>
                  <a:lnTo>
                    <a:pt x="1143" y="681"/>
                  </a:lnTo>
                  <a:lnTo>
                    <a:pt x="1077" y="681"/>
                  </a:lnTo>
                  <a:lnTo>
                    <a:pt x="991" y="681"/>
                  </a:lnTo>
                  <a:lnTo>
                    <a:pt x="923" y="681"/>
                  </a:lnTo>
                  <a:lnTo>
                    <a:pt x="857" y="681"/>
                  </a:lnTo>
                  <a:lnTo>
                    <a:pt x="793" y="681"/>
                  </a:lnTo>
                  <a:lnTo>
                    <a:pt x="704" y="659"/>
                  </a:lnTo>
                  <a:lnTo>
                    <a:pt x="638" y="659"/>
                  </a:lnTo>
                  <a:lnTo>
                    <a:pt x="573" y="659"/>
                  </a:lnTo>
                  <a:lnTo>
                    <a:pt x="507" y="659"/>
                  </a:lnTo>
                  <a:lnTo>
                    <a:pt x="439" y="659"/>
                  </a:lnTo>
                  <a:lnTo>
                    <a:pt x="353" y="659"/>
                  </a:lnTo>
                  <a:lnTo>
                    <a:pt x="286" y="659"/>
                  </a:lnTo>
                  <a:lnTo>
                    <a:pt x="243" y="638"/>
                  </a:lnTo>
                  <a:lnTo>
                    <a:pt x="220" y="638"/>
                  </a:lnTo>
                  <a:lnTo>
                    <a:pt x="175" y="638"/>
                  </a:lnTo>
                  <a:lnTo>
                    <a:pt x="134" y="615"/>
                  </a:lnTo>
                  <a:lnTo>
                    <a:pt x="110" y="615"/>
                  </a:lnTo>
                  <a:lnTo>
                    <a:pt x="89" y="593"/>
                  </a:lnTo>
                  <a:lnTo>
                    <a:pt x="66" y="570"/>
                  </a:lnTo>
                  <a:lnTo>
                    <a:pt x="45" y="570"/>
                  </a:lnTo>
                  <a:lnTo>
                    <a:pt x="0" y="526"/>
                  </a:lnTo>
                  <a:lnTo>
                    <a:pt x="0" y="484"/>
                  </a:lnTo>
                  <a:lnTo>
                    <a:pt x="0" y="440"/>
                  </a:lnTo>
                  <a:lnTo>
                    <a:pt x="23" y="374"/>
                  </a:lnTo>
                  <a:lnTo>
                    <a:pt x="45" y="351"/>
                  </a:lnTo>
                  <a:lnTo>
                    <a:pt x="45" y="329"/>
                  </a:lnTo>
                  <a:lnTo>
                    <a:pt x="66" y="306"/>
                  </a:lnTo>
                  <a:lnTo>
                    <a:pt x="66" y="286"/>
                  </a:lnTo>
                  <a:lnTo>
                    <a:pt x="89" y="265"/>
                  </a:lnTo>
                  <a:lnTo>
                    <a:pt x="110" y="241"/>
                  </a:lnTo>
                  <a:lnTo>
                    <a:pt x="110" y="220"/>
                  </a:lnTo>
                  <a:lnTo>
                    <a:pt x="134" y="197"/>
                  </a:lnTo>
                  <a:lnTo>
                    <a:pt x="155" y="176"/>
                  </a:lnTo>
                  <a:lnTo>
                    <a:pt x="155" y="154"/>
                  </a:lnTo>
                  <a:lnTo>
                    <a:pt x="175" y="131"/>
                  </a:lnTo>
                  <a:lnTo>
                    <a:pt x="220" y="111"/>
                  </a:lnTo>
                  <a:lnTo>
                    <a:pt x="243" y="111"/>
                  </a:lnTo>
                  <a:lnTo>
                    <a:pt x="264" y="88"/>
                  </a:lnTo>
                  <a:lnTo>
                    <a:pt x="309" y="66"/>
                  </a:lnTo>
                  <a:lnTo>
                    <a:pt x="330" y="43"/>
                  </a:lnTo>
                  <a:lnTo>
                    <a:pt x="375" y="43"/>
                  </a:lnTo>
                  <a:lnTo>
                    <a:pt x="418" y="22"/>
                  </a:lnTo>
                  <a:lnTo>
                    <a:pt x="439" y="22"/>
                  </a:lnTo>
                  <a:lnTo>
                    <a:pt x="484" y="0"/>
                  </a:lnTo>
                  <a:lnTo>
                    <a:pt x="528" y="0"/>
                  </a:lnTo>
                  <a:lnTo>
                    <a:pt x="573" y="0"/>
                  </a:lnTo>
                  <a:lnTo>
                    <a:pt x="617" y="0"/>
                  </a:lnTo>
                  <a:lnTo>
                    <a:pt x="65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802040" y="3757680"/>
              <a:ext cx="997200" cy="137880"/>
            </a:xfrm>
            <a:custGeom>
              <a:avLst/>
              <a:gdLst/>
              <a:ahLst/>
              <a:rect l="l" t="t" r="r" b="b"/>
              <a:pathLst>
                <a:path w="3055" h="419">
                  <a:moveTo>
                    <a:pt x="3055" y="0"/>
                  </a:moveTo>
                  <a:lnTo>
                    <a:pt x="3055" y="22"/>
                  </a:lnTo>
                  <a:lnTo>
                    <a:pt x="3031" y="45"/>
                  </a:lnTo>
                  <a:lnTo>
                    <a:pt x="3031" y="66"/>
                  </a:lnTo>
                  <a:lnTo>
                    <a:pt x="3031" y="88"/>
                  </a:lnTo>
                  <a:lnTo>
                    <a:pt x="3031" y="111"/>
                  </a:lnTo>
                  <a:lnTo>
                    <a:pt x="3010" y="132"/>
                  </a:lnTo>
                  <a:lnTo>
                    <a:pt x="3010" y="155"/>
                  </a:lnTo>
                  <a:lnTo>
                    <a:pt x="3010" y="177"/>
                  </a:lnTo>
                  <a:lnTo>
                    <a:pt x="3010" y="197"/>
                  </a:lnTo>
                  <a:lnTo>
                    <a:pt x="2989" y="221"/>
                  </a:lnTo>
                  <a:lnTo>
                    <a:pt x="2966" y="241"/>
                  </a:lnTo>
                  <a:lnTo>
                    <a:pt x="2966" y="286"/>
                  </a:lnTo>
                  <a:lnTo>
                    <a:pt x="2921" y="286"/>
                  </a:lnTo>
                  <a:lnTo>
                    <a:pt x="2900" y="309"/>
                  </a:lnTo>
                  <a:lnTo>
                    <a:pt x="2879" y="330"/>
                  </a:lnTo>
                  <a:lnTo>
                    <a:pt x="2856" y="352"/>
                  </a:lnTo>
                  <a:lnTo>
                    <a:pt x="2812" y="375"/>
                  </a:lnTo>
                  <a:lnTo>
                    <a:pt x="2769" y="375"/>
                  </a:lnTo>
                  <a:lnTo>
                    <a:pt x="2725" y="396"/>
                  </a:lnTo>
                  <a:lnTo>
                    <a:pt x="2702" y="396"/>
                  </a:lnTo>
                  <a:lnTo>
                    <a:pt x="2657" y="419"/>
                  </a:lnTo>
                  <a:lnTo>
                    <a:pt x="2616" y="419"/>
                  </a:lnTo>
                  <a:lnTo>
                    <a:pt x="2571" y="419"/>
                  </a:lnTo>
                  <a:lnTo>
                    <a:pt x="2527" y="419"/>
                  </a:lnTo>
                  <a:lnTo>
                    <a:pt x="2438" y="419"/>
                  </a:lnTo>
                  <a:lnTo>
                    <a:pt x="2373" y="419"/>
                  </a:lnTo>
                  <a:lnTo>
                    <a:pt x="2307" y="419"/>
                  </a:lnTo>
                  <a:lnTo>
                    <a:pt x="2241" y="396"/>
                  </a:lnTo>
                  <a:lnTo>
                    <a:pt x="2153" y="396"/>
                  </a:lnTo>
                  <a:lnTo>
                    <a:pt x="2087" y="396"/>
                  </a:lnTo>
                  <a:lnTo>
                    <a:pt x="2023" y="396"/>
                  </a:lnTo>
                  <a:lnTo>
                    <a:pt x="1955" y="396"/>
                  </a:lnTo>
                  <a:lnTo>
                    <a:pt x="1868" y="396"/>
                  </a:lnTo>
                  <a:lnTo>
                    <a:pt x="1803" y="396"/>
                  </a:lnTo>
                  <a:lnTo>
                    <a:pt x="1735" y="375"/>
                  </a:lnTo>
                  <a:lnTo>
                    <a:pt x="1669" y="375"/>
                  </a:lnTo>
                  <a:lnTo>
                    <a:pt x="1580" y="375"/>
                  </a:lnTo>
                  <a:lnTo>
                    <a:pt x="1516" y="375"/>
                  </a:lnTo>
                  <a:lnTo>
                    <a:pt x="1450" y="375"/>
                  </a:lnTo>
                  <a:lnTo>
                    <a:pt x="1385" y="375"/>
                  </a:lnTo>
                  <a:lnTo>
                    <a:pt x="1296" y="375"/>
                  </a:lnTo>
                  <a:lnTo>
                    <a:pt x="1230" y="352"/>
                  </a:lnTo>
                  <a:lnTo>
                    <a:pt x="1165" y="352"/>
                  </a:lnTo>
                  <a:lnTo>
                    <a:pt x="1098" y="352"/>
                  </a:lnTo>
                  <a:lnTo>
                    <a:pt x="1032" y="352"/>
                  </a:lnTo>
                  <a:lnTo>
                    <a:pt x="946" y="352"/>
                  </a:lnTo>
                  <a:lnTo>
                    <a:pt x="878" y="352"/>
                  </a:lnTo>
                  <a:lnTo>
                    <a:pt x="812" y="352"/>
                  </a:lnTo>
                  <a:lnTo>
                    <a:pt x="748" y="352"/>
                  </a:lnTo>
                  <a:lnTo>
                    <a:pt x="659" y="330"/>
                  </a:lnTo>
                  <a:lnTo>
                    <a:pt x="593" y="330"/>
                  </a:lnTo>
                  <a:lnTo>
                    <a:pt x="528" y="330"/>
                  </a:lnTo>
                  <a:lnTo>
                    <a:pt x="462" y="330"/>
                  </a:lnTo>
                  <a:lnTo>
                    <a:pt x="394" y="330"/>
                  </a:lnTo>
                  <a:lnTo>
                    <a:pt x="308" y="330"/>
                  </a:lnTo>
                  <a:lnTo>
                    <a:pt x="241" y="330"/>
                  </a:lnTo>
                  <a:lnTo>
                    <a:pt x="198" y="309"/>
                  </a:lnTo>
                  <a:lnTo>
                    <a:pt x="175" y="309"/>
                  </a:lnTo>
                  <a:lnTo>
                    <a:pt x="130" y="309"/>
                  </a:lnTo>
                  <a:lnTo>
                    <a:pt x="89" y="286"/>
                  </a:lnTo>
                  <a:lnTo>
                    <a:pt x="65" y="286"/>
                  </a:lnTo>
                  <a:lnTo>
                    <a:pt x="44" y="264"/>
                  </a:lnTo>
                  <a:lnTo>
                    <a:pt x="21" y="241"/>
                  </a:lnTo>
                  <a:lnTo>
                    <a:pt x="0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903920" y="3687840"/>
              <a:ext cx="772920" cy="120600"/>
            </a:xfrm>
            <a:custGeom>
              <a:avLst/>
              <a:gdLst/>
              <a:ahLst/>
              <a:rect l="l" t="t" r="r" b="b"/>
              <a:pathLst>
                <a:path w="2372" h="373">
                  <a:moveTo>
                    <a:pt x="131" y="0"/>
                  </a:moveTo>
                  <a:lnTo>
                    <a:pt x="110" y="20"/>
                  </a:lnTo>
                  <a:lnTo>
                    <a:pt x="65" y="43"/>
                  </a:lnTo>
                  <a:lnTo>
                    <a:pt x="45" y="65"/>
                  </a:lnTo>
                  <a:lnTo>
                    <a:pt x="22" y="86"/>
                  </a:lnTo>
                  <a:lnTo>
                    <a:pt x="0" y="109"/>
                  </a:lnTo>
                  <a:lnTo>
                    <a:pt x="0" y="130"/>
                  </a:lnTo>
                  <a:lnTo>
                    <a:pt x="0" y="154"/>
                  </a:lnTo>
                  <a:lnTo>
                    <a:pt x="0" y="175"/>
                  </a:lnTo>
                  <a:lnTo>
                    <a:pt x="0" y="195"/>
                  </a:lnTo>
                  <a:lnTo>
                    <a:pt x="22" y="218"/>
                  </a:lnTo>
                  <a:lnTo>
                    <a:pt x="45" y="240"/>
                  </a:lnTo>
                  <a:lnTo>
                    <a:pt x="65" y="240"/>
                  </a:lnTo>
                  <a:lnTo>
                    <a:pt x="86" y="263"/>
                  </a:lnTo>
                  <a:lnTo>
                    <a:pt x="110" y="263"/>
                  </a:lnTo>
                  <a:lnTo>
                    <a:pt x="131" y="263"/>
                  </a:lnTo>
                  <a:lnTo>
                    <a:pt x="154" y="284"/>
                  </a:lnTo>
                  <a:lnTo>
                    <a:pt x="197" y="284"/>
                  </a:lnTo>
                  <a:lnTo>
                    <a:pt x="220" y="284"/>
                  </a:lnTo>
                  <a:lnTo>
                    <a:pt x="241" y="284"/>
                  </a:lnTo>
                  <a:lnTo>
                    <a:pt x="285" y="284"/>
                  </a:lnTo>
                  <a:lnTo>
                    <a:pt x="306" y="284"/>
                  </a:lnTo>
                  <a:lnTo>
                    <a:pt x="329" y="284"/>
                  </a:lnTo>
                  <a:lnTo>
                    <a:pt x="351" y="284"/>
                  </a:lnTo>
                  <a:lnTo>
                    <a:pt x="374" y="284"/>
                  </a:lnTo>
                  <a:lnTo>
                    <a:pt x="440" y="284"/>
                  </a:lnTo>
                  <a:lnTo>
                    <a:pt x="504" y="284"/>
                  </a:lnTo>
                  <a:lnTo>
                    <a:pt x="570" y="284"/>
                  </a:lnTo>
                  <a:lnTo>
                    <a:pt x="638" y="284"/>
                  </a:lnTo>
                  <a:lnTo>
                    <a:pt x="724" y="284"/>
                  </a:lnTo>
                  <a:lnTo>
                    <a:pt x="790" y="306"/>
                  </a:lnTo>
                  <a:lnTo>
                    <a:pt x="857" y="306"/>
                  </a:lnTo>
                  <a:lnTo>
                    <a:pt x="922" y="306"/>
                  </a:lnTo>
                  <a:lnTo>
                    <a:pt x="988" y="306"/>
                  </a:lnTo>
                  <a:lnTo>
                    <a:pt x="1054" y="329"/>
                  </a:lnTo>
                  <a:lnTo>
                    <a:pt x="1122" y="329"/>
                  </a:lnTo>
                  <a:lnTo>
                    <a:pt x="1186" y="329"/>
                  </a:lnTo>
                  <a:lnTo>
                    <a:pt x="1272" y="329"/>
                  </a:lnTo>
                  <a:lnTo>
                    <a:pt x="1340" y="329"/>
                  </a:lnTo>
                  <a:lnTo>
                    <a:pt x="1406" y="350"/>
                  </a:lnTo>
                  <a:lnTo>
                    <a:pt x="1472" y="350"/>
                  </a:lnTo>
                  <a:lnTo>
                    <a:pt x="1560" y="350"/>
                  </a:lnTo>
                  <a:lnTo>
                    <a:pt x="1647" y="350"/>
                  </a:lnTo>
                  <a:lnTo>
                    <a:pt x="1715" y="350"/>
                  </a:lnTo>
                  <a:lnTo>
                    <a:pt x="1779" y="373"/>
                  </a:lnTo>
                  <a:lnTo>
                    <a:pt x="1845" y="373"/>
                  </a:lnTo>
                  <a:lnTo>
                    <a:pt x="1910" y="373"/>
                  </a:lnTo>
                  <a:lnTo>
                    <a:pt x="1978" y="373"/>
                  </a:lnTo>
                  <a:lnTo>
                    <a:pt x="2020" y="373"/>
                  </a:lnTo>
                  <a:lnTo>
                    <a:pt x="2088" y="373"/>
                  </a:lnTo>
                  <a:lnTo>
                    <a:pt x="2130" y="373"/>
                  </a:lnTo>
                  <a:lnTo>
                    <a:pt x="2174" y="350"/>
                  </a:lnTo>
                  <a:lnTo>
                    <a:pt x="2219" y="350"/>
                  </a:lnTo>
                  <a:lnTo>
                    <a:pt x="2240" y="350"/>
                  </a:lnTo>
                  <a:lnTo>
                    <a:pt x="2284" y="329"/>
                  </a:lnTo>
                  <a:lnTo>
                    <a:pt x="2308" y="306"/>
                  </a:lnTo>
                  <a:lnTo>
                    <a:pt x="2308" y="284"/>
                  </a:lnTo>
                  <a:lnTo>
                    <a:pt x="2328" y="240"/>
                  </a:lnTo>
                  <a:lnTo>
                    <a:pt x="2349" y="218"/>
                  </a:lnTo>
                  <a:lnTo>
                    <a:pt x="2349" y="195"/>
                  </a:lnTo>
                  <a:lnTo>
                    <a:pt x="2372" y="175"/>
                  </a:lnTo>
                  <a:lnTo>
                    <a:pt x="2372" y="154"/>
                  </a:lnTo>
                  <a:lnTo>
                    <a:pt x="2372" y="130"/>
                  </a:lnTo>
                  <a:lnTo>
                    <a:pt x="2372" y="109"/>
                  </a:lnTo>
                  <a:lnTo>
                    <a:pt x="2349" y="8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594320" y="3838680"/>
              <a:ext cx="180720" cy="69840"/>
            </a:xfrm>
            <a:custGeom>
              <a:avLst/>
              <a:gdLst/>
              <a:ahLst/>
              <a:rect l="l" t="t" r="r" b="b"/>
              <a:pathLst>
                <a:path w="550" h="220">
                  <a:moveTo>
                    <a:pt x="0" y="220"/>
                  </a:moveTo>
                  <a:lnTo>
                    <a:pt x="45" y="200"/>
                  </a:lnTo>
                  <a:lnTo>
                    <a:pt x="66" y="200"/>
                  </a:lnTo>
                  <a:lnTo>
                    <a:pt x="110" y="178"/>
                  </a:lnTo>
                  <a:lnTo>
                    <a:pt x="155" y="178"/>
                  </a:lnTo>
                  <a:lnTo>
                    <a:pt x="175" y="155"/>
                  </a:lnTo>
                  <a:lnTo>
                    <a:pt x="220" y="134"/>
                  </a:lnTo>
                  <a:lnTo>
                    <a:pt x="243" y="134"/>
                  </a:lnTo>
                  <a:lnTo>
                    <a:pt x="286" y="111"/>
                  </a:lnTo>
                  <a:lnTo>
                    <a:pt x="330" y="89"/>
                  </a:lnTo>
                  <a:lnTo>
                    <a:pt x="353" y="89"/>
                  </a:lnTo>
                  <a:lnTo>
                    <a:pt x="395" y="68"/>
                  </a:lnTo>
                  <a:lnTo>
                    <a:pt x="418" y="45"/>
                  </a:lnTo>
                  <a:lnTo>
                    <a:pt x="463" y="45"/>
                  </a:lnTo>
                  <a:lnTo>
                    <a:pt x="484" y="23"/>
                  </a:lnTo>
                  <a:lnTo>
                    <a:pt x="528" y="0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02240" y="3780000"/>
              <a:ext cx="177840" cy="85680"/>
            </a:xfrm>
            <a:custGeom>
              <a:avLst/>
              <a:gdLst/>
              <a:ahLst/>
              <a:rect l="l" t="t" r="r" b="b"/>
              <a:pathLst>
                <a:path w="550" h="264">
                  <a:moveTo>
                    <a:pt x="0" y="264"/>
                  </a:moveTo>
                  <a:lnTo>
                    <a:pt x="43" y="243"/>
                  </a:lnTo>
                  <a:lnTo>
                    <a:pt x="66" y="243"/>
                  </a:lnTo>
                  <a:lnTo>
                    <a:pt x="87" y="220"/>
                  </a:lnTo>
                  <a:lnTo>
                    <a:pt x="132" y="198"/>
                  </a:lnTo>
                  <a:lnTo>
                    <a:pt x="152" y="175"/>
                  </a:lnTo>
                  <a:lnTo>
                    <a:pt x="197" y="175"/>
                  </a:lnTo>
                  <a:lnTo>
                    <a:pt x="220" y="155"/>
                  </a:lnTo>
                  <a:lnTo>
                    <a:pt x="241" y="155"/>
                  </a:lnTo>
                  <a:lnTo>
                    <a:pt x="286" y="131"/>
                  </a:lnTo>
                  <a:lnTo>
                    <a:pt x="307" y="111"/>
                  </a:lnTo>
                  <a:lnTo>
                    <a:pt x="352" y="111"/>
                  </a:lnTo>
                  <a:lnTo>
                    <a:pt x="372" y="89"/>
                  </a:lnTo>
                  <a:lnTo>
                    <a:pt x="416" y="89"/>
                  </a:lnTo>
                  <a:lnTo>
                    <a:pt x="440" y="66"/>
                  </a:lnTo>
                  <a:lnTo>
                    <a:pt x="461" y="66"/>
                  </a:lnTo>
                  <a:lnTo>
                    <a:pt x="505" y="45"/>
                  </a:lnTo>
                  <a:lnTo>
                    <a:pt x="527" y="22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67400" y="3730680"/>
              <a:ext cx="128520" cy="57240"/>
            </a:xfrm>
            <a:custGeom>
              <a:avLst/>
              <a:gdLst/>
              <a:ahLst/>
              <a:rect l="l" t="t" r="r" b="b"/>
              <a:pathLst>
                <a:path w="396" h="176">
                  <a:moveTo>
                    <a:pt x="0" y="176"/>
                  </a:moveTo>
                  <a:lnTo>
                    <a:pt x="23" y="176"/>
                  </a:lnTo>
                  <a:lnTo>
                    <a:pt x="44" y="154"/>
                  </a:lnTo>
                  <a:lnTo>
                    <a:pt x="66" y="154"/>
                  </a:lnTo>
                  <a:lnTo>
                    <a:pt x="89" y="133"/>
                  </a:lnTo>
                  <a:lnTo>
                    <a:pt x="110" y="133"/>
                  </a:lnTo>
                  <a:lnTo>
                    <a:pt x="155" y="110"/>
                  </a:lnTo>
                  <a:lnTo>
                    <a:pt x="175" y="110"/>
                  </a:lnTo>
                  <a:lnTo>
                    <a:pt x="198" y="88"/>
                  </a:lnTo>
                  <a:lnTo>
                    <a:pt x="219" y="88"/>
                  </a:lnTo>
                  <a:lnTo>
                    <a:pt x="264" y="65"/>
                  </a:lnTo>
                  <a:lnTo>
                    <a:pt x="287" y="65"/>
                  </a:lnTo>
                  <a:lnTo>
                    <a:pt x="308" y="45"/>
                  </a:lnTo>
                  <a:lnTo>
                    <a:pt x="330" y="45"/>
                  </a:lnTo>
                  <a:lnTo>
                    <a:pt x="353" y="24"/>
                  </a:lnTo>
                  <a:lnTo>
                    <a:pt x="373" y="0"/>
                  </a:lnTo>
                  <a:lnTo>
                    <a:pt x="39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716360" y="3672000"/>
              <a:ext cx="136800" cy="58680"/>
            </a:xfrm>
            <a:custGeom>
              <a:avLst/>
              <a:gdLst/>
              <a:ahLst/>
              <a:rect l="l" t="t" r="r" b="b"/>
              <a:pathLst>
                <a:path w="417" h="175">
                  <a:moveTo>
                    <a:pt x="0" y="175"/>
                  </a:moveTo>
                  <a:lnTo>
                    <a:pt x="20" y="154"/>
                  </a:lnTo>
                  <a:lnTo>
                    <a:pt x="64" y="154"/>
                  </a:lnTo>
                  <a:lnTo>
                    <a:pt x="88" y="131"/>
                  </a:lnTo>
                  <a:lnTo>
                    <a:pt x="109" y="131"/>
                  </a:lnTo>
                  <a:lnTo>
                    <a:pt x="132" y="110"/>
                  </a:lnTo>
                  <a:lnTo>
                    <a:pt x="153" y="110"/>
                  </a:lnTo>
                  <a:lnTo>
                    <a:pt x="175" y="88"/>
                  </a:lnTo>
                  <a:lnTo>
                    <a:pt x="218" y="88"/>
                  </a:lnTo>
                  <a:lnTo>
                    <a:pt x="241" y="65"/>
                  </a:lnTo>
                  <a:lnTo>
                    <a:pt x="263" y="65"/>
                  </a:lnTo>
                  <a:lnTo>
                    <a:pt x="284" y="45"/>
                  </a:lnTo>
                  <a:lnTo>
                    <a:pt x="307" y="45"/>
                  </a:lnTo>
                  <a:lnTo>
                    <a:pt x="352" y="22"/>
                  </a:lnTo>
                  <a:lnTo>
                    <a:pt x="373" y="22"/>
                  </a:lnTo>
                  <a:lnTo>
                    <a:pt x="393" y="0"/>
                  </a:lnTo>
                  <a:lnTo>
                    <a:pt x="41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737240" y="3622680"/>
              <a:ext cx="188640" cy="65160"/>
            </a:xfrm>
            <a:custGeom>
              <a:avLst/>
              <a:gdLst/>
              <a:ahLst/>
              <a:rect l="l" t="t" r="r" b="b"/>
              <a:pathLst>
                <a:path w="572" h="200">
                  <a:moveTo>
                    <a:pt x="0" y="200"/>
                  </a:moveTo>
                  <a:lnTo>
                    <a:pt x="24" y="177"/>
                  </a:lnTo>
                  <a:lnTo>
                    <a:pt x="45" y="177"/>
                  </a:lnTo>
                  <a:lnTo>
                    <a:pt x="68" y="155"/>
                  </a:lnTo>
                  <a:lnTo>
                    <a:pt x="89" y="155"/>
                  </a:lnTo>
                  <a:lnTo>
                    <a:pt x="507" y="22"/>
                  </a:lnTo>
                  <a:lnTo>
                    <a:pt x="529" y="22"/>
                  </a:lnTo>
                  <a:lnTo>
                    <a:pt x="552" y="0"/>
                  </a:lnTo>
                  <a:lnTo>
                    <a:pt x="57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21200" y="3657600"/>
              <a:ext cx="193680" cy="65160"/>
            </a:xfrm>
            <a:custGeom>
              <a:avLst/>
              <a:gdLst/>
              <a:ahLst/>
              <a:rect l="l" t="t" r="r" b="b"/>
              <a:pathLst>
                <a:path w="593" h="198">
                  <a:moveTo>
                    <a:pt x="0" y="198"/>
                  </a:moveTo>
                  <a:lnTo>
                    <a:pt x="21" y="198"/>
                  </a:lnTo>
                  <a:lnTo>
                    <a:pt x="65" y="175"/>
                  </a:lnTo>
                  <a:lnTo>
                    <a:pt x="89" y="154"/>
                  </a:lnTo>
                  <a:lnTo>
                    <a:pt x="133" y="154"/>
                  </a:lnTo>
                  <a:lnTo>
                    <a:pt x="175" y="132"/>
                  </a:lnTo>
                  <a:lnTo>
                    <a:pt x="198" y="109"/>
                  </a:lnTo>
                  <a:lnTo>
                    <a:pt x="242" y="109"/>
                  </a:lnTo>
                  <a:lnTo>
                    <a:pt x="285" y="89"/>
                  </a:lnTo>
                  <a:lnTo>
                    <a:pt x="308" y="89"/>
                  </a:lnTo>
                  <a:lnTo>
                    <a:pt x="353" y="66"/>
                  </a:lnTo>
                  <a:lnTo>
                    <a:pt x="394" y="44"/>
                  </a:lnTo>
                  <a:lnTo>
                    <a:pt x="418" y="44"/>
                  </a:lnTo>
                  <a:lnTo>
                    <a:pt x="462" y="21"/>
                  </a:lnTo>
                  <a:lnTo>
                    <a:pt x="483" y="21"/>
                  </a:lnTo>
                  <a:lnTo>
                    <a:pt x="528" y="0"/>
                  </a:lnTo>
                  <a:lnTo>
                    <a:pt x="571" y="0"/>
                  </a:lnTo>
                  <a:lnTo>
                    <a:pt x="5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07160" y="3700440"/>
              <a:ext cx="201600" cy="65160"/>
            </a:xfrm>
            <a:custGeom>
              <a:avLst/>
              <a:gdLst/>
              <a:ahLst/>
              <a:rect l="l" t="t" r="r" b="b"/>
              <a:pathLst>
                <a:path w="616" h="197">
                  <a:moveTo>
                    <a:pt x="0" y="197"/>
                  </a:moveTo>
                  <a:lnTo>
                    <a:pt x="45" y="197"/>
                  </a:lnTo>
                  <a:lnTo>
                    <a:pt x="89" y="197"/>
                  </a:lnTo>
                  <a:lnTo>
                    <a:pt x="134" y="197"/>
                  </a:lnTo>
                  <a:lnTo>
                    <a:pt x="155" y="175"/>
                  </a:lnTo>
                  <a:lnTo>
                    <a:pt x="198" y="175"/>
                  </a:lnTo>
                  <a:lnTo>
                    <a:pt x="243" y="152"/>
                  </a:lnTo>
                  <a:lnTo>
                    <a:pt x="287" y="152"/>
                  </a:lnTo>
                  <a:lnTo>
                    <a:pt x="309" y="132"/>
                  </a:lnTo>
                  <a:lnTo>
                    <a:pt x="353" y="111"/>
                  </a:lnTo>
                  <a:lnTo>
                    <a:pt x="398" y="87"/>
                  </a:lnTo>
                  <a:lnTo>
                    <a:pt x="418" y="87"/>
                  </a:lnTo>
                  <a:lnTo>
                    <a:pt x="463" y="66"/>
                  </a:lnTo>
                  <a:lnTo>
                    <a:pt x="507" y="43"/>
                  </a:lnTo>
                  <a:lnTo>
                    <a:pt x="528" y="43"/>
                  </a:lnTo>
                  <a:lnTo>
                    <a:pt x="573" y="22"/>
                  </a:lnTo>
                  <a:lnTo>
                    <a:pt x="593" y="0"/>
                  </a:lnTo>
                  <a:lnTo>
                    <a:pt x="61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84840" y="3751200"/>
              <a:ext cx="216000" cy="71640"/>
            </a:xfrm>
            <a:custGeom>
              <a:avLst/>
              <a:gdLst/>
              <a:ahLst/>
              <a:rect l="l" t="t" r="r" b="b"/>
              <a:pathLst>
                <a:path w="658" h="220">
                  <a:moveTo>
                    <a:pt x="0" y="220"/>
                  </a:moveTo>
                  <a:lnTo>
                    <a:pt x="45" y="220"/>
                  </a:lnTo>
                  <a:lnTo>
                    <a:pt x="65" y="220"/>
                  </a:lnTo>
                  <a:lnTo>
                    <a:pt x="110" y="200"/>
                  </a:lnTo>
                  <a:lnTo>
                    <a:pt x="131" y="200"/>
                  </a:lnTo>
                  <a:lnTo>
                    <a:pt x="154" y="200"/>
                  </a:lnTo>
                  <a:lnTo>
                    <a:pt x="199" y="178"/>
                  </a:lnTo>
                  <a:lnTo>
                    <a:pt x="220" y="178"/>
                  </a:lnTo>
                  <a:lnTo>
                    <a:pt x="263" y="155"/>
                  </a:lnTo>
                  <a:lnTo>
                    <a:pt x="285" y="134"/>
                  </a:lnTo>
                  <a:lnTo>
                    <a:pt x="329" y="134"/>
                  </a:lnTo>
                  <a:lnTo>
                    <a:pt x="352" y="111"/>
                  </a:lnTo>
                  <a:lnTo>
                    <a:pt x="395" y="111"/>
                  </a:lnTo>
                  <a:lnTo>
                    <a:pt x="418" y="89"/>
                  </a:lnTo>
                  <a:lnTo>
                    <a:pt x="440" y="89"/>
                  </a:lnTo>
                  <a:lnTo>
                    <a:pt x="483" y="68"/>
                  </a:lnTo>
                  <a:lnTo>
                    <a:pt x="504" y="68"/>
                  </a:lnTo>
                  <a:lnTo>
                    <a:pt x="528" y="45"/>
                  </a:lnTo>
                  <a:lnTo>
                    <a:pt x="549" y="45"/>
                  </a:lnTo>
                  <a:lnTo>
                    <a:pt x="572" y="23"/>
                  </a:lnTo>
                  <a:lnTo>
                    <a:pt x="593" y="23"/>
                  </a:lnTo>
                  <a:lnTo>
                    <a:pt x="615" y="23"/>
                  </a:lnTo>
                  <a:lnTo>
                    <a:pt x="638" y="23"/>
                  </a:lnTo>
                  <a:lnTo>
                    <a:pt x="65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1400" y="3808440"/>
              <a:ext cx="363600" cy="115920"/>
            </a:xfrm>
            <a:custGeom>
              <a:avLst/>
              <a:gdLst/>
              <a:ahLst/>
              <a:rect l="l" t="t" r="r" b="b"/>
              <a:pathLst>
                <a:path w="1120" h="350">
                  <a:moveTo>
                    <a:pt x="0" y="350"/>
                  </a:moveTo>
                  <a:lnTo>
                    <a:pt x="43" y="350"/>
                  </a:lnTo>
                  <a:lnTo>
                    <a:pt x="87" y="329"/>
                  </a:lnTo>
                  <a:lnTo>
                    <a:pt x="152" y="306"/>
                  </a:lnTo>
                  <a:lnTo>
                    <a:pt x="197" y="306"/>
                  </a:lnTo>
                  <a:lnTo>
                    <a:pt x="241" y="286"/>
                  </a:lnTo>
                  <a:lnTo>
                    <a:pt x="307" y="264"/>
                  </a:lnTo>
                  <a:lnTo>
                    <a:pt x="351" y="241"/>
                  </a:lnTo>
                  <a:lnTo>
                    <a:pt x="416" y="241"/>
                  </a:lnTo>
                  <a:lnTo>
                    <a:pt x="461" y="220"/>
                  </a:lnTo>
                  <a:lnTo>
                    <a:pt x="526" y="197"/>
                  </a:lnTo>
                  <a:lnTo>
                    <a:pt x="570" y="197"/>
                  </a:lnTo>
                  <a:lnTo>
                    <a:pt x="615" y="175"/>
                  </a:lnTo>
                  <a:lnTo>
                    <a:pt x="680" y="154"/>
                  </a:lnTo>
                  <a:lnTo>
                    <a:pt x="725" y="154"/>
                  </a:lnTo>
                  <a:lnTo>
                    <a:pt x="768" y="131"/>
                  </a:lnTo>
                  <a:lnTo>
                    <a:pt x="834" y="109"/>
                  </a:lnTo>
                  <a:lnTo>
                    <a:pt x="857" y="109"/>
                  </a:lnTo>
                  <a:lnTo>
                    <a:pt x="900" y="86"/>
                  </a:lnTo>
                  <a:lnTo>
                    <a:pt x="945" y="86"/>
                  </a:lnTo>
                  <a:lnTo>
                    <a:pt x="988" y="66"/>
                  </a:lnTo>
                  <a:lnTo>
                    <a:pt x="1009" y="42"/>
                  </a:lnTo>
                  <a:lnTo>
                    <a:pt x="1054" y="42"/>
                  </a:lnTo>
                  <a:lnTo>
                    <a:pt x="1098" y="22"/>
                  </a:lnTo>
                  <a:lnTo>
                    <a:pt x="112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21480" y="3865680"/>
              <a:ext cx="250560" cy="8568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0" y="264"/>
                  </a:moveTo>
                  <a:lnTo>
                    <a:pt x="44" y="241"/>
                  </a:lnTo>
                  <a:lnTo>
                    <a:pt x="88" y="220"/>
                  </a:lnTo>
                  <a:lnTo>
                    <a:pt x="133" y="199"/>
                  </a:lnTo>
                  <a:lnTo>
                    <a:pt x="177" y="199"/>
                  </a:lnTo>
                  <a:lnTo>
                    <a:pt x="219" y="175"/>
                  </a:lnTo>
                  <a:lnTo>
                    <a:pt x="263" y="154"/>
                  </a:lnTo>
                  <a:lnTo>
                    <a:pt x="308" y="154"/>
                  </a:lnTo>
                  <a:lnTo>
                    <a:pt x="373" y="131"/>
                  </a:lnTo>
                  <a:lnTo>
                    <a:pt x="418" y="111"/>
                  </a:lnTo>
                  <a:lnTo>
                    <a:pt x="461" y="111"/>
                  </a:lnTo>
                  <a:lnTo>
                    <a:pt x="506" y="89"/>
                  </a:lnTo>
                  <a:lnTo>
                    <a:pt x="550" y="66"/>
                  </a:lnTo>
                  <a:lnTo>
                    <a:pt x="593" y="66"/>
                  </a:lnTo>
                  <a:lnTo>
                    <a:pt x="638" y="45"/>
                  </a:lnTo>
                  <a:lnTo>
                    <a:pt x="681" y="45"/>
                  </a:lnTo>
                  <a:lnTo>
                    <a:pt x="726" y="22"/>
                  </a:lnTo>
                  <a:lnTo>
                    <a:pt x="747" y="22"/>
                  </a:lnTo>
                  <a:lnTo>
                    <a:pt x="747" y="0"/>
                  </a:lnTo>
                  <a:lnTo>
                    <a:pt x="77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09960" y="3873600"/>
              <a:ext cx="128880" cy="50760"/>
            </a:xfrm>
            <a:custGeom>
              <a:avLst/>
              <a:gdLst/>
              <a:ahLst/>
              <a:rect l="l" t="t" r="r" b="b"/>
              <a:pathLst>
                <a:path w="397" h="153">
                  <a:moveTo>
                    <a:pt x="0" y="153"/>
                  </a:moveTo>
                  <a:lnTo>
                    <a:pt x="23" y="132"/>
                  </a:lnTo>
                  <a:lnTo>
                    <a:pt x="44" y="132"/>
                  </a:lnTo>
                  <a:lnTo>
                    <a:pt x="68" y="132"/>
                  </a:lnTo>
                  <a:lnTo>
                    <a:pt x="89" y="109"/>
                  </a:lnTo>
                  <a:lnTo>
                    <a:pt x="109" y="109"/>
                  </a:lnTo>
                  <a:lnTo>
                    <a:pt x="154" y="109"/>
                  </a:lnTo>
                  <a:lnTo>
                    <a:pt x="177" y="89"/>
                  </a:lnTo>
                  <a:lnTo>
                    <a:pt x="198" y="89"/>
                  </a:lnTo>
                  <a:lnTo>
                    <a:pt x="220" y="89"/>
                  </a:lnTo>
                  <a:lnTo>
                    <a:pt x="243" y="67"/>
                  </a:lnTo>
                  <a:lnTo>
                    <a:pt x="264" y="67"/>
                  </a:lnTo>
                  <a:lnTo>
                    <a:pt x="287" y="44"/>
                  </a:lnTo>
                  <a:lnTo>
                    <a:pt x="309" y="44"/>
                  </a:lnTo>
                  <a:lnTo>
                    <a:pt x="332" y="44"/>
                  </a:lnTo>
                  <a:lnTo>
                    <a:pt x="352" y="23"/>
                  </a:lnTo>
                  <a:lnTo>
                    <a:pt x="373" y="23"/>
                  </a:lnTo>
                  <a:lnTo>
                    <a:pt x="39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925880" y="3873600"/>
              <a:ext cx="150840" cy="50760"/>
            </a:xfrm>
            <a:custGeom>
              <a:avLst/>
              <a:gdLst/>
              <a:ahLst/>
              <a:rect l="l" t="t" r="r" b="b"/>
              <a:pathLst>
                <a:path w="462" h="153">
                  <a:moveTo>
                    <a:pt x="0" y="153"/>
                  </a:moveTo>
                  <a:lnTo>
                    <a:pt x="45" y="153"/>
                  </a:lnTo>
                  <a:lnTo>
                    <a:pt x="66" y="153"/>
                  </a:lnTo>
                  <a:lnTo>
                    <a:pt x="89" y="132"/>
                  </a:lnTo>
                  <a:lnTo>
                    <a:pt x="132" y="132"/>
                  </a:lnTo>
                  <a:lnTo>
                    <a:pt x="155" y="132"/>
                  </a:lnTo>
                  <a:lnTo>
                    <a:pt x="176" y="109"/>
                  </a:lnTo>
                  <a:lnTo>
                    <a:pt x="220" y="109"/>
                  </a:lnTo>
                  <a:lnTo>
                    <a:pt x="241" y="89"/>
                  </a:lnTo>
                  <a:lnTo>
                    <a:pt x="264" y="89"/>
                  </a:lnTo>
                  <a:lnTo>
                    <a:pt x="309" y="67"/>
                  </a:lnTo>
                  <a:lnTo>
                    <a:pt x="330" y="67"/>
                  </a:lnTo>
                  <a:lnTo>
                    <a:pt x="351" y="44"/>
                  </a:lnTo>
                  <a:lnTo>
                    <a:pt x="375" y="44"/>
                  </a:lnTo>
                  <a:lnTo>
                    <a:pt x="419" y="44"/>
                  </a:lnTo>
                  <a:lnTo>
                    <a:pt x="439" y="23"/>
                  </a:lnTo>
                  <a:lnTo>
                    <a:pt x="46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46840" y="3881520"/>
              <a:ext cx="129960" cy="50760"/>
            </a:xfrm>
            <a:custGeom>
              <a:avLst/>
              <a:gdLst/>
              <a:ahLst/>
              <a:rect l="l" t="t" r="r" b="b"/>
              <a:pathLst>
                <a:path w="394" h="154">
                  <a:moveTo>
                    <a:pt x="0" y="154"/>
                  </a:moveTo>
                  <a:lnTo>
                    <a:pt x="20" y="154"/>
                  </a:lnTo>
                  <a:lnTo>
                    <a:pt x="44" y="154"/>
                  </a:lnTo>
                  <a:lnTo>
                    <a:pt x="64" y="154"/>
                  </a:lnTo>
                  <a:lnTo>
                    <a:pt x="87" y="130"/>
                  </a:lnTo>
                  <a:lnTo>
                    <a:pt x="130" y="130"/>
                  </a:lnTo>
                  <a:lnTo>
                    <a:pt x="153" y="109"/>
                  </a:lnTo>
                  <a:lnTo>
                    <a:pt x="175" y="109"/>
                  </a:lnTo>
                  <a:lnTo>
                    <a:pt x="198" y="86"/>
                  </a:lnTo>
                  <a:lnTo>
                    <a:pt x="239" y="86"/>
                  </a:lnTo>
                  <a:lnTo>
                    <a:pt x="263" y="86"/>
                  </a:lnTo>
                  <a:lnTo>
                    <a:pt x="284" y="66"/>
                  </a:lnTo>
                  <a:lnTo>
                    <a:pt x="307" y="44"/>
                  </a:lnTo>
                  <a:lnTo>
                    <a:pt x="328" y="44"/>
                  </a:lnTo>
                  <a:lnTo>
                    <a:pt x="350" y="21"/>
                  </a:lnTo>
                  <a:lnTo>
                    <a:pt x="373" y="21"/>
                  </a:lnTo>
                  <a:lnTo>
                    <a:pt x="394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160960" y="3887640"/>
              <a:ext cx="136440" cy="55800"/>
            </a:xfrm>
            <a:custGeom>
              <a:avLst/>
              <a:gdLst/>
              <a:ahLst/>
              <a:rect l="l" t="t" r="r" b="b"/>
              <a:pathLst>
                <a:path w="418" h="175">
                  <a:moveTo>
                    <a:pt x="0" y="175"/>
                  </a:moveTo>
                  <a:lnTo>
                    <a:pt x="23" y="154"/>
                  </a:lnTo>
                  <a:lnTo>
                    <a:pt x="67" y="154"/>
                  </a:lnTo>
                  <a:lnTo>
                    <a:pt x="89" y="133"/>
                  </a:lnTo>
                  <a:lnTo>
                    <a:pt x="109" y="133"/>
                  </a:lnTo>
                  <a:lnTo>
                    <a:pt x="132" y="109"/>
                  </a:lnTo>
                  <a:lnTo>
                    <a:pt x="154" y="109"/>
                  </a:lnTo>
                  <a:lnTo>
                    <a:pt x="177" y="109"/>
                  </a:lnTo>
                  <a:lnTo>
                    <a:pt x="221" y="88"/>
                  </a:lnTo>
                  <a:lnTo>
                    <a:pt x="243" y="88"/>
                  </a:lnTo>
                  <a:lnTo>
                    <a:pt x="264" y="65"/>
                  </a:lnTo>
                  <a:lnTo>
                    <a:pt x="287" y="65"/>
                  </a:lnTo>
                  <a:lnTo>
                    <a:pt x="307" y="45"/>
                  </a:lnTo>
                  <a:lnTo>
                    <a:pt x="352" y="45"/>
                  </a:lnTo>
                  <a:lnTo>
                    <a:pt x="373" y="23"/>
                  </a:lnTo>
                  <a:lnTo>
                    <a:pt x="396" y="23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289480" y="3895560"/>
              <a:ext cx="144360" cy="47880"/>
            </a:xfrm>
            <a:custGeom>
              <a:avLst/>
              <a:gdLst/>
              <a:ahLst/>
              <a:rect l="l" t="t" r="r" b="b"/>
              <a:pathLst>
                <a:path w="440" h="152">
                  <a:moveTo>
                    <a:pt x="0" y="152"/>
                  </a:moveTo>
                  <a:lnTo>
                    <a:pt x="22" y="131"/>
                  </a:lnTo>
                  <a:lnTo>
                    <a:pt x="45" y="131"/>
                  </a:lnTo>
                  <a:lnTo>
                    <a:pt x="66" y="131"/>
                  </a:lnTo>
                  <a:lnTo>
                    <a:pt x="86" y="110"/>
                  </a:lnTo>
                  <a:lnTo>
                    <a:pt x="111" y="110"/>
                  </a:lnTo>
                  <a:lnTo>
                    <a:pt x="131" y="110"/>
                  </a:lnTo>
                  <a:lnTo>
                    <a:pt x="154" y="86"/>
                  </a:lnTo>
                  <a:lnTo>
                    <a:pt x="175" y="86"/>
                  </a:lnTo>
                  <a:lnTo>
                    <a:pt x="197" y="65"/>
                  </a:lnTo>
                  <a:lnTo>
                    <a:pt x="220" y="65"/>
                  </a:lnTo>
                  <a:lnTo>
                    <a:pt x="264" y="65"/>
                  </a:lnTo>
                  <a:lnTo>
                    <a:pt x="264" y="42"/>
                  </a:lnTo>
                  <a:lnTo>
                    <a:pt x="309" y="42"/>
                  </a:lnTo>
                  <a:lnTo>
                    <a:pt x="351" y="42"/>
                  </a:lnTo>
                  <a:lnTo>
                    <a:pt x="374" y="22"/>
                  </a:lnTo>
                  <a:lnTo>
                    <a:pt x="395" y="22"/>
                  </a:lnTo>
                  <a:lnTo>
                    <a:pt x="395" y="0"/>
                  </a:lnTo>
                  <a:lnTo>
                    <a:pt x="418" y="0"/>
                  </a:lnTo>
                  <a:lnTo>
                    <a:pt x="44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624560" y="3838680"/>
              <a:ext cx="99720" cy="93600"/>
            </a:xfrm>
            <a:custGeom>
              <a:avLst/>
              <a:gdLst/>
              <a:ahLst/>
              <a:rect l="l" t="t" r="r" b="b"/>
              <a:pathLst>
                <a:path w="306" h="288">
                  <a:moveTo>
                    <a:pt x="0" y="0"/>
                  </a:moveTo>
                  <a:lnTo>
                    <a:pt x="21" y="23"/>
                  </a:lnTo>
                  <a:lnTo>
                    <a:pt x="45" y="45"/>
                  </a:lnTo>
                  <a:lnTo>
                    <a:pt x="66" y="68"/>
                  </a:lnTo>
                  <a:lnTo>
                    <a:pt x="86" y="89"/>
                  </a:lnTo>
                  <a:lnTo>
                    <a:pt x="109" y="134"/>
                  </a:lnTo>
                  <a:lnTo>
                    <a:pt x="131" y="155"/>
                  </a:lnTo>
                  <a:lnTo>
                    <a:pt x="154" y="178"/>
                  </a:lnTo>
                  <a:lnTo>
                    <a:pt x="175" y="200"/>
                  </a:lnTo>
                  <a:lnTo>
                    <a:pt x="197" y="200"/>
                  </a:lnTo>
                  <a:lnTo>
                    <a:pt x="197" y="220"/>
                  </a:lnTo>
                  <a:lnTo>
                    <a:pt x="220" y="220"/>
                  </a:lnTo>
                  <a:lnTo>
                    <a:pt x="241" y="243"/>
                  </a:lnTo>
                  <a:lnTo>
                    <a:pt x="264" y="264"/>
                  </a:lnTo>
                  <a:lnTo>
                    <a:pt x="286" y="264"/>
                  </a:lnTo>
                  <a:lnTo>
                    <a:pt x="286" y="288"/>
                  </a:lnTo>
                  <a:lnTo>
                    <a:pt x="306" y="2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67400" y="3800520"/>
              <a:ext cx="120600" cy="123840"/>
            </a:xfrm>
            <a:custGeom>
              <a:avLst/>
              <a:gdLst/>
              <a:ahLst/>
              <a:rect l="l" t="t" r="r" b="b"/>
              <a:pathLst>
                <a:path w="373" h="373">
                  <a:moveTo>
                    <a:pt x="0" y="0"/>
                  </a:moveTo>
                  <a:lnTo>
                    <a:pt x="0" y="23"/>
                  </a:lnTo>
                  <a:lnTo>
                    <a:pt x="23" y="23"/>
                  </a:lnTo>
                  <a:lnTo>
                    <a:pt x="23" y="45"/>
                  </a:lnTo>
                  <a:lnTo>
                    <a:pt x="44" y="45"/>
                  </a:lnTo>
                  <a:lnTo>
                    <a:pt x="66" y="65"/>
                  </a:lnTo>
                  <a:lnTo>
                    <a:pt x="89" y="89"/>
                  </a:lnTo>
                  <a:lnTo>
                    <a:pt x="133" y="109"/>
                  </a:lnTo>
                  <a:lnTo>
                    <a:pt x="155" y="154"/>
                  </a:lnTo>
                  <a:lnTo>
                    <a:pt x="198" y="177"/>
                  </a:lnTo>
                  <a:lnTo>
                    <a:pt x="243" y="220"/>
                  </a:lnTo>
                  <a:lnTo>
                    <a:pt x="264" y="264"/>
                  </a:lnTo>
                  <a:lnTo>
                    <a:pt x="308" y="287"/>
                  </a:lnTo>
                  <a:lnTo>
                    <a:pt x="353" y="329"/>
                  </a:lnTo>
                  <a:lnTo>
                    <a:pt x="373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702320" y="3743280"/>
              <a:ext cx="201600" cy="19548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730760" y="3672000"/>
              <a:ext cx="65160" cy="7128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0" y="0"/>
                  </a:moveTo>
                  <a:lnTo>
                    <a:pt x="21" y="22"/>
                  </a:lnTo>
                  <a:lnTo>
                    <a:pt x="45" y="65"/>
                  </a:lnTo>
                  <a:lnTo>
                    <a:pt x="66" y="88"/>
                  </a:lnTo>
                  <a:lnTo>
                    <a:pt x="89" y="110"/>
                  </a:lnTo>
                  <a:lnTo>
                    <a:pt x="132" y="154"/>
                  </a:lnTo>
                  <a:lnTo>
                    <a:pt x="155" y="175"/>
                  </a:lnTo>
                  <a:lnTo>
                    <a:pt x="175" y="199"/>
                  </a:lnTo>
                  <a:lnTo>
                    <a:pt x="198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761000" y="3645000"/>
              <a:ext cx="61920" cy="63360"/>
            </a:xfrm>
            <a:custGeom>
              <a:avLst/>
              <a:gdLst/>
              <a:ahLst/>
              <a:rect l="l" t="t" r="r" b="b"/>
              <a:pathLst>
                <a:path w="196" h="199">
                  <a:moveTo>
                    <a:pt x="0" y="0"/>
                  </a:moveTo>
                  <a:lnTo>
                    <a:pt x="21" y="23"/>
                  </a:lnTo>
                  <a:lnTo>
                    <a:pt x="43" y="45"/>
                  </a:lnTo>
                  <a:lnTo>
                    <a:pt x="66" y="66"/>
                  </a:lnTo>
                  <a:lnTo>
                    <a:pt x="109" y="89"/>
                  </a:lnTo>
                  <a:lnTo>
                    <a:pt x="131" y="134"/>
                  </a:lnTo>
                  <a:lnTo>
                    <a:pt x="152" y="154"/>
                  </a:lnTo>
                  <a:lnTo>
                    <a:pt x="175" y="177"/>
                  </a:lnTo>
                  <a:lnTo>
                    <a:pt x="196" y="19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18240" y="3622680"/>
              <a:ext cx="48960" cy="493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917960" y="3873600"/>
              <a:ext cx="77760" cy="65160"/>
            </a:xfrm>
            <a:custGeom>
              <a:avLst/>
              <a:gdLst/>
              <a:ahLst/>
              <a:rect l="l" t="t" r="r" b="b"/>
              <a:pathLst>
                <a:path w="240" h="198">
                  <a:moveTo>
                    <a:pt x="0" y="0"/>
                  </a:moveTo>
                  <a:lnTo>
                    <a:pt x="20" y="23"/>
                  </a:lnTo>
                  <a:lnTo>
                    <a:pt x="65" y="44"/>
                  </a:lnTo>
                  <a:lnTo>
                    <a:pt x="86" y="67"/>
                  </a:lnTo>
                  <a:lnTo>
                    <a:pt x="109" y="89"/>
                  </a:lnTo>
                  <a:lnTo>
                    <a:pt x="152" y="132"/>
                  </a:lnTo>
                  <a:lnTo>
                    <a:pt x="175" y="153"/>
                  </a:lnTo>
                  <a:lnTo>
                    <a:pt x="196" y="177"/>
                  </a:lnTo>
                  <a:lnTo>
                    <a:pt x="240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995720" y="3873600"/>
              <a:ext cx="100080" cy="85680"/>
            </a:xfrm>
            <a:custGeom>
              <a:avLst/>
              <a:gdLst/>
              <a:ahLst/>
              <a:rect l="l" t="t" r="r" b="b"/>
              <a:pathLst>
                <a:path w="308" h="264">
                  <a:moveTo>
                    <a:pt x="0" y="0"/>
                  </a:moveTo>
                  <a:lnTo>
                    <a:pt x="21" y="23"/>
                  </a:lnTo>
                  <a:lnTo>
                    <a:pt x="66" y="67"/>
                  </a:lnTo>
                  <a:lnTo>
                    <a:pt x="110" y="89"/>
                  </a:lnTo>
                  <a:lnTo>
                    <a:pt x="155" y="132"/>
                  </a:lnTo>
                  <a:lnTo>
                    <a:pt x="175" y="153"/>
                  </a:lnTo>
                  <a:lnTo>
                    <a:pt x="219" y="198"/>
                  </a:lnTo>
                  <a:lnTo>
                    <a:pt x="264" y="219"/>
                  </a:lnTo>
                  <a:lnTo>
                    <a:pt x="308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089680" y="3873600"/>
              <a:ext cx="91800" cy="77760"/>
            </a:xfrm>
            <a:custGeom>
              <a:avLst/>
              <a:gdLst/>
              <a:ahLst/>
              <a:rect l="l" t="t" r="r" b="b"/>
              <a:pathLst>
                <a:path w="287" h="242">
                  <a:moveTo>
                    <a:pt x="0" y="0"/>
                  </a:moveTo>
                  <a:lnTo>
                    <a:pt x="45" y="23"/>
                  </a:lnTo>
                  <a:lnTo>
                    <a:pt x="89" y="44"/>
                  </a:lnTo>
                  <a:lnTo>
                    <a:pt x="109" y="89"/>
                  </a:lnTo>
                  <a:lnTo>
                    <a:pt x="154" y="109"/>
                  </a:lnTo>
                  <a:lnTo>
                    <a:pt x="198" y="153"/>
                  </a:lnTo>
                  <a:lnTo>
                    <a:pt x="220" y="177"/>
                  </a:lnTo>
                  <a:lnTo>
                    <a:pt x="264" y="219"/>
                  </a:lnTo>
                  <a:lnTo>
                    <a:pt x="287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168880" y="3873600"/>
              <a:ext cx="85680" cy="77760"/>
            </a:xfrm>
            <a:custGeom>
              <a:avLst/>
              <a:gdLst/>
              <a:ahLst/>
              <a:rect l="l" t="t" r="r" b="b"/>
              <a:pathLst>
                <a:path w="264" h="242">
                  <a:moveTo>
                    <a:pt x="0" y="0"/>
                  </a:moveTo>
                  <a:lnTo>
                    <a:pt x="44" y="44"/>
                  </a:lnTo>
                  <a:lnTo>
                    <a:pt x="66" y="67"/>
                  </a:lnTo>
                  <a:lnTo>
                    <a:pt x="109" y="89"/>
                  </a:lnTo>
                  <a:lnTo>
                    <a:pt x="131" y="109"/>
                  </a:lnTo>
                  <a:lnTo>
                    <a:pt x="175" y="153"/>
                  </a:lnTo>
                  <a:lnTo>
                    <a:pt x="198" y="177"/>
                  </a:lnTo>
                  <a:lnTo>
                    <a:pt x="241" y="198"/>
                  </a:lnTo>
                  <a:lnTo>
                    <a:pt x="264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62480" y="3881520"/>
              <a:ext cx="100080" cy="69840"/>
            </a:xfrm>
            <a:custGeom>
              <a:avLst/>
              <a:gdLst/>
              <a:ahLst/>
              <a:rect l="l" t="t" r="r" b="b"/>
              <a:pathLst>
                <a:path w="309" h="219">
                  <a:moveTo>
                    <a:pt x="0" y="0"/>
                  </a:moveTo>
                  <a:lnTo>
                    <a:pt x="45" y="21"/>
                  </a:lnTo>
                  <a:lnTo>
                    <a:pt x="89" y="44"/>
                  </a:lnTo>
                  <a:lnTo>
                    <a:pt x="134" y="66"/>
                  </a:lnTo>
                  <a:lnTo>
                    <a:pt x="175" y="109"/>
                  </a:lnTo>
                  <a:lnTo>
                    <a:pt x="220" y="130"/>
                  </a:lnTo>
                  <a:lnTo>
                    <a:pt x="243" y="154"/>
                  </a:lnTo>
                  <a:lnTo>
                    <a:pt x="286" y="196"/>
                  </a:lnTo>
                  <a:lnTo>
                    <a:pt x="309" y="21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62560" y="3887640"/>
              <a:ext cx="85680" cy="55800"/>
            </a:xfrm>
            <a:custGeom>
              <a:avLst/>
              <a:gdLst/>
              <a:ahLst/>
              <a:rect l="l" t="t" r="r" b="b"/>
              <a:pathLst>
                <a:path w="264" h="175">
                  <a:moveTo>
                    <a:pt x="0" y="0"/>
                  </a:moveTo>
                  <a:lnTo>
                    <a:pt x="44" y="23"/>
                  </a:lnTo>
                  <a:lnTo>
                    <a:pt x="66" y="45"/>
                  </a:lnTo>
                  <a:lnTo>
                    <a:pt x="109" y="65"/>
                  </a:lnTo>
                  <a:lnTo>
                    <a:pt x="131" y="88"/>
                  </a:lnTo>
                  <a:lnTo>
                    <a:pt x="175" y="109"/>
                  </a:lnTo>
                  <a:lnTo>
                    <a:pt x="198" y="133"/>
                  </a:lnTo>
                  <a:lnTo>
                    <a:pt x="241" y="154"/>
                  </a:lnTo>
                  <a:lnTo>
                    <a:pt x="264" y="1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54720" y="3887640"/>
              <a:ext cx="93600" cy="63720"/>
            </a:xfrm>
            <a:custGeom>
              <a:avLst/>
              <a:gdLst/>
              <a:ahLst/>
              <a:rect l="l" t="t" r="r" b="b"/>
              <a:pathLst>
                <a:path w="288" h="198">
                  <a:moveTo>
                    <a:pt x="0" y="0"/>
                  </a:moveTo>
                  <a:lnTo>
                    <a:pt x="25" y="45"/>
                  </a:lnTo>
                  <a:lnTo>
                    <a:pt x="66" y="65"/>
                  </a:lnTo>
                  <a:lnTo>
                    <a:pt x="89" y="88"/>
                  </a:lnTo>
                  <a:lnTo>
                    <a:pt x="134" y="109"/>
                  </a:lnTo>
                  <a:lnTo>
                    <a:pt x="177" y="133"/>
                  </a:lnTo>
                  <a:lnTo>
                    <a:pt x="220" y="154"/>
                  </a:lnTo>
                  <a:lnTo>
                    <a:pt x="264" y="175"/>
                  </a:lnTo>
                  <a:lnTo>
                    <a:pt x="288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26000" y="3887640"/>
              <a:ext cx="95400" cy="55800"/>
            </a:xfrm>
            <a:custGeom>
              <a:avLst/>
              <a:gdLst/>
              <a:ahLst/>
              <a:rect l="l" t="t" r="r" b="b"/>
              <a:pathLst>
                <a:path w="287" h="175">
                  <a:moveTo>
                    <a:pt x="0" y="0"/>
                  </a:moveTo>
                  <a:lnTo>
                    <a:pt x="23" y="23"/>
                  </a:lnTo>
                  <a:lnTo>
                    <a:pt x="44" y="23"/>
                  </a:lnTo>
                  <a:lnTo>
                    <a:pt x="68" y="45"/>
                  </a:lnTo>
                  <a:lnTo>
                    <a:pt x="89" y="65"/>
                  </a:lnTo>
                  <a:lnTo>
                    <a:pt x="110" y="88"/>
                  </a:lnTo>
                  <a:lnTo>
                    <a:pt x="133" y="88"/>
                  </a:lnTo>
                  <a:lnTo>
                    <a:pt x="155" y="109"/>
                  </a:lnTo>
                  <a:lnTo>
                    <a:pt x="178" y="109"/>
                  </a:lnTo>
                  <a:lnTo>
                    <a:pt x="199" y="133"/>
                  </a:lnTo>
                  <a:lnTo>
                    <a:pt x="220" y="154"/>
                  </a:lnTo>
                  <a:lnTo>
                    <a:pt x="243" y="175"/>
                  </a:lnTo>
                  <a:lnTo>
                    <a:pt x="264" y="175"/>
                  </a:lnTo>
                  <a:lnTo>
                    <a:pt x="287" y="1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29320" y="3895560"/>
              <a:ext cx="127080" cy="63720"/>
            </a:xfrm>
            <a:custGeom>
              <a:avLst/>
              <a:gdLst/>
              <a:ahLst/>
              <a:rect l="l" t="t" r="r" b="b"/>
              <a:pathLst>
                <a:path w="394" h="197">
                  <a:moveTo>
                    <a:pt x="0" y="0"/>
                  </a:moveTo>
                  <a:lnTo>
                    <a:pt x="21" y="0"/>
                  </a:lnTo>
                  <a:lnTo>
                    <a:pt x="44" y="22"/>
                  </a:lnTo>
                  <a:lnTo>
                    <a:pt x="65" y="22"/>
                  </a:lnTo>
                  <a:lnTo>
                    <a:pt x="89" y="22"/>
                  </a:lnTo>
                  <a:lnTo>
                    <a:pt x="109" y="22"/>
                  </a:lnTo>
                  <a:lnTo>
                    <a:pt x="130" y="42"/>
                  </a:lnTo>
                  <a:lnTo>
                    <a:pt x="153" y="42"/>
                  </a:lnTo>
                  <a:lnTo>
                    <a:pt x="175" y="65"/>
                  </a:lnTo>
                  <a:lnTo>
                    <a:pt x="198" y="86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5" y="131"/>
                  </a:lnTo>
                  <a:lnTo>
                    <a:pt x="308" y="152"/>
                  </a:lnTo>
                  <a:lnTo>
                    <a:pt x="329" y="175"/>
                  </a:lnTo>
                  <a:lnTo>
                    <a:pt x="352" y="175"/>
                  </a:lnTo>
                  <a:lnTo>
                    <a:pt x="373" y="197"/>
                  </a:lnTo>
                  <a:lnTo>
                    <a:pt x="394" y="19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29400" y="3873600"/>
              <a:ext cx="193680" cy="108000"/>
            </a:xfrm>
            <a:custGeom>
              <a:avLst/>
              <a:gdLst/>
              <a:ahLst/>
              <a:rect l="l" t="t" r="r" b="b"/>
              <a:pathLst>
                <a:path w="593" h="329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6" y="44"/>
                  </a:lnTo>
                  <a:lnTo>
                    <a:pt x="131" y="67"/>
                  </a:lnTo>
                  <a:lnTo>
                    <a:pt x="154" y="89"/>
                  </a:lnTo>
                  <a:lnTo>
                    <a:pt x="196" y="109"/>
                  </a:lnTo>
                  <a:lnTo>
                    <a:pt x="240" y="132"/>
                  </a:lnTo>
                  <a:lnTo>
                    <a:pt x="263" y="153"/>
                  </a:lnTo>
                  <a:lnTo>
                    <a:pt x="306" y="177"/>
                  </a:lnTo>
                  <a:lnTo>
                    <a:pt x="329" y="198"/>
                  </a:lnTo>
                  <a:lnTo>
                    <a:pt x="374" y="219"/>
                  </a:lnTo>
                  <a:lnTo>
                    <a:pt x="395" y="242"/>
                  </a:lnTo>
                  <a:lnTo>
                    <a:pt x="438" y="264"/>
                  </a:lnTo>
                  <a:lnTo>
                    <a:pt x="483" y="287"/>
                  </a:lnTo>
                  <a:lnTo>
                    <a:pt x="504" y="287"/>
                  </a:lnTo>
                  <a:lnTo>
                    <a:pt x="549" y="307"/>
                  </a:lnTo>
                  <a:lnTo>
                    <a:pt x="570" y="307"/>
                  </a:lnTo>
                  <a:lnTo>
                    <a:pt x="570" y="329"/>
                  </a:lnTo>
                  <a:lnTo>
                    <a:pt x="593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99240" y="3830760"/>
              <a:ext cx="158760" cy="108000"/>
            </a:xfrm>
            <a:custGeom>
              <a:avLst/>
              <a:gdLst/>
              <a:ahLst/>
              <a:rect l="l" t="t" r="r" b="b"/>
              <a:pathLst>
                <a:path w="483" h="329">
                  <a:moveTo>
                    <a:pt x="0" y="0"/>
                  </a:moveTo>
                  <a:lnTo>
                    <a:pt x="20" y="20"/>
                  </a:lnTo>
                  <a:lnTo>
                    <a:pt x="43" y="20"/>
                  </a:lnTo>
                  <a:lnTo>
                    <a:pt x="65" y="43"/>
                  </a:lnTo>
                  <a:lnTo>
                    <a:pt x="86" y="65"/>
                  </a:lnTo>
                  <a:lnTo>
                    <a:pt x="130" y="88"/>
                  </a:lnTo>
                  <a:lnTo>
                    <a:pt x="154" y="109"/>
                  </a:lnTo>
                  <a:lnTo>
                    <a:pt x="175" y="131"/>
                  </a:lnTo>
                  <a:lnTo>
                    <a:pt x="198" y="154"/>
                  </a:lnTo>
                  <a:lnTo>
                    <a:pt x="218" y="154"/>
                  </a:lnTo>
                  <a:lnTo>
                    <a:pt x="240" y="175"/>
                  </a:lnTo>
                  <a:lnTo>
                    <a:pt x="284" y="198"/>
                  </a:lnTo>
                  <a:lnTo>
                    <a:pt x="307" y="220"/>
                  </a:lnTo>
                  <a:lnTo>
                    <a:pt x="329" y="220"/>
                  </a:lnTo>
                  <a:lnTo>
                    <a:pt x="350" y="240"/>
                  </a:lnTo>
                  <a:lnTo>
                    <a:pt x="373" y="263"/>
                  </a:lnTo>
                  <a:lnTo>
                    <a:pt x="395" y="263"/>
                  </a:lnTo>
                  <a:lnTo>
                    <a:pt x="395" y="284"/>
                  </a:lnTo>
                  <a:lnTo>
                    <a:pt x="418" y="284"/>
                  </a:lnTo>
                  <a:lnTo>
                    <a:pt x="438" y="308"/>
                  </a:lnTo>
                  <a:lnTo>
                    <a:pt x="459" y="308"/>
                  </a:lnTo>
                  <a:lnTo>
                    <a:pt x="459" y="329"/>
                  </a:lnTo>
                  <a:lnTo>
                    <a:pt x="483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2680" y="3651120"/>
              <a:ext cx="308160" cy="122400"/>
            </a:xfrm>
            <a:custGeom>
              <a:avLst/>
              <a:gdLst/>
              <a:ahLst/>
              <a:rect l="l" t="t" r="r" b="b"/>
              <a:pathLst>
                <a:path w="943" h="374">
                  <a:moveTo>
                    <a:pt x="0" y="0"/>
                  </a:moveTo>
                  <a:lnTo>
                    <a:pt x="21" y="0"/>
                  </a:lnTo>
                  <a:lnTo>
                    <a:pt x="44" y="22"/>
                  </a:lnTo>
                  <a:lnTo>
                    <a:pt x="66" y="22"/>
                  </a:lnTo>
                  <a:lnTo>
                    <a:pt x="87" y="43"/>
                  </a:lnTo>
                  <a:lnTo>
                    <a:pt x="110" y="43"/>
                  </a:lnTo>
                  <a:lnTo>
                    <a:pt x="131" y="66"/>
                  </a:lnTo>
                  <a:lnTo>
                    <a:pt x="154" y="66"/>
                  </a:lnTo>
                  <a:lnTo>
                    <a:pt x="175" y="88"/>
                  </a:lnTo>
                  <a:lnTo>
                    <a:pt x="220" y="111"/>
                  </a:lnTo>
                  <a:lnTo>
                    <a:pt x="264" y="131"/>
                  </a:lnTo>
                  <a:lnTo>
                    <a:pt x="330" y="154"/>
                  </a:lnTo>
                  <a:lnTo>
                    <a:pt x="373" y="176"/>
                  </a:lnTo>
                  <a:lnTo>
                    <a:pt x="416" y="197"/>
                  </a:lnTo>
                  <a:lnTo>
                    <a:pt x="460" y="197"/>
                  </a:lnTo>
                  <a:lnTo>
                    <a:pt x="484" y="220"/>
                  </a:lnTo>
                  <a:lnTo>
                    <a:pt x="505" y="220"/>
                  </a:lnTo>
                  <a:lnTo>
                    <a:pt x="548" y="241"/>
                  </a:lnTo>
                  <a:lnTo>
                    <a:pt x="570" y="241"/>
                  </a:lnTo>
                  <a:lnTo>
                    <a:pt x="593" y="241"/>
                  </a:lnTo>
                  <a:lnTo>
                    <a:pt x="637" y="265"/>
                  </a:lnTo>
                  <a:lnTo>
                    <a:pt x="659" y="265"/>
                  </a:lnTo>
                  <a:lnTo>
                    <a:pt x="680" y="286"/>
                  </a:lnTo>
                  <a:lnTo>
                    <a:pt x="725" y="286"/>
                  </a:lnTo>
                  <a:lnTo>
                    <a:pt x="748" y="306"/>
                  </a:lnTo>
                  <a:lnTo>
                    <a:pt x="768" y="306"/>
                  </a:lnTo>
                  <a:lnTo>
                    <a:pt x="813" y="329"/>
                  </a:lnTo>
                  <a:lnTo>
                    <a:pt x="834" y="329"/>
                  </a:lnTo>
                  <a:lnTo>
                    <a:pt x="857" y="351"/>
                  </a:lnTo>
                  <a:lnTo>
                    <a:pt x="900" y="351"/>
                  </a:lnTo>
                  <a:lnTo>
                    <a:pt x="923" y="351"/>
                  </a:lnTo>
                  <a:lnTo>
                    <a:pt x="943" y="3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15080" y="3757680"/>
              <a:ext cx="177840" cy="81000"/>
            </a:xfrm>
            <a:custGeom>
              <a:avLst/>
              <a:gdLst/>
              <a:ahLst/>
              <a:rect l="l" t="t" r="r" b="b"/>
              <a:pathLst>
                <a:path w="550" h="241">
                  <a:moveTo>
                    <a:pt x="0" y="0"/>
                  </a:moveTo>
                  <a:lnTo>
                    <a:pt x="22" y="0"/>
                  </a:lnTo>
                  <a:lnTo>
                    <a:pt x="66" y="22"/>
                  </a:lnTo>
                  <a:lnTo>
                    <a:pt x="87" y="45"/>
                  </a:lnTo>
                  <a:lnTo>
                    <a:pt x="132" y="66"/>
                  </a:lnTo>
                  <a:lnTo>
                    <a:pt x="155" y="66"/>
                  </a:lnTo>
                  <a:lnTo>
                    <a:pt x="197" y="88"/>
                  </a:lnTo>
                  <a:lnTo>
                    <a:pt x="220" y="111"/>
                  </a:lnTo>
                  <a:lnTo>
                    <a:pt x="264" y="132"/>
                  </a:lnTo>
                  <a:lnTo>
                    <a:pt x="286" y="132"/>
                  </a:lnTo>
                  <a:lnTo>
                    <a:pt x="330" y="155"/>
                  </a:lnTo>
                  <a:lnTo>
                    <a:pt x="352" y="177"/>
                  </a:lnTo>
                  <a:lnTo>
                    <a:pt x="395" y="177"/>
                  </a:lnTo>
                  <a:lnTo>
                    <a:pt x="440" y="197"/>
                  </a:lnTo>
                  <a:lnTo>
                    <a:pt x="461" y="197"/>
                  </a:lnTo>
                  <a:lnTo>
                    <a:pt x="505" y="221"/>
                  </a:lnTo>
                  <a:lnTo>
                    <a:pt x="527" y="221"/>
                  </a:lnTo>
                  <a:lnTo>
                    <a:pt x="550" y="221"/>
                  </a:lnTo>
                  <a:lnTo>
                    <a:pt x="550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84840" y="3645000"/>
              <a:ext cx="223920" cy="93600"/>
            </a:xfrm>
            <a:custGeom>
              <a:avLst/>
              <a:gdLst/>
              <a:ahLst/>
              <a:rect l="l" t="t" r="r" b="b"/>
              <a:pathLst>
                <a:path w="681" h="288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8" y="45"/>
                  </a:lnTo>
                  <a:lnTo>
                    <a:pt x="110" y="66"/>
                  </a:lnTo>
                  <a:lnTo>
                    <a:pt x="154" y="66"/>
                  </a:lnTo>
                  <a:lnTo>
                    <a:pt x="175" y="89"/>
                  </a:lnTo>
                  <a:lnTo>
                    <a:pt x="199" y="89"/>
                  </a:lnTo>
                  <a:lnTo>
                    <a:pt x="243" y="111"/>
                  </a:lnTo>
                  <a:lnTo>
                    <a:pt x="263" y="111"/>
                  </a:lnTo>
                  <a:lnTo>
                    <a:pt x="285" y="134"/>
                  </a:lnTo>
                  <a:lnTo>
                    <a:pt x="329" y="134"/>
                  </a:lnTo>
                  <a:lnTo>
                    <a:pt x="352" y="154"/>
                  </a:lnTo>
                  <a:lnTo>
                    <a:pt x="374" y="154"/>
                  </a:lnTo>
                  <a:lnTo>
                    <a:pt x="418" y="177"/>
                  </a:lnTo>
                  <a:lnTo>
                    <a:pt x="440" y="177"/>
                  </a:lnTo>
                  <a:lnTo>
                    <a:pt x="463" y="199"/>
                  </a:lnTo>
                  <a:lnTo>
                    <a:pt x="483" y="199"/>
                  </a:lnTo>
                  <a:lnTo>
                    <a:pt x="528" y="220"/>
                  </a:lnTo>
                  <a:lnTo>
                    <a:pt x="549" y="243"/>
                  </a:lnTo>
                  <a:lnTo>
                    <a:pt x="572" y="243"/>
                  </a:lnTo>
                  <a:lnTo>
                    <a:pt x="615" y="264"/>
                  </a:lnTo>
                  <a:lnTo>
                    <a:pt x="638" y="264"/>
                  </a:lnTo>
                  <a:lnTo>
                    <a:pt x="658" y="288"/>
                  </a:lnTo>
                  <a:lnTo>
                    <a:pt x="681" y="2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486320" y="3714840"/>
              <a:ext cx="1522440" cy="538200"/>
            </a:xfrm>
            <a:custGeom>
              <a:avLst/>
              <a:gdLst/>
              <a:ahLst/>
              <a:rect l="l" t="t" r="r" b="b"/>
              <a:pathLst>
                <a:path w="4658" h="1649">
                  <a:moveTo>
                    <a:pt x="549" y="264"/>
                  </a:moveTo>
                  <a:lnTo>
                    <a:pt x="527" y="287"/>
                  </a:lnTo>
                  <a:lnTo>
                    <a:pt x="504" y="329"/>
                  </a:lnTo>
                  <a:lnTo>
                    <a:pt x="463" y="373"/>
                  </a:lnTo>
                  <a:lnTo>
                    <a:pt x="439" y="418"/>
                  </a:lnTo>
                  <a:lnTo>
                    <a:pt x="395" y="441"/>
                  </a:lnTo>
                  <a:lnTo>
                    <a:pt x="352" y="484"/>
                  </a:lnTo>
                  <a:lnTo>
                    <a:pt x="329" y="528"/>
                  </a:lnTo>
                  <a:lnTo>
                    <a:pt x="286" y="573"/>
                  </a:lnTo>
                  <a:lnTo>
                    <a:pt x="243" y="593"/>
                  </a:lnTo>
                  <a:lnTo>
                    <a:pt x="198" y="637"/>
                  </a:lnTo>
                  <a:lnTo>
                    <a:pt x="154" y="682"/>
                  </a:lnTo>
                  <a:lnTo>
                    <a:pt x="131" y="703"/>
                  </a:lnTo>
                  <a:lnTo>
                    <a:pt x="89" y="748"/>
                  </a:lnTo>
                  <a:lnTo>
                    <a:pt x="45" y="791"/>
                  </a:lnTo>
                  <a:lnTo>
                    <a:pt x="22" y="836"/>
                  </a:lnTo>
                  <a:lnTo>
                    <a:pt x="0" y="857"/>
                  </a:lnTo>
                  <a:lnTo>
                    <a:pt x="22" y="880"/>
                  </a:lnTo>
                  <a:lnTo>
                    <a:pt x="45" y="880"/>
                  </a:lnTo>
                  <a:lnTo>
                    <a:pt x="66" y="880"/>
                  </a:lnTo>
                  <a:lnTo>
                    <a:pt x="89" y="880"/>
                  </a:lnTo>
                  <a:lnTo>
                    <a:pt x="110" y="880"/>
                  </a:lnTo>
                  <a:lnTo>
                    <a:pt x="154" y="880"/>
                  </a:lnTo>
                  <a:lnTo>
                    <a:pt x="175" y="880"/>
                  </a:lnTo>
                  <a:lnTo>
                    <a:pt x="198" y="880"/>
                  </a:lnTo>
                  <a:lnTo>
                    <a:pt x="220" y="880"/>
                  </a:lnTo>
                  <a:lnTo>
                    <a:pt x="264" y="880"/>
                  </a:lnTo>
                  <a:lnTo>
                    <a:pt x="286" y="880"/>
                  </a:lnTo>
                  <a:lnTo>
                    <a:pt x="309" y="880"/>
                  </a:lnTo>
                  <a:lnTo>
                    <a:pt x="329" y="880"/>
                  </a:lnTo>
                  <a:lnTo>
                    <a:pt x="352" y="880"/>
                  </a:lnTo>
                  <a:lnTo>
                    <a:pt x="374" y="880"/>
                  </a:lnTo>
                  <a:lnTo>
                    <a:pt x="395" y="902"/>
                  </a:lnTo>
                  <a:lnTo>
                    <a:pt x="463" y="902"/>
                  </a:lnTo>
                  <a:lnTo>
                    <a:pt x="527" y="925"/>
                  </a:lnTo>
                  <a:lnTo>
                    <a:pt x="572" y="946"/>
                  </a:lnTo>
                  <a:lnTo>
                    <a:pt x="638" y="946"/>
                  </a:lnTo>
                  <a:lnTo>
                    <a:pt x="704" y="967"/>
                  </a:lnTo>
                  <a:lnTo>
                    <a:pt x="768" y="967"/>
                  </a:lnTo>
                  <a:lnTo>
                    <a:pt x="836" y="967"/>
                  </a:lnTo>
                  <a:lnTo>
                    <a:pt x="902" y="991"/>
                  </a:lnTo>
                  <a:lnTo>
                    <a:pt x="967" y="991"/>
                  </a:lnTo>
                  <a:lnTo>
                    <a:pt x="1032" y="1011"/>
                  </a:lnTo>
                  <a:lnTo>
                    <a:pt x="1097" y="1011"/>
                  </a:lnTo>
                  <a:lnTo>
                    <a:pt x="1165" y="1035"/>
                  </a:lnTo>
                  <a:lnTo>
                    <a:pt x="1208" y="1035"/>
                  </a:lnTo>
                  <a:lnTo>
                    <a:pt x="1275" y="1055"/>
                  </a:lnTo>
                  <a:lnTo>
                    <a:pt x="1340" y="1077"/>
                  </a:lnTo>
                  <a:lnTo>
                    <a:pt x="1385" y="1100"/>
                  </a:lnTo>
                  <a:lnTo>
                    <a:pt x="1450" y="1121"/>
                  </a:lnTo>
                  <a:lnTo>
                    <a:pt x="1516" y="1144"/>
                  </a:lnTo>
                  <a:lnTo>
                    <a:pt x="1604" y="1144"/>
                  </a:lnTo>
                  <a:lnTo>
                    <a:pt x="1670" y="1166"/>
                  </a:lnTo>
                  <a:lnTo>
                    <a:pt x="1759" y="1166"/>
                  </a:lnTo>
                  <a:lnTo>
                    <a:pt x="1824" y="1187"/>
                  </a:lnTo>
                  <a:lnTo>
                    <a:pt x="1913" y="1187"/>
                  </a:lnTo>
                  <a:lnTo>
                    <a:pt x="1978" y="1187"/>
                  </a:lnTo>
                  <a:lnTo>
                    <a:pt x="2065" y="1187"/>
                  </a:lnTo>
                  <a:lnTo>
                    <a:pt x="2132" y="1210"/>
                  </a:lnTo>
                  <a:lnTo>
                    <a:pt x="2219" y="1210"/>
                  </a:lnTo>
                  <a:lnTo>
                    <a:pt x="2286" y="1210"/>
                  </a:lnTo>
                  <a:lnTo>
                    <a:pt x="2372" y="1230"/>
                  </a:lnTo>
                  <a:lnTo>
                    <a:pt x="2438" y="1230"/>
                  </a:lnTo>
                  <a:lnTo>
                    <a:pt x="2506" y="1255"/>
                  </a:lnTo>
                  <a:lnTo>
                    <a:pt x="2572" y="1275"/>
                  </a:lnTo>
                  <a:lnTo>
                    <a:pt x="2615" y="1275"/>
                  </a:lnTo>
                  <a:lnTo>
                    <a:pt x="2636" y="1275"/>
                  </a:lnTo>
                  <a:lnTo>
                    <a:pt x="2658" y="1296"/>
                  </a:lnTo>
                  <a:lnTo>
                    <a:pt x="2681" y="1296"/>
                  </a:lnTo>
                  <a:lnTo>
                    <a:pt x="2725" y="1296"/>
                  </a:lnTo>
                  <a:lnTo>
                    <a:pt x="2747" y="1296"/>
                  </a:lnTo>
                  <a:lnTo>
                    <a:pt x="2790" y="1296"/>
                  </a:lnTo>
                  <a:lnTo>
                    <a:pt x="2812" y="1319"/>
                  </a:lnTo>
                  <a:lnTo>
                    <a:pt x="2856" y="1319"/>
                  </a:lnTo>
                  <a:lnTo>
                    <a:pt x="2879" y="1319"/>
                  </a:lnTo>
                  <a:lnTo>
                    <a:pt x="2922" y="1319"/>
                  </a:lnTo>
                  <a:lnTo>
                    <a:pt x="2945" y="1319"/>
                  </a:lnTo>
                  <a:lnTo>
                    <a:pt x="2990" y="1341"/>
                  </a:lnTo>
                  <a:lnTo>
                    <a:pt x="3010" y="1341"/>
                  </a:lnTo>
                  <a:lnTo>
                    <a:pt x="3054" y="1341"/>
                  </a:lnTo>
                  <a:lnTo>
                    <a:pt x="3076" y="1364"/>
                  </a:lnTo>
                  <a:lnTo>
                    <a:pt x="3846" y="1584"/>
                  </a:lnTo>
                  <a:lnTo>
                    <a:pt x="3867" y="1584"/>
                  </a:lnTo>
                  <a:lnTo>
                    <a:pt x="3867" y="1605"/>
                  </a:lnTo>
                  <a:lnTo>
                    <a:pt x="3888" y="1605"/>
                  </a:lnTo>
                  <a:lnTo>
                    <a:pt x="3912" y="1605"/>
                  </a:lnTo>
                  <a:lnTo>
                    <a:pt x="3956" y="1605"/>
                  </a:lnTo>
                  <a:lnTo>
                    <a:pt x="3977" y="1628"/>
                  </a:lnTo>
                  <a:lnTo>
                    <a:pt x="3998" y="1628"/>
                  </a:lnTo>
                  <a:lnTo>
                    <a:pt x="4042" y="1628"/>
                  </a:lnTo>
                  <a:lnTo>
                    <a:pt x="4065" y="1649"/>
                  </a:lnTo>
                  <a:lnTo>
                    <a:pt x="4108" y="1649"/>
                  </a:lnTo>
                  <a:lnTo>
                    <a:pt x="4131" y="1649"/>
                  </a:lnTo>
                  <a:lnTo>
                    <a:pt x="4152" y="1649"/>
                  </a:lnTo>
                  <a:lnTo>
                    <a:pt x="4176" y="1649"/>
                  </a:lnTo>
                  <a:lnTo>
                    <a:pt x="4197" y="1649"/>
                  </a:lnTo>
                  <a:lnTo>
                    <a:pt x="4220" y="1649"/>
                  </a:lnTo>
                  <a:lnTo>
                    <a:pt x="4240" y="1584"/>
                  </a:lnTo>
                  <a:lnTo>
                    <a:pt x="4262" y="1539"/>
                  </a:lnTo>
                  <a:lnTo>
                    <a:pt x="4285" y="1473"/>
                  </a:lnTo>
                  <a:lnTo>
                    <a:pt x="4306" y="1408"/>
                  </a:lnTo>
                  <a:lnTo>
                    <a:pt x="4329" y="1341"/>
                  </a:lnTo>
                  <a:lnTo>
                    <a:pt x="4351" y="1275"/>
                  </a:lnTo>
                  <a:lnTo>
                    <a:pt x="4351" y="1230"/>
                  </a:lnTo>
                  <a:lnTo>
                    <a:pt x="4372" y="1187"/>
                  </a:lnTo>
                  <a:lnTo>
                    <a:pt x="4417" y="1121"/>
                  </a:lnTo>
                  <a:lnTo>
                    <a:pt x="4460" y="1055"/>
                  </a:lnTo>
                  <a:lnTo>
                    <a:pt x="4505" y="991"/>
                  </a:lnTo>
                  <a:lnTo>
                    <a:pt x="4549" y="902"/>
                  </a:lnTo>
                  <a:lnTo>
                    <a:pt x="4592" y="836"/>
                  </a:lnTo>
                  <a:lnTo>
                    <a:pt x="4615" y="771"/>
                  </a:lnTo>
                  <a:lnTo>
                    <a:pt x="4658" y="703"/>
                  </a:lnTo>
                  <a:lnTo>
                    <a:pt x="4658" y="637"/>
                  </a:lnTo>
                  <a:lnTo>
                    <a:pt x="4658" y="616"/>
                  </a:lnTo>
                  <a:lnTo>
                    <a:pt x="4635" y="616"/>
                  </a:lnTo>
                  <a:lnTo>
                    <a:pt x="4615" y="616"/>
                  </a:lnTo>
                  <a:lnTo>
                    <a:pt x="4592" y="593"/>
                  </a:lnTo>
                  <a:lnTo>
                    <a:pt x="4570" y="593"/>
                  </a:lnTo>
                  <a:lnTo>
                    <a:pt x="4549" y="593"/>
                  </a:lnTo>
                  <a:lnTo>
                    <a:pt x="4526" y="593"/>
                  </a:lnTo>
                  <a:lnTo>
                    <a:pt x="4505" y="593"/>
                  </a:lnTo>
                  <a:lnTo>
                    <a:pt x="4460" y="573"/>
                  </a:lnTo>
                  <a:lnTo>
                    <a:pt x="4417" y="551"/>
                  </a:lnTo>
                  <a:lnTo>
                    <a:pt x="4351" y="551"/>
                  </a:lnTo>
                  <a:lnTo>
                    <a:pt x="4306" y="551"/>
                  </a:lnTo>
                  <a:lnTo>
                    <a:pt x="4262" y="528"/>
                  </a:lnTo>
                  <a:lnTo>
                    <a:pt x="4220" y="528"/>
                  </a:lnTo>
                  <a:lnTo>
                    <a:pt x="4176" y="528"/>
                  </a:lnTo>
                  <a:lnTo>
                    <a:pt x="4108" y="507"/>
                  </a:lnTo>
                  <a:lnTo>
                    <a:pt x="4065" y="507"/>
                  </a:lnTo>
                  <a:lnTo>
                    <a:pt x="4022" y="507"/>
                  </a:lnTo>
                  <a:lnTo>
                    <a:pt x="3977" y="484"/>
                  </a:lnTo>
                  <a:lnTo>
                    <a:pt x="3912" y="484"/>
                  </a:lnTo>
                  <a:lnTo>
                    <a:pt x="3867" y="484"/>
                  </a:lnTo>
                  <a:lnTo>
                    <a:pt x="3823" y="484"/>
                  </a:lnTo>
                  <a:lnTo>
                    <a:pt x="3758" y="484"/>
                  </a:lnTo>
                  <a:lnTo>
                    <a:pt x="3713" y="462"/>
                  </a:lnTo>
                  <a:lnTo>
                    <a:pt x="3669" y="462"/>
                  </a:lnTo>
                  <a:lnTo>
                    <a:pt x="3603" y="462"/>
                  </a:lnTo>
                  <a:lnTo>
                    <a:pt x="3559" y="462"/>
                  </a:lnTo>
                  <a:lnTo>
                    <a:pt x="3515" y="441"/>
                  </a:lnTo>
                  <a:lnTo>
                    <a:pt x="3472" y="441"/>
                  </a:lnTo>
                  <a:lnTo>
                    <a:pt x="3405" y="441"/>
                  </a:lnTo>
                  <a:lnTo>
                    <a:pt x="3363" y="418"/>
                  </a:lnTo>
                  <a:lnTo>
                    <a:pt x="3318" y="418"/>
                  </a:lnTo>
                  <a:lnTo>
                    <a:pt x="3274" y="418"/>
                  </a:lnTo>
                  <a:lnTo>
                    <a:pt x="3208" y="396"/>
                  </a:lnTo>
                  <a:lnTo>
                    <a:pt x="3165" y="396"/>
                  </a:lnTo>
                  <a:lnTo>
                    <a:pt x="3120" y="396"/>
                  </a:lnTo>
                  <a:lnTo>
                    <a:pt x="3076" y="373"/>
                  </a:lnTo>
                  <a:lnTo>
                    <a:pt x="3031" y="373"/>
                  </a:lnTo>
                  <a:lnTo>
                    <a:pt x="2990" y="353"/>
                  </a:lnTo>
                  <a:lnTo>
                    <a:pt x="2945" y="329"/>
                  </a:lnTo>
                  <a:lnTo>
                    <a:pt x="2901" y="329"/>
                  </a:lnTo>
                  <a:lnTo>
                    <a:pt x="2856" y="309"/>
                  </a:lnTo>
                  <a:lnTo>
                    <a:pt x="2812" y="309"/>
                  </a:lnTo>
                  <a:lnTo>
                    <a:pt x="2770" y="287"/>
                  </a:lnTo>
                  <a:lnTo>
                    <a:pt x="2725" y="264"/>
                  </a:lnTo>
                  <a:lnTo>
                    <a:pt x="2658" y="264"/>
                  </a:lnTo>
                  <a:lnTo>
                    <a:pt x="2615" y="243"/>
                  </a:lnTo>
                  <a:lnTo>
                    <a:pt x="2572" y="243"/>
                  </a:lnTo>
                  <a:lnTo>
                    <a:pt x="2527" y="220"/>
                  </a:lnTo>
                  <a:lnTo>
                    <a:pt x="2461" y="220"/>
                  </a:lnTo>
                  <a:lnTo>
                    <a:pt x="2417" y="198"/>
                  </a:lnTo>
                  <a:lnTo>
                    <a:pt x="2372" y="198"/>
                  </a:lnTo>
                  <a:lnTo>
                    <a:pt x="2329" y="177"/>
                  </a:lnTo>
                  <a:lnTo>
                    <a:pt x="2286" y="177"/>
                  </a:lnTo>
                  <a:lnTo>
                    <a:pt x="2219" y="154"/>
                  </a:lnTo>
                  <a:lnTo>
                    <a:pt x="2174" y="154"/>
                  </a:lnTo>
                  <a:lnTo>
                    <a:pt x="2154" y="132"/>
                  </a:lnTo>
                  <a:lnTo>
                    <a:pt x="2109" y="132"/>
                  </a:lnTo>
                  <a:lnTo>
                    <a:pt x="2088" y="132"/>
                  </a:lnTo>
                  <a:lnTo>
                    <a:pt x="2043" y="109"/>
                  </a:lnTo>
                  <a:lnTo>
                    <a:pt x="1999" y="109"/>
                  </a:lnTo>
                  <a:lnTo>
                    <a:pt x="1954" y="89"/>
                  </a:lnTo>
                  <a:lnTo>
                    <a:pt x="1913" y="89"/>
                  </a:lnTo>
                  <a:lnTo>
                    <a:pt x="1868" y="89"/>
                  </a:lnTo>
                  <a:lnTo>
                    <a:pt x="1824" y="68"/>
                  </a:lnTo>
                  <a:lnTo>
                    <a:pt x="1779" y="68"/>
                  </a:lnTo>
                  <a:lnTo>
                    <a:pt x="1759" y="68"/>
                  </a:lnTo>
                  <a:lnTo>
                    <a:pt x="1715" y="68"/>
                  </a:lnTo>
                  <a:lnTo>
                    <a:pt x="1670" y="44"/>
                  </a:lnTo>
                  <a:lnTo>
                    <a:pt x="1626" y="44"/>
                  </a:lnTo>
                  <a:lnTo>
                    <a:pt x="1581" y="44"/>
                  </a:lnTo>
                  <a:lnTo>
                    <a:pt x="1560" y="44"/>
                  </a:lnTo>
                  <a:lnTo>
                    <a:pt x="1516" y="44"/>
                  </a:lnTo>
                  <a:lnTo>
                    <a:pt x="1472" y="44"/>
                  </a:lnTo>
                  <a:lnTo>
                    <a:pt x="1429" y="44"/>
                  </a:lnTo>
                  <a:lnTo>
                    <a:pt x="1385" y="44"/>
                  </a:lnTo>
                  <a:lnTo>
                    <a:pt x="1340" y="23"/>
                  </a:lnTo>
                  <a:lnTo>
                    <a:pt x="1297" y="23"/>
                  </a:lnTo>
                  <a:lnTo>
                    <a:pt x="1252" y="23"/>
                  </a:lnTo>
                  <a:lnTo>
                    <a:pt x="1208" y="23"/>
                  </a:lnTo>
                  <a:lnTo>
                    <a:pt x="1165" y="0"/>
                  </a:lnTo>
                  <a:lnTo>
                    <a:pt x="1121" y="0"/>
                  </a:lnTo>
                  <a:lnTo>
                    <a:pt x="1077" y="0"/>
                  </a:lnTo>
                  <a:lnTo>
                    <a:pt x="1032" y="0"/>
                  </a:lnTo>
                  <a:lnTo>
                    <a:pt x="988" y="0"/>
                  </a:lnTo>
                  <a:lnTo>
                    <a:pt x="967" y="0"/>
                  </a:lnTo>
                  <a:lnTo>
                    <a:pt x="922" y="0"/>
                  </a:lnTo>
                  <a:lnTo>
                    <a:pt x="879" y="0"/>
                  </a:lnTo>
                  <a:lnTo>
                    <a:pt x="813" y="0"/>
                  </a:lnTo>
                  <a:lnTo>
                    <a:pt x="768" y="23"/>
                  </a:lnTo>
                  <a:lnTo>
                    <a:pt x="724" y="68"/>
                  </a:lnTo>
                  <a:lnTo>
                    <a:pt x="682" y="89"/>
                  </a:lnTo>
                  <a:lnTo>
                    <a:pt x="659" y="132"/>
                  </a:lnTo>
                  <a:lnTo>
                    <a:pt x="615" y="177"/>
                  </a:lnTo>
                  <a:lnTo>
                    <a:pt x="593" y="220"/>
                  </a:lnTo>
                  <a:lnTo>
                    <a:pt x="549" y="264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486320" y="3714840"/>
              <a:ext cx="1522440" cy="538200"/>
            </a:xfrm>
            <a:custGeom>
              <a:avLst/>
              <a:gdLst/>
              <a:ahLst/>
              <a:rect l="l" t="t" r="r" b="b"/>
              <a:pathLst>
                <a:path w="4658" h="1649">
                  <a:moveTo>
                    <a:pt x="549" y="264"/>
                  </a:moveTo>
                  <a:lnTo>
                    <a:pt x="527" y="287"/>
                  </a:lnTo>
                  <a:lnTo>
                    <a:pt x="504" y="329"/>
                  </a:lnTo>
                  <a:lnTo>
                    <a:pt x="463" y="373"/>
                  </a:lnTo>
                  <a:lnTo>
                    <a:pt x="439" y="418"/>
                  </a:lnTo>
                  <a:lnTo>
                    <a:pt x="395" y="441"/>
                  </a:lnTo>
                  <a:lnTo>
                    <a:pt x="352" y="484"/>
                  </a:lnTo>
                  <a:lnTo>
                    <a:pt x="329" y="528"/>
                  </a:lnTo>
                  <a:lnTo>
                    <a:pt x="286" y="573"/>
                  </a:lnTo>
                  <a:lnTo>
                    <a:pt x="243" y="593"/>
                  </a:lnTo>
                  <a:lnTo>
                    <a:pt x="198" y="637"/>
                  </a:lnTo>
                  <a:lnTo>
                    <a:pt x="154" y="682"/>
                  </a:lnTo>
                  <a:lnTo>
                    <a:pt x="131" y="703"/>
                  </a:lnTo>
                  <a:lnTo>
                    <a:pt x="89" y="748"/>
                  </a:lnTo>
                  <a:lnTo>
                    <a:pt x="45" y="791"/>
                  </a:lnTo>
                  <a:lnTo>
                    <a:pt x="22" y="836"/>
                  </a:lnTo>
                  <a:lnTo>
                    <a:pt x="0" y="857"/>
                  </a:lnTo>
                  <a:lnTo>
                    <a:pt x="22" y="880"/>
                  </a:lnTo>
                  <a:lnTo>
                    <a:pt x="45" y="880"/>
                  </a:lnTo>
                  <a:lnTo>
                    <a:pt x="66" y="880"/>
                  </a:lnTo>
                  <a:lnTo>
                    <a:pt x="89" y="880"/>
                  </a:lnTo>
                  <a:lnTo>
                    <a:pt x="110" y="880"/>
                  </a:lnTo>
                  <a:lnTo>
                    <a:pt x="154" y="880"/>
                  </a:lnTo>
                  <a:lnTo>
                    <a:pt x="175" y="880"/>
                  </a:lnTo>
                  <a:lnTo>
                    <a:pt x="198" y="880"/>
                  </a:lnTo>
                  <a:lnTo>
                    <a:pt x="220" y="880"/>
                  </a:lnTo>
                  <a:lnTo>
                    <a:pt x="264" y="880"/>
                  </a:lnTo>
                  <a:lnTo>
                    <a:pt x="286" y="880"/>
                  </a:lnTo>
                  <a:lnTo>
                    <a:pt x="309" y="880"/>
                  </a:lnTo>
                  <a:lnTo>
                    <a:pt x="329" y="880"/>
                  </a:lnTo>
                  <a:lnTo>
                    <a:pt x="352" y="880"/>
                  </a:lnTo>
                  <a:lnTo>
                    <a:pt x="374" y="880"/>
                  </a:lnTo>
                  <a:lnTo>
                    <a:pt x="395" y="902"/>
                  </a:lnTo>
                  <a:lnTo>
                    <a:pt x="463" y="902"/>
                  </a:lnTo>
                  <a:lnTo>
                    <a:pt x="527" y="925"/>
                  </a:lnTo>
                  <a:lnTo>
                    <a:pt x="572" y="946"/>
                  </a:lnTo>
                  <a:lnTo>
                    <a:pt x="638" y="946"/>
                  </a:lnTo>
                  <a:lnTo>
                    <a:pt x="704" y="967"/>
                  </a:lnTo>
                  <a:lnTo>
                    <a:pt x="768" y="967"/>
                  </a:lnTo>
                  <a:lnTo>
                    <a:pt x="836" y="967"/>
                  </a:lnTo>
                  <a:lnTo>
                    <a:pt x="902" y="991"/>
                  </a:lnTo>
                  <a:lnTo>
                    <a:pt x="967" y="991"/>
                  </a:lnTo>
                  <a:lnTo>
                    <a:pt x="1032" y="1011"/>
                  </a:lnTo>
                  <a:lnTo>
                    <a:pt x="1097" y="1011"/>
                  </a:lnTo>
                  <a:lnTo>
                    <a:pt x="1165" y="1035"/>
                  </a:lnTo>
                  <a:lnTo>
                    <a:pt x="1208" y="1035"/>
                  </a:lnTo>
                  <a:lnTo>
                    <a:pt x="1275" y="1055"/>
                  </a:lnTo>
                  <a:lnTo>
                    <a:pt x="1340" y="1077"/>
                  </a:lnTo>
                  <a:lnTo>
                    <a:pt x="1385" y="1100"/>
                  </a:lnTo>
                  <a:lnTo>
                    <a:pt x="1450" y="1121"/>
                  </a:lnTo>
                  <a:lnTo>
                    <a:pt x="1516" y="1144"/>
                  </a:lnTo>
                  <a:lnTo>
                    <a:pt x="1604" y="1144"/>
                  </a:lnTo>
                  <a:lnTo>
                    <a:pt x="1670" y="1166"/>
                  </a:lnTo>
                  <a:lnTo>
                    <a:pt x="1759" y="1166"/>
                  </a:lnTo>
                  <a:lnTo>
                    <a:pt x="1824" y="1187"/>
                  </a:lnTo>
                  <a:lnTo>
                    <a:pt x="1913" y="1187"/>
                  </a:lnTo>
                  <a:lnTo>
                    <a:pt x="1978" y="1187"/>
                  </a:lnTo>
                  <a:lnTo>
                    <a:pt x="2065" y="1187"/>
                  </a:lnTo>
                  <a:lnTo>
                    <a:pt x="2132" y="1210"/>
                  </a:lnTo>
                  <a:lnTo>
                    <a:pt x="2219" y="1210"/>
                  </a:lnTo>
                  <a:lnTo>
                    <a:pt x="2286" y="1210"/>
                  </a:lnTo>
                  <a:lnTo>
                    <a:pt x="2372" y="1230"/>
                  </a:lnTo>
                  <a:lnTo>
                    <a:pt x="2438" y="1230"/>
                  </a:lnTo>
                  <a:lnTo>
                    <a:pt x="2506" y="1255"/>
                  </a:lnTo>
                  <a:lnTo>
                    <a:pt x="2572" y="1275"/>
                  </a:lnTo>
                  <a:lnTo>
                    <a:pt x="2615" y="1275"/>
                  </a:lnTo>
                  <a:lnTo>
                    <a:pt x="2636" y="1275"/>
                  </a:lnTo>
                  <a:lnTo>
                    <a:pt x="2658" y="1296"/>
                  </a:lnTo>
                  <a:lnTo>
                    <a:pt x="2681" y="1296"/>
                  </a:lnTo>
                  <a:lnTo>
                    <a:pt x="2725" y="1296"/>
                  </a:lnTo>
                  <a:lnTo>
                    <a:pt x="2747" y="1296"/>
                  </a:lnTo>
                  <a:lnTo>
                    <a:pt x="2790" y="1296"/>
                  </a:lnTo>
                  <a:lnTo>
                    <a:pt x="2812" y="1319"/>
                  </a:lnTo>
                  <a:lnTo>
                    <a:pt x="2856" y="1319"/>
                  </a:lnTo>
                  <a:lnTo>
                    <a:pt x="2879" y="1319"/>
                  </a:lnTo>
                  <a:lnTo>
                    <a:pt x="2922" y="1319"/>
                  </a:lnTo>
                  <a:lnTo>
                    <a:pt x="2945" y="1319"/>
                  </a:lnTo>
                  <a:lnTo>
                    <a:pt x="2990" y="1341"/>
                  </a:lnTo>
                  <a:lnTo>
                    <a:pt x="3010" y="1341"/>
                  </a:lnTo>
                  <a:lnTo>
                    <a:pt x="3054" y="1341"/>
                  </a:lnTo>
                  <a:lnTo>
                    <a:pt x="3076" y="1364"/>
                  </a:lnTo>
                  <a:lnTo>
                    <a:pt x="3846" y="1584"/>
                  </a:lnTo>
                  <a:lnTo>
                    <a:pt x="3867" y="1584"/>
                  </a:lnTo>
                  <a:lnTo>
                    <a:pt x="3867" y="1605"/>
                  </a:lnTo>
                  <a:lnTo>
                    <a:pt x="3888" y="1605"/>
                  </a:lnTo>
                  <a:lnTo>
                    <a:pt x="3912" y="1605"/>
                  </a:lnTo>
                  <a:lnTo>
                    <a:pt x="3956" y="1605"/>
                  </a:lnTo>
                  <a:lnTo>
                    <a:pt x="3977" y="1628"/>
                  </a:lnTo>
                  <a:lnTo>
                    <a:pt x="3998" y="1628"/>
                  </a:lnTo>
                  <a:lnTo>
                    <a:pt x="4042" y="1628"/>
                  </a:lnTo>
                  <a:lnTo>
                    <a:pt x="4065" y="1649"/>
                  </a:lnTo>
                  <a:lnTo>
                    <a:pt x="4108" y="1649"/>
                  </a:lnTo>
                  <a:lnTo>
                    <a:pt x="4131" y="1649"/>
                  </a:lnTo>
                  <a:lnTo>
                    <a:pt x="4152" y="1649"/>
                  </a:lnTo>
                  <a:lnTo>
                    <a:pt x="4176" y="1649"/>
                  </a:lnTo>
                  <a:lnTo>
                    <a:pt x="4197" y="1649"/>
                  </a:lnTo>
                  <a:lnTo>
                    <a:pt x="4220" y="1649"/>
                  </a:lnTo>
                  <a:lnTo>
                    <a:pt x="4240" y="1584"/>
                  </a:lnTo>
                  <a:lnTo>
                    <a:pt x="4262" y="1539"/>
                  </a:lnTo>
                  <a:lnTo>
                    <a:pt x="4285" y="1473"/>
                  </a:lnTo>
                  <a:lnTo>
                    <a:pt x="4306" y="1408"/>
                  </a:lnTo>
                  <a:lnTo>
                    <a:pt x="4329" y="1341"/>
                  </a:lnTo>
                  <a:lnTo>
                    <a:pt x="4351" y="1275"/>
                  </a:lnTo>
                  <a:lnTo>
                    <a:pt x="4351" y="1230"/>
                  </a:lnTo>
                  <a:lnTo>
                    <a:pt x="4372" y="1187"/>
                  </a:lnTo>
                  <a:lnTo>
                    <a:pt x="4417" y="1121"/>
                  </a:lnTo>
                  <a:lnTo>
                    <a:pt x="4460" y="1055"/>
                  </a:lnTo>
                  <a:lnTo>
                    <a:pt x="4505" y="991"/>
                  </a:lnTo>
                  <a:lnTo>
                    <a:pt x="4549" y="902"/>
                  </a:lnTo>
                  <a:lnTo>
                    <a:pt x="4592" y="836"/>
                  </a:lnTo>
                  <a:lnTo>
                    <a:pt x="4615" y="771"/>
                  </a:lnTo>
                  <a:lnTo>
                    <a:pt x="4658" y="703"/>
                  </a:lnTo>
                  <a:lnTo>
                    <a:pt x="4658" y="637"/>
                  </a:lnTo>
                  <a:lnTo>
                    <a:pt x="4658" y="616"/>
                  </a:lnTo>
                  <a:lnTo>
                    <a:pt x="4635" y="616"/>
                  </a:lnTo>
                  <a:lnTo>
                    <a:pt x="4615" y="616"/>
                  </a:lnTo>
                  <a:lnTo>
                    <a:pt x="4592" y="593"/>
                  </a:lnTo>
                  <a:lnTo>
                    <a:pt x="4570" y="593"/>
                  </a:lnTo>
                  <a:lnTo>
                    <a:pt x="4549" y="593"/>
                  </a:lnTo>
                  <a:lnTo>
                    <a:pt x="4526" y="593"/>
                  </a:lnTo>
                  <a:lnTo>
                    <a:pt x="4505" y="593"/>
                  </a:lnTo>
                  <a:lnTo>
                    <a:pt x="4460" y="573"/>
                  </a:lnTo>
                  <a:lnTo>
                    <a:pt x="4417" y="551"/>
                  </a:lnTo>
                  <a:lnTo>
                    <a:pt x="4351" y="551"/>
                  </a:lnTo>
                  <a:lnTo>
                    <a:pt x="4306" y="551"/>
                  </a:lnTo>
                  <a:lnTo>
                    <a:pt x="4262" y="528"/>
                  </a:lnTo>
                  <a:lnTo>
                    <a:pt x="4220" y="528"/>
                  </a:lnTo>
                  <a:lnTo>
                    <a:pt x="4176" y="528"/>
                  </a:lnTo>
                  <a:lnTo>
                    <a:pt x="4108" y="507"/>
                  </a:lnTo>
                  <a:lnTo>
                    <a:pt x="4065" y="507"/>
                  </a:lnTo>
                  <a:lnTo>
                    <a:pt x="4022" y="507"/>
                  </a:lnTo>
                  <a:lnTo>
                    <a:pt x="3977" y="484"/>
                  </a:lnTo>
                  <a:lnTo>
                    <a:pt x="3912" y="484"/>
                  </a:lnTo>
                  <a:lnTo>
                    <a:pt x="3867" y="484"/>
                  </a:lnTo>
                  <a:lnTo>
                    <a:pt x="3823" y="484"/>
                  </a:lnTo>
                  <a:lnTo>
                    <a:pt x="3758" y="484"/>
                  </a:lnTo>
                  <a:lnTo>
                    <a:pt x="3713" y="462"/>
                  </a:lnTo>
                  <a:lnTo>
                    <a:pt x="3669" y="462"/>
                  </a:lnTo>
                  <a:lnTo>
                    <a:pt x="3603" y="462"/>
                  </a:lnTo>
                  <a:lnTo>
                    <a:pt x="3559" y="462"/>
                  </a:lnTo>
                  <a:lnTo>
                    <a:pt x="3515" y="441"/>
                  </a:lnTo>
                  <a:lnTo>
                    <a:pt x="3472" y="441"/>
                  </a:lnTo>
                  <a:lnTo>
                    <a:pt x="3405" y="441"/>
                  </a:lnTo>
                  <a:lnTo>
                    <a:pt x="3363" y="418"/>
                  </a:lnTo>
                  <a:lnTo>
                    <a:pt x="3318" y="418"/>
                  </a:lnTo>
                  <a:lnTo>
                    <a:pt x="3274" y="418"/>
                  </a:lnTo>
                  <a:lnTo>
                    <a:pt x="3208" y="396"/>
                  </a:lnTo>
                  <a:lnTo>
                    <a:pt x="3165" y="396"/>
                  </a:lnTo>
                  <a:lnTo>
                    <a:pt x="3120" y="396"/>
                  </a:lnTo>
                  <a:lnTo>
                    <a:pt x="3076" y="373"/>
                  </a:lnTo>
                  <a:lnTo>
                    <a:pt x="3031" y="373"/>
                  </a:lnTo>
                  <a:lnTo>
                    <a:pt x="2990" y="353"/>
                  </a:lnTo>
                  <a:lnTo>
                    <a:pt x="2945" y="329"/>
                  </a:lnTo>
                  <a:lnTo>
                    <a:pt x="2901" y="329"/>
                  </a:lnTo>
                  <a:lnTo>
                    <a:pt x="2856" y="309"/>
                  </a:lnTo>
                  <a:lnTo>
                    <a:pt x="2812" y="309"/>
                  </a:lnTo>
                  <a:lnTo>
                    <a:pt x="2770" y="287"/>
                  </a:lnTo>
                  <a:lnTo>
                    <a:pt x="2725" y="264"/>
                  </a:lnTo>
                  <a:lnTo>
                    <a:pt x="2658" y="264"/>
                  </a:lnTo>
                  <a:lnTo>
                    <a:pt x="2615" y="243"/>
                  </a:lnTo>
                  <a:lnTo>
                    <a:pt x="2572" y="243"/>
                  </a:lnTo>
                  <a:lnTo>
                    <a:pt x="2527" y="220"/>
                  </a:lnTo>
                  <a:lnTo>
                    <a:pt x="2461" y="220"/>
                  </a:lnTo>
                  <a:lnTo>
                    <a:pt x="2417" y="198"/>
                  </a:lnTo>
                  <a:lnTo>
                    <a:pt x="2372" y="198"/>
                  </a:lnTo>
                  <a:lnTo>
                    <a:pt x="2329" y="177"/>
                  </a:lnTo>
                  <a:lnTo>
                    <a:pt x="2286" y="177"/>
                  </a:lnTo>
                  <a:lnTo>
                    <a:pt x="2219" y="154"/>
                  </a:lnTo>
                  <a:lnTo>
                    <a:pt x="2174" y="154"/>
                  </a:lnTo>
                  <a:lnTo>
                    <a:pt x="2154" y="132"/>
                  </a:lnTo>
                  <a:lnTo>
                    <a:pt x="2109" y="132"/>
                  </a:lnTo>
                  <a:lnTo>
                    <a:pt x="2088" y="132"/>
                  </a:lnTo>
                  <a:lnTo>
                    <a:pt x="2043" y="109"/>
                  </a:lnTo>
                  <a:lnTo>
                    <a:pt x="1999" y="109"/>
                  </a:lnTo>
                  <a:lnTo>
                    <a:pt x="1954" y="89"/>
                  </a:lnTo>
                  <a:lnTo>
                    <a:pt x="1913" y="89"/>
                  </a:lnTo>
                  <a:lnTo>
                    <a:pt x="1868" y="89"/>
                  </a:lnTo>
                  <a:lnTo>
                    <a:pt x="1824" y="68"/>
                  </a:lnTo>
                  <a:lnTo>
                    <a:pt x="1779" y="68"/>
                  </a:lnTo>
                  <a:lnTo>
                    <a:pt x="1759" y="68"/>
                  </a:lnTo>
                  <a:lnTo>
                    <a:pt x="1715" y="68"/>
                  </a:lnTo>
                  <a:lnTo>
                    <a:pt x="1670" y="44"/>
                  </a:lnTo>
                  <a:lnTo>
                    <a:pt x="1626" y="44"/>
                  </a:lnTo>
                  <a:lnTo>
                    <a:pt x="1581" y="44"/>
                  </a:lnTo>
                  <a:lnTo>
                    <a:pt x="1560" y="44"/>
                  </a:lnTo>
                  <a:lnTo>
                    <a:pt x="1516" y="44"/>
                  </a:lnTo>
                  <a:lnTo>
                    <a:pt x="1472" y="44"/>
                  </a:lnTo>
                  <a:lnTo>
                    <a:pt x="1429" y="44"/>
                  </a:lnTo>
                  <a:lnTo>
                    <a:pt x="1385" y="44"/>
                  </a:lnTo>
                  <a:lnTo>
                    <a:pt x="1340" y="23"/>
                  </a:lnTo>
                  <a:lnTo>
                    <a:pt x="1297" y="23"/>
                  </a:lnTo>
                  <a:lnTo>
                    <a:pt x="1252" y="23"/>
                  </a:lnTo>
                  <a:lnTo>
                    <a:pt x="1208" y="23"/>
                  </a:lnTo>
                  <a:lnTo>
                    <a:pt x="1165" y="0"/>
                  </a:lnTo>
                  <a:lnTo>
                    <a:pt x="1121" y="0"/>
                  </a:lnTo>
                  <a:lnTo>
                    <a:pt x="1077" y="0"/>
                  </a:lnTo>
                  <a:lnTo>
                    <a:pt x="1032" y="0"/>
                  </a:lnTo>
                  <a:lnTo>
                    <a:pt x="988" y="0"/>
                  </a:lnTo>
                  <a:lnTo>
                    <a:pt x="967" y="0"/>
                  </a:lnTo>
                  <a:lnTo>
                    <a:pt x="922" y="0"/>
                  </a:lnTo>
                  <a:lnTo>
                    <a:pt x="879" y="0"/>
                  </a:lnTo>
                  <a:lnTo>
                    <a:pt x="813" y="0"/>
                  </a:lnTo>
                  <a:lnTo>
                    <a:pt x="768" y="23"/>
                  </a:lnTo>
                  <a:lnTo>
                    <a:pt x="724" y="68"/>
                  </a:lnTo>
                  <a:lnTo>
                    <a:pt x="682" y="89"/>
                  </a:lnTo>
                  <a:lnTo>
                    <a:pt x="659" y="132"/>
                  </a:lnTo>
                  <a:lnTo>
                    <a:pt x="615" y="177"/>
                  </a:lnTo>
                  <a:lnTo>
                    <a:pt x="593" y="220"/>
                  </a:lnTo>
                  <a:lnTo>
                    <a:pt x="549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753080" y="3765600"/>
              <a:ext cx="1003320" cy="344520"/>
            </a:xfrm>
            <a:custGeom>
              <a:avLst/>
              <a:gdLst/>
              <a:ahLst/>
              <a:rect l="l" t="t" r="r" b="b"/>
              <a:pathLst>
                <a:path w="3075" h="1056">
                  <a:moveTo>
                    <a:pt x="747" y="23"/>
                  </a:moveTo>
                  <a:lnTo>
                    <a:pt x="813" y="44"/>
                  </a:lnTo>
                  <a:lnTo>
                    <a:pt x="857" y="44"/>
                  </a:lnTo>
                  <a:lnTo>
                    <a:pt x="922" y="66"/>
                  </a:lnTo>
                  <a:lnTo>
                    <a:pt x="989" y="66"/>
                  </a:lnTo>
                  <a:lnTo>
                    <a:pt x="1055" y="89"/>
                  </a:lnTo>
                  <a:lnTo>
                    <a:pt x="1121" y="89"/>
                  </a:lnTo>
                  <a:lnTo>
                    <a:pt x="1186" y="110"/>
                  </a:lnTo>
                  <a:lnTo>
                    <a:pt x="1252" y="110"/>
                  </a:lnTo>
                  <a:lnTo>
                    <a:pt x="1296" y="133"/>
                  </a:lnTo>
                  <a:lnTo>
                    <a:pt x="1361" y="133"/>
                  </a:lnTo>
                  <a:lnTo>
                    <a:pt x="1429" y="155"/>
                  </a:lnTo>
                  <a:lnTo>
                    <a:pt x="1495" y="155"/>
                  </a:lnTo>
                  <a:lnTo>
                    <a:pt x="1559" y="175"/>
                  </a:lnTo>
                  <a:lnTo>
                    <a:pt x="1625" y="175"/>
                  </a:lnTo>
                  <a:lnTo>
                    <a:pt x="1693" y="199"/>
                  </a:lnTo>
                  <a:lnTo>
                    <a:pt x="1759" y="219"/>
                  </a:lnTo>
                  <a:lnTo>
                    <a:pt x="1802" y="219"/>
                  </a:lnTo>
                  <a:lnTo>
                    <a:pt x="1868" y="242"/>
                  </a:lnTo>
                  <a:lnTo>
                    <a:pt x="1934" y="242"/>
                  </a:lnTo>
                  <a:lnTo>
                    <a:pt x="1999" y="264"/>
                  </a:lnTo>
                  <a:lnTo>
                    <a:pt x="2066" y="264"/>
                  </a:lnTo>
                  <a:lnTo>
                    <a:pt x="2132" y="287"/>
                  </a:lnTo>
                  <a:lnTo>
                    <a:pt x="2197" y="287"/>
                  </a:lnTo>
                  <a:lnTo>
                    <a:pt x="2263" y="308"/>
                  </a:lnTo>
                  <a:lnTo>
                    <a:pt x="2329" y="308"/>
                  </a:lnTo>
                  <a:lnTo>
                    <a:pt x="2372" y="330"/>
                  </a:lnTo>
                  <a:lnTo>
                    <a:pt x="2440" y="330"/>
                  </a:lnTo>
                  <a:lnTo>
                    <a:pt x="2505" y="353"/>
                  </a:lnTo>
                  <a:lnTo>
                    <a:pt x="2571" y="353"/>
                  </a:lnTo>
                  <a:lnTo>
                    <a:pt x="2636" y="374"/>
                  </a:lnTo>
                  <a:lnTo>
                    <a:pt x="2702" y="374"/>
                  </a:lnTo>
                  <a:lnTo>
                    <a:pt x="2770" y="397"/>
                  </a:lnTo>
                  <a:lnTo>
                    <a:pt x="2811" y="397"/>
                  </a:lnTo>
                  <a:lnTo>
                    <a:pt x="2834" y="419"/>
                  </a:lnTo>
                  <a:lnTo>
                    <a:pt x="2879" y="439"/>
                  </a:lnTo>
                  <a:lnTo>
                    <a:pt x="2900" y="439"/>
                  </a:lnTo>
                  <a:lnTo>
                    <a:pt x="2945" y="462"/>
                  </a:lnTo>
                  <a:lnTo>
                    <a:pt x="2966" y="483"/>
                  </a:lnTo>
                  <a:lnTo>
                    <a:pt x="2989" y="507"/>
                  </a:lnTo>
                  <a:lnTo>
                    <a:pt x="3010" y="507"/>
                  </a:lnTo>
                  <a:lnTo>
                    <a:pt x="3033" y="528"/>
                  </a:lnTo>
                  <a:lnTo>
                    <a:pt x="3054" y="549"/>
                  </a:lnTo>
                  <a:lnTo>
                    <a:pt x="3054" y="572"/>
                  </a:lnTo>
                  <a:lnTo>
                    <a:pt x="3054" y="594"/>
                  </a:lnTo>
                  <a:lnTo>
                    <a:pt x="3075" y="617"/>
                  </a:lnTo>
                  <a:lnTo>
                    <a:pt x="3054" y="637"/>
                  </a:lnTo>
                  <a:lnTo>
                    <a:pt x="3054" y="659"/>
                  </a:lnTo>
                  <a:lnTo>
                    <a:pt x="3054" y="703"/>
                  </a:lnTo>
                  <a:lnTo>
                    <a:pt x="3054" y="726"/>
                  </a:lnTo>
                  <a:lnTo>
                    <a:pt x="3033" y="726"/>
                  </a:lnTo>
                  <a:lnTo>
                    <a:pt x="3033" y="748"/>
                  </a:lnTo>
                  <a:lnTo>
                    <a:pt x="3010" y="771"/>
                  </a:lnTo>
                  <a:lnTo>
                    <a:pt x="3010" y="792"/>
                  </a:lnTo>
                  <a:lnTo>
                    <a:pt x="2989" y="813"/>
                  </a:lnTo>
                  <a:lnTo>
                    <a:pt x="2989" y="837"/>
                  </a:lnTo>
                  <a:lnTo>
                    <a:pt x="2966" y="857"/>
                  </a:lnTo>
                  <a:lnTo>
                    <a:pt x="2966" y="901"/>
                  </a:lnTo>
                  <a:lnTo>
                    <a:pt x="2945" y="923"/>
                  </a:lnTo>
                  <a:lnTo>
                    <a:pt x="2923" y="946"/>
                  </a:lnTo>
                  <a:lnTo>
                    <a:pt x="2900" y="946"/>
                  </a:lnTo>
                  <a:lnTo>
                    <a:pt x="2879" y="967"/>
                  </a:lnTo>
                  <a:lnTo>
                    <a:pt x="2834" y="990"/>
                  </a:lnTo>
                  <a:lnTo>
                    <a:pt x="2811" y="1012"/>
                  </a:lnTo>
                  <a:lnTo>
                    <a:pt x="2770" y="1012"/>
                  </a:lnTo>
                  <a:lnTo>
                    <a:pt x="2746" y="1033"/>
                  </a:lnTo>
                  <a:lnTo>
                    <a:pt x="2702" y="1033"/>
                  </a:lnTo>
                  <a:lnTo>
                    <a:pt x="2659" y="1033"/>
                  </a:lnTo>
                  <a:lnTo>
                    <a:pt x="2615" y="1056"/>
                  </a:lnTo>
                  <a:lnTo>
                    <a:pt x="2571" y="1056"/>
                  </a:lnTo>
                  <a:lnTo>
                    <a:pt x="2527" y="1056"/>
                  </a:lnTo>
                  <a:lnTo>
                    <a:pt x="2482" y="1033"/>
                  </a:lnTo>
                  <a:lnTo>
                    <a:pt x="2440" y="1033"/>
                  </a:lnTo>
                  <a:lnTo>
                    <a:pt x="2372" y="1033"/>
                  </a:lnTo>
                  <a:lnTo>
                    <a:pt x="2307" y="1012"/>
                  </a:lnTo>
                  <a:lnTo>
                    <a:pt x="2241" y="990"/>
                  </a:lnTo>
                  <a:lnTo>
                    <a:pt x="2177" y="990"/>
                  </a:lnTo>
                  <a:lnTo>
                    <a:pt x="2109" y="967"/>
                  </a:lnTo>
                  <a:lnTo>
                    <a:pt x="2022" y="967"/>
                  </a:lnTo>
                  <a:lnTo>
                    <a:pt x="1957" y="946"/>
                  </a:lnTo>
                  <a:lnTo>
                    <a:pt x="1889" y="923"/>
                  </a:lnTo>
                  <a:lnTo>
                    <a:pt x="1823" y="923"/>
                  </a:lnTo>
                  <a:lnTo>
                    <a:pt x="1759" y="901"/>
                  </a:lnTo>
                  <a:lnTo>
                    <a:pt x="1693" y="901"/>
                  </a:lnTo>
                  <a:lnTo>
                    <a:pt x="1604" y="881"/>
                  </a:lnTo>
                  <a:lnTo>
                    <a:pt x="1539" y="857"/>
                  </a:lnTo>
                  <a:lnTo>
                    <a:pt x="1473" y="857"/>
                  </a:lnTo>
                  <a:lnTo>
                    <a:pt x="1406" y="837"/>
                  </a:lnTo>
                  <a:lnTo>
                    <a:pt x="1341" y="837"/>
                  </a:lnTo>
                  <a:lnTo>
                    <a:pt x="1275" y="813"/>
                  </a:lnTo>
                  <a:lnTo>
                    <a:pt x="1209" y="813"/>
                  </a:lnTo>
                  <a:lnTo>
                    <a:pt x="1141" y="792"/>
                  </a:lnTo>
                  <a:lnTo>
                    <a:pt x="1077" y="771"/>
                  </a:lnTo>
                  <a:lnTo>
                    <a:pt x="989" y="771"/>
                  </a:lnTo>
                  <a:lnTo>
                    <a:pt x="922" y="748"/>
                  </a:lnTo>
                  <a:lnTo>
                    <a:pt x="857" y="748"/>
                  </a:lnTo>
                  <a:lnTo>
                    <a:pt x="791" y="726"/>
                  </a:lnTo>
                  <a:lnTo>
                    <a:pt x="726" y="703"/>
                  </a:lnTo>
                  <a:lnTo>
                    <a:pt x="659" y="703"/>
                  </a:lnTo>
                  <a:lnTo>
                    <a:pt x="593" y="682"/>
                  </a:lnTo>
                  <a:lnTo>
                    <a:pt x="527" y="682"/>
                  </a:lnTo>
                  <a:lnTo>
                    <a:pt x="462" y="659"/>
                  </a:lnTo>
                  <a:lnTo>
                    <a:pt x="395" y="637"/>
                  </a:lnTo>
                  <a:lnTo>
                    <a:pt x="308" y="637"/>
                  </a:lnTo>
                  <a:lnTo>
                    <a:pt x="243" y="617"/>
                  </a:lnTo>
                  <a:lnTo>
                    <a:pt x="198" y="617"/>
                  </a:lnTo>
                  <a:lnTo>
                    <a:pt x="175" y="594"/>
                  </a:lnTo>
                  <a:lnTo>
                    <a:pt x="132" y="594"/>
                  </a:lnTo>
                  <a:lnTo>
                    <a:pt x="109" y="572"/>
                  </a:lnTo>
                  <a:lnTo>
                    <a:pt x="66" y="549"/>
                  </a:lnTo>
                  <a:lnTo>
                    <a:pt x="44" y="549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0" y="462"/>
                  </a:lnTo>
                  <a:lnTo>
                    <a:pt x="0" y="419"/>
                  </a:lnTo>
                  <a:lnTo>
                    <a:pt x="23" y="374"/>
                  </a:lnTo>
                  <a:lnTo>
                    <a:pt x="44" y="330"/>
                  </a:lnTo>
                  <a:lnTo>
                    <a:pt x="44" y="308"/>
                  </a:lnTo>
                  <a:lnTo>
                    <a:pt x="66" y="308"/>
                  </a:lnTo>
                  <a:lnTo>
                    <a:pt x="66" y="287"/>
                  </a:lnTo>
                  <a:lnTo>
                    <a:pt x="89" y="287"/>
                  </a:lnTo>
                  <a:lnTo>
                    <a:pt x="89" y="264"/>
                  </a:lnTo>
                  <a:lnTo>
                    <a:pt x="109" y="242"/>
                  </a:lnTo>
                  <a:lnTo>
                    <a:pt x="132" y="219"/>
                  </a:lnTo>
                  <a:lnTo>
                    <a:pt x="132" y="199"/>
                  </a:lnTo>
                  <a:lnTo>
                    <a:pt x="154" y="199"/>
                  </a:lnTo>
                  <a:lnTo>
                    <a:pt x="175" y="175"/>
                  </a:lnTo>
                  <a:lnTo>
                    <a:pt x="175" y="155"/>
                  </a:lnTo>
                  <a:lnTo>
                    <a:pt x="198" y="133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4" y="89"/>
                  </a:lnTo>
                  <a:lnTo>
                    <a:pt x="308" y="66"/>
                  </a:lnTo>
                  <a:lnTo>
                    <a:pt x="352" y="44"/>
                  </a:lnTo>
                  <a:lnTo>
                    <a:pt x="395" y="44"/>
                  </a:lnTo>
                  <a:lnTo>
                    <a:pt x="418" y="44"/>
                  </a:lnTo>
                  <a:lnTo>
                    <a:pt x="462" y="23"/>
                  </a:lnTo>
                  <a:lnTo>
                    <a:pt x="507" y="23"/>
                  </a:lnTo>
                  <a:lnTo>
                    <a:pt x="548" y="23"/>
                  </a:lnTo>
                  <a:lnTo>
                    <a:pt x="572" y="23"/>
                  </a:lnTo>
                  <a:lnTo>
                    <a:pt x="616" y="0"/>
                  </a:lnTo>
                  <a:lnTo>
                    <a:pt x="659" y="23"/>
                  </a:lnTo>
                  <a:lnTo>
                    <a:pt x="703" y="23"/>
                  </a:lnTo>
                  <a:lnTo>
                    <a:pt x="747" y="23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753080" y="3765600"/>
              <a:ext cx="1003320" cy="344520"/>
            </a:xfrm>
            <a:custGeom>
              <a:avLst/>
              <a:gdLst/>
              <a:ahLst/>
              <a:rect l="l" t="t" r="r" b="b"/>
              <a:pathLst>
                <a:path w="3075" h="1056">
                  <a:moveTo>
                    <a:pt x="747" y="23"/>
                  </a:moveTo>
                  <a:lnTo>
                    <a:pt x="813" y="44"/>
                  </a:lnTo>
                  <a:lnTo>
                    <a:pt x="857" y="44"/>
                  </a:lnTo>
                  <a:lnTo>
                    <a:pt x="922" y="66"/>
                  </a:lnTo>
                  <a:lnTo>
                    <a:pt x="989" y="66"/>
                  </a:lnTo>
                  <a:lnTo>
                    <a:pt x="1055" y="89"/>
                  </a:lnTo>
                  <a:lnTo>
                    <a:pt x="1121" y="89"/>
                  </a:lnTo>
                  <a:lnTo>
                    <a:pt x="1186" y="110"/>
                  </a:lnTo>
                  <a:lnTo>
                    <a:pt x="1252" y="110"/>
                  </a:lnTo>
                  <a:lnTo>
                    <a:pt x="1296" y="133"/>
                  </a:lnTo>
                  <a:lnTo>
                    <a:pt x="1361" y="133"/>
                  </a:lnTo>
                  <a:lnTo>
                    <a:pt x="1429" y="155"/>
                  </a:lnTo>
                  <a:lnTo>
                    <a:pt x="1495" y="155"/>
                  </a:lnTo>
                  <a:lnTo>
                    <a:pt x="1559" y="175"/>
                  </a:lnTo>
                  <a:lnTo>
                    <a:pt x="1625" y="175"/>
                  </a:lnTo>
                  <a:lnTo>
                    <a:pt x="1693" y="199"/>
                  </a:lnTo>
                  <a:lnTo>
                    <a:pt x="1759" y="219"/>
                  </a:lnTo>
                  <a:lnTo>
                    <a:pt x="1802" y="219"/>
                  </a:lnTo>
                  <a:lnTo>
                    <a:pt x="1868" y="242"/>
                  </a:lnTo>
                  <a:lnTo>
                    <a:pt x="1934" y="242"/>
                  </a:lnTo>
                  <a:lnTo>
                    <a:pt x="1999" y="264"/>
                  </a:lnTo>
                  <a:lnTo>
                    <a:pt x="2066" y="264"/>
                  </a:lnTo>
                  <a:lnTo>
                    <a:pt x="2132" y="287"/>
                  </a:lnTo>
                  <a:lnTo>
                    <a:pt x="2197" y="287"/>
                  </a:lnTo>
                  <a:lnTo>
                    <a:pt x="2263" y="308"/>
                  </a:lnTo>
                  <a:lnTo>
                    <a:pt x="2329" y="308"/>
                  </a:lnTo>
                  <a:lnTo>
                    <a:pt x="2372" y="330"/>
                  </a:lnTo>
                  <a:lnTo>
                    <a:pt x="2440" y="330"/>
                  </a:lnTo>
                  <a:lnTo>
                    <a:pt x="2505" y="353"/>
                  </a:lnTo>
                  <a:lnTo>
                    <a:pt x="2571" y="353"/>
                  </a:lnTo>
                  <a:lnTo>
                    <a:pt x="2636" y="374"/>
                  </a:lnTo>
                  <a:lnTo>
                    <a:pt x="2702" y="374"/>
                  </a:lnTo>
                  <a:lnTo>
                    <a:pt x="2770" y="397"/>
                  </a:lnTo>
                  <a:lnTo>
                    <a:pt x="2811" y="397"/>
                  </a:lnTo>
                  <a:lnTo>
                    <a:pt x="2834" y="419"/>
                  </a:lnTo>
                  <a:lnTo>
                    <a:pt x="2879" y="439"/>
                  </a:lnTo>
                  <a:lnTo>
                    <a:pt x="2900" y="439"/>
                  </a:lnTo>
                  <a:lnTo>
                    <a:pt x="2945" y="462"/>
                  </a:lnTo>
                  <a:lnTo>
                    <a:pt x="2966" y="483"/>
                  </a:lnTo>
                  <a:lnTo>
                    <a:pt x="2989" y="507"/>
                  </a:lnTo>
                  <a:lnTo>
                    <a:pt x="3010" y="507"/>
                  </a:lnTo>
                  <a:lnTo>
                    <a:pt x="3033" y="528"/>
                  </a:lnTo>
                  <a:lnTo>
                    <a:pt x="3054" y="549"/>
                  </a:lnTo>
                  <a:lnTo>
                    <a:pt x="3054" y="572"/>
                  </a:lnTo>
                  <a:lnTo>
                    <a:pt x="3054" y="594"/>
                  </a:lnTo>
                  <a:lnTo>
                    <a:pt x="3075" y="617"/>
                  </a:lnTo>
                  <a:lnTo>
                    <a:pt x="3054" y="637"/>
                  </a:lnTo>
                  <a:lnTo>
                    <a:pt x="3054" y="659"/>
                  </a:lnTo>
                  <a:lnTo>
                    <a:pt x="3054" y="703"/>
                  </a:lnTo>
                  <a:lnTo>
                    <a:pt x="3054" y="726"/>
                  </a:lnTo>
                  <a:lnTo>
                    <a:pt x="3033" y="726"/>
                  </a:lnTo>
                  <a:lnTo>
                    <a:pt x="3033" y="748"/>
                  </a:lnTo>
                  <a:lnTo>
                    <a:pt x="3010" y="771"/>
                  </a:lnTo>
                  <a:lnTo>
                    <a:pt x="3010" y="792"/>
                  </a:lnTo>
                  <a:lnTo>
                    <a:pt x="2989" y="813"/>
                  </a:lnTo>
                  <a:lnTo>
                    <a:pt x="2989" y="837"/>
                  </a:lnTo>
                  <a:lnTo>
                    <a:pt x="2966" y="857"/>
                  </a:lnTo>
                  <a:lnTo>
                    <a:pt x="2966" y="901"/>
                  </a:lnTo>
                  <a:lnTo>
                    <a:pt x="2945" y="923"/>
                  </a:lnTo>
                  <a:lnTo>
                    <a:pt x="2923" y="946"/>
                  </a:lnTo>
                  <a:lnTo>
                    <a:pt x="2900" y="946"/>
                  </a:lnTo>
                  <a:lnTo>
                    <a:pt x="2879" y="967"/>
                  </a:lnTo>
                  <a:lnTo>
                    <a:pt x="2834" y="990"/>
                  </a:lnTo>
                  <a:lnTo>
                    <a:pt x="2811" y="1012"/>
                  </a:lnTo>
                  <a:lnTo>
                    <a:pt x="2770" y="1012"/>
                  </a:lnTo>
                  <a:lnTo>
                    <a:pt x="2746" y="1033"/>
                  </a:lnTo>
                  <a:lnTo>
                    <a:pt x="2702" y="1033"/>
                  </a:lnTo>
                  <a:lnTo>
                    <a:pt x="2659" y="1033"/>
                  </a:lnTo>
                  <a:lnTo>
                    <a:pt x="2615" y="1056"/>
                  </a:lnTo>
                  <a:lnTo>
                    <a:pt x="2571" y="1056"/>
                  </a:lnTo>
                  <a:lnTo>
                    <a:pt x="2527" y="1056"/>
                  </a:lnTo>
                  <a:lnTo>
                    <a:pt x="2482" y="1033"/>
                  </a:lnTo>
                  <a:lnTo>
                    <a:pt x="2440" y="1033"/>
                  </a:lnTo>
                  <a:lnTo>
                    <a:pt x="2372" y="1033"/>
                  </a:lnTo>
                  <a:lnTo>
                    <a:pt x="2307" y="1012"/>
                  </a:lnTo>
                  <a:lnTo>
                    <a:pt x="2241" y="990"/>
                  </a:lnTo>
                  <a:lnTo>
                    <a:pt x="2177" y="990"/>
                  </a:lnTo>
                  <a:lnTo>
                    <a:pt x="2109" y="967"/>
                  </a:lnTo>
                  <a:lnTo>
                    <a:pt x="2022" y="967"/>
                  </a:lnTo>
                  <a:lnTo>
                    <a:pt x="1957" y="946"/>
                  </a:lnTo>
                  <a:lnTo>
                    <a:pt x="1889" y="923"/>
                  </a:lnTo>
                  <a:lnTo>
                    <a:pt x="1823" y="923"/>
                  </a:lnTo>
                  <a:lnTo>
                    <a:pt x="1759" y="901"/>
                  </a:lnTo>
                  <a:lnTo>
                    <a:pt x="1693" y="901"/>
                  </a:lnTo>
                  <a:lnTo>
                    <a:pt x="1604" y="881"/>
                  </a:lnTo>
                  <a:lnTo>
                    <a:pt x="1539" y="857"/>
                  </a:lnTo>
                  <a:lnTo>
                    <a:pt x="1473" y="857"/>
                  </a:lnTo>
                  <a:lnTo>
                    <a:pt x="1406" y="837"/>
                  </a:lnTo>
                  <a:lnTo>
                    <a:pt x="1341" y="837"/>
                  </a:lnTo>
                  <a:lnTo>
                    <a:pt x="1275" y="813"/>
                  </a:lnTo>
                  <a:lnTo>
                    <a:pt x="1209" y="813"/>
                  </a:lnTo>
                  <a:lnTo>
                    <a:pt x="1141" y="792"/>
                  </a:lnTo>
                  <a:lnTo>
                    <a:pt x="1077" y="771"/>
                  </a:lnTo>
                  <a:lnTo>
                    <a:pt x="989" y="771"/>
                  </a:lnTo>
                  <a:lnTo>
                    <a:pt x="922" y="748"/>
                  </a:lnTo>
                  <a:lnTo>
                    <a:pt x="857" y="748"/>
                  </a:lnTo>
                  <a:lnTo>
                    <a:pt x="791" y="726"/>
                  </a:lnTo>
                  <a:lnTo>
                    <a:pt x="726" y="703"/>
                  </a:lnTo>
                  <a:lnTo>
                    <a:pt x="659" y="703"/>
                  </a:lnTo>
                  <a:lnTo>
                    <a:pt x="593" y="682"/>
                  </a:lnTo>
                  <a:lnTo>
                    <a:pt x="527" y="682"/>
                  </a:lnTo>
                  <a:lnTo>
                    <a:pt x="462" y="659"/>
                  </a:lnTo>
                  <a:lnTo>
                    <a:pt x="395" y="637"/>
                  </a:lnTo>
                  <a:lnTo>
                    <a:pt x="308" y="637"/>
                  </a:lnTo>
                  <a:lnTo>
                    <a:pt x="243" y="617"/>
                  </a:lnTo>
                  <a:lnTo>
                    <a:pt x="198" y="617"/>
                  </a:lnTo>
                  <a:lnTo>
                    <a:pt x="175" y="594"/>
                  </a:lnTo>
                  <a:lnTo>
                    <a:pt x="132" y="594"/>
                  </a:lnTo>
                  <a:lnTo>
                    <a:pt x="109" y="572"/>
                  </a:lnTo>
                  <a:lnTo>
                    <a:pt x="66" y="549"/>
                  </a:lnTo>
                  <a:lnTo>
                    <a:pt x="44" y="549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0" y="462"/>
                  </a:lnTo>
                  <a:lnTo>
                    <a:pt x="0" y="419"/>
                  </a:lnTo>
                  <a:lnTo>
                    <a:pt x="23" y="374"/>
                  </a:lnTo>
                  <a:lnTo>
                    <a:pt x="44" y="330"/>
                  </a:lnTo>
                  <a:lnTo>
                    <a:pt x="44" y="308"/>
                  </a:lnTo>
                  <a:lnTo>
                    <a:pt x="66" y="308"/>
                  </a:lnTo>
                  <a:lnTo>
                    <a:pt x="66" y="287"/>
                  </a:lnTo>
                  <a:lnTo>
                    <a:pt x="89" y="287"/>
                  </a:lnTo>
                  <a:lnTo>
                    <a:pt x="89" y="264"/>
                  </a:lnTo>
                  <a:lnTo>
                    <a:pt x="109" y="242"/>
                  </a:lnTo>
                  <a:lnTo>
                    <a:pt x="132" y="219"/>
                  </a:lnTo>
                  <a:lnTo>
                    <a:pt x="132" y="199"/>
                  </a:lnTo>
                  <a:lnTo>
                    <a:pt x="154" y="199"/>
                  </a:lnTo>
                  <a:lnTo>
                    <a:pt x="175" y="175"/>
                  </a:lnTo>
                  <a:lnTo>
                    <a:pt x="175" y="155"/>
                  </a:lnTo>
                  <a:lnTo>
                    <a:pt x="198" y="133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4" y="89"/>
                  </a:lnTo>
                  <a:lnTo>
                    <a:pt x="308" y="66"/>
                  </a:lnTo>
                  <a:lnTo>
                    <a:pt x="352" y="44"/>
                  </a:lnTo>
                  <a:lnTo>
                    <a:pt x="395" y="44"/>
                  </a:lnTo>
                  <a:lnTo>
                    <a:pt x="418" y="44"/>
                  </a:lnTo>
                  <a:lnTo>
                    <a:pt x="462" y="23"/>
                  </a:lnTo>
                  <a:lnTo>
                    <a:pt x="507" y="23"/>
                  </a:lnTo>
                  <a:lnTo>
                    <a:pt x="548" y="23"/>
                  </a:lnTo>
                  <a:lnTo>
                    <a:pt x="572" y="23"/>
                  </a:lnTo>
                  <a:lnTo>
                    <a:pt x="616" y="0"/>
                  </a:lnTo>
                  <a:lnTo>
                    <a:pt x="659" y="23"/>
                  </a:lnTo>
                  <a:lnTo>
                    <a:pt x="703" y="23"/>
                  </a:lnTo>
                  <a:lnTo>
                    <a:pt x="747" y="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61000" y="3932280"/>
              <a:ext cx="988920" cy="177840"/>
            </a:xfrm>
            <a:custGeom>
              <a:avLst/>
              <a:gdLst/>
              <a:ahLst/>
              <a:rect l="l" t="t" r="r" b="b"/>
              <a:pathLst>
                <a:path w="3031" h="549">
                  <a:moveTo>
                    <a:pt x="3031" y="196"/>
                  </a:moveTo>
                  <a:lnTo>
                    <a:pt x="3031" y="219"/>
                  </a:lnTo>
                  <a:lnTo>
                    <a:pt x="3010" y="219"/>
                  </a:lnTo>
                  <a:lnTo>
                    <a:pt x="3010" y="264"/>
                  </a:lnTo>
                  <a:lnTo>
                    <a:pt x="2987" y="264"/>
                  </a:lnTo>
                  <a:lnTo>
                    <a:pt x="2987" y="285"/>
                  </a:lnTo>
                  <a:lnTo>
                    <a:pt x="2966" y="330"/>
                  </a:lnTo>
                  <a:lnTo>
                    <a:pt x="2943" y="374"/>
                  </a:lnTo>
                  <a:lnTo>
                    <a:pt x="2943" y="394"/>
                  </a:lnTo>
                  <a:lnTo>
                    <a:pt x="2922" y="416"/>
                  </a:lnTo>
                  <a:lnTo>
                    <a:pt x="2900" y="439"/>
                  </a:lnTo>
                  <a:lnTo>
                    <a:pt x="2877" y="460"/>
                  </a:lnTo>
                  <a:lnTo>
                    <a:pt x="2856" y="460"/>
                  </a:lnTo>
                  <a:lnTo>
                    <a:pt x="2811" y="483"/>
                  </a:lnTo>
                  <a:lnTo>
                    <a:pt x="2788" y="505"/>
                  </a:lnTo>
                  <a:lnTo>
                    <a:pt x="2747" y="505"/>
                  </a:lnTo>
                  <a:lnTo>
                    <a:pt x="2723" y="526"/>
                  </a:lnTo>
                  <a:lnTo>
                    <a:pt x="2679" y="526"/>
                  </a:lnTo>
                  <a:lnTo>
                    <a:pt x="2636" y="549"/>
                  </a:lnTo>
                  <a:lnTo>
                    <a:pt x="2592" y="549"/>
                  </a:lnTo>
                  <a:lnTo>
                    <a:pt x="2548" y="549"/>
                  </a:lnTo>
                  <a:lnTo>
                    <a:pt x="2504" y="549"/>
                  </a:lnTo>
                  <a:lnTo>
                    <a:pt x="2459" y="526"/>
                  </a:lnTo>
                  <a:lnTo>
                    <a:pt x="2417" y="526"/>
                  </a:lnTo>
                  <a:lnTo>
                    <a:pt x="2349" y="526"/>
                  </a:lnTo>
                  <a:lnTo>
                    <a:pt x="2284" y="505"/>
                  </a:lnTo>
                  <a:lnTo>
                    <a:pt x="2218" y="483"/>
                  </a:lnTo>
                  <a:lnTo>
                    <a:pt x="2154" y="483"/>
                  </a:lnTo>
                  <a:lnTo>
                    <a:pt x="2086" y="460"/>
                  </a:lnTo>
                  <a:lnTo>
                    <a:pt x="1999" y="460"/>
                  </a:lnTo>
                  <a:lnTo>
                    <a:pt x="1934" y="439"/>
                  </a:lnTo>
                  <a:lnTo>
                    <a:pt x="1866" y="416"/>
                  </a:lnTo>
                  <a:lnTo>
                    <a:pt x="1800" y="416"/>
                  </a:lnTo>
                  <a:lnTo>
                    <a:pt x="1736" y="394"/>
                  </a:lnTo>
                  <a:lnTo>
                    <a:pt x="1670" y="394"/>
                  </a:lnTo>
                  <a:lnTo>
                    <a:pt x="1581" y="374"/>
                  </a:lnTo>
                  <a:lnTo>
                    <a:pt x="1516" y="350"/>
                  </a:lnTo>
                  <a:lnTo>
                    <a:pt x="1450" y="350"/>
                  </a:lnTo>
                  <a:lnTo>
                    <a:pt x="1383" y="330"/>
                  </a:lnTo>
                  <a:lnTo>
                    <a:pt x="1318" y="330"/>
                  </a:lnTo>
                  <a:lnTo>
                    <a:pt x="1252" y="306"/>
                  </a:lnTo>
                  <a:lnTo>
                    <a:pt x="1186" y="306"/>
                  </a:lnTo>
                  <a:lnTo>
                    <a:pt x="1118" y="285"/>
                  </a:lnTo>
                  <a:lnTo>
                    <a:pt x="1054" y="264"/>
                  </a:lnTo>
                  <a:lnTo>
                    <a:pt x="966" y="264"/>
                  </a:lnTo>
                  <a:lnTo>
                    <a:pt x="899" y="241"/>
                  </a:lnTo>
                  <a:lnTo>
                    <a:pt x="834" y="241"/>
                  </a:lnTo>
                  <a:lnTo>
                    <a:pt x="768" y="219"/>
                  </a:lnTo>
                  <a:lnTo>
                    <a:pt x="703" y="196"/>
                  </a:lnTo>
                  <a:lnTo>
                    <a:pt x="636" y="196"/>
                  </a:lnTo>
                  <a:lnTo>
                    <a:pt x="570" y="175"/>
                  </a:lnTo>
                  <a:lnTo>
                    <a:pt x="504" y="175"/>
                  </a:lnTo>
                  <a:lnTo>
                    <a:pt x="416" y="152"/>
                  </a:lnTo>
                  <a:lnTo>
                    <a:pt x="350" y="130"/>
                  </a:lnTo>
                  <a:lnTo>
                    <a:pt x="285" y="130"/>
                  </a:lnTo>
                  <a:lnTo>
                    <a:pt x="220" y="110"/>
                  </a:lnTo>
                  <a:lnTo>
                    <a:pt x="175" y="110"/>
                  </a:lnTo>
                  <a:lnTo>
                    <a:pt x="152" y="87"/>
                  </a:lnTo>
                  <a:lnTo>
                    <a:pt x="109" y="87"/>
                  </a:lnTo>
                  <a:lnTo>
                    <a:pt x="86" y="65"/>
                  </a:lnTo>
                  <a:lnTo>
                    <a:pt x="43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81600" y="3808440"/>
              <a:ext cx="752400" cy="209520"/>
            </a:xfrm>
            <a:custGeom>
              <a:avLst/>
              <a:gdLst/>
              <a:ahLst/>
              <a:rect l="l" t="t" r="r" b="b"/>
              <a:pathLst>
                <a:path w="2307" h="638">
                  <a:moveTo>
                    <a:pt x="153" y="0"/>
                  </a:moveTo>
                  <a:lnTo>
                    <a:pt x="132" y="0"/>
                  </a:lnTo>
                  <a:lnTo>
                    <a:pt x="89" y="0"/>
                  </a:lnTo>
                  <a:lnTo>
                    <a:pt x="67" y="22"/>
                  </a:lnTo>
                  <a:lnTo>
                    <a:pt x="44" y="42"/>
                  </a:lnTo>
                  <a:lnTo>
                    <a:pt x="23" y="66"/>
                  </a:lnTo>
                  <a:lnTo>
                    <a:pt x="0" y="86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75"/>
                  </a:lnTo>
                  <a:lnTo>
                    <a:pt x="23" y="220"/>
                  </a:lnTo>
                  <a:lnTo>
                    <a:pt x="67" y="241"/>
                  </a:lnTo>
                  <a:lnTo>
                    <a:pt x="132" y="264"/>
                  </a:lnTo>
                  <a:lnTo>
                    <a:pt x="177" y="286"/>
                  </a:lnTo>
                  <a:lnTo>
                    <a:pt x="242" y="286"/>
                  </a:lnTo>
                  <a:lnTo>
                    <a:pt x="287" y="286"/>
                  </a:lnTo>
                  <a:lnTo>
                    <a:pt x="331" y="306"/>
                  </a:lnTo>
                  <a:lnTo>
                    <a:pt x="396" y="306"/>
                  </a:lnTo>
                  <a:lnTo>
                    <a:pt x="462" y="306"/>
                  </a:lnTo>
                  <a:lnTo>
                    <a:pt x="527" y="329"/>
                  </a:lnTo>
                  <a:lnTo>
                    <a:pt x="594" y="350"/>
                  </a:lnTo>
                  <a:lnTo>
                    <a:pt x="660" y="350"/>
                  </a:lnTo>
                  <a:lnTo>
                    <a:pt x="726" y="374"/>
                  </a:lnTo>
                  <a:lnTo>
                    <a:pt x="791" y="395"/>
                  </a:lnTo>
                  <a:lnTo>
                    <a:pt x="857" y="395"/>
                  </a:lnTo>
                  <a:lnTo>
                    <a:pt x="924" y="416"/>
                  </a:lnTo>
                  <a:lnTo>
                    <a:pt x="989" y="416"/>
                  </a:lnTo>
                  <a:lnTo>
                    <a:pt x="1055" y="439"/>
                  </a:lnTo>
                  <a:lnTo>
                    <a:pt x="1121" y="461"/>
                  </a:lnTo>
                  <a:lnTo>
                    <a:pt x="1189" y="484"/>
                  </a:lnTo>
                  <a:lnTo>
                    <a:pt x="1253" y="484"/>
                  </a:lnTo>
                  <a:lnTo>
                    <a:pt x="1319" y="504"/>
                  </a:lnTo>
                  <a:lnTo>
                    <a:pt x="1407" y="504"/>
                  </a:lnTo>
                  <a:lnTo>
                    <a:pt x="1473" y="526"/>
                  </a:lnTo>
                  <a:lnTo>
                    <a:pt x="1562" y="549"/>
                  </a:lnTo>
                  <a:lnTo>
                    <a:pt x="1627" y="570"/>
                  </a:lnTo>
                  <a:lnTo>
                    <a:pt x="1693" y="570"/>
                  </a:lnTo>
                  <a:lnTo>
                    <a:pt x="1757" y="593"/>
                  </a:lnTo>
                  <a:lnTo>
                    <a:pt x="1823" y="593"/>
                  </a:lnTo>
                  <a:lnTo>
                    <a:pt x="1868" y="615"/>
                  </a:lnTo>
                  <a:lnTo>
                    <a:pt x="1934" y="615"/>
                  </a:lnTo>
                  <a:lnTo>
                    <a:pt x="1977" y="638"/>
                  </a:lnTo>
                  <a:lnTo>
                    <a:pt x="2021" y="638"/>
                  </a:lnTo>
                  <a:lnTo>
                    <a:pt x="2066" y="638"/>
                  </a:lnTo>
                  <a:lnTo>
                    <a:pt x="2110" y="615"/>
                  </a:lnTo>
                  <a:lnTo>
                    <a:pt x="2155" y="615"/>
                  </a:lnTo>
                  <a:lnTo>
                    <a:pt x="2176" y="593"/>
                  </a:lnTo>
                  <a:lnTo>
                    <a:pt x="2197" y="593"/>
                  </a:lnTo>
                  <a:lnTo>
                    <a:pt x="2220" y="570"/>
                  </a:lnTo>
                  <a:lnTo>
                    <a:pt x="2241" y="526"/>
                  </a:lnTo>
                  <a:lnTo>
                    <a:pt x="2264" y="504"/>
                  </a:lnTo>
                  <a:lnTo>
                    <a:pt x="2286" y="484"/>
                  </a:lnTo>
                  <a:lnTo>
                    <a:pt x="2307" y="461"/>
                  </a:lnTo>
                  <a:lnTo>
                    <a:pt x="2307" y="439"/>
                  </a:lnTo>
                  <a:lnTo>
                    <a:pt x="2307" y="416"/>
                  </a:lnTo>
                  <a:lnTo>
                    <a:pt x="2307" y="395"/>
                  </a:lnTo>
                  <a:lnTo>
                    <a:pt x="2307" y="3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910040" y="3843360"/>
              <a:ext cx="681120" cy="123840"/>
            </a:xfrm>
            <a:custGeom>
              <a:avLst/>
              <a:gdLst/>
              <a:ahLst/>
              <a:rect l="l" t="t" r="r" b="b"/>
              <a:pathLst>
                <a:path w="2087" h="375">
                  <a:moveTo>
                    <a:pt x="0" y="22"/>
                  </a:moveTo>
                  <a:lnTo>
                    <a:pt x="23" y="22"/>
                  </a:lnTo>
                  <a:lnTo>
                    <a:pt x="43" y="22"/>
                  </a:lnTo>
                  <a:lnTo>
                    <a:pt x="64" y="0"/>
                  </a:lnTo>
                  <a:lnTo>
                    <a:pt x="88" y="0"/>
                  </a:lnTo>
                  <a:lnTo>
                    <a:pt x="109" y="0"/>
                  </a:lnTo>
                  <a:lnTo>
                    <a:pt x="132" y="0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42" y="0"/>
                  </a:lnTo>
                  <a:lnTo>
                    <a:pt x="284" y="0"/>
                  </a:lnTo>
                  <a:lnTo>
                    <a:pt x="329" y="22"/>
                  </a:lnTo>
                  <a:lnTo>
                    <a:pt x="373" y="22"/>
                  </a:lnTo>
                  <a:lnTo>
                    <a:pt x="438" y="22"/>
                  </a:lnTo>
                  <a:lnTo>
                    <a:pt x="482" y="45"/>
                  </a:lnTo>
                  <a:lnTo>
                    <a:pt x="527" y="45"/>
                  </a:lnTo>
                  <a:lnTo>
                    <a:pt x="593" y="66"/>
                  </a:lnTo>
                  <a:lnTo>
                    <a:pt x="637" y="66"/>
                  </a:lnTo>
                  <a:lnTo>
                    <a:pt x="702" y="88"/>
                  </a:lnTo>
                  <a:lnTo>
                    <a:pt x="746" y="88"/>
                  </a:lnTo>
                  <a:lnTo>
                    <a:pt x="812" y="88"/>
                  </a:lnTo>
                  <a:lnTo>
                    <a:pt x="857" y="111"/>
                  </a:lnTo>
                  <a:lnTo>
                    <a:pt x="922" y="111"/>
                  </a:lnTo>
                  <a:lnTo>
                    <a:pt x="966" y="132"/>
                  </a:lnTo>
                  <a:lnTo>
                    <a:pt x="1032" y="132"/>
                  </a:lnTo>
                  <a:lnTo>
                    <a:pt x="1100" y="155"/>
                  </a:lnTo>
                  <a:lnTo>
                    <a:pt x="1141" y="155"/>
                  </a:lnTo>
                  <a:lnTo>
                    <a:pt x="1209" y="177"/>
                  </a:lnTo>
                  <a:lnTo>
                    <a:pt x="1250" y="177"/>
                  </a:lnTo>
                  <a:lnTo>
                    <a:pt x="1318" y="197"/>
                  </a:lnTo>
                  <a:lnTo>
                    <a:pt x="1384" y="197"/>
                  </a:lnTo>
                  <a:lnTo>
                    <a:pt x="1428" y="220"/>
                  </a:lnTo>
                  <a:lnTo>
                    <a:pt x="1473" y="220"/>
                  </a:lnTo>
                  <a:lnTo>
                    <a:pt x="1538" y="241"/>
                  </a:lnTo>
                  <a:lnTo>
                    <a:pt x="1582" y="241"/>
                  </a:lnTo>
                  <a:lnTo>
                    <a:pt x="1648" y="265"/>
                  </a:lnTo>
                  <a:lnTo>
                    <a:pt x="1693" y="265"/>
                  </a:lnTo>
                  <a:lnTo>
                    <a:pt x="1734" y="265"/>
                  </a:lnTo>
                  <a:lnTo>
                    <a:pt x="1802" y="286"/>
                  </a:lnTo>
                  <a:lnTo>
                    <a:pt x="1845" y="286"/>
                  </a:lnTo>
                  <a:lnTo>
                    <a:pt x="1888" y="286"/>
                  </a:lnTo>
                  <a:lnTo>
                    <a:pt x="1911" y="286"/>
                  </a:lnTo>
                  <a:lnTo>
                    <a:pt x="1932" y="307"/>
                  </a:lnTo>
                  <a:lnTo>
                    <a:pt x="1956" y="307"/>
                  </a:lnTo>
                  <a:lnTo>
                    <a:pt x="1977" y="307"/>
                  </a:lnTo>
                  <a:lnTo>
                    <a:pt x="1998" y="330"/>
                  </a:lnTo>
                  <a:lnTo>
                    <a:pt x="2043" y="352"/>
                  </a:lnTo>
                  <a:lnTo>
                    <a:pt x="2066" y="352"/>
                  </a:lnTo>
                  <a:lnTo>
                    <a:pt x="2087" y="3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543560" y="3924360"/>
              <a:ext cx="187200" cy="49320"/>
            </a:xfrm>
            <a:custGeom>
              <a:avLst/>
              <a:gdLst/>
              <a:ahLst/>
              <a:rect l="l" t="t" r="r" b="b"/>
              <a:pathLst>
                <a:path w="572" h="154">
                  <a:moveTo>
                    <a:pt x="0" y="154"/>
                  </a:moveTo>
                  <a:lnTo>
                    <a:pt x="23" y="154"/>
                  </a:lnTo>
                  <a:lnTo>
                    <a:pt x="68" y="134"/>
                  </a:lnTo>
                  <a:lnTo>
                    <a:pt x="111" y="134"/>
                  </a:lnTo>
                  <a:lnTo>
                    <a:pt x="134" y="134"/>
                  </a:lnTo>
                  <a:lnTo>
                    <a:pt x="177" y="111"/>
                  </a:lnTo>
                  <a:lnTo>
                    <a:pt x="220" y="111"/>
                  </a:lnTo>
                  <a:lnTo>
                    <a:pt x="264" y="89"/>
                  </a:lnTo>
                  <a:lnTo>
                    <a:pt x="288" y="89"/>
                  </a:lnTo>
                  <a:lnTo>
                    <a:pt x="329" y="89"/>
                  </a:lnTo>
                  <a:lnTo>
                    <a:pt x="374" y="66"/>
                  </a:lnTo>
                  <a:lnTo>
                    <a:pt x="397" y="66"/>
                  </a:lnTo>
                  <a:lnTo>
                    <a:pt x="440" y="45"/>
                  </a:lnTo>
                  <a:lnTo>
                    <a:pt x="484" y="45"/>
                  </a:lnTo>
                  <a:lnTo>
                    <a:pt x="507" y="24"/>
                  </a:lnTo>
                  <a:lnTo>
                    <a:pt x="549" y="24"/>
                  </a:lnTo>
                  <a:lnTo>
                    <a:pt x="57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559400" y="3873600"/>
              <a:ext cx="193680" cy="65160"/>
            </a:xfrm>
            <a:custGeom>
              <a:avLst/>
              <a:gdLst/>
              <a:ahLst/>
              <a:rect l="l" t="t" r="r" b="b"/>
              <a:pathLst>
                <a:path w="593" h="198">
                  <a:moveTo>
                    <a:pt x="0" y="198"/>
                  </a:moveTo>
                  <a:lnTo>
                    <a:pt x="44" y="177"/>
                  </a:lnTo>
                  <a:lnTo>
                    <a:pt x="66" y="153"/>
                  </a:lnTo>
                  <a:lnTo>
                    <a:pt x="89" y="153"/>
                  </a:lnTo>
                  <a:lnTo>
                    <a:pt x="132" y="132"/>
                  </a:lnTo>
                  <a:lnTo>
                    <a:pt x="154" y="132"/>
                  </a:lnTo>
                  <a:lnTo>
                    <a:pt x="198" y="109"/>
                  </a:lnTo>
                  <a:lnTo>
                    <a:pt x="243" y="109"/>
                  </a:lnTo>
                  <a:lnTo>
                    <a:pt x="264" y="89"/>
                  </a:lnTo>
                  <a:lnTo>
                    <a:pt x="307" y="89"/>
                  </a:lnTo>
                  <a:lnTo>
                    <a:pt x="329" y="89"/>
                  </a:lnTo>
                  <a:lnTo>
                    <a:pt x="373" y="67"/>
                  </a:lnTo>
                  <a:lnTo>
                    <a:pt x="395" y="67"/>
                  </a:lnTo>
                  <a:lnTo>
                    <a:pt x="439" y="67"/>
                  </a:lnTo>
                  <a:lnTo>
                    <a:pt x="462" y="44"/>
                  </a:lnTo>
                  <a:lnTo>
                    <a:pt x="504" y="44"/>
                  </a:lnTo>
                  <a:lnTo>
                    <a:pt x="527" y="44"/>
                  </a:lnTo>
                  <a:lnTo>
                    <a:pt x="548" y="44"/>
                  </a:lnTo>
                  <a:lnTo>
                    <a:pt x="572" y="23"/>
                  </a:lnTo>
                  <a:lnTo>
                    <a:pt x="5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33920" y="4075200"/>
              <a:ext cx="389160" cy="57240"/>
            </a:xfrm>
            <a:custGeom>
              <a:avLst/>
              <a:gdLst/>
              <a:ahLst/>
              <a:rect l="l" t="t" r="r" b="b"/>
              <a:pathLst>
                <a:path w="1187" h="175">
                  <a:moveTo>
                    <a:pt x="0" y="175"/>
                  </a:moveTo>
                  <a:lnTo>
                    <a:pt x="66" y="175"/>
                  </a:lnTo>
                  <a:lnTo>
                    <a:pt x="110" y="155"/>
                  </a:lnTo>
                  <a:lnTo>
                    <a:pt x="176" y="155"/>
                  </a:lnTo>
                  <a:lnTo>
                    <a:pt x="220" y="155"/>
                  </a:lnTo>
                  <a:lnTo>
                    <a:pt x="286" y="130"/>
                  </a:lnTo>
                  <a:lnTo>
                    <a:pt x="330" y="130"/>
                  </a:lnTo>
                  <a:lnTo>
                    <a:pt x="395" y="130"/>
                  </a:lnTo>
                  <a:lnTo>
                    <a:pt x="439" y="110"/>
                  </a:lnTo>
                  <a:lnTo>
                    <a:pt x="505" y="110"/>
                  </a:lnTo>
                  <a:lnTo>
                    <a:pt x="550" y="110"/>
                  </a:lnTo>
                  <a:lnTo>
                    <a:pt x="615" y="110"/>
                  </a:lnTo>
                  <a:lnTo>
                    <a:pt x="659" y="87"/>
                  </a:lnTo>
                  <a:lnTo>
                    <a:pt x="725" y="87"/>
                  </a:lnTo>
                  <a:lnTo>
                    <a:pt x="769" y="87"/>
                  </a:lnTo>
                  <a:lnTo>
                    <a:pt x="814" y="66"/>
                  </a:lnTo>
                  <a:lnTo>
                    <a:pt x="879" y="66"/>
                  </a:lnTo>
                  <a:lnTo>
                    <a:pt x="900" y="44"/>
                  </a:lnTo>
                  <a:lnTo>
                    <a:pt x="944" y="44"/>
                  </a:lnTo>
                  <a:lnTo>
                    <a:pt x="989" y="44"/>
                  </a:lnTo>
                  <a:lnTo>
                    <a:pt x="1032" y="21"/>
                  </a:lnTo>
                  <a:lnTo>
                    <a:pt x="1077" y="21"/>
                  </a:lnTo>
                  <a:lnTo>
                    <a:pt x="1121" y="0"/>
                  </a:lnTo>
                  <a:lnTo>
                    <a:pt x="1143" y="0"/>
                  </a:lnTo>
                  <a:lnTo>
                    <a:pt x="118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29320" y="4124160"/>
              <a:ext cx="263520" cy="51120"/>
            </a:xfrm>
            <a:custGeom>
              <a:avLst/>
              <a:gdLst/>
              <a:ahLst/>
              <a:rect l="l" t="t" r="r" b="b"/>
              <a:pathLst>
                <a:path w="812" h="153">
                  <a:moveTo>
                    <a:pt x="0" y="153"/>
                  </a:moveTo>
                  <a:lnTo>
                    <a:pt x="44" y="130"/>
                  </a:lnTo>
                  <a:lnTo>
                    <a:pt x="109" y="130"/>
                  </a:lnTo>
                  <a:lnTo>
                    <a:pt x="153" y="109"/>
                  </a:lnTo>
                  <a:lnTo>
                    <a:pt x="198" y="109"/>
                  </a:lnTo>
                  <a:lnTo>
                    <a:pt x="242" y="86"/>
                  </a:lnTo>
                  <a:lnTo>
                    <a:pt x="308" y="86"/>
                  </a:lnTo>
                  <a:lnTo>
                    <a:pt x="352" y="86"/>
                  </a:lnTo>
                  <a:lnTo>
                    <a:pt x="394" y="64"/>
                  </a:lnTo>
                  <a:lnTo>
                    <a:pt x="439" y="64"/>
                  </a:lnTo>
                  <a:lnTo>
                    <a:pt x="483" y="64"/>
                  </a:lnTo>
                  <a:lnTo>
                    <a:pt x="548" y="41"/>
                  </a:lnTo>
                  <a:lnTo>
                    <a:pt x="593" y="41"/>
                  </a:lnTo>
                  <a:lnTo>
                    <a:pt x="637" y="41"/>
                  </a:lnTo>
                  <a:lnTo>
                    <a:pt x="682" y="20"/>
                  </a:lnTo>
                  <a:lnTo>
                    <a:pt x="726" y="20"/>
                  </a:lnTo>
                  <a:lnTo>
                    <a:pt x="768" y="20"/>
                  </a:lnTo>
                  <a:lnTo>
                    <a:pt x="791" y="20"/>
                  </a:lnTo>
                  <a:lnTo>
                    <a:pt x="791" y="0"/>
                  </a:lnTo>
                  <a:lnTo>
                    <a:pt x="81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579920" y="3908520"/>
              <a:ext cx="79560" cy="109440"/>
            </a:xfrm>
            <a:custGeom>
              <a:avLst/>
              <a:gdLst/>
              <a:ahLst/>
              <a:rect l="l" t="t" r="r" b="b"/>
              <a:pathLst>
                <a:path w="241" h="332">
                  <a:moveTo>
                    <a:pt x="0" y="0"/>
                  </a:moveTo>
                  <a:lnTo>
                    <a:pt x="23" y="23"/>
                  </a:lnTo>
                  <a:lnTo>
                    <a:pt x="43" y="44"/>
                  </a:lnTo>
                  <a:lnTo>
                    <a:pt x="66" y="68"/>
                  </a:lnTo>
                  <a:lnTo>
                    <a:pt x="88" y="110"/>
                  </a:lnTo>
                  <a:lnTo>
                    <a:pt x="88" y="133"/>
                  </a:lnTo>
                  <a:lnTo>
                    <a:pt x="109" y="155"/>
                  </a:lnTo>
                  <a:lnTo>
                    <a:pt x="132" y="198"/>
                  </a:lnTo>
                  <a:lnTo>
                    <a:pt x="153" y="220"/>
                  </a:lnTo>
                  <a:lnTo>
                    <a:pt x="177" y="243"/>
                  </a:lnTo>
                  <a:lnTo>
                    <a:pt x="177" y="264"/>
                  </a:lnTo>
                  <a:lnTo>
                    <a:pt x="198" y="264"/>
                  </a:lnTo>
                  <a:lnTo>
                    <a:pt x="218" y="287"/>
                  </a:lnTo>
                  <a:lnTo>
                    <a:pt x="218" y="309"/>
                  </a:lnTo>
                  <a:lnTo>
                    <a:pt x="241" y="309"/>
                  </a:lnTo>
                  <a:lnTo>
                    <a:pt x="241" y="33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29240" y="3873600"/>
              <a:ext cx="101520" cy="144360"/>
            </a:xfrm>
            <a:custGeom>
              <a:avLst/>
              <a:gdLst/>
              <a:ahLst/>
              <a:rect l="l" t="t" r="r" b="b"/>
              <a:pathLst>
                <a:path w="308" h="441">
                  <a:moveTo>
                    <a:pt x="0" y="0"/>
                  </a:moveTo>
                  <a:lnTo>
                    <a:pt x="24" y="23"/>
                  </a:lnTo>
                  <a:lnTo>
                    <a:pt x="24" y="44"/>
                  </a:lnTo>
                  <a:lnTo>
                    <a:pt x="45" y="67"/>
                  </a:lnTo>
                  <a:lnTo>
                    <a:pt x="45" y="89"/>
                  </a:lnTo>
                  <a:lnTo>
                    <a:pt x="65" y="89"/>
                  </a:lnTo>
                  <a:lnTo>
                    <a:pt x="65" y="109"/>
                  </a:lnTo>
                  <a:lnTo>
                    <a:pt x="110" y="132"/>
                  </a:lnTo>
                  <a:lnTo>
                    <a:pt x="133" y="177"/>
                  </a:lnTo>
                  <a:lnTo>
                    <a:pt x="176" y="219"/>
                  </a:lnTo>
                  <a:lnTo>
                    <a:pt x="199" y="264"/>
                  </a:lnTo>
                  <a:lnTo>
                    <a:pt x="220" y="307"/>
                  </a:lnTo>
                  <a:lnTo>
                    <a:pt x="243" y="352"/>
                  </a:lnTo>
                  <a:lnTo>
                    <a:pt x="285" y="396"/>
                  </a:lnTo>
                  <a:lnTo>
                    <a:pt x="308" y="4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680000" y="3822840"/>
              <a:ext cx="158760" cy="2235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24280" y="3757680"/>
              <a:ext cx="50760" cy="8100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0"/>
                  </a:moveTo>
                  <a:lnTo>
                    <a:pt x="23" y="22"/>
                  </a:lnTo>
                  <a:lnTo>
                    <a:pt x="44" y="66"/>
                  </a:lnTo>
                  <a:lnTo>
                    <a:pt x="68" y="88"/>
                  </a:lnTo>
                  <a:lnTo>
                    <a:pt x="68" y="132"/>
                  </a:lnTo>
                  <a:lnTo>
                    <a:pt x="89" y="155"/>
                  </a:lnTo>
                  <a:lnTo>
                    <a:pt x="112" y="197"/>
                  </a:lnTo>
                  <a:lnTo>
                    <a:pt x="133" y="221"/>
                  </a:lnTo>
                  <a:lnTo>
                    <a:pt x="155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761000" y="3730680"/>
              <a:ext cx="48960" cy="77760"/>
            </a:xfrm>
            <a:custGeom>
              <a:avLst/>
              <a:gdLst/>
              <a:ahLst/>
              <a:rect l="l" t="t" r="r" b="b"/>
              <a:pathLst>
                <a:path w="152" h="243">
                  <a:moveTo>
                    <a:pt x="0" y="0"/>
                  </a:moveTo>
                  <a:lnTo>
                    <a:pt x="21" y="24"/>
                  </a:lnTo>
                  <a:lnTo>
                    <a:pt x="43" y="65"/>
                  </a:lnTo>
                  <a:lnTo>
                    <a:pt x="66" y="88"/>
                  </a:lnTo>
                  <a:lnTo>
                    <a:pt x="86" y="110"/>
                  </a:lnTo>
                  <a:lnTo>
                    <a:pt x="109" y="154"/>
                  </a:lnTo>
                  <a:lnTo>
                    <a:pt x="109" y="176"/>
                  </a:lnTo>
                  <a:lnTo>
                    <a:pt x="131" y="220"/>
                  </a:lnTo>
                  <a:lnTo>
                    <a:pt x="152" y="24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18240" y="3722760"/>
              <a:ext cx="42840" cy="507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861080" y="3981600"/>
              <a:ext cx="64800" cy="77760"/>
            </a:xfrm>
            <a:custGeom>
              <a:avLst/>
              <a:gdLst/>
              <a:ahLst/>
              <a:rect l="l" t="t" r="r" b="b"/>
              <a:pathLst>
                <a:path w="198" h="242">
                  <a:moveTo>
                    <a:pt x="0" y="0"/>
                  </a:moveTo>
                  <a:lnTo>
                    <a:pt x="44" y="23"/>
                  </a:lnTo>
                  <a:lnTo>
                    <a:pt x="66" y="67"/>
                  </a:lnTo>
                  <a:lnTo>
                    <a:pt x="89" y="89"/>
                  </a:lnTo>
                  <a:lnTo>
                    <a:pt x="110" y="112"/>
                  </a:lnTo>
                  <a:lnTo>
                    <a:pt x="133" y="154"/>
                  </a:lnTo>
                  <a:lnTo>
                    <a:pt x="155" y="178"/>
                  </a:lnTo>
                  <a:lnTo>
                    <a:pt x="178" y="222"/>
                  </a:lnTo>
                  <a:lnTo>
                    <a:pt x="198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38840" y="3994200"/>
              <a:ext cx="79200" cy="102960"/>
            </a:xfrm>
            <a:custGeom>
              <a:avLst/>
              <a:gdLst/>
              <a:ahLst/>
              <a:rect l="l" t="t" r="r" b="b"/>
              <a:pathLst>
                <a:path w="241" h="309">
                  <a:moveTo>
                    <a:pt x="0" y="0"/>
                  </a:moveTo>
                  <a:lnTo>
                    <a:pt x="21" y="23"/>
                  </a:lnTo>
                  <a:lnTo>
                    <a:pt x="65" y="68"/>
                  </a:lnTo>
                  <a:lnTo>
                    <a:pt x="87" y="110"/>
                  </a:lnTo>
                  <a:lnTo>
                    <a:pt x="131" y="154"/>
                  </a:lnTo>
                  <a:lnTo>
                    <a:pt x="154" y="178"/>
                  </a:lnTo>
                  <a:lnTo>
                    <a:pt x="175" y="220"/>
                  </a:lnTo>
                  <a:lnTo>
                    <a:pt x="219" y="264"/>
                  </a:lnTo>
                  <a:lnTo>
                    <a:pt x="241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030640" y="4010040"/>
              <a:ext cx="73080" cy="87120"/>
            </a:xfrm>
            <a:custGeom>
              <a:avLst/>
              <a:gdLst/>
              <a:ahLst/>
              <a:rect l="l" t="t" r="r" b="b"/>
              <a:pathLst>
                <a:path w="220" h="264">
                  <a:moveTo>
                    <a:pt x="0" y="0"/>
                  </a:moveTo>
                  <a:lnTo>
                    <a:pt x="21" y="23"/>
                  </a:lnTo>
                  <a:lnTo>
                    <a:pt x="65" y="65"/>
                  </a:lnTo>
                  <a:lnTo>
                    <a:pt x="89" y="89"/>
                  </a:lnTo>
                  <a:lnTo>
                    <a:pt x="132" y="133"/>
                  </a:lnTo>
                  <a:lnTo>
                    <a:pt x="154" y="175"/>
                  </a:lnTo>
                  <a:lnTo>
                    <a:pt x="175" y="198"/>
                  </a:lnTo>
                  <a:lnTo>
                    <a:pt x="198" y="242"/>
                  </a:lnTo>
                  <a:lnTo>
                    <a:pt x="220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111640" y="4024440"/>
              <a:ext cx="65160" cy="85680"/>
            </a:xfrm>
            <a:custGeom>
              <a:avLst/>
              <a:gdLst/>
              <a:ahLst/>
              <a:rect l="l" t="t" r="r" b="b"/>
              <a:pathLst>
                <a:path w="196" h="264">
                  <a:moveTo>
                    <a:pt x="0" y="0"/>
                  </a:moveTo>
                  <a:lnTo>
                    <a:pt x="21" y="21"/>
                  </a:lnTo>
                  <a:lnTo>
                    <a:pt x="41" y="65"/>
                  </a:lnTo>
                  <a:lnTo>
                    <a:pt x="86" y="89"/>
                  </a:lnTo>
                  <a:lnTo>
                    <a:pt x="109" y="131"/>
                  </a:lnTo>
                  <a:lnTo>
                    <a:pt x="130" y="154"/>
                  </a:lnTo>
                  <a:lnTo>
                    <a:pt x="152" y="198"/>
                  </a:lnTo>
                  <a:lnTo>
                    <a:pt x="175" y="220"/>
                  </a:lnTo>
                  <a:lnTo>
                    <a:pt x="196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97320" y="4046400"/>
              <a:ext cx="84240" cy="77760"/>
            </a:xfrm>
            <a:custGeom>
              <a:avLst/>
              <a:gdLst/>
              <a:ahLst/>
              <a:rect l="l" t="t" r="r" b="b"/>
              <a:pathLst>
                <a:path w="264" h="244">
                  <a:moveTo>
                    <a:pt x="0" y="0"/>
                  </a:moveTo>
                  <a:lnTo>
                    <a:pt x="45" y="24"/>
                  </a:lnTo>
                  <a:lnTo>
                    <a:pt x="68" y="44"/>
                  </a:lnTo>
                  <a:lnTo>
                    <a:pt x="112" y="66"/>
                  </a:lnTo>
                  <a:lnTo>
                    <a:pt x="155" y="110"/>
                  </a:lnTo>
                  <a:lnTo>
                    <a:pt x="178" y="133"/>
                  </a:lnTo>
                  <a:lnTo>
                    <a:pt x="223" y="176"/>
                  </a:lnTo>
                  <a:lnTo>
                    <a:pt x="243" y="219"/>
                  </a:lnTo>
                  <a:lnTo>
                    <a:pt x="264" y="24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97400" y="4059360"/>
              <a:ext cx="65160" cy="7308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0" y="0"/>
                  </a:moveTo>
                  <a:lnTo>
                    <a:pt x="23" y="22"/>
                  </a:lnTo>
                  <a:lnTo>
                    <a:pt x="64" y="45"/>
                  </a:lnTo>
                  <a:lnTo>
                    <a:pt x="89" y="89"/>
                  </a:lnTo>
                  <a:lnTo>
                    <a:pt x="109" y="111"/>
                  </a:lnTo>
                  <a:lnTo>
                    <a:pt x="132" y="132"/>
                  </a:lnTo>
                  <a:lnTo>
                    <a:pt x="153" y="155"/>
                  </a:lnTo>
                  <a:lnTo>
                    <a:pt x="198" y="175"/>
                  </a:lnTo>
                  <a:lnTo>
                    <a:pt x="198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383080" y="4075200"/>
              <a:ext cx="79560" cy="77760"/>
            </a:xfrm>
            <a:custGeom>
              <a:avLst/>
              <a:gdLst/>
              <a:ahLst/>
              <a:rect l="l" t="t" r="r" b="b"/>
              <a:pathLst>
                <a:path w="243" h="241">
                  <a:moveTo>
                    <a:pt x="0" y="0"/>
                  </a:moveTo>
                  <a:lnTo>
                    <a:pt x="23" y="44"/>
                  </a:lnTo>
                  <a:lnTo>
                    <a:pt x="43" y="66"/>
                  </a:lnTo>
                  <a:lnTo>
                    <a:pt x="88" y="87"/>
                  </a:lnTo>
                  <a:lnTo>
                    <a:pt x="109" y="130"/>
                  </a:lnTo>
                  <a:lnTo>
                    <a:pt x="154" y="155"/>
                  </a:lnTo>
                  <a:lnTo>
                    <a:pt x="175" y="175"/>
                  </a:lnTo>
                  <a:lnTo>
                    <a:pt x="218" y="219"/>
                  </a:lnTo>
                  <a:lnTo>
                    <a:pt x="243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454720" y="4089240"/>
              <a:ext cx="79200" cy="71640"/>
            </a:xfrm>
            <a:custGeom>
              <a:avLst/>
              <a:gdLst/>
              <a:ahLst/>
              <a:rect l="l" t="t" r="r" b="b"/>
              <a:pathLst>
                <a:path w="243" h="220">
                  <a:moveTo>
                    <a:pt x="0" y="0"/>
                  </a:moveTo>
                  <a:lnTo>
                    <a:pt x="25" y="0"/>
                  </a:lnTo>
                  <a:lnTo>
                    <a:pt x="25" y="22"/>
                  </a:lnTo>
                  <a:lnTo>
                    <a:pt x="45" y="43"/>
                  </a:lnTo>
                  <a:lnTo>
                    <a:pt x="66" y="66"/>
                  </a:lnTo>
                  <a:lnTo>
                    <a:pt x="89" y="66"/>
                  </a:lnTo>
                  <a:lnTo>
                    <a:pt x="111" y="86"/>
                  </a:lnTo>
                  <a:lnTo>
                    <a:pt x="134" y="111"/>
                  </a:lnTo>
                  <a:lnTo>
                    <a:pt x="155" y="131"/>
                  </a:lnTo>
                  <a:lnTo>
                    <a:pt x="177" y="152"/>
                  </a:lnTo>
                  <a:lnTo>
                    <a:pt x="200" y="175"/>
                  </a:lnTo>
                  <a:lnTo>
                    <a:pt x="220" y="197"/>
                  </a:lnTo>
                  <a:lnTo>
                    <a:pt x="243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48320" y="4102200"/>
              <a:ext cx="115920" cy="87120"/>
            </a:xfrm>
            <a:custGeom>
              <a:avLst/>
              <a:gdLst/>
              <a:ahLst/>
              <a:rect l="l" t="t" r="r" b="b"/>
              <a:pathLst>
                <a:path w="350" h="263">
                  <a:moveTo>
                    <a:pt x="0" y="0"/>
                  </a:moveTo>
                  <a:lnTo>
                    <a:pt x="21" y="0"/>
                  </a:lnTo>
                  <a:lnTo>
                    <a:pt x="42" y="23"/>
                  </a:lnTo>
                  <a:lnTo>
                    <a:pt x="65" y="23"/>
                  </a:lnTo>
                  <a:lnTo>
                    <a:pt x="87" y="43"/>
                  </a:lnTo>
                  <a:lnTo>
                    <a:pt x="110" y="43"/>
                  </a:lnTo>
                  <a:lnTo>
                    <a:pt x="131" y="68"/>
                  </a:lnTo>
                  <a:lnTo>
                    <a:pt x="152" y="68"/>
                  </a:lnTo>
                  <a:lnTo>
                    <a:pt x="175" y="88"/>
                  </a:lnTo>
                  <a:lnTo>
                    <a:pt x="196" y="109"/>
                  </a:lnTo>
                  <a:lnTo>
                    <a:pt x="219" y="132"/>
                  </a:lnTo>
                  <a:lnTo>
                    <a:pt x="241" y="154"/>
                  </a:lnTo>
                  <a:lnTo>
                    <a:pt x="262" y="177"/>
                  </a:lnTo>
                  <a:lnTo>
                    <a:pt x="262" y="198"/>
                  </a:lnTo>
                  <a:lnTo>
                    <a:pt x="285" y="221"/>
                  </a:lnTo>
                  <a:lnTo>
                    <a:pt x="306" y="221"/>
                  </a:lnTo>
                  <a:lnTo>
                    <a:pt x="330" y="243"/>
                  </a:lnTo>
                  <a:lnTo>
                    <a:pt x="350" y="26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56320" y="4097160"/>
              <a:ext cx="164880" cy="135000"/>
            </a:xfrm>
            <a:custGeom>
              <a:avLst/>
              <a:gdLst/>
              <a:ahLst/>
              <a:rect l="l" t="t" r="r" b="b"/>
              <a:pathLst>
                <a:path w="504" h="418">
                  <a:moveTo>
                    <a:pt x="0" y="0"/>
                  </a:moveTo>
                  <a:lnTo>
                    <a:pt x="20" y="21"/>
                  </a:lnTo>
                  <a:lnTo>
                    <a:pt x="41" y="44"/>
                  </a:lnTo>
                  <a:lnTo>
                    <a:pt x="86" y="64"/>
                  </a:lnTo>
                  <a:lnTo>
                    <a:pt x="109" y="89"/>
                  </a:lnTo>
                  <a:lnTo>
                    <a:pt x="130" y="109"/>
                  </a:lnTo>
                  <a:lnTo>
                    <a:pt x="175" y="153"/>
                  </a:lnTo>
                  <a:lnTo>
                    <a:pt x="196" y="175"/>
                  </a:lnTo>
                  <a:lnTo>
                    <a:pt x="219" y="198"/>
                  </a:lnTo>
                  <a:lnTo>
                    <a:pt x="263" y="219"/>
                  </a:lnTo>
                  <a:lnTo>
                    <a:pt x="284" y="242"/>
                  </a:lnTo>
                  <a:lnTo>
                    <a:pt x="305" y="264"/>
                  </a:lnTo>
                  <a:lnTo>
                    <a:pt x="350" y="307"/>
                  </a:lnTo>
                  <a:lnTo>
                    <a:pt x="373" y="329"/>
                  </a:lnTo>
                  <a:lnTo>
                    <a:pt x="394" y="352"/>
                  </a:lnTo>
                  <a:lnTo>
                    <a:pt x="439" y="373"/>
                  </a:lnTo>
                  <a:lnTo>
                    <a:pt x="459" y="373"/>
                  </a:lnTo>
                  <a:lnTo>
                    <a:pt x="459" y="394"/>
                  </a:lnTo>
                  <a:lnTo>
                    <a:pt x="482" y="394"/>
                  </a:lnTo>
                  <a:lnTo>
                    <a:pt x="482" y="418"/>
                  </a:lnTo>
                  <a:lnTo>
                    <a:pt x="504" y="41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734080" y="4067280"/>
              <a:ext cx="130320" cy="129960"/>
            </a:xfrm>
            <a:custGeom>
              <a:avLst/>
              <a:gdLst/>
              <a:ahLst/>
              <a:rect l="l" t="t" r="r" b="b"/>
              <a:pathLst>
                <a:path w="397" h="396">
                  <a:moveTo>
                    <a:pt x="0" y="0"/>
                  </a:moveTo>
                  <a:lnTo>
                    <a:pt x="44" y="23"/>
                  </a:lnTo>
                  <a:lnTo>
                    <a:pt x="89" y="67"/>
                  </a:lnTo>
                  <a:lnTo>
                    <a:pt x="110" y="110"/>
                  </a:lnTo>
                  <a:lnTo>
                    <a:pt x="154" y="153"/>
                  </a:lnTo>
                  <a:lnTo>
                    <a:pt x="199" y="198"/>
                  </a:lnTo>
                  <a:lnTo>
                    <a:pt x="242" y="242"/>
                  </a:lnTo>
                  <a:lnTo>
                    <a:pt x="285" y="287"/>
                  </a:lnTo>
                  <a:lnTo>
                    <a:pt x="329" y="308"/>
                  </a:lnTo>
                  <a:lnTo>
                    <a:pt x="329" y="331"/>
                  </a:lnTo>
                  <a:lnTo>
                    <a:pt x="353" y="331"/>
                  </a:lnTo>
                  <a:lnTo>
                    <a:pt x="353" y="353"/>
                  </a:lnTo>
                  <a:lnTo>
                    <a:pt x="374" y="353"/>
                  </a:lnTo>
                  <a:lnTo>
                    <a:pt x="374" y="373"/>
                  </a:lnTo>
                  <a:lnTo>
                    <a:pt x="397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146560" y="3751200"/>
              <a:ext cx="57240" cy="57240"/>
            </a:xfrm>
            <a:custGeom>
              <a:avLst/>
              <a:gdLst/>
              <a:ahLst/>
              <a:rect l="l" t="t" r="r" b="b"/>
              <a:pathLst>
                <a:path w="175" h="178">
                  <a:moveTo>
                    <a:pt x="0" y="0"/>
                  </a:moveTo>
                  <a:lnTo>
                    <a:pt x="21" y="23"/>
                  </a:lnTo>
                  <a:lnTo>
                    <a:pt x="43" y="45"/>
                  </a:lnTo>
                  <a:lnTo>
                    <a:pt x="66" y="68"/>
                  </a:lnTo>
                  <a:lnTo>
                    <a:pt x="87" y="89"/>
                  </a:lnTo>
                  <a:lnTo>
                    <a:pt x="132" y="111"/>
                  </a:lnTo>
                  <a:lnTo>
                    <a:pt x="152" y="134"/>
                  </a:lnTo>
                  <a:lnTo>
                    <a:pt x="175" y="155"/>
                  </a:lnTo>
                  <a:lnTo>
                    <a:pt x="175" y="17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224320" y="3773520"/>
              <a:ext cx="65160" cy="49320"/>
            </a:xfrm>
            <a:custGeom>
              <a:avLst/>
              <a:gdLst/>
              <a:ahLst/>
              <a:rect l="l" t="t" r="r" b="b"/>
              <a:pathLst>
                <a:path w="198" h="152">
                  <a:moveTo>
                    <a:pt x="0" y="0"/>
                  </a:moveTo>
                  <a:lnTo>
                    <a:pt x="23" y="0"/>
                  </a:lnTo>
                  <a:lnTo>
                    <a:pt x="45" y="21"/>
                  </a:lnTo>
                  <a:lnTo>
                    <a:pt x="89" y="43"/>
                  </a:lnTo>
                  <a:lnTo>
                    <a:pt x="109" y="66"/>
                  </a:lnTo>
                  <a:lnTo>
                    <a:pt x="134" y="87"/>
                  </a:lnTo>
                  <a:lnTo>
                    <a:pt x="175" y="110"/>
                  </a:lnTo>
                  <a:lnTo>
                    <a:pt x="198" y="132"/>
                  </a:lnTo>
                  <a:lnTo>
                    <a:pt x="198" y="15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664240" y="3873600"/>
              <a:ext cx="279360" cy="164880"/>
            </a:xfrm>
            <a:custGeom>
              <a:avLst/>
              <a:gdLst/>
              <a:ahLst/>
              <a:rect l="l" t="t" r="r" b="b"/>
              <a:pathLst>
                <a:path w="857" h="507">
                  <a:moveTo>
                    <a:pt x="0" y="0"/>
                  </a:moveTo>
                  <a:lnTo>
                    <a:pt x="21" y="0"/>
                  </a:lnTo>
                  <a:lnTo>
                    <a:pt x="44" y="23"/>
                  </a:lnTo>
                  <a:lnTo>
                    <a:pt x="66" y="23"/>
                  </a:lnTo>
                  <a:lnTo>
                    <a:pt x="89" y="44"/>
                  </a:lnTo>
                  <a:lnTo>
                    <a:pt x="110" y="67"/>
                  </a:lnTo>
                  <a:lnTo>
                    <a:pt x="133" y="67"/>
                  </a:lnTo>
                  <a:lnTo>
                    <a:pt x="155" y="89"/>
                  </a:lnTo>
                  <a:lnTo>
                    <a:pt x="176" y="109"/>
                  </a:lnTo>
                  <a:lnTo>
                    <a:pt x="220" y="132"/>
                  </a:lnTo>
                  <a:lnTo>
                    <a:pt x="243" y="153"/>
                  </a:lnTo>
                  <a:lnTo>
                    <a:pt x="309" y="177"/>
                  </a:lnTo>
                  <a:lnTo>
                    <a:pt x="353" y="219"/>
                  </a:lnTo>
                  <a:lnTo>
                    <a:pt x="395" y="242"/>
                  </a:lnTo>
                  <a:lnTo>
                    <a:pt x="419" y="264"/>
                  </a:lnTo>
                  <a:lnTo>
                    <a:pt x="439" y="287"/>
                  </a:lnTo>
                  <a:lnTo>
                    <a:pt x="462" y="287"/>
                  </a:lnTo>
                  <a:lnTo>
                    <a:pt x="484" y="307"/>
                  </a:lnTo>
                  <a:lnTo>
                    <a:pt x="528" y="307"/>
                  </a:lnTo>
                  <a:lnTo>
                    <a:pt x="549" y="329"/>
                  </a:lnTo>
                  <a:lnTo>
                    <a:pt x="573" y="329"/>
                  </a:lnTo>
                  <a:lnTo>
                    <a:pt x="594" y="352"/>
                  </a:lnTo>
                  <a:lnTo>
                    <a:pt x="637" y="373"/>
                  </a:lnTo>
                  <a:lnTo>
                    <a:pt x="659" y="373"/>
                  </a:lnTo>
                  <a:lnTo>
                    <a:pt x="682" y="396"/>
                  </a:lnTo>
                  <a:lnTo>
                    <a:pt x="703" y="418"/>
                  </a:lnTo>
                  <a:lnTo>
                    <a:pt x="726" y="418"/>
                  </a:lnTo>
                  <a:lnTo>
                    <a:pt x="769" y="441"/>
                  </a:lnTo>
                  <a:lnTo>
                    <a:pt x="792" y="462"/>
                  </a:lnTo>
                  <a:lnTo>
                    <a:pt x="814" y="462"/>
                  </a:lnTo>
                  <a:lnTo>
                    <a:pt x="837" y="483"/>
                  </a:lnTo>
                  <a:lnTo>
                    <a:pt x="857" y="50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64320" y="3994200"/>
              <a:ext cx="163440" cy="102960"/>
            </a:xfrm>
            <a:custGeom>
              <a:avLst/>
              <a:gdLst/>
              <a:ahLst/>
              <a:rect l="l" t="t" r="r" b="b"/>
              <a:pathLst>
                <a:path w="505" h="309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6" y="45"/>
                  </a:lnTo>
                  <a:lnTo>
                    <a:pt x="110" y="68"/>
                  </a:lnTo>
                  <a:lnTo>
                    <a:pt x="153" y="89"/>
                  </a:lnTo>
                  <a:lnTo>
                    <a:pt x="175" y="110"/>
                  </a:lnTo>
                  <a:lnTo>
                    <a:pt x="196" y="134"/>
                  </a:lnTo>
                  <a:lnTo>
                    <a:pt x="219" y="154"/>
                  </a:lnTo>
                  <a:lnTo>
                    <a:pt x="264" y="178"/>
                  </a:lnTo>
                  <a:lnTo>
                    <a:pt x="285" y="198"/>
                  </a:lnTo>
                  <a:lnTo>
                    <a:pt x="308" y="220"/>
                  </a:lnTo>
                  <a:lnTo>
                    <a:pt x="350" y="243"/>
                  </a:lnTo>
                  <a:lnTo>
                    <a:pt x="373" y="264"/>
                  </a:lnTo>
                  <a:lnTo>
                    <a:pt x="417" y="264"/>
                  </a:lnTo>
                  <a:lnTo>
                    <a:pt x="439" y="287"/>
                  </a:lnTo>
                  <a:lnTo>
                    <a:pt x="460" y="309"/>
                  </a:lnTo>
                  <a:lnTo>
                    <a:pt x="483" y="309"/>
                  </a:lnTo>
                  <a:lnTo>
                    <a:pt x="505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64320" y="3873600"/>
              <a:ext cx="193680" cy="128520"/>
            </a:xfrm>
            <a:custGeom>
              <a:avLst/>
              <a:gdLst/>
              <a:ahLst/>
              <a:rect l="l" t="t" r="r" b="b"/>
              <a:pathLst>
                <a:path w="593" h="396">
                  <a:moveTo>
                    <a:pt x="0" y="0"/>
                  </a:moveTo>
                  <a:lnTo>
                    <a:pt x="21" y="23"/>
                  </a:lnTo>
                  <a:lnTo>
                    <a:pt x="44" y="44"/>
                  </a:lnTo>
                  <a:lnTo>
                    <a:pt x="65" y="67"/>
                  </a:lnTo>
                  <a:lnTo>
                    <a:pt x="86" y="89"/>
                  </a:lnTo>
                  <a:lnTo>
                    <a:pt x="110" y="109"/>
                  </a:lnTo>
                  <a:lnTo>
                    <a:pt x="153" y="109"/>
                  </a:lnTo>
                  <a:lnTo>
                    <a:pt x="175" y="132"/>
                  </a:lnTo>
                  <a:lnTo>
                    <a:pt x="196" y="153"/>
                  </a:lnTo>
                  <a:lnTo>
                    <a:pt x="219" y="177"/>
                  </a:lnTo>
                  <a:lnTo>
                    <a:pt x="240" y="177"/>
                  </a:lnTo>
                  <a:lnTo>
                    <a:pt x="285" y="198"/>
                  </a:lnTo>
                  <a:lnTo>
                    <a:pt x="308" y="219"/>
                  </a:lnTo>
                  <a:lnTo>
                    <a:pt x="328" y="219"/>
                  </a:lnTo>
                  <a:lnTo>
                    <a:pt x="350" y="242"/>
                  </a:lnTo>
                  <a:lnTo>
                    <a:pt x="373" y="264"/>
                  </a:lnTo>
                  <a:lnTo>
                    <a:pt x="417" y="264"/>
                  </a:lnTo>
                  <a:lnTo>
                    <a:pt x="439" y="287"/>
                  </a:lnTo>
                  <a:lnTo>
                    <a:pt x="460" y="307"/>
                  </a:lnTo>
                  <a:lnTo>
                    <a:pt x="483" y="329"/>
                  </a:lnTo>
                  <a:lnTo>
                    <a:pt x="505" y="329"/>
                  </a:lnTo>
                  <a:lnTo>
                    <a:pt x="528" y="352"/>
                  </a:lnTo>
                  <a:lnTo>
                    <a:pt x="548" y="373"/>
                  </a:lnTo>
                  <a:lnTo>
                    <a:pt x="569" y="396"/>
                  </a:lnTo>
                  <a:lnTo>
                    <a:pt x="593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864400" y="3908520"/>
              <a:ext cx="85680" cy="50760"/>
            </a:xfrm>
            <a:custGeom>
              <a:avLst/>
              <a:gdLst/>
              <a:ahLst/>
              <a:rect l="l" t="t" r="r" b="b"/>
              <a:pathLst>
                <a:path w="261" h="155">
                  <a:moveTo>
                    <a:pt x="261" y="155"/>
                  </a:moveTo>
                  <a:lnTo>
                    <a:pt x="240" y="133"/>
                  </a:lnTo>
                  <a:lnTo>
                    <a:pt x="220" y="133"/>
                  </a:lnTo>
                  <a:lnTo>
                    <a:pt x="197" y="133"/>
                  </a:lnTo>
                  <a:lnTo>
                    <a:pt x="175" y="110"/>
                  </a:lnTo>
                  <a:lnTo>
                    <a:pt x="152" y="110"/>
                  </a:lnTo>
                  <a:lnTo>
                    <a:pt x="131" y="110"/>
                  </a:lnTo>
                  <a:lnTo>
                    <a:pt x="109" y="89"/>
                  </a:lnTo>
                  <a:lnTo>
                    <a:pt x="86" y="68"/>
                  </a:lnTo>
                  <a:lnTo>
                    <a:pt x="65" y="68"/>
                  </a:lnTo>
                  <a:lnTo>
                    <a:pt x="65" y="44"/>
                  </a:lnTo>
                  <a:lnTo>
                    <a:pt x="42" y="2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2673360" y="3048120"/>
            <a:ext cx="3575160" cy="2892240"/>
            <a:chOff x="2673360" y="3048120"/>
            <a:chExt cx="3575160" cy="2892240"/>
          </a:xfrm>
        </p:grpSpPr>
        <p:sp>
          <p:nvSpPr>
            <p:cNvPr id="1515" name=""/>
            <p:cNvSpPr/>
            <p:nvPr/>
          </p:nvSpPr>
          <p:spPr>
            <a:xfrm>
              <a:off x="2690640" y="3214800"/>
              <a:ext cx="3411720" cy="2708280"/>
            </a:xfrm>
            <a:custGeom>
              <a:avLst/>
              <a:gdLst/>
              <a:ahLst/>
              <a:rect l="l" t="t" r="r" b="b"/>
              <a:pathLst>
                <a:path w="10424" h="8283">
                  <a:moveTo>
                    <a:pt x="10424" y="7098"/>
                  </a:moveTo>
                  <a:lnTo>
                    <a:pt x="9520" y="0"/>
                  </a:lnTo>
                  <a:lnTo>
                    <a:pt x="0" y="1180"/>
                  </a:lnTo>
                  <a:lnTo>
                    <a:pt x="904" y="8283"/>
                  </a:lnTo>
                  <a:lnTo>
                    <a:pt x="10424" y="70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789520" y="3195720"/>
              <a:ext cx="331920" cy="2338200"/>
            </a:xfrm>
            <a:custGeom>
              <a:avLst/>
              <a:gdLst/>
              <a:ahLst/>
              <a:rect l="l" t="t" r="r" b="b"/>
              <a:pathLst>
                <a:path w="1011" h="7158">
                  <a:moveTo>
                    <a:pt x="53" y="114"/>
                  </a:moveTo>
                  <a:lnTo>
                    <a:pt x="0" y="60"/>
                  </a:lnTo>
                  <a:lnTo>
                    <a:pt x="903" y="7158"/>
                  </a:lnTo>
                  <a:lnTo>
                    <a:pt x="1011" y="7158"/>
                  </a:lnTo>
                  <a:lnTo>
                    <a:pt x="113" y="60"/>
                  </a:lnTo>
                  <a:lnTo>
                    <a:pt x="53" y="0"/>
                  </a:lnTo>
                  <a:lnTo>
                    <a:pt x="113" y="60"/>
                  </a:lnTo>
                  <a:lnTo>
                    <a:pt x="113" y="0"/>
                  </a:lnTo>
                  <a:lnTo>
                    <a:pt x="53" y="0"/>
                  </a:lnTo>
                  <a:lnTo>
                    <a:pt x="53" y="1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73360" y="3195720"/>
              <a:ext cx="3133800" cy="423720"/>
            </a:xfrm>
            <a:custGeom>
              <a:avLst/>
              <a:gdLst/>
              <a:ahLst/>
              <a:rect l="l" t="t" r="r" b="b"/>
              <a:pathLst>
                <a:path w="9573" h="1298">
                  <a:moveTo>
                    <a:pt x="113" y="1240"/>
                  </a:moveTo>
                  <a:lnTo>
                    <a:pt x="53" y="1298"/>
                  </a:lnTo>
                  <a:lnTo>
                    <a:pt x="9573" y="114"/>
                  </a:lnTo>
                  <a:lnTo>
                    <a:pt x="9573" y="0"/>
                  </a:lnTo>
                  <a:lnTo>
                    <a:pt x="53" y="1185"/>
                  </a:lnTo>
                  <a:lnTo>
                    <a:pt x="0" y="1240"/>
                  </a:lnTo>
                  <a:lnTo>
                    <a:pt x="53" y="1185"/>
                  </a:lnTo>
                  <a:lnTo>
                    <a:pt x="0" y="1240"/>
                  </a:lnTo>
                  <a:lnTo>
                    <a:pt x="113" y="124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73360" y="3598920"/>
              <a:ext cx="331920" cy="2341440"/>
            </a:xfrm>
            <a:custGeom>
              <a:avLst/>
              <a:gdLst/>
              <a:ahLst/>
              <a:rect l="l" t="t" r="r" b="b"/>
              <a:pathLst>
                <a:path w="1011" h="7157">
                  <a:moveTo>
                    <a:pt x="957" y="7043"/>
                  </a:moveTo>
                  <a:lnTo>
                    <a:pt x="1011" y="7103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903" y="7103"/>
                  </a:lnTo>
                  <a:lnTo>
                    <a:pt x="957" y="7157"/>
                  </a:lnTo>
                  <a:lnTo>
                    <a:pt x="903" y="7103"/>
                  </a:lnTo>
                  <a:lnTo>
                    <a:pt x="903" y="7157"/>
                  </a:lnTo>
                  <a:lnTo>
                    <a:pt x="957" y="7157"/>
                  </a:lnTo>
                  <a:lnTo>
                    <a:pt x="957" y="70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987640" y="5516640"/>
              <a:ext cx="3133800" cy="423720"/>
            </a:xfrm>
            <a:custGeom>
              <a:avLst/>
              <a:gdLst/>
              <a:ahLst/>
              <a:rect l="l" t="t" r="r" b="b"/>
              <a:pathLst>
                <a:path w="9574" h="1298">
                  <a:moveTo>
                    <a:pt x="9466" y="59"/>
                  </a:moveTo>
                  <a:lnTo>
                    <a:pt x="9520" y="0"/>
                  </a:lnTo>
                  <a:lnTo>
                    <a:pt x="0" y="1184"/>
                  </a:lnTo>
                  <a:lnTo>
                    <a:pt x="0" y="1298"/>
                  </a:lnTo>
                  <a:lnTo>
                    <a:pt x="9520" y="113"/>
                  </a:lnTo>
                  <a:lnTo>
                    <a:pt x="9574" y="59"/>
                  </a:lnTo>
                  <a:lnTo>
                    <a:pt x="9520" y="113"/>
                  </a:lnTo>
                  <a:lnTo>
                    <a:pt x="9574" y="59"/>
                  </a:lnTo>
                  <a:lnTo>
                    <a:pt x="9466" y="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03680" y="3065400"/>
              <a:ext cx="3427200" cy="2708280"/>
            </a:xfrm>
            <a:custGeom>
              <a:avLst/>
              <a:gdLst/>
              <a:ahLst/>
              <a:rect l="l" t="t" r="r" b="b"/>
              <a:pathLst>
                <a:path w="10477" h="8284">
                  <a:moveTo>
                    <a:pt x="10477" y="7104"/>
                  </a:moveTo>
                  <a:lnTo>
                    <a:pt x="9574" y="0"/>
                  </a:lnTo>
                  <a:lnTo>
                    <a:pt x="0" y="1239"/>
                  </a:lnTo>
                  <a:lnTo>
                    <a:pt x="903" y="8284"/>
                  </a:lnTo>
                  <a:lnTo>
                    <a:pt x="10477" y="7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918040" y="3048120"/>
              <a:ext cx="312840" cy="2341440"/>
            </a:xfrm>
            <a:custGeom>
              <a:avLst/>
              <a:gdLst/>
              <a:ahLst/>
              <a:rect l="l" t="t" r="r" b="b"/>
              <a:pathLst>
                <a:path w="957" h="7157">
                  <a:moveTo>
                    <a:pt x="54" y="113"/>
                  </a:moveTo>
                  <a:lnTo>
                    <a:pt x="0" y="53"/>
                  </a:lnTo>
                  <a:lnTo>
                    <a:pt x="903" y="7157"/>
                  </a:lnTo>
                  <a:lnTo>
                    <a:pt x="957" y="7157"/>
                  </a:lnTo>
                  <a:lnTo>
                    <a:pt x="114" y="53"/>
                  </a:lnTo>
                  <a:lnTo>
                    <a:pt x="54" y="0"/>
                  </a:lnTo>
                  <a:lnTo>
                    <a:pt x="114" y="53"/>
                  </a:lnTo>
                  <a:lnTo>
                    <a:pt x="114" y="0"/>
                  </a:lnTo>
                  <a:lnTo>
                    <a:pt x="54" y="0"/>
                  </a:lnTo>
                  <a:lnTo>
                    <a:pt x="54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782800" y="3048120"/>
              <a:ext cx="3152880" cy="422280"/>
            </a:xfrm>
            <a:custGeom>
              <a:avLst/>
              <a:gdLst/>
              <a:ahLst/>
              <a:rect l="l" t="t" r="r" b="b"/>
              <a:pathLst>
                <a:path w="9633" h="1292">
                  <a:moveTo>
                    <a:pt x="113" y="1292"/>
                  </a:moveTo>
                  <a:lnTo>
                    <a:pt x="9633" y="113"/>
                  </a:lnTo>
                  <a:lnTo>
                    <a:pt x="9633" y="0"/>
                  </a:lnTo>
                  <a:lnTo>
                    <a:pt x="59" y="1238"/>
                  </a:lnTo>
                  <a:lnTo>
                    <a:pt x="59" y="1292"/>
                  </a:lnTo>
                  <a:lnTo>
                    <a:pt x="59" y="1238"/>
                  </a:lnTo>
                  <a:lnTo>
                    <a:pt x="0" y="1238"/>
                  </a:lnTo>
                  <a:lnTo>
                    <a:pt x="59" y="1292"/>
                  </a:lnTo>
                  <a:lnTo>
                    <a:pt x="113" y="129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803680" y="3470400"/>
              <a:ext cx="312480" cy="2322360"/>
            </a:xfrm>
            <a:custGeom>
              <a:avLst/>
              <a:gdLst/>
              <a:ahLst/>
              <a:rect l="l" t="t" r="r" b="b"/>
              <a:pathLst>
                <a:path w="957" h="7103">
                  <a:moveTo>
                    <a:pt x="903" y="7045"/>
                  </a:moveTo>
                  <a:lnTo>
                    <a:pt x="957" y="7045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43" y="7045"/>
                  </a:lnTo>
                  <a:lnTo>
                    <a:pt x="903" y="7103"/>
                  </a:lnTo>
                  <a:lnTo>
                    <a:pt x="843" y="7045"/>
                  </a:lnTo>
                  <a:lnTo>
                    <a:pt x="903" y="7103"/>
                  </a:lnTo>
                  <a:lnTo>
                    <a:pt x="903" y="70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98880" y="5369040"/>
              <a:ext cx="3149640" cy="423720"/>
            </a:xfrm>
            <a:custGeom>
              <a:avLst/>
              <a:gdLst/>
              <a:ahLst/>
              <a:rect l="l" t="t" r="r" b="b"/>
              <a:pathLst>
                <a:path w="9628" h="1298">
                  <a:moveTo>
                    <a:pt x="9520" y="60"/>
                  </a:moveTo>
                  <a:lnTo>
                    <a:pt x="9520" y="0"/>
                  </a:lnTo>
                  <a:lnTo>
                    <a:pt x="0" y="1240"/>
                  </a:lnTo>
                  <a:lnTo>
                    <a:pt x="0" y="1298"/>
                  </a:lnTo>
                  <a:lnTo>
                    <a:pt x="9574" y="115"/>
                  </a:lnTo>
                  <a:lnTo>
                    <a:pt x="9574" y="60"/>
                  </a:lnTo>
                  <a:lnTo>
                    <a:pt x="9574" y="115"/>
                  </a:lnTo>
                  <a:lnTo>
                    <a:pt x="9628" y="115"/>
                  </a:lnTo>
                  <a:lnTo>
                    <a:pt x="9574" y="60"/>
                  </a:lnTo>
                  <a:lnTo>
                    <a:pt x="9520" y="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05280" y="3581280"/>
              <a:ext cx="3060720" cy="2027520"/>
            </a:xfrm>
            <a:custGeom>
              <a:avLst/>
              <a:gdLst/>
              <a:ahLst/>
              <a:rect l="l" t="t" r="r" b="b"/>
              <a:pathLst>
                <a:path w="9353" h="6200">
                  <a:moveTo>
                    <a:pt x="9353" y="5129"/>
                  </a:moveTo>
                  <a:lnTo>
                    <a:pt x="8677" y="0"/>
                  </a:lnTo>
                  <a:lnTo>
                    <a:pt x="0" y="1071"/>
                  </a:lnTo>
                  <a:lnTo>
                    <a:pt x="677" y="6200"/>
                  </a:lnTo>
                  <a:lnTo>
                    <a:pt x="9353" y="5129"/>
                  </a:lnTo>
                  <a:close/>
                </a:path>
              </a:pathLst>
            </a:custGeom>
            <a:solidFill>
              <a:srgbClr val="f4f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843520" y="3564000"/>
              <a:ext cx="239760" cy="1695240"/>
            </a:xfrm>
            <a:custGeom>
              <a:avLst/>
              <a:gdLst/>
              <a:ahLst/>
              <a:rect l="l" t="t" r="r" b="b"/>
              <a:pathLst>
                <a:path w="735" h="5183">
                  <a:moveTo>
                    <a:pt x="0" y="54"/>
                  </a:moveTo>
                  <a:lnTo>
                    <a:pt x="622" y="5183"/>
                  </a:lnTo>
                  <a:lnTo>
                    <a:pt x="735" y="5183"/>
                  </a:lnTo>
                  <a:lnTo>
                    <a:pt x="59" y="54"/>
                  </a:lnTo>
                  <a:lnTo>
                    <a:pt x="0" y="0"/>
                  </a:lnTo>
                  <a:lnTo>
                    <a:pt x="59" y="54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87640" y="3564000"/>
              <a:ext cx="2855880" cy="387360"/>
            </a:xfrm>
            <a:custGeom>
              <a:avLst/>
              <a:gdLst/>
              <a:ahLst/>
              <a:rect l="l" t="t" r="r" b="b"/>
              <a:pathLst>
                <a:path w="8731" h="1179">
                  <a:moveTo>
                    <a:pt x="114" y="1125"/>
                  </a:moveTo>
                  <a:lnTo>
                    <a:pt x="114" y="1179"/>
                  </a:lnTo>
                  <a:lnTo>
                    <a:pt x="8731" y="54"/>
                  </a:lnTo>
                  <a:lnTo>
                    <a:pt x="8731" y="0"/>
                  </a:lnTo>
                  <a:lnTo>
                    <a:pt x="54" y="1067"/>
                  </a:lnTo>
                  <a:lnTo>
                    <a:pt x="54" y="1125"/>
                  </a:lnTo>
                  <a:lnTo>
                    <a:pt x="54" y="1067"/>
                  </a:lnTo>
                  <a:lnTo>
                    <a:pt x="0" y="1067"/>
                  </a:lnTo>
                  <a:lnTo>
                    <a:pt x="54" y="1125"/>
                  </a:lnTo>
                  <a:lnTo>
                    <a:pt x="114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05280" y="3932280"/>
              <a:ext cx="239400" cy="1693800"/>
            </a:xfrm>
            <a:custGeom>
              <a:avLst/>
              <a:gdLst/>
              <a:ahLst/>
              <a:rect l="l" t="t" r="r" b="b"/>
              <a:pathLst>
                <a:path w="735" h="5183">
                  <a:moveTo>
                    <a:pt x="677" y="5070"/>
                  </a:moveTo>
                  <a:lnTo>
                    <a:pt x="735" y="5129"/>
                  </a:lnTo>
                  <a:lnTo>
                    <a:pt x="60" y="0"/>
                  </a:lnTo>
                  <a:lnTo>
                    <a:pt x="0" y="0"/>
                  </a:lnTo>
                  <a:lnTo>
                    <a:pt x="623" y="5129"/>
                  </a:lnTo>
                  <a:lnTo>
                    <a:pt x="677" y="5183"/>
                  </a:lnTo>
                  <a:lnTo>
                    <a:pt x="623" y="5129"/>
                  </a:lnTo>
                  <a:lnTo>
                    <a:pt x="623" y="5183"/>
                  </a:lnTo>
                  <a:lnTo>
                    <a:pt x="677" y="5183"/>
                  </a:lnTo>
                  <a:lnTo>
                    <a:pt x="677" y="50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227400" y="5240160"/>
              <a:ext cx="2855880" cy="385920"/>
            </a:xfrm>
            <a:custGeom>
              <a:avLst/>
              <a:gdLst/>
              <a:ahLst/>
              <a:rect l="l" t="t" r="r" b="b"/>
              <a:pathLst>
                <a:path w="8735" h="1185">
                  <a:moveTo>
                    <a:pt x="8622" y="60"/>
                  </a:moveTo>
                  <a:lnTo>
                    <a:pt x="8676" y="0"/>
                  </a:lnTo>
                  <a:lnTo>
                    <a:pt x="0" y="1072"/>
                  </a:lnTo>
                  <a:lnTo>
                    <a:pt x="0" y="1185"/>
                  </a:lnTo>
                  <a:lnTo>
                    <a:pt x="8676" y="114"/>
                  </a:lnTo>
                  <a:lnTo>
                    <a:pt x="8735" y="60"/>
                  </a:lnTo>
                  <a:lnTo>
                    <a:pt x="8676" y="114"/>
                  </a:lnTo>
                  <a:lnTo>
                    <a:pt x="8735" y="114"/>
                  </a:lnTo>
                  <a:lnTo>
                    <a:pt x="8735" y="60"/>
                  </a:lnTo>
                  <a:lnTo>
                    <a:pt x="8622" y="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484440" y="3878280"/>
              <a:ext cx="220680" cy="1673280"/>
            </a:xfrm>
            <a:custGeom>
              <a:avLst/>
              <a:gdLst/>
              <a:ahLst/>
              <a:rect l="l" t="t" r="r" b="b"/>
              <a:pathLst>
                <a:path w="677" h="5123">
                  <a:moveTo>
                    <a:pt x="0" y="0"/>
                  </a:moveTo>
                  <a:lnTo>
                    <a:pt x="677" y="5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67160" y="3878280"/>
              <a:ext cx="237960" cy="1673280"/>
            </a:xfrm>
            <a:custGeom>
              <a:avLst/>
              <a:gdLst/>
              <a:ahLst/>
              <a:rect l="l" t="t" r="r" b="b"/>
              <a:pathLst>
                <a:path w="731" h="5123">
                  <a:moveTo>
                    <a:pt x="731" y="5123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677" y="5123"/>
                  </a:lnTo>
                  <a:lnTo>
                    <a:pt x="731" y="51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65400" y="3821040"/>
              <a:ext cx="201960" cy="1677960"/>
            </a:xfrm>
            <a:custGeom>
              <a:avLst/>
              <a:gdLst/>
              <a:ahLst/>
              <a:rect l="l" t="t" r="r" b="b"/>
              <a:pathLst>
                <a:path w="623" h="5130">
                  <a:moveTo>
                    <a:pt x="0" y="0"/>
                  </a:moveTo>
                  <a:lnTo>
                    <a:pt x="623" y="5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948120" y="3803760"/>
              <a:ext cx="236520" cy="1695240"/>
            </a:xfrm>
            <a:custGeom>
              <a:avLst/>
              <a:gdLst/>
              <a:ahLst/>
              <a:rect l="l" t="t" r="r" b="b"/>
              <a:pathLst>
                <a:path w="731" h="5183">
                  <a:moveTo>
                    <a:pt x="677" y="5183"/>
                  </a:moveTo>
                  <a:lnTo>
                    <a:pt x="731" y="5183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617" y="5183"/>
                  </a:lnTo>
                  <a:lnTo>
                    <a:pt x="677" y="518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424400" y="3747960"/>
              <a:ext cx="222120" cy="1695600"/>
            </a:xfrm>
            <a:custGeom>
              <a:avLst/>
              <a:gdLst/>
              <a:ahLst/>
              <a:rect l="l" t="t" r="r" b="b"/>
              <a:pathLst>
                <a:path w="677" h="5183">
                  <a:moveTo>
                    <a:pt x="0" y="0"/>
                  </a:moveTo>
                  <a:lnTo>
                    <a:pt x="677" y="5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424400" y="3747960"/>
              <a:ext cx="239760" cy="1695600"/>
            </a:xfrm>
            <a:custGeom>
              <a:avLst/>
              <a:gdLst/>
              <a:ahLst/>
              <a:rect l="l" t="t" r="r" b="b"/>
              <a:pathLst>
                <a:path w="736" h="5183">
                  <a:moveTo>
                    <a:pt x="677" y="5183"/>
                  </a:moveTo>
                  <a:lnTo>
                    <a:pt x="736" y="5183"/>
                  </a:lnTo>
                  <a:lnTo>
                    <a:pt x="60" y="0"/>
                  </a:lnTo>
                  <a:lnTo>
                    <a:pt x="0" y="0"/>
                  </a:lnTo>
                  <a:lnTo>
                    <a:pt x="623" y="5183"/>
                  </a:lnTo>
                  <a:lnTo>
                    <a:pt x="677" y="518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03920" y="3691080"/>
              <a:ext cx="222120" cy="1677960"/>
            </a:xfrm>
            <a:custGeom>
              <a:avLst/>
              <a:gdLst/>
              <a:ahLst/>
              <a:rect l="l" t="t" r="r" b="b"/>
              <a:pathLst>
                <a:path w="677" h="5128">
                  <a:moveTo>
                    <a:pt x="0" y="0"/>
                  </a:moveTo>
                  <a:lnTo>
                    <a:pt x="677" y="5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886280" y="3691080"/>
              <a:ext cx="239760" cy="1677960"/>
            </a:xfrm>
            <a:custGeom>
              <a:avLst/>
              <a:gdLst/>
              <a:ahLst/>
              <a:rect l="l" t="t" r="r" b="b"/>
              <a:pathLst>
                <a:path w="731" h="5128">
                  <a:moveTo>
                    <a:pt x="731" y="5128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677" y="5128"/>
                  </a:lnTo>
                  <a:lnTo>
                    <a:pt x="731" y="5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84880" y="3637080"/>
              <a:ext cx="199800" cy="1677960"/>
            </a:xfrm>
            <a:custGeom>
              <a:avLst/>
              <a:gdLst/>
              <a:ahLst/>
              <a:rect l="l" t="t" r="r" b="b"/>
              <a:pathLst>
                <a:path w="617" h="5129">
                  <a:moveTo>
                    <a:pt x="0" y="0"/>
                  </a:moveTo>
                  <a:lnTo>
                    <a:pt x="617" y="5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64000" y="3637080"/>
              <a:ext cx="239760" cy="1677960"/>
            </a:xfrm>
            <a:custGeom>
              <a:avLst/>
              <a:gdLst/>
              <a:ahLst/>
              <a:rect l="l" t="t" r="r" b="b"/>
              <a:pathLst>
                <a:path w="736" h="5129">
                  <a:moveTo>
                    <a:pt x="677" y="5129"/>
                  </a:moveTo>
                  <a:lnTo>
                    <a:pt x="736" y="5129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623" y="5129"/>
                  </a:lnTo>
                  <a:lnTo>
                    <a:pt x="677" y="51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079800" y="4078440"/>
              <a:ext cx="2838240" cy="368280"/>
            </a:xfrm>
            <a:custGeom>
              <a:avLst/>
              <a:gdLst/>
              <a:ahLst/>
              <a:rect l="l" t="t" r="r" b="b"/>
              <a:pathLst>
                <a:path w="8677" h="1125">
                  <a:moveTo>
                    <a:pt x="8677" y="0"/>
                  </a:moveTo>
                  <a:lnTo>
                    <a:pt x="0" y="1125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079800" y="4060800"/>
              <a:ext cx="2838240" cy="406440"/>
            </a:xfrm>
            <a:custGeom>
              <a:avLst/>
              <a:gdLst/>
              <a:ahLst/>
              <a:rect l="l" t="t" r="r" b="b"/>
              <a:pathLst>
                <a:path w="8677" h="1239">
                  <a:moveTo>
                    <a:pt x="0" y="1179"/>
                  </a:moveTo>
                  <a:lnTo>
                    <a:pt x="0" y="1239"/>
                  </a:lnTo>
                  <a:lnTo>
                    <a:pt x="8677" y="113"/>
                  </a:lnTo>
                  <a:lnTo>
                    <a:pt x="8677" y="0"/>
                  </a:lnTo>
                  <a:lnTo>
                    <a:pt x="0" y="1125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135240" y="4521240"/>
              <a:ext cx="2838600" cy="349200"/>
            </a:xfrm>
            <a:custGeom>
              <a:avLst/>
              <a:gdLst/>
              <a:ahLst/>
              <a:rect l="l" t="t" r="r" b="b"/>
              <a:pathLst>
                <a:path w="8677" h="1071">
                  <a:moveTo>
                    <a:pt x="8677" y="0"/>
                  </a:moveTo>
                  <a:lnTo>
                    <a:pt x="0" y="1071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135240" y="4503600"/>
              <a:ext cx="2838600" cy="384480"/>
            </a:xfrm>
            <a:custGeom>
              <a:avLst/>
              <a:gdLst/>
              <a:ahLst/>
              <a:rect l="l" t="t" r="r" b="b"/>
              <a:pathLst>
                <a:path w="8677" h="1179">
                  <a:moveTo>
                    <a:pt x="0" y="1125"/>
                  </a:moveTo>
                  <a:lnTo>
                    <a:pt x="0" y="1179"/>
                  </a:lnTo>
                  <a:lnTo>
                    <a:pt x="8677" y="114"/>
                  </a:lnTo>
                  <a:lnTo>
                    <a:pt x="8677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191040" y="4962600"/>
              <a:ext cx="2836800" cy="352440"/>
            </a:xfrm>
            <a:custGeom>
              <a:avLst/>
              <a:gdLst/>
              <a:ahLst/>
              <a:rect l="l" t="t" r="r" b="b"/>
              <a:pathLst>
                <a:path w="8671" h="1072">
                  <a:moveTo>
                    <a:pt x="8671" y="0"/>
                  </a:moveTo>
                  <a:lnTo>
                    <a:pt x="0" y="1072"/>
                  </a:lnTo>
                  <a:lnTo>
                    <a:pt x="86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191040" y="4944960"/>
              <a:ext cx="2836800" cy="387360"/>
            </a:xfrm>
            <a:custGeom>
              <a:avLst/>
              <a:gdLst/>
              <a:ahLst/>
              <a:rect l="l" t="t" r="r" b="b"/>
              <a:pathLst>
                <a:path w="8671" h="1180">
                  <a:moveTo>
                    <a:pt x="0" y="1126"/>
                  </a:moveTo>
                  <a:lnTo>
                    <a:pt x="0" y="1180"/>
                  </a:lnTo>
                  <a:lnTo>
                    <a:pt x="8671" y="54"/>
                  </a:lnTo>
                  <a:lnTo>
                    <a:pt x="8671" y="0"/>
                  </a:lnTo>
                  <a:lnTo>
                    <a:pt x="0" y="1072"/>
                  </a:lnTo>
                  <a:lnTo>
                    <a:pt x="0" y="11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079800" y="4040280"/>
              <a:ext cx="2838240" cy="352440"/>
            </a:xfrm>
            <a:custGeom>
              <a:avLst/>
              <a:gdLst/>
              <a:ahLst/>
              <a:rect l="l" t="t" r="r" b="b"/>
              <a:pathLst>
                <a:path w="8677" h="1071">
                  <a:moveTo>
                    <a:pt x="8677" y="0"/>
                  </a:moveTo>
                  <a:lnTo>
                    <a:pt x="0" y="1071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79800" y="4022640"/>
              <a:ext cx="2838240" cy="389160"/>
            </a:xfrm>
            <a:custGeom>
              <a:avLst/>
              <a:gdLst/>
              <a:ahLst/>
              <a:rect l="l" t="t" r="r" b="b"/>
              <a:pathLst>
                <a:path w="8677" h="1185">
                  <a:moveTo>
                    <a:pt x="0" y="1125"/>
                  </a:moveTo>
                  <a:lnTo>
                    <a:pt x="0" y="1185"/>
                  </a:lnTo>
                  <a:lnTo>
                    <a:pt x="8677" y="114"/>
                  </a:lnTo>
                  <a:lnTo>
                    <a:pt x="8677" y="0"/>
                  </a:lnTo>
                  <a:lnTo>
                    <a:pt x="0" y="1070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35240" y="4484520"/>
              <a:ext cx="2838600" cy="349560"/>
            </a:xfrm>
            <a:custGeom>
              <a:avLst/>
              <a:gdLst/>
              <a:ahLst/>
              <a:rect l="l" t="t" r="r" b="b"/>
              <a:pathLst>
                <a:path w="8677" h="1072">
                  <a:moveTo>
                    <a:pt x="8677" y="0"/>
                  </a:moveTo>
                  <a:lnTo>
                    <a:pt x="0" y="1072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35240" y="4467240"/>
              <a:ext cx="2838600" cy="385920"/>
            </a:xfrm>
            <a:custGeom>
              <a:avLst/>
              <a:gdLst/>
              <a:ahLst/>
              <a:rect l="l" t="t" r="r" b="b"/>
              <a:pathLst>
                <a:path w="8677" h="1184">
                  <a:moveTo>
                    <a:pt x="0" y="1125"/>
                  </a:moveTo>
                  <a:lnTo>
                    <a:pt x="0" y="1184"/>
                  </a:lnTo>
                  <a:lnTo>
                    <a:pt x="8677" y="53"/>
                  </a:lnTo>
                  <a:lnTo>
                    <a:pt x="8623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191040" y="4908600"/>
              <a:ext cx="2836800" cy="350640"/>
            </a:xfrm>
            <a:custGeom>
              <a:avLst/>
              <a:gdLst/>
              <a:ahLst/>
              <a:rect l="l" t="t" r="r" b="b"/>
              <a:pathLst>
                <a:path w="8671" h="1071">
                  <a:moveTo>
                    <a:pt x="8671" y="0"/>
                  </a:moveTo>
                  <a:lnTo>
                    <a:pt x="0" y="1071"/>
                  </a:lnTo>
                  <a:lnTo>
                    <a:pt x="86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191040" y="4888080"/>
              <a:ext cx="2836800" cy="388800"/>
            </a:xfrm>
            <a:custGeom>
              <a:avLst/>
              <a:gdLst/>
              <a:ahLst/>
              <a:rect l="l" t="t" r="r" b="b"/>
              <a:pathLst>
                <a:path w="8671" h="1185">
                  <a:moveTo>
                    <a:pt x="0" y="1131"/>
                  </a:moveTo>
                  <a:lnTo>
                    <a:pt x="0" y="1185"/>
                  </a:lnTo>
                  <a:lnTo>
                    <a:pt x="8671" y="114"/>
                  </a:lnTo>
                  <a:lnTo>
                    <a:pt x="8617" y="0"/>
                  </a:lnTo>
                  <a:lnTo>
                    <a:pt x="0" y="11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005280" y="3527280"/>
              <a:ext cx="2838240" cy="368280"/>
            </a:xfrm>
            <a:custGeom>
              <a:avLst/>
              <a:gdLst/>
              <a:ahLst/>
              <a:rect l="l" t="t" r="r" b="b"/>
              <a:pathLst>
                <a:path w="8677" h="1126">
                  <a:moveTo>
                    <a:pt x="8677" y="0"/>
                  </a:moveTo>
                  <a:lnTo>
                    <a:pt x="0" y="1126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005280" y="3506760"/>
              <a:ext cx="2838240" cy="388800"/>
            </a:xfrm>
            <a:custGeom>
              <a:avLst/>
              <a:gdLst/>
              <a:ahLst/>
              <a:rect l="l" t="t" r="r" b="b"/>
              <a:pathLst>
                <a:path w="8677" h="1185">
                  <a:moveTo>
                    <a:pt x="0" y="1185"/>
                  </a:moveTo>
                  <a:lnTo>
                    <a:pt x="8677" y="113"/>
                  </a:lnTo>
                  <a:lnTo>
                    <a:pt x="8677" y="0"/>
                  </a:lnTo>
                  <a:lnTo>
                    <a:pt x="0" y="1131"/>
                  </a:lnTo>
                  <a:lnTo>
                    <a:pt x="0" y="11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227400" y="5332320"/>
              <a:ext cx="2838600" cy="349200"/>
            </a:xfrm>
            <a:custGeom>
              <a:avLst/>
              <a:gdLst/>
              <a:ahLst/>
              <a:rect l="l" t="t" r="r" b="b"/>
              <a:pathLst>
                <a:path w="8676" h="1071">
                  <a:moveTo>
                    <a:pt x="8676" y="0"/>
                  </a:moveTo>
                  <a:lnTo>
                    <a:pt x="0" y="1071"/>
                  </a:lnTo>
                  <a:lnTo>
                    <a:pt x="86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227400" y="5315040"/>
              <a:ext cx="2838600" cy="385560"/>
            </a:xfrm>
            <a:custGeom>
              <a:avLst/>
              <a:gdLst/>
              <a:ahLst/>
              <a:rect l="l" t="t" r="r" b="b"/>
              <a:pathLst>
                <a:path w="8676" h="1184">
                  <a:moveTo>
                    <a:pt x="0" y="1125"/>
                  </a:moveTo>
                  <a:lnTo>
                    <a:pt x="0" y="1184"/>
                  </a:lnTo>
                  <a:lnTo>
                    <a:pt x="8676" y="54"/>
                  </a:lnTo>
                  <a:lnTo>
                    <a:pt x="8676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987640" y="3506760"/>
              <a:ext cx="293760" cy="258840"/>
            </a:xfrm>
            <a:custGeom>
              <a:avLst/>
              <a:gdLst/>
              <a:ahLst/>
              <a:rect l="l" t="t" r="r" b="b"/>
              <a:pathLst>
                <a:path w="904" h="790">
                  <a:moveTo>
                    <a:pt x="789" y="790"/>
                  </a:moveTo>
                  <a:lnTo>
                    <a:pt x="731" y="790"/>
                  </a:lnTo>
                  <a:lnTo>
                    <a:pt x="622" y="790"/>
                  </a:lnTo>
                  <a:lnTo>
                    <a:pt x="562" y="790"/>
                  </a:lnTo>
                  <a:lnTo>
                    <a:pt x="508" y="790"/>
                  </a:lnTo>
                  <a:lnTo>
                    <a:pt x="449" y="790"/>
                  </a:lnTo>
                  <a:lnTo>
                    <a:pt x="395" y="736"/>
                  </a:lnTo>
                  <a:lnTo>
                    <a:pt x="281" y="736"/>
                  </a:lnTo>
                  <a:lnTo>
                    <a:pt x="281" y="676"/>
                  </a:lnTo>
                  <a:lnTo>
                    <a:pt x="227" y="676"/>
                  </a:lnTo>
                  <a:lnTo>
                    <a:pt x="168" y="623"/>
                  </a:lnTo>
                  <a:lnTo>
                    <a:pt x="114" y="623"/>
                  </a:lnTo>
                  <a:lnTo>
                    <a:pt x="114" y="563"/>
                  </a:lnTo>
                  <a:lnTo>
                    <a:pt x="54" y="509"/>
                  </a:lnTo>
                  <a:lnTo>
                    <a:pt x="54" y="454"/>
                  </a:lnTo>
                  <a:lnTo>
                    <a:pt x="0" y="454"/>
                  </a:lnTo>
                  <a:lnTo>
                    <a:pt x="0" y="395"/>
                  </a:lnTo>
                  <a:lnTo>
                    <a:pt x="0" y="340"/>
                  </a:lnTo>
                  <a:lnTo>
                    <a:pt x="0" y="282"/>
                  </a:lnTo>
                  <a:lnTo>
                    <a:pt x="54" y="227"/>
                  </a:lnTo>
                  <a:lnTo>
                    <a:pt x="114" y="173"/>
                  </a:lnTo>
                  <a:lnTo>
                    <a:pt x="168" y="113"/>
                  </a:lnTo>
                  <a:lnTo>
                    <a:pt x="227" y="59"/>
                  </a:lnTo>
                  <a:lnTo>
                    <a:pt x="341" y="0"/>
                  </a:lnTo>
                  <a:lnTo>
                    <a:pt x="449" y="0"/>
                  </a:lnTo>
                  <a:lnTo>
                    <a:pt x="731" y="0"/>
                  </a:lnTo>
                  <a:lnTo>
                    <a:pt x="789" y="173"/>
                  </a:lnTo>
                  <a:lnTo>
                    <a:pt x="562" y="173"/>
                  </a:lnTo>
                  <a:lnTo>
                    <a:pt x="508" y="173"/>
                  </a:lnTo>
                  <a:lnTo>
                    <a:pt x="449" y="227"/>
                  </a:lnTo>
                  <a:lnTo>
                    <a:pt x="395" y="227"/>
                  </a:lnTo>
                  <a:lnTo>
                    <a:pt x="341" y="282"/>
                  </a:lnTo>
                  <a:lnTo>
                    <a:pt x="341" y="340"/>
                  </a:lnTo>
                  <a:lnTo>
                    <a:pt x="341" y="395"/>
                  </a:lnTo>
                  <a:lnTo>
                    <a:pt x="395" y="454"/>
                  </a:lnTo>
                  <a:lnTo>
                    <a:pt x="449" y="509"/>
                  </a:lnTo>
                  <a:lnTo>
                    <a:pt x="508" y="563"/>
                  </a:lnTo>
                  <a:lnTo>
                    <a:pt x="562" y="563"/>
                  </a:lnTo>
                  <a:lnTo>
                    <a:pt x="677" y="623"/>
                  </a:lnTo>
                  <a:lnTo>
                    <a:pt x="731" y="623"/>
                  </a:lnTo>
                  <a:lnTo>
                    <a:pt x="844" y="623"/>
                  </a:lnTo>
                  <a:lnTo>
                    <a:pt x="904" y="563"/>
                  </a:lnTo>
                  <a:lnTo>
                    <a:pt x="844" y="790"/>
                  </a:lnTo>
                  <a:lnTo>
                    <a:pt x="789" y="790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281400" y="3452760"/>
              <a:ext cx="331920" cy="333360"/>
            </a:xfrm>
            <a:custGeom>
              <a:avLst/>
              <a:gdLst/>
              <a:ahLst/>
              <a:rect l="l" t="t" r="r" b="b"/>
              <a:pathLst>
                <a:path w="1011" h="1018">
                  <a:moveTo>
                    <a:pt x="676" y="844"/>
                  </a:moveTo>
                  <a:lnTo>
                    <a:pt x="676" y="622"/>
                  </a:lnTo>
                  <a:lnTo>
                    <a:pt x="335" y="622"/>
                  </a:lnTo>
                  <a:lnTo>
                    <a:pt x="335" y="677"/>
                  </a:lnTo>
                  <a:lnTo>
                    <a:pt x="335" y="731"/>
                  </a:lnTo>
                  <a:lnTo>
                    <a:pt x="395" y="791"/>
                  </a:lnTo>
                  <a:lnTo>
                    <a:pt x="395" y="844"/>
                  </a:lnTo>
                  <a:lnTo>
                    <a:pt x="449" y="844"/>
                  </a:lnTo>
                  <a:lnTo>
                    <a:pt x="449" y="904"/>
                  </a:lnTo>
                  <a:lnTo>
                    <a:pt x="221" y="1018"/>
                  </a:lnTo>
                  <a:lnTo>
                    <a:pt x="167" y="958"/>
                  </a:lnTo>
                  <a:lnTo>
                    <a:pt x="108" y="958"/>
                  </a:lnTo>
                  <a:lnTo>
                    <a:pt x="108" y="904"/>
                  </a:lnTo>
                  <a:lnTo>
                    <a:pt x="54" y="844"/>
                  </a:lnTo>
                  <a:lnTo>
                    <a:pt x="54" y="791"/>
                  </a:lnTo>
                  <a:lnTo>
                    <a:pt x="0" y="731"/>
                  </a:lnTo>
                  <a:lnTo>
                    <a:pt x="0" y="677"/>
                  </a:lnTo>
                  <a:lnTo>
                    <a:pt x="0" y="622"/>
                  </a:lnTo>
                  <a:lnTo>
                    <a:pt x="0" y="563"/>
                  </a:lnTo>
                  <a:lnTo>
                    <a:pt x="0" y="508"/>
                  </a:lnTo>
                  <a:lnTo>
                    <a:pt x="0" y="450"/>
                  </a:lnTo>
                  <a:lnTo>
                    <a:pt x="54" y="395"/>
                  </a:lnTo>
                  <a:lnTo>
                    <a:pt x="54" y="341"/>
                  </a:lnTo>
                  <a:lnTo>
                    <a:pt x="108" y="281"/>
                  </a:lnTo>
                  <a:lnTo>
                    <a:pt x="167" y="227"/>
                  </a:lnTo>
                  <a:lnTo>
                    <a:pt x="221" y="168"/>
                  </a:lnTo>
                  <a:lnTo>
                    <a:pt x="281" y="168"/>
                  </a:lnTo>
                  <a:lnTo>
                    <a:pt x="335" y="114"/>
                  </a:lnTo>
                  <a:lnTo>
                    <a:pt x="395" y="114"/>
                  </a:lnTo>
                  <a:lnTo>
                    <a:pt x="502" y="54"/>
                  </a:lnTo>
                  <a:lnTo>
                    <a:pt x="562" y="54"/>
                  </a:lnTo>
                  <a:lnTo>
                    <a:pt x="676" y="54"/>
                  </a:lnTo>
                  <a:lnTo>
                    <a:pt x="730" y="0"/>
                  </a:lnTo>
                  <a:lnTo>
                    <a:pt x="897" y="0"/>
                  </a:lnTo>
                  <a:lnTo>
                    <a:pt x="1011" y="168"/>
                  </a:lnTo>
                  <a:lnTo>
                    <a:pt x="730" y="227"/>
                  </a:lnTo>
                  <a:lnTo>
                    <a:pt x="616" y="227"/>
                  </a:lnTo>
                  <a:lnTo>
                    <a:pt x="562" y="281"/>
                  </a:lnTo>
                  <a:lnTo>
                    <a:pt x="449" y="281"/>
                  </a:lnTo>
                  <a:lnTo>
                    <a:pt x="395" y="341"/>
                  </a:lnTo>
                  <a:lnTo>
                    <a:pt x="335" y="395"/>
                  </a:lnTo>
                  <a:lnTo>
                    <a:pt x="335" y="450"/>
                  </a:lnTo>
                  <a:lnTo>
                    <a:pt x="616" y="395"/>
                  </a:lnTo>
                  <a:lnTo>
                    <a:pt x="616" y="227"/>
                  </a:lnTo>
                  <a:lnTo>
                    <a:pt x="957" y="227"/>
                  </a:lnTo>
                  <a:lnTo>
                    <a:pt x="1011" y="791"/>
                  </a:lnTo>
                  <a:lnTo>
                    <a:pt x="676" y="844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668760" y="3435480"/>
              <a:ext cx="258840" cy="276120"/>
            </a:xfrm>
            <a:custGeom>
              <a:avLst/>
              <a:gdLst/>
              <a:ahLst/>
              <a:rect l="l" t="t" r="r" b="b"/>
              <a:pathLst>
                <a:path w="789" h="845">
                  <a:moveTo>
                    <a:pt x="789" y="562"/>
                  </a:moveTo>
                  <a:lnTo>
                    <a:pt x="735" y="731"/>
                  </a:lnTo>
                  <a:lnTo>
                    <a:pt x="60" y="845"/>
                  </a:lnTo>
                  <a:lnTo>
                    <a:pt x="0" y="54"/>
                  </a:lnTo>
                  <a:lnTo>
                    <a:pt x="281" y="0"/>
                  </a:lnTo>
                  <a:lnTo>
                    <a:pt x="395" y="617"/>
                  </a:lnTo>
                  <a:lnTo>
                    <a:pt x="789" y="562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948120" y="3378240"/>
              <a:ext cx="291960" cy="295200"/>
            </a:xfrm>
            <a:custGeom>
              <a:avLst/>
              <a:gdLst/>
              <a:ahLst/>
              <a:rect l="l" t="t" r="r" b="b"/>
              <a:pathLst>
                <a:path w="898" h="904">
                  <a:moveTo>
                    <a:pt x="335" y="227"/>
                  </a:moveTo>
                  <a:lnTo>
                    <a:pt x="335" y="341"/>
                  </a:lnTo>
                  <a:lnTo>
                    <a:pt x="784" y="281"/>
                  </a:lnTo>
                  <a:lnTo>
                    <a:pt x="731" y="508"/>
                  </a:lnTo>
                  <a:lnTo>
                    <a:pt x="390" y="508"/>
                  </a:lnTo>
                  <a:lnTo>
                    <a:pt x="390" y="677"/>
                  </a:lnTo>
                  <a:lnTo>
                    <a:pt x="898" y="622"/>
                  </a:lnTo>
                  <a:lnTo>
                    <a:pt x="898" y="790"/>
                  </a:lnTo>
                  <a:lnTo>
                    <a:pt x="108" y="904"/>
                  </a:lnTo>
                  <a:lnTo>
                    <a:pt x="0" y="114"/>
                  </a:lnTo>
                  <a:lnTo>
                    <a:pt x="731" y="0"/>
                  </a:lnTo>
                  <a:lnTo>
                    <a:pt x="844" y="173"/>
                  </a:lnTo>
                  <a:lnTo>
                    <a:pt x="335" y="227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276800" y="3322800"/>
              <a:ext cx="352440" cy="314280"/>
            </a:xfrm>
            <a:custGeom>
              <a:avLst/>
              <a:gdLst/>
              <a:ahLst/>
              <a:rect l="l" t="t" r="r" b="b"/>
              <a:pathLst>
                <a:path w="1071" h="957">
                  <a:moveTo>
                    <a:pt x="789" y="844"/>
                  </a:moveTo>
                  <a:lnTo>
                    <a:pt x="730" y="621"/>
                  </a:lnTo>
                  <a:lnTo>
                    <a:pt x="340" y="394"/>
                  </a:lnTo>
                  <a:lnTo>
                    <a:pt x="394" y="902"/>
                  </a:lnTo>
                  <a:lnTo>
                    <a:pt x="113" y="957"/>
                  </a:lnTo>
                  <a:lnTo>
                    <a:pt x="0" y="113"/>
                  </a:lnTo>
                  <a:lnTo>
                    <a:pt x="281" y="113"/>
                  </a:lnTo>
                  <a:lnTo>
                    <a:pt x="675" y="340"/>
                  </a:lnTo>
                  <a:lnTo>
                    <a:pt x="675" y="59"/>
                  </a:lnTo>
                  <a:lnTo>
                    <a:pt x="957" y="0"/>
                  </a:lnTo>
                  <a:lnTo>
                    <a:pt x="1071" y="789"/>
                  </a:lnTo>
                  <a:lnTo>
                    <a:pt x="789" y="844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64160" y="3286080"/>
              <a:ext cx="368280" cy="295200"/>
            </a:xfrm>
            <a:custGeom>
              <a:avLst/>
              <a:gdLst/>
              <a:ahLst/>
              <a:rect l="l" t="t" r="r" b="b"/>
              <a:pathLst>
                <a:path w="1126" h="903">
                  <a:moveTo>
                    <a:pt x="54" y="281"/>
                  </a:moveTo>
                  <a:lnTo>
                    <a:pt x="395" y="227"/>
                  </a:lnTo>
                  <a:lnTo>
                    <a:pt x="449" y="676"/>
                  </a:lnTo>
                  <a:lnTo>
                    <a:pt x="503" y="676"/>
                  </a:lnTo>
                  <a:lnTo>
                    <a:pt x="562" y="622"/>
                  </a:lnTo>
                  <a:lnTo>
                    <a:pt x="676" y="562"/>
                  </a:lnTo>
                  <a:lnTo>
                    <a:pt x="730" y="508"/>
                  </a:lnTo>
                  <a:lnTo>
                    <a:pt x="790" y="454"/>
                  </a:lnTo>
                  <a:lnTo>
                    <a:pt x="790" y="395"/>
                  </a:lnTo>
                  <a:lnTo>
                    <a:pt x="790" y="341"/>
                  </a:lnTo>
                  <a:lnTo>
                    <a:pt x="790" y="281"/>
                  </a:lnTo>
                  <a:lnTo>
                    <a:pt x="730" y="227"/>
                  </a:lnTo>
                  <a:lnTo>
                    <a:pt x="676" y="227"/>
                  </a:lnTo>
                  <a:lnTo>
                    <a:pt x="616" y="227"/>
                  </a:lnTo>
                  <a:lnTo>
                    <a:pt x="562" y="227"/>
                  </a:lnTo>
                  <a:lnTo>
                    <a:pt x="503" y="227"/>
                  </a:lnTo>
                  <a:lnTo>
                    <a:pt x="0" y="281"/>
                  </a:lnTo>
                  <a:lnTo>
                    <a:pt x="54" y="114"/>
                  </a:lnTo>
                  <a:lnTo>
                    <a:pt x="562" y="0"/>
                  </a:lnTo>
                  <a:lnTo>
                    <a:pt x="676" y="0"/>
                  </a:lnTo>
                  <a:lnTo>
                    <a:pt x="790" y="0"/>
                  </a:lnTo>
                  <a:lnTo>
                    <a:pt x="897" y="60"/>
                  </a:lnTo>
                  <a:lnTo>
                    <a:pt x="957" y="60"/>
                  </a:lnTo>
                  <a:lnTo>
                    <a:pt x="1012" y="114"/>
                  </a:lnTo>
                  <a:lnTo>
                    <a:pt x="1072" y="173"/>
                  </a:lnTo>
                  <a:lnTo>
                    <a:pt x="1126" y="227"/>
                  </a:lnTo>
                  <a:lnTo>
                    <a:pt x="1126" y="281"/>
                  </a:lnTo>
                  <a:lnTo>
                    <a:pt x="1126" y="395"/>
                  </a:lnTo>
                  <a:lnTo>
                    <a:pt x="1072" y="508"/>
                  </a:lnTo>
                  <a:lnTo>
                    <a:pt x="1012" y="562"/>
                  </a:lnTo>
                  <a:lnTo>
                    <a:pt x="897" y="676"/>
                  </a:lnTo>
                  <a:lnTo>
                    <a:pt x="843" y="735"/>
                  </a:lnTo>
                  <a:lnTo>
                    <a:pt x="676" y="789"/>
                  </a:lnTo>
                  <a:lnTo>
                    <a:pt x="562" y="849"/>
                  </a:lnTo>
                  <a:lnTo>
                    <a:pt x="395" y="849"/>
                  </a:lnTo>
                  <a:lnTo>
                    <a:pt x="114" y="903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070600" y="3232080"/>
              <a:ext cx="293400" cy="295200"/>
            </a:xfrm>
            <a:custGeom>
              <a:avLst/>
              <a:gdLst/>
              <a:ahLst/>
              <a:rect l="l" t="t" r="r" b="b"/>
              <a:pathLst>
                <a:path w="897" h="903">
                  <a:moveTo>
                    <a:pt x="335" y="228"/>
                  </a:moveTo>
                  <a:lnTo>
                    <a:pt x="335" y="395"/>
                  </a:lnTo>
                  <a:lnTo>
                    <a:pt x="789" y="341"/>
                  </a:lnTo>
                  <a:lnTo>
                    <a:pt x="730" y="509"/>
                  </a:lnTo>
                  <a:lnTo>
                    <a:pt x="335" y="563"/>
                  </a:lnTo>
                  <a:lnTo>
                    <a:pt x="395" y="676"/>
                  </a:lnTo>
                  <a:lnTo>
                    <a:pt x="897" y="622"/>
                  </a:lnTo>
                  <a:lnTo>
                    <a:pt x="843" y="790"/>
                  </a:lnTo>
                  <a:lnTo>
                    <a:pt x="114" y="903"/>
                  </a:lnTo>
                  <a:lnTo>
                    <a:pt x="0" y="113"/>
                  </a:lnTo>
                  <a:lnTo>
                    <a:pt x="730" y="0"/>
                  </a:lnTo>
                  <a:lnTo>
                    <a:pt x="843" y="168"/>
                  </a:lnTo>
                  <a:lnTo>
                    <a:pt x="335" y="228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02160" y="3195720"/>
              <a:ext cx="387360" cy="293760"/>
            </a:xfrm>
            <a:custGeom>
              <a:avLst/>
              <a:gdLst/>
              <a:ahLst/>
              <a:rect l="l" t="t" r="r" b="b"/>
              <a:pathLst>
                <a:path w="1184" h="904">
                  <a:moveTo>
                    <a:pt x="1016" y="173"/>
                  </a:moveTo>
                  <a:lnTo>
                    <a:pt x="1016" y="227"/>
                  </a:lnTo>
                  <a:lnTo>
                    <a:pt x="1016" y="282"/>
                  </a:lnTo>
                  <a:lnTo>
                    <a:pt x="956" y="282"/>
                  </a:lnTo>
                  <a:lnTo>
                    <a:pt x="956" y="342"/>
                  </a:lnTo>
                  <a:lnTo>
                    <a:pt x="903" y="396"/>
                  </a:lnTo>
                  <a:lnTo>
                    <a:pt x="849" y="396"/>
                  </a:lnTo>
                  <a:lnTo>
                    <a:pt x="849" y="455"/>
                  </a:lnTo>
                  <a:lnTo>
                    <a:pt x="789" y="455"/>
                  </a:lnTo>
                  <a:lnTo>
                    <a:pt x="849" y="509"/>
                  </a:lnTo>
                  <a:lnTo>
                    <a:pt x="849" y="563"/>
                  </a:lnTo>
                  <a:lnTo>
                    <a:pt x="903" y="563"/>
                  </a:lnTo>
                  <a:lnTo>
                    <a:pt x="956" y="623"/>
                  </a:lnTo>
                  <a:lnTo>
                    <a:pt x="1016" y="677"/>
                  </a:lnTo>
                  <a:lnTo>
                    <a:pt x="1070" y="677"/>
                  </a:lnTo>
                  <a:lnTo>
                    <a:pt x="1130" y="736"/>
                  </a:lnTo>
                  <a:lnTo>
                    <a:pt x="1184" y="736"/>
                  </a:lnTo>
                  <a:lnTo>
                    <a:pt x="903" y="904"/>
                  </a:lnTo>
                  <a:lnTo>
                    <a:pt x="849" y="844"/>
                  </a:lnTo>
                  <a:lnTo>
                    <a:pt x="789" y="844"/>
                  </a:lnTo>
                  <a:lnTo>
                    <a:pt x="675" y="790"/>
                  </a:lnTo>
                  <a:lnTo>
                    <a:pt x="621" y="736"/>
                  </a:lnTo>
                  <a:lnTo>
                    <a:pt x="562" y="677"/>
                  </a:lnTo>
                  <a:lnTo>
                    <a:pt x="508" y="623"/>
                  </a:lnTo>
                  <a:lnTo>
                    <a:pt x="454" y="509"/>
                  </a:lnTo>
                  <a:lnTo>
                    <a:pt x="394" y="455"/>
                  </a:lnTo>
                  <a:lnTo>
                    <a:pt x="454" y="455"/>
                  </a:lnTo>
                  <a:lnTo>
                    <a:pt x="508" y="396"/>
                  </a:lnTo>
                  <a:lnTo>
                    <a:pt x="562" y="342"/>
                  </a:lnTo>
                  <a:lnTo>
                    <a:pt x="621" y="342"/>
                  </a:lnTo>
                  <a:lnTo>
                    <a:pt x="621" y="282"/>
                  </a:lnTo>
                  <a:lnTo>
                    <a:pt x="675" y="282"/>
                  </a:lnTo>
                  <a:lnTo>
                    <a:pt x="675" y="227"/>
                  </a:lnTo>
                  <a:lnTo>
                    <a:pt x="621" y="227"/>
                  </a:lnTo>
                  <a:lnTo>
                    <a:pt x="562" y="227"/>
                  </a:lnTo>
                  <a:lnTo>
                    <a:pt x="508" y="227"/>
                  </a:lnTo>
                  <a:lnTo>
                    <a:pt x="0" y="282"/>
                  </a:lnTo>
                  <a:lnTo>
                    <a:pt x="0" y="114"/>
                  </a:lnTo>
                  <a:lnTo>
                    <a:pt x="621" y="0"/>
                  </a:lnTo>
                  <a:lnTo>
                    <a:pt x="735" y="0"/>
                  </a:lnTo>
                  <a:lnTo>
                    <a:pt x="789" y="0"/>
                  </a:lnTo>
                  <a:lnTo>
                    <a:pt x="849" y="0"/>
                  </a:lnTo>
                  <a:lnTo>
                    <a:pt x="903" y="60"/>
                  </a:lnTo>
                  <a:lnTo>
                    <a:pt x="956" y="60"/>
                  </a:lnTo>
                  <a:lnTo>
                    <a:pt x="1016" y="114"/>
                  </a:lnTo>
                  <a:lnTo>
                    <a:pt x="1016" y="173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419800" y="3286080"/>
              <a:ext cx="129960" cy="203400"/>
            </a:xfrm>
            <a:custGeom>
              <a:avLst/>
              <a:gdLst/>
              <a:ahLst/>
              <a:rect l="l" t="t" r="r" b="b"/>
              <a:pathLst>
                <a:path w="396" h="622">
                  <a:moveTo>
                    <a:pt x="55" y="622"/>
                  </a:moveTo>
                  <a:lnTo>
                    <a:pt x="0" y="0"/>
                  </a:lnTo>
                  <a:lnTo>
                    <a:pt x="282" y="0"/>
                  </a:lnTo>
                  <a:lnTo>
                    <a:pt x="396" y="562"/>
                  </a:lnTo>
                  <a:lnTo>
                    <a:pt x="55" y="622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3122640" y="3629160"/>
            <a:ext cx="2835360" cy="2025360"/>
            <a:chOff x="3122640" y="3629160"/>
            <a:chExt cx="2835360" cy="2025360"/>
          </a:xfrm>
        </p:grpSpPr>
        <p:sp>
          <p:nvSpPr>
            <p:cNvPr id="1566" name=""/>
            <p:cNvSpPr/>
            <p:nvPr/>
          </p:nvSpPr>
          <p:spPr>
            <a:xfrm>
              <a:off x="3122640" y="3909960"/>
              <a:ext cx="369720" cy="461880"/>
            </a:xfrm>
            <a:custGeom>
              <a:avLst/>
              <a:gdLst/>
              <a:ahLst/>
              <a:rect l="l" t="t" r="r" b="b"/>
              <a:pathLst>
                <a:path w="1127" h="1415">
                  <a:moveTo>
                    <a:pt x="1074" y="986"/>
                  </a:moveTo>
                  <a:lnTo>
                    <a:pt x="1074" y="1002"/>
                  </a:lnTo>
                  <a:lnTo>
                    <a:pt x="1074" y="1022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5"/>
                  </a:lnTo>
                  <a:lnTo>
                    <a:pt x="1019" y="1075"/>
                  </a:lnTo>
                  <a:lnTo>
                    <a:pt x="1001" y="1094"/>
                  </a:lnTo>
                  <a:lnTo>
                    <a:pt x="984" y="1111"/>
                  </a:lnTo>
                  <a:lnTo>
                    <a:pt x="984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8" y="1183"/>
                  </a:lnTo>
                  <a:lnTo>
                    <a:pt x="929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5" y="1183"/>
                  </a:lnTo>
                  <a:lnTo>
                    <a:pt x="876" y="1183"/>
                  </a:lnTo>
                  <a:lnTo>
                    <a:pt x="876" y="1165"/>
                  </a:lnTo>
                  <a:lnTo>
                    <a:pt x="858" y="1165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0"/>
                  </a:lnTo>
                  <a:lnTo>
                    <a:pt x="823" y="1218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0" y="1236"/>
                  </a:lnTo>
                  <a:lnTo>
                    <a:pt x="750" y="1218"/>
                  </a:lnTo>
                  <a:lnTo>
                    <a:pt x="733" y="1218"/>
                  </a:lnTo>
                  <a:lnTo>
                    <a:pt x="714" y="1200"/>
                  </a:lnTo>
                  <a:lnTo>
                    <a:pt x="697" y="1183"/>
                  </a:lnTo>
                  <a:lnTo>
                    <a:pt x="680" y="1165"/>
                  </a:lnTo>
                  <a:lnTo>
                    <a:pt x="661" y="1147"/>
                  </a:lnTo>
                  <a:lnTo>
                    <a:pt x="644" y="1128"/>
                  </a:lnTo>
                  <a:lnTo>
                    <a:pt x="624" y="1111"/>
                  </a:lnTo>
                  <a:lnTo>
                    <a:pt x="608" y="1094"/>
                  </a:lnTo>
                  <a:lnTo>
                    <a:pt x="589" y="1075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6" y="1022"/>
                  </a:lnTo>
                  <a:lnTo>
                    <a:pt x="518" y="1022"/>
                  </a:lnTo>
                  <a:lnTo>
                    <a:pt x="500" y="1002"/>
                  </a:lnTo>
                  <a:lnTo>
                    <a:pt x="250" y="1415"/>
                  </a:lnTo>
                  <a:lnTo>
                    <a:pt x="214" y="1415"/>
                  </a:lnTo>
                  <a:lnTo>
                    <a:pt x="178" y="1379"/>
                  </a:lnTo>
                  <a:lnTo>
                    <a:pt x="178" y="1362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2"/>
                  </a:lnTo>
                  <a:lnTo>
                    <a:pt x="124" y="1362"/>
                  </a:lnTo>
                  <a:lnTo>
                    <a:pt x="106" y="1362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90"/>
                  </a:lnTo>
                  <a:lnTo>
                    <a:pt x="35" y="1273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5" y="1218"/>
                  </a:lnTo>
                  <a:lnTo>
                    <a:pt x="35" y="1200"/>
                  </a:lnTo>
                  <a:lnTo>
                    <a:pt x="16" y="1183"/>
                  </a:lnTo>
                  <a:lnTo>
                    <a:pt x="0" y="1165"/>
                  </a:lnTo>
                  <a:lnTo>
                    <a:pt x="304" y="770"/>
                  </a:lnTo>
                  <a:lnTo>
                    <a:pt x="284" y="735"/>
                  </a:lnTo>
                  <a:lnTo>
                    <a:pt x="267" y="717"/>
                  </a:lnTo>
                  <a:lnTo>
                    <a:pt x="231" y="682"/>
                  </a:lnTo>
                  <a:lnTo>
                    <a:pt x="214" y="664"/>
                  </a:lnTo>
                  <a:lnTo>
                    <a:pt x="196" y="628"/>
                  </a:lnTo>
                  <a:lnTo>
                    <a:pt x="178" y="609"/>
                  </a:lnTo>
                  <a:lnTo>
                    <a:pt x="161" y="575"/>
                  </a:lnTo>
                  <a:lnTo>
                    <a:pt x="141" y="556"/>
                  </a:lnTo>
                  <a:lnTo>
                    <a:pt x="124" y="519"/>
                  </a:lnTo>
                  <a:lnTo>
                    <a:pt x="106" y="502"/>
                  </a:lnTo>
                  <a:lnTo>
                    <a:pt x="88" y="466"/>
                  </a:lnTo>
                  <a:lnTo>
                    <a:pt x="70" y="449"/>
                  </a:lnTo>
                  <a:lnTo>
                    <a:pt x="53" y="413"/>
                  </a:lnTo>
                  <a:lnTo>
                    <a:pt x="35" y="377"/>
                  </a:lnTo>
                  <a:lnTo>
                    <a:pt x="16" y="360"/>
                  </a:lnTo>
                  <a:lnTo>
                    <a:pt x="0" y="323"/>
                  </a:lnTo>
                  <a:lnTo>
                    <a:pt x="16" y="305"/>
                  </a:lnTo>
                  <a:lnTo>
                    <a:pt x="16" y="287"/>
                  </a:lnTo>
                  <a:lnTo>
                    <a:pt x="35" y="269"/>
                  </a:lnTo>
                  <a:lnTo>
                    <a:pt x="53" y="252"/>
                  </a:lnTo>
                  <a:lnTo>
                    <a:pt x="70" y="234"/>
                  </a:lnTo>
                  <a:lnTo>
                    <a:pt x="88" y="252"/>
                  </a:lnTo>
                  <a:lnTo>
                    <a:pt x="106" y="252"/>
                  </a:lnTo>
                  <a:lnTo>
                    <a:pt x="124" y="269"/>
                  </a:lnTo>
                  <a:lnTo>
                    <a:pt x="124" y="252"/>
                  </a:lnTo>
                  <a:lnTo>
                    <a:pt x="141" y="252"/>
                  </a:lnTo>
                  <a:lnTo>
                    <a:pt x="141" y="234"/>
                  </a:lnTo>
                  <a:lnTo>
                    <a:pt x="141" y="215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6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5"/>
                  </a:lnTo>
                  <a:lnTo>
                    <a:pt x="267" y="234"/>
                  </a:lnTo>
                  <a:lnTo>
                    <a:pt x="284" y="252"/>
                  </a:lnTo>
                  <a:lnTo>
                    <a:pt x="320" y="287"/>
                  </a:lnTo>
                  <a:lnTo>
                    <a:pt x="340" y="323"/>
                  </a:lnTo>
                  <a:lnTo>
                    <a:pt x="374" y="341"/>
                  </a:lnTo>
                  <a:lnTo>
                    <a:pt x="428" y="395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6"/>
                  </a:lnTo>
                  <a:lnTo>
                    <a:pt x="554" y="449"/>
                  </a:lnTo>
                  <a:lnTo>
                    <a:pt x="571" y="430"/>
                  </a:lnTo>
                  <a:lnTo>
                    <a:pt x="589" y="395"/>
                  </a:lnTo>
                  <a:lnTo>
                    <a:pt x="624" y="360"/>
                  </a:lnTo>
                  <a:lnTo>
                    <a:pt x="661" y="305"/>
                  </a:lnTo>
                  <a:lnTo>
                    <a:pt x="697" y="269"/>
                  </a:lnTo>
                  <a:lnTo>
                    <a:pt x="733" y="234"/>
                  </a:lnTo>
                  <a:lnTo>
                    <a:pt x="770" y="179"/>
                  </a:lnTo>
                  <a:lnTo>
                    <a:pt x="804" y="145"/>
                  </a:lnTo>
                  <a:lnTo>
                    <a:pt x="840" y="109"/>
                  </a:lnTo>
                  <a:lnTo>
                    <a:pt x="876" y="73"/>
                  </a:lnTo>
                  <a:lnTo>
                    <a:pt x="895" y="36"/>
                  </a:lnTo>
                  <a:lnTo>
                    <a:pt x="913" y="19"/>
                  </a:lnTo>
                  <a:lnTo>
                    <a:pt x="929" y="0"/>
                  </a:lnTo>
                  <a:lnTo>
                    <a:pt x="948" y="0"/>
                  </a:lnTo>
                  <a:lnTo>
                    <a:pt x="966" y="19"/>
                  </a:lnTo>
                  <a:lnTo>
                    <a:pt x="984" y="19"/>
                  </a:lnTo>
                  <a:lnTo>
                    <a:pt x="1001" y="36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7" y="90"/>
                  </a:lnTo>
                  <a:lnTo>
                    <a:pt x="1054" y="90"/>
                  </a:lnTo>
                  <a:lnTo>
                    <a:pt x="1074" y="90"/>
                  </a:lnTo>
                  <a:lnTo>
                    <a:pt x="1091" y="90"/>
                  </a:lnTo>
                  <a:lnTo>
                    <a:pt x="1091" y="109"/>
                  </a:lnTo>
                  <a:lnTo>
                    <a:pt x="1108" y="109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2"/>
                  </a:lnTo>
                  <a:lnTo>
                    <a:pt x="1108" y="179"/>
                  </a:lnTo>
                  <a:lnTo>
                    <a:pt x="1091" y="215"/>
                  </a:lnTo>
                  <a:lnTo>
                    <a:pt x="1074" y="252"/>
                  </a:lnTo>
                  <a:lnTo>
                    <a:pt x="1037" y="287"/>
                  </a:lnTo>
                  <a:lnTo>
                    <a:pt x="1001" y="341"/>
                  </a:lnTo>
                  <a:lnTo>
                    <a:pt x="966" y="377"/>
                  </a:lnTo>
                  <a:lnTo>
                    <a:pt x="929" y="430"/>
                  </a:lnTo>
                  <a:lnTo>
                    <a:pt x="895" y="483"/>
                  </a:lnTo>
                  <a:lnTo>
                    <a:pt x="858" y="519"/>
                  </a:lnTo>
                  <a:lnTo>
                    <a:pt x="823" y="575"/>
                  </a:lnTo>
                  <a:lnTo>
                    <a:pt x="787" y="609"/>
                  </a:lnTo>
                  <a:lnTo>
                    <a:pt x="770" y="645"/>
                  </a:lnTo>
                  <a:lnTo>
                    <a:pt x="750" y="664"/>
                  </a:lnTo>
                  <a:lnTo>
                    <a:pt x="733" y="682"/>
                  </a:lnTo>
                  <a:lnTo>
                    <a:pt x="714" y="698"/>
                  </a:lnTo>
                  <a:lnTo>
                    <a:pt x="1074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184560" y="437184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5" y="984"/>
                  </a:moveTo>
                  <a:lnTo>
                    <a:pt x="1075" y="1002"/>
                  </a:lnTo>
                  <a:lnTo>
                    <a:pt x="1075" y="1021"/>
                  </a:lnTo>
                  <a:lnTo>
                    <a:pt x="1055" y="1037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20" y="1074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7" y="1146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59" y="1163"/>
                  </a:lnTo>
                  <a:lnTo>
                    <a:pt x="859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7"/>
                  </a:lnTo>
                  <a:lnTo>
                    <a:pt x="804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2" y="1146"/>
                  </a:lnTo>
                  <a:lnTo>
                    <a:pt x="645" y="1127"/>
                  </a:lnTo>
                  <a:lnTo>
                    <a:pt x="625" y="1110"/>
                  </a:lnTo>
                  <a:lnTo>
                    <a:pt x="608" y="1093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7"/>
                  </a:lnTo>
                  <a:lnTo>
                    <a:pt x="537" y="1021"/>
                  </a:lnTo>
                  <a:lnTo>
                    <a:pt x="519" y="1021"/>
                  </a:lnTo>
                  <a:lnTo>
                    <a:pt x="501" y="1002"/>
                  </a:lnTo>
                  <a:lnTo>
                    <a:pt x="251" y="1414"/>
                  </a:lnTo>
                  <a:lnTo>
                    <a:pt x="215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2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7" y="1361"/>
                  </a:lnTo>
                  <a:lnTo>
                    <a:pt x="89" y="1342"/>
                  </a:lnTo>
                  <a:lnTo>
                    <a:pt x="71" y="1342"/>
                  </a:lnTo>
                  <a:lnTo>
                    <a:pt x="71" y="1326"/>
                  </a:lnTo>
                  <a:lnTo>
                    <a:pt x="54" y="1308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7" y="1183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3"/>
                  </a:lnTo>
                  <a:lnTo>
                    <a:pt x="268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4"/>
                  </a:lnTo>
                  <a:lnTo>
                    <a:pt x="125" y="519"/>
                  </a:lnTo>
                  <a:lnTo>
                    <a:pt x="107" y="501"/>
                  </a:lnTo>
                  <a:lnTo>
                    <a:pt x="89" y="466"/>
                  </a:lnTo>
                  <a:lnTo>
                    <a:pt x="71" y="448"/>
                  </a:lnTo>
                  <a:lnTo>
                    <a:pt x="54" y="413"/>
                  </a:lnTo>
                  <a:lnTo>
                    <a:pt x="36" y="376"/>
                  </a:lnTo>
                  <a:lnTo>
                    <a:pt x="17" y="359"/>
                  </a:lnTo>
                  <a:lnTo>
                    <a:pt x="0" y="323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6" y="267"/>
                  </a:lnTo>
                  <a:lnTo>
                    <a:pt x="54" y="250"/>
                  </a:lnTo>
                  <a:lnTo>
                    <a:pt x="71" y="233"/>
                  </a:lnTo>
                  <a:lnTo>
                    <a:pt x="89" y="250"/>
                  </a:lnTo>
                  <a:lnTo>
                    <a:pt x="107" y="250"/>
                  </a:lnTo>
                  <a:lnTo>
                    <a:pt x="125" y="267"/>
                  </a:lnTo>
                  <a:lnTo>
                    <a:pt x="125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1" y="214"/>
                  </a:lnTo>
                  <a:lnTo>
                    <a:pt x="268" y="233"/>
                  </a:lnTo>
                  <a:lnTo>
                    <a:pt x="285" y="250"/>
                  </a:lnTo>
                  <a:lnTo>
                    <a:pt x="321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29" y="393"/>
                  </a:lnTo>
                  <a:lnTo>
                    <a:pt x="466" y="429"/>
                  </a:lnTo>
                  <a:lnTo>
                    <a:pt x="519" y="483"/>
                  </a:lnTo>
                  <a:lnTo>
                    <a:pt x="537" y="466"/>
                  </a:lnTo>
                  <a:lnTo>
                    <a:pt x="555" y="448"/>
                  </a:lnTo>
                  <a:lnTo>
                    <a:pt x="572" y="429"/>
                  </a:lnTo>
                  <a:lnTo>
                    <a:pt x="590" y="393"/>
                  </a:lnTo>
                  <a:lnTo>
                    <a:pt x="625" y="359"/>
                  </a:lnTo>
                  <a:lnTo>
                    <a:pt x="662" y="304"/>
                  </a:lnTo>
                  <a:lnTo>
                    <a:pt x="698" y="267"/>
                  </a:lnTo>
                  <a:lnTo>
                    <a:pt x="734" y="233"/>
                  </a:lnTo>
                  <a:lnTo>
                    <a:pt x="771" y="179"/>
                  </a:lnTo>
                  <a:lnTo>
                    <a:pt x="804" y="144"/>
                  </a:lnTo>
                  <a:lnTo>
                    <a:pt x="841" y="108"/>
                  </a:lnTo>
                  <a:lnTo>
                    <a:pt x="877" y="71"/>
                  </a:lnTo>
                  <a:lnTo>
                    <a:pt x="896" y="36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2" y="36"/>
                  </a:lnTo>
                  <a:lnTo>
                    <a:pt x="1020" y="54"/>
                  </a:lnTo>
                  <a:lnTo>
                    <a:pt x="1020" y="71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5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8"/>
                  </a:lnTo>
                  <a:lnTo>
                    <a:pt x="1108" y="108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8" y="179"/>
                  </a:lnTo>
                  <a:lnTo>
                    <a:pt x="1092" y="214"/>
                  </a:lnTo>
                  <a:lnTo>
                    <a:pt x="1075" y="250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7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59" y="519"/>
                  </a:lnTo>
                  <a:lnTo>
                    <a:pt x="824" y="574"/>
                  </a:lnTo>
                  <a:lnTo>
                    <a:pt x="788" y="609"/>
                  </a:lnTo>
                  <a:lnTo>
                    <a:pt x="771" y="644"/>
                  </a:lnTo>
                  <a:lnTo>
                    <a:pt x="751" y="663"/>
                  </a:lnTo>
                  <a:lnTo>
                    <a:pt x="734" y="680"/>
                  </a:lnTo>
                  <a:lnTo>
                    <a:pt x="715" y="697"/>
                  </a:lnTo>
                  <a:lnTo>
                    <a:pt x="1075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13000" y="4824360"/>
              <a:ext cx="370080" cy="46188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5" y="1038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18" y="1074"/>
                  </a:lnTo>
                  <a:lnTo>
                    <a:pt x="1002" y="1092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5" y="1147"/>
                  </a:lnTo>
                  <a:lnTo>
                    <a:pt x="965" y="1164"/>
                  </a:lnTo>
                  <a:lnTo>
                    <a:pt x="965" y="1182"/>
                  </a:lnTo>
                  <a:lnTo>
                    <a:pt x="948" y="1182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2"/>
                  </a:lnTo>
                  <a:lnTo>
                    <a:pt x="895" y="1182"/>
                  </a:lnTo>
                  <a:lnTo>
                    <a:pt x="877" y="1182"/>
                  </a:lnTo>
                  <a:lnTo>
                    <a:pt x="877" y="1164"/>
                  </a:lnTo>
                  <a:lnTo>
                    <a:pt x="859" y="1164"/>
                  </a:lnTo>
                  <a:lnTo>
                    <a:pt x="859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4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4" y="1200"/>
                  </a:lnTo>
                  <a:lnTo>
                    <a:pt x="698" y="1182"/>
                  </a:lnTo>
                  <a:lnTo>
                    <a:pt x="681" y="1164"/>
                  </a:lnTo>
                  <a:lnTo>
                    <a:pt x="661" y="1147"/>
                  </a:lnTo>
                  <a:lnTo>
                    <a:pt x="644" y="1127"/>
                  </a:lnTo>
                  <a:lnTo>
                    <a:pt x="625" y="1110"/>
                  </a:lnTo>
                  <a:lnTo>
                    <a:pt x="608" y="1092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8"/>
                  </a:lnTo>
                  <a:lnTo>
                    <a:pt x="536" y="1021"/>
                  </a:lnTo>
                  <a:lnTo>
                    <a:pt x="518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8" y="1378"/>
                  </a:lnTo>
                  <a:lnTo>
                    <a:pt x="178" y="1361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7" y="1361"/>
                  </a:lnTo>
                  <a:lnTo>
                    <a:pt x="90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5" y="1288"/>
                  </a:lnTo>
                  <a:lnTo>
                    <a:pt x="35" y="1272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7" y="1182"/>
                  </a:lnTo>
                  <a:lnTo>
                    <a:pt x="0" y="1164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1" y="680"/>
                  </a:lnTo>
                  <a:lnTo>
                    <a:pt x="214" y="664"/>
                  </a:lnTo>
                  <a:lnTo>
                    <a:pt x="196" y="627"/>
                  </a:lnTo>
                  <a:lnTo>
                    <a:pt x="178" y="608"/>
                  </a:lnTo>
                  <a:lnTo>
                    <a:pt x="161" y="574"/>
                  </a:lnTo>
                  <a:lnTo>
                    <a:pt x="143" y="555"/>
                  </a:lnTo>
                  <a:lnTo>
                    <a:pt x="125" y="518"/>
                  </a:lnTo>
                  <a:lnTo>
                    <a:pt x="107" y="501"/>
                  </a:lnTo>
                  <a:lnTo>
                    <a:pt x="90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5" y="375"/>
                  </a:lnTo>
                  <a:lnTo>
                    <a:pt x="17" y="359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5" y="268"/>
                  </a:lnTo>
                  <a:lnTo>
                    <a:pt x="53" y="251"/>
                  </a:lnTo>
                  <a:lnTo>
                    <a:pt x="70" y="234"/>
                  </a:lnTo>
                  <a:lnTo>
                    <a:pt x="90" y="251"/>
                  </a:lnTo>
                  <a:lnTo>
                    <a:pt x="107" y="251"/>
                  </a:lnTo>
                  <a:lnTo>
                    <a:pt x="125" y="268"/>
                  </a:lnTo>
                  <a:lnTo>
                    <a:pt x="125" y="251"/>
                  </a:lnTo>
                  <a:lnTo>
                    <a:pt x="143" y="251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8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1" y="197"/>
                  </a:lnTo>
                  <a:lnTo>
                    <a:pt x="251" y="214"/>
                  </a:lnTo>
                  <a:lnTo>
                    <a:pt x="268" y="234"/>
                  </a:lnTo>
                  <a:lnTo>
                    <a:pt x="285" y="251"/>
                  </a:lnTo>
                  <a:lnTo>
                    <a:pt x="321" y="287"/>
                  </a:lnTo>
                  <a:lnTo>
                    <a:pt x="340" y="322"/>
                  </a:lnTo>
                  <a:lnTo>
                    <a:pt x="374" y="340"/>
                  </a:lnTo>
                  <a:lnTo>
                    <a:pt x="430" y="393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5"/>
                  </a:lnTo>
                  <a:lnTo>
                    <a:pt x="555" y="448"/>
                  </a:lnTo>
                  <a:lnTo>
                    <a:pt x="572" y="430"/>
                  </a:lnTo>
                  <a:lnTo>
                    <a:pt x="590" y="393"/>
                  </a:lnTo>
                  <a:lnTo>
                    <a:pt x="625" y="359"/>
                  </a:lnTo>
                  <a:lnTo>
                    <a:pt x="661" y="304"/>
                  </a:lnTo>
                  <a:lnTo>
                    <a:pt x="698" y="268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4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5" y="35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8"/>
                  </a:lnTo>
                  <a:lnTo>
                    <a:pt x="985" y="18"/>
                  </a:lnTo>
                  <a:lnTo>
                    <a:pt x="1002" y="35"/>
                  </a:lnTo>
                  <a:lnTo>
                    <a:pt x="1018" y="55"/>
                  </a:lnTo>
                  <a:lnTo>
                    <a:pt x="1018" y="71"/>
                  </a:lnTo>
                  <a:lnTo>
                    <a:pt x="1018" y="88"/>
                  </a:lnTo>
                  <a:lnTo>
                    <a:pt x="1038" y="88"/>
                  </a:lnTo>
                  <a:lnTo>
                    <a:pt x="1055" y="88"/>
                  </a:lnTo>
                  <a:lnTo>
                    <a:pt x="1074" y="88"/>
                  </a:lnTo>
                  <a:lnTo>
                    <a:pt x="1091" y="88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8" y="178"/>
                  </a:lnTo>
                  <a:lnTo>
                    <a:pt x="1091" y="214"/>
                  </a:lnTo>
                  <a:lnTo>
                    <a:pt x="1074" y="251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5" y="375"/>
                  </a:lnTo>
                  <a:lnTo>
                    <a:pt x="930" y="430"/>
                  </a:lnTo>
                  <a:lnTo>
                    <a:pt x="895" y="483"/>
                  </a:lnTo>
                  <a:lnTo>
                    <a:pt x="859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1" y="664"/>
                  </a:lnTo>
                  <a:lnTo>
                    <a:pt x="734" y="680"/>
                  </a:lnTo>
                  <a:lnTo>
                    <a:pt x="714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281400" y="5218200"/>
              <a:ext cx="369720" cy="436320"/>
            </a:xfrm>
            <a:custGeom>
              <a:avLst/>
              <a:gdLst/>
              <a:ahLst/>
              <a:rect l="l" t="t" r="r" b="b"/>
              <a:pathLst>
                <a:path w="1127" h="1332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6" y="978"/>
                  </a:lnTo>
                  <a:lnTo>
                    <a:pt x="1056" y="995"/>
                  </a:lnTo>
                  <a:lnTo>
                    <a:pt x="1039" y="1011"/>
                  </a:lnTo>
                  <a:lnTo>
                    <a:pt x="1019" y="1011"/>
                  </a:lnTo>
                  <a:lnTo>
                    <a:pt x="1003" y="1029"/>
                  </a:lnTo>
                  <a:lnTo>
                    <a:pt x="986" y="1045"/>
                  </a:lnTo>
                  <a:lnTo>
                    <a:pt x="986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6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0" y="1113"/>
                  </a:lnTo>
                  <a:lnTo>
                    <a:pt x="840" y="1129"/>
                  </a:lnTo>
                  <a:lnTo>
                    <a:pt x="823" y="1146"/>
                  </a:lnTo>
                  <a:lnTo>
                    <a:pt x="805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2" y="1146"/>
                  </a:lnTo>
                  <a:lnTo>
                    <a:pt x="734" y="1146"/>
                  </a:lnTo>
                  <a:lnTo>
                    <a:pt x="715" y="1129"/>
                  </a:lnTo>
                  <a:lnTo>
                    <a:pt x="699" y="1113"/>
                  </a:lnTo>
                  <a:lnTo>
                    <a:pt x="681" y="1095"/>
                  </a:lnTo>
                  <a:lnTo>
                    <a:pt x="662" y="1079"/>
                  </a:lnTo>
                  <a:lnTo>
                    <a:pt x="645" y="1062"/>
                  </a:lnTo>
                  <a:lnTo>
                    <a:pt x="626" y="1045"/>
                  </a:lnTo>
                  <a:lnTo>
                    <a:pt x="609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6" y="978"/>
                  </a:lnTo>
                  <a:lnTo>
                    <a:pt x="536" y="961"/>
                  </a:lnTo>
                  <a:lnTo>
                    <a:pt x="519" y="961"/>
                  </a:lnTo>
                  <a:lnTo>
                    <a:pt x="500" y="943"/>
                  </a:lnTo>
                  <a:lnTo>
                    <a:pt x="252" y="1332"/>
                  </a:lnTo>
                  <a:lnTo>
                    <a:pt x="215" y="1332"/>
                  </a:lnTo>
                  <a:lnTo>
                    <a:pt x="179" y="1297"/>
                  </a:lnTo>
                  <a:lnTo>
                    <a:pt x="179" y="1281"/>
                  </a:lnTo>
                  <a:lnTo>
                    <a:pt x="179" y="1264"/>
                  </a:lnTo>
                  <a:lnTo>
                    <a:pt x="162" y="1264"/>
                  </a:lnTo>
                  <a:lnTo>
                    <a:pt x="143" y="1264"/>
                  </a:lnTo>
                  <a:lnTo>
                    <a:pt x="143" y="1281"/>
                  </a:lnTo>
                  <a:lnTo>
                    <a:pt x="126" y="1281"/>
                  </a:lnTo>
                  <a:lnTo>
                    <a:pt x="106" y="1281"/>
                  </a:lnTo>
                  <a:lnTo>
                    <a:pt x="90" y="1264"/>
                  </a:lnTo>
                  <a:lnTo>
                    <a:pt x="71" y="1264"/>
                  </a:lnTo>
                  <a:lnTo>
                    <a:pt x="71" y="1248"/>
                  </a:lnTo>
                  <a:lnTo>
                    <a:pt x="53" y="1231"/>
                  </a:lnTo>
                  <a:lnTo>
                    <a:pt x="36" y="1213"/>
                  </a:lnTo>
                  <a:lnTo>
                    <a:pt x="36" y="1197"/>
                  </a:lnTo>
                  <a:lnTo>
                    <a:pt x="36" y="1180"/>
                  </a:lnTo>
                  <a:lnTo>
                    <a:pt x="53" y="1180"/>
                  </a:lnTo>
                  <a:lnTo>
                    <a:pt x="53" y="1163"/>
                  </a:lnTo>
                  <a:lnTo>
                    <a:pt x="36" y="1146"/>
                  </a:lnTo>
                  <a:lnTo>
                    <a:pt x="36" y="1129"/>
                  </a:lnTo>
                  <a:lnTo>
                    <a:pt x="18" y="1113"/>
                  </a:lnTo>
                  <a:lnTo>
                    <a:pt x="0" y="1095"/>
                  </a:lnTo>
                  <a:lnTo>
                    <a:pt x="305" y="725"/>
                  </a:lnTo>
                  <a:lnTo>
                    <a:pt x="286" y="691"/>
                  </a:lnTo>
                  <a:lnTo>
                    <a:pt x="269" y="675"/>
                  </a:lnTo>
                  <a:lnTo>
                    <a:pt x="232" y="641"/>
                  </a:lnTo>
                  <a:lnTo>
                    <a:pt x="215" y="625"/>
                  </a:lnTo>
                  <a:lnTo>
                    <a:pt x="196" y="591"/>
                  </a:lnTo>
                  <a:lnTo>
                    <a:pt x="179" y="573"/>
                  </a:lnTo>
                  <a:lnTo>
                    <a:pt x="162" y="541"/>
                  </a:lnTo>
                  <a:lnTo>
                    <a:pt x="143" y="523"/>
                  </a:lnTo>
                  <a:lnTo>
                    <a:pt x="126" y="489"/>
                  </a:lnTo>
                  <a:lnTo>
                    <a:pt x="106" y="473"/>
                  </a:lnTo>
                  <a:lnTo>
                    <a:pt x="90" y="438"/>
                  </a:lnTo>
                  <a:lnTo>
                    <a:pt x="71" y="422"/>
                  </a:lnTo>
                  <a:lnTo>
                    <a:pt x="53" y="389"/>
                  </a:lnTo>
                  <a:lnTo>
                    <a:pt x="36" y="354"/>
                  </a:lnTo>
                  <a:lnTo>
                    <a:pt x="18" y="338"/>
                  </a:lnTo>
                  <a:lnTo>
                    <a:pt x="0" y="305"/>
                  </a:lnTo>
                  <a:lnTo>
                    <a:pt x="18" y="286"/>
                  </a:lnTo>
                  <a:lnTo>
                    <a:pt x="18" y="270"/>
                  </a:lnTo>
                  <a:lnTo>
                    <a:pt x="36" y="253"/>
                  </a:lnTo>
                  <a:lnTo>
                    <a:pt x="53" y="237"/>
                  </a:lnTo>
                  <a:lnTo>
                    <a:pt x="71" y="221"/>
                  </a:lnTo>
                  <a:lnTo>
                    <a:pt x="90" y="237"/>
                  </a:lnTo>
                  <a:lnTo>
                    <a:pt x="106" y="237"/>
                  </a:lnTo>
                  <a:lnTo>
                    <a:pt x="126" y="253"/>
                  </a:lnTo>
                  <a:lnTo>
                    <a:pt x="126" y="237"/>
                  </a:lnTo>
                  <a:lnTo>
                    <a:pt x="143" y="237"/>
                  </a:lnTo>
                  <a:lnTo>
                    <a:pt x="143" y="221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2" y="186"/>
                  </a:lnTo>
                  <a:lnTo>
                    <a:pt x="179" y="169"/>
                  </a:lnTo>
                  <a:lnTo>
                    <a:pt x="196" y="169"/>
                  </a:lnTo>
                  <a:lnTo>
                    <a:pt x="215" y="169"/>
                  </a:lnTo>
                  <a:lnTo>
                    <a:pt x="232" y="186"/>
                  </a:lnTo>
                  <a:lnTo>
                    <a:pt x="252" y="202"/>
                  </a:lnTo>
                  <a:lnTo>
                    <a:pt x="269" y="221"/>
                  </a:lnTo>
                  <a:lnTo>
                    <a:pt x="286" y="237"/>
                  </a:lnTo>
                  <a:lnTo>
                    <a:pt x="322" y="270"/>
                  </a:lnTo>
                  <a:lnTo>
                    <a:pt x="340" y="305"/>
                  </a:lnTo>
                  <a:lnTo>
                    <a:pt x="375" y="321"/>
                  </a:lnTo>
                  <a:lnTo>
                    <a:pt x="430" y="370"/>
                  </a:lnTo>
                  <a:lnTo>
                    <a:pt x="466" y="405"/>
                  </a:lnTo>
                  <a:lnTo>
                    <a:pt x="519" y="455"/>
                  </a:lnTo>
                  <a:lnTo>
                    <a:pt x="536" y="438"/>
                  </a:lnTo>
                  <a:lnTo>
                    <a:pt x="556" y="422"/>
                  </a:lnTo>
                  <a:lnTo>
                    <a:pt x="573" y="405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2" y="286"/>
                  </a:lnTo>
                  <a:lnTo>
                    <a:pt x="699" y="253"/>
                  </a:lnTo>
                  <a:lnTo>
                    <a:pt x="734" y="221"/>
                  </a:lnTo>
                  <a:lnTo>
                    <a:pt x="770" y="169"/>
                  </a:lnTo>
                  <a:lnTo>
                    <a:pt x="805" y="136"/>
                  </a:lnTo>
                  <a:lnTo>
                    <a:pt x="840" y="102"/>
                  </a:lnTo>
                  <a:lnTo>
                    <a:pt x="877" y="68"/>
                  </a:lnTo>
                  <a:lnTo>
                    <a:pt x="896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6" y="18"/>
                  </a:lnTo>
                  <a:lnTo>
                    <a:pt x="1003" y="34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9" y="84"/>
                  </a:lnTo>
                  <a:lnTo>
                    <a:pt x="1056" y="84"/>
                  </a:lnTo>
                  <a:lnTo>
                    <a:pt x="1074" y="84"/>
                  </a:lnTo>
                  <a:lnTo>
                    <a:pt x="1092" y="84"/>
                  </a:lnTo>
                  <a:lnTo>
                    <a:pt x="1092" y="102"/>
                  </a:lnTo>
                  <a:lnTo>
                    <a:pt x="1109" y="102"/>
                  </a:lnTo>
                  <a:lnTo>
                    <a:pt x="1127" y="118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9" y="169"/>
                  </a:lnTo>
                  <a:lnTo>
                    <a:pt x="1092" y="202"/>
                  </a:lnTo>
                  <a:lnTo>
                    <a:pt x="1074" y="237"/>
                  </a:lnTo>
                  <a:lnTo>
                    <a:pt x="1039" y="270"/>
                  </a:lnTo>
                  <a:lnTo>
                    <a:pt x="1003" y="321"/>
                  </a:lnTo>
                  <a:lnTo>
                    <a:pt x="966" y="354"/>
                  </a:lnTo>
                  <a:lnTo>
                    <a:pt x="930" y="405"/>
                  </a:lnTo>
                  <a:lnTo>
                    <a:pt x="896" y="455"/>
                  </a:lnTo>
                  <a:lnTo>
                    <a:pt x="860" y="489"/>
                  </a:lnTo>
                  <a:lnTo>
                    <a:pt x="823" y="541"/>
                  </a:lnTo>
                  <a:lnTo>
                    <a:pt x="787" y="573"/>
                  </a:lnTo>
                  <a:lnTo>
                    <a:pt x="770" y="607"/>
                  </a:lnTo>
                  <a:lnTo>
                    <a:pt x="752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78400" y="3851280"/>
              <a:ext cx="369720" cy="4618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5"/>
                  </a:moveTo>
                  <a:lnTo>
                    <a:pt x="1075" y="1002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8"/>
                  </a:lnTo>
                  <a:lnTo>
                    <a:pt x="1038" y="1075"/>
                  </a:lnTo>
                  <a:lnTo>
                    <a:pt x="1020" y="1075"/>
                  </a:lnTo>
                  <a:lnTo>
                    <a:pt x="1003" y="1093"/>
                  </a:lnTo>
                  <a:lnTo>
                    <a:pt x="985" y="1111"/>
                  </a:lnTo>
                  <a:lnTo>
                    <a:pt x="985" y="1128"/>
                  </a:lnTo>
                  <a:lnTo>
                    <a:pt x="967" y="1147"/>
                  </a:lnTo>
                  <a:lnTo>
                    <a:pt x="967" y="1165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8"/>
                  </a:lnTo>
                  <a:lnTo>
                    <a:pt x="804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1" y="1218"/>
                  </a:lnTo>
                  <a:lnTo>
                    <a:pt x="734" y="1218"/>
                  </a:lnTo>
                  <a:lnTo>
                    <a:pt x="716" y="1200"/>
                  </a:lnTo>
                  <a:lnTo>
                    <a:pt x="698" y="1183"/>
                  </a:lnTo>
                  <a:lnTo>
                    <a:pt x="681" y="1165"/>
                  </a:lnTo>
                  <a:lnTo>
                    <a:pt x="663" y="1147"/>
                  </a:lnTo>
                  <a:lnTo>
                    <a:pt x="645" y="1128"/>
                  </a:lnTo>
                  <a:lnTo>
                    <a:pt x="626" y="1111"/>
                  </a:lnTo>
                  <a:lnTo>
                    <a:pt x="609" y="1093"/>
                  </a:lnTo>
                  <a:lnTo>
                    <a:pt x="590" y="1075"/>
                  </a:lnTo>
                  <a:lnTo>
                    <a:pt x="573" y="1058"/>
                  </a:lnTo>
                  <a:lnTo>
                    <a:pt x="556" y="1039"/>
                  </a:lnTo>
                  <a:lnTo>
                    <a:pt x="537" y="1022"/>
                  </a:lnTo>
                  <a:lnTo>
                    <a:pt x="520" y="1022"/>
                  </a:lnTo>
                  <a:lnTo>
                    <a:pt x="500" y="1002"/>
                  </a:lnTo>
                  <a:lnTo>
                    <a:pt x="251" y="1415"/>
                  </a:lnTo>
                  <a:lnTo>
                    <a:pt x="216" y="1415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9"/>
                  </a:lnTo>
                  <a:lnTo>
                    <a:pt x="37" y="1289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7" y="1183"/>
                  </a:lnTo>
                  <a:lnTo>
                    <a:pt x="0" y="1165"/>
                  </a:lnTo>
                  <a:lnTo>
                    <a:pt x="304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2"/>
                  </a:lnTo>
                  <a:lnTo>
                    <a:pt x="216" y="664"/>
                  </a:lnTo>
                  <a:lnTo>
                    <a:pt x="196" y="628"/>
                  </a:lnTo>
                  <a:lnTo>
                    <a:pt x="180" y="609"/>
                  </a:lnTo>
                  <a:lnTo>
                    <a:pt x="163" y="575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7" y="502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7" y="376"/>
                  </a:lnTo>
                  <a:lnTo>
                    <a:pt x="17" y="360"/>
                  </a:lnTo>
                  <a:lnTo>
                    <a:pt x="0" y="323"/>
                  </a:lnTo>
                  <a:lnTo>
                    <a:pt x="17" y="305"/>
                  </a:lnTo>
                  <a:lnTo>
                    <a:pt x="17" y="287"/>
                  </a:lnTo>
                  <a:lnTo>
                    <a:pt x="37" y="269"/>
                  </a:lnTo>
                  <a:lnTo>
                    <a:pt x="54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7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8"/>
                  </a:lnTo>
                  <a:lnTo>
                    <a:pt x="163" y="198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8"/>
                  </a:lnTo>
                  <a:lnTo>
                    <a:pt x="251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6" y="341"/>
                  </a:lnTo>
                  <a:lnTo>
                    <a:pt x="430" y="394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4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8" y="269"/>
                  </a:lnTo>
                  <a:lnTo>
                    <a:pt x="734" y="234"/>
                  </a:lnTo>
                  <a:lnTo>
                    <a:pt x="771" y="179"/>
                  </a:lnTo>
                  <a:lnTo>
                    <a:pt x="804" y="145"/>
                  </a:lnTo>
                  <a:lnTo>
                    <a:pt x="841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9"/>
                  </a:lnTo>
                  <a:lnTo>
                    <a:pt x="985" y="19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1" y="89"/>
                  </a:lnTo>
                  <a:lnTo>
                    <a:pt x="1091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1" y="215"/>
                  </a:lnTo>
                  <a:lnTo>
                    <a:pt x="1075" y="252"/>
                  </a:lnTo>
                  <a:lnTo>
                    <a:pt x="1038" y="287"/>
                  </a:lnTo>
                  <a:lnTo>
                    <a:pt x="1003" y="341"/>
                  </a:lnTo>
                  <a:lnTo>
                    <a:pt x="967" y="376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4" y="575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1" y="664"/>
                  </a:lnTo>
                  <a:lnTo>
                    <a:pt x="734" y="682"/>
                  </a:lnTo>
                  <a:lnTo>
                    <a:pt x="716" y="698"/>
                  </a:lnTo>
                  <a:lnTo>
                    <a:pt x="1075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38520" y="4313160"/>
              <a:ext cx="370080" cy="4636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4" y="984"/>
                  </a:moveTo>
                  <a:lnTo>
                    <a:pt x="1074" y="1002"/>
                  </a:lnTo>
                  <a:lnTo>
                    <a:pt x="1074" y="1020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8" y="1074"/>
                  </a:lnTo>
                  <a:lnTo>
                    <a:pt x="1020" y="1074"/>
                  </a:lnTo>
                  <a:lnTo>
                    <a:pt x="1003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7" y="1146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6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1" y="1236"/>
                  </a:lnTo>
                  <a:lnTo>
                    <a:pt x="751" y="1216"/>
                  </a:lnTo>
                  <a:lnTo>
                    <a:pt x="734" y="1216"/>
                  </a:lnTo>
                  <a:lnTo>
                    <a:pt x="716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3" y="1146"/>
                  </a:lnTo>
                  <a:lnTo>
                    <a:pt x="645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0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7" y="1020"/>
                  </a:lnTo>
                  <a:lnTo>
                    <a:pt x="520" y="1020"/>
                  </a:lnTo>
                  <a:lnTo>
                    <a:pt x="500" y="1002"/>
                  </a:lnTo>
                  <a:lnTo>
                    <a:pt x="251" y="1414"/>
                  </a:lnTo>
                  <a:lnTo>
                    <a:pt x="216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3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7" y="1361"/>
                  </a:lnTo>
                  <a:lnTo>
                    <a:pt x="90" y="1342"/>
                  </a:lnTo>
                  <a:lnTo>
                    <a:pt x="71" y="1342"/>
                  </a:lnTo>
                  <a:lnTo>
                    <a:pt x="71" y="1325"/>
                  </a:lnTo>
                  <a:lnTo>
                    <a:pt x="54" y="1308"/>
                  </a:lnTo>
                  <a:lnTo>
                    <a:pt x="37" y="1289"/>
                  </a:lnTo>
                  <a:lnTo>
                    <a:pt x="37" y="1272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6"/>
                  </a:lnTo>
                  <a:lnTo>
                    <a:pt x="37" y="1200"/>
                  </a:lnTo>
                  <a:lnTo>
                    <a:pt x="17" y="1183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6" y="733"/>
                  </a:lnTo>
                  <a:lnTo>
                    <a:pt x="269" y="716"/>
                  </a:lnTo>
                  <a:lnTo>
                    <a:pt x="233" y="680"/>
                  </a:lnTo>
                  <a:lnTo>
                    <a:pt x="216" y="663"/>
                  </a:lnTo>
                  <a:lnTo>
                    <a:pt x="196" y="627"/>
                  </a:lnTo>
                  <a:lnTo>
                    <a:pt x="179" y="608"/>
                  </a:lnTo>
                  <a:lnTo>
                    <a:pt x="163" y="574"/>
                  </a:lnTo>
                  <a:lnTo>
                    <a:pt x="143" y="555"/>
                  </a:lnTo>
                  <a:lnTo>
                    <a:pt x="126" y="519"/>
                  </a:lnTo>
                  <a:lnTo>
                    <a:pt x="107" y="501"/>
                  </a:lnTo>
                  <a:lnTo>
                    <a:pt x="90" y="466"/>
                  </a:lnTo>
                  <a:lnTo>
                    <a:pt x="71" y="448"/>
                  </a:lnTo>
                  <a:lnTo>
                    <a:pt x="54" y="412"/>
                  </a:lnTo>
                  <a:lnTo>
                    <a:pt x="37" y="376"/>
                  </a:lnTo>
                  <a:lnTo>
                    <a:pt x="17" y="359"/>
                  </a:lnTo>
                  <a:lnTo>
                    <a:pt x="0" y="323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7" y="267"/>
                  </a:lnTo>
                  <a:lnTo>
                    <a:pt x="54" y="250"/>
                  </a:lnTo>
                  <a:lnTo>
                    <a:pt x="71" y="233"/>
                  </a:lnTo>
                  <a:lnTo>
                    <a:pt x="90" y="250"/>
                  </a:lnTo>
                  <a:lnTo>
                    <a:pt x="107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1" y="214"/>
                  </a:lnTo>
                  <a:lnTo>
                    <a:pt x="269" y="233"/>
                  </a:lnTo>
                  <a:lnTo>
                    <a:pt x="286" y="250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7" y="429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8"/>
                  </a:lnTo>
                  <a:lnTo>
                    <a:pt x="573" y="429"/>
                  </a:lnTo>
                  <a:lnTo>
                    <a:pt x="590" y="393"/>
                  </a:lnTo>
                  <a:lnTo>
                    <a:pt x="626" y="359"/>
                  </a:lnTo>
                  <a:lnTo>
                    <a:pt x="663" y="304"/>
                  </a:lnTo>
                  <a:lnTo>
                    <a:pt x="698" y="267"/>
                  </a:lnTo>
                  <a:lnTo>
                    <a:pt x="734" y="233"/>
                  </a:lnTo>
                  <a:lnTo>
                    <a:pt x="771" y="179"/>
                  </a:lnTo>
                  <a:lnTo>
                    <a:pt x="804" y="144"/>
                  </a:lnTo>
                  <a:lnTo>
                    <a:pt x="841" y="107"/>
                  </a:lnTo>
                  <a:lnTo>
                    <a:pt x="877" y="72"/>
                  </a:lnTo>
                  <a:lnTo>
                    <a:pt x="896" y="36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3" y="36"/>
                  </a:lnTo>
                  <a:lnTo>
                    <a:pt x="1020" y="54"/>
                  </a:lnTo>
                  <a:lnTo>
                    <a:pt x="1020" y="72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6" y="89"/>
                  </a:lnTo>
                  <a:lnTo>
                    <a:pt x="1074" y="89"/>
                  </a:lnTo>
                  <a:lnTo>
                    <a:pt x="1091" y="89"/>
                  </a:lnTo>
                  <a:lnTo>
                    <a:pt x="1091" y="107"/>
                  </a:lnTo>
                  <a:lnTo>
                    <a:pt x="1109" y="107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9" y="179"/>
                  </a:lnTo>
                  <a:lnTo>
                    <a:pt x="1091" y="214"/>
                  </a:lnTo>
                  <a:lnTo>
                    <a:pt x="1074" y="250"/>
                  </a:lnTo>
                  <a:lnTo>
                    <a:pt x="1038" y="287"/>
                  </a:lnTo>
                  <a:lnTo>
                    <a:pt x="1003" y="340"/>
                  </a:lnTo>
                  <a:lnTo>
                    <a:pt x="967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4" y="574"/>
                  </a:lnTo>
                  <a:lnTo>
                    <a:pt x="787" y="608"/>
                  </a:lnTo>
                  <a:lnTo>
                    <a:pt x="771" y="644"/>
                  </a:lnTo>
                  <a:lnTo>
                    <a:pt x="751" y="663"/>
                  </a:lnTo>
                  <a:lnTo>
                    <a:pt x="734" y="680"/>
                  </a:lnTo>
                  <a:lnTo>
                    <a:pt x="716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670200" y="4765680"/>
              <a:ext cx="366840" cy="46044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19" y="1074"/>
                  </a:lnTo>
                  <a:lnTo>
                    <a:pt x="1002" y="1092"/>
                  </a:lnTo>
                  <a:lnTo>
                    <a:pt x="984" y="1110"/>
                  </a:lnTo>
                  <a:lnTo>
                    <a:pt x="984" y="1127"/>
                  </a:lnTo>
                  <a:lnTo>
                    <a:pt x="966" y="1147"/>
                  </a:lnTo>
                  <a:lnTo>
                    <a:pt x="966" y="1163"/>
                  </a:lnTo>
                  <a:lnTo>
                    <a:pt x="966" y="1182"/>
                  </a:lnTo>
                  <a:lnTo>
                    <a:pt x="949" y="1182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2"/>
                  </a:lnTo>
                  <a:lnTo>
                    <a:pt x="896" y="1182"/>
                  </a:lnTo>
                  <a:lnTo>
                    <a:pt x="877" y="1182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5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2" y="1217"/>
                  </a:lnTo>
                  <a:lnTo>
                    <a:pt x="734" y="1217"/>
                  </a:lnTo>
                  <a:lnTo>
                    <a:pt x="715" y="1200"/>
                  </a:lnTo>
                  <a:lnTo>
                    <a:pt x="697" y="1182"/>
                  </a:lnTo>
                  <a:lnTo>
                    <a:pt x="680" y="1163"/>
                  </a:lnTo>
                  <a:lnTo>
                    <a:pt x="662" y="1147"/>
                  </a:lnTo>
                  <a:lnTo>
                    <a:pt x="644" y="1127"/>
                  </a:lnTo>
                  <a:lnTo>
                    <a:pt x="626" y="1110"/>
                  </a:lnTo>
                  <a:lnTo>
                    <a:pt x="609" y="1092"/>
                  </a:lnTo>
                  <a:lnTo>
                    <a:pt x="589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6" y="1021"/>
                  </a:lnTo>
                  <a:lnTo>
                    <a:pt x="519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9" y="1378"/>
                  </a:lnTo>
                  <a:lnTo>
                    <a:pt x="179" y="1361"/>
                  </a:lnTo>
                  <a:lnTo>
                    <a:pt x="179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6" y="1361"/>
                  </a:lnTo>
                  <a:lnTo>
                    <a:pt x="89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6" y="1288"/>
                  </a:lnTo>
                  <a:lnTo>
                    <a:pt x="36" y="1271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7" y="1182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4" y="662"/>
                  </a:lnTo>
                  <a:lnTo>
                    <a:pt x="196" y="627"/>
                  </a:lnTo>
                  <a:lnTo>
                    <a:pt x="179" y="608"/>
                  </a:lnTo>
                  <a:lnTo>
                    <a:pt x="161" y="574"/>
                  </a:lnTo>
                  <a:lnTo>
                    <a:pt x="143" y="554"/>
                  </a:lnTo>
                  <a:lnTo>
                    <a:pt x="126" y="518"/>
                  </a:lnTo>
                  <a:lnTo>
                    <a:pt x="106" y="501"/>
                  </a:lnTo>
                  <a:lnTo>
                    <a:pt x="89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6" y="375"/>
                  </a:lnTo>
                  <a:lnTo>
                    <a:pt x="17" y="358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6" y="267"/>
                  </a:lnTo>
                  <a:lnTo>
                    <a:pt x="53" y="250"/>
                  </a:lnTo>
                  <a:lnTo>
                    <a:pt x="70" y="234"/>
                  </a:lnTo>
                  <a:lnTo>
                    <a:pt x="89" y="250"/>
                  </a:lnTo>
                  <a:lnTo>
                    <a:pt x="106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9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2" y="197"/>
                  </a:lnTo>
                  <a:lnTo>
                    <a:pt x="251" y="214"/>
                  </a:lnTo>
                  <a:lnTo>
                    <a:pt x="269" y="234"/>
                  </a:lnTo>
                  <a:lnTo>
                    <a:pt x="285" y="250"/>
                  </a:lnTo>
                  <a:lnTo>
                    <a:pt x="322" y="287"/>
                  </a:lnTo>
                  <a:lnTo>
                    <a:pt x="340" y="322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5"/>
                  </a:lnTo>
                  <a:lnTo>
                    <a:pt x="556" y="448"/>
                  </a:lnTo>
                  <a:lnTo>
                    <a:pt x="573" y="430"/>
                  </a:lnTo>
                  <a:lnTo>
                    <a:pt x="589" y="393"/>
                  </a:lnTo>
                  <a:lnTo>
                    <a:pt x="626" y="358"/>
                  </a:lnTo>
                  <a:lnTo>
                    <a:pt x="662" y="304"/>
                  </a:lnTo>
                  <a:lnTo>
                    <a:pt x="697" y="267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5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6" y="35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4" y="18"/>
                  </a:lnTo>
                  <a:lnTo>
                    <a:pt x="1002" y="35"/>
                  </a:lnTo>
                  <a:lnTo>
                    <a:pt x="1019" y="54"/>
                  </a:lnTo>
                  <a:lnTo>
                    <a:pt x="1019" y="71"/>
                  </a:lnTo>
                  <a:lnTo>
                    <a:pt x="1019" y="88"/>
                  </a:lnTo>
                  <a:lnTo>
                    <a:pt x="1039" y="88"/>
                  </a:lnTo>
                  <a:lnTo>
                    <a:pt x="1056" y="88"/>
                  </a:lnTo>
                  <a:lnTo>
                    <a:pt x="1074" y="88"/>
                  </a:lnTo>
                  <a:lnTo>
                    <a:pt x="1092" y="88"/>
                  </a:lnTo>
                  <a:lnTo>
                    <a:pt x="1092" y="108"/>
                  </a:lnTo>
                  <a:lnTo>
                    <a:pt x="1109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9" y="178"/>
                  </a:lnTo>
                  <a:lnTo>
                    <a:pt x="1092" y="214"/>
                  </a:lnTo>
                  <a:lnTo>
                    <a:pt x="1074" y="250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5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2" y="662"/>
                  </a:lnTo>
                  <a:lnTo>
                    <a:pt x="734" y="680"/>
                  </a:lnTo>
                  <a:lnTo>
                    <a:pt x="715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736800" y="5164200"/>
              <a:ext cx="370080" cy="434880"/>
            </a:xfrm>
            <a:custGeom>
              <a:avLst/>
              <a:gdLst/>
              <a:ahLst/>
              <a:rect l="l" t="t" r="r" b="b"/>
              <a:pathLst>
                <a:path w="1127" h="1331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5" y="977"/>
                  </a:lnTo>
                  <a:lnTo>
                    <a:pt x="1055" y="995"/>
                  </a:lnTo>
                  <a:lnTo>
                    <a:pt x="1038" y="1011"/>
                  </a:lnTo>
                  <a:lnTo>
                    <a:pt x="1019" y="1011"/>
                  </a:lnTo>
                  <a:lnTo>
                    <a:pt x="1001" y="1029"/>
                  </a:lnTo>
                  <a:lnTo>
                    <a:pt x="984" y="1045"/>
                  </a:lnTo>
                  <a:lnTo>
                    <a:pt x="984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8" y="1113"/>
                  </a:lnTo>
                  <a:lnTo>
                    <a:pt x="930" y="1130"/>
                  </a:lnTo>
                  <a:lnTo>
                    <a:pt x="913" y="1130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59" y="1095"/>
                  </a:lnTo>
                  <a:lnTo>
                    <a:pt x="859" y="1113"/>
                  </a:lnTo>
                  <a:lnTo>
                    <a:pt x="840" y="1113"/>
                  </a:lnTo>
                  <a:lnTo>
                    <a:pt x="840" y="1130"/>
                  </a:lnTo>
                  <a:lnTo>
                    <a:pt x="823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1" y="1146"/>
                  </a:lnTo>
                  <a:lnTo>
                    <a:pt x="734" y="1146"/>
                  </a:lnTo>
                  <a:lnTo>
                    <a:pt x="714" y="1130"/>
                  </a:lnTo>
                  <a:lnTo>
                    <a:pt x="697" y="1113"/>
                  </a:lnTo>
                  <a:lnTo>
                    <a:pt x="680" y="1095"/>
                  </a:lnTo>
                  <a:lnTo>
                    <a:pt x="661" y="1079"/>
                  </a:lnTo>
                  <a:lnTo>
                    <a:pt x="644" y="1062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89" y="1011"/>
                  </a:lnTo>
                  <a:lnTo>
                    <a:pt x="572" y="995"/>
                  </a:lnTo>
                  <a:lnTo>
                    <a:pt x="555" y="977"/>
                  </a:lnTo>
                  <a:lnTo>
                    <a:pt x="536" y="961"/>
                  </a:lnTo>
                  <a:lnTo>
                    <a:pt x="518" y="961"/>
                  </a:lnTo>
                  <a:lnTo>
                    <a:pt x="500" y="943"/>
                  </a:lnTo>
                  <a:lnTo>
                    <a:pt x="251" y="1331"/>
                  </a:lnTo>
                  <a:lnTo>
                    <a:pt x="214" y="1331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5" y="1282"/>
                  </a:lnTo>
                  <a:lnTo>
                    <a:pt x="106" y="1282"/>
                  </a:lnTo>
                  <a:lnTo>
                    <a:pt x="88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5" y="1214"/>
                  </a:lnTo>
                  <a:lnTo>
                    <a:pt x="35" y="1198"/>
                  </a:lnTo>
                  <a:lnTo>
                    <a:pt x="35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5" y="1146"/>
                  </a:lnTo>
                  <a:lnTo>
                    <a:pt x="35" y="1130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4" y="690"/>
                  </a:lnTo>
                  <a:lnTo>
                    <a:pt x="268" y="674"/>
                  </a:lnTo>
                  <a:lnTo>
                    <a:pt x="231" y="641"/>
                  </a:lnTo>
                  <a:lnTo>
                    <a:pt x="214" y="625"/>
                  </a:lnTo>
                  <a:lnTo>
                    <a:pt x="196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3" y="522"/>
                  </a:lnTo>
                  <a:lnTo>
                    <a:pt x="125" y="489"/>
                  </a:lnTo>
                  <a:lnTo>
                    <a:pt x="106" y="473"/>
                  </a:lnTo>
                  <a:lnTo>
                    <a:pt x="88" y="438"/>
                  </a:lnTo>
                  <a:lnTo>
                    <a:pt x="70" y="422"/>
                  </a:lnTo>
                  <a:lnTo>
                    <a:pt x="53" y="388"/>
                  </a:lnTo>
                  <a:lnTo>
                    <a:pt x="35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5" y="252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8" y="236"/>
                  </a:lnTo>
                  <a:lnTo>
                    <a:pt x="106" y="236"/>
                  </a:lnTo>
                  <a:lnTo>
                    <a:pt x="125" y="252"/>
                  </a:lnTo>
                  <a:lnTo>
                    <a:pt x="125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2"/>
                  </a:lnTo>
                  <a:lnTo>
                    <a:pt x="143" y="185"/>
                  </a:lnTo>
                  <a:lnTo>
                    <a:pt x="161" y="185"/>
                  </a:lnTo>
                  <a:lnTo>
                    <a:pt x="178" y="168"/>
                  </a:lnTo>
                  <a:lnTo>
                    <a:pt x="196" y="168"/>
                  </a:lnTo>
                  <a:lnTo>
                    <a:pt x="214" y="168"/>
                  </a:lnTo>
                  <a:lnTo>
                    <a:pt x="231" y="185"/>
                  </a:lnTo>
                  <a:lnTo>
                    <a:pt x="251" y="202"/>
                  </a:lnTo>
                  <a:lnTo>
                    <a:pt x="268" y="220"/>
                  </a:lnTo>
                  <a:lnTo>
                    <a:pt x="284" y="236"/>
                  </a:lnTo>
                  <a:lnTo>
                    <a:pt x="321" y="270"/>
                  </a:lnTo>
                  <a:lnTo>
                    <a:pt x="340" y="304"/>
                  </a:lnTo>
                  <a:lnTo>
                    <a:pt x="374" y="320"/>
                  </a:lnTo>
                  <a:lnTo>
                    <a:pt x="430" y="370"/>
                  </a:lnTo>
                  <a:lnTo>
                    <a:pt x="465" y="404"/>
                  </a:lnTo>
                  <a:lnTo>
                    <a:pt x="518" y="454"/>
                  </a:lnTo>
                  <a:lnTo>
                    <a:pt x="536" y="438"/>
                  </a:lnTo>
                  <a:lnTo>
                    <a:pt x="555" y="422"/>
                  </a:lnTo>
                  <a:lnTo>
                    <a:pt x="572" y="404"/>
                  </a:lnTo>
                  <a:lnTo>
                    <a:pt x="589" y="370"/>
                  </a:lnTo>
                  <a:lnTo>
                    <a:pt x="626" y="338"/>
                  </a:lnTo>
                  <a:lnTo>
                    <a:pt x="661" y="286"/>
                  </a:lnTo>
                  <a:lnTo>
                    <a:pt x="697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4" y="136"/>
                  </a:lnTo>
                  <a:lnTo>
                    <a:pt x="840" y="101"/>
                  </a:lnTo>
                  <a:lnTo>
                    <a:pt x="877" y="68"/>
                  </a:lnTo>
                  <a:lnTo>
                    <a:pt x="895" y="33"/>
                  </a:lnTo>
                  <a:lnTo>
                    <a:pt x="913" y="17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6" y="17"/>
                  </a:lnTo>
                  <a:lnTo>
                    <a:pt x="984" y="17"/>
                  </a:lnTo>
                  <a:lnTo>
                    <a:pt x="1001" y="33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8" y="84"/>
                  </a:lnTo>
                  <a:lnTo>
                    <a:pt x="1055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1"/>
                  </a:lnTo>
                  <a:lnTo>
                    <a:pt x="1108" y="101"/>
                  </a:lnTo>
                  <a:lnTo>
                    <a:pt x="1127" y="117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8" y="168"/>
                  </a:lnTo>
                  <a:lnTo>
                    <a:pt x="1091" y="202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1" y="320"/>
                  </a:lnTo>
                  <a:lnTo>
                    <a:pt x="966" y="354"/>
                  </a:lnTo>
                  <a:lnTo>
                    <a:pt x="930" y="404"/>
                  </a:lnTo>
                  <a:lnTo>
                    <a:pt x="895" y="454"/>
                  </a:lnTo>
                  <a:lnTo>
                    <a:pt x="859" y="489"/>
                  </a:lnTo>
                  <a:lnTo>
                    <a:pt x="823" y="541"/>
                  </a:lnTo>
                  <a:lnTo>
                    <a:pt x="787" y="573"/>
                  </a:lnTo>
                  <a:lnTo>
                    <a:pt x="770" y="606"/>
                  </a:lnTo>
                  <a:lnTo>
                    <a:pt x="751" y="625"/>
                  </a:lnTo>
                  <a:lnTo>
                    <a:pt x="734" y="641"/>
                  </a:lnTo>
                  <a:lnTo>
                    <a:pt x="714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049640" y="3805200"/>
              <a:ext cx="368280" cy="463680"/>
            </a:xfrm>
            <a:custGeom>
              <a:avLst/>
              <a:gdLst/>
              <a:ahLst/>
              <a:rect l="l" t="t" r="r" b="b"/>
              <a:pathLst>
                <a:path w="1127" h="1416">
                  <a:moveTo>
                    <a:pt x="1074" y="986"/>
                  </a:moveTo>
                  <a:lnTo>
                    <a:pt x="1074" y="1003"/>
                  </a:lnTo>
                  <a:lnTo>
                    <a:pt x="1074" y="1021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6"/>
                  </a:lnTo>
                  <a:lnTo>
                    <a:pt x="1018" y="1076"/>
                  </a:lnTo>
                  <a:lnTo>
                    <a:pt x="1001" y="1094"/>
                  </a:lnTo>
                  <a:lnTo>
                    <a:pt x="984" y="1111"/>
                  </a:lnTo>
                  <a:lnTo>
                    <a:pt x="984" y="1129"/>
                  </a:lnTo>
                  <a:lnTo>
                    <a:pt x="965" y="1147"/>
                  </a:lnTo>
                  <a:lnTo>
                    <a:pt x="965" y="1164"/>
                  </a:lnTo>
                  <a:lnTo>
                    <a:pt x="965" y="1183"/>
                  </a:lnTo>
                  <a:lnTo>
                    <a:pt x="948" y="1183"/>
                  </a:lnTo>
                  <a:lnTo>
                    <a:pt x="928" y="1200"/>
                  </a:lnTo>
                  <a:lnTo>
                    <a:pt x="912" y="1200"/>
                  </a:lnTo>
                  <a:lnTo>
                    <a:pt x="912" y="1183"/>
                  </a:lnTo>
                  <a:lnTo>
                    <a:pt x="895" y="1183"/>
                  </a:lnTo>
                  <a:lnTo>
                    <a:pt x="875" y="1183"/>
                  </a:lnTo>
                  <a:lnTo>
                    <a:pt x="875" y="1164"/>
                  </a:lnTo>
                  <a:lnTo>
                    <a:pt x="858" y="1164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0"/>
                  </a:lnTo>
                  <a:lnTo>
                    <a:pt x="822" y="1217"/>
                  </a:lnTo>
                  <a:lnTo>
                    <a:pt x="804" y="1237"/>
                  </a:lnTo>
                  <a:lnTo>
                    <a:pt x="787" y="1237"/>
                  </a:lnTo>
                  <a:lnTo>
                    <a:pt x="769" y="1237"/>
                  </a:lnTo>
                  <a:lnTo>
                    <a:pt x="750" y="1217"/>
                  </a:lnTo>
                  <a:lnTo>
                    <a:pt x="733" y="1217"/>
                  </a:lnTo>
                  <a:lnTo>
                    <a:pt x="714" y="1200"/>
                  </a:lnTo>
                  <a:lnTo>
                    <a:pt x="697" y="1183"/>
                  </a:lnTo>
                  <a:lnTo>
                    <a:pt x="680" y="1164"/>
                  </a:lnTo>
                  <a:lnTo>
                    <a:pt x="661" y="1147"/>
                  </a:lnTo>
                  <a:lnTo>
                    <a:pt x="644" y="1129"/>
                  </a:lnTo>
                  <a:lnTo>
                    <a:pt x="624" y="1111"/>
                  </a:lnTo>
                  <a:lnTo>
                    <a:pt x="608" y="1094"/>
                  </a:lnTo>
                  <a:lnTo>
                    <a:pt x="588" y="1076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5" y="1021"/>
                  </a:lnTo>
                  <a:lnTo>
                    <a:pt x="518" y="1021"/>
                  </a:lnTo>
                  <a:lnTo>
                    <a:pt x="500" y="1003"/>
                  </a:lnTo>
                  <a:lnTo>
                    <a:pt x="250" y="1416"/>
                  </a:lnTo>
                  <a:lnTo>
                    <a:pt x="214" y="1416"/>
                  </a:lnTo>
                  <a:lnTo>
                    <a:pt x="178" y="1380"/>
                  </a:lnTo>
                  <a:lnTo>
                    <a:pt x="178" y="1363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3"/>
                  </a:lnTo>
                  <a:lnTo>
                    <a:pt x="124" y="1363"/>
                  </a:lnTo>
                  <a:lnTo>
                    <a:pt x="106" y="1363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90"/>
                  </a:lnTo>
                  <a:lnTo>
                    <a:pt x="35" y="1273"/>
                  </a:lnTo>
                  <a:lnTo>
                    <a:pt x="35" y="1254"/>
                  </a:lnTo>
                  <a:lnTo>
                    <a:pt x="53" y="1254"/>
                  </a:lnTo>
                  <a:lnTo>
                    <a:pt x="53" y="1237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6" y="1183"/>
                  </a:lnTo>
                  <a:lnTo>
                    <a:pt x="0" y="1164"/>
                  </a:lnTo>
                  <a:lnTo>
                    <a:pt x="304" y="771"/>
                  </a:lnTo>
                  <a:lnTo>
                    <a:pt x="284" y="734"/>
                  </a:lnTo>
                  <a:lnTo>
                    <a:pt x="267" y="717"/>
                  </a:lnTo>
                  <a:lnTo>
                    <a:pt x="231" y="681"/>
                  </a:lnTo>
                  <a:lnTo>
                    <a:pt x="214" y="664"/>
                  </a:lnTo>
                  <a:lnTo>
                    <a:pt x="195" y="628"/>
                  </a:lnTo>
                  <a:lnTo>
                    <a:pt x="178" y="609"/>
                  </a:lnTo>
                  <a:lnTo>
                    <a:pt x="161" y="574"/>
                  </a:lnTo>
                  <a:lnTo>
                    <a:pt x="141" y="556"/>
                  </a:lnTo>
                  <a:lnTo>
                    <a:pt x="124" y="520"/>
                  </a:lnTo>
                  <a:lnTo>
                    <a:pt x="106" y="503"/>
                  </a:lnTo>
                  <a:lnTo>
                    <a:pt x="88" y="467"/>
                  </a:lnTo>
                  <a:lnTo>
                    <a:pt x="70" y="450"/>
                  </a:lnTo>
                  <a:lnTo>
                    <a:pt x="53" y="413"/>
                  </a:lnTo>
                  <a:lnTo>
                    <a:pt x="35" y="377"/>
                  </a:lnTo>
                  <a:lnTo>
                    <a:pt x="16" y="360"/>
                  </a:lnTo>
                  <a:lnTo>
                    <a:pt x="0" y="324"/>
                  </a:lnTo>
                  <a:lnTo>
                    <a:pt x="16" y="304"/>
                  </a:lnTo>
                  <a:lnTo>
                    <a:pt x="16" y="287"/>
                  </a:lnTo>
                  <a:lnTo>
                    <a:pt x="35" y="269"/>
                  </a:lnTo>
                  <a:lnTo>
                    <a:pt x="53" y="251"/>
                  </a:lnTo>
                  <a:lnTo>
                    <a:pt x="70" y="234"/>
                  </a:lnTo>
                  <a:lnTo>
                    <a:pt x="88" y="251"/>
                  </a:lnTo>
                  <a:lnTo>
                    <a:pt x="106" y="251"/>
                  </a:lnTo>
                  <a:lnTo>
                    <a:pt x="124" y="269"/>
                  </a:lnTo>
                  <a:lnTo>
                    <a:pt x="124" y="251"/>
                  </a:lnTo>
                  <a:lnTo>
                    <a:pt x="141" y="251"/>
                  </a:lnTo>
                  <a:lnTo>
                    <a:pt x="141" y="234"/>
                  </a:lnTo>
                  <a:lnTo>
                    <a:pt x="141" y="216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5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6"/>
                  </a:lnTo>
                  <a:lnTo>
                    <a:pt x="267" y="234"/>
                  </a:lnTo>
                  <a:lnTo>
                    <a:pt x="284" y="251"/>
                  </a:lnTo>
                  <a:lnTo>
                    <a:pt x="320" y="287"/>
                  </a:lnTo>
                  <a:lnTo>
                    <a:pt x="340" y="324"/>
                  </a:lnTo>
                  <a:lnTo>
                    <a:pt x="374" y="341"/>
                  </a:lnTo>
                  <a:lnTo>
                    <a:pt x="428" y="394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5" y="467"/>
                  </a:lnTo>
                  <a:lnTo>
                    <a:pt x="554" y="450"/>
                  </a:lnTo>
                  <a:lnTo>
                    <a:pt x="571" y="430"/>
                  </a:lnTo>
                  <a:lnTo>
                    <a:pt x="588" y="394"/>
                  </a:lnTo>
                  <a:lnTo>
                    <a:pt x="624" y="360"/>
                  </a:lnTo>
                  <a:lnTo>
                    <a:pt x="661" y="304"/>
                  </a:lnTo>
                  <a:lnTo>
                    <a:pt x="697" y="269"/>
                  </a:lnTo>
                  <a:lnTo>
                    <a:pt x="733" y="234"/>
                  </a:lnTo>
                  <a:lnTo>
                    <a:pt x="769" y="179"/>
                  </a:lnTo>
                  <a:lnTo>
                    <a:pt x="804" y="145"/>
                  </a:lnTo>
                  <a:lnTo>
                    <a:pt x="840" y="108"/>
                  </a:lnTo>
                  <a:lnTo>
                    <a:pt x="875" y="73"/>
                  </a:lnTo>
                  <a:lnTo>
                    <a:pt x="895" y="37"/>
                  </a:lnTo>
                  <a:lnTo>
                    <a:pt x="912" y="20"/>
                  </a:lnTo>
                  <a:lnTo>
                    <a:pt x="928" y="0"/>
                  </a:lnTo>
                  <a:lnTo>
                    <a:pt x="948" y="0"/>
                  </a:lnTo>
                  <a:lnTo>
                    <a:pt x="965" y="20"/>
                  </a:lnTo>
                  <a:lnTo>
                    <a:pt x="984" y="20"/>
                  </a:lnTo>
                  <a:lnTo>
                    <a:pt x="1001" y="37"/>
                  </a:lnTo>
                  <a:lnTo>
                    <a:pt x="1018" y="55"/>
                  </a:lnTo>
                  <a:lnTo>
                    <a:pt x="1018" y="73"/>
                  </a:lnTo>
                  <a:lnTo>
                    <a:pt x="1018" y="90"/>
                  </a:lnTo>
                  <a:lnTo>
                    <a:pt x="1037" y="90"/>
                  </a:lnTo>
                  <a:lnTo>
                    <a:pt x="1054" y="90"/>
                  </a:lnTo>
                  <a:lnTo>
                    <a:pt x="1074" y="90"/>
                  </a:lnTo>
                  <a:lnTo>
                    <a:pt x="1091" y="90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3"/>
                  </a:lnTo>
                  <a:lnTo>
                    <a:pt x="1108" y="179"/>
                  </a:lnTo>
                  <a:lnTo>
                    <a:pt x="1091" y="216"/>
                  </a:lnTo>
                  <a:lnTo>
                    <a:pt x="1074" y="251"/>
                  </a:lnTo>
                  <a:lnTo>
                    <a:pt x="1037" y="287"/>
                  </a:lnTo>
                  <a:lnTo>
                    <a:pt x="1001" y="341"/>
                  </a:lnTo>
                  <a:lnTo>
                    <a:pt x="965" y="377"/>
                  </a:lnTo>
                  <a:lnTo>
                    <a:pt x="928" y="430"/>
                  </a:lnTo>
                  <a:lnTo>
                    <a:pt x="895" y="483"/>
                  </a:lnTo>
                  <a:lnTo>
                    <a:pt x="858" y="520"/>
                  </a:lnTo>
                  <a:lnTo>
                    <a:pt x="822" y="574"/>
                  </a:lnTo>
                  <a:lnTo>
                    <a:pt x="787" y="609"/>
                  </a:lnTo>
                  <a:lnTo>
                    <a:pt x="769" y="646"/>
                  </a:lnTo>
                  <a:lnTo>
                    <a:pt x="750" y="664"/>
                  </a:lnTo>
                  <a:lnTo>
                    <a:pt x="733" y="681"/>
                  </a:lnTo>
                  <a:lnTo>
                    <a:pt x="714" y="699"/>
                  </a:lnTo>
                  <a:lnTo>
                    <a:pt x="1074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110120" y="4270320"/>
              <a:ext cx="369720" cy="461880"/>
            </a:xfrm>
            <a:custGeom>
              <a:avLst/>
              <a:gdLst/>
              <a:ahLst/>
              <a:rect l="l" t="t" r="r" b="b"/>
              <a:pathLst>
                <a:path w="1129" h="1414">
                  <a:moveTo>
                    <a:pt x="1076" y="984"/>
                  </a:moveTo>
                  <a:lnTo>
                    <a:pt x="1076" y="1002"/>
                  </a:lnTo>
                  <a:lnTo>
                    <a:pt x="1076" y="1021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20" y="1074"/>
                  </a:lnTo>
                  <a:lnTo>
                    <a:pt x="1003" y="1093"/>
                  </a:lnTo>
                  <a:lnTo>
                    <a:pt x="986" y="1110"/>
                  </a:lnTo>
                  <a:lnTo>
                    <a:pt x="986" y="1127"/>
                  </a:lnTo>
                  <a:lnTo>
                    <a:pt x="967" y="1147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7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4" y="1217"/>
                  </a:lnTo>
                  <a:lnTo>
                    <a:pt x="805" y="1236"/>
                  </a:lnTo>
                  <a:lnTo>
                    <a:pt x="789" y="1236"/>
                  </a:lnTo>
                  <a:lnTo>
                    <a:pt x="771" y="1236"/>
                  </a:lnTo>
                  <a:lnTo>
                    <a:pt x="752" y="1217"/>
                  </a:lnTo>
                  <a:lnTo>
                    <a:pt x="735" y="1217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2" y="1163"/>
                  </a:lnTo>
                  <a:lnTo>
                    <a:pt x="663" y="1147"/>
                  </a:lnTo>
                  <a:lnTo>
                    <a:pt x="646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1" y="1074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7" y="1021"/>
                  </a:lnTo>
                  <a:lnTo>
                    <a:pt x="520" y="1021"/>
                  </a:lnTo>
                  <a:lnTo>
                    <a:pt x="501" y="1002"/>
                  </a:lnTo>
                  <a:lnTo>
                    <a:pt x="252" y="1414"/>
                  </a:lnTo>
                  <a:lnTo>
                    <a:pt x="216" y="1414"/>
                  </a:lnTo>
                  <a:lnTo>
                    <a:pt x="180" y="1379"/>
                  </a:lnTo>
                  <a:lnTo>
                    <a:pt x="180" y="1361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8" y="1361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5" y="1308"/>
                  </a:lnTo>
                  <a:lnTo>
                    <a:pt x="37" y="1289"/>
                  </a:lnTo>
                  <a:lnTo>
                    <a:pt x="37" y="1271"/>
                  </a:lnTo>
                  <a:lnTo>
                    <a:pt x="37" y="1253"/>
                  </a:lnTo>
                  <a:lnTo>
                    <a:pt x="55" y="1253"/>
                  </a:lnTo>
                  <a:lnTo>
                    <a:pt x="55" y="1236"/>
                  </a:lnTo>
                  <a:lnTo>
                    <a:pt x="37" y="1217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6" y="734"/>
                  </a:lnTo>
                  <a:lnTo>
                    <a:pt x="269" y="717"/>
                  </a:lnTo>
                  <a:lnTo>
                    <a:pt x="233" y="680"/>
                  </a:lnTo>
                  <a:lnTo>
                    <a:pt x="216" y="663"/>
                  </a:lnTo>
                  <a:lnTo>
                    <a:pt x="197" y="627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4"/>
                  </a:lnTo>
                  <a:lnTo>
                    <a:pt x="126" y="519"/>
                  </a:lnTo>
                  <a:lnTo>
                    <a:pt x="108" y="501"/>
                  </a:lnTo>
                  <a:lnTo>
                    <a:pt x="90" y="466"/>
                  </a:lnTo>
                  <a:lnTo>
                    <a:pt x="72" y="448"/>
                  </a:lnTo>
                  <a:lnTo>
                    <a:pt x="55" y="413"/>
                  </a:lnTo>
                  <a:lnTo>
                    <a:pt x="37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4"/>
                  </a:lnTo>
                  <a:lnTo>
                    <a:pt x="18" y="287"/>
                  </a:lnTo>
                  <a:lnTo>
                    <a:pt x="37" y="267"/>
                  </a:lnTo>
                  <a:lnTo>
                    <a:pt x="55" y="250"/>
                  </a:lnTo>
                  <a:lnTo>
                    <a:pt x="72" y="234"/>
                  </a:lnTo>
                  <a:lnTo>
                    <a:pt x="90" y="250"/>
                  </a:lnTo>
                  <a:lnTo>
                    <a:pt x="108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80" y="179"/>
                  </a:lnTo>
                  <a:lnTo>
                    <a:pt x="197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2" y="214"/>
                  </a:lnTo>
                  <a:lnTo>
                    <a:pt x="269" y="234"/>
                  </a:lnTo>
                  <a:lnTo>
                    <a:pt x="286" y="250"/>
                  </a:lnTo>
                  <a:lnTo>
                    <a:pt x="322" y="287"/>
                  </a:lnTo>
                  <a:lnTo>
                    <a:pt x="342" y="323"/>
                  </a:lnTo>
                  <a:lnTo>
                    <a:pt x="376" y="340"/>
                  </a:lnTo>
                  <a:lnTo>
                    <a:pt x="430" y="393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8"/>
                  </a:lnTo>
                  <a:lnTo>
                    <a:pt x="573" y="430"/>
                  </a:lnTo>
                  <a:lnTo>
                    <a:pt x="591" y="393"/>
                  </a:lnTo>
                  <a:lnTo>
                    <a:pt x="626" y="359"/>
                  </a:lnTo>
                  <a:lnTo>
                    <a:pt x="663" y="304"/>
                  </a:lnTo>
                  <a:lnTo>
                    <a:pt x="699" y="267"/>
                  </a:lnTo>
                  <a:lnTo>
                    <a:pt x="735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8"/>
                  </a:lnTo>
                  <a:lnTo>
                    <a:pt x="877" y="71"/>
                  </a:lnTo>
                  <a:lnTo>
                    <a:pt x="897" y="36"/>
                  </a:lnTo>
                  <a:lnTo>
                    <a:pt x="913" y="18"/>
                  </a:lnTo>
                  <a:lnTo>
                    <a:pt x="931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6" y="18"/>
                  </a:lnTo>
                  <a:lnTo>
                    <a:pt x="1003" y="36"/>
                  </a:lnTo>
                  <a:lnTo>
                    <a:pt x="1020" y="54"/>
                  </a:lnTo>
                  <a:lnTo>
                    <a:pt x="1020" y="71"/>
                  </a:lnTo>
                  <a:lnTo>
                    <a:pt x="1020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6" y="89"/>
                  </a:lnTo>
                  <a:lnTo>
                    <a:pt x="1093" y="89"/>
                  </a:lnTo>
                  <a:lnTo>
                    <a:pt x="1093" y="108"/>
                  </a:lnTo>
                  <a:lnTo>
                    <a:pt x="1109" y="108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1"/>
                  </a:lnTo>
                  <a:lnTo>
                    <a:pt x="1109" y="179"/>
                  </a:lnTo>
                  <a:lnTo>
                    <a:pt x="1093" y="214"/>
                  </a:lnTo>
                  <a:lnTo>
                    <a:pt x="1076" y="250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6"/>
                  </a:lnTo>
                  <a:lnTo>
                    <a:pt x="931" y="430"/>
                  </a:lnTo>
                  <a:lnTo>
                    <a:pt x="897" y="483"/>
                  </a:lnTo>
                  <a:lnTo>
                    <a:pt x="860" y="519"/>
                  </a:lnTo>
                  <a:lnTo>
                    <a:pt x="824" y="574"/>
                  </a:lnTo>
                  <a:lnTo>
                    <a:pt x="789" y="609"/>
                  </a:lnTo>
                  <a:lnTo>
                    <a:pt x="771" y="644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6" y="697"/>
                  </a:lnTo>
                  <a:lnTo>
                    <a:pt x="1076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140360" y="471960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6">
                  <a:moveTo>
                    <a:pt x="1075" y="986"/>
                  </a:moveTo>
                  <a:lnTo>
                    <a:pt x="1075" y="1003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3" y="1094"/>
                  </a:lnTo>
                  <a:lnTo>
                    <a:pt x="986" y="1111"/>
                  </a:lnTo>
                  <a:lnTo>
                    <a:pt x="986" y="1129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8" y="1183"/>
                  </a:lnTo>
                  <a:lnTo>
                    <a:pt x="878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7"/>
                  </a:lnTo>
                  <a:lnTo>
                    <a:pt x="788" y="1237"/>
                  </a:lnTo>
                  <a:lnTo>
                    <a:pt x="770" y="1237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9" y="1183"/>
                  </a:lnTo>
                  <a:lnTo>
                    <a:pt x="682" y="1165"/>
                  </a:lnTo>
                  <a:lnTo>
                    <a:pt x="662" y="1147"/>
                  </a:lnTo>
                  <a:lnTo>
                    <a:pt x="645" y="1129"/>
                  </a:lnTo>
                  <a:lnTo>
                    <a:pt x="626" y="1111"/>
                  </a:lnTo>
                  <a:lnTo>
                    <a:pt x="609" y="1094"/>
                  </a:lnTo>
                  <a:lnTo>
                    <a:pt x="591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3"/>
                  </a:lnTo>
                  <a:lnTo>
                    <a:pt x="252" y="1416"/>
                  </a:lnTo>
                  <a:lnTo>
                    <a:pt x="215" y="1416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6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3" y="1309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7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2" y="682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6"/>
                  </a:lnTo>
                  <a:lnTo>
                    <a:pt x="126" y="520"/>
                  </a:lnTo>
                  <a:lnTo>
                    <a:pt x="106" y="503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3" y="413"/>
                  </a:lnTo>
                  <a:lnTo>
                    <a:pt x="36" y="377"/>
                  </a:lnTo>
                  <a:lnTo>
                    <a:pt x="18" y="360"/>
                  </a:lnTo>
                  <a:lnTo>
                    <a:pt x="0" y="324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9"/>
                  </a:lnTo>
                  <a:lnTo>
                    <a:pt x="53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6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6"/>
                  </a:lnTo>
                  <a:lnTo>
                    <a:pt x="143" y="199"/>
                  </a:lnTo>
                  <a:lnTo>
                    <a:pt x="162" y="199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9"/>
                  </a:lnTo>
                  <a:lnTo>
                    <a:pt x="252" y="216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0" y="324"/>
                  </a:lnTo>
                  <a:lnTo>
                    <a:pt x="375" y="341"/>
                  </a:lnTo>
                  <a:lnTo>
                    <a:pt x="430" y="394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1" y="394"/>
                  </a:lnTo>
                  <a:lnTo>
                    <a:pt x="626" y="360"/>
                  </a:lnTo>
                  <a:lnTo>
                    <a:pt x="662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9"/>
                  </a:lnTo>
                  <a:lnTo>
                    <a:pt x="878" y="73"/>
                  </a:lnTo>
                  <a:lnTo>
                    <a:pt x="896" y="37"/>
                  </a:lnTo>
                  <a:lnTo>
                    <a:pt x="913" y="20"/>
                  </a:lnTo>
                  <a:lnTo>
                    <a:pt x="931" y="0"/>
                  </a:lnTo>
                  <a:lnTo>
                    <a:pt x="949" y="0"/>
                  </a:lnTo>
                  <a:lnTo>
                    <a:pt x="966" y="20"/>
                  </a:lnTo>
                  <a:lnTo>
                    <a:pt x="986" y="20"/>
                  </a:lnTo>
                  <a:lnTo>
                    <a:pt x="1003" y="37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4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6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3" y="341"/>
                  </a:lnTo>
                  <a:lnTo>
                    <a:pt x="966" y="377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20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6"/>
                  </a:lnTo>
                  <a:lnTo>
                    <a:pt x="752" y="664"/>
                  </a:lnTo>
                  <a:lnTo>
                    <a:pt x="735" y="682"/>
                  </a:lnTo>
                  <a:lnTo>
                    <a:pt x="715" y="699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08400" y="5119560"/>
              <a:ext cx="370080" cy="436680"/>
            </a:xfrm>
            <a:custGeom>
              <a:avLst/>
              <a:gdLst/>
              <a:ahLst/>
              <a:rect l="l" t="t" r="r" b="b"/>
              <a:pathLst>
                <a:path w="1128" h="1331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5" y="977"/>
                  </a:lnTo>
                  <a:lnTo>
                    <a:pt x="1055" y="995"/>
                  </a:lnTo>
                  <a:lnTo>
                    <a:pt x="1038" y="1011"/>
                  </a:lnTo>
                  <a:lnTo>
                    <a:pt x="1020" y="1011"/>
                  </a:lnTo>
                  <a:lnTo>
                    <a:pt x="1002" y="1029"/>
                  </a:lnTo>
                  <a:lnTo>
                    <a:pt x="985" y="1045"/>
                  </a:lnTo>
                  <a:lnTo>
                    <a:pt x="985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30"/>
                  </a:lnTo>
                  <a:lnTo>
                    <a:pt x="913" y="1130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1" y="1113"/>
                  </a:lnTo>
                  <a:lnTo>
                    <a:pt x="841" y="1130"/>
                  </a:lnTo>
                  <a:lnTo>
                    <a:pt x="824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1" y="1146"/>
                  </a:lnTo>
                  <a:lnTo>
                    <a:pt x="734" y="1146"/>
                  </a:lnTo>
                  <a:lnTo>
                    <a:pt x="715" y="1130"/>
                  </a:lnTo>
                  <a:lnTo>
                    <a:pt x="698" y="1113"/>
                  </a:lnTo>
                  <a:lnTo>
                    <a:pt x="681" y="1095"/>
                  </a:lnTo>
                  <a:lnTo>
                    <a:pt x="661" y="1079"/>
                  </a:lnTo>
                  <a:lnTo>
                    <a:pt x="645" y="1062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5" y="977"/>
                  </a:lnTo>
                  <a:lnTo>
                    <a:pt x="537" y="961"/>
                  </a:lnTo>
                  <a:lnTo>
                    <a:pt x="520" y="961"/>
                  </a:lnTo>
                  <a:lnTo>
                    <a:pt x="500" y="943"/>
                  </a:lnTo>
                  <a:lnTo>
                    <a:pt x="251" y="1331"/>
                  </a:lnTo>
                  <a:lnTo>
                    <a:pt x="215" y="1331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5" y="1282"/>
                  </a:lnTo>
                  <a:lnTo>
                    <a:pt x="107" y="1282"/>
                  </a:lnTo>
                  <a:lnTo>
                    <a:pt x="90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4" y="1231"/>
                  </a:lnTo>
                  <a:lnTo>
                    <a:pt x="37" y="1214"/>
                  </a:lnTo>
                  <a:lnTo>
                    <a:pt x="37" y="1198"/>
                  </a:lnTo>
                  <a:lnTo>
                    <a:pt x="37" y="1179"/>
                  </a:lnTo>
                  <a:lnTo>
                    <a:pt x="54" y="1179"/>
                  </a:lnTo>
                  <a:lnTo>
                    <a:pt x="54" y="1163"/>
                  </a:lnTo>
                  <a:lnTo>
                    <a:pt x="37" y="1146"/>
                  </a:lnTo>
                  <a:lnTo>
                    <a:pt x="37" y="1130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6" y="690"/>
                  </a:lnTo>
                  <a:lnTo>
                    <a:pt x="268" y="674"/>
                  </a:lnTo>
                  <a:lnTo>
                    <a:pt x="233" y="641"/>
                  </a:lnTo>
                  <a:lnTo>
                    <a:pt x="215" y="625"/>
                  </a:lnTo>
                  <a:lnTo>
                    <a:pt x="196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3" y="522"/>
                  </a:lnTo>
                  <a:lnTo>
                    <a:pt x="125" y="489"/>
                  </a:lnTo>
                  <a:lnTo>
                    <a:pt x="107" y="473"/>
                  </a:lnTo>
                  <a:lnTo>
                    <a:pt x="90" y="438"/>
                  </a:lnTo>
                  <a:lnTo>
                    <a:pt x="70" y="422"/>
                  </a:lnTo>
                  <a:lnTo>
                    <a:pt x="54" y="388"/>
                  </a:lnTo>
                  <a:lnTo>
                    <a:pt x="37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7" y="252"/>
                  </a:lnTo>
                  <a:lnTo>
                    <a:pt x="54" y="236"/>
                  </a:lnTo>
                  <a:lnTo>
                    <a:pt x="70" y="220"/>
                  </a:lnTo>
                  <a:lnTo>
                    <a:pt x="90" y="236"/>
                  </a:lnTo>
                  <a:lnTo>
                    <a:pt x="107" y="236"/>
                  </a:lnTo>
                  <a:lnTo>
                    <a:pt x="125" y="252"/>
                  </a:lnTo>
                  <a:lnTo>
                    <a:pt x="125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1" y="186"/>
                  </a:lnTo>
                  <a:lnTo>
                    <a:pt x="178" y="168"/>
                  </a:lnTo>
                  <a:lnTo>
                    <a:pt x="196" y="168"/>
                  </a:lnTo>
                  <a:lnTo>
                    <a:pt x="215" y="168"/>
                  </a:lnTo>
                  <a:lnTo>
                    <a:pt x="233" y="186"/>
                  </a:lnTo>
                  <a:lnTo>
                    <a:pt x="251" y="202"/>
                  </a:lnTo>
                  <a:lnTo>
                    <a:pt x="268" y="220"/>
                  </a:lnTo>
                  <a:lnTo>
                    <a:pt x="286" y="236"/>
                  </a:lnTo>
                  <a:lnTo>
                    <a:pt x="321" y="270"/>
                  </a:lnTo>
                  <a:lnTo>
                    <a:pt x="341" y="304"/>
                  </a:lnTo>
                  <a:lnTo>
                    <a:pt x="374" y="320"/>
                  </a:lnTo>
                  <a:lnTo>
                    <a:pt x="430" y="370"/>
                  </a:lnTo>
                  <a:lnTo>
                    <a:pt x="465" y="405"/>
                  </a:lnTo>
                  <a:lnTo>
                    <a:pt x="520" y="454"/>
                  </a:lnTo>
                  <a:lnTo>
                    <a:pt x="537" y="438"/>
                  </a:lnTo>
                  <a:lnTo>
                    <a:pt x="555" y="422"/>
                  </a:lnTo>
                  <a:lnTo>
                    <a:pt x="573" y="405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1" y="286"/>
                  </a:lnTo>
                  <a:lnTo>
                    <a:pt x="698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4" y="136"/>
                  </a:lnTo>
                  <a:lnTo>
                    <a:pt x="841" y="101"/>
                  </a:lnTo>
                  <a:lnTo>
                    <a:pt x="877" y="68"/>
                  </a:lnTo>
                  <a:lnTo>
                    <a:pt x="895" y="35"/>
                  </a:lnTo>
                  <a:lnTo>
                    <a:pt x="913" y="17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7"/>
                  </a:lnTo>
                  <a:lnTo>
                    <a:pt x="985" y="17"/>
                  </a:lnTo>
                  <a:lnTo>
                    <a:pt x="1002" y="35"/>
                  </a:lnTo>
                  <a:lnTo>
                    <a:pt x="1020" y="52"/>
                  </a:lnTo>
                  <a:lnTo>
                    <a:pt x="1020" y="68"/>
                  </a:lnTo>
                  <a:lnTo>
                    <a:pt x="1020" y="84"/>
                  </a:lnTo>
                  <a:lnTo>
                    <a:pt x="1038" y="84"/>
                  </a:lnTo>
                  <a:lnTo>
                    <a:pt x="1055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1"/>
                  </a:lnTo>
                  <a:lnTo>
                    <a:pt x="1109" y="101"/>
                  </a:lnTo>
                  <a:lnTo>
                    <a:pt x="1128" y="118"/>
                  </a:lnTo>
                  <a:lnTo>
                    <a:pt x="1128" y="136"/>
                  </a:lnTo>
                  <a:lnTo>
                    <a:pt x="1128" y="152"/>
                  </a:lnTo>
                  <a:lnTo>
                    <a:pt x="1109" y="168"/>
                  </a:lnTo>
                  <a:lnTo>
                    <a:pt x="1091" y="202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2" y="320"/>
                  </a:lnTo>
                  <a:lnTo>
                    <a:pt x="966" y="354"/>
                  </a:lnTo>
                  <a:lnTo>
                    <a:pt x="930" y="405"/>
                  </a:lnTo>
                  <a:lnTo>
                    <a:pt x="895" y="454"/>
                  </a:lnTo>
                  <a:lnTo>
                    <a:pt x="860" y="489"/>
                  </a:lnTo>
                  <a:lnTo>
                    <a:pt x="824" y="541"/>
                  </a:lnTo>
                  <a:lnTo>
                    <a:pt x="787" y="573"/>
                  </a:lnTo>
                  <a:lnTo>
                    <a:pt x="770" y="606"/>
                  </a:lnTo>
                  <a:lnTo>
                    <a:pt x="751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503600" y="374652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6"/>
                  </a:moveTo>
                  <a:lnTo>
                    <a:pt x="1075" y="1003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8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2" y="1094"/>
                  </a:lnTo>
                  <a:lnTo>
                    <a:pt x="986" y="1111"/>
                  </a:lnTo>
                  <a:lnTo>
                    <a:pt x="986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9" y="1183"/>
                  </a:lnTo>
                  <a:lnTo>
                    <a:pt x="682" y="1165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6" y="1111"/>
                  </a:lnTo>
                  <a:lnTo>
                    <a:pt x="609" y="1094"/>
                  </a:lnTo>
                  <a:lnTo>
                    <a:pt x="590" y="1075"/>
                  </a:lnTo>
                  <a:lnTo>
                    <a:pt x="573" y="1058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3"/>
                  </a:lnTo>
                  <a:lnTo>
                    <a:pt x="252" y="1415"/>
                  </a:lnTo>
                  <a:lnTo>
                    <a:pt x="215" y="1415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6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3" y="1309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2" y="682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5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6" y="502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3" y="413"/>
                  </a:lnTo>
                  <a:lnTo>
                    <a:pt x="36" y="377"/>
                  </a:lnTo>
                  <a:lnTo>
                    <a:pt x="18" y="360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9"/>
                  </a:lnTo>
                  <a:lnTo>
                    <a:pt x="53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6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8"/>
                  </a:lnTo>
                  <a:lnTo>
                    <a:pt x="162" y="198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8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0" y="323"/>
                  </a:lnTo>
                  <a:lnTo>
                    <a:pt x="375" y="341"/>
                  </a:lnTo>
                  <a:lnTo>
                    <a:pt x="430" y="395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5"/>
                  </a:lnTo>
                  <a:lnTo>
                    <a:pt x="626" y="360"/>
                  </a:lnTo>
                  <a:lnTo>
                    <a:pt x="662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5"/>
                  </a:lnTo>
                  <a:lnTo>
                    <a:pt x="841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9"/>
                  </a:lnTo>
                  <a:lnTo>
                    <a:pt x="986" y="19"/>
                  </a:lnTo>
                  <a:lnTo>
                    <a:pt x="1002" y="36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2" y="341"/>
                  </a:lnTo>
                  <a:lnTo>
                    <a:pt x="966" y="377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5"/>
                  </a:lnTo>
                  <a:lnTo>
                    <a:pt x="788" y="609"/>
                  </a:lnTo>
                  <a:lnTo>
                    <a:pt x="770" y="645"/>
                  </a:lnTo>
                  <a:lnTo>
                    <a:pt x="752" y="664"/>
                  </a:lnTo>
                  <a:lnTo>
                    <a:pt x="735" y="682"/>
                  </a:lnTo>
                  <a:lnTo>
                    <a:pt x="715" y="699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65520" y="4210200"/>
              <a:ext cx="370080" cy="4618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5" y="984"/>
                  </a:moveTo>
                  <a:lnTo>
                    <a:pt x="1075" y="1002"/>
                  </a:lnTo>
                  <a:lnTo>
                    <a:pt x="1075" y="1021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19" y="1074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6" y="1146"/>
                  </a:lnTo>
                  <a:lnTo>
                    <a:pt x="966" y="1163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7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7"/>
                  </a:lnTo>
                  <a:lnTo>
                    <a:pt x="735" y="1217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2" y="1163"/>
                  </a:lnTo>
                  <a:lnTo>
                    <a:pt x="662" y="1146"/>
                  </a:lnTo>
                  <a:lnTo>
                    <a:pt x="645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89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6" y="1021"/>
                  </a:lnTo>
                  <a:lnTo>
                    <a:pt x="519" y="1021"/>
                  </a:lnTo>
                  <a:lnTo>
                    <a:pt x="501" y="1002"/>
                  </a:lnTo>
                  <a:lnTo>
                    <a:pt x="252" y="1414"/>
                  </a:lnTo>
                  <a:lnTo>
                    <a:pt x="215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2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6" y="1361"/>
                  </a:lnTo>
                  <a:lnTo>
                    <a:pt x="89" y="1342"/>
                  </a:lnTo>
                  <a:lnTo>
                    <a:pt x="71" y="1342"/>
                  </a:lnTo>
                  <a:lnTo>
                    <a:pt x="71" y="1326"/>
                  </a:lnTo>
                  <a:lnTo>
                    <a:pt x="53" y="1308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5" y="733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5"/>
                  </a:lnTo>
                  <a:lnTo>
                    <a:pt x="126" y="519"/>
                  </a:lnTo>
                  <a:lnTo>
                    <a:pt x="106" y="501"/>
                  </a:lnTo>
                  <a:lnTo>
                    <a:pt x="89" y="466"/>
                  </a:lnTo>
                  <a:lnTo>
                    <a:pt x="71" y="448"/>
                  </a:lnTo>
                  <a:lnTo>
                    <a:pt x="53" y="413"/>
                  </a:lnTo>
                  <a:lnTo>
                    <a:pt x="36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4"/>
                  </a:lnTo>
                  <a:lnTo>
                    <a:pt x="18" y="287"/>
                  </a:lnTo>
                  <a:lnTo>
                    <a:pt x="36" y="267"/>
                  </a:lnTo>
                  <a:lnTo>
                    <a:pt x="53" y="250"/>
                  </a:lnTo>
                  <a:lnTo>
                    <a:pt x="71" y="233"/>
                  </a:lnTo>
                  <a:lnTo>
                    <a:pt x="89" y="250"/>
                  </a:lnTo>
                  <a:lnTo>
                    <a:pt x="106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2" y="214"/>
                  </a:lnTo>
                  <a:lnTo>
                    <a:pt x="269" y="233"/>
                  </a:lnTo>
                  <a:lnTo>
                    <a:pt x="285" y="250"/>
                  </a:lnTo>
                  <a:lnTo>
                    <a:pt x="322" y="287"/>
                  </a:lnTo>
                  <a:lnTo>
                    <a:pt x="340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29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8"/>
                  </a:lnTo>
                  <a:lnTo>
                    <a:pt x="573" y="429"/>
                  </a:lnTo>
                  <a:lnTo>
                    <a:pt x="589" y="393"/>
                  </a:lnTo>
                  <a:lnTo>
                    <a:pt x="626" y="359"/>
                  </a:lnTo>
                  <a:lnTo>
                    <a:pt x="662" y="304"/>
                  </a:lnTo>
                  <a:lnTo>
                    <a:pt x="698" y="267"/>
                  </a:lnTo>
                  <a:lnTo>
                    <a:pt x="735" y="233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8"/>
                  </a:lnTo>
                  <a:lnTo>
                    <a:pt x="877" y="72"/>
                  </a:lnTo>
                  <a:lnTo>
                    <a:pt x="896" y="36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5" y="18"/>
                  </a:lnTo>
                  <a:lnTo>
                    <a:pt x="1002" y="36"/>
                  </a:lnTo>
                  <a:lnTo>
                    <a:pt x="1019" y="54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8"/>
                  </a:lnTo>
                  <a:lnTo>
                    <a:pt x="1109" y="108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9" y="179"/>
                  </a:lnTo>
                  <a:lnTo>
                    <a:pt x="1092" y="214"/>
                  </a:lnTo>
                  <a:lnTo>
                    <a:pt x="1075" y="250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4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5" y="697"/>
                  </a:lnTo>
                  <a:lnTo>
                    <a:pt x="1075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595760" y="4660920"/>
              <a:ext cx="368280" cy="461880"/>
            </a:xfrm>
            <a:custGeom>
              <a:avLst/>
              <a:gdLst/>
              <a:ahLst/>
              <a:rect l="l" t="t" r="r" b="b"/>
              <a:pathLst>
                <a:path w="1129" h="1416">
                  <a:moveTo>
                    <a:pt x="1076" y="986"/>
                  </a:moveTo>
                  <a:lnTo>
                    <a:pt x="1076" y="1003"/>
                  </a:lnTo>
                  <a:lnTo>
                    <a:pt x="1076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20" y="1075"/>
                  </a:lnTo>
                  <a:lnTo>
                    <a:pt x="1003" y="1094"/>
                  </a:lnTo>
                  <a:lnTo>
                    <a:pt x="986" y="1112"/>
                  </a:lnTo>
                  <a:lnTo>
                    <a:pt x="986" y="1129"/>
                  </a:lnTo>
                  <a:lnTo>
                    <a:pt x="967" y="1147"/>
                  </a:lnTo>
                  <a:lnTo>
                    <a:pt x="967" y="1165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4" y="1218"/>
                  </a:lnTo>
                  <a:lnTo>
                    <a:pt x="805" y="1236"/>
                  </a:lnTo>
                  <a:lnTo>
                    <a:pt x="789" y="1236"/>
                  </a:lnTo>
                  <a:lnTo>
                    <a:pt x="771" y="1236"/>
                  </a:lnTo>
                  <a:lnTo>
                    <a:pt x="752" y="1218"/>
                  </a:lnTo>
                  <a:lnTo>
                    <a:pt x="734" y="1218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1" y="1165"/>
                  </a:lnTo>
                  <a:lnTo>
                    <a:pt x="663" y="1147"/>
                  </a:lnTo>
                  <a:lnTo>
                    <a:pt x="646" y="1129"/>
                  </a:lnTo>
                  <a:lnTo>
                    <a:pt x="626" y="1112"/>
                  </a:lnTo>
                  <a:lnTo>
                    <a:pt x="609" y="1094"/>
                  </a:lnTo>
                  <a:lnTo>
                    <a:pt x="590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7" y="1022"/>
                  </a:lnTo>
                  <a:lnTo>
                    <a:pt x="520" y="1022"/>
                  </a:lnTo>
                  <a:lnTo>
                    <a:pt x="500" y="1003"/>
                  </a:lnTo>
                  <a:lnTo>
                    <a:pt x="252" y="1416"/>
                  </a:lnTo>
                  <a:lnTo>
                    <a:pt x="216" y="1416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4" y="1309"/>
                  </a:lnTo>
                  <a:lnTo>
                    <a:pt x="37" y="1290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2"/>
                  </a:lnTo>
                  <a:lnTo>
                    <a:pt x="216" y="664"/>
                  </a:lnTo>
                  <a:lnTo>
                    <a:pt x="196" y="629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6"/>
                  </a:lnTo>
                  <a:lnTo>
                    <a:pt x="126" y="520"/>
                  </a:lnTo>
                  <a:lnTo>
                    <a:pt x="107" y="503"/>
                  </a:lnTo>
                  <a:lnTo>
                    <a:pt x="90" y="466"/>
                  </a:lnTo>
                  <a:lnTo>
                    <a:pt x="72" y="449"/>
                  </a:lnTo>
                  <a:lnTo>
                    <a:pt x="54" y="413"/>
                  </a:lnTo>
                  <a:lnTo>
                    <a:pt x="37" y="377"/>
                  </a:lnTo>
                  <a:lnTo>
                    <a:pt x="18" y="360"/>
                  </a:lnTo>
                  <a:lnTo>
                    <a:pt x="0" y="324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7" y="269"/>
                  </a:lnTo>
                  <a:lnTo>
                    <a:pt x="54" y="252"/>
                  </a:lnTo>
                  <a:lnTo>
                    <a:pt x="72" y="234"/>
                  </a:lnTo>
                  <a:lnTo>
                    <a:pt x="90" y="252"/>
                  </a:lnTo>
                  <a:lnTo>
                    <a:pt x="107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6"/>
                  </a:lnTo>
                  <a:lnTo>
                    <a:pt x="143" y="199"/>
                  </a:lnTo>
                  <a:lnTo>
                    <a:pt x="163" y="199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9"/>
                  </a:lnTo>
                  <a:lnTo>
                    <a:pt x="252" y="216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1" y="324"/>
                  </a:lnTo>
                  <a:lnTo>
                    <a:pt x="376" y="340"/>
                  </a:lnTo>
                  <a:lnTo>
                    <a:pt x="430" y="395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5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9" y="269"/>
                  </a:lnTo>
                  <a:lnTo>
                    <a:pt x="734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20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20"/>
                  </a:lnTo>
                  <a:lnTo>
                    <a:pt x="986" y="20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6" y="90"/>
                  </a:lnTo>
                  <a:lnTo>
                    <a:pt x="1093" y="90"/>
                  </a:lnTo>
                  <a:lnTo>
                    <a:pt x="1093" y="109"/>
                  </a:lnTo>
                  <a:lnTo>
                    <a:pt x="1109" y="109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2"/>
                  </a:lnTo>
                  <a:lnTo>
                    <a:pt x="1109" y="179"/>
                  </a:lnTo>
                  <a:lnTo>
                    <a:pt x="1093" y="216"/>
                  </a:lnTo>
                  <a:lnTo>
                    <a:pt x="1076" y="252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7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20"/>
                  </a:lnTo>
                  <a:lnTo>
                    <a:pt x="824" y="574"/>
                  </a:lnTo>
                  <a:lnTo>
                    <a:pt x="789" y="609"/>
                  </a:lnTo>
                  <a:lnTo>
                    <a:pt x="771" y="645"/>
                  </a:lnTo>
                  <a:lnTo>
                    <a:pt x="752" y="664"/>
                  </a:lnTo>
                  <a:lnTo>
                    <a:pt x="734" y="682"/>
                  </a:lnTo>
                  <a:lnTo>
                    <a:pt x="716" y="699"/>
                  </a:lnTo>
                  <a:lnTo>
                    <a:pt x="1076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62360" y="5065560"/>
              <a:ext cx="370080" cy="435240"/>
            </a:xfrm>
            <a:custGeom>
              <a:avLst/>
              <a:gdLst/>
              <a:ahLst/>
              <a:rect l="l" t="t" r="r" b="b"/>
              <a:pathLst>
                <a:path w="1128" h="1332">
                  <a:moveTo>
                    <a:pt x="1075" y="927"/>
                  </a:moveTo>
                  <a:lnTo>
                    <a:pt x="1075" y="943"/>
                  </a:lnTo>
                  <a:lnTo>
                    <a:pt x="1075" y="961"/>
                  </a:lnTo>
                  <a:lnTo>
                    <a:pt x="1056" y="977"/>
                  </a:lnTo>
                  <a:lnTo>
                    <a:pt x="1056" y="995"/>
                  </a:lnTo>
                  <a:lnTo>
                    <a:pt x="1038" y="1011"/>
                  </a:lnTo>
                  <a:lnTo>
                    <a:pt x="1020" y="1011"/>
                  </a:lnTo>
                  <a:lnTo>
                    <a:pt x="1003" y="1029"/>
                  </a:lnTo>
                  <a:lnTo>
                    <a:pt x="985" y="1045"/>
                  </a:lnTo>
                  <a:lnTo>
                    <a:pt x="985" y="1061"/>
                  </a:lnTo>
                  <a:lnTo>
                    <a:pt x="967" y="1079"/>
                  </a:lnTo>
                  <a:lnTo>
                    <a:pt x="967" y="1095"/>
                  </a:lnTo>
                  <a:lnTo>
                    <a:pt x="967" y="1113"/>
                  </a:lnTo>
                  <a:lnTo>
                    <a:pt x="950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1" y="1113"/>
                  </a:lnTo>
                  <a:lnTo>
                    <a:pt x="841" y="1129"/>
                  </a:lnTo>
                  <a:lnTo>
                    <a:pt x="824" y="1145"/>
                  </a:lnTo>
                  <a:lnTo>
                    <a:pt x="804" y="1163"/>
                  </a:lnTo>
                  <a:lnTo>
                    <a:pt x="788" y="1163"/>
                  </a:lnTo>
                  <a:lnTo>
                    <a:pt x="771" y="1163"/>
                  </a:lnTo>
                  <a:lnTo>
                    <a:pt x="751" y="1145"/>
                  </a:lnTo>
                  <a:lnTo>
                    <a:pt x="734" y="1145"/>
                  </a:lnTo>
                  <a:lnTo>
                    <a:pt x="716" y="1129"/>
                  </a:lnTo>
                  <a:lnTo>
                    <a:pt x="698" y="1113"/>
                  </a:lnTo>
                  <a:lnTo>
                    <a:pt x="681" y="1095"/>
                  </a:lnTo>
                  <a:lnTo>
                    <a:pt x="663" y="1079"/>
                  </a:lnTo>
                  <a:lnTo>
                    <a:pt x="645" y="1061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5" y="977"/>
                  </a:lnTo>
                  <a:lnTo>
                    <a:pt x="537" y="961"/>
                  </a:lnTo>
                  <a:lnTo>
                    <a:pt x="520" y="961"/>
                  </a:lnTo>
                  <a:lnTo>
                    <a:pt x="500" y="943"/>
                  </a:lnTo>
                  <a:lnTo>
                    <a:pt x="251" y="1332"/>
                  </a:lnTo>
                  <a:lnTo>
                    <a:pt x="215" y="1332"/>
                  </a:lnTo>
                  <a:lnTo>
                    <a:pt x="180" y="1297"/>
                  </a:lnTo>
                  <a:lnTo>
                    <a:pt x="180" y="1281"/>
                  </a:lnTo>
                  <a:lnTo>
                    <a:pt x="180" y="1264"/>
                  </a:lnTo>
                  <a:lnTo>
                    <a:pt x="162" y="1264"/>
                  </a:lnTo>
                  <a:lnTo>
                    <a:pt x="143" y="1264"/>
                  </a:lnTo>
                  <a:lnTo>
                    <a:pt x="143" y="1281"/>
                  </a:lnTo>
                  <a:lnTo>
                    <a:pt x="126" y="1281"/>
                  </a:lnTo>
                  <a:lnTo>
                    <a:pt x="107" y="1281"/>
                  </a:lnTo>
                  <a:lnTo>
                    <a:pt x="90" y="1264"/>
                  </a:lnTo>
                  <a:lnTo>
                    <a:pt x="71" y="1264"/>
                  </a:lnTo>
                  <a:lnTo>
                    <a:pt x="71" y="1248"/>
                  </a:lnTo>
                  <a:lnTo>
                    <a:pt x="54" y="1230"/>
                  </a:lnTo>
                  <a:lnTo>
                    <a:pt x="37" y="1213"/>
                  </a:lnTo>
                  <a:lnTo>
                    <a:pt x="37" y="1197"/>
                  </a:lnTo>
                  <a:lnTo>
                    <a:pt x="37" y="1180"/>
                  </a:lnTo>
                  <a:lnTo>
                    <a:pt x="54" y="1180"/>
                  </a:lnTo>
                  <a:lnTo>
                    <a:pt x="54" y="1163"/>
                  </a:lnTo>
                  <a:lnTo>
                    <a:pt x="37" y="1145"/>
                  </a:lnTo>
                  <a:lnTo>
                    <a:pt x="37" y="1129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4"/>
                  </a:lnTo>
                  <a:lnTo>
                    <a:pt x="286" y="691"/>
                  </a:lnTo>
                  <a:lnTo>
                    <a:pt x="268" y="675"/>
                  </a:lnTo>
                  <a:lnTo>
                    <a:pt x="233" y="640"/>
                  </a:lnTo>
                  <a:lnTo>
                    <a:pt x="215" y="624"/>
                  </a:lnTo>
                  <a:lnTo>
                    <a:pt x="196" y="591"/>
                  </a:lnTo>
                  <a:lnTo>
                    <a:pt x="180" y="572"/>
                  </a:lnTo>
                  <a:lnTo>
                    <a:pt x="162" y="540"/>
                  </a:lnTo>
                  <a:lnTo>
                    <a:pt x="143" y="523"/>
                  </a:lnTo>
                  <a:lnTo>
                    <a:pt x="126" y="488"/>
                  </a:lnTo>
                  <a:lnTo>
                    <a:pt x="107" y="472"/>
                  </a:lnTo>
                  <a:lnTo>
                    <a:pt x="90" y="438"/>
                  </a:lnTo>
                  <a:lnTo>
                    <a:pt x="71" y="422"/>
                  </a:lnTo>
                  <a:lnTo>
                    <a:pt x="54" y="388"/>
                  </a:lnTo>
                  <a:lnTo>
                    <a:pt x="37" y="354"/>
                  </a:lnTo>
                  <a:lnTo>
                    <a:pt x="17" y="338"/>
                  </a:lnTo>
                  <a:lnTo>
                    <a:pt x="0" y="303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7" y="252"/>
                  </a:lnTo>
                  <a:lnTo>
                    <a:pt x="54" y="235"/>
                  </a:lnTo>
                  <a:lnTo>
                    <a:pt x="71" y="219"/>
                  </a:lnTo>
                  <a:lnTo>
                    <a:pt x="90" y="235"/>
                  </a:lnTo>
                  <a:lnTo>
                    <a:pt x="107" y="235"/>
                  </a:lnTo>
                  <a:lnTo>
                    <a:pt x="126" y="252"/>
                  </a:lnTo>
                  <a:lnTo>
                    <a:pt x="126" y="235"/>
                  </a:lnTo>
                  <a:lnTo>
                    <a:pt x="143" y="235"/>
                  </a:lnTo>
                  <a:lnTo>
                    <a:pt x="143" y="219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2" y="186"/>
                  </a:lnTo>
                  <a:lnTo>
                    <a:pt x="180" y="167"/>
                  </a:lnTo>
                  <a:lnTo>
                    <a:pt x="196" y="167"/>
                  </a:lnTo>
                  <a:lnTo>
                    <a:pt x="215" y="167"/>
                  </a:lnTo>
                  <a:lnTo>
                    <a:pt x="233" y="186"/>
                  </a:lnTo>
                  <a:lnTo>
                    <a:pt x="251" y="202"/>
                  </a:lnTo>
                  <a:lnTo>
                    <a:pt x="268" y="219"/>
                  </a:lnTo>
                  <a:lnTo>
                    <a:pt x="286" y="235"/>
                  </a:lnTo>
                  <a:lnTo>
                    <a:pt x="321" y="270"/>
                  </a:lnTo>
                  <a:lnTo>
                    <a:pt x="341" y="303"/>
                  </a:lnTo>
                  <a:lnTo>
                    <a:pt x="376" y="320"/>
                  </a:lnTo>
                  <a:lnTo>
                    <a:pt x="430" y="370"/>
                  </a:lnTo>
                  <a:lnTo>
                    <a:pt x="467" y="404"/>
                  </a:lnTo>
                  <a:lnTo>
                    <a:pt x="520" y="454"/>
                  </a:lnTo>
                  <a:lnTo>
                    <a:pt x="537" y="438"/>
                  </a:lnTo>
                  <a:lnTo>
                    <a:pt x="555" y="422"/>
                  </a:lnTo>
                  <a:lnTo>
                    <a:pt x="573" y="404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3" y="286"/>
                  </a:lnTo>
                  <a:lnTo>
                    <a:pt x="698" y="252"/>
                  </a:lnTo>
                  <a:lnTo>
                    <a:pt x="734" y="219"/>
                  </a:lnTo>
                  <a:lnTo>
                    <a:pt x="771" y="167"/>
                  </a:lnTo>
                  <a:lnTo>
                    <a:pt x="804" y="135"/>
                  </a:lnTo>
                  <a:lnTo>
                    <a:pt x="841" y="102"/>
                  </a:lnTo>
                  <a:lnTo>
                    <a:pt x="877" y="67"/>
                  </a:lnTo>
                  <a:lnTo>
                    <a:pt x="895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3" y="34"/>
                  </a:lnTo>
                  <a:lnTo>
                    <a:pt x="1020" y="51"/>
                  </a:lnTo>
                  <a:lnTo>
                    <a:pt x="1020" y="67"/>
                  </a:lnTo>
                  <a:lnTo>
                    <a:pt x="1020" y="83"/>
                  </a:lnTo>
                  <a:lnTo>
                    <a:pt x="1038" y="83"/>
                  </a:lnTo>
                  <a:lnTo>
                    <a:pt x="1056" y="83"/>
                  </a:lnTo>
                  <a:lnTo>
                    <a:pt x="1075" y="83"/>
                  </a:lnTo>
                  <a:lnTo>
                    <a:pt x="1091" y="83"/>
                  </a:lnTo>
                  <a:lnTo>
                    <a:pt x="1091" y="102"/>
                  </a:lnTo>
                  <a:lnTo>
                    <a:pt x="1109" y="102"/>
                  </a:lnTo>
                  <a:lnTo>
                    <a:pt x="1128" y="118"/>
                  </a:lnTo>
                  <a:lnTo>
                    <a:pt x="1128" y="135"/>
                  </a:lnTo>
                  <a:lnTo>
                    <a:pt x="1128" y="151"/>
                  </a:lnTo>
                  <a:lnTo>
                    <a:pt x="1109" y="167"/>
                  </a:lnTo>
                  <a:lnTo>
                    <a:pt x="1091" y="202"/>
                  </a:lnTo>
                  <a:lnTo>
                    <a:pt x="1075" y="235"/>
                  </a:lnTo>
                  <a:lnTo>
                    <a:pt x="1038" y="270"/>
                  </a:lnTo>
                  <a:lnTo>
                    <a:pt x="1003" y="320"/>
                  </a:lnTo>
                  <a:lnTo>
                    <a:pt x="967" y="354"/>
                  </a:lnTo>
                  <a:lnTo>
                    <a:pt x="930" y="404"/>
                  </a:lnTo>
                  <a:lnTo>
                    <a:pt x="895" y="454"/>
                  </a:lnTo>
                  <a:lnTo>
                    <a:pt x="860" y="488"/>
                  </a:lnTo>
                  <a:lnTo>
                    <a:pt x="824" y="540"/>
                  </a:lnTo>
                  <a:lnTo>
                    <a:pt x="788" y="572"/>
                  </a:lnTo>
                  <a:lnTo>
                    <a:pt x="771" y="607"/>
                  </a:lnTo>
                  <a:lnTo>
                    <a:pt x="751" y="624"/>
                  </a:lnTo>
                  <a:lnTo>
                    <a:pt x="734" y="640"/>
                  </a:lnTo>
                  <a:lnTo>
                    <a:pt x="716" y="656"/>
                  </a:lnTo>
                  <a:lnTo>
                    <a:pt x="1075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73760" y="3672000"/>
              <a:ext cx="369720" cy="463320"/>
            </a:xfrm>
            <a:custGeom>
              <a:avLst/>
              <a:gdLst/>
              <a:ahLst/>
              <a:rect l="l" t="t" r="r" b="b"/>
              <a:pathLst>
                <a:path w="1129" h="1415">
                  <a:moveTo>
                    <a:pt x="1076" y="986"/>
                  </a:moveTo>
                  <a:lnTo>
                    <a:pt x="1076" y="1002"/>
                  </a:lnTo>
                  <a:lnTo>
                    <a:pt x="1076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20" y="1075"/>
                  </a:lnTo>
                  <a:lnTo>
                    <a:pt x="1003" y="1093"/>
                  </a:lnTo>
                  <a:lnTo>
                    <a:pt x="986" y="1110"/>
                  </a:lnTo>
                  <a:lnTo>
                    <a:pt x="986" y="1128"/>
                  </a:lnTo>
                  <a:lnTo>
                    <a:pt x="967" y="1147"/>
                  </a:lnTo>
                  <a:lnTo>
                    <a:pt x="967" y="1164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8" y="1183"/>
                  </a:lnTo>
                  <a:lnTo>
                    <a:pt x="878" y="1164"/>
                  </a:lnTo>
                  <a:lnTo>
                    <a:pt x="860" y="1164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5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2" y="1164"/>
                  </a:lnTo>
                  <a:lnTo>
                    <a:pt x="663" y="1147"/>
                  </a:lnTo>
                  <a:lnTo>
                    <a:pt x="646" y="1128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1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8" y="1022"/>
                  </a:lnTo>
                  <a:lnTo>
                    <a:pt x="520" y="1022"/>
                  </a:lnTo>
                  <a:lnTo>
                    <a:pt x="501" y="1002"/>
                  </a:lnTo>
                  <a:lnTo>
                    <a:pt x="252" y="1415"/>
                  </a:lnTo>
                  <a:lnTo>
                    <a:pt x="216" y="1415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8" y="1362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5" y="1309"/>
                  </a:lnTo>
                  <a:lnTo>
                    <a:pt x="37" y="1289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5" y="1253"/>
                  </a:lnTo>
                  <a:lnTo>
                    <a:pt x="55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4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1"/>
                  </a:lnTo>
                  <a:lnTo>
                    <a:pt x="216" y="664"/>
                  </a:lnTo>
                  <a:lnTo>
                    <a:pt x="196" y="627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8" y="502"/>
                  </a:lnTo>
                  <a:lnTo>
                    <a:pt x="90" y="466"/>
                  </a:lnTo>
                  <a:lnTo>
                    <a:pt x="72" y="449"/>
                  </a:lnTo>
                  <a:lnTo>
                    <a:pt x="55" y="413"/>
                  </a:lnTo>
                  <a:lnTo>
                    <a:pt x="37" y="377"/>
                  </a:lnTo>
                  <a:lnTo>
                    <a:pt x="18" y="360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7" y="269"/>
                  </a:lnTo>
                  <a:lnTo>
                    <a:pt x="55" y="252"/>
                  </a:lnTo>
                  <a:lnTo>
                    <a:pt x="72" y="234"/>
                  </a:lnTo>
                  <a:lnTo>
                    <a:pt x="90" y="252"/>
                  </a:lnTo>
                  <a:lnTo>
                    <a:pt x="108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2" y="323"/>
                  </a:lnTo>
                  <a:lnTo>
                    <a:pt x="376" y="340"/>
                  </a:lnTo>
                  <a:lnTo>
                    <a:pt x="430" y="393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8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1" y="393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9"/>
                  </a:lnTo>
                  <a:lnTo>
                    <a:pt x="878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1" y="0"/>
                  </a:lnTo>
                  <a:lnTo>
                    <a:pt x="950" y="0"/>
                  </a:lnTo>
                  <a:lnTo>
                    <a:pt x="967" y="19"/>
                  </a:lnTo>
                  <a:lnTo>
                    <a:pt x="986" y="19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6" y="89"/>
                  </a:lnTo>
                  <a:lnTo>
                    <a:pt x="1092" y="89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6" y="252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7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5" y="574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2" y="664"/>
                  </a:lnTo>
                  <a:lnTo>
                    <a:pt x="735" y="681"/>
                  </a:lnTo>
                  <a:lnTo>
                    <a:pt x="716" y="698"/>
                  </a:lnTo>
                  <a:lnTo>
                    <a:pt x="1076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064120" y="4586400"/>
              <a:ext cx="369720" cy="46332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5"/>
                  </a:moveTo>
                  <a:lnTo>
                    <a:pt x="1075" y="1002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8"/>
                  </a:lnTo>
                  <a:lnTo>
                    <a:pt x="966" y="1147"/>
                  </a:lnTo>
                  <a:lnTo>
                    <a:pt x="966" y="1163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6" y="1183"/>
                  </a:lnTo>
                  <a:lnTo>
                    <a:pt x="876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89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2"/>
                  </a:lnTo>
                  <a:lnTo>
                    <a:pt x="252" y="1415"/>
                  </a:lnTo>
                  <a:lnTo>
                    <a:pt x="215" y="1415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89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9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5" y="735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7" y="502"/>
                  </a:lnTo>
                  <a:lnTo>
                    <a:pt x="89" y="466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6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8"/>
                  </a:lnTo>
                  <a:lnTo>
                    <a:pt x="54" y="252"/>
                  </a:lnTo>
                  <a:lnTo>
                    <a:pt x="71" y="234"/>
                  </a:lnTo>
                  <a:lnTo>
                    <a:pt x="89" y="252"/>
                  </a:lnTo>
                  <a:lnTo>
                    <a:pt x="107" y="252"/>
                  </a:lnTo>
                  <a:lnTo>
                    <a:pt x="126" y="268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5" y="252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89" y="393"/>
                  </a:lnTo>
                  <a:lnTo>
                    <a:pt x="626" y="359"/>
                  </a:lnTo>
                  <a:lnTo>
                    <a:pt x="662" y="305"/>
                  </a:lnTo>
                  <a:lnTo>
                    <a:pt x="698" y="268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9"/>
                  </a:lnTo>
                  <a:lnTo>
                    <a:pt x="876" y="72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1" y="0"/>
                  </a:lnTo>
                  <a:lnTo>
                    <a:pt x="949" y="0"/>
                  </a:lnTo>
                  <a:lnTo>
                    <a:pt x="966" y="19"/>
                  </a:lnTo>
                  <a:lnTo>
                    <a:pt x="985" y="19"/>
                  </a:lnTo>
                  <a:lnTo>
                    <a:pt x="1002" y="36"/>
                  </a:lnTo>
                  <a:lnTo>
                    <a:pt x="1019" y="55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4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6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5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5" y="698"/>
                  </a:lnTo>
                  <a:lnTo>
                    <a:pt x="1075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133960" y="4994280"/>
              <a:ext cx="368280" cy="436680"/>
            </a:xfrm>
            <a:custGeom>
              <a:avLst/>
              <a:gdLst/>
              <a:ahLst/>
              <a:rect l="l" t="t" r="r" b="b"/>
              <a:pathLst>
                <a:path w="1127" h="1331">
                  <a:moveTo>
                    <a:pt x="1074" y="928"/>
                  </a:moveTo>
                  <a:lnTo>
                    <a:pt x="1074" y="944"/>
                  </a:lnTo>
                  <a:lnTo>
                    <a:pt x="1074" y="961"/>
                  </a:lnTo>
                  <a:lnTo>
                    <a:pt x="1056" y="977"/>
                  </a:lnTo>
                  <a:lnTo>
                    <a:pt x="1056" y="995"/>
                  </a:lnTo>
                  <a:lnTo>
                    <a:pt x="1039" y="1012"/>
                  </a:lnTo>
                  <a:lnTo>
                    <a:pt x="1019" y="1012"/>
                  </a:lnTo>
                  <a:lnTo>
                    <a:pt x="1002" y="1029"/>
                  </a:lnTo>
                  <a:lnTo>
                    <a:pt x="984" y="1045"/>
                  </a:lnTo>
                  <a:lnTo>
                    <a:pt x="984" y="1061"/>
                  </a:lnTo>
                  <a:lnTo>
                    <a:pt x="966" y="1079"/>
                  </a:lnTo>
                  <a:lnTo>
                    <a:pt x="966" y="1096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6" y="1113"/>
                  </a:lnTo>
                  <a:lnTo>
                    <a:pt x="876" y="1113"/>
                  </a:lnTo>
                  <a:lnTo>
                    <a:pt x="876" y="1096"/>
                  </a:lnTo>
                  <a:lnTo>
                    <a:pt x="860" y="1096"/>
                  </a:lnTo>
                  <a:lnTo>
                    <a:pt x="860" y="1113"/>
                  </a:lnTo>
                  <a:lnTo>
                    <a:pt x="840" y="1113"/>
                  </a:lnTo>
                  <a:lnTo>
                    <a:pt x="840" y="1129"/>
                  </a:lnTo>
                  <a:lnTo>
                    <a:pt x="823" y="1146"/>
                  </a:lnTo>
                  <a:lnTo>
                    <a:pt x="805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2" y="1146"/>
                  </a:lnTo>
                  <a:lnTo>
                    <a:pt x="734" y="1146"/>
                  </a:lnTo>
                  <a:lnTo>
                    <a:pt x="715" y="1129"/>
                  </a:lnTo>
                  <a:lnTo>
                    <a:pt x="697" y="1113"/>
                  </a:lnTo>
                  <a:lnTo>
                    <a:pt x="680" y="1096"/>
                  </a:lnTo>
                  <a:lnTo>
                    <a:pt x="662" y="1079"/>
                  </a:lnTo>
                  <a:lnTo>
                    <a:pt x="644" y="1061"/>
                  </a:lnTo>
                  <a:lnTo>
                    <a:pt x="626" y="1045"/>
                  </a:lnTo>
                  <a:lnTo>
                    <a:pt x="609" y="1029"/>
                  </a:lnTo>
                  <a:lnTo>
                    <a:pt x="589" y="1012"/>
                  </a:lnTo>
                  <a:lnTo>
                    <a:pt x="573" y="995"/>
                  </a:lnTo>
                  <a:lnTo>
                    <a:pt x="556" y="977"/>
                  </a:lnTo>
                  <a:lnTo>
                    <a:pt x="536" y="961"/>
                  </a:lnTo>
                  <a:lnTo>
                    <a:pt x="519" y="961"/>
                  </a:lnTo>
                  <a:lnTo>
                    <a:pt x="500" y="944"/>
                  </a:lnTo>
                  <a:lnTo>
                    <a:pt x="251" y="1331"/>
                  </a:lnTo>
                  <a:lnTo>
                    <a:pt x="214" y="1331"/>
                  </a:lnTo>
                  <a:lnTo>
                    <a:pt x="179" y="1298"/>
                  </a:lnTo>
                  <a:lnTo>
                    <a:pt x="179" y="1282"/>
                  </a:lnTo>
                  <a:lnTo>
                    <a:pt x="179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6" y="1282"/>
                  </a:lnTo>
                  <a:lnTo>
                    <a:pt x="106" y="1282"/>
                  </a:lnTo>
                  <a:lnTo>
                    <a:pt x="89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6" y="1214"/>
                  </a:lnTo>
                  <a:lnTo>
                    <a:pt x="36" y="1197"/>
                  </a:lnTo>
                  <a:lnTo>
                    <a:pt x="36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6" y="1146"/>
                  </a:lnTo>
                  <a:lnTo>
                    <a:pt x="36" y="1129"/>
                  </a:lnTo>
                  <a:lnTo>
                    <a:pt x="17" y="1113"/>
                  </a:lnTo>
                  <a:lnTo>
                    <a:pt x="0" y="1096"/>
                  </a:lnTo>
                  <a:lnTo>
                    <a:pt x="304" y="725"/>
                  </a:lnTo>
                  <a:lnTo>
                    <a:pt x="285" y="691"/>
                  </a:lnTo>
                  <a:lnTo>
                    <a:pt x="269" y="675"/>
                  </a:lnTo>
                  <a:lnTo>
                    <a:pt x="232" y="641"/>
                  </a:lnTo>
                  <a:lnTo>
                    <a:pt x="214" y="625"/>
                  </a:lnTo>
                  <a:lnTo>
                    <a:pt x="196" y="591"/>
                  </a:lnTo>
                  <a:lnTo>
                    <a:pt x="179" y="573"/>
                  </a:lnTo>
                  <a:lnTo>
                    <a:pt x="161" y="540"/>
                  </a:lnTo>
                  <a:lnTo>
                    <a:pt x="143" y="523"/>
                  </a:lnTo>
                  <a:lnTo>
                    <a:pt x="126" y="489"/>
                  </a:lnTo>
                  <a:lnTo>
                    <a:pt x="106" y="472"/>
                  </a:lnTo>
                  <a:lnTo>
                    <a:pt x="89" y="439"/>
                  </a:lnTo>
                  <a:lnTo>
                    <a:pt x="70" y="423"/>
                  </a:lnTo>
                  <a:lnTo>
                    <a:pt x="53" y="388"/>
                  </a:lnTo>
                  <a:lnTo>
                    <a:pt x="36" y="355"/>
                  </a:lnTo>
                  <a:lnTo>
                    <a:pt x="17" y="339"/>
                  </a:lnTo>
                  <a:lnTo>
                    <a:pt x="0" y="304"/>
                  </a:lnTo>
                  <a:lnTo>
                    <a:pt x="17" y="287"/>
                  </a:lnTo>
                  <a:lnTo>
                    <a:pt x="17" y="271"/>
                  </a:lnTo>
                  <a:lnTo>
                    <a:pt x="36" y="252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9" y="236"/>
                  </a:lnTo>
                  <a:lnTo>
                    <a:pt x="106" y="236"/>
                  </a:lnTo>
                  <a:lnTo>
                    <a:pt x="126" y="252"/>
                  </a:lnTo>
                  <a:lnTo>
                    <a:pt x="126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3"/>
                  </a:lnTo>
                  <a:lnTo>
                    <a:pt x="143" y="186"/>
                  </a:lnTo>
                  <a:lnTo>
                    <a:pt x="161" y="186"/>
                  </a:lnTo>
                  <a:lnTo>
                    <a:pt x="179" y="168"/>
                  </a:lnTo>
                  <a:lnTo>
                    <a:pt x="196" y="168"/>
                  </a:lnTo>
                  <a:lnTo>
                    <a:pt x="214" y="168"/>
                  </a:lnTo>
                  <a:lnTo>
                    <a:pt x="232" y="186"/>
                  </a:lnTo>
                  <a:lnTo>
                    <a:pt x="251" y="203"/>
                  </a:lnTo>
                  <a:lnTo>
                    <a:pt x="269" y="220"/>
                  </a:lnTo>
                  <a:lnTo>
                    <a:pt x="285" y="236"/>
                  </a:lnTo>
                  <a:lnTo>
                    <a:pt x="322" y="271"/>
                  </a:lnTo>
                  <a:lnTo>
                    <a:pt x="340" y="304"/>
                  </a:lnTo>
                  <a:lnTo>
                    <a:pt x="375" y="320"/>
                  </a:lnTo>
                  <a:lnTo>
                    <a:pt x="430" y="371"/>
                  </a:lnTo>
                  <a:lnTo>
                    <a:pt x="466" y="404"/>
                  </a:lnTo>
                  <a:lnTo>
                    <a:pt x="519" y="455"/>
                  </a:lnTo>
                  <a:lnTo>
                    <a:pt x="536" y="439"/>
                  </a:lnTo>
                  <a:lnTo>
                    <a:pt x="556" y="423"/>
                  </a:lnTo>
                  <a:lnTo>
                    <a:pt x="573" y="404"/>
                  </a:lnTo>
                  <a:lnTo>
                    <a:pt x="589" y="371"/>
                  </a:lnTo>
                  <a:lnTo>
                    <a:pt x="626" y="339"/>
                  </a:lnTo>
                  <a:lnTo>
                    <a:pt x="662" y="287"/>
                  </a:lnTo>
                  <a:lnTo>
                    <a:pt x="697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5" y="136"/>
                  </a:lnTo>
                  <a:lnTo>
                    <a:pt x="840" y="102"/>
                  </a:lnTo>
                  <a:lnTo>
                    <a:pt x="876" y="68"/>
                  </a:lnTo>
                  <a:lnTo>
                    <a:pt x="896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4" y="18"/>
                  </a:lnTo>
                  <a:lnTo>
                    <a:pt x="1002" y="34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9" y="84"/>
                  </a:lnTo>
                  <a:lnTo>
                    <a:pt x="1056" y="84"/>
                  </a:lnTo>
                  <a:lnTo>
                    <a:pt x="1074" y="84"/>
                  </a:lnTo>
                  <a:lnTo>
                    <a:pt x="1092" y="84"/>
                  </a:lnTo>
                  <a:lnTo>
                    <a:pt x="1092" y="102"/>
                  </a:lnTo>
                  <a:lnTo>
                    <a:pt x="1109" y="102"/>
                  </a:lnTo>
                  <a:lnTo>
                    <a:pt x="1127" y="118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9" y="168"/>
                  </a:lnTo>
                  <a:lnTo>
                    <a:pt x="1092" y="203"/>
                  </a:lnTo>
                  <a:lnTo>
                    <a:pt x="1074" y="236"/>
                  </a:lnTo>
                  <a:lnTo>
                    <a:pt x="1039" y="271"/>
                  </a:lnTo>
                  <a:lnTo>
                    <a:pt x="1002" y="320"/>
                  </a:lnTo>
                  <a:lnTo>
                    <a:pt x="966" y="355"/>
                  </a:lnTo>
                  <a:lnTo>
                    <a:pt x="930" y="404"/>
                  </a:lnTo>
                  <a:lnTo>
                    <a:pt x="896" y="455"/>
                  </a:lnTo>
                  <a:lnTo>
                    <a:pt x="860" y="489"/>
                  </a:lnTo>
                  <a:lnTo>
                    <a:pt x="823" y="540"/>
                  </a:lnTo>
                  <a:lnTo>
                    <a:pt x="787" y="573"/>
                  </a:lnTo>
                  <a:lnTo>
                    <a:pt x="770" y="607"/>
                  </a:lnTo>
                  <a:lnTo>
                    <a:pt x="752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8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29160" y="3629160"/>
              <a:ext cx="368280" cy="463320"/>
            </a:xfrm>
            <a:custGeom>
              <a:avLst/>
              <a:gdLst/>
              <a:ahLst/>
              <a:rect l="l" t="t" r="r" b="b"/>
              <a:pathLst>
                <a:path w="1127" h="1415">
                  <a:moveTo>
                    <a:pt x="1074" y="985"/>
                  </a:moveTo>
                  <a:lnTo>
                    <a:pt x="1074" y="1002"/>
                  </a:lnTo>
                  <a:lnTo>
                    <a:pt x="1074" y="1022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5"/>
                  </a:lnTo>
                  <a:lnTo>
                    <a:pt x="1019" y="1075"/>
                  </a:lnTo>
                  <a:lnTo>
                    <a:pt x="1001" y="1093"/>
                  </a:lnTo>
                  <a:lnTo>
                    <a:pt x="984" y="1111"/>
                  </a:lnTo>
                  <a:lnTo>
                    <a:pt x="984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8" y="1183"/>
                  </a:lnTo>
                  <a:lnTo>
                    <a:pt x="929" y="1201"/>
                  </a:lnTo>
                  <a:lnTo>
                    <a:pt x="913" y="1201"/>
                  </a:lnTo>
                  <a:lnTo>
                    <a:pt x="913" y="1183"/>
                  </a:lnTo>
                  <a:lnTo>
                    <a:pt x="895" y="1183"/>
                  </a:lnTo>
                  <a:lnTo>
                    <a:pt x="876" y="1183"/>
                  </a:lnTo>
                  <a:lnTo>
                    <a:pt x="876" y="1165"/>
                  </a:lnTo>
                  <a:lnTo>
                    <a:pt x="858" y="1165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1"/>
                  </a:lnTo>
                  <a:lnTo>
                    <a:pt x="823" y="1218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0" y="1236"/>
                  </a:lnTo>
                  <a:lnTo>
                    <a:pt x="750" y="1218"/>
                  </a:lnTo>
                  <a:lnTo>
                    <a:pt x="733" y="1218"/>
                  </a:lnTo>
                  <a:lnTo>
                    <a:pt x="714" y="1201"/>
                  </a:lnTo>
                  <a:lnTo>
                    <a:pt x="697" y="1183"/>
                  </a:lnTo>
                  <a:lnTo>
                    <a:pt x="680" y="1165"/>
                  </a:lnTo>
                  <a:lnTo>
                    <a:pt x="661" y="1147"/>
                  </a:lnTo>
                  <a:lnTo>
                    <a:pt x="644" y="1128"/>
                  </a:lnTo>
                  <a:lnTo>
                    <a:pt x="624" y="1111"/>
                  </a:lnTo>
                  <a:lnTo>
                    <a:pt x="608" y="1093"/>
                  </a:lnTo>
                  <a:lnTo>
                    <a:pt x="589" y="1075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6" y="1022"/>
                  </a:lnTo>
                  <a:lnTo>
                    <a:pt x="518" y="1022"/>
                  </a:lnTo>
                  <a:lnTo>
                    <a:pt x="500" y="1002"/>
                  </a:lnTo>
                  <a:lnTo>
                    <a:pt x="250" y="1415"/>
                  </a:lnTo>
                  <a:lnTo>
                    <a:pt x="214" y="1415"/>
                  </a:lnTo>
                  <a:lnTo>
                    <a:pt x="178" y="1379"/>
                  </a:lnTo>
                  <a:lnTo>
                    <a:pt x="178" y="1362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2"/>
                  </a:lnTo>
                  <a:lnTo>
                    <a:pt x="124" y="1362"/>
                  </a:lnTo>
                  <a:lnTo>
                    <a:pt x="106" y="1362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89"/>
                  </a:lnTo>
                  <a:lnTo>
                    <a:pt x="35" y="1272"/>
                  </a:lnTo>
                  <a:lnTo>
                    <a:pt x="35" y="1254"/>
                  </a:lnTo>
                  <a:lnTo>
                    <a:pt x="53" y="1254"/>
                  </a:lnTo>
                  <a:lnTo>
                    <a:pt x="53" y="1236"/>
                  </a:lnTo>
                  <a:lnTo>
                    <a:pt x="35" y="1218"/>
                  </a:lnTo>
                  <a:lnTo>
                    <a:pt x="35" y="1201"/>
                  </a:lnTo>
                  <a:lnTo>
                    <a:pt x="16" y="1183"/>
                  </a:lnTo>
                  <a:lnTo>
                    <a:pt x="0" y="1165"/>
                  </a:lnTo>
                  <a:lnTo>
                    <a:pt x="304" y="771"/>
                  </a:lnTo>
                  <a:lnTo>
                    <a:pt x="284" y="735"/>
                  </a:lnTo>
                  <a:lnTo>
                    <a:pt x="267" y="718"/>
                  </a:lnTo>
                  <a:lnTo>
                    <a:pt x="231" y="681"/>
                  </a:lnTo>
                  <a:lnTo>
                    <a:pt x="214" y="664"/>
                  </a:lnTo>
                  <a:lnTo>
                    <a:pt x="196" y="628"/>
                  </a:lnTo>
                  <a:lnTo>
                    <a:pt x="178" y="609"/>
                  </a:lnTo>
                  <a:lnTo>
                    <a:pt x="161" y="575"/>
                  </a:lnTo>
                  <a:lnTo>
                    <a:pt x="141" y="556"/>
                  </a:lnTo>
                  <a:lnTo>
                    <a:pt x="124" y="519"/>
                  </a:lnTo>
                  <a:lnTo>
                    <a:pt x="106" y="502"/>
                  </a:lnTo>
                  <a:lnTo>
                    <a:pt x="88" y="466"/>
                  </a:lnTo>
                  <a:lnTo>
                    <a:pt x="70" y="449"/>
                  </a:lnTo>
                  <a:lnTo>
                    <a:pt x="53" y="413"/>
                  </a:lnTo>
                  <a:lnTo>
                    <a:pt x="35" y="376"/>
                  </a:lnTo>
                  <a:lnTo>
                    <a:pt x="16" y="360"/>
                  </a:lnTo>
                  <a:lnTo>
                    <a:pt x="0" y="323"/>
                  </a:lnTo>
                  <a:lnTo>
                    <a:pt x="16" y="305"/>
                  </a:lnTo>
                  <a:lnTo>
                    <a:pt x="16" y="288"/>
                  </a:lnTo>
                  <a:lnTo>
                    <a:pt x="35" y="268"/>
                  </a:lnTo>
                  <a:lnTo>
                    <a:pt x="53" y="252"/>
                  </a:lnTo>
                  <a:lnTo>
                    <a:pt x="70" y="234"/>
                  </a:lnTo>
                  <a:lnTo>
                    <a:pt x="88" y="252"/>
                  </a:lnTo>
                  <a:lnTo>
                    <a:pt x="106" y="252"/>
                  </a:lnTo>
                  <a:lnTo>
                    <a:pt x="124" y="268"/>
                  </a:lnTo>
                  <a:lnTo>
                    <a:pt x="124" y="252"/>
                  </a:lnTo>
                  <a:lnTo>
                    <a:pt x="141" y="252"/>
                  </a:lnTo>
                  <a:lnTo>
                    <a:pt x="141" y="234"/>
                  </a:lnTo>
                  <a:lnTo>
                    <a:pt x="141" y="215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6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5"/>
                  </a:lnTo>
                  <a:lnTo>
                    <a:pt x="267" y="234"/>
                  </a:lnTo>
                  <a:lnTo>
                    <a:pt x="284" y="252"/>
                  </a:lnTo>
                  <a:lnTo>
                    <a:pt x="320" y="288"/>
                  </a:lnTo>
                  <a:lnTo>
                    <a:pt x="340" y="323"/>
                  </a:lnTo>
                  <a:lnTo>
                    <a:pt x="374" y="341"/>
                  </a:lnTo>
                  <a:lnTo>
                    <a:pt x="428" y="394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6"/>
                  </a:lnTo>
                  <a:lnTo>
                    <a:pt x="554" y="449"/>
                  </a:lnTo>
                  <a:lnTo>
                    <a:pt x="571" y="430"/>
                  </a:lnTo>
                  <a:lnTo>
                    <a:pt x="589" y="394"/>
                  </a:lnTo>
                  <a:lnTo>
                    <a:pt x="624" y="360"/>
                  </a:lnTo>
                  <a:lnTo>
                    <a:pt x="661" y="305"/>
                  </a:lnTo>
                  <a:lnTo>
                    <a:pt x="697" y="268"/>
                  </a:lnTo>
                  <a:lnTo>
                    <a:pt x="733" y="234"/>
                  </a:lnTo>
                  <a:lnTo>
                    <a:pt x="770" y="179"/>
                  </a:lnTo>
                  <a:lnTo>
                    <a:pt x="804" y="145"/>
                  </a:lnTo>
                  <a:lnTo>
                    <a:pt x="840" y="109"/>
                  </a:lnTo>
                  <a:lnTo>
                    <a:pt x="876" y="72"/>
                  </a:lnTo>
                  <a:lnTo>
                    <a:pt x="895" y="36"/>
                  </a:lnTo>
                  <a:lnTo>
                    <a:pt x="913" y="19"/>
                  </a:lnTo>
                  <a:lnTo>
                    <a:pt x="929" y="0"/>
                  </a:lnTo>
                  <a:lnTo>
                    <a:pt x="948" y="0"/>
                  </a:lnTo>
                  <a:lnTo>
                    <a:pt x="966" y="19"/>
                  </a:lnTo>
                  <a:lnTo>
                    <a:pt x="984" y="19"/>
                  </a:lnTo>
                  <a:lnTo>
                    <a:pt x="1001" y="36"/>
                  </a:lnTo>
                  <a:lnTo>
                    <a:pt x="1019" y="56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7" y="89"/>
                  </a:lnTo>
                  <a:lnTo>
                    <a:pt x="1054" y="89"/>
                  </a:lnTo>
                  <a:lnTo>
                    <a:pt x="1074" y="89"/>
                  </a:lnTo>
                  <a:lnTo>
                    <a:pt x="1091" y="89"/>
                  </a:lnTo>
                  <a:lnTo>
                    <a:pt x="1091" y="109"/>
                  </a:lnTo>
                  <a:lnTo>
                    <a:pt x="1108" y="109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2"/>
                  </a:lnTo>
                  <a:lnTo>
                    <a:pt x="1108" y="179"/>
                  </a:lnTo>
                  <a:lnTo>
                    <a:pt x="1091" y="215"/>
                  </a:lnTo>
                  <a:lnTo>
                    <a:pt x="1074" y="252"/>
                  </a:lnTo>
                  <a:lnTo>
                    <a:pt x="1037" y="288"/>
                  </a:lnTo>
                  <a:lnTo>
                    <a:pt x="1001" y="341"/>
                  </a:lnTo>
                  <a:lnTo>
                    <a:pt x="966" y="376"/>
                  </a:lnTo>
                  <a:lnTo>
                    <a:pt x="929" y="430"/>
                  </a:lnTo>
                  <a:lnTo>
                    <a:pt x="895" y="483"/>
                  </a:lnTo>
                  <a:lnTo>
                    <a:pt x="858" y="519"/>
                  </a:lnTo>
                  <a:lnTo>
                    <a:pt x="823" y="575"/>
                  </a:lnTo>
                  <a:lnTo>
                    <a:pt x="787" y="609"/>
                  </a:lnTo>
                  <a:lnTo>
                    <a:pt x="770" y="645"/>
                  </a:lnTo>
                  <a:lnTo>
                    <a:pt x="750" y="664"/>
                  </a:lnTo>
                  <a:lnTo>
                    <a:pt x="733" y="681"/>
                  </a:lnTo>
                  <a:lnTo>
                    <a:pt x="714" y="698"/>
                  </a:lnTo>
                  <a:lnTo>
                    <a:pt x="1074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491080" y="4092480"/>
              <a:ext cx="368280" cy="4618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6"/>
                  </a:moveTo>
                  <a:lnTo>
                    <a:pt x="1075" y="1003"/>
                  </a:lnTo>
                  <a:lnTo>
                    <a:pt x="1075" y="1021"/>
                  </a:lnTo>
                  <a:lnTo>
                    <a:pt x="1055" y="1039"/>
                  </a:lnTo>
                  <a:lnTo>
                    <a:pt x="1055" y="1058"/>
                  </a:lnTo>
                  <a:lnTo>
                    <a:pt x="1038" y="1075"/>
                  </a:lnTo>
                  <a:lnTo>
                    <a:pt x="1020" y="1075"/>
                  </a:lnTo>
                  <a:lnTo>
                    <a:pt x="1002" y="1094"/>
                  </a:lnTo>
                  <a:lnTo>
                    <a:pt x="985" y="1111"/>
                  </a:lnTo>
                  <a:lnTo>
                    <a:pt x="985" y="1128"/>
                  </a:lnTo>
                  <a:lnTo>
                    <a:pt x="967" y="1147"/>
                  </a:lnTo>
                  <a:lnTo>
                    <a:pt x="967" y="1164"/>
                  </a:lnTo>
                  <a:lnTo>
                    <a:pt x="967" y="1184"/>
                  </a:lnTo>
                  <a:lnTo>
                    <a:pt x="949" y="1184"/>
                  </a:lnTo>
                  <a:lnTo>
                    <a:pt x="930" y="1201"/>
                  </a:lnTo>
                  <a:lnTo>
                    <a:pt x="912" y="1201"/>
                  </a:lnTo>
                  <a:lnTo>
                    <a:pt x="912" y="1184"/>
                  </a:lnTo>
                  <a:lnTo>
                    <a:pt x="895" y="1184"/>
                  </a:lnTo>
                  <a:lnTo>
                    <a:pt x="877" y="1184"/>
                  </a:lnTo>
                  <a:lnTo>
                    <a:pt x="877" y="1164"/>
                  </a:lnTo>
                  <a:lnTo>
                    <a:pt x="859" y="1164"/>
                  </a:lnTo>
                  <a:lnTo>
                    <a:pt x="859" y="1184"/>
                  </a:lnTo>
                  <a:lnTo>
                    <a:pt x="841" y="1184"/>
                  </a:lnTo>
                  <a:lnTo>
                    <a:pt x="841" y="1201"/>
                  </a:lnTo>
                  <a:lnTo>
                    <a:pt x="824" y="1217"/>
                  </a:lnTo>
                  <a:lnTo>
                    <a:pt x="804" y="1237"/>
                  </a:lnTo>
                  <a:lnTo>
                    <a:pt x="788" y="1237"/>
                  </a:lnTo>
                  <a:lnTo>
                    <a:pt x="771" y="1237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5" y="1201"/>
                  </a:lnTo>
                  <a:lnTo>
                    <a:pt x="698" y="1184"/>
                  </a:lnTo>
                  <a:lnTo>
                    <a:pt x="681" y="1164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5" y="1111"/>
                  </a:lnTo>
                  <a:lnTo>
                    <a:pt x="608" y="1094"/>
                  </a:lnTo>
                  <a:lnTo>
                    <a:pt x="590" y="1075"/>
                  </a:lnTo>
                  <a:lnTo>
                    <a:pt x="572" y="1058"/>
                  </a:lnTo>
                  <a:lnTo>
                    <a:pt x="555" y="1039"/>
                  </a:lnTo>
                  <a:lnTo>
                    <a:pt x="537" y="1021"/>
                  </a:lnTo>
                  <a:lnTo>
                    <a:pt x="519" y="1021"/>
                  </a:lnTo>
                  <a:lnTo>
                    <a:pt x="500" y="1003"/>
                  </a:lnTo>
                  <a:lnTo>
                    <a:pt x="251" y="1415"/>
                  </a:lnTo>
                  <a:lnTo>
                    <a:pt x="215" y="1415"/>
                  </a:lnTo>
                  <a:lnTo>
                    <a:pt x="179" y="1380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2" y="1343"/>
                  </a:lnTo>
                  <a:lnTo>
                    <a:pt x="142" y="1362"/>
                  </a:lnTo>
                  <a:lnTo>
                    <a:pt x="125" y="1362"/>
                  </a:lnTo>
                  <a:lnTo>
                    <a:pt x="107" y="1362"/>
                  </a:lnTo>
                  <a:lnTo>
                    <a:pt x="89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8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4"/>
                  </a:lnTo>
                  <a:lnTo>
                    <a:pt x="54" y="1254"/>
                  </a:lnTo>
                  <a:lnTo>
                    <a:pt x="54" y="1237"/>
                  </a:lnTo>
                  <a:lnTo>
                    <a:pt x="36" y="1217"/>
                  </a:lnTo>
                  <a:lnTo>
                    <a:pt x="36" y="1201"/>
                  </a:lnTo>
                  <a:lnTo>
                    <a:pt x="17" y="1184"/>
                  </a:lnTo>
                  <a:lnTo>
                    <a:pt x="0" y="1164"/>
                  </a:lnTo>
                  <a:lnTo>
                    <a:pt x="304" y="771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2" y="681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5"/>
                  </a:lnTo>
                  <a:lnTo>
                    <a:pt x="142" y="556"/>
                  </a:lnTo>
                  <a:lnTo>
                    <a:pt x="125" y="520"/>
                  </a:lnTo>
                  <a:lnTo>
                    <a:pt x="107" y="503"/>
                  </a:lnTo>
                  <a:lnTo>
                    <a:pt x="89" y="467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6" y="377"/>
                  </a:lnTo>
                  <a:lnTo>
                    <a:pt x="17" y="360"/>
                  </a:lnTo>
                  <a:lnTo>
                    <a:pt x="0" y="324"/>
                  </a:lnTo>
                  <a:lnTo>
                    <a:pt x="17" y="304"/>
                  </a:lnTo>
                  <a:lnTo>
                    <a:pt x="17" y="288"/>
                  </a:lnTo>
                  <a:lnTo>
                    <a:pt x="36" y="269"/>
                  </a:lnTo>
                  <a:lnTo>
                    <a:pt x="54" y="251"/>
                  </a:lnTo>
                  <a:lnTo>
                    <a:pt x="71" y="234"/>
                  </a:lnTo>
                  <a:lnTo>
                    <a:pt x="89" y="251"/>
                  </a:lnTo>
                  <a:lnTo>
                    <a:pt x="107" y="251"/>
                  </a:lnTo>
                  <a:lnTo>
                    <a:pt x="125" y="269"/>
                  </a:lnTo>
                  <a:lnTo>
                    <a:pt x="125" y="251"/>
                  </a:lnTo>
                  <a:lnTo>
                    <a:pt x="142" y="251"/>
                  </a:lnTo>
                  <a:lnTo>
                    <a:pt x="142" y="234"/>
                  </a:lnTo>
                  <a:lnTo>
                    <a:pt x="142" y="215"/>
                  </a:lnTo>
                  <a:lnTo>
                    <a:pt x="142" y="198"/>
                  </a:lnTo>
                  <a:lnTo>
                    <a:pt x="162" y="198"/>
                  </a:lnTo>
                  <a:lnTo>
                    <a:pt x="179" y="180"/>
                  </a:lnTo>
                  <a:lnTo>
                    <a:pt x="196" y="180"/>
                  </a:lnTo>
                  <a:lnTo>
                    <a:pt x="215" y="180"/>
                  </a:lnTo>
                  <a:lnTo>
                    <a:pt x="232" y="198"/>
                  </a:lnTo>
                  <a:lnTo>
                    <a:pt x="251" y="215"/>
                  </a:lnTo>
                  <a:lnTo>
                    <a:pt x="268" y="234"/>
                  </a:lnTo>
                  <a:lnTo>
                    <a:pt x="285" y="251"/>
                  </a:lnTo>
                  <a:lnTo>
                    <a:pt x="321" y="288"/>
                  </a:lnTo>
                  <a:lnTo>
                    <a:pt x="341" y="324"/>
                  </a:lnTo>
                  <a:lnTo>
                    <a:pt x="375" y="341"/>
                  </a:lnTo>
                  <a:lnTo>
                    <a:pt x="429" y="394"/>
                  </a:lnTo>
                  <a:lnTo>
                    <a:pt x="466" y="430"/>
                  </a:lnTo>
                  <a:lnTo>
                    <a:pt x="519" y="484"/>
                  </a:lnTo>
                  <a:lnTo>
                    <a:pt x="537" y="467"/>
                  </a:lnTo>
                  <a:lnTo>
                    <a:pt x="555" y="449"/>
                  </a:lnTo>
                  <a:lnTo>
                    <a:pt x="572" y="430"/>
                  </a:lnTo>
                  <a:lnTo>
                    <a:pt x="590" y="394"/>
                  </a:lnTo>
                  <a:lnTo>
                    <a:pt x="625" y="360"/>
                  </a:lnTo>
                  <a:lnTo>
                    <a:pt x="662" y="304"/>
                  </a:lnTo>
                  <a:lnTo>
                    <a:pt x="698" y="269"/>
                  </a:lnTo>
                  <a:lnTo>
                    <a:pt x="734" y="234"/>
                  </a:lnTo>
                  <a:lnTo>
                    <a:pt x="771" y="180"/>
                  </a:lnTo>
                  <a:lnTo>
                    <a:pt x="804" y="145"/>
                  </a:lnTo>
                  <a:lnTo>
                    <a:pt x="841" y="108"/>
                  </a:lnTo>
                  <a:lnTo>
                    <a:pt x="877" y="73"/>
                  </a:lnTo>
                  <a:lnTo>
                    <a:pt x="895" y="37"/>
                  </a:lnTo>
                  <a:lnTo>
                    <a:pt x="912" y="20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7" y="20"/>
                  </a:lnTo>
                  <a:lnTo>
                    <a:pt x="985" y="20"/>
                  </a:lnTo>
                  <a:lnTo>
                    <a:pt x="1002" y="37"/>
                  </a:lnTo>
                  <a:lnTo>
                    <a:pt x="1020" y="55"/>
                  </a:lnTo>
                  <a:lnTo>
                    <a:pt x="1020" y="73"/>
                  </a:lnTo>
                  <a:lnTo>
                    <a:pt x="1020" y="90"/>
                  </a:lnTo>
                  <a:lnTo>
                    <a:pt x="1038" y="90"/>
                  </a:lnTo>
                  <a:lnTo>
                    <a:pt x="1055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8"/>
                  </a:lnTo>
                  <a:lnTo>
                    <a:pt x="1108" y="108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8" y="180"/>
                  </a:lnTo>
                  <a:lnTo>
                    <a:pt x="1092" y="215"/>
                  </a:lnTo>
                  <a:lnTo>
                    <a:pt x="1075" y="251"/>
                  </a:lnTo>
                  <a:lnTo>
                    <a:pt x="1038" y="288"/>
                  </a:lnTo>
                  <a:lnTo>
                    <a:pt x="1002" y="341"/>
                  </a:lnTo>
                  <a:lnTo>
                    <a:pt x="967" y="377"/>
                  </a:lnTo>
                  <a:lnTo>
                    <a:pt x="930" y="430"/>
                  </a:lnTo>
                  <a:lnTo>
                    <a:pt x="895" y="484"/>
                  </a:lnTo>
                  <a:lnTo>
                    <a:pt x="859" y="520"/>
                  </a:lnTo>
                  <a:lnTo>
                    <a:pt x="824" y="575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1" y="664"/>
                  </a:lnTo>
                  <a:lnTo>
                    <a:pt x="734" y="681"/>
                  </a:lnTo>
                  <a:lnTo>
                    <a:pt x="715" y="698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519880" y="4543560"/>
              <a:ext cx="369720" cy="46008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5" y="1038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18" y="1074"/>
                  </a:lnTo>
                  <a:lnTo>
                    <a:pt x="1002" y="1092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5" y="1145"/>
                  </a:lnTo>
                  <a:lnTo>
                    <a:pt x="965" y="1163"/>
                  </a:lnTo>
                  <a:lnTo>
                    <a:pt x="965" y="1182"/>
                  </a:lnTo>
                  <a:lnTo>
                    <a:pt x="948" y="1182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2"/>
                  </a:lnTo>
                  <a:lnTo>
                    <a:pt x="895" y="1182"/>
                  </a:lnTo>
                  <a:lnTo>
                    <a:pt x="877" y="1182"/>
                  </a:lnTo>
                  <a:lnTo>
                    <a:pt x="877" y="1163"/>
                  </a:lnTo>
                  <a:lnTo>
                    <a:pt x="859" y="1163"/>
                  </a:lnTo>
                  <a:lnTo>
                    <a:pt x="859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4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4" y="1200"/>
                  </a:lnTo>
                  <a:lnTo>
                    <a:pt x="698" y="1182"/>
                  </a:lnTo>
                  <a:lnTo>
                    <a:pt x="681" y="1163"/>
                  </a:lnTo>
                  <a:lnTo>
                    <a:pt x="661" y="1145"/>
                  </a:lnTo>
                  <a:lnTo>
                    <a:pt x="644" y="1127"/>
                  </a:lnTo>
                  <a:lnTo>
                    <a:pt x="625" y="1110"/>
                  </a:lnTo>
                  <a:lnTo>
                    <a:pt x="608" y="1092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8"/>
                  </a:lnTo>
                  <a:lnTo>
                    <a:pt x="536" y="1021"/>
                  </a:lnTo>
                  <a:lnTo>
                    <a:pt x="518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8" y="1378"/>
                  </a:lnTo>
                  <a:lnTo>
                    <a:pt x="178" y="1361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6" y="1361"/>
                  </a:lnTo>
                  <a:lnTo>
                    <a:pt x="90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5" y="1288"/>
                  </a:lnTo>
                  <a:lnTo>
                    <a:pt x="35" y="1271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7" y="1182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1" y="680"/>
                  </a:lnTo>
                  <a:lnTo>
                    <a:pt x="214" y="662"/>
                  </a:lnTo>
                  <a:lnTo>
                    <a:pt x="196" y="627"/>
                  </a:lnTo>
                  <a:lnTo>
                    <a:pt x="178" y="608"/>
                  </a:lnTo>
                  <a:lnTo>
                    <a:pt x="161" y="574"/>
                  </a:lnTo>
                  <a:lnTo>
                    <a:pt x="143" y="554"/>
                  </a:lnTo>
                  <a:lnTo>
                    <a:pt x="125" y="518"/>
                  </a:lnTo>
                  <a:lnTo>
                    <a:pt x="106" y="501"/>
                  </a:lnTo>
                  <a:lnTo>
                    <a:pt x="90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5" y="375"/>
                  </a:lnTo>
                  <a:lnTo>
                    <a:pt x="17" y="358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5" y="267"/>
                  </a:lnTo>
                  <a:lnTo>
                    <a:pt x="53" y="250"/>
                  </a:lnTo>
                  <a:lnTo>
                    <a:pt x="70" y="234"/>
                  </a:lnTo>
                  <a:lnTo>
                    <a:pt x="90" y="250"/>
                  </a:lnTo>
                  <a:lnTo>
                    <a:pt x="106" y="250"/>
                  </a:lnTo>
                  <a:lnTo>
                    <a:pt x="125" y="267"/>
                  </a:lnTo>
                  <a:lnTo>
                    <a:pt x="125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8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1" y="197"/>
                  </a:lnTo>
                  <a:lnTo>
                    <a:pt x="251" y="214"/>
                  </a:lnTo>
                  <a:lnTo>
                    <a:pt x="268" y="234"/>
                  </a:lnTo>
                  <a:lnTo>
                    <a:pt x="285" y="250"/>
                  </a:lnTo>
                  <a:lnTo>
                    <a:pt x="321" y="287"/>
                  </a:lnTo>
                  <a:lnTo>
                    <a:pt x="340" y="322"/>
                  </a:lnTo>
                  <a:lnTo>
                    <a:pt x="374" y="340"/>
                  </a:lnTo>
                  <a:lnTo>
                    <a:pt x="430" y="393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5"/>
                  </a:lnTo>
                  <a:lnTo>
                    <a:pt x="555" y="448"/>
                  </a:lnTo>
                  <a:lnTo>
                    <a:pt x="572" y="430"/>
                  </a:lnTo>
                  <a:lnTo>
                    <a:pt x="590" y="393"/>
                  </a:lnTo>
                  <a:lnTo>
                    <a:pt x="625" y="358"/>
                  </a:lnTo>
                  <a:lnTo>
                    <a:pt x="661" y="304"/>
                  </a:lnTo>
                  <a:lnTo>
                    <a:pt x="698" y="267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4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5" y="35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8"/>
                  </a:lnTo>
                  <a:lnTo>
                    <a:pt x="985" y="18"/>
                  </a:lnTo>
                  <a:lnTo>
                    <a:pt x="1002" y="35"/>
                  </a:lnTo>
                  <a:lnTo>
                    <a:pt x="1018" y="54"/>
                  </a:lnTo>
                  <a:lnTo>
                    <a:pt x="1018" y="71"/>
                  </a:lnTo>
                  <a:lnTo>
                    <a:pt x="1018" y="88"/>
                  </a:lnTo>
                  <a:lnTo>
                    <a:pt x="1038" y="88"/>
                  </a:lnTo>
                  <a:lnTo>
                    <a:pt x="1055" y="88"/>
                  </a:lnTo>
                  <a:lnTo>
                    <a:pt x="1074" y="88"/>
                  </a:lnTo>
                  <a:lnTo>
                    <a:pt x="1091" y="88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8" y="178"/>
                  </a:lnTo>
                  <a:lnTo>
                    <a:pt x="1091" y="214"/>
                  </a:lnTo>
                  <a:lnTo>
                    <a:pt x="1074" y="250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5" y="375"/>
                  </a:lnTo>
                  <a:lnTo>
                    <a:pt x="930" y="430"/>
                  </a:lnTo>
                  <a:lnTo>
                    <a:pt x="895" y="483"/>
                  </a:lnTo>
                  <a:lnTo>
                    <a:pt x="859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1" y="662"/>
                  </a:lnTo>
                  <a:lnTo>
                    <a:pt x="734" y="680"/>
                  </a:lnTo>
                  <a:lnTo>
                    <a:pt x="714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587920" y="4952880"/>
              <a:ext cx="370080" cy="436680"/>
            </a:xfrm>
            <a:custGeom>
              <a:avLst/>
              <a:gdLst/>
              <a:ahLst/>
              <a:rect l="l" t="t" r="r" b="b"/>
              <a:pathLst>
                <a:path w="1127" h="1332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4" y="978"/>
                  </a:lnTo>
                  <a:lnTo>
                    <a:pt x="1054" y="995"/>
                  </a:lnTo>
                  <a:lnTo>
                    <a:pt x="1038" y="1011"/>
                  </a:lnTo>
                  <a:lnTo>
                    <a:pt x="1018" y="1011"/>
                  </a:lnTo>
                  <a:lnTo>
                    <a:pt x="1001" y="1030"/>
                  </a:lnTo>
                  <a:lnTo>
                    <a:pt x="984" y="1046"/>
                  </a:lnTo>
                  <a:lnTo>
                    <a:pt x="984" y="1062"/>
                  </a:lnTo>
                  <a:lnTo>
                    <a:pt x="965" y="1079"/>
                  </a:lnTo>
                  <a:lnTo>
                    <a:pt x="965" y="1095"/>
                  </a:lnTo>
                  <a:lnTo>
                    <a:pt x="965" y="1114"/>
                  </a:lnTo>
                  <a:lnTo>
                    <a:pt x="948" y="1114"/>
                  </a:lnTo>
                  <a:lnTo>
                    <a:pt x="930" y="1130"/>
                  </a:lnTo>
                  <a:lnTo>
                    <a:pt x="912" y="1130"/>
                  </a:lnTo>
                  <a:lnTo>
                    <a:pt x="912" y="1114"/>
                  </a:lnTo>
                  <a:lnTo>
                    <a:pt x="895" y="1114"/>
                  </a:lnTo>
                  <a:lnTo>
                    <a:pt x="875" y="1114"/>
                  </a:lnTo>
                  <a:lnTo>
                    <a:pt x="875" y="1095"/>
                  </a:lnTo>
                  <a:lnTo>
                    <a:pt x="858" y="1095"/>
                  </a:lnTo>
                  <a:lnTo>
                    <a:pt x="858" y="1114"/>
                  </a:lnTo>
                  <a:lnTo>
                    <a:pt x="840" y="1114"/>
                  </a:lnTo>
                  <a:lnTo>
                    <a:pt x="840" y="1130"/>
                  </a:lnTo>
                  <a:lnTo>
                    <a:pt x="822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69" y="1163"/>
                  </a:lnTo>
                  <a:lnTo>
                    <a:pt x="750" y="1146"/>
                  </a:lnTo>
                  <a:lnTo>
                    <a:pt x="734" y="1146"/>
                  </a:lnTo>
                  <a:lnTo>
                    <a:pt x="714" y="1130"/>
                  </a:lnTo>
                  <a:lnTo>
                    <a:pt x="697" y="1114"/>
                  </a:lnTo>
                  <a:lnTo>
                    <a:pt x="680" y="1095"/>
                  </a:lnTo>
                  <a:lnTo>
                    <a:pt x="661" y="1079"/>
                  </a:lnTo>
                  <a:lnTo>
                    <a:pt x="644" y="1062"/>
                  </a:lnTo>
                  <a:lnTo>
                    <a:pt x="625" y="1046"/>
                  </a:lnTo>
                  <a:lnTo>
                    <a:pt x="608" y="1030"/>
                  </a:lnTo>
                  <a:lnTo>
                    <a:pt x="588" y="1011"/>
                  </a:lnTo>
                  <a:lnTo>
                    <a:pt x="571" y="995"/>
                  </a:lnTo>
                  <a:lnTo>
                    <a:pt x="554" y="978"/>
                  </a:lnTo>
                  <a:lnTo>
                    <a:pt x="535" y="961"/>
                  </a:lnTo>
                  <a:lnTo>
                    <a:pt x="518" y="961"/>
                  </a:lnTo>
                  <a:lnTo>
                    <a:pt x="500" y="943"/>
                  </a:lnTo>
                  <a:lnTo>
                    <a:pt x="250" y="1332"/>
                  </a:lnTo>
                  <a:lnTo>
                    <a:pt x="214" y="1332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4"/>
                  </a:lnTo>
                  <a:lnTo>
                    <a:pt x="161" y="1264"/>
                  </a:lnTo>
                  <a:lnTo>
                    <a:pt x="141" y="1264"/>
                  </a:lnTo>
                  <a:lnTo>
                    <a:pt x="141" y="1282"/>
                  </a:lnTo>
                  <a:lnTo>
                    <a:pt x="125" y="1282"/>
                  </a:lnTo>
                  <a:lnTo>
                    <a:pt x="106" y="1282"/>
                  </a:lnTo>
                  <a:lnTo>
                    <a:pt x="88" y="1264"/>
                  </a:lnTo>
                  <a:lnTo>
                    <a:pt x="70" y="1264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5" y="1214"/>
                  </a:lnTo>
                  <a:lnTo>
                    <a:pt x="35" y="1198"/>
                  </a:lnTo>
                  <a:lnTo>
                    <a:pt x="35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5" y="1146"/>
                  </a:lnTo>
                  <a:lnTo>
                    <a:pt x="35" y="1130"/>
                  </a:lnTo>
                  <a:lnTo>
                    <a:pt x="17" y="1114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4" y="691"/>
                  </a:lnTo>
                  <a:lnTo>
                    <a:pt x="267" y="674"/>
                  </a:lnTo>
                  <a:lnTo>
                    <a:pt x="231" y="641"/>
                  </a:lnTo>
                  <a:lnTo>
                    <a:pt x="214" y="625"/>
                  </a:lnTo>
                  <a:lnTo>
                    <a:pt x="195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1" y="522"/>
                  </a:lnTo>
                  <a:lnTo>
                    <a:pt x="125" y="489"/>
                  </a:lnTo>
                  <a:lnTo>
                    <a:pt x="106" y="473"/>
                  </a:lnTo>
                  <a:lnTo>
                    <a:pt x="88" y="438"/>
                  </a:lnTo>
                  <a:lnTo>
                    <a:pt x="70" y="422"/>
                  </a:lnTo>
                  <a:lnTo>
                    <a:pt x="53" y="389"/>
                  </a:lnTo>
                  <a:lnTo>
                    <a:pt x="35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7"/>
                  </a:lnTo>
                  <a:lnTo>
                    <a:pt x="17" y="270"/>
                  </a:lnTo>
                  <a:lnTo>
                    <a:pt x="35" y="253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8" y="236"/>
                  </a:lnTo>
                  <a:lnTo>
                    <a:pt x="106" y="236"/>
                  </a:lnTo>
                  <a:lnTo>
                    <a:pt x="125" y="253"/>
                  </a:lnTo>
                  <a:lnTo>
                    <a:pt x="125" y="236"/>
                  </a:lnTo>
                  <a:lnTo>
                    <a:pt x="141" y="236"/>
                  </a:lnTo>
                  <a:lnTo>
                    <a:pt x="141" y="220"/>
                  </a:lnTo>
                  <a:lnTo>
                    <a:pt x="141" y="203"/>
                  </a:lnTo>
                  <a:lnTo>
                    <a:pt x="141" y="186"/>
                  </a:lnTo>
                  <a:lnTo>
                    <a:pt x="161" y="186"/>
                  </a:lnTo>
                  <a:lnTo>
                    <a:pt x="178" y="168"/>
                  </a:lnTo>
                  <a:lnTo>
                    <a:pt x="195" y="168"/>
                  </a:lnTo>
                  <a:lnTo>
                    <a:pt x="214" y="168"/>
                  </a:lnTo>
                  <a:lnTo>
                    <a:pt x="231" y="186"/>
                  </a:lnTo>
                  <a:lnTo>
                    <a:pt x="250" y="203"/>
                  </a:lnTo>
                  <a:lnTo>
                    <a:pt x="267" y="220"/>
                  </a:lnTo>
                  <a:lnTo>
                    <a:pt x="284" y="236"/>
                  </a:lnTo>
                  <a:lnTo>
                    <a:pt x="321" y="270"/>
                  </a:lnTo>
                  <a:lnTo>
                    <a:pt x="340" y="304"/>
                  </a:lnTo>
                  <a:lnTo>
                    <a:pt x="374" y="321"/>
                  </a:lnTo>
                  <a:lnTo>
                    <a:pt x="429" y="370"/>
                  </a:lnTo>
                  <a:lnTo>
                    <a:pt x="465" y="405"/>
                  </a:lnTo>
                  <a:lnTo>
                    <a:pt x="518" y="454"/>
                  </a:lnTo>
                  <a:lnTo>
                    <a:pt x="535" y="438"/>
                  </a:lnTo>
                  <a:lnTo>
                    <a:pt x="554" y="422"/>
                  </a:lnTo>
                  <a:lnTo>
                    <a:pt x="571" y="405"/>
                  </a:lnTo>
                  <a:lnTo>
                    <a:pt x="588" y="370"/>
                  </a:lnTo>
                  <a:lnTo>
                    <a:pt x="625" y="338"/>
                  </a:lnTo>
                  <a:lnTo>
                    <a:pt x="661" y="287"/>
                  </a:lnTo>
                  <a:lnTo>
                    <a:pt x="697" y="253"/>
                  </a:lnTo>
                  <a:lnTo>
                    <a:pt x="734" y="220"/>
                  </a:lnTo>
                  <a:lnTo>
                    <a:pt x="769" y="168"/>
                  </a:lnTo>
                  <a:lnTo>
                    <a:pt x="804" y="136"/>
                  </a:lnTo>
                  <a:lnTo>
                    <a:pt x="840" y="103"/>
                  </a:lnTo>
                  <a:lnTo>
                    <a:pt x="875" y="68"/>
                  </a:lnTo>
                  <a:lnTo>
                    <a:pt x="895" y="35"/>
                  </a:lnTo>
                  <a:lnTo>
                    <a:pt x="912" y="19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9"/>
                  </a:lnTo>
                  <a:lnTo>
                    <a:pt x="984" y="19"/>
                  </a:lnTo>
                  <a:lnTo>
                    <a:pt x="1001" y="35"/>
                  </a:lnTo>
                  <a:lnTo>
                    <a:pt x="1018" y="52"/>
                  </a:lnTo>
                  <a:lnTo>
                    <a:pt x="1018" y="68"/>
                  </a:lnTo>
                  <a:lnTo>
                    <a:pt x="1018" y="84"/>
                  </a:lnTo>
                  <a:lnTo>
                    <a:pt x="1038" y="84"/>
                  </a:lnTo>
                  <a:lnTo>
                    <a:pt x="1054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3"/>
                  </a:lnTo>
                  <a:lnTo>
                    <a:pt x="1108" y="103"/>
                  </a:lnTo>
                  <a:lnTo>
                    <a:pt x="1127" y="119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8" y="168"/>
                  </a:lnTo>
                  <a:lnTo>
                    <a:pt x="1091" y="203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1" y="321"/>
                  </a:lnTo>
                  <a:lnTo>
                    <a:pt x="965" y="354"/>
                  </a:lnTo>
                  <a:lnTo>
                    <a:pt x="930" y="405"/>
                  </a:lnTo>
                  <a:lnTo>
                    <a:pt x="895" y="454"/>
                  </a:lnTo>
                  <a:lnTo>
                    <a:pt x="858" y="489"/>
                  </a:lnTo>
                  <a:lnTo>
                    <a:pt x="822" y="541"/>
                  </a:lnTo>
                  <a:lnTo>
                    <a:pt x="787" y="573"/>
                  </a:lnTo>
                  <a:lnTo>
                    <a:pt x="769" y="606"/>
                  </a:lnTo>
                  <a:lnTo>
                    <a:pt x="750" y="625"/>
                  </a:lnTo>
                  <a:lnTo>
                    <a:pt x="734" y="641"/>
                  </a:lnTo>
                  <a:lnTo>
                    <a:pt x="714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>
            <a:off x="1168560" y="1066680"/>
            <a:ext cx="6811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DAYS OUT OF 1 MON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CAN A GIRL GET PREGNA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2690640" y="3214800"/>
            <a:ext cx="3411720" cy="2708280"/>
          </a:xfrm>
          <a:custGeom>
            <a:avLst/>
            <a:gdLst/>
            <a:ahLst/>
            <a:rect l="l" t="t" r="r" b="b"/>
            <a:pathLst>
              <a:path w="10424" h="8283">
                <a:moveTo>
                  <a:pt x="10424" y="7098"/>
                </a:moveTo>
                <a:lnTo>
                  <a:pt x="9520" y="0"/>
                </a:lnTo>
                <a:lnTo>
                  <a:pt x="0" y="1180"/>
                </a:lnTo>
                <a:lnTo>
                  <a:pt x="904" y="8283"/>
                </a:lnTo>
                <a:lnTo>
                  <a:pt x="10424" y="709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789520" y="3195720"/>
            <a:ext cx="331920" cy="2338200"/>
          </a:xfrm>
          <a:custGeom>
            <a:avLst/>
            <a:gdLst/>
            <a:ahLst/>
            <a:rect l="l" t="t" r="r" b="b"/>
            <a:pathLst>
              <a:path w="1011" h="7158">
                <a:moveTo>
                  <a:pt x="53" y="114"/>
                </a:moveTo>
                <a:lnTo>
                  <a:pt x="0" y="60"/>
                </a:lnTo>
                <a:lnTo>
                  <a:pt x="903" y="7158"/>
                </a:lnTo>
                <a:lnTo>
                  <a:pt x="1011" y="7158"/>
                </a:lnTo>
                <a:lnTo>
                  <a:pt x="113" y="60"/>
                </a:lnTo>
                <a:lnTo>
                  <a:pt x="53" y="0"/>
                </a:lnTo>
                <a:lnTo>
                  <a:pt x="113" y="60"/>
                </a:lnTo>
                <a:lnTo>
                  <a:pt x="113" y="0"/>
                </a:lnTo>
                <a:lnTo>
                  <a:pt x="53" y="0"/>
                </a:lnTo>
                <a:lnTo>
                  <a:pt x="53" y="11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673360" y="3195720"/>
            <a:ext cx="3133800" cy="423720"/>
          </a:xfrm>
          <a:custGeom>
            <a:avLst/>
            <a:gdLst/>
            <a:ahLst/>
            <a:rect l="l" t="t" r="r" b="b"/>
            <a:pathLst>
              <a:path w="9573" h="1298">
                <a:moveTo>
                  <a:pt x="113" y="1240"/>
                </a:moveTo>
                <a:lnTo>
                  <a:pt x="53" y="1298"/>
                </a:lnTo>
                <a:lnTo>
                  <a:pt x="9573" y="114"/>
                </a:lnTo>
                <a:lnTo>
                  <a:pt x="9573" y="0"/>
                </a:lnTo>
                <a:lnTo>
                  <a:pt x="53" y="1185"/>
                </a:lnTo>
                <a:lnTo>
                  <a:pt x="0" y="1240"/>
                </a:lnTo>
                <a:lnTo>
                  <a:pt x="53" y="1185"/>
                </a:lnTo>
                <a:lnTo>
                  <a:pt x="0" y="1240"/>
                </a:lnTo>
                <a:lnTo>
                  <a:pt x="113" y="124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673360" y="3598920"/>
            <a:ext cx="331920" cy="2341440"/>
          </a:xfrm>
          <a:custGeom>
            <a:avLst/>
            <a:gdLst/>
            <a:ahLst/>
            <a:rect l="l" t="t" r="r" b="b"/>
            <a:pathLst>
              <a:path w="1011" h="7157">
                <a:moveTo>
                  <a:pt x="957" y="7043"/>
                </a:moveTo>
                <a:lnTo>
                  <a:pt x="1011" y="7103"/>
                </a:lnTo>
                <a:lnTo>
                  <a:pt x="113" y="0"/>
                </a:lnTo>
                <a:lnTo>
                  <a:pt x="0" y="0"/>
                </a:lnTo>
                <a:lnTo>
                  <a:pt x="903" y="7103"/>
                </a:lnTo>
                <a:lnTo>
                  <a:pt x="957" y="7157"/>
                </a:lnTo>
                <a:lnTo>
                  <a:pt x="903" y="7103"/>
                </a:lnTo>
                <a:lnTo>
                  <a:pt x="903" y="7157"/>
                </a:lnTo>
                <a:lnTo>
                  <a:pt x="957" y="7157"/>
                </a:lnTo>
                <a:lnTo>
                  <a:pt x="957" y="704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987640" y="5516640"/>
            <a:ext cx="3133800" cy="423720"/>
          </a:xfrm>
          <a:custGeom>
            <a:avLst/>
            <a:gdLst/>
            <a:ahLst/>
            <a:rect l="l" t="t" r="r" b="b"/>
            <a:pathLst>
              <a:path w="9574" h="1298">
                <a:moveTo>
                  <a:pt x="9466" y="59"/>
                </a:moveTo>
                <a:lnTo>
                  <a:pt x="9520" y="0"/>
                </a:lnTo>
                <a:lnTo>
                  <a:pt x="0" y="1184"/>
                </a:lnTo>
                <a:lnTo>
                  <a:pt x="0" y="1298"/>
                </a:lnTo>
                <a:lnTo>
                  <a:pt x="9520" y="113"/>
                </a:lnTo>
                <a:lnTo>
                  <a:pt x="9574" y="59"/>
                </a:lnTo>
                <a:lnTo>
                  <a:pt x="9520" y="113"/>
                </a:lnTo>
                <a:lnTo>
                  <a:pt x="9574" y="59"/>
                </a:lnTo>
                <a:lnTo>
                  <a:pt x="9466" y="5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803680" y="3065400"/>
            <a:ext cx="3427200" cy="2708280"/>
          </a:xfrm>
          <a:custGeom>
            <a:avLst/>
            <a:gdLst/>
            <a:ahLst/>
            <a:rect l="l" t="t" r="r" b="b"/>
            <a:pathLst>
              <a:path w="10477" h="8284">
                <a:moveTo>
                  <a:pt x="10477" y="7104"/>
                </a:moveTo>
                <a:lnTo>
                  <a:pt x="9574" y="0"/>
                </a:lnTo>
                <a:lnTo>
                  <a:pt x="0" y="1239"/>
                </a:lnTo>
                <a:lnTo>
                  <a:pt x="903" y="8284"/>
                </a:lnTo>
                <a:lnTo>
                  <a:pt x="10477" y="7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18040" y="3048120"/>
            <a:ext cx="312840" cy="2341440"/>
          </a:xfrm>
          <a:custGeom>
            <a:avLst/>
            <a:gdLst/>
            <a:ahLst/>
            <a:rect l="l" t="t" r="r" b="b"/>
            <a:pathLst>
              <a:path w="957" h="7157">
                <a:moveTo>
                  <a:pt x="54" y="113"/>
                </a:moveTo>
                <a:lnTo>
                  <a:pt x="0" y="53"/>
                </a:lnTo>
                <a:lnTo>
                  <a:pt x="903" y="7157"/>
                </a:lnTo>
                <a:lnTo>
                  <a:pt x="957" y="7157"/>
                </a:lnTo>
                <a:lnTo>
                  <a:pt x="114" y="53"/>
                </a:lnTo>
                <a:lnTo>
                  <a:pt x="54" y="0"/>
                </a:lnTo>
                <a:lnTo>
                  <a:pt x="114" y="53"/>
                </a:lnTo>
                <a:lnTo>
                  <a:pt x="114" y="0"/>
                </a:lnTo>
                <a:lnTo>
                  <a:pt x="54" y="0"/>
                </a:lnTo>
                <a:lnTo>
                  <a:pt x="54" y="11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782800" y="3048120"/>
            <a:ext cx="3152880" cy="422280"/>
          </a:xfrm>
          <a:custGeom>
            <a:avLst/>
            <a:gdLst/>
            <a:ahLst/>
            <a:rect l="l" t="t" r="r" b="b"/>
            <a:pathLst>
              <a:path w="9633" h="1292">
                <a:moveTo>
                  <a:pt x="113" y="1292"/>
                </a:moveTo>
                <a:lnTo>
                  <a:pt x="9633" y="113"/>
                </a:lnTo>
                <a:lnTo>
                  <a:pt x="9633" y="0"/>
                </a:lnTo>
                <a:lnTo>
                  <a:pt x="59" y="1238"/>
                </a:lnTo>
                <a:lnTo>
                  <a:pt x="59" y="1292"/>
                </a:lnTo>
                <a:lnTo>
                  <a:pt x="59" y="1238"/>
                </a:lnTo>
                <a:lnTo>
                  <a:pt x="0" y="1238"/>
                </a:lnTo>
                <a:lnTo>
                  <a:pt x="59" y="1292"/>
                </a:lnTo>
                <a:lnTo>
                  <a:pt x="113" y="129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803680" y="3470400"/>
            <a:ext cx="312480" cy="2322360"/>
          </a:xfrm>
          <a:custGeom>
            <a:avLst/>
            <a:gdLst/>
            <a:ahLst/>
            <a:rect l="l" t="t" r="r" b="b"/>
            <a:pathLst>
              <a:path w="957" h="7103">
                <a:moveTo>
                  <a:pt x="903" y="7045"/>
                </a:moveTo>
                <a:lnTo>
                  <a:pt x="957" y="7045"/>
                </a:lnTo>
                <a:lnTo>
                  <a:pt x="54" y="0"/>
                </a:lnTo>
                <a:lnTo>
                  <a:pt x="0" y="0"/>
                </a:lnTo>
                <a:lnTo>
                  <a:pt x="843" y="7045"/>
                </a:lnTo>
                <a:lnTo>
                  <a:pt x="903" y="7103"/>
                </a:lnTo>
                <a:lnTo>
                  <a:pt x="843" y="7045"/>
                </a:lnTo>
                <a:lnTo>
                  <a:pt x="903" y="7103"/>
                </a:lnTo>
                <a:lnTo>
                  <a:pt x="903" y="704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098880" y="5369040"/>
            <a:ext cx="3149640" cy="423720"/>
          </a:xfrm>
          <a:custGeom>
            <a:avLst/>
            <a:gdLst/>
            <a:ahLst/>
            <a:rect l="l" t="t" r="r" b="b"/>
            <a:pathLst>
              <a:path w="9628" h="1298">
                <a:moveTo>
                  <a:pt x="9520" y="60"/>
                </a:moveTo>
                <a:lnTo>
                  <a:pt x="9520" y="0"/>
                </a:lnTo>
                <a:lnTo>
                  <a:pt x="0" y="1240"/>
                </a:lnTo>
                <a:lnTo>
                  <a:pt x="0" y="1298"/>
                </a:lnTo>
                <a:lnTo>
                  <a:pt x="9574" y="115"/>
                </a:lnTo>
                <a:lnTo>
                  <a:pt x="9574" y="60"/>
                </a:lnTo>
                <a:lnTo>
                  <a:pt x="9574" y="115"/>
                </a:lnTo>
                <a:lnTo>
                  <a:pt x="9628" y="115"/>
                </a:lnTo>
                <a:lnTo>
                  <a:pt x="9574" y="60"/>
                </a:lnTo>
                <a:lnTo>
                  <a:pt x="9520" y="6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005280" y="3581280"/>
            <a:ext cx="3060720" cy="2027520"/>
          </a:xfrm>
          <a:custGeom>
            <a:avLst/>
            <a:gdLst/>
            <a:ahLst/>
            <a:rect l="l" t="t" r="r" b="b"/>
            <a:pathLst>
              <a:path w="9353" h="6200">
                <a:moveTo>
                  <a:pt x="9353" y="5129"/>
                </a:moveTo>
                <a:lnTo>
                  <a:pt x="8677" y="0"/>
                </a:lnTo>
                <a:lnTo>
                  <a:pt x="0" y="1071"/>
                </a:lnTo>
                <a:lnTo>
                  <a:pt x="677" y="6200"/>
                </a:lnTo>
                <a:lnTo>
                  <a:pt x="9353" y="5129"/>
                </a:lnTo>
                <a:close/>
              </a:path>
            </a:pathLst>
          </a:custGeom>
          <a:solidFill>
            <a:srgbClr val="f4f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43520" y="3564000"/>
            <a:ext cx="239760" cy="1695240"/>
          </a:xfrm>
          <a:custGeom>
            <a:avLst/>
            <a:gdLst/>
            <a:ahLst/>
            <a:rect l="l" t="t" r="r" b="b"/>
            <a:pathLst>
              <a:path w="735" h="5183">
                <a:moveTo>
                  <a:pt x="0" y="54"/>
                </a:moveTo>
                <a:lnTo>
                  <a:pt x="622" y="5183"/>
                </a:lnTo>
                <a:lnTo>
                  <a:pt x="735" y="5183"/>
                </a:lnTo>
                <a:lnTo>
                  <a:pt x="59" y="54"/>
                </a:lnTo>
                <a:lnTo>
                  <a:pt x="0" y="0"/>
                </a:lnTo>
                <a:lnTo>
                  <a:pt x="59" y="54"/>
                </a:lnTo>
                <a:lnTo>
                  <a:pt x="59" y="0"/>
                </a:lnTo>
                <a:lnTo>
                  <a:pt x="0" y="0"/>
                </a:lnTo>
                <a:lnTo>
                  <a:pt x="0" y="5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987640" y="3564000"/>
            <a:ext cx="2855880" cy="387360"/>
          </a:xfrm>
          <a:custGeom>
            <a:avLst/>
            <a:gdLst/>
            <a:ahLst/>
            <a:rect l="l" t="t" r="r" b="b"/>
            <a:pathLst>
              <a:path w="8731" h="1179">
                <a:moveTo>
                  <a:pt x="114" y="1125"/>
                </a:moveTo>
                <a:lnTo>
                  <a:pt x="114" y="1179"/>
                </a:lnTo>
                <a:lnTo>
                  <a:pt x="8731" y="54"/>
                </a:lnTo>
                <a:lnTo>
                  <a:pt x="8731" y="0"/>
                </a:lnTo>
                <a:lnTo>
                  <a:pt x="54" y="1067"/>
                </a:lnTo>
                <a:lnTo>
                  <a:pt x="54" y="1125"/>
                </a:lnTo>
                <a:lnTo>
                  <a:pt x="54" y="1067"/>
                </a:lnTo>
                <a:lnTo>
                  <a:pt x="0" y="1067"/>
                </a:lnTo>
                <a:lnTo>
                  <a:pt x="54" y="1125"/>
                </a:lnTo>
                <a:lnTo>
                  <a:pt x="114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005280" y="3932280"/>
            <a:ext cx="239400" cy="1693800"/>
          </a:xfrm>
          <a:custGeom>
            <a:avLst/>
            <a:gdLst/>
            <a:ahLst/>
            <a:rect l="l" t="t" r="r" b="b"/>
            <a:pathLst>
              <a:path w="735" h="5183">
                <a:moveTo>
                  <a:pt x="677" y="5070"/>
                </a:moveTo>
                <a:lnTo>
                  <a:pt x="735" y="5129"/>
                </a:lnTo>
                <a:lnTo>
                  <a:pt x="60" y="0"/>
                </a:lnTo>
                <a:lnTo>
                  <a:pt x="0" y="0"/>
                </a:lnTo>
                <a:lnTo>
                  <a:pt x="623" y="5129"/>
                </a:lnTo>
                <a:lnTo>
                  <a:pt x="677" y="5183"/>
                </a:lnTo>
                <a:lnTo>
                  <a:pt x="623" y="5129"/>
                </a:lnTo>
                <a:lnTo>
                  <a:pt x="623" y="5183"/>
                </a:lnTo>
                <a:lnTo>
                  <a:pt x="677" y="5183"/>
                </a:lnTo>
                <a:lnTo>
                  <a:pt x="677" y="507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227400" y="5240160"/>
            <a:ext cx="2855880" cy="385920"/>
          </a:xfrm>
          <a:custGeom>
            <a:avLst/>
            <a:gdLst/>
            <a:ahLst/>
            <a:rect l="l" t="t" r="r" b="b"/>
            <a:pathLst>
              <a:path w="8735" h="1185">
                <a:moveTo>
                  <a:pt x="8622" y="60"/>
                </a:moveTo>
                <a:lnTo>
                  <a:pt x="8676" y="0"/>
                </a:lnTo>
                <a:lnTo>
                  <a:pt x="0" y="1072"/>
                </a:lnTo>
                <a:lnTo>
                  <a:pt x="0" y="1185"/>
                </a:lnTo>
                <a:lnTo>
                  <a:pt x="8676" y="114"/>
                </a:lnTo>
                <a:lnTo>
                  <a:pt x="8735" y="60"/>
                </a:lnTo>
                <a:lnTo>
                  <a:pt x="8676" y="114"/>
                </a:lnTo>
                <a:lnTo>
                  <a:pt x="8735" y="114"/>
                </a:lnTo>
                <a:lnTo>
                  <a:pt x="8735" y="60"/>
                </a:lnTo>
                <a:lnTo>
                  <a:pt x="8622" y="6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484440" y="3878280"/>
            <a:ext cx="220680" cy="1673280"/>
          </a:xfrm>
          <a:custGeom>
            <a:avLst/>
            <a:gdLst/>
            <a:ahLst/>
            <a:rect l="l" t="t" r="r" b="b"/>
            <a:pathLst>
              <a:path w="677" h="5123">
                <a:moveTo>
                  <a:pt x="0" y="0"/>
                </a:moveTo>
                <a:lnTo>
                  <a:pt x="677" y="512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467160" y="3878280"/>
            <a:ext cx="237960" cy="1673280"/>
          </a:xfrm>
          <a:custGeom>
            <a:avLst/>
            <a:gdLst/>
            <a:ahLst/>
            <a:rect l="l" t="t" r="r" b="b"/>
            <a:pathLst>
              <a:path w="731" h="5123">
                <a:moveTo>
                  <a:pt x="731" y="5123"/>
                </a:moveTo>
                <a:lnTo>
                  <a:pt x="114" y="0"/>
                </a:lnTo>
                <a:lnTo>
                  <a:pt x="0" y="0"/>
                </a:lnTo>
                <a:lnTo>
                  <a:pt x="677" y="5123"/>
                </a:lnTo>
                <a:lnTo>
                  <a:pt x="731" y="512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965400" y="3821040"/>
            <a:ext cx="201960" cy="1677960"/>
          </a:xfrm>
          <a:custGeom>
            <a:avLst/>
            <a:gdLst/>
            <a:ahLst/>
            <a:rect l="l" t="t" r="r" b="b"/>
            <a:pathLst>
              <a:path w="623" h="5130">
                <a:moveTo>
                  <a:pt x="0" y="0"/>
                </a:moveTo>
                <a:lnTo>
                  <a:pt x="623" y="513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948120" y="3803760"/>
            <a:ext cx="236520" cy="1695240"/>
          </a:xfrm>
          <a:custGeom>
            <a:avLst/>
            <a:gdLst/>
            <a:ahLst/>
            <a:rect l="l" t="t" r="r" b="b"/>
            <a:pathLst>
              <a:path w="731" h="5183">
                <a:moveTo>
                  <a:pt x="677" y="5183"/>
                </a:moveTo>
                <a:lnTo>
                  <a:pt x="731" y="5183"/>
                </a:lnTo>
                <a:lnTo>
                  <a:pt x="108" y="0"/>
                </a:lnTo>
                <a:lnTo>
                  <a:pt x="0" y="53"/>
                </a:lnTo>
                <a:lnTo>
                  <a:pt x="617" y="5183"/>
                </a:lnTo>
                <a:lnTo>
                  <a:pt x="677" y="518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424400" y="3747960"/>
            <a:ext cx="222120" cy="1695600"/>
          </a:xfrm>
          <a:custGeom>
            <a:avLst/>
            <a:gdLst/>
            <a:ahLst/>
            <a:rect l="l" t="t" r="r" b="b"/>
            <a:pathLst>
              <a:path w="677" h="5183">
                <a:moveTo>
                  <a:pt x="0" y="0"/>
                </a:moveTo>
                <a:lnTo>
                  <a:pt x="677" y="518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424400" y="3747960"/>
            <a:ext cx="239760" cy="1695600"/>
          </a:xfrm>
          <a:custGeom>
            <a:avLst/>
            <a:gdLst/>
            <a:ahLst/>
            <a:rect l="l" t="t" r="r" b="b"/>
            <a:pathLst>
              <a:path w="736" h="5183">
                <a:moveTo>
                  <a:pt x="677" y="5183"/>
                </a:moveTo>
                <a:lnTo>
                  <a:pt x="736" y="5183"/>
                </a:lnTo>
                <a:lnTo>
                  <a:pt x="60" y="0"/>
                </a:lnTo>
                <a:lnTo>
                  <a:pt x="0" y="0"/>
                </a:lnTo>
                <a:lnTo>
                  <a:pt x="623" y="5183"/>
                </a:lnTo>
                <a:lnTo>
                  <a:pt x="677" y="518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903920" y="3691080"/>
            <a:ext cx="222120" cy="1677960"/>
          </a:xfrm>
          <a:custGeom>
            <a:avLst/>
            <a:gdLst/>
            <a:ahLst/>
            <a:rect l="l" t="t" r="r" b="b"/>
            <a:pathLst>
              <a:path w="677" h="5128">
                <a:moveTo>
                  <a:pt x="0" y="0"/>
                </a:moveTo>
                <a:lnTo>
                  <a:pt x="677" y="51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886280" y="3691080"/>
            <a:ext cx="239760" cy="1677960"/>
          </a:xfrm>
          <a:custGeom>
            <a:avLst/>
            <a:gdLst/>
            <a:ahLst/>
            <a:rect l="l" t="t" r="r" b="b"/>
            <a:pathLst>
              <a:path w="731" h="5128">
                <a:moveTo>
                  <a:pt x="731" y="5128"/>
                </a:moveTo>
                <a:lnTo>
                  <a:pt x="114" y="0"/>
                </a:lnTo>
                <a:lnTo>
                  <a:pt x="0" y="0"/>
                </a:lnTo>
                <a:lnTo>
                  <a:pt x="677" y="5128"/>
                </a:lnTo>
                <a:lnTo>
                  <a:pt x="731" y="512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384880" y="3637080"/>
            <a:ext cx="199800" cy="1677960"/>
          </a:xfrm>
          <a:custGeom>
            <a:avLst/>
            <a:gdLst/>
            <a:ahLst/>
            <a:rect l="l" t="t" r="r" b="b"/>
            <a:pathLst>
              <a:path w="617" h="5129">
                <a:moveTo>
                  <a:pt x="0" y="0"/>
                </a:moveTo>
                <a:lnTo>
                  <a:pt x="617" y="512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364000" y="3637080"/>
            <a:ext cx="239760" cy="1677960"/>
          </a:xfrm>
          <a:custGeom>
            <a:avLst/>
            <a:gdLst/>
            <a:ahLst/>
            <a:rect l="l" t="t" r="r" b="b"/>
            <a:pathLst>
              <a:path w="736" h="5129">
                <a:moveTo>
                  <a:pt x="677" y="5129"/>
                </a:moveTo>
                <a:lnTo>
                  <a:pt x="736" y="5129"/>
                </a:lnTo>
                <a:lnTo>
                  <a:pt x="115" y="0"/>
                </a:lnTo>
                <a:lnTo>
                  <a:pt x="0" y="0"/>
                </a:lnTo>
                <a:lnTo>
                  <a:pt x="623" y="5129"/>
                </a:lnTo>
                <a:lnTo>
                  <a:pt x="677" y="512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79800" y="4078440"/>
            <a:ext cx="2838240" cy="368280"/>
          </a:xfrm>
          <a:custGeom>
            <a:avLst/>
            <a:gdLst/>
            <a:ahLst/>
            <a:rect l="l" t="t" r="r" b="b"/>
            <a:pathLst>
              <a:path w="8677" h="1125">
                <a:moveTo>
                  <a:pt x="8677" y="0"/>
                </a:moveTo>
                <a:lnTo>
                  <a:pt x="0" y="1125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079800" y="4060800"/>
            <a:ext cx="2838240" cy="406440"/>
          </a:xfrm>
          <a:custGeom>
            <a:avLst/>
            <a:gdLst/>
            <a:ahLst/>
            <a:rect l="l" t="t" r="r" b="b"/>
            <a:pathLst>
              <a:path w="8677" h="1239">
                <a:moveTo>
                  <a:pt x="0" y="1179"/>
                </a:moveTo>
                <a:lnTo>
                  <a:pt x="0" y="1239"/>
                </a:lnTo>
                <a:lnTo>
                  <a:pt x="8677" y="113"/>
                </a:lnTo>
                <a:lnTo>
                  <a:pt x="8677" y="0"/>
                </a:lnTo>
                <a:lnTo>
                  <a:pt x="0" y="1125"/>
                </a:lnTo>
                <a:lnTo>
                  <a:pt x="0" y="117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35240" y="4521240"/>
            <a:ext cx="2838600" cy="349200"/>
          </a:xfrm>
          <a:custGeom>
            <a:avLst/>
            <a:gdLst/>
            <a:ahLst/>
            <a:rect l="l" t="t" r="r" b="b"/>
            <a:pathLst>
              <a:path w="8677" h="1071">
                <a:moveTo>
                  <a:pt x="8677" y="0"/>
                </a:moveTo>
                <a:lnTo>
                  <a:pt x="0" y="1071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135240" y="4503600"/>
            <a:ext cx="2838600" cy="384480"/>
          </a:xfrm>
          <a:custGeom>
            <a:avLst/>
            <a:gdLst/>
            <a:ahLst/>
            <a:rect l="l" t="t" r="r" b="b"/>
            <a:pathLst>
              <a:path w="8677" h="1179">
                <a:moveTo>
                  <a:pt x="0" y="1125"/>
                </a:moveTo>
                <a:lnTo>
                  <a:pt x="0" y="1179"/>
                </a:lnTo>
                <a:lnTo>
                  <a:pt x="8677" y="114"/>
                </a:lnTo>
                <a:lnTo>
                  <a:pt x="8677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191040" y="4962600"/>
            <a:ext cx="2836800" cy="352440"/>
          </a:xfrm>
          <a:custGeom>
            <a:avLst/>
            <a:gdLst/>
            <a:ahLst/>
            <a:rect l="l" t="t" r="r" b="b"/>
            <a:pathLst>
              <a:path w="8671" h="1072">
                <a:moveTo>
                  <a:pt x="8671" y="0"/>
                </a:moveTo>
                <a:lnTo>
                  <a:pt x="0" y="1072"/>
                </a:lnTo>
                <a:lnTo>
                  <a:pt x="86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191040" y="4944960"/>
            <a:ext cx="2836800" cy="387360"/>
          </a:xfrm>
          <a:custGeom>
            <a:avLst/>
            <a:gdLst/>
            <a:ahLst/>
            <a:rect l="l" t="t" r="r" b="b"/>
            <a:pathLst>
              <a:path w="8671" h="1180">
                <a:moveTo>
                  <a:pt x="0" y="1126"/>
                </a:moveTo>
                <a:lnTo>
                  <a:pt x="0" y="1180"/>
                </a:lnTo>
                <a:lnTo>
                  <a:pt x="8671" y="54"/>
                </a:lnTo>
                <a:lnTo>
                  <a:pt x="8671" y="0"/>
                </a:lnTo>
                <a:lnTo>
                  <a:pt x="0" y="1072"/>
                </a:lnTo>
                <a:lnTo>
                  <a:pt x="0" y="112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079800" y="4040280"/>
            <a:ext cx="2838240" cy="352440"/>
          </a:xfrm>
          <a:custGeom>
            <a:avLst/>
            <a:gdLst/>
            <a:ahLst/>
            <a:rect l="l" t="t" r="r" b="b"/>
            <a:pathLst>
              <a:path w="8677" h="1071">
                <a:moveTo>
                  <a:pt x="8677" y="0"/>
                </a:moveTo>
                <a:lnTo>
                  <a:pt x="0" y="1071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79800" y="4022640"/>
            <a:ext cx="2838240" cy="389160"/>
          </a:xfrm>
          <a:custGeom>
            <a:avLst/>
            <a:gdLst/>
            <a:ahLst/>
            <a:rect l="l" t="t" r="r" b="b"/>
            <a:pathLst>
              <a:path w="8677" h="1185">
                <a:moveTo>
                  <a:pt x="0" y="1125"/>
                </a:moveTo>
                <a:lnTo>
                  <a:pt x="0" y="1185"/>
                </a:lnTo>
                <a:lnTo>
                  <a:pt x="8677" y="114"/>
                </a:lnTo>
                <a:lnTo>
                  <a:pt x="8677" y="0"/>
                </a:lnTo>
                <a:lnTo>
                  <a:pt x="0" y="1070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135240" y="4484520"/>
            <a:ext cx="2838600" cy="349560"/>
          </a:xfrm>
          <a:custGeom>
            <a:avLst/>
            <a:gdLst/>
            <a:ahLst/>
            <a:rect l="l" t="t" r="r" b="b"/>
            <a:pathLst>
              <a:path w="8677" h="1072">
                <a:moveTo>
                  <a:pt x="8677" y="0"/>
                </a:moveTo>
                <a:lnTo>
                  <a:pt x="0" y="1072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135240" y="4467240"/>
            <a:ext cx="2838600" cy="385920"/>
          </a:xfrm>
          <a:custGeom>
            <a:avLst/>
            <a:gdLst/>
            <a:ahLst/>
            <a:rect l="l" t="t" r="r" b="b"/>
            <a:pathLst>
              <a:path w="8677" h="1184">
                <a:moveTo>
                  <a:pt x="0" y="1125"/>
                </a:moveTo>
                <a:lnTo>
                  <a:pt x="0" y="1184"/>
                </a:lnTo>
                <a:lnTo>
                  <a:pt x="8677" y="53"/>
                </a:lnTo>
                <a:lnTo>
                  <a:pt x="8623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191040" y="4908600"/>
            <a:ext cx="2836800" cy="350640"/>
          </a:xfrm>
          <a:custGeom>
            <a:avLst/>
            <a:gdLst/>
            <a:ahLst/>
            <a:rect l="l" t="t" r="r" b="b"/>
            <a:pathLst>
              <a:path w="8671" h="1071">
                <a:moveTo>
                  <a:pt x="8671" y="0"/>
                </a:moveTo>
                <a:lnTo>
                  <a:pt x="0" y="1071"/>
                </a:lnTo>
                <a:lnTo>
                  <a:pt x="86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191040" y="4888080"/>
            <a:ext cx="2836800" cy="388800"/>
          </a:xfrm>
          <a:custGeom>
            <a:avLst/>
            <a:gdLst/>
            <a:ahLst/>
            <a:rect l="l" t="t" r="r" b="b"/>
            <a:pathLst>
              <a:path w="8671" h="1185">
                <a:moveTo>
                  <a:pt x="0" y="1131"/>
                </a:moveTo>
                <a:lnTo>
                  <a:pt x="0" y="1185"/>
                </a:lnTo>
                <a:lnTo>
                  <a:pt x="8671" y="114"/>
                </a:lnTo>
                <a:lnTo>
                  <a:pt x="8617" y="0"/>
                </a:lnTo>
                <a:lnTo>
                  <a:pt x="0" y="113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005280" y="3527280"/>
            <a:ext cx="2838240" cy="368280"/>
          </a:xfrm>
          <a:custGeom>
            <a:avLst/>
            <a:gdLst/>
            <a:ahLst/>
            <a:rect l="l" t="t" r="r" b="b"/>
            <a:pathLst>
              <a:path w="8677" h="1126">
                <a:moveTo>
                  <a:pt x="8677" y="0"/>
                </a:moveTo>
                <a:lnTo>
                  <a:pt x="0" y="1126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005280" y="3506760"/>
            <a:ext cx="2838240" cy="388800"/>
          </a:xfrm>
          <a:custGeom>
            <a:avLst/>
            <a:gdLst/>
            <a:ahLst/>
            <a:rect l="l" t="t" r="r" b="b"/>
            <a:pathLst>
              <a:path w="8677" h="1185">
                <a:moveTo>
                  <a:pt x="0" y="1185"/>
                </a:moveTo>
                <a:lnTo>
                  <a:pt x="8677" y="113"/>
                </a:lnTo>
                <a:lnTo>
                  <a:pt x="8677" y="0"/>
                </a:lnTo>
                <a:lnTo>
                  <a:pt x="0" y="1131"/>
                </a:lnTo>
                <a:lnTo>
                  <a:pt x="0" y="118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227400" y="5332320"/>
            <a:ext cx="2838600" cy="349200"/>
          </a:xfrm>
          <a:custGeom>
            <a:avLst/>
            <a:gdLst/>
            <a:ahLst/>
            <a:rect l="l" t="t" r="r" b="b"/>
            <a:pathLst>
              <a:path w="8676" h="1071">
                <a:moveTo>
                  <a:pt x="8676" y="0"/>
                </a:moveTo>
                <a:lnTo>
                  <a:pt x="0" y="1071"/>
                </a:lnTo>
                <a:lnTo>
                  <a:pt x="86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27400" y="5315040"/>
            <a:ext cx="2838600" cy="385560"/>
          </a:xfrm>
          <a:custGeom>
            <a:avLst/>
            <a:gdLst/>
            <a:ahLst/>
            <a:rect l="l" t="t" r="r" b="b"/>
            <a:pathLst>
              <a:path w="8676" h="1184">
                <a:moveTo>
                  <a:pt x="0" y="1125"/>
                </a:moveTo>
                <a:lnTo>
                  <a:pt x="0" y="1184"/>
                </a:lnTo>
                <a:lnTo>
                  <a:pt x="8676" y="54"/>
                </a:lnTo>
                <a:lnTo>
                  <a:pt x="8676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987640" y="3506760"/>
            <a:ext cx="293760" cy="258840"/>
          </a:xfrm>
          <a:custGeom>
            <a:avLst/>
            <a:gdLst/>
            <a:ahLst/>
            <a:rect l="l" t="t" r="r" b="b"/>
            <a:pathLst>
              <a:path w="904" h="790">
                <a:moveTo>
                  <a:pt x="789" y="790"/>
                </a:moveTo>
                <a:lnTo>
                  <a:pt x="731" y="790"/>
                </a:lnTo>
                <a:lnTo>
                  <a:pt x="622" y="790"/>
                </a:lnTo>
                <a:lnTo>
                  <a:pt x="562" y="790"/>
                </a:lnTo>
                <a:lnTo>
                  <a:pt x="508" y="790"/>
                </a:lnTo>
                <a:lnTo>
                  <a:pt x="449" y="790"/>
                </a:lnTo>
                <a:lnTo>
                  <a:pt x="395" y="736"/>
                </a:lnTo>
                <a:lnTo>
                  <a:pt x="281" y="736"/>
                </a:lnTo>
                <a:lnTo>
                  <a:pt x="281" y="676"/>
                </a:lnTo>
                <a:lnTo>
                  <a:pt x="227" y="676"/>
                </a:lnTo>
                <a:lnTo>
                  <a:pt x="168" y="623"/>
                </a:lnTo>
                <a:lnTo>
                  <a:pt x="114" y="623"/>
                </a:lnTo>
                <a:lnTo>
                  <a:pt x="114" y="563"/>
                </a:lnTo>
                <a:lnTo>
                  <a:pt x="54" y="509"/>
                </a:lnTo>
                <a:lnTo>
                  <a:pt x="54" y="454"/>
                </a:lnTo>
                <a:lnTo>
                  <a:pt x="0" y="454"/>
                </a:lnTo>
                <a:lnTo>
                  <a:pt x="0" y="395"/>
                </a:lnTo>
                <a:lnTo>
                  <a:pt x="0" y="340"/>
                </a:lnTo>
                <a:lnTo>
                  <a:pt x="0" y="282"/>
                </a:lnTo>
                <a:lnTo>
                  <a:pt x="54" y="227"/>
                </a:lnTo>
                <a:lnTo>
                  <a:pt x="114" y="173"/>
                </a:lnTo>
                <a:lnTo>
                  <a:pt x="168" y="113"/>
                </a:lnTo>
                <a:lnTo>
                  <a:pt x="227" y="59"/>
                </a:lnTo>
                <a:lnTo>
                  <a:pt x="341" y="0"/>
                </a:lnTo>
                <a:lnTo>
                  <a:pt x="449" y="0"/>
                </a:lnTo>
                <a:lnTo>
                  <a:pt x="731" y="0"/>
                </a:lnTo>
                <a:lnTo>
                  <a:pt x="789" y="173"/>
                </a:lnTo>
                <a:lnTo>
                  <a:pt x="562" y="173"/>
                </a:lnTo>
                <a:lnTo>
                  <a:pt x="508" y="173"/>
                </a:lnTo>
                <a:lnTo>
                  <a:pt x="449" y="227"/>
                </a:lnTo>
                <a:lnTo>
                  <a:pt x="395" y="227"/>
                </a:lnTo>
                <a:lnTo>
                  <a:pt x="341" y="282"/>
                </a:lnTo>
                <a:lnTo>
                  <a:pt x="341" y="340"/>
                </a:lnTo>
                <a:lnTo>
                  <a:pt x="341" y="395"/>
                </a:lnTo>
                <a:lnTo>
                  <a:pt x="395" y="454"/>
                </a:lnTo>
                <a:lnTo>
                  <a:pt x="449" y="509"/>
                </a:lnTo>
                <a:lnTo>
                  <a:pt x="508" y="563"/>
                </a:lnTo>
                <a:lnTo>
                  <a:pt x="562" y="563"/>
                </a:lnTo>
                <a:lnTo>
                  <a:pt x="677" y="623"/>
                </a:lnTo>
                <a:lnTo>
                  <a:pt x="731" y="623"/>
                </a:lnTo>
                <a:lnTo>
                  <a:pt x="844" y="623"/>
                </a:lnTo>
                <a:lnTo>
                  <a:pt x="904" y="563"/>
                </a:lnTo>
                <a:lnTo>
                  <a:pt x="844" y="790"/>
                </a:lnTo>
                <a:lnTo>
                  <a:pt x="789" y="790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281400" y="3452760"/>
            <a:ext cx="331920" cy="333360"/>
          </a:xfrm>
          <a:custGeom>
            <a:avLst/>
            <a:gdLst/>
            <a:ahLst/>
            <a:rect l="l" t="t" r="r" b="b"/>
            <a:pathLst>
              <a:path w="1011" h="1018">
                <a:moveTo>
                  <a:pt x="676" y="844"/>
                </a:moveTo>
                <a:lnTo>
                  <a:pt x="676" y="622"/>
                </a:lnTo>
                <a:lnTo>
                  <a:pt x="335" y="622"/>
                </a:lnTo>
                <a:lnTo>
                  <a:pt x="335" y="677"/>
                </a:lnTo>
                <a:lnTo>
                  <a:pt x="335" y="731"/>
                </a:lnTo>
                <a:lnTo>
                  <a:pt x="395" y="791"/>
                </a:lnTo>
                <a:lnTo>
                  <a:pt x="395" y="844"/>
                </a:lnTo>
                <a:lnTo>
                  <a:pt x="449" y="844"/>
                </a:lnTo>
                <a:lnTo>
                  <a:pt x="449" y="904"/>
                </a:lnTo>
                <a:lnTo>
                  <a:pt x="221" y="1018"/>
                </a:lnTo>
                <a:lnTo>
                  <a:pt x="167" y="958"/>
                </a:lnTo>
                <a:lnTo>
                  <a:pt x="108" y="958"/>
                </a:lnTo>
                <a:lnTo>
                  <a:pt x="108" y="904"/>
                </a:lnTo>
                <a:lnTo>
                  <a:pt x="54" y="844"/>
                </a:lnTo>
                <a:lnTo>
                  <a:pt x="54" y="791"/>
                </a:lnTo>
                <a:lnTo>
                  <a:pt x="0" y="731"/>
                </a:lnTo>
                <a:lnTo>
                  <a:pt x="0" y="677"/>
                </a:lnTo>
                <a:lnTo>
                  <a:pt x="0" y="622"/>
                </a:lnTo>
                <a:lnTo>
                  <a:pt x="0" y="563"/>
                </a:lnTo>
                <a:lnTo>
                  <a:pt x="0" y="508"/>
                </a:lnTo>
                <a:lnTo>
                  <a:pt x="0" y="450"/>
                </a:lnTo>
                <a:lnTo>
                  <a:pt x="54" y="395"/>
                </a:lnTo>
                <a:lnTo>
                  <a:pt x="54" y="341"/>
                </a:lnTo>
                <a:lnTo>
                  <a:pt x="108" y="281"/>
                </a:lnTo>
                <a:lnTo>
                  <a:pt x="167" y="227"/>
                </a:lnTo>
                <a:lnTo>
                  <a:pt x="221" y="168"/>
                </a:lnTo>
                <a:lnTo>
                  <a:pt x="281" y="168"/>
                </a:lnTo>
                <a:lnTo>
                  <a:pt x="335" y="114"/>
                </a:lnTo>
                <a:lnTo>
                  <a:pt x="395" y="114"/>
                </a:lnTo>
                <a:lnTo>
                  <a:pt x="502" y="54"/>
                </a:lnTo>
                <a:lnTo>
                  <a:pt x="562" y="54"/>
                </a:lnTo>
                <a:lnTo>
                  <a:pt x="676" y="54"/>
                </a:lnTo>
                <a:lnTo>
                  <a:pt x="730" y="0"/>
                </a:lnTo>
                <a:lnTo>
                  <a:pt x="897" y="0"/>
                </a:lnTo>
                <a:lnTo>
                  <a:pt x="1011" y="168"/>
                </a:lnTo>
                <a:lnTo>
                  <a:pt x="730" y="227"/>
                </a:lnTo>
                <a:lnTo>
                  <a:pt x="616" y="227"/>
                </a:lnTo>
                <a:lnTo>
                  <a:pt x="562" y="281"/>
                </a:lnTo>
                <a:lnTo>
                  <a:pt x="449" y="281"/>
                </a:lnTo>
                <a:lnTo>
                  <a:pt x="395" y="341"/>
                </a:lnTo>
                <a:lnTo>
                  <a:pt x="335" y="395"/>
                </a:lnTo>
                <a:lnTo>
                  <a:pt x="335" y="450"/>
                </a:lnTo>
                <a:lnTo>
                  <a:pt x="616" y="395"/>
                </a:lnTo>
                <a:lnTo>
                  <a:pt x="616" y="227"/>
                </a:lnTo>
                <a:lnTo>
                  <a:pt x="957" y="227"/>
                </a:lnTo>
                <a:lnTo>
                  <a:pt x="1011" y="791"/>
                </a:lnTo>
                <a:lnTo>
                  <a:pt x="676" y="844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668760" y="3435480"/>
            <a:ext cx="258840" cy="276120"/>
          </a:xfrm>
          <a:custGeom>
            <a:avLst/>
            <a:gdLst/>
            <a:ahLst/>
            <a:rect l="l" t="t" r="r" b="b"/>
            <a:pathLst>
              <a:path w="789" h="845">
                <a:moveTo>
                  <a:pt x="789" y="562"/>
                </a:moveTo>
                <a:lnTo>
                  <a:pt x="735" y="731"/>
                </a:lnTo>
                <a:lnTo>
                  <a:pt x="60" y="845"/>
                </a:lnTo>
                <a:lnTo>
                  <a:pt x="0" y="54"/>
                </a:lnTo>
                <a:lnTo>
                  <a:pt x="281" y="0"/>
                </a:lnTo>
                <a:lnTo>
                  <a:pt x="395" y="617"/>
                </a:lnTo>
                <a:lnTo>
                  <a:pt x="789" y="562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948120" y="3378240"/>
            <a:ext cx="291960" cy="295200"/>
          </a:xfrm>
          <a:custGeom>
            <a:avLst/>
            <a:gdLst/>
            <a:ahLst/>
            <a:rect l="l" t="t" r="r" b="b"/>
            <a:pathLst>
              <a:path w="898" h="904">
                <a:moveTo>
                  <a:pt x="335" y="227"/>
                </a:moveTo>
                <a:lnTo>
                  <a:pt x="335" y="341"/>
                </a:lnTo>
                <a:lnTo>
                  <a:pt x="784" y="281"/>
                </a:lnTo>
                <a:lnTo>
                  <a:pt x="731" y="508"/>
                </a:lnTo>
                <a:lnTo>
                  <a:pt x="390" y="508"/>
                </a:lnTo>
                <a:lnTo>
                  <a:pt x="390" y="677"/>
                </a:lnTo>
                <a:lnTo>
                  <a:pt x="898" y="622"/>
                </a:lnTo>
                <a:lnTo>
                  <a:pt x="898" y="790"/>
                </a:lnTo>
                <a:lnTo>
                  <a:pt x="108" y="904"/>
                </a:lnTo>
                <a:lnTo>
                  <a:pt x="0" y="114"/>
                </a:lnTo>
                <a:lnTo>
                  <a:pt x="731" y="0"/>
                </a:lnTo>
                <a:lnTo>
                  <a:pt x="844" y="173"/>
                </a:lnTo>
                <a:lnTo>
                  <a:pt x="335" y="227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276800" y="3322800"/>
            <a:ext cx="352440" cy="314280"/>
          </a:xfrm>
          <a:custGeom>
            <a:avLst/>
            <a:gdLst/>
            <a:ahLst/>
            <a:rect l="l" t="t" r="r" b="b"/>
            <a:pathLst>
              <a:path w="1071" h="957">
                <a:moveTo>
                  <a:pt x="789" y="844"/>
                </a:moveTo>
                <a:lnTo>
                  <a:pt x="730" y="621"/>
                </a:lnTo>
                <a:lnTo>
                  <a:pt x="340" y="394"/>
                </a:lnTo>
                <a:lnTo>
                  <a:pt x="394" y="902"/>
                </a:lnTo>
                <a:lnTo>
                  <a:pt x="113" y="957"/>
                </a:lnTo>
                <a:lnTo>
                  <a:pt x="0" y="113"/>
                </a:lnTo>
                <a:lnTo>
                  <a:pt x="281" y="113"/>
                </a:lnTo>
                <a:lnTo>
                  <a:pt x="675" y="340"/>
                </a:lnTo>
                <a:lnTo>
                  <a:pt x="675" y="59"/>
                </a:lnTo>
                <a:lnTo>
                  <a:pt x="957" y="0"/>
                </a:lnTo>
                <a:lnTo>
                  <a:pt x="1071" y="789"/>
                </a:lnTo>
                <a:lnTo>
                  <a:pt x="789" y="844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64160" y="3286080"/>
            <a:ext cx="368280" cy="295200"/>
          </a:xfrm>
          <a:custGeom>
            <a:avLst/>
            <a:gdLst/>
            <a:ahLst/>
            <a:rect l="l" t="t" r="r" b="b"/>
            <a:pathLst>
              <a:path w="1126" h="903">
                <a:moveTo>
                  <a:pt x="54" y="281"/>
                </a:moveTo>
                <a:lnTo>
                  <a:pt x="395" y="227"/>
                </a:lnTo>
                <a:lnTo>
                  <a:pt x="449" y="676"/>
                </a:lnTo>
                <a:lnTo>
                  <a:pt x="503" y="676"/>
                </a:lnTo>
                <a:lnTo>
                  <a:pt x="562" y="622"/>
                </a:lnTo>
                <a:lnTo>
                  <a:pt x="676" y="562"/>
                </a:lnTo>
                <a:lnTo>
                  <a:pt x="730" y="508"/>
                </a:lnTo>
                <a:lnTo>
                  <a:pt x="790" y="454"/>
                </a:lnTo>
                <a:lnTo>
                  <a:pt x="790" y="395"/>
                </a:lnTo>
                <a:lnTo>
                  <a:pt x="790" y="341"/>
                </a:lnTo>
                <a:lnTo>
                  <a:pt x="790" y="281"/>
                </a:lnTo>
                <a:lnTo>
                  <a:pt x="730" y="227"/>
                </a:lnTo>
                <a:lnTo>
                  <a:pt x="676" y="227"/>
                </a:lnTo>
                <a:lnTo>
                  <a:pt x="616" y="227"/>
                </a:lnTo>
                <a:lnTo>
                  <a:pt x="562" y="227"/>
                </a:lnTo>
                <a:lnTo>
                  <a:pt x="503" y="227"/>
                </a:lnTo>
                <a:lnTo>
                  <a:pt x="0" y="281"/>
                </a:lnTo>
                <a:lnTo>
                  <a:pt x="54" y="114"/>
                </a:lnTo>
                <a:lnTo>
                  <a:pt x="562" y="0"/>
                </a:lnTo>
                <a:lnTo>
                  <a:pt x="676" y="0"/>
                </a:lnTo>
                <a:lnTo>
                  <a:pt x="790" y="0"/>
                </a:lnTo>
                <a:lnTo>
                  <a:pt x="897" y="60"/>
                </a:lnTo>
                <a:lnTo>
                  <a:pt x="957" y="60"/>
                </a:lnTo>
                <a:lnTo>
                  <a:pt x="1012" y="114"/>
                </a:lnTo>
                <a:lnTo>
                  <a:pt x="1072" y="173"/>
                </a:lnTo>
                <a:lnTo>
                  <a:pt x="1126" y="227"/>
                </a:lnTo>
                <a:lnTo>
                  <a:pt x="1126" y="281"/>
                </a:lnTo>
                <a:lnTo>
                  <a:pt x="1126" y="395"/>
                </a:lnTo>
                <a:lnTo>
                  <a:pt x="1072" y="508"/>
                </a:lnTo>
                <a:lnTo>
                  <a:pt x="1012" y="562"/>
                </a:lnTo>
                <a:lnTo>
                  <a:pt x="897" y="676"/>
                </a:lnTo>
                <a:lnTo>
                  <a:pt x="843" y="735"/>
                </a:lnTo>
                <a:lnTo>
                  <a:pt x="676" y="789"/>
                </a:lnTo>
                <a:lnTo>
                  <a:pt x="562" y="849"/>
                </a:lnTo>
                <a:lnTo>
                  <a:pt x="395" y="849"/>
                </a:lnTo>
                <a:lnTo>
                  <a:pt x="114" y="903"/>
                </a:lnTo>
                <a:lnTo>
                  <a:pt x="54" y="281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70600" y="3232080"/>
            <a:ext cx="293400" cy="295200"/>
          </a:xfrm>
          <a:custGeom>
            <a:avLst/>
            <a:gdLst/>
            <a:ahLst/>
            <a:rect l="l" t="t" r="r" b="b"/>
            <a:pathLst>
              <a:path w="897" h="903">
                <a:moveTo>
                  <a:pt x="335" y="228"/>
                </a:moveTo>
                <a:lnTo>
                  <a:pt x="335" y="395"/>
                </a:lnTo>
                <a:lnTo>
                  <a:pt x="789" y="341"/>
                </a:lnTo>
                <a:lnTo>
                  <a:pt x="730" y="509"/>
                </a:lnTo>
                <a:lnTo>
                  <a:pt x="335" y="563"/>
                </a:lnTo>
                <a:lnTo>
                  <a:pt x="395" y="676"/>
                </a:lnTo>
                <a:lnTo>
                  <a:pt x="897" y="622"/>
                </a:lnTo>
                <a:lnTo>
                  <a:pt x="843" y="790"/>
                </a:lnTo>
                <a:lnTo>
                  <a:pt x="114" y="903"/>
                </a:lnTo>
                <a:lnTo>
                  <a:pt x="0" y="113"/>
                </a:lnTo>
                <a:lnTo>
                  <a:pt x="730" y="0"/>
                </a:lnTo>
                <a:lnTo>
                  <a:pt x="843" y="168"/>
                </a:lnTo>
                <a:lnTo>
                  <a:pt x="335" y="228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02160" y="3195720"/>
            <a:ext cx="387360" cy="293760"/>
          </a:xfrm>
          <a:custGeom>
            <a:avLst/>
            <a:gdLst/>
            <a:ahLst/>
            <a:rect l="l" t="t" r="r" b="b"/>
            <a:pathLst>
              <a:path w="1184" h="904">
                <a:moveTo>
                  <a:pt x="1016" y="173"/>
                </a:moveTo>
                <a:lnTo>
                  <a:pt x="1016" y="227"/>
                </a:lnTo>
                <a:lnTo>
                  <a:pt x="1016" y="282"/>
                </a:lnTo>
                <a:lnTo>
                  <a:pt x="956" y="282"/>
                </a:lnTo>
                <a:lnTo>
                  <a:pt x="956" y="342"/>
                </a:lnTo>
                <a:lnTo>
                  <a:pt x="903" y="396"/>
                </a:lnTo>
                <a:lnTo>
                  <a:pt x="849" y="396"/>
                </a:lnTo>
                <a:lnTo>
                  <a:pt x="849" y="455"/>
                </a:lnTo>
                <a:lnTo>
                  <a:pt x="789" y="455"/>
                </a:lnTo>
                <a:lnTo>
                  <a:pt x="849" y="509"/>
                </a:lnTo>
                <a:lnTo>
                  <a:pt x="849" y="563"/>
                </a:lnTo>
                <a:lnTo>
                  <a:pt x="903" y="563"/>
                </a:lnTo>
                <a:lnTo>
                  <a:pt x="956" y="623"/>
                </a:lnTo>
                <a:lnTo>
                  <a:pt x="1016" y="677"/>
                </a:lnTo>
                <a:lnTo>
                  <a:pt x="1070" y="677"/>
                </a:lnTo>
                <a:lnTo>
                  <a:pt x="1130" y="736"/>
                </a:lnTo>
                <a:lnTo>
                  <a:pt x="1184" y="736"/>
                </a:lnTo>
                <a:lnTo>
                  <a:pt x="903" y="904"/>
                </a:lnTo>
                <a:lnTo>
                  <a:pt x="849" y="844"/>
                </a:lnTo>
                <a:lnTo>
                  <a:pt x="789" y="844"/>
                </a:lnTo>
                <a:lnTo>
                  <a:pt x="675" y="790"/>
                </a:lnTo>
                <a:lnTo>
                  <a:pt x="621" y="736"/>
                </a:lnTo>
                <a:lnTo>
                  <a:pt x="562" y="677"/>
                </a:lnTo>
                <a:lnTo>
                  <a:pt x="508" y="623"/>
                </a:lnTo>
                <a:lnTo>
                  <a:pt x="454" y="509"/>
                </a:lnTo>
                <a:lnTo>
                  <a:pt x="394" y="455"/>
                </a:lnTo>
                <a:lnTo>
                  <a:pt x="454" y="455"/>
                </a:lnTo>
                <a:lnTo>
                  <a:pt x="508" y="396"/>
                </a:lnTo>
                <a:lnTo>
                  <a:pt x="562" y="342"/>
                </a:lnTo>
                <a:lnTo>
                  <a:pt x="621" y="342"/>
                </a:lnTo>
                <a:lnTo>
                  <a:pt x="621" y="282"/>
                </a:lnTo>
                <a:lnTo>
                  <a:pt x="675" y="282"/>
                </a:lnTo>
                <a:lnTo>
                  <a:pt x="675" y="227"/>
                </a:lnTo>
                <a:lnTo>
                  <a:pt x="621" y="227"/>
                </a:lnTo>
                <a:lnTo>
                  <a:pt x="562" y="227"/>
                </a:lnTo>
                <a:lnTo>
                  <a:pt x="508" y="227"/>
                </a:lnTo>
                <a:lnTo>
                  <a:pt x="0" y="282"/>
                </a:lnTo>
                <a:lnTo>
                  <a:pt x="0" y="114"/>
                </a:lnTo>
                <a:lnTo>
                  <a:pt x="621" y="0"/>
                </a:lnTo>
                <a:lnTo>
                  <a:pt x="735" y="0"/>
                </a:lnTo>
                <a:lnTo>
                  <a:pt x="789" y="0"/>
                </a:lnTo>
                <a:lnTo>
                  <a:pt x="849" y="0"/>
                </a:lnTo>
                <a:lnTo>
                  <a:pt x="903" y="60"/>
                </a:lnTo>
                <a:lnTo>
                  <a:pt x="956" y="60"/>
                </a:lnTo>
                <a:lnTo>
                  <a:pt x="1016" y="114"/>
                </a:lnTo>
                <a:lnTo>
                  <a:pt x="1016" y="173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419800" y="3286080"/>
            <a:ext cx="129960" cy="203400"/>
          </a:xfrm>
          <a:custGeom>
            <a:avLst/>
            <a:gdLst/>
            <a:ahLst/>
            <a:rect l="l" t="t" r="r" b="b"/>
            <a:pathLst>
              <a:path w="396" h="622">
                <a:moveTo>
                  <a:pt x="55" y="622"/>
                </a:moveTo>
                <a:lnTo>
                  <a:pt x="0" y="0"/>
                </a:lnTo>
                <a:lnTo>
                  <a:pt x="282" y="0"/>
                </a:lnTo>
                <a:lnTo>
                  <a:pt x="396" y="562"/>
                </a:lnTo>
                <a:lnTo>
                  <a:pt x="55" y="622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64600" y="1066680"/>
            <a:ext cx="8634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DAYS OUT OF 1 MONTH  CAN BO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GIRLS AND BOYS GET AI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3231720" y="3591720"/>
            <a:ext cx="2542680" cy="1963080"/>
            <a:chOff x="3231720" y="3591720"/>
            <a:chExt cx="2542680" cy="1963080"/>
          </a:xfrm>
        </p:grpSpPr>
        <p:sp>
          <p:nvSpPr>
            <p:cNvPr id="1642" name=""/>
            <p:cNvSpPr/>
            <p:nvPr/>
          </p:nvSpPr>
          <p:spPr>
            <a:xfrm rot="20880000">
              <a:off x="3382560" y="3946680"/>
              <a:ext cx="82080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A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20880000">
              <a:off x="4258440" y="3784320"/>
              <a:ext cx="67284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L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20880000">
              <a:off x="4948920" y="3644640"/>
              <a:ext cx="67284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L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5" name="" descr=""/>
          <p:cNvPicPr/>
          <p:nvPr/>
        </p:nvPicPr>
        <p:blipFill>
          <a:blip r:embed="rId2"/>
          <a:stretch/>
        </p:blipFill>
        <p:spPr>
          <a:xfrm>
            <a:off x="2943360" y="838080"/>
            <a:ext cx="3254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6" name=""/>
          <p:cNvGrpSpPr/>
          <p:nvPr/>
        </p:nvGrpSpPr>
        <p:grpSpPr>
          <a:xfrm>
            <a:off x="2666880" y="762120"/>
            <a:ext cx="3733920" cy="5257800"/>
            <a:chOff x="2666880" y="762120"/>
            <a:chExt cx="3733920" cy="5257800"/>
          </a:xfrm>
        </p:grpSpPr>
        <p:sp>
          <p:nvSpPr>
            <p:cNvPr id="1647" name=""/>
            <p:cNvSpPr/>
            <p:nvPr/>
          </p:nvSpPr>
          <p:spPr>
            <a:xfrm>
              <a:off x="2666880" y="762120"/>
              <a:ext cx="373392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8" name="" descr=""/>
            <p:cNvPicPr/>
            <p:nvPr/>
          </p:nvPicPr>
          <p:blipFill>
            <a:blip r:embed="rId2"/>
            <a:stretch/>
          </p:blipFill>
          <p:spPr>
            <a:xfrm>
              <a:off x="2813040" y="914400"/>
              <a:ext cx="351792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5:12Z</dcterms:modified>
  <cp:revision>163</cp:revision>
  <dc:subject/>
  <dc:title>No Slide Title</dc:title>
</cp:coreProperties>
</file>